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2CB-2971-4FCC-9DF6-B592E379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0D3-A6F8-4961-8F1C-D8C5DB2D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684-B16B-4F8C-93D2-09884B6E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9CC-5559-472F-A96E-E8B0129E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418-695E-4074-A178-BF44A998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399-0713-4905-ABF6-DFE73AB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6A6-F843-40D4-AD1C-5A5B860F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82E-6309-47AC-8316-0BF5B20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929-248D-4917-B0E4-67515235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7D3-786D-43FB-806F-497EBF64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4A9-06CC-4FB4-8461-E09BA61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9AE-2D5D-4BB2-95E8-EF6F47B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A30D-3314-42E3-B372-3D7FEA99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250920" y="5589720"/>
          <a:ext cx="928440" cy="10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589720"/>
                    <a:ext cx="9284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979640" y="90792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90792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"/>
          <p:cNvSpPr/>
          <p:nvPr/>
        </p:nvSpPr>
        <p:spPr>
          <a:xfrm>
            <a:off x="1653480" y="812880"/>
            <a:ext cx="5850000" cy="256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NO SEX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UNTIL MARRIAG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902444"/>
                </a:solidFill>
                <a:latin typeface="Geometr231 Hv BT"/>
              </a:rPr>
              <a:t>IS HEALTH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2759040" y="3619440"/>
            <a:ext cx="3808440" cy="2144880"/>
            <a:chOff x="2759040" y="3619440"/>
            <a:chExt cx="3808440" cy="2144880"/>
          </a:xfrm>
        </p:grpSpPr>
        <p:sp>
          <p:nvSpPr>
            <p:cNvPr id="3515" name=""/>
            <p:cNvSpPr/>
            <p:nvPr/>
          </p:nvSpPr>
          <p:spPr>
            <a:xfrm>
              <a:off x="3076560" y="3908520"/>
              <a:ext cx="1266840" cy="817560"/>
            </a:xfrm>
            <a:custGeom>
              <a:avLst/>
              <a:gdLst/>
              <a:ahLst/>
              <a:rect l="l" t="t" r="r" b="b"/>
              <a:pathLst>
                <a:path w="3988" h="2578">
                  <a:moveTo>
                    <a:pt x="0" y="2376"/>
                  </a:moveTo>
                  <a:lnTo>
                    <a:pt x="89" y="2267"/>
                  </a:lnTo>
                  <a:lnTo>
                    <a:pt x="186" y="2157"/>
                  </a:lnTo>
                  <a:lnTo>
                    <a:pt x="291" y="2046"/>
                  </a:lnTo>
                  <a:lnTo>
                    <a:pt x="403" y="1935"/>
                  </a:lnTo>
                  <a:lnTo>
                    <a:pt x="521" y="1822"/>
                  </a:lnTo>
                  <a:lnTo>
                    <a:pt x="646" y="1710"/>
                  </a:lnTo>
                  <a:lnTo>
                    <a:pt x="776" y="1599"/>
                  </a:lnTo>
                  <a:lnTo>
                    <a:pt x="911" y="1487"/>
                  </a:lnTo>
                  <a:lnTo>
                    <a:pt x="1049" y="1378"/>
                  </a:lnTo>
                  <a:lnTo>
                    <a:pt x="1192" y="1270"/>
                  </a:lnTo>
                  <a:lnTo>
                    <a:pt x="1338" y="1164"/>
                  </a:lnTo>
                  <a:lnTo>
                    <a:pt x="1486" y="1061"/>
                  </a:lnTo>
                  <a:lnTo>
                    <a:pt x="1635" y="959"/>
                  </a:lnTo>
                  <a:lnTo>
                    <a:pt x="1785" y="861"/>
                  </a:lnTo>
                  <a:lnTo>
                    <a:pt x="1937" y="767"/>
                  </a:lnTo>
                  <a:lnTo>
                    <a:pt x="2088" y="675"/>
                  </a:lnTo>
                  <a:lnTo>
                    <a:pt x="2238" y="589"/>
                  </a:lnTo>
                  <a:lnTo>
                    <a:pt x="2387" y="507"/>
                  </a:lnTo>
                  <a:lnTo>
                    <a:pt x="2534" y="429"/>
                  </a:lnTo>
                  <a:lnTo>
                    <a:pt x="2678" y="356"/>
                  </a:lnTo>
                  <a:lnTo>
                    <a:pt x="2819" y="289"/>
                  </a:lnTo>
                  <a:lnTo>
                    <a:pt x="2957" y="229"/>
                  </a:lnTo>
                  <a:lnTo>
                    <a:pt x="3090" y="175"/>
                  </a:lnTo>
                  <a:lnTo>
                    <a:pt x="3218" y="126"/>
                  </a:lnTo>
                  <a:lnTo>
                    <a:pt x="3340" y="85"/>
                  </a:lnTo>
                  <a:lnTo>
                    <a:pt x="3456" y="53"/>
                  </a:lnTo>
                  <a:lnTo>
                    <a:pt x="3566" y="27"/>
                  </a:lnTo>
                  <a:lnTo>
                    <a:pt x="3668" y="10"/>
                  </a:lnTo>
                  <a:lnTo>
                    <a:pt x="3761" y="0"/>
                  </a:lnTo>
                  <a:lnTo>
                    <a:pt x="3846" y="0"/>
                  </a:lnTo>
                  <a:lnTo>
                    <a:pt x="3922" y="9"/>
                  </a:lnTo>
                  <a:lnTo>
                    <a:pt x="3988" y="27"/>
                  </a:lnTo>
                  <a:lnTo>
                    <a:pt x="3803" y="314"/>
                  </a:lnTo>
                  <a:lnTo>
                    <a:pt x="3702" y="402"/>
                  </a:lnTo>
                  <a:lnTo>
                    <a:pt x="3572" y="512"/>
                  </a:lnTo>
                  <a:lnTo>
                    <a:pt x="3496" y="575"/>
                  </a:lnTo>
                  <a:lnTo>
                    <a:pt x="3414" y="642"/>
                  </a:lnTo>
                  <a:lnTo>
                    <a:pt x="3326" y="712"/>
                  </a:lnTo>
                  <a:lnTo>
                    <a:pt x="3234" y="786"/>
                  </a:lnTo>
                  <a:lnTo>
                    <a:pt x="3136" y="864"/>
                  </a:lnTo>
                  <a:lnTo>
                    <a:pt x="3034" y="944"/>
                  </a:lnTo>
                  <a:lnTo>
                    <a:pt x="2927" y="1027"/>
                  </a:lnTo>
                  <a:lnTo>
                    <a:pt x="2817" y="1112"/>
                  </a:lnTo>
                  <a:lnTo>
                    <a:pt x="2704" y="1198"/>
                  </a:lnTo>
                  <a:lnTo>
                    <a:pt x="2588" y="1285"/>
                  </a:lnTo>
                  <a:lnTo>
                    <a:pt x="2469" y="1373"/>
                  </a:lnTo>
                  <a:lnTo>
                    <a:pt x="2348" y="1461"/>
                  </a:lnTo>
                  <a:lnTo>
                    <a:pt x="2225" y="1549"/>
                  </a:lnTo>
                  <a:lnTo>
                    <a:pt x="2101" y="1638"/>
                  </a:lnTo>
                  <a:lnTo>
                    <a:pt x="1977" y="1724"/>
                  </a:lnTo>
                  <a:lnTo>
                    <a:pt x="1851" y="1809"/>
                  </a:lnTo>
                  <a:lnTo>
                    <a:pt x="1726" y="1892"/>
                  </a:lnTo>
                  <a:lnTo>
                    <a:pt x="1600" y="1973"/>
                  </a:lnTo>
                  <a:lnTo>
                    <a:pt x="1475" y="2052"/>
                  </a:lnTo>
                  <a:lnTo>
                    <a:pt x="1352" y="2129"/>
                  </a:lnTo>
                  <a:lnTo>
                    <a:pt x="1230" y="2201"/>
                  </a:lnTo>
                  <a:lnTo>
                    <a:pt x="1110" y="2269"/>
                  </a:lnTo>
                  <a:lnTo>
                    <a:pt x="993" y="2334"/>
                  </a:lnTo>
                  <a:lnTo>
                    <a:pt x="878" y="2394"/>
                  </a:lnTo>
                  <a:lnTo>
                    <a:pt x="766" y="2449"/>
                  </a:lnTo>
                  <a:lnTo>
                    <a:pt x="658" y="2498"/>
                  </a:lnTo>
                  <a:lnTo>
                    <a:pt x="553" y="2542"/>
                  </a:lnTo>
                  <a:lnTo>
                    <a:pt x="453" y="2578"/>
                  </a:lnTo>
                  <a:lnTo>
                    <a:pt x="0" y="2376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70480" y="3946680"/>
              <a:ext cx="133200" cy="193680"/>
            </a:xfrm>
            <a:custGeom>
              <a:avLst/>
              <a:gdLst/>
              <a:ahLst/>
              <a:rect l="l" t="t" r="r" b="b"/>
              <a:pathLst>
                <a:path w="423" h="610">
                  <a:moveTo>
                    <a:pt x="0" y="0"/>
                  </a:moveTo>
                  <a:lnTo>
                    <a:pt x="141" y="106"/>
                  </a:lnTo>
                  <a:lnTo>
                    <a:pt x="235" y="212"/>
                  </a:lnTo>
                  <a:lnTo>
                    <a:pt x="317" y="318"/>
                  </a:lnTo>
                  <a:lnTo>
                    <a:pt x="375" y="457"/>
                  </a:lnTo>
                  <a:lnTo>
                    <a:pt x="423" y="6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759040" y="3916440"/>
              <a:ext cx="1836720" cy="1606320"/>
            </a:xfrm>
            <a:custGeom>
              <a:avLst/>
              <a:gdLst/>
              <a:ahLst/>
              <a:rect l="l" t="t" r="r" b="b"/>
              <a:pathLst>
                <a:path w="5787" h="5056">
                  <a:moveTo>
                    <a:pt x="4708" y="0"/>
                  </a:moveTo>
                  <a:lnTo>
                    <a:pt x="4895" y="0"/>
                  </a:lnTo>
                  <a:lnTo>
                    <a:pt x="5106" y="24"/>
                  </a:lnTo>
                  <a:lnTo>
                    <a:pt x="5282" y="58"/>
                  </a:lnTo>
                  <a:lnTo>
                    <a:pt x="5740" y="833"/>
                  </a:lnTo>
                  <a:lnTo>
                    <a:pt x="5434" y="821"/>
                  </a:lnTo>
                  <a:lnTo>
                    <a:pt x="5388" y="773"/>
                  </a:lnTo>
                  <a:lnTo>
                    <a:pt x="5317" y="739"/>
                  </a:lnTo>
                  <a:lnTo>
                    <a:pt x="5235" y="728"/>
                  </a:lnTo>
                  <a:lnTo>
                    <a:pt x="5177" y="715"/>
                  </a:lnTo>
                  <a:lnTo>
                    <a:pt x="5106" y="704"/>
                  </a:lnTo>
                  <a:lnTo>
                    <a:pt x="4977" y="704"/>
                  </a:lnTo>
                  <a:lnTo>
                    <a:pt x="4859" y="715"/>
                  </a:lnTo>
                  <a:lnTo>
                    <a:pt x="4753" y="739"/>
                  </a:lnTo>
                  <a:lnTo>
                    <a:pt x="4578" y="797"/>
                  </a:lnTo>
                  <a:lnTo>
                    <a:pt x="4402" y="880"/>
                  </a:lnTo>
                  <a:lnTo>
                    <a:pt x="3932" y="1150"/>
                  </a:lnTo>
                  <a:lnTo>
                    <a:pt x="3510" y="1385"/>
                  </a:lnTo>
                  <a:lnTo>
                    <a:pt x="3006" y="1712"/>
                  </a:lnTo>
                  <a:lnTo>
                    <a:pt x="2524" y="2065"/>
                  </a:lnTo>
                  <a:lnTo>
                    <a:pt x="2171" y="2358"/>
                  </a:lnTo>
                  <a:lnTo>
                    <a:pt x="1855" y="2640"/>
                  </a:lnTo>
                  <a:lnTo>
                    <a:pt x="1608" y="2874"/>
                  </a:lnTo>
                  <a:lnTo>
                    <a:pt x="1373" y="3121"/>
                  </a:lnTo>
                  <a:lnTo>
                    <a:pt x="1198" y="3321"/>
                  </a:lnTo>
                  <a:lnTo>
                    <a:pt x="1011" y="3543"/>
                  </a:lnTo>
                  <a:lnTo>
                    <a:pt x="857" y="3767"/>
                  </a:lnTo>
                  <a:lnTo>
                    <a:pt x="729" y="3989"/>
                  </a:lnTo>
                  <a:lnTo>
                    <a:pt x="647" y="4165"/>
                  </a:lnTo>
                  <a:lnTo>
                    <a:pt x="599" y="4329"/>
                  </a:lnTo>
                  <a:lnTo>
                    <a:pt x="610" y="4529"/>
                  </a:lnTo>
                  <a:lnTo>
                    <a:pt x="647" y="4610"/>
                  </a:lnTo>
                  <a:lnTo>
                    <a:pt x="692" y="4670"/>
                  </a:lnTo>
                  <a:lnTo>
                    <a:pt x="787" y="4740"/>
                  </a:lnTo>
                  <a:lnTo>
                    <a:pt x="881" y="4764"/>
                  </a:lnTo>
                  <a:lnTo>
                    <a:pt x="1011" y="4787"/>
                  </a:lnTo>
                  <a:lnTo>
                    <a:pt x="1210" y="4787"/>
                  </a:lnTo>
                  <a:lnTo>
                    <a:pt x="1397" y="4751"/>
                  </a:lnTo>
                  <a:lnTo>
                    <a:pt x="1679" y="4670"/>
                  </a:lnTo>
                  <a:lnTo>
                    <a:pt x="2054" y="4505"/>
                  </a:lnTo>
                  <a:lnTo>
                    <a:pt x="2418" y="4306"/>
                  </a:lnTo>
                  <a:lnTo>
                    <a:pt x="2758" y="4107"/>
                  </a:lnTo>
                  <a:lnTo>
                    <a:pt x="3170" y="3836"/>
                  </a:lnTo>
                  <a:lnTo>
                    <a:pt x="3569" y="3543"/>
                  </a:lnTo>
                  <a:lnTo>
                    <a:pt x="3791" y="3368"/>
                  </a:lnTo>
                  <a:lnTo>
                    <a:pt x="4330" y="2886"/>
                  </a:lnTo>
                  <a:lnTo>
                    <a:pt x="4801" y="2406"/>
                  </a:lnTo>
                  <a:lnTo>
                    <a:pt x="5153" y="1970"/>
                  </a:lnTo>
                  <a:lnTo>
                    <a:pt x="5293" y="1736"/>
                  </a:lnTo>
                  <a:lnTo>
                    <a:pt x="5434" y="1467"/>
                  </a:lnTo>
                  <a:lnTo>
                    <a:pt x="5481" y="1303"/>
                  </a:lnTo>
                  <a:lnTo>
                    <a:pt x="5529" y="1103"/>
                  </a:lnTo>
                  <a:lnTo>
                    <a:pt x="5787" y="951"/>
                  </a:lnTo>
                  <a:lnTo>
                    <a:pt x="5763" y="1138"/>
                  </a:lnTo>
                  <a:lnTo>
                    <a:pt x="5705" y="1349"/>
                  </a:lnTo>
                  <a:lnTo>
                    <a:pt x="5611" y="1607"/>
                  </a:lnTo>
                  <a:lnTo>
                    <a:pt x="5471" y="1854"/>
                  </a:lnTo>
                  <a:lnTo>
                    <a:pt x="5306" y="2112"/>
                  </a:lnTo>
                  <a:lnTo>
                    <a:pt x="5141" y="2324"/>
                  </a:lnTo>
                  <a:lnTo>
                    <a:pt x="4871" y="2604"/>
                  </a:lnTo>
                  <a:lnTo>
                    <a:pt x="4449" y="3004"/>
                  </a:lnTo>
                  <a:lnTo>
                    <a:pt x="4027" y="3403"/>
                  </a:lnTo>
                  <a:lnTo>
                    <a:pt x="3498" y="3825"/>
                  </a:lnTo>
                  <a:lnTo>
                    <a:pt x="2993" y="4176"/>
                  </a:lnTo>
                  <a:lnTo>
                    <a:pt x="2782" y="4306"/>
                  </a:lnTo>
                  <a:lnTo>
                    <a:pt x="2442" y="4516"/>
                  </a:lnTo>
                  <a:lnTo>
                    <a:pt x="2031" y="4740"/>
                  </a:lnTo>
                  <a:lnTo>
                    <a:pt x="1831" y="4822"/>
                  </a:lnTo>
                  <a:lnTo>
                    <a:pt x="1773" y="4846"/>
                  </a:lnTo>
                  <a:lnTo>
                    <a:pt x="1432" y="4962"/>
                  </a:lnTo>
                  <a:lnTo>
                    <a:pt x="1291" y="4998"/>
                  </a:lnTo>
                  <a:lnTo>
                    <a:pt x="998" y="5056"/>
                  </a:lnTo>
                  <a:lnTo>
                    <a:pt x="692" y="5056"/>
                  </a:lnTo>
                  <a:lnTo>
                    <a:pt x="541" y="5022"/>
                  </a:lnTo>
                  <a:lnTo>
                    <a:pt x="447" y="4986"/>
                  </a:lnTo>
                  <a:lnTo>
                    <a:pt x="388" y="4939"/>
                  </a:lnTo>
                  <a:lnTo>
                    <a:pt x="282" y="4833"/>
                  </a:lnTo>
                  <a:lnTo>
                    <a:pt x="177" y="4705"/>
                  </a:lnTo>
                  <a:lnTo>
                    <a:pt x="71" y="4505"/>
                  </a:lnTo>
                  <a:lnTo>
                    <a:pt x="11" y="4329"/>
                  </a:lnTo>
                  <a:lnTo>
                    <a:pt x="0" y="4165"/>
                  </a:lnTo>
                  <a:lnTo>
                    <a:pt x="0" y="4070"/>
                  </a:lnTo>
                  <a:lnTo>
                    <a:pt x="71" y="3825"/>
                  </a:lnTo>
                  <a:lnTo>
                    <a:pt x="165" y="3590"/>
                  </a:lnTo>
                  <a:lnTo>
                    <a:pt x="330" y="3273"/>
                  </a:lnTo>
                  <a:lnTo>
                    <a:pt x="541" y="2945"/>
                  </a:lnTo>
                  <a:lnTo>
                    <a:pt x="763" y="2640"/>
                  </a:lnTo>
                  <a:lnTo>
                    <a:pt x="974" y="2370"/>
                  </a:lnTo>
                  <a:lnTo>
                    <a:pt x="1069" y="2429"/>
                  </a:lnTo>
                  <a:lnTo>
                    <a:pt x="787" y="2792"/>
                  </a:lnTo>
                  <a:lnTo>
                    <a:pt x="575" y="3121"/>
                  </a:lnTo>
                  <a:lnTo>
                    <a:pt x="551" y="3191"/>
                  </a:lnTo>
                  <a:lnTo>
                    <a:pt x="564" y="3321"/>
                  </a:lnTo>
                  <a:lnTo>
                    <a:pt x="517" y="3309"/>
                  </a:lnTo>
                  <a:lnTo>
                    <a:pt x="388" y="3496"/>
                  </a:lnTo>
                  <a:lnTo>
                    <a:pt x="388" y="3543"/>
                  </a:lnTo>
                  <a:lnTo>
                    <a:pt x="435" y="3543"/>
                  </a:lnTo>
                  <a:lnTo>
                    <a:pt x="564" y="3321"/>
                  </a:lnTo>
                  <a:lnTo>
                    <a:pt x="551" y="3191"/>
                  </a:lnTo>
                  <a:lnTo>
                    <a:pt x="869" y="2828"/>
                  </a:lnTo>
                  <a:lnTo>
                    <a:pt x="1150" y="2475"/>
                  </a:lnTo>
                  <a:lnTo>
                    <a:pt x="610" y="3450"/>
                  </a:lnTo>
                  <a:lnTo>
                    <a:pt x="1338" y="2522"/>
                  </a:lnTo>
                  <a:lnTo>
                    <a:pt x="1314" y="2475"/>
                  </a:lnTo>
                  <a:lnTo>
                    <a:pt x="1232" y="2429"/>
                  </a:lnTo>
                  <a:lnTo>
                    <a:pt x="1150" y="2464"/>
                  </a:lnTo>
                  <a:lnTo>
                    <a:pt x="1138" y="2440"/>
                  </a:lnTo>
                  <a:lnTo>
                    <a:pt x="1069" y="2429"/>
                  </a:lnTo>
                  <a:lnTo>
                    <a:pt x="974" y="2370"/>
                  </a:lnTo>
                  <a:lnTo>
                    <a:pt x="1003" y="2348"/>
                  </a:lnTo>
                  <a:lnTo>
                    <a:pt x="1028" y="2327"/>
                  </a:lnTo>
                  <a:lnTo>
                    <a:pt x="1051" y="2308"/>
                  </a:lnTo>
                  <a:lnTo>
                    <a:pt x="1070" y="2290"/>
                  </a:lnTo>
                  <a:lnTo>
                    <a:pt x="1087" y="2273"/>
                  </a:lnTo>
                  <a:lnTo>
                    <a:pt x="1103" y="2258"/>
                  </a:lnTo>
                  <a:lnTo>
                    <a:pt x="1115" y="2245"/>
                  </a:lnTo>
                  <a:lnTo>
                    <a:pt x="1125" y="2232"/>
                  </a:lnTo>
                  <a:lnTo>
                    <a:pt x="1151" y="2196"/>
                  </a:lnTo>
                  <a:lnTo>
                    <a:pt x="1162" y="2181"/>
                  </a:lnTo>
                  <a:lnTo>
                    <a:pt x="1163" y="2180"/>
                  </a:lnTo>
                  <a:lnTo>
                    <a:pt x="1164" y="2181"/>
                  </a:lnTo>
                  <a:lnTo>
                    <a:pt x="1165" y="2183"/>
                  </a:lnTo>
                  <a:lnTo>
                    <a:pt x="1167" y="2186"/>
                  </a:lnTo>
                  <a:lnTo>
                    <a:pt x="1172" y="2197"/>
                  </a:lnTo>
                  <a:lnTo>
                    <a:pt x="1180" y="2213"/>
                  </a:lnTo>
                  <a:lnTo>
                    <a:pt x="1187" y="2222"/>
                  </a:lnTo>
                  <a:lnTo>
                    <a:pt x="1194" y="2233"/>
                  </a:lnTo>
                  <a:lnTo>
                    <a:pt x="1203" y="2246"/>
                  </a:lnTo>
                  <a:lnTo>
                    <a:pt x="1214" y="2259"/>
                  </a:lnTo>
                  <a:lnTo>
                    <a:pt x="1227" y="2273"/>
                  </a:lnTo>
                  <a:lnTo>
                    <a:pt x="1242" y="2289"/>
                  </a:lnTo>
                  <a:lnTo>
                    <a:pt x="1259" y="2305"/>
                  </a:lnTo>
                  <a:lnTo>
                    <a:pt x="1280" y="2324"/>
                  </a:lnTo>
                  <a:lnTo>
                    <a:pt x="1327" y="2311"/>
                  </a:lnTo>
                  <a:lnTo>
                    <a:pt x="1502" y="2182"/>
                  </a:lnTo>
                  <a:lnTo>
                    <a:pt x="1550" y="2124"/>
                  </a:lnTo>
                  <a:lnTo>
                    <a:pt x="1713" y="2100"/>
                  </a:lnTo>
                  <a:lnTo>
                    <a:pt x="1867" y="1901"/>
                  </a:lnTo>
                  <a:lnTo>
                    <a:pt x="2113" y="1643"/>
                  </a:lnTo>
                  <a:lnTo>
                    <a:pt x="2301" y="1467"/>
                  </a:lnTo>
                  <a:lnTo>
                    <a:pt x="2336" y="1491"/>
                  </a:lnTo>
                  <a:lnTo>
                    <a:pt x="2418" y="1467"/>
                  </a:lnTo>
                  <a:lnTo>
                    <a:pt x="2536" y="1361"/>
                  </a:lnTo>
                  <a:lnTo>
                    <a:pt x="2606" y="1361"/>
                  </a:lnTo>
                  <a:lnTo>
                    <a:pt x="2665" y="1337"/>
                  </a:lnTo>
                  <a:lnTo>
                    <a:pt x="2818" y="1385"/>
                  </a:lnTo>
                  <a:lnTo>
                    <a:pt x="2982" y="1409"/>
                  </a:lnTo>
                  <a:lnTo>
                    <a:pt x="3134" y="1396"/>
                  </a:lnTo>
                  <a:lnTo>
                    <a:pt x="3275" y="1361"/>
                  </a:lnTo>
                  <a:lnTo>
                    <a:pt x="3381" y="1314"/>
                  </a:lnTo>
                  <a:lnTo>
                    <a:pt x="3498" y="1255"/>
                  </a:lnTo>
                  <a:lnTo>
                    <a:pt x="3604" y="1161"/>
                  </a:lnTo>
                  <a:lnTo>
                    <a:pt x="3673" y="1068"/>
                  </a:lnTo>
                  <a:lnTo>
                    <a:pt x="3721" y="997"/>
                  </a:lnTo>
                  <a:lnTo>
                    <a:pt x="3756" y="903"/>
                  </a:lnTo>
                  <a:lnTo>
                    <a:pt x="3779" y="797"/>
                  </a:lnTo>
                  <a:lnTo>
                    <a:pt x="3803" y="657"/>
                  </a:lnTo>
                  <a:lnTo>
                    <a:pt x="3803" y="540"/>
                  </a:lnTo>
                  <a:lnTo>
                    <a:pt x="3803" y="422"/>
                  </a:lnTo>
                  <a:lnTo>
                    <a:pt x="4214" y="211"/>
                  </a:lnTo>
                  <a:lnTo>
                    <a:pt x="4496" y="117"/>
                  </a:lnTo>
                  <a:lnTo>
                    <a:pt x="4402" y="200"/>
                  </a:lnTo>
                  <a:lnTo>
                    <a:pt x="4391" y="223"/>
                  </a:lnTo>
                  <a:lnTo>
                    <a:pt x="4391" y="375"/>
                  </a:lnTo>
                  <a:lnTo>
                    <a:pt x="4449" y="364"/>
                  </a:lnTo>
                  <a:lnTo>
                    <a:pt x="4449" y="188"/>
                  </a:lnTo>
                  <a:lnTo>
                    <a:pt x="4496" y="200"/>
                  </a:lnTo>
                  <a:lnTo>
                    <a:pt x="4496" y="364"/>
                  </a:lnTo>
                  <a:lnTo>
                    <a:pt x="4518" y="364"/>
                  </a:lnTo>
                  <a:lnTo>
                    <a:pt x="4566" y="340"/>
                  </a:lnTo>
                  <a:lnTo>
                    <a:pt x="4566" y="176"/>
                  </a:lnTo>
                  <a:lnTo>
                    <a:pt x="4496" y="200"/>
                  </a:lnTo>
                  <a:lnTo>
                    <a:pt x="4449" y="188"/>
                  </a:lnTo>
                  <a:lnTo>
                    <a:pt x="4402" y="200"/>
                  </a:lnTo>
                  <a:lnTo>
                    <a:pt x="4496" y="117"/>
                  </a:lnTo>
                  <a:lnTo>
                    <a:pt x="4671" y="58"/>
                  </a:lnTo>
                  <a:lnTo>
                    <a:pt x="4660" y="0"/>
                  </a:lnTo>
                  <a:lnTo>
                    <a:pt x="4708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882880" y="4687920"/>
              <a:ext cx="301680" cy="353880"/>
            </a:xfrm>
            <a:custGeom>
              <a:avLst/>
              <a:gdLst/>
              <a:ahLst/>
              <a:rect l="l" t="t" r="r" b="b"/>
              <a:pathLst>
                <a:path w="950" h="1114">
                  <a:moveTo>
                    <a:pt x="681" y="0"/>
                  </a:moveTo>
                  <a:lnTo>
                    <a:pt x="399" y="363"/>
                  </a:lnTo>
                  <a:lnTo>
                    <a:pt x="187" y="692"/>
                  </a:lnTo>
                  <a:lnTo>
                    <a:pt x="163" y="762"/>
                  </a:lnTo>
                  <a:lnTo>
                    <a:pt x="176" y="892"/>
                  </a:lnTo>
                  <a:lnTo>
                    <a:pt x="129" y="880"/>
                  </a:lnTo>
                  <a:lnTo>
                    <a:pt x="0" y="1067"/>
                  </a:lnTo>
                  <a:lnTo>
                    <a:pt x="0" y="1114"/>
                  </a:lnTo>
                  <a:lnTo>
                    <a:pt x="47" y="1114"/>
                  </a:lnTo>
                  <a:lnTo>
                    <a:pt x="176" y="892"/>
                  </a:lnTo>
                  <a:lnTo>
                    <a:pt x="163" y="762"/>
                  </a:lnTo>
                  <a:lnTo>
                    <a:pt x="481" y="399"/>
                  </a:lnTo>
                  <a:lnTo>
                    <a:pt x="762" y="46"/>
                  </a:lnTo>
                  <a:lnTo>
                    <a:pt x="222" y="1021"/>
                  </a:lnTo>
                  <a:lnTo>
                    <a:pt x="950" y="93"/>
                  </a:lnTo>
                  <a:lnTo>
                    <a:pt x="926" y="46"/>
                  </a:lnTo>
                  <a:lnTo>
                    <a:pt x="844" y="0"/>
                  </a:lnTo>
                  <a:lnTo>
                    <a:pt x="762" y="46"/>
                  </a:lnTo>
                  <a:lnTo>
                    <a:pt x="750" y="11"/>
                  </a:lnTo>
                  <a:lnTo>
                    <a:pt x="68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952720" y="4687920"/>
              <a:ext cx="231840" cy="323640"/>
            </a:xfrm>
            <a:custGeom>
              <a:avLst/>
              <a:gdLst/>
              <a:ahLst/>
              <a:rect l="l" t="t" r="r" b="b"/>
              <a:pathLst>
                <a:path w="728" h="1021">
                  <a:moveTo>
                    <a:pt x="0" y="1021"/>
                  </a:moveTo>
                  <a:lnTo>
                    <a:pt x="728" y="93"/>
                  </a:lnTo>
                  <a:lnTo>
                    <a:pt x="704" y="46"/>
                  </a:lnTo>
                  <a:lnTo>
                    <a:pt x="622" y="0"/>
                  </a:lnTo>
                  <a:lnTo>
                    <a:pt x="540" y="46"/>
                  </a:lnTo>
                  <a:lnTo>
                    <a:pt x="0" y="102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933640" y="4687920"/>
              <a:ext cx="190440" cy="243000"/>
            </a:xfrm>
            <a:custGeom>
              <a:avLst/>
              <a:gdLst/>
              <a:ahLst/>
              <a:rect l="l" t="t" r="r" b="b"/>
              <a:pathLst>
                <a:path w="599" h="762">
                  <a:moveTo>
                    <a:pt x="518" y="0"/>
                  </a:moveTo>
                  <a:lnTo>
                    <a:pt x="236" y="363"/>
                  </a:lnTo>
                  <a:lnTo>
                    <a:pt x="24" y="692"/>
                  </a:lnTo>
                  <a:lnTo>
                    <a:pt x="0" y="762"/>
                  </a:lnTo>
                  <a:lnTo>
                    <a:pt x="318" y="399"/>
                  </a:lnTo>
                  <a:lnTo>
                    <a:pt x="599" y="46"/>
                  </a:lnTo>
                  <a:lnTo>
                    <a:pt x="587" y="11"/>
                  </a:lnTo>
                  <a:lnTo>
                    <a:pt x="518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882880" y="4967280"/>
              <a:ext cx="55440" cy="74520"/>
            </a:xfrm>
            <a:custGeom>
              <a:avLst/>
              <a:gdLst/>
              <a:ahLst/>
              <a:rect l="l" t="t" r="r" b="b"/>
              <a:pathLst>
                <a:path w="176" h="234">
                  <a:moveTo>
                    <a:pt x="176" y="12"/>
                  </a:moveTo>
                  <a:lnTo>
                    <a:pt x="129" y="0"/>
                  </a:lnTo>
                  <a:lnTo>
                    <a:pt x="0" y="187"/>
                  </a:lnTo>
                  <a:lnTo>
                    <a:pt x="0" y="234"/>
                  </a:lnTo>
                  <a:lnTo>
                    <a:pt x="47" y="234"/>
                  </a:lnTo>
                  <a:lnTo>
                    <a:pt x="176" y="12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949480" y="4267080"/>
              <a:ext cx="1565280" cy="1170000"/>
            </a:xfrm>
            <a:custGeom>
              <a:avLst/>
              <a:gdLst/>
              <a:ahLst/>
              <a:rect l="l" t="t" r="r" b="b"/>
              <a:pathLst>
                <a:path w="4930" h="3684">
                  <a:moveTo>
                    <a:pt x="3510" y="1361"/>
                  </a:moveTo>
                  <a:lnTo>
                    <a:pt x="3721" y="1137"/>
                  </a:lnTo>
                  <a:lnTo>
                    <a:pt x="3919" y="927"/>
                  </a:lnTo>
                  <a:lnTo>
                    <a:pt x="4167" y="633"/>
                  </a:lnTo>
                  <a:lnTo>
                    <a:pt x="4307" y="446"/>
                  </a:lnTo>
                  <a:lnTo>
                    <a:pt x="4343" y="410"/>
                  </a:lnTo>
                  <a:lnTo>
                    <a:pt x="4319" y="458"/>
                  </a:lnTo>
                  <a:lnTo>
                    <a:pt x="4249" y="586"/>
                  </a:lnTo>
                  <a:lnTo>
                    <a:pt x="3931" y="997"/>
                  </a:lnTo>
                  <a:lnTo>
                    <a:pt x="3967" y="986"/>
                  </a:lnTo>
                  <a:lnTo>
                    <a:pt x="4154" y="939"/>
                  </a:lnTo>
                  <a:lnTo>
                    <a:pt x="4249" y="927"/>
                  </a:lnTo>
                  <a:lnTo>
                    <a:pt x="4307" y="939"/>
                  </a:lnTo>
                  <a:lnTo>
                    <a:pt x="4319" y="986"/>
                  </a:lnTo>
                  <a:lnTo>
                    <a:pt x="4307" y="1032"/>
                  </a:lnTo>
                  <a:lnTo>
                    <a:pt x="4178" y="1208"/>
                  </a:lnTo>
                  <a:lnTo>
                    <a:pt x="4049" y="1372"/>
                  </a:lnTo>
                  <a:lnTo>
                    <a:pt x="4296" y="1103"/>
                  </a:lnTo>
                  <a:lnTo>
                    <a:pt x="4542" y="774"/>
                  </a:lnTo>
                  <a:lnTo>
                    <a:pt x="4694" y="516"/>
                  </a:lnTo>
                  <a:lnTo>
                    <a:pt x="4789" y="306"/>
                  </a:lnTo>
                  <a:lnTo>
                    <a:pt x="4835" y="176"/>
                  </a:lnTo>
                  <a:lnTo>
                    <a:pt x="4872" y="35"/>
                  </a:lnTo>
                  <a:lnTo>
                    <a:pt x="4930" y="0"/>
                  </a:lnTo>
                  <a:lnTo>
                    <a:pt x="4894" y="188"/>
                  </a:lnTo>
                  <a:lnTo>
                    <a:pt x="4824" y="364"/>
                  </a:lnTo>
                  <a:lnTo>
                    <a:pt x="4694" y="622"/>
                  </a:lnTo>
                  <a:lnTo>
                    <a:pt x="4554" y="867"/>
                  </a:lnTo>
                  <a:lnTo>
                    <a:pt x="4202" y="1303"/>
                  </a:lnTo>
                  <a:lnTo>
                    <a:pt x="3731" y="1783"/>
                  </a:lnTo>
                  <a:lnTo>
                    <a:pt x="3192" y="2265"/>
                  </a:lnTo>
                  <a:lnTo>
                    <a:pt x="2970" y="2440"/>
                  </a:lnTo>
                  <a:lnTo>
                    <a:pt x="2571" y="2733"/>
                  </a:lnTo>
                  <a:lnTo>
                    <a:pt x="2159" y="3004"/>
                  </a:lnTo>
                  <a:lnTo>
                    <a:pt x="1819" y="3203"/>
                  </a:lnTo>
                  <a:lnTo>
                    <a:pt x="1455" y="3402"/>
                  </a:lnTo>
                  <a:lnTo>
                    <a:pt x="1080" y="3567"/>
                  </a:lnTo>
                  <a:lnTo>
                    <a:pt x="798" y="3648"/>
                  </a:lnTo>
                  <a:lnTo>
                    <a:pt x="611" y="3684"/>
                  </a:lnTo>
                  <a:lnTo>
                    <a:pt x="412" y="3684"/>
                  </a:lnTo>
                  <a:lnTo>
                    <a:pt x="282" y="3661"/>
                  </a:lnTo>
                  <a:lnTo>
                    <a:pt x="188" y="3637"/>
                  </a:lnTo>
                  <a:lnTo>
                    <a:pt x="93" y="3567"/>
                  </a:lnTo>
                  <a:lnTo>
                    <a:pt x="48" y="3507"/>
                  </a:lnTo>
                  <a:lnTo>
                    <a:pt x="11" y="3426"/>
                  </a:lnTo>
                  <a:lnTo>
                    <a:pt x="11" y="3344"/>
                  </a:lnTo>
                  <a:lnTo>
                    <a:pt x="0" y="3344"/>
                  </a:lnTo>
                  <a:lnTo>
                    <a:pt x="71" y="3379"/>
                  </a:lnTo>
                  <a:lnTo>
                    <a:pt x="93" y="3379"/>
                  </a:lnTo>
                  <a:lnTo>
                    <a:pt x="82" y="3379"/>
                  </a:lnTo>
                  <a:lnTo>
                    <a:pt x="82" y="3437"/>
                  </a:lnTo>
                  <a:lnTo>
                    <a:pt x="117" y="3496"/>
                  </a:lnTo>
                  <a:lnTo>
                    <a:pt x="212" y="3555"/>
                  </a:lnTo>
                  <a:lnTo>
                    <a:pt x="351" y="3589"/>
                  </a:lnTo>
                  <a:lnTo>
                    <a:pt x="481" y="3602"/>
                  </a:lnTo>
                  <a:lnTo>
                    <a:pt x="657" y="3589"/>
                  </a:lnTo>
                  <a:lnTo>
                    <a:pt x="821" y="3543"/>
                  </a:lnTo>
                  <a:lnTo>
                    <a:pt x="903" y="3496"/>
                  </a:lnTo>
                  <a:lnTo>
                    <a:pt x="927" y="3473"/>
                  </a:lnTo>
                  <a:lnTo>
                    <a:pt x="915" y="3413"/>
                  </a:lnTo>
                  <a:lnTo>
                    <a:pt x="892" y="3379"/>
                  </a:lnTo>
                  <a:lnTo>
                    <a:pt x="915" y="3331"/>
                  </a:lnTo>
                  <a:lnTo>
                    <a:pt x="974" y="3262"/>
                  </a:lnTo>
                  <a:lnTo>
                    <a:pt x="1174" y="3121"/>
                  </a:lnTo>
                  <a:lnTo>
                    <a:pt x="1396" y="2991"/>
                  </a:lnTo>
                  <a:lnTo>
                    <a:pt x="1538" y="2922"/>
                  </a:lnTo>
                  <a:lnTo>
                    <a:pt x="1960" y="2640"/>
                  </a:lnTo>
                  <a:lnTo>
                    <a:pt x="2407" y="2323"/>
                  </a:lnTo>
                  <a:lnTo>
                    <a:pt x="2805" y="2007"/>
                  </a:lnTo>
                  <a:lnTo>
                    <a:pt x="3274" y="1585"/>
                  </a:lnTo>
                  <a:lnTo>
                    <a:pt x="3510" y="136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975040" y="4770360"/>
              <a:ext cx="1014480" cy="639720"/>
            </a:xfrm>
            <a:custGeom>
              <a:avLst/>
              <a:gdLst/>
              <a:ahLst/>
              <a:rect l="l" t="t" r="r" b="b"/>
              <a:pathLst>
                <a:path w="3192" h="2017">
                  <a:moveTo>
                    <a:pt x="11" y="1794"/>
                  </a:moveTo>
                  <a:lnTo>
                    <a:pt x="176" y="1782"/>
                  </a:lnTo>
                  <a:lnTo>
                    <a:pt x="375" y="1746"/>
                  </a:lnTo>
                  <a:lnTo>
                    <a:pt x="599" y="1688"/>
                  </a:lnTo>
                  <a:lnTo>
                    <a:pt x="869" y="1571"/>
                  </a:lnTo>
                  <a:lnTo>
                    <a:pt x="1221" y="1382"/>
                  </a:lnTo>
                  <a:lnTo>
                    <a:pt x="1502" y="1219"/>
                  </a:lnTo>
                  <a:lnTo>
                    <a:pt x="1761" y="1066"/>
                  </a:lnTo>
                  <a:lnTo>
                    <a:pt x="2230" y="738"/>
                  </a:lnTo>
                  <a:lnTo>
                    <a:pt x="2465" y="573"/>
                  </a:lnTo>
                  <a:lnTo>
                    <a:pt x="3016" y="140"/>
                  </a:lnTo>
                  <a:lnTo>
                    <a:pt x="3192" y="0"/>
                  </a:lnTo>
                  <a:lnTo>
                    <a:pt x="2723" y="422"/>
                  </a:lnTo>
                  <a:lnTo>
                    <a:pt x="2325" y="738"/>
                  </a:lnTo>
                  <a:lnTo>
                    <a:pt x="1878" y="1055"/>
                  </a:lnTo>
                  <a:lnTo>
                    <a:pt x="1456" y="1337"/>
                  </a:lnTo>
                  <a:lnTo>
                    <a:pt x="1314" y="1406"/>
                  </a:lnTo>
                  <a:lnTo>
                    <a:pt x="1092" y="1536"/>
                  </a:lnTo>
                  <a:lnTo>
                    <a:pt x="892" y="1677"/>
                  </a:lnTo>
                  <a:lnTo>
                    <a:pt x="833" y="1746"/>
                  </a:lnTo>
                  <a:lnTo>
                    <a:pt x="810" y="1794"/>
                  </a:lnTo>
                  <a:lnTo>
                    <a:pt x="833" y="1828"/>
                  </a:lnTo>
                  <a:lnTo>
                    <a:pt x="845" y="1888"/>
                  </a:lnTo>
                  <a:lnTo>
                    <a:pt x="821" y="1911"/>
                  </a:lnTo>
                  <a:lnTo>
                    <a:pt x="739" y="1958"/>
                  </a:lnTo>
                  <a:lnTo>
                    <a:pt x="575" y="2004"/>
                  </a:lnTo>
                  <a:lnTo>
                    <a:pt x="399" y="2017"/>
                  </a:lnTo>
                  <a:lnTo>
                    <a:pt x="269" y="2004"/>
                  </a:lnTo>
                  <a:lnTo>
                    <a:pt x="130" y="1970"/>
                  </a:lnTo>
                  <a:lnTo>
                    <a:pt x="35" y="1911"/>
                  </a:lnTo>
                  <a:lnTo>
                    <a:pt x="0" y="1852"/>
                  </a:lnTo>
                  <a:lnTo>
                    <a:pt x="0" y="1794"/>
                  </a:lnTo>
                  <a:lnTo>
                    <a:pt x="11" y="1794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495680" y="4192560"/>
              <a:ext cx="74880" cy="41400"/>
            </a:xfrm>
            <a:custGeom>
              <a:avLst/>
              <a:gdLst/>
              <a:ahLst/>
              <a:rect l="l" t="t" r="r" b="b"/>
              <a:pathLst>
                <a:path w="234" h="128">
                  <a:moveTo>
                    <a:pt x="234" y="11"/>
                  </a:moveTo>
                  <a:lnTo>
                    <a:pt x="46" y="128"/>
                  </a:lnTo>
                  <a:lnTo>
                    <a:pt x="46" y="82"/>
                  </a:lnTo>
                  <a:lnTo>
                    <a:pt x="22" y="34"/>
                  </a:lnTo>
                  <a:lnTo>
                    <a:pt x="0" y="0"/>
                  </a:lnTo>
                  <a:lnTo>
                    <a:pt x="234" y="1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373640" y="4181400"/>
              <a:ext cx="125280" cy="133560"/>
            </a:xfrm>
            <a:custGeom>
              <a:avLst/>
              <a:gdLst/>
              <a:ahLst/>
              <a:rect l="l" t="t" r="r" b="b"/>
              <a:pathLst>
                <a:path w="398" h="422">
                  <a:moveTo>
                    <a:pt x="105" y="0"/>
                  </a:moveTo>
                  <a:lnTo>
                    <a:pt x="105" y="106"/>
                  </a:lnTo>
                  <a:lnTo>
                    <a:pt x="94" y="199"/>
                  </a:lnTo>
                  <a:lnTo>
                    <a:pt x="58" y="305"/>
                  </a:lnTo>
                  <a:lnTo>
                    <a:pt x="0" y="422"/>
                  </a:lnTo>
                  <a:lnTo>
                    <a:pt x="398" y="176"/>
                  </a:lnTo>
                  <a:lnTo>
                    <a:pt x="398" y="130"/>
                  </a:lnTo>
                  <a:lnTo>
                    <a:pt x="398" y="70"/>
                  </a:lnTo>
                  <a:lnTo>
                    <a:pt x="388" y="36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402080" y="4143240"/>
              <a:ext cx="82440" cy="349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11" y="95"/>
                  </a:moveTo>
                  <a:lnTo>
                    <a:pt x="0" y="0"/>
                  </a:lnTo>
                  <a:lnTo>
                    <a:pt x="58" y="13"/>
                  </a:lnTo>
                  <a:lnTo>
                    <a:pt x="140" y="24"/>
                  </a:lnTo>
                  <a:lnTo>
                    <a:pt x="211" y="58"/>
                  </a:lnTo>
                  <a:lnTo>
                    <a:pt x="257" y="106"/>
                  </a:lnTo>
                  <a:lnTo>
                    <a:pt x="11" y="9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197240" y="4267080"/>
              <a:ext cx="317520" cy="435240"/>
            </a:xfrm>
            <a:custGeom>
              <a:avLst/>
              <a:gdLst/>
              <a:ahLst/>
              <a:rect l="l" t="t" r="r" b="b"/>
              <a:pathLst>
                <a:path w="999" h="1372">
                  <a:moveTo>
                    <a:pt x="494" y="269"/>
                  </a:moveTo>
                  <a:lnTo>
                    <a:pt x="412" y="410"/>
                  </a:lnTo>
                  <a:lnTo>
                    <a:pt x="388" y="458"/>
                  </a:lnTo>
                  <a:lnTo>
                    <a:pt x="318" y="586"/>
                  </a:lnTo>
                  <a:lnTo>
                    <a:pt x="0" y="997"/>
                  </a:lnTo>
                  <a:lnTo>
                    <a:pt x="36" y="986"/>
                  </a:lnTo>
                  <a:lnTo>
                    <a:pt x="223" y="939"/>
                  </a:lnTo>
                  <a:lnTo>
                    <a:pt x="318" y="927"/>
                  </a:lnTo>
                  <a:lnTo>
                    <a:pt x="376" y="939"/>
                  </a:lnTo>
                  <a:lnTo>
                    <a:pt x="388" y="986"/>
                  </a:lnTo>
                  <a:lnTo>
                    <a:pt x="376" y="1032"/>
                  </a:lnTo>
                  <a:lnTo>
                    <a:pt x="247" y="1208"/>
                  </a:lnTo>
                  <a:lnTo>
                    <a:pt x="118" y="1372"/>
                  </a:lnTo>
                  <a:lnTo>
                    <a:pt x="365" y="1103"/>
                  </a:lnTo>
                  <a:lnTo>
                    <a:pt x="611" y="774"/>
                  </a:lnTo>
                  <a:lnTo>
                    <a:pt x="752" y="540"/>
                  </a:lnTo>
                  <a:lnTo>
                    <a:pt x="858" y="316"/>
                  </a:lnTo>
                  <a:lnTo>
                    <a:pt x="904" y="164"/>
                  </a:lnTo>
                  <a:lnTo>
                    <a:pt x="941" y="35"/>
                  </a:lnTo>
                  <a:lnTo>
                    <a:pt x="999" y="0"/>
                  </a:lnTo>
                  <a:lnTo>
                    <a:pt x="494" y="26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152960" y="3979800"/>
              <a:ext cx="19080" cy="5580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11" y="0"/>
                  </a:moveTo>
                  <a:lnTo>
                    <a:pt x="0" y="23"/>
                  </a:lnTo>
                  <a:lnTo>
                    <a:pt x="0" y="175"/>
                  </a:lnTo>
                  <a:lnTo>
                    <a:pt x="58" y="164"/>
                  </a:lnTo>
                  <a:lnTo>
                    <a:pt x="58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186080" y="3973680"/>
              <a:ext cx="22320" cy="58680"/>
            </a:xfrm>
            <a:custGeom>
              <a:avLst/>
              <a:gdLst/>
              <a:ahLst/>
              <a:rect l="l" t="t" r="r" b="b"/>
              <a:pathLst>
                <a:path w="70" h="188">
                  <a:moveTo>
                    <a:pt x="0" y="188"/>
                  </a:moveTo>
                  <a:lnTo>
                    <a:pt x="22" y="188"/>
                  </a:lnTo>
                  <a:lnTo>
                    <a:pt x="70" y="164"/>
                  </a:lnTo>
                  <a:lnTo>
                    <a:pt x="70" y="0"/>
                  </a:lnTo>
                  <a:lnTo>
                    <a:pt x="0" y="24"/>
                  </a:lnTo>
                  <a:lnTo>
                    <a:pt x="0" y="188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786200" y="4181400"/>
              <a:ext cx="108000" cy="1908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340" y="58"/>
                  </a:moveTo>
                  <a:lnTo>
                    <a:pt x="187" y="24"/>
                  </a:lnTo>
                  <a:lnTo>
                    <a:pt x="58" y="0"/>
                  </a:lnTo>
                  <a:lnTo>
                    <a:pt x="0" y="47"/>
                  </a:lnTo>
                  <a:lnTo>
                    <a:pt x="340" y="58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645080" y="4206960"/>
              <a:ext cx="127080" cy="112680"/>
            </a:xfrm>
            <a:custGeom>
              <a:avLst/>
              <a:gdLst/>
              <a:ahLst/>
              <a:rect l="l" t="t" r="r" b="b"/>
              <a:pathLst>
                <a:path w="399" h="352">
                  <a:moveTo>
                    <a:pt x="0" y="0"/>
                  </a:moveTo>
                  <a:lnTo>
                    <a:pt x="399" y="0"/>
                  </a:lnTo>
                  <a:lnTo>
                    <a:pt x="293" y="117"/>
                  </a:lnTo>
                  <a:lnTo>
                    <a:pt x="199" y="282"/>
                  </a:lnTo>
                  <a:lnTo>
                    <a:pt x="176" y="35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648320" y="4137120"/>
              <a:ext cx="312480" cy="66600"/>
            </a:xfrm>
            <a:custGeom>
              <a:avLst/>
              <a:gdLst/>
              <a:ahLst/>
              <a:rect l="l" t="t" r="r" b="b"/>
              <a:pathLst>
                <a:path w="987" h="212">
                  <a:moveTo>
                    <a:pt x="0" y="166"/>
                  </a:moveTo>
                  <a:lnTo>
                    <a:pt x="436" y="189"/>
                  </a:lnTo>
                  <a:lnTo>
                    <a:pt x="494" y="142"/>
                  </a:lnTo>
                  <a:lnTo>
                    <a:pt x="623" y="166"/>
                  </a:lnTo>
                  <a:lnTo>
                    <a:pt x="776" y="200"/>
                  </a:lnTo>
                  <a:lnTo>
                    <a:pt x="987" y="212"/>
                  </a:lnTo>
                  <a:lnTo>
                    <a:pt x="752" y="106"/>
                  </a:lnTo>
                  <a:lnTo>
                    <a:pt x="588" y="48"/>
                  </a:lnTo>
                  <a:lnTo>
                    <a:pt x="423" y="24"/>
                  </a:lnTo>
                  <a:lnTo>
                    <a:pt x="260" y="0"/>
                  </a:lnTo>
                  <a:lnTo>
                    <a:pt x="0" y="16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730760" y="4106880"/>
              <a:ext cx="316080" cy="100080"/>
            </a:xfrm>
            <a:custGeom>
              <a:avLst/>
              <a:gdLst/>
              <a:ahLst/>
              <a:rect l="l" t="t" r="r" b="b"/>
              <a:pathLst>
                <a:path w="997" h="316">
                  <a:moveTo>
                    <a:pt x="997" y="316"/>
                  </a:moveTo>
                  <a:lnTo>
                    <a:pt x="727" y="187"/>
                  </a:lnTo>
                  <a:lnTo>
                    <a:pt x="492" y="92"/>
                  </a:lnTo>
                  <a:lnTo>
                    <a:pt x="316" y="34"/>
                  </a:lnTo>
                  <a:lnTo>
                    <a:pt x="128" y="0"/>
                  </a:lnTo>
                  <a:lnTo>
                    <a:pt x="0" y="92"/>
                  </a:lnTo>
                  <a:lnTo>
                    <a:pt x="163" y="116"/>
                  </a:lnTo>
                  <a:lnTo>
                    <a:pt x="328" y="140"/>
                  </a:lnTo>
                  <a:lnTo>
                    <a:pt x="492" y="198"/>
                  </a:lnTo>
                  <a:lnTo>
                    <a:pt x="727" y="304"/>
                  </a:lnTo>
                  <a:lnTo>
                    <a:pt x="997" y="3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722840" y="4338720"/>
              <a:ext cx="55440" cy="122040"/>
            </a:xfrm>
            <a:custGeom>
              <a:avLst/>
              <a:gdLst/>
              <a:ahLst/>
              <a:rect l="l" t="t" r="r" b="b"/>
              <a:pathLst>
                <a:path w="176" h="385">
                  <a:moveTo>
                    <a:pt x="0" y="82"/>
                  </a:moveTo>
                  <a:lnTo>
                    <a:pt x="70" y="45"/>
                  </a:lnTo>
                  <a:lnTo>
                    <a:pt x="152" y="0"/>
                  </a:lnTo>
                  <a:lnTo>
                    <a:pt x="140" y="175"/>
                  </a:lnTo>
                  <a:lnTo>
                    <a:pt x="176" y="292"/>
                  </a:lnTo>
                  <a:lnTo>
                    <a:pt x="176" y="351"/>
                  </a:lnTo>
                  <a:lnTo>
                    <a:pt x="164" y="38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700520" y="4206960"/>
              <a:ext cx="484200" cy="566640"/>
            </a:xfrm>
            <a:custGeom>
              <a:avLst/>
              <a:gdLst/>
              <a:ahLst/>
              <a:rect l="l" t="t" r="r" b="b"/>
              <a:pathLst>
                <a:path w="1526" h="1783">
                  <a:moveTo>
                    <a:pt x="189" y="834"/>
                  </a:moveTo>
                  <a:lnTo>
                    <a:pt x="529" y="1373"/>
                  </a:lnTo>
                  <a:lnTo>
                    <a:pt x="235" y="797"/>
                  </a:lnTo>
                  <a:lnTo>
                    <a:pt x="247" y="763"/>
                  </a:lnTo>
                  <a:lnTo>
                    <a:pt x="247" y="704"/>
                  </a:lnTo>
                  <a:lnTo>
                    <a:pt x="211" y="587"/>
                  </a:lnTo>
                  <a:lnTo>
                    <a:pt x="223" y="412"/>
                  </a:lnTo>
                  <a:lnTo>
                    <a:pt x="141" y="457"/>
                  </a:lnTo>
                  <a:lnTo>
                    <a:pt x="71" y="494"/>
                  </a:lnTo>
                  <a:lnTo>
                    <a:pt x="0" y="352"/>
                  </a:lnTo>
                  <a:lnTo>
                    <a:pt x="23" y="282"/>
                  </a:lnTo>
                  <a:lnTo>
                    <a:pt x="117" y="117"/>
                  </a:lnTo>
                  <a:lnTo>
                    <a:pt x="223" y="0"/>
                  </a:lnTo>
                  <a:lnTo>
                    <a:pt x="646" y="0"/>
                  </a:lnTo>
                  <a:lnTo>
                    <a:pt x="880" y="117"/>
                  </a:lnTo>
                  <a:lnTo>
                    <a:pt x="1116" y="246"/>
                  </a:lnTo>
                  <a:lnTo>
                    <a:pt x="1255" y="328"/>
                  </a:lnTo>
                  <a:lnTo>
                    <a:pt x="1303" y="470"/>
                  </a:lnTo>
                  <a:lnTo>
                    <a:pt x="1361" y="634"/>
                  </a:lnTo>
                  <a:lnTo>
                    <a:pt x="1443" y="786"/>
                  </a:lnTo>
                  <a:lnTo>
                    <a:pt x="1526" y="903"/>
                  </a:lnTo>
                  <a:lnTo>
                    <a:pt x="704" y="1760"/>
                  </a:lnTo>
                  <a:lnTo>
                    <a:pt x="622" y="1678"/>
                  </a:lnTo>
                  <a:lnTo>
                    <a:pt x="493" y="1595"/>
                  </a:lnTo>
                  <a:lnTo>
                    <a:pt x="505" y="1643"/>
                  </a:lnTo>
                  <a:lnTo>
                    <a:pt x="540" y="1783"/>
                  </a:lnTo>
                  <a:lnTo>
                    <a:pt x="423" y="1678"/>
                  </a:lnTo>
                  <a:lnTo>
                    <a:pt x="316" y="1560"/>
                  </a:lnTo>
                  <a:lnTo>
                    <a:pt x="223" y="1409"/>
                  </a:lnTo>
                  <a:lnTo>
                    <a:pt x="329" y="1443"/>
                  </a:lnTo>
                  <a:lnTo>
                    <a:pt x="364" y="1467"/>
                  </a:lnTo>
                  <a:lnTo>
                    <a:pt x="364" y="1455"/>
                  </a:lnTo>
                  <a:lnTo>
                    <a:pt x="353" y="1419"/>
                  </a:lnTo>
                  <a:lnTo>
                    <a:pt x="223" y="1209"/>
                  </a:lnTo>
                  <a:lnTo>
                    <a:pt x="199" y="1150"/>
                  </a:lnTo>
                  <a:lnTo>
                    <a:pt x="141" y="1021"/>
                  </a:lnTo>
                  <a:lnTo>
                    <a:pt x="129" y="951"/>
                  </a:lnTo>
                  <a:lnTo>
                    <a:pt x="165" y="879"/>
                  </a:lnTo>
                  <a:lnTo>
                    <a:pt x="189" y="845"/>
                  </a:lnTo>
                  <a:lnTo>
                    <a:pt x="189" y="834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603680" y="4237200"/>
              <a:ext cx="1654200" cy="1527120"/>
            </a:xfrm>
            <a:custGeom>
              <a:avLst/>
              <a:gdLst/>
              <a:ahLst/>
              <a:rect l="l" t="t" r="r" b="b"/>
              <a:pathLst>
                <a:path w="5211" h="4810">
                  <a:moveTo>
                    <a:pt x="4705" y="3343"/>
                  </a:moveTo>
                  <a:lnTo>
                    <a:pt x="4800" y="3507"/>
                  </a:lnTo>
                  <a:lnTo>
                    <a:pt x="4870" y="3661"/>
                  </a:lnTo>
                  <a:lnTo>
                    <a:pt x="4939" y="3837"/>
                  </a:lnTo>
                  <a:lnTo>
                    <a:pt x="5000" y="4000"/>
                  </a:lnTo>
                  <a:lnTo>
                    <a:pt x="5000" y="4047"/>
                  </a:lnTo>
                  <a:lnTo>
                    <a:pt x="4952" y="4082"/>
                  </a:lnTo>
                  <a:lnTo>
                    <a:pt x="4681" y="4106"/>
                  </a:lnTo>
                  <a:lnTo>
                    <a:pt x="4600" y="4141"/>
                  </a:lnTo>
                  <a:lnTo>
                    <a:pt x="4506" y="4212"/>
                  </a:lnTo>
                  <a:lnTo>
                    <a:pt x="4400" y="4340"/>
                  </a:lnTo>
                  <a:lnTo>
                    <a:pt x="4295" y="4435"/>
                  </a:lnTo>
                  <a:lnTo>
                    <a:pt x="4236" y="4446"/>
                  </a:lnTo>
                  <a:lnTo>
                    <a:pt x="4260" y="4388"/>
                  </a:lnTo>
                  <a:lnTo>
                    <a:pt x="4365" y="4223"/>
                  </a:lnTo>
                  <a:lnTo>
                    <a:pt x="4436" y="4095"/>
                  </a:lnTo>
                  <a:lnTo>
                    <a:pt x="4482" y="3965"/>
                  </a:lnTo>
                  <a:lnTo>
                    <a:pt x="4048" y="4411"/>
                  </a:lnTo>
                  <a:lnTo>
                    <a:pt x="3813" y="4340"/>
                  </a:lnTo>
                  <a:lnTo>
                    <a:pt x="3591" y="4259"/>
                  </a:lnTo>
                  <a:lnTo>
                    <a:pt x="3403" y="4164"/>
                  </a:lnTo>
                  <a:lnTo>
                    <a:pt x="3261" y="4106"/>
                  </a:lnTo>
                  <a:lnTo>
                    <a:pt x="3003" y="3965"/>
                  </a:lnTo>
                  <a:lnTo>
                    <a:pt x="2652" y="3719"/>
                  </a:lnTo>
                  <a:lnTo>
                    <a:pt x="2311" y="3449"/>
                  </a:lnTo>
                  <a:lnTo>
                    <a:pt x="2006" y="3167"/>
                  </a:lnTo>
                  <a:lnTo>
                    <a:pt x="1865" y="3003"/>
                  </a:lnTo>
                  <a:lnTo>
                    <a:pt x="1689" y="2768"/>
                  </a:lnTo>
                  <a:lnTo>
                    <a:pt x="1665" y="2487"/>
                  </a:lnTo>
                  <a:lnTo>
                    <a:pt x="1490" y="2264"/>
                  </a:lnTo>
                  <a:lnTo>
                    <a:pt x="1420" y="2170"/>
                  </a:lnTo>
                  <a:lnTo>
                    <a:pt x="1360" y="2088"/>
                  </a:lnTo>
                  <a:lnTo>
                    <a:pt x="1338" y="2053"/>
                  </a:lnTo>
                  <a:lnTo>
                    <a:pt x="1314" y="2030"/>
                  </a:lnTo>
                  <a:lnTo>
                    <a:pt x="2065" y="1138"/>
                  </a:lnTo>
                  <a:lnTo>
                    <a:pt x="1982" y="1033"/>
                  </a:lnTo>
                  <a:lnTo>
                    <a:pt x="1913" y="915"/>
                  </a:lnTo>
                  <a:lnTo>
                    <a:pt x="1830" y="809"/>
                  </a:lnTo>
                  <a:lnTo>
                    <a:pt x="1008" y="1666"/>
                  </a:lnTo>
                  <a:lnTo>
                    <a:pt x="926" y="1584"/>
                  </a:lnTo>
                  <a:lnTo>
                    <a:pt x="797" y="1501"/>
                  </a:lnTo>
                  <a:lnTo>
                    <a:pt x="809" y="1549"/>
                  </a:lnTo>
                  <a:lnTo>
                    <a:pt x="844" y="1689"/>
                  </a:lnTo>
                  <a:lnTo>
                    <a:pt x="727" y="1584"/>
                  </a:lnTo>
                  <a:lnTo>
                    <a:pt x="620" y="1466"/>
                  </a:lnTo>
                  <a:lnTo>
                    <a:pt x="527" y="1315"/>
                  </a:lnTo>
                  <a:lnTo>
                    <a:pt x="633" y="1349"/>
                  </a:lnTo>
                  <a:lnTo>
                    <a:pt x="668" y="1361"/>
                  </a:lnTo>
                  <a:lnTo>
                    <a:pt x="657" y="1325"/>
                  </a:lnTo>
                  <a:lnTo>
                    <a:pt x="527" y="1115"/>
                  </a:lnTo>
                  <a:lnTo>
                    <a:pt x="503" y="1056"/>
                  </a:lnTo>
                  <a:lnTo>
                    <a:pt x="445" y="927"/>
                  </a:lnTo>
                  <a:lnTo>
                    <a:pt x="433" y="857"/>
                  </a:lnTo>
                  <a:lnTo>
                    <a:pt x="469" y="785"/>
                  </a:lnTo>
                  <a:lnTo>
                    <a:pt x="493" y="751"/>
                  </a:lnTo>
                  <a:lnTo>
                    <a:pt x="34" y="0"/>
                  </a:lnTo>
                  <a:lnTo>
                    <a:pt x="0" y="352"/>
                  </a:lnTo>
                  <a:lnTo>
                    <a:pt x="93" y="634"/>
                  </a:lnTo>
                  <a:lnTo>
                    <a:pt x="245" y="951"/>
                  </a:lnTo>
                  <a:lnTo>
                    <a:pt x="409" y="1255"/>
                  </a:lnTo>
                  <a:lnTo>
                    <a:pt x="551" y="1479"/>
                  </a:lnTo>
                  <a:lnTo>
                    <a:pt x="880" y="1948"/>
                  </a:lnTo>
                  <a:lnTo>
                    <a:pt x="1196" y="2370"/>
                  </a:lnTo>
                  <a:lnTo>
                    <a:pt x="1525" y="2758"/>
                  </a:lnTo>
                  <a:lnTo>
                    <a:pt x="2077" y="3309"/>
                  </a:lnTo>
                  <a:lnTo>
                    <a:pt x="2570" y="3731"/>
                  </a:lnTo>
                  <a:lnTo>
                    <a:pt x="2816" y="3919"/>
                  </a:lnTo>
                  <a:lnTo>
                    <a:pt x="3261" y="4212"/>
                  </a:lnTo>
                  <a:lnTo>
                    <a:pt x="3684" y="4459"/>
                  </a:lnTo>
                  <a:lnTo>
                    <a:pt x="3942" y="4576"/>
                  </a:lnTo>
                  <a:lnTo>
                    <a:pt x="4119" y="4658"/>
                  </a:lnTo>
                  <a:lnTo>
                    <a:pt x="4388" y="4762"/>
                  </a:lnTo>
                  <a:lnTo>
                    <a:pt x="4576" y="4799"/>
                  </a:lnTo>
                  <a:lnTo>
                    <a:pt x="4729" y="4810"/>
                  </a:lnTo>
                  <a:lnTo>
                    <a:pt x="4905" y="4786"/>
                  </a:lnTo>
                  <a:lnTo>
                    <a:pt x="5035" y="4728"/>
                  </a:lnTo>
                  <a:lnTo>
                    <a:pt x="5117" y="4646"/>
                  </a:lnTo>
                  <a:lnTo>
                    <a:pt x="5211" y="4658"/>
                  </a:lnTo>
                  <a:lnTo>
                    <a:pt x="5140" y="4587"/>
                  </a:lnTo>
                  <a:lnTo>
                    <a:pt x="5175" y="4482"/>
                  </a:lnTo>
                  <a:lnTo>
                    <a:pt x="5187" y="4317"/>
                  </a:lnTo>
                  <a:lnTo>
                    <a:pt x="5163" y="4164"/>
                  </a:lnTo>
                  <a:lnTo>
                    <a:pt x="5069" y="3871"/>
                  </a:lnTo>
                  <a:lnTo>
                    <a:pt x="4976" y="3637"/>
                  </a:lnTo>
                  <a:lnTo>
                    <a:pt x="4811" y="3320"/>
                  </a:lnTo>
                  <a:lnTo>
                    <a:pt x="4705" y="3343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140440" y="5116680"/>
              <a:ext cx="547560" cy="442800"/>
            </a:xfrm>
            <a:custGeom>
              <a:avLst/>
              <a:gdLst/>
              <a:ahLst/>
              <a:rect l="l" t="t" r="r" b="b"/>
              <a:pathLst>
                <a:path w="1726" h="1396">
                  <a:moveTo>
                    <a:pt x="0" y="0"/>
                  </a:moveTo>
                  <a:lnTo>
                    <a:pt x="176" y="235"/>
                  </a:lnTo>
                  <a:lnTo>
                    <a:pt x="317" y="399"/>
                  </a:lnTo>
                  <a:lnTo>
                    <a:pt x="622" y="681"/>
                  </a:lnTo>
                  <a:lnTo>
                    <a:pt x="963" y="951"/>
                  </a:lnTo>
                  <a:lnTo>
                    <a:pt x="1314" y="1197"/>
                  </a:lnTo>
                  <a:lnTo>
                    <a:pt x="1572" y="1338"/>
                  </a:lnTo>
                  <a:lnTo>
                    <a:pt x="1726" y="1396"/>
                  </a:lnTo>
                  <a:lnTo>
                    <a:pt x="1479" y="1232"/>
                  </a:lnTo>
                  <a:lnTo>
                    <a:pt x="1256" y="1093"/>
                  </a:lnTo>
                  <a:lnTo>
                    <a:pt x="822" y="739"/>
                  </a:lnTo>
                  <a:lnTo>
                    <a:pt x="399" y="375"/>
                  </a:lnTo>
                  <a:lnTo>
                    <a:pt x="200" y="20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021280" y="4599000"/>
              <a:ext cx="647640" cy="681120"/>
            </a:xfrm>
            <a:custGeom>
              <a:avLst/>
              <a:gdLst/>
              <a:ahLst/>
              <a:rect l="l" t="t" r="r" b="b"/>
              <a:pathLst>
                <a:path w="2042" h="2147">
                  <a:moveTo>
                    <a:pt x="176" y="1126"/>
                  </a:moveTo>
                  <a:lnTo>
                    <a:pt x="351" y="1349"/>
                  </a:lnTo>
                  <a:lnTo>
                    <a:pt x="681" y="1702"/>
                  </a:lnTo>
                  <a:lnTo>
                    <a:pt x="868" y="1878"/>
                  </a:lnTo>
                  <a:lnTo>
                    <a:pt x="1150" y="2112"/>
                  </a:lnTo>
                  <a:lnTo>
                    <a:pt x="1197" y="2147"/>
                  </a:lnTo>
                  <a:lnTo>
                    <a:pt x="1995" y="1349"/>
                  </a:lnTo>
                  <a:lnTo>
                    <a:pt x="2042" y="1326"/>
                  </a:lnTo>
                  <a:lnTo>
                    <a:pt x="1713" y="1032"/>
                  </a:lnTo>
                  <a:lnTo>
                    <a:pt x="1338" y="668"/>
                  </a:lnTo>
                  <a:lnTo>
                    <a:pt x="1068" y="387"/>
                  </a:lnTo>
                  <a:lnTo>
                    <a:pt x="926" y="211"/>
                  </a:lnTo>
                  <a:lnTo>
                    <a:pt x="833" y="93"/>
                  </a:lnTo>
                  <a:lnTo>
                    <a:pt x="751" y="0"/>
                  </a:lnTo>
                  <a:lnTo>
                    <a:pt x="0" y="892"/>
                  </a:lnTo>
                  <a:lnTo>
                    <a:pt x="11" y="902"/>
                  </a:lnTo>
                  <a:lnTo>
                    <a:pt x="46" y="950"/>
                  </a:lnTo>
                  <a:lnTo>
                    <a:pt x="93" y="1021"/>
                  </a:lnTo>
                  <a:lnTo>
                    <a:pt x="176" y="112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132520" y="5019840"/>
              <a:ext cx="757080" cy="617400"/>
            </a:xfrm>
            <a:custGeom>
              <a:avLst/>
              <a:gdLst/>
              <a:ahLst/>
              <a:rect l="l" t="t" r="r" b="b"/>
              <a:pathLst>
                <a:path w="2383" h="1947">
                  <a:moveTo>
                    <a:pt x="1738" y="1700"/>
                  </a:moveTo>
                  <a:lnTo>
                    <a:pt x="1926" y="1795"/>
                  </a:lnTo>
                  <a:lnTo>
                    <a:pt x="2148" y="1876"/>
                  </a:lnTo>
                  <a:lnTo>
                    <a:pt x="2383" y="1947"/>
                  </a:lnTo>
                  <a:lnTo>
                    <a:pt x="2290" y="1924"/>
                  </a:lnTo>
                  <a:lnTo>
                    <a:pt x="2172" y="1865"/>
                  </a:lnTo>
                  <a:lnTo>
                    <a:pt x="2066" y="1795"/>
                  </a:lnTo>
                  <a:lnTo>
                    <a:pt x="1995" y="1713"/>
                  </a:lnTo>
                  <a:lnTo>
                    <a:pt x="1820" y="1549"/>
                  </a:lnTo>
                  <a:lnTo>
                    <a:pt x="1620" y="1384"/>
                  </a:lnTo>
                  <a:lnTo>
                    <a:pt x="1397" y="1243"/>
                  </a:lnTo>
                  <a:lnTo>
                    <a:pt x="1221" y="1137"/>
                  </a:lnTo>
                  <a:lnTo>
                    <a:pt x="1069" y="1079"/>
                  </a:lnTo>
                  <a:lnTo>
                    <a:pt x="1057" y="1056"/>
                  </a:lnTo>
                  <a:lnTo>
                    <a:pt x="939" y="961"/>
                  </a:lnTo>
                  <a:lnTo>
                    <a:pt x="881" y="915"/>
                  </a:lnTo>
                  <a:lnTo>
                    <a:pt x="998" y="809"/>
                  </a:lnTo>
                  <a:lnTo>
                    <a:pt x="1034" y="845"/>
                  </a:lnTo>
                  <a:lnTo>
                    <a:pt x="939" y="961"/>
                  </a:lnTo>
                  <a:lnTo>
                    <a:pt x="1057" y="1056"/>
                  </a:lnTo>
                  <a:lnTo>
                    <a:pt x="1209" y="868"/>
                  </a:lnTo>
                  <a:lnTo>
                    <a:pt x="1702" y="328"/>
                  </a:lnTo>
                  <a:lnTo>
                    <a:pt x="1808" y="222"/>
                  </a:lnTo>
                  <a:lnTo>
                    <a:pt x="1796" y="164"/>
                  </a:lnTo>
                  <a:lnTo>
                    <a:pt x="1691" y="246"/>
                  </a:lnTo>
                  <a:lnTo>
                    <a:pt x="1515" y="339"/>
                  </a:lnTo>
                  <a:lnTo>
                    <a:pt x="1620" y="164"/>
                  </a:lnTo>
                  <a:lnTo>
                    <a:pt x="1691" y="246"/>
                  </a:lnTo>
                  <a:lnTo>
                    <a:pt x="1796" y="164"/>
                  </a:lnTo>
                  <a:lnTo>
                    <a:pt x="1691" y="128"/>
                  </a:lnTo>
                  <a:lnTo>
                    <a:pt x="1678" y="94"/>
                  </a:lnTo>
                  <a:lnTo>
                    <a:pt x="1691" y="0"/>
                  </a:lnTo>
                  <a:lnTo>
                    <a:pt x="1644" y="23"/>
                  </a:lnTo>
                  <a:lnTo>
                    <a:pt x="846" y="821"/>
                  </a:lnTo>
                  <a:lnTo>
                    <a:pt x="799" y="786"/>
                  </a:lnTo>
                  <a:lnTo>
                    <a:pt x="517" y="552"/>
                  </a:lnTo>
                  <a:lnTo>
                    <a:pt x="330" y="376"/>
                  </a:lnTo>
                  <a:lnTo>
                    <a:pt x="0" y="23"/>
                  </a:lnTo>
                  <a:lnTo>
                    <a:pt x="24" y="304"/>
                  </a:lnTo>
                  <a:lnTo>
                    <a:pt x="224" y="504"/>
                  </a:lnTo>
                  <a:lnTo>
                    <a:pt x="423" y="679"/>
                  </a:lnTo>
                  <a:lnTo>
                    <a:pt x="846" y="1043"/>
                  </a:lnTo>
                  <a:lnTo>
                    <a:pt x="1280" y="1397"/>
                  </a:lnTo>
                  <a:lnTo>
                    <a:pt x="1503" y="1536"/>
                  </a:lnTo>
                  <a:lnTo>
                    <a:pt x="1750" y="1700"/>
                  </a:lnTo>
                  <a:lnTo>
                    <a:pt x="1738" y="170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5464080" y="5016600"/>
              <a:ext cx="727200" cy="631800"/>
            </a:xfrm>
            <a:custGeom>
              <a:avLst/>
              <a:gdLst/>
              <a:ahLst/>
              <a:rect l="l" t="t" r="r" b="b"/>
              <a:pathLst>
                <a:path w="2290" h="1994">
                  <a:moveTo>
                    <a:pt x="1995" y="891"/>
                  </a:moveTo>
                  <a:lnTo>
                    <a:pt x="2090" y="1055"/>
                  </a:lnTo>
                  <a:lnTo>
                    <a:pt x="2160" y="1209"/>
                  </a:lnTo>
                  <a:lnTo>
                    <a:pt x="2229" y="1385"/>
                  </a:lnTo>
                  <a:lnTo>
                    <a:pt x="2290" y="1548"/>
                  </a:lnTo>
                  <a:lnTo>
                    <a:pt x="2290" y="1595"/>
                  </a:lnTo>
                  <a:lnTo>
                    <a:pt x="2242" y="1630"/>
                  </a:lnTo>
                  <a:lnTo>
                    <a:pt x="1971" y="1654"/>
                  </a:lnTo>
                  <a:lnTo>
                    <a:pt x="1890" y="1689"/>
                  </a:lnTo>
                  <a:lnTo>
                    <a:pt x="1796" y="1760"/>
                  </a:lnTo>
                  <a:lnTo>
                    <a:pt x="1690" y="1888"/>
                  </a:lnTo>
                  <a:lnTo>
                    <a:pt x="1585" y="1983"/>
                  </a:lnTo>
                  <a:lnTo>
                    <a:pt x="1526" y="1994"/>
                  </a:lnTo>
                  <a:lnTo>
                    <a:pt x="1550" y="1936"/>
                  </a:lnTo>
                  <a:lnTo>
                    <a:pt x="1655" y="1771"/>
                  </a:lnTo>
                  <a:lnTo>
                    <a:pt x="1726" y="1643"/>
                  </a:lnTo>
                  <a:lnTo>
                    <a:pt x="1772" y="1513"/>
                  </a:lnTo>
                  <a:lnTo>
                    <a:pt x="1338" y="1959"/>
                  </a:lnTo>
                  <a:lnTo>
                    <a:pt x="1245" y="1936"/>
                  </a:lnTo>
                  <a:lnTo>
                    <a:pt x="1127" y="1877"/>
                  </a:lnTo>
                  <a:lnTo>
                    <a:pt x="1021" y="1807"/>
                  </a:lnTo>
                  <a:lnTo>
                    <a:pt x="950" y="1725"/>
                  </a:lnTo>
                  <a:lnTo>
                    <a:pt x="775" y="1561"/>
                  </a:lnTo>
                  <a:lnTo>
                    <a:pt x="575" y="1396"/>
                  </a:lnTo>
                  <a:lnTo>
                    <a:pt x="352" y="1255"/>
                  </a:lnTo>
                  <a:lnTo>
                    <a:pt x="176" y="1149"/>
                  </a:lnTo>
                  <a:lnTo>
                    <a:pt x="36" y="1091"/>
                  </a:lnTo>
                  <a:lnTo>
                    <a:pt x="0" y="1068"/>
                  </a:lnTo>
                  <a:lnTo>
                    <a:pt x="164" y="880"/>
                  </a:lnTo>
                  <a:lnTo>
                    <a:pt x="657" y="340"/>
                  </a:lnTo>
                  <a:lnTo>
                    <a:pt x="763" y="234"/>
                  </a:lnTo>
                  <a:lnTo>
                    <a:pt x="751" y="176"/>
                  </a:lnTo>
                  <a:lnTo>
                    <a:pt x="646" y="140"/>
                  </a:lnTo>
                  <a:lnTo>
                    <a:pt x="633" y="106"/>
                  </a:lnTo>
                  <a:lnTo>
                    <a:pt x="646" y="0"/>
                  </a:lnTo>
                  <a:lnTo>
                    <a:pt x="1045" y="329"/>
                  </a:lnTo>
                  <a:lnTo>
                    <a:pt x="1385" y="564"/>
                  </a:lnTo>
                  <a:lnTo>
                    <a:pt x="1796" y="798"/>
                  </a:lnTo>
                  <a:lnTo>
                    <a:pt x="1995" y="891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905360" y="4206960"/>
              <a:ext cx="1225440" cy="1089000"/>
            </a:xfrm>
            <a:custGeom>
              <a:avLst/>
              <a:gdLst/>
              <a:ahLst/>
              <a:rect l="l" t="t" r="r" b="b"/>
              <a:pathLst>
                <a:path w="3861" h="3426">
                  <a:moveTo>
                    <a:pt x="3768" y="3426"/>
                  </a:moveTo>
                  <a:lnTo>
                    <a:pt x="3556" y="3086"/>
                  </a:lnTo>
                  <a:lnTo>
                    <a:pt x="3345" y="2770"/>
                  </a:lnTo>
                  <a:lnTo>
                    <a:pt x="3134" y="2475"/>
                  </a:lnTo>
                  <a:lnTo>
                    <a:pt x="2770" y="2089"/>
                  </a:lnTo>
                  <a:lnTo>
                    <a:pt x="2348" y="1666"/>
                  </a:lnTo>
                  <a:lnTo>
                    <a:pt x="2029" y="1385"/>
                  </a:lnTo>
                  <a:lnTo>
                    <a:pt x="1890" y="1243"/>
                  </a:lnTo>
                  <a:lnTo>
                    <a:pt x="1478" y="927"/>
                  </a:lnTo>
                  <a:lnTo>
                    <a:pt x="1409" y="868"/>
                  </a:lnTo>
                  <a:lnTo>
                    <a:pt x="963" y="539"/>
                  </a:lnTo>
                  <a:lnTo>
                    <a:pt x="728" y="399"/>
                  </a:lnTo>
                  <a:lnTo>
                    <a:pt x="609" y="328"/>
                  </a:lnTo>
                  <a:lnTo>
                    <a:pt x="470" y="246"/>
                  </a:lnTo>
                  <a:lnTo>
                    <a:pt x="234" y="117"/>
                  </a:lnTo>
                  <a:lnTo>
                    <a:pt x="0" y="0"/>
                  </a:lnTo>
                  <a:lnTo>
                    <a:pt x="210" y="0"/>
                  </a:lnTo>
                  <a:lnTo>
                    <a:pt x="470" y="130"/>
                  </a:lnTo>
                  <a:lnTo>
                    <a:pt x="728" y="282"/>
                  </a:lnTo>
                  <a:lnTo>
                    <a:pt x="1185" y="587"/>
                  </a:lnTo>
                  <a:lnTo>
                    <a:pt x="1549" y="857"/>
                  </a:lnTo>
                  <a:lnTo>
                    <a:pt x="2008" y="1232"/>
                  </a:lnTo>
                  <a:lnTo>
                    <a:pt x="2393" y="1573"/>
                  </a:lnTo>
                  <a:lnTo>
                    <a:pt x="2699" y="1865"/>
                  </a:lnTo>
                  <a:lnTo>
                    <a:pt x="3063" y="2253"/>
                  </a:lnTo>
                  <a:lnTo>
                    <a:pt x="3332" y="2581"/>
                  </a:lnTo>
                  <a:lnTo>
                    <a:pt x="3604" y="2968"/>
                  </a:lnTo>
                  <a:lnTo>
                    <a:pt x="3861" y="3414"/>
                  </a:lnTo>
                  <a:lnTo>
                    <a:pt x="3768" y="3426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4971960" y="4206960"/>
              <a:ext cx="1308240" cy="1487520"/>
            </a:xfrm>
            <a:custGeom>
              <a:avLst/>
              <a:gdLst/>
              <a:ahLst/>
              <a:rect l="l" t="t" r="r" b="b"/>
              <a:pathLst>
                <a:path w="4120" h="4681">
                  <a:moveTo>
                    <a:pt x="236" y="0"/>
                  </a:moveTo>
                  <a:lnTo>
                    <a:pt x="587" y="199"/>
                  </a:lnTo>
                  <a:lnTo>
                    <a:pt x="917" y="412"/>
                  </a:lnTo>
                  <a:lnTo>
                    <a:pt x="1304" y="681"/>
                  </a:lnTo>
                  <a:lnTo>
                    <a:pt x="1632" y="939"/>
                  </a:lnTo>
                  <a:lnTo>
                    <a:pt x="1880" y="1150"/>
                  </a:lnTo>
                  <a:lnTo>
                    <a:pt x="2231" y="1467"/>
                  </a:lnTo>
                  <a:lnTo>
                    <a:pt x="2665" y="1889"/>
                  </a:lnTo>
                  <a:lnTo>
                    <a:pt x="2912" y="2158"/>
                  </a:lnTo>
                  <a:lnTo>
                    <a:pt x="3088" y="2370"/>
                  </a:lnTo>
                  <a:lnTo>
                    <a:pt x="3334" y="2698"/>
                  </a:lnTo>
                  <a:lnTo>
                    <a:pt x="3616" y="3121"/>
                  </a:lnTo>
                  <a:lnTo>
                    <a:pt x="3757" y="3379"/>
                  </a:lnTo>
                  <a:lnTo>
                    <a:pt x="3875" y="3601"/>
                  </a:lnTo>
                  <a:lnTo>
                    <a:pt x="3991" y="3849"/>
                  </a:lnTo>
                  <a:lnTo>
                    <a:pt x="4061" y="4071"/>
                  </a:lnTo>
                  <a:lnTo>
                    <a:pt x="4120" y="4306"/>
                  </a:lnTo>
                  <a:lnTo>
                    <a:pt x="4120" y="4447"/>
                  </a:lnTo>
                  <a:lnTo>
                    <a:pt x="4109" y="4564"/>
                  </a:lnTo>
                  <a:lnTo>
                    <a:pt x="4085" y="4622"/>
                  </a:lnTo>
                  <a:lnTo>
                    <a:pt x="4039" y="4670"/>
                  </a:lnTo>
                  <a:lnTo>
                    <a:pt x="3980" y="4681"/>
                  </a:lnTo>
                  <a:lnTo>
                    <a:pt x="4015" y="4576"/>
                  </a:lnTo>
                  <a:lnTo>
                    <a:pt x="4027" y="4411"/>
                  </a:lnTo>
                  <a:lnTo>
                    <a:pt x="4003" y="4258"/>
                  </a:lnTo>
                  <a:lnTo>
                    <a:pt x="3909" y="3965"/>
                  </a:lnTo>
                  <a:lnTo>
                    <a:pt x="3816" y="3731"/>
                  </a:lnTo>
                  <a:lnTo>
                    <a:pt x="3651" y="3414"/>
                  </a:lnTo>
                  <a:lnTo>
                    <a:pt x="3394" y="2968"/>
                  </a:lnTo>
                  <a:lnTo>
                    <a:pt x="3122" y="2581"/>
                  </a:lnTo>
                  <a:lnTo>
                    <a:pt x="2853" y="2253"/>
                  </a:lnTo>
                  <a:lnTo>
                    <a:pt x="2489" y="1865"/>
                  </a:lnTo>
                  <a:lnTo>
                    <a:pt x="2183" y="1573"/>
                  </a:lnTo>
                  <a:lnTo>
                    <a:pt x="1798" y="1232"/>
                  </a:lnTo>
                  <a:lnTo>
                    <a:pt x="1339" y="857"/>
                  </a:lnTo>
                  <a:lnTo>
                    <a:pt x="975" y="587"/>
                  </a:lnTo>
                  <a:lnTo>
                    <a:pt x="518" y="282"/>
                  </a:lnTo>
                  <a:lnTo>
                    <a:pt x="260" y="130"/>
                  </a:lnTo>
                  <a:lnTo>
                    <a:pt x="0" y="0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772160" y="4065480"/>
              <a:ext cx="1773000" cy="1650960"/>
            </a:xfrm>
            <a:custGeom>
              <a:avLst/>
              <a:gdLst/>
              <a:ahLst/>
              <a:rect l="l" t="t" r="r" b="b"/>
              <a:pathLst>
                <a:path w="5587" h="5197">
                  <a:moveTo>
                    <a:pt x="5575" y="4270"/>
                  </a:moveTo>
                  <a:lnTo>
                    <a:pt x="5587" y="4352"/>
                  </a:lnTo>
                  <a:lnTo>
                    <a:pt x="5575" y="4528"/>
                  </a:lnTo>
                  <a:lnTo>
                    <a:pt x="5516" y="4703"/>
                  </a:lnTo>
                  <a:lnTo>
                    <a:pt x="5457" y="4821"/>
                  </a:lnTo>
                  <a:lnTo>
                    <a:pt x="5329" y="4974"/>
                  </a:lnTo>
                  <a:lnTo>
                    <a:pt x="5188" y="5079"/>
                  </a:lnTo>
                  <a:lnTo>
                    <a:pt x="5012" y="5161"/>
                  </a:lnTo>
                  <a:lnTo>
                    <a:pt x="4848" y="5197"/>
                  </a:lnTo>
                  <a:lnTo>
                    <a:pt x="4684" y="5197"/>
                  </a:lnTo>
                  <a:lnTo>
                    <a:pt x="4672" y="5185"/>
                  </a:lnTo>
                  <a:lnTo>
                    <a:pt x="4613" y="5126"/>
                  </a:lnTo>
                  <a:lnTo>
                    <a:pt x="4672" y="5115"/>
                  </a:lnTo>
                  <a:lnTo>
                    <a:pt x="4718" y="5067"/>
                  </a:lnTo>
                  <a:lnTo>
                    <a:pt x="4742" y="5009"/>
                  </a:lnTo>
                  <a:lnTo>
                    <a:pt x="4753" y="4892"/>
                  </a:lnTo>
                  <a:lnTo>
                    <a:pt x="4753" y="4751"/>
                  </a:lnTo>
                  <a:lnTo>
                    <a:pt x="4694" y="4516"/>
                  </a:lnTo>
                  <a:lnTo>
                    <a:pt x="4624" y="4294"/>
                  </a:lnTo>
                  <a:lnTo>
                    <a:pt x="4508" y="4046"/>
                  </a:lnTo>
                  <a:lnTo>
                    <a:pt x="4390" y="3824"/>
                  </a:lnTo>
                  <a:lnTo>
                    <a:pt x="4249" y="3566"/>
                  </a:lnTo>
                  <a:lnTo>
                    <a:pt x="3967" y="3143"/>
                  </a:lnTo>
                  <a:lnTo>
                    <a:pt x="3721" y="2815"/>
                  </a:lnTo>
                  <a:lnTo>
                    <a:pt x="3545" y="2603"/>
                  </a:lnTo>
                  <a:lnTo>
                    <a:pt x="3298" y="2334"/>
                  </a:lnTo>
                  <a:lnTo>
                    <a:pt x="2864" y="1912"/>
                  </a:lnTo>
                  <a:lnTo>
                    <a:pt x="2513" y="1595"/>
                  </a:lnTo>
                  <a:lnTo>
                    <a:pt x="2265" y="1384"/>
                  </a:lnTo>
                  <a:lnTo>
                    <a:pt x="1937" y="1126"/>
                  </a:lnTo>
                  <a:lnTo>
                    <a:pt x="1550" y="857"/>
                  </a:lnTo>
                  <a:lnTo>
                    <a:pt x="1220" y="644"/>
                  </a:lnTo>
                  <a:lnTo>
                    <a:pt x="857" y="445"/>
                  </a:lnTo>
                  <a:lnTo>
                    <a:pt x="869" y="445"/>
                  </a:lnTo>
                  <a:lnTo>
                    <a:pt x="599" y="316"/>
                  </a:lnTo>
                  <a:lnTo>
                    <a:pt x="364" y="221"/>
                  </a:lnTo>
                  <a:lnTo>
                    <a:pt x="188" y="163"/>
                  </a:lnTo>
                  <a:lnTo>
                    <a:pt x="0" y="129"/>
                  </a:lnTo>
                  <a:lnTo>
                    <a:pt x="223" y="0"/>
                  </a:lnTo>
                  <a:lnTo>
                    <a:pt x="447" y="35"/>
                  </a:lnTo>
                  <a:lnTo>
                    <a:pt x="633" y="105"/>
                  </a:lnTo>
                  <a:lnTo>
                    <a:pt x="833" y="187"/>
                  </a:lnTo>
                  <a:lnTo>
                    <a:pt x="1162" y="340"/>
                  </a:lnTo>
                  <a:lnTo>
                    <a:pt x="1502" y="527"/>
                  </a:lnTo>
                  <a:lnTo>
                    <a:pt x="1832" y="739"/>
                  </a:lnTo>
                  <a:lnTo>
                    <a:pt x="2335" y="1091"/>
                  </a:lnTo>
                  <a:lnTo>
                    <a:pt x="2816" y="1466"/>
                  </a:lnTo>
                  <a:lnTo>
                    <a:pt x="3193" y="1806"/>
                  </a:lnTo>
                  <a:lnTo>
                    <a:pt x="3463" y="2064"/>
                  </a:lnTo>
                  <a:lnTo>
                    <a:pt x="3745" y="2381"/>
                  </a:lnTo>
                  <a:lnTo>
                    <a:pt x="4027" y="2780"/>
                  </a:lnTo>
                  <a:lnTo>
                    <a:pt x="4260" y="3131"/>
                  </a:lnTo>
                  <a:lnTo>
                    <a:pt x="4308" y="3143"/>
                  </a:lnTo>
                  <a:lnTo>
                    <a:pt x="4120" y="3191"/>
                  </a:lnTo>
                  <a:lnTo>
                    <a:pt x="4143" y="3237"/>
                  </a:lnTo>
                  <a:lnTo>
                    <a:pt x="4249" y="3472"/>
                  </a:lnTo>
                  <a:lnTo>
                    <a:pt x="4308" y="3577"/>
                  </a:lnTo>
                  <a:lnTo>
                    <a:pt x="4331" y="3648"/>
                  </a:lnTo>
                  <a:lnTo>
                    <a:pt x="4378" y="3682"/>
                  </a:lnTo>
                  <a:lnTo>
                    <a:pt x="4449" y="3661"/>
                  </a:lnTo>
                  <a:lnTo>
                    <a:pt x="4495" y="3589"/>
                  </a:lnTo>
                  <a:lnTo>
                    <a:pt x="4436" y="3472"/>
                  </a:lnTo>
                  <a:lnTo>
                    <a:pt x="4273" y="3307"/>
                  </a:lnTo>
                  <a:lnTo>
                    <a:pt x="4109" y="3191"/>
                  </a:lnTo>
                  <a:lnTo>
                    <a:pt x="4308" y="3143"/>
                  </a:lnTo>
                  <a:lnTo>
                    <a:pt x="4308" y="3179"/>
                  </a:lnTo>
                  <a:lnTo>
                    <a:pt x="4436" y="3355"/>
                  </a:lnTo>
                  <a:lnTo>
                    <a:pt x="4613" y="3624"/>
                  </a:lnTo>
                  <a:lnTo>
                    <a:pt x="4753" y="3895"/>
                  </a:lnTo>
                  <a:lnTo>
                    <a:pt x="4848" y="4094"/>
                  </a:lnTo>
                  <a:lnTo>
                    <a:pt x="4930" y="4363"/>
                  </a:lnTo>
                  <a:lnTo>
                    <a:pt x="4977" y="4576"/>
                  </a:lnTo>
                  <a:lnTo>
                    <a:pt x="4977" y="4774"/>
                  </a:lnTo>
                  <a:lnTo>
                    <a:pt x="4965" y="4939"/>
                  </a:lnTo>
                  <a:lnTo>
                    <a:pt x="5012" y="4892"/>
                  </a:lnTo>
                  <a:lnTo>
                    <a:pt x="5093" y="4786"/>
                  </a:lnTo>
                  <a:lnTo>
                    <a:pt x="5154" y="4645"/>
                  </a:lnTo>
                  <a:lnTo>
                    <a:pt x="5212" y="4610"/>
                  </a:lnTo>
                  <a:lnTo>
                    <a:pt x="5281" y="4621"/>
                  </a:lnTo>
                  <a:lnTo>
                    <a:pt x="5387" y="4586"/>
                  </a:lnTo>
                  <a:lnTo>
                    <a:pt x="5447" y="4492"/>
                  </a:lnTo>
                  <a:lnTo>
                    <a:pt x="5575" y="427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4842000" y="3882960"/>
              <a:ext cx="1476360" cy="1181160"/>
            </a:xfrm>
            <a:custGeom>
              <a:avLst/>
              <a:gdLst/>
              <a:ahLst/>
              <a:rect l="l" t="t" r="r" b="b"/>
              <a:pathLst>
                <a:path w="4649" h="3719">
                  <a:moveTo>
                    <a:pt x="2641" y="1279"/>
                  </a:moveTo>
                  <a:lnTo>
                    <a:pt x="2511" y="1349"/>
                  </a:lnTo>
                  <a:lnTo>
                    <a:pt x="2442" y="1327"/>
                  </a:lnTo>
                  <a:lnTo>
                    <a:pt x="2395" y="1233"/>
                  </a:lnTo>
                  <a:lnTo>
                    <a:pt x="2312" y="1174"/>
                  </a:lnTo>
                  <a:lnTo>
                    <a:pt x="2242" y="1138"/>
                  </a:lnTo>
                  <a:lnTo>
                    <a:pt x="2184" y="1115"/>
                  </a:lnTo>
                  <a:lnTo>
                    <a:pt x="2078" y="1079"/>
                  </a:lnTo>
                  <a:lnTo>
                    <a:pt x="1726" y="927"/>
                  </a:lnTo>
                  <a:lnTo>
                    <a:pt x="1609" y="869"/>
                  </a:lnTo>
                  <a:lnTo>
                    <a:pt x="881" y="494"/>
                  </a:lnTo>
                  <a:lnTo>
                    <a:pt x="809" y="446"/>
                  </a:lnTo>
                  <a:lnTo>
                    <a:pt x="764" y="399"/>
                  </a:lnTo>
                  <a:lnTo>
                    <a:pt x="728" y="352"/>
                  </a:lnTo>
                  <a:lnTo>
                    <a:pt x="716" y="317"/>
                  </a:lnTo>
                  <a:lnTo>
                    <a:pt x="716" y="258"/>
                  </a:lnTo>
                  <a:lnTo>
                    <a:pt x="728" y="236"/>
                  </a:lnTo>
                  <a:lnTo>
                    <a:pt x="740" y="212"/>
                  </a:lnTo>
                  <a:lnTo>
                    <a:pt x="775" y="188"/>
                  </a:lnTo>
                  <a:lnTo>
                    <a:pt x="704" y="200"/>
                  </a:lnTo>
                  <a:lnTo>
                    <a:pt x="670" y="212"/>
                  </a:lnTo>
                  <a:lnTo>
                    <a:pt x="634" y="258"/>
                  </a:lnTo>
                  <a:lnTo>
                    <a:pt x="610" y="317"/>
                  </a:lnTo>
                  <a:lnTo>
                    <a:pt x="622" y="364"/>
                  </a:lnTo>
                  <a:lnTo>
                    <a:pt x="646" y="423"/>
                  </a:lnTo>
                  <a:lnTo>
                    <a:pt x="693" y="505"/>
                  </a:lnTo>
                  <a:lnTo>
                    <a:pt x="809" y="599"/>
                  </a:lnTo>
                  <a:lnTo>
                    <a:pt x="1033" y="716"/>
                  </a:lnTo>
                  <a:lnTo>
                    <a:pt x="1561" y="1021"/>
                  </a:lnTo>
                  <a:lnTo>
                    <a:pt x="1949" y="1267"/>
                  </a:lnTo>
                  <a:lnTo>
                    <a:pt x="2277" y="1502"/>
                  </a:lnTo>
                  <a:lnTo>
                    <a:pt x="2583" y="1749"/>
                  </a:lnTo>
                  <a:lnTo>
                    <a:pt x="2829" y="1995"/>
                  </a:lnTo>
                  <a:lnTo>
                    <a:pt x="2947" y="2136"/>
                  </a:lnTo>
                  <a:lnTo>
                    <a:pt x="3334" y="2546"/>
                  </a:lnTo>
                  <a:lnTo>
                    <a:pt x="3591" y="2852"/>
                  </a:lnTo>
                  <a:lnTo>
                    <a:pt x="3886" y="3250"/>
                  </a:lnTo>
                  <a:lnTo>
                    <a:pt x="4037" y="3496"/>
                  </a:lnTo>
                  <a:lnTo>
                    <a:pt x="4108" y="3661"/>
                  </a:lnTo>
                  <a:lnTo>
                    <a:pt x="4085" y="3719"/>
                  </a:lnTo>
                  <a:lnTo>
                    <a:pt x="4037" y="3707"/>
                  </a:lnTo>
                  <a:lnTo>
                    <a:pt x="3804" y="3356"/>
                  </a:lnTo>
                  <a:lnTo>
                    <a:pt x="3522" y="2957"/>
                  </a:lnTo>
                  <a:lnTo>
                    <a:pt x="3240" y="2640"/>
                  </a:lnTo>
                  <a:lnTo>
                    <a:pt x="2970" y="2382"/>
                  </a:lnTo>
                  <a:lnTo>
                    <a:pt x="2593" y="2042"/>
                  </a:lnTo>
                  <a:lnTo>
                    <a:pt x="2112" y="1667"/>
                  </a:lnTo>
                  <a:lnTo>
                    <a:pt x="1609" y="1315"/>
                  </a:lnTo>
                  <a:lnTo>
                    <a:pt x="1279" y="1103"/>
                  </a:lnTo>
                  <a:lnTo>
                    <a:pt x="939" y="916"/>
                  </a:lnTo>
                  <a:lnTo>
                    <a:pt x="610" y="763"/>
                  </a:lnTo>
                  <a:lnTo>
                    <a:pt x="410" y="681"/>
                  </a:lnTo>
                  <a:lnTo>
                    <a:pt x="224" y="611"/>
                  </a:lnTo>
                  <a:lnTo>
                    <a:pt x="0" y="576"/>
                  </a:lnTo>
                  <a:lnTo>
                    <a:pt x="891" y="0"/>
                  </a:lnTo>
                  <a:lnTo>
                    <a:pt x="1033" y="48"/>
                  </a:lnTo>
                  <a:lnTo>
                    <a:pt x="1432" y="258"/>
                  </a:lnTo>
                  <a:lnTo>
                    <a:pt x="1796" y="470"/>
                  </a:lnTo>
                  <a:lnTo>
                    <a:pt x="1350" y="106"/>
                  </a:lnTo>
                  <a:lnTo>
                    <a:pt x="1761" y="306"/>
                  </a:lnTo>
                  <a:lnTo>
                    <a:pt x="2277" y="587"/>
                  </a:lnTo>
                  <a:lnTo>
                    <a:pt x="2630" y="821"/>
                  </a:lnTo>
                  <a:lnTo>
                    <a:pt x="3052" y="1115"/>
                  </a:lnTo>
                  <a:lnTo>
                    <a:pt x="3392" y="1409"/>
                  </a:lnTo>
                  <a:lnTo>
                    <a:pt x="3791" y="1773"/>
                  </a:lnTo>
                  <a:lnTo>
                    <a:pt x="4108" y="2100"/>
                  </a:lnTo>
                  <a:lnTo>
                    <a:pt x="4401" y="2453"/>
                  </a:lnTo>
                  <a:lnTo>
                    <a:pt x="4577" y="2722"/>
                  </a:lnTo>
                  <a:lnTo>
                    <a:pt x="4649" y="2863"/>
                  </a:lnTo>
                  <a:lnTo>
                    <a:pt x="4649" y="2898"/>
                  </a:lnTo>
                  <a:lnTo>
                    <a:pt x="4612" y="2898"/>
                  </a:lnTo>
                  <a:lnTo>
                    <a:pt x="4495" y="2804"/>
                  </a:lnTo>
                  <a:lnTo>
                    <a:pt x="4250" y="2535"/>
                  </a:lnTo>
                  <a:lnTo>
                    <a:pt x="3638" y="1948"/>
                  </a:lnTo>
                  <a:lnTo>
                    <a:pt x="3334" y="1678"/>
                  </a:lnTo>
                  <a:lnTo>
                    <a:pt x="2875" y="1279"/>
                  </a:lnTo>
                  <a:lnTo>
                    <a:pt x="2852" y="1197"/>
                  </a:lnTo>
                  <a:lnTo>
                    <a:pt x="2782" y="1127"/>
                  </a:lnTo>
                  <a:lnTo>
                    <a:pt x="2665" y="1045"/>
                  </a:lnTo>
                  <a:lnTo>
                    <a:pt x="2453" y="939"/>
                  </a:lnTo>
                  <a:lnTo>
                    <a:pt x="2570" y="1033"/>
                  </a:lnTo>
                  <a:lnTo>
                    <a:pt x="2688" y="1138"/>
                  </a:lnTo>
                  <a:lnTo>
                    <a:pt x="2699" y="1185"/>
                  </a:lnTo>
                  <a:lnTo>
                    <a:pt x="2688" y="1233"/>
                  </a:lnTo>
                  <a:lnTo>
                    <a:pt x="2641" y="1279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035680" y="3943440"/>
              <a:ext cx="1434960" cy="1460520"/>
            </a:xfrm>
            <a:custGeom>
              <a:avLst/>
              <a:gdLst/>
              <a:ahLst/>
              <a:rect l="l" t="t" r="r" b="b"/>
              <a:pathLst>
                <a:path w="4520" h="4600">
                  <a:moveTo>
                    <a:pt x="1890" y="1245"/>
                  </a:moveTo>
                  <a:lnTo>
                    <a:pt x="1914" y="1290"/>
                  </a:lnTo>
                  <a:lnTo>
                    <a:pt x="2055" y="1431"/>
                  </a:lnTo>
                  <a:lnTo>
                    <a:pt x="2242" y="1572"/>
                  </a:lnTo>
                  <a:lnTo>
                    <a:pt x="2818" y="2053"/>
                  </a:lnTo>
                  <a:lnTo>
                    <a:pt x="3369" y="2593"/>
                  </a:lnTo>
                  <a:lnTo>
                    <a:pt x="3662" y="2922"/>
                  </a:lnTo>
                  <a:lnTo>
                    <a:pt x="3698" y="2922"/>
                  </a:lnTo>
                  <a:lnTo>
                    <a:pt x="3827" y="3051"/>
                  </a:lnTo>
                  <a:lnTo>
                    <a:pt x="3861" y="3191"/>
                  </a:lnTo>
                  <a:lnTo>
                    <a:pt x="3851" y="3262"/>
                  </a:lnTo>
                  <a:lnTo>
                    <a:pt x="3815" y="3273"/>
                  </a:lnTo>
                  <a:lnTo>
                    <a:pt x="3640" y="3203"/>
                  </a:lnTo>
                  <a:lnTo>
                    <a:pt x="3569" y="3191"/>
                  </a:lnTo>
                  <a:lnTo>
                    <a:pt x="3616" y="3308"/>
                  </a:lnTo>
                  <a:lnTo>
                    <a:pt x="3874" y="3719"/>
                  </a:lnTo>
                  <a:lnTo>
                    <a:pt x="3957" y="3895"/>
                  </a:lnTo>
                  <a:lnTo>
                    <a:pt x="4039" y="4025"/>
                  </a:lnTo>
                  <a:lnTo>
                    <a:pt x="4085" y="4049"/>
                  </a:lnTo>
                  <a:lnTo>
                    <a:pt x="4191" y="4025"/>
                  </a:lnTo>
                  <a:lnTo>
                    <a:pt x="4249" y="4012"/>
                  </a:lnTo>
                  <a:lnTo>
                    <a:pt x="4332" y="4036"/>
                  </a:lnTo>
                  <a:lnTo>
                    <a:pt x="4390" y="4107"/>
                  </a:lnTo>
                  <a:lnTo>
                    <a:pt x="4460" y="4236"/>
                  </a:lnTo>
                  <a:lnTo>
                    <a:pt x="4520" y="4388"/>
                  </a:lnTo>
                  <a:lnTo>
                    <a:pt x="4508" y="4600"/>
                  </a:lnTo>
                  <a:lnTo>
                    <a:pt x="4448" y="4411"/>
                  </a:lnTo>
                  <a:lnTo>
                    <a:pt x="4366" y="4270"/>
                  </a:lnTo>
                  <a:lnTo>
                    <a:pt x="4297" y="4177"/>
                  </a:lnTo>
                  <a:lnTo>
                    <a:pt x="4202" y="4142"/>
                  </a:lnTo>
                  <a:lnTo>
                    <a:pt x="4155" y="4177"/>
                  </a:lnTo>
                  <a:lnTo>
                    <a:pt x="4132" y="4247"/>
                  </a:lnTo>
                  <a:lnTo>
                    <a:pt x="4108" y="4411"/>
                  </a:lnTo>
                  <a:lnTo>
                    <a:pt x="3957" y="4107"/>
                  </a:lnTo>
                  <a:lnTo>
                    <a:pt x="3791" y="3860"/>
                  </a:lnTo>
                  <a:lnTo>
                    <a:pt x="3640" y="3672"/>
                  </a:lnTo>
                  <a:lnTo>
                    <a:pt x="3475" y="3531"/>
                  </a:lnTo>
                  <a:lnTo>
                    <a:pt x="3498" y="3473"/>
                  </a:lnTo>
                  <a:lnTo>
                    <a:pt x="3427" y="3308"/>
                  </a:lnTo>
                  <a:lnTo>
                    <a:pt x="3276" y="3062"/>
                  </a:lnTo>
                  <a:lnTo>
                    <a:pt x="2981" y="2664"/>
                  </a:lnTo>
                  <a:lnTo>
                    <a:pt x="2724" y="2358"/>
                  </a:lnTo>
                  <a:lnTo>
                    <a:pt x="2337" y="1948"/>
                  </a:lnTo>
                  <a:lnTo>
                    <a:pt x="2219" y="1807"/>
                  </a:lnTo>
                  <a:lnTo>
                    <a:pt x="1973" y="1561"/>
                  </a:lnTo>
                  <a:lnTo>
                    <a:pt x="1667" y="1314"/>
                  </a:lnTo>
                  <a:lnTo>
                    <a:pt x="1339" y="1079"/>
                  </a:lnTo>
                  <a:lnTo>
                    <a:pt x="951" y="833"/>
                  </a:lnTo>
                  <a:lnTo>
                    <a:pt x="423" y="528"/>
                  </a:lnTo>
                  <a:lnTo>
                    <a:pt x="199" y="411"/>
                  </a:lnTo>
                  <a:lnTo>
                    <a:pt x="83" y="317"/>
                  </a:lnTo>
                  <a:lnTo>
                    <a:pt x="36" y="235"/>
                  </a:lnTo>
                  <a:lnTo>
                    <a:pt x="12" y="176"/>
                  </a:lnTo>
                  <a:lnTo>
                    <a:pt x="0" y="129"/>
                  </a:lnTo>
                  <a:lnTo>
                    <a:pt x="24" y="70"/>
                  </a:lnTo>
                  <a:lnTo>
                    <a:pt x="60" y="24"/>
                  </a:lnTo>
                  <a:lnTo>
                    <a:pt x="94" y="12"/>
                  </a:lnTo>
                  <a:lnTo>
                    <a:pt x="165" y="0"/>
                  </a:lnTo>
                  <a:lnTo>
                    <a:pt x="130" y="24"/>
                  </a:lnTo>
                  <a:lnTo>
                    <a:pt x="118" y="48"/>
                  </a:lnTo>
                  <a:lnTo>
                    <a:pt x="106" y="70"/>
                  </a:lnTo>
                  <a:lnTo>
                    <a:pt x="106" y="129"/>
                  </a:lnTo>
                  <a:lnTo>
                    <a:pt x="118" y="164"/>
                  </a:lnTo>
                  <a:lnTo>
                    <a:pt x="154" y="211"/>
                  </a:lnTo>
                  <a:lnTo>
                    <a:pt x="199" y="258"/>
                  </a:lnTo>
                  <a:lnTo>
                    <a:pt x="271" y="306"/>
                  </a:lnTo>
                  <a:lnTo>
                    <a:pt x="999" y="681"/>
                  </a:lnTo>
                  <a:lnTo>
                    <a:pt x="1116" y="739"/>
                  </a:lnTo>
                  <a:lnTo>
                    <a:pt x="1468" y="891"/>
                  </a:lnTo>
                  <a:lnTo>
                    <a:pt x="1574" y="927"/>
                  </a:lnTo>
                  <a:lnTo>
                    <a:pt x="1632" y="950"/>
                  </a:lnTo>
                  <a:lnTo>
                    <a:pt x="1702" y="986"/>
                  </a:lnTo>
                  <a:lnTo>
                    <a:pt x="1785" y="1045"/>
                  </a:lnTo>
                  <a:lnTo>
                    <a:pt x="1832" y="1139"/>
                  </a:lnTo>
                  <a:lnTo>
                    <a:pt x="1901" y="1161"/>
                  </a:lnTo>
                  <a:lnTo>
                    <a:pt x="2031" y="1091"/>
                  </a:lnTo>
                  <a:lnTo>
                    <a:pt x="1890" y="1245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635800" y="4308480"/>
              <a:ext cx="793440" cy="703080"/>
            </a:xfrm>
            <a:custGeom>
              <a:avLst/>
              <a:gdLst/>
              <a:ahLst/>
              <a:rect l="l" t="t" r="r" b="b"/>
              <a:pathLst>
                <a:path w="2500" h="2219">
                  <a:moveTo>
                    <a:pt x="0" y="83"/>
                  </a:moveTo>
                  <a:lnTo>
                    <a:pt x="130" y="24"/>
                  </a:lnTo>
                  <a:lnTo>
                    <a:pt x="247" y="0"/>
                  </a:lnTo>
                  <a:lnTo>
                    <a:pt x="329" y="24"/>
                  </a:lnTo>
                  <a:lnTo>
                    <a:pt x="810" y="447"/>
                  </a:lnTo>
                  <a:lnTo>
                    <a:pt x="1268" y="904"/>
                  </a:lnTo>
                  <a:lnTo>
                    <a:pt x="1561" y="1257"/>
                  </a:lnTo>
                  <a:lnTo>
                    <a:pt x="1702" y="1444"/>
                  </a:lnTo>
                  <a:lnTo>
                    <a:pt x="1761" y="1573"/>
                  </a:lnTo>
                  <a:lnTo>
                    <a:pt x="1808" y="1584"/>
                  </a:lnTo>
                  <a:lnTo>
                    <a:pt x="1877" y="1573"/>
                  </a:lnTo>
                  <a:lnTo>
                    <a:pt x="1971" y="1584"/>
                  </a:lnTo>
                  <a:lnTo>
                    <a:pt x="2090" y="1643"/>
                  </a:lnTo>
                  <a:lnTo>
                    <a:pt x="2230" y="1737"/>
                  </a:lnTo>
                  <a:lnTo>
                    <a:pt x="2431" y="1924"/>
                  </a:lnTo>
                  <a:lnTo>
                    <a:pt x="2489" y="2042"/>
                  </a:lnTo>
                  <a:lnTo>
                    <a:pt x="2500" y="2124"/>
                  </a:lnTo>
                  <a:lnTo>
                    <a:pt x="2489" y="2195"/>
                  </a:lnTo>
                  <a:lnTo>
                    <a:pt x="2465" y="2219"/>
                  </a:lnTo>
                  <a:lnTo>
                    <a:pt x="2394" y="2195"/>
                  </a:lnTo>
                  <a:lnTo>
                    <a:pt x="2242" y="1984"/>
                  </a:lnTo>
                  <a:lnTo>
                    <a:pt x="2112" y="1855"/>
                  </a:lnTo>
                  <a:lnTo>
                    <a:pt x="1913" y="1702"/>
                  </a:lnTo>
                  <a:lnTo>
                    <a:pt x="1831" y="1679"/>
                  </a:lnTo>
                  <a:lnTo>
                    <a:pt x="1819" y="1679"/>
                  </a:lnTo>
                  <a:lnTo>
                    <a:pt x="1808" y="1714"/>
                  </a:lnTo>
                  <a:lnTo>
                    <a:pt x="1808" y="1773"/>
                  </a:lnTo>
                  <a:lnTo>
                    <a:pt x="1772" y="1773"/>
                  </a:lnTo>
                  <a:lnTo>
                    <a:pt x="1479" y="1444"/>
                  </a:lnTo>
                  <a:lnTo>
                    <a:pt x="928" y="904"/>
                  </a:lnTo>
                  <a:lnTo>
                    <a:pt x="352" y="423"/>
                  </a:lnTo>
                  <a:lnTo>
                    <a:pt x="165" y="282"/>
                  </a:lnTo>
                  <a:lnTo>
                    <a:pt x="24" y="141"/>
                  </a:lnTo>
                  <a:lnTo>
                    <a:pt x="0" y="96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4600" y="3849840"/>
              <a:ext cx="1442880" cy="1643040"/>
            </a:xfrm>
            <a:custGeom>
              <a:avLst/>
              <a:gdLst/>
              <a:ahLst/>
              <a:rect l="l" t="t" r="r" b="b"/>
              <a:pathLst>
                <a:path w="4543" h="5173">
                  <a:moveTo>
                    <a:pt x="189" y="0"/>
                  </a:moveTo>
                  <a:lnTo>
                    <a:pt x="424" y="83"/>
                  </a:lnTo>
                  <a:lnTo>
                    <a:pt x="694" y="200"/>
                  </a:lnTo>
                  <a:lnTo>
                    <a:pt x="987" y="352"/>
                  </a:lnTo>
                  <a:lnTo>
                    <a:pt x="1399" y="575"/>
                  </a:lnTo>
                  <a:lnTo>
                    <a:pt x="1808" y="833"/>
                  </a:lnTo>
                  <a:lnTo>
                    <a:pt x="2278" y="1162"/>
                  </a:lnTo>
                  <a:lnTo>
                    <a:pt x="2806" y="1630"/>
                  </a:lnTo>
                  <a:lnTo>
                    <a:pt x="3311" y="2159"/>
                  </a:lnTo>
                  <a:lnTo>
                    <a:pt x="3676" y="2640"/>
                  </a:lnTo>
                  <a:lnTo>
                    <a:pt x="3945" y="3039"/>
                  </a:lnTo>
                  <a:lnTo>
                    <a:pt x="4133" y="3366"/>
                  </a:lnTo>
                  <a:lnTo>
                    <a:pt x="4333" y="3766"/>
                  </a:lnTo>
                  <a:lnTo>
                    <a:pt x="4473" y="4165"/>
                  </a:lnTo>
                  <a:lnTo>
                    <a:pt x="4520" y="4363"/>
                  </a:lnTo>
                  <a:lnTo>
                    <a:pt x="4543" y="4563"/>
                  </a:lnTo>
                  <a:lnTo>
                    <a:pt x="4543" y="4681"/>
                  </a:lnTo>
                  <a:lnTo>
                    <a:pt x="4508" y="4821"/>
                  </a:lnTo>
                  <a:lnTo>
                    <a:pt x="4461" y="4951"/>
                  </a:lnTo>
                  <a:lnTo>
                    <a:pt x="4333" y="5173"/>
                  </a:lnTo>
                  <a:lnTo>
                    <a:pt x="4449" y="4821"/>
                  </a:lnTo>
                  <a:lnTo>
                    <a:pt x="4473" y="4621"/>
                  </a:lnTo>
                  <a:lnTo>
                    <a:pt x="4426" y="4446"/>
                  </a:lnTo>
                  <a:lnTo>
                    <a:pt x="4356" y="4281"/>
                  </a:lnTo>
                  <a:lnTo>
                    <a:pt x="4250" y="4153"/>
                  </a:lnTo>
                  <a:lnTo>
                    <a:pt x="4156" y="4094"/>
                  </a:lnTo>
                  <a:lnTo>
                    <a:pt x="3968" y="3801"/>
                  </a:lnTo>
                  <a:lnTo>
                    <a:pt x="3839" y="3624"/>
                  </a:lnTo>
                  <a:lnTo>
                    <a:pt x="3734" y="3496"/>
                  </a:lnTo>
                  <a:lnTo>
                    <a:pt x="3546" y="3344"/>
                  </a:lnTo>
                  <a:lnTo>
                    <a:pt x="3417" y="3215"/>
                  </a:lnTo>
                  <a:lnTo>
                    <a:pt x="3417" y="3156"/>
                  </a:lnTo>
                  <a:lnTo>
                    <a:pt x="3428" y="3121"/>
                  </a:lnTo>
                  <a:lnTo>
                    <a:pt x="3440" y="3121"/>
                  </a:lnTo>
                  <a:lnTo>
                    <a:pt x="3522" y="3144"/>
                  </a:lnTo>
                  <a:lnTo>
                    <a:pt x="3721" y="3297"/>
                  </a:lnTo>
                  <a:lnTo>
                    <a:pt x="3851" y="3426"/>
                  </a:lnTo>
                  <a:lnTo>
                    <a:pt x="4003" y="3637"/>
                  </a:lnTo>
                  <a:lnTo>
                    <a:pt x="4074" y="3661"/>
                  </a:lnTo>
                  <a:lnTo>
                    <a:pt x="4098" y="3637"/>
                  </a:lnTo>
                  <a:lnTo>
                    <a:pt x="4109" y="3566"/>
                  </a:lnTo>
                  <a:lnTo>
                    <a:pt x="4098" y="3484"/>
                  </a:lnTo>
                  <a:lnTo>
                    <a:pt x="4040" y="3366"/>
                  </a:lnTo>
                  <a:lnTo>
                    <a:pt x="3839" y="3179"/>
                  </a:lnTo>
                  <a:lnTo>
                    <a:pt x="3699" y="3085"/>
                  </a:lnTo>
                  <a:lnTo>
                    <a:pt x="3580" y="3026"/>
                  </a:lnTo>
                  <a:lnTo>
                    <a:pt x="3486" y="3015"/>
                  </a:lnTo>
                  <a:lnTo>
                    <a:pt x="3417" y="3026"/>
                  </a:lnTo>
                  <a:lnTo>
                    <a:pt x="3370" y="3015"/>
                  </a:lnTo>
                  <a:lnTo>
                    <a:pt x="3311" y="2886"/>
                  </a:lnTo>
                  <a:lnTo>
                    <a:pt x="3170" y="2699"/>
                  </a:lnTo>
                  <a:lnTo>
                    <a:pt x="2877" y="2346"/>
                  </a:lnTo>
                  <a:lnTo>
                    <a:pt x="2419" y="1889"/>
                  </a:lnTo>
                  <a:lnTo>
                    <a:pt x="1938" y="1466"/>
                  </a:lnTo>
                  <a:lnTo>
                    <a:pt x="1856" y="1442"/>
                  </a:lnTo>
                  <a:lnTo>
                    <a:pt x="1739" y="1466"/>
                  </a:lnTo>
                  <a:lnTo>
                    <a:pt x="1609" y="1525"/>
                  </a:lnTo>
                  <a:lnTo>
                    <a:pt x="1762" y="1372"/>
                  </a:lnTo>
                  <a:lnTo>
                    <a:pt x="1797" y="1338"/>
                  </a:lnTo>
                  <a:lnTo>
                    <a:pt x="1808" y="1290"/>
                  </a:lnTo>
                  <a:lnTo>
                    <a:pt x="1797" y="1243"/>
                  </a:lnTo>
                  <a:lnTo>
                    <a:pt x="1679" y="1138"/>
                  </a:lnTo>
                  <a:lnTo>
                    <a:pt x="1562" y="1044"/>
                  </a:lnTo>
                  <a:lnTo>
                    <a:pt x="1774" y="1150"/>
                  </a:lnTo>
                  <a:lnTo>
                    <a:pt x="1891" y="1232"/>
                  </a:lnTo>
                  <a:lnTo>
                    <a:pt x="1961" y="1302"/>
                  </a:lnTo>
                  <a:lnTo>
                    <a:pt x="1984" y="1384"/>
                  </a:lnTo>
                  <a:lnTo>
                    <a:pt x="2443" y="1783"/>
                  </a:lnTo>
                  <a:lnTo>
                    <a:pt x="2747" y="2053"/>
                  </a:lnTo>
                  <a:lnTo>
                    <a:pt x="3359" y="2640"/>
                  </a:lnTo>
                  <a:lnTo>
                    <a:pt x="3604" y="2909"/>
                  </a:lnTo>
                  <a:lnTo>
                    <a:pt x="3721" y="3003"/>
                  </a:lnTo>
                  <a:lnTo>
                    <a:pt x="3758" y="3003"/>
                  </a:lnTo>
                  <a:lnTo>
                    <a:pt x="3758" y="2968"/>
                  </a:lnTo>
                  <a:lnTo>
                    <a:pt x="3686" y="2827"/>
                  </a:lnTo>
                  <a:lnTo>
                    <a:pt x="3510" y="2558"/>
                  </a:lnTo>
                  <a:lnTo>
                    <a:pt x="3217" y="2205"/>
                  </a:lnTo>
                  <a:lnTo>
                    <a:pt x="2900" y="1878"/>
                  </a:lnTo>
                  <a:lnTo>
                    <a:pt x="2501" y="1514"/>
                  </a:lnTo>
                  <a:lnTo>
                    <a:pt x="2161" y="1220"/>
                  </a:lnTo>
                  <a:lnTo>
                    <a:pt x="1739" y="926"/>
                  </a:lnTo>
                  <a:lnTo>
                    <a:pt x="1386" y="692"/>
                  </a:lnTo>
                  <a:lnTo>
                    <a:pt x="870" y="411"/>
                  </a:lnTo>
                  <a:lnTo>
                    <a:pt x="459" y="211"/>
                  </a:lnTo>
                  <a:lnTo>
                    <a:pt x="905" y="575"/>
                  </a:lnTo>
                  <a:lnTo>
                    <a:pt x="541" y="363"/>
                  </a:lnTo>
                  <a:lnTo>
                    <a:pt x="142" y="153"/>
                  </a:lnTo>
                  <a:lnTo>
                    <a:pt x="0" y="105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4968720" y="3819600"/>
              <a:ext cx="201600" cy="5724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457" y="178"/>
                  </a:moveTo>
                  <a:lnTo>
                    <a:pt x="270" y="106"/>
                  </a:lnTo>
                  <a:lnTo>
                    <a:pt x="82" y="60"/>
                  </a:lnTo>
                  <a:lnTo>
                    <a:pt x="0" y="48"/>
                  </a:lnTo>
                  <a:lnTo>
                    <a:pt x="164" y="0"/>
                  </a:lnTo>
                  <a:lnTo>
                    <a:pt x="304" y="0"/>
                  </a:lnTo>
                  <a:lnTo>
                    <a:pt x="491" y="37"/>
                  </a:lnTo>
                  <a:lnTo>
                    <a:pt x="633" y="72"/>
                  </a:lnTo>
                  <a:lnTo>
                    <a:pt x="457" y="178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075360" y="5079960"/>
              <a:ext cx="123840" cy="155520"/>
            </a:xfrm>
            <a:custGeom>
              <a:avLst/>
              <a:gdLst/>
              <a:ahLst/>
              <a:rect l="l" t="t" r="r" b="b"/>
              <a:pathLst>
                <a:path w="386" h="491">
                  <a:moveTo>
                    <a:pt x="11" y="0"/>
                  </a:moveTo>
                  <a:lnTo>
                    <a:pt x="34" y="46"/>
                  </a:lnTo>
                  <a:lnTo>
                    <a:pt x="140" y="281"/>
                  </a:lnTo>
                  <a:lnTo>
                    <a:pt x="199" y="386"/>
                  </a:lnTo>
                  <a:lnTo>
                    <a:pt x="222" y="457"/>
                  </a:lnTo>
                  <a:lnTo>
                    <a:pt x="269" y="491"/>
                  </a:lnTo>
                  <a:lnTo>
                    <a:pt x="340" y="470"/>
                  </a:lnTo>
                  <a:lnTo>
                    <a:pt x="386" y="398"/>
                  </a:lnTo>
                  <a:lnTo>
                    <a:pt x="327" y="281"/>
                  </a:lnTo>
                  <a:lnTo>
                    <a:pt x="164" y="116"/>
                  </a:ln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6138720" y="4911840"/>
              <a:ext cx="406440" cy="722160"/>
            </a:xfrm>
            <a:custGeom>
              <a:avLst/>
              <a:gdLst/>
              <a:ahLst/>
              <a:rect l="l" t="t" r="r" b="b"/>
              <a:pathLst>
                <a:path w="1279" h="2276">
                  <a:moveTo>
                    <a:pt x="0" y="516"/>
                  </a:moveTo>
                  <a:lnTo>
                    <a:pt x="128" y="692"/>
                  </a:lnTo>
                  <a:lnTo>
                    <a:pt x="305" y="961"/>
                  </a:lnTo>
                  <a:lnTo>
                    <a:pt x="445" y="1232"/>
                  </a:lnTo>
                  <a:lnTo>
                    <a:pt x="540" y="1431"/>
                  </a:lnTo>
                  <a:lnTo>
                    <a:pt x="622" y="1700"/>
                  </a:lnTo>
                  <a:lnTo>
                    <a:pt x="669" y="1913"/>
                  </a:lnTo>
                  <a:lnTo>
                    <a:pt x="669" y="2111"/>
                  </a:lnTo>
                  <a:lnTo>
                    <a:pt x="657" y="2276"/>
                  </a:lnTo>
                  <a:lnTo>
                    <a:pt x="704" y="2229"/>
                  </a:lnTo>
                  <a:lnTo>
                    <a:pt x="785" y="2123"/>
                  </a:lnTo>
                  <a:lnTo>
                    <a:pt x="846" y="1982"/>
                  </a:lnTo>
                  <a:lnTo>
                    <a:pt x="904" y="1947"/>
                  </a:lnTo>
                  <a:lnTo>
                    <a:pt x="973" y="1958"/>
                  </a:lnTo>
                  <a:lnTo>
                    <a:pt x="1079" y="1923"/>
                  </a:lnTo>
                  <a:lnTo>
                    <a:pt x="1139" y="1829"/>
                  </a:lnTo>
                  <a:lnTo>
                    <a:pt x="1255" y="1477"/>
                  </a:lnTo>
                  <a:lnTo>
                    <a:pt x="1279" y="1277"/>
                  </a:lnTo>
                  <a:lnTo>
                    <a:pt x="1232" y="1102"/>
                  </a:lnTo>
                  <a:lnTo>
                    <a:pt x="1162" y="937"/>
                  </a:lnTo>
                  <a:lnTo>
                    <a:pt x="1056" y="809"/>
                  </a:lnTo>
                  <a:lnTo>
                    <a:pt x="962" y="750"/>
                  </a:lnTo>
                  <a:lnTo>
                    <a:pt x="774" y="457"/>
                  </a:lnTo>
                  <a:lnTo>
                    <a:pt x="645" y="280"/>
                  </a:lnTo>
                  <a:lnTo>
                    <a:pt x="540" y="152"/>
                  </a:lnTo>
                  <a:lnTo>
                    <a:pt x="352" y="0"/>
                  </a:lnTo>
                  <a:lnTo>
                    <a:pt x="386" y="140"/>
                  </a:lnTo>
                  <a:lnTo>
                    <a:pt x="376" y="211"/>
                  </a:lnTo>
                  <a:lnTo>
                    <a:pt x="340" y="222"/>
                  </a:lnTo>
                  <a:lnTo>
                    <a:pt x="165" y="152"/>
                  </a:lnTo>
                  <a:lnTo>
                    <a:pt x="94" y="140"/>
                  </a:lnTo>
                  <a:lnTo>
                    <a:pt x="141" y="257"/>
                  </a:lnTo>
                  <a:lnTo>
                    <a:pt x="399" y="668"/>
                  </a:lnTo>
                  <a:lnTo>
                    <a:pt x="482" y="844"/>
                  </a:lnTo>
                  <a:lnTo>
                    <a:pt x="564" y="974"/>
                  </a:lnTo>
                  <a:lnTo>
                    <a:pt x="610" y="998"/>
                  </a:lnTo>
                  <a:lnTo>
                    <a:pt x="716" y="974"/>
                  </a:lnTo>
                  <a:lnTo>
                    <a:pt x="774" y="961"/>
                  </a:lnTo>
                  <a:lnTo>
                    <a:pt x="857" y="985"/>
                  </a:lnTo>
                  <a:lnTo>
                    <a:pt x="915" y="1056"/>
                  </a:lnTo>
                  <a:lnTo>
                    <a:pt x="985" y="1185"/>
                  </a:lnTo>
                  <a:lnTo>
                    <a:pt x="1045" y="1337"/>
                  </a:lnTo>
                  <a:lnTo>
                    <a:pt x="1033" y="1549"/>
                  </a:lnTo>
                  <a:lnTo>
                    <a:pt x="973" y="1360"/>
                  </a:lnTo>
                  <a:lnTo>
                    <a:pt x="891" y="1219"/>
                  </a:lnTo>
                  <a:lnTo>
                    <a:pt x="822" y="1126"/>
                  </a:lnTo>
                  <a:lnTo>
                    <a:pt x="727" y="1091"/>
                  </a:lnTo>
                  <a:lnTo>
                    <a:pt x="680" y="1126"/>
                  </a:lnTo>
                  <a:lnTo>
                    <a:pt x="657" y="1196"/>
                  </a:lnTo>
                  <a:lnTo>
                    <a:pt x="633" y="1360"/>
                  </a:lnTo>
                  <a:lnTo>
                    <a:pt x="482" y="1056"/>
                  </a:lnTo>
                  <a:lnTo>
                    <a:pt x="316" y="809"/>
                  </a:lnTo>
                  <a:lnTo>
                    <a:pt x="165" y="621"/>
                  </a:lnTo>
                  <a:lnTo>
                    <a:pt x="0" y="480"/>
                  </a:lnTo>
                  <a:lnTo>
                    <a:pt x="0" y="516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411880" y="5276880"/>
              <a:ext cx="48960" cy="4752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0" y="106"/>
                  </a:moveTo>
                  <a:lnTo>
                    <a:pt x="117" y="0"/>
                  </a:lnTo>
                  <a:lnTo>
                    <a:pt x="153" y="24"/>
                  </a:lnTo>
                  <a:lnTo>
                    <a:pt x="58" y="152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613480" y="5072040"/>
              <a:ext cx="55440" cy="5544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76" y="82"/>
                  </a:moveTo>
                  <a:lnTo>
                    <a:pt x="105" y="0"/>
                  </a:lnTo>
                  <a:lnTo>
                    <a:pt x="0" y="175"/>
                  </a:lnTo>
                  <a:lnTo>
                    <a:pt x="176" y="82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  <a:close/>
                </a:path>
              </a:pathLst>
            </a:custGeom>
            <a:solidFill>
              <a:srgbClr val="f1e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637160" y="3835440"/>
              <a:ext cx="477720" cy="298440"/>
            </a:xfrm>
            <a:custGeom>
              <a:avLst/>
              <a:gdLst/>
              <a:ahLst/>
              <a:rect l="l" t="t" r="r" b="b"/>
              <a:pathLst>
                <a:path w="1502" h="939">
                  <a:moveTo>
                    <a:pt x="1502" y="130"/>
                  </a:moveTo>
                  <a:lnTo>
                    <a:pt x="1315" y="58"/>
                  </a:lnTo>
                  <a:lnTo>
                    <a:pt x="1127" y="12"/>
                  </a:lnTo>
                  <a:lnTo>
                    <a:pt x="1045" y="0"/>
                  </a:lnTo>
                  <a:lnTo>
                    <a:pt x="974" y="0"/>
                  </a:lnTo>
                  <a:lnTo>
                    <a:pt x="763" y="24"/>
                  </a:lnTo>
                  <a:lnTo>
                    <a:pt x="598" y="70"/>
                  </a:lnTo>
                  <a:lnTo>
                    <a:pt x="422" y="164"/>
                  </a:lnTo>
                  <a:lnTo>
                    <a:pt x="294" y="258"/>
                  </a:lnTo>
                  <a:lnTo>
                    <a:pt x="140" y="434"/>
                  </a:lnTo>
                  <a:lnTo>
                    <a:pt x="12" y="633"/>
                  </a:lnTo>
                  <a:lnTo>
                    <a:pt x="0" y="939"/>
                  </a:lnTo>
                  <a:lnTo>
                    <a:pt x="70" y="845"/>
                  </a:lnTo>
                  <a:lnTo>
                    <a:pt x="140" y="798"/>
                  </a:lnTo>
                  <a:lnTo>
                    <a:pt x="246" y="739"/>
                  </a:lnTo>
                  <a:lnTo>
                    <a:pt x="352" y="704"/>
                  </a:lnTo>
                  <a:lnTo>
                    <a:pt x="539" y="692"/>
                  </a:lnTo>
                  <a:lnTo>
                    <a:pt x="1502" y="130"/>
                  </a:lnTo>
                </a:path>
              </a:pathLst>
            </a:custGeom>
            <a:noFill/>
            <a:ln w="0">
              <a:solidFill>
                <a:srgbClr val="eae32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33920" y="4054320"/>
              <a:ext cx="174600" cy="104760"/>
            </a:xfrm>
            <a:custGeom>
              <a:avLst/>
              <a:gdLst/>
              <a:ahLst/>
              <a:rect l="l" t="t" r="r" b="b"/>
              <a:pathLst>
                <a:path w="551" h="329">
                  <a:moveTo>
                    <a:pt x="0" y="329"/>
                  </a:moveTo>
                  <a:lnTo>
                    <a:pt x="12" y="247"/>
                  </a:lnTo>
                  <a:lnTo>
                    <a:pt x="82" y="153"/>
                  </a:lnTo>
                  <a:lnTo>
                    <a:pt x="152" y="106"/>
                  </a:lnTo>
                  <a:lnTo>
                    <a:pt x="258" y="47"/>
                  </a:lnTo>
                  <a:lnTo>
                    <a:pt x="364" y="12"/>
                  </a:lnTo>
                  <a:lnTo>
                    <a:pt x="551" y="0"/>
                  </a:lnTo>
                  <a:lnTo>
                    <a:pt x="0" y="329"/>
                  </a:lnTo>
                </a:path>
              </a:pathLst>
            </a:custGeom>
            <a:noFill/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7000" y="3619440"/>
              <a:ext cx="1657080" cy="1038240"/>
            </a:xfrm>
            <a:custGeom>
              <a:avLst/>
              <a:gdLst/>
              <a:ahLst/>
              <a:rect l="l" t="t" r="r" b="b"/>
              <a:pathLst>
                <a:path w="5223" h="3273">
                  <a:moveTo>
                    <a:pt x="3909" y="1854"/>
                  </a:moveTo>
                  <a:lnTo>
                    <a:pt x="3474" y="1854"/>
                  </a:lnTo>
                  <a:lnTo>
                    <a:pt x="3028" y="1854"/>
                  </a:lnTo>
                  <a:lnTo>
                    <a:pt x="2641" y="1854"/>
                  </a:lnTo>
                  <a:lnTo>
                    <a:pt x="2817" y="2206"/>
                  </a:lnTo>
                  <a:lnTo>
                    <a:pt x="2888" y="2348"/>
                  </a:lnTo>
                  <a:lnTo>
                    <a:pt x="3052" y="2651"/>
                  </a:lnTo>
                  <a:lnTo>
                    <a:pt x="3346" y="3227"/>
                  </a:lnTo>
                  <a:lnTo>
                    <a:pt x="3006" y="2699"/>
                  </a:lnTo>
                  <a:lnTo>
                    <a:pt x="2547" y="1948"/>
                  </a:lnTo>
                  <a:lnTo>
                    <a:pt x="2513" y="2300"/>
                  </a:lnTo>
                  <a:lnTo>
                    <a:pt x="2431" y="3004"/>
                  </a:lnTo>
                  <a:lnTo>
                    <a:pt x="2489" y="1890"/>
                  </a:lnTo>
                  <a:lnTo>
                    <a:pt x="2231" y="2042"/>
                  </a:lnTo>
                  <a:lnTo>
                    <a:pt x="1726" y="2311"/>
                  </a:lnTo>
                  <a:lnTo>
                    <a:pt x="0" y="3273"/>
                  </a:lnTo>
                  <a:lnTo>
                    <a:pt x="1785" y="2194"/>
                  </a:lnTo>
                  <a:lnTo>
                    <a:pt x="2219" y="1936"/>
                  </a:lnTo>
                  <a:lnTo>
                    <a:pt x="2407" y="1819"/>
                  </a:lnTo>
                  <a:lnTo>
                    <a:pt x="2173" y="1808"/>
                  </a:lnTo>
                  <a:lnTo>
                    <a:pt x="1890" y="1772"/>
                  </a:lnTo>
                  <a:lnTo>
                    <a:pt x="1244" y="1712"/>
                  </a:lnTo>
                  <a:lnTo>
                    <a:pt x="1890" y="1749"/>
                  </a:lnTo>
                  <a:lnTo>
                    <a:pt x="2136" y="1760"/>
                  </a:lnTo>
                  <a:lnTo>
                    <a:pt x="2442" y="1772"/>
                  </a:lnTo>
                  <a:lnTo>
                    <a:pt x="1984" y="997"/>
                  </a:lnTo>
                  <a:lnTo>
                    <a:pt x="1503" y="176"/>
                  </a:lnTo>
                  <a:lnTo>
                    <a:pt x="2090" y="1033"/>
                  </a:lnTo>
                  <a:lnTo>
                    <a:pt x="2513" y="1643"/>
                  </a:lnTo>
                  <a:lnTo>
                    <a:pt x="2524" y="1667"/>
                  </a:lnTo>
                  <a:lnTo>
                    <a:pt x="2700" y="0"/>
                  </a:lnTo>
                  <a:lnTo>
                    <a:pt x="2630" y="1314"/>
                  </a:lnTo>
                  <a:lnTo>
                    <a:pt x="2618" y="1620"/>
                  </a:lnTo>
                  <a:lnTo>
                    <a:pt x="2606" y="1702"/>
                  </a:lnTo>
                  <a:lnTo>
                    <a:pt x="3157" y="1373"/>
                  </a:lnTo>
                  <a:lnTo>
                    <a:pt x="4120" y="811"/>
                  </a:lnTo>
                  <a:lnTo>
                    <a:pt x="4296" y="705"/>
                  </a:lnTo>
                  <a:lnTo>
                    <a:pt x="5223" y="165"/>
                  </a:lnTo>
                  <a:lnTo>
                    <a:pt x="4343" y="728"/>
                  </a:lnTo>
                  <a:lnTo>
                    <a:pt x="4154" y="833"/>
                  </a:lnTo>
                  <a:lnTo>
                    <a:pt x="3263" y="1409"/>
                  </a:lnTo>
                  <a:lnTo>
                    <a:pt x="3040" y="1538"/>
                  </a:lnTo>
                  <a:lnTo>
                    <a:pt x="2912" y="1630"/>
                  </a:lnTo>
                  <a:lnTo>
                    <a:pt x="2641" y="1796"/>
                  </a:lnTo>
                  <a:lnTo>
                    <a:pt x="3088" y="1819"/>
                  </a:lnTo>
                  <a:lnTo>
                    <a:pt x="3428" y="1830"/>
                  </a:lnTo>
                  <a:lnTo>
                    <a:pt x="3639" y="1842"/>
                  </a:lnTo>
                  <a:lnTo>
                    <a:pt x="3909" y="1854"/>
                  </a:lnTo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H="1">
              <a:off x="5132160" y="4862520"/>
              <a:ext cx="137880" cy="165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5051160" y="4646520"/>
              <a:ext cx="245880" cy="279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5076360" y="4718160"/>
              <a:ext cx="212760" cy="2379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5035680" y="4627080"/>
              <a:ext cx="245880" cy="27324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V="1">
              <a:off x="5029200" y="4617720"/>
              <a:ext cx="237960" cy="2667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5915160" y="5335200"/>
              <a:ext cx="160200" cy="1983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5897520" y="5329080"/>
              <a:ext cx="155520" cy="19368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5931000" y="5310000"/>
              <a:ext cx="88920" cy="115560"/>
            </a:xfrm>
            <a:prstGeom prst="line">
              <a:avLst/>
            </a:prstGeom>
            <a:ln w="0">
              <a:solidFill>
                <a:srgbClr val="23282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3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"/>
          <p:cNvSpPr/>
          <p:nvPr/>
        </p:nvSpPr>
        <p:spPr>
          <a:xfrm>
            <a:off x="2472840" y="2108160"/>
            <a:ext cx="4220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URGE ORIENTATE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1" name=""/>
          <p:cNvGrpSpPr/>
          <p:nvPr/>
        </p:nvGrpSpPr>
        <p:grpSpPr>
          <a:xfrm>
            <a:off x="1435320" y="3429000"/>
            <a:ext cx="6271920" cy="2277360"/>
            <a:chOff x="1435320" y="3429000"/>
            <a:chExt cx="6271920" cy="2277360"/>
          </a:xfrm>
        </p:grpSpPr>
        <p:sp>
          <p:nvSpPr>
            <p:cNvPr id="3602" name=""/>
            <p:cNvSpPr/>
            <p:nvPr/>
          </p:nvSpPr>
          <p:spPr>
            <a:xfrm>
              <a:off x="1435320" y="4578480"/>
              <a:ext cx="627192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=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RELATIONSHIP ORIENTATED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844360" y="342900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"/>
          <p:cNvSpPr/>
          <p:nvPr/>
        </p:nvSpPr>
        <p:spPr>
          <a:xfrm>
            <a:off x="3013200" y="1905120"/>
            <a:ext cx="341604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1f1a17"/>
                </a:solidFill>
                <a:latin typeface="Geometr231 Hv BT"/>
              </a:rPr>
              <a:t>3 TY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1. BACTERI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2. FUNG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3. VIRA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060720" y="3009960"/>
            <a:ext cx="2882880" cy="3816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9080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4425840" y="1042920"/>
            <a:ext cx="16056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284800" y="1042920"/>
            <a:ext cx="160200" cy="64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3610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"/>
          <p:cNvSpPr/>
          <p:nvPr/>
        </p:nvSpPr>
        <p:spPr>
          <a:xfrm>
            <a:off x="2203920" y="4876920"/>
            <a:ext cx="48729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OFTEN NO SYMP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’T ALWAYS SE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782880" y="870120"/>
            <a:ext cx="17640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486320" y="870120"/>
            <a:ext cx="1760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5437080" y="870120"/>
            <a:ext cx="17784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8" name=""/>
          <p:cNvGrpSpPr/>
          <p:nvPr/>
        </p:nvGrpSpPr>
        <p:grpSpPr>
          <a:xfrm>
            <a:off x="1646280" y="838080"/>
            <a:ext cx="5973120" cy="784440"/>
            <a:chOff x="1646280" y="838080"/>
            <a:chExt cx="5973120" cy="784440"/>
          </a:xfrm>
        </p:grpSpPr>
        <p:grpSp>
          <p:nvGrpSpPr>
            <p:cNvPr id="3849" name=""/>
            <p:cNvGrpSpPr/>
            <p:nvPr/>
          </p:nvGrpSpPr>
          <p:grpSpPr>
            <a:xfrm>
              <a:off x="1646280" y="851040"/>
              <a:ext cx="2701800" cy="771480"/>
              <a:chOff x="1646280" y="851040"/>
              <a:chExt cx="2701800" cy="771480"/>
            </a:xfrm>
          </p:grpSpPr>
          <p:sp>
            <p:nvSpPr>
              <p:cNvPr id="3850" name=""/>
              <p:cNvSpPr/>
              <p:nvPr/>
            </p:nvSpPr>
            <p:spPr>
              <a:xfrm>
                <a:off x="1658880" y="1608120"/>
                <a:ext cx="217440" cy="14400"/>
              </a:xfrm>
              <a:custGeom>
                <a:avLst/>
                <a:gdLst/>
                <a:ahLst/>
                <a:rect l="l" t="t" r="r" b="b"/>
                <a:pathLst>
                  <a:path w="683" h="47">
                    <a:moveTo>
                      <a:pt x="0" y="0"/>
                    </a:moveTo>
                    <a:lnTo>
                      <a:pt x="683" y="0"/>
                    </a:lnTo>
                    <a:lnTo>
                      <a:pt x="641" y="11"/>
                    </a:lnTo>
                    <a:lnTo>
                      <a:pt x="599" y="20"/>
                    </a:lnTo>
                    <a:lnTo>
                      <a:pt x="556" y="29"/>
                    </a:lnTo>
                    <a:lnTo>
                      <a:pt x="510" y="35"/>
                    </a:lnTo>
                    <a:lnTo>
                      <a:pt x="465" y="41"/>
                    </a:lnTo>
                    <a:lnTo>
                      <a:pt x="417" y="45"/>
                    </a:lnTo>
                    <a:lnTo>
                      <a:pt x="368" y="47"/>
                    </a:lnTo>
                    <a:lnTo>
                      <a:pt x="317" y="47"/>
                    </a:lnTo>
                    <a:lnTo>
                      <a:pt x="296" y="47"/>
                    </a:lnTo>
                    <a:lnTo>
                      <a:pt x="275" y="46"/>
                    </a:lnTo>
                    <a:lnTo>
                      <a:pt x="255" y="46"/>
                    </a:lnTo>
                    <a:lnTo>
                      <a:pt x="234" y="45"/>
                    </a:lnTo>
                    <a:lnTo>
                      <a:pt x="214" y="44"/>
                    </a:lnTo>
                    <a:lnTo>
                      <a:pt x="193" y="43"/>
                    </a:lnTo>
                    <a:lnTo>
                      <a:pt x="173" y="41"/>
                    </a:lnTo>
                    <a:lnTo>
                      <a:pt x="154" y="39"/>
                    </a:lnTo>
                    <a:lnTo>
                      <a:pt x="134" y="36"/>
                    </a:lnTo>
                    <a:lnTo>
                      <a:pt x="114" y="35"/>
                    </a:lnTo>
                    <a:lnTo>
                      <a:pt x="95" y="33"/>
                    </a:lnTo>
                    <a:lnTo>
                      <a:pt x="76" y="30"/>
                    </a:lnTo>
                    <a:lnTo>
                      <a:pt x="57" y="27"/>
                    </a:lnTo>
                    <a:lnTo>
                      <a:pt x="38" y="24"/>
                    </a:lnTo>
                    <a:lnTo>
                      <a:pt x="18" y="2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658880" y="1592280"/>
                <a:ext cx="257040" cy="30240"/>
              </a:xfrm>
              <a:custGeom>
                <a:avLst/>
                <a:gdLst/>
                <a:ahLst/>
                <a:rect l="l" t="t" r="r" b="b"/>
                <a:pathLst>
                  <a:path w="809" h="97">
                    <a:moveTo>
                      <a:pt x="0" y="0"/>
                    </a:moveTo>
                    <a:lnTo>
                      <a:pt x="809" y="0"/>
                    </a:lnTo>
                    <a:lnTo>
                      <a:pt x="783" y="13"/>
                    </a:lnTo>
                    <a:lnTo>
                      <a:pt x="757" y="24"/>
                    </a:lnTo>
                    <a:lnTo>
                      <a:pt x="730" y="34"/>
                    </a:lnTo>
                    <a:lnTo>
                      <a:pt x="702" y="43"/>
                    </a:lnTo>
                    <a:lnTo>
                      <a:pt x="674" y="52"/>
                    </a:lnTo>
                    <a:lnTo>
                      <a:pt x="645" y="59"/>
                    </a:lnTo>
                    <a:lnTo>
                      <a:pt x="616" y="67"/>
                    </a:lnTo>
                    <a:lnTo>
                      <a:pt x="585" y="73"/>
                    </a:lnTo>
                    <a:lnTo>
                      <a:pt x="554" y="79"/>
                    </a:lnTo>
                    <a:lnTo>
                      <a:pt x="522" y="84"/>
                    </a:lnTo>
                    <a:lnTo>
                      <a:pt x="490" y="89"/>
                    </a:lnTo>
                    <a:lnTo>
                      <a:pt x="457" y="91"/>
                    </a:lnTo>
                    <a:lnTo>
                      <a:pt x="424" y="94"/>
                    </a:lnTo>
                    <a:lnTo>
                      <a:pt x="390" y="96"/>
                    </a:lnTo>
                    <a:lnTo>
                      <a:pt x="354" y="97"/>
                    </a:lnTo>
                    <a:lnTo>
                      <a:pt x="318" y="97"/>
                    </a:lnTo>
                    <a:lnTo>
                      <a:pt x="297" y="97"/>
                    </a:lnTo>
                    <a:lnTo>
                      <a:pt x="276" y="96"/>
                    </a:lnTo>
                    <a:lnTo>
                      <a:pt x="256" y="96"/>
                    </a:lnTo>
                    <a:lnTo>
                      <a:pt x="235" y="95"/>
                    </a:lnTo>
                    <a:lnTo>
                      <a:pt x="215" y="94"/>
                    </a:lnTo>
                    <a:lnTo>
                      <a:pt x="194" y="93"/>
                    </a:lnTo>
                    <a:lnTo>
                      <a:pt x="174" y="91"/>
                    </a:lnTo>
                    <a:lnTo>
                      <a:pt x="155" y="89"/>
                    </a:lnTo>
                    <a:lnTo>
                      <a:pt x="135" y="86"/>
                    </a:lnTo>
                    <a:lnTo>
                      <a:pt x="115" y="85"/>
                    </a:lnTo>
                    <a:lnTo>
                      <a:pt x="96" y="83"/>
                    </a:lnTo>
                    <a:lnTo>
                      <a:pt x="77" y="80"/>
                    </a:lnTo>
                    <a:lnTo>
                      <a:pt x="58" y="77"/>
                    </a:lnTo>
                    <a:lnTo>
                      <a:pt x="39" y="74"/>
                    </a:lnTo>
                    <a:lnTo>
                      <a:pt x="19" y="70"/>
                    </a:lnTo>
                    <a:lnTo>
                      <a:pt x="1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1658880" y="1576440"/>
                <a:ext cx="284040" cy="31680"/>
              </a:xfrm>
              <a:custGeom>
                <a:avLst/>
                <a:gdLst/>
                <a:ahLst/>
                <a:rect l="l" t="t" r="r" b="b"/>
                <a:pathLst>
                  <a:path w="896" h="98">
                    <a:moveTo>
                      <a:pt x="68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72" y="15"/>
                    </a:lnTo>
                    <a:lnTo>
                      <a:pt x="847" y="29"/>
                    </a:lnTo>
                    <a:lnTo>
                      <a:pt x="822" y="42"/>
                    </a:lnTo>
                    <a:lnTo>
                      <a:pt x="795" y="54"/>
                    </a:lnTo>
                    <a:lnTo>
                      <a:pt x="769" y="67"/>
                    </a:lnTo>
                    <a:lnTo>
                      <a:pt x="741" y="78"/>
                    </a:lnTo>
                    <a:lnTo>
                      <a:pt x="713" y="88"/>
                    </a:lnTo>
                    <a:lnTo>
                      <a:pt x="685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658880" y="1560600"/>
                <a:ext cx="304920" cy="31680"/>
              </a:xfrm>
              <a:custGeom>
                <a:avLst/>
                <a:gdLst/>
                <a:ahLst/>
                <a:rect l="l" t="t" r="r" b="b"/>
                <a:pathLst>
                  <a:path w="963" h="97">
                    <a:moveTo>
                      <a:pt x="812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963" y="0"/>
                    </a:lnTo>
                    <a:lnTo>
                      <a:pt x="946" y="14"/>
                    </a:lnTo>
                    <a:lnTo>
                      <a:pt x="929" y="27"/>
                    </a:lnTo>
                    <a:lnTo>
                      <a:pt x="910" y="41"/>
                    </a:lnTo>
                    <a:lnTo>
                      <a:pt x="892" y="53"/>
                    </a:lnTo>
                    <a:lnTo>
                      <a:pt x="872" y="65"/>
                    </a:lnTo>
                    <a:lnTo>
                      <a:pt x="853" y="76"/>
                    </a:lnTo>
                    <a:lnTo>
                      <a:pt x="832" y="87"/>
                    </a:lnTo>
                    <a:lnTo>
                      <a:pt x="81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657440" y="1546200"/>
                <a:ext cx="323640" cy="30240"/>
              </a:xfrm>
              <a:custGeom>
                <a:avLst/>
                <a:gdLst/>
                <a:ahLst/>
                <a:rect l="l" t="t" r="r" b="b"/>
                <a:pathLst>
                  <a:path w="1017" h="97">
                    <a:moveTo>
                      <a:pt x="899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017" y="0"/>
                    </a:lnTo>
                    <a:lnTo>
                      <a:pt x="1012" y="5"/>
                    </a:lnTo>
                    <a:lnTo>
                      <a:pt x="1006" y="10"/>
                    </a:lnTo>
                    <a:lnTo>
                      <a:pt x="1001" y="16"/>
                    </a:lnTo>
                    <a:lnTo>
                      <a:pt x="995" y="21"/>
                    </a:lnTo>
                    <a:lnTo>
                      <a:pt x="990" y="26"/>
                    </a:lnTo>
                    <a:lnTo>
                      <a:pt x="984" y="31"/>
                    </a:lnTo>
                    <a:lnTo>
                      <a:pt x="978" y="37"/>
                    </a:lnTo>
                    <a:lnTo>
                      <a:pt x="973" y="42"/>
                    </a:lnTo>
                    <a:lnTo>
                      <a:pt x="964" y="49"/>
                    </a:lnTo>
                    <a:lnTo>
                      <a:pt x="954" y="57"/>
                    </a:lnTo>
                    <a:lnTo>
                      <a:pt x="946" y="63"/>
                    </a:lnTo>
                    <a:lnTo>
                      <a:pt x="937" y="70"/>
                    </a:lnTo>
                    <a:lnTo>
                      <a:pt x="927" y="78"/>
                    </a:lnTo>
                    <a:lnTo>
                      <a:pt x="918" y="84"/>
                    </a:lnTo>
                    <a:lnTo>
                      <a:pt x="909" y="9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657440" y="1530360"/>
                <a:ext cx="336240" cy="30240"/>
              </a:xfrm>
              <a:custGeom>
                <a:avLst/>
                <a:gdLst/>
                <a:ahLst/>
                <a:rect l="l" t="t" r="r" b="b"/>
                <a:pathLst>
                  <a:path w="1061" h="97">
                    <a:moveTo>
                      <a:pt x="965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61" y="0"/>
                    </a:lnTo>
                    <a:lnTo>
                      <a:pt x="1051" y="12"/>
                    </a:lnTo>
                    <a:lnTo>
                      <a:pt x="1042" y="23"/>
                    </a:lnTo>
                    <a:lnTo>
                      <a:pt x="1030" y="36"/>
                    </a:lnTo>
                    <a:lnTo>
                      <a:pt x="1019" y="47"/>
                    </a:lnTo>
                    <a:lnTo>
                      <a:pt x="1008" y="58"/>
                    </a:lnTo>
                    <a:lnTo>
                      <a:pt x="997" y="69"/>
                    </a:lnTo>
                    <a:lnTo>
                      <a:pt x="985" y="80"/>
                    </a:lnTo>
                    <a:lnTo>
                      <a:pt x="974" y="91"/>
                    </a:lnTo>
                    <a:lnTo>
                      <a:pt x="973" y="91"/>
                    </a:lnTo>
                    <a:lnTo>
                      <a:pt x="971" y="92"/>
                    </a:lnTo>
                    <a:lnTo>
                      <a:pt x="970" y="93"/>
                    </a:lnTo>
                    <a:lnTo>
                      <a:pt x="969" y="93"/>
                    </a:lnTo>
                    <a:lnTo>
                      <a:pt x="969" y="95"/>
                    </a:lnTo>
                    <a:lnTo>
                      <a:pt x="968" y="96"/>
                    </a:lnTo>
                    <a:lnTo>
                      <a:pt x="967" y="96"/>
                    </a:lnTo>
                    <a:lnTo>
                      <a:pt x="965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1657440" y="1514520"/>
                <a:ext cx="347400" cy="31680"/>
              </a:xfrm>
              <a:custGeom>
                <a:avLst/>
                <a:gdLst/>
                <a:ahLst/>
                <a:rect l="l" t="t" r="r" b="b"/>
                <a:pathLst>
                  <a:path w="1097" h="97">
                    <a:moveTo>
                      <a:pt x="1019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097" y="0"/>
                    </a:lnTo>
                    <a:lnTo>
                      <a:pt x="1088" y="12"/>
                    </a:lnTo>
                    <a:lnTo>
                      <a:pt x="1079" y="25"/>
                    </a:lnTo>
                    <a:lnTo>
                      <a:pt x="1071" y="37"/>
                    </a:lnTo>
                    <a:lnTo>
                      <a:pt x="1061" y="49"/>
                    </a:lnTo>
                    <a:lnTo>
                      <a:pt x="1051" y="62"/>
                    </a:lnTo>
                    <a:lnTo>
                      <a:pt x="1040" y="74"/>
                    </a:lnTo>
                    <a:lnTo>
                      <a:pt x="1030" y="85"/>
                    </a:lnTo>
                    <a:lnTo>
                      <a:pt x="1019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657440" y="1498680"/>
                <a:ext cx="357120" cy="31680"/>
              </a:xfrm>
              <a:custGeom>
                <a:avLst/>
                <a:gdLst/>
                <a:ahLst/>
                <a:rect l="l" t="t" r="r" b="b"/>
                <a:pathLst>
                  <a:path w="1128" h="97">
                    <a:moveTo>
                      <a:pt x="1064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128" y="0"/>
                    </a:lnTo>
                    <a:lnTo>
                      <a:pt x="1121" y="12"/>
                    </a:lnTo>
                    <a:lnTo>
                      <a:pt x="1113" y="26"/>
                    </a:lnTo>
                    <a:lnTo>
                      <a:pt x="1106" y="38"/>
                    </a:lnTo>
                    <a:lnTo>
                      <a:pt x="1099" y="50"/>
                    </a:lnTo>
                    <a:lnTo>
                      <a:pt x="1090" y="63"/>
                    </a:lnTo>
                    <a:lnTo>
                      <a:pt x="1081" y="74"/>
                    </a:lnTo>
                    <a:lnTo>
                      <a:pt x="1073" y="86"/>
                    </a:lnTo>
                    <a:lnTo>
                      <a:pt x="1064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655640" y="1484280"/>
                <a:ext cx="366840" cy="30240"/>
              </a:xfrm>
              <a:custGeom>
                <a:avLst/>
                <a:gdLst/>
                <a:ahLst/>
                <a:rect l="l" t="t" r="r" b="b"/>
                <a:pathLst>
                  <a:path w="1153" h="98">
                    <a:moveTo>
                      <a:pt x="1100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153" y="0"/>
                    </a:lnTo>
                    <a:lnTo>
                      <a:pt x="1146" y="13"/>
                    </a:lnTo>
                    <a:lnTo>
                      <a:pt x="1140" y="25"/>
                    </a:lnTo>
                    <a:lnTo>
                      <a:pt x="1134" y="38"/>
                    </a:lnTo>
                    <a:lnTo>
                      <a:pt x="1128" y="50"/>
                    </a:lnTo>
                    <a:lnTo>
                      <a:pt x="1122" y="62"/>
                    </a:lnTo>
                    <a:lnTo>
                      <a:pt x="1114" y="75"/>
                    </a:lnTo>
                    <a:lnTo>
                      <a:pt x="1107" y="86"/>
                    </a:lnTo>
                    <a:lnTo>
                      <a:pt x="110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655640" y="1468440"/>
                <a:ext cx="372960" cy="30240"/>
              </a:xfrm>
              <a:custGeom>
                <a:avLst/>
                <a:gdLst/>
                <a:ahLst/>
                <a:rect l="l" t="t" r="r" b="b"/>
                <a:pathLst>
                  <a:path w="1172" h="97">
                    <a:moveTo>
                      <a:pt x="1130" y="97"/>
                    </a:moveTo>
                    <a:lnTo>
                      <a:pt x="2" y="97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1167" y="12"/>
                    </a:lnTo>
                    <a:lnTo>
                      <a:pt x="1162" y="24"/>
                    </a:lnTo>
                    <a:lnTo>
                      <a:pt x="1157" y="38"/>
                    </a:lnTo>
                    <a:lnTo>
                      <a:pt x="1152" y="49"/>
                    </a:lnTo>
                    <a:lnTo>
                      <a:pt x="1147" y="61"/>
                    </a:lnTo>
                    <a:lnTo>
                      <a:pt x="1141" y="73"/>
                    </a:lnTo>
                    <a:lnTo>
                      <a:pt x="1136" y="86"/>
                    </a:lnTo>
                    <a:lnTo>
                      <a:pt x="113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655640" y="1452600"/>
                <a:ext cx="376200" cy="31680"/>
              </a:xfrm>
              <a:custGeom>
                <a:avLst/>
                <a:gdLst/>
                <a:ahLst/>
                <a:rect l="l" t="t" r="r" b="b"/>
                <a:pathLst>
                  <a:path w="1187" h="98">
                    <a:moveTo>
                      <a:pt x="1155" y="98"/>
                    </a:moveTo>
                    <a:lnTo>
                      <a:pt x="2" y="98"/>
                    </a:lnTo>
                    <a:lnTo>
                      <a:pt x="0" y="0"/>
                    </a:lnTo>
                    <a:lnTo>
                      <a:pt x="1187" y="0"/>
                    </a:lnTo>
                    <a:lnTo>
                      <a:pt x="1184" y="14"/>
                    </a:lnTo>
                    <a:lnTo>
                      <a:pt x="1180" y="26"/>
                    </a:lnTo>
                    <a:lnTo>
                      <a:pt x="1177" y="39"/>
                    </a:lnTo>
                    <a:lnTo>
                      <a:pt x="1172" y="51"/>
                    </a:lnTo>
                    <a:lnTo>
                      <a:pt x="1168" y="63"/>
                    </a:lnTo>
                    <a:lnTo>
                      <a:pt x="1163" y="74"/>
                    </a:lnTo>
                    <a:lnTo>
                      <a:pt x="1158" y="87"/>
                    </a:lnTo>
                    <a:lnTo>
                      <a:pt x="1155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55640" y="1436760"/>
                <a:ext cx="380880" cy="31680"/>
              </a:xfrm>
              <a:custGeom>
                <a:avLst/>
                <a:gdLst/>
                <a:ahLst/>
                <a:rect l="l" t="t" r="r" b="b"/>
                <a:pathLst>
                  <a:path w="1200" h="98">
                    <a:moveTo>
                      <a:pt x="1175" y="98"/>
                    </a:moveTo>
                    <a:lnTo>
                      <a:pt x="3" y="98"/>
                    </a:lnTo>
                    <a:lnTo>
                      <a:pt x="0" y="0"/>
                    </a:lnTo>
                    <a:lnTo>
                      <a:pt x="1200" y="0"/>
                    </a:lnTo>
                    <a:lnTo>
                      <a:pt x="1197" y="13"/>
                    </a:lnTo>
                    <a:lnTo>
                      <a:pt x="1195" y="25"/>
                    </a:lnTo>
                    <a:lnTo>
                      <a:pt x="1192" y="37"/>
                    </a:lnTo>
                    <a:lnTo>
                      <a:pt x="1189" y="50"/>
                    </a:lnTo>
                    <a:lnTo>
                      <a:pt x="1186" y="62"/>
                    </a:lnTo>
                    <a:lnTo>
                      <a:pt x="1182" y="74"/>
                    </a:lnTo>
                    <a:lnTo>
                      <a:pt x="1179" y="85"/>
                    </a:lnTo>
                    <a:lnTo>
                      <a:pt x="117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654200" y="1422360"/>
                <a:ext cx="384120" cy="30240"/>
              </a:xfrm>
              <a:custGeom>
                <a:avLst/>
                <a:gdLst/>
                <a:ahLst/>
                <a:rect l="l" t="t" r="r" b="b"/>
                <a:pathLst>
                  <a:path w="1209" h="97">
                    <a:moveTo>
                      <a:pt x="1190" y="97"/>
                    </a:moveTo>
                    <a:lnTo>
                      <a:pt x="3" y="97"/>
                    </a:lnTo>
                    <a:lnTo>
                      <a:pt x="0" y="0"/>
                    </a:lnTo>
                    <a:lnTo>
                      <a:pt x="145" y="0"/>
                    </a:lnTo>
                    <a:lnTo>
                      <a:pt x="159" y="4"/>
                    </a:lnTo>
                    <a:lnTo>
                      <a:pt x="172" y="6"/>
                    </a:lnTo>
                    <a:lnTo>
                      <a:pt x="186" y="8"/>
                    </a:lnTo>
                    <a:lnTo>
                      <a:pt x="199" y="10"/>
                    </a:lnTo>
                    <a:lnTo>
                      <a:pt x="212" y="11"/>
                    </a:lnTo>
                    <a:lnTo>
                      <a:pt x="225" y="13"/>
                    </a:lnTo>
                    <a:lnTo>
                      <a:pt x="238" y="13"/>
                    </a:lnTo>
                    <a:lnTo>
                      <a:pt x="251" y="13"/>
                    </a:lnTo>
                    <a:lnTo>
                      <a:pt x="262" y="13"/>
                    </a:lnTo>
                    <a:lnTo>
                      <a:pt x="274" y="13"/>
                    </a:lnTo>
                    <a:lnTo>
                      <a:pt x="286" y="11"/>
                    </a:lnTo>
                    <a:lnTo>
                      <a:pt x="297" y="10"/>
                    </a:lnTo>
                    <a:lnTo>
                      <a:pt x="308" y="8"/>
                    </a:lnTo>
                    <a:lnTo>
                      <a:pt x="319" y="6"/>
                    </a:lnTo>
                    <a:lnTo>
                      <a:pt x="329" y="4"/>
                    </a:lnTo>
                    <a:lnTo>
                      <a:pt x="340" y="0"/>
                    </a:lnTo>
                    <a:lnTo>
                      <a:pt x="1209" y="0"/>
                    </a:lnTo>
                    <a:lnTo>
                      <a:pt x="1207" y="14"/>
                    </a:lnTo>
                    <a:lnTo>
                      <a:pt x="1206" y="26"/>
                    </a:lnTo>
                    <a:lnTo>
                      <a:pt x="1203" y="38"/>
                    </a:lnTo>
                    <a:lnTo>
                      <a:pt x="1201" y="51"/>
                    </a:lnTo>
                    <a:lnTo>
                      <a:pt x="1198" y="63"/>
                    </a:lnTo>
                    <a:lnTo>
                      <a:pt x="1196" y="74"/>
                    </a:lnTo>
                    <a:lnTo>
                      <a:pt x="1193" y="86"/>
                    </a:lnTo>
                    <a:lnTo>
                      <a:pt x="1190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654200" y="1406520"/>
                <a:ext cx="385560" cy="30240"/>
              </a:xfrm>
              <a:custGeom>
                <a:avLst/>
                <a:gdLst/>
                <a:ahLst/>
                <a:rect l="l" t="t" r="r" b="b"/>
                <a:pathLst>
                  <a:path w="1215" h="97">
                    <a:moveTo>
                      <a:pt x="1202" y="97"/>
                    </a:moveTo>
                    <a:lnTo>
                      <a:pt x="2" y="97"/>
                    </a:lnTo>
                    <a:lnTo>
                      <a:pt x="0" y="2"/>
                    </a:lnTo>
                    <a:lnTo>
                      <a:pt x="17" y="9"/>
                    </a:lnTo>
                    <a:lnTo>
                      <a:pt x="34" y="15"/>
                    </a:lnTo>
                    <a:lnTo>
                      <a:pt x="52" y="21"/>
                    </a:lnTo>
                    <a:lnTo>
                      <a:pt x="68" y="27"/>
                    </a:lnTo>
                    <a:lnTo>
                      <a:pt x="85" y="32"/>
                    </a:lnTo>
                    <a:lnTo>
                      <a:pt x="101" y="37"/>
                    </a:lnTo>
                    <a:lnTo>
                      <a:pt x="117" y="42"/>
                    </a:lnTo>
                    <a:lnTo>
                      <a:pt x="133" y="46"/>
                    </a:lnTo>
                    <a:lnTo>
                      <a:pt x="148" y="49"/>
                    </a:lnTo>
                    <a:lnTo>
                      <a:pt x="164" y="52"/>
                    </a:lnTo>
                    <a:lnTo>
                      <a:pt x="178" y="54"/>
                    </a:lnTo>
                    <a:lnTo>
                      <a:pt x="193" y="57"/>
                    </a:lnTo>
                    <a:lnTo>
                      <a:pt x="208" y="59"/>
                    </a:lnTo>
                    <a:lnTo>
                      <a:pt x="223" y="59"/>
                    </a:lnTo>
                    <a:lnTo>
                      <a:pt x="237" y="61"/>
                    </a:lnTo>
                    <a:lnTo>
                      <a:pt x="252" y="61"/>
                    </a:lnTo>
                    <a:lnTo>
                      <a:pt x="277" y="61"/>
                    </a:lnTo>
                    <a:lnTo>
                      <a:pt x="300" y="58"/>
                    </a:lnTo>
                    <a:lnTo>
                      <a:pt x="322" y="53"/>
                    </a:lnTo>
                    <a:lnTo>
                      <a:pt x="344" y="47"/>
                    </a:lnTo>
                    <a:lnTo>
                      <a:pt x="364" y="40"/>
                    </a:lnTo>
                    <a:lnTo>
                      <a:pt x="382" y="31"/>
                    </a:lnTo>
                    <a:lnTo>
                      <a:pt x="401" y="20"/>
                    </a:lnTo>
                    <a:lnTo>
                      <a:pt x="417" y="8"/>
                    </a:lnTo>
                    <a:lnTo>
                      <a:pt x="418" y="6"/>
                    </a:lnTo>
                    <a:lnTo>
                      <a:pt x="419" y="5"/>
                    </a:lnTo>
                    <a:lnTo>
                      <a:pt x="421" y="5"/>
                    </a:lnTo>
                    <a:lnTo>
                      <a:pt x="422" y="4"/>
                    </a:lnTo>
                    <a:lnTo>
                      <a:pt x="423" y="3"/>
                    </a:lnTo>
                    <a:lnTo>
                      <a:pt x="424" y="2"/>
                    </a:lnTo>
                    <a:lnTo>
                      <a:pt x="426" y="2"/>
                    </a:lnTo>
                    <a:lnTo>
                      <a:pt x="426" y="0"/>
                    </a:lnTo>
                    <a:lnTo>
                      <a:pt x="1215" y="0"/>
                    </a:lnTo>
                    <a:lnTo>
                      <a:pt x="1214" y="13"/>
                    </a:lnTo>
                    <a:lnTo>
                      <a:pt x="1213" y="25"/>
                    </a:lnTo>
                    <a:lnTo>
                      <a:pt x="1211" y="37"/>
                    </a:lnTo>
                    <a:lnTo>
                      <a:pt x="1210" y="49"/>
                    </a:lnTo>
                    <a:lnTo>
                      <a:pt x="1208" y="62"/>
                    </a:lnTo>
                    <a:lnTo>
                      <a:pt x="1207" y="74"/>
                    </a:lnTo>
                    <a:lnTo>
                      <a:pt x="1204" y="85"/>
                    </a:lnTo>
                    <a:lnTo>
                      <a:pt x="1202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1654200" y="1390680"/>
                <a:ext cx="387360" cy="31680"/>
              </a:xfrm>
              <a:custGeom>
                <a:avLst/>
                <a:gdLst/>
                <a:ahLst/>
                <a:rect l="l" t="t" r="r" b="b"/>
                <a:pathLst>
                  <a:path w="1218" h="97">
                    <a:moveTo>
                      <a:pt x="1210" y="97"/>
                    </a:moveTo>
                    <a:lnTo>
                      <a:pt x="341" y="97"/>
                    </a:lnTo>
                    <a:lnTo>
                      <a:pt x="351" y="95"/>
                    </a:lnTo>
                    <a:lnTo>
                      <a:pt x="362" y="90"/>
                    </a:lnTo>
                    <a:lnTo>
                      <a:pt x="371" y="86"/>
                    </a:lnTo>
                    <a:lnTo>
                      <a:pt x="381" y="81"/>
                    </a:lnTo>
                    <a:lnTo>
                      <a:pt x="391" y="75"/>
                    </a:lnTo>
                    <a:lnTo>
                      <a:pt x="400" y="70"/>
                    </a:lnTo>
                    <a:lnTo>
                      <a:pt x="410" y="63"/>
                    </a:lnTo>
                    <a:lnTo>
                      <a:pt x="417" y="57"/>
                    </a:lnTo>
                    <a:lnTo>
                      <a:pt x="426" y="51"/>
                    </a:lnTo>
                    <a:lnTo>
                      <a:pt x="432" y="43"/>
                    </a:lnTo>
                    <a:lnTo>
                      <a:pt x="438" y="37"/>
                    </a:lnTo>
                    <a:lnTo>
                      <a:pt x="444" y="30"/>
                    </a:lnTo>
                    <a:lnTo>
                      <a:pt x="450" y="23"/>
                    </a:lnTo>
                    <a:lnTo>
                      <a:pt x="455" y="16"/>
                    </a:lnTo>
                    <a:lnTo>
                      <a:pt x="460" y="9"/>
                    </a:lnTo>
                    <a:lnTo>
                      <a:pt x="464" y="0"/>
                    </a:lnTo>
                    <a:lnTo>
                      <a:pt x="1218" y="0"/>
                    </a:lnTo>
                    <a:lnTo>
                      <a:pt x="1216" y="14"/>
                    </a:lnTo>
                    <a:lnTo>
                      <a:pt x="1216" y="26"/>
                    </a:lnTo>
                    <a:lnTo>
                      <a:pt x="1215" y="38"/>
                    </a:lnTo>
                    <a:lnTo>
                      <a:pt x="1215" y="51"/>
                    </a:lnTo>
                    <a:lnTo>
                      <a:pt x="1214" y="62"/>
                    </a:lnTo>
                    <a:lnTo>
                      <a:pt x="1213" y="74"/>
                    </a:lnTo>
                    <a:lnTo>
                      <a:pt x="1211" y="86"/>
                    </a:lnTo>
                    <a:lnTo>
                      <a:pt x="1210" y="97"/>
                    </a:lnTo>
                    <a:close/>
                    <a:moveTo>
                      <a:pt x="146" y="97"/>
                    </a:moveTo>
                    <a:lnTo>
                      <a:pt x="1" y="97"/>
                    </a:lnTo>
                    <a:lnTo>
                      <a:pt x="0" y="51"/>
                    </a:lnTo>
                    <a:lnTo>
                      <a:pt x="17" y="58"/>
                    </a:lnTo>
                    <a:lnTo>
                      <a:pt x="34" y="64"/>
                    </a:lnTo>
                    <a:lnTo>
                      <a:pt x="52" y="70"/>
                    </a:lnTo>
                    <a:lnTo>
                      <a:pt x="68" y="76"/>
                    </a:lnTo>
                    <a:lnTo>
                      <a:pt x="85" y="81"/>
                    </a:lnTo>
                    <a:lnTo>
                      <a:pt x="101" y="86"/>
                    </a:lnTo>
                    <a:lnTo>
                      <a:pt x="117" y="91"/>
                    </a:lnTo>
                    <a:lnTo>
                      <a:pt x="133" y="95"/>
                    </a:lnTo>
                    <a:lnTo>
                      <a:pt x="134" y="95"/>
                    </a:lnTo>
                    <a:lnTo>
                      <a:pt x="135" y="95"/>
                    </a:lnTo>
                    <a:lnTo>
                      <a:pt x="138" y="96"/>
                    </a:lnTo>
                    <a:lnTo>
                      <a:pt x="139" y="96"/>
                    </a:lnTo>
                    <a:lnTo>
                      <a:pt x="141" y="96"/>
                    </a:lnTo>
                    <a:lnTo>
                      <a:pt x="143" y="97"/>
                    </a:lnTo>
                    <a:lnTo>
                      <a:pt x="144" y="97"/>
                    </a:lnTo>
                    <a:lnTo>
                      <a:pt x="14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1789200" y="1376280"/>
                <a:ext cx="252360" cy="30240"/>
              </a:xfrm>
              <a:custGeom>
                <a:avLst/>
                <a:gdLst/>
                <a:ahLst/>
                <a:rect l="l" t="t" r="r" b="b"/>
                <a:pathLst>
                  <a:path w="792" h="97">
                    <a:moveTo>
                      <a:pt x="789" y="97"/>
                    </a:moveTo>
                    <a:lnTo>
                      <a:pt x="0" y="97"/>
                    </a:lnTo>
                    <a:lnTo>
                      <a:pt x="11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6" y="52"/>
                    </a:lnTo>
                    <a:lnTo>
                      <a:pt x="43" y="39"/>
                    </a:lnTo>
                    <a:lnTo>
                      <a:pt x="47" y="27"/>
                    </a:lnTo>
                    <a:lnTo>
                      <a:pt x="51" y="14"/>
                    </a:lnTo>
                    <a:lnTo>
                      <a:pt x="54" y="0"/>
                    </a:lnTo>
                    <a:lnTo>
                      <a:pt x="792" y="0"/>
                    </a:lnTo>
                    <a:lnTo>
                      <a:pt x="792" y="3"/>
                    </a:lnTo>
                    <a:lnTo>
                      <a:pt x="792" y="5"/>
                    </a:lnTo>
                    <a:lnTo>
                      <a:pt x="792" y="9"/>
                    </a:lnTo>
                    <a:lnTo>
                      <a:pt x="792" y="11"/>
                    </a:lnTo>
                    <a:lnTo>
                      <a:pt x="792" y="14"/>
                    </a:lnTo>
                    <a:lnTo>
                      <a:pt x="792" y="17"/>
                    </a:lnTo>
                    <a:lnTo>
                      <a:pt x="792" y="20"/>
                    </a:lnTo>
                    <a:lnTo>
                      <a:pt x="792" y="22"/>
                    </a:lnTo>
                    <a:lnTo>
                      <a:pt x="792" y="32"/>
                    </a:lnTo>
                    <a:lnTo>
                      <a:pt x="792" y="42"/>
                    </a:lnTo>
                    <a:lnTo>
                      <a:pt x="792" y="51"/>
                    </a:lnTo>
                    <a:lnTo>
                      <a:pt x="790" y="60"/>
                    </a:lnTo>
                    <a:lnTo>
                      <a:pt x="790" y="70"/>
                    </a:lnTo>
                    <a:lnTo>
                      <a:pt x="790" y="79"/>
                    </a:lnTo>
                    <a:lnTo>
                      <a:pt x="789" y="87"/>
                    </a:lnTo>
                    <a:lnTo>
                      <a:pt x="789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1801800" y="1360440"/>
                <a:ext cx="239760" cy="30240"/>
              </a:xfrm>
              <a:custGeom>
                <a:avLst/>
                <a:gdLst/>
                <a:ahLst/>
                <a:rect l="l" t="t" r="r" b="b"/>
                <a:pathLst>
                  <a:path w="754" h="97">
                    <a:moveTo>
                      <a:pt x="754" y="97"/>
                    </a:moveTo>
                    <a:lnTo>
                      <a:pt x="0" y="97"/>
                    </a:lnTo>
                    <a:lnTo>
                      <a:pt x="5" y="88"/>
                    </a:lnTo>
                    <a:lnTo>
                      <a:pt x="8" y="80"/>
                    </a:lnTo>
                    <a:lnTo>
                      <a:pt x="11" y="71"/>
                    </a:lnTo>
                    <a:lnTo>
                      <a:pt x="13" y="61"/>
                    </a:lnTo>
                    <a:lnTo>
                      <a:pt x="16" y="52"/>
                    </a:lnTo>
                    <a:lnTo>
                      <a:pt x="17" y="42"/>
                    </a:lnTo>
                    <a:lnTo>
                      <a:pt x="18" y="3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13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751" y="0"/>
                    </a:lnTo>
                    <a:lnTo>
                      <a:pt x="751" y="9"/>
                    </a:lnTo>
                    <a:lnTo>
                      <a:pt x="752" y="18"/>
                    </a:lnTo>
                    <a:lnTo>
                      <a:pt x="752" y="27"/>
                    </a:lnTo>
                    <a:lnTo>
                      <a:pt x="752" y="36"/>
                    </a:lnTo>
                    <a:lnTo>
                      <a:pt x="754" y="44"/>
                    </a:lnTo>
                    <a:lnTo>
                      <a:pt x="754" y="54"/>
                    </a:lnTo>
                    <a:lnTo>
                      <a:pt x="754" y="63"/>
                    </a:lnTo>
                    <a:lnTo>
                      <a:pt x="754" y="71"/>
                    </a:lnTo>
                    <a:lnTo>
                      <a:pt x="754" y="75"/>
                    </a:lnTo>
                    <a:lnTo>
                      <a:pt x="754" y="79"/>
                    </a:lnTo>
                    <a:lnTo>
                      <a:pt x="754" y="81"/>
                    </a:lnTo>
                    <a:lnTo>
                      <a:pt x="754" y="85"/>
                    </a:lnTo>
                    <a:lnTo>
                      <a:pt x="754" y="88"/>
                    </a:lnTo>
                    <a:lnTo>
                      <a:pt x="754" y="91"/>
                    </a:lnTo>
                    <a:lnTo>
                      <a:pt x="754" y="95"/>
                    </a:lnTo>
                    <a:lnTo>
                      <a:pt x="75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1801800" y="1344600"/>
                <a:ext cx="239760" cy="31680"/>
              </a:xfrm>
              <a:custGeom>
                <a:avLst/>
                <a:gdLst/>
                <a:ahLst/>
                <a:rect l="l" t="t" r="r" b="b"/>
                <a:pathLst>
                  <a:path w="753" h="97">
                    <a:moveTo>
                      <a:pt x="753" y="97"/>
                    </a:moveTo>
                    <a:lnTo>
                      <a:pt x="15" y="97"/>
                    </a:lnTo>
                    <a:lnTo>
                      <a:pt x="15" y="93"/>
                    </a:lnTo>
                    <a:lnTo>
                      <a:pt x="16" y="90"/>
                    </a:lnTo>
                    <a:lnTo>
                      <a:pt x="16" y="87"/>
                    </a:lnTo>
                    <a:lnTo>
                      <a:pt x="16" y="84"/>
                    </a:lnTo>
                    <a:lnTo>
                      <a:pt x="17" y="80"/>
                    </a:lnTo>
                    <a:lnTo>
                      <a:pt x="17" y="76"/>
                    </a:lnTo>
                    <a:lnTo>
                      <a:pt x="17" y="73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6" y="53"/>
                    </a:lnTo>
                    <a:lnTo>
                      <a:pt x="15" y="44"/>
                    </a:lnTo>
                    <a:lnTo>
                      <a:pt x="12" y="36"/>
                    </a:lnTo>
                    <a:lnTo>
                      <a:pt x="10" y="27"/>
                    </a:lnTo>
                    <a:lnTo>
                      <a:pt x="7" y="18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744" y="0"/>
                    </a:lnTo>
                    <a:lnTo>
                      <a:pt x="745" y="12"/>
                    </a:lnTo>
                    <a:lnTo>
                      <a:pt x="748" y="23"/>
                    </a:lnTo>
                    <a:lnTo>
                      <a:pt x="749" y="36"/>
                    </a:lnTo>
                    <a:lnTo>
                      <a:pt x="750" y="48"/>
                    </a:lnTo>
                    <a:lnTo>
                      <a:pt x="750" y="60"/>
                    </a:lnTo>
                    <a:lnTo>
                      <a:pt x="751" y="73"/>
                    </a:lnTo>
                    <a:lnTo>
                      <a:pt x="751" y="85"/>
                    </a:lnTo>
                    <a:lnTo>
                      <a:pt x="753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1793880" y="1328760"/>
                <a:ext cx="245880" cy="31680"/>
              </a:xfrm>
              <a:custGeom>
                <a:avLst/>
                <a:gdLst/>
                <a:ahLst/>
                <a:rect l="l" t="t" r="r" b="b"/>
                <a:pathLst>
                  <a:path w="777" h="97">
                    <a:moveTo>
                      <a:pt x="777" y="97"/>
                    </a:moveTo>
                    <a:lnTo>
                      <a:pt x="42" y="97"/>
                    </a:lnTo>
                    <a:lnTo>
                      <a:pt x="40" y="86"/>
                    </a:lnTo>
                    <a:lnTo>
                      <a:pt x="37" y="75"/>
                    </a:lnTo>
                    <a:lnTo>
                      <a:pt x="33" y="62"/>
                    </a:lnTo>
                    <a:lnTo>
                      <a:pt x="28" y="51"/>
                    </a:lnTo>
                    <a:lnTo>
                      <a:pt x="22" y="39"/>
                    </a:lnTo>
                    <a:lnTo>
                      <a:pt x="16" y="26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65" y="12"/>
                    </a:lnTo>
                    <a:lnTo>
                      <a:pt x="767" y="24"/>
                    </a:lnTo>
                    <a:lnTo>
                      <a:pt x="769" y="37"/>
                    </a:lnTo>
                    <a:lnTo>
                      <a:pt x="771" y="48"/>
                    </a:lnTo>
                    <a:lnTo>
                      <a:pt x="772" y="60"/>
                    </a:lnTo>
                    <a:lnTo>
                      <a:pt x="775" y="72"/>
                    </a:lnTo>
                    <a:lnTo>
                      <a:pt x="776" y="85"/>
                    </a:lnTo>
                    <a:lnTo>
                      <a:pt x="777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1782720" y="1314360"/>
                <a:ext cx="255600" cy="30240"/>
              </a:xfrm>
              <a:custGeom>
                <a:avLst/>
                <a:gdLst/>
                <a:ahLst/>
                <a:rect l="l" t="t" r="r" b="b"/>
                <a:pathLst>
                  <a:path w="807" h="97">
                    <a:moveTo>
                      <a:pt x="807" y="97"/>
                    </a:moveTo>
                    <a:lnTo>
                      <a:pt x="63" y="97"/>
                    </a:lnTo>
                    <a:lnTo>
                      <a:pt x="58" y="86"/>
                    </a:lnTo>
                    <a:lnTo>
                      <a:pt x="52" y="74"/>
                    </a:lnTo>
                    <a:lnTo>
                      <a:pt x="44" y="63"/>
                    </a:lnTo>
                    <a:lnTo>
                      <a:pt x="37" y="50"/>
                    </a:lnTo>
                    <a:lnTo>
                      <a:pt x="30" y="38"/>
                    </a:lnTo>
                    <a:lnTo>
                      <a:pt x="20" y="26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786" y="0"/>
                    </a:lnTo>
                    <a:lnTo>
                      <a:pt x="790" y="11"/>
                    </a:lnTo>
                    <a:lnTo>
                      <a:pt x="792" y="23"/>
                    </a:lnTo>
                    <a:lnTo>
                      <a:pt x="796" y="35"/>
                    </a:lnTo>
                    <a:lnTo>
                      <a:pt x="798" y="48"/>
                    </a:lnTo>
                    <a:lnTo>
                      <a:pt x="801" y="60"/>
                    </a:lnTo>
                    <a:lnTo>
                      <a:pt x="803" y="72"/>
                    </a:lnTo>
                    <a:lnTo>
                      <a:pt x="805" y="85"/>
                    </a:lnTo>
                    <a:lnTo>
                      <a:pt x="807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1768320" y="129852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42" h="97">
                    <a:moveTo>
                      <a:pt x="842" y="97"/>
                    </a:moveTo>
                    <a:lnTo>
                      <a:pt x="80" y="97"/>
                    </a:lnTo>
                    <a:lnTo>
                      <a:pt x="72" y="86"/>
                    </a:lnTo>
                    <a:lnTo>
                      <a:pt x="64" y="73"/>
                    </a:lnTo>
                    <a:lnTo>
                      <a:pt x="55" y="62"/>
                    </a:lnTo>
                    <a:lnTo>
                      <a:pt x="45" y="50"/>
                    </a:lnTo>
                    <a:lnTo>
                      <a:pt x="34" y="38"/>
                    </a:lnTo>
                    <a:lnTo>
                      <a:pt x="23" y="25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814" y="0"/>
                    </a:lnTo>
                    <a:lnTo>
                      <a:pt x="819" y="12"/>
                    </a:lnTo>
                    <a:lnTo>
                      <a:pt x="823" y="24"/>
                    </a:lnTo>
                    <a:lnTo>
                      <a:pt x="826" y="36"/>
                    </a:lnTo>
                    <a:lnTo>
                      <a:pt x="830" y="48"/>
                    </a:lnTo>
                    <a:lnTo>
                      <a:pt x="834" y="60"/>
                    </a:lnTo>
                    <a:lnTo>
                      <a:pt x="836" y="72"/>
                    </a:lnTo>
                    <a:lnTo>
                      <a:pt x="840" y="84"/>
                    </a:lnTo>
                    <a:lnTo>
                      <a:pt x="842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1752480" y="1282680"/>
                <a:ext cx="279360" cy="31680"/>
              </a:xfrm>
              <a:custGeom>
                <a:avLst/>
                <a:gdLst/>
                <a:ahLst/>
                <a:rect l="l" t="t" r="r" b="b"/>
                <a:pathLst>
                  <a:path w="881" h="97">
                    <a:moveTo>
                      <a:pt x="881" y="97"/>
                    </a:moveTo>
                    <a:lnTo>
                      <a:pt x="95" y="97"/>
                    </a:lnTo>
                    <a:lnTo>
                      <a:pt x="85" y="84"/>
                    </a:lnTo>
                    <a:lnTo>
                      <a:pt x="74" y="73"/>
                    </a:lnTo>
                    <a:lnTo>
                      <a:pt x="63" y="61"/>
                    </a:lnTo>
                    <a:lnTo>
                      <a:pt x="52" y="49"/>
                    </a:lnTo>
                    <a:lnTo>
                      <a:pt x="40" y="37"/>
                    </a:lnTo>
                    <a:lnTo>
                      <a:pt x="28" y="24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847" y="0"/>
                    </a:lnTo>
                    <a:lnTo>
                      <a:pt x="852" y="11"/>
                    </a:lnTo>
                    <a:lnTo>
                      <a:pt x="856" y="23"/>
                    </a:lnTo>
                    <a:lnTo>
                      <a:pt x="861" y="35"/>
                    </a:lnTo>
                    <a:lnTo>
                      <a:pt x="865" y="48"/>
                    </a:lnTo>
                    <a:lnTo>
                      <a:pt x="870" y="60"/>
                    </a:lnTo>
                    <a:lnTo>
                      <a:pt x="874" y="72"/>
                    </a:lnTo>
                    <a:lnTo>
                      <a:pt x="877" y="84"/>
                    </a:lnTo>
                    <a:lnTo>
                      <a:pt x="881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1735200" y="1266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17" h="98">
                    <a:moveTo>
                      <a:pt x="917" y="98"/>
                    </a:moveTo>
                    <a:lnTo>
                      <a:pt x="103" y="98"/>
                    </a:lnTo>
                    <a:lnTo>
                      <a:pt x="97" y="91"/>
                    </a:lnTo>
                    <a:lnTo>
                      <a:pt x="91" y="85"/>
                    </a:lnTo>
                    <a:lnTo>
                      <a:pt x="84" y="79"/>
                    </a:lnTo>
                    <a:lnTo>
                      <a:pt x="78" y="73"/>
                    </a:lnTo>
                    <a:lnTo>
                      <a:pt x="72" y="67"/>
                    </a:lnTo>
                    <a:lnTo>
                      <a:pt x="65" y="61"/>
                    </a:lnTo>
                    <a:lnTo>
                      <a:pt x="59" y="55"/>
                    </a:lnTo>
                    <a:lnTo>
                      <a:pt x="51" y="48"/>
                    </a:lnTo>
                    <a:lnTo>
                      <a:pt x="44" y="42"/>
                    </a:lnTo>
                    <a:lnTo>
                      <a:pt x="38" y="35"/>
                    </a:lnTo>
                    <a:lnTo>
                      <a:pt x="30" y="29"/>
                    </a:lnTo>
                    <a:lnTo>
                      <a:pt x="24" y="23"/>
                    </a:lnTo>
                    <a:lnTo>
                      <a:pt x="18" y="18"/>
                    </a:lnTo>
                    <a:lnTo>
                      <a:pt x="12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875" y="0"/>
                    </a:lnTo>
                    <a:lnTo>
                      <a:pt x="877" y="5"/>
                    </a:lnTo>
                    <a:lnTo>
                      <a:pt x="879" y="9"/>
                    </a:lnTo>
                    <a:lnTo>
                      <a:pt x="881" y="13"/>
                    </a:lnTo>
                    <a:lnTo>
                      <a:pt x="883" y="18"/>
                    </a:lnTo>
                    <a:lnTo>
                      <a:pt x="885" y="21"/>
                    </a:lnTo>
                    <a:lnTo>
                      <a:pt x="888" y="25"/>
                    </a:lnTo>
                    <a:lnTo>
                      <a:pt x="889" y="30"/>
                    </a:lnTo>
                    <a:lnTo>
                      <a:pt x="891" y="34"/>
                    </a:lnTo>
                    <a:lnTo>
                      <a:pt x="895" y="42"/>
                    </a:lnTo>
                    <a:lnTo>
                      <a:pt x="899" y="50"/>
                    </a:lnTo>
                    <a:lnTo>
                      <a:pt x="902" y="58"/>
                    </a:lnTo>
                    <a:lnTo>
                      <a:pt x="905" y="66"/>
                    </a:lnTo>
                    <a:lnTo>
                      <a:pt x="908" y="74"/>
                    </a:lnTo>
                    <a:lnTo>
                      <a:pt x="911" y="82"/>
                    </a:lnTo>
                    <a:lnTo>
                      <a:pt x="915" y="90"/>
                    </a:lnTo>
                    <a:lnTo>
                      <a:pt x="917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1719000" y="1252440"/>
                <a:ext cx="301680" cy="30240"/>
              </a:xfrm>
              <a:custGeom>
                <a:avLst/>
                <a:gdLst/>
                <a:ahLst/>
                <a:rect l="l" t="t" r="r" b="b"/>
                <a:pathLst>
                  <a:path w="949" h="98">
                    <a:moveTo>
                      <a:pt x="949" y="98"/>
                    </a:moveTo>
                    <a:lnTo>
                      <a:pt x="102" y="98"/>
                    </a:lnTo>
                    <a:lnTo>
                      <a:pt x="102" y="98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101" y="96"/>
                    </a:lnTo>
                    <a:lnTo>
                      <a:pt x="86" y="83"/>
                    </a:lnTo>
                    <a:lnTo>
                      <a:pt x="73" y="71"/>
                    </a:lnTo>
                    <a:lnTo>
                      <a:pt x="61" y="58"/>
                    </a:lnTo>
                    <a:lnTo>
                      <a:pt x="48" y="47"/>
                    </a:lnTo>
                    <a:lnTo>
                      <a:pt x="37" y="36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0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3" y="10"/>
                    </a:lnTo>
                    <a:lnTo>
                      <a:pt x="909" y="20"/>
                    </a:lnTo>
                    <a:lnTo>
                      <a:pt x="914" y="30"/>
                    </a:lnTo>
                    <a:lnTo>
                      <a:pt x="920" y="40"/>
                    </a:lnTo>
                    <a:lnTo>
                      <a:pt x="925" y="51"/>
                    </a:lnTo>
                    <a:lnTo>
                      <a:pt x="931" y="61"/>
                    </a:lnTo>
                    <a:lnTo>
                      <a:pt x="936" y="72"/>
                    </a:lnTo>
                    <a:lnTo>
                      <a:pt x="941" y="82"/>
                    </a:lnTo>
                    <a:lnTo>
                      <a:pt x="942" y="84"/>
                    </a:lnTo>
                    <a:lnTo>
                      <a:pt x="942" y="85"/>
                    </a:lnTo>
                    <a:lnTo>
                      <a:pt x="944" y="88"/>
                    </a:lnTo>
                    <a:lnTo>
                      <a:pt x="945" y="89"/>
                    </a:lnTo>
                    <a:lnTo>
                      <a:pt x="946" y="91"/>
                    </a:lnTo>
                    <a:lnTo>
                      <a:pt x="946" y="94"/>
                    </a:lnTo>
                    <a:lnTo>
                      <a:pt x="947" y="95"/>
                    </a:lnTo>
                    <a:lnTo>
                      <a:pt x="949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1704960" y="1236600"/>
                <a:ext cx="307800" cy="30240"/>
              </a:xfrm>
              <a:custGeom>
                <a:avLst/>
                <a:gdLst/>
                <a:ahLst/>
                <a:rect l="l" t="t" r="r" b="b"/>
                <a:pathLst>
                  <a:path w="969" h="97">
                    <a:moveTo>
                      <a:pt x="969" y="97"/>
                    </a:moveTo>
                    <a:lnTo>
                      <a:pt x="94" y="97"/>
                    </a:lnTo>
                    <a:lnTo>
                      <a:pt x="89" y="92"/>
                    </a:lnTo>
                    <a:lnTo>
                      <a:pt x="83" y="86"/>
                    </a:lnTo>
                    <a:lnTo>
                      <a:pt x="78" y="81"/>
                    </a:lnTo>
                    <a:lnTo>
                      <a:pt x="73" y="77"/>
                    </a:lnTo>
                    <a:lnTo>
                      <a:pt x="68" y="72"/>
                    </a:lnTo>
                    <a:lnTo>
                      <a:pt x="63" y="67"/>
                    </a:lnTo>
                    <a:lnTo>
                      <a:pt x="58" y="63"/>
                    </a:lnTo>
                    <a:lnTo>
                      <a:pt x="54" y="58"/>
                    </a:lnTo>
                    <a:lnTo>
                      <a:pt x="47" y="51"/>
                    </a:lnTo>
                    <a:lnTo>
                      <a:pt x="39" y="45"/>
                    </a:lnTo>
                    <a:lnTo>
                      <a:pt x="33" y="37"/>
                    </a:lnTo>
                    <a:lnTo>
                      <a:pt x="26" y="30"/>
                    </a:lnTo>
                    <a:lnTo>
                      <a:pt x="20" y="22"/>
                    </a:lnTo>
                    <a:lnTo>
                      <a:pt x="12" y="15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909" y="0"/>
                    </a:lnTo>
                    <a:lnTo>
                      <a:pt x="916" y="13"/>
                    </a:lnTo>
                    <a:lnTo>
                      <a:pt x="925" y="24"/>
                    </a:lnTo>
                    <a:lnTo>
                      <a:pt x="932" y="36"/>
                    </a:lnTo>
                    <a:lnTo>
                      <a:pt x="941" y="48"/>
                    </a:lnTo>
                    <a:lnTo>
                      <a:pt x="948" y="61"/>
                    </a:lnTo>
                    <a:lnTo>
                      <a:pt x="956" y="73"/>
                    </a:lnTo>
                    <a:lnTo>
                      <a:pt x="962" y="85"/>
                    </a:lnTo>
                    <a:lnTo>
                      <a:pt x="969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1693800" y="1220760"/>
                <a:ext cx="311040" cy="31680"/>
              </a:xfrm>
              <a:custGeom>
                <a:avLst/>
                <a:gdLst/>
                <a:ahLst/>
                <a:rect l="l" t="t" r="r" b="b"/>
                <a:pathLst>
                  <a:path w="980" h="97">
                    <a:moveTo>
                      <a:pt x="980" y="97"/>
                    </a:moveTo>
                    <a:lnTo>
                      <a:pt x="83" y="97"/>
                    </a:lnTo>
                    <a:lnTo>
                      <a:pt x="72" y="85"/>
                    </a:lnTo>
                    <a:lnTo>
                      <a:pt x="61" y="73"/>
                    </a:lnTo>
                    <a:lnTo>
                      <a:pt x="50" y="61"/>
                    </a:lnTo>
                    <a:lnTo>
                      <a:pt x="39" y="48"/>
                    </a:lnTo>
                    <a:lnTo>
                      <a:pt x="29" y="36"/>
                    </a:lnTo>
                    <a:lnTo>
                      <a:pt x="19" y="25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910" y="0"/>
                    </a:lnTo>
                    <a:lnTo>
                      <a:pt x="918" y="11"/>
                    </a:lnTo>
                    <a:lnTo>
                      <a:pt x="928" y="24"/>
                    </a:lnTo>
                    <a:lnTo>
                      <a:pt x="938" y="35"/>
                    </a:lnTo>
                    <a:lnTo>
                      <a:pt x="947" y="47"/>
                    </a:lnTo>
                    <a:lnTo>
                      <a:pt x="955" y="59"/>
                    </a:lnTo>
                    <a:lnTo>
                      <a:pt x="964" y="72"/>
                    </a:lnTo>
                    <a:lnTo>
                      <a:pt x="973" y="84"/>
                    </a:lnTo>
                    <a:lnTo>
                      <a:pt x="98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682640" y="1206360"/>
                <a:ext cx="311040" cy="30240"/>
              </a:xfrm>
              <a:custGeom>
                <a:avLst/>
                <a:gdLst/>
                <a:ahLst/>
                <a:rect l="l" t="t" r="r" b="b"/>
                <a:pathLst>
                  <a:path w="981" h="97">
                    <a:moveTo>
                      <a:pt x="981" y="97"/>
                    </a:moveTo>
                    <a:lnTo>
                      <a:pt x="72" y="97"/>
                    </a:lnTo>
                    <a:lnTo>
                      <a:pt x="62" y="85"/>
                    </a:lnTo>
                    <a:lnTo>
                      <a:pt x="52" y="74"/>
                    </a:lnTo>
                    <a:lnTo>
                      <a:pt x="43" y="62"/>
                    </a:lnTo>
                    <a:lnTo>
                      <a:pt x="33" y="49"/>
                    </a:lnTo>
                    <a:lnTo>
                      <a:pt x="24" y="37"/>
                    </a:lnTo>
                    <a:lnTo>
                      <a:pt x="16" y="25"/>
                    </a:lnTo>
                    <a:lnTo>
                      <a:pt x="7" y="12"/>
                    </a:lnTo>
                    <a:lnTo>
                      <a:pt x="0" y="0"/>
                    </a:lnTo>
                    <a:lnTo>
                      <a:pt x="897" y="0"/>
                    </a:lnTo>
                    <a:lnTo>
                      <a:pt x="908" y="12"/>
                    </a:lnTo>
                    <a:lnTo>
                      <a:pt x="920" y="23"/>
                    </a:lnTo>
                    <a:lnTo>
                      <a:pt x="931" y="36"/>
                    </a:lnTo>
                    <a:lnTo>
                      <a:pt x="942" y="48"/>
                    </a:lnTo>
                    <a:lnTo>
                      <a:pt x="951" y="60"/>
                    </a:lnTo>
                    <a:lnTo>
                      <a:pt x="961" y="73"/>
                    </a:lnTo>
                    <a:lnTo>
                      <a:pt x="971" y="85"/>
                    </a:lnTo>
                    <a:lnTo>
                      <a:pt x="98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1673280" y="1190520"/>
                <a:ext cx="309240" cy="30240"/>
              </a:xfrm>
              <a:custGeom>
                <a:avLst/>
                <a:gdLst/>
                <a:ahLst/>
                <a:rect l="l" t="t" r="r" b="b"/>
                <a:pathLst>
                  <a:path w="973" h="97">
                    <a:moveTo>
                      <a:pt x="973" y="97"/>
                    </a:moveTo>
                    <a:lnTo>
                      <a:pt x="63" y="97"/>
                    </a:lnTo>
                    <a:lnTo>
                      <a:pt x="54" y="85"/>
                    </a:lnTo>
                    <a:lnTo>
                      <a:pt x="46" y="73"/>
                    </a:lnTo>
                    <a:lnTo>
                      <a:pt x="37" y="60"/>
                    </a:lnTo>
                    <a:lnTo>
                      <a:pt x="30" y="48"/>
                    </a:lnTo>
                    <a:lnTo>
                      <a:pt x="21" y="36"/>
                    </a:lnTo>
                    <a:lnTo>
                      <a:pt x="14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7" y="1"/>
                    </a:lnTo>
                    <a:lnTo>
                      <a:pt x="877" y="1"/>
                    </a:lnTo>
                    <a:lnTo>
                      <a:pt x="878" y="1"/>
                    </a:lnTo>
                    <a:lnTo>
                      <a:pt x="878" y="1"/>
                    </a:lnTo>
                    <a:lnTo>
                      <a:pt x="878" y="3"/>
                    </a:lnTo>
                    <a:lnTo>
                      <a:pt x="892" y="14"/>
                    </a:lnTo>
                    <a:lnTo>
                      <a:pt x="904" y="25"/>
                    </a:lnTo>
                    <a:lnTo>
                      <a:pt x="916" y="37"/>
                    </a:lnTo>
                    <a:lnTo>
                      <a:pt x="927" y="48"/>
                    </a:lnTo>
                    <a:lnTo>
                      <a:pt x="940" y="60"/>
                    </a:lnTo>
                    <a:lnTo>
                      <a:pt x="951" y="73"/>
                    </a:lnTo>
                    <a:lnTo>
                      <a:pt x="962" y="85"/>
                    </a:lnTo>
                    <a:lnTo>
                      <a:pt x="973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1665360" y="1174680"/>
                <a:ext cx="301320" cy="31680"/>
              </a:xfrm>
              <a:custGeom>
                <a:avLst/>
                <a:gdLst/>
                <a:ahLst/>
                <a:rect l="l" t="t" r="r" b="b"/>
                <a:pathLst>
                  <a:path w="952" h="97">
                    <a:moveTo>
                      <a:pt x="952" y="97"/>
                    </a:moveTo>
                    <a:lnTo>
                      <a:pt x="55" y="97"/>
                    </a:lnTo>
                    <a:lnTo>
                      <a:pt x="46" y="85"/>
                    </a:lnTo>
                    <a:lnTo>
                      <a:pt x="39" y="72"/>
                    </a:lnTo>
                    <a:lnTo>
                      <a:pt x="31" y="61"/>
                    </a:lnTo>
                    <a:lnTo>
                      <a:pt x="25" y="49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843" y="0"/>
                    </a:lnTo>
                    <a:lnTo>
                      <a:pt x="852" y="7"/>
                    </a:lnTo>
                    <a:lnTo>
                      <a:pt x="860" y="15"/>
                    </a:lnTo>
                    <a:lnTo>
                      <a:pt x="869" y="22"/>
                    </a:lnTo>
                    <a:lnTo>
                      <a:pt x="876" y="28"/>
                    </a:lnTo>
                    <a:lnTo>
                      <a:pt x="883" y="34"/>
                    </a:lnTo>
                    <a:lnTo>
                      <a:pt x="891" y="40"/>
                    </a:lnTo>
                    <a:lnTo>
                      <a:pt x="897" y="45"/>
                    </a:lnTo>
                    <a:lnTo>
                      <a:pt x="903" y="52"/>
                    </a:lnTo>
                    <a:lnTo>
                      <a:pt x="909" y="56"/>
                    </a:lnTo>
                    <a:lnTo>
                      <a:pt x="915" y="63"/>
                    </a:lnTo>
                    <a:lnTo>
                      <a:pt x="923" y="68"/>
                    </a:lnTo>
                    <a:lnTo>
                      <a:pt x="929" y="74"/>
                    </a:lnTo>
                    <a:lnTo>
                      <a:pt x="935" y="80"/>
                    </a:lnTo>
                    <a:lnTo>
                      <a:pt x="940" y="86"/>
                    </a:lnTo>
                    <a:lnTo>
                      <a:pt x="946" y="91"/>
                    </a:lnTo>
                    <a:lnTo>
                      <a:pt x="952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1658880" y="1158840"/>
                <a:ext cx="291960" cy="31680"/>
              </a:xfrm>
              <a:custGeom>
                <a:avLst/>
                <a:gdLst/>
                <a:ahLst/>
                <a:rect l="l" t="t" r="r" b="b"/>
                <a:pathLst>
                  <a:path w="921" h="98">
                    <a:moveTo>
                      <a:pt x="921" y="98"/>
                    </a:moveTo>
                    <a:lnTo>
                      <a:pt x="45" y="98"/>
                    </a:lnTo>
                    <a:lnTo>
                      <a:pt x="41" y="91"/>
                    </a:lnTo>
                    <a:lnTo>
                      <a:pt x="38" y="83"/>
                    </a:lnTo>
                    <a:lnTo>
                      <a:pt x="34" y="77"/>
                    </a:lnTo>
                    <a:lnTo>
                      <a:pt x="30" y="70"/>
                    </a:lnTo>
                    <a:lnTo>
                      <a:pt x="27" y="62"/>
                    </a:lnTo>
                    <a:lnTo>
                      <a:pt x="23" y="56"/>
                    </a:lnTo>
                    <a:lnTo>
                      <a:pt x="20" y="49"/>
                    </a:lnTo>
                    <a:lnTo>
                      <a:pt x="17" y="42"/>
                    </a:lnTo>
                    <a:lnTo>
                      <a:pt x="14" y="37"/>
                    </a:lnTo>
                    <a:lnTo>
                      <a:pt x="12" y="32"/>
                    </a:lnTo>
                    <a:lnTo>
                      <a:pt x="11" y="27"/>
                    </a:lnTo>
                    <a:lnTo>
                      <a:pt x="8" y="22"/>
                    </a:lnTo>
                    <a:lnTo>
                      <a:pt x="6" y="16"/>
                    </a:lnTo>
                    <a:lnTo>
                      <a:pt x="3" y="11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804" y="0"/>
                    </a:lnTo>
                    <a:lnTo>
                      <a:pt x="805" y="2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2" y="8"/>
                    </a:lnTo>
                    <a:lnTo>
                      <a:pt x="815" y="10"/>
                    </a:lnTo>
                    <a:lnTo>
                      <a:pt x="817" y="11"/>
                    </a:lnTo>
                    <a:lnTo>
                      <a:pt x="819" y="13"/>
                    </a:lnTo>
                    <a:lnTo>
                      <a:pt x="835" y="26"/>
                    </a:lnTo>
                    <a:lnTo>
                      <a:pt x="849" y="38"/>
                    </a:lnTo>
                    <a:lnTo>
                      <a:pt x="864" y="50"/>
                    </a:lnTo>
                    <a:lnTo>
                      <a:pt x="876" y="60"/>
                    </a:lnTo>
                    <a:lnTo>
                      <a:pt x="889" y="71"/>
                    </a:lnTo>
                    <a:lnTo>
                      <a:pt x="900" y="81"/>
                    </a:lnTo>
                    <a:lnTo>
                      <a:pt x="911" y="89"/>
                    </a:lnTo>
                    <a:lnTo>
                      <a:pt x="921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654200" y="114444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879" h="97">
                    <a:moveTo>
                      <a:pt x="879" y="97"/>
                    </a:moveTo>
                    <a:lnTo>
                      <a:pt x="36" y="97"/>
                    </a:lnTo>
                    <a:lnTo>
                      <a:pt x="35" y="96"/>
                    </a:lnTo>
                    <a:lnTo>
                      <a:pt x="35" y="96"/>
                    </a:lnTo>
                    <a:lnTo>
                      <a:pt x="35" y="94"/>
                    </a:lnTo>
                    <a:lnTo>
                      <a:pt x="34" y="93"/>
                    </a:lnTo>
                    <a:lnTo>
                      <a:pt x="34" y="92"/>
                    </a:lnTo>
                    <a:lnTo>
                      <a:pt x="34" y="92"/>
                    </a:lnTo>
                    <a:lnTo>
                      <a:pt x="33" y="91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3" y="67"/>
                    </a:lnTo>
                    <a:lnTo>
                      <a:pt x="19" y="56"/>
                    </a:lnTo>
                    <a:lnTo>
                      <a:pt x="14" y="45"/>
                    </a:lnTo>
                    <a:lnTo>
                      <a:pt x="11" y="34"/>
                    </a:lnTo>
                    <a:lnTo>
                      <a:pt x="7" y="23"/>
                    </a:lnTo>
                    <a:lnTo>
                      <a:pt x="3" y="11"/>
                    </a:lnTo>
                    <a:lnTo>
                      <a:pt x="0" y="0"/>
                    </a:lnTo>
                    <a:lnTo>
                      <a:pt x="765" y="0"/>
                    </a:lnTo>
                    <a:lnTo>
                      <a:pt x="772" y="7"/>
                    </a:lnTo>
                    <a:lnTo>
                      <a:pt x="781" y="14"/>
                    </a:lnTo>
                    <a:lnTo>
                      <a:pt x="789" y="22"/>
                    </a:lnTo>
                    <a:lnTo>
                      <a:pt x="798" y="29"/>
                    </a:lnTo>
                    <a:lnTo>
                      <a:pt x="806" y="38"/>
                    </a:lnTo>
                    <a:lnTo>
                      <a:pt x="816" y="45"/>
                    </a:lnTo>
                    <a:lnTo>
                      <a:pt x="825" y="53"/>
                    </a:lnTo>
                    <a:lnTo>
                      <a:pt x="835" y="61"/>
                    </a:lnTo>
                    <a:lnTo>
                      <a:pt x="841" y="66"/>
                    </a:lnTo>
                    <a:lnTo>
                      <a:pt x="847" y="70"/>
                    </a:lnTo>
                    <a:lnTo>
                      <a:pt x="852" y="75"/>
                    </a:lnTo>
                    <a:lnTo>
                      <a:pt x="858" y="80"/>
                    </a:lnTo>
                    <a:lnTo>
                      <a:pt x="863" y="85"/>
                    </a:lnTo>
                    <a:lnTo>
                      <a:pt x="869" y="88"/>
                    </a:lnTo>
                    <a:lnTo>
                      <a:pt x="874" y="93"/>
                    </a:lnTo>
                    <a:lnTo>
                      <a:pt x="879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649160" y="1128600"/>
                <a:ext cx="265320" cy="30240"/>
              </a:xfrm>
              <a:custGeom>
                <a:avLst/>
                <a:gdLst/>
                <a:ahLst/>
                <a:rect l="l" t="t" r="r" b="b"/>
                <a:pathLst>
                  <a:path w="832" h="97">
                    <a:moveTo>
                      <a:pt x="832" y="97"/>
                    </a:moveTo>
                    <a:lnTo>
                      <a:pt x="28" y="97"/>
                    </a:lnTo>
                    <a:lnTo>
                      <a:pt x="24" y="86"/>
                    </a:lnTo>
                    <a:lnTo>
                      <a:pt x="20" y="73"/>
                    </a:lnTo>
                    <a:lnTo>
                      <a:pt x="15" y="61"/>
                    </a:lnTo>
                    <a:lnTo>
                      <a:pt x="13" y="49"/>
                    </a:lnTo>
                    <a:lnTo>
                      <a:pt x="9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732" y="0"/>
                    </a:lnTo>
                    <a:lnTo>
                      <a:pt x="741" y="12"/>
                    </a:lnTo>
                    <a:lnTo>
                      <a:pt x="752" y="23"/>
                    </a:lnTo>
                    <a:lnTo>
                      <a:pt x="763" y="35"/>
                    </a:lnTo>
                    <a:lnTo>
                      <a:pt x="775" y="48"/>
                    </a:lnTo>
                    <a:lnTo>
                      <a:pt x="788" y="60"/>
                    </a:lnTo>
                    <a:lnTo>
                      <a:pt x="801" y="72"/>
                    </a:lnTo>
                    <a:lnTo>
                      <a:pt x="816" y="84"/>
                    </a:lnTo>
                    <a:lnTo>
                      <a:pt x="83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647720" y="1112760"/>
                <a:ext cx="249120" cy="31680"/>
              </a:xfrm>
              <a:custGeom>
                <a:avLst/>
                <a:gdLst/>
                <a:ahLst/>
                <a:rect l="l" t="t" r="r" b="b"/>
                <a:pathLst>
                  <a:path w="785" h="97">
                    <a:moveTo>
                      <a:pt x="785" y="97"/>
                    </a:moveTo>
                    <a:lnTo>
                      <a:pt x="20" y="97"/>
                    </a:lnTo>
                    <a:lnTo>
                      <a:pt x="17" y="84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6"/>
                    </a:lnTo>
                    <a:lnTo>
                      <a:pt x="4" y="24"/>
                    </a:lnTo>
                    <a:lnTo>
                      <a:pt x="1" y="12"/>
                    </a:lnTo>
                    <a:lnTo>
                      <a:pt x="0" y="0"/>
                    </a:lnTo>
                    <a:lnTo>
                      <a:pt x="707" y="0"/>
                    </a:lnTo>
                    <a:lnTo>
                      <a:pt x="713" y="11"/>
                    </a:lnTo>
                    <a:lnTo>
                      <a:pt x="721" y="23"/>
                    </a:lnTo>
                    <a:lnTo>
                      <a:pt x="729" y="34"/>
                    </a:lnTo>
                    <a:lnTo>
                      <a:pt x="739" y="46"/>
                    </a:lnTo>
                    <a:lnTo>
                      <a:pt x="749" y="59"/>
                    </a:lnTo>
                    <a:lnTo>
                      <a:pt x="760" y="71"/>
                    </a:lnTo>
                    <a:lnTo>
                      <a:pt x="772" y="84"/>
                    </a:lnTo>
                    <a:lnTo>
                      <a:pt x="78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646280" y="1096920"/>
                <a:ext cx="236520" cy="31680"/>
              </a:xfrm>
              <a:custGeom>
                <a:avLst/>
                <a:gdLst/>
                <a:ahLst/>
                <a:rect l="l" t="t" r="r" b="b"/>
                <a:pathLst>
                  <a:path w="745" h="98">
                    <a:moveTo>
                      <a:pt x="745" y="98"/>
                    </a:moveTo>
                    <a:lnTo>
                      <a:pt x="13" y="98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7" y="62"/>
                    </a:lnTo>
                    <a:lnTo>
                      <a:pt x="5" y="50"/>
                    </a:lnTo>
                    <a:lnTo>
                      <a:pt x="4" y="37"/>
                    </a:lnTo>
                    <a:lnTo>
                      <a:pt x="2" y="26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696" y="13"/>
                    </a:lnTo>
                    <a:lnTo>
                      <a:pt x="700" y="24"/>
                    </a:lnTo>
                    <a:lnTo>
                      <a:pt x="705" y="36"/>
                    </a:lnTo>
                    <a:lnTo>
                      <a:pt x="711" y="48"/>
                    </a:lnTo>
                    <a:lnTo>
                      <a:pt x="718" y="61"/>
                    </a:lnTo>
                    <a:lnTo>
                      <a:pt x="726" y="73"/>
                    </a:lnTo>
                    <a:lnTo>
                      <a:pt x="735" y="85"/>
                    </a:lnTo>
                    <a:lnTo>
                      <a:pt x="745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646280" y="1082520"/>
                <a:ext cx="225360" cy="30240"/>
              </a:xfrm>
              <a:custGeom>
                <a:avLst/>
                <a:gdLst/>
                <a:ahLst/>
                <a:rect l="l" t="t" r="r" b="b"/>
                <a:pathLst>
                  <a:path w="713" h="98">
                    <a:moveTo>
                      <a:pt x="713" y="98"/>
                    </a:moveTo>
                    <a:lnTo>
                      <a:pt x="6" y="98"/>
                    </a:lnTo>
                    <a:lnTo>
                      <a:pt x="5" y="85"/>
                    </a:lnTo>
                    <a:lnTo>
                      <a:pt x="3" y="73"/>
                    </a:lnTo>
                    <a:lnTo>
                      <a:pt x="2" y="62"/>
                    </a:lnTo>
                    <a:lnTo>
                      <a:pt x="1" y="50"/>
                    </a:lnTo>
                    <a:lnTo>
                      <a:pt x="1" y="37"/>
                    </a:lnTo>
                    <a:lnTo>
                      <a:pt x="0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92" y="3"/>
                    </a:lnTo>
                    <a:lnTo>
                      <a:pt x="692" y="5"/>
                    </a:lnTo>
                    <a:lnTo>
                      <a:pt x="692" y="9"/>
                    </a:lnTo>
                    <a:lnTo>
                      <a:pt x="692" y="11"/>
                    </a:lnTo>
                    <a:lnTo>
                      <a:pt x="692" y="14"/>
                    </a:lnTo>
                    <a:lnTo>
                      <a:pt x="692" y="18"/>
                    </a:lnTo>
                    <a:lnTo>
                      <a:pt x="692" y="20"/>
                    </a:lnTo>
                    <a:lnTo>
                      <a:pt x="692" y="23"/>
                    </a:lnTo>
                    <a:lnTo>
                      <a:pt x="692" y="31"/>
                    </a:lnTo>
                    <a:lnTo>
                      <a:pt x="693" y="41"/>
                    </a:lnTo>
                    <a:lnTo>
                      <a:pt x="695" y="50"/>
                    </a:lnTo>
                    <a:lnTo>
                      <a:pt x="697" y="59"/>
                    </a:lnTo>
                    <a:lnTo>
                      <a:pt x="700" y="68"/>
                    </a:lnTo>
                    <a:lnTo>
                      <a:pt x="703" y="78"/>
                    </a:lnTo>
                    <a:lnTo>
                      <a:pt x="708" y="88"/>
                    </a:lnTo>
                    <a:lnTo>
                      <a:pt x="713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46280" y="1066680"/>
                <a:ext cx="222120" cy="30240"/>
              </a:xfrm>
              <a:custGeom>
                <a:avLst/>
                <a:gdLst/>
                <a:ahLst/>
                <a:rect l="l" t="t" r="r" b="b"/>
                <a:pathLst>
                  <a:path w="704" h="97">
                    <a:moveTo>
                      <a:pt x="695" y="97"/>
                    </a:moveTo>
                    <a:lnTo>
                      <a:pt x="1" y="97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704" y="0"/>
                    </a:lnTo>
                    <a:lnTo>
                      <a:pt x="701" y="9"/>
                    </a:lnTo>
                    <a:lnTo>
                      <a:pt x="698" y="17"/>
                    </a:lnTo>
                    <a:lnTo>
                      <a:pt x="697" y="26"/>
                    </a:lnTo>
                    <a:lnTo>
                      <a:pt x="695" y="35"/>
                    </a:lnTo>
                    <a:lnTo>
                      <a:pt x="693" y="43"/>
                    </a:lnTo>
                    <a:lnTo>
                      <a:pt x="692" y="53"/>
                    </a:lnTo>
                    <a:lnTo>
                      <a:pt x="692" y="62"/>
                    </a:lnTo>
                    <a:lnTo>
                      <a:pt x="692" y="72"/>
                    </a:lnTo>
                    <a:lnTo>
                      <a:pt x="692" y="75"/>
                    </a:lnTo>
                    <a:lnTo>
                      <a:pt x="692" y="78"/>
                    </a:lnTo>
                    <a:lnTo>
                      <a:pt x="692" y="81"/>
                    </a:lnTo>
                    <a:lnTo>
                      <a:pt x="692" y="85"/>
                    </a:lnTo>
                    <a:lnTo>
                      <a:pt x="693" y="88"/>
                    </a:lnTo>
                    <a:lnTo>
                      <a:pt x="693" y="91"/>
                    </a:lnTo>
                    <a:lnTo>
                      <a:pt x="693" y="95"/>
                    </a:lnTo>
                    <a:lnTo>
                      <a:pt x="695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646280" y="1050840"/>
                <a:ext cx="377640" cy="3168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693" y="97"/>
                    </a:move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4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0" y="58"/>
                    </a:lnTo>
                    <a:lnTo>
                      <a:pt x="1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3" y="11"/>
                    </a:lnTo>
                    <a:lnTo>
                      <a:pt x="5" y="0"/>
                    </a:lnTo>
                    <a:lnTo>
                      <a:pt x="735" y="0"/>
                    </a:lnTo>
                    <a:lnTo>
                      <a:pt x="727" y="10"/>
                    </a:lnTo>
                    <a:lnTo>
                      <a:pt x="719" y="20"/>
                    </a:lnTo>
                    <a:lnTo>
                      <a:pt x="712" y="32"/>
                    </a:lnTo>
                    <a:lnTo>
                      <a:pt x="706" y="43"/>
                    </a:lnTo>
                    <a:lnTo>
                      <a:pt x="702" y="56"/>
                    </a:lnTo>
                    <a:lnTo>
                      <a:pt x="697" y="69"/>
                    </a:lnTo>
                    <a:lnTo>
                      <a:pt x="695" y="83"/>
                    </a:lnTo>
                    <a:lnTo>
                      <a:pt x="693" y="97"/>
                    </a:lnTo>
                    <a:close/>
                    <a:moveTo>
                      <a:pt x="1168" y="0"/>
                    </a:moveTo>
                    <a:lnTo>
                      <a:pt x="1193" y="0"/>
                    </a:lnTo>
                    <a:lnTo>
                      <a:pt x="1193" y="13"/>
                    </a:lnTo>
                    <a:lnTo>
                      <a:pt x="1189" y="10"/>
                    </a:lnTo>
                    <a:lnTo>
                      <a:pt x="1187" y="9"/>
                    </a:lnTo>
                    <a:lnTo>
                      <a:pt x="1183" y="8"/>
                    </a:lnTo>
                    <a:lnTo>
                      <a:pt x="1180" y="6"/>
                    </a:lnTo>
                    <a:lnTo>
                      <a:pt x="1177" y="4"/>
                    </a:lnTo>
                    <a:lnTo>
                      <a:pt x="1174" y="3"/>
                    </a:lnTo>
                    <a:lnTo>
                      <a:pt x="1171" y="1"/>
                    </a:lnTo>
                    <a:lnTo>
                      <a:pt x="1168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646280" y="1036800"/>
                <a:ext cx="377640" cy="29880"/>
              </a:xfrm>
              <a:custGeom>
                <a:avLst/>
                <a:gdLst/>
                <a:ahLst/>
                <a:rect l="l" t="t" r="r" b="b"/>
                <a:pathLst>
                  <a:path w="1192" h="97">
                    <a:moveTo>
                      <a:pt x="703" y="97"/>
                    </a:moveTo>
                    <a:lnTo>
                      <a:pt x="0" y="97"/>
                    </a:lnTo>
                    <a:lnTo>
                      <a:pt x="0" y="85"/>
                    </a:lnTo>
                    <a:lnTo>
                      <a:pt x="1" y="73"/>
                    </a:lnTo>
                    <a:lnTo>
                      <a:pt x="2" y="60"/>
                    </a:lnTo>
                    <a:lnTo>
                      <a:pt x="4" y="48"/>
                    </a:lnTo>
                    <a:lnTo>
                      <a:pt x="5" y="36"/>
                    </a:lnTo>
                    <a:lnTo>
                      <a:pt x="7" y="25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813" y="0"/>
                    </a:lnTo>
                    <a:lnTo>
                      <a:pt x="804" y="4"/>
                    </a:lnTo>
                    <a:lnTo>
                      <a:pt x="796" y="6"/>
                    </a:lnTo>
                    <a:lnTo>
                      <a:pt x="788" y="10"/>
                    </a:lnTo>
                    <a:lnTo>
                      <a:pt x="781" y="14"/>
                    </a:lnTo>
                    <a:lnTo>
                      <a:pt x="774" y="18"/>
                    </a:lnTo>
                    <a:lnTo>
                      <a:pt x="766" y="22"/>
                    </a:lnTo>
                    <a:lnTo>
                      <a:pt x="759" y="27"/>
                    </a:lnTo>
                    <a:lnTo>
                      <a:pt x="753" y="32"/>
                    </a:lnTo>
                    <a:lnTo>
                      <a:pt x="744" y="39"/>
                    </a:lnTo>
                    <a:lnTo>
                      <a:pt x="737" y="46"/>
                    </a:lnTo>
                    <a:lnTo>
                      <a:pt x="729" y="54"/>
                    </a:lnTo>
                    <a:lnTo>
                      <a:pt x="723" y="62"/>
                    </a:lnTo>
                    <a:lnTo>
                      <a:pt x="717" y="70"/>
                    </a:lnTo>
                    <a:lnTo>
                      <a:pt x="712" y="79"/>
                    </a:lnTo>
                    <a:lnTo>
                      <a:pt x="707" y="89"/>
                    </a:lnTo>
                    <a:lnTo>
                      <a:pt x="703" y="97"/>
                    </a:lnTo>
                    <a:close/>
                    <a:moveTo>
                      <a:pt x="1039" y="0"/>
                    </a:moveTo>
                    <a:lnTo>
                      <a:pt x="1192" y="0"/>
                    </a:lnTo>
                    <a:lnTo>
                      <a:pt x="1192" y="62"/>
                    </a:lnTo>
                    <a:lnTo>
                      <a:pt x="1172" y="52"/>
                    </a:lnTo>
                    <a:lnTo>
                      <a:pt x="1154" y="43"/>
                    </a:lnTo>
                    <a:lnTo>
                      <a:pt x="1135" y="34"/>
                    </a:lnTo>
                    <a:lnTo>
                      <a:pt x="1117" y="27"/>
                    </a:lnTo>
                    <a:lnTo>
                      <a:pt x="1099" y="20"/>
                    </a:lnTo>
                    <a:lnTo>
                      <a:pt x="1082" y="14"/>
                    </a:lnTo>
                    <a:lnTo>
                      <a:pt x="1065" y="9"/>
                    </a:lnTo>
                    <a:lnTo>
                      <a:pt x="1049" y="2"/>
                    </a:lnTo>
                    <a:lnTo>
                      <a:pt x="1048" y="2"/>
                    </a:lnTo>
                    <a:lnTo>
                      <a:pt x="1047" y="2"/>
                    </a:lnTo>
                    <a:lnTo>
                      <a:pt x="1045" y="2"/>
                    </a:lnTo>
                    <a:lnTo>
                      <a:pt x="1044" y="1"/>
                    </a:lnTo>
                    <a:lnTo>
                      <a:pt x="1043" y="1"/>
                    </a:lnTo>
                    <a:lnTo>
                      <a:pt x="1042" y="1"/>
                    </a:lnTo>
                    <a:lnTo>
                      <a:pt x="1040" y="1"/>
                    </a:lnTo>
                    <a:lnTo>
                      <a:pt x="103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647720" y="1020960"/>
                <a:ext cx="376200" cy="29880"/>
              </a:xfrm>
              <a:custGeom>
                <a:avLst/>
                <a:gdLst/>
                <a:ahLst/>
                <a:rect l="l" t="t" r="r" b="b"/>
                <a:pathLst>
                  <a:path w="1188" h="97">
                    <a:moveTo>
                      <a:pt x="1188" y="97"/>
                    </a:moveTo>
                    <a:lnTo>
                      <a:pt x="1163" y="97"/>
                    </a:lnTo>
                    <a:lnTo>
                      <a:pt x="1147" y="90"/>
                    </a:lnTo>
                    <a:lnTo>
                      <a:pt x="1131" y="82"/>
                    </a:lnTo>
                    <a:lnTo>
                      <a:pt x="1116" y="76"/>
                    </a:lnTo>
                    <a:lnTo>
                      <a:pt x="1102" y="70"/>
                    </a:lnTo>
                    <a:lnTo>
                      <a:pt x="1087" y="65"/>
                    </a:lnTo>
                    <a:lnTo>
                      <a:pt x="1072" y="60"/>
                    </a:lnTo>
                    <a:lnTo>
                      <a:pt x="1059" y="55"/>
                    </a:lnTo>
                    <a:lnTo>
                      <a:pt x="1045" y="50"/>
                    </a:lnTo>
                    <a:lnTo>
                      <a:pt x="1028" y="47"/>
                    </a:lnTo>
                    <a:lnTo>
                      <a:pt x="1012" y="43"/>
                    </a:lnTo>
                    <a:lnTo>
                      <a:pt x="997" y="39"/>
                    </a:lnTo>
                    <a:lnTo>
                      <a:pt x="982" y="37"/>
                    </a:lnTo>
                    <a:lnTo>
                      <a:pt x="968" y="34"/>
                    </a:lnTo>
                    <a:lnTo>
                      <a:pt x="953" y="33"/>
                    </a:lnTo>
                    <a:lnTo>
                      <a:pt x="939" y="32"/>
                    </a:lnTo>
                    <a:lnTo>
                      <a:pt x="927" y="32"/>
                    </a:lnTo>
                    <a:lnTo>
                      <a:pt x="899" y="32"/>
                    </a:lnTo>
                    <a:lnTo>
                      <a:pt x="872" y="34"/>
                    </a:lnTo>
                    <a:lnTo>
                      <a:pt x="847" y="38"/>
                    </a:lnTo>
                    <a:lnTo>
                      <a:pt x="824" y="43"/>
                    </a:lnTo>
                    <a:lnTo>
                      <a:pt x="803" y="50"/>
                    </a:lnTo>
                    <a:lnTo>
                      <a:pt x="783" y="59"/>
                    </a:lnTo>
                    <a:lnTo>
                      <a:pt x="765" y="69"/>
                    </a:lnTo>
                    <a:lnTo>
                      <a:pt x="749" y="80"/>
                    </a:lnTo>
                    <a:lnTo>
                      <a:pt x="746" y="82"/>
                    </a:lnTo>
                    <a:lnTo>
                      <a:pt x="744" y="84"/>
                    </a:lnTo>
                    <a:lnTo>
                      <a:pt x="741" y="86"/>
                    </a:lnTo>
                    <a:lnTo>
                      <a:pt x="739" y="89"/>
                    </a:lnTo>
                    <a:lnTo>
                      <a:pt x="736" y="90"/>
                    </a:lnTo>
                    <a:lnTo>
                      <a:pt x="734" y="92"/>
                    </a:lnTo>
                    <a:lnTo>
                      <a:pt x="733" y="95"/>
                    </a:lnTo>
                    <a:lnTo>
                      <a:pt x="730" y="97"/>
                    </a:lnTo>
                    <a:lnTo>
                      <a:pt x="0" y="97"/>
                    </a:lnTo>
                    <a:lnTo>
                      <a:pt x="1" y="85"/>
                    </a:lnTo>
                    <a:lnTo>
                      <a:pt x="3" y="73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9" y="36"/>
                    </a:lnTo>
                    <a:lnTo>
                      <a:pt x="12" y="23"/>
                    </a:lnTo>
                    <a:lnTo>
                      <a:pt x="14" y="11"/>
                    </a:lnTo>
                    <a:lnTo>
                      <a:pt x="17" y="0"/>
                    </a:lnTo>
                    <a:lnTo>
                      <a:pt x="1188" y="0"/>
                    </a:lnTo>
                    <a:lnTo>
                      <a:pt x="118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649160" y="1004760"/>
                <a:ext cx="374760" cy="32040"/>
              </a:xfrm>
              <a:custGeom>
                <a:avLst/>
                <a:gdLst/>
                <a:ahLst/>
                <a:rect l="l" t="t" r="r" b="b"/>
                <a:pathLst>
                  <a:path w="1181" h="97">
                    <a:moveTo>
                      <a:pt x="1181" y="97"/>
                    </a:moveTo>
                    <a:lnTo>
                      <a:pt x="1028" y="97"/>
                    </a:lnTo>
                    <a:lnTo>
                      <a:pt x="1013" y="93"/>
                    </a:lnTo>
                    <a:lnTo>
                      <a:pt x="999" y="90"/>
                    </a:lnTo>
                    <a:lnTo>
                      <a:pt x="985" y="87"/>
                    </a:lnTo>
                    <a:lnTo>
                      <a:pt x="970" y="85"/>
                    </a:lnTo>
                    <a:lnTo>
                      <a:pt x="957" y="83"/>
                    </a:lnTo>
                    <a:lnTo>
                      <a:pt x="945" y="82"/>
                    </a:lnTo>
                    <a:lnTo>
                      <a:pt x="932" y="81"/>
                    </a:lnTo>
                    <a:lnTo>
                      <a:pt x="920" y="81"/>
                    </a:lnTo>
                    <a:lnTo>
                      <a:pt x="903" y="81"/>
                    </a:lnTo>
                    <a:lnTo>
                      <a:pt x="887" y="82"/>
                    </a:lnTo>
                    <a:lnTo>
                      <a:pt x="871" y="83"/>
                    </a:lnTo>
                    <a:lnTo>
                      <a:pt x="856" y="85"/>
                    </a:lnTo>
                    <a:lnTo>
                      <a:pt x="841" y="87"/>
                    </a:lnTo>
                    <a:lnTo>
                      <a:pt x="828" y="90"/>
                    </a:lnTo>
                    <a:lnTo>
                      <a:pt x="814" y="93"/>
                    </a:lnTo>
                    <a:lnTo>
                      <a:pt x="802" y="97"/>
                    </a:lnTo>
                    <a:lnTo>
                      <a:pt x="0" y="97"/>
                    </a:lnTo>
                    <a:lnTo>
                      <a:pt x="2" y="85"/>
                    </a:lnTo>
                    <a:lnTo>
                      <a:pt x="5" y="72"/>
                    </a:lnTo>
                    <a:lnTo>
                      <a:pt x="7" y="60"/>
                    </a:lnTo>
                    <a:lnTo>
                      <a:pt x="10" y="48"/>
                    </a:lnTo>
                    <a:lnTo>
                      <a:pt x="14" y="36"/>
                    </a:lnTo>
                    <a:lnTo>
                      <a:pt x="17" y="23"/>
                    </a:lnTo>
                    <a:lnTo>
                      <a:pt x="21" y="12"/>
                    </a:lnTo>
                    <a:lnTo>
                      <a:pt x="25" y="0"/>
                    </a:lnTo>
                    <a:lnTo>
                      <a:pt x="1181" y="0"/>
                    </a:lnTo>
                    <a:lnTo>
                      <a:pt x="118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1652400" y="990720"/>
                <a:ext cx="371520" cy="30240"/>
              </a:xfrm>
              <a:custGeom>
                <a:avLst/>
                <a:gdLst/>
                <a:ahLst/>
                <a:rect l="l" t="t" r="r" b="b"/>
                <a:pathLst>
                  <a:path w="1171" h="97">
                    <a:moveTo>
                      <a:pt x="1171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1"/>
                    </a:lnTo>
                    <a:lnTo>
                      <a:pt x="11" y="59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8" y="11"/>
                    </a:lnTo>
                    <a:lnTo>
                      <a:pt x="33" y="0"/>
                    </a:lnTo>
                    <a:lnTo>
                      <a:pt x="1171" y="0"/>
                    </a:lnTo>
                    <a:lnTo>
                      <a:pt x="1171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57440" y="974880"/>
                <a:ext cx="366480" cy="29880"/>
              </a:xfrm>
              <a:custGeom>
                <a:avLst/>
                <a:gdLst/>
                <a:ahLst/>
                <a:rect l="l" t="t" r="r" b="b"/>
                <a:pathLst>
                  <a:path w="1156" h="97">
                    <a:moveTo>
                      <a:pt x="1156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3" y="35"/>
                    </a:lnTo>
                    <a:lnTo>
                      <a:pt x="29" y="23"/>
                    </a:lnTo>
                    <a:lnTo>
                      <a:pt x="35" y="12"/>
                    </a:lnTo>
                    <a:lnTo>
                      <a:pt x="40" y="0"/>
                    </a:lnTo>
                    <a:lnTo>
                      <a:pt x="1156" y="0"/>
                    </a:lnTo>
                    <a:lnTo>
                      <a:pt x="1156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1663560" y="959040"/>
                <a:ext cx="360360" cy="31680"/>
              </a:xfrm>
              <a:custGeom>
                <a:avLst/>
                <a:gdLst/>
                <a:ahLst/>
                <a:rect l="l" t="t" r="r" b="b"/>
                <a:pathLst>
                  <a:path w="1138" h="97">
                    <a:moveTo>
                      <a:pt x="1138" y="97"/>
                    </a:moveTo>
                    <a:lnTo>
                      <a:pt x="0" y="97"/>
                    </a:lnTo>
                    <a:lnTo>
                      <a:pt x="5" y="83"/>
                    </a:lnTo>
                    <a:lnTo>
                      <a:pt x="11" y="71"/>
                    </a:lnTo>
                    <a:lnTo>
                      <a:pt x="17" y="59"/>
                    </a:lnTo>
                    <a:lnTo>
                      <a:pt x="23" y="46"/>
                    </a:lnTo>
                    <a:lnTo>
                      <a:pt x="30" y="35"/>
                    </a:lnTo>
                    <a:lnTo>
                      <a:pt x="37" y="23"/>
                    </a:lnTo>
                    <a:lnTo>
                      <a:pt x="44" y="11"/>
                    </a:lnTo>
                    <a:lnTo>
                      <a:pt x="52" y="0"/>
                    </a:lnTo>
                    <a:lnTo>
                      <a:pt x="1138" y="0"/>
                    </a:lnTo>
                    <a:lnTo>
                      <a:pt x="113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1670040" y="942840"/>
                <a:ext cx="353880" cy="32040"/>
              </a:xfrm>
              <a:custGeom>
                <a:avLst/>
                <a:gdLst/>
                <a:ahLst/>
                <a:rect l="l" t="t" r="r" b="b"/>
                <a:pathLst>
                  <a:path w="1116" h="97">
                    <a:moveTo>
                      <a:pt x="1116" y="97"/>
                    </a:moveTo>
                    <a:lnTo>
                      <a:pt x="0" y="97"/>
                    </a:lnTo>
                    <a:lnTo>
                      <a:pt x="8" y="84"/>
                    </a:lnTo>
                    <a:lnTo>
                      <a:pt x="15" y="72"/>
                    </a:lnTo>
                    <a:lnTo>
                      <a:pt x="22" y="60"/>
                    </a:lnTo>
                    <a:lnTo>
                      <a:pt x="30" y="47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4" y="12"/>
                    </a:lnTo>
                    <a:lnTo>
                      <a:pt x="64" y="0"/>
                    </a:lnTo>
                    <a:lnTo>
                      <a:pt x="1116" y="0"/>
                    </a:lnTo>
                    <a:lnTo>
                      <a:pt x="11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679400" y="928800"/>
                <a:ext cx="344520" cy="30240"/>
              </a:xfrm>
              <a:custGeom>
                <a:avLst/>
                <a:gdLst/>
                <a:ahLst/>
                <a:rect l="l" t="t" r="r" b="b"/>
                <a:pathLst>
                  <a:path w="1086" h="97">
                    <a:moveTo>
                      <a:pt x="1086" y="97"/>
                    </a:moveTo>
                    <a:lnTo>
                      <a:pt x="0" y="97"/>
                    </a:lnTo>
                    <a:lnTo>
                      <a:pt x="7" y="83"/>
                    </a:lnTo>
                    <a:lnTo>
                      <a:pt x="17" y="71"/>
                    </a:lnTo>
                    <a:lnTo>
                      <a:pt x="26" y="59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5" y="23"/>
                    </a:lnTo>
                    <a:lnTo>
                      <a:pt x="65" y="11"/>
                    </a:lnTo>
                    <a:lnTo>
                      <a:pt x="76" y="0"/>
                    </a:lnTo>
                    <a:lnTo>
                      <a:pt x="1086" y="0"/>
                    </a:lnTo>
                    <a:lnTo>
                      <a:pt x="108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1690560" y="912960"/>
                <a:ext cx="333360" cy="29880"/>
              </a:xfrm>
              <a:custGeom>
                <a:avLst/>
                <a:gdLst/>
                <a:ahLst/>
                <a:rect l="l" t="t" r="r" b="b"/>
                <a:pathLst>
                  <a:path w="1052" h="98">
                    <a:moveTo>
                      <a:pt x="1052" y="98"/>
                    </a:moveTo>
                    <a:lnTo>
                      <a:pt x="0" y="98"/>
                    </a:lnTo>
                    <a:lnTo>
                      <a:pt x="9" y="86"/>
                    </a:lnTo>
                    <a:lnTo>
                      <a:pt x="19" y="75"/>
                    </a:lnTo>
                    <a:lnTo>
                      <a:pt x="28" y="64"/>
                    </a:lnTo>
                    <a:lnTo>
                      <a:pt x="38" y="53"/>
                    </a:lnTo>
                    <a:lnTo>
                      <a:pt x="48" y="42"/>
                    </a:lnTo>
                    <a:lnTo>
                      <a:pt x="58" y="31"/>
                    </a:lnTo>
                    <a:lnTo>
                      <a:pt x="69" y="21"/>
                    </a:lnTo>
                    <a:lnTo>
                      <a:pt x="80" y="10"/>
                    </a:lnTo>
                    <a:lnTo>
                      <a:pt x="81" y="9"/>
                    </a:lnTo>
                    <a:lnTo>
                      <a:pt x="83" y="8"/>
                    </a:lnTo>
                    <a:lnTo>
                      <a:pt x="85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9" y="3"/>
                    </a:lnTo>
                    <a:lnTo>
                      <a:pt x="90" y="2"/>
                    </a:lnTo>
                    <a:lnTo>
                      <a:pt x="91" y="0"/>
                    </a:lnTo>
                    <a:lnTo>
                      <a:pt x="1052" y="0"/>
                    </a:lnTo>
                    <a:lnTo>
                      <a:pt x="1052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1703160" y="897120"/>
                <a:ext cx="320760" cy="31680"/>
              </a:xfrm>
              <a:custGeom>
                <a:avLst/>
                <a:gdLst/>
                <a:ahLst/>
                <a:rect l="l" t="t" r="r" b="b"/>
                <a:pathLst>
                  <a:path w="1010" h="98">
                    <a:moveTo>
                      <a:pt x="1010" y="98"/>
                    </a:moveTo>
                    <a:lnTo>
                      <a:pt x="0" y="98"/>
                    </a:lnTo>
                    <a:lnTo>
                      <a:pt x="4" y="93"/>
                    </a:lnTo>
                    <a:lnTo>
                      <a:pt x="9" y="88"/>
                    </a:lnTo>
                    <a:lnTo>
                      <a:pt x="13" y="83"/>
                    </a:lnTo>
                    <a:lnTo>
                      <a:pt x="18" y="78"/>
                    </a:lnTo>
                    <a:lnTo>
                      <a:pt x="23" y="73"/>
                    </a:lnTo>
                    <a:lnTo>
                      <a:pt x="28" y="68"/>
                    </a:lnTo>
                    <a:lnTo>
                      <a:pt x="33" y="63"/>
                    </a:lnTo>
                    <a:lnTo>
                      <a:pt x="38" y="58"/>
                    </a:lnTo>
                    <a:lnTo>
                      <a:pt x="47" y="51"/>
                    </a:lnTo>
                    <a:lnTo>
                      <a:pt x="55" y="43"/>
                    </a:lnTo>
                    <a:lnTo>
                      <a:pt x="65" y="35"/>
                    </a:lnTo>
                    <a:lnTo>
                      <a:pt x="74" y="27"/>
                    </a:lnTo>
                    <a:lnTo>
                      <a:pt x="82" y="21"/>
                    </a:lnTo>
                    <a:lnTo>
                      <a:pt x="92" y="14"/>
                    </a:lnTo>
                    <a:lnTo>
                      <a:pt x="101" y="7"/>
                    </a:lnTo>
                    <a:lnTo>
                      <a:pt x="111" y="0"/>
                    </a:lnTo>
                    <a:lnTo>
                      <a:pt x="1010" y="0"/>
                    </a:lnTo>
                    <a:lnTo>
                      <a:pt x="1010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1719000" y="880920"/>
                <a:ext cx="304920" cy="32040"/>
              </a:xfrm>
              <a:custGeom>
                <a:avLst/>
                <a:gdLst/>
                <a:ahLst/>
                <a:rect l="l" t="t" r="r" b="b"/>
                <a:pathLst>
                  <a:path w="961" h="97">
                    <a:moveTo>
                      <a:pt x="961" y="97"/>
                    </a:moveTo>
                    <a:lnTo>
                      <a:pt x="0" y="97"/>
                    </a:lnTo>
                    <a:lnTo>
                      <a:pt x="16" y="84"/>
                    </a:lnTo>
                    <a:lnTo>
                      <a:pt x="33" y="70"/>
                    </a:lnTo>
                    <a:lnTo>
                      <a:pt x="51" y="57"/>
                    </a:lnTo>
                    <a:lnTo>
                      <a:pt x="68" y="44"/>
                    </a:lnTo>
                    <a:lnTo>
                      <a:pt x="85" y="33"/>
                    </a:lnTo>
                    <a:lnTo>
                      <a:pt x="103" y="21"/>
                    </a:lnTo>
                    <a:lnTo>
                      <a:pt x="122" y="10"/>
                    </a:lnTo>
                    <a:lnTo>
                      <a:pt x="140" y="0"/>
                    </a:lnTo>
                    <a:lnTo>
                      <a:pt x="961" y="0"/>
                    </a:lnTo>
                    <a:lnTo>
                      <a:pt x="961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1738080" y="866880"/>
                <a:ext cx="285840" cy="3024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22" y="81"/>
                    </a:lnTo>
                    <a:lnTo>
                      <a:pt x="44" y="68"/>
                    </a:lnTo>
                    <a:lnTo>
                      <a:pt x="67" y="54"/>
                    </a:lnTo>
                    <a:lnTo>
                      <a:pt x="91" y="42"/>
                    </a:lnTo>
                    <a:lnTo>
                      <a:pt x="114" y="30"/>
                    </a:lnTo>
                    <a:lnTo>
                      <a:pt x="139" y="19"/>
                    </a:lnTo>
                    <a:lnTo>
                      <a:pt x="164" y="9"/>
                    </a:lnTo>
                    <a:lnTo>
                      <a:pt x="189" y="0"/>
                    </a:lnTo>
                    <a:lnTo>
                      <a:pt x="864" y="0"/>
                    </a:lnTo>
                    <a:lnTo>
                      <a:pt x="869" y="1"/>
                    </a:lnTo>
                    <a:lnTo>
                      <a:pt x="873" y="3"/>
                    </a:lnTo>
                    <a:lnTo>
                      <a:pt x="878" y="4"/>
                    </a:lnTo>
                    <a:lnTo>
                      <a:pt x="881" y="5"/>
                    </a:lnTo>
                    <a:lnTo>
                      <a:pt x="885" y="6"/>
                    </a:lnTo>
                    <a:lnTo>
                      <a:pt x="890" y="8"/>
                    </a:lnTo>
                    <a:lnTo>
                      <a:pt x="894" y="9"/>
                    </a:lnTo>
                    <a:lnTo>
                      <a:pt x="899" y="10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1763640" y="851040"/>
                <a:ext cx="260280" cy="29880"/>
              </a:xfrm>
              <a:custGeom>
                <a:avLst/>
                <a:gdLst/>
                <a:ahLst/>
                <a:rect l="l" t="t" r="r" b="b"/>
                <a:pathLst>
                  <a:path w="821" h="97">
                    <a:moveTo>
                      <a:pt x="821" y="97"/>
                    </a:moveTo>
                    <a:lnTo>
                      <a:pt x="0" y="97"/>
                    </a:lnTo>
                    <a:lnTo>
                      <a:pt x="22" y="85"/>
                    </a:lnTo>
                    <a:lnTo>
                      <a:pt x="46" y="75"/>
                    </a:lnTo>
                    <a:lnTo>
                      <a:pt x="70" y="64"/>
                    </a:lnTo>
                    <a:lnTo>
                      <a:pt x="95" y="54"/>
                    </a:lnTo>
                    <a:lnTo>
                      <a:pt x="120" y="46"/>
                    </a:lnTo>
                    <a:lnTo>
                      <a:pt x="144" y="38"/>
                    </a:lnTo>
                    <a:lnTo>
                      <a:pt x="170" y="31"/>
                    </a:lnTo>
                    <a:lnTo>
                      <a:pt x="197" y="25"/>
                    </a:lnTo>
                    <a:lnTo>
                      <a:pt x="223" y="18"/>
                    </a:lnTo>
                    <a:lnTo>
                      <a:pt x="251" y="14"/>
                    </a:lnTo>
                    <a:lnTo>
                      <a:pt x="278" y="10"/>
                    </a:lnTo>
                    <a:lnTo>
                      <a:pt x="307" y="6"/>
                    </a:lnTo>
                    <a:lnTo>
                      <a:pt x="335" y="4"/>
                    </a:lnTo>
                    <a:lnTo>
                      <a:pt x="364" y="1"/>
                    </a:lnTo>
                    <a:lnTo>
                      <a:pt x="394" y="0"/>
                    </a:lnTo>
                    <a:lnTo>
                      <a:pt x="425" y="0"/>
                    </a:lnTo>
                    <a:lnTo>
                      <a:pt x="452" y="0"/>
                    </a:lnTo>
                    <a:lnTo>
                      <a:pt x="479" y="1"/>
                    </a:lnTo>
                    <a:lnTo>
                      <a:pt x="506" y="2"/>
                    </a:lnTo>
                    <a:lnTo>
                      <a:pt x="532" y="4"/>
                    </a:lnTo>
                    <a:lnTo>
                      <a:pt x="558" y="6"/>
                    </a:lnTo>
                    <a:lnTo>
                      <a:pt x="583" y="9"/>
                    </a:lnTo>
                    <a:lnTo>
                      <a:pt x="608" y="11"/>
                    </a:lnTo>
                    <a:lnTo>
                      <a:pt x="633" y="15"/>
                    </a:lnTo>
                    <a:lnTo>
                      <a:pt x="657" y="18"/>
                    </a:lnTo>
                    <a:lnTo>
                      <a:pt x="682" y="22"/>
                    </a:lnTo>
                    <a:lnTo>
                      <a:pt x="705" y="27"/>
                    </a:lnTo>
                    <a:lnTo>
                      <a:pt x="728" y="33"/>
                    </a:lnTo>
                    <a:lnTo>
                      <a:pt x="752" y="39"/>
                    </a:lnTo>
                    <a:lnTo>
                      <a:pt x="775" y="46"/>
                    </a:lnTo>
                    <a:lnTo>
                      <a:pt x="797" y="52"/>
                    </a:lnTo>
                    <a:lnTo>
                      <a:pt x="821" y="59"/>
                    </a:lnTo>
                    <a:lnTo>
                      <a:pt x="821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798560" y="851040"/>
                <a:ext cx="214200" cy="15840"/>
              </a:xfrm>
              <a:custGeom>
                <a:avLst/>
                <a:gdLst/>
                <a:ahLst/>
                <a:rect l="l" t="t" r="r" b="b"/>
                <a:pathLst>
                  <a:path w="675" h="49">
                    <a:moveTo>
                      <a:pt x="675" y="49"/>
                    </a:moveTo>
                    <a:lnTo>
                      <a:pt x="0" y="49"/>
                    </a:lnTo>
                    <a:lnTo>
                      <a:pt x="36" y="37"/>
                    </a:lnTo>
                    <a:lnTo>
                      <a:pt x="73" y="27"/>
                    </a:lnTo>
                    <a:lnTo>
                      <a:pt x="111" y="18"/>
                    </a:lnTo>
                    <a:lnTo>
                      <a:pt x="149" y="12"/>
                    </a:lnTo>
                    <a:lnTo>
                      <a:pt x="188" y="7"/>
                    </a:lnTo>
                    <a:lnTo>
                      <a:pt x="229" y="2"/>
                    </a:lnTo>
                    <a:lnTo>
                      <a:pt x="271" y="1"/>
                    </a:lnTo>
                    <a:lnTo>
                      <a:pt x="314" y="0"/>
                    </a:lnTo>
                    <a:lnTo>
                      <a:pt x="341" y="0"/>
                    </a:lnTo>
                    <a:lnTo>
                      <a:pt x="368" y="1"/>
                    </a:lnTo>
                    <a:lnTo>
                      <a:pt x="395" y="2"/>
                    </a:lnTo>
                    <a:lnTo>
                      <a:pt x="421" y="4"/>
                    </a:lnTo>
                    <a:lnTo>
                      <a:pt x="447" y="6"/>
                    </a:lnTo>
                    <a:lnTo>
                      <a:pt x="472" y="9"/>
                    </a:lnTo>
                    <a:lnTo>
                      <a:pt x="497" y="11"/>
                    </a:lnTo>
                    <a:lnTo>
                      <a:pt x="522" y="15"/>
                    </a:lnTo>
                    <a:lnTo>
                      <a:pt x="541" y="17"/>
                    </a:lnTo>
                    <a:lnTo>
                      <a:pt x="561" y="21"/>
                    </a:lnTo>
                    <a:lnTo>
                      <a:pt x="581" y="25"/>
                    </a:lnTo>
                    <a:lnTo>
                      <a:pt x="600" y="28"/>
                    </a:lnTo>
                    <a:lnTo>
                      <a:pt x="619" y="33"/>
                    </a:lnTo>
                    <a:lnTo>
                      <a:pt x="638" y="38"/>
                    </a:lnTo>
                    <a:lnTo>
                      <a:pt x="657" y="43"/>
                    </a:lnTo>
                    <a:lnTo>
                      <a:pt x="675" y="49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125440" y="1592280"/>
                <a:ext cx="17640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2125440" y="1576440"/>
                <a:ext cx="17640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2125440" y="1560600"/>
                <a:ext cx="17640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2125440" y="1546200"/>
                <a:ext cx="17640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2125440" y="1530360"/>
                <a:ext cx="17640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125440" y="1514520"/>
                <a:ext cx="17640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2125440" y="1498680"/>
                <a:ext cx="17640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2125440" y="1484280"/>
                <a:ext cx="17640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2125440" y="1468440"/>
                <a:ext cx="17640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125440" y="1452600"/>
                <a:ext cx="17640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2125440" y="1436760"/>
                <a:ext cx="17640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2125440" y="1422360"/>
                <a:ext cx="17640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2125440" y="1416240"/>
                <a:ext cx="17640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2517840" y="1592280"/>
                <a:ext cx="19368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2517840" y="1576440"/>
                <a:ext cx="19368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2517840" y="1560600"/>
                <a:ext cx="19368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2517840" y="1546200"/>
                <a:ext cx="19368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2517840" y="1530360"/>
                <a:ext cx="19368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2517840" y="1514520"/>
                <a:ext cx="19368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517840" y="1498680"/>
                <a:ext cx="19368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517840" y="1484280"/>
                <a:ext cx="19368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517840" y="1468440"/>
                <a:ext cx="19368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517840" y="1452600"/>
                <a:ext cx="19368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517840" y="1436760"/>
                <a:ext cx="19368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517840" y="1422360"/>
                <a:ext cx="19368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517840" y="1406520"/>
                <a:ext cx="193680" cy="302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517840" y="1390680"/>
                <a:ext cx="193680" cy="3168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517840" y="1376280"/>
                <a:ext cx="19368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517840" y="1360440"/>
                <a:ext cx="193680" cy="302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517840" y="1344600"/>
                <a:ext cx="19368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2517840" y="1328760"/>
                <a:ext cx="193680" cy="3168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2517840" y="1314360"/>
                <a:ext cx="19368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517840" y="1298520"/>
                <a:ext cx="193680" cy="302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2517840" y="1282680"/>
                <a:ext cx="193680" cy="3168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2517840" y="1266840"/>
                <a:ext cx="193680" cy="3168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2517840" y="1252440"/>
                <a:ext cx="193680" cy="302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517840" y="1236600"/>
                <a:ext cx="193680" cy="302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517840" y="1220760"/>
                <a:ext cx="19368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517840" y="1206360"/>
                <a:ext cx="19368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517840" y="1190520"/>
                <a:ext cx="19368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2517840" y="1174680"/>
                <a:ext cx="19368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2517840" y="1158840"/>
                <a:ext cx="19368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517840" y="1144440"/>
                <a:ext cx="19368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2517840" y="1128600"/>
                <a:ext cx="19368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2517840" y="1112760"/>
                <a:ext cx="19368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2517840" y="1096920"/>
                <a:ext cx="19368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2517840" y="1082520"/>
                <a:ext cx="19368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2517840" y="1066680"/>
                <a:ext cx="19368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365200" y="1050840"/>
                <a:ext cx="49860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0"/>
                    </a:lnTo>
                    <a:lnTo>
                      <a:pt x="1091" y="0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365200" y="103680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1" y="97"/>
                    </a:moveTo>
                    <a:lnTo>
                      <a:pt x="477" y="97"/>
                    </a:lnTo>
                    <a:lnTo>
                      <a:pt x="477" y="49"/>
                    </a:lnTo>
                    <a:lnTo>
                      <a:pt x="0" y="49"/>
                    </a:lnTo>
                    <a:lnTo>
                      <a:pt x="5" y="0"/>
                    </a:lnTo>
                    <a:lnTo>
                      <a:pt x="1563" y="0"/>
                    </a:lnTo>
                    <a:lnTo>
                      <a:pt x="1569" y="49"/>
                    </a:lnTo>
                    <a:lnTo>
                      <a:pt x="1091" y="49"/>
                    </a:lnTo>
                    <a:lnTo>
                      <a:pt x="1091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365200" y="1020960"/>
                <a:ext cx="498600" cy="298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67000" y="1004760"/>
                <a:ext cx="495000" cy="320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9" y="0"/>
                    </a:lnTo>
                    <a:lnTo>
                      <a:pt x="1548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2368440" y="990720"/>
                <a:ext cx="492120" cy="30240"/>
              </a:xfrm>
              <a:custGeom>
                <a:avLst/>
                <a:gdLst/>
                <a:ahLst/>
                <a:rect l="l" t="t" r="r" b="b"/>
                <a:pathLst>
                  <a:path w="1549" h="97">
                    <a:moveTo>
                      <a:pt x="1549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38" y="0"/>
                    </a:lnTo>
                    <a:lnTo>
                      <a:pt x="154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2369880" y="974880"/>
                <a:ext cx="489240" cy="29880"/>
              </a:xfrm>
              <a:custGeom>
                <a:avLst/>
                <a:gdLst/>
                <a:ahLst/>
                <a:rect l="l" t="t" r="r" b="b"/>
                <a:pathLst>
                  <a:path w="1539" h="97">
                    <a:moveTo>
                      <a:pt x="153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28" y="0"/>
                    </a:lnTo>
                    <a:lnTo>
                      <a:pt x="1539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371680" y="959040"/>
                <a:ext cx="485640" cy="31680"/>
              </a:xfrm>
              <a:custGeom>
                <a:avLst/>
                <a:gdLst/>
                <a:ahLst/>
                <a:rect l="l" t="t" r="r" b="b"/>
                <a:pathLst>
                  <a:path w="1528" h="97">
                    <a:moveTo>
                      <a:pt x="1528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17" y="0"/>
                    </a:lnTo>
                    <a:lnTo>
                      <a:pt x="1528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373120" y="942840"/>
                <a:ext cx="482760" cy="32040"/>
              </a:xfrm>
              <a:custGeom>
                <a:avLst/>
                <a:gdLst/>
                <a:ahLst/>
                <a:rect l="l" t="t" r="r" b="b"/>
                <a:pathLst>
                  <a:path w="1517" h="97">
                    <a:moveTo>
                      <a:pt x="151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06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374920" y="92880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96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376360" y="912960"/>
                <a:ext cx="474840" cy="29880"/>
              </a:xfrm>
              <a:custGeom>
                <a:avLst/>
                <a:gdLst/>
                <a:ahLst/>
                <a:rect l="l" t="t" r="r" b="b"/>
                <a:pathLst>
                  <a:path w="1496" h="98">
                    <a:moveTo>
                      <a:pt x="149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5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2378160" y="897120"/>
                <a:ext cx="471240" cy="31680"/>
              </a:xfrm>
              <a:custGeom>
                <a:avLst/>
                <a:gdLst/>
                <a:ahLst/>
                <a:rect l="l" t="t" r="r" b="b"/>
                <a:pathLst>
                  <a:path w="1486" h="98">
                    <a:moveTo>
                      <a:pt x="1486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75" y="0"/>
                    </a:lnTo>
                    <a:lnTo>
                      <a:pt x="1486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2379600" y="880920"/>
                <a:ext cx="468360" cy="32040"/>
              </a:xfrm>
              <a:custGeom>
                <a:avLst/>
                <a:gdLst/>
                <a:ahLst/>
                <a:rect l="l" t="t" r="r" b="b"/>
                <a:pathLst>
                  <a:path w="1475" h="97">
                    <a:moveTo>
                      <a:pt x="1475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65" y="0"/>
                    </a:lnTo>
                    <a:lnTo>
                      <a:pt x="1475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2381040" y="866880"/>
                <a:ext cx="465120" cy="30240"/>
              </a:xfrm>
              <a:custGeom>
                <a:avLst/>
                <a:gdLst/>
                <a:ahLst/>
                <a:rect l="l" t="t" r="r" b="b"/>
                <a:pathLst>
                  <a:path w="1465" h="97">
                    <a:moveTo>
                      <a:pt x="1465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54" y="0"/>
                    </a:lnTo>
                    <a:lnTo>
                      <a:pt x="1465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2382840" y="862200"/>
                <a:ext cx="461880" cy="18720"/>
              </a:xfrm>
              <a:custGeom>
                <a:avLst/>
                <a:gdLst/>
                <a:ahLst/>
                <a:rect l="l" t="t" r="r" b="b"/>
                <a:pathLst>
                  <a:path w="1455" h="60">
                    <a:moveTo>
                      <a:pt x="1455" y="60"/>
                    </a:moveTo>
                    <a:lnTo>
                      <a:pt x="0" y="60"/>
                    </a:lnTo>
                    <a:lnTo>
                      <a:pt x="7" y="0"/>
                    </a:lnTo>
                    <a:lnTo>
                      <a:pt x="1448" y="0"/>
                    </a:lnTo>
                    <a:lnTo>
                      <a:pt x="145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2384280" y="862200"/>
                <a:ext cx="459000" cy="4680"/>
              </a:xfrm>
              <a:custGeom>
                <a:avLst/>
                <a:gdLst/>
                <a:ahLst/>
                <a:rect l="l" t="t" r="r" b="b"/>
                <a:pathLst>
                  <a:path w="1443" h="12">
                    <a:moveTo>
                      <a:pt x="1443" y="12"/>
                    </a:moveTo>
                    <a:lnTo>
                      <a:pt x="0" y="12"/>
                    </a:lnTo>
                    <a:lnTo>
                      <a:pt x="1" y="0"/>
                    </a:lnTo>
                    <a:lnTo>
                      <a:pt x="1442" y="0"/>
                    </a:lnTo>
                    <a:lnTo>
                      <a:pt x="1443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2828880" y="1592280"/>
                <a:ext cx="1760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2828880" y="1576440"/>
                <a:ext cx="1760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828880" y="1560600"/>
                <a:ext cx="1760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2828880" y="1546200"/>
                <a:ext cx="1760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828880" y="1530360"/>
                <a:ext cx="1760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2828880" y="1514520"/>
                <a:ext cx="1760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2828880" y="1498680"/>
                <a:ext cx="1760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2828880" y="1484280"/>
                <a:ext cx="1760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2828880" y="1468440"/>
                <a:ext cx="1760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2828880" y="1452600"/>
                <a:ext cx="1760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828880" y="1436760"/>
                <a:ext cx="1760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2828880" y="1422360"/>
                <a:ext cx="1760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828880" y="1416240"/>
                <a:ext cx="1760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128760" y="1592280"/>
                <a:ext cx="287280" cy="19080"/>
              </a:xfrm>
              <a:custGeom>
                <a:avLst/>
                <a:gdLst/>
                <a:ahLst/>
                <a:rect l="l" t="t" r="r" b="b"/>
                <a:pathLst>
                  <a:path w="904" h="61">
                    <a:moveTo>
                      <a:pt x="0" y="61"/>
                    </a:moveTo>
                    <a:lnTo>
                      <a:pt x="0" y="0"/>
                    </a:lnTo>
                    <a:lnTo>
                      <a:pt x="904" y="0"/>
                    </a:lnTo>
                    <a:lnTo>
                      <a:pt x="897" y="3"/>
                    </a:lnTo>
                    <a:lnTo>
                      <a:pt x="889" y="4"/>
                    </a:lnTo>
                    <a:lnTo>
                      <a:pt x="882" y="6"/>
                    </a:lnTo>
                    <a:lnTo>
                      <a:pt x="874" y="8"/>
                    </a:lnTo>
                    <a:lnTo>
                      <a:pt x="867" y="10"/>
                    </a:lnTo>
                    <a:lnTo>
                      <a:pt x="860" y="11"/>
                    </a:lnTo>
                    <a:lnTo>
                      <a:pt x="851" y="14"/>
                    </a:lnTo>
                    <a:lnTo>
                      <a:pt x="844" y="15"/>
                    </a:lnTo>
                    <a:lnTo>
                      <a:pt x="791" y="26"/>
                    </a:lnTo>
                    <a:lnTo>
                      <a:pt x="737" y="35"/>
                    </a:lnTo>
                    <a:lnTo>
                      <a:pt x="679" y="43"/>
                    </a:lnTo>
                    <a:lnTo>
                      <a:pt x="619" y="50"/>
                    </a:lnTo>
                    <a:lnTo>
                      <a:pt x="557" y="54"/>
                    </a:lnTo>
                    <a:lnTo>
                      <a:pt x="492" y="58"/>
                    </a:lnTo>
                    <a:lnTo>
                      <a:pt x="425" y="61"/>
                    </a:lnTo>
                    <a:lnTo>
                      <a:pt x="357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128760" y="1576440"/>
                <a:ext cx="333360" cy="31680"/>
              </a:xfrm>
              <a:custGeom>
                <a:avLst/>
                <a:gdLst/>
                <a:ahLst/>
                <a:rect l="l" t="t" r="r" b="b"/>
                <a:pathLst>
                  <a:path w="1049" h="98">
                    <a:moveTo>
                      <a:pt x="62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049" y="0"/>
                    </a:lnTo>
                    <a:lnTo>
                      <a:pt x="1024" y="9"/>
                    </a:lnTo>
                    <a:lnTo>
                      <a:pt x="1000" y="19"/>
                    </a:lnTo>
                    <a:lnTo>
                      <a:pt x="975" y="27"/>
                    </a:lnTo>
                    <a:lnTo>
                      <a:pt x="949" y="35"/>
                    </a:lnTo>
                    <a:lnTo>
                      <a:pt x="924" y="43"/>
                    </a:lnTo>
                    <a:lnTo>
                      <a:pt x="898" y="51"/>
                    </a:lnTo>
                    <a:lnTo>
                      <a:pt x="871" y="57"/>
                    </a:lnTo>
                    <a:lnTo>
                      <a:pt x="844" y="63"/>
                    </a:lnTo>
                    <a:lnTo>
                      <a:pt x="818" y="69"/>
                    </a:lnTo>
                    <a:lnTo>
                      <a:pt x="792" y="74"/>
                    </a:lnTo>
                    <a:lnTo>
                      <a:pt x="765" y="79"/>
                    </a:lnTo>
                    <a:lnTo>
                      <a:pt x="738" y="83"/>
                    </a:lnTo>
                    <a:lnTo>
                      <a:pt x="710" y="86"/>
                    </a:lnTo>
                    <a:lnTo>
                      <a:pt x="681" y="91"/>
                    </a:lnTo>
                    <a:lnTo>
                      <a:pt x="652" y="94"/>
                    </a:lnTo>
                    <a:lnTo>
                      <a:pt x="62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128760" y="1560600"/>
                <a:ext cx="366840" cy="31680"/>
              </a:xfrm>
              <a:custGeom>
                <a:avLst/>
                <a:gdLst/>
                <a:ahLst/>
                <a:rect l="l" t="t" r="r" b="b"/>
                <a:pathLst>
                  <a:path w="1154" h="97">
                    <a:moveTo>
                      <a:pt x="90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54" y="0"/>
                    </a:lnTo>
                    <a:lnTo>
                      <a:pt x="1125" y="15"/>
                    </a:lnTo>
                    <a:lnTo>
                      <a:pt x="1095" y="30"/>
                    </a:lnTo>
                    <a:lnTo>
                      <a:pt x="1065" y="42"/>
                    </a:lnTo>
                    <a:lnTo>
                      <a:pt x="1034" y="55"/>
                    </a:lnTo>
                    <a:lnTo>
                      <a:pt x="1002" y="67"/>
                    </a:lnTo>
                    <a:lnTo>
                      <a:pt x="970" y="78"/>
                    </a:lnTo>
                    <a:lnTo>
                      <a:pt x="937" y="87"/>
                    </a:lnTo>
                    <a:lnTo>
                      <a:pt x="904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128760" y="1546200"/>
                <a:ext cx="392400" cy="30240"/>
              </a:xfrm>
              <a:custGeom>
                <a:avLst/>
                <a:gdLst/>
                <a:ahLst/>
                <a:rect l="l" t="t" r="r" b="b"/>
                <a:pathLst>
                  <a:path w="1237" h="97">
                    <a:moveTo>
                      <a:pt x="104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37" y="0"/>
                    </a:lnTo>
                    <a:lnTo>
                      <a:pt x="1235" y="1"/>
                    </a:lnTo>
                    <a:lnTo>
                      <a:pt x="1232" y="4"/>
                    </a:lnTo>
                    <a:lnTo>
                      <a:pt x="1229" y="5"/>
                    </a:lnTo>
                    <a:lnTo>
                      <a:pt x="1226" y="8"/>
                    </a:lnTo>
                    <a:lnTo>
                      <a:pt x="1224" y="9"/>
                    </a:lnTo>
                    <a:lnTo>
                      <a:pt x="1220" y="10"/>
                    </a:lnTo>
                    <a:lnTo>
                      <a:pt x="1218" y="12"/>
                    </a:lnTo>
                    <a:lnTo>
                      <a:pt x="1214" y="14"/>
                    </a:lnTo>
                    <a:lnTo>
                      <a:pt x="1194" y="26"/>
                    </a:lnTo>
                    <a:lnTo>
                      <a:pt x="1174" y="37"/>
                    </a:lnTo>
                    <a:lnTo>
                      <a:pt x="1155" y="48"/>
                    </a:lnTo>
                    <a:lnTo>
                      <a:pt x="1134" y="58"/>
                    </a:lnTo>
                    <a:lnTo>
                      <a:pt x="1113" y="69"/>
                    </a:lnTo>
                    <a:lnTo>
                      <a:pt x="1092" y="79"/>
                    </a:lnTo>
                    <a:lnTo>
                      <a:pt x="1071" y="88"/>
                    </a:lnTo>
                    <a:lnTo>
                      <a:pt x="1049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128760" y="1530360"/>
                <a:ext cx="416160" cy="30240"/>
              </a:xfrm>
              <a:custGeom>
                <a:avLst/>
                <a:gdLst/>
                <a:ahLst/>
                <a:rect l="l" t="t" r="r" b="b"/>
                <a:pathLst>
                  <a:path w="1309" h="97">
                    <a:moveTo>
                      <a:pt x="115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09" y="0"/>
                    </a:lnTo>
                    <a:lnTo>
                      <a:pt x="1297" y="9"/>
                    </a:lnTo>
                    <a:lnTo>
                      <a:pt x="1285" y="16"/>
                    </a:lnTo>
                    <a:lnTo>
                      <a:pt x="1274" y="25"/>
                    </a:lnTo>
                    <a:lnTo>
                      <a:pt x="1263" y="32"/>
                    </a:lnTo>
                    <a:lnTo>
                      <a:pt x="1251" y="41"/>
                    </a:lnTo>
                    <a:lnTo>
                      <a:pt x="1238" y="48"/>
                    </a:lnTo>
                    <a:lnTo>
                      <a:pt x="1226" y="55"/>
                    </a:lnTo>
                    <a:lnTo>
                      <a:pt x="1214" y="63"/>
                    </a:lnTo>
                    <a:lnTo>
                      <a:pt x="1206" y="68"/>
                    </a:lnTo>
                    <a:lnTo>
                      <a:pt x="1199" y="73"/>
                    </a:lnTo>
                    <a:lnTo>
                      <a:pt x="1192" y="76"/>
                    </a:lnTo>
                    <a:lnTo>
                      <a:pt x="1184" y="81"/>
                    </a:lnTo>
                    <a:lnTo>
                      <a:pt x="1177" y="85"/>
                    </a:lnTo>
                    <a:lnTo>
                      <a:pt x="1170" y="89"/>
                    </a:lnTo>
                    <a:lnTo>
                      <a:pt x="1162" y="93"/>
                    </a:lnTo>
                    <a:lnTo>
                      <a:pt x="1154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128760" y="1514520"/>
                <a:ext cx="435240" cy="31680"/>
              </a:xfrm>
              <a:custGeom>
                <a:avLst/>
                <a:gdLst/>
                <a:ahLst/>
                <a:rect l="l" t="t" r="r" b="b"/>
                <a:pathLst>
                  <a:path w="1370" h="97">
                    <a:moveTo>
                      <a:pt x="123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0" y="0"/>
                    </a:lnTo>
                    <a:lnTo>
                      <a:pt x="1354" y="12"/>
                    </a:lnTo>
                    <a:lnTo>
                      <a:pt x="1339" y="25"/>
                    </a:lnTo>
                    <a:lnTo>
                      <a:pt x="1322" y="38"/>
                    </a:lnTo>
                    <a:lnTo>
                      <a:pt x="1306" y="49"/>
                    </a:lnTo>
                    <a:lnTo>
                      <a:pt x="1289" y="62"/>
                    </a:lnTo>
                    <a:lnTo>
                      <a:pt x="1273" y="74"/>
                    </a:lnTo>
                    <a:lnTo>
                      <a:pt x="1256" y="85"/>
                    </a:lnTo>
                    <a:lnTo>
                      <a:pt x="1237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128760" y="1498680"/>
                <a:ext cx="452520" cy="31680"/>
              </a:xfrm>
              <a:custGeom>
                <a:avLst/>
                <a:gdLst/>
                <a:ahLst/>
                <a:rect l="l" t="t" r="r" b="b"/>
                <a:pathLst>
                  <a:path w="1424" h="97">
                    <a:moveTo>
                      <a:pt x="13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4" y="0"/>
                    </a:lnTo>
                    <a:lnTo>
                      <a:pt x="1411" y="12"/>
                    </a:lnTo>
                    <a:lnTo>
                      <a:pt x="1397" y="26"/>
                    </a:lnTo>
                    <a:lnTo>
                      <a:pt x="1382" y="38"/>
                    </a:lnTo>
                    <a:lnTo>
                      <a:pt x="1369" y="50"/>
                    </a:lnTo>
                    <a:lnTo>
                      <a:pt x="1354" y="63"/>
                    </a:lnTo>
                    <a:lnTo>
                      <a:pt x="1339" y="74"/>
                    </a:lnTo>
                    <a:lnTo>
                      <a:pt x="1323" y="86"/>
                    </a:lnTo>
                    <a:lnTo>
                      <a:pt x="1309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128760" y="1484280"/>
                <a:ext cx="466920" cy="30240"/>
              </a:xfrm>
              <a:custGeom>
                <a:avLst/>
                <a:gdLst/>
                <a:ahLst/>
                <a:rect l="l" t="t" r="r" b="b"/>
                <a:pathLst>
                  <a:path w="1472" h="98">
                    <a:moveTo>
                      <a:pt x="137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60" y="13"/>
                    </a:lnTo>
                    <a:lnTo>
                      <a:pt x="1449" y="25"/>
                    </a:lnTo>
                    <a:lnTo>
                      <a:pt x="1435" y="38"/>
                    </a:lnTo>
                    <a:lnTo>
                      <a:pt x="1423" y="50"/>
                    </a:lnTo>
                    <a:lnTo>
                      <a:pt x="1411" y="62"/>
                    </a:lnTo>
                    <a:lnTo>
                      <a:pt x="1397" y="75"/>
                    </a:lnTo>
                    <a:lnTo>
                      <a:pt x="1384" y="86"/>
                    </a:lnTo>
                    <a:lnTo>
                      <a:pt x="1370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128760" y="1468440"/>
                <a:ext cx="480960" cy="30240"/>
              </a:xfrm>
              <a:custGeom>
                <a:avLst/>
                <a:gdLst/>
                <a:ahLst/>
                <a:rect l="l" t="t" r="r" b="b"/>
                <a:pathLst>
                  <a:path w="1515" h="97">
                    <a:moveTo>
                      <a:pt x="1424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15" y="0"/>
                    </a:lnTo>
                    <a:lnTo>
                      <a:pt x="1504" y="12"/>
                    </a:lnTo>
                    <a:lnTo>
                      <a:pt x="1493" y="24"/>
                    </a:lnTo>
                    <a:lnTo>
                      <a:pt x="1482" y="38"/>
                    </a:lnTo>
                    <a:lnTo>
                      <a:pt x="1471" y="50"/>
                    </a:lnTo>
                    <a:lnTo>
                      <a:pt x="1460" y="61"/>
                    </a:lnTo>
                    <a:lnTo>
                      <a:pt x="1449" y="73"/>
                    </a:lnTo>
                    <a:lnTo>
                      <a:pt x="1436" y="86"/>
                    </a:lnTo>
                    <a:lnTo>
                      <a:pt x="1424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128760" y="1452600"/>
                <a:ext cx="492120" cy="31680"/>
              </a:xfrm>
              <a:custGeom>
                <a:avLst/>
                <a:gdLst/>
                <a:ahLst/>
                <a:rect l="l" t="t" r="r" b="b"/>
                <a:pathLst>
                  <a:path w="1553" h="98">
                    <a:moveTo>
                      <a:pt x="147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53" y="0"/>
                    </a:lnTo>
                    <a:lnTo>
                      <a:pt x="1543" y="14"/>
                    </a:lnTo>
                    <a:lnTo>
                      <a:pt x="1534" y="26"/>
                    </a:lnTo>
                    <a:lnTo>
                      <a:pt x="1524" y="39"/>
                    </a:lnTo>
                    <a:lnTo>
                      <a:pt x="1514" y="51"/>
                    </a:lnTo>
                    <a:lnTo>
                      <a:pt x="1504" y="63"/>
                    </a:lnTo>
                    <a:lnTo>
                      <a:pt x="1493" y="74"/>
                    </a:lnTo>
                    <a:lnTo>
                      <a:pt x="1483" y="87"/>
                    </a:lnTo>
                    <a:lnTo>
                      <a:pt x="147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128760" y="1436760"/>
                <a:ext cx="503280" cy="31680"/>
              </a:xfrm>
              <a:custGeom>
                <a:avLst/>
                <a:gdLst/>
                <a:ahLst/>
                <a:rect l="l" t="t" r="r" b="b"/>
                <a:pathLst>
                  <a:path w="1587" h="98">
                    <a:moveTo>
                      <a:pt x="1515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587" y="0"/>
                    </a:lnTo>
                    <a:lnTo>
                      <a:pt x="1578" y="13"/>
                    </a:lnTo>
                    <a:lnTo>
                      <a:pt x="1569" y="25"/>
                    </a:lnTo>
                    <a:lnTo>
                      <a:pt x="1561" y="37"/>
                    </a:lnTo>
                    <a:lnTo>
                      <a:pt x="1552" y="50"/>
                    </a:lnTo>
                    <a:lnTo>
                      <a:pt x="1543" y="62"/>
                    </a:lnTo>
                    <a:lnTo>
                      <a:pt x="1534" y="74"/>
                    </a:lnTo>
                    <a:lnTo>
                      <a:pt x="1525" y="85"/>
                    </a:lnTo>
                    <a:lnTo>
                      <a:pt x="1515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128760" y="1422360"/>
                <a:ext cx="513000" cy="30240"/>
              </a:xfrm>
              <a:custGeom>
                <a:avLst/>
                <a:gdLst/>
                <a:ahLst/>
                <a:rect l="l" t="t" r="r" b="b"/>
                <a:pathLst>
                  <a:path w="1617" h="97">
                    <a:moveTo>
                      <a:pt x="155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617" y="0"/>
                    </a:lnTo>
                    <a:lnTo>
                      <a:pt x="1610" y="14"/>
                    </a:lnTo>
                    <a:lnTo>
                      <a:pt x="1601" y="26"/>
                    </a:lnTo>
                    <a:lnTo>
                      <a:pt x="1594" y="38"/>
                    </a:lnTo>
                    <a:lnTo>
                      <a:pt x="1587" y="51"/>
                    </a:lnTo>
                    <a:lnTo>
                      <a:pt x="1578" y="63"/>
                    </a:lnTo>
                    <a:lnTo>
                      <a:pt x="1569" y="74"/>
                    </a:lnTo>
                    <a:lnTo>
                      <a:pt x="1562" y="86"/>
                    </a:lnTo>
                    <a:lnTo>
                      <a:pt x="155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128760" y="1406520"/>
                <a:ext cx="522360" cy="30240"/>
              </a:xfrm>
              <a:custGeom>
                <a:avLst/>
                <a:gdLst/>
                <a:ahLst/>
                <a:rect l="l" t="t" r="r" b="b"/>
                <a:pathLst>
                  <a:path w="1644" h="97">
                    <a:moveTo>
                      <a:pt x="158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14"/>
                    </a:lnTo>
                    <a:lnTo>
                      <a:pt x="622" y="13"/>
                    </a:lnTo>
                    <a:lnTo>
                      <a:pt x="633" y="11"/>
                    </a:lnTo>
                    <a:lnTo>
                      <a:pt x="644" y="10"/>
                    </a:lnTo>
                    <a:lnTo>
                      <a:pt x="655" y="9"/>
                    </a:lnTo>
                    <a:lnTo>
                      <a:pt x="667" y="6"/>
                    </a:lnTo>
                    <a:lnTo>
                      <a:pt x="676" y="4"/>
                    </a:lnTo>
                    <a:lnTo>
                      <a:pt x="687" y="3"/>
                    </a:lnTo>
                    <a:lnTo>
                      <a:pt x="699" y="0"/>
                    </a:lnTo>
                    <a:lnTo>
                      <a:pt x="1644" y="0"/>
                    </a:lnTo>
                    <a:lnTo>
                      <a:pt x="1642" y="5"/>
                    </a:lnTo>
                    <a:lnTo>
                      <a:pt x="1639" y="10"/>
                    </a:lnTo>
                    <a:lnTo>
                      <a:pt x="1636" y="14"/>
                    </a:lnTo>
                    <a:lnTo>
                      <a:pt x="1633" y="19"/>
                    </a:lnTo>
                    <a:lnTo>
                      <a:pt x="1631" y="24"/>
                    </a:lnTo>
                    <a:lnTo>
                      <a:pt x="1628" y="29"/>
                    </a:lnTo>
                    <a:lnTo>
                      <a:pt x="1626" y="34"/>
                    </a:lnTo>
                    <a:lnTo>
                      <a:pt x="1623" y="37"/>
                    </a:lnTo>
                    <a:lnTo>
                      <a:pt x="1618" y="46"/>
                    </a:lnTo>
                    <a:lnTo>
                      <a:pt x="1615" y="53"/>
                    </a:lnTo>
                    <a:lnTo>
                      <a:pt x="1610" y="61"/>
                    </a:lnTo>
                    <a:lnTo>
                      <a:pt x="1605" y="68"/>
                    </a:lnTo>
                    <a:lnTo>
                      <a:pt x="1601" y="75"/>
                    </a:lnTo>
                    <a:lnTo>
                      <a:pt x="1596" y="83"/>
                    </a:lnTo>
                    <a:lnTo>
                      <a:pt x="1591" y="90"/>
                    </a:lnTo>
                    <a:lnTo>
                      <a:pt x="1587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128760" y="1390680"/>
                <a:ext cx="528840" cy="31680"/>
              </a:xfrm>
              <a:custGeom>
                <a:avLst/>
                <a:gdLst/>
                <a:ahLst/>
                <a:rect l="l" t="t" r="r" b="b"/>
                <a:pathLst>
                  <a:path w="1668" h="97">
                    <a:moveTo>
                      <a:pt x="161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63"/>
                    </a:lnTo>
                    <a:lnTo>
                      <a:pt x="642" y="59"/>
                    </a:lnTo>
                    <a:lnTo>
                      <a:pt x="673" y="54"/>
                    </a:lnTo>
                    <a:lnTo>
                      <a:pt x="702" y="48"/>
                    </a:lnTo>
                    <a:lnTo>
                      <a:pt x="730" y="41"/>
                    </a:lnTo>
                    <a:lnTo>
                      <a:pt x="759" y="32"/>
                    </a:lnTo>
                    <a:lnTo>
                      <a:pt x="786" y="23"/>
                    </a:lnTo>
                    <a:lnTo>
                      <a:pt x="812" y="12"/>
                    </a:lnTo>
                    <a:lnTo>
                      <a:pt x="837" y="0"/>
                    </a:lnTo>
                    <a:lnTo>
                      <a:pt x="1668" y="0"/>
                    </a:lnTo>
                    <a:lnTo>
                      <a:pt x="1663" y="11"/>
                    </a:lnTo>
                    <a:lnTo>
                      <a:pt x="1658" y="22"/>
                    </a:lnTo>
                    <a:lnTo>
                      <a:pt x="1652" y="33"/>
                    </a:lnTo>
                    <a:lnTo>
                      <a:pt x="1647" y="44"/>
                    </a:lnTo>
                    <a:lnTo>
                      <a:pt x="1641" y="54"/>
                    </a:lnTo>
                    <a:lnTo>
                      <a:pt x="1636" y="65"/>
                    </a:lnTo>
                    <a:lnTo>
                      <a:pt x="1630" y="76"/>
                    </a:lnTo>
                    <a:lnTo>
                      <a:pt x="1623" y="86"/>
                    </a:lnTo>
                    <a:lnTo>
                      <a:pt x="1622" y="89"/>
                    </a:lnTo>
                    <a:lnTo>
                      <a:pt x="1622" y="90"/>
                    </a:lnTo>
                    <a:lnTo>
                      <a:pt x="1621" y="91"/>
                    </a:lnTo>
                    <a:lnTo>
                      <a:pt x="1620" y="92"/>
                    </a:lnTo>
                    <a:lnTo>
                      <a:pt x="1620" y="94"/>
                    </a:lnTo>
                    <a:lnTo>
                      <a:pt x="1618" y="95"/>
                    </a:lnTo>
                    <a:lnTo>
                      <a:pt x="1617" y="96"/>
                    </a:lnTo>
                    <a:lnTo>
                      <a:pt x="16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128760" y="1376280"/>
                <a:ext cx="536760" cy="30240"/>
              </a:xfrm>
              <a:custGeom>
                <a:avLst/>
                <a:gdLst/>
                <a:ahLst/>
                <a:rect l="l" t="t" r="r" b="b"/>
                <a:pathLst>
                  <a:path w="1689" h="97">
                    <a:moveTo>
                      <a:pt x="1644" y="97"/>
                    </a:moveTo>
                    <a:lnTo>
                      <a:pt x="699" y="97"/>
                    </a:lnTo>
                    <a:lnTo>
                      <a:pt x="729" y="90"/>
                    </a:lnTo>
                    <a:lnTo>
                      <a:pt x="759" y="80"/>
                    </a:lnTo>
                    <a:lnTo>
                      <a:pt x="787" y="70"/>
                    </a:lnTo>
                    <a:lnTo>
                      <a:pt x="815" y="59"/>
                    </a:lnTo>
                    <a:lnTo>
                      <a:pt x="842" y="46"/>
                    </a:lnTo>
                    <a:lnTo>
                      <a:pt x="868" y="32"/>
                    </a:lnTo>
                    <a:lnTo>
                      <a:pt x="893" y="16"/>
                    </a:lnTo>
                    <a:lnTo>
                      <a:pt x="917" y="0"/>
                    </a:lnTo>
                    <a:lnTo>
                      <a:pt x="1689" y="0"/>
                    </a:lnTo>
                    <a:lnTo>
                      <a:pt x="1684" y="12"/>
                    </a:lnTo>
                    <a:lnTo>
                      <a:pt x="1679" y="25"/>
                    </a:lnTo>
                    <a:lnTo>
                      <a:pt x="1673" y="37"/>
                    </a:lnTo>
                    <a:lnTo>
                      <a:pt x="1668" y="49"/>
                    </a:lnTo>
                    <a:lnTo>
                      <a:pt x="1662" y="62"/>
                    </a:lnTo>
                    <a:lnTo>
                      <a:pt x="1655" y="73"/>
                    </a:lnTo>
                    <a:lnTo>
                      <a:pt x="1650" y="85"/>
                    </a:lnTo>
                    <a:lnTo>
                      <a:pt x="1644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128760" y="1360440"/>
                <a:ext cx="541440" cy="30240"/>
              </a:xfrm>
              <a:custGeom>
                <a:avLst/>
                <a:gdLst/>
                <a:ahLst/>
                <a:rect l="l" t="t" r="r" b="b"/>
                <a:pathLst>
                  <a:path w="1707" h="97">
                    <a:moveTo>
                      <a:pt x="1668" y="97"/>
                    </a:moveTo>
                    <a:lnTo>
                      <a:pt x="837" y="97"/>
                    </a:lnTo>
                    <a:lnTo>
                      <a:pt x="856" y="87"/>
                    </a:lnTo>
                    <a:lnTo>
                      <a:pt x="874" y="77"/>
                    </a:lnTo>
                    <a:lnTo>
                      <a:pt x="893" y="66"/>
                    </a:lnTo>
                    <a:lnTo>
                      <a:pt x="910" y="54"/>
                    </a:lnTo>
                    <a:lnTo>
                      <a:pt x="926" y="42"/>
                    </a:lnTo>
                    <a:lnTo>
                      <a:pt x="943" y="28"/>
                    </a:lnTo>
                    <a:lnTo>
                      <a:pt x="958" y="15"/>
                    </a:lnTo>
                    <a:lnTo>
                      <a:pt x="974" y="0"/>
                    </a:lnTo>
                    <a:lnTo>
                      <a:pt x="1707" y="0"/>
                    </a:lnTo>
                    <a:lnTo>
                      <a:pt x="1702" y="12"/>
                    </a:lnTo>
                    <a:lnTo>
                      <a:pt x="1698" y="25"/>
                    </a:lnTo>
                    <a:lnTo>
                      <a:pt x="1694" y="37"/>
                    </a:lnTo>
                    <a:lnTo>
                      <a:pt x="1689" y="49"/>
                    </a:lnTo>
                    <a:lnTo>
                      <a:pt x="1684" y="61"/>
                    </a:lnTo>
                    <a:lnTo>
                      <a:pt x="1679" y="74"/>
                    </a:lnTo>
                    <a:lnTo>
                      <a:pt x="1673" y="86"/>
                    </a:lnTo>
                    <a:lnTo>
                      <a:pt x="166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128760" y="1344600"/>
                <a:ext cx="546120" cy="31680"/>
              </a:xfrm>
              <a:custGeom>
                <a:avLst/>
                <a:gdLst/>
                <a:ahLst/>
                <a:rect l="l" t="t" r="r" b="b"/>
                <a:pathLst>
                  <a:path w="1723" h="97">
                    <a:moveTo>
                      <a:pt x="1689" y="97"/>
                    </a:moveTo>
                    <a:lnTo>
                      <a:pt x="917" y="97"/>
                    </a:lnTo>
                    <a:lnTo>
                      <a:pt x="926" y="90"/>
                    </a:lnTo>
                    <a:lnTo>
                      <a:pt x="936" y="82"/>
                    </a:lnTo>
                    <a:lnTo>
                      <a:pt x="946" y="75"/>
                    </a:lnTo>
                    <a:lnTo>
                      <a:pt x="954" y="66"/>
                    </a:lnTo>
                    <a:lnTo>
                      <a:pt x="963" y="59"/>
                    </a:lnTo>
                    <a:lnTo>
                      <a:pt x="972" y="50"/>
                    </a:lnTo>
                    <a:lnTo>
                      <a:pt x="980" y="42"/>
                    </a:lnTo>
                    <a:lnTo>
                      <a:pt x="989" y="33"/>
                    </a:lnTo>
                    <a:lnTo>
                      <a:pt x="992" y="28"/>
                    </a:lnTo>
                    <a:lnTo>
                      <a:pt x="996" y="25"/>
                    </a:lnTo>
                    <a:lnTo>
                      <a:pt x="1000" y="21"/>
                    </a:lnTo>
                    <a:lnTo>
                      <a:pt x="1004" y="16"/>
                    </a:lnTo>
                    <a:lnTo>
                      <a:pt x="1007" y="12"/>
                    </a:lnTo>
                    <a:lnTo>
                      <a:pt x="1011" y="9"/>
                    </a:lnTo>
                    <a:lnTo>
                      <a:pt x="1015" y="4"/>
                    </a:lnTo>
                    <a:lnTo>
                      <a:pt x="1017" y="0"/>
                    </a:lnTo>
                    <a:lnTo>
                      <a:pt x="1723" y="0"/>
                    </a:lnTo>
                    <a:lnTo>
                      <a:pt x="1719" y="12"/>
                    </a:lnTo>
                    <a:lnTo>
                      <a:pt x="1714" y="25"/>
                    </a:lnTo>
                    <a:lnTo>
                      <a:pt x="1711" y="37"/>
                    </a:lnTo>
                    <a:lnTo>
                      <a:pt x="1707" y="49"/>
                    </a:lnTo>
                    <a:lnTo>
                      <a:pt x="1702" y="61"/>
                    </a:lnTo>
                    <a:lnTo>
                      <a:pt x="1698" y="73"/>
                    </a:lnTo>
                    <a:lnTo>
                      <a:pt x="1694" y="85"/>
                    </a:lnTo>
                    <a:lnTo>
                      <a:pt x="168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128760" y="1328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5" h="97">
                    <a:moveTo>
                      <a:pt x="1707" y="97"/>
                    </a:moveTo>
                    <a:lnTo>
                      <a:pt x="974" y="97"/>
                    </a:lnTo>
                    <a:lnTo>
                      <a:pt x="975" y="96"/>
                    </a:lnTo>
                    <a:lnTo>
                      <a:pt x="978" y="93"/>
                    </a:lnTo>
                    <a:lnTo>
                      <a:pt x="980" y="92"/>
                    </a:lnTo>
                    <a:lnTo>
                      <a:pt x="981" y="90"/>
                    </a:lnTo>
                    <a:lnTo>
                      <a:pt x="984" y="88"/>
                    </a:lnTo>
                    <a:lnTo>
                      <a:pt x="985" y="86"/>
                    </a:lnTo>
                    <a:lnTo>
                      <a:pt x="988" y="83"/>
                    </a:lnTo>
                    <a:lnTo>
                      <a:pt x="989" y="82"/>
                    </a:lnTo>
                    <a:lnTo>
                      <a:pt x="997" y="72"/>
                    </a:lnTo>
                    <a:lnTo>
                      <a:pt x="1006" y="62"/>
                    </a:lnTo>
                    <a:lnTo>
                      <a:pt x="1015" y="53"/>
                    </a:lnTo>
                    <a:lnTo>
                      <a:pt x="1023" y="42"/>
                    </a:lnTo>
                    <a:lnTo>
                      <a:pt x="1031" y="32"/>
                    </a:lnTo>
                    <a:lnTo>
                      <a:pt x="1038" y="22"/>
                    </a:lnTo>
                    <a:lnTo>
                      <a:pt x="1045" y="11"/>
                    </a:lnTo>
                    <a:lnTo>
                      <a:pt x="1051" y="0"/>
                    </a:lnTo>
                    <a:lnTo>
                      <a:pt x="1735" y="0"/>
                    </a:lnTo>
                    <a:lnTo>
                      <a:pt x="1733" y="12"/>
                    </a:lnTo>
                    <a:lnTo>
                      <a:pt x="1729" y="24"/>
                    </a:lnTo>
                    <a:lnTo>
                      <a:pt x="1725" y="37"/>
                    </a:lnTo>
                    <a:lnTo>
                      <a:pt x="1722" y="49"/>
                    </a:lnTo>
                    <a:lnTo>
                      <a:pt x="1718" y="61"/>
                    </a:lnTo>
                    <a:lnTo>
                      <a:pt x="1714" y="74"/>
                    </a:lnTo>
                    <a:lnTo>
                      <a:pt x="1711" y="86"/>
                    </a:lnTo>
                    <a:lnTo>
                      <a:pt x="170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128760" y="131436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6" h="97">
                    <a:moveTo>
                      <a:pt x="1723" y="97"/>
                    </a:moveTo>
                    <a:lnTo>
                      <a:pt x="1017" y="97"/>
                    </a:lnTo>
                    <a:lnTo>
                      <a:pt x="1027" y="85"/>
                    </a:lnTo>
                    <a:lnTo>
                      <a:pt x="1036" y="74"/>
                    </a:lnTo>
                    <a:lnTo>
                      <a:pt x="1043" y="61"/>
                    </a:lnTo>
                    <a:lnTo>
                      <a:pt x="1051" y="50"/>
                    </a:lnTo>
                    <a:lnTo>
                      <a:pt x="1059" y="38"/>
                    </a:lnTo>
                    <a:lnTo>
                      <a:pt x="1065" y="24"/>
                    </a:lnTo>
                    <a:lnTo>
                      <a:pt x="1072" y="12"/>
                    </a:lnTo>
                    <a:lnTo>
                      <a:pt x="1079" y="0"/>
                    </a:lnTo>
                    <a:lnTo>
                      <a:pt x="1746" y="0"/>
                    </a:lnTo>
                    <a:lnTo>
                      <a:pt x="1744" y="12"/>
                    </a:lnTo>
                    <a:lnTo>
                      <a:pt x="1741" y="24"/>
                    </a:lnTo>
                    <a:lnTo>
                      <a:pt x="1739" y="37"/>
                    </a:lnTo>
                    <a:lnTo>
                      <a:pt x="1735" y="49"/>
                    </a:lnTo>
                    <a:lnTo>
                      <a:pt x="1733" y="60"/>
                    </a:lnTo>
                    <a:lnTo>
                      <a:pt x="1729" y="72"/>
                    </a:lnTo>
                    <a:lnTo>
                      <a:pt x="1725" y="85"/>
                    </a:lnTo>
                    <a:lnTo>
                      <a:pt x="172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128760" y="129852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35" y="97"/>
                    </a:moveTo>
                    <a:lnTo>
                      <a:pt x="1051" y="97"/>
                    </a:lnTo>
                    <a:lnTo>
                      <a:pt x="1059" y="86"/>
                    </a:lnTo>
                    <a:lnTo>
                      <a:pt x="1065" y="73"/>
                    </a:lnTo>
                    <a:lnTo>
                      <a:pt x="1071" y="62"/>
                    </a:lnTo>
                    <a:lnTo>
                      <a:pt x="1077" y="50"/>
                    </a:lnTo>
                    <a:lnTo>
                      <a:pt x="1083" y="38"/>
                    </a:lnTo>
                    <a:lnTo>
                      <a:pt x="1088" y="25"/>
                    </a:lnTo>
                    <a:lnTo>
                      <a:pt x="1093" y="13"/>
                    </a:lnTo>
                    <a:lnTo>
                      <a:pt x="1098" y="0"/>
                    </a:lnTo>
                    <a:lnTo>
                      <a:pt x="1755" y="0"/>
                    </a:lnTo>
                    <a:lnTo>
                      <a:pt x="1753" y="12"/>
                    </a:lnTo>
                    <a:lnTo>
                      <a:pt x="1751" y="24"/>
                    </a:lnTo>
                    <a:lnTo>
                      <a:pt x="1749" y="36"/>
                    </a:lnTo>
                    <a:lnTo>
                      <a:pt x="1746" y="49"/>
                    </a:lnTo>
                    <a:lnTo>
                      <a:pt x="1744" y="61"/>
                    </a:lnTo>
                    <a:lnTo>
                      <a:pt x="1741" y="73"/>
                    </a:lnTo>
                    <a:lnTo>
                      <a:pt x="1739" y="86"/>
                    </a:lnTo>
                    <a:lnTo>
                      <a:pt x="173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128760" y="128268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1" h="97">
                    <a:moveTo>
                      <a:pt x="1746" y="97"/>
                    </a:moveTo>
                    <a:lnTo>
                      <a:pt x="1079" y="97"/>
                    </a:lnTo>
                    <a:lnTo>
                      <a:pt x="1083" y="84"/>
                    </a:lnTo>
                    <a:lnTo>
                      <a:pt x="1088" y="73"/>
                    </a:lnTo>
                    <a:lnTo>
                      <a:pt x="1093" y="61"/>
                    </a:lnTo>
                    <a:lnTo>
                      <a:pt x="1098" y="49"/>
                    </a:lnTo>
                    <a:lnTo>
                      <a:pt x="1102" y="37"/>
                    </a:lnTo>
                    <a:lnTo>
                      <a:pt x="1106" y="24"/>
                    </a:lnTo>
                    <a:lnTo>
                      <a:pt x="1109" y="12"/>
                    </a:lnTo>
                    <a:lnTo>
                      <a:pt x="1113" y="0"/>
                    </a:lnTo>
                    <a:lnTo>
                      <a:pt x="1761" y="0"/>
                    </a:lnTo>
                    <a:lnTo>
                      <a:pt x="1760" y="12"/>
                    </a:lnTo>
                    <a:lnTo>
                      <a:pt x="1759" y="24"/>
                    </a:lnTo>
                    <a:lnTo>
                      <a:pt x="1756" y="37"/>
                    </a:lnTo>
                    <a:lnTo>
                      <a:pt x="1755" y="49"/>
                    </a:lnTo>
                    <a:lnTo>
                      <a:pt x="1753" y="60"/>
                    </a:lnTo>
                    <a:lnTo>
                      <a:pt x="1751" y="72"/>
                    </a:lnTo>
                    <a:lnTo>
                      <a:pt x="1749" y="84"/>
                    </a:lnTo>
                    <a:lnTo>
                      <a:pt x="174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128760" y="126684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6" h="98">
                    <a:moveTo>
                      <a:pt x="1755" y="98"/>
                    </a:moveTo>
                    <a:lnTo>
                      <a:pt x="1098" y="98"/>
                    </a:lnTo>
                    <a:lnTo>
                      <a:pt x="1102" y="87"/>
                    </a:lnTo>
                    <a:lnTo>
                      <a:pt x="1107" y="74"/>
                    </a:lnTo>
                    <a:lnTo>
                      <a:pt x="1109" y="62"/>
                    </a:lnTo>
                    <a:lnTo>
                      <a:pt x="1113" y="51"/>
                    </a:lnTo>
                    <a:lnTo>
                      <a:pt x="1115" y="39"/>
                    </a:lnTo>
                    <a:lnTo>
                      <a:pt x="1118" y="26"/>
                    </a:lnTo>
                    <a:lnTo>
                      <a:pt x="1120" y="13"/>
                    </a:lnTo>
                    <a:lnTo>
                      <a:pt x="1123" y="0"/>
                    </a:lnTo>
                    <a:lnTo>
                      <a:pt x="1766" y="0"/>
                    </a:lnTo>
                    <a:lnTo>
                      <a:pt x="1765" y="13"/>
                    </a:lnTo>
                    <a:lnTo>
                      <a:pt x="1764" y="25"/>
                    </a:lnTo>
                    <a:lnTo>
                      <a:pt x="1762" y="37"/>
                    </a:lnTo>
                    <a:lnTo>
                      <a:pt x="1761" y="50"/>
                    </a:lnTo>
                    <a:lnTo>
                      <a:pt x="1760" y="62"/>
                    </a:lnTo>
                    <a:lnTo>
                      <a:pt x="1759" y="74"/>
                    </a:lnTo>
                    <a:lnTo>
                      <a:pt x="1756" y="85"/>
                    </a:lnTo>
                    <a:lnTo>
                      <a:pt x="1755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128760" y="125244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8">
                    <a:moveTo>
                      <a:pt x="1761" y="98"/>
                    </a:moveTo>
                    <a:lnTo>
                      <a:pt x="1113" y="98"/>
                    </a:lnTo>
                    <a:lnTo>
                      <a:pt x="1115" y="85"/>
                    </a:lnTo>
                    <a:lnTo>
                      <a:pt x="1118" y="74"/>
                    </a:lnTo>
                    <a:lnTo>
                      <a:pt x="1120" y="62"/>
                    </a:lnTo>
                    <a:lnTo>
                      <a:pt x="1123" y="50"/>
                    </a:lnTo>
                    <a:lnTo>
                      <a:pt x="1125" y="37"/>
                    </a:lnTo>
                    <a:lnTo>
                      <a:pt x="1127" y="25"/>
                    </a:lnTo>
                    <a:lnTo>
                      <a:pt x="1128" y="13"/>
                    </a:lnTo>
                    <a:lnTo>
                      <a:pt x="1129" y="0"/>
                    </a:lnTo>
                    <a:lnTo>
                      <a:pt x="1767" y="0"/>
                    </a:lnTo>
                    <a:lnTo>
                      <a:pt x="1767" y="13"/>
                    </a:lnTo>
                    <a:lnTo>
                      <a:pt x="1767" y="25"/>
                    </a:lnTo>
                    <a:lnTo>
                      <a:pt x="1766" y="37"/>
                    </a:lnTo>
                    <a:lnTo>
                      <a:pt x="1766" y="48"/>
                    </a:lnTo>
                    <a:lnTo>
                      <a:pt x="1765" y="61"/>
                    </a:lnTo>
                    <a:lnTo>
                      <a:pt x="1764" y="73"/>
                    </a:lnTo>
                    <a:lnTo>
                      <a:pt x="1762" y="85"/>
                    </a:lnTo>
                    <a:lnTo>
                      <a:pt x="1761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128760" y="123660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6" y="97"/>
                    </a:moveTo>
                    <a:lnTo>
                      <a:pt x="1123" y="97"/>
                    </a:lnTo>
                    <a:lnTo>
                      <a:pt x="1125" y="86"/>
                    </a:lnTo>
                    <a:lnTo>
                      <a:pt x="1127" y="74"/>
                    </a:lnTo>
                    <a:lnTo>
                      <a:pt x="1128" y="62"/>
                    </a:lnTo>
                    <a:lnTo>
                      <a:pt x="1129" y="49"/>
                    </a:lnTo>
                    <a:lnTo>
                      <a:pt x="1129" y="38"/>
                    </a:lnTo>
                    <a:lnTo>
                      <a:pt x="1130" y="25"/>
                    </a:lnTo>
                    <a:lnTo>
                      <a:pt x="1130" y="13"/>
                    </a:lnTo>
                    <a:lnTo>
                      <a:pt x="1131" y="0"/>
                    </a:lnTo>
                    <a:lnTo>
                      <a:pt x="1769" y="0"/>
                    </a:lnTo>
                    <a:lnTo>
                      <a:pt x="1769" y="3"/>
                    </a:lnTo>
                    <a:lnTo>
                      <a:pt x="1769" y="4"/>
                    </a:lnTo>
                    <a:lnTo>
                      <a:pt x="1769" y="6"/>
                    </a:lnTo>
                    <a:lnTo>
                      <a:pt x="1769" y="8"/>
                    </a:lnTo>
                    <a:lnTo>
                      <a:pt x="1769" y="10"/>
                    </a:lnTo>
                    <a:lnTo>
                      <a:pt x="1769" y="11"/>
                    </a:lnTo>
                    <a:lnTo>
                      <a:pt x="1769" y="13"/>
                    </a:lnTo>
                    <a:lnTo>
                      <a:pt x="1769" y="15"/>
                    </a:lnTo>
                    <a:lnTo>
                      <a:pt x="1769" y="25"/>
                    </a:lnTo>
                    <a:lnTo>
                      <a:pt x="1769" y="36"/>
                    </a:lnTo>
                    <a:lnTo>
                      <a:pt x="1769" y="46"/>
                    </a:lnTo>
                    <a:lnTo>
                      <a:pt x="1767" y="57"/>
                    </a:lnTo>
                    <a:lnTo>
                      <a:pt x="1767" y="67"/>
                    </a:lnTo>
                    <a:lnTo>
                      <a:pt x="1767" y="78"/>
                    </a:lnTo>
                    <a:lnTo>
                      <a:pt x="1766" y="88"/>
                    </a:lnTo>
                    <a:lnTo>
                      <a:pt x="1766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128760" y="1220760"/>
                <a:ext cx="561960" cy="3168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7" y="97"/>
                    </a:moveTo>
                    <a:lnTo>
                      <a:pt x="1129" y="97"/>
                    </a:lnTo>
                    <a:lnTo>
                      <a:pt x="1129" y="90"/>
                    </a:lnTo>
                    <a:lnTo>
                      <a:pt x="1130" y="84"/>
                    </a:lnTo>
                    <a:lnTo>
                      <a:pt x="1130" y="77"/>
                    </a:lnTo>
                    <a:lnTo>
                      <a:pt x="1130" y="70"/>
                    </a:lnTo>
                    <a:lnTo>
                      <a:pt x="1130" y="63"/>
                    </a:lnTo>
                    <a:lnTo>
                      <a:pt x="1130" y="57"/>
                    </a:lnTo>
                    <a:lnTo>
                      <a:pt x="1131" y="49"/>
                    </a:lnTo>
                    <a:lnTo>
                      <a:pt x="1131" y="43"/>
                    </a:lnTo>
                    <a:lnTo>
                      <a:pt x="1131" y="37"/>
                    </a:lnTo>
                    <a:lnTo>
                      <a:pt x="1130" y="32"/>
                    </a:lnTo>
                    <a:lnTo>
                      <a:pt x="1130" y="27"/>
                    </a:lnTo>
                    <a:lnTo>
                      <a:pt x="1130" y="21"/>
                    </a:lnTo>
                    <a:lnTo>
                      <a:pt x="1130" y="16"/>
                    </a:lnTo>
                    <a:lnTo>
                      <a:pt x="1130" y="10"/>
                    </a:lnTo>
                    <a:lnTo>
                      <a:pt x="1130" y="5"/>
                    </a:lnTo>
                    <a:lnTo>
                      <a:pt x="1130" y="0"/>
                    </a:lnTo>
                    <a:lnTo>
                      <a:pt x="1767" y="0"/>
                    </a:lnTo>
                    <a:lnTo>
                      <a:pt x="1767" y="8"/>
                    </a:lnTo>
                    <a:lnTo>
                      <a:pt x="1767" y="15"/>
                    </a:lnTo>
                    <a:lnTo>
                      <a:pt x="1767" y="24"/>
                    </a:lnTo>
                    <a:lnTo>
                      <a:pt x="1769" y="31"/>
                    </a:lnTo>
                    <a:lnTo>
                      <a:pt x="1769" y="40"/>
                    </a:lnTo>
                    <a:lnTo>
                      <a:pt x="1769" y="47"/>
                    </a:lnTo>
                    <a:lnTo>
                      <a:pt x="1769" y="54"/>
                    </a:lnTo>
                    <a:lnTo>
                      <a:pt x="1769" y="63"/>
                    </a:lnTo>
                    <a:lnTo>
                      <a:pt x="1769" y="67"/>
                    </a:lnTo>
                    <a:lnTo>
                      <a:pt x="1769" y="72"/>
                    </a:lnTo>
                    <a:lnTo>
                      <a:pt x="1769" y="75"/>
                    </a:lnTo>
                    <a:lnTo>
                      <a:pt x="1769" y="80"/>
                    </a:lnTo>
                    <a:lnTo>
                      <a:pt x="1769" y="84"/>
                    </a:lnTo>
                    <a:lnTo>
                      <a:pt x="1769" y="89"/>
                    </a:lnTo>
                    <a:lnTo>
                      <a:pt x="1769" y="93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128760" y="1206360"/>
                <a:ext cx="561960" cy="30240"/>
              </a:xfrm>
              <a:custGeom>
                <a:avLst/>
                <a:gdLst/>
                <a:ahLst/>
                <a:rect l="l" t="t" r="r" b="b"/>
                <a:pathLst>
                  <a:path w="1769" h="97">
                    <a:moveTo>
                      <a:pt x="1769" y="97"/>
                    </a:moveTo>
                    <a:lnTo>
                      <a:pt x="1131" y="97"/>
                    </a:lnTo>
                    <a:lnTo>
                      <a:pt x="1131" y="97"/>
                    </a:lnTo>
                    <a:lnTo>
                      <a:pt x="1131" y="96"/>
                    </a:lnTo>
                    <a:lnTo>
                      <a:pt x="1131" y="96"/>
                    </a:lnTo>
                    <a:lnTo>
                      <a:pt x="1131" y="95"/>
                    </a:lnTo>
                    <a:lnTo>
                      <a:pt x="1131" y="94"/>
                    </a:lnTo>
                    <a:lnTo>
                      <a:pt x="1131" y="94"/>
                    </a:lnTo>
                    <a:lnTo>
                      <a:pt x="1131" y="92"/>
                    </a:lnTo>
                    <a:lnTo>
                      <a:pt x="1131" y="92"/>
                    </a:lnTo>
                    <a:lnTo>
                      <a:pt x="1130" y="80"/>
                    </a:lnTo>
                    <a:lnTo>
                      <a:pt x="1130" y="69"/>
                    </a:lnTo>
                    <a:lnTo>
                      <a:pt x="1130" y="57"/>
                    </a:lnTo>
                    <a:lnTo>
                      <a:pt x="1129" y="46"/>
                    </a:lnTo>
                    <a:lnTo>
                      <a:pt x="1129" y="33"/>
                    </a:lnTo>
                    <a:lnTo>
                      <a:pt x="1128" y="22"/>
                    </a:lnTo>
                    <a:lnTo>
                      <a:pt x="1127" y="11"/>
                    </a:lnTo>
                    <a:lnTo>
                      <a:pt x="1125" y="0"/>
                    </a:lnTo>
                    <a:lnTo>
                      <a:pt x="1765" y="0"/>
                    </a:lnTo>
                    <a:lnTo>
                      <a:pt x="1765" y="12"/>
                    </a:lnTo>
                    <a:lnTo>
                      <a:pt x="1766" y="25"/>
                    </a:lnTo>
                    <a:lnTo>
                      <a:pt x="1766" y="36"/>
                    </a:lnTo>
                    <a:lnTo>
                      <a:pt x="1767" y="48"/>
                    </a:lnTo>
                    <a:lnTo>
                      <a:pt x="1767" y="60"/>
                    </a:lnTo>
                    <a:lnTo>
                      <a:pt x="1767" y="73"/>
                    </a:lnTo>
                    <a:lnTo>
                      <a:pt x="1769" y="85"/>
                    </a:lnTo>
                    <a:lnTo>
                      <a:pt x="1769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128760" y="1190520"/>
                <a:ext cx="560520" cy="30240"/>
              </a:xfrm>
              <a:custGeom>
                <a:avLst/>
                <a:gdLst/>
                <a:ahLst/>
                <a:rect l="l" t="t" r="r" b="b"/>
                <a:pathLst>
                  <a:path w="1767" h="97">
                    <a:moveTo>
                      <a:pt x="1767" y="97"/>
                    </a:moveTo>
                    <a:lnTo>
                      <a:pt x="1130" y="97"/>
                    </a:lnTo>
                    <a:lnTo>
                      <a:pt x="1129" y="84"/>
                    </a:lnTo>
                    <a:lnTo>
                      <a:pt x="1128" y="71"/>
                    </a:lnTo>
                    <a:lnTo>
                      <a:pt x="1127" y="59"/>
                    </a:lnTo>
                    <a:lnTo>
                      <a:pt x="1125" y="47"/>
                    </a:lnTo>
                    <a:lnTo>
                      <a:pt x="1124" y="35"/>
                    </a:lnTo>
                    <a:lnTo>
                      <a:pt x="1122" y="23"/>
                    </a:lnTo>
                    <a:lnTo>
                      <a:pt x="1120" y="11"/>
                    </a:lnTo>
                    <a:lnTo>
                      <a:pt x="1118" y="0"/>
                    </a:lnTo>
                    <a:lnTo>
                      <a:pt x="1760" y="0"/>
                    </a:lnTo>
                    <a:lnTo>
                      <a:pt x="1761" y="11"/>
                    </a:lnTo>
                    <a:lnTo>
                      <a:pt x="1762" y="23"/>
                    </a:lnTo>
                    <a:lnTo>
                      <a:pt x="1764" y="36"/>
                    </a:lnTo>
                    <a:lnTo>
                      <a:pt x="1765" y="48"/>
                    </a:lnTo>
                    <a:lnTo>
                      <a:pt x="1765" y="60"/>
                    </a:lnTo>
                    <a:lnTo>
                      <a:pt x="1766" y="73"/>
                    </a:lnTo>
                    <a:lnTo>
                      <a:pt x="1766" y="85"/>
                    </a:lnTo>
                    <a:lnTo>
                      <a:pt x="176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128760" y="1174680"/>
                <a:ext cx="560520" cy="31680"/>
              </a:xfrm>
              <a:custGeom>
                <a:avLst/>
                <a:gdLst/>
                <a:ahLst/>
                <a:rect l="l" t="t" r="r" b="b"/>
                <a:pathLst>
                  <a:path w="1765" h="97">
                    <a:moveTo>
                      <a:pt x="1765" y="97"/>
                    </a:moveTo>
                    <a:lnTo>
                      <a:pt x="1125" y="97"/>
                    </a:lnTo>
                    <a:lnTo>
                      <a:pt x="1124" y="85"/>
                    </a:lnTo>
                    <a:lnTo>
                      <a:pt x="1122" y="72"/>
                    </a:lnTo>
                    <a:lnTo>
                      <a:pt x="1119" y="60"/>
                    </a:lnTo>
                    <a:lnTo>
                      <a:pt x="1118" y="48"/>
                    </a:lnTo>
                    <a:lnTo>
                      <a:pt x="1114" y="36"/>
                    </a:lnTo>
                    <a:lnTo>
                      <a:pt x="1112" y="23"/>
                    </a:lnTo>
                    <a:lnTo>
                      <a:pt x="1109" y="12"/>
                    </a:lnTo>
                    <a:lnTo>
                      <a:pt x="1106" y="0"/>
                    </a:lnTo>
                    <a:lnTo>
                      <a:pt x="1755" y="0"/>
                    </a:lnTo>
                    <a:lnTo>
                      <a:pt x="1756" y="12"/>
                    </a:lnTo>
                    <a:lnTo>
                      <a:pt x="1757" y="25"/>
                    </a:lnTo>
                    <a:lnTo>
                      <a:pt x="1759" y="36"/>
                    </a:lnTo>
                    <a:lnTo>
                      <a:pt x="1760" y="48"/>
                    </a:lnTo>
                    <a:lnTo>
                      <a:pt x="1761" y="60"/>
                    </a:lnTo>
                    <a:lnTo>
                      <a:pt x="1762" y="72"/>
                    </a:lnTo>
                    <a:lnTo>
                      <a:pt x="1764" y="85"/>
                    </a:lnTo>
                    <a:lnTo>
                      <a:pt x="176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128760" y="1158840"/>
                <a:ext cx="559080" cy="31680"/>
              </a:xfrm>
              <a:custGeom>
                <a:avLst/>
                <a:gdLst/>
                <a:ahLst/>
                <a:rect l="l" t="t" r="r" b="b"/>
                <a:pathLst>
                  <a:path w="1760" h="98">
                    <a:moveTo>
                      <a:pt x="1760" y="98"/>
                    </a:moveTo>
                    <a:lnTo>
                      <a:pt x="1118" y="98"/>
                    </a:lnTo>
                    <a:lnTo>
                      <a:pt x="1115" y="85"/>
                    </a:lnTo>
                    <a:lnTo>
                      <a:pt x="1112" y="72"/>
                    </a:lnTo>
                    <a:lnTo>
                      <a:pt x="1109" y="60"/>
                    </a:lnTo>
                    <a:lnTo>
                      <a:pt x="1106" y="48"/>
                    </a:lnTo>
                    <a:lnTo>
                      <a:pt x="1102" y="35"/>
                    </a:lnTo>
                    <a:lnTo>
                      <a:pt x="1098" y="24"/>
                    </a:lnTo>
                    <a:lnTo>
                      <a:pt x="1093" y="12"/>
                    </a:lnTo>
                    <a:lnTo>
                      <a:pt x="1090" y="0"/>
                    </a:lnTo>
                    <a:lnTo>
                      <a:pt x="1748" y="0"/>
                    </a:lnTo>
                    <a:lnTo>
                      <a:pt x="1749" y="12"/>
                    </a:lnTo>
                    <a:lnTo>
                      <a:pt x="1751" y="24"/>
                    </a:lnTo>
                    <a:lnTo>
                      <a:pt x="1753" y="37"/>
                    </a:lnTo>
                    <a:lnTo>
                      <a:pt x="1755" y="49"/>
                    </a:lnTo>
                    <a:lnTo>
                      <a:pt x="1756" y="61"/>
                    </a:lnTo>
                    <a:lnTo>
                      <a:pt x="1757" y="72"/>
                    </a:lnTo>
                    <a:lnTo>
                      <a:pt x="1759" y="85"/>
                    </a:lnTo>
                    <a:lnTo>
                      <a:pt x="1760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128760" y="1144440"/>
                <a:ext cx="557280" cy="30240"/>
              </a:xfrm>
              <a:custGeom>
                <a:avLst/>
                <a:gdLst/>
                <a:ahLst/>
                <a:rect l="l" t="t" r="r" b="b"/>
                <a:pathLst>
                  <a:path w="1755" h="97">
                    <a:moveTo>
                      <a:pt x="1755" y="97"/>
                    </a:moveTo>
                    <a:lnTo>
                      <a:pt x="1106" y="97"/>
                    </a:lnTo>
                    <a:lnTo>
                      <a:pt x="1102" y="85"/>
                    </a:lnTo>
                    <a:lnTo>
                      <a:pt x="1098" y="71"/>
                    </a:lnTo>
                    <a:lnTo>
                      <a:pt x="1093" y="59"/>
                    </a:lnTo>
                    <a:lnTo>
                      <a:pt x="1088" y="46"/>
                    </a:lnTo>
                    <a:lnTo>
                      <a:pt x="1083" y="35"/>
                    </a:lnTo>
                    <a:lnTo>
                      <a:pt x="1079" y="23"/>
                    </a:lnTo>
                    <a:lnTo>
                      <a:pt x="1074" y="11"/>
                    </a:lnTo>
                    <a:lnTo>
                      <a:pt x="1067" y="0"/>
                    </a:lnTo>
                    <a:lnTo>
                      <a:pt x="1738" y="0"/>
                    </a:lnTo>
                    <a:lnTo>
                      <a:pt x="1740" y="12"/>
                    </a:lnTo>
                    <a:lnTo>
                      <a:pt x="1743" y="23"/>
                    </a:lnTo>
                    <a:lnTo>
                      <a:pt x="1745" y="35"/>
                    </a:lnTo>
                    <a:lnTo>
                      <a:pt x="1748" y="48"/>
                    </a:lnTo>
                    <a:lnTo>
                      <a:pt x="1749" y="60"/>
                    </a:lnTo>
                    <a:lnTo>
                      <a:pt x="1751" y="72"/>
                    </a:lnTo>
                    <a:lnTo>
                      <a:pt x="1753" y="85"/>
                    </a:lnTo>
                    <a:lnTo>
                      <a:pt x="1755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128760" y="1128600"/>
                <a:ext cx="554040" cy="30240"/>
              </a:xfrm>
              <a:custGeom>
                <a:avLst/>
                <a:gdLst/>
                <a:ahLst/>
                <a:rect l="l" t="t" r="r" b="b"/>
                <a:pathLst>
                  <a:path w="1748" h="97">
                    <a:moveTo>
                      <a:pt x="1748" y="97"/>
                    </a:moveTo>
                    <a:lnTo>
                      <a:pt x="1090" y="97"/>
                    </a:lnTo>
                    <a:lnTo>
                      <a:pt x="1083" y="84"/>
                    </a:lnTo>
                    <a:lnTo>
                      <a:pt x="1079" y="72"/>
                    </a:lnTo>
                    <a:lnTo>
                      <a:pt x="1072" y="60"/>
                    </a:lnTo>
                    <a:lnTo>
                      <a:pt x="1066" y="48"/>
                    </a:lnTo>
                    <a:lnTo>
                      <a:pt x="1060" y="35"/>
                    </a:lnTo>
                    <a:lnTo>
                      <a:pt x="1053" y="23"/>
                    </a:lnTo>
                    <a:lnTo>
                      <a:pt x="1047" y="12"/>
                    </a:lnTo>
                    <a:lnTo>
                      <a:pt x="1039" y="0"/>
                    </a:lnTo>
                    <a:lnTo>
                      <a:pt x="1727" y="0"/>
                    </a:lnTo>
                    <a:lnTo>
                      <a:pt x="1729" y="12"/>
                    </a:lnTo>
                    <a:lnTo>
                      <a:pt x="1733" y="24"/>
                    </a:lnTo>
                    <a:lnTo>
                      <a:pt x="1735" y="36"/>
                    </a:lnTo>
                    <a:lnTo>
                      <a:pt x="1738" y="49"/>
                    </a:lnTo>
                    <a:lnTo>
                      <a:pt x="1740" y="60"/>
                    </a:lnTo>
                    <a:lnTo>
                      <a:pt x="1743" y="72"/>
                    </a:lnTo>
                    <a:lnTo>
                      <a:pt x="1745" y="84"/>
                    </a:lnTo>
                    <a:lnTo>
                      <a:pt x="174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128760" y="1112760"/>
                <a:ext cx="550800" cy="31680"/>
              </a:xfrm>
              <a:custGeom>
                <a:avLst/>
                <a:gdLst/>
                <a:ahLst/>
                <a:rect l="l" t="t" r="r" b="b"/>
                <a:pathLst>
                  <a:path w="1738" h="97">
                    <a:moveTo>
                      <a:pt x="1738" y="97"/>
                    </a:moveTo>
                    <a:lnTo>
                      <a:pt x="1067" y="97"/>
                    </a:lnTo>
                    <a:lnTo>
                      <a:pt x="1060" y="83"/>
                    </a:lnTo>
                    <a:lnTo>
                      <a:pt x="1053" y="71"/>
                    </a:lnTo>
                    <a:lnTo>
                      <a:pt x="1045" y="59"/>
                    </a:lnTo>
                    <a:lnTo>
                      <a:pt x="1038" y="46"/>
                    </a:lnTo>
                    <a:lnTo>
                      <a:pt x="1029" y="34"/>
                    </a:lnTo>
                    <a:lnTo>
                      <a:pt x="1021" y="23"/>
                    </a:lnTo>
                    <a:lnTo>
                      <a:pt x="1012" y="11"/>
                    </a:lnTo>
                    <a:lnTo>
                      <a:pt x="1002" y="0"/>
                    </a:lnTo>
                    <a:lnTo>
                      <a:pt x="1713" y="0"/>
                    </a:lnTo>
                    <a:lnTo>
                      <a:pt x="1717" y="12"/>
                    </a:lnTo>
                    <a:lnTo>
                      <a:pt x="1721" y="23"/>
                    </a:lnTo>
                    <a:lnTo>
                      <a:pt x="1723" y="35"/>
                    </a:lnTo>
                    <a:lnTo>
                      <a:pt x="1727" y="48"/>
                    </a:lnTo>
                    <a:lnTo>
                      <a:pt x="1729" y="60"/>
                    </a:lnTo>
                    <a:lnTo>
                      <a:pt x="1733" y="72"/>
                    </a:lnTo>
                    <a:lnTo>
                      <a:pt x="1735" y="84"/>
                    </a:lnTo>
                    <a:lnTo>
                      <a:pt x="1738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128760" y="1096920"/>
                <a:ext cx="547920" cy="31680"/>
              </a:xfrm>
              <a:custGeom>
                <a:avLst/>
                <a:gdLst/>
                <a:ahLst/>
                <a:rect l="l" t="t" r="r" b="b"/>
                <a:pathLst>
                  <a:path w="1727" h="98">
                    <a:moveTo>
                      <a:pt x="1727" y="98"/>
                    </a:moveTo>
                    <a:lnTo>
                      <a:pt x="1039" y="98"/>
                    </a:lnTo>
                    <a:lnTo>
                      <a:pt x="1033" y="89"/>
                    </a:lnTo>
                    <a:lnTo>
                      <a:pt x="1027" y="80"/>
                    </a:lnTo>
                    <a:lnTo>
                      <a:pt x="1021" y="72"/>
                    </a:lnTo>
                    <a:lnTo>
                      <a:pt x="1015" y="64"/>
                    </a:lnTo>
                    <a:lnTo>
                      <a:pt x="1007" y="56"/>
                    </a:lnTo>
                    <a:lnTo>
                      <a:pt x="1001" y="47"/>
                    </a:lnTo>
                    <a:lnTo>
                      <a:pt x="994" y="40"/>
                    </a:lnTo>
                    <a:lnTo>
                      <a:pt x="986" y="31"/>
                    </a:lnTo>
                    <a:lnTo>
                      <a:pt x="983" y="27"/>
                    </a:lnTo>
                    <a:lnTo>
                      <a:pt x="979" y="24"/>
                    </a:lnTo>
                    <a:lnTo>
                      <a:pt x="975" y="20"/>
                    </a:lnTo>
                    <a:lnTo>
                      <a:pt x="972" y="16"/>
                    </a:lnTo>
                    <a:lnTo>
                      <a:pt x="968" y="11"/>
                    </a:lnTo>
                    <a:lnTo>
                      <a:pt x="964" y="8"/>
                    </a:lnTo>
                    <a:lnTo>
                      <a:pt x="960" y="4"/>
                    </a:lnTo>
                    <a:lnTo>
                      <a:pt x="957" y="0"/>
                    </a:lnTo>
                    <a:lnTo>
                      <a:pt x="1697" y="0"/>
                    </a:lnTo>
                    <a:lnTo>
                      <a:pt x="1702" y="13"/>
                    </a:lnTo>
                    <a:lnTo>
                      <a:pt x="1706" y="25"/>
                    </a:lnTo>
                    <a:lnTo>
                      <a:pt x="1709" y="37"/>
                    </a:lnTo>
                    <a:lnTo>
                      <a:pt x="1713" y="48"/>
                    </a:lnTo>
                    <a:lnTo>
                      <a:pt x="1717" y="61"/>
                    </a:lnTo>
                    <a:lnTo>
                      <a:pt x="1721" y="73"/>
                    </a:lnTo>
                    <a:lnTo>
                      <a:pt x="1723" y="85"/>
                    </a:lnTo>
                    <a:lnTo>
                      <a:pt x="1727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128760" y="1082520"/>
                <a:ext cx="542880" cy="30240"/>
              </a:xfrm>
              <a:custGeom>
                <a:avLst/>
                <a:gdLst/>
                <a:ahLst/>
                <a:rect l="l" t="t" r="r" b="b"/>
                <a:pathLst>
                  <a:path w="1713" h="98">
                    <a:moveTo>
                      <a:pt x="1713" y="98"/>
                    </a:moveTo>
                    <a:lnTo>
                      <a:pt x="1002" y="98"/>
                    </a:lnTo>
                    <a:lnTo>
                      <a:pt x="1001" y="95"/>
                    </a:lnTo>
                    <a:lnTo>
                      <a:pt x="999" y="93"/>
                    </a:lnTo>
                    <a:lnTo>
                      <a:pt x="997" y="90"/>
                    </a:lnTo>
                    <a:lnTo>
                      <a:pt x="995" y="89"/>
                    </a:lnTo>
                    <a:lnTo>
                      <a:pt x="992" y="86"/>
                    </a:lnTo>
                    <a:lnTo>
                      <a:pt x="991" y="84"/>
                    </a:lnTo>
                    <a:lnTo>
                      <a:pt x="989" y="82"/>
                    </a:lnTo>
                    <a:lnTo>
                      <a:pt x="986" y="79"/>
                    </a:lnTo>
                    <a:lnTo>
                      <a:pt x="976" y="68"/>
                    </a:lnTo>
                    <a:lnTo>
                      <a:pt x="965" y="57"/>
                    </a:lnTo>
                    <a:lnTo>
                      <a:pt x="954" y="47"/>
                    </a:lnTo>
                    <a:lnTo>
                      <a:pt x="942" y="36"/>
                    </a:lnTo>
                    <a:lnTo>
                      <a:pt x="931" y="27"/>
                    </a:lnTo>
                    <a:lnTo>
                      <a:pt x="919" y="18"/>
                    </a:lnTo>
                    <a:lnTo>
                      <a:pt x="906" y="9"/>
                    </a:lnTo>
                    <a:lnTo>
                      <a:pt x="894" y="0"/>
                    </a:lnTo>
                    <a:lnTo>
                      <a:pt x="1680" y="0"/>
                    </a:lnTo>
                    <a:lnTo>
                      <a:pt x="1684" y="13"/>
                    </a:lnTo>
                    <a:lnTo>
                      <a:pt x="1689" y="24"/>
                    </a:lnTo>
                    <a:lnTo>
                      <a:pt x="1694" y="36"/>
                    </a:lnTo>
                    <a:lnTo>
                      <a:pt x="1697" y="48"/>
                    </a:lnTo>
                    <a:lnTo>
                      <a:pt x="1702" y="61"/>
                    </a:lnTo>
                    <a:lnTo>
                      <a:pt x="1706" y="73"/>
                    </a:lnTo>
                    <a:lnTo>
                      <a:pt x="1709" y="85"/>
                    </a:lnTo>
                    <a:lnTo>
                      <a:pt x="171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128760" y="1066680"/>
                <a:ext cx="538200" cy="30240"/>
              </a:xfrm>
              <a:custGeom>
                <a:avLst/>
                <a:gdLst/>
                <a:ahLst/>
                <a:rect l="l" t="t" r="r" b="b"/>
                <a:pathLst>
                  <a:path w="1697" h="97">
                    <a:moveTo>
                      <a:pt x="1697" y="97"/>
                    </a:moveTo>
                    <a:lnTo>
                      <a:pt x="957" y="97"/>
                    </a:lnTo>
                    <a:lnTo>
                      <a:pt x="938" y="83"/>
                    </a:lnTo>
                    <a:lnTo>
                      <a:pt x="920" y="68"/>
                    </a:lnTo>
                    <a:lnTo>
                      <a:pt x="901" y="54"/>
                    </a:lnTo>
                    <a:lnTo>
                      <a:pt x="882" y="41"/>
                    </a:lnTo>
                    <a:lnTo>
                      <a:pt x="861" y="30"/>
                    </a:lnTo>
                    <a:lnTo>
                      <a:pt x="841" y="19"/>
                    </a:lnTo>
                    <a:lnTo>
                      <a:pt x="819" y="9"/>
                    </a:lnTo>
                    <a:lnTo>
                      <a:pt x="798" y="0"/>
                    </a:lnTo>
                    <a:lnTo>
                      <a:pt x="1659" y="0"/>
                    </a:lnTo>
                    <a:lnTo>
                      <a:pt x="1664" y="12"/>
                    </a:lnTo>
                    <a:lnTo>
                      <a:pt x="1669" y="25"/>
                    </a:lnTo>
                    <a:lnTo>
                      <a:pt x="1675" y="37"/>
                    </a:lnTo>
                    <a:lnTo>
                      <a:pt x="1679" y="48"/>
                    </a:lnTo>
                    <a:lnTo>
                      <a:pt x="1684" y="60"/>
                    </a:lnTo>
                    <a:lnTo>
                      <a:pt x="1689" y="73"/>
                    </a:lnTo>
                    <a:lnTo>
                      <a:pt x="1694" y="85"/>
                    </a:lnTo>
                    <a:lnTo>
                      <a:pt x="1697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128760" y="1050840"/>
                <a:ext cx="533520" cy="31680"/>
              </a:xfrm>
              <a:custGeom>
                <a:avLst/>
                <a:gdLst/>
                <a:ahLst/>
                <a:rect l="l" t="t" r="r" b="b"/>
                <a:pathLst>
                  <a:path w="1680" h="97">
                    <a:moveTo>
                      <a:pt x="1680" y="97"/>
                    </a:moveTo>
                    <a:lnTo>
                      <a:pt x="894" y="97"/>
                    </a:lnTo>
                    <a:lnTo>
                      <a:pt x="879" y="88"/>
                    </a:lnTo>
                    <a:lnTo>
                      <a:pt x="863" y="79"/>
                    </a:lnTo>
                    <a:lnTo>
                      <a:pt x="847" y="70"/>
                    </a:lnTo>
                    <a:lnTo>
                      <a:pt x="831" y="63"/>
                    </a:lnTo>
                    <a:lnTo>
                      <a:pt x="814" y="56"/>
                    </a:lnTo>
                    <a:lnTo>
                      <a:pt x="798" y="48"/>
                    </a:lnTo>
                    <a:lnTo>
                      <a:pt x="781" y="43"/>
                    </a:lnTo>
                    <a:lnTo>
                      <a:pt x="762" y="37"/>
                    </a:lnTo>
                    <a:lnTo>
                      <a:pt x="745" y="32"/>
                    </a:lnTo>
                    <a:lnTo>
                      <a:pt x="727" y="29"/>
                    </a:lnTo>
                    <a:lnTo>
                      <a:pt x="708" y="25"/>
                    </a:lnTo>
                    <a:lnTo>
                      <a:pt x="690" y="21"/>
                    </a:lnTo>
                    <a:lnTo>
                      <a:pt x="651" y="17"/>
                    </a:lnTo>
                    <a:lnTo>
                      <a:pt x="610" y="15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0"/>
                    </a:lnTo>
                    <a:lnTo>
                      <a:pt x="1636" y="1"/>
                    </a:lnTo>
                    <a:lnTo>
                      <a:pt x="1636" y="1"/>
                    </a:lnTo>
                    <a:lnTo>
                      <a:pt x="1637" y="1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37" y="3"/>
                    </a:lnTo>
                    <a:lnTo>
                      <a:pt x="1643" y="14"/>
                    </a:lnTo>
                    <a:lnTo>
                      <a:pt x="1648" y="26"/>
                    </a:lnTo>
                    <a:lnTo>
                      <a:pt x="1654" y="37"/>
                    </a:lnTo>
                    <a:lnTo>
                      <a:pt x="1659" y="49"/>
                    </a:lnTo>
                    <a:lnTo>
                      <a:pt x="1664" y="62"/>
                    </a:lnTo>
                    <a:lnTo>
                      <a:pt x="1670" y="73"/>
                    </a:lnTo>
                    <a:lnTo>
                      <a:pt x="1675" y="85"/>
                    </a:lnTo>
                    <a:lnTo>
                      <a:pt x="168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128760" y="1036800"/>
                <a:ext cx="527040" cy="29880"/>
              </a:xfrm>
              <a:custGeom>
                <a:avLst/>
                <a:gdLst/>
                <a:ahLst/>
                <a:rect l="l" t="t" r="r" b="b"/>
                <a:pathLst>
                  <a:path w="1659" h="97">
                    <a:moveTo>
                      <a:pt x="1659" y="97"/>
                    </a:moveTo>
                    <a:lnTo>
                      <a:pt x="798" y="97"/>
                    </a:lnTo>
                    <a:lnTo>
                      <a:pt x="776" y="90"/>
                    </a:lnTo>
                    <a:lnTo>
                      <a:pt x="754" y="84"/>
                    </a:lnTo>
                    <a:lnTo>
                      <a:pt x="732" y="78"/>
                    </a:lnTo>
                    <a:lnTo>
                      <a:pt x="708" y="74"/>
                    </a:lnTo>
                    <a:lnTo>
                      <a:pt x="685" y="70"/>
                    </a:lnTo>
                    <a:lnTo>
                      <a:pt x="660" y="66"/>
                    </a:lnTo>
                    <a:lnTo>
                      <a:pt x="636" y="65"/>
                    </a:lnTo>
                    <a:lnTo>
                      <a:pt x="610" y="64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09" y="0"/>
                    </a:lnTo>
                    <a:lnTo>
                      <a:pt x="1612" y="6"/>
                    </a:lnTo>
                    <a:lnTo>
                      <a:pt x="1616" y="14"/>
                    </a:lnTo>
                    <a:lnTo>
                      <a:pt x="1620" y="20"/>
                    </a:lnTo>
                    <a:lnTo>
                      <a:pt x="1623" y="26"/>
                    </a:lnTo>
                    <a:lnTo>
                      <a:pt x="1627" y="32"/>
                    </a:lnTo>
                    <a:lnTo>
                      <a:pt x="1631" y="38"/>
                    </a:lnTo>
                    <a:lnTo>
                      <a:pt x="1633" y="46"/>
                    </a:lnTo>
                    <a:lnTo>
                      <a:pt x="1637" y="52"/>
                    </a:lnTo>
                    <a:lnTo>
                      <a:pt x="1639" y="58"/>
                    </a:lnTo>
                    <a:lnTo>
                      <a:pt x="1643" y="63"/>
                    </a:lnTo>
                    <a:lnTo>
                      <a:pt x="1646" y="69"/>
                    </a:lnTo>
                    <a:lnTo>
                      <a:pt x="1648" y="75"/>
                    </a:lnTo>
                    <a:lnTo>
                      <a:pt x="1650" y="80"/>
                    </a:lnTo>
                    <a:lnTo>
                      <a:pt x="1654" y="86"/>
                    </a:lnTo>
                    <a:lnTo>
                      <a:pt x="1657" y="92"/>
                    </a:lnTo>
                    <a:lnTo>
                      <a:pt x="1659" y="97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128760" y="1020960"/>
                <a:ext cx="519120" cy="29880"/>
              </a:xfrm>
              <a:custGeom>
                <a:avLst/>
                <a:gdLst/>
                <a:ahLst/>
                <a:rect l="l" t="t" r="r" b="b"/>
                <a:pathLst>
                  <a:path w="1636" h="97">
                    <a:moveTo>
                      <a:pt x="16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79" y="0"/>
                    </a:lnTo>
                    <a:lnTo>
                      <a:pt x="1587" y="11"/>
                    </a:lnTo>
                    <a:lnTo>
                      <a:pt x="1594" y="23"/>
                    </a:lnTo>
                    <a:lnTo>
                      <a:pt x="1601" y="36"/>
                    </a:lnTo>
                    <a:lnTo>
                      <a:pt x="1609" y="48"/>
                    </a:lnTo>
                    <a:lnTo>
                      <a:pt x="1615" y="59"/>
                    </a:lnTo>
                    <a:lnTo>
                      <a:pt x="1622" y="71"/>
                    </a:lnTo>
                    <a:lnTo>
                      <a:pt x="1630" y="85"/>
                    </a:lnTo>
                    <a:lnTo>
                      <a:pt x="1636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128760" y="1004760"/>
                <a:ext cx="511200" cy="32040"/>
              </a:xfrm>
              <a:custGeom>
                <a:avLst/>
                <a:gdLst/>
                <a:ahLst/>
                <a:rect l="l" t="t" r="r" b="b"/>
                <a:pathLst>
                  <a:path w="1609" h="97">
                    <a:moveTo>
                      <a:pt x="160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45" y="0"/>
                    </a:lnTo>
                    <a:lnTo>
                      <a:pt x="1553" y="12"/>
                    </a:lnTo>
                    <a:lnTo>
                      <a:pt x="1562" y="23"/>
                    </a:lnTo>
                    <a:lnTo>
                      <a:pt x="1571" y="36"/>
                    </a:lnTo>
                    <a:lnTo>
                      <a:pt x="1578" y="48"/>
                    </a:lnTo>
                    <a:lnTo>
                      <a:pt x="1587" y="60"/>
                    </a:lnTo>
                    <a:lnTo>
                      <a:pt x="1594" y="72"/>
                    </a:lnTo>
                    <a:lnTo>
                      <a:pt x="1601" y="85"/>
                    </a:lnTo>
                    <a:lnTo>
                      <a:pt x="1609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128760" y="990720"/>
                <a:ext cx="501840" cy="30240"/>
              </a:xfrm>
              <a:custGeom>
                <a:avLst/>
                <a:gdLst/>
                <a:ahLst/>
                <a:rect l="l" t="t" r="r" b="b"/>
                <a:pathLst>
                  <a:path w="1579" h="97">
                    <a:moveTo>
                      <a:pt x="157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507" y="0"/>
                    </a:lnTo>
                    <a:lnTo>
                      <a:pt x="1515" y="11"/>
                    </a:lnTo>
                    <a:lnTo>
                      <a:pt x="1525" y="23"/>
                    </a:lnTo>
                    <a:lnTo>
                      <a:pt x="1535" y="36"/>
                    </a:lnTo>
                    <a:lnTo>
                      <a:pt x="1543" y="47"/>
                    </a:lnTo>
                    <a:lnTo>
                      <a:pt x="1553" y="59"/>
                    </a:lnTo>
                    <a:lnTo>
                      <a:pt x="1562" y="71"/>
                    </a:lnTo>
                    <a:lnTo>
                      <a:pt x="1571" y="84"/>
                    </a:lnTo>
                    <a:lnTo>
                      <a:pt x="1579" y="97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128760" y="974880"/>
                <a:ext cx="490680" cy="29880"/>
              </a:xfrm>
              <a:custGeom>
                <a:avLst/>
                <a:gdLst/>
                <a:ahLst/>
                <a:rect l="l" t="t" r="r" b="b"/>
                <a:pathLst>
                  <a:path w="1545" h="97">
                    <a:moveTo>
                      <a:pt x="154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62" y="0"/>
                    </a:lnTo>
                    <a:lnTo>
                      <a:pt x="1473" y="12"/>
                    </a:lnTo>
                    <a:lnTo>
                      <a:pt x="1484" y="23"/>
                    </a:lnTo>
                    <a:lnTo>
                      <a:pt x="1494" y="35"/>
                    </a:lnTo>
                    <a:lnTo>
                      <a:pt x="1505" y="48"/>
                    </a:lnTo>
                    <a:lnTo>
                      <a:pt x="1515" y="60"/>
                    </a:lnTo>
                    <a:lnTo>
                      <a:pt x="1525" y="72"/>
                    </a:lnTo>
                    <a:lnTo>
                      <a:pt x="1535" y="85"/>
                    </a:lnTo>
                    <a:lnTo>
                      <a:pt x="154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128760" y="959040"/>
                <a:ext cx="478080" cy="31680"/>
              </a:xfrm>
              <a:custGeom>
                <a:avLst/>
                <a:gdLst/>
                <a:ahLst/>
                <a:rect l="l" t="t" r="r" b="b"/>
                <a:pathLst>
                  <a:path w="1507" h="97">
                    <a:moveTo>
                      <a:pt x="150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2" y="0"/>
                    </a:lnTo>
                    <a:lnTo>
                      <a:pt x="1424" y="11"/>
                    </a:lnTo>
                    <a:lnTo>
                      <a:pt x="1436" y="23"/>
                    </a:lnTo>
                    <a:lnTo>
                      <a:pt x="1449" y="34"/>
                    </a:lnTo>
                    <a:lnTo>
                      <a:pt x="1461" y="46"/>
                    </a:lnTo>
                    <a:lnTo>
                      <a:pt x="1472" y="59"/>
                    </a:lnTo>
                    <a:lnTo>
                      <a:pt x="1484" y="71"/>
                    </a:lnTo>
                    <a:lnTo>
                      <a:pt x="1495" y="83"/>
                    </a:lnTo>
                    <a:lnTo>
                      <a:pt x="1507" y="97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128760" y="942840"/>
                <a:ext cx="463680" cy="32040"/>
              </a:xfrm>
              <a:custGeom>
                <a:avLst/>
                <a:gdLst/>
                <a:ahLst/>
                <a:rect l="l" t="t" r="r" b="b"/>
                <a:pathLst>
                  <a:path w="1462" h="97">
                    <a:moveTo>
                      <a:pt x="146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4" y="0"/>
                    </a:lnTo>
                    <a:lnTo>
                      <a:pt x="1369" y="11"/>
                    </a:lnTo>
                    <a:lnTo>
                      <a:pt x="1384" y="23"/>
                    </a:lnTo>
                    <a:lnTo>
                      <a:pt x="1397" y="35"/>
                    </a:lnTo>
                    <a:lnTo>
                      <a:pt x="1411" y="46"/>
                    </a:lnTo>
                    <a:lnTo>
                      <a:pt x="1424" y="59"/>
                    </a:lnTo>
                    <a:lnTo>
                      <a:pt x="1436" y="71"/>
                    </a:lnTo>
                    <a:lnTo>
                      <a:pt x="1450" y="84"/>
                    </a:lnTo>
                    <a:lnTo>
                      <a:pt x="1462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128760" y="928800"/>
                <a:ext cx="447840" cy="30240"/>
              </a:xfrm>
              <a:custGeom>
                <a:avLst/>
                <a:gdLst/>
                <a:ahLst/>
                <a:rect l="l" t="t" r="r" b="b"/>
                <a:pathLst>
                  <a:path w="1412" h="97">
                    <a:moveTo>
                      <a:pt x="141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288" y="0"/>
                    </a:lnTo>
                    <a:lnTo>
                      <a:pt x="1305" y="11"/>
                    </a:lnTo>
                    <a:lnTo>
                      <a:pt x="1321" y="22"/>
                    </a:lnTo>
                    <a:lnTo>
                      <a:pt x="1337" y="34"/>
                    </a:lnTo>
                    <a:lnTo>
                      <a:pt x="1353" y="46"/>
                    </a:lnTo>
                    <a:lnTo>
                      <a:pt x="1368" y="59"/>
                    </a:lnTo>
                    <a:lnTo>
                      <a:pt x="1382" y="71"/>
                    </a:lnTo>
                    <a:lnTo>
                      <a:pt x="1397" y="83"/>
                    </a:lnTo>
                    <a:lnTo>
                      <a:pt x="141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28760" y="91296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1354" h="98">
                    <a:moveTo>
                      <a:pt x="135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208" y="0"/>
                    </a:lnTo>
                    <a:lnTo>
                      <a:pt x="1214" y="4"/>
                    </a:lnTo>
                    <a:lnTo>
                      <a:pt x="1220" y="6"/>
                    </a:lnTo>
                    <a:lnTo>
                      <a:pt x="1225" y="10"/>
                    </a:lnTo>
                    <a:lnTo>
                      <a:pt x="1231" y="13"/>
                    </a:lnTo>
                    <a:lnTo>
                      <a:pt x="1236" y="16"/>
                    </a:lnTo>
                    <a:lnTo>
                      <a:pt x="1242" y="20"/>
                    </a:lnTo>
                    <a:lnTo>
                      <a:pt x="1247" y="22"/>
                    </a:lnTo>
                    <a:lnTo>
                      <a:pt x="1253" y="26"/>
                    </a:lnTo>
                    <a:lnTo>
                      <a:pt x="1267" y="35"/>
                    </a:lnTo>
                    <a:lnTo>
                      <a:pt x="1279" y="43"/>
                    </a:lnTo>
                    <a:lnTo>
                      <a:pt x="1293" y="52"/>
                    </a:lnTo>
                    <a:lnTo>
                      <a:pt x="1305" y="61"/>
                    </a:lnTo>
                    <a:lnTo>
                      <a:pt x="1317" y="70"/>
                    </a:lnTo>
                    <a:lnTo>
                      <a:pt x="1331" y="79"/>
                    </a:lnTo>
                    <a:lnTo>
                      <a:pt x="1343" y="89"/>
                    </a:lnTo>
                    <a:lnTo>
                      <a:pt x="135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3128760" y="897120"/>
                <a:ext cx="408240" cy="31680"/>
              </a:xfrm>
              <a:custGeom>
                <a:avLst/>
                <a:gdLst/>
                <a:ahLst/>
                <a:rect l="l" t="t" r="r" b="b"/>
                <a:pathLst>
                  <a:path w="1288" h="98">
                    <a:moveTo>
                      <a:pt x="128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08" y="0"/>
                    </a:lnTo>
                    <a:lnTo>
                      <a:pt x="1127" y="8"/>
                    </a:lnTo>
                    <a:lnTo>
                      <a:pt x="1145" y="16"/>
                    </a:lnTo>
                    <a:lnTo>
                      <a:pt x="1163" y="25"/>
                    </a:lnTo>
                    <a:lnTo>
                      <a:pt x="1182" y="35"/>
                    </a:lnTo>
                    <a:lnTo>
                      <a:pt x="1200" y="45"/>
                    </a:lnTo>
                    <a:lnTo>
                      <a:pt x="1218" y="53"/>
                    </a:lnTo>
                    <a:lnTo>
                      <a:pt x="1236" y="64"/>
                    </a:lnTo>
                    <a:lnTo>
                      <a:pt x="1253" y="74"/>
                    </a:lnTo>
                    <a:lnTo>
                      <a:pt x="1257" y="77"/>
                    </a:lnTo>
                    <a:lnTo>
                      <a:pt x="1262" y="80"/>
                    </a:lnTo>
                    <a:lnTo>
                      <a:pt x="1265" y="83"/>
                    </a:lnTo>
                    <a:lnTo>
                      <a:pt x="1270" y="85"/>
                    </a:lnTo>
                    <a:lnTo>
                      <a:pt x="1275" y="89"/>
                    </a:lnTo>
                    <a:lnTo>
                      <a:pt x="1279" y="91"/>
                    </a:lnTo>
                    <a:lnTo>
                      <a:pt x="1284" y="94"/>
                    </a:lnTo>
                    <a:lnTo>
                      <a:pt x="1288" y="98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128760" y="880920"/>
                <a:ext cx="382680" cy="32040"/>
              </a:xfrm>
              <a:custGeom>
                <a:avLst/>
                <a:gdLst/>
                <a:ahLst/>
                <a:rect l="l" t="t" r="r" b="b"/>
                <a:pathLst>
                  <a:path w="1208" h="97">
                    <a:moveTo>
                      <a:pt x="12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99" y="10"/>
                    </a:lnTo>
                    <a:lnTo>
                      <a:pt x="1031" y="20"/>
                    </a:lnTo>
                    <a:lnTo>
                      <a:pt x="1061" y="31"/>
                    </a:lnTo>
                    <a:lnTo>
                      <a:pt x="1092" y="42"/>
                    </a:lnTo>
                    <a:lnTo>
                      <a:pt x="1122" y="56"/>
                    </a:lnTo>
                    <a:lnTo>
                      <a:pt x="1151" y="68"/>
                    </a:lnTo>
                    <a:lnTo>
                      <a:pt x="1181" y="83"/>
                    </a:lnTo>
                    <a:lnTo>
                      <a:pt x="1208" y="97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3128760" y="866880"/>
                <a:ext cx="351000" cy="30240"/>
              </a:xfrm>
              <a:custGeom>
                <a:avLst/>
                <a:gdLst/>
                <a:ahLst/>
                <a:rect l="l" t="t" r="r" b="b"/>
                <a:pathLst>
                  <a:path w="1108" h="97">
                    <a:moveTo>
                      <a:pt x="110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71" y="0"/>
                    </a:lnTo>
                    <a:lnTo>
                      <a:pt x="702" y="3"/>
                    </a:lnTo>
                    <a:lnTo>
                      <a:pt x="733" y="5"/>
                    </a:lnTo>
                    <a:lnTo>
                      <a:pt x="761" y="9"/>
                    </a:lnTo>
                    <a:lnTo>
                      <a:pt x="790" y="13"/>
                    </a:lnTo>
                    <a:lnTo>
                      <a:pt x="817" y="16"/>
                    </a:lnTo>
                    <a:lnTo>
                      <a:pt x="844" y="21"/>
                    </a:lnTo>
                    <a:lnTo>
                      <a:pt x="868" y="26"/>
                    </a:lnTo>
                    <a:lnTo>
                      <a:pt x="893" y="31"/>
                    </a:lnTo>
                    <a:lnTo>
                      <a:pt x="921" y="37"/>
                    </a:lnTo>
                    <a:lnTo>
                      <a:pt x="949" y="43"/>
                    </a:lnTo>
                    <a:lnTo>
                      <a:pt x="976" y="51"/>
                    </a:lnTo>
                    <a:lnTo>
                      <a:pt x="1004" y="59"/>
                    </a:lnTo>
                    <a:lnTo>
                      <a:pt x="1031" y="68"/>
                    </a:lnTo>
                    <a:lnTo>
                      <a:pt x="1056" y="76"/>
                    </a:lnTo>
                    <a:lnTo>
                      <a:pt x="1082" y="86"/>
                    </a:lnTo>
                    <a:lnTo>
                      <a:pt x="1108" y="97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3128760" y="862200"/>
                <a:ext cx="306360" cy="18720"/>
              </a:xfrm>
              <a:custGeom>
                <a:avLst/>
                <a:gdLst/>
                <a:ahLst/>
                <a:rect l="l" t="t" r="r" b="b"/>
                <a:pathLst>
                  <a:path w="965" h="60">
                    <a:moveTo>
                      <a:pt x="965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03" y="44"/>
                    </a:lnTo>
                    <a:lnTo>
                      <a:pt x="911" y="47"/>
                    </a:lnTo>
                    <a:lnTo>
                      <a:pt x="921" y="49"/>
                    </a:lnTo>
                    <a:lnTo>
                      <a:pt x="930" y="52"/>
                    </a:lnTo>
                    <a:lnTo>
                      <a:pt x="938" y="53"/>
                    </a:lnTo>
                    <a:lnTo>
                      <a:pt x="948" y="55"/>
                    </a:lnTo>
                    <a:lnTo>
                      <a:pt x="957" y="58"/>
                    </a:lnTo>
                    <a:lnTo>
                      <a:pt x="965" y="6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128760" y="862200"/>
                <a:ext cx="212760" cy="4680"/>
              </a:xfrm>
              <a:custGeom>
                <a:avLst/>
                <a:gdLst/>
                <a:ahLst/>
                <a:rect l="l" t="t" r="r" b="b"/>
                <a:pathLst>
                  <a:path w="671" h="12">
                    <a:moveTo>
                      <a:pt x="671" y="1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7" y="0"/>
                    </a:lnTo>
                    <a:lnTo>
                      <a:pt x="400" y="0"/>
                    </a:lnTo>
                    <a:lnTo>
                      <a:pt x="441" y="1"/>
                    </a:lnTo>
                    <a:lnTo>
                      <a:pt x="483" y="1"/>
                    </a:lnTo>
                    <a:lnTo>
                      <a:pt x="523" y="2"/>
                    </a:lnTo>
                    <a:lnTo>
                      <a:pt x="562" y="5"/>
                    </a:lnTo>
                    <a:lnTo>
                      <a:pt x="600" y="6"/>
                    </a:lnTo>
                    <a:lnTo>
                      <a:pt x="636" y="9"/>
                    </a:lnTo>
                    <a:lnTo>
                      <a:pt x="671" y="12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3779640" y="1592280"/>
                <a:ext cx="17784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3779640" y="1576440"/>
                <a:ext cx="177840" cy="3168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3779640" y="1560600"/>
                <a:ext cx="177840" cy="3168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3779640" y="1546200"/>
                <a:ext cx="177840" cy="302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3779640" y="1530360"/>
                <a:ext cx="177840" cy="302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3779640" y="1514520"/>
                <a:ext cx="177840" cy="3168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3779640" y="1498680"/>
                <a:ext cx="177840" cy="3168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3779640" y="1484280"/>
                <a:ext cx="177840" cy="302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779640" y="1468440"/>
                <a:ext cx="177840" cy="302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3779640" y="1452600"/>
                <a:ext cx="177840" cy="3168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3779640" y="1436760"/>
                <a:ext cx="177840" cy="3168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779640" y="1422360"/>
                <a:ext cx="177840" cy="302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3779640" y="1416240"/>
                <a:ext cx="177840" cy="2052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057560" y="1592280"/>
                <a:ext cx="214200" cy="22320"/>
              </a:xfrm>
              <a:custGeom>
                <a:avLst/>
                <a:gdLst/>
                <a:ahLst/>
                <a:rect l="l" t="t" r="r" b="b"/>
                <a:pathLst>
                  <a:path w="672" h="74">
                    <a:moveTo>
                      <a:pt x="0" y="0"/>
                    </a:moveTo>
                    <a:lnTo>
                      <a:pt x="672" y="0"/>
                    </a:lnTo>
                    <a:lnTo>
                      <a:pt x="655" y="9"/>
                    </a:lnTo>
                    <a:lnTo>
                      <a:pt x="636" y="18"/>
                    </a:lnTo>
                    <a:lnTo>
                      <a:pt x="618" y="25"/>
                    </a:lnTo>
                    <a:lnTo>
                      <a:pt x="598" y="32"/>
                    </a:lnTo>
                    <a:lnTo>
                      <a:pt x="577" y="38"/>
                    </a:lnTo>
                    <a:lnTo>
                      <a:pt x="557" y="45"/>
                    </a:lnTo>
                    <a:lnTo>
                      <a:pt x="537" y="51"/>
                    </a:lnTo>
                    <a:lnTo>
                      <a:pt x="514" y="56"/>
                    </a:lnTo>
                    <a:lnTo>
                      <a:pt x="492" y="59"/>
                    </a:lnTo>
                    <a:lnTo>
                      <a:pt x="469" y="63"/>
                    </a:lnTo>
                    <a:lnTo>
                      <a:pt x="446" y="67"/>
                    </a:lnTo>
                    <a:lnTo>
                      <a:pt x="422" y="69"/>
                    </a:lnTo>
                    <a:lnTo>
                      <a:pt x="373" y="73"/>
                    </a:lnTo>
                    <a:lnTo>
                      <a:pt x="321" y="74"/>
                    </a:lnTo>
                    <a:lnTo>
                      <a:pt x="307" y="73"/>
                    </a:lnTo>
                    <a:lnTo>
                      <a:pt x="293" y="73"/>
                    </a:lnTo>
                    <a:lnTo>
                      <a:pt x="278" y="73"/>
                    </a:lnTo>
                    <a:lnTo>
                      <a:pt x="262" y="72"/>
                    </a:lnTo>
                    <a:lnTo>
                      <a:pt x="248" y="72"/>
                    </a:lnTo>
                    <a:lnTo>
                      <a:pt x="232" y="70"/>
                    </a:lnTo>
                    <a:lnTo>
                      <a:pt x="214" y="69"/>
                    </a:lnTo>
                    <a:lnTo>
                      <a:pt x="197" y="68"/>
                    </a:lnTo>
                    <a:lnTo>
                      <a:pt x="180" y="67"/>
                    </a:lnTo>
                    <a:lnTo>
                      <a:pt x="160" y="64"/>
                    </a:lnTo>
                    <a:lnTo>
                      <a:pt x="138" y="62"/>
                    </a:lnTo>
                    <a:lnTo>
                      <a:pt x="113" y="59"/>
                    </a:lnTo>
                    <a:lnTo>
                      <a:pt x="89" y="56"/>
                    </a:lnTo>
                    <a:lnTo>
                      <a:pt x="61" y="53"/>
                    </a:lnTo>
                    <a:lnTo>
                      <a:pt x="31" y="48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057560" y="1576440"/>
                <a:ext cx="237960" cy="31680"/>
              </a:xfrm>
              <a:custGeom>
                <a:avLst/>
                <a:gdLst/>
                <a:ahLst/>
                <a:rect l="l" t="t" r="r" b="b"/>
                <a:pathLst>
                  <a:path w="748" h="98">
                    <a:moveTo>
                      <a:pt x="542" y="98"/>
                    </a:moveTo>
                    <a:lnTo>
                      <a:pt x="35" y="98"/>
                    </a:lnTo>
                    <a:lnTo>
                      <a:pt x="30" y="96"/>
                    </a:lnTo>
                    <a:lnTo>
                      <a:pt x="26" y="96"/>
                    </a:lnTo>
                    <a:lnTo>
                      <a:pt x="22" y="95"/>
                    </a:lnTo>
                    <a:lnTo>
                      <a:pt x="18" y="95"/>
                    </a:lnTo>
                    <a:lnTo>
                      <a:pt x="14" y="94"/>
                    </a:lnTo>
                    <a:lnTo>
                      <a:pt x="9" y="94"/>
                    </a:lnTo>
                    <a:lnTo>
                      <a:pt x="5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748" y="0"/>
                    </a:lnTo>
                    <a:lnTo>
                      <a:pt x="726" y="16"/>
                    </a:lnTo>
                    <a:lnTo>
                      <a:pt x="703" y="31"/>
                    </a:lnTo>
                    <a:lnTo>
                      <a:pt x="679" y="45"/>
                    </a:lnTo>
                    <a:lnTo>
                      <a:pt x="653" y="58"/>
                    </a:lnTo>
                    <a:lnTo>
                      <a:pt x="628" y="69"/>
                    </a:lnTo>
                    <a:lnTo>
                      <a:pt x="599" y="80"/>
                    </a:lnTo>
                    <a:lnTo>
                      <a:pt x="571" y="89"/>
                    </a:lnTo>
                    <a:lnTo>
                      <a:pt x="542" y="98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057560" y="156060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800" h="97">
                    <a:moveTo>
                      <a:pt x="67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795" y="5"/>
                    </a:lnTo>
                    <a:lnTo>
                      <a:pt x="790" y="11"/>
                    </a:lnTo>
                    <a:lnTo>
                      <a:pt x="785" y="16"/>
                    </a:lnTo>
                    <a:lnTo>
                      <a:pt x="780" y="21"/>
                    </a:lnTo>
                    <a:lnTo>
                      <a:pt x="774" y="26"/>
                    </a:lnTo>
                    <a:lnTo>
                      <a:pt x="769" y="31"/>
                    </a:lnTo>
                    <a:lnTo>
                      <a:pt x="763" y="36"/>
                    </a:lnTo>
                    <a:lnTo>
                      <a:pt x="758" y="41"/>
                    </a:lnTo>
                    <a:lnTo>
                      <a:pt x="748" y="49"/>
                    </a:lnTo>
                    <a:lnTo>
                      <a:pt x="738" y="57"/>
                    </a:lnTo>
                    <a:lnTo>
                      <a:pt x="727" y="64"/>
                    </a:lnTo>
                    <a:lnTo>
                      <a:pt x="717" y="71"/>
                    </a:lnTo>
                    <a:lnTo>
                      <a:pt x="706" y="78"/>
                    </a:lnTo>
                    <a:lnTo>
                      <a:pt x="695" y="85"/>
                    </a:lnTo>
                    <a:lnTo>
                      <a:pt x="684" y="91"/>
                    </a:lnTo>
                    <a:lnTo>
                      <a:pt x="672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057560" y="1546200"/>
                <a:ext cx="266760" cy="30240"/>
              </a:xfrm>
              <a:custGeom>
                <a:avLst/>
                <a:gdLst/>
                <a:ahLst/>
                <a:rect l="l" t="t" r="r" b="b"/>
                <a:pathLst>
                  <a:path w="838" h="97">
                    <a:moveTo>
                      <a:pt x="74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38" y="0"/>
                    </a:lnTo>
                    <a:lnTo>
                      <a:pt x="829" y="12"/>
                    </a:lnTo>
                    <a:lnTo>
                      <a:pt x="821" y="24"/>
                    </a:lnTo>
                    <a:lnTo>
                      <a:pt x="812" y="36"/>
                    </a:lnTo>
                    <a:lnTo>
                      <a:pt x="802" y="47"/>
                    </a:lnTo>
                    <a:lnTo>
                      <a:pt x="791" y="58"/>
                    </a:lnTo>
                    <a:lnTo>
                      <a:pt x="780" y="68"/>
                    </a:lnTo>
                    <a:lnTo>
                      <a:pt x="769" y="79"/>
                    </a:lnTo>
                    <a:lnTo>
                      <a:pt x="758" y="89"/>
                    </a:lnTo>
                    <a:lnTo>
                      <a:pt x="757" y="90"/>
                    </a:lnTo>
                    <a:lnTo>
                      <a:pt x="756" y="91"/>
                    </a:lnTo>
                    <a:lnTo>
                      <a:pt x="754" y="92"/>
                    </a:lnTo>
                    <a:lnTo>
                      <a:pt x="753" y="92"/>
                    </a:lnTo>
                    <a:lnTo>
                      <a:pt x="752" y="94"/>
                    </a:lnTo>
                    <a:lnTo>
                      <a:pt x="751" y="95"/>
                    </a:lnTo>
                    <a:lnTo>
                      <a:pt x="749" y="96"/>
                    </a:lnTo>
                    <a:lnTo>
                      <a:pt x="748" y="97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057560" y="1530360"/>
                <a:ext cx="276120" cy="30240"/>
              </a:xfrm>
              <a:custGeom>
                <a:avLst/>
                <a:gdLst/>
                <a:ahLst/>
                <a:rect l="l" t="t" r="r" b="b"/>
                <a:pathLst>
                  <a:path w="866" h="97">
                    <a:moveTo>
                      <a:pt x="80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66" y="0"/>
                    </a:lnTo>
                    <a:lnTo>
                      <a:pt x="860" y="14"/>
                    </a:lnTo>
                    <a:lnTo>
                      <a:pt x="853" y="26"/>
                    </a:lnTo>
                    <a:lnTo>
                      <a:pt x="845" y="39"/>
                    </a:lnTo>
                    <a:lnTo>
                      <a:pt x="837" y="52"/>
                    </a:lnTo>
                    <a:lnTo>
                      <a:pt x="828" y="63"/>
                    </a:lnTo>
                    <a:lnTo>
                      <a:pt x="819" y="75"/>
                    </a:lnTo>
                    <a:lnTo>
                      <a:pt x="810" y="86"/>
                    </a:lnTo>
                    <a:lnTo>
                      <a:pt x="800" y="9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057560" y="1514520"/>
                <a:ext cx="282600" cy="31680"/>
              </a:xfrm>
              <a:custGeom>
                <a:avLst/>
                <a:gdLst/>
                <a:ahLst/>
                <a:rect l="l" t="t" r="r" b="b"/>
                <a:pathLst>
                  <a:path w="886" h="97">
                    <a:moveTo>
                      <a:pt x="83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86" y="0"/>
                    </a:lnTo>
                    <a:lnTo>
                      <a:pt x="881" y="12"/>
                    </a:lnTo>
                    <a:lnTo>
                      <a:pt x="876" y="26"/>
                    </a:lnTo>
                    <a:lnTo>
                      <a:pt x="871" y="38"/>
                    </a:lnTo>
                    <a:lnTo>
                      <a:pt x="865" y="50"/>
                    </a:lnTo>
                    <a:lnTo>
                      <a:pt x="859" y="62"/>
                    </a:lnTo>
                    <a:lnTo>
                      <a:pt x="853" y="74"/>
                    </a:lnTo>
                    <a:lnTo>
                      <a:pt x="845" y="85"/>
                    </a:lnTo>
                    <a:lnTo>
                      <a:pt x="8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057560" y="149868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9" h="97">
                    <a:moveTo>
                      <a:pt x="86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899" y="0"/>
                    </a:lnTo>
                    <a:lnTo>
                      <a:pt x="897" y="13"/>
                    </a:lnTo>
                    <a:lnTo>
                      <a:pt x="893" y="26"/>
                    </a:lnTo>
                    <a:lnTo>
                      <a:pt x="890" y="38"/>
                    </a:lnTo>
                    <a:lnTo>
                      <a:pt x="886" y="50"/>
                    </a:lnTo>
                    <a:lnTo>
                      <a:pt x="881" y="63"/>
                    </a:lnTo>
                    <a:lnTo>
                      <a:pt x="876" y="74"/>
                    </a:lnTo>
                    <a:lnTo>
                      <a:pt x="871" y="86"/>
                    </a:lnTo>
                    <a:lnTo>
                      <a:pt x="866" y="97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057560" y="148428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8" h="98">
                    <a:moveTo>
                      <a:pt x="88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08" y="0"/>
                    </a:lnTo>
                    <a:lnTo>
                      <a:pt x="907" y="13"/>
                    </a:lnTo>
                    <a:lnTo>
                      <a:pt x="904" y="25"/>
                    </a:lnTo>
                    <a:lnTo>
                      <a:pt x="902" y="38"/>
                    </a:lnTo>
                    <a:lnTo>
                      <a:pt x="899" y="50"/>
                    </a:lnTo>
                    <a:lnTo>
                      <a:pt x="897" y="62"/>
                    </a:lnTo>
                    <a:lnTo>
                      <a:pt x="893" y="75"/>
                    </a:lnTo>
                    <a:lnTo>
                      <a:pt x="890" y="86"/>
                    </a:lnTo>
                    <a:lnTo>
                      <a:pt x="886" y="9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057560" y="146844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89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2" y="12"/>
                    </a:lnTo>
                    <a:lnTo>
                      <a:pt x="910" y="25"/>
                    </a:lnTo>
                    <a:lnTo>
                      <a:pt x="909" y="38"/>
                    </a:lnTo>
                    <a:lnTo>
                      <a:pt x="908" y="50"/>
                    </a:lnTo>
                    <a:lnTo>
                      <a:pt x="907" y="61"/>
                    </a:lnTo>
                    <a:lnTo>
                      <a:pt x="904" y="73"/>
                    </a:lnTo>
                    <a:lnTo>
                      <a:pt x="902" y="86"/>
                    </a:lnTo>
                    <a:lnTo>
                      <a:pt x="899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057560" y="145260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0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913" y="0"/>
                    </a:lnTo>
                    <a:lnTo>
                      <a:pt x="913" y="3"/>
                    </a:lnTo>
                    <a:lnTo>
                      <a:pt x="913" y="5"/>
                    </a:lnTo>
                    <a:lnTo>
                      <a:pt x="913" y="7"/>
                    </a:lnTo>
                    <a:lnTo>
                      <a:pt x="913" y="9"/>
                    </a:lnTo>
                    <a:lnTo>
                      <a:pt x="913" y="12"/>
                    </a:lnTo>
                    <a:lnTo>
                      <a:pt x="913" y="14"/>
                    </a:lnTo>
                    <a:lnTo>
                      <a:pt x="913" y="15"/>
                    </a:lnTo>
                    <a:lnTo>
                      <a:pt x="913" y="18"/>
                    </a:lnTo>
                    <a:lnTo>
                      <a:pt x="913" y="27"/>
                    </a:lnTo>
                    <a:lnTo>
                      <a:pt x="913" y="39"/>
                    </a:lnTo>
                    <a:lnTo>
                      <a:pt x="913" y="48"/>
                    </a:lnTo>
                    <a:lnTo>
                      <a:pt x="912" y="58"/>
                    </a:lnTo>
                    <a:lnTo>
                      <a:pt x="912" y="69"/>
                    </a:lnTo>
                    <a:lnTo>
                      <a:pt x="910" y="79"/>
                    </a:lnTo>
                    <a:lnTo>
                      <a:pt x="909" y="89"/>
                    </a:lnTo>
                    <a:lnTo>
                      <a:pt x="9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057560" y="1436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3" h="98">
                    <a:moveTo>
                      <a:pt x="91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" y="5"/>
                    </a:lnTo>
                    <a:lnTo>
                      <a:pt x="26" y="10"/>
                    </a:lnTo>
                    <a:lnTo>
                      <a:pt x="37" y="15"/>
                    </a:lnTo>
                    <a:lnTo>
                      <a:pt x="48" y="19"/>
                    </a:lnTo>
                    <a:lnTo>
                      <a:pt x="59" y="23"/>
                    </a:lnTo>
                    <a:lnTo>
                      <a:pt x="70" y="26"/>
                    </a:lnTo>
                    <a:lnTo>
                      <a:pt x="80" y="30"/>
                    </a:lnTo>
                    <a:lnTo>
                      <a:pt x="90" y="32"/>
                    </a:lnTo>
                    <a:lnTo>
                      <a:pt x="100" y="35"/>
                    </a:lnTo>
                    <a:lnTo>
                      <a:pt x="110" y="37"/>
                    </a:lnTo>
                    <a:lnTo>
                      <a:pt x="118" y="39"/>
                    </a:lnTo>
                    <a:lnTo>
                      <a:pt x="128" y="40"/>
                    </a:lnTo>
                    <a:lnTo>
                      <a:pt x="138" y="41"/>
                    </a:lnTo>
                    <a:lnTo>
                      <a:pt x="147" y="42"/>
                    </a:lnTo>
                    <a:lnTo>
                      <a:pt x="155" y="42"/>
                    </a:lnTo>
                    <a:lnTo>
                      <a:pt x="165" y="44"/>
                    </a:lnTo>
                    <a:lnTo>
                      <a:pt x="180" y="42"/>
                    </a:lnTo>
                    <a:lnTo>
                      <a:pt x="195" y="41"/>
                    </a:lnTo>
                    <a:lnTo>
                      <a:pt x="209" y="39"/>
                    </a:lnTo>
                    <a:lnTo>
                      <a:pt x="223" y="35"/>
                    </a:lnTo>
                    <a:lnTo>
                      <a:pt x="235" y="31"/>
                    </a:lnTo>
                    <a:lnTo>
                      <a:pt x="248" y="25"/>
                    </a:lnTo>
                    <a:lnTo>
                      <a:pt x="257" y="19"/>
                    </a:lnTo>
                    <a:lnTo>
                      <a:pt x="268" y="12"/>
                    </a:lnTo>
                    <a:lnTo>
                      <a:pt x="270" y="10"/>
                    </a:lnTo>
                    <a:lnTo>
                      <a:pt x="271" y="9"/>
                    </a:lnTo>
                    <a:lnTo>
                      <a:pt x="273" y="8"/>
                    </a:lnTo>
                    <a:lnTo>
                      <a:pt x="275" y="7"/>
                    </a:lnTo>
                    <a:lnTo>
                      <a:pt x="276" y="4"/>
                    </a:lnTo>
                    <a:lnTo>
                      <a:pt x="277" y="3"/>
                    </a:lnTo>
                    <a:lnTo>
                      <a:pt x="278" y="2"/>
                    </a:lnTo>
                    <a:lnTo>
                      <a:pt x="280" y="0"/>
                    </a:lnTo>
                    <a:lnTo>
                      <a:pt x="909" y="0"/>
                    </a:lnTo>
                    <a:lnTo>
                      <a:pt x="910" y="8"/>
                    </a:lnTo>
                    <a:lnTo>
                      <a:pt x="912" y="16"/>
                    </a:lnTo>
                    <a:lnTo>
                      <a:pt x="912" y="25"/>
                    </a:lnTo>
                    <a:lnTo>
                      <a:pt x="912" y="32"/>
                    </a:lnTo>
                    <a:lnTo>
                      <a:pt x="913" y="41"/>
                    </a:lnTo>
                    <a:lnTo>
                      <a:pt x="913" y="48"/>
                    </a:lnTo>
                    <a:lnTo>
                      <a:pt x="913" y="57"/>
                    </a:lnTo>
                    <a:lnTo>
                      <a:pt x="913" y="66"/>
                    </a:lnTo>
                    <a:lnTo>
                      <a:pt x="913" y="69"/>
                    </a:lnTo>
                    <a:lnTo>
                      <a:pt x="913" y="73"/>
                    </a:lnTo>
                    <a:lnTo>
                      <a:pt x="913" y="78"/>
                    </a:lnTo>
                    <a:lnTo>
                      <a:pt x="913" y="82"/>
                    </a:lnTo>
                    <a:lnTo>
                      <a:pt x="913" y="85"/>
                    </a:lnTo>
                    <a:lnTo>
                      <a:pt x="913" y="90"/>
                    </a:lnTo>
                    <a:lnTo>
                      <a:pt x="913" y="94"/>
                    </a:lnTo>
                    <a:lnTo>
                      <a:pt x="913" y="98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057560" y="1422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3" h="97">
                    <a:moveTo>
                      <a:pt x="913" y="97"/>
                    </a:moveTo>
                    <a:lnTo>
                      <a:pt x="0" y="97"/>
                    </a:lnTo>
                    <a:lnTo>
                      <a:pt x="0" y="48"/>
                    </a:lnTo>
                    <a:lnTo>
                      <a:pt x="13" y="54"/>
                    </a:lnTo>
                    <a:lnTo>
                      <a:pt x="25" y="59"/>
                    </a:lnTo>
                    <a:lnTo>
                      <a:pt x="36" y="64"/>
                    </a:lnTo>
                    <a:lnTo>
                      <a:pt x="48" y="68"/>
                    </a:lnTo>
                    <a:lnTo>
                      <a:pt x="59" y="72"/>
                    </a:lnTo>
                    <a:lnTo>
                      <a:pt x="69" y="75"/>
                    </a:lnTo>
                    <a:lnTo>
                      <a:pt x="80" y="79"/>
                    </a:lnTo>
                    <a:lnTo>
                      <a:pt x="90" y="81"/>
                    </a:lnTo>
                    <a:lnTo>
                      <a:pt x="100" y="84"/>
                    </a:lnTo>
                    <a:lnTo>
                      <a:pt x="110" y="86"/>
                    </a:lnTo>
                    <a:lnTo>
                      <a:pt x="118" y="88"/>
                    </a:lnTo>
                    <a:lnTo>
                      <a:pt x="128" y="89"/>
                    </a:lnTo>
                    <a:lnTo>
                      <a:pt x="138" y="90"/>
                    </a:lnTo>
                    <a:lnTo>
                      <a:pt x="147" y="91"/>
                    </a:lnTo>
                    <a:lnTo>
                      <a:pt x="155" y="91"/>
                    </a:lnTo>
                    <a:lnTo>
                      <a:pt x="165" y="93"/>
                    </a:lnTo>
                    <a:lnTo>
                      <a:pt x="180" y="91"/>
                    </a:lnTo>
                    <a:lnTo>
                      <a:pt x="195" y="90"/>
                    </a:lnTo>
                    <a:lnTo>
                      <a:pt x="209" y="88"/>
                    </a:lnTo>
                    <a:lnTo>
                      <a:pt x="223" y="84"/>
                    </a:lnTo>
                    <a:lnTo>
                      <a:pt x="235" y="80"/>
                    </a:lnTo>
                    <a:lnTo>
                      <a:pt x="248" y="74"/>
                    </a:lnTo>
                    <a:lnTo>
                      <a:pt x="257" y="68"/>
                    </a:lnTo>
                    <a:lnTo>
                      <a:pt x="268" y="61"/>
                    </a:lnTo>
                    <a:lnTo>
                      <a:pt x="275" y="54"/>
                    </a:lnTo>
                    <a:lnTo>
                      <a:pt x="282" y="48"/>
                    </a:lnTo>
                    <a:lnTo>
                      <a:pt x="287" y="41"/>
                    </a:lnTo>
                    <a:lnTo>
                      <a:pt x="292" y="33"/>
                    </a:lnTo>
                    <a:lnTo>
                      <a:pt x="297" y="26"/>
                    </a:lnTo>
                    <a:lnTo>
                      <a:pt x="299" y="17"/>
                    </a:lnTo>
                    <a:lnTo>
                      <a:pt x="303" y="9"/>
                    </a:lnTo>
                    <a:lnTo>
                      <a:pt x="304" y="0"/>
                    </a:lnTo>
                    <a:lnTo>
                      <a:pt x="902" y="0"/>
                    </a:lnTo>
                    <a:lnTo>
                      <a:pt x="904" y="13"/>
                    </a:lnTo>
                    <a:lnTo>
                      <a:pt x="907" y="25"/>
                    </a:lnTo>
                    <a:lnTo>
                      <a:pt x="908" y="36"/>
                    </a:lnTo>
                    <a:lnTo>
                      <a:pt x="909" y="48"/>
                    </a:lnTo>
                    <a:lnTo>
                      <a:pt x="910" y="61"/>
                    </a:lnTo>
                    <a:lnTo>
                      <a:pt x="912" y="73"/>
                    </a:lnTo>
                    <a:lnTo>
                      <a:pt x="913" y="85"/>
                    </a:lnTo>
                    <a:lnTo>
                      <a:pt x="913" y="97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57560" y="1406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09" h="97">
                    <a:moveTo>
                      <a:pt x="909" y="97"/>
                    </a:moveTo>
                    <a:lnTo>
                      <a:pt x="280" y="97"/>
                    </a:lnTo>
                    <a:lnTo>
                      <a:pt x="286" y="90"/>
                    </a:lnTo>
                    <a:lnTo>
                      <a:pt x="292" y="83"/>
                    </a:lnTo>
                    <a:lnTo>
                      <a:pt x="297" y="74"/>
                    </a:lnTo>
                    <a:lnTo>
                      <a:pt x="300" y="65"/>
                    </a:lnTo>
                    <a:lnTo>
                      <a:pt x="303" y="57"/>
                    </a:lnTo>
                    <a:lnTo>
                      <a:pt x="305" y="47"/>
                    </a:lnTo>
                    <a:lnTo>
                      <a:pt x="307" y="37"/>
                    </a:lnTo>
                    <a:lnTo>
                      <a:pt x="307" y="27"/>
                    </a:lnTo>
                    <a:lnTo>
                      <a:pt x="307" y="24"/>
                    </a:lnTo>
                    <a:lnTo>
                      <a:pt x="307" y="21"/>
                    </a:lnTo>
                    <a:lnTo>
                      <a:pt x="305" y="18"/>
                    </a:lnTo>
                    <a:lnTo>
                      <a:pt x="305" y="14"/>
                    </a:lnTo>
                    <a:lnTo>
                      <a:pt x="304" y="11"/>
                    </a:lnTo>
                    <a:lnTo>
                      <a:pt x="304" y="8"/>
                    </a:lnTo>
                    <a:lnTo>
                      <a:pt x="303" y="4"/>
                    </a:lnTo>
                    <a:lnTo>
                      <a:pt x="302" y="0"/>
                    </a:lnTo>
                    <a:lnTo>
                      <a:pt x="890" y="0"/>
                    </a:lnTo>
                    <a:lnTo>
                      <a:pt x="893" y="11"/>
                    </a:lnTo>
                    <a:lnTo>
                      <a:pt x="897" y="24"/>
                    </a:lnTo>
                    <a:lnTo>
                      <a:pt x="899" y="36"/>
                    </a:lnTo>
                    <a:lnTo>
                      <a:pt x="902" y="48"/>
                    </a:lnTo>
                    <a:lnTo>
                      <a:pt x="904" y="61"/>
                    </a:lnTo>
                    <a:lnTo>
                      <a:pt x="907" y="73"/>
                    </a:lnTo>
                    <a:lnTo>
                      <a:pt x="908" y="85"/>
                    </a:lnTo>
                    <a:lnTo>
                      <a:pt x="909" y="97"/>
                    </a:lnTo>
                    <a:close/>
                    <a:moveTo>
                      <a:pt x="3" y="97"/>
                    </a:move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3" y="97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146480" y="1390680"/>
                <a:ext cx="198360" cy="31680"/>
              </a:xfrm>
              <a:custGeom>
                <a:avLst/>
                <a:gdLst/>
                <a:ahLst/>
                <a:rect l="l" t="t" r="r" b="b"/>
                <a:pathLst>
                  <a:path w="626" h="97">
                    <a:moveTo>
                      <a:pt x="626" y="97"/>
                    </a:moveTo>
                    <a:lnTo>
                      <a:pt x="28" y="97"/>
                    </a:lnTo>
                    <a:lnTo>
                      <a:pt x="29" y="95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31" y="87"/>
                    </a:lnTo>
                    <a:lnTo>
                      <a:pt x="31" y="85"/>
                    </a:lnTo>
                    <a:lnTo>
                      <a:pt x="31" y="81"/>
                    </a:lnTo>
                    <a:lnTo>
                      <a:pt x="31" y="79"/>
                    </a:lnTo>
                    <a:lnTo>
                      <a:pt x="31" y="76"/>
                    </a:lnTo>
                    <a:lnTo>
                      <a:pt x="31" y="69"/>
                    </a:lnTo>
                    <a:lnTo>
                      <a:pt x="28" y="60"/>
                    </a:lnTo>
                    <a:lnTo>
                      <a:pt x="26" y="52"/>
                    </a:lnTo>
                    <a:lnTo>
                      <a:pt x="23" y="42"/>
                    </a:lnTo>
                    <a:lnTo>
                      <a:pt x="18" y="32"/>
                    </a:lnTo>
                    <a:lnTo>
                      <a:pt x="13" y="22"/>
                    </a:lnTo>
                    <a:lnTo>
                      <a:pt x="7" y="11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601" y="12"/>
                    </a:lnTo>
                    <a:lnTo>
                      <a:pt x="606" y="23"/>
                    </a:lnTo>
                    <a:lnTo>
                      <a:pt x="610" y="36"/>
                    </a:lnTo>
                    <a:lnTo>
                      <a:pt x="614" y="48"/>
                    </a:lnTo>
                    <a:lnTo>
                      <a:pt x="617" y="60"/>
                    </a:lnTo>
                    <a:lnTo>
                      <a:pt x="621" y="73"/>
                    </a:lnTo>
                    <a:lnTo>
                      <a:pt x="623" y="85"/>
                    </a:lnTo>
                    <a:lnTo>
                      <a:pt x="626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133880" y="1376280"/>
                <a:ext cx="206280" cy="30240"/>
              </a:xfrm>
              <a:custGeom>
                <a:avLst/>
                <a:gdLst/>
                <a:ahLst/>
                <a:rect l="l" t="t" r="r" b="b"/>
                <a:pathLst>
                  <a:path w="654" h="97">
                    <a:moveTo>
                      <a:pt x="654" y="97"/>
                    </a:moveTo>
                    <a:lnTo>
                      <a:pt x="66" y="97"/>
                    </a:lnTo>
                    <a:lnTo>
                      <a:pt x="62" y="87"/>
                    </a:lnTo>
                    <a:lnTo>
                      <a:pt x="56" y="76"/>
                    </a:lnTo>
                    <a:lnTo>
                      <a:pt x="50" y="64"/>
                    </a:lnTo>
                    <a:lnTo>
                      <a:pt x="42" y="53"/>
                    </a:lnTo>
                    <a:lnTo>
                      <a:pt x="34" y="41"/>
                    </a:lnTo>
                    <a:lnTo>
                      <a:pt x="24" y="27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613" y="0"/>
                    </a:lnTo>
                    <a:lnTo>
                      <a:pt x="614" y="3"/>
                    </a:lnTo>
                    <a:lnTo>
                      <a:pt x="617" y="5"/>
                    </a:lnTo>
                    <a:lnTo>
                      <a:pt x="618" y="9"/>
                    </a:lnTo>
                    <a:lnTo>
                      <a:pt x="619" y="11"/>
                    </a:lnTo>
                    <a:lnTo>
                      <a:pt x="620" y="14"/>
                    </a:lnTo>
                    <a:lnTo>
                      <a:pt x="623" y="16"/>
                    </a:lnTo>
                    <a:lnTo>
                      <a:pt x="624" y="20"/>
                    </a:lnTo>
                    <a:lnTo>
                      <a:pt x="625" y="22"/>
                    </a:lnTo>
                    <a:lnTo>
                      <a:pt x="629" y="31"/>
                    </a:lnTo>
                    <a:lnTo>
                      <a:pt x="634" y="41"/>
                    </a:lnTo>
                    <a:lnTo>
                      <a:pt x="638" y="49"/>
                    </a:lnTo>
                    <a:lnTo>
                      <a:pt x="641" y="59"/>
                    </a:lnTo>
                    <a:lnTo>
                      <a:pt x="645" y="69"/>
                    </a:lnTo>
                    <a:lnTo>
                      <a:pt x="647" y="78"/>
                    </a:lnTo>
                    <a:lnTo>
                      <a:pt x="651" y="87"/>
                    </a:lnTo>
                    <a:lnTo>
                      <a:pt x="654" y="97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118040" y="1360440"/>
                <a:ext cx="217440" cy="30240"/>
              </a:xfrm>
              <a:custGeom>
                <a:avLst/>
                <a:gdLst/>
                <a:ahLst/>
                <a:rect l="l" t="t" r="r" b="b"/>
                <a:pathLst>
                  <a:path w="682" h="97">
                    <a:moveTo>
                      <a:pt x="682" y="97"/>
                    </a:moveTo>
                    <a:lnTo>
                      <a:pt x="86" y="97"/>
                    </a:lnTo>
                    <a:lnTo>
                      <a:pt x="77" y="87"/>
                    </a:lnTo>
                    <a:lnTo>
                      <a:pt x="70" y="76"/>
                    </a:lnTo>
                    <a:lnTo>
                      <a:pt x="60" y="64"/>
                    </a:lnTo>
                    <a:lnTo>
                      <a:pt x="49" y="52"/>
                    </a:lnTo>
                    <a:lnTo>
                      <a:pt x="38" y="39"/>
                    </a:lnTo>
                    <a:lnTo>
                      <a:pt x="27" y="27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34" y="10"/>
                    </a:lnTo>
                    <a:lnTo>
                      <a:pt x="641" y="18"/>
                    </a:lnTo>
                    <a:lnTo>
                      <a:pt x="647" y="28"/>
                    </a:lnTo>
                    <a:lnTo>
                      <a:pt x="652" y="37"/>
                    </a:lnTo>
                    <a:lnTo>
                      <a:pt x="658" y="45"/>
                    </a:lnTo>
                    <a:lnTo>
                      <a:pt x="663" y="54"/>
                    </a:lnTo>
                    <a:lnTo>
                      <a:pt x="666" y="63"/>
                    </a:lnTo>
                    <a:lnTo>
                      <a:pt x="671" y="71"/>
                    </a:lnTo>
                    <a:lnTo>
                      <a:pt x="673" y="75"/>
                    </a:lnTo>
                    <a:lnTo>
                      <a:pt x="674" y="77"/>
                    </a:lnTo>
                    <a:lnTo>
                      <a:pt x="675" y="81"/>
                    </a:lnTo>
                    <a:lnTo>
                      <a:pt x="677" y="85"/>
                    </a:lnTo>
                    <a:lnTo>
                      <a:pt x="679" y="87"/>
                    </a:lnTo>
                    <a:lnTo>
                      <a:pt x="680" y="91"/>
                    </a:lnTo>
                    <a:lnTo>
                      <a:pt x="681" y="95"/>
                    </a:lnTo>
                    <a:lnTo>
                      <a:pt x="682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101840" y="1344600"/>
                <a:ext cx="225720" cy="31680"/>
              </a:xfrm>
              <a:custGeom>
                <a:avLst/>
                <a:gdLst/>
                <a:ahLst/>
                <a:rect l="l" t="t" r="r" b="b"/>
                <a:pathLst>
                  <a:path w="712" h="97">
                    <a:moveTo>
                      <a:pt x="712" y="97"/>
                    </a:moveTo>
                    <a:lnTo>
                      <a:pt x="99" y="97"/>
                    </a:lnTo>
                    <a:lnTo>
                      <a:pt x="92" y="89"/>
                    </a:lnTo>
                    <a:lnTo>
                      <a:pt x="85" y="80"/>
                    </a:lnTo>
                    <a:lnTo>
                      <a:pt x="76" y="71"/>
                    </a:lnTo>
                    <a:lnTo>
                      <a:pt x="68" y="63"/>
                    </a:lnTo>
                    <a:lnTo>
                      <a:pt x="59" y="54"/>
                    </a:lnTo>
                    <a:lnTo>
                      <a:pt x="49" y="45"/>
                    </a:lnTo>
                    <a:lnTo>
                      <a:pt x="39" y="36"/>
                    </a:lnTo>
                    <a:lnTo>
                      <a:pt x="29" y="26"/>
                    </a:lnTo>
                    <a:lnTo>
                      <a:pt x="26" y="22"/>
                    </a:lnTo>
                    <a:lnTo>
                      <a:pt x="22" y="20"/>
                    </a:lnTo>
                    <a:lnTo>
                      <a:pt x="17" y="16"/>
                    </a:lnTo>
                    <a:lnTo>
                      <a:pt x="13" y="12"/>
                    </a:lnTo>
                    <a:lnTo>
                      <a:pt x="10" y="9"/>
                    </a:lnTo>
                    <a:lnTo>
                      <a:pt x="7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55" y="12"/>
                    </a:lnTo>
                    <a:lnTo>
                      <a:pt x="665" y="26"/>
                    </a:lnTo>
                    <a:lnTo>
                      <a:pt x="674" y="38"/>
                    </a:lnTo>
                    <a:lnTo>
                      <a:pt x="682" y="50"/>
                    </a:lnTo>
                    <a:lnTo>
                      <a:pt x="691" y="63"/>
                    </a:lnTo>
                    <a:lnTo>
                      <a:pt x="698" y="74"/>
                    </a:lnTo>
                    <a:lnTo>
                      <a:pt x="706" y="86"/>
                    </a:lnTo>
                    <a:lnTo>
                      <a:pt x="71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086000" y="1328760"/>
                <a:ext cx="231840" cy="31680"/>
              </a:xfrm>
              <a:custGeom>
                <a:avLst/>
                <a:gdLst/>
                <a:ahLst/>
                <a:rect l="l" t="t" r="r" b="b"/>
                <a:pathLst>
                  <a:path w="732" h="97">
                    <a:moveTo>
                      <a:pt x="732" y="97"/>
                    </a:moveTo>
                    <a:lnTo>
                      <a:pt x="104" y="97"/>
                    </a:lnTo>
                    <a:lnTo>
                      <a:pt x="101" y="94"/>
                    </a:lnTo>
                    <a:lnTo>
                      <a:pt x="98" y="92"/>
                    </a:lnTo>
                    <a:lnTo>
                      <a:pt x="95" y="90"/>
                    </a:lnTo>
                    <a:lnTo>
                      <a:pt x="93" y="86"/>
                    </a:lnTo>
                    <a:lnTo>
                      <a:pt x="89" y="83"/>
                    </a:lnTo>
                    <a:lnTo>
                      <a:pt x="87" y="81"/>
                    </a:lnTo>
                    <a:lnTo>
                      <a:pt x="83" y="78"/>
                    </a:lnTo>
                    <a:lnTo>
                      <a:pt x="80" y="75"/>
                    </a:lnTo>
                    <a:lnTo>
                      <a:pt x="72" y="67"/>
                    </a:lnTo>
                    <a:lnTo>
                      <a:pt x="64" y="61"/>
                    </a:lnTo>
                    <a:lnTo>
                      <a:pt x="57" y="54"/>
                    </a:lnTo>
                    <a:lnTo>
                      <a:pt x="50" y="48"/>
                    </a:lnTo>
                    <a:lnTo>
                      <a:pt x="43" y="42"/>
                    </a:lnTo>
                    <a:lnTo>
                      <a:pt x="37" y="35"/>
                    </a:lnTo>
                    <a:lnTo>
                      <a:pt x="31" y="31"/>
                    </a:lnTo>
                    <a:lnTo>
                      <a:pt x="25" y="26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5" y="16"/>
                    </a:lnTo>
                    <a:lnTo>
                      <a:pt x="13" y="13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655" y="0"/>
                    </a:lnTo>
                    <a:lnTo>
                      <a:pt x="666" y="13"/>
                    </a:lnTo>
                    <a:lnTo>
                      <a:pt x="677" y="26"/>
                    </a:lnTo>
                    <a:lnTo>
                      <a:pt x="687" y="38"/>
                    </a:lnTo>
                    <a:lnTo>
                      <a:pt x="697" y="50"/>
                    </a:lnTo>
                    <a:lnTo>
                      <a:pt x="706" y="62"/>
                    </a:lnTo>
                    <a:lnTo>
                      <a:pt x="715" y="75"/>
                    </a:lnTo>
                    <a:lnTo>
                      <a:pt x="724" y="86"/>
                    </a:lnTo>
                    <a:lnTo>
                      <a:pt x="732" y="97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073400" y="131436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5" h="97">
                    <a:moveTo>
                      <a:pt x="735" y="97"/>
                    </a:moveTo>
                    <a:lnTo>
                      <a:pt x="91" y="97"/>
                    </a:lnTo>
                    <a:lnTo>
                      <a:pt x="87" y="93"/>
                    </a:lnTo>
                    <a:lnTo>
                      <a:pt x="83" y="91"/>
                    </a:lnTo>
                    <a:lnTo>
                      <a:pt x="81" y="87"/>
                    </a:lnTo>
                    <a:lnTo>
                      <a:pt x="77" y="85"/>
                    </a:lnTo>
                    <a:lnTo>
                      <a:pt x="74" y="82"/>
                    </a:lnTo>
                    <a:lnTo>
                      <a:pt x="71" y="79"/>
                    </a:lnTo>
                    <a:lnTo>
                      <a:pt x="69" y="76"/>
                    </a:lnTo>
                    <a:lnTo>
                      <a:pt x="65" y="74"/>
                    </a:lnTo>
                    <a:lnTo>
                      <a:pt x="56" y="65"/>
                    </a:lnTo>
                    <a:lnTo>
                      <a:pt x="48" y="55"/>
                    </a:lnTo>
                    <a:lnTo>
                      <a:pt x="39" y="47"/>
                    </a:lnTo>
                    <a:lnTo>
                      <a:pt x="31" y="38"/>
                    </a:lnTo>
                    <a:lnTo>
                      <a:pt x="23" y="28"/>
                    </a:lnTo>
                    <a:lnTo>
                      <a:pt x="15" y="18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62" y="12"/>
                    </a:lnTo>
                    <a:lnTo>
                      <a:pt x="674" y="24"/>
                    </a:lnTo>
                    <a:lnTo>
                      <a:pt x="685" y="37"/>
                    </a:lnTo>
                    <a:lnTo>
                      <a:pt x="696" y="49"/>
                    </a:lnTo>
                    <a:lnTo>
                      <a:pt x="707" y="61"/>
                    </a:lnTo>
                    <a:lnTo>
                      <a:pt x="717" y="74"/>
                    </a:lnTo>
                    <a:lnTo>
                      <a:pt x="727" y="85"/>
                    </a:lnTo>
                    <a:lnTo>
                      <a:pt x="735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062240" y="1298520"/>
                <a:ext cx="231840" cy="30240"/>
              </a:xfrm>
              <a:custGeom>
                <a:avLst/>
                <a:gdLst/>
                <a:ahLst/>
                <a:rect l="l" t="t" r="r" b="b"/>
                <a:pathLst>
                  <a:path w="726" h="97">
                    <a:moveTo>
                      <a:pt x="726" y="97"/>
                    </a:moveTo>
                    <a:lnTo>
                      <a:pt x="71" y="97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1" y="62"/>
                    </a:lnTo>
                    <a:lnTo>
                      <a:pt x="32" y="50"/>
                    </a:lnTo>
                    <a:lnTo>
                      <a:pt x="23" y="38"/>
                    </a:lnTo>
                    <a:lnTo>
                      <a:pt x="15" y="25"/>
                    </a:lnTo>
                    <a:lnTo>
                      <a:pt x="7" y="13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32" y="0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4" y="1"/>
                    </a:lnTo>
                    <a:lnTo>
                      <a:pt x="635" y="2"/>
                    </a:lnTo>
                    <a:lnTo>
                      <a:pt x="635" y="2"/>
                    </a:lnTo>
                    <a:lnTo>
                      <a:pt x="647" y="14"/>
                    </a:lnTo>
                    <a:lnTo>
                      <a:pt x="659" y="27"/>
                    </a:lnTo>
                    <a:lnTo>
                      <a:pt x="672" y="39"/>
                    </a:lnTo>
                    <a:lnTo>
                      <a:pt x="683" y="51"/>
                    </a:lnTo>
                    <a:lnTo>
                      <a:pt x="694" y="62"/>
                    </a:lnTo>
                    <a:lnTo>
                      <a:pt x="705" y="75"/>
                    </a:lnTo>
                    <a:lnTo>
                      <a:pt x="716" y="86"/>
                    </a:lnTo>
                    <a:lnTo>
                      <a:pt x="726" y="97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056120" y="128268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703" h="97">
                    <a:moveTo>
                      <a:pt x="703" y="97"/>
                    </a:moveTo>
                    <a:lnTo>
                      <a:pt x="54" y="97"/>
                    </a:lnTo>
                    <a:lnTo>
                      <a:pt x="48" y="87"/>
                    </a:lnTo>
                    <a:lnTo>
                      <a:pt x="40" y="76"/>
                    </a:lnTo>
                    <a:lnTo>
                      <a:pt x="34" y="66"/>
                    </a:lnTo>
                    <a:lnTo>
                      <a:pt x="28" y="56"/>
                    </a:lnTo>
                    <a:lnTo>
                      <a:pt x="22" y="45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5" y="5"/>
                    </a:lnTo>
                    <a:lnTo>
                      <a:pt x="621" y="11"/>
                    </a:lnTo>
                    <a:lnTo>
                      <a:pt x="626" y="17"/>
                    </a:lnTo>
                    <a:lnTo>
                      <a:pt x="632" y="23"/>
                    </a:lnTo>
                    <a:lnTo>
                      <a:pt x="638" y="29"/>
                    </a:lnTo>
                    <a:lnTo>
                      <a:pt x="644" y="37"/>
                    </a:lnTo>
                    <a:lnTo>
                      <a:pt x="650" y="43"/>
                    </a:lnTo>
                    <a:lnTo>
                      <a:pt x="658" y="50"/>
                    </a:lnTo>
                    <a:lnTo>
                      <a:pt x="664" y="56"/>
                    </a:lnTo>
                    <a:lnTo>
                      <a:pt x="669" y="61"/>
                    </a:lnTo>
                    <a:lnTo>
                      <a:pt x="675" y="67"/>
                    </a:lnTo>
                    <a:lnTo>
                      <a:pt x="681" y="73"/>
                    </a:lnTo>
                    <a:lnTo>
                      <a:pt x="687" y="80"/>
                    </a:lnTo>
                    <a:lnTo>
                      <a:pt x="692" y="84"/>
                    </a:lnTo>
                    <a:lnTo>
                      <a:pt x="698" y="91"/>
                    </a:lnTo>
                    <a:lnTo>
                      <a:pt x="703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051080" y="1266840"/>
                <a:ext cx="212760" cy="31680"/>
              </a:xfrm>
              <a:custGeom>
                <a:avLst/>
                <a:gdLst/>
                <a:ahLst/>
                <a:rect l="l" t="t" r="r" b="b"/>
                <a:pathLst>
                  <a:path w="671" h="98">
                    <a:moveTo>
                      <a:pt x="671" y="98"/>
                    </a:moveTo>
                    <a:lnTo>
                      <a:pt x="39" y="98"/>
                    </a:lnTo>
                    <a:lnTo>
                      <a:pt x="37" y="94"/>
                    </a:lnTo>
                    <a:lnTo>
                      <a:pt x="34" y="89"/>
                    </a:lnTo>
                    <a:lnTo>
                      <a:pt x="33" y="85"/>
                    </a:lnTo>
                    <a:lnTo>
                      <a:pt x="30" y="80"/>
                    </a:lnTo>
                    <a:lnTo>
                      <a:pt x="28" y="77"/>
                    </a:lnTo>
                    <a:lnTo>
                      <a:pt x="26" y="72"/>
                    </a:lnTo>
                    <a:lnTo>
                      <a:pt x="24" y="68"/>
                    </a:lnTo>
                    <a:lnTo>
                      <a:pt x="22" y="63"/>
                    </a:lnTo>
                    <a:lnTo>
                      <a:pt x="18" y="56"/>
                    </a:lnTo>
                    <a:lnTo>
                      <a:pt x="16" y="48"/>
                    </a:lnTo>
                    <a:lnTo>
                      <a:pt x="12" y="40"/>
                    </a:lnTo>
                    <a:lnTo>
                      <a:pt x="10" y="32"/>
                    </a:lnTo>
                    <a:lnTo>
                      <a:pt x="7" y="25"/>
                    </a:lnTo>
                    <a:lnTo>
                      <a:pt x="5" y="16"/>
                    </a:lnTo>
                    <a:lnTo>
                      <a:pt x="2" y="9"/>
                    </a:lnTo>
                    <a:lnTo>
                      <a:pt x="0" y="0"/>
                    </a:lnTo>
                    <a:lnTo>
                      <a:pt x="590" y="0"/>
                    </a:lnTo>
                    <a:lnTo>
                      <a:pt x="591" y="2"/>
                    </a:lnTo>
                    <a:lnTo>
                      <a:pt x="591" y="3"/>
                    </a:lnTo>
                    <a:lnTo>
                      <a:pt x="591" y="3"/>
                    </a:lnTo>
                    <a:lnTo>
                      <a:pt x="593" y="4"/>
                    </a:lnTo>
                    <a:lnTo>
                      <a:pt x="593" y="5"/>
                    </a:lnTo>
                    <a:lnTo>
                      <a:pt x="594" y="5"/>
                    </a:lnTo>
                    <a:lnTo>
                      <a:pt x="594" y="7"/>
                    </a:lnTo>
                    <a:lnTo>
                      <a:pt x="594" y="8"/>
                    </a:lnTo>
                    <a:lnTo>
                      <a:pt x="600" y="15"/>
                    </a:lnTo>
                    <a:lnTo>
                      <a:pt x="606" y="25"/>
                    </a:lnTo>
                    <a:lnTo>
                      <a:pt x="613" y="35"/>
                    </a:lnTo>
                    <a:lnTo>
                      <a:pt x="623" y="46"/>
                    </a:lnTo>
                    <a:lnTo>
                      <a:pt x="633" y="57"/>
                    </a:lnTo>
                    <a:lnTo>
                      <a:pt x="644" y="69"/>
                    </a:lnTo>
                    <a:lnTo>
                      <a:pt x="658" y="83"/>
                    </a:lnTo>
                    <a:lnTo>
                      <a:pt x="671" y="98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048200" y="1252440"/>
                <a:ext cx="201600" cy="30240"/>
              </a:xfrm>
              <a:custGeom>
                <a:avLst/>
                <a:gdLst/>
                <a:ahLst/>
                <a:rect l="l" t="t" r="r" b="b"/>
                <a:pathLst>
                  <a:path w="636" h="98">
                    <a:moveTo>
                      <a:pt x="636" y="98"/>
                    </a:moveTo>
                    <a:lnTo>
                      <a:pt x="26" y="98"/>
                    </a:lnTo>
                    <a:lnTo>
                      <a:pt x="21" y="85"/>
                    </a:lnTo>
                    <a:lnTo>
                      <a:pt x="17" y="74"/>
                    </a:lnTo>
                    <a:lnTo>
                      <a:pt x="13" y="62"/>
                    </a:lnTo>
                    <a:lnTo>
                      <a:pt x="10" y="50"/>
                    </a:lnTo>
                    <a:lnTo>
                      <a:pt x="6" y="37"/>
                    </a:lnTo>
                    <a:lnTo>
                      <a:pt x="4" y="25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585" y="0"/>
                    </a:lnTo>
                    <a:lnTo>
                      <a:pt x="585" y="7"/>
                    </a:lnTo>
                    <a:lnTo>
                      <a:pt x="587" y="14"/>
                    </a:lnTo>
                    <a:lnTo>
                      <a:pt x="589" y="20"/>
                    </a:lnTo>
                    <a:lnTo>
                      <a:pt x="590" y="28"/>
                    </a:lnTo>
                    <a:lnTo>
                      <a:pt x="594" y="34"/>
                    </a:lnTo>
                    <a:lnTo>
                      <a:pt x="596" y="41"/>
                    </a:lnTo>
                    <a:lnTo>
                      <a:pt x="600" y="48"/>
                    </a:lnTo>
                    <a:lnTo>
                      <a:pt x="604" y="56"/>
                    </a:lnTo>
                    <a:lnTo>
                      <a:pt x="607" y="59"/>
                    </a:lnTo>
                    <a:lnTo>
                      <a:pt x="610" y="64"/>
                    </a:lnTo>
                    <a:lnTo>
                      <a:pt x="614" y="69"/>
                    </a:lnTo>
                    <a:lnTo>
                      <a:pt x="617" y="74"/>
                    </a:lnTo>
                    <a:lnTo>
                      <a:pt x="622" y="79"/>
                    </a:lnTo>
                    <a:lnTo>
                      <a:pt x="626" y="85"/>
                    </a:lnTo>
                    <a:lnTo>
                      <a:pt x="631" y="91"/>
                    </a:lnTo>
                    <a:lnTo>
                      <a:pt x="636" y="98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046400" y="1236600"/>
                <a:ext cx="192240" cy="30240"/>
              </a:xfrm>
              <a:custGeom>
                <a:avLst/>
                <a:gdLst/>
                <a:ahLst/>
                <a:rect l="l" t="t" r="r" b="b"/>
                <a:pathLst>
                  <a:path w="605" h="97">
                    <a:moveTo>
                      <a:pt x="605" y="97"/>
                    </a:moveTo>
                    <a:lnTo>
                      <a:pt x="15" y="97"/>
                    </a:lnTo>
                    <a:lnTo>
                      <a:pt x="11" y="86"/>
                    </a:lnTo>
                    <a:lnTo>
                      <a:pt x="9" y="74"/>
                    </a:lnTo>
                    <a:lnTo>
                      <a:pt x="6" y="62"/>
                    </a:lnTo>
                    <a:lnTo>
                      <a:pt x="5" y="49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8" y="5"/>
                    </a:lnTo>
                    <a:lnTo>
                      <a:pt x="596" y="10"/>
                    </a:lnTo>
                    <a:lnTo>
                      <a:pt x="594" y="15"/>
                    </a:lnTo>
                    <a:lnTo>
                      <a:pt x="593" y="21"/>
                    </a:lnTo>
                    <a:lnTo>
                      <a:pt x="592" y="26"/>
                    </a:lnTo>
                    <a:lnTo>
                      <a:pt x="590" y="32"/>
                    </a:lnTo>
                    <a:lnTo>
                      <a:pt x="590" y="38"/>
                    </a:lnTo>
                    <a:lnTo>
                      <a:pt x="590" y="45"/>
                    </a:lnTo>
                    <a:lnTo>
                      <a:pt x="590" y="51"/>
                    </a:lnTo>
                    <a:lnTo>
                      <a:pt x="592" y="57"/>
                    </a:lnTo>
                    <a:lnTo>
                      <a:pt x="592" y="64"/>
                    </a:lnTo>
                    <a:lnTo>
                      <a:pt x="594" y="70"/>
                    </a:lnTo>
                    <a:lnTo>
                      <a:pt x="596" y="77"/>
                    </a:lnTo>
                    <a:lnTo>
                      <a:pt x="599" y="84"/>
                    </a:lnTo>
                    <a:lnTo>
                      <a:pt x="601" y="90"/>
                    </a:lnTo>
                    <a:lnTo>
                      <a:pt x="605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044960" y="1220760"/>
                <a:ext cx="290520" cy="3168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591" y="97"/>
                    </a:moveTo>
                    <a:lnTo>
                      <a:pt x="6" y="97"/>
                    </a:lnTo>
                    <a:lnTo>
                      <a:pt x="5" y="89"/>
                    </a:lnTo>
                    <a:lnTo>
                      <a:pt x="3" y="80"/>
                    </a:lnTo>
                    <a:lnTo>
                      <a:pt x="2" y="73"/>
                    </a:lnTo>
                    <a:lnTo>
                      <a:pt x="2" y="6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673" y="0"/>
                    </a:lnTo>
                    <a:lnTo>
                      <a:pt x="666" y="2"/>
                    </a:lnTo>
                    <a:lnTo>
                      <a:pt x="660" y="4"/>
                    </a:lnTo>
                    <a:lnTo>
                      <a:pt x="654" y="5"/>
                    </a:lnTo>
                    <a:lnTo>
                      <a:pt x="648" y="8"/>
                    </a:lnTo>
                    <a:lnTo>
                      <a:pt x="643" y="11"/>
                    </a:lnTo>
                    <a:lnTo>
                      <a:pt x="637" y="14"/>
                    </a:lnTo>
                    <a:lnTo>
                      <a:pt x="632" y="16"/>
                    </a:lnTo>
                    <a:lnTo>
                      <a:pt x="627" y="20"/>
                    </a:lnTo>
                    <a:lnTo>
                      <a:pt x="618" y="27"/>
                    </a:lnTo>
                    <a:lnTo>
                      <a:pt x="611" y="35"/>
                    </a:lnTo>
                    <a:lnTo>
                      <a:pt x="605" y="43"/>
                    </a:lnTo>
                    <a:lnTo>
                      <a:pt x="600" y="52"/>
                    </a:lnTo>
                    <a:lnTo>
                      <a:pt x="596" y="61"/>
                    </a:lnTo>
                    <a:lnTo>
                      <a:pt x="594" y="70"/>
                    </a:lnTo>
                    <a:lnTo>
                      <a:pt x="591" y="81"/>
                    </a:lnTo>
                    <a:lnTo>
                      <a:pt x="591" y="93"/>
                    </a:lnTo>
                    <a:lnTo>
                      <a:pt x="591" y="93"/>
                    </a:lnTo>
                    <a:lnTo>
                      <a:pt x="591" y="94"/>
                    </a:lnTo>
                    <a:lnTo>
                      <a:pt x="591" y="94"/>
                    </a:lnTo>
                    <a:lnTo>
                      <a:pt x="591" y="95"/>
                    </a:lnTo>
                    <a:lnTo>
                      <a:pt x="591" y="95"/>
                    </a:lnTo>
                    <a:lnTo>
                      <a:pt x="591" y="96"/>
                    </a:lnTo>
                    <a:lnTo>
                      <a:pt x="591" y="96"/>
                    </a:lnTo>
                    <a:lnTo>
                      <a:pt x="591" y="97"/>
                    </a:lnTo>
                    <a:close/>
                    <a:moveTo>
                      <a:pt x="791" y="0"/>
                    </a:moveTo>
                    <a:lnTo>
                      <a:pt x="911" y="0"/>
                    </a:lnTo>
                    <a:lnTo>
                      <a:pt x="911" y="41"/>
                    </a:lnTo>
                    <a:lnTo>
                      <a:pt x="899" y="35"/>
                    </a:lnTo>
                    <a:lnTo>
                      <a:pt x="888" y="30"/>
                    </a:lnTo>
                    <a:lnTo>
                      <a:pt x="875" y="24"/>
                    </a:lnTo>
                    <a:lnTo>
                      <a:pt x="863" y="20"/>
                    </a:lnTo>
                    <a:lnTo>
                      <a:pt x="852" y="15"/>
                    </a:lnTo>
                    <a:lnTo>
                      <a:pt x="840" y="11"/>
                    </a:lnTo>
                    <a:lnTo>
                      <a:pt x="827" y="8"/>
                    </a:lnTo>
                    <a:lnTo>
                      <a:pt x="816" y="5"/>
                    </a:lnTo>
                    <a:lnTo>
                      <a:pt x="813" y="4"/>
                    </a:lnTo>
                    <a:lnTo>
                      <a:pt x="810" y="4"/>
                    </a:lnTo>
                    <a:lnTo>
                      <a:pt x="807" y="3"/>
                    </a:lnTo>
                    <a:lnTo>
                      <a:pt x="803" y="3"/>
                    </a:lnTo>
                    <a:lnTo>
                      <a:pt x="800" y="2"/>
                    </a:lnTo>
                    <a:lnTo>
                      <a:pt x="797" y="2"/>
                    </a:lnTo>
                    <a:lnTo>
                      <a:pt x="794" y="0"/>
                    </a:lnTo>
                    <a:lnTo>
                      <a:pt x="791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044960" y="1206360"/>
                <a:ext cx="290520" cy="30240"/>
              </a:xfrm>
              <a:custGeom>
                <a:avLst/>
                <a:gdLst/>
                <a:ahLst/>
                <a:rect l="l" t="t" r="r" b="b"/>
                <a:pathLst>
                  <a:path w="911" h="97">
                    <a:moveTo>
                      <a:pt x="601" y="97"/>
                    </a:move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1" y="91"/>
                    </a:lnTo>
                    <a:lnTo>
                      <a:pt x="1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1" y="57"/>
                    </a:lnTo>
                    <a:lnTo>
                      <a:pt x="1" y="47"/>
                    </a:lnTo>
                    <a:lnTo>
                      <a:pt x="1" y="38"/>
                    </a:lnTo>
                    <a:lnTo>
                      <a:pt x="2" y="28"/>
                    </a:lnTo>
                    <a:lnTo>
                      <a:pt x="3" y="19"/>
                    </a:lnTo>
                    <a:lnTo>
                      <a:pt x="3" y="10"/>
                    </a:lnTo>
                    <a:lnTo>
                      <a:pt x="5" y="0"/>
                    </a:lnTo>
                    <a:lnTo>
                      <a:pt x="911" y="0"/>
                    </a:lnTo>
                    <a:lnTo>
                      <a:pt x="911" y="90"/>
                    </a:lnTo>
                    <a:lnTo>
                      <a:pt x="899" y="84"/>
                    </a:lnTo>
                    <a:lnTo>
                      <a:pt x="888" y="79"/>
                    </a:lnTo>
                    <a:lnTo>
                      <a:pt x="875" y="73"/>
                    </a:lnTo>
                    <a:lnTo>
                      <a:pt x="863" y="69"/>
                    </a:lnTo>
                    <a:lnTo>
                      <a:pt x="852" y="64"/>
                    </a:lnTo>
                    <a:lnTo>
                      <a:pt x="840" y="60"/>
                    </a:lnTo>
                    <a:lnTo>
                      <a:pt x="827" y="57"/>
                    </a:lnTo>
                    <a:lnTo>
                      <a:pt x="816" y="54"/>
                    </a:lnTo>
                    <a:lnTo>
                      <a:pt x="804" y="52"/>
                    </a:lnTo>
                    <a:lnTo>
                      <a:pt x="793" y="49"/>
                    </a:lnTo>
                    <a:lnTo>
                      <a:pt x="782" y="47"/>
                    </a:lnTo>
                    <a:lnTo>
                      <a:pt x="771" y="46"/>
                    </a:lnTo>
                    <a:lnTo>
                      <a:pt x="760" y="44"/>
                    </a:lnTo>
                    <a:lnTo>
                      <a:pt x="749" y="43"/>
                    </a:lnTo>
                    <a:lnTo>
                      <a:pt x="738" y="43"/>
                    </a:lnTo>
                    <a:lnTo>
                      <a:pt x="727" y="43"/>
                    </a:lnTo>
                    <a:lnTo>
                      <a:pt x="711" y="43"/>
                    </a:lnTo>
                    <a:lnTo>
                      <a:pt x="697" y="44"/>
                    </a:lnTo>
                    <a:lnTo>
                      <a:pt x="682" y="47"/>
                    </a:lnTo>
                    <a:lnTo>
                      <a:pt x="670" y="49"/>
                    </a:lnTo>
                    <a:lnTo>
                      <a:pt x="658" y="53"/>
                    </a:lnTo>
                    <a:lnTo>
                      <a:pt x="647" y="58"/>
                    </a:lnTo>
                    <a:lnTo>
                      <a:pt x="637" y="63"/>
                    </a:lnTo>
                    <a:lnTo>
                      <a:pt x="627" y="69"/>
                    </a:lnTo>
                    <a:lnTo>
                      <a:pt x="623" y="73"/>
                    </a:lnTo>
                    <a:lnTo>
                      <a:pt x="620" y="75"/>
                    </a:lnTo>
                    <a:lnTo>
                      <a:pt x="616" y="79"/>
                    </a:lnTo>
                    <a:lnTo>
                      <a:pt x="612" y="82"/>
                    </a:lnTo>
                    <a:lnTo>
                      <a:pt x="610" y="86"/>
                    </a:lnTo>
                    <a:lnTo>
                      <a:pt x="607" y="90"/>
                    </a:lnTo>
                    <a:lnTo>
                      <a:pt x="604" y="94"/>
                    </a:lnTo>
                    <a:lnTo>
                      <a:pt x="601" y="97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046400" y="1190520"/>
                <a:ext cx="289080" cy="30240"/>
              </a:xfrm>
              <a:custGeom>
                <a:avLst/>
                <a:gdLst/>
                <a:ahLst/>
                <a:rect l="l" t="t" r="r" b="b"/>
                <a:pathLst>
                  <a:path w="910" h="97">
                    <a:moveTo>
                      <a:pt x="910" y="97"/>
                    </a:moveTo>
                    <a:lnTo>
                      <a:pt x="790" y="97"/>
                    </a:lnTo>
                    <a:lnTo>
                      <a:pt x="781" y="95"/>
                    </a:lnTo>
                    <a:lnTo>
                      <a:pt x="774" y="94"/>
                    </a:lnTo>
                    <a:lnTo>
                      <a:pt x="765" y="94"/>
                    </a:lnTo>
                    <a:lnTo>
                      <a:pt x="758" y="92"/>
                    </a:lnTo>
                    <a:lnTo>
                      <a:pt x="749" y="91"/>
                    </a:lnTo>
                    <a:lnTo>
                      <a:pt x="742" y="91"/>
                    </a:lnTo>
                    <a:lnTo>
                      <a:pt x="733" y="91"/>
                    </a:lnTo>
                    <a:lnTo>
                      <a:pt x="726" y="91"/>
                    </a:lnTo>
                    <a:lnTo>
                      <a:pt x="718" y="91"/>
                    </a:lnTo>
                    <a:lnTo>
                      <a:pt x="711" y="91"/>
                    </a:lnTo>
                    <a:lnTo>
                      <a:pt x="703" y="91"/>
                    </a:lnTo>
                    <a:lnTo>
                      <a:pt x="696" y="92"/>
                    </a:lnTo>
                    <a:lnTo>
                      <a:pt x="690" y="94"/>
                    </a:lnTo>
                    <a:lnTo>
                      <a:pt x="684" y="94"/>
                    </a:lnTo>
                    <a:lnTo>
                      <a:pt x="678" y="95"/>
                    </a:lnTo>
                    <a:lnTo>
                      <a:pt x="672" y="97"/>
                    </a:lnTo>
                    <a:lnTo>
                      <a:pt x="0" y="97"/>
                    </a:lnTo>
                    <a:lnTo>
                      <a:pt x="0" y="84"/>
                    </a:lnTo>
                    <a:lnTo>
                      <a:pt x="1" y="71"/>
                    </a:lnTo>
                    <a:lnTo>
                      <a:pt x="2" y="59"/>
                    </a:lnTo>
                    <a:lnTo>
                      <a:pt x="4" y="47"/>
                    </a:lnTo>
                    <a:lnTo>
                      <a:pt x="6" y="35"/>
                    </a:lnTo>
                    <a:lnTo>
                      <a:pt x="7" y="23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910" y="0"/>
                    </a:lnTo>
                    <a:lnTo>
                      <a:pt x="910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046400" y="1174680"/>
                <a:ext cx="289080" cy="31680"/>
              </a:xfrm>
              <a:custGeom>
                <a:avLst/>
                <a:gdLst/>
                <a:ahLst/>
                <a:rect l="l" t="t" r="r" b="b"/>
                <a:pathLst>
                  <a:path w="906" h="97">
                    <a:moveTo>
                      <a:pt x="906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3" y="71"/>
                    </a:lnTo>
                    <a:lnTo>
                      <a:pt x="6" y="59"/>
                    </a:lnTo>
                    <a:lnTo>
                      <a:pt x="10" y="47"/>
                    </a:lnTo>
                    <a:lnTo>
                      <a:pt x="12" y="36"/>
                    </a:lnTo>
                    <a:lnTo>
                      <a:pt x="16" y="23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906" y="0"/>
                    </a:lnTo>
                    <a:lnTo>
                      <a:pt x="906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49640" y="1158840"/>
                <a:ext cx="285840" cy="31680"/>
              </a:xfrm>
              <a:custGeom>
                <a:avLst/>
                <a:gdLst/>
                <a:ahLst/>
                <a:rect l="l" t="t" r="r" b="b"/>
                <a:pathLst>
                  <a:path w="898" h="98">
                    <a:moveTo>
                      <a:pt x="898" y="98"/>
                    </a:moveTo>
                    <a:lnTo>
                      <a:pt x="0" y="98"/>
                    </a:lnTo>
                    <a:lnTo>
                      <a:pt x="4" y="85"/>
                    </a:lnTo>
                    <a:lnTo>
                      <a:pt x="8" y="72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20" y="35"/>
                    </a:lnTo>
                    <a:lnTo>
                      <a:pt x="24" y="23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98" y="0"/>
                    </a:lnTo>
                    <a:lnTo>
                      <a:pt x="898" y="98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54320" y="1144440"/>
                <a:ext cx="281160" cy="30240"/>
              </a:xfrm>
              <a:custGeom>
                <a:avLst/>
                <a:gdLst/>
                <a:ahLst/>
                <a:rect l="l" t="t" r="r" b="b"/>
                <a:pathLst>
                  <a:path w="883" h="97">
                    <a:moveTo>
                      <a:pt x="883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1"/>
                    </a:lnTo>
                    <a:lnTo>
                      <a:pt x="15" y="59"/>
                    </a:lnTo>
                    <a:lnTo>
                      <a:pt x="21" y="46"/>
                    </a:lnTo>
                    <a:lnTo>
                      <a:pt x="27" y="34"/>
                    </a:lnTo>
                    <a:lnTo>
                      <a:pt x="33" y="23"/>
                    </a:lnTo>
                    <a:lnTo>
                      <a:pt x="41" y="11"/>
                    </a:lnTo>
                    <a:lnTo>
                      <a:pt x="48" y="0"/>
                    </a:lnTo>
                    <a:lnTo>
                      <a:pt x="883" y="0"/>
                    </a:lnTo>
                    <a:lnTo>
                      <a:pt x="883" y="97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60800" y="1128600"/>
                <a:ext cx="274680" cy="30240"/>
              </a:xfrm>
              <a:custGeom>
                <a:avLst/>
                <a:gdLst/>
                <a:ahLst/>
                <a:rect l="l" t="t" r="r" b="b"/>
                <a:pathLst>
                  <a:path w="863" h="97">
                    <a:moveTo>
                      <a:pt x="863" y="97"/>
                    </a:moveTo>
                    <a:lnTo>
                      <a:pt x="0" y="97"/>
                    </a:lnTo>
                    <a:lnTo>
                      <a:pt x="6" y="84"/>
                    </a:lnTo>
                    <a:lnTo>
                      <a:pt x="13" y="71"/>
                    </a:lnTo>
                    <a:lnTo>
                      <a:pt x="21" y="59"/>
                    </a:lnTo>
                    <a:lnTo>
                      <a:pt x="29" y="46"/>
                    </a:lnTo>
                    <a:lnTo>
                      <a:pt x="38" y="35"/>
                    </a:lnTo>
                    <a:lnTo>
                      <a:pt x="46" y="23"/>
                    </a:lnTo>
                    <a:lnTo>
                      <a:pt x="55" y="12"/>
                    </a:lnTo>
                    <a:lnTo>
                      <a:pt x="65" y="0"/>
                    </a:lnTo>
                    <a:lnTo>
                      <a:pt x="863" y="0"/>
                    </a:lnTo>
                    <a:lnTo>
                      <a:pt x="863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070160" y="1112760"/>
                <a:ext cx="265320" cy="31680"/>
              </a:xfrm>
              <a:custGeom>
                <a:avLst/>
                <a:gdLst/>
                <a:ahLst/>
                <a:rect l="l" t="t" r="r" b="b"/>
                <a:pathLst>
                  <a:path w="835" h="97">
                    <a:moveTo>
                      <a:pt x="835" y="97"/>
                    </a:moveTo>
                    <a:lnTo>
                      <a:pt x="0" y="97"/>
                    </a:lnTo>
                    <a:lnTo>
                      <a:pt x="9" y="83"/>
                    </a:lnTo>
                    <a:lnTo>
                      <a:pt x="18" y="71"/>
                    </a:lnTo>
                    <a:lnTo>
                      <a:pt x="28" y="57"/>
                    </a:lnTo>
                    <a:lnTo>
                      <a:pt x="39" y="45"/>
                    </a:lnTo>
                    <a:lnTo>
                      <a:pt x="50" y="34"/>
                    </a:lnTo>
                    <a:lnTo>
                      <a:pt x="63" y="22"/>
                    </a:lnTo>
                    <a:lnTo>
                      <a:pt x="75" y="11"/>
                    </a:lnTo>
                    <a:lnTo>
                      <a:pt x="89" y="0"/>
                    </a:lnTo>
                    <a:lnTo>
                      <a:pt x="835" y="0"/>
                    </a:lnTo>
                    <a:lnTo>
                      <a:pt x="835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081320" y="1096920"/>
                <a:ext cx="254160" cy="31680"/>
              </a:xfrm>
              <a:custGeom>
                <a:avLst/>
                <a:gdLst/>
                <a:ahLst/>
                <a:rect l="l" t="t" r="r" b="b"/>
                <a:pathLst>
                  <a:path w="798" h="98">
                    <a:moveTo>
                      <a:pt x="798" y="98"/>
                    </a:moveTo>
                    <a:lnTo>
                      <a:pt x="0" y="98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21" y="77"/>
                    </a:lnTo>
                    <a:lnTo>
                      <a:pt x="28" y="69"/>
                    </a:lnTo>
                    <a:lnTo>
                      <a:pt x="37" y="62"/>
                    </a:lnTo>
                    <a:lnTo>
                      <a:pt x="44" y="56"/>
                    </a:lnTo>
                    <a:lnTo>
                      <a:pt x="52" y="48"/>
                    </a:lnTo>
                    <a:lnTo>
                      <a:pt x="60" y="42"/>
                    </a:lnTo>
                    <a:lnTo>
                      <a:pt x="68" y="36"/>
                    </a:lnTo>
                    <a:lnTo>
                      <a:pt x="75" y="31"/>
                    </a:lnTo>
                    <a:lnTo>
                      <a:pt x="82" y="26"/>
                    </a:lnTo>
                    <a:lnTo>
                      <a:pt x="90" y="20"/>
                    </a:lnTo>
                    <a:lnTo>
                      <a:pt x="97" y="15"/>
                    </a:lnTo>
                    <a:lnTo>
                      <a:pt x="104" y="10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798" y="0"/>
                    </a:lnTo>
                    <a:lnTo>
                      <a:pt x="798" y="98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097160" y="1082520"/>
                <a:ext cx="238320" cy="30240"/>
              </a:xfrm>
              <a:custGeom>
                <a:avLst/>
                <a:gdLst/>
                <a:ahLst/>
                <a:rect l="l" t="t" r="r" b="b"/>
                <a:pathLst>
                  <a:path w="746" h="98">
                    <a:moveTo>
                      <a:pt x="746" y="98"/>
                    </a:moveTo>
                    <a:lnTo>
                      <a:pt x="0" y="98"/>
                    </a:lnTo>
                    <a:lnTo>
                      <a:pt x="0" y="96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4"/>
                    </a:lnTo>
                    <a:lnTo>
                      <a:pt x="4" y="93"/>
                    </a:lnTo>
                    <a:lnTo>
                      <a:pt x="6" y="91"/>
                    </a:lnTo>
                    <a:lnTo>
                      <a:pt x="7" y="91"/>
                    </a:lnTo>
                    <a:lnTo>
                      <a:pt x="8" y="90"/>
                    </a:lnTo>
                    <a:lnTo>
                      <a:pt x="27" y="77"/>
                    </a:lnTo>
                    <a:lnTo>
                      <a:pt x="46" y="63"/>
                    </a:lnTo>
                    <a:lnTo>
                      <a:pt x="66" y="51"/>
                    </a:lnTo>
                    <a:lnTo>
                      <a:pt x="86" y="40"/>
                    </a:lnTo>
                    <a:lnTo>
                      <a:pt x="108" y="29"/>
                    </a:lnTo>
                    <a:lnTo>
                      <a:pt x="129" y="19"/>
                    </a:lnTo>
                    <a:lnTo>
                      <a:pt x="152" y="9"/>
                    </a:lnTo>
                    <a:lnTo>
                      <a:pt x="175" y="0"/>
                    </a:lnTo>
                    <a:lnTo>
                      <a:pt x="746" y="0"/>
                    </a:lnTo>
                    <a:lnTo>
                      <a:pt x="746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119480" y="1068480"/>
                <a:ext cx="216000" cy="28440"/>
              </a:xfrm>
              <a:custGeom>
                <a:avLst/>
                <a:gdLst/>
                <a:ahLst/>
                <a:rect l="l" t="t" r="r" b="b"/>
                <a:pathLst>
                  <a:path w="678" h="94">
                    <a:moveTo>
                      <a:pt x="678" y="94"/>
                    </a:moveTo>
                    <a:lnTo>
                      <a:pt x="0" y="94"/>
                    </a:lnTo>
                    <a:lnTo>
                      <a:pt x="21" y="83"/>
                    </a:lnTo>
                    <a:lnTo>
                      <a:pt x="43" y="72"/>
                    </a:lnTo>
                    <a:lnTo>
                      <a:pt x="66" y="62"/>
                    </a:lnTo>
                    <a:lnTo>
                      <a:pt x="88" y="54"/>
                    </a:lnTo>
                    <a:lnTo>
                      <a:pt x="112" y="45"/>
                    </a:lnTo>
                    <a:lnTo>
                      <a:pt x="136" y="37"/>
                    </a:lnTo>
                    <a:lnTo>
                      <a:pt x="162" y="29"/>
                    </a:lnTo>
                    <a:lnTo>
                      <a:pt x="187" y="23"/>
                    </a:lnTo>
                    <a:lnTo>
                      <a:pt x="214" y="18"/>
                    </a:lnTo>
                    <a:lnTo>
                      <a:pt x="242" y="13"/>
                    </a:lnTo>
                    <a:lnTo>
                      <a:pt x="270" y="9"/>
                    </a:lnTo>
                    <a:lnTo>
                      <a:pt x="298" y="6"/>
                    </a:lnTo>
                    <a:lnTo>
                      <a:pt x="328" y="3"/>
                    </a:lnTo>
                    <a:lnTo>
                      <a:pt x="358" y="1"/>
                    </a:lnTo>
                    <a:lnTo>
                      <a:pt x="389" y="0"/>
                    </a:lnTo>
                    <a:lnTo>
                      <a:pt x="421" y="0"/>
                    </a:lnTo>
                    <a:lnTo>
                      <a:pt x="435" y="0"/>
                    </a:lnTo>
                    <a:lnTo>
                      <a:pt x="449" y="0"/>
                    </a:lnTo>
                    <a:lnTo>
                      <a:pt x="465" y="1"/>
                    </a:lnTo>
                    <a:lnTo>
                      <a:pt x="480" y="1"/>
                    </a:lnTo>
                    <a:lnTo>
                      <a:pt x="495" y="2"/>
                    </a:lnTo>
                    <a:lnTo>
                      <a:pt x="511" y="3"/>
                    </a:lnTo>
                    <a:lnTo>
                      <a:pt x="527" y="5"/>
                    </a:lnTo>
                    <a:lnTo>
                      <a:pt x="542" y="6"/>
                    </a:lnTo>
                    <a:lnTo>
                      <a:pt x="558" y="8"/>
                    </a:lnTo>
                    <a:lnTo>
                      <a:pt x="575" y="9"/>
                    </a:lnTo>
                    <a:lnTo>
                      <a:pt x="591" y="12"/>
                    </a:lnTo>
                    <a:lnTo>
                      <a:pt x="608" y="14"/>
                    </a:lnTo>
                    <a:lnTo>
                      <a:pt x="625" y="17"/>
                    </a:lnTo>
                    <a:lnTo>
                      <a:pt x="642" y="19"/>
                    </a:lnTo>
                    <a:lnTo>
                      <a:pt x="661" y="22"/>
                    </a:lnTo>
                    <a:lnTo>
                      <a:pt x="678" y="25"/>
                    </a:lnTo>
                    <a:lnTo>
                      <a:pt x="678" y="9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152960" y="1068480"/>
                <a:ext cx="182520" cy="14040"/>
              </a:xfrm>
              <a:custGeom>
                <a:avLst/>
                <a:gdLst/>
                <a:ahLst/>
                <a:rect l="l" t="t" r="r" b="b"/>
                <a:pathLst>
                  <a:path w="571" h="46">
                    <a:moveTo>
                      <a:pt x="571" y="46"/>
                    </a:moveTo>
                    <a:lnTo>
                      <a:pt x="0" y="46"/>
                    </a:lnTo>
                    <a:lnTo>
                      <a:pt x="35" y="35"/>
                    </a:lnTo>
                    <a:lnTo>
                      <a:pt x="71" y="25"/>
                    </a:lnTo>
                    <a:lnTo>
                      <a:pt x="107" y="18"/>
                    </a:lnTo>
                    <a:lnTo>
                      <a:pt x="146" y="11"/>
                    </a:lnTo>
                    <a:lnTo>
                      <a:pt x="185" y="6"/>
                    </a:lnTo>
                    <a:lnTo>
                      <a:pt x="227" y="2"/>
                    </a:lnTo>
                    <a:lnTo>
                      <a:pt x="270" y="1"/>
                    </a:lnTo>
                    <a:lnTo>
                      <a:pt x="314" y="0"/>
                    </a:lnTo>
                    <a:lnTo>
                      <a:pt x="328" y="0"/>
                    </a:lnTo>
                    <a:lnTo>
                      <a:pt x="342" y="0"/>
                    </a:lnTo>
                    <a:lnTo>
                      <a:pt x="358" y="1"/>
                    </a:lnTo>
                    <a:lnTo>
                      <a:pt x="373" y="1"/>
                    </a:lnTo>
                    <a:lnTo>
                      <a:pt x="388" y="2"/>
                    </a:lnTo>
                    <a:lnTo>
                      <a:pt x="404" y="3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51" y="8"/>
                    </a:lnTo>
                    <a:lnTo>
                      <a:pt x="468" y="9"/>
                    </a:lnTo>
                    <a:lnTo>
                      <a:pt x="484" y="12"/>
                    </a:lnTo>
                    <a:lnTo>
                      <a:pt x="501" y="14"/>
                    </a:lnTo>
                    <a:lnTo>
                      <a:pt x="518" y="17"/>
                    </a:lnTo>
                    <a:lnTo>
                      <a:pt x="535" y="19"/>
                    </a:lnTo>
                    <a:lnTo>
                      <a:pt x="554" y="22"/>
                    </a:lnTo>
                    <a:lnTo>
                      <a:pt x="571" y="25"/>
                    </a:lnTo>
                    <a:lnTo>
                      <a:pt x="571" y="46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1646280" y="851040"/>
                <a:ext cx="395280" cy="771480"/>
              </a:xfrm>
              <a:custGeom>
                <a:avLst/>
                <a:gdLst/>
                <a:ahLst/>
                <a:rect l="l" t="t" r="r" b="b"/>
                <a:pathLst>
                  <a:path w="1246" h="2430">
                    <a:moveTo>
                      <a:pt x="44" y="2401"/>
                    </a:moveTo>
                    <a:lnTo>
                      <a:pt x="28" y="1752"/>
                    </a:lnTo>
                    <a:lnTo>
                      <a:pt x="45" y="1759"/>
                    </a:lnTo>
                    <a:lnTo>
                      <a:pt x="62" y="1765"/>
                    </a:lnTo>
                    <a:lnTo>
                      <a:pt x="80" y="1771"/>
                    </a:lnTo>
                    <a:lnTo>
                      <a:pt x="96" y="1777"/>
                    </a:lnTo>
                    <a:lnTo>
                      <a:pt x="113" y="1782"/>
                    </a:lnTo>
                    <a:lnTo>
                      <a:pt x="129" y="1787"/>
                    </a:lnTo>
                    <a:lnTo>
                      <a:pt x="145" y="1792"/>
                    </a:lnTo>
                    <a:lnTo>
                      <a:pt x="161" y="1796"/>
                    </a:lnTo>
                    <a:lnTo>
                      <a:pt x="176" y="1799"/>
                    </a:lnTo>
                    <a:lnTo>
                      <a:pt x="192" y="1802"/>
                    </a:lnTo>
                    <a:lnTo>
                      <a:pt x="206" y="1804"/>
                    </a:lnTo>
                    <a:lnTo>
                      <a:pt x="221" y="1807"/>
                    </a:lnTo>
                    <a:lnTo>
                      <a:pt x="236" y="1809"/>
                    </a:lnTo>
                    <a:lnTo>
                      <a:pt x="251" y="1809"/>
                    </a:lnTo>
                    <a:lnTo>
                      <a:pt x="265" y="1811"/>
                    </a:lnTo>
                    <a:lnTo>
                      <a:pt x="280" y="1811"/>
                    </a:lnTo>
                    <a:lnTo>
                      <a:pt x="305" y="1811"/>
                    </a:lnTo>
                    <a:lnTo>
                      <a:pt x="328" y="1808"/>
                    </a:lnTo>
                    <a:lnTo>
                      <a:pt x="350" y="1803"/>
                    </a:lnTo>
                    <a:lnTo>
                      <a:pt x="372" y="1797"/>
                    </a:lnTo>
                    <a:lnTo>
                      <a:pt x="392" y="1790"/>
                    </a:lnTo>
                    <a:lnTo>
                      <a:pt x="410" y="1781"/>
                    </a:lnTo>
                    <a:lnTo>
                      <a:pt x="429" y="1770"/>
                    </a:lnTo>
                    <a:lnTo>
                      <a:pt x="445" y="1758"/>
                    </a:lnTo>
                    <a:lnTo>
                      <a:pt x="461" y="1744"/>
                    </a:lnTo>
                    <a:lnTo>
                      <a:pt x="473" y="1729"/>
                    </a:lnTo>
                    <a:lnTo>
                      <a:pt x="484" y="1715"/>
                    </a:lnTo>
                    <a:lnTo>
                      <a:pt x="494" y="1699"/>
                    </a:lnTo>
                    <a:lnTo>
                      <a:pt x="500" y="1681"/>
                    </a:lnTo>
                    <a:lnTo>
                      <a:pt x="505" y="1663"/>
                    </a:lnTo>
                    <a:lnTo>
                      <a:pt x="509" y="1645"/>
                    </a:lnTo>
                    <a:lnTo>
                      <a:pt x="510" y="1626"/>
                    </a:lnTo>
                    <a:lnTo>
                      <a:pt x="509" y="1613"/>
                    </a:lnTo>
                    <a:lnTo>
                      <a:pt x="508" y="1599"/>
                    </a:lnTo>
                    <a:lnTo>
                      <a:pt x="504" y="1584"/>
                    </a:lnTo>
                    <a:lnTo>
                      <a:pt x="499" y="1569"/>
                    </a:lnTo>
                    <a:lnTo>
                      <a:pt x="493" y="1555"/>
                    </a:lnTo>
                    <a:lnTo>
                      <a:pt x="486" y="1539"/>
                    </a:lnTo>
                    <a:lnTo>
                      <a:pt x="477" y="1523"/>
                    </a:lnTo>
                    <a:lnTo>
                      <a:pt x="466" y="1507"/>
                    </a:lnTo>
                    <a:lnTo>
                      <a:pt x="455" y="1490"/>
                    </a:lnTo>
                    <a:lnTo>
                      <a:pt x="441" y="1472"/>
                    </a:lnTo>
                    <a:lnTo>
                      <a:pt x="426" y="1455"/>
                    </a:lnTo>
                    <a:lnTo>
                      <a:pt x="412" y="1437"/>
                    </a:lnTo>
                    <a:lnTo>
                      <a:pt x="394" y="1418"/>
                    </a:lnTo>
                    <a:lnTo>
                      <a:pt x="376" y="1400"/>
                    </a:lnTo>
                    <a:lnTo>
                      <a:pt x="355" y="1380"/>
                    </a:lnTo>
                    <a:lnTo>
                      <a:pt x="334" y="1360"/>
                    </a:lnTo>
                    <a:lnTo>
                      <a:pt x="319" y="1347"/>
                    </a:lnTo>
                    <a:lnTo>
                      <a:pt x="306" y="1335"/>
                    </a:lnTo>
                    <a:lnTo>
                      <a:pt x="294" y="1322"/>
                    </a:lnTo>
                    <a:lnTo>
                      <a:pt x="281" y="1311"/>
                    </a:lnTo>
                    <a:lnTo>
                      <a:pt x="270" y="1300"/>
                    </a:lnTo>
                    <a:lnTo>
                      <a:pt x="260" y="1292"/>
                    </a:lnTo>
                    <a:lnTo>
                      <a:pt x="251" y="1282"/>
                    </a:lnTo>
                    <a:lnTo>
                      <a:pt x="243" y="1273"/>
                    </a:lnTo>
                    <a:lnTo>
                      <a:pt x="212" y="1242"/>
                    </a:lnTo>
                    <a:lnTo>
                      <a:pt x="184" y="1210"/>
                    </a:lnTo>
                    <a:lnTo>
                      <a:pt x="158" y="1178"/>
                    </a:lnTo>
                    <a:lnTo>
                      <a:pt x="135" y="1145"/>
                    </a:lnTo>
                    <a:lnTo>
                      <a:pt x="113" y="1113"/>
                    </a:lnTo>
                    <a:lnTo>
                      <a:pt x="93" y="1080"/>
                    </a:lnTo>
                    <a:lnTo>
                      <a:pt x="75" y="1047"/>
                    </a:lnTo>
                    <a:lnTo>
                      <a:pt x="59" y="1014"/>
                    </a:lnTo>
                    <a:lnTo>
                      <a:pt x="45" y="980"/>
                    </a:lnTo>
                    <a:lnTo>
                      <a:pt x="33" y="946"/>
                    </a:lnTo>
                    <a:lnTo>
                      <a:pt x="23" y="911"/>
                    </a:lnTo>
                    <a:lnTo>
                      <a:pt x="14" y="875"/>
                    </a:lnTo>
                    <a:lnTo>
                      <a:pt x="7" y="839"/>
                    </a:lnTo>
                    <a:lnTo>
                      <a:pt x="3" y="802"/>
                    </a:lnTo>
                    <a:lnTo>
                      <a:pt x="0" y="764"/>
                    </a:lnTo>
                    <a:lnTo>
                      <a:pt x="0" y="726"/>
                    </a:lnTo>
                    <a:lnTo>
                      <a:pt x="0" y="686"/>
                    </a:lnTo>
                    <a:lnTo>
                      <a:pt x="3" y="648"/>
                    </a:lnTo>
                    <a:lnTo>
                      <a:pt x="7" y="611"/>
                    </a:lnTo>
                    <a:lnTo>
                      <a:pt x="13" y="574"/>
                    </a:lnTo>
                    <a:lnTo>
                      <a:pt x="21" y="539"/>
                    </a:lnTo>
                    <a:lnTo>
                      <a:pt x="30" y="504"/>
                    </a:lnTo>
                    <a:lnTo>
                      <a:pt x="42" y="470"/>
                    </a:lnTo>
                    <a:lnTo>
                      <a:pt x="55" y="437"/>
                    </a:lnTo>
                    <a:lnTo>
                      <a:pt x="70" y="405"/>
                    </a:lnTo>
                    <a:lnTo>
                      <a:pt x="86" y="374"/>
                    </a:lnTo>
                    <a:lnTo>
                      <a:pt x="104" y="343"/>
                    </a:lnTo>
                    <a:lnTo>
                      <a:pt x="124" y="314"/>
                    </a:lnTo>
                    <a:lnTo>
                      <a:pt x="146" y="285"/>
                    </a:lnTo>
                    <a:lnTo>
                      <a:pt x="169" y="257"/>
                    </a:lnTo>
                    <a:lnTo>
                      <a:pt x="194" y="230"/>
                    </a:lnTo>
                    <a:lnTo>
                      <a:pt x="221" y="204"/>
                    </a:lnTo>
                    <a:lnTo>
                      <a:pt x="249" y="180"/>
                    </a:lnTo>
                    <a:lnTo>
                      <a:pt x="279" y="156"/>
                    </a:lnTo>
                    <a:lnTo>
                      <a:pt x="310" y="135"/>
                    </a:lnTo>
                    <a:lnTo>
                      <a:pt x="340" y="116"/>
                    </a:lnTo>
                    <a:lnTo>
                      <a:pt x="374" y="97"/>
                    </a:lnTo>
                    <a:lnTo>
                      <a:pt x="407" y="80"/>
                    </a:lnTo>
                    <a:lnTo>
                      <a:pt x="441" y="65"/>
                    </a:lnTo>
                    <a:lnTo>
                      <a:pt x="477" y="52"/>
                    </a:lnTo>
                    <a:lnTo>
                      <a:pt x="513" y="39"/>
                    </a:lnTo>
                    <a:lnTo>
                      <a:pt x="551" y="28"/>
                    </a:lnTo>
                    <a:lnTo>
                      <a:pt x="589" y="20"/>
                    </a:lnTo>
                    <a:lnTo>
                      <a:pt x="628" y="12"/>
                    </a:lnTo>
                    <a:lnTo>
                      <a:pt x="669" y="7"/>
                    </a:lnTo>
                    <a:lnTo>
                      <a:pt x="711" y="4"/>
                    </a:lnTo>
                    <a:lnTo>
                      <a:pt x="752" y="1"/>
                    </a:lnTo>
                    <a:lnTo>
                      <a:pt x="797" y="0"/>
                    </a:lnTo>
                    <a:lnTo>
                      <a:pt x="824" y="0"/>
                    </a:lnTo>
                    <a:lnTo>
                      <a:pt x="851" y="1"/>
                    </a:lnTo>
                    <a:lnTo>
                      <a:pt x="878" y="2"/>
                    </a:lnTo>
                    <a:lnTo>
                      <a:pt x="904" y="4"/>
                    </a:lnTo>
                    <a:lnTo>
                      <a:pt x="930" y="6"/>
                    </a:lnTo>
                    <a:lnTo>
                      <a:pt x="955" y="9"/>
                    </a:lnTo>
                    <a:lnTo>
                      <a:pt x="980" y="11"/>
                    </a:lnTo>
                    <a:lnTo>
                      <a:pt x="1005" y="15"/>
                    </a:lnTo>
                    <a:lnTo>
                      <a:pt x="1029" y="18"/>
                    </a:lnTo>
                    <a:lnTo>
                      <a:pt x="1054" y="22"/>
                    </a:lnTo>
                    <a:lnTo>
                      <a:pt x="1077" y="27"/>
                    </a:lnTo>
                    <a:lnTo>
                      <a:pt x="1100" y="33"/>
                    </a:lnTo>
                    <a:lnTo>
                      <a:pt x="1124" y="39"/>
                    </a:lnTo>
                    <a:lnTo>
                      <a:pt x="1147" y="46"/>
                    </a:lnTo>
                    <a:lnTo>
                      <a:pt x="1169" y="52"/>
                    </a:lnTo>
                    <a:lnTo>
                      <a:pt x="1193" y="59"/>
                    </a:lnTo>
                    <a:lnTo>
                      <a:pt x="1193" y="645"/>
                    </a:lnTo>
                    <a:lnTo>
                      <a:pt x="1173" y="635"/>
                    </a:lnTo>
                    <a:lnTo>
                      <a:pt x="1155" y="626"/>
                    </a:lnTo>
                    <a:lnTo>
                      <a:pt x="1136" y="617"/>
                    </a:lnTo>
                    <a:lnTo>
                      <a:pt x="1118" y="610"/>
                    </a:lnTo>
                    <a:lnTo>
                      <a:pt x="1100" y="603"/>
                    </a:lnTo>
                    <a:lnTo>
                      <a:pt x="1083" y="597"/>
                    </a:lnTo>
                    <a:lnTo>
                      <a:pt x="1066" y="592"/>
                    </a:lnTo>
                    <a:lnTo>
                      <a:pt x="1050" y="585"/>
                    </a:lnTo>
                    <a:lnTo>
                      <a:pt x="1033" y="582"/>
                    </a:lnTo>
                    <a:lnTo>
                      <a:pt x="1017" y="578"/>
                    </a:lnTo>
                    <a:lnTo>
                      <a:pt x="1002" y="574"/>
                    </a:lnTo>
                    <a:lnTo>
                      <a:pt x="987" y="572"/>
                    </a:lnTo>
                    <a:lnTo>
                      <a:pt x="973" y="569"/>
                    </a:lnTo>
                    <a:lnTo>
                      <a:pt x="958" y="568"/>
                    </a:lnTo>
                    <a:lnTo>
                      <a:pt x="944" y="567"/>
                    </a:lnTo>
                    <a:lnTo>
                      <a:pt x="932" y="567"/>
                    </a:lnTo>
                    <a:lnTo>
                      <a:pt x="904" y="567"/>
                    </a:lnTo>
                    <a:lnTo>
                      <a:pt x="877" y="569"/>
                    </a:lnTo>
                    <a:lnTo>
                      <a:pt x="852" y="573"/>
                    </a:lnTo>
                    <a:lnTo>
                      <a:pt x="829" y="578"/>
                    </a:lnTo>
                    <a:lnTo>
                      <a:pt x="808" y="585"/>
                    </a:lnTo>
                    <a:lnTo>
                      <a:pt x="788" y="594"/>
                    </a:lnTo>
                    <a:lnTo>
                      <a:pt x="770" y="604"/>
                    </a:lnTo>
                    <a:lnTo>
                      <a:pt x="754" y="615"/>
                    </a:lnTo>
                    <a:lnTo>
                      <a:pt x="739" y="627"/>
                    </a:lnTo>
                    <a:lnTo>
                      <a:pt x="727" y="642"/>
                    </a:lnTo>
                    <a:lnTo>
                      <a:pt x="716" y="657"/>
                    </a:lnTo>
                    <a:lnTo>
                      <a:pt x="707" y="673"/>
                    </a:lnTo>
                    <a:lnTo>
                      <a:pt x="701" y="691"/>
                    </a:lnTo>
                    <a:lnTo>
                      <a:pt x="696" y="710"/>
                    </a:lnTo>
                    <a:lnTo>
                      <a:pt x="692" y="731"/>
                    </a:lnTo>
                    <a:lnTo>
                      <a:pt x="692" y="752"/>
                    </a:lnTo>
                    <a:lnTo>
                      <a:pt x="692" y="764"/>
                    </a:lnTo>
                    <a:lnTo>
                      <a:pt x="695" y="777"/>
                    </a:lnTo>
                    <a:lnTo>
                      <a:pt x="698" y="791"/>
                    </a:lnTo>
                    <a:lnTo>
                      <a:pt x="702" y="803"/>
                    </a:lnTo>
                    <a:lnTo>
                      <a:pt x="708" y="818"/>
                    </a:lnTo>
                    <a:lnTo>
                      <a:pt x="716" y="831"/>
                    </a:lnTo>
                    <a:lnTo>
                      <a:pt x="724" y="845"/>
                    </a:lnTo>
                    <a:lnTo>
                      <a:pt x="734" y="860"/>
                    </a:lnTo>
                    <a:lnTo>
                      <a:pt x="745" y="875"/>
                    </a:lnTo>
                    <a:lnTo>
                      <a:pt x="757" y="889"/>
                    </a:lnTo>
                    <a:lnTo>
                      <a:pt x="772" y="905"/>
                    </a:lnTo>
                    <a:lnTo>
                      <a:pt x="787" y="920"/>
                    </a:lnTo>
                    <a:lnTo>
                      <a:pt x="804" y="936"/>
                    </a:lnTo>
                    <a:lnTo>
                      <a:pt x="821" y="952"/>
                    </a:lnTo>
                    <a:lnTo>
                      <a:pt x="841" y="968"/>
                    </a:lnTo>
                    <a:lnTo>
                      <a:pt x="861" y="985"/>
                    </a:lnTo>
                    <a:lnTo>
                      <a:pt x="878" y="999"/>
                    </a:lnTo>
                    <a:lnTo>
                      <a:pt x="893" y="1011"/>
                    </a:lnTo>
                    <a:lnTo>
                      <a:pt x="907" y="1023"/>
                    </a:lnTo>
                    <a:lnTo>
                      <a:pt x="921" y="1034"/>
                    </a:lnTo>
                    <a:lnTo>
                      <a:pt x="933" y="1044"/>
                    </a:lnTo>
                    <a:lnTo>
                      <a:pt x="945" y="1054"/>
                    </a:lnTo>
                    <a:lnTo>
                      <a:pt x="955" y="1064"/>
                    </a:lnTo>
                    <a:lnTo>
                      <a:pt x="965" y="1073"/>
                    </a:lnTo>
                    <a:lnTo>
                      <a:pt x="998" y="1102"/>
                    </a:lnTo>
                    <a:lnTo>
                      <a:pt x="1030" y="1134"/>
                    </a:lnTo>
                    <a:lnTo>
                      <a:pt x="1059" y="1166"/>
                    </a:lnTo>
                    <a:lnTo>
                      <a:pt x="1086" y="1200"/>
                    </a:lnTo>
                    <a:lnTo>
                      <a:pt x="1112" y="1235"/>
                    </a:lnTo>
                    <a:lnTo>
                      <a:pt x="1134" y="1271"/>
                    </a:lnTo>
                    <a:lnTo>
                      <a:pt x="1156" y="1307"/>
                    </a:lnTo>
                    <a:lnTo>
                      <a:pt x="1174" y="1346"/>
                    </a:lnTo>
                    <a:lnTo>
                      <a:pt x="1191" y="1385"/>
                    </a:lnTo>
                    <a:lnTo>
                      <a:pt x="1205" y="1424"/>
                    </a:lnTo>
                    <a:lnTo>
                      <a:pt x="1217" y="1465"/>
                    </a:lnTo>
                    <a:lnTo>
                      <a:pt x="1228" y="1506"/>
                    </a:lnTo>
                    <a:lnTo>
                      <a:pt x="1236" y="1547"/>
                    </a:lnTo>
                    <a:lnTo>
                      <a:pt x="1241" y="1589"/>
                    </a:lnTo>
                    <a:lnTo>
                      <a:pt x="1244" y="1632"/>
                    </a:lnTo>
                    <a:lnTo>
                      <a:pt x="1246" y="1675"/>
                    </a:lnTo>
                    <a:lnTo>
                      <a:pt x="1244" y="1720"/>
                    </a:lnTo>
                    <a:lnTo>
                      <a:pt x="1242" y="1761"/>
                    </a:lnTo>
                    <a:lnTo>
                      <a:pt x="1237" y="1803"/>
                    </a:lnTo>
                    <a:lnTo>
                      <a:pt x="1231" y="1843"/>
                    </a:lnTo>
                    <a:lnTo>
                      <a:pt x="1222" y="1882"/>
                    </a:lnTo>
                    <a:lnTo>
                      <a:pt x="1212" y="1919"/>
                    </a:lnTo>
                    <a:lnTo>
                      <a:pt x="1201" y="1956"/>
                    </a:lnTo>
                    <a:lnTo>
                      <a:pt x="1187" y="1990"/>
                    </a:lnTo>
                    <a:lnTo>
                      <a:pt x="1172" y="2025"/>
                    </a:lnTo>
                    <a:lnTo>
                      <a:pt x="1155" y="2058"/>
                    </a:lnTo>
                    <a:lnTo>
                      <a:pt x="1135" y="2089"/>
                    </a:lnTo>
                    <a:lnTo>
                      <a:pt x="1114" y="2119"/>
                    </a:lnTo>
                    <a:lnTo>
                      <a:pt x="1091" y="2149"/>
                    </a:lnTo>
                    <a:lnTo>
                      <a:pt x="1066" y="2177"/>
                    </a:lnTo>
                    <a:lnTo>
                      <a:pt x="1040" y="2204"/>
                    </a:lnTo>
                    <a:lnTo>
                      <a:pt x="1012" y="2230"/>
                    </a:lnTo>
                    <a:lnTo>
                      <a:pt x="981" y="2253"/>
                    </a:lnTo>
                    <a:lnTo>
                      <a:pt x="950" y="2277"/>
                    </a:lnTo>
                    <a:lnTo>
                      <a:pt x="917" y="2298"/>
                    </a:lnTo>
                    <a:lnTo>
                      <a:pt x="883" y="2317"/>
                    </a:lnTo>
                    <a:lnTo>
                      <a:pt x="847" y="2336"/>
                    </a:lnTo>
                    <a:lnTo>
                      <a:pt x="810" y="2352"/>
                    </a:lnTo>
                    <a:lnTo>
                      <a:pt x="772" y="2367"/>
                    </a:lnTo>
                    <a:lnTo>
                      <a:pt x="731" y="2380"/>
                    </a:lnTo>
                    <a:lnTo>
                      <a:pt x="690" y="2392"/>
                    </a:lnTo>
                    <a:lnTo>
                      <a:pt x="648" y="2402"/>
                    </a:lnTo>
                    <a:lnTo>
                      <a:pt x="604" y="2411"/>
                    </a:lnTo>
                    <a:lnTo>
                      <a:pt x="558" y="2418"/>
                    </a:lnTo>
                    <a:lnTo>
                      <a:pt x="511" y="2423"/>
                    </a:lnTo>
                    <a:lnTo>
                      <a:pt x="462" y="2428"/>
                    </a:lnTo>
                    <a:lnTo>
                      <a:pt x="413" y="2430"/>
                    </a:lnTo>
                    <a:lnTo>
                      <a:pt x="361" y="2430"/>
                    </a:lnTo>
                    <a:lnTo>
                      <a:pt x="340" y="2430"/>
                    </a:lnTo>
                    <a:lnTo>
                      <a:pt x="319" y="2429"/>
                    </a:lnTo>
                    <a:lnTo>
                      <a:pt x="299" y="2429"/>
                    </a:lnTo>
                    <a:lnTo>
                      <a:pt x="278" y="2428"/>
                    </a:lnTo>
                    <a:lnTo>
                      <a:pt x="258" y="2427"/>
                    </a:lnTo>
                    <a:lnTo>
                      <a:pt x="237" y="2426"/>
                    </a:lnTo>
                    <a:lnTo>
                      <a:pt x="217" y="2424"/>
                    </a:lnTo>
                    <a:lnTo>
                      <a:pt x="198" y="2422"/>
                    </a:lnTo>
                    <a:lnTo>
                      <a:pt x="178" y="2419"/>
                    </a:lnTo>
                    <a:lnTo>
                      <a:pt x="158" y="2418"/>
                    </a:lnTo>
                    <a:lnTo>
                      <a:pt x="139" y="2416"/>
                    </a:lnTo>
                    <a:lnTo>
                      <a:pt x="120" y="2413"/>
                    </a:lnTo>
                    <a:lnTo>
                      <a:pt x="101" y="2410"/>
                    </a:lnTo>
                    <a:lnTo>
                      <a:pt x="82" y="2407"/>
                    </a:lnTo>
                    <a:lnTo>
                      <a:pt x="62" y="2403"/>
                    </a:lnTo>
                    <a:lnTo>
                      <a:pt x="44" y="240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125440" y="1416240"/>
                <a:ext cx="17640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365200" y="862200"/>
                <a:ext cx="498600" cy="74916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1" y="595"/>
                    </a:moveTo>
                    <a:lnTo>
                      <a:pt x="1091" y="2357"/>
                    </a:lnTo>
                    <a:lnTo>
                      <a:pt x="477" y="2357"/>
                    </a:lnTo>
                    <a:lnTo>
                      <a:pt x="477" y="595"/>
                    </a:lnTo>
                    <a:lnTo>
                      <a:pt x="0" y="595"/>
                    </a:lnTo>
                    <a:lnTo>
                      <a:pt x="62" y="0"/>
                    </a:lnTo>
                    <a:lnTo>
                      <a:pt x="1503" y="0"/>
                    </a:lnTo>
                    <a:lnTo>
                      <a:pt x="1569" y="595"/>
                    </a:lnTo>
                    <a:lnTo>
                      <a:pt x="1091" y="5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2828880" y="1416240"/>
                <a:ext cx="1760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322440" y="1055880"/>
                <a:ext cx="165240" cy="355320"/>
              </a:xfrm>
              <a:custGeom>
                <a:avLst/>
                <a:gdLst/>
                <a:ahLst/>
                <a:rect l="l" t="t" r="r" b="b"/>
                <a:pathLst>
                  <a:path w="521" h="1117">
                    <a:moveTo>
                      <a:pt x="0" y="1117"/>
                    </a:moveTo>
                    <a:lnTo>
                      <a:pt x="29" y="1113"/>
                    </a:lnTo>
                    <a:lnTo>
                      <a:pt x="58" y="1109"/>
                    </a:lnTo>
                    <a:lnTo>
                      <a:pt x="86" y="1103"/>
                    </a:lnTo>
                    <a:lnTo>
                      <a:pt x="113" y="1097"/>
                    </a:lnTo>
                    <a:lnTo>
                      <a:pt x="139" y="1090"/>
                    </a:lnTo>
                    <a:lnTo>
                      <a:pt x="165" y="1081"/>
                    </a:lnTo>
                    <a:lnTo>
                      <a:pt x="189" y="1071"/>
                    </a:lnTo>
                    <a:lnTo>
                      <a:pt x="214" y="1061"/>
                    </a:lnTo>
                    <a:lnTo>
                      <a:pt x="237" y="1049"/>
                    </a:lnTo>
                    <a:lnTo>
                      <a:pt x="259" y="1037"/>
                    </a:lnTo>
                    <a:lnTo>
                      <a:pt x="282" y="1023"/>
                    </a:lnTo>
                    <a:lnTo>
                      <a:pt x="303" y="1010"/>
                    </a:lnTo>
                    <a:lnTo>
                      <a:pt x="322" y="994"/>
                    </a:lnTo>
                    <a:lnTo>
                      <a:pt x="342" y="978"/>
                    </a:lnTo>
                    <a:lnTo>
                      <a:pt x="362" y="961"/>
                    </a:lnTo>
                    <a:lnTo>
                      <a:pt x="379" y="942"/>
                    </a:lnTo>
                    <a:lnTo>
                      <a:pt x="396" y="922"/>
                    </a:lnTo>
                    <a:lnTo>
                      <a:pt x="412" y="903"/>
                    </a:lnTo>
                    <a:lnTo>
                      <a:pt x="427" y="882"/>
                    </a:lnTo>
                    <a:lnTo>
                      <a:pt x="441" y="861"/>
                    </a:lnTo>
                    <a:lnTo>
                      <a:pt x="454" y="840"/>
                    </a:lnTo>
                    <a:lnTo>
                      <a:pt x="465" y="818"/>
                    </a:lnTo>
                    <a:lnTo>
                      <a:pt x="476" y="795"/>
                    </a:lnTo>
                    <a:lnTo>
                      <a:pt x="486" y="771"/>
                    </a:lnTo>
                    <a:lnTo>
                      <a:pt x="493" y="748"/>
                    </a:lnTo>
                    <a:lnTo>
                      <a:pt x="501" y="723"/>
                    </a:lnTo>
                    <a:lnTo>
                      <a:pt x="507" y="697"/>
                    </a:lnTo>
                    <a:lnTo>
                      <a:pt x="512" y="672"/>
                    </a:lnTo>
                    <a:lnTo>
                      <a:pt x="515" y="646"/>
                    </a:lnTo>
                    <a:lnTo>
                      <a:pt x="519" y="619"/>
                    </a:lnTo>
                    <a:lnTo>
                      <a:pt x="520" y="592"/>
                    </a:lnTo>
                    <a:lnTo>
                      <a:pt x="521" y="563"/>
                    </a:lnTo>
                    <a:lnTo>
                      <a:pt x="520" y="533"/>
                    </a:lnTo>
                    <a:lnTo>
                      <a:pt x="519" y="503"/>
                    </a:lnTo>
                    <a:lnTo>
                      <a:pt x="515" y="475"/>
                    </a:lnTo>
                    <a:lnTo>
                      <a:pt x="512" y="446"/>
                    </a:lnTo>
                    <a:lnTo>
                      <a:pt x="507" y="419"/>
                    </a:lnTo>
                    <a:lnTo>
                      <a:pt x="501" y="392"/>
                    </a:lnTo>
                    <a:lnTo>
                      <a:pt x="493" y="365"/>
                    </a:lnTo>
                    <a:lnTo>
                      <a:pt x="485" y="341"/>
                    </a:lnTo>
                    <a:lnTo>
                      <a:pt x="476" y="316"/>
                    </a:lnTo>
                    <a:lnTo>
                      <a:pt x="465" y="291"/>
                    </a:lnTo>
                    <a:lnTo>
                      <a:pt x="453" y="268"/>
                    </a:lnTo>
                    <a:lnTo>
                      <a:pt x="440" y="246"/>
                    </a:lnTo>
                    <a:lnTo>
                      <a:pt x="426" y="224"/>
                    </a:lnTo>
                    <a:lnTo>
                      <a:pt x="411" y="202"/>
                    </a:lnTo>
                    <a:lnTo>
                      <a:pt x="395" y="182"/>
                    </a:lnTo>
                    <a:lnTo>
                      <a:pt x="376" y="161"/>
                    </a:lnTo>
                    <a:lnTo>
                      <a:pt x="359" y="143"/>
                    </a:lnTo>
                    <a:lnTo>
                      <a:pt x="339" y="124"/>
                    </a:lnTo>
                    <a:lnTo>
                      <a:pt x="320" y="108"/>
                    </a:lnTo>
                    <a:lnTo>
                      <a:pt x="299" y="92"/>
                    </a:lnTo>
                    <a:lnTo>
                      <a:pt x="278" y="79"/>
                    </a:lnTo>
                    <a:lnTo>
                      <a:pt x="256" y="65"/>
                    </a:lnTo>
                    <a:lnTo>
                      <a:pt x="234" y="53"/>
                    </a:lnTo>
                    <a:lnTo>
                      <a:pt x="210" y="43"/>
                    </a:lnTo>
                    <a:lnTo>
                      <a:pt x="187" y="33"/>
                    </a:lnTo>
                    <a:lnTo>
                      <a:pt x="162" y="25"/>
                    </a:lnTo>
                    <a:lnTo>
                      <a:pt x="136" y="17"/>
                    </a:lnTo>
                    <a:lnTo>
                      <a:pt x="111" y="12"/>
                    </a:lnTo>
                    <a:lnTo>
                      <a:pt x="85" y="7"/>
                    </a:lnTo>
                    <a:lnTo>
                      <a:pt x="57" y="4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111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128760" y="862200"/>
                <a:ext cx="561960" cy="749160"/>
              </a:xfrm>
              <a:custGeom>
                <a:avLst/>
                <a:gdLst/>
                <a:ahLst/>
                <a:rect l="l" t="t" r="r" b="b"/>
                <a:pathLst>
                  <a:path w="1769" h="2357">
                    <a:moveTo>
                      <a:pt x="357" y="0"/>
                    </a:moveTo>
                    <a:lnTo>
                      <a:pt x="438" y="0"/>
                    </a:lnTo>
                    <a:lnTo>
                      <a:pt x="516" y="2"/>
                    </a:lnTo>
                    <a:lnTo>
                      <a:pt x="589" y="6"/>
                    </a:lnTo>
                    <a:lnTo>
                      <a:pt x="659" y="11"/>
                    </a:lnTo>
                    <a:lnTo>
                      <a:pt x="723" y="17"/>
                    </a:lnTo>
                    <a:lnTo>
                      <a:pt x="785" y="25"/>
                    </a:lnTo>
                    <a:lnTo>
                      <a:pt x="841" y="33"/>
                    </a:lnTo>
                    <a:lnTo>
                      <a:pt x="893" y="43"/>
                    </a:lnTo>
                    <a:lnTo>
                      <a:pt x="942" y="54"/>
                    </a:lnTo>
                    <a:lnTo>
                      <a:pt x="991" y="68"/>
                    </a:lnTo>
                    <a:lnTo>
                      <a:pt x="1038" y="82"/>
                    </a:lnTo>
                    <a:lnTo>
                      <a:pt x="1083" y="100"/>
                    </a:lnTo>
                    <a:lnTo>
                      <a:pt x="1128" y="118"/>
                    </a:lnTo>
                    <a:lnTo>
                      <a:pt x="1171" y="138"/>
                    </a:lnTo>
                    <a:lnTo>
                      <a:pt x="1213" y="160"/>
                    </a:lnTo>
                    <a:lnTo>
                      <a:pt x="1253" y="183"/>
                    </a:lnTo>
                    <a:lnTo>
                      <a:pt x="1284" y="204"/>
                    </a:lnTo>
                    <a:lnTo>
                      <a:pt x="1315" y="224"/>
                    </a:lnTo>
                    <a:lnTo>
                      <a:pt x="1343" y="246"/>
                    </a:lnTo>
                    <a:lnTo>
                      <a:pt x="1371" y="268"/>
                    </a:lnTo>
                    <a:lnTo>
                      <a:pt x="1400" y="291"/>
                    </a:lnTo>
                    <a:lnTo>
                      <a:pt x="1425" y="316"/>
                    </a:lnTo>
                    <a:lnTo>
                      <a:pt x="1451" y="341"/>
                    </a:lnTo>
                    <a:lnTo>
                      <a:pt x="1476" y="366"/>
                    </a:lnTo>
                    <a:lnTo>
                      <a:pt x="1499" y="392"/>
                    </a:lnTo>
                    <a:lnTo>
                      <a:pt x="1521" y="419"/>
                    </a:lnTo>
                    <a:lnTo>
                      <a:pt x="1543" y="448"/>
                    </a:lnTo>
                    <a:lnTo>
                      <a:pt x="1564" y="476"/>
                    </a:lnTo>
                    <a:lnTo>
                      <a:pt x="1584" y="505"/>
                    </a:lnTo>
                    <a:lnTo>
                      <a:pt x="1602" y="535"/>
                    </a:lnTo>
                    <a:lnTo>
                      <a:pt x="1620" y="566"/>
                    </a:lnTo>
                    <a:lnTo>
                      <a:pt x="1637" y="598"/>
                    </a:lnTo>
                    <a:lnTo>
                      <a:pt x="1653" y="630"/>
                    </a:lnTo>
                    <a:lnTo>
                      <a:pt x="1668" y="663"/>
                    </a:lnTo>
                    <a:lnTo>
                      <a:pt x="1681" y="697"/>
                    </a:lnTo>
                    <a:lnTo>
                      <a:pt x="1695" y="732"/>
                    </a:lnTo>
                    <a:lnTo>
                      <a:pt x="1706" y="766"/>
                    </a:lnTo>
                    <a:lnTo>
                      <a:pt x="1717" y="802"/>
                    </a:lnTo>
                    <a:lnTo>
                      <a:pt x="1727" y="839"/>
                    </a:lnTo>
                    <a:lnTo>
                      <a:pt x="1735" y="876"/>
                    </a:lnTo>
                    <a:lnTo>
                      <a:pt x="1743" y="913"/>
                    </a:lnTo>
                    <a:lnTo>
                      <a:pt x="1750" y="951"/>
                    </a:lnTo>
                    <a:lnTo>
                      <a:pt x="1755" y="990"/>
                    </a:lnTo>
                    <a:lnTo>
                      <a:pt x="1760" y="1029"/>
                    </a:lnTo>
                    <a:lnTo>
                      <a:pt x="1764" y="1069"/>
                    </a:lnTo>
                    <a:lnTo>
                      <a:pt x="1766" y="1109"/>
                    </a:lnTo>
                    <a:lnTo>
                      <a:pt x="1767" y="1151"/>
                    </a:lnTo>
                    <a:lnTo>
                      <a:pt x="1769" y="1193"/>
                    </a:lnTo>
                    <a:lnTo>
                      <a:pt x="1767" y="1231"/>
                    </a:lnTo>
                    <a:lnTo>
                      <a:pt x="1766" y="1268"/>
                    </a:lnTo>
                    <a:lnTo>
                      <a:pt x="1764" y="1305"/>
                    </a:lnTo>
                    <a:lnTo>
                      <a:pt x="1759" y="1342"/>
                    </a:lnTo>
                    <a:lnTo>
                      <a:pt x="1754" y="1378"/>
                    </a:lnTo>
                    <a:lnTo>
                      <a:pt x="1748" y="1414"/>
                    </a:lnTo>
                    <a:lnTo>
                      <a:pt x="1740" y="1449"/>
                    </a:lnTo>
                    <a:lnTo>
                      <a:pt x="1732" y="1485"/>
                    </a:lnTo>
                    <a:lnTo>
                      <a:pt x="1723" y="1519"/>
                    </a:lnTo>
                    <a:lnTo>
                      <a:pt x="1712" y="1553"/>
                    </a:lnTo>
                    <a:lnTo>
                      <a:pt x="1700" y="1588"/>
                    </a:lnTo>
                    <a:lnTo>
                      <a:pt x="1686" y="1621"/>
                    </a:lnTo>
                    <a:lnTo>
                      <a:pt x="1673" y="1654"/>
                    </a:lnTo>
                    <a:lnTo>
                      <a:pt x="1658" y="1686"/>
                    </a:lnTo>
                    <a:lnTo>
                      <a:pt x="1641" y="1719"/>
                    </a:lnTo>
                    <a:lnTo>
                      <a:pt x="1623" y="1750"/>
                    </a:lnTo>
                    <a:lnTo>
                      <a:pt x="1605" y="1782"/>
                    </a:lnTo>
                    <a:lnTo>
                      <a:pt x="1585" y="1813"/>
                    </a:lnTo>
                    <a:lnTo>
                      <a:pt x="1564" y="1842"/>
                    </a:lnTo>
                    <a:lnTo>
                      <a:pt x="1543" y="1872"/>
                    </a:lnTo>
                    <a:lnTo>
                      <a:pt x="1521" y="1900"/>
                    </a:lnTo>
                    <a:lnTo>
                      <a:pt x="1498" y="1929"/>
                    </a:lnTo>
                    <a:lnTo>
                      <a:pt x="1473" y="1954"/>
                    </a:lnTo>
                    <a:lnTo>
                      <a:pt x="1449" y="1981"/>
                    </a:lnTo>
                    <a:lnTo>
                      <a:pt x="1423" y="2007"/>
                    </a:lnTo>
                    <a:lnTo>
                      <a:pt x="1396" y="2032"/>
                    </a:lnTo>
                    <a:lnTo>
                      <a:pt x="1368" y="2055"/>
                    </a:lnTo>
                    <a:lnTo>
                      <a:pt x="1339" y="2079"/>
                    </a:lnTo>
                    <a:lnTo>
                      <a:pt x="1309" y="2102"/>
                    </a:lnTo>
                    <a:lnTo>
                      <a:pt x="1279" y="2123"/>
                    </a:lnTo>
                    <a:lnTo>
                      <a:pt x="1247" y="2145"/>
                    </a:lnTo>
                    <a:lnTo>
                      <a:pt x="1214" y="2165"/>
                    </a:lnTo>
                    <a:lnTo>
                      <a:pt x="1173" y="2189"/>
                    </a:lnTo>
                    <a:lnTo>
                      <a:pt x="1130" y="2211"/>
                    </a:lnTo>
                    <a:lnTo>
                      <a:pt x="1086" y="2232"/>
                    </a:lnTo>
                    <a:lnTo>
                      <a:pt x="1039" y="2252"/>
                    </a:lnTo>
                    <a:lnTo>
                      <a:pt x="992" y="2269"/>
                    </a:lnTo>
                    <a:lnTo>
                      <a:pt x="944" y="2285"/>
                    </a:lnTo>
                    <a:lnTo>
                      <a:pt x="895" y="2299"/>
                    </a:lnTo>
                    <a:lnTo>
                      <a:pt x="844" y="2311"/>
                    </a:lnTo>
                    <a:lnTo>
                      <a:pt x="791" y="2322"/>
                    </a:lnTo>
                    <a:lnTo>
                      <a:pt x="737" y="2331"/>
                    </a:lnTo>
                    <a:lnTo>
                      <a:pt x="679" y="2339"/>
                    </a:lnTo>
                    <a:lnTo>
                      <a:pt x="619" y="2346"/>
                    </a:lnTo>
                    <a:lnTo>
                      <a:pt x="557" y="2350"/>
                    </a:lnTo>
                    <a:lnTo>
                      <a:pt x="492" y="2354"/>
                    </a:lnTo>
                    <a:lnTo>
                      <a:pt x="425" y="2357"/>
                    </a:lnTo>
                    <a:lnTo>
                      <a:pt x="357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35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779640" y="1416240"/>
                <a:ext cx="177840" cy="195120"/>
              </a:xfrm>
              <a:prstGeom prst="rect">
                <a:avLst/>
              </a:prstGeom>
              <a:noFill/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044960" y="1068480"/>
                <a:ext cx="303120" cy="546120"/>
              </a:xfrm>
              <a:custGeom>
                <a:avLst/>
                <a:gdLst/>
                <a:ahLst/>
                <a:rect l="l" t="t" r="r" b="b"/>
                <a:pathLst>
                  <a:path w="953" h="1724">
                    <a:moveTo>
                      <a:pt x="40" y="1695"/>
                    </a:moveTo>
                    <a:lnTo>
                      <a:pt x="40" y="1163"/>
                    </a:lnTo>
                    <a:lnTo>
                      <a:pt x="53" y="1169"/>
                    </a:lnTo>
                    <a:lnTo>
                      <a:pt x="65" y="1174"/>
                    </a:lnTo>
                    <a:lnTo>
                      <a:pt x="76" y="1179"/>
                    </a:lnTo>
                    <a:lnTo>
                      <a:pt x="88" y="1183"/>
                    </a:lnTo>
                    <a:lnTo>
                      <a:pt x="99" y="1187"/>
                    </a:lnTo>
                    <a:lnTo>
                      <a:pt x="109" y="1190"/>
                    </a:lnTo>
                    <a:lnTo>
                      <a:pt x="120" y="1194"/>
                    </a:lnTo>
                    <a:lnTo>
                      <a:pt x="130" y="1196"/>
                    </a:lnTo>
                    <a:lnTo>
                      <a:pt x="140" y="1199"/>
                    </a:lnTo>
                    <a:lnTo>
                      <a:pt x="150" y="1201"/>
                    </a:lnTo>
                    <a:lnTo>
                      <a:pt x="158" y="1203"/>
                    </a:lnTo>
                    <a:lnTo>
                      <a:pt x="168" y="1204"/>
                    </a:lnTo>
                    <a:lnTo>
                      <a:pt x="178" y="1205"/>
                    </a:lnTo>
                    <a:lnTo>
                      <a:pt x="187" y="1206"/>
                    </a:lnTo>
                    <a:lnTo>
                      <a:pt x="195" y="1206"/>
                    </a:lnTo>
                    <a:lnTo>
                      <a:pt x="205" y="1208"/>
                    </a:lnTo>
                    <a:lnTo>
                      <a:pt x="220" y="1206"/>
                    </a:lnTo>
                    <a:lnTo>
                      <a:pt x="235" y="1205"/>
                    </a:lnTo>
                    <a:lnTo>
                      <a:pt x="249" y="1203"/>
                    </a:lnTo>
                    <a:lnTo>
                      <a:pt x="263" y="1199"/>
                    </a:lnTo>
                    <a:lnTo>
                      <a:pt x="275" y="1195"/>
                    </a:lnTo>
                    <a:lnTo>
                      <a:pt x="288" y="1189"/>
                    </a:lnTo>
                    <a:lnTo>
                      <a:pt x="297" y="1183"/>
                    </a:lnTo>
                    <a:lnTo>
                      <a:pt x="308" y="1176"/>
                    </a:lnTo>
                    <a:lnTo>
                      <a:pt x="317" y="1167"/>
                    </a:lnTo>
                    <a:lnTo>
                      <a:pt x="324" y="1158"/>
                    </a:lnTo>
                    <a:lnTo>
                      <a:pt x="332" y="1150"/>
                    </a:lnTo>
                    <a:lnTo>
                      <a:pt x="337" y="1140"/>
                    </a:lnTo>
                    <a:lnTo>
                      <a:pt x="342" y="1129"/>
                    </a:lnTo>
                    <a:lnTo>
                      <a:pt x="344" y="1118"/>
                    </a:lnTo>
                    <a:lnTo>
                      <a:pt x="345" y="1107"/>
                    </a:lnTo>
                    <a:lnTo>
                      <a:pt x="347" y="1094"/>
                    </a:lnTo>
                    <a:lnTo>
                      <a:pt x="345" y="1086"/>
                    </a:lnTo>
                    <a:lnTo>
                      <a:pt x="344" y="1077"/>
                    </a:lnTo>
                    <a:lnTo>
                      <a:pt x="342" y="1067"/>
                    </a:lnTo>
                    <a:lnTo>
                      <a:pt x="338" y="1057"/>
                    </a:lnTo>
                    <a:lnTo>
                      <a:pt x="333" y="1046"/>
                    </a:lnTo>
                    <a:lnTo>
                      <a:pt x="327" y="1037"/>
                    </a:lnTo>
                    <a:lnTo>
                      <a:pt x="320" y="1024"/>
                    </a:lnTo>
                    <a:lnTo>
                      <a:pt x="311" y="1013"/>
                    </a:lnTo>
                    <a:lnTo>
                      <a:pt x="291" y="987"/>
                    </a:lnTo>
                    <a:lnTo>
                      <a:pt x="268" y="960"/>
                    </a:lnTo>
                    <a:lnTo>
                      <a:pt x="240" y="931"/>
                    </a:lnTo>
                    <a:lnTo>
                      <a:pt x="206" y="899"/>
                    </a:lnTo>
                    <a:lnTo>
                      <a:pt x="198" y="891"/>
                    </a:lnTo>
                    <a:lnTo>
                      <a:pt x="190" y="885"/>
                    </a:lnTo>
                    <a:lnTo>
                      <a:pt x="183" y="878"/>
                    </a:lnTo>
                    <a:lnTo>
                      <a:pt x="176" y="872"/>
                    </a:lnTo>
                    <a:lnTo>
                      <a:pt x="169" y="866"/>
                    </a:lnTo>
                    <a:lnTo>
                      <a:pt x="163" y="859"/>
                    </a:lnTo>
                    <a:lnTo>
                      <a:pt x="157" y="855"/>
                    </a:lnTo>
                    <a:lnTo>
                      <a:pt x="151" y="850"/>
                    </a:lnTo>
                    <a:lnTo>
                      <a:pt x="134" y="831"/>
                    </a:lnTo>
                    <a:lnTo>
                      <a:pt x="117" y="813"/>
                    </a:lnTo>
                    <a:lnTo>
                      <a:pt x="101" y="794"/>
                    </a:lnTo>
                    <a:lnTo>
                      <a:pt x="86" y="775"/>
                    </a:lnTo>
                    <a:lnTo>
                      <a:pt x="72" y="755"/>
                    </a:lnTo>
                    <a:lnTo>
                      <a:pt x="60" y="734"/>
                    </a:lnTo>
                    <a:lnTo>
                      <a:pt x="48" y="713"/>
                    </a:lnTo>
                    <a:lnTo>
                      <a:pt x="38" y="692"/>
                    </a:lnTo>
                    <a:lnTo>
                      <a:pt x="29" y="671"/>
                    </a:lnTo>
                    <a:lnTo>
                      <a:pt x="22" y="650"/>
                    </a:lnTo>
                    <a:lnTo>
                      <a:pt x="15" y="628"/>
                    </a:lnTo>
                    <a:lnTo>
                      <a:pt x="10" y="605"/>
                    </a:lnTo>
                    <a:lnTo>
                      <a:pt x="6" y="583"/>
                    </a:lnTo>
                    <a:lnTo>
                      <a:pt x="2" y="559"/>
                    </a:lnTo>
                    <a:lnTo>
                      <a:pt x="1" y="536"/>
                    </a:lnTo>
                    <a:lnTo>
                      <a:pt x="0" y="511"/>
                    </a:lnTo>
                    <a:lnTo>
                      <a:pt x="1" y="482"/>
                    </a:lnTo>
                    <a:lnTo>
                      <a:pt x="3" y="454"/>
                    </a:lnTo>
                    <a:lnTo>
                      <a:pt x="6" y="425"/>
                    </a:lnTo>
                    <a:lnTo>
                      <a:pt x="11" y="398"/>
                    </a:lnTo>
                    <a:lnTo>
                      <a:pt x="17" y="372"/>
                    </a:lnTo>
                    <a:lnTo>
                      <a:pt x="24" y="347"/>
                    </a:lnTo>
                    <a:lnTo>
                      <a:pt x="33" y="322"/>
                    </a:lnTo>
                    <a:lnTo>
                      <a:pt x="44" y="297"/>
                    </a:lnTo>
                    <a:lnTo>
                      <a:pt x="55" y="275"/>
                    </a:lnTo>
                    <a:lnTo>
                      <a:pt x="67" y="253"/>
                    </a:lnTo>
                    <a:lnTo>
                      <a:pt x="82" y="231"/>
                    </a:lnTo>
                    <a:lnTo>
                      <a:pt x="98" y="210"/>
                    </a:lnTo>
                    <a:lnTo>
                      <a:pt x="114" y="190"/>
                    </a:lnTo>
                    <a:lnTo>
                      <a:pt x="133" y="172"/>
                    </a:lnTo>
                    <a:lnTo>
                      <a:pt x="152" y="153"/>
                    </a:lnTo>
                    <a:lnTo>
                      <a:pt x="173" y="136"/>
                    </a:lnTo>
                    <a:lnTo>
                      <a:pt x="195" y="119"/>
                    </a:lnTo>
                    <a:lnTo>
                      <a:pt x="219" y="104"/>
                    </a:lnTo>
                    <a:lnTo>
                      <a:pt x="243" y="89"/>
                    </a:lnTo>
                    <a:lnTo>
                      <a:pt x="268" y="76"/>
                    </a:lnTo>
                    <a:lnTo>
                      <a:pt x="295" y="64"/>
                    </a:lnTo>
                    <a:lnTo>
                      <a:pt x="322" y="53"/>
                    </a:lnTo>
                    <a:lnTo>
                      <a:pt x="350" y="43"/>
                    </a:lnTo>
                    <a:lnTo>
                      <a:pt x="380" y="34"/>
                    </a:lnTo>
                    <a:lnTo>
                      <a:pt x="411" y="25"/>
                    </a:lnTo>
                    <a:lnTo>
                      <a:pt x="443" y="19"/>
                    </a:lnTo>
                    <a:lnTo>
                      <a:pt x="475" y="13"/>
                    </a:lnTo>
                    <a:lnTo>
                      <a:pt x="509" y="8"/>
                    </a:lnTo>
                    <a:lnTo>
                      <a:pt x="543" y="5"/>
                    </a:lnTo>
                    <a:lnTo>
                      <a:pt x="579" y="2"/>
                    </a:lnTo>
                    <a:lnTo>
                      <a:pt x="616" y="0"/>
                    </a:lnTo>
                    <a:lnTo>
                      <a:pt x="654" y="0"/>
                    </a:lnTo>
                    <a:lnTo>
                      <a:pt x="668" y="0"/>
                    </a:lnTo>
                    <a:lnTo>
                      <a:pt x="682" y="0"/>
                    </a:lnTo>
                    <a:lnTo>
                      <a:pt x="698" y="1"/>
                    </a:lnTo>
                    <a:lnTo>
                      <a:pt x="713" y="1"/>
                    </a:lnTo>
                    <a:lnTo>
                      <a:pt x="728" y="2"/>
                    </a:lnTo>
                    <a:lnTo>
                      <a:pt x="744" y="3"/>
                    </a:lnTo>
                    <a:lnTo>
                      <a:pt x="760" y="5"/>
                    </a:lnTo>
                    <a:lnTo>
                      <a:pt x="775" y="6"/>
                    </a:lnTo>
                    <a:lnTo>
                      <a:pt x="791" y="8"/>
                    </a:lnTo>
                    <a:lnTo>
                      <a:pt x="808" y="9"/>
                    </a:lnTo>
                    <a:lnTo>
                      <a:pt x="824" y="12"/>
                    </a:lnTo>
                    <a:lnTo>
                      <a:pt x="841" y="14"/>
                    </a:lnTo>
                    <a:lnTo>
                      <a:pt x="858" y="17"/>
                    </a:lnTo>
                    <a:lnTo>
                      <a:pt x="875" y="19"/>
                    </a:lnTo>
                    <a:lnTo>
                      <a:pt x="894" y="22"/>
                    </a:lnTo>
                    <a:lnTo>
                      <a:pt x="911" y="25"/>
                    </a:lnTo>
                    <a:lnTo>
                      <a:pt x="911" y="525"/>
                    </a:lnTo>
                    <a:lnTo>
                      <a:pt x="899" y="519"/>
                    </a:lnTo>
                    <a:lnTo>
                      <a:pt x="888" y="514"/>
                    </a:lnTo>
                    <a:lnTo>
                      <a:pt x="875" y="508"/>
                    </a:lnTo>
                    <a:lnTo>
                      <a:pt x="863" y="504"/>
                    </a:lnTo>
                    <a:lnTo>
                      <a:pt x="852" y="499"/>
                    </a:lnTo>
                    <a:lnTo>
                      <a:pt x="840" y="495"/>
                    </a:lnTo>
                    <a:lnTo>
                      <a:pt x="827" y="492"/>
                    </a:lnTo>
                    <a:lnTo>
                      <a:pt x="816" y="489"/>
                    </a:lnTo>
                    <a:lnTo>
                      <a:pt x="804" y="487"/>
                    </a:lnTo>
                    <a:lnTo>
                      <a:pt x="793" y="484"/>
                    </a:lnTo>
                    <a:lnTo>
                      <a:pt x="782" y="482"/>
                    </a:lnTo>
                    <a:lnTo>
                      <a:pt x="771" y="481"/>
                    </a:lnTo>
                    <a:lnTo>
                      <a:pt x="760" y="479"/>
                    </a:lnTo>
                    <a:lnTo>
                      <a:pt x="749" y="478"/>
                    </a:lnTo>
                    <a:lnTo>
                      <a:pt x="738" y="478"/>
                    </a:lnTo>
                    <a:lnTo>
                      <a:pt x="727" y="478"/>
                    </a:lnTo>
                    <a:lnTo>
                      <a:pt x="711" y="478"/>
                    </a:lnTo>
                    <a:lnTo>
                      <a:pt x="697" y="479"/>
                    </a:lnTo>
                    <a:lnTo>
                      <a:pt x="682" y="482"/>
                    </a:lnTo>
                    <a:lnTo>
                      <a:pt x="670" y="484"/>
                    </a:lnTo>
                    <a:lnTo>
                      <a:pt x="658" y="488"/>
                    </a:lnTo>
                    <a:lnTo>
                      <a:pt x="647" y="493"/>
                    </a:lnTo>
                    <a:lnTo>
                      <a:pt x="637" y="498"/>
                    </a:lnTo>
                    <a:lnTo>
                      <a:pt x="627" y="504"/>
                    </a:lnTo>
                    <a:lnTo>
                      <a:pt x="618" y="511"/>
                    </a:lnTo>
                    <a:lnTo>
                      <a:pt x="611" y="519"/>
                    </a:lnTo>
                    <a:lnTo>
                      <a:pt x="605" y="527"/>
                    </a:lnTo>
                    <a:lnTo>
                      <a:pt x="600" y="536"/>
                    </a:lnTo>
                    <a:lnTo>
                      <a:pt x="596" y="545"/>
                    </a:lnTo>
                    <a:lnTo>
                      <a:pt x="594" y="554"/>
                    </a:lnTo>
                    <a:lnTo>
                      <a:pt x="591" y="565"/>
                    </a:lnTo>
                    <a:lnTo>
                      <a:pt x="591" y="577"/>
                    </a:lnTo>
                    <a:lnTo>
                      <a:pt x="591" y="584"/>
                    </a:lnTo>
                    <a:lnTo>
                      <a:pt x="593" y="590"/>
                    </a:lnTo>
                    <a:lnTo>
                      <a:pt x="594" y="597"/>
                    </a:lnTo>
                    <a:lnTo>
                      <a:pt x="596" y="606"/>
                    </a:lnTo>
                    <a:lnTo>
                      <a:pt x="599" y="613"/>
                    </a:lnTo>
                    <a:lnTo>
                      <a:pt x="602" y="621"/>
                    </a:lnTo>
                    <a:lnTo>
                      <a:pt x="606" y="628"/>
                    </a:lnTo>
                    <a:lnTo>
                      <a:pt x="610" y="637"/>
                    </a:lnTo>
                    <a:lnTo>
                      <a:pt x="616" y="645"/>
                    </a:lnTo>
                    <a:lnTo>
                      <a:pt x="622" y="654"/>
                    </a:lnTo>
                    <a:lnTo>
                      <a:pt x="631" y="664"/>
                    </a:lnTo>
                    <a:lnTo>
                      <a:pt x="639" y="675"/>
                    </a:lnTo>
                    <a:lnTo>
                      <a:pt x="650" y="687"/>
                    </a:lnTo>
                    <a:lnTo>
                      <a:pt x="661" y="701"/>
                    </a:lnTo>
                    <a:lnTo>
                      <a:pt x="675" y="714"/>
                    </a:lnTo>
                    <a:lnTo>
                      <a:pt x="690" y="729"/>
                    </a:lnTo>
                    <a:lnTo>
                      <a:pt x="728" y="767"/>
                    </a:lnTo>
                    <a:lnTo>
                      <a:pt x="762" y="804"/>
                    </a:lnTo>
                    <a:lnTo>
                      <a:pt x="793" y="839"/>
                    </a:lnTo>
                    <a:lnTo>
                      <a:pt x="821" y="873"/>
                    </a:lnTo>
                    <a:lnTo>
                      <a:pt x="846" y="905"/>
                    </a:lnTo>
                    <a:lnTo>
                      <a:pt x="868" y="936"/>
                    </a:lnTo>
                    <a:lnTo>
                      <a:pt x="887" y="964"/>
                    </a:lnTo>
                    <a:lnTo>
                      <a:pt x="901" y="992"/>
                    </a:lnTo>
                    <a:lnTo>
                      <a:pt x="914" y="1019"/>
                    </a:lnTo>
                    <a:lnTo>
                      <a:pt x="923" y="1048"/>
                    </a:lnTo>
                    <a:lnTo>
                      <a:pt x="933" y="1076"/>
                    </a:lnTo>
                    <a:lnTo>
                      <a:pt x="941" y="1105"/>
                    </a:lnTo>
                    <a:lnTo>
                      <a:pt x="946" y="1135"/>
                    </a:lnTo>
                    <a:lnTo>
                      <a:pt x="950" y="1166"/>
                    </a:lnTo>
                    <a:lnTo>
                      <a:pt x="953" y="1198"/>
                    </a:lnTo>
                    <a:lnTo>
                      <a:pt x="953" y="1230"/>
                    </a:lnTo>
                    <a:lnTo>
                      <a:pt x="953" y="1258"/>
                    </a:lnTo>
                    <a:lnTo>
                      <a:pt x="950" y="1286"/>
                    </a:lnTo>
                    <a:lnTo>
                      <a:pt x="948" y="1313"/>
                    </a:lnTo>
                    <a:lnTo>
                      <a:pt x="943" y="1340"/>
                    </a:lnTo>
                    <a:lnTo>
                      <a:pt x="938" y="1366"/>
                    </a:lnTo>
                    <a:lnTo>
                      <a:pt x="931" y="1391"/>
                    </a:lnTo>
                    <a:lnTo>
                      <a:pt x="923" y="1415"/>
                    </a:lnTo>
                    <a:lnTo>
                      <a:pt x="915" y="1438"/>
                    </a:lnTo>
                    <a:lnTo>
                      <a:pt x="904" y="1461"/>
                    </a:lnTo>
                    <a:lnTo>
                      <a:pt x="893" y="1482"/>
                    </a:lnTo>
                    <a:lnTo>
                      <a:pt x="879" y="1503"/>
                    </a:lnTo>
                    <a:lnTo>
                      <a:pt x="866" y="1522"/>
                    </a:lnTo>
                    <a:lnTo>
                      <a:pt x="851" y="1542"/>
                    </a:lnTo>
                    <a:lnTo>
                      <a:pt x="834" y="1559"/>
                    </a:lnTo>
                    <a:lnTo>
                      <a:pt x="816" y="1578"/>
                    </a:lnTo>
                    <a:lnTo>
                      <a:pt x="798" y="1594"/>
                    </a:lnTo>
                    <a:lnTo>
                      <a:pt x="778" y="1610"/>
                    </a:lnTo>
                    <a:lnTo>
                      <a:pt x="757" y="1624"/>
                    </a:lnTo>
                    <a:lnTo>
                      <a:pt x="735" y="1638"/>
                    </a:lnTo>
                    <a:lnTo>
                      <a:pt x="712" y="1650"/>
                    </a:lnTo>
                    <a:lnTo>
                      <a:pt x="689" y="1663"/>
                    </a:lnTo>
                    <a:lnTo>
                      <a:pt x="664" y="1672"/>
                    </a:lnTo>
                    <a:lnTo>
                      <a:pt x="638" y="1682"/>
                    </a:lnTo>
                    <a:lnTo>
                      <a:pt x="611" y="1691"/>
                    </a:lnTo>
                    <a:lnTo>
                      <a:pt x="583" y="1698"/>
                    </a:lnTo>
                    <a:lnTo>
                      <a:pt x="554" y="1706"/>
                    </a:lnTo>
                    <a:lnTo>
                      <a:pt x="525" y="1711"/>
                    </a:lnTo>
                    <a:lnTo>
                      <a:pt x="494" y="1716"/>
                    </a:lnTo>
                    <a:lnTo>
                      <a:pt x="462" y="1719"/>
                    </a:lnTo>
                    <a:lnTo>
                      <a:pt x="429" y="1722"/>
                    </a:lnTo>
                    <a:lnTo>
                      <a:pt x="396" y="1723"/>
                    </a:lnTo>
                    <a:lnTo>
                      <a:pt x="361" y="1724"/>
                    </a:lnTo>
                    <a:lnTo>
                      <a:pt x="347" y="1723"/>
                    </a:lnTo>
                    <a:lnTo>
                      <a:pt x="333" y="1723"/>
                    </a:lnTo>
                    <a:lnTo>
                      <a:pt x="318" y="1723"/>
                    </a:lnTo>
                    <a:lnTo>
                      <a:pt x="302" y="1722"/>
                    </a:lnTo>
                    <a:lnTo>
                      <a:pt x="288" y="1722"/>
                    </a:lnTo>
                    <a:lnTo>
                      <a:pt x="272" y="1720"/>
                    </a:lnTo>
                    <a:lnTo>
                      <a:pt x="254" y="1719"/>
                    </a:lnTo>
                    <a:lnTo>
                      <a:pt x="237" y="1718"/>
                    </a:lnTo>
                    <a:lnTo>
                      <a:pt x="220" y="1717"/>
                    </a:lnTo>
                    <a:lnTo>
                      <a:pt x="200" y="1714"/>
                    </a:lnTo>
                    <a:lnTo>
                      <a:pt x="178" y="1712"/>
                    </a:lnTo>
                    <a:lnTo>
                      <a:pt x="153" y="1709"/>
                    </a:lnTo>
                    <a:lnTo>
                      <a:pt x="129" y="1706"/>
                    </a:lnTo>
                    <a:lnTo>
                      <a:pt x="101" y="1703"/>
                    </a:lnTo>
                    <a:lnTo>
                      <a:pt x="71" y="1698"/>
                    </a:lnTo>
                    <a:lnTo>
                      <a:pt x="40" y="169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"/>
            <p:cNvGrpSpPr/>
            <p:nvPr/>
          </p:nvGrpSpPr>
          <p:grpSpPr>
            <a:xfrm>
              <a:off x="4653000" y="838080"/>
              <a:ext cx="2966400" cy="774720"/>
              <a:chOff x="4653000" y="838080"/>
              <a:chExt cx="2966400" cy="774720"/>
            </a:xfrm>
          </p:grpSpPr>
          <p:sp>
            <p:nvSpPr>
              <p:cNvPr id="4085" name=""/>
              <p:cNvSpPr/>
              <p:nvPr/>
            </p:nvSpPr>
            <p:spPr>
              <a:xfrm>
                <a:off x="4922640" y="1596960"/>
                <a:ext cx="225000" cy="15840"/>
              </a:xfrm>
              <a:custGeom>
                <a:avLst/>
                <a:gdLst/>
                <a:ahLst/>
                <a:rect l="l" t="t" r="r" b="b"/>
                <a:pathLst>
                  <a:path w="709" h="48">
                    <a:moveTo>
                      <a:pt x="404" y="48"/>
                    </a:moveTo>
                    <a:lnTo>
                      <a:pt x="396" y="48"/>
                    </a:lnTo>
                    <a:lnTo>
                      <a:pt x="343" y="48"/>
                    </a:lnTo>
                    <a:lnTo>
                      <a:pt x="291" y="45"/>
                    </a:lnTo>
                    <a:lnTo>
                      <a:pt x="239" y="42"/>
                    </a:lnTo>
                    <a:lnTo>
                      <a:pt x="190" y="36"/>
                    </a:lnTo>
                    <a:lnTo>
                      <a:pt x="141" y="29"/>
                    </a:lnTo>
                    <a:lnTo>
                      <a:pt x="93" y="21"/>
                    </a:lnTo>
                    <a:lnTo>
                      <a:pt x="46" y="11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9" y="8"/>
                    </a:lnTo>
                    <a:lnTo>
                      <a:pt x="692" y="13"/>
                    </a:lnTo>
                    <a:lnTo>
                      <a:pt x="674" y="18"/>
                    </a:lnTo>
                    <a:lnTo>
                      <a:pt x="656" y="22"/>
                    </a:lnTo>
                    <a:lnTo>
                      <a:pt x="638" y="26"/>
                    </a:lnTo>
                    <a:lnTo>
                      <a:pt x="619" y="29"/>
                    </a:lnTo>
                    <a:lnTo>
                      <a:pt x="601" y="33"/>
                    </a:lnTo>
                    <a:lnTo>
                      <a:pt x="583" y="36"/>
                    </a:lnTo>
                    <a:lnTo>
                      <a:pt x="563" y="38"/>
                    </a:lnTo>
                    <a:lnTo>
                      <a:pt x="544" y="40"/>
                    </a:lnTo>
                    <a:lnTo>
                      <a:pt x="526" y="43"/>
                    </a:lnTo>
                    <a:lnTo>
                      <a:pt x="506" y="44"/>
                    </a:lnTo>
                    <a:lnTo>
                      <a:pt x="487" y="45"/>
                    </a:lnTo>
                    <a:lnTo>
                      <a:pt x="467" y="47"/>
                    </a:lnTo>
                    <a:lnTo>
                      <a:pt x="446" y="48"/>
                    </a:lnTo>
                    <a:lnTo>
                      <a:pt x="425" y="48"/>
                    </a:lnTo>
                    <a:lnTo>
                      <a:pt x="404" y="4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876560" y="1581120"/>
                <a:ext cx="272520" cy="31680"/>
              </a:xfrm>
              <a:custGeom>
                <a:avLst/>
                <a:gdLst/>
                <a:ahLst/>
                <a:rect l="l" t="t" r="r" b="b"/>
                <a:pathLst>
                  <a:path w="859" h="97">
                    <a:moveTo>
                      <a:pt x="550" y="97"/>
                    </a:moveTo>
                    <a:lnTo>
                      <a:pt x="542" y="97"/>
                    </a:lnTo>
                    <a:lnTo>
                      <a:pt x="503" y="97"/>
                    </a:lnTo>
                    <a:lnTo>
                      <a:pt x="467" y="96"/>
                    </a:lnTo>
                    <a:lnTo>
                      <a:pt x="430" y="94"/>
                    </a:lnTo>
                    <a:lnTo>
                      <a:pt x="394" y="91"/>
                    </a:lnTo>
                    <a:lnTo>
                      <a:pt x="358" y="88"/>
                    </a:lnTo>
                    <a:lnTo>
                      <a:pt x="324" y="83"/>
                    </a:lnTo>
                    <a:lnTo>
                      <a:pt x="289" y="78"/>
                    </a:lnTo>
                    <a:lnTo>
                      <a:pt x="255" y="73"/>
                    </a:lnTo>
                    <a:lnTo>
                      <a:pt x="222" y="66"/>
                    </a:lnTo>
                    <a:lnTo>
                      <a:pt x="189" y="59"/>
                    </a:lnTo>
                    <a:lnTo>
                      <a:pt x="157" y="51"/>
                    </a:lnTo>
                    <a:lnTo>
                      <a:pt x="123" y="43"/>
                    </a:lnTo>
                    <a:lnTo>
                      <a:pt x="93" y="33"/>
                    </a:lnTo>
                    <a:lnTo>
                      <a:pt x="61" y="23"/>
                    </a:lnTo>
                    <a:lnTo>
                      <a:pt x="31" y="12"/>
                    </a:lnTo>
                    <a:lnTo>
                      <a:pt x="0" y="0"/>
                    </a:lnTo>
                    <a:lnTo>
                      <a:pt x="859" y="0"/>
                    </a:lnTo>
                    <a:lnTo>
                      <a:pt x="855" y="57"/>
                    </a:lnTo>
                    <a:lnTo>
                      <a:pt x="838" y="62"/>
                    </a:lnTo>
                    <a:lnTo>
                      <a:pt x="820" y="67"/>
                    </a:lnTo>
                    <a:lnTo>
                      <a:pt x="802" y="71"/>
                    </a:lnTo>
                    <a:lnTo>
                      <a:pt x="784" y="75"/>
                    </a:lnTo>
                    <a:lnTo>
                      <a:pt x="765" y="78"/>
                    </a:lnTo>
                    <a:lnTo>
                      <a:pt x="747" y="82"/>
                    </a:lnTo>
                    <a:lnTo>
                      <a:pt x="729" y="85"/>
                    </a:lnTo>
                    <a:lnTo>
                      <a:pt x="709" y="87"/>
                    </a:lnTo>
                    <a:lnTo>
                      <a:pt x="690" y="89"/>
                    </a:lnTo>
                    <a:lnTo>
                      <a:pt x="672" y="92"/>
                    </a:lnTo>
                    <a:lnTo>
                      <a:pt x="652" y="93"/>
                    </a:lnTo>
                    <a:lnTo>
                      <a:pt x="633" y="94"/>
                    </a:lnTo>
                    <a:lnTo>
                      <a:pt x="613" y="96"/>
                    </a:lnTo>
                    <a:lnTo>
                      <a:pt x="592" y="97"/>
                    </a:lnTo>
                    <a:lnTo>
                      <a:pt x="571" y="97"/>
                    </a:lnTo>
                    <a:lnTo>
                      <a:pt x="550" y="9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843080" y="1566720"/>
                <a:ext cx="306000" cy="30240"/>
              </a:xfrm>
              <a:custGeom>
                <a:avLst/>
                <a:gdLst/>
                <a:ahLst/>
                <a:rect l="l" t="t" r="r" b="b"/>
                <a:pathLst>
                  <a:path w="965" h="97">
                    <a:moveTo>
                      <a:pt x="959" y="97"/>
                    </a:moveTo>
                    <a:lnTo>
                      <a:pt x="250" y="97"/>
                    </a:lnTo>
                    <a:lnTo>
                      <a:pt x="216" y="87"/>
                    </a:lnTo>
                    <a:lnTo>
                      <a:pt x="184" y="77"/>
                    </a:lnTo>
                    <a:lnTo>
                      <a:pt x="152" y="66"/>
                    </a:lnTo>
                    <a:lnTo>
                      <a:pt x="120" y="54"/>
                    </a:lnTo>
                    <a:lnTo>
                      <a:pt x="90" y="42"/>
                    </a:lnTo>
                    <a:lnTo>
                      <a:pt x="59" y="28"/>
                    </a:lnTo>
                    <a:lnTo>
                      <a:pt x="29" y="14"/>
                    </a:lnTo>
                    <a:lnTo>
                      <a:pt x="0" y="0"/>
                    </a:lnTo>
                    <a:lnTo>
                      <a:pt x="965" y="0"/>
                    </a:lnTo>
                    <a:lnTo>
                      <a:pt x="959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817520" y="1550880"/>
                <a:ext cx="333360" cy="30240"/>
              </a:xfrm>
              <a:custGeom>
                <a:avLst/>
                <a:gdLst/>
                <a:ahLst/>
                <a:rect l="l" t="t" r="r" b="b"/>
                <a:pathLst>
                  <a:path w="1052" h="97">
                    <a:moveTo>
                      <a:pt x="1046" y="97"/>
                    </a:moveTo>
                    <a:lnTo>
                      <a:pt x="187" y="97"/>
                    </a:lnTo>
                    <a:lnTo>
                      <a:pt x="163" y="87"/>
                    </a:lnTo>
                    <a:lnTo>
                      <a:pt x="138" y="76"/>
                    </a:lnTo>
                    <a:lnTo>
                      <a:pt x="115" y="65"/>
                    </a:lnTo>
                    <a:lnTo>
                      <a:pt x="91" y="52"/>
                    </a:lnTo>
                    <a:lnTo>
                      <a:pt x="68" y="40"/>
                    </a:lnTo>
                    <a:lnTo>
                      <a:pt x="45" y="27"/>
                    </a:lnTo>
                    <a:lnTo>
                      <a:pt x="23" y="13"/>
                    </a:lnTo>
                    <a:lnTo>
                      <a:pt x="0" y="0"/>
                    </a:lnTo>
                    <a:lnTo>
                      <a:pt x="1052" y="0"/>
                    </a:lnTo>
                    <a:lnTo>
                      <a:pt x="1046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795560" y="15350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18" y="99"/>
                    </a:moveTo>
                    <a:lnTo>
                      <a:pt x="153" y="99"/>
                    </a:lnTo>
                    <a:lnTo>
                      <a:pt x="133" y="88"/>
                    </a:lnTo>
                    <a:lnTo>
                      <a:pt x="114" y="77"/>
                    </a:lnTo>
                    <a:lnTo>
                      <a:pt x="94" y="64"/>
                    </a:lnTo>
                    <a:lnTo>
                      <a:pt x="74" y="52"/>
                    </a:lnTo>
                    <a:lnTo>
                      <a:pt x="56" y="40"/>
                    </a:lnTo>
                    <a:lnTo>
                      <a:pt x="37" y="27"/>
                    </a:lnTo>
                    <a:lnTo>
                      <a:pt x="19" y="14"/>
                    </a:lnTo>
                    <a:lnTo>
                      <a:pt x="0" y="0"/>
                    </a:lnTo>
                    <a:lnTo>
                      <a:pt x="1126" y="0"/>
                    </a:lnTo>
                    <a:lnTo>
                      <a:pt x="1118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776480" y="1519200"/>
                <a:ext cx="375840" cy="31680"/>
              </a:xfrm>
              <a:custGeom>
                <a:avLst/>
                <a:gdLst/>
                <a:ahLst/>
                <a:rect l="l" t="t" r="r" b="b"/>
                <a:pathLst>
                  <a:path w="1188" h="98">
                    <a:moveTo>
                      <a:pt x="1182" y="98"/>
                    </a:moveTo>
                    <a:lnTo>
                      <a:pt x="130" y="98"/>
                    </a:lnTo>
                    <a:lnTo>
                      <a:pt x="113" y="86"/>
                    </a:lnTo>
                    <a:lnTo>
                      <a:pt x="96" y="75"/>
                    </a:lnTo>
                    <a:lnTo>
                      <a:pt x="80" y="63"/>
                    </a:lnTo>
                    <a:lnTo>
                      <a:pt x="64" y="51"/>
                    </a:lnTo>
                    <a:lnTo>
                      <a:pt x="48" y="38"/>
                    </a:lnTo>
                    <a:lnTo>
                      <a:pt x="32" y="26"/>
                    </a:lnTo>
                    <a:lnTo>
                      <a:pt x="16" y="13"/>
                    </a:lnTo>
                    <a:lnTo>
                      <a:pt x="0" y="0"/>
                    </a:lnTo>
                    <a:lnTo>
                      <a:pt x="1188" y="0"/>
                    </a:lnTo>
                    <a:lnTo>
                      <a:pt x="1182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758840" y="150480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4" h="97">
                    <a:moveTo>
                      <a:pt x="1238" y="97"/>
                    </a:moveTo>
                    <a:lnTo>
                      <a:pt x="112" y="97"/>
                    </a:lnTo>
                    <a:lnTo>
                      <a:pt x="99" y="87"/>
                    </a:lnTo>
                    <a:lnTo>
                      <a:pt x="85" y="76"/>
                    </a:lnTo>
                    <a:lnTo>
                      <a:pt x="72" y="65"/>
                    </a:lnTo>
                    <a:lnTo>
                      <a:pt x="59" y="54"/>
                    </a:lnTo>
                    <a:lnTo>
                      <a:pt x="46" y="43"/>
                    </a:lnTo>
                    <a:lnTo>
                      <a:pt x="34" y="32"/>
                    </a:lnTo>
                    <a:lnTo>
                      <a:pt x="21" y="20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44" y="0"/>
                    </a:lnTo>
                    <a:lnTo>
                      <a:pt x="1238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4744800" y="1488960"/>
                <a:ext cx="410760" cy="30240"/>
              </a:xfrm>
              <a:custGeom>
                <a:avLst/>
                <a:gdLst/>
                <a:ahLst/>
                <a:rect l="l" t="t" r="r" b="b"/>
                <a:pathLst>
                  <a:path w="1292" h="98">
                    <a:moveTo>
                      <a:pt x="1286" y="98"/>
                    </a:moveTo>
                    <a:lnTo>
                      <a:pt x="98" y="98"/>
                    </a:lnTo>
                    <a:lnTo>
                      <a:pt x="93" y="93"/>
                    </a:lnTo>
                    <a:lnTo>
                      <a:pt x="87" y="89"/>
                    </a:lnTo>
                    <a:lnTo>
                      <a:pt x="82" y="84"/>
                    </a:lnTo>
                    <a:lnTo>
                      <a:pt x="76" y="77"/>
                    </a:lnTo>
                    <a:lnTo>
                      <a:pt x="71" y="73"/>
                    </a:lnTo>
                    <a:lnTo>
                      <a:pt x="65" y="68"/>
                    </a:lnTo>
                    <a:lnTo>
                      <a:pt x="60" y="63"/>
                    </a:lnTo>
                    <a:lnTo>
                      <a:pt x="54" y="58"/>
                    </a:lnTo>
                    <a:lnTo>
                      <a:pt x="48" y="50"/>
                    </a:lnTo>
                    <a:lnTo>
                      <a:pt x="40" y="43"/>
                    </a:lnTo>
                    <a:lnTo>
                      <a:pt x="33" y="37"/>
                    </a:lnTo>
                    <a:lnTo>
                      <a:pt x="27" y="29"/>
                    </a:lnTo>
                    <a:lnTo>
                      <a:pt x="19" y="22"/>
                    </a:lnTo>
                    <a:lnTo>
                      <a:pt x="13" y="15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1292" y="0"/>
                    </a:lnTo>
                    <a:lnTo>
                      <a:pt x="1286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4731840" y="14731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8" h="97">
                    <a:moveTo>
                      <a:pt x="1332" y="97"/>
                    </a:moveTo>
                    <a:lnTo>
                      <a:pt x="88" y="97"/>
                    </a:lnTo>
                    <a:lnTo>
                      <a:pt x="76" y="85"/>
                    </a:lnTo>
                    <a:lnTo>
                      <a:pt x="65" y="74"/>
                    </a:lnTo>
                    <a:lnTo>
                      <a:pt x="54" y="61"/>
                    </a:lnTo>
                    <a:lnTo>
                      <a:pt x="42" y="49"/>
                    </a:lnTo>
                    <a:lnTo>
                      <a:pt x="32" y="37"/>
                    </a:lnTo>
                    <a:lnTo>
                      <a:pt x="21" y="25"/>
                    </a:lnTo>
                    <a:lnTo>
                      <a:pt x="10" y="12"/>
                    </a:lnTo>
                    <a:lnTo>
                      <a:pt x="0" y="0"/>
                    </a:lnTo>
                    <a:lnTo>
                      <a:pt x="1338" y="0"/>
                    </a:lnTo>
                    <a:lnTo>
                      <a:pt x="1332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719240" y="145728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79" h="97">
                    <a:moveTo>
                      <a:pt x="1371" y="97"/>
                    </a:moveTo>
                    <a:lnTo>
                      <a:pt x="79" y="97"/>
                    </a:lnTo>
                    <a:lnTo>
                      <a:pt x="68" y="86"/>
                    </a:lnTo>
                    <a:lnTo>
                      <a:pt x="58" y="74"/>
                    </a:lnTo>
                    <a:lnTo>
                      <a:pt x="48" y="61"/>
                    </a:lnTo>
                    <a:lnTo>
                      <a:pt x="38" y="49"/>
                    </a:lnTo>
                    <a:lnTo>
                      <a:pt x="28" y="38"/>
                    </a:lnTo>
                    <a:lnTo>
                      <a:pt x="18" y="24"/>
                    </a:lnTo>
                    <a:lnTo>
                      <a:pt x="9" y="12"/>
                    </a:lnTo>
                    <a:lnTo>
                      <a:pt x="0" y="0"/>
                    </a:lnTo>
                    <a:lnTo>
                      <a:pt x="1379" y="0"/>
                    </a:lnTo>
                    <a:lnTo>
                      <a:pt x="1371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709880" y="1442880"/>
                <a:ext cx="448920" cy="30240"/>
              </a:xfrm>
              <a:custGeom>
                <a:avLst/>
                <a:gdLst/>
                <a:ahLst/>
                <a:rect l="l" t="t" r="r" b="b"/>
                <a:pathLst>
                  <a:path w="1414" h="98">
                    <a:moveTo>
                      <a:pt x="1408" y="98"/>
                    </a:moveTo>
                    <a:lnTo>
                      <a:pt x="70" y="98"/>
                    </a:lnTo>
                    <a:lnTo>
                      <a:pt x="60" y="86"/>
                    </a:lnTo>
                    <a:lnTo>
                      <a:pt x="51" y="73"/>
                    </a:lnTo>
                    <a:lnTo>
                      <a:pt x="43" y="62"/>
                    </a:lnTo>
                    <a:lnTo>
                      <a:pt x="33" y="50"/>
                    </a:lnTo>
                    <a:lnTo>
                      <a:pt x="24" y="38"/>
                    </a:lnTo>
                    <a:lnTo>
                      <a:pt x="17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14" y="0"/>
                    </a:lnTo>
                    <a:lnTo>
                      <a:pt x="1408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70016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8" h="97">
                    <a:moveTo>
                      <a:pt x="1442" y="97"/>
                    </a:moveTo>
                    <a:lnTo>
                      <a:pt x="63" y="97"/>
                    </a:lnTo>
                    <a:lnTo>
                      <a:pt x="54" y="84"/>
                    </a:lnTo>
                    <a:lnTo>
                      <a:pt x="47" y="73"/>
                    </a:lnTo>
                    <a:lnTo>
                      <a:pt x="38" y="61"/>
                    </a:lnTo>
                    <a:lnTo>
                      <a:pt x="31" y="49"/>
                    </a:lnTo>
                    <a:lnTo>
                      <a:pt x="22" y="37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1448" y="0"/>
                    </a:lnTo>
                    <a:lnTo>
                      <a:pt x="144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92240" y="1411200"/>
                <a:ext cx="468000" cy="31680"/>
              </a:xfrm>
              <a:custGeom>
                <a:avLst/>
                <a:gdLst/>
                <a:ahLst/>
                <a:rect l="l" t="t" r="r" b="b"/>
                <a:pathLst>
                  <a:path w="1476" h="98">
                    <a:moveTo>
                      <a:pt x="1470" y="98"/>
                    </a:moveTo>
                    <a:lnTo>
                      <a:pt x="56" y="98"/>
                    </a:lnTo>
                    <a:lnTo>
                      <a:pt x="48" y="87"/>
                    </a:lnTo>
                    <a:lnTo>
                      <a:pt x="41" y="74"/>
                    </a:lnTo>
                    <a:lnTo>
                      <a:pt x="34" y="62"/>
                    </a:lnTo>
                    <a:lnTo>
                      <a:pt x="27" y="50"/>
                    </a:lnTo>
                    <a:lnTo>
                      <a:pt x="20" y="37"/>
                    </a:lnTo>
                    <a:lnTo>
                      <a:pt x="14" y="25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1476" y="0"/>
                    </a:lnTo>
                    <a:lnTo>
                      <a:pt x="147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84320" y="1395360"/>
                <a:ext cx="477360" cy="31680"/>
              </a:xfrm>
              <a:custGeom>
                <a:avLst/>
                <a:gdLst/>
                <a:ahLst/>
                <a:rect l="l" t="t" r="r" b="b"/>
                <a:pathLst>
                  <a:path w="1502" h="98">
                    <a:moveTo>
                      <a:pt x="1496" y="98"/>
                    </a:moveTo>
                    <a:lnTo>
                      <a:pt x="48" y="98"/>
                    </a:lnTo>
                    <a:lnTo>
                      <a:pt x="42" y="85"/>
                    </a:lnTo>
                    <a:lnTo>
                      <a:pt x="36" y="73"/>
                    </a:lnTo>
                    <a:lnTo>
                      <a:pt x="30" y="62"/>
                    </a:lnTo>
                    <a:lnTo>
                      <a:pt x="24" y="50"/>
                    </a:lnTo>
                    <a:lnTo>
                      <a:pt x="18" y="37"/>
                    </a:lnTo>
                    <a:lnTo>
                      <a:pt x="11" y="25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958" y="0"/>
                    </a:lnTo>
                    <a:lnTo>
                      <a:pt x="979" y="5"/>
                    </a:lnTo>
                    <a:lnTo>
                      <a:pt x="1001" y="10"/>
                    </a:lnTo>
                    <a:lnTo>
                      <a:pt x="1024" y="14"/>
                    </a:lnTo>
                    <a:lnTo>
                      <a:pt x="1046" y="16"/>
                    </a:lnTo>
                    <a:lnTo>
                      <a:pt x="1069" y="19"/>
                    </a:lnTo>
                    <a:lnTo>
                      <a:pt x="1092" y="21"/>
                    </a:lnTo>
                    <a:lnTo>
                      <a:pt x="1116" y="23"/>
                    </a:lnTo>
                    <a:lnTo>
                      <a:pt x="1139" y="23"/>
                    </a:lnTo>
                    <a:lnTo>
                      <a:pt x="1161" y="23"/>
                    </a:lnTo>
                    <a:lnTo>
                      <a:pt x="1185" y="21"/>
                    </a:lnTo>
                    <a:lnTo>
                      <a:pt x="1207" y="19"/>
                    </a:lnTo>
                    <a:lnTo>
                      <a:pt x="1229" y="16"/>
                    </a:lnTo>
                    <a:lnTo>
                      <a:pt x="1251" y="14"/>
                    </a:lnTo>
                    <a:lnTo>
                      <a:pt x="1273" y="10"/>
                    </a:lnTo>
                    <a:lnTo>
                      <a:pt x="1295" y="5"/>
                    </a:lnTo>
                    <a:lnTo>
                      <a:pt x="1318" y="0"/>
                    </a:lnTo>
                    <a:lnTo>
                      <a:pt x="1502" y="0"/>
                    </a:lnTo>
                    <a:lnTo>
                      <a:pt x="149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77840" y="13809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17" y="97"/>
                    </a:moveTo>
                    <a:lnTo>
                      <a:pt x="41" y="97"/>
                    </a:lnTo>
                    <a:lnTo>
                      <a:pt x="37" y="86"/>
                    </a:lnTo>
                    <a:lnTo>
                      <a:pt x="30" y="74"/>
                    </a:lnTo>
                    <a:lnTo>
                      <a:pt x="25" y="62"/>
                    </a:lnTo>
                    <a:lnTo>
                      <a:pt x="19" y="49"/>
                    </a:lnTo>
                    <a:lnTo>
                      <a:pt x="14" y="37"/>
                    </a:lnTo>
                    <a:lnTo>
                      <a:pt x="9" y="25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852" y="0"/>
                    </a:lnTo>
                    <a:lnTo>
                      <a:pt x="869" y="9"/>
                    </a:lnTo>
                    <a:lnTo>
                      <a:pt x="886" y="17"/>
                    </a:lnTo>
                    <a:lnTo>
                      <a:pt x="904" y="25"/>
                    </a:lnTo>
                    <a:lnTo>
                      <a:pt x="922" y="31"/>
                    </a:lnTo>
                    <a:lnTo>
                      <a:pt x="939" y="37"/>
                    </a:lnTo>
                    <a:lnTo>
                      <a:pt x="958" y="43"/>
                    </a:lnTo>
                    <a:lnTo>
                      <a:pt x="977" y="49"/>
                    </a:lnTo>
                    <a:lnTo>
                      <a:pt x="996" y="53"/>
                    </a:lnTo>
                    <a:lnTo>
                      <a:pt x="1035" y="62"/>
                    </a:lnTo>
                    <a:lnTo>
                      <a:pt x="1075" y="67"/>
                    </a:lnTo>
                    <a:lnTo>
                      <a:pt x="1116" y="70"/>
                    </a:lnTo>
                    <a:lnTo>
                      <a:pt x="1158" y="72"/>
                    </a:lnTo>
                    <a:lnTo>
                      <a:pt x="1182" y="70"/>
                    </a:lnTo>
                    <a:lnTo>
                      <a:pt x="1205" y="70"/>
                    </a:lnTo>
                    <a:lnTo>
                      <a:pt x="1228" y="68"/>
                    </a:lnTo>
                    <a:lnTo>
                      <a:pt x="1252" y="65"/>
                    </a:lnTo>
                    <a:lnTo>
                      <a:pt x="1275" y="62"/>
                    </a:lnTo>
                    <a:lnTo>
                      <a:pt x="1297" y="58"/>
                    </a:lnTo>
                    <a:lnTo>
                      <a:pt x="1321" y="53"/>
                    </a:lnTo>
                    <a:lnTo>
                      <a:pt x="1344" y="47"/>
                    </a:lnTo>
                    <a:lnTo>
                      <a:pt x="1360" y="42"/>
                    </a:lnTo>
                    <a:lnTo>
                      <a:pt x="1377" y="37"/>
                    </a:lnTo>
                    <a:lnTo>
                      <a:pt x="1393" y="32"/>
                    </a:lnTo>
                    <a:lnTo>
                      <a:pt x="1410" y="27"/>
                    </a:lnTo>
                    <a:lnTo>
                      <a:pt x="1426" y="21"/>
                    </a:lnTo>
                    <a:lnTo>
                      <a:pt x="1444" y="14"/>
                    </a:lnTo>
                    <a:lnTo>
                      <a:pt x="1460" y="8"/>
                    </a:lnTo>
                    <a:lnTo>
                      <a:pt x="1477" y="0"/>
                    </a:lnTo>
                    <a:lnTo>
                      <a:pt x="1523" y="0"/>
                    </a:lnTo>
                    <a:lnTo>
                      <a:pt x="1517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73160" y="1365120"/>
                <a:ext cx="490320" cy="30240"/>
              </a:xfrm>
              <a:custGeom>
                <a:avLst/>
                <a:gdLst/>
                <a:ahLst/>
                <a:rect l="l" t="t" r="r" b="b"/>
                <a:pathLst>
                  <a:path w="1544" h="98">
                    <a:moveTo>
                      <a:pt x="1539" y="98"/>
                    </a:moveTo>
                    <a:lnTo>
                      <a:pt x="1355" y="98"/>
                    </a:lnTo>
                    <a:lnTo>
                      <a:pt x="1356" y="97"/>
                    </a:lnTo>
                    <a:lnTo>
                      <a:pt x="1357" y="97"/>
                    </a:lnTo>
                    <a:lnTo>
                      <a:pt x="1357" y="97"/>
                    </a:lnTo>
                    <a:lnTo>
                      <a:pt x="1358" y="97"/>
                    </a:lnTo>
                    <a:lnTo>
                      <a:pt x="1359" y="97"/>
                    </a:lnTo>
                    <a:lnTo>
                      <a:pt x="1359" y="97"/>
                    </a:lnTo>
                    <a:lnTo>
                      <a:pt x="1361" y="96"/>
                    </a:lnTo>
                    <a:lnTo>
                      <a:pt x="1362" y="96"/>
                    </a:lnTo>
                    <a:lnTo>
                      <a:pt x="1384" y="90"/>
                    </a:lnTo>
                    <a:lnTo>
                      <a:pt x="1407" y="82"/>
                    </a:lnTo>
                    <a:lnTo>
                      <a:pt x="1431" y="75"/>
                    </a:lnTo>
                    <a:lnTo>
                      <a:pt x="1453" y="66"/>
                    </a:lnTo>
                    <a:lnTo>
                      <a:pt x="1476" y="58"/>
                    </a:lnTo>
                    <a:lnTo>
                      <a:pt x="1498" y="47"/>
                    </a:lnTo>
                    <a:lnTo>
                      <a:pt x="1521" y="37"/>
                    </a:lnTo>
                    <a:lnTo>
                      <a:pt x="1544" y="25"/>
                    </a:lnTo>
                    <a:lnTo>
                      <a:pt x="1539" y="98"/>
                    </a:lnTo>
                    <a:close/>
                    <a:moveTo>
                      <a:pt x="995" y="98"/>
                    </a:moveTo>
                    <a:lnTo>
                      <a:pt x="37" y="98"/>
                    </a:lnTo>
                    <a:lnTo>
                      <a:pt x="32" y="86"/>
                    </a:lnTo>
                    <a:lnTo>
                      <a:pt x="27" y="74"/>
                    </a:lnTo>
                    <a:lnTo>
                      <a:pt x="23" y="62"/>
                    </a:lnTo>
                    <a:lnTo>
                      <a:pt x="18" y="49"/>
                    </a:lnTo>
                    <a:lnTo>
                      <a:pt x="13" y="38"/>
                    </a:lnTo>
                    <a:lnTo>
                      <a:pt x="9" y="26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817" y="17"/>
                    </a:lnTo>
                    <a:lnTo>
                      <a:pt x="840" y="32"/>
                    </a:lnTo>
                    <a:lnTo>
                      <a:pt x="864" y="46"/>
                    </a:lnTo>
                    <a:lnTo>
                      <a:pt x="890" y="59"/>
                    </a:lnTo>
                    <a:lnTo>
                      <a:pt x="914" y="70"/>
                    </a:lnTo>
                    <a:lnTo>
                      <a:pt x="941" y="81"/>
                    </a:lnTo>
                    <a:lnTo>
                      <a:pt x="967" y="90"/>
                    </a:lnTo>
                    <a:lnTo>
                      <a:pt x="995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68480" y="134928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5" y="97"/>
                    </a:moveTo>
                    <a:lnTo>
                      <a:pt x="1509" y="97"/>
                    </a:lnTo>
                    <a:lnTo>
                      <a:pt x="1515" y="95"/>
                    </a:lnTo>
                    <a:lnTo>
                      <a:pt x="1521" y="91"/>
                    </a:lnTo>
                    <a:lnTo>
                      <a:pt x="1527" y="89"/>
                    </a:lnTo>
                    <a:lnTo>
                      <a:pt x="1533" y="86"/>
                    </a:lnTo>
                    <a:lnTo>
                      <a:pt x="1539" y="82"/>
                    </a:lnTo>
                    <a:lnTo>
                      <a:pt x="1546" y="80"/>
                    </a:lnTo>
                    <a:lnTo>
                      <a:pt x="1552" y="76"/>
                    </a:lnTo>
                    <a:lnTo>
                      <a:pt x="1558" y="73"/>
                    </a:lnTo>
                    <a:lnTo>
                      <a:pt x="1555" y="97"/>
                    </a:lnTo>
                    <a:close/>
                    <a:moveTo>
                      <a:pt x="884" y="97"/>
                    </a:moveTo>
                    <a:lnTo>
                      <a:pt x="32" y="97"/>
                    </a:lnTo>
                    <a:lnTo>
                      <a:pt x="27" y="85"/>
                    </a:lnTo>
                    <a:lnTo>
                      <a:pt x="23" y="73"/>
                    </a:lnTo>
                    <a:lnTo>
                      <a:pt x="18" y="62"/>
                    </a:lnTo>
                    <a:lnTo>
                      <a:pt x="14" y="49"/>
                    </a:lnTo>
                    <a:lnTo>
                      <a:pt x="11" y="37"/>
                    </a:lnTo>
                    <a:lnTo>
                      <a:pt x="7" y="25"/>
                    </a:lnTo>
                    <a:lnTo>
                      <a:pt x="3" y="12"/>
                    </a:lnTo>
                    <a:lnTo>
                      <a:pt x="0" y="0"/>
                    </a:lnTo>
                    <a:lnTo>
                      <a:pt x="751" y="0"/>
                    </a:lnTo>
                    <a:lnTo>
                      <a:pt x="751" y="0"/>
                    </a:lnTo>
                    <a:lnTo>
                      <a:pt x="752" y="1"/>
                    </a:lnTo>
                    <a:lnTo>
                      <a:pt x="754" y="3"/>
                    </a:lnTo>
                    <a:lnTo>
                      <a:pt x="755" y="4"/>
                    </a:lnTo>
                    <a:lnTo>
                      <a:pt x="755" y="4"/>
                    </a:lnTo>
                    <a:lnTo>
                      <a:pt x="756" y="5"/>
                    </a:lnTo>
                    <a:lnTo>
                      <a:pt x="757" y="6"/>
                    </a:lnTo>
                    <a:lnTo>
                      <a:pt x="758" y="6"/>
                    </a:lnTo>
                    <a:lnTo>
                      <a:pt x="773" y="20"/>
                    </a:lnTo>
                    <a:lnTo>
                      <a:pt x="788" y="33"/>
                    </a:lnTo>
                    <a:lnTo>
                      <a:pt x="803" y="44"/>
                    </a:lnTo>
                    <a:lnTo>
                      <a:pt x="819" y="57"/>
                    </a:lnTo>
                    <a:lnTo>
                      <a:pt x="835" y="68"/>
                    </a:lnTo>
                    <a:lnTo>
                      <a:pt x="851" y="78"/>
                    </a:lnTo>
                    <a:lnTo>
                      <a:pt x="868" y="87"/>
                    </a:lnTo>
                    <a:lnTo>
                      <a:pt x="884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63800" y="1333440"/>
                <a:ext cx="261360" cy="31680"/>
              </a:xfrm>
              <a:custGeom>
                <a:avLst/>
                <a:gdLst/>
                <a:ahLst/>
                <a:rect l="l" t="t" r="r" b="b"/>
                <a:pathLst>
                  <a:path w="822" h="97">
                    <a:moveTo>
                      <a:pt x="822" y="97"/>
                    </a:moveTo>
                    <a:lnTo>
                      <a:pt x="28" y="97"/>
                    </a:lnTo>
                    <a:lnTo>
                      <a:pt x="25" y="86"/>
                    </a:lnTo>
                    <a:lnTo>
                      <a:pt x="21" y="74"/>
                    </a:lnTo>
                    <a:lnTo>
                      <a:pt x="17" y="61"/>
                    </a:lnTo>
                    <a:lnTo>
                      <a:pt x="14" y="49"/>
                    </a:lnTo>
                    <a:lnTo>
                      <a:pt x="10" y="37"/>
                    </a:lnTo>
                    <a:lnTo>
                      <a:pt x="6" y="24"/>
                    </a:lnTo>
                    <a:lnTo>
                      <a:pt x="4" y="12"/>
                    </a:lnTo>
                    <a:lnTo>
                      <a:pt x="0" y="0"/>
                    </a:lnTo>
                    <a:lnTo>
                      <a:pt x="720" y="0"/>
                    </a:lnTo>
                    <a:lnTo>
                      <a:pt x="726" y="7"/>
                    </a:lnTo>
                    <a:lnTo>
                      <a:pt x="732" y="15"/>
                    </a:lnTo>
                    <a:lnTo>
                      <a:pt x="738" y="21"/>
                    </a:lnTo>
                    <a:lnTo>
                      <a:pt x="744" y="28"/>
                    </a:lnTo>
                    <a:lnTo>
                      <a:pt x="752" y="36"/>
                    </a:lnTo>
                    <a:lnTo>
                      <a:pt x="758" y="42"/>
                    </a:lnTo>
                    <a:lnTo>
                      <a:pt x="765" y="49"/>
                    </a:lnTo>
                    <a:lnTo>
                      <a:pt x="772" y="55"/>
                    </a:lnTo>
                    <a:lnTo>
                      <a:pt x="779" y="61"/>
                    </a:lnTo>
                    <a:lnTo>
                      <a:pt x="784" y="66"/>
                    </a:lnTo>
                    <a:lnTo>
                      <a:pt x="790" y="72"/>
                    </a:lnTo>
                    <a:lnTo>
                      <a:pt x="796" y="77"/>
                    </a:lnTo>
                    <a:lnTo>
                      <a:pt x="803" y="82"/>
                    </a:lnTo>
                    <a:lnTo>
                      <a:pt x="809" y="87"/>
                    </a:lnTo>
                    <a:lnTo>
                      <a:pt x="816" y="92"/>
                    </a:lnTo>
                    <a:lnTo>
                      <a:pt x="822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60560" y="1319040"/>
                <a:ext cx="245520" cy="30240"/>
              </a:xfrm>
              <a:custGeom>
                <a:avLst/>
                <a:gdLst/>
                <a:ahLst/>
                <a:rect l="l" t="t" r="r" b="b"/>
                <a:pathLst>
                  <a:path w="775" h="98">
                    <a:moveTo>
                      <a:pt x="775" y="98"/>
                    </a:moveTo>
                    <a:lnTo>
                      <a:pt x="24" y="98"/>
                    </a:lnTo>
                    <a:lnTo>
                      <a:pt x="20" y="86"/>
                    </a:lnTo>
                    <a:lnTo>
                      <a:pt x="16" y="73"/>
                    </a:lnTo>
                    <a:lnTo>
                      <a:pt x="14" y="61"/>
                    </a:lnTo>
                    <a:lnTo>
                      <a:pt x="10" y="49"/>
                    </a:lnTo>
                    <a:lnTo>
                      <a:pt x="8" y="38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694" y="0"/>
                    </a:lnTo>
                    <a:lnTo>
                      <a:pt x="703" y="13"/>
                    </a:lnTo>
                    <a:lnTo>
                      <a:pt x="711" y="25"/>
                    </a:lnTo>
                    <a:lnTo>
                      <a:pt x="721" y="38"/>
                    </a:lnTo>
                    <a:lnTo>
                      <a:pt x="731" y="50"/>
                    </a:lnTo>
                    <a:lnTo>
                      <a:pt x="741" y="62"/>
                    </a:lnTo>
                    <a:lnTo>
                      <a:pt x="752" y="75"/>
                    </a:lnTo>
                    <a:lnTo>
                      <a:pt x="763" y="86"/>
                    </a:lnTo>
                    <a:lnTo>
                      <a:pt x="775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58760" y="1303200"/>
                <a:ext cx="233280" cy="30240"/>
              </a:xfrm>
              <a:custGeom>
                <a:avLst/>
                <a:gdLst/>
                <a:ahLst/>
                <a:rect l="l" t="t" r="r" b="b"/>
                <a:pathLst>
                  <a:path w="738" h="97">
                    <a:moveTo>
                      <a:pt x="738" y="97"/>
                    </a:moveTo>
                    <a:lnTo>
                      <a:pt x="18" y="97"/>
                    </a:lnTo>
                    <a:lnTo>
                      <a:pt x="16" y="85"/>
                    </a:lnTo>
                    <a:lnTo>
                      <a:pt x="13" y="73"/>
                    </a:lnTo>
                    <a:lnTo>
                      <a:pt x="11" y="61"/>
                    </a:lnTo>
                    <a:lnTo>
                      <a:pt x="8" y="49"/>
                    </a:lnTo>
                    <a:lnTo>
                      <a:pt x="6" y="37"/>
                    </a:lnTo>
                    <a:lnTo>
                      <a:pt x="3" y="24"/>
                    </a:lnTo>
                    <a:lnTo>
                      <a:pt x="2" y="12"/>
                    </a:lnTo>
                    <a:lnTo>
                      <a:pt x="0" y="0"/>
                    </a:lnTo>
                    <a:lnTo>
                      <a:pt x="674" y="0"/>
                    </a:lnTo>
                    <a:lnTo>
                      <a:pt x="680" y="12"/>
                    </a:lnTo>
                    <a:lnTo>
                      <a:pt x="687" y="24"/>
                    </a:lnTo>
                    <a:lnTo>
                      <a:pt x="695" y="38"/>
                    </a:lnTo>
                    <a:lnTo>
                      <a:pt x="702" y="50"/>
                    </a:lnTo>
                    <a:lnTo>
                      <a:pt x="711" y="61"/>
                    </a:lnTo>
                    <a:lnTo>
                      <a:pt x="719" y="73"/>
                    </a:lnTo>
                    <a:lnTo>
                      <a:pt x="728" y="86"/>
                    </a:lnTo>
                    <a:lnTo>
                      <a:pt x="738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55880" y="1287360"/>
                <a:ext cx="225000" cy="31680"/>
              </a:xfrm>
              <a:custGeom>
                <a:avLst/>
                <a:gdLst/>
                <a:ahLst/>
                <a:rect l="l" t="t" r="r" b="b"/>
                <a:pathLst>
                  <a:path w="709" h="98">
                    <a:moveTo>
                      <a:pt x="709" y="98"/>
                    </a:moveTo>
                    <a:lnTo>
                      <a:pt x="15" y="98"/>
                    </a:lnTo>
                    <a:lnTo>
                      <a:pt x="13" y="87"/>
                    </a:lnTo>
                    <a:lnTo>
                      <a:pt x="10" y="74"/>
                    </a:lnTo>
                    <a:lnTo>
                      <a:pt x="9" y="62"/>
                    </a:lnTo>
                    <a:lnTo>
                      <a:pt x="7" y="50"/>
                    </a:lnTo>
                    <a:lnTo>
                      <a:pt x="4" y="37"/>
                    </a:lnTo>
                    <a:lnTo>
                      <a:pt x="3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659" y="0"/>
                    </a:lnTo>
                    <a:lnTo>
                      <a:pt x="663" y="13"/>
                    </a:lnTo>
                    <a:lnTo>
                      <a:pt x="670" y="26"/>
                    </a:lnTo>
                    <a:lnTo>
                      <a:pt x="674" y="39"/>
                    </a:lnTo>
                    <a:lnTo>
                      <a:pt x="681" y="51"/>
                    </a:lnTo>
                    <a:lnTo>
                      <a:pt x="688" y="63"/>
                    </a:lnTo>
                    <a:lnTo>
                      <a:pt x="694" y="74"/>
                    </a:lnTo>
                    <a:lnTo>
                      <a:pt x="702" y="87"/>
                    </a:lnTo>
                    <a:lnTo>
                      <a:pt x="709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54080" y="1272960"/>
                <a:ext cx="217080" cy="30240"/>
              </a:xfrm>
              <a:custGeom>
                <a:avLst/>
                <a:gdLst/>
                <a:ahLst/>
                <a:rect l="l" t="t" r="r" b="b"/>
                <a:pathLst>
                  <a:path w="685" h="97">
                    <a:moveTo>
                      <a:pt x="685" y="97"/>
                    </a:moveTo>
                    <a:lnTo>
                      <a:pt x="11" y="97"/>
                    </a:lnTo>
                    <a:lnTo>
                      <a:pt x="8" y="84"/>
                    </a:lnTo>
                    <a:lnTo>
                      <a:pt x="7" y="72"/>
                    </a:lnTo>
                    <a:lnTo>
                      <a:pt x="6" y="60"/>
                    </a:lnTo>
                    <a:lnTo>
                      <a:pt x="4" y="49"/>
                    </a:lnTo>
                    <a:lnTo>
                      <a:pt x="2" y="36"/>
                    </a:lnTo>
                    <a:lnTo>
                      <a:pt x="1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8" y="0"/>
                    </a:lnTo>
                    <a:lnTo>
                      <a:pt x="650" y="12"/>
                    </a:lnTo>
                    <a:lnTo>
                      <a:pt x="655" y="24"/>
                    </a:lnTo>
                    <a:lnTo>
                      <a:pt x="659" y="36"/>
                    </a:lnTo>
                    <a:lnTo>
                      <a:pt x="664" y="49"/>
                    </a:lnTo>
                    <a:lnTo>
                      <a:pt x="669" y="61"/>
                    </a:lnTo>
                    <a:lnTo>
                      <a:pt x="674" y="73"/>
                    </a:lnTo>
                    <a:lnTo>
                      <a:pt x="678" y="84"/>
                    </a:lnTo>
                    <a:lnTo>
                      <a:pt x="68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54080" y="1257120"/>
                <a:ext cx="210960" cy="30240"/>
              </a:xfrm>
              <a:custGeom>
                <a:avLst/>
                <a:gdLst/>
                <a:ahLst/>
                <a:rect l="l" t="t" r="r" b="b"/>
                <a:pathLst>
                  <a:path w="667" h="97">
                    <a:moveTo>
                      <a:pt x="667" y="97"/>
                    </a:moveTo>
                    <a:lnTo>
                      <a:pt x="8" y="97"/>
                    </a:lnTo>
                    <a:lnTo>
                      <a:pt x="6" y="85"/>
                    </a:lnTo>
                    <a:lnTo>
                      <a:pt x="5" y="74"/>
                    </a:lnTo>
                    <a:lnTo>
                      <a:pt x="4" y="62"/>
                    </a:lnTo>
                    <a:lnTo>
                      <a:pt x="4" y="50"/>
                    </a:lnTo>
                    <a:lnTo>
                      <a:pt x="2" y="37"/>
                    </a:lnTo>
                    <a:lnTo>
                      <a:pt x="1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3" y="13"/>
                    </a:lnTo>
                    <a:lnTo>
                      <a:pt x="646" y="25"/>
                    </a:lnTo>
                    <a:lnTo>
                      <a:pt x="648" y="37"/>
                    </a:lnTo>
                    <a:lnTo>
                      <a:pt x="652" y="50"/>
                    </a:lnTo>
                    <a:lnTo>
                      <a:pt x="655" y="62"/>
                    </a:lnTo>
                    <a:lnTo>
                      <a:pt x="659" y="74"/>
                    </a:lnTo>
                    <a:lnTo>
                      <a:pt x="663" y="86"/>
                    </a:lnTo>
                    <a:lnTo>
                      <a:pt x="667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653000" y="1241280"/>
                <a:ext cx="207720" cy="31680"/>
              </a:xfrm>
              <a:custGeom>
                <a:avLst/>
                <a:gdLst/>
                <a:ahLst/>
                <a:rect l="l" t="t" r="r" b="b"/>
                <a:pathLst>
                  <a:path w="653" h="99">
                    <a:moveTo>
                      <a:pt x="653" y="99"/>
                    </a:moveTo>
                    <a:lnTo>
                      <a:pt x="5" y="99"/>
                    </a:lnTo>
                    <a:lnTo>
                      <a:pt x="3" y="86"/>
                    </a:lnTo>
                    <a:lnTo>
                      <a:pt x="2" y="74"/>
                    </a:lnTo>
                    <a:lnTo>
                      <a:pt x="1" y="62"/>
                    </a:lnTo>
                    <a:lnTo>
                      <a:pt x="1" y="49"/>
                    </a:lnTo>
                    <a:lnTo>
                      <a:pt x="0" y="37"/>
                    </a:lnTo>
                    <a:lnTo>
                      <a:pt x="0" y="2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7" y="14"/>
                    </a:lnTo>
                    <a:lnTo>
                      <a:pt x="638" y="26"/>
                    </a:lnTo>
                    <a:lnTo>
                      <a:pt x="639" y="38"/>
                    </a:lnTo>
                    <a:lnTo>
                      <a:pt x="642" y="51"/>
                    </a:lnTo>
                    <a:lnTo>
                      <a:pt x="644" y="63"/>
                    </a:lnTo>
                    <a:lnTo>
                      <a:pt x="647" y="74"/>
                    </a:lnTo>
                    <a:lnTo>
                      <a:pt x="649" y="86"/>
                    </a:lnTo>
                    <a:lnTo>
                      <a:pt x="653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653000" y="1225440"/>
                <a:ext cx="204480" cy="31680"/>
              </a:xfrm>
              <a:custGeom>
                <a:avLst/>
                <a:gdLst/>
                <a:ahLst/>
                <a:rect l="l" t="t" r="r" b="b"/>
                <a:pathLst>
                  <a:path w="644" h="97">
                    <a:moveTo>
                      <a:pt x="644" y="97"/>
                    </a:moveTo>
                    <a:lnTo>
                      <a:pt x="3" y="97"/>
                    </a:lnTo>
                    <a:lnTo>
                      <a:pt x="3" y="87"/>
                    </a:lnTo>
                    <a:lnTo>
                      <a:pt x="2" y="78"/>
                    </a:lnTo>
                    <a:lnTo>
                      <a:pt x="2" y="68"/>
                    </a:lnTo>
                    <a:lnTo>
                      <a:pt x="2" y="58"/>
                    </a:lnTo>
                    <a:lnTo>
                      <a:pt x="0" y="48"/>
                    </a:lnTo>
                    <a:lnTo>
                      <a:pt x="0" y="38"/>
                    </a:lnTo>
                    <a:lnTo>
                      <a:pt x="0" y="2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635" y="0"/>
                    </a:lnTo>
                    <a:lnTo>
                      <a:pt x="635" y="12"/>
                    </a:lnTo>
                    <a:lnTo>
                      <a:pt x="635" y="25"/>
                    </a:lnTo>
                    <a:lnTo>
                      <a:pt x="636" y="37"/>
                    </a:lnTo>
                    <a:lnTo>
                      <a:pt x="638" y="49"/>
                    </a:lnTo>
                    <a:lnTo>
                      <a:pt x="639" y="62"/>
                    </a:lnTo>
                    <a:lnTo>
                      <a:pt x="640" y="74"/>
                    </a:lnTo>
                    <a:lnTo>
                      <a:pt x="641" y="85"/>
                    </a:lnTo>
                    <a:lnTo>
                      <a:pt x="644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653000" y="1209600"/>
                <a:ext cx="202680" cy="31680"/>
              </a:xfrm>
              <a:custGeom>
                <a:avLst/>
                <a:gdLst/>
                <a:ahLst/>
                <a:rect l="l" t="t" r="r" b="b"/>
                <a:pathLst>
                  <a:path w="638" h="97">
                    <a:moveTo>
                      <a:pt x="638" y="97"/>
                    </a:moveTo>
                    <a:lnTo>
                      <a:pt x="2" y="97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2" y="25"/>
                    </a:lnTo>
                    <a:lnTo>
                      <a:pt x="2" y="16"/>
                    </a:lnTo>
                    <a:lnTo>
                      <a:pt x="2" y="9"/>
                    </a:lnTo>
                    <a:lnTo>
                      <a:pt x="2" y="0"/>
                    </a:lnTo>
                    <a:lnTo>
                      <a:pt x="636" y="0"/>
                    </a:lnTo>
                    <a:lnTo>
                      <a:pt x="636" y="5"/>
                    </a:lnTo>
                    <a:lnTo>
                      <a:pt x="636" y="11"/>
                    </a:lnTo>
                    <a:lnTo>
                      <a:pt x="635" y="16"/>
                    </a:lnTo>
                    <a:lnTo>
                      <a:pt x="635" y="22"/>
                    </a:lnTo>
                    <a:lnTo>
                      <a:pt x="635" y="27"/>
                    </a:lnTo>
                    <a:lnTo>
                      <a:pt x="635" y="33"/>
                    </a:lnTo>
                    <a:lnTo>
                      <a:pt x="635" y="38"/>
                    </a:lnTo>
                    <a:lnTo>
                      <a:pt x="635" y="44"/>
                    </a:lnTo>
                    <a:lnTo>
                      <a:pt x="635" y="50"/>
                    </a:lnTo>
                    <a:lnTo>
                      <a:pt x="635" y="58"/>
                    </a:lnTo>
                    <a:lnTo>
                      <a:pt x="635" y="64"/>
                    </a:lnTo>
                    <a:lnTo>
                      <a:pt x="635" y="71"/>
                    </a:lnTo>
                    <a:lnTo>
                      <a:pt x="636" y="77"/>
                    </a:lnTo>
                    <a:lnTo>
                      <a:pt x="636" y="85"/>
                    </a:lnTo>
                    <a:lnTo>
                      <a:pt x="636" y="91"/>
                    </a:lnTo>
                    <a:lnTo>
                      <a:pt x="638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653000" y="1195200"/>
                <a:ext cx="202680" cy="30240"/>
              </a:xfrm>
              <a:custGeom>
                <a:avLst/>
                <a:gdLst/>
                <a:ahLst/>
                <a:rect l="l" t="t" r="r" b="b"/>
                <a:pathLst>
                  <a:path w="642" h="98">
                    <a:moveTo>
                      <a:pt x="635" y="98"/>
                    </a:moveTo>
                    <a:lnTo>
                      <a:pt x="0" y="98"/>
                    </a:lnTo>
                    <a:lnTo>
                      <a:pt x="2" y="86"/>
                    </a:lnTo>
                    <a:lnTo>
                      <a:pt x="2" y="74"/>
                    </a:lnTo>
                    <a:lnTo>
                      <a:pt x="2" y="61"/>
                    </a:lnTo>
                    <a:lnTo>
                      <a:pt x="2" y="49"/>
                    </a:lnTo>
                    <a:lnTo>
                      <a:pt x="3" y="37"/>
                    </a:lnTo>
                    <a:lnTo>
                      <a:pt x="3" y="24"/>
                    </a:lnTo>
                    <a:lnTo>
                      <a:pt x="4" y="12"/>
                    </a:lnTo>
                    <a:lnTo>
                      <a:pt x="5" y="0"/>
                    </a:lnTo>
                    <a:lnTo>
                      <a:pt x="642" y="0"/>
                    </a:lnTo>
                    <a:lnTo>
                      <a:pt x="640" y="12"/>
                    </a:lnTo>
                    <a:lnTo>
                      <a:pt x="639" y="23"/>
                    </a:lnTo>
                    <a:lnTo>
                      <a:pt x="638" y="34"/>
                    </a:lnTo>
                    <a:lnTo>
                      <a:pt x="636" y="45"/>
                    </a:lnTo>
                    <a:lnTo>
                      <a:pt x="636" y="58"/>
                    </a:lnTo>
                    <a:lnTo>
                      <a:pt x="635" y="69"/>
                    </a:lnTo>
                    <a:lnTo>
                      <a:pt x="635" y="81"/>
                    </a:lnTo>
                    <a:lnTo>
                      <a:pt x="635" y="93"/>
                    </a:lnTo>
                    <a:lnTo>
                      <a:pt x="635" y="93"/>
                    </a:lnTo>
                    <a:lnTo>
                      <a:pt x="635" y="94"/>
                    </a:lnTo>
                    <a:lnTo>
                      <a:pt x="635" y="94"/>
                    </a:lnTo>
                    <a:lnTo>
                      <a:pt x="635" y="96"/>
                    </a:lnTo>
                    <a:lnTo>
                      <a:pt x="635" y="96"/>
                    </a:lnTo>
                    <a:lnTo>
                      <a:pt x="635" y="97"/>
                    </a:lnTo>
                    <a:lnTo>
                      <a:pt x="635" y="97"/>
                    </a:lnTo>
                    <a:lnTo>
                      <a:pt x="635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653000" y="1179360"/>
                <a:ext cx="205920" cy="30240"/>
              </a:xfrm>
              <a:custGeom>
                <a:avLst/>
                <a:gdLst/>
                <a:ahLst/>
                <a:rect l="l" t="t" r="r" b="b"/>
                <a:pathLst>
                  <a:path w="650" h="97">
                    <a:moveTo>
                      <a:pt x="634" y="97"/>
                    </a:moveTo>
                    <a:lnTo>
                      <a:pt x="0" y="97"/>
                    </a:lnTo>
                    <a:lnTo>
                      <a:pt x="1" y="85"/>
                    </a:lnTo>
                    <a:lnTo>
                      <a:pt x="1" y="72"/>
                    </a:lnTo>
                    <a:lnTo>
                      <a:pt x="2" y="60"/>
                    </a:lnTo>
                    <a:lnTo>
                      <a:pt x="3" y="48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650" y="0"/>
                    </a:lnTo>
                    <a:lnTo>
                      <a:pt x="647" y="11"/>
                    </a:lnTo>
                    <a:lnTo>
                      <a:pt x="644" y="23"/>
                    </a:lnTo>
                    <a:lnTo>
                      <a:pt x="642" y="35"/>
                    </a:lnTo>
                    <a:lnTo>
                      <a:pt x="640" y="48"/>
                    </a:lnTo>
                    <a:lnTo>
                      <a:pt x="638" y="60"/>
                    </a:lnTo>
                    <a:lnTo>
                      <a:pt x="637" y="72"/>
                    </a:lnTo>
                    <a:lnTo>
                      <a:pt x="636" y="85"/>
                    </a:lnTo>
                    <a:lnTo>
                      <a:pt x="634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654080" y="1163520"/>
                <a:ext cx="209160" cy="31680"/>
              </a:xfrm>
              <a:custGeom>
                <a:avLst/>
                <a:gdLst/>
                <a:ahLst/>
                <a:rect l="l" t="t" r="r" b="b"/>
                <a:pathLst>
                  <a:path w="662" h="97">
                    <a:moveTo>
                      <a:pt x="637" y="97"/>
                    </a:moveTo>
                    <a:lnTo>
                      <a:pt x="0" y="97"/>
                    </a:lnTo>
                    <a:lnTo>
                      <a:pt x="2" y="84"/>
                    </a:lnTo>
                    <a:lnTo>
                      <a:pt x="2" y="72"/>
                    </a:lnTo>
                    <a:lnTo>
                      <a:pt x="3" y="60"/>
                    </a:lnTo>
                    <a:lnTo>
                      <a:pt x="5" y="48"/>
                    </a:lnTo>
                    <a:lnTo>
                      <a:pt x="6" y="36"/>
                    </a:lnTo>
                    <a:lnTo>
                      <a:pt x="8" y="24"/>
                    </a:lnTo>
                    <a:lnTo>
                      <a:pt x="9" y="12"/>
                    </a:lnTo>
                    <a:lnTo>
                      <a:pt x="11" y="0"/>
                    </a:lnTo>
                    <a:lnTo>
                      <a:pt x="662" y="0"/>
                    </a:lnTo>
                    <a:lnTo>
                      <a:pt x="657" y="12"/>
                    </a:lnTo>
                    <a:lnTo>
                      <a:pt x="653" y="23"/>
                    </a:lnTo>
                    <a:lnTo>
                      <a:pt x="650" y="35"/>
                    </a:lnTo>
                    <a:lnTo>
                      <a:pt x="647" y="48"/>
                    </a:lnTo>
                    <a:lnTo>
                      <a:pt x="644" y="60"/>
                    </a:lnTo>
                    <a:lnTo>
                      <a:pt x="641" y="72"/>
                    </a:lnTo>
                    <a:lnTo>
                      <a:pt x="639" y="84"/>
                    </a:lnTo>
                    <a:lnTo>
                      <a:pt x="637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655880" y="1147680"/>
                <a:ext cx="215280" cy="31680"/>
              </a:xfrm>
              <a:custGeom>
                <a:avLst/>
                <a:gdLst/>
                <a:ahLst/>
                <a:rect l="l" t="t" r="r" b="b"/>
                <a:pathLst>
                  <a:path w="679" h="99">
                    <a:moveTo>
                      <a:pt x="643" y="99"/>
                    </a:moveTo>
                    <a:lnTo>
                      <a:pt x="0" y="99"/>
                    </a:lnTo>
                    <a:lnTo>
                      <a:pt x="2" y="86"/>
                    </a:lnTo>
                    <a:lnTo>
                      <a:pt x="4" y="74"/>
                    </a:lnTo>
                    <a:lnTo>
                      <a:pt x="5" y="62"/>
                    </a:lnTo>
                    <a:lnTo>
                      <a:pt x="7" y="50"/>
                    </a:lnTo>
                    <a:lnTo>
                      <a:pt x="9" y="37"/>
                    </a:lnTo>
                    <a:lnTo>
                      <a:pt x="11" y="25"/>
                    </a:lnTo>
                    <a:lnTo>
                      <a:pt x="12" y="13"/>
                    </a:lnTo>
                    <a:lnTo>
                      <a:pt x="15" y="0"/>
                    </a:lnTo>
                    <a:lnTo>
                      <a:pt x="679" y="0"/>
                    </a:lnTo>
                    <a:lnTo>
                      <a:pt x="673" y="13"/>
                    </a:lnTo>
                    <a:lnTo>
                      <a:pt x="668" y="25"/>
                    </a:lnTo>
                    <a:lnTo>
                      <a:pt x="663" y="36"/>
                    </a:lnTo>
                    <a:lnTo>
                      <a:pt x="658" y="48"/>
                    </a:lnTo>
                    <a:lnTo>
                      <a:pt x="654" y="61"/>
                    </a:lnTo>
                    <a:lnTo>
                      <a:pt x="649" y="73"/>
                    </a:lnTo>
                    <a:lnTo>
                      <a:pt x="646" y="85"/>
                    </a:lnTo>
                    <a:lnTo>
                      <a:pt x="643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657320" y="1133280"/>
                <a:ext cx="221760" cy="30240"/>
              </a:xfrm>
              <a:custGeom>
                <a:avLst/>
                <a:gdLst/>
                <a:ahLst/>
                <a:rect l="l" t="t" r="r" b="b"/>
                <a:pathLst>
                  <a:path w="699" h="98">
                    <a:moveTo>
                      <a:pt x="651" y="98"/>
                    </a:moveTo>
                    <a:lnTo>
                      <a:pt x="0" y="98"/>
                    </a:lnTo>
                    <a:lnTo>
                      <a:pt x="2" y="85"/>
                    </a:lnTo>
                    <a:lnTo>
                      <a:pt x="4" y="73"/>
                    </a:lnTo>
                    <a:lnTo>
                      <a:pt x="5" y="61"/>
                    </a:lnTo>
                    <a:lnTo>
                      <a:pt x="8" y="48"/>
                    </a:lnTo>
                    <a:lnTo>
                      <a:pt x="10" y="36"/>
                    </a:lnTo>
                    <a:lnTo>
                      <a:pt x="13" y="24"/>
                    </a:lnTo>
                    <a:lnTo>
                      <a:pt x="15" y="13"/>
                    </a:lnTo>
                    <a:lnTo>
                      <a:pt x="18" y="0"/>
                    </a:lnTo>
                    <a:lnTo>
                      <a:pt x="699" y="0"/>
                    </a:lnTo>
                    <a:lnTo>
                      <a:pt x="692" y="11"/>
                    </a:lnTo>
                    <a:lnTo>
                      <a:pt x="685" y="24"/>
                    </a:lnTo>
                    <a:lnTo>
                      <a:pt x="678" y="36"/>
                    </a:lnTo>
                    <a:lnTo>
                      <a:pt x="672" y="47"/>
                    </a:lnTo>
                    <a:lnTo>
                      <a:pt x="666" y="59"/>
                    </a:lnTo>
                    <a:lnTo>
                      <a:pt x="661" y="72"/>
                    </a:lnTo>
                    <a:lnTo>
                      <a:pt x="656" y="85"/>
                    </a:lnTo>
                    <a:lnTo>
                      <a:pt x="651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660560" y="1117440"/>
                <a:ext cx="229680" cy="30240"/>
              </a:xfrm>
              <a:custGeom>
                <a:avLst/>
                <a:gdLst/>
                <a:ahLst/>
                <a:rect l="l" t="t" r="r" b="b"/>
                <a:pathLst>
                  <a:path w="727" h="97">
                    <a:moveTo>
                      <a:pt x="664" y="97"/>
                    </a:moveTo>
                    <a:lnTo>
                      <a:pt x="0" y="97"/>
                    </a:lnTo>
                    <a:lnTo>
                      <a:pt x="2" y="85"/>
                    </a:lnTo>
                    <a:lnTo>
                      <a:pt x="5" y="73"/>
                    </a:lnTo>
                    <a:lnTo>
                      <a:pt x="7" y="60"/>
                    </a:lnTo>
                    <a:lnTo>
                      <a:pt x="11" y="48"/>
                    </a:lnTo>
                    <a:lnTo>
                      <a:pt x="13" y="37"/>
                    </a:lnTo>
                    <a:lnTo>
                      <a:pt x="16" y="25"/>
                    </a:lnTo>
                    <a:lnTo>
                      <a:pt x="19" y="13"/>
                    </a:lnTo>
                    <a:lnTo>
                      <a:pt x="22" y="0"/>
                    </a:lnTo>
                    <a:lnTo>
                      <a:pt x="727" y="0"/>
                    </a:lnTo>
                    <a:lnTo>
                      <a:pt x="717" y="13"/>
                    </a:lnTo>
                    <a:lnTo>
                      <a:pt x="708" y="24"/>
                    </a:lnTo>
                    <a:lnTo>
                      <a:pt x="700" y="36"/>
                    </a:lnTo>
                    <a:lnTo>
                      <a:pt x="692" y="48"/>
                    </a:lnTo>
                    <a:lnTo>
                      <a:pt x="685" y="60"/>
                    </a:lnTo>
                    <a:lnTo>
                      <a:pt x="677" y="73"/>
                    </a:lnTo>
                    <a:lnTo>
                      <a:pt x="670" y="85"/>
                    </a:lnTo>
                    <a:lnTo>
                      <a:pt x="664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663800" y="1101600"/>
                <a:ext cx="240840" cy="31680"/>
              </a:xfrm>
              <a:custGeom>
                <a:avLst/>
                <a:gdLst/>
                <a:ahLst/>
                <a:rect l="l" t="t" r="r" b="b"/>
                <a:pathLst>
                  <a:path w="762" h="97">
                    <a:moveTo>
                      <a:pt x="681" y="97"/>
                    </a:moveTo>
                    <a:lnTo>
                      <a:pt x="0" y="97"/>
                    </a:lnTo>
                    <a:lnTo>
                      <a:pt x="3" y="85"/>
                    </a:lnTo>
                    <a:lnTo>
                      <a:pt x="6" y="73"/>
                    </a:lnTo>
                    <a:lnTo>
                      <a:pt x="9" y="61"/>
                    </a:lnTo>
                    <a:lnTo>
                      <a:pt x="12" y="48"/>
                    </a:lnTo>
                    <a:lnTo>
                      <a:pt x="16" y="36"/>
                    </a:lnTo>
                    <a:lnTo>
                      <a:pt x="19" y="24"/>
                    </a:lnTo>
                    <a:lnTo>
                      <a:pt x="23" y="11"/>
                    </a:lnTo>
                    <a:lnTo>
                      <a:pt x="27" y="0"/>
                    </a:lnTo>
                    <a:lnTo>
                      <a:pt x="762" y="0"/>
                    </a:lnTo>
                    <a:lnTo>
                      <a:pt x="750" y="11"/>
                    </a:lnTo>
                    <a:lnTo>
                      <a:pt x="739" y="22"/>
                    </a:lnTo>
                    <a:lnTo>
                      <a:pt x="729" y="35"/>
                    </a:lnTo>
                    <a:lnTo>
                      <a:pt x="718" y="47"/>
                    </a:lnTo>
                    <a:lnTo>
                      <a:pt x="708" y="59"/>
                    </a:lnTo>
                    <a:lnTo>
                      <a:pt x="698" y="72"/>
                    </a:lnTo>
                    <a:lnTo>
                      <a:pt x="690" y="84"/>
                    </a:lnTo>
                    <a:lnTo>
                      <a:pt x="68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667040" y="1085760"/>
                <a:ext cx="256680" cy="31680"/>
              </a:xfrm>
              <a:custGeom>
                <a:avLst/>
                <a:gdLst/>
                <a:ahLst/>
                <a:rect l="l" t="t" r="r" b="b"/>
                <a:pathLst>
                  <a:path w="808" h="97">
                    <a:moveTo>
                      <a:pt x="705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1" y="60"/>
                    </a:lnTo>
                    <a:lnTo>
                      <a:pt x="15" y="48"/>
                    </a:lnTo>
                    <a:lnTo>
                      <a:pt x="18" y="36"/>
                    </a:lnTo>
                    <a:lnTo>
                      <a:pt x="23" y="23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808" y="0"/>
                    </a:lnTo>
                    <a:lnTo>
                      <a:pt x="803" y="4"/>
                    </a:lnTo>
                    <a:lnTo>
                      <a:pt x="797" y="9"/>
                    </a:lnTo>
                    <a:lnTo>
                      <a:pt x="791" y="14"/>
                    </a:lnTo>
                    <a:lnTo>
                      <a:pt x="786" y="17"/>
                    </a:lnTo>
                    <a:lnTo>
                      <a:pt x="780" y="22"/>
                    </a:lnTo>
                    <a:lnTo>
                      <a:pt x="775" y="27"/>
                    </a:lnTo>
                    <a:lnTo>
                      <a:pt x="769" y="31"/>
                    </a:lnTo>
                    <a:lnTo>
                      <a:pt x="764" y="36"/>
                    </a:lnTo>
                    <a:lnTo>
                      <a:pt x="755" y="43"/>
                    </a:lnTo>
                    <a:lnTo>
                      <a:pt x="748" y="50"/>
                    </a:lnTo>
                    <a:lnTo>
                      <a:pt x="740" y="58"/>
                    </a:lnTo>
                    <a:lnTo>
                      <a:pt x="733" y="66"/>
                    </a:lnTo>
                    <a:lnTo>
                      <a:pt x="726" y="74"/>
                    </a:lnTo>
                    <a:lnTo>
                      <a:pt x="718" y="81"/>
                    </a:lnTo>
                    <a:lnTo>
                      <a:pt x="711" y="90"/>
                    </a:lnTo>
                    <a:lnTo>
                      <a:pt x="705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671720" y="1071360"/>
                <a:ext cx="483840" cy="30240"/>
              </a:xfrm>
              <a:custGeom>
                <a:avLst/>
                <a:gdLst/>
                <a:ahLst/>
                <a:rect l="l" t="t" r="r" b="b"/>
                <a:pathLst>
                  <a:path w="1522" h="98">
                    <a:moveTo>
                      <a:pt x="735" y="98"/>
                    </a:moveTo>
                    <a:lnTo>
                      <a:pt x="0" y="98"/>
                    </a:lnTo>
                    <a:lnTo>
                      <a:pt x="3" y="85"/>
                    </a:lnTo>
                    <a:lnTo>
                      <a:pt x="8" y="72"/>
                    </a:lnTo>
                    <a:lnTo>
                      <a:pt x="12" y="60"/>
                    </a:lnTo>
                    <a:lnTo>
                      <a:pt x="17" y="49"/>
                    </a:lnTo>
                    <a:lnTo>
                      <a:pt x="21" y="37"/>
                    </a:lnTo>
                    <a:lnTo>
                      <a:pt x="26" y="24"/>
                    </a:lnTo>
                    <a:lnTo>
                      <a:pt x="30" y="12"/>
                    </a:lnTo>
                    <a:lnTo>
                      <a:pt x="35" y="0"/>
                    </a:lnTo>
                    <a:lnTo>
                      <a:pt x="873" y="0"/>
                    </a:lnTo>
                    <a:lnTo>
                      <a:pt x="857" y="8"/>
                    </a:lnTo>
                    <a:lnTo>
                      <a:pt x="840" y="18"/>
                    </a:lnTo>
                    <a:lnTo>
                      <a:pt x="824" y="28"/>
                    </a:lnTo>
                    <a:lnTo>
                      <a:pt x="808" y="38"/>
                    </a:lnTo>
                    <a:lnTo>
                      <a:pt x="793" y="49"/>
                    </a:lnTo>
                    <a:lnTo>
                      <a:pt x="778" y="61"/>
                    </a:lnTo>
                    <a:lnTo>
                      <a:pt x="763" y="72"/>
                    </a:lnTo>
                    <a:lnTo>
                      <a:pt x="749" y="85"/>
                    </a:lnTo>
                    <a:lnTo>
                      <a:pt x="747" y="87"/>
                    </a:lnTo>
                    <a:lnTo>
                      <a:pt x="745" y="88"/>
                    </a:lnTo>
                    <a:lnTo>
                      <a:pt x="744" y="90"/>
                    </a:lnTo>
                    <a:lnTo>
                      <a:pt x="741" y="91"/>
                    </a:lnTo>
                    <a:lnTo>
                      <a:pt x="740" y="93"/>
                    </a:lnTo>
                    <a:lnTo>
                      <a:pt x="739" y="95"/>
                    </a:lnTo>
                    <a:lnTo>
                      <a:pt x="736" y="96"/>
                    </a:lnTo>
                    <a:lnTo>
                      <a:pt x="735" y="98"/>
                    </a:lnTo>
                    <a:close/>
                    <a:moveTo>
                      <a:pt x="1520" y="0"/>
                    </a:moveTo>
                    <a:lnTo>
                      <a:pt x="1522" y="0"/>
                    </a:lnTo>
                    <a:lnTo>
                      <a:pt x="1522" y="1"/>
                    </a:lnTo>
                    <a:lnTo>
                      <a:pt x="1522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1" y="1"/>
                    </a:lnTo>
                    <a:lnTo>
                      <a:pt x="1520" y="1"/>
                    </a:lnTo>
                    <a:lnTo>
                      <a:pt x="1520" y="1"/>
                    </a:lnTo>
                    <a:lnTo>
                      <a:pt x="1520" y="0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677840" y="1055520"/>
                <a:ext cx="477720" cy="30240"/>
              </a:xfrm>
              <a:custGeom>
                <a:avLst/>
                <a:gdLst/>
                <a:ahLst/>
                <a:rect l="l" t="t" r="r" b="b"/>
                <a:pathLst>
                  <a:path w="1505" h="97">
                    <a:moveTo>
                      <a:pt x="776" y="97"/>
                    </a:moveTo>
                    <a:lnTo>
                      <a:pt x="0" y="97"/>
                    </a:lnTo>
                    <a:lnTo>
                      <a:pt x="4" y="85"/>
                    </a:lnTo>
                    <a:lnTo>
                      <a:pt x="9" y="72"/>
                    </a:lnTo>
                    <a:lnTo>
                      <a:pt x="13" y="60"/>
                    </a:lnTo>
                    <a:lnTo>
                      <a:pt x="18" y="48"/>
                    </a:lnTo>
                    <a:lnTo>
                      <a:pt x="25" y="36"/>
                    </a:lnTo>
                    <a:lnTo>
                      <a:pt x="29" y="23"/>
                    </a:lnTo>
                    <a:lnTo>
                      <a:pt x="34" y="11"/>
                    </a:lnTo>
                    <a:lnTo>
                      <a:pt x="41" y="0"/>
                    </a:lnTo>
                    <a:lnTo>
                      <a:pt x="989" y="0"/>
                    </a:lnTo>
                    <a:lnTo>
                      <a:pt x="959" y="7"/>
                    </a:lnTo>
                    <a:lnTo>
                      <a:pt x="931" y="17"/>
                    </a:lnTo>
                    <a:lnTo>
                      <a:pt x="903" y="27"/>
                    </a:lnTo>
                    <a:lnTo>
                      <a:pt x="876" y="38"/>
                    </a:lnTo>
                    <a:lnTo>
                      <a:pt x="850" y="52"/>
                    </a:lnTo>
                    <a:lnTo>
                      <a:pt x="825" y="65"/>
                    </a:lnTo>
                    <a:lnTo>
                      <a:pt x="801" y="81"/>
                    </a:lnTo>
                    <a:lnTo>
                      <a:pt x="776" y="97"/>
                    </a:lnTo>
                    <a:close/>
                    <a:moveTo>
                      <a:pt x="1361" y="0"/>
                    </a:moveTo>
                    <a:lnTo>
                      <a:pt x="1503" y="0"/>
                    </a:lnTo>
                    <a:lnTo>
                      <a:pt x="1505" y="49"/>
                    </a:lnTo>
                    <a:lnTo>
                      <a:pt x="1487" y="42"/>
                    </a:lnTo>
                    <a:lnTo>
                      <a:pt x="1468" y="34"/>
                    </a:lnTo>
                    <a:lnTo>
                      <a:pt x="1451" y="27"/>
                    </a:lnTo>
                    <a:lnTo>
                      <a:pt x="1433" y="21"/>
                    </a:lnTo>
                    <a:lnTo>
                      <a:pt x="1414" y="15"/>
                    </a:lnTo>
                    <a:lnTo>
                      <a:pt x="1397" y="10"/>
                    </a:lnTo>
                    <a:lnTo>
                      <a:pt x="1379" y="4"/>
                    </a:lnTo>
                    <a:lnTo>
                      <a:pt x="1361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682880" y="103968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87" h="97">
                    <a:moveTo>
                      <a:pt x="1487" y="97"/>
                    </a:moveTo>
                    <a:lnTo>
                      <a:pt x="1485" y="97"/>
                    </a:lnTo>
                    <a:lnTo>
                      <a:pt x="1464" y="88"/>
                    </a:lnTo>
                    <a:lnTo>
                      <a:pt x="1443" y="81"/>
                    </a:lnTo>
                    <a:lnTo>
                      <a:pt x="1423" y="73"/>
                    </a:lnTo>
                    <a:lnTo>
                      <a:pt x="1402" y="66"/>
                    </a:lnTo>
                    <a:lnTo>
                      <a:pt x="1383" y="60"/>
                    </a:lnTo>
                    <a:lnTo>
                      <a:pt x="1362" y="54"/>
                    </a:lnTo>
                    <a:lnTo>
                      <a:pt x="1342" y="49"/>
                    </a:lnTo>
                    <a:lnTo>
                      <a:pt x="1323" y="44"/>
                    </a:lnTo>
                    <a:lnTo>
                      <a:pt x="1303" y="39"/>
                    </a:lnTo>
                    <a:lnTo>
                      <a:pt x="1282" y="37"/>
                    </a:lnTo>
                    <a:lnTo>
                      <a:pt x="1262" y="33"/>
                    </a:lnTo>
                    <a:lnTo>
                      <a:pt x="1243" y="30"/>
                    </a:lnTo>
                    <a:lnTo>
                      <a:pt x="1223" y="29"/>
                    </a:lnTo>
                    <a:lnTo>
                      <a:pt x="1203" y="27"/>
                    </a:lnTo>
                    <a:lnTo>
                      <a:pt x="1185" y="27"/>
                    </a:lnTo>
                    <a:lnTo>
                      <a:pt x="1165" y="26"/>
                    </a:lnTo>
                    <a:lnTo>
                      <a:pt x="1120" y="27"/>
                    </a:lnTo>
                    <a:lnTo>
                      <a:pt x="1075" y="30"/>
                    </a:lnTo>
                    <a:lnTo>
                      <a:pt x="1032" y="37"/>
                    </a:lnTo>
                    <a:lnTo>
                      <a:pt x="990" y="44"/>
                    </a:lnTo>
                    <a:lnTo>
                      <a:pt x="970" y="49"/>
                    </a:lnTo>
                    <a:lnTo>
                      <a:pt x="950" y="54"/>
                    </a:lnTo>
                    <a:lnTo>
                      <a:pt x="930" y="60"/>
                    </a:lnTo>
                    <a:lnTo>
                      <a:pt x="912" y="66"/>
                    </a:lnTo>
                    <a:lnTo>
                      <a:pt x="892" y="73"/>
                    </a:lnTo>
                    <a:lnTo>
                      <a:pt x="874" y="81"/>
                    </a:lnTo>
                    <a:lnTo>
                      <a:pt x="856" y="88"/>
                    </a:lnTo>
                    <a:lnTo>
                      <a:pt x="838" y="97"/>
                    </a:lnTo>
                    <a:lnTo>
                      <a:pt x="0" y="97"/>
                    </a:lnTo>
                    <a:lnTo>
                      <a:pt x="5" y="85"/>
                    </a:lnTo>
                    <a:lnTo>
                      <a:pt x="11" y="72"/>
                    </a:lnTo>
                    <a:lnTo>
                      <a:pt x="16" y="60"/>
                    </a:lnTo>
                    <a:lnTo>
                      <a:pt x="23" y="48"/>
                    </a:lnTo>
                    <a:lnTo>
                      <a:pt x="29" y="35"/>
                    </a:lnTo>
                    <a:lnTo>
                      <a:pt x="35" y="24"/>
                    </a:lnTo>
                    <a:lnTo>
                      <a:pt x="41" y="12"/>
                    </a:lnTo>
                    <a:lnTo>
                      <a:pt x="47" y="0"/>
                    </a:lnTo>
                    <a:lnTo>
                      <a:pt x="1482" y="0"/>
                    </a:lnTo>
                    <a:lnTo>
                      <a:pt x="1487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690800" y="1023840"/>
                <a:ext cx="462960" cy="31680"/>
              </a:xfrm>
              <a:custGeom>
                <a:avLst/>
                <a:gdLst/>
                <a:ahLst/>
                <a:rect l="l" t="t" r="r" b="b"/>
                <a:pathLst>
                  <a:path w="1462" h="99">
                    <a:moveTo>
                      <a:pt x="1462" y="99"/>
                    </a:moveTo>
                    <a:lnTo>
                      <a:pt x="1320" y="99"/>
                    </a:lnTo>
                    <a:lnTo>
                      <a:pt x="1317" y="98"/>
                    </a:lnTo>
                    <a:lnTo>
                      <a:pt x="1314" y="98"/>
                    </a:lnTo>
                    <a:lnTo>
                      <a:pt x="1312" y="96"/>
                    </a:lnTo>
                    <a:lnTo>
                      <a:pt x="1309" y="96"/>
                    </a:lnTo>
                    <a:lnTo>
                      <a:pt x="1307" y="95"/>
                    </a:lnTo>
                    <a:lnTo>
                      <a:pt x="1304" y="95"/>
                    </a:lnTo>
                    <a:lnTo>
                      <a:pt x="1302" y="94"/>
                    </a:lnTo>
                    <a:lnTo>
                      <a:pt x="1300" y="94"/>
                    </a:lnTo>
                    <a:lnTo>
                      <a:pt x="1280" y="89"/>
                    </a:lnTo>
                    <a:lnTo>
                      <a:pt x="1259" y="87"/>
                    </a:lnTo>
                    <a:lnTo>
                      <a:pt x="1239" y="83"/>
                    </a:lnTo>
                    <a:lnTo>
                      <a:pt x="1220" y="80"/>
                    </a:lnTo>
                    <a:lnTo>
                      <a:pt x="1200" y="79"/>
                    </a:lnTo>
                    <a:lnTo>
                      <a:pt x="1180" y="77"/>
                    </a:lnTo>
                    <a:lnTo>
                      <a:pt x="1162" y="77"/>
                    </a:lnTo>
                    <a:lnTo>
                      <a:pt x="1142" y="76"/>
                    </a:lnTo>
                    <a:lnTo>
                      <a:pt x="1116" y="77"/>
                    </a:lnTo>
                    <a:lnTo>
                      <a:pt x="1090" y="78"/>
                    </a:lnTo>
                    <a:lnTo>
                      <a:pt x="1066" y="79"/>
                    </a:lnTo>
                    <a:lnTo>
                      <a:pt x="1041" y="82"/>
                    </a:lnTo>
                    <a:lnTo>
                      <a:pt x="1017" y="85"/>
                    </a:lnTo>
                    <a:lnTo>
                      <a:pt x="993" y="89"/>
                    </a:lnTo>
                    <a:lnTo>
                      <a:pt x="970" y="93"/>
                    </a:lnTo>
                    <a:lnTo>
                      <a:pt x="948" y="99"/>
                    </a:lnTo>
                    <a:lnTo>
                      <a:pt x="0" y="99"/>
                    </a:lnTo>
                    <a:lnTo>
                      <a:pt x="6" y="87"/>
                    </a:lnTo>
                    <a:lnTo>
                      <a:pt x="12" y="73"/>
                    </a:lnTo>
                    <a:lnTo>
                      <a:pt x="18" y="61"/>
                    </a:lnTo>
                    <a:lnTo>
                      <a:pt x="24" y="50"/>
                    </a:lnTo>
                    <a:lnTo>
                      <a:pt x="31" y="37"/>
                    </a:lnTo>
                    <a:lnTo>
                      <a:pt x="38" y="25"/>
                    </a:lnTo>
                    <a:lnTo>
                      <a:pt x="45" y="13"/>
                    </a:lnTo>
                    <a:lnTo>
                      <a:pt x="52" y="0"/>
                    </a:lnTo>
                    <a:lnTo>
                      <a:pt x="1458" y="0"/>
                    </a:lnTo>
                    <a:lnTo>
                      <a:pt x="146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698720" y="1009440"/>
                <a:ext cx="455040" cy="30240"/>
              </a:xfrm>
              <a:custGeom>
                <a:avLst/>
                <a:gdLst/>
                <a:ahLst/>
                <a:rect l="l" t="t" r="r" b="b"/>
                <a:pathLst>
                  <a:path w="1435" h="97">
                    <a:moveTo>
                      <a:pt x="1435" y="97"/>
                    </a:moveTo>
                    <a:lnTo>
                      <a:pt x="0" y="97"/>
                    </a:lnTo>
                    <a:lnTo>
                      <a:pt x="7" y="84"/>
                    </a:lnTo>
                    <a:lnTo>
                      <a:pt x="14" y="72"/>
                    </a:lnTo>
                    <a:lnTo>
                      <a:pt x="21" y="60"/>
                    </a:lnTo>
                    <a:lnTo>
                      <a:pt x="28" y="47"/>
                    </a:lnTo>
                    <a:lnTo>
                      <a:pt x="36" y="35"/>
                    </a:lnTo>
                    <a:lnTo>
                      <a:pt x="43" y="23"/>
                    </a:lnTo>
                    <a:lnTo>
                      <a:pt x="52" y="11"/>
                    </a:lnTo>
                    <a:lnTo>
                      <a:pt x="59" y="0"/>
                    </a:lnTo>
                    <a:lnTo>
                      <a:pt x="1432" y="0"/>
                    </a:lnTo>
                    <a:lnTo>
                      <a:pt x="1435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706640" y="993600"/>
                <a:ext cx="445680" cy="30240"/>
              </a:xfrm>
              <a:custGeom>
                <a:avLst/>
                <a:gdLst/>
                <a:ahLst/>
                <a:rect l="l" t="t" r="r" b="b"/>
                <a:pathLst>
                  <a:path w="1406" h="97">
                    <a:moveTo>
                      <a:pt x="1406" y="97"/>
                    </a:moveTo>
                    <a:lnTo>
                      <a:pt x="0" y="97"/>
                    </a:lnTo>
                    <a:lnTo>
                      <a:pt x="8" y="85"/>
                    </a:lnTo>
                    <a:lnTo>
                      <a:pt x="15" y="73"/>
                    </a:lnTo>
                    <a:lnTo>
                      <a:pt x="24" y="61"/>
                    </a:lnTo>
                    <a:lnTo>
                      <a:pt x="31" y="48"/>
                    </a:lnTo>
                    <a:lnTo>
                      <a:pt x="40" y="36"/>
                    </a:lnTo>
                    <a:lnTo>
                      <a:pt x="48" y="25"/>
                    </a:lnTo>
                    <a:lnTo>
                      <a:pt x="57" y="13"/>
                    </a:lnTo>
                    <a:lnTo>
                      <a:pt x="66" y="0"/>
                    </a:lnTo>
                    <a:lnTo>
                      <a:pt x="1401" y="0"/>
                    </a:lnTo>
                    <a:lnTo>
                      <a:pt x="1406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716000" y="97776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9" y="85"/>
                    </a:lnTo>
                    <a:lnTo>
                      <a:pt x="17" y="73"/>
                    </a:lnTo>
                    <a:lnTo>
                      <a:pt x="26" y="61"/>
                    </a:lnTo>
                    <a:lnTo>
                      <a:pt x="36" y="48"/>
                    </a:lnTo>
                    <a:lnTo>
                      <a:pt x="44" y="36"/>
                    </a:lnTo>
                    <a:lnTo>
                      <a:pt x="54" y="24"/>
                    </a:lnTo>
                    <a:lnTo>
                      <a:pt x="64" y="11"/>
                    </a:lnTo>
                    <a:lnTo>
                      <a:pt x="74" y="0"/>
                    </a:lnTo>
                    <a:lnTo>
                      <a:pt x="1368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727160" y="961920"/>
                <a:ext cx="423720" cy="31680"/>
              </a:xfrm>
              <a:custGeom>
                <a:avLst/>
                <a:gdLst/>
                <a:ahLst/>
                <a:rect l="l" t="t" r="r" b="b"/>
                <a:pathLst>
                  <a:path w="1335" h="97">
                    <a:moveTo>
                      <a:pt x="1335" y="97"/>
                    </a:moveTo>
                    <a:lnTo>
                      <a:pt x="0" y="97"/>
                    </a:lnTo>
                    <a:lnTo>
                      <a:pt x="9" y="85"/>
                    </a:lnTo>
                    <a:lnTo>
                      <a:pt x="19" y="73"/>
                    </a:lnTo>
                    <a:lnTo>
                      <a:pt x="29" y="60"/>
                    </a:lnTo>
                    <a:lnTo>
                      <a:pt x="40" y="48"/>
                    </a:lnTo>
                    <a:lnTo>
                      <a:pt x="50" y="36"/>
                    </a:lnTo>
                    <a:lnTo>
                      <a:pt x="61" y="24"/>
                    </a:lnTo>
                    <a:lnTo>
                      <a:pt x="71" y="12"/>
                    </a:lnTo>
                    <a:lnTo>
                      <a:pt x="82" y="0"/>
                    </a:lnTo>
                    <a:lnTo>
                      <a:pt x="1330" y="0"/>
                    </a:lnTo>
                    <a:lnTo>
                      <a:pt x="133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739760" y="947520"/>
                <a:ext cx="411120" cy="30240"/>
              </a:xfrm>
              <a:custGeom>
                <a:avLst/>
                <a:gdLst/>
                <a:ahLst/>
                <a:rect l="l" t="t" r="r" b="b"/>
                <a:pathLst>
                  <a:path w="1294" h="98">
                    <a:moveTo>
                      <a:pt x="1294" y="98"/>
                    </a:moveTo>
                    <a:lnTo>
                      <a:pt x="0" y="98"/>
                    </a:lnTo>
                    <a:lnTo>
                      <a:pt x="10" y="86"/>
                    </a:lnTo>
                    <a:lnTo>
                      <a:pt x="20" y="75"/>
                    </a:lnTo>
                    <a:lnTo>
                      <a:pt x="29" y="64"/>
                    </a:lnTo>
                    <a:lnTo>
                      <a:pt x="39" y="53"/>
                    </a:lnTo>
                    <a:lnTo>
                      <a:pt x="50" y="42"/>
                    </a:lnTo>
                    <a:lnTo>
                      <a:pt x="60" y="31"/>
                    </a:lnTo>
                    <a:lnTo>
                      <a:pt x="71" y="20"/>
                    </a:lnTo>
                    <a:lnTo>
                      <a:pt x="82" y="9"/>
                    </a:lnTo>
                    <a:lnTo>
                      <a:pt x="84" y="9"/>
                    </a:lnTo>
                    <a:lnTo>
                      <a:pt x="85" y="7"/>
                    </a:lnTo>
                    <a:lnTo>
                      <a:pt x="86" y="6"/>
                    </a:lnTo>
                    <a:lnTo>
                      <a:pt x="86" y="5"/>
                    </a:lnTo>
                    <a:lnTo>
                      <a:pt x="87" y="4"/>
                    </a:lnTo>
                    <a:lnTo>
                      <a:pt x="88" y="2"/>
                    </a:lnTo>
                    <a:lnTo>
                      <a:pt x="90" y="1"/>
                    </a:lnTo>
                    <a:lnTo>
                      <a:pt x="91" y="0"/>
                    </a:lnTo>
                    <a:lnTo>
                      <a:pt x="1289" y="0"/>
                    </a:lnTo>
                    <a:lnTo>
                      <a:pt x="1294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160" y="931680"/>
                <a:ext cx="394920" cy="30240"/>
              </a:xfrm>
              <a:custGeom>
                <a:avLst/>
                <a:gdLst/>
                <a:ahLst/>
                <a:rect l="l" t="t" r="r" b="b"/>
                <a:pathLst>
                  <a:path w="1248" h="97">
                    <a:moveTo>
                      <a:pt x="1248" y="97"/>
                    </a:moveTo>
                    <a:lnTo>
                      <a:pt x="0" y="97"/>
                    </a:lnTo>
                    <a:lnTo>
                      <a:pt x="5" y="92"/>
                    </a:lnTo>
                    <a:lnTo>
                      <a:pt x="10" y="87"/>
                    </a:lnTo>
                    <a:lnTo>
                      <a:pt x="15" y="82"/>
                    </a:lnTo>
                    <a:lnTo>
                      <a:pt x="20" y="77"/>
                    </a:lnTo>
                    <a:lnTo>
                      <a:pt x="25" y="73"/>
                    </a:lnTo>
                    <a:lnTo>
                      <a:pt x="29" y="66"/>
                    </a:lnTo>
                    <a:lnTo>
                      <a:pt x="34" y="61"/>
                    </a:lnTo>
                    <a:lnTo>
                      <a:pt x="39" y="57"/>
                    </a:lnTo>
                    <a:lnTo>
                      <a:pt x="47" y="49"/>
                    </a:lnTo>
                    <a:lnTo>
                      <a:pt x="54" y="42"/>
                    </a:lnTo>
                    <a:lnTo>
                      <a:pt x="63" y="34"/>
                    </a:lnTo>
                    <a:lnTo>
                      <a:pt x="70" y="28"/>
                    </a:lnTo>
                    <a:lnTo>
                      <a:pt x="77" y="21"/>
                    </a:lnTo>
                    <a:lnTo>
                      <a:pt x="86" y="13"/>
                    </a:lnTo>
                    <a:lnTo>
                      <a:pt x="93" y="6"/>
                    </a:lnTo>
                    <a:lnTo>
                      <a:pt x="102" y="0"/>
                    </a:lnTo>
                    <a:lnTo>
                      <a:pt x="1243" y="0"/>
                    </a:lnTo>
                    <a:lnTo>
                      <a:pt x="1248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68560" y="915840"/>
                <a:ext cx="380520" cy="31680"/>
              </a:xfrm>
              <a:custGeom>
                <a:avLst/>
                <a:gdLst/>
                <a:ahLst/>
                <a:rect l="l" t="t" r="r" b="b"/>
                <a:pathLst>
                  <a:path w="1198" h="97">
                    <a:moveTo>
                      <a:pt x="1198" y="97"/>
                    </a:moveTo>
                    <a:lnTo>
                      <a:pt x="0" y="97"/>
                    </a:lnTo>
                    <a:lnTo>
                      <a:pt x="13" y="85"/>
                    </a:lnTo>
                    <a:lnTo>
                      <a:pt x="28" y="71"/>
                    </a:lnTo>
                    <a:lnTo>
                      <a:pt x="42" y="59"/>
                    </a:lnTo>
                    <a:lnTo>
                      <a:pt x="57" y="47"/>
                    </a:lnTo>
                    <a:lnTo>
                      <a:pt x="71" y="34"/>
                    </a:lnTo>
                    <a:lnTo>
                      <a:pt x="85" y="23"/>
                    </a:lnTo>
                    <a:lnTo>
                      <a:pt x="100" y="11"/>
                    </a:lnTo>
                    <a:lnTo>
                      <a:pt x="114" y="0"/>
                    </a:lnTo>
                    <a:lnTo>
                      <a:pt x="1194" y="0"/>
                    </a:lnTo>
                    <a:lnTo>
                      <a:pt x="1198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785840" y="9000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1141" y="98"/>
                    </a:moveTo>
                    <a:lnTo>
                      <a:pt x="0" y="98"/>
                    </a:lnTo>
                    <a:lnTo>
                      <a:pt x="16" y="84"/>
                    </a:lnTo>
                    <a:lnTo>
                      <a:pt x="32" y="71"/>
                    </a:lnTo>
                    <a:lnTo>
                      <a:pt x="48" y="59"/>
                    </a:lnTo>
                    <a:lnTo>
                      <a:pt x="64" y="46"/>
                    </a:lnTo>
                    <a:lnTo>
                      <a:pt x="80" y="34"/>
                    </a:lnTo>
                    <a:lnTo>
                      <a:pt x="97" y="23"/>
                    </a:lnTo>
                    <a:lnTo>
                      <a:pt x="114" y="11"/>
                    </a:lnTo>
                    <a:lnTo>
                      <a:pt x="130" y="0"/>
                    </a:lnTo>
                    <a:lnTo>
                      <a:pt x="1138" y="0"/>
                    </a:lnTo>
                    <a:lnTo>
                      <a:pt x="114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804920" y="885600"/>
                <a:ext cx="342720" cy="30240"/>
              </a:xfrm>
              <a:custGeom>
                <a:avLst/>
                <a:gdLst/>
                <a:ahLst/>
                <a:rect l="l" t="t" r="r" b="b"/>
                <a:pathLst>
                  <a:path w="1080" h="97">
                    <a:moveTo>
                      <a:pt x="1080" y="97"/>
                    </a:moveTo>
                    <a:lnTo>
                      <a:pt x="0" y="97"/>
                    </a:lnTo>
                    <a:lnTo>
                      <a:pt x="19" y="83"/>
                    </a:lnTo>
                    <a:lnTo>
                      <a:pt x="38" y="70"/>
                    </a:lnTo>
                    <a:lnTo>
                      <a:pt x="57" y="57"/>
                    </a:lnTo>
                    <a:lnTo>
                      <a:pt x="75" y="45"/>
                    </a:lnTo>
                    <a:lnTo>
                      <a:pt x="95" y="33"/>
                    </a:lnTo>
                    <a:lnTo>
                      <a:pt x="115" y="22"/>
                    </a:lnTo>
                    <a:lnTo>
                      <a:pt x="134" y="11"/>
                    </a:lnTo>
                    <a:lnTo>
                      <a:pt x="154" y="0"/>
                    </a:lnTo>
                    <a:lnTo>
                      <a:pt x="1075" y="0"/>
                    </a:lnTo>
                    <a:lnTo>
                      <a:pt x="108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827240" y="869760"/>
                <a:ext cx="320400" cy="30240"/>
              </a:xfrm>
              <a:custGeom>
                <a:avLst/>
                <a:gdLst/>
                <a:ahLst/>
                <a:rect l="l" t="t" r="r" b="b"/>
                <a:pathLst>
                  <a:path w="1008" h="98">
                    <a:moveTo>
                      <a:pt x="1008" y="98"/>
                    </a:moveTo>
                    <a:lnTo>
                      <a:pt x="0" y="98"/>
                    </a:lnTo>
                    <a:lnTo>
                      <a:pt x="24" y="84"/>
                    </a:lnTo>
                    <a:lnTo>
                      <a:pt x="46" y="71"/>
                    </a:lnTo>
                    <a:lnTo>
                      <a:pt x="69" y="57"/>
                    </a:lnTo>
                    <a:lnTo>
                      <a:pt x="93" y="45"/>
                    </a:lnTo>
                    <a:lnTo>
                      <a:pt x="116" y="34"/>
                    </a:lnTo>
                    <a:lnTo>
                      <a:pt x="139" y="21"/>
                    </a:lnTo>
                    <a:lnTo>
                      <a:pt x="164" y="11"/>
                    </a:lnTo>
                    <a:lnTo>
                      <a:pt x="189" y="0"/>
                    </a:lnTo>
                    <a:lnTo>
                      <a:pt x="1003" y="0"/>
                    </a:lnTo>
                    <a:lnTo>
                      <a:pt x="1008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854240" y="853920"/>
                <a:ext cx="291600" cy="31680"/>
              </a:xfrm>
              <a:custGeom>
                <a:avLst/>
                <a:gdLst/>
                <a:ahLst/>
                <a:rect l="l" t="t" r="r" b="b"/>
                <a:pathLst>
                  <a:path w="921" h="99">
                    <a:moveTo>
                      <a:pt x="921" y="99"/>
                    </a:moveTo>
                    <a:lnTo>
                      <a:pt x="0" y="99"/>
                    </a:lnTo>
                    <a:lnTo>
                      <a:pt x="30" y="84"/>
                    </a:lnTo>
                    <a:lnTo>
                      <a:pt x="59" y="69"/>
                    </a:lnTo>
                    <a:lnTo>
                      <a:pt x="90" y="56"/>
                    </a:lnTo>
                    <a:lnTo>
                      <a:pt x="121" y="43"/>
                    </a:lnTo>
                    <a:lnTo>
                      <a:pt x="151" y="31"/>
                    </a:lnTo>
                    <a:lnTo>
                      <a:pt x="183" y="20"/>
                    </a:lnTo>
                    <a:lnTo>
                      <a:pt x="215" y="10"/>
                    </a:lnTo>
                    <a:lnTo>
                      <a:pt x="247" y="0"/>
                    </a:lnTo>
                    <a:lnTo>
                      <a:pt x="916" y="0"/>
                    </a:lnTo>
                    <a:lnTo>
                      <a:pt x="92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887360" y="838080"/>
                <a:ext cx="258480" cy="31680"/>
              </a:xfrm>
              <a:custGeom>
                <a:avLst/>
                <a:gdLst/>
                <a:ahLst/>
                <a:rect l="l" t="t" r="r" b="b"/>
                <a:pathLst>
                  <a:path w="814" h="97">
                    <a:moveTo>
                      <a:pt x="814" y="97"/>
                    </a:moveTo>
                    <a:lnTo>
                      <a:pt x="0" y="97"/>
                    </a:lnTo>
                    <a:lnTo>
                      <a:pt x="29" y="86"/>
                    </a:lnTo>
                    <a:lnTo>
                      <a:pt x="60" y="75"/>
                    </a:lnTo>
                    <a:lnTo>
                      <a:pt x="91" y="64"/>
                    </a:lnTo>
                    <a:lnTo>
                      <a:pt x="121" y="54"/>
                    </a:lnTo>
                    <a:lnTo>
                      <a:pt x="153" y="46"/>
                    </a:lnTo>
                    <a:lnTo>
                      <a:pt x="185" y="38"/>
                    </a:lnTo>
                    <a:lnTo>
                      <a:pt x="217" y="31"/>
                    </a:lnTo>
                    <a:lnTo>
                      <a:pt x="251" y="25"/>
                    </a:lnTo>
                    <a:lnTo>
                      <a:pt x="284" y="19"/>
                    </a:lnTo>
                    <a:lnTo>
                      <a:pt x="317" y="14"/>
                    </a:lnTo>
                    <a:lnTo>
                      <a:pt x="351" y="10"/>
                    </a:lnTo>
                    <a:lnTo>
                      <a:pt x="386" y="6"/>
                    </a:lnTo>
                    <a:lnTo>
                      <a:pt x="420" y="4"/>
                    </a:lnTo>
                    <a:lnTo>
                      <a:pt x="456" y="1"/>
                    </a:lnTo>
                    <a:lnTo>
                      <a:pt x="492" y="0"/>
                    </a:lnTo>
                    <a:lnTo>
                      <a:pt x="528" y="0"/>
                    </a:lnTo>
                    <a:lnTo>
                      <a:pt x="544" y="0"/>
                    </a:lnTo>
                    <a:lnTo>
                      <a:pt x="560" y="0"/>
                    </a:lnTo>
                    <a:lnTo>
                      <a:pt x="578" y="1"/>
                    </a:lnTo>
                    <a:lnTo>
                      <a:pt x="594" y="3"/>
                    </a:lnTo>
                    <a:lnTo>
                      <a:pt x="611" y="3"/>
                    </a:lnTo>
                    <a:lnTo>
                      <a:pt x="628" y="5"/>
                    </a:lnTo>
                    <a:lnTo>
                      <a:pt x="645" y="6"/>
                    </a:lnTo>
                    <a:lnTo>
                      <a:pt x="664" y="9"/>
                    </a:lnTo>
                    <a:lnTo>
                      <a:pt x="681" y="10"/>
                    </a:lnTo>
                    <a:lnTo>
                      <a:pt x="699" y="13"/>
                    </a:lnTo>
                    <a:lnTo>
                      <a:pt x="717" y="15"/>
                    </a:lnTo>
                    <a:lnTo>
                      <a:pt x="735" y="19"/>
                    </a:lnTo>
                    <a:lnTo>
                      <a:pt x="755" y="22"/>
                    </a:lnTo>
                    <a:lnTo>
                      <a:pt x="773" y="26"/>
                    </a:lnTo>
                    <a:lnTo>
                      <a:pt x="792" y="30"/>
                    </a:lnTo>
                    <a:lnTo>
                      <a:pt x="811" y="35"/>
                    </a:lnTo>
                    <a:lnTo>
                      <a:pt x="814" y="9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932000" y="838080"/>
                <a:ext cx="212400" cy="15840"/>
              </a:xfrm>
              <a:custGeom>
                <a:avLst/>
                <a:gdLst/>
                <a:ahLst/>
                <a:rect l="l" t="t" r="r" b="b"/>
                <a:pathLst>
                  <a:path w="669" h="48">
                    <a:moveTo>
                      <a:pt x="669" y="48"/>
                    </a:moveTo>
                    <a:lnTo>
                      <a:pt x="0" y="48"/>
                    </a:lnTo>
                    <a:lnTo>
                      <a:pt x="46" y="37"/>
                    </a:lnTo>
                    <a:lnTo>
                      <a:pt x="93" y="27"/>
                    </a:lnTo>
                    <a:lnTo>
                      <a:pt x="139" y="19"/>
                    </a:lnTo>
                    <a:lnTo>
                      <a:pt x="187" y="13"/>
                    </a:lnTo>
                    <a:lnTo>
                      <a:pt x="235" y="6"/>
                    </a:lnTo>
                    <a:lnTo>
                      <a:pt x="284" y="3"/>
                    </a:lnTo>
                    <a:lnTo>
                      <a:pt x="335" y="0"/>
                    </a:lnTo>
                    <a:lnTo>
                      <a:pt x="386" y="0"/>
                    </a:lnTo>
                    <a:lnTo>
                      <a:pt x="402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52" y="3"/>
                    </a:lnTo>
                    <a:lnTo>
                      <a:pt x="469" y="3"/>
                    </a:lnTo>
                    <a:lnTo>
                      <a:pt x="486" y="5"/>
                    </a:lnTo>
                    <a:lnTo>
                      <a:pt x="503" y="6"/>
                    </a:lnTo>
                    <a:lnTo>
                      <a:pt x="522" y="9"/>
                    </a:lnTo>
                    <a:lnTo>
                      <a:pt x="539" y="10"/>
                    </a:lnTo>
                    <a:lnTo>
                      <a:pt x="557" y="13"/>
                    </a:lnTo>
                    <a:lnTo>
                      <a:pt x="575" y="15"/>
                    </a:lnTo>
                    <a:lnTo>
                      <a:pt x="593" y="19"/>
                    </a:lnTo>
                    <a:lnTo>
                      <a:pt x="613" y="22"/>
                    </a:lnTo>
                    <a:lnTo>
                      <a:pt x="631" y="26"/>
                    </a:lnTo>
                    <a:lnTo>
                      <a:pt x="650" y="30"/>
                    </a:lnTo>
                    <a:lnTo>
                      <a:pt x="669" y="35"/>
                    </a:lnTo>
                    <a:lnTo>
                      <a:pt x="669" y="4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270040" y="158112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0" y="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lnTo>
                      <a:pt x="0" y="57"/>
                    </a:lnTo>
                    <a:close/>
                    <a:moveTo>
                      <a:pt x="1123" y="0"/>
                    </a:moveTo>
                    <a:lnTo>
                      <a:pt x="1733" y="0"/>
                    </a:lnTo>
                    <a:lnTo>
                      <a:pt x="1733" y="57"/>
                    </a:lnTo>
                    <a:lnTo>
                      <a:pt x="1123" y="57"/>
                    </a:lnTo>
                    <a:lnTo>
                      <a:pt x="1123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270040" y="15667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270040" y="1550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70040" y="15350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70040" y="1519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270040" y="15048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270040" y="1488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270040" y="14731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270040" y="1457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270040" y="14428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270040" y="1427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270040" y="14112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270040" y="1395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270040" y="13809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270040" y="13651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270040" y="13492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270040" y="13334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70040" y="13190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70040" y="13032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18"/>
                    </a:lnTo>
                    <a:lnTo>
                      <a:pt x="610" y="18"/>
                    </a:lnTo>
                    <a:lnTo>
                      <a:pt x="610" y="97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70040" y="12873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68"/>
                    </a:lnTo>
                    <a:lnTo>
                      <a:pt x="610" y="68"/>
                    </a:lnTo>
                    <a:lnTo>
                      <a:pt x="610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270040" y="1272960"/>
                <a:ext cx="5490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270040" y="1257120"/>
                <a:ext cx="5490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270040" y="1241280"/>
                <a:ext cx="5490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270040" y="1225440"/>
                <a:ext cx="5490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270040" y="1209600"/>
                <a:ext cx="5490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270040" y="1195200"/>
                <a:ext cx="5490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270040" y="1179360"/>
                <a:ext cx="5490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270040" y="1163520"/>
                <a:ext cx="5490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270040" y="1147680"/>
                <a:ext cx="5490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270040" y="1133280"/>
                <a:ext cx="5490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270040" y="1117440"/>
                <a:ext cx="54900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270040" y="11016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6"/>
                    </a:lnTo>
                    <a:lnTo>
                      <a:pt x="1123" y="36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270040" y="1085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5"/>
                    </a:lnTo>
                    <a:lnTo>
                      <a:pt x="1123" y="8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270040" y="10713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270040" y="1055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270040" y="103968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270040" y="1023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270040" y="100944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270040" y="993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70040" y="97776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270040" y="961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270040" y="94752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270040" y="93168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270040" y="91584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270040" y="90000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270040" y="88560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7">
                    <a:moveTo>
                      <a:pt x="1733" y="97"/>
                    </a:moveTo>
                    <a:lnTo>
                      <a:pt x="1123" y="9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7"/>
                    </a:lnTo>
                    <a:close/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270040" y="869760"/>
                <a:ext cx="549000" cy="30240"/>
              </a:xfrm>
              <a:custGeom>
                <a:avLst/>
                <a:gdLst/>
                <a:ahLst/>
                <a:rect l="l" t="t" r="r" b="b"/>
                <a:pathLst>
                  <a:path w="1733" h="98">
                    <a:moveTo>
                      <a:pt x="1733" y="98"/>
                    </a:moveTo>
                    <a:lnTo>
                      <a:pt x="1123" y="9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8"/>
                    </a:lnTo>
                    <a:close/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270040" y="853920"/>
                <a:ext cx="549000" cy="31680"/>
              </a:xfrm>
              <a:custGeom>
                <a:avLst/>
                <a:gdLst/>
                <a:ahLst/>
                <a:rect l="l" t="t" r="r" b="b"/>
                <a:pathLst>
                  <a:path w="1733" h="99">
                    <a:moveTo>
                      <a:pt x="1733" y="99"/>
                    </a:moveTo>
                    <a:lnTo>
                      <a:pt x="1123" y="99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99"/>
                    </a:lnTo>
                    <a:close/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5270040" y="850680"/>
                <a:ext cx="549000" cy="19080"/>
              </a:xfrm>
              <a:custGeom>
                <a:avLst/>
                <a:gdLst/>
                <a:ahLst/>
                <a:rect l="l" t="t" r="r" b="b"/>
                <a:pathLst>
                  <a:path w="1733" h="57">
                    <a:moveTo>
                      <a:pt x="1733" y="57"/>
                    </a:moveTo>
                    <a:lnTo>
                      <a:pt x="1123" y="57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57"/>
                    </a:lnTo>
                    <a:close/>
                    <a:moveTo>
                      <a:pt x="610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5270040" y="85068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1733" h="8">
                    <a:moveTo>
                      <a:pt x="1733" y="8"/>
                    </a:moveTo>
                    <a:lnTo>
                      <a:pt x="1123" y="8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8"/>
                    </a:lnTo>
                    <a:close/>
                    <a:moveTo>
                      <a:pt x="61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947920" y="1581120"/>
                <a:ext cx="420480" cy="19080"/>
              </a:xfrm>
              <a:custGeom>
                <a:avLst/>
                <a:gdLst/>
                <a:ahLst/>
                <a:rect l="l" t="t" r="r" b="b"/>
                <a:pathLst>
                  <a:path w="1323" h="57">
                    <a:moveTo>
                      <a:pt x="0" y="57"/>
                    </a:moveTo>
                    <a:lnTo>
                      <a:pt x="0" y="0"/>
                    </a:lnTo>
                    <a:lnTo>
                      <a:pt x="1323" y="0"/>
                    </a:lnTo>
                    <a:lnTo>
                      <a:pt x="130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5947920" y="156672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1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11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5947920" y="1550880"/>
                <a:ext cx="428400" cy="30240"/>
              </a:xfrm>
              <a:custGeom>
                <a:avLst/>
                <a:gdLst/>
                <a:ahLst/>
                <a:rect l="l" t="t" r="r" b="b"/>
                <a:pathLst>
                  <a:path w="1348" h="97">
                    <a:moveTo>
                      <a:pt x="1323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8" y="0"/>
                    </a:lnTo>
                    <a:lnTo>
                      <a:pt x="1323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947920" y="1535040"/>
                <a:ext cx="431640" cy="31680"/>
              </a:xfrm>
              <a:custGeom>
                <a:avLst/>
                <a:gdLst/>
                <a:ahLst/>
                <a:rect l="l" t="t" r="r" b="b"/>
                <a:pathLst>
                  <a:path w="1360" h="99">
                    <a:moveTo>
                      <a:pt x="1336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60" y="0"/>
                    </a:lnTo>
                    <a:lnTo>
                      <a:pt x="1336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5947920" y="151920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3" h="98">
                    <a:moveTo>
                      <a:pt x="134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73" y="0"/>
                    </a:lnTo>
                    <a:lnTo>
                      <a:pt x="1348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5947920" y="1504800"/>
                <a:ext cx="439560" cy="30240"/>
              </a:xfrm>
              <a:custGeom>
                <a:avLst/>
                <a:gdLst/>
                <a:ahLst/>
                <a:rect l="l" t="t" r="r" b="b"/>
                <a:pathLst>
                  <a:path w="1385" h="97">
                    <a:moveTo>
                      <a:pt x="136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5" y="0"/>
                    </a:lnTo>
                    <a:lnTo>
                      <a:pt x="1360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5947920" y="1488960"/>
                <a:ext cx="442800" cy="30240"/>
              </a:xfrm>
              <a:custGeom>
                <a:avLst/>
                <a:gdLst/>
                <a:ahLst/>
                <a:rect l="l" t="t" r="r" b="b"/>
                <a:pathLst>
                  <a:path w="1397" h="98">
                    <a:moveTo>
                      <a:pt x="137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97" y="0"/>
                    </a:lnTo>
                    <a:lnTo>
                      <a:pt x="1373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5947920" y="1473120"/>
                <a:ext cx="447480" cy="31680"/>
              </a:xfrm>
              <a:custGeom>
                <a:avLst/>
                <a:gdLst/>
                <a:ahLst/>
                <a:rect l="l" t="t" r="r" b="b"/>
                <a:pathLst>
                  <a:path w="1410" h="97">
                    <a:moveTo>
                      <a:pt x="138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85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5947920" y="1457280"/>
                <a:ext cx="450720" cy="31680"/>
              </a:xfrm>
              <a:custGeom>
                <a:avLst/>
                <a:gdLst/>
                <a:ahLst/>
                <a:rect l="l" t="t" r="r" b="b"/>
                <a:pathLst>
                  <a:path w="1422" h="97">
                    <a:moveTo>
                      <a:pt x="1397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22" y="0"/>
                    </a:lnTo>
                    <a:lnTo>
                      <a:pt x="1397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947920" y="1442880"/>
                <a:ext cx="455400" cy="30240"/>
              </a:xfrm>
              <a:custGeom>
                <a:avLst/>
                <a:gdLst/>
                <a:ahLst/>
                <a:rect l="l" t="t" r="r" b="b"/>
                <a:pathLst>
                  <a:path w="1434" h="98">
                    <a:moveTo>
                      <a:pt x="14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34" y="0"/>
                    </a:lnTo>
                    <a:lnTo>
                      <a:pt x="1410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5947920" y="1427040"/>
                <a:ext cx="458640" cy="30240"/>
              </a:xfrm>
              <a:custGeom>
                <a:avLst/>
                <a:gdLst/>
                <a:ahLst/>
                <a:rect l="l" t="t" r="r" b="b"/>
                <a:pathLst>
                  <a:path w="1446" h="97">
                    <a:moveTo>
                      <a:pt x="142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446" y="0"/>
                    </a:lnTo>
                    <a:lnTo>
                      <a:pt x="1422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5947920" y="141120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59" h="98">
                    <a:moveTo>
                      <a:pt x="1434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59" y="0"/>
                    </a:lnTo>
                    <a:lnTo>
                      <a:pt x="1434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947920" y="1395360"/>
                <a:ext cx="466560" cy="31680"/>
              </a:xfrm>
              <a:custGeom>
                <a:avLst/>
                <a:gdLst/>
                <a:ahLst/>
                <a:rect l="l" t="t" r="r" b="b"/>
                <a:pathLst>
                  <a:path w="1471" h="98">
                    <a:moveTo>
                      <a:pt x="1446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471" y="0"/>
                    </a:lnTo>
                    <a:lnTo>
                      <a:pt x="1446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5947920" y="138096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7">
                    <a:moveTo>
                      <a:pt x="14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42"/>
                    </a:lnTo>
                    <a:lnTo>
                      <a:pt x="1474" y="42"/>
                    </a:lnTo>
                    <a:lnTo>
                      <a:pt x="1459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5947920" y="1365120"/>
                <a:ext cx="46800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1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91"/>
                    </a:lnTo>
                    <a:lnTo>
                      <a:pt x="1474" y="91"/>
                    </a:lnTo>
                    <a:lnTo>
                      <a:pt x="1471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947920" y="1349280"/>
                <a:ext cx="1933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5947920" y="1333440"/>
                <a:ext cx="1933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5947920" y="13190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8">
                    <a:moveTo>
                      <a:pt x="610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18"/>
                    </a:lnTo>
                    <a:lnTo>
                      <a:pt x="610" y="18"/>
                    </a:lnTo>
                    <a:lnTo>
                      <a:pt x="610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5947920" y="130320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141" y="0"/>
                    </a:lnTo>
                    <a:lnTo>
                      <a:pt x="1141" y="66"/>
                    </a:lnTo>
                    <a:lnTo>
                      <a:pt x="610" y="66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5947920" y="1287360"/>
                <a:ext cx="36180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5947920" y="1272960"/>
                <a:ext cx="36180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947920" y="1257120"/>
                <a:ext cx="36180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947920" y="1241280"/>
                <a:ext cx="36180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947920" y="1225440"/>
                <a:ext cx="36180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947920" y="1209600"/>
                <a:ext cx="36180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947920" y="1195200"/>
                <a:ext cx="36180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947920" y="1179360"/>
                <a:ext cx="36180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947920" y="1163520"/>
                <a:ext cx="36180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947920" y="1147680"/>
                <a:ext cx="36180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947920" y="1133280"/>
                <a:ext cx="36180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947920" y="1117440"/>
                <a:ext cx="361800" cy="3024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30"/>
                    </a:lnTo>
                    <a:lnTo>
                      <a:pt x="1141" y="30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47920" y="110160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1141" h="97">
                    <a:moveTo>
                      <a:pt x="114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610" y="0"/>
                    </a:lnTo>
                    <a:lnTo>
                      <a:pt x="610" y="78"/>
                    </a:lnTo>
                    <a:lnTo>
                      <a:pt x="1141" y="78"/>
                    </a:lnTo>
                    <a:lnTo>
                      <a:pt x="1141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947920" y="1085760"/>
                <a:ext cx="1933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947920" y="1071360"/>
                <a:ext cx="1933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947920" y="1055520"/>
                <a:ext cx="1933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947920" y="103968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7">
                    <a:moveTo>
                      <a:pt x="610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98" y="0"/>
                    </a:lnTo>
                    <a:lnTo>
                      <a:pt x="1405" y="33"/>
                    </a:lnTo>
                    <a:lnTo>
                      <a:pt x="610" y="33"/>
                    </a:lnTo>
                    <a:lnTo>
                      <a:pt x="610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947920" y="1023840"/>
                <a:ext cx="445680" cy="31680"/>
              </a:xfrm>
              <a:custGeom>
                <a:avLst/>
                <a:gdLst/>
                <a:ahLst/>
                <a:rect l="l" t="t" r="r" b="b"/>
                <a:pathLst>
                  <a:path w="1405" h="99">
                    <a:moveTo>
                      <a:pt x="61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91" y="0"/>
                    </a:lnTo>
                    <a:lnTo>
                      <a:pt x="1405" y="83"/>
                    </a:lnTo>
                    <a:lnTo>
                      <a:pt x="610" y="83"/>
                    </a:lnTo>
                    <a:lnTo>
                      <a:pt x="610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947920" y="1009440"/>
                <a:ext cx="444240" cy="30240"/>
              </a:xfrm>
              <a:custGeom>
                <a:avLst/>
                <a:gdLst/>
                <a:ahLst/>
                <a:rect l="l" t="t" r="r" b="b"/>
                <a:pathLst>
                  <a:path w="1398" h="97">
                    <a:moveTo>
                      <a:pt x="1398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82" y="0"/>
                    </a:lnTo>
                    <a:lnTo>
                      <a:pt x="1398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947920" y="993600"/>
                <a:ext cx="441000" cy="30240"/>
              </a:xfrm>
              <a:custGeom>
                <a:avLst/>
                <a:gdLst/>
                <a:ahLst/>
                <a:rect l="l" t="t" r="r" b="b"/>
                <a:pathLst>
                  <a:path w="1391" h="97">
                    <a:moveTo>
                      <a:pt x="1391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75" y="0"/>
                    </a:lnTo>
                    <a:lnTo>
                      <a:pt x="1391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947920" y="977760"/>
                <a:ext cx="437760" cy="31680"/>
              </a:xfrm>
              <a:custGeom>
                <a:avLst/>
                <a:gdLst/>
                <a:ahLst/>
                <a:rect l="l" t="t" r="r" b="b"/>
                <a:pathLst>
                  <a:path w="1382" h="98">
                    <a:moveTo>
                      <a:pt x="1382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68" y="0"/>
                    </a:lnTo>
                    <a:lnTo>
                      <a:pt x="1382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947920" y="961920"/>
                <a:ext cx="436320" cy="31680"/>
              </a:xfrm>
              <a:custGeom>
                <a:avLst/>
                <a:gdLst/>
                <a:ahLst/>
                <a:rect l="l" t="t" r="r" b="b"/>
                <a:pathLst>
                  <a:path w="1375" h="97">
                    <a:moveTo>
                      <a:pt x="1375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59" y="0"/>
                    </a:lnTo>
                    <a:lnTo>
                      <a:pt x="1375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947920" y="947520"/>
                <a:ext cx="434520" cy="30240"/>
              </a:xfrm>
              <a:custGeom>
                <a:avLst/>
                <a:gdLst/>
                <a:ahLst/>
                <a:rect l="l" t="t" r="r" b="b"/>
                <a:pathLst>
                  <a:path w="1368" h="98">
                    <a:moveTo>
                      <a:pt x="1368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52" y="0"/>
                    </a:lnTo>
                    <a:lnTo>
                      <a:pt x="1368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947920" y="931680"/>
                <a:ext cx="431640" cy="30240"/>
              </a:xfrm>
              <a:custGeom>
                <a:avLst/>
                <a:gdLst/>
                <a:ahLst/>
                <a:rect l="l" t="t" r="r" b="b"/>
                <a:pathLst>
                  <a:path w="1359" h="97">
                    <a:moveTo>
                      <a:pt x="1359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43" y="0"/>
                    </a:lnTo>
                    <a:lnTo>
                      <a:pt x="1359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47920" y="915840"/>
                <a:ext cx="428400" cy="31680"/>
              </a:xfrm>
              <a:custGeom>
                <a:avLst/>
                <a:gdLst/>
                <a:ahLst/>
                <a:rect l="l" t="t" r="r" b="b"/>
                <a:pathLst>
                  <a:path w="1352" h="97">
                    <a:moveTo>
                      <a:pt x="1352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36" y="0"/>
                    </a:lnTo>
                    <a:lnTo>
                      <a:pt x="1352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947920" y="900000"/>
                <a:ext cx="426600" cy="31680"/>
              </a:xfrm>
              <a:custGeom>
                <a:avLst/>
                <a:gdLst/>
                <a:ahLst/>
                <a:rect l="l" t="t" r="r" b="b"/>
                <a:pathLst>
                  <a:path w="1343" h="98">
                    <a:moveTo>
                      <a:pt x="1343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27" y="0"/>
                    </a:lnTo>
                    <a:lnTo>
                      <a:pt x="1343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947920" y="885600"/>
                <a:ext cx="423720" cy="30240"/>
              </a:xfrm>
              <a:custGeom>
                <a:avLst/>
                <a:gdLst/>
                <a:ahLst/>
                <a:rect l="l" t="t" r="r" b="b"/>
                <a:pathLst>
                  <a:path w="1336" h="97">
                    <a:moveTo>
                      <a:pt x="1336" y="97"/>
                    </a:moveTo>
                    <a:lnTo>
                      <a:pt x="0" y="97"/>
                    </a:lnTo>
                    <a:lnTo>
                      <a:pt x="0" y="0"/>
                    </a:lnTo>
                    <a:lnTo>
                      <a:pt x="1320" y="0"/>
                    </a:lnTo>
                    <a:lnTo>
                      <a:pt x="1336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947920" y="869760"/>
                <a:ext cx="420480" cy="30240"/>
              </a:xfrm>
              <a:custGeom>
                <a:avLst/>
                <a:gdLst/>
                <a:ahLst/>
                <a:rect l="l" t="t" r="r" b="b"/>
                <a:pathLst>
                  <a:path w="1327" h="98">
                    <a:moveTo>
                      <a:pt x="1327" y="98"/>
                    </a:moveTo>
                    <a:lnTo>
                      <a:pt x="0" y="98"/>
                    </a:lnTo>
                    <a:lnTo>
                      <a:pt x="0" y="0"/>
                    </a:lnTo>
                    <a:lnTo>
                      <a:pt x="1311" y="0"/>
                    </a:lnTo>
                    <a:lnTo>
                      <a:pt x="1327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947920" y="853920"/>
                <a:ext cx="418680" cy="31680"/>
              </a:xfrm>
              <a:custGeom>
                <a:avLst/>
                <a:gdLst/>
                <a:ahLst/>
                <a:rect l="l" t="t" r="r" b="b"/>
                <a:pathLst>
                  <a:path w="1320" h="99">
                    <a:moveTo>
                      <a:pt x="1320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1304" y="0"/>
                    </a:lnTo>
                    <a:lnTo>
                      <a:pt x="1320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947920" y="850680"/>
                <a:ext cx="415800" cy="19080"/>
              </a:xfrm>
              <a:custGeom>
                <a:avLst/>
                <a:gdLst/>
                <a:ahLst/>
                <a:rect l="l" t="t" r="r" b="b"/>
                <a:pathLst>
                  <a:path w="1311" h="57">
                    <a:moveTo>
                      <a:pt x="1311" y="57"/>
                    </a:moveTo>
                    <a:lnTo>
                      <a:pt x="0" y="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11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947920" y="850680"/>
                <a:ext cx="414000" cy="3240"/>
              </a:xfrm>
              <a:custGeom>
                <a:avLst/>
                <a:gdLst/>
                <a:ahLst/>
                <a:rect l="l" t="t" r="r" b="b"/>
                <a:pathLst>
                  <a:path w="1304" h="8">
                    <a:moveTo>
                      <a:pt x="130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304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435360" y="1581120"/>
                <a:ext cx="726840" cy="19080"/>
              </a:xfrm>
              <a:custGeom>
                <a:avLst/>
                <a:gdLst/>
                <a:ahLst/>
                <a:rect l="l" t="t" r="r" b="b"/>
                <a:pathLst>
                  <a:path w="2292" h="57">
                    <a:moveTo>
                      <a:pt x="19" y="0"/>
                    </a:moveTo>
                    <a:lnTo>
                      <a:pt x="654" y="0"/>
                    </a:lnTo>
                    <a:lnTo>
                      <a:pt x="636" y="57"/>
                    </a:lnTo>
                    <a:lnTo>
                      <a:pt x="0" y="57"/>
                    </a:lnTo>
                    <a:lnTo>
                      <a:pt x="19" y="0"/>
                    </a:lnTo>
                    <a:close/>
                    <a:moveTo>
                      <a:pt x="1626" y="0"/>
                    </a:moveTo>
                    <a:lnTo>
                      <a:pt x="2273" y="0"/>
                    </a:lnTo>
                    <a:lnTo>
                      <a:pt x="2292" y="57"/>
                    </a:lnTo>
                    <a:lnTo>
                      <a:pt x="1644" y="57"/>
                    </a:lnTo>
                    <a:lnTo>
                      <a:pt x="162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435360" y="1566720"/>
                <a:ext cx="726840" cy="30240"/>
              </a:xfrm>
              <a:custGeom>
                <a:avLst/>
                <a:gdLst/>
                <a:ahLst/>
                <a:rect l="l" t="t" r="r" b="b"/>
                <a:pathLst>
                  <a:path w="2287" h="97">
                    <a:moveTo>
                      <a:pt x="2287" y="97"/>
                    </a:moveTo>
                    <a:lnTo>
                      <a:pt x="1640" y="97"/>
                    </a:lnTo>
                    <a:lnTo>
                      <a:pt x="1609" y="0"/>
                    </a:lnTo>
                    <a:lnTo>
                      <a:pt x="2255" y="0"/>
                    </a:lnTo>
                    <a:lnTo>
                      <a:pt x="2287" y="97"/>
                    </a:lnTo>
                    <a:close/>
                    <a:moveTo>
                      <a:pt x="636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9" y="0"/>
                    </a:lnTo>
                    <a:lnTo>
                      <a:pt x="636" y="97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441840" y="1550880"/>
                <a:ext cx="713880" cy="30240"/>
              </a:xfrm>
              <a:custGeom>
                <a:avLst/>
                <a:gdLst/>
                <a:ahLst/>
                <a:rect l="l" t="t" r="r" b="b"/>
                <a:pathLst>
                  <a:path w="2254" h="97">
                    <a:moveTo>
                      <a:pt x="2254" y="97"/>
                    </a:moveTo>
                    <a:lnTo>
                      <a:pt x="1607" y="97"/>
                    </a:lnTo>
                    <a:lnTo>
                      <a:pt x="1576" y="0"/>
                    </a:lnTo>
                    <a:lnTo>
                      <a:pt x="2222" y="0"/>
                    </a:lnTo>
                    <a:lnTo>
                      <a:pt x="2254" y="97"/>
                    </a:lnTo>
                    <a:close/>
                    <a:moveTo>
                      <a:pt x="635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68" y="0"/>
                    </a:lnTo>
                    <a:lnTo>
                      <a:pt x="635" y="97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446520" y="1535040"/>
                <a:ext cx="704520" cy="31680"/>
              </a:xfrm>
              <a:custGeom>
                <a:avLst/>
                <a:gdLst/>
                <a:ahLst/>
                <a:rect l="l" t="t" r="r" b="b"/>
                <a:pathLst>
                  <a:path w="2220" h="99">
                    <a:moveTo>
                      <a:pt x="2220" y="99"/>
                    </a:moveTo>
                    <a:lnTo>
                      <a:pt x="1574" y="99"/>
                    </a:lnTo>
                    <a:lnTo>
                      <a:pt x="1542" y="0"/>
                    </a:lnTo>
                    <a:lnTo>
                      <a:pt x="2188" y="0"/>
                    </a:lnTo>
                    <a:lnTo>
                      <a:pt x="2220" y="99"/>
                    </a:lnTo>
                    <a:close/>
                    <a:moveTo>
                      <a:pt x="634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668" y="0"/>
                    </a:lnTo>
                    <a:lnTo>
                      <a:pt x="634" y="9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452640" y="1519200"/>
                <a:ext cx="693720" cy="31680"/>
              </a:xfrm>
              <a:custGeom>
                <a:avLst/>
                <a:gdLst/>
                <a:ahLst/>
                <a:rect l="l" t="t" r="r" b="b"/>
                <a:pathLst>
                  <a:path w="2187" h="98">
                    <a:moveTo>
                      <a:pt x="2187" y="98"/>
                    </a:moveTo>
                    <a:lnTo>
                      <a:pt x="1541" y="98"/>
                    </a:lnTo>
                    <a:lnTo>
                      <a:pt x="1509" y="0"/>
                    </a:lnTo>
                    <a:lnTo>
                      <a:pt x="2155" y="0"/>
                    </a:lnTo>
                    <a:lnTo>
                      <a:pt x="2187" y="98"/>
                    </a:lnTo>
                    <a:close/>
                    <a:moveTo>
                      <a:pt x="63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66" y="0"/>
                    </a:lnTo>
                    <a:lnTo>
                      <a:pt x="633" y="98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457680" y="1504800"/>
                <a:ext cx="683640" cy="30240"/>
              </a:xfrm>
              <a:custGeom>
                <a:avLst/>
                <a:gdLst/>
                <a:ahLst/>
                <a:rect l="l" t="t" r="r" b="b"/>
                <a:pathLst>
                  <a:path w="2155" h="97">
                    <a:moveTo>
                      <a:pt x="2155" y="97"/>
                    </a:moveTo>
                    <a:lnTo>
                      <a:pt x="1509" y="97"/>
                    </a:lnTo>
                    <a:lnTo>
                      <a:pt x="1489" y="37"/>
                    </a:lnTo>
                    <a:lnTo>
                      <a:pt x="655" y="37"/>
                    </a:lnTo>
                    <a:lnTo>
                      <a:pt x="635" y="97"/>
                    </a:lnTo>
                    <a:lnTo>
                      <a:pt x="0" y="97"/>
                    </a:lnTo>
                    <a:lnTo>
                      <a:pt x="34" y="0"/>
                    </a:lnTo>
                    <a:lnTo>
                      <a:pt x="2123" y="0"/>
                    </a:lnTo>
                    <a:lnTo>
                      <a:pt x="2155" y="97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462360" y="1488960"/>
                <a:ext cx="674280" cy="30240"/>
              </a:xfrm>
              <a:custGeom>
                <a:avLst/>
                <a:gdLst/>
                <a:ahLst/>
                <a:rect l="l" t="t" r="r" b="b"/>
                <a:pathLst>
                  <a:path w="2122" h="98">
                    <a:moveTo>
                      <a:pt x="2122" y="98"/>
                    </a:moveTo>
                    <a:lnTo>
                      <a:pt x="1476" y="98"/>
                    </a:lnTo>
                    <a:lnTo>
                      <a:pt x="1472" y="86"/>
                    </a:lnTo>
                    <a:lnTo>
                      <a:pt x="638" y="86"/>
                    </a:lnTo>
                    <a:lnTo>
                      <a:pt x="633" y="98"/>
                    </a:lnTo>
                    <a:lnTo>
                      <a:pt x="0" y="98"/>
                    </a:lnTo>
                    <a:lnTo>
                      <a:pt x="35" y="0"/>
                    </a:lnTo>
                    <a:lnTo>
                      <a:pt x="2090" y="0"/>
                    </a:lnTo>
                    <a:lnTo>
                      <a:pt x="2122" y="98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468840" y="1473120"/>
                <a:ext cx="661320" cy="31680"/>
              </a:xfrm>
              <a:custGeom>
                <a:avLst/>
                <a:gdLst/>
                <a:ahLst/>
                <a:rect l="l" t="t" r="r" b="b"/>
                <a:pathLst>
                  <a:path w="2089" h="97">
                    <a:moveTo>
                      <a:pt x="2089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2057" y="0"/>
                    </a:lnTo>
                    <a:lnTo>
                      <a:pt x="2089" y="97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473520" y="1457280"/>
                <a:ext cx="651960" cy="31680"/>
              </a:xfrm>
              <a:custGeom>
                <a:avLst/>
                <a:gdLst/>
                <a:ahLst/>
                <a:rect l="l" t="t" r="r" b="b"/>
                <a:pathLst>
                  <a:path w="2055" h="97">
                    <a:moveTo>
                      <a:pt x="205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2022" y="0"/>
                    </a:lnTo>
                    <a:lnTo>
                      <a:pt x="2055" y="97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479640" y="1442880"/>
                <a:ext cx="641160" cy="30240"/>
              </a:xfrm>
              <a:custGeom>
                <a:avLst/>
                <a:gdLst/>
                <a:ahLst/>
                <a:rect l="l" t="t" r="r" b="b"/>
                <a:pathLst>
                  <a:path w="2022" h="98">
                    <a:moveTo>
                      <a:pt x="2022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989" y="0"/>
                    </a:lnTo>
                    <a:lnTo>
                      <a:pt x="2022" y="98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484680" y="1427040"/>
                <a:ext cx="631440" cy="30240"/>
              </a:xfrm>
              <a:custGeom>
                <a:avLst/>
                <a:gdLst/>
                <a:ahLst/>
                <a:rect l="l" t="t" r="r" b="b"/>
                <a:pathLst>
                  <a:path w="1988" h="97">
                    <a:moveTo>
                      <a:pt x="1988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1956" y="0"/>
                    </a:lnTo>
                    <a:lnTo>
                      <a:pt x="1988" y="97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489360" y="1411200"/>
                <a:ext cx="620280" cy="31680"/>
              </a:xfrm>
              <a:custGeom>
                <a:avLst/>
                <a:gdLst/>
                <a:ahLst/>
                <a:rect l="l" t="t" r="r" b="b"/>
                <a:pathLst>
                  <a:path w="1955" h="98">
                    <a:moveTo>
                      <a:pt x="1955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1923" y="0"/>
                    </a:lnTo>
                    <a:lnTo>
                      <a:pt x="1955" y="98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495840" y="1395360"/>
                <a:ext cx="609120" cy="31680"/>
              </a:xfrm>
              <a:custGeom>
                <a:avLst/>
                <a:gdLst/>
                <a:ahLst/>
                <a:rect l="l" t="t" r="r" b="b"/>
                <a:pathLst>
                  <a:path w="1923" h="98">
                    <a:moveTo>
                      <a:pt x="1923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1891" y="0"/>
                    </a:lnTo>
                    <a:lnTo>
                      <a:pt x="1923" y="98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500520" y="1380960"/>
                <a:ext cx="599760" cy="30240"/>
              </a:xfrm>
              <a:custGeom>
                <a:avLst/>
                <a:gdLst/>
                <a:ahLst/>
                <a:rect l="l" t="t" r="r" b="b"/>
                <a:pathLst>
                  <a:path w="1890" h="97">
                    <a:moveTo>
                      <a:pt x="189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858" y="0"/>
                    </a:lnTo>
                    <a:lnTo>
                      <a:pt x="1890" y="97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6506640" y="1365120"/>
                <a:ext cx="588600" cy="30240"/>
              </a:xfrm>
              <a:custGeom>
                <a:avLst/>
                <a:gdLst/>
                <a:ahLst/>
                <a:rect l="l" t="t" r="r" b="b"/>
                <a:pathLst>
                  <a:path w="1856" h="98">
                    <a:moveTo>
                      <a:pt x="185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1824" y="0"/>
                    </a:lnTo>
                    <a:lnTo>
                      <a:pt x="1856" y="98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511680" y="1349280"/>
                <a:ext cx="578880" cy="31680"/>
              </a:xfrm>
              <a:custGeom>
                <a:avLst/>
                <a:gdLst/>
                <a:ahLst/>
                <a:rect l="l" t="t" r="r" b="b"/>
                <a:pathLst>
                  <a:path w="1823" h="97">
                    <a:moveTo>
                      <a:pt x="182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91" y="0"/>
                    </a:lnTo>
                    <a:lnTo>
                      <a:pt x="1823" y="97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516360" y="1333440"/>
                <a:ext cx="568080" cy="31680"/>
              </a:xfrm>
              <a:custGeom>
                <a:avLst/>
                <a:gdLst/>
                <a:ahLst/>
                <a:rect l="l" t="t" r="r" b="b"/>
                <a:pathLst>
                  <a:path w="1790" h="97">
                    <a:moveTo>
                      <a:pt x="1790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758" y="0"/>
                    </a:lnTo>
                    <a:lnTo>
                      <a:pt x="1790" y="97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522840" y="1319040"/>
                <a:ext cx="556560" cy="30240"/>
              </a:xfrm>
              <a:custGeom>
                <a:avLst/>
                <a:gdLst/>
                <a:ahLst/>
                <a:rect l="l" t="t" r="r" b="b"/>
                <a:pathLst>
                  <a:path w="1757" h="98">
                    <a:moveTo>
                      <a:pt x="1757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31" y="0"/>
                    </a:lnTo>
                    <a:lnTo>
                      <a:pt x="621" y="33"/>
                    </a:lnTo>
                    <a:lnTo>
                      <a:pt x="1106" y="33"/>
                    </a:lnTo>
                    <a:lnTo>
                      <a:pt x="1096" y="0"/>
                    </a:lnTo>
                    <a:lnTo>
                      <a:pt x="1723" y="0"/>
                    </a:lnTo>
                    <a:lnTo>
                      <a:pt x="1757" y="98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527520" y="1303200"/>
                <a:ext cx="547200" cy="30240"/>
              </a:xfrm>
              <a:custGeom>
                <a:avLst/>
                <a:gdLst/>
                <a:ahLst/>
                <a:rect l="l" t="t" r="r" b="b"/>
                <a:pathLst>
                  <a:path w="1724" h="97">
                    <a:moveTo>
                      <a:pt x="172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9" y="0"/>
                    </a:lnTo>
                    <a:lnTo>
                      <a:pt x="604" y="81"/>
                    </a:lnTo>
                    <a:lnTo>
                      <a:pt x="1089" y="81"/>
                    </a:lnTo>
                    <a:lnTo>
                      <a:pt x="1064" y="0"/>
                    </a:lnTo>
                    <a:lnTo>
                      <a:pt x="1690" y="0"/>
                    </a:lnTo>
                    <a:lnTo>
                      <a:pt x="1724" y="97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533640" y="1287360"/>
                <a:ext cx="534600" cy="31680"/>
              </a:xfrm>
              <a:custGeom>
                <a:avLst/>
                <a:gdLst/>
                <a:ahLst/>
                <a:rect l="l" t="t" r="r" b="b"/>
                <a:pathLst>
                  <a:path w="1688" h="98">
                    <a:moveTo>
                      <a:pt x="1688" y="98"/>
                    </a:moveTo>
                    <a:lnTo>
                      <a:pt x="1061" y="98"/>
                    </a:lnTo>
                    <a:lnTo>
                      <a:pt x="1030" y="0"/>
                    </a:lnTo>
                    <a:lnTo>
                      <a:pt x="1656" y="0"/>
                    </a:lnTo>
                    <a:lnTo>
                      <a:pt x="1688" y="98"/>
                    </a:lnTo>
                    <a:close/>
                    <a:moveTo>
                      <a:pt x="596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26" y="0"/>
                    </a:lnTo>
                    <a:lnTo>
                      <a:pt x="596" y="98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538680" y="1272960"/>
                <a:ext cx="524880" cy="30240"/>
              </a:xfrm>
              <a:custGeom>
                <a:avLst/>
                <a:gdLst/>
                <a:ahLst/>
                <a:rect l="l" t="t" r="r" b="b"/>
                <a:pathLst>
                  <a:path w="1656" h="97">
                    <a:moveTo>
                      <a:pt x="1656" y="97"/>
                    </a:moveTo>
                    <a:lnTo>
                      <a:pt x="1030" y="97"/>
                    </a:lnTo>
                    <a:lnTo>
                      <a:pt x="1000" y="0"/>
                    </a:lnTo>
                    <a:lnTo>
                      <a:pt x="1624" y="0"/>
                    </a:lnTo>
                    <a:lnTo>
                      <a:pt x="1656" y="97"/>
                    </a:lnTo>
                    <a:close/>
                    <a:moveTo>
                      <a:pt x="59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4" y="0"/>
                    </a:lnTo>
                    <a:lnTo>
                      <a:pt x="595" y="97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543360" y="1257120"/>
                <a:ext cx="515520" cy="30240"/>
              </a:xfrm>
              <a:custGeom>
                <a:avLst/>
                <a:gdLst/>
                <a:ahLst/>
                <a:rect l="l" t="t" r="r" b="b"/>
                <a:pathLst>
                  <a:path w="1623" h="97">
                    <a:moveTo>
                      <a:pt x="1623" y="97"/>
                    </a:moveTo>
                    <a:lnTo>
                      <a:pt x="997" y="97"/>
                    </a:lnTo>
                    <a:lnTo>
                      <a:pt x="968" y="0"/>
                    </a:lnTo>
                    <a:lnTo>
                      <a:pt x="1591" y="0"/>
                    </a:lnTo>
                    <a:lnTo>
                      <a:pt x="1623" y="97"/>
                    </a:lnTo>
                    <a:close/>
                    <a:moveTo>
                      <a:pt x="5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22" y="0"/>
                    </a:lnTo>
                    <a:lnTo>
                      <a:pt x="593" y="97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549480" y="1241280"/>
                <a:ext cx="504720" cy="31680"/>
              </a:xfrm>
              <a:custGeom>
                <a:avLst/>
                <a:gdLst/>
                <a:ahLst/>
                <a:rect l="l" t="t" r="r" b="b"/>
                <a:pathLst>
                  <a:path w="1590" h="99">
                    <a:moveTo>
                      <a:pt x="1590" y="99"/>
                    </a:moveTo>
                    <a:lnTo>
                      <a:pt x="966" y="99"/>
                    </a:lnTo>
                    <a:lnTo>
                      <a:pt x="936" y="0"/>
                    </a:lnTo>
                    <a:lnTo>
                      <a:pt x="1558" y="0"/>
                    </a:lnTo>
                    <a:lnTo>
                      <a:pt x="1590" y="99"/>
                    </a:lnTo>
                    <a:close/>
                    <a:moveTo>
                      <a:pt x="590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20" y="0"/>
                    </a:lnTo>
                    <a:lnTo>
                      <a:pt x="590" y="99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554520" y="1225440"/>
                <a:ext cx="495000" cy="31680"/>
              </a:xfrm>
              <a:custGeom>
                <a:avLst/>
                <a:gdLst/>
                <a:ahLst/>
                <a:rect l="l" t="t" r="r" b="b"/>
                <a:pathLst>
                  <a:path w="1557" h="97">
                    <a:moveTo>
                      <a:pt x="1557" y="97"/>
                    </a:moveTo>
                    <a:lnTo>
                      <a:pt x="934" y="97"/>
                    </a:lnTo>
                    <a:lnTo>
                      <a:pt x="904" y="0"/>
                    </a:lnTo>
                    <a:lnTo>
                      <a:pt x="1525" y="0"/>
                    </a:lnTo>
                    <a:lnTo>
                      <a:pt x="1557" y="97"/>
                    </a:lnTo>
                    <a:close/>
                    <a:moveTo>
                      <a:pt x="58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618" y="0"/>
                    </a:lnTo>
                    <a:lnTo>
                      <a:pt x="588" y="97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560640" y="1209600"/>
                <a:ext cx="482400" cy="31680"/>
              </a:xfrm>
              <a:custGeom>
                <a:avLst/>
                <a:gdLst/>
                <a:ahLst/>
                <a:rect l="l" t="t" r="r" b="b"/>
                <a:pathLst>
                  <a:path w="1523" h="97">
                    <a:moveTo>
                      <a:pt x="1523" y="97"/>
                    </a:moveTo>
                    <a:lnTo>
                      <a:pt x="901" y="97"/>
                    </a:lnTo>
                    <a:lnTo>
                      <a:pt x="872" y="0"/>
                    </a:lnTo>
                    <a:lnTo>
                      <a:pt x="1491" y="0"/>
                    </a:lnTo>
                    <a:lnTo>
                      <a:pt x="1523" y="97"/>
                    </a:lnTo>
                    <a:close/>
                    <a:moveTo>
                      <a:pt x="585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15" y="0"/>
                    </a:lnTo>
                    <a:lnTo>
                      <a:pt x="585" y="97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565680" y="1195200"/>
                <a:ext cx="472680" cy="30240"/>
              </a:xfrm>
              <a:custGeom>
                <a:avLst/>
                <a:gdLst/>
                <a:ahLst/>
                <a:rect l="l" t="t" r="r" b="b"/>
                <a:pathLst>
                  <a:path w="1490" h="98">
                    <a:moveTo>
                      <a:pt x="1490" y="98"/>
                    </a:moveTo>
                    <a:lnTo>
                      <a:pt x="869" y="98"/>
                    </a:lnTo>
                    <a:lnTo>
                      <a:pt x="840" y="0"/>
                    </a:lnTo>
                    <a:lnTo>
                      <a:pt x="1458" y="0"/>
                    </a:lnTo>
                    <a:lnTo>
                      <a:pt x="1490" y="98"/>
                    </a:lnTo>
                    <a:close/>
                    <a:moveTo>
                      <a:pt x="583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612" y="0"/>
                    </a:lnTo>
                    <a:lnTo>
                      <a:pt x="583" y="98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571800" y="1179360"/>
                <a:ext cx="461520" cy="30240"/>
              </a:xfrm>
              <a:custGeom>
                <a:avLst/>
                <a:gdLst/>
                <a:ahLst/>
                <a:rect l="l" t="t" r="r" b="b"/>
                <a:pathLst>
                  <a:path w="1457" h="97">
                    <a:moveTo>
                      <a:pt x="1457" y="97"/>
                    </a:moveTo>
                    <a:lnTo>
                      <a:pt x="838" y="97"/>
                    </a:lnTo>
                    <a:lnTo>
                      <a:pt x="808" y="0"/>
                    </a:lnTo>
                    <a:lnTo>
                      <a:pt x="1425" y="0"/>
                    </a:lnTo>
                    <a:lnTo>
                      <a:pt x="1457" y="97"/>
                    </a:lnTo>
                    <a:close/>
                    <a:moveTo>
                      <a:pt x="581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610" y="0"/>
                    </a:lnTo>
                    <a:lnTo>
                      <a:pt x="581" y="97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576480" y="1163520"/>
                <a:ext cx="452160" cy="31680"/>
              </a:xfrm>
              <a:custGeom>
                <a:avLst/>
                <a:gdLst/>
                <a:ahLst/>
                <a:rect l="l" t="t" r="r" b="b"/>
                <a:pathLst>
                  <a:path w="1425" h="97">
                    <a:moveTo>
                      <a:pt x="1425" y="97"/>
                    </a:moveTo>
                    <a:lnTo>
                      <a:pt x="807" y="97"/>
                    </a:lnTo>
                    <a:lnTo>
                      <a:pt x="776" y="0"/>
                    </a:lnTo>
                    <a:lnTo>
                      <a:pt x="1392" y="0"/>
                    </a:lnTo>
                    <a:lnTo>
                      <a:pt x="1425" y="97"/>
                    </a:lnTo>
                    <a:close/>
                    <a:moveTo>
                      <a:pt x="57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9" y="0"/>
                    </a:lnTo>
                    <a:lnTo>
                      <a:pt x="579" y="97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581520" y="1147680"/>
                <a:ext cx="442440" cy="31680"/>
              </a:xfrm>
              <a:custGeom>
                <a:avLst/>
                <a:gdLst/>
                <a:ahLst/>
                <a:rect l="l" t="t" r="r" b="b"/>
                <a:pathLst>
                  <a:path w="1392" h="99">
                    <a:moveTo>
                      <a:pt x="1392" y="99"/>
                    </a:moveTo>
                    <a:lnTo>
                      <a:pt x="775" y="99"/>
                    </a:lnTo>
                    <a:lnTo>
                      <a:pt x="744" y="0"/>
                    </a:lnTo>
                    <a:lnTo>
                      <a:pt x="1359" y="0"/>
                    </a:lnTo>
                    <a:lnTo>
                      <a:pt x="1392" y="99"/>
                    </a:lnTo>
                    <a:close/>
                    <a:moveTo>
                      <a:pt x="577" y="99"/>
                    </a:moveTo>
                    <a:lnTo>
                      <a:pt x="0" y="99"/>
                    </a:lnTo>
                    <a:lnTo>
                      <a:pt x="35" y="0"/>
                    </a:lnTo>
                    <a:lnTo>
                      <a:pt x="607" y="0"/>
                    </a:lnTo>
                    <a:lnTo>
                      <a:pt x="577" y="99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587640" y="1133280"/>
                <a:ext cx="429840" cy="30240"/>
              </a:xfrm>
              <a:custGeom>
                <a:avLst/>
                <a:gdLst/>
                <a:ahLst/>
                <a:rect l="l" t="t" r="r" b="b"/>
                <a:pathLst>
                  <a:path w="1358" h="98">
                    <a:moveTo>
                      <a:pt x="1358" y="98"/>
                    </a:moveTo>
                    <a:lnTo>
                      <a:pt x="742" y="98"/>
                    </a:lnTo>
                    <a:lnTo>
                      <a:pt x="713" y="0"/>
                    </a:lnTo>
                    <a:lnTo>
                      <a:pt x="1326" y="0"/>
                    </a:lnTo>
                    <a:lnTo>
                      <a:pt x="1358" y="98"/>
                    </a:lnTo>
                    <a:close/>
                    <a:moveTo>
                      <a:pt x="575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604" y="0"/>
                    </a:lnTo>
                    <a:lnTo>
                      <a:pt x="575" y="98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592680" y="1117440"/>
                <a:ext cx="420120" cy="30240"/>
              </a:xfrm>
              <a:custGeom>
                <a:avLst/>
                <a:gdLst/>
                <a:ahLst/>
                <a:rect l="l" t="t" r="r" b="b"/>
                <a:pathLst>
                  <a:path w="1324" h="97">
                    <a:moveTo>
                      <a:pt x="1324" y="97"/>
                    </a:moveTo>
                    <a:lnTo>
                      <a:pt x="709" y="97"/>
                    </a:lnTo>
                    <a:lnTo>
                      <a:pt x="680" y="0"/>
                    </a:lnTo>
                    <a:lnTo>
                      <a:pt x="1292" y="0"/>
                    </a:lnTo>
                    <a:lnTo>
                      <a:pt x="1324" y="97"/>
                    </a:lnTo>
                    <a:close/>
                    <a:moveTo>
                      <a:pt x="572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601" y="0"/>
                    </a:lnTo>
                    <a:lnTo>
                      <a:pt x="572" y="97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598800" y="1101600"/>
                <a:ext cx="409320" cy="31680"/>
              </a:xfrm>
              <a:custGeom>
                <a:avLst/>
                <a:gdLst/>
                <a:ahLst/>
                <a:rect l="l" t="t" r="r" b="b"/>
                <a:pathLst>
                  <a:path w="1291" h="97">
                    <a:moveTo>
                      <a:pt x="1291" y="97"/>
                    </a:moveTo>
                    <a:lnTo>
                      <a:pt x="678" y="97"/>
                    </a:lnTo>
                    <a:lnTo>
                      <a:pt x="648" y="0"/>
                    </a:lnTo>
                    <a:lnTo>
                      <a:pt x="1259" y="0"/>
                    </a:lnTo>
                    <a:lnTo>
                      <a:pt x="1291" y="97"/>
                    </a:lnTo>
                    <a:close/>
                    <a:moveTo>
                      <a:pt x="56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599" y="0"/>
                    </a:lnTo>
                    <a:lnTo>
                      <a:pt x="569" y="97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03480" y="1085760"/>
                <a:ext cx="399960" cy="31680"/>
              </a:xfrm>
              <a:custGeom>
                <a:avLst/>
                <a:gdLst/>
                <a:ahLst/>
                <a:rect l="l" t="t" r="r" b="b"/>
                <a:pathLst>
                  <a:path w="1258" h="97">
                    <a:moveTo>
                      <a:pt x="1258" y="97"/>
                    </a:moveTo>
                    <a:lnTo>
                      <a:pt x="646" y="97"/>
                    </a:lnTo>
                    <a:lnTo>
                      <a:pt x="616" y="0"/>
                    </a:lnTo>
                    <a:lnTo>
                      <a:pt x="1226" y="0"/>
                    </a:lnTo>
                    <a:lnTo>
                      <a:pt x="1258" y="97"/>
                    </a:lnTo>
                    <a:close/>
                    <a:moveTo>
                      <a:pt x="567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597" y="0"/>
                    </a:lnTo>
                    <a:lnTo>
                      <a:pt x="567" y="97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608520" y="1071360"/>
                <a:ext cx="388440" cy="30240"/>
              </a:xfrm>
              <a:custGeom>
                <a:avLst/>
                <a:gdLst/>
                <a:ahLst/>
                <a:rect l="l" t="t" r="r" b="b"/>
                <a:pathLst>
                  <a:path w="1225" h="98">
                    <a:moveTo>
                      <a:pt x="1225" y="98"/>
                    </a:moveTo>
                    <a:lnTo>
                      <a:pt x="614" y="98"/>
                    </a:lnTo>
                    <a:lnTo>
                      <a:pt x="589" y="17"/>
                    </a:lnTo>
                    <a:lnTo>
                      <a:pt x="565" y="98"/>
                    </a:lnTo>
                    <a:lnTo>
                      <a:pt x="0" y="98"/>
                    </a:lnTo>
                    <a:lnTo>
                      <a:pt x="34" y="0"/>
                    </a:lnTo>
                    <a:lnTo>
                      <a:pt x="1193" y="0"/>
                    </a:lnTo>
                    <a:lnTo>
                      <a:pt x="1225" y="98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614640" y="1055520"/>
                <a:ext cx="377640" cy="30240"/>
              </a:xfrm>
              <a:custGeom>
                <a:avLst/>
                <a:gdLst/>
                <a:ahLst/>
                <a:rect l="l" t="t" r="r" b="b"/>
                <a:pathLst>
                  <a:path w="1193" h="97">
                    <a:moveTo>
                      <a:pt x="1193" y="97"/>
                    </a:moveTo>
                    <a:lnTo>
                      <a:pt x="583" y="97"/>
                    </a:lnTo>
                    <a:lnTo>
                      <a:pt x="573" y="65"/>
                    </a:lnTo>
                    <a:lnTo>
                      <a:pt x="564" y="97"/>
                    </a:lnTo>
                    <a:lnTo>
                      <a:pt x="0" y="97"/>
                    </a:lnTo>
                    <a:lnTo>
                      <a:pt x="35" y="0"/>
                    </a:lnTo>
                    <a:lnTo>
                      <a:pt x="1161" y="0"/>
                    </a:lnTo>
                    <a:lnTo>
                      <a:pt x="1193" y="97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619680" y="1039680"/>
                <a:ext cx="367920" cy="31680"/>
              </a:xfrm>
              <a:custGeom>
                <a:avLst/>
                <a:gdLst/>
                <a:ahLst/>
                <a:rect l="l" t="t" r="r" b="b"/>
                <a:pathLst>
                  <a:path w="1159" h="97">
                    <a:moveTo>
                      <a:pt x="1159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127" y="0"/>
                    </a:lnTo>
                    <a:lnTo>
                      <a:pt x="1159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625800" y="1023840"/>
                <a:ext cx="356760" cy="31680"/>
              </a:xfrm>
              <a:custGeom>
                <a:avLst/>
                <a:gdLst/>
                <a:ahLst/>
                <a:rect l="l" t="t" r="r" b="b"/>
                <a:pathLst>
                  <a:path w="1126" h="99">
                    <a:moveTo>
                      <a:pt x="1126" y="99"/>
                    </a:moveTo>
                    <a:lnTo>
                      <a:pt x="0" y="99"/>
                    </a:lnTo>
                    <a:lnTo>
                      <a:pt x="34" y="0"/>
                    </a:lnTo>
                    <a:lnTo>
                      <a:pt x="1094" y="0"/>
                    </a:lnTo>
                    <a:lnTo>
                      <a:pt x="1126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630480" y="1009440"/>
                <a:ext cx="347400" cy="30240"/>
              </a:xfrm>
              <a:custGeom>
                <a:avLst/>
                <a:gdLst/>
                <a:ahLst/>
                <a:rect l="l" t="t" r="r" b="b"/>
                <a:pathLst>
                  <a:path w="1093" h="97">
                    <a:moveTo>
                      <a:pt x="1093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1060" y="0"/>
                    </a:lnTo>
                    <a:lnTo>
                      <a:pt x="1093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6635520" y="993600"/>
                <a:ext cx="335880" cy="30240"/>
              </a:xfrm>
              <a:custGeom>
                <a:avLst/>
                <a:gdLst/>
                <a:ahLst/>
                <a:rect l="l" t="t" r="r" b="b"/>
                <a:pathLst>
                  <a:path w="1060" h="97">
                    <a:moveTo>
                      <a:pt x="1060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1027" y="0"/>
                    </a:lnTo>
                    <a:lnTo>
                      <a:pt x="1060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641640" y="977760"/>
                <a:ext cx="325080" cy="31680"/>
              </a:xfrm>
              <a:custGeom>
                <a:avLst/>
                <a:gdLst/>
                <a:ahLst/>
                <a:rect l="l" t="t" r="r" b="b"/>
                <a:pathLst>
                  <a:path w="1026" h="98">
                    <a:moveTo>
                      <a:pt x="1026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94" y="0"/>
                    </a:lnTo>
                    <a:lnTo>
                      <a:pt x="1026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646320" y="961920"/>
                <a:ext cx="315720" cy="31680"/>
              </a:xfrm>
              <a:custGeom>
                <a:avLst/>
                <a:gdLst/>
                <a:ahLst/>
                <a:rect l="l" t="t" r="r" b="b"/>
                <a:pathLst>
                  <a:path w="992" h="97">
                    <a:moveTo>
                      <a:pt x="992" y="97"/>
                    </a:moveTo>
                    <a:lnTo>
                      <a:pt x="0" y="97"/>
                    </a:lnTo>
                    <a:lnTo>
                      <a:pt x="33" y="0"/>
                    </a:lnTo>
                    <a:lnTo>
                      <a:pt x="960" y="0"/>
                    </a:lnTo>
                    <a:lnTo>
                      <a:pt x="992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652800" y="947520"/>
                <a:ext cx="304560" cy="30240"/>
              </a:xfrm>
              <a:custGeom>
                <a:avLst/>
                <a:gdLst/>
                <a:ahLst/>
                <a:rect l="l" t="t" r="r" b="b"/>
                <a:pathLst>
                  <a:path w="960" h="98">
                    <a:moveTo>
                      <a:pt x="960" y="98"/>
                    </a:moveTo>
                    <a:lnTo>
                      <a:pt x="0" y="98"/>
                    </a:lnTo>
                    <a:lnTo>
                      <a:pt x="34" y="0"/>
                    </a:lnTo>
                    <a:lnTo>
                      <a:pt x="928" y="0"/>
                    </a:lnTo>
                    <a:lnTo>
                      <a:pt x="960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657480" y="931680"/>
                <a:ext cx="293400" cy="30240"/>
              </a:xfrm>
              <a:custGeom>
                <a:avLst/>
                <a:gdLst/>
                <a:ahLst/>
                <a:rect l="l" t="t" r="r" b="b"/>
                <a:pathLst>
                  <a:path w="927" h="97">
                    <a:moveTo>
                      <a:pt x="927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95" y="0"/>
                    </a:lnTo>
                    <a:lnTo>
                      <a:pt x="927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662520" y="915840"/>
                <a:ext cx="283680" cy="31680"/>
              </a:xfrm>
              <a:custGeom>
                <a:avLst/>
                <a:gdLst/>
                <a:ahLst/>
                <a:rect l="l" t="t" r="r" b="b"/>
                <a:pathLst>
                  <a:path w="894" h="97">
                    <a:moveTo>
                      <a:pt x="894" y="97"/>
                    </a:moveTo>
                    <a:lnTo>
                      <a:pt x="0" y="97"/>
                    </a:lnTo>
                    <a:lnTo>
                      <a:pt x="34" y="0"/>
                    </a:lnTo>
                    <a:lnTo>
                      <a:pt x="862" y="0"/>
                    </a:lnTo>
                    <a:lnTo>
                      <a:pt x="894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68640" y="900000"/>
                <a:ext cx="272880" cy="31680"/>
              </a:xfrm>
              <a:custGeom>
                <a:avLst/>
                <a:gdLst/>
                <a:ahLst/>
                <a:rect l="l" t="t" r="r" b="b"/>
                <a:pathLst>
                  <a:path w="861" h="98">
                    <a:moveTo>
                      <a:pt x="861" y="98"/>
                    </a:moveTo>
                    <a:lnTo>
                      <a:pt x="0" y="98"/>
                    </a:lnTo>
                    <a:lnTo>
                      <a:pt x="35" y="0"/>
                    </a:lnTo>
                    <a:lnTo>
                      <a:pt x="829" y="0"/>
                    </a:lnTo>
                    <a:lnTo>
                      <a:pt x="861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673320" y="885600"/>
                <a:ext cx="263160" cy="30240"/>
              </a:xfrm>
              <a:custGeom>
                <a:avLst/>
                <a:gdLst/>
                <a:ahLst/>
                <a:rect l="l" t="t" r="r" b="b"/>
                <a:pathLst>
                  <a:path w="828" h="97">
                    <a:moveTo>
                      <a:pt x="828" y="97"/>
                    </a:moveTo>
                    <a:lnTo>
                      <a:pt x="0" y="97"/>
                    </a:lnTo>
                    <a:lnTo>
                      <a:pt x="35" y="0"/>
                    </a:lnTo>
                    <a:lnTo>
                      <a:pt x="796" y="0"/>
                    </a:lnTo>
                    <a:lnTo>
                      <a:pt x="828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679800" y="869760"/>
                <a:ext cx="252000" cy="30240"/>
              </a:xfrm>
              <a:custGeom>
                <a:avLst/>
                <a:gdLst/>
                <a:ahLst/>
                <a:rect l="l" t="t" r="r" b="b"/>
                <a:pathLst>
                  <a:path w="794" h="98">
                    <a:moveTo>
                      <a:pt x="794" y="98"/>
                    </a:moveTo>
                    <a:lnTo>
                      <a:pt x="0" y="98"/>
                    </a:lnTo>
                    <a:lnTo>
                      <a:pt x="33" y="0"/>
                    </a:lnTo>
                    <a:lnTo>
                      <a:pt x="762" y="0"/>
                    </a:lnTo>
                    <a:lnTo>
                      <a:pt x="79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684480" y="853920"/>
                <a:ext cx="241200" cy="31680"/>
              </a:xfrm>
              <a:custGeom>
                <a:avLst/>
                <a:gdLst/>
                <a:ahLst/>
                <a:rect l="l" t="t" r="r" b="b"/>
                <a:pathLst>
                  <a:path w="761" h="99">
                    <a:moveTo>
                      <a:pt x="761" y="99"/>
                    </a:moveTo>
                    <a:lnTo>
                      <a:pt x="0" y="99"/>
                    </a:lnTo>
                    <a:lnTo>
                      <a:pt x="33" y="0"/>
                    </a:lnTo>
                    <a:lnTo>
                      <a:pt x="728" y="0"/>
                    </a:lnTo>
                    <a:lnTo>
                      <a:pt x="761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689520" y="850680"/>
                <a:ext cx="231120" cy="19080"/>
              </a:xfrm>
              <a:custGeom>
                <a:avLst/>
                <a:gdLst/>
                <a:ahLst/>
                <a:rect l="l" t="t" r="r" b="b"/>
                <a:pathLst>
                  <a:path w="729" h="57">
                    <a:moveTo>
                      <a:pt x="729" y="57"/>
                    </a:moveTo>
                    <a:lnTo>
                      <a:pt x="0" y="57"/>
                    </a:lnTo>
                    <a:lnTo>
                      <a:pt x="21" y="0"/>
                    </a:lnTo>
                    <a:lnTo>
                      <a:pt x="710" y="0"/>
                    </a:lnTo>
                    <a:lnTo>
                      <a:pt x="729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695640" y="850680"/>
                <a:ext cx="220320" cy="3240"/>
              </a:xfrm>
              <a:custGeom>
                <a:avLst/>
                <a:gdLst/>
                <a:ahLst/>
                <a:rect l="l" t="t" r="r" b="b"/>
                <a:pathLst>
                  <a:path w="695" h="8">
                    <a:moveTo>
                      <a:pt x="695" y="8"/>
                    </a:moveTo>
                    <a:lnTo>
                      <a:pt x="0" y="8"/>
                    </a:lnTo>
                    <a:lnTo>
                      <a:pt x="4" y="0"/>
                    </a:lnTo>
                    <a:lnTo>
                      <a:pt x="693" y="0"/>
                    </a:lnTo>
                    <a:lnTo>
                      <a:pt x="695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273440" y="1581120"/>
                <a:ext cx="195120" cy="190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273440" y="1566720"/>
                <a:ext cx="195120" cy="302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273440" y="1550880"/>
                <a:ext cx="195120" cy="302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273440" y="1535040"/>
                <a:ext cx="195120" cy="3168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273440" y="1519200"/>
                <a:ext cx="195120" cy="3168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273440" y="1504800"/>
                <a:ext cx="195120" cy="302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273440" y="1488960"/>
                <a:ext cx="195120" cy="302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273440" y="1473120"/>
                <a:ext cx="195120" cy="316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273440" y="1457280"/>
                <a:ext cx="195120" cy="3168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273440" y="1442880"/>
                <a:ext cx="195120" cy="302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273440" y="1427040"/>
                <a:ext cx="195120" cy="302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273440" y="1411200"/>
                <a:ext cx="195120" cy="3168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273440" y="1395360"/>
                <a:ext cx="195120" cy="3168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273440" y="1380960"/>
                <a:ext cx="195120" cy="302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273440" y="1365120"/>
                <a:ext cx="195120" cy="302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273440" y="1349280"/>
                <a:ext cx="195120" cy="3168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273440" y="1333440"/>
                <a:ext cx="195120" cy="316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273440" y="1319040"/>
                <a:ext cx="195120" cy="302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273440" y="1303200"/>
                <a:ext cx="195120" cy="302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273440" y="1287360"/>
                <a:ext cx="195120" cy="3168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273440" y="1272960"/>
                <a:ext cx="195120" cy="302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273440" y="1257120"/>
                <a:ext cx="195120" cy="302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273440" y="1241280"/>
                <a:ext cx="195120" cy="3168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273440" y="1225440"/>
                <a:ext cx="195120" cy="3168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273440" y="1209600"/>
                <a:ext cx="195120" cy="3168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273440" y="1195200"/>
                <a:ext cx="195120" cy="302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273440" y="1179360"/>
                <a:ext cx="195120" cy="302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273440" y="1163520"/>
                <a:ext cx="195120" cy="3168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273440" y="1147680"/>
                <a:ext cx="195120" cy="3168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273440" y="1133280"/>
                <a:ext cx="195120" cy="302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273440" y="1117440"/>
                <a:ext cx="195120" cy="302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273440" y="1101600"/>
                <a:ext cx="195120" cy="3168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273440" y="1085760"/>
                <a:ext cx="195120" cy="3168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273440" y="1071360"/>
                <a:ext cx="195120" cy="302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273440" y="1055520"/>
                <a:ext cx="195120" cy="302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121160" y="103968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092" y="97"/>
                    </a:moveTo>
                    <a:lnTo>
                      <a:pt x="478" y="97"/>
                    </a:lnTo>
                    <a:lnTo>
                      <a:pt x="47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569" y="0"/>
                    </a:lnTo>
                    <a:lnTo>
                      <a:pt x="1569" y="2"/>
                    </a:lnTo>
                    <a:lnTo>
                      <a:pt x="1092" y="2"/>
                    </a:lnTo>
                    <a:lnTo>
                      <a:pt x="1092" y="97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121160" y="1023840"/>
                <a:ext cx="498240" cy="31680"/>
              </a:xfrm>
              <a:custGeom>
                <a:avLst/>
                <a:gdLst/>
                <a:ahLst/>
                <a:rect l="l" t="t" r="r" b="b"/>
                <a:pathLst>
                  <a:path w="1569" h="99">
                    <a:moveTo>
                      <a:pt x="1092" y="99"/>
                    </a:moveTo>
                    <a:lnTo>
                      <a:pt x="478" y="99"/>
                    </a:lnTo>
                    <a:lnTo>
                      <a:pt x="478" y="52"/>
                    </a:lnTo>
                    <a:lnTo>
                      <a:pt x="0" y="52"/>
                    </a:lnTo>
                    <a:lnTo>
                      <a:pt x="6" y="0"/>
                    </a:lnTo>
                    <a:lnTo>
                      <a:pt x="1564" y="0"/>
                    </a:lnTo>
                    <a:lnTo>
                      <a:pt x="1569" y="52"/>
                    </a:lnTo>
                    <a:lnTo>
                      <a:pt x="1092" y="52"/>
                    </a:lnTo>
                    <a:lnTo>
                      <a:pt x="1092" y="99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121160" y="1009440"/>
                <a:ext cx="498240" cy="30240"/>
              </a:xfrm>
              <a:custGeom>
                <a:avLst/>
                <a:gdLst/>
                <a:ahLst/>
                <a:rect l="l" t="t" r="r" b="b"/>
                <a:pathLst>
                  <a:path w="1569" h="97">
                    <a:moveTo>
                      <a:pt x="1569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58" y="0"/>
                    </a:lnTo>
                    <a:lnTo>
                      <a:pt x="1569" y="97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122600" y="993600"/>
                <a:ext cx="495000" cy="30240"/>
              </a:xfrm>
              <a:custGeom>
                <a:avLst/>
                <a:gdLst/>
                <a:ahLst/>
                <a:rect l="l" t="t" r="r" b="b"/>
                <a:pathLst>
                  <a:path w="1558" h="97">
                    <a:moveTo>
                      <a:pt x="1558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47" y="0"/>
                    </a:lnTo>
                    <a:lnTo>
                      <a:pt x="1558" y="97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124400" y="977760"/>
                <a:ext cx="491760" cy="31680"/>
              </a:xfrm>
              <a:custGeom>
                <a:avLst/>
                <a:gdLst/>
                <a:ahLst/>
                <a:rect l="l" t="t" r="r" b="b"/>
                <a:pathLst>
                  <a:path w="1547" h="98">
                    <a:moveTo>
                      <a:pt x="154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37" y="0"/>
                    </a:lnTo>
                    <a:lnTo>
                      <a:pt x="1547" y="98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125840" y="961920"/>
                <a:ext cx="488520" cy="31680"/>
              </a:xfrm>
              <a:custGeom>
                <a:avLst/>
                <a:gdLst/>
                <a:ahLst/>
                <a:rect l="l" t="t" r="r" b="b"/>
                <a:pathLst>
                  <a:path w="1537" h="97">
                    <a:moveTo>
                      <a:pt x="1537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526" y="0"/>
                    </a:lnTo>
                    <a:lnTo>
                      <a:pt x="1537" y="97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127640" y="947520"/>
                <a:ext cx="485280" cy="30240"/>
              </a:xfrm>
              <a:custGeom>
                <a:avLst/>
                <a:gdLst/>
                <a:ahLst/>
                <a:rect l="l" t="t" r="r" b="b"/>
                <a:pathLst>
                  <a:path w="1527" h="98">
                    <a:moveTo>
                      <a:pt x="1527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516" y="0"/>
                    </a:lnTo>
                    <a:lnTo>
                      <a:pt x="1527" y="98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129080" y="931680"/>
                <a:ext cx="482400" cy="30240"/>
              </a:xfrm>
              <a:custGeom>
                <a:avLst/>
                <a:gdLst/>
                <a:ahLst/>
                <a:rect l="l" t="t" r="r" b="b"/>
                <a:pathLst>
                  <a:path w="1516" h="97">
                    <a:moveTo>
                      <a:pt x="151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505" y="0"/>
                    </a:lnTo>
                    <a:lnTo>
                      <a:pt x="1516" y="97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130520" y="915840"/>
                <a:ext cx="479160" cy="31680"/>
              </a:xfrm>
              <a:custGeom>
                <a:avLst/>
                <a:gdLst/>
                <a:ahLst/>
                <a:rect l="l" t="t" r="r" b="b"/>
                <a:pathLst>
                  <a:path w="1506" h="97">
                    <a:moveTo>
                      <a:pt x="1506" y="97"/>
                    </a:moveTo>
                    <a:lnTo>
                      <a:pt x="0" y="97"/>
                    </a:lnTo>
                    <a:lnTo>
                      <a:pt x="11" y="0"/>
                    </a:lnTo>
                    <a:lnTo>
                      <a:pt x="1495" y="0"/>
                    </a:lnTo>
                    <a:lnTo>
                      <a:pt x="1506" y="97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133760" y="900000"/>
                <a:ext cx="472680" cy="31680"/>
              </a:xfrm>
              <a:custGeom>
                <a:avLst/>
                <a:gdLst/>
                <a:ahLst/>
                <a:rect l="l" t="t" r="r" b="b"/>
                <a:pathLst>
                  <a:path w="1494" h="98">
                    <a:moveTo>
                      <a:pt x="149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84" y="0"/>
                    </a:lnTo>
                    <a:lnTo>
                      <a:pt x="1494" y="98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135560" y="885600"/>
                <a:ext cx="469440" cy="30240"/>
              </a:xfrm>
              <a:custGeom>
                <a:avLst/>
                <a:gdLst/>
                <a:ahLst/>
                <a:rect l="l" t="t" r="r" b="b"/>
                <a:pathLst>
                  <a:path w="1484" h="97">
                    <a:moveTo>
                      <a:pt x="1484" y="97"/>
                    </a:moveTo>
                    <a:lnTo>
                      <a:pt x="0" y="97"/>
                    </a:lnTo>
                    <a:lnTo>
                      <a:pt x="10" y="0"/>
                    </a:lnTo>
                    <a:lnTo>
                      <a:pt x="1473" y="0"/>
                    </a:lnTo>
                    <a:lnTo>
                      <a:pt x="1484" y="97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137000" y="869760"/>
                <a:ext cx="466560" cy="30240"/>
              </a:xfrm>
              <a:custGeom>
                <a:avLst/>
                <a:gdLst/>
                <a:ahLst/>
                <a:rect l="l" t="t" r="r" b="b"/>
                <a:pathLst>
                  <a:path w="1474" h="98">
                    <a:moveTo>
                      <a:pt x="1474" y="98"/>
                    </a:moveTo>
                    <a:lnTo>
                      <a:pt x="0" y="98"/>
                    </a:lnTo>
                    <a:lnTo>
                      <a:pt x="10" y="0"/>
                    </a:lnTo>
                    <a:lnTo>
                      <a:pt x="1463" y="0"/>
                    </a:lnTo>
                    <a:lnTo>
                      <a:pt x="1474" y="98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138440" y="853920"/>
                <a:ext cx="463320" cy="31680"/>
              </a:xfrm>
              <a:custGeom>
                <a:avLst/>
                <a:gdLst/>
                <a:ahLst/>
                <a:rect l="l" t="t" r="r" b="b"/>
                <a:pathLst>
                  <a:path w="1463" h="99">
                    <a:moveTo>
                      <a:pt x="1463" y="99"/>
                    </a:moveTo>
                    <a:lnTo>
                      <a:pt x="0" y="99"/>
                    </a:lnTo>
                    <a:lnTo>
                      <a:pt x="9" y="0"/>
                    </a:lnTo>
                    <a:lnTo>
                      <a:pt x="1452" y="0"/>
                    </a:lnTo>
                    <a:lnTo>
                      <a:pt x="1463" y="99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140240" y="850680"/>
                <a:ext cx="460080" cy="19080"/>
              </a:xfrm>
              <a:custGeom>
                <a:avLst/>
                <a:gdLst/>
                <a:ahLst/>
                <a:rect l="l" t="t" r="r" b="b"/>
                <a:pathLst>
                  <a:path w="1453" h="57">
                    <a:moveTo>
                      <a:pt x="1453" y="57"/>
                    </a:moveTo>
                    <a:lnTo>
                      <a:pt x="0" y="57"/>
                    </a:lnTo>
                    <a:lnTo>
                      <a:pt x="6" y="0"/>
                    </a:lnTo>
                    <a:lnTo>
                      <a:pt x="1447" y="0"/>
                    </a:lnTo>
                    <a:lnTo>
                      <a:pt x="1453" y="57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140240" y="850680"/>
                <a:ext cx="458280" cy="3240"/>
              </a:xfrm>
              <a:custGeom>
                <a:avLst/>
                <a:gdLst/>
                <a:ahLst/>
                <a:rect l="l" t="t" r="r" b="b"/>
                <a:pathLst>
                  <a:path w="1443" h="8">
                    <a:moveTo>
                      <a:pt x="1443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1443" y="0"/>
                    </a:lnTo>
                    <a:lnTo>
                      <a:pt x="1443" y="8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653000" y="838080"/>
                <a:ext cx="510840" cy="774720"/>
              </a:xfrm>
              <a:custGeom>
                <a:avLst/>
                <a:gdLst/>
                <a:ahLst/>
                <a:rect l="l" t="t" r="r" b="b"/>
                <a:pathLst>
                  <a:path w="1608" h="2437">
                    <a:moveTo>
                      <a:pt x="1561" y="2397"/>
                    </a:moveTo>
                    <a:lnTo>
                      <a:pt x="1544" y="2402"/>
                    </a:lnTo>
                    <a:lnTo>
                      <a:pt x="1526" y="2407"/>
                    </a:lnTo>
                    <a:lnTo>
                      <a:pt x="1508" y="2411"/>
                    </a:lnTo>
                    <a:lnTo>
                      <a:pt x="1490" y="2415"/>
                    </a:lnTo>
                    <a:lnTo>
                      <a:pt x="1471" y="2418"/>
                    </a:lnTo>
                    <a:lnTo>
                      <a:pt x="1453" y="2422"/>
                    </a:lnTo>
                    <a:lnTo>
                      <a:pt x="1435" y="2425"/>
                    </a:lnTo>
                    <a:lnTo>
                      <a:pt x="1415" y="2427"/>
                    </a:lnTo>
                    <a:lnTo>
                      <a:pt x="1396" y="2429"/>
                    </a:lnTo>
                    <a:lnTo>
                      <a:pt x="1375" y="2432"/>
                    </a:lnTo>
                    <a:lnTo>
                      <a:pt x="1356" y="2433"/>
                    </a:lnTo>
                    <a:lnTo>
                      <a:pt x="1335" y="2434"/>
                    </a:lnTo>
                    <a:lnTo>
                      <a:pt x="1314" y="2436"/>
                    </a:lnTo>
                    <a:lnTo>
                      <a:pt x="1292" y="2437"/>
                    </a:lnTo>
                    <a:lnTo>
                      <a:pt x="1270" y="2437"/>
                    </a:lnTo>
                    <a:lnTo>
                      <a:pt x="1248" y="2437"/>
                    </a:lnTo>
                    <a:lnTo>
                      <a:pt x="1212" y="2437"/>
                    </a:lnTo>
                    <a:lnTo>
                      <a:pt x="1179" y="2436"/>
                    </a:lnTo>
                    <a:lnTo>
                      <a:pt x="1144" y="2434"/>
                    </a:lnTo>
                    <a:lnTo>
                      <a:pt x="1111" y="2432"/>
                    </a:lnTo>
                    <a:lnTo>
                      <a:pt x="1078" y="2429"/>
                    </a:lnTo>
                    <a:lnTo>
                      <a:pt x="1046" y="2426"/>
                    </a:lnTo>
                    <a:lnTo>
                      <a:pt x="1014" y="2421"/>
                    </a:lnTo>
                    <a:lnTo>
                      <a:pt x="982" y="2416"/>
                    </a:lnTo>
                    <a:lnTo>
                      <a:pt x="950" y="2411"/>
                    </a:lnTo>
                    <a:lnTo>
                      <a:pt x="919" y="2405"/>
                    </a:lnTo>
                    <a:lnTo>
                      <a:pt x="890" y="2397"/>
                    </a:lnTo>
                    <a:lnTo>
                      <a:pt x="859" y="2390"/>
                    </a:lnTo>
                    <a:lnTo>
                      <a:pt x="829" y="2383"/>
                    </a:lnTo>
                    <a:lnTo>
                      <a:pt x="800" y="2374"/>
                    </a:lnTo>
                    <a:lnTo>
                      <a:pt x="772" y="2364"/>
                    </a:lnTo>
                    <a:lnTo>
                      <a:pt x="743" y="2354"/>
                    </a:lnTo>
                    <a:lnTo>
                      <a:pt x="715" y="2343"/>
                    </a:lnTo>
                    <a:lnTo>
                      <a:pt x="688" y="2332"/>
                    </a:lnTo>
                    <a:lnTo>
                      <a:pt x="661" y="2320"/>
                    </a:lnTo>
                    <a:lnTo>
                      <a:pt x="634" y="2308"/>
                    </a:lnTo>
                    <a:lnTo>
                      <a:pt x="607" y="2294"/>
                    </a:lnTo>
                    <a:lnTo>
                      <a:pt x="581" y="2279"/>
                    </a:lnTo>
                    <a:lnTo>
                      <a:pt x="556" y="2266"/>
                    </a:lnTo>
                    <a:lnTo>
                      <a:pt x="531" y="2250"/>
                    </a:lnTo>
                    <a:lnTo>
                      <a:pt x="506" y="2234"/>
                    </a:lnTo>
                    <a:lnTo>
                      <a:pt x="483" y="2218"/>
                    </a:lnTo>
                    <a:lnTo>
                      <a:pt x="458" y="2201"/>
                    </a:lnTo>
                    <a:lnTo>
                      <a:pt x="435" y="2182"/>
                    </a:lnTo>
                    <a:lnTo>
                      <a:pt x="411" y="2164"/>
                    </a:lnTo>
                    <a:lnTo>
                      <a:pt x="389" y="2144"/>
                    </a:lnTo>
                    <a:lnTo>
                      <a:pt x="367" y="2124"/>
                    </a:lnTo>
                    <a:lnTo>
                      <a:pt x="345" y="2105"/>
                    </a:lnTo>
                    <a:lnTo>
                      <a:pt x="324" y="2084"/>
                    </a:lnTo>
                    <a:lnTo>
                      <a:pt x="303" y="2062"/>
                    </a:lnTo>
                    <a:lnTo>
                      <a:pt x="283" y="2040"/>
                    </a:lnTo>
                    <a:lnTo>
                      <a:pt x="265" y="2017"/>
                    </a:lnTo>
                    <a:lnTo>
                      <a:pt x="246" y="1995"/>
                    </a:lnTo>
                    <a:lnTo>
                      <a:pt x="228" y="1972"/>
                    </a:lnTo>
                    <a:lnTo>
                      <a:pt x="211" y="1949"/>
                    </a:lnTo>
                    <a:lnTo>
                      <a:pt x="195" y="1925"/>
                    </a:lnTo>
                    <a:lnTo>
                      <a:pt x="179" y="1901"/>
                    </a:lnTo>
                    <a:lnTo>
                      <a:pt x="164" y="1876"/>
                    </a:lnTo>
                    <a:lnTo>
                      <a:pt x="149" y="1851"/>
                    </a:lnTo>
                    <a:lnTo>
                      <a:pt x="136" y="1826"/>
                    </a:lnTo>
                    <a:lnTo>
                      <a:pt x="122" y="1800"/>
                    </a:lnTo>
                    <a:lnTo>
                      <a:pt x="110" y="1774"/>
                    </a:lnTo>
                    <a:lnTo>
                      <a:pt x="98" y="1748"/>
                    </a:lnTo>
                    <a:lnTo>
                      <a:pt x="87" y="1721"/>
                    </a:lnTo>
                    <a:lnTo>
                      <a:pt x="77" y="1693"/>
                    </a:lnTo>
                    <a:lnTo>
                      <a:pt x="67" y="1666"/>
                    </a:lnTo>
                    <a:lnTo>
                      <a:pt x="57" y="1637"/>
                    </a:lnTo>
                    <a:lnTo>
                      <a:pt x="50" y="1609"/>
                    </a:lnTo>
                    <a:lnTo>
                      <a:pt x="41" y="1580"/>
                    </a:lnTo>
                    <a:lnTo>
                      <a:pt x="35" y="1551"/>
                    </a:lnTo>
                    <a:lnTo>
                      <a:pt x="27" y="1522"/>
                    </a:lnTo>
                    <a:lnTo>
                      <a:pt x="23" y="1491"/>
                    </a:lnTo>
                    <a:lnTo>
                      <a:pt x="18" y="1460"/>
                    </a:lnTo>
                    <a:lnTo>
                      <a:pt x="13" y="1429"/>
                    </a:lnTo>
                    <a:lnTo>
                      <a:pt x="9" y="1399"/>
                    </a:lnTo>
                    <a:lnTo>
                      <a:pt x="7" y="1367"/>
                    </a:lnTo>
                    <a:lnTo>
                      <a:pt x="4" y="1335"/>
                    </a:lnTo>
                    <a:lnTo>
                      <a:pt x="2" y="1303"/>
                    </a:lnTo>
                    <a:lnTo>
                      <a:pt x="2" y="1270"/>
                    </a:lnTo>
                    <a:lnTo>
                      <a:pt x="0" y="1236"/>
                    </a:lnTo>
                    <a:lnTo>
                      <a:pt x="2" y="1203"/>
                    </a:lnTo>
                    <a:lnTo>
                      <a:pt x="2" y="1170"/>
                    </a:lnTo>
                    <a:lnTo>
                      <a:pt x="4" y="1138"/>
                    </a:lnTo>
                    <a:lnTo>
                      <a:pt x="7" y="1105"/>
                    </a:lnTo>
                    <a:lnTo>
                      <a:pt x="9" y="1074"/>
                    </a:lnTo>
                    <a:lnTo>
                      <a:pt x="13" y="1042"/>
                    </a:lnTo>
                    <a:lnTo>
                      <a:pt x="18" y="1011"/>
                    </a:lnTo>
                    <a:lnTo>
                      <a:pt x="23" y="981"/>
                    </a:lnTo>
                    <a:lnTo>
                      <a:pt x="29" y="950"/>
                    </a:lnTo>
                    <a:lnTo>
                      <a:pt x="36" y="919"/>
                    </a:lnTo>
                    <a:lnTo>
                      <a:pt x="43" y="890"/>
                    </a:lnTo>
                    <a:lnTo>
                      <a:pt x="51" y="860"/>
                    </a:lnTo>
                    <a:lnTo>
                      <a:pt x="59" y="832"/>
                    </a:lnTo>
                    <a:lnTo>
                      <a:pt x="69" y="803"/>
                    </a:lnTo>
                    <a:lnTo>
                      <a:pt x="79" y="775"/>
                    </a:lnTo>
                    <a:lnTo>
                      <a:pt x="90" y="747"/>
                    </a:lnTo>
                    <a:lnTo>
                      <a:pt x="101" y="720"/>
                    </a:lnTo>
                    <a:lnTo>
                      <a:pt x="114" y="693"/>
                    </a:lnTo>
                    <a:lnTo>
                      <a:pt x="127" y="666"/>
                    </a:lnTo>
                    <a:lnTo>
                      <a:pt x="141" y="639"/>
                    </a:lnTo>
                    <a:lnTo>
                      <a:pt x="154" y="613"/>
                    </a:lnTo>
                    <a:lnTo>
                      <a:pt x="170" y="587"/>
                    </a:lnTo>
                    <a:lnTo>
                      <a:pt x="185" y="562"/>
                    </a:lnTo>
                    <a:lnTo>
                      <a:pt x="202" y="537"/>
                    </a:lnTo>
                    <a:lnTo>
                      <a:pt x="219" y="512"/>
                    </a:lnTo>
                    <a:lnTo>
                      <a:pt x="237" y="489"/>
                    </a:lnTo>
                    <a:lnTo>
                      <a:pt x="255" y="464"/>
                    </a:lnTo>
                    <a:lnTo>
                      <a:pt x="275" y="441"/>
                    </a:lnTo>
                    <a:lnTo>
                      <a:pt x="294" y="417"/>
                    </a:lnTo>
                    <a:lnTo>
                      <a:pt x="315" y="395"/>
                    </a:lnTo>
                    <a:lnTo>
                      <a:pt x="336" y="372"/>
                    </a:lnTo>
                    <a:lnTo>
                      <a:pt x="358" y="350"/>
                    </a:lnTo>
                    <a:lnTo>
                      <a:pt x="380" y="329"/>
                    </a:lnTo>
                    <a:lnTo>
                      <a:pt x="404" y="308"/>
                    </a:lnTo>
                    <a:lnTo>
                      <a:pt x="427" y="288"/>
                    </a:lnTo>
                    <a:lnTo>
                      <a:pt x="451" y="268"/>
                    </a:lnTo>
                    <a:lnTo>
                      <a:pt x="474" y="249"/>
                    </a:lnTo>
                    <a:lnTo>
                      <a:pt x="499" y="231"/>
                    </a:lnTo>
                    <a:lnTo>
                      <a:pt x="524" y="214"/>
                    </a:lnTo>
                    <a:lnTo>
                      <a:pt x="549" y="197"/>
                    </a:lnTo>
                    <a:lnTo>
                      <a:pt x="575" y="181"/>
                    </a:lnTo>
                    <a:lnTo>
                      <a:pt x="601" y="165"/>
                    </a:lnTo>
                    <a:lnTo>
                      <a:pt x="626" y="150"/>
                    </a:lnTo>
                    <a:lnTo>
                      <a:pt x="654" y="137"/>
                    </a:lnTo>
                    <a:lnTo>
                      <a:pt x="681" y="123"/>
                    </a:lnTo>
                    <a:lnTo>
                      <a:pt x="708" y="111"/>
                    </a:lnTo>
                    <a:lnTo>
                      <a:pt x="736" y="99"/>
                    </a:lnTo>
                    <a:lnTo>
                      <a:pt x="764" y="88"/>
                    </a:lnTo>
                    <a:lnTo>
                      <a:pt x="792" y="76"/>
                    </a:lnTo>
                    <a:lnTo>
                      <a:pt x="822" y="67"/>
                    </a:lnTo>
                    <a:lnTo>
                      <a:pt x="852" y="58"/>
                    </a:lnTo>
                    <a:lnTo>
                      <a:pt x="881" y="49"/>
                    </a:lnTo>
                    <a:lnTo>
                      <a:pt x="912" y="41"/>
                    </a:lnTo>
                    <a:lnTo>
                      <a:pt x="941" y="35"/>
                    </a:lnTo>
                    <a:lnTo>
                      <a:pt x="973" y="27"/>
                    </a:lnTo>
                    <a:lnTo>
                      <a:pt x="1004" y="22"/>
                    </a:lnTo>
                    <a:lnTo>
                      <a:pt x="1036" y="16"/>
                    </a:lnTo>
                    <a:lnTo>
                      <a:pt x="1068" y="13"/>
                    </a:lnTo>
                    <a:lnTo>
                      <a:pt x="1100" y="9"/>
                    </a:lnTo>
                    <a:lnTo>
                      <a:pt x="1133" y="5"/>
                    </a:lnTo>
                    <a:lnTo>
                      <a:pt x="1166" y="3"/>
                    </a:lnTo>
                    <a:lnTo>
                      <a:pt x="1200" y="1"/>
                    </a:lnTo>
                    <a:lnTo>
                      <a:pt x="1234" y="0"/>
                    </a:lnTo>
                    <a:lnTo>
                      <a:pt x="1268" y="0"/>
                    </a:lnTo>
                    <a:lnTo>
                      <a:pt x="1284" y="0"/>
                    </a:lnTo>
                    <a:lnTo>
                      <a:pt x="1300" y="0"/>
                    </a:lnTo>
                    <a:lnTo>
                      <a:pt x="1318" y="1"/>
                    </a:lnTo>
                    <a:lnTo>
                      <a:pt x="1334" y="3"/>
                    </a:lnTo>
                    <a:lnTo>
                      <a:pt x="1351" y="3"/>
                    </a:lnTo>
                    <a:lnTo>
                      <a:pt x="1368" y="5"/>
                    </a:lnTo>
                    <a:lnTo>
                      <a:pt x="1385" y="6"/>
                    </a:lnTo>
                    <a:lnTo>
                      <a:pt x="1404" y="9"/>
                    </a:lnTo>
                    <a:lnTo>
                      <a:pt x="1421" y="10"/>
                    </a:lnTo>
                    <a:lnTo>
                      <a:pt x="1439" y="13"/>
                    </a:lnTo>
                    <a:lnTo>
                      <a:pt x="1457" y="15"/>
                    </a:lnTo>
                    <a:lnTo>
                      <a:pt x="1475" y="19"/>
                    </a:lnTo>
                    <a:lnTo>
                      <a:pt x="1495" y="22"/>
                    </a:lnTo>
                    <a:lnTo>
                      <a:pt x="1513" y="26"/>
                    </a:lnTo>
                    <a:lnTo>
                      <a:pt x="1532" y="30"/>
                    </a:lnTo>
                    <a:lnTo>
                      <a:pt x="1551" y="35"/>
                    </a:lnTo>
                    <a:lnTo>
                      <a:pt x="1583" y="732"/>
                    </a:lnTo>
                    <a:lnTo>
                      <a:pt x="1562" y="723"/>
                    </a:lnTo>
                    <a:lnTo>
                      <a:pt x="1542" y="715"/>
                    </a:lnTo>
                    <a:lnTo>
                      <a:pt x="1521" y="707"/>
                    </a:lnTo>
                    <a:lnTo>
                      <a:pt x="1500" y="700"/>
                    </a:lnTo>
                    <a:lnTo>
                      <a:pt x="1480" y="694"/>
                    </a:lnTo>
                    <a:lnTo>
                      <a:pt x="1459" y="688"/>
                    </a:lnTo>
                    <a:lnTo>
                      <a:pt x="1439" y="683"/>
                    </a:lnTo>
                    <a:lnTo>
                      <a:pt x="1419" y="678"/>
                    </a:lnTo>
                    <a:lnTo>
                      <a:pt x="1399" y="673"/>
                    </a:lnTo>
                    <a:lnTo>
                      <a:pt x="1378" y="671"/>
                    </a:lnTo>
                    <a:lnTo>
                      <a:pt x="1358" y="667"/>
                    </a:lnTo>
                    <a:lnTo>
                      <a:pt x="1339" y="664"/>
                    </a:lnTo>
                    <a:lnTo>
                      <a:pt x="1319" y="663"/>
                    </a:lnTo>
                    <a:lnTo>
                      <a:pt x="1299" y="661"/>
                    </a:lnTo>
                    <a:lnTo>
                      <a:pt x="1281" y="661"/>
                    </a:lnTo>
                    <a:lnTo>
                      <a:pt x="1261" y="660"/>
                    </a:lnTo>
                    <a:lnTo>
                      <a:pt x="1227" y="661"/>
                    </a:lnTo>
                    <a:lnTo>
                      <a:pt x="1193" y="662"/>
                    </a:lnTo>
                    <a:lnTo>
                      <a:pt x="1161" y="666"/>
                    </a:lnTo>
                    <a:lnTo>
                      <a:pt x="1129" y="669"/>
                    </a:lnTo>
                    <a:lnTo>
                      <a:pt x="1099" y="675"/>
                    </a:lnTo>
                    <a:lnTo>
                      <a:pt x="1068" y="682"/>
                    </a:lnTo>
                    <a:lnTo>
                      <a:pt x="1038" y="690"/>
                    </a:lnTo>
                    <a:lnTo>
                      <a:pt x="1010" y="699"/>
                    </a:lnTo>
                    <a:lnTo>
                      <a:pt x="982" y="710"/>
                    </a:lnTo>
                    <a:lnTo>
                      <a:pt x="955" y="721"/>
                    </a:lnTo>
                    <a:lnTo>
                      <a:pt x="929" y="735"/>
                    </a:lnTo>
                    <a:lnTo>
                      <a:pt x="903" y="748"/>
                    </a:lnTo>
                    <a:lnTo>
                      <a:pt x="879" y="763"/>
                    </a:lnTo>
                    <a:lnTo>
                      <a:pt x="855" y="780"/>
                    </a:lnTo>
                    <a:lnTo>
                      <a:pt x="832" y="797"/>
                    </a:lnTo>
                    <a:lnTo>
                      <a:pt x="810" y="816"/>
                    </a:lnTo>
                    <a:lnTo>
                      <a:pt x="789" y="837"/>
                    </a:lnTo>
                    <a:lnTo>
                      <a:pt x="769" y="856"/>
                    </a:lnTo>
                    <a:lnTo>
                      <a:pt x="751" y="878"/>
                    </a:lnTo>
                    <a:lnTo>
                      <a:pt x="733" y="899"/>
                    </a:lnTo>
                    <a:lnTo>
                      <a:pt x="717" y="923"/>
                    </a:lnTo>
                    <a:lnTo>
                      <a:pt x="703" y="945"/>
                    </a:lnTo>
                    <a:lnTo>
                      <a:pt x="690" y="969"/>
                    </a:lnTo>
                    <a:lnTo>
                      <a:pt x="678" y="994"/>
                    </a:lnTo>
                    <a:lnTo>
                      <a:pt x="668" y="1019"/>
                    </a:lnTo>
                    <a:lnTo>
                      <a:pt x="660" y="1044"/>
                    </a:lnTo>
                    <a:lnTo>
                      <a:pt x="652" y="1072"/>
                    </a:lnTo>
                    <a:lnTo>
                      <a:pt x="646" y="1099"/>
                    </a:lnTo>
                    <a:lnTo>
                      <a:pt x="641" y="1127"/>
                    </a:lnTo>
                    <a:lnTo>
                      <a:pt x="638" y="1155"/>
                    </a:lnTo>
                    <a:lnTo>
                      <a:pt x="635" y="1185"/>
                    </a:lnTo>
                    <a:lnTo>
                      <a:pt x="635" y="1214"/>
                    </a:lnTo>
                    <a:lnTo>
                      <a:pt x="635" y="1244"/>
                    </a:lnTo>
                    <a:lnTo>
                      <a:pt x="638" y="1273"/>
                    </a:lnTo>
                    <a:lnTo>
                      <a:pt x="641" y="1302"/>
                    </a:lnTo>
                    <a:lnTo>
                      <a:pt x="646" y="1329"/>
                    </a:lnTo>
                    <a:lnTo>
                      <a:pt x="652" y="1356"/>
                    </a:lnTo>
                    <a:lnTo>
                      <a:pt x="660" y="1383"/>
                    </a:lnTo>
                    <a:lnTo>
                      <a:pt x="668" y="1409"/>
                    </a:lnTo>
                    <a:lnTo>
                      <a:pt x="678" y="1434"/>
                    </a:lnTo>
                    <a:lnTo>
                      <a:pt x="689" y="1459"/>
                    </a:lnTo>
                    <a:lnTo>
                      <a:pt x="703" y="1484"/>
                    </a:lnTo>
                    <a:lnTo>
                      <a:pt x="716" y="1507"/>
                    </a:lnTo>
                    <a:lnTo>
                      <a:pt x="732" y="1530"/>
                    </a:lnTo>
                    <a:lnTo>
                      <a:pt x="749" y="1552"/>
                    </a:lnTo>
                    <a:lnTo>
                      <a:pt x="768" y="1573"/>
                    </a:lnTo>
                    <a:lnTo>
                      <a:pt x="788" y="1596"/>
                    </a:lnTo>
                    <a:lnTo>
                      <a:pt x="808" y="1615"/>
                    </a:lnTo>
                    <a:lnTo>
                      <a:pt x="831" y="1635"/>
                    </a:lnTo>
                    <a:lnTo>
                      <a:pt x="853" y="1653"/>
                    </a:lnTo>
                    <a:lnTo>
                      <a:pt x="876" y="1671"/>
                    </a:lnTo>
                    <a:lnTo>
                      <a:pt x="899" y="1687"/>
                    </a:lnTo>
                    <a:lnTo>
                      <a:pt x="924" y="1701"/>
                    </a:lnTo>
                    <a:lnTo>
                      <a:pt x="950" y="1714"/>
                    </a:lnTo>
                    <a:lnTo>
                      <a:pt x="976" y="1726"/>
                    </a:lnTo>
                    <a:lnTo>
                      <a:pt x="1003" y="1737"/>
                    </a:lnTo>
                    <a:lnTo>
                      <a:pt x="1030" y="1747"/>
                    </a:lnTo>
                    <a:lnTo>
                      <a:pt x="1058" y="1754"/>
                    </a:lnTo>
                    <a:lnTo>
                      <a:pt x="1086" y="1762"/>
                    </a:lnTo>
                    <a:lnTo>
                      <a:pt x="1116" y="1768"/>
                    </a:lnTo>
                    <a:lnTo>
                      <a:pt x="1147" y="1771"/>
                    </a:lnTo>
                    <a:lnTo>
                      <a:pt x="1177" y="1775"/>
                    </a:lnTo>
                    <a:lnTo>
                      <a:pt x="1208" y="1776"/>
                    </a:lnTo>
                    <a:lnTo>
                      <a:pt x="1240" y="1778"/>
                    </a:lnTo>
                    <a:lnTo>
                      <a:pt x="1264" y="1776"/>
                    </a:lnTo>
                    <a:lnTo>
                      <a:pt x="1287" y="1776"/>
                    </a:lnTo>
                    <a:lnTo>
                      <a:pt x="1310" y="1774"/>
                    </a:lnTo>
                    <a:lnTo>
                      <a:pt x="1334" y="1771"/>
                    </a:lnTo>
                    <a:lnTo>
                      <a:pt x="1357" y="1768"/>
                    </a:lnTo>
                    <a:lnTo>
                      <a:pt x="1379" y="1764"/>
                    </a:lnTo>
                    <a:lnTo>
                      <a:pt x="1403" y="1759"/>
                    </a:lnTo>
                    <a:lnTo>
                      <a:pt x="1426" y="1753"/>
                    </a:lnTo>
                    <a:lnTo>
                      <a:pt x="1448" y="1747"/>
                    </a:lnTo>
                    <a:lnTo>
                      <a:pt x="1471" y="1739"/>
                    </a:lnTo>
                    <a:lnTo>
                      <a:pt x="1495" y="1732"/>
                    </a:lnTo>
                    <a:lnTo>
                      <a:pt x="1517" y="1723"/>
                    </a:lnTo>
                    <a:lnTo>
                      <a:pt x="1540" y="1715"/>
                    </a:lnTo>
                    <a:lnTo>
                      <a:pt x="1562" y="1704"/>
                    </a:lnTo>
                    <a:lnTo>
                      <a:pt x="1585" y="1694"/>
                    </a:lnTo>
                    <a:lnTo>
                      <a:pt x="1608" y="1682"/>
                    </a:lnTo>
                    <a:lnTo>
                      <a:pt x="1561" y="239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270040" y="850680"/>
                <a:ext cx="549000" cy="749520"/>
              </a:xfrm>
              <a:custGeom>
                <a:avLst/>
                <a:gdLst/>
                <a:ahLst/>
                <a:rect l="l" t="t" r="r" b="b"/>
                <a:pathLst>
                  <a:path w="1733" h="2357">
                    <a:moveTo>
                      <a:pt x="0" y="2357"/>
                    </a:moveTo>
                    <a:lnTo>
                      <a:pt x="0" y="0"/>
                    </a:lnTo>
                    <a:lnTo>
                      <a:pt x="610" y="0"/>
                    </a:lnTo>
                    <a:lnTo>
                      <a:pt x="610" y="825"/>
                    </a:lnTo>
                    <a:lnTo>
                      <a:pt x="1123" y="825"/>
                    </a:lnTo>
                    <a:lnTo>
                      <a:pt x="1123" y="0"/>
                    </a:lnTo>
                    <a:lnTo>
                      <a:pt x="1733" y="0"/>
                    </a:lnTo>
                    <a:lnTo>
                      <a:pt x="1733" y="2357"/>
                    </a:lnTo>
                    <a:lnTo>
                      <a:pt x="1123" y="2357"/>
                    </a:lnTo>
                    <a:lnTo>
                      <a:pt x="1123" y="1441"/>
                    </a:lnTo>
                    <a:lnTo>
                      <a:pt x="610" y="1441"/>
                    </a:lnTo>
                    <a:lnTo>
                      <a:pt x="610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47920" y="850680"/>
                <a:ext cx="468000" cy="749520"/>
              </a:xfrm>
              <a:custGeom>
                <a:avLst/>
                <a:gdLst/>
                <a:ahLst/>
                <a:rect l="l" t="t" r="r" b="b"/>
                <a:pathLst>
                  <a:path w="1474" h="2357">
                    <a:moveTo>
                      <a:pt x="1474" y="1708"/>
                    </a:moveTo>
                    <a:lnTo>
                      <a:pt x="1309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1303" y="0"/>
                    </a:lnTo>
                    <a:lnTo>
                      <a:pt x="1405" y="627"/>
                    </a:lnTo>
                    <a:lnTo>
                      <a:pt x="610" y="627"/>
                    </a:lnTo>
                    <a:lnTo>
                      <a:pt x="610" y="867"/>
                    </a:lnTo>
                    <a:lnTo>
                      <a:pt x="1141" y="867"/>
                    </a:lnTo>
                    <a:lnTo>
                      <a:pt x="1141" y="1489"/>
                    </a:lnTo>
                    <a:lnTo>
                      <a:pt x="610" y="1489"/>
                    </a:lnTo>
                    <a:lnTo>
                      <a:pt x="610" y="1708"/>
                    </a:lnTo>
                    <a:lnTo>
                      <a:pt x="1474" y="1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719400" y="1076040"/>
                <a:ext cx="153720" cy="252360"/>
              </a:xfrm>
              <a:custGeom>
                <a:avLst/>
                <a:gdLst/>
                <a:ahLst/>
                <a:rect l="l" t="t" r="r" b="b"/>
                <a:pathLst>
                  <a:path w="485" h="796">
                    <a:moveTo>
                      <a:pt x="0" y="796"/>
                    </a:moveTo>
                    <a:lnTo>
                      <a:pt x="485" y="796"/>
                    </a:lnTo>
                    <a:lnTo>
                      <a:pt x="241" y="0"/>
                    </a:lnTo>
                    <a:lnTo>
                      <a:pt x="0" y="7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435360" y="850680"/>
                <a:ext cx="726840" cy="749520"/>
              </a:xfrm>
              <a:custGeom>
                <a:avLst/>
                <a:gdLst/>
                <a:ahLst/>
                <a:rect l="l" t="t" r="r" b="b"/>
                <a:pathLst>
                  <a:path w="2292" h="2357">
                    <a:moveTo>
                      <a:pt x="0" y="2357"/>
                    </a:moveTo>
                    <a:lnTo>
                      <a:pt x="824" y="0"/>
                    </a:lnTo>
                    <a:lnTo>
                      <a:pt x="1513" y="0"/>
                    </a:lnTo>
                    <a:lnTo>
                      <a:pt x="2292" y="2357"/>
                    </a:lnTo>
                    <a:lnTo>
                      <a:pt x="1644" y="2357"/>
                    </a:lnTo>
                    <a:lnTo>
                      <a:pt x="1559" y="2093"/>
                    </a:lnTo>
                    <a:lnTo>
                      <a:pt x="725" y="2093"/>
                    </a:lnTo>
                    <a:lnTo>
                      <a:pt x="636" y="2357"/>
                    </a:lnTo>
                    <a:lnTo>
                      <a:pt x="0" y="2357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121160" y="850680"/>
                <a:ext cx="498240" cy="749520"/>
              </a:xfrm>
              <a:custGeom>
                <a:avLst/>
                <a:gdLst/>
                <a:ahLst/>
                <a:rect l="l" t="t" r="r" b="b"/>
                <a:pathLst>
                  <a:path w="1569" h="2357">
                    <a:moveTo>
                      <a:pt x="1092" y="596"/>
                    </a:moveTo>
                    <a:lnTo>
                      <a:pt x="1092" y="2357"/>
                    </a:lnTo>
                    <a:lnTo>
                      <a:pt x="478" y="2357"/>
                    </a:lnTo>
                    <a:lnTo>
                      <a:pt x="478" y="596"/>
                    </a:lnTo>
                    <a:lnTo>
                      <a:pt x="0" y="596"/>
                    </a:lnTo>
                    <a:lnTo>
                      <a:pt x="63" y="0"/>
                    </a:lnTo>
                    <a:lnTo>
                      <a:pt x="1504" y="0"/>
                    </a:lnTo>
                    <a:lnTo>
                      <a:pt x="1569" y="596"/>
                    </a:lnTo>
                    <a:lnTo>
                      <a:pt x="1092" y="596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2" name=""/>
          <p:cNvGrpSpPr/>
          <p:nvPr/>
        </p:nvGrpSpPr>
        <p:grpSpPr>
          <a:xfrm>
            <a:off x="1673280" y="2209680"/>
            <a:ext cx="5793840" cy="2279520"/>
            <a:chOff x="1673280" y="2209680"/>
            <a:chExt cx="5793840" cy="2279520"/>
          </a:xfrm>
        </p:grpSpPr>
        <p:sp>
          <p:nvSpPr>
            <p:cNvPr id="4343" name=""/>
            <p:cNvSpPr/>
            <p:nvPr/>
          </p:nvSpPr>
          <p:spPr>
            <a:xfrm>
              <a:off x="1722600" y="2330640"/>
              <a:ext cx="5685840" cy="2149200"/>
            </a:xfrm>
            <a:custGeom>
              <a:avLst/>
              <a:gdLst/>
              <a:ahLst/>
              <a:rect l="l" t="t" r="r" b="b"/>
              <a:pathLst>
                <a:path w="15026" h="5674">
                  <a:moveTo>
                    <a:pt x="15026" y="43"/>
                  </a:moveTo>
                  <a:lnTo>
                    <a:pt x="15026" y="5674"/>
                  </a:lnTo>
                  <a:lnTo>
                    <a:pt x="0" y="5674"/>
                  </a:lnTo>
                  <a:lnTo>
                    <a:pt x="0" y="0"/>
                  </a:lnTo>
                  <a:lnTo>
                    <a:pt x="15026" y="43"/>
                  </a:lnTo>
                  <a:close/>
                </a:path>
              </a:pathLst>
            </a:custGeom>
            <a:solidFill>
              <a:srgbClr val="bb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680840" y="2215080"/>
              <a:ext cx="5778360" cy="274680"/>
            </a:xfrm>
            <a:custGeom>
              <a:avLst/>
              <a:gdLst/>
              <a:ahLst/>
              <a:rect l="l" t="t" r="r" b="b"/>
              <a:pathLst>
                <a:path w="15270" h="725">
                  <a:moveTo>
                    <a:pt x="48" y="34"/>
                  </a:moveTo>
                  <a:lnTo>
                    <a:pt x="40" y="50"/>
                  </a:lnTo>
                  <a:lnTo>
                    <a:pt x="34" y="66"/>
                  </a:lnTo>
                  <a:lnTo>
                    <a:pt x="28" y="82"/>
                  </a:lnTo>
                  <a:lnTo>
                    <a:pt x="23" y="98"/>
                  </a:lnTo>
                  <a:lnTo>
                    <a:pt x="14" y="130"/>
                  </a:lnTo>
                  <a:lnTo>
                    <a:pt x="8" y="162"/>
                  </a:lnTo>
                  <a:lnTo>
                    <a:pt x="3" y="193"/>
                  </a:lnTo>
                  <a:lnTo>
                    <a:pt x="1" y="225"/>
                  </a:lnTo>
                  <a:lnTo>
                    <a:pt x="0" y="258"/>
                  </a:lnTo>
                  <a:lnTo>
                    <a:pt x="0" y="290"/>
                  </a:lnTo>
                  <a:lnTo>
                    <a:pt x="2" y="354"/>
                  </a:lnTo>
                  <a:lnTo>
                    <a:pt x="5" y="418"/>
                  </a:lnTo>
                  <a:lnTo>
                    <a:pt x="6" y="451"/>
                  </a:lnTo>
                  <a:lnTo>
                    <a:pt x="6" y="483"/>
                  </a:lnTo>
                  <a:lnTo>
                    <a:pt x="6" y="515"/>
                  </a:lnTo>
                  <a:lnTo>
                    <a:pt x="3" y="548"/>
                  </a:lnTo>
                  <a:lnTo>
                    <a:pt x="414" y="517"/>
                  </a:lnTo>
                  <a:lnTo>
                    <a:pt x="807" y="493"/>
                  </a:lnTo>
                  <a:lnTo>
                    <a:pt x="1184" y="474"/>
                  </a:lnTo>
                  <a:lnTo>
                    <a:pt x="1549" y="462"/>
                  </a:lnTo>
                  <a:lnTo>
                    <a:pt x="1904" y="456"/>
                  </a:lnTo>
                  <a:lnTo>
                    <a:pt x="2248" y="453"/>
                  </a:lnTo>
                  <a:lnTo>
                    <a:pt x="2586" y="456"/>
                  </a:lnTo>
                  <a:lnTo>
                    <a:pt x="2921" y="462"/>
                  </a:lnTo>
                  <a:lnTo>
                    <a:pt x="3253" y="471"/>
                  </a:lnTo>
                  <a:lnTo>
                    <a:pt x="3585" y="484"/>
                  </a:lnTo>
                  <a:lnTo>
                    <a:pt x="3919" y="499"/>
                  </a:lnTo>
                  <a:lnTo>
                    <a:pt x="4258" y="516"/>
                  </a:lnTo>
                  <a:lnTo>
                    <a:pt x="4956" y="556"/>
                  </a:lnTo>
                  <a:lnTo>
                    <a:pt x="5698" y="597"/>
                  </a:lnTo>
                  <a:lnTo>
                    <a:pt x="6090" y="618"/>
                  </a:lnTo>
                  <a:lnTo>
                    <a:pt x="6501" y="638"/>
                  </a:lnTo>
                  <a:lnTo>
                    <a:pt x="6930" y="658"/>
                  </a:lnTo>
                  <a:lnTo>
                    <a:pt x="7382" y="675"/>
                  </a:lnTo>
                  <a:lnTo>
                    <a:pt x="7856" y="691"/>
                  </a:lnTo>
                  <a:lnTo>
                    <a:pt x="8357" y="704"/>
                  </a:lnTo>
                  <a:lnTo>
                    <a:pt x="8886" y="715"/>
                  </a:lnTo>
                  <a:lnTo>
                    <a:pt x="9445" y="722"/>
                  </a:lnTo>
                  <a:lnTo>
                    <a:pt x="10037" y="725"/>
                  </a:lnTo>
                  <a:lnTo>
                    <a:pt x="10663" y="724"/>
                  </a:lnTo>
                  <a:lnTo>
                    <a:pt x="11326" y="719"/>
                  </a:lnTo>
                  <a:lnTo>
                    <a:pt x="12028" y="708"/>
                  </a:lnTo>
                  <a:lnTo>
                    <a:pt x="12772" y="692"/>
                  </a:lnTo>
                  <a:lnTo>
                    <a:pt x="13558" y="670"/>
                  </a:lnTo>
                  <a:lnTo>
                    <a:pt x="14391" y="640"/>
                  </a:lnTo>
                  <a:lnTo>
                    <a:pt x="15270" y="605"/>
                  </a:lnTo>
                  <a:lnTo>
                    <a:pt x="15268" y="551"/>
                  </a:lnTo>
                  <a:lnTo>
                    <a:pt x="15264" y="496"/>
                  </a:lnTo>
                  <a:lnTo>
                    <a:pt x="15262" y="442"/>
                  </a:lnTo>
                  <a:lnTo>
                    <a:pt x="15259" y="388"/>
                  </a:lnTo>
                  <a:lnTo>
                    <a:pt x="15257" y="334"/>
                  </a:lnTo>
                  <a:lnTo>
                    <a:pt x="15253" y="280"/>
                  </a:lnTo>
                  <a:lnTo>
                    <a:pt x="15252" y="226"/>
                  </a:lnTo>
                  <a:lnTo>
                    <a:pt x="15249" y="171"/>
                  </a:lnTo>
                  <a:lnTo>
                    <a:pt x="14441" y="215"/>
                  </a:lnTo>
                  <a:lnTo>
                    <a:pt x="13679" y="252"/>
                  </a:lnTo>
                  <a:lnTo>
                    <a:pt x="12961" y="280"/>
                  </a:lnTo>
                  <a:lnTo>
                    <a:pt x="12283" y="303"/>
                  </a:lnTo>
                  <a:lnTo>
                    <a:pt x="11645" y="319"/>
                  </a:lnTo>
                  <a:lnTo>
                    <a:pt x="11042" y="329"/>
                  </a:lnTo>
                  <a:lnTo>
                    <a:pt x="10474" y="334"/>
                  </a:lnTo>
                  <a:lnTo>
                    <a:pt x="9936" y="334"/>
                  </a:lnTo>
                  <a:lnTo>
                    <a:pt x="9427" y="330"/>
                  </a:lnTo>
                  <a:lnTo>
                    <a:pt x="8945" y="322"/>
                  </a:lnTo>
                  <a:lnTo>
                    <a:pt x="8487" y="310"/>
                  </a:lnTo>
                  <a:lnTo>
                    <a:pt x="8051" y="295"/>
                  </a:lnTo>
                  <a:lnTo>
                    <a:pt x="7633" y="278"/>
                  </a:lnTo>
                  <a:lnTo>
                    <a:pt x="7232" y="258"/>
                  </a:lnTo>
                  <a:lnTo>
                    <a:pt x="6845" y="236"/>
                  </a:lnTo>
                  <a:lnTo>
                    <a:pt x="6470" y="214"/>
                  </a:lnTo>
                  <a:lnTo>
                    <a:pt x="5745" y="166"/>
                  </a:lnTo>
                  <a:lnTo>
                    <a:pt x="5036" y="118"/>
                  </a:lnTo>
                  <a:lnTo>
                    <a:pt x="4683" y="94"/>
                  </a:lnTo>
                  <a:lnTo>
                    <a:pt x="4325" y="73"/>
                  </a:lnTo>
                  <a:lnTo>
                    <a:pt x="3964" y="54"/>
                  </a:lnTo>
                  <a:lnTo>
                    <a:pt x="3593" y="36"/>
                  </a:lnTo>
                  <a:lnTo>
                    <a:pt x="3212" y="22"/>
                  </a:lnTo>
                  <a:lnTo>
                    <a:pt x="2819" y="11"/>
                  </a:lnTo>
                  <a:lnTo>
                    <a:pt x="2409" y="3"/>
                  </a:lnTo>
                  <a:lnTo>
                    <a:pt x="1982" y="0"/>
                  </a:lnTo>
                  <a:lnTo>
                    <a:pt x="1536" y="0"/>
                  </a:lnTo>
                  <a:lnTo>
                    <a:pt x="1066" y="6"/>
                  </a:lnTo>
                  <a:lnTo>
                    <a:pt x="570" y="17"/>
                  </a:lnTo>
                  <a:lnTo>
                    <a:pt x="48" y="34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673280" y="2226600"/>
              <a:ext cx="32040" cy="202680"/>
            </a:xfrm>
            <a:custGeom>
              <a:avLst/>
              <a:gdLst/>
              <a:ahLst/>
              <a:rect l="l" t="t" r="r" b="b"/>
              <a:pathLst>
                <a:path w="86" h="532">
                  <a:moveTo>
                    <a:pt x="21" y="505"/>
                  </a:moveTo>
                  <a:lnTo>
                    <a:pt x="43" y="518"/>
                  </a:lnTo>
                  <a:lnTo>
                    <a:pt x="46" y="486"/>
                  </a:lnTo>
                  <a:lnTo>
                    <a:pt x="46" y="453"/>
                  </a:lnTo>
                  <a:lnTo>
                    <a:pt x="46" y="421"/>
                  </a:lnTo>
                  <a:lnTo>
                    <a:pt x="44" y="388"/>
                  </a:lnTo>
                  <a:lnTo>
                    <a:pt x="42" y="324"/>
                  </a:lnTo>
                  <a:lnTo>
                    <a:pt x="39" y="259"/>
                  </a:lnTo>
                  <a:lnTo>
                    <a:pt x="39" y="228"/>
                  </a:lnTo>
                  <a:lnTo>
                    <a:pt x="41" y="196"/>
                  </a:lnTo>
                  <a:lnTo>
                    <a:pt x="43" y="164"/>
                  </a:lnTo>
                  <a:lnTo>
                    <a:pt x="47" y="133"/>
                  </a:lnTo>
                  <a:lnTo>
                    <a:pt x="53" y="101"/>
                  </a:lnTo>
                  <a:lnTo>
                    <a:pt x="61" y="70"/>
                  </a:lnTo>
                  <a:lnTo>
                    <a:pt x="66" y="54"/>
                  </a:lnTo>
                  <a:lnTo>
                    <a:pt x="73" y="40"/>
                  </a:lnTo>
                  <a:lnTo>
                    <a:pt x="79" y="24"/>
                  </a:lnTo>
                  <a:lnTo>
                    <a:pt x="86" y="9"/>
                  </a:lnTo>
                  <a:lnTo>
                    <a:pt x="49" y="0"/>
                  </a:lnTo>
                  <a:lnTo>
                    <a:pt x="42" y="16"/>
                  </a:lnTo>
                  <a:lnTo>
                    <a:pt x="34" y="32"/>
                  </a:lnTo>
                  <a:lnTo>
                    <a:pt x="28" y="48"/>
                  </a:lnTo>
                  <a:lnTo>
                    <a:pt x="23" y="66"/>
                  </a:lnTo>
                  <a:lnTo>
                    <a:pt x="15" y="97"/>
                  </a:lnTo>
                  <a:lnTo>
                    <a:pt x="9" y="129"/>
                  </a:lnTo>
                  <a:lnTo>
                    <a:pt x="4" y="163"/>
                  </a:lnTo>
                  <a:lnTo>
                    <a:pt x="1" y="195"/>
                  </a:lnTo>
                  <a:lnTo>
                    <a:pt x="0" y="227"/>
                  </a:lnTo>
                  <a:lnTo>
                    <a:pt x="0" y="260"/>
                  </a:lnTo>
                  <a:lnTo>
                    <a:pt x="2" y="324"/>
                  </a:lnTo>
                  <a:lnTo>
                    <a:pt x="5" y="389"/>
                  </a:lnTo>
                  <a:lnTo>
                    <a:pt x="6" y="421"/>
                  </a:lnTo>
                  <a:lnTo>
                    <a:pt x="6" y="453"/>
                  </a:lnTo>
                  <a:lnTo>
                    <a:pt x="6" y="485"/>
                  </a:lnTo>
                  <a:lnTo>
                    <a:pt x="4" y="517"/>
                  </a:lnTo>
                  <a:lnTo>
                    <a:pt x="26" y="532"/>
                  </a:lnTo>
                  <a:lnTo>
                    <a:pt x="4" y="517"/>
                  </a:lnTo>
                  <a:lnTo>
                    <a:pt x="5" y="521"/>
                  </a:lnTo>
                  <a:lnTo>
                    <a:pt x="5" y="523"/>
                  </a:lnTo>
                  <a:lnTo>
                    <a:pt x="7" y="526"/>
                  </a:lnTo>
                  <a:lnTo>
                    <a:pt x="10" y="528"/>
                  </a:lnTo>
                  <a:lnTo>
                    <a:pt x="16" y="530"/>
                  </a:lnTo>
                  <a:lnTo>
                    <a:pt x="22" y="532"/>
                  </a:lnTo>
                  <a:lnTo>
                    <a:pt x="30" y="530"/>
                  </a:lnTo>
                  <a:lnTo>
                    <a:pt x="37" y="528"/>
                  </a:lnTo>
                  <a:lnTo>
                    <a:pt x="39" y="527"/>
                  </a:lnTo>
                  <a:lnTo>
                    <a:pt x="42" y="524"/>
                  </a:lnTo>
                  <a:lnTo>
                    <a:pt x="43" y="522"/>
                  </a:lnTo>
                  <a:lnTo>
                    <a:pt x="43" y="518"/>
                  </a:lnTo>
                  <a:lnTo>
                    <a:pt x="21" y="5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680840" y="2381760"/>
              <a:ext cx="5786280" cy="113760"/>
            </a:xfrm>
            <a:custGeom>
              <a:avLst/>
              <a:gdLst/>
              <a:ahLst/>
              <a:rect l="l" t="t" r="r" b="b"/>
              <a:pathLst>
                <a:path w="15289" h="299">
                  <a:moveTo>
                    <a:pt x="15250" y="166"/>
                  </a:moveTo>
                  <a:lnTo>
                    <a:pt x="15268" y="151"/>
                  </a:lnTo>
                  <a:lnTo>
                    <a:pt x="14822" y="171"/>
                  </a:lnTo>
                  <a:lnTo>
                    <a:pt x="14389" y="188"/>
                  </a:lnTo>
                  <a:lnTo>
                    <a:pt x="13967" y="203"/>
                  </a:lnTo>
                  <a:lnTo>
                    <a:pt x="13556" y="216"/>
                  </a:lnTo>
                  <a:lnTo>
                    <a:pt x="13158" y="229"/>
                  </a:lnTo>
                  <a:lnTo>
                    <a:pt x="12770" y="239"/>
                  </a:lnTo>
                  <a:lnTo>
                    <a:pt x="12394" y="247"/>
                  </a:lnTo>
                  <a:lnTo>
                    <a:pt x="12027" y="255"/>
                  </a:lnTo>
                  <a:lnTo>
                    <a:pt x="11671" y="261"/>
                  </a:lnTo>
                  <a:lnTo>
                    <a:pt x="11325" y="266"/>
                  </a:lnTo>
                  <a:lnTo>
                    <a:pt x="10989" y="269"/>
                  </a:lnTo>
                  <a:lnTo>
                    <a:pt x="10662" y="271"/>
                  </a:lnTo>
                  <a:lnTo>
                    <a:pt x="10345" y="272"/>
                  </a:lnTo>
                  <a:lnTo>
                    <a:pt x="10036" y="272"/>
                  </a:lnTo>
                  <a:lnTo>
                    <a:pt x="9736" y="271"/>
                  </a:lnTo>
                  <a:lnTo>
                    <a:pt x="9444" y="268"/>
                  </a:lnTo>
                  <a:lnTo>
                    <a:pt x="9160" y="266"/>
                  </a:lnTo>
                  <a:lnTo>
                    <a:pt x="8885" y="262"/>
                  </a:lnTo>
                  <a:lnTo>
                    <a:pt x="8617" y="257"/>
                  </a:lnTo>
                  <a:lnTo>
                    <a:pt x="8356" y="251"/>
                  </a:lnTo>
                  <a:lnTo>
                    <a:pt x="8103" y="245"/>
                  </a:lnTo>
                  <a:lnTo>
                    <a:pt x="7855" y="237"/>
                  </a:lnTo>
                  <a:lnTo>
                    <a:pt x="7616" y="230"/>
                  </a:lnTo>
                  <a:lnTo>
                    <a:pt x="7381" y="221"/>
                  </a:lnTo>
                  <a:lnTo>
                    <a:pt x="6930" y="204"/>
                  </a:lnTo>
                  <a:lnTo>
                    <a:pt x="6501" y="184"/>
                  </a:lnTo>
                  <a:lnTo>
                    <a:pt x="6092" y="165"/>
                  </a:lnTo>
                  <a:lnTo>
                    <a:pt x="5699" y="144"/>
                  </a:lnTo>
                  <a:lnTo>
                    <a:pt x="4956" y="102"/>
                  </a:lnTo>
                  <a:lnTo>
                    <a:pt x="4258" y="63"/>
                  </a:lnTo>
                  <a:lnTo>
                    <a:pt x="3920" y="45"/>
                  </a:lnTo>
                  <a:lnTo>
                    <a:pt x="3585" y="31"/>
                  </a:lnTo>
                  <a:lnTo>
                    <a:pt x="3419" y="23"/>
                  </a:lnTo>
                  <a:lnTo>
                    <a:pt x="3253" y="18"/>
                  </a:lnTo>
                  <a:lnTo>
                    <a:pt x="3087" y="12"/>
                  </a:lnTo>
                  <a:lnTo>
                    <a:pt x="2921" y="9"/>
                  </a:lnTo>
                  <a:lnTo>
                    <a:pt x="2754" y="5"/>
                  </a:lnTo>
                  <a:lnTo>
                    <a:pt x="2586" y="2"/>
                  </a:lnTo>
                  <a:lnTo>
                    <a:pt x="2417" y="1"/>
                  </a:lnTo>
                  <a:lnTo>
                    <a:pt x="2247" y="0"/>
                  </a:lnTo>
                  <a:lnTo>
                    <a:pt x="2075" y="0"/>
                  </a:lnTo>
                  <a:lnTo>
                    <a:pt x="1901" y="2"/>
                  </a:lnTo>
                  <a:lnTo>
                    <a:pt x="1725" y="5"/>
                  </a:lnTo>
                  <a:lnTo>
                    <a:pt x="1547" y="10"/>
                  </a:lnTo>
                  <a:lnTo>
                    <a:pt x="1366" y="15"/>
                  </a:lnTo>
                  <a:lnTo>
                    <a:pt x="1182" y="22"/>
                  </a:lnTo>
                  <a:lnTo>
                    <a:pt x="995" y="29"/>
                  </a:lnTo>
                  <a:lnTo>
                    <a:pt x="804" y="39"/>
                  </a:lnTo>
                  <a:lnTo>
                    <a:pt x="610" y="50"/>
                  </a:lnTo>
                  <a:lnTo>
                    <a:pt x="411" y="64"/>
                  </a:lnTo>
                  <a:lnTo>
                    <a:pt x="208" y="79"/>
                  </a:lnTo>
                  <a:lnTo>
                    <a:pt x="0" y="95"/>
                  </a:lnTo>
                  <a:lnTo>
                    <a:pt x="5" y="122"/>
                  </a:lnTo>
                  <a:lnTo>
                    <a:pt x="213" y="106"/>
                  </a:lnTo>
                  <a:lnTo>
                    <a:pt x="414" y="91"/>
                  </a:lnTo>
                  <a:lnTo>
                    <a:pt x="614" y="77"/>
                  </a:lnTo>
                  <a:lnTo>
                    <a:pt x="808" y="66"/>
                  </a:lnTo>
                  <a:lnTo>
                    <a:pt x="997" y="56"/>
                  </a:lnTo>
                  <a:lnTo>
                    <a:pt x="1184" y="48"/>
                  </a:lnTo>
                  <a:lnTo>
                    <a:pt x="1369" y="42"/>
                  </a:lnTo>
                  <a:lnTo>
                    <a:pt x="1548" y="36"/>
                  </a:lnTo>
                  <a:lnTo>
                    <a:pt x="1727" y="32"/>
                  </a:lnTo>
                  <a:lnTo>
                    <a:pt x="1903" y="29"/>
                  </a:lnTo>
                  <a:lnTo>
                    <a:pt x="2076" y="27"/>
                  </a:lnTo>
                  <a:lnTo>
                    <a:pt x="2247" y="27"/>
                  </a:lnTo>
                  <a:lnTo>
                    <a:pt x="2417" y="27"/>
                  </a:lnTo>
                  <a:lnTo>
                    <a:pt x="2585" y="29"/>
                  </a:lnTo>
                  <a:lnTo>
                    <a:pt x="2752" y="32"/>
                  </a:lnTo>
                  <a:lnTo>
                    <a:pt x="2920" y="36"/>
                  </a:lnTo>
                  <a:lnTo>
                    <a:pt x="3086" y="39"/>
                  </a:lnTo>
                  <a:lnTo>
                    <a:pt x="3251" y="44"/>
                  </a:lnTo>
                  <a:lnTo>
                    <a:pt x="3417" y="50"/>
                  </a:lnTo>
                  <a:lnTo>
                    <a:pt x="3583" y="58"/>
                  </a:lnTo>
                  <a:lnTo>
                    <a:pt x="3917" y="72"/>
                  </a:lnTo>
                  <a:lnTo>
                    <a:pt x="4255" y="90"/>
                  </a:lnTo>
                  <a:lnTo>
                    <a:pt x="4954" y="129"/>
                  </a:lnTo>
                  <a:lnTo>
                    <a:pt x="5696" y="171"/>
                  </a:lnTo>
                  <a:lnTo>
                    <a:pt x="6088" y="192"/>
                  </a:lnTo>
                  <a:lnTo>
                    <a:pt x="6499" y="211"/>
                  </a:lnTo>
                  <a:lnTo>
                    <a:pt x="6928" y="231"/>
                  </a:lnTo>
                  <a:lnTo>
                    <a:pt x="7379" y="248"/>
                  </a:lnTo>
                  <a:lnTo>
                    <a:pt x="7613" y="257"/>
                  </a:lnTo>
                  <a:lnTo>
                    <a:pt x="7854" y="264"/>
                  </a:lnTo>
                  <a:lnTo>
                    <a:pt x="8101" y="272"/>
                  </a:lnTo>
                  <a:lnTo>
                    <a:pt x="8355" y="278"/>
                  </a:lnTo>
                  <a:lnTo>
                    <a:pt x="8615" y="284"/>
                  </a:lnTo>
                  <a:lnTo>
                    <a:pt x="8884" y="288"/>
                  </a:lnTo>
                  <a:lnTo>
                    <a:pt x="9160" y="293"/>
                  </a:lnTo>
                  <a:lnTo>
                    <a:pt x="9443" y="295"/>
                  </a:lnTo>
                  <a:lnTo>
                    <a:pt x="9736" y="298"/>
                  </a:lnTo>
                  <a:lnTo>
                    <a:pt x="10036" y="299"/>
                  </a:lnTo>
                  <a:lnTo>
                    <a:pt x="10345" y="299"/>
                  </a:lnTo>
                  <a:lnTo>
                    <a:pt x="10662" y="298"/>
                  </a:lnTo>
                  <a:lnTo>
                    <a:pt x="10989" y="296"/>
                  </a:lnTo>
                  <a:lnTo>
                    <a:pt x="11325" y="293"/>
                  </a:lnTo>
                  <a:lnTo>
                    <a:pt x="11672" y="288"/>
                  </a:lnTo>
                  <a:lnTo>
                    <a:pt x="12028" y="282"/>
                  </a:lnTo>
                  <a:lnTo>
                    <a:pt x="12395" y="274"/>
                  </a:lnTo>
                  <a:lnTo>
                    <a:pt x="12771" y="266"/>
                  </a:lnTo>
                  <a:lnTo>
                    <a:pt x="13159" y="256"/>
                  </a:lnTo>
                  <a:lnTo>
                    <a:pt x="13559" y="243"/>
                  </a:lnTo>
                  <a:lnTo>
                    <a:pt x="13968" y="230"/>
                  </a:lnTo>
                  <a:lnTo>
                    <a:pt x="14391" y="214"/>
                  </a:lnTo>
                  <a:lnTo>
                    <a:pt x="14824" y="198"/>
                  </a:lnTo>
                  <a:lnTo>
                    <a:pt x="15271" y="178"/>
                  </a:lnTo>
                  <a:lnTo>
                    <a:pt x="15289" y="165"/>
                  </a:lnTo>
                  <a:lnTo>
                    <a:pt x="15271" y="178"/>
                  </a:lnTo>
                  <a:lnTo>
                    <a:pt x="15275" y="178"/>
                  </a:lnTo>
                  <a:lnTo>
                    <a:pt x="15279" y="177"/>
                  </a:lnTo>
                  <a:lnTo>
                    <a:pt x="15283" y="176"/>
                  </a:lnTo>
                  <a:lnTo>
                    <a:pt x="15285" y="173"/>
                  </a:lnTo>
                  <a:lnTo>
                    <a:pt x="15287" y="172"/>
                  </a:lnTo>
                  <a:lnTo>
                    <a:pt x="15288" y="170"/>
                  </a:lnTo>
                  <a:lnTo>
                    <a:pt x="15289" y="167"/>
                  </a:lnTo>
                  <a:lnTo>
                    <a:pt x="15289" y="165"/>
                  </a:lnTo>
                  <a:lnTo>
                    <a:pt x="15288" y="160"/>
                  </a:lnTo>
                  <a:lnTo>
                    <a:pt x="15283" y="155"/>
                  </a:lnTo>
                  <a:lnTo>
                    <a:pt x="15277" y="152"/>
                  </a:lnTo>
                  <a:lnTo>
                    <a:pt x="15268" y="151"/>
                  </a:lnTo>
                  <a:lnTo>
                    <a:pt x="1525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444440" y="2275920"/>
              <a:ext cx="22680" cy="168120"/>
            </a:xfrm>
            <a:custGeom>
              <a:avLst/>
              <a:gdLst/>
              <a:ahLst/>
              <a:rect l="l" t="t" r="r" b="b"/>
              <a:pathLst>
                <a:path w="60" h="448">
                  <a:moveTo>
                    <a:pt x="21" y="26"/>
                  </a:moveTo>
                  <a:lnTo>
                    <a:pt x="0" y="14"/>
                  </a:lnTo>
                  <a:lnTo>
                    <a:pt x="2" y="68"/>
                  </a:lnTo>
                  <a:lnTo>
                    <a:pt x="3" y="122"/>
                  </a:lnTo>
                  <a:lnTo>
                    <a:pt x="7" y="176"/>
                  </a:lnTo>
                  <a:lnTo>
                    <a:pt x="10" y="230"/>
                  </a:lnTo>
                  <a:lnTo>
                    <a:pt x="12" y="284"/>
                  </a:lnTo>
                  <a:lnTo>
                    <a:pt x="16" y="340"/>
                  </a:lnTo>
                  <a:lnTo>
                    <a:pt x="18" y="394"/>
                  </a:lnTo>
                  <a:lnTo>
                    <a:pt x="21" y="448"/>
                  </a:lnTo>
                  <a:lnTo>
                    <a:pt x="60" y="447"/>
                  </a:lnTo>
                  <a:lnTo>
                    <a:pt x="58" y="393"/>
                  </a:lnTo>
                  <a:lnTo>
                    <a:pt x="54" y="338"/>
                  </a:lnTo>
                  <a:lnTo>
                    <a:pt x="51" y="284"/>
                  </a:lnTo>
                  <a:lnTo>
                    <a:pt x="49" y="230"/>
                  </a:lnTo>
                  <a:lnTo>
                    <a:pt x="46" y="175"/>
                  </a:lnTo>
                  <a:lnTo>
                    <a:pt x="43" y="121"/>
                  </a:lnTo>
                  <a:lnTo>
                    <a:pt x="42" y="67"/>
                  </a:lnTo>
                  <a:lnTo>
                    <a:pt x="39" y="13"/>
                  </a:lnTo>
                  <a:lnTo>
                    <a:pt x="18" y="0"/>
                  </a:lnTo>
                  <a:lnTo>
                    <a:pt x="39" y="13"/>
                  </a:lnTo>
                  <a:lnTo>
                    <a:pt x="39" y="10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92000" y="2209680"/>
              <a:ext cx="5760000" cy="138240"/>
            </a:xfrm>
            <a:custGeom>
              <a:avLst/>
              <a:gdLst/>
              <a:ahLst/>
              <a:rect l="l" t="t" r="r" b="b"/>
              <a:pathLst>
                <a:path w="15223" h="363">
                  <a:moveTo>
                    <a:pt x="38" y="53"/>
                  </a:moveTo>
                  <a:lnTo>
                    <a:pt x="21" y="62"/>
                  </a:lnTo>
                  <a:lnTo>
                    <a:pt x="285" y="53"/>
                  </a:lnTo>
                  <a:lnTo>
                    <a:pt x="544" y="44"/>
                  </a:lnTo>
                  <a:lnTo>
                    <a:pt x="794" y="38"/>
                  </a:lnTo>
                  <a:lnTo>
                    <a:pt x="1038" y="33"/>
                  </a:lnTo>
                  <a:lnTo>
                    <a:pt x="1275" y="30"/>
                  </a:lnTo>
                  <a:lnTo>
                    <a:pt x="1508" y="27"/>
                  </a:lnTo>
                  <a:lnTo>
                    <a:pt x="1734" y="26"/>
                  </a:lnTo>
                  <a:lnTo>
                    <a:pt x="1954" y="27"/>
                  </a:lnTo>
                  <a:lnTo>
                    <a:pt x="2171" y="28"/>
                  </a:lnTo>
                  <a:lnTo>
                    <a:pt x="2381" y="30"/>
                  </a:lnTo>
                  <a:lnTo>
                    <a:pt x="2588" y="33"/>
                  </a:lnTo>
                  <a:lnTo>
                    <a:pt x="2791" y="38"/>
                  </a:lnTo>
                  <a:lnTo>
                    <a:pt x="2989" y="43"/>
                  </a:lnTo>
                  <a:lnTo>
                    <a:pt x="3183" y="49"/>
                  </a:lnTo>
                  <a:lnTo>
                    <a:pt x="3375" y="57"/>
                  </a:lnTo>
                  <a:lnTo>
                    <a:pt x="3564" y="64"/>
                  </a:lnTo>
                  <a:lnTo>
                    <a:pt x="3750" y="73"/>
                  </a:lnTo>
                  <a:lnTo>
                    <a:pt x="3934" y="81"/>
                  </a:lnTo>
                  <a:lnTo>
                    <a:pt x="4116" y="91"/>
                  </a:lnTo>
                  <a:lnTo>
                    <a:pt x="4296" y="101"/>
                  </a:lnTo>
                  <a:lnTo>
                    <a:pt x="4653" y="122"/>
                  </a:lnTo>
                  <a:lnTo>
                    <a:pt x="5007" y="145"/>
                  </a:lnTo>
                  <a:lnTo>
                    <a:pt x="5714" y="192"/>
                  </a:lnTo>
                  <a:lnTo>
                    <a:pt x="6440" y="240"/>
                  </a:lnTo>
                  <a:lnTo>
                    <a:pt x="6815" y="263"/>
                  </a:lnTo>
                  <a:lnTo>
                    <a:pt x="7202" y="285"/>
                  </a:lnTo>
                  <a:lnTo>
                    <a:pt x="7402" y="295"/>
                  </a:lnTo>
                  <a:lnTo>
                    <a:pt x="7603" y="305"/>
                  </a:lnTo>
                  <a:lnTo>
                    <a:pt x="7810" y="314"/>
                  </a:lnTo>
                  <a:lnTo>
                    <a:pt x="8021" y="322"/>
                  </a:lnTo>
                  <a:lnTo>
                    <a:pt x="8238" y="331"/>
                  </a:lnTo>
                  <a:lnTo>
                    <a:pt x="8458" y="337"/>
                  </a:lnTo>
                  <a:lnTo>
                    <a:pt x="8684" y="344"/>
                  </a:lnTo>
                  <a:lnTo>
                    <a:pt x="8917" y="349"/>
                  </a:lnTo>
                  <a:lnTo>
                    <a:pt x="9154" y="354"/>
                  </a:lnTo>
                  <a:lnTo>
                    <a:pt x="9399" y="358"/>
                  </a:lnTo>
                  <a:lnTo>
                    <a:pt x="9650" y="360"/>
                  </a:lnTo>
                  <a:lnTo>
                    <a:pt x="9908" y="362"/>
                  </a:lnTo>
                  <a:lnTo>
                    <a:pt x="10173" y="363"/>
                  </a:lnTo>
                  <a:lnTo>
                    <a:pt x="10446" y="362"/>
                  </a:lnTo>
                  <a:lnTo>
                    <a:pt x="10726" y="360"/>
                  </a:lnTo>
                  <a:lnTo>
                    <a:pt x="11014" y="357"/>
                  </a:lnTo>
                  <a:lnTo>
                    <a:pt x="11312" y="353"/>
                  </a:lnTo>
                  <a:lnTo>
                    <a:pt x="11617" y="347"/>
                  </a:lnTo>
                  <a:lnTo>
                    <a:pt x="11931" y="340"/>
                  </a:lnTo>
                  <a:lnTo>
                    <a:pt x="12256" y="331"/>
                  </a:lnTo>
                  <a:lnTo>
                    <a:pt x="12589" y="320"/>
                  </a:lnTo>
                  <a:lnTo>
                    <a:pt x="12934" y="308"/>
                  </a:lnTo>
                  <a:lnTo>
                    <a:pt x="13288" y="294"/>
                  </a:lnTo>
                  <a:lnTo>
                    <a:pt x="13652" y="279"/>
                  </a:lnTo>
                  <a:lnTo>
                    <a:pt x="14028" y="262"/>
                  </a:lnTo>
                  <a:lnTo>
                    <a:pt x="14415" y="242"/>
                  </a:lnTo>
                  <a:lnTo>
                    <a:pt x="14813" y="221"/>
                  </a:lnTo>
                  <a:lnTo>
                    <a:pt x="15223" y="198"/>
                  </a:lnTo>
                  <a:lnTo>
                    <a:pt x="15220" y="172"/>
                  </a:lnTo>
                  <a:lnTo>
                    <a:pt x="14809" y="194"/>
                  </a:lnTo>
                  <a:lnTo>
                    <a:pt x="14412" y="215"/>
                  </a:lnTo>
                  <a:lnTo>
                    <a:pt x="14025" y="235"/>
                  </a:lnTo>
                  <a:lnTo>
                    <a:pt x="13650" y="252"/>
                  </a:lnTo>
                  <a:lnTo>
                    <a:pt x="13286" y="267"/>
                  </a:lnTo>
                  <a:lnTo>
                    <a:pt x="12931" y="280"/>
                  </a:lnTo>
                  <a:lnTo>
                    <a:pt x="12588" y="293"/>
                  </a:lnTo>
                  <a:lnTo>
                    <a:pt x="12255" y="304"/>
                  </a:lnTo>
                  <a:lnTo>
                    <a:pt x="11930" y="312"/>
                  </a:lnTo>
                  <a:lnTo>
                    <a:pt x="11617" y="320"/>
                  </a:lnTo>
                  <a:lnTo>
                    <a:pt x="11310" y="326"/>
                  </a:lnTo>
                  <a:lnTo>
                    <a:pt x="11014" y="330"/>
                  </a:lnTo>
                  <a:lnTo>
                    <a:pt x="10725" y="333"/>
                  </a:lnTo>
                  <a:lnTo>
                    <a:pt x="10446" y="335"/>
                  </a:lnTo>
                  <a:lnTo>
                    <a:pt x="10173" y="336"/>
                  </a:lnTo>
                  <a:lnTo>
                    <a:pt x="9908" y="335"/>
                  </a:lnTo>
                  <a:lnTo>
                    <a:pt x="9650" y="333"/>
                  </a:lnTo>
                  <a:lnTo>
                    <a:pt x="9400" y="331"/>
                  </a:lnTo>
                  <a:lnTo>
                    <a:pt x="9155" y="327"/>
                  </a:lnTo>
                  <a:lnTo>
                    <a:pt x="8918" y="322"/>
                  </a:lnTo>
                  <a:lnTo>
                    <a:pt x="8686" y="317"/>
                  </a:lnTo>
                  <a:lnTo>
                    <a:pt x="8461" y="311"/>
                  </a:lnTo>
                  <a:lnTo>
                    <a:pt x="8239" y="304"/>
                  </a:lnTo>
                  <a:lnTo>
                    <a:pt x="8024" y="295"/>
                  </a:lnTo>
                  <a:lnTo>
                    <a:pt x="7812" y="287"/>
                  </a:lnTo>
                  <a:lnTo>
                    <a:pt x="7606" y="278"/>
                  </a:lnTo>
                  <a:lnTo>
                    <a:pt x="7404" y="268"/>
                  </a:lnTo>
                  <a:lnTo>
                    <a:pt x="7206" y="258"/>
                  </a:lnTo>
                  <a:lnTo>
                    <a:pt x="6819" y="236"/>
                  </a:lnTo>
                  <a:lnTo>
                    <a:pt x="6443" y="214"/>
                  </a:lnTo>
                  <a:lnTo>
                    <a:pt x="5718" y="166"/>
                  </a:lnTo>
                  <a:lnTo>
                    <a:pt x="5011" y="118"/>
                  </a:lnTo>
                  <a:lnTo>
                    <a:pt x="4656" y="95"/>
                  </a:lnTo>
                  <a:lnTo>
                    <a:pt x="4300" y="74"/>
                  </a:lnTo>
                  <a:lnTo>
                    <a:pt x="4119" y="64"/>
                  </a:lnTo>
                  <a:lnTo>
                    <a:pt x="3937" y="54"/>
                  </a:lnTo>
                  <a:lnTo>
                    <a:pt x="3752" y="46"/>
                  </a:lnTo>
                  <a:lnTo>
                    <a:pt x="3567" y="37"/>
                  </a:lnTo>
                  <a:lnTo>
                    <a:pt x="3377" y="30"/>
                  </a:lnTo>
                  <a:lnTo>
                    <a:pt x="3185" y="22"/>
                  </a:lnTo>
                  <a:lnTo>
                    <a:pt x="2990" y="16"/>
                  </a:lnTo>
                  <a:lnTo>
                    <a:pt x="2792" y="11"/>
                  </a:lnTo>
                  <a:lnTo>
                    <a:pt x="2589" y="6"/>
                  </a:lnTo>
                  <a:lnTo>
                    <a:pt x="2382" y="4"/>
                  </a:lnTo>
                  <a:lnTo>
                    <a:pt x="2171" y="1"/>
                  </a:lnTo>
                  <a:lnTo>
                    <a:pt x="1954" y="0"/>
                  </a:lnTo>
                  <a:lnTo>
                    <a:pt x="1734" y="0"/>
                  </a:lnTo>
                  <a:lnTo>
                    <a:pt x="1508" y="0"/>
                  </a:lnTo>
                  <a:lnTo>
                    <a:pt x="1275" y="3"/>
                  </a:lnTo>
                  <a:lnTo>
                    <a:pt x="1037" y="6"/>
                  </a:lnTo>
                  <a:lnTo>
                    <a:pt x="793" y="11"/>
                  </a:lnTo>
                  <a:lnTo>
                    <a:pt x="542" y="17"/>
                  </a:lnTo>
                  <a:lnTo>
                    <a:pt x="284" y="26"/>
                  </a:lnTo>
                  <a:lnTo>
                    <a:pt x="18" y="34"/>
                  </a:lnTo>
                  <a:lnTo>
                    <a:pt x="1" y="44"/>
                  </a:lnTo>
                  <a:lnTo>
                    <a:pt x="18" y="34"/>
                  </a:lnTo>
                  <a:lnTo>
                    <a:pt x="15" y="36"/>
                  </a:lnTo>
                  <a:lnTo>
                    <a:pt x="10" y="37"/>
                  </a:lnTo>
                  <a:lnTo>
                    <a:pt x="7" y="38"/>
                  </a:lnTo>
                  <a:lnTo>
                    <a:pt x="5" y="39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1" y="62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68400" y="2472840"/>
              <a:ext cx="1585440" cy="354240"/>
            </a:xfrm>
            <a:custGeom>
              <a:avLst/>
              <a:gdLst/>
              <a:ahLst/>
              <a:rect l="l" t="t" r="r" b="b"/>
              <a:pathLst>
                <a:path w="4187" h="932">
                  <a:moveTo>
                    <a:pt x="0" y="0"/>
                  </a:moveTo>
                  <a:lnTo>
                    <a:pt x="4187" y="0"/>
                  </a:lnTo>
                  <a:lnTo>
                    <a:pt x="4187" y="932"/>
                  </a:lnTo>
                  <a:lnTo>
                    <a:pt x="0" y="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68400" y="2463120"/>
              <a:ext cx="1594800" cy="18720"/>
            </a:xfrm>
            <a:custGeom>
              <a:avLst/>
              <a:gdLst/>
              <a:ahLst/>
              <a:rect l="l" t="t" r="r" b="b"/>
              <a:pathLst>
                <a:path w="4212" h="48">
                  <a:moveTo>
                    <a:pt x="4212" y="25"/>
                  </a:moveTo>
                  <a:lnTo>
                    <a:pt x="418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187" y="48"/>
                  </a:lnTo>
                  <a:lnTo>
                    <a:pt x="4212" y="25"/>
                  </a:lnTo>
                  <a:lnTo>
                    <a:pt x="4187" y="48"/>
                  </a:lnTo>
                  <a:lnTo>
                    <a:pt x="4192" y="48"/>
                  </a:lnTo>
                  <a:lnTo>
                    <a:pt x="4197" y="47"/>
                  </a:lnTo>
                  <a:lnTo>
                    <a:pt x="4202" y="44"/>
                  </a:lnTo>
                  <a:lnTo>
                    <a:pt x="4206" y="41"/>
                  </a:lnTo>
                  <a:lnTo>
                    <a:pt x="4208" y="37"/>
                  </a:lnTo>
                  <a:lnTo>
                    <a:pt x="4210" y="33"/>
                  </a:lnTo>
                  <a:lnTo>
                    <a:pt x="4211" y="28"/>
                  </a:lnTo>
                  <a:lnTo>
                    <a:pt x="4212" y="25"/>
                  </a:lnTo>
                  <a:lnTo>
                    <a:pt x="4211" y="20"/>
                  </a:lnTo>
                  <a:lnTo>
                    <a:pt x="4210" y="15"/>
                  </a:lnTo>
                  <a:lnTo>
                    <a:pt x="4208" y="11"/>
                  </a:lnTo>
                  <a:lnTo>
                    <a:pt x="4206" y="8"/>
                  </a:lnTo>
                  <a:lnTo>
                    <a:pt x="4202" y="4"/>
                  </a:lnTo>
                  <a:lnTo>
                    <a:pt x="4197" y="1"/>
                  </a:lnTo>
                  <a:lnTo>
                    <a:pt x="4192" y="0"/>
                  </a:lnTo>
                  <a:lnTo>
                    <a:pt x="4187" y="0"/>
                  </a:lnTo>
                  <a:lnTo>
                    <a:pt x="4212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444480" y="2472840"/>
              <a:ext cx="18720" cy="363600"/>
            </a:xfrm>
            <a:custGeom>
              <a:avLst/>
              <a:gdLst/>
              <a:ahLst/>
              <a:rect l="l" t="t" r="r" b="b"/>
              <a:pathLst>
                <a:path w="49" h="957">
                  <a:moveTo>
                    <a:pt x="24" y="957"/>
                  </a:moveTo>
                  <a:lnTo>
                    <a:pt x="49" y="93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932"/>
                  </a:lnTo>
                  <a:lnTo>
                    <a:pt x="24" y="957"/>
                  </a:lnTo>
                  <a:lnTo>
                    <a:pt x="0" y="932"/>
                  </a:lnTo>
                  <a:lnTo>
                    <a:pt x="0" y="938"/>
                  </a:lnTo>
                  <a:lnTo>
                    <a:pt x="2" y="943"/>
                  </a:lnTo>
                  <a:lnTo>
                    <a:pt x="5" y="947"/>
                  </a:lnTo>
                  <a:lnTo>
                    <a:pt x="7" y="951"/>
                  </a:lnTo>
                  <a:lnTo>
                    <a:pt x="11" y="953"/>
                  </a:lnTo>
                  <a:lnTo>
                    <a:pt x="15" y="955"/>
                  </a:lnTo>
                  <a:lnTo>
                    <a:pt x="20" y="957"/>
                  </a:lnTo>
                  <a:lnTo>
                    <a:pt x="24" y="957"/>
                  </a:lnTo>
                  <a:lnTo>
                    <a:pt x="28" y="957"/>
                  </a:lnTo>
                  <a:lnTo>
                    <a:pt x="33" y="955"/>
                  </a:lnTo>
                  <a:lnTo>
                    <a:pt x="37" y="953"/>
                  </a:lnTo>
                  <a:lnTo>
                    <a:pt x="40" y="951"/>
                  </a:lnTo>
                  <a:lnTo>
                    <a:pt x="44" y="947"/>
                  </a:lnTo>
                  <a:lnTo>
                    <a:pt x="47" y="943"/>
                  </a:lnTo>
                  <a:lnTo>
                    <a:pt x="48" y="938"/>
                  </a:lnTo>
                  <a:lnTo>
                    <a:pt x="49" y="932"/>
                  </a:lnTo>
                  <a:lnTo>
                    <a:pt x="24" y="9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858320" y="2805840"/>
              <a:ext cx="1595160" cy="30240"/>
            </a:xfrm>
            <a:custGeom>
              <a:avLst/>
              <a:gdLst/>
              <a:ahLst/>
              <a:rect l="l" t="t" r="r" b="b"/>
              <a:pathLst>
                <a:path w="4212" h="79">
                  <a:moveTo>
                    <a:pt x="0" y="25"/>
                  </a:moveTo>
                  <a:lnTo>
                    <a:pt x="23" y="49"/>
                  </a:lnTo>
                  <a:lnTo>
                    <a:pt x="4212" y="79"/>
                  </a:lnTo>
                  <a:lnTo>
                    <a:pt x="4212" y="31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858320" y="2463120"/>
              <a:ext cx="19080" cy="352080"/>
            </a:xfrm>
            <a:custGeom>
              <a:avLst/>
              <a:gdLst/>
              <a:ahLst/>
              <a:rect l="l" t="t" r="r" b="b"/>
              <a:pathLst>
                <a:path w="48" h="928">
                  <a:moveTo>
                    <a:pt x="25" y="0"/>
                  </a:moveTo>
                  <a:lnTo>
                    <a:pt x="0" y="25"/>
                  </a:lnTo>
                  <a:lnTo>
                    <a:pt x="0" y="928"/>
                  </a:lnTo>
                  <a:lnTo>
                    <a:pt x="48" y="928"/>
                  </a:lnTo>
                  <a:lnTo>
                    <a:pt x="48" y="25"/>
                  </a:lnTo>
                  <a:lnTo>
                    <a:pt x="25" y="0"/>
                  </a:lnTo>
                  <a:lnTo>
                    <a:pt x="48" y="25"/>
                  </a:lnTo>
                  <a:lnTo>
                    <a:pt x="48" y="19"/>
                  </a:lnTo>
                  <a:lnTo>
                    <a:pt x="47" y="14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22600" y="3802320"/>
              <a:ext cx="5685840" cy="677520"/>
            </a:xfrm>
            <a:custGeom>
              <a:avLst/>
              <a:gdLst/>
              <a:ahLst/>
              <a:rect l="l" t="t" r="r" b="b"/>
              <a:pathLst>
                <a:path w="15026" h="1792">
                  <a:moveTo>
                    <a:pt x="15026" y="278"/>
                  </a:moveTo>
                  <a:lnTo>
                    <a:pt x="15026" y="1792"/>
                  </a:lnTo>
                  <a:lnTo>
                    <a:pt x="0" y="1792"/>
                  </a:lnTo>
                  <a:lnTo>
                    <a:pt x="0" y="267"/>
                  </a:lnTo>
                  <a:lnTo>
                    <a:pt x="461" y="225"/>
                  </a:lnTo>
                  <a:lnTo>
                    <a:pt x="922" y="188"/>
                  </a:lnTo>
                  <a:lnTo>
                    <a:pt x="1386" y="155"/>
                  </a:lnTo>
                  <a:lnTo>
                    <a:pt x="1848" y="125"/>
                  </a:lnTo>
                  <a:lnTo>
                    <a:pt x="2312" y="99"/>
                  </a:lnTo>
                  <a:lnTo>
                    <a:pt x="2777" y="76"/>
                  </a:lnTo>
                  <a:lnTo>
                    <a:pt x="3243" y="56"/>
                  </a:lnTo>
                  <a:lnTo>
                    <a:pt x="3708" y="40"/>
                  </a:lnTo>
                  <a:lnTo>
                    <a:pt x="4175" y="27"/>
                  </a:lnTo>
                  <a:lnTo>
                    <a:pt x="4643" y="16"/>
                  </a:lnTo>
                  <a:lnTo>
                    <a:pt x="5110" y="8"/>
                  </a:lnTo>
                  <a:lnTo>
                    <a:pt x="5579" y="3"/>
                  </a:lnTo>
                  <a:lnTo>
                    <a:pt x="6047" y="0"/>
                  </a:lnTo>
                  <a:lnTo>
                    <a:pt x="6517" y="0"/>
                  </a:lnTo>
                  <a:lnTo>
                    <a:pt x="6987" y="2"/>
                  </a:lnTo>
                  <a:lnTo>
                    <a:pt x="7457" y="7"/>
                  </a:lnTo>
                  <a:lnTo>
                    <a:pt x="7928" y="13"/>
                  </a:lnTo>
                  <a:lnTo>
                    <a:pt x="8399" y="22"/>
                  </a:lnTo>
                  <a:lnTo>
                    <a:pt x="8870" y="32"/>
                  </a:lnTo>
                  <a:lnTo>
                    <a:pt x="9342" y="44"/>
                  </a:lnTo>
                  <a:lnTo>
                    <a:pt x="9815" y="58"/>
                  </a:lnTo>
                  <a:lnTo>
                    <a:pt x="10287" y="72"/>
                  </a:lnTo>
                  <a:lnTo>
                    <a:pt x="10760" y="88"/>
                  </a:lnTo>
                  <a:lnTo>
                    <a:pt x="11234" y="106"/>
                  </a:lnTo>
                  <a:lnTo>
                    <a:pt x="11706" y="125"/>
                  </a:lnTo>
                  <a:lnTo>
                    <a:pt x="12180" y="145"/>
                  </a:lnTo>
                  <a:lnTo>
                    <a:pt x="12655" y="165"/>
                  </a:lnTo>
                  <a:lnTo>
                    <a:pt x="13128" y="187"/>
                  </a:lnTo>
                  <a:lnTo>
                    <a:pt x="14076" y="231"/>
                  </a:lnTo>
                  <a:lnTo>
                    <a:pt x="15026" y="278"/>
                  </a:lnTo>
                  <a:close/>
                </a:path>
              </a:pathLst>
            </a:custGeom>
            <a:solidFill>
              <a:srgbClr val="d9b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399080" y="3906000"/>
              <a:ext cx="16920" cy="582840"/>
            </a:xfrm>
            <a:custGeom>
              <a:avLst/>
              <a:gdLst/>
              <a:ahLst/>
              <a:rect l="l" t="t" r="r" b="b"/>
              <a:pathLst>
                <a:path w="48" h="1538">
                  <a:moveTo>
                    <a:pt x="25" y="1538"/>
                  </a:moveTo>
                  <a:lnTo>
                    <a:pt x="48" y="1514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514"/>
                  </a:lnTo>
                  <a:lnTo>
                    <a:pt x="25" y="1538"/>
                  </a:lnTo>
                  <a:lnTo>
                    <a:pt x="0" y="1514"/>
                  </a:lnTo>
                  <a:lnTo>
                    <a:pt x="0" y="1519"/>
                  </a:lnTo>
                  <a:lnTo>
                    <a:pt x="3" y="1524"/>
                  </a:lnTo>
                  <a:lnTo>
                    <a:pt x="4" y="1529"/>
                  </a:lnTo>
                  <a:lnTo>
                    <a:pt x="8" y="1532"/>
                  </a:lnTo>
                  <a:lnTo>
                    <a:pt x="11" y="1535"/>
                  </a:lnTo>
                  <a:lnTo>
                    <a:pt x="15" y="1536"/>
                  </a:lnTo>
                  <a:lnTo>
                    <a:pt x="20" y="1537"/>
                  </a:lnTo>
                  <a:lnTo>
                    <a:pt x="25" y="1538"/>
                  </a:lnTo>
                  <a:lnTo>
                    <a:pt x="28" y="1537"/>
                  </a:lnTo>
                  <a:lnTo>
                    <a:pt x="33" y="1536"/>
                  </a:lnTo>
                  <a:lnTo>
                    <a:pt x="37" y="1535"/>
                  </a:lnTo>
                  <a:lnTo>
                    <a:pt x="41" y="1532"/>
                  </a:lnTo>
                  <a:lnTo>
                    <a:pt x="44" y="1529"/>
                  </a:lnTo>
                  <a:lnTo>
                    <a:pt x="47" y="1524"/>
                  </a:lnTo>
                  <a:lnTo>
                    <a:pt x="48" y="1519"/>
                  </a:lnTo>
                  <a:lnTo>
                    <a:pt x="48" y="1514"/>
                  </a:lnTo>
                  <a:lnTo>
                    <a:pt x="25" y="15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4470480"/>
              <a:ext cx="5695200" cy="18720"/>
            </a:xfrm>
            <a:custGeom>
              <a:avLst/>
              <a:gdLst/>
              <a:ahLst/>
              <a:rect l="l" t="t" r="r" b="b"/>
              <a:pathLst>
                <a:path w="15051" h="49">
                  <a:moveTo>
                    <a:pt x="0" y="25"/>
                  </a:moveTo>
                  <a:lnTo>
                    <a:pt x="25" y="49"/>
                  </a:lnTo>
                  <a:lnTo>
                    <a:pt x="15051" y="49"/>
                  </a:lnTo>
                  <a:lnTo>
                    <a:pt x="15051" y="0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5" y="47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12880" y="3892680"/>
              <a:ext cx="18720" cy="586800"/>
            </a:xfrm>
            <a:custGeom>
              <a:avLst/>
              <a:gdLst/>
              <a:ahLst/>
              <a:rect l="l" t="t" r="r" b="b"/>
              <a:pathLst>
                <a:path w="50" h="1550">
                  <a:moveTo>
                    <a:pt x="24" y="0"/>
                  </a:moveTo>
                  <a:lnTo>
                    <a:pt x="0" y="25"/>
                  </a:lnTo>
                  <a:lnTo>
                    <a:pt x="0" y="1550"/>
                  </a:lnTo>
                  <a:lnTo>
                    <a:pt x="50" y="1550"/>
                  </a:lnTo>
                  <a:lnTo>
                    <a:pt x="50" y="25"/>
                  </a:lnTo>
                  <a:lnTo>
                    <a:pt x="24" y="0"/>
                  </a:lnTo>
                  <a:lnTo>
                    <a:pt x="50" y="25"/>
                  </a:lnTo>
                  <a:lnTo>
                    <a:pt x="50" y="18"/>
                  </a:lnTo>
                  <a:lnTo>
                    <a:pt x="47" y="14"/>
                  </a:lnTo>
                  <a:lnTo>
                    <a:pt x="45" y="10"/>
                  </a:lnTo>
                  <a:lnTo>
                    <a:pt x="42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20800" y="3792960"/>
              <a:ext cx="5695200" cy="122760"/>
            </a:xfrm>
            <a:custGeom>
              <a:avLst/>
              <a:gdLst/>
              <a:ahLst/>
              <a:rect l="l" t="t" r="r" b="b"/>
              <a:pathLst>
                <a:path w="15050" h="327">
                  <a:moveTo>
                    <a:pt x="15050" y="303"/>
                  </a:moveTo>
                  <a:lnTo>
                    <a:pt x="15028" y="278"/>
                  </a:lnTo>
                  <a:lnTo>
                    <a:pt x="14079" y="233"/>
                  </a:lnTo>
                  <a:lnTo>
                    <a:pt x="13130" y="187"/>
                  </a:lnTo>
                  <a:lnTo>
                    <a:pt x="12657" y="166"/>
                  </a:lnTo>
                  <a:lnTo>
                    <a:pt x="12182" y="145"/>
                  </a:lnTo>
                  <a:lnTo>
                    <a:pt x="11708" y="126"/>
                  </a:lnTo>
                  <a:lnTo>
                    <a:pt x="11235" y="107"/>
                  </a:lnTo>
                  <a:lnTo>
                    <a:pt x="10763" y="89"/>
                  </a:lnTo>
                  <a:lnTo>
                    <a:pt x="10289" y="73"/>
                  </a:lnTo>
                  <a:lnTo>
                    <a:pt x="9817" y="58"/>
                  </a:lnTo>
                  <a:lnTo>
                    <a:pt x="9345" y="44"/>
                  </a:lnTo>
                  <a:lnTo>
                    <a:pt x="8872" y="32"/>
                  </a:lnTo>
                  <a:lnTo>
                    <a:pt x="8400" y="22"/>
                  </a:lnTo>
                  <a:lnTo>
                    <a:pt x="7929" y="14"/>
                  </a:lnTo>
                  <a:lnTo>
                    <a:pt x="7458" y="8"/>
                  </a:lnTo>
                  <a:lnTo>
                    <a:pt x="6988" y="3"/>
                  </a:lnTo>
                  <a:lnTo>
                    <a:pt x="6518" y="0"/>
                  </a:lnTo>
                  <a:lnTo>
                    <a:pt x="6048" y="1"/>
                  </a:lnTo>
                  <a:lnTo>
                    <a:pt x="5580" y="4"/>
                  </a:lnTo>
                  <a:lnTo>
                    <a:pt x="5345" y="6"/>
                  </a:lnTo>
                  <a:lnTo>
                    <a:pt x="5111" y="9"/>
                  </a:lnTo>
                  <a:lnTo>
                    <a:pt x="4876" y="12"/>
                  </a:lnTo>
                  <a:lnTo>
                    <a:pt x="4643" y="16"/>
                  </a:lnTo>
                  <a:lnTo>
                    <a:pt x="4409" y="21"/>
                  </a:lnTo>
                  <a:lnTo>
                    <a:pt x="4175" y="27"/>
                  </a:lnTo>
                  <a:lnTo>
                    <a:pt x="3943" y="33"/>
                  </a:lnTo>
                  <a:lnTo>
                    <a:pt x="3709" y="41"/>
                  </a:lnTo>
                  <a:lnTo>
                    <a:pt x="3475" y="48"/>
                  </a:lnTo>
                  <a:lnTo>
                    <a:pt x="3243" y="57"/>
                  </a:lnTo>
                  <a:lnTo>
                    <a:pt x="3011" y="67"/>
                  </a:lnTo>
                  <a:lnTo>
                    <a:pt x="2777" y="76"/>
                  </a:lnTo>
                  <a:lnTo>
                    <a:pt x="2544" y="87"/>
                  </a:lnTo>
                  <a:lnTo>
                    <a:pt x="2312" y="100"/>
                  </a:lnTo>
                  <a:lnTo>
                    <a:pt x="2081" y="112"/>
                  </a:lnTo>
                  <a:lnTo>
                    <a:pt x="1848" y="126"/>
                  </a:lnTo>
                  <a:lnTo>
                    <a:pt x="1617" y="140"/>
                  </a:lnTo>
                  <a:lnTo>
                    <a:pt x="1385" y="155"/>
                  </a:lnTo>
                  <a:lnTo>
                    <a:pt x="1153" y="172"/>
                  </a:lnTo>
                  <a:lnTo>
                    <a:pt x="922" y="190"/>
                  </a:lnTo>
                  <a:lnTo>
                    <a:pt x="691" y="207"/>
                  </a:lnTo>
                  <a:lnTo>
                    <a:pt x="460" y="226"/>
                  </a:lnTo>
                  <a:lnTo>
                    <a:pt x="230" y="246"/>
                  </a:lnTo>
                  <a:lnTo>
                    <a:pt x="0" y="267"/>
                  </a:lnTo>
                  <a:lnTo>
                    <a:pt x="3" y="315"/>
                  </a:lnTo>
                  <a:lnTo>
                    <a:pt x="233" y="294"/>
                  </a:lnTo>
                  <a:lnTo>
                    <a:pt x="465" y="274"/>
                  </a:lnTo>
                  <a:lnTo>
                    <a:pt x="695" y="256"/>
                  </a:lnTo>
                  <a:lnTo>
                    <a:pt x="926" y="238"/>
                  </a:lnTo>
                  <a:lnTo>
                    <a:pt x="1157" y="220"/>
                  </a:lnTo>
                  <a:lnTo>
                    <a:pt x="1388" y="204"/>
                  </a:lnTo>
                  <a:lnTo>
                    <a:pt x="1619" y="188"/>
                  </a:lnTo>
                  <a:lnTo>
                    <a:pt x="1851" y="175"/>
                  </a:lnTo>
                  <a:lnTo>
                    <a:pt x="2083" y="161"/>
                  </a:lnTo>
                  <a:lnTo>
                    <a:pt x="2314" y="148"/>
                  </a:lnTo>
                  <a:lnTo>
                    <a:pt x="2547" y="137"/>
                  </a:lnTo>
                  <a:lnTo>
                    <a:pt x="2779" y="126"/>
                  </a:lnTo>
                  <a:lnTo>
                    <a:pt x="3012" y="115"/>
                  </a:lnTo>
                  <a:lnTo>
                    <a:pt x="3244" y="106"/>
                  </a:lnTo>
                  <a:lnTo>
                    <a:pt x="3478" y="97"/>
                  </a:lnTo>
                  <a:lnTo>
                    <a:pt x="3710" y="89"/>
                  </a:lnTo>
                  <a:lnTo>
                    <a:pt x="3944" y="83"/>
                  </a:lnTo>
                  <a:lnTo>
                    <a:pt x="4176" y="75"/>
                  </a:lnTo>
                  <a:lnTo>
                    <a:pt x="4410" y="70"/>
                  </a:lnTo>
                  <a:lnTo>
                    <a:pt x="4644" y="65"/>
                  </a:lnTo>
                  <a:lnTo>
                    <a:pt x="4878" y="60"/>
                  </a:lnTo>
                  <a:lnTo>
                    <a:pt x="5111" y="57"/>
                  </a:lnTo>
                  <a:lnTo>
                    <a:pt x="5346" y="54"/>
                  </a:lnTo>
                  <a:lnTo>
                    <a:pt x="5580" y="52"/>
                  </a:lnTo>
                  <a:lnTo>
                    <a:pt x="6048" y="49"/>
                  </a:lnTo>
                  <a:lnTo>
                    <a:pt x="6518" y="49"/>
                  </a:lnTo>
                  <a:lnTo>
                    <a:pt x="6988" y="52"/>
                  </a:lnTo>
                  <a:lnTo>
                    <a:pt x="7458" y="55"/>
                  </a:lnTo>
                  <a:lnTo>
                    <a:pt x="7929" y="62"/>
                  </a:lnTo>
                  <a:lnTo>
                    <a:pt x="8400" y="70"/>
                  </a:lnTo>
                  <a:lnTo>
                    <a:pt x="8871" y="81"/>
                  </a:lnTo>
                  <a:lnTo>
                    <a:pt x="9343" y="92"/>
                  </a:lnTo>
                  <a:lnTo>
                    <a:pt x="9816" y="106"/>
                  </a:lnTo>
                  <a:lnTo>
                    <a:pt x="10288" y="121"/>
                  </a:lnTo>
                  <a:lnTo>
                    <a:pt x="10760" y="138"/>
                  </a:lnTo>
                  <a:lnTo>
                    <a:pt x="11234" y="155"/>
                  </a:lnTo>
                  <a:lnTo>
                    <a:pt x="11707" y="174"/>
                  </a:lnTo>
                  <a:lnTo>
                    <a:pt x="12181" y="193"/>
                  </a:lnTo>
                  <a:lnTo>
                    <a:pt x="12654" y="214"/>
                  </a:lnTo>
                  <a:lnTo>
                    <a:pt x="13128" y="236"/>
                  </a:lnTo>
                  <a:lnTo>
                    <a:pt x="14076" y="281"/>
                  </a:lnTo>
                  <a:lnTo>
                    <a:pt x="15026" y="327"/>
                  </a:lnTo>
                  <a:lnTo>
                    <a:pt x="15002" y="303"/>
                  </a:lnTo>
                  <a:lnTo>
                    <a:pt x="15026" y="327"/>
                  </a:lnTo>
                  <a:lnTo>
                    <a:pt x="15030" y="327"/>
                  </a:lnTo>
                  <a:lnTo>
                    <a:pt x="15035" y="326"/>
                  </a:lnTo>
                  <a:lnTo>
                    <a:pt x="15040" y="324"/>
                  </a:lnTo>
                  <a:lnTo>
                    <a:pt x="15044" y="320"/>
                  </a:lnTo>
                  <a:lnTo>
                    <a:pt x="15046" y="317"/>
                  </a:lnTo>
                  <a:lnTo>
                    <a:pt x="15049" y="313"/>
                  </a:lnTo>
                  <a:lnTo>
                    <a:pt x="15050" y="309"/>
                  </a:lnTo>
                  <a:lnTo>
                    <a:pt x="15050" y="304"/>
                  </a:lnTo>
                  <a:lnTo>
                    <a:pt x="15050" y="299"/>
                  </a:lnTo>
                  <a:lnTo>
                    <a:pt x="15049" y="295"/>
                  </a:lnTo>
                  <a:lnTo>
                    <a:pt x="15048" y="290"/>
                  </a:lnTo>
                  <a:lnTo>
                    <a:pt x="15045" y="287"/>
                  </a:lnTo>
                  <a:lnTo>
                    <a:pt x="15042" y="284"/>
                  </a:lnTo>
                  <a:lnTo>
                    <a:pt x="15038" y="281"/>
                  </a:lnTo>
                  <a:lnTo>
                    <a:pt x="15033" y="279"/>
                  </a:lnTo>
                  <a:lnTo>
                    <a:pt x="15028" y="278"/>
                  </a:lnTo>
                  <a:lnTo>
                    <a:pt x="15050" y="3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508720" y="2603160"/>
              <a:ext cx="1055520" cy="765000"/>
            </a:xfrm>
            <a:custGeom>
              <a:avLst/>
              <a:gdLst/>
              <a:ahLst/>
              <a:rect l="l" t="t" r="r" b="b"/>
              <a:pathLst>
                <a:path w="2790" h="2022">
                  <a:moveTo>
                    <a:pt x="0" y="0"/>
                  </a:moveTo>
                  <a:lnTo>
                    <a:pt x="60" y="1929"/>
                  </a:lnTo>
                  <a:lnTo>
                    <a:pt x="2759" y="2022"/>
                  </a:lnTo>
                  <a:lnTo>
                    <a:pt x="279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499360" y="2603160"/>
              <a:ext cx="41400" cy="738360"/>
            </a:xfrm>
            <a:custGeom>
              <a:avLst/>
              <a:gdLst/>
              <a:ahLst/>
              <a:rect l="l" t="t" r="r" b="b"/>
              <a:pathLst>
                <a:path w="109" h="1954">
                  <a:moveTo>
                    <a:pt x="84" y="1954"/>
                  </a:moveTo>
                  <a:lnTo>
                    <a:pt x="109" y="193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931"/>
                  </a:lnTo>
                  <a:lnTo>
                    <a:pt x="84" y="1954"/>
                  </a:lnTo>
                  <a:lnTo>
                    <a:pt x="60" y="1931"/>
                  </a:lnTo>
                  <a:lnTo>
                    <a:pt x="61" y="1937"/>
                  </a:lnTo>
                  <a:lnTo>
                    <a:pt x="63" y="1942"/>
                  </a:lnTo>
                  <a:lnTo>
                    <a:pt x="65" y="1946"/>
                  </a:lnTo>
                  <a:lnTo>
                    <a:pt x="69" y="1949"/>
                  </a:lnTo>
                  <a:lnTo>
                    <a:pt x="72" y="1952"/>
                  </a:lnTo>
                  <a:lnTo>
                    <a:pt x="76" y="1953"/>
                  </a:lnTo>
                  <a:lnTo>
                    <a:pt x="81" y="1954"/>
                  </a:lnTo>
                  <a:lnTo>
                    <a:pt x="85" y="1954"/>
                  </a:lnTo>
                  <a:lnTo>
                    <a:pt x="90" y="1954"/>
                  </a:lnTo>
                  <a:lnTo>
                    <a:pt x="95" y="1953"/>
                  </a:lnTo>
                  <a:lnTo>
                    <a:pt x="98" y="1950"/>
                  </a:lnTo>
                  <a:lnTo>
                    <a:pt x="102" y="1948"/>
                  </a:lnTo>
                  <a:lnTo>
                    <a:pt x="104" y="1944"/>
                  </a:lnTo>
                  <a:lnTo>
                    <a:pt x="107" y="1941"/>
                  </a:lnTo>
                  <a:lnTo>
                    <a:pt x="108" y="1934"/>
                  </a:lnTo>
                  <a:lnTo>
                    <a:pt x="109" y="1930"/>
                  </a:lnTo>
                  <a:lnTo>
                    <a:pt x="84" y="19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531400" y="3324600"/>
              <a:ext cx="1031040" cy="52920"/>
            </a:xfrm>
            <a:custGeom>
              <a:avLst/>
              <a:gdLst/>
              <a:ahLst/>
              <a:rect l="l" t="t" r="r" b="b"/>
              <a:pathLst>
                <a:path w="2725" h="142">
                  <a:moveTo>
                    <a:pt x="2725" y="117"/>
                  </a:moveTo>
                  <a:lnTo>
                    <a:pt x="2702" y="92"/>
                  </a:lnTo>
                  <a:lnTo>
                    <a:pt x="1" y="0"/>
                  </a:lnTo>
                  <a:lnTo>
                    <a:pt x="0" y="48"/>
                  </a:lnTo>
                  <a:lnTo>
                    <a:pt x="2699" y="142"/>
                  </a:lnTo>
                  <a:lnTo>
                    <a:pt x="2725" y="117"/>
                  </a:lnTo>
                  <a:lnTo>
                    <a:pt x="2699" y="142"/>
                  </a:lnTo>
                  <a:lnTo>
                    <a:pt x="2705" y="140"/>
                  </a:lnTo>
                  <a:lnTo>
                    <a:pt x="2710" y="139"/>
                  </a:lnTo>
                  <a:lnTo>
                    <a:pt x="2715" y="137"/>
                  </a:lnTo>
                  <a:lnTo>
                    <a:pt x="2718" y="134"/>
                  </a:lnTo>
                  <a:lnTo>
                    <a:pt x="2721" y="131"/>
                  </a:lnTo>
                  <a:lnTo>
                    <a:pt x="2723" y="127"/>
                  </a:lnTo>
                  <a:lnTo>
                    <a:pt x="2724" y="122"/>
                  </a:lnTo>
                  <a:lnTo>
                    <a:pt x="2725" y="118"/>
                  </a:lnTo>
                  <a:lnTo>
                    <a:pt x="2725" y="113"/>
                  </a:lnTo>
                  <a:lnTo>
                    <a:pt x="2724" y="108"/>
                  </a:lnTo>
                  <a:lnTo>
                    <a:pt x="2721" y="105"/>
                  </a:lnTo>
                  <a:lnTo>
                    <a:pt x="2719" y="101"/>
                  </a:lnTo>
                  <a:lnTo>
                    <a:pt x="2716" y="97"/>
                  </a:lnTo>
                  <a:lnTo>
                    <a:pt x="2712" y="95"/>
                  </a:lnTo>
                  <a:lnTo>
                    <a:pt x="2707" y="94"/>
                  </a:lnTo>
                  <a:lnTo>
                    <a:pt x="2702" y="92"/>
                  </a:lnTo>
                  <a:lnTo>
                    <a:pt x="2725" y="1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543720" y="2616480"/>
              <a:ext cx="29880" cy="751680"/>
            </a:xfrm>
            <a:custGeom>
              <a:avLst/>
              <a:gdLst/>
              <a:ahLst/>
              <a:rect l="l" t="t" r="r" b="b"/>
              <a:pathLst>
                <a:path w="79" h="1986">
                  <a:moveTo>
                    <a:pt x="55" y="0"/>
                  </a:moveTo>
                  <a:lnTo>
                    <a:pt x="31" y="24"/>
                  </a:lnTo>
                  <a:lnTo>
                    <a:pt x="0" y="1986"/>
                  </a:lnTo>
                  <a:lnTo>
                    <a:pt x="49" y="1986"/>
                  </a:lnTo>
                  <a:lnTo>
                    <a:pt x="79" y="24"/>
                  </a:lnTo>
                  <a:lnTo>
                    <a:pt x="55" y="0"/>
                  </a:lnTo>
                  <a:lnTo>
                    <a:pt x="79" y="24"/>
                  </a:lnTo>
                  <a:lnTo>
                    <a:pt x="79" y="19"/>
                  </a:lnTo>
                  <a:lnTo>
                    <a:pt x="77" y="14"/>
                  </a:lnTo>
                  <a:lnTo>
                    <a:pt x="75" y="9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6" y="9"/>
                  </a:lnTo>
                  <a:lnTo>
                    <a:pt x="33" y="13"/>
                  </a:lnTo>
                  <a:lnTo>
                    <a:pt x="31" y="18"/>
                  </a:lnTo>
                  <a:lnTo>
                    <a:pt x="31" y="2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499360" y="2593800"/>
              <a:ext cx="1064880" cy="41400"/>
            </a:xfrm>
            <a:custGeom>
              <a:avLst/>
              <a:gdLst/>
              <a:ahLst/>
              <a:rect l="l" t="t" r="r" b="b"/>
              <a:pathLst>
                <a:path w="2815" h="110">
                  <a:moveTo>
                    <a:pt x="0" y="26"/>
                  </a:moveTo>
                  <a:lnTo>
                    <a:pt x="23" y="50"/>
                  </a:lnTo>
                  <a:lnTo>
                    <a:pt x="2814" y="110"/>
                  </a:lnTo>
                  <a:lnTo>
                    <a:pt x="2815" y="61"/>
                  </a:lnTo>
                  <a:lnTo>
                    <a:pt x="25" y="0"/>
                  </a:lnTo>
                  <a:lnTo>
                    <a:pt x="0" y="26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47"/>
                  </a:lnTo>
                  <a:lnTo>
                    <a:pt x="18" y="48"/>
                  </a:lnTo>
                  <a:lnTo>
                    <a:pt x="23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758400" y="2637720"/>
              <a:ext cx="1233360" cy="730800"/>
            </a:xfrm>
            <a:custGeom>
              <a:avLst/>
              <a:gdLst/>
              <a:ahLst/>
              <a:rect l="l" t="t" r="r" b="b"/>
              <a:pathLst>
                <a:path w="3257" h="1930">
                  <a:moveTo>
                    <a:pt x="63" y="0"/>
                  </a:moveTo>
                  <a:lnTo>
                    <a:pt x="3224" y="0"/>
                  </a:lnTo>
                  <a:lnTo>
                    <a:pt x="3257" y="1930"/>
                  </a:lnTo>
                  <a:lnTo>
                    <a:pt x="0" y="1899"/>
                  </a:lnTo>
                  <a:lnTo>
                    <a:pt x="4" y="1817"/>
                  </a:lnTo>
                  <a:lnTo>
                    <a:pt x="14" y="1599"/>
                  </a:lnTo>
                  <a:lnTo>
                    <a:pt x="29" y="1290"/>
                  </a:lnTo>
                  <a:lnTo>
                    <a:pt x="44" y="939"/>
                  </a:lnTo>
                  <a:lnTo>
                    <a:pt x="57" y="588"/>
                  </a:lnTo>
                  <a:lnTo>
                    <a:pt x="67" y="284"/>
                  </a:lnTo>
                  <a:lnTo>
                    <a:pt x="69" y="165"/>
                  </a:lnTo>
                  <a:lnTo>
                    <a:pt x="69" y="74"/>
                  </a:lnTo>
                  <a:lnTo>
                    <a:pt x="68" y="41"/>
                  </a:lnTo>
                  <a:lnTo>
                    <a:pt x="67" y="17"/>
                  </a:lnTo>
                  <a:lnTo>
                    <a:pt x="66" y="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782880" y="2629800"/>
              <a:ext cx="1205280" cy="16920"/>
            </a:xfrm>
            <a:custGeom>
              <a:avLst/>
              <a:gdLst/>
              <a:ahLst/>
              <a:rect l="l" t="t" r="r" b="b"/>
              <a:pathLst>
                <a:path w="3186" h="48">
                  <a:moveTo>
                    <a:pt x="3186" y="23"/>
                  </a:moveTo>
                  <a:lnTo>
                    <a:pt x="316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3161" y="48"/>
                  </a:lnTo>
                  <a:lnTo>
                    <a:pt x="3186" y="23"/>
                  </a:lnTo>
                  <a:lnTo>
                    <a:pt x="3161" y="48"/>
                  </a:lnTo>
                  <a:lnTo>
                    <a:pt x="3167" y="48"/>
                  </a:lnTo>
                  <a:lnTo>
                    <a:pt x="3172" y="47"/>
                  </a:lnTo>
                  <a:lnTo>
                    <a:pt x="3176" y="44"/>
                  </a:lnTo>
                  <a:lnTo>
                    <a:pt x="3180" y="40"/>
                  </a:lnTo>
                  <a:lnTo>
                    <a:pt x="3182" y="37"/>
                  </a:lnTo>
                  <a:lnTo>
                    <a:pt x="3184" y="33"/>
                  </a:lnTo>
                  <a:lnTo>
                    <a:pt x="3186" y="28"/>
                  </a:lnTo>
                  <a:lnTo>
                    <a:pt x="3186" y="23"/>
                  </a:lnTo>
                  <a:lnTo>
                    <a:pt x="3186" y="19"/>
                  </a:lnTo>
                  <a:lnTo>
                    <a:pt x="3184" y="15"/>
                  </a:lnTo>
                  <a:lnTo>
                    <a:pt x="3182" y="11"/>
                  </a:lnTo>
                  <a:lnTo>
                    <a:pt x="3180" y="7"/>
                  </a:lnTo>
                  <a:lnTo>
                    <a:pt x="3176" y="4"/>
                  </a:lnTo>
                  <a:lnTo>
                    <a:pt x="3172" y="1"/>
                  </a:lnTo>
                  <a:lnTo>
                    <a:pt x="3167" y="0"/>
                  </a:lnTo>
                  <a:lnTo>
                    <a:pt x="3161" y="0"/>
                  </a:lnTo>
                  <a:lnTo>
                    <a:pt x="3186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971240" y="2637720"/>
              <a:ext cx="30240" cy="740160"/>
            </a:xfrm>
            <a:custGeom>
              <a:avLst/>
              <a:gdLst/>
              <a:ahLst/>
              <a:rect l="l" t="t" r="r" b="b"/>
              <a:pathLst>
                <a:path w="81" h="1955">
                  <a:moveTo>
                    <a:pt x="56" y="1955"/>
                  </a:moveTo>
                  <a:lnTo>
                    <a:pt x="81" y="1930"/>
                  </a:lnTo>
                  <a:lnTo>
                    <a:pt x="48" y="0"/>
                  </a:lnTo>
                  <a:lnTo>
                    <a:pt x="0" y="1"/>
                  </a:lnTo>
                  <a:lnTo>
                    <a:pt x="32" y="1930"/>
                  </a:lnTo>
                  <a:lnTo>
                    <a:pt x="56" y="1955"/>
                  </a:lnTo>
                  <a:lnTo>
                    <a:pt x="32" y="1930"/>
                  </a:lnTo>
                  <a:lnTo>
                    <a:pt x="33" y="1936"/>
                  </a:lnTo>
                  <a:lnTo>
                    <a:pt x="34" y="1941"/>
                  </a:lnTo>
                  <a:lnTo>
                    <a:pt x="37" y="1945"/>
                  </a:lnTo>
                  <a:lnTo>
                    <a:pt x="39" y="1949"/>
                  </a:lnTo>
                  <a:lnTo>
                    <a:pt x="43" y="1951"/>
                  </a:lnTo>
                  <a:lnTo>
                    <a:pt x="48" y="1953"/>
                  </a:lnTo>
                  <a:lnTo>
                    <a:pt x="51" y="1953"/>
                  </a:lnTo>
                  <a:lnTo>
                    <a:pt x="56" y="1955"/>
                  </a:lnTo>
                  <a:lnTo>
                    <a:pt x="61" y="1953"/>
                  </a:lnTo>
                  <a:lnTo>
                    <a:pt x="65" y="1952"/>
                  </a:lnTo>
                  <a:lnTo>
                    <a:pt x="70" y="1951"/>
                  </a:lnTo>
                  <a:lnTo>
                    <a:pt x="74" y="1949"/>
                  </a:lnTo>
                  <a:lnTo>
                    <a:pt x="76" y="1945"/>
                  </a:lnTo>
                  <a:lnTo>
                    <a:pt x="78" y="1940"/>
                  </a:lnTo>
                  <a:lnTo>
                    <a:pt x="80" y="1935"/>
                  </a:lnTo>
                  <a:lnTo>
                    <a:pt x="81" y="1930"/>
                  </a:lnTo>
                  <a:lnTo>
                    <a:pt x="56" y="19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750840" y="3347640"/>
              <a:ext cx="1241280" cy="30240"/>
            </a:xfrm>
            <a:custGeom>
              <a:avLst/>
              <a:gdLst/>
              <a:ahLst/>
              <a:rect l="l" t="t" r="r" b="b"/>
              <a:pathLst>
                <a:path w="3281" h="79">
                  <a:moveTo>
                    <a:pt x="0" y="22"/>
                  </a:moveTo>
                  <a:lnTo>
                    <a:pt x="23" y="48"/>
                  </a:lnTo>
                  <a:lnTo>
                    <a:pt x="3281" y="79"/>
                  </a:lnTo>
                  <a:lnTo>
                    <a:pt x="3281" y="29"/>
                  </a:lnTo>
                  <a:lnTo>
                    <a:pt x="24" y="0"/>
                  </a:lnTo>
                  <a:lnTo>
                    <a:pt x="0" y="2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4" y="37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3" y="4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50840" y="2629800"/>
              <a:ext cx="43560" cy="726840"/>
            </a:xfrm>
            <a:custGeom>
              <a:avLst/>
              <a:gdLst/>
              <a:ahLst/>
              <a:rect l="l" t="t" r="r" b="b"/>
              <a:pathLst>
                <a:path w="118" h="1924">
                  <a:moveTo>
                    <a:pt x="87" y="0"/>
                  </a:moveTo>
                  <a:lnTo>
                    <a:pt x="103" y="42"/>
                  </a:lnTo>
                  <a:lnTo>
                    <a:pt x="70" y="40"/>
                  </a:lnTo>
                  <a:lnTo>
                    <a:pt x="66" y="33"/>
                  </a:lnTo>
                  <a:lnTo>
                    <a:pt x="66" y="35"/>
                  </a:lnTo>
                  <a:lnTo>
                    <a:pt x="68" y="42"/>
                  </a:lnTo>
                  <a:lnTo>
                    <a:pt x="69" y="65"/>
                  </a:lnTo>
                  <a:lnTo>
                    <a:pt x="69" y="97"/>
                  </a:lnTo>
                  <a:lnTo>
                    <a:pt x="69" y="188"/>
                  </a:lnTo>
                  <a:lnTo>
                    <a:pt x="66" y="307"/>
                  </a:lnTo>
                  <a:lnTo>
                    <a:pt x="56" y="610"/>
                  </a:lnTo>
                  <a:lnTo>
                    <a:pt x="43" y="960"/>
                  </a:lnTo>
                  <a:lnTo>
                    <a:pt x="28" y="1313"/>
                  </a:lnTo>
                  <a:lnTo>
                    <a:pt x="13" y="1621"/>
                  </a:lnTo>
                  <a:lnTo>
                    <a:pt x="4" y="1839"/>
                  </a:lnTo>
                  <a:lnTo>
                    <a:pt x="0" y="1921"/>
                  </a:lnTo>
                  <a:lnTo>
                    <a:pt x="48" y="1924"/>
                  </a:lnTo>
                  <a:lnTo>
                    <a:pt x="53" y="1841"/>
                  </a:lnTo>
                  <a:lnTo>
                    <a:pt x="63" y="1623"/>
                  </a:lnTo>
                  <a:lnTo>
                    <a:pt x="76" y="1315"/>
                  </a:lnTo>
                  <a:lnTo>
                    <a:pt x="92" y="963"/>
                  </a:lnTo>
                  <a:lnTo>
                    <a:pt x="106" y="612"/>
                  </a:lnTo>
                  <a:lnTo>
                    <a:pt x="114" y="309"/>
                  </a:lnTo>
                  <a:lnTo>
                    <a:pt x="117" y="188"/>
                  </a:lnTo>
                  <a:lnTo>
                    <a:pt x="118" y="97"/>
                  </a:lnTo>
                  <a:lnTo>
                    <a:pt x="117" y="63"/>
                  </a:lnTo>
                  <a:lnTo>
                    <a:pt x="115" y="38"/>
                  </a:lnTo>
                  <a:lnTo>
                    <a:pt x="114" y="28"/>
                  </a:lnTo>
                  <a:lnTo>
                    <a:pt x="113" y="19"/>
                  </a:lnTo>
                  <a:lnTo>
                    <a:pt x="106" y="7"/>
                  </a:lnTo>
                  <a:lnTo>
                    <a:pt x="70" y="6"/>
                  </a:lnTo>
                  <a:lnTo>
                    <a:pt x="87" y="48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4" y="15"/>
                  </a:lnTo>
                  <a:lnTo>
                    <a:pt x="63" y="19"/>
                  </a:lnTo>
                  <a:lnTo>
                    <a:pt x="61" y="24"/>
                  </a:lnTo>
                  <a:lnTo>
                    <a:pt x="63" y="28"/>
                  </a:lnTo>
                  <a:lnTo>
                    <a:pt x="64" y="33"/>
                  </a:lnTo>
                  <a:lnTo>
                    <a:pt x="66" y="37"/>
                  </a:lnTo>
                  <a:lnTo>
                    <a:pt x="69" y="40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80" y="48"/>
                  </a:lnTo>
                  <a:lnTo>
                    <a:pt x="85" y="48"/>
                  </a:lnTo>
                  <a:lnTo>
                    <a:pt x="90" y="48"/>
                  </a:lnTo>
                  <a:lnTo>
                    <a:pt x="95" y="48"/>
                  </a:lnTo>
                  <a:lnTo>
                    <a:pt x="98" y="45"/>
                  </a:lnTo>
                  <a:lnTo>
                    <a:pt x="103" y="42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894000" y="2512800"/>
              <a:ext cx="512640" cy="1410480"/>
            </a:xfrm>
            <a:custGeom>
              <a:avLst/>
              <a:gdLst/>
              <a:ahLst/>
              <a:rect l="l" t="t" r="r" b="b"/>
              <a:pathLst>
                <a:path w="1357" h="3728">
                  <a:moveTo>
                    <a:pt x="1357" y="3728"/>
                  </a:moveTo>
                  <a:lnTo>
                    <a:pt x="1357" y="0"/>
                  </a:lnTo>
                  <a:lnTo>
                    <a:pt x="0" y="22"/>
                  </a:lnTo>
                  <a:lnTo>
                    <a:pt x="61" y="3665"/>
                  </a:lnTo>
                  <a:lnTo>
                    <a:pt x="1357" y="3728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397280" y="2503080"/>
              <a:ext cx="18720" cy="1419840"/>
            </a:xfrm>
            <a:custGeom>
              <a:avLst/>
              <a:gdLst/>
              <a:ahLst/>
              <a:rect l="l" t="t" r="r" b="b"/>
              <a:pathLst>
                <a:path w="49" h="3753">
                  <a:moveTo>
                    <a:pt x="23" y="0"/>
                  </a:moveTo>
                  <a:lnTo>
                    <a:pt x="0" y="25"/>
                  </a:lnTo>
                  <a:lnTo>
                    <a:pt x="0" y="3753"/>
                  </a:lnTo>
                  <a:lnTo>
                    <a:pt x="49" y="3753"/>
                  </a:lnTo>
                  <a:lnTo>
                    <a:pt x="49" y="25"/>
                  </a:lnTo>
                  <a:lnTo>
                    <a:pt x="23" y="0"/>
                  </a:lnTo>
                  <a:lnTo>
                    <a:pt x="49" y="25"/>
                  </a:lnTo>
                  <a:lnTo>
                    <a:pt x="48" y="19"/>
                  </a:lnTo>
                  <a:lnTo>
                    <a:pt x="46" y="14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884640" y="2503080"/>
              <a:ext cx="522000" cy="25920"/>
            </a:xfrm>
            <a:custGeom>
              <a:avLst/>
              <a:gdLst/>
              <a:ahLst/>
              <a:rect l="l" t="t" r="r" b="b"/>
              <a:pathLst>
                <a:path w="1382" h="72">
                  <a:moveTo>
                    <a:pt x="0" y="48"/>
                  </a:moveTo>
                  <a:lnTo>
                    <a:pt x="25" y="72"/>
                  </a:lnTo>
                  <a:lnTo>
                    <a:pt x="1382" y="48"/>
                  </a:lnTo>
                  <a:lnTo>
                    <a:pt x="1381" y="0"/>
                  </a:lnTo>
                  <a:lnTo>
                    <a:pt x="23" y="24"/>
                  </a:lnTo>
                  <a:lnTo>
                    <a:pt x="0" y="48"/>
                  </a:lnTo>
                  <a:lnTo>
                    <a:pt x="23" y="24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6" y="31"/>
                  </a:lnTo>
                  <a:lnTo>
                    <a:pt x="2" y="35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6" y="64"/>
                  </a:lnTo>
                  <a:lnTo>
                    <a:pt x="10" y="68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84640" y="2520000"/>
              <a:ext cx="41400" cy="1389960"/>
            </a:xfrm>
            <a:custGeom>
              <a:avLst/>
              <a:gdLst/>
              <a:ahLst/>
              <a:rect l="l" t="t" r="r" b="b"/>
              <a:pathLst>
                <a:path w="111" h="3668">
                  <a:moveTo>
                    <a:pt x="86" y="3668"/>
                  </a:moveTo>
                  <a:lnTo>
                    <a:pt x="111" y="3643"/>
                  </a:lnTo>
                  <a:lnTo>
                    <a:pt x="48" y="0"/>
                  </a:lnTo>
                  <a:lnTo>
                    <a:pt x="0" y="1"/>
                  </a:lnTo>
                  <a:lnTo>
                    <a:pt x="63" y="3643"/>
                  </a:lnTo>
                  <a:lnTo>
                    <a:pt x="86" y="3668"/>
                  </a:lnTo>
                  <a:lnTo>
                    <a:pt x="63" y="3643"/>
                  </a:lnTo>
                  <a:lnTo>
                    <a:pt x="63" y="3649"/>
                  </a:lnTo>
                  <a:lnTo>
                    <a:pt x="65" y="3654"/>
                  </a:lnTo>
                  <a:lnTo>
                    <a:pt x="68" y="3658"/>
                  </a:lnTo>
                  <a:lnTo>
                    <a:pt x="70" y="3662"/>
                  </a:lnTo>
                  <a:lnTo>
                    <a:pt x="74" y="3664"/>
                  </a:lnTo>
                  <a:lnTo>
                    <a:pt x="79" y="3667"/>
                  </a:lnTo>
                  <a:lnTo>
                    <a:pt x="82" y="3668"/>
                  </a:lnTo>
                  <a:lnTo>
                    <a:pt x="87" y="3668"/>
                  </a:lnTo>
                  <a:lnTo>
                    <a:pt x="91" y="3667"/>
                  </a:lnTo>
                  <a:lnTo>
                    <a:pt x="96" y="3665"/>
                  </a:lnTo>
                  <a:lnTo>
                    <a:pt x="100" y="3664"/>
                  </a:lnTo>
                  <a:lnTo>
                    <a:pt x="103" y="3662"/>
                  </a:lnTo>
                  <a:lnTo>
                    <a:pt x="107" y="3658"/>
                  </a:lnTo>
                  <a:lnTo>
                    <a:pt x="109" y="3653"/>
                  </a:lnTo>
                  <a:lnTo>
                    <a:pt x="111" y="3648"/>
                  </a:lnTo>
                  <a:lnTo>
                    <a:pt x="111" y="3643"/>
                  </a:lnTo>
                  <a:lnTo>
                    <a:pt x="86" y="36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16680" y="3891240"/>
              <a:ext cx="499320" cy="41400"/>
            </a:xfrm>
            <a:custGeom>
              <a:avLst/>
              <a:gdLst/>
              <a:ahLst/>
              <a:rect l="l" t="t" r="r" b="b"/>
              <a:pathLst>
                <a:path w="1321" h="112">
                  <a:moveTo>
                    <a:pt x="1321" y="87"/>
                  </a:moveTo>
                  <a:lnTo>
                    <a:pt x="1298" y="62"/>
                  </a:lnTo>
                  <a:lnTo>
                    <a:pt x="1" y="0"/>
                  </a:lnTo>
                  <a:lnTo>
                    <a:pt x="0" y="49"/>
                  </a:lnTo>
                  <a:lnTo>
                    <a:pt x="1295" y="112"/>
                  </a:lnTo>
                  <a:lnTo>
                    <a:pt x="1321" y="87"/>
                  </a:lnTo>
                  <a:lnTo>
                    <a:pt x="1295" y="112"/>
                  </a:lnTo>
                  <a:lnTo>
                    <a:pt x="1300" y="110"/>
                  </a:lnTo>
                  <a:lnTo>
                    <a:pt x="1306" y="109"/>
                  </a:lnTo>
                  <a:lnTo>
                    <a:pt x="1310" y="108"/>
                  </a:lnTo>
                  <a:lnTo>
                    <a:pt x="1314" y="104"/>
                  </a:lnTo>
                  <a:lnTo>
                    <a:pt x="1316" y="101"/>
                  </a:lnTo>
                  <a:lnTo>
                    <a:pt x="1318" y="97"/>
                  </a:lnTo>
                  <a:lnTo>
                    <a:pt x="1320" y="93"/>
                  </a:lnTo>
                  <a:lnTo>
                    <a:pt x="1321" y="88"/>
                  </a:lnTo>
                  <a:lnTo>
                    <a:pt x="1320" y="83"/>
                  </a:lnTo>
                  <a:lnTo>
                    <a:pt x="1320" y="80"/>
                  </a:lnTo>
                  <a:lnTo>
                    <a:pt x="1317" y="75"/>
                  </a:lnTo>
                  <a:lnTo>
                    <a:pt x="1315" y="71"/>
                  </a:lnTo>
                  <a:lnTo>
                    <a:pt x="1312" y="67"/>
                  </a:lnTo>
                  <a:lnTo>
                    <a:pt x="1307" y="65"/>
                  </a:lnTo>
                  <a:lnTo>
                    <a:pt x="1302" y="64"/>
                  </a:lnTo>
                  <a:lnTo>
                    <a:pt x="1298" y="62"/>
                  </a:lnTo>
                  <a:lnTo>
                    <a:pt x="132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781440" y="3211200"/>
              <a:ext cx="523800" cy="1120680"/>
            </a:xfrm>
            <a:custGeom>
              <a:avLst/>
              <a:gdLst/>
              <a:ahLst/>
              <a:rect l="l" t="t" r="r" b="b"/>
              <a:pathLst>
                <a:path w="1382" h="2960">
                  <a:moveTo>
                    <a:pt x="1003" y="114"/>
                  </a:moveTo>
                  <a:lnTo>
                    <a:pt x="1034" y="145"/>
                  </a:lnTo>
                  <a:lnTo>
                    <a:pt x="1062" y="177"/>
                  </a:lnTo>
                  <a:lnTo>
                    <a:pt x="1088" y="209"/>
                  </a:lnTo>
                  <a:lnTo>
                    <a:pt x="1111" y="241"/>
                  </a:lnTo>
                  <a:lnTo>
                    <a:pt x="1132" y="272"/>
                  </a:lnTo>
                  <a:lnTo>
                    <a:pt x="1151" y="304"/>
                  </a:lnTo>
                  <a:lnTo>
                    <a:pt x="1168" y="336"/>
                  </a:lnTo>
                  <a:lnTo>
                    <a:pt x="1183" y="368"/>
                  </a:lnTo>
                  <a:lnTo>
                    <a:pt x="1195" y="400"/>
                  </a:lnTo>
                  <a:lnTo>
                    <a:pt x="1206" y="432"/>
                  </a:lnTo>
                  <a:lnTo>
                    <a:pt x="1216" y="464"/>
                  </a:lnTo>
                  <a:lnTo>
                    <a:pt x="1225" y="496"/>
                  </a:lnTo>
                  <a:lnTo>
                    <a:pt x="1232" y="528"/>
                  </a:lnTo>
                  <a:lnTo>
                    <a:pt x="1237" y="560"/>
                  </a:lnTo>
                  <a:lnTo>
                    <a:pt x="1242" y="591"/>
                  </a:lnTo>
                  <a:lnTo>
                    <a:pt x="1245" y="623"/>
                  </a:lnTo>
                  <a:lnTo>
                    <a:pt x="1250" y="687"/>
                  </a:lnTo>
                  <a:lnTo>
                    <a:pt x="1253" y="753"/>
                  </a:lnTo>
                  <a:lnTo>
                    <a:pt x="1254" y="817"/>
                  </a:lnTo>
                  <a:lnTo>
                    <a:pt x="1254" y="881"/>
                  </a:lnTo>
                  <a:lnTo>
                    <a:pt x="1255" y="946"/>
                  </a:lnTo>
                  <a:lnTo>
                    <a:pt x="1258" y="1011"/>
                  </a:lnTo>
                  <a:lnTo>
                    <a:pt x="1259" y="1043"/>
                  </a:lnTo>
                  <a:lnTo>
                    <a:pt x="1263" y="1075"/>
                  </a:lnTo>
                  <a:lnTo>
                    <a:pt x="1265" y="1108"/>
                  </a:lnTo>
                  <a:lnTo>
                    <a:pt x="1270" y="1140"/>
                  </a:lnTo>
                  <a:lnTo>
                    <a:pt x="1291" y="1193"/>
                  </a:lnTo>
                  <a:lnTo>
                    <a:pt x="1309" y="1247"/>
                  </a:lnTo>
                  <a:lnTo>
                    <a:pt x="1325" y="1300"/>
                  </a:lnTo>
                  <a:lnTo>
                    <a:pt x="1339" y="1354"/>
                  </a:lnTo>
                  <a:lnTo>
                    <a:pt x="1351" y="1407"/>
                  </a:lnTo>
                  <a:lnTo>
                    <a:pt x="1361" y="1461"/>
                  </a:lnTo>
                  <a:lnTo>
                    <a:pt x="1368" y="1515"/>
                  </a:lnTo>
                  <a:lnTo>
                    <a:pt x="1375" y="1568"/>
                  </a:lnTo>
                  <a:lnTo>
                    <a:pt x="1378" y="1622"/>
                  </a:lnTo>
                  <a:lnTo>
                    <a:pt x="1381" y="1676"/>
                  </a:lnTo>
                  <a:lnTo>
                    <a:pt x="1382" y="1729"/>
                  </a:lnTo>
                  <a:lnTo>
                    <a:pt x="1381" y="1783"/>
                  </a:lnTo>
                  <a:lnTo>
                    <a:pt x="1378" y="1837"/>
                  </a:lnTo>
                  <a:lnTo>
                    <a:pt x="1375" y="1892"/>
                  </a:lnTo>
                  <a:lnTo>
                    <a:pt x="1368" y="1946"/>
                  </a:lnTo>
                  <a:lnTo>
                    <a:pt x="1361" y="2000"/>
                  </a:lnTo>
                  <a:lnTo>
                    <a:pt x="1354" y="2054"/>
                  </a:lnTo>
                  <a:lnTo>
                    <a:pt x="1344" y="2108"/>
                  </a:lnTo>
                  <a:lnTo>
                    <a:pt x="1333" y="2162"/>
                  </a:lnTo>
                  <a:lnTo>
                    <a:pt x="1322" y="2216"/>
                  </a:lnTo>
                  <a:lnTo>
                    <a:pt x="1308" y="2272"/>
                  </a:lnTo>
                  <a:lnTo>
                    <a:pt x="1295" y="2326"/>
                  </a:lnTo>
                  <a:lnTo>
                    <a:pt x="1280" y="2380"/>
                  </a:lnTo>
                  <a:lnTo>
                    <a:pt x="1265" y="2434"/>
                  </a:lnTo>
                  <a:lnTo>
                    <a:pt x="1231" y="2543"/>
                  </a:lnTo>
                  <a:lnTo>
                    <a:pt x="1195" y="2653"/>
                  </a:lnTo>
                  <a:lnTo>
                    <a:pt x="1157" y="2762"/>
                  </a:lnTo>
                  <a:lnTo>
                    <a:pt x="1118" y="2872"/>
                  </a:lnTo>
                  <a:lnTo>
                    <a:pt x="1087" y="2884"/>
                  </a:lnTo>
                  <a:lnTo>
                    <a:pt x="1056" y="2895"/>
                  </a:lnTo>
                  <a:lnTo>
                    <a:pt x="1027" y="2905"/>
                  </a:lnTo>
                  <a:lnTo>
                    <a:pt x="996" y="2915"/>
                  </a:lnTo>
                  <a:lnTo>
                    <a:pt x="966" y="2924"/>
                  </a:lnTo>
                  <a:lnTo>
                    <a:pt x="937" y="2931"/>
                  </a:lnTo>
                  <a:lnTo>
                    <a:pt x="906" y="2937"/>
                  </a:lnTo>
                  <a:lnTo>
                    <a:pt x="876" y="2943"/>
                  </a:lnTo>
                  <a:lnTo>
                    <a:pt x="847" y="2948"/>
                  </a:lnTo>
                  <a:lnTo>
                    <a:pt x="816" y="2953"/>
                  </a:lnTo>
                  <a:lnTo>
                    <a:pt x="787" y="2956"/>
                  </a:lnTo>
                  <a:lnTo>
                    <a:pt x="757" y="2958"/>
                  </a:lnTo>
                  <a:lnTo>
                    <a:pt x="726" y="2960"/>
                  </a:lnTo>
                  <a:lnTo>
                    <a:pt x="697" y="2960"/>
                  </a:lnTo>
                  <a:lnTo>
                    <a:pt x="667" y="2960"/>
                  </a:lnTo>
                  <a:lnTo>
                    <a:pt x="637" y="2959"/>
                  </a:lnTo>
                  <a:lnTo>
                    <a:pt x="607" y="2958"/>
                  </a:lnTo>
                  <a:lnTo>
                    <a:pt x="578" y="2956"/>
                  </a:lnTo>
                  <a:lnTo>
                    <a:pt x="547" y="2952"/>
                  </a:lnTo>
                  <a:lnTo>
                    <a:pt x="517" y="2947"/>
                  </a:lnTo>
                  <a:lnTo>
                    <a:pt x="487" y="2942"/>
                  </a:lnTo>
                  <a:lnTo>
                    <a:pt x="457" y="2936"/>
                  </a:lnTo>
                  <a:lnTo>
                    <a:pt x="426" y="2928"/>
                  </a:lnTo>
                  <a:lnTo>
                    <a:pt x="397" y="2921"/>
                  </a:lnTo>
                  <a:lnTo>
                    <a:pt x="366" y="2912"/>
                  </a:lnTo>
                  <a:lnTo>
                    <a:pt x="337" y="2903"/>
                  </a:lnTo>
                  <a:lnTo>
                    <a:pt x="306" y="2893"/>
                  </a:lnTo>
                  <a:lnTo>
                    <a:pt x="276" y="2882"/>
                  </a:lnTo>
                  <a:lnTo>
                    <a:pt x="246" y="2869"/>
                  </a:lnTo>
                  <a:lnTo>
                    <a:pt x="215" y="2856"/>
                  </a:lnTo>
                  <a:lnTo>
                    <a:pt x="184" y="2842"/>
                  </a:lnTo>
                  <a:lnTo>
                    <a:pt x="153" y="2828"/>
                  </a:lnTo>
                  <a:lnTo>
                    <a:pt x="136" y="2774"/>
                  </a:lnTo>
                  <a:lnTo>
                    <a:pt x="119" y="2718"/>
                  </a:lnTo>
                  <a:lnTo>
                    <a:pt x="103" y="2663"/>
                  </a:lnTo>
                  <a:lnTo>
                    <a:pt x="88" y="2607"/>
                  </a:lnTo>
                  <a:lnTo>
                    <a:pt x="73" y="2553"/>
                  </a:lnTo>
                  <a:lnTo>
                    <a:pt x="60" y="2498"/>
                  </a:lnTo>
                  <a:lnTo>
                    <a:pt x="47" y="2443"/>
                  </a:lnTo>
                  <a:lnTo>
                    <a:pt x="36" y="2387"/>
                  </a:lnTo>
                  <a:lnTo>
                    <a:pt x="27" y="2331"/>
                  </a:lnTo>
                  <a:lnTo>
                    <a:pt x="18" y="2275"/>
                  </a:lnTo>
                  <a:lnTo>
                    <a:pt x="12" y="2220"/>
                  </a:lnTo>
                  <a:lnTo>
                    <a:pt x="6" y="2163"/>
                  </a:lnTo>
                  <a:lnTo>
                    <a:pt x="2" y="2108"/>
                  </a:lnTo>
                  <a:lnTo>
                    <a:pt x="0" y="2051"/>
                  </a:lnTo>
                  <a:lnTo>
                    <a:pt x="0" y="1995"/>
                  </a:lnTo>
                  <a:lnTo>
                    <a:pt x="2" y="1940"/>
                  </a:lnTo>
                  <a:lnTo>
                    <a:pt x="6" y="1882"/>
                  </a:lnTo>
                  <a:lnTo>
                    <a:pt x="11" y="1825"/>
                  </a:lnTo>
                  <a:lnTo>
                    <a:pt x="19" y="1769"/>
                  </a:lnTo>
                  <a:lnTo>
                    <a:pt x="30" y="1712"/>
                  </a:lnTo>
                  <a:lnTo>
                    <a:pt x="43" y="1654"/>
                  </a:lnTo>
                  <a:lnTo>
                    <a:pt x="59" y="1596"/>
                  </a:lnTo>
                  <a:lnTo>
                    <a:pt x="76" y="1539"/>
                  </a:lnTo>
                  <a:lnTo>
                    <a:pt x="97" y="1481"/>
                  </a:lnTo>
                  <a:lnTo>
                    <a:pt x="120" y="1423"/>
                  </a:lnTo>
                  <a:lnTo>
                    <a:pt x="147" y="1365"/>
                  </a:lnTo>
                  <a:lnTo>
                    <a:pt x="177" y="1306"/>
                  </a:lnTo>
                  <a:lnTo>
                    <a:pt x="209" y="1247"/>
                  </a:lnTo>
                  <a:lnTo>
                    <a:pt x="244" y="1188"/>
                  </a:lnTo>
                  <a:lnTo>
                    <a:pt x="284" y="1129"/>
                  </a:lnTo>
                  <a:lnTo>
                    <a:pt x="325" y="1070"/>
                  </a:lnTo>
                  <a:lnTo>
                    <a:pt x="372" y="1010"/>
                  </a:lnTo>
                  <a:lnTo>
                    <a:pt x="360" y="981"/>
                  </a:lnTo>
                  <a:lnTo>
                    <a:pt x="349" y="953"/>
                  </a:lnTo>
                  <a:lnTo>
                    <a:pt x="339" y="924"/>
                  </a:lnTo>
                  <a:lnTo>
                    <a:pt x="330" y="894"/>
                  </a:lnTo>
                  <a:lnTo>
                    <a:pt x="322" y="865"/>
                  </a:lnTo>
                  <a:lnTo>
                    <a:pt x="314" y="835"/>
                  </a:lnTo>
                  <a:lnTo>
                    <a:pt x="308" y="806"/>
                  </a:lnTo>
                  <a:lnTo>
                    <a:pt x="302" y="775"/>
                  </a:lnTo>
                  <a:lnTo>
                    <a:pt x="297" y="744"/>
                  </a:lnTo>
                  <a:lnTo>
                    <a:pt x="293" y="714"/>
                  </a:lnTo>
                  <a:lnTo>
                    <a:pt x="291" y="684"/>
                  </a:lnTo>
                  <a:lnTo>
                    <a:pt x="289" y="652"/>
                  </a:lnTo>
                  <a:lnTo>
                    <a:pt x="287" y="621"/>
                  </a:lnTo>
                  <a:lnTo>
                    <a:pt x="286" y="590"/>
                  </a:lnTo>
                  <a:lnTo>
                    <a:pt x="286" y="558"/>
                  </a:lnTo>
                  <a:lnTo>
                    <a:pt x="287" y="526"/>
                  </a:lnTo>
                  <a:lnTo>
                    <a:pt x="290" y="496"/>
                  </a:lnTo>
                  <a:lnTo>
                    <a:pt x="292" y="464"/>
                  </a:lnTo>
                  <a:lnTo>
                    <a:pt x="296" y="430"/>
                  </a:lnTo>
                  <a:lnTo>
                    <a:pt x="301" y="398"/>
                  </a:lnTo>
                  <a:lnTo>
                    <a:pt x="306" y="366"/>
                  </a:lnTo>
                  <a:lnTo>
                    <a:pt x="312" y="333"/>
                  </a:lnTo>
                  <a:lnTo>
                    <a:pt x="318" y="301"/>
                  </a:lnTo>
                  <a:lnTo>
                    <a:pt x="325" y="268"/>
                  </a:lnTo>
                  <a:lnTo>
                    <a:pt x="334" y="235"/>
                  </a:lnTo>
                  <a:lnTo>
                    <a:pt x="344" y="202"/>
                  </a:lnTo>
                  <a:lnTo>
                    <a:pt x="354" y="168"/>
                  </a:lnTo>
                  <a:lnTo>
                    <a:pt x="365" y="135"/>
                  </a:lnTo>
                  <a:lnTo>
                    <a:pt x="376" y="102"/>
                  </a:lnTo>
                  <a:lnTo>
                    <a:pt x="388" y="68"/>
                  </a:lnTo>
                  <a:lnTo>
                    <a:pt x="402" y="34"/>
                  </a:lnTo>
                  <a:lnTo>
                    <a:pt x="416" y="0"/>
                  </a:lnTo>
                  <a:lnTo>
                    <a:pt x="442" y="7"/>
                  </a:lnTo>
                  <a:lnTo>
                    <a:pt x="472" y="15"/>
                  </a:lnTo>
                  <a:lnTo>
                    <a:pt x="506" y="22"/>
                  </a:lnTo>
                  <a:lnTo>
                    <a:pt x="543" y="29"/>
                  </a:lnTo>
                  <a:lnTo>
                    <a:pt x="626" y="44"/>
                  </a:lnTo>
                  <a:lnTo>
                    <a:pt x="712" y="58"/>
                  </a:lnTo>
                  <a:lnTo>
                    <a:pt x="798" y="72"/>
                  </a:lnTo>
                  <a:lnTo>
                    <a:pt x="878" y="86"/>
                  </a:lnTo>
                  <a:lnTo>
                    <a:pt x="915" y="93"/>
                  </a:lnTo>
                  <a:lnTo>
                    <a:pt x="949" y="99"/>
                  </a:lnTo>
                  <a:lnTo>
                    <a:pt x="979" y="107"/>
                  </a:lnTo>
                  <a:lnTo>
                    <a:pt x="1003" y="11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4157640" y="3249000"/>
              <a:ext cx="109800" cy="397440"/>
            </a:xfrm>
            <a:custGeom>
              <a:avLst/>
              <a:gdLst/>
              <a:ahLst/>
              <a:rect l="l" t="t" r="r" b="b"/>
              <a:pathLst>
                <a:path w="291" h="1050">
                  <a:moveTo>
                    <a:pt x="291" y="1031"/>
                  </a:moveTo>
                  <a:lnTo>
                    <a:pt x="291" y="1034"/>
                  </a:lnTo>
                  <a:lnTo>
                    <a:pt x="287" y="1002"/>
                  </a:lnTo>
                  <a:lnTo>
                    <a:pt x="283" y="970"/>
                  </a:lnTo>
                  <a:lnTo>
                    <a:pt x="281" y="938"/>
                  </a:lnTo>
                  <a:lnTo>
                    <a:pt x="278" y="906"/>
                  </a:lnTo>
                  <a:lnTo>
                    <a:pt x="276" y="842"/>
                  </a:lnTo>
                  <a:lnTo>
                    <a:pt x="276" y="777"/>
                  </a:lnTo>
                  <a:lnTo>
                    <a:pt x="275" y="713"/>
                  </a:lnTo>
                  <a:lnTo>
                    <a:pt x="273" y="647"/>
                  </a:lnTo>
                  <a:lnTo>
                    <a:pt x="271" y="583"/>
                  </a:lnTo>
                  <a:lnTo>
                    <a:pt x="266" y="518"/>
                  </a:lnTo>
                  <a:lnTo>
                    <a:pt x="262" y="486"/>
                  </a:lnTo>
                  <a:lnTo>
                    <a:pt x="257" y="453"/>
                  </a:lnTo>
                  <a:lnTo>
                    <a:pt x="252" y="421"/>
                  </a:lnTo>
                  <a:lnTo>
                    <a:pt x="245" y="388"/>
                  </a:lnTo>
                  <a:lnTo>
                    <a:pt x="236" y="356"/>
                  </a:lnTo>
                  <a:lnTo>
                    <a:pt x="227" y="323"/>
                  </a:lnTo>
                  <a:lnTo>
                    <a:pt x="216" y="291"/>
                  </a:lnTo>
                  <a:lnTo>
                    <a:pt x="202" y="257"/>
                  </a:lnTo>
                  <a:lnTo>
                    <a:pt x="187" y="225"/>
                  </a:lnTo>
                  <a:lnTo>
                    <a:pt x="170" y="194"/>
                  </a:lnTo>
                  <a:lnTo>
                    <a:pt x="150" y="160"/>
                  </a:lnTo>
                  <a:lnTo>
                    <a:pt x="129" y="128"/>
                  </a:lnTo>
                  <a:lnTo>
                    <a:pt x="106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8" y="82"/>
                  </a:lnTo>
                  <a:lnTo>
                    <a:pt x="84" y="114"/>
                  </a:lnTo>
                  <a:lnTo>
                    <a:pt x="107" y="144"/>
                  </a:lnTo>
                  <a:lnTo>
                    <a:pt x="127" y="175"/>
                  </a:lnTo>
                  <a:lnTo>
                    <a:pt x="145" y="207"/>
                  </a:lnTo>
                  <a:lnTo>
                    <a:pt x="163" y="238"/>
                  </a:lnTo>
                  <a:lnTo>
                    <a:pt x="176" y="269"/>
                  </a:lnTo>
                  <a:lnTo>
                    <a:pt x="190" y="301"/>
                  </a:lnTo>
                  <a:lnTo>
                    <a:pt x="201" y="331"/>
                  </a:lnTo>
                  <a:lnTo>
                    <a:pt x="209" y="363"/>
                  </a:lnTo>
                  <a:lnTo>
                    <a:pt x="218" y="394"/>
                  </a:lnTo>
                  <a:lnTo>
                    <a:pt x="225" y="426"/>
                  </a:lnTo>
                  <a:lnTo>
                    <a:pt x="230" y="458"/>
                  </a:lnTo>
                  <a:lnTo>
                    <a:pt x="235" y="489"/>
                  </a:lnTo>
                  <a:lnTo>
                    <a:pt x="239" y="521"/>
                  </a:lnTo>
                  <a:lnTo>
                    <a:pt x="244" y="585"/>
                  </a:lnTo>
                  <a:lnTo>
                    <a:pt x="246" y="649"/>
                  </a:lnTo>
                  <a:lnTo>
                    <a:pt x="246" y="713"/>
                  </a:lnTo>
                  <a:lnTo>
                    <a:pt x="248" y="778"/>
                  </a:lnTo>
                  <a:lnTo>
                    <a:pt x="249" y="842"/>
                  </a:lnTo>
                  <a:lnTo>
                    <a:pt x="251" y="907"/>
                  </a:lnTo>
                  <a:lnTo>
                    <a:pt x="252" y="940"/>
                  </a:lnTo>
                  <a:lnTo>
                    <a:pt x="255" y="972"/>
                  </a:lnTo>
                  <a:lnTo>
                    <a:pt x="259" y="1005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3" y="1039"/>
                  </a:lnTo>
                  <a:lnTo>
                    <a:pt x="265" y="1041"/>
                  </a:lnTo>
                  <a:lnTo>
                    <a:pt x="266" y="1043"/>
                  </a:lnTo>
                  <a:lnTo>
                    <a:pt x="267" y="1046"/>
                  </a:lnTo>
                  <a:lnTo>
                    <a:pt x="270" y="1048"/>
                  </a:lnTo>
                  <a:lnTo>
                    <a:pt x="275" y="1050"/>
                  </a:lnTo>
                  <a:lnTo>
                    <a:pt x="279" y="1050"/>
                  </a:lnTo>
                  <a:lnTo>
                    <a:pt x="284" y="1048"/>
                  </a:lnTo>
                  <a:lnTo>
                    <a:pt x="288" y="1045"/>
                  </a:lnTo>
                  <a:lnTo>
                    <a:pt x="291" y="1040"/>
                  </a:lnTo>
                  <a:lnTo>
                    <a:pt x="291" y="1034"/>
                  </a:lnTo>
                  <a:lnTo>
                    <a:pt x="291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419904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6" y="1523"/>
                  </a:lnTo>
                  <a:lnTo>
                    <a:pt x="141" y="1413"/>
                  </a:lnTo>
                  <a:lnTo>
                    <a:pt x="174" y="1304"/>
                  </a:lnTo>
                  <a:lnTo>
                    <a:pt x="190" y="1249"/>
                  </a:lnTo>
                  <a:lnTo>
                    <a:pt x="205" y="1194"/>
                  </a:lnTo>
                  <a:lnTo>
                    <a:pt x="219" y="1139"/>
                  </a:lnTo>
                  <a:lnTo>
                    <a:pt x="232" y="1085"/>
                  </a:lnTo>
                  <a:lnTo>
                    <a:pt x="243" y="1031"/>
                  </a:lnTo>
                  <a:lnTo>
                    <a:pt x="254" y="976"/>
                  </a:lnTo>
                  <a:lnTo>
                    <a:pt x="264" y="921"/>
                  </a:lnTo>
                  <a:lnTo>
                    <a:pt x="273" y="867"/>
                  </a:lnTo>
                  <a:lnTo>
                    <a:pt x="279" y="812"/>
                  </a:lnTo>
                  <a:lnTo>
                    <a:pt x="285" y="758"/>
                  </a:lnTo>
                  <a:lnTo>
                    <a:pt x="289" y="704"/>
                  </a:lnTo>
                  <a:lnTo>
                    <a:pt x="291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90" y="486"/>
                  </a:lnTo>
                  <a:lnTo>
                    <a:pt x="285" y="432"/>
                  </a:lnTo>
                  <a:lnTo>
                    <a:pt x="279" y="378"/>
                  </a:lnTo>
                  <a:lnTo>
                    <a:pt x="272" y="324"/>
                  </a:lnTo>
                  <a:lnTo>
                    <a:pt x="262" y="270"/>
                  </a:lnTo>
                  <a:lnTo>
                    <a:pt x="249" y="215"/>
                  </a:lnTo>
                  <a:lnTo>
                    <a:pt x="236" y="161"/>
                  </a:lnTo>
                  <a:lnTo>
                    <a:pt x="220" y="107"/>
                  </a:lnTo>
                  <a:lnTo>
                    <a:pt x="201" y="53"/>
                  </a:lnTo>
                  <a:lnTo>
                    <a:pt x="181" y="0"/>
                  </a:lnTo>
                  <a:lnTo>
                    <a:pt x="155" y="10"/>
                  </a:lnTo>
                  <a:lnTo>
                    <a:pt x="174" y="63"/>
                  </a:lnTo>
                  <a:lnTo>
                    <a:pt x="193" y="116"/>
                  </a:lnTo>
                  <a:lnTo>
                    <a:pt x="209" y="169"/>
                  </a:lnTo>
                  <a:lnTo>
                    <a:pt x="222" y="222"/>
                  </a:lnTo>
                  <a:lnTo>
                    <a:pt x="235" y="276"/>
                  </a:lnTo>
                  <a:lnTo>
                    <a:pt x="245" y="329"/>
                  </a:lnTo>
                  <a:lnTo>
                    <a:pt x="252" y="381"/>
                  </a:lnTo>
                  <a:lnTo>
                    <a:pt x="258" y="434"/>
                  </a:lnTo>
                  <a:lnTo>
                    <a:pt x="262" y="488"/>
                  </a:lnTo>
                  <a:lnTo>
                    <a:pt x="264" y="541"/>
                  </a:lnTo>
                  <a:lnTo>
                    <a:pt x="264" y="594"/>
                  </a:lnTo>
                  <a:lnTo>
                    <a:pt x="264" y="648"/>
                  </a:lnTo>
                  <a:lnTo>
                    <a:pt x="262" y="702"/>
                  </a:lnTo>
                  <a:lnTo>
                    <a:pt x="257" y="755"/>
                  </a:lnTo>
                  <a:lnTo>
                    <a:pt x="252" y="809"/>
                  </a:lnTo>
                  <a:lnTo>
                    <a:pt x="245" y="864"/>
                  </a:lnTo>
                  <a:lnTo>
                    <a:pt x="237" y="916"/>
                  </a:lnTo>
                  <a:lnTo>
                    <a:pt x="227" y="971"/>
                  </a:lnTo>
                  <a:lnTo>
                    <a:pt x="216" y="1025"/>
                  </a:lnTo>
                  <a:lnTo>
                    <a:pt x="205" y="1079"/>
                  </a:lnTo>
                  <a:lnTo>
                    <a:pt x="192" y="1133"/>
                  </a:lnTo>
                  <a:lnTo>
                    <a:pt x="178" y="1187"/>
                  </a:lnTo>
                  <a:lnTo>
                    <a:pt x="163" y="1241"/>
                  </a:lnTo>
                  <a:lnTo>
                    <a:pt x="149" y="1295"/>
                  </a:lnTo>
                  <a:lnTo>
                    <a:pt x="115" y="1405"/>
                  </a:lnTo>
                  <a:lnTo>
                    <a:pt x="78" y="1513"/>
                  </a:lnTo>
                  <a:lnTo>
                    <a:pt x="40" y="1623"/>
                  </a:lnTo>
                  <a:lnTo>
                    <a:pt x="1" y="1732"/>
                  </a:lnTo>
                  <a:lnTo>
                    <a:pt x="8" y="1725"/>
                  </a:lnTo>
                  <a:lnTo>
                    <a:pt x="1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1" y="1741"/>
                  </a:lnTo>
                  <a:lnTo>
                    <a:pt x="1" y="1743"/>
                  </a:lnTo>
                  <a:lnTo>
                    <a:pt x="5" y="1748"/>
                  </a:lnTo>
                  <a:lnTo>
                    <a:pt x="10" y="1750"/>
                  </a:lnTo>
                  <a:lnTo>
                    <a:pt x="15" y="1750"/>
                  </a:lnTo>
                  <a:lnTo>
                    <a:pt x="19" y="1750"/>
                  </a:lnTo>
                  <a:lnTo>
                    <a:pt x="22" y="1749"/>
                  </a:lnTo>
                  <a:lnTo>
                    <a:pt x="24" y="1747"/>
                  </a:lnTo>
                  <a:lnTo>
                    <a:pt x="26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834000" y="4275360"/>
              <a:ext cx="372600" cy="62640"/>
            </a:xfrm>
            <a:custGeom>
              <a:avLst/>
              <a:gdLst/>
              <a:ahLst/>
              <a:rect l="l" t="t" r="r" b="b"/>
              <a:pathLst>
                <a:path w="982" h="161">
                  <a:moveTo>
                    <a:pt x="0" y="19"/>
                  </a:moveTo>
                  <a:lnTo>
                    <a:pt x="7" y="26"/>
                  </a:lnTo>
                  <a:lnTo>
                    <a:pt x="38" y="41"/>
                  </a:lnTo>
                  <a:lnTo>
                    <a:pt x="69" y="55"/>
                  </a:lnTo>
                  <a:lnTo>
                    <a:pt x="99" y="68"/>
                  </a:lnTo>
                  <a:lnTo>
                    <a:pt x="131" y="80"/>
                  </a:lnTo>
                  <a:lnTo>
                    <a:pt x="161" y="91"/>
                  </a:lnTo>
                  <a:lnTo>
                    <a:pt x="192" y="102"/>
                  </a:lnTo>
                  <a:lnTo>
                    <a:pt x="222" y="112"/>
                  </a:lnTo>
                  <a:lnTo>
                    <a:pt x="253" y="121"/>
                  </a:lnTo>
                  <a:lnTo>
                    <a:pt x="284" y="128"/>
                  </a:lnTo>
                  <a:lnTo>
                    <a:pt x="315" y="135"/>
                  </a:lnTo>
                  <a:lnTo>
                    <a:pt x="344" y="142"/>
                  </a:lnTo>
                  <a:lnTo>
                    <a:pt x="375" y="146"/>
                  </a:lnTo>
                  <a:lnTo>
                    <a:pt x="406" y="151"/>
                  </a:lnTo>
                  <a:lnTo>
                    <a:pt x="435" y="155"/>
                  </a:lnTo>
                  <a:lnTo>
                    <a:pt x="466" y="158"/>
                  </a:lnTo>
                  <a:lnTo>
                    <a:pt x="497" y="160"/>
                  </a:lnTo>
                  <a:lnTo>
                    <a:pt x="526" y="160"/>
                  </a:lnTo>
                  <a:lnTo>
                    <a:pt x="557" y="161"/>
                  </a:lnTo>
                  <a:lnTo>
                    <a:pt x="588" y="160"/>
                  </a:lnTo>
                  <a:lnTo>
                    <a:pt x="617" y="159"/>
                  </a:lnTo>
                  <a:lnTo>
                    <a:pt x="648" y="156"/>
                  </a:lnTo>
                  <a:lnTo>
                    <a:pt x="679" y="153"/>
                  </a:lnTo>
                  <a:lnTo>
                    <a:pt x="708" y="148"/>
                  </a:lnTo>
                  <a:lnTo>
                    <a:pt x="739" y="143"/>
                  </a:lnTo>
                  <a:lnTo>
                    <a:pt x="770" y="137"/>
                  </a:lnTo>
                  <a:lnTo>
                    <a:pt x="799" y="130"/>
                  </a:lnTo>
                  <a:lnTo>
                    <a:pt x="830" y="123"/>
                  </a:lnTo>
                  <a:lnTo>
                    <a:pt x="861" y="114"/>
                  </a:lnTo>
                  <a:lnTo>
                    <a:pt x="890" y="105"/>
                  </a:lnTo>
                  <a:lnTo>
                    <a:pt x="921" y="94"/>
                  </a:lnTo>
                  <a:lnTo>
                    <a:pt x="952" y="83"/>
                  </a:lnTo>
                  <a:lnTo>
                    <a:pt x="982" y="70"/>
                  </a:lnTo>
                  <a:lnTo>
                    <a:pt x="971" y="46"/>
                  </a:lnTo>
                  <a:lnTo>
                    <a:pt x="942" y="57"/>
                  </a:lnTo>
                  <a:lnTo>
                    <a:pt x="912" y="68"/>
                  </a:lnTo>
                  <a:lnTo>
                    <a:pt x="882" y="78"/>
                  </a:lnTo>
                  <a:lnTo>
                    <a:pt x="852" y="87"/>
                  </a:lnTo>
                  <a:lnTo>
                    <a:pt x="823" y="96"/>
                  </a:lnTo>
                  <a:lnTo>
                    <a:pt x="793" y="103"/>
                  </a:lnTo>
                  <a:lnTo>
                    <a:pt x="764" y="110"/>
                  </a:lnTo>
                  <a:lnTo>
                    <a:pt x="734" y="116"/>
                  </a:lnTo>
                  <a:lnTo>
                    <a:pt x="704" y="121"/>
                  </a:lnTo>
                  <a:lnTo>
                    <a:pt x="675" y="124"/>
                  </a:lnTo>
                  <a:lnTo>
                    <a:pt x="645" y="128"/>
                  </a:lnTo>
                  <a:lnTo>
                    <a:pt x="616" y="130"/>
                  </a:lnTo>
                  <a:lnTo>
                    <a:pt x="586" y="132"/>
                  </a:lnTo>
                  <a:lnTo>
                    <a:pt x="557" y="133"/>
                  </a:lnTo>
                  <a:lnTo>
                    <a:pt x="527" y="133"/>
                  </a:lnTo>
                  <a:lnTo>
                    <a:pt x="498" y="132"/>
                  </a:lnTo>
                  <a:lnTo>
                    <a:pt x="468" y="130"/>
                  </a:lnTo>
                  <a:lnTo>
                    <a:pt x="439" y="127"/>
                  </a:lnTo>
                  <a:lnTo>
                    <a:pt x="409" y="124"/>
                  </a:lnTo>
                  <a:lnTo>
                    <a:pt x="380" y="119"/>
                  </a:lnTo>
                  <a:lnTo>
                    <a:pt x="350" y="114"/>
                  </a:lnTo>
                  <a:lnTo>
                    <a:pt x="320" y="108"/>
                  </a:lnTo>
                  <a:lnTo>
                    <a:pt x="290" y="101"/>
                  </a:lnTo>
                  <a:lnTo>
                    <a:pt x="260" y="94"/>
                  </a:lnTo>
                  <a:lnTo>
                    <a:pt x="231" y="85"/>
                  </a:lnTo>
                  <a:lnTo>
                    <a:pt x="200" y="75"/>
                  </a:lnTo>
                  <a:lnTo>
                    <a:pt x="171" y="65"/>
                  </a:lnTo>
                  <a:lnTo>
                    <a:pt x="141" y="54"/>
                  </a:lnTo>
                  <a:lnTo>
                    <a:pt x="110" y="42"/>
                  </a:lnTo>
                  <a:lnTo>
                    <a:pt x="81" y="30"/>
                  </a:lnTo>
                  <a:lnTo>
                    <a:pt x="50" y="16"/>
                  </a:lnTo>
                  <a:lnTo>
                    <a:pt x="19" y="1"/>
                  </a:lnTo>
                  <a:lnTo>
                    <a:pt x="27" y="10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77480" y="3588120"/>
              <a:ext cx="151200" cy="695160"/>
            </a:xfrm>
            <a:custGeom>
              <a:avLst/>
              <a:gdLst/>
              <a:ahLst/>
              <a:rect l="l" t="t" r="r" b="b"/>
              <a:pathLst>
                <a:path w="400" h="1837">
                  <a:moveTo>
                    <a:pt x="373" y="20"/>
                  </a:moveTo>
                  <a:lnTo>
                    <a:pt x="375" y="5"/>
                  </a:lnTo>
                  <a:lnTo>
                    <a:pt x="352" y="36"/>
                  </a:lnTo>
                  <a:lnTo>
                    <a:pt x="328" y="65"/>
                  </a:lnTo>
                  <a:lnTo>
                    <a:pt x="307" y="95"/>
                  </a:lnTo>
                  <a:lnTo>
                    <a:pt x="287" y="126"/>
                  </a:lnTo>
                  <a:lnTo>
                    <a:pt x="266" y="155"/>
                  </a:lnTo>
                  <a:lnTo>
                    <a:pt x="247" y="185"/>
                  </a:lnTo>
                  <a:lnTo>
                    <a:pt x="229" y="215"/>
                  </a:lnTo>
                  <a:lnTo>
                    <a:pt x="210" y="245"/>
                  </a:lnTo>
                  <a:lnTo>
                    <a:pt x="194" y="274"/>
                  </a:lnTo>
                  <a:lnTo>
                    <a:pt x="178" y="304"/>
                  </a:lnTo>
                  <a:lnTo>
                    <a:pt x="162" y="333"/>
                  </a:lnTo>
                  <a:lnTo>
                    <a:pt x="148" y="363"/>
                  </a:lnTo>
                  <a:lnTo>
                    <a:pt x="134" y="393"/>
                  </a:lnTo>
                  <a:lnTo>
                    <a:pt x="122" y="422"/>
                  </a:lnTo>
                  <a:lnTo>
                    <a:pt x="109" y="450"/>
                  </a:lnTo>
                  <a:lnTo>
                    <a:pt x="97" y="480"/>
                  </a:lnTo>
                  <a:lnTo>
                    <a:pt x="87" y="509"/>
                  </a:lnTo>
                  <a:lnTo>
                    <a:pt x="76" y="539"/>
                  </a:lnTo>
                  <a:lnTo>
                    <a:pt x="68" y="567"/>
                  </a:lnTo>
                  <a:lnTo>
                    <a:pt x="59" y="597"/>
                  </a:lnTo>
                  <a:lnTo>
                    <a:pt x="43" y="655"/>
                  </a:lnTo>
                  <a:lnTo>
                    <a:pt x="30" y="712"/>
                  </a:lnTo>
                  <a:lnTo>
                    <a:pt x="20" y="770"/>
                  </a:lnTo>
                  <a:lnTo>
                    <a:pt x="11" y="828"/>
                  </a:lnTo>
                  <a:lnTo>
                    <a:pt x="5" y="886"/>
                  </a:lnTo>
                  <a:lnTo>
                    <a:pt x="1" y="942"/>
                  </a:lnTo>
                  <a:lnTo>
                    <a:pt x="0" y="999"/>
                  </a:lnTo>
                  <a:lnTo>
                    <a:pt x="0" y="1055"/>
                  </a:lnTo>
                  <a:lnTo>
                    <a:pt x="2" y="1112"/>
                  </a:lnTo>
                  <a:lnTo>
                    <a:pt x="6" y="1169"/>
                  </a:lnTo>
                  <a:lnTo>
                    <a:pt x="11" y="1225"/>
                  </a:lnTo>
                  <a:lnTo>
                    <a:pt x="18" y="1282"/>
                  </a:lnTo>
                  <a:lnTo>
                    <a:pt x="27" y="1337"/>
                  </a:lnTo>
                  <a:lnTo>
                    <a:pt x="37" y="1394"/>
                  </a:lnTo>
                  <a:lnTo>
                    <a:pt x="48" y="1449"/>
                  </a:lnTo>
                  <a:lnTo>
                    <a:pt x="60" y="1504"/>
                  </a:lnTo>
                  <a:lnTo>
                    <a:pt x="74" y="1560"/>
                  </a:lnTo>
                  <a:lnTo>
                    <a:pt x="89" y="1615"/>
                  </a:lnTo>
                  <a:lnTo>
                    <a:pt x="105" y="1670"/>
                  </a:lnTo>
                  <a:lnTo>
                    <a:pt x="121" y="1726"/>
                  </a:lnTo>
                  <a:lnTo>
                    <a:pt x="137" y="1781"/>
                  </a:lnTo>
                  <a:lnTo>
                    <a:pt x="154" y="1837"/>
                  </a:lnTo>
                  <a:lnTo>
                    <a:pt x="181" y="1828"/>
                  </a:lnTo>
                  <a:lnTo>
                    <a:pt x="164" y="1773"/>
                  </a:lnTo>
                  <a:lnTo>
                    <a:pt x="146" y="1718"/>
                  </a:lnTo>
                  <a:lnTo>
                    <a:pt x="130" y="1663"/>
                  </a:lnTo>
                  <a:lnTo>
                    <a:pt x="116" y="1608"/>
                  </a:lnTo>
                  <a:lnTo>
                    <a:pt x="101" y="1554"/>
                  </a:lnTo>
                  <a:lnTo>
                    <a:pt x="87" y="1498"/>
                  </a:lnTo>
                  <a:lnTo>
                    <a:pt x="75" y="1443"/>
                  </a:lnTo>
                  <a:lnTo>
                    <a:pt x="64" y="1389"/>
                  </a:lnTo>
                  <a:lnTo>
                    <a:pt x="54" y="1333"/>
                  </a:lnTo>
                  <a:lnTo>
                    <a:pt x="47" y="1278"/>
                  </a:lnTo>
                  <a:lnTo>
                    <a:pt x="39" y="1223"/>
                  </a:lnTo>
                  <a:lnTo>
                    <a:pt x="33" y="1166"/>
                  </a:lnTo>
                  <a:lnTo>
                    <a:pt x="30" y="1111"/>
                  </a:lnTo>
                  <a:lnTo>
                    <a:pt x="28" y="1055"/>
                  </a:lnTo>
                  <a:lnTo>
                    <a:pt x="27" y="1000"/>
                  </a:lnTo>
                  <a:lnTo>
                    <a:pt x="30" y="944"/>
                  </a:lnTo>
                  <a:lnTo>
                    <a:pt x="33" y="887"/>
                  </a:lnTo>
                  <a:lnTo>
                    <a:pt x="39" y="832"/>
                  </a:lnTo>
                  <a:lnTo>
                    <a:pt x="47" y="775"/>
                  </a:lnTo>
                  <a:lnTo>
                    <a:pt x="58" y="718"/>
                  </a:lnTo>
                  <a:lnTo>
                    <a:pt x="70" y="662"/>
                  </a:lnTo>
                  <a:lnTo>
                    <a:pt x="85" y="604"/>
                  </a:lnTo>
                  <a:lnTo>
                    <a:pt x="93" y="576"/>
                  </a:lnTo>
                  <a:lnTo>
                    <a:pt x="103" y="548"/>
                  </a:lnTo>
                  <a:lnTo>
                    <a:pt x="113" y="519"/>
                  </a:lnTo>
                  <a:lnTo>
                    <a:pt x="124" y="490"/>
                  </a:lnTo>
                  <a:lnTo>
                    <a:pt x="135" y="461"/>
                  </a:lnTo>
                  <a:lnTo>
                    <a:pt x="148" y="432"/>
                  </a:lnTo>
                  <a:lnTo>
                    <a:pt x="160" y="404"/>
                  </a:lnTo>
                  <a:lnTo>
                    <a:pt x="173" y="375"/>
                  </a:lnTo>
                  <a:lnTo>
                    <a:pt x="187" y="346"/>
                  </a:lnTo>
                  <a:lnTo>
                    <a:pt x="203" y="316"/>
                  </a:lnTo>
                  <a:lnTo>
                    <a:pt x="218" y="288"/>
                  </a:lnTo>
                  <a:lnTo>
                    <a:pt x="235" y="258"/>
                  </a:lnTo>
                  <a:lnTo>
                    <a:pt x="252" y="229"/>
                  </a:lnTo>
                  <a:lnTo>
                    <a:pt x="271" y="199"/>
                  </a:lnTo>
                  <a:lnTo>
                    <a:pt x="289" y="170"/>
                  </a:lnTo>
                  <a:lnTo>
                    <a:pt x="309" y="142"/>
                  </a:lnTo>
                  <a:lnTo>
                    <a:pt x="330" y="112"/>
                  </a:lnTo>
                  <a:lnTo>
                    <a:pt x="351" y="83"/>
                  </a:lnTo>
                  <a:lnTo>
                    <a:pt x="374" y="52"/>
                  </a:lnTo>
                  <a:lnTo>
                    <a:pt x="397" y="22"/>
                  </a:lnTo>
                  <a:lnTo>
                    <a:pt x="398" y="9"/>
                  </a:lnTo>
                  <a:lnTo>
                    <a:pt x="397" y="22"/>
                  </a:lnTo>
                  <a:lnTo>
                    <a:pt x="400" y="17"/>
                  </a:lnTo>
                  <a:lnTo>
                    <a:pt x="400" y="11"/>
                  </a:lnTo>
                  <a:lnTo>
                    <a:pt x="397" y="8"/>
                  </a:lnTo>
                  <a:lnTo>
                    <a:pt x="395" y="3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2" y="0"/>
                  </a:lnTo>
                  <a:lnTo>
                    <a:pt x="380" y="1"/>
                  </a:lnTo>
                  <a:lnTo>
                    <a:pt x="378" y="3"/>
                  </a:lnTo>
                  <a:lnTo>
                    <a:pt x="375" y="5"/>
                  </a:lnTo>
                  <a:lnTo>
                    <a:pt x="37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885120" y="3205800"/>
              <a:ext cx="58680" cy="389880"/>
            </a:xfrm>
            <a:custGeom>
              <a:avLst/>
              <a:gdLst/>
              <a:ahLst/>
              <a:rect l="l" t="t" r="r" b="b"/>
              <a:pathLst>
                <a:path w="157" h="1030">
                  <a:moveTo>
                    <a:pt x="147" y="0"/>
                  </a:moveTo>
                  <a:lnTo>
                    <a:pt x="130" y="9"/>
                  </a:lnTo>
                  <a:lnTo>
                    <a:pt x="116" y="43"/>
                  </a:lnTo>
                  <a:lnTo>
                    <a:pt x="103" y="77"/>
                  </a:lnTo>
                  <a:lnTo>
                    <a:pt x="91" y="111"/>
                  </a:lnTo>
                  <a:lnTo>
                    <a:pt x="78" y="144"/>
                  </a:lnTo>
                  <a:lnTo>
                    <a:pt x="67" y="179"/>
                  </a:lnTo>
                  <a:lnTo>
                    <a:pt x="57" y="212"/>
                  </a:lnTo>
                  <a:lnTo>
                    <a:pt x="48" y="245"/>
                  </a:lnTo>
                  <a:lnTo>
                    <a:pt x="40" y="278"/>
                  </a:lnTo>
                  <a:lnTo>
                    <a:pt x="32" y="312"/>
                  </a:lnTo>
                  <a:lnTo>
                    <a:pt x="25" y="345"/>
                  </a:lnTo>
                  <a:lnTo>
                    <a:pt x="19" y="378"/>
                  </a:lnTo>
                  <a:lnTo>
                    <a:pt x="13" y="411"/>
                  </a:lnTo>
                  <a:lnTo>
                    <a:pt x="9" y="443"/>
                  </a:lnTo>
                  <a:lnTo>
                    <a:pt x="6" y="475"/>
                  </a:lnTo>
                  <a:lnTo>
                    <a:pt x="3" y="508"/>
                  </a:lnTo>
                  <a:lnTo>
                    <a:pt x="1" y="540"/>
                  </a:lnTo>
                  <a:lnTo>
                    <a:pt x="0" y="572"/>
                  </a:lnTo>
                  <a:lnTo>
                    <a:pt x="0" y="604"/>
                  </a:lnTo>
                  <a:lnTo>
                    <a:pt x="0" y="636"/>
                  </a:lnTo>
                  <a:lnTo>
                    <a:pt x="1" y="667"/>
                  </a:lnTo>
                  <a:lnTo>
                    <a:pt x="3" y="699"/>
                  </a:lnTo>
                  <a:lnTo>
                    <a:pt x="7" y="730"/>
                  </a:lnTo>
                  <a:lnTo>
                    <a:pt x="11" y="760"/>
                  </a:lnTo>
                  <a:lnTo>
                    <a:pt x="16" y="791"/>
                  </a:lnTo>
                  <a:lnTo>
                    <a:pt x="22" y="822"/>
                  </a:lnTo>
                  <a:lnTo>
                    <a:pt x="28" y="851"/>
                  </a:lnTo>
                  <a:lnTo>
                    <a:pt x="35" y="882"/>
                  </a:lnTo>
                  <a:lnTo>
                    <a:pt x="44" y="912"/>
                  </a:lnTo>
                  <a:lnTo>
                    <a:pt x="52" y="941"/>
                  </a:lnTo>
                  <a:lnTo>
                    <a:pt x="64" y="971"/>
                  </a:lnTo>
                  <a:lnTo>
                    <a:pt x="75" y="1000"/>
                  </a:lnTo>
                  <a:lnTo>
                    <a:pt x="86" y="1030"/>
                  </a:lnTo>
                  <a:lnTo>
                    <a:pt x="111" y="1019"/>
                  </a:lnTo>
                  <a:lnTo>
                    <a:pt x="100" y="990"/>
                  </a:lnTo>
                  <a:lnTo>
                    <a:pt x="89" y="962"/>
                  </a:lnTo>
                  <a:lnTo>
                    <a:pt x="80" y="933"/>
                  </a:lnTo>
                  <a:lnTo>
                    <a:pt x="71" y="904"/>
                  </a:lnTo>
                  <a:lnTo>
                    <a:pt x="62" y="875"/>
                  </a:lnTo>
                  <a:lnTo>
                    <a:pt x="55" y="845"/>
                  </a:lnTo>
                  <a:lnTo>
                    <a:pt x="49" y="816"/>
                  </a:lnTo>
                  <a:lnTo>
                    <a:pt x="43" y="786"/>
                  </a:lnTo>
                  <a:lnTo>
                    <a:pt x="38" y="757"/>
                  </a:lnTo>
                  <a:lnTo>
                    <a:pt x="34" y="726"/>
                  </a:lnTo>
                  <a:lnTo>
                    <a:pt x="32" y="697"/>
                  </a:lnTo>
                  <a:lnTo>
                    <a:pt x="29" y="666"/>
                  </a:lnTo>
                  <a:lnTo>
                    <a:pt x="28" y="635"/>
                  </a:lnTo>
                  <a:lnTo>
                    <a:pt x="27" y="604"/>
                  </a:lnTo>
                  <a:lnTo>
                    <a:pt x="28" y="572"/>
                  </a:lnTo>
                  <a:lnTo>
                    <a:pt x="29" y="542"/>
                  </a:lnTo>
                  <a:lnTo>
                    <a:pt x="30" y="510"/>
                  </a:lnTo>
                  <a:lnTo>
                    <a:pt x="33" y="479"/>
                  </a:lnTo>
                  <a:lnTo>
                    <a:pt x="36" y="447"/>
                  </a:lnTo>
                  <a:lnTo>
                    <a:pt x="41" y="415"/>
                  </a:lnTo>
                  <a:lnTo>
                    <a:pt x="46" y="383"/>
                  </a:lnTo>
                  <a:lnTo>
                    <a:pt x="52" y="350"/>
                  </a:lnTo>
                  <a:lnTo>
                    <a:pt x="59" y="318"/>
                  </a:lnTo>
                  <a:lnTo>
                    <a:pt x="66" y="286"/>
                  </a:lnTo>
                  <a:lnTo>
                    <a:pt x="75" y="252"/>
                  </a:lnTo>
                  <a:lnTo>
                    <a:pt x="84" y="219"/>
                  </a:lnTo>
                  <a:lnTo>
                    <a:pt x="94" y="186"/>
                  </a:lnTo>
                  <a:lnTo>
                    <a:pt x="105" y="153"/>
                  </a:lnTo>
                  <a:lnTo>
                    <a:pt x="116" y="120"/>
                  </a:lnTo>
                  <a:lnTo>
                    <a:pt x="129" y="86"/>
                  </a:lnTo>
                  <a:lnTo>
                    <a:pt x="142" y="53"/>
                  </a:lnTo>
                  <a:lnTo>
                    <a:pt x="156" y="20"/>
                  </a:lnTo>
                  <a:lnTo>
                    <a:pt x="139" y="27"/>
                  </a:lnTo>
                  <a:lnTo>
                    <a:pt x="156" y="20"/>
                  </a:lnTo>
                  <a:lnTo>
                    <a:pt x="157" y="14"/>
                  </a:lnTo>
                  <a:lnTo>
                    <a:pt x="156" y="8"/>
                  </a:lnTo>
                  <a:lnTo>
                    <a:pt x="152" y="4"/>
                  </a:lnTo>
                  <a:lnTo>
                    <a:pt x="148" y="2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938400" y="3205800"/>
              <a:ext cx="228600" cy="52560"/>
            </a:xfrm>
            <a:custGeom>
              <a:avLst/>
              <a:gdLst/>
              <a:ahLst/>
              <a:rect l="l" t="t" r="r" b="b"/>
              <a:pathLst>
                <a:path w="605" h="142">
                  <a:moveTo>
                    <a:pt x="601" y="118"/>
                  </a:moveTo>
                  <a:lnTo>
                    <a:pt x="595" y="115"/>
                  </a:lnTo>
                  <a:lnTo>
                    <a:pt x="569" y="107"/>
                  </a:lnTo>
                  <a:lnTo>
                    <a:pt x="539" y="100"/>
                  </a:lnTo>
                  <a:lnTo>
                    <a:pt x="505" y="94"/>
                  </a:lnTo>
                  <a:lnTo>
                    <a:pt x="468" y="86"/>
                  </a:lnTo>
                  <a:lnTo>
                    <a:pt x="388" y="72"/>
                  </a:lnTo>
                  <a:lnTo>
                    <a:pt x="302" y="58"/>
                  </a:lnTo>
                  <a:lnTo>
                    <a:pt x="215" y="43"/>
                  </a:lnTo>
                  <a:lnTo>
                    <a:pt x="134" y="30"/>
                  </a:lnTo>
                  <a:lnTo>
                    <a:pt x="97" y="22"/>
                  </a:lnTo>
                  <a:lnTo>
                    <a:pt x="63" y="15"/>
                  </a:lnTo>
                  <a:lnTo>
                    <a:pt x="33" y="8"/>
                  </a:lnTo>
                  <a:lnTo>
                    <a:pt x="8" y="0"/>
                  </a:lnTo>
                  <a:lnTo>
                    <a:pt x="0" y="27"/>
                  </a:lnTo>
                  <a:lnTo>
                    <a:pt x="27" y="35"/>
                  </a:lnTo>
                  <a:lnTo>
                    <a:pt x="57" y="42"/>
                  </a:lnTo>
                  <a:lnTo>
                    <a:pt x="92" y="50"/>
                  </a:lnTo>
                  <a:lnTo>
                    <a:pt x="129" y="57"/>
                  </a:lnTo>
                  <a:lnTo>
                    <a:pt x="211" y="72"/>
                  </a:lnTo>
                  <a:lnTo>
                    <a:pt x="297" y="85"/>
                  </a:lnTo>
                  <a:lnTo>
                    <a:pt x="383" y="100"/>
                  </a:lnTo>
                  <a:lnTo>
                    <a:pt x="463" y="113"/>
                  </a:lnTo>
                  <a:lnTo>
                    <a:pt x="500" y="121"/>
                  </a:lnTo>
                  <a:lnTo>
                    <a:pt x="533" y="127"/>
                  </a:lnTo>
                  <a:lnTo>
                    <a:pt x="563" y="134"/>
                  </a:lnTo>
                  <a:lnTo>
                    <a:pt x="587" y="141"/>
                  </a:lnTo>
                  <a:lnTo>
                    <a:pt x="581" y="138"/>
                  </a:lnTo>
                  <a:lnTo>
                    <a:pt x="587" y="141"/>
                  </a:lnTo>
                  <a:lnTo>
                    <a:pt x="590" y="142"/>
                  </a:lnTo>
                  <a:lnTo>
                    <a:pt x="594" y="142"/>
                  </a:lnTo>
                  <a:lnTo>
                    <a:pt x="596" y="142"/>
                  </a:lnTo>
                  <a:lnTo>
                    <a:pt x="599" y="141"/>
                  </a:lnTo>
                  <a:lnTo>
                    <a:pt x="602" y="137"/>
                  </a:lnTo>
                  <a:lnTo>
                    <a:pt x="605" y="132"/>
                  </a:lnTo>
                  <a:lnTo>
                    <a:pt x="605" y="127"/>
                  </a:lnTo>
                  <a:lnTo>
                    <a:pt x="603" y="122"/>
                  </a:lnTo>
                  <a:lnTo>
                    <a:pt x="601" y="117"/>
                  </a:lnTo>
                  <a:lnTo>
                    <a:pt x="595" y="115"/>
                  </a:lnTo>
                  <a:lnTo>
                    <a:pt x="601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4165200" y="3211200"/>
              <a:ext cx="535320" cy="1120680"/>
            </a:xfrm>
            <a:custGeom>
              <a:avLst/>
              <a:gdLst/>
              <a:ahLst/>
              <a:rect l="l" t="t" r="r" b="b"/>
              <a:pathLst>
                <a:path w="1415" h="2960">
                  <a:moveTo>
                    <a:pt x="944" y="114"/>
                  </a:moveTo>
                  <a:lnTo>
                    <a:pt x="975" y="145"/>
                  </a:lnTo>
                  <a:lnTo>
                    <a:pt x="1004" y="177"/>
                  </a:lnTo>
                  <a:lnTo>
                    <a:pt x="1031" y="209"/>
                  </a:lnTo>
                  <a:lnTo>
                    <a:pt x="1056" y="241"/>
                  </a:lnTo>
                  <a:lnTo>
                    <a:pt x="1079" y="272"/>
                  </a:lnTo>
                  <a:lnTo>
                    <a:pt x="1100" y="304"/>
                  </a:lnTo>
                  <a:lnTo>
                    <a:pt x="1120" y="336"/>
                  </a:lnTo>
                  <a:lnTo>
                    <a:pt x="1137" y="368"/>
                  </a:lnTo>
                  <a:lnTo>
                    <a:pt x="1154" y="400"/>
                  </a:lnTo>
                  <a:lnTo>
                    <a:pt x="1169" y="432"/>
                  </a:lnTo>
                  <a:lnTo>
                    <a:pt x="1183" y="464"/>
                  </a:lnTo>
                  <a:lnTo>
                    <a:pt x="1195" y="496"/>
                  </a:lnTo>
                  <a:lnTo>
                    <a:pt x="1206" y="528"/>
                  </a:lnTo>
                  <a:lnTo>
                    <a:pt x="1216" y="560"/>
                  </a:lnTo>
                  <a:lnTo>
                    <a:pt x="1225" y="591"/>
                  </a:lnTo>
                  <a:lnTo>
                    <a:pt x="1233" y="623"/>
                  </a:lnTo>
                  <a:lnTo>
                    <a:pt x="1240" y="655"/>
                  </a:lnTo>
                  <a:lnTo>
                    <a:pt x="1247" y="687"/>
                  </a:lnTo>
                  <a:lnTo>
                    <a:pt x="1252" y="719"/>
                  </a:lnTo>
                  <a:lnTo>
                    <a:pt x="1258" y="753"/>
                  </a:lnTo>
                  <a:lnTo>
                    <a:pt x="1266" y="817"/>
                  </a:lnTo>
                  <a:lnTo>
                    <a:pt x="1274" y="881"/>
                  </a:lnTo>
                  <a:lnTo>
                    <a:pt x="1280" y="946"/>
                  </a:lnTo>
                  <a:lnTo>
                    <a:pt x="1287" y="1011"/>
                  </a:lnTo>
                  <a:lnTo>
                    <a:pt x="1295" y="1075"/>
                  </a:lnTo>
                  <a:lnTo>
                    <a:pt x="1304" y="1140"/>
                  </a:lnTo>
                  <a:lnTo>
                    <a:pt x="1324" y="1193"/>
                  </a:lnTo>
                  <a:lnTo>
                    <a:pt x="1343" y="1247"/>
                  </a:lnTo>
                  <a:lnTo>
                    <a:pt x="1359" y="1300"/>
                  </a:lnTo>
                  <a:lnTo>
                    <a:pt x="1373" y="1354"/>
                  </a:lnTo>
                  <a:lnTo>
                    <a:pt x="1384" y="1407"/>
                  </a:lnTo>
                  <a:lnTo>
                    <a:pt x="1394" y="1461"/>
                  </a:lnTo>
                  <a:lnTo>
                    <a:pt x="1403" y="1515"/>
                  </a:lnTo>
                  <a:lnTo>
                    <a:pt x="1408" y="1568"/>
                  </a:lnTo>
                  <a:lnTo>
                    <a:pt x="1413" y="1622"/>
                  </a:lnTo>
                  <a:lnTo>
                    <a:pt x="1415" y="1676"/>
                  </a:lnTo>
                  <a:lnTo>
                    <a:pt x="1415" y="1729"/>
                  </a:lnTo>
                  <a:lnTo>
                    <a:pt x="1414" y="1783"/>
                  </a:lnTo>
                  <a:lnTo>
                    <a:pt x="1411" y="1837"/>
                  </a:lnTo>
                  <a:lnTo>
                    <a:pt x="1408" y="1892"/>
                  </a:lnTo>
                  <a:lnTo>
                    <a:pt x="1402" y="1946"/>
                  </a:lnTo>
                  <a:lnTo>
                    <a:pt x="1395" y="2000"/>
                  </a:lnTo>
                  <a:lnTo>
                    <a:pt x="1387" y="2054"/>
                  </a:lnTo>
                  <a:lnTo>
                    <a:pt x="1377" y="2108"/>
                  </a:lnTo>
                  <a:lnTo>
                    <a:pt x="1367" y="2162"/>
                  </a:lnTo>
                  <a:lnTo>
                    <a:pt x="1355" y="2216"/>
                  </a:lnTo>
                  <a:lnTo>
                    <a:pt x="1343" y="2272"/>
                  </a:lnTo>
                  <a:lnTo>
                    <a:pt x="1329" y="2326"/>
                  </a:lnTo>
                  <a:lnTo>
                    <a:pt x="1314" y="2380"/>
                  </a:lnTo>
                  <a:lnTo>
                    <a:pt x="1298" y="2434"/>
                  </a:lnTo>
                  <a:lnTo>
                    <a:pt x="1265" y="2543"/>
                  </a:lnTo>
                  <a:lnTo>
                    <a:pt x="1228" y="2653"/>
                  </a:lnTo>
                  <a:lnTo>
                    <a:pt x="1190" y="2762"/>
                  </a:lnTo>
                  <a:lnTo>
                    <a:pt x="1151" y="2872"/>
                  </a:lnTo>
                  <a:lnTo>
                    <a:pt x="1121" y="2884"/>
                  </a:lnTo>
                  <a:lnTo>
                    <a:pt x="1090" y="2895"/>
                  </a:lnTo>
                  <a:lnTo>
                    <a:pt x="1061" y="2905"/>
                  </a:lnTo>
                  <a:lnTo>
                    <a:pt x="1031" y="2915"/>
                  </a:lnTo>
                  <a:lnTo>
                    <a:pt x="1001" y="2924"/>
                  </a:lnTo>
                  <a:lnTo>
                    <a:pt x="971" y="2931"/>
                  </a:lnTo>
                  <a:lnTo>
                    <a:pt x="942" y="2937"/>
                  </a:lnTo>
                  <a:lnTo>
                    <a:pt x="911" y="2943"/>
                  </a:lnTo>
                  <a:lnTo>
                    <a:pt x="881" y="2948"/>
                  </a:lnTo>
                  <a:lnTo>
                    <a:pt x="852" y="2953"/>
                  </a:lnTo>
                  <a:lnTo>
                    <a:pt x="822" y="2956"/>
                  </a:lnTo>
                  <a:lnTo>
                    <a:pt x="792" y="2958"/>
                  </a:lnTo>
                  <a:lnTo>
                    <a:pt x="762" y="2960"/>
                  </a:lnTo>
                  <a:lnTo>
                    <a:pt x="733" y="2960"/>
                  </a:lnTo>
                  <a:lnTo>
                    <a:pt x="703" y="2960"/>
                  </a:lnTo>
                  <a:lnTo>
                    <a:pt x="672" y="2959"/>
                  </a:lnTo>
                  <a:lnTo>
                    <a:pt x="643" y="2958"/>
                  </a:lnTo>
                  <a:lnTo>
                    <a:pt x="613" y="2956"/>
                  </a:lnTo>
                  <a:lnTo>
                    <a:pt x="582" y="2952"/>
                  </a:lnTo>
                  <a:lnTo>
                    <a:pt x="553" y="2947"/>
                  </a:lnTo>
                  <a:lnTo>
                    <a:pt x="523" y="2942"/>
                  </a:lnTo>
                  <a:lnTo>
                    <a:pt x="493" y="2936"/>
                  </a:lnTo>
                  <a:lnTo>
                    <a:pt x="463" y="2928"/>
                  </a:lnTo>
                  <a:lnTo>
                    <a:pt x="432" y="2921"/>
                  </a:lnTo>
                  <a:lnTo>
                    <a:pt x="403" y="2912"/>
                  </a:lnTo>
                  <a:lnTo>
                    <a:pt x="372" y="2903"/>
                  </a:lnTo>
                  <a:lnTo>
                    <a:pt x="341" y="2893"/>
                  </a:lnTo>
                  <a:lnTo>
                    <a:pt x="312" y="2882"/>
                  </a:lnTo>
                  <a:lnTo>
                    <a:pt x="281" y="2869"/>
                  </a:lnTo>
                  <a:lnTo>
                    <a:pt x="250" y="2856"/>
                  </a:lnTo>
                  <a:lnTo>
                    <a:pt x="220" y="2842"/>
                  </a:lnTo>
                  <a:lnTo>
                    <a:pt x="190" y="2828"/>
                  </a:lnTo>
                  <a:lnTo>
                    <a:pt x="154" y="2718"/>
                  </a:lnTo>
                  <a:lnTo>
                    <a:pt x="121" y="2607"/>
                  </a:lnTo>
                  <a:lnTo>
                    <a:pt x="104" y="2553"/>
                  </a:lnTo>
                  <a:lnTo>
                    <a:pt x="89" y="2498"/>
                  </a:lnTo>
                  <a:lnTo>
                    <a:pt x="75" y="2443"/>
                  </a:lnTo>
                  <a:lnTo>
                    <a:pt x="61" y="2387"/>
                  </a:lnTo>
                  <a:lnTo>
                    <a:pt x="49" y="2331"/>
                  </a:lnTo>
                  <a:lnTo>
                    <a:pt x="36" y="2275"/>
                  </a:lnTo>
                  <a:lnTo>
                    <a:pt x="27" y="2220"/>
                  </a:lnTo>
                  <a:lnTo>
                    <a:pt x="18" y="2163"/>
                  </a:lnTo>
                  <a:lnTo>
                    <a:pt x="11" y="2108"/>
                  </a:lnTo>
                  <a:lnTo>
                    <a:pt x="4" y="2051"/>
                  </a:lnTo>
                  <a:lnTo>
                    <a:pt x="1" y="1995"/>
                  </a:lnTo>
                  <a:lnTo>
                    <a:pt x="0" y="1940"/>
                  </a:lnTo>
                  <a:lnTo>
                    <a:pt x="0" y="1882"/>
                  </a:lnTo>
                  <a:lnTo>
                    <a:pt x="2" y="1825"/>
                  </a:lnTo>
                  <a:lnTo>
                    <a:pt x="7" y="1769"/>
                  </a:lnTo>
                  <a:lnTo>
                    <a:pt x="13" y="1712"/>
                  </a:lnTo>
                  <a:lnTo>
                    <a:pt x="23" y="1654"/>
                  </a:lnTo>
                  <a:lnTo>
                    <a:pt x="35" y="1596"/>
                  </a:lnTo>
                  <a:lnTo>
                    <a:pt x="50" y="1539"/>
                  </a:lnTo>
                  <a:lnTo>
                    <a:pt x="68" y="1481"/>
                  </a:lnTo>
                  <a:lnTo>
                    <a:pt x="89" y="1423"/>
                  </a:lnTo>
                  <a:lnTo>
                    <a:pt x="113" y="1365"/>
                  </a:lnTo>
                  <a:lnTo>
                    <a:pt x="141" y="1306"/>
                  </a:lnTo>
                  <a:lnTo>
                    <a:pt x="172" y="1247"/>
                  </a:lnTo>
                  <a:lnTo>
                    <a:pt x="206" y="1188"/>
                  </a:lnTo>
                  <a:lnTo>
                    <a:pt x="244" y="1129"/>
                  </a:lnTo>
                  <a:lnTo>
                    <a:pt x="286" y="1070"/>
                  </a:lnTo>
                  <a:lnTo>
                    <a:pt x="332" y="1010"/>
                  </a:lnTo>
                  <a:lnTo>
                    <a:pt x="319" y="981"/>
                  </a:lnTo>
                  <a:lnTo>
                    <a:pt x="309" y="953"/>
                  </a:lnTo>
                  <a:lnTo>
                    <a:pt x="301" y="924"/>
                  </a:lnTo>
                  <a:lnTo>
                    <a:pt x="292" y="894"/>
                  </a:lnTo>
                  <a:lnTo>
                    <a:pt x="286" y="865"/>
                  </a:lnTo>
                  <a:lnTo>
                    <a:pt x="281" y="835"/>
                  </a:lnTo>
                  <a:lnTo>
                    <a:pt x="276" y="806"/>
                  </a:lnTo>
                  <a:lnTo>
                    <a:pt x="274" y="775"/>
                  </a:lnTo>
                  <a:lnTo>
                    <a:pt x="271" y="744"/>
                  </a:lnTo>
                  <a:lnTo>
                    <a:pt x="270" y="714"/>
                  </a:lnTo>
                  <a:lnTo>
                    <a:pt x="271" y="684"/>
                  </a:lnTo>
                  <a:lnTo>
                    <a:pt x="271" y="652"/>
                  </a:lnTo>
                  <a:lnTo>
                    <a:pt x="274" y="621"/>
                  </a:lnTo>
                  <a:lnTo>
                    <a:pt x="276" y="590"/>
                  </a:lnTo>
                  <a:lnTo>
                    <a:pt x="281" y="558"/>
                  </a:lnTo>
                  <a:lnTo>
                    <a:pt x="285" y="526"/>
                  </a:lnTo>
                  <a:lnTo>
                    <a:pt x="291" y="496"/>
                  </a:lnTo>
                  <a:lnTo>
                    <a:pt x="297" y="464"/>
                  </a:lnTo>
                  <a:lnTo>
                    <a:pt x="305" y="430"/>
                  </a:lnTo>
                  <a:lnTo>
                    <a:pt x="312" y="398"/>
                  </a:lnTo>
                  <a:lnTo>
                    <a:pt x="330" y="333"/>
                  </a:lnTo>
                  <a:lnTo>
                    <a:pt x="350" y="268"/>
                  </a:lnTo>
                  <a:lnTo>
                    <a:pt x="372" y="202"/>
                  </a:lnTo>
                  <a:lnTo>
                    <a:pt x="397" y="135"/>
                  </a:lnTo>
                  <a:lnTo>
                    <a:pt x="424" y="68"/>
                  </a:lnTo>
                  <a:lnTo>
                    <a:pt x="452" y="0"/>
                  </a:lnTo>
                  <a:lnTo>
                    <a:pt x="504" y="15"/>
                  </a:lnTo>
                  <a:lnTo>
                    <a:pt x="565" y="29"/>
                  </a:lnTo>
                  <a:lnTo>
                    <a:pt x="632" y="44"/>
                  </a:lnTo>
                  <a:lnTo>
                    <a:pt x="701" y="58"/>
                  </a:lnTo>
                  <a:lnTo>
                    <a:pt x="769" y="72"/>
                  </a:lnTo>
                  <a:lnTo>
                    <a:pt x="835" y="86"/>
                  </a:lnTo>
                  <a:lnTo>
                    <a:pt x="894" y="99"/>
                  </a:lnTo>
                  <a:lnTo>
                    <a:pt x="944" y="114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4517280" y="3249000"/>
              <a:ext cx="145800" cy="397440"/>
            </a:xfrm>
            <a:custGeom>
              <a:avLst/>
              <a:gdLst/>
              <a:ahLst/>
              <a:rect l="l" t="t" r="r" b="b"/>
              <a:pathLst>
                <a:path w="384" h="1050">
                  <a:moveTo>
                    <a:pt x="383" y="1031"/>
                  </a:moveTo>
                  <a:lnTo>
                    <a:pt x="384" y="1034"/>
                  </a:lnTo>
                  <a:lnTo>
                    <a:pt x="374" y="970"/>
                  </a:lnTo>
                  <a:lnTo>
                    <a:pt x="367" y="904"/>
                  </a:lnTo>
                  <a:lnTo>
                    <a:pt x="361" y="840"/>
                  </a:lnTo>
                  <a:lnTo>
                    <a:pt x="353" y="775"/>
                  </a:lnTo>
                  <a:lnTo>
                    <a:pt x="346" y="711"/>
                  </a:lnTo>
                  <a:lnTo>
                    <a:pt x="337" y="646"/>
                  </a:lnTo>
                  <a:lnTo>
                    <a:pt x="332" y="614"/>
                  </a:lnTo>
                  <a:lnTo>
                    <a:pt x="326" y="581"/>
                  </a:lnTo>
                  <a:lnTo>
                    <a:pt x="320" y="549"/>
                  </a:lnTo>
                  <a:lnTo>
                    <a:pt x="313" y="516"/>
                  </a:lnTo>
                  <a:lnTo>
                    <a:pt x="304" y="484"/>
                  </a:lnTo>
                  <a:lnTo>
                    <a:pt x="295" y="452"/>
                  </a:lnTo>
                  <a:lnTo>
                    <a:pt x="286" y="419"/>
                  </a:lnTo>
                  <a:lnTo>
                    <a:pt x="273" y="387"/>
                  </a:lnTo>
                  <a:lnTo>
                    <a:pt x="261" y="355"/>
                  </a:lnTo>
                  <a:lnTo>
                    <a:pt x="247" y="321"/>
                  </a:lnTo>
                  <a:lnTo>
                    <a:pt x="233" y="289"/>
                  </a:lnTo>
                  <a:lnTo>
                    <a:pt x="215" y="257"/>
                  </a:lnTo>
                  <a:lnTo>
                    <a:pt x="198" y="224"/>
                  </a:lnTo>
                  <a:lnTo>
                    <a:pt x="177" y="192"/>
                  </a:lnTo>
                  <a:lnTo>
                    <a:pt x="156" y="160"/>
                  </a:lnTo>
                  <a:lnTo>
                    <a:pt x="133" y="128"/>
                  </a:lnTo>
                  <a:lnTo>
                    <a:pt x="107" y="96"/>
                  </a:lnTo>
                  <a:lnTo>
                    <a:pt x="80" y="64"/>
                  </a:lnTo>
                  <a:lnTo>
                    <a:pt x="51" y="32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31" y="51"/>
                  </a:lnTo>
                  <a:lnTo>
                    <a:pt x="59" y="83"/>
                  </a:lnTo>
                  <a:lnTo>
                    <a:pt x="86" y="114"/>
                  </a:lnTo>
                  <a:lnTo>
                    <a:pt x="111" y="144"/>
                  </a:lnTo>
                  <a:lnTo>
                    <a:pt x="133" y="176"/>
                  </a:lnTo>
                  <a:lnTo>
                    <a:pt x="154" y="207"/>
                  </a:lnTo>
                  <a:lnTo>
                    <a:pt x="174" y="239"/>
                  </a:lnTo>
                  <a:lnTo>
                    <a:pt x="191" y="270"/>
                  </a:lnTo>
                  <a:lnTo>
                    <a:pt x="208" y="302"/>
                  </a:lnTo>
                  <a:lnTo>
                    <a:pt x="223" y="333"/>
                  </a:lnTo>
                  <a:lnTo>
                    <a:pt x="235" y="364"/>
                  </a:lnTo>
                  <a:lnTo>
                    <a:pt x="247" y="396"/>
                  </a:lnTo>
                  <a:lnTo>
                    <a:pt x="259" y="427"/>
                  </a:lnTo>
                  <a:lnTo>
                    <a:pt x="268" y="459"/>
                  </a:lnTo>
                  <a:lnTo>
                    <a:pt x="277" y="491"/>
                  </a:lnTo>
                  <a:lnTo>
                    <a:pt x="286" y="523"/>
                  </a:lnTo>
                  <a:lnTo>
                    <a:pt x="292" y="554"/>
                  </a:lnTo>
                  <a:lnTo>
                    <a:pt x="299" y="586"/>
                  </a:lnTo>
                  <a:lnTo>
                    <a:pt x="304" y="618"/>
                  </a:lnTo>
                  <a:lnTo>
                    <a:pt x="309" y="650"/>
                  </a:lnTo>
                  <a:lnTo>
                    <a:pt x="319" y="714"/>
                  </a:lnTo>
                  <a:lnTo>
                    <a:pt x="326" y="779"/>
                  </a:lnTo>
                  <a:lnTo>
                    <a:pt x="332" y="843"/>
                  </a:lnTo>
                  <a:lnTo>
                    <a:pt x="340" y="908"/>
                  </a:lnTo>
                  <a:lnTo>
                    <a:pt x="347" y="973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6" y="1039"/>
                  </a:lnTo>
                  <a:lnTo>
                    <a:pt x="357" y="1041"/>
                  </a:lnTo>
                  <a:lnTo>
                    <a:pt x="358" y="1043"/>
                  </a:lnTo>
                  <a:lnTo>
                    <a:pt x="359" y="1046"/>
                  </a:lnTo>
                  <a:lnTo>
                    <a:pt x="362" y="1048"/>
                  </a:lnTo>
                  <a:lnTo>
                    <a:pt x="367" y="1050"/>
                  </a:lnTo>
                  <a:lnTo>
                    <a:pt x="372" y="1050"/>
                  </a:lnTo>
                  <a:lnTo>
                    <a:pt x="377" y="1048"/>
                  </a:lnTo>
                  <a:lnTo>
                    <a:pt x="382" y="1045"/>
                  </a:lnTo>
                  <a:lnTo>
                    <a:pt x="384" y="1040"/>
                  </a:lnTo>
                  <a:lnTo>
                    <a:pt x="384" y="1034"/>
                  </a:lnTo>
                  <a:lnTo>
                    <a:pt x="383" y="10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594680" y="3641040"/>
              <a:ext cx="109800" cy="662400"/>
            </a:xfrm>
            <a:custGeom>
              <a:avLst/>
              <a:gdLst/>
              <a:ahLst/>
              <a:rect l="l" t="t" r="r" b="b"/>
              <a:pathLst>
                <a:path w="292" h="1750">
                  <a:moveTo>
                    <a:pt x="19" y="1749"/>
                  </a:moveTo>
                  <a:lnTo>
                    <a:pt x="27" y="1742"/>
                  </a:lnTo>
                  <a:lnTo>
                    <a:pt x="67" y="1632"/>
                  </a:lnTo>
                  <a:lnTo>
                    <a:pt x="105" y="1523"/>
                  </a:lnTo>
                  <a:lnTo>
                    <a:pt x="142" y="1413"/>
                  </a:lnTo>
                  <a:lnTo>
                    <a:pt x="175" y="1304"/>
                  </a:lnTo>
                  <a:lnTo>
                    <a:pt x="191" y="1249"/>
                  </a:lnTo>
                  <a:lnTo>
                    <a:pt x="206" y="1194"/>
                  </a:lnTo>
                  <a:lnTo>
                    <a:pt x="219" y="1139"/>
                  </a:lnTo>
                  <a:lnTo>
                    <a:pt x="231" y="1085"/>
                  </a:lnTo>
                  <a:lnTo>
                    <a:pt x="244" y="1031"/>
                  </a:lnTo>
                  <a:lnTo>
                    <a:pt x="255" y="976"/>
                  </a:lnTo>
                  <a:lnTo>
                    <a:pt x="263" y="921"/>
                  </a:lnTo>
                  <a:lnTo>
                    <a:pt x="272" y="867"/>
                  </a:lnTo>
                  <a:lnTo>
                    <a:pt x="279" y="812"/>
                  </a:lnTo>
                  <a:lnTo>
                    <a:pt x="284" y="758"/>
                  </a:lnTo>
                  <a:lnTo>
                    <a:pt x="289" y="704"/>
                  </a:lnTo>
                  <a:lnTo>
                    <a:pt x="292" y="650"/>
                  </a:lnTo>
                  <a:lnTo>
                    <a:pt x="292" y="594"/>
                  </a:lnTo>
                  <a:lnTo>
                    <a:pt x="292" y="540"/>
                  </a:lnTo>
                  <a:lnTo>
                    <a:pt x="289" y="486"/>
                  </a:lnTo>
                  <a:lnTo>
                    <a:pt x="286" y="432"/>
                  </a:lnTo>
                  <a:lnTo>
                    <a:pt x="279" y="378"/>
                  </a:lnTo>
                  <a:lnTo>
                    <a:pt x="271" y="324"/>
                  </a:lnTo>
                  <a:lnTo>
                    <a:pt x="261" y="270"/>
                  </a:lnTo>
                  <a:lnTo>
                    <a:pt x="250" y="215"/>
                  </a:lnTo>
                  <a:lnTo>
                    <a:pt x="235" y="161"/>
                  </a:lnTo>
                  <a:lnTo>
                    <a:pt x="219" y="107"/>
                  </a:lnTo>
                  <a:lnTo>
                    <a:pt x="201" y="53"/>
                  </a:lnTo>
                  <a:lnTo>
                    <a:pt x="180" y="0"/>
                  </a:lnTo>
                  <a:lnTo>
                    <a:pt x="154" y="10"/>
                  </a:lnTo>
                  <a:lnTo>
                    <a:pt x="175" y="63"/>
                  </a:lnTo>
                  <a:lnTo>
                    <a:pt x="192" y="116"/>
                  </a:lnTo>
                  <a:lnTo>
                    <a:pt x="208" y="169"/>
                  </a:lnTo>
                  <a:lnTo>
                    <a:pt x="223" y="222"/>
                  </a:lnTo>
                  <a:lnTo>
                    <a:pt x="234" y="276"/>
                  </a:lnTo>
                  <a:lnTo>
                    <a:pt x="244" y="329"/>
                  </a:lnTo>
                  <a:lnTo>
                    <a:pt x="251" y="381"/>
                  </a:lnTo>
                  <a:lnTo>
                    <a:pt x="257" y="434"/>
                  </a:lnTo>
                  <a:lnTo>
                    <a:pt x="261" y="488"/>
                  </a:lnTo>
                  <a:lnTo>
                    <a:pt x="263" y="541"/>
                  </a:lnTo>
                  <a:lnTo>
                    <a:pt x="265" y="594"/>
                  </a:lnTo>
                  <a:lnTo>
                    <a:pt x="263" y="648"/>
                  </a:lnTo>
                  <a:lnTo>
                    <a:pt x="261" y="702"/>
                  </a:lnTo>
                  <a:lnTo>
                    <a:pt x="257" y="755"/>
                  </a:lnTo>
                  <a:lnTo>
                    <a:pt x="251" y="809"/>
                  </a:lnTo>
                  <a:lnTo>
                    <a:pt x="245" y="864"/>
                  </a:lnTo>
                  <a:lnTo>
                    <a:pt x="236" y="916"/>
                  </a:lnTo>
                  <a:lnTo>
                    <a:pt x="226" y="971"/>
                  </a:lnTo>
                  <a:lnTo>
                    <a:pt x="217" y="1025"/>
                  </a:lnTo>
                  <a:lnTo>
                    <a:pt x="204" y="1079"/>
                  </a:lnTo>
                  <a:lnTo>
                    <a:pt x="192" y="1133"/>
                  </a:lnTo>
                  <a:lnTo>
                    <a:pt x="179" y="1187"/>
                  </a:lnTo>
                  <a:lnTo>
                    <a:pt x="164" y="1241"/>
                  </a:lnTo>
                  <a:lnTo>
                    <a:pt x="148" y="1295"/>
                  </a:lnTo>
                  <a:lnTo>
                    <a:pt x="115" y="1405"/>
                  </a:lnTo>
                  <a:lnTo>
                    <a:pt x="79" y="1513"/>
                  </a:lnTo>
                  <a:lnTo>
                    <a:pt x="41" y="1623"/>
                  </a:lnTo>
                  <a:lnTo>
                    <a:pt x="0" y="1732"/>
                  </a:lnTo>
                  <a:lnTo>
                    <a:pt x="9" y="1725"/>
                  </a:lnTo>
                  <a:lnTo>
                    <a:pt x="0" y="1732"/>
                  </a:lnTo>
                  <a:lnTo>
                    <a:pt x="0" y="1736"/>
                  </a:lnTo>
                  <a:lnTo>
                    <a:pt x="0" y="1738"/>
                  </a:lnTo>
                  <a:lnTo>
                    <a:pt x="0" y="1741"/>
                  </a:lnTo>
                  <a:lnTo>
                    <a:pt x="1" y="1743"/>
                  </a:lnTo>
                  <a:lnTo>
                    <a:pt x="4" y="1748"/>
                  </a:lnTo>
                  <a:lnTo>
                    <a:pt x="9" y="1750"/>
                  </a:lnTo>
                  <a:lnTo>
                    <a:pt x="14" y="1750"/>
                  </a:lnTo>
                  <a:lnTo>
                    <a:pt x="19" y="1750"/>
                  </a:lnTo>
                  <a:lnTo>
                    <a:pt x="21" y="1749"/>
                  </a:lnTo>
                  <a:lnTo>
                    <a:pt x="24" y="1747"/>
                  </a:lnTo>
                  <a:lnTo>
                    <a:pt x="25" y="1744"/>
                  </a:lnTo>
                  <a:lnTo>
                    <a:pt x="27" y="1742"/>
                  </a:lnTo>
                  <a:lnTo>
                    <a:pt x="19" y="17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231440" y="4275360"/>
              <a:ext cx="371160" cy="62640"/>
            </a:xfrm>
            <a:custGeom>
              <a:avLst/>
              <a:gdLst/>
              <a:ahLst/>
              <a:rect l="l" t="t" r="r" b="b"/>
              <a:pathLst>
                <a:path w="981" h="161">
                  <a:moveTo>
                    <a:pt x="2" y="19"/>
                  </a:moveTo>
                  <a:lnTo>
                    <a:pt x="9" y="26"/>
                  </a:lnTo>
                  <a:lnTo>
                    <a:pt x="40" y="41"/>
                  </a:lnTo>
                  <a:lnTo>
                    <a:pt x="70" y="55"/>
                  </a:lnTo>
                  <a:lnTo>
                    <a:pt x="101" y="68"/>
                  </a:lnTo>
                  <a:lnTo>
                    <a:pt x="132" y="80"/>
                  </a:lnTo>
                  <a:lnTo>
                    <a:pt x="163" y="91"/>
                  </a:lnTo>
                  <a:lnTo>
                    <a:pt x="193" y="102"/>
                  </a:lnTo>
                  <a:lnTo>
                    <a:pt x="223" y="112"/>
                  </a:lnTo>
                  <a:lnTo>
                    <a:pt x="254" y="121"/>
                  </a:lnTo>
                  <a:lnTo>
                    <a:pt x="285" y="128"/>
                  </a:lnTo>
                  <a:lnTo>
                    <a:pt x="315" y="135"/>
                  </a:lnTo>
                  <a:lnTo>
                    <a:pt x="346" y="142"/>
                  </a:lnTo>
                  <a:lnTo>
                    <a:pt x="376" y="146"/>
                  </a:lnTo>
                  <a:lnTo>
                    <a:pt x="406" y="151"/>
                  </a:lnTo>
                  <a:lnTo>
                    <a:pt x="437" y="155"/>
                  </a:lnTo>
                  <a:lnTo>
                    <a:pt x="467" y="158"/>
                  </a:lnTo>
                  <a:lnTo>
                    <a:pt x="497" y="160"/>
                  </a:lnTo>
                  <a:lnTo>
                    <a:pt x="527" y="160"/>
                  </a:lnTo>
                  <a:lnTo>
                    <a:pt x="558" y="161"/>
                  </a:lnTo>
                  <a:lnTo>
                    <a:pt x="588" y="160"/>
                  </a:lnTo>
                  <a:lnTo>
                    <a:pt x="618" y="159"/>
                  </a:lnTo>
                  <a:lnTo>
                    <a:pt x="649" y="156"/>
                  </a:lnTo>
                  <a:lnTo>
                    <a:pt x="678" y="153"/>
                  </a:lnTo>
                  <a:lnTo>
                    <a:pt x="709" y="148"/>
                  </a:lnTo>
                  <a:lnTo>
                    <a:pt x="738" y="143"/>
                  </a:lnTo>
                  <a:lnTo>
                    <a:pt x="769" y="137"/>
                  </a:lnTo>
                  <a:lnTo>
                    <a:pt x="800" y="130"/>
                  </a:lnTo>
                  <a:lnTo>
                    <a:pt x="829" y="123"/>
                  </a:lnTo>
                  <a:lnTo>
                    <a:pt x="860" y="114"/>
                  </a:lnTo>
                  <a:lnTo>
                    <a:pt x="890" y="105"/>
                  </a:lnTo>
                  <a:lnTo>
                    <a:pt x="920" y="94"/>
                  </a:lnTo>
                  <a:lnTo>
                    <a:pt x="951" y="83"/>
                  </a:lnTo>
                  <a:lnTo>
                    <a:pt x="981" y="70"/>
                  </a:lnTo>
                  <a:lnTo>
                    <a:pt x="971" y="46"/>
                  </a:lnTo>
                  <a:lnTo>
                    <a:pt x="941" y="57"/>
                  </a:lnTo>
                  <a:lnTo>
                    <a:pt x="911" y="68"/>
                  </a:lnTo>
                  <a:lnTo>
                    <a:pt x="881" y="78"/>
                  </a:lnTo>
                  <a:lnTo>
                    <a:pt x="851" y="87"/>
                  </a:lnTo>
                  <a:lnTo>
                    <a:pt x="822" y="96"/>
                  </a:lnTo>
                  <a:lnTo>
                    <a:pt x="792" y="103"/>
                  </a:lnTo>
                  <a:lnTo>
                    <a:pt x="763" y="110"/>
                  </a:lnTo>
                  <a:lnTo>
                    <a:pt x="733" y="116"/>
                  </a:lnTo>
                  <a:lnTo>
                    <a:pt x="704" y="121"/>
                  </a:lnTo>
                  <a:lnTo>
                    <a:pt x="676" y="124"/>
                  </a:lnTo>
                  <a:lnTo>
                    <a:pt x="646" y="128"/>
                  </a:lnTo>
                  <a:lnTo>
                    <a:pt x="617" y="130"/>
                  </a:lnTo>
                  <a:lnTo>
                    <a:pt x="587" y="132"/>
                  </a:lnTo>
                  <a:lnTo>
                    <a:pt x="558" y="133"/>
                  </a:lnTo>
                  <a:lnTo>
                    <a:pt x="528" y="133"/>
                  </a:lnTo>
                  <a:lnTo>
                    <a:pt x="499" y="132"/>
                  </a:lnTo>
                  <a:lnTo>
                    <a:pt x="469" y="130"/>
                  </a:lnTo>
                  <a:lnTo>
                    <a:pt x="439" y="127"/>
                  </a:lnTo>
                  <a:lnTo>
                    <a:pt x="410" y="124"/>
                  </a:lnTo>
                  <a:lnTo>
                    <a:pt x="380" y="119"/>
                  </a:lnTo>
                  <a:lnTo>
                    <a:pt x="351" y="114"/>
                  </a:lnTo>
                  <a:lnTo>
                    <a:pt x="321" y="108"/>
                  </a:lnTo>
                  <a:lnTo>
                    <a:pt x="291" y="101"/>
                  </a:lnTo>
                  <a:lnTo>
                    <a:pt x="261" y="94"/>
                  </a:lnTo>
                  <a:lnTo>
                    <a:pt x="232" y="85"/>
                  </a:lnTo>
                  <a:lnTo>
                    <a:pt x="202" y="75"/>
                  </a:lnTo>
                  <a:lnTo>
                    <a:pt x="171" y="65"/>
                  </a:lnTo>
                  <a:lnTo>
                    <a:pt x="142" y="54"/>
                  </a:lnTo>
                  <a:lnTo>
                    <a:pt x="111" y="42"/>
                  </a:lnTo>
                  <a:lnTo>
                    <a:pt x="82" y="30"/>
                  </a:lnTo>
                  <a:lnTo>
                    <a:pt x="51" y="16"/>
                  </a:lnTo>
                  <a:lnTo>
                    <a:pt x="20" y="1"/>
                  </a:lnTo>
                  <a:lnTo>
                    <a:pt x="27" y="10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4159800" y="3588120"/>
              <a:ext cx="135720" cy="695160"/>
            </a:xfrm>
            <a:custGeom>
              <a:avLst/>
              <a:gdLst/>
              <a:ahLst/>
              <a:rect l="l" t="t" r="r" b="b"/>
              <a:pathLst>
                <a:path w="360" h="1837">
                  <a:moveTo>
                    <a:pt x="333" y="20"/>
                  </a:moveTo>
                  <a:lnTo>
                    <a:pt x="336" y="5"/>
                  </a:lnTo>
                  <a:lnTo>
                    <a:pt x="312" y="36"/>
                  </a:lnTo>
                  <a:lnTo>
                    <a:pt x="289" y="65"/>
                  </a:lnTo>
                  <a:lnTo>
                    <a:pt x="268" y="96"/>
                  </a:lnTo>
                  <a:lnTo>
                    <a:pt x="247" y="126"/>
                  </a:lnTo>
                  <a:lnTo>
                    <a:pt x="227" y="155"/>
                  </a:lnTo>
                  <a:lnTo>
                    <a:pt x="209" y="185"/>
                  </a:lnTo>
                  <a:lnTo>
                    <a:pt x="192" y="215"/>
                  </a:lnTo>
                  <a:lnTo>
                    <a:pt x="174" y="245"/>
                  </a:lnTo>
                  <a:lnTo>
                    <a:pt x="158" y="274"/>
                  </a:lnTo>
                  <a:lnTo>
                    <a:pt x="144" y="304"/>
                  </a:lnTo>
                  <a:lnTo>
                    <a:pt x="129" y="333"/>
                  </a:lnTo>
                  <a:lnTo>
                    <a:pt x="115" y="363"/>
                  </a:lnTo>
                  <a:lnTo>
                    <a:pt x="103" y="393"/>
                  </a:lnTo>
                  <a:lnTo>
                    <a:pt x="91" y="422"/>
                  </a:lnTo>
                  <a:lnTo>
                    <a:pt x="80" y="452"/>
                  </a:lnTo>
                  <a:lnTo>
                    <a:pt x="70" y="481"/>
                  </a:lnTo>
                  <a:lnTo>
                    <a:pt x="60" y="511"/>
                  </a:lnTo>
                  <a:lnTo>
                    <a:pt x="51" y="539"/>
                  </a:lnTo>
                  <a:lnTo>
                    <a:pt x="44" y="568"/>
                  </a:lnTo>
                  <a:lnTo>
                    <a:pt x="37" y="598"/>
                  </a:lnTo>
                  <a:lnTo>
                    <a:pt x="31" y="626"/>
                  </a:lnTo>
                  <a:lnTo>
                    <a:pt x="24" y="656"/>
                  </a:lnTo>
                  <a:lnTo>
                    <a:pt x="19" y="684"/>
                  </a:lnTo>
                  <a:lnTo>
                    <a:pt x="15" y="714"/>
                  </a:lnTo>
                  <a:lnTo>
                    <a:pt x="7" y="771"/>
                  </a:lnTo>
                  <a:lnTo>
                    <a:pt x="2" y="829"/>
                  </a:lnTo>
                  <a:lnTo>
                    <a:pt x="1" y="886"/>
                  </a:lnTo>
                  <a:lnTo>
                    <a:pt x="0" y="944"/>
                  </a:lnTo>
                  <a:lnTo>
                    <a:pt x="2" y="1000"/>
                  </a:lnTo>
                  <a:lnTo>
                    <a:pt x="6" y="1057"/>
                  </a:lnTo>
                  <a:lnTo>
                    <a:pt x="12" y="1113"/>
                  </a:lnTo>
                  <a:lnTo>
                    <a:pt x="19" y="1170"/>
                  </a:lnTo>
                  <a:lnTo>
                    <a:pt x="28" y="1226"/>
                  </a:lnTo>
                  <a:lnTo>
                    <a:pt x="38" y="1282"/>
                  </a:lnTo>
                  <a:lnTo>
                    <a:pt x="49" y="1338"/>
                  </a:lnTo>
                  <a:lnTo>
                    <a:pt x="62" y="1394"/>
                  </a:lnTo>
                  <a:lnTo>
                    <a:pt x="76" y="1449"/>
                  </a:lnTo>
                  <a:lnTo>
                    <a:pt x="91" y="1506"/>
                  </a:lnTo>
                  <a:lnTo>
                    <a:pt x="107" y="1561"/>
                  </a:lnTo>
                  <a:lnTo>
                    <a:pt x="123" y="1616"/>
                  </a:lnTo>
                  <a:lnTo>
                    <a:pt x="156" y="1726"/>
                  </a:lnTo>
                  <a:lnTo>
                    <a:pt x="192" y="1837"/>
                  </a:lnTo>
                  <a:lnTo>
                    <a:pt x="217" y="1828"/>
                  </a:lnTo>
                  <a:lnTo>
                    <a:pt x="183" y="1718"/>
                  </a:lnTo>
                  <a:lnTo>
                    <a:pt x="149" y="1608"/>
                  </a:lnTo>
                  <a:lnTo>
                    <a:pt x="133" y="1552"/>
                  </a:lnTo>
                  <a:lnTo>
                    <a:pt x="118" y="1498"/>
                  </a:lnTo>
                  <a:lnTo>
                    <a:pt x="103" y="1443"/>
                  </a:lnTo>
                  <a:lnTo>
                    <a:pt x="90" y="1388"/>
                  </a:lnTo>
                  <a:lnTo>
                    <a:pt x="77" y="1332"/>
                  </a:lnTo>
                  <a:lnTo>
                    <a:pt x="65" y="1277"/>
                  </a:lnTo>
                  <a:lnTo>
                    <a:pt x="55" y="1222"/>
                  </a:lnTo>
                  <a:lnTo>
                    <a:pt x="46" y="1166"/>
                  </a:lnTo>
                  <a:lnTo>
                    <a:pt x="39" y="1111"/>
                  </a:lnTo>
                  <a:lnTo>
                    <a:pt x="34" y="1054"/>
                  </a:lnTo>
                  <a:lnTo>
                    <a:pt x="31" y="999"/>
                  </a:lnTo>
                  <a:lnTo>
                    <a:pt x="28" y="942"/>
                  </a:lnTo>
                  <a:lnTo>
                    <a:pt x="28" y="887"/>
                  </a:lnTo>
                  <a:lnTo>
                    <a:pt x="31" y="830"/>
                  </a:lnTo>
                  <a:lnTo>
                    <a:pt x="35" y="774"/>
                  </a:lnTo>
                  <a:lnTo>
                    <a:pt x="42" y="717"/>
                  </a:lnTo>
                  <a:lnTo>
                    <a:pt x="46" y="689"/>
                  </a:lnTo>
                  <a:lnTo>
                    <a:pt x="51" y="661"/>
                  </a:lnTo>
                  <a:lnTo>
                    <a:pt x="58" y="632"/>
                  </a:lnTo>
                  <a:lnTo>
                    <a:pt x="64" y="604"/>
                  </a:lnTo>
                  <a:lnTo>
                    <a:pt x="71" y="576"/>
                  </a:lnTo>
                  <a:lnTo>
                    <a:pt x="78" y="546"/>
                  </a:lnTo>
                  <a:lnTo>
                    <a:pt x="87" y="518"/>
                  </a:lnTo>
                  <a:lnTo>
                    <a:pt x="96" y="490"/>
                  </a:lnTo>
                  <a:lnTo>
                    <a:pt x="107" y="461"/>
                  </a:lnTo>
                  <a:lnTo>
                    <a:pt x="117" y="432"/>
                  </a:lnTo>
                  <a:lnTo>
                    <a:pt x="129" y="404"/>
                  </a:lnTo>
                  <a:lnTo>
                    <a:pt x="141" y="374"/>
                  </a:lnTo>
                  <a:lnTo>
                    <a:pt x="153" y="346"/>
                  </a:lnTo>
                  <a:lnTo>
                    <a:pt x="168" y="316"/>
                  </a:lnTo>
                  <a:lnTo>
                    <a:pt x="183" y="287"/>
                  </a:lnTo>
                  <a:lnTo>
                    <a:pt x="199" y="258"/>
                  </a:lnTo>
                  <a:lnTo>
                    <a:pt x="215" y="229"/>
                  </a:lnTo>
                  <a:lnTo>
                    <a:pt x="232" y="199"/>
                  </a:lnTo>
                  <a:lnTo>
                    <a:pt x="251" y="170"/>
                  </a:lnTo>
                  <a:lnTo>
                    <a:pt x="270" y="140"/>
                  </a:lnTo>
                  <a:lnTo>
                    <a:pt x="290" y="112"/>
                  </a:lnTo>
                  <a:lnTo>
                    <a:pt x="312" y="83"/>
                  </a:lnTo>
                  <a:lnTo>
                    <a:pt x="334" y="52"/>
                  </a:lnTo>
                  <a:lnTo>
                    <a:pt x="358" y="22"/>
                  </a:lnTo>
                  <a:lnTo>
                    <a:pt x="359" y="9"/>
                  </a:lnTo>
                  <a:lnTo>
                    <a:pt x="358" y="22"/>
                  </a:lnTo>
                  <a:lnTo>
                    <a:pt x="360" y="17"/>
                  </a:lnTo>
                  <a:lnTo>
                    <a:pt x="360" y="11"/>
                  </a:lnTo>
                  <a:lnTo>
                    <a:pt x="358" y="8"/>
                  </a:lnTo>
                  <a:lnTo>
                    <a:pt x="355" y="3"/>
                  </a:lnTo>
                  <a:lnTo>
                    <a:pt x="350" y="0"/>
                  </a:lnTo>
                  <a:lnTo>
                    <a:pt x="345" y="0"/>
                  </a:lnTo>
                  <a:lnTo>
                    <a:pt x="343" y="0"/>
                  </a:lnTo>
                  <a:lnTo>
                    <a:pt x="340" y="1"/>
                  </a:lnTo>
                  <a:lnTo>
                    <a:pt x="338" y="3"/>
                  </a:lnTo>
                  <a:lnTo>
                    <a:pt x="336" y="5"/>
                  </a:lnTo>
                  <a:lnTo>
                    <a:pt x="333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261680" y="3205800"/>
              <a:ext cx="79200" cy="389880"/>
            </a:xfrm>
            <a:custGeom>
              <a:avLst/>
              <a:gdLst/>
              <a:ahLst/>
              <a:rect l="l" t="t" r="r" b="b"/>
              <a:pathLst>
                <a:path w="209" h="1030">
                  <a:moveTo>
                    <a:pt x="199" y="0"/>
                  </a:moveTo>
                  <a:lnTo>
                    <a:pt x="182" y="9"/>
                  </a:lnTo>
                  <a:lnTo>
                    <a:pt x="155" y="77"/>
                  </a:lnTo>
                  <a:lnTo>
                    <a:pt x="127" y="144"/>
                  </a:lnTo>
                  <a:lnTo>
                    <a:pt x="103" y="211"/>
                  </a:lnTo>
                  <a:lnTo>
                    <a:pt x="80" y="277"/>
                  </a:lnTo>
                  <a:lnTo>
                    <a:pt x="60" y="343"/>
                  </a:lnTo>
                  <a:lnTo>
                    <a:pt x="41" y="409"/>
                  </a:lnTo>
                  <a:lnTo>
                    <a:pt x="34" y="442"/>
                  </a:lnTo>
                  <a:lnTo>
                    <a:pt x="27" y="474"/>
                  </a:lnTo>
                  <a:lnTo>
                    <a:pt x="20" y="507"/>
                  </a:lnTo>
                  <a:lnTo>
                    <a:pt x="14" y="539"/>
                  </a:lnTo>
                  <a:lnTo>
                    <a:pt x="9" y="571"/>
                  </a:lnTo>
                  <a:lnTo>
                    <a:pt x="6" y="603"/>
                  </a:lnTo>
                  <a:lnTo>
                    <a:pt x="3" y="634"/>
                  </a:lnTo>
                  <a:lnTo>
                    <a:pt x="1" y="666"/>
                  </a:lnTo>
                  <a:lnTo>
                    <a:pt x="0" y="697"/>
                  </a:lnTo>
                  <a:lnTo>
                    <a:pt x="0" y="728"/>
                  </a:lnTo>
                  <a:lnTo>
                    <a:pt x="1" y="759"/>
                  </a:lnTo>
                  <a:lnTo>
                    <a:pt x="3" y="790"/>
                  </a:lnTo>
                  <a:lnTo>
                    <a:pt x="6" y="821"/>
                  </a:lnTo>
                  <a:lnTo>
                    <a:pt x="11" y="851"/>
                  </a:lnTo>
                  <a:lnTo>
                    <a:pt x="16" y="881"/>
                  </a:lnTo>
                  <a:lnTo>
                    <a:pt x="22" y="912"/>
                  </a:lnTo>
                  <a:lnTo>
                    <a:pt x="30" y="941"/>
                  </a:lnTo>
                  <a:lnTo>
                    <a:pt x="39" y="971"/>
                  </a:lnTo>
                  <a:lnTo>
                    <a:pt x="50" y="1000"/>
                  </a:lnTo>
                  <a:lnTo>
                    <a:pt x="61" y="1030"/>
                  </a:lnTo>
                  <a:lnTo>
                    <a:pt x="87" y="1019"/>
                  </a:lnTo>
                  <a:lnTo>
                    <a:pt x="76" y="990"/>
                  </a:lnTo>
                  <a:lnTo>
                    <a:pt x="66" y="962"/>
                  </a:lnTo>
                  <a:lnTo>
                    <a:pt x="57" y="934"/>
                  </a:lnTo>
                  <a:lnTo>
                    <a:pt x="49" y="904"/>
                  </a:lnTo>
                  <a:lnTo>
                    <a:pt x="43" y="876"/>
                  </a:lnTo>
                  <a:lnTo>
                    <a:pt x="38" y="847"/>
                  </a:lnTo>
                  <a:lnTo>
                    <a:pt x="34" y="817"/>
                  </a:lnTo>
                  <a:lnTo>
                    <a:pt x="30" y="788"/>
                  </a:lnTo>
                  <a:lnTo>
                    <a:pt x="29" y="758"/>
                  </a:lnTo>
                  <a:lnTo>
                    <a:pt x="28" y="727"/>
                  </a:lnTo>
                  <a:lnTo>
                    <a:pt x="28" y="698"/>
                  </a:lnTo>
                  <a:lnTo>
                    <a:pt x="29" y="667"/>
                  </a:lnTo>
                  <a:lnTo>
                    <a:pt x="30" y="636"/>
                  </a:lnTo>
                  <a:lnTo>
                    <a:pt x="34" y="605"/>
                  </a:lnTo>
                  <a:lnTo>
                    <a:pt x="38" y="575"/>
                  </a:lnTo>
                  <a:lnTo>
                    <a:pt x="43" y="543"/>
                  </a:lnTo>
                  <a:lnTo>
                    <a:pt x="48" y="512"/>
                  </a:lnTo>
                  <a:lnTo>
                    <a:pt x="54" y="480"/>
                  </a:lnTo>
                  <a:lnTo>
                    <a:pt x="61" y="448"/>
                  </a:lnTo>
                  <a:lnTo>
                    <a:pt x="68" y="416"/>
                  </a:lnTo>
                  <a:lnTo>
                    <a:pt x="86" y="351"/>
                  </a:lnTo>
                  <a:lnTo>
                    <a:pt x="107" y="286"/>
                  </a:lnTo>
                  <a:lnTo>
                    <a:pt x="129" y="220"/>
                  </a:lnTo>
                  <a:lnTo>
                    <a:pt x="153" y="154"/>
                  </a:lnTo>
                  <a:lnTo>
                    <a:pt x="179" y="86"/>
                  </a:lnTo>
                  <a:lnTo>
                    <a:pt x="207" y="20"/>
                  </a:lnTo>
                  <a:lnTo>
                    <a:pt x="190" y="27"/>
                  </a:lnTo>
                  <a:lnTo>
                    <a:pt x="207" y="20"/>
                  </a:lnTo>
                  <a:lnTo>
                    <a:pt x="209" y="14"/>
                  </a:lnTo>
                  <a:lnTo>
                    <a:pt x="207" y="8"/>
                  </a:lnTo>
                  <a:lnTo>
                    <a:pt x="205" y="4"/>
                  </a:lnTo>
                  <a:lnTo>
                    <a:pt x="200" y="2"/>
                  </a:lnTo>
                  <a:lnTo>
                    <a:pt x="195" y="0"/>
                  </a:lnTo>
                  <a:lnTo>
                    <a:pt x="190" y="0"/>
                  </a:lnTo>
                  <a:lnTo>
                    <a:pt x="185" y="4"/>
                  </a:lnTo>
                  <a:lnTo>
                    <a:pt x="182" y="9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4333680" y="3205800"/>
              <a:ext cx="192960" cy="52560"/>
            </a:xfrm>
            <a:custGeom>
              <a:avLst/>
              <a:gdLst/>
              <a:ahLst/>
              <a:rect l="l" t="t" r="r" b="b"/>
              <a:pathLst>
                <a:path w="511" h="142">
                  <a:moveTo>
                    <a:pt x="507" y="118"/>
                  </a:moveTo>
                  <a:lnTo>
                    <a:pt x="501" y="115"/>
                  </a:lnTo>
                  <a:lnTo>
                    <a:pt x="450" y="100"/>
                  </a:lnTo>
                  <a:lnTo>
                    <a:pt x="391" y="86"/>
                  </a:lnTo>
                  <a:lnTo>
                    <a:pt x="325" y="73"/>
                  </a:lnTo>
                  <a:lnTo>
                    <a:pt x="256" y="58"/>
                  </a:lnTo>
                  <a:lnTo>
                    <a:pt x="187" y="45"/>
                  </a:lnTo>
                  <a:lnTo>
                    <a:pt x="121" y="30"/>
                  </a:lnTo>
                  <a:lnTo>
                    <a:pt x="60" y="15"/>
                  </a:lnTo>
                  <a:lnTo>
                    <a:pt x="9" y="0"/>
                  </a:lnTo>
                  <a:lnTo>
                    <a:pt x="0" y="27"/>
                  </a:lnTo>
                  <a:lnTo>
                    <a:pt x="53" y="42"/>
                  </a:lnTo>
                  <a:lnTo>
                    <a:pt x="115" y="57"/>
                  </a:lnTo>
                  <a:lnTo>
                    <a:pt x="182" y="72"/>
                  </a:lnTo>
                  <a:lnTo>
                    <a:pt x="251" y="85"/>
                  </a:lnTo>
                  <a:lnTo>
                    <a:pt x="320" y="100"/>
                  </a:lnTo>
                  <a:lnTo>
                    <a:pt x="385" y="113"/>
                  </a:lnTo>
                  <a:lnTo>
                    <a:pt x="444" y="127"/>
                  </a:lnTo>
                  <a:lnTo>
                    <a:pt x="493" y="141"/>
                  </a:lnTo>
                  <a:lnTo>
                    <a:pt x="487" y="138"/>
                  </a:lnTo>
                  <a:lnTo>
                    <a:pt x="493" y="141"/>
                  </a:lnTo>
                  <a:lnTo>
                    <a:pt x="496" y="142"/>
                  </a:lnTo>
                  <a:lnTo>
                    <a:pt x="500" y="142"/>
                  </a:lnTo>
                  <a:lnTo>
                    <a:pt x="502" y="142"/>
                  </a:lnTo>
                  <a:lnTo>
                    <a:pt x="504" y="141"/>
                  </a:lnTo>
                  <a:lnTo>
                    <a:pt x="508" y="137"/>
                  </a:lnTo>
                  <a:lnTo>
                    <a:pt x="511" y="132"/>
                  </a:lnTo>
                  <a:lnTo>
                    <a:pt x="511" y="127"/>
                  </a:lnTo>
                  <a:lnTo>
                    <a:pt x="509" y="122"/>
                  </a:lnTo>
                  <a:lnTo>
                    <a:pt x="507" y="117"/>
                  </a:lnTo>
                  <a:lnTo>
                    <a:pt x="501" y="115"/>
                  </a:lnTo>
                  <a:lnTo>
                    <a:pt x="507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724200" y="3211200"/>
              <a:ext cx="569520" cy="497880"/>
            </a:xfrm>
            <a:custGeom>
              <a:avLst/>
              <a:gdLst/>
              <a:ahLst/>
              <a:rect l="l" t="t" r="r" b="b"/>
              <a:pathLst>
                <a:path w="1507" h="1316">
                  <a:moveTo>
                    <a:pt x="1430" y="1209"/>
                  </a:moveTo>
                  <a:lnTo>
                    <a:pt x="1434" y="1203"/>
                  </a:lnTo>
                  <a:lnTo>
                    <a:pt x="1437" y="1197"/>
                  </a:lnTo>
                  <a:lnTo>
                    <a:pt x="1439" y="1191"/>
                  </a:lnTo>
                  <a:lnTo>
                    <a:pt x="1440" y="1185"/>
                  </a:lnTo>
                  <a:lnTo>
                    <a:pt x="1440" y="1173"/>
                  </a:lnTo>
                  <a:lnTo>
                    <a:pt x="1438" y="1159"/>
                  </a:lnTo>
                  <a:lnTo>
                    <a:pt x="1434" y="1147"/>
                  </a:lnTo>
                  <a:lnTo>
                    <a:pt x="1428" y="1133"/>
                  </a:lnTo>
                  <a:lnTo>
                    <a:pt x="1422" y="1121"/>
                  </a:lnTo>
                  <a:lnTo>
                    <a:pt x="1416" y="1107"/>
                  </a:lnTo>
                  <a:lnTo>
                    <a:pt x="1408" y="1095"/>
                  </a:lnTo>
                  <a:lnTo>
                    <a:pt x="1402" y="1083"/>
                  </a:lnTo>
                  <a:lnTo>
                    <a:pt x="1397" y="1069"/>
                  </a:lnTo>
                  <a:lnTo>
                    <a:pt x="1395" y="1057"/>
                  </a:lnTo>
                  <a:lnTo>
                    <a:pt x="1394" y="1051"/>
                  </a:lnTo>
                  <a:lnTo>
                    <a:pt x="1394" y="1043"/>
                  </a:lnTo>
                  <a:lnTo>
                    <a:pt x="1394" y="1037"/>
                  </a:lnTo>
                  <a:lnTo>
                    <a:pt x="1395" y="1031"/>
                  </a:lnTo>
                  <a:lnTo>
                    <a:pt x="1396" y="1025"/>
                  </a:lnTo>
                  <a:lnTo>
                    <a:pt x="1398" y="1019"/>
                  </a:lnTo>
                  <a:lnTo>
                    <a:pt x="1402" y="1013"/>
                  </a:lnTo>
                  <a:lnTo>
                    <a:pt x="1407" y="1005"/>
                  </a:lnTo>
                  <a:lnTo>
                    <a:pt x="1400" y="987"/>
                  </a:lnTo>
                  <a:lnTo>
                    <a:pt x="1395" y="968"/>
                  </a:lnTo>
                  <a:lnTo>
                    <a:pt x="1390" y="950"/>
                  </a:lnTo>
                  <a:lnTo>
                    <a:pt x="1386" y="931"/>
                  </a:lnTo>
                  <a:lnTo>
                    <a:pt x="1384" y="912"/>
                  </a:lnTo>
                  <a:lnTo>
                    <a:pt x="1382" y="893"/>
                  </a:lnTo>
                  <a:lnTo>
                    <a:pt x="1382" y="875"/>
                  </a:lnTo>
                  <a:lnTo>
                    <a:pt x="1384" y="855"/>
                  </a:lnTo>
                  <a:lnTo>
                    <a:pt x="1385" y="837"/>
                  </a:lnTo>
                  <a:lnTo>
                    <a:pt x="1387" y="817"/>
                  </a:lnTo>
                  <a:lnTo>
                    <a:pt x="1390" y="799"/>
                  </a:lnTo>
                  <a:lnTo>
                    <a:pt x="1394" y="779"/>
                  </a:lnTo>
                  <a:lnTo>
                    <a:pt x="1402" y="740"/>
                  </a:lnTo>
                  <a:lnTo>
                    <a:pt x="1413" y="700"/>
                  </a:lnTo>
                  <a:lnTo>
                    <a:pt x="1439" y="621"/>
                  </a:lnTo>
                  <a:lnTo>
                    <a:pt x="1465" y="542"/>
                  </a:lnTo>
                  <a:lnTo>
                    <a:pt x="1477" y="501"/>
                  </a:lnTo>
                  <a:lnTo>
                    <a:pt x="1489" y="459"/>
                  </a:lnTo>
                  <a:lnTo>
                    <a:pt x="1499" y="419"/>
                  </a:lnTo>
                  <a:lnTo>
                    <a:pt x="1507" y="377"/>
                  </a:lnTo>
                  <a:lnTo>
                    <a:pt x="1493" y="357"/>
                  </a:lnTo>
                  <a:lnTo>
                    <a:pt x="1476" y="336"/>
                  </a:lnTo>
                  <a:lnTo>
                    <a:pt x="1456" y="315"/>
                  </a:lnTo>
                  <a:lnTo>
                    <a:pt x="1435" y="293"/>
                  </a:lnTo>
                  <a:lnTo>
                    <a:pt x="1387" y="248"/>
                  </a:lnTo>
                  <a:lnTo>
                    <a:pt x="1336" y="201"/>
                  </a:lnTo>
                  <a:lnTo>
                    <a:pt x="1283" y="155"/>
                  </a:lnTo>
                  <a:lnTo>
                    <a:pt x="1232" y="112"/>
                  </a:lnTo>
                  <a:lnTo>
                    <a:pt x="1187" y="74"/>
                  </a:lnTo>
                  <a:lnTo>
                    <a:pt x="1151" y="42"/>
                  </a:lnTo>
                  <a:lnTo>
                    <a:pt x="1095" y="31"/>
                  </a:lnTo>
                  <a:lnTo>
                    <a:pt x="1044" y="22"/>
                  </a:lnTo>
                  <a:lnTo>
                    <a:pt x="1001" y="15"/>
                  </a:lnTo>
                  <a:lnTo>
                    <a:pt x="964" y="9"/>
                  </a:lnTo>
                  <a:lnTo>
                    <a:pt x="931" y="5"/>
                  </a:lnTo>
                  <a:lnTo>
                    <a:pt x="900" y="3"/>
                  </a:lnTo>
                  <a:lnTo>
                    <a:pt x="873" y="0"/>
                  </a:lnTo>
                  <a:lnTo>
                    <a:pt x="846" y="0"/>
                  </a:lnTo>
                  <a:lnTo>
                    <a:pt x="790" y="3"/>
                  </a:lnTo>
                  <a:lnTo>
                    <a:pt x="724" y="9"/>
                  </a:lnTo>
                  <a:lnTo>
                    <a:pt x="638" y="16"/>
                  </a:lnTo>
                  <a:lnTo>
                    <a:pt x="525" y="24"/>
                  </a:lnTo>
                  <a:lnTo>
                    <a:pt x="471" y="64"/>
                  </a:lnTo>
                  <a:lnTo>
                    <a:pt x="422" y="106"/>
                  </a:lnTo>
                  <a:lnTo>
                    <a:pt x="376" y="147"/>
                  </a:lnTo>
                  <a:lnTo>
                    <a:pt x="335" y="187"/>
                  </a:lnTo>
                  <a:lnTo>
                    <a:pt x="295" y="228"/>
                  </a:lnTo>
                  <a:lnTo>
                    <a:pt x="260" y="268"/>
                  </a:lnTo>
                  <a:lnTo>
                    <a:pt x="228" y="309"/>
                  </a:lnTo>
                  <a:lnTo>
                    <a:pt x="199" y="350"/>
                  </a:lnTo>
                  <a:lnTo>
                    <a:pt x="172" y="390"/>
                  </a:lnTo>
                  <a:lnTo>
                    <a:pt x="149" y="431"/>
                  </a:lnTo>
                  <a:lnTo>
                    <a:pt x="128" y="471"/>
                  </a:lnTo>
                  <a:lnTo>
                    <a:pt x="109" y="512"/>
                  </a:lnTo>
                  <a:lnTo>
                    <a:pt x="93" y="553"/>
                  </a:lnTo>
                  <a:lnTo>
                    <a:pt x="79" y="592"/>
                  </a:lnTo>
                  <a:lnTo>
                    <a:pt x="66" y="633"/>
                  </a:lnTo>
                  <a:lnTo>
                    <a:pt x="57" y="673"/>
                  </a:lnTo>
                  <a:lnTo>
                    <a:pt x="47" y="712"/>
                  </a:lnTo>
                  <a:lnTo>
                    <a:pt x="39" y="753"/>
                  </a:lnTo>
                  <a:lnTo>
                    <a:pt x="33" y="794"/>
                  </a:lnTo>
                  <a:lnTo>
                    <a:pt x="28" y="833"/>
                  </a:lnTo>
                  <a:lnTo>
                    <a:pt x="25" y="874"/>
                  </a:lnTo>
                  <a:lnTo>
                    <a:pt x="21" y="914"/>
                  </a:lnTo>
                  <a:lnTo>
                    <a:pt x="18" y="954"/>
                  </a:lnTo>
                  <a:lnTo>
                    <a:pt x="16" y="994"/>
                  </a:lnTo>
                  <a:lnTo>
                    <a:pt x="14" y="1074"/>
                  </a:lnTo>
                  <a:lnTo>
                    <a:pt x="10" y="1155"/>
                  </a:lnTo>
                  <a:lnTo>
                    <a:pt x="6" y="1236"/>
                  </a:lnTo>
                  <a:lnTo>
                    <a:pt x="0" y="1316"/>
                  </a:lnTo>
                  <a:lnTo>
                    <a:pt x="43" y="1316"/>
                  </a:lnTo>
                  <a:lnTo>
                    <a:pt x="85" y="1316"/>
                  </a:lnTo>
                  <a:lnTo>
                    <a:pt x="127" y="1316"/>
                  </a:lnTo>
                  <a:lnTo>
                    <a:pt x="167" y="1316"/>
                  </a:lnTo>
                  <a:lnTo>
                    <a:pt x="209" y="1316"/>
                  </a:lnTo>
                  <a:lnTo>
                    <a:pt x="250" y="1316"/>
                  </a:lnTo>
                  <a:lnTo>
                    <a:pt x="289" y="1316"/>
                  </a:lnTo>
                  <a:lnTo>
                    <a:pt x="330" y="1316"/>
                  </a:lnTo>
                  <a:lnTo>
                    <a:pt x="353" y="1284"/>
                  </a:lnTo>
                  <a:lnTo>
                    <a:pt x="373" y="1251"/>
                  </a:lnTo>
                  <a:lnTo>
                    <a:pt x="389" y="1217"/>
                  </a:lnTo>
                  <a:lnTo>
                    <a:pt x="403" y="1184"/>
                  </a:lnTo>
                  <a:lnTo>
                    <a:pt x="414" y="1148"/>
                  </a:lnTo>
                  <a:lnTo>
                    <a:pt x="424" y="1113"/>
                  </a:lnTo>
                  <a:lnTo>
                    <a:pt x="432" y="1078"/>
                  </a:lnTo>
                  <a:lnTo>
                    <a:pt x="437" y="1041"/>
                  </a:lnTo>
                  <a:lnTo>
                    <a:pt x="440" y="1005"/>
                  </a:lnTo>
                  <a:lnTo>
                    <a:pt x="443" y="968"/>
                  </a:lnTo>
                  <a:lnTo>
                    <a:pt x="444" y="931"/>
                  </a:lnTo>
                  <a:lnTo>
                    <a:pt x="445" y="895"/>
                  </a:lnTo>
                  <a:lnTo>
                    <a:pt x="445" y="819"/>
                  </a:lnTo>
                  <a:lnTo>
                    <a:pt x="444" y="743"/>
                  </a:lnTo>
                  <a:lnTo>
                    <a:pt x="443" y="705"/>
                  </a:lnTo>
                  <a:lnTo>
                    <a:pt x="444" y="667"/>
                  </a:lnTo>
                  <a:lnTo>
                    <a:pt x="444" y="630"/>
                  </a:lnTo>
                  <a:lnTo>
                    <a:pt x="446" y="592"/>
                  </a:lnTo>
                  <a:lnTo>
                    <a:pt x="450" y="554"/>
                  </a:lnTo>
                  <a:lnTo>
                    <a:pt x="455" y="517"/>
                  </a:lnTo>
                  <a:lnTo>
                    <a:pt x="461" y="479"/>
                  </a:lnTo>
                  <a:lnTo>
                    <a:pt x="470" y="442"/>
                  </a:lnTo>
                  <a:lnTo>
                    <a:pt x="480" y="405"/>
                  </a:lnTo>
                  <a:lnTo>
                    <a:pt x="493" y="368"/>
                  </a:lnTo>
                  <a:lnTo>
                    <a:pt x="508" y="331"/>
                  </a:lnTo>
                  <a:lnTo>
                    <a:pt x="526" y="296"/>
                  </a:lnTo>
                  <a:lnTo>
                    <a:pt x="549" y="260"/>
                  </a:lnTo>
                  <a:lnTo>
                    <a:pt x="573" y="225"/>
                  </a:lnTo>
                  <a:lnTo>
                    <a:pt x="601" y="190"/>
                  </a:lnTo>
                  <a:lnTo>
                    <a:pt x="633" y="157"/>
                  </a:lnTo>
                  <a:lnTo>
                    <a:pt x="640" y="179"/>
                  </a:lnTo>
                  <a:lnTo>
                    <a:pt x="646" y="200"/>
                  </a:lnTo>
                  <a:lnTo>
                    <a:pt x="653" y="219"/>
                  </a:lnTo>
                  <a:lnTo>
                    <a:pt x="662" y="236"/>
                  </a:lnTo>
                  <a:lnTo>
                    <a:pt x="672" y="254"/>
                  </a:lnTo>
                  <a:lnTo>
                    <a:pt x="681" y="268"/>
                  </a:lnTo>
                  <a:lnTo>
                    <a:pt x="692" y="282"/>
                  </a:lnTo>
                  <a:lnTo>
                    <a:pt x="704" y="294"/>
                  </a:lnTo>
                  <a:lnTo>
                    <a:pt x="716" y="305"/>
                  </a:lnTo>
                  <a:lnTo>
                    <a:pt x="728" y="315"/>
                  </a:lnTo>
                  <a:lnTo>
                    <a:pt x="742" y="323"/>
                  </a:lnTo>
                  <a:lnTo>
                    <a:pt x="755" y="330"/>
                  </a:lnTo>
                  <a:lnTo>
                    <a:pt x="770" y="335"/>
                  </a:lnTo>
                  <a:lnTo>
                    <a:pt x="785" y="339"/>
                  </a:lnTo>
                  <a:lnTo>
                    <a:pt x="799" y="341"/>
                  </a:lnTo>
                  <a:lnTo>
                    <a:pt x="815" y="341"/>
                  </a:lnTo>
                  <a:lnTo>
                    <a:pt x="831" y="341"/>
                  </a:lnTo>
                  <a:lnTo>
                    <a:pt x="847" y="339"/>
                  </a:lnTo>
                  <a:lnTo>
                    <a:pt x="865" y="335"/>
                  </a:lnTo>
                  <a:lnTo>
                    <a:pt x="882" y="330"/>
                  </a:lnTo>
                  <a:lnTo>
                    <a:pt x="899" y="324"/>
                  </a:lnTo>
                  <a:lnTo>
                    <a:pt x="916" y="315"/>
                  </a:lnTo>
                  <a:lnTo>
                    <a:pt x="934" y="307"/>
                  </a:lnTo>
                  <a:lnTo>
                    <a:pt x="951" y="296"/>
                  </a:lnTo>
                  <a:lnTo>
                    <a:pt x="969" y="283"/>
                  </a:lnTo>
                  <a:lnTo>
                    <a:pt x="986" y="270"/>
                  </a:lnTo>
                  <a:lnTo>
                    <a:pt x="1004" y="254"/>
                  </a:lnTo>
                  <a:lnTo>
                    <a:pt x="1022" y="238"/>
                  </a:lnTo>
                  <a:lnTo>
                    <a:pt x="1039" y="219"/>
                  </a:lnTo>
                  <a:lnTo>
                    <a:pt x="1057" y="200"/>
                  </a:lnTo>
                  <a:lnTo>
                    <a:pt x="1074" y="179"/>
                  </a:lnTo>
                  <a:lnTo>
                    <a:pt x="1091" y="157"/>
                  </a:lnTo>
                  <a:lnTo>
                    <a:pt x="1118" y="187"/>
                  </a:lnTo>
                  <a:lnTo>
                    <a:pt x="1144" y="218"/>
                  </a:lnTo>
                  <a:lnTo>
                    <a:pt x="1167" y="250"/>
                  </a:lnTo>
                  <a:lnTo>
                    <a:pt x="1191" y="282"/>
                  </a:lnTo>
                  <a:lnTo>
                    <a:pt x="1213" y="314"/>
                  </a:lnTo>
                  <a:lnTo>
                    <a:pt x="1232" y="346"/>
                  </a:lnTo>
                  <a:lnTo>
                    <a:pt x="1251" y="378"/>
                  </a:lnTo>
                  <a:lnTo>
                    <a:pt x="1269" y="411"/>
                  </a:lnTo>
                  <a:lnTo>
                    <a:pt x="1285" y="444"/>
                  </a:lnTo>
                  <a:lnTo>
                    <a:pt x="1301" y="476"/>
                  </a:lnTo>
                  <a:lnTo>
                    <a:pt x="1316" y="510"/>
                  </a:lnTo>
                  <a:lnTo>
                    <a:pt x="1330" y="543"/>
                  </a:lnTo>
                  <a:lnTo>
                    <a:pt x="1342" y="576"/>
                  </a:lnTo>
                  <a:lnTo>
                    <a:pt x="1353" y="610"/>
                  </a:lnTo>
                  <a:lnTo>
                    <a:pt x="1364" y="644"/>
                  </a:lnTo>
                  <a:lnTo>
                    <a:pt x="1373" y="677"/>
                  </a:lnTo>
                  <a:lnTo>
                    <a:pt x="1381" y="710"/>
                  </a:lnTo>
                  <a:lnTo>
                    <a:pt x="1390" y="744"/>
                  </a:lnTo>
                  <a:lnTo>
                    <a:pt x="1396" y="778"/>
                  </a:lnTo>
                  <a:lnTo>
                    <a:pt x="1402" y="811"/>
                  </a:lnTo>
                  <a:lnTo>
                    <a:pt x="1408" y="845"/>
                  </a:lnTo>
                  <a:lnTo>
                    <a:pt x="1413" y="879"/>
                  </a:lnTo>
                  <a:lnTo>
                    <a:pt x="1417" y="912"/>
                  </a:lnTo>
                  <a:lnTo>
                    <a:pt x="1421" y="946"/>
                  </a:lnTo>
                  <a:lnTo>
                    <a:pt x="1425" y="1013"/>
                  </a:lnTo>
                  <a:lnTo>
                    <a:pt x="1429" y="1079"/>
                  </a:lnTo>
                  <a:lnTo>
                    <a:pt x="1430" y="1144"/>
                  </a:lnTo>
                  <a:lnTo>
                    <a:pt x="1430" y="1209"/>
                  </a:lnTo>
                  <a:close/>
                </a:path>
              </a:pathLst>
            </a:custGeom>
            <a:solidFill>
              <a:srgbClr val="dd8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4246920" y="3586320"/>
              <a:ext cx="28080" cy="871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15" y="19"/>
                  </a:moveTo>
                  <a:lnTo>
                    <a:pt x="17" y="5"/>
                  </a:lnTo>
                  <a:lnTo>
                    <a:pt x="12" y="12"/>
                  </a:lnTo>
                  <a:lnTo>
                    <a:pt x="7" y="21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6" y="82"/>
                  </a:lnTo>
                  <a:lnTo>
                    <a:pt x="11" y="96"/>
                  </a:lnTo>
                  <a:lnTo>
                    <a:pt x="17" y="109"/>
                  </a:lnTo>
                  <a:lnTo>
                    <a:pt x="23" y="123"/>
                  </a:lnTo>
                  <a:lnTo>
                    <a:pt x="30" y="135"/>
                  </a:lnTo>
                  <a:lnTo>
                    <a:pt x="37" y="147"/>
                  </a:lnTo>
                  <a:lnTo>
                    <a:pt x="42" y="160"/>
                  </a:lnTo>
                  <a:lnTo>
                    <a:pt x="45" y="171"/>
                  </a:lnTo>
                  <a:lnTo>
                    <a:pt x="46" y="181"/>
                  </a:lnTo>
                  <a:lnTo>
                    <a:pt x="46" y="192"/>
                  </a:lnTo>
                  <a:lnTo>
                    <a:pt x="46" y="195"/>
                  </a:lnTo>
                  <a:lnTo>
                    <a:pt x="44" y="200"/>
                  </a:lnTo>
                  <a:lnTo>
                    <a:pt x="43" y="205"/>
                  </a:lnTo>
                  <a:lnTo>
                    <a:pt x="39" y="210"/>
                  </a:lnTo>
                  <a:lnTo>
                    <a:pt x="62" y="226"/>
                  </a:lnTo>
                  <a:lnTo>
                    <a:pt x="67" y="217"/>
                  </a:lnTo>
                  <a:lnTo>
                    <a:pt x="71" y="210"/>
                  </a:lnTo>
                  <a:lnTo>
                    <a:pt x="74" y="203"/>
                  </a:lnTo>
                  <a:lnTo>
                    <a:pt x="75" y="194"/>
                  </a:lnTo>
                  <a:lnTo>
                    <a:pt x="75" y="179"/>
                  </a:lnTo>
                  <a:lnTo>
                    <a:pt x="72" y="163"/>
                  </a:lnTo>
                  <a:lnTo>
                    <a:pt x="67" y="150"/>
                  </a:lnTo>
                  <a:lnTo>
                    <a:pt x="61" y="136"/>
                  </a:lnTo>
                  <a:lnTo>
                    <a:pt x="55" y="123"/>
                  </a:lnTo>
                  <a:lnTo>
                    <a:pt x="49" y="109"/>
                  </a:lnTo>
                  <a:lnTo>
                    <a:pt x="42" y="97"/>
                  </a:lnTo>
                  <a:lnTo>
                    <a:pt x="37" y="85"/>
                  </a:lnTo>
                  <a:lnTo>
                    <a:pt x="32" y="73"/>
                  </a:lnTo>
                  <a:lnTo>
                    <a:pt x="29" y="61"/>
                  </a:lnTo>
                  <a:lnTo>
                    <a:pt x="28" y="56"/>
                  </a:lnTo>
                  <a:lnTo>
                    <a:pt x="28" y="51"/>
                  </a:lnTo>
                  <a:lnTo>
                    <a:pt x="28" y="46"/>
                  </a:lnTo>
                  <a:lnTo>
                    <a:pt x="29" y="42"/>
                  </a:lnTo>
                  <a:lnTo>
                    <a:pt x="30" y="38"/>
                  </a:lnTo>
                  <a:lnTo>
                    <a:pt x="33" y="33"/>
                  </a:lnTo>
                  <a:lnTo>
                    <a:pt x="35" y="28"/>
                  </a:lnTo>
                  <a:lnTo>
                    <a:pt x="39" y="22"/>
                  </a:lnTo>
                  <a:lnTo>
                    <a:pt x="40" y="8"/>
                  </a:lnTo>
                  <a:lnTo>
                    <a:pt x="39" y="22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4242960" y="3349800"/>
              <a:ext cx="56520" cy="244080"/>
            </a:xfrm>
            <a:custGeom>
              <a:avLst/>
              <a:gdLst/>
              <a:ahLst/>
              <a:rect l="l" t="t" r="r" b="b"/>
              <a:pathLst>
                <a:path w="151" h="648">
                  <a:moveTo>
                    <a:pt x="127" y="21"/>
                  </a:moveTo>
                  <a:lnTo>
                    <a:pt x="124" y="11"/>
                  </a:lnTo>
                  <a:lnTo>
                    <a:pt x="117" y="52"/>
                  </a:lnTo>
                  <a:lnTo>
                    <a:pt x="107" y="92"/>
                  </a:lnTo>
                  <a:lnTo>
                    <a:pt x="96" y="133"/>
                  </a:lnTo>
                  <a:lnTo>
                    <a:pt x="82" y="174"/>
                  </a:lnTo>
                  <a:lnTo>
                    <a:pt x="56" y="255"/>
                  </a:lnTo>
                  <a:lnTo>
                    <a:pt x="31" y="333"/>
                  </a:lnTo>
                  <a:lnTo>
                    <a:pt x="20" y="373"/>
                  </a:lnTo>
                  <a:lnTo>
                    <a:pt x="11" y="412"/>
                  </a:lnTo>
                  <a:lnTo>
                    <a:pt x="7" y="433"/>
                  </a:lnTo>
                  <a:lnTo>
                    <a:pt x="5" y="453"/>
                  </a:lnTo>
                  <a:lnTo>
                    <a:pt x="2" y="472"/>
                  </a:lnTo>
                  <a:lnTo>
                    <a:pt x="0" y="492"/>
                  </a:lnTo>
                  <a:lnTo>
                    <a:pt x="0" y="512"/>
                  </a:lnTo>
                  <a:lnTo>
                    <a:pt x="0" y="532"/>
                  </a:lnTo>
                  <a:lnTo>
                    <a:pt x="1" y="551"/>
                  </a:lnTo>
                  <a:lnTo>
                    <a:pt x="4" y="570"/>
                  </a:lnTo>
                  <a:lnTo>
                    <a:pt x="7" y="589"/>
                  </a:lnTo>
                  <a:lnTo>
                    <a:pt x="12" y="609"/>
                  </a:lnTo>
                  <a:lnTo>
                    <a:pt x="18" y="629"/>
                  </a:lnTo>
                  <a:lnTo>
                    <a:pt x="25" y="648"/>
                  </a:lnTo>
                  <a:lnTo>
                    <a:pt x="50" y="637"/>
                  </a:lnTo>
                  <a:lnTo>
                    <a:pt x="44" y="620"/>
                  </a:lnTo>
                  <a:lnTo>
                    <a:pt x="39" y="602"/>
                  </a:lnTo>
                  <a:lnTo>
                    <a:pt x="34" y="584"/>
                  </a:lnTo>
                  <a:lnTo>
                    <a:pt x="31" y="566"/>
                  </a:lnTo>
                  <a:lnTo>
                    <a:pt x="29" y="548"/>
                  </a:lnTo>
                  <a:lnTo>
                    <a:pt x="28" y="530"/>
                  </a:lnTo>
                  <a:lnTo>
                    <a:pt x="28" y="512"/>
                  </a:lnTo>
                  <a:lnTo>
                    <a:pt x="28" y="493"/>
                  </a:lnTo>
                  <a:lnTo>
                    <a:pt x="29" y="475"/>
                  </a:lnTo>
                  <a:lnTo>
                    <a:pt x="32" y="456"/>
                  </a:lnTo>
                  <a:lnTo>
                    <a:pt x="34" y="437"/>
                  </a:lnTo>
                  <a:lnTo>
                    <a:pt x="38" y="418"/>
                  </a:lnTo>
                  <a:lnTo>
                    <a:pt x="47" y="380"/>
                  </a:lnTo>
                  <a:lnTo>
                    <a:pt x="58" y="342"/>
                  </a:lnTo>
                  <a:lnTo>
                    <a:pt x="82" y="262"/>
                  </a:lnTo>
                  <a:lnTo>
                    <a:pt x="109" y="182"/>
                  </a:lnTo>
                  <a:lnTo>
                    <a:pt x="122" y="142"/>
                  </a:lnTo>
                  <a:lnTo>
                    <a:pt x="134" y="100"/>
                  </a:lnTo>
                  <a:lnTo>
                    <a:pt x="144" y="58"/>
                  </a:lnTo>
                  <a:lnTo>
                    <a:pt x="151" y="16"/>
                  </a:lnTo>
                  <a:lnTo>
                    <a:pt x="150" y="6"/>
                  </a:lnTo>
                  <a:lnTo>
                    <a:pt x="151" y="16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30" y="1"/>
                  </a:lnTo>
                  <a:lnTo>
                    <a:pt x="127" y="5"/>
                  </a:lnTo>
                  <a:lnTo>
                    <a:pt x="124" y="1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4153680" y="3222360"/>
              <a:ext cx="145800" cy="134280"/>
            </a:xfrm>
            <a:custGeom>
              <a:avLst/>
              <a:gdLst/>
              <a:ahLst/>
              <a:rect l="l" t="t" r="r" b="b"/>
              <a:pathLst>
                <a:path w="381" h="355">
                  <a:moveTo>
                    <a:pt x="11" y="27"/>
                  </a:moveTo>
                  <a:lnTo>
                    <a:pt x="5" y="23"/>
                  </a:lnTo>
                  <a:lnTo>
                    <a:pt x="40" y="56"/>
                  </a:lnTo>
                  <a:lnTo>
                    <a:pt x="86" y="94"/>
                  </a:lnTo>
                  <a:lnTo>
                    <a:pt x="135" y="137"/>
                  </a:lnTo>
                  <a:lnTo>
                    <a:pt x="188" y="182"/>
                  </a:lnTo>
                  <a:lnTo>
                    <a:pt x="240" y="228"/>
                  </a:lnTo>
                  <a:lnTo>
                    <a:pt x="287" y="274"/>
                  </a:lnTo>
                  <a:lnTo>
                    <a:pt x="308" y="296"/>
                  </a:lnTo>
                  <a:lnTo>
                    <a:pt x="328" y="317"/>
                  </a:lnTo>
                  <a:lnTo>
                    <a:pt x="344" y="337"/>
                  </a:lnTo>
                  <a:lnTo>
                    <a:pt x="358" y="355"/>
                  </a:lnTo>
                  <a:lnTo>
                    <a:pt x="381" y="340"/>
                  </a:lnTo>
                  <a:lnTo>
                    <a:pt x="366" y="319"/>
                  </a:lnTo>
                  <a:lnTo>
                    <a:pt x="349" y="298"/>
                  </a:lnTo>
                  <a:lnTo>
                    <a:pt x="329" y="276"/>
                  </a:lnTo>
                  <a:lnTo>
                    <a:pt x="307" y="254"/>
                  </a:lnTo>
                  <a:lnTo>
                    <a:pt x="259" y="207"/>
                  </a:lnTo>
                  <a:lnTo>
                    <a:pt x="206" y="161"/>
                  </a:lnTo>
                  <a:lnTo>
                    <a:pt x="153" y="115"/>
                  </a:lnTo>
                  <a:lnTo>
                    <a:pt x="103" y="73"/>
                  </a:lnTo>
                  <a:lnTo>
                    <a:pt x="59" y="35"/>
                  </a:lnTo>
                  <a:lnTo>
                    <a:pt x="23" y="3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1"/>
                  </a:lnTo>
                  <a:lnTo>
                    <a:pt x="5" y="23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17160" y="3205800"/>
              <a:ext cx="244080" cy="25920"/>
            </a:xfrm>
            <a:custGeom>
              <a:avLst/>
              <a:gdLst/>
              <a:ahLst/>
              <a:rect l="l" t="t" r="r" b="b"/>
              <a:pathLst>
                <a:path w="644" h="69">
                  <a:moveTo>
                    <a:pt x="23" y="48"/>
                  </a:moveTo>
                  <a:lnTo>
                    <a:pt x="15" y="50"/>
                  </a:lnTo>
                  <a:lnTo>
                    <a:pt x="130" y="43"/>
                  </a:lnTo>
                  <a:lnTo>
                    <a:pt x="216" y="35"/>
                  </a:lnTo>
                  <a:lnTo>
                    <a:pt x="281" y="31"/>
                  </a:lnTo>
                  <a:lnTo>
                    <a:pt x="336" y="28"/>
                  </a:lnTo>
                  <a:lnTo>
                    <a:pt x="362" y="28"/>
                  </a:lnTo>
                  <a:lnTo>
                    <a:pt x="390" y="29"/>
                  </a:lnTo>
                  <a:lnTo>
                    <a:pt x="420" y="32"/>
                  </a:lnTo>
                  <a:lnTo>
                    <a:pt x="452" y="35"/>
                  </a:lnTo>
                  <a:lnTo>
                    <a:pt x="489" y="42"/>
                  </a:lnTo>
                  <a:lnTo>
                    <a:pt x="532" y="49"/>
                  </a:lnTo>
                  <a:lnTo>
                    <a:pt x="581" y="58"/>
                  </a:lnTo>
                  <a:lnTo>
                    <a:pt x="639" y="69"/>
                  </a:lnTo>
                  <a:lnTo>
                    <a:pt x="644" y="42"/>
                  </a:lnTo>
                  <a:lnTo>
                    <a:pt x="587" y="31"/>
                  </a:lnTo>
                  <a:lnTo>
                    <a:pt x="537" y="21"/>
                  </a:lnTo>
                  <a:lnTo>
                    <a:pt x="494" y="13"/>
                  </a:lnTo>
                  <a:lnTo>
                    <a:pt x="455" y="8"/>
                  </a:lnTo>
                  <a:lnTo>
                    <a:pt x="422" y="3"/>
                  </a:lnTo>
                  <a:lnTo>
                    <a:pt x="392" y="1"/>
                  </a:lnTo>
                  <a:lnTo>
                    <a:pt x="363" y="0"/>
                  </a:lnTo>
                  <a:lnTo>
                    <a:pt x="336" y="0"/>
                  </a:lnTo>
                  <a:lnTo>
                    <a:pt x="280" y="2"/>
                  </a:lnTo>
                  <a:lnTo>
                    <a:pt x="213" y="7"/>
                  </a:lnTo>
                  <a:lnTo>
                    <a:pt x="128" y="15"/>
                  </a:lnTo>
                  <a:lnTo>
                    <a:pt x="14" y="23"/>
                  </a:lnTo>
                  <a:lnTo>
                    <a:pt x="7" y="26"/>
                  </a:lnTo>
                  <a:lnTo>
                    <a:pt x="14" y="23"/>
                  </a:lnTo>
                  <a:lnTo>
                    <a:pt x="10" y="23"/>
                  </a:lnTo>
                  <a:lnTo>
                    <a:pt x="8" y="24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49"/>
                  </a:lnTo>
                  <a:lnTo>
                    <a:pt x="9" y="50"/>
                  </a:lnTo>
                  <a:lnTo>
                    <a:pt x="13" y="50"/>
                  </a:lnTo>
                  <a:lnTo>
                    <a:pt x="15" y="50"/>
                  </a:lnTo>
                  <a:lnTo>
                    <a:pt x="23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718440" y="3216960"/>
              <a:ext cx="206280" cy="497880"/>
            </a:xfrm>
            <a:custGeom>
              <a:avLst/>
              <a:gdLst/>
              <a:ahLst/>
              <a:rect l="l" t="t" r="r" b="b"/>
              <a:pathLst>
                <a:path w="547" h="1318">
                  <a:moveTo>
                    <a:pt x="14" y="1290"/>
                  </a:moveTo>
                  <a:lnTo>
                    <a:pt x="28" y="1305"/>
                  </a:lnTo>
                  <a:lnTo>
                    <a:pt x="34" y="1223"/>
                  </a:lnTo>
                  <a:lnTo>
                    <a:pt x="39" y="1142"/>
                  </a:lnTo>
                  <a:lnTo>
                    <a:pt x="41" y="1062"/>
                  </a:lnTo>
                  <a:lnTo>
                    <a:pt x="45" y="982"/>
                  </a:lnTo>
                  <a:lnTo>
                    <a:pt x="46" y="942"/>
                  </a:lnTo>
                  <a:lnTo>
                    <a:pt x="48" y="902"/>
                  </a:lnTo>
                  <a:lnTo>
                    <a:pt x="52" y="862"/>
                  </a:lnTo>
                  <a:lnTo>
                    <a:pt x="56" y="822"/>
                  </a:lnTo>
                  <a:lnTo>
                    <a:pt x="61" y="782"/>
                  </a:lnTo>
                  <a:lnTo>
                    <a:pt x="67" y="743"/>
                  </a:lnTo>
                  <a:lnTo>
                    <a:pt x="74" y="703"/>
                  </a:lnTo>
                  <a:lnTo>
                    <a:pt x="84" y="663"/>
                  </a:lnTo>
                  <a:lnTo>
                    <a:pt x="94" y="623"/>
                  </a:lnTo>
                  <a:lnTo>
                    <a:pt x="106" y="584"/>
                  </a:lnTo>
                  <a:lnTo>
                    <a:pt x="120" y="545"/>
                  </a:lnTo>
                  <a:lnTo>
                    <a:pt x="136" y="504"/>
                  </a:lnTo>
                  <a:lnTo>
                    <a:pt x="154" y="465"/>
                  </a:lnTo>
                  <a:lnTo>
                    <a:pt x="175" y="425"/>
                  </a:lnTo>
                  <a:lnTo>
                    <a:pt x="198" y="385"/>
                  </a:lnTo>
                  <a:lnTo>
                    <a:pt x="224" y="345"/>
                  </a:lnTo>
                  <a:lnTo>
                    <a:pt x="253" y="305"/>
                  </a:lnTo>
                  <a:lnTo>
                    <a:pt x="285" y="265"/>
                  </a:lnTo>
                  <a:lnTo>
                    <a:pt x="319" y="225"/>
                  </a:lnTo>
                  <a:lnTo>
                    <a:pt x="358" y="184"/>
                  </a:lnTo>
                  <a:lnTo>
                    <a:pt x="399" y="144"/>
                  </a:lnTo>
                  <a:lnTo>
                    <a:pt x="444" y="103"/>
                  </a:lnTo>
                  <a:lnTo>
                    <a:pt x="494" y="62"/>
                  </a:lnTo>
                  <a:lnTo>
                    <a:pt x="547" y="22"/>
                  </a:lnTo>
                  <a:lnTo>
                    <a:pt x="531" y="0"/>
                  </a:lnTo>
                  <a:lnTo>
                    <a:pt x="476" y="41"/>
                  </a:lnTo>
                  <a:lnTo>
                    <a:pt x="427" y="82"/>
                  </a:lnTo>
                  <a:lnTo>
                    <a:pt x="381" y="124"/>
                  </a:lnTo>
                  <a:lnTo>
                    <a:pt x="337" y="164"/>
                  </a:lnTo>
                  <a:lnTo>
                    <a:pt x="299" y="206"/>
                  </a:lnTo>
                  <a:lnTo>
                    <a:pt x="264" y="247"/>
                  </a:lnTo>
                  <a:lnTo>
                    <a:pt x="230" y="289"/>
                  </a:lnTo>
                  <a:lnTo>
                    <a:pt x="201" y="329"/>
                  </a:lnTo>
                  <a:lnTo>
                    <a:pt x="175" y="370"/>
                  </a:lnTo>
                  <a:lnTo>
                    <a:pt x="151" y="412"/>
                  </a:lnTo>
                  <a:lnTo>
                    <a:pt x="130" y="452"/>
                  </a:lnTo>
                  <a:lnTo>
                    <a:pt x="111" y="493"/>
                  </a:lnTo>
                  <a:lnTo>
                    <a:pt x="94" y="535"/>
                  </a:lnTo>
                  <a:lnTo>
                    <a:pt x="79" y="575"/>
                  </a:lnTo>
                  <a:lnTo>
                    <a:pt x="67" y="616"/>
                  </a:lnTo>
                  <a:lnTo>
                    <a:pt x="57" y="656"/>
                  </a:lnTo>
                  <a:lnTo>
                    <a:pt x="47" y="697"/>
                  </a:lnTo>
                  <a:lnTo>
                    <a:pt x="40" y="738"/>
                  </a:lnTo>
                  <a:lnTo>
                    <a:pt x="34" y="778"/>
                  </a:lnTo>
                  <a:lnTo>
                    <a:pt x="29" y="819"/>
                  </a:lnTo>
                  <a:lnTo>
                    <a:pt x="24" y="859"/>
                  </a:lnTo>
                  <a:lnTo>
                    <a:pt x="21" y="900"/>
                  </a:lnTo>
                  <a:lnTo>
                    <a:pt x="19" y="941"/>
                  </a:lnTo>
                  <a:lnTo>
                    <a:pt x="16" y="981"/>
                  </a:lnTo>
                  <a:lnTo>
                    <a:pt x="14" y="1061"/>
                  </a:lnTo>
                  <a:lnTo>
                    <a:pt x="10" y="1142"/>
                  </a:lnTo>
                  <a:lnTo>
                    <a:pt x="7" y="1222"/>
                  </a:lnTo>
                  <a:lnTo>
                    <a:pt x="0" y="1302"/>
                  </a:lnTo>
                  <a:lnTo>
                    <a:pt x="14" y="1318"/>
                  </a:lnTo>
                  <a:lnTo>
                    <a:pt x="0" y="1302"/>
                  </a:lnTo>
                  <a:lnTo>
                    <a:pt x="0" y="1306"/>
                  </a:lnTo>
                  <a:lnTo>
                    <a:pt x="0" y="1308"/>
                  </a:lnTo>
                  <a:lnTo>
                    <a:pt x="2" y="1311"/>
                  </a:lnTo>
                  <a:lnTo>
                    <a:pt x="4" y="1313"/>
                  </a:lnTo>
                  <a:lnTo>
                    <a:pt x="8" y="1316"/>
                  </a:lnTo>
                  <a:lnTo>
                    <a:pt x="13" y="1318"/>
                  </a:lnTo>
                  <a:lnTo>
                    <a:pt x="18" y="1317"/>
                  </a:lnTo>
                  <a:lnTo>
                    <a:pt x="23" y="1314"/>
                  </a:lnTo>
                  <a:lnTo>
                    <a:pt x="26" y="1311"/>
                  </a:lnTo>
                  <a:lnTo>
                    <a:pt x="28" y="1305"/>
                  </a:lnTo>
                  <a:lnTo>
                    <a:pt x="14" y="129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724200" y="3705480"/>
              <a:ext cx="128520" cy="9360"/>
            </a:xfrm>
            <a:custGeom>
              <a:avLst/>
              <a:gdLst/>
              <a:ahLst/>
              <a:rect l="l" t="t" r="r" b="b"/>
              <a:pathLst>
                <a:path w="343" h="28">
                  <a:moveTo>
                    <a:pt x="319" y="5"/>
                  </a:moveTo>
                  <a:lnTo>
                    <a:pt x="330" y="0"/>
                  </a:lnTo>
                  <a:lnTo>
                    <a:pt x="289" y="0"/>
                  </a:lnTo>
                  <a:lnTo>
                    <a:pt x="250" y="0"/>
                  </a:lnTo>
                  <a:lnTo>
                    <a:pt x="209" y="0"/>
                  </a:lnTo>
                  <a:lnTo>
                    <a:pt x="167" y="0"/>
                  </a:lnTo>
                  <a:lnTo>
                    <a:pt x="127" y="0"/>
                  </a:lnTo>
                  <a:lnTo>
                    <a:pt x="8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85" y="28"/>
                  </a:lnTo>
                  <a:lnTo>
                    <a:pt x="127" y="28"/>
                  </a:lnTo>
                  <a:lnTo>
                    <a:pt x="167" y="28"/>
                  </a:lnTo>
                  <a:lnTo>
                    <a:pt x="209" y="28"/>
                  </a:lnTo>
                  <a:lnTo>
                    <a:pt x="250" y="28"/>
                  </a:lnTo>
                  <a:lnTo>
                    <a:pt x="289" y="28"/>
                  </a:lnTo>
                  <a:lnTo>
                    <a:pt x="330" y="28"/>
                  </a:lnTo>
                  <a:lnTo>
                    <a:pt x="341" y="22"/>
                  </a:lnTo>
                  <a:lnTo>
                    <a:pt x="330" y="28"/>
                  </a:lnTo>
                  <a:lnTo>
                    <a:pt x="333" y="27"/>
                  </a:lnTo>
                  <a:lnTo>
                    <a:pt x="336" y="27"/>
                  </a:lnTo>
                  <a:lnTo>
                    <a:pt x="338" y="26"/>
                  </a:lnTo>
                  <a:lnTo>
                    <a:pt x="341" y="23"/>
                  </a:lnTo>
                  <a:lnTo>
                    <a:pt x="343" y="18"/>
                  </a:lnTo>
                  <a:lnTo>
                    <a:pt x="343" y="13"/>
                  </a:lnTo>
                  <a:lnTo>
                    <a:pt x="343" y="8"/>
                  </a:lnTo>
                  <a:lnTo>
                    <a:pt x="341" y="5"/>
                  </a:lnTo>
                  <a:lnTo>
                    <a:pt x="338" y="2"/>
                  </a:lnTo>
                  <a:lnTo>
                    <a:pt x="336" y="1"/>
                  </a:lnTo>
                  <a:lnTo>
                    <a:pt x="333" y="0"/>
                  </a:lnTo>
                  <a:lnTo>
                    <a:pt x="330" y="0"/>
                  </a:lnTo>
                  <a:lnTo>
                    <a:pt x="3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45520" y="3264120"/>
              <a:ext cx="122400" cy="448560"/>
            </a:xfrm>
            <a:custGeom>
              <a:avLst/>
              <a:gdLst/>
              <a:ahLst/>
              <a:rect l="l" t="t" r="r" b="b"/>
              <a:pathLst>
                <a:path w="329" h="1183">
                  <a:moveTo>
                    <a:pt x="328" y="11"/>
                  </a:moveTo>
                  <a:lnTo>
                    <a:pt x="305" y="5"/>
                  </a:lnTo>
                  <a:lnTo>
                    <a:pt x="289" y="22"/>
                  </a:lnTo>
                  <a:lnTo>
                    <a:pt x="273" y="39"/>
                  </a:lnTo>
                  <a:lnTo>
                    <a:pt x="258" y="56"/>
                  </a:lnTo>
                  <a:lnTo>
                    <a:pt x="243" y="75"/>
                  </a:lnTo>
                  <a:lnTo>
                    <a:pt x="230" y="92"/>
                  </a:lnTo>
                  <a:lnTo>
                    <a:pt x="217" y="110"/>
                  </a:lnTo>
                  <a:lnTo>
                    <a:pt x="206" y="129"/>
                  </a:lnTo>
                  <a:lnTo>
                    <a:pt x="196" y="147"/>
                  </a:lnTo>
                  <a:lnTo>
                    <a:pt x="187" y="166"/>
                  </a:lnTo>
                  <a:lnTo>
                    <a:pt x="177" y="184"/>
                  </a:lnTo>
                  <a:lnTo>
                    <a:pt x="168" y="203"/>
                  </a:lnTo>
                  <a:lnTo>
                    <a:pt x="161" y="221"/>
                  </a:lnTo>
                  <a:lnTo>
                    <a:pt x="147" y="258"/>
                  </a:lnTo>
                  <a:lnTo>
                    <a:pt x="137" y="296"/>
                  </a:lnTo>
                  <a:lnTo>
                    <a:pt x="129" y="334"/>
                  </a:lnTo>
                  <a:lnTo>
                    <a:pt x="121" y="372"/>
                  </a:lnTo>
                  <a:lnTo>
                    <a:pt x="118" y="411"/>
                  </a:lnTo>
                  <a:lnTo>
                    <a:pt x="114" y="449"/>
                  </a:lnTo>
                  <a:lnTo>
                    <a:pt x="111" y="487"/>
                  </a:lnTo>
                  <a:lnTo>
                    <a:pt x="110" y="525"/>
                  </a:lnTo>
                  <a:lnTo>
                    <a:pt x="110" y="563"/>
                  </a:lnTo>
                  <a:lnTo>
                    <a:pt x="110" y="601"/>
                  </a:lnTo>
                  <a:lnTo>
                    <a:pt x="111" y="677"/>
                  </a:lnTo>
                  <a:lnTo>
                    <a:pt x="113" y="753"/>
                  </a:lnTo>
                  <a:lnTo>
                    <a:pt x="111" y="789"/>
                  </a:lnTo>
                  <a:lnTo>
                    <a:pt x="110" y="825"/>
                  </a:lnTo>
                  <a:lnTo>
                    <a:pt x="108" y="862"/>
                  </a:lnTo>
                  <a:lnTo>
                    <a:pt x="104" y="898"/>
                  </a:lnTo>
                  <a:lnTo>
                    <a:pt x="98" y="933"/>
                  </a:lnTo>
                  <a:lnTo>
                    <a:pt x="92" y="968"/>
                  </a:lnTo>
                  <a:lnTo>
                    <a:pt x="82" y="1002"/>
                  </a:lnTo>
                  <a:lnTo>
                    <a:pt x="71" y="1037"/>
                  </a:lnTo>
                  <a:lnTo>
                    <a:pt x="65" y="1053"/>
                  </a:lnTo>
                  <a:lnTo>
                    <a:pt x="57" y="1070"/>
                  </a:lnTo>
                  <a:lnTo>
                    <a:pt x="50" y="1086"/>
                  </a:lnTo>
                  <a:lnTo>
                    <a:pt x="41" y="1103"/>
                  </a:lnTo>
                  <a:lnTo>
                    <a:pt x="32" y="1119"/>
                  </a:lnTo>
                  <a:lnTo>
                    <a:pt x="22" y="1135"/>
                  </a:lnTo>
                  <a:lnTo>
                    <a:pt x="12" y="1151"/>
                  </a:lnTo>
                  <a:lnTo>
                    <a:pt x="0" y="1166"/>
                  </a:lnTo>
                  <a:lnTo>
                    <a:pt x="22" y="1183"/>
                  </a:lnTo>
                  <a:lnTo>
                    <a:pt x="34" y="1167"/>
                  </a:lnTo>
                  <a:lnTo>
                    <a:pt x="45" y="1150"/>
                  </a:lnTo>
                  <a:lnTo>
                    <a:pt x="56" y="1133"/>
                  </a:lnTo>
                  <a:lnTo>
                    <a:pt x="66" y="1115"/>
                  </a:lnTo>
                  <a:lnTo>
                    <a:pt x="75" y="1098"/>
                  </a:lnTo>
                  <a:lnTo>
                    <a:pt x="83" y="1081"/>
                  </a:lnTo>
                  <a:lnTo>
                    <a:pt x="91" y="1064"/>
                  </a:lnTo>
                  <a:lnTo>
                    <a:pt x="97" y="1045"/>
                  </a:lnTo>
                  <a:lnTo>
                    <a:pt x="109" y="1011"/>
                  </a:lnTo>
                  <a:lnTo>
                    <a:pt x="119" y="974"/>
                  </a:lnTo>
                  <a:lnTo>
                    <a:pt x="126" y="938"/>
                  </a:lnTo>
                  <a:lnTo>
                    <a:pt x="131" y="901"/>
                  </a:lnTo>
                  <a:lnTo>
                    <a:pt x="135" y="864"/>
                  </a:lnTo>
                  <a:lnTo>
                    <a:pt x="139" y="828"/>
                  </a:lnTo>
                  <a:lnTo>
                    <a:pt x="140" y="789"/>
                  </a:lnTo>
                  <a:lnTo>
                    <a:pt x="140" y="753"/>
                  </a:lnTo>
                  <a:lnTo>
                    <a:pt x="140" y="676"/>
                  </a:lnTo>
                  <a:lnTo>
                    <a:pt x="139" y="601"/>
                  </a:lnTo>
                  <a:lnTo>
                    <a:pt x="139" y="563"/>
                  </a:lnTo>
                  <a:lnTo>
                    <a:pt x="139" y="526"/>
                  </a:lnTo>
                  <a:lnTo>
                    <a:pt x="140" y="488"/>
                  </a:lnTo>
                  <a:lnTo>
                    <a:pt x="141" y="451"/>
                  </a:lnTo>
                  <a:lnTo>
                    <a:pt x="145" y="413"/>
                  </a:lnTo>
                  <a:lnTo>
                    <a:pt x="150" y="376"/>
                  </a:lnTo>
                  <a:lnTo>
                    <a:pt x="156" y="339"/>
                  </a:lnTo>
                  <a:lnTo>
                    <a:pt x="164" y="304"/>
                  </a:lnTo>
                  <a:lnTo>
                    <a:pt x="174" y="267"/>
                  </a:lnTo>
                  <a:lnTo>
                    <a:pt x="187" y="231"/>
                  </a:lnTo>
                  <a:lnTo>
                    <a:pt x="194" y="214"/>
                  </a:lnTo>
                  <a:lnTo>
                    <a:pt x="202" y="195"/>
                  </a:lnTo>
                  <a:lnTo>
                    <a:pt x="211" y="178"/>
                  </a:lnTo>
                  <a:lnTo>
                    <a:pt x="220" y="161"/>
                  </a:lnTo>
                  <a:lnTo>
                    <a:pt x="231" y="144"/>
                  </a:lnTo>
                  <a:lnTo>
                    <a:pt x="241" y="125"/>
                  </a:lnTo>
                  <a:lnTo>
                    <a:pt x="253" y="108"/>
                  </a:lnTo>
                  <a:lnTo>
                    <a:pt x="265" y="91"/>
                  </a:lnTo>
                  <a:lnTo>
                    <a:pt x="279" y="75"/>
                  </a:lnTo>
                  <a:lnTo>
                    <a:pt x="294" y="58"/>
                  </a:lnTo>
                  <a:lnTo>
                    <a:pt x="308" y="40"/>
                  </a:lnTo>
                  <a:lnTo>
                    <a:pt x="324" y="24"/>
                  </a:lnTo>
                  <a:lnTo>
                    <a:pt x="301" y="17"/>
                  </a:lnTo>
                  <a:lnTo>
                    <a:pt x="324" y="24"/>
                  </a:lnTo>
                  <a:lnTo>
                    <a:pt x="327" y="22"/>
                  </a:lnTo>
                  <a:lnTo>
                    <a:pt x="328" y="18"/>
                  </a:lnTo>
                  <a:lnTo>
                    <a:pt x="329" y="16"/>
                  </a:lnTo>
                  <a:lnTo>
                    <a:pt x="329" y="13"/>
                  </a:lnTo>
                  <a:lnTo>
                    <a:pt x="328" y="8"/>
                  </a:lnTo>
                  <a:lnTo>
                    <a:pt x="324" y="5"/>
                  </a:lnTo>
                  <a:lnTo>
                    <a:pt x="321" y="1"/>
                  </a:lnTo>
                  <a:lnTo>
                    <a:pt x="316" y="0"/>
                  </a:lnTo>
                  <a:lnTo>
                    <a:pt x="311" y="1"/>
                  </a:lnTo>
                  <a:lnTo>
                    <a:pt x="305" y="5"/>
                  </a:lnTo>
                  <a:lnTo>
                    <a:pt x="32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958920" y="3264120"/>
              <a:ext cx="183600" cy="81360"/>
            </a:xfrm>
            <a:custGeom>
              <a:avLst/>
              <a:gdLst/>
              <a:ahLst/>
              <a:rect l="l" t="t" r="r" b="b"/>
              <a:pathLst>
                <a:path w="484" h="214">
                  <a:moveTo>
                    <a:pt x="482" y="5"/>
                  </a:moveTo>
                  <a:lnTo>
                    <a:pt x="460" y="6"/>
                  </a:lnTo>
                  <a:lnTo>
                    <a:pt x="443" y="28"/>
                  </a:lnTo>
                  <a:lnTo>
                    <a:pt x="427" y="49"/>
                  </a:lnTo>
                  <a:lnTo>
                    <a:pt x="409" y="67"/>
                  </a:lnTo>
                  <a:lnTo>
                    <a:pt x="392" y="86"/>
                  </a:lnTo>
                  <a:lnTo>
                    <a:pt x="375" y="102"/>
                  </a:lnTo>
                  <a:lnTo>
                    <a:pt x="358" y="117"/>
                  </a:lnTo>
                  <a:lnTo>
                    <a:pt x="341" y="130"/>
                  </a:lnTo>
                  <a:lnTo>
                    <a:pt x="323" y="141"/>
                  </a:lnTo>
                  <a:lnTo>
                    <a:pt x="306" y="152"/>
                  </a:lnTo>
                  <a:lnTo>
                    <a:pt x="290" y="161"/>
                  </a:lnTo>
                  <a:lnTo>
                    <a:pt x="273" y="168"/>
                  </a:lnTo>
                  <a:lnTo>
                    <a:pt x="257" y="174"/>
                  </a:lnTo>
                  <a:lnTo>
                    <a:pt x="241" y="179"/>
                  </a:lnTo>
                  <a:lnTo>
                    <a:pt x="226" y="183"/>
                  </a:lnTo>
                  <a:lnTo>
                    <a:pt x="210" y="184"/>
                  </a:lnTo>
                  <a:lnTo>
                    <a:pt x="195" y="185"/>
                  </a:lnTo>
                  <a:lnTo>
                    <a:pt x="181" y="184"/>
                  </a:lnTo>
                  <a:lnTo>
                    <a:pt x="167" y="183"/>
                  </a:lnTo>
                  <a:lnTo>
                    <a:pt x="154" y="179"/>
                  </a:lnTo>
                  <a:lnTo>
                    <a:pt x="140" y="174"/>
                  </a:lnTo>
                  <a:lnTo>
                    <a:pt x="128" y="168"/>
                  </a:lnTo>
                  <a:lnTo>
                    <a:pt x="116" y="162"/>
                  </a:lnTo>
                  <a:lnTo>
                    <a:pt x="104" y="152"/>
                  </a:lnTo>
                  <a:lnTo>
                    <a:pt x="93" y="142"/>
                  </a:lnTo>
                  <a:lnTo>
                    <a:pt x="82" y="131"/>
                  </a:lnTo>
                  <a:lnTo>
                    <a:pt x="72" y="119"/>
                  </a:lnTo>
                  <a:lnTo>
                    <a:pt x="63" y="104"/>
                  </a:lnTo>
                  <a:lnTo>
                    <a:pt x="54" y="88"/>
                  </a:lnTo>
                  <a:lnTo>
                    <a:pt x="47" y="71"/>
                  </a:lnTo>
                  <a:lnTo>
                    <a:pt x="39" y="53"/>
                  </a:lnTo>
                  <a:lnTo>
                    <a:pt x="33" y="33"/>
                  </a:lnTo>
                  <a:lnTo>
                    <a:pt x="27" y="11"/>
                  </a:lnTo>
                  <a:lnTo>
                    <a:pt x="0" y="17"/>
                  </a:lnTo>
                  <a:lnTo>
                    <a:pt x="6" y="40"/>
                  </a:lnTo>
                  <a:lnTo>
                    <a:pt x="13" y="61"/>
                  </a:lnTo>
                  <a:lnTo>
                    <a:pt x="21" y="82"/>
                  </a:lnTo>
                  <a:lnTo>
                    <a:pt x="29" y="101"/>
                  </a:lnTo>
                  <a:lnTo>
                    <a:pt x="39" y="119"/>
                  </a:lnTo>
                  <a:lnTo>
                    <a:pt x="50" y="135"/>
                  </a:lnTo>
                  <a:lnTo>
                    <a:pt x="61" y="150"/>
                  </a:lnTo>
                  <a:lnTo>
                    <a:pt x="74" y="162"/>
                  </a:lnTo>
                  <a:lnTo>
                    <a:pt x="87" y="174"/>
                  </a:lnTo>
                  <a:lnTo>
                    <a:pt x="101" y="184"/>
                  </a:lnTo>
                  <a:lnTo>
                    <a:pt x="116" y="193"/>
                  </a:lnTo>
                  <a:lnTo>
                    <a:pt x="130" y="200"/>
                  </a:lnTo>
                  <a:lnTo>
                    <a:pt x="146" y="206"/>
                  </a:lnTo>
                  <a:lnTo>
                    <a:pt x="162" y="210"/>
                  </a:lnTo>
                  <a:lnTo>
                    <a:pt x="178" y="213"/>
                  </a:lnTo>
                  <a:lnTo>
                    <a:pt x="195" y="214"/>
                  </a:lnTo>
                  <a:lnTo>
                    <a:pt x="213" y="213"/>
                  </a:lnTo>
                  <a:lnTo>
                    <a:pt x="230" y="210"/>
                  </a:lnTo>
                  <a:lnTo>
                    <a:pt x="248" y="206"/>
                  </a:lnTo>
                  <a:lnTo>
                    <a:pt x="266" y="201"/>
                  </a:lnTo>
                  <a:lnTo>
                    <a:pt x="284" y="194"/>
                  </a:lnTo>
                  <a:lnTo>
                    <a:pt x="302" y="185"/>
                  </a:lnTo>
                  <a:lnTo>
                    <a:pt x="321" y="176"/>
                  </a:lnTo>
                  <a:lnTo>
                    <a:pt x="339" y="165"/>
                  </a:lnTo>
                  <a:lnTo>
                    <a:pt x="357" y="152"/>
                  </a:lnTo>
                  <a:lnTo>
                    <a:pt x="375" y="138"/>
                  </a:lnTo>
                  <a:lnTo>
                    <a:pt x="393" y="123"/>
                  </a:lnTo>
                  <a:lnTo>
                    <a:pt x="412" y="106"/>
                  </a:lnTo>
                  <a:lnTo>
                    <a:pt x="429" y="87"/>
                  </a:lnTo>
                  <a:lnTo>
                    <a:pt x="448" y="66"/>
                  </a:lnTo>
                  <a:lnTo>
                    <a:pt x="465" y="45"/>
                  </a:lnTo>
                  <a:lnTo>
                    <a:pt x="482" y="22"/>
                  </a:lnTo>
                  <a:lnTo>
                    <a:pt x="461" y="23"/>
                  </a:lnTo>
                  <a:lnTo>
                    <a:pt x="482" y="22"/>
                  </a:lnTo>
                  <a:lnTo>
                    <a:pt x="484" y="17"/>
                  </a:lnTo>
                  <a:lnTo>
                    <a:pt x="484" y="11"/>
                  </a:lnTo>
                  <a:lnTo>
                    <a:pt x="483" y="6"/>
                  </a:lnTo>
                  <a:lnTo>
                    <a:pt x="480" y="2"/>
                  </a:lnTo>
                  <a:lnTo>
                    <a:pt x="475" y="1"/>
                  </a:lnTo>
                  <a:lnTo>
                    <a:pt x="470" y="0"/>
                  </a:lnTo>
                  <a:lnTo>
                    <a:pt x="467" y="1"/>
                  </a:lnTo>
                  <a:lnTo>
                    <a:pt x="465" y="1"/>
                  </a:lnTo>
                  <a:lnTo>
                    <a:pt x="462" y="3"/>
                  </a:lnTo>
                  <a:lnTo>
                    <a:pt x="460" y="6"/>
                  </a:lnTo>
                  <a:lnTo>
                    <a:pt x="482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133160" y="3266280"/>
              <a:ext cx="137880" cy="408600"/>
            </a:xfrm>
            <a:custGeom>
              <a:avLst/>
              <a:gdLst/>
              <a:ahLst/>
              <a:rect l="l" t="t" r="r" b="b"/>
              <a:pathLst>
                <a:path w="363" h="1077">
                  <a:moveTo>
                    <a:pt x="337" y="1055"/>
                  </a:moveTo>
                  <a:lnTo>
                    <a:pt x="363" y="1064"/>
                  </a:lnTo>
                  <a:lnTo>
                    <a:pt x="363" y="997"/>
                  </a:lnTo>
                  <a:lnTo>
                    <a:pt x="362" y="932"/>
                  </a:lnTo>
                  <a:lnTo>
                    <a:pt x="359" y="864"/>
                  </a:lnTo>
                  <a:lnTo>
                    <a:pt x="353" y="798"/>
                  </a:lnTo>
                  <a:lnTo>
                    <a:pt x="349" y="764"/>
                  </a:lnTo>
                  <a:lnTo>
                    <a:pt x="346" y="730"/>
                  </a:lnTo>
                  <a:lnTo>
                    <a:pt x="341" y="696"/>
                  </a:lnTo>
                  <a:lnTo>
                    <a:pt x="336" y="663"/>
                  </a:lnTo>
                  <a:lnTo>
                    <a:pt x="328" y="628"/>
                  </a:lnTo>
                  <a:lnTo>
                    <a:pt x="322" y="594"/>
                  </a:lnTo>
                  <a:lnTo>
                    <a:pt x="314" y="561"/>
                  </a:lnTo>
                  <a:lnTo>
                    <a:pt x="305" y="526"/>
                  </a:lnTo>
                  <a:lnTo>
                    <a:pt x="295" y="493"/>
                  </a:lnTo>
                  <a:lnTo>
                    <a:pt x="285" y="458"/>
                  </a:lnTo>
                  <a:lnTo>
                    <a:pt x="273" y="425"/>
                  </a:lnTo>
                  <a:lnTo>
                    <a:pt x="261" y="391"/>
                  </a:lnTo>
                  <a:lnTo>
                    <a:pt x="247" y="358"/>
                  </a:lnTo>
                  <a:lnTo>
                    <a:pt x="233" y="324"/>
                  </a:lnTo>
                  <a:lnTo>
                    <a:pt x="218" y="291"/>
                  </a:lnTo>
                  <a:lnTo>
                    <a:pt x="201" y="258"/>
                  </a:lnTo>
                  <a:lnTo>
                    <a:pt x="182" y="225"/>
                  </a:lnTo>
                  <a:lnTo>
                    <a:pt x="164" y="192"/>
                  </a:lnTo>
                  <a:lnTo>
                    <a:pt x="143" y="160"/>
                  </a:lnTo>
                  <a:lnTo>
                    <a:pt x="121" y="126"/>
                  </a:lnTo>
                  <a:lnTo>
                    <a:pt x="99" y="94"/>
                  </a:lnTo>
                  <a:lnTo>
                    <a:pt x="74" y="62"/>
                  </a:lnTo>
                  <a:lnTo>
                    <a:pt x="48" y="32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26" y="49"/>
                  </a:lnTo>
                  <a:lnTo>
                    <a:pt x="52" y="80"/>
                  </a:lnTo>
                  <a:lnTo>
                    <a:pt x="75" y="112"/>
                  </a:lnTo>
                  <a:lnTo>
                    <a:pt x="99" y="142"/>
                  </a:lnTo>
                  <a:lnTo>
                    <a:pt x="119" y="174"/>
                  </a:lnTo>
                  <a:lnTo>
                    <a:pt x="139" y="206"/>
                  </a:lnTo>
                  <a:lnTo>
                    <a:pt x="159" y="238"/>
                  </a:lnTo>
                  <a:lnTo>
                    <a:pt x="176" y="270"/>
                  </a:lnTo>
                  <a:lnTo>
                    <a:pt x="192" y="303"/>
                  </a:lnTo>
                  <a:lnTo>
                    <a:pt x="208" y="335"/>
                  </a:lnTo>
                  <a:lnTo>
                    <a:pt x="221" y="369"/>
                  </a:lnTo>
                  <a:lnTo>
                    <a:pt x="235" y="401"/>
                  </a:lnTo>
                  <a:lnTo>
                    <a:pt x="247" y="434"/>
                  </a:lnTo>
                  <a:lnTo>
                    <a:pt x="258" y="467"/>
                  </a:lnTo>
                  <a:lnTo>
                    <a:pt x="269" y="500"/>
                  </a:lnTo>
                  <a:lnTo>
                    <a:pt x="278" y="534"/>
                  </a:lnTo>
                  <a:lnTo>
                    <a:pt x="287" y="567"/>
                  </a:lnTo>
                  <a:lnTo>
                    <a:pt x="295" y="600"/>
                  </a:lnTo>
                  <a:lnTo>
                    <a:pt x="301" y="633"/>
                  </a:lnTo>
                  <a:lnTo>
                    <a:pt x="308" y="666"/>
                  </a:lnTo>
                  <a:lnTo>
                    <a:pt x="314" y="700"/>
                  </a:lnTo>
                  <a:lnTo>
                    <a:pt x="319" y="734"/>
                  </a:lnTo>
                  <a:lnTo>
                    <a:pt x="322" y="767"/>
                  </a:lnTo>
                  <a:lnTo>
                    <a:pt x="326" y="800"/>
                  </a:lnTo>
                  <a:lnTo>
                    <a:pt x="331" y="867"/>
                  </a:lnTo>
                  <a:lnTo>
                    <a:pt x="335" y="932"/>
                  </a:lnTo>
                  <a:lnTo>
                    <a:pt x="336" y="998"/>
                  </a:lnTo>
                  <a:lnTo>
                    <a:pt x="336" y="1062"/>
                  </a:lnTo>
                  <a:lnTo>
                    <a:pt x="360" y="1071"/>
                  </a:lnTo>
                  <a:lnTo>
                    <a:pt x="336" y="1062"/>
                  </a:lnTo>
                  <a:lnTo>
                    <a:pt x="336" y="1066"/>
                  </a:lnTo>
                  <a:lnTo>
                    <a:pt x="336" y="1069"/>
                  </a:lnTo>
                  <a:lnTo>
                    <a:pt x="338" y="1071"/>
                  </a:lnTo>
                  <a:lnTo>
                    <a:pt x="340" y="1073"/>
                  </a:lnTo>
                  <a:lnTo>
                    <a:pt x="344" y="1076"/>
                  </a:lnTo>
                  <a:lnTo>
                    <a:pt x="349" y="1077"/>
                  </a:lnTo>
                  <a:lnTo>
                    <a:pt x="354" y="1076"/>
                  </a:lnTo>
                  <a:lnTo>
                    <a:pt x="358" y="1073"/>
                  </a:lnTo>
                  <a:lnTo>
                    <a:pt x="360" y="1071"/>
                  </a:lnTo>
                  <a:lnTo>
                    <a:pt x="362" y="1070"/>
                  </a:lnTo>
                  <a:lnTo>
                    <a:pt x="363" y="1066"/>
                  </a:lnTo>
                  <a:lnTo>
                    <a:pt x="363" y="1064"/>
                  </a:lnTo>
                  <a:lnTo>
                    <a:pt x="337" y="10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817440" y="4315320"/>
              <a:ext cx="501120" cy="115200"/>
            </a:xfrm>
            <a:custGeom>
              <a:avLst/>
              <a:gdLst/>
              <a:ahLst/>
              <a:rect l="l" t="t" r="r" b="b"/>
              <a:pathLst>
                <a:path w="1328" h="306">
                  <a:moveTo>
                    <a:pt x="348" y="65"/>
                  </a:moveTo>
                  <a:lnTo>
                    <a:pt x="317" y="59"/>
                  </a:lnTo>
                  <a:lnTo>
                    <a:pt x="286" y="56"/>
                  </a:lnTo>
                  <a:lnTo>
                    <a:pt x="258" y="54"/>
                  </a:lnTo>
                  <a:lnTo>
                    <a:pt x="230" y="54"/>
                  </a:lnTo>
                  <a:lnTo>
                    <a:pt x="204" y="58"/>
                  </a:lnTo>
                  <a:lnTo>
                    <a:pt x="178" y="63"/>
                  </a:lnTo>
                  <a:lnTo>
                    <a:pt x="167" y="67"/>
                  </a:lnTo>
                  <a:lnTo>
                    <a:pt x="155" y="70"/>
                  </a:lnTo>
                  <a:lnTo>
                    <a:pt x="143" y="75"/>
                  </a:lnTo>
                  <a:lnTo>
                    <a:pt x="132" y="80"/>
                  </a:lnTo>
                  <a:lnTo>
                    <a:pt x="121" y="86"/>
                  </a:lnTo>
                  <a:lnTo>
                    <a:pt x="111" y="92"/>
                  </a:lnTo>
                  <a:lnTo>
                    <a:pt x="100" y="99"/>
                  </a:lnTo>
                  <a:lnTo>
                    <a:pt x="92" y="106"/>
                  </a:lnTo>
                  <a:lnTo>
                    <a:pt x="82" y="115"/>
                  </a:lnTo>
                  <a:lnTo>
                    <a:pt x="73" y="123"/>
                  </a:lnTo>
                  <a:lnTo>
                    <a:pt x="63" y="132"/>
                  </a:lnTo>
                  <a:lnTo>
                    <a:pt x="56" y="142"/>
                  </a:lnTo>
                  <a:lnTo>
                    <a:pt x="40" y="164"/>
                  </a:lnTo>
                  <a:lnTo>
                    <a:pt x="25" y="187"/>
                  </a:lnTo>
                  <a:lnTo>
                    <a:pt x="12" y="213"/>
                  </a:lnTo>
                  <a:lnTo>
                    <a:pt x="0" y="241"/>
                  </a:lnTo>
                  <a:lnTo>
                    <a:pt x="56" y="244"/>
                  </a:lnTo>
                  <a:lnTo>
                    <a:pt x="114" y="245"/>
                  </a:lnTo>
                  <a:lnTo>
                    <a:pt x="170" y="247"/>
                  </a:lnTo>
                  <a:lnTo>
                    <a:pt x="227" y="250"/>
                  </a:lnTo>
                  <a:lnTo>
                    <a:pt x="285" y="254"/>
                  </a:lnTo>
                  <a:lnTo>
                    <a:pt x="343" y="256"/>
                  </a:lnTo>
                  <a:lnTo>
                    <a:pt x="399" y="258"/>
                  </a:lnTo>
                  <a:lnTo>
                    <a:pt x="457" y="262"/>
                  </a:lnTo>
                  <a:lnTo>
                    <a:pt x="471" y="249"/>
                  </a:lnTo>
                  <a:lnTo>
                    <a:pt x="485" y="235"/>
                  </a:lnTo>
                  <a:lnTo>
                    <a:pt x="499" y="220"/>
                  </a:lnTo>
                  <a:lnTo>
                    <a:pt x="512" y="207"/>
                  </a:lnTo>
                  <a:lnTo>
                    <a:pt x="526" y="193"/>
                  </a:lnTo>
                  <a:lnTo>
                    <a:pt x="539" y="180"/>
                  </a:lnTo>
                  <a:lnTo>
                    <a:pt x="553" y="166"/>
                  </a:lnTo>
                  <a:lnTo>
                    <a:pt x="567" y="153"/>
                  </a:lnTo>
                  <a:lnTo>
                    <a:pt x="569" y="161"/>
                  </a:lnTo>
                  <a:lnTo>
                    <a:pt x="573" y="170"/>
                  </a:lnTo>
                  <a:lnTo>
                    <a:pt x="578" y="179"/>
                  </a:lnTo>
                  <a:lnTo>
                    <a:pt x="583" y="186"/>
                  </a:lnTo>
                  <a:lnTo>
                    <a:pt x="595" y="202"/>
                  </a:lnTo>
                  <a:lnTo>
                    <a:pt x="608" y="217"/>
                  </a:lnTo>
                  <a:lnTo>
                    <a:pt x="623" y="233"/>
                  </a:lnTo>
                  <a:lnTo>
                    <a:pt x="635" y="249"/>
                  </a:lnTo>
                  <a:lnTo>
                    <a:pt x="642" y="257"/>
                  </a:lnTo>
                  <a:lnTo>
                    <a:pt x="646" y="267"/>
                  </a:lnTo>
                  <a:lnTo>
                    <a:pt x="651" y="276"/>
                  </a:lnTo>
                  <a:lnTo>
                    <a:pt x="655" y="286"/>
                  </a:lnTo>
                  <a:lnTo>
                    <a:pt x="733" y="287"/>
                  </a:lnTo>
                  <a:lnTo>
                    <a:pt x="816" y="289"/>
                  </a:lnTo>
                  <a:lnTo>
                    <a:pt x="902" y="292"/>
                  </a:lnTo>
                  <a:lnTo>
                    <a:pt x="991" y="297"/>
                  </a:lnTo>
                  <a:lnTo>
                    <a:pt x="1078" y="300"/>
                  </a:lnTo>
                  <a:lnTo>
                    <a:pt x="1164" y="303"/>
                  </a:lnTo>
                  <a:lnTo>
                    <a:pt x="1248" y="305"/>
                  </a:lnTo>
                  <a:lnTo>
                    <a:pt x="1328" y="306"/>
                  </a:lnTo>
                  <a:lnTo>
                    <a:pt x="1281" y="265"/>
                  </a:lnTo>
                  <a:lnTo>
                    <a:pt x="1232" y="222"/>
                  </a:lnTo>
                  <a:lnTo>
                    <a:pt x="1207" y="199"/>
                  </a:lnTo>
                  <a:lnTo>
                    <a:pt x="1181" y="177"/>
                  </a:lnTo>
                  <a:lnTo>
                    <a:pt x="1156" y="155"/>
                  </a:lnTo>
                  <a:lnTo>
                    <a:pt x="1127" y="134"/>
                  </a:lnTo>
                  <a:lnTo>
                    <a:pt x="1099" y="113"/>
                  </a:lnTo>
                  <a:lnTo>
                    <a:pt x="1068" y="94"/>
                  </a:lnTo>
                  <a:lnTo>
                    <a:pt x="1038" y="74"/>
                  </a:lnTo>
                  <a:lnTo>
                    <a:pt x="1003" y="57"/>
                  </a:lnTo>
                  <a:lnTo>
                    <a:pt x="969" y="40"/>
                  </a:lnTo>
                  <a:lnTo>
                    <a:pt x="931" y="25"/>
                  </a:lnTo>
                  <a:lnTo>
                    <a:pt x="891" y="11"/>
                  </a:lnTo>
                  <a:lnTo>
                    <a:pt x="849" y="0"/>
                  </a:lnTo>
                  <a:lnTo>
                    <a:pt x="787" y="9"/>
                  </a:lnTo>
                  <a:lnTo>
                    <a:pt x="723" y="17"/>
                  </a:lnTo>
                  <a:lnTo>
                    <a:pt x="660" y="25"/>
                  </a:lnTo>
                  <a:lnTo>
                    <a:pt x="599" y="33"/>
                  </a:lnTo>
                  <a:lnTo>
                    <a:pt x="536" y="42"/>
                  </a:lnTo>
                  <a:lnTo>
                    <a:pt x="473" y="49"/>
                  </a:lnTo>
                  <a:lnTo>
                    <a:pt x="410" y="57"/>
                  </a:lnTo>
                  <a:lnTo>
                    <a:pt x="348" y="65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811320" y="4330440"/>
              <a:ext cx="137880" cy="81360"/>
            </a:xfrm>
            <a:custGeom>
              <a:avLst/>
              <a:gdLst/>
              <a:ahLst/>
              <a:rect l="l" t="t" r="r" b="b"/>
              <a:pathLst>
                <a:path w="365" h="216">
                  <a:moveTo>
                    <a:pt x="15" y="188"/>
                  </a:moveTo>
                  <a:lnTo>
                    <a:pt x="27" y="206"/>
                  </a:lnTo>
                  <a:lnTo>
                    <a:pt x="38" y="179"/>
                  </a:lnTo>
                  <a:lnTo>
                    <a:pt x="52" y="155"/>
                  </a:lnTo>
                  <a:lnTo>
                    <a:pt x="65" y="131"/>
                  </a:lnTo>
                  <a:lnTo>
                    <a:pt x="80" y="110"/>
                  </a:lnTo>
                  <a:lnTo>
                    <a:pt x="89" y="102"/>
                  </a:lnTo>
                  <a:lnTo>
                    <a:pt x="96" y="93"/>
                  </a:lnTo>
                  <a:lnTo>
                    <a:pt x="105" y="84"/>
                  </a:lnTo>
                  <a:lnTo>
                    <a:pt x="114" y="77"/>
                  </a:lnTo>
                  <a:lnTo>
                    <a:pt x="123" y="71"/>
                  </a:lnTo>
                  <a:lnTo>
                    <a:pt x="133" y="64"/>
                  </a:lnTo>
                  <a:lnTo>
                    <a:pt x="143" y="59"/>
                  </a:lnTo>
                  <a:lnTo>
                    <a:pt x="153" y="52"/>
                  </a:lnTo>
                  <a:lnTo>
                    <a:pt x="162" y="48"/>
                  </a:lnTo>
                  <a:lnTo>
                    <a:pt x="173" y="44"/>
                  </a:lnTo>
                  <a:lnTo>
                    <a:pt x="184" y="40"/>
                  </a:lnTo>
                  <a:lnTo>
                    <a:pt x="196" y="36"/>
                  </a:lnTo>
                  <a:lnTo>
                    <a:pt x="219" y="32"/>
                  </a:lnTo>
                  <a:lnTo>
                    <a:pt x="245" y="29"/>
                  </a:lnTo>
                  <a:lnTo>
                    <a:pt x="271" y="28"/>
                  </a:lnTo>
                  <a:lnTo>
                    <a:pt x="299" y="29"/>
                  </a:lnTo>
                  <a:lnTo>
                    <a:pt x="328" y="33"/>
                  </a:lnTo>
                  <a:lnTo>
                    <a:pt x="359" y="39"/>
                  </a:lnTo>
                  <a:lnTo>
                    <a:pt x="365" y="12"/>
                  </a:lnTo>
                  <a:lnTo>
                    <a:pt x="332" y="6"/>
                  </a:lnTo>
                  <a:lnTo>
                    <a:pt x="301" y="2"/>
                  </a:lnTo>
                  <a:lnTo>
                    <a:pt x="272" y="0"/>
                  </a:lnTo>
                  <a:lnTo>
                    <a:pt x="242" y="1"/>
                  </a:lnTo>
                  <a:lnTo>
                    <a:pt x="215" y="4"/>
                  </a:lnTo>
                  <a:lnTo>
                    <a:pt x="189" y="9"/>
                  </a:lnTo>
                  <a:lnTo>
                    <a:pt x="176" y="13"/>
                  </a:lnTo>
                  <a:lnTo>
                    <a:pt x="164" y="18"/>
                  </a:lnTo>
                  <a:lnTo>
                    <a:pt x="151" y="23"/>
                  </a:lnTo>
                  <a:lnTo>
                    <a:pt x="140" y="28"/>
                  </a:lnTo>
                  <a:lnTo>
                    <a:pt x="129" y="34"/>
                  </a:lnTo>
                  <a:lnTo>
                    <a:pt x="118" y="40"/>
                  </a:lnTo>
                  <a:lnTo>
                    <a:pt x="107" y="48"/>
                  </a:lnTo>
                  <a:lnTo>
                    <a:pt x="96" y="56"/>
                  </a:lnTo>
                  <a:lnTo>
                    <a:pt x="86" y="65"/>
                  </a:lnTo>
                  <a:lnTo>
                    <a:pt x="77" y="73"/>
                  </a:lnTo>
                  <a:lnTo>
                    <a:pt x="68" y="83"/>
                  </a:lnTo>
                  <a:lnTo>
                    <a:pt x="59" y="93"/>
                  </a:lnTo>
                  <a:lnTo>
                    <a:pt x="42" y="115"/>
                  </a:lnTo>
                  <a:lnTo>
                    <a:pt x="27" y="140"/>
                  </a:lnTo>
                  <a:lnTo>
                    <a:pt x="14" y="167"/>
                  </a:lnTo>
                  <a:lnTo>
                    <a:pt x="1" y="196"/>
                  </a:lnTo>
                  <a:lnTo>
                    <a:pt x="14" y="216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5"/>
                  </a:lnTo>
                  <a:lnTo>
                    <a:pt x="1" y="207"/>
                  </a:lnTo>
                  <a:lnTo>
                    <a:pt x="5" y="212"/>
                  </a:lnTo>
                  <a:lnTo>
                    <a:pt x="9" y="215"/>
                  </a:lnTo>
                  <a:lnTo>
                    <a:pt x="14" y="216"/>
                  </a:lnTo>
                  <a:lnTo>
                    <a:pt x="20" y="215"/>
                  </a:lnTo>
                  <a:lnTo>
                    <a:pt x="21" y="214"/>
                  </a:lnTo>
                  <a:lnTo>
                    <a:pt x="23" y="212"/>
                  </a:lnTo>
                  <a:lnTo>
                    <a:pt x="26" y="210"/>
                  </a:lnTo>
                  <a:lnTo>
                    <a:pt x="27" y="206"/>
                  </a:lnTo>
                  <a:lnTo>
                    <a:pt x="15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817440" y="4400280"/>
              <a:ext cx="177480" cy="18720"/>
            </a:xfrm>
            <a:custGeom>
              <a:avLst/>
              <a:gdLst/>
              <a:ahLst/>
              <a:rect l="l" t="t" r="r" b="b"/>
              <a:pathLst>
                <a:path w="471" h="48">
                  <a:moveTo>
                    <a:pt x="447" y="24"/>
                  </a:moveTo>
                  <a:lnTo>
                    <a:pt x="458" y="21"/>
                  </a:lnTo>
                  <a:lnTo>
                    <a:pt x="400" y="17"/>
                  </a:lnTo>
                  <a:lnTo>
                    <a:pt x="343" y="14"/>
                  </a:lnTo>
                  <a:lnTo>
                    <a:pt x="286" y="11"/>
                  </a:lnTo>
                  <a:lnTo>
                    <a:pt x="228" y="8"/>
                  </a:lnTo>
                  <a:lnTo>
                    <a:pt x="170" y="6"/>
                  </a:lnTo>
                  <a:lnTo>
                    <a:pt x="114" y="3"/>
                  </a:lnTo>
                  <a:lnTo>
                    <a:pt x="57" y="1"/>
                  </a:lnTo>
                  <a:lnTo>
                    <a:pt x="1" y="0"/>
                  </a:lnTo>
                  <a:lnTo>
                    <a:pt x="0" y="28"/>
                  </a:lnTo>
                  <a:lnTo>
                    <a:pt x="56" y="29"/>
                  </a:lnTo>
                  <a:lnTo>
                    <a:pt x="113" y="32"/>
                  </a:lnTo>
                  <a:lnTo>
                    <a:pt x="170" y="34"/>
                  </a:lnTo>
                  <a:lnTo>
                    <a:pt x="227" y="37"/>
                  </a:lnTo>
                  <a:lnTo>
                    <a:pt x="285" y="39"/>
                  </a:lnTo>
                  <a:lnTo>
                    <a:pt x="341" y="42"/>
                  </a:lnTo>
                  <a:lnTo>
                    <a:pt x="399" y="45"/>
                  </a:lnTo>
                  <a:lnTo>
                    <a:pt x="456" y="48"/>
                  </a:lnTo>
                  <a:lnTo>
                    <a:pt x="467" y="44"/>
                  </a:lnTo>
                  <a:lnTo>
                    <a:pt x="456" y="48"/>
                  </a:lnTo>
                  <a:lnTo>
                    <a:pt x="460" y="48"/>
                  </a:lnTo>
                  <a:lnTo>
                    <a:pt x="462" y="48"/>
                  </a:lnTo>
                  <a:lnTo>
                    <a:pt x="464" y="46"/>
                  </a:lnTo>
                  <a:lnTo>
                    <a:pt x="467" y="44"/>
                  </a:lnTo>
                  <a:lnTo>
                    <a:pt x="469" y="40"/>
                  </a:lnTo>
                  <a:lnTo>
                    <a:pt x="471" y="35"/>
                  </a:lnTo>
                  <a:lnTo>
                    <a:pt x="471" y="30"/>
                  </a:lnTo>
                  <a:lnTo>
                    <a:pt x="468" y="26"/>
                  </a:lnTo>
                  <a:lnTo>
                    <a:pt x="464" y="22"/>
                  </a:lnTo>
                  <a:lnTo>
                    <a:pt x="458" y="21"/>
                  </a:lnTo>
                  <a:lnTo>
                    <a:pt x="44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85560" y="4368240"/>
              <a:ext cx="50760" cy="49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3" y="11"/>
                  </a:moveTo>
                  <a:lnTo>
                    <a:pt x="110" y="4"/>
                  </a:lnTo>
                  <a:lnTo>
                    <a:pt x="96" y="17"/>
                  </a:lnTo>
                  <a:lnTo>
                    <a:pt x="83" y="31"/>
                  </a:lnTo>
                  <a:lnTo>
                    <a:pt x="69" y="44"/>
                  </a:lnTo>
                  <a:lnTo>
                    <a:pt x="56" y="58"/>
                  </a:lnTo>
                  <a:lnTo>
                    <a:pt x="42" y="72"/>
                  </a:lnTo>
                  <a:lnTo>
                    <a:pt x="29" y="86"/>
                  </a:lnTo>
                  <a:lnTo>
                    <a:pt x="14" y="100"/>
                  </a:lnTo>
                  <a:lnTo>
                    <a:pt x="0" y="113"/>
                  </a:lnTo>
                  <a:lnTo>
                    <a:pt x="20" y="133"/>
                  </a:lnTo>
                  <a:lnTo>
                    <a:pt x="33" y="119"/>
                  </a:lnTo>
                  <a:lnTo>
                    <a:pt x="48" y="106"/>
                  </a:lnTo>
                  <a:lnTo>
                    <a:pt x="62" y="91"/>
                  </a:lnTo>
                  <a:lnTo>
                    <a:pt x="75" y="78"/>
                  </a:lnTo>
                  <a:lnTo>
                    <a:pt x="89" y="64"/>
                  </a:lnTo>
                  <a:lnTo>
                    <a:pt x="102" y="51"/>
                  </a:lnTo>
                  <a:lnTo>
                    <a:pt x="116" y="37"/>
                  </a:lnTo>
                  <a:lnTo>
                    <a:pt x="129" y="24"/>
                  </a:lnTo>
                  <a:lnTo>
                    <a:pt x="106" y="17"/>
                  </a:lnTo>
                  <a:lnTo>
                    <a:pt x="129" y="24"/>
                  </a:lnTo>
                  <a:lnTo>
                    <a:pt x="132" y="21"/>
                  </a:lnTo>
                  <a:lnTo>
                    <a:pt x="133" y="19"/>
                  </a:lnTo>
                  <a:lnTo>
                    <a:pt x="133" y="16"/>
                  </a:lnTo>
                  <a:lnTo>
                    <a:pt x="133" y="14"/>
                  </a:lnTo>
                  <a:lnTo>
                    <a:pt x="132" y="9"/>
                  </a:lnTo>
                  <a:lnTo>
                    <a:pt x="129" y="4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2" y="3"/>
                  </a:lnTo>
                  <a:lnTo>
                    <a:pt x="110" y="4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4025520" y="4372200"/>
              <a:ext cx="43200" cy="56520"/>
            </a:xfrm>
            <a:custGeom>
              <a:avLst/>
              <a:gdLst/>
              <a:ahLst/>
              <a:rect l="l" t="t" r="r" b="b"/>
              <a:pathLst>
                <a:path w="116" h="149">
                  <a:moveTo>
                    <a:pt x="102" y="122"/>
                  </a:moveTo>
                  <a:lnTo>
                    <a:pt x="114" y="132"/>
                  </a:lnTo>
                  <a:lnTo>
                    <a:pt x="111" y="121"/>
                  </a:lnTo>
                  <a:lnTo>
                    <a:pt x="106" y="110"/>
                  </a:lnTo>
                  <a:lnTo>
                    <a:pt x="100" y="100"/>
                  </a:lnTo>
                  <a:lnTo>
                    <a:pt x="93" y="91"/>
                  </a:lnTo>
                  <a:lnTo>
                    <a:pt x="80" y="74"/>
                  </a:lnTo>
                  <a:lnTo>
                    <a:pt x="66" y="58"/>
                  </a:lnTo>
                  <a:lnTo>
                    <a:pt x="53" y="42"/>
                  </a:lnTo>
                  <a:lnTo>
                    <a:pt x="41" y="27"/>
                  </a:lnTo>
                  <a:lnTo>
                    <a:pt x="36" y="21"/>
                  </a:lnTo>
                  <a:lnTo>
                    <a:pt x="32" y="14"/>
                  </a:lnTo>
                  <a:lnTo>
                    <a:pt x="30" y="6"/>
                  </a:lnTo>
                  <a:lnTo>
                    <a:pt x="27" y="0"/>
                  </a:lnTo>
                  <a:lnTo>
                    <a:pt x="0" y="6"/>
                  </a:lnTo>
                  <a:lnTo>
                    <a:pt x="2" y="16"/>
                  </a:lnTo>
                  <a:lnTo>
                    <a:pt x="7" y="26"/>
                  </a:lnTo>
                  <a:lnTo>
                    <a:pt x="12" y="36"/>
                  </a:lnTo>
                  <a:lnTo>
                    <a:pt x="18" y="45"/>
                  </a:lnTo>
                  <a:lnTo>
                    <a:pt x="32" y="61"/>
                  </a:lnTo>
                  <a:lnTo>
                    <a:pt x="46" y="77"/>
                  </a:lnTo>
                  <a:lnTo>
                    <a:pt x="59" y="91"/>
                  </a:lnTo>
                  <a:lnTo>
                    <a:pt x="71" y="107"/>
                  </a:lnTo>
                  <a:lnTo>
                    <a:pt x="76" y="115"/>
                  </a:lnTo>
                  <a:lnTo>
                    <a:pt x="81" y="123"/>
                  </a:lnTo>
                  <a:lnTo>
                    <a:pt x="85" y="131"/>
                  </a:lnTo>
                  <a:lnTo>
                    <a:pt x="89" y="139"/>
                  </a:lnTo>
                  <a:lnTo>
                    <a:pt x="102" y="149"/>
                  </a:lnTo>
                  <a:lnTo>
                    <a:pt x="89" y="139"/>
                  </a:lnTo>
                  <a:lnTo>
                    <a:pt x="90" y="143"/>
                  </a:lnTo>
                  <a:lnTo>
                    <a:pt x="91" y="145"/>
                  </a:lnTo>
                  <a:lnTo>
                    <a:pt x="93" y="147"/>
                  </a:lnTo>
                  <a:lnTo>
                    <a:pt x="96" y="148"/>
                  </a:lnTo>
                  <a:lnTo>
                    <a:pt x="101" y="149"/>
                  </a:lnTo>
                  <a:lnTo>
                    <a:pt x="106" y="149"/>
                  </a:lnTo>
                  <a:lnTo>
                    <a:pt x="111" y="147"/>
                  </a:lnTo>
                  <a:lnTo>
                    <a:pt x="113" y="143"/>
                  </a:lnTo>
                  <a:lnTo>
                    <a:pt x="116" y="138"/>
                  </a:lnTo>
                  <a:lnTo>
                    <a:pt x="114" y="132"/>
                  </a:lnTo>
                  <a:lnTo>
                    <a:pt x="102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4064760" y="4417560"/>
              <a:ext cx="258840" cy="18720"/>
            </a:xfrm>
            <a:custGeom>
              <a:avLst/>
              <a:gdLst/>
              <a:ahLst/>
              <a:rect l="l" t="t" r="r" b="b"/>
              <a:pathLst>
                <a:path w="686" h="48">
                  <a:moveTo>
                    <a:pt x="664" y="46"/>
                  </a:moveTo>
                  <a:lnTo>
                    <a:pt x="673" y="21"/>
                  </a:lnTo>
                  <a:lnTo>
                    <a:pt x="594" y="20"/>
                  </a:lnTo>
                  <a:lnTo>
                    <a:pt x="510" y="17"/>
                  </a:lnTo>
                  <a:lnTo>
                    <a:pt x="423" y="14"/>
                  </a:lnTo>
                  <a:lnTo>
                    <a:pt x="336" y="10"/>
                  </a:lnTo>
                  <a:lnTo>
                    <a:pt x="249" y="6"/>
                  </a:lnTo>
                  <a:lnTo>
                    <a:pt x="161" y="2"/>
                  </a:lnTo>
                  <a:lnTo>
                    <a:pt x="79" y="1"/>
                  </a:lnTo>
                  <a:lnTo>
                    <a:pt x="0" y="0"/>
                  </a:lnTo>
                  <a:lnTo>
                    <a:pt x="0" y="27"/>
                  </a:lnTo>
                  <a:lnTo>
                    <a:pt x="78" y="28"/>
                  </a:lnTo>
                  <a:lnTo>
                    <a:pt x="161" y="31"/>
                  </a:lnTo>
                  <a:lnTo>
                    <a:pt x="247" y="34"/>
                  </a:lnTo>
                  <a:lnTo>
                    <a:pt x="335" y="38"/>
                  </a:lnTo>
                  <a:lnTo>
                    <a:pt x="423" y="42"/>
                  </a:lnTo>
                  <a:lnTo>
                    <a:pt x="509" y="46"/>
                  </a:lnTo>
                  <a:lnTo>
                    <a:pt x="593" y="48"/>
                  </a:lnTo>
                  <a:lnTo>
                    <a:pt x="673" y="48"/>
                  </a:lnTo>
                  <a:lnTo>
                    <a:pt x="681" y="23"/>
                  </a:lnTo>
                  <a:lnTo>
                    <a:pt x="673" y="48"/>
                  </a:lnTo>
                  <a:lnTo>
                    <a:pt x="677" y="48"/>
                  </a:lnTo>
                  <a:lnTo>
                    <a:pt x="679" y="47"/>
                  </a:lnTo>
                  <a:lnTo>
                    <a:pt x="681" y="46"/>
                  </a:lnTo>
                  <a:lnTo>
                    <a:pt x="683" y="44"/>
                  </a:lnTo>
                  <a:lnTo>
                    <a:pt x="686" y="39"/>
                  </a:lnTo>
                  <a:lnTo>
                    <a:pt x="686" y="34"/>
                  </a:lnTo>
                  <a:lnTo>
                    <a:pt x="686" y="30"/>
                  </a:lnTo>
                  <a:lnTo>
                    <a:pt x="683" y="25"/>
                  </a:lnTo>
                  <a:lnTo>
                    <a:pt x="681" y="23"/>
                  </a:lnTo>
                  <a:lnTo>
                    <a:pt x="679" y="22"/>
                  </a:lnTo>
                  <a:lnTo>
                    <a:pt x="677" y="21"/>
                  </a:lnTo>
                  <a:lnTo>
                    <a:pt x="673" y="21"/>
                  </a:lnTo>
                  <a:lnTo>
                    <a:pt x="664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4133160" y="4309920"/>
              <a:ext cx="189000" cy="124920"/>
            </a:xfrm>
            <a:custGeom>
              <a:avLst/>
              <a:gdLst/>
              <a:ahLst/>
              <a:rect l="l" t="t" r="r" b="b"/>
              <a:pathLst>
                <a:path w="500" h="331">
                  <a:moveTo>
                    <a:pt x="16" y="27"/>
                  </a:moveTo>
                  <a:lnTo>
                    <a:pt x="10" y="27"/>
                  </a:lnTo>
                  <a:lnTo>
                    <a:pt x="52" y="38"/>
                  </a:lnTo>
                  <a:lnTo>
                    <a:pt x="90" y="51"/>
                  </a:lnTo>
                  <a:lnTo>
                    <a:pt x="127" y="66"/>
                  </a:lnTo>
                  <a:lnTo>
                    <a:pt x="161" y="82"/>
                  </a:lnTo>
                  <a:lnTo>
                    <a:pt x="194" y="99"/>
                  </a:lnTo>
                  <a:lnTo>
                    <a:pt x="225" y="118"/>
                  </a:lnTo>
                  <a:lnTo>
                    <a:pt x="256" y="137"/>
                  </a:lnTo>
                  <a:lnTo>
                    <a:pt x="284" y="158"/>
                  </a:lnTo>
                  <a:lnTo>
                    <a:pt x="311" y="179"/>
                  </a:lnTo>
                  <a:lnTo>
                    <a:pt x="337" y="201"/>
                  </a:lnTo>
                  <a:lnTo>
                    <a:pt x="363" y="222"/>
                  </a:lnTo>
                  <a:lnTo>
                    <a:pt x="387" y="244"/>
                  </a:lnTo>
                  <a:lnTo>
                    <a:pt x="435" y="289"/>
                  </a:lnTo>
                  <a:lnTo>
                    <a:pt x="483" y="331"/>
                  </a:lnTo>
                  <a:lnTo>
                    <a:pt x="500" y="308"/>
                  </a:lnTo>
                  <a:lnTo>
                    <a:pt x="454" y="268"/>
                  </a:lnTo>
                  <a:lnTo>
                    <a:pt x="406" y="224"/>
                  </a:lnTo>
                  <a:lnTo>
                    <a:pt x="381" y="201"/>
                  </a:lnTo>
                  <a:lnTo>
                    <a:pt x="355" y="179"/>
                  </a:lnTo>
                  <a:lnTo>
                    <a:pt x="328" y="157"/>
                  </a:lnTo>
                  <a:lnTo>
                    <a:pt x="300" y="136"/>
                  </a:lnTo>
                  <a:lnTo>
                    <a:pt x="270" y="115"/>
                  </a:lnTo>
                  <a:lnTo>
                    <a:pt x="240" y="94"/>
                  </a:lnTo>
                  <a:lnTo>
                    <a:pt x="208" y="75"/>
                  </a:lnTo>
                  <a:lnTo>
                    <a:pt x="173" y="57"/>
                  </a:lnTo>
                  <a:lnTo>
                    <a:pt x="138" y="40"/>
                  </a:lnTo>
                  <a:lnTo>
                    <a:pt x="100" y="24"/>
                  </a:lnTo>
                  <a:lnTo>
                    <a:pt x="59" y="1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942000" y="4309920"/>
              <a:ext cx="196200" cy="35640"/>
            </a:xfrm>
            <a:custGeom>
              <a:avLst/>
              <a:gdLst/>
              <a:ahLst/>
              <a:rect l="l" t="t" r="r" b="b"/>
              <a:pathLst>
                <a:path w="518" h="92">
                  <a:moveTo>
                    <a:pt x="11" y="92"/>
                  </a:moveTo>
                  <a:lnTo>
                    <a:pt x="16" y="92"/>
                  </a:lnTo>
                  <a:lnTo>
                    <a:pt x="79" y="85"/>
                  </a:lnTo>
                  <a:lnTo>
                    <a:pt x="140" y="76"/>
                  </a:lnTo>
                  <a:lnTo>
                    <a:pt x="203" y="69"/>
                  </a:lnTo>
                  <a:lnTo>
                    <a:pt x="266" y="60"/>
                  </a:lnTo>
                  <a:lnTo>
                    <a:pt x="328" y="53"/>
                  </a:lnTo>
                  <a:lnTo>
                    <a:pt x="391" y="44"/>
                  </a:lnTo>
                  <a:lnTo>
                    <a:pt x="454" y="35"/>
                  </a:lnTo>
                  <a:lnTo>
                    <a:pt x="518" y="27"/>
                  </a:lnTo>
                  <a:lnTo>
                    <a:pt x="514" y="0"/>
                  </a:lnTo>
                  <a:lnTo>
                    <a:pt x="450" y="8"/>
                  </a:lnTo>
                  <a:lnTo>
                    <a:pt x="387" y="17"/>
                  </a:lnTo>
                  <a:lnTo>
                    <a:pt x="325" y="24"/>
                  </a:lnTo>
                  <a:lnTo>
                    <a:pt x="262" y="33"/>
                  </a:lnTo>
                  <a:lnTo>
                    <a:pt x="199" y="40"/>
                  </a:lnTo>
                  <a:lnTo>
                    <a:pt x="138" y="49"/>
                  </a:lnTo>
                  <a:lnTo>
                    <a:pt x="75" y="56"/>
                  </a:lnTo>
                  <a:lnTo>
                    <a:pt x="1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5" y="89"/>
                  </a:lnTo>
                  <a:lnTo>
                    <a:pt x="7" y="91"/>
                  </a:lnTo>
                  <a:lnTo>
                    <a:pt x="10" y="92"/>
                  </a:lnTo>
                  <a:lnTo>
                    <a:pt x="12" y="92"/>
                  </a:lnTo>
                  <a:lnTo>
                    <a:pt x="16" y="92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888080" y="3044880"/>
              <a:ext cx="630000" cy="552600"/>
            </a:xfrm>
            <a:custGeom>
              <a:avLst/>
              <a:gdLst/>
              <a:ahLst/>
              <a:rect l="l" t="t" r="r" b="b"/>
              <a:pathLst>
                <a:path w="1663" h="1461">
                  <a:moveTo>
                    <a:pt x="653" y="0"/>
                  </a:moveTo>
                  <a:lnTo>
                    <a:pt x="590" y="6"/>
                  </a:lnTo>
                  <a:lnTo>
                    <a:pt x="534" y="17"/>
                  </a:lnTo>
                  <a:lnTo>
                    <a:pt x="481" y="31"/>
                  </a:lnTo>
                  <a:lnTo>
                    <a:pt x="432" y="49"/>
                  </a:lnTo>
                  <a:lnTo>
                    <a:pt x="387" y="72"/>
                  </a:lnTo>
                  <a:lnTo>
                    <a:pt x="347" y="96"/>
                  </a:lnTo>
                  <a:lnTo>
                    <a:pt x="310" y="124"/>
                  </a:lnTo>
                  <a:lnTo>
                    <a:pt x="276" y="156"/>
                  </a:lnTo>
                  <a:lnTo>
                    <a:pt x="245" y="191"/>
                  </a:lnTo>
                  <a:lnTo>
                    <a:pt x="218" y="228"/>
                  </a:lnTo>
                  <a:lnTo>
                    <a:pt x="193" y="268"/>
                  </a:lnTo>
                  <a:lnTo>
                    <a:pt x="171" y="310"/>
                  </a:lnTo>
                  <a:lnTo>
                    <a:pt x="153" y="354"/>
                  </a:lnTo>
                  <a:lnTo>
                    <a:pt x="135" y="401"/>
                  </a:lnTo>
                  <a:lnTo>
                    <a:pt x="121" y="449"/>
                  </a:lnTo>
                  <a:lnTo>
                    <a:pt x="107" y="498"/>
                  </a:lnTo>
                  <a:lnTo>
                    <a:pt x="96" y="550"/>
                  </a:lnTo>
                  <a:lnTo>
                    <a:pt x="86" y="603"/>
                  </a:lnTo>
                  <a:lnTo>
                    <a:pt x="78" y="656"/>
                  </a:lnTo>
                  <a:lnTo>
                    <a:pt x="70" y="711"/>
                  </a:lnTo>
                  <a:lnTo>
                    <a:pt x="58" y="822"/>
                  </a:lnTo>
                  <a:lnTo>
                    <a:pt x="48" y="934"/>
                  </a:lnTo>
                  <a:lnTo>
                    <a:pt x="38" y="1047"/>
                  </a:lnTo>
                  <a:lnTo>
                    <a:pt x="28" y="1158"/>
                  </a:lnTo>
                  <a:lnTo>
                    <a:pt x="23" y="1212"/>
                  </a:lnTo>
                  <a:lnTo>
                    <a:pt x="16" y="1265"/>
                  </a:lnTo>
                  <a:lnTo>
                    <a:pt x="9" y="1318"/>
                  </a:lnTo>
                  <a:lnTo>
                    <a:pt x="0" y="1368"/>
                  </a:lnTo>
                  <a:lnTo>
                    <a:pt x="23" y="1368"/>
                  </a:lnTo>
                  <a:lnTo>
                    <a:pt x="57" y="1368"/>
                  </a:lnTo>
                  <a:lnTo>
                    <a:pt x="96" y="1368"/>
                  </a:lnTo>
                  <a:lnTo>
                    <a:pt x="137" y="1368"/>
                  </a:lnTo>
                  <a:lnTo>
                    <a:pt x="178" y="1368"/>
                  </a:lnTo>
                  <a:lnTo>
                    <a:pt x="218" y="1368"/>
                  </a:lnTo>
                  <a:lnTo>
                    <a:pt x="250" y="1368"/>
                  </a:lnTo>
                  <a:lnTo>
                    <a:pt x="274" y="1368"/>
                  </a:lnTo>
                  <a:lnTo>
                    <a:pt x="283" y="1343"/>
                  </a:lnTo>
                  <a:lnTo>
                    <a:pt x="290" y="1320"/>
                  </a:lnTo>
                  <a:lnTo>
                    <a:pt x="296" y="1295"/>
                  </a:lnTo>
                  <a:lnTo>
                    <a:pt x="303" y="1272"/>
                  </a:lnTo>
                  <a:lnTo>
                    <a:pt x="314" y="1223"/>
                  </a:lnTo>
                  <a:lnTo>
                    <a:pt x="324" y="1175"/>
                  </a:lnTo>
                  <a:lnTo>
                    <a:pt x="331" y="1127"/>
                  </a:lnTo>
                  <a:lnTo>
                    <a:pt x="337" y="1078"/>
                  </a:lnTo>
                  <a:lnTo>
                    <a:pt x="342" y="1030"/>
                  </a:lnTo>
                  <a:lnTo>
                    <a:pt x="347" y="982"/>
                  </a:lnTo>
                  <a:lnTo>
                    <a:pt x="352" y="934"/>
                  </a:lnTo>
                  <a:lnTo>
                    <a:pt x="357" y="885"/>
                  </a:lnTo>
                  <a:lnTo>
                    <a:pt x="363" y="837"/>
                  </a:lnTo>
                  <a:lnTo>
                    <a:pt x="369" y="789"/>
                  </a:lnTo>
                  <a:lnTo>
                    <a:pt x="378" y="739"/>
                  </a:lnTo>
                  <a:lnTo>
                    <a:pt x="389" y="691"/>
                  </a:lnTo>
                  <a:lnTo>
                    <a:pt x="394" y="667"/>
                  </a:lnTo>
                  <a:lnTo>
                    <a:pt x="401" y="643"/>
                  </a:lnTo>
                  <a:lnTo>
                    <a:pt x="408" y="619"/>
                  </a:lnTo>
                  <a:lnTo>
                    <a:pt x="416" y="596"/>
                  </a:lnTo>
                  <a:lnTo>
                    <a:pt x="416" y="678"/>
                  </a:lnTo>
                  <a:lnTo>
                    <a:pt x="416" y="760"/>
                  </a:lnTo>
                  <a:lnTo>
                    <a:pt x="416" y="843"/>
                  </a:lnTo>
                  <a:lnTo>
                    <a:pt x="416" y="924"/>
                  </a:lnTo>
                  <a:lnTo>
                    <a:pt x="416" y="1006"/>
                  </a:lnTo>
                  <a:lnTo>
                    <a:pt x="416" y="1089"/>
                  </a:lnTo>
                  <a:lnTo>
                    <a:pt x="416" y="1170"/>
                  </a:lnTo>
                  <a:lnTo>
                    <a:pt x="416" y="1252"/>
                  </a:lnTo>
                  <a:lnTo>
                    <a:pt x="440" y="1273"/>
                  </a:lnTo>
                  <a:lnTo>
                    <a:pt x="464" y="1293"/>
                  </a:lnTo>
                  <a:lnTo>
                    <a:pt x="488" y="1311"/>
                  </a:lnTo>
                  <a:lnTo>
                    <a:pt x="513" y="1330"/>
                  </a:lnTo>
                  <a:lnTo>
                    <a:pt x="538" y="1346"/>
                  </a:lnTo>
                  <a:lnTo>
                    <a:pt x="562" y="1362"/>
                  </a:lnTo>
                  <a:lnTo>
                    <a:pt x="587" y="1375"/>
                  </a:lnTo>
                  <a:lnTo>
                    <a:pt x="610" y="1389"/>
                  </a:lnTo>
                  <a:lnTo>
                    <a:pt x="635" y="1401"/>
                  </a:lnTo>
                  <a:lnTo>
                    <a:pt x="660" y="1412"/>
                  </a:lnTo>
                  <a:lnTo>
                    <a:pt x="685" y="1421"/>
                  </a:lnTo>
                  <a:lnTo>
                    <a:pt x="710" y="1431"/>
                  </a:lnTo>
                  <a:lnTo>
                    <a:pt x="734" y="1438"/>
                  </a:lnTo>
                  <a:lnTo>
                    <a:pt x="759" y="1444"/>
                  </a:lnTo>
                  <a:lnTo>
                    <a:pt x="783" y="1449"/>
                  </a:lnTo>
                  <a:lnTo>
                    <a:pt x="809" y="1454"/>
                  </a:lnTo>
                  <a:lnTo>
                    <a:pt x="834" y="1457"/>
                  </a:lnTo>
                  <a:lnTo>
                    <a:pt x="859" y="1459"/>
                  </a:lnTo>
                  <a:lnTo>
                    <a:pt x="884" y="1460"/>
                  </a:lnTo>
                  <a:lnTo>
                    <a:pt x="909" y="1459"/>
                  </a:lnTo>
                  <a:lnTo>
                    <a:pt x="935" y="1458"/>
                  </a:lnTo>
                  <a:lnTo>
                    <a:pt x="959" y="1455"/>
                  </a:lnTo>
                  <a:lnTo>
                    <a:pt x="985" y="1452"/>
                  </a:lnTo>
                  <a:lnTo>
                    <a:pt x="1010" y="1447"/>
                  </a:lnTo>
                  <a:lnTo>
                    <a:pt x="1036" y="1441"/>
                  </a:lnTo>
                  <a:lnTo>
                    <a:pt x="1061" y="1434"/>
                  </a:lnTo>
                  <a:lnTo>
                    <a:pt x="1086" y="1426"/>
                  </a:lnTo>
                  <a:lnTo>
                    <a:pt x="1112" y="1416"/>
                  </a:lnTo>
                  <a:lnTo>
                    <a:pt x="1138" y="1406"/>
                  </a:lnTo>
                  <a:lnTo>
                    <a:pt x="1164" y="1395"/>
                  </a:lnTo>
                  <a:lnTo>
                    <a:pt x="1188" y="1381"/>
                  </a:lnTo>
                  <a:lnTo>
                    <a:pt x="1214" y="1368"/>
                  </a:lnTo>
                  <a:lnTo>
                    <a:pt x="1214" y="1267"/>
                  </a:lnTo>
                  <a:lnTo>
                    <a:pt x="1214" y="1166"/>
                  </a:lnTo>
                  <a:lnTo>
                    <a:pt x="1214" y="1067"/>
                  </a:lnTo>
                  <a:lnTo>
                    <a:pt x="1214" y="966"/>
                  </a:lnTo>
                  <a:lnTo>
                    <a:pt x="1214" y="866"/>
                  </a:lnTo>
                  <a:lnTo>
                    <a:pt x="1214" y="766"/>
                  </a:lnTo>
                  <a:lnTo>
                    <a:pt x="1214" y="668"/>
                  </a:lnTo>
                  <a:lnTo>
                    <a:pt x="1214" y="570"/>
                  </a:lnTo>
                  <a:lnTo>
                    <a:pt x="1239" y="680"/>
                  </a:lnTo>
                  <a:lnTo>
                    <a:pt x="1264" y="791"/>
                  </a:lnTo>
                  <a:lnTo>
                    <a:pt x="1290" y="902"/>
                  </a:lnTo>
                  <a:lnTo>
                    <a:pt x="1316" y="1012"/>
                  </a:lnTo>
                  <a:lnTo>
                    <a:pt x="1343" y="1124"/>
                  </a:lnTo>
                  <a:lnTo>
                    <a:pt x="1369" y="1236"/>
                  </a:lnTo>
                  <a:lnTo>
                    <a:pt x="1396" y="1348"/>
                  </a:lnTo>
                  <a:lnTo>
                    <a:pt x="1423" y="1461"/>
                  </a:lnTo>
                  <a:lnTo>
                    <a:pt x="1445" y="1459"/>
                  </a:lnTo>
                  <a:lnTo>
                    <a:pt x="1475" y="1455"/>
                  </a:lnTo>
                  <a:lnTo>
                    <a:pt x="1508" y="1448"/>
                  </a:lnTo>
                  <a:lnTo>
                    <a:pt x="1542" y="1442"/>
                  </a:lnTo>
                  <a:lnTo>
                    <a:pt x="1578" y="1434"/>
                  </a:lnTo>
                  <a:lnTo>
                    <a:pt x="1611" y="1428"/>
                  </a:lnTo>
                  <a:lnTo>
                    <a:pt x="1640" y="1423"/>
                  </a:lnTo>
                  <a:lnTo>
                    <a:pt x="1663" y="1421"/>
                  </a:lnTo>
                  <a:lnTo>
                    <a:pt x="1657" y="1377"/>
                  </a:lnTo>
                  <a:lnTo>
                    <a:pt x="1653" y="1330"/>
                  </a:lnTo>
                  <a:lnTo>
                    <a:pt x="1649" y="1282"/>
                  </a:lnTo>
                  <a:lnTo>
                    <a:pt x="1646" y="1233"/>
                  </a:lnTo>
                  <a:lnTo>
                    <a:pt x="1642" y="1132"/>
                  </a:lnTo>
                  <a:lnTo>
                    <a:pt x="1637" y="1027"/>
                  </a:lnTo>
                  <a:lnTo>
                    <a:pt x="1635" y="976"/>
                  </a:lnTo>
                  <a:lnTo>
                    <a:pt x="1632" y="923"/>
                  </a:lnTo>
                  <a:lnTo>
                    <a:pt x="1628" y="870"/>
                  </a:lnTo>
                  <a:lnTo>
                    <a:pt x="1625" y="817"/>
                  </a:lnTo>
                  <a:lnTo>
                    <a:pt x="1619" y="765"/>
                  </a:lnTo>
                  <a:lnTo>
                    <a:pt x="1612" y="712"/>
                  </a:lnTo>
                  <a:lnTo>
                    <a:pt x="1605" y="661"/>
                  </a:lnTo>
                  <a:lnTo>
                    <a:pt x="1595" y="610"/>
                  </a:lnTo>
                  <a:lnTo>
                    <a:pt x="1584" y="560"/>
                  </a:lnTo>
                  <a:lnTo>
                    <a:pt x="1571" y="511"/>
                  </a:lnTo>
                  <a:lnTo>
                    <a:pt x="1555" y="463"/>
                  </a:lnTo>
                  <a:lnTo>
                    <a:pt x="1537" y="416"/>
                  </a:lnTo>
                  <a:lnTo>
                    <a:pt x="1517" y="370"/>
                  </a:lnTo>
                  <a:lnTo>
                    <a:pt x="1493" y="326"/>
                  </a:lnTo>
                  <a:lnTo>
                    <a:pt x="1467" y="283"/>
                  </a:lnTo>
                  <a:lnTo>
                    <a:pt x="1438" y="243"/>
                  </a:lnTo>
                  <a:lnTo>
                    <a:pt x="1405" y="204"/>
                  </a:lnTo>
                  <a:lnTo>
                    <a:pt x="1369" y="167"/>
                  </a:lnTo>
                  <a:lnTo>
                    <a:pt x="1330" y="133"/>
                  </a:lnTo>
                  <a:lnTo>
                    <a:pt x="1285" y="101"/>
                  </a:lnTo>
                  <a:lnTo>
                    <a:pt x="1237" y="72"/>
                  </a:lnTo>
                  <a:lnTo>
                    <a:pt x="1186" y="46"/>
                  </a:lnTo>
                  <a:lnTo>
                    <a:pt x="1129" y="21"/>
                  </a:lnTo>
                  <a:lnTo>
                    <a:pt x="1068" y="0"/>
                  </a:lnTo>
                  <a:lnTo>
                    <a:pt x="1015" y="0"/>
                  </a:lnTo>
                  <a:lnTo>
                    <a:pt x="962" y="0"/>
                  </a:lnTo>
                  <a:lnTo>
                    <a:pt x="909" y="0"/>
                  </a:lnTo>
                  <a:lnTo>
                    <a:pt x="857" y="0"/>
                  </a:lnTo>
                  <a:lnTo>
                    <a:pt x="806" y="0"/>
                  </a:lnTo>
                  <a:lnTo>
                    <a:pt x="754" y="0"/>
                  </a:lnTo>
                  <a:lnTo>
                    <a:pt x="704" y="0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4884480" y="3040920"/>
              <a:ext cx="251280" cy="526320"/>
            </a:xfrm>
            <a:custGeom>
              <a:avLst/>
              <a:gdLst/>
              <a:ahLst/>
              <a:rect l="l" t="t" r="r" b="b"/>
              <a:pathLst>
                <a:path w="663" h="1389">
                  <a:moveTo>
                    <a:pt x="10" y="1368"/>
                  </a:moveTo>
                  <a:lnTo>
                    <a:pt x="20" y="1380"/>
                  </a:lnTo>
                  <a:lnTo>
                    <a:pt x="30" y="1329"/>
                  </a:lnTo>
                  <a:lnTo>
                    <a:pt x="37" y="1276"/>
                  </a:lnTo>
                  <a:lnTo>
                    <a:pt x="43" y="1223"/>
                  </a:lnTo>
                  <a:lnTo>
                    <a:pt x="49" y="1168"/>
                  </a:lnTo>
                  <a:lnTo>
                    <a:pt x="59" y="1057"/>
                  </a:lnTo>
                  <a:lnTo>
                    <a:pt x="68" y="945"/>
                  </a:lnTo>
                  <a:lnTo>
                    <a:pt x="78" y="833"/>
                  </a:lnTo>
                  <a:lnTo>
                    <a:pt x="90" y="722"/>
                  </a:lnTo>
                  <a:lnTo>
                    <a:pt x="97" y="668"/>
                  </a:lnTo>
                  <a:lnTo>
                    <a:pt x="106" y="614"/>
                  </a:lnTo>
                  <a:lnTo>
                    <a:pt x="116" y="562"/>
                  </a:lnTo>
                  <a:lnTo>
                    <a:pt x="127" y="511"/>
                  </a:lnTo>
                  <a:lnTo>
                    <a:pt x="140" y="462"/>
                  </a:lnTo>
                  <a:lnTo>
                    <a:pt x="155" y="414"/>
                  </a:lnTo>
                  <a:lnTo>
                    <a:pt x="163" y="392"/>
                  </a:lnTo>
                  <a:lnTo>
                    <a:pt x="171" y="368"/>
                  </a:lnTo>
                  <a:lnTo>
                    <a:pt x="181" y="346"/>
                  </a:lnTo>
                  <a:lnTo>
                    <a:pt x="191" y="325"/>
                  </a:lnTo>
                  <a:lnTo>
                    <a:pt x="202" y="304"/>
                  </a:lnTo>
                  <a:lnTo>
                    <a:pt x="212" y="283"/>
                  </a:lnTo>
                  <a:lnTo>
                    <a:pt x="224" y="264"/>
                  </a:lnTo>
                  <a:lnTo>
                    <a:pt x="236" y="244"/>
                  </a:lnTo>
                  <a:lnTo>
                    <a:pt x="250" y="225"/>
                  </a:lnTo>
                  <a:lnTo>
                    <a:pt x="263" y="207"/>
                  </a:lnTo>
                  <a:lnTo>
                    <a:pt x="278" y="190"/>
                  </a:lnTo>
                  <a:lnTo>
                    <a:pt x="293" y="174"/>
                  </a:lnTo>
                  <a:lnTo>
                    <a:pt x="309" y="158"/>
                  </a:lnTo>
                  <a:lnTo>
                    <a:pt x="326" y="143"/>
                  </a:lnTo>
                  <a:lnTo>
                    <a:pt x="343" y="128"/>
                  </a:lnTo>
                  <a:lnTo>
                    <a:pt x="363" y="115"/>
                  </a:lnTo>
                  <a:lnTo>
                    <a:pt x="381" y="102"/>
                  </a:lnTo>
                  <a:lnTo>
                    <a:pt x="402" y="90"/>
                  </a:lnTo>
                  <a:lnTo>
                    <a:pt x="423" y="79"/>
                  </a:lnTo>
                  <a:lnTo>
                    <a:pt x="445" y="69"/>
                  </a:lnTo>
                  <a:lnTo>
                    <a:pt x="469" y="59"/>
                  </a:lnTo>
                  <a:lnTo>
                    <a:pt x="493" y="51"/>
                  </a:lnTo>
                  <a:lnTo>
                    <a:pt x="519" y="43"/>
                  </a:lnTo>
                  <a:lnTo>
                    <a:pt x="545" y="37"/>
                  </a:lnTo>
                  <a:lnTo>
                    <a:pt x="573" y="31"/>
                  </a:lnTo>
                  <a:lnTo>
                    <a:pt x="602" y="27"/>
                  </a:lnTo>
                  <a:lnTo>
                    <a:pt x="632" y="24"/>
                  </a:lnTo>
                  <a:lnTo>
                    <a:pt x="663" y="21"/>
                  </a:lnTo>
                  <a:lnTo>
                    <a:pt x="662" y="0"/>
                  </a:lnTo>
                  <a:lnTo>
                    <a:pt x="630" y="3"/>
                  </a:lnTo>
                  <a:lnTo>
                    <a:pt x="599" y="7"/>
                  </a:lnTo>
                  <a:lnTo>
                    <a:pt x="570" y="11"/>
                  </a:lnTo>
                  <a:lnTo>
                    <a:pt x="541" y="16"/>
                  </a:lnTo>
                  <a:lnTo>
                    <a:pt x="514" y="24"/>
                  </a:lnTo>
                  <a:lnTo>
                    <a:pt x="487" y="31"/>
                  </a:lnTo>
                  <a:lnTo>
                    <a:pt x="463" y="40"/>
                  </a:lnTo>
                  <a:lnTo>
                    <a:pt x="438" y="50"/>
                  </a:lnTo>
                  <a:lnTo>
                    <a:pt x="415" y="61"/>
                  </a:lnTo>
                  <a:lnTo>
                    <a:pt x="393" y="72"/>
                  </a:lnTo>
                  <a:lnTo>
                    <a:pt x="370" y="84"/>
                  </a:lnTo>
                  <a:lnTo>
                    <a:pt x="351" y="98"/>
                  </a:lnTo>
                  <a:lnTo>
                    <a:pt x="331" y="112"/>
                  </a:lnTo>
                  <a:lnTo>
                    <a:pt x="313" y="127"/>
                  </a:lnTo>
                  <a:lnTo>
                    <a:pt x="295" y="143"/>
                  </a:lnTo>
                  <a:lnTo>
                    <a:pt x="278" y="159"/>
                  </a:lnTo>
                  <a:lnTo>
                    <a:pt x="262" y="176"/>
                  </a:lnTo>
                  <a:lnTo>
                    <a:pt x="247" y="195"/>
                  </a:lnTo>
                  <a:lnTo>
                    <a:pt x="233" y="213"/>
                  </a:lnTo>
                  <a:lnTo>
                    <a:pt x="219" y="233"/>
                  </a:lnTo>
                  <a:lnTo>
                    <a:pt x="207" y="253"/>
                  </a:lnTo>
                  <a:lnTo>
                    <a:pt x="195" y="273"/>
                  </a:lnTo>
                  <a:lnTo>
                    <a:pt x="182" y="294"/>
                  </a:lnTo>
                  <a:lnTo>
                    <a:pt x="172" y="315"/>
                  </a:lnTo>
                  <a:lnTo>
                    <a:pt x="161" y="339"/>
                  </a:lnTo>
                  <a:lnTo>
                    <a:pt x="153" y="361"/>
                  </a:lnTo>
                  <a:lnTo>
                    <a:pt x="143" y="384"/>
                  </a:lnTo>
                  <a:lnTo>
                    <a:pt x="135" y="407"/>
                  </a:lnTo>
                  <a:lnTo>
                    <a:pt x="119" y="457"/>
                  </a:lnTo>
                  <a:lnTo>
                    <a:pt x="107" y="506"/>
                  </a:lnTo>
                  <a:lnTo>
                    <a:pt x="95" y="558"/>
                  </a:lnTo>
                  <a:lnTo>
                    <a:pt x="85" y="610"/>
                  </a:lnTo>
                  <a:lnTo>
                    <a:pt x="76" y="665"/>
                  </a:lnTo>
                  <a:lnTo>
                    <a:pt x="69" y="720"/>
                  </a:lnTo>
                  <a:lnTo>
                    <a:pt x="57" y="831"/>
                  </a:lnTo>
                  <a:lnTo>
                    <a:pt x="47" y="944"/>
                  </a:lnTo>
                  <a:lnTo>
                    <a:pt x="38" y="1056"/>
                  </a:lnTo>
                  <a:lnTo>
                    <a:pt x="28" y="1166"/>
                  </a:lnTo>
                  <a:lnTo>
                    <a:pt x="22" y="1221"/>
                  </a:lnTo>
                  <a:lnTo>
                    <a:pt x="16" y="1273"/>
                  </a:lnTo>
                  <a:lnTo>
                    <a:pt x="9" y="1325"/>
                  </a:lnTo>
                  <a:lnTo>
                    <a:pt x="0" y="1377"/>
                  </a:lnTo>
                  <a:lnTo>
                    <a:pt x="10" y="1389"/>
                  </a:lnTo>
                  <a:lnTo>
                    <a:pt x="0" y="1377"/>
                  </a:lnTo>
                  <a:lnTo>
                    <a:pt x="0" y="1380"/>
                  </a:lnTo>
                  <a:lnTo>
                    <a:pt x="1" y="1384"/>
                  </a:lnTo>
                  <a:lnTo>
                    <a:pt x="5" y="1387"/>
                  </a:lnTo>
                  <a:lnTo>
                    <a:pt x="9" y="1388"/>
                  </a:lnTo>
                  <a:lnTo>
                    <a:pt x="12" y="1388"/>
                  </a:lnTo>
                  <a:lnTo>
                    <a:pt x="16" y="1387"/>
                  </a:lnTo>
                  <a:lnTo>
                    <a:pt x="19" y="1384"/>
                  </a:lnTo>
                  <a:lnTo>
                    <a:pt x="20" y="1380"/>
                  </a:lnTo>
                  <a:lnTo>
                    <a:pt x="10" y="13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888080" y="3559680"/>
              <a:ext cx="108000" cy="7560"/>
            </a:xfrm>
            <a:custGeom>
              <a:avLst/>
              <a:gdLst/>
              <a:ahLst/>
              <a:rect l="l" t="t" r="r" b="b"/>
              <a:pathLst>
                <a:path w="284" h="21">
                  <a:moveTo>
                    <a:pt x="264" y="6"/>
                  </a:moveTo>
                  <a:lnTo>
                    <a:pt x="274" y="0"/>
                  </a:lnTo>
                  <a:lnTo>
                    <a:pt x="250" y="0"/>
                  </a:lnTo>
                  <a:lnTo>
                    <a:pt x="218" y="0"/>
                  </a:lnTo>
                  <a:lnTo>
                    <a:pt x="178" y="0"/>
                  </a:lnTo>
                  <a:lnTo>
                    <a:pt x="137" y="0"/>
                  </a:lnTo>
                  <a:lnTo>
                    <a:pt x="96" y="0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3" y="21"/>
                  </a:lnTo>
                  <a:lnTo>
                    <a:pt x="57" y="21"/>
                  </a:lnTo>
                  <a:lnTo>
                    <a:pt x="96" y="21"/>
                  </a:lnTo>
                  <a:lnTo>
                    <a:pt x="137" y="21"/>
                  </a:lnTo>
                  <a:lnTo>
                    <a:pt x="178" y="21"/>
                  </a:lnTo>
                  <a:lnTo>
                    <a:pt x="218" y="21"/>
                  </a:lnTo>
                  <a:lnTo>
                    <a:pt x="250" y="21"/>
                  </a:lnTo>
                  <a:lnTo>
                    <a:pt x="274" y="21"/>
                  </a:lnTo>
                  <a:lnTo>
                    <a:pt x="284" y="14"/>
                  </a:lnTo>
                  <a:lnTo>
                    <a:pt x="274" y="21"/>
                  </a:lnTo>
                  <a:lnTo>
                    <a:pt x="279" y="20"/>
                  </a:lnTo>
                  <a:lnTo>
                    <a:pt x="282" y="17"/>
                  </a:lnTo>
                  <a:lnTo>
                    <a:pt x="284" y="14"/>
                  </a:lnTo>
                  <a:lnTo>
                    <a:pt x="284" y="10"/>
                  </a:lnTo>
                  <a:lnTo>
                    <a:pt x="284" y="6"/>
                  </a:lnTo>
                  <a:lnTo>
                    <a:pt x="282" y="3"/>
                  </a:lnTo>
                  <a:lnTo>
                    <a:pt x="279" y="0"/>
                  </a:lnTo>
                  <a:lnTo>
                    <a:pt x="274" y="0"/>
                  </a:lnTo>
                  <a:lnTo>
                    <a:pt x="26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988160" y="3266280"/>
              <a:ext cx="60480" cy="299160"/>
            </a:xfrm>
            <a:custGeom>
              <a:avLst/>
              <a:gdLst/>
              <a:ahLst/>
              <a:rect l="l" t="t" r="r" b="b"/>
              <a:pathLst>
                <a:path w="162" h="788">
                  <a:moveTo>
                    <a:pt x="162" y="12"/>
                  </a:moveTo>
                  <a:lnTo>
                    <a:pt x="142" y="8"/>
                  </a:lnTo>
                  <a:lnTo>
                    <a:pt x="133" y="32"/>
                  </a:lnTo>
                  <a:lnTo>
                    <a:pt x="127" y="57"/>
                  </a:lnTo>
                  <a:lnTo>
                    <a:pt x="120" y="80"/>
                  </a:lnTo>
                  <a:lnTo>
                    <a:pt x="114" y="105"/>
                  </a:lnTo>
                  <a:lnTo>
                    <a:pt x="104" y="154"/>
                  </a:lnTo>
                  <a:lnTo>
                    <a:pt x="95" y="202"/>
                  </a:lnTo>
                  <a:lnTo>
                    <a:pt x="88" y="251"/>
                  </a:lnTo>
                  <a:lnTo>
                    <a:pt x="82" y="299"/>
                  </a:lnTo>
                  <a:lnTo>
                    <a:pt x="77" y="349"/>
                  </a:lnTo>
                  <a:lnTo>
                    <a:pt x="72" y="397"/>
                  </a:lnTo>
                  <a:lnTo>
                    <a:pt x="67" y="444"/>
                  </a:lnTo>
                  <a:lnTo>
                    <a:pt x="62" y="492"/>
                  </a:lnTo>
                  <a:lnTo>
                    <a:pt x="56" y="542"/>
                  </a:lnTo>
                  <a:lnTo>
                    <a:pt x="48" y="590"/>
                  </a:lnTo>
                  <a:lnTo>
                    <a:pt x="40" y="638"/>
                  </a:lnTo>
                  <a:lnTo>
                    <a:pt x="29" y="686"/>
                  </a:lnTo>
                  <a:lnTo>
                    <a:pt x="23" y="709"/>
                  </a:lnTo>
                  <a:lnTo>
                    <a:pt x="16" y="732"/>
                  </a:lnTo>
                  <a:lnTo>
                    <a:pt x="9" y="757"/>
                  </a:lnTo>
                  <a:lnTo>
                    <a:pt x="0" y="780"/>
                  </a:lnTo>
                  <a:lnTo>
                    <a:pt x="20" y="788"/>
                  </a:lnTo>
                  <a:lnTo>
                    <a:pt x="29" y="763"/>
                  </a:lnTo>
                  <a:lnTo>
                    <a:pt x="36" y="738"/>
                  </a:lnTo>
                  <a:lnTo>
                    <a:pt x="44" y="714"/>
                  </a:lnTo>
                  <a:lnTo>
                    <a:pt x="50" y="689"/>
                  </a:lnTo>
                  <a:lnTo>
                    <a:pt x="61" y="641"/>
                  </a:lnTo>
                  <a:lnTo>
                    <a:pt x="69" y="592"/>
                  </a:lnTo>
                  <a:lnTo>
                    <a:pt x="77" y="544"/>
                  </a:lnTo>
                  <a:lnTo>
                    <a:pt x="83" y="495"/>
                  </a:lnTo>
                  <a:lnTo>
                    <a:pt x="88" y="447"/>
                  </a:lnTo>
                  <a:lnTo>
                    <a:pt x="93" y="399"/>
                  </a:lnTo>
                  <a:lnTo>
                    <a:pt x="98" y="350"/>
                  </a:lnTo>
                  <a:lnTo>
                    <a:pt x="103" y="302"/>
                  </a:lnTo>
                  <a:lnTo>
                    <a:pt x="109" y="254"/>
                  </a:lnTo>
                  <a:lnTo>
                    <a:pt x="116" y="206"/>
                  </a:lnTo>
                  <a:lnTo>
                    <a:pt x="123" y="158"/>
                  </a:lnTo>
                  <a:lnTo>
                    <a:pt x="135" y="110"/>
                  </a:lnTo>
                  <a:lnTo>
                    <a:pt x="141" y="87"/>
                  </a:lnTo>
                  <a:lnTo>
                    <a:pt x="147" y="62"/>
                  </a:lnTo>
                  <a:lnTo>
                    <a:pt x="154" y="39"/>
                  </a:lnTo>
                  <a:lnTo>
                    <a:pt x="162" y="14"/>
                  </a:lnTo>
                  <a:lnTo>
                    <a:pt x="141" y="12"/>
                  </a:lnTo>
                  <a:lnTo>
                    <a:pt x="162" y="14"/>
                  </a:lnTo>
                  <a:lnTo>
                    <a:pt x="162" y="10"/>
                  </a:lnTo>
                  <a:lnTo>
                    <a:pt x="162" y="5"/>
                  </a:lnTo>
                  <a:lnTo>
                    <a:pt x="158" y="3"/>
                  </a:lnTo>
                  <a:lnTo>
                    <a:pt x="155" y="2"/>
                  </a:lnTo>
                  <a:lnTo>
                    <a:pt x="152" y="0"/>
                  </a:lnTo>
                  <a:lnTo>
                    <a:pt x="147" y="2"/>
                  </a:lnTo>
                  <a:lnTo>
                    <a:pt x="144" y="4"/>
                  </a:lnTo>
                  <a:lnTo>
                    <a:pt x="142" y="8"/>
                  </a:lnTo>
                  <a:lnTo>
                    <a:pt x="16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041440" y="3270240"/>
              <a:ext cx="7200" cy="253440"/>
            </a:xfrm>
            <a:custGeom>
              <a:avLst/>
              <a:gdLst/>
              <a:ahLst/>
              <a:rect l="l" t="t" r="r" b="b"/>
              <a:pathLst>
                <a:path w="21" h="666">
                  <a:moveTo>
                    <a:pt x="18" y="648"/>
                  </a:moveTo>
                  <a:lnTo>
                    <a:pt x="21" y="656"/>
                  </a:lnTo>
                  <a:lnTo>
                    <a:pt x="21" y="574"/>
                  </a:lnTo>
                  <a:lnTo>
                    <a:pt x="21" y="493"/>
                  </a:lnTo>
                  <a:lnTo>
                    <a:pt x="21" y="410"/>
                  </a:lnTo>
                  <a:lnTo>
                    <a:pt x="21" y="328"/>
                  </a:lnTo>
                  <a:lnTo>
                    <a:pt x="21" y="247"/>
                  </a:lnTo>
                  <a:lnTo>
                    <a:pt x="21" y="164"/>
                  </a:lnTo>
                  <a:lnTo>
                    <a:pt x="21" y="8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0" y="164"/>
                  </a:lnTo>
                  <a:lnTo>
                    <a:pt x="0" y="247"/>
                  </a:lnTo>
                  <a:lnTo>
                    <a:pt x="0" y="328"/>
                  </a:lnTo>
                  <a:lnTo>
                    <a:pt x="0" y="410"/>
                  </a:lnTo>
                  <a:lnTo>
                    <a:pt x="0" y="493"/>
                  </a:lnTo>
                  <a:lnTo>
                    <a:pt x="0" y="574"/>
                  </a:lnTo>
                  <a:lnTo>
                    <a:pt x="0" y="656"/>
                  </a:lnTo>
                  <a:lnTo>
                    <a:pt x="3" y="664"/>
                  </a:lnTo>
                  <a:lnTo>
                    <a:pt x="0" y="656"/>
                  </a:lnTo>
                  <a:lnTo>
                    <a:pt x="1" y="660"/>
                  </a:lnTo>
                  <a:lnTo>
                    <a:pt x="3" y="664"/>
                  </a:lnTo>
                  <a:lnTo>
                    <a:pt x="7" y="666"/>
                  </a:lnTo>
                  <a:lnTo>
                    <a:pt x="11" y="666"/>
                  </a:lnTo>
                  <a:lnTo>
                    <a:pt x="14" y="666"/>
                  </a:lnTo>
                  <a:lnTo>
                    <a:pt x="18" y="664"/>
                  </a:lnTo>
                  <a:lnTo>
                    <a:pt x="21" y="660"/>
                  </a:lnTo>
                  <a:lnTo>
                    <a:pt x="21" y="656"/>
                  </a:lnTo>
                  <a:lnTo>
                    <a:pt x="18" y="6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043240" y="3516120"/>
              <a:ext cx="308520" cy="84960"/>
            </a:xfrm>
            <a:custGeom>
              <a:avLst/>
              <a:gdLst/>
              <a:ahLst/>
              <a:rect l="l" t="t" r="r" b="b"/>
              <a:pathLst>
                <a:path w="817" h="226">
                  <a:moveTo>
                    <a:pt x="796" y="124"/>
                  </a:moveTo>
                  <a:lnTo>
                    <a:pt x="801" y="115"/>
                  </a:lnTo>
                  <a:lnTo>
                    <a:pt x="776" y="129"/>
                  </a:lnTo>
                  <a:lnTo>
                    <a:pt x="751" y="141"/>
                  </a:lnTo>
                  <a:lnTo>
                    <a:pt x="725" y="152"/>
                  </a:lnTo>
                  <a:lnTo>
                    <a:pt x="700" y="163"/>
                  </a:lnTo>
                  <a:lnTo>
                    <a:pt x="676" y="172"/>
                  </a:lnTo>
                  <a:lnTo>
                    <a:pt x="650" y="181"/>
                  </a:lnTo>
                  <a:lnTo>
                    <a:pt x="625" y="187"/>
                  </a:lnTo>
                  <a:lnTo>
                    <a:pt x="601" y="193"/>
                  </a:lnTo>
                  <a:lnTo>
                    <a:pt x="575" y="198"/>
                  </a:lnTo>
                  <a:lnTo>
                    <a:pt x="550" y="201"/>
                  </a:lnTo>
                  <a:lnTo>
                    <a:pt x="526" y="204"/>
                  </a:lnTo>
                  <a:lnTo>
                    <a:pt x="501" y="205"/>
                  </a:lnTo>
                  <a:lnTo>
                    <a:pt x="476" y="205"/>
                  </a:lnTo>
                  <a:lnTo>
                    <a:pt x="452" y="204"/>
                  </a:lnTo>
                  <a:lnTo>
                    <a:pt x="427" y="203"/>
                  </a:lnTo>
                  <a:lnTo>
                    <a:pt x="403" y="199"/>
                  </a:lnTo>
                  <a:lnTo>
                    <a:pt x="378" y="195"/>
                  </a:lnTo>
                  <a:lnTo>
                    <a:pt x="353" y="190"/>
                  </a:lnTo>
                  <a:lnTo>
                    <a:pt x="329" y="184"/>
                  </a:lnTo>
                  <a:lnTo>
                    <a:pt x="304" y="176"/>
                  </a:lnTo>
                  <a:lnTo>
                    <a:pt x="281" y="168"/>
                  </a:lnTo>
                  <a:lnTo>
                    <a:pt x="256" y="158"/>
                  </a:lnTo>
                  <a:lnTo>
                    <a:pt x="232" y="147"/>
                  </a:lnTo>
                  <a:lnTo>
                    <a:pt x="207" y="135"/>
                  </a:lnTo>
                  <a:lnTo>
                    <a:pt x="184" y="123"/>
                  </a:lnTo>
                  <a:lnTo>
                    <a:pt x="159" y="108"/>
                  </a:lnTo>
                  <a:lnTo>
                    <a:pt x="134" y="93"/>
                  </a:lnTo>
                  <a:lnTo>
                    <a:pt x="111" y="77"/>
                  </a:lnTo>
                  <a:lnTo>
                    <a:pt x="86" y="59"/>
                  </a:lnTo>
                  <a:lnTo>
                    <a:pt x="63" y="40"/>
                  </a:lnTo>
                  <a:lnTo>
                    <a:pt x="38" y="21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25" y="37"/>
                  </a:lnTo>
                  <a:lnTo>
                    <a:pt x="50" y="58"/>
                  </a:lnTo>
                  <a:lnTo>
                    <a:pt x="74" y="76"/>
                  </a:lnTo>
                  <a:lnTo>
                    <a:pt x="99" y="93"/>
                  </a:lnTo>
                  <a:lnTo>
                    <a:pt x="123" y="110"/>
                  </a:lnTo>
                  <a:lnTo>
                    <a:pt x="148" y="126"/>
                  </a:lnTo>
                  <a:lnTo>
                    <a:pt x="173" y="141"/>
                  </a:lnTo>
                  <a:lnTo>
                    <a:pt x="198" y="153"/>
                  </a:lnTo>
                  <a:lnTo>
                    <a:pt x="223" y="166"/>
                  </a:lnTo>
                  <a:lnTo>
                    <a:pt x="248" y="177"/>
                  </a:lnTo>
                  <a:lnTo>
                    <a:pt x="273" y="187"/>
                  </a:lnTo>
                  <a:lnTo>
                    <a:pt x="298" y="197"/>
                  </a:lnTo>
                  <a:lnTo>
                    <a:pt x="324" y="204"/>
                  </a:lnTo>
                  <a:lnTo>
                    <a:pt x="348" y="210"/>
                  </a:lnTo>
                  <a:lnTo>
                    <a:pt x="374" y="216"/>
                  </a:lnTo>
                  <a:lnTo>
                    <a:pt x="399" y="220"/>
                  </a:lnTo>
                  <a:lnTo>
                    <a:pt x="425" y="224"/>
                  </a:lnTo>
                  <a:lnTo>
                    <a:pt x="451" y="225"/>
                  </a:lnTo>
                  <a:lnTo>
                    <a:pt x="476" y="226"/>
                  </a:lnTo>
                  <a:lnTo>
                    <a:pt x="501" y="226"/>
                  </a:lnTo>
                  <a:lnTo>
                    <a:pt x="527" y="225"/>
                  </a:lnTo>
                  <a:lnTo>
                    <a:pt x="553" y="221"/>
                  </a:lnTo>
                  <a:lnTo>
                    <a:pt x="578" y="217"/>
                  </a:lnTo>
                  <a:lnTo>
                    <a:pt x="604" y="213"/>
                  </a:lnTo>
                  <a:lnTo>
                    <a:pt x="630" y="208"/>
                  </a:lnTo>
                  <a:lnTo>
                    <a:pt x="656" y="200"/>
                  </a:lnTo>
                  <a:lnTo>
                    <a:pt x="682" y="192"/>
                  </a:lnTo>
                  <a:lnTo>
                    <a:pt x="708" y="182"/>
                  </a:lnTo>
                  <a:lnTo>
                    <a:pt x="733" y="172"/>
                  </a:lnTo>
                  <a:lnTo>
                    <a:pt x="759" y="160"/>
                  </a:lnTo>
                  <a:lnTo>
                    <a:pt x="785" y="147"/>
                  </a:lnTo>
                  <a:lnTo>
                    <a:pt x="811" y="133"/>
                  </a:lnTo>
                  <a:lnTo>
                    <a:pt x="817" y="124"/>
                  </a:lnTo>
                  <a:lnTo>
                    <a:pt x="811" y="133"/>
                  </a:lnTo>
                  <a:lnTo>
                    <a:pt x="815" y="130"/>
                  </a:lnTo>
                  <a:lnTo>
                    <a:pt x="817" y="126"/>
                  </a:lnTo>
                  <a:lnTo>
                    <a:pt x="817" y="123"/>
                  </a:lnTo>
                  <a:lnTo>
                    <a:pt x="816" y="119"/>
                  </a:lnTo>
                  <a:lnTo>
                    <a:pt x="813" y="117"/>
                  </a:lnTo>
                  <a:lnTo>
                    <a:pt x="810" y="114"/>
                  </a:lnTo>
                  <a:lnTo>
                    <a:pt x="806" y="114"/>
                  </a:lnTo>
                  <a:lnTo>
                    <a:pt x="801" y="115"/>
                  </a:lnTo>
                  <a:lnTo>
                    <a:pt x="796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344200" y="3256920"/>
              <a:ext cx="7560" cy="306360"/>
            </a:xfrm>
            <a:custGeom>
              <a:avLst/>
              <a:gdLst/>
              <a:ahLst/>
              <a:rect l="l" t="t" r="r" b="b"/>
              <a:pathLst>
                <a:path w="21" h="809">
                  <a:moveTo>
                    <a:pt x="21" y="8"/>
                  </a:moveTo>
                  <a:lnTo>
                    <a:pt x="0" y="11"/>
                  </a:lnTo>
                  <a:lnTo>
                    <a:pt x="0" y="109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07"/>
                  </a:lnTo>
                  <a:lnTo>
                    <a:pt x="0" y="508"/>
                  </a:lnTo>
                  <a:lnTo>
                    <a:pt x="0" y="607"/>
                  </a:lnTo>
                  <a:lnTo>
                    <a:pt x="0" y="708"/>
                  </a:lnTo>
                  <a:lnTo>
                    <a:pt x="0" y="809"/>
                  </a:lnTo>
                  <a:lnTo>
                    <a:pt x="21" y="809"/>
                  </a:lnTo>
                  <a:lnTo>
                    <a:pt x="21" y="708"/>
                  </a:lnTo>
                  <a:lnTo>
                    <a:pt x="21" y="607"/>
                  </a:lnTo>
                  <a:lnTo>
                    <a:pt x="21" y="508"/>
                  </a:lnTo>
                  <a:lnTo>
                    <a:pt x="21" y="407"/>
                  </a:lnTo>
                  <a:lnTo>
                    <a:pt x="21" y="307"/>
                  </a:lnTo>
                  <a:lnTo>
                    <a:pt x="21" y="207"/>
                  </a:lnTo>
                  <a:lnTo>
                    <a:pt x="21" y="109"/>
                  </a:lnTo>
                  <a:lnTo>
                    <a:pt x="21" y="11"/>
                  </a:lnTo>
                  <a:lnTo>
                    <a:pt x="0" y="13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344200" y="3260880"/>
              <a:ext cx="86760" cy="340200"/>
            </a:xfrm>
            <a:custGeom>
              <a:avLst/>
              <a:gdLst/>
              <a:ahLst/>
              <a:rect l="l" t="t" r="r" b="b"/>
              <a:pathLst>
                <a:path w="230" h="904">
                  <a:moveTo>
                    <a:pt x="219" y="883"/>
                  </a:moveTo>
                  <a:lnTo>
                    <a:pt x="229" y="892"/>
                  </a:lnTo>
                  <a:lnTo>
                    <a:pt x="202" y="779"/>
                  </a:lnTo>
                  <a:lnTo>
                    <a:pt x="176" y="667"/>
                  </a:lnTo>
                  <a:lnTo>
                    <a:pt x="149" y="555"/>
                  </a:lnTo>
                  <a:lnTo>
                    <a:pt x="122" y="443"/>
                  </a:lnTo>
                  <a:lnTo>
                    <a:pt x="96" y="332"/>
                  </a:lnTo>
                  <a:lnTo>
                    <a:pt x="70" y="222"/>
                  </a:lnTo>
                  <a:lnTo>
                    <a:pt x="46" y="111"/>
                  </a:lnTo>
                  <a:lnTo>
                    <a:pt x="21" y="0"/>
                  </a:lnTo>
                  <a:lnTo>
                    <a:pt x="0" y="5"/>
                  </a:lnTo>
                  <a:lnTo>
                    <a:pt x="25" y="116"/>
                  </a:lnTo>
                  <a:lnTo>
                    <a:pt x="51" y="227"/>
                  </a:lnTo>
                  <a:lnTo>
                    <a:pt x="76" y="337"/>
                  </a:lnTo>
                  <a:lnTo>
                    <a:pt x="102" y="448"/>
                  </a:lnTo>
                  <a:lnTo>
                    <a:pt x="128" y="560"/>
                  </a:lnTo>
                  <a:lnTo>
                    <a:pt x="155" y="671"/>
                  </a:lnTo>
                  <a:lnTo>
                    <a:pt x="182" y="784"/>
                  </a:lnTo>
                  <a:lnTo>
                    <a:pt x="209" y="897"/>
                  </a:lnTo>
                  <a:lnTo>
                    <a:pt x="219" y="904"/>
                  </a:lnTo>
                  <a:lnTo>
                    <a:pt x="209" y="897"/>
                  </a:lnTo>
                  <a:lnTo>
                    <a:pt x="210" y="901"/>
                  </a:lnTo>
                  <a:lnTo>
                    <a:pt x="214" y="903"/>
                  </a:lnTo>
                  <a:lnTo>
                    <a:pt x="218" y="904"/>
                  </a:lnTo>
                  <a:lnTo>
                    <a:pt x="222" y="904"/>
                  </a:lnTo>
                  <a:lnTo>
                    <a:pt x="225" y="903"/>
                  </a:lnTo>
                  <a:lnTo>
                    <a:pt x="228" y="899"/>
                  </a:lnTo>
                  <a:lnTo>
                    <a:pt x="230" y="896"/>
                  </a:lnTo>
                  <a:lnTo>
                    <a:pt x="229" y="892"/>
                  </a:lnTo>
                  <a:lnTo>
                    <a:pt x="219" y="8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5427360" y="3578400"/>
              <a:ext cx="94680" cy="22680"/>
            </a:xfrm>
            <a:custGeom>
              <a:avLst/>
              <a:gdLst/>
              <a:ahLst/>
              <a:rect l="l" t="t" r="r" b="b"/>
              <a:pathLst>
                <a:path w="250" h="60">
                  <a:moveTo>
                    <a:pt x="229" y="12"/>
                  </a:moveTo>
                  <a:lnTo>
                    <a:pt x="240" y="0"/>
                  </a:lnTo>
                  <a:lnTo>
                    <a:pt x="215" y="1"/>
                  </a:lnTo>
                  <a:lnTo>
                    <a:pt x="187" y="6"/>
                  </a:lnTo>
                  <a:lnTo>
                    <a:pt x="153" y="12"/>
                  </a:lnTo>
                  <a:lnTo>
                    <a:pt x="118" y="20"/>
                  </a:lnTo>
                  <a:lnTo>
                    <a:pt x="82" y="27"/>
                  </a:lnTo>
                  <a:lnTo>
                    <a:pt x="49" y="33"/>
                  </a:lnTo>
                  <a:lnTo>
                    <a:pt x="21" y="38"/>
                  </a:lnTo>
                  <a:lnTo>
                    <a:pt x="0" y="39"/>
                  </a:lnTo>
                  <a:lnTo>
                    <a:pt x="0" y="60"/>
                  </a:lnTo>
                  <a:lnTo>
                    <a:pt x="23" y="59"/>
                  </a:lnTo>
                  <a:lnTo>
                    <a:pt x="53" y="54"/>
                  </a:lnTo>
                  <a:lnTo>
                    <a:pt x="86" y="48"/>
                  </a:lnTo>
                  <a:lnTo>
                    <a:pt x="122" y="41"/>
                  </a:lnTo>
                  <a:lnTo>
                    <a:pt x="157" y="33"/>
                  </a:lnTo>
                  <a:lnTo>
                    <a:pt x="189" y="27"/>
                  </a:lnTo>
                  <a:lnTo>
                    <a:pt x="218" y="22"/>
                  </a:lnTo>
                  <a:lnTo>
                    <a:pt x="240" y="21"/>
                  </a:lnTo>
                  <a:lnTo>
                    <a:pt x="250" y="9"/>
                  </a:lnTo>
                  <a:lnTo>
                    <a:pt x="240" y="21"/>
                  </a:lnTo>
                  <a:lnTo>
                    <a:pt x="244" y="20"/>
                  </a:lnTo>
                  <a:lnTo>
                    <a:pt x="247" y="17"/>
                  </a:lnTo>
                  <a:lnTo>
                    <a:pt x="250" y="15"/>
                  </a:lnTo>
                  <a:lnTo>
                    <a:pt x="250" y="11"/>
                  </a:lnTo>
                  <a:lnTo>
                    <a:pt x="250" y="6"/>
                  </a:lnTo>
                  <a:lnTo>
                    <a:pt x="247" y="4"/>
                  </a:lnTo>
                  <a:lnTo>
                    <a:pt x="244" y="1"/>
                  </a:lnTo>
                  <a:lnTo>
                    <a:pt x="240" y="0"/>
                  </a:lnTo>
                  <a:lnTo>
                    <a:pt x="22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289120" y="3040920"/>
              <a:ext cx="232920" cy="543600"/>
            </a:xfrm>
            <a:custGeom>
              <a:avLst/>
              <a:gdLst/>
              <a:ahLst/>
              <a:rect l="l" t="t" r="r" b="b"/>
              <a:pathLst>
                <a:path w="615" h="1433">
                  <a:moveTo>
                    <a:pt x="10" y="21"/>
                  </a:moveTo>
                  <a:lnTo>
                    <a:pt x="7" y="20"/>
                  </a:lnTo>
                  <a:lnTo>
                    <a:pt x="38" y="31"/>
                  </a:lnTo>
                  <a:lnTo>
                    <a:pt x="67" y="41"/>
                  </a:lnTo>
                  <a:lnTo>
                    <a:pt x="96" y="53"/>
                  </a:lnTo>
                  <a:lnTo>
                    <a:pt x="123" y="64"/>
                  </a:lnTo>
                  <a:lnTo>
                    <a:pt x="150" y="78"/>
                  </a:lnTo>
                  <a:lnTo>
                    <a:pt x="174" y="91"/>
                  </a:lnTo>
                  <a:lnTo>
                    <a:pt x="199" y="105"/>
                  </a:lnTo>
                  <a:lnTo>
                    <a:pt x="222" y="120"/>
                  </a:lnTo>
                  <a:lnTo>
                    <a:pt x="243" y="136"/>
                  </a:lnTo>
                  <a:lnTo>
                    <a:pt x="264" y="152"/>
                  </a:lnTo>
                  <a:lnTo>
                    <a:pt x="285" y="168"/>
                  </a:lnTo>
                  <a:lnTo>
                    <a:pt x="304" y="185"/>
                  </a:lnTo>
                  <a:lnTo>
                    <a:pt x="322" y="203"/>
                  </a:lnTo>
                  <a:lnTo>
                    <a:pt x="339" y="222"/>
                  </a:lnTo>
                  <a:lnTo>
                    <a:pt x="356" y="240"/>
                  </a:lnTo>
                  <a:lnTo>
                    <a:pt x="371" y="259"/>
                  </a:lnTo>
                  <a:lnTo>
                    <a:pt x="386" y="280"/>
                  </a:lnTo>
                  <a:lnTo>
                    <a:pt x="401" y="299"/>
                  </a:lnTo>
                  <a:lnTo>
                    <a:pt x="413" y="320"/>
                  </a:lnTo>
                  <a:lnTo>
                    <a:pt x="427" y="341"/>
                  </a:lnTo>
                  <a:lnTo>
                    <a:pt x="438" y="362"/>
                  </a:lnTo>
                  <a:lnTo>
                    <a:pt x="449" y="384"/>
                  </a:lnTo>
                  <a:lnTo>
                    <a:pt x="460" y="406"/>
                  </a:lnTo>
                  <a:lnTo>
                    <a:pt x="470" y="430"/>
                  </a:lnTo>
                  <a:lnTo>
                    <a:pt x="478" y="453"/>
                  </a:lnTo>
                  <a:lnTo>
                    <a:pt x="487" y="476"/>
                  </a:lnTo>
                  <a:lnTo>
                    <a:pt x="495" y="500"/>
                  </a:lnTo>
                  <a:lnTo>
                    <a:pt x="503" y="523"/>
                  </a:lnTo>
                  <a:lnTo>
                    <a:pt x="515" y="572"/>
                  </a:lnTo>
                  <a:lnTo>
                    <a:pt x="527" y="623"/>
                  </a:lnTo>
                  <a:lnTo>
                    <a:pt x="536" y="673"/>
                  </a:lnTo>
                  <a:lnTo>
                    <a:pt x="545" y="724"/>
                  </a:lnTo>
                  <a:lnTo>
                    <a:pt x="551" y="776"/>
                  </a:lnTo>
                  <a:lnTo>
                    <a:pt x="556" y="828"/>
                  </a:lnTo>
                  <a:lnTo>
                    <a:pt x="561" y="881"/>
                  </a:lnTo>
                  <a:lnTo>
                    <a:pt x="564" y="933"/>
                  </a:lnTo>
                  <a:lnTo>
                    <a:pt x="567" y="986"/>
                  </a:lnTo>
                  <a:lnTo>
                    <a:pt x="569" y="1038"/>
                  </a:lnTo>
                  <a:lnTo>
                    <a:pt x="573" y="1142"/>
                  </a:lnTo>
                  <a:lnTo>
                    <a:pt x="578" y="1243"/>
                  </a:lnTo>
                  <a:lnTo>
                    <a:pt x="580" y="1292"/>
                  </a:lnTo>
                  <a:lnTo>
                    <a:pt x="584" y="1340"/>
                  </a:lnTo>
                  <a:lnTo>
                    <a:pt x="589" y="1388"/>
                  </a:lnTo>
                  <a:lnTo>
                    <a:pt x="594" y="1433"/>
                  </a:lnTo>
                  <a:lnTo>
                    <a:pt x="615" y="1430"/>
                  </a:lnTo>
                  <a:lnTo>
                    <a:pt x="610" y="1385"/>
                  </a:lnTo>
                  <a:lnTo>
                    <a:pt x="605" y="1339"/>
                  </a:lnTo>
                  <a:lnTo>
                    <a:pt x="601" y="1291"/>
                  </a:lnTo>
                  <a:lnTo>
                    <a:pt x="599" y="1241"/>
                  </a:lnTo>
                  <a:lnTo>
                    <a:pt x="594" y="1141"/>
                  </a:lnTo>
                  <a:lnTo>
                    <a:pt x="590" y="1037"/>
                  </a:lnTo>
                  <a:lnTo>
                    <a:pt x="588" y="984"/>
                  </a:lnTo>
                  <a:lnTo>
                    <a:pt x="585" y="931"/>
                  </a:lnTo>
                  <a:lnTo>
                    <a:pt x="582" y="879"/>
                  </a:lnTo>
                  <a:lnTo>
                    <a:pt x="577" y="827"/>
                  </a:lnTo>
                  <a:lnTo>
                    <a:pt x="572" y="774"/>
                  </a:lnTo>
                  <a:lnTo>
                    <a:pt x="566" y="721"/>
                  </a:lnTo>
                  <a:lnTo>
                    <a:pt x="557" y="669"/>
                  </a:lnTo>
                  <a:lnTo>
                    <a:pt x="547" y="618"/>
                  </a:lnTo>
                  <a:lnTo>
                    <a:pt x="536" y="567"/>
                  </a:lnTo>
                  <a:lnTo>
                    <a:pt x="522" y="518"/>
                  </a:lnTo>
                  <a:lnTo>
                    <a:pt x="515" y="494"/>
                  </a:lnTo>
                  <a:lnTo>
                    <a:pt x="506" y="469"/>
                  </a:lnTo>
                  <a:lnTo>
                    <a:pt x="498" y="446"/>
                  </a:lnTo>
                  <a:lnTo>
                    <a:pt x="488" y="421"/>
                  </a:lnTo>
                  <a:lnTo>
                    <a:pt x="478" y="399"/>
                  </a:lnTo>
                  <a:lnTo>
                    <a:pt x="468" y="376"/>
                  </a:lnTo>
                  <a:lnTo>
                    <a:pt x="456" y="353"/>
                  </a:lnTo>
                  <a:lnTo>
                    <a:pt x="444" y="331"/>
                  </a:lnTo>
                  <a:lnTo>
                    <a:pt x="431" y="309"/>
                  </a:lnTo>
                  <a:lnTo>
                    <a:pt x="418" y="288"/>
                  </a:lnTo>
                  <a:lnTo>
                    <a:pt x="403" y="267"/>
                  </a:lnTo>
                  <a:lnTo>
                    <a:pt x="388" y="246"/>
                  </a:lnTo>
                  <a:lnTo>
                    <a:pt x="372" y="227"/>
                  </a:lnTo>
                  <a:lnTo>
                    <a:pt x="355" y="207"/>
                  </a:lnTo>
                  <a:lnTo>
                    <a:pt x="337" y="189"/>
                  </a:lnTo>
                  <a:lnTo>
                    <a:pt x="318" y="170"/>
                  </a:lnTo>
                  <a:lnTo>
                    <a:pt x="299" y="153"/>
                  </a:lnTo>
                  <a:lnTo>
                    <a:pt x="278" y="136"/>
                  </a:lnTo>
                  <a:lnTo>
                    <a:pt x="256" y="118"/>
                  </a:lnTo>
                  <a:lnTo>
                    <a:pt x="233" y="102"/>
                  </a:lnTo>
                  <a:lnTo>
                    <a:pt x="210" y="88"/>
                  </a:lnTo>
                  <a:lnTo>
                    <a:pt x="185" y="73"/>
                  </a:lnTo>
                  <a:lnTo>
                    <a:pt x="158" y="59"/>
                  </a:lnTo>
                  <a:lnTo>
                    <a:pt x="133" y="46"/>
                  </a:lnTo>
                  <a:lnTo>
                    <a:pt x="104" y="34"/>
                  </a:lnTo>
                  <a:lnTo>
                    <a:pt x="75" y="21"/>
                  </a:lnTo>
                  <a:lnTo>
                    <a:pt x="44" y="1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130360" y="3040920"/>
              <a:ext cx="162360" cy="7560"/>
            </a:xfrm>
            <a:custGeom>
              <a:avLst/>
              <a:gdLst/>
              <a:ahLst/>
              <a:rect l="l" t="t" r="r" b="b"/>
              <a:pathLst>
                <a:path w="426" h="21">
                  <a:moveTo>
                    <a:pt x="11" y="21"/>
                  </a:moveTo>
                  <a:lnTo>
                    <a:pt x="11" y="21"/>
                  </a:lnTo>
                  <a:lnTo>
                    <a:pt x="62" y="21"/>
                  </a:lnTo>
                  <a:lnTo>
                    <a:pt x="112" y="21"/>
                  </a:lnTo>
                  <a:lnTo>
                    <a:pt x="164" y="21"/>
                  </a:lnTo>
                  <a:lnTo>
                    <a:pt x="215" y="21"/>
                  </a:lnTo>
                  <a:lnTo>
                    <a:pt x="267" y="21"/>
                  </a:lnTo>
                  <a:lnTo>
                    <a:pt x="320" y="21"/>
                  </a:lnTo>
                  <a:lnTo>
                    <a:pt x="373" y="21"/>
                  </a:lnTo>
                  <a:lnTo>
                    <a:pt x="426" y="21"/>
                  </a:lnTo>
                  <a:lnTo>
                    <a:pt x="426" y="0"/>
                  </a:lnTo>
                  <a:lnTo>
                    <a:pt x="373" y="0"/>
                  </a:lnTo>
                  <a:lnTo>
                    <a:pt x="320" y="0"/>
                  </a:lnTo>
                  <a:lnTo>
                    <a:pt x="267" y="0"/>
                  </a:lnTo>
                  <a:lnTo>
                    <a:pt x="215" y="0"/>
                  </a:lnTo>
                  <a:lnTo>
                    <a:pt x="164" y="0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899600" y="4014360"/>
              <a:ext cx="211680" cy="259200"/>
            </a:xfrm>
            <a:custGeom>
              <a:avLst/>
              <a:gdLst/>
              <a:ahLst/>
              <a:rect l="l" t="t" r="r" b="b"/>
              <a:pathLst>
                <a:path w="564" h="683">
                  <a:moveTo>
                    <a:pt x="564" y="121"/>
                  </a:moveTo>
                  <a:lnTo>
                    <a:pt x="564" y="683"/>
                  </a:lnTo>
                  <a:lnTo>
                    <a:pt x="0" y="651"/>
                  </a:lnTo>
                  <a:lnTo>
                    <a:pt x="0" y="502"/>
                  </a:lnTo>
                  <a:lnTo>
                    <a:pt x="356" y="486"/>
                  </a:lnTo>
                  <a:lnTo>
                    <a:pt x="356" y="0"/>
                  </a:lnTo>
                  <a:lnTo>
                    <a:pt x="564" y="121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107680" y="4061520"/>
              <a:ext cx="9360" cy="216000"/>
            </a:xfrm>
            <a:custGeom>
              <a:avLst/>
              <a:gdLst/>
              <a:ahLst/>
              <a:rect l="l" t="t" r="r" b="b"/>
              <a:pathLst>
                <a:path w="21" h="573">
                  <a:moveTo>
                    <a:pt x="10" y="573"/>
                  </a:moveTo>
                  <a:lnTo>
                    <a:pt x="21" y="56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562"/>
                  </a:lnTo>
                  <a:lnTo>
                    <a:pt x="10" y="573"/>
                  </a:lnTo>
                  <a:lnTo>
                    <a:pt x="0" y="562"/>
                  </a:lnTo>
                  <a:lnTo>
                    <a:pt x="1" y="567"/>
                  </a:lnTo>
                  <a:lnTo>
                    <a:pt x="3" y="570"/>
                  </a:lnTo>
                  <a:lnTo>
                    <a:pt x="6" y="572"/>
                  </a:lnTo>
                  <a:lnTo>
                    <a:pt x="10" y="573"/>
                  </a:lnTo>
                  <a:lnTo>
                    <a:pt x="15" y="572"/>
                  </a:lnTo>
                  <a:lnTo>
                    <a:pt x="17" y="570"/>
                  </a:lnTo>
                  <a:lnTo>
                    <a:pt x="19" y="567"/>
                  </a:lnTo>
                  <a:lnTo>
                    <a:pt x="21" y="562"/>
                  </a:lnTo>
                  <a:lnTo>
                    <a:pt x="10" y="5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893840" y="4256640"/>
              <a:ext cx="219240" cy="20880"/>
            </a:xfrm>
            <a:custGeom>
              <a:avLst/>
              <a:gdLst/>
              <a:ahLst/>
              <a:rect l="l" t="t" r="r" b="b"/>
              <a:pathLst>
                <a:path w="576" h="54">
                  <a:moveTo>
                    <a:pt x="0" y="11"/>
                  </a:moveTo>
                  <a:lnTo>
                    <a:pt x="10" y="21"/>
                  </a:lnTo>
                  <a:lnTo>
                    <a:pt x="575" y="54"/>
                  </a:lnTo>
                  <a:lnTo>
                    <a:pt x="576" y="33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19"/>
                  </a:lnTo>
                  <a:lnTo>
                    <a:pt x="10" y="2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893840" y="4201560"/>
              <a:ext cx="9360" cy="60480"/>
            </a:xfrm>
            <a:custGeom>
              <a:avLst/>
              <a:gdLst/>
              <a:ahLst/>
              <a:rect l="l" t="t" r="r" b="b"/>
              <a:pathLst>
                <a:path w="21" h="160">
                  <a:moveTo>
                    <a:pt x="10" y="1"/>
                  </a:moveTo>
                  <a:lnTo>
                    <a:pt x="0" y="11"/>
                  </a:lnTo>
                  <a:lnTo>
                    <a:pt x="0" y="160"/>
                  </a:lnTo>
                  <a:lnTo>
                    <a:pt x="21" y="160"/>
                  </a:lnTo>
                  <a:lnTo>
                    <a:pt x="21" y="11"/>
                  </a:lnTo>
                  <a:lnTo>
                    <a:pt x="10" y="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897440" y="4194360"/>
              <a:ext cx="140040" cy="14760"/>
            </a:xfrm>
            <a:custGeom>
              <a:avLst/>
              <a:gdLst/>
              <a:ahLst/>
              <a:rect l="l" t="t" r="r" b="b"/>
              <a:pathLst>
                <a:path w="367" h="37">
                  <a:moveTo>
                    <a:pt x="367" y="11"/>
                  </a:moveTo>
                  <a:lnTo>
                    <a:pt x="356" y="0"/>
                  </a:lnTo>
                  <a:lnTo>
                    <a:pt x="0" y="17"/>
                  </a:lnTo>
                  <a:lnTo>
                    <a:pt x="1" y="37"/>
                  </a:lnTo>
                  <a:lnTo>
                    <a:pt x="357" y="21"/>
                  </a:lnTo>
                  <a:lnTo>
                    <a:pt x="367" y="11"/>
                  </a:lnTo>
                  <a:lnTo>
                    <a:pt x="357" y="21"/>
                  </a:lnTo>
                  <a:lnTo>
                    <a:pt x="362" y="20"/>
                  </a:lnTo>
                  <a:lnTo>
                    <a:pt x="364" y="17"/>
                  </a:lnTo>
                  <a:lnTo>
                    <a:pt x="367" y="15"/>
                  </a:lnTo>
                  <a:lnTo>
                    <a:pt x="367" y="10"/>
                  </a:lnTo>
                  <a:lnTo>
                    <a:pt x="365" y="6"/>
                  </a:lnTo>
                  <a:lnTo>
                    <a:pt x="364" y="4"/>
                  </a:lnTo>
                  <a:lnTo>
                    <a:pt x="360" y="1"/>
                  </a:lnTo>
                  <a:lnTo>
                    <a:pt x="356" y="0"/>
                  </a:lnTo>
                  <a:lnTo>
                    <a:pt x="367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5029920" y="4010400"/>
              <a:ext cx="7560" cy="189360"/>
            </a:xfrm>
            <a:custGeom>
              <a:avLst/>
              <a:gdLst/>
              <a:ahLst/>
              <a:rect l="l" t="t" r="r" b="b"/>
              <a:pathLst>
                <a:path w="21" h="496">
                  <a:moveTo>
                    <a:pt x="16" y="1"/>
                  </a:moveTo>
                  <a:lnTo>
                    <a:pt x="0" y="10"/>
                  </a:lnTo>
                  <a:lnTo>
                    <a:pt x="0" y="496"/>
                  </a:lnTo>
                  <a:lnTo>
                    <a:pt x="21" y="496"/>
                  </a:lnTo>
                  <a:lnTo>
                    <a:pt x="21" y="10"/>
                  </a:lnTo>
                  <a:lnTo>
                    <a:pt x="16" y="1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032080" y="4012200"/>
              <a:ext cx="84960" cy="52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25" y="130"/>
                  </a:moveTo>
                  <a:lnTo>
                    <a:pt x="220" y="121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209" y="139"/>
                  </a:lnTo>
                  <a:lnTo>
                    <a:pt x="225" y="130"/>
                  </a:lnTo>
                  <a:lnTo>
                    <a:pt x="209" y="139"/>
                  </a:lnTo>
                  <a:lnTo>
                    <a:pt x="214" y="141"/>
                  </a:lnTo>
                  <a:lnTo>
                    <a:pt x="217" y="141"/>
                  </a:lnTo>
                  <a:lnTo>
                    <a:pt x="221" y="138"/>
                  </a:lnTo>
                  <a:lnTo>
                    <a:pt x="223" y="136"/>
                  </a:lnTo>
                  <a:lnTo>
                    <a:pt x="225" y="132"/>
                  </a:lnTo>
                  <a:lnTo>
                    <a:pt x="225" y="128"/>
                  </a:lnTo>
                  <a:lnTo>
                    <a:pt x="223" y="125"/>
                  </a:lnTo>
                  <a:lnTo>
                    <a:pt x="220" y="121"/>
                  </a:lnTo>
                  <a:lnTo>
                    <a:pt x="225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154840" y="4016160"/>
              <a:ext cx="226800" cy="264600"/>
            </a:xfrm>
            <a:custGeom>
              <a:avLst/>
              <a:gdLst/>
              <a:ahLst/>
              <a:rect l="l" t="t" r="r" b="b"/>
              <a:pathLst>
                <a:path w="601" h="696">
                  <a:moveTo>
                    <a:pt x="60" y="0"/>
                  </a:moveTo>
                  <a:lnTo>
                    <a:pt x="0" y="651"/>
                  </a:lnTo>
                  <a:lnTo>
                    <a:pt x="520" y="696"/>
                  </a:lnTo>
                  <a:lnTo>
                    <a:pt x="601" y="573"/>
                  </a:lnTo>
                  <a:lnTo>
                    <a:pt x="266" y="465"/>
                  </a:lnTo>
                  <a:lnTo>
                    <a:pt x="300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5a4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150880" y="4016160"/>
              <a:ext cx="30240" cy="249840"/>
            </a:xfrm>
            <a:custGeom>
              <a:avLst/>
              <a:gdLst/>
              <a:ahLst/>
              <a:rect l="l" t="t" r="r" b="b"/>
              <a:pathLst>
                <a:path w="81" h="661">
                  <a:moveTo>
                    <a:pt x="8" y="661"/>
                  </a:moveTo>
                  <a:lnTo>
                    <a:pt x="19" y="652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0" y="650"/>
                  </a:lnTo>
                  <a:lnTo>
                    <a:pt x="8" y="661"/>
                  </a:lnTo>
                  <a:lnTo>
                    <a:pt x="0" y="650"/>
                  </a:lnTo>
                  <a:lnTo>
                    <a:pt x="0" y="655"/>
                  </a:lnTo>
                  <a:lnTo>
                    <a:pt x="2" y="658"/>
                  </a:lnTo>
                  <a:lnTo>
                    <a:pt x="5" y="660"/>
                  </a:lnTo>
                  <a:lnTo>
                    <a:pt x="8" y="661"/>
                  </a:lnTo>
                  <a:lnTo>
                    <a:pt x="12" y="661"/>
                  </a:lnTo>
                  <a:lnTo>
                    <a:pt x="16" y="659"/>
                  </a:lnTo>
                  <a:lnTo>
                    <a:pt x="18" y="657"/>
                  </a:lnTo>
                  <a:lnTo>
                    <a:pt x="19" y="652"/>
                  </a:lnTo>
                  <a:lnTo>
                    <a:pt x="8" y="6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153040" y="4258440"/>
              <a:ext cx="202320" cy="26280"/>
            </a:xfrm>
            <a:custGeom>
              <a:avLst/>
              <a:gdLst/>
              <a:ahLst/>
              <a:rect l="l" t="t" r="r" b="b"/>
              <a:pathLst>
                <a:path w="532" h="67">
                  <a:moveTo>
                    <a:pt x="530" y="62"/>
                  </a:moveTo>
                  <a:lnTo>
                    <a:pt x="523" y="4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521" y="67"/>
                  </a:lnTo>
                  <a:lnTo>
                    <a:pt x="530" y="62"/>
                  </a:lnTo>
                  <a:lnTo>
                    <a:pt x="521" y="67"/>
                  </a:lnTo>
                  <a:lnTo>
                    <a:pt x="525" y="66"/>
                  </a:lnTo>
                  <a:lnTo>
                    <a:pt x="529" y="65"/>
                  </a:lnTo>
                  <a:lnTo>
                    <a:pt x="530" y="61"/>
                  </a:lnTo>
                  <a:lnTo>
                    <a:pt x="532" y="57"/>
                  </a:lnTo>
                  <a:lnTo>
                    <a:pt x="532" y="54"/>
                  </a:lnTo>
                  <a:lnTo>
                    <a:pt x="530" y="50"/>
                  </a:lnTo>
                  <a:lnTo>
                    <a:pt x="527" y="48"/>
                  </a:lnTo>
                  <a:lnTo>
                    <a:pt x="523" y="46"/>
                  </a:lnTo>
                  <a:lnTo>
                    <a:pt x="530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347800" y="4230000"/>
              <a:ext cx="37440" cy="5292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94" y="0"/>
                  </a:moveTo>
                  <a:lnTo>
                    <a:pt x="81" y="5"/>
                  </a:lnTo>
                  <a:lnTo>
                    <a:pt x="0" y="128"/>
                  </a:lnTo>
                  <a:lnTo>
                    <a:pt x="17" y="139"/>
                  </a:lnTo>
                  <a:lnTo>
                    <a:pt x="99" y="16"/>
                  </a:lnTo>
                  <a:lnTo>
                    <a:pt x="94" y="0"/>
                  </a:lnTo>
                  <a:lnTo>
                    <a:pt x="99" y="16"/>
                  </a:lnTo>
                  <a:lnTo>
                    <a:pt x="100" y="11"/>
                  </a:lnTo>
                  <a:lnTo>
                    <a:pt x="100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5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251320" y="4188240"/>
              <a:ext cx="132480" cy="49320"/>
            </a:xfrm>
            <a:custGeom>
              <a:avLst/>
              <a:gdLst/>
              <a:ahLst/>
              <a:rect l="l" t="t" r="r" b="b"/>
              <a:pathLst>
                <a:path w="348" h="129">
                  <a:moveTo>
                    <a:pt x="0" y="10"/>
                  </a:moveTo>
                  <a:lnTo>
                    <a:pt x="6" y="21"/>
                  </a:lnTo>
                  <a:lnTo>
                    <a:pt x="340" y="129"/>
                  </a:lnTo>
                  <a:lnTo>
                    <a:pt x="348" y="109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6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251320" y="4017960"/>
              <a:ext cx="20880" cy="174240"/>
            </a:xfrm>
            <a:custGeom>
              <a:avLst/>
              <a:gdLst/>
              <a:ahLst/>
              <a:rect l="l" t="t" r="r" b="b"/>
              <a:pathLst>
                <a:path w="52" h="461">
                  <a:moveTo>
                    <a:pt x="43" y="0"/>
                  </a:moveTo>
                  <a:lnTo>
                    <a:pt x="32" y="10"/>
                  </a:lnTo>
                  <a:lnTo>
                    <a:pt x="0" y="460"/>
                  </a:lnTo>
                  <a:lnTo>
                    <a:pt x="21" y="461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52" y="11"/>
                  </a:lnTo>
                  <a:lnTo>
                    <a:pt x="52" y="6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5"/>
                  </a:lnTo>
                  <a:lnTo>
                    <a:pt x="32" y="1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173560" y="4012200"/>
              <a:ext cx="94680" cy="12960"/>
            </a:xfrm>
            <a:custGeom>
              <a:avLst/>
              <a:gdLst/>
              <a:ahLst/>
              <a:rect l="l" t="t" r="r" b="b"/>
              <a:pathLst>
                <a:path w="250" h="35">
                  <a:moveTo>
                    <a:pt x="0" y="9"/>
                  </a:moveTo>
                  <a:lnTo>
                    <a:pt x="10" y="21"/>
                  </a:lnTo>
                  <a:lnTo>
                    <a:pt x="248" y="35"/>
                  </a:lnTo>
                  <a:lnTo>
                    <a:pt x="250" y="14"/>
                  </a:lnTo>
                  <a:lnTo>
                    <a:pt x="11" y="0"/>
                  </a:lnTo>
                  <a:lnTo>
                    <a:pt x="0" y="9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828440" y="3864600"/>
              <a:ext cx="225000" cy="531720"/>
            </a:xfrm>
            <a:custGeom>
              <a:avLst/>
              <a:gdLst/>
              <a:ahLst/>
              <a:rect l="l" t="t" r="r" b="b"/>
              <a:pathLst>
                <a:path w="592" h="1405">
                  <a:moveTo>
                    <a:pt x="183" y="0"/>
                  </a:moveTo>
                  <a:lnTo>
                    <a:pt x="169" y="73"/>
                  </a:lnTo>
                  <a:lnTo>
                    <a:pt x="155" y="150"/>
                  </a:lnTo>
                  <a:lnTo>
                    <a:pt x="143" y="234"/>
                  </a:lnTo>
                  <a:lnTo>
                    <a:pt x="132" y="321"/>
                  </a:lnTo>
                  <a:lnTo>
                    <a:pt x="111" y="506"/>
                  </a:lnTo>
                  <a:lnTo>
                    <a:pt x="92" y="696"/>
                  </a:lnTo>
                  <a:lnTo>
                    <a:pt x="73" y="888"/>
                  </a:lnTo>
                  <a:lnTo>
                    <a:pt x="52" y="1073"/>
                  </a:lnTo>
                  <a:lnTo>
                    <a:pt x="41" y="1161"/>
                  </a:lnTo>
                  <a:lnTo>
                    <a:pt x="28" y="1245"/>
                  </a:lnTo>
                  <a:lnTo>
                    <a:pt x="15" y="1324"/>
                  </a:lnTo>
                  <a:lnTo>
                    <a:pt x="0" y="1396"/>
                  </a:lnTo>
                  <a:lnTo>
                    <a:pt x="25" y="1400"/>
                  </a:lnTo>
                  <a:lnTo>
                    <a:pt x="54" y="1404"/>
                  </a:lnTo>
                  <a:lnTo>
                    <a:pt x="86" y="1405"/>
                  </a:lnTo>
                  <a:lnTo>
                    <a:pt x="122" y="1405"/>
                  </a:lnTo>
                  <a:lnTo>
                    <a:pt x="199" y="1402"/>
                  </a:lnTo>
                  <a:lnTo>
                    <a:pt x="280" y="1399"/>
                  </a:lnTo>
                  <a:lnTo>
                    <a:pt x="363" y="1394"/>
                  </a:lnTo>
                  <a:lnTo>
                    <a:pt x="440" y="1393"/>
                  </a:lnTo>
                  <a:lnTo>
                    <a:pt x="477" y="1393"/>
                  </a:lnTo>
                  <a:lnTo>
                    <a:pt x="510" y="1394"/>
                  </a:lnTo>
                  <a:lnTo>
                    <a:pt x="540" y="1396"/>
                  </a:lnTo>
                  <a:lnTo>
                    <a:pt x="566" y="1401"/>
                  </a:lnTo>
                  <a:lnTo>
                    <a:pt x="573" y="1364"/>
                  </a:lnTo>
                  <a:lnTo>
                    <a:pt x="579" y="1326"/>
                  </a:lnTo>
                  <a:lnTo>
                    <a:pt x="584" y="1288"/>
                  </a:lnTo>
                  <a:lnTo>
                    <a:pt x="587" y="1249"/>
                  </a:lnTo>
                  <a:lnTo>
                    <a:pt x="589" y="1208"/>
                  </a:lnTo>
                  <a:lnTo>
                    <a:pt x="590" y="1166"/>
                  </a:lnTo>
                  <a:lnTo>
                    <a:pt x="592" y="1124"/>
                  </a:lnTo>
                  <a:lnTo>
                    <a:pt x="590" y="1083"/>
                  </a:lnTo>
                  <a:lnTo>
                    <a:pt x="587" y="995"/>
                  </a:lnTo>
                  <a:lnTo>
                    <a:pt x="582" y="907"/>
                  </a:lnTo>
                  <a:lnTo>
                    <a:pt x="574" y="817"/>
                  </a:lnTo>
                  <a:lnTo>
                    <a:pt x="567" y="727"/>
                  </a:lnTo>
                  <a:lnTo>
                    <a:pt x="560" y="636"/>
                  </a:lnTo>
                  <a:lnTo>
                    <a:pt x="552" y="548"/>
                  </a:lnTo>
                  <a:lnTo>
                    <a:pt x="547" y="459"/>
                  </a:lnTo>
                  <a:lnTo>
                    <a:pt x="544" y="372"/>
                  </a:lnTo>
                  <a:lnTo>
                    <a:pt x="544" y="330"/>
                  </a:lnTo>
                  <a:lnTo>
                    <a:pt x="544" y="288"/>
                  </a:lnTo>
                  <a:lnTo>
                    <a:pt x="545" y="247"/>
                  </a:lnTo>
                  <a:lnTo>
                    <a:pt x="547" y="207"/>
                  </a:lnTo>
                  <a:lnTo>
                    <a:pt x="551" y="168"/>
                  </a:lnTo>
                  <a:lnTo>
                    <a:pt x="555" y="129"/>
                  </a:lnTo>
                  <a:lnTo>
                    <a:pt x="561" y="92"/>
                  </a:lnTo>
                  <a:lnTo>
                    <a:pt x="568" y="57"/>
                  </a:lnTo>
                  <a:lnTo>
                    <a:pt x="519" y="48"/>
                  </a:lnTo>
                  <a:lnTo>
                    <a:pt x="471" y="41"/>
                  </a:lnTo>
                  <a:lnTo>
                    <a:pt x="422" y="33"/>
                  </a:lnTo>
                  <a:lnTo>
                    <a:pt x="374" y="26"/>
                  </a:lnTo>
                  <a:lnTo>
                    <a:pt x="326" y="20"/>
                  </a:lnTo>
                  <a:lnTo>
                    <a:pt x="278" y="13"/>
                  </a:lnTo>
                  <a:lnTo>
                    <a:pt x="230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824480" y="3864600"/>
              <a:ext cx="77400" cy="531720"/>
            </a:xfrm>
            <a:custGeom>
              <a:avLst/>
              <a:gdLst/>
              <a:ahLst/>
              <a:rect l="l" t="t" r="r" b="b"/>
              <a:pathLst>
                <a:path w="202" h="1406">
                  <a:moveTo>
                    <a:pt x="11" y="1387"/>
                  </a:moveTo>
                  <a:lnTo>
                    <a:pt x="19" y="1399"/>
                  </a:lnTo>
                  <a:lnTo>
                    <a:pt x="33" y="1326"/>
                  </a:lnTo>
                  <a:lnTo>
                    <a:pt x="47" y="1247"/>
                  </a:lnTo>
                  <a:lnTo>
                    <a:pt x="59" y="1164"/>
                  </a:lnTo>
                  <a:lnTo>
                    <a:pt x="72" y="1075"/>
                  </a:lnTo>
                  <a:lnTo>
                    <a:pt x="92" y="891"/>
                  </a:lnTo>
                  <a:lnTo>
                    <a:pt x="111" y="699"/>
                  </a:lnTo>
                  <a:lnTo>
                    <a:pt x="131" y="508"/>
                  </a:lnTo>
                  <a:lnTo>
                    <a:pt x="151" y="323"/>
                  </a:lnTo>
                  <a:lnTo>
                    <a:pt x="163" y="236"/>
                  </a:lnTo>
                  <a:lnTo>
                    <a:pt x="175" y="154"/>
                  </a:lnTo>
                  <a:lnTo>
                    <a:pt x="187" y="75"/>
                  </a:lnTo>
                  <a:lnTo>
                    <a:pt x="202" y="4"/>
                  </a:lnTo>
                  <a:lnTo>
                    <a:pt x="183" y="0"/>
                  </a:lnTo>
                  <a:lnTo>
                    <a:pt x="169" y="73"/>
                  </a:lnTo>
                  <a:lnTo>
                    <a:pt x="156" y="150"/>
                  </a:lnTo>
                  <a:lnTo>
                    <a:pt x="144" y="234"/>
                  </a:lnTo>
                  <a:lnTo>
                    <a:pt x="133" y="321"/>
                  </a:lnTo>
                  <a:lnTo>
                    <a:pt x="112" y="506"/>
                  </a:lnTo>
                  <a:lnTo>
                    <a:pt x="92" y="696"/>
                  </a:lnTo>
                  <a:lnTo>
                    <a:pt x="74" y="888"/>
                  </a:lnTo>
                  <a:lnTo>
                    <a:pt x="53" y="1073"/>
                  </a:lnTo>
                  <a:lnTo>
                    <a:pt x="41" y="1160"/>
                  </a:lnTo>
                  <a:lnTo>
                    <a:pt x="28" y="1244"/>
                  </a:lnTo>
                  <a:lnTo>
                    <a:pt x="15" y="1322"/>
                  </a:lnTo>
                  <a:lnTo>
                    <a:pt x="0" y="1395"/>
                  </a:lnTo>
                  <a:lnTo>
                    <a:pt x="8" y="1406"/>
                  </a:lnTo>
                  <a:lnTo>
                    <a:pt x="0" y="1395"/>
                  </a:lnTo>
                  <a:lnTo>
                    <a:pt x="0" y="1400"/>
                  </a:lnTo>
                  <a:lnTo>
                    <a:pt x="1" y="1402"/>
                  </a:lnTo>
                  <a:lnTo>
                    <a:pt x="4" y="1405"/>
                  </a:lnTo>
                  <a:lnTo>
                    <a:pt x="8" y="1406"/>
                  </a:lnTo>
                  <a:lnTo>
                    <a:pt x="11" y="1406"/>
                  </a:lnTo>
                  <a:lnTo>
                    <a:pt x="14" y="1405"/>
                  </a:lnTo>
                  <a:lnTo>
                    <a:pt x="17" y="1403"/>
                  </a:lnTo>
                  <a:lnTo>
                    <a:pt x="19" y="1399"/>
                  </a:lnTo>
                  <a:lnTo>
                    <a:pt x="11" y="13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828440" y="4389120"/>
              <a:ext cx="219240" cy="11160"/>
            </a:xfrm>
            <a:custGeom>
              <a:avLst/>
              <a:gdLst/>
              <a:ahLst/>
              <a:rect l="l" t="t" r="r" b="b"/>
              <a:pathLst>
                <a:path w="578" h="31">
                  <a:moveTo>
                    <a:pt x="559" y="16"/>
                  </a:moveTo>
                  <a:lnTo>
                    <a:pt x="570" y="8"/>
                  </a:lnTo>
                  <a:lnTo>
                    <a:pt x="543" y="5"/>
                  </a:lnTo>
                  <a:lnTo>
                    <a:pt x="512" y="1"/>
                  </a:lnTo>
                  <a:lnTo>
                    <a:pt x="479" y="0"/>
                  </a:lnTo>
                  <a:lnTo>
                    <a:pt x="442" y="0"/>
                  </a:lnTo>
                  <a:lnTo>
                    <a:pt x="365" y="2"/>
                  </a:lnTo>
                  <a:lnTo>
                    <a:pt x="282" y="6"/>
                  </a:lnTo>
                  <a:lnTo>
                    <a:pt x="201" y="10"/>
                  </a:lnTo>
                  <a:lnTo>
                    <a:pt x="124" y="12"/>
                  </a:lnTo>
                  <a:lnTo>
                    <a:pt x="88" y="12"/>
                  </a:lnTo>
                  <a:lnTo>
                    <a:pt x="56" y="11"/>
                  </a:lnTo>
                  <a:lnTo>
                    <a:pt x="28" y="8"/>
                  </a:lnTo>
                  <a:lnTo>
                    <a:pt x="3" y="3"/>
                  </a:lnTo>
                  <a:lnTo>
                    <a:pt x="0" y="22"/>
                  </a:lnTo>
                  <a:lnTo>
                    <a:pt x="25" y="27"/>
                  </a:lnTo>
                  <a:lnTo>
                    <a:pt x="55" y="29"/>
                  </a:lnTo>
                  <a:lnTo>
                    <a:pt x="88" y="31"/>
                  </a:lnTo>
                  <a:lnTo>
                    <a:pt x="124" y="31"/>
                  </a:lnTo>
                  <a:lnTo>
                    <a:pt x="201" y="29"/>
                  </a:lnTo>
                  <a:lnTo>
                    <a:pt x="284" y="24"/>
                  </a:lnTo>
                  <a:lnTo>
                    <a:pt x="365" y="21"/>
                  </a:lnTo>
                  <a:lnTo>
                    <a:pt x="444" y="18"/>
                  </a:lnTo>
                  <a:lnTo>
                    <a:pt x="479" y="18"/>
                  </a:lnTo>
                  <a:lnTo>
                    <a:pt x="511" y="19"/>
                  </a:lnTo>
                  <a:lnTo>
                    <a:pt x="541" y="23"/>
                  </a:lnTo>
                  <a:lnTo>
                    <a:pt x="567" y="27"/>
                  </a:lnTo>
                  <a:lnTo>
                    <a:pt x="576" y="19"/>
                  </a:lnTo>
                  <a:lnTo>
                    <a:pt x="567" y="27"/>
                  </a:lnTo>
                  <a:lnTo>
                    <a:pt x="570" y="27"/>
                  </a:lnTo>
                  <a:lnTo>
                    <a:pt x="574" y="26"/>
                  </a:lnTo>
                  <a:lnTo>
                    <a:pt x="575" y="23"/>
                  </a:lnTo>
                  <a:lnTo>
                    <a:pt x="578" y="19"/>
                  </a:lnTo>
                  <a:lnTo>
                    <a:pt x="578" y="16"/>
                  </a:lnTo>
                  <a:lnTo>
                    <a:pt x="576" y="13"/>
                  </a:lnTo>
                  <a:lnTo>
                    <a:pt x="574" y="11"/>
                  </a:lnTo>
                  <a:lnTo>
                    <a:pt x="570" y="8"/>
                  </a:lnTo>
                  <a:lnTo>
                    <a:pt x="55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31120" y="3883320"/>
              <a:ext cx="24120" cy="513000"/>
            </a:xfrm>
            <a:custGeom>
              <a:avLst/>
              <a:gdLst/>
              <a:ahLst/>
              <a:rect l="l" t="t" r="r" b="b"/>
              <a:pathLst>
                <a:path w="66" h="1355">
                  <a:moveTo>
                    <a:pt x="33" y="18"/>
                  </a:moveTo>
                  <a:lnTo>
                    <a:pt x="26" y="7"/>
                  </a:lnTo>
                  <a:lnTo>
                    <a:pt x="18" y="44"/>
                  </a:lnTo>
                  <a:lnTo>
                    <a:pt x="12" y="81"/>
                  </a:lnTo>
                  <a:lnTo>
                    <a:pt x="7" y="121"/>
                  </a:lnTo>
                  <a:lnTo>
                    <a:pt x="3" y="160"/>
                  </a:lnTo>
                  <a:lnTo>
                    <a:pt x="1" y="200"/>
                  </a:lnTo>
                  <a:lnTo>
                    <a:pt x="0" y="241"/>
                  </a:lnTo>
                  <a:lnTo>
                    <a:pt x="0" y="283"/>
                  </a:lnTo>
                  <a:lnTo>
                    <a:pt x="1" y="326"/>
                  </a:lnTo>
                  <a:lnTo>
                    <a:pt x="3" y="412"/>
                  </a:lnTo>
                  <a:lnTo>
                    <a:pt x="10" y="501"/>
                  </a:lnTo>
                  <a:lnTo>
                    <a:pt x="16" y="590"/>
                  </a:lnTo>
                  <a:lnTo>
                    <a:pt x="24" y="680"/>
                  </a:lnTo>
                  <a:lnTo>
                    <a:pt x="32" y="771"/>
                  </a:lnTo>
                  <a:lnTo>
                    <a:pt x="38" y="861"/>
                  </a:lnTo>
                  <a:lnTo>
                    <a:pt x="44" y="948"/>
                  </a:lnTo>
                  <a:lnTo>
                    <a:pt x="48" y="1036"/>
                  </a:lnTo>
                  <a:lnTo>
                    <a:pt x="48" y="1077"/>
                  </a:lnTo>
                  <a:lnTo>
                    <a:pt x="48" y="1119"/>
                  </a:lnTo>
                  <a:lnTo>
                    <a:pt x="47" y="1161"/>
                  </a:lnTo>
                  <a:lnTo>
                    <a:pt x="44" y="1200"/>
                  </a:lnTo>
                  <a:lnTo>
                    <a:pt x="40" y="1240"/>
                  </a:lnTo>
                  <a:lnTo>
                    <a:pt x="35" y="1278"/>
                  </a:lnTo>
                  <a:lnTo>
                    <a:pt x="31" y="1316"/>
                  </a:lnTo>
                  <a:lnTo>
                    <a:pt x="23" y="1352"/>
                  </a:lnTo>
                  <a:lnTo>
                    <a:pt x="40" y="1355"/>
                  </a:lnTo>
                  <a:lnTo>
                    <a:pt x="49" y="1319"/>
                  </a:lnTo>
                  <a:lnTo>
                    <a:pt x="54" y="1280"/>
                  </a:lnTo>
                  <a:lnTo>
                    <a:pt x="59" y="1242"/>
                  </a:lnTo>
                  <a:lnTo>
                    <a:pt x="63" y="1202"/>
                  </a:lnTo>
                  <a:lnTo>
                    <a:pt x="65" y="1161"/>
                  </a:lnTo>
                  <a:lnTo>
                    <a:pt x="66" y="1121"/>
                  </a:lnTo>
                  <a:lnTo>
                    <a:pt x="66" y="1077"/>
                  </a:lnTo>
                  <a:lnTo>
                    <a:pt x="66" y="1034"/>
                  </a:lnTo>
                  <a:lnTo>
                    <a:pt x="63" y="948"/>
                  </a:lnTo>
                  <a:lnTo>
                    <a:pt x="58" y="860"/>
                  </a:lnTo>
                  <a:lnTo>
                    <a:pt x="50" y="770"/>
                  </a:lnTo>
                  <a:lnTo>
                    <a:pt x="43" y="679"/>
                  </a:lnTo>
                  <a:lnTo>
                    <a:pt x="34" y="589"/>
                  </a:lnTo>
                  <a:lnTo>
                    <a:pt x="28" y="499"/>
                  </a:lnTo>
                  <a:lnTo>
                    <a:pt x="22" y="411"/>
                  </a:lnTo>
                  <a:lnTo>
                    <a:pt x="19" y="325"/>
                  </a:lnTo>
                  <a:lnTo>
                    <a:pt x="18" y="283"/>
                  </a:lnTo>
                  <a:lnTo>
                    <a:pt x="18" y="241"/>
                  </a:lnTo>
                  <a:lnTo>
                    <a:pt x="19" y="200"/>
                  </a:lnTo>
                  <a:lnTo>
                    <a:pt x="22" y="161"/>
                  </a:lnTo>
                  <a:lnTo>
                    <a:pt x="26" y="122"/>
                  </a:lnTo>
                  <a:lnTo>
                    <a:pt x="31" y="84"/>
                  </a:lnTo>
                  <a:lnTo>
                    <a:pt x="35" y="47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43" y="11"/>
                  </a:lnTo>
                  <a:lnTo>
                    <a:pt x="43" y="7"/>
                  </a:lnTo>
                  <a:lnTo>
                    <a:pt x="42" y="4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7" y="4"/>
                  </a:lnTo>
                  <a:lnTo>
                    <a:pt x="26" y="7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894680" y="3862800"/>
              <a:ext cx="149400" cy="26280"/>
            </a:xfrm>
            <a:custGeom>
              <a:avLst/>
              <a:gdLst/>
              <a:ahLst/>
              <a:rect l="l" t="t" r="r" b="b"/>
              <a:pathLst>
                <a:path w="396" h="73">
                  <a:moveTo>
                    <a:pt x="19" y="11"/>
                  </a:moveTo>
                  <a:lnTo>
                    <a:pt x="9" y="18"/>
                  </a:lnTo>
                  <a:lnTo>
                    <a:pt x="56" y="24"/>
                  </a:lnTo>
                  <a:lnTo>
                    <a:pt x="104" y="30"/>
                  </a:lnTo>
                  <a:lnTo>
                    <a:pt x="152" y="37"/>
                  </a:lnTo>
                  <a:lnTo>
                    <a:pt x="200" y="43"/>
                  </a:lnTo>
                  <a:lnTo>
                    <a:pt x="248" y="50"/>
                  </a:lnTo>
                  <a:lnTo>
                    <a:pt x="297" y="57"/>
                  </a:lnTo>
                  <a:lnTo>
                    <a:pt x="345" y="65"/>
                  </a:lnTo>
                  <a:lnTo>
                    <a:pt x="394" y="73"/>
                  </a:lnTo>
                  <a:lnTo>
                    <a:pt x="396" y="55"/>
                  </a:lnTo>
                  <a:lnTo>
                    <a:pt x="349" y="46"/>
                  </a:lnTo>
                  <a:lnTo>
                    <a:pt x="299" y="39"/>
                  </a:lnTo>
                  <a:lnTo>
                    <a:pt x="250" y="32"/>
                  </a:lnTo>
                  <a:lnTo>
                    <a:pt x="202" y="24"/>
                  </a:lnTo>
                  <a:lnTo>
                    <a:pt x="154" y="18"/>
                  </a:lnTo>
                  <a:lnTo>
                    <a:pt x="106" y="12"/>
                  </a:lnTo>
                  <a:lnTo>
                    <a:pt x="58" y="6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7"/>
                  </a:lnTo>
                  <a:lnTo>
                    <a:pt x="9" y="18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228480" y="3825000"/>
              <a:ext cx="210240" cy="541440"/>
            </a:xfrm>
            <a:custGeom>
              <a:avLst/>
              <a:gdLst/>
              <a:ahLst/>
              <a:rect l="l" t="t" r="r" b="b"/>
              <a:pathLst>
                <a:path w="557" h="1432">
                  <a:moveTo>
                    <a:pt x="33" y="106"/>
                  </a:moveTo>
                  <a:lnTo>
                    <a:pt x="26" y="140"/>
                  </a:lnTo>
                  <a:lnTo>
                    <a:pt x="20" y="176"/>
                  </a:lnTo>
                  <a:lnTo>
                    <a:pt x="16" y="214"/>
                  </a:lnTo>
                  <a:lnTo>
                    <a:pt x="12" y="252"/>
                  </a:lnTo>
                  <a:lnTo>
                    <a:pt x="9" y="292"/>
                  </a:lnTo>
                  <a:lnTo>
                    <a:pt x="8" y="331"/>
                  </a:lnTo>
                  <a:lnTo>
                    <a:pt x="6" y="373"/>
                  </a:lnTo>
                  <a:lnTo>
                    <a:pt x="5" y="414"/>
                  </a:lnTo>
                  <a:lnTo>
                    <a:pt x="6" y="498"/>
                  </a:lnTo>
                  <a:lnTo>
                    <a:pt x="9" y="586"/>
                  </a:lnTo>
                  <a:lnTo>
                    <a:pt x="14" y="674"/>
                  </a:lnTo>
                  <a:lnTo>
                    <a:pt x="17" y="763"/>
                  </a:lnTo>
                  <a:lnTo>
                    <a:pt x="22" y="851"/>
                  </a:lnTo>
                  <a:lnTo>
                    <a:pt x="26" y="940"/>
                  </a:lnTo>
                  <a:lnTo>
                    <a:pt x="28" y="1027"/>
                  </a:lnTo>
                  <a:lnTo>
                    <a:pt x="30" y="1113"/>
                  </a:lnTo>
                  <a:lnTo>
                    <a:pt x="30" y="1155"/>
                  </a:lnTo>
                  <a:lnTo>
                    <a:pt x="27" y="1196"/>
                  </a:lnTo>
                  <a:lnTo>
                    <a:pt x="26" y="1236"/>
                  </a:lnTo>
                  <a:lnTo>
                    <a:pt x="22" y="1276"/>
                  </a:lnTo>
                  <a:lnTo>
                    <a:pt x="19" y="1314"/>
                  </a:lnTo>
                  <a:lnTo>
                    <a:pt x="14" y="1352"/>
                  </a:lnTo>
                  <a:lnTo>
                    <a:pt x="8" y="1389"/>
                  </a:lnTo>
                  <a:lnTo>
                    <a:pt x="0" y="1425"/>
                  </a:lnTo>
                  <a:lnTo>
                    <a:pt x="26" y="1428"/>
                  </a:lnTo>
                  <a:lnTo>
                    <a:pt x="53" y="1431"/>
                  </a:lnTo>
                  <a:lnTo>
                    <a:pt x="85" y="1432"/>
                  </a:lnTo>
                  <a:lnTo>
                    <a:pt x="118" y="1432"/>
                  </a:lnTo>
                  <a:lnTo>
                    <a:pt x="190" y="1429"/>
                  </a:lnTo>
                  <a:lnTo>
                    <a:pt x="265" y="1426"/>
                  </a:lnTo>
                  <a:lnTo>
                    <a:pt x="341" y="1421"/>
                  </a:lnTo>
                  <a:lnTo>
                    <a:pt x="412" y="1418"/>
                  </a:lnTo>
                  <a:lnTo>
                    <a:pt x="447" y="1418"/>
                  </a:lnTo>
                  <a:lnTo>
                    <a:pt x="477" y="1420"/>
                  </a:lnTo>
                  <a:lnTo>
                    <a:pt x="507" y="1422"/>
                  </a:lnTo>
                  <a:lnTo>
                    <a:pt x="533" y="1427"/>
                  </a:lnTo>
                  <a:lnTo>
                    <a:pt x="540" y="1390"/>
                  </a:lnTo>
                  <a:lnTo>
                    <a:pt x="545" y="1352"/>
                  </a:lnTo>
                  <a:lnTo>
                    <a:pt x="550" y="1311"/>
                  </a:lnTo>
                  <a:lnTo>
                    <a:pt x="554" y="1271"/>
                  </a:lnTo>
                  <a:lnTo>
                    <a:pt x="556" y="1229"/>
                  </a:lnTo>
                  <a:lnTo>
                    <a:pt x="557" y="1185"/>
                  </a:lnTo>
                  <a:lnTo>
                    <a:pt x="557" y="1140"/>
                  </a:lnTo>
                  <a:lnTo>
                    <a:pt x="557" y="1096"/>
                  </a:lnTo>
                  <a:lnTo>
                    <a:pt x="554" y="1003"/>
                  </a:lnTo>
                  <a:lnTo>
                    <a:pt x="547" y="908"/>
                  </a:lnTo>
                  <a:lnTo>
                    <a:pt x="541" y="811"/>
                  </a:lnTo>
                  <a:lnTo>
                    <a:pt x="533" y="714"/>
                  </a:lnTo>
                  <a:lnTo>
                    <a:pt x="525" y="615"/>
                  </a:lnTo>
                  <a:lnTo>
                    <a:pt x="518" y="519"/>
                  </a:lnTo>
                  <a:lnTo>
                    <a:pt x="513" y="423"/>
                  </a:lnTo>
                  <a:lnTo>
                    <a:pt x="509" y="331"/>
                  </a:lnTo>
                  <a:lnTo>
                    <a:pt x="508" y="287"/>
                  </a:lnTo>
                  <a:lnTo>
                    <a:pt x="508" y="243"/>
                  </a:lnTo>
                  <a:lnTo>
                    <a:pt x="509" y="199"/>
                  </a:lnTo>
                  <a:lnTo>
                    <a:pt x="512" y="158"/>
                  </a:lnTo>
                  <a:lnTo>
                    <a:pt x="515" y="117"/>
                  </a:lnTo>
                  <a:lnTo>
                    <a:pt x="519" y="78"/>
                  </a:lnTo>
                  <a:lnTo>
                    <a:pt x="525" y="40"/>
                  </a:lnTo>
                  <a:lnTo>
                    <a:pt x="533" y="3"/>
                  </a:lnTo>
                  <a:lnTo>
                    <a:pt x="520" y="1"/>
                  </a:lnTo>
                  <a:lnTo>
                    <a:pt x="507" y="0"/>
                  </a:lnTo>
                  <a:lnTo>
                    <a:pt x="493" y="0"/>
                  </a:lnTo>
                  <a:lnTo>
                    <a:pt x="479" y="1"/>
                  </a:lnTo>
                  <a:lnTo>
                    <a:pt x="449" y="5"/>
                  </a:lnTo>
                  <a:lnTo>
                    <a:pt x="417" y="11"/>
                  </a:lnTo>
                  <a:lnTo>
                    <a:pt x="384" y="20"/>
                  </a:lnTo>
                  <a:lnTo>
                    <a:pt x="351" y="30"/>
                  </a:lnTo>
                  <a:lnTo>
                    <a:pt x="316" y="41"/>
                  </a:lnTo>
                  <a:lnTo>
                    <a:pt x="281" y="52"/>
                  </a:lnTo>
                  <a:lnTo>
                    <a:pt x="212" y="74"/>
                  </a:lnTo>
                  <a:lnTo>
                    <a:pt x="145" y="92"/>
                  </a:lnTo>
                  <a:lnTo>
                    <a:pt x="115" y="100"/>
                  </a:lnTo>
                  <a:lnTo>
                    <a:pt x="85" y="105"/>
                  </a:lnTo>
                  <a:lnTo>
                    <a:pt x="71" y="106"/>
                  </a:lnTo>
                  <a:lnTo>
                    <a:pt x="58" y="107"/>
                  </a:lnTo>
                  <a:lnTo>
                    <a:pt x="46" y="106"/>
                  </a:lnTo>
                  <a:lnTo>
                    <a:pt x="33" y="10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24880" y="3864600"/>
              <a:ext cx="18720" cy="503640"/>
            </a:xfrm>
            <a:custGeom>
              <a:avLst/>
              <a:gdLst/>
              <a:ahLst/>
              <a:rect l="l" t="t" r="r" b="b"/>
              <a:pathLst>
                <a:path w="50" h="1329">
                  <a:moveTo>
                    <a:pt x="11" y="1311"/>
                  </a:moveTo>
                  <a:lnTo>
                    <a:pt x="18" y="1322"/>
                  </a:lnTo>
                  <a:lnTo>
                    <a:pt x="25" y="1286"/>
                  </a:lnTo>
                  <a:lnTo>
                    <a:pt x="32" y="1249"/>
                  </a:lnTo>
                  <a:lnTo>
                    <a:pt x="36" y="1211"/>
                  </a:lnTo>
                  <a:lnTo>
                    <a:pt x="40" y="1173"/>
                  </a:lnTo>
                  <a:lnTo>
                    <a:pt x="43" y="1132"/>
                  </a:lnTo>
                  <a:lnTo>
                    <a:pt x="45" y="1092"/>
                  </a:lnTo>
                  <a:lnTo>
                    <a:pt x="46" y="1051"/>
                  </a:lnTo>
                  <a:lnTo>
                    <a:pt x="48" y="1009"/>
                  </a:lnTo>
                  <a:lnTo>
                    <a:pt x="46" y="923"/>
                  </a:lnTo>
                  <a:lnTo>
                    <a:pt x="44" y="836"/>
                  </a:lnTo>
                  <a:lnTo>
                    <a:pt x="40" y="747"/>
                  </a:lnTo>
                  <a:lnTo>
                    <a:pt x="35" y="659"/>
                  </a:lnTo>
                  <a:lnTo>
                    <a:pt x="30" y="570"/>
                  </a:lnTo>
                  <a:lnTo>
                    <a:pt x="27" y="482"/>
                  </a:lnTo>
                  <a:lnTo>
                    <a:pt x="24" y="394"/>
                  </a:lnTo>
                  <a:lnTo>
                    <a:pt x="23" y="310"/>
                  </a:lnTo>
                  <a:lnTo>
                    <a:pt x="23" y="269"/>
                  </a:lnTo>
                  <a:lnTo>
                    <a:pt x="24" y="228"/>
                  </a:lnTo>
                  <a:lnTo>
                    <a:pt x="27" y="188"/>
                  </a:lnTo>
                  <a:lnTo>
                    <a:pt x="29" y="148"/>
                  </a:lnTo>
                  <a:lnTo>
                    <a:pt x="33" y="111"/>
                  </a:lnTo>
                  <a:lnTo>
                    <a:pt x="38" y="73"/>
                  </a:lnTo>
                  <a:lnTo>
                    <a:pt x="44" y="38"/>
                  </a:lnTo>
                  <a:lnTo>
                    <a:pt x="50" y="3"/>
                  </a:lnTo>
                  <a:lnTo>
                    <a:pt x="33" y="0"/>
                  </a:lnTo>
                  <a:lnTo>
                    <a:pt x="25" y="35"/>
                  </a:lnTo>
                  <a:lnTo>
                    <a:pt x="19" y="71"/>
                  </a:lnTo>
                  <a:lnTo>
                    <a:pt x="14" y="109"/>
                  </a:lnTo>
                  <a:lnTo>
                    <a:pt x="11" y="147"/>
                  </a:lnTo>
                  <a:lnTo>
                    <a:pt x="8" y="187"/>
                  </a:lnTo>
                  <a:lnTo>
                    <a:pt x="6" y="227"/>
                  </a:lnTo>
                  <a:lnTo>
                    <a:pt x="4" y="268"/>
                  </a:lnTo>
                  <a:lnTo>
                    <a:pt x="4" y="310"/>
                  </a:lnTo>
                  <a:lnTo>
                    <a:pt x="6" y="396"/>
                  </a:lnTo>
                  <a:lnTo>
                    <a:pt x="8" y="482"/>
                  </a:lnTo>
                  <a:lnTo>
                    <a:pt x="12" y="570"/>
                  </a:lnTo>
                  <a:lnTo>
                    <a:pt x="17" y="660"/>
                  </a:lnTo>
                  <a:lnTo>
                    <a:pt x="22" y="749"/>
                  </a:lnTo>
                  <a:lnTo>
                    <a:pt x="25" y="837"/>
                  </a:lnTo>
                  <a:lnTo>
                    <a:pt x="28" y="923"/>
                  </a:lnTo>
                  <a:lnTo>
                    <a:pt x="28" y="1009"/>
                  </a:lnTo>
                  <a:lnTo>
                    <a:pt x="28" y="1051"/>
                  </a:lnTo>
                  <a:lnTo>
                    <a:pt x="27" y="1092"/>
                  </a:lnTo>
                  <a:lnTo>
                    <a:pt x="24" y="1131"/>
                  </a:lnTo>
                  <a:lnTo>
                    <a:pt x="22" y="1171"/>
                  </a:lnTo>
                  <a:lnTo>
                    <a:pt x="18" y="1210"/>
                  </a:lnTo>
                  <a:lnTo>
                    <a:pt x="13" y="1247"/>
                  </a:lnTo>
                  <a:lnTo>
                    <a:pt x="7" y="1282"/>
                  </a:lnTo>
                  <a:lnTo>
                    <a:pt x="0" y="1318"/>
                  </a:lnTo>
                  <a:lnTo>
                    <a:pt x="7" y="1329"/>
                  </a:lnTo>
                  <a:lnTo>
                    <a:pt x="0" y="1318"/>
                  </a:lnTo>
                  <a:lnTo>
                    <a:pt x="0" y="1322"/>
                  </a:lnTo>
                  <a:lnTo>
                    <a:pt x="1" y="1325"/>
                  </a:lnTo>
                  <a:lnTo>
                    <a:pt x="3" y="1328"/>
                  </a:lnTo>
                  <a:lnTo>
                    <a:pt x="7" y="1329"/>
                  </a:lnTo>
                  <a:lnTo>
                    <a:pt x="11" y="1329"/>
                  </a:lnTo>
                  <a:lnTo>
                    <a:pt x="13" y="1328"/>
                  </a:lnTo>
                  <a:lnTo>
                    <a:pt x="16" y="1325"/>
                  </a:lnTo>
                  <a:lnTo>
                    <a:pt x="18" y="1322"/>
                  </a:lnTo>
                  <a:lnTo>
                    <a:pt x="11" y="13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28480" y="4358880"/>
              <a:ext cx="204120" cy="11520"/>
            </a:xfrm>
            <a:custGeom>
              <a:avLst/>
              <a:gdLst/>
              <a:ahLst/>
              <a:rect l="l" t="t" r="r" b="b"/>
              <a:pathLst>
                <a:path w="542" h="33">
                  <a:moveTo>
                    <a:pt x="524" y="16"/>
                  </a:moveTo>
                  <a:lnTo>
                    <a:pt x="535" y="8"/>
                  </a:lnTo>
                  <a:lnTo>
                    <a:pt x="509" y="4"/>
                  </a:lnTo>
                  <a:lnTo>
                    <a:pt x="480" y="1"/>
                  </a:lnTo>
                  <a:lnTo>
                    <a:pt x="448" y="0"/>
                  </a:lnTo>
                  <a:lnTo>
                    <a:pt x="413" y="0"/>
                  </a:lnTo>
                  <a:lnTo>
                    <a:pt x="341" y="2"/>
                  </a:lnTo>
                  <a:lnTo>
                    <a:pt x="266" y="7"/>
                  </a:lnTo>
                  <a:lnTo>
                    <a:pt x="189" y="12"/>
                  </a:lnTo>
                  <a:lnTo>
                    <a:pt x="118" y="14"/>
                  </a:lnTo>
                  <a:lnTo>
                    <a:pt x="86" y="14"/>
                  </a:lnTo>
                  <a:lnTo>
                    <a:pt x="55" y="13"/>
                  </a:lnTo>
                  <a:lnTo>
                    <a:pt x="28" y="11"/>
                  </a:lnTo>
                  <a:lnTo>
                    <a:pt x="4" y="6"/>
                  </a:lnTo>
                  <a:lnTo>
                    <a:pt x="0" y="24"/>
                  </a:lnTo>
                  <a:lnTo>
                    <a:pt x="26" y="29"/>
                  </a:lnTo>
                  <a:lnTo>
                    <a:pt x="54" y="32"/>
                  </a:lnTo>
                  <a:lnTo>
                    <a:pt x="85" y="33"/>
                  </a:lnTo>
                  <a:lnTo>
                    <a:pt x="119" y="33"/>
                  </a:lnTo>
                  <a:lnTo>
                    <a:pt x="191" y="30"/>
                  </a:lnTo>
                  <a:lnTo>
                    <a:pt x="267" y="25"/>
                  </a:lnTo>
                  <a:lnTo>
                    <a:pt x="342" y="20"/>
                  </a:lnTo>
                  <a:lnTo>
                    <a:pt x="414" y="18"/>
                  </a:lnTo>
                  <a:lnTo>
                    <a:pt x="448" y="18"/>
                  </a:lnTo>
                  <a:lnTo>
                    <a:pt x="478" y="19"/>
                  </a:lnTo>
                  <a:lnTo>
                    <a:pt x="507" y="22"/>
                  </a:lnTo>
                  <a:lnTo>
                    <a:pt x="531" y="27"/>
                  </a:lnTo>
                  <a:lnTo>
                    <a:pt x="542" y="19"/>
                  </a:lnTo>
                  <a:lnTo>
                    <a:pt x="531" y="27"/>
                  </a:lnTo>
                  <a:lnTo>
                    <a:pt x="535" y="27"/>
                  </a:lnTo>
                  <a:lnTo>
                    <a:pt x="539" y="25"/>
                  </a:lnTo>
                  <a:lnTo>
                    <a:pt x="541" y="23"/>
                  </a:lnTo>
                  <a:lnTo>
                    <a:pt x="542" y="19"/>
                  </a:lnTo>
                  <a:lnTo>
                    <a:pt x="542" y="16"/>
                  </a:lnTo>
                  <a:lnTo>
                    <a:pt x="541" y="13"/>
                  </a:lnTo>
                  <a:lnTo>
                    <a:pt x="539" y="9"/>
                  </a:lnTo>
                  <a:lnTo>
                    <a:pt x="535" y="8"/>
                  </a:lnTo>
                  <a:lnTo>
                    <a:pt x="52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417840" y="3822840"/>
              <a:ext cx="24120" cy="543600"/>
            </a:xfrm>
            <a:custGeom>
              <a:avLst/>
              <a:gdLst/>
              <a:ahLst/>
              <a:rect l="l" t="t" r="r" b="b"/>
              <a:pathLst>
                <a:path w="68" h="1434">
                  <a:moveTo>
                    <a:pt x="31" y="19"/>
                  </a:moveTo>
                  <a:lnTo>
                    <a:pt x="24" y="7"/>
                  </a:lnTo>
                  <a:lnTo>
                    <a:pt x="16" y="44"/>
                  </a:lnTo>
                  <a:lnTo>
                    <a:pt x="12" y="82"/>
                  </a:lnTo>
                  <a:lnTo>
                    <a:pt x="7" y="122"/>
                  </a:lnTo>
                  <a:lnTo>
                    <a:pt x="4" y="162"/>
                  </a:lnTo>
                  <a:lnTo>
                    <a:pt x="2" y="205"/>
                  </a:lnTo>
                  <a:lnTo>
                    <a:pt x="0" y="249"/>
                  </a:lnTo>
                  <a:lnTo>
                    <a:pt x="0" y="293"/>
                  </a:lnTo>
                  <a:lnTo>
                    <a:pt x="0" y="337"/>
                  </a:lnTo>
                  <a:lnTo>
                    <a:pt x="4" y="431"/>
                  </a:lnTo>
                  <a:lnTo>
                    <a:pt x="10" y="525"/>
                  </a:lnTo>
                  <a:lnTo>
                    <a:pt x="18" y="622"/>
                  </a:lnTo>
                  <a:lnTo>
                    <a:pt x="25" y="720"/>
                  </a:lnTo>
                  <a:lnTo>
                    <a:pt x="32" y="818"/>
                  </a:lnTo>
                  <a:lnTo>
                    <a:pt x="40" y="914"/>
                  </a:lnTo>
                  <a:lnTo>
                    <a:pt x="45" y="1009"/>
                  </a:lnTo>
                  <a:lnTo>
                    <a:pt x="48" y="1102"/>
                  </a:lnTo>
                  <a:lnTo>
                    <a:pt x="50" y="1146"/>
                  </a:lnTo>
                  <a:lnTo>
                    <a:pt x="48" y="1191"/>
                  </a:lnTo>
                  <a:lnTo>
                    <a:pt x="47" y="1234"/>
                  </a:lnTo>
                  <a:lnTo>
                    <a:pt x="45" y="1276"/>
                  </a:lnTo>
                  <a:lnTo>
                    <a:pt x="42" y="1317"/>
                  </a:lnTo>
                  <a:lnTo>
                    <a:pt x="37" y="1357"/>
                  </a:lnTo>
                  <a:lnTo>
                    <a:pt x="31" y="1394"/>
                  </a:lnTo>
                  <a:lnTo>
                    <a:pt x="24" y="1431"/>
                  </a:lnTo>
                  <a:lnTo>
                    <a:pt x="42" y="1434"/>
                  </a:lnTo>
                  <a:lnTo>
                    <a:pt x="50" y="1397"/>
                  </a:lnTo>
                  <a:lnTo>
                    <a:pt x="56" y="1359"/>
                  </a:lnTo>
                  <a:lnTo>
                    <a:pt x="61" y="1319"/>
                  </a:lnTo>
                  <a:lnTo>
                    <a:pt x="64" y="1278"/>
                  </a:lnTo>
                  <a:lnTo>
                    <a:pt x="66" y="1235"/>
                  </a:lnTo>
                  <a:lnTo>
                    <a:pt x="67" y="1192"/>
                  </a:lnTo>
                  <a:lnTo>
                    <a:pt x="68" y="1146"/>
                  </a:lnTo>
                  <a:lnTo>
                    <a:pt x="67" y="1101"/>
                  </a:lnTo>
                  <a:lnTo>
                    <a:pt x="63" y="1009"/>
                  </a:lnTo>
                  <a:lnTo>
                    <a:pt x="58" y="913"/>
                  </a:lnTo>
                  <a:lnTo>
                    <a:pt x="51" y="816"/>
                  </a:lnTo>
                  <a:lnTo>
                    <a:pt x="44" y="718"/>
                  </a:lnTo>
                  <a:lnTo>
                    <a:pt x="36" y="621"/>
                  </a:lnTo>
                  <a:lnTo>
                    <a:pt x="29" y="524"/>
                  </a:lnTo>
                  <a:lnTo>
                    <a:pt x="23" y="429"/>
                  </a:lnTo>
                  <a:lnTo>
                    <a:pt x="19" y="337"/>
                  </a:lnTo>
                  <a:lnTo>
                    <a:pt x="19" y="293"/>
                  </a:lnTo>
                  <a:lnTo>
                    <a:pt x="19" y="249"/>
                  </a:lnTo>
                  <a:lnTo>
                    <a:pt x="20" y="205"/>
                  </a:lnTo>
                  <a:lnTo>
                    <a:pt x="23" y="164"/>
                  </a:lnTo>
                  <a:lnTo>
                    <a:pt x="25" y="123"/>
                  </a:lnTo>
                  <a:lnTo>
                    <a:pt x="30" y="85"/>
                  </a:lnTo>
                  <a:lnTo>
                    <a:pt x="35" y="47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42" y="11"/>
                  </a:lnTo>
                  <a:lnTo>
                    <a:pt x="42" y="7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6" y="4"/>
                  </a:lnTo>
                  <a:lnTo>
                    <a:pt x="24" y="7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38200" y="3821040"/>
              <a:ext cx="192960" cy="47160"/>
            </a:xfrm>
            <a:custGeom>
              <a:avLst/>
              <a:gdLst/>
              <a:ahLst/>
              <a:rect l="l" t="t" r="r" b="b"/>
              <a:pathLst>
                <a:path w="510" h="124">
                  <a:moveTo>
                    <a:pt x="18" y="115"/>
                  </a:moveTo>
                  <a:lnTo>
                    <a:pt x="8" y="123"/>
                  </a:lnTo>
                  <a:lnTo>
                    <a:pt x="20" y="124"/>
                  </a:lnTo>
                  <a:lnTo>
                    <a:pt x="34" y="124"/>
                  </a:lnTo>
                  <a:lnTo>
                    <a:pt x="47" y="124"/>
                  </a:lnTo>
                  <a:lnTo>
                    <a:pt x="62" y="121"/>
                  </a:lnTo>
                  <a:lnTo>
                    <a:pt x="93" y="118"/>
                  </a:lnTo>
                  <a:lnTo>
                    <a:pt x="124" y="110"/>
                  </a:lnTo>
                  <a:lnTo>
                    <a:pt x="190" y="91"/>
                  </a:lnTo>
                  <a:lnTo>
                    <a:pt x="260" y="68"/>
                  </a:lnTo>
                  <a:lnTo>
                    <a:pt x="295" y="57"/>
                  </a:lnTo>
                  <a:lnTo>
                    <a:pt x="329" y="46"/>
                  </a:lnTo>
                  <a:lnTo>
                    <a:pt x="362" y="37"/>
                  </a:lnTo>
                  <a:lnTo>
                    <a:pt x="396" y="29"/>
                  </a:lnTo>
                  <a:lnTo>
                    <a:pt x="426" y="23"/>
                  </a:lnTo>
                  <a:lnTo>
                    <a:pt x="456" y="19"/>
                  </a:lnTo>
                  <a:lnTo>
                    <a:pt x="469" y="18"/>
                  </a:lnTo>
                  <a:lnTo>
                    <a:pt x="483" y="18"/>
                  </a:lnTo>
                  <a:lnTo>
                    <a:pt x="495" y="19"/>
                  </a:lnTo>
                  <a:lnTo>
                    <a:pt x="506" y="21"/>
                  </a:lnTo>
                  <a:lnTo>
                    <a:pt x="510" y="2"/>
                  </a:lnTo>
                  <a:lnTo>
                    <a:pt x="496" y="1"/>
                  </a:lnTo>
                  <a:lnTo>
                    <a:pt x="483" y="0"/>
                  </a:lnTo>
                  <a:lnTo>
                    <a:pt x="468" y="0"/>
                  </a:lnTo>
                  <a:lnTo>
                    <a:pt x="453" y="1"/>
                  </a:lnTo>
                  <a:lnTo>
                    <a:pt x="424" y="5"/>
                  </a:lnTo>
                  <a:lnTo>
                    <a:pt x="391" y="11"/>
                  </a:lnTo>
                  <a:lnTo>
                    <a:pt x="357" y="19"/>
                  </a:lnTo>
                  <a:lnTo>
                    <a:pt x="324" y="29"/>
                  </a:lnTo>
                  <a:lnTo>
                    <a:pt x="289" y="40"/>
                  </a:lnTo>
                  <a:lnTo>
                    <a:pt x="254" y="51"/>
                  </a:lnTo>
                  <a:lnTo>
                    <a:pt x="185" y="73"/>
                  </a:lnTo>
                  <a:lnTo>
                    <a:pt x="120" y="92"/>
                  </a:lnTo>
                  <a:lnTo>
                    <a:pt x="89" y="99"/>
                  </a:lnTo>
                  <a:lnTo>
                    <a:pt x="60" y="104"/>
                  </a:lnTo>
                  <a:lnTo>
                    <a:pt x="46" y="105"/>
                  </a:lnTo>
                  <a:lnTo>
                    <a:pt x="34" y="105"/>
                  </a:lnTo>
                  <a:lnTo>
                    <a:pt x="22" y="105"/>
                  </a:lnTo>
                  <a:lnTo>
                    <a:pt x="11" y="104"/>
                  </a:lnTo>
                  <a:lnTo>
                    <a:pt x="1" y="112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3" y="107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8" y="1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871640" y="3400560"/>
              <a:ext cx="1587600" cy="516960"/>
            </a:xfrm>
            <a:custGeom>
              <a:avLst/>
              <a:gdLst/>
              <a:ahLst/>
              <a:rect l="l" t="t" r="r" b="b"/>
              <a:pathLst>
                <a:path w="4194" h="1362">
                  <a:moveTo>
                    <a:pt x="126" y="76"/>
                  </a:moveTo>
                  <a:lnTo>
                    <a:pt x="106" y="144"/>
                  </a:lnTo>
                  <a:lnTo>
                    <a:pt x="87" y="213"/>
                  </a:lnTo>
                  <a:lnTo>
                    <a:pt x="70" y="281"/>
                  </a:lnTo>
                  <a:lnTo>
                    <a:pt x="56" y="349"/>
                  </a:lnTo>
                  <a:lnTo>
                    <a:pt x="42" y="418"/>
                  </a:lnTo>
                  <a:lnTo>
                    <a:pt x="30" y="487"/>
                  </a:lnTo>
                  <a:lnTo>
                    <a:pt x="19" y="557"/>
                  </a:lnTo>
                  <a:lnTo>
                    <a:pt x="11" y="627"/>
                  </a:lnTo>
                  <a:lnTo>
                    <a:pt x="5" y="699"/>
                  </a:lnTo>
                  <a:lnTo>
                    <a:pt x="1" y="770"/>
                  </a:lnTo>
                  <a:lnTo>
                    <a:pt x="0" y="806"/>
                  </a:lnTo>
                  <a:lnTo>
                    <a:pt x="0" y="843"/>
                  </a:lnTo>
                  <a:lnTo>
                    <a:pt x="0" y="880"/>
                  </a:lnTo>
                  <a:lnTo>
                    <a:pt x="1" y="917"/>
                  </a:lnTo>
                  <a:lnTo>
                    <a:pt x="3" y="953"/>
                  </a:lnTo>
                  <a:lnTo>
                    <a:pt x="5" y="990"/>
                  </a:lnTo>
                  <a:lnTo>
                    <a:pt x="8" y="1027"/>
                  </a:lnTo>
                  <a:lnTo>
                    <a:pt x="12" y="1065"/>
                  </a:lnTo>
                  <a:lnTo>
                    <a:pt x="16" y="1103"/>
                  </a:lnTo>
                  <a:lnTo>
                    <a:pt x="22" y="1142"/>
                  </a:lnTo>
                  <a:lnTo>
                    <a:pt x="28" y="1180"/>
                  </a:lnTo>
                  <a:lnTo>
                    <a:pt x="35" y="1219"/>
                  </a:lnTo>
                  <a:lnTo>
                    <a:pt x="316" y="1249"/>
                  </a:lnTo>
                  <a:lnTo>
                    <a:pt x="592" y="1276"/>
                  </a:lnTo>
                  <a:lnTo>
                    <a:pt x="728" y="1288"/>
                  </a:lnTo>
                  <a:lnTo>
                    <a:pt x="862" y="1300"/>
                  </a:lnTo>
                  <a:lnTo>
                    <a:pt x="996" y="1311"/>
                  </a:lnTo>
                  <a:lnTo>
                    <a:pt x="1129" y="1321"/>
                  </a:lnTo>
                  <a:lnTo>
                    <a:pt x="1261" y="1330"/>
                  </a:lnTo>
                  <a:lnTo>
                    <a:pt x="1391" y="1337"/>
                  </a:lnTo>
                  <a:lnTo>
                    <a:pt x="1522" y="1345"/>
                  </a:lnTo>
                  <a:lnTo>
                    <a:pt x="1651" y="1351"/>
                  </a:lnTo>
                  <a:lnTo>
                    <a:pt x="1780" y="1354"/>
                  </a:lnTo>
                  <a:lnTo>
                    <a:pt x="1908" y="1358"/>
                  </a:lnTo>
                  <a:lnTo>
                    <a:pt x="2034" y="1361"/>
                  </a:lnTo>
                  <a:lnTo>
                    <a:pt x="2161" y="1362"/>
                  </a:lnTo>
                  <a:lnTo>
                    <a:pt x="2288" y="1362"/>
                  </a:lnTo>
                  <a:lnTo>
                    <a:pt x="2413" y="1361"/>
                  </a:lnTo>
                  <a:lnTo>
                    <a:pt x="2540" y="1357"/>
                  </a:lnTo>
                  <a:lnTo>
                    <a:pt x="2665" y="1353"/>
                  </a:lnTo>
                  <a:lnTo>
                    <a:pt x="2791" y="1347"/>
                  </a:lnTo>
                  <a:lnTo>
                    <a:pt x="2916" y="1341"/>
                  </a:lnTo>
                  <a:lnTo>
                    <a:pt x="3042" y="1332"/>
                  </a:lnTo>
                  <a:lnTo>
                    <a:pt x="3167" y="1321"/>
                  </a:lnTo>
                  <a:lnTo>
                    <a:pt x="3293" y="1310"/>
                  </a:lnTo>
                  <a:lnTo>
                    <a:pt x="3418" y="1297"/>
                  </a:lnTo>
                  <a:lnTo>
                    <a:pt x="3545" y="1282"/>
                  </a:lnTo>
                  <a:lnTo>
                    <a:pt x="3670" y="1265"/>
                  </a:lnTo>
                  <a:lnTo>
                    <a:pt x="3798" y="1246"/>
                  </a:lnTo>
                  <a:lnTo>
                    <a:pt x="3925" y="1225"/>
                  </a:lnTo>
                  <a:lnTo>
                    <a:pt x="4053" y="1203"/>
                  </a:lnTo>
                  <a:lnTo>
                    <a:pt x="4182" y="1180"/>
                  </a:lnTo>
                  <a:lnTo>
                    <a:pt x="4187" y="1046"/>
                  </a:lnTo>
                  <a:lnTo>
                    <a:pt x="4192" y="908"/>
                  </a:lnTo>
                  <a:lnTo>
                    <a:pt x="4193" y="837"/>
                  </a:lnTo>
                  <a:lnTo>
                    <a:pt x="4194" y="766"/>
                  </a:lnTo>
                  <a:lnTo>
                    <a:pt x="4194" y="695"/>
                  </a:lnTo>
                  <a:lnTo>
                    <a:pt x="4193" y="625"/>
                  </a:lnTo>
                  <a:lnTo>
                    <a:pt x="4190" y="554"/>
                  </a:lnTo>
                  <a:lnTo>
                    <a:pt x="4187" y="485"/>
                  </a:lnTo>
                  <a:lnTo>
                    <a:pt x="4182" y="417"/>
                  </a:lnTo>
                  <a:lnTo>
                    <a:pt x="4175" y="349"/>
                  </a:lnTo>
                  <a:lnTo>
                    <a:pt x="4166" y="286"/>
                  </a:lnTo>
                  <a:lnTo>
                    <a:pt x="4156" y="223"/>
                  </a:lnTo>
                  <a:lnTo>
                    <a:pt x="4150" y="192"/>
                  </a:lnTo>
                  <a:lnTo>
                    <a:pt x="4143" y="163"/>
                  </a:lnTo>
                  <a:lnTo>
                    <a:pt x="4135" y="133"/>
                  </a:lnTo>
                  <a:lnTo>
                    <a:pt x="4128" y="105"/>
                  </a:lnTo>
                  <a:lnTo>
                    <a:pt x="4000" y="89"/>
                  </a:lnTo>
                  <a:lnTo>
                    <a:pt x="3873" y="74"/>
                  </a:lnTo>
                  <a:lnTo>
                    <a:pt x="3748" y="60"/>
                  </a:lnTo>
                  <a:lnTo>
                    <a:pt x="3622" y="49"/>
                  </a:lnTo>
                  <a:lnTo>
                    <a:pt x="3497" y="40"/>
                  </a:lnTo>
                  <a:lnTo>
                    <a:pt x="3373" y="31"/>
                  </a:lnTo>
                  <a:lnTo>
                    <a:pt x="3248" y="22"/>
                  </a:lnTo>
                  <a:lnTo>
                    <a:pt x="3124" y="16"/>
                  </a:lnTo>
                  <a:lnTo>
                    <a:pt x="3001" y="11"/>
                  </a:lnTo>
                  <a:lnTo>
                    <a:pt x="2878" y="8"/>
                  </a:lnTo>
                  <a:lnTo>
                    <a:pt x="2755" y="4"/>
                  </a:lnTo>
                  <a:lnTo>
                    <a:pt x="2632" y="1"/>
                  </a:lnTo>
                  <a:lnTo>
                    <a:pt x="2510" y="0"/>
                  </a:lnTo>
                  <a:lnTo>
                    <a:pt x="2387" y="0"/>
                  </a:lnTo>
                  <a:lnTo>
                    <a:pt x="2264" y="0"/>
                  </a:lnTo>
                  <a:lnTo>
                    <a:pt x="2143" y="1"/>
                  </a:lnTo>
                  <a:lnTo>
                    <a:pt x="1897" y="6"/>
                  </a:lnTo>
                  <a:lnTo>
                    <a:pt x="1651" y="12"/>
                  </a:lnTo>
                  <a:lnTo>
                    <a:pt x="1402" y="21"/>
                  </a:lnTo>
                  <a:lnTo>
                    <a:pt x="1153" y="31"/>
                  </a:lnTo>
                  <a:lnTo>
                    <a:pt x="646" y="54"/>
                  </a:lnTo>
                  <a:lnTo>
                    <a:pt x="126" y="76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68400" y="3429000"/>
              <a:ext cx="54360" cy="437400"/>
            </a:xfrm>
            <a:custGeom>
              <a:avLst/>
              <a:gdLst/>
              <a:ahLst/>
              <a:rect l="l" t="t" r="r" b="b"/>
              <a:pathLst>
                <a:path w="144" h="1154">
                  <a:moveTo>
                    <a:pt x="46" y="1135"/>
                  </a:moveTo>
                  <a:lnTo>
                    <a:pt x="54" y="1143"/>
                  </a:lnTo>
                  <a:lnTo>
                    <a:pt x="47" y="1104"/>
                  </a:lnTo>
                  <a:lnTo>
                    <a:pt x="41" y="1066"/>
                  </a:lnTo>
                  <a:lnTo>
                    <a:pt x="36" y="1028"/>
                  </a:lnTo>
                  <a:lnTo>
                    <a:pt x="31" y="990"/>
                  </a:lnTo>
                  <a:lnTo>
                    <a:pt x="27" y="953"/>
                  </a:lnTo>
                  <a:lnTo>
                    <a:pt x="24" y="915"/>
                  </a:lnTo>
                  <a:lnTo>
                    <a:pt x="21" y="878"/>
                  </a:lnTo>
                  <a:lnTo>
                    <a:pt x="20" y="841"/>
                  </a:lnTo>
                  <a:lnTo>
                    <a:pt x="19" y="806"/>
                  </a:lnTo>
                  <a:lnTo>
                    <a:pt x="19" y="769"/>
                  </a:lnTo>
                  <a:lnTo>
                    <a:pt x="19" y="733"/>
                  </a:lnTo>
                  <a:lnTo>
                    <a:pt x="20" y="696"/>
                  </a:lnTo>
                  <a:lnTo>
                    <a:pt x="24" y="625"/>
                  </a:lnTo>
                  <a:lnTo>
                    <a:pt x="30" y="555"/>
                  </a:lnTo>
                  <a:lnTo>
                    <a:pt x="38" y="485"/>
                  </a:lnTo>
                  <a:lnTo>
                    <a:pt x="48" y="414"/>
                  </a:lnTo>
                  <a:lnTo>
                    <a:pt x="61" y="346"/>
                  </a:lnTo>
                  <a:lnTo>
                    <a:pt x="74" y="277"/>
                  </a:lnTo>
                  <a:lnTo>
                    <a:pt x="90" y="209"/>
                  </a:lnTo>
                  <a:lnTo>
                    <a:pt x="107" y="141"/>
                  </a:lnTo>
                  <a:lnTo>
                    <a:pt x="125" y="73"/>
                  </a:lnTo>
                  <a:lnTo>
                    <a:pt x="144" y="5"/>
                  </a:lnTo>
                  <a:lnTo>
                    <a:pt x="127" y="0"/>
                  </a:lnTo>
                  <a:lnTo>
                    <a:pt x="107" y="68"/>
                  </a:lnTo>
                  <a:lnTo>
                    <a:pt x="89" y="136"/>
                  </a:lnTo>
                  <a:lnTo>
                    <a:pt x="72" y="204"/>
                  </a:lnTo>
                  <a:lnTo>
                    <a:pt x="56" y="273"/>
                  </a:lnTo>
                  <a:lnTo>
                    <a:pt x="42" y="343"/>
                  </a:lnTo>
                  <a:lnTo>
                    <a:pt x="30" y="412"/>
                  </a:lnTo>
                  <a:lnTo>
                    <a:pt x="20" y="482"/>
                  </a:lnTo>
                  <a:lnTo>
                    <a:pt x="11" y="552"/>
                  </a:lnTo>
                  <a:lnTo>
                    <a:pt x="5" y="624"/>
                  </a:lnTo>
                  <a:lnTo>
                    <a:pt x="2" y="696"/>
                  </a:lnTo>
                  <a:lnTo>
                    <a:pt x="0" y="732"/>
                  </a:lnTo>
                  <a:lnTo>
                    <a:pt x="0" y="769"/>
                  </a:lnTo>
                  <a:lnTo>
                    <a:pt x="0" y="806"/>
                  </a:lnTo>
                  <a:lnTo>
                    <a:pt x="2" y="843"/>
                  </a:lnTo>
                  <a:lnTo>
                    <a:pt x="3" y="879"/>
                  </a:lnTo>
                  <a:lnTo>
                    <a:pt x="5" y="916"/>
                  </a:lnTo>
                  <a:lnTo>
                    <a:pt x="9" y="954"/>
                  </a:lnTo>
                  <a:lnTo>
                    <a:pt x="13" y="993"/>
                  </a:lnTo>
                  <a:lnTo>
                    <a:pt x="18" y="1031"/>
                  </a:lnTo>
                  <a:lnTo>
                    <a:pt x="22" y="1069"/>
                  </a:lnTo>
                  <a:lnTo>
                    <a:pt x="29" y="1107"/>
                  </a:lnTo>
                  <a:lnTo>
                    <a:pt x="36" y="1146"/>
                  </a:lnTo>
                  <a:lnTo>
                    <a:pt x="45" y="1154"/>
                  </a:lnTo>
                  <a:lnTo>
                    <a:pt x="36" y="1146"/>
                  </a:lnTo>
                  <a:lnTo>
                    <a:pt x="37" y="1150"/>
                  </a:lnTo>
                  <a:lnTo>
                    <a:pt x="40" y="1152"/>
                  </a:lnTo>
                  <a:lnTo>
                    <a:pt x="43" y="1154"/>
                  </a:lnTo>
                  <a:lnTo>
                    <a:pt x="47" y="1154"/>
                  </a:lnTo>
                  <a:lnTo>
                    <a:pt x="50" y="1152"/>
                  </a:lnTo>
                  <a:lnTo>
                    <a:pt x="52" y="1150"/>
                  </a:lnTo>
                  <a:lnTo>
                    <a:pt x="54" y="1148"/>
                  </a:lnTo>
                  <a:lnTo>
                    <a:pt x="54" y="1143"/>
                  </a:lnTo>
                  <a:lnTo>
                    <a:pt x="46" y="11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84960" y="3843720"/>
              <a:ext cx="1572480" cy="77400"/>
            </a:xfrm>
            <a:custGeom>
              <a:avLst/>
              <a:gdLst/>
              <a:ahLst/>
              <a:rect l="l" t="t" r="r" b="b"/>
              <a:pathLst>
                <a:path w="4155" h="202">
                  <a:moveTo>
                    <a:pt x="4137" y="8"/>
                  </a:moveTo>
                  <a:lnTo>
                    <a:pt x="4144" y="0"/>
                  </a:lnTo>
                  <a:lnTo>
                    <a:pt x="4017" y="24"/>
                  </a:lnTo>
                  <a:lnTo>
                    <a:pt x="3889" y="47"/>
                  </a:lnTo>
                  <a:lnTo>
                    <a:pt x="3761" y="66"/>
                  </a:lnTo>
                  <a:lnTo>
                    <a:pt x="3634" y="85"/>
                  </a:lnTo>
                  <a:lnTo>
                    <a:pt x="3509" y="102"/>
                  </a:lnTo>
                  <a:lnTo>
                    <a:pt x="3382" y="117"/>
                  </a:lnTo>
                  <a:lnTo>
                    <a:pt x="3256" y="130"/>
                  </a:lnTo>
                  <a:lnTo>
                    <a:pt x="3131" y="143"/>
                  </a:lnTo>
                  <a:lnTo>
                    <a:pt x="3006" y="152"/>
                  </a:lnTo>
                  <a:lnTo>
                    <a:pt x="2880" y="161"/>
                  </a:lnTo>
                  <a:lnTo>
                    <a:pt x="2755" y="168"/>
                  </a:lnTo>
                  <a:lnTo>
                    <a:pt x="2630" y="175"/>
                  </a:lnTo>
                  <a:lnTo>
                    <a:pt x="2505" y="178"/>
                  </a:lnTo>
                  <a:lnTo>
                    <a:pt x="2378" y="181"/>
                  </a:lnTo>
                  <a:lnTo>
                    <a:pt x="2253" y="182"/>
                  </a:lnTo>
                  <a:lnTo>
                    <a:pt x="2126" y="182"/>
                  </a:lnTo>
                  <a:lnTo>
                    <a:pt x="1999" y="182"/>
                  </a:lnTo>
                  <a:lnTo>
                    <a:pt x="1873" y="179"/>
                  </a:lnTo>
                  <a:lnTo>
                    <a:pt x="1745" y="176"/>
                  </a:lnTo>
                  <a:lnTo>
                    <a:pt x="1616" y="171"/>
                  </a:lnTo>
                  <a:lnTo>
                    <a:pt x="1487" y="165"/>
                  </a:lnTo>
                  <a:lnTo>
                    <a:pt x="1357" y="159"/>
                  </a:lnTo>
                  <a:lnTo>
                    <a:pt x="1227" y="150"/>
                  </a:lnTo>
                  <a:lnTo>
                    <a:pt x="1095" y="141"/>
                  </a:lnTo>
                  <a:lnTo>
                    <a:pt x="963" y="131"/>
                  </a:lnTo>
                  <a:lnTo>
                    <a:pt x="829" y="120"/>
                  </a:lnTo>
                  <a:lnTo>
                    <a:pt x="693" y="109"/>
                  </a:lnTo>
                  <a:lnTo>
                    <a:pt x="558" y="97"/>
                  </a:lnTo>
                  <a:lnTo>
                    <a:pt x="282" y="70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280" y="88"/>
                  </a:lnTo>
                  <a:lnTo>
                    <a:pt x="557" y="116"/>
                  </a:lnTo>
                  <a:lnTo>
                    <a:pt x="692" y="128"/>
                  </a:lnTo>
                  <a:lnTo>
                    <a:pt x="827" y="139"/>
                  </a:lnTo>
                  <a:lnTo>
                    <a:pt x="961" y="150"/>
                  </a:lnTo>
                  <a:lnTo>
                    <a:pt x="1093" y="160"/>
                  </a:lnTo>
                  <a:lnTo>
                    <a:pt x="1226" y="168"/>
                  </a:lnTo>
                  <a:lnTo>
                    <a:pt x="1356" y="177"/>
                  </a:lnTo>
                  <a:lnTo>
                    <a:pt x="1487" y="183"/>
                  </a:lnTo>
                  <a:lnTo>
                    <a:pt x="1616" y="189"/>
                  </a:lnTo>
                  <a:lnTo>
                    <a:pt x="1744" y="194"/>
                  </a:lnTo>
                  <a:lnTo>
                    <a:pt x="1872" y="198"/>
                  </a:lnTo>
                  <a:lnTo>
                    <a:pt x="1999" y="200"/>
                  </a:lnTo>
                  <a:lnTo>
                    <a:pt x="2126" y="202"/>
                  </a:lnTo>
                  <a:lnTo>
                    <a:pt x="2253" y="200"/>
                  </a:lnTo>
                  <a:lnTo>
                    <a:pt x="2380" y="199"/>
                  </a:lnTo>
                  <a:lnTo>
                    <a:pt x="2505" y="197"/>
                  </a:lnTo>
                  <a:lnTo>
                    <a:pt x="2630" y="193"/>
                  </a:lnTo>
                  <a:lnTo>
                    <a:pt x="2756" y="187"/>
                  </a:lnTo>
                  <a:lnTo>
                    <a:pt x="2881" y="179"/>
                  </a:lnTo>
                  <a:lnTo>
                    <a:pt x="3007" y="171"/>
                  </a:lnTo>
                  <a:lnTo>
                    <a:pt x="3132" y="161"/>
                  </a:lnTo>
                  <a:lnTo>
                    <a:pt x="3259" y="149"/>
                  </a:lnTo>
                  <a:lnTo>
                    <a:pt x="3384" y="135"/>
                  </a:lnTo>
                  <a:lnTo>
                    <a:pt x="3511" y="120"/>
                  </a:lnTo>
                  <a:lnTo>
                    <a:pt x="3636" y="103"/>
                  </a:lnTo>
                  <a:lnTo>
                    <a:pt x="3764" y="85"/>
                  </a:lnTo>
                  <a:lnTo>
                    <a:pt x="3891" y="65"/>
                  </a:lnTo>
                  <a:lnTo>
                    <a:pt x="4019" y="43"/>
                  </a:lnTo>
                  <a:lnTo>
                    <a:pt x="4148" y="18"/>
                  </a:lnTo>
                  <a:lnTo>
                    <a:pt x="4155" y="10"/>
                  </a:lnTo>
                  <a:lnTo>
                    <a:pt x="4148" y="18"/>
                  </a:lnTo>
                  <a:lnTo>
                    <a:pt x="4152" y="17"/>
                  </a:lnTo>
                  <a:lnTo>
                    <a:pt x="4154" y="15"/>
                  </a:lnTo>
                  <a:lnTo>
                    <a:pt x="4155" y="11"/>
                  </a:lnTo>
                  <a:lnTo>
                    <a:pt x="4155" y="7"/>
                  </a:lnTo>
                  <a:lnTo>
                    <a:pt x="4154" y="5"/>
                  </a:lnTo>
                  <a:lnTo>
                    <a:pt x="4152" y="2"/>
                  </a:lnTo>
                  <a:lnTo>
                    <a:pt x="4149" y="0"/>
                  </a:lnTo>
                  <a:lnTo>
                    <a:pt x="4144" y="0"/>
                  </a:lnTo>
                  <a:lnTo>
                    <a:pt x="4137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431160" y="3436920"/>
              <a:ext cx="32040" cy="410760"/>
            </a:xfrm>
            <a:custGeom>
              <a:avLst/>
              <a:gdLst/>
              <a:ahLst/>
              <a:rect l="l" t="t" r="r" b="b"/>
              <a:pathLst>
                <a:path w="85" h="1085">
                  <a:moveTo>
                    <a:pt x="8" y="18"/>
                  </a:moveTo>
                  <a:lnTo>
                    <a:pt x="0" y="12"/>
                  </a:lnTo>
                  <a:lnTo>
                    <a:pt x="8" y="40"/>
                  </a:lnTo>
                  <a:lnTo>
                    <a:pt x="15" y="69"/>
                  </a:lnTo>
                  <a:lnTo>
                    <a:pt x="21" y="98"/>
                  </a:lnTo>
                  <a:lnTo>
                    <a:pt x="27" y="129"/>
                  </a:lnTo>
                  <a:lnTo>
                    <a:pt x="38" y="192"/>
                  </a:lnTo>
                  <a:lnTo>
                    <a:pt x="47" y="256"/>
                  </a:lnTo>
                  <a:lnTo>
                    <a:pt x="53" y="322"/>
                  </a:lnTo>
                  <a:lnTo>
                    <a:pt x="59" y="391"/>
                  </a:lnTo>
                  <a:lnTo>
                    <a:pt x="63" y="460"/>
                  </a:lnTo>
                  <a:lnTo>
                    <a:pt x="64" y="530"/>
                  </a:lnTo>
                  <a:lnTo>
                    <a:pt x="65" y="600"/>
                  </a:lnTo>
                  <a:lnTo>
                    <a:pt x="67" y="671"/>
                  </a:lnTo>
                  <a:lnTo>
                    <a:pt x="65" y="742"/>
                  </a:lnTo>
                  <a:lnTo>
                    <a:pt x="64" y="812"/>
                  </a:lnTo>
                  <a:lnTo>
                    <a:pt x="59" y="951"/>
                  </a:lnTo>
                  <a:lnTo>
                    <a:pt x="53" y="1083"/>
                  </a:lnTo>
                  <a:lnTo>
                    <a:pt x="71" y="1085"/>
                  </a:lnTo>
                  <a:lnTo>
                    <a:pt x="78" y="952"/>
                  </a:lnTo>
                  <a:lnTo>
                    <a:pt x="83" y="813"/>
                  </a:lnTo>
                  <a:lnTo>
                    <a:pt x="84" y="742"/>
                  </a:lnTo>
                  <a:lnTo>
                    <a:pt x="85" y="671"/>
                  </a:lnTo>
                  <a:lnTo>
                    <a:pt x="85" y="600"/>
                  </a:lnTo>
                  <a:lnTo>
                    <a:pt x="84" y="529"/>
                  </a:lnTo>
                  <a:lnTo>
                    <a:pt x="81" y="459"/>
                  </a:lnTo>
                  <a:lnTo>
                    <a:pt x="78" y="390"/>
                  </a:lnTo>
                  <a:lnTo>
                    <a:pt x="71" y="321"/>
                  </a:lnTo>
                  <a:lnTo>
                    <a:pt x="65" y="254"/>
                  </a:lnTo>
                  <a:lnTo>
                    <a:pt x="57" y="189"/>
                  </a:lnTo>
                  <a:lnTo>
                    <a:pt x="46" y="125"/>
                  </a:lnTo>
                  <a:lnTo>
                    <a:pt x="40" y="95"/>
                  </a:lnTo>
                  <a:lnTo>
                    <a:pt x="33" y="65"/>
                  </a:lnTo>
                  <a:lnTo>
                    <a:pt x="26" y="36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915560" y="3396960"/>
              <a:ext cx="1519200" cy="47160"/>
            </a:xfrm>
            <a:custGeom>
              <a:avLst/>
              <a:gdLst/>
              <a:ahLst/>
              <a:rect l="l" t="t" r="r" b="b"/>
              <a:pathLst>
                <a:path w="4013" h="123">
                  <a:moveTo>
                    <a:pt x="18" y="89"/>
                  </a:moveTo>
                  <a:lnTo>
                    <a:pt x="10" y="96"/>
                  </a:lnTo>
                  <a:lnTo>
                    <a:pt x="530" y="73"/>
                  </a:lnTo>
                  <a:lnTo>
                    <a:pt x="1037" y="51"/>
                  </a:lnTo>
                  <a:lnTo>
                    <a:pt x="1286" y="41"/>
                  </a:lnTo>
                  <a:lnTo>
                    <a:pt x="1535" y="32"/>
                  </a:lnTo>
                  <a:lnTo>
                    <a:pt x="1781" y="25"/>
                  </a:lnTo>
                  <a:lnTo>
                    <a:pt x="2027" y="21"/>
                  </a:lnTo>
                  <a:lnTo>
                    <a:pt x="2150" y="20"/>
                  </a:lnTo>
                  <a:lnTo>
                    <a:pt x="2271" y="19"/>
                  </a:lnTo>
                  <a:lnTo>
                    <a:pt x="2394" y="20"/>
                  </a:lnTo>
                  <a:lnTo>
                    <a:pt x="2516" y="21"/>
                  </a:lnTo>
                  <a:lnTo>
                    <a:pt x="2639" y="24"/>
                  </a:lnTo>
                  <a:lnTo>
                    <a:pt x="2762" y="26"/>
                  </a:lnTo>
                  <a:lnTo>
                    <a:pt x="2885" y="30"/>
                  </a:lnTo>
                  <a:lnTo>
                    <a:pt x="3008" y="36"/>
                  </a:lnTo>
                  <a:lnTo>
                    <a:pt x="3131" y="42"/>
                  </a:lnTo>
                  <a:lnTo>
                    <a:pt x="3255" y="50"/>
                  </a:lnTo>
                  <a:lnTo>
                    <a:pt x="3380" y="58"/>
                  </a:lnTo>
                  <a:lnTo>
                    <a:pt x="3505" y="69"/>
                  </a:lnTo>
                  <a:lnTo>
                    <a:pt x="3630" y="80"/>
                  </a:lnTo>
                  <a:lnTo>
                    <a:pt x="3756" y="93"/>
                  </a:lnTo>
                  <a:lnTo>
                    <a:pt x="3884" y="107"/>
                  </a:lnTo>
                  <a:lnTo>
                    <a:pt x="4011" y="123"/>
                  </a:lnTo>
                  <a:lnTo>
                    <a:pt x="4013" y="105"/>
                  </a:lnTo>
                  <a:lnTo>
                    <a:pt x="3885" y="89"/>
                  </a:lnTo>
                  <a:lnTo>
                    <a:pt x="3758" y="75"/>
                  </a:lnTo>
                  <a:lnTo>
                    <a:pt x="3632" y="62"/>
                  </a:lnTo>
                  <a:lnTo>
                    <a:pt x="3506" y="51"/>
                  </a:lnTo>
                  <a:lnTo>
                    <a:pt x="3382" y="40"/>
                  </a:lnTo>
                  <a:lnTo>
                    <a:pt x="3257" y="31"/>
                  </a:lnTo>
                  <a:lnTo>
                    <a:pt x="3132" y="24"/>
                  </a:lnTo>
                  <a:lnTo>
                    <a:pt x="3009" y="18"/>
                  </a:lnTo>
                  <a:lnTo>
                    <a:pt x="2885" y="11"/>
                  </a:lnTo>
                  <a:lnTo>
                    <a:pt x="2762" y="8"/>
                  </a:lnTo>
                  <a:lnTo>
                    <a:pt x="2639" y="5"/>
                  </a:lnTo>
                  <a:lnTo>
                    <a:pt x="2516" y="3"/>
                  </a:lnTo>
                  <a:lnTo>
                    <a:pt x="2394" y="2"/>
                  </a:lnTo>
                  <a:lnTo>
                    <a:pt x="2271" y="0"/>
                  </a:lnTo>
                  <a:lnTo>
                    <a:pt x="2148" y="2"/>
                  </a:lnTo>
                  <a:lnTo>
                    <a:pt x="2027" y="3"/>
                  </a:lnTo>
                  <a:lnTo>
                    <a:pt x="1781" y="6"/>
                  </a:lnTo>
                  <a:lnTo>
                    <a:pt x="1533" y="14"/>
                  </a:lnTo>
                  <a:lnTo>
                    <a:pt x="1286" y="22"/>
                  </a:lnTo>
                  <a:lnTo>
                    <a:pt x="1037" y="32"/>
                  </a:lnTo>
                  <a:lnTo>
                    <a:pt x="529" y="54"/>
                  </a:lnTo>
                  <a:lnTo>
                    <a:pt x="10" y="78"/>
                  </a:lnTo>
                  <a:lnTo>
                    <a:pt x="1" y="84"/>
                  </a:lnTo>
                  <a:lnTo>
                    <a:pt x="10" y="78"/>
                  </a:lnTo>
                  <a:lnTo>
                    <a:pt x="5" y="78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6" y="95"/>
                  </a:lnTo>
                  <a:lnTo>
                    <a:pt x="10" y="96"/>
                  </a:lnTo>
                  <a:lnTo>
                    <a:pt x="18" y="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920120" y="3484080"/>
              <a:ext cx="503280" cy="597960"/>
            </a:xfrm>
            <a:custGeom>
              <a:avLst/>
              <a:gdLst/>
              <a:ahLst/>
              <a:rect l="l" t="t" r="r" b="b"/>
              <a:pathLst>
                <a:path w="1332" h="1580">
                  <a:moveTo>
                    <a:pt x="359" y="0"/>
                  </a:moveTo>
                  <a:lnTo>
                    <a:pt x="446" y="10"/>
                  </a:lnTo>
                  <a:lnTo>
                    <a:pt x="535" y="21"/>
                  </a:lnTo>
                  <a:lnTo>
                    <a:pt x="622" y="32"/>
                  </a:lnTo>
                  <a:lnTo>
                    <a:pt x="711" y="43"/>
                  </a:lnTo>
                  <a:lnTo>
                    <a:pt x="799" y="56"/>
                  </a:lnTo>
                  <a:lnTo>
                    <a:pt x="889" y="68"/>
                  </a:lnTo>
                  <a:lnTo>
                    <a:pt x="979" y="80"/>
                  </a:lnTo>
                  <a:lnTo>
                    <a:pt x="1069" y="94"/>
                  </a:lnTo>
                  <a:lnTo>
                    <a:pt x="1091" y="139"/>
                  </a:lnTo>
                  <a:lnTo>
                    <a:pt x="1111" y="185"/>
                  </a:lnTo>
                  <a:lnTo>
                    <a:pt x="1130" y="230"/>
                  </a:lnTo>
                  <a:lnTo>
                    <a:pt x="1150" y="276"/>
                  </a:lnTo>
                  <a:lnTo>
                    <a:pt x="1167" y="321"/>
                  </a:lnTo>
                  <a:lnTo>
                    <a:pt x="1184" y="368"/>
                  </a:lnTo>
                  <a:lnTo>
                    <a:pt x="1200" y="414"/>
                  </a:lnTo>
                  <a:lnTo>
                    <a:pt x="1215" y="459"/>
                  </a:lnTo>
                  <a:lnTo>
                    <a:pt x="1230" y="506"/>
                  </a:lnTo>
                  <a:lnTo>
                    <a:pt x="1242" y="551"/>
                  </a:lnTo>
                  <a:lnTo>
                    <a:pt x="1254" y="598"/>
                  </a:lnTo>
                  <a:lnTo>
                    <a:pt x="1267" y="645"/>
                  </a:lnTo>
                  <a:lnTo>
                    <a:pt x="1277" y="690"/>
                  </a:lnTo>
                  <a:lnTo>
                    <a:pt x="1286" y="737"/>
                  </a:lnTo>
                  <a:lnTo>
                    <a:pt x="1295" y="784"/>
                  </a:lnTo>
                  <a:lnTo>
                    <a:pt x="1302" y="831"/>
                  </a:lnTo>
                  <a:lnTo>
                    <a:pt x="1310" y="877"/>
                  </a:lnTo>
                  <a:lnTo>
                    <a:pt x="1316" y="923"/>
                  </a:lnTo>
                  <a:lnTo>
                    <a:pt x="1321" y="970"/>
                  </a:lnTo>
                  <a:lnTo>
                    <a:pt x="1325" y="1016"/>
                  </a:lnTo>
                  <a:lnTo>
                    <a:pt x="1328" y="1063"/>
                  </a:lnTo>
                  <a:lnTo>
                    <a:pt x="1331" y="1110"/>
                  </a:lnTo>
                  <a:lnTo>
                    <a:pt x="1332" y="1157"/>
                  </a:lnTo>
                  <a:lnTo>
                    <a:pt x="1332" y="1203"/>
                  </a:lnTo>
                  <a:lnTo>
                    <a:pt x="1332" y="1250"/>
                  </a:lnTo>
                  <a:lnTo>
                    <a:pt x="1331" y="1298"/>
                  </a:lnTo>
                  <a:lnTo>
                    <a:pt x="1328" y="1345"/>
                  </a:lnTo>
                  <a:lnTo>
                    <a:pt x="1325" y="1391"/>
                  </a:lnTo>
                  <a:lnTo>
                    <a:pt x="1321" y="1438"/>
                  </a:lnTo>
                  <a:lnTo>
                    <a:pt x="1316" y="1485"/>
                  </a:lnTo>
                  <a:lnTo>
                    <a:pt x="1310" y="1532"/>
                  </a:lnTo>
                  <a:lnTo>
                    <a:pt x="1304" y="1580"/>
                  </a:lnTo>
                  <a:lnTo>
                    <a:pt x="1224" y="1580"/>
                  </a:lnTo>
                  <a:lnTo>
                    <a:pt x="1142" y="1578"/>
                  </a:lnTo>
                  <a:lnTo>
                    <a:pt x="1063" y="1575"/>
                  </a:lnTo>
                  <a:lnTo>
                    <a:pt x="983" y="1569"/>
                  </a:lnTo>
                  <a:lnTo>
                    <a:pt x="903" y="1562"/>
                  </a:lnTo>
                  <a:lnTo>
                    <a:pt x="821" y="1553"/>
                  </a:lnTo>
                  <a:lnTo>
                    <a:pt x="742" y="1543"/>
                  </a:lnTo>
                  <a:lnTo>
                    <a:pt x="662" y="1530"/>
                  </a:lnTo>
                  <a:lnTo>
                    <a:pt x="582" y="1516"/>
                  </a:lnTo>
                  <a:lnTo>
                    <a:pt x="502" y="1500"/>
                  </a:lnTo>
                  <a:lnTo>
                    <a:pt x="423" y="1482"/>
                  </a:lnTo>
                  <a:lnTo>
                    <a:pt x="343" y="1464"/>
                  </a:lnTo>
                  <a:lnTo>
                    <a:pt x="264" y="1443"/>
                  </a:lnTo>
                  <a:lnTo>
                    <a:pt x="186" y="1421"/>
                  </a:lnTo>
                  <a:lnTo>
                    <a:pt x="107" y="1398"/>
                  </a:lnTo>
                  <a:lnTo>
                    <a:pt x="29" y="1373"/>
                  </a:lnTo>
                  <a:lnTo>
                    <a:pt x="21" y="1329"/>
                  </a:lnTo>
                  <a:lnTo>
                    <a:pt x="15" y="1286"/>
                  </a:lnTo>
                  <a:lnTo>
                    <a:pt x="9" y="1241"/>
                  </a:lnTo>
                  <a:lnTo>
                    <a:pt x="5" y="1198"/>
                  </a:lnTo>
                  <a:lnTo>
                    <a:pt x="2" y="1155"/>
                  </a:lnTo>
                  <a:lnTo>
                    <a:pt x="0" y="1111"/>
                  </a:lnTo>
                  <a:lnTo>
                    <a:pt x="0" y="1068"/>
                  </a:lnTo>
                  <a:lnTo>
                    <a:pt x="1" y="1025"/>
                  </a:lnTo>
                  <a:lnTo>
                    <a:pt x="4" y="981"/>
                  </a:lnTo>
                  <a:lnTo>
                    <a:pt x="7" y="938"/>
                  </a:lnTo>
                  <a:lnTo>
                    <a:pt x="11" y="895"/>
                  </a:lnTo>
                  <a:lnTo>
                    <a:pt x="17" y="850"/>
                  </a:lnTo>
                  <a:lnTo>
                    <a:pt x="24" y="807"/>
                  </a:lnTo>
                  <a:lnTo>
                    <a:pt x="32" y="764"/>
                  </a:lnTo>
                  <a:lnTo>
                    <a:pt x="42" y="721"/>
                  </a:lnTo>
                  <a:lnTo>
                    <a:pt x="52" y="678"/>
                  </a:lnTo>
                  <a:lnTo>
                    <a:pt x="64" y="635"/>
                  </a:lnTo>
                  <a:lnTo>
                    <a:pt x="76" y="592"/>
                  </a:lnTo>
                  <a:lnTo>
                    <a:pt x="90" y="549"/>
                  </a:lnTo>
                  <a:lnTo>
                    <a:pt x="104" y="506"/>
                  </a:lnTo>
                  <a:lnTo>
                    <a:pt x="120" y="463"/>
                  </a:lnTo>
                  <a:lnTo>
                    <a:pt x="136" y="421"/>
                  </a:lnTo>
                  <a:lnTo>
                    <a:pt x="155" y="378"/>
                  </a:lnTo>
                  <a:lnTo>
                    <a:pt x="173" y="336"/>
                  </a:lnTo>
                  <a:lnTo>
                    <a:pt x="193" y="293"/>
                  </a:lnTo>
                  <a:lnTo>
                    <a:pt x="214" y="251"/>
                  </a:lnTo>
                  <a:lnTo>
                    <a:pt x="236" y="209"/>
                  </a:lnTo>
                  <a:lnTo>
                    <a:pt x="258" y="168"/>
                  </a:lnTo>
                  <a:lnTo>
                    <a:pt x="283" y="126"/>
                  </a:lnTo>
                  <a:lnTo>
                    <a:pt x="307" y="84"/>
                  </a:lnTo>
                  <a:lnTo>
                    <a:pt x="332" y="42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7" name=""/>
            <p:cNvGrpSpPr/>
            <p:nvPr/>
          </p:nvGrpSpPr>
          <p:grpSpPr>
            <a:xfrm>
              <a:off x="1822680" y="3196440"/>
              <a:ext cx="5486760" cy="1266120"/>
              <a:chOff x="1822680" y="3196440"/>
              <a:chExt cx="5486760" cy="1266120"/>
            </a:xfrm>
          </p:grpSpPr>
          <p:sp>
            <p:nvSpPr>
              <p:cNvPr id="4448" name=""/>
              <p:cNvSpPr/>
              <p:nvPr/>
            </p:nvSpPr>
            <p:spPr>
              <a:xfrm>
                <a:off x="5056200" y="3480120"/>
                <a:ext cx="272160" cy="43560"/>
              </a:xfrm>
              <a:custGeom>
                <a:avLst/>
                <a:gdLst/>
                <a:ahLst/>
                <a:rect l="l" t="t" r="r" b="b"/>
                <a:pathLst>
                  <a:path w="722" h="114">
                    <a:moveTo>
                      <a:pt x="721" y="99"/>
                    </a:moveTo>
                    <a:lnTo>
                      <a:pt x="712" y="93"/>
                    </a:lnTo>
                    <a:lnTo>
                      <a:pt x="622" y="80"/>
                    </a:lnTo>
                    <a:lnTo>
                      <a:pt x="532" y="67"/>
                    </a:lnTo>
                    <a:lnTo>
                      <a:pt x="444" y="55"/>
                    </a:lnTo>
                    <a:lnTo>
                      <a:pt x="354" y="44"/>
                    </a:lnTo>
                    <a:lnTo>
                      <a:pt x="265" y="31"/>
                    </a:lnTo>
                    <a:lnTo>
                      <a:pt x="178" y="20"/>
                    </a:lnTo>
                    <a:lnTo>
                      <a:pt x="90" y="10"/>
                    </a:lnTo>
                    <a:lnTo>
                      <a:pt x="2" y="0"/>
                    </a:lnTo>
                    <a:lnTo>
                      <a:pt x="0" y="21"/>
                    </a:lnTo>
                    <a:lnTo>
                      <a:pt x="87" y="31"/>
                    </a:lnTo>
                    <a:lnTo>
                      <a:pt x="176" y="41"/>
                    </a:lnTo>
                    <a:lnTo>
                      <a:pt x="263" y="52"/>
                    </a:lnTo>
                    <a:lnTo>
                      <a:pt x="352" y="63"/>
                    </a:lnTo>
                    <a:lnTo>
                      <a:pt x="440" y="76"/>
                    </a:lnTo>
                    <a:lnTo>
                      <a:pt x="530" y="88"/>
                    </a:lnTo>
                    <a:lnTo>
                      <a:pt x="620" y="100"/>
                    </a:lnTo>
                    <a:lnTo>
                      <a:pt x="709" y="114"/>
                    </a:lnTo>
                    <a:lnTo>
                      <a:pt x="702" y="107"/>
                    </a:lnTo>
                    <a:lnTo>
                      <a:pt x="709" y="114"/>
                    </a:lnTo>
                    <a:lnTo>
                      <a:pt x="714" y="114"/>
                    </a:lnTo>
                    <a:lnTo>
                      <a:pt x="718" y="111"/>
                    </a:lnTo>
                    <a:lnTo>
                      <a:pt x="721" y="109"/>
                    </a:lnTo>
                    <a:lnTo>
                      <a:pt x="722" y="105"/>
                    </a:lnTo>
                    <a:lnTo>
                      <a:pt x="722" y="101"/>
                    </a:lnTo>
                    <a:lnTo>
                      <a:pt x="719" y="98"/>
                    </a:lnTo>
                    <a:lnTo>
                      <a:pt x="717" y="94"/>
                    </a:lnTo>
                    <a:lnTo>
                      <a:pt x="712" y="93"/>
                    </a:lnTo>
                    <a:lnTo>
                      <a:pt x="72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320800" y="3517920"/>
                <a:ext cx="108000" cy="567720"/>
              </a:xfrm>
              <a:custGeom>
                <a:avLst/>
                <a:gdLst/>
                <a:ahLst/>
                <a:rect l="l" t="t" r="r" b="b"/>
                <a:pathLst>
                  <a:path w="283" h="1500">
                    <a:moveTo>
                      <a:pt x="244" y="1500"/>
                    </a:moveTo>
                    <a:lnTo>
                      <a:pt x="253" y="1492"/>
                    </a:lnTo>
                    <a:lnTo>
                      <a:pt x="261" y="1445"/>
                    </a:lnTo>
                    <a:lnTo>
                      <a:pt x="267" y="1397"/>
                    </a:lnTo>
                    <a:lnTo>
                      <a:pt x="272" y="1350"/>
                    </a:lnTo>
                    <a:lnTo>
                      <a:pt x="276" y="1302"/>
                    </a:lnTo>
                    <a:lnTo>
                      <a:pt x="278" y="1256"/>
                    </a:lnTo>
                    <a:lnTo>
                      <a:pt x="281" y="1209"/>
                    </a:lnTo>
                    <a:lnTo>
                      <a:pt x="282" y="1162"/>
                    </a:lnTo>
                    <a:lnTo>
                      <a:pt x="283" y="1114"/>
                    </a:lnTo>
                    <a:lnTo>
                      <a:pt x="282" y="1068"/>
                    </a:lnTo>
                    <a:lnTo>
                      <a:pt x="281" y="1021"/>
                    </a:lnTo>
                    <a:lnTo>
                      <a:pt x="278" y="974"/>
                    </a:lnTo>
                    <a:lnTo>
                      <a:pt x="276" y="927"/>
                    </a:lnTo>
                    <a:lnTo>
                      <a:pt x="271" y="881"/>
                    </a:lnTo>
                    <a:lnTo>
                      <a:pt x="266" y="833"/>
                    </a:lnTo>
                    <a:lnTo>
                      <a:pt x="260" y="786"/>
                    </a:lnTo>
                    <a:lnTo>
                      <a:pt x="253" y="739"/>
                    </a:lnTo>
                    <a:lnTo>
                      <a:pt x="245" y="692"/>
                    </a:lnTo>
                    <a:lnTo>
                      <a:pt x="236" y="646"/>
                    </a:lnTo>
                    <a:lnTo>
                      <a:pt x="228" y="600"/>
                    </a:lnTo>
                    <a:lnTo>
                      <a:pt x="217" y="553"/>
                    </a:lnTo>
                    <a:lnTo>
                      <a:pt x="205" y="507"/>
                    </a:lnTo>
                    <a:lnTo>
                      <a:pt x="193" y="460"/>
                    </a:lnTo>
                    <a:lnTo>
                      <a:pt x="180" y="414"/>
                    </a:lnTo>
                    <a:lnTo>
                      <a:pt x="165" y="368"/>
                    </a:lnTo>
                    <a:lnTo>
                      <a:pt x="150" y="321"/>
                    </a:lnTo>
                    <a:lnTo>
                      <a:pt x="134" y="275"/>
                    </a:lnTo>
                    <a:lnTo>
                      <a:pt x="117" y="229"/>
                    </a:lnTo>
                    <a:lnTo>
                      <a:pt x="100" y="183"/>
                    </a:lnTo>
                    <a:lnTo>
                      <a:pt x="80" y="138"/>
                    </a:lnTo>
                    <a:lnTo>
                      <a:pt x="60" y="91"/>
                    </a:lnTo>
                    <a:lnTo>
                      <a:pt x="39" y="45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21" y="54"/>
                    </a:lnTo>
                    <a:lnTo>
                      <a:pt x="42" y="100"/>
                    </a:lnTo>
                    <a:lnTo>
                      <a:pt x="62" y="145"/>
                    </a:lnTo>
                    <a:lnTo>
                      <a:pt x="80" y="191"/>
                    </a:lnTo>
                    <a:lnTo>
                      <a:pt x="97" y="236"/>
                    </a:lnTo>
                    <a:lnTo>
                      <a:pt x="114" y="282"/>
                    </a:lnTo>
                    <a:lnTo>
                      <a:pt x="130" y="328"/>
                    </a:lnTo>
                    <a:lnTo>
                      <a:pt x="145" y="374"/>
                    </a:lnTo>
                    <a:lnTo>
                      <a:pt x="160" y="419"/>
                    </a:lnTo>
                    <a:lnTo>
                      <a:pt x="172" y="466"/>
                    </a:lnTo>
                    <a:lnTo>
                      <a:pt x="185" y="512"/>
                    </a:lnTo>
                    <a:lnTo>
                      <a:pt x="196" y="558"/>
                    </a:lnTo>
                    <a:lnTo>
                      <a:pt x="207" y="604"/>
                    </a:lnTo>
                    <a:lnTo>
                      <a:pt x="217" y="651"/>
                    </a:lnTo>
                    <a:lnTo>
                      <a:pt x="225" y="696"/>
                    </a:lnTo>
                    <a:lnTo>
                      <a:pt x="233" y="743"/>
                    </a:lnTo>
                    <a:lnTo>
                      <a:pt x="240" y="790"/>
                    </a:lnTo>
                    <a:lnTo>
                      <a:pt x="245" y="835"/>
                    </a:lnTo>
                    <a:lnTo>
                      <a:pt x="250" y="882"/>
                    </a:lnTo>
                    <a:lnTo>
                      <a:pt x="255" y="929"/>
                    </a:lnTo>
                    <a:lnTo>
                      <a:pt x="257" y="975"/>
                    </a:lnTo>
                    <a:lnTo>
                      <a:pt x="260" y="1022"/>
                    </a:lnTo>
                    <a:lnTo>
                      <a:pt x="261" y="1068"/>
                    </a:lnTo>
                    <a:lnTo>
                      <a:pt x="262" y="1114"/>
                    </a:lnTo>
                    <a:lnTo>
                      <a:pt x="261" y="1161"/>
                    </a:lnTo>
                    <a:lnTo>
                      <a:pt x="260" y="1208"/>
                    </a:lnTo>
                    <a:lnTo>
                      <a:pt x="257" y="1254"/>
                    </a:lnTo>
                    <a:lnTo>
                      <a:pt x="255" y="1301"/>
                    </a:lnTo>
                    <a:lnTo>
                      <a:pt x="251" y="1348"/>
                    </a:lnTo>
                    <a:lnTo>
                      <a:pt x="246" y="1395"/>
                    </a:lnTo>
                    <a:lnTo>
                      <a:pt x="240" y="1441"/>
                    </a:lnTo>
                    <a:lnTo>
                      <a:pt x="233" y="1488"/>
                    </a:lnTo>
                    <a:lnTo>
                      <a:pt x="244" y="1480"/>
                    </a:lnTo>
                    <a:lnTo>
                      <a:pt x="233" y="1488"/>
                    </a:lnTo>
                    <a:lnTo>
                      <a:pt x="234" y="1493"/>
                    </a:lnTo>
                    <a:lnTo>
                      <a:pt x="235" y="1497"/>
                    </a:lnTo>
                    <a:lnTo>
                      <a:pt x="239" y="1499"/>
                    </a:lnTo>
                    <a:lnTo>
                      <a:pt x="242" y="1500"/>
                    </a:lnTo>
                    <a:lnTo>
                      <a:pt x="246" y="1500"/>
                    </a:lnTo>
                    <a:lnTo>
                      <a:pt x="250" y="1499"/>
                    </a:lnTo>
                    <a:lnTo>
                      <a:pt x="252" y="1496"/>
                    </a:lnTo>
                    <a:lnTo>
                      <a:pt x="253" y="1492"/>
                    </a:lnTo>
                    <a:lnTo>
                      <a:pt x="244" y="1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927320" y="4000680"/>
                <a:ext cx="486000" cy="84960"/>
              </a:xfrm>
              <a:custGeom>
                <a:avLst/>
                <a:gdLst/>
                <a:ahLst/>
                <a:rect l="l" t="t" r="r" b="b"/>
                <a:pathLst>
                  <a:path w="1286" h="227">
                    <a:moveTo>
                      <a:pt x="0" y="12"/>
                    </a:moveTo>
                    <a:lnTo>
                      <a:pt x="8" y="21"/>
                    </a:lnTo>
                    <a:lnTo>
                      <a:pt x="86" y="45"/>
                    </a:lnTo>
                    <a:lnTo>
                      <a:pt x="165" y="69"/>
                    </a:lnTo>
                    <a:lnTo>
                      <a:pt x="244" y="91"/>
                    </a:lnTo>
                    <a:lnTo>
                      <a:pt x="323" y="112"/>
                    </a:lnTo>
                    <a:lnTo>
                      <a:pt x="403" y="130"/>
                    </a:lnTo>
                    <a:lnTo>
                      <a:pt x="482" y="149"/>
                    </a:lnTo>
                    <a:lnTo>
                      <a:pt x="562" y="164"/>
                    </a:lnTo>
                    <a:lnTo>
                      <a:pt x="642" y="178"/>
                    </a:lnTo>
                    <a:lnTo>
                      <a:pt x="722" y="191"/>
                    </a:lnTo>
                    <a:lnTo>
                      <a:pt x="802" y="202"/>
                    </a:lnTo>
                    <a:lnTo>
                      <a:pt x="883" y="210"/>
                    </a:lnTo>
                    <a:lnTo>
                      <a:pt x="963" y="218"/>
                    </a:lnTo>
                    <a:lnTo>
                      <a:pt x="1045" y="223"/>
                    </a:lnTo>
                    <a:lnTo>
                      <a:pt x="1124" y="226"/>
                    </a:lnTo>
                    <a:lnTo>
                      <a:pt x="1206" y="227"/>
                    </a:lnTo>
                    <a:lnTo>
                      <a:pt x="1286" y="227"/>
                    </a:lnTo>
                    <a:lnTo>
                      <a:pt x="1286" y="207"/>
                    </a:lnTo>
                    <a:lnTo>
                      <a:pt x="1206" y="207"/>
                    </a:lnTo>
                    <a:lnTo>
                      <a:pt x="1126" y="205"/>
                    </a:lnTo>
                    <a:lnTo>
                      <a:pt x="1046" y="202"/>
                    </a:lnTo>
                    <a:lnTo>
                      <a:pt x="966" y="197"/>
                    </a:lnTo>
                    <a:lnTo>
                      <a:pt x="885" y="189"/>
                    </a:lnTo>
                    <a:lnTo>
                      <a:pt x="805" y="181"/>
                    </a:lnTo>
                    <a:lnTo>
                      <a:pt x="725" y="170"/>
                    </a:lnTo>
                    <a:lnTo>
                      <a:pt x="646" y="157"/>
                    </a:lnTo>
                    <a:lnTo>
                      <a:pt x="566" y="144"/>
                    </a:lnTo>
                    <a:lnTo>
                      <a:pt x="486" y="128"/>
                    </a:lnTo>
                    <a:lnTo>
                      <a:pt x="407" y="111"/>
                    </a:lnTo>
                    <a:lnTo>
                      <a:pt x="328" y="91"/>
                    </a:lnTo>
                    <a:lnTo>
                      <a:pt x="249" y="71"/>
                    </a:lnTo>
                    <a:lnTo>
                      <a:pt x="170" y="49"/>
                    </a:lnTo>
                    <a:lnTo>
                      <a:pt x="93" y="26"/>
                    </a:lnTo>
                    <a:lnTo>
                      <a:pt x="14" y="1"/>
                    </a:lnTo>
                    <a:lnTo>
                      <a:pt x="21" y="9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916160" y="3480120"/>
                <a:ext cx="143640" cy="524520"/>
              </a:xfrm>
              <a:custGeom>
                <a:avLst/>
                <a:gdLst/>
                <a:ahLst/>
                <a:rect l="l" t="t" r="r" b="b"/>
                <a:pathLst>
                  <a:path w="379" h="1384">
                    <a:moveTo>
                      <a:pt x="370" y="0"/>
                    </a:moveTo>
                    <a:lnTo>
                      <a:pt x="360" y="4"/>
                    </a:lnTo>
                    <a:lnTo>
                      <a:pt x="333" y="46"/>
                    </a:lnTo>
                    <a:lnTo>
                      <a:pt x="308" y="88"/>
                    </a:lnTo>
                    <a:lnTo>
                      <a:pt x="283" y="130"/>
                    </a:lnTo>
                    <a:lnTo>
                      <a:pt x="260" y="171"/>
                    </a:lnTo>
                    <a:lnTo>
                      <a:pt x="236" y="215"/>
                    </a:lnTo>
                    <a:lnTo>
                      <a:pt x="215" y="256"/>
                    </a:lnTo>
                    <a:lnTo>
                      <a:pt x="194" y="299"/>
                    </a:lnTo>
                    <a:lnTo>
                      <a:pt x="173" y="341"/>
                    </a:lnTo>
                    <a:lnTo>
                      <a:pt x="155" y="384"/>
                    </a:lnTo>
                    <a:lnTo>
                      <a:pt x="137" y="427"/>
                    </a:lnTo>
                    <a:lnTo>
                      <a:pt x="121" y="469"/>
                    </a:lnTo>
                    <a:lnTo>
                      <a:pt x="105" y="512"/>
                    </a:lnTo>
                    <a:lnTo>
                      <a:pt x="90" y="555"/>
                    </a:lnTo>
                    <a:lnTo>
                      <a:pt x="76" y="598"/>
                    </a:lnTo>
                    <a:lnTo>
                      <a:pt x="63" y="643"/>
                    </a:lnTo>
                    <a:lnTo>
                      <a:pt x="52" y="686"/>
                    </a:lnTo>
                    <a:lnTo>
                      <a:pt x="42" y="729"/>
                    </a:lnTo>
                    <a:lnTo>
                      <a:pt x="32" y="772"/>
                    </a:lnTo>
                    <a:lnTo>
                      <a:pt x="23" y="816"/>
                    </a:lnTo>
                    <a:lnTo>
                      <a:pt x="17" y="859"/>
                    </a:lnTo>
                    <a:lnTo>
                      <a:pt x="11" y="903"/>
                    </a:lnTo>
                    <a:lnTo>
                      <a:pt x="6" y="946"/>
                    </a:lnTo>
                    <a:lnTo>
                      <a:pt x="3" y="991"/>
                    </a:lnTo>
                    <a:lnTo>
                      <a:pt x="1" y="1034"/>
                    </a:lnTo>
                    <a:lnTo>
                      <a:pt x="0" y="1078"/>
                    </a:lnTo>
                    <a:lnTo>
                      <a:pt x="0" y="1121"/>
                    </a:lnTo>
                    <a:lnTo>
                      <a:pt x="1" y="1165"/>
                    </a:lnTo>
                    <a:lnTo>
                      <a:pt x="4" y="1210"/>
                    </a:lnTo>
                    <a:lnTo>
                      <a:pt x="9" y="1253"/>
                    </a:lnTo>
                    <a:lnTo>
                      <a:pt x="14" y="1297"/>
                    </a:lnTo>
                    <a:lnTo>
                      <a:pt x="21" y="1341"/>
                    </a:lnTo>
                    <a:lnTo>
                      <a:pt x="28" y="1384"/>
                    </a:lnTo>
                    <a:lnTo>
                      <a:pt x="49" y="1381"/>
                    </a:lnTo>
                    <a:lnTo>
                      <a:pt x="41" y="1337"/>
                    </a:lnTo>
                    <a:lnTo>
                      <a:pt x="34" y="1294"/>
                    </a:lnTo>
                    <a:lnTo>
                      <a:pt x="30" y="1251"/>
                    </a:lnTo>
                    <a:lnTo>
                      <a:pt x="25" y="1207"/>
                    </a:lnTo>
                    <a:lnTo>
                      <a:pt x="22" y="1164"/>
                    </a:lnTo>
                    <a:lnTo>
                      <a:pt x="21" y="1121"/>
                    </a:lnTo>
                    <a:lnTo>
                      <a:pt x="21" y="1078"/>
                    </a:lnTo>
                    <a:lnTo>
                      <a:pt x="21" y="1035"/>
                    </a:lnTo>
                    <a:lnTo>
                      <a:pt x="23" y="992"/>
                    </a:lnTo>
                    <a:lnTo>
                      <a:pt x="27" y="949"/>
                    </a:lnTo>
                    <a:lnTo>
                      <a:pt x="32" y="906"/>
                    </a:lnTo>
                    <a:lnTo>
                      <a:pt x="37" y="863"/>
                    </a:lnTo>
                    <a:lnTo>
                      <a:pt x="44" y="820"/>
                    </a:lnTo>
                    <a:lnTo>
                      <a:pt x="53" y="777"/>
                    </a:lnTo>
                    <a:lnTo>
                      <a:pt x="62" y="734"/>
                    </a:lnTo>
                    <a:lnTo>
                      <a:pt x="71" y="691"/>
                    </a:lnTo>
                    <a:lnTo>
                      <a:pt x="84" y="647"/>
                    </a:lnTo>
                    <a:lnTo>
                      <a:pt x="96" y="604"/>
                    </a:lnTo>
                    <a:lnTo>
                      <a:pt x="110" y="563"/>
                    </a:lnTo>
                    <a:lnTo>
                      <a:pt x="124" y="520"/>
                    </a:lnTo>
                    <a:lnTo>
                      <a:pt x="140" y="476"/>
                    </a:lnTo>
                    <a:lnTo>
                      <a:pt x="156" y="435"/>
                    </a:lnTo>
                    <a:lnTo>
                      <a:pt x="175" y="392"/>
                    </a:lnTo>
                    <a:lnTo>
                      <a:pt x="193" y="350"/>
                    </a:lnTo>
                    <a:lnTo>
                      <a:pt x="213" y="308"/>
                    </a:lnTo>
                    <a:lnTo>
                      <a:pt x="234" y="266"/>
                    </a:lnTo>
                    <a:lnTo>
                      <a:pt x="255" y="224"/>
                    </a:lnTo>
                    <a:lnTo>
                      <a:pt x="278" y="183"/>
                    </a:lnTo>
                    <a:lnTo>
                      <a:pt x="301" y="141"/>
                    </a:lnTo>
                    <a:lnTo>
                      <a:pt x="326" y="99"/>
                    </a:lnTo>
                    <a:lnTo>
                      <a:pt x="351" y="57"/>
                    </a:lnTo>
                    <a:lnTo>
                      <a:pt x="378" y="16"/>
                    </a:lnTo>
                    <a:lnTo>
                      <a:pt x="368" y="21"/>
                    </a:lnTo>
                    <a:lnTo>
                      <a:pt x="378" y="16"/>
                    </a:lnTo>
                    <a:lnTo>
                      <a:pt x="379" y="12"/>
                    </a:lnTo>
                    <a:lnTo>
                      <a:pt x="379" y="8"/>
                    </a:lnTo>
                    <a:lnTo>
                      <a:pt x="378" y="4"/>
                    </a:lnTo>
                    <a:lnTo>
                      <a:pt x="374" y="2"/>
                    </a:lnTo>
                    <a:lnTo>
                      <a:pt x="370" y="0"/>
                    </a:lnTo>
                    <a:lnTo>
                      <a:pt x="367" y="0"/>
                    </a:lnTo>
                    <a:lnTo>
                      <a:pt x="363" y="2"/>
                    </a:lnTo>
                    <a:lnTo>
                      <a:pt x="360" y="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1825920" y="3845520"/>
                <a:ext cx="1557360" cy="215640"/>
              </a:xfrm>
              <a:custGeom>
                <a:avLst/>
                <a:gdLst/>
                <a:ahLst/>
                <a:rect l="l" t="t" r="r" b="b"/>
                <a:pathLst>
                  <a:path w="4115" h="569">
                    <a:moveTo>
                      <a:pt x="0" y="443"/>
                    </a:moveTo>
                    <a:lnTo>
                      <a:pt x="150" y="460"/>
                    </a:lnTo>
                    <a:lnTo>
                      <a:pt x="296" y="476"/>
                    </a:lnTo>
                    <a:lnTo>
                      <a:pt x="440" y="491"/>
                    </a:lnTo>
                    <a:lnTo>
                      <a:pt x="581" y="505"/>
                    </a:lnTo>
                    <a:lnTo>
                      <a:pt x="720" y="516"/>
                    </a:lnTo>
                    <a:lnTo>
                      <a:pt x="857" y="527"/>
                    </a:lnTo>
                    <a:lnTo>
                      <a:pt x="991" y="537"/>
                    </a:lnTo>
                    <a:lnTo>
                      <a:pt x="1124" y="545"/>
                    </a:lnTo>
                    <a:lnTo>
                      <a:pt x="1254" y="553"/>
                    </a:lnTo>
                    <a:lnTo>
                      <a:pt x="1383" y="558"/>
                    </a:lnTo>
                    <a:lnTo>
                      <a:pt x="1510" y="562"/>
                    </a:lnTo>
                    <a:lnTo>
                      <a:pt x="1635" y="566"/>
                    </a:lnTo>
                    <a:lnTo>
                      <a:pt x="1761" y="567"/>
                    </a:lnTo>
                    <a:lnTo>
                      <a:pt x="1884" y="569"/>
                    </a:lnTo>
                    <a:lnTo>
                      <a:pt x="2007" y="567"/>
                    </a:lnTo>
                    <a:lnTo>
                      <a:pt x="2129" y="565"/>
                    </a:lnTo>
                    <a:lnTo>
                      <a:pt x="2249" y="561"/>
                    </a:lnTo>
                    <a:lnTo>
                      <a:pt x="2370" y="556"/>
                    </a:lnTo>
                    <a:lnTo>
                      <a:pt x="2490" y="550"/>
                    </a:lnTo>
                    <a:lnTo>
                      <a:pt x="2611" y="542"/>
                    </a:lnTo>
                    <a:lnTo>
                      <a:pt x="2730" y="533"/>
                    </a:lnTo>
                    <a:lnTo>
                      <a:pt x="2851" y="522"/>
                    </a:lnTo>
                    <a:lnTo>
                      <a:pt x="2971" y="510"/>
                    </a:lnTo>
                    <a:lnTo>
                      <a:pt x="3092" y="495"/>
                    </a:lnTo>
                    <a:lnTo>
                      <a:pt x="3213" y="480"/>
                    </a:lnTo>
                    <a:lnTo>
                      <a:pt x="3336" y="463"/>
                    </a:lnTo>
                    <a:lnTo>
                      <a:pt x="3459" y="444"/>
                    </a:lnTo>
                    <a:lnTo>
                      <a:pt x="3584" y="425"/>
                    </a:lnTo>
                    <a:lnTo>
                      <a:pt x="3709" y="403"/>
                    </a:lnTo>
                    <a:lnTo>
                      <a:pt x="3836" y="379"/>
                    </a:lnTo>
                    <a:lnTo>
                      <a:pt x="3965" y="355"/>
                    </a:lnTo>
                    <a:lnTo>
                      <a:pt x="4095" y="328"/>
                    </a:lnTo>
                    <a:lnTo>
                      <a:pt x="4090" y="307"/>
                    </a:lnTo>
                    <a:lnTo>
                      <a:pt x="4088" y="284"/>
                    </a:lnTo>
                    <a:lnTo>
                      <a:pt x="4088" y="265"/>
                    </a:lnTo>
                    <a:lnTo>
                      <a:pt x="4089" y="244"/>
                    </a:lnTo>
                    <a:lnTo>
                      <a:pt x="4094" y="203"/>
                    </a:lnTo>
                    <a:lnTo>
                      <a:pt x="4101" y="164"/>
                    </a:lnTo>
                    <a:lnTo>
                      <a:pt x="4109" y="125"/>
                    </a:lnTo>
                    <a:lnTo>
                      <a:pt x="4115" y="84"/>
                    </a:lnTo>
                    <a:lnTo>
                      <a:pt x="4115" y="64"/>
                    </a:lnTo>
                    <a:lnTo>
                      <a:pt x="4115" y="43"/>
                    </a:lnTo>
                    <a:lnTo>
                      <a:pt x="4112" y="21"/>
                    </a:lnTo>
                    <a:lnTo>
                      <a:pt x="4109" y="0"/>
                    </a:lnTo>
                    <a:lnTo>
                      <a:pt x="3980" y="15"/>
                    </a:lnTo>
                    <a:lnTo>
                      <a:pt x="3852" y="29"/>
                    </a:lnTo>
                    <a:lnTo>
                      <a:pt x="3725" y="41"/>
                    </a:lnTo>
                    <a:lnTo>
                      <a:pt x="3601" y="52"/>
                    </a:lnTo>
                    <a:lnTo>
                      <a:pt x="3478" y="62"/>
                    </a:lnTo>
                    <a:lnTo>
                      <a:pt x="3356" y="72"/>
                    </a:lnTo>
                    <a:lnTo>
                      <a:pt x="3236" y="80"/>
                    </a:lnTo>
                    <a:lnTo>
                      <a:pt x="3115" y="88"/>
                    </a:lnTo>
                    <a:lnTo>
                      <a:pt x="2997" y="95"/>
                    </a:lnTo>
                    <a:lnTo>
                      <a:pt x="2879" y="100"/>
                    </a:lnTo>
                    <a:lnTo>
                      <a:pt x="2761" y="106"/>
                    </a:lnTo>
                    <a:lnTo>
                      <a:pt x="2645" y="110"/>
                    </a:lnTo>
                    <a:lnTo>
                      <a:pt x="2528" y="114"/>
                    </a:lnTo>
                    <a:lnTo>
                      <a:pt x="2412" y="117"/>
                    </a:lnTo>
                    <a:lnTo>
                      <a:pt x="2296" y="120"/>
                    </a:lnTo>
                    <a:lnTo>
                      <a:pt x="2180" y="121"/>
                    </a:lnTo>
                    <a:lnTo>
                      <a:pt x="1947" y="123"/>
                    </a:lnTo>
                    <a:lnTo>
                      <a:pt x="1713" y="123"/>
                    </a:lnTo>
                    <a:lnTo>
                      <a:pt x="1476" y="121"/>
                    </a:lnTo>
                    <a:lnTo>
                      <a:pt x="1234" y="118"/>
                    </a:lnTo>
                    <a:lnTo>
                      <a:pt x="736" y="109"/>
                    </a:lnTo>
                    <a:lnTo>
                      <a:pt x="211" y="95"/>
                    </a:lnTo>
                    <a:lnTo>
                      <a:pt x="183" y="138"/>
                    </a:lnTo>
                    <a:lnTo>
                      <a:pt x="156" y="180"/>
                    </a:lnTo>
                    <a:lnTo>
                      <a:pt x="129" y="223"/>
                    </a:lnTo>
                    <a:lnTo>
                      <a:pt x="103" y="267"/>
                    </a:lnTo>
                    <a:lnTo>
                      <a:pt x="76" y="312"/>
                    </a:lnTo>
                    <a:lnTo>
                      <a:pt x="50" y="355"/>
                    </a:lnTo>
                    <a:lnTo>
                      <a:pt x="25" y="399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1825920" y="3966480"/>
                <a:ext cx="1553400" cy="96480"/>
              </a:xfrm>
              <a:custGeom>
                <a:avLst/>
                <a:gdLst/>
                <a:ahLst/>
                <a:rect l="l" t="t" r="r" b="b"/>
                <a:pathLst>
                  <a:path w="4106" h="258">
                    <a:moveTo>
                      <a:pt x="4087" y="11"/>
                    </a:moveTo>
                    <a:lnTo>
                      <a:pt x="4095" y="0"/>
                    </a:lnTo>
                    <a:lnTo>
                      <a:pt x="3964" y="26"/>
                    </a:lnTo>
                    <a:lnTo>
                      <a:pt x="3837" y="52"/>
                    </a:lnTo>
                    <a:lnTo>
                      <a:pt x="3710" y="75"/>
                    </a:lnTo>
                    <a:lnTo>
                      <a:pt x="3584" y="96"/>
                    </a:lnTo>
                    <a:lnTo>
                      <a:pt x="3460" y="117"/>
                    </a:lnTo>
                    <a:lnTo>
                      <a:pt x="3337" y="135"/>
                    </a:lnTo>
                    <a:lnTo>
                      <a:pt x="3214" y="151"/>
                    </a:lnTo>
                    <a:lnTo>
                      <a:pt x="3094" y="167"/>
                    </a:lnTo>
                    <a:lnTo>
                      <a:pt x="2972" y="181"/>
                    </a:lnTo>
                    <a:lnTo>
                      <a:pt x="2851" y="193"/>
                    </a:lnTo>
                    <a:lnTo>
                      <a:pt x="2732" y="204"/>
                    </a:lnTo>
                    <a:lnTo>
                      <a:pt x="2612" y="214"/>
                    </a:lnTo>
                    <a:lnTo>
                      <a:pt x="2491" y="221"/>
                    </a:lnTo>
                    <a:lnTo>
                      <a:pt x="2372" y="229"/>
                    </a:lnTo>
                    <a:lnTo>
                      <a:pt x="2251" y="234"/>
                    </a:lnTo>
                    <a:lnTo>
                      <a:pt x="2129" y="237"/>
                    </a:lnTo>
                    <a:lnTo>
                      <a:pt x="2008" y="239"/>
                    </a:lnTo>
                    <a:lnTo>
                      <a:pt x="1886" y="240"/>
                    </a:lnTo>
                    <a:lnTo>
                      <a:pt x="1763" y="240"/>
                    </a:lnTo>
                    <a:lnTo>
                      <a:pt x="1637" y="237"/>
                    </a:lnTo>
                    <a:lnTo>
                      <a:pt x="1512" y="235"/>
                    </a:lnTo>
                    <a:lnTo>
                      <a:pt x="1385" y="230"/>
                    </a:lnTo>
                    <a:lnTo>
                      <a:pt x="1256" y="224"/>
                    </a:lnTo>
                    <a:lnTo>
                      <a:pt x="1126" y="216"/>
                    </a:lnTo>
                    <a:lnTo>
                      <a:pt x="994" y="209"/>
                    </a:lnTo>
                    <a:lnTo>
                      <a:pt x="860" y="199"/>
                    </a:lnTo>
                    <a:lnTo>
                      <a:pt x="724" y="188"/>
                    </a:lnTo>
                    <a:lnTo>
                      <a:pt x="585" y="176"/>
                    </a:lnTo>
                    <a:lnTo>
                      <a:pt x="443" y="162"/>
                    </a:lnTo>
                    <a:lnTo>
                      <a:pt x="299" y="148"/>
                    </a:lnTo>
                    <a:lnTo>
                      <a:pt x="152" y="133"/>
                    </a:lnTo>
                    <a:lnTo>
                      <a:pt x="3" y="116"/>
                    </a:lnTo>
                    <a:lnTo>
                      <a:pt x="0" y="134"/>
                    </a:lnTo>
                    <a:lnTo>
                      <a:pt x="150" y="151"/>
                    </a:lnTo>
                    <a:lnTo>
                      <a:pt x="297" y="166"/>
                    </a:lnTo>
                    <a:lnTo>
                      <a:pt x="441" y="181"/>
                    </a:lnTo>
                    <a:lnTo>
                      <a:pt x="582" y="194"/>
                    </a:lnTo>
                    <a:lnTo>
                      <a:pt x="721" y="207"/>
                    </a:lnTo>
                    <a:lnTo>
                      <a:pt x="858" y="218"/>
                    </a:lnTo>
                    <a:lnTo>
                      <a:pt x="993" y="227"/>
                    </a:lnTo>
                    <a:lnTo>
                      <a:pt x="1125" y="235"/>
                    </a:lnTo>
                    <a:lnTo>
                      <a:pt x="1256" y="242"/>
                    </a:lnTo>
                    <a:lnTo>
                      <a:pt x="1384" y="248"/>
                    </a:lnTo>
                    <a:lnTo>
                      <a:pt x="1512" y="253"/>
                    </a:lnTo>
                    <a:lnTo>
                      <a:pt x="1637" y="256"/>
                    </a:lnTo>
                    <a:lnTo>
                      <a:pt x="1763" y="258"/>
                    </a:lnTo>
                    <a:lnTo>
                      <a:pt x="1886" y="258"/>
                    </a:lnTo>
                    <a:lnTo>
                      <a:pt x="2009" y="257"/>
                    </a:lnTo>
                    <a:lnTo>
                      <a:pt x="2131" y="256"/>
                    </a:lnTo>
                    <a:lnTo>
                      <a:pt x="2251" y="252"/>
                    </a:lnTo>
                    <a:lnTo>
                      <a:pt x="2372" y="247"/>
                    </a:lnTo>
                    <a:lnTo>
                      <a:pt x="2492" y="240"/>
                    </a:lnTo>
                    <a:lnTo>
                      <a:pt x="2613" y="232"/>
                    </a:lnTo>
                    <a:lnTo>
                      <a:pt x="2733" y="223"/>
                    </a:lnTo>
                    <a:lnTo>
                      <a:pt x="2854" y="211"/>
                    </a:lnTo>
                    <a:lnTo>
                      <a:pt x="2974" y="199"/>
                    </a:lnTo>
                    <a:lnTo>
                      <a:pt x="3095" y="186"/>
                    </a:lnTo>
                    <a:lnTo>
                      <a:pt x="3217" y="170"/>
                    </a:lnTo>
                    <a:lnTo>
                      <a:pt x="3340" y="154"/>
                    </a:lnTo>
                    <a:lnTo>
                      <a:pt x="3463" y="134"/>
                    </a:lnTo>
                    <a:lnTo>
                      <a:pt x="3587" y="114"/>
                    </a:lnTo>
                    <a:lnTo>
                      <a:pt x="3712" y="92"/>
                    </a:lnTo>
                    <a:lnTo>
                      <a:pt x="3840" y="69"/>
                    </a:lnTo>
                    <a:lnTo>
                      <a:pt x="3968" y="44"/>
                    </a:lnTo>
                    <a:lnTo>
                      <a:pt x="4098" y="17"/>
                    </a:lnTo>
                    <a:lnTo>
                      <a:pt x="4106" y="6"/>
                    </a:lnTo>
                    <a:lnTo>
                      <a:pt x="4098" y="17"/>
                    </a:lnTo>
                    <a:lnTo>
                      <a:pt x="4102" y="16"/>
                    </a:lnTo>
                    <a:lnTo>
                      <a:pt x="4105" y="13"/>
                    </a:lnTo>
                    <a:lnTo>
                      <a:pt x="4106" y="10"/>
                    </a:lnTo>
                    <a:lnTo>
                      <a:pt x="4106" y="7"/>
                    </a:lnTo>
                    <a:lnTo>
                      <a:pt x="4105" y="4"/>
                    </a:lnTo>
                    <a:lnTo>
                      <a:pt x="4102" y="1"/>
                    </a:lnTo>
                    <a:lnTo>
                      <a:pt x="4098" y="0"/>
                    </a:lnTo>
                    <a:lnTo>
                      <a:pt x="4095" y="0"/>
                    </a:lnTo>
                    <a:lnTo>
                      <a:pt x="4087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370320" y="3841560"/>
                <a:ext cx="16920" cy="128520"/>
              </a:xfrm>
              <a:custGeom>
                <a:avLst/>
                <a:gdLst/>
                <a:ahLst/>
                <a:rect l="l" t="t" r="r" b="b"/>
                <a:pathLst>
                  <a:path w="46" h="339">
                    <a:moveTo>
                      <a:pt x="31" y="18"/>
                    </a:moveTo>
                    <a:lnTo>
                      <a:pt x="21" y="12"/>
                    </a:lnTo>
                    <a:lnTo>
                      <a:pt x="25" y="33"/>
                    </a:lnTo>
                    <a:lnTo>
                      <a:pt x="26" y="52"/>
                    </a:lnTo>
                    <a:lnTo>
                      <a:pt x="27" y="72"/>
                    </a:lnTo>
                    <a:lnTo>
                      <a:pt x="26" y="92"/>
                    </a:lnTo>
                    <a:lnTo>
                      <a:pt x="21" y="132"/>
                    </a:lnTo>
                    <a:lnTo>
                      <a:pt x="14" y="172"/>
                    </a:lnTo>
                    <a:lnTo>
                      <a:pt x="6" y="211"/>
                    </a:lnTo>
                    <a:lnTo>
                      <a:pt x="0" y="252"/>
                    </a:lnTo>
                    <a:lnTo>
                      <a:pt x="0" y="274"/>
                    </a:lnTo>
                    <a:lnTo>
                      <a:pt x="0" y="295"/>
                    </a:lnTo>
                    <a:lnTo>
                      <a:pt x="3" y="317"/>
                    </a:lnTo>
                    <a:lnTo>
                      <a:pt x="6" y="339"/>
                    </a:lnTo>
                    <a:lnTo>
                      <a:pt x="25" y="334"/>
                    </a:lnTo>
                    <a:lnTo>
                      <a:pt x="21" y="314"/>
                    </a:lnTo>
                    <a:lnTo>
                      <a:pt x="19" y="293"/>
                    </a:lnTo>
                    <a:lnTo>
                      <a:pt x="19" y="274"/>
                    </a:lnTo>
                    <a:lnTo>
                      <a:pt x="19" y="254"/>
                    </a:lnTo>
                    <a:lnTo>
                      <a:pt x="25" y="214"/>
                    </a:lnTo>
                    <a:lnTo>
                      <a:pt x="32" y="174"/>
                    </a:lnTo>
                    <a:lnTo>
                      <a:pt x="40" y="135"/>
                    </a:lnTo>
                    <a:lnTo>
                      <a:pt x="45" y="94"/>
                    </a:lnTo>
                    <a:lnTo>
                      <a:pt x="46" y="73"/>
                    </a:lnTo>
                    <a:lnTo>
                      <a:pt x="46" y="51"/>
                    </a:lnTo>
                    <a:lnTo>
                      <a:pt x="43" y="29"/>
                    </a:lnTo>
                    <a:lnTo>
                      <a:pt x="38" y="7"/>
                    </a:lnTo>
                    <a:lnTo>
                      <a:pt x="29" y="0"/>
                    </a:lnTo>
                    <a:lnTo>
                      <a:pt x="38" y="7"/>
                    </a:lnTo>
                    <a:lnTo>
                      <a:pt x="37" y="3"/>
                    </a:lnTo>
                    <a:lnTo>
                      <a:pt x="35" y="1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5" y="2"/>
                    </a:lnTo>
                    <a:lnTo>
                      <a:pt x="22" y="4"/>
                    </a:lnTo>
                    <a:lnTo>
                      <a:pt x="20" y="7"/>
                    </a:lnTo>
                    <a:lnTo>
                      <a:pt x="21" y="12"/>
                    </a:lnTo>
                    <a:lnTo>
                      <a:pt x="3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1901880" y="3841560"/>
                <a:ext cx="1479240" cy="52920"/>
              </a:xfrm>
              <a:custGeom>
                <a:avLst/>
                <a:gdLst/>
                <a:ahLst/>
                <a:rect l="l" t="t" r="r" b="b"/>
                <a:pathLst>
                  <a:path w="3909" h="141">
                    <a:moveTo>
                      <a:pt x="18" y="110"/>
                    </a:moveTo>
                    <a:lnTo>
                      <a:pt x="10" y="114"/>
                    </a:lnTo>
                    <a:lnTo>
                      <a:pt x="535" y="126"/>
                    </a:lnTo>
                    <a:lnTo>
                      <a:pt x="1033" y="136"/>
                    </a:lnTo>
                    <a:lnTo>
                      <a:pt x="1275" y="140"/>
                    </a:lnTo>
                    <a:lnTo>
                      <a:pt x="1512" y="141"/>
                    </a:lnTo>
                    <a:lnTo>
                      <a:pt x="1746" y="141"/>
                    </a:lnTo>
                    <a:lnTo>
                      <a:pt x="1979" y="140"/>
                    </a:lnTo>
                    <a:lnTo>
                      <a:pt x="2095" y="137"/>
                    </a:lnTo>
                    <a:lnTo>
                      <a:pt x="2212" y="135"/>
                    </a:lnTo>
                    <a:lnTo>
                      <a:pt x="2327" y="132"/>
                    </a:lnTo>
                    <a:lnTo>
                      <a:pt x="2444" y="129"/>
                    </a:lnTo>
                    <a:lnTo>
                      <a:pt x="2561" y="124"/>
                    </a:lnTo>
                    <a:lnTo>
                      <a:pt x="2678" y="119"/>
                    </a:lnTo>
                    <a:lnTo>
                      <a:pt x="2796" y="113"/>
                    </a:lnTo>
                    <a:lnTo>
                      <a:pt x="2915" y="107"/>
                    </a:lnTo>
                    <a:lnTo>
                      <a:pt x="3035" y="98"/>
                    </a:lnTo>
                    <a:lnTo>
                      <a:pt x="3155" y="89"/>
                    </a:lnTo>
                    <a:lnTo>
                      <a:pt x="3277" y="81"/>
                    </a:lnTo>
                    <a:lnTo>
                      <a:pt x="3400" y="70"/>
                    </a:lnTo>
                    <a:lnTo>
                      <a:pt x="3525" y="59"/>
                    </a:lnTo>
                    <a:lnTo>
                      <a:pt x="3651" y="46"/>
                    </a:lnTo>
                    <a:lnTo>
                      <a:pt x="3779" y="33"/>
                    </a:lnTo>
                    <a:lnTo>
                      <a:pt x="3909" y="18"/>
                    </a:lnTo>
                    <a:lnTo>
                      <a:pt x="3907" y="0"/>
                    </a:lnTo>
                    <a:lnTo>
                      <a:pt x="3777" y="14"/>
                    </a:lnTo>
                    <a:lnTo>
                      <a:pt x="3650" y="28"/>
                    </a:lnTo>
                    <a:lnTo>
                      <a:pt x="3523" y="40"/>
                    </a:lnTo>
                    <a:lnTo>
                      <a:pt x="3399" y="51"/>
                    </a:lnTo>
                    <a:lnTo>
                      <a:pt x="3276" y="62"/>
                    </a:lnTo>
                    <a:lnTo>
                      <a:pt x="3154" y="71"/>
                    </a:lnTo>
                    <a:lnTo>
                      <a:pt x="3033" y="79"/>
                    </a:lnTo>
                    <a:lnTo>
                      <a:pt x="2914" y="87"/>
                    </a:lnTo>
                    <a:lnTo>
                      <a:pt x="2795" y="94"/>
                    </a:lnTo>
                    <a:lnTo>
                      <a:pt x="2678" y="100"/>
                    </a:lnTo>
                    <a:lnTo>
                      <a:pt x="2560" y="105"/>
                    </a:lnTo>
                    <a:lnTo>
                      <a:pt x="2443" y="110"/>
                    </a:lnTo>
                    <a:lnTo>
                      <a:pt x="2327" y="114"/>
                    </a:lnTo>
                    <a:lnTo>
                      <a:pt x="2211" y="116"/>
                    </a:lnTo>
                    <a:lnTo>
                      <a:pt x="2095" y="119"/>
                    </a:lnTo>
                    <a:lnTo>
                      <a:pt x="1979" y="121"/>
                    </a:lnTo>
                    <a:lnTo>
                      <a:pt x="1746" y="123"/>
                    </a:lnTo>
                    <a:lnTo>
                      <a:pt x="1512" y="123"/>
                    </a:lnTo>
                    <a:lnTo>
                      <a:pt x="1275" y="121"/>
                    </a:lnTo>
                    <a:lnTo>
                      <a:pt x="1033" y="118"/>
                    </a:lnTo>
                    <a:lnTo>
                      <a:pt x="535" y="108"/>
                    </a:lnTo>
                    <a:lnTo>
                      <a:pt x="10" y="95"/>
                    </a:lnTo>
                    <a:lnTo>
                      <a:pt x="2" y="99"/>
                    </a:lnTo>
                    <a:lnTo>
                      <a:pt x="10" y="95"/>
                    </a:lnTo>
                    <a:lnTo>
                      <a:pt x="6" y="95"/>
                    </a:lnTo>
                    <a:lnTo>
                      <a:pt x="3" y="98"/>
                    </a:lnTo>
                    <a:lnTo>
                      <a:pt x="2" y="100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3" y="110"/>
                    </a:lnTo>
                    <a:lnTo>
                      <a:pt x="5" y="113"/>
                    </a:lnTo>
                    <a:lnTo>
                      <a:pt x="10" y="114"/>
                    </a:lnTo>
                    <a:lnTo>
                      <a:pt x="1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1822680" y="3879720"/>
                <a:ext cx="86760" cy="136080"/>
              </a:xfrm>
              <a:custGeom>
                <a:avLst/>
                <a:gdLst/>
                <a:ahLst/>
                <a:rect l="l" t="t" r="r" b="b"/>
                <a:pathLst>
                  <a:path w="229" h="363">
                    <a:moveTo>
                      <a:pt x="11" y="345"/>
                    </a:moveTo>
                    <a:lnTo>
                      <a:pt x="17" y="358"/>
                    </a:lnTo>
                    <a:lnTo>
                      <a:pt x="43" y="314"/>
                    </a:lnTo>
                    <a:lnTo>
                      <a:pt x="69" y="270"/>
                    </a:lnTo>
                    <a:lnTo>
                      <a:pt x="95" y="225"/>
                    </a:lnTo>
                    <a:lnTo>
                      <a:pt x="120" y="182"/>
                    </a:lnTo>
                    <a:lnTo>
                      <a:pt x="147" y="138"/>
                    </a:lnTo>
                    <a:lnTo>
                      <a:pt x="173" y="95"/>
                    </a:lnTo>
                    <a:lnTo>
                      <a:pt x="202" y="53"/>
                    </a:lnTo>
                    <a:lnTo>
                      <a:pt x="229" y="11"/>
                    </a:lnTo>
                    <a:lnTo>
                      <a:pt x="213" y="0"/>
                    </a:lnTo>
                    <a:lnTo>
                      <a:pt x="186" y="42"/>
                    </a:lnTo>
                    <a:lnTo>
                      <a:pt x="158" y="85"/>
                    </a:lnTo>
                    <a:lnTo>
                      <a:pt x="131" y="128"/>
                    </a:lnTo>
                    <a:lnTo>
                      <a:pt x="104" y="172"/>
                    </a:lnTo>
                    <a:lnTo>
                      <a:pt x="79" y="217"/>
                    </a:lnTo>
                    <a:lnTo>
                      <a:pt x="53" y="261"/>
                    </a:lnTo>
                    <a:lnTo>
                      <a:pt x="27" y="305"/>
                    </a:lnTo>
                    <a:lnTo>
                      <a:pt x="1" y="349"/>
                    </a:lnTo>
                    <a:lnTo>
                      <a:pt x="8" y="363"/>
                    </a:lnTo>
                    <a:lnTo>
                      <a:pt x="1" y="349"/>
                    </a:lnTo>
                    <a:lnTo>
                      <a:pt x="0" y="353"/>
                    </a:lnTo>
                    <a:lnTo>
                      <a:pt x="1" y="357"/>
                    </a:lnTo>
                    <a:lnTo>
                      <a:pt x="2" y="359"/>
                    </a:lnTo>
                    <a:lnTo>
                      <a:pt x="5" y="362"/>
                    </a:lnTo>
                    <a:lnTo>
                      <a:pt x="8" y="363"/>
                    </a:lnTo>
                    <a:lnTo>
                      <a:pt x="12" y="363"/>
                    </a:lnTo>
                    <a:lnTo>
                      <a:pt x="15" y="362"/>
                    </a:lnTo>
                    <a:lnTo>
                      <a:pt x="17" y="358"/>
                    </a:lnTo>
                    <a:lnTo>
                      <a:pt x="11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2134440" y="4152240"/>
                <a:ext cx="270720" cy="245880"/>
              </a:xfrm>
              <a:custGeom>
                <a:avLst/>
                <a:gdLst/>
                <a:ahLst/>
                <a:rect l="l" t="t" r="r" b="b"/>
                <a:pathLst>
                  <a:path w="717" h="649">
                    <a:moveTo>
                      <a:pt x="540" y="63"/>
                    </a:moveTo>
                    <a:lnTo>
                      <a:pt x="717" y="649"/>
                    </a:lnTo>
                    <a:lnTo>
                      <a:pt x="45" y="545"/>
                    </a:lnTo>
                    <a:lnTo>
                      <a:pt x="0" y="392"/>
                    </a:lnTo>
                    <a:lnTo>
                      <a:pt x="390" y="343"/>
                    </a:lnTo>
                    <a:lnTo>
                      <a:pt x="287" y="0"/>
                    </a:lnTo>
                    <a:lnTo>
                      <a:pt x="540" y="63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2335320" y="4174560"/>
                <a:ext cx="73800" cy="227520"/>
              </a:xfrm>
              <a:custGeom>
                <a:avLst/>
                <a:gdLst/>
                <a:ahLst/>
                <a:rect l="l" t="t" r="r" b="b"/>
                <a:pathLst>
                  <a:path w="194" h="599">
                    <a:moveTo>
                      <a:pt x="184" y="599"/>
                    </a:moveTo>
                    <a:lnTo>
                      <a:pt x="194" y="587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77" y="592"/>
                    </a:lnTo>
                    <a:lnTo>
                      <a:pt x="184" y="599"/>
                    </a:lnTo>
                    <a:lnTo>
                      <a:pt x="177" y="592"/>
                    </a:lnTo>
                    <a:lnTo>
                      <a:pt x="178" y="596"/>
                    </a:lnTo>
                    <a:lnTo>
                      <a:pt x="181" y="598"/>
                    </a:lnTo>
                    <a:lnTo>
                      <a:pt x="184" y="599"/>
                    </a:lnTo>
                    <a:lnTo>
                      <a:pt x="188" y="598"/>
                    </a:lnTo>
                    <a:lnTo>
                      <a:pt x="191" y="597"/>
                    </a:lnTo>
                    <a:lnTo>
                      <a:pt x="193" y="594"/>
                    </a:lnTo>
                    <a:lnTo>
                      <a:pt x="194" y="591"/>
                    </a:lnTo>
                    <a:lnTo>
                      <a:pt x="194" y="587"/>
                    </a:lnTo>
                    <a:lnTo>
                      <a:pt x="184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147760" y="4354560"/>
                <a:ext cx="257400" cy="47520"/>
              </a:xfrm>
              <a:custGeom>
                <a:avLst/>
                <a:gdLst/>
                <a:ahLst/>
                <a:rect l="l" t="t" r="r" b="b"/>
                <a:pathLst>
                  <a:path w="681" h="123">
                    <a:moveTo>
                      <a:pt x="0" y="11"/>
                    </a:moveTo>
                    <a:lnTo>
                      <a:pt x="7" y="19"/>
                    </a:lnTo>
                    <a:lnTo>
                      <a:pt x="678" y="123"/>
                    </a:lnTo>
                    <a:lnTo>
                      <a:pt x="681" y="105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130480" y="4296240"/>
                <a:ext cx="24840" cy="619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8" y="0"/>
                    </a:moveTo>
                    <a:lnTo>
                      <a:pt x="0" y="13"/>
                    </a:lnTo>
                    <a:lnTo>
                      <a:pt x="47" y="165"/>
                    </a:lnTo>
                    <a:lnTo>
                      <a:pt x="65" y="160"/>
                    </a:lnTo>
                    <a:lnTo>
                      <a:pt x="18" y="8"/>
                    </a:lnTo>
                    <a:lnTo>
                      <a:pt x="8" y="0"/>
                    </a:lnTo>
                    <a:lnTo>
                      <a:pt x="18" y="8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2132640" y="4278960"/>
                <a:ext cx="151200" cy="2412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400" y="7"/>
                    </a:moveTo>
                    <a:lnTo>
                      <a:pt x="390" y="0"/>
                    </a:lnTo>
                    <a:lnTo>
                      <a:pt x="0" y="48"/>
                    </a:lnTo>
                    <a:lnTo>
                      <a:pt x="2" y="67"/>
                    </a:lnTo>
                    <a:lnTo>
                      <a:pt x="393" y="19"/>
                    </a:lnTo>
                    <a:lnTo>
                      <a:pt x="400" y="7"/>
                    </a:lnTo>
                    <a:lnTo>
                      <a:pt x="393" y="19"/>
                    </a:lnTo>
                    <a:lnTo>
                      <a:pt x="396" y="18"/>
                    </a:lnTo>
                    <a:lnTo>
                      <a:pt x="399" y="15"/>
                    </a:lnTo>
                    <a:lnTo>
                      <a:pt x="400" y="12"/>
                    </a:lnTo>
                    <a:lnTo>
                      <a:pt x="400" y="8"/>
                    </a:lnTo>
                    <a:lnTo>
                      <a:pt x="399" y="4"/>
                    </a:lnTo>
                    <a:lnTo>
                      <a:pt x="398" y="2"/>
                    </a:lnTo>
                    <a:lnTo>
                      <a:pt x="394" y="0"/>
                    </a:lnTo>
                    <a:lnTo>
                      <a:pt x="390" y="0"/>
                    </a:lnTo>
                    <a:lnTo>
                      <a:pt x="40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238840" y="4148280"/>
                <a:ext cx="45360" cy="134280"/>
              </a:xfrm>
              <a:custGeom>
                <a:avLst/>
                <a:gdLst/>
                <a:ahLst/>
                <a:rect l="l" t="t" r="r" b="b"/>
                <a:pathLst>
                  <a:path w="120" h="356">
                    <a:moveTo>
                      <a:pt x="11" y="0"/>
                    </a:moveTo>
                    <a:lnTo>
                      <a:pt x="0" y="12"/>
                    </a:lnTo>
                    <a:lnTo>
                      <a:pt x="102" y="356"/>
                    </a:lnTo>
                    <a:lnTo>
                      <a:pt x="120" y="351"/>
                    </a:lnTo>
                    <a:lnTo>
                      <a:pt x="18" y="7"/>
                    </a:lnTo>
                    <a:lnTo>
                      <a:pt x="11" y="0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2242440" y="4148280"/>
                <a:ext cx="97920" cy="29880"/>
              </a:xfrm>
              <a:custGeom>
                <a:avLst/>
                <a:gdLst/>
                <a:ahLst/>
                <a:rect l="l" t="t" r="r" b="b"/>
                <a:pathLst>
                  <a:path w="264" h="81">
                    <a:moveTo>
                      <a:pt x="264" y="70"/>
                    </a:moveTo>
                    <a:lnTo>
                      <a:pt x="257" y="63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253" y="81"/>
                    </a:lnTo>
                    <a:lnTo>
                      <a:pt x="264" y="70"/>
                    </a:lnTo>
                    <a:lnTo>
                      <a:pt x="253" y="81"/>
                    </a:lnTo>
                    <a:lnTo>
                      <a:pt x="257" y="81"/>
                    </a:lnTo>
                    <a:lnTo>
                      <a:pt x="261" y="80"/>
                    </a:lnTo>
                    <a:lnTo>
                      <a:pt x="263" y="78"/>
                    </a:lnTo>
                    <a:lnTo>
                      <a:pt x="264" y="74"/>
                    </a:lnTo>
                    <a:lnTo>
                      <a:pt x="264" y="71"/>
                    </a:lnTo>
                    <a:lnTo>
                      <a:pt x="263" y="68"/>
                    </a:lnTo>
                    <a:lnTo>
                      <a:pt x="261" y="65"/>
                    </a:lnTo>
                    <a:lnTo>
                      <a:pt x="257" y="63"/>
                    </a:lnTo>
                    <a:lnTo>
                      <a:pt x="264" y="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2391840" y="4087800"/>
                <a:ext cx="226800" cy="300600"/>
              </a:xfrm>
              <a:custGeom>
                <a:avLst/>
                <a:gdLst/>
                <a:ahLst/>
                <a:rect l="l" t="t" r="r" b="b"/>
                <a:pathLst>
                  <a:path w="598" h="794">
                    <a:moveTo>
                      <a:pt x="5" y="58"/>
                    </a:moveTo>
                    <a:lnTo>
                      <a:pt x="0" y="794"/>
                    </a:lnTo>
                    <a:lnTo>
                      <a:pt x="551" y="730"/>
                    </a:lnTo>
                    <a:lnTo>
                      <a:pt x="598" y="573"/>
                    </a:lnTo>
                    <a:lnTo>
                      <a:pt x="207" y="525"/>
                    </a:lnTo>
                    <a:lnTo>
                      <a:pt x="261" y="0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2390040" y="4110480"/>
                <a:ext cx="7200" cy="281880"/>
              </a:xfrm>
              <a:custGeom>
                <a:avLst/>
                <a:gdLst/>
                <a:ahLst/>
                <a:rect l="l" t="t" r="r" b="b"/>
                <a:pathLst>
                  <a:path w="23" h="745">
                    <a:moveTo>
                      <a:pt x="10" y="745"/>
                    </a:moveTo>
                    <a:lnTo>
                      <a:pt x="18" y="73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736"/>
                    </a:lnTo>
                    <a:lnTo>
                      <a:pt x="10" y="745"/>
                    </a:lnTo>
                    <a:lnTo>
                      <a:pt x="0" y="736"/>
                    </a:lnTo>
                    <a:lnTo>
                      <a:pt x="0" y="740"/>
                    </a:lnTo>
                    <a:lnTo>
                      <a:pt x="2" y="743"/>
                    </a:lnTo>
                    <a:lnTo>
                      <a:pt x="6" y="745"/>
                    </a:lnTo>
                    <a:lnTo>
                      <a:pt x="8" y="745"/>
                    </a:lnTo>
                    <a:lnTo>
                      <a:pt x="12" y="745"/>
                    </a:lnTo>
                    <a:lnTo>
                      <a:pt x="16" y="743"/>
                    </a:lnTo>
                    <a:lnTo>
                      <a:pt x="17" y="740"/>
                    </a:lnTo>
                    <a:lnTo>
                      <a:pt x="18" y="736"/>
                    </a:lnTo>
                    <a:lnTo>
                      <a:pt x="10" y="7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2391840" y="4360320"/>
                <a:ext cx="211680" cy="32040"/>
              </a:xfrm>
              <a:custGeom>
                <a:avLst/>
                <a:gdLst/>
                <a:ahLst/>
                <a:rect l="l" t="t" r="r" b="b"/>
                <a:pathLst>
                  <a:path w="560" h="83">
                    <a:moveTo>
                      <a:pt x="560" y="12"/>
                    </a:moveTo>
                    <a:lnTo>
                      <a:pt x="550" y="0"/>
                    </a:lnTo>
                    <a:lnTo>
                      <a:pt x="0" y="65"/>
                    </a:lnTo>
                    <a:lnTo>
                      <a:pt x="2" y="83"/>
                    </a:lnTo>
                    <a:lnTo>
                      <a:pt x="553" y="18"/>
                    </a:lnTo>
                    <a:lnTo>
                      <a:pt x="560" y="12"/>
                    </a:lnTo>
                    <a:lnTo>
                      <a:pt x="553" y="18"/>
                    </a:lnTo>
                    <a:lnTo>
                      <a:pt x="556" y="17"/>
                    </a:lnTo>
                    <a:lnTo>
                      <a:pt x="559" y="14"/>
                    </a:lnTo>
                    <a:lnTo>
                      <a:pt x="560" y="12"/>
                    </a:lnTo>
                    <a:lnTo>
                      <a:pt x="560" y="8"/>
                    </a:lnTo>
                    <a:lnTo>
                      <a:pt x="559" y="5"/>
                    </a:lnTo>
                    <a:lnTo>
                      <a:pt x="558" y="2"/>
                    </a:lnTo>
                    <a:lnTo>
                      <a:pt x="554" y="0"/>
                    </a:lnTo>
                    <a:lnTo>
                      <a:pt x="550" y="0"/>
                    </a:lnTo>
                    <a:lnTo>
                      <a:pt x="56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598120" y="4301640"/>
                <a:ext cx="24120" cy="61920"/>
              </a:xfrm>
              <a:custGeom>
                <a:avLst/>
                <a:gdLst/>
                <a:ahLst/>
                <a:rect l="l" t="t" r="r" b="b"/>
                <a:pathLst>
                  <a:path w="64" h="167">
                    <a:moveTo>
                      <a:pt x="55" y="0"/>
                    </a:moveTo>
                    <a:lnTo>
                      <a:pt x="45" y="6"/>
                    </a:lnTo>
                    <a:lnTo>
                      <a:pt x="0" y="161"/>
                    </a:lnTo>
                    <a:lnTo>
                      <a:pt x="17" y="167"/>
                    </a:lnTo>
                    <a:lnTo>
                      <a:pt x="64" y="11"/>
                    </a:lnTo>
                    <a:lnTo>
                      <a:pt x="55" y="0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3" y="3"/>
                    </a:lnTo>
                    <a:lnTo>
                      <a:pt x="60" y="1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8" y="2"/>
                    </a:lnTo>
                    <a:lnTo>
                      <a:pt x="45" y="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2467440" y="4282920"/>
                <a:ext cx="151200" cy="26280"/>
              </a:xfrm>
              <a:custGeom>
                <a:avLst/>
                <a:gdLst/>
                <a:ahLst/>
                <a:rect l="l" t="t" r="r" b="b"/>
                <a:pathLst>
                  <a:path w="400" h="67">
                    <a:moveTo>
                      <a:pt x="0" y="8"/>
                    </a:moveTo>
                    <a:lnTo>
                      <a:pt x="8" y="18"/>
                    </a:lnTo>
                    <a:lnTo>
                      <a:pt x="399" y="67"/>
                    </a:lnTo>
                    <a:lnTo>
                      <a:pt x="400" y="49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467440" y="4084200"/>
                <a:ext cx="26280" cy="202320"/>
              </a:xfrm>
              <a:custGeom>
                <a:avLst/>
                <a:gdLst/>
                <a:ahLst/>
                <a:rect l="l" t="t" r="r" b="b"/>
                <a:pathLst>
                  <a:path w="72" h="535">
                    <a:moveTo>
                      <a:pt x="61" y="2"/>
                    </a:moveTo>
                    <a:lnTo>
                      <a:pt x="53" y="9"/>
                    </a:lnTo>
                    <a:lnTo>
                      <a:pt x="0" y="534"/>
                    </a:lnTo>
                    <a:lnTo>
                      <a:pt x="19" y="535"/>
                    </a:lnTo>
                    <a:lnTo>
                      <a:pt x="72" y="11"/>
                    </a:lnTo>
                    <a:lnTo>
                      <a:pt x="61" y="2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1" y="2"/>
                    </a:lnTo>
                    <a:lnTo>
                      <a:pt x="57" y="3"/>
                    </a:lnTo>
                    <a:lnTo>
                      <a:pt x="55" y="5"/>
                    </a:lnTo>
                    <a:lnTo>
                      <a:pt x="53" y="9"/>
                    </a:lnTo>
                    <a:lnTo>
                      <a:pt x="61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2391840" y="4084200"/>
                <a:ext cx="100080" cy="29880"/>
              </a:xfrm>
              <a:custGeom>
                <a:avLst/>
                <a:gdLst/>
                <a:ahLst/>
                <a:rect l="l" t="t" r="r" b="b"/>
                <a:pathLst>
                  <a:path w="265" h="76">
                    <a:moveTo>
                      <a:pt x="0" y="66"/>
                    </a:moveTo>
                    <a:lnTo>
                      <a:pt x="11" y="75"/>
                    </a:lnTo>
                    <a:lnTo>
                      <a:pt x="265" y="17"/>
                    </a:lnTo>
                    <a:lnTo>
                      <a:pt x="262" y="0"/>
                    </a:lnTo>
                    <a:lnTo>
                      <a:pt x="7" y="57"/>
                    </a:lnTo>
                    <a:lnTo>
                      <a:pt x="0" y="66"/>
                    </a:lnTo>
                    <a:lnTo>
                      <a:pt x="7" y="57"/>
                    </a:lnTo>
                    <a:lnTo>
                      <a:pt x="2" y="59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1" y="71"/>
                    </a:lnTo>
                    <a:lnTo>
                      <a:pt x="3" y="73"/>
                    </a:lnTo>
                    <a:lnTo>
                      <a:pt x="6" y="76"/>
                    </a:lnTo>
                    <a:lnTo>
                      <a:pt x="11" y="7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1989000" y="3396600"/>
                <a:ext cx="667440" cy="899280"/>
              </a:xfrm>
              <a:custGeom>
                <a:avLst/>
                <a:gdLst/>
                <a:ahLst/>
                <a:rect l="l" t="t" r="r" b="b"/>
                <a:pathLst>
                  <a:path w="1765" h="2376">
                    <a:moveTo>
                      <a:pt x="479" y="75"/>
                    </a:moveTo>
                    <a:lnTo>
                      <a:pt x="451" y="107"/>
                    </a:lnTo>
                    <a:lnTo>
                      <a:pt x="422" y="138"/>
                    </a:lnTo>
                    <a:lnTo>
                      <a:pt x="392" y="170"/>
                    </a:lnTo>
                    <a:lnTo>
                      <a:pt x="361" y="200"/>
                    </a:lnTo>
                    <a:lnTo>
                      <a:pt x="300" y="263"/>
                    </a:lnTo>
                    <a:lnTo>
                      <a:pt x="239" y="326"/>
                    </a:lnTo>
                    <a:lnTo>
                      <a:pt x="210" y="357"/>
                    </a:lnTo>
                    <a:lnTo>
                      <a:pt x="182" y="389"/>
                    </a:lnTo>
                    <a:lnTo>
                      <a:pt x="155" y="421"/>
                    </a:lnTo>
                    <a:lnTo>
                      <a:pt x="129" y="452"/>
                    </a:lnTo>
                    <a:lnTo>
                      <a:pt x="104" y="484"/>
                    </a:lnTo>
                    <a:lnTo>
                      <a:pt x="82" y="518"/>
                    </a:lnTo>
                    <a:lnTo>
                      <a:pt x="62" y="551"/>
                    </a:lnTo>
                    <a:lnTo>
                      <a:pt x="45" y="585"/>
                    </a:lnTo>
                    <a:lnTo>
                      <a:pt x="29" y="621"/>
                    </a:lnTo>
                    <a:lnTo>
                      <a:pt x="17" y="655"/>
                    </a:lnTo>
                    <a:lnTo>
                      <a:pt x="8" y="692"/>
                    </a:lnTo>
                    <a:lnTo>
                      <a:pt x="2" y="729"/>
                    </a:lnTo>
                    <a:lnTo>
                      <a:pt x="0" y="767"/>
                    </a:lnTo>
                    <a:lnTo>
                      <a:pt x="2" y="806"/>
                    </a:lnTo>
                    <a:lnTo>
                      <a:pt x="7" y="846"/>
                    </a:lnTo>
                    <a:lnTo>
                      <a:pt x="18" y="887"/>
                    </a:lnTo>
                    <a:lnTo>
                      <a:pt x="32" y="929"/>
                    </a:lnTo>
                    <a:lnTo>
                      <a:pt x="51" y="972"/>
                    </a:lnTo>
                    <a:lnTo>
                      <a:pt x="76" y="1016"/>
                    </a:lnTo>
                    <a:lnTo>
                      <a:pt x="105" y="1061"/>
                    </a:lnTo>
                    <a:lnTo>
                      <a:pt x="141" y="1109"/>
                    </a:lnTo>
                    <a:lnTo>
                      <a:pt x="182" y="1157"/>
                    </a:lnTo>
                    <a:lnTo>
                      <a:pt x="228" y="1208"/>
                    </a:lnTo>
                    <a:lnTo>
                      <a:pt x="283" y="1258"/>
                    </a:lnTo>
                    <a:lnTo>
                      <a:pt x="301" y="1284"/>
                    </a:lnTo>
                    <a:lnTo>
                      <a:pt x="318" y="1311"/>
                    </a:lnTo>
                    <a:lnTo>
                      <a:pt x="334" y="1337"/>
                    </a:lnTo>
                    <a:lnTo>
                      <a:pt x="350" y="1364"/>
                    </a:lnTo>
                    <a:lnTo>
                      <a:pt x="364" y="1392"/>
                    </a:lnTo>
                    <a:lnTo>
                      <a:pt x="377" y="1421"/>
                    </a:lnTo>
                    <a:lnTo>
                      <a:pt x="390" y="1449"/>
                    </a:lnTo>
                    <a:lnTo>
                      <a:pt x="401" y="1477"/>
                    </a:lnTo>
                    <a:lnTo>
                      <a:pt x="410" y="1507"/>
                    </a:lnTo>
                    <a:lnTo>
                      <a:pt x="420" y="1536"/>
                    </a:lnTo>
                    <a:lnTo>
                      <a:pt x="429" y="1567"/>
                    </a:lnTo>
                    <a:lnTo>
                      <a:pt x="436" y="1598"/>
                    </a:lnTo>
                    <a:lnTo>
                      <a:pt x="442" y="1628"/>
                    </a:lnTo>
                    <a:lnTo>
                      <a:pt x="449" y="1660"/>
                    </a:lnTo>
                    <a:lnTo>
                      <a:pt x="453" y="1691"/>
                    </a:lnTo>
                    <a:lnTo>
                      <a:pt x="457" y="1724"/>
                    </a:lnTo>
                    <a:lnTo>
                      <a:pt x="460" y="1756"/>
                    </a:lnTo>
                    <a:lnTo>
                      <a:pt x="462" y="1790"/>
                    </a:lnTo>
                    <a:lnTo>
                      <a:pt x="463" y="1823"/>
                    </a:lnTo>
                    <a:lnTo>
                      <a:pt x="465" y="1856"/>
                    </a:lnTo>
                    <a:lnTo>
                      <a:pt x="465" y="1890"/>
                    </a:lnTo>
                    <a:lnTo>
                      <a:pt x="465" y="1925"/>
                    </a:lnTo>
                    <a:lnTo>
                      <a:pt x="462" y="1959"/>
                    </a:lnTo>
                    <a:lnTo>
                      <a:pt x="461" y="1994"/>
                    </a:lnTo>
                    <a:lnTo>
                      <a:pt x="455" y="2065"/>
                    </a:lnTo>
                    <a:lnTo>
                      <a:pt x="446" y="2138"/>
                    </a:lnTo>
                    <a:lnTo>
                      <a:pt x="435" y="2210"/>
                    </a:lnTo>
                    <a:lnTo>
                      <a:pt x="422" y="2285"/>
                    </a:lnTo>
                    <a:lnTo>
                      <a:pt x="489" y="2301"/>
                    </a:lnTo>
                    <a:lnTo>
                      <a:pt x="557" y="2317"/>
                    </a:lnTo>
                    <a:lnTo>
                      <a:pt x="626" y="2332"/>
                    </a:lnTo>
                    <a:lnTo>
                      <a:pt x="695" y="2345"/>
                    </a:lnTo>
                    <a:lnTo>
                      <a:pt x="763" y="2357"/>
                    </a:lnTo>
                    <a:lnTo>
                      <a:pt x="834" y="2365"/>
                    </a:lnTo>
                    <a:lnTo>
                      <a:pt x="869" y="2369"/>
                    </a:lnTo>
                    <a:lnTo>
                      <a:pt x="905" y="2371"/>
                    </a:lnTo>
                    <a:lnTo>
                      <a:pt x="941" y="2374"/>
                    </a:lnTo>
                    <a:lnTo>
                      <a:pt x="976" y="2375"/>
                    </a:lnTo>
                    <a:lnTo>
                      <a:pt x="1012" y="2376"/>
                    </a:lnTo>
                    <a:lnTo>
                      <a:pt x="1048" y="2376"/>
                    </a:lnTo>
                    <a:lnTo>
                      <a:pt x="1084" y="2375"/>
                    </a:lnTo>
                    <a:lnTo>
                      <a:pt x="1121" y="2374"/>
                    </a:lnTo>
                    <a:lnTo>
                      <a:pt x="1158" y="2371"/>
                    </a:lnTo>
                    <a:lnTo>
                      <a:pt x="1195" y="2368"/>
                    </a:lnTo>
                    <a:lnTo>
                      <a:pt x="1232" y="2363"/>
                    </a:lnTo>
                    <a:lnTo>
                      <a:pt x="1270" y="2358"/>
                    </a:lnTo>
                    <a:lnTo>
                      <a:pt x="1308" y="2352"/>
                    </a:lnTo>
                    <a:lnTo>
                      <a:pt x="1346" y="2344"/>
                    </a:lnTo>
                    <a:lnTo>
                      <a:pt x="1386" y="2336"/>
                    </a:lnTo>
                    <a:lnTo>
                      <a:pt x="1425" y="2326"/>
                    </a:lnTo>
                    <a:lnTo>
                      <a:pt x="1464" y="2315"/>
                    </a:lnTo>
                    <a:lnTo>
                      <a:pt x="1504" y="2304"/>
                    </a:lnTo>
                    <a:lnTo>
                      <a:pt x="1543" y="2290"/>
                    </a:lnTo>
                    <a:lnTo>
                      <a:pt x="1584" y="2275"/>
                    </a:lnTo>
                    <a:lnTo>
                      <a:pt x="1600" y="2216"/>
                    </a:lnTo>
                    <a:lnTo>
                      <a:pt x="1616" y="2156"/>
                    </a:lnTo>
                    <a:lnTo>
                      <a:pt x="1629" y="2097"/>
                    </a:lnTo>
                    <a:lnTo>
                      <a:pt x="1642" y="2037"/>
                    </a:lnTo>
                    <a:lnTo>
                      <a:pt x="1654" y="1976"/>
                    </a:lnTo>
                    <a:lnTo>
                      <a:pt x="1665" y="1916"/>
                    </a:lnTo>
                    <a:lnTo>
                      <a:pt x="1675" y="1856"/>
                    </a:lnTo>
                    <a:lnTo>
                      <a:pt x="1685" y="1796"/>
                    </a:lnTo>
                    <a:lnTo>
                      <a:pt x="1693" y="1735"/>
                    </a:lnTo>
                    <a:lnTo>
                      <a:pt x="1701" y="1674"/>
                    </a:lnTo>
                    <a:lnTo>
                      <a:pt x="1707" y="1614"/>
                    </a:lnTo>
                    <a:lnTo>
                      <a:pt x="1713" y="1553"/>
                    </a:lnTo>
                    <a:lnTo>
                      <a:pt x="1719" y="1493"/>
                    </a:lnTo>
                    <a:lnTo>
                      <a:pt x="1723" y="1433"/>
                    </a:lnTo>
                    <a:lnTo>
                      <a:pt x="1728" y="1373"/>
                    </a:lnTo>
                    <a:lnTo>
                      <a:pt x="1730" y="1312"/>
                    </a:lnTo>
                    <a:lnTo>
                      <a:pt x="1694" y="1274"/>
                    </a:lnTo>
                    <a:lnTo>
                      <a:pt x="1658" y="1237"/>
                    </a:lnTo>
                    <a:lnTo>
                      <a:pt x="1619" y="1199"/>
                    </a:lnTo>
                    <a:lnTo>
                      <a:pt x="1583" y="1161"/>
                    </a:lnTo>
                    <a:lnTo>
                      <a:pt x="1544" y="1124"/>
                    </a:lnTo>
                    <a:lnTo>
                      <a:pt x="1508" y="1086"/>
                    </a:lnTo>
                    <a:lnTo>
                      <a:pt x="1469" y="1049"/>
                    </a:lnTo>
                    <a:lnTo>
                      <a:pt x="1431" y="1012"/>
                    </a:lnTo>
                    <a:lnTo>
                      <a:pt x="1473" y="1012"/>
                    </a:lnTo>
                    <a:lnTo>
                      <a:pt x="1514" y="1013"/>
                    </a:lnTo>
                    <a:lnTo>
                      <a:pt x="1555" y="1013"/>
                    </a:lnTo>
                    <a:lnTo>
                      <a:pt x="1597" y="1015"/>
                    </a:lnTo>
                    <a:lnTo>
                      <a:pt x="1638" y="1016"/>
                    </a:lnTo>
                    <a:lnTo>
                      <a:pt x="1678" y="1016"/>
                    </a:lnTo>
                    <a:lnTo>
                      <a:pt x="1720" y="1018"/>
                    </a:lnTo>
                    <a:lnTo>
                      <a:pt x="1761" y="1020"/>
                    </a:lnTo>
                    <a:lnTo>
                      <a:pt x="1763" y="983"/>
                    </a:lnTo>
                    <a:lnTo>
                      <a:pt x="1765" y="947"/>
                    </a:lnTo>
                    <a:lnTo>
                      <a:pt x="1765" y="911"/>
                    </a:lnTo>
                    <a:lnTo>
                      <a:pt x="1762" y="876"/>
                    </a:lnTo>
                    <a:lnTo>
                      <a:pt x="1760" y="841"/>
                    </a:lnTo>
                    <a:lnTo>
                      <a:pt x="1756" y="806"/>
                    </a:lnTo>
                    <a:lnTo>
                      <a:pt x="1750" y="771"/>
                    </a:lnTo>
                    <a:lnTo>
                      <a:pt x="1744" y="737"/>
                    </a:lnTo>
                    <a:lnTo>
                      <a:pt x="1736" y="703"/>
                    </a:lnTo>
                    <a:lnTo>
                      <a:pt x="1726" y="670"/>
                    </a:lnTo>
                    <a:lnTo>
                      <a:pt x="1715" y="637"/>
                    </a:lnTo>
                    <a:lnTo>
                      <a:pt x="1704" y="604"/>
                    </a:lnTo>
                    <a:lnTo>
                      <a:pt x="1691" y="571"/>
                    </a:lnTo>
                    <a:lnTo>
                      <a:pt x="1676" y="539"/>
                    </a:lnTo>
                    <a:lnTo>
                      <a:pt x="1661" y="507"/>
                    </a:lnTo>
                    <a:lnTo>
                      <a:pt x="1644" y="475"/>
                    </a:lnTo>
                    <a:lnTo>
                      <a:pt x="1626" y="443"/>
                    </a:lnTo>
                    <a:lnTo>
                      <a:pt x="1606" y="412"/>
                    </a:lnTo>
                    <a:lnTo>
                      <a:pt x="1585" y="380"/>
                    </a:lnTo>
                    <a:lnTo>
                      <a:pt x="1563" y="349"/>
                    </a:lnTo>
                    <a:lnTo>
                      <a:pt x="1540" y="318"/>
                    </a:lnTo>
                    <a:lnTo>
                      <a:pt x="1514" y="289"/>
                    </a:lnTo>
                    <a:lnTo>
                      <a:pt x="1488" y="259"/>
                    </a:lnTo>
                    <a:lnTo>
                      <a:pt x="1461" y="229"/>
                    </a:lnTo>
                    <a:lnTo>
                      <a:pt x="1433" y="199"/>
                    </a:lnTo>
                    <a:lnTo>
                      <a:pt x="1402" y="171"/>
                    </a:lnTo>
                    <a:lnTo>
                      <a:pt x="1371" y="141"/>
                    </a:lnTo>
                    <a:lnTo>
                      <a:pt x="1338" y="113"/>
                    </a:lnTo>
                    <a:lnTo>
                      <a:pt x="1305" y="85"/>
                    </a:lnTo>
                    <a:lnTo>
                      <a:pt x="1269" y="56"/>
                    </a:lnTo>
                    <a:lnTo>
                      <a:pt x="1232" y="28"/>
                    </a:lnTo>
                    <a:lnTo>
                      <a:pt x="1194" y="0"/>
                    </a:lnTo>
                    <a:lnTo>
                      <a:pt x="1104" y="10"/>
                    </a:lnTo>
                    <a:lnTo>
                      <a:pt x="1016" y="20"/>
                    </a:lnTo>
                    <a:lnTo>
                      <a:pt x="926" y="29"/>
                    </a:lnTo>
                    <a:lnTo>
                      <a:pt x="837" y="39"/>
                    </a:lnTo>
                    <a:lnTo>
                      <a:pt x="747" y="49"/>
                    </a:lnTo>
                    <a:lnTo>
                      <a:pt x="658" y="58"/>
                    </a:lnTo>
                    <a:lnTo>
                      <a:pt x="569" y="66"/>
                    </a:lnTo>
                    <a:lnTo>
                      <a:pt x="479" y="7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1985040" y="3423240"/>
                <a:ext cx="186840" cy="453960"/>
              </a:xfrm>
              <a:custGeom>
                <a:avLst/>
                <a:gdLst/>
                <a:ahLst/>
                <a:rect l="l" t="t" r="r" b="b"/>
                <a:pathLst>
                  <a:path w="496" h="1199">
                    <a:moveTo>
                      <a:pt x="299" y="1184"/>
                    </a:moveTo>
                    <a:lnTo>
                      <a:pt x="298" y="1183"/>
                    </a:lnTo>
                    <a:lnTo>
                      <a:pt x="269" y="1157"/>
                    </a:lnTo>
                    <a:lnTo>
                      <a:pt x="245" y="1131"/>
                    </a:lnTo>
                    <a:lnTo>
                      <a:pt x="220" y="1107"/>
                    </a:lnTo>
                    <a:lnTo>
                      <a:pt x="198" y="1082"/>
                    </a:lnTo>
                    <a:lnTo>
                      <a:pt x="177" y="1058"/>
                    </a:lnTo>
                    <a:lnTo>
                      <a:pt x="157" y="1034"/>
                    </a:lnTo>
                    <a:lnTo>
                      <a:pt x="139" y="1011"/>
                    </a:lnTo>
                    <a:lnTo>
                      <a:pt x="122" y="987"/>
                    </a:lnTo>
                    <a:lnTo>
                      <a:pt x="107" y="965"/>
                    </a:lnTo>
                    <a:lnTo>
                      <a:pt x="94" y="942"/>
                    </a:lnTo>
                    <a:lnTo>
                      <a:pt x="80" y="920"/>
                    </a:lnTo>
                    <a:lnTo>
                      <a:pt x="69" y="899"/>
                    </a:lnTo>
                    <a:lnTo>
                      <a:pt x="59" y="877"/>
                    </a:lnTo>
                    <a:lnTo>
                      <a:pt x="49" y="856"/>
                    </a:lnTo>
                    <a:lnTo>
                      <a:pt x="42" y="835"/>
                    </a:lnTo>
                    <a:lnTo>
                      <a:pt x="36" y="815"/>
                    </a:lnTo>
                    <a:lnTo>
                      <a:pt x="30" y="794"/>
                    </a:lnTo>
                    <a:lnTo>
                      <a:pt x="26" y="775"/>
                    </a:lnTo>
                    <a:lnTo>
                      <a:pt x="22" y="755"/>
                    </a:lnTo>
                    <a:lnTo>
                      <a:pt x="20" y="737"/>
                    </a:lnTo>
                    <a:lnTo>
                      <a:pt x="18" y="717"/>
                    </a:lnTo>
                    <a:lnTo>
                      <a:pt x="18" y="698"/>
                    </a:lnTo>
                    <a:lnTo>
                      <a:pt x="18" y="680"/>
                    </a:lnTo>
                    <a:lnTo>
                      <a:pt x="21" y="661"/>
                    </a:lnTo>
                    <a:lnTo>
                      <a:pt x="23" y="643"/>
                    </a:lnTo>
                    <a:lnTo>
                      <a:pt x="26" y="625"/>
                    </a:lnTo>
                    <a:lnTo>
                      <a:pt x="31" y="607"/>
                    </a:lnTo>
                    <a:lnTo>
                      <a:pt x="36" y="590"/>
                    </a:lnTo>
                    <a:lnTo>
                      <a:pt x="41" y="572"/>
                    </a:lnTo>
                    <a:lnTo>
                      <a:pt x="47" y="554"/>
                    </a:lnTo>
                    <a:lnTo>
                      <a:pt x="54" y="537"/>
                    </a:lnTo>
                    <a:lnTo>
                      <a:pt x="62" y="521"/>
                    </a:lnTo>
                    <a:lnTo>
                      <a:pt x="79" y="487"/>
                    </a:lnTo>
                    <a:lnTo>
                      <a:pt x="100" y="454"/>
                    </a:lnTo>
                    <a:lnTo>
                      <a:pt x="121" y="422"/>
                    </a:lnTo>
                    <a:lnTo>
                      <a:pt x="145" y="388"/>
                    </a:lnTo>
                    <a:lnTo>
                      <a:pt x="171" y="356"/>
                    </a:lnTo>
                    <a:lnTo>
                      <a:pt x="198" y="326"/>
                    </a:lnTo>
                    <a:lnTo>
                      <a:pt x="226" y="294"/>
                    </a:lnTo>
                    <a:lnTo>
                      <a:pt x="255" y="263"/>
                    </a:lnTo>
                    <a:lnTo>
                      <a:pt x="316" y="200"/>
                    </a:lnTo>
                    <a:lnTo>
                      <a:pt x="378" y="137"/>
                    </a:lnTo>
                    <a:lnTo>
                      <a:pt x="407" y="107"/>
                    </a:lnTo>
                    <a:lnTo>
                      <a:pt x="438" y="75"/>
                    </a:lnTo>
                    <a:lnTo>
                      <a:pt x="467" y="44"/>
                    </a:lnTo>
                    <a:lnTo>
                      <a:pt x="496" y="12"/>
                    </a:lnTo>
                    <a:lnTo>
                      <a:pt x="481" y="0"/>
                    </a:lnTo>
                    <a:lnTo>
                      <a:pt x="453" y="32"/>
                    </a:lnTo>
                    <a:lnTo>
                      <a:pt x="424" y="62"/>
                    </a:lnTo>
                    <a:lnTo>
                      <a:pt x="394" y="94"/>
                    </a:lnTo>
                    <a:lnTo>
                      <a:pt x="364" y="125"/>
                    </a:lnTo>
                    <a:lnTo>
                      <a:pt x="303" y="188"/>
                    </a:lnTo>
                    <a:lnTo>
                      <a:pt x="242" y="249"/>
                    </a:lnTo>
                    <a:lnTo>
                      <a:pt x="213" y="281"/>
                    </a:lnTo>
                    <a:lnTo>
                      <a:pt x="183" y="313"/>
                    </a:lnTo>
                    <a:lnTo>
                      <a:pt x="156" y="345"/>
                    </a:lnTo>
                    <a:lnTo>
                      <a:pt x="130" y="377"/>
                    </a:lnTo>
                    <a:lnTo>
                      <a:pt x="106" y="411"/>
                    </a:lnTo>
                    <a:lnTo>
                      <a:pt x="84" y="444"/>
                    </a:lnTo>
                    <a:lnTo>
                      <a:pt x="63" y="478"/>
                    </a:lnTo>
                    <a:lnTo>
                      <a:pt x="46" y="513"/>
                    </a:lnTo>
                    <a:lnTo>
                      <a:pt x="37" y="530"/>
                    </a:lnTo>
                    <a:lnTo>
                      <a:pt x="30" y="548"/>
                    </a:lnTo>
                    <a:lnTo>
                      <a:pt x="23" y="566"/>
                    </a:lnTo>
                    <a:lnTo>
                      <a:pt x="17" y="584"/>
                    </a:lnTo>
                    <a:lnTo>
                      <a:pt x="12" y="602"/>
                    </a:lnTo>
                    <a:lnTo>
                      <a:pt x="9" y="621"/>
                    </a:lnTo>
                    <a:lnTo>
                      <a:pt x="5" y="641"/>
                    </a:lnTo>
                    <a:lnTo>
                      <a:pt x="3" y="659"/>
                    </a:lnTo>
                    <a:lnTo>
                      <a:pt x="0" y="679"/>
                    </a:lnTo>
                    <a:lnTo>
                      <a:pt x="0" y="698"/>
                    </a:lnTo>
                    <a:lnTo>
                      <a:pt x="0" y="718"/>
                    </a:lnTo>
                    <a:lnTo>
                      <a:pt x="1" y="738"/>
                    </a:lnTo>
                    <a:lnTo>
                      <a:pt x="4" y="757"/>
                    </a:lnTo>
                    <a:lnTo>
                      <a:pt x="7" y="778"/>
                    </a:lnTo>
                    <a:lnTo>
                      <a:pt x="12" y="799"/>
                    </a:lnTo>
                    <a:lnTo>
                      <a:pt x="17" y="820"/>
                    </a:lnTo>
                    <a:lnTo>
                      <a:pt x="25" y="841"/>
                    </a:lnTo>
                    <a:lnTo>
                      <a:pt x="32" y="863"/>
                    </a:lnTo>
                    <a:lnTo>
                      <a:pt x="42" y="885"/>
                    </a:lnTo>
                    <a:lnTo>
                      <a:pt x="52" y="906"/>
                    </a:lnTo>
                    <a:lnTo>
                      <a:pt x="64" y="930"/>
                    </a:lnTo>
                    <a:lnTo>
                      <a:pt x="78" y="952"/>
                    </a:lnTo>
                    <a:lnTo>
                      <a:pt x="91" y="975"/>
                    </a:lnTo>
                    <a:lnTo>
                      <a:pt x="107" y="998"/>
                    </a:lnTo>
                    <a:lnTo>
                      <a:pt x="124" y="1022"/>
                    </a:lnTo>
                    <a:lnTo>
                      <a:pt x="143" y="1045"/>
                    </a:lnTo>
                    <a:lnTo>
                      <a:pt x="162" y="1070"/>
                    </a:lnTo>
                    <a:lnTo>
                      <a:pt x="185" y="1094"/>
                    </a:lnTo>
                    <a:lnTo>
                      <a:pt x="207" y="1119"/>
                    </a:lnTo>
                    <a:lnTo>
                      <a:pt x="231" y="1145"/>
                    </a:lnTo>
                    <a:lnTo>
                      <a:pt x="257" y="1171"/>
                    </a:lnTo>
                    <a:lnTo>
                      <a:pt x="284" y="1197"/>
                    </a:lnTo>
                    <a:lnTo>
                      <a:pt x="283" y="1195"/>
                    </a:lnTo>
                    <a:lnTo>
                      <a:pt x="284" y="1197"/>
                    </a:lnTo>
                    <a:lnTo>
                      <a:pt x="288" y="1199"/>
                    </a:lnTo>
                    <a:lnTo>
                      <a:pt x="292" y="1199"/>
                    </a:lnTo>
                    <a:lnTo>
                      <a:pt x="295" y="1198"/>
                    </a:lnTo>
                    <a:lnTo>
                      <a:pt x="298" y="1197"/>
                    </a:lnTo>
                    <a:lnTo>
                      <a:pt x="300" y="1193"/>
                    </a:lnTo>
                    <a:lnTo>
                      <a:pt x="300" y="1189"/>
                    </a:lnTo>
                    <a:lnTo>
                      <a:pt x="300" y="1187"/>
                    </a:lnTo>
                    <a:lnTo>
                      <a:pt x="298" y="1183"/>
                    </a:lnTo>
                    <a:lnTo>
                      <a:pt x="299" y="11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091240" y="3871800"/>
                <a:ext cx="75240" cy="393480"/>
              </a:xfrm>
              <a:custGeom>
                <a:avLst/>
                <a:gdLst/>
                <a:ahLst/>
                <a:rect l="l" t="t" r="r" b="b"/>
                <a:pathLst>
                  <a:path w="200" h="1041">
                    <a:moveTo>
                      <a:pt x="150" y="1022"/>
                    </a:moveTo>
                    <a:lnTo>
                      <a:pt x="156" y="1033"/>
                    </a:lnTo>
                    <a:lnTo>
                      <a:pt x="170" y="958"/>
                    </a:lnTo>
                    <a:lnTo>
                      <a:pt x="181" y="886"/>
                    </a:lnTo>
                    <a:lnTo>
                      <a:pt x="189" y="813"/>
                    </a:lnTo>
                    <a:lnTo>
                      <a:pt x="195" y="742"/>
                    </a:lnTo>
                    <a:lnTo>
                      <a:pt x="198" y="706"/>
                    </a:lnTo>
                    <a:lnTo>
                      <a:pt x="199" y="672"/>
                    </a:lnTo>
                    <a:lnTo>
                      <a:pt x="200" y="637"/>
                    </a:lnTo>
                    <a:lnTo>
                      <a:pt x="200" y="603"/>
                    </a:lnTo>
                    <a:lnTo>
                      <a:pt x="199" y="570"/>
                    </a:lnTo>
                    <a:lnTo>
                      <a:pt x="198" y="535"/>
                    </a:lnTo>
                    <a:lnTo>
                      <a:pt x="195" y="502"/>
                    </a:lnTo>
                    <a:lnTo>
                      <a:pt x="192" y="470"/>
                    </a:lnTo>
                    <a:lnTo>
                      <a:pt x="188" y="437"/>
                    </a:lnTo>
                    <a:lnTo>
                      <a:pt x="183" y="405"/>
                    </a:lnTo>
                    <a:lnTo>
                      <a:pt x="177" y="374"/>
                    </a:lnTo>
                    <a:lnTo>
                      <a:pt x="171" y="342"/>
                    </a:lnTo>
                    <a:lnTo>
                      <a:pt x="164" y="311"/>
                    </a:lnTo>
                    <a:lnTo>
                      <a:pt x="155" y="281"/>
                    </a:lnTo>
                    <a:lnTo>
                      <a:pt x="146" y="251"/>
                    </a:lnTo>
                    <a:lnTo>
                      <a:pt x="135" y="222"/>
                    </a:lnTo>
                    <a:lnTo>
                      <a:pt x="124" y="192"/>
                    </a:lnTo>
                    <a:lnTo>
                      <a:pt x="112" y="163"/>
                    </a:lnTo>
                    <a:lnTo>
                      <a:pt x="98" y="134"/>
                    </a:lnTo>
                    <a:lnTo>
                      <a:pt x="84" y="107"/>
                    </a:lnTo>
                    <a:lnTo>
                      <a:pt x="69" y="79"/>
                    </a:lnTo>
                    <a:lnTo>
                      <a:pt x="52" y="53"/>
                    </a:lnTo>
                    <a:lnTo>
                      <a:pt x="34" y="26"/>
                    </a:lnTo>
                    <a:lnTo>
                      <a:pt x="16" y="0"/>
                    </a:lnTo>
                    <a:lnTo>
                      <a:pt x="0" y="11"/>
                    </a:lnTo>
                    <a:lnTo>
                      <a:pt x="18" y="37"/>
                    </a:lnTo>
                    <a:lnTo>
                      <a:pt x="36" y="63"/>
                    </a:lnTo>
                    <a:lnTo>
                      <a:pt x="53" y="89"/>
                    </a:lnTo>
                    <a:lnTo>
                      <a:pt x="68" y="116"/>
                    </a:lnTo>
                    <a:lnTo>
                      <a:pt x="81" y="143"/>
                    </a:lnTo>
                    <a:lnTo>
                      <a:pt x="95" y="171"/>
                    </a:lnTo>
                    <a:lnTo>
                      <a:pt x="107" y="199"/>
                    </a:lnTo>
                    <a:lnTo>
                      <a:pt x="118" y="228"/>
                    </a:lnTo>
                    <a:lnTo>
                      <a:pt x="128" y="257"/>
                    </a:lnTo>
                    <a:lnTo>
                      <a:pt x="138" y="286"/>
                    </a:lnTo>
                    <a:lnTo>
                      <a:pt x="145" y="316"/>
                    </a:lnTo>
                    <a:lnTo>
                      <a:pt x="152" y="346"/>
                    </a:lnTo>
                    <a:lnTo>
                      <a:pt x="160" y="377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3" y="471"/>
                    </a:lnTo>
                    <a:lnTo>
                      <a:pt x="177" y="505"/>
                    </a:lnTo>
                    <a:lnTo>
                      <a:pt x="179" y="537"/>
                    </a:lnTo>
                    <a:lnTo>
                      <a:pt x="181" y="570"/>
                    </a:lnTo>
                    <a:lnTo>
                      <a:pt x="182" y="603"/>
                    </a:lnTo>
                    <a:lnTo>
                      <a:pt x="182" y="637"/>
                    </a:lnTo>
                    <a:lnTo>
                      <a:pt x="181" y="672"/>
                    </a:lnTo>
                    <a:lnTo>
                      <a:pt x="179" y="706"/>
                    </a:lnTo>
                    <a:lnTo>
                      <a:pt x="177" y="741"/>
                    </a:lnTo>
                    <a:lnTo>
                      <a:pt x="171" y="811"/>
                    </a:lnTo>
                    <a:lnTo>
                      <a:pt x="162" y="883"/>
                    </a:lnTo>
                    <a:lnTo>
                      <a:pt x="151" y="956"/>
                    </a:lnTo>
                    <a:lnTo>
                      <a:pt x="138" y="1030"/>
                    </a:lnTo>
                    <a:lnTo>
                      <a:pt x="145" y="1041"/>
                    </a:lnTo>
                    <a:lnTo>
                      <a:pt x="138" y="1030"/>
                    </a:lnTo>
                    <a:lnTo>
                      <a:pt x="138" y="1035"/>
                    </a:lnTo>
                    <a:lnTo>
                      <a:pt x="140" y="1037"/>
                    </a:lnTo>
                    <a:lnTo>
                      <a:pt x="143" y="1040"/>
                    </a:lnTo>
                    <a:lnTo>
                      <a:pt x="145" y="1041"/>
                    </a:lnTo>
                    <a:lnTo>
                      <a:pt x="149" y="1041"/>
                    </a:lnTo>
                    <a:lnTo>
                      <a:pt x="152" y="1040"/>
                    </a:lnTo>
                    <a:lnTo>
                      <a:pt x="155" y="1037"/>
                    </a:lnTo>
                    <a:lnTo>
                      <a:pt x="156" y="1033"/>
                    </a:lnTo>
                    <a:lnTo>
                      <a:pt x="150" y="10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45960" y="4254480"/>
                <a:ext cx="444240" cy="45360"/>
              </a:xfrm>
              <a:custGeom>
                <a:avLst/>
                <a:gdLst/>
                <a:ahLst/>
                <a:rect l="l" t="t" r="r" b="b"/>
                <a:pathLst>
                  <a:path w="1175" h="118">
                    <a:moveTo>
                      <a:pt x="1156" y="6"/>
                    </a:moveTo>
                    <a:lnTo>
                      <a:pt x="1162" y="0"/>
                    </a:lnTo>
                    <a:lnTo>
                      <a:pt x="1122" y="15"/>
                    </a:lnTo>
                    <a:lnTo>
                      <a:pt x="1082" y="27"/>
                    </a:lnTo>
                    <a:lnTo>
                      <a:pt x="1042" y="39"/>
                    </a:lnTo>
                    <a:lnTo>
                      <a:pt x="1004" y="50"/>
                    </a:lnTo>
                    <a:lnTo>
                      <a:pt x="964" y="59"/>
                    </a:lnTo>
                    <a:lnTo>
                      <a:pt x="926" y="67"/>
                    </a:lnTo>
                    <a:lnTo>
                      <a:pt x="888" y="75"/>
                    </a:lnTo>
                    <a:lnTo>
                      <a:pt x="850" y="81"/>
                    </a:lnTo>
                    <a:lnTo>
                      <a:pt x="813" y="87"/>
                    </a:lnTo>
                    <a:lnTo>
                      <a:pt x="775" y="91"/>
                    </a:lnTo>
                    <a:lnTo>
                      <a:pt x="738" y="94"/>
                    </a:lnTo>
                    <a:lnTo>
                      <a:pt x="701" y="97"/>
                    </a:lnTo>
                    <a:lnTo>
                      <a:pt x="665" y="98"/>
                    </a:lnTo>
                    <a:lnTo>
                      <a:pt x="629" y="99"/>
                    </a:lnTo>
                    <a:lnTo>
                      <a:pt x="593" y="99"/>
                    </a:lnTo>
                    <a:lnTo>
                      <a:pt x="557" y="99"/>
                    </a:lnTo>
                    <a:lnTo>
                      <a:pt x="522" y="97"/>
                    </a:lnTo>
                    <a:lnTo>
                      <a:pt x="486" y="96"/>
                    </a:lnTo>
                    <a:lnTo>
                      <a:pt x="451" y="92"/>
                    </a:lnTo>
                    <a:lnTo>
                      <a:pt x="416" y="88"/>
                    </a:lnTo>
                    <a:lnTo>
                      <a:pt x="347" y="80"/>
                    </a:lnTo>
                    <a:lnTo>
                      <a:pt x="277" y="69"/>
                    </a:lnTo>
                    <a:lnTo>
                      <a:pt x="209" y="56"/>
                    </a:lnTo>
                    <a:lnTo>
                      <a:pt x="140" y="42"/>
                    </a:lnTo>
                    <a:lnTo>
                      <a:pt x="73" y="26"/>
                    </a:lnTo>
                    <a:lnTo>
                      <a:pt x="5" y="8"/>
                    </a:lnTo>
                    <a:lnTo>
                      <a:pt x="0" y="27"/>
                    </a:lnTo>
                    <a:lnTo>
                      <a:pt x="68" y="44"/>
                    </a:lnTo>
                    <a:lnTo>
                      <a:pt x="137" y="60"/>
                    </a:lnTo>
                    <a:lnTo>
                      <a:pt x="205" y="75"/>
                    </a:lnTo>
                    <a:lnTo>
                      <a:pt x="274" y="87"/>
                    </a:lnTo>
                    <a:lnTo>
                      <a:pt x="343" y="98"/>
                    </a:lnTo>
                    <a:lnTo>
                      <a:pt x="413" y="107"/>
                    </a:lnTo>
                    <a:lnTo>
                      <a:pt x="449" y="110"/>
                    </a:lnTo>
                    <a:lnTo>
                      <a:pt x="485" y="114"/>
                    </a:lnTo>
                    <a:lnTo>
                      <a:pt x="520" y="115"/>
                    </a:lnTo>
                    <a:lnTo>
                      <a:pt x="556" y="118"/>
                    </a:lnTo>
                    <a:lnTo>
                      <a:pt x="593" y="118"/>
                    </a:lnTo>
                    <a:lnTo>
                      <a:pt x="629" y="118"/>
                    </a:lnTo>
                    <a:lnTo>
                      <a:pt x="665" y="118"/>
                    </a:lnTo>
                    <a:lnTo>
                      <a:pt x="702" y="115"/>
                    </a:lnTo>
                    <a:lnTo>
                      <a:pt x="739" y="113"/>
                    </a:lnTo>
                    <a:lnTo>
                      <a:pt x="777" y="109"/>
                    </a:lnTo>
                    <a:lnTo>
                      <a:pt x="814" y="106"/>
                    </a:lnTo>
                    <a:lnTo>
                      <a:pt x="852" y="99"/>
                    </a:lnTo>
                    <a:lnTo>
                      <a:pt x="891" y="93"/>
                    </a:lnTo>
                    <a:lnTo>
                      <a:pt x="930" y="86"/>
                    </a:lnTo>
                    <a:lnTo>
                      <a:pt x="968" y="77"/>
                    </a:lnTo>
                    <a:lnTo>
                      <a:pt x="1007" y="67"/>
                    </a:lnTo>
                    <a:lnTo>
                      <a:pt x="1048" y="56"/>
                    </a:lnTo>
                    <a:lnTo>
                      <a:pt x="1087" y="45"/>
                    </a:lnTo>
                    <a:lnTo>
                      <a:pt x="1128" y="32"/>
                    </a:lnTo>
                    <a:lnTo>
                      <a:pt x="1168" y="17"/>
                    </a:lnTo>
                    <a:lnTo>
                      <a:pt x="1175" y="11"/>
                    </a:lnTo>
                    <a:lnTo>
                      <a:pt x="1168" y="17"/>
                    </a:lnTo>
                    <a:lnTo>
                      <a:pt x="1172" y="15"/>
                    </a:lnTo>
                    <a:lnTo>
                      <a:pt x="1175" y="12"/>
                    </a:lnTo>
                    <a:lnTo>
                      <a:pt x="1175" y="8"/>
                    </a:lnTo>
                    <a:lnTo>
                      <a:pt x="1175" y="6"/>
                    </a:lnTo>
                    <a:lnTo>
                      <a:pt x="1172" y="2"/>
                    </a:lnTo>
                    <a:lnTo>
                      <a:pt x="1170" y="0"/>
                    </a:lnTo>
                    <a:lnTo>
                      <a:pt x="1166" y="0"/>
                    </a:lnTo>
                    <a:lnTo>
                      <a:pt x="1162" y="0"/>
                    </a:lnTo>
                    <a:lnTo>
                      <a:pt x="1156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584800" y="3889080"/>
                <a:ext cx="61920" cy="370800"/>
              </a:xfrm>
              <a:custGeom>
                <a:avLst/>
                <a:gdLst/>
                <a:ahLst/>
                <a:rect l="l" t="t" r="r" b="b"/>
                <a:pathLst>
                  <a:path w="165" h="976">
                    <a:moveTo>
                      <a:pt x="149" y="16"/>
                    </a:moveTo>
                    <a:lnTo>
                      <a:pt x="147" y="9"/>
                    </a:lnTo>
                    <a:lnTo>
                      <a:pt x="143" y="69"/>
                    </a:lnTo>
                    <a:lnTo>
                      <a:pt x="139" y="130"/>
                    </a:lnTo>
                    <a:lnTo>
                      <a:pt x="134" y="190"/>
                    </a:lnTo>
                    <a:lnTo>
                      <a:pt x="129" y="250"/>
                    </a:lnTo>
                    <a:lnTo>
                      <a:pt x="123" y="310"/>
                    </a:lnTo>
                    <a:lnTo>
                      <a:pt x="116" y="372"/>
                    </a:lnTo>
                    <a:lnTo>
                      <a:pt x="108" y="432"/>
                    </a:lnTo>
                    <a:lnTo>
                      <a:pt x="100" y="492"/>
                    </a:lnTo>
                    <a:lnTo>
                      <a:pt x="91" y="553"/>
                    </a:lnTo>
                    <a:lnTo>
                      <a:pt x="81" y="613"/>
                    </a:lnTo>
                    <a:lnTo>
                      <a:pt x="70" y="673"/>
                    </a:lnTo>
                    <a:lnTo>
                      <a:pt x="58" y="734"/>
                    </a:lnTo>
                    <a:lnTo>
                      <a:pt x="46" y="793"/>
                    </a:lnTo>
                    <a:lnTo>
                      <a:pt x="31" y="853"/>
                    </a:lnTo>
                    <a:lnTo>
                      <a:pt x="16" y="912"/>
                    </a:lnTo>
                    <a:lnTo>
                      <a:pt x="0" y="971"/>
                    </a:lnTo>
                    <a:lnTo>
                      <a:pt x="19" y="976"/>
                    </a:lnTo>
                    <a:lnTo>
                      <a:pt x="35" y="917"/>
                    </a:lnTo>
                    <a:lnTo>
                      <a:pt x="49" y="857"/>
                    </a:lnTo>
                    <a:lnTo>
                      <a:pt x="63" y="796"/>
                    </a:lnTo>
                    <a:lnTo>
                      <a:pt x="76" y="737"/>
                    </a:lnTo>
                    <a:lnTo>
                      <a:pt x="89" y="677"/>
                    </a:lnTo>
                    <a:lnTo>
                      <a:pt x="100" y="615"/>
                    </a:lnTo>
                    <a:lnTo>
                      <a:pt x="110" y="555"/>
                    </a:lnTo>
                    <a:lnTo>
                      <a:pt x="118" y="495"/>
                    </a:lnTo>
                    <a:lnTo>
                      <a:pt x="127" y="435"/>
                    </a:lnTo>
                    <a:lnTo>
                      <a:pt x="134" y="373"/>
                    </a:lnTo>
                    <a:lnTo>
                      <a:pt x="142" y="313"/>
                    </a:lnTo>
                    <a:lnTo>
                      <a:pt x="148" y="253"/>
                    </a:lnTo>
                    <a:lnTo>
                      <a:pt x="153" y="191"/>
                    </a:lnTo>
                    <a:lnTo>
                      <a:pt x="158" y="131"/>
                    </a:lnTo>
                    <a:lnTo>
                      <a:pt x="161" y="71"/>
                    </a:lnTo>
                    <a:lnTo>
                      <a:pt x="165" y="10"/>
                    </a:lnTo>
                    <a:lnTo>
                      <a:pt x="163" y="4"/>
                    </a:lnTo>
                    <a:lnTo>
                      <a:pt x="165" y="10"/>
                    </a:lnTo>
                    <a:lnTo>
                      <a:pt x="164" y="7"/>
                    </a:lnTo>
                    <a:lnTo>
                      <a:pt x="163" y="3"/>
                    </a:lnTo>
                    <a:lnTo>
                      <a:pt x="159" y="2"/>
                    </a:lnTo>
                    <a:lnTo>
                      <a:pt x="156" y="0"/>
                    </a:lnTo>
                    <a:lnTo>
                      <a:pt x="153" y="2"/>
                    </a:lnTo>
                    <a:lnTo>
                      <a:pt x="149" y="3"/>
                    </a:lnTo>
                    <a:lnTo>
                      <a:pt x="148" y="5"/>
                    </a:lnTo>
                    <a:lnTo>
                      <a:pt x="147" y="9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526120" y="3777120"/>
                <a:ext cx="119160" cy="119160"/>
              </a:xfrm>
              <a:custGeom>
                <a:avLst/>
                <a:gdLst/>
                <a:ahLst/>
                <a:rect l="l" t="t" r="r" b="b"/>
                <a:pathLst>
                  <a:path w="317" h="314">
                    <a:moveTo>
                      <a:pt x="10" y="0"/>
                    </a:moveTo>
                    <a:lnTo>
                      <a:pt x="4" y="16"/>
                    </a:lnTo>
                    <a:lnTo>
                      <a:pt x="42" y="52"/>
                    </a:lnTo>
                    <a:lnTo>
                      <a:pt x="80" y="89"/>
                    </a:lnTo>
                    <a:lnTo>
                      <a:pt x="117" y="126"/>
                    </a:lnTo>
                    <a:lnTo>
                      <a:pt x="155" y="164"/>
                    </a:lnTo>
                    <a:lnTo>
                      <a:pt x="192" y="201"/>
                    </a:lnTo>
                    <a:lnTo>
                      <a:pt x="229" y="239"/>
                    </a:lnTo>
                    <a:lnTo>
                      <a:pt x="266" y="278"/>
                    </a:lnTo>
                    <a:lnTo>
                      <a:pt x="303" y="314"/>
                    </a:lnTo>
                    <a:lnTo>
                      <a:pt x="317" y="302"/>
                    </a:lnTo>
                    <a:lnTo>
                      <a:pt x="280" y="264"/>
                    </a:lnTo>
                    <a:lnTo>
                      <a:pt x="243" y="226"/>
                    </a:lnTo>
                    <a:lnTo>
                      <a:pt x="206" y="189"/>
                    </a:lnTo>
                    <a:lnTo>
                      <a:pt x="168" y="151"/>
                    </a:lnTo>
                    <a:lnTo>
                      <a:pt x="131" y="113"/>
                    </a:lnTo>
                    <a:lnTo>
                      <a:pt x="93" y="76"/>
                    </a:lnTo>
                    <a:lnTo>
                      <a:pt x="55" y="39"/>
                    </a:lnTo>
                    <a:lnTo>
                      <a:pt x="16" y="2"/>
                    </a:lnTo>
                    <a:lnTo>
                      <a:pt x="10" y="18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2530080" y="3777120"/>
                <a:ext cx="128520" cy="9360"/>
              </a:xfrm>
              <a:custGeom>
                <a:avLst/>
                <a:gdLst/>
                <a:ahLst/>
                <a:rect l="l" t="t" r="r" b="b"/>
                <a:pathLst>
                  <a:path w="339" h="24">
                    <a:moveTo>
                      <a:pt x="320" y="14"/>
                    </a:moveTo>
                    <a:lnTo>
                      <a:pt x="330" y="6"/>
                    </a:lnTo>
                    <a:lnTo>
                      <a:pt x="289" y="4"/>
                    </a:lnTo>
                    <a:lnTo>
                      <a:pt x="249" y="3"/>
                    </a:lnTo>
                    <a:lnTo>
                      <a:pt x="207" y="2"/>
                    </a:lnTo>
                    <a:lnTo>
                      <a:pt x="166" y="1"/>
                    </a:lnTo>
                    <a:lnTo>
                      <a:pt x="124" y="1"/>
                    </a:lnTo>
                    <a:lnTo>
                      <a:pt x="84" y="0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42" y="18"/>
                    </a:lnTo>
                    <a:lnTo>
                      <a:pt x="83" y="18"/>
                    </a:lnTo>
                    <a:lnTo>
                      <a:pt x="124" y="19"/>
                    </a:lnTo>
                    <a:lnTo>
                      <a:pt x="165" y="19"/>
                    </a:lnTo>
                    <a:lnTo>
                      <a:pt x="207" y="20"/>
                    </a:lnTo>
                    <a:lnTo>
                      <a:pt x="247" y="22"/>
                    </a:lnTo>
                    <a:lnTo>
                      <a:pt x="288" y="23"/>
                    </a:lnTo>
                    <a:lnTo>
                      <a:pt x="330" y="24"/>
                    </a:lnTo>
                    <a:lnTo>
                      <a:pt x="339" y="17"/>
                    </a:lnTo>
                    <a:lnTo>
                      <a:pt x="330" y="24"/>
                    </a:lnTo>
                    <a:lnTo>
                      <a:pt x="334" y="24"/>
                    </a:lnTo>
                    <a:lnTo>
                      <a:pt x="336" y="22"/>
                    </a:lnTo>
                    <a:lnTo>
                      <a:pt x="339" y="19"/>
                    </a:lnTo>
                    <a:lnTo>
                      <a:pt x="339" y="16"/>
                    </a:lnTo>
                    <a:lnTo>
                      <a:pt x="339" y="12"/>
                    </a:lnTo>
                    <a:lnTo>
                      <a:pt x="337" y="9"/>
                    </a:lnTo>
                    <a:lnTo>
                      <a:pt x="334" y="7"/>
                    </a:lnTo>
                    <a:lnTo>
                      <a:pt x="330" y="6"/>
                    </a:lnTo>
                    <a:lnTo>
                      <a:pt x="32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2437200" y="3393000"/>
                <a:ext cx="221400" cy="389880"/>
              </a:xfrm>
              <a:custGeom>
                <a:avLst/>
                <a:gdLst/>
                <a:ahLst/>
                <a:rect l="l" t="t" r="r" b="b"/>
                <a:pathLst>
                  <a:path w="588" h="1030">
                    <a:moveTo>
                      <a:pt x="10" y="19"/>
                    </a:moveTo>
                    <a:lnTo>
                      <a:pt x="4" y="16"/>
                    </a:lnTo>
                    <a:lnTo>
                      <a:pt x="42" y="45"/>
                    </a:lnTo>
                    <a:lnTo>
                      <a:pt x="78" y="73"/>
                    </a:lnTo>
                    <a:lnTo>
                      <a:pt x="113" y="100"/>
                    </a:lnTo>
                    <a:lnTo>
                      <a:pt x="147" y="128"/>
                    </a:lnTo>
                    <a:lnTo>
                      <a:pt x="180" y="158"/>
                    </a:lnTo>
                    <a:lnTo>
                      <a:pt x="211" y="186"/>
                    </a:lnTo>
                    <a:lnTo>
                      <a:pt x="240" y="215"/>
                    </a:lnTo>
                    <a:lnTo>
                      <a:pt x="268" y="245"/>
                    </a:lnTo>
                    <a:lnTo>
                      <a:pt x="297" y="275"/>
                    </a:lnTo>
                    <a:lnTo>
                      <a:pt x="323" y="304"/>
                    </a:lnTo>
                    <a:lnTo>
                      <a:pt x="347" y="334"/>
                    </a:lnTo>
                    <a:lnTo>
                      <a:pt x="370" y="364"/>
                    </a:lnTo>
                    <a:lnTo>
                      <a:pt x="393" y="395"/>
                    </a:lnTo>
                    <a:lnTo>
                      <a:pt x="414" y="426"/>
                    </a:lnTo>
                    <a:lnTo>
                      <a:pt x="432" y="457"/>
                    </a:lnTo>
                    <a:lnTo>
                      <a:pt x="450" y="487"/>
                    </a:lnTo>
                    <a:lnTo>
                      <a:pt x="468" y="519"/>
                    </a:lnTo>
                    <a:lnTo>
                      <a:pt x="484" y="551"/>
                    </a:lnTo>
                    <a:lnTo>
                      <a:pt x="497" y="583"/>
                    </a:lnTo>
                    <a:lnTo>
                      <a:pt x="511" y="615"/>
                    </a:lnTo>
                    <a:lnTo>
                      <a:pt x="522" y="648"/>
                    </a:lnTo>
                    <a:lnTo>
                      <a:pt x="533" y="682"/>
                    </a:lnTo>
                    <a:lnTo>
                      <a:pt x="541" y="715"/>
                    </a:lnTo>
                    <a:lnTo>
                      <a:pt x="550" y="748"/>
                    </a:lnTo>
                    <a:lnTo>
                      <a:pt x="556" y="783"/>
                    </a:lnTo>
                    <a:lnTo>
                      <a:pt x="561" y="816"/>
                    </a:lnTo>
                    <a:lnTo>
                      <a:pt x="566" y="850"/>
                    </a:lnTo>
                    <a:lnTo>
                      <a:pt x="569" y="886"/>
                    </a:lnTo>
                    <a:lnTo>
                      <a:pt x="570" y="920"/>
                    </a:lnTo>
                    <a:lnTo>
                      <a:pt x="570" y="956"/>
                    </a:lnTo>
                    <a:lnTo>
                      <a:pt x="569" y="992"/>
                    </a:lnTo>
                    <a:lnTo>
                      <a:pt x="566" y="1027"/>
                    </a:lnTo>
                    <a:lnTo>
                      <a:pt x="585" y="1030"/>
                    </a:lnTo>
                    <a:lnTo>
                      <a:pt x="587" y="993"/>
                    </a:lnTo>
                    <a:lnTo>
                      <a:pt x="588" y="956"/>
                    </a:lnTo>
                    <a:lnTo>
                      <a:pt x="588" y="920"/>
                    </a:lnTo>
                    <a:lnTo>
                      <a:pt x="587" y="885"/>
                    </a:lnTo>
                    <a:lnTo>
                      <a:pt x="585" y="849"/>
                    </a:lnTo>
                    <a:lnTo>
                      <a:pt x="580" y="813"/>
                    </a:lnTo>
                    <a:lnTo>
                      <a:pt x="575" y="779"/>
                    </a:lnTo>
                    <a:lnTo>
                      <a:pt x="567" y="744"/>
                    </a:lnTo>
                    <a:lnTo>
                      <a:pt x="560" y="710"/>
                    </a:lnTo>
                    <a:lnTo>
                      <a:pt x="550" y="676"/>
                    </a:lnTo>
                    <a:lnTo>
                      <a:pt x="540" y="642"/>
                    </a:lnTo>
                    <a:lnTo>
                      <a:pt x="528" y="609"/>
                    </a:lnTo>
                    <a:lnTo>
                      <a:pt x="514" y="576"/>
                    </a:lnTo>
                    <a:lnTo>
                      <a:pt x="500" y="544"/>
                    </a:lnTo>
                    <a:lnTo>
                      <a:pt x="484" y="511"/>
                    </a:lnTo>
                    <a:lnTo>
                      <a:pt x="466" y="479"/>
                    </a:lnTo>
                    <a:lnTo>
                      <a:pt x="448" y="447"/>
                    </a:lnTo>
                    <a:lnTo>
                      <a:pt x="428" y="415"/>
                    </a:lnTo>
                    <a:lnTo>
                      <a:pt x="407" y="384"/>
                    </a:lnTo>
                    <a:lnTo>
                      <a:pt x="385" y="353"/>
                    </a:lnTo>
                    <a:lnTo>
                      <a:pt x="362" y="323"/>
                    </a:lnTo>
                    <a:lnTo>
                      <a:pt x="336" y="292"/>
                    </a:lnTo>
                    <a:lnTo>
                      <a:pt x="310" y="262"/>
                    </a:lnTo>
                    <a:lnTo>
                      <a:pt x="282" y="231"/>
                    </a:lnTo>
                    <a:lnTo>
                      <a:pt x="254" y="202"/>
                    </a:lnTo>
                    <a:lnTo>
                      <a:pt x="223" y="172"/>
                    </a:lnTo>
                    <a:lnTo>
                      <a:pt x="192" y="144"/>
                    </a:lnTo>
                    <a:lnTo>
                      <a:pt x="159" y="115"/>
                    </a:lnTo>
                    <a:lnTo>
                      <a:pt x="125" y="86"/>
                    </a:lnTo>
                    <a:lnTo>
                      <a:pt x="89" y="58"/>
                    </a:lnTo>
                    <a:lnTo>
                      <a:pt x="53" y="3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2165040" y="3393000"/>
                <a:ext cx="276120" cy="36000"/>
              </a:xfrm>
              <a:custGeom>
                <a:avLst/>
                <a:gdLst/>
                <a:ahLst/>
                <a:rect l="l" t="t" r="r" b="b"/>
                <a:pathLst>
                  <a:path w="726" h="92">
                    <a:moveTo>
                      <a:pt x="18" y="90"/>
                    </a:moveTo>
                    <a:lnTo>
                      <a:pt x="12" y="92"/>
                    </a:lnTo>
                    <a:lnTo>
                      <a:pt x="100" y="85"/>
                    </a:lnTo>
                    <a:lnTo>
                      <a:pt x="190" y="77"/>
                    </a:lnTo>
                    <a:lnTo>
                      <a:pt x="280" y="67"/>
                    </a:lnTo>
                    <a:lnTo>
                      <a:pt x="368" y="57"/>
                    </a:lnTo>
                    <a:lnTo>
                      <a:pt x="458" y="48"/>
                    </a:lnTo>
                    <a:lnTo>
                      <a:pt x="548" y="38"/>
                    </a:lnTo>
                    <a:lnTo>
                      <a:pt x="636" y="29"/>
                    </a:lnTo>
                    <a:lnTo>
                      <a:pt x="726" y="19"/>
                    </a:lnTo>
                    <a:lnTo>
                      <a:pt x="725" y="0"/>
                    </a:lnTo>
                    <a:lnTo>
                      <a:pt x="635" y="10"/>
                    </a:lnTo>
                    <a:lnTo>
                      <a:pt x="545" y="20"/>
                    </a:lnTo>
                    <a:lnTo>
                      <a:pt x="456" y="30"/>
                    </a:lnTo>
                    <a:lnTo>
                      <a:pt x="367" y="38"/>
                    </a:lnTo>
                    <a:lnTo>
                      <a:pt x="277" y="48"/>
                    </a:lnTo>
                    <a:lnTo>
                      <a:pt x="189" y="58"/>
                    </a:lnTo>
                    <a:lnTo>
                      <a:pt x="99" y="67"/>
                    </a:lnTo>
                    <a:lnTo>
                      <a:pt x="9" y="74"/>
                    </a:lnTo>
                    <a:lnTo>
                      <a:pt x="3" y="78"/>
                    </a:lnTo>
                    <a:lnTo>
                      <a:pt x="9" y="74"/>
                    </a:lnTo>
                    <a:lnTo>
                      <a:pt x="5" y="75"/>
                    </a:lnTo>
                    <a:lnTo>
                      <a:pt x="3" y="78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7" y="92"/>
                    </a:lnTo>
                    <a:lnTo>
                      <a:pt x="12" y="92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2942280" y="4127400"/>
                <a:ext cx="280080" cy="226800"/>
              </a:xfrm>
              <a:custGeom>
                <a:avLst/>
                <a:gdLst/>
                <a:ahLst/>
                <a:rect l="l" t="t" r="r" b="b"/>
                <a:pathLst>
                  <a:path w="743" h="599">
                    <a:moveTo>
                      <a:pt x="237" y="34"/>
                    </a:moveTo>
                    <a:lnTo>
                      <a:pt x="0" y="599"/>
                    </a:lnTo>
                    <a:lnTo>
                      <a:pt x="680" y="568"/>
                    </a:lnTo>
                    <a:lnTo>
                      <a:pt x="743" y="420"/>
                    </a:lnTo>
                    <a:lnTo>
                      <a:pt x="360" y="329"/>
                    </a:lnTo>
                    <a:lnTo>
                      <a:pt x="497" y="0"/>
                    </a:lnTo>
                    <a:lnTo>
                      <a:pt x="237" y="3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2938680" y="4138920"/>
                <a:ext cx="96480" cy="217440"/>
              </a:xfrm>
              <a:custGeom>
                <a:avLst/>
                <a:gdLst/>
                <a:ahLst/>
                <a:rect l="l" t="t" r="r" b="b"/>
                <a:pathLst>
                  <a:path w="256" h="577">
                    <a:moveTo>
                      <a:pt x="10" y="577"/>
                    </a:moveTo>
                    <a:lnTo>
                      <a:pt x="18" y="572"/>
                    </a:lnTo>
                    <a:lnTo>
                      <a:pt x="256" y="8"/>
                    </a:lnTo>
                    <a:lnTo>
                      <a:pt x="239" y="0"/>
                    </a:lnTo>
                    <a:lnTo>
                      <a:pt x="1" y="565"/>
                    </a:lnTo>
                    <a:lnTo>
                      <a:pt x="10" y="577"/>
                    </a:lnTo>
                    <a:lnTo>
                      <a:pt x="1" y="565"/>
                    </a:lnTo>
                    <a:lnTo>
                      <a:pt x="0" y="569"/>
                    </a:lnTo>
                    <a:lnTo>
                      <a:pt x="1" y="572"/>
                    </a:lnTo>
                    <a:lnTo>
                      <a:pt x="4" y="575"/>
                    </a:lnTo>
                    <a:lnTo>
                      <a:pt x="6" y="577"/>
                    </a:lnTo>
                    <a:lnTo>
                      <a:pt x="10" y="577"/>
                    </a:lnTo>
                    <a:lnTo>
                      <a:pt x="13" y="577"/>
                    </a:lnTo>
                    <a:lnTo>
                      <a:pt x="16" y="576"/>
                    </a:lnTo>
                    <a:lnTo>
                      <a:pt x="18" y="572"/>
                    </a:lnTo>
                    <a:lnTo>
                      <a:pt x="1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2942280" y="4339440"/>
                <a:ext cx="261000" cy="16920"/>
              </a:xfrm>
              <a:custGeom>
                <a:avLst/>
                <a:gdLst/>
                <a:ahLst/>
                <a:rect l="l" t="t" r="r" b="b"/>
                <a:pathLst>
                  <a:path w="690" h="48">
                    <a:moveTo>
                      <a:pt x="689" y="13"/>
                    </a:moveTo>
                    <a:lnTo>
                      <a:pt x="680" y="0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81" y="19"/>
                    </a:lnTo>
                    <a:lnTo>
                      <a:pt x="689" y="13"/>
                    </a:lnTo>
                    <a:lnTo>
                      <a:pt x="681" y="19"/>
                    </a:lnTo>
                    <a:lnTo>
                      <a:pt x="685" y="18"/>
                    </a:lnTo>
                    <a:lnTo>
                      <a:pt x="687" y="15"/>
                    </a:lnTo>
                    <a:lnTo>
                      <a:pt x="689" y="13"/>
                    </a:lnTo>
                    <a:lnTo>
                      <a:pt x="690" y="9"/>
                    </a:lnTo>
                    <a:lnTo>
                      <a:pt x="689" y="5"/>
                    </a:lnTo>
                    <a:lnTo>
                      <a:pt x="687" y="3"/>
                    </a:lnTo>
                    <a:lnTo>
                      <a:pt x="684" y="0"/>
                    </a:lnTo>
                    <a:lnTo>
                      <a:pt x="680" y="0"/>
                    </a:lnTo>
                    <a:lnTo>
                      <a:pt x="68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196080" y="4282920"/>
                <a:ext cx="30240" cy="604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74" y="0"/>
                    </a:moveTo>
                    <a:lnTo>
                      <a:pt x="63" y="6"/>
                    </a:lnTo>
                    <a:lnTo>
                      <a:pt x="0" y="153"/>
                    </a:lnTo>
                    <a:lnTo>
                      <a:pt x="18" y="161"/>
                    </a:lnTo>
                    <a:lnTo>
                      <a:pt x="80" y="12"/>
                    </a:lnTo>
                    <a:lnTo>
                      <a:pt x="74" y="0"/>
                    </a:lnTo>
                    <a:lnTo>
                      <a:pt x="80" y="12"/>
                    </a:lnTo>
                    <a:lnTo>
                      <a:pt x="81" y="8"/>
                    </a:lnTo>
                    <a:lnTo>
                      <a:pt x="80" y="4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5" y="2"/>
                    </a:lnTo>
                    <a:lnTo>
                      <a:pt x="63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075120" y="4248360"/>
                <a:ext cx="149040" cy="41400"/>
              </a:xfrm>
              <a:custGeom>
                <a:avLst/>
                <a:gdLst/>
                <a:ahLst/>
                <a:rect l="l" t="t" r="r" b="b"/>
                <a:pathLst>
                  <a:path w="395" h="109">
                    <a:moveTo>
                      <a:pt x="2" y="6"/>
                    </a:moveTo>
                    <a:lnTo>
                      <a:pt x="8" y="18"/>
                    </a:lnTo>
                    <a:lnTo>
                      <a:pt x="390" y="109"/>
                    </a:lnTo>
                    <a:lnTo>
                      <a:pt x="395" y="91"/>
                    </a:lnTo>
                    <a:lnTo>
                      <a:pt x="11" y="1"/>
                    </a:lnTo>
                    <a:lnTo>
                      <a:pt x="2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8" y="18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075120" y="4123440"/>
                <a:ext cx="58680" cy="130680"/>
              </a:xfrm>
              <a:custGeom>
                <a:avLst/>
                <a:gdLst/>
                <a:ahLst/>
                <a:rect l="l" t="t" r="r" b="b"/>
                <a:pathLst>
                  <a:path w="154" h="343">
                    <a:moveTo>
                      <a:pt x="143" y="0"/>
                    </a:moveTo>
                    <a:lnTo>
                      <a:pt x="136" y="6"/>
                    </a:lnTo>
                    <a:lnTo>
                      <a:pt x="0" y="336"/>
                    </a:lnTo>
                    <a:lnTo>
                      <a:pt x="17" y="343"/>
                    </a:lnTo>
                    <a:lnTo>
                      <a:pt x="153" y="13"/>
                    </a:lnTo>
                    <a:lnTo>
                      <a:pt x="143" y="0"/>
                    </a:lnTo>
                    <a:lnTo>
                      <a:pt x="153" y="13"/>
                    </a:lnTo>
                    <a:lnTo>
                      <a:pt x="154" y="8"/>
                    </a:lnTo>
                    <a:lnTo>
                      <a:pt x="153" y="6"/>
                    </a:lnTo>
                    <a:lnTo>
                      <a:pt x="151" y="2"/>
                    </a:lnTo>
                    <a:lnTo>
                      <a:pt x="148" y="1"/>
                    </a:lnTo>
                    <a:lnTo>
                      <a:pt x="145" y="0"/>
                    </a:lnTo>
                    <a:lnTo>
                      <a:pt x="141" y="1"/>
                    </a:lnTo>
                    <a:lnTo>
                      <a:pt x="138" y="2"/>
                    </a:lnTo>
                    <a:lnTo>
                      <a:pt x="136" y="6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027960" y="4123440"/>
                <a:ext cx="101880" cy="20880"/>
              </a:xfrm>
              <a:custGeom>
                <a:avLst/>
                <a:gdLst/>
                <a:ahLst/>
                <a:rect l="l" t="t" r="r" b="b"/>
                <a:pathLst>
                  <a:path w="271" h="54">
                    <a:moveTo>
                      <a:pt x="2" y="40"/>
                    </a:moveTo>
                    <a:lnTo>
                      <a:pt x="11" y="54"/>
                    </a:lnTo>
                    <a:lnTo>
                      <a:pt x="271" y="18"/>
                    </a:lnTo>
                    <a:lnTo>
                      <a:pt x="268" y="0"/>
                    </a:lnTo>
                    <a:lnTo>
                      <a:pt x="9" y="36"/>
                    </a:lnTo>
                    <a:lnTo>
                      <a:pt x="2" y="40"/>
                    </a:lnTo>
                    <a:lnTo>
                      <a:pt x="9" y="36"/>
                    </a:lnTo>
                    <a:lnTo>
                      <a:pt x="5" y="37"/>
                    </a:lnTo>
                    <a:lnTo>
                      <a:pt x="2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9"/>
                    </a:lnTo>
                    <a:lnTo>
                      <a:pt x="4" y="52"/>
                    </a:lnTo>
                    <a:lnTo>
                      <a:pt x="6" y="53"/>
                    </a:lnTo>
                    <a:lnTo>
                      <a:pt x="11" y="54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2734200" y="4036680"/>
                <a:ext cx="249480" cy="308160"/>
              </a:xfrm>
              <a:custGeom>
                <a:avLst/>
                <a:gdLst/>
                <a:ahLst/>
                <a:rect l="l" t="t" r="r" b="b"/>
                <a:pathLst>
                  <a:path w="664" h="816">
                    <a:moveTo>
                      <a:pt x="664" y="85"/>
                    </a:moveTo>
                    <a:lnTo>
                      <a:pt x="587" y="816"/>
                    </a:lnTo>
                    <a:lnTo>
                      <a:pt x="29" y="786"/>
                    </a:lnTo>
                    <a:lnTo>
                      <a:pt x="0" y="628"/>
                    </a:lnTo>
                    <a:lnTo>
                      <a:pt x="411" y="526"/>
                    </a:lnTo>
                    <a:lnTo>
                      <a:pt x="416" y="0"/>
                    </a:lnTo>
                    <a:lnTo>
                      <a:pt x="664" y="85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2952000" y="4069080"/>
                <a:ext cx="36000" cy="279720"/>
              </a:xfrm>
              <a:custGeom>
                <a:avLst/>
                <a:gdLst/>
                <a:ahLst/>
                <a:rect l="l" t="t" r="r" b="b"/>
                <a:pathLst>
                  <a:path w="95" h="741">
                    <a:moveTo>
                      <a:pt x="9" y="741"/>
                    </a:moveTo>
                    <a:lnTo>
                      <a:pt x="18" y="733"/>
                    </a:lnTo>
                    <a:lnTo>
                      <a:pt x="95" y="1"/>
                    </a:lnTo>
                    <a:lnTo>
                      <a:pt x="76" y="0"/>
                    </a:lnTo>
                    <a:lnTo>
                      <a:pt x="0" y="730"/>
                    </a:lnTo>
                    <a:lnTo>
                      <a:pt x="9" y="741"/>
                    </a:lnTo>
                    <a:lnTo>
                      <a:pt x="0" y="730"/>
                    </a:lnTo>
                    <a:lnTo>
                      <a:pt x="0" y="735"/>
                    </a:lnTo>
                    <a:lnTo>
                      <a:pt x="3" y="738"/>
                    </a:lnTo>
                    <a:lnTo>
                      <a:pt x="5" y="740"/>
                    </a:lnTo>
                    <a:lnTo>
                      <a:pt x="9" y="740"/>
                    </a:lnTo>
                    <a:lnTo>
                      <a:pt x="11" y="740"/>
                    </a:lnTo>
                    <a:lnTo>
                      <a:pt x="15" y="739"/>
                    </a:lnTo>
                    <a:lnTo>
                      <a:pt x="17" y="736"/>
                    </a:lnTo>
                    <a:lnTo>
                      <a:pt x="18" y="733"/>
                    </a:lnTo>
                    <a:lnTo>
                      <a:pt x="9" y="7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742120" y="4330080"/>
                <a:ext cx="213480" cy="18720"/>
              </a:xfrm>
              <a:custGeom>
                <a:avLst/>
                <a:gdLst/>
                <a:ahLst/>
                <a:rect l="l" t="t" r="r" b="b"/>
                <a:pathLst>
                  <a:path w="567" h="49">
                    <a:moveTo>
                      <a:pt x="0" y="11"/>
                    </a:moveTo>
                    <a:lnTo>
                      <a:pt x="8" y="18"/>
                    </a:lnTo>
                    <a:lnTo>
                      <a:pt x="566" y="49"/>
                    </a:lnTo>
                    <a:lnTo>
                      <a:pt x="567" y="3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730600" y="4271040"/>
                <a:ext cx="16920" cy="62640"/>
              </a:xfrm>
              <a:custGeom>
                <a:avLst/>
                <a:gdLst/>
                <a:ahLst/>
                <a:rect l="l" t="t" r="r" b="b"/>
                <a:pathLst>
                  <a:path w="49" h="168">
                    <a:moveTo>
                      <a:pt x="8" y="0"/>
                    </a:moveTo>
                    <a:lnTo>
                      <a:pt x="0" y="11"/>
                    </a:lnTo>
                    <a:lnTo>
                      <a:pt x="31" y="168"/>
                    </a:lnTo>
                    <a:lnTo>
                      <a:pt x="49" y="164"/>
                    </a:lnTo>
                    <a:lnTo>
                      <a:pt x="19" y="7"/>
                    </a:lnTo>
                    <a:lnTo>
                      <a:pt x="8" y="0"/>
                    </a:lnTo>
                    <a:lnTo>
                      <a:pt x="19" y="7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732400" y="4231800"/>
                <a:ext cx="158400" cy="45360"/>
              </a:xfrm>
              <a:custGeom>
                <a:avLst/>
                <a:gdLst/>
                <a:ahLst/>
                <a:rect l="l" t="t" r="r" b="b"/>
                <a:pathLst>
                  <a:path w="421" h="120">
                    <a:moveTo>
                      <a:pt x="421" y="9"/>
                    </a:moveTo>
                    <a:lnTo>
                      <a:pt x="410" y="0"/>
                    </a:lnTo>
                    <a:lnTo>
                      <a:pt x="0" y="103"/>
                    </a:lnTo>
                    <a:lnTo>
                      <a:pt x="4" y="120"/>
                    </a:lnTo>
                    <a:lnTo>
                      <a:pt x="415" y="18"/>
                    </a:lnTo>
                    <a:lnTo>
                      <a:pt x="421" y="9"/>
                    </a:lnTo>
                    <a:lnTo>
                      <a:pt x="415" y="18"/>
                    </a:lnTo>
                    <a:lnTo>
                      <a:pt x="419" y="16"/>
                    </a:lnTo>
                    <a:lnTo>
                      <a:pt x="421" y="14"/>
                    </a:lnTo>
                    <a:lnTo>
                      <a:pt x="421" y="10"/>
                    </a:lnTo>
                    <a:lnTo>
                      <a:pt x="421" y="7"/>
                    </a:lnTo>
                    <a:lnTo>
                      <a:pt x="420" y="4"/>
                    </a:lnTo>
                    <a:lnTo>
                      <a:pt x="418" y="2"/>
                    </a:lnTo>
                    <a:lnTo>
                      <a:pt x="414" y="0"/>
                    </a:lnTo>
                    <a:lnTo>
                      <a:pt x="410" y="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885760" y="4033080"/>
                <a:ext cx="7560" cy="202320"/>
              </a:xfrm>
              <a:custGeom>
                <a:avLst/>
                <a:gdLst/>
                <a:ahLst/>
                <a:rect l="l" t="t" r="r" b="b"/>
                <a:pathLst>
                  <a:path w="23" h="536">
                    <a:moveTo>
                      <a:pt x="17" y="0"/>
                    </a:moveTo>
                    <a:lnTo>
                      <a:pt x="5" y="10"/>
                    </a:lnTo>
                    <a:lnTo>
                      <a:pt x="0" y="536"/>
                    </a:lnTo>
                    <a:lnTo>
                      <a:pt x="18" y="536"/>
                    </a:lnTo>
                    <a:lnTo>
                      <a:pt x="23" y="10"/>
                    </a:lnTo>
                    <a:lnTo>
                      <a:pt x="17" y="0"/>
                    </a:lnTo>
                    <a:lnTo>
                      <a:pt x="23" y="10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5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889720" y="4033080"/>
                <a:ext cx="97920" cy="39240"/>
              </a:xfrm>
              <a:custGeom>
                <a:avLst/>
                <a:gdLst/>
                <a:ahLst/>
                <a:rect l="l" t="t" r="r" b="b"/>
                <a:pathLst>
                  <a:path w="261" h="104">
                    <a:moveTo>
                      <a:pt x="261" y="96"/>
                    </a:moveTo>
                    <a:lnTo>
                      <a:pt x="255" y="8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248" y="104"/>
                    </a:lnTo>
                    <a:lnTo>
                      <a:pt x="261" y="96"/>
                    </a:lnTo>
                    <a:lnTo>
                      <a:pt x="248" y="104"/>
                    </a:lnTo>
                    <a:lnTo>
                      <a:pt x="252" y="104"/>
                    </a:lnTo>
                    <a:lnTo>
                      <a:pt x="256" y="103"/>
                    </a:lnTo>
                    <a:lnTo>
                      <a:pt x="258" y="101"/>
                    </a:lnTo>
                    <a:lnTo>
                      <a:pt x="261" y="98"/>
                    </a:lnTo>
                    <a:lnTo>
                      <a:pt x="261" y="95"/>
                    </a:lnTo>
                    <a:lnTo>
                      <a:pt x="261" y="91"/>
                    </a:lnTo>
                    <a:lnTo>
                      <a:pt x="258" y="88"/>
                    </a:lnTo>
                    <a:lnTo>
                      <a:pt x="255" y="86"/>
                    </a:lnTo>
                    <a:lnTo>
                      <a:pt x="261" y="9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727000" y="3355200"/>
                <a:ext cx="673200" cy="904680"/>
              </a:xfrm>
              <a:custGeom>
                <a:avLst/>
                <a:gdLst/>
                <a:ahLst/>
                <a:rect l="l" t="t" r="r" b="b"/>
                <a:pathLst>
                  <a:path w="1777" h="2389">
                    <a:moveTo>
                      <a:pt x="1346" y="84"/>
                    </a:moveTo>
                    <a:lnTo>
                      <a:pt x="1400" y="142"/>
                    </a:lnTo>
                    <a:lnTo>
                      <a:pt x="1456" y="203"/>
                    </a:lnTo>
                    <a:lnTo>
                      <a:pt x="1484" y="235"/>
                    </a:lnTo>
                    <a:lnTo>
                      <a:pt x="1513" y="268"/>
                    </a:lnTo>
                    <a:lnTo>
                      <a:pt x="1542" y="302"/>
                    </a:lnTo>
                    <a:lnTo>
                      <a:pt x="1569" y="335"/>
                    </a:lnTo>
                    <a:lnTo>
                      <a:pt x="1598" y="369"/>
                    </a:lnTo>
                    <a:lnTo>
                      <a:pt x="1623" y="405"/>
                    </a:lnTo>
                    <a:lnTo>
                      <a:pt x="1648" y="442"/>
                    </a:lnTo>
                    <a:lnTo>
                      <a:pt x="1671" y="479"/>
                    </a:lnTo>
                    <a:lnTo>
                      <a:pt x="1694" y="517"/>
                    </a:lnTo>
                    <a:lnTo>
                      <a:pt x="1713" y="556"/>
                    </a:lnTo>
                    <a:lnTo>
                      <a:pt x="1730" y="595"/>
                    </a:lnTo>
                    <a:lnTo>
                      <a:pt x="1746" y="636"/>
                    </a:lnTo>
                    <a:lnTo>
                      <a:pt x="1759" y="678"/>
                    </a:lnTo>
                    <a:lnTo>
                      <a:pt x="1767" y="721"/>
                    </a:lnTo>
                    <a:lnTo>
                      <a:pt x="1774" y="765"/>
                    </a:lnTo>
                    <a:lnTo>
                      <a:pt x="1777" y="809"/>
                    </a:lnTo>
                    <a:lnTo>
                      <a:pt x="1776" y="855"/>
                    </a:lnTo>
                    <a:lnTo>
                      <a:pt x="1771" y="902"/>
                    </a:lnTo>
                    <a:lnTo>
                      <a:pt x="1761" y="950"/>
                    </a:lnTo>
                    <a:lnTo>
                      <a:pt x="1748" y="998"/>
                    </a:lnTo>
                    <a:lnTo>
                      <a:pt x="1729" y="1048"/>
                    </a:lnTo>
                    <a:lnTo>
                      <a:pt x="1706" y="1100"/>
                    </a:lnTo>
                    <a:lnTo>
                      <a:pt x="1678" y="1151"/>
                    </a:lnTo>
                    <a:lnTo>
                      <a:pt x="1643" y="1204"/>
                    </a:lnTo>
                    <a:lnTo>
                      <a:pt x="1604" y="1260"/>
                    </a:lnTo>
                    <a:lnTo>
                      <a:pt x="1558" y="1315"/>
                    </a:lnTo>
                    <a:lnTo>
                      <a:pt x="1507" y="1372"/>
                    </a:lnTo>
                    <a:lnTo>
                      <a:pt x="1448" y="1429"/>
                    </a:lnTo>
                    <a:lnTo>
                      <a:pt x="1439" y="1455"/>
                    </a:lnTo>
                    <a:lnTo>
                      <a:pt x="1432" y="1481"/>
                    </a:lnTo>
                    <a:lnTo>
                      <a:pt x="1424" y="1506"/>
                    </a:lnTo>
                    <a:lnTo>
                      <a:pt x="1418" y="1532"/>
                    </a:lnTo>
                    <a:lnTo>
                      <a:pt x="1407" y="1582"/>
                    </a:lnTo>
                    <a:lnTo>
                      <a:pt x="1397" y="1634"/>
                    </a:lnTo>
                    <a:lnTo>
                      <a:pt x="1389" y="1685"/>
                    </a:lnTo>
                    <a:lnTo>
                      <a:pt x="1381" y="1738"/>
                    </a:lnTo>
                    <a:lnTo>
                      <a:pt x="1375" y="1792"/>
                    </a:lnTo>
                    <a:lnTo>
                      <a:pt x="1369" y="1846"/>
                    </a:lnTo>
                    <a:lnTo>
                      <a:pt x="1363" y="1903"/>
                    </a:lnTo>
                    <a:lnTo>
                      <a:pt x="1355" y="1961"/>
                    </a:lnTo>
                    <a:lnTo>
                      <a:pt x="1348" y="2021"/>
                    </a:lnTo>
                    <a:lnTo>
                      <a:pt x="1338" y="2083"/>
                    </a:lnTo>
                    <a:lnTo>
                      <a:pt x="1328" y="2147"/>
                    </a:lnTo>
                    <a:lnTo>
                      <a:pt x="1315" y="2213"/>
                    </a:lnTo>
                    <a:lnTo>
                      <a:pt x="1299" y="2282"/>
                    </a:lnTo>
                    <a:lnTo>
                      <a:pt x="1282" y="2354"/>
                    </a:lnTo>
                    <a:lnTo>
                      <a:pt x="1211" y="2363"/>
                    </a:lnTo>
                    <a:lnTo>
                      <a:pt x="1141" y="2372"/>
                    </a:lnTo>
                    <a:lnTo>
                      <a:pt x="1072" y="2379"/>
                    </a:lnTo>
                    <a:lnTo>
                      <a:pt x="1002" y="2385"/>
                    </a:lnTo>
                    <a:lnTo>
                      <a:pt x="932" y="2388"/>
                    </a:lnTo>
                    <a:lnTo>
                      <a:pt x="862" y="2389"/>
                    </a:lnTo>
                    <a:lnTo>
                      <a:pt x="826" y="2389"/>
                    </a:lnTo>
                    <a:lnTo>
                      <a:pt x="791" y="2388"/>
                    </a:lnTo>
                    <a:lnTo>
                      <a:pt x="755" y="2386"/>
                    </a:lnTo>
                    <a:lnTo>
                      <a:pt x="719" y="2384"/>
                    </a:lnTo>
                    <a:lnTo>
                      <a:pt x="684" y="2381"/>
                    </a:lnTo>
                    <a:lnTo>
                      <a:pt x="648" y="2378"/>
                    </a:lnTo>
                    <a:lnTo>
                      <a:pt x="612" y="2373"/>
                    </a:lnTo>
                    <a:lnTo>
                      <a:pt x="576" y="2367"/>
                    </a:lnTo>
                    <a:lnTo>
                      <a:pt x="540" y="2361"/>
                    </a:lnTo>
                    <a:lnTo>
                      <a:pt x="503" y="2353"/>
                    </a:lnTo>
                    <a:lnTo>
                      <a:pt x="466" y="2345"/>
                    </a:lnTo>
                    <a:lnTo>
                      <a:pt x="429" y="2335"/>
                    </a:lnTo>
                    <a:lnTo>
                      <a:pt x="392" y="2325"/>
                    </a:lnTo>
                    <a:lnTo>
                      <a:pt x="355" y="2313"/>
                    </a:lnTo>
                    <a:lnTo>
                      <a:pt x="317" y="2300"/>
                    </a:lnTo>
                    <a:lnTo>
                      <a:pt x="280" y="2287"/>
                    </a:lnTo>
                    <a:lnTo>
                      <a:pt x="242" y="2272"/>
                    </a:lnTo>
                    <a:lnTo>
                      <a:pt x="204" y="2256"/>
                    </a:lnTo>
                    <a:lnTo>
                      <a:pt x="166" y="2238"/>
                    </a:lnTo>
                    <a:lnTo>
                      <a:pt x="127" y="2219"/>
                    </a:lnTo>
                    <a:lnTo>
                      <a:pt x="105" y="2101"/>
                    </a:lnTo>
                    <a:lnTo>
                      <a:pt x="81" y="1989"/>
                    </a:lnTo>
                    <a:lnTo>
                      <a:pt x="58" y="1880"/>
                    </a:lnTo>
                    <a:lnTo>
                      <a:pt x="37" y="1773"/>
                    </a:lnTo>
                    <a:lnTo>
                      <a:pt x="27" y="1720"/>
                    </a:lnTo>
                    <a:lnTo>
                      <a:pt x="18" y="1666"/>
                    </a:lnTo>
                    <a:lnTo>
                      <a:pt x="11" y="1611"/>
                    </a:lnTo>
                    <a:lnTo>
                      <a:pt x="6" y="1557"/>
                    </a:lnTo>
                    <a:lnTo>
                      <a:pt x="1" y="1502"/>
                    </a:lnTo>
                    <a:lnTo>
                      <a:pt x="0" y="1445"/>
                    </a:lnTo>
                    <a:lnTo>
                      <a:pt x="0" y="1388"/>
                    </a:lnTo>
                    <a:lnTo>
                      <a:pt x="1" y="1327"/>
                    </a:lnTo>
                    <a:lnTo>
                      <a:pt x="54" y="1292"/>
                    </a:lnTo>
                    <a:lnTo>
                      <a:pt x="100" y="1256"/>
                    </a:lnTo>
                    <a:lnTo>
                      <a:pt x="138" y="1220"/>
                    </a:lnTo>
                    <a:lnTo>
                      <a:pt x="170" y="1185"/>
                    </a:lnTo>
                    <a:lnTo>
                      <a:pt x="197" y="1150"/>
                    </a:lnTo>
                    <a:lnTo>
                      <a:pt x="218" y="1115"/>
                    </a:lnTo>
                    <a:lnTo>
                      <a:pt x="235" y="1079"/>
                    </a:lnTo>
                    <a:lnTo>
                      <a:pt x="247" y="1043"/>
                    </a:lnTo>
                    <a:lnTo>
                      <a:pt x="257" y="1008"/>
                    </a:lnTo>
                    <a:lnTo>
                      <a:pt x="263" y="972"/>
                    </a:lnTo>
                    <a:lnTo>
                      <a:pt x="267" y="936"/>
                    </a:lnTo>
                    <a:lnTo>
                      <a:pt x="269" y="899"/>
                    </a:lnTo>
                    <a:lnTo>
                      <a:pt x="271" y="824"/>
                    </a:lnTo>
                    <a:lnTo>
                      <a:pt x="271" y="748"/>
                    </a:lnTo>
                    <a:lnTo>
                      <a:pt x="272" y="709"/>
                    </a:lnTo>
                    <a:lnTo>
                      <a:pt x="274" y="669"/>
                    </a:lnTo>
                    <a:lnTo>
                      <a:pt x="279" y="629"/>
                    </a:lnTo>
                    <a:lnTo>
                      <a:pt x="285" y="587"/>
                    </a:lnTo>
                    <a:lnTo>
                      <a:pt x="296" y="544"/>
                    </a:lnTo>
                    <a:lnTo>
                      <a:pt x="310" y="501"/>
                    </a:lnTo>
                    <a:lnTo>
                      <a:pt x="327" y="456"/>
                    </a:lnTo>
                    <a:lnTo>
                      <a:pt x="349" y="411"/>
                    </a:lnTo>
                    <a:lnTo>
                      <a:pt x="378" y="364"/>
                    </a:lnTo>
                    <a:lnTo>
                      <a:pt x="411" y="316"/>
                    </a:lnTo>
                    <a:lnTo>
                      <a:pt x="450" y="267"/>
                    </a:lnTo>
                    <a:lnTo>
                      <a:pt x="496" y="217"/>
                    </a:lnTo>
                    <a:lnTo>
                      <a:pt x="550" y="165"/>
                    </a:lnTo>
                    <a:lnTo>
                      <a:pt x="611" y="111"/>
                    </a:lnTo>
                    <a:lnTo>
                      <a:pt x="681" y="57"/>
                    </a:lnTo>
                    <a:lnTo>
                      <a:pt x="761" y="0"/>
                    </a:lnTo>
                    <a:lnTo>
                      <a:pt x="787" y="43"/>
                    </a:lnTo>
                    <a:lnTo>
                      <a:pt x="813" y="81"/>
                    </a:lnTo>
                    <a:lnTo>
                      <a:pt x="825" y="97"/>
                    </a:lnTo>
                    <a:lnTo>
                      <a:pt x="838" y="113"/>
                    </a:lnTo>
                    <a:lnTo>
                      <a:pt x="850" y="127"/>
                    </a:lnTo>
                    <a:lnTo>
                      <a:pt x="861" y="139"/>
                    </a:lnTo>
                    <a:lnTo>
                      <a:pt x="873" y="150"/>
                    </a:lnTo>
                    <a:lnTo>
                      <a:pt x="886" y="160"/>
                    </a:lnTo>
                    <a:lnTo>
                      <a:pt x="899" y="169"/>
                    </a:lnTo>
                    <a:lnTo>
                      <a:pt x="911" y="175"/>
                    </a:lnTo>
                    <a:lnTo>
                      <a:pt x="925" y="181"/>
                    </a:lnTo>
                    <a:lnTo>
                      <a:pt x="938" y="186"/>
                    </a:lnTo>
                    <a:lnTo>
                      <a:pt x="953" y="190"/>
                    </a:lnTo>
                    <a:lnTo>
                      <a:pt x="968" y="191"/>
                    </a:lnTo>
                    <a:lnTo>
                      <a:pt x="984" y="192"/>
                    </a:lnTo>
                    <a:lnTo>
                      <a:pt x="1000" y="192"/>
                    </a:lnTo>
                    <a:lnTo>
                      <a:pt x="1017" y="191"/>
                    </a:lnTo>
                    <a:lnTo>
                      <a:pt x="1036" y="188"/>
                    </a:lnTo>
                    <a:lnTo>
                      <a:pt x="1054" y="186"/>
                    </a:lnTo>
                    <a:lnTo>
                      <a:pt x="1074" y="181"/>
                    </a:lnTo>
                    <a:lnTo>
                      <a:pt x="1095" y="176"/>
                    </a:lnTo>
                    <a:lnTo>
                      <a:pt x="1118" y="169"/>
                    </a:lnTo>
                    <a:lnTo>
                      <a:pt x="1166" y="153"/>
                    </a:lnTo>
                    <a:lnTo>
                      <a:pt x="1220" y="133"/>
                    </a:lnTo>
                    <a:lnTo>
                      <a:pt x="1279" y="110"/>
                    </a:lnTo>
                    <a:lnTo>
                      <a:pt x="1346" y="8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233880" y="3383280"/>
                <a:ext cx="170280" cy="516600"/>
              </a:xfrm>
              <a:custGeom>
                <a:avLst/>
                <a:gdLst/>
                <a:ahLst/>
                <a:rect l="l" t="t" r="r" b="b"/>
                <a:pathLst>
                  <a:path w="447" h="1361">
                    <a:moveTo>
                      <a:pt x="118" y="1355"/>
                    </a:moveTo>
                    <a:lnTo>
                      <a:pt x="116" y="1359"/>
                    </a:lnTo>
                    <a:lnTo>
                      <a:pt x="145" y="1329"/>
                    </a:lnTo>
                    <a:lnTo>
                      <a:pt x="174" y="1300"/>
                    </a:lnTo>
                    <a:lnTo>
                      <a:pt x="201" y="1271"/>
                    </a:lnTo>
                    <a:lnTo>
                      <a:pt x="227" y="1243"/>
                    </a:lnTo>
                    <a:lnTo>
                      <a:pt x="250" y="1215"/>
                    </a:lnTo>
                    <a:lnTo>
                      <a:pt x="272" y="1187"/>
                    </a:lnTo>
                    <a:lnTo>
                      <a:pt x="293" y="1160"/>
                    </a:lnTo>
                    <a:lnTo>
                      <a:pt x="313" y="1132"/>
                    </a:lnTo>
                    <a:lnTo>
                      <a:pt x="330" y="1105"/>
                    </a:lnTo>
                    <a:lnTo>
                      <a:pt x="346" y="1078"/>
                    </a:lnTo>
                    <a:lnTo>
                      <a:pt x="362" y="1051"/>
                    </a:lnTo>
                    <a:lnTo>
                      <a:pt x="375" y="1025"/>
                    </a:lnTo>
                    <a:lnTo>
                      <a:pt x="388" y="1000"/>
                    </a:lnTo>
                    <a:lnTo>
                      <a:pt x="399" y="974"/>
                    </a:lnTo>
                    <a:lnTo>
                      <a:pt x="409" y="948"/>
                    </a:lnTo>
                    <a:lnTo>
                      <a:pt x="417" y="923"/>
                    </a:lnTo>
                    <a:lnTo>
                      <a:pt x="425" y="898"/>
                    </a:lnTo>
                    <a:lnTo>
                      <a:pt x="432" y="873"/>
                    </a:lnTo>
                    <a:lnTo>
                      <a:pt x="437" y="850"/>
                    </a:lnTo>
                    <a:lnTo>
                      <a:pt x="441" y="825"/>
                    </a:lnTo>
                    <a:lnTo>
                      <a:pt x="444" y="802"/>
                    </a:lnTo>
                    <a:lnTo>
                      <a:pt x="446" y="777"/>
                    </a:lnTo>
                    <a:lnTo>
                      <a:pt x="447" y="754"/>
                    </a:lnTo>
                    <a:lnTo>
                      <a:pt x="447" y="731"/>
                    </a:lnTo>
                    <a:lnTo>
                      <a:pt x="446" y="708"/>
                    </a:lnTo>
                    <a:lnTo>
                      <a:pt x="444" y="686"/>
                    </a:lnTo>
                    <a:lnTo>
                      <a:pt x="442" y="664"/>
                    </a:lnTo>
                    <a:lnTo>
                      <a:pt x="438" y="642"/>
                    </a:lnTo>
                    <a:lnTo>
                      <a:pt x="433" y="620"/>
                    </a:lnTo>
                    <a:lnTo>
                      <a:pt x="428" y="597"/>
                    </a:lnTo>
                    <a:lnTo>
                      <a:pt x="422" y="577"/>
                    </a:lnTo>
                    <a:lnTo>
                      <a:pt x="416" y="556"/>
                    </a:lnTo>
                    <a:lnTo>
                      <a:pt x="409" y="535"/>
                    </a:lnTo>
                    <a:lnTo>
                      <a:pt x="400" y="514"/>
                    </a:lnTo>
                    <a:lnTo>
                      <a:pt x="391" y="494"/>
                    </a:lnTo>
                    <a:lnTo>
                      <a:pt x="383" y="474"/>
                    </a:lnTo>
                    <a:lnTo>
                      <a:pt x="363" y="435"/>
                    </a:lnTo>
                    <a:lnTo>
                      <a:pt x="341" y="396"/>
                    </a:lnTo>
                    <a:lnTo>
                      <a:pt x="316" y="359"/>
                    </a:lnTo>
                    <a:lnTo>
                      <a:pt x="292" y="322"/>
                    </a:lnTo>
                    <a:lnTo>
                      <a:pt x="266" y="286"/>
                    </a:lnTo>
                    <a:lnTo>
                      <a:pt x="238" y="251"/>
                    </a:lnTo>
                    <a:lnTo>
                      <a:pt x="209" y="217"/>
                    </a:lnTo>
                    <a:lnTo>
                      <a:pt x="181" y="184"/>
                    </a:lnTo>
                    <a:lnTo>
                      <a:pt x="153" y="151"/>
                    </a:lnTo>
                    <a:lnTo>
                      <a:pt x="123" y="119"/>
                    </a:lnTo>
                    <a:lnTo>
                      <a:pt x="67" y="57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53" y="71"/>
                    </a:lnTo>
                    <a:lnTo>
                      <a:pt x="110" y="131"/>
                    </a:lnTo>
                    <a:lnTo>
                      <a:pt x="139" y="163"/>
                    </a:lnTo>
                    <a:lnTo>
                      <a:pt x="168" y="196"/>
                    </a:lnTo>
                    <a:lnTo>
                      <a:pt x="196" y="228"/>
                    </a:lnTo>
                    <a:lnTo>
                      <a:pt x="224" y="263"/>
                    </a:lnTo>
                    <a:lnTo>
                      <a:pt x="251" y="297"/>
                    </a:lnTo>
                    <a:lnTo>
                      <a:pt x="277" y="333"/>
                    </a:lnTo>
                    <a:lnTo>
                      <a:pt x="302" y="369"/>
                    </a:lnTo>
                    <a:lnTo>
                      <a:pt x="325" y="406"/>
                    </a:lnTo>
                    <a:lnTo>
                      <a:pt x="346" y="444"/>
                    </a:lnTo>
                    <a:lnTo>
                      <a:pt x="366" y="482"/>
                    </a:lnTo>
                    <a:lnTo>
                      <a:pt x="375" y="501"/>
                    </a:lnTo>
                    <a:lnTo>
                      <a:pt x="383" y="521"/>
                    </a:lnTo>
                    <a:lnTo>
                      <a:pt x="391" y="541"/>
                    </a:lnTo>
                    <a:lnTo>
                      <a:pt x="399" y="562"/>
                    </a:lnTo>
                    <a:lnTo>
                      <a:pt x="405" y="581"/>
                    </a:lnTo>
                    <a:lnTo>
                      <a:pt x="410" y="602"/>
                    </a:lnTo>
                    <a:lnTo>
                      <a:pt x="416" y="623"/>
                    </a:lnTo>
                    <a:lnTo>
                      <a:pt x="420" y="644"/>
                    </a:lnTo>
                    <a:lnTo>
                      <a:pt x="423" y="666"/>
                    </a:lnTo>
                    <a:lnTo>
                      <a:pt x="426" y="687"/>
                    </a:lnTo>
                    <a:lnTo>
                      <a:pt x="427" y="709"/>
                    </a:lnTo>
                    <a:lnTo>
                      <a:pt x="428" y="731"/>
                    </a:lnTo>
                    <a:lnTo>
                      <a:pt x="428" y="754"/>
                    </a:lnTo>
                    <a:lnTo>
                      <a:pt x="427" y="776"/>
                    </a:lnTo>
                    <a:lnTo>
                      <a:pt x="426" y="799"/>
                    </a:lnTo>
                    <a:lnTo>
                      <a:pt x="422" y="823"/>
                    </a:lnTo>
                    <a:lnTo>
                      <a:pt x="419" y="846"/>
                    </a:lnTo>
                    <a:lnTo>
                      <a:pt x="414" y="869"/>
                    </a:lnTo>
                    <a:lnTo>
                      <a:pt x="407" y="893"/>
                    </a:lnTo>
                    <a:lnTo>
                      <a:pt x="400" y="917"/>
                    </a:lnTo>
                    <a:lnTo>
                      <a:pt x="391" y="942"/>
                    </a:lnTo>
                    <a:lnTo>
                      <a:pt x="382" y="966"/>
                    </a:lnTo>
                    <a:lnTo>
                      <a:pt x="371" y="992"/>
                    </a:lnTo>
                    <a:lnTo>
                      <a:pt x="358" y="1017"/>
                    </a:lnTo>
                    <a:lnTo>
                      <a:pt x="346" y="1043"/>
                    </a:lnTo>
                    <a:lnTo>
                      <a:pt x="330" y="1069"/>
                    </a:lnTo>
                    <a:lnTo>
                      <a:pt x="314" y="1094"/>
                    </a:lnTo>
                    <a:lnTo>
                      <a:pt x="297" y="1121"/>
                    </a:lnTo>
                    <a:lnTo>
                      <a:pt x="278" y="1148"/>
                    </a:lnTo>
                    <a:lnTo>
                      <a:pt x="257" y="1176"/>
                    </a:lnTo>
                    <a:lnTo>
                      <a:pt x="235" y="1203"/>
                    </a:lnTo>
                    <a:lnTo>
                      <a:pt x="212" y="1231"/>
                    </a:lnTo>
                    <a:lnTo>
                      <a:pt x="187" y="1259"/>
                    </a:lnTo>
                    <a:lnTo>
                      <a:pt x="160" y="1287"/>
                    </a:lnTo>
                    <a:lnTo>
                      <a:pt x="132" y="1316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2" y="1345"/>
                    </a:lnTo>
                    <a:lnTo>
                      <a:pt x="100" y="1349"/>
                    </a:lnTo>
                    <a:lnTo>
                      <a:pt x="100" y="1353"/>
                    </a:lnTo>
                    <a:lnTo>
                      <a:pt x="100" y="1355"/>
                    </a:lnTo>
                    <a:lnTo>
                      <a:pt x="102" y="1359"/>
                    </a:lnTo>
                    <a:lnTo>
                      <a:pt x="105" y="1360"/>
                    </a:lnTo>
                    <a:lnTo>
                      <a:pt x="109" y="1361"/>
                    </a:lnTo>
                    <a:lnTo>
                      <a:pt x="112" y="1361"/>
                    </a:lnTo>
                    <a:lnTo>
                      <a:pt x="116" y="1359"/>
                    </a:lnTo>
                    <a:lnTo>
                      <a:pt x="118" y="1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209400" y="3894840"/>
                <a:ext cx="69840" cy="353520"/>
              </a:xfrm>
              <a:custGeom>
                <a:avLst/>
                <a:gdLst/>
                <a:ahLst/>
                <a:rect l="l" t="t" r="r" b="b"/>
                <a:pathLst>
                  <a:path w="185" h="936">
                    <a:moveTo>
                      <a:pt x="11" y="936"/>
                    </a:moveTo>
                    <a:lnTo>
                      <a:pt x="18" y="930"/>
                    </a:lnTo>
                    <a:lnTo>
                      <a:pt x="37" y="857"/>
                    </a:lnTo>
                    <a:lnTo>
                      <a:pt x="51" y="788"/>
                    </a:lnTo>
                    <a:lnTo>
                      <a:pt x="65" y="722"/>
                    </a:lnTo>
                    <a:lnTo>
                      <a:pt x="76" y="658"/>
                    </a:lnTo>
                    <a:lnTo>
                      <a:pt x="85" y="595"/>
                    </a:lnTo>
                    <a:lnTo>
                      <a:pt x="93" y="535"/>
                    </a:lnTo>
                    <a:lnTo>
                      <a:pt x="99" y="477"/>
                    </a:lnTo>
                    <a:lnTo>
                      <a:pt x="105" y="421"/>
                    </a:lnTo>
                    <a:lnTo>
                      <a:pt x="113" y="365"/>
                    </a:lnTo>
                    <a:lnTo>
                      <a:pt x="119" y="312"/>
                    </a:lnTo>
                    <a:lnTo>
                      <a:pt x="126" y="259"/>
                    </a:lnTo>
                    <a:lnTo>
                      <a:pt x="134" y="208"/>
                    </a:lnTo>
                    <a:lnTo>
                      <a:pt x="144" y="156"/>
                    </a:lnTo>
                    <a:lnTo>
                      <a:pt x="155" y="106"/>
                    </a:lnTo>
                    <a:lnTo>
                      <a:pt x="162" y="81"/>
                    </a:lnTo>
                    <a:lnTo>
                      <a:pt x="168" y="57"/>
                    </a:lnTo>
                    <a:lnTo>
                      <a:pt x="177" y="31"/>
                    </a:lnTo>
                    <a:lnTo>
                      <a:pt x="185" y="6"/>
                    </a:lnTo>
                    <a:lnTo>
                      <a:pt x="167" y="0"/>
                    </a:lnTo>
                    <a:lnTo>
                      <a:pt x="158" y="26"/>
                    </a:lnTo>
                    <a:lnTo>
                      <a:pt x="151" y="50"/>
                    </a:lnTo>
                    <a:lnTo>
                      <a:pt x="144" y="76"/>
                    </a:lnTo>
                    <a:lnTo>
                      <a:pt x="137" y="102"/>
                    </a:lnTo>
                    <a:lnTo>
                      <a:pt x="125" y="152"/>
                    </a:lnTo>
                    <a:lnTo>
                      <a:pt x="115" y="204"/>
                    </a:lnTo>
                    <a:lnTo>
                      <a:pt x="108" y="257"/>
                    </a:lnTo>
                    <a:lnTo>
                      <a:pt x="101" y="310"/>
                    </a:lnTo>
                    <a:lnTo>
                      <a:pt x="94" y="364"/>
                    </a:lnTo>
                    <a:lnTo>
                      <a:pt x="87" y="418"/>
                    </a:lnTo>
                    <a:lnTo>
                      <a:pt x="81" y="475"/>
                    </a:lnTo>
                    <a:lnTo>
                      <a:pt x="75" y="533"/>
                    </a:lnTo>
                    <a:lnTo>
                      <a:pt x="66" y="593"/>
                    </a:lnTo>
                    <a:lnTo>
                      <a:pt x="58" y="654"/>
                    </a:lnTo>
                    <a:lnTo>
                      <a:pt x="46" y="718"/>
                    </a:lnTo>
                    <a:lnTo>
                      <a:pt x="34" y="785"/>
                    </a:lnTo>
                    <a:lnTo>
                      <a:pt x="18" y="854"/>
                    </a:lnTo>
                    <a:lnTo>
                      <a:pt x="0" y="925"/>
                    </a:lnTo>
                    <a:lnTo>
                      <a:pt x="7" y="918"/>
                    </a:lnTo>
                    <a:lnTo>
                      <a:pt x="0" y="925"/>
                    </a:lnTo>
                    <a:lnTo>
                      <a:pt x="0" y="929"/>
                    </a:lnTo>
                    <a:lnTo>
                      <a:pt x="1" y="932"/>
                    </a:lnTo>
                    <a:lnTo>
                      <a:pt x="3" y="935"/>
                    </a:lnTo>
                    <a:lnTo>
                      <a:pt x="7" y="936"/>
                    </a:lnTo>
                    <a:lnTo>
                      <a:pt x="10" y="936"/>
                    </a:lnTo>
                    <a:lnTo>
                      <a:pt x="13" y="935"/>
                    </a:lnTo>
                    <a:lnTo>
                      <a:pt x="16" y="934"/>
                    </a:lnTo>
                    <a:lnTo>
                      <a:pt x="18" y="930"/>
                    </a:lnTo>
                    <a:lnTo>
                      <a:pt x="11" y="9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772000" y="4191840"/>
                <a:ext cx="441000" cy="72000"/>
              </a:xfrm>
              <a:custGeom>
                <a:avLst/>
                <a:gdLst/>
                <a:ahLst/>
                <a:rect l="l" t="t" r="r" b="b"/>
                <a:pathLst>
                  <a:path w="1165" h="189">
                    <a:moveTo>
                      <a:pt x="0" y="10"/>
                    </a:moveTo>
                    <a:lnTo>
                      <a:pt x="5" y="18"/>
                    </a:lnTo>
                    <a:lnTo>
                      <a:pt x="44" y="36"/>
                    </a:lnTo>
                    <a:lnTo>
                      <a:pt x="82" y="55"/>
                    </a:lnTo>
                    <a:lnTo>
                      <a:pt x="121" y="71"/>
                    </a:lnTo>
                    <a:lnTo>
                      <a:pt x="159" y="85"/>
                    </a:lnTo>
                    <a:lnTo>
                      <a:pt x="197" y="99"/>
                    </a:lnTo>
                    <a:lnTo>
                      <a:pt x="235" y="112"/>
                    </a:lnTo>
                    <a:lnTo>
                      <a:pt x="272" y="123"/>
                    </a:lnTo>
                    <a:lnTo>
                      <a:pt x="309" y="135"/>
                    </a:lnTo>
                    <a:lnTo>
                      <a:pt x="346" y="143"/>
                    </a:lnTo>
                    <a:lnTo>
                      <a:pt x="383" y="152"/>
                    </a:lnTo>
                    <a:lnTo>
                      <a:pt x="419" y="159"/>
                    </a:lnTo>
                    <a:lnTo>
                      <a:pt x="456" y="167"/>
                    </a:lnTo>
                    <a:lnTo>
                      <a:pt x="493" y="171"/>
                    </a:lnTo>
                    <a:lnTo>
                      <a:pt x="529" y="176"/>
                    </a:lnTo>
                    <a:lnTo>
                      <a:pt x="565" y="180"/>
                    </a:lnTo>
                    <a:lnTo>
                      <a:pt x="601" y="184"/>
                    </a:lnTo>
                    <a:lnTo>
                      <a:pt x="637" y="186"/>
                    </a:lnTo>
                    <a:lnTo>
                      <a:pt x="673" y="187"/>
                    </a:lnTo>
                    <a:lnTo>
                      <a:pt x="708" y="189"/>
                    </a:lnTo>
                    <a:lnTo>
                      <a:pt x="744" y="189"/>
                    </a:lnTo>
                    <a:lnTo>
                      <a:pt x="814" y="187"/>
                    </a:lnTo>
                    <a:lnTo>
                      <a:pt x="884" y="184"/>
                    </a:lnTo>
                    <a:lnTo>
                      <a:pt x="954" y="179"/>
                    </a:lnTo>
                    <a:lnTo>
                      <a:pt x="1025" y="171"/>
                    </a:lnTo>
                    <a:lnTo>
                      <a:pt x="1095" y="163"/>
                    </a:lnTo>
                    <a:lnTo>
                      <a:pt x="1165" y="153"/>
                    </a:lnTo>
                    <a:lnTo>
                      <a:pt x="1161" y="135"/>
                    </a:lnTo>
                    <a:lnTo>
                      <a:pt x="1092" y="144"/>
                    </a:lnTo>
                    <a:lnTo>
                      <a:pt x="1022" y="153"/>
                    </a:lnTo>
                    <a:lnTo>
                      <a:pt x="953" y="160"/>
                    </a:lnTo>
                    <a:lnTo>
                      <a:pt x="883" y="165"/>
                    </a:lnTo>
                    <a:lnTo>
                      <a:pt x="814" y="169"/>
                    </a:lnTo>
                    <a:lnTo>
                      <a:pt x="743" y="170"/>
                    </a:lnTo>
                    <a:lnTo>
                      <a:pt x="708" y="170"/>
                    </a:lnTo>
                    <a:lnTo>
                      <a:pt x="673" y="169"/>
                    </a:lnTo>
                    <a:lnTo>
                      <a:pt x="638" y="168"/>
                    </a:lnTo>
                    <a:lnTo>
                      <a:pt x="603" y="165"/>
                    </a:lnTo>
                    <a:lnTo>
                      <a:pt x="567" y="162"/>
                    </a:lnTo>
                    <a:lnTo>
                      <a:pt x="531" y="158"/>
                    </a:lnTo>
                    <a:lnTo>
                      <a:pt x="496" y="153"/>
                    </a:lnTo>
                    <a:lnTo>
                      <a:pt x="459" y="148"/>
                    </a:lnTo>
                    <a:lnTo>
                      <a:pt x="423" y="141"/>
                    </a:lnTo>
                    <a:lnTo>
                      <a:pt x="387" y="133"/>
                    </a:lnTo>
                    <a:lnTo>
                      <a:pt x="351" y="126"/>
                    </a:lnTo>
                    <a:lnTo>
                      <a:pt x="314" y="116"/>
                    </a:lnTo>
                    <a:lnTo>
                      <a:pt x="277" y="106"/>
                    </a:lnTo>
                    <a:lnTo>
                      <a:pt x="240" y="94"/>
                    </a:lnTo>
                    <a:lnTo>
                      <a:pt x="203" y="82"/>
                    </a:lnTo>
                    <a:lnTo>
                      <a:pt x="165" y="68"/>
                    </a:lnTo>
                    <a:lnTo>
                      <a:pt x="128" y="53"/>
                    </a:lnTo>
                    <a:lnTo>
                      <a:pt x="90" y="37"/>
                    </a:lnTo>
                    <a:lnTo>
                      <a:pt x="52" y="20"/>
                    </a:lnTo>
                    <a:lnTo>
                      <a:pt x="14" y="0"/>
                    </a:lnTo>
                    <a:lnTo>
                      <a:pt x="19" y="8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5" y="1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723040" y="3854880"/>
                <a:ext cx="56520" cy="340560"/>
              </a:xfrm>
              <a:custGeom>
                <a:avLst/>
                <a:gdLst/>
                <a:ahLst/>
                <a:rect l="l" t="t" r="r" b="b"/>
                <a:pathLst>
                  <a:path w="147" h="901">
                    <a:moveTo>
                      <a:pt x="6" y="1"/>
                    </a:moveTo>
                    <a:lnTo>
                      <a:pt x="3" y="8"/>
                    </a:lnTo>
                    <a:lnTo>
                      <a:pt x="0" y="67"/>
                    </a:lnTo>
                    <a:lnTo>
                      <a:pt x="0" y="126"/>
                    </a:lnTo>
                    <a:lnTo>
                      <a:pt x="3" y="183"/>
                    </a:lnTo>
                    <a:lnTo>
                      <a:pt x="6" y="238"/>
                    </a:lnTo>
                    <a:lnTo>
                      <a:pt x="12" y="294"/>
                    </a:lnTo>
                    <a:lnTo>
                      <a:pt x="20" y="348"/>
                    </a:lnTo>
                    <a:lnTo>
                      <a:pt x="28" y="402"/>
                    </a:lnTo>
                    <a:lnTo>
                      <a:pt x="37" y="456"/>
                    </a:lnTo>
                    <a:lnTo>
                      <a:pt x="59" y="563"/>
                    </a:lnTo>
                    <a:lnTo>
                      <a:pt x="83" y="671"/>
                    </a:lnTo>
                    <a:lnTo>
                      <a:pt x="106" y="784"/>
                    </a:lnTo>
                    <a:lnTo>
                      <a:pt x="128" y="901"/>
                    </a:lnTo>
                    <a:lnTo>
                      <a:pt x="147" y="899"/>
                    </a:lnTo>
                    <a:lnTo>
                      <a:pt x="124" y="781"/>
                    </a:lnTo>
                    <a:lnTo>
                      <a:pt x="101" y="668"/>
                    </a:lnTo>
                    <a:lnTo>
                      <a:pt x="78" y="559"/>
                    </a:lnTo>
                    <a:lnTo>
                      <a:pt x="55" y="452"/>
                    </a:lnTo>
                    <a:lnTo>
                      <a:pt x="46" y="398"/>
                    </a:lnTo>
                    <a:lnTo>
                      <a:pt x="38" y="345"/>
                    </a:lnTo>
                    <a:lnTo>
                      <a:pt x="31" y="291"/>
                    </a:lnTo>
                    <a:lnTo>
                      <a:pt x="25" y="237"/>
                    </a:lnTo>
                    <a:lnTo>
                      <a:pt x="21" y="182"/>
                    </a:lnTo>
                    <a:lnTo>
                      <a:pt x="19" y="125"/>
                    </a:lnTo>
                    <a:lnTo>
                      <a:pt x="19" y="69"/>
                    </a:lnTo>
                    <a:lnTo>
                      <a:pt x="21" y="10"/>
                    </a:lnTo>
                    <a:lnTo>
                      <a:pt x="17" y="17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727000" y="3351240"/>
                <a:ext cx="291240" cy="509040"/>
              </a:xfrm>
              <a:custGeom>
                <a:avLst/>
                <a:gdLst/>
                <a:ahLst/>
                <a:rect l="l" t="t" r="r" b="b"/>
                <a:pathLst>
                  <a:path w="774" h="1346">
                    <a:moveTo>
                      <a:pt x="773" y="5"/>
                    </a:moveTo>
                    <a:lnTo>
                      <a:pt x="759" y="3"/>
                    </a:lnTo>
                    <a:lnTo>
                      <a:pt x="719" y="31"/>
                    </a:lnTo>
                    <a:lnTo>
                      <a:pt x="680" y="59"/>
                    </a:lnTo>
                    <a:lnTo>
                      <a:pt x="644" y="86"/>
                    </a:lnTo>
                    <a:lnTo>
                      <a:pt x="610" y="113"/>
                    </a:lnTo>
                    <a:lnTo>
                      <a:pt x="577" y="141"/>
                    </a:lnTo>
                    <a:lnTo>
                      <a:pt x="548" y="168"/>
                    </a:lnTo>
                    <a:lnTo>
                      <a:pt x="519" y="193"/>
                    </a:lnTo>
                    <a:lnTo>
                      <a:pt x="493" y="220"/>
                    </a:lnTo>
                    <a:lnTo>
                      <a:pt x="469" y="245"/>
                    </a:lnTo>
                    <a:lnTo>
                      <a:pt x="447" y="271"/>
                    </a:lnTo>
                    <a:lnTo>
                      <a:pt x="426" y="296"/>
                    </a:lnTo>
                    <a:lnTo>
                      <a:pt x="407" y="320"/>
                    </a:lnTo>
                    <a:lnTo>
                      <a:pt x="389" y="345"/>
                    </a:lnTo>
                    <a:lnTo>
                      <a:pt x="373" y="369"/>
                    </a:lnTo>
                    <a:lnTo>
                      <a:pt x="358" y="393"/>
                    </a:lnTo>
                    <a:lnTo>
                      <a:pt x="345" y="416"/>
                    </a:lnTo>
                    <a:lnTo>
                      <a:pt x="334" y="439"/>
                    </a:lnTo>
                    <a:lnTo>
                      <a:pt x="323" y="463"/>
                    </a:lnTo>
                    <a:lnTo>
                      <a:pt x="313" y="485"/>
                    </a:lnTo>
                    <a:lnTo>
                      <a:pt x="304" y="508"/>
                    </a:lnTo>
                    <a:lnTo>
                      <a:pt x="297" y="530"/>
                    </a:lnTo>
                    <a:lnTo>
                      <a:pt x="291" y="551"/>
                    </a:lnTo>
                    <a:lnTo>
                      <a:pt x="286" y="573"/>
                    </a:lnTo>
                    <a:lnTo>
                      <a:pt x="281" y="596"/>
                    </a:lnTo>
                    <a:lnTo>
                      <a:pt x="273" y="637"/>
                    </a:lnTo>
                    <a:lnTo>
                      <a:pt x="270" y="678"/>
                    </a:lnTo>
                    <a:lnTo>
                      <a:pt x="267" y="719"/>
                    </a:lnTo>
                    <a:lnTo>
                      <a:pt x="266" y="758"/>
                    </a:lnTo>
                    <a:lnTo>
                      <a:pt x="265" y="834"/>
                    </a:lnTo>
                    <a:lnTo>
                      <a:pt x="265" y="909"/>
                    </a:lnTo>
                    <a:lnTo>
                      <a:pt x="262" y="945"/>
                    </a:lnTo>
                    <a:lnTo>
                      <a:pt x="259" y="981"/>
                    </a:lnTo>
                    <a:lnTo>
                      <a:pt x="255" y="998"/>
                    </a:lnTo>
                    <a:lnTo>
                      <a:pt x="251" y="1016"/>
                    </a:lnTo>
                    <a:lnTo>
                      <a:pt x="248" y="1034"/>
                    </a:lnTo>
                    <a:lnTo>
                      <a:pt x="243" y="1051"/>
                    </a:lnTo>
                    <a:lnTo>
                      <a:pt x="236" y="1068"/>
                    </a:lnTo>
                    <a:lnTo>
                      <a:pt x="230" y="1085"/>
                    </a:lnTo>
                    <a:lnTo>
                      <a:pt x="222" y="1102"/>
                    </a:lnTo>
                    <a:lnTo>
                      <a:pt x="213" y="1120"/>
                    </a:lnTo>
                    <a:lnTo>
                      <a:pt x="203" y="1137"/>
                    </a:lnTo>
                    <a:lnTo>
                      <a:pt x="192" y="1154"/>
                    </a:lnTo>
                    <a:lnTo>
                      <a:pt x="180" y="1173"/>
                    </a:lnTo>
                    <a:lnTo>
                      <a:pt x="166" y="1190"/>
                    </a:lnTo>
                    <a:lnTo>
                      <a:pt x="152" y="1207"/>
                    </a:lnTo>
                    <a:lnTo>
                      <a:pt x="134" y="1224"/>
                    </a:lnTo>
                    <a:lnTo>
                      <a:pt x="117" y="1241"/>
                    </a:lnTo>
                    <a:lnTo>
                      <a:pt x="97" y="1259"/>
                    </a:lnTo>
                    <a:lnTo>
                      <a:pt x="75" y="1277"/>
                    </a:lnTo>
                    <a:lnTo>
                      <a:pt x="53" y="1294"/>
                    </a:lnTo>
                    <a:lnTo>
                      <a:pt x="27" y="1313"/>
                    </a:lnTo>
                    <a:lnTo>
                      <a:pt x="0" y="1330"/>
                    </a:lnTo>
                    <a:lnTo>
                      <a:pt x="11" y="1346"/>
                    </a:lnTo>
                    <a:lnTo>
                      <a:pt x="38" y="1327"/>
                    </a:lnTo>
                    <a:lnTo>
                      <a:pt x="63" y="1309"/>
                    </a:lnTo>
                    <a:lnTo>
                      <a:pt x="88" y="1292"/>
                    </a:lnTo>
                    <a:lnTo>
                      <a:pt x="110" y="1273"/>
                    </a:lnTo>
                    <a:lnTo>
                      <a:pt x="129" y="1255"/>
                    </a:lnTo>
                    <a:lnTo>
                      <a:pt x="148" y="1238"/>
                    </a:lnTo>
                    <a:lnTo>
                      <a:pt x="165" y="1219"/>
                    </a:lnTo>
                    <a:lnTo>
                      <a:pt x="181" y="1201"/>
                    </a:lnTo>
                    <a:lnTo>
                      <a:pt x="195" y="1184"/>
                    </a:lnTo>
                    <a:lnTo>
                      <a:pt x="208" y="1165"/>
                    </a:lnTo>
                    <a:lnTo>
                      <a:pt x="219" y="1147"/>
                    </a:lnTo>
                    <a:lnTo>
                      <a:pt x="230" y="1129"/>
                    </a:lnTo>
                    <a:lnTo>
                      <a:pt x="239" y="1111"/>
                    </a:lnTo>
                    <a:lnTo>
                      <a:pt x="248" y="1093"/>
                    </a:lnTo>
                    <a:lnTo>
                      <a:pt x="254" y="1074"/>
                    </a:lnTo>
                    <a:lnTo>
                      <a:pt x="260" y="1057"/>
                    </a:lnTo>
                    <a:lnTo>
                      <a:pt x="266" y="1038"/>
                    </a:lnTo>
                    <a:lnTo>
                      <a:pt x="270" y="1020"/>
                    </a:lnTo>
                    <a:lnTo>
                      <a:pt x="273" y="1002"/>
                    </a:lnTo>
                    <a:lnTo>
                      <a:pt x="276" y="983"/>
                    </a:lnTo>
                    <a:lnTo>
                      <a:pt x="281" y="946"/>
                    </a:lnTo>
                    <a:lnTo>
                      <a:pt x="283" y="909"/>
                    </a:lnTo>
                    <a:lnTo>
                      <a:pt x="284" y="835"/>
                    </a:lnTo>
                    <a:lnTo>
                      <a:pt x="284" y="758"/>
                    </a:lnTo>
                    <a:lnTo>
                      <a:pt x="286" y="720"/>
                    </a:lnTo>
                    <a:lnTo>
                      <a:pt x="288" y="679"/>
                    </a:lnTo>
                    <a:lnTo>
                      <a:pt x="292" y="640"/>
                    </a:lnTo>
                    <a:lnTo>
                      <a:pt x="299" y="598"/>
                    </a:lnTo>
                    <a:lnTo>
                      <a:pt x="303" y="577"/>
                    </a:lnTo>
                    <a:lnTo>
                      <a:pt x="309" y="556"/>
                    </a:lnTo>
                    <a:lnTo>
                      <a:pt x="315" y="535"/>
                    </a:lnTo>
                    <a:lnTo>
                      <a:pt x="323" y="514"/>
                    </a:lnTo>
                    <a:lnTo>
                      <a:pt x="330" y="492"/>
                    </a:lnTo>
                    <a:lnTo>
                      <a:pt x="340" y="470"/>
                    </a:lnTo>
                    <a:lnTo>
                      <a:pt x="350" y="448"/>
                    </a:lnTo>
                    <a:lnTo>
                      <a:pt x="362" y="425"/>
                    </a:lnTo>
                    <a:lnTo>
                      <a:pt x="374" y="403"/>
                    </a:lnTo>
                    <a:lnTo>
                      <a:pt x="389" y="379"/>
                    </a:lnTo>
                    <a:lnTo>
                      <a:pt x="405" y="356"/>
                    </a:lnTo>
                    <a:lnTo>
                      <a:pt x="422" y="331"/>
                    </a:lnTo>
                    <a:lnTo>
                      <a:pt x="441" y="308"/>
                    </a:lnTo>
                    <a:lnTo>
                      <a:pt x="460" y="283"/>
                    </a:lnTo>
                    <a:lnTo>
                      <a:pt x="482" y="259"/>
                    </a:lnTo>
                    <a:lnTo>
                      <a:pt x="507" y="233"/>
                    </a:lnTo>
                    <a:lnTo>
                      <a:pt x="533" y="207"/>
                    </a:lnTo>
                    <a:lnTo>
                      <a:pt x="560" y="181"/>
                    </a:lnTo>
                    <a:lnTo>
                      <a:pt x="589" y="155"/>
                    </a:lnTo>
                    <a:lnTo>
                      <a:pt x="621" y="128"/>
                    </a:lnTo>
                    <a:lnTo>
                      <a:pt x="656" y="101"/>
                    </a:lnTo>
                    <a:lnTo>
                      <a:pt x="692" y="74"/>
                    </a:lnTo>
                    <a:lnTo>
                      <a:pt x="730" y="46"/>
                    </a:lnTo>
                    <a:lnTo>
                      <a:pt x="770" y="18"/>
                    </a:lnTo>
                    <a:lnTo>
                      <a:pt x="757" y="15"/>
                    </a:lnTo>
                    <a:lnTo>
                      <a:pt x="770" y="18"/>
                    </a:lnTo>
                    <a:lnTo>
                      <a:pt x="773" y="15"/>
                    </a:lnTo>
                    <a:lnTo>
                      <a:pt x="774" y="11"/>
                    </a:lnTo>
                    <a:lnTo>
                      <a:pt x="774" y="8"/>
                    </a:lnTo>
                    <a:lnTo>
                      <a:pt x="773" y="5"/>
                    </a:lnTo>
                    <a:lnTo>
                      <a:pt x="770" y="2"/>
                    </a:lnTo>
                    <a:lnTo>
                      <a:pt x="767" y="0"/>
                    </a:lnTo>
                    <a:lnTo>
                      <a:pt x="764" y="0"/>
                    </a:lnTo>
                    <a:lnTo>
                      <a:pt x="759" y="3"/>
                    </a:lnTo>
                    <a:lnTo>
                      <a:pt x="773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012480" y="3353400"/>
                <a:ext cx="227160" cy="77040"/>
              </a:xfrm>
              <a:custGeom>
                <a:avLst/>
                <a:gdLst/>
                <a:ahLst/>
                <a:rect l="l" t="t" r="r" b="b"/>
                <a:pathLst>
                  <a:path w="602" h="207">
                    <a:moveTo>
                      <a:pt x="600" y="83"/>
                    </a:moveTo>
                    <a:lnTo>
                      <a:pt x="590" y="80"/>
                    </a:lnTo>
                    <a:lnTo>
                      <a:pt x="522" y="106"/>
                    </a:lnTo>
                    <a:lnTo>
                      <a:pt x="463" y="129"/>
                    </a:lnTo>
                    <a:lnTo>
                      <a:pt x="409" y="149"/>
                    </a:lnTo>
                    <a:lnTo>
                      <a:pt x="361" y="165"/>
                    </a:lnTo>
                    <a:lnTo>
                      <a:pt x="339" y="171"/>
                    </a:lnTo>
                    <a:lnTo>
                      <a:pt x="319" y="177"/>
                    </a:lnTo>
                    <a:lnTo>
                      <a:pt x="300" y="181"/>
                    </a:lnTo>
                    <a:lnTo>
                      <a:pt x="280" y="185"/>
                    </a:lnTo>
                    <a:lnTo>
                      <a:pt x="263" y="187"/>
                    </a:lnTo>
                    <a:lnTo>
                      <a:pt x="247" y="188"/>
                    </a:lnTo>
                    <a:lnTo>
                      <a:pt x="231" y="188"/>
                    </a:lnTo>
                    <a:lnTo>
                      <a:pt x="216" y="187"/>
                    </a:lnTo>
                    <a:lnTo>
                      <a:pt x="201" y="185"/>
                    </a:lnTo>
                    <a:lnTo>
                      <a:pt x="188" y="182"/>
                    </a:lnTo>
                    <a:lnTo>
                      <a:pt x="176" y="177"/>
                    </a:lnTo>
                    <a:lnTo>
                      <a:pt x="163" y="172"/>
                    </a:lnTo>
                    <a:lnTo>
                      <a:pt x="151" y="165"/>
                    </a:lnTo>
                    <a:lnTo>
                      <a:pt x="139" y="158"/>
                    </a:lnTo>
                    <a:lnTo>
                      <a:pt x="126" y="148"/>
                    </a:lnTo>
                    <a:lnTo>
                      <a:pt x="115" y="137"/>
                    </a:lnTo>
                    <a:lnTo>
                      <a:pt x="103" y="126"/>
                    </a:lnTo>
                    <a:lnTo>
                      <a:pt x="91" y="112"/>
                    </a:lnTo>
                    <a:lnTo>
                      <a:pt x="80" y="97"/>
                    </a:lnTo>
                    <a:lnTo>
                      <a:pt x="67" y="80"/>
                    </a:lnTo>
                    <a:lnTo>
                      <a:pt x="43" y="43"/>
                    </a:lnTo>
                    <a:lnTo>
                      <a:pt x="16" y="0"/>
                    </a:lnTo>
                    <a:lnTo>
                      <a:pt x="0" y="10"/>
                    </a:lnTo>
                    <a:lnTo>
                      <a:pt x="27" y="53"/>
                    </a:lnTo>
                    <a:lnTo>
                      <a:pt x="53" y="91"/>
                    </a:lnTo>
                    <a:lnTo>
                      <a:pt x="65" y="108"/>
                    </a:lnTo>
                    <a:lnTo>
                      <a:pt x="77" y="123"/>
                    </a:lnTo>
                    <a:lnTo>
                      <a:pt x="89" y="138"/>
                    </a:lnTo>
                    <a:lnTo>
                      <a:pt x="102" y="150"/>
                    </a:lnTo>
                    <a:lnTo>
                      <a:pt x="115" y="163"/>
                    </a:lnTo>
                    <a:lnTo>
                      <a:pt x="128" y="172"/>
                    </a:lnTo>
                    <a:lnTo>
                      <a:pt x="141" y="181"/>
                    </a:lnTo>
                    <a:lnTo>
                      <a:pt x="155" y="188"/>
                    </a:lnTo>
                    <a:lnTo>
                      <a:pt x="168" y="195"/>
                    </a:lnTo>
                    <a:lnTo>
                      <a:pt x="183" y="199"/>
                    </a:lnTo>
                    <a:lnTo>
                      <a:pt x="199" y="203"/>
                    </a:lnTo>
                    <a:lnTo>
                      <a:pt x="214" y="206"/>
                    </a:lnTo>
                    <a:lnTo>
                      <a:pt x="231" y="207"/>
                    </a:lnTo>
                    <a:lnTo>
                      <a:pt x="247" y="207"/>
                    </a:lnTo>
                    <a:lnTo>
                      <a:pt x="265" y="206"/>
                    </a:lnTo>
                    <a:lnTo>
                      <a:pt x="284" y="203"/>
                    </a:lnTo>
                    <a:lnTo>
                      <a:pt x="303" y="199"/>
                    </a:lnTo>
                    <a:lnTo>
                      <a:pt x="323" y="195"/>
                    </a:lnTo>
                    <a:lnTo>
                      <a:pt x="344" y="190"/>
                    </a:lnTo>
                    <a:lnTo>
                      <a:pt x="367" y="182"/>
                    </a:lnTo>
                    <a:lnTo>
                      <a:pt x="415" y="166"/>
                    </a:lnTo>
                    <a:lnTo>
                      <a:pt x="470" y="147"/>
                    </a:lnTo>
                    <a:lnTo>
                      <a:pt x="530" y="123"/>
                    </a:lnTo>
                    <a:lnTo>
                      <a:pt x="596" y="97"/>
                    </a:lnTo>
                    <a:lnTo>
                      <a:pt x="586" y="95"/>
                    </a:lnTo>
                    <a:lnTo>
                      <a:pt x="596" y="97"/>
                    </a:lnTo>
                    <a:lnTo>
                      <a:pt x="600" y="95"/>
                    </a:lnTo>
                    <a:lnTo>
                      <a:pt x="602" y="91"/>
                    </a:lnTo>
                    <a:lnTo>
                      <a:pt x="602" y="89"/>
                    </a:lnTo>
                    <a:lnTo>
                      <a:pt x="601" y="85"/>
                    </a:lnTo>
                    <a:lnTo>
                      <a:pt x="600" y="83"/>
                    </a:lnTo>
                    <a:lnTo>
                      <a:pt x="597" y="80"/>
                    </a:lnTo>
                    <a:lnTo>
                      <a:pt x="594" y="79"/>
                    </a:lnTo>
                    <a:lnTo>
                      <a:pt x="590" y="80"/>
                    </a:lnTo>
                    <a:lnTo>
                      <a:pt x="600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2410920" y="360864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409120" y="3578400"/>
                <a:ext cx="154800" cy="234720"/>
              </a:xfrm>
              <a:custGeom>
                <a:avLst/>
                <a:gdLst/>
                <a:ahLst/>
                <a:rect l="l" t="t" r="r" b="b"/>
                <a:pathLst>
                  <a:path w="407" h="621">
                    <a:moveTo>
                      <a:pt x="407" y="617"/>
                    </a:moveTo>
                    <a:lnTo>
                      <a:pt x="400" y="583"/>
                    </a:lnTo>
                    <a:lnTo>
                      <a:pt x="391" y="549"/>
                    </a:lnTo>
                    <a:lnTo>
                      <a:pt x="381" y="515"/>
                    </a:lnTo>
                    <a:lnTo>
                      <a:pt x="369" y="480"/>
                    </a:lnTo>
                    <a:lnTo>
                      <a:pt x="357" y="447"/>
                    </a:lnTo>
                    <a:lnTo>
                      <a:pt x="343" y="413"/>
                    </a:lnTo>
                    <a:lnTo>
                      <a:pt x="328" y="380"/>
                    </a:lnTo>
                    <a:lnTo>
                      <a:pt x="314" y="348"/>
                    </a:lnTo>
                    <a:lnTo>
                      <a:pt x="298" y="314"/>
                    </a:lnTo>
                    <a:lnTo>
                      <a:pt x="280" y="284"/>
                    </a:lnTo>
                    <a:lnTo>
                      <a:pt x="263" y="253"/>
                    </a:lnTo>
                    <a:lnTo>
                      <a:pt x="246" y="223"/>
                    </a:lnTo>
                    <a:lnTo>
                      <a:pt x="229" y="195"/>
                    </a:lnTo>
                    <a:lnTo>
                      <a:pt x="212" y="169"/>
                    </a:lnTo>
                    <a:lnTo>
                      <a:pt x="193" y="143"/>
                    </a:lnTo>
                    <a:lnTo>
                      <a:pt x="176" y="120"/>
                    </a:lnTo>
                    <a:lnTo>
                      <a:pt x="159" y="98"/>
                    </a:lnTo>
                    <a:lnTo>
                      <a:pt x="143" y="77"/>
                    </a:lnTo>
                    <a:lnTo>
                      <a:pt x="125" y="60"/>
                    </a:lnTo>
                    <a:lnTo>
                      <a:pt x="111" y="44"/>
                    </a:lnTo>
                    <a:lnTo>
                      <a:pt x="95" y="29"/>
                    </a:lnTo>
                    <a:lnTo>
                      <a:pt x="81" y="18"/>
                    </a:lnTo>
                    <a:lnTo>
                      <a:pt x="68" y="9"/>
                    </a:lnTo>
                    <a:lnTo>
                      <a:pt x="54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8" y="4"/>
                    </a:lnTo>
                    <a:lnTo>
                      <a:pt x="13" y="8"/>
                    </a:lnTo>
                    <a:lnTo>
                      <a:pt x="10" y="13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9"/>
                    </a:lnTo>
                    <a:lnTo>
                      <a:pt x="1" y="81"/>
                    </a:lnTo>
                    <a:lnTo>
                      <a:pt x="20" y="78"/>
                    </a:lnTo>
                    <a:lnTo>
                      <a:pt x="18" y="59"/>
                    </a:lnTo>
                    <a:lnTo>
                      <a:pt x="20" y="43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3" y="27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9" y="18"/>
                    </a:lnTo>
                    <a:lnTo>
                      <a:pt x="43" y="19"/>
                    </a:lnTo>
                    <a:lnTo>
                      <a:pt x="47" y="20"/>
                    </a:lnTo>
                    <a:lnTo>
                      <a:pt x="58" y="25"/>
                    </a:lnTo>
                    <a:lnTo>
                      <a:pt x="70" y="33"/>
                    </a:lnTo>
                    <a:lnTo>
                      <a:pt x="84" y="44"/>
                    </a:lnTo>
                    <a:lnTo>
                      <a:pt x="97" y="56"/>
                    </a:lnTo>
                    <a:lnTo>
                      <a:pt x="112" y="72"/>
                    </a:lnTo>
                    <a:lnTo>
                      <a:pt x="128" y="89"/>
                    </a:lnTo>
                    <a:lnTo>
                      <a:pt x="145" y="109"/>
                    </a:lnTo>
                    <a:lnTo>
                      <a:pt x="161" y="131"/>
                    </a:lnTo>
                    <a:lnTo>
                      <a:pt x="178" y="155"/>
                    </a:lnTo>
                    <a:lnTo>
                      <a:pt x="196" y="179"/>
                    </a:lnTo>
                    <a:lnTo>
                      <a:pt x="213" y="206"/>
                    </a:lnTo>
                    <a:lnTo>
                      <a:pt x="230" y="233"/>
                    </a:lnTo>
                    <a:lnTo>
                      <a:pt x="247" y="263"/>
                    </a:lnTo>
                    <a:lnTo>
                      <a:pt x="264" y="292"/>
                    </a:lnTo>
                    <a:lnTo>
                      <a:pt x="280" y="323"/>
                    </a:lnTo>
                    <a:lnTo>
                      <a:pt x="296" y="355"/>
                    </a:lnTo>
                    <a:lnTo>
                      <a:pt x="311" y="387"/>
                    </a:lnTo>
                    <a:lnTo>
                      <a:pt x="326" y="420"/>
                    </a:lnTo>
                    <a:lnTo>
                      <a:pt x="339" y="453"/>
                    </a:lnTo>
                    <a:lnTo>
                      <a:pt x="352" y="487"/>
                    </a:lnTo>
                    <a:lnTo>
                      <a:pt x="363" y="521"/>
                    </a:lnTo>
                    <a:lnTo>
                      <a:pt x="374" y="554"/>
                    </a:lnTo>
                    <a:lnTo>
                      <a:pt x="382" y="587"/>
                    </a:lnTo>
                    <a:lnTo>
                      <a:pt x="390" y="621"/>
                    </a:lnTo>
                    <a:lnTo>
                      <a:pt x="407" y="6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556720" y="381132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4"/>
                    </a:moveTo>
                    <a:lnTo>
                      <a:pt x="1" y="7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2208240" y="363168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3"/>
                    </a:moveTo>
                    <a:lnTo>
                      <a:pt x="17" y="10"/>
                    </a:lnTo>
                    <a:lnTo>
                      <a:pt x="17" y="6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2162880" y="3633120"/>
                <a:ext cx="50760" cy="92520"/>
              </a:xfrm>
              <a:custGeom>
                <a:avLst/>
                <a:gdLst/>
                <a:ahLst/>
                <a:rect l="l" t="t" r="r" b="b"/>
                <a:pathLst>
                  <a:path w="135" h="243">
                    <a:moveTo>
                      <a:pt x="0" y="238"/>
                    </a:moveTo>
                    <a:lnTo>
                      <a:pt x="17" y="243"/>
                    </a:lnTo>
                    <a:lnTo>
                      <a:pt x="135" y="8"/>
                    </a:lnTo>
                    <a:lnTo>
                      <a:pt x="119" y="0"/>
                    </a:lnTo>
                    <a:lnTo>
                      <a:pt x="1" y="23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162880" y="3724200"/>
                <a:ext cx="62640" cy="130320"/>
              </a:xfrm>
              <a:custGeom>
                <a:avLst/>
                <a:gdLst/>
                <a:ahLst/>
                <a:rect l="l" t="t" r="r" b="b"/>
                <a:pathLst>
                  <a:path w="168" h="345">
                    <a:moveTo>
                      <a:pt x="168" y="326"/>
                    </a:moveTo>
                    <a:lnTo>
                      <a:pt x="155" y="323"/>
                    </a:lnTo>
                    <a:lnTo>
                      <a:pt x="141" y="318"/>
                    </a:lnTo>
                    <a:lnTo>
                      <a:pt x="129" y="312"/>
                    </a:lnTo>
                    <a:lnTo>
                      <a:pt x="118" y="303"/>
                    </a:lnTo>
                    <a:lnTo>
                      <a:pt x="108" y="294"/>
                    </a:lnTo>
                    <a:lnTo>
                      <a:pt x="98" y="286"/>
                    </a:lnTo>
                    <a:lnTo>
                      <a:pt x="88" y="275"/>
                    </a:lnTo>
                    <a:lnTo>
                      <a:pt x="80" y="264"/>
                    </a:lnTo>
                    <a:lnTo>
                      <a:pt x="72" y="251"/>
                    </a:lnTo>
                    <a:lnTo>
                      <a:pt x="65" y="238"/>
                    </a:lnTo>
                    <a:lnTo>
                      <a:pt x="59" y="224"/>
                    </a:lnTo>
                    <a:lnTo>
                      <a:pt x="53" y="211"/>
                    </a:lnTo>
                    <a:lnTo>
                      <a:pt x="43" y="182"/>
                    </a:lnTo>
                    <a:lnTo>
                      <a:pt x="36" y="153"/>
                    </a:lnTo>
                    <a:lnTo>
                      <a:pt x="29" y="125"/>
                    </a:lnTo>
                    <a:lnTo>
                      <a:pt x="24" y="96"/>
                    </a:lnTo>
                    <a:lnTo>
                      <a:pt x="22" y="70"/>
                    </a:lnTo>
                    <a:lnTo>
                      <a:pt x="20" y="48"/>
                    </a:lnTo>
                    <a:lnTo>
                      <a:pt x="18" y="14"/>
                    </a:lnTo>
                    <a:lnTo>
                      <a:pt x="18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48"/>
                    </a:lnTo>
                    <a:lnTo>
                      <a:pt x="4" y="73"/>
                    </a:lnTo>
                    <a:lnTo>
                      <a:pt x="6" y="99"/>
                    </a:lnTo>
                    <a:lnTo>
                      <a:pt x="11" y="127"/>
                    </a:lnTo>
                    <a:lnTo>
                      <a:pt x="17" y="158"/>
                    </a:lnTo>
                    <a:lnTo>
                      <a:pt x="26" y="187"/>
                    </a:lnTo>
                    <a:lnTo>
                      <a:pt x="36" y="218"/>
                    </a:lnTo>
                    <a:lnTo>
                      <a:pt x="42" y="233"/>
                    </a:lnTo>
                    <a:lnTo>
                      <a:pt x="49" y="246"/>
                    </a:lnTo>
                    <a:lnTo>
                      <a:pt x="56" y="260"/>
                    </a:lnTo>
                    <a:lnTo>
                      <a:pt x="65" y="273"/>
                    </a:lnTo>
                    <a:lnTo>
                      <a:pt x="74" y="286"/>
                    </a:lnTo>
                    <a:lnTo>
                      <a:pt x="85" y="298"/>
                    </a:lnTo>
                    <a:lnTo>
                      <a:pt x="96" y="309"/>
                    </a:lnTo>
                    <a:lnTo>
                      <a:pt x="107" y="319"/>
                    </a:lnTo>
                    <a:lnTo>
                      <a:pt x="120" y="327"/>
                    </a:lnTo>
                    <a:lnTo>
                      <a:pt x="134" y="334"/>
                    </a:lnTo>
                    <a:lnTo>
                      <a:pt x="149" y="340"/>
                    </a:lnTo>
                    <a:lnTo>
                      <a:pt x="165" y="345"/>
                    </a:lnTo>
                    <a:lnTo>
                      <a:pt x="168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225520" y="384732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19"/>
                    </a:moveTo>
                    <a:lnTo>
                      <a:pt x="5" y="19"/>
                    </a:lnTo>
                    <a:lnTo>
                      <a:pt x="7" y="17"/>
                    </a:lnTo>
                    <a:lnTo>
                      <a:pt x="10" y="14"/>
                    </a:lnTo>
                    <a:lnTo>
                      <a:pt x="11" y="11"/>
                    </a:lnTo>
                    <a:lnTo>
                      <a:pt x="11" y="8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213000" y="361260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6"/>
                    </a:moveTo>
                    <a:lnTo>
                      <a:pt x="16" y="2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213000" y="3616560"/>
                <a:ext cx="43200" cy="94320"/>
              </a:xfrm>
              <a:custGeom>
                <a:avLst/>
                <a:gdLst/>
                <a:ahLst/>
                <a:rect l="l" t="t" r="r" b="b"/>
                <a:pathLst>
                  <a:path w="113" h="252">
                    <a:moveTo>
                      <a:pt x="113" y="250"/>
                    </a:moveTo>
                    <a:lnTo>
                      <a:pt x="112" y="24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95" y="252"/>
                    </a:lnTo>
                    <a:lnTo>
                      <a:pt x="113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78800" y="3709440"/>
                <a:ext cx="77400" cy="122760"/>
              </a:xfrm>
              <a:custGeom>
                <a:avLst/>
                <a:gdLst/>
                <a:ahLst/>
                <a:rect l="l" t="t" r="r" b="b"/>
                <a:pathLst>
                  <a:path w="203" h="325">
                    <a:moveTo>
                      <a:pt x="1" y="325"/>
                    </a:moveTo>
                    <a:lnTo>
                      <a:pt x="19" y="323"/>
                    </a:lnTo>
                    <a:lnTo>
                      <a:pt x="33" y="319"/>
                    </a:lnTo>
                    <a:lnTo>
                      <a:pt x="48" y="313"/>
                    </a:lnTo>
                    <a:lnTo>
                      <a:pt x="62" y="305"/>
                    </a:lnTo>
                    <a:lnTo>
                      <a:pt x="74" y="297"/>
                    </a:lnTo>
                    <a:lnTo>
                      <a:pt x="86" y="287"/>
                    </a:lnTo>
                    <a:lnTo>
                      <a:pt x="97" y="277"/>
                    </a:lnTo>
                    <a:lnTo>
                      <a:pt x="107" y="265"/>
                    </a:lnTo>
                    <a:lnTo>
                      <a:pt x="117" y="253"/>
                    </a:lnTo>
                    <a:lnTo>
                      <a:pt x="127" y="240"/>
                    </a:lnTo>
                    <a:lnTo>
                      <a:pt x="134" y="227"/>
                    </a:lnTo>
                    <a:lnTo>
                      <a:pt x="143" y="213"/>
                    </a:lnTo>
                    <a:lnTo>
                      <a:pt x="156" y="184"/>
                    </a:lnTo>
                    <a:lnTo>
                      <a:pt x="168" y="155"/>
                    </a:lnTo>
                    <a:lnTo>
                      <a:pt x="177" y="126"/>
                    </a:lnTo>
                    <a:lnTo>
                      <a:pt x="185" y="98"/>
                    </a:lnTo>
                    <a:lnTo>
                      <a:pt x="191" y="72"/>
                    </a:lnTo>
                    <a:lnTo>
                      <a:pt x="196" y="50"/>
                    </a:lnTo>
                    <a:lnTo>
                      <a:pt x="202" y="15"/>
                    </a:lnTo>
                    <a:lnTo>
                      <a:pt x="203" y="2"/>
                    </a:lnTo>
                    <a:lnTo>
                      <a:pt x="185" y="0"/>
                    </a:lnTo>
                    <a:lnTo>
                      <a:pt x="183" y="13"/>
                    </a:lnTo>
                    <a:lnTo>
                      <a:pt x="177" y="46"/>
                    </a:lnTo>
                    <a:lnTo>
                      <a:pt x="174" y="68"/>
                    </a:lnTo>
                    <a:lnTo>
                      <a:pt x="168" y="94"/>
                    </a:lnTo>
                    <a:lnTo>
                      <a:pt x="160" y="121"/>
                    </a:lnTo>
                    <a:lnTo>
                      <a:pt x="150" y="148"/>
                    </a:lnTo>
                    <a:lnTo>
                      <a:pt x="139" y="176"/>
                    </a:lnTo>
                    <a:lnTo>
                      <a:pt x="126" y="205"/>
                    </a:lnTo>
                    <a:lnTo>
                      <a:pt x="118" y="217"/>
                    </a:lnTo>
                    <a:lnTo>
                      <a:pt x="111" y="230"/>
                    </a:lnTo>
                    <a:lnTo>
                      <a:pt x="102" y="241"/>
                    </a:lnTo>
                    <a:lnTo>
                      <a:pt x="94" y="254"/>
                    </a:lnTo>
                    <a:lnTo>
                      <a:pt x="84" y="264"/>
                    </a:lnTo>
                    <a:lnTo>
                      <a:pt x="74" y="273"/>
                    </a:lnTo>
                    <a:lnTo>
                      <a:pt x="63" y="282"/>
                    </a:lnTo>
                    <a:lnTo>
                      <a:pt x="52" y="289"/>
                    </a:lnTo>
                    <a:lnTo>
                      <a:pt x="40" y="296"/>
                    </a:lnTo>
                    <a:lnTo>
                      <a:pt x="27" y="302"/>
                    </a:lnTo>
                    <a:lnTo>
                      <a:pt x="14" y="305"/>
                    </a:lnTo>
                    <a:lnTo>
                      <a:pt x="0" y="308"/>
                    </a:lnTo>
                    <a:lnTo>
                      <a:pt x="1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177000" y="382644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5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6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2838600" y="376596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1"/>
                    </a:move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5" y="1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2840400" y="3765960"/>
                <a:ext cx="437040" cy="132480"/>
              </a:xfrm>
              <a:custGeom>
                <a:avLst/>
                <a:gdLst/>
                <a:ahLst/>
                <a:rect l="l" t="t" r="r" b="b"/>
                <a:pathLst>
                  <a:path w="1155" h="347">
                    <a:moveTo>
                      <a:pt x="1144" y="249"/>
                    </a:moveTo>
                    <a:lnTo>
                      <a:pt x="1125" y="261"/>
                    </a:lnTo>
                    <a:lnTo>
                      <a:pt x="1107" y="272"/>
                    </a:lnTo>
                    <a:lnTo>
                      <a:pt x="1087" y="282"/>
                    </a:lnTo>
                    <a:lnTo>
                      <a:pt x="1067" y="292"/>
                    </a:lnTo>
                    <a:lnTo>
                      <a:pt x="1048" y="299"/>
                    </a:lnTo>
                    <a:lnTo>
                      <a:pt x="1027" y="307"/>
                    </a:lnTo>
                    <a:lnTo>
                      <a:pt x="1007" y="313"/>
                    </a:lnTo>
                    <a:lnTo>
                      <a:pt x="985" y="318"/>
                    </a:lnTo>
                    <a:lnTo>
                      <a:pt x="964" y="322"/>
                    </a:lnTo>
                    <a:lnTo>
                      <a:pt x="942" y="324"/>
                    </a:lnTo>
                    <a:lnTo>
                      <a:pt x="920" y="326"/>
                    </a:lnTo>
                    <a:lnTo>
                      <a:pt x="898" y="329"/>
                    </a:lnTo>
                    <a:lnTo>
                      <a:pt x="874" y="329"/>
                    </a:lnTo>
                    <a:lnTo>
                      <a:pt x="852" y="329"/>
                    </a:lnTo>
                    <a:lnTo>
                      <a:pt x="829" y="328"/>
                    </a:lnTo>
                    <a:lnTo>
                      <a:pt x="805" y="326"/>
                    </a:lnTo>
                    <a:lnTo>
                      <a:pt x="782" y="324"/>
                    </a:lnTo>
                    <a:lnTo>
                      <a:pt x="759" y="322"/>
                    </a:lnTo>
                    <a:lnTo>
                      <a:pt x="735" y="318"/>
                    </a:lnTo>
                    <a:lnTo>
                      <a:pt x="712" y="314"/>
                    </a:lnTo>
                    <a:lnTo>
                      <a:pt x="664" y="304"/>
                    </a:lnTo>
                    <a:lnTo>
                      <a:pt x="617" y="292"/>
                    </a:lnTo>
                    <a:lnTo>
                      <a:pt x="571" y="278"/>
                    </a:lnTo>
                    <a:lnTo>
                      <a:pt x="524" y="262"/>
                    </a:lnTo>
                    <a:lnTo>
                      <a:pt x="478" y="246"/>
                    </a:lnTo>
                    <a:lnTo>
                      <a:pt x="433" y="229"/>
                    </a:lnTo>
                    <a:lnTo>
                      <a:pt x="390" y="211"/>
                    </a:lnTo>
                    <a:lnTo>
                      <a:pt x="347" y="191"/>
                    </a:lnTo>
                    <a:lnTo>
                      <a:pt x="306" y="171"/>
                    </a:lnTo>
                    <a:lnTo>
                      <a:pt x="268" y="153"/>
                    </a:lnTo>
                    <a:lnTo>
                      <a:pt x="195" y="115"/>
                    </a:lnTo>
                    <a:lnTo>
                      <a:pt x="133" y="79"/>
                    </a:lnTo>
                    <a:lnTo>
                      <a:pt x="43" y="23"/>
                    </a:lnTo>
                    <a:lnTo>
                      <a:pt x="10" y="0"/>
                    </a:lnTo>
                    <a:lnTo>
                      <a:pt x="0" y="16"/>
                    </a:lnTo>
                    <a:lnTo>
                      <a:pt x="33" y="39"/>
                    </a:lnTo>
                    <a:lnTo>
                      <a:pt x="124" y="95"/>
                    </a:lnTo>
                    <a:lnTo>
                      <a:pt x="187" y="131"/>
                    </a:lnTo>
                    <a:lnTo>
                      <a:pt x="259" y="169"/>
                    </a:lnTo>
                    <a:lnTo>
                      <a:pt x="299" y="189"/>
                    </a:lnTo>
                    <a:lnTo>
                      <a:pt x="339" y="208"/>
                    </a:lnTo>
                    <a:lnTo>
                      <a:pt x="382" y="227"/>
                    </a:lnTo>
                    <a:lnTo>
                      <a:pt x="427" y="246"/>
                    </a:lnTo>
                    <a:lnTo>
                      <a:pt x="471" y="264"/>
                    </a:lnTo>
                    <a:lnTo>
                      <a:pt x="518" y="281"/>
                    </a:lnTo>
                    <a:lnTo>
                      <a:pt x="564" y="296"/>
                    </a:lnTo>
                    <a:lnTo>
                      <a:pt x="612" y="310"/>
                    </a:lnTo>
                    <a:lnTo>
                      <a:pt x="660" y="322"/>
                    </a:lnTo>
                    <a:lnTo>
                      <a:pt x="708" y="333"/>
                    </a:lnTo>
                    <a:lnTo>
                      <a:pt x="732" y="336"/>
                    </a:lnTo>
                    <a:lnTo>
                      <a:pt x="756" y="340"/>
                    </a:lnTo>
                    <a:lnTo>
                      <a:pt x="780" y="342"/>
                    </a:lnTo>
                    <a:lnTo>
                      <a:pt x="804" y="345"/>
                    </a:lnTo>
                    <a:lnTo>
                      <a:pt x="828" y="346"/>
                    </a:lnTo>
                    <a:lnTo>
                      <a:pt x="851" y="347"/>
                    </a:lnTo>
                    <a:lnTo>
                      <a:pt x="874" y="347"/>
                    </a:lnTo>
                    <a:lnTo>
                      <a:pt x="898" y="347"/>
                    </a:lnTo>
                    <a:lnTo>
                      <a:pt x="921" y="345"/>
                    </a:lnTo>
                    <a:lnTo>
                      <a:pt x="944" y="342"/>
                    </a:lnTo>
                    <a:lnTo>
                      <a:pt x="967" y="340"/>
                    </a:lnTo>
                    <a:lnTo>
                      <a:pt x="989" y="335"/>
                    </a:lnTo>
                    <a:lnTo>
                      <a:pt x="1011" y="330"/>
                    </a:lnTo>
                    <a:lnTo>
                      <a:pt x="1033" y="324"/>
                    </a:lnTo>
                    <a:lnTo>
                      <a:pt x="1054" y="317"/>
                    </a:lnTo>
                    <a:lnTo>
                      <a:pt x="1075" y="309"/>
                    </a:lnTo>
                    <a:lnTo>
                      <a:pt x="1096" y="299"/>
                    </a:lnTo>
                    <a:lnTo>
                      <a:pt x="1115" y="290"/>
                    </a:lnTo>
                    <a:lnTo>
                      <a:pt x="1135" y="277"/>
                    </a:lnTo>
                    <a:lnTo>
                      <a:pt x="1155" y="265"/>
                    </a:lnTo>
                    <a:lnTo>
                      <a:pt x="1144" y="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273480" y="38602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1" y="17"/>
                    </a:moveTo>
                    <a:lnTo>
                      <a:pt x="13" y="13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212000" y="4314960"/>
                <a:ext cx="501480" cy="115200"/>
              </a:xfrm>
              <a:custGeom>
                <a:avLst/>
                <a:gdLst/>
                <a:ahLst/>
                <a:rect l="l" t="t" r="r" b="b"/>
                <a:pathLst>
                  <a:path w="1325" h="306">
                    <a:moveTo>
                      <a:pt x="348" y="65"/>
                    </a:moveTo>
                    <a:lnTo>
                      <a:pt x="317" y="59"/>
                    </a:lnTo>
                    <a:lnTo>
                      <a:pt x="286" y="56"/>
                    </a:lnTo>
                    <a:lnTo>
                      <a:pt x="257" y="54"/>
                    </a:lnTo>
                    <a:lnTo>
                      <a:pt x="229" y="54"/>
                    </a:lnTo>
                    <a:lnTo>
                      <a:pt x="203" y="58"/>
                    </a:lnTo>
                    <a:lnTo>
                      <a:pt x="179" y="63"/>
                    </a:lnTo>
                    <a:lnTo>
                      <a:pt x="166" y="67"/>
                    </a:lnTo>
                    <a:lnTo>
                      <a:pt x="154" y="70"/>
                    </a:lnTo>
                    <a:lnTo>
                      <a:pt x="143" y="75"/>
                    </a:lnTo>
                    <a:lnTo>
                      <a:pt x="132" y="80"/>
                    </a:lnTo>
                    <a:lnTo>
                      <a:pt x="121" y="86"/>
                    </a:lnTo>
                    <a:lnTo>
                      <a:pt x="111" y="92"/>
                    </a:lnTo>
                    <a:lnTo>
                      <a:pt x="101" y="99"/>
                    </a:lnTo>
                    <a:lnTo>
                      <a:pt x="91" y="106"/>
                    </a:lnTo>
                    <a:lnTo>
                      <a:pt x="82" y="115"/>
                    </a:lnTo>
                    <a:lnTo>
                      <a:pt x="73" y="123"/>
                    </a:lnTo>
                    <a:lnTo>
                      <a:pt x="64" y="132"/>
                    </a:lnTo>
                    <a:lnTo>
                      <a:pt x="56" y="142"/>
                    </a:lnTo>
                    <a:lnTo>
                      <a:pt x="40" y="164"/>
                    </a:lnTo>
                    <a:lnTo>
                      <a:pt x="25" y="187"/>
                    </a:lnTo>
                    <a:lnTo>
                      <a:pt x="11" y="213"/>
                    </a:lnTo>
                    <a:lnTo>
                      <a:pt x="0" y="241"/>
                    </a:lnTo>
                    <a:lnTo>
                      <a:pt x="57" y="244"/>
                    </a:lnTo>
                    <a:lnTo>
                      <a:pt x="114" y="245"/>
                    </a:lnTo>
                    <a:lnTo>
                      <a:pt x="170" y="247"/>
                    </a:lnTo>
                    <a:lnTo>
                      <a:pt x="228" y="250"/>
                    </a:lnTo>
                    <a:lnTo>
                      <a:pt x="285" y="254"/>
                    </a:lnTo>
                    <a:lnTo>
                      <a:pt x="342" y="256"/>
                    </a:lnTo>
                    <a:lnTo>
                      <a:pt x="400" y="258"/>
                    </a:lnTo>
                    <a:lnTo>
                      <a:pt x="457" y="262"/>
                    </a:lnTo>
                    <a:lnTo>
                      <a:pt x="471" y="249"/>
                    </a:lnTo>
                    <a:lnTo>
                      <a:pt x="485" y="235"/>
                    </a:lnTo>
                    <a:lnTo>
                      <a:pt x="499" y="220"/>
                    </a:lnTo>
                    <a:lnTo>
                      <a:pt x="512" y="207"/>
                    </a:lnTo>
                    <a:lnTo>
                      <a:pt x="527" y="193"/>
                    </a:lnTo>
                    <a:lnTo>
                      <a:pt x="540" y="180"/>
                    </a:lnTo>
                    <a:lnTo>
                      <a:pt x="553" y="166"/>
                    </a:lnTo>
                    <a:lnTo>
                      <a:pt x="566" y="153"/>
                    </a:lnTo>
                    <a:lnTo>
                      <a:pt x="569" y="161"/>
                    </a:lnTo>
                    <a:lnTo>
                      <a:pt x="572" y="170"/>
                    </a:lnTo>
                    <a:lnTo>
                      <a:pt x="577" y="179"/>
                    </a:lnTo>
                    <a:lnTo>
                      <a:pt x="582" y="186"/>
                    </a:lnTo>
                    <a:lnTo>
                      <a:pt x="594" y="202"/>
                    </a:lnTo>
                    <a:lnTo>
                      <a:pt x="609" y="217"/>
                    </a:lnTo>
                    <a:lnTo>
                      <a:pt x="623" y="233"/>
                    </a:lnTo>
                    <a:lnTo>
                      <a:pt x="635" y="249"/>
                    </a:lnTo>
                    <a:lnTo>
                      <a:pt x="641" y="257"/>
                    </a:lnTo>
                    <a:lnTo>
                      <a:pt x="646" y="267"/>
                    </a:lnTo>
                    <a:lnTo>
                      <a:pt x="651" y="276"/>
                    </a:lnTo>
                    <a:lnTo>
                      <a:pt x="655" y="286"/>
                    </a:lnTo>
                    <a:lnTo>
                      <a:pt x="732" y="287"/>
                    </a:lnTo>
                    <a:lnTo>
                      <a:pt x="815" y="289"/>
                    </a:lnTo>
                    <a:lnTo>
                      <a:pt x="901" y="292"/>
                    </a:lnTo>
                    <a:lnTo>
                      <a:pt x="988" y="297"/>
                    </a:lnTo>
                    <a:lnTo>
                      <a:pt x="1077" y="300"/>
                    </a:lnTo>
                    <a:lnTo>
                      <a:pt x="1163" y="303"/>
                    </a:lnTo>
                    <a:lnTo>
                      <a:pt x="1246" y="305"/>
                    </a:lnTo>
                    <a:lnTo>
                      <a:pt x="1325" y="306"/>
                    </a:lnTo>
                    <a:lnTo>
                      <a:pt x="1278" y="265"/>
                    </a:lnTo>
                    <a:lnTo>
                      <a:pt x="1230" y="222"/>
                    </a:lnTo>
                    <a:lnTo>
                      <a:pt x="1206" y="199"/>
                    </a:lnTo>
                    <a:lnTo>
                      <a:pt x="1180" y="177"/>
                    </a:lnTo>
                    <a:lnTo>
                      <a:pt x="1153" y="155"/>
                    </a:lnTo>
                    <a:lnTo>
                      <a:pt x="1126" y="134"/>
                    </a:lnTo>
                    <a:lnTo>
                      <a:pt x="1096" y="113"/>
                    </a:lnTo>
                    <a:lnTo>
                      <a:pt x="1067" y="94"/>
                    </a:lnTo>
                    <a:lnTo>
                      <a:pt x="1035" y="74"/>
                    </a:lnTo>
                    <a:lnTo>
                      <a:pt x="1002" y="57"/>
                    </a:lnTo>
                    <a:lnTo>
                      <a:pt x="966" y="40"/>
                    </a:lnTo>
                    <a:lnTo>
                      <a:pt x="929" y="25"/>
                    </a:lnTo>
                    <a:lnTo>
                      <a:pt x="890" y="11"/>
                    </a:lnTo>
                    <a:lnTo>
                      <a:pt x="848" y="0"/>
                    </a:lnTo>
                    <a:lnTo>
                      <a:pt x="785" y="9"/>
                    </a:lnTo>
                    <a:lnTo>
                      <a:pt x="722" y="17"/>
                    </a:lnTo>
                    <a:lnTo>
                      <a:pt x="660" y="25"/>
                    </a:lnTo>
                    <a:lnTo>
                      <a:pt x="598" y="33"/>
                    </a:lnTo>
                    <a:lnTo>
                      <a:pt x="535" y="42"/>
                    </a:lnTo>
                    <a:lnTo>
                      <a:pt x="473" y="49"/>
                    </a:lnTo>
                    <a:lnTo>
                      <a:pt x="411" y="57"/>
                    </a:lnTo>
                    <a:lnTo>
                      <a:pt x="348" y="65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206600" y="4330080"/>
                <a:ext cx="137880" cy="81360"/>
              </a:xfrm>
              <a:custGeom>
                <a:avLst/>
                <a:gdLst/>
                <a:ahLst/>
                <a:rect l="l" t="t" r="r" b="b"/>
                <a:pathLst>
                  <a:path w="365" h="216">
                    <a:moveTo>
                      <a:pt x="14" y="188"/>
                    </a:moveTo>
                    <a:lnTo>
                      <a:pt x="27" y="206"/>
                    </a:lnTo>
                    <a:lnTo>
                      <a:pt x="39" y="179"/>
                    </a:lnTo>
                    <a:lnTo>
                      <a:pt x="51" y="155"/>
                    </a:lnTo>
                    <a:lnTo>
                      <a:pt x="65" y="131"/>
                    </a:lnTo>
                    <a:lnTo>
                      <a:pt x="81" y="110"/>
                    </a:lnTo>
                    <a:lnTo>
                      <a:pt x="88" y="102"/>
                    </a:lnTo>
                    <a:lnTo>
                      <a:pt x="97" y="93"/>
                    </a:lnTo>
                    <a:lnTo>
                      <a:pt x="105" y="84"/>
                    </a:lnTo>
                    <a:lnTo>
                      <a:pt x="114" y="77"/>
                    </a:lnTo>
                    <a:lnTo>
                      <a:pt x="123" y="71"/>
                    </a:lnTo>
                    <a:lnTo>
                      <a:pt x="132" y="64"/>
                    </a:lnTo>
                    <a:lnTo>
                      <a:pt x="142" y="59"/>
                    </a:lnTo>
                    <a:lnTo>
                      <a:pt x="152" y="52"/>
                    </a:lnTo>
                    <a:lnTo>
                      <a:pt x="163" y="48"/>
                    </a:lnTo>
                    <a:lnTo>
                      <a:pt x="173" y="44"/>
                    </a:lnTo>
                    <a:lnTo>
                      <a:pt x="184" y="40"/>
                    </a:lnTo>
                    <a:lnTo>
                      <a:pt x="195" y="36"/>
                    </a:lnTo>
                    <a:lnTo>
                      <a:pt x="220" y="32"/>
                    </a:lnTo>
                    <a:lnTo>
                      <a:pt x="244" y="29"/>
                    </a:lnTo>
                    <a:lnTo>
                      <a:pt x="271" y="28"/>
                    </a:lnTo>
                    <a:lnTo>
                      <a:pt x="299" y="29"/>
                    </a:lnTo>
                    <a:lnTo>
                      <a:pt x="328" y="33"/>
                    </a:lnTo>
                    <a:lnTo>
                      <a:pt x="359" y="39"/>
                    </a:lnTo>
                    <a:lnTo>
                      <a:pt x="365" y="12"/>
                    </a:lnTo>
                    <a:lnTo>
                      <a:pt x="333" y="6"/>
                    </a:lnTo>
                    <a:lnTo>
                      <a:pt x="301" y="2"/>
                    </a:lnTo>
                    <a:lnTo>
                      <a:pt x="271" y="0"/>
                    </a:lnTo>
                    <a:lnTo>
                      <a:pt x="243" y="1"/>
                    </a:lnTo>
                    <a:lnTo>
                      <a:pt x="215" y="4"/>
                    </a:lnTo>
                    <a:lnTo>
                      <a:pt x="189" y="9"/>
                    </a:lnTo>
                    <a:lnTo>
                      <a:pt x="177" y="13"/>
                    </a:lnTo>
                    <a:lnTo>
                      <a:pt x="163" y="18"/>
                    </a:lnTo>
                    <a:lnTo>
                      <a:pt x="152" y="23"/>
                    </a:lnTo>
                    <a:lnTo>
                      <a:pt x="140" y="28"/>
                    </a:lnTo>
                    <a:lnTo>
                      <a:pt x="129" y="34"/>
                    </a:lnTo>
                    <a:lnTo>
                      <a:pt x="118" y="40"/>
                    </a:lnTo>
                    <a:lnTo>
                      <a:pt x="107" y="48"/>
                    </a:lnTo>
                    <a:lnTo>
                      <a:pt x="97" y="56"/>
                    </a:lnTo>
                    <a:lnTo>
                      <a:pt x="87" y="65"/>
                    </a:lnTo>
                    <a:lnTo>
                      <a:pt x="77" y="73"/>
                    </a:lnTo>
                    <a:lnTo>
                      <a:pt x="67" y="83"/>
                    </a:lnTo>
                    <a:lnTo>
                      <a:pt x="59" y="93"/>
                    </a:lnTo>
                    <a:lnTo>
                      <a:pt x="43" y="115"/>
                    </a:lnTo>
                    <a:lnTo>
                      <a:pt x="27" y="140"/>
                    </a:lnTo>
                    <a:lnTo>
                      <a:pt x="13" y="167"/>
                    </a:lnTo>
                    <a:lnTo>
                      <a:pt x="1" y="196"/>
                    </a:lnTo>
                    <a:lnTo>
                      <a:pt x="13" y="216"/>
                    </a:lnTo>
                    <a:lnTo>
                      <a:pt x="1" y="196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5"/>
                    </a:lnTo>
                    <a:lnTo>
                      <a:pt x="1" y="207"/>
                    </a:lnTo>
                    <a:lnTo>
                      <a:pt x="5" y="212"/>
                    </a:lnTo>
                    <a:lnTo>
                      <a:pt x="10" y="215"/>
                    </a:lnTo>
                    <a:lnTo>
                      <a:pt x="14" y="216"/>
                    </a:lnTo>
                    <a:lnTo>
                      <a:pt x="19" y="215"/>
                    </a:lnTo>
                    <a:lnTo>
                      <a:pt x="22" y="214"/>
                    </a:lnTo>
                    <a:lnTo>
                      <a:pt x="23" y="212"/>
                    </a:lnTo>
                    <a:lnTo>
                      <a:pt x="25" y="210"/>
                    </a:lnTo>
                    <a:lnTo>
                      <a:pt x="27" y="206"/>
                    </a:lnTo>
                    <a:lnTo>
                      <a:pt x="14" y="1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212000" y="4399920"/>
                <a:ext cx="177840" cy="18720"/>
              </a:xfrm>
              <a:custGeom>
                <a:avLst/>
                <a:gdLst/>
                <a:ahLst/>
                <a:rect l="l" t="t" r="r" b="b"/>
                <a:pathLst>
                  <a:path w="472" h="48">
                    <a:moveTo>
                      <a:pt x="448" y="24"/>
                    </a:moveTo>
                    <a:lnTo>
                      <a:pt x="459" y="21"/>
                    </a:lnTo>
                    <a:lnTo>
                      <a:pt x="401" y="17"/>
                    </a:lnTo>
                    <a:lnTo>
                      <a:pt x="345" y="14"/>
                    </a:lnTo>
                    <a:lnTo>
                      <a:pt x="287" y="11"/>
                    </a:lnTo>
                    <a:lnTo>
                      <a:pt x="229" y="8"/>
                    </a:lnTo>
                    <a:lnTo>
                      <a:pt x="172" y="6"/>
                    </a:lnTo>
                    <a:lnTo>
                      <a:pt x="115" y="3"/>
                    </a:lnTo>
                    <a:lnTo>
                      <a:pt x="58" y="1"/>
                    </a:lnTo>
                    <a:lnTo>
                      <a:pt x="1" y="0"/>
                    </a:lnTo>
                    <a:lnTo>
                      <a:pt x="0" y="28"/>
                    </a:lnTo>
                    <a:lnTo>
                      <a:pt x="57" y="29"/>
                    </a:lnTo>
                    <a:lnTo>
                      <a:pt x="113" y="32"/>
                    </a:lnTo>
                    <a:lnTo>
                      <a:pt x="171" y="34"/>
                    </a:lnTo>
                    <a:lnTo>
                      <a:pt x="228" y="37"/>
                    </a:lnTo>
                    <a:lnTo>
                      <a:pt x="286" y="39"/>
                    </a:lnTo>
                    <a:lnTo>
                      <a:pt x="342" y="42"/>
                    </a:lnTo>
                    <a:lnTo>
                      <a:pt x="400" y="45"/>
                    </a:lnTo>
                    <a:lnTo>
                      <a:pt x="458" y="48"/>
                    </a:lnTo>
                    <a:lnTo>
                      <a:pt x="468" y="44"/>
                    </a:lnTo>
                    <a:lnTo>
                      <a:pt x="458" y="48"/>
                    </a:lnTo>
                    <a:lnTo>
                      <a:pt x="460" y="48"/>
                    </a:lnTo>
                    <a:lnTo>
                      <a:pt x="464" y="48"/>
                    </a:lnTo>
                    <a:lnTo>
                      <a:pt x="466" y="46"/>
                    </a:lnTo>
                    <a:lnTo>
                      <a:pt x="468" y="44"/>
                    </a:lnTo>
                    <a:lnTo>
                      <a:pt x="471" y="40"/>
                    </a:lnTo>
                    <a:lnTo>
                      <a:pt x="472" y="35"/>
                    </a:lnTo>
                    <a:lnTo>
                      <a:pt x="471" y="30"/>
                    </a:lnTo>
                    <a:lnTo>
                      <a:pt x="469" y="26"/>
                    </a:lnTo>
                    <a:lnTo>
                      <a:pt x="465" y="22"/>
                    </a:lnTo>
                    <a:lnTo>
                      <a:pt x="459" y="21"/>
                    </a:lnTo>
                    <a:lnTo>
                      <a:pt x="4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380840" y="4367880"/>
                <a:ext cx="50760" cy="49320"/>
              </a:xfrm>
              <a:custGeom>
                <a:avLst/>
                <a:gdLst/>
                <a:ahLst/>
                <a:rect l="l" t="t" r="r" b="b"/>
                <a:pathLst>
                  <a:path w="134" h="133">
                    <a:moveTo>
                      <a:pt x="133" y="11"/>
                    </a:moveTo>
                    <a:lnTo>
                      <a:pt x="109" y="4"/>
                    </a:lnTo>
                    <a:lnTo>
                      <a:pt x="96" y="17"/>
                    </a:lnTo>
                    <a:lnTo>
                      <a:pt x="84" y="31"/>
                    </a:lnTo>
                    <a:lnTo>
                      <a:pt x="70" y="44"/>
                    </a:lnTo>
                    <a:lnTo>
                      <a:pt x="55" y="58"/>
                    </a:lnTo>
                    <a:lnTo>
                      <a:pt x="42" y="72"/>
                    </a:lnTo>
                    <a:lnTo>
                      <a:pt x="28" y="86"/>
                    </a:lnTo>
                    <a:lnTo>
                      <a:pt x="15" y="100"/>
                    </a:lnTo>
                    <a:lnTo>
                      <a:pt x="0" y="113"/>
                    </a:lnTo>
                    <a:lnTo>
                      <a:pt x="20" y="133"/>
                    </a:lnTo>
                    <a:lnTo>
                      <a:pt x="34" y="119"/>
                    </a:lnTo>
                    <a:lnTo>
                      <a:pt x="48" y="106"/>
                    </a:lnTo>
                    <a:lnTo>
                      <a:pt x="61" y="91"/>
                    </a:lnTo>
                    <a:lnTo>
                      <a:pt x="75" y="78"/>
                    </a:lnTo>
                    <a:lnTo>
                      <a:pt x="90" y="64"/>
                    </a:lnTo>
                    <a:lnTo>
                      <a:pt x="103" y="51"/>
                    </a:lnTo>
                    <a:lnTo>
                      <a:pt x="115" y="37"/>
                    </a:lnTo>
                    <a:lnTo>
                      <a:pt x="129" y="24"/>
                    </a:lnTo>
                    <a:lnTo>
                      <a:pt x="106" y="17"/>
                    </a:lnTo>
                    <a:lnTo>
                      <a:pt x="129" y="24"/>
                    </a:lnTo>
                    <a:lnTo>
                      <a:pt x="131" y="21"/>
                    </a:lnTo>
                    <a:lnTo>
                      <a:pt x="133" y="19"/>
                    </a:lnTo>
                    <a:lnTo>
                      <a:pt x="134" y="16"/>
                    </a:lnTo>
                    <a:lnTo>
                      <a:pt x="134" y="14"/>
                    </a:lnTo>
                    <a:lnTo>
                      <a:pt x="133" y="9"/>
                    </a:lnTo>
                    <a:lnTo>
                      <a:pt x="129" y="4"/>
                    </a:lnTo>
                    <a:lnTo>
                      <a:pt x="125" y="1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1"/>
                    </a:lnTo>
                    <a:lnTo>
                      <a:pt x="112" y="3"/>
                    </a:lnTo>
                    <a:lnTo>
                      <a:pt x="109" y="4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422240" y="4371840"/>
                <a:ext cx="43200" cy="56520"/>
              </a:xfrm>
              <a:custGeom>
                <a:avLst/>
                <a:gdLst/>
                <a:ahLst/>
                <a:rect l="l" t="t" r="r" b="b"/>
                <a:pathLst>
                  <a:path w="115" h="149">
                    <a:moveTo>
                      <a:pt x="102" y="122"/>
                    </a:moveTo>
                    <a:lnTo>
                      <a:pt x="115" y="132"/>
                    </a:lnTo>
                    <a:lnTo>
                      <a:pt x="110" y="121"/>
                    </a:lnTo>
                    <a:lnTo>
                      <a:pt x="105" y="110"/>
                    </a:lnTo>
                    <a:lnTo>
                      <a:pt x="101" y="100"/>
                    </a:lnTo>
                    <a:lnTo>
                      <a:pt x="93" y="91"/>
                    </a:lnTo>
                    <a:lnTo>
                      <a:pt x="80" y="74"/>
                    </a:lnTo>
                    <a:lnTo>
                      <a:pt x="66" y="58"/>
                    </a:lnTo>
                    <a:lnTo>
                      <a:pt x="53" y="42"/>
                    </a:lnTo>
                    <a:lnTo>
                      <a:pt x="40" y="27"/>
                    </a:lnTo>
                    <a:lnTo>
                      <a:pt x="37" y="21"/>
                    </a:lnTo>
                    <a:lnTo>
                      <a:pt x="32" y="14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7" y="26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32" y="61"/>
                    </a:lnTo>
                    <a:lnTo>
                      <a:pt x="45" y="77"/>
                    </a:lnTo>
                    <a:lnTo>
                      <a:pt x="59" y="91"/>
                    </a:lnTo>
                    <a:lnTo>
                      <a:pt x="71" y="107"/>
                    </a:lnTo>
                    <a:lnTo>
                      <a:pt x="77" y="115"/>
                    </a:lnTo>
                    <a:lnTo>
                      <a:pt x="81" y="123"/>
                    </a:lnTo>
                    <a:lnTo>
                      <a:pt x="86" y="131"/>
                    </a:lnTo>
                    <a:lnTo>
                      <a:pt x="88" y="139"/>
                    </a:lnTo>
                    <a:lnTo>
                      <a:pt x="102" y="149"/>
                    </a:lnTo>
                    <a:lnTo>
                      <a:pt x="88" y="139"/>
                    </a:lnTo>
                    <a:lnTo>
                      <a:pt x="89" y="143"/>
                    </a:lnTo>
                    <a:lnTo>
                      <a:pt x="91" y="145"/>
                    </a:lnTo>
                    <a:lnTo>
                      <a:pt x="93" y="147"/>
                    </a:lnTo>
                    <a:lnTo>
                      <a:pt x="96" y="148"/>
                    </a:lnTo>
                    <a:lnTo>
                      <a:pt x="101" y="149"/>
                    </a:lnTo>
                    <a:lnTo>
                      <a:pt x="105" y="149"/>
                    </a:lnTo>
                    <a:lnTo>
                      <a:pt x="110" y="147"/>
                    </a:lnTo>
                    <a:lnTo>
                      <a:pt x="114" y="143"/>
                    </a:lnTo>
                    <a:lnTo>
                      <a:pt x="115" y="138"/>
                    </a:lnTo>
                    <a:lnTo>
                      <a:pt x="115" y="132"/>
                    </a:lnTo>
                    <a:lnTo>
                      <a:pt x="102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460040" y="4417200"/>
                <a:ext cx="258840" cy="18720"/>
              </a:xfrm>
              <a:custGeom>
                <a:avLst/>
                <a:gdLst/>
                <a:ahLst/>
                <a:rect l="l" t="t" r="r" b="b"/>
                <a:pathLst>
                  <a:path w="685" h="48">
                    <a:moveTo>
                      <a:pt x="661" y="46"/>
                    </a:moveTo>
                    <a:lnTo>
                      <a:pt x="670" y="21"/>
                    </a:lnTo>
                    <a:lnTo>
                      <a:pt x="591" y="20"/>
                    </a:lnTo>
                    <a:lnTo>
                      <a:pt x="508" y="17"/>
                    </a:lnTo>
                    <a:lnTo>
                      <a:pt x="422" y="14"/>
                    </a:lnTo>
                    <a:lnTo>
                      <a:pt x="334" y="10"/>
                    </a:lnTo>
                    <a:lnTo>
                      <a:pt x="246" y="6"/>
                    </a:lnTo>
                    <a:lnTo>
                      <a:pt x="161" y="2"/>
                    </a:lnTo>
                    <a:lnTo>
                      <a:pt x="77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77" y="28"/>
                    </a:lnTo>
                    <a:lnTo>
                      <a:pt x="160" y="31"/>
                    </a:lnTo>
                    <a:lnTo>
                      <a:pt x="246" y="34"/>
                    </a:lnTo>
                    <a:lnTo>
                      <a:pt x="333" y="38"/>
                    </a:lnTo>
                    <a:lnTo>
                      <a:pt x="420" y="42"/>
                    </a:lnTo>
                    <a:lnTo>
                      <a:pt x="508" y="46"/>
                    </a:lnTo>
                    <a:lnTo>
                      <a:pt x="591" y="48"/>
                    </a:lnTo>
                    <a:lnTo>
                      <a:pt x="670" y="48"/>
                    </a:lnTo>
                    <a:lnTo>
                      <a:pt x="680" y="23"/>
                    </a:lnTo>
                    <a:lnTo>
                      <a:pt x="670" y="48"/>
                    </a:lnTo>
                    <a:lnTo>
                      <a:pt x="674" y="48"/>
                    </a:lnTo>
                    <a:lnTo>
                      <a:pt x="676" y="47"/>
                    </a:lnTo>
                    <a:lnTo>
                      <a:pt x="679" y="46"/>
                    </a:lnTo>
                    <a:lnTo>
                      <a:pt x="681" y="44"/>
                    </a:lnTo>
                    <a:lnTo>
                      <a:pt x="684" y="39"/>
                    </a:lnTo>
                    <a:lnTo>
                      <a:pt x="685" y="34"/>
                    </a:lnTo>
                    <a:lnTo>
                      <a:pt x="684" y="30"/>
                    </a:lnTo>
                    <a:lnTo>
                      <a:pt x="681" y="25"/>
                    </a:lnTo>
                    <a:lnTo>
                      <a:pt x="679" y="23"/>
                    </a:lnTo>
                    <a:lnTo>
                      <a:pt x="676" y="22"/>
                    </a:lnTo>
                    <a:lnTo>
                      <a:pt x="674" y="21"/>
                    </a:lnTo>
                    <a:lnTo>
                      <a:pt x="670" y="21"/>
                    </a:lnTo>
                    <a:lnTo>
                      <a:pt x="661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528440" y="4309560"/>
                <a:ext cx="189000" cy="124920"/>
              </a:xfrm>
              <a:custGeom>
                <a:avLst/>
                <a:gdLst/>
                <a:ahLst/>
                <a:rect l="l" t="t" r="r" b="b"/>
                <a:pathLst>
                  <a:path w="502" h="331">
                    <a:moveTo>
                      <a:pt x="16" y="27"/>
                    </a:moveTo>
                    <a:lnTo>
                      <a:pt x="11" y="27"/>
                    </a:lnTo>
                    <a:lnTo>
                      <a:pt x="52" y="38"/>
                    </a:lnTo>
                    <a:lnTo>
                      <a:pt x="91" y="51"/>
                    </a:lnTo>
                    <a:lnTo>
                      <a:pt x="128" y="66"/>
                    </a:lnTo>
                    <a:lnTo>
                      <a:pt x="162" y="82"/>
                    </a:lnTo>
                    <a:lnTo>
                      <a:pt x="194" y="99"/>
                    </a:lnTo>
                    <a:lnTo>
                      <a:pt x="226" y="118"/>
                    </a:lnTo>
                    <a:lnTo>
                      <a:pt x="256" y="137"/>
                    </a:lnTo>
                    <a:lnTo>
                      <a:pt x="284" y="158"/>
                    </a:lnTo>
                    <a:lnTo>
                      <a:pt x="311" y="179"/>
                    </a:lnTo>
                    <a:lnTo>
                      <a:pt x="338" y="201"/>
                    </a:lnTo>
                    <a:lnTo>
                      <a:pt x="363" y="222"/>
                    </a:lnTo>
                    <a:lnTo>
                      <a:pt x="388" y="244"/>
                    </a:lnTo>
                    <a:lnTo>
                      <a:pt x="437" y="289"/>
                    </a:lnTo>
                    <a:lnTo>
                      <a:pt x="483" y="331"/>
                    </a:lnTo>
                    <a:lnTo>
                      <a:pt x="502" y="308"/>
                    </a:lnTo>
                    <a:lnTo>
                      <a:pt x="455" y="268"/>
                    </a:lnTo>
                    <a:lnTo>
                      <a:pt x="406" y="224"/>
                    </a:lnTo>
                    <a:lnTo>
                      <a:pt x="381" y="201"/>
                    </a:lnTo>
                    <a:lnTo>
                      <a:pt x="356" y="179"/>
                    </a:lnTo>
                    <a:lnTo>
                      <a:pt x="328" y="157"/>
                    </a:lnTo>
                    <a:lnTo>
                      <a:pt x="301" y="136"/>
                    </a:lnTo>
                    <a:lnTo>
                      <a:pt x="272" y="115"/>
                    </a:lnTo>
                    <a:lnTo>
                      <a:pt x="241" y="94"/>
                    </a:lnTo>
                    <a:lnTo>
                      <a:pt x="209" y="75"/>
                    </a:lnTo>
                    <a:lnTo>
                      <a:pt x="175" y="57"/>
                    </a:lnTo>
                    <a:lnTo>
                      <a:pt x="139" y="40"/>
                    </a:lnTo>
                    <a:lnTo>
                      <a:pt x="101" y="24"/>
                    </a:lnTo>
                    <a:lnTo>
                      <a:pt x="60" y="1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2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339080" y="4309560"/>
                <a:ext cx="194760" cy="3528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11" y="92"/>
                    </a:moveTo>
                    <a:lnTo>
                      <a:pt x="16" y="92"/>
                    </a:lnTo>
                    <a:lnTo>
                      <a:pt x="78" y="85"/>
                    </a:lnTo>
                    <a:lnTo>
                      <a:pt x="141" y="76"/>
                    </a:lnTo>
                    <a:lnTo>
                      <a:pt x="203" y="69"/>
                    </a:lnTo>
                    <a:lnTo>
                      <a:pt x="265" y="60"/>
                    </a:lnTo>
                    <a:lnTo>
                      <a:pt x="328" y="53"/>
                    </a:lnTo>
                    <a:lnTo>
                      <a:pt x="390" y="44"/>
                    </a:lnTo>
                    <a:lnTo>
                      <a:pt x="452" y="35"/>
                    </a:lnTo>
                    <a:lnTo>
                      <a:pt x="515" y="27"/>
                    </a:lnTo>
                    <a:lnTo>
                      <a:pt x="511" y="0"/>
                    </a:lnTo>
                    <a:lnTo>
                      <a:pt x="449" y="8"/>
                    </a:lnTo>
                    <a:lnTo>
                      <a:pt x="386" y="17"/>
                    </a:lnTo>
                    <a:lnTo>
                      <a:pt x="324" y="24"/>
                    </a:lnTo>
                    <a:lnTo>
                      <a:pt x="262" y="33"/>
                    </a:lnTo>
                    <a:lnTo>
                      <a:pt x="200" y="40"/>
                    </a:lnTo>
                    <a:lnTo>
                      <a:pt x="137" y="49"/>
                    </a:lnTo>
                    <a:lnTo>
                      <a:pt x="75" y="56"/>
                    </a:lnTo>
                    <a:lnTo>
                      <a:pt x="12" y="65"/>
                    </a:lnTo>
                    <a:lnTo>
                      <a:pt x="17" y="65"/>
                    </a:lnTo>
                    <a:lnTo>
                      <a:pt x="12" y="65"/>
                    </a:lnTo>
                    <a:lnTo>
                      <a:pt x="7" y="66"/>
                    </a:lnTo>
                    <a:lnTo>
                      <a:pt x="2" y="70"/>
                    </a:lnTo>
                    <a:lnTo>
                      <a:pt x="1" y="75"/>
                    </a:lnTo>
                    <a:lnTo>
                      <a:pt x="0" y="80"/>
                    </a:lnTo>
                    <a:lnTo>
                      <a:pt x="2" y="85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2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1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123240" y="3258360"/>
                <a:ext cx="1182240" cy="741960"/>
              </a:xfrm>
              <a:custGeom>
                <a:avLst/>
                <a:gdLst/>
                <a:ahLst/>
                <a:rect l="l" t="t" r="r" b="b"/>
                <a:pathLst>
                  <a:path w="3127" h="1958">
                    <a:moveTo>
                      <a:pt x="1250" y="57"/>
                    </a:moveTo>
                    <a:lnTo>
                      <a:pt x="1305" y="46"/>
                    </a:lnTo>
                    <a:lnTo>
                      <a:pt x="1361" y="36"/>
                    </a:lnTo>
                    <a:lnTo>
                      <a:pt x="1416" y="27"/>
                    </a:lnTo>
                    <a:lnTo>
                      <a:pt x="1471" y="20"/>
                    </a:lnTo>
                    <a:lnTo>
                      <a:pt x="1527" y="14"/>
                    </a:lnTo>
                    <a:lnTo>
                      <a:pt x="1583" y="9"/>
                    </a:lnTo>
                    <a:lnTo>
                      <a:pt x="1638" y="5"/>
                    </a:lnTo>
                    <a:lnTo>
                      <a:pt x="1695" y="2"/>
                    </a:lnTo>
                    <a:lnTo>
                      <a:pt x="1750" y="1"/>
                    </a:lnTo>
                    <a:lnTo>
                      <a:pt x="1807" y="0"/>
                    </a:lnTo>
                    <a:lnTo>
                      <a:pt x="1864" y="1"/>
                    </a:lnTo>
                    <a:lnTo>
                      <a:pt x="1919" y="2"/>
                    </a:lnTo>
                    <a:lnTo>
                      <a:pt x="1975" y="5"/>
                    </a:lnTo>
                    <a:lnTo>
                      <a:pt x="2032" y="7"/>
                    </a:lnTo>
                    <a:lnTo>
                      <a:pt x="2089" y="12"/>
                    </a:lnTo>
                    <a:lnTo>
                      <a:pt x="2145" y="17"/>
                    </a:lnTo>
                    <a:lnTo>
                      <a:pt x="2202" y="22"/>
                    </a:lnTo>
                    <a:lnTo>
                      <a:pt x="2258" y="30"/>
                    </a:lnTo>
                    <a:lnTo>
                      <a:pt x="2315" y="36"/>
                    </a:lnTo>
                    <a:lnTo>
                      <a:pt x="2372" y="44"/>
                    </a:lnTo>
                    <a:lnTo>
                      <a:pt x="2485" y="62"/>
                    </a:lnTo>
                    <a:lnTo>
                      <a:pt x="2599" y="81"/>
                    </a:lnTo>
                    <a:lnTo>
                      <a:pt x="2712" y="102"/>
                    </a:lnTo>
                    <a:lnTo>
                      <a:pt x="2825" y="125"/>
                    </a:lnTo>
                    <a:lnTo>
                      <a:pt x="2940" y="150"/>
                    </a:lnTo>
                    <a:lnTo>
                      <a:pt x="3053" y="175"/>
                    </a:lnTo>
                    <a:lnTo>
                      <a:pt x="3068" y="239"/>
                    </a:lnTo>
                    <a:lnTo>
                      <a:pt x="3080" y="301"/>
                    </a:lnTo>
                    <a:lnTo>
                      <a:pt x="3091" y="364"/>
                    </a:lnTo>
                    <a:lnTo>
                      <a:pt x="3100" y="426"/>
                    </a:lnTo>
                    <a:lnTo>
                      <a:pt x="3108" y="487"/>
                    </a:lnTo>
                    <a:lnTo>
                      <a:pt x="3114" y="547"/>
                    </a:lnTo>
                    <a:lnTo>
                      <a:pt x="3119" y="606"/>
                    </a:lnTo>
                    <a:lnTo>
                      <a:pt x="3123" y="667"/>
                    </a:lnTo>
                    <a:lnTo>
                      <a:pt x="3125" y="726"/>
                    </a:lnTo>
                    <a:lnTo>
                      <a:pt x="3127" y="784"/>
                    </a:lnTo>
                    <a:lnTo>
                      <a:pt x="3127" y="841"/>
                    </a:lnTo>
                    <a:lnTo>
                      <a:pt x="3125" y="899"/>
                    </a:lnTo>
                    <a:lnTo>
                      <a:pt x="3122" y="956"/>
                    </a:lnTo>
                    <a:lnTo>
                      <a:pt x="3118" y="1012"/>
                    </a:lnTo>
                    <a:lnTo>
                      <a:pt x="3113" y="1068"/>
                    </a:lnTo>
                    <a:lnTo>
                      <a:pt x="3107" y="1123"/>
                    </a:lnTo>
                    <a:lnTo>
                      <a:pt x="3100" y="1178"/>
                    </a:lnTo>
                    <a:lnTo>
                      <a:pt x="3091" y="1232"/>
                    </a:lnTo>
                    <a:lnTo>
                      <a:pt x="3082" y="1287"/>
                    </a:lnTo>
                    <a:lnTo>
                      <a:pt x="3071" y="1341"/>
                    </a:lnTo>
                    <a:lnTo>
                      <a:pt x="3060" y="1395"/>
                    </a:lnTo>
                    <a:lnTo>
                      <a:pt x="3048" y="1448"/>
                    </a:lnTo>
                    <a:lnTo>
                      <a:pt x="3034" y="1499"/>
                    </a:lnTo>
                    <a:lnTo>
                      <a:pt x="3021" y="1552"/>
                    </a:lnTo>
                    <a:lnTo>
                      <a:pt x="3005" y="1604"/>
                    </a:lnTo>
                    <a:lnTo>
                      <a:pt x="2990" y="1656"/>
                    </a:lnTo>
                    <a:lnTo>
                      <a:pt x="2973" y="1707"/>
                    </a:lnTo>
                    <a:lnTo>
                      <a:pt x="2956" y="1758"/>
                    </a:lnTo>
                    <a:lnTo>
                      <a:pt x="2937" y="1808"/>
                    </a:lnTo>
                    <a:lnTo>
                      <a:pt x="2919" y="1859"/>
                    </a:lnTo>
                    <a:lnTo>
                      <a:pt x="2899" y="1909"/>
                    </a:lnTo>
                    <a:lnTo>
                      <a:pt x="2879" y="1958"/>
                    </a:lnTo>
                    <a:lnTo>
                      <a:pt x="2518" y="1905"/>
                    </a:lnTo>
                    <a:lnTo>
                      <a:pt x="2159" y="1852"/>
                    </a:lnTo>
                    <a:lnTo>
                      <a:pt x="1798" y="1801"/>
                    </a:lnTo>
                    <a:lnTo>
                      <a:pt x="1439" y="1749"/>
                    </a:lnTo>
                    <a:lnTo>
                      <a:pt x="1080" y="1697"/>
                    </a:lnTo>
                    <a:lnTo>
                      <a:pt x="721" y="1646"/>
                    </a:lnTo>
                    <a:lnTo>
                      <a:pt x="361" y="1594"/>
                    </a:lnTo>
                    <a:lnTo>
                      <a:pt x="0" y="1542"/>
                    </a:lnTo>
                    <a:lnTo>
                      <a:pt x="156" y="1357"/>
                    </a:lnTo>
                    <a:lnTo>
                      <a:pt x="311" y="1170"/>
                    </a:lnTo>
                    <a:lnTo>
                      <a:pt x="468" y="984"/>
                    </a:lnTo>
                    <a:lnTo>
                      <a:pt x="624" y="798"/>
                    </a:lnTo>
                    <a:lnTo>
                      <a:pt x="780" y="613"/>
                    </a:lnTo>
                    <a:lnTo>
                      <a:pt x="936" y="427"/>
                    </a:lnTo>
                    <a:lnTo>
                      <a:pt x="1092" y="241"/>
                    </a:lnTo>
                    <a:lnTo>
                      <a:pt x="1250" y="57"/>
                    </a:lnTo>
                    <a:close/>
                  </a:path>
                </a:pathLst>
              </a:cu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594120" y="3254760"/>
                <a:ext cx="688320" cy="75960"/>
              </a:xfrm>
              <a:custGeom>
                <a:avLst/>
                <a:gdLst/>
                <a:ahLst/>
                <a:rect l="l" t="t" r="r" b="b"/>
                <a:pathLst>
                  <a:path w="1817" h="196">
                    <a:moveTo>
                      <a:pt x="1816" y="183"/>
                    </a:moveTo>
                    <a:lnTo>
                      <a:pt x="1808" y="175"/>
                    </a:lnTo>
                    <a:lnTo>
                      <a:pt x="1695" y="150"/>
                    </a:lnTo>
                    <a:lnTo>
                      <a:pt x="1581" y="126"/>
                    </a:lnTo>
                    <a:lnTo>
                      <a:pt x="1468" y="102"/>
                    </a:lnTo>
                    <a:lnTo>
                      <a:pt x="1353" y="81"/>
                    </a:lnTo>
                    <a:lnTo>
                      <a:pt x="1240" y="62"/>
                    </a:lnTo>
                    <a:lnTo>
                      <a:pt x="1126" y="43"/>
                    </a:lnTo>
                    <a:lnTo>
                      <a:pt x="1069" y="36"/>
                    </a:lnTo>
                    <a:lnTo>
                      <a:pt x="1013" y="28"/>
                    </a:lnTo>
                    <a:lnTo>
                      <a:pt x="956" y="22"/>
                    </a:lnTo>
                    <a:lnTo>
                      <a:pt x="899" y="16"/>
                    </a:lnTo>
                    <a:lnTo>
                      <a:pt x="843" y="11"/>
                    </a:lnTo>
                    <a:lnTo>
                      <a:pt x="786" y="8"/>
                    </a:lnTo>
                    <a:lnTo>
                      <a:pt x="730" y="4"/>
                    </a:lnTo>
                    <a:lnTo>
                      <a:pt x="673" y="1"/>
                    </a:lnTo>
                    <a:lnTo>
                      <a:pt x="617" y="0"/>
                    </a:lnTo>
                    <a:lnTo>
                      <a:pt x="560" y="0"/>
                    </a:lnTo>
                    <a:lnTo>
                      <a:pt x="503" y="0"/>
                    </a:lnTo>
                    <a:lnTo>
                      <a:pt x="447" y="1"/>
                    </a:lnTo>
                    <a:lnTo>
                      <a:pt x="391" y="4"/>
                    </a:lnTo>
                    <a:lnTo>
                      <a:pt x="335" y="9"/>
                    </a:lnTo>
                    <a:lnTo>
                      <a:pt x="278" y="14"/>
                    </a:lnTo>
                    <a:lnTo>
                      <a:pt x="223" y="20"/>
                    </a:lnTo>
                    <a:lnTo>
                      <a:pt x="168" y="27"/>
                    </a:lnTo>
                    <a:lnTo>
                      <a:pt x="111" y="36"/>
                    </a:lnTo>
                    <a:lnTo>
                      <a:pt x="56" y="46"/>
                    </a:lnTo>
                    <a:lnTo>
                      <a:pt x="0" y="57"/>
                    </a:lnTo>
                    <a:lnTo>
                      <a:pt x="4" y="76"/>
                    </a:lnTo>
                    <a:lnTo>
                      <a:pt x="59" y="65"/>
                    </a:lnTo>
                    <a:lnTo>
                      <a:pt x="115" y="56"/>
                    </a:lnTo>
                    <a:lnTo>
                      <a:pt x="170" y="47"/>
                    </a:lnTo>
                    <a:lnTo>
                      <a:pt x="225" y="40"/>
                    </a:lnTo>
                    <a:lnTo>
                      <a:pt x="281" y="33"/>
                    </a:lnTo>
                    <a:lnTo>
                      <a:pt x="336" y="28"/>
                    </a:lnTo>
                    <a:lnTo>
                      <a:pt x="393" y="25"/>
                    </a:lnTo>
                    <a:lnTo>
                      <a:pt x="448" y="22"/>
                    </a:lnTo>
                    <a:lnTo>
                      <a:pt x="503" y="21"/>
                    </a:lnTo>
                    <a:lnTo>
                      <a:pt x="560" y="21"/>
                    </a:lnTo>
                    <a:lnTo>
                      <a:pt x="615" y="21"/>
                    </a:lnTo>
                    <a:lnTo>
                      <a:pt x="672" y="22"/>
                    </a:lnTo>
                    <a:lnTo>
                      <a:pt x="728" y="25"/>
                    </a:lnTo>
                    <a:lnTo>
                      <a:pt x="785" y="28"/>
                    </a:lnTo>
                    <a:lnTo>
                      <a:pt x="840" y="32"/>
                    </a:lnTo>
                    <a:lnTo>
                      <a:pt x="897" y="37"/>
                    </a:lnTo>
                    <a:lnTo>
                      <a:pt x="954" y="43"/>
                    </a:lnTo>
                    <a:lnTo>
                      <a:pt x="1010" y="49"/>
                    </a:lnTo>
                    <a:lnTo>
                      <a:pt x="1067" y="57"/>
                    </a:lnTo>
                    <a:lnTo>
                      <a:pt x="1123" y="64"/>
                    </a:lnTo>
                    <a:lnTo>
                      <a:pt x="1236" y="81"/>
                    </a:lnTo>
                    <a:lnTo>
                      <a:pt x="1350" y="101"/>
                    </a:lnTo>
                    <a:lnTo>
                      <a:pt x="1463" y="123"/>
                    </a:lnTo>
                    <a:lnTo>
                      <a:pt x="1577" y="145"/>
                    </a:lnTo>
                    <a:lnTo>
                      <a:pt x="1690" y="170"/>
                    </a:lnTo>
                    <a:lnTo>
                      <a:pt x="1803" y="196"/>
                    </a:lnTo>
                    <a:lnTo>
                      <a:pt x="1796" y="187"/>
                    </a:lnTo>
                    <a:lnTo>
                      <a:pt x="1803" y="196"/>
                    </a:lnTo>
                    <a:lnTo>
                      <a:pt x="1808" y="196"/>
                    </a:lnTo>
                    <a:lnTo>
                      <a:pt x="1812" y="195"/>
                    </a:lnTo>
                    <a:lnTo>
                      <a:pt x="1814" y="191"/>
                    </a:lnTo>
                    <a:lnTo>
                      <a:pt x="1816" y="187"/>
                    </a:lnTo>
                    <a:lnTo>
                      <a:pt x="1817" y="183"/>
                    </a:lnTo>
                    <a:lnTo>
                      <a:pt x="1816" y="180"/>
                    </a:lnTo>
                    <a:lnTo>
                      <a:pt x="1812" y="177"/>
                    </a:lnTo>
                    <a:lnTo>
                      <a:pt x="1808" y="175"/>
                    </a:lnTo>
                    <a:lnTo>
                      <a:pt x="1816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207560" y="3324600"/>
                <a:ext cx="101880" cy="679680"/>
              </a:xfrm>
              <a:custGeom>
                <a:avLst/>
                <a:gdLst/>
                <a:ahLst/>
                <a:rect l="l" t="t" r="r" b="b"/>
                <a:pathLst>
                  <a:path w="269" h="1796">
                    <a:moveTo>
                      <a:pt x="9" y="1795"/>
                    </a:moveTo>
                    <a:lnTo>
                      <a:pt x="20" y="1789"/>
                    </a:lnTo>
                    <a:lnTo>
                      <a:pt x="41" y="1740"/>
                    </a:lnTo>
                    <a:lnTo>
                      <a:pt x="61" y="1689"/>
                    </a:lnTo>
                    <a:lnTo>
                      <a:pt x="79" y="1639"/>
                    </a:lnTo>
                    <a:lnTo>
                      <a:pt x="98" y="1588"/>
                    </a:lnTo>
                    <a:lnTo>
                      <a:pt x="115" y="1537"/>
                    </a:lnTo>
                    <a:lnTo>
                      <a:pt x="132" y="1485"/>
                    </a:lnTo>
                    <a:lnTo>
                      <a:pt x="148" y="1433"/>
                    </a:lnTo>
                    <a:lnTo>
                      <a:pt x="163" y="1382"/>
                    </a:lnTo>
                    <a:lnTo>
                      <a:pt x="176" y="1329"/>
                    </a:lnTo>
                    <a:lnTo>
                      <a:pt x="190" y="1277"/>
                    </a:lnTo>
                    <a:lnTo>
                      <a:pt x="202" y="1223"/>
                    </a:lnTo>
                    <a:lnTo>
                      <a:pt x="213" y="1170"/>
                    </a:lnTo>
                    <a:lnTo>
                      <a:pt x="224" y="1116"/>
                    </a:lnTo>
                    <a:lnTo>
                      <a:pt x="234" y="1062"/>
                    </a:lnTo>
                    <a:lnTo>
                      <a:pt x="243" y="1007"/>
                    </a:lnTo>
                    <a:lnTo>
                      <a:pt x="249" y="951"/>
                    </a:lnTo>
                    <a:lnTo>
                      <a:pt x="256" y="896"/>
                    </a:lnTo>
                    <a:lnTo>
                      <a:pt x="261" y="839"/>
                    </a:lnTo>
                    <a:lnTo>
                      <a:pt x="265" y="783"/>
                    </a:lnTo>
                    <a:lnTo>
                      <a:pt x="267" y="726"/>
                    </a:lnTo>
                    <a:lnTo>
                      <a:pt x="269" y="668"/>
                    </a:lnTo>
                    <a:lnTo>
                      <a:pt x="269" y="611"/>
                    </a:lnTo>
                    <a:lnTo>
                      <a:pt x="269" y="551"/>
                    </a:lnTo>
                    <a:lnTo>
                      <a:pt x="266" y="492"/>
                    </a:lnTo>
                    <a:lnTo>
                      <a:pt x="262" y="433"/>
                    </a:lnTo>
                    <a:lnTo>
                      <a:pt x="256" y="373"/>
                    </a:lnTo>
                    <a:lnTo>
                      <a:pt x="250" y="313"/>
                    </a:lnTo>
                    <a:lnTo>
                      <a:pt x="243" y="251"/>
                    </a:lnTo>
                    <a:lnTo>
                      <a:pt x="233" y="189"/>
                    </a:lnTo>
                    <a:lnTo>
                      <a:pt x="222" y="127"/>
                    </a:lnTo>
                    <a:lnTo>
                      <a:pt x="209" y="63"/>
                    </a:lnTo>
                    <a:lnTo>
                      <a:pt x="195" y="0"/>
                    </a:lnTo>
                    <a:lnTo>
                      <a:pt x="175" y="4"/>
                    </a:lnTo>
                    <a:lnTo>
                      <a:pt x="189" y="68"/>
                    </a:lnTo>
                    <a:lnTo>
                      <a:pt x="201" y="131"/>
                    </a:lnTo>
                    <a:lnTo>
                      <a:pt x="212" y="192"/>
                    </a:lnTo>
                    <a:lnTo>
                      <a:pt x="222" y="254"/>
                    </a:lnTo>
                    <a:lnTo>
                      <a:pt x="229" y="315"/>
                    </a:lnTo>
                    <a:lnTo>
                      <a:pt x="237" y="376"/>
                    </a:lnTo>
                    <a:lnTo>
                      <a:pt x="241" y="435"/>
                    </a:lnTo>
                    <a:lnTo>
                      <a:pt x="245" y="494"/>
                    </a:lnTo>
                    <a:lnTo>
                      <a:pt x="248" y="553"/>
                    </a:lnTo>
                    <a:lnTo>
                      <a:pt x="248" y="611"/>
                    </a:lnTo>
                    <a:lnTo>
                      <a:pt x="248" y="668"/>
                    </a:lnTo>
                    <a:lnTo>
                      <a:pt x="246" y="725"/>
                    </a:lnTo>
                    <a:lnTo>
                      <a:pt x="244" y="781"/>
                    </a:lnTo>
                    <a:lnTo>
                      <a:pt x="240" y="838"/>
                    </a:lnTo>
                    <a:lnTo>
                      <a:pt x="235" y="893"/>
                    </a:lnTo>
                    <a:lnTo>
                      <a:pt x="229" y="949"/>
                    </a:lnTo>
                    <a:lnTo>
                      <a:pt x="222" y="1004"/>
                    </a:lnTo>
                    <a:lnTo>
                      <a:pt x="213" y="1058"/>
                    </a:lnTo>
                    <a:lnTo>
                      <a:pt x="203" y="1112"/>
                    </a:lnTo>
                    <a:lnTo>
                      <a:pt x="193" y="1165"/>
                    </a:lnTo>
                    <a:lnTo>
                      <a:pt x="182" y="1219"/>
                    </a:lnTo>
                    <a:lnTo>
                      <a:pt x="170" y="1272"/>
                    </a:lnTo>
                    <a:lnTo>
                      <a:pt x="157" y="1324"/>
                    </a:lnTo>
                    <a:lnTo>
                      <a:pt x="142" y="1376"/>
                    </a:lnTo>
                    <a:lnTo>
                      <a:pt x="127" y="1428"/>
                    </a:lnTo>
                    <a:lnTo>
                      <a:pt x="111" y="1479"/>
                    </a:lnTo>
                    <a:lnTo>
                      <a:pt x="95" y="1531"/>
                    </a:lnTo>
                    <a:lnTo>
                      <a:pt x="78" y="1581"/>
                    </a:lnTo>
                    <a:lnTo>
                      <a:pt x="59" y="1631"/>
                    </a:lnTo>
                    <a:lnTo>
                      <a:pt x="41" y="1682"/>
                    </a:lnTo>
                    <a:lnTo>
                      <a:pt x="21" y="1732"/>
                    </a:lnTo>
                    <a:lnTo>
                      <a:pt x="2" y="1781"/>
                    </a:lnTo>
                    <a:lnTo>
                      <a:pt x="13" y="1775"/>
                    </a:lnTo>
                    <a:lnTo>
                      <a:pt x="2" y="1781"/>
                    </a:lnTo>
                    <a:lnTo>
                      <a:pt x="0" y="1786"/>
                    </a:lnTo>
                    <a:lnTo>
                      <a:pt x="2" y="1790"/>
                    </a:lnTo>
                    <a:lnTo>
                      <a:pt x="4" y="1793"/>
                    </a:lnTo>
                    <a:lnTo>
                      <a:pt x="7" y="1795"/>
                    </a:lnTo>
                    <a:lnTo>
                      <a:pt x="10" y="1796"/>
                    </a:lnTo>
                    <a:lnTo>
                      <a:pt x="15" y="1795"/>
                    </a:lnTo>
                    <a:lnTo>
                      <a:pt x="18" y="1793"/>
                    </a:lnTo>
                    <a:lnTo>
                      <a:pt x="20" y="1789"/>
                    </a:lnTo>
                    <a:lnTo>
                      <a:pt x="9" y="17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119280" y="3839760"/>
                <a:ext cx="1093680" cy="164520"/>
              </a:xfrm>
              <a:custGeom>
                <a:avLst/>
                <a:gdLst/>
                <a:ahLst/>
                <a:rect l="l" t="t" r="r" b="b"/>
                <a:pathLst>
                  <a:path w="2891" h="435">
                    <a:moveTo>
                      <a:pt x="3" y="3"/>
                    </a:moveTo>
                    <a:lnTo>
                      <a:pt x="9" y="20"/>
                    </a:lnTo>
                    <a:lnTo>
                      <a:pt x="369" y="71"/>
                    </a:lnTo>
                    <a:lnTo>
                      <a:pt x="730" y="123"/>
                    </a:lnTo>
                    <a:lnTo>
                      <a:pt x="1089" y="174"/>
                    </a:lnTo>
                    <a:lnTo>
                      <a:pt x="1448" y="226"/>
                    </a:lnTo>
                    <a:lnTo>
                      <a:pt x="1807" y="278"/>
                    </a:lnTo>
                    <a:lnTo>
                      <a:pt x="2166" y="330"/>
                    </a:lnTo>
                    <a:lnTo>
                      <a:pt x="2527" y="382"/>
                    </a:lnTo>
                    <a:lnTo>
                      <a:pt x="2887" y="435"/>
                    </a:lnTo>
                    <a:lnTo>
                      <a:pt x="2891" y="415"/>
                    </a:lnTo>
                    <a:lnTo>
                      <a:pt x="2529" y="362"/>
                    </a:lnTo>
                    <a:lnTo>
                      <a:pt x="2170" y="310"/>
                    </a:lnTo>
                    <a:lnTo>
                      <a:pt x="1811" y="258"/>
                    </a:lnTo>
                    <a:lnTo>
                      <a:pt x="1452" y="205"/>
                    </a:lnTo>
                    <a:lnTo>
                      <a:pt x="1091" y="153"/>
                    </a:lnTo>
                    <a:lnTo>
                      <a:pt x="732" y="102"/>
                    </a:lnTo>
                    <a:lnTo>
                      <a:pt x="373" y="51"/>
                    </a:lnTo>
                    <a:lnTo>
                      <a:pt x="11" y="0"/>
                    </a:lnTo>
                    <a:lnTo>
                      <a:pt x="19" y="1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119280" y="3277440"/>
                <a:ext cx="480240" cy="567720"/>
              </a:xfrm>
              <a:custGeom>
                <a:avLst/>
                <a:gdLst/>
                <a:ahLst/>
                <a:rect l="l" t="t" r="r" b="b"/>
                <a:pathLst>
                  <a:path w="1267" h="1503">
                    <a:moveTo>
                      <a:pt x="1254" y="0"/>
                    </a:moveTo>
                    <a:lnTo>
                      <a:pt x="1248" y="3"/>
                    </a:lnTo>
                    <a:lnTo>
                      <a:pt x="1092" y="188"/>
                    </a:lnTo>
                    <a:lnTo>
                      <a:pt x="936" y="372"/>
                    </a:lnTo>
                    <a:lnTo>
                      <a:pt x="780" y="558"/>
                    </a:lnTo>
                    <a:lnTo>
                      <a:pt x="623" y="744"/>
                    </a:lnTo>
                    <a:lnTo>
                      <a:pt x="467" y="931"/>
                    </a:lnTo>
                    <a:lnTo>
                      <a:pt x="311" y="1117"/>
                    </a:lnTo>
                    <a:lnTo>
                      <a:pt x="155" y="1302"/>
                    </a:lnTo>
                    <a:lnTo>
                      <a:pt x="0" y="1489"/>
                    </a:lnTo>
                    <a:lnTo>
                      <a:pt x="16" y="1503"/>
                    </a:lnTo>
                    <a:lnTo>
                      <a:pt x="171" y="1316"/>
                    </a:lnTo>
                    <a:lnTo>
                      <a:pt x="327" y="1130"/>
                    </a:lnTo>
                    <a:lnTo>
                      <a:pt x="483" y="943"/>
                    </a:lnTo>
                    <a:lnTo>
                      <a:pt x="639" y="757"/>
                    </a:lnTo>
                    <a:lnTo>
                      <a:pt x="794" y="572"/>
                    </a:lnTo>
                    <a:lnTo>
                      <a:pt x="952" y="386"/>
                    </a:lnTo>
                    <a:lnTo>
                      <a:pt x="1108" y="201"/>
                    </a:lnTo>
                    <a:lnTo>
                      <a:pt x="1264" y="17"/>
                    </a:lnTo>
                    <a:lnTo>
                      <a:pt x="1258" y="19"/>
                    </a:lnTo>
                    <a:lnTo>
                      <a:pt x="1264" y="17"/>
                    </a:lnTo>
                    <a:lnTo>
                      <a:pt x="1267" y="12"/>
                    </a:lnTo>
                    <a:lnTo>
                      <a:pt x="1267" y="8"/>
                    </a:lnTo>
                    <a:lnTo>
                      <a:pt x="1265" y="5"/>
                    </a:lnTo>
                    <a:lnTo>
                      <a:pt x="1263" y="2"/>
                    </a:lnTo>
                    <a:lnTo>
                      <a:pt x="1259" y="0"/>
                    </a:lnTo>
                    <a:lnTo>
                      <a:pt x="1256" y="0"/>
                    </a:lnTo>
                    <a:lnTo>
                      <a:pt x="1252" y="0"/>
                    </a:lnTo>
                    <a:lnTo>
                      <a:pt x="1248" y="3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108120" y="3684240"/>
                <a:ext cx="1118160" cy="457920"/>
              </a:xfrm>
              <a:custGeom>
                <a:avLst/>
                <a:gdLst/>
                <a:ahLst/>
                <a:rect l="l" t="t" r="r" b="b"/>
                <a:pathLst>
                  <a:path w="2955" h="1210">
                    <a:moveTo>
                      <a:pt x="541" y="56"/>
                    </a:moveTo>
                    <a:lnTo>
                      <a:pt x="598" y="45"/>
                    </a:lnTo>
                    <a:lnTo>
                      <a:pt x="658" y="35"/>
                    </a:lnTo>
                    <a:lnTo>
                      <a:pt x="721" y="27"/>
                    </a:lnTo>
                    <a:lnTo>
                      <a:pt x="787" y="19"/>
                    </a:lnTo>
                    <a:lnTo>
                      <a:pt x="855" y="13"/>
                    </a:lnTo>
                    <a:lnTo>
                      <a:pt x="926" y="8"/>
                    </a:lnTo>
                    <a:lnTo>
                      <a:pt x="999" y="5"/>
                    </a:lnTo>
                    <a:lnTo>
                      <a:pt x="1073" y="1"/>
                    </a:lnTo>
                    <a:lnTo>
                      <a:pt x="1149" y="0"/>
                    </a:lnTo>
                    <a:lnTo>
                      <a:pt x="1227" y="0"/>
                    </a:lnTo>
                    <a:lnTo>
                      <a:pt x="1305" y="0"/>
                    </a:lnTo>
                    <a:lnTo>
                      <a:pt x="1385" y="1"/>
                    </a:lnTo>
                    <a:lnTo>
                      <a:pt x="1466" y="3"/>
                    </a:lnTo>
                    <a:lnTo>
                      <a:pt x="1548" y="7"/>
                    </a:lnTo>
                    <a:lnTo>
                      <a:pt x="1630" y="11"/>
                    </a:lnTo>
                    <a:lnTo>
                      <a:pt x="1711" y="16"/>
                    </a:lnTo>
                    <a:lnTo>
                      <a:pt x="1794" y="22"/>
                    </a:lnTo>
                    <a:lnTo>
                      <a:pt x="1876" y="28"/>
                    </a:lnTo>
                    <a:lnTo>
                      <a:pt x="1957" y="35"/>
                    </a:lnTo>
                    <a:lnTo>
                      <a:pt x="2038" y="43"/>
                    </a:lnTo>
                    <a:lnTo>
                      <a:pt x="2118" y="51"/>
                    </a:lnTo>
                    <a:lnTo>
                      <a:pt x="2198" y="61"/>
                    </a:lnTo>
                    <a:lnTo>
                      <a:pt x="2276" y="70"/>
                    </a:lnTo>
                    <a:lnTo>
                      <a:pt x="2353" y="81"/>
                    </a:lnTo>
                    <a:lnTo>
                      <a:pt x="2428" y="91"/>
                    </a:lnTo>
                    <a:lnTo>
                      <a:pt x="2502" y="102"/>
                    </a:lnTo>
                    <a:lnTo>
                      <a:pt x="2573" y="113"/>
                    </a:lnTo>
                    <a:lnTo>
                      <a:pt x="2642" y="125"/>
                    </a:lnTo>
                    <a:lnTo>
                      <a:pt x="2709" y="138"/>
                    </a:lnTo>
                    <a:lnTo>
                      <a:pt x="2773" y="150"/>
                    </a:lnTo>
                    <a:lnTo>
                      <a:pt x="2834" y="162"/>
                    </a:lnTo>
                    <a:lnTo>
                      <a:pt x="2893" y="174"/>
                    </a:lnTo>
                    <a:lnTo>
                      <a:pt x="2907" y="236"/>
                    </a:lnTo>
                    <a:lnTo>
                      <a:pt x="2919" y="293"/>
                    </a:lnTo>
                    <a:lnTo>
                      <a:pt x="2929" y="344"/>
                    </a:lnTo>
                    <a:lnTo>
                      <a:pt x="2937" y="392"/>
                    </a:lnTo>
                    <a:lnTo>
                      <a:pt x="2945" y="436"/>
                    </a:lnTo>
                    <a:lnTo>
                      <a:pt x="2950" y="477"/>
                    </a:lnTo>
                    <a:lnTo>
                      <a:pt x="2952" y="514"/>
                    </a:lnTo>
                    <a:lnTo>
                      <a:pt x="2955" y="548"/>
                    </a:lnTo>
                    <a:lnTo>
                      <a:pt x="2955" y="580"/>
                    </a:lnTo>
                    <a:lnTo>
                      <a:pt x="2953" y="609"/>
                    </a:lnTo>
                    <a:lnTo>
                      <a:pt x="2951" y="636"/>
                    </a:lnTo>
                    <a:lnTo>
                      <a:pt x="2946" y="662"/>
                    </a:lnTo>
                    <a:lnTo>
                      <a:pt x="2941" y="685"/>
                    </a:lnTo>
                    <a:lnTo>
                      <a:pt x="2935" y="707"/>
                    </a:lnTo>
                    <a:lnTo>
                      <a:pt x="2926" y="728"/>
                    </a:lnTo>
                    <a:lnTo>
                      <a:pt x="2918" y="748"/>
                    </a:lnTo>
                    <a:lnTo>
                      <a:pt x="2908" y="769"/>
                    </a:lnTo>
                    <a:lnTo>
                      <a:pt x="2896" y="788"/>
                    </a:lnTo>
                    <a:lnTo>
                      <a:pt x="2883" y="808"/>
                    </a:lnTo>
                    <a:lnTo>
                      <a:pt x="2871" y="828"/>
                    </a:lnTo>
                    <a:lnTo>
                      <a:pt x="2841" y="872"/>
                    </a:lnTo>
                    <a:lnTo>
                      <a:pt x="2809" y="920"/>
                    </a:lnTo>
                    <a:lnTo>
                      <a:pt x="2792" y="947"/>
                    </a:lnTo>
                    <a:lnTo>
                      <a:pt x="2775" y="975"/>
                    </a:lnTo>
                    <a:lnTo>
                      <a:pt x="2757" y="1007"/>
                    </a:lnTo>
                    <a:lnTo>
                      <a:pt x="2738" y="1040"/>
                    </a:lnTo>
                    <a:lnTo>
                      <a:pt x="2718" y="1078"/>
                    </a:lnTo>
                    <a:lnTo>
                      <a:pt x="2699" y="1118"/>
                    </a:lnTo>
                    <a:lnTo>
                      <a:pt x="2679" y="1162"/>
                    </a:lnTo>
                    <a:lnTo>
                      <a:pt x="2658" y="1210"/>
                    </a:lnTo>
                    <a:lnTo>
                      <a:pt x="2568" y="1197"/>
                    </a:lnTo>
                    <a:lnTo>
                      <a:pt x="2480" y="1184"/>
                    </a:lnTo>
                    <a:lnTo>
                      <a:pt x="2393" y="1173"/>
                    </a:lnTo>
                    <a:lnTo>
                      <a:pt x="2306" y="1163"/>
                    </a:lnTo>
                    <a:lnTo>
                      <a:pt x="2138" y="1144"/>
                    </a:lnTo>
                    <a:lnTo>
                      <a:pt x="1972" y="1126"/>
                    </a:lnTo>
                    <a:lnTo>
                      <a:pt x="1808" y="1112"/>
                    </a:lnTo>
                    <a:lnTo>
                      <a:pt x="1648" y="1098"/>
                    </a:lnTo>
                    <a:lnTo>
                      <a:pt x="1489" y="1085"/>
                    </a:lnTo>
                    <a:lnTo>
                      <a:pt x="1329" y="1072"/>
                    </a:lnTo>
                    <a:lnTo>
                      <a:pt x="1170" y="1061"/>
                    </a:lnTo>
                    <a:lnTo>
                      <a:pt x="1010" y="1048"/>
                    </a:lnTo>
                    <a:lnTo>
                      <a:pt x="849" y="1035"/>
                    </a:lnTo>
                    <a:lnTo>
                      <a:pt x="687" y="1021"/>
                    </a:lnTo>
                    <a:lnTo>
                      <a:pt x="521" y="1005"/>
                    </a:lnTo>
                    <a:lnTo>
                      <a:pt x="351" y="986"/>
                    </a:lnTo>
                    <a:lnTo>
                      <a:pt x="179" y="965"/>
                    </a:lnTo>
                    <a:lnTo>
                      <a:pt x="0" y="941"/>
                    </a:lnTo>
                    <a:lnTo>
                      <a:pt x="37" y="896"/>
                    </a:lnTo>
                    <a:lnTo>
                      <a:pt x="70" y="855"/>
                    </a:lnTo>
                    <a:lnTo>
                      <a:pt x="100" y="816"/>
                    </a:lnTo>
                    <a:lnTo>
                      <a:pt x="126" y="781"/>
                    </a:lnTo>
                    <a:lnTo>
                      <a:pt x="149" y="748"/>
                    </a:lnTo>
                    <a:lnTo>
                      <a:pt x="169" y="717"/>
                    </a:lnTo>
                    <a:lnTo>
                      <a:pt x="186" y="689"/>
                    </a:lnTo>
                    <a:lnTo>
                      <a:pt x="202" y="663"/>
                    </a:lnTo>
                    <a:lnTo>
                      <a:pt x="214" y="638"/>
                    </a:lnTo>
                    <a:lnTo>
                      <a:pt x="225" y="615"/>
                    </a:lnTo>
                    <a:lnTo>
                      <a:pt x="235" y="593"/>
                    </a:lnTo>
                    <a:lnTo>
                      <a:pt x="244" y="572"/>
                    </a:lnTo>
                    <a:lnTo>
                      <a:pt x="259" y="534"/>
                    </a:lnTo>
                    <a:lnTo>
                      <a:pt x="271" y="497"/>
                    </a:lnTo>
                    <a:lnTo>
                      <a:pt x="283" y="460"/>
                    </a:lnTo>
                    <a:lnTo>
                      <a:pt x="297" y="422"/>
                    </a:lnTo>
                    <a:lnTo>
                      <a:pt x="305" y="401"/>
                    </a:lnTo>
                    <a:lnTo>
                      <a:pt x="315" y="380"/>
                    </a:lnTo>
                    <a:lnTo>
                      <a:pt x="326" y="356"/>
                    </a:lnTo>
                    <a:lnTo>
                      <a:pt x="340" y="332"/>
                    </a:lnTo>
                    <a:lnTo>
                      <a:pt x="355" y="306"/>
                    </a:lnTo>
                    <a:lnTo>
                      <a:pt x="373" y="278"/>
                    </a:lnTo>
                    <a:lnTo>
                      <a:pt x="393" y="248"/>
                    </a:lnTo>
                    <a:lnTo>
                      <a:pt x="416" y="215"/>
                    </a:lnTo>
                    <a:lnTo>
                      <a:pt x="442" y="179"/>
                    </a:lnTo>
                    <a:lnTo>
                      <a:pt x="471" y="141"/>
                    </a:lnTo>
                    <a:lnTo>
                      <a:pt x="505" y="101"/>
                    </a:lnTo>
                    <a:lnTo>
                      <a:pt x="541" y="56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312240" y="3681000"/>
                <a:ext cx="894960" cy="73800"/>
              </a:xfrm>
              <a:custGeom>
                <a:avLst/>
                <a:gdLst/>
                <a:ahLst/>
                <a:rect l="l" t="t" r="r" b="b"/>
                <a:pathLst>
                  <a:path w="2364" h="195">
                    <a:moveTo>
                      <a:pt x="2364" y="183"/>
                    </a:moveTo>
                    <a:lnTo>
                      <a:pt x="2357" y="176"/>
                    </a:lnTo>
                    <a:lnTo>
                      <a:pt x="2298" y="162"/>
                    </a:lnTo>
                    <a:lnTo>
                      <a:pt x="2236" y="150"/>
                    </a:lnTo>
                    <a:lnTo>
                      <a:pt x="2172" y="137"/>
                    </a:lnTo>
                    <a:lnTo>
                      <a:pt x="2104" y="125"/>
                    </a:lnTo>
                    <a:lnTo>
                      <a:pt x="2036" y="114"/>
                    </a:lnTo>
                    <a:lnTo>
                      <a:pt x="1964" y="103"/>
                    </a:lnTo>
                    <a:lnTo>
                      <a:pt x="1890" y="92"/>
                    </a:lnTo>
                    <a:lnTo>
                      <a:pt x="1815" y="81"/>
                    </a:lnTo>
                    <a:lnTo>
                      <a:pt x="1738" y="71"/>
                    </a:lnTo>
                    <a:lnTo>
                      <a:pt x="1660" y="61"/>
                    </a:lnTo>
                    <a:lnTo>
                      <a:pt x="1580" y="53"/>
                    </a:lnTo>
                    <a:lnTo>
                      <a:pt x="1501" y="44"/>
                    </a:lnTo>
                    <a:lnTo>
                      <a:pt x="1419" y="37"/>
                    </a:lnTo>
                    <a:lnTo>
                      <a:pt x="1338" y="29"/>
                    </a:lnTo>
                    <a:lnTo>
                      <a:pt x="1256" y="23"/>
                    </a:lnTo>
                    <a:lnTo>
                      <a:pt x="1173" y="17"/>
                    </a:lnTo>
                    <a:lnTo>
                      <a:pt x="1091" y="12"/>
                    </a:lnTo>
                    <a:lnTo>
                      <a:pt x="1009" y="7"/>
                    </a:lnTo>
                    <a:lnTo>
                      <a:pt x="927" y="5"/>
                    </a:lnTo>
                    <a:lnTo>
                      <a:pt x="846" y="2"/>
                    </a:lnTo>
                    <a:lnTo>
                      <a:pt x="766" y="1"/>
                    </a:lnTo>
                    <a:lnTo>
                      <a:pt x="688" y="0"/>
                    </a:lnTo>
                    <a:lnTo>
                      <a:pt x="610" y="1"/>
                    </a:lnTo>
                    <a:lnTo>
                      <a:pt x="534" y="2"/>
                    </a:lnTo>
                    <a:lnTo>
                      <a:pt x="459" y="5"/>
                    </a:lnTo>
                    <a:lnTo>
                      <a:pt x="386" y="8"/>
                    </a:lnTo>
                    <a:lnTo>
                      <a:pt x="316" y="13"/>
                    </a:lnTo>
                    <a:lnTo>
                      <a:pt x="247" y="19"/>
                    </a:lnTo>
                    <a:lnTo>
                      <a:pt x="181" y="27"/>
                    </a:lnTo>
                    <a:lnTo>
                      <a:pt x="118" y="35"/>
                    </a:lnTo>
                    <a:lnTo>
                      <a:pt x="58" y="45"/>
                    </a:lnTo>
                    <a:lnTo>
                      <a:pt x="0" y="58"/>
                    </a:lnTo>
                    <a:lnTo>
                      <a:pt x="4" y="77"/>
                    </a:lnTo>
                    <a:lnTo>
                      <a:pt x="62" y="66"/>
                    </a:lnTo>
                    <a:lnTo>
                      <a:pt x="121" y="56"/>
                    </a:lnTo>
                    <a:lnTo>
                      <a:pt x="183" y="48"/>
                    </a:lnTo>
                    <a:lnTo>
                      <a:pt x="250" y="40"/>
                    </a:lnTo>
                    <a:lnTo>
                      <a:pt x="317" y="34"/>
                    </a:lnTo>
                    <a:lnTo>
                      <a:pt x="387" y="29"/>
                    </a:lnTo>
                    <a:lnTo>
                      <a:pt x="460" y="26"/>
                    </a:lnTo>
                    <a:lnTo>
                      <a:pt x="534" y="23"/>
                    </a:lnTo>
                    <a:lnTo>
                      <a:pt x="610" y="22"/>
                    </a:lnTo>
                    <a:lnTo>
                      <a:pt x="688" y="21"/>
                    </a:lnTo>
                    <a:lnTo>
                      <a:pt x="766" y="22"/>
                    </a:lnTo>
                    <a:lnTo>
                      <a:pt x="846" y="23"/>
                    </a:lnTo>
                    <a:lnTo>
                      <a:pt x="927" y="26"/>
                    </a:lnTo>
                    <a:lnTo>
                      <a:pt x="1009" y="28"/>
                    </a:lnTo>
                    <a:lnTo>
                      <a:pt x="1090" y="33"/>
                    </a:lnTo>
                    <a:lnTo>
                      <a:pt x="1172" y="38"/>
                    </a:lnTo>
                    <a:lnTo>
                      <a:pt x="1255" y="43"/>
                    </a:lnTo>
                    <a:lnTo>
                      <a:pt x="1336" y="50"/>
                    </a:lnTo>
                    <a:lnTo>
                      <a:pt x="1417" y="56"/>
                    </a:lnTo>
                    <a:lnTo>
                      <a:pt x="1498" y="65"/>
                    </a:lnTo>
                    <a:lnTo>
                      <a:pt x="1578" y="73"/>
                    </a:lnTo>
                    <a:lnTo>
                      <a:pt x="1658" y="82"/>
                    </a:lnTo>
                    <a:lnTo>
                      <a:pt x="1735" y="92"/>
                    </a:lnTo>
                    <a:lnTo>
                      <a:pt x="1813" y="102"/>
                    </a:lnTo>
                    <a:lnTo>
                      <a:pt x="1888" y="112"/>
                    </a:lnTo>
                    <a:lnTo>
                      <a:pt x="1961" y="123"/>
                    </a:lnTo>
                    <a:lnTo>
                      <a:pt x="2032" y="135"/>
                    </a:lnTo>
                    <a:lnTo>
                      <a:pt x="2101" y="146"/>
                    </a:lnTo>
                    <a:lnTo>
                      <a:pt x="2168" y="158"/>
                    </a:lnTo>
                    <a:lnTo>
                      <a:pt x="2232" y="171"/>
                    </a:lnTo>
                    <a:lnTo>
                      <a:pt x="2294" y="183"/>
                    </a:lnTo>
                    <a:lnTo>
                      <a:pt x="2352" y="195"/>
                    </a:lnTo>
                    <a:lnTo>
                      <a:pt x="2343" y="188"/>
                    </a:lnTo>
                    <a:lnTo>
                      <a:pt x="2352" y="195"/>
                    </a:lnTo>
                    <a:lnTo>
                      <a:pt x="2357" y="195"/>
                    </a:lnTo>
                    <a:lnTo>
                      <a:pt x="2360" y="194"/>
                    </a:lnTo>
                    <a:lnTo>
                      <a:pt x="2363" y="192"/>
                    </a:lnTo>
                    <a:lnTo>
                      <a:pt x="2364" y="188"/>
                    </a:lnTo>
                    <a:lnTo>
                      <a:pt x="2364" y="184"/>
                    </a:lnTo>
                    <a:lnTo>
                      <a:pt x="2363" y="181"/>
                    </a:lnTo>
                    <a:lnTo>
                      <a:pt x="2360" y="177"/>
                    </a:lnTo>
                    <a:lnTo>
                      <a:pt x="2357" y="176"/>
                    </a:lnTo>
                    <a:lnTo>
                      <a:pt x="2364" y="1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110720" y="3748680"/>
                <a:ext cx="119160" cy="397440"/>
              </a:xfrm>
              <a:custGeom>
                <a:avLst/>
                <a:gdLst/>
                <a:ahLst/>
                <a:rect l="l" t="t" r="r" b="b"/>
                <a:pathLst>
                  <a:path w="316" h="1048">
                    <a:moveTo>
                      <a:pt x="9" y="1048"/>
                    </a:moveTo>
                    <a:lnTo>
                      <a:pt x="20" y="1042"/>
                    </a:lnTo>
                    <a:lnTo>
                      <a:pt x="40" y="995"/>
                    </a:lnTo>
                    <a:lnTo>
                      <a:pt x="61" y="951"/>
                    </a:lnTo>
                    <a:lnTo>
                      <a:pt x="79" y="910"/>
                    </a:lnTo>
                    <a:lnTo>
                      <a:pt x="99" y="873"/>
                    </a:lnTo>
                    <a:lnTo>
                      <a:pt x="117" y="840"/>
                    </a:lnTo>
                    <a:lnTo>
                      <a:pt x="136" y="809"/>
                    </a:lnTo>
                    <a:lnTo>
                      <a:pt x="153" y="780"/>
                    </a:lnTo>
                    <a:lnTo>
                      <a:pt x="170" y="753"/>
                    </a:lnTo>
                    <a:lnTo>
                      <a:pt x="202" y="705"/>
                    </a:lnTo>
                    <a:lnTo>
                      <a:pt x="232" y="662"/>
                    </a:lnTo>
                    <a:lnTo>
                      <a:pt x="245" y="641"/>
                    </a:lnTo>
                    <a:lnTo>
                      <a:pt x="257" y="621"/>
                    </a:lnTo>
                    <a:lnTo>
                      <a:pt x="268" y="601"/>
                    </a:lnTo>
                    <a:lnTo>
                      <a:pt x="278" y="581"/>
                    </a:lnTo>
                    <a:lnTo>
                      <a:pt x="288" y="560"/>
                    </a:lnTo>
                    <a:lnTo>
                      <a:pt x="297" y="537"/>
                    </a:lnTo>
                    <a:lnTo>
                      <a:pt x="303" y="515"/>
                    </a:lnTo>
                    <a:lnTo>
                      <a:pt x="309" y="491"/>
                    </a:lnTo>
                    <a:lnTo>
                      <a:pt x="313" y="465"/>
                    </a:lnTo>
                    <a:lnTo>
                      <a:pt x="315" y="438"/>
                    </a:lnTo>
                    <a:lnTo>
                      <a:pt x="316" y="408"/>
                    </a:lnTo>
                    <a:lnTo>
                      <a:pt x="316" y="376"/>
                    </a:lnTo>
                    <a:lnTo>
                      <a:pt x="315" y="342"/>
                    </a:lnTo>
                    <a:lnTo>
                      <a:pt x="312" y="304"/>
                    </a:lnTo>
                    <a:lnTo>
                      <a:pt x="307" y="263"/>
                    </a:lnTo>
                    <a:lnTo>
                      <a:pt x="300" y="219"/>
                    </a:lnTo>
                    <a:lnTo>
                      <a:pt x="292" y="171"/>
                    </a:lnTo>
                    <a:lnTo>
                      <a:pt x="281" y="118"/>
                    </a:lnTo>
                    <a:lnTo>
                      <a:pt x="268" y="61"/>
                    </a:lnTo>
                    <a:lnTo>
                      <a:pt x="255" y="0"/>
                    </a:lnTo>
                    <a:lnTo>
                      <a:pt x="234" y="5"/>
                    </a:lnTo>
                    <a:lnTo>
                      <a:pt x="249" y="66"/>
                    </a:lnTo>
                    <a:lnTo>
                      <a:pt x="261" y="123"/>
                    </a:lnTo>
                    <a:lnTo>
                      <a:pt x="271" y="175"/>
                    </a:lnTo>
                    <a:lnTo>
                      <a:pt x="280" y="223"/>
                    </a:lnTo>
                    <a:lnTo>
                      <a:pt x="286" y="266"/>
                    </a:lnTo>
                    <a:lnTo>
                      <a:pt x="291" y="306"/>
                    </a:lnTo>
                    <a:lnTo>
                      <a:pt x="294" y="343"/>
                    </a:lnTo>
                    <a:lnTo>
                      <a:pt x="296" y="376"/>
                    </a:lnTo>
                    <a:lnTo>
                      <a:pt x="297" y="408"/>
                    </a:lnTo>
                    <a:lnTo>
                      <a:pt x="294" y="437"/>
                    </a:lnTo>
                    <a:lnTo>
                      <a:pt x="292" y="462"/>
                    </a:lnTo>
                    <a:lnTo>
                      <a:pt x="288" y="487"/>
                    </a:lnTo>
                    <a:lnTo>
                      <a:pt x="283" y="509"/>
                    </a:lnTo>
                    <a:lnTo>
                      <a:pt x="277" y="531"/>
                    </a:lnTo>
                    <a:lnTo>
                      <a:pt x="268" y="552"/>
                    </a:lnTo>
                    <a:lnTo>
                      <a:pt x="260" y="572"/>
                    </a:lnTo>
                    <a:lnTo>
                      <a:pt x="250" y="592"/>
                    </a:lnTo>
                    <a:lnTo>
                      <a:pt x="239" y="610"/>
                    </a:lnTo>
                    <a:lnTo>
                      <a:pt x="227" y="630"/>
                    </a:lnTo>
                    <a:lnTo>
                      <a:pt x="214" y="651"/>
                    </a:lnTo>
                    <a:lnTo>
                      <a:pt x="185" y="694"/>
                    </a:lnTo>
                    <a:lnTo>
                      <a:pt x="153" y="742"/>
                    </a:lnTo>
                    <a:lnTo>
                      <a:pt x="136" y="769"/>
                    </a:lnTo>
                    <a:lnTo>
                      <a:pt x="117" y="798"/>
                    </a:lnTo>
                    <a:lnTo>
                      <a:pt x="99" y="829"/>
                    </a:lnTo>
                    <a:lnTo>
                      <a:pt x="80" y="863"/>
                    </a:lnTo>
                    <a:lnTo>
                      <a:pt x="61" y="902"/>
                    </a:lnTo>
                    <a:lnTo>
                      <a:pt x="41" y="942"/>
                    </a:lnTo>
                    <a:lnTo>
                      <a:pt x="21" y="986"/>
                    </a:lnTo>
                    <a:lnTo>
                      <a:pt x="0" y="1034"/>
                    </a:lnTo>
                    <a:lnTo>
                      <a:pt x="11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3"/>
                    </a:lnTo>
                    <a:lnTo>
                      <a:pt x="3" y="1045"/>
                    </a:lnTo>
                    <a:lnTo>
                      <a:pt x="6" y="1048"/>
                    </a:lnTo>
                    <a:lnTo>
                      <a:pt x="10" y="1048"/>
                    </a:lnTo>
                    <a:lnTo>
                      <a:pt x="14" y="1048"/>
                    </a:lnTo>
                    <a:lnTo>
                      <a:pt x="18" y="1045"/>
                    </a:lnTo>
                    <a:lnTo>
                      <a:pt x="20" y="1042"/>
                    </a:lnTo>
                    <a:lnTo>
                      <a:pt x="9" y="10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104160" y="4036680"/>
                <a:ext cx="1010160" cy="109440"/>
              </a:xfrm>
              <a:custGeom>
                <a:avLst/>
                <a:gdLst/>
                <a:ahLst/>
                <a:rect l="l" t="t" r="r" b="b"/>
                <a:pathLst>
                  <a:path w="2670" h="289">
                    <a:moveTo>
                      <a:pt x="3" y="4"/>
                    </a:moveTo>
                    <a:lnTo>
                      <a:pt x="10" y="20"/>
                    </a:lnTo>
                    <a:lnTo>
                      <a:pt x="187" y="44"/>
                    </a:lnTo>
                    <a:lnTo>
                      <a:pt x="361" y="65"/>
                    </a:lnTo>
                    <a:lnTo>
                      <a:pt x="530" y="84"/>
                    </a:lnTo>
                    <a:lnTo>
                      <a:pt x="696" y="100"/>
                    </a:lnTo>
                    <a:lnTo>
                      <a:pt x="860" y="114"/>
                    </a:lnTo>
                    <a:lnTo>
                      <a:pt x="1021" y="128"/>
                    </a:lnTo>
                    <a:lnTo>
                      <a:pt x="1181" y="140"/>
                    </a:lnTo>
                    <a:lnTo>
                      <a:pt x="1340" y="152"/>
                    </a:lnTo>
                    <a:lnTo>
                      <a:pt x="1498" y="165"/>
                    </a:lnTo>
                    <a:lnTo>
                      <a:pt x="1658" y="177"/>
                    </a:lnTo>
                    <a:lnTo>
                      <a:pt x="1819" y="191"/>
                    </a:lnTo>
                    <a:lnTo>
                      <a:pt x="1982" y="205"/>
                    </a:lnTo>
                    <a:lnTo>
                      <a:pt x="2148" y="223"/>
                    </a:lnTo>
                    <a:lnTo>
                      <a:pt x="2316" y="242"/>
                    </a:lnTo>
                    <a:lnTo>
                      <a:pt x="2402" y="253"/>
                    </a:lnTo>
                    <a:lnTo>
                      <a:pt x="2490" y="264"/>
                    </a:lnTo>
                    <a:lnTo>
                      <a:pt x="2578" y="277"/>
                    </a:lnTo>
                    <a:lnTo>
                      <a:pt x="2668" y="289"/>
                    </a:lnTo>
                    <a:lnTo>
                      <a:pt x="2670" y="269"/>
                    </a:lnTo>
                    <a:lnTo>
                      <a:pt x="2581" y="256"/>
                    </a:lnTo>
                    <a:lnTo>
                      <a:pt x="2492" y="243"/>
                    </a:lnTo>
                    <a:lnTo>
                      <a:pt x="2405" y="232"/>
                    </a:lnTo>
                    <a:lnTo>
                      <a:pt x="2319" y="221"/>
                    </a:lnTo>
                    <a:lnTo>
                      <a:pt x="2150" y="202"/>
                    </a:lnTo>
                    <a:lnTo>
                      <a:pt x="1984" y="186"/>
                    </a:lnTo>
                    <a:lnTo>
                      <a:pt x="1821" y="170"/>
                    </a:lnTo>
                    <a:lnTo>
                      <a:pt x="1659" y="156"/>
                    </a:lnTo>
                    <a:lnTo>
                      <a:pt x="1500" y="144"/>
                    </a:lnTo>
                    <a:lnTo>
                      <a:pt x="1341" y="131"/>
                    </a:lnTo>
                    <a:lnTo>
                      <a:pt x="1182" y="119"/>
                    </a:lnTo>
                    <a:lnTo>
                      <a:pt x="1022" y="107"/>
                    </a:lnTo>
                    <a:lnTo>
                      <a:pt x="861" y="93"/>
                    </a:lnTo>
                    <a:lnTo>
                      <a:pt x="699" y="79"/>
                    </a:lnTo>
                    <a:lnTo>
                      <a:pt x="533" y="63"/>
                    </a:lnTo>
                    <a:lnTo>
                      <a:pt x="363" y="44"/>
                    </a:lnTo>
                    <a:lnTo>
                      <a:pt x="191" y="23"/>
                    </a:lnTo>
                    <a:lnTo>
                      <a:pt x="13" y="0"/>
                    </a:lnTo>
                    <a:lnTo>
                      <a:pt x="19" y="16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105960" y="3701520"/>
                <a:ext cx="211680" cy="340560"/>
              </a:xfrm>
              <a:custGeom>
                <a:avLst/>
                <a:gdLst/>
                <a:ahLst/>
                <a:rect l="l" t="t" r="r" b="b"/>
                <a:pathLst>
                  <a:path w="559" h="902">
                    <a:moveTo>
                      <a:pt x="547" y="2"/>
                    </a:moveTo>
                    <a:lnTo>
                      <a:pt x="541" y="4"/>
                    </a:lnTo>
                    <a:lnTo>
                      <a:pt x="504" y="49"/>
                    </a:lnTo>
                    <a:lnTo>
                      <a:pt x="471" y="90"/>
                    </a:lnTo>
                    <a:lnTo>
                      <a:pt x="441" y="128"/>
                    </a:lnTo>
                    <a:lnTo>
                      <a:pt x="415" y="164"/>
                    </a:lnTo>
                    <a:lnTo>
                      <a:pt x="392" y="197"/>
                    </a:lnTo>
                    <a:lnTo>
                      <a:pt x="371" y="228"/>
                    </a:lnTo>
                    <a:lnTo>
                      <a:pt x="354" y="256"/>
                    </a:lnTo>
                    <a:lnTo>
                      <a:pt x="338" y="282"/>
                    </a:lnTo>
                    <a:lnTo>
                      <a:pt x="326" y="307"/>
                    </a:lnTo>
                    <a:lnTo>
                      <a:pt x="313" y="330"/>
                    </a:lnTo>
                    <a:lnTo>
                      <a:pt x="304" y="352"/>
                    </a:lnTo>
                    <a:lnTo>
                      <a:pt x="295" y="373"/>
                    </a:lnTo>
                    <a:lnTo>
                      <a:pt x="281" y="411"/>
                    </a:lnTo>
                    <a:lnTo>
                      <a:pt x="269" y="448"/>
                    </a:lnTo>
                    <a:lnTo>
                      <a:pt x="257" y="485"/>
                    </a:lnTo>
                    <a:lnTo>
                      <a:pt x="242" y="523"/>
                    </a:lnTo>
                    <a:lnTo>
                      <a:pt x="235" y="544"/>
                    </a:lnTo>
                    <a:lnTo>
                      <a:pt x="225" y="565"/>
                    </a:lnTo>
                    <a:lnTo>
                      <a:pt x="214" y="588"/>
                    </a:lnTo>
                    <a:lnTo>
                      <a:pt x="200" y="612"/>
                    </a:lnTo>
                    <a:lnTo>
                      <a:pt x="185" y="639"/>
                    </a:lnTo>
                    <a:lnTo>
                      <a:pt x="168" y="666"/>
                    </a:lnTo>
                    <a:lnTo>
                      <a:pt x="149" y="696"/>
                    </a:lnTo>
                    <a:lnTo>
                      <a:pt x="125" y="730"/>
                    </a:lnTo>
                    <a:lnTo>
                      <a:pt x="99" y="764"/>
                    </a:lnTo>
                    <a:lnTo>
                      <a:pt x="70" y="803"/>
                    </a:lnTo>
                    <a:lnTo>
                      <a:pt x="37" y="844"/>
                    </a:lnTo>
                    <a:lnTo>
                      <a:pt x="0" y="890"/>
                    </a:lnTo>
                    <a:lnTo>
                      <a:pt x="16" y="902"/>
                    </a:lnTo>
                    <a:lnTo>
                      <a:pt x="53" y="858"/>
                    </a:lnTo>
                    <a:lnTo>
                      <a:pt x="86" y="816"/>
                    </a:lnTo>
                    <a:lnTo>
                      <a:pt x="115" y="778"/>
                    </a:lnTo>
                    <a:lnTo>
                      <a:pt x="142" y="742"/>
                    </a:lnTo>
                    <a:lnTo>
                      <a:pt x="166" y="709"/>
                    </a:lnTo>
                    <a:lnTo>
                      <a:pt x="185" y="678"/>
                    </a:lnTo>
                    <a:lnTo>
                      <a:pt x="203" y="648"/>
                    </a:lnTo>
                    <a:lnTo>
                      <a:pt x="219" y="623"/>
                    </a:lnTo>
                    <a:lnTo>
                      <a:pt x="232" y="597"/>
                    </a:lnTo>
                    <a:lnTo>
                      <a:pt x="243" y="573"/>
                    </a:lnTo>
                    <a:lnTo>
                      <a:pt x="253" y="553"/>
                    </a:lnTo>
                    <a:lnTo>
                      <a:pt x="262" y="532"/>
                    </a:lnTo>
                    <a:lnTo>
                      <a:pt x="276" y="492"/>
                    </a:lnTo>
                    <a:lnTo>
                      <a:pt x="289" y="455"/>
                    </a:lnTo>
                    <a:lnTo>
                      <a:pt x="301" y="418"/>
                    </a:lnTo>
                    <a:lnTo>
                      <a:pt x="315" y="380"/>
                    </a:lnTo>
                    <a:lnTo>
                      <a:pt x="323" y="361"/>
                    </a:lnTo>
                    <a:lnTo>
                      <a:pt x="333" y="339"/>
                    </a:lnTo>
                    <a:lnTo>
                      <a:pt x="344" y="316"/>
                    </a:lnTo>
                    <a:lnTo>
                      <a:pt x="356" y="292"/>
                    </a:lnTo>
                    <a:lnTo>
                      <a:pt x="371" y="266"/>
                    </a:lnTo>
                    <a:lnTo>
                      <a:pt x="390" y="239"/>
                    </a:lnTo>
                    <a:lnTo>
                      <a:pt x="409" y="208"/>
                    </a:lnTo>
                    <a:lnTo>
                      <a:pt x="431" y="176"/>
                    </a:lnTo>
                    <a:lnTo>
                      <a:pt x="458" y="142"/>
                    </a:lnTo>
                    <a:lnTo>
                      <a:pt x="487" y="104"/>
                    </a:lnTo>
                    <a:lnTo>
                      <a:pt x="520" y="62"/>
                    </a:lnTo>
                    <a:lnTo>
                      <a:pt x="557" y="17"/>
                    </a:lnTo>
                    <a:lnTo>
                      <a:pt x="551" y="21"/>
                    </a:lnTo>
                    <a:lnTo>
                      <a:pt x="557" y="17"/>
                    </a:lnTo>
                    <a:lnTo>
                      <a:pt x="559" y="14"/>
                    </a:lnTo>
                    <a:lnTo>
                      <a:pt x="559" y="10"/>
                    </a:lnTo>
                    <a:lnTo>
                      <a:pt x="558" y="6"/>
                    </a:lnTo>
                    <a:lnTo>
                      <a:pt x="556" y="3"/>
                    </a:lnTo>
                    <a:lnTo>
                      <a:pt x="552" y="2"/>
                    </a:lnTo>
                    <a:lnTo>
                      <a:pt x="548" y="0"/>
                    </a:lnTo>
                    <a:lnTo>
                      <a:pt x="545" y="2"/>
                    </a:lnTo>
                    <a:lnTo>
                      <a:pt x="541" y="4"/>
                    </a:lnTo>
                    <a:lnTo>
                      <a:pt x="547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920560" y="3498840"/>
                <a:ext cx="766080" cy="874440"/>
              </a:xfrm>
              <a:custGeom>
                <a:avLst/>
                <a:gdLst/>
                <a:ahLst/>
                <a:rect l="l" t="t" r="r" b="b"/>
                <a:pathLst>
                  <a:path w="2027" h="2307">
                    <a:moveTo>
                      <a:pt x="1974" y="0"/>
                    </a:moveTo>
                    <a:lnTo>
                      <a:pt x="1994" y="102"/>
                    </a:lnTo>
                    <a:lnTo>
                      <a:pt x="2011" y="209"/>
                    </a:lnTo>
                    <a:lnTo>
                      <a:pt x="2019" y="264"/>
                    </a:lnTo>
                    <a:lnTo>
                      <a:pt x="2023" y="321"/>
                    </a:lnTo>
                    <a:lnTo>
                      <a:pt x="2026" y="350"/>
                    </a:lnTo>
                    <a:lnTo>
                      <a:pt x="2027" y="379"/>
                    </a:lnTo>
                    <a:lnTo>
                      <a:pt x="2027" y="408"/>
                    </a:lnTo>
                    <a:lnTo>
                      <a:pt x="2027" y="438"/>
                    </a:lnTo>
                    <a:lnTo>
                      <a:pt x="2026" y="468"/>
                    </a:lnTo>
                    <a:lnTo>
                      <a:pt x="2023" y="498"/>
                    </a:lnTo>
                    <a:lnTo>
                      <a:pt x="2021" y="529"/>
                    </a:lnTo>
                    <a:lnTo>
                      <a:pt x="2017" y="559"/>
                    </a:lnTo>
                    <a:lnTo>
                      <a:pt x="2012" y="590"/>
                    </a:lnTo>
                    <a:lnTo>
                      <a:pt x="2006" y="621"/>
                    </a:lnTo>
                    <a:lnTo>
                      <a:pt x="1999" y="652"/>
                    </a:lnTo>
                    <a:lnTo>
                      <a:pt x="1990" y="684"/>
                    </a:lnTo>
                    <a:lnTo>
                      <a:pt x="1980" y="714"/>
                    </a:lnTo>
                    <a:lnTo>
                      <a:pt x="1969" y="746"/>
                    </a:lnTo>
                    <a:lnTo>
                      <a:pt x="1957" y="778"/>
                    </a:lnTo>
                    <a:lnTo>
                      <a:pt x="1942" y="810"/>
                    </a:lnTo>
                    <a:lnTo>
                      <a:pt x="1927" y="842"/>
                    </a:lnTo>
                    <a:lnTo>
                      <a:pt x="1910" y="875"/>
                    </a:lnTo>
                    <a:lnTo>
                      <a:pt x="1891" y="907"/>
                    </a:lnTo>
                    <a:lnTo>
                      <a:pt x="1870" y="941"/>
                    </a:lnTo>
                    <a:lnTo>
                      <a:pt x="1836" y="948"/>
                    </a:lnTo>
                    <a:lnTo>
                      <a:pt x="1805" y="955"/>
                    </a:lnTo>
                    <a:lnTo>
                      <a:pt x="1773" y="965"/>
                    </a:lnTo>
                    <a:lnTo>
                      <a:pt x="1742" y="975"/>
                    </a:lnTo>
                    <a:lnTo>
                      <a:pt x="1711" y="986"/>
                    </a:lnTo>
                    <a:lnTo>
                      <a:pt x="1682" y="997"/>
                    </a:lnTo>
                    <a:lnTo>
                      <a:pt x="1652" y="1010"/>
                    </a:lnTo>
                    <a:lnTo>
                      <a:pt x="1624" y="1022"/>
                    </a:lnTo>
                    <a:lnTo>
                      <a:pt x="1513" y="1073"/>
                    </a:lnTo>
                    <a:lnTo>
                      <a:pt x="1405" y="1124"/>
                    </a:lnTo>
                    <a:lnTo>
                      <a:pt x="1378" y="1135"/>
                    </a:lnTo>
                    <a:lnTo>
                      <a:pt x="1351" y="1146"/>
                    </a:lnTo>
                    <a:lnTo>
                      <a:pt x="1324" y="1157"/>
                    </a:lnTo>
                    <a:lnTo>
                      <a:pt x="1295" y="1166"/>
                    </a:lnTo>
                    <a:lnTo>
                      <a:pt x="1268" y="1176"/>
                    </a:lnTo>
                    <a:lnTo>
                      <a:pt x="1240" y="1183"/>
                    </a:lnTo>
                    <a:lnTo>
                      <a:pt x="1212" y="1189"/>
                    </a:lnTo>
                    <a:lnTo>
                      <a:pt x="1183" y="1195"/>
                    </a:lnTo>
                    <a:lnTo>
                      <a:pt x="1154" y="1199"/>
                    </a:lnTo>
                    <a:lnTo>
                      <a:pt x="1124" y="1203"/>
                    </a:lnTo>
                    <a:lnTo>
                      <a:pt x="1094" y="1204"/>
                    </a:lnTo>
                    <a:lnTo>
                      <a:pt x="1062" y="1204"/>
                    </a:lnTo>
                    <a:lnTo>
                      <a:pt x="1031" y="1203"/>
                    </a:lnTo>
                    <a:lnTo>
                      <a:pt x="998" y="1199"/>
                    </a:lnTo>
                    <a:lnTo>
                      <a:pt x="964" y="1194"/>
                    </a:lnTo>
                    <a:lnTo>
                      <a:pt x="930" y="1187"/>
                    </a:lnTo>
                    <a:lnTo>
                      <a:pt x="899" y="1269"/>
                    </a:lnTo>
                    <a:lnTo>
                      <a:pt x="873" y="1347"/>
                    </a:lnTo>
                    <a:lnTo>
                      <a:pt x="851" y="1419"/>
                    </a:lnTo>
                    <a:lnTo>
                      <a:pt x="833" y="1488"/>
                    </a:lnTo>
                    <a:lnTo>
                      <a:pt x="818" y="1554"/>
                    </a:lnTo>
                    <a:lnTo>
                      <a:pt x="805" y="1617"/>
                    </a:lnTo>
                    <a:lnTo>
                      <a:pt x="795" y="1680"/>
                    </a:lnTo>
                    <a:lnTo>
                      <a:pt x="786" y="1741"/>
                    </a:lnTo>
                    <a:lnTo>
                      <a:pt x="780" y="1803"/>
                    </a:lnTo>
                    <a:lnTo>
                      <a:pt x="774" y="1864"/>
                    </a:lnTo>
                    <a:lnTo>
                      <a:pt x="770" y="1930"/>
                    </a:lnTo>
                    <a:lnTo>
                      <a:pt x="765" y="1996"/>
                    </a:lnTo>
                    <a:lnTo>
                      <a:pt x="757" y="2141"/>
                    </a:lnTo>
                    <a:lnTo>
                      <a:pt x="744" y="2307"/>
                    </a:lnTo>
                    <a:lnTo>
                      <a:pt x="684" y="2302"/>
                    </a:lnTo>
                    <a:lnTo>
                      <a:pt x="631" y="2299"/>
                    </a:lnTo>
                    <a:lnTo>
                      <a:pt x="582" y="2295"/>
                    </a:lnTo>
                    <a:lnTo>
                      <a:pt x="538" y="2292"/>
                    </a:lnTo>
                    <a:lnTo>
                      <a:pt x="457" y="2290"/>
                    </a:lnTo>
                    <a:lnTo>
                      <a:pt x="383" y="2290"/>
                    </a:lnTo>
                    <a:lnTo>
                      <a:pt x="308" y="2289"/>
                    </a:lnTo>
                    <a:lnTo>
                      <a:pt x="227" y="2287"/>
                    </a:lnTo>
                    <a:lnTo>
                      <a:pt x="182" y="2286"/>
                    </a:lnTo>
                    <a:lnTo>
                      <a:pt x="132" y="2284"/>
                    </a:lnTo>
                    <a:lnTo>
                      <a:pt x="78" y="2280"/>
                    </a:lnTo>
                    <a:lnTo>
                      <a:pt x="17" y="2275"/>
                    </a:lnTo>
                    <a:lnTo>
                      <a:pt x="24" y="2248"/>
                    </a:lnTo>
                    <a:lnTo>
                      <a:pt x="26" y="2220"/>
                    </a:lnTo>
                    <a:lnTo>
                      <a:pt x="27" y="2193"/>
                    </a:lnTo>
                    <a:lnTo>
                      <a:pt x="27" y="2164"/>
                    </a:lnTo>
                    <a:lnTo>
                      <a:pt x="25" y="2137"/>
                    </a:lnTo>
                    <a:lnTo>
                      <a:pt x="22" y="2109"/>
                    </a:lnTo>
                    <a:lnTo>
                      <a:pt x="19" y="2082"/>
                    </a:lnTo>
                    <a:lnTo>
                      <a:pt x="14" y="2054"/>
                    </a:lnTo>
                    <a:lnTo>
                      <a:pt x="10" y="2027"/>
                    </a:lnTo>
                    <a:lnTo>
                      <a:pt x="6" y="1998"/>
                    </a:lnTo>
                    <a:lnTo>
                      <a:pt x="3" y="1971"/>
                    </a:lnTo>
                    <a:lnTo>
                      <a:pt x="1" y="1943"/>
                    </a:lnTo>
                    <a:lnTo>
                      <a:pt x="0" y="1915"/>
                    </a:lnTo>
                    <a:lnTo>
                      <a:pt x="1" y="1888"/>
                    </a:lnTo>
                    <a:lnTo>
                      <a:pt x="5" y="1859"/>
                    </a:lnTo>
                    <a:lnTo>
                      <a:pt x="10" y="1831"/>
                    </a:lnTo>
                    <a:lnTo>
                      <a:pt x="40" y="1832"/>
                    </a:lnTo>
                    <a:lnTo>
                      <a:pt x="64" y="1832"/>
                    </a:lnTo>
                    <a:lnTo>
                      <a:pt x="86" y="1830"/>
                    </a:lnTo>
                    <a:lnTo>
                      <a:pt x="104" y="1829"/>
                    </a:lnTo>
                    <a:lnTo>
                      <a:pt x="118" y="1825"/>
                    </a:lnTo>
                    <a:lnTo>
                      <a:pt x="132" y="1823"/>
                    </a:lnTo>
                    <a:lnTo>
                      <a:pt x="144" y="1819"/>
                    </a:lnTo>
                    <a:lnTo>
                      <a:pt x="155" y="1815"/>
                    </a:lnTo>
                    <a:lnTo>
                      <a:pt x="166" y="1810"/>
                    </a:lnTo>
                    <a:lnTo>
                      <a:pt x="179" y="1808"/>
                    </a:lnTo>
                    <a:lnTo>
                      <a:pt x="191" y="1804"/>
                    </a:lnTo>
                    <a:lnTo>
                      <a:pt x="206" y="1802"/>
                    </a:lnTo>
                    <a:lnTo>
                      <a:pt x="223" y="1799"/>
                    </a:lnTo>
                    <a:lnTo>
                      <a:pt x="244" y="1798"/>
                    </a:lnTo>
                    <a:lnTo>
                      <a:pt x="267" y="1798"/>
                    </a:lnTo>
                    <a:lnTo>
                      <a:pt x="297" y="1799"/>
                    </a:lnTo>
                    <a:lnTo>
                      <a:pt x="305" y="1725"/>
                    </a:lnTo>
                    <a:lnTo>
                      <a:pt x="316" y="1656"/>
                    </a:lnTo>
                    <a:lnTo>
                      <a:pt x="329" y="1593"/>
                    </a:lnTo>
                    <a:lnTo>
                      <a:pt x="342" y="1531"/>
                    </a:lnTo>
                    <a:lnTo>
                      <a:pt x="357" y="1472"/>
                    </a:lnTo>
                    <a:lnTo>
                      <a:pt x="374" y="1417"/>
                    </a:lnTo>
                    <a:lnTo>
                      <a:pt x="391" y="1360"/>
                    </a:lnTo>
                    <a:lnTo>
                      <a:pt x="411" y="1306"/>
                    </a:lnTo>
                    <a:lnTo>
                      <a:pt x="453" y="1193"/>
                    </a:lnTo>
                    <a:lnTo>
                      <a:pt x="500" y="1072"/>
                    </a:lnTo>
                    <a:lnTo>
                      <a:pt x="525" y="1007"/>
                    </a:lnTo>
                    <a:lnTo>
                      <a:pt x="551" y="938"/>
                    </a:lnTo>
                    <a:lnTo>
                      <a:pt x="580" y="863"/>
                    </a:lnTo>
                    <a:lnTo>
                      <a:pt x="608" y="782"/>
                    </a:lnTo>
                    <a:lnTo>
                      <a:pt x="631" y="773"/>
                    </a:lnTo>
                    <a:lnTo>
                      <a:pt x="652" y="766"/>
                    </a:lnTo>
                    <a:lnTo>
                      <a:pt x="671" y="757"/>
                    </a:lnTo>
                    <a:lnTo>
                      <a:pt x="687" y="750"/>
                    </a:lnTo>
                    <a:lnTo>
                      <a:pt x="699" y="743"/>
                    </a:lnTo>
                    <a:lnTo>
                      <a:pt x="710" y="735"/>
                    </a:lnTo>
                    <a:lnTo>
                      <a:pt x="720" y="729"/>
                    </a:lnTo>
                    <a:lnTo>
                      <a:pt x="726" y="722"/>
                    </a:lnTo>
                    <a:lnTo>
                      <a:pt x="732" y="717"/>
                    </a:lnTo>
                    <a:lnTo>
                      <a:pt x="736" y="711"/>
                    </a:lnTo>
                    <a:lnTo>
                      <a:pt x="738" y="706"/>
                    </a:lnTo>
                    <a:lnTo>
                      <a:pt x="739" y="701"/>
                    </a:lnTo>
                    <a:lnTo>
                      <a:pt x="741" y="692"/>
                    </a:lnTo>
                    <a:lnTo>
                      <a:pt x="741" y="686"/>
                    </a:lnTo>
                    <a:lnTo>
                      <a:pt x="739" y="682"/>
                    </a:lnTo>
                    <a:lnTo>
                      <a:pt x="741" y="680"/>
                    </a:lnTo>
                    <a:lnTo>
                      <a:pt x="744" y="680"/>
                    </a:lnTo>
                    <a:lnTo>
                      <a:pt x="753" y="682"/>
                    </a:lnTo>
                    <a:lnTo>
                      <a:pt x="790" y="695"/>
                    </a:lnTo>
                    <a:lnTo>
                      <a:pt x="865" y="717"/>
                    </a:lnTo>
                    <a:lnTo>
                      <a:pt x="866" y="697"/>
                    </a:lnTo>
                    <a:lnTo>
                      <a:pt x="870" y="671"/>
                    </a:lnTo>
                    <a:lnTo>
                      <a:pt x="876" y="641"/>
                    </a:lnTo>
                    <a:lnTo>
                      <a:pt x="885" y="607"/>
                    </a:lnTo>
                    <a:lnTo>
                      <a:pt x="904" y="530"/>
                    </a:lnTo>
                    <a:lnTo>
                      <a:pt x="928" y="447"/>
                    </a:lnTo>
                    <a:lnTo>
                      <a:pt x="951" y="365"/>
                    </a:lnTo>
                    <a:lnTo>
                      <a:pt x="971" y="289"/>
                    </a:lnTo>
                    <a:lnTo>
                      <a:pt x="979" y="256"/>
                    </a:lnTo>
                    <a:lnTo>
                      <a:pt x="985" y="226"/>
                    </a:lnTo>
                    <a:lnTo>
                      <a:pt x="989" y="200"/>
                    </a:lnTo>
                    <a:lnTo>
                      <a:pt x="990" y="180"/>
                    </a:lnTo>
                    <a:lnTo>
                      <a:pt x="1058" y="176"/>
                    </a:lnTo>
                    <a:lnTo>
                      <a:pt x="1122" y="171"/>
                    </a:lnTo>
                    <a:lnTo>
                      <a:pt x="1185" y="163"/>
                    </a:lnTo>
                    <a:lnTo>
                      <a:pt x="1246" y="156"/>
                    </a:lnTo>
                    <a:lnTo>
                      <a:pt x="1305" y="147"/>
                    </a:lnTo>
                    <a:lnTo>
                      <a:pt x="1364" y="137"/>
                    </a:lnTo>
                    <a:lnTo>
                      <a:pt x="1422" y="128"/>
                    </a:lnTo>
                    <a:lnTo>
                      <a:pt x="1479" y="117"/>
                    </a:lnTo>
                    <a:lnTo>
                      <a:pt x="1594" y="92"/>
                    </a:lnTo>
                    <a:lnTo>
                      <a:pt x="1713" y="64"/>
                    </a:lnTo>
                    <a:lnTo>
                      <a:pt x="1839" y="33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a49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624720" y="3498840"/>
                <a:ext cx="65880" cy="3596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18" y="948"/>
                    </a:lnTo>
                    <a:lnTo>
                      <a:pt x="39" y="916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3"/>
                    </a:lnTo>
                    <a:lnTo>
                      <a:pt x="171" y="532"/>
                    </a:lnTo>
                    <a:lnTo>
                      <a:pt x="174" y="501"/>
                    </a:lnTo>
                    <a:lnTo>
                      <a:pt x="176" y="470"/>
                    </a:lnTo>
                    <a:lnTo>
                      <a:pt x="177" y="440"/>
                    </a:lnTo>
                    <a:lnTo>
                      <a:pt x="177" y="410"/>
                    </a:lnTo>
                    <a:lnTo>
                      <a:pt x="177" y="381"/>
                    </a:lnTo>
                    <a:lnTo>
                      <a:pt x="176" y="351"/>
                    </a:lnTo>
                    <a:lnTo>
                      <a:pt x="174" y="321"/>
                    </a:lnTo>
                    <a:lnTo>
                      <a:pt x="168" y="265"/>
                    </a:lnTo>
                    <a:lnTo>
                      <a:pt x="161" y="210"/>
                    </a:lnTo>
                    <a:lnTo>
                      <a:pt x="144" y="101"/>
                    </a:lnTo>
                    <a:lnTo>
                      <a:pt x="125" y="0"/>
                    </a:lnTo>
                    <a:lnTo>
                      <a:pt x="104" y="4"/>
                    </a:lnTo>
                    <a:lnTo>
                      <a:pt x="123" y="105"/>
                    </a:lnTo>
                    <a:lnTo>
                      <a:pt x="141" y="212"/>
                    </a:lnTo>
                    <a:lnTo>
                      <a:pt x="147" y="267"/>
                    </a:lnTo>
                    <a:lnTo>
                      <a:pt x="154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40"/>
                    </a:lnTo>
                    <a:lnTo>
                      <a:pt x="155" y="469"/>
                    </a:lnTo>
                    <a:lnTo>
                      <a:pt x="154" y="499"/>
                    </a:lnTo>
                    <a:lnTo>
                      <a:pt x="151" y="529"/>
                    </a:lnTo>
                    <a:lnTo>
                      <a:pt x="146" y="559"/>
                    </a:lnTo>
                    <a:lnTo>
                      <a:pt x="141" y="590"/>
                    </a:lnTo>
                    <a:lnTo>
                      <a:pt x="136" y="620"/>
                    </a:lnTo>
                    <a:lnTo>
                      <a:pt x="129" y="651"/>
                    </a:lnTo>
                    <a:lnTo>
                      <a:pt x="120" y="682"/>
                    </a:lnTo>
                    <a:lnTo>
                      <a:pt x="111" y="714"/>
                    </a:lnTo>
                    <a:lnTo>
                      <a:pt x="99" y="745"/>
                    </a:lnTo>
                    <a:lnTo>
                      <a:pt x="87" y="777"/>
                    </a:lnTo>
                    <a:lnTo>
                      <a:pt x="74" y="809"/>
                    </a:lnTo>
                    <a:lnTo>
                      <a:pt x="58" y="841"/>
                    </a:lnTo>
                    <a:lnTo>
                      <a:pt x="40" y="873"/>
                    </a:lnTo>
                    <a:lnTo>
                      <a:pt x="22" y="905"/>
                    </a:lnTo>
                    <a:lnTo>
                      <a:pt x="1" y="936"/>
                    </a:lnTo>
                    <a:lnTo>
                      <a:pt x="8" y="932"/>
                    </a:lnTo>
                    <a:lnTo>
                      <a:pt x="1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1" y="949"/>
                    </a:lnTo>
                    <a:lnTo>
                      <a:pt x="5" y="951"/>
                    </a:lnTo>
                    <a:lnTo>
                      <a:pt x="8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18" y="948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269040" y="3850920"/>
                <a:ext cx="358920" cy="108000"/>
              </a:xfrm>
              <a:custGeom>
                <a:avLst/>
                <a:gdLst/>
                <a:ahLst/>
                <a:rect l="l" t="t" r="r" b="b"/>
                <a:pathLst>
                  <a:path w="953" h="285">
                    <a:moveTo>
                      <a:pt x="21" y="260"/>
                    </a:moveTo>
                    <a:lnTo>
                      <a:pt x="9" y="266"/>
                    </a:lnTo>
                    <a:lnTo>
                      <a:pt x="43" y="274"/>
                    </a:lnTo>
                    <a:lnTo>
                      <a:pt x="77" y="279"/>
                    </a:lnTo>
                    <a:lnTo>
                      <a:pt x="111" y="282"/>
                    </a:lnTo>
                    <a:lnTo>
                      <a:pt x="143" y="285"/>
                    </a:lnTo>
                    <a:lnTo>
                      <a:pt x="175" y="285"/>
                    </a:lnTo>
                    <a:lnTo>
                      <a:pt x="205" y="282"/>
                    </a:lnTo>
                    <a:lnTo>
                      <a:pt x="236" y="280"/>
                    </a:lnTo>
                    <a:lnTo>
                      <a:pt x="266" y="275"/>
                    </a:lnTo>
                    <a:lnTo>
                      <a:pt x="295" y="270"/>
                    </a:lnTo>
                    <a:lnTo>
                      <a:pt x="323" y="263"/>
                    </a:lnTo>
                    <a:lnTo>
                      <a:pt x="352" y="255"/>
                    </a:lnTo>
                    <a:lnTo>
                      <a:pt x="380" y="246"/>
                    </a:lnTo>
                    <a:lnTo>
                      <a:pt x="408" y="236"/>
                    </a:lnTo>
                    <a:lnTo>
                      <a:pt x="435" y="226"/>
                    </a:lnTo>
                    <a:lnTo>
                      <a:pt x="462" y="215"/>
                    </a:lnTo>
                    <a:lnTo>
                      <a:pt x="489" y="203"/>
                    </a:lnTo>
                    <a:lnTo>
                      <a:pt x="598" y="152"/>
                    </a:lnTo>
                    <a:lnTo>
                      <a:pt x="708" y="100"/>
                    </a:lnTo>
                    <a:lnTo>
                      <a:pt x="738" y="88"/>
                    </a:lnTo>
                    <a:lnTo>
                      <a:pt x="766" y="77"/>
                    </a:lnTo>
                    <a:lnTo>
                      <a:pt x="796" y="66"/>
                    </a:lnTo>
                    <a:lnTo>
                      <a:pt x="826" y="55"/>
                    </a:lnTo>
                    <a:lnTo>
                      <a:pt x="857" y="45"/>
                    </a:lnTo>
                    <a:lnTo>
                      <a:pt x="888" y="35"/>
                    </a:lnTo>
                    <a:lnTo>
                      <a:pt x="920" y="28"/>
                    </a:lnTo>
                    <a:lnTo>
                      <a:pt x="953" y="20"/>
                    </a:lnTo>
                    <a:lnTo>
                      <a:pt x="949" y="0"/>
                    </a:lnTo>
                    <a:lnTo>
                      <a:pt x="915" y="7"/>
                    </a:lnTo>
                    <a:lnTo>
                      <a:pt x="883" y="16"/>
                    </a:lnTo>
                    <a:lnTo>
                      <a:pt x="851" y="25"/>
                    </a:lnTo>
                    <a:lnTo>
                      <a:pt x="819" y="35"/>
                    </a:lnTo>
                    <a:lnTo>
                      <a:pt x="788" y="46"/>
                    </a:lnTo>
                    <a:lnTo>
                      <a:pt x="759" y="57"/>
                    </a:lnTo>
                    <a:lnTo>
                      <a:pt x="729" y="70"/>
                    </a:lnTo>
                    <a:lnTo>
                      <a:pt x="700" y="82"/>
                    </a:lnTo>
                    <a:lnTo>
                      <a:pt x="589" y="134"/>
                    </a:lnTo>
                    <a:lnTo>
                      <a:pt x="481" y="184"/>
                    </a:lnTo>
                    <a:lnTo>
                      <a:pt x="454" y="195"/>
                    </a:lnTo>
                    <a:lnTo>
                      <a:pt x="428" y="206"/>
                    </a:lnTo>
                    <a:lnTo>
                      <a:pt x="401" y="217"/>
                    </a:lnTo>
                    <a:lnTo>
                      <a:pt x="374" y="226"/>
                    </a:lnTo>
                    <a:lnTo>
                      <a:pt x="346" y="234"/>
                    </a:lnTo>
                    <a:lnTo>
                      <a:pt x="319" y="243"/>
                    </a:lnTo>
                    <a:lnTo>
                      <a:pt x="290" y="249"/>
                    </a:lnTo>
                    <a:lnTo>
                      <a:pt x="262" y="255"/>
                    </a:lnTo>
                    <a:lnTo>
                      <a:pt x="234" y="259"/>
                    </a:lnTo>
                    <a:lnTo>
                      <a:pt x="204" y="262"/>
                    </a:lnTo>
                    <a:lnTo>
                      <a:pt x="175" y="264"/>
                    </a:lnTo>
                    <a:lnTo>
                      <a:pt x="144" y="264"/>
                    </a:lnTo>
                    <a:lnTo>
                      <a:pt x="112" y="262"/>
                    </a:lnTo>
                    <a:lnTo>
                      <a:pt x="80" y="259"/>
                    </a:lnTo>
                    <a:lnTo>
                      <a:pt x="47" y="253"/>
                    </a:lnTo>
                    <a:lnTo>
                      <a:pt x="13" y="246"/>
                    </a:lnTo>
                    <a:lnTo>
                      <a:pt x="1" y="253"/>
                    </a:lnTo>
                    <a:lnTo>
                      <a:pt x="13" y="246"/>
                    </a:lnTo>
                    <a:lnTo>
                      <a:pt x="9" y="246"/>
                    </a:lnTo>
                    <a:lnTo>
                      <a:pt x="5" y="248"/>
                    </a:lnTo>
                    <a:lnTo>
                      <a:pt x="2" y="250"/>
                    </a:lnTo>
                    <a:lnTo>
                      <a:pt x="1" y="254"/>
                    </a:lnTo>
                    <a:lnTo>
                      <a:pt x="0" y="258"/>
                    </a:lnTo>
                    <a:lnTo>
                      <a:pt x="1" y="262"/>
                    </a:lnTo>
                    <a:lnTo>
                      <a:pt x="5" y="264"/>
                    </a:lnTo>
                    <a:lnTo>
                      <a:pt x="9" y="266"/>
                    </a:lnTo>
                    <a:lnTo>
                      <a:pt x="21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197040" y="3947400"/>
                <a:ext cx="79200" cy="429480"/>
              </a:xfrm>
              <a:custGeom>
                <a:avLst/>
                <a:gdLst/>
                <a:ahLst/>
                <a:rect l="l" t="t" r="r" b="b"/>
                <a:pathLst>
                  <a:path w="207" h="1135">
                    <a:moveTo>
                      <a:pt x="10" y="1135"/>
                    </a:moveTo>
                    <a:lnTo>
                      <a:pt x="21" y="1125"/>
                    </a:lnTo>
                    <a:lnTo>
                      <a:pt x="33" y="959"/>
                    </a:lnTo>
                    <a:lnTo>
                      <a:pt x="43" y="814"/>
                    </a:lnTo>
                    <a:lnTo>
                      <a:pt x="47" y="747"/>
                    </a:lnTo>
                    <a:lnTo>
                      <a:pt x="52" y="683"/>
                    </a:lnTo>
                    <a:lnTo>
                      <a:pt x="57" y="620"/>
                    </a:lnTo>
                    <a:lnTo>
                      <a:pt x="64" y="560"/>
                    </a:lnTo>
                    <a:lnTo>
                      <a:pt x="72" y="498"/>
                    </a:lnTo>
                    <a:lnTo>
                      <a:pt x="83" y="437"/>
                    </a:lnTo>
                    <a:lnTo>
                      <a:pt x="95" y="374"/>
                    </a:lnTo>
                    <a:lnTo>
                      <a:pt x="110" y="307"/>
                    </a:lnTo>
                    <a:lnTo>
                      <a:pt x="128" y="240"/>
                    </a:lnTo>
                    <a:lnTo>
                      <a:pt x="150" y="167"/>
                    </a:lnTo>
                    <a:lnTo>
                      <a:pt x="176" y="90"/>
                    </a:lnTo>
                    <a:lnTo>
                      <a:pt x="207" y="7"/>
                    </a:lnTo>
                    <a:lnTo>
                      <a:pt x="187" y="0"/>
                    </a:lnTo>
                    <a:lnTo>
                      <a:pt x="156" y="84"/>
                    </a:lnTo>
                    <a:lnTo>
                      <a:pt x="131" y="161"/>
                    </a:lnTo>
                    <a:lnTo>
                      <a:pt x="108" y="234"/>
                    </a:lnTo>
                    <a:lnTo>
                      <a:pt x="90" y="303"/>
                    </a:lnTo>
                    <a:lnTo>
                      <a:pt x="74" y="369"/>
                    </a:lnTo>
                    <a:lnTo>
                      <a:pt x="62" y="433"/>
                    </a:lnTo>
                    <a:lnTo>
                      <a:pt x="52" y="496"/>
                    </a:lnTo>
                    <a:lnTo>
                      <a:pt x="43" y="557"/>
                    </a:lnTo>
                    <a:lnTo>
                      <a:pt x="36" y="619"/>
                    </a:lnTo>
                    <a:lnTo>
                      <a:pt x="31" y="681"/>
                    </a:lnTo>
                    <a:lnTo>
                      <a:pt x="26" y="745"/>
                    </a:lnTo>
                    <a:lnTo>
                      <a:pt x="22" y="813"/>
                    </a:lnTo>
                    <a:lnTo>
                      <a:pt x="13" y="958"/>
                    </a:lnTo>
                    <a:lnTo>
                      <a:pt x="0" y="1124"/>
                    </a:lnTo>
                    <a:lnTo>
                      <a:pt x="13" y="1114"/>
                    </a:lnTo>
                    <a:lnTo>
                      <a:pt x="0" y="1124"/>
                    </a:lnTo>
                    <a:lnTo>
                      <a:pt x="1" y="1128"/>
                    </a:lnTo>
                    <a:lnTo>
                      <a:pt x="4" y="1132"/>
                    </a:lnTo>
                    <a:lnTo>
                      <a:pt x="6" y="1134"/>
                    </a:lnTo>
                    <a:lnTo>
                      <a:pt x="10" y="1135"/>
                    </a:lnTo>
                    <a:lnTo>
                      <a:pt x="14" y="1135"/>
                    </a:lnTo>
                    <a:lnTo>
                      <a:pt x="17" y="1133"/>
                    </a:lnTo>
                    <a:lnTo>
                      <a:pt x="20" y="1130"/>
                    </a:lnTo>
                    <a:lnTo>
                      <a:pt x="21" y="1125"/>
                    </a:lnTo>
                    <a:lnTo>
                      <a:pt x="10" y="11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5922720" y="4356720"/>
                <a:ext cx="279720" cy="20520"/>
              </a:xfrm>
              <a:custGeom>
                <a:avLst/>
                <a:gdLst/>
                <a:ahLst/>
                <a:rect l="l" t="t" r="r" b="b"/>
                <a:pathLst>
                  <a:path w="738" h="54">
                    <a:moveTo>
                      <a:pt x="0" y="9"/>
                    </a:moveTo>
                    <a:lnTo>
                      <a:pt x="8" y="21"/>
                    </a:lnTo>
                    <a:lnTo>
                      <a:pt x="70" y="26"/>
                    </a:lnTo>
                    <a:lnTo>
                      <a:pt x="124" y="30"/>
                    </a:lnTo>
                    <a:lnTo>
                      <a:pt x="173" y="32"/>
                    </a:lnTo>
                    <a:lnTo>
                      <a:pt x="219" y="33"/>
                    </a:lnTo>
                    <a:lnTo>
                      <a:pt x="300" y="36"/>
                    </a:lnTo>
                    <a:lnTo>
                      <a:pt x="375" y="36"/>
                    </a:lnTo>
                    <a:lnTo>
                      <a:pt x="449" y="37"/>
                    </a:lnTo>
                    <a:lnTo>
                      <a:pt x="528" y="39"/>
                    </a:lnTo>
                    <a:lnTo>
                      <a:pt x="574" y="42"/>
                    </a:lnTo>
                    <a:lnTo>
                      <a:pt x="622" y="44"/>
                    </a:lnTo>
                    <a:lnTo>
                      <a:pt x="676" y="48"/>
                    </a:lnTo>
                    <a:lnTo>
                      <a:pt x="735" y="54"/>
                    </a:lnTo>
                    <a:lnTo>
                      <a:pt x="738" y="33"/>
                    </a:lnTo>
                    <a:lnTo>
                      <a:pt x="677" y="28"/>
                    </a:lnTo>
                    <a:lnTo>
                      <a:pt x="623" y="23"/>
                    </a:lnTo>
                    <a:lnTo>
                      <a:pt x="575" y="21"/>
                    </a:lnTo>
                    <a:lnTo>
                      <a:pt x="530" y="19"/>
                    </a:lnTo>
                    <a:lnTo>
                      <a:pt x="449" y="16"/>
                    </a:lnTo>
                    <a:lnTo>
                      <a:pt x="375" y="15"/>
                    </a:lnTo>
                    <a:lnTo>
                      <a:pt x="301" y="15"/>
                    </a:lnTo>
                    <a:lnTo>
                      <a:pt x="220" y="12"/>
                    </a:lnTo>
                    <a:lnTo>
                      <a:pt x="174" y="11"/>
                    </a:lnTo>
                    <a:lnTo>
                      <a:pt x="125" y="9"/>
                    </a:lnTo>
                    <a:lnTo>
                      <a:pt x="71" y="5"/>
                    </a:lnTo>
                    <a:lnTo>
                      <a:pt x="11" y="0"/>
                    </a:lnTo>
                    <a:lnTo>
                      <a:pt x="19" y="1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0"/>
                    </a:lnTo>
                    <a:lnTo>
                      <a:pt x="8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5916600" y="4190040"/>
                <a:ext cx="16920" cy="172080"/>
              </a:xfrm>
              <a:custGeom>
                <a:avLst/>
                <a:gdLst/>
                <a:ahLst/>
                <a:rect l="l" t="t" r="r" b="b"/>
                <a:pathLst>
                  <a:path w="48" h="457">
                    <a:moveTo>
                      <a:pt x="21" y="0"/>
                    </a:moveTo>
                    <a:lnTo>
                      <a:pt x="10" y="8"/>
                    </a:lnTo>
                    <a:lnTo>
                      <a:pt x="4" y="37"/>
                    </a:lnTo>
                    <a:lnTo>
                      <a:pt x="2" y="66"/>
                    </a:lnTo>
                    <a:lnTo>
                      <a:pt x="0" y="94"/>
                    </a:lnTo>
                    <a:lnTo>
                      <a:pt x="0" y="122"/>
                    </a:lnTo>
                    <a:lnTo>
                      <a:pt x="3" y="150"/>
                    </a:lnTo>
                    <a:lnTo>
                      <a:pt x="5" y="179"/>
                    </a:lnTo>
                    <a:lnTo>
                      <a:pt x="10" y="207"/>
                    </a:lnTo>
                    <a:lnTo>
                      <a:pt x="14" y="235"/>
                    </a:lnTo>
                    <a:lnTo>
                      <a:pt x="18" y="262"/>
                    </a:lnTo>
                    <a:lnTo>
                      <a:pt x="21" y="289"/>
                    </a:lnTo>
                    <a:lnTo>
                      <a:pt x="25" y="318"/>
                    </a:lnTo>
                    <a:lnTo>
                      <a:pt x="26" y="345"/>
                    </a:lnTo>
                    <a:lnTo>
                      <a:pt x="27" y="372"/>
                    </a:lnTo>
                    <a:lnTo>
                      <a:pt x="26" y="399"/>
                    </a:lnTo>
                    <a:lnTo>
                      <a:pt x="23" y="425"/>
                    </a:lnTo>
                    <a:lnTo>
                      <a:pt x="18" y="452"/>
                    </a:lnTo>
                    <a:lnTo>
                      <a:pt x="37" y="457"/>
                    </a:lnTo>
                    <a:lnTo>
                      <a:pt x="43" y="428"/>
                    </a:lnTo>
                    <a:lnTo>
                      <a:pt x="47" y="400"/>
                    </a:lnTo>
                    <a:lnTo>
                      <a:pt x="48" y="372"/>
                    </a:lnTo>
                    <a:lnTo>
                      <a:pt x="47" y="343"/>
                    </a:lnTo>
                    <a:lnTo>
                      <a:pt x="45" y="315"/>
                    </a:lnTo>
                    <a:lnTo>
                      <a:pt x="42" y="287"/>
                    </a:lnTo>
                    <a:lnTo>
                      <a:pt x="39" y="260"/>
                    </a:lnTo>
                    <a:lnTo>
                      <a:pt x="35" y="232"/>
                    </a:lnTo>
                    <a:lnTo>
                      <a:pt x="30" y="204"/>
                    </a:lnTo>
                    <a:lnTo>
                      <a:pt x="26" y="176"/>
                    </a:lnTo>
                    <a:lnTo>
                      <a:pt x="24" y="149"/>
                    </a:lnTo>
                    <a:lnTo>
                      <a:pt x="21" y="122"/>
                    </a:lnTo>
                    <a:lnTo>
                      <a:pt x="21" y="94"/>
                    </a:lnTo>
                    <a:lnTo>
                      <a:pt x="23" y="67"/>
                    </a:lnTo>
                    <a:lnTo>
                      <a:pt x="25" y="40"/>
                    </a:lnTo>
                    <a:lnTo>
                      <a:pt x="31" y="13"/>
                    </a:lnTo>
                    <a:lnTo>
                      <a:pt x="20" y="21"/>
                    </a:lnTo>
                    <a:lnTo>
                      <a:pt x="31" y="13"/>
                    </a:lnTo>
                    <a:lnTo>
                      <a:pt x="31" y="9"/>
                    </a:lnTo>
                    <a:lnTo>
                      <a:pt x="30" y="5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5924520" y="4176720"/>
                <a:ext cx="111240" cy="20520"/>
              </a:xfrm>
              <a:custGeom>
                <a:avLst/>
                <a:gdLst/>
                <a:ahLst/>
                <a:rect l="l" t="t" r="r" b="b"/>
                <a:pathLst>
                  <a:path w="296" h="54">
                    <a:moveTo>
                      <a:pt x="276" y="10"/>
                    </a:moveTo>
                    <a:lnTo>
                      <a:pt x="287" y="1"/>
                    </a:lnTo>
                    <a:lnTo>
                      <a:pt x="258" y="0"/>
                    </a:lnTo>
                    <a:lnTo>
                      <a:pt x="234" y="0"/>
                    </a:lnTo>
                    <a:lnTo>
                      <a:pt x="213" y="1"/>
                    </a:lnTo>
                    <a:lnTo>
                      <a:pt x="194" y="3"/>
                    </a:lnTo>
                    <a:lnTo>
                      <a:pt x="178" y="6"/>
                    </a:lnTo>
                    <a:lnTo>
                      <a:pt x="165" y="9"/>
                    </a:lnTo>
                    <a:lnTo>
                      <a:pt x="153" y="12"/>
                    </a:lnTo>
                    <a:lnTo>
                      <a:pt x="141" y="16"/>
                    </a:lnTo>
                    <a:lnTo>
                      <a:pt x="130" y="21"/>
                    </a:lnTo>
                    <a:lnTo>
                      <a:pt x="119" y="23"/>
                    </a:lnTo>
                    <a:lnTo>
                      <a:pt x="107" y="27"/>
                    </a:lnTo>
                    <a:lnTo>
                      <a:pt x="92" y="30"/>
                    </a:lnTo>
                    <a:lnTo>
                      <a:pt x="75" y="32"/>
                    </a:lnTo>
                    <a:lnTo>
                      <a:pt x="54" y="33"/>
                    </a:lnTo>
                    <a:lnTo>
                      <a:pt x="30" y="35"/>
                    </a:lnTo>
                    <a:lnTo>
                      <a:pt x="1" y="33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55" y="54"/>
                    </a:lnTo>
                    <a:lnTo>
                      <a:pt x="76" y="53"/>
                    </a:lnTo>
                    <a:lnTo>
                      <a:pt x="95" y="51"/>
                    </a:lnTo>
                    <a:lnTo>
                      <a:pt x="111" y="48"/>
                    </a:lnTo>
                    <a:lnTo>
                      <a:pt x="124" y="44"/>
                    </a:lnTo>
                    <a:lnTo>
                      <a:pt x="137" y="41"/>
                    </a:lnTo>
                    <a:lnTo>
                      <a:pt x="149" y="37"/>
                    </a:lnTo>
                    <a:lnTo>
                      <a:pt x="160" y="33"/>
                    </a:lnTo>
                    <a:lnTo>
                      <a:pt x="171" y="30"/>
                    </a:lnTo>
                    <a:lnTo>
                      <a:pt x="183" y="26"/>
                    </a:lnTo>
                    <a:lnTo>
                      <a:pt x="197" y="23"/>
                    </a:lnTo>
                    <a:lnTo>
                      <a:pt x="214" y="22"/>
                    </a:lnTo>
                    <a:lnTo>
                      <a:pt x="234" y="21"/>
                    </a:lnTo>
                    <a:lnTo>
                      <a:pt x="257" y="21"/>
                    </a:lnTo>
                    <a:lnTo>
                      <a:pt x="285" y="21"/>
                    </a:lnTo>
                    <a:lnTo>
                      <a:pt x="296" y="12"/>
                    </a:lnTo>
                    <a:lnTo>
                      <a:pt x="285" y="21"/>
                    </a:lnTo>
                    <a:lnTo>
                      <a:pt x="290" y="21"/>
                    </a:lnTo>
                    <a:lnTo>
                      <a:pt x="294" y="19"/>
                    </a:lnTo>
                    <a:lnTo>
                      <a:pt x="295" y="16"/>
                    </a:lnTo>
                    <a:lnTo>
                      <a:pt x="296" y="11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2" y="1"/>
                    </a:lnTo>
                    <a:lnTo>
                      <a:pt x="287" y="1"/>
                    </a:lnTo>
                    <a:lnTo>
                      <a:pt x="276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6028200" y="3792600"/>
                <a:ext cx="125280" cy="387720"/>
              </a:xfrm>
              <a:custGeom>
                <a:avLst/>
                <a:gdLst/>
                <a:ahLst/>
                <a:rect l="l" t="t" r="r" b="b"/>
                <a:pathLst>
                  <a:path w="332" h="1028">
                    <a:moveTo>
                      <a:pt x="318" y="0"/>
                    </a:moveTo>
                    <a:lnTo>
                      <a:pt x="312" y="8"/>
                    </a:lnTo>
                    <a:lnTo>
                      <a:pt x="284" y="87"/>
                    </a:lnTo>
                    <a:lnTo>
                      <a:pt x="255" y="162"/>
                    </a:lnTo>
                    <a:lnTo>
                      <a:pt x="230" y="231"/>
                    </a:lnTo>
                    <a:lnTo>
                      <a:pt x="205" y="297"/>
                    </a:lnTo>
                    <a:lnTo>
                      <a:pt x="157" y="417"/>
                    </a:lnTo>
                    <a:lnTo>
                      <a:pt x="115" y="530"/>
                    </a:lnTo>
                    <a:lnTo>
                      <a:pt x="95" y="586"/>
                    </a:lnTo>
                    <a:lnTo>
                      <a:pt x="77" y="641"/>
                    </a:lnTo>
                    <a:lnTo>
                      <a:pt x="61" y="698"/>
                    </a:lnTo>
                    <a:lnTo>
                      <a:pt x="45" y="757"/>
                    </a:lnTo>
                    <a:lnTo>
                      <a:pt x="32" y="818"/>
                    </a:lnTo>
                    <a:lnTo>
                      <a:pt x="19" y="883"/>
                    </a:lnTo>
                    <a:lnTo>
                      <a:pt x="9" y="952"/>
                    </a:lnTo>
                    <a:lnTo>
                      <a:pt x="0" y="1026"/>
                    </a:lnTo>
                    <a:lnTo>
                      <a:pt x="20" y="1028"/>
                    </a:lnTo>
                    <a:lnTo>
                      <a:pt x="29" y="955"/>
                    </a:lnTo>
                    <a:lnTo>
                      <a:pt x="40" y="886"/>
                    </a:lnTo>
                    <a:lnTo>
                      <a:pt x="52" y="822"/>
                    </a:lnTo>
                    <a:lnTo>
                      <a:pt x="66" y="761"/>
                    </a:lnTo>
                    <a:lnTo>
                      <a:pt x="81" y="704"/>
                    </a:lnTo>
                    <a:lnTo>
                      <a:pt x="98" y="647"/>
                    </a:lnTo>
                    <a:lnTo>
                      <a:pt x="115" y="592"/>
                    </a:lnTo>
                    <a:lnTo>
                      <a:pt x="135" y="538"/>
                    </a:lnTo>
                    <a:lnTo>
                      <a:pt x="177" y="424"/>
                    </a:lnTo>
                    <a:lnTo>
                      <a:pt x="223" y="304"/>
                    </a:lnTo>
                    <a:lnTo>
                      <a:pt x="249" y="239"/>
                    </a:lnTo>
                    <a:lnTo>
                      <a:pt x="275" y="170"/>
                    </a:lnTo>
                    <a:lnTo>
                      <a:pt x="303" y="95"/>
                    </a:lnTo>
                    <a:lnTo>
                      <a:pt x="332" y="14"/>
                    </a:lnTo>
                    <a:lnTo>
                      <a:pt x="324" y="20"/>
                    </a:lnTo>
                    <a:lnTo>
                      <a:pt x="332" y="14"/>
                    </a:lnTo>
                    <a:lnTo>
                      <a:pt x="332" y="9"/>
                    </a:lnTo>
                    <a:lnTo>
                      <a:pt x="330" y="5"/>
                    </a:lnTo>
                    <a:lnTo>
                      <a:pt x="328" y="3"/>
                    </a:lnTo>
                    <a:lnTo>
                      <a:pt x="324" y="0"/>
                    </a:lnTo>
                    <a:lnTo>
                      <a:pt x="321" y="0"/>
                    </a:lnTo>
                    <a:lnTo>
                      <a:pt x="317" y="0"/>
                    </a:lnTo>
                    <a:lnTo>
                      <a:pt x="313" y="3"/>
                    </a:lnTo>
                    <a:lnTo>
                      <a:pt x="312" y="8"/>
                    </a:lnTo>
                    <a:lnTo>
                      <a:pt x="3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149880" y="375264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72" h="122">
                    <a:moveTo>
                      <a:pt x="251" y="47"/>
                    </a:moveTo>
                    <a:lnTo>
                      <a:pt x="263" y="37"/>
                    </a:lnTo>
                    <a:lnTo>
                      <a:pt x="188" y="15"/>
                    </a:lnTo>
                    <a:lnTo>
                      <a:pt x="151" y="2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27" y="22"/>
                    </a:lnTo>
                    <a:lnTo>
                      <a:pt x="126" y="28"/>
                    </a:lnTo>
                    <a:lnTo>
                      <a:pt x="124" y="31"/>
                    </a:lnTo>
                    <a:lnTo>
                      <a:pt x="123" y="36"/>
                    </a:lnTo>
                    <a:lnTo>
                      <a:pt x="119" y="39"/>
                    </a:lnTo>
                    <a:lnTo>
                      <a:pt x="114" y="44"/>
                    </a:lnTo>
                    <a:lnTo>
                      <a:pt x="108" y="50"/>
                    </a:lnTo>
                    <a:lnTo>
                      <a:pt x="100" y="57"/>
                    </a:lnTo>
                    <a:lnTo>
                      <a:pt x="90" y="64"/>
                    </a:lnTo>
                    <a:lnTo>
                      <a:pt x="78" y="70"/>
                    </a:lnTo>
                    <a:lnTo>
                      <a:pt x="62" y="78"/>
                    </a:lnTo>
                    <a:lnTo>
                      <a:pt x="44" y="86"/>
                    </a:lnTo>
                    <a:lnTo>
                      <a:pt x="23" y="94"/>
                    </a:lnTo>
                    <a:lnTo>
                      <a:pt x="0" y="102"/>
                    </a:lnTo>
                    <a:lnTo>
                      <a:pt x="6" y="122"/>
                    </a:lnTo>
                    <a:lnTo>
                      <a:pt x="31" y="113"/>
                    </a:lnTo>
                    <a:lnTo>
                      <a:pt x="52" y="105"/>
                    </a:lnTo>
                    <a:lnTo>
                      <a:pt x="71" y="97"/>
                    </a:lnTo>
                    <a:lnTo>
                      <a:pt x="87" y="89"/>
                    </a:lnTo>
                    <a:lnTo>
                      <a:pt x="101" y="81"/>
                    </a:lnTo>
                    <a:lnTo>
                      <a:pt x="112" y="74"/>
                    </a:lnTo>
                    <a:lnTo>
                      <a:pt x="122" y="66"/>
                    </a:lnTo>
                    <a:lnTo>
                      <a:pt x="129" y="59"/>
                    </a:lnTo>
                    <a:lnTo>
                      <a:pt x="135" y="53"/>
                    </a:lnTo>
                    <a:lnTo>
                      <a:pt x="140" y="47"/>
                    </a:lnTo>
                    <a:lnTo>
                      <a:pt x="144" y="39"/>
                    </a:lnTo>
                    <a:lnTo>
                      <a:pt x="146" y="33"/>
                    </a:lnTo>
                    <a:lnTo>
                      <a:pt x="148" y="23"/>
                    </a:lnTo>
                    <a:lnTo>
                      <a:pt x="146" y="15"/>
                    </a:lnTo>
                    <a:lnTo>
                      <a:pt x="146" y="12"/>
                    </a:lnTo>
                    <a:lnTo>
                      <a:pt x="142" y="18"/>
                    </a:lnTo>
                    <a:lnTo>
                      <a:pt x="138" y="20"/>
                    </a:lnTo>
                    <a:lnTo>
                      <a:pt x="145" y="22"/>
                    </a:lnTo>
                    <a:lnTo>
                      <a:pt x="182" y="34"/>
                    </a:lnTo>
                    <a:lnTo>
                      <a:pt x="258" y="58"/>
                    </a:lnTo>
                    <a:lnTo>
                      <a:pt x="272" y="47"/>
                    </a:lnTo>
                    <a:lnTo>
                      <a:pt x="258" y="58"/>
                    </a:lnTo>
                    <a:lnTo>
                      <a:pt x="262" y="58"/>
                    </a:lnTo>
                    <a:lnTo>
                      <a:pt x="267" y="57"/>
                    </a:lnTo>
                    <a:lnTo>
                      <a:pt x="269" y="54"/>
                    </a:lnTo>
                    <a:lnTo>
                      <a:pt x="271" y="50"/>
                    </a:lnTo>
                    <a:lnTo>
                      <a:pt x="272" y="47"/>
                    </a:lnTo>
                    <a:lnTo>
                      <a:pt x="271" y="43"/>
                    </a:lnTo>
                    <a:lnTo>
                      <a:pt x="268" y="39"/>
                    </a:lnTo>
                    <a:lnTo>
                      <a:pt x="263" y="37"/>
                    </a:lnTo>
                    <a:lnTo>
                      <a:pt x="251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6244200" y="3565440"/>
                <a:ext cx="54720" cy="205920"/>
              </a:xfrm>
              <a:custGeom>
                <a:avLst/>
                <a:gdLst/>
                <a:ahLst/>
                <a:rect l="l" t="t" r="r" b="b"/>
                <a:pathLst>
                  <a:path w="145" h="546">
                    <a:moveTo>
                      <a:pt x="134" y="0"/>
                    </a:moveTo>
                    <a:lnTo>
                      <a:pt x="124" y="9"/>
                    </a:lnTo>
                    <a:lnTo>
                      <a:pt x="123" y="28"/>
                    </a:lnTo>
                    <a:lnTo>
                      <a:pt x="119" y="53"/>
                    </a:lnTo>
                    <a:lnTo>
                      <a:pt x="113" y="82"/>
                    </a:lnTo>
                    <a:lnTo>
                      <a:pt x="106" y="115"/>
                    </a:lnTo>
                    <a:lnTo>
                      <a:pt x="86" y="192"/>
                    </a:lnTo>
                    <a:lnTo>
                      <a:pt x="63" y="274"/>
                    </a:lnTo>
                    <a:lnTo>
                      <a:pt x="39" y="356"/>
                    </a:lnTo>
                    <a:lnTo>
                      <a:pt x="20" y="433"/>
                    </a:lnTo>
                    <a:lnTo>
                      <a:pt x="11" y="467"/>
                    </a:lnTo>
                    <a:lnTo>
                      <a:pt x="5" y="498"/>
                    </a:lnTo>
                    <a:lnTo>
                      <a:pt x="1" y="525"/>
                    </a:lnTo>
                    <a:lnTo>
                      <a:pt x="0" y="546"/>
                    </a:lnTo>
                    <a:lnTo>
                      <a:pt x="21" y="546"/>
                    </a:lnTo>
                    <a:lnTo>
                      <a:pt x="22" y="527"/>
                    </a:lnTo>
                    <a:lnTo>
                      <a:pt x="26" y="501"/>
                    </a:lnTo>
                    <a:lnTo>
                      <a:pt x="32" y="472"/>
                    </a:lnTo>
                    <a:lnTo>
                      <a:pt x="39" y="439"/>
                    </a:lnTo>
                    <a:lnTo>
                      <a:pt x="59" y="361"/>
                    </a:lnTo>
                    <a:lnTo>
                      <a:pt x="82" y="279"/>
                    </a:lnTo>
                    <a:lnTo>
                      <a:pt x="106" y="196"/>
                    </a:lnTo>
                    <a:lnTo>
                      <a:pt x="125" y="120"/>
                    </a:lnTo>
                    <a:lnTo>
                      <a:pt x="134" y="87"/>
                    </a:lnTo>
                    <a:lnTo>
                      <a:pt x="140" y="56"/>
                    </a:lnTo>
                    <a:lnTo>
                      <a:pt x="144" y="30"/>
                    </a:lnTo>
                    <a:lnTo>
                      <a:pt x="145" y="9"/>
                    </a:lnTo>
                    <a:lnTo>
                      <a:pt x="137" y="21"/>
                    </a:lnTo>
                    <a:lnTo>
                      <a:pt x="145" y="9"/>
                    </a:lnTo>
                    <a:lnTo>
                      <a:pt x="145" y="6"/>
                    </a:lnTo>
                    <a:lnTo>
                      <a:pt x="143" y="2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8" y="2"/>
                    </a:lnTo>
                    <a:lnTo>
                      <a:pt x="125" y="6"/>
                    </a:lnTo>
                    <a:lnTo>
                      <a:pt x="124" y="9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6295320" y="3494880"/>
                <a:ext cx="376560" cy="77400"/>
              </a:xfrm>
              <a:custGeom>
                <a:avLst/>
                <a:gdLst/>
                <a:ahLst/>
                <a:rect l="l" t="t" r="r" b="b"/>
                <a:pathLst>
                  <a:path w="996" h="202">
                    <a:moveTo>
                      <a:pt x="996" y="8"/>
                    </a:moveTo>
                    <a:lnTo>
                      <a:pt x="983" y="0"/>
                    </a:lnTo>
                    <a:lnTo>
                      <a:pt x="847" y="33"/>
                    </a:lnTo>
                    <a:lnTo>
                      <a:pt x="722" y="64"/>
                    </a:lnTo>
                    <a:lnTo>
                      <a:pt x="604" y="92"/>
                    </a:lnTo>
                    <a:lnTo>
                      <a:pt x="488" y="117"/>
                    </a:lnTo>
                    <a:lnTo>
                      <a:pt x="431" y="128"/>
                    </a:lnTo>
                    <a:lnTo>
                      <a:pt x="373" y="138"/>
                    </a:lnTo>
                    <a:lnTo>
                      <a:pt x="315" y="147"/>
                    </a:lnTo>
                    <a:lnTo>
                      <a:pt x="256" y="156"/>
                    </a:lnTo>
                    <a:lnTo>
                      <a:pt x="194" y="163"/>
                    </a:lnTo>
                    <a:lnTo>
                      <a:pt x="133" y="170"/>
                    </a:lnTo>
                    <a:lnTo>
                      <a:pt x="68" y="176"/>
                    </a:lnTo>
                    <a:lnTo>
                      <a:pt x="0" y="181"/>
                    </a:lnTo>
                    <a:lnTo>
                      <a:pt x="3" y="202"/>
                    </a:lnTo>
                    <a:lnTo>
                      <a:pt x="69" y="197"/>
                    </a:lnTo>
                    <a:lnTo>
                      <a:pt x="134" y="190"/>
                    </a:lnTo>
                    <a:lnTo>
                      <a:pt x="197" y="184"/>
                    </a:lnTo>
                    <a:lnTo>
                      <a:pt x="258" y="176"/>
                    </a:lnTo>
                    <a:lnTo>
                      <a:pt x="317" y="168"/>
                    </a:lnTo>
                    <a:lnTo>
                      <a:pt x="376" y="159"/>
                    </a:lnTo>
                    <a:lnTo>
                      <a:pt x="434" y="147"/>
                    </a:lnTo>
                    <a:lnTo>
                      <a:pt x="492" y="136"/>
                    </a:lnTo>
                    <a:lnTo>
                      <a:pt x="608" y="112"/>
                    </a:lnTo>
                    <a:lnTo>
                      <a:pt x="727" y="85"/>
                    </a:lnTo>
                    <a:lnTo>
                      <a:pt x="852" y="54"/>
                    </a:lnTo>
                    <a:lnTo>
                      <a:pt x="988" y="20"/>
                    </a:lnTo>
                    <a:lnTo>
                      <a:pt x="975" y="12"/>
                    </a:lnTo>
                    <a:lnTo>
                      <a:pt x="988" y="20"/>
                    </a:lnTo>
                    <a:lnTo>
                      <a:pt x="993" y="18"/>
                    </a:lnTo>
                    <a:lnTo>
                      <a:pt x="995" y="15"/>
                    </a:lnTo>
                    <a:lnTo>
                      <a:pt x="996" y="11"/>
                    </a:lnTo>
                    <a:lnTo>
                      <a:pt x="996" y="7"/>
                    </a:lnTo>
                    <a:lnTo>
                      <a:pt x="994" y="4"/>
                    </a:lnTo>
                    <a:lnTo>
                      <a:pt x="991" y="1"/>
                    </a:lnTo>
                    <a:lnTo>
                      <a:pt x="988" y="0"/>
                    </a:lnTo>
                    <a:lnTo>
                      <a:pt x="983" y="0"/>
                    </a:lnTo>
                    <a:lnTo>
                      <a:pt x="996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259320" y="3203640"/>
                <a:ext cx="448560" cy="482760"/>
              </a:xfrm>
              <a:custGeom>
                <a:avLst/>
                <a:gdLst/>
                <a:ahLst/>
                <a:rect l="l" t="t" r="r" b="b"/>
                <a:pathLst>
                  <a:path w="1185" h="1273">
                    <a:moveTo>
                      <a:pt x="264" y="0"/>
                    </a:moveTo>
                    <a:lnTo>
                      <a:pt x="233" y="34"/>
                    </a:lnTo>
                    <a:lnTo>
                      <a:pt x="206" y="70"/>
                    </a:lnTo>
                    <a:lnTo>
                      <a:pt x="183" y="106"/>
                    </a:lnTo>
                    <a:lnTo>
                      <a:pt x="161" y="143"/>
                    </a:lnTo>
                    <a:lnTo>
                      <a:pt x="141" y="179"/>
                    </a:lnTo>
                    <a:lnTo>
                      <a:pt x="124" y="218"/>
                    </a:lnTo>
                    <a:lnTo>
                      <a:pt x="109" y="257"/>
                    </a:lnTo>
                    <a:lnTo>
                      <a:pt x="96" y="295"/>
                    </a:lnTo>
                    <a:lnTo>
                      <a:pt x="84" y="334"/>
                    </a:lnTo>
                    <a:lnTo>
                      <a:pt x="76" y="375"/>
                    </a:lnTo>
                    <a:lnTo>
                      <a:pt x="67" y="414"/>
                    </a:lnTo>
                    <a:lnTo>
                      <a:pt x="61" y="455"/>
                    </a:lnTo>
                    <a:lnTo>
                      <a:pt x="55" y="496"/>
                    </a:lnTo>
                    <a:lnTo>
                      <a:pt x="51" y="536"/>
                    </a:lnTo>
                    <a:lnTo>
                      <a:pt x="48" y="578"/>
                    </a:lnTo>
                    <a:lnTo>
                      <a:pt x="45" y="619"/>
                    </a:lnTo>
                    <a:lnTo>
                      <a:pt x="40" y="783"/>
                    </a:lnTo>
                    <a:lnTo>
                      <a:pt x="38" y="946"/>
                    </a:lnTo>
                    <a:lnTo>
                      <a:pt x="36" y="985"/>
                    </a:lnTo>
                    <a:lnTo>
                      <a:pt x="34" y="1024"/>
                    </a:lnTo>
                    <a:lnTo>
                      <a:pt x="30" y="1064"/>
                    </a:lnTo>
                    <a:lnTo>
                      <a:pt x="27" y="1102"/>
                    </a:lnTo>
                    <a:lnTo>
                      <a:pt x="22" y="1140"/>
                    </a:lnTo>
                    <a:lnTo>
                      <a:pt x="16" y="1178"/>
                    </a:lnTo>
                    <a:lnTo>
                      <a:pt x="8" y="1215"/>
                    </a:lnTo>
                    <a:lnTo>
                      <a:pt x="0" y="1251"/>
                    </a:lnTo>
                    <a:lnTo>
                      <a:pt x="35" y="1248"/>
                    </a:lnTo>
                    <a:lnTo>
                      <a:pt x="72" y="1246"/>
                    </a:lnTo>
                    <a:lnTo>
                      <a:pt x="109" y="1243"/>
                    </a:lnTo>
                    <a:lnTo>
                      <a:pt x="146" y="1242"/>
                    </a:lnTo>
                    <a:lnTo>
                      <a:pt x="220" y="1242"/>
                    </a:lnTo>
                    <a:lnTo>
                      <a:pt x="294" y="1242"/>
                    </a:lnTo>
                    <a:lnTo>
                      <a:pt x="367" y="1245"/>
                    </a:lnTo>
                    <a:lnTo>
                      <a:pt x="442" y="1248"/>
                    </a:lnTo>
                    <a:lnTo>
                      <a:pt x="516" y="1252"/>
                    </a:lnTo>
                    <a:lnTo>
                      <a:pt x="591" y="1257"/>
                    </a:lnTo>
                    <a:lnTo>
                      <a:pt x="665" y="1262"/>
                    </a:lnTo>
                    <a:lnTo>
                      <a:pt x="739" y="1266"/>
                    </a:lnTo>
                    <a:lnTo>
                      <a:pt x="814" y="1269"/>
                    </a:lnTo>
                    <a:lnTo>
                      <a:pt x="888" y="1272"/>
                    </a:lnTo>
                    <a:lnTo>
                      <a:pt x="961" y="1273"/>
                    </a:lnTo>
                    <a:lnTo>
                      <a:pt x="1035" y="1272"/>
                    </a:lnTo>
                    <a:lnTo>
                      <a:pt x="1071" y="1270"/>
                    </a:lnTo>
                    <a:lnTo>
                      <a:pt x="1108" y="1268"/>
                    </a:lnTo>
                    <a:lnTo>
                      <a:pt x="1145" y="1266"/>
                    </a:lnTo>
                    <a:lnTo>
                      <a:pt x="1180" y="1263"/>
                    </a:lnTo>
                    <a:lnTo>
                      <a:pt x="1184" y="1230"/>
                    </a:lnTo>
                    <a:lnTo>
                      <a:pt x="1185" y="1195"/>
                    </a:lnTo>
                    <a:lnTo>
                      <a:pt x="1184" y="1160"/>
                    </a:lnTo>
                    <a:lnTo>
                      <a:pt x="1183" y="1123"/>
                    </a:lnTo>
                    <a:lnTo>
                      <a:pt x="1179" y="1085"/>
                    </a:lnTo>
                    <a:lnTo>
                      <a:pt x="1174" y="1045"/>
                    </a:lnTo>
                    <a:lnTo>
                      <a:pt x="1168" y="1006"/>
                    </a:lnTo>
                    <a:lnTo>
                      <a:pt x="1161" y="965"/>
                    </a:lnTo>
                    <a:lnTo>
                      <a:pt x="1152" y="924"/>
                    </a:lnTo>
                    <a:lnTo>
                      <a:pt x="1142" y="882"/>
                    </a:lnTo>
                    <a:lnTo>
                      <a:pt x="1131" y="839"/>
                    </a:lnTo>
                    <a:lnTo>
                      <a:pt x="1119" y="796"/>
                    </a:lnTo>
                    <a:lnTo>
                      <a:pt x="1105" y="753"/>
                    </a:lnTo>
                    <a:lnTo>
                      <a:pt x="1091" y="710"/>
                    </a:lnTo>
                    <a:lnTo>
                      <a:pt x="1075" y="667"/>
                    </a:lnTo>
                    <a:lnTo>
                      <a:pt x="1059" y="622"/>
                    </a:lnTo>
                    <a:lnTo>
                      <a:pt x="1041" y="579"/>
                    </a:lnTo>
                    <a:lnTo>
                      <a:pt x="1023" y="536"/>
                    </a:lnTo>
                    <a:lnTo>
                      <a:pt x="1004" y="493"/>
                    </a:lnTo>
                    <a:lnTo>
                      <a:pt x="985" y="450"/>
                    </a:lnTo>
                    <a:lnTo>
                      <a:pt x="964" y="408"/>
                    </a:lnTo>
                    <a:lnTo>
                      <a:pt x="943" y="366"/>
                    </a:lnTo>
                    <a:lnTo>
                      <a:pt x="921" y="325"/>
                    </a:lnTo>
                    <a:lnTo>
                      <a:pt x="899" y="285"/>
                    </a:lnTo>
                    <a:lnTo>
                      <a:pt x="875" y="245"/>
                    </a:lnTo>
                    <a:lnTo>
                      <a:pt x="852" y="207"/>
                    </a:lnTo>
                    <a:lnTo>
                      <a:pt x="829" y="170"/>
                    </a:lnTo>
                    <a:lnTo>
                      <a:pt x="804" y="133"/>
                    </a:lnTo>
                    <a:lnTo>
                      <a:pt x="779" y="97"/>
                    </a:lnTo>
                    <a:lnTo>
                      <a:pt x="755" y="64"/>
                    </a:lnTo>
                    <a:lnTo>
                      <a:pt x="730" y="31"/>
                    </a:lnTo>
                    <a:lnTo>
                      <a:pt x="704" y="0"/>
                    </a:lnTo>
                    <a:lnTo>
                      <a:pt x="676" y="6"/>
                    </a:lnTo>
                    <a:lnTo>
                      <a:pt x="648" y="12"/>
                    </a:lnTo>
                    <a:lnTo>
                      <a:pt x="619" y="16"/>
                    </a:lnTo>
                    <a:lnTo>
                      <a:pt x="591" y="20"/>
                    </a:lnTo>
                    <a:lnTo>
                      <a:pt x="563" y="23"/>
                    </a:lnTo>
                    <a:lnTo>
                      <a:pt x="536" y="24"/>
                    </a:lnTo>
                    <a:lnTo>
                      <a:pt x="508" y="26"/>
                    </a:lnTo>
                    <a:lnTo>
                      <a:pt x="480" y="26"/>
                    </a:lnTo>
                    <a:lnTo>
                      <a:pt x="452" y="26"/>
                    </a:lnTo>
                    <a:lnTo>
                      <a:pt x="425" y="24"/>
                    </a:lnTo>
                    <a:lnTo>
                      <a:pt x="398" y="22"/>
                    </a:lnTo>
                    <a:lnTo>
                      <a:pt x="371" y="18"/>
                    </a:lnTo>
                    <a:lnTo>
                      <a:pt x="344" y="15"/>
                    </a:lnTo>
                    <a:lnTo>
                      <a:pt x="317" y="11"/>
                    </a:lnTo>
                    <a:lnTo>
                      <a:pt x="290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6255720" y="3201840"/>
                <a:ext cx="105840" cy="480600"/>
              </a:xfrm>
              <a:custGeom>
                <a:avLst/>
                <a:gdLst/>
                <a:ahLst/>
                <a:rect l="l" t="t" r="r" b="b"/>
                <a:pathLst>
                  <a:path w="282" h="1270">
                    <a:moveTo>
                      <a:pt x="9" y="1249"/>
                    </a:moveTo>
                    <a:lnTo>
                      <a:pt x="20" y="1262"/>
                    </a:lnTo>
                    <a:lnTo>
                      <a:pt x="29" y="1226"/>
                    </a:lnTo>
                    <a:lnTo>
                      <a:pt x="36" y="1187"/>
                    </a:lnTo>
                    <a:lnTo>
                      <a:pt x="43" y="1151"/>
                    </a:lnTo>
                    <a:lnTo>
                      <a:pt x="49" y="1111"/>
                    </a:lnTo>
                    <a:lnTo>
                      <a:pt x="52" y="1073"/>
                    </a:lnTo>
                    <a:lnTo>
                      <a:pt x="55" y="1034"/>
                    </a:lnTo>
                    <a:lnTo>
                      <a:pt x="57" y="994"/>
                    </a:lnTo>
                    <a:lnTo>
                      <a:pt x="59" y="954"/>
                    </a:lnTo>
                    <a:lnTo>
                      <a:pt x="62" y="791"/>
                    </a:lnTo>
                    <a:lnTo>
                      <a:pt x="67" y="627"/>
                    </a:lnTo>
                    <a:lnTo>
                      <a:pt x="70" y="586"/>
                    </a:lnTo>
                    <a:lnTo>
                      <a:pt x="72" y="545"/>
                    </a:lnTo>
                    <a:lnTo>
                      <a:pt x="77" y="505"/>
                    </a:lnTo>
                    <a:lnTo>
                      <a:pt x="82" y="464"/>
                    </a:lnTo>
                    <a:lnTo>
                      <a:pt x="88" y="425"/>
                    </a:lnTo>
                    <a:lnTo>
                      <a:pt x="97" y="384"/>
                    </a:lnTo>
                    <a:lnTo>
                      <a:pt x="105" y="345"/>
                    </a:lnTo>
                    <a:lnTo>
                      <a:pt x="118" y="307"/>
                    </a:lnTo>
                    <a:lnTo>
                      <a:pt x="130" y="267"/>
                    </a:lnTo>
                    <a:lnTo>
                      <a:pt x="145" y="230"/>
                    </a:lnTo>
                    <a:lnTo>
                      <a:pt x="162" y="192"/>
                    </a:lnTo>
                    <a:lnTo>
                      <a:pt x="180" y="155"/>
                    </a:lnTo>
                    <a:lnTo>
                      <a:pt x="191" y="137"/>
                    </a:lnTo>
                    <a:lnTo>
                      <a:pt x="202" y="120"/>
                    </a:lnTo>
                    <a:lnTo>
                      <a:pt x="214" y="101"/>
                    </a:lnTo>
                    <a:lnTo>
                      <a:pt x="226" y="84"/>
                    </a:lnTo>
                    <a:lnTo>
                      <a:pt x="239" y="67"/>
                    </a:lnTo>
                    <a:lnTo>
                      <a:pt x="253" y="48"/>
                    </a:lnTo>
                    <a:lnTo>
                      <a:pt x="268" y="32"/>
                    </a:lnTo>
                    <a:lnTo>
                      <a:pt x="282" y="15"/>
                    </a:lnTo>
                    <a:lnTo>
                      <a:pt x="268" y="0"/>
                    </a:lnTo>
                    <a:lnTo>
                      <a:pt x="252" y="18"/>
                    </a:lnTo>
                    <a:lnTo>
                      <a:pt x="237" y="36"/>
                    </a:lnTo>
                    <a:lnTo>
                      <a:pt x="222" y="53"/>
                    </a:lnTo>
                    <a:lnTo>
                      <a:pt x="210" y="72"/>
                    </a:lnTo>
                    <a:lnTo>
                      <a:pt x="196" y="90"/>
                    </a:lnTo>
                    <a:lnTo>
                      <a:pt x="185" y="109"/>
                    </a:lnTo>
                    <a:lnTo>
                      <a:pt x="173" y="127"/>
                    </a:lnTo>
                    <a:lnTo>
                      <a:pt x="162" y="146"/>
                    </a:lnTo>
                    <a:lnTo>
                      <a:pt x="143" y="184"/>
                    </a:lnTo>
                    <a:lnTo>
                      <a:pt x="125" y="222"/>
                    </a:lnTo>
                    <a:lnTo>
                      <a:pt x="110" y="261"/>
                    </a:lnTo>
                    <a:lnTo>
                      <a:pt x="97" y="301"/>
                    </a:lnTo>
                    <a:lnTo>
                      <a:pt x="86" y="340"/>
                    </a:lnTo>
                    <a:lnTo>
                      <a:pt x="76" y="381"/>
                    </a:lnTo>
                    <a:lnTo>
                      <a:pt x="68" y="421"/>
                    </a:lnTo>
                    <a:lnTo>
                      <a:pt x="61" y="462"/>
                    </a:lnTo>
                    <a:lnTo>
                      <a:pt x="56" y="502"/>
                    </a:lnTo>
                    <a:lnTo>
                      <a:pt x="51" y="544"/>
                    </a:lnTo>
                    <a:lnTo>
                      <a:pt x="49" y="585"/>
                    </a:lnTo>
                    <a:lnTo>
                      <a:pt x="46" y="627"/>
                    </a:lnTo>
                    <a:lnTo>
                      <a:pt x="41" y="791"/>
                    </a:lnTo>
                    <a:lnTo>
                      <a:pt x="38" y="954"/>
                    </a:lnTo>
                    <a:lnTo>
                      <a:pt x="36" y="993"/>
                    </a:lnTo>
                    <a:lnTo>
                      <a:pt x="34" y="1032"/>
                    </a:lnTo>
                    <a:lnTo>
                      <a:pt x="32" y="1071"/>
                    </a:lnTo>
                    <a:lnTo>
                      <a:pt x="28" y="1109"/>
                    </a:lnTo>
                    <a:lnTo>
                      <a:pt x="23" y="1147"/>
                    </a:lnTo>
                    <a:lnTo>
                      <a:pt x="17" y="1184"/>
                    </a:lnTo>
                    <a:lnTo>
                      <a:pt x="9" y="1221"/>
                    </a:lnTo>
                    <a:lnTo>
                      <a:pt x="0" y="1256"/>
                    </a:lnTo>
                    <a:lnTo>
                      <a:pt x="11" y="1270"/>
                    </a:lnTo>
                    <a:lnTo>
                      <a:pt x="0" y="1256"/>
                    </a:lnTo>
                    <a:lnTo>
                      <a:pt x="0" y="1261"/>
                    </a:lnTo>
                    <a:lnTo>
                      <a:pt x="1" y="1265"/>
                    </a:lnTo>
                    <a:lnTo>
                      <a:pt x="4" y="1267"/>
                    </a:lnTo>
                    <a:lnTo>
                      <a:pt x="7" y="1270"/>
                    </a:lnTo>
                    <a:lnTo>
                      <a:pt x="11" y="1270"/>
                    </a:lnTo>
                    <a:lnTo>
                      <a:pt x="16" y="1269"/>
                    </a:lnTo>
                    <a:lnTo>
                      <a:pt x="18" y="1266"/>
                    </a:lnTo>
                    <a:lnTo>
                      <a:pt x="20" y="1262"/>
                    </a:lnTo>
                    <a:lnTo>
                      <a:pt x="9" y="12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259320" y="3670920"/>
                <a:ext cx="450360" cy="19080"/>
              </a:xfrm>
              <a:custGeom>
                <a:avLst/>
                <a:gdLst/>
                <a:ahLst/>
                <a:rect l="l" t="t" r="r" b="b"/>
                <a:pathLst>
                  <a:path w="1193" h="52">
                    <a:moveTo>
                      <a:pt x="1172" y="31"/>
                    </a:moveTo>
                    <a:lnTo>
                      <a:pt x="1182" y="21"/>
                    </a:lnTo>
                    <a:lnTo>
                      <a:pt x="1145" y="25"/>
                    </a:lnTo>
                    <a:lnTo>
                      <a:pt x="1110" y="27"/>
                    </a:lnTo>
                    <a:lnTo>
                      <a:pt x="1073" y="28"/>
                    </a:lnTo>
                    <a:lnTo>
                      <a:pt x="1036" y="30"/>
                    </a:lnTo>
                    <a:lnTo>
                      <a:pt x="963" y="31"/>
                    </a:lnTo>
                    <a:lnTo>
                      <a:pt x="890" y="30"/>
                    </a:lnTo>
                    <a:lnTo>
                      <a:pt x="816" y="27"/>
                    </a:lnTo>
                    <a:lnTo>
                      <a:pt x="742" y="25"/>
                    </a:lnTo>
                    <a:lnTo>
                      <a:pt x="668" y="20"/>
                    </a:lnTo>
                    <a:lnTo>
                      <a:pt x="593" y="16"/>
                    </a:lnTo>
                    <a:lnTo>
                      <a:pt x="519" y="11"/>
                    </a:lnTo>
                    <a:lnTo>
                      <a:pt x="444" y="7"/>
                    </a:lnTo>
                    <a:lnTo>
                      <a:pt x="371" y="4"/>
                    </a:lnTo>
                    <a:lnTo>
                      <a:pt x="296" y="1"/>
                    </a:lnTo>
                    <a:lnTo>
                      <a:pt x="222" y="0"/>
                    </a:lnTo>
                    <a:lnTo>
                      <a:pt x="148" y="1"/>
                    </a:lnTo>
                    <a:lnTo>
                      <a:pt x="111" y="3"/>
                    </a:lnTo>
                    <a:lnTo>
                      <a:pt x="74" y="4"/>
                    </a:lnTo>
                    <a:lnTo>
                      <a:pt x="37" y="6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38" y="27"/>
                    </a:lnTo>
                    <a:lnTo>
                      <a:pt x="75" y="25"/>
                    </a:lnTo>
                    <a:lnTo>
                      <a:pt x="111" y="23"/>
                    </a:lnTo>
                    <a:lnTo>
                      <a:pt x="148" y="22"/>
                    </a:lnTo>
                    <a:lnTo>
                      <a:pt x="222" y="21"/>
                    </a:lnTo>
                    <a:lnTo>
                      <a:pt x="296" y="22"/>
                    </a:lnTo>
                    <a:lnTo>
                      <a:pt x="369" y="25"/>
                    </a:lnTo>
                    <a:lnTo>
                      <a:pt x="443" y="28"/>
                    </a:lnTo>
                    <a:lnTo>
                      <a:pt x="518" y="32"/>
                    </a:lnTo>
                    <a:lnTo>
                      <a:pt x="592" y="37"/>
                    </a:lnTo>
                    <a:lnTo>
                      <a:pt x="667" y="41"/>
                    </a:lnTo>
                    <a:lnTo>
                      <a:pt x="741" y="46"/>
                    </a:lnTo>
                    <a:lnTo>
                      <a:pt x="815" y="48"/>
                    </a:lnTo>
                    <a:lnTo>
                      <a:pt x="890" y="51"/>
                    </a:lnTo>
                    <a:lnTo>
                      <a:pt x="963" y="52"/>
                    </a:lnTo>
                    <a:lnTo>
                      <a:pt x="1037" y="51"/>
                    </a:lnTo>
                    <a:lnTo>
                      <a:pt x="1074" y="49"/>
                    </a:lnTo>
                    <a:lnTo>
                      <a:pt x="1111" y="48"/>
                    </a:lnTo>
                    <a:lnTo>
                      <a:pt x="1147" y="46"/>
                    </a:lnTo>
                    <a:lnTo>
                      <a:pt x="1184" y="42"/>
                    </a:lnTo>
                    <a:lnTo>
                      <a:pt x="1193" y="33"/>
                    </a:lnTo>
                    <a:lnTo>
                      <a:pt x="1184" y="42"/>
                    </a:lnTo>
                    <a:lnTo>
                      <a:pt x="1188" y="41"/>
                    </a:lnTo>
                    <a:lnTo>
                      <a:pt x="1191" y="38"/>
                    </a:lnTo>
                    <a:lnTo>
                      <a:pt x="1193" y="35"/>
                    </a:lnTo>
                    <a:lnTo>
                      <a:pt x="1193" y="31"/>
                    </a:lnTo>
                    <a:lnTo>
                      <a:pt x="1192" y="27"/>
                    </a:lnTo>
                    <a:lnTo>
                      <a:pt x="1190" y="23"/>
                    </a:lnTo>
                    <a:lnTo>
                      <a:pt x="1186" y="22"/>
                    </a:lnTo>
                    <a:lnTo>
                      <a:pt x="1182" y="21"/>
                    </a:lnTo>
                    <a:lnTo>
                      <a:pt x="1172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6522120" y="3199680"/>
                <a:ext cx="189000" cy="482760"/>
              </a:xfrm>
              <a:custGeom>
                <a:avLst/>
                <a:gdLst/>
                <a:ahLst/>
                <a:rect l="l" t="t" r="r" b="b"/>
                <a:pathLst>
                  <a:path w="501" h="1275">
                    <a:moveTo>
                      <a:pt x="13" y="21"/>
                    </a:moveTo>
                    <a:lnTo>
                      <a:pt x="3" y="17"/>
                    </a:lnTo>
                    <a:lnTo>
                      <a:pt x="28" y="48"/>
                    </a:lnTo>
                    <a:lnTo>
                      <a:pt x="52" y="81"/>
                    </a:lnTo>
                    <a:lnTo>
                      <a:pt x="77" y="114"/>
                    </a:lnTo>
                    <a:lnTo>
                      <a:pt x="101" y="150"/>
                    </a:lnTo>
                    <a:lnTo>
                      <a:pt x="126" y="186"/>
                    </a:lnTo>
                    <a:lnTo>
                      <a:pt x="149" y="224"/>
                    </a:lnTo>
                    <a:lnTo>
                      <a:pt x="173" y="262"/>
                    </a:lnTo>
                    <a:lnTo>
                      <a:pt x="195" y="301"/>
                    </a:lnTo>
                    <a:lnTo>
                      <a:pt x="217" y="341"/>
                    </a:lnTo>
                    <a:lnTo>
                      <a:pt x="239" y="382"/>
                    </a:lnTo>
                    <a:lnTo>
                      <a:pt x="260" y="423"/>
                    </a:lnTo>
                    <a:lnTo>
                      <a:pt x="281" y="466"/>
                    </a:lnTo>
                    <a:lnTo>
                      <a:pt x="301" y="508"/>
                    </a:lnTo>
                    <a:lnTo>
                      <a:pt x="319" y="551"/>
                    </a:lnTo>
                    <a:lnTo>
                      <a:pt x="337" y="594"/>
                    </a:lnTo>
                    <a:lnTo>
                      <a:pt x="355" y="637"/>
                    </a:lnTo>
                    <a:lnTo>
                      <a:pt x="371" y="681"/>
                    </a:lnTo>
                    <a:lnTo>
                      <a:pt x="387" y="724"/>
                    </a:lnTo>
                    <a:lnTo>
                      <a:pt x="401" y="767"/>
                    </a:lnTo>
                    <a:lnTo>
                      <a:pt x="415" y="810"/>
                    </a:lnTo>
                    <a:lnTo>
                      <a:pt x="427" y="853"/>
                    </a:lnTo>
                    <a:lnTo>
                      <a:pt x="438" y="895"/>
                    </a:lnTo>
                    <a:lnTo>
                      <a:pt x="448" y="937"/>
                    </a:lnTo>
                    <a:lnTo>
                      <a:pt x="457" y="978"/>
                    </a:lnTo>
                    <a:lnTo>
                      <a:pt x="464" y="1018"/>
                    </a:lnTo>
                    <a:lnTo>
                      <a:pt x="470" y="1058"/>
                    </a:lnTo>
                    <a:lnTo>
                      <a:pt x="475" y="1097"/>
                    </a:lnTo>
                    <a:lnTo>
                      <a:pt x="478" y="1134"/>
                    </a:lnTo>
                    <a:lnTo>
                      <a:pt x="480" y="1171"/>
                    </a:lnTo>
                    <a:lnTo>
                      <a:pt x="480" y="1206"/>
                    </a:lnTo>
                    <a:lnTo>
                      <a:pt x="479" y="1240"/>
                    </a:lnTo>
                    <a:lnTo>
                      <a:pt x="476" y="1273"/>
                    </a:lnTo>
                    <a:lnTo>
                      <a:pt x="497" y="1275"/>
                    </a:lnTo>
                    <a:lnTo>
                      <a:pt x="500" y="1241"/>
                    </a:lnTo>
                    <a:lnTo>
                      <a:pt x="501" y="1206"/>
                    </a:lnTo>
                    <a:lnTo>
                      <a:pt x="501" y="1170"/>
                    </a:lnTo>
                    <a:lnTo>
                      <a:pt x="499" y="1133"/>
                    </a:lnTo>
                    <a:lnTo>
                      <a:pt x="496" y="1094"/>
                    </a:lnTo>
                    <a:lnTo>
                      <a:pt x="491" y="1055"/>
                    </a:lnTo>
                    <a:lnTo>
                      <a:pt x="485" y="1015"/>
                    </a:lnTo>
                    <a:lnTo>
                      <a:pt x="478" y="974"/>
                    </a:lnTo>
                    <a:lnTo>
                      <a:pt x="468" y="932"/>
                    </a:lnTo>
                    <a:lnTo>
                      <a:pt x="458" y="890"/>
                    </a:lnTo>
                    <a:lnTo>
                      <a:pt x="447" y="847"/>
                    </a:lnTo>
                    <a:lnTo>
                      <a:pt x="435" y="804"/>
                    </a:lnTo>
                    <a:lnTo>
                      <a:pt x="421" y="761"/>
                    </a:lnTo>
                    <a:lnTo>
                      <a:pt x="406" y="717"/>
                    </a:lnTo>
                    <a:lnTo>
                      <a:pt x="390" y="674"/>
                    </a:lnTo>
                    <a:lnTo>
                      <a:pt x="374" y="630"/>
                    </a:lnTo>
                    <a:lnTo>
                      <a:pt x="357" y="587"/>
                    </a:lnTo>
                    <a:lnTo>
                      <a:pt x="339" y="542"/>
                    </a:lnTo>
                    <a:lnTo>
                      <a:pt x="319" y="499"/>
                    </a:lnTo>
                    <a:lnTo>
                      <a:pt x="299" y="456"/>
                    </a:lnTo>
                    <a:lnTo>
                      <a:pt x="278" y="414"/>
                    </a:lnTo>
                    <a:lnTo>
                      <a:pt x="258" y="372"/>
                    </a:lnTo>
                    <a:lnTo>
                      <a:pt x="235" y="331"/>
                    </a:lnTo>
                    <a:lnTo>
                      <a:pt x="213" y="290"/>
                    </a:lnTo>
                    <a:lnTo>
                      <a:pt x="190" y="251"/>
                    </a:lnTo>
                    <a:lnTo>
                      <a:pt x="167" y="213"/>
                    </a:lnTo>
                    <a:lnTo>
                      <a:pt x="143" y="174"/>
                    </a:lnTo>
                    <a:lnTo>
                      <a:pt x="119" y="138"/>
                    </a:lnTo>
                    <a:lnTo>
                      <a:pt x="94" y="102"/>
                    </a:lnTo>
                    <a:lnTo>
                      <a:pt x="69" y="69"/>
                    </a:lnTo>
                    <a:lnTo>
                      <a:pt x="45" y="35"/>
                    </a:lnTo>
                    <a:lnTo>
                      <a:pt x="19" y="5"/>
                    </a:lnTo>
                    <a:lnTo>
                      <a:pt x="8" y="1"/>
                    </a:lnTo>
                    <a:lnTo>
                      <a:pt x="19" y="5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355800" y="3199680"/>
                <a:ext cx="17028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8" y="17"/>
                    </a:moveTo>
                    <a:lnTo>
                      <a:pt x="9" y="20"/>
                    </a:lnTo>
                    <a:lnTo>
                      <a:pt x="36" y="26"/>
                    </a:lnTo>
                    <a:lnTo>
                      <a:pt x="63" y="31"/>
                    </a:lnTo>
                    <a:lnTo>
                      <a:pt x="90" y="36"/>
                    </a:lnTo>
                    <a:lnTo>
                      <a:pt x="117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9" y="46"/>
                    </a:lnTo>
                    <a:lnTo>
                      <a:pt x="227" y="47"/>
                    </a:lnTo>
                    <a:lnTo>
                      <a:pt x="255" y="47"/>
                    </a:lnTo>
                    <a:lnTo>
                      <a:pt x="283" y="46"/>
                    </a:lnTo>
                    <a:lnTo>
                      <a:pt x="311" y="43"/>
                    </a:lnTo>
                    <a:lnTo>
                      <a:pt x="339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6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5" y="16"/>
                    </a:lnTo>
                    <a:lnTo>
                      <a:pt x="337" y="20"/>
                    </a:lnTo>
                    <a:lnTo>
                      <a:pt x="310" y="22"/>
                    </a:lnTo>
                    <a:lnTo>
                      <a:pt x="282" y="25"/>
                    </a:lnTo>
                    <a:lnTo>
                      <a:pt x="255" y="26"/>
                    </a:lnTo>
                    <a:lnTo>
                      <a:pt x="227" y="26"/>
                    </a:lnTo>
                    <a:lnTo>
                      <a:pt x="200" y="25"/>
                    </a:lnTo>
                    <a:lnTo>
                      <a:pt x="173" y="23"/>
                    </a:lnTo>
                    <a:lnTo>
                      <a:pt x="146" y="21"/>
                    </a:lnTo>
                    <a:lnTo>
                      <a:pt x="119" y="18"/>
                    </a:lnTo>
                    <a:lnTo>
                      <a:pt x="92" y="15"/>
                    </a:lnTo>
                    <a:lnTo>
                      <a:pt x="6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185520" y="3578400"/>
                <a:ext cx="984240" cy="872640"/>
              </a:xfrm>
              <a:custGeom>
                <a:avLst/>
                <a:gdLst/>
                <a:ahLst/>
                <a:rect l="l" t="t" r="r" b="b"/>
                <a:pathLst>
                  <a:path w="2602" h="2308">
                    <a:moveTo>
                      <a:pt x="2548" y="0"/>
                    </a:moveTo>
                    <a:lnTo>
                      <a:pt x="2558" y="51"/>
                    </a:lnTo>
                    <a:lnTo>
                      <a:pt x="2568" y="102"/>
                    </a:lnTo>
                    <a:lnTo>
                      <a:pt x="2576" y="155"/>
                    </a:lnTo>
                    <a:lnTo>
                      <a:pt x="2586" y="209"/>
                    </a:lnTo>
                    <a:lnTo>
                      <a:pt x="2592" y="265"/>
                    </a:lnTo>
                    <a:lnTo>
                      <a:pt x="2599" y="321"/>
                    </a:lnTo>
                    <a:lnTo>
                      <a:pt x="2600" y="351"/>
                    </a:lnTo>
                    <a:lnTo>
                      <a:pt x="2602" y="379"/>
                    </a:lnTo>
                    <a:lnTo>
                      <a:pt x="2602" y="409"/>
                    </a:lnTo>
                    <a:lnTo>
                      <a:pt x="2602" y="438"/>
                    </a:lnTo>
                    <a:lnTo>
                      <a:pt x="2601" y="469"/>
                    </a:lnTo>
                    <a:lnTo>
                      <a:pt x="2599" y="498"/>
                    </a:lnTo>
                    <a:lnTo>
                      <a:pt x="2596" y="529"/>
                    </a:lnTo>
                    <a:lnTo>
                      <a:pt x="2592" y="560"/>
                    </a:lnTo>
                    <a:lnTo>
                      <a:pt x="2588" y="591"/>
                    </a:lnTo>
                    <a:lnTo>
                      <a:pt x="2581" y="621"/>
                    </a:lnTo>
                    <a:lnTo>
                      <a:pt x="2574" y="652"/>
                    </a:lnTo>
                    <a:lnTo>
                      <a:pt x="2565" y="684"/>
                    </a:lnTo>
                    <a:lnTo>
                      <a:pt x="2556" y="715"/>
                    </a:lnTo>
                    <a:lnTo>
                      <a:pt x="2545" y="747"/>
                    </a:lnTo>
                    <a:lnTo>
                      <a:pt x="2532" y="779"/>
                    </a:lnTo>
                    <a:lnTo>
                      <a:pt x="2519" y="811"/>
                    </a:lnTo>
                    <a:lnTo>
                      <a:pt x="2503" y="843"/>
                    </a:lnTo>
                    <a:lnTo>
                      <a:pt x="2485" y="876"/>
                    </a:lnTo>
                    <a:lnTo>
                      <a:pt x="2466" y="908"/>
                    </a:lnTo>
                    <a:lnTo>
                      <a:pt x="2446" y="941"/>
                    </a:lnTo>
                    <a:lnTo>
                      <a:pt x="2377" y="954"/>
                    </a:lnTo>
                    <a:lnTo>
                      <a:pt x="2310" y="963"/>
                    </a:lnTo>
                    <a:lnTo>
                      <a:pt x="2242" y="972"/>
                    </a:lnTo>
                    <a:lnTo>
                      <a:pt x="2173" y="978"/>
                    </a:lnTo>
                    <a:lnTo>
                      <a:pt x="2104" y="983"/>
                    </a:lnTo>
                    <a:lnTo>
                      <a:pt x="2037" y="986"/>
                    </a:lnTo>
                    <a:lnTo>
                      <a:pt x="1968" y="986"/>
                    </a:lnTo>
                    <a:lnTo>
                      <a:pt x="1899" y="984"/>
                    </a:lnTo>
                    <a:lnTo>
                      <a:pt x="1830" y="982"/>
                    </a:lnTo>
                    <a:lnTo>
                      <a:pt x="1761" y="977"/>
                    </a:lnTo>
                    <a:lnTo>
                      <a:pt x="1692" y="970"/>
                    </a:lnTo>
                    <a:lnTo>
                      <a:pt x="1623" y="961"/>
                    </a:lnTo>
                    <a:lnTo>
                      <a:pt x="1553" y="950"/>
                    </a:lnTo>
                    <a:lnTo>
                      <a:pt x="1484" y="938"/>
                    </a:lnTo>
                    <a:lnTo>
                      <a:pt x="1415" y="924"/>
                    </a:lnTo>
                    <a:lnTo>
                      <a:pt x="1345" y="908"/>
                    </a:lnTo>
                    <a:lnTo>
                      <a:pt x="1313" y="994"/>
                    </a:lnTo>
                    <a:lnTo>
                      <a:pt x="1283" y="1081"/>
                    </a:lnTo>
                    <a:lnTo>
                      <a:pt x="1254" y="1168"/>
                    </a:lnTo>
                    <a:lnTo>
                      <a:pt x="1227" y="1254"/>
                    </a:lnTo>
                    <a:lnTo>
                      <a:pt x="1201" y="1341"/>
                    </a:lnTo>
                    <a:lnTo>
                      <a:pt x="1177" y="1428"/>
                    </a:lnTo>
                    <a:lnTo>
                      <a:pt x="1155" y="1514"/>
                    </a:lnTo>
                    <a:lnTo>
                      <a:pt x="1134" y="1602"/>
                    </a:lnTo>
                    <a:lnTo>
                      <a:pt x="1114" y="1689"/>
                    </a:lnTo>
                    <a:lnTo>
                      <a:pt x="1096" y="1778"/>
                    </a:lnTo>
                    <a:lnTo>
                      <a:pt x="1080" y="1865"/>
                    </a:lnTo>
                    <a:lnTo>
                      <a:pt x="1065" y="1954"/>
                    </a:lnTo>
                    <a:lnTo>
                      <a:pt x="1053" y="2042"/>
                    </a:lnTo>
                    <a:lnTo>
                      <a:pt x="1040" y="2131"/>
                    </a:lnTo>
                    <a:lnTo>
                      <a:pt x="1030" y="2219"/>
                    </a:lnTo>
                    <a:lnTo>
                      <a:pt x="1023" y="2308"/>
                    </a:lnTo>
                    <a:lnTo>
                      <a:pt x="898" y="2296"/>
                    </a:lnTo>
                    <a:lnTo>
                      <a:pt x="772" y="2284"/>
                    </a:lnTo>
                    <a:lnTo>
                      <a:pt x="647" y="2272"/>
                    </a:lnTo>
                    <a:lnTo>
                      <a:pt x="521" y="2260"/>
                    </a:lnTo>
                    <a:lnTo>
                      <a:pt x="396" y="2249"/>
                    </a:lnTo>
                    <a:lnTo>
                      <a:pt x="269" y="2238"/>
                    </a:lnTo>
                    <a:lnTo>
                      <a:pt x="142" y="2227"/>
                    </a:lnTo>
                    <a:lnTo>
                      <a:pt x="15" y="2216"/>
                    </a:lnTo>
                    <a:lnTo>
                      <a:pt x="21" y="2188"/>
                    </a:lnTo>
                    <a:lnTo>
                      <a:pt x="24" y="2160"/>
                    </a:lnTo>
                    <a:lnTo>
                      <a:pt x="26" y="2133"/>
                    </a:lnTo>
                    <a:lnTo>
                      <a:pt x="26" y="2105"/>
                    </a:lnTo>
                    <a:lnTo>
                      <a:pt x="24" y="2078"/>
                    </a:lnTo>
                    <a:lnTo>
                      <a:pt x="21" y="2051"/>
                    </a:lnTo>
                    <a:lnTo>
                      <a:pt x="17" y="2022"/>
                    </a:lnTo>
                    <a:lnTo>
                      <a:pt x="13" y="1995"/>
                    </a:lnTo>
                    <a:lnTo>
                      <a:pt x="10" y="1967"/>
                    </a:lnTo>
                    <a:lnTo>
                      <a:pt x="6" y="1940"/>
                    </a:lnTo>
                    <a:lnTo>
                      <a:pt x="3" y="1912"/>
                    </a:lnTo>
                    <a:lnTo>
                      <a:pt x="1" y="1885"/>
                    </a:lnTo>
                    <a:lnTo>
                      <a:pt x="0" y="1856"/>
                    </a:lnTo>
                    <a:lnTo>
                      <a:pt x="1" y="1829"/>
                    </a:lnTo>
                    <a:lnTo>
                      <a:pt x="5" y="1802"/>
                    </a:lnTo>
                    <a:lnTo>
                      <a:pt x="11" y="1774"/>
                    </a:lnTo>
                    <a:lnTo>
                      <a:pt x="76" y="1776"/>
                    </a:lnTo>
                    <a:lnTo>
                      <a:pt x="147" y="1779"/>
                    </a:lnTo>
                    <a:lnTo>
                      <a:pt x="220" y="1781"/>
                    </a:lnTo>
                    <a:lnTo>
                      <a:pt x="294" y="1785"/>
                    </a:lnTo>
                    <a:lnTo>
                      <a:pt x="369" y="1789"/>
                    </a:lnTo>
                    <a:lnTo>
                      <a:pt x="440" y="1792"/>
                    </a:lnTo>
                    <a:lnTo>
                      <a:pt x="510" y="1796"/>
                    </a:lnTo>
                    <a:lnTo>
                      <a:pt x="574" y="1800"/>
                    </a:lnTo>
                    <a:lnTo>
                      <a:pt x="561" y="1757"/>
                    </a:lnTo>
                    <a:lnTo>
                      <a:pt x="548" y="1712"/>
                    </a:lnTo>
                    <a:lnTo>
                      <a:pt x="537" y="1669"/>
                    </a:lnTo>
                    <a:lnTo>
                      <a:pt x="526" y="1626"/>
                    </a:lnTo>
                    <a:lnTo>
                      <a:pt x="518" y="1583"/>
                    </a:lnTo>
                    <a:lnTo>
                      <a:pt x="510" y="1539"/>
                    </a:lnTo>
                    <a:lnTo>
                      <a:pt x="503" y="1496"/>
                    </a:lnTo>
                    <a:lnTo>
                      <a:pt x="498" y="1453"/>
                    </a:lnTo>
                    <a:lnTo>
                      <a:pt x="493" y="1410"/>
                    </a:lnTo>
                    <a:lnTo>
                      <a:pt x="489" y="1367"/>
                    </a:lnTo>
                    <a:lnTo>
                      <a:pt x="487" y="1324"/>
                    </a:lnTo>
                    <a:lnTo>
                      <a:pt x="486" y="1281"/>
                    </a:lnTo>
                    <a:lnTo>
                      <a:pt x="486" y="1239"/>
                    </a:lnTo>
                    <a:lnTo>
                      <a:pt x="486" y="1196"/>
                    </a:lnTo>
                    <a:lnTo>
                      <a:pt x="487" y="1153"/>
                    </a:lnTo>
                    <a:lnTo>
                      <a:pt x="489" y="1110"/>
                    </a:lnTo>
                    <a:lnTo>
                      <a:pt x="493" y="1067"/>
                    </a:lnTo>
                    <a:lnTo>
                      <a:pt x="497" y="1025"/>
                    </a:lnTo>
                    <a:lnTo>
                      <a:pt x="502" y="982"/>
                    </a:lnTo>
                    <a:lnTo>
                      <a:pt x="508" y="940"/>
                    </a:lnTo>
                    <a:lnTo>
                      <a:pt x="515" y="897"/>
                    </a:lnTo>
                    <a:lnTo>
                      <a:pt x="523" y="855"/>
                    </a:lnTo>
                    <a:lnTo>
                      <a:pt x="530" y="812"/>
                    </a:lnTo>
                    <a:lnTo>
                      <a:pt x="540" y="770"/>
                    </a:lnTo>
                    <a:lnTo>
                      <a:pt x="548" y="727"/>
                    </a:lnTo>
                    <a:lnTo>
                      <a:pt x="559" y="685"/>
                    </a:lnTo>
                    <a:lnTo>
                      <a:pt x="570" y="642"/>
                    </a:lnTo>
                    <a:lnTo>
                      <a:pt x="582" y="601"/>
                    </a:lnTo>
                    <a:lnTo>
                      <a:pt x="607" y="517"/>
                    </a:lnTo>
                    <a:lnTo>
                      <a:pt x="634" y="432"/>
                    </a:lnTo>
                    <a:lnTo>
                      <a:pt x="686" y="416"/>
                    </a:lnTo>
                    <a:lnTo>
                      <a:pt x="738" y="401"/>
                    </a:lnTo>
                    <a:lnTo>
                      <a:pt x="788" y="389"/>
                    </a:lnTo>
                    <a:lnTo>
                      <a:pt x="839" y="378"/>
                    </a:lnTo>
                    <a:lnTo>
                      <a:pt x="890" y="369"/>
                    </a:lnTo>
                    <a:lnTo>
                      <a:pt x="941" y="363"/>
                    </a:lnTo>
                    <a:lnTo>
                      <a:pt x="991" y="358"/>
                    </a:lnTo>
                    <a:lnTo>
                      <a:pt x="1040" y="356"/>
                    </a:lnTo>
                    <a:lnTo>
                      <a:pt x="1091" y="356"/>
                    </a:lnTo>
                    <a:lnTo>
                      <a:pt x="1141" y="357"/>
                    </a:lnTo>
                    <a:lnTo>
                      <a:pt x="1190" y="361"/>
                    </a:lnTo>
                    <a:lnTo>
                      <a:pt x="1241" y="366"/>
                    </a:lnTo>
                    <a:lnTo>
                      <a:pt x="1290" y="373"/>
                    </a:lnTo>
                    <a:lnTo>
                      <a:pt x="1339" y="382"/>
                    </a:lnTo>
                    <a:lnTo>
                      <a:pt x="1388" y="394"/>
                    </a:lnTo>
                    <a:lnTo>
                      <a:pt x="1438" y="406"/>
                    </a:lnTo>
                    <a:lnTo>
                      <a:pt x="1438" y="372"/>
                    </a:lnTo>
                    <a:lnTo>
                      <a:pt x="1438" y="337"/>
                    </a:lnTo>
                    <a:lnTo>
                      <a:pt x="1438" y="303"/>
                    </a:lnTo>
                    <a:lnTo>
                      <a:pt x="1438" y="270"/>
                    </a:lnTo>
                    <a:lnTo>
                      <a:pt x="1438" y="236"/>
                    </a:lnTo>
                    <a:lnTo>
                      <a:pt x="1438" y="203"/>
                    </a:lnTo>
                    <a:lnTo>
                      <a:pt x="1438" y="170"/>
                    </a:lnTo>
                    <a:lnTo>
                      <a:pt x="1438" y="138"/>
                    </a:lnTo>
                    <a:lnTo>
                      <a:pt x="1575" y="129"/>
                    </a:lnTo>
                    <a:lnTo>
                      <a:pt x="1713" y="121"/>
                    </a:lnTo>
                    <a:lnTo>
                      <a:pt x="1782" y="115"/>
                    </a:lnTo>
                    <a:lnTo>
                      <a:pt x="1851" y="110"/>
                    </a:lnTo>
                    <a:lnTo>
                      <a:pt x="1920" y="104"/>
                    </a:lnTo>
                    <a:lnTo>
                      <a:pt x="1990" y="96"/>
                    </a:lnTo>
                    <a:lnTo>
                      <a:pt x="2059" y="88"/>
                    </a:lnTo>
                    <a:lnTo>
                      <a:pt x="2128" y="79"/>
                    </a:lnTo>
                    <a:lnTo>
                      <a:pt x="2198" y="69"/>
                    </a:lnTo>
                    <a:lnTo>
                      <a:pt x="2268" y="58"/>
                    </a:lnTo>
                    <a:lnTo>
                      <a:pt x="2337" y="46"/>
                    </a:lnTo>
                    <a:lnTo>
                      <a:pt x="2407" y="32"/>
                    </a:lnTo>
                    <a:lnTo>
                      <a:pt x="2477" y="18"/>
                    </a:lnTo>
                    <a:lnTo>
                      <a:pt x="2548" y="0"/>
                    </a:lnTo>
                    <a:close/>
                  </a:path>
                </a:pathLst>
              </a:custGeom>
              <a:solidFill>
                <a:srgbClr val="7d5d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107120" y="3576600"/>
                <a:ext cx="65880" cy="361440"/>
              </a:xfrm>
              <a:custGeom>
                <a:avLst/>
                <a:gdLst/>
                <a:ahLst/>
                <a:rect l="l" t="t" r="r" b="b"/>
                <a:pathLst>
                  <a:path w="177" h="952">
                    <a:moveTo>
                      <a:pt x="12" y="952"/>
                    </a:moveTo>
                    <a:lnTo>
                      <a:pt x="20" y="947"/>
                    </a:lnTo>
                    <a:lnTo>
                      <a:pt x="41" y="915"/>
                    </a:lnTo>
                    <a:lnTo>
                      <a:pt x="59" y="882"/>
                    </a:lnTo>
                    <a:lnTo>
                      <a:pt x="76" y="849"/>
                    </a:lnTo>
                    <a:lnTo>
                      <a:pt x="92" y="817"/>
                    </a:lnTo>
                    <a:lnTo>
                      <a:pt x="107" y="784"/>
                    </a:lnTo>
                    <a:lnTo>
                      <a:pt x="119" y="752"/>
                    </a:lnTo>
                    <a:lnTo>
                      <a:pt x="130" y="720"/>
                    </a:lnTo>
                    <a:lnTo>
                      <a:pt x="140" y="688"/>
                    </a:lnTo>
                    <a:lnTo>
                      <a:pt x="149" y="656"/>
                    </a:lnTo>
                    <a:lnTo>
                      <a:pt x="156" y="625"/>
                    </a:lnTo>
                    <a:lnTo>
                      <a:pt x="162" y="593"/>
                    </a:lnTo>
                    <a:lnTo>
                      <a:pt x="167" y="562"/>
                    </a:lnTo>
                    <a:lnTo>
                      <a:pt x="172" y="531"/>
                    </a:lnTo>
                    <a:lnTo>
                      <a:pt x="175" y="501"/>
                    </a:lnTo>
                    <a:lnTo>
                      <a:pt x="176" y="470"/>
                    </a:lnTo>
                    <a:lnTo>
                      <a:pt x="177" y="439"/>
                    </a:lnTo>
                    <a:lnTo>
                      <a:pt x="177" y="410"/>
                    </a:lnTo>
                    <a:lnTo>
                      <a:pt x="177" y="380"/>
                    </a:lnTo>
                    <a:lnTo>
                      <a:pt x="176" y="351"/>
                    </a:lnTo>
                    <a:lnTo>
                      <a:pt x="173" y="321"/>
                    </a:lnTo>
                    <a:lnTo>
                      <a:pt x="169" y="265"/>
                    </a:lnTo>
                    <a:lnTo>
                      <a:pt x="161" y="209"/>
                    </a:lnTo>
                    <a:lnTo>
                      <a:pt x="153" y="154"/>
                    </a:lnTo>
                    <a:lnTo>
                      <a:pt x="143" y="101"/>
                    </a:lnTo>
                    <a:lnTo>
                      <a:pt x="133" y="49"/>
                    </a:lnTo>
                    <a:lnTo>
                      <a:pt x="123" y="0"/>
                    </a:lnTo>
                    <a:lnTo>
                      <a:pt x="102" y="4"/>
                    </a:lnTo>
                    <a:lnTo>
                      <a:pt x="112" y="53"/>
                    </a:lnTo>
                    <a:lnTo>
                      <a:pt x="122" y="105"/>
                    </a:lnTo>
                    <a:lnTo>
                      <a:pt x="132" y="158"/>
                    </a:lnTo>
                    <a:lnTo>
                      <a:pt x="140" y="212"/>
                    </a:lnTo>
                    <a:lnTo>
                      <a:pt x="148" y="267"/>
                    </a:lnTo>
                    <a:lnTo>
                      <a:pt x="153" y="324"/>
                    </a:lnTo>
                    <a:lnTo>
                      <a:pt x="155" y="352"/>
                    </a:lnTo>
                    <a:lnTo>
                      <a:pt x="156" y="381"/>
                    </a:lnTo>
                    <a:lnTo>
                      <a:pt x="156" y="410"/>
                    </a:lnTo>
                    <a:lnTo>
                      <a:pt x="156" y="439"/>
                    </a:lnTo>
                    <a:lnTo>
                      <a:pt x="156" y="469"/>
                    </a:lnTo>
                    <a:lnTo>
                      <a:pt x="154" y="498"/>
                    </a:lnTo>
                    <a:lnTo>
                      <a:pt x="151" y="529"/>
                    </a:lnTo>
                    <a:lnTo>
                      <a:pt x="148" y="559"/>
                    </a:lnTo>
                    <a:lnTo>
                      <a:pt x="143" y="589"/>
                    </a:lnTo>
                    <a:lnTo>
                      <a:pt x="137" y="620"/>
                    </a:lnTo>
                    <a:lnTo>
                      <a:pt x="129" y="651"/>
                    </a:lnTo>
                    <a:lnTo>
                      <a:pt x="121" y="682"/>
                    </a:lnTo>
                    <a:lnTo>
                      <a:pt x="111" y="713"/>
                    </a:lnTo>
                    <a:lnTo>
                      <a:pt x="100" y="744"/>
                    </a:lnTo>
                    <a:lnTo>
                      <a:pt x="87" y="776"/>
                    </a:lnTo>
                    <a:lnTo>
                      <a:pt x="74" y="808"/>
                    </a:lnTo>
                    <a:lnTo>
                      <a:pt x="58" y="840"/>
                    </a:lnTo>
                    <a:lnTo>
                      <a:pt x="41" y="872"/>
                    </a:lnTo>
                    <a:lnTo>
                      <a:pt x="22" y="904"/>
                    </a:lnTo>
                    <a:lnTo>
                      <a:pt x="3" y="936"/>
                    </a:lnTo>
                    <a:lnTo>
                      <a:pt x="9" y="931"/>
                    </a:lnTo>
                    <a:lnTo>
                      <a:pt x="3" y="936"/>
                    </a:lnTo>
                    <a:lnTo>
                      <a:pt x="0" y="940"/>
                    </a:lnTo>
                    <a:lnTo>
                      <a:pt x="0" y="945"/>
                    </a:lnTo>
                    <a:lnTo>
                      <a:pt x="3" y="948"/>
                    </a:lnTo>
                    <a:lnTo>
                      <a:pt x="5" y="951"/>
                    </a:lnTo>
                    <a:lnTo>
                      <a:pt x="9" y="952"/>
                    </a:lnTo>
                    <a:lnTo>
                      <a:pt x="12" y="952"/>
                    </a:lnTo>
                    <a:lnTo>
                      <a:pt x="16" y="951"/>
                    </a:lnTo>
                    <a:lnTo>
                      <a:pt x="20" y="947"/>
                    </a:lnTo>
                    <a:lnTo>
                      <a:pt x="12" y="9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688800" y="3917520"/>
                <a:ext cx="421920" cy="37440"/>
              </a:xfrm>
              <a:custGeom>
                <a:avLst/>
                <a:gdLst/>
                <a:ahLst/>
                <a:rect l="l" t="t" r="r" b="b"/>
                <a:pathLst>
                  <a:path w="1113" h="99">
                    <a:moveTo>
                      <a:pt x="21" y="14"/>
                    </a:moveTo>
                    <a:lnTo>
                      <a:pt x="9" y="20"/>
                    </a:lnTo>
                    <a:lnTo>
                      <a:pt x="79" y="36"/>
                    </a:lnTo>
                    <a:lnTo>
                      <a:pt x="148" y="51"/>
                    </a:lnTo>
                    <a:lnTo>
                      <a:pt x="218" y="63"/>
                    </a:lnTo>
                    <a:lnTo>
                      <a:pt x="288" y="73"/>
                    </a:lnTo>
                    <a:lnTo>
                      <a:pt x="357" y="81"/>
                    </a:lnTo>
                    <a:lnTo>
                      <a:pt x="426" y="89"/>
                    </a:lnTo>
                    <a:lnTo>
                      <a:pt x="496" y="94"/>
                    </a:lnTo>
                    <a:lnTo>
                      <a:pt x="565" y="97"/>
                    </a:lnTo>
                    <a:lnTo>
                      <a:pt x="634" y="99"/>
                    </a:lnTo>
                    <a:lnTo>
                      <a:pt x="703" y="97"/>
                    </a:lnTo>
                    <a:lnTo>
                      <a:pt x="771" y="95"/>
                    </a:lnTo>
                    <a:lnTo>
                      <a:pt x="840" y="91"/>
                    </a:lnTo>
                    <a:lnTo>
                      <a:pt x="909" y="84"/>
                    </a:lnTo>
                    <a:lnTo>
                      <a:pt x="977" y="76"/>
                    </a:lnTo>
                    <a:lnTo>
                      <a:pt x="1046" y="65"/>
                    </a:lnTo>
                    <a:lnTo>
                      <a:pt x="1113" y="53"/>
                    </a:lnTo>
                    <a:lnTo>
                      <a:pt x="1110" y="32"/>
                    </a:lnTo>
                    <a:lnTo>
                      <a:pt x="1042" y="45"/>
                    </a:lnTo>
                    <a:lnTo>
                      <a:pt x="974" y="56"/>
                    </a:lnTo>
                    <a:lnTo>
                      <a:pt x="907" y="64"/>
                    </a:lnTo>
                    <a:lnTo>
                      <a:pt x="838" y="70"/>
                    </a:lnTo>
                    <a:lnTo>
                      <a:pt x="770" y="74"/>
                    </a:lnTo>
                    <a:lnTo>
                      <a:pt x="703" y="76"/>
                    </a:lnTo>
                    <a:lnTo>
                      <a:pt x="634" y="78"/>
                    </a:lnTo>
                    <a:lnTo>
                      <a:pt x="565" y="76"/>
                    </a:lnTo>
                    <a:lnTo>
                      <a:pt x="497" y="73"/>
                    </a:lnTo>
                    <a:lnTo>
                      <a:pt x="428" y="68"/>
                    </a:lnTo>
                    <a:lnTo>
                      <a:pt x="359" y="60"/>
                    </a:lnTo>
                    <a:lnTo>
                      <a:pt x="291" y="52"/>
                    </a:lnTo>
                    <a:lnTo>
                      <a:pt x="222" y="42"/>
                    </a:lnTo>
                    <a:lnTo>
                      <a:pt x="153" y="30"/>
                    </a:lnTo>
                    <a:lnTo>
                      <a:pt x="83" y="16"/>
                    </a:lnTo>
                    <a:lnTo>
                      <a:pt x="14" y="0"/>
                    </a:lnTo>
                    <a:lnTo>
                      <a:pt x="1" y="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5" y="19"/>
                    </a:lnTo>
                    <a:lnTo>
                      <a:pt x="9" y="2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567840" y="3919320"/>
                <a:ext cx="130680" cy="535680"/>
              </a:xfrm>
              <a:custGeom>
                <a:avLst/>
                <a:gdLst/>
                <a:ahLst/>
                <a:rect l="l" t="t" r="r" b="b"/>
                <a:pathLst>
                  <a:path w="343" h="1415">
                    <a:moveTo>
                      <a:pt x="10" y="1415"/>
                    </a:moveTo>
                    <a:lnTo>
                      <a:pt x="21" y="1405"/>
                    </a:lnTo>
                    <a:lnTo>
                      <a:pt x="30" y="1316"/>
                    </a:lnTo>
                    <a:lnTo>
                      <a:pt x="39" y="1228"/>
                    </a:lnTo>
                    <a:lnTo>
                      <a:pt x="50" y="1139"/>
                    </a:lnTo>
                    <a:lnTo>
                      <a:pt x="64" y="1051"/>
                    </a:lnTo>
                    <a:lnTo>
                      <a:pt x="78" y="963"/>
                    </a:lnTo>
                    <a:lnTo>
                      <a:pt x="95" y="875"/>
                    </a:lnTo>
                    <a:lnTo>
                      <a:pt x="112" y="788"/>
                    </a:lnTo>
                    <a:lnTo>
                      <a:pt x="132" y="700"/>
                    </a:lnTo>
                    <a:lnTo>
                      <a:pt x="153" y="613"/>
                    </a:lnTo>
                    <a:lnTo>
                      <a:pt x="175" y="527"/>
                    </a:lnTo>
                    <a:lnTo>
                      <a:pt x="199" y="439"/>
                    </a:lnTo>
                    <a:lnTo>
                      <a:pt x="225" y="353"/>
                    </a:lnTo>
                    <a:lnTo>
                      <a:pt x="252" y="266"/>
                    </a:lnTo>
                    <a:lnTo>
                      <a:pt x="280" y="180"/>
                    </a:lnTo>
                    <a:lnTo>
                      <a:pt x="311" y="94"/>
                    </a:lnTo>
                    <a:lnTo>
                      <a:pt x="343" y="8"/>
                    </a:lnTo>
                    <a:lnTo>
                      <a:pt x="323" y="0"/>
                    </a:lnTo>
                    <a:lnTo>
                      <a:pt x="292" y="86"/>
                    </a:lnTo>
                    <a:lnTo>
                      <a:pt x="261" y="174"/>
                    </a:lnTo>
                    <a:lnTo>
                      <a:pt x="232" y="260"/>
                    </a:lnTo>
                    <a:lnTo>
                      <a:pt x="205" y="347"/>
                    </a:lnTo>
                    <a:lnTo>
                      <a:pt x="180" y="435"/>
                    </a:lnTo>
                    <a:lnTo>
                      <a:pt x="155" y="521"/>
                    </a:lnTo>
                    <a:lnTo>
                      <a:pt x="133" y="608"/>
                    </a:lnTo>
                    <a:lnTo>
                      <a:pt x="111" y="695"/>
                    </a:lnTo>
                    <a:lnTo>
                      <a:pt x="92" y="784"/>
                    </a:lnTo>
                    <a:lnTo>
                      <a:pt x="74" y="871"/>
                    </a:lnTo>
                    <a:lnTo>
                      <a:pt x="58" y="960"/>
                    </a:lnTo>
                    <a:lnTo>
                      <a:pt x="43" y="1048"/>
                    </a:lnTo>
                    <a:lnTo>
                      <a:pt x="30" y="1137"/>
                    </a:lnTo>
                    <a:lnTo>
                      <a:pt x="18" y="1225"/>
                    </a:lnTo>
                    <a:lnTo>
                      <a:pt x="9" y="1314"/>
                    </a:lnTo>
                    <a:lnTo>
                      <a:pt x="0" y="1404"/>
                    </a:lnTo>
                    <a:lnTo>
                      <a:pt x="11" y="1394"/>
                    </a:lnTo>
                    <a:lnTo>
                      <a:pt x="0" y="1404"/>
                    </a:lnTo>
                    <a:lnTo>
                      <a:pt x="1" y="1407"/>
                    </a:lnTo>
                    <a:lnTo>
                      <a:pt x="2" y="1411"/>
                    </a:lnTo>
                    <a:lnTo>
                      <a:pt x="6" y="1414"/>
                    </a:lnTo>
                    <a:lnTo>
                      <a:pt x="10" y="1415"/>
                    </a:lnTo>
                    <a:lnTo>
                      <a:pt x="14" y="1415"/>
                    </a:lnTo>
                    <a:lnTo>
                      <a:pt x="17" y="1412"/>
                    </a:lnTo>
                    <a:lnTo>
                      <a:pt x="20" y="1410"/>
                    </a:lnTo>
                    <a:lnTo>
                      <a:pt x="21" y="1405"/>
                    </a:lnTo>
                    <a:lnTo>
                      <a:pt x="10" y="14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187680" y="4411440"/>
                <a:ext cx="383760" cy="43200"/>
              </a:xfrm>
              <a:custGeom>
                <a:avLst/>
                <a:gdLst/>
                <a:ahLst/>
                <a:rect l="l" t="t" r="r" b="b"/>
                <a:pathLst>
                  <a:path w="1018" h="115">
                    <a:moveTo>
                      <a:pt x="0" y="9"/>
                    </a:moveTo>
                    <a:lnTo>
                      <a:pt x="10" y="21"/>
                    </a:lnTo>
                    <a:lnTo>
                      <a:pt x="136" y="32"/>
                    </a:lnTo>
                    <a:lnTo>
                      <a:pt x="263" y="44"/>
                    </a:lnTo>
                    <a:lnTo>
                      <a:pt x="390" y="55"/>
                    </a:lnTo>
                    <a:lnTo>
                      <a:pt x="515" y="67"/>
                    </a:lnTo>
                    <a:lnTo>
                      <a:pt x="641" y="78"/>
                    </a:lnTo>
                    <a:lnTo>
                      <a:pt x="766" y="90"/>
                    </a:lnTo>
                    <a:lnTo>
                      <a:pt x="891" y="103"/>
                    </a:lnTo>
                    <a:lnTo>
                      <a:pt x="1017" y="115"/>
                    </a:lnTo>
                    <a:lnTo>
                      <a:pt x="1018" y="94"/>
                    </a:lnTo>
                    <a:lnTo>
                      <a:pt x="893" y="82"/>
                    </a:lnTo>
                    <a:lnTo>
                      <a:pt x="768" y="69"/>
                    </a:lnTo>
                    <a:lnTo>
                      <a:pt x="643" y="57"/>
                    </a:lnTo>
                    <a:lnTo>
                      <a:pt x="518" y="46"/>
                    </a:lnTo>
                    <a:lnTo>
                      <a:pt x="392" y="34"/>
                    </a:lnTo>
                    <a:lnTo>
                      <a:pt x="265" y="23"/>
                    </a:lnTo>
                    <a:lnTo>
                      <a:pt x="139" y="12"/>
                    </a:lnTo>
                    <a:lnTo>
                      <a:pt x="11" y="0"/>
                    </a:lnTo>
                    <a:lnTo>
                      <a:pt x="21" y="14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1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6181920" y="4245120"/>
                <a:ext cx="16560" cy="172080"/>
              </a:xfrm>
              <a:custGeom>
                <a:avLst/>
                <a:gdLst/>
                <a:ahLst/>
                <a:rect l="l" t="t" r="r" b="b"/>
                <a:pathLst>
                  <a:path w="47" h="454">
                    <a:moveTo>
                      <a:pt x="21" y="0"/>
                    </a:moveTo>
                    <a:lnTo>
                      <a:pt x="10" y="8"/>
                    </a:lnTo>
                    <a:lnTo>
                      <a:pt x="5" y="36"/>
                    </a:lnTo>
                    <a:lnTo>
                      <a:pt x="1" y="64"/>
                    </a:lnTo>
                    <a:lnTo>
                      <a:pt x="0" y="92"/>
                    </a:lnTo>
                    <a:lnTo>
                      <a:pt x="0" y="121"/>
                    </a:lnTo>
                    <a:lnTo>
                      <a:pt x="2" y="149"/>
                    </a:lnTo>
                    <a:lnTo>
                      <a:pt x="6" y="177"/>
                    </a:lnTo>
                    <a:lnTo>
                      <a:pt x="10" y="204"/>
                    </a:lnTo>
                    <a:lnTo>
                      <a:pt x="13" y="233"/>
                    </a:lnTo>
                    <a:lnTo>
                      <a:pt x="17" y="260"/>
                    </a:lnTo>
                    <a:lnTo>
                      <a:pt x="21" y="287"/>
                    </a:lnTo>
                    <a:lnTo>
                      <a:pt x="23" y="315"/>
                    </a:lnTo>
                    <a:lnTo>
                      <a:pt x="26" y="342"/>
                    </a:lnTo>
                    <a:lnTo>
                      <a:pt x="26" y="369"/>
                    </a:lnTo>
                    <a:lnTo>
                      <a:pt x="25" y="395"/>
                    </a:lnTo>
                    <a:lnTo>
                      <a:pt x="21" y="422"/>
                    </a:lnTo>
                    <a:lnTo>
                      <a:pt x="15" y="449"/>
                    </a:lnTo>
                    <a:lnTo>
                      <a:pt x="36" y="454"/>
                    </a:lnTo>
                    <a:lnTo>
                      <a:pt x="42" y="426"/>
                    </a:lnTo>
                    <a:lnTo>
                      <a:pt x="45" y="397"/>
                    </a:lnTo>
                    <a:lnTo>
                      <a:pt x="47" y="369"/>
                    </a:lnTo>
                    <a:lnTo>
                      <a:pt x="47" y="341"/>
                    </a:lnTo>
                    <a:lnTo>
                      <a:pt x="44" y="313"/>
                    </a:lnTo>
                    <a:lnTo>
                      <a:pt x="42" y="286"/>
                    </a:lnTo>
                    <a:lnTo>
                      <a:pt x="38" y="257"/>
                    </a:lnTo>
                    <a:lnTo>
                      <a:pt x="34" y="229"/>
                    </a:lnTo>
                    <a:lnTo>
                      <a:pt x="29" y="202"/>
                    </a:lnTo>
                    <a:lnTo>
                      <a:pt x="26" y="175"/>
                    </a:lnTo>
                    <a:lnTo>
                      <a:pt x="23" y="147"/>
                    </a:lnTo>
                    <a:lnTo>
                      <a:pt x="21" y="119"/>
                    </a:lnTo>
                    <a:lnTo>
                      <a:pt x="21" y="92"/>
                    </a:lnTo>
                    <a:lnTo>
                      <a:pt x="22" y="67"/>
                    </a:lnTo>
                    <a:lnTo>
                      <a:pt x="25" y="40"/>
                    </a:lnTo>
                    <a:lnTo>
                      <a:pt x="31" y="12"/>
                    </a:lnTo>
                    <a:lnTo>
                      <a:pt x="20" y="21"/>
                    </a:lnTo>
                    <a:lnTo>
                      <a:pt x="31" y="12"/>
                    </a:lnTo>
                    <a:lnTo>
                      <a:pt x="31" y="9"/>
                    </a:lnTo>
                    <a:lnTo>
                      <a:pt x="29" y="5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4"/>
                    </a:lnTo>
                    <a:lnTo>
                      <a:pt x="10" y="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6189120" y="4245120"/>
                <a:ext cx="217440" cy="18720"/>
              </a:xfrm>
              <a:custGeom>
                <a:avLst/>
                <a:gdLst/>
                <a:ahLst/>
                <a:rect l="l" t="t" r="r" b="b"/>
                <a:pathLst>
                  <a:path w="575" h="46">
                    <a:moveTo>
                      <a:pt x="554" y="40"/>
                    </a:moveTo>
                    <a:lnTo>
                      <a:pt x="565" y="26"/>
                    </a:lnTo>
                    <a:lnTo>
                      <a:pt x="500" y="22"/>
                    </a:lnTo>
                    <a:lnTo>
                      <a:pt x="431" y="19"/>
                    </a:lnTo>
                    <a:lnTo>
                      <a:pt x="359" y="15"/>
                    </a:lnTo>
                    <a:lnTo>
                      <a:pt x="285" y="11"/>
                    </a:lnTo>
                    <a:lnTo>
                      <a:pt x="210" y="8"/>
                    </a:lnTo>
                    <a:lnTo>
                      <a:pt x="137" y="5"/>
                    </a:lnTo>
                    <a:lnTo>
                      <a:pt x="67" y="1"/>
                    </a:lnTo>
                    <a:lnTo>
                      <a:pt x="1" y="0"/>
                    </a:lnTo>
                    <a:lnTo>
                      <a:pt x="0" y="21"/>
                    </a:lnTo>
                    <a:lnTo>
                      <a:pt x="66" y="22"/>
                    </a:lnTo>
                    <a:lnTo>
                      <a:pt x="136" y="25"/>
                    </a:lnTo>
                    <a:lnTo>
                      <a:pt x="210" y="28"/>
                    </a:lnTo>
                    <a:lnTo>
                      <a:pt x="284" y="32"/>
                    </a:lnTo>
                    <a:lnTo>
                      <a:pt x="358" y="36"/>
                    </a:lnTo>
                    <a:lnTo>
                      <a:pt x="430" y="40"/>
                    </a:lnTo>
                    <a:lnTo>
                      <a:pt x="499" y="43"/>
                    </a:lnTo>
                    <a:lnTo>
                      <a:pt x="564" y="46"/>
                    </a:lnTo>
                    <a:lnTo>
                      <a:pt x="574" y="32"/>
                    </a:lnTo>
                    <a:lnTo>
                      <a:pt x="564" y="46"/>
                    </a:lnTo>
                    <a:lnTo>
                      <a:pt x="569" y="46"/>
                    </a:lnTo>
                    <a:lnTo>
                      <a:pt x="572" y="43"/>
                    </a:lnTo>
                    <a:lnTo>
                      <a:pt x="574" y="41"/>
                    </a:lnTo>
                    <a:lnTo>
                      <a:pt x="575" y="36"/>
                    </a:lnTo>
                    <a:lnTo>
                      <a:pt x="574" y="32"/>
                    </a:lnTo>
                    <a:lnTo>
                      <a:pt x="573" y="30"/>
                    </a:lnTo>
                    <a:lnTo>
                      <a:pt x="569" y="26"/>
                    </a:lnTo>
                    <a:lnTo>
                      <a:pt x="565" y="26"/>
                    </a:lnTo>
                    <a:lnTo>
                      <a:pt x="554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365160" y="3737520"/>
                <a:ext cx="64080" cy="522360"/>
              </a:xfrm>
              <a:custGeom>
                <a:avLst/>
                <a:gdLst/>
                <a:ahLst/>
                <a:rect l="l" t="t" r="r" b="b"/>
                <a:pathLst>
                  <a:path w="171" h="1382">
                    <a:moveTo>
                      <a:pt x="157" y="0"/>
                    </a:moveTo>
                    <a:lnTo>
                      <a:pt x="150" y="8"/>
                    </a:lnTo>
                    <a:lnTo>
                      <a:pt x="123" y="91"/>
                    </a:lnTo>
                    <a:lnTo>
                      <a:pt x="97" y="176"/>
                    </a:lnTo>
                    <a:lnTo>
                      <a:pt x="86" y="218"/>
                    </a:lnTo>
                    <a:lnTo>
                      <a:pt x="75" y="261"/>
                    </a:lnTo>
                    <a:lnTo>
                      <a:pt x="64" y="303"/>
                    </a:lnTo>
                    <a:lnTo>
                      <a:pt x="54" y="346"/>
                    </a:lnTo>
                    <a:lnTo>
                      <a:pt x="45" y="388"/>
                    </a:lnTo>
                    <a:lnTo>
                      <a:pt x="36" y="431"/>
                    </a:lnTo>
                    <a:lnTo>
                      <a:pt x="29" y="474"/>
                    </a:lnTo>
                    <a:lnTo>
                      <a:pt x="23" y="516"/>
                    </a:lnTo>
                    <a:lnTo>
                      <a:pt x="17" y="559"/>
                    </a:lnTo>
                    <a:lnTo>
                      <a:pt x="12" y="602"/>
                    </a:lnTo>
                    <a:lnTo>
                      <a:pt x="8" y="645"/>
                    </a:lnTo>
                    <a:lnTo>
                      <a:pt x="4" y="688"/>
                    </a:lnTo>
                    <a:lnTo>
                      <a:pt x="2" y="731"/>
                    </a:lnTo>
                    <a:lnTo>
                      <a:pt x="1" y="774"/>
                    </a:lnTo>
                    <a:lnTo>
                      <a:pt x="0" y="817"/>
                    </a:lnTo>
                    <a:lnTo>
                      <a:pt x="1" y="860"/>
                    </a:lnTo>
                    <a:lnTo>
                      <a:pt x="2" y="903"/>
                    </a:lnTo>
                    <a:lnTo>
                      <a:pt x="4" y="946"/>
                    </a:lnTo>
                    <a:lnTo>
                      <a:pt x="8" y="989"/>
                    </a:lnTo>
                    <a:lnTo>
                      <a:pt x="12" y="1032"/>
                    </a:lnTo>
                    <a:lnTo>
                      <a:pt x="18" y="1076"/>
                    </a:lnTo>
                    <a:lnTo>
                      <a:pt x="24" y="1120"/>
                    </a:lnTo>
                    <a:lnTo>
                      <a:pt x="33" y="1163"/>
                    </a:lnTo>
                    <a:lnTo>
                      <a:pt x="41" y="1207"/>
                    </a:lnTo>
                    <a:lnTo>
                      <a:pt x="51" y="1250"/>
                    </a:lnTo>
                    <a:lnTo>
                      <a:pt x="64" y="1294"/>
                    </a:lnTo>
                    <a:lnTo>
                      <a:pt x="76" y="1337"/>
                    </a:lnTo>
                    <a:lnTo>
                      <a:pt x="89" y="1382"/>
                    </a:lnTo>
                    <a:lnTo>
                      <a:pt x="109" y="1374"/>
                    </a:lnTo>
                    <a:lnTo>
                      <a:pt x="95" y="1331"/>
                    </a:lnTo>
                    <a:lnTo>
                      <a:pt x="83" y="1288"/>
                    </a:lnTo>
                    <a:lnTo>
                      <a:pt x="72" y="1245"/>
                    </a:lnTo>
                    <a:lnTo>
                      <a:pt x="62" y="1202"/>
                    </a:lnTo>
                    <a:lnTo>
                      <a:pt x="54" y="1159"/>
                    </a:lnTo>
                    <a:lnTo>
                      <a:pt x="45" y="1116"/>
                    </a:lnTo>
                    <a:lnTo>
                      <a:pt x="39" y="1073"/>
                    </a:lnTo>
                    <a:lnTo>
                      <a:pt x="33" y="1030"/>
                    </a:lnTo>
                    <a:lnTo>
                      <a:pt x="29" y="987"/>
                    </a:lnTo>
                    <a:lnTo>
                      <a:pt x="25" y="945"/>
                    </a:lnTo>
                    <a:lnTo>
                      <a:pt x="23" y="902"/>
                    </a:lnTo>
                    <a:lnTo>
                      <a:pt x="22" y="859"/>
                    </a:lnTo>
                    <a:lnTo>
                      <a:pt x="20" y="817"/>
                    </a:lnTo>
                    <a:lnTo>
                      <a:pt x="22" y="774"/>
                    </a:lnTo>
                    <a:lnTo>
                      <a:pt x="23" y="731"/>
                    </a:lnTo>
                    <a:lnTo>
                      <a:pt x="25" y="689"/>
                    </a:lnTo>
                    <a:lnTo>
                      <a:pt x="28" y="646"/>
                    </a:lnTo>
                    <a:lnTo>
                      <a:pt x="33" y="604"/>
                    </a:lnTo>
                    <a:lnTo>
                      <a:pt x="38" y="561"/>
                    </a:lnTo>
                    <a:lnTo>
                      <a:pt x="44" y="519"/>
                    </a:lnTo>
                    <a:lnTo>
                      <a:pt x="50" y="476"/>
                    </a:lnTo>
                    <a:lnTo>
                      <a:pt x="57" y="434"/>
                    </a:lnTo>
                    <a:lnTo>
                      <a:pt x="66" y="393"/>
                    </a:lnTo>
                    <a:lnTo>
                      <a:pt x="75" y="350"/>
                    </a:lnTo>
                    <a:lnTo>
                      <a:pt x="84" y="308"/>
                    </a:lnTo>
                    <a:lnTo>
                      <a:pt x="94" y="266"/>
                    </a:lnTo>
                    <a:lnTo>
                      <a:pt x="105" y="224"/>
                    </a:lnTo>
                    <a:lnTo>
                      <a:pt x="116" y="181"/>
                    </a:lnTo>
                    <a:lnTo>
                      <a:pt x="142" y="97"/>
                    </a:lnTo>
                    <a:lnTo>
                      <a:pt x="169" y="14"/>
                    </a:lnTo>
                    <a:lnTo>
                      <a:pt x="163" y="20"/>
                    </a:lnTo>
                    <a:lnTo>
                      <a:pt x="169" y="14"/>
                    </a:lnTo>
                    <a:lnTo>
                      <a:pt x="171" y="9"/>
                    </a:lnTo>
                    <a:lnTo>
                      <a:pt x="169" y="5"/>
                    </a:lnTo>
                    <a:lnTo>
                      <a:pt x="167" y="3"/>
                    </a:lnTo>
                    <a:lnTo>
                      <a:pt x="163" y="0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52" y="3"/>
                    </a:lnTo>
                    <a:lnTo>
                      <a:pt x="150" y="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6423840" y="3709440"/>
                <a:ext cx="308160" cy="35280"/>
              </a:xfrm>
              <a:custGeom>
                <a:avLst/>
                <a:gdLst/>
                <a:ahLst/>
                <a:rect l="l" t="t" r="r" b="b"/>
                <a:pathLst>
                  <a:path w="817" h="97">
                    <a:moveTo>
                      <a:pt x="796" y="61"/>
                    </a:moveTo>
                    <a:lnTo>
                      <a:pt x="809" y="51"/>
                    </a:lnTo>
                    <a:lnTo>
                      <a:pt x="759" y="38"/>
                    </a:lnTo>
                    <a:lnTo>
                      <a:pt x="710" y="27"/>
                    </a:lnTo>
                    <a:lnTo>
                      <a:pt x="659" y="17"/>
                    </a:lnTo>
                    <a:lnTo>
                      <a:pt x="610" y="10"/>
                    </a:lnTo>
                    <a:lnTo>
                      <a:pt x="560" y="5"/>
                    </a:lnTo>
                    <a:lnTo>
                      <a:pt x="509" y="1"/>
                    </a:lnTo>
                    <a:lnTo>
                      <a:pt x="459" y="0"/>
                    </a:lnTo>
                    <a:lnTo>
                      <a:pt x="408" y="1"/>
                    </a:lnTo>
                    <a:lnTo>
                      <a:pt x="358" y="3"/>
                    </a:lnTo>
                    <a:lnTo>
                      <a:pt x="307" y="8"/>
                    </a:lnTo>
                    <a:lnTo>
                      <a:pt x="256" y="14"/>
                    </a:lnTo>
                    <a:lnTo>
                      <a:pt x="205" y="23"/>
                    </a:lnTo>
                    <a:lnTo>
                      <a:pt x="154" y="34"/>
                    </a:lnTo>
                    <a:lnTo>
                      <a:pt x="102" y="46"/>
                    </a:lnTo>
                    <a:lnTo>
                      <a:pt x="52" y="61"/>
                    </a:lnTo>
                    <a:lnTo>
                      <a:pt x="0" y="77"/>
                    </a:lnTo>
                    <a:lnTo>
                      <a:pt x="6" y="97"/>
                    </a:lnTo>
                    <a:lnTo>
                      <a:pt x="57" y="81"/>
                    </a:lnTo>
                    <a:lnTo>
                      <a:pt x="108" y="66"/>
                    </a:lnTo>
                    <a:lnTo>
                      <a:pt x="159" y="54"/>
                    </a:lnTo>
                    <a:lnTo>
                      <a:pt x="209" y="44"/>
                    </a:lnTo>
                    <a:lnTo>
                      <a:pt x="259" y="35"/>
                    </a:lnTo>
                    <a:lnTo>
                      <a:pt x="310" y="29"/>
                    </a:lnTo>
                    <a:lnTo>
                      <a:pt x="359" y="24"/>
                    </a:lnTo>
                    <a:lnTo>
                      <a:pt x="410" y="22"/>
                    </a:lnTo>
                    <a:lnTo>
                      <a:pt x="459" y="21"/>
                    </a:lnTo>
                    <a:lnTo>
                      <a:pt x="508" y="22"/>
                    </a:lnTo>
                    <a:lnTo>
                      <a:pt x="558" y="26"/>
                    </a:lnTo>
                    <a:lnTo>
                      <a:pt x="608" y="30"/>
                    </a:lnTo>
                    <a:lnTo>
                      <a:pt x="657" y="38"/>
                    </a:lnTo>
                    <a:lnTo>
                      <a:pt x="706" y="48"/>
                    </a:lnTo>
                    <a:lnTo>
                      <a:pt x="754" y="59"/>
                    </a:lnTo>
                    <a:lnTo>
                      <a:pt x="803" y="72"/>
                    </a:lnTo>
                    <a:lnTo>
                      <a:pt x="817" y="61"/>
                    </a:lnTo>
                    <a:lnTo>
                      <a:pt x="803" y="72"/>
                    </a:lnTo>
                    <a:lnTo>
                      <a:pt x="808" y="72"/>
                    </a:lnTo>
                    <a:lnTo>
                      <a:pt x="812" y="71"/>
                    </a:lnTo>
                    <a:lnTo>
                      <a:pt x="814" y="69"/>
                    </a:lnTo>
                    <a:lnTo>
                      <a:pt x="817" y="65"/>
                    </a:lnTo>
                    <a:lnTo>
                      <a:pt x="817" y="61"/>
                    </a:lnTo>
                    <a:lnTo>
                      <a:pt x="815" y="58"/>
                    </a:lnTo>
                    <a:lnTo>
                      <a:pt x="813" y="54"/>
                    </a:lnTo>
                    <a:lnTo>
                      <a:pt x="809" y="51"/>
                    </a:lnTo>
                    <a:lnTo>
                      <a:pt x="796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6724800" y="3625920"/>
                <a:ext cx="7560" cy="105840"/>
              </a:xfrm>
              <a:custGeom>
                <a:avLst/>
                <a:gdLst/>
                <a:ahLst/>
                <a:rect l="l" t="t" r="r" b="b"/>
                <a:pathLst>
                  <a:path w="21" h="279">
                    <a:moveTo>
                      <a:pt x="10" y="0"/>
                    </a:moveTo>
                    <a:lnTo>
                      <a:pt x="0" y="11"/>
                    </a:lnTo>
                    <a:lnTo>
                      <a:pt x="0" y="43"/>
                    </a:lnTo>
                    <a:lnTo>
                      <a:pt x="0" y="76"/>
                    </a:lnTo>
                    <a:lnTo>
                      <a:pt x="0" y="109"/>
                    </a:lnTo>
                    <a:lnTo>
                      <a:pt x="0" y="143"/>
                    </a:lnTo>
                    <a:lnTo>
                      <a:pt x="0" y="176"/>
                    </a:lnTo>
                    <a:lnTo>
                      <a:pt x="0" y="210"/>
                    </a:lnTo>
                    <a:lnTo>
                      <a:pt x="0" y="245"/>
                    </a:lnTo>
                    <a:lnTo>
                      <a:pt x="0" y="279"/>
                    </a:lnTo>
                    <a:lnTo>
                      <a:pt x="21" y="279"/>
                    </a:lnTo>
                    <a:lnTo>
                      <a:pt x="21" y="245"/>
                    </a:lnTo>
                    <a:lnTo>
                      <a:pt x="21" y="210"/>
                    </a:lnTo>
                    <a:lnTo>
                      <a:pt x="21" y="176"/>
                    </a:lnTo>
                    <a:lnTo>
                      <a:pt x="21" y="143"/>
                    </a:lnTo>
                    <a:lnTo>
                      <a:pt x="21" y="109"/>
                    </a:lnTo>
                    <a:lnTo>
                      <a:pt x="21" y="76"/>
                    </a:lnTo>
                    <a:lnTo>
                      <a:pt x="21" y="43"/>
                    </a:lnTo>
                    <a:lnTo>
                      <a:pt x="21" y="11"/>
                    </a:lnTo>
                    <a:lnTo>
                      <a:pt x="11" y="21"/>
                    </a:lnTo>
                    <a:lnTo>
                      <a:pt x="21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6728400" y="3574800"/>
                <a:ext cx="423720" cy="58320"/>
              </a:xfrm>
              <a:custGeom>
                <a:avLst/>
                <a:gdLst/>
                <a:ahLst/>
                <a:rect l="l" t="t" r="r" b="b"/>
                <a:pathLst>
                  <a:path w="1120" h="158">
                    <a:moveTo>
                      <a:pt x="1120" y="9"/>
                    </a:moveTo>
                    <a:lnTo>
                      <a:pt x="1108" y="0"/>
                    </a:lnTo>
                    <a:lnTo>
                      <a:pt x="1038" y="16"/>
                    </a:lnTo>
                    <a:lnTo>
                      <a:pt x="968" y="32"/>
                    </a:lnTo>
                    <a:lnTo>
                      <a:pt x="897" y="46"/>
                    </a:lnTo>
                    <a:lnTo>
                      <a:pt x="827" y="58"/>
                    </a:lnTo>
                    <a:lnTo>
                      <a:pt x="758" y="69"/>
                    </a:lnTo>
                    <a:lnTo>
                      <a:pt x="688" y="79"/>
                    </a:lnTo>
                    <a:lnTo>
                      <a:pt x="619" y="88"/>
                    </a:lnTo>
                    <a:lnTo>
                      <a:pt x="551" y="95"/>
                    </a:lnTo>
                    <a:lnTo>
                      <a:pt x="482" y="103"/>
                    </a:lnTo>
                    <a:lnTo>
                      <a:pt x="413" y="109"/>
                    </a:lnTo>
                    <a:lnTo>
                      <a:pt x="344" y="115"/>
                    </a:lnTo>
                    <a:lnTo>
                      <a:pt x="275" y="120"/>
                    </a:lnTo>
                    <a:lnTo>
                      <a:pt x="137" y="130"/>
                    </a:lnTo>
                    <a:lnTo>
                      <a:pt x="0" y="137"/>
                    </a:lnTo>
                    <a:lnTo>
                      <a:pt x="1" y="158"/>
                    </a:lnTo>
                    <a:lnTo>
                      <a:pt x="139" y="149"/>
                    </a:lnTo>
                    <a:lnTo>
                      <a:pt x="276" y="141"/>
                    </a:lnTo>
                    <a:lnTo>
                      <a:pt x="345" y="136"/>
                    </a:lnTo>
                    <a:lnTo>
                      <a:pt x="414" y="130"/>
                    </a:lnTo>
                    <a:lnTo>
                      <a:pt x="483" y="123"/>
                    </a:lnTo>
                    <a:lnTo>
                      <a:pt x="553" y="116"/>
                    </a:lnTo>
                    <a:lnTo>
                      <a:pt x="622" y="109"/>
                    </a:lnTo>
                    <a:lnTo>
                      <a:pt x="692" y="100"/>
                    </a:lnTo>
                    <a:lnTo>
                      <a:pt x="761" y="89"/>
                    </a:lnTo>
                    <a:lnTo>
                      <a:pt x="831" y="78"/>
                    </a:lnTo>
                    <a:lnTo>
                      <a:pt x="901" y="66"/>
                    </a:lnTo>
                    <a:lnTo>
                      <a:pt x="971" y="52"/>
                    </a:lnTo>
                    <a:lnTo>
                      <a:pt x="1041" y="37"/>
                    </a:lnTo>
                    <a:lnTo>
                      <a:pt x="1113" y="20"/>
                    </a:lnTo>
                    <a:lnTo>
                      <a:pt x="1099" y="13"/>
                    </a:lnTo>
                    <a:lnTo>
                      <a:pt x="1113" y="20"/>
                    </a:lnTo>
                    <a:lnTo>
                      <a:pt x="1116" y="19"/>
                    </a:lnTo>
                    <a:lnTo>
                      <a:pt x="1119" y="15"/>
                    </a:lnTo>
                    <a:lnTo>
                      <a:pt x="1120" y="12"/>
                    </a:lnTo>
                    <a:lnTo>
                      <a:pt x="1120" y="8"/>
                    </a:lnTo>
                    <a:lnTo>
                      <a:pt x="1119" y="4"/>
                    </a:lnTo>
                    <a:lnTo>
                      <a:pt x="1115" y="2"/>
                    </a:lnTo>
                    <a:lnTo>
                      <a:pt x="1111" y="0"/>
                    </a:lnTo>
                    <a:lnTo>
                      <a:pt x="1108" y="0"/>
                    </a:lnTo>
                    <a:lnTo>
                      <a:pt x="1120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995520" y="4104720"/>
                <a:ext cx="105840" cy="353880"/>
              </a:xfrm>
              <a:prstGeom prst="rect">
                <a:avLst/>
              </a:prstGeom>
              <a:solidFill>
                <a:srgbClr val="ce9d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995520" y="410076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2" h="21">
                    <a:moveTo>
                      <a:pt x="282" y="11"/>
                    </a:moveTo>
                    <a:lnTo>
                      <a:pt x="27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279" y="21"/>
                    </a:lnTo>
                    <a:lnTo>
                      <a:pt x="282" y="11"/>
                    </a:lnTo>
                    <a:lnTo>
                      <a:pt x="279" y="21"/>
                    </a:lnTo>
                    <a:lnTo>
                      <a:pt x="281" y="20"/>
                    </a:lnTo>
                    <a:lnTo>
                      <a:pt x="281" y="18"/>
                    </a:lnTo>
                    <a:lnTo>
                      <a:pt x="282" y="15"/>
                    </a:lnTo>
                    <a:lnTo>
                      <a:pt x="282" y="11"/>
                    </a:lnTo>
                    <a:lnTo>
                      <a:pt x="282" y="7"/>
                    </a:lnTo>
                    <a:lnTo>
                      <a:pt x="281" y="4"/>
                    </a:lnTo>
                    <a:lnTo>
                      <a:pt x="281" y="1"/>
                    </a:lnTo>
                    <a:lnTo>
                      <a:pt x="279" y="0"/>
                    </a:lnTo>
                    <a:lnTo>
                      <a:pt x="282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099200" y="4104720"/>
                <a:ext cx="1800" cy="357840"/>
              </a:xfrm>
              <a:custGeom>
                <a:avLst/>
                <a:gdLst/>
                <a:ahLst/>
                <a:rect l="l" t="t" r="r" b="b"/>
                <a:pathLst>
                  <a:path w="5" h="943">
                    <a:moveTo>
                      <a:pt x="2" y="943"/>
                    </a:moveTo>
                    <a:lnTo>
                      <a:pt x="5" y="93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932"/>
                    </a:lnTo>
                    <a:lnTo>
                      <a:pt x="2" y="943"/>
                    </a:lnTo>
                    <a:lnTo>
                      <a:pt x="0" y="932"/>
                    </a:lnTo>
                    <a:lnTo>
                      <a:pt x="0" y="937"/>
                    </a:lnTo>
                    <a:lnTo>
                      <a:pt x="1" y="941"/>
                    </a:lnTo>
                    <a:lnTo>
                      <a:pt x="1" y="942"/>
                    </a:lnTo>
                    <a:lnTo>
                      <a:pt x="2" y="943"/>
                    </a:lnTo>
                    <a:lnTo>
                      <a:pt x="4" y="942"/>
                    </a:lnTo>
                    <a:lnTo>
                      <a:pt x="4" y="941"/>
                    </a:lnTo>
                    <a:lnTo>
                      <a:pt x="5" y="937"/>
                    </a:lnTo>
                    <a:lnTo>
                      <a:pt x="5" y="932"/>
                    </a:lnTo>
                    <a:lnTo>
                      <a:pt x="2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6995520" y="4455000"/>
                <a:ext cx="105840" cy="7560"/>
              </a:xfrm>
              <a:custGeom>
                <a:avLst/>
                <a:gdLst/>
                <a:ahLst/>
                <a:rect l="l" t="t" r="r" b="b"/>
                <a:pathLst>
                  <a:path w="280" h="21">
                    <a:moveTo>
                      <a:pt x="0" y="10"/>
                    </a:moveTo>
                    <a:lnTo>
                      <a:pt x="1" y="21"/>
                    </a:lnTo>
                    <a:lnTo>
                      <a:pt x="280" y="21"/>
                    </a:lnTo>
                    <a:lnTo>
                      <a:pt x="280" y="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995520" y="4100760"/>
                <a:ext cx="1440" cy="357840"/>
              </a:xfrm>
              <a:custGeom>
                <a:avLst/>
                <a:gdLst/>
                <a:ahLst/>
                <a:rect l="l" t="t" r="r" b="b"/>
                <a:pathLst>
                  <a:path w="4" h="943">
                    <a:moveTo>
                      <a:pt x="1" y="0"/>
                    </a:moveTo>
                    <a:lnTo>
                      <a:pt x="0" y="11"/>
                    </a:lnTo>
                    <a:lnTo>
                      <a:pt x="0" y="943"/>
                    </a:lnTo>
                    <a:lnTo>
                      <a:pt x="4" y="943"/>
                    </a:lnTo>
                    <a:lnTo>
                      <a:pt x="4" y="11"/>
                    </a:lnTo>
                    <a:lnTo>
                      <a:pt x="1" y="0"/>
                    </a:lnTo>
                    <a:lnTo>
                      <a:pt x="4" y="11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707880" y="3203640"/>
                <a:ext cx="478080" cy="614880"/>
              </a:xfrm>
              <a:custGeom>
                <a:avLst/>
                <a:gdLst/>
                <a:ahLst/>
                <a:rect l="l" t="t" r="r" b="b"/>
                <a:pathLst>
                  <a:path w="1265" h="1622">
                    <a:moveTo>
                      <a:pt x="476" y="0"/>
                    </a:moveTo>
                    <a:lnTo>
                      <a:pt x="445" y="36"/>
                    </a:lnTo>
                    <a:lnTo>
                      <a:pt x="417" y="72"/>
                    </a:lnTo>
                    <a:lnTo>
                      <a:pt x="390" y="112"/>
                    </a:lnTo>
                    <a:lnTo>
                      <a:pt x="364" y="152"/>
                    </a:lnTo>
                    <a:lnTo>
                      <a:pt x="339" y="195"/>
                    </a:lnTo>
                    <a:lnTo>
                      <a:pt x="317" y="238"/>
                    </a:lnTo>
                    <a:lnTo>
                      <a:pt x="295" y="284"/>
                    </a:lnTo>
                    <a:lnTo>
                      <a:pt x="275" y="331"/>
                    </a:lnTo>
                    <a:lnTo>
                      <a:pt x="256" y="379"/>
                    </a:lnTo>
                    <a:lnTo>
                      <a:pt x="238" y="428"/>
                    </a:lnTo>
                    <a:lnTo>
                      <a:pt x="221" y="477"/>
                    </a:lnTo>
                    <a:lnTo>
                      <a:pt x="205" y="528"/>
                    </a:lnTo>
                    <a:lnTo>
                      <a:pt x="190" y="579"/>
                    </a:lnTo>
                    <a:lnTo>
                      <a:pt x="177" y="630"/>
                    </a:lnTo>
                    <a:lnTo>
                      <a:pt x="163" y="681"/>
                    </a:lnTo>
                    <a:lnTo>
                      <a:pt x="151" y="733"/>
                    </a:lnTo>
                    <a:lnTo>
                      <a:pt x="128" y="837"/>
                    </a:lnTo>
                    <a:lnTo>
                      <a:pt x="108" y="940"/>
                    </a:lnTo>
                    <a:lnTo>
                      <a:pt x="88" y="1042"/>
                    </a:lnTo>
                    <a:lnTo>
                      <a:pt x="71" y="1139"/>
                    </a:lnTo>
                    <a:lnTo>
                      <a:pt x="53" y="1234"/>
                    </a:lnTo>
                    <a:lnTo>
                      <a:pt x="37" y="1322"/>
                    </a:lnTo>
                    <a:lnTo>
                      <a:pt x="28" y="1365"/>
                    </a:lnTo>
                    <a:lnTo>
                      <a:pt x="18" y="1406"/>
                    </a:lnTo>
                    <a:lnTo>
                      <a:pt x="10" y="1444"/>
                    </a:lnTo>
                    <a:lnTo>
                      <a:pt x="0" y="1481"/>
                    </a:lnTo>
                    <a:lnTo>
                      <a:pt x="37" y="1478"/>
                    </a:lnTo>
                    <a:lnTo>
                      <a:pt x="74" y="1478"/>
                    </a:lnTo>
                    <a:lnTo>
                      <a:pt x="110" y="1480"/>
                    </a:lnTo>
                    <a:lnTo>
                      <a:pt x="147" y="1482"/>
                    </a:lnTo>
                    <a:lnTo>
                      <a:pt x="185" y="1486"/>
                    </a:lnTo>
                    <a:lnTo>
                      <a:pt x="224" y="1491"/>
                    </a:lnTo>
                    <a:lnTo>
                      <a:pt x="262" y="1497"/>
                    </a:lnTo>
                    <a:lnTo>
                      <a:pt x="300" y="1504"/>
                    </a:lnTo>
                    <a:lnTo>
                      <a:pt x="454" y="1540"/>
                    </a:lnTo>
                    <a:lnTo>
                      <a:pt x="610" y="1578"/>
                    </a:lnTo>
                    <a:lnTo>
                      <a:pt x="648" y="1587"/>
                    </a:lnTo>
                    <a:lnTo>
                      <a:pt x="687" y="1594"/>
                    </a:lnTo>
                    <a:lnTo>
                      <a:pt x="727" y="1601"/>
                    </a:lnTo>
                    <a:lnTo>
                      <a:pt x="765" y="1609"/>
                    </a:lnTo>
                    <a:lnTo>
                      <a:pt x="804" y="1614"/>
                    </a:lnTo>
                    <a:lnTo>
                      <a:pt x="842" y="1617"/>
                    </a:lnTo>
                    <a:lnTo>
                      <a:pt x="882" y="1621"/>
                    </a:lnTo>
                    <a:lnTo>
                      <a:pt x="920" y="1622"/>
                    </a:lnTo>
                    <a:lnTo>
                      <a:pt x="958" y="1621"/>
                    </a:lnTo>
                    <a:lnTo>
                      <a:pt x="996" y="1619"/>
                    </a:lnTo>
                    <a:lnTo>
                      <a:pt x="1033" y="1615"/>
                    </a:lnTo>
                    <a:lnTo>
                      <a:pt x="1071" y="1609"/>
                    </a:lnTo>
                    <a:lnTo>
                      <a:pt x="1108" y="1599"/>
                    </a:lnTo>
                    <a:lnTo>
                      <a:pt x="1146" y="1588"/>
                    </a:lnTo>
                    <a:lnTo>
                      <a:pt x="1183" y="1574"/>
                    </a:lnTo>
                    <a:lnTo>
                      <a:pt x="1219" y="1558"/>
                    </a:lnTo>
                    <a:lnTo>
                      <a:pt x="1228" y="1524"/>
                    </a:lnTo>
                    <a:lnTo>
                      <a:pt x="1237" y="1486"/>
                    </a:lnTo>
                    <a:lnTo>
                      <a:pt x="1244" y="1446"/>
                    </a:lnTo>
                    <a:lnTo>
                      <a:pt x="1251" y="1403"/>
                    </a:lnTo>
                    <a:lnTo>
                      <a:pt x="1257" y="1358"/>
                    </a:lnTo>
                    <a:lnTo>
                      <a:pt x="1260" y="1311"/>
                    </a:lnTo>
                    <a:lnTo>
                      <a:pt x="1263" y="1262"/>
                    </a:lnTo>
                    <a:lnTo>
                      <a:pt x="1265" y="1210"/>
                    </a:lnTo>
                    <a:lnTo>
                      <a:pt x="1265" y="1159"/>
                    </a:lnTo>
                    <a:lnTo>
                      <a:pt x="1264" y="1104"/>
                    </a:lnTo>
                    <a:lnTo>
                      <a:pt x="1263" y="1050"/>
                    </a:lnTo>
                    <a:lnTo>
                      <a:pt x="1259" y="994"/>
                    </a:lnTo>
                    <a:lnTo>
                      <a:pt x="1256" y="937"/>
                    </a:lnTo>
                    <a:lnTo>
                      <a:pt x="1249" y="881"/>
                    </a:lnTo>
                    <a:lnTo>
                      <a:pt x="1242" y="823"/>
                    </a:lnTo>
                    <a:lnTo>
                      <a:pt x="1235" y="766"/>
                    </a:lnTo>
                    <a:lnTo>
                      <a:pt x="1225" y="708"/>
                    </a:lnTo>
                    <a:lnTo>
                      <a:pt x="1214" y="652"/>
                    </a:lnTo>
                    <a:lnTo>
                      <a:pt x="1201" y="595"/>
                    </a:lnTo>
                    <a:lnTo>
                      <a:pt x="1188" y="539"/>
                    </a:lnTo>
                    <a:lnTo>
                      <a:pt x="1173" y="484"/>
                    </a:lnTo>
                    <a:lnTo>
                      <a:pt x="1157" y="430"/>
                    </a:lnTo>
                    <a:lnTo>
                      <a:pt x="1140" y="377"/>
                    </a:lnTo>
                    <a:lnTo>
                      <a:pt x="1120" y="327"/>
                    </a:lnTo>
                    <a:lnTo>
                      <a:pt x="1101" y="278"/>
                    </a:lnTo>
                    <a:lnTo>
                      <a:pt x="1078" y="231"/>
                    </a:lnTo>
                    <a:lnTo>
                      <a:pt x="1055" y="186"/>
                    </a:lnTo>
                    <a:lnTo>
                      <a:pt x="1030" y="143"/>
                    </a:lnTo>
                    <a:lnTo>
                      <a:pt x="1005" y="103"/>
                    </a:lnTo>
                    <a:lnTo>
                      <a:pt x="976" y="65"/>
                    </a:lnTo>
                    <a:lnTo>
                      <a:pt x="948" y="31"/>
                    </a:lnTo>
                    <a:lnTo>
                      <a:pt x="917" y="0"/>
                    </a:lnTo>
                    <a:lnTo>
                      <a:pt x="889" y="6"/>
                    </a:lnTo>
                    <a:lnTo>
                      <a:pt x="859" y="12"/>
                    </a:lnTo>
                    <a:lnTo>
                      <a:pt x="831" y="16"/>
                    </a:lnTo>
                    <a:lnTo>
                      <a:pt x="803" y="20"/>
                    </a:lnTo>
                    <a:lnTo>
                      <a:pt x="776" y="23"/>
                    </a:lnTo>
                    <a:lnTo>
                      <a:pt x="748" y="24"/>
                    </a:lnTo>
                    <a:lnTo>
                      <a:pt x="719" y="26"/>
                    </a:lnTo>
                    <a:lnTo>
                      <a:pt x="692" y="26"/>
                    </a:lnTo>
                    <a:lnTo>
                      <a:pt x="665" y="26"/>
                    </a:lnTo>
                    <a:lnTo>
                      <a:pt x="637" y="24"/>
                    </a:lnTo>
                    <a:lnTo>
                      <a:pt x="610" y="22"/>
                    </a:lnTo>
                    <a:lnTo>
                      <a:pt x="583" y="18"/>
                    </a:lnTo>
                    <a:lnTo>
                      <a:pt x="556" y="15"/>
                    </a:lnTo>
                    <a:lnTo>
                      <a:pt x="530" y="11"/>
                    </a:lnTo>
                    <a:lnTo>
                      <a:pt x="503" y="6"/>
                    </a:ln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3d7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704280" y="3201840"/>
                <a:ext cx="185040" cy="567720"/>
              </a:xfrm>
              <a:custGeom>
                <a:avLst/>
                <a:gdLst/>
                <a:ahLst/>
                <a:rect l="l" t="t" r="r" b="b"/>
                <a:pathLst>
                  <a:path w="493" h="1500">
                    <a:moveTo>
                      <a:pt x="9" y="1479"/>
                    </a:moveTo>
                    <a:lnTo>
                      <a:pt x="20" y="1491"/>
                    </a:lnTo>
                    <a:lnTo>
                      <a:pt x="29" y="1454"/>
                    </a:lnTo>
                    <a:lnTo>
                      <a:pt x="39" y="1415"/>
                    </a:lnTo>
                    <a:lnTo>
                      <a:pt x="48" y="1374"/>
                    </a:lnTo>
                    <a:lnTo>
                      <a:pt x="57" y="1333"/>
                    </a:lnTo>
                    <a:lnTo>
                      <a:pt x="74" y="1243"/>
                    </a:lnTo>
                    <a:lnTo>
                      <a:pt x="91" y="1149"/>
                    </a:lnTo>
                    <a:lnTo>
                      <a:pt x="108" y="1051"/>
                    </a:lnTo>
                    <a:lnTo>
                      <a:pt x="128" y="950"/>
                    </a:lnTo>
                    <a:lnTo>
                      <a:pt x="149" y="848"/>
                    </a:lnTo>
                    <a:lnTo>
                      <a:pt x="171" y="743"/>
                    </a:lnTo>
                    <a:lnTo>
                      <a:pt x="183" y="692"/>
                    </a:lnTo>
                    <a:lnTo>
                      <a:pt x="197" y="640"/>
                    </a:lnTo>
                    <a:lnTo>
                      <a:pt x="210" y="590"/>
                    </a:lnTo>
                    <a:lnTo>
                      <a:pt x="225" y="539"/>
                    </a:lnTo>
                    <a:lnTo>
                      <a:pt x="241" y="489"/>
                    </a:lnTo>
                    <a:lnTo>
                      <a:pt x="258" y="440"/>
                    </a:lnTo>
                    <a:lnTo>
                      <a:pt x="275" y="390"/>
                    </a:lnTo>
                    <a:lnTo>
                      <a:pt x="295" y="344"/>
                    </a:lnTo>
                    <a:lnTo>
                      <a:pt x="315" y="297"/>
                    </a:lnTo>
                    <a:lnTo>
                      <a:pt x="336" y="251"/>
                    </a:lnTo>
                    <a:lnTo>
                      <a:pt x="359" y="208"/>
                    </a:lnTo>
                    <a:lnTo>
                      <a:pt x="382" y="165"/>
                    </a:lnTo>
                    <a:lnTo>
                      <a:pt x="408" y="125"/>
                    </a:lnTo>
                    <a:lnTo>
                      <a:pt x="435" y="87"/>
                    </a:lnTo>
                    <a:lnTo>
                      <a:pt x="449" y="68"/>
                    </a:lnTo>
                    <a:lnTo>
                      <a:pt x="464" y="50"/>
                    </a:lnTo>
                    <a:lnTo>
                      <a:pt x="478" y="32"/>
                    </a:lnTo>
                    <a:lnTo>
                      <a:pt x="493" y="15"/>
                    </a:lnTo>
                    <a:lnTo>
                      <a:pt x="478" y="0"/>
                    </a:lnTo>
                    <a:lnTo>
                      <a:pt x="462" y="19"/>
                    </a:lnTo>
                    <a:lnTo>
                      <a:pt x="448" y="36"/>
                    </a:lnTo>
                    <a:lnTo>
                      <a:pt x="433" y="55"/>
                    </a:lnTo>
                    <a:lnTo>
                      <a:pt x="418" y="74"/>
                    </a:lnTo>
                    <a:lnTo>
                      <a:pt x="391" y="114"/>
                    </a:lnTo>
                    <a:lnTo>
                      <a:pt x="365" y="155"/>
                    </a:lnTo>
                    <a:lnTo>
                      <a:pt x="341" y="199"/>
                    </a:lnTo>
                    <a:lnTo>
                      <a:pt x="317" y="243"/>
                    </a:lnTo>
                    <a:lnTo>
                      <a:pt x="295" y="288"/>
                    </a:lnTo>
                    <a:lnTo>
                      <a:pt x="275" y="335"/>
                    </a:lnTo>
                    <a:lnTo>
                      <a:pt x="256" y="383"/>
                    </a:lnTo>
                    <a:lnTo>
                      <a:pt x="239" y="432"/>
                    </a:lnTo>
                    <a:lnTo>
                      <a:pt x="221" y="483"/>
                    </a:lnTo>
                    <a:lnTo>
                      <a:pt x="205" y="533"/>
                    </a:lnTo>
                    <a:lnTo>
                      <a:pt x="191" y="584"/>
                    </a:lnTo>
                    <a:lnTo>
                      <a:pt x="177" y="635"/>
                    </a:lnTo>
                    <a:lnTo>
                      <a:pt x="164" y="687"/>
                    </a:lnTo>
                    <a:lnTo>
                      <a:pt x="151" y="740"/>
                    </a:lnTo>
                    <a:lnTo>
                      <a:pt x="128" y="843"/>
                    </a:lnTo>
                    <a:lnTo>
                      <a:pt x="107" y="946"/>
                    </a:lnTo>
                    <a:lnTo>
                      <a:pt x="88" y="1047"/>
                    </a:lnTo>
                    <a:lnTo>
                      <a:pt x="70" y="1146"/>
                    </a:lnTo>
                    <a:lnTo>
                      <a:pt x="53" y="1239"/>
                    </a:lnTo>
                    <a:lnTo>
                      <a:pt x="36" y="1329"/>
                    </a:lnTo>
                    <a:lnTo>
                      <a:pt x="27" y="1371"/>
                    </a:lnTo>
                    <a:lnTo>
                      <a:pt x="18" y="1411"/>
                    </a:lnTo>
                    <a:lnTo>
                      <a:pt x="10" y="1449"/>
                    </a:lnTo>
                    <a:lnTo>
                      <a:pt x="0" y="1486"/>
                    </a:lnTo>
                    <a:lnTo>
                      <a:pt x="11" y="1500"/>
                    </a:lnTo>
                    <a:lnTo>
                      <a:pt x="0" y="1486"/>
                    </a:lnTo>
                    <a:lnTo>
                      <a:pt x="0" y="1491"/>
                    </a:lnTo>
                    <a:lnTo>
                      <a:pt x="1" y="1495"/>
                    </a:lnTo>
                    <a:lnTo>
                      <a:pt x="4" y="1497"/>
                    </a:lnTo>
                    <a:lnTo>
                      <a:pt x="7" y="1499"/>
                    </a:lnTo>
                    <a:lnTo>
                      <a:pt x="11" y="1500"/>
                    </a:lnTo>
                    <a:lnTo>
                      <a:pt x="15" y="1499"/>
                    </a:lnTo>
                    <a:lnTo>
                      <a:pt x="18" y="1496"/>
                    </a:lnTo>
                    <a:lnTo>
                      <a:pt x="20" y="1491"/>
                    </a:lnTo>
                    <a:lnTo>
                      <a:pt x="9" y="14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705720" y="3760200"/>
                <a:ext cx="466920" cy="61920"/>
              </a:xfrm>
              <a:custGeom>
                <a:avLst/>
                <a:gdLst/>
                <a:ahLst/>
                <a:rect l="l" t="t" r="r" b="b"/>
                <a:pathLst>
                  <a:path w="1231" h="165">
                    <a:moveTo>
                      <a:pt x="1210" y="88"/>
                    </a:moveTo>
                    <a:lnTo>
                      <a:pt x="1215" y="81"/>
                    </a:lnTo>
                    <a:lnTo>
                      <a:pt x="1197" y="90"/>
                    </a:lnTo>
                    <a:lnTo>
                      <a:pt x="1179" y="97"/>
                    </a:lnTo>
                    <a:lnTo>
                      <a:pt x="1162" y="105"/>
                    </a:lnTo>
                    <a:lnTo>
                      <a:pt x="1143" y="111"/>
                    </a:lnTo>
                    <a:lnTo>
                      <a:pt x="1106" y="122"/>
                    </a:lnTo>
                    <a:lnTo>
                      <a:pt x="1070" y="131"/>
                    </a:lnTo>
                    <a:lnTo>
                      <a:pt x="1033" y="137"/>
                    </a:lnTo>
                    <a:lnTo>
                      <a:pt x="996" y="142"/>
                    </a:lnTo>
                    <a:lnTo>
                      <a:pt x="958" y="144"/>
                    </a:lnTo>
                    <a:lnTo>
                      <a:pt x="921" y="144"/>
                    </a:lnTo>
                    <a:lnTo>
                      <a:pt x="883" y="143"/>
                    </a:lnTo>
                    <a:lnTo>
                      <a:pt x="844" y="140"/>
                    </a:lnTo>
                    <a:lnTo>
                      <a:pt x="806" y="137"/>
                    </a:lnTo>
                    <a:lnTo>
                      <a:pt x="768" y="131"/>
                    </a:lnTo>
                    <a:lnTo>
                      <a:pt x="729" y="124"/>
                    </a:lnTo>
                    <a:lnTo>
                      <a:pt x="691" y="117"/>
                    </a:lnTo>
                    <a:lnTo>
                      <a:pt x="651" y="110"/>
                    </a:lnTo>
                    <a:lnTo>
                      <a:pt x="613" y="101"/>
                    </a:lnTo>
                    <a:lnTo>
                      <a:pt x="457" y="63"/>
                    </a:lnTo>
                    <a:lnTo>
                      <a:pt x="303" y="27"/>
                    </a:lnTo>
                    <a:lnTo>
                      <a:pt x="264" y="20"/>
                    </a:lnTo>
                    <a:lnTo>
                      <a:pt x="226" y="14"/>
                    </a:lnTo>
                    <a:lnTo>
                      <a:pt x="188" y="8"/>
                    </a:lnTo>
                    <a:lnTo>
                      <a:pt x="150" y="4"/>
                    </a:lnTo>
                    <a:lnTo>
                      <a:pt x="111" y="1"/>
                    </a:lnTo>
                    <a:lnTo>
                      <a:pt x="75" y="0"/>
                    </a:lnTo>
                    <a:lnTo>
                      <a:pt x="38" y="1"/>
                    </a:lnTo>
                    <a:lnTo>
                      <a:pt x="0" y="4"/>
                    </a:lnTo>
                    <a:lnTo>
                      <a:pt x="2" y="25"/>
                    </a:lnTo>
                    <a:lnTo>
                      <a:pt x="38" y="22"/>
                    </a:lnTo>
                    <a:lnTo>
                      <a:pt x="75" y="21"/>
                    </a:lnTo>
                    <a:lnTo>
                      <a:pt x="111" y="22"/>
                    </a:lnTo>
                    <a:lnTo>
                      <a:pt x="148" y="25"/>
                    </a:lnTo>
                    <a:lnTo>
                      <a:pt x="185" y="29"/>
                    </a:lnTo>
                    <a:lnTo>
                      <a:pt x="222" y="35"/>
                    </a:lnTo>
                    <a:lnTo>
                      <a:pt x="260" y="41"/>
                    </a:lnTo>
                    <a:lnTo>
                      <a:pt x="298" y="48"/>
                    </a:lnTo>
                    <a:lnTo>
                      <a:pt x="452" y="83"/>
                    </a:lnTo>
                    <a:lnTo>
                      <a:pt x="608" y="121"/>
                    </a:lnTo>
                    <a:lnTo>
                      <a:pt x="648" y="129"/>
                    </a:lnTo>
                    <a:lnTo>
                      <a:pt x="686" y="138"/>
                    </a:lnTo>
                    <a:lnTo>
                      <a:pt x="725" y="145"/>
                    </a:lnTo>
                    <a:lnTo>
                      <a:pt x="765" y="152"/>
                    </a:lnTo>
                    <a:lnTo>
                      <a:pt x="804" y="156"/>
                    </a:lnTo>
                    <a:lnTo>
                      <a:pt x="842" y="161"/>
                    </a:lnTo>
                    <a:lnTo>
                      <a:pt x="881" y="164"/>
                    </a:lnTo>
                    <a:lnTo>
                      <a:pt x="921" y="165"/>
                    </a:lnTo>
                    <a:lnTo>
                      <a:pt x="959" y="165"/>
                    </a:lnTo>
                    <a:lnTo>
                      <a:pt x="997" y="163"/>
                    </a:lnTo>
                    <a:lnTo>
                      <a:pt x="1036" y="158"/>
                    </a:lnTo>
                    <a:lnTo>
                      <a:pt x="1074" y="152"/>
                    </a:lnTo>
                    <a:lnTo>
                      <a:pt x="1113" y="143"/>
                    </a:lnTo>
                    <a:lnTo>
                      <a:pt x="1150" y="131"/>
                    </a:lnTo>
                    <a:lnTo>
                      <a:pt x="1169" y="124"/>
                    </a:lnTo>
                    <a:lnTo>
                      <a:pt x="1188" y="117"/>
                    </a:lnTo>
                    <a:lnTo>
                      <a:pt x="1206" y="108"/>
                    </a:lnTo>
                    <a:lnTo>
                      <a:pt x="1225" y="100"/>
                    </a:lnTo>
                    <a:lnTo>
                      <a:pt x="1229" y="94"/>
                    </a:lnTo>
                    <a:lnTo>
                      <a:pt x="1225" y="100"/>
                    </a:lnTo>
                    <a:lnTo>
                      <a:pt x="1228" y="97"/>
                    </a:lnTo>
                    <a:lnTo>
                      <a:pt x="1231" y="94"/>
                    </a:lnTo>
                    <a:lnTo>
                      <a:pt x="1231" y="90"/>
                    </a:lnTo>
                    <a:lnTo>
                      <a:pt x="1229" y="86"/>
                    </a:lnTo>
                    <a:lnTo>
                      <a:pt x="1227" y="83"/>
                    </a:lnTo>
                    <a:lnTo>
                      <a:pt x="1223" y="80"/>
                    </a:lnTo>
                    <a:lnTo>
                      <a:pt x="1220" y="80"/>
                    </a:lnTo>
                    <a:lnTo>
                      <a:pt x="1215" y="81"/>
                    </a:lnTo>
                    <a:lnTo>
                      <a:pt x="121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050240" y="3199680"/>
                <a:ext cx="139680" cy="596520"/>
              </a:xfrm>
              <a:custGeom>
                <a:avLst/>
                <a:gdLst/>
                <a:ahLst/>
                <a:rect l="l" t="t" r="r" b="b"/>
                <a:pathLst>
                  <a:path w="369" h="1572">
                    <a:moveTo>
                      <a:pt x="14" y="21"/>
                    </a:moveTo>
                    <a:lnTo>
                      <a:pt x="4" y="18"/>
                    </a:lnTo>
                    <a:lnTo>
                      <a:pt x="19" y="33"/>
                    </a:lnTo>
                    <a:lnTo>
                      <a:pt x="33" y="49"/>
                    </a:lnTo>
                    <a:lnTo>
                      <a:pt x="48" y="66"/>
                    </a:lnTo>
                    <a:lnTo>
                      <a:pt x="63" y="83"/>
                    </a:lnTo>
                    <a:lnTo>
                      <a:pt x="76" y="101"/>
                    </a:lnTo>
                    <a:lnTo>
                      <a:pt x="90" y="120"/>
                    </a:lnTo>
                    <a:lnTo>
                      <a:pt x="102" y="139"/>
                    </a:lnTo>
                    <a:lnTo>
                      <a:pt x="116" y="160"/>
                    </a:lnTo>
                    <a:lnTo>
                      <a:pt x="140" y="202"/>
                    </a:lnTo>
                    <a:lnTo>
                      <a:pt x="163" y="246"/>
                    </a:lnTo>
                    <a:lnTo>
                      <a:pt x="185" y="294"/>
                    </a:lnTo>
                    <a:lnTo>
                      <a:pt x="204" y="342"/>
                    </a:lnTo>
                    <a:lnTo>
                      <a:pt x="224" y="392"/>
                    </a:lnTo>
                    <a:lnTo>
                      <a:pt x="241" y="445"/>
                    </a:lnTo>
                    <a:lnTo>
                      <a:pt x="257" y="498"/>
                    </a:lnTo>
                    <a:lnTo>
                      <a:pt x="272" y="552"/>
                    </a:lnTo>
                    <a:lnTo>
                      <a:pt x="286" y="609"/>
                    </a:lnTo>
                    <a:lnTo>
                      <a:pt x="298" y="664"/>
                    </a:lnTo>
                    <a:lnTo>
                      <a:pt x="309" y="721"/>
                    </a:lnTo>
                    <a:lnTo>
                      <a:pt x="318" y="778"/>
                    </a:lnTo>
                    <a:lnTo>
                      <a:pt x="326" y="835"/>
                    </a:lnTo>
                    <a:lnTo>
                      <a:pt x="334" y="893"/>
                    </a:lnTo>
                    <a:lnTo>
                      <a:pt x="338" y="949"/>
                    </a:lnTo>
                    <a:lnTo>
                      <a:pt x="343" y="1006"/>
                    </a:lnTo>
                    <a:lnTo>
                      <a:pt x="346" y="1061"/>
                    </a:lnTo>
                    <a:lnTo>
                      <a:pt x="348" y="1115"/>
                    </a:lnTo>
                    <a:lnTo>
                      <a:pt x="348" y="1170"/>
                    </a:lnTo>
                    <a:lnTo>
                      <a:pt x="348" y="1221"/>
                    </a:lnTo>
                    <a:lnTo>
                      <a:pt x="347" y="1272"/>
                    </a:lnTo>
                    <a:lnTo>
                      <a:pt x="343" y="1321"/>
                    </a:lnTo>
                    <a:lnTo>
                      <a:pt x="340" y="1368"/>
                    </a:lnTo>
                    <a:lnTo>
                      <a:pt x="335" y="1413"/>
                    </a:lnTo>
                    <a:lnTo>
                      <a:pt x="329" y="1455"/>
                    </a:lnTo>
                    <a:lnTo>
                      <a:pt x="321" y="1494"/>
                    </a:lnTo>
                    <a:lnTo>
                      <a:pt x="313" y="1531"/>
                    </a:lnTo>
                    <a:lnTo>
                      <a:pt x="303" y="1566"/>
                    </a:lnTo>
                    <a:lnTo>
                      <a:pt x="322" y="1572"/>
                    </a:lnTo>
                    <a:lnTo>
                      <a:pt x="332" y="1537"/>
                    </a:lnTo>
                    <a:lnTo>
                      <a:pt x="341" y="1499"/>
                    </a:lnTo>
                    <a:lnTo>
                      <a:pt x="348" y="1459"/>
                    </a:lnTo>
                    <a:lnTo>
                      <a:pt x="356" y="1416"/>
                    </a:lnTo>
                    <a:lnTo>
                      <a:pt x="361" y="1370"/>
                    </a:lnTo>
                    <a:lnTo>
                      <a:pt x="364" y="1322"/>
                    </a:lnTo>
                    <a:lnTo>
                      <a:pt x="368" y="1273"/>
                    </a:lnTo>
                    <a:lnTo>
                      <a:pt x="369" y="1222"/>
                    </a:lnTo>
                    <a:lnTo>
                      <a:pt x="369" y="1170"/>
                    </a:lnTo>
                    <a:lnTo>
                      <a:pt x="369" y="1115"/>
                    </a:lnTo>
                    <a:lnTo>
                      <a:pt x="367" y="1060"/>
                    </a:lnTo>
                    <a:lnTo>
                      <a:pt x="364" y="1005"/>
                    </a:lnTo>
                    <a:lnTo>
                      <a:pt x="359" y="948"/>
                    </a:lnTo>
                    <a:lnTo>
                      <a:pt x="353" y="890"/>
                    </a:lnTo>
                    <a:lnTo>
                      <a:pt x="347" y="833"/>
                    </a:lnTo>
                    <a:lnTo>
                      <a:pt x="338" y="775"/>
                    </a:lnTo>
                    <a:lnTo>
                      <a:pt x="329" y="718"/>
                    </a:lnTo>
                    <a:lnTo>
                      <a:pt x="318" y="660"/>
                    </a:lnTo>
                    <a:lnTo>
                      <a:pt x="306" y="604"/>
                    </a:lnTo>
                    <a:lnTo>
                      <a:pt x="293" y="547"/>
                    </a:lnTo>
                    <a:lnTo>
                      <a:pt x="277" y="492"/>
                    </a:lnTo>
                    <a:lnTo>
                      <a:pt x="261" y="439"/>
                    </a:lnTo>
                    <a:lnTo>
                      <a:pt x="244" y="386"/>
                    </a:lnTo>
                    <a:lnTo>
                      <a:pt x="224" y="334"/>
                    </a:lnTo>
                    <a:lnTo>
                      <a:pt x="204" y="285"/>
                    </a:lnTo>
                    <a:lnTo>
                      <a:pt x="182" y="237"/>
                    </a:lnTo>
                    <a:lnTo>
                      <a:pt x="159" y="192"/>
                    </a:lnTo>
                    <a:lnTo>
                      <a:pt x="133" y="149"/>
                    </a:lnTo>
                    <a:lnTo>
                      <a:pt x="121" y="128"/>
                    </a:lnTo>
                    <a:lnTo>
                      <a:pt x="107" y="108"/>
                    </a:lnTo>
                    <a:lnTo>
                      <a:pt x="94" y="88"/>
                    </a:lnTo>
                    <a:lnTo>
                      <a:pt x="79" y="70"/>
                    </a:lnTo>
                    <a:lnTo>
                      <a:pt x="64" y="53"/>
                    </a:lnTo>
                    <a:lnTo>
                      <a:pt x="49" y="35"/>
                    </a:lnTo>
                    <a:lnTo>
                      <a:pt x="33" y="1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19" y="3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883920" y="3199680"/>
                <a:ext cx="171720" cy="19080"/>
              </a:xfrm>
              <a:custGeom>
                <a:avLst/>
                <a:gdLst/>
                <a:ahLst/>
                <a:rect l="l" t="t" r="r" b="b"/>
                <a:pathLst>
                  <a:path w="454" h="47">
                    <a:moveTo>
                      <a:pt x="17" y="17"/>
                    </a:moveTo>
                    <a:lnTo>
                      <a:pt x="7" y="20"/>
                    </a:lnTo>
                    <a:lnTo>
                      <a:pt x="34" y="26"/>
                    </a:lnTo>
                    <a:lnTo>
                      <a:pt x="61" y="31"/>
                    </a:lnTo>
                    <a:lnTo>
                      <a:pt x="88" y="36"/>
                    </a:lnTo>
                    <a:lnTo>
                      <a:pt x="116" y="39"/>
                    </a:lnTo>
                    <a:lnTo>
                      <a:pt x="144" y="42"/>
                    </a:lnTo>
                    <a:lnTo>
                      <a:pt x="171" y="44"/>
                    </a:lnTo>
                    <a:lnTo>
                      <a:pt x="198" y="46"/>
                    </a:lnTo>
                    <a:lnTo>
                      <a:pt x="226" y="47"/>
                    </a:lnTo>
                    <a:lnTo>
                      <a:pt x="255" y="47"/>
                    </a:lnTo>
                    <a:lnTo>
                      <a:pt x="282" y="46"/>
                    </a:lnTo>
                    <a:lnTo>
                      <a:pt x="310" y="43"/>
                    </a:lnTo>
                    <a:lnTo>
                      <a:pt x="338" y="41"/>
                    </a:lnTo>
                    <a:lnTo>
                      <a:pt x="368" y="37"/>
                    </a:lnTo>
                    <a:lnTo>
                      <a:pt x="396" y="32"/>
                    </a:lnTo>
                    <a:lnTo>
                      <a:pt x="424" y="27"/>
                    </a:lnTo>
                    <a:lnTo>
                      <a:pt x="454" y="20"/>
                    </a:lnTo>
                    <a:lnTo>
                      <a:pt x="449" y="0"/>
                    </a:lnTo>
                    <a:lnTo>
                      <a:pt x="421" y="6"/>
                    </a:lnTo>
                    <a:lnTo>
                      <a:pt x="392" y="11"/>
                    </a:lnTo>
                    <a:lnTo>
                      <a:pt x="364" y="16"/>
                    </a:lnTo>
                    <a:lnTo>
                      <a:pt x="336" y="20"/>
                    </a:lnTo>
                    <a:lnTo>
                      <a:pt x="309" y="22"/>
                    </a:lnTo>
                    <a:lnTo>
                      <a:pt x="282" y="25"/>
                    </a:lnTo>
                    <a:lnTo>
                      <a:pt x="253" y="26"/>
                    </a:lnTo>
                    <a:lnTo>
                      <a:pt x="226" y="26"/>
                    </a:lnTo>
                    <a:lnTo>
                      <a:pt x="199" y="25"/>
                    </a:lnTo>
                    <a:lnTo>
                      <a:pt x="172" y="23"/>
                    </a:lnTo>
                    <a:lnTo>
                      <a:pt x="145" y="21"/>
                    </a:lnTo>
                    <a:lnTo>
                      <a:pt x="118" y="18"/>
                    </a:lnTo>
                    <a:lnTo>
                      <a:pt x="92" y="15"/>
                    </a:lnTo>
                    <a:lnTo>
                      <a:pt x="65" y="10"/>
                    </a:lnTo>
                    <a:lnTo>
                      <a:pt x="39" y="5"/>
                    </a:lnTo>
                    <a:lnTo>
                      <a:pt x="12" y="0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4" y="18"/>
                    </a:lnTo>
                    <a:lnTo>
                      <a:pt x="7" y="2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027560" y="33552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4"/>
                    </a:move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999480" y="3356640"/>
                <a:ext cx="33840" cy="357840"/>
              </a:xfrm>
              <a:custGeom>
                <a:avLst/>
                <a:gdLst/>
                <a:ahLst/>
                <a:rect l="l" t="t" r="r" b="b"/>
                <a:pathLst>
                  <a:path w="94" h="943">
                    <a:moveTo>
                      <a:pt x="50" y="943"/>
                    </a:moveTo>
                    <a:lnTo>
                      <a:pt x="60" y="931"/>
                    </a:lnTo>
                    <a:lnTo>
                      <a:pt x="45" y="810"/>
                    </a:lnTo>
                    <a:lnTo>
                      <a:pt x="32" y="692"/>
                    </a:lnTo>
                    <a:lnTo>
                      <a:pt x="27" y="634"/>
                    </a:lnTo>
                    <a:lnTo>
                      <a:pt x="23" y="578"/>
                    </a:lnTo>
                    <a:lnTo>
                      <a:pt x="21" y="520"/>
                    </a:lnTo>
                    <a:lnTo>
                      <a:pt x="21" y="463"/>
                    </a:lnTo>
                    <a:lnTo>
                      <a:pt x="21" y="407"/>
                    </a:lnTo>
                    <a:lnTo>
                      <a:pt x="24" y="350"/>
                    </a:lnTo>
                    <a:lnTo>
                      <a:pt x="29" y="294"/>
                    </a:lnTo>
                    <a:lnTo>
                      <a:pt x="37" y="237"/>
                    </a:lnTo>
                    <a:lnTo>
                      <a:pt x="42" y="209"/>
                    </a:lnTo>
                    <a:lnTo>
                      <a:pt x="46" y="180"/>
                    </a:lnTo>
                    <a:lnTo>
                      <a:pt x="53" y="152"/>
                    </a:lnTo>
                    <a:lnTo>
                      <a:pt x="59" y="123"/>
                    </a:lnTo>
                    <a:lnTo>
                      <a:pt x="67" y="94"/>
                    </a:lnTo>
                    <a:lnTo>
                      <a:pt x="75" y="65"/>
                    </a:lnTo>
                    <a:lnTo>
                      <a:pt x="85" y="36"/>
                    </a:lnTo>
                    <a:lnTo>
                      <a:pt x="94" y="7"/>
                    </a:lnTo>
                    <a:lnTo>
                      <a:pt x="75" y="0"/>
                    </a:lnTo>
                    <a:lnTo>
                      <a:pt x="65" y="30"/>
                    </a:lnTo>
                    <a:lnTo>
                      <a:pt x="55" y="60"/>
                    </a:lnTo>
                    <a:lnTo>
                      <a:pt x="46" y="89"/>
                    </a:lnTo>
                    <a:lnTo>
                      <a:pt x="39" y="118"/>
                    </a:lnTo>
                    <a:lnTo>
                      <a:pt x="32" y="147"/>
                    </a:lnTo>
                    <a:lnTo>
                      <a:pt x="26" y="177"/>
                    </a:lnTo>
                    <a:lnTo>
                      <a:pt x="21" y="205"/>
                    </a:lnTo>
                    <a:lnTo>
                      <a:pt x="16" y="234"/>
                    </a:lnTo>
                    <a:lnTo>
                      <a:pt x="8" y="292"/>
                    </a:lnTo>
                    <a:lnTo>
                      <a:pt x="3" y="349"/>
                    </a:lnTo>
                    <a:lnTo>
                      <a:pt x="0" y="407"/>
                    </a:lnTo>
                    <a:lnTo>
                      <a:pt x="0" y="463"/>
                    </a:lnTo>
                    <a:lnTo>
                      <a:pt x="0" y="521"/>
                    </a:lnTo>
                    <a:lnTo>
                      <a:pt x="2" y="578"/>
                    </a:lnTo>
                    <a:lnTo>
                      <a:pt x="6" y="635"/>
                    </a:lnTo>
                    <a:lnTo>
                      <a:pt x="11" y="694"/>
                    </a:lnTo>
                    <a:lnTo>
                      <a:pt x="24" y="813"/>
                    </a:lnTo>
                    <a:lnTo>
                      <a:pt x="39" y="933"/>
                    </a:lnTo>
                    <a:lnTo>
                      <a:pt x="50" y="922"/>
                    </a:lnTo>
                    <a:lnTo>
                      <a:pt x="39" y="933"/>
                    </a:lnTo>
                    <a:lnTo>
                      <a:pt x="40" y="938"/>
                    </a:lnTo>
                    <a:lnTo>
                      <a:pt x="44" y="940"/>
                    </a:lnTo>
                    <a:lnTo>
                      <a:pt x="46" y="942"/>
                    </a:lnTo>
                    <a:lnTo>
                      <a:pt x="51" y="943"/>
                    </a:lnTo>
                    <a:lnTo>
                      <a:pt x="55" y="942"/>
                    </a:lnTo>
                    <a:lnTo>
                      <a:pt x="58" y="939"/>
                    </a:lnTo>
                    <a:lnTo>
                      <a:pt x="60" y="936"/>
                    </a:lnTo>
                    <a:lnTo>
                      <a:pt x="60" y="931"/>
                    </a:lnTo>
                    <a:lnTo>
                      <a:pt x="50" y="9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779520" y="3707280"/>
                <a:ext cx="238320" cy="52920"/>
              </a:xfrm>
              <a:custGeom>
                <a:avLst/>
                <a:gdLst/>
                <a:ahLst/>
                <a:rect l="l" t="t" r="r" b="b"/>
                <a:pathLst>
                  <a:path w="630" h="141">
                    <a:moveTo>
                      <a:pt x="0" y="141"/>
                    </a:moveTo>
                    <a:lnTo>
                      <a:pt x="32" y="140"/>
                    </a:lnTo>
                    <a:lnTo>
                      <a:pt x="68" y="137"/>
                    </a:lnTo>
                    <a:lnTo>
                      <a:pt x="106" y="130"/>
                    </a:lnTo>
                    <a:lnTo>
                      <a:pt x="147" y="122"/>
                    </a:lnTo>
                    <a:lnTo>
                      <a:pt x="232" y="103"/>
                    </a:lnTo>
                    <a:lnTo>
                      <a:pt x="320" y="80"/>
                    </a:lnTo>
                    <a:lnTo>
                      <a:pt x="408" y="58"/>
                    </a:lnTo>
                    <a:lnTo>
                      <a:pt x="491" y="39"/>
                    </a:lnTo>
                    <a:lnTo>
                      <a:pt x="531" y="32"/>
                    </a:lnTo>
                    <a:lnTo>
                      <a:pt x="566" y="26"/>
                    </a:lnTo>
                    <a:lnTo>
                      <a:pt x="599" y="22"/>
                    </a:lnTo>
                    <a:lnTo>
                      <a:pt x="630" y="21"/>
                    </a:lnTo>
                    <a:lnTo>
                      <a:pt x="630" y="0"/>
                    </a:lnTo>
                    <a:lnTo>
                      <a:pt x="598" y="1"/>
                    </a:lnTo>
                    <a:lnTo>
                      <a:pt x="564" y="5"/>
                    </a:lnTo>
                    <a:lnTo>
                      <a:pt x="527" y="11"/>
                    </a:lnTo>
                    <a:lnTo>
                      <a:pt x="487" y="18"/>
                    </a:lnTo>
                    <a:lnTo>
                      <a:pt x="403" y="38"/>
                    </a:lnTo>
                    <a:lnTo>
                      <a:pt x="315" y="60"/>
                    </a:lnTo>
                    <a:lnTo>
                      <a:pt x="227" y="82"/>
                    </a:lnTo>
                    <a:lnTo>
                      <a:pt x="143" y="102"/>
                    </a:lnTo>
                    <a:lnTo>
                      <a:pt x="102" y="110"/>
                    </a:lnTo>
                    <a:lnTo>
                      <a:pt x="66" y="116"/>
                    </a:lnTo>
                    <a:lnTo>
                      <a:pt x="31" y="119"/>
                    </a:lnTo>
                    <a:lnTo>
                      <a:pt x="0" y="12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775920" y="375264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0"/>
                    </a:moveTo>
                    <a:lnTo>
                      <a:pt x="4" y="1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9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543360" y="32734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17"/>
                    </a:move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0" y="5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505560" y="3275640"/>
                <a:ext cx="79200" cy="389520"/>
              </a:xfrm>
              <a:custGeom>
                <a:avLst/>
                <a:gdLst/>
                <a:ahLst/>
                <a:rect l="l" t="t" r="r" b="b"/>
                <a:pathLst>
                  <a:path w="207" h="1033">
                    <a:moveTo>
                      <a:pt x="207" y="1026"/>
                    </a:moveTo>
                    <a:lnTo>
                      <a:pt x="166" y="928"/>
                    </a:lnTo>
                    <a:lnTo>
                      <a:pt x="122" y="814"/>
                    </a:lnTo>
                    <a:lnTo>
                      <a:pt x="100" y="751"/>
                    </a:lnTo>
                    <a:lnTo>
                      <a:pt x="79" y="685"/>
                    </a:lnTo>
                    <a:lnTo>
                      <a:pt x="69" y="652"/>
                    </a:lnTo>
                    <a:lnTo>
                      <a:pt x="59" y="617"/>
                    </a:lnTo>
                    <a:lnTo>
                      <a:pt x="51" y="583"/>
                    </a:lnTo>
                    <a:lnTo>
                      <a:pt x="43" y="548"/>
                    </a:lnTo>
                    <a:lnTo>
                      <a:pt x="37" y="514"/>
                    </a:lnTo>
                    <a:lnTo>
                      <a:pt x="31" y="478"/>
                    </a:lnTo>
                    <a:lnTo>
                      <a:pt x="28" y="443"/>
                    </a:lnTo>
                    <a:lnTo>
                      <a:pt x="24" y="408"/>
                    </a:lnTo>
                    <a:lnTo>
                      <a:pt x="21" y="373"/>
                    </a:lnTo>
                    <a:lnTo>
                      <a:pt x="21" y="338"/>
                    </a:lnTo>
                    <a:lnTo>
                      <a:pt x="23" y="302"/>
                    </a:lnTo>
                    <a:lnTo>
                      <a:pt x="25" y="268"/>
                    </a:lnTo>
                    <a:lnTo>
                      <a:pt x="30" y="235"/>
                    </a:lnTo>
                    <a:lnTo>
                      <a:pt x="36" y="200"/>
                    </a:lnTo>
                    <a:lnTo>
                      <a:pt x="45" y="167"/>
                    </a:lnTo>
                    <a:lnTo>
                      <a:pt x="55" y="135"/>
                    </a:lnTo>
                    <a:lnTo>
                      <a:pt x="67" y="103"/>
                    </a:lnTo>
                    <a:lnTo>
                      <a:pt x="82" y="71"/>
                    </a:lnTo>
                    <a:lnTo>
                      <a:pt x="90" y="56"/>
                    </a:lnTo>
                    <a:lnTo>
                      <a:pt x="99" y="42"/>
                    </a:lnTo>
                    <a:lnTo>
                      <a:pt x="107" y="27"/>
                    </a:lnTo>
                    <a:lnTo>
                      <a:pt x="119" y="12"/>
                    </a:lnTo>
                    <a:lnTo>
                      <a:pt x="101" y="0"/>
                    </a:lnTo>
                    <a:lnTo>
                      <a:pt x="90" y="15"/>
                    </a:lnTo>
                    <a:lnTo>
                      <a:pt x="80" y="31"/>
                    </a:lnTo>
                    <a:lnTo>
                      <a:pt x="72" y="47"/>
                    </a:lnTo>
                    <a:lnTo>
                      <a:pt x="63" y="63"/>
                    </a:lnTo>
                    <a:lnTo>
                      <a:pt x="48" y="95"/>
                    </a:lnTo>
                    <a:lnTo>
                      <a:pt x="35" y="128"/>
                    </a:lnTo>
                    <a:lnTo>
                      <a:pt x="24" y="162"/>
                    </a:lnTo>
                    <a:lnTo>
                      <a:pt x="15" y="197"/>
                    </a:lnTo>
                    <a:lnTo>
                      <a:pt x="9" y="231"/>
                    </a:lnTo>
                    <a:lnTo>
                      <a:pt x="4" y="267"/>
                    </a:lnTo>
                    <a:lnTo>
                      <a:pt x="2" y="302"/>
                    </a:lnTo>
                    <a:lnTo>
                      <a:pt x="0" y="338"/>
                    </a:lnTo>
                    <a:lnTo>
                      <a:pt x="2" y="374"/>
                    </a:lnTo>
                    <a:lnTo>
                      <a:pt x="3" y="409"/>
                    </a:lnTo>
                    <a:lnTo>
                      <a:pt x="7" y="445"/>
                    </a:lnTo>
                    <a:lnTo>
                      <a:pt x="10" y="481"/>
                    </a:lnTo>
                    <a:lnTo>
                      <a:pt x="16" y="518"/>
                    </a:lnTo>
                    <a:lnTo>
                      <a:pt x="24" y="552"/>
                    </a:lnTo>
                    <a:lnTo>
                      <a:pt x="31" y="588"/>
                    </a:lnTo>
                    <a:lnTo>
                      <a:pt x="40" y="622"/>
                    </a:lnTo>
                    <a:lnTo>
                      <a:pt x="48" y="658"/>
                    </a:lnTo>
                    <a:lnTo>
                      <a:pt x="58" y="691"/>
                    </a:lnTo>
                    <a:lnTo>
                      <a:pt x="80" y="758"/>
                    </a:lnTo>
                    <a:lnTo>
                      <a:pt x="103" y="820"/>
                    </a:lnTo>
                    <a:lnTo>
                      <a:pt x="148" y="936"/>
                    </a:lnTo>
                    <a:lnTo>
                      <a:pt x="189" y="1033"/>
                    </a:lnTo>
                    <a:lnTo>
                      <a:pt x="207" y="10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577200" y="366372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7"/>
                    </a:moveTo>
                    <a:lnTo>
                      <a:pt x="2" y="11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8" y="8"/>
                    </a:lnTo>
                    <a:lnTo>
                      <a:pt x="19" y="5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4632120" y="3470400"/>
                <a:ext cx="196920" cy="545040"/>
              </a:xfrm>
              <a:custGeom>
                <a:avLst/>
                <a:gdLst/>
                <a:ahLst/>
                <a:rect l="l" t="t" r="r" b="b"/>
                <a:pathLst>
                  <a:path w="518" h="1442">
                    <a:moveTo>
                      <a:pt x="0" y="58"/>
                    </a:moveTo>
                    <a:lnTo>
                      <a:pt x="211" y="1442"/>
                    </a:lnTo>
                    <a:lnTo>
                      <a:pt x="518" y="0"/>
                    </a:lnTo>
                    <a:lnTo>
                      <a:pt x="0" y="58"/>
                    </a:lnTo>
                    <a:close/>
                    <a:moveTo>
                      <a:pt x="116" y="95"/>
                    </a:moveTo>
                    <a:lnTo>
                      <a:pt x="251" y="731"/>
                    </a:lnTo>
                    <a:lnTo>
                      <a:pt x="404" y="95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624560" y="3491640"/>
                <a:ext cx="96480" cy="533520"/>
              </a:xfrm>
              <a:custGeom>
                <a:avLst/>
                <a:gdLst/>
                <a:ahLst/>
                <a:rect l="l" t="t" r="r" b="b"/>
                <a:pathLst>
                  <a:path w="259" h="1412">
                    <a:moveTo>
                      <a:pt x="259" y="1392"/>
                    </a:moveTo>
                    <a:lnTo>
                      <a:pt x="259" y="1383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11" y="1391"/>
                    </a:lnTo>
                    <a:lnTo>
                      <a:pt x="259" y="1392"/>
                    </a:lnTo>
                    <a:lnTo>
                      <a:pt x="211" y="1391"/>
                    </a:lnTo>
                    <a:lnTo>
                      <a:pt x="212" y="1397"/>
                    </a:lnTo>
                    <a:lnTo>
                      <a:pt x="215" y="1401"/>
                    </a:lnTo>
                    <a:lnTo>
                      <a:pt x="217" y="1404"/>
                    </a:lnTo>
                    <a:lnTo>
                      <a:pt x="221" y="1408"/>
                    </a:lnTo>
                    <a:lnTo>
                      <a:pt x="225" y="1409"/>
                    </a:lnTo>
                    <a:lnTo>
                      <a:pt x="230" y="1412"/>
                    </a:lnTo>
                    <a:lnTo>
                      <a:pt x="235" y="1412"/>
                    </a:lnTo>
                    <a:lnTo>
                      <a:pt x="238" y="1412"/>
                    </a:lnTo>
                    <a:lnTo>
                      <a:pt x="243" y="1410"/>
                    </a:lnTo>
                    <a:lnTo>
                      <a:pt x="247" y="1408"/>
                    </a:lnTo>
                    <a:lnTo>
                      <a:pt x="251" y="1405"/>
                    </a:lnTo>
                    <a:lnTo>
                      <a:pt x="254" y="1403"/>
                    </a:lnTo>
                    <a:lnTo>
                      <a:pt x="257" y="1399"/>
                    </a:lnTo>
                    <a:lnTo>
                      <a:pt x="259" y="1394"/>
                    </a:lnTo>
                    <a:lnTo>
                      <a:pt x="259" y="1389"/>
                    </a:lnTo>
                    <a:lnTo>
                      <a:pt x="259" y="1383"/>
                    </a:lnTo>
                    <a:lnTo>
                      <a:pt x="259" y="1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4704120" y="3461040"/>
                <a:ext cx="134280" cy="556200"/>
              </a:xfrm>
              <a:custGeom>
                <a:avLst/>
                <a:gdLst/>
                <a:ahLst/>
                <a:rect l="l" t="t" r="r" b="b"/>
                <a:pathLst>
                  <a:path w="356" h="1471">
                    <a:moveTo>
                      <a:pt x="327" y="0"/>
                    </a:moveTo>
                    <a:lnTo>
                      <a:pt x="306" y="20"/>
                    </a:lnTo>
                    <a:lnTo>
                      <a:pt x="0" y="1461"/>
                    </a:lnTo>
                    <a:lnTo>
                      <a:pt x="48" y="1471"/>
                    </a:lnTo>
                    <a:lnTo>
                      <a:pt x="354" y="29"/>
                    </a:lnTo>
                    <a:lnTo>
                      <a:pt x="327" y="0"/>
                    </a:lnTo>
                    <a:lnTo>
                      <a:pt x="354" y="29"/>
                    </a:lnTo>
                    <a:lnTo>
                      <a:pt x="356" y="23"/>
                    </a:lnTo>
                    <a:lnTo>
                      <a:pt x="354" y="18"/>
                    </a:lnTo>
                    <a:lnTo>
                      <a:pt x="353" y="13"/>
                    </a:lnTo>
                    <a:lnTo>
                      <a:pt x="351" y="10"/>
                    </a:lnTo>
                    <a:lnTo>
                      <a:pt x="348" y="6"/>
                    </a:lnTo>
                    <a:lnTo>
                      <a:pt x="345" y="4"/>
                    </a:lnTo>
                    <a:lnTo>
                      <a:pt x="340" y="2"/>
                    </a:lnTo>
                    <a:lnTo>
                      <a:pt x="336" y="1"/>
                    </a:lnTo>
                    <a:lnTo>
                      <a:pt x="331" y="0"/>
                    </a:lnTo>
                    <a:lnTo>
                      <a:pt x="326" y="0"/>
                    </a:lnTo>
                    <a:lnTo>
                      <a:pt x="322" y="1"/>
                    </a:lnTo>
                    <a:lnTo>
                      <a:pt x="318" y="4"/>
                    </a:lnTo>
                    <a:lnTo>
                      <a:pt x="314" y="6"/>
                    </a:lnTo>
                    <a:lnTo>
                      <a:pt x="311" y="10"/>
                    </a:lnTo>
                    <a:lnTo>
                      <a:pt x="309" y="13"/>
                    </a:lnTo>
                    <a:lnTo>
                      <a:pt x="306" y="20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4624560" y="3461040"/>
                <a:ext cx="206280" cy="41400"/>
              </a:xfrm>
              <a:custGeom>
                <a:avLst/>
                <a:gdLst/>
                <a:ahLst/>
                <a:rect l="l" t="t" r="r" b="b"/>
                <a:pathLst>
                  <a:path w="545" h="107">
                    <a:moveTo>
                      <a:pt x="0" y="86"/>
                    </a:moveTo>
                    <a:lnTo>
                      <a:pt x="27" y="107"/>
                    </a:lnTo>
                    <a:lnTo>
                      <a:pt x="545" y="49"/>
                    </a:lnTo>
                    <a:lnTo>
                      <a:pt x="538" y="0"/>
                    </a:lnTo>
                    <a:lnTo>
                      <a:pt x="22" y="58"/>
                    </a:lnTo>
                    <a:lnTo>
                      <a:pt x="0" y="86"/>
                    </a:lnTo>
                    <a:lnTo>
                      <a:pt x="22" y="58"/>
                    </a:lnTo>
                    <a:lnTo>
                      <a:pt x="16" y="59"/>
                    </a:lnTo>
                    <a:lnTo>
                      <a:pt x="11" y="61"/>
                    </a:lnTo>
                    <a:lnTo>
                      <a:pt x="7" y="64"/>
                    </a:lnTo>
                    <a:lnTo>
                      <a:pt x="3" y="67"/>
                    </a:lnTo>
                    <a:lnTo>
                      <a:pt x="2" y="71"/>
                    </a:lnTo>
                    <a:lnTo>
                      <a:pt x="0" y="76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1" y="90"/>
                    </a:lnTo>
                    <a:lnTo>
                      <a:pt x="2" y="93"/>
                    </a:lnTo>
                    <a:lnTo>
                      <a:pt x="5" y="98"/>
                    </a:lnTo>
                    <a:lnTo>
                      <a:pt x="7" y="101"/>
                    </a:lnTo>
                    <a:lnTo>
                      <a:pt x="11" y="103"/>
                    </a:lnTo>
                    <a:lnTo>
                      <a:pt x="16" y="106"/>
                    </a:lnTo>
                    <a:lnTo>
                      <a:pt x="21" y="107"/>
                    </a:lnTo>
                    <a:lnTo>
                      <a:pt x="27" y="107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4668120" y="350460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182" y="647"/>
                    </a:moveTo>
                    <a:lnTo>
                      <a:pt x="182" y="636"/>
                    </a:lnTo>
                    <a:lnTo>
                      <a:pt x="46" y="0"/>
                    </a:lnTo>
                    <a:lnTo>
                      <a:pt x="0" y="10"/>
                    </a:lnTo>
                    <a:lnTo>
                      <a:pt x="134" y="647"/>
                    </a:lnTo>
                    <a:lnTo>
                      <a:pt x="182" y="647"/>
                    </a:lnTo>
                    <a:lnTo>
                      <a:pt x="134" y="647"/>
                    </a:lnTo>
                    <a:lnTo>
                      <a:pt x="136" y="652"/>
                    </a:lnTo>
                    <a:lnTo>
                      <a:pt x="138" y="657"/>
                    </a:lnTo>
                    <a:lnTo>
                      <a:pt x="141" y="661"/>
                    </a:lnTo>
                    <a:lnTo>
                      <a:pt x="145" y="663"/>
                    </a:lnTo>
                    <a:lnTo>
                      <a:pt x="150" y="664"/>
                    </a:lnTo>
                    <a:lnTo>
                      <a:pt x="153" y="666"/>
                    </a:lnTo>
                    <a:lnTo>
                      <a:pt x="158" y="666"/>
                    </a:lnTo>
                    <a:lnTo>
                      <a:pt x="163" y="666"/>
                    </a:lnTo>
                    <a:lnTo>
                      <a:pt x="167" y="664"/>
                    </a:lnTo>
                    <a:lnTo>
                      <a:pt x="170" y="662"/>
                    </a:lnTo>
                    <a:lnTo>
                      <a:pt x="174" y="659"/>
                    </a:lnTo>
                    <a:lnTo>
                      <a:pt x="178" y="656"/>
                    </a:lnTo>
                    <a:lnTo>
                      <a:pt x="180" y="652"/>
                    </a:lnTo>
                    <a:lnTo>
                      <a:pt x="182" y="647"/>
                    </a:lnTo>
                    <a:lnTo>
                      <a:pt x="182" y="642"/>
                    </a:lnTo>
                    <a:lnTo>
                      <a:pt x="182" y="636"/>
                    </a:lnTo>
                    <a:lnTo>
                      <a:pt x="182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719240" y="3497040"/>
                <a:ext cx="75240" cy="251280"/>
              </a:xfrm>
              <a:custGeom>
                <a:avLst/>
                <a:gdLst/>
                <a:ahLst/>
                <a:rect l="l" t="t" r="r" b="b"/>
                <a:pathLst>
                  <a:path w="201" h="666">
                    <a:moveTo>
                      <a:pt x="177" y="0"/>
                    </a:moveTo>
                    <a:lnTo>
                      <a:pt x="153" y="19"/>
                    </a:lnTo>
                    <a:lnTo>
                      <a:pt x="0" y="655"/>
                    </a:lnTo>
                    <a:lnTo>
                      <a:pt x="48" y="666"/>
                    </a:lnTo>
                    <a:lnTo>
                      <a:pt x="200" y="30"/>
                    </a:lnTo>
                    <a:lnTo>
                      <a:pt x="177" y="0"/>
                    </a:lnTo>
                    <a:lnTo>
                      <a:pt x="200" y="30"/>
                    </a:lnTo>
                    <a:lnTo>
                      <a:pt x="201" y="24"/>
                    </a:lnTo>
                    <a:lnTo>
                      <a:pt x="201" y="19"/>
                    </a:lnTo>
                    <a:lnTo>
                      <a:pt x="200" y="14"/>
                    </a:lnTo>
                    <a:lnTo>
                      <a:pt x="198" y="11"/>
                    </a:lnTo>
                    <a:lnTo>
                      <a:pt x="194" y="7"/>
                    </a:lnTo>
                    <a:lnTo>
                      <a:pt x="190" y="4"/>
                    </a:lnTo>
                    <a:lnTo>
                      <a:pt x="187" y="2"/>
                    </a:lnTo>
                    <a:lnTo>
                      <a:pt x="183" y="1"/>
                    </a:lnTo>
                    <a:lnTo>
                      <a:pt x="178" y="1"/>
                    </a:lnTo>
                    <a:lnTo>
                      <a:pt x="173" y="1"/>
                    </a:lnTo>
                    <a:lnTo>
                      <a:pt x="169" y="1"/>
                    </a:lnTo>
                    <a:lnTo>
                      <a:pt x="164" y="3"/>
                    </a:lnTo>
                    <a:lnTo>
                      <a:pt x="161" y="6"/>
                    </a:lnTo>
                    <a:lnTo>
                      <a:pt x="158" y="9"/>
                    </a:lnTo>
                    <a:lnTo>
                      <a:pt x="155" y="13"/>
                    </a:lnTo>
                    <a:lnTo>
                      <a:pt x="153" y="19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668120" y="3497040"/>
                <a:ext cx="117000" cy="18720"/>
              </a:xfrm>
              <a:custGeom>
                <a:avLst/>
                <a:gdLst/>
                <a:ahLst/>
                <a:rect l="l" t="t" r="r" b="b"/>
                <a:pathLst>
                  <a:path w="313" h="49">
                    <a:moveTo>
                      <a:pt x="2" y="29"/>
                    </a:moveTo>
                    <a:lnTo>
                      <a:pt x="25" y="49"/>
                    </a:lnTo>
                    <a:lnTo>
                      <a:pt x="313" y="49"/>
                    </a:lnTo>
                    <a:lnTo>
                      <a:pt x="313" y="0"/>
                    </a:lnTo>
                    <a:lnTo>
                      <a:pt x="25" y="0"/>
                    </a:lnTo>
                    <a:lnTo>
                      <a:pt x="2" y="29"/>
                    </a:lnTo>
                    <a:lnTo>
                      <a:pt x="25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2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9"/>
                    </a:lnTo>
                    <a:lnTo>
                      <a:pt x="25" y="49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90000" y="3415680"/>
                <a:ext cx="196920" cy="550440"/>
              </a:xfrm>
              <a:custGeom>
                <a:avLst/>
                <a:gdLst/>
                <a:ahLst/>
                <a:rect l="l" t="t" r="r" b="b"/>
                <a:pathLst>
                  <a:path w="518" h="1454">
                    <a:moveTo>
                      <a:pt x="518" y="0"/>
                    </a:moveTo>
                    <a:lnTo>
                      <a:pt x="307" y="1454"/>
                    </a:lnTo>
                    <a:lnTo>
                      <a:pt x="0" y="11"/>
                    </a:lnTo>
                    <a:lnTo>
                      <a:pt x="518" y="0"/>
                    </a:lnTo>
                    <a:close/>
                    <a:moveTo>
                      <a:pt x="403" y="107"/>
                    </a:moveTo>
                    <a:lnTo>
                      <a:pt x="267" y="743"/>
                    </a:lnTo>
                    <a:lnTo>
                      <a:pt x="115" y="107"/>
                    </a:lnTo>
                    <a:lnTo>
                      <a:pt x="403" y="107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797640" y="3413880"/>
                <a:ext cx="98640" cy="560160"/>
              </a:xfrm>
              <a:custGeom>
                <a:avLst/>
                <a:gdLst/>
                <a:ahLst/>
                <a:rect l="l" t="t" r="r" b="b"/>
                <a:pathLst>
                  <a:path w="260" h="1481">
                    <a:moveTo>
                      <a:pt x="0" y="1463"/>
                    </a:moveTo>
                    <a:lnTo>
                      <a:pt x="48" y="1460"/>
                    </a:lnTo>
                    <a:lnTo>
                      <a:pt x="260" y="8"/>
                    </a:lnTo>
                    <a:lnTo>
                      <a:pt x="212" y="0"/>
                    </a:lnTo>
                    <a:lnTo>
                      <a:pt x="0" y="1454"/>
                    </a:lnTo>
                    <a:lnTo>
                      <a:pt x="0" y="1463"/>
                    </a:lnTo>
                    <a:lnTo>
                      <a:pt x="0" y="1454"/>
                    </a:lnTo>
                    <a:lnTo>
                      <a:pt x="0" y="1459"/>
                    </a:lnTo>
                    <a:lnTo>
                      <a:pt x="0" y="1465"/>
                    </a:lnTo>
                    <a:lnTo>
                      <a:pt x="3" y="1469"/>
                    </a:lnTo>
                    <a:lnTo>
                      <a:pt x="5" y="1473"/>
                    </a:lnTo>
                    <a:lnTo>
                      <a:pt x="9" y="1476"/>
                    </a:lnTo>
                    <a:lnTo>
                      <a:pt x="13" y="1479"/>
                    </a:lnTo>
                    <a:lnTo>
                      <a:pt x="16" y="1480"/>
                    </a:lnTo>
                    <a:lnTo>
                      <a:pt x="21" y="1481"/>
                    </a:lnTo>
                    <a:lnTo>
                      <a:pt x="25" y="1481"/>
                    </a:lnTo>
                    <a:lnTo>
                      <a:pt x="30" y="1481"/>
                    </a:lnTo>
                    <a:lnTo>
                      <a:pt x="35" y="1480"/>
                    </a:lnTo>
                    <a:lnTo>
                      <a:pt x="38" y="1478"/>
                    </a:lnTo>
                    <a:lnTo>
                      <a:pt x="42" y="1475"/>
                    </a:lnTo>
                    <a:lnTo>
                      <a:pt x="45" y="1471"/>
                    </a:lnTo>
                    <a:lnTo>
                      <a:pt x="47" y="1467"/>
                    </a:lnTo>
                    <a:lnTo>
                      <a:pt x="48" y="1460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680280" y="3409920"/>
                <a:ext cx="134280" cy="558360"/>
              </a:xfrm>
              <a:custGeom>
                <a:avLst/>
                <a:gdLst/>
                <a:ahLst/>
                <a:rect l="l" t="t" r="r" b="b"/>
                <a:pathLst>
                  <a:path w="355" h="1471">
                    <a:moveTo>
                      <a:pt x="24" y="0"/>
                    </a:moveTo>
                    <a:lnTo>
                      <a:pt x="1" y="29"/>
                    </a:lnTo>
                    <a:lnTo>
                      <a:pt x="307" y="1471"/>
                    </a:lnTo>
                    <a:lnTo>
                      <a:pt x="355" y="1460"/>
                    </a:lnTo>
                    <a:lnTo>
                      <a:pt x="49" y="18"/>
                    </a:lnTo>
                    <a:lnTo>
                      <a:pt x="24" y="0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2" y="5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690000" y="3406320"/>
                <a:ext cx="206280" cy="22680"/>
              </a:xfrm>
              <a:custGeom>
                <a:avLst/>
                <a:gdLst/>
                <a:ahLst/>
                <a:rect l="l" t="t" r="r" b="b"/>
                <a:pathLst>
                  <a:path w="543" h="61">
                    <a:moveTo>
                      <a:pt x="543" y="29"/>
                    </a:moveTo>
                    <a:lnTo>
                      <a:pt x="518" y="0"/>
                    </a:lnTo>
                    <a:lnTo>
                      <a:pt x="0" y="13"/>
                    </a:lnTo>
                    <a:lnTo>
                      <a:pt x="2" y="61"/>
                    </a:lnTo>
                    <a:lnTo>
                      <a:pt x="519" y="50"/>
                    </a:lnTo>
                    <a:lnTo>
                      <a:pt x="543" y="29"/>
                    </a:lnTo>
                    <a:lnTo>
                      <a:pt x="519" y="50"/>
                    </a:lnTo>
                    <a:lnTo>
                      <a:pt x="524" y="48"/>
                    </a:lnTo>
                    <a:lnTo>
                      <a:pt x="529" y="47"/>
                    </a:lnTo>
                    <a:lnTo>
                      <a:pt x="534" y="45"/>
                    </a:lnTo>
                    <a:lnTo>
                      <a:pt x="537" y="41"/>
                    </a:lnTo>
                    <a:lnTo>
                      <a:pt x="539" y="37"/>
                    </a:lnTo>
                    <a:lnTo>
                      <a:pt x="542" y="34"/>
                    </a:lnTo>
                    <a:lnTo>
                      <a:pt x="543" y="29"/>
                    </a:lnTo>
                    <a:lnTo>
                      <a:pt x="543" y="25"/>
                    </a:lnTo>
                    <a:lnTo>
                      <a:pt x="543" y="20"/>
                    </a:lnTo>
                    <a:lnTo>
                      <a:pt x="542" y="15"/>
                    </a:lnTo>
                    <a:lnTo>
                      <a:pt x="539" y="12"/>
                    </a:lnTo>
                    <a:lnTo>
                      <a:pt x="537" y="8"/>
                    </a:lnTo>
                    <a:lnTo>
                      <a:pt x="533" y="5"/>
                    </a:lnTo>
                    <a:lnTo>
                      <a:pt x="529" y="3"/>
                    </a:lnTo>
                    <a:lnTo>
                      <a:pt x="524" y="2"/>
                    </a:lnTo>
                    <a:lnTo>
                      <a:pt x="518" y="0"/>
                    </a:lnTo>
                    <a:lnTo>
                      <a:pt x="54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782520" y="3453480"/>
                <a:ext cx="68040" cy="251640"/>
              </a:xfrm>
              <a:custGeom>
                <a:avLst/>
                <a:gdLst/>
                <a:ahLst/>
                <a:rect l="l" t="t" r="r" b="b"/>
                <a:pathLst>
                  <a:path w="182" h="666">
                    <a:moveTo>
                      <a:pt x="0" y="647"/>
                    </a:moveTo>
                    <a:lnTo>
                      <a:pt x="48" y="646"/>
                    </a:lnTo>
                    <a:lnTo>
                      <a:pt x="182" y="10"/>
                    </a:lnTo>
                    <a:lnTo>
                      <a:pt x="135" y="0"/>
                    </a:lnTo>
                    <a:lnTo>
                      <a:pt x="0" y="636"/>
                    </a:lnTo>
                    <a:lnTo>
                      <a:pt x="0" y="647"/>
                    </a:lnTo>
                    <a:lnTo>
                      <a:pt x="0" y="636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1" y="651"/>
                    </a:lnTo>
                    <a:lnTo>
                      <a:pt x="4" y="656"/>
                    </a:lnTo>
                    <a:lnTo>
                      <a:pt x="6" y="658"/>
                    </a:lnTo>
                    <a:lnTo>
                      <a:pt x="10" y="662"/>
                    </a:lnTo>
                    <a:lnTo>
                      <a:pt x="15" y="663"/>
                    </a:lnTo>
                    <a:lnTo>
                      <a:pt x="18" y="664"/>
                    </a:lnTo>
                    <a:lnTo>
                      <a:pt x="23" y="666"/>
                    </a:lnTo>
                    <a:lnTo>
                      <a:pt x="28" y="666"/>
                    </a:lnTo>
                    <a:lnTo>
                      <a:pt x="32" y="664"/>
                    </a:lnTo>
                    <a:lnTo>
                      <a:pt x="37" y="662"/>
                    </a:lnTo>
                    <a:lnTo>
                      <a:pt x="41" y="659"/>
                    </a:lnTo>
                    <a:lnTo>
                      <a:pt x="43" y="656"/>
                    </a:lnTo>
                    <a:lnTo>
                      <a:pt x="45" y="652"/>
                    </a:lnTo>
                    <a:lnTo>
                      <a:pt x="48" y="646"/>
                    </a:lnTo>
                    <a:lnTo>
                      <a:pt x="0" y="6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723840" y="3446280"/>
                <a:ext cx="75600" cy="253440"/>
              </a:xfrm>
              <a:custGeom>
                <a:avLst/>
                <a:gdLst/>
                <a:ahLst/>
                <a:rect l="l" t="t" r="r" b="b"/>
                <a:pathLst>
                  <a:path w="202" h="667">
                    <a:moveTo>
                      <a:pt x="25" y="0"/>
                    </a:moveTo>
                    <a:lnTo>
                      <a:pt x="1" y="30"/>
                    </a:lnTo>
                    <a:lnTo>
                      <a:pt x="154" y="667"/>
                    </a:lnTo>
                    <a:lnTo>
                      <a:pt x="202" y="655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47" y="14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37" y="3"/>
                    </a:lnTo>
                    <a:lnTo>
                      <a:pt x="32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733200" y="3446280"/>
                <a:ext cx="117360" cy="18720"/>
              </a:xfrm>
              <a:custGeom>
                <a:avLst/>
                <a:gdLst/>
                <a:ahLst/>
                <a:rect l="l" t="t" r="r" b="b"/>
                <a:pathLst>
                  <a:path w="312" h="50">
                    <a:moveTo>
                      <a:pt x="311" y="30"/>
                    </a:moveTo>
                    <a:lnTo>
                      <a:pt x="28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88" y="50"/>
                    </a:lnTo>
                    <a:lnTo>
                      <a:pt x="311" y="30"/>
                    </a:lnTo>
                    <a:lnTo>
                      <a:pt x="288" y="50"/>
                    </a:lnTo>
                    <a:lnTo>
                      <a:pt x="294" y="48"/>
                    </a:lnTo>
                    <a:lnTo>
                      <a:pt x="299" y="47"/>
                    </a:lnTo>
                    <a:lnTo>
                      <a:pt x="302" y="45"/>
                    </a:lnTo>
                    <a:lnTo>
                      <a:pt x="306" y="41"/>
                    </a:lnTo>
                    <a:lnTo>
                      <a:pt x="309" y="37"/>
                    </a:lnTo>
                    <a:lnTo>
                      <a:pt x="310" y="34"/>
                    </a:lnTo>
                    <a:lnTo>
                      <a:pt x="311" y="30"/>
                    </a:lnTo>
                    <a:lnTo>
                      <a:pt x="312" y="25"/>
                    </a:lnTo>
                    <a:lnTo>
                      <a:pt x="311" y="20"/>
                    </a:lnTo>
                    <a:lnTo>
                      <a:pt x="310" y="16"/>
                    </a:lnTo>
                    <a:lnTo>
                      <a:pt x="309" y="12"/>
                    </a:lnTo>
                    <a:lnTo>
                      <a:pt x="306" y="8"/>
                    </a:lnTo>
                    <a:lnTo>
                      <a:pt x="302" y="5"/>
                    </a:lnTo>
                    <a:lnTo>
                      <a:pt x="299" y="3"/>
                    </a:lnTo>
                    <a:lnTo>
                      <a:pt x="294" y="0"/>
                    </a:lnTo>
                    <a:lnTo>
                      <a:pt x="288" y="0"/>
                    </a:lnTo>
                    <a:lnTo>
                      <a:pt x="31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705920" y="3949560"/>
                <a:ext cx="36000" cy="48780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4705920" y="3942000"/>
                <a:ext cx="45360" cy="16920"/>
              </a:xfrm>
              <a:custGeom>
                <a:avLst/>
                <a:gdLst/>
                <a:ahLst/>
                <a:rect l="l" t="t" r="r" b="b"/>
                <a:pathLst>
                  <a:path w="121" h="48">
                    <a:moveTo>
                      <a:pt x="121" y="23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1" y="23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7"/>
                    </a:lnTo>
                    <a:lnTo>
                      <a:pt x="111" y="44"/>
                    </a:lnTo>
                    <a:lnTo>
                      <a:pt x="115" y="41"/>
                    </a:lnTo>
                    <a:lnTo>
                      <a:pt x="117" y="37"/>
                    </a:lnTo>
                    <a:lnTo>
                      <a:pt x="118" y="33"/>
                    </a:lnTo>
                    <a:lnTo>
                      <a:pt x="119" y="28"/>
                    </a:lnTo>
                    <a:lnTo>
                      <a:pt x="121" y="23"/>
                    </a:lnTo>
                    <a:lnTo>
                      <a:pt x="119" y="20"/>
                    </a:lnTo>
                    <a:lnTo>
                      <a:pt x="118" y="15"/>
                    </a:lnTo>
                    <a:lnTo>
                      <a:pt x="117" y="11"/>
                    </a:lnTo>
                    <a:lnTo>
                      <a:pt x="115" y="7"/>
                    </a:lnTo>
                    <a:lnTo>
                      <a:pt x="111" y="4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4732560" y="3949560"/>
                <a:ext cx="18720" cy="497520"/>
              </a:xfrm>
              <a:custGeom>
                <a:avLst/>
                <a:gdLst/>
                <a:ahLst/>
                <a:rect l="l" t="t" r="r" b="b"/>
                <a:pathLst>
                  <a:path w="50" h="1314">
                    <a:moveTo>
                      <a:pt x="25" y="1314"/>
                    </a:moveTo>
                    <a:lnTo>
                      <a:pt x="50" y="1289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5" y="1314"/>
                    </a:lnTo>
                    <a:lnTo>
                      <a:pt x="0" y="1289"/>
                    </a:lnTo>
                    <a:lnTo>
                      <a:pt x="0" y="1296"/>
                    </a:lnTo>
                    <a:lnTo>
                      <a:pt x="3" y="1300"/>
                    </a:lnTo>
                    <a:lnTo>
                      <a:pt x="5" y="1304"/>
                    </a:lnTo>
                    <a:lnTo>
                      <a:pt x="8" y="1308"/>
                    </a:lnTo>
                    <a:lnTo>
                      <a:pt x="12" y="1310"/>
                    </a:lnTo>
                    <a:lnTo>
                      <a:pt x="15" y="1313"/>
                    </a:lnTo>
                    <a:lnTo>
                      <a:pt x="20" y="1314"/>
                    </a:lnTo>
                    <a:lnTo>
                      <a:pt x="25" y="1314"/>
                    </a:lnTo>
                    <a:lnTo>
                      <a:pt x="29" y="1314"/>
                    </a:lnTo>
                    <a:lnTo>
                      <a:pt x="34" y="1313"/>
                    </a:lnTo>
                    <a:lnTo>
                      <a:pt x="37" y="1310"/>
                    </a:lnTo>
                    <a:lnTo>
                      <a:pt x="41" y="1308"/>
                    </a:lnTo>
                    <a:lnTo>
                      <a:pt x="45" y="1304"/>
                    </a:lnTo>
                    <a:lnTo>
                      <a:pt x="47" y="1300"/>
                    </a:lnTo>
                    <a:lnTo>
                      <a:pt x="48" y="1296"/>
                    </a:lnTo>
                    <a:lnTo>
                      <a:pt x="50" y="1289"/>
                    </a:lnTo>
                    <a:lnTo>
                      <a:pt x="25" y="1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4696560" y="442836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19" h="49">
                    <a:moveTo>
                      <a:pt x="0" y="24"/>
                    </a:moveTo>
                    <a:lnTo>
                      <a:pt x="23" y="49"/>
                    </a:lnTo>
                    <a:lnTo>
                      <a:pt x="119" y="49"/>
                    </a:lnTo>
                    <a:lnTo>
                      <a:pt x="119" y="0"/>
                    </a:lnTo>
                    <a:lnTo>
                      <a:pt x="23" y="0"/>
                    </a:lnTo>
                    <a:lnTo>
                      <a:pt x="0" y="24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8"/>
                    </a:lnTo>
                    <a:lnTo>
                      <a:pt x="5" y="42"/>
                    </a:lnTo>
                    <a:lnTo>
                      <a:pt x="8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3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696560" y="394200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2">
                    <a:moveTo>
                      <a:pt x="23" y="0"/>
                    </a:moveTo>
                    <a:lnTo>
                      <a:pt x="0" y="23"/>
                    </a:lnTo>
                    <a:lnTo>
                      <a:pt x="0" y="1312"/>
                    </a:lnTo>
                    <a:lnTo>
                      <a:pt x="48" y="1312"/>
                    </a:lnTo>
                    <a:lnTo>
                      <a:pt x="48" y="23"/>
                    </a:lnTo>
                    <a:lnTo>
                      <a:pt x="23" y="0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5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777120" y="3900240"/>
                <a:ext cx="36000" cy="486360"/>
              </a:xfrm>
              <a:prstGeom prst="rect">
                <a:avLst/>
              </a:pr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767400" y="3890880"/>
                <a:ext cx="45360" cy="18720"/>
              </a:xfrm>
              <a:custGeom>
                <a:avLst/>
                <a:gdLst/>
                <a:ahLst/>
                <a:rect l="l" t="t" r="r" b="b"/>
                <a:pathLst>
                  <a:path w="120" h="49">
                    <a:moveTo>
                      <a:pt x="0" y="24"/>
                    </a:moveTo>
                    <a:lnTo>
                      <a:pt x="24" y="49"/>
                    </a:lnTo>
                    <a:lnTo>
                      <a:pt x="120" y="49"/>
                    </a:lnTo>
                    <a:lnTo>
                      <a:pt x="120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5" y="46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767400" y="390024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9" h="1313">
                    <a:moveTo>
                      <a:pt x="24" y="1313"/>
                    </a:moveTo>
                    <a:lnTo>
                      <a:pt x="49" y="1289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289"/>
                    </a:lnTo>
                    <a:lnTo>
                      <a:pt x="24" y="1313"/>
                    </a:lnTo>
                    <a:lnTo>
                      <a:pt x="0" y="1289"/>
                    </a:lnTo>
                    <a:lnTo>
                      <a:pt x="1" y="1294"/>
                    </a:lnTo>
                    <a:lnTo>
                      <a:pt x="2" y="1299"/>
                    </a:lnTo>
                    <a:lnTo>
                      <a:pt x="5" y="1304"/>
                    </a:lnTo>
                    <a:lnTo>
                      <a:pt x="8" y="1307"/>
                    </a:lnTo>
                    <a:lnTo>
                      <a:pt x="12" y="1310"/>
                    </a:lnTo>
                    <a:lnTo>
                      <a:pt x="16" y="1311"/>
                    </a:lnTo>
                    <a:lnTo>
                      <a:pt x="20" y="1313"/>
                    </a:lnTo>
                    <a:lnTo>
                      <a:pt x="24" y="1313"/>
                    </a:lnTo>
                    <a:lnTo>
                      <a:pt x="29" y="1313"/>
                    </a:lnTo>
                    <a:lnTo>
                      <a:pt x="33" y="1311"/>
                    </a:lnTo>
                    <a:lnTo>
                      <a:pt x="38" y="1310"/>
                    </a:lnTo>
                    <a:lnTo>
                      <a:pt x="42" y="1307"/>
                    </a:lnTo>
                    <a:lnTo>
                      <a:pt x="44" y="1304"/>
                    </a:lnTo>
                    <a:lnTo>
                      <a:pt x="47" y="1299"/>
                    </a:lnTo>
                    <a:lnTo>
                      <a:pt x="49" y="1294"/>
                    </a:lnTo>
                    <a:lnTo>
                      <a:pt x="49" y="1289"/>
                    </a:lnTo>
                    <a:lnTo>
                      <a:pt x="24" y="1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777120" y="4379400"/>
                <a:ext cx="45360" cy="1656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20" y="24"/>
                    </a:moveTo>
                    <a:lnTo>
                      <a:pt x="9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96" y="48"/>
                    </a:lnTo>
                    <a:lnTo>
                      <a:pt x="120" y="24"/>
                    </a:lnTo>
                    <a:lnTo>
                      <a:pt x="96" y="48"/>
                    </a:lnTo>
                    <a:lnTo>
                      <a:pt x="101" y="48"/>
                    </a:lnTo>
                    <a:lnTo>
                      <a:pt x="106" y="46"/>
                    </a:lnTo>
                    <a:lnTo>
                      <a:pt x="111" y="44"/>
                    </a:lnTo>
                    <a:lnTo>
                      <a:pt x="114" y="40"/>
                    </a:lnTo>
                    <a:lnTo>
                      <a:pt x="117" y="37"/>
                    </a:lnTo>
                    <a:lnTo>
                      <a:pt x="119" y="33"/>
                    </a:lnTo>
                    <a:lnTo>
                      <a:pt x="120" y="28"/>
                    </a:lnTo>
                    <a:lnTo>
                      <a:pt x="120" y="24"/>
                    </a:lnTo>
                    <a:lnTo>
                      <a:pt x="120" y="19"/>
                    </a:lnTo>
                    <a:lnTo>
                      <a:pt x="119" y="14"/>
                    </a:lnTo>
                    <a:lnTo>
                      <a:pt x="117" y="11"/>
                    </a:lnTo>
                    <a:lnTo>
                      <a:pt x="114" y="7"/>
                    </a:lnTo>
                    <a:lnTo>
                      <a:pt x="111" y="3"/>
                    </a:lnTo>
                    <a:lnTo>
                      <a:pt x="106" y="1"/>
                    </a:lnTo>
                    <a:lnTo>
                      <a:pt x="101" y="0"/>
                    </a:lnTo>
                    <a:lnTo>
                      <a:pt x="96" y="0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803400" y="3890880"/>
                <a:ext cx="18720" cy="495720"/>
              </a:xfrm>
              <a:custGeom>
                <a:avLst/>
                <a:gdLst/>
                <a:ahLst/>
                <a:rect l="l" t="t" r="r" b="b"/>
                <a:pathLst>
                  <a:path w="48" h="1313">
                    <a:moveTo>
                      <a:pt x="24" y="0"/>
                    </a:moveTo>
                    <a:lnTo>
                      <a:pt x="0" y="24"/>
                    </a:lnTo>
                    <a:lnTo>
                      <a:pt x="0" y="1313"/>
                    </a:lnTo>
                    <a:lnTo>
                      <a:pt x="48" y="1313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9"/>
                    </a:lnTo>
                    <a:lnTo>
                      <a:pt x="40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683240" y="4373280"/>
                <a:ext cx="73800" cy="720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683240" y="4363920"/>
                <a:ext cx="83160" cy="1908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3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3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4" y="47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6" y="33"/>
                    </a:lnTo>
                    <a:lnTo>
                      <a:pt x="217" y="28"/>
                    </a:lnTo>
                    <a:lnTo>
                      <a:pt x="218" y="23"/>
                    </a:lnTo>
                    <a:lnTo>
                      <a:pt x="217" y="19"/>
                    </a:lnTo>
                    <a:lnTo>
                      <a:pt x="216" y="15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4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747680" y="437328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218"/>
                    </a:moveTo>
                    <a:lnTo>
                      <a:pt x="49" y="193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4" y="218"/>
                    </a:lnTo>
                    <a:lnTo>
                      <a:pt x="0" y="193"/>
                    </a:lnTo>
                    <a:lnTo>
                      <a:pt x="0" y="199"/>
                    </a:lnTo>
                    <a:lnTo>
                      <a:pt x="2" y="204"/>
                    </a:lnTo>
                    <a:lnTo>
                      <a:pt x="5" y="208"/>
                    </a:lnTo>
                    <a:lnTo>
                      <a:pt x="7" y="212"/>
                    </a:lnTo>
                    <a:lnTo>
                      <a:pt x="11" y="214"/>
                    </a:lnTo>
                    <a:lnTo>
                      <a:pt x="16" y="217"/>
                    </a:lnTo>
                    <a:lnTo>
                      <a:pt x="20" y="218"/>
                    </a:lnTo>
                    <a:lnTo>
                      <a:pt x="24" y="218"/>
                    </a:lnTo>
                    <a:lnTo>
                      <a:pt x="29" y="218"/>
                    </a:lnTo>
                    <a:lnTo>
                      <a:pt x="33" y="217"/>
                    </a:lnTo>
                    <a:lnTo>
                      <a:pt x="37" y="214"/>
                    </a:lnTo>
                    <a:lnTo>
                      <a:pt x="40" y="212"/>
                    </a:lnTo>
                    <a:lnTo>
                      <a:pt x="44" y="208"/>
                    </a:lnTo>
                    <a:lnTo>
                      <a:pt x="47" y="204"/>
                    </a:lnTo>
                    <a:lnTo>
                      <a:pt x="48" y="199"/>
                    </a:lnTo>
                    <a:lnTo>
                      <a:pt x="49" y="193"/>
                    </a:lnTo>
                    <a:lnTo>
                      <a:pt x="24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4673880" y="443772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7" h="49">
                    <a:moveTo>
                      <a:pt x="0" y="24"/>
                    </a:moveTo>
                    <a:lnTo>
                      <a:pt x="24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8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4673880" y="436392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49" h="216">
                    <a:moveTo>
                      <a:pt x="24" y="0"/>
                    </a:moveTo>
                    <a:lnTo>
                      <a:pt x="0" y="23"/>
                    </a:lnTo>
                    <a:lnTo>
                      <a:pt x="0" y="216"/>
                    </a:lnTo>
                    <a:lnTo>
                      <a:pt x="49" y="216"/>
                    </a:lnTo>
                    <a:lnTo>
                      <a:pt x="49" y="23"/>
                    </a:lnTo>
                    <a:lnTo>
                      <a:pt x="24" y="0"/>
                    </a:lnTo>
                    <a:lnTo>
                      <a:pt x="49" y="23"/>
                    </a:lnTo>
                    <a:lnTo>
                      <a:pt x="49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2" y="6"/>
                    </a:lnTo>
                    <a:lnTo>
                      <a:pt x="38" y="2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5" y="8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762000" y="4322160"/>
                <a:ext cx="73800" cy="73800"/>
              </a:xfrm>
              <a:prstGeom prst="rect">
                <a:avLst/>
              </a:prstGeom>
              <a:solidFill>
                <a:srgbClr val="140d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752640" y="431280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218" h="50">
                    <a:moveTo>
                      <a:pt x="0" y="25"/>
                    </a:moveTo>
                    <a:lnTo>
                      <a:pt x="25" y="50"/>
                    </a:lnTo>
                    <a:lnTo>
                      <a:pt x="218" y="50"/>
                    </a:lnTo>
                    <a:lnTo>
                      <a:pt x="218" y="0"/>
                    </a:lnTo>
                    <a:lnTo>
                      <a:pt x="25" y="0"/>
                    </a:lnTo>
                    <a:lnTo>
                      <a:pt x="0" y="25"/>
                    </a:lnTo>
                    <a:lnTo>
                      <a:pt x="25" y="0"/>
                    </a:lnTo>
                    <a:lnTo>
                      <a:pt x="19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4" y="39"/>
                    </a:lnTo>
                    <a:lnTo>
                      <a:pt x="7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752640" y="4322160"/>
                <a:ext cx="18720" cy="81360"/>
              </a:xfrm>
              <a:custGeom>
                <a:avLst/>
                <a:gdLst/>
                <a:ahLst/>
                <a:rect l="l" t="t" r="r" b="b"/>
                <a:pathLst>
                  <a:path w="50" h="217">
                    <a:moveTo>
                      <a:pt x="25" y="217"/>
                    </a:moveTo>
                    <a:lnTo>
                      <a:pt x="50" y="19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193"/>
                    </a:lnTo>
                    <a:lnTo>
                      <a:pt x="25" y="21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3" y="203"/>
                    </a:lnTo>
                    <a:lnTo>
                      <a:pt x="5" y="208"/>
                    </a:lnTo>
                    <a:lnTo>
                      <a:pt x="8" y="210"/>
                    </a:lnTo>
                    <a:lnTo>
                      <a:pt x="12" y="214"/>
                    </a:lnTo>
                    <a:lnTo>
                      <a:pt x="16" y="215"/>
                    </a:lnTo>
                    <a:lnTo>
                      <a:pt x="20" y="217"/>
                    </a:lnTo>
                    <a:lnTo>
                      <a:pt x="25" y="217"/>
                    </a:lnTo>
                    <a:lnTo>
                      <a:pt x="30" y="217"/>
                    </a:lnTo>
                    <a:lnTo>
                      <a:pt x="34" y="215"/>
                    </a:lnTo>
                    <a:lnTo>
                      <a:pt x="39" y="214"/>
                    </a:lnTo>
                    <a:lnTo>
                      <a:pt x="42" y="210"/>
                    </a:lnTo>
                    <a:lnTo>
                      <a:pt x="45" y="208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50" y="193"/>
                    </a:lnTo>
                    <a:lnTo>
                      <a:pt x="25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62000" y="438660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218" h="48">
                    <a:moveTo>
                      <a:pt x="218" y="24"/>
                    </a:moveTo>
                    <a:lnTo>
                      <a:pt x="19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3" y="48"/>
                    </a:lnTo>
                    <a:lnTo>
                      <a:pt x="218" y="24"/>
                    </a:lnTo>
                    <a:lnTo>
                      <a:pt x="193" y="48"/>
                    </a:lnTo>
                    <a:lnTo>
                      <a:pt x="198" y="48"/>
                    </a:lnTo>
                    <a:lnTo>
                      <a:pt x="203" y="46"/>
                    </a:lnTo>
                    <a:lnTo>
                      <a:pt x="208" y="44"/>
                    </a:lnTo>
                    <a:lnTo>
                      <a:pt x="212" y="40"/>
                    </a:lnTo>
                    <a:lnTo>
                      <a:pt x="214" y="37"/>
                    </a:lnTo>
                    <a:lnTo>
                      <a:pt x="215" y="33"/>
                    </a:lnTo>
                    <a:lnTo>
                      <a:pt x="217" y="28"/>
                    </a:lnTo>
                    <a:lnTo>
                      <a:pt x="218" y="24"/>
                    </a:lnTo>
                    <a:lnTo>
                      <a:pt x="217" y="19"/>
                    </a:lnTo>
                    <a:lnTo>
                      <a:pt x="215" y="14"/>
                    </a:lnTo>
                    <a:lnTo>
                      <a:pt x="214" y="11"/>
                    </a:lnTo>
                    <a:lnTo>
                      <a:pt x="212" y="7"/>
                    </a:lnTo>
                    <a:lnTo>
                      <a:pt x="208" y="3"/>
                    </a:lnTo>
                    <a:lnTo>
                      <a:pt x="203" y="1"/>
                    </a:lnTo>
                    <a:lnTo>
                      <a:pt x="198" y="0"/>
                    </a:lnTo>
                    <a:lnTo>
                      <a:pt x="193" y="0"/>
                    </a:lnTo>
                    <a:lnTo>
                      <a:pt x="21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826440" y="4312800"/>
                <a:ext cx="18720" cy="83160"/>
              </a:xfrm>
              <a:custGeom>
                <a:avLst/>
                <a:gdLst/>
                <a:ahLst/>
                <a:rect l="l" t="t" r="r" b="b"/>
                <a:pathLst>
                  <a:path w="49" h="218">
                    <a:moveTo>
                      <a:pt x="24" y="0"/>
                    </a:moveTo>
                    <a:lnTo>
                      <a:pt x="0" y="25"/>
                    </a:lnTo>
                    <a:lnTo>
                      <a:pt x="0" y="218"/>
                    </a:lnTo>
                    <a:lnTo>
                      <a:pt x="49" y="21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9"/>
                    </a:lnTo>
                    <a:lnTo>
                      <a:pt x="46" y="14"/>
                    </a:lnTo>
                    <a:lnTo>
                      <a:pt x="44" y="10"/>
                    </a:lnTo>
                    <a:lnTo>
                      <a:pt x="40" y="7"/>
                    </a:lnTo>
                    <a:lnTo>
                      <a:pt x="36" y="4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134240" y="3201840"/>
                <a:ext cx="669600" cy="582840"/>
              </a:xfrm>
              <a:custGeom>
                <a:avLst/>
                <a:gdLst/>
                <a:ahLst/>
                <a:rect l="l" t="t" r="r" b="b"/>
                <a:pathLst>
                  <a:path w="1770" h="1538">
                    <a:moveTo>
                      <a:pt x="330" y="1343"/>
                    </a:moveTo>
                    <a:lnTo>
                      <a:pt x="290" y="1343"/>
                    </a:lnTo>
                    <a:lnTo>
                      <a:pt x="249" y="1343"/>
                    </a:lnTo>
                    <a:lnTo>
                      <a:pt x="207" y="1343"/>
                    </a:lnTo>
                    <a:lnTo>
                      <a:pt x="167" y="1343"/>
                    </a:lnTo>
                    <a:lnTo>
                      <a:pt x="126" y="1343"/>
                    </a:lnTo>
                    <a:lnTo>
                      <a:pt x="84" y="1343"/>
                    </a:lnTo>
                    <a:lnTo>
                      <a:pt x="42" y="1343"/>
                    </a:lnTo>
                    <a:lnTo>
                      <a:pt x="0" y="1343"/>
                    </a:lnTo>
                    <a:lnTo>
                      <a:pt x="4" y="1302"/>
                    </a:lnTo>
                    <a:lnTo>
                      <a:pt x="7" y="1263"/>
                    </a:lnTo>
                    <a:lnTo>
                      <a:pt x="8" y="1222"/>
                    </a:lnTo>
                    <a:lnTo>
                      <a:pt x="9" y="1182"/>
                    </a:lnTo>
                    <a:lnTo>
                      <a:pt x="9" y="1102"/>
                    </a:lnTo>
                    <a:lnTo>
                      <a:pt x="10" y="1021"/>
                    </a:lnTo>
                    <a:lnTo>
                      <a:pt x="12" y="941"/>
                    </a:lnTo>
                    <a:lnTo>
                      <a:pt x="15" y="861"/>
                    </a:lnTo>
                    <a:lnTo>
                      <a:pt x="18" y="820"/>
                    </a:lnTo>
                    <a:lnTo>
                      <a:pt x="23" y="780"/>
                    </a:lnTo>
                    <a:lnTo>
                      <a:pt x="28" y="739"/>
                    </a:lnTo>
                    <a:lnTo>
                      <a:pt x="35" y="698"/>
                    </a:lnTo>
                    <a:lnTo>
                      <a:pt x="44" y="659"/>
                    </a:lnTo>
                    <a:lnTo>
                      <a:pt x="55" y="618"/>
                    </a:lnTo>
                    <a:lnTo>
                      <a:pt x="67" y="578"/>
                    </a:lnTo>
                    <a:lnTo>
                      <a:pt x="82" y="537"/>
                    </a:lnTo>
                    <a:lnTo>
                      <a:pt x="98" y="497"/>
                    </a:lnTo>
                    <a:lnTo>
                      <a:pt x="117" y="456"/>
                    </a:lnTo>
                    <a:lnTo>
                      <a:pt x="139" y="415"/>
                    </a:lnTo>
                    <a:lnTo>
                      <a:pt x="164" y="375"/>
                    </a:lnTo>
                    <a:lnTo>
                      <a:pt x="192" y="334"/>
                    </a:lnTo>
                    <a:lnTo>
                      <a:pt x="223" y="294"/>
                    </a:lnTo>
                    <a:lnTo>
                      <a:pt x="258" y="253"/>
                    </a:lnTo>
                    <a:lnTo>
                      <a:pt x="294" y="211"/>
                    </a:lnTo>
                    <a:lnTo>
                      <a:pt x="336" y="171"/>
                    </a:lnTo>
                    <a:lnTo>
                      <a:pt x="382" y="130"/>
                    </a:lnTo>
                    <a:lnTo>
                      <a:pt x="431" y="88"/>
                    </a:lnTo>
                    <a:lnTo>
                      <a:pt x="484" y="48"/>
                    </a:lnTo>
                    <a:lnTo>
                      <a:pt x="606" y="28"/>
                    </a:lnTo>
                    <a:lnTo>
                      <a:pt x="705" y="12"/>
                    </a:lnTo>
                    <a:lnTo>
                      <a:pt x="750" y="6"/>
                    </a:lnTo>
                    <a:lnTo>
                      <a:pt x="790" y="2"/>
                    </a:lnTo>
                    <a:lnTo>
                      <a:pt x="810" y="1"/>
                    </a:lnTo>
                    <a:lnTo>
                      <a:pt x="829" y="0"/>
                    </a:lnTo>
                    <a:lnTo>
                      <a:pt x="848" y="0"/>
                    </a:lnTo>
                    <a:lnTo>
                      <a:pt x="868" y="1"/>
                    </a:lnTo>
                    <a:lnTo>
                      <a:pt x="886" y="2"/>
                    </a:lnTo>
                    <a:lnTo>
                      <a:pt x="904" y="3"/>
                    </a:lnTo>
                    <a:lnTo>
                      <a:pt x="924" y="7"/>
                    </a:lnTo>
                    <a:lnTo>
                      <a:pt x="944" y="11"/>
                    </a:lnTo>
                    <a:lnTo>
                      <a:pt x="964" y="14"/>
                    </a:lnTo>
                    <a:lnTo>
                      <a:pt x="984" y="21"/>
                    </a:lnTo>
                    <a:lnTo>
                      <a:pt x="1005" y="27"/>
                    </a:lnTo>
                    <a:lnTo>
                      <a:pt x="1027" y="34"/>
                    </a:lnTo>
                    <a:lnTo>
                      <a:pt x="1074" y="53"/>
                    </a:lnTo>
                    <a:lnTo>
                      <a:pt x="1126" y="75"/>
                    </a:lnTo>
                    <a:lnTo>
                      <a:pt x="1182" y="103"/>
                    </a:lnTo>
                    <a:lnTo>
                      <a:pt x="1245" y="136"/>
                    </a:lnTo>
                    <a:lnTo>
                      <a:pt x="1278" y="166"/>
                    </a:lnTo>
                    <a:lnTo>
                      <a:pt x="1310" y="198"/>
                    </a:lnTo>
                    <a:lnTo>
                      <a:pt x="1341" y="231"/>
                    </a:lnTo>
                    <a:lnTo>
                      <a:pt x="1371" y="267"/>
                    </a:lnTo>
                    <a:lnTo>
                      <a:pt x="1399" y="304"/>
                    </a:lnTo>
                    <a:lnTo>
                      <a:pt x="1426" y="340"/>
                    </a:lnTo>
                    <a:lnTo>
                      <a:pt x="1452" y="380"/>
                    </a:lnTo>
                    <a:lnTo>
                      <a:pt x="1476" y="420"/>
                    </a:lnTo>
                    <a:lnTo>
                      <a:pt x="1500" y="462"/>
                    </a:lnTo>
                    <a:lnTo>
                      <a:pt x="1522" y="504"/>
                    </a:lnTo>
                    <a:lnTo>
                      <a:pt x="1544" y="547"/>
                    </a:lnTo>
                    <a:lnTo>
                      <a:pt x="1564" y="591"/>
                    </a:lnTo>
                    <a:lnTo>
                      <a:pt x="1583" y="637"/>
                    </a:lnTo>
                    <a:lnTo>
                      <a:pt x="1602" y="682"/>
                    </a:lnTo>
                    <a:lnTo>
                      <a:pt x="1619" y="729"/>
                    </a:lnTo>
                    <a:lnTo>
                      <a:pt x="1635" y="776"/>
                    </a:lnTo>
                    <a:lnTo>
                      <a:pt x="1650" y="824"/>
                    </a:lnTo>
                    <a:lnTo>
                      <a:pt x="1665" y="872"/>
                    </a:lnTo>
                    <a:lnTo>
                      <a:pt x="1677" y="920"/>
                    </a:lnTo>
                    <a:lnTo>
                      <a:pt x="1689" y="968"/>
                    </a:lnTo>
                    <a:lnTo>
                      <a:pt x="1701" y="1017"/>
                    </a:lnTo>
                    <a:lnTo>
                      <a:pt x="1711" y="1065"/>
                    </a:lnTo>
                    <a:lnTo>
                      <a:pt x="1721" y="1114"/>
                    </a:lnTo>
                    <a:lnTo>
                      <a:pt x="1730" y="1162"/>
                    </a:lnTo>
                    <a:lnTo>
                      <a:pt x="1737" y="1211"/>
                    </a:lnTo>
                    <a:lnTo>
                      <a:pt x="1745" y="1259"/>
                    </a:lnTo>
                    <a:lnTo>
                      <a:pt x="1751" y="1307"/>
                    </a:lnTo>
                    <a:lnTo>
                      <a:pt x="1756" y="1354"/>
                    </a:lnTo>
                    <a:lnTo>
                      <a:pt x="1760" y="1401"/>
                    </a:lnTo>
                    <a:lnTo>
                      <a:pt x="1764" y="1447"/>
                    </a:lnTo>
                    <a:lnTo>
                      <a:pt x="1768" y="1493"/>
                    </a:lnTo>
                    <a:lnTo>
                      <a:pt x="1770" y="1538"/>
                    </a:lnTo>
                    <a:lnTo>
                      <a:pt x="1720" y="1535"/>
                    </a:lnTo>
                    <a:lnTo>
                      <a:pt x="1671" y="1531"/>
                    </a:lnTo>
                    <a:lnTo>
                      <a:pt x="1622" y="1529"/>
                    </a:lnTo>
                    <a:lnTo>
                      <a:pt x="1574" y="1525"/>
                    </a:lnTo>
                    <a:lnTo>
                      <a:pt x="1524" y="1522"/>
                    </a:lnTo>
                    <a:lnTo>
                      <a:pt x="1476" y="1519"/>
                    </a:lnTo>
                    <a:lnTo>
                      <a:pt x="1428" y="1516"/>
                    </a:lnTo>
                    <a:lnTo>
                      <a:pt x="1380" y="1513"/>
                    </a:lnTo>
                    <a:lnTo>
                      <a:pt x="1384" y="1435"/>
                    </a:lnTo>
                    <a:lnTo>
                      <a:pt x="1389" y="1356"/>
                    </a:lnTo>
                    <a:lnTo>
                      <a:pt x="1393" y="1274"/>
                    </a:lnTo>
                    <a:lnTo>
                      <a:pt x="1395" y="1192"/>
                    </a:lnTo>
                    <a:lnTo>
                      <a:pt x="1395" y="1150"/>
                    </a:lnTo>
                    <a:lnTo>
                      <a:pt x="1395" y="1108"/>
                    </a:lnTo>
                    <a:lnTo>
                      <a:pt x="1394" y="1065"/>
                    </a:lnTo>
                    <a:lnTo>
                      <a:pt x="1393" y="1023"/>
                    </a:lnTo>
                    <a:lnTo>
                      <a:pt x="1390" y="980"/>
                    </a:lnTo>
                    <a:lnTo>
                      <a:pt x="1387" y="937"/>
                    </a:lnTo>
                    <a:lnTo>
                      <a:pt x="1383" y="894"/>
                    </a:lnTo>
                    <a:lnTo>
                      <a:pt x="1377" y="851"/>
                    </a:lnTo>
                    <a:lnTo>
                      <a:pt x="1371" y="808"/>
                    </a:lnTo>
                    <a:lnTo>
                      <a:pt x="1363" y="765"/>
                    </a:lnTo>
                    <a:lnTo>
                      <a:pt x="1353" y="722"/>
                    </a:lnTo>
                    <a:lnTo>
                      <a:pt x="1342" y="679"/>
                    </a:lnTo>
                    <a:lnTo>
                      <a:pt x="1330" y="636"/>
                    </a:lnTo>
                    <a:lnTo>
                      <a:pt x="1316" y="593"/>
                    </a:lnTo>
                    <a:lnTo>
                      <a:pt x="1302" y="550"/>
                    </a:lnTo>
                    <a:lnTo>
                      <a:pt x="1285" y="508"/>
                    </a:lnTo>
                    <a:lnTo>
                      <a:pt x="1265" y="465"/>
                    </a:lnTo>
                    <a:lnTo>
                      <a:pt x="1244" y="423"/>
                    </a:lnTo>
                    <a:lnTo>
                      <a:pt x="1222" y="382"/>
                    </a:lnTo>
                    <a:lnTo>
                      <a:pt x="1196" y="340"/>
                    </a:lnTo>
                    <a:lnTo>
                      <a:pt x="1169" y="300"/>
                    </a:lnTo>
                    <a:lnTo>
                      <a:pt x="1139" y="259"/>
                    </a:lnTo>
                    <a:lnTo>
                      <a:pt x="1107" y="220"/>
                    </a:lnTo>
                    <a:lnTo>
                      <a:pt x="1073" y="181"/>
                    </a:lnTo>
                    <a:lnTo>
                      <a:pt x="1062" y="194"/>
                    </a:lnTo>
                    <a:lnTo>
                      <a:pt x="1050" y="206"/>
                    </a:lnTo>
                    <a:lnTo>
                      <a:pt x="1036" y="217"/>
                    </a:lnTo>
                    <a:lnTo>
                      <a:pt x="1023" y="228"/>
                    </a:lnTo>
                    <a:lnTo>
                      <a:pt x="1008" y="240"/>
                    </a:lnTo>
                    <a:lnTo>
                      <a:pt x="992" y="248"/>
                    </a:lnTo>
                    <a:lnTo>
                      <a:pt x="976" y="257"/>
                    </a:lnTo>
                    <a:lnTo>
                      <a:pt x="960" y="264"/>
                    </a:lnTo>
                    <a:lnTo>
                      <a:pt x="943" y="270"/>
                    </a:lnTo>
                    <a:lnTo>
                      <a:pt x="925" y="276"/>
                    </a:lnTo>
                    <a:lnTo>
                      <a:pt x="908" y="281"/>
                    </a:lnTo>
                    <a:lnTo>
                      <a:pt x="890" y="285"/>
                    </a:lnTo>
                    <a:lnTo>
                      <a:pt x="871" y="289"/>
                    </a:lnTo>
                    <a:lnTo>
                      <a:pt x="853" y="291"/>
                    </a:lnTo>
                    <a:lnTo>
                      <a:pt x="834" y="292"/>
                    </a:lnTo>
                    <a:lnTo>
                      <a:pt x="816" y="294"/>
                    </a:lnTo>
                    <a:lnTo>
                      <a:pt x="797" y="292"/>
                    </a:lnTo>
                    <a:lnTo>
                      <a:pt x="779" y="291"/>
                    </a:lnTo>
                    <a:lnTo>
                      <a:pt x="761" y="290"/>
                    </a:lnTo>
                    <a:lnTo>
                      <a:pt x="743" y="286"/>
                    </a:lnTo>
                    <a:lnTo>
                      <a:pt x="725" y="283"/>
                    </a:lnTo>
                    <a:lnTo>
                      <a:pt x="708" y="278"/>
                    </a:lnTo>
                    <a:lnTo>
                      <a:pt x="690" y="272"/>
                    </a:lnTo>
                    <a:lnTo>
                      <a:pt x="673" y="265"/>
                    </a:lnTo>
                    <a:lnTo>
                      <a:pt x="657" y="258"/>
                    </a:lnTo>
                    <a:lnTo>
                      <a:pt x="643" y="249"/>
                    </a:lnTo>
                    <a:lnTo>
                      <a:pt x="627" y="241"/>
                    </a:lnTo>
                    <a:lnTo>
                      <a:pt x="613" y="230"/>
                    </a:lnTo>
                    <a:lnTo>
                      <a:pt x="598" y="219"/>
                    </a:lnTo>
                    <a:lnTo>
                      <a:pt x="586" y="206"/>
                    </a:lnTo>
                    <a:lnTo>
                      <a:pt x="574" y="194"/>
                    </a:lnTo>
                    <a:lnTo>
                      <a:pt x="563" y="181"/>
                    </a:lnTo>
                    <a:lnTo>
                      <a:pt x="531" y="214"/>
                    </a:lnTo>
                    <a:lnTo>
                      <a:pt x="504" y="249"/>
                    </a:lnTo>
                    <a:lnTo>
                      <a:pt x="480" y="284"/>
                    </a:lnTo>
                    <a:lnTo>
                      <a:pt x="459" y="320"/>
                    </a:lnTo>
                    <a:lnTo>
                      <a:pt x="443" y="356"/>
                    </a:lnTo>
                    <a:lnTo>
                      <a:pt x="430" y="392"/>
                    </a:lnTo>
                    <a:lnTo>
                      <a:pt x="419" y="429"/>
                    </a:lnTo>
                    <a:lnTo>
                      <a:pt x="410" y="467"/>
                    </a:lnTo>
                    <a:lnTo>
                      <a:pt x="405" y="504"/>
                    </a:lnTo>
                    <a:lnTo>
                      <a:pt x="401" y="541"/>
                    </a:lnTo>
                    <a:lnTo>
                      <a:pt x="399" y="579"/>
                    </a:lnTo>
                    <a:lnTo>
                      <a:pt x="399" y="617"/>
                    </a:lnTo>
                    <a:lnTo>
                      <a:pt x="400" y="655"/>
                    </a:lnTo>
                    <a:lnTo>
                      <a:pt x="403" y="693"/>
                    </a:lnTo>
                    <a:lnTo>
                      <a:pt x="405" y="732"/>
                    </a:lnTo>
                    <a:lnTo>
                      <a:pt x="409" y="770"/>
                    </a:lnTo>
                    <a:lnTo>
                      <a:pt x="417" y="845"/>
                    </a:lnTo>
                    <a:lnTo>
                      <a:pt x="424" y="921"/>
                    </a:lnTo>
                    <a:lnTo>
                      <a:pt x="426" y="958"/>
                    </a:lnTo>
                    <a:lnTo>
                      <a:pt x="427" y="995"/>
                    </a:lnTo>
                    <a:lnTo>
                      <a:pt x="427" y="1032"/>
                    </a:lnTo>
                    <a:lnTo>
                      <a:pt x="426" y="1069"/>
                    </a:lnTo>
                    <a:lnTo>
                      <a:pt x="424" y="1104"/>
                    </a:lnTo>
                    <a:lnTo>
                      <a:pt x="419" y="1140"/>
                    </a:lnTo>
                    <a:lnTo>
                      <a:pt x="411" y="1176"/>
                    </a:lnTo>
                    <a:lnTo>
                      <a:pt x="401" y="1210"/>
                    </a:lnTo>
                    <a:lnTo>
                      <a:pt x="388" y="1244"/>
                    </a:lnTo>
                    <a:lnTo>
                      <a:pt x="372" y="1278"/>
                    </a:lnTo>
                    <a:lnTo>
                      <a:pt x="353" y="1311"/>
                    </a:lnTo>
                    <a:lnTo>
                      <a:pt x="330" y="1343"/>
                    </a:lnTo>
                    <a:close/>
                  </a:path>
                </a:pathLst>
              </a:custGeom>
              <a:solidFill>
                <a:srgbClr val="b78d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131000" y="3705480"/>
                <a:ext cx="128160" cy="11160"/>
              </a:xfrm>
              <a:custGeom>
                <a:avLst/>
                <a:gdLst/>
                <a:ahLst/>
                <a:rect l="l" t="t" r="r" b="b"/>
                <a:pathLst>
                  <a:path w="343" h="29">
                    <a:moveTo>
                      <a:pt x="0" y="13"/>
                    </a:moveTo>
                    <a:lnTo>
                      <a:pt x="13" y="29"/>
                    </a:lnTo>
                    <a:lnTo>
                      <a:pt x="55" y="29"/>
                    </a:lnTo>
                    <a:lnTo>
                      <a:pt x="97" y="29"/>
                    </a:lnTo>
                    <a:lnTo>
                      <a:pt x="139" y="29"/>
                    </a:lnTo>
                    <a:lnTo>
                      <a:pt x="180" y="29"/>
                    </a:lnTo>
                    <a:lnTo>
                      <a:pt x="220" y="29"/>
                    </a:lnTo>
                    <a:lnTo>
                      <a:pt x="262" y="29"/>
                    </a:lnTo>
                    <a:lnTo>
                      <a:pt x="303" y="29"/>
                    </a:lnTo>
                    <a:lnTo>
                      <a:pt x="343" y="29"/>
                    </a:lnTo>
                    <a:lnTo>
                      <a:pt x="343" y="0"/>
                    </a:lnTo>
                    <a:lnTo>
                      <a:pt x="303" y="0"/>
                    </a:lnTo>
                    <a:lnTo>
                      <a:pt x="262" y="0"/>
                    </a:lnTo>
                    <a:lnTo>
                      <a:pt x="220" y="0"/>
                    </a:lnTo>
                    <a:lnTo>
                      <a:pt x="180" y="0"/>
                    </a:lnTo>
                    <a:lnTo>
                      <a:pt x="139" y="0"/>
                    </a:lnTo>
                    <a:lnTo>
                      <a:pt x="97" y="0"/>
                    </a:lnTo>
                    <a:lnTo>
                      <a:pt x="55" y="0"/>
                    </a:lnTo>
                    <a:lnTo>
                      <a:pt x="13" y="0"/>
                    </a:lnTo>
                    <a:lnTo>
                      <a:pt x="28" y="15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7" y="27"/>
                    </a:lnTo>
                    <a:lnTo>
                      <a:pt x="11" y="27"/>
                    </a:lnTo>
                    <a:lnTo>
                      <a:pt x="13" y="2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131000" y="3215160"/>
                <a:ext cx="192600" cy="495720"/>
              </a:xfrm>
              <a:custGeom>
                <a:avLst/>
                <a:gdLst/>
                <a:ahLst/>
                <a:rect l="l" t="t" r="r" b="b"/>
                <a:pathLst>
                  <a:path w="510" h="1310">
                    <a:moveTo>
                      <a:pt x="494" y="0"/>
                    </a:moveTo>
                    <a:lnTo>
                      <a:pt x="488" y="3"/>
                    </a:lnTo>
                    <a:lnTo>
                      <a:pt x="461" y="24"/>
                    </a:lnTo>
                    <a:lnTo>
                      <a:pt x="434" y="44"/>
                    </a:lnTo>
                    <a:lnTo>
                      <a:pt x="410" y="64"/>
                    </a:lnTo>
                    <a:lnTo>
                      <a:pt x="385" y="85"/>
                    </a:lnTo>
                    <a:lnTo>
                      <a:pt x="362" y="106"/>
                    </a:lnTo>
                    <a:lnTo>
                      <a:pt x="339" y="127"/>
                    </a:lnTo>
                    <a:lnTo>
                      <a:pt x="319" y="148"/>
                    </a:lnTo>
                    <a:lnTo>
                      <a:pt x="298" y="167"/>
                    </a:lnTo>
                    <a:lnTo>
                      <a:pt x="278" y="188"/>
                    </a:lnTo>
                    <a:lnTo>
                      <a:pt x="259" y="209"/>
                    </a:lnTo>
                    <a:lnTo>
                      <a:pt x="242" y="230"/>
                    </a:lnTo>
                    <a:lnTo>
                      <a:pt x="225" y="251"/>
                    </a:lnTo>
                    <a:lnTo>
                      <a:pt x="209" y="271"/>
                    </a:lnTo>
                    <a:lnTo>
                      <a:pt x="193" y="292"/>
                    </a:lnTo>
                    <a:lnTo>
                      <a:pt x="180" y="313"/>
                    </a:lnTo>
                    <a:lnTo>
                      <a:pt x="165" y="333"/>
                    </a:lnTo>
                    <a:lnTo>
                      <a:pt x="140" y="374"/>
                    </a:lnTo>
                    <a:lnTo>
                      <a:pt x="118" y="416"/>
                    </a:lnTo>
                    <a:lnTo>
                      <a:pt x="98" y="456"/>
                    </a:lnTo>
                    <a:lnTo>
                      <a:pt x="81" y="498"/>
                    </a:lnTo>
                    <a:lnTo>
                      <a:pt x="66" y="539"/>
                    </a:lnTo>
                    <a:lnTo>
                      <a:pt x="54" y="581"/>
                    </a:lnTo>
                    <a:lnTo>
                      <a:pt x="43" y="621"/>
                    </a:lnTo>
                    <a:lnTo>
                      <a:pt x="34" y="662"/>
                    </a:lnTo>
                    <a:lnTo>
                      <a:pt x="27" y="704"/>
                    </a:lnTo>
                    <a:lnTo>
                      <a:pt x="22" y="744"/>
                    </a:lnTo>
                    <a:lnTo>
                      <a:pt x="17" y="785"/>
                    </a:lnTo>
                    <a:lnTo>
                      <a:pt x="13" y="825"/>
                    </a:lnTo>
                    <a:lnTo>
                      <a:pt x="10" y="907"/>
                    </a:lnTo>
                    <a:lnTo>
                      <a:pt x="9" y="987"/>
                    </a:lnTo>
                    <a:lnTo>
                      <a:pt x="9" y="1068"/>
                    </a:lnTo>
                    <a:lnTo>
                      <a:pt x="7" y="1148"/>
                    </a:lnTo>
                    <a:lnTo>
                      <a:pt x="7" y="1188"/>
                    </a:lnTo>
                    <a:lnTo>
                      <a:pt x="5" y="1228"/>
                    </a:lnTo>
                    <a:lnTo>
                      <a:pt x="4" y="1268"/>
                    </a:lnTo>
                    <a:lnTo>
                      <a:pt x="0" y="1308"/>
                    </a:lnTo>
                    <a:lnTo>
                      <a:pt x="28" y="1310"/>
                    </a:lnTo>
                    <a:lnTo>
                      <a:pt x="31" y="1270"/>
                    </a:lnTo>
                    <a:lnTo>
                      <a:pt x="33" y="1229"/>
                    </a:lnTo>
                    <a:lnTo>
                      <a:pt x="34" y="1188"/>
                    </a:lnTo>
                    <a:lnTo>
                      <a:pt x="36" y="1148"/>
                    </a:lnTo>
                    <a:lnTo>
                      <a:pt x="37" y="1068"/>
                    </a:lnTo>
                    <a:lnTo>
                      <a:pt x="37" y="988"/>
                    </a:lnTo>
                    <a:lnTo>
                      <a:pt x="38" y="907"/>
                    </a:lnTo>
                    <a:lnTo>
                      <a:pt x="42" y="827"/>
                    </a:lnTo>
                    <a:lnTo>
                      <a:pt x="45" y="787"/>
                    </a:lnTo>
                    <a:lnTo>
                      <a:pt x="49" y="747"/>
                    </a:lnTo>
                    <a:lnTo>
                      <a:pt x="55" y="707"/>
                    </a:lnTo>
                    <a:lnTo>
                      <a:pt x="61" y="668"/>
                    </a:lnTo>
                    <a:lnTo>
                      <a:pt x="70" y="627"/>
                    </a:lnTo>
                    <a:lnTo>
                      <a:pt x="81" y="588"/>
                    </a:lnTo>
                    <a:lnTo>
                      <a:pt x="93" y="548"/>
                    </a:lnTo>
                    <a:lnTo>
                      <a:pt x="107" y="508"/>
                    </a:lnTo>
                    <a:lnTo>
                      <a:pt x="124" y="469"/>
                    </a:lnTo>
                    <a:lnTo>
                      <a:pt x="143" y="428"/>
                    </a:lnTo>
                    <a:lnTo>
                      <a:pt x="165" y="389"/>
                    </a:lnTo>
                    <a:lnTo>
                      <a:pt x="189" y="348"/>
                    </a:lnTo>
                    <a:lnTo>
                      <a:pt x="202" y="329"/>
                    </a:lnTo>
                    <a:lnTo>
                      <a:pt x="216" y="308"/>
                    </a:lnTo>
                    <a:lnTo>
                      <a:pt x="231" y="288"/>
                    </a:lnTo>
                    <a:lnTo>
                      <a:pt x="247" y="268"/>
                    </a:lnTo>
                    <a:lnTo>
                      <a:pt x="263" y="247"/>
                    </a:lnTo>
                    <a:lnTo>
                      <a:pt x="280" y="228"/>
                    </a:lnTo>
                    <a:lnTo>
                      <a:pt x="299" y="208"/>
                    </a:lnTo>
                    <a:lnTo>
                      <a:pt x="317" y="187"/>
                    </a:lnTo>
                    <a:lnTo>
                      <a:pt x="338" y="167"/>
                    </a:lnTo>
                    <a:lnTo>
                      <a:pt x="359" y="147"/>
                    </a:lnTo>
                    <a:lnTo>
                      <a:pt x="380" y="127"/>
                    </a:lnTo>
                    <a:lnTo>
                      <a:pt x="403" y="106"/>
                    </a:lnTo>
                    <a:lnTo>
                      <a:pt x="427" y="86"/>
                    </a:lnTo>
                    <a:lnTo>
                      <a:pt x="453" y="65"/>
                    </a:lnTo>
                    <a:lnTo>
                      <a:pt x="478" y="46"/>
                    </a:lnTo>
                    <a:lnTo>
                      <a:pt x="505" y="25"/>
                    </a:lnTo>
                    <a:lnTo>
                      <a:pt x="499" y="27"/>
                    </a:lnTo>
                    <a:lnTo>
                      <a:pt x="505" y="25"/>
                    </a:lnTo>
                    <a:lnTo>
                      <a:pt x="509" y="20"/>
                    </a:lnTo>
                    <a:lnTo>
                      <a:pt x="510" y="15"/>
                    </a:lnTo>
                    <a:lnTo>
                      <a:pt x="510" y="10"/>
                    </a:lnTo>
                    <a:lnTo>
                      <a:pt x="508" y="5"/>
                    </a:lnTo>
                    <a:lnTo>
                      <a:pt x="504" y="1"/>
                    </a:lnTo>
                    <a:lnTo>
                      <a:pt x="499" y="0"/>
                    </a:lnTo>
                    <a:lnTo>
                      <a:pt x="494" y="0"/>
                    </a:lnTo>
                    <a:lnTo>
                      <a:pt x="488" y="3"/>
                    </a:lnTo>
                    <a:lnTo>
                      <a:pt x="49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317840" y="3196440"/>
                <a:ext cx="293400" cy="61920"/>
              </a:xfrm>
              <a:custGeom>
                <a:avLst/>
                <a:gdLst/>
                <a:ahLst/>
                <a:rect l="l" t="t" r="r" b="b"/>
                <a:pathLst>
                  <a:path w="778" h="164">
                    <a:moveTo>
                      <a:pt x="774" y="139"/>
                    </a:moveTo>
                    <a:lnTo>
                      <a:pt x="770" y="138"/>
                    </a:lnTo>
                    <a:lnTo>
                      <a:pt x="708" y="105"/>
                    </a:lnTo>
                    <a:lnTo>
                      <a:pt x="650" y="76"/>
                    </a:lnTo>
                    <a:lnTo>
                      <a:pt x="598" y="53"/>
                    </a:lnTo>
                    <a:lnTo>
                      <a:pt x="551" y="36"/>
                    </a:lnTo>
                    <a:lnTo>
                      <a:pt x="528" y="27"/>
                    </a:lnTo>
                    <a:lnTo>
                      <a:pt x="507" y="21"/>
                    </a:lnTo>
                    <a:lnTo>
                      <a:pt x="486" y="15"/>
                    </a:lnTo>
                    <a:lnTo>
                      <a:pt x="465" y="10"/>
                    </a:lnTo>
                    <a:lnTo>
                      <a:pt x="446" y="6"/>
                    </a:lnTo>
                    <a:lnTo>
                      <a:pt x="426" y="4"/>
                    </a:lnTo>
                    <a:lnTo>
                      <a:pt x="406" y="1"/>
                    </a:lnTo>
                    <a:lnTo>
                      <a:pt x="387" y="0"/>
                    </a:lnTo>
                    <a:lnTo>
                      <a:pt x="367" y="0"/>
                    </a:lnTo>
                    <a:lnTo>
                      <a:pt x="348" y="0"/>
                    </a:lnTo>
                    <a:lnTo>
                      <a:pt x="328" y="0"/>
                    </a:lnTo>
                    <a:lnTo>
                      <a:pt x="308" y="3"/>
                    </a:lnTo>
                    <a:lnTo>
                      <a:pt x="267" y="6"/>
                    </a:lnTo>
                    <a:lnTo>
                      <a:pt x="223" y="12"/>
                    </a:lnTo>
                    <a:lnTo>
                      <a:pt x="122" y="28"/>
                    </a:lnTo>
                    <a:lnTo>
                      <a:pt x="0" y="48"/>
                    </a:lnTo>
                    <a:lnTo>
                      <a:pt x="5" y="75"/>
                    </a:lnTo>
                    <a:lnTo>
                      <a:pt x="127" y="56"/>
                    </a:lnTo>
                    <a:lnTo>
                      <a:pt x="227" y="40"/>
                    </a:lnTo>
                    <a:lnTo>
                      <a:pt x="270" y="33"/>
                    </a:lnTo>
                    <a:lnTo>
                      <a:pt x="310" y="30"/>
                    </a:lnTo>
                    <a:lnTo>
                      <a:pt x="330" y="28"/>
                    </a:lnTo>
                    <a:lnTo>
                      <a:pt x="348" y="27"/>
                    </a:lnTo>
                    <a:lnTo>
                      <a:pt x="367" y="27"/>
                    </a:lnTo>
                    <a:lnTo>
                      <a:pt x="385" y="28"/>
                    </a:lnTo>
                    <a:lnTo>
                      <a:pt x="404" y="30"/>
                    </a:lnTo>
                    <a:lnTo>
                      <a:pt x="422" y="31"/>
                    </a:lnTo>
                    <a:lnTo>
                      <a:pt x="441" y="35"/>
                    </a:lnTo>
                    <a:lnTo>
                      <a:pt x="460" y="38"/>
                    </a:lnTo>
                    <a:lnTo>
                      <a:pt x="479" y="42"/>
                    </a:lnTo>
                    <a:lnTo>
                      <a:pt x="500" y="48"/>
                    </a:lnTo>
                    <a:lnTo>
                      <a:pt x="521" y="54"/>
                    </a:lnTo>
                    <a:lnTo>
                      <a:pt x="542" y="62"/>
                    </a:lnTo>
                    <a:lnTo>
                      <a:pt x="588" y="79"/>
                    </a:lnTo>
                    <a:lnTo>
                      <a:pt x="639" y="102"/>
                    </a:lnTo>
                    <a:lnTo>
                      <a:pt x="695" y="129"/>
                    </a:lnTo>
                    <a:lnTo>
                      <a:pt x="758" y="163"/>
                    </a:lnTo>
                    <a:lnTo>
                      <a:pt x="756" y="160"/>
                    </a:lnTo>
                    <a:lnTo>
                      <a:pt x="758" y="163"/>
                    </a:lnTo>
                    <a:lnTo>
                      <a:pt x="760" y="164"/>
                    </a:lnTo>
                    <a:lnTo>
                      <a:pt x="764" y="164"/>
                    </a:lnTo>
                    <a:lnTo>
                      <a:pt x="767" y="164"/>
                    </a:lnTo>
                    <a:lnTo>
                      <a:pt x="769" y="164"/>
                    </a:lnTo>
                    <a:lnTo>
                      <a:pt x="773" y="160"/>
                    </a:lnTo>
                    <a:lnTo>
                      <a:pt x="776" y="156"/>
                    </a:lnTo>
                    <a:lnTo>
                      <a:pt x="778" y="151"/>
                    </a:lnTo>
                    <a:lnTo>
                      <a:pt x="778" y="147"/>
                    </a:lnTo>
                    <a:lnTo>
                      <a:pt x="775" y="142"/>
                    </a:lnTo>
                    <a:lnTo>
                      <a:pt x="770" y="138"/>
                    </a:lnTo>
                    <a:lnTo>
                      <a:pt x="774" y="1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603680" y="3249000"/>
                <a:ext cx="206280" cy="541080"/>
              </a:xfrm>
              <a:custGeom>
                <a:avLst/>
                <a:gdLst/>
                <a:ahLst/>
                <a:rect l="l" t="t" r="r" b="b"/>
                <a:pathLst>
                  <a:path w="547" h="1427">
                    <a:moveTo>
                      <a:pt x="532" y="1427"/>
                    </a:moveTo>
                    <a:lnTo>
                      <a:pt x="547" y="1412"/>
                    </a:lnTo>
                    <a:lnTo>
                      <a:pt x="544" y="1368"/>
                    </a:lnTo>
                    <a:lnTo>
                      <a:pt x="542" y="1321"/>
                    </a:lnTo>
                    <a:lnTo>
                      <a:pt x="537" y="1274"/>
                    </a:lnTo>
                    <a:lnTo>
                      <a:pt x="533" y="1228"/>
                    </a:lnTo>
                    <a:lnTo>
                      <a:pt x="527" y="1180"/>
                    </a:lnTo>
                    <a:lnTo>
                      <a:pt x="521" y="1132"/>
                    </a:lnTo>
                    <a:lnTo>
                      <a:pt x="515" y="1084"/>
                    </a:lnTo>
                    <a:lnTo>
                      <a:pt x="506" y="1035"/>
                    </a:lnTo>
                    <a:lnTo>
                      <a:pt x="498" y="987"/>
                    </a:lnTo>
                    <a:lnTo>
                      <a:pt x="488" y="937"/>
                    </a:lnTo>
                    <a:lnTo>
                      <a:pt x="478" y="888"/>
                    </a:lnTo>
                    <a:lnTo>
                      <a:pt x="466" y="840"/>
                    </a:lnTo>
                    <a:lnTo>
                      <a:pt x="453" y="791"/>
                    </a:lnTo>
                    <a:lnTo>
                      <a:pt x="440" y="743"/>
                    </a:lnTo>
                    <a:lnTo>
                      <a:pt x="426" y="694"/>
                    </a:lnTo>
                    <a:lnTo>
                      <a:pt x="410" y="647"/>
                    </a:lnTo>
                    <a:lnTo>
                      <a:pt x="394" y="599"/>
                    </a:lnTo>
                    <a:lnTo>
                      <a:pt x="377" y="552"/>
                    </a:lnTo>
                    <a:lnTo>
                      <a:pt x="359" y="507"/>
                    </a:lnTo>
                    <a:lnTo>
                      <a:pt x="339" y="461"/>
                    </a:lnTo>
                    <a:lnTo>
                      <a:pt x="319" y="417"/>
                    </a:lnTo>
                    <a:lnTo>
                      <a:pt x="297" y="373"/>
                    </a:lnTo>
                    <a:lnTo>
                      <a:pt x="275" y="330"/>
                    </a:lnTo>
                    <a:lnTo>
                      <a:pt x="250" y="288"/>
                    </a:lnTo>
                    <a:lnTo>
                      <a:pt x="226" y="247"/>
                    </a:lnTo>
                    <a:lnTo>
                      <a:pt x="200" y="208"/>
                    </a:lnTo>
                    <a:lnTo>
                      <a:pt x="173" y="170"/>
                    </a:lnTo>
                    <a:lnTo>
                      <a:pt x="145" y="133"/>
                    </a:lnTo>
                    <a:lnTo>
                      <a:pt x="114" y="97"/>
                    </a:lnTo>
                    <a:lnTo>
                      <a:pt x="83" y="63"/>
                    </a:lnTo>
                    <a:lnTo>
                      <a:pt x="51" y="3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32" y="51"/>
                    </a:lnTo>
                    <a:lnTo>
                      <a:pt x="64" y="83"/>
                    </a:lnTo>
                    <a:lnTo>
                      <a:pt x="93" y="116"/>
                    </a:lnTo>
                    <a:lnTo>
                      <a:pt x="123" y="150"/>
                    </a:lnTo>
                    <a:lnTo>
                      <a:pt x="151" y="186"/>
                    </a:lnTo>
                    <a:lnTo>
                      <a:pt x="177" y="224"/>
                    </a:lnTo>
                    <a:lnTo>
                      <a:pt x="202" y="262"/>
                    </a:lnTo>
                    <a:lnTo>
                      <a:pt x="227" y="303"/>
                    </a:lnTo>
                    <a:lnTo>
                      <a:pt x="250" y="343"/>
                    </a:lnTo>
                    <a:lnTo>
                      <a:pt x="273" y="385"/>
                    </a:lnTo>
                    <a:lnTo>
                      <a:pt x="294" y="428"/>
                    </a:lnTo>
                    <a:lnTo>
                      <a:pt x="314" y="472"/>
                    </a:lnTo>
                    <a:lnTo>
                      <a:pt x="333" y="517"/>
                    </a:lnTo>
                    <a:lnTo>
                      <a:pt x="351" y="562"/>
                    </a:lnTo>
                    <a:lnTo>
                      <a:pt x="369" y="609"/>
                    </a:lnTo>
                    <a:lnTo>
                      <a:pt x="385" y="656"/>
                    </a:lnTo>
                    <a:lnTo>
                      <a:pt x="399" y="703"/>
                    </a:lnTo>
                    <a:lnTo>
                      <a:pt x="414" y="750"/>
                    </a:lnTo>
                    <a:lnTo>
                      <a:pt x="426" y="798"/>
                    </a:lnTo>
                    <a:lnTo>
                      <a:pt x="439" y="846"/>
                    </a:lnTo>
                    <a:lnTo>
                      <a:pt x="451" y="894"/>
                    </a:lnTo>
                    <a:lnTo>
                      <a:pt x="461" y="942"/>
                    </a:lnTo>
                    <a:lnTo>
                      <a:pt x="471" y="992"/>
                    </a:lnTo>
                    <a:lnTo>
                      <a:pt x="479" y="1040"/>
                    </a:lnTo>
                    <a:lnTo>
                      <a:pt x="487" y="1087"/>
                    </a:lnTo>
                    <a:lnTo>
                      <a:pt x="494" y="1135"/>
                    </a:lnTo>
                    <a:lnTo>
                      <a:pt x="500" y="1183"/>
                    </a:lnTo>
                    <a:lnTo>
                      <a:pt x="505" y="1230"/>
                    </a:lnTo>
                    <a:lnTo>
                      <a:pt x="510" y="1277"/>
                    </a:lnTo>
                    <a:lnTo>
                      <a:pt x="514" y="1324"/>
                    </a:lnTo>
                    <a:lnTo>
                      <a:pt x="516" y="1369"/>
                    </a:lnTo>
                    <a:lnTo>
                      <a:pt x="519" y="1413"/>
                    </a:lnTo>
                    <a:lnTo>
                      <a:pt x="533" y="1399"/>
                    </a:lnTo>
                    <a:lnTo>
                      <a:pt x="519" y="1413"/>
                    </a:lnTo>
                    <a:lnTo>
                      <a:pt x="520" y="1417"/>
                    </a:lnTo>
                    <a:lnTo>
                      <a:pt x="521" y="1420"/>
                    </a:lnTo>
                    <a:lnTo>
                      <a:pt x="522" y="1422"/>
                    </a:lnTo>
                    <a:lnTo>
                      <a:pt x="523" y="1425"/>
                    </a:lnTo>
                    <a:lnTo>
                      <a:pt x="528" y="1427"/>
                    </a:lnTo>
                    <a:lnTo>
                      <a:pt x="533" y="1427"/>
                    </a:lnTo>
                    <a:lnTo>
                      <a:pt x="538" y="1426"/>
                    </a:lnTo>
                    <a:lnTo>
                      <a:pt x="543" y="1423"/>
                    </a:lnTo>
                    <a:lnTo>
                      <a:pt x="546" y="1418"/>
                    </a:lnTo>
                    <a:lnTo>
                      <a:pt x="547" y="1412"/>
                    </a:lnTo>
                    <a:lnTo>
                      <a:pt x="532" y="1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653000" y="3769920"/>
                <a:ext cx="150840" cy="20520"/>
              </a:xfrm>
              <a:custGeom>
                <a:avLst/>
                <a:gdLst/>
                <a:ahLst/>
                <a:rect l="l" t="t" r="r" b="b"/>
                <a:pathLst>
                  <a:path w="404" h="53">
                    <a:moveTo>
                      <a:pt x="0" y="12"/>
                    </a:moveTo>
                    <a:lnTo>
                      <a:pt x="13" y="27"/>
                    </a:lnTo>
                    <a:lnTo>
                      <a:pt x="61" y="31"/>
                    </a:lnTo>
                    <a:lnTo>
                      <a:pt x="109" y="35"/>
                    </a:lnTo>
                    <a:lnTo>
                      <a:pt x="157" y="37"/>
                    </a:lnTo>
                    <a:lnTo>
                      <a:pt x="206" y="41"/>
                    </a:lnTo>
                    <a:lnTo>
                      <a:pt x="256" y="43"/>
                    </a:lnTo>
                    <a:lnTo>
                      <a:pt x="305" y="47"/>
                    </a:lnTo>
                    <a:lnTo>
                      <a:pt x="354" y="49"/>
                    </a:lnTo>
                    <a:lnTo>
                      <a:pt x="403" y="53"/>
                    </a:lnTo>
                    <a:lnTo>
                      <a:pt x="404" y="25"/>
                    </a:lnTo>
                    <a:lnTo>
                      <a:pt x="355" y="22"/>
                    </a:lnTo>
                    <a:lnTo>
                      <a:pt x="306" y="19"/>
                    </a:lnTo>
                    <a:lnTo>
                      <a:pt x="257" y="16"/>
                    </a:lnTo>
                    <a:lnTo>
                      <a:pt x="208" y="12"/>
                    </a:lnTo>
                    <a:lnTo>
                      <a:pt x="160" y="10"/>
                    </a:lnTo>
                    <a:lnTo>
                      <a:pt x="110" y="6"/>
                    </a:lnTo>
                    <a:lnTo>
                      <a:pt x="62" y="3"/>
                    </a:lnTo>
                    <a:lnTo>
                      <a:pt x="14" y="0"/>
                    </a:lnTo>
                    <a:lnTo>
                      <a:pt x="28" y="15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3" y="2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535640" y="3264120"/>
                <a:ext cx="132480" cy="511200"/>
              </a:xfrm>
              <a:custGeom>
                <a:avLst/>
                <a:gdLst/>
                <a:ahLst/>
                <a:rect l="l" t="t" r="r" b="b"/>
                <a:pathLst>
                  <a:path w="351" h="1348">
                    <a:moveTo>
                      <a:pt x="25" y="23"/>
                    </a:moveTo>
                    <a:lnTo>
                      <a:pt x="4" y="23"/>
                    </a:lnTo>
                    <a:lnTo>
                      <a:pt x="39" y="62"/>
                    </a:lnTo>
                    <a:lnTo>
                      <a:pt x="69" y="102"/>
                    </a:lnTo>
                    <a:lnTo>
                      <a:pt x="99" y="141"/>
                    </a:lnTo>
                    <a:lnTo>
                      <a:pt x="126" y="182"/>
                    </a:lnTo>
                    <a:lnTo>
                      <a:pt x="150" y="222"/>
                    </a:lnTo>
                    <a:lnTo>
                      <a:pt x="173" y="264"/>
                    </a:lnTo>
                    <a:lnTo>
                      <a:pt x="194" y="305"/>
                    </a:lnTo>
                    <a:lnTo>
                      <a:pt x="212" y="347"/>
                    </a:lnTo>
                    <a:lnTo>
                      <a:pt x="229" y="388"/>
                    </a:lnTo>
                    <a:lnTo>
                      <a:pt x="245" y="430"/>
                    </a:lnTo>
                    <a:lnTo>
                      <a:pt x="259" y="473"/>
                    </a:lnTo>
                    <a:lnTo>
                      <a:pt x="270" y="515"/>
                    </a:lnTo>
                    <a:lnTo>
                      <a:pt x="281" y="558"/>
                    </a:lnTo>
                    <a:lnTo>
                      <a:pt x="289" y="601"/>
                    </a:lnTo>
                    <a:lnTo>
                      <a:pt x="298" y="644"/>
                    </a:lnTo>
                    <a:lnTo>
                      <a:pt x="304" y="686"/>
                    </a:lnTo>
                    <a:lnTo>
                      <a:pt x="310" y="729"/>
                    </a:lnTo>
                    <a:lnTo>
                      <a:pt x="314" y="772"/>
                    </a:lnTo>
                    <a:lnTo>
                      <a:pt x="318" y="815"/>
                    </a:lnTo>
                    <a:lnTo>
                      <a:pt x="320" y="857"/>
                    </a:lnTo>
                    <a:lnTo>
                      <a:pt x="321" y="900"/>
                    </a:lnTo>
                    <a:lnTo>
                      <a:pt x="323" y="942"/>
                    </a:lnTo>
                    <a:lnTo>
                      <a:pt x="323" y="984"/>
                    </a:lnTo>
                    <a:lnTo>
                      <a:pt x="323" y="1026"/>
                    </a:lnTo>
                    <a:lnTo>
                      <a:pt x="320" y="1108"/>
                    </a:lnTo>
                    <a:lnTo>
                      <a:pt x="317" y="1189"/>
                    </a:lnTo>
                    <a:lnTo>
                      <a:pt x="312" y="1269"/>
                    </a:lnTo>
                    <a:lnTo>
                      <a:pt x="307" y="1345"/>
                    </a:lnTo>
                    <a:lnTo>
                      <a:pt x="335" y="1348"/>
                    </a:lnTo>
                    <a:lnTo>
                      <a:pt x="340" y="1270"/>
                    </a:lnTo>
                    <a:lnTo>
                      <a:pt x="344" y="1190"/>
                    </a:lnTo>
                    <a:lnTo>
                      <a:pt x="347" y="1109"/>
                    </a:lnTo>
                    <a:lnTo>
                      <a:pt x="350" y="1026"/>
                    </a:lnTo>
                    <a:lnTo>
                      <a:pt x="351" y="984"/>
                    </a:lnTo>
                    <a:lnTo>
                      <a:pt x="350" y="942"/>
                    </a:lnTo>
                    <a:lnTo>
                      <a:pt x="350" y="899"/>
                    </a:lnTo>
                    <a:lnTo>
                      <a:pt x="347" y="856"/>
                    </a:lnTo>
                    <a:lnTo>
                      <a:pt x="345" y="813"/>
                    </a:lnTo>
                    <a:lnTo>
                      <a:pt x="342" y="770"/>
                    </a:lnTo>
                    <a:lnTo>
                      <a:pt x="337" y="727"/>
                    </a:lnTo>
                    <a:lnTo>
                      <a:pt x="333" y="682"/>
                    </a:lnTo>
                    <a:lnTo>
                      <a:pt x="325" y="639"/>
                    </a:lnTo>
                    <a:lnTo>
                      <a:pt x="318" y="595"/>
                    </a:lnTo>
                    <a:lnTo>
                      <a:pt x="308" y="552"/>
                    </a:lnTo>
                    <a:lnTo>
                      <a:pt x="297" y="509"/>
                    </a:lnTo>
                    <a:lnTo>
                      <a:pt x="285" y="465"/>
                    </a:lnTo>
                    <a:lnTo>
                      <a:pt x="271" y="422"/>
                    </a:lnTo>
                    <a:lnTo>
                      <a:pt x="255" y="379"/>
                    </a:lnTo>
                    <a:lnTo>
                      <a:pt x="238" y="336"/>
                    </a:lnTo>
                    <a:lnTo>
                      <a:pt x="219" y="294"/>
                    </a:lnTo>
                    <a:lnTo>
                      <a:pt x="197" y="251"/>
                    </a:lnTo>
                    <a:lnTo>
                      <a:pt x="174" y="209"/>
                    </a:lnTo>
                    <a:lnTo>
                      <a:pt x="149" y="167"/>
                    </a:lnTo>
                    <a:lnTo>
                      <a:pt x="121" y="125"/>
                    </a:lnTo>
                    <a:lnTo>
                      <a:pt x="91" y="85"/>
                    </a:lnTo>
                    <a:lnTo>
                      <a:pt x="59" y="44"/>
                    </a:lnTo>
                    <a:lnTo>
                      <a:pt x="25" y="5"/>
                    </a:lnTo>
                    <a:lnTo>
                      <a:pt x="4" y="6"/>
                    </a:lnTo>
                    <a:lnTo>
                      <a:pt x="25" y="5"/>
                    </a:lnTo>
                    <a:lnTo>
                      <a:pt x="20" y="1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5" y="3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342320" y="3264120"/>
                <a:ext cx="202320" cy="54720"/>
              </a:xfrm>
              <a:custGeom>
                <a:avLst/>
                <a:gdLst/>
                <a:ahLst/>
                <a:rect l="l" t="t" r="r" b="b"/>
                <a:pathLst>
                  <a:path w="535" h="141">
                    <a:moveTo>
                      <a:pt x="23" y="24"/>
                    </a:moveTo>
                    <a:lnTo>
                      <a:pt x="2" y="22"/>
                    </a:lnTo>
                    <a:lnTo>
                      <a:pt x="15" y="37"/>
                    </a:lnTo>
                    <a:lnTo>
                      <a:pt x="27" y="50"/>
                    </a:lnTo>
                    <a:lnTo>
                      <a:pt x="41" y="64"/>
                    </a:lnTo>
                    <a:lnTo>
                      <a:pt x="55" y="75"/>
                    </a:lnTo>
                    <a:lnTo>
                      <a:pt x="70" y="86"/>
                    </a:lnTo>
                    <a:lnTo>
                      <a:pt x="86" y="96"/>
                    </a:lnTo>
                    <a:lnTo>
                      <a:pt x="102" y="104"/>
                    </a:lnTo>
                    <a:lnTo>
                      <a:pt x="119" y="112"/>
                    </a:lnTo>
                    <a:lnTo>
                      <a:pt x="137" y="119"/>
                    </a:lnTo>
                    <a:lnTo>
                      <a:pt x="155" y="125"/>
                    </a:lnTo>
                    <a:lnTo>
                      <a:pt x="173" y="130"/>
                    </a:lnTo>
                    <a:lnTo>
                      <a:pt x="192" y="134"/>
                    </a:lnTo>
                    <a:lnTo>
                      <a:pt x="210" y="138"/>
                    </a:lnTo>
                    <a:lnTo>
                      <a:pt x="229" y="140"/>
                    </a:lnTo>
                    <a:lnTo>
                      <a:pt x="248" y="141"/>
                    </a:lnTo>
                    <a:lnTo>
                      <a:pt x="267" y="141"/>
                    </a:lnTo>
                    <a:lnTo>
                      <a:pt x="287" y="140"/>
                    </a:lnTo>
                    <a:lnTo>
                      <a:pt x="305" y="139"/>
                    </a:lnTo>
                    <a:lnTo>
                      <a:pt x="325" y="136"/>
                    </a:lnTo>
                    <a:lnTo>
                      <a:pt x="343" y="134"/>
                    </a:lnTo>
                    <a:lnTo>
                      <a:pt x="362" y="129"/>
                    </a:lnTo>
                    <a:lnTo>
                      <a:pt x="380" y="124"/>
                    </a:lnTo>
                    <a:lnTo>
                      <a:pt x="399" y="118"/>
                    </a:lnTo>
                    <a:lnTo>
                      <a:pt x="416" y="110"/>
                    </a:lnTo>
                    <a:lnTo>
                      <a:pt x="433" y="103"/>
                    </a:lnTo>
                    <a:lnTo>
                      <a:pt x="450" y="94"/>
                    </a:lnTo>
                    <a:lnTo>
                      <a:pt x="466" y="85"/>
                    </a:lnTo>
                    <a:lnTo>
                      <a:pt x="481" y="74"/>
                    </a:lnTo>
                    <a:lnTo>
                      <a:pt x="496" y="62"/>
                    </a:lnTo>
                    <a:lnTo>
                      <a:pt x="510" y="50"/>
                    </a:lnTo>
                    <a:lnTo>
                      <a:pt x="523" y="37"/>
                    </a:lnTo>
                    <a:lnTo>
                      <a:pt x="535" y="23"/>
                    </a:lnTo>
                    <a:lnTo>
                      <a:pt x="514" y="6"/>
                    </a:lnTo>
                    <a:lnTo>
                      <a:pt x="503" y="18"/>
                    </a:lnTo>
                    <a:lnTo>
                      <a:pt x="491" y="31"/>
                    </a:lnTo>
                    <a:lnTo>
                      <a:pt x="478" y="42"/>
                    </a:lnTo>
                    <a:lnTo>
                      <a:pt x="465" y="51"/>
                    </a:lnTo>
                    <a:lnTo>
                      <a:pt x="451" y="61"/>
                    </a:lnTo>
                    <a:lnTo>
                      <a:pt x="437" y="70"/>
                    </a:lnTo>
                    <a:lnTo>
                      <a:pt x="421" y="78"/>
                    </a:lnTo>
                    <a:lnTo>
                      <a:pt x="405" y="86"/>
                    </a:lnTo>
                    <a:lnTo>
                      <a:pt x="389" y="92"/>
                    </a:lnTo>
                    <a:lnTo>
                      <a:pt x="373" y="97"/>
                    </a:lnTo>
                    <a:lnTo>
                      <a:pt x="355" y="102"/>
                    </a:lnTo>
                    <a:lnTo>
                      <a:pt x="338" y="106"/>
                    </a:lnTo>
                    <a:lnTo>
                      <a:pt x="321" y="109"/>
                    </a:lnTo>
                    <a:lnTo>
                      <a:pt x="303" y="112"/>
                    </a:lnTo>
                    <a:lnTo>
                      <a:pt x="285" y="113"/>
                    </a:lnTo>
                    <a:lnTo>
                      <a:pt x="267" y="113"/>
                    </a:lnTo>
                    <a:lnTo>
                      <a:pt x="250" y="113"/>
                    </a:lnTo>
                    <a:lnTo>
                      <a:pt x="231" y="112"/>
                    </a:lnTo>
                    <a:lnTo>
                      <a:pt x="214" y="109"/>
                    </a:lnTo>
                    <a:lnTo>
                      <a:pt x="197" y="107"/>
                    </a:lnTo>
                    <a:lnTo>
                      <a:pt x="180" y="103"/>
                    </a:lnTo>
                    <a:lnTo>
                      <a:pt x="162" y="98"/>
                    </a:lnTo>
                    <a:lnTo>
                      <a:pt x="146" y="93"/>
                    </a:lnTo>
                    <a:lnTo>
                      <a:pt x="130" y="87"/>
                    </a:lnTo>
                    <a:lnTo>
                      <a:pt x="114" y="80"/>
                    </a:lnTo>
                    <a:lnTo>
                      <a:pt x="100" y="71"/>
                    </a:lnTo>
                    <a:lnTo>
                      <a:pt x="86" y="62"/>
                    </a:lnTo>
                    <a:lnTo>
                      <a:pt x="71" y="53"/>
                    </a:lnTo>
                    <a:lnTo>
                      <a:pt x="59" y="43"/>
                    </a:lnTo>
                    <a:lnTo>
                      <a:pt x="47" y="31"/>
                    </a:lnTo>
                    <a:lnTo>
                      <a:pt x="36" y="18"/>
                    </a:lnTo>
                    <a:lnTo>
                      <a:pt x="25" y="6"/>
                    </a:lnTo>
                    <a:lnTo>
                      <a:pt x="4" y="5"/>
                    </a:lnTo>
                    <a:lnTo>
                      <a:pt x="25" y="6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0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255920" y="3266280"/>
                <a:ext cx="95760" cy="450000"/>
              </a:xfrm>
              <a:custGeom>
                <a:avLst/>
                <a:gdLst/>
                <a:ahLst/>
                <a:rect l="l" t="t" r="r" b="b"/>
                <a:pathLst>
                  <a:path w="255" h="1187">
                    <a:moveTo>
                      <a:pt x="13" y="1187"/>
                    </a:moveTo>
                    <a:lnTo>
                      <a:pt x="24" y="1180"/>
                    </a:lnTo>
                    <a:lnTo>
                      <a:pt x="36" y="1164"/>
                    </a:lnTo>
                    <a:lnTo>
                      <a:pt x="48" y="1147"/>
                    </a:lnTo>
                    <a:lnTo>
                      <a:pt x="59" y="1130"/>
                    </a:lnTo>
                    <a:lnTo>
                      <a:pt x="67" y="1113"/>
                    </a:lnTo>
                    <a:lnTo>
                      <a:pt x="76" y="1096"/>
                    </a:lnTo>
                    <a:lnTo>
                      <a:pt x="84" y="1078"/>
                    </a:lnTo>
                    <a:lnTo>
                      <a:pt x="91" y="1061"/>
                    </a:lnTo>
                    <a:lnTo>
                      <a:pt x="97" y="1044"/>
                    </a:lnTo>
                    <a:lnTo>
                      <a:pt x="103" y="1026"/>
                    </a:lnTo>
                    <a:lnTo>
                      <a:pt x="108" y="1007"/>
                    </a:lnTo>
                    <a:lnTo>
                      <a:pt x="111" y="990"/>
                    </a:lnTo>
                    <a:lnTo>
                      <a:pt x="115" y="971"/>
                    </a:lnTo>
                    <a:lnTo>
                      <a:pt x="120" y="934"/>
                    </a:lnTo>
                    <a:lnTo>
                      <a:pt x="124" y="898"/>
                    </a:lnTo>
                    <a:lnTo>
                      <a:pt x="125" y="861"/>
                    </a:lnTo>
                    <a:lnTo>
                      <a:pt x="125" y="824"/>
                    </a:lnTo>
                    <a:lnTo>
                      <a:pt x="123" y="786"/>
                    </a:lnTo>
                    <a:lnTo>
                      <a:pt x="120" y="749"/>
                    </a:lnTo>
                    <a:lnTo>
                      <a:pt x="114" y="672"/>
                    </a:lnTo>
                    <a:lnTo>
                      <a:pt x="107" y="597"/>
                    </a:lnTo>
                    <a:lnTo>
                      <a:pt x="103" y="559"/>
                    </a:lnTo>
                    <a:lnTo>
                      <a:pt x="99" y="521"/>
                    </a:lnTo>
                    <a:lnTo>
                      <a:pt x="97" y="483"/>
                    </a:lnTo>
                    <a:lnTo>
                      <a:pt x="97" y="446"/>
                    </a:lnTo>
                    <a:lnTo>
                      <a:pt x="97" y="408"/>
                    </a:lnTo>
                    <a:lnTo>
                      <a:pt x="98" y="371"/>
                    </a:lnTo>
                    <a:lnTo>
                      <a:pt x="102" y="334"/>
                    </a:lnTo>
                    <a:lnTo>
                      <a:pt x="108" y="297"/>
                    </a:lnTo>
                    <a:lnTo>
                      <a:pt x="110" y="280"/>
                    </a:lnTo>
                    <a:lnTo>
                      <a:pt x="115" y="262"/>
                    </a:lnTo>
                    <a:lnTo>
                      <a:pt x="120" y="243"/>
                    </a:lnTo>
                    <a:lnTo>
                      <a:pt x="125" y="226"/>
                    </a:lnTo>
                    <a:lnTo>
                      <a:pt x="131" y="208"/>
                    </a:lnTo>
                    <a:lnTo>
                      <a:pt x="139" y="190"/>
                    </a:lnTo>
                    <a:lnTo>
                      <a:pt x="146" y="173"/>
                    </a:lnTo>
                    <a:lnTo>
                      <a:pt x="155" y="155"/>
                    </a:lnTo>
                    <a:lnTo>
                      <a:pt x="164" y="137"/>
                    </a:lnTo>
                    <a:lnTo>
                      <a:pt x="174" y="120"/>
                    </a:lnTo>
                    <a:lnTo>
                      <a:pt x="185" y="103"/>
                    </a:lnTo>
                    <a:lnTo>
                      <a:pt x="198" y="86"/>
                    </a:lnTo>
                    <a:lnTo>
                      <a:pt x="210" y="70"/>
                    </a:lnTo>
                    <a:lnTo>
                      <a:pt x="225" y="53"/>
                    </a:lnTo>
                    <a:lnTo>
                      <a:pt x="239" y="35"/>
                    </a:lnTo>
                    <a:lnTo>
                      <a:pt x="255" y="19"/>
                    </a:lnTo>
                    <a:lnTo>
                      <a:pt x="236" y="0"/>
                    </a:lnTo>
                    <a:lnTo>
                      <a:pt x="219" y="17"/>
                    </a:lnTo>
                    <a:lnTo>
                      <a:pt x="204" y="34"/>
                    </a:lnTo>
                    <a:lnTo>
                      <a:pt x="189" y="51"/>
                    </a:lnTo>
                    <a:lnTo>
                      <a:pt x="175" y="70"/>
                    </a:lnTo>
                    <a:lnTo>
                      <a:pt x="162" y="88"/>
                    </a:lnTo>
                    <a:lnTo>
                      <a:pt x="151" y="105"/>
                    </a:lnTo>
                    <a:lnTo>
                      <a:pt x="140" y="124"/>
                    </a:lnTo>
                    <a:lnTo>
                      <a:pt x="130" y="142"/>
                    </a:lnTo>
                    <a:lnTo>
                      <a:pt x="121" y="161"/>
                    </a:lnTo>
                    <a:lnTo>
                      <a:pt x="113" y="179"/>
                    </a:lnTo>
                    <a:lnTo>
                      <a:pt x="105" y="199"/>
                    </a:lnTo>
                    <a:lnTo>
                      <a:pt x="99" y="217"/>
                    </a:lnTo>
                    <a:lnTo>
                      <a:pt x="93" y="236"/>
                    </a:lnTo>
                    <a:lnTo>
                      <a:pt x="88" y="256"/>
                    </a:lnTo>
                    <a:lnTo>
                      <a:pt x="83" y="274"/>
                    </a:lnTo>
                    <a:lnTo>
                      <a:pt x="80" y="294"/>
                    </a:lnTo>
                    <a:lnTo>
                      <a:pt x="75" y="332"/>
                    </a:lnTo>
                    <a:lnTo>
                      <a:pt x="71" y="370"/>
                    </a:lnTo>
                    <a:lnTo>
                      <a:pt x="68" y="408"/>
                    </a:lnTo>
                    <a:lnTo>
                      <a:pt x="68" y="446"/>
                    </a:lnTo>
                    <a:lnTo>
                      <a:pt x="70" y="484"/>
                    </a:lnTo>
                    <a:lnTo>
                      <a:pt x="72" y="524"/>
                    </a:lnTo>
                    <a:lnTo>
                      <a:pt x="75" y="562"/>
                    </a:lnTo>
                    <a:lnTo>
                      <a:pt x="78" y="600"/>
                    </a:lnTo>
                    <a:lnTo>
                      <a:pt x="86" y="676"/>
                    </a:lnTo>
                    <a:lnTo>
                      <a:pt x="93" y="751"/>
                    </a:lnTo>
                    <a:lnTo>
                      <a:pt x="96" y="788"/>
                    </a:lnTo>
                    <a:lnTo>
                      <a:pt x="97" y="824"/>
                    </a:lnTo>
                    <a:lnTo>
                      <a:pt x="97" y="861"/>
                    </a:lnTo>
                    <a:lnTo>
                      <a:pt x="96" y="896"/>
                    </a:lnTo>
                    <a:lnTo>
                      <a:pt x="93" y="932"/>
                    </a:lnTo>
                    <a:lnTo>
                      <a:pt x="88" y="966"/>
                    </a:lnTo>
                    <a:lnTo>
                      <a:pt x="84" y="984"/>
                    </a:lnTo>
                    <a:lnTo>
                      <a:pt x="81" y="1001"/>
                    </a:lnTo>
                    <a:lnTo>
                      <a:pt x="76" y="1018"/>
                    </a:lnTo>
                    <a:lnTo>
                      <a:pt x="71" y="1034"/>
                    </a:lnTo>
                    <a:lnTo>
                      <a:pt x="65" y="1051"/>
                    </a:lnTo>
                    <a:lnTo>
                      <a:pt x="59" y="1067"/>
                    </a:lnTo>
                    <a:lnTo>
                      <a:pt x="51" y="1085"/>
                    </a:lnTo>
                    <a:lnTo>
                      <a:pt x="43" y="1101"/>
                    </a:lnTo>
                    <a:lnTo>
                      <a:pt x="34" y="1117"/>
                    </a:lnTo>
                    <a:lnTo>
                      <a:pt x="24" y="1133"/>
                    </a:lnTo>
                    <a:lnTo>
                      <a:pt x="14" y="1149"/>
                    </a:lnTo>
                    <a:lnTo>
                      <a:pt x="2" y="1163"/>
                    </a:lnTo>
                    <a:lnTo>
                      <a:pt x="13" y="1158"/>
                    </a:lnTo>
                    <a:lnTo>
                      <a:pt x="2" y="1163"/>
                    </a:lnTo>
                    <a:lnTo>
                      <a:pt x="1" y="1167"/>
                    </a:lnTo>
                    <a:lnTo>
                      <a:pt x="0" y="1169"/>
                    </a:lnTo>
                    <a:lnTo>
                      <a:pt x="0" y="1172"/>
                    </a:lnTo>
                    <a:lnTo>
                      <a:pt x="0" y="1174"/>
                    </a:lnTo>
                    <a:lnTo>
                      <a:pt x="2" y="1179"/>
                    </a:lnTo>
                    <a:lnTo>
                      <a:pt x="4" y="1183"/>
                    </a:lnTo>
                    <a:lnTo>
                      <a:pt x="9" y="1185"/>
                    </a:lnTo>
                    <a:lnTo>
                      <a:pt x="14" y="1187"/>
                    </a:lnTo>
                    <a:lnTo>
                      <a:pt x="17" y="1185"/>
                    </a:lnTo>
                    <a:lnTo>
                      <a:pt x="20" y="1184"/>
                    </a:lnTo>
                    <a:lnTo>
                      <a:pt x="22" y="1183"/>
                    </a:lnTo>
                    <a:lnTo>
                      <a:pt x="24" y="1180"/>
                    </a:lnTo>
                    <a:lnTo>
                      <a:pt x="13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94840" y="3542760"/>
                <a:ext cx="3706200" cy="478440"/>
              </a:xfrm>
              <a:custGeom>
                <a:avLst/>
                <a:gdLst/>
                <a:ahLst/>
                <a:rect l="l" t="t" r="r" b="b"/>
                <a:pathLst>
                  <a:path w="9795" h="1266">
                    <a:moveTo>
                      <a:pt x="7167" y="618"/>
                    </a:moveTo>
                    <a:lnTo>
                      <a:pt x="7167" y="642"/>
                    </a:lnTo>
                    <a:lnTo>
                      <a:pt x="7166" y="666"/>
                    </a:lnTo>
                    <a:lnTo>
                      <a:pt x="7164" y="688"/>
                    </a:lnTo>
                    <a:lnTo>
                      <a:pt x="7160" y="709"/>
                    </a:lnTo>
                    <a:lnTo>
                      <a:pt x="7156" y="728"/>
                    </a:lnTo>
                    <a:lnTo>
                      <a:pt x="7150" y="748"/>
                    </a:lnTo>
                    <a:lnTo>
                      <a:pt x="7144" y="765"/>
                    </a:lnTo>
                    <a:lnTo>
                      <a:pt x="7138" y="782"/>
                    </a:lnTo>
                    <a:lnTo>
                      <a:pt x="7131" y="798"/>
                    </a:lnTo>
                    <a:lnTo>
                      <a:pt x="7122" y="813"/>
                    </a:lnTo>
                    <a:lnTo>
                      <a:pt x="7112" y="827"/>
                    </a:lnTo>
                    <a:lnTo>
                      <a:pt x="7102" y="840"/>
                    </a:lnTo>
                    <a:lnTo>
                      <a:pt x="7091" y="852"/>
                    </a:lnTo>
                    <a:lnTo>
                      <a:pt x="7080" y="864"/>
                    </a:lnTo>
                    <a:lnTo>
                      <a:pt x="7068" y="873"/>
                    </a:lnTo>
                    <a:lnTo>
                      <a:pt x="7054" y="883"/>
                    </a:lnTo>
                    <a:lnTo>
                      <a:pt x="7041" y="892"/>
                    </a:lnTo>
                    <a:lnTo>
                      <a:pt x="7026" y="899"/>
                    </a:lnTo>
                    <a:lnTo>
                      <a:pt x="7011" y="907"/>
                    </a:lnTo>
                    <a:lnTo>
                      <a:pt x="6995" y="914"/>
                    </a:lnTo>
                    <a:lnTo>
                      <a:pt x="6979" y="919"/>
                    </a:lnTo>
                    <a:lnTo>
                      <a:pt x="6963" y="925"/>
                    </a:lnTo>
                    <a:lnTo>
                      <a:pt x="6946" y="929"/>
                    </a:lnTo>
                    <a:lnTo>
                      <a:pt x="6928" y="934"/>
                    </a:lnTo>
                    <a:lnTo>
                      <a:pt x="6891" y="940"/>
                    </a:lnTo>
                    <a:lnTo>
                      <a:pt x="6851" y="943"/>
                    </a:lnTo>
                    <a:lnTo>
                      <a:pt x="6811" y="946"/>
                    </a:lnTo>
                    <a:lnTo>
                      <a:pt x="6769" y="947"/>
                    </a:lnTo>
                    <a:lnTo>
                      <a:pt x="6790" y="597"/>
                    </a:lnTo>
                    <a:lnTo>
                      <a:pt x="7167" y="618"/>
                    </a:lnTo>
                    <a:close/>
                    <a:moveTo>
                      <a:pt x="5431" y="455"/>
                    </a:moveTo>
                    <a:lnTo>
                      <a:pt x="5427" y="502"/>
                    </a:lnTo>
                    <a:lnTo>
                      <a:pt x="5425" y="545"/>
                    </a:lnTo>
                    <a:lnTo>
                      <a:pt x="5426" y="586"/>
                    </a:lnTo>
                    <a:lnTo>
                      <a:pt x="5428" y="622"/>
                    </a:lnTo>
                    <a:lnTo>
                      <a:pt x="5432" y="657"/>
                    </a:lnTo>
                    <a:lnTo>
                      <a:pt x="5438" y="688"/>
                    </a:lnTo>
                    <a:lnTo>
                      <a:pt x="5446" y="715"/>
                    </a:lnTo>
                    <a:lnTo>
                      <a:pt x="5454" y="738"/>
                    </a:lnTo>
                    <a:lnTo>
                      <a:pt x="5465" y="759"/>
                    </a:lnTo>
                    <a:lnTo>
                      <a:pt x="5476" y="776"/>
                    </a:lnTo>
                    <a:lnTo>
                      <a:pt x="5490" y="791"/>
                    </a:lnTo>
                    <a:lnTo>
                      <a:pt x="5503" y="802"/>
                    </a:lnTo>
                    <a:lnTo>
                      <a:pt x="5517" y="811"/>
                    </a:lnTo>
                    <a:lnTo>
                      <a:pt x="5532" y="816"/>
                    </a:lnTo>
                    <a:lnTo>
                      <a:pt x="5548" y="817"/>
                    </a:lnTo>
                    <a:lnTo>
                      <a:pt x="5562" y="816"/>
                    </a:lnTo>
                    <a:lnTo>
                      <a:pt x="5578" y="812"/>
                    </a:lnTo>
                    <a:lnTo>
                      <a:pt x="5594" y="804"/>
                    </a:lnTo>
                    <a:lnTo>
                      <a:pt x="5610" y="793"/>
                    </a:lnTo>
                    <a:lnTo>
                      <a:pt x="5625" y="781"/>
                    </a:lnTo>
                    <a:lnTo>
                      <a:pt x="5640" y="764"/>
                    </a:lnTo>
                    <a:lnTo>
                      <a:pt x="5655" y="745"/>
                    </a:lnTo>
                    <a:lnTo>
                      <a:pt x="5668" y="723"/>
                    </a:lnTo>
                    <a:lnTo>
                      <a:pt x="5682" y="699"/>
                    </a:lnTo>
                    <a:lnTo>
                      <a:pt x="5694" y="670"/>
                    </a:lnTo>
                    <a:lnTo>
                      <a:pt x="5705" y="640"/>
                    </a:lnTo>
                    <a:lnTo>
                      <a:pt x="5714" y="606"/>
                    </a:lnTo>
                    <a:lnTo>
                      <a:pt x="5722" y="570"/>
                    </a:lnTo>
                    <a:lnTo>
                      <a:pt x="5728" y="530"/>
                    </a:lnTo>
                    <a:lnTo>
                      <a:pt x="5733" y="488"/>
                    </a:lnTo>
                    <a:lnTo>
                      <a:pt x="5737" y="444"/>
                    </a:lnTo>
                    <a:lnTo>
                      <a:pt x="5738" y="396"/>
                    </a:lnTo>
                    <a:lnTo>
                      <a:pt x="5431" y="455"/>
                    </a:lnTo>
                    <a:close/>
                    <a:moveTo>
                      <a:pt x="4301" y="479"/>
                    </a:moveTo>
                    <a:lnTo>
                      <a:pt x="4302" y="525"/>
                    </a:lnTo>
                    <a:lnTo>
                      <a:pt x="4304" y="567"/>
                    </a:lnTo>
                    <a:lnTo>
                      <a:pt x="4307" y="586"/>
                    </a:lnTo>
                    <a:lnTo>
                      <a:pt x="4309" y="603"/>
                    </a:lnTo>
                    <a:lnTo>
                      <a:pt x="4313" y="620"/>
                    </a:lnTo>
                    <a:lnTo>
                      <a:pt x="4317" y="635"/>
                    </a:lnTo>
                    <a:lnTo>
                      <a:pt x="4320" y="648"/>
                    </a:lnTo>
                    <a:lnTo>
                      <a:pt x="4325" y="661"/>
                    </a:lnTo>
                    <a:lnTo>
                      <a:pt x="4331" y="673"/>
                    </a:lnTo>
                    <a:lnTo>
                      <a:pt x="4337" y="683"/>
                    </a:lnTo>
                    <a:lnTo>
                      <a:pt x="4344" y="693"/>
                    </a:lnTo>
                    <a:lnTo>
                      <a:pt x="4351" y="701"/>
                    </a:lnTo>
                    <a:lnTo>
                      <a:pt x="4360" y="709"/>
                    </a:lnTo>
                    <a:lnTo>
                      <a:pt x="4368" y="716"/>
                    </a:lnTo>
                    <a:lnTo>
                      <a:pt x="4377" y="722"/>
                    </a:lnTo>
                    <a:lnTo>
                      <a:pt x="4387" y="727"/>
                    </a:lnTo>
                    <a:lnTo>
                      <a:pt x="4398" y="732"/>
                    </a:lnTo>
                    <a:lnTo>
                      <a:pt x="4409" y="736"/>
                    </a:lnTo>
                    <a:lnTo>
                      <a:pt x="4421" y="739"/>
                    </a:lnTo>
                    <a:lnTo>
                      <a:pt x="4435" y="743"/>
                    </a:lnTo>
                    <a:lnTo>
                      <a:pt x="4448" y="745"/>
                    </a:lnTo>
                    <a:lnTo>
                      <a:pt x="4463" y="747"/>
                    </a:lnTo>
                    <a:lnTo>
                      <a:pt x="4494" y="749"/>
                    </a:lnTo>
                    <a:lnTo>
                      <a:pt x="4528" y="752"/>
                    </a:lnTo>
                    <a:lnTo>
                      <a:pt x="4566" y="752"/>
                    </a:lnTo>
                    <a:lnTo>
                      <a:pt x="4607" y="752"/>
                    </a:lnTo>
                    <a:lnTo>
                      <a:pt x="4623" y="750"/>
                    </a:lnTo>
                    <a:lnTo>
                      <a:pt x="4638" y="748"/>
                    </a:lnTo>
                    <a:lnTo>
                      <a:pt x="4651" y="744"/>
                    </a:lnTo>
                    <a:lnTo>
                      <a:pt x="4665" y="741"/>
                    </a:lnTo>
                    <a:lnTo>
                      <a:pt x="4677" y="736"/>
                    </a:lnTo>
                    <a:lnTo>
                      <a:pt x="4689" y="729"/>
                    </a:lnTo>
                    <a:lnTo>
                      <a:pt x="4700" y="723"/>
                    </a:lnTo>
                    <a:lnTo>
                      <a:pt x="4710" y="716"/>
                    </a:lnTo>
                    <a:lnTo>
                      <a:pt x="4720" y="709"/>
                    </a:lnTo>
                    <a:lnTo>
                      <a:pt x="4729" y="700"/>
                    </a:lnTo>
                    <a:lnTo>
                      <a:pt x="4736" y="691"/>
                    </a:lnTo>
                    <a:lnTo>
                      <a:pt x="4742" y="683"/>
                    </a:lnTo>
                    <a:lnTo>
                      <a:pt x="4747" y="674"/>
                    </a:lnTo>
                    <a:lnTo>
                      <a:pt x="4752" y="664"/>
                    </a:lnTo>
                    <a:lnTo>
                      <a:pt x="4756" y="654"/>
                    </a:lnTo>
                    <a:lnTo>
                      <a:pt x="4758" y="645"/>
                    </a:lnTo>
                    <a:lnTo>
                      <a:pt x="4759" y="635"/>
                    </a:lnTo>
                    <a:lnTo>
                      <a:pt x="4759" y="625"/>
                    </a:lnTo>
                    <a:lnTo>
                      <a:pt x="4758" y="615"/>
                    </a:lnTo>
                    <a:lnTo>
                      <a:pt x="4756" y="605"/>
                    </a:lnTo>
                    <a:lnTo>
                      <a:pt x="4752" y="595"/>
                    </a:lnTo>
                    <a:lnTo>
                      <a:pt x="4747" y="586"/>
                    </a:lnTo>
                    <a:lnTo>
                      <a:pt x="4741" y="577"/>
                    </a:lnTo>
                    <a:lnTo>
                      <a:pt x="4733" y="568"/>
                    </a:lnTo>
                    <a:lnTo>
                      <a:pt x="4725" y="560"/>
                    </a:lnTo>
                    <a:lnTo>
                      <a:pt x="4714" y="552"/>
                    </a:lnTo>
                    <a:lnTo>
                      <a:pt x="4703" y="545"/>
                    </a:lnTo>
                    <a:lnTo>
                      <a:pt x="4689" y="539"/>
                    </a:lnTo>
                    <a:lnTo>
                      <a:pt x="4674" y="533"/>
                    </a:lnTo>
                    <a:lnTo>
                      <a:pt x="4658" y="528"/>
                    </a:lnTo>
                    <a:lnTo>
                      <a:pt x="4640" y="523"/>
                    </a:lnTo>
                    <a:lnTo>
                      <a:pt x="4622" y="519"/>
                    </a:lnTo>
                    <a:lnTo>
                      <a:pt x="4599" y="520"/>
                    </a:lnTo>
                    <a:lnTo>
                      <a:pt x="4579" y="519"/>
                    </a:lnTo>
                    <a:lnTo>
                      <a:pt x="4558" y="518"/>
                    </a:lnTo>
                    <a:lnTo>
                      <a:pt x="4538" y="515"/>
                    </a:lnTo>
                    <a:lnTo>
                      <a:pt x="4499" y="508"/>
                    </a:lnTo>
                    <a:lnTo>
                      <a:pt x="4460" y="498"/>
                    </a:lnTo>
                    <a:lnTo>
                      <a:pt x="4422" y="490"/>
                    </a:lnTo>
                    <a:lnTo>
                      <a:pt x="4383" y="482"/>
                    </a:lnTo>
                    <a:lnTo>
                      <a:pt x="4363" y="480"/>
                    </a:lnTo>
                    <a:lnTo>
                      <a:pt x="4344" y="479"/>
                    </a:lnTo>
                    <a:lnTo>
                      <a:pt x="4323" y="477"/>
                    </a:lnTo>
                    <a:lnTo>
                      <a:pt x="4301" y="479"/>
                    </a:lnTo>
                    <a:close/>
                    <a:moveTo>
                      <a:pt x="2924" y="731"/>
                    </a:moveTo>
                    <a:lnTo>
                      <a:pt x="3142" y="789"/>
                    </a:lnTo>
                    <a:lnTo>
                      <a:pt x="3142" y="1019"/>
                    </a:lnTo>
                    <a:lnTo>
                      <a:pt x="3133" y="1020"/>
                    </a:lnTo>
                    <a:lnTo>
                      <a:pt x="3121" y="1022"/>
                    </a:lnTo>
                    <a:lnTo>
                      <a:pt x="3109" y="1026"/>
                    </a:lnTo>
                    <a:lnTo>
                      <a:pt x="3096" y="1032"/>
                    </a:lnTo>
                    <a:lnTo>
                      <a:pt x="3084" y="1038"/>
                    </a:lnTo>
                    <a:lnTo>
                      <a:pt x="3074" y="1044"/>
                    </a:lnTo>
                    <a:lnTo>
                      <a:pt x="3071" y="1048"/>
                    </a:lnTo>
                    <a:lnTo>
                      <a:pt x="3068" y="1052"/>
                    </a:lnTo>
                    <a:lnTo>
                      <a:pt x="3066" y="1055"/>
                    </a:lnTo>
                    <a:lnTo>
                      <a:pt x="3066" y="1058"/>
                    </a:lnTo>
                    <a:lnTo>
                      <a:pt x="3053" y="1066"/>
                    </a:lnTo>
                    <a:lnTo>
                      <a:pt x="3042" y="1074"/>
                    </a:lnTo>
                    <a:lnTo>
                      <a:pt x="3030" y="1080"/>
                    </a:lnTo>
                    <a:lnTo>
                      <a:pt x="3018" y="1085"/>
                    </a:lnTo>
                    <a:lnTo>
                      <a:pt x="3005" y="1090"/>
                    </a:lnTo>
                    <a:lnTo>
                      <a:pt x="2994" y="1092"/>
                    </a:lnTo>
                    <a:lnTo>
                      <a:pt x="2982" y="1096"/>
                    </a:lnTo>
                    <a:lnTo>
                      <a:pt x="2970" y="1097"/>
                    </a:lnTo>
                    <a:lnTo>
                      <a:pt x="2946" y="1100"/>
                    </a:lnTo>
                    <a:lnTo>
                      <a:pt x="2922" y="1100"/>
                    </a:lnTo>
                    <a:lnTo>
                      <a:pt x="2898" y="1097"/>
                    </a:lnTo>
                    <a:lnTo>
                      <a:pt x="2874" y="1094"/>
                    </a:lnTo>
                    <a:lnTo>
                      <a:pt x="2826" y="1082"/>
                    </a:lnTo>
                    <a:lnTo>
                      <a:pt x="2778" y="1071"/>
                    </a:lnTo>
                    <a:lnTo>
                      <a:pt x="2755" y="1066"/>
                    </a:lnTo>
                    <a:lnTo>
                      <a:pt x="2730" y="1062"/>
                    </a:lnTo>
                    <a:lnTo>
                      <a:pt x="2707" y="1059"/>
                    </a:lnTo>
                    <a:lnTo>
                      <a:pt x="2683" y="1058"/>
                    </a:lnTo>
                    <a:lnTo>
                      <a:pt x="2691" y="1027"/>
                    </a:lnTo>
                    <a:lnTo>
                      <a:pt x="2699" y="996"/>
                    </a:lnTo>
                    <a:lnTo>
                      <a:pt x="2710" y="966"/>
                    </a:lnTo>
                    <a:lnTo>
                      <a:pt x="2721" y="936"/>
                    </a:lnTo>
                    <a:lnTo>
                      <a:pt x="2735" y="908"/>
                    </a:lnTo>
                    <a:lnTo>
                      <a:pt x="2750" y="882"/>
                    </a:lnTo>
                    <a:lnTo>
                      <a:pt x="2764" y="856"/>
                    </a:lnTo>
                    <a:lnTo>
                      <a:pt x="2780" y="833"/>
                    </a:lnTo>
                    <a:lnTo>
                      <a:pt x="2798" y="812"/>
                    </a:lnTo>
                    <a:lnTo>
                      <a:pt x="2815" y="792"/>
                    </a:lnTo>
                    <a:lnTo>
                      <a:pt x="2833" y="775"/>
                    </a:lnTo>
                    <a:lnTo>
                      <a:pt x="2852" y="760"/>
                    </a:lnTo>
                    <a:lnTo>
                      <a:pt x="2860" y="754"/>
                    </a:lnTo>
                    <a:lnTo>
                      <a:pt x="2869" y="748"/>
                    </a:lnTo>
                    <a:lnTo>
                      <a:pt x="2879" y="743"/>
                    </a:lnTo>
                    <a:lnTo>
                      <a:pt x="2887" y="739"/>
                    </a:lnTo>
                    <a:lnTo>
                      <a:pt x="2897" y="736"/>
                    </a:lnTo>
                    <a:lnTo>
                      <a:pt x="2906" y="733"/>
                    </a:lnTo>
                    <a:lnTo>
                      <a:pt x="2916" y="732"/>
                    </a:lnTo>
                    <a:lnTo>
                      <a:pt x="2924" y="731"/>
                    </a:lnTo>
                    <a:close/>
                    <a:moveTo>
                      <a:pt x="1473" y="636"/>
                    </a:moveTo>
                    <a:lnTo>
                      <a:pt x="1473" y="647"/>
                    </a:lnTo>
                    <a:lnTo>
                      <a:pt x="1471" y="664"/>
                    </a:lnTo>
                    <a:lnTo>
                      <a:pt x="1469" y="686"/>
                    </a:lnTo>
                    <a:lnTo>
                      <a:pt x="1469" y="710"/>
                    </a:lnTo>
                    <a:lnTo>
                      <a:pt x="1469" y="722"/>
                    </a:lnTo>
                    <a:lnTo>
                      <a:pt x="1471" y="733"/>
                    </a:lnTo>
                    <a:lnTo>
                      <a:pt x="1472" y="743"/>
                    </a:lnTo>
                    <a:lnTo>
                      <a:pt x="1474" y="752"/>
                    </a:lnTo>
                    <a:lnTo>
                      <a:pt x="1478" y="760"/>
                    </a:lnTo>
                    <a:lnTo>
                      <a:pt x="1482" y="765"/>
                    </a:lnTo>
                    <a:lnTo>
                      <a:pt x="1484" y="768"/>
                    </a:lnTo>
                    <a:lnTo>
                      <a:pt x="1488" y="769"/>
                    </a:lnTo>
                    <a:lnTo>
                      <a:pt x="1490" y="770"/>
                    </a:lnTo>
                    <a:lnTo>
                      <a:pt x="1494" y="770"/>
                    </a:lnTo>
                    <a:lnTo>
                      <a:pt x="1493" y="803"/>
                    </a:lnTo>
                    <a:lnTo>
                      <a:pt x="1490" y="832"/>
                    </a:lnTo>
                    <a:lnTo>
                      <a:pt x="1485" y="857"/>
                    </a:lnTo>
                    <a:lnTo>
                      <a:pt x="1480" y="880"/>
                    </a:lnTo>
                    <a:lnTo>
                      <a:pt x="1472" y="899"/>
                    </a:lnTo>
                    <a:lnTo>
                      <a:pt x="1463" y="915"/>
                    </a:lnTo>
                    <a:lnTo>
                      <a:pt x="1453" y="927"/>
                    </a:lnTo>
                    <a:lnTo>
                      <a:pt x="1442" y="939"/>
                    </a:lnTo>
                    <a:lnTo>
                      <a:pt x="1430" y="946"/>
                    </a:lnTo>
                    <a:lnTo>
                      <a:pt x="1416" y="951"/>
                    </a:lnTo>
                    <a:lnTo>
                      <a:pt x="1403" y="953"/>
                    </a:lnTo>
                    <a:lnTo>
                      <a:pt x="1389" y="955"/>
                    </a:lnTo>
                    <a:lnTo>
                      <a:pt x="1375" y="952"/>
                    </a:lnTo>
                    <a:lnTo>
                      <a:pt x="1359" y="948"/>
                    </a:lnTo>
                    <a:lnTo>
                      <a:pt x="1344" y="942"/>
                    </a:lnTo>
                    <a:lnTo>
                      <a:pt x="1328" y="934"/>
                    </a:lnTo>
                    <a:lnTo>
                      <a:pt x="1312" y="924"/>
                    </a:lnTo>
                    <a:lnTo>
                      <a:pt x="1297" y="913"/>
                    </a:lnTo>
                    <a:lnTo>
                      <a:pt x="1282" y="899"/>
                    </a:lnTo>
                    <a:lnTo>
                      <a:pt x="1268" y="884"/>
                    </a:lnTo>
                    <a:lnTo>
                      <a:pt x="1253" y="868"/>
                    </a:lnTo>
                    <a:lnTo>
                      <a:pt x="1239" y="851"/>
                    </a:lnTo>
                    <a:lnTo>
                      <a:pt x="1226" y="833"/>
                    </a:lnTo>
                    <a:lnTo>
                      <a:pt x="1213" y="814"/>
                    </a:lnTo>
                    <a:lnTo>
                      <a:pt x="1202" y="793"/>
                    </a:lnTo>
                    <a:lnTo>
                      <a:pt x="1193" y="773"/>
                    </a:lnTo>
                    <a:lnTo>
                      <a:pt x="1184" y="750"/>
                    </a:lnTo>
                    <a:lnTo>
                      <a:pt x="1177" y="728"/>
                    </a:lnTo>
                    <a:lnTo>
                      <a:pt x="1170" y="706"/>
                    </a:lnTo>
                    <a:lnTo>
                      <a:pt x="1165" y="683"/>
                    </a:lnTo>
                    <a:lnTo>
                      <a:pt x="1163" y="659"/>
                    </a:lnTo>
                    <a:lnTo>
                      <a:pt x="1162" y="636"/>
                    </a:lnTo>
                    <a:lnTo>
                      <a:pt x="1473" y="636"/>
                    </a:lnTo>
                    <a:close/>
                    <a:moveTo>
                      <a:pt x="287" y="789"/>
                    </a:moveTo>
                    <a:lnTo>
                      <a:pt x="265" y="790"/>
                    </a:lnTo>
                    <a:lnTo>
                      <a:pt x="244" y="792"/>
                    </a:lnTo>
                    <a:lnTo>
                      <a:pt x="223" y="796"/>
                    </a:lnTo>
                    <a:lnTo>
                      <a:pt x="204" y="801"/>
                    </a:lnTo>
                    <a:lnTo>
                      <a:pt x="164" y="813"/>
                    </a:lnTo>
                    <a:lnTo>
                      <a:pt x="129" y="828"/>
                    </a:lnTo>
                    <a:lnTo>
                      <a:pt x="93" y="841"/>
                    </a:lnTo>
                    <a:lnTo>
                      <a:pt x="60" y="854"/>
                    </a:lnTo>
                    <a:lnTo>
                      <a:pt x="44" y="859"/>
                    </a:lnTo>
                    <a:lnTo>
                      <a:pt x="29" y="862"/>
                    </a:lnTo>
                    <a:lnTo>
                      <a:pt x="13" y="865"/>
                    </a:lnTo>
                    <a:lnTo>
                      <a:pt x="0" y="866"/>
                    </a:lnTo>
                    <a:lnTo>
                      <a:pt x="0" y="1058"/>
                    </a:lnTo>
                    <a:lnTo>
                      <a:pt x="14" y="1059"/>
                    </a:lnTo>
                    <a:lnTo>
                      <a:pt x="32" y="1060"/>
                    </a:lnTo>
                    <a:lnTo>
                      <a:pt x="51" y="1064"/>
                    </a:lnTo>
                    <a:lnTo>
                      <a:pt x="71" y="1066"/>
                    </a:lnTo>
                    <a:lnTo>
                      <a:pt x="115" y="1075"/>
                    </a:lnTo>
                    <a:lnTo>
                      <a:pt x="162" y="1082"/>
                    </a:lnTo>
                    <a:lnTo>
                      <a:pt x="185" y="1086"/>
                    </a:lnTo>
                    <a:lnTo>
                      <a:pt x="207" y="1089"/>
                    </a:lnTo>
                    <a:lnTo>
                      <a:pt x="230" y="1090"/>
                    </a:lnTo>
                    <a:lnTo>
                      <a:pt x="252" y="1091"/>
                    </a:lnTo>
                    <a:lnTo>
                      <a:pt x="273" y="1090"/>
                    </a:lnTo>
                    <a:lnTo>
                      <a:pt x="291" y="1087"/>
                    </a:lnTo>
                    <a:lnTo>
                      <a:pt x="300" y="1086"/>
                    </a:lnTo>
                    <a:lnTo>
                      <a:pt x="308" y="1084"/>
                    </a:lnTo>
                    <a:lnTo>
                      <a:pt x="317" y="1080"/>
                    </a:lnTo>
                    <a:lnTo>
                      <a:pt x="324" y="1076"/>
                    </a:lnTo>
                    <a:lnTo>
                      <a:pt x="329" y="1074"/>
                    </a:lnTo>
                    <a:lnTo>
                      <a:pt x="334" y="1070"/>
                    </a:lnTo>
                    <a:lnTo>
                      <a:pt x="339" y="1065"/>
                    </a:lnTo>
                    <a:lnTo>
                      <a:pt x="343" y="1058"/>
                    </a:lnTo>
                    <a:lnTo>
                      <a:pt x="346" y="1050"/>
                    </a:lnTo>
                    <a:lnTo>
                      <a:pt x="350" y="1042"/>
                    </a:lnTo>
                    <a:lnTo>
                      <a:pt x="354" y="1032"/>
                    </a:lnTo>
                    <a:lnTo>
                      <a:pt x="356" y="1021"/>
                    </a:lnTo>
                    <a:lnTo>
                      <a:pt x="360" y="998"/>
                    </a:lnTo>
                    <a:lnTo>
                      <a:pt x="362" y="973"/>
                    </a:lnTo>
                    <a:lnTo>
                      <a:pt x="364" y="946"/>
                    </a:lnTo>
                    <a:lnTo>
                      <a:pt x="362" y="919"/>
                    </a:lnTo>
                    <a:lnTo>
                      <a:pt x="360" y="892"/>
                    </a:lnTo>
                    <a:lnTo>
                      <a:pt x="356" y="867"/>
                    </a:lnTo>
                    <a:lnTo>
                      <a:pt x="353" y="855"/>
                    </a:lnTo>
                    <a:lnTo>
                      <a:pt x="349" y="844"/>
                    </a:lnTo>
                    <a:lnTo>
                      <a:pt x="345" y="833"/>
                    </a:lnTo>
                    <a:lnTo>
                      <a:pt x="341" y="824"/>
                    </a:lnTo>
                    <a:lnTo>
                      <a:pt x="337" y="814"/>
                    </a:lnTo>
                    <a:lnTo>
                      <a:pt x="330" y="807"/>
                    </a:lnTo>
                    <a:lnTo>
                      <a:pt x="324" y="801"/>
                    </a:lnTo>
                    <a:lnTo>
                      <a:pt x="318" y="796"/>
                    </a:lnTo>
                    <a:lnTo>
                      <a:pt x="311" y="791"/>
                    </a:lnTo>
                    <a:lnTo>
                      <a:pt x="303" y="789"/>
                    </a:lnTo>
                    <a:lnTo>
                      <a:pt x="296" y="789"/>
                    </a:lnTo>
                    <a:lnTo>
                      <a:pt x="287" y="789"/>
                    </a:lnTo>
                    <a:close/>
                    <a:moveTo>
                      <a:pt x="7397" y="58"/>
                    </a:moveTo>
                    <a:lnTo>
                      <a:pt x="7397" y="290"/>
                    </a:lnTo>
                    <a:lnTo>
                      <a:pt x="7438" y="303"/>
                    </a:lnTo>
                    <a:lnTo>
                      <a:pt x="7475" y="312"/>
                    </a:lnTo>
                    <a:lnTo>
                      <a:pt x="7491" y="316"/>
                    </a:lnTo>
                    <a:lnTo>
                      <a:pt x="7506" y="320"/>
                    </a:lnTo>
                    <a:lnTo>
                      <a:pt x="7520" y="321"/>
                    </a:lnTo>
                    <a:lnTo>
                      <a:pt x="7534" y="322"/>
                    </a:lnTo>
                    <a:lnTo>
                      <a:pt x="7546" y="324"/>
                    </a:lnTo>
                    <a:lnTo>
                      <a:pt x="7557" y="322"/>
                    </a:lnTo>
                    <a:lnTo>
                      <a:pt x="7567" y="321"/>
                    </a:lnTo>
                    <a:lnTo>
                      <a:pt x="7577" y="319"/>
                    </a:lnTo>
                    <a:lnTo>
                      <a:pt x="7586" y="314"/>
                    </a:lnTo>
                    <a:lnTo>
                      <a:pt x="7594" y="309"/>
                    </a:lnTo>
                    <a:lnTo>
                      <a:pt x="7602" y="304"/>
                    </a:lnTo>
                    <a:lnTo>
                      <a:pt x="7608" y="297"/>
                    </a:lnTo>
                    <a:lnTo>
                      <a:pt x="7614" y="288"/>
                    </a:lnTo>
                    <a:lnTo>
                      <a:pt x="7619" y="278"/>
                    </a:lnTo>
                    <a:lnTo>
                      <a:pt x="7624" y="268"/>
                    </a:lnTo>
                    <a:lnTo>
                      <a:pt x="7629" y="256"/>
                    </a:lnTo>
                    <a:lnTo>
                      <a:pt x="7631" y="242"/>
                    </a:lnTo>
                    <a:lnTo>
                      <a:pt x="7635" y="228"/>
                    </a:lnTo>
                    <a:lnTo>
                      <a:pt x="7637" y="212"/>
                    </a:lnTo>
                    <a:lnTo>
                      <a:pt x="7640" y="194"/>
                    </a:lnTo>
                    <a:lnTo>
                      <a:pt x="7643" y="155"/>
                    </a:lnTo>
                    <a:lnTo>
                      <a:pt x="7645" y="110"/>
                    </a:lnTo>
                    <a:lnTo>
                      <a:pt x="7646" y="58"/>
                    </a:lnTo>
                    <a:lnTo>
                      <a:pt x="7646" y="0"/>
                    </a:lnTo>
                    <a:lnTo>
                      <a:pt x="7621" y="0"/>
                    </a:lnTo>
                    <a:lnTo>
                      <a:pt x="7599" y="3"/>
                    </a:lnTo>
                    <a:lnTo>
                      <a:pt x="7580" y="5"/>
                    </a:lnTo>
                    <a:lnTo>
                      <a:pt x="7564" y="9"/>
                    </a:lnTo>
                    <a:lnTo>
                      <a:pt x="7548" y="14"/>
                    </a:lnTo>
                    <a:lnTo>
                      <a:pt x="7534" y="19"/>
                    </a:lnTo>
                    <a:lnTo>
                      <a:pt x="7522" y="23"/>
                    </a:lnTo>
                    <a:lnTo>
                      <a:pt x="7509" y="28"/>
                    </a:lnTo>
                    <a:lnTo>
                      <a:pt x="7487" y="39"/>
                    </a:lnTo>
                    <a:lnTo>
                      <a:pt x="7463" y="48"/>
                    </a:lnTo>
                    <a:lnTo>
                      <a:pt x="7449" y="53"/>
                    </a:lnTo>
                    <a:lnTo>
                      <a:pt x="7434" y="55"/>
                    </a:lnTo>
                    <a:lnTo>
                      <a:pt x="7417" y="57"/>
                    </a:lnTo>
                    <a:lnTo>
                      <a:pt x="7397" y="58"/>
                    </a:lnTo>
                    <a:close/>
                    <a:moveTo>
                      <a:pt x="8856" y="1058"/>
                    </a:moveTo>
                    <a:lnTo>
                      <a:pt x="8797" y="1233"/>
                    </a:lnTo>
                    <a:lnTo>
                      <a:pt x="8758" y="1245"/>
                    </a:lnTo>
                    <a:lnTo>
                      <a:pt x="8726" y="1256"/>
                    </a:lnTo>
                    <a:lnTo>
                      <a:pt x="8700" y="1262"/>
                    </a:lnTo>
                    <a:lnTo>
                      <a:pt x="8679" y="1266"/>
                    </a:lnTo>
                    <a:lnTo>
                      <a:pt x="8672" y="1266"/>
                    </a:lnTo>
                    <a:lnTo>
                      <a:pt x="8664" y="1265"/>
                    </a:lnTo>
                    <a:lnTo>
                      <a:pt x="8658" y="1263"/>
                    </a:lnTo>
                    <a:lnTo>
                      <a:pt x="8654" y="1261"/>
                    </a:lnTo>
                    <a:lnTo>
                      <a:pt x="8651" y="1257"/>
                    </a:lnTo>
                    <a:lnTo>
                      <a:pt x="8647" y="1252"/>
                    </a:lnTo>
                    <a:lnTo>
                      <a:pt x="8646" y="1246"/>
                    </a:lnTo>
                    <a:lnTo>
                      <a:pt x="8645" y="1239"/>
                    </a:lnTo>
                    <a:lnTo>
                      <a:pt x="8643" y="1221"/>
                    </a:lnTo>
                    <a:lnTo>
                      <a:pt x="8645" y="1198"/>
                    </a:lnTo>
                    <a:lnTo>
                      <a:pt x="8648" y="1170"/>
                    </a:lnTo>
                    <a:lnTo>
                      <a:pt x="8652" y="1137"/>
                    </a:lnTo>
                    <a:lnTo>
                      <a:pt x="8656" y="1097"/>
                    </a:lnTo>
                    <a:lnTo>
                      <a:pt x="8659" y="1052"/>
                    </a:lnTo>
                    <a:lnTo>
                      <a:pt x="8662" y="1000"/>
                    </a:lnTo>
                    <a:lnTo>
                      <a:pt x="8663" y="942"/>
                    </a:lnTo>
                    <a:lnTo>
                      <a:pt x="8675" y="942"/>
                    </a:lnTo>
                    <a:lnTo>
                      <a:pt x="8688" y="943"/>
                    </a:lnTo>
                    <a:lnTo>
                      <a:pt x="8698" y="945"/>
                    </a:lnTo>
                    <a:lnTo>
                      <a:pt x="8707" y="947"/>
                    </a:lnTo>
                    <a:lnTo>
                      <a:pt x="8716" y="950"/>
                    </a:lnTo>
                    <a:lnTo>
                      <a:pt x="8725" y="953"/>
                    </a:lnTo>
                    <a:lnTo>
                      <a:pt x="8731" y="957"/>
                    </a:lnTo>
                    <a:lnTo>
                      <a:pt x="8737" y="961"/>
                    </a:lnTo>
                    <a:lnTo>
                      <a:pt x="8748" y="969"/>
                    </a:lnTo>
                    <a:lnTo>
                      <a:pt x="8758" y="979"/>
                    </a:lnTo>
                    <a:lnTo>
                      <a:pt x="8765" y="989"/>
                    </a:lnTo>
                    <a:lnTo>
                      <a:pt x="8771" y="1000"/>
                    </a:lnTo>
                    <a:lnTo>
                      <a:pt x="8777" y="1011"/>
                    </a:lnTo>
                    <a:lnTo>
                      <a:pt x="8784" y="1022"/>
                    </a:lnTo>
                    <a:lnTo>
                      <a:pt x="8791" y="1032"/>
                    </a:lnTo>
                    <a:lnTo>
                      <a:pt x="8800" y="1041"/>
                    </a:lnTo>
                    <a:lnTo>
                      <a:pt x="8805" y="1044"/>
                    </a:lnTo>
                    <a:lnTo>
                      <a:pt x="8809" y="1048"/>
                    </a:lnTo>
                    <a:lnTo>
                      <a:pt x="8816" y="1050"/>
                    </a:lnTo>
                    <a:lnTo>
                      <a:pt x="8822" y="1053"/>
                    </a:lnTo>
                    <a:lnTo>
                      <a:pt x="8829" y="1055"/>
                    </a:lnTo>
                    <a:lnTo>
                      <a:pt x="8836" y="1057"/>
                    </a:lnTo>
                    <a:lnTo>
                      <a:pt x="8846" y="1058"/>
                    </a:lnTo>
                    <a:lnTo>
                      <a:pt x="8856" y="1058"/>
                    </a:lnTo>
                    <a:close/>
                    <a:moveTo>
                      <a:pt x="9582" y="1000"/>
                    </a:moveTo>
                    <a:lnTo>
                      <a:pt x="9641" y="1175"/>
                    </a:lnTo>
                    <a:lnTo>
                      <a:pt x="9680" y="1187"/>
                    </a:lnTo>
                    <a:lnTo>
                      <a:pt x="9712" y="1197"/>
                    </a:lnTo>
                    <a:lnTo>
                      <a:pt x="9738" y="1204"/>
                    </a:lnTo>
                    <a:lnTo>
                      <a:pt x="9759" y="1208"/>
                    </a:lnTo>
                    <a:lnTo>
                      <a:pt x="9766" y="1208"/>
                    </a:lnTo>
                    <a:lnTo>
                      <a:pt x="9774" y="1207"/>
                    </a:lnTo>
                    <a:lnTo>
                      <a:pt x="9779" y="1205"/>
                    </a:lnTo>
                    <a:lnTo>
                      <a:pt x="9784" y="1203"/>
                    </a:lnTo>
                    <a:lnTo>
                      <a:pt x="9787" y="1199"/>
                    </a:lnTo>
                    <a:lnTo>
                      <a:pt x="9791" y="1194"/>
                    </a:lnTo>
                    <a:lnTo>
                      <a:pt x="9792" y="1188"/>
                    </a:lnTo>
                    <a:lnTo>
                      <a:pt x="9793" y="1181"/>
                    </a:lnTo>
                    <a:lnTo>
                      <a:pt x="9795" y="1162"/>
                    </a:lnTo>
                    <a:lnTo>
                      <a:pt x="9793" y="1140"/>
                    </a:lnTo>
                    <a:lnTo>
                      <a:pt x="9790" y="1112"/>
                    </a:lnTo>
                    <a:lnTo>
                      <a:pt x="9786" y="1079"/>
                    </a:lnTo>
                    <a:lnTo>
                      <a:pt x="9782" y="1039"/>
                    </a:lnTo>
                    <a:lnTo>
                      <a:pt x="9779" y="994"/>
                    </a:lnTo>
                    <a:lnTo>
                      <a:pt x="9776" y="942"/>
                    </a:lnTo>
                    <a:lnTo>
                      <a:pt x="9775" y="884"/>
                    </a:lnTo>
                    <a:lnTo>
                      <a:pt x="9763" y="884"/>
                    </a:lnTo>
                    <a:lnTo>
                      <a:pt x="9750" y="886"/>
                    </a:lnTo>
                    <a:lnTo>
                      <a:pt x="9740" y="887"/>
                    </a:lnTo>
                    <a:lnTo>
                      <a:pt x="9731" y="889"/>
                    </a:lnTo>
                    <a:lnTo>
                      <a:pt x="9722" y="892"/>
                    </a:lnTo>
                    <a:lnTo>
                      <a:pt x="9713" y="896"/>
                    </a:lnTo>
                    <a:lnTo>
                      <a:pt x="9707" y="898"/>
                    </a:lnTo>
                    <a:lnTo>
                      <a:pt x="9700" y="903"/>
                    </a:lnTo>
                    <a:lnTo>
                      <a:pt x="9690" y="912"/>
                    </a:lnTo>
                    <a:lnTo>
                      <a:pt x="9680" y="921"/>
                    </a:lnTo>
                    <a:lnTo>
                      <a:pt x="9673" y="931"/>
                    </a:lnTo>
                    <a:lnTo>
                      <a:pt x="9667" y="942"/>
                    </a:lnTo>
                    <a:lnTo>
                      <a:pt x="9661" y="953"/>
                    </a:lnTo>
                    <a:lnTo>
                      <a:pt x="9654" y="963"/>
                    </a:lnTo>
                    <a:lnTo>
                      <a:pt x="9647" y="973"/>
                    </a:lnTo>
                    <a:lnTo>
                      <a:pt x="9638" y="982"/>
                    </a:lnTo>
                    <a:lnTo>
                      <a:pt x="9633" y="987"/>
                    </a:lnTo>
                    <a:lnTo>
                      <a:pt x="9629" y="990"/>
                    </a:lnTo>
                    <a:lnTo>
                      <a:pt x="9622" y="993"/>
                    </a:lnTo>
                    <a:lnTo>
                      <a:pt x="9616" y="995"/>
                    </a:lnTo>
                    <a:lnTo>
                      <a:pt x="9609" y="998"/>
                    </a:lnTo>
                    <a:lnTo>
                      <a:pt x="9601" y="999"/>
                    </a:lnTo>
                    <a:lnTo>
                      <a:pt x="9592" y="1000"/>
                    </a:lnTo>
                    <a:lnTo>
                      <a:pt x="9582" y="100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647240" y="3777120"/>
                <a:ext cx="170280" cy="134640"/>
              </a:xfrm>
              <a:custGeom>
                <a:avLst/>
                <a:gdLst/>
                <a:ahLst/>
                <a:rect l="l" t="t" r="r" b="b"/>
                <a:pathLst>
                  <a:path w="448" h="354">
                    <a:moveTo>
                      <a:pt x="0" y="328"/>
                    </a:moveTo>
                    <a:lnTo>
                      <a:pt x="25" y="354"/>
                    </a:lnTo>
                    <a:lnTo>
                      <a:pt x="68" y="353"/>
                    </a:lnTo>
                    <a:lnTo>
                      <a:pt x="110" y="350"/>
                    </a:lnTo>
                    <a:lnTo>
                      <a:pt x="150" y="345"/>
                    </a:lnTo>
                    <a:lnTo>
                      <a:pt x="189" y="339"/>
                    </a:lnTo>
                    <a:lnTo>
                      <a:pt x="207" y="335"/>
                    </a:lnTo>
                    <a:lnTo>
                      <a:pt x="225" y="330"/>
                    </a:lnTo>
                    <a:lnTo>
                      <a:pt x="244" y="324"/>
                    </a:lnTo>
                    <a:lnTo>
                      <a:pt x="261" y="318"/>
                    </a:lnTo>
                    <a:lnTo>
                      <a:pt x="277" y="311"/>
                    </a:lnTo>
                    <a:lnTo>
                      <a:pt x="293" y="303"/>
                    </a:lnTo>
                    <a:lnTo>
                      <a:pt x="309" y="295"/>
                    </a:lnTo>
                    <a:lnTo>
                      <a:pt x="324" y="285"/>
                    </a:lnTo>
                    <a:lnTo>
                      <a:pt x="339" y="275"/>
                    </a:lnTo>
                    <a:lnTo>
                      <a:pt x="352" y="263"/>
                    </a:lnTo>
                    <a:lnTo>
                      <a:pt x="364" y="250"/>
                    </a:lnTo>
                    <a:lnTo>
                      <a:pt x="377" y="237"/>
                    </a:lnTo>
                    <a:lnTo>
                      <a:pt x="388" y="223"/>
                    </a:lnTo>
                    <a:lnTo>
                      <a:pt x="398" y="207"/>
                    </a:lnTo>
                    <a:lnTo>
                      <a:pt x="407" y="191"/>
                    </a:lnTo>
                    <a:lnTo>
                      <a:pt x="416" y="174"/>
                    </a:lnTo>
                    <a:lnTo>
                      <a:pt x="423" y="156"/>
                    </a:lnTo>
                    <a:lnTo>
                      <a:pt x="430" y="137"/>
                    </a:lnTo>
                    <a:lnTo>
                      <a:pt x="436" y="116"/>
                    </a:lnTo>
                    <a:lnTo>
                      <a:pt x="439" y="95"/>
                    </a:lnTo>
                    <a:lnTo>
                      <a:pt x="443" y="73"/>
                    </a:lnTo>
                    <a:lnTo>
                      <a:pt x="446" y="49"/>
                    </a:lnTo>
                    <a:lnTo>
                      <a:pt x="448" y="25"/>
                    </a:lnTo>
                    <a:lnTo>
                      <a:pt x="448" y="0"/>
                    </a:lnTo>
                    <a:lnTo>
                      <a:pt x="400" y="0"/>
                    </a:lnTo>
                    <a:lnTo>
                      <a:pt x="399" y="23"/>
                    </a:lnTo>
                    <a:lnTo>
                      <a:pt x="398" y="45"/>
                    </a:lnTo>
                    <a:lnTo>
                      <a:pt x="395" y="66"/>
                    </a:lnTo>
                    <a:lnTo>
                      <a:pt x="393" y="87"/>
                    </a:lnTo>
                    <a:lnTo>
                      <a:pt x="388" y="105"/>
                    </a:lnTo>
                    <a:lnTo>
                      <a:pt x="383" y="123"/>
                    </a:lnTo>
                    <a:lnTo>
                      <a:pt x="378" y="139"/>
                    </a:lnTo>
                    <a:lnTo>
                      <a:pt x="372" y="155"/>
                    </a:lnTo>
                    <a:lnTo>
                      <a:pt x="364" y="169"/>
                    </a:lnTo>
                    <a:lnTo>
                      <a:pt x="357" y="183"/>
                    </a:lnTo>
                    <a:lnTo>
                      <a:pt x="348" y="195"/>
                    </a:lnTo>
                    <a:lnTo>
                      <a:pt x="340" y="206"/>
                    </a:lnTo>
                    <a:lnTo>
                      <a:pt x="330" y="217"/>
                    </a:lnTo>
                    <a:lnTo>
                      <a:pt x="319" y="227"/>
                    </a:lnTo>
                    <a:lnTo>
                      <a:pt x="308" y="237"/>
                    </a:lnTo>
                    <a:lnTo>
                      <a:pt x="297" y="246"/>
                    </a:lnTo>
                    <a:lnTo>
                      <a:pt x="285" y="253"/>
                    </a:lnTo>
                    <a:lnTo>
                      <a:pt x="271" y="260"/>
                    </a:lnTo>
                    <a:lnTo>
                      <a:pt x="257" y="266"/>
                    </a:lnTo>
                    <a:lnTo>
                      <a:pt x="243" y="273"/>
                    </a:lnTo>
                    <a:lnTo>
                      <a:pt x="228" y="279"/>
                    </a:lnTo>
                    <a:lnTo>
                      <a:pt x="212" y="284"/>
                    </a:lnTo>
                    <a:lnTo>
                      <a:pt x="196" y="287"/>
                    </a:lnTo>
                    <a:lnTo>
                      <a:pt x="180" y="291"/>
                    </a:lnTo>
                    <a:lnTo>
                      <a:pt x="143" y="297"/>
                    </a:lnTo>
                    <a:lnTo>
                      <a:pt x="106" y="302"/>
                    </a:lnTo>
                    <a:lnTo>
                      <a:pt x="66" y="303"/>
                    </a:lnTo>
                    <a:lnTo>
                      <a:pt x="25" y="305"/>
                    </a:lnTo>
                    <a:lnTo>
                      <a:pt x="48" y="330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4" y="307"/>
                    </a:lnTo>
                    <a:lnTo>
                      <a:pt x="10" y="309"/>
                    </a:lnTo>
                    <a:lnTo>
                      <a:pt x="7" y="312"/>
                    </a:lnTo>
                    <a:lnTo>
                      <a:pt x="4" y="316"/>
                    </a:lnTo>
                    <a:lnTo>
                      <a:pt x="2" y="321"/>
                    </a:lnTo>
                    <a:lnTo>
                      <a:pt x="0" y="324"/>
                    </a:lnTo>
                    <a:lnTo>
                      <a:pt x="0" y="329"/>
                    </a:lnTo>
                    <a:lnTo>
                      <a:pt x="0" y="333"/>
                    </a:lnTo>
                    <a:lnTo>
                      <a:pt x="2" y="338"/>
                    </a:lnTo>
                    <a:lnTo>
                      <a:pt x="4" y="341"/>
                    </a:lnTo>
                    <a:lnTo>
                      <a:pt x="7" y="345"/>
                    </a:lnTo>
                    <a:lnTo>
                      <a:pt x="10" y="349"/>
                    </a:lnTo>
                    <a:lnTo>
                      <a:pt x="14" y="351"/>
                    </a:lnTo>
                    <a:lnTo>
                      <a:pt x="19" y="353"/>
                    </a:lnTo>
                    <a:lnTo>
                      <a:pt x="25" y="354"/>
                    </a:lnTo>
                    <a:lnTo>
                      <a:pt x="0" y="3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4647240" y="3760200"/>
                <a:ext cx="26280" cy="141480"/>
              </a:xfrm>
              <a:custGeom>
                <a:avLst/>
                <a:gdLst/>
                <a:ahLst/>
                <a:rect l="l" t="t" r="r" b="b"/>
                <a:pathLst>
                  <a:path w="69" h="376">
                    <a:moveTo>
                      <a:pt x="47" y="0"/>
                    </a:moveTo>
                    <a:lnTo>
                      <a:pt x="21" y="23"/>
                    </a:lnTo>
                    <a:lnTo>
                      <a:pt x="0" y="374"/>
                    </a:lnTo>
                    <a:lnTo>
                      <a:pt x="48" y="376"/>
                    </a:lnTo>
                    <a:lnTo>
                      <a:pt x="69" y="26"/>
                    </a:lnTo>
                    <a:lnTo>
                      <a:pt x="47" y="0"/>
                    </a:lnTo>
                    <a:lnTo>
                      <a:pt x="69" y="26"/>
                    </a:lnTo>
                    <a:lnTo>
                      <a:pt x="69" y="20"/>
                    </a:lnTo>
                    <a:lnTo>
                      <a:pt x="68" y="15"/>
                    </a:lnTo>
                    <a:lnTo>
                      <a:pt x="66" y="11"/>
                    </a:lnTo>
                    <a:lnTo>
                      <a:pt x="63" y="7"/>
                    </a:lnTo>
                    <a:lnTo>
                      <a:pt x="59" y="4"/>
                    </a:lnTo>
                    <a:lnTo>
                      <a:pt x="56" y="2"/>
                    </a:lnTo>
                    <a:lnTo>
                      <a:pt x="51" y="1"/>
                    </a:lnTo>
                    <a:lnTo>
                      <a:pt x="47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6" y="9"/>
                    </a:lnTo>
                    <a:lnTo>
                      <a:pt x="24" y="12"/>
                    </a:lnTo>
                    <a:lnTo>
                      <a:pt x="23" y="17"/>
                    </a:lnTo>
                    <a:lnTo>
                      <a:pt x="21" y="2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4664160" y="3760200"/>
                <a:ext cx="153000" cy="24120"/>
              </a:xfrm>
              <a:custGeom>
                <a:avLst/>
                <a:gdLst/>
                <a:ahLst/>
                <a:rect l="l" t="t" r="r" b="b"/>
                <a:pathLst>
                  <a:path w="403" h="69">
                    <a:moveTo>
                      <a:pt x="403" y="46"/>
                    </a:moveTo>
                    <a:lnTo>
                      <a:pt x="380" y="21"/>
                    </a:lnTo>
                    <a:lnTo>
                      <a:pt x="2" y="0"/>
                    </a:lnTo>
                    <a:lnTo>
                      <a:pt x="0" y="49"/>
                    </a:lnTo>
                    <a:lnTo>
                      <a:pt x="377" y="69"/>
                    </a:lnTo>
                    <a:lnTo>
                      <a:pt x="403" y="46"/>
                    </a:lnTo>
                    <a:lnTo>
                      <a:pt x="377" y="69"/>
                    </a:lnTo>
                    <a:lnTo>
                      <a:pt x="383" y="69"/>
                    </a:lnTo>
                    <a:lnTo>
                      <a:pt x="388" y="68"/>
                    </a:lnTo>
                    <a:lnTo>
                      <a:pt x="392" y="66"/>
                    </a:lnTo>
                    <a:lnTo>
                      <a:pt x="396" y="63"/>
                    </a:lnTo>
                    <a:lnTo>
                      <a:pt x="399" y="59"/>
                    </a:lnTo>
                    <a:lnTo>
                      <a:pt x="401" y="55"/>
                    </a:lnTo>
                    <a:lnTo>
                      <a:pt x="403" y="52"/>
                    </a:lnTo>
                    <a:lnTo>
                      <a:pt x="403" y="47"/>
                    </a:lnTo>
                    <a:lnTo>
                      <a:pt x="403" y="42"/>
                    </a:lnTo>
                    <a:lnTo>
                      <a:pt x="402" y="38"/>
                    </a:lnTo>
                    <a:lnTo>
                      <a:pt x="401" y="33"/>
                    </a:lnTo>
                    <a:lnTo>
                      <a:pt x="398" y="30"/>
                    </a:lnTo>
                    <a:lnTo>
                      <a:pt x="394" y="26"/>
                    </a:lnTo>
                    <a:lnTo>
                      <a:pt x="391" y="23"/>
                    </a:lnTo>
                    <a:lnTo>
                      <a:pt x="386" y="22"/>
                    </a:lnTo>
                    <a:lnTo>
                      <a:pt x="380" y="21"/>
                    </a:lnTo>
                    <a:lnTo>
                      <a:pt x="403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4138200" y="3684240"/>
                <a:ext cx="137880" cy="175680"/>
              </a:xfrm>
              <a:custGeom>
                <a:avLst/>
                <a:gdLst/>
                <a:ahLst/>
                <a:rect l="l" t="t" r="r" b="b"/>
                <a:pathLst>
                  <a:path w="361" h="468">
                    <a:moveTo>
                      <a:pt x="341" y="48"/>
                    </a:moveTo>
                    <a:lnTo>
                      <a:pt x="313" y="23"/>
                    </a:lnTo>
                    <a:lnTo>
                      <a:pt x="311" y="70"/>
                    </a:lnTo>
                    <a:lnTo>
                      <a:pt x="309" y="114"/>
                    </a:lnTo>
                    <a:lnTo>
                      <a:pt x="304" y="155"/>
                    </a:lnTo>
                    <a:lnTo>
                      <a:pt x="298" y="192"/>
                    </a:lnTo>
                    <a:lnTo>
                      <a:pt x="289" y="227"/>
                    </a:lnTo>
                    <a:lnTo>
                      <a:pt x="281" y="259"/>
                    </a:lnTo>
                    <a:lnTo>
                      <a:pt x="270" y="289"/>
                    </a:lnTo>
                    <a:lnTo>
                      <a:pt x="259" y="315"/>
                    </a:lnTo>
                    <a:lnTo>
                      <a:pt x="246" y="338"/>
                    </a:lnTo>
                    <a:lnTo>
                      <a:pt x="234" y="359"/>
                    </a:lnTo>
                    <a:lnTo>
                      <a:pt x="220" y="376"/>
                    </a:lnTo>
                    <a:lnTo>
                      <a:pt x="207" y="391"/>
                    </a:lnTo>
                    <a:lnTo>
                      <a:pt x="201" y="396"/>
                    </a:lnTo>
                    <a:lnTo>
                      <a:pt x="195" y="402"/>
                    </a:lnTo>
                    <a:lnTo>
                      <a:pt x="189" y="406"/>
                    </a:lnTo>
                    <a:lnTo>
                      <a:pt x="181" y="411"/>
                    </a:lnTo>
                    <a:lnTo>
                      <a:pt x="175" y="413"/>
                    </a:lnTo>
                    <a:lnTo>
                      <a:pt x="169" y="416"/>
                    </a:lnTo>
                    <a:lnTo>
                      <a:pt x="164" y="418"/>
                    </a:lnTo>
                    <a:lnTo>
                      <a:pt x="158" y="419"/>
                    </a:lnTo>
                    <a:lnTo>
                      <a:pt x="152" y="419"/>
                    </a:lnTo>
                    <a:lnTo>
                      <a:pt x="147" y="419"/>
                    </a:lnTo>
                    <a:lnTo>
                      <a:pt x="142" y="419"/>
                    </a:lnTo>
                    <a:lnTo>
                      <a:pt x="136" y="418"/>
                    </a:lnTo>
                    <a:lnTo>
                      <a:pt x="131" y="417"/>
                    </a:lnTo>
                    <a:lnTo>
                      <a:pt x="126" y="416"/>
                    </a:lnTo>
                    <a:lnTo>
                      <a:pt x="121" y="412"/>
                    </a:lnTo>
                    <a:lnTo>
                      <a:pt x="116" y="409"/>
                    </a:lnTo>
                    <a:lnTo>
                      <a:pt x="111" y="406"/>
                    </a:lnTo>
                    <a:lnTo>
                      <a:pt x="105" y="401"/>
                    </a:lnTo>
                    <a:lnTo>
                      <a:pt x="100" y="395"/>
                    </a:lnTo>
                    <a:lnTo>
                      <a:pt x="95" y="388"/>
                    </a:lnTo>
                    <a:lnTo>
                      <a:pt x="90" y="381"/>
                    </a:lnTo>
                    <a:lnTo>
                      <a:pt x="85" y="374"/>
                    </a:lnTo>
                    <a:lnTo>
                      <a:pt x="80" y="365"/>
                    </a:lnTo>
                    <a:lnTo>
                      <a:pt x="77" y="356"/>
                    </a:lnTo>
                    <a:lnTo>
                      <a:pt x="68" y="334"/>
                    </a:lnTo>
                    <a:lnTo>
                      <a:pt x="61" y="308"/>
                    </a:lnTo>
                    <a:lnTo>
                      <a:pt x="56" y="280"/>
                    </a:lnTo>
                    <a:lnTo>
                      <a:pt x="51" y="248"/>
                    </a:lnTo>
                    <a:lnTo>
                      <a:pt x="48" y="213"/>
                    </a:lnTo>
                    <a:lnTo>
                      <a:pt x="48" y="173"/>
                    </a:lnTo>
                    <a:lnTo>
                      <a:pt x="51" y="130"/>
                    </a:lnTo>
                    <a:lnTo>
                      <a:pt x="54" y="85"/>
                    </a:lnTo>
                    <a:lnTo>
                      <a:pt x="6" y="78"/>
                    </a:lnTo>
                    <a:lnTo>
                      <a:pt x="2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3" y="252"/>
                    </a:lnTo>
                    <a:lnTo>
                      <a:pt x="6" y="288"/>
                    </a:lnTo>
                    <a:lnTo>
                      <a:pt x="14" y="320"/>
                    </a:lnTo>
                    <a:lnTo>
                      <a:pt x="21" y="349"/>
                    </a:lnTo>
                    <a:lnTo>
                      <a:pt x="31" y="375"/>
                    </a:lnTo>
                    <a:lnTo>
                      <a:pt x="37" y="387"/>
                    </a:lnTo>
                    <a:lnTo>
                      <a:pt x="43" y="398"/>
                    </a:lnTo>
                    <a:lnTo>
                      <a:pt x="50" y="408"/>
                    </a:lnTo>
                    <a:lnTo>
                      <a:pt x="57" y="418"/>
                    </a:lnTo>
                    <a:lnTo>
                      <a:pt x="63" y="427"/>
                    </a:lnTo>
                    <a:lnTo>
                      <a:pt x="72" y="435"/>
                    </a:lnTo>
                    <a:lnTo>
                      <a:pt x="79" y="443"/>
                    </a:lnTo>
                    <a:lnTo>
                      <a:pt x="88" y="449"/>
                    </a:lnTo>
                    <a:lnTo>
                      <a:pt x="96" y="455"/>
                    </a:lnTo>
                    <a:lnTo>
                      <a:pt x="106" y="460"/>
                    </a:lnTo>
                    <a:lnTo>
                      <a:pt x="116" y="463"/>
                    </a:lnTo>
                    <a:lnTo>
                      <a:pt x="126" y="466"/>
                    </a:lnTo>
                    <a:lnTo>
                      <a:pt x="136" y="467"/>
                    </a:lnTo>
                    <a:lnTo>
                      <a:pt x="145" y="468"/>
                    </a:lnTo>
                    <a:lnTo>
                      <a:pt x="155" y="468"/>
                    </a:lnTo>
                    <a:lnTo>
                      <a:pt x="166" y="467"/>
                    </a:lnTo>
                    <a:lnTo>
                      <a:pt x="176" y="465"/>
                    </a:lnTo>
                    <a:lnTo>
                      <a:pt x="186" y="461"/>
                    </a:lnTo>
                    <a:lnTo>
                      <a:pt x="196" y="457"/>
                    </a:lnTo>
                    <a:lnTo>
                      <a:pt x="206" y="452"/>
                    </a:lnTo>
                    <a:lnTo>
                      <a:pt x="214" y="446"/>
                    </a:lnTo>
                    <a:lnTo>
                      <a:pt x="224" y="440"/>
                    </a:lnTo>
                    <a:lnTo>
                      <a:pt x="233" y="433"/>
                    </a:lnTo>
                    <a:lnTo>
                      <a:pt x="241" y="424"/>
                    </a:lnTo>
                    <a:lnTo>
                      <a:pt x="259" y="407"/>
                    </a:lnTo>
                    <a:lnTo>
                      <a:pt x="275" y="386"/>
                    </a:lnTo>
                    <a:lnTo>
                      <a:pt x="289" y="363"/>
                    </a:lnTo>
                    <a:lnTo>
                      <a:pt x="303" y="336"/>
                    </a:lnTo>
                    <a:lnTo>
                      <a:pt x="315" y="306"/>
                    </a:lnTo>
                    <a:lnTo>
                      <a:pt x="326" y="274"/>
                    </a:lnTo>
                    <a:lnTo>
                      <a:pt x="337" y="240"/>
                    </a:lnTo>
                    <a:lnTo>
                      <a:pt x="345" y="201"/>
                    </a:lnTo>
                    <a:lnTo>
                      <a:pt x="352" y="161"/>
                    </a:lnTo>
                    <a:lnTo>
                      <a:pt x="357" y="118"/>
                    </a:lnTo>
                    <a:lnTo>
                      <a:pt x="359" y="72"/>
                    </a:lnTo>
                    <a:lnTo>
                      <a:pt x="361" y="23"/>
                    </a:lnTo>
                    <a:lnTo>
                      <a:pt x="332" y="0"/>
                    </a:lnTo>
                    <a:lnTo>
                      <a:pt x="361" y="23"/>
                    </a:lnTo>
                    <a:lnTo>
                      <a:pt x="361" y="18"/>
                    </a:lnTo>
                    <a:lnTo>
                      <a:pt x="359" y="13"/>
                    </a:lnTo>
                    <a:lnTo>
                      <a:pt x="357" y="8"/>
                    </a:lnTo>
                    <a:lnTo>
                      <a:pt x="353" y="6"/>
                    </a:lnTo>
                    <a:lnTo>
                      <a:pt x="350" y="2"/>
                    </a:lnTo>
                    <a:lnTo>
                      <a:pt x="346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1"/>
                    </a:lnTo>
                    <a:lnTo>
                      <a:pt x="324" y="2"/>
                    </a:lnTo>
                    <a:lnTo>
                      <a:pt x="320" y="6"/>
                    </a:lnTo>
                    <a:lnTo>
                      <a:pt x="316" y="8"/>
                    </a:lnTo>
                    <a:lnTo>
                      <a:pt x="314" y="13"/>
                    </a:lnTo>
                    <a:lnTo>
                      <a:pt x="313" y="18"/>
                    </a:lnTo>
                    <a:lnTo>
                      <a:pt x="313" y="23"/>
                    </a:lnTo>
                    <a:lnTo>
                      <a:pt x="34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142160" y="3684240"/>
                <a:ext cx="126360" cy="39600"/>
              </a:xfrm>
              <a:custGeom>
                <a:avLst/>
                <a:gdLst/>
                <a:ahLst/>
                <a:rect l="l" t="t" r="r" b="b"/>
                <a:pathLst>
                  <a:path w="335" h="106">
                    <a:moveTo>
                      <a:pt x="0" y="78"/>
                    </a:moveTo>
                    <a:lnTo>
                      <a:pt x="29" y="106"/>
                    </a:lnTo>
                    <a:lnTo>
                      <a:pt x="335" y="48"/>
                    </a:lnTo>
                    <a:lnTo>
                      <a:pt x="326" y="0"/>
                    </a:lnTo>
                    <a:lnTo>
                      <a:pt x="20" y="58"/>
                    </a:lnTo>
                    <a:lnTo>
                      <a:pt x="0" y="78"/>
                    </a:lnTo>
                    <a:lnTo>
                      <a:pt x="20" y="58"/>
                    </a:lnTo>
                    <a:lnTo>
                      <a:pt x="14" y="59"/>
                    </a:lnTo>
                    <a:lnTo>
                      <a:pt x="10" y="61"/>
                    </a:lnTo>
                    <a:lnTo>
                      <a:pt x="7" y="65"/>
                    </a:lnTo>
                    <a:lnTo>
                      <a:pt x="3" y="69"/>
                    </a:lnTo>
                    <a:lnTo>
                      <a:pt x="2" y="72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2" y="91"/>
                    </a:lnTo>
                    <a:lnTo>
                      <a:pt x="4" y="94"/>
                    </a:lnTo>
                    <a:lnTo>
                      <a:pt x="7" y="98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18" y="106"/>
                    </a:lnTo>
                    <a:lnTo>
                      <a:pt x="23" y="106"/>
                    </a:lnTo>
                    <a:lnTo>
                      <a:pt x="29" y="10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712680" y="3724200"/>
                <a:ext cx="134280" cy="111600"/>
              </a:xfrm>
              <a:custGeom>
                <a:avLst/>
                <a:gdLst/>
                <a:ahLst/>
                <a:rect l="l" t="t" r="r" b="b"/>
                <a:pathLst>
                  <a:path w="355" h="297">
                    <a:moveTo>
                      <a:pt x="330" y="248"/>
                    </a:moveTo>
                    <a:lnTo>
                      <a:pt x="331" y="248"/>
                    </a:lnTo>
                    <a:lnTo>
                      <a:pt x="290" y="248"/>
                    </a:lnTo>
                    <a:lnTo>
                      <a:pt x="253" y="248"/>
                    </a:lnTo>
                    <a:lnTo>
                      <a:pt x="219" y="247"/>
                    </a:lnTo>
                    <a:lnTo>
                      <a:pt x="189" y="244"/>
                    </a:lnTo>
                    <a:lnTo>
                      <a:pt x="176" y="242"/>
                    </a:lnTo>
                    <a:lnTo>
                      <a:pt x="164" y="239"/>
                    </a:lnTo>
                    <a:lnTo>
                      <a:pt x="151" y="237"/>
                    </a:lnTo>
                    <a:lnTo>
                      <a:pt x="140" y="234"/>
                    </a:lnTo>
                    <a:lnTo>
                      <a:pt x="130" y="231"/>
                    </a:lnTo>
                    <a:lnTo>
                      <a:pt x="122" y="227"/>
                    </a:lnTo>
                    <a:lnTo>
                      <a:pt x="113" y="222"/>
                    </a:lnTo>
                    <a:lnTo>
                      <a:pt x="106" y="217"/>
                    </a:lnTo>
                    <a:lnTo>
                      <a:pt x="100" y="211"/>
                    </a:lnTo>
                    <a:lnTo>
                      <a:pt x="93" y="206"/>
                    </a:lnTo>
                    <a:lnTo>
                      <a:pt x="87" y="199"/>
                    </a:lnTo>
                    <a:lnTo>
                      <a:pt x="81" y="191"/>
                    </a:lnTo>
                    <a:lnTo>
                      <a:pt x="76" y="182"/>
                    </a:lnTo>
                    <a:lnTo>
                      <a:pt x="73" y="172"/>
                    </a:lnTo>
                    <a:lnTo>
                      <a:pt x="68" y="161"/>
                    </a:lnTo>
                    <a:lnTo>
                      <a:pt x="64" y="148"/>
                    </a:lnTo>
                    <a:lnTo>
                      <a:pt x="60" y="135"/>
                    </a:lnTo>
                    <a:lnTo>
                      <a:pt x="58" y="120"/>
                    </a:lnTo>
                    <a:lnTo>
                      <a:pt x="55" y="104"/>
                    </a:lnTo>
                    <a:lnTo>
                      <a:pt x="53" y="86"/>
                    </a:lnTo>
                    <a:lnTo>
                      <a:pt x="50" y="4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1" y="48"/>
                    </a:lnTo>
                    <a:lnTo>
                      <a:pt x="4" y="91"/>
                    </a:lnTo>
                    <a:lnTo>
                      <a:pt x="6" y="110"/>
                    </a:lnTo>
                    <a:lnTo>
                      <a:pt x="10" y="129"/>
                    </a:lnTo>
                    <a:lnTo>
                      <a:pt x="12" y="146"/>
                    </a:lnTo>
                    <a:lnTo>
                      <a:pt x="17" y="162"/>
                    </a:lnTo>
                    <a:lnTo>
                      <a:pt x="22" y="177"/>
                    </a:lnTo>
                    <a:lnTo>
                      <a:pt x="27" y="191"/>
                    </a:lnTo>
                    <a:lnTo>
                      <a:pt x="33" y="205"/>
                    </a:lnTo>
                    <a:lnTo>
                      <a:pt x="41" y="217"/>
                    </a:lnTo>
                    <a:lnTo>
                      <a:pt x="49" y="228"/>
                    </a:lnTo>
                    <a:lnTo>
                      <a:pt x="58" y="239"/>
                    </a:lnTo>
                    <a:lnTo>
                      <a:pt x="68" y="248"/>
                    </a:lnTo>
                    <a:lnTo>
                      <a:pt x="77" y="257"/>
                    </a:lnTo>
                    <a:lnTo>
                      <a:pt x="89" y="264"/>
                    </a:lnTo>
                    <a:lnTo>
                      <a:pt x="101" y="270"/>
                    </a:lnTo>
                    <a:lnTo>
                      <a:pt x="113" y="276"/>
                    </a:lnTo>
                    <a:lnTo>
                      <a:pt x="125" y="280"/>
                    </a:lnTo>
                    <a:lnTo>
                      <a:pt x="139" y="285"/>
                    </a:lnTo>
                    <a:lnTo>
                      <a:pt x="154" y="287"/>
                    </a:lnTo>
                    <a:lnTo>
                      <a:pt x="168" y="290"/>
                    </a:lnTo>
                    <a:lnTo>
                      <a:pt x="184" y="292"/>
                    </a:lnTo>
                    <a:lnTo>
                      <a:pt x="216" y="295"/>
                    </a:lnTo>
                    <a:lnTo>
                      <a:pt x="251" y="296"/>
                    </a:lnTo>
                    <a:lnTo>
                      <a:pt x="290" y="297"/>
                    </a:lnTo>
                    <a:lnTo>
                      <a:pt x="331" y="297"/>
                    </a:lnTo>
                    <a:lnTo>
                      <a:pt x="332" y="297"/>
                    </a:lnTo>
                    <a:lnTo>
                      <a:pt x="331" y="297"/>
                    </a:lnTo>
                    <a:lnTo>
                      <a:pt x="337" y="297"/>
                    </a:lnTo>
                    <a:lnTo>
                      <a:pt x="342" y="295"/>
                    </a:lnTo>
                    <a:lnTo>
                      <a:pt x="346" y="292"/>
                    </a:lnTo>
                    <a:lnTo>
                      <a:pt x="349" y="290"/>
                    </a:lnTo>
                    <a:lnTo>
                      <a:pt x="352" y="286"/>
                    </a:lnTo>
                    <a:lnTo>
                      <a:pt x="354" y="282"/>
                    </a:lnTo>
                    <a:lnTo>
                      <a:pt x="355" y="278"/>
                    </a:lnTo>
                    <a:lnTo>
                      <a:pt x="355" y="273"/>
                    </a:lnTo>
                    <a:lnTo>
                      <a:pt x="355" y="269"/>
                    </a:lnTo>
                    <a:lnTo>
                      <a:pt x="354" y="264"/>
                    </a:lnTo>
                    <a:lnTo>
                      <a:pt x="352" y="260"/>
                    </a:lnTo>
                    <a:lnTo>
                      <a:pt x="349" y="257"/>
                    </a:lnTo>
                    <a:lnTo>
                      <a:pt x="346" y="253"/>
                    </a:lnTo>
                    <a:lnTo>
                      <a:pt x="342" y="250"/>
                    </a:lnTo>
                    <a:lnTo>
                      <a:pt x="337" y="249"/>
                    </a:lnTo>
                    <a:lnTo>
                      <a:pt x="331" y="248"/>
                    </a:lnTo>
                    <a:lnTo>
                      <a:pt x="330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835800" y="3729960"/>
                <a:ext cx="69840" cy="105840"/>
              </a:xfrm>
              <a:custGeom>
                <a:avLst/>
                <a:gdLst/>
                <a:ahLst/>
                <a:rect l="l" t="t" r="r" b="b"/>
                <a:pathLst>
                  <a:path w="187" h="280">
                    <a:moveTo>
                      <a:pt x="26" y="48"/>
                    </a:moveTo>
                    <a:lnTo>
                      <a:pt x="21" y="48"/>
                    </a:lnTo>
                    <a:lnTo>
                      <a:pt x="38" y="51"/>
                    </a:lnTo>
                    <a:lnTo>
                      <a:pt x="55" y="55"/>
                    </a:lnTo>
                    <a:lnTo>
                      <a:pt x="70" y="60"/>
                    </a:lnTo>
                    <a:lnTo>
                      <a:pt x="82" y="65"/>
                    </a:lnTo>
                    <a:lnTo>
                      <a:pt x="93" y="71"/>
                    </a:lnTo>
                    <a:lnTo>
                      <a:pt x="103" y="76"/>
                    </a:lnTo>
                    <a:lnTo>
                      <a:pt x="112" y="83"/>
                    </a:lnTo>
                    <a:lnTo>
                      <a:pt x="119" y="90"/>
                    </a:lnTo>
                    <a:lnTo>
                      <a:pt x="125" y="96"/>
                    </a:lnTo>
                    <a:lnTo>
                      <a:pt x="129" y="103"/>
                    </a:lnTo>
                    <a:lnTo>
                      <a:pt x="133" y="109"/>
                    </a:lnTo>
                    <a:lnTo>
                      <a:pt x="135" y="117"/>
                    </a:lnTo>
                    <a:lnTo>
                      <a:pt x="136" y="123"/>
                    </a:lnTo>
                    <a:lnTo>
                      <a:pt x="138" y="130"/>
                    </a:lnTo>
                    <a:lnTo>
                      <a:pt x="138" y="138"/>
                    </a:lnTo>
                    <a:lnTo>
                      <a:pt x="136" y="144"/>
                    </a:lnTo>
                    <a:lnTo>
                      <a:pt x="135" y="151"/>
                    </a:lnTo>
                    <a:lnTo>
                      <a:pt x="133" y="158"/>
                    </a:lnTo>
                    <a:lnTo>
                      <a:pt x="129" y="166"/>
                    </a:lnTo>
                    <a:lnTo>
                      <a:pt x="124" y="173"/>
                    </a:lnTo>
                    <a:lnTo>
                      <a:pt x="119" y="181"/>
                    </a:lnTo>
                    <a:lnTo>
                      <a:pt x="113" y="188"/>
                    </a:lnTo>
                    <a:lnTo>
                      <a:pt x="107" y="194"/>
                    </a:lnTo>
                    <a:lnTo>
                      <a:pt x="98" y="200"/>
                    </a:lnTo>
                    <a:lnTo>
                      <a:pt x="90" y="206"/>
                    </a:lnTo>
                    <a:lnTo>
                      <a:pt x="81" y="213"/>
                    </a:lnTo>
                    <a:lnTo>
                      <a:pt x="70" y="217"/>
                    </a:lnTo>
                    <a:lnTo>
                      <a:pt x="59" y="221"/>
                    </a:lnTo>
                    <a:lnTo>
                      <a:pt x="48" y="225"/>
                    </a:lnTo>
                    <a:lnTo>
                      <a:pt x="36" y="229"/>
                    </a:lnTo>
                    <a:lnTo>
                      <a:pt x="22" y="230"/>
                    </a:lnTo>
                    <a:lnTo>
                      <a:pt x="9" y="231"/>
                    </a:lnTo>
                    <a:lnTo>
                      <a:pt x="11" y="280"/>
                    </a:lnTo>
                    <a:lnTo>
                      <a:pt x="28" y="279"/>
                    </a:lnTo>
                    <a:lnTo>
                      <a:pt x="45" y="277"/>
                    </a:lnTo>
                    <a:lnTo>
                      <a:pt x="60" y="273"/>
                    </a:lnTo>
                    <a:lnTo>
                      <a:pt x="76" y="268"/>
                    </a:lnTo>
                    <a:lnTo>
                      <a:pt x="90" y="262"/>
                    </a:lnTo>
                    <a:lnTo>
                      <a:pt x="103" y="256"/>
                    </a:lnTo>
                    <a:lnTo>
                      <a:pt x="116" y="248"/>
                    </a:lnTo>
                    <a:lnTo>
                      <a:pt x="128" y="240"/>
                    </a:lnTo>
                    <a:lnTo>
                      <a:pt x="139" y="231"/>
                    </a:lnTo>
                    <a:lnTo>
                      <a:pt x="149" y="221"/>
                    </a:lnTo>
                    <a:lnTo>
                      <a:pt x="157" y="211"/>
                    </a:lnTo>
                    <a:lnTo>
                      <a:pt x="165" y="200"/>
                    </a:lnTo>
                    <a:lnTo>
                      <a:pt x="172" y="189"/>
                    </a:lnTo>
                    <a:lnTo>
                      <a:pt x="177" y="177"/>
                    </a:lnTo>
                    <a:lnTo>
                      <a:pt x="182" y="166"/>
                    </a:lnTo>
                    <a:lnTo>
                      <a:pt x="184" y="152"/>
                    </a:lnTo>
                    <a:lnTo>
                      <a:pt x="187" y="140"/>
                    </a:lnTo>
                    <a:lnTo>
                      <a:pt x="187" y="128"/>
                    </a:lnTo>
                    <a:lnTo>
                      <a:pt x="184" y="114"/>
                    </a:lnTo>
                    <a:lnTo>
                      <a:pt x="182" y="102"/>
                    </a:lnTo>
                    <a:lnTo>
                      <a:pt x="177" y="90"/>
                    </a:lnTo>
                    <a:lnTo>
                      <a:pt x="171" y="77"/>
                    </a:lnTo>
                    <a:lnTo>
                      <a:pt x="164" y="66"/>
                    </a:lnTo>
                    <a:lnTo>
                      <a:pt x="154" y="55"/>
                    </a:lnTo>
                    <a:lnTo>
                      <a:pt x="143" y="45"/>
                    </a:lnTo>
                    <a:lnTo>
                      <a:pt x="132" y="37"/>
                    </a:lnTo>
                    <a:lnTo>
                      <a:pt x="117" y="28"/>
                    </a:lnTo>
                    <a:lnTo>
                      <a:pt x="102" y="21"/>
                    </a:lnTo>
                    <a:lnTo>
                      <a:pt x="86" y="13"/>
                    </a:lnTo>
                    <a:lnTo>
                      <a:pt x="68" y="8"/>
                    </a:lnTo>
                    <a:lnTo>
                      <a:pt x="48" y="3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9" y="5"/>
                    </a:lnTo>
                    <a:lnTo>
                      <a:pt x="5" y="7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21" y="48"/>
                    </a:lnTo>
                    <a:lnTo>
                      <a:pt x="2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712680" y="3714840"/>
                <a:ext cx="132480" cy="33840"/>
              </a:xfrm>
              <a:custGeom>
                <a:avLst/>
                <a:gdLst/>
                <a:ahLst/>
                <a:rect l="l" t="t" r="r" b="b"/>
                <a:pathLst>
                  <a:path w="347" h="92">
                    <a:moveTo>
                      <a:pt x="49" y="26"/>
                    </a:moveTo>
                    <a:lnTo>
                      <a:pt x="26" y="49"/>
                    </a:lnTo>
                    <a:lnTo>
                      <a:pt x="47" y="49"/>
                    </a:lnTo>
                    <a:lnTo>
                      <a:pt x="65" y="49"/>
                    </a:lnTo>
                    <a:lnTo>
                      <a:pt x="85" y="51"/>
                    </a:lnTo>
                    <a:lnTo>
                      <a:pt x="103" y="54"/>
                    </a:lnTo>
                    <a:lnTo>
                      <a:pt x="141" y="61"/>
                    </a:lnTo>
                    <a:lnTo>
                      <a:pt x="178" y="70"/>
                    </a:lnTo>
                    <a:lnTo>
                      <a:pt x="218" y="78"/>
                    </a:lnTo>
                    <a:lnTo>
                      <a:pt x="257" y="86"/>
                    </a:lnTo>
                    <a:lnTo>
                      <a:pt x="279" y="90"/>
                    </a:lnTo>
                    <a:lnTo>
                      <a:pt x="301" y="91"/>
                    </a:lnTo>
                    <a:lnTo>
                      <a:pt x="323" y="92"/>
                    </a:lnTo>
                    <a:lnTo>
                      <a:pt x="347" y="91"/>
                    </a:lnTo>
                    <a:lnTo>
                      <a:pt x="344" y="43"/>
                    </a:lnTo>
                    <a:lnTo>
                      <a:pt x="323" y="43"/>
                    </a:lnTo>
                    <a:lnTo>
                      <a:pt x="304" y="43"/>
                    </a:lnTo>
                    <a:lnTo>
                      <a:pt x="284" y="40"/>
                    </a:lnTo>
                    <a:lnTo>
                      <a:pt x="266" y="38"/>
                    </a:lnTo>
                    <a:lnTo>
                      <a:pt x="227" y="30"/>
                    </a:lnTo>
                    <a:lnTo>
                      <a:pt x="189" y="22"/>
                    </a:lnTo>
                    <a:lnTo>
                      <a:pt x="151" y="13"/>
                    </a:lnTo>
                    <a:lnTo>
                      <a:pt x="111" y="6"/>
                    </a:lnTo>
                    <a:lnTo>
                      <a:pt x="90" y="2"/>
                    </a:lnTo>
                    <a:lnTo>
                      <a:pt x="69" y="1"/>
                    </a:lnTo>
                    <a:lnTo>
                      <a:pt x="47" y="0"/>
                    </a:lnTo>
                    <a:lnTo>
                      <a:pt x="23" y="1"/>
                    </a:lnTo>
                    <a:lnTo>
                      <a:pt x="0" y="26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5" y="39"/>
                    </a:lnTo>
                    <a:lnTo>
                      <a:pt x="7" y="43"/>
                    </a:lnTo>
                    <a:lnTo>
                      <a:pt x="11" y="45"/>
                    </a:lnTo>
                    <a:lnTo>
                      <a:pt x="16" y="48"/>
                    </a:lnTo>
                    <a:lnTo>
                      <a:pt x="21" y="49"/>
                    </a:lnTo>
                    <a:lnTo>
                      <a:pt x="26" y="49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199680" y="3811320"/>
                <a:ext cx="94320" cy="39240"/>
              </a:xfrm>
              <a:custGeom>
                <a:avLst/>
                <a:gdLst/>
                <a:ahLst/>
                <a:rect l="l" t="t" r="r" b="b"/>
                <a:pathLst>
                  <a:path w="249" h="106">
                    <a:moveTo>
                      <a:pt x="249" y="82"/>
                    </a:moveTo>
                    <a:lnTo>
                      <a:pt x="230" y="58"/>
                    </a:lnTo>
                    <a:lnTo>
                      <a:pt x="12" y="0"/>
                    </a:lnTo>
                    <a:lnTo>
                      <a:pt x="0" y="47"/>
                    </a:lnTo>
                    <a:lnTo>
                      <a:pt x="218" y="106"/>
                    </a:lnTo>
                    <a:lnTo>
                      <a:pt x="249" y="82"/>
                    </a:lnTo>
                    <a:lnTo>
                      <a:pt x="218" y="106"/>
                    </a:lnTo>
                    <a:lnTo>
                      <a:pt x="224" y="106"/>
                    </a:lnTo>
                    <a:lnTo>
                      <a:pt x="229" y="106"/>
                    </a:lnTo>
                    <a:lnTo>
                      <a:pt x="234" y="105"/>
                    </a:lnTo>
                    <a:lnTo>
                      <a:pt x="237" y="102"/>
                    </a:lnTo>
                    <a:lnTo>
                      <a:pt x="241" y="100"/>
                    </a:lnTo>
                    <a:lnTo>
                      <a:pt x="244" y="96"/>
                    </a:lnTo>
                    <a:lnTo>
                      <a:pt x="246" y="93"/>
                    </a:lnTo>
                    <a:lnTo>
                      <a:pt x="247" y="88"/>
                    </a:lnTo>
                    <a:lnTo>
                      <a:pt x="249" y="84"/>
                    </a:lnTo>
                    <a:lnTo>
                      <a:pt x="249" y="79"/>
                    </a:lnTo>
                    <a:lnTo>
                      <a:pt x="247" y="75"/>
                    </a:lnTo>
                    <a:lnTo>
                      <a:pt x="246" y="70"/>
                    </a:lnTo>
                    <a:lnTo>
                      <a:pt x="244" y="67"/>
                    </a:lnTo>
                    <a:lnTo>
                      <a:pt x="240" y="63"/>
                    </a:lnTo>
                    <a:lnTo>
                      <a:pt x="236" y="61"/>
                    </a:lnTo>
                    <a:lnTo>
                      <a:pt x="230" y="58"/>
                    </a:lnTo>
                    <a:lnTo>
                      <a:pt x="24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275280" y="3841560"/>
                <a:ext cx="18720" cy="96480"/>
              </a:xfrm>
              <a:custGeom>
                <a:avLst/>
                <a:gdLst/>
                <a:ahLst/>
                <a:rect l="l" t="t" r="r" b="b"/>
                <a:pathLst>
                  <a:path w="50" h="254">
                    <a:moveTo>
                      <a:pt x="25" y="254"/>
                    </a:moveTo>
                    <a:lnTo>
                      <a:pt x="50" y="230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230"/>
                    </a:lnTo>
                    <a:lnTo>
                      <a:pt x="25" y="254"/>
                    </a:lnTo>
                    <a:lnTo>
                      <a:pt x="0" y="230"/>
                    </a:lnTo>
                    <a:lnTo>
                      <a:pt x="2" y="236"/>
                    </a:lnTo>
                    <a:lnTo>
                      <a:pt x="3" y="241"/>
                    </a:lnTo>
                    <a:lnTo>
                      <a:pt x="5" y="244"/>
                    </a:lnTo>
                    <a:lnTo>
                      <a:pt x="9" y="248"/>
                    </a:lnTo>
                    <a:lnTo>
                      <a:pt x="13" y="250"/>
                    </a:lnTo>
                    <a:lnTo>
                      <a:pt x="16" y="253"/>
                    </a:lnTo>
                    <a:lnTo>
                      <a:pt x="21" y="254"/>
                    </a:lnTo>
                    <a:lnTo>
                      <a:pt x="25" y="254"/>
                    </a:lnTo>
                    <a:lnTo>
                      <a:pt x="30" y="254"/>
                    </a:lnTo>
                    <a:lnTo>
                      <a:pt x="35" y="253"/>
                    </a:lnTo>
                    <a:lnTo>
                      <a:pt x="38" y="250"/>
                    </a:lnTo>
                    <a:lnTo>
                      <a:pt x="42" y="248"/>
                    </a:lnTo>
                    <a:lnTo>
                      <a:pt x="45" y="244"/>
                    </a:lnTo>
                    <a:lnTo>
                      <a:pt x="47" y="241"/>
                    </a:lnTo>
                    <a:lnTo>
                      <a:pt x="50" y="236"/>
                    </a:lnTo>
                    <a:lnTo>
                      <a:pt x="50" y="230"/>
                    </a:lnTo>
                    <a:lnTo>
                      <a:pt x="25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245400" y="3919320"/>
                <a:ext cx="39240" cy="34200"/>
              </a:xfrm>
              <a:custGeom>
                <a:avLst/>
                <a:gdLst/>
                <a:ahLst/>
                <a:rect l="l" t="t" r="r" b="b"/>
                <a:pathLst>
                  <a:path w="101" h="88">
                    <a:moveTo>
                      <a:pt x="39" y="84"/>
                    </a:moveTo>
                    <a:lnTo>
                      <a:pt x="49" y="64"/>
                    </a:lnTo>
                    <a:lnTo>
                      <a:pt x="48" y="69"/>
                    </a:lnTo>
                    <a:lnTo>
                      <a:pt x="47" y="71"/>
                    </a:lnTo>
                    <a:lnTo>
                      <a:pt x="48" y="70"/>
                    </a:lnTo>
                    <a:lnTo>
                      <a:pt x="48" y="70"/>
                    </a:lnTo>
                    <a:lnTo>
                      <a:pt x="55" y="65"/>
                    </a:lnTo>
                    <a:lnTo>
                      <a:pt x="65" y="60"/>
                    </a:lnTo>
                    <a:lnTo>
                      <a:pt x="76" y="55"/>
                    </a:lnTo>
                    <a:lnTo>
                      <a:pt x="87" y="52"/>
                    </a:lnTo>
                    <a:lnTo>
                      <a:pt x="96" y="50"/>
                    </a:lnTo>
                    <a:lnTo>
                      <a:pt x="101" y="49"/>
                    </a:lnTo>
                    <a:lnTo>
                      <a:pt x="101" y="0"/>
                    </a:lnTo>
                    <a:lnTo>
                      <a:pt x="87" y="2"/>
                    </a:lnTo>
                    <a:lnTo>
                      <a:pt x="74" y="5"/>
                    </a:lnTo>
                    <a:lnTo>
                      <a:pt x="59" y="10"/>
                    </a:lnTo>
                    <a:lnTo>
                      <a:pt x="46" y="16"/>
                    </a:lnTo>
                    <a:lnTo>
                      <a:pt x="31" y="23"/>
                    </a:lnTo>
                    <a:lnTo>
                      <a:pt x="19" y="31"/>
                    </a:lnTo>
                    <a:lnTo>
                      <a:pt x="12" y="37"/>
                    </a:lnTo>
                    <a:lnTo>
                      <a:pt x="6" y="44"/>
                    </a:lnTo>
                    <a:lnTo>
                      <a:pt x="3" y="53"/>
                    </a:lnTo>
                    <a:lnTo>
                      <a:pt x="0" y="64"/>
                    </a:lnTo>
                    <a:lnTo>
                      <a:pt x="10" y="44"/>
                    </a:lnTo>
                    <a:lnTo>
                      <a:pt x="0" y="64"/>
                    </a:lnTo>
                    <a:lnTo>
                      <a:pt x="1" y="70"/>
                    </a:lnTo>
                    <a:lnTo>
                      <a:pt x="3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11" y="85"/>
                    </a:lnTo>
                    <a:lnTo>
                      <a:pt x="16" y="87"/>
                    </a:lnTo>
                    <a:lnTo>
                      <a:pt x="20" y="88"/>
                    </a:lnTo>
                    <a:lnTo>
                      <a:pt x="25" y="88"/>
                    </a:lnTo>
                    <a:lnTo>
                      <a:pt x="30" y="88"/>
                    </a:lnTo>
                    <a:lnTo>
                      <a:pt x="33" y="87"/>
                    </a:lnTo>
                    <a:lnTo>
                      <a:pt x="38" y="85"/>
                    </a:lnTo>
                    <a:lnTo>
                      <a:pt x="42" y="82"/>
                    </a:lnTo>
                    <a:lnTo>
                      <a:pt x="44" y="79"/>
                    </a:lnTo>
                    <a:lnTo>
                      <a:pt x="47" y="75"/>
                    </a:lnTo>
                    <a:lnTo>
                      <a:pt x="48" y="70"/>
                    </a:lnTo>
                    <a:lnTo>
                      <a:pt x="49" y="64"/>
                    </a:lnTo>
                    <a:lnTo>
                      <a:pt x="39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101760" y="3934080"/>
                <a:ext cx="158400" cy="34200"/>
              </a:xfrm>
              <a:custGeom>
                <a:avLst/>
                <a:gdLst/>
                <a:ahLst/>
                <a:rect l="l" t="t" r="r" b="b"/>
                <a:pathLst>
                  <a:path w="421" h="89">
                    <a:moveTo>
                      <a:pt x="0" y="18"/>
                    </a:moveTo>
                    <a:lnTo>
                      <a:pt x="24" y="47"/>
                    </a:lnTo>
                    <a:lnTo>
                      <a:pt x="45" y="49"/>
                    </a:lnTo>
                    <a:lnTo>
                      <a:pt x="68" y="51"/>
                    </a:lnTo>
                    <a:lnTo>
                      <a:pt x="91" y="55"/>
                    </a:lnTo>
                    <a:lnTo>
                      <a:pt x="114" y="60"/>
                    </a:lnTo>
                    <a:lnTo>
                      <a:pt x="162" y="72"/>
                    </a:lnTo>
                    <a:lnTo>
                      <a:pt x="210" y="82"/>
                    </a:lnTo>
                    <a:lnTo>
                      <a:pt x="236" y="86"/>
                    </a:lnTo>
                    <a:lnTo>
                      <a:pt x="262" y="88"/>
                    </a:lnTo>
                    <a:lnTo>
                      <a:pt x="287" y="89"/>
                    </a:lnTo>
                    <a:lnTo>
                      <a:pt x="313" y="87"/>
                    </a:lnTo>
                    <a:lnTo>
                      <a:pt x="328" y="84"/>
                    </a:lnTo>
                    <a:lnTo>
                      <a:pt x="342" y="82"/>
                    </a:lnTo>
                    <a:lnTo>
                      <a:pt x="354" y="77"/>
                    </a:lnTo>
                    <a:lnTo>
                      <a:pt x="367" y="72"/>
                    </a:lnTo>
                    <a:lnTo>
                      <a:pt x="381" y="67"/>
                    </a:lnTo>
                    <a:lnTo>
                      <a:pt x="394" y="60"/>
                    </a:lnTo>
                    <a:lnTo>
                      <a:pt x="408" y="52"/>
                    </a:lnTo>
                    <a:lnTo>
                      <a:pt x="421" y="43"/>
                    </a:lnTo>
                    <a:lnTo>
                      <a:pt x="392" y="3"/>
                    </a:lnTo>
                    <a:lnTo>
                      <a:pt x="382" y="11"/>
                    </a:lnTo>
                    <a:lnTo>
                      <a:pt x="371" y="18"/>
                    </a:lnTo>
                    <a:lnTo>
                      <a:pt x="360" y="23"/>
                    </a:lnTo>
                    <a:lnTo>
                      <a:pt x="350" y="28"/>
                    </a:lnTo>
                    <a:lnTo>
                      <a:pt x="339" y="31"/>
                    </a:lnTo>
                    <a:lnTo>
                      <a:pt x="329" y="34"/>
                    </a:lnTo>
                    <a:lnTo>
                      <a:pt x="318" y="36"/>
                    </a:lnTo>
                    <a:lnTo>
                      <a:pt x="308" y="39"/>
                    </a:lnTo>
                    <a:lnTo>
                      <a:pt x="286" y="40"/>
                    </a:lnTo>
                    <a:lnTo>
                      <a:pt x="264" y="40"/>
                    </a:lnTo>
                    <a:lnTo>
                      <a:pt x="242" y="38"/>
                    </a:lnTo>
                    <a:lnTo>
                      <a:pt x="220" y="34"/>
                    </a:lnTo>
                    <a:lnTo>
                      <a:pt x="173" y="24"/>
                    </a:lnTo>
                    <a:lnTo>
                      <a:pt x="125" y="13"/>
                    </a:lnTo>
                    <a:lnTo>
                      <a:pt x="100" y="7"/>
                    </a:lnTo>
                    <a:lnTo>
                      <a:pt x="75" y="3"/>
                    </a:lnTo>
                    <a:lnTo>
                      <a:pt x="50" y="0"/>
                    </a:lnTo>
                    <a:lnTo>
                      <a:pt x="24" y="0"/>
                    </a:lnTo>
                    <a:lnTo>
                      <a:pt x="48" y="28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6" y="7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2" y="36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13" y="46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101760" y="3809160"/>
                <a:ext cx="109080" cy="136440"/>
              </a:xfrm>
              <a:custGeom>
                <a:avLst/>
                <a:gdLst/>
                <a:ahLst/>
                <a:rect l="l" t="t" r="r" b="b"/>
                <a:pathLst>
                  <a:path w="290" h="357">
                    <a:moveTo>
                      <a:pt x="271" y="1"/>
                    </a:moveTo>
                    <a:lnTo>
                      <a:pt x="264" y="0"/>
                    </a:lnTo>
                    <a:lnTo>
                      <a:pt x="253" y="1"/>
                    </a:lnTo>
                    <a:lnTo>
                      <a:pt x="242" y="4"/>
                    </a:lnTo>
                    <a:lnTo>
                      <a:pt x="231" y="7"/>
                    </a:lnTo>
                    <a:lnTo>
                      <a:pt x="220" y="11"/>
                    </a:lnTo>
                    <a:lnTo>
                      <a:pt x="209" y="16"/>
                    </a:lnTo>
                    <a:lnTo>
                      <a:pt x="199" y="21"/>
                    </a:lnTo>
                    <a:lnTo>
                      <a:pt x="188" y="27"/>
                    </a:lnTo>
                    <a:lnTo>
                      <a:pt x="178" y="35"/>
                    </a:lnTo>
                    <a:lnTo>
                      <a:pt x="158" y="51"/>
                    </a:lnTo>
                    <a:lnTo>
                      <a:pt x="139" y="69"/>
                    </a:lnTo>
                    <a:lnTo>
                      <a:pt x="120" y="90"/>
                    </a:lnTo>
                    <a:lnTo>
                      <a:pt x="102" y="112"/>
                    </a:lnTo>
                    <a:lnTo>
                      <a:pt x="86" y="137"/>
                    </a:lnTo>
                    <a:lnTo>
                      <a:pt x="70" y="164"/>
                    </a:lnTo>
                    <a:lnTo>
                      <a:pt x="54" y="192"/>
                    </a:lnTo>
                    <a:lnTo>
                      <a:pt x="40" y="220"/>
                    </a:lnTo>
                    <a:lnTo>
                      <a:pt x="28" y="251"/>
                    </a:lnTo>
                    <a:lnTo>
                      <a:pt x="17" y="283"/>
                    </a:lnTo>
                    <a:lnTo>
                      <a:pt x="7" y="315"/>
                    </a:lnTo>
                    <a:lnTo>
                      <a:pt x="0" y="347"/>
                    </a:lnTo>
                    <a:lnTo>
                      <a:pt x="48" y="357"/>
                    </a:lnTo>
                    <a:lnTo>
                      <a:pt x="55" y="327"/>
                    </a:lnTo>
                    <a:lnTo>
                      <a:pt x="64" y="298"/>
                    </a:lnTo>
                    <a:lnTo>
                      <a:pt x="73" y="268"/>
                    </a:lnTo>
                    <a:lnTo>
                      <a:pt x="84" y="240"/>
                    </a:lnTo>
                    <a:lnTo>
                      <a:pt x="98" y="213"/>
                    </a:lnTo>
                    <a:lnTo>
                      <a:pt x="112" y="187"/>
                    </a:lnTo>
                    <a:lnTo>
                      <a:pt x="126" y="164"/>
                    </a:lnTo>
                    <a:lnTo>
                      <a:pt x="141" y="142"/>
                    </a:lnTo>
                    <a:lnTo>
                      <a:pt x="157" y="121"/>
                    </a:lnTo>
                    <a:lnTo>
                      <a:pt x="173" y="103"/>
                    </a:lnTo>
                    <a:lnTo>
                      <a:pt x="190" y="87"/>
                    </a:lnTo>
                    <a:lnTo>
                      <a:pt x="207" y="74"/>
                    </a:lnTo>
                    <a:lnTo>
                      <a:pt x="215" y="69"/>
                    </a:lnTo>
                    <a:lnTo>
                      <a:pt x="222" y="64"/>
                    </a:lnTo>
                    <a:lnTo>
                      <a:pt x="231" y="59"/>
                    </a:lnTo>
                    <a:lnTo>
                      <a:pt x="238" y="55"/>
                    </a:lnTo>
                    <a:lnTo>
                      <a:pt x="246" y="53"/>
                    </a:lnTo>
                    <a:lnTo>
                      <a:pt x="253" y="52"/>
                    </a:lnTo>
                    <a:lnTo>
                      <a:pt x="259" y="51"/>
                    </a:lnTo>
                    <a:lnTo>
                      <a:pt x="267" y="49"/>
                    </a:lnTo>
                    <a:lnTo>
                      <a:pt x="259" y="48"/>
                    </a:lnTo>
                    <a:lnTo>
                      <a:pt x="267" y="49"/>
                    </a:lnTo>
                    <a:lnTo>
                      <a:pt x="271" y="48"/>
                    </a:lnTo>
                    <a:lnTo>
                      <a:pt x="276" y="47"/>
                    </a:lnTo>
                    <a:lnTo>
                      <a:pt x="281" y="44"/>
                    </a:lnTo>
                    <a:lnTo>
                      <a:pt x="284" y="41"/>
                    </a:lnTo>
                    <a:lnTo>
                      <a:pt x="286" y="37"/>
                    </a:lnTo>
                    <a:lnTo>
                      <a:pt x="289" y="33"/>
                    </a:lnTo>
                    <a:lnTo>
                      <a:pt x="289" y="28"/>
                    </a:lnTo>
                    <a:lnTo>
                      <a:pt x="290" y="23"/>
                    </a:lnTo>
                    <a:lnTo>
                      <a:pt x="289" y="20"/>
                    </a:lnTo>
                    <a:lnTo>
                      <a:pt x="287" y="15"/>
                    </a:lnTo>
                    <a:lnTo>
                      <a:pt x="285" y="11"/>
                    </a:lnTo>
                    <a:lnTo>
                      <a:pt x="282" y="7"/>
                    </a:lnTo>
                    <a:lnTo>
                      <a:pt x="279" y="5"/>
                    </a:lnTo>
                    <a:lnTo>
                      <a:pt x="275" y="3"/>
                    </a:lnTo>
                    <a:lnTo>
                      <a:pt x="270" y="1"/>
                    </a:lnTo>
                    <a:lnTo>
                      <a:pt x="264" y="0"/>
                    </a:lnTo>
                    <a:lnTo>
                      <a:pt x="27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641680" y="3783240"/>
                <a:ext cx="28080" cy="60480"/>
              </a:xfrm>
              <a:custGeom>
                <a:avLst/>
                <a:gdLst/>
                <a:ahLst/>
                <a:rect l="l" t="t" r="r" b="b"/>
                <a:pathLst>
                  <a:path w="73" h="159">
                    <a:moveTo>
                      <a:pt x="73" y="134"/>
                    </a:moveTo>
                    <a:lnTo>
                      <a:pt x="49" y="111"/>
                    </a:lnTo>
                    <a:lnTo>
                      <a:pt x="50" y="111"/>
                    </a:lnTo>
                    <a:lnTo>
                      <a:pt x="51" y="111"/>
                    </a:lnTo>
                    <a:lnTo>
                      <a:pt x="53" y="112"/>
                    </a:lnTo>
                    <a:lnTo>
                      <a:pt x="55" y="113"/>
                    </a:lnTo>
                    <a:lnTo>
                      <a:pt x="54" y="112"/>
                    </a:lnTo>
                    <a:lnTo>
                      <a:pt x="53" y="108"/>
                    </a:lnTo>
                    <a:lnTo>
                      <a:pt x="50" y="102"/>
                    </a:lnTo>
                    <a:lnTo>
                      <a:pt x="49" y="93"/>
                    </a:lnTo>
                    <a:lnTo>
                      <a:pt x="49" y="85"/>
                    </a:lnTo>
                    <a:lnTo>
                      <a:pt x="48" y="74"/>
                    </a:lnTo>
                    <a:lnTo>
                      <a:pt x="49" y="52"/>
                    </a:lnTo>
                    <a:lnTo>
                      <a:pt x="50" y="31"/>
                    </a:lnTo>
                    <a:lnTo>
                      <a:pt x="51" y="12"/>
                    </a:lnTo>
                    <a:lnTo>
                      <a:pt x="53" y="0"/>
                    </a:lnTo>
                    <a:lnTo>
                      <a:pt x="3" y="0"/>
                    </a:lnTo>
                    <a:lnTo>
                      <a:pt x="3" y="9"/>
                    </a:lnTo>
                    <a:lnTo>
                      <a:pt x="2" y="27"/>
                    </a:lnTo>
                    <a:lnTo>
                      <a:pt x="0" y="49"/>
                    </a:lnTo>
                    <a:lnTo>
                      <a:pt x="0" y="74"/>
                    </a:lnTo>
                    <a:lnTo>
                      <a:pt x="0" y="87"/>
                    </a:lnTo>
                    <a:lnTo>
                      <a:pt x="1" y="100"/>
                    </a:lnTo>
                    <a:lnTo>
                      <a:pt x="3" y="112"/>
                    </a:lnTo>
                    <a:lnTo>
                      <a:pt x="6" y="124"/>
                    </a:lnTo>
                    <a:lnTo>
                      <a:pt x="11" y="135"/>
                    </a:lnTo>
                    <a:lnTo>
                      <a:pt x="18" y="145"/>
                    </a:lnTo>
                    <a:lnTo>
                      <a:pt x="26" y="151"/>
                    </a:lnTo>
                    <a:lnTo>
                      <a:pt x="33" y="156"/>
                    </a:lnTo>
                    <a:lnTo>
                      <a:pt x="42" y="157"/>
                    </a:lnTo>
                    <a:lnTo>
                      <a:pt x="49" y="159"/>
                    </a:lnTo>
                    <a:lnTo>
                      <a:pt x="24" y="134"/>
                    </a:lnTo>
                    <a:lnTo>
                      <a:pt x="49" y="159"/>
                    </a:lnTo>
                    <a:lnTo>
                      <a:pt x="55" y="159"/>
                    </a:lnTo>
                    <a:lnTo>
                      <a:pt x="60" y="156"/>
                    </a:lnTo>
                    <a:lnTo>
                      <a:pt x="64" y="155"/>
                    </a:lnTo>
                    <a:lnTo>
                      <a:pt x="67" y="151"/>
                    </a:lnTo>
                    <a:lnTo>
                      <a:pt x="70" y="148"/>
                    </a:lnTo>
                    <a:lnTo>
                      <a:pt x="72" y="144"/>
                    </a:lnTo>
                    <a:lnTo>
                      <a:pt x="73" y="139"/>
                    </a:lnTo>
                    <a:lnTo>
                      <a:pt x="73" y="134"/>
                    </a:lnTo>
                    <a:lnTo>
                      <a:pt x="73" y="130"/>
                    </a:lnTo>
                    <a:lnTo>
                      <a:pt x="72" y="125"/>
                    </a:lnTo>
                    <a:lnTo>
                      <a:pt x="70" y="122"/>
                    </a:lnTo>
                    <a:lnTo>
                      <a:pt x="67" y="118"/>
                    </a:lnTo>
                    <a:lnTo>
                      <a:pt x="64" y="114"/>
                    </a:lnTo>
                    <a:lnTo>
                      <a:pt x="60" y="112"/>
                    </a:lnTo>
                    <a:lnTo>
                      <a:pt x="55" y="111"/>
                    </a:lnTo>
                    <a:lnTo>
                      <a:pt x="49" y="111"/>
                    </a:lnTo>
                    <a:lnTo>
                      <a:pt x="73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526120" y="3773520"/>
                <a:ext cx="143640" cy="139680"/>
              </a:xfrm>
              <a:custGeom>
                <a:avLst/>
                <a:gdLst/>
                <a:ahLst/>
                <a:rect l="l" t="t" r="r" b="b"/>
                <a:pathLst>
                  <a:path w="381" h="367">
                    <a:moveTo>
                      <a:pt x="25" y="0"/>
                    </a:moveTo>
                    <a:lnTo>
                      <a:pt x="0" y="25"/>
                    </a:lnTo>
                    <a:lnTo>
                      <a:pt x="1" y="51"/>
                    </a:lnTo>
                    <a:lnTo>
                      <a:pt x="5" y="75"/>
                    </a:lnTo>
                    <a:lnTo>
                      <a:pt x="10" y="100"/>
                    </a:lnTo>
                    <a:lnTo>
                      <a:pt x="16" y="125"/>
                    </a:lnTo>
                    <a:lnTo>
                      <a:pt x="24" y="148"/>
                    </a:lnTo>
                    <a:lnTo>
                      <a:pt x="33" y="171"/>
                    </a:lnTo>
                    <a:lnTo>
                      <a:pt x="44" y="193"/>
                    </a:lnTo>
                    <a:lnTo>
                      <a:pt x="56" y="216"/>
                    </a:lnTo>
                    <a:lnTo>
                      <a:pt x="69" y="235"/>
                    </a:lnTo>
                    <a:lnTo>
                      <a:pt x="83" y="255"/>
                    </a:lnTo>
                    <a:lnTo>
                      <a:pt x="97" y="273"/>
                    </a:lnTo>
                    <a:lnTo>
                      <a:pt x="112" y="291"/>
                    </a:lnTo>
                    <a:lnTo>
                      <a:pt x="128" y="307"/>
                    </a:lnTo>
                    <a:lnTo>
                      <a:pt x="145" y="320"/>
                    </a:lnTo>
                    <a:lnTo>
                      <a:pt x="161" y="332"/>
                    </a:lnTo>
                    <a:lnTo>
                      <a:pt x="179" y="344"/>
                    </a:lnTo>
                    <a:lnTo>
                      <a:pt x="197" y="353"/>
                    </a:lnTo>
                    <a:lnTo>
                      <a:pt x="214" y="360"/>
                    </a:lnTo>
                    <a:lnTo>
                      <a:pt x="233" y="364"/>
                    </a:lnTo>
                    <a:lnTo>
                      <a:pt x="251" y="367"/>
                    </a:lnTo>
                    <a:lnTo>
                      <a:pt x="268" y="367"/>
                    </a:lnTo>
                    <a:lnTo>
                      <a:pt x="286" y="364"/>
                    </a:lnTo>
                    <a:lnTo>
                      <a:pt x="295" y="361"/>
                    </a:lnTo>
                    <a:lnTo>
                      <a:pt x="304" y="357"/>
                    </a:lnTo>
                    <a:lnTo>
                      <a:pt x="313" y="352"/>
                    </a:lnTo>
                    <a:lnTo>
                      <a:pt x="320" y="347"/>
                    </a:lnTo>
                    <a:lnTo>
                      <a:pt x="327" y="340"/>
                    </a:lnTo>
                    <a:lnTo>
                      <a:pt x="335" y="334"/>
                    </a:lnTo>
                    <a:lnTo>
                      <a:pt x="341" y="325"/>
                    </a:lnTo>
                    <a:lnTo>
                      <a:pt x="347" y="318"/>
                    </a:lnTo>
                    <a:lnTo>
                      <a:pt x="352" y="308"/>
                    </a:lnTo>
                    <a:lnTo>
                      <a:pt x="357" y="298"/>
                    </a:lnTo>
                    <a:lnTo>
                      <a:pt x="362" y="287"/>
                    </a:lnTo>
                    <a:lnTo>
                      <a:pt x="365" y="276"/>
                    </a:lnTo>
                    <a:lnTo>
                      <a:pt x="373" y="251"/>
                    </a:lnTo>
                    <a:lnTo>
                      <a:pt x="378" y="224"/>
                    </a:lnTo>
                    <a:lnTo>
                      <a:pt x="380" y="193"/>
                    </a:lnTo>
                    <a:lnTo>
                      <a:pt x="381" y="159"/>
                    </a:lnTo>
                    <a:lnTo>
                      <a:pt x="332" y="159"/>
                    </a:lnTo>
                    <a:lnTo>
                      <a:pt x="332" y="191"/>
                    </a:lnTo>
                    <a:lnTo>
                      <a:pt x="329" y="218"/>
                    </a:lnTo>
                    <a:lnTo>
                      <a:pt x="325" y="241"/>
                    </a:lnTo>
                    <a:lnTo>
                      <a:pt x="320" y="261"/>
                    </a:lnTo>
                    <a:lnTo>
                      <a:pt x="316" y="270"/>
                    </a:lnTo>
                    <a:lnTo>
                      <a:pt x="313" y="277"/>
                    </a:lnTo>
                    <a:lnTo>
                      <a:pt x="310" y="285"/>
                    </a:lnTo>
                    <a:lnTo>
                      <a:pt x="306" y="291"/>
                    </a:lnTo>
                    <a:lnTo>
                      <a:pt x="302" y="296"/>
                    </a:lnTo>
                    <a:lnTo>
                      <a:pt x="298" y="301"/>
                    </a:lnTo>
                    <a:lnTo>
                      <a:pt x="294" y="305"/>
                    </a:lnTo>
                    <a:lnTo>
                      <a:pt x="290" y="308"/>
                    </a:lnTo>
                    <a:lnTo>
                      <a:pt x="286" y="312"/>
                    </a:lnTo>
                    <a:lnTo>
                      <a:pt x="282" y="314"/>
                    </a:lnTo>
                    <a:lnTo>
                      <a:pt x="278" y="315"/>
                    </a:lnTo>
                    <a:lnTo>
                      <a:pt x="274" y="316"/>
                    </a:lnTo>
                    <a:lnTo>
                      <a:pt x="263" y="319"/>
                    </a:lnTo>
                    <a:lnTo>
                      <a:pt x="254" y="319"/>
                    </a:lnTo>
                    <a:lnTo>
                      <a:pt x="243" y="318"/>
                    </a:lnTo>
                    <a:lnTo>
                      <a:pt x="230" y="314"/>
                    </a:lnTo>
                    <a:lnTo>
                      <a:pt x="217" y="309"/>
                    </a:lnTo>
                    <a:lnTo>
                      <a:pt x="203" y="302"/>
                    </a:lnTo>
                    <a:lnTo>
                      <a:pt x="190" y="293"/>
                    </a:lnTo>
                    <a:lnTo>
                      <a:pt x="175" y="282"/>
                    </a:lnTo>
                    <a:lnTo>
                      <a:pt x="161" y="271"/>
                    </a:lnTo>
                    <a:lnTo>
                      <a:pt x="148" y="257"/>
                    </a:lnTo>
                    <a:lnTo>
                      <a:pt x="134" y="241"/>
                    </a:lnTo>
                    <a:lnTo>
                      <a:pt x="122" y="225"/>
                    </a:lnTo>
                    <a:lnTo>
                      <a:pt x="110" y="208"/>
                    </a:lnTo>
                    <a:lnTo>
                      <a:pt x="97" y="191"/>
                    </a:lnTo>
                    <a:lnTo>
                      <a:pt x="88" y="171"/>
                    </a:lnTo>
                    <a:lnTo>
                      <a:pt x="78" y="152"/>
                    </a:lnTo>
                    <a:lnTo>
                      <a:pt x="69" y="131"/>
                    </a:lnTo>
                    <a:lnTo>
                      <a:pt x="63" y="111"/>
                    </a:lnTo>
                    <a:lnTo>
                      <a:pt x="57" y="89"/>
                    </a:lnTo>
                    <a:lnTo>
                      <a:pt x="53" y="68"/>
                    </a:lnTo>
                    <a:lnTo>
                      <a:pt x="51" y="46"/>
                    </a:lnTo>
                    <a:lnTo>
                      <a:pt x="49" y="25"/>
                    </a:lnTo>
                    <a:lnTo>
                      <a:pt x="25" y="50"/>
                    </a:lnTo>
                    <a:lnTo>
                      <a:pt x="49" y="25"/>
                    </a:ln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3" y="4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2535480" y="37735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336" h="50">
                    <a:moveTo>
                      <a:pt x="336" y="25"/>
                    </a:moveTo>
                    <a:lnTo>
                      <a:pt x="3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311" y="50"/>
                    </a:lnTo>
                    <a:lnTo>
                      <a:pt x="336" y="25"/>
                    </a:lnTo>
                    <a:lnTo>
                      <a:pt x="311" y="50"/>
                    </a:lnTo>
                    <a:lnTo>
                      <a:pt x="317" y="48"/>
                    </a:lnTo>
                    <a:lnTo>
                      <a:pt x="322" y="47"/>
                    </a:lnTo>
                    <a:lnTo>
                      <a:pt x="326" y="45"/>
                    </a:lnTo>
                    <a:lnTo>
                      <a:pt x="329" y="41"/>
                    </a:lnTo>
                    <a:lnTo>
                      <a:pt x="332" y="39"/>
                    </a:lnTo>
                    <a:lnTo>
                      <a:pt x="334" y="34"/>
                    </a:lnTo>
                    <a:lnTo>
                      <a:pt x="336" y="30"/>
                    </a:lnTo>
                    <a:lnTo>
                      <a:pt x="336" y="25"/>
                    </a:lnTo>
                    <a:lnTo>
                      <a:pt x="336" y="20"/>
                    </a:lnTo>
                    <a:lnTo>
                      <a:pt x="334" y="16"/>
                    </a:lnTo>
                    <a:lnTo>
                      <a:pt x="332" y="11"/>
                    </a:lnTo>
                    <a:lnTo>
                      <a:pt x="329" y="8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7" y="0"/>
                    </a:lnTo>
                    <a:lnTo>
                      <a:pt x="311" y="0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2085480" y="3832200"/>
                <a:ext cx="118800" cy="47520"/>
              </a:xfrm>
              <a:custGeom>
                <a:avLst/>
                <a:gdLst/>
                <a:ahLst/>
                <a:rect l="l" t="t" r="r" b="b"/>
                <a:pathLst>
                  <a:path w="312" h="126">
                    <a:moveTo>
                      <a:pt x="48" y="101"/>
                    </a:moveTo>
                    <a:lnTo>
                      <a:pt x="25" y="126"/>
                    </a:lnTo>
                    <a:lnTo>
                      <a:pt x="42" y="124"/>
                    </a:lnTo>
                    <a:lnTo>
                      <a:pt x="59" y="121"/>
                    </a:lnTo>
                    <a:lnTo>
                      <a:pt x="75" y="117"/>
                    </a:lnTo>
                    <a:lnTo>
                      <a:pt x="93" y="112"/>
                    </a:lnTo>
                    <a:lnTo>
                      <a:pt x="127" y="99"/>
                    </a:lnTo>
                    <a:lnTo>
                      <a:pt x="162" y="85"/>
                    </a:lnTo>
                    <a:lnTo>
                      <a:pt x="198" y="71"/>
                    </a:lnTo>
                    <a:lnTo>
                      <a:pt x="235" y="59"/>
                    </a:lnTo>
                    <a:lnTo>
                      <a:pt x="253" y="55"/>
                    </a:lnTo>
                    <a:lnTo>
                      <a:pt x="273" y="52"/>
                    </a:lnTo>
                    <a:lnTo>
                      <a:pt x="293" y="49"/>
                    </a:lnTo>
                    <a:lnTo>
                      <a:pt x="312" y="48"/>
                    </a:lnTo>
                    <a:lnTo>
                      <a:pt x="312" y="0"/>
                    </a:lnTo>
                    <a:lnTo>
                      <a:pt x="289" y="0"/>
                    </a:lnTo>
                    <a:lnTo>
                      <a:pt x="266" y="4"/>
                    </a:lnTo>
                    <a:lnTo>
                      <a:pt x="243" y="8"/>
                    </a:lnTo>
                    <a:lnTo>
                      <a:pt x="221" y="12"/>
                    </a:lnTo>
                    <a:lnTo>
                      <a:pt x="182" y="25"/>
                    </a:lnTo>
                    <a:lnTo>
                      <a:pt x="144" y="39"/>
                    </a:lnTo>
                    <a:lnTo>
                      <a:pt x="109" y="54"/>
                    </a:lnTo>
                    <a:lnTo>
                      <a:pt x="77" y="65"/>
                    </a:lnTo>
                    <a:lnTo>
                      <a:pt x="63" y="70"/>
                    </a:lnTo>
                    <a:lnTo>
                      <a:pt x="49" y="74"/>
                    </a:lnTo>
                    <a:lnTo>
                      <a:pt x="36" y="75"/>
                    </a:lnTo>
                    <a:lnTo>
                      <a:pt x="25" y="76"/>
                    </a:lnTo>
                    <a:lnTo>
                      <a:pt x="0" y="101"/>
                    </a:lnTo>
                    <a:lnTo>
                      <a:pt x="25" y="76"/>
                    </a:lnTo>
                    <a:lnTo>
                      <a:pt x="18" y="76"/>
                    </a:lnTo>
                    <a:lnTo>
                      <a:pt x="13" y="79"/>
                    </a:lnTo>
                    <a:lnTo>
                      <a:pt x="9" y="81"/>
                    </a:lnTo>
                    <a:lnTo>
                      <a:pt x="6" y="84"/>
                    </a:lnTo>
                    <a:lnTo>
                      <a:pt x="2" y="87"/>
                    </a:lnTo>
                    <a:lnTo>
                      <a:pt x="1" y="91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0" y="105"/>
                    </a:lnTo>
                    <a:lnTo>
                      <a:pt x="1" y="110"/>
                    </a:lnTo>
                    <a:lnTo>
                      <a:pt x="2" y="113"/>
                    </a:lnTo>
                    <a:lnTo>
                      <a:pt x="6" y="117"/>
                    </a:lnTo>
                    <a:lnTo>
                      <a:pt x="9" y="121"/>
                    </a:lnTo>
                    <a:lnTo>
                      <a:pt x="13" y="123"/>
                    </a:lnTo>
                    <a:lnTo>
                      <a:pt x="18" y="124"/>
                    </a:lnTo>
                    <a:lnTo>
                      <a:pt x="25" y="126"/>
                    </a:lnTo>
                    <a:lnTo>
                      <a:pt x="48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085480" y="3869640"/>
                <a:ext cx="18720" cy="83520"/>
              </a:xfrm>
              <a:custGeom>
                <a:avLst/>
                <a:gdLst/>
                <a:ahLst/>
                <a:rect l="l" t="t" r="r" b="b"/>
                <a:pathLst>
                  <a:path w="48" h="216">
                    <a:moveTo>
                      <a:pt x="25" y="216"/>
                    </a:moveTo>
                    <a:lnTo>
                      <a:pt x="48" y="192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25" y="216"/>
                    </a:lnTo>
                    <a:lnTo>
                      <a:pt x="0" y="192"/>
                    </a:lnTo>
                    <a:lnTo>
                      <a:pt x="0" y="198"/>
                    </a:lnTo>
                    <a:lnTo>
                      <a:pt x="1" y="203"/>
                    </a:lnTo>
                    <a:lnTo>
                      <a:pt x="4" y="207"/>
                    </a:lnTo>
                    <a:lnTo>
                      <a:pt x="7" y="210"/>
                    </a:lnTo>
                    <a:lnTo>
                      <a:pt x="11" y="213"/>
                    </a:lnTo>
                    <a:lnTo>
                      <a:pt x="15" y="215"/>
                    </a:lnTo>
                    <a:lnTo>
                      <a:pt x="20" y="216"/>
                    </a:lnTo>
                    <a:lnTo>
                      <a:pt x="25" y="216"/>
                    </a:lnTo>
                    <a:lnTo>
                      <a:pt x="28" y="216"/>
                    </a:lnTo>
                    <a:lnTo>
                      <a:pt x="33" y="215"/>
                    </a:lnTo>
                    <a:lnTo>
                      <a:pt x="37" y="213"/>
                    </a:lnTo>
                    <a:lnTo>
                      <a:pt x="41" y="210"/>
                    </a:lnTo>
                    <a:lnTo>
                      <a:pt x="44" y="207"/>
                    </a:lnTo>
                    <a:lnTo>
                      <a:pt x="47" y="203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25" y="2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094840" y="3934080"/>
                <a:ext cx="126360" cy="30240"/>
              </a:xfrm>
              <a:custGeom>
                <a:avLst/>
                <a:gdLst/>
                <a:ahLst/>
                <a:rect l="l" t="t" r="r" b="b"/>
                <a:pathLst>
                  <a:path w="335" h="79">
                    <a:moveTo>
                      <a:pt x="317" y="19"/>
                    </a:moveTo>
                    <a:lnTo>
                      <a:pt x="313" y="20"/>
                    </a:lnTo>
                    <a:lnTo>
                      <a:pt x="307" y="23"/>
                    </a:lnTo>
                    <a:lnTo>
                      <a:pt x="301" y="25"/>
                    </a:lnTo>
                    <a:lnTo>
                      <a:pt x="295" y="27"/>
                    </a:lnTo>
                    <a:lnTo>
                      <a:pt x="287" y="28"/>
                    </a:lnTo>
                    <a:lnTo>
                      <a:pt x="270" y="30"/>
                    </a:lnTo>
                    <a:lnTo>
                      <a:pt x="252" y="31"/>
                    </a:lnTo>
                    <a:lnTo>
                      <a:pt x="231" y="30"/>
                    </a:lnTo>
                    <a:lnTo>
                      <a:pt x="210" y="29"/>
                    </a:lnTo>
                    <a:lnTo>
                      <a:pt x="188" y="27"/>
                    </a:lnTo>
                    <a:lnTo>
                      <a:pt x="166" y="23"/>
                    </a:lnTo>
                    <a:lnTo>
                      <a:pt x="119" y="15"/>
                    </a:lnTo>
                    <a:lnTo>
                      <a:pt x="76" y="8"/>
                    </a:lnTo>
                    <a:lnTo>
                      <a:pt x="55" y="4"/>
                    </a:lnTo>
                    <a:lnTo>
                      <a:pt x="35" y="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3" y="49"/>
                    </a:lnTo>
                    <a:lnTo>
                      <a:pt x="29" y="50"/>
                    </a:lnTo>
                    <a:lnTo>
                      <a:pt x="48" y="52"/>
                    </a:lnTo>
                    <a:lnTo>
                      <a:pt x="67" y="56"/>
                    </a:lnTo>
                    <a:lnTo>
                      <a:pt x="111" y="63"/>
                    </a:lnTo>
                    <a:lnTo>
                      <a:pt x="158" y="71"/>
                    </a:lnTo>
                    <a:lnTo>
                      <a:pt x="182" y="75"/>
                    </a:lnTo>
                    <a:lnTo>
                      <a:pt x="205" y="77"/>
                    </a:lnTo>
                    <a:lnTo>
                      <a:pt x="228" y="79"/>
                    </a:lnTo>
                    <a:lnTo>
                      <a:pt x="252" y="79"/>
                    </a:lnTo>
                    <a:lnTo>
                      <a:pt x="274" y="79"/>
                    </a:lnTo>
                    <a:lnTo>
                      <a:pt x="295" y="77"/>
                    </a:lnTo>
                    <a:lnTo>
                      <a:pt x="306" y="75"/>
                    </a:lnTo>
                    <a:lnTo>
                      <a:pt x="316" y="72"/>
                    </a:lnTo>
                    <a:lnTo>
                      <a:pt x="325" y="68"/>
                    </a:lnTo>
                    <a:lnTo>
                      <a:pt x="335" y="63"/>
                    </a:lnTo>
                    <a:lnTo>
                      <a:pt x="332" y="65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194920" y="383220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25" h="336">
                    <a:moveTo>
                      <a:pt x="24" y="49"/>
                    </a:moveTo>
                    <a:lnTo>
                      <a:pt x="28" y="49"/>
                    </a:lnTo>
                    <a:lnTo>
                      <a:pt x="33" y="49"/>
                    </a:lnTo>
                    <a:lnTo>
                      <a:pt x="35" y="49"/>
                    </a:lnTo>
                    <a:lnTo>
                      <a:pt x="38" y="50"/>
                    </a:lnTo>
                    <a:lnTo>
                      <a:pt x="42" y="52"/>
                    </a:lnTo>
                    <a:lnTo>
                      <a:pt x="45" y="54"/>
                    </a:lnTo>
                    <a:lnTo>
                      <a:pt x="49" y="59"/>
                    </a:lnTo>
                    <a:lnTo>
                      <a:pt x="53" y="64"/>
                    </a:lnTo>
                    <a:lnTo>
                      <a:pt x="56" y="70"/>
                    </a:lnTo>
                    <a:lnTo>
                      <a:pt x="60" y="79"/>
                    </a:lnTo>
                    <a:lnTo>
                      <a:pt x="64" y="87"/>
                    </a:lnTo>
                    <a:lnTo>
                      <a:pt x="66" y="97"/>
                    </a:lnTo>
                    <a:lnTo>
                      <a:pt x="69" y="108"/>
                    </a:lnTo>
                    <a:lnTo>
                      <a:pt x="74" y="132"/>
                    </a:lnTo>
                    <a:lnTo>
                      <a:pt x="76" y="156"/>
                    </a:lnTo>
                    <a:lnTo>
                      <a:pt x="76" y="182"/>
                    </a:lnTo>
                    <a:lnTo>
                      <a:pt x="76" y="208"/>
                    </a:lnTo>
                    <a:lnTo>
                      <a:pt x="74" y="231"/>
                    </a:lnTo>
                    <a:lnTo>
                      <a:pt x="69" y="252"/>
                    </a:lnTo>
                    <a:lnTo>
                      <a:pt x="67" y="262"/>
                    </a:lnTo>
                    <a:lnTo>
                      <a:pt x="64" y="269"/>
                    </a:lnTo>
                    <a:lnTo>
                      <a:pt x="61" y="277"/>
                    </a:lnTo>
                    <a:lnTo>
                      <a:pt x="59" y="283"/>
                    </a:lnTo>
                    <a:lnTo>
                      <a:pt x="56" y="286"/>
                    </a:lnTo>
                    <a:lnTo>
                      <a:pt x="54" y="289"/>
                    </a:lnTo>
                    <a:lnTo>
                      <a:pt x="53" y="290"/>
                    </a:lnTo>
                    <a:lnTo>
                      <a:pt x="54" y="290"/>
                    </a:lnTo>
                    <a:lnTo>
                      <a:pt x="69" y="336"/>
                    </a:lnTo>
                    <a:lnTo>
                      <a:pt x="80" y="331"/>
                    </a:lnTo>
                    <a:lnTo>
                      <a:pt x="88" y="323"/>
                    </a:lnTo>
                    <a:lnTo>
                      <a:pt x="96" y="316"/>
                    </a:lnTo>
                    <a:lnTo>
                      <a:pt x="101" y="306"/>
                    </a:lnTo>
                    <a:lnTo>
                      <a:pt x="106" y="296"/>
                    </a:lnTo>
                    <a:lnTo>
                      <a:pt x="110" y="286"/>
                    </a:lnTo>
                    <a:lnTo>
                      <a:pt x="114" y="274"/>
                    </a:lnTo>
                    <a:lnTo>
                      <a:pt x="117" y="262"/>
                    </a:lnTo>
                    <a:lnTo>
                      <a:pt x="121" y="237"/>
                    </a:lnTo>
                    <a:lnTo>
                      <a:pt x="124" y="210"/>
                    </a:lnTo>
                    <a:lnTo>
                      <a:pt x="125" y="182"/>
                    </a:lnTo>
                    <a:lnTo>
                      <a:pt x="124" y="154"/>
                    </a:lnTo>
                    <a:lnTo>
                      <a:pt x="121" y="125"/>
                    </a:lnTo>
                    <a:lnTo>
                      <a:pt x="117" y="98"/>
                    </a:lnTo>
                    <a:lnTo>
                      <a:pt x="113" y="85"/>
                    </a:lnTo>
                    <a:lnTo>
                      <a:pt x="109" y="72"/>
                    </a:lnTo>
                    <a:lnTo>
                      <a:pt x="104" y="60"/>
                    </a:lnTo>
                    <a:lnTo>
                      <a:pt x="99" y="49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78" y="20"/>
                    </a:lnTo>
                    <a:lnTo>
                      <a:pt x="69" y="11"/>
                    </a:lnTo>
                    <a:lnTo>
                      <a:pt x="58" y="5"/>
                    </a:lnTo>
                    <a:lnTo>
                      <a:pt x="45" y="1"/>
                    </a:lnTo>
                    <a:lnTo>
                      <a:pt x="33" y="0"/>
                    </a:lnTo>
                    <a:lnTo>
                      <a:pt x="19" y="1"/>
                    </a:lnTo>
                    <a:lnTo>
                      <a:pt x="24" y="1"/>
                    </a:lnTo>
                    <a:lnTo>
                      <a:pt x="19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3" y="48"/>
                    </a:lnTo>
                    <a:lnTo>
                      <a:pt x="18" y="49"/>
                    </a:lnTo>
                    <a:lnTo>
                      <a:pt x="23" y="49"/>
                    </a:lnTo>
                    <a:lnTo>
                      <a:pt x="28" y="49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885560" y="3565440"/>
                <a:ext cx="18720" cy="96120"/>
              </a:xfrm>
              <a:custGeom>
                <a:avLst/>
                <a:gdLst/>
                <a:ahLst/>
                <a:rect l="l" t="t" r="r" b="b"/>
                <a:pathLst>
                  <a:path w="49" h="256">
                    <a:moveTo>
                      <a:pt x="17" y="254"/>
                    </a:moveTo>
                    <a:lnTo>
                      <a:pt x="49" y="232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232"/>
                    </a:lnTo>
                    <a:lnTo>
                      <a:pt x="17" y="254"/>
                    </a:lnTo>
                    <a:lnTo>
                      <a:pt x="0" y="232"/>
                    </a:lnTo>
                    <a:lnTo>
                      <a:pt x="1" y="237"/>
                    </a:lnTo>
                    <a:lnTo>
                      <a:pt x="2" y="242"/>
                    </a:lnTo>
                    <a:lnTo>
                      <a:pt x="5" y="247"/>
                    </a:lnTo>
                    <a:lnTo>
                      <a:pt x="8" y="250"/>
                    </a:lnTo>
                    <a:lnTo>
                      <a:pt x="12" y="253"/>
                    </a:lnTo>
                    <a:lnTo>
                      <a:pt x="16" y="254"/>
                    </a:lnTo>
                    <a:lnTo>
                      <a:pt x="20" y="256"/>
                    </a:lnTo>
                    <a:lnTo>
                      <a:pt x="24" y="256"/>
                    </a:lnTo>
                    <a:lnTo>
                      <a:pt x="29" y="256"/>
                    </a:lnTo>
                    <a:lnTo>
                      <a:pt x="33" y="254"/>
                    </a:lnTo>
                    <a:lnTo>
                      <a:pt x="38" y="253"/>
                    </a:lnTo>
                    <a:lnTo>
                      <a:pt x="42" y="250"/>
                    </a:lnTo>
                    <a:lnTo>
                      <a:pt x="44" y="247"/>
                    </a:lnTo>
                    <a:lnTo>
                      <a:pt x="47" y="242"/>
                    </a:lnTo>
                    <a:lnTo>
                      <a:pt x="49" y="237"/>
                    </a:lnTo>
                    <a:lnTo>
                      <a:pt x="49" y="232"/>
                    </a:lnTo>
                    <a:lnTo>
                      <a:pt x="17" y="25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891320" y="3533400"/>
                <a:ext cx="105840" cy="141480"/>
              </a:xfrm>
              <a:custGeom>
                <a:avLst/>
                <a:gdLst/>
                <a:ahLst/>
                <a:rect l="l" t="t" r="r" b="b"/>
                <a:pathLst>
                  <a:path w="281" h="373">
                    <a:moveTo>
                      <a:pt x="256" y="48"/>
                    </a:moveTo>
                    <a:lnTo>
                      <a:pt x="231" y="25"/>
                    </a:lnTo>
                    <a:lnTo>
                      <a:pt x="231" y="83"/>
                    </a:lnTo>
                    <a:lnTo>
                      <a:pt x="230" y="133"/>
                    </a:lnTo>
                    <a:lnTo>
                      <a:pt x="229" y="178"/>
                    </a:lnTo>
                    <a:lnTo>
                      <a:pt x="225" y="217"/>
                    </a:lnTo>
                    <a:lnTo>
                      <a:pt x="223" y="233"/>
                    </a:lnTo>
                    <a:lnTo>
                      <a:pt x="221" y="248"/>
                    </a:lnTo>
                    <a:lnTo>
                      <a:pt x="218" y="261"/>
                    </a:lnTo>
                    <a:lnTo>
                      <a:pt x="215" y="274"/>
                    </a:lnTo>
                    <a:lnTo>
                      <a:pt x="212" y="283"/>
                    </a:lnTo>
                    <a:lnTo>
                      <a:pt x="208" y="293"/>
                    </a:lnTo>
                    <a:lnTo>
                      <a:pt x="203" y="301"/>
                    </a:lnTo>
                    <a:lnTo>
                      <a:pt x="199" y="306"/>
                    </a:lnTo>
                    <a:lnTo>
                      <a:pt x="194" y="310"/>
                    </a:lnTo>
                    <a:lnTo>
                      <a:pt x="191" y="314"/>
                    </a:lnTo>
                    <a:lnTo>
                      <a:pt x="185" y="318"/>
                    </a:lnTo>
                    <a:lnTo>
                      <a:pt x="180" y="320"/>
                    </a:lnTo>
                    <a:lnTo>
                      <a:pt x="172" y="322"/>
                    </a:lnTo>
                    <a:lnTo>
                      <a:pt x="165" y="323"/>
                    </a:lnTo>
                    <a:lnTo>
                      <a:pt x="155" y="324"/>
                    </a:lnTo>
                    <a:lnTo>
                      <a:pt x="145" y="324"/>
                    </a:lnTo>
                    <a:lnTo>
                      <a:pt x="133" y="323"/>
                    </a:lnTo>
                    <a:lnTo>
                      <a:pt x="121" y="320"/>
                    </a:lnTo>
                    <a:lnTo>
                      <a:pt x="106" y="318"/>
                    </a:lnTo>
                    <a:lnTo>
                      <a:pt x="91" y="314"/>
                    </a:lnTo>
                    <a:lnTo>
                      <a:pt x="55" y="304"/>
                    </a:lnTo>
                    <a:lnTo>
                      <a:pt x="15" y="292"/>
                    </a:lnTo>
                    <a:lnTo>
                      <a:pt x="0" y="337"/>
                    </a:lnTo>
                    <a:lnTo>
                      <a:pt x="42" y="351"/>
                    </a:lnTo>
                    <a:lnTo>
                      <a:pt x="78" y="361"/>
                    </a:lnTo>
                    <a:lnTo>
                      <a:pt x="96" y="366"/>
                    </a:lnTo>
                    <a:lnTo>
                      <a:pt x="112" y="368"/>
                    </a:lnTo>
                    <a:lnTo>
                      <a:pt x="127" y="371"/>
                    </a:lnTo>
                    <a:lnTo>
                      <a:pt x="143" y="372"/>
                    </a:lnTo>
                    <a:lnTo>
                      <a:pt x="156" y="373"/>
                    </a:lnTo>
                    <a:lnTo>
                      <a:pt x="170" y="372"/>
                    </a:lnTo>
                    <a:lnTo>
                      <a:pt x="183" y="369"/>
                    </a:lnTo>
                    <a:lnTo>
                      <a:pt x="196" y="366"/>
                    </a:lnTo>
                    <a:lnTo>
                      <a:pt x="207" y="361"/>
                    </a:lnTo>
                    <a:lnTo>
                      <a:pt x="218" y="355"/>
                    </a:lnTo>
                    <a:lnTo>
                      <a:pt x="228" y="346"/>
                    </a:lnTo>
                    <a:lnTo>
                      <a:pt x="237" y="336"/>
                    </a:lnTo>
                    <a:lnTo>
                      <a:pt x="245" y="326"/>
                    </a:lnTo>
                    <a:lnTo>
                      <a:pt x="251" y="314"/>
                    </a:lnTo>
                    <a:lnTo>
                      <a:pt x="257" y="302"/>
                    </a:lnTo>
                    <a:lnTo>
                      <a:pt x="261" y="287"/>
                    </a:lnTo>
                    <a:lnTo>
                      <a:pt x="266" y="272"/>
                    </a:lnTo>
                    <a:lnTo>
                      <a:pt x="268" y="256"/>
                    </a:lnTo>
                    <a:lnTo>
                      <a:pt x="272" y="240"/>
                    </a:lnTo>
                    <a:lnTo>
                      <a:pt x="274" y="221"/>
                    </a:lnTo>
                    <a:lnTo>
                      <a:pt x="277" y="181"/>
                    </a:lnTo>
                    <a:lnTo>
                      <a:pt x="279" y="135"/>
                    </a:lnTo>
                    <a:lnTo>
                      <a:pt x="281" y="83"/>
                    </a:lnTo>
                    <a:lnTo>
                      <a:pt x="281" y="25"/>
                    </a:lnTo>
                    <a:lnTo>
                      <a:pt x="256" y="0"/>
                    </a:lnTo>
                    <a:lnTo>
                      <a:pt x="281" y="25"/>
                    </a:lnTo>
                    <a:lnTo>
                      <a:pt x="281" y="19"/>
                    </a:lnTo>
                    <a:lnTo>
                      <a:pt x="278" y="14"/>
                    </a:lnTo>
                    <a:lnTo>
                      <a:pt x="276" y="10"/>
                    </a:lnTo>
                    <a:lnTo>
                      <a:pt x="273" y="7"/>
                    </a:lnTo>
                    <a:lnTo>
                      <a:pt x="269" y="4"/>
                    </a:lnTo>
                    <a:lnTo>
                      <a:pt x="265" y="2"/>
                    </a:lnTo>
                    <a:lnTo>
                      <a:pt x="261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7" y="2"/>
                    </a:lnTo>
                    <a:lnTo>
                      <a:pt x="244" y="4"/>
                    </a:lnTo>
                    <a:lnTo>
                      <a:pt x="240" y="7"/>
                    </a:lnTo>
                    <a:lnTo>
                      <a:pt x="236" y="10"/>
                    </a:lnTo>
                    <a:lnTo>
                      <a:pt x="234" y="14"/>
                    </a:lnTo>
                    <a:lnTo>
                      <a:pt x="233" y="19"/>
                    </a:lnTo>
                    <a:lnTo>
                      <a:pt x="231" y="25"/>
                    </a:lnTo>
                    <a:lnTo>
                      <a:pt x="256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885560" y="3533400"/>
                <a:ext cx="101880" cy="41400"/>
              </a:xfrm>
              <a:custGeom>
                <a:avLst/>
                <a:gdLst/>
                <a:ahLst/>
                <a:rect l="l" t="t" r="r" b="b"/>
                <a:pathLst>
                  <a:path w="273" h="107">
                    <a:moveTo>
                      <a:pt x="49" y="83"/>
                    </a:moveTo>
                    <a:lnTo>
                      <a:pt x="24" y="107"/>
                    </a:lnTo>
                    <a:lnTo>
                      <a:pt x="45" y="106"/>
                    </a:lnTo>
                    <a:lnTo>
                      <a:pt x="64" y="104"/>
                    </a:lnTo>
                    <a:lnTo>
                      <a:pt x="81" y="101"/>
                    </a:lnTo>
                    <a:lnTo>
                      <a:pt x="97" y="96"/>
                    </a:lnTo>
                    <a:lnTo>
                      <a:pt x="123" y="87"/>
                    </a:lnTo>
                    <a:lnTo>
                      <a:pt x="147" y="76"/>
                    </a:lnTo>
                    <a:lnTo>
                      <a:pt x="159" y="71"/>
                    </a:lnTo>
                    <a:lnTo>
                      <a:pt x="170" y="66"/>
                    </a:lnTo>
                    <a:lnTo>
                      <a:pt x="182" y="61"/>
                    </a:lnTo>
                    <a:lnTo>
                      <a:pt x="195" y="57"/>
                    </a:lnTo>
                    <a:lnTo>
                      <a:pt x="211" y="53"/>
                    </a:lnTo>
                    <a:lnTo>
                      <a:pt x="229" y="51"/>
                    </a:lnTo>
                    <a:lnTo>
                      <a:pt x="250" y="50"/>
                    </a:lnTo>
                    <a:lnTo>
                      <a:pt x="273" y="48"/>
                    </a:lnTo>
                    <a:lnTo>
                      <a:pt x="273" y="0"/>
                    </a:lnTo>
                    <a:lnTo>
                      <a:pt x="247" y="0"/>
                    </a:lnTo>
                    <a:lnTo>
                      <a:pt x="224" y="3"/>
                    </a:lnTo>
                    <a:lnTo>
                      <a:pt x="203" y="7"/>
                    </a:lnTo>
                    <a:lnTo>
                      <a:pt x="184" y="10"/>
                    </a:lnTo>
                    <a:lnTo>
                      <a:pt x="167" y="15"/>
                    </a:lnTo>
                    <a:lnTo>
                      <a:pt x="152" y="20"/>
                    </a:lnTo>
                    <a:lnTo>
                      <a:pt x="139" y="26"/>
                    </a:lnTo>
                    <a:lnTo>
                      <a:pt x="127" y="31"/>
                    </a:lnTo>
                    <a:lnTo>
                      <a:pt x="104" y="42"/>
                    </a:lnTo>
                    <a:lnTo>
                      <a:pt x="82" y="51"/>
                    </a:lnTo>
                    <a:lnTo>
                      <a:pt x="70" y="53"/>
                    </a:lnTo>
                    <a:lnTo>
                      <a:pt x="58" y="56"/>
                    </a:lnTo>
                    <a:lnTo>
                      <a:pt x="42" y="58"/>
                    </a:lnTo>
                    <a:lnTo>
                      <a:pt x="24" y="58"/>
                    </a:lnTo>
                    <a:lnTo>
                      <a:pt x="0" y="83"/>
                    </a:lnTo>
                    <a:lnTo>
                      <a:pt x="24" y="58"/>
                    </a:lnTo>
                    <a:lnTo>
                      <a:pt x="20" y="58"/>
                    </a:lnTo>
                    <a:lnTo>
                      <a:pt x="15" y="61"/>
                    </a:lnTo>
                    <a:lnTo>
                      <a:pt x="10" y="63"/>
                    </a:lnTo>
                    <a:lnTo>
                      <a:pt x="6" y="66"/>
                    </a:lnTo>
                    <a:lnTo>
                      <a:pt x="4" y="69"/>
                    </a:lnTo>
                    <a:lnTo>
                      <a:pt x="2" y="74"/>
                    </a:lnTo>
                    <a:lnTo>
                      <a:pt x="1" y="78"/>
                    </a:lnTo>
                    <a:lnTo>
                      <a:pt x="0" y="83"/>
                    </a:lnTo>
                    <a:lnTo>
                      <a:pt x="1" y="88"/>
                    </a:lnTo>
                    <a:lnTo>
                      <a:pt x="2" y="91"/>
                    </a:lnTo>
                    <a:lnTo>
                      <a:pt x="4" y="96"/>
                    </a:lnTo>
                    <a:lnTo>
                      <a:pt x="6" y="99"/>
                    </a:lnTo>
                    <a:lnTo>
                      <a:pt x="10" y="103"/>
                    </a:lnTo>
                    <a:lnTo>
                      <a:pt x="15" y="105"/>
                    </a:lnTo>
                    <a:lnTo>
                      <a:pt x="20" y="106"/>
                    </a:lnTo>
                    <a:lnTo>
                      <a:pt x="24" y="107"/>
                    </a:lnTo>
                    <a:lnTo>
                      <a:pt x="49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5415480" y="3940200"/>
                <a:ext cx="39240" cy="7920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32" y="206"/>
                    </a:moveTo>
                    <a:lnTo>
                      <a:pt x="46" y="190"/>
                    </a:lnTo>
                    <a:lnTo>
                      <a:pt x="104" y="16"/>
                    </a:lnTo>
                    <a:lnTo>
                      <a:pt x="59" y="0"/>
                    </a:lnTo>
                    <a:lnTo>
                      <a:pt x="1" y="175"/>
                    </a:lnTo>
                    <a:lnTo>
                      <a:pt x="32" y="206"/>
                    </a:lnTo>
                    <a:lnTo>
                      <a:pt x="1" y="175"/>
                    </a:lnTo>
                    <a:lnTo>
                      <a:pt x="0" y="180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2" y="195"/>
                    </a:lnTo>
                    <a:lnTo>
                      <a:pt x="5" y="199"/>
                    </a:lnTo>
                    <a:lnTo>
                      <a:pt x="8" y="201"/>
                    </a:lnTo>
                    <a:lnTo>
                      <a:pt x="12" y="203"/>
                    </a:lnTo>
                    <a:lnTo>
                      <a:pt x="16" y="206"/>
                    </a:lnTo>
                    <a:lnTo>
                      <a:pt x="21" y="207"/>
                    </a:lnTo>
                    <a:lnTo>
                      <a:pt x="24" y="207"/>
                    </a:lnTo>
                    <a:lnTo>
                      <a:pt x="29" y="206"/>
                    </a:lnTo>
                    <a:lnTo>
                      <a:pt x="34" y="205"/>
                    </a:lnTo>
                    <a:lnTo>
                      <a:pt x="38" y="202"/>
                    </a:lnTo>
                    <a:lnTo>
                      <a:pt x="42" y="200"/>
                    </a:lnTo>
                    <a:lnTo>
                      <a:pt x="44" y="195"/>
                    </a:lnTo>
                    <a:lnTo>
                      <a:pt x="46" y="190"/>
                    </a:lnTo>
                    <a:lnTo>
                      <a:pt x="32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356800" y="3890880"/>
                <a:ext cx="69840" cy="139680"/>
              </a:xfrm>
              <a:custGeom>
                <a:avLst/>
                <a:gdLst/>
                <a:ahLst/>
                <a:rect l="l" t="t" r="r" b="b"/>
                <a:pathLst>
                  <a:path w="187" h="372">
                    <a:moveTo>
                      <a:pt x="44" y="0"/>
                    </a:moveTo>
                    <a:lnTo>
                      <a:pt x="19" y="24"/>
                    </a:lnTo>
                    <a:lnTo>
                      <a:pt x="18" y="82"/>
                    </a:lnTo>
                    <a:lnTo>
                      <a:pt x="16" y="132"/>
                    </a:lnTo>
                    <a:lnTo>
                      <a:pt x="12" y="177"/>
                    </a:lnTo>
                    <a:lnTo>
                      <a:pt x="8" y="216"/>
                    </a:lnTo>
                    <a:lnTo>
                      <a:pt x="5" y="249"/>
                    </a:lnTo>
                    <a:lnTo>
                      <a:pt x="2" y="278"/>
                    </a:lnTo>
                    <a:lnTo>
                      <a:pt x="0" y="302"/>
                    </a:lnTo>
                    <a:lnTo>
                      <a:pt x="1" y="323"/>
                    </a:lnTo>
                    <a:lnTo>
                      <a:pt x="2" y="334"/>
                    </a:lnTo>
                    <a:lnTo>
                      <a:pt x="6" y="344"/>
                    </a:lnTo>
                    <a:lnTo>
                      <a:pt x="12" y="354"/>
                    </a:lnTo>
                    <a:lnTo>
                      <a:pt x="21" y="363"/>
                    </a:lnTo>
                    <a:lnTo>
                      <a:pt x="31" y="367"/>
                    </a:lnTo>
                    <a:lnTo>
                      <a:pt x="42" y="371"/>
                    </a:lnTo>
                    <a:lnTo>
                      <a:pt x="51" y="372"/>
                    </a:lnTo>
                    <a:lnTo>
                      <a:pt x="64" y="371"/>
                    </a:lnTo>
                    <a:lnTo>
                      <a:pt x="86" y="367"/>
                    </a:lnTo>
                    <a:lnTo>
                      <a:pt x="113" y="361"/>
                    </a:lnTo>
                    <a:lnTo>
                      <a:pt x="146" y="350"/>
                    </a:lnTo>
                    <a:lnTo>
                      <a:pt x="187" y="338"/>
                    </a:lnTo>
                    <a:lnTo>
                      <a:pt x="171" y="291"/>
                    </a:lnTo>
                    <a:lnTo>
                      <a:pt x="131" y="305"/>
                    </a:lnTo>
                    <a:lnTo>
                      <a:pt x="101" y="315"/>
                    </a:lnTo>
                    <a:lnTo>
                      <a:pt x="76" y="321"/>
                    </a:lnTo>
                    <a:lnTo>
                      <a:pt x="58" y="323"/>
                    </a:lnTo>
                    <a:lnTo>
                      <a:pt x="53" y="323"/>
                    </a:lnTo>
                    <a:lnTo>
                      <a:pt x="50" y="323"/>
                    </a:lnTo>
                    <a:lnTo>
                      <a:pt x="49" y="323"/>
                    </a:lnTo>
                    <a:lnTo>
                      <a:pt x="50" y="323"/>
                    </a:lnTo>
                    <a:lnTo>
                      <a:pt x="50" y="324"/>
                    </a:lnTo>
                    <a:lnTo>
                      <a:pt x="50" y="324"/>
                    </a:lnTo>
                    <a:lnTo>
                      <a:pt x="50" y="322"/>
                    </a:lnTo>
                    <a:lnTo>
                      <a:pt x="49" y="319"/>
                    </a:lnTo>
                    <a:lnTo>
                      <a:pt x="49" y="303"/>
                    </a:lnTo>
                    <a:lnTo>
                      <a:pt x="50" y="283"/>
                    </a:lnTo>
                    <a:lnTo>
                      <a:pt x="53" y="254"/>
                    </a:lnTo>
                    <a:lnTo>
                      <a:pt x="56" y="221"/>
                    </a:lnTo>
                    <a:lnTo>
                      <a:pt x="61" y="182"/>
                    </a:lnTo>
                    <a:lnTo>
                      <a:pt x="65" y="135"/>
                    </a:lnTo>
                    <a:lnTo>
                      <a:pt x="67" y="83"/>
                    </a:lnTo>
                    <a:lnTo>
                      <a:pt x="69" y="24"/>
                    </a:lnTo>
                    <a:lnTo>
                      <a:pt x="44" y="49"/>
                    </a:lnTo>
                    <a:lnTo>
                      <a:pt x="69" y="24"/>
                    </a:lnTo>
                    <a:lnTo>
                      <a:pt x="67" y="18"/>
                    </a:lnTo>
                    <a:lnTo>
                      <a:pt x="66" y="13"/>
                    </a:lnTo>
                    <a:lnTo>
                      <a:pt x="64" y="9"/>
                    </a:lnTo>
                    <a:lnTo>
                      <a:pt x="61" y="6"/>
                    </a:lnTo>
                    <a:lnTo>
                      <a:pt x="58" y="3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39" y="1"/>
                    </a:lnTo>
                    <a:lnTo>
                      <a:pt x="35" y="1"/>
                    </a:lnTo>
                    <a:lnTo>
                      <a:pt x="31" y="3"/>
                    </a:lnTo>
                    <a:lnTo>
                      <a:pt x="27" y="6"/>
                    </a:lnTo>
                    <a:lnTo>
                      <a:pt x="24" y="9"/>
                    </a:lnTo>
                    <a:lnTo>
                      <a:pt x="22" y="13"/>
                    </a:lnTo>
                    <a:lnTo>
                      <a:pt x="21" y="18"/>
                    </a:lnTo>
                    <a:lnTo>
                      <a:pt x="19" y="2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374080" y="3890880"/>
                <a:ext cx="81000" cy="62640"/>
              </a:xfrm>
              <a:custGeom>
                <a:avLst/>
                <a:gdLst/>
                <a:ahLst/>
                <a:rect l="l" t="t" r="r" b="b"/>
                <a:pathLst>
                  <a:path w="217" h="164">
                    <a:moveTo>
                      <a:pt x="215" y="148"/>
                    </a:moveTo>
                    <a:lnTo>
                      <a:pt x="193" y="117"/>
                    </a:lnTo>
                    <a:lnTo>
                      <a:pt x="185" y="115"/>
                    </a:lnTo>
                    <a:lnTo>
                      <a:pt x="177" y="115"/>
                    </a:lnTo>
                    <a:lnTo>
                      <a:pt x="172" y="114"/>
                    </a:lnTo>
                    <a:lnTo>
                      <a:pt x="167" y="113"/>
                    </a:lnTo>
                    <a:lnTo>
                      <a:pt x="162" y="110"/>
                    </a:lnTo>
                    <a:lnTo>
                      <a:pt x="159" y="109"/>
                    </a:lnTo>
                    <a:lnTo>
                      <a:pt x="156" y="107"/>
                    </a:lnTo>
                    <a:lnTo>
                      <a:pt x="154" y="104"/>
                    </a:lnTo>
                    <a:lnTo>
                      <a:pt x="146" y="98"/>
                    </a:lnTo>
                    <a:lnTo>
                      <a:pt x="142" y="91"/>
                    </a:lnTo>
                    <a:lnTo>
                      <a:pt x="135" y="81"/>
                    </a:lnTo>
                    <a:lnTo>
                      <a:pt x="129" y="70"/>
                    </a:lnTo>
                    <a:lnTo>
                      <a:pt x="122" y="57"/>
                    </a:lnTo>
                    <a:lnTo>
                      <a:pt x="113" y="45"/>
                    </a:lnTo>
                    <a:lnTo>
                      <a:pt x="102" y="33"/>
                    </a:lnTo>
                    <a:lnTo>
                      <a:pt x="89" y="23"/>
                    </a:lnTo>
                    <a:lnTo>
                      <a:pt x="80" y="17"/>
                    </a:lnTo>
                    <a:lnTo>
                      <a:pt x="70" y="13"/>
                    </a:lnTo>
                    <a:lnTo>
                      <a:pt x="62" y="9"/>
                    </a:lnTo>
                    <a:lnTo>
                      <a:pt x="50" y="6"/>
                    </a:lnTo>
                    <a:lnTo>
                      <a:pt x="39" y="3"/>
                    </a:lnTo>
                    <a:lnTo>
                      <a:pt x="27" y="1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1" y="49"/>
                    </a:lnTo>
                    <a:lnTo>
                      <a:pt x="21" y="50"/>
                    </a:lnTo>
                    <a:lnTo>
                      <a:pt x="31" y="51"/>
                    </a:lnTo>
                    <a:lnTo>
                      <a:pt x="38" y="53"/>
                    </a:lnTo>
                    <a:lnTo>
                      <a:pt x="46" y="55"/>
                    </a:lnTo>
                    <a:lnTo>
                      <a:pt x="52" y="57"/>
                    </a:lnTo>
                    <a:lnTo>
                      <a:pt x="57" y="60"/>
                    </a:lnTo>
                    <a:lnTo>
                      <a:pt x="60" y="62"/>
                    </a:lnTo>
                    <a:lnTo>
                      <a:pt x="69" y="69"/>
                    </a:lnTo>
                    <a:lnTo>
                      <a:pt x="75" y="76"/>
                    </a:lnTo>
                    <a:lnTo>
                      <a:pt x="81" y="85"/>
                    </a:lnTo>
                    <a:lnTo>
                      <a:pt x="87" y="94"/>
                    </a:lnTo>
                    <a:lnTo>
                      <a:pt x="94" y="105"/>
                    </a:lnTo>
                    <a:lnTo>
                      <a:pt x="101" y="117"/>
                    </a:lnTo>
                    <a:lnTo>
                      <a:pt x="110" y="129"/>
                    </a:lnTo>
                    <a:lnTo>
                      <a:pt x="119" y="140"/>
                    </a:lnTo>
                    <a:lnTo>
                      <a:pt x="127" y="146"/>
                    </a:lnTo>
                    <a:lnTo>
                      <a:pt x="134" y="151"/>
                    </a:lnTo>
                    <a:lnTo>
                      <a:pt x="143" y="155"/>
                    </a:lnTo>
                    <a:lnTo>
                      <a:pt x="151" y="158"/>
                    </a:lnTo>
                    <a:lnTo>
                      <a:pt x="160" y="161"/>
                    </a:lnTo>
                    <a:lnTo>
                      <a:pt x="171" y="163"/>
                    </a:lnTo>
                    <a:lnTo>
                      <a:pt x="181" y="164"/>
                    </a:lnTo>
                    <a:lnTo>
                      <a:pt x="193" y="164"/>
                    </a:lnTo>
                    <a:lnTo>
                      <a:pt x="170" y="132"/>
                    </a:lnTo>
                    <a:lnTo>
                      <a:pt x="193" y="164"/>
                    </a:lnTo>
                    <a:lnTo>
                      <a:pt x="198" y="164"/>
                    </a:lnTo>
                    <a:lnTo>
                      <a:pt x="203" y="163"/>
                    </a:lnTo>
                    <a:lnTo>
                      <a:pt x="208" y="161"/>
                    </a:lnTo>
                    <a:lnTo>
                      <a:pt x="210" y="157"/>
                    </a:lnTo>
                    <a:lnTo>
                      <a:pt x="214" y="153"/>
                    </a:lnTo>
                    <a:lnTo>
                      <a:pt x="215" y="150"/>
                    </a:lnTo>
                    <a:lnTo>
                      <a:pt x="217" y="145"/>
                    </a:lnTo>
                    <a:lnTo>
                      <a:pt x="217" y="140"/>
                    </a:lnTo>
                    <a:lnTo>
                      <a:pt x="217" y="136"/>
                    </a:lnTo>
                    <a:lnTo>
                      <a:pt x="215" y="131"/>
                    </a:lnTo>
                    <a:lnTo>
                      <a:pt x="214" y="128"/>
                    </a:lnTo>
                    <a:lnTo>
                      <a:pt x="210" y="124"/>
                    </a:lnTo>
                    <a:lnTo>
                      <a:pt x="208" y="120"/>
                    </a:lnTo>
                    <a:lnTo>
                      <a:pt x="203" y="118"/>
                    </a:lnTo>
                    <a:lnTo>
                      <a:pt x="198" y="117"/>
                    </a:lnTo>
                    <a:lnTo>
                      <a:pt x="193" y="117"/>
                    </a:lnTo>
                    <a:lnTo>
                      <a:pt x="215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712480" y="3919320"/>
                <a:ext cx="39600" cy="77400"/>
              </a:xfrm>
              <a:custGeom>
                <a:avLst/>
                <a:gdLst/>
                <a:ahLst/>
                <a:rect l="l" t="t" r="r" b="b"/>
                <a:pathLst>
                  <a:path w="104" h="206">
                    <a:moveTo>
                      <a:pt x="72" y="204"/>
                    </a:moveTo>
                    <a:lnTo>
                      <a:pt x="103" y="174"/>
                    </a:lnTo>
                    <a:lnTo>
                      <a:pt x="45" y="0"/>
                    </a:lnTo>
                    <a:lnTo>
                      <a:pt x="0" y="14"/>
                    </a:lnTo>
                    <a:lnTo>
                      <a:pt x="57" y="189"/>
                    </a:lnTo>
                    <a:lnTo>
                      <a:pt x="72" y="204"/>
                    </a:lnTo>
                    <a:lnTo>
                      <a:pt x="57" y="189"/>
                    </a:lnTo>
                    <a:lnTo>
                      <a:pt x="60" y="194"/>
                    </a:lnTo>
                    <a:lnTo>
                      <a:pt x="62" y="199"/>
                    </a:lnTo>
                    <a:lnTo>
                      <a:pt x="66" y="201"/>
                    </a:lnTo>
                    <a:lnTo>
                      <a:pt x="70" y="204"/>
                    </a:lnTo>
                    <a:lnTo>
                      <a:pt x="75" y="205"/>
                    </a:lnTo>
                    <a:lnTo>
                      <a:pt x="80" y="206"/>
                    </a:lnTo>
                    <a:lnTo>
                      <a:pt x="83" y="205"/>
                    </a:lnTo>
                    <a:lnTo>
                      <a:pt x="88" y="204"/>
                    </a:lnTo>
                    <a:lnTo>
                      <a:pt x="92" y="203"/>
                    </a:lnTo>
                    <a:lnTo>
                      <a:pt x="96" y="200"/>
                    </a:lnTo>
                    <a:lnTo>
                      <a:pt x="99" y="198"/>
                    </a:lnTo>
                    <a:lnTo>
                      <a:pt x="102" y="194"/>
                    </a:lnTo>
                    <a:lnTo>
                      <a:pt x="104" y="189"/>
                    </a:lnTo>
                    <a:lnTo>
                      <a:pt x="104" y="184"/>
                    </a:lnTo>
                    <a:lnTo>
                      <a:pt x="104" y="179"/>
                    </a:lnTo>
                    <a:lnTo>
                      <a:pt x="103" y="174"/>
                    </a:lnTo>
                    <a:lnTo>
                      <a:pt x="72" y="2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1924920" y="2567520"/>
              <a:ext cx="5149800" cy="1790640"/>
              <a:chOff x="1924920" y="2567520"/>
              <a:chExt cx="5149800" cy="1790640"/>
            </a:xfrm>
          </p:grpSpPr>
          <p:sp>
            <p:nvSpPr>
              <p:cNvPr id="4649" name=""/>
              <p:cNvSpPr/>
              <p:nvPr/>
            </p:nvSpPr>
            <p:spPr>
              <a:xfrm>
                <a:off x="5740920" y="3867840"/>
                <a:ext cx="69840" cy="141840"/>
              </a:xfrm>
              <a:custGeom>
                <a:avLst/>
                <a:gdLst/>
                <a:ahLst/>
                <a:rect l="l" t="t" r="r" b="b"/>
                <a:pathLst>
                  <a:path w="187" h="373">
                    <a:moveTo>
                      <a:pt x="143" y="49"/>
                    </a:moveTo>
                    <a:lnTo>
                      <a:pt x="118" y="24"/>
                    </a:lnTo>
                    <a:lnTo>
                      <a:pt x="120" y="83"/>
                    </a:lnTo>
                    <a:lnTo>
                      <a:pt x="122" y="135"/>
                    </a:lnTo>
                    <a:lnTo>
                      <a:pt x="126" y="181"/>
                    </a:lnTo>
                    <a:lnTo>
                      <a:pt x="131" y="221"/>
                    </a:lnTo>
                    <a:lnTo>
                      <a:pt x="134" y="254"/>
                    </a:lnTo>
                    <a:lnTo>
                      <a:pt x="137" y="283"/>
                    </a:lnTo>
                    <a:lnTo>
                      <a:pt x="138" y="304"/>
                    </a:lnTo>
                    <a:lnTo>
                      <a:pt x="138" y="318"/>
                    </a:lnTo>
                    <a:lnTo>
                      <a:pt x="137" y="322"/>
                    </a:lnTo>
                    <a:lnTo>
                      <a:pt x="137" y="325"/>
                    </a:lnTo>
                    <a:lnTo>
                      <a:pt x="137" y="325"/>
                    </a:lnTo>
                    <a:lnTo>
                      <a:pt x="137" y="323"/>
                    </a:lnTo>
                    <a:lnTo>
                      <a:pt x="138" y="323"/>
                    </a:lnTo>
                    <a:lnTo>
                      <a:pt x="137" y="323"/>
                    </a:lnTo>
                    <a:lnTo>
                      <a:pt x="134" y="323"/>
                    </a:lnTo>
                    <a:lnTo>
                      <a:pt x="129" y="323"/>
                    </a:lnTo>
                    <a:lnTo>
                      <a:pt x="111" y="321"/>
                    </a:lnTo>
                    <a:lnTo>
                      <a:pt x="86" y="313"/>
                    </a:lnTo>
                    <a:lnTo>
                      <a:pt x="56" y="304"/>
                    </a:lnTo>
                    <a:lnTo>
                      <a:pt x="16" y="291"/>
                    </a:lnTo>
                    <a:lnTo>
                      <a:pt x="0" y="337"/>
                    </a:lnTo>
                    <a:lnTo>
                      <a:pt x="41" y="350"/>
                    </a:lnTo>
                    <a:lnTo>
                      <a:pt x="74" y="360"/>
                    </a:lnTo>
                    <a:lnTo>
                      <a:pt x="101" y="368"/>
                    </a:lnTo>
                    <a:lnTo>
                      <a:pt x="123" y="371"/>
                    </a:lnTo>
                    <a:lnTo>
                      <a:pt x="136" y="373"/>
                    </a:lnTo>
                    <a:lnTo>
                      <a:pt x="145" y="371"/>
                    </a:lnTo>
                    <a:lnTo>
                      <a:pt x="156" y="368"/>
                    </a:lnTo>
                    <a:lnTo>
                      <a:pt x="166" y="361"/>
                    </a:lnTo>
                    <a:lnTo>
                      <a:pt x="175" y="354"/>
                    </a:lnTo>
                    <a:lnTo>
                      <a:pt x="181" y="344"/>
                    </a:lnTo>
                    <a:lnTo>
                      <a:pt x="185" y="334"/>
                    </a:lnTo>
                    <a:lnTo>
                      <a:pt x="186" y="322"/>
                    </a:lnTo>
                    <a:lnTo>
                      <a:pt x="187" y="302"/>
                    </a:lnTo>
                    <a:lnTo>
                      <a:pt x="185" y="278"/>
                    </a:lnTo>
                    <a:lnTo>
                      <a:pt x="182" y="250"/>
                    </a:lnTo>
                    <a:lnTo>
                      <a:pt x="179" y="216"/>
                    </a:lnTo>
                    <a:lnTo>
                      <a:pt x="175" y="177"/>
                    </a:lnTo>
                    <a:lnTo>
                      <a:pt x="171" y="133"/>
                    </a:lnTo>
                    <a:lnTo>
                      <a:pt x="169" y="81"/>
                    </a:lnTo>
                    <a:lnTo>
                      <a:pt x="168" y="24"/>
                    </a:lnTo>
                    <a:lnTo>
                      <a:pt x="143" y="0"/>
                    </a:lnTo>
                    <a:lnTo>
                      <a:pt x="168" y="24"/>
                    </a:lnTo>
                    <a:lnTo>
                      <a:pt x="166" y="18"/>
                    </a:lnTo>
                    <a:lnTo>
                      <a:pt x="165" y="13"/>
                    </a:lnTo>
                    <a:lnTo>
                      <a:pt x="163" y="10"/>
                    </a:lnTo>
                    <a:lnTo>
                      <a:pt x="160" y="6"/>
                    </a:lnTo>
                    <a:lnTo>
                      <a:pt x="156" y="4"/>
                    </a:lnTo>
                    <a:lnTo>
                      <a:pt x="152" y="1"/>
                    </a:lnTo>
                    <a:lnTo>
                      <a:pt x="148" y="0"/>
                    </a:lnTo>
                    <a:lnTo>
                      <a:pt x="143" y="0"/>
                    </a:lnTo>
                    <a:lnTo>
                      <a:pt x="138" y="0"/>
                    </a:lnTo>
                    <a:lnTo>
                      <a:pt x="134" y="1"/>
                    </a:lnTo>
                    <a:lnTo>
                      <a:pt x="129" y="4"/>
                    </a:lnTo>
                    <a:lnTo>
                      <a:pt x="126" y="6"/>
                    </a:lnTo>
                    <a:lnTo>
                      <a:pt x="123" y="10"/>
                    </a:lnTo>
                    <a:lnTo>
                      <a:pt x="121" y="13"/>
                    </a:lnTo>
                    <a:lnTo>
                      <a:pt x="120" y="18"/>
                    </a:lnTo>
                    <a:lnTo>
                      <a:pt x="118" y="24"/>
                    </a:lnTo>
                    <a:lnTo>
                      <a:pt x="143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712480" y="3867840"/>
                <a:ext cx="81360" cy="626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47" y="133"/>
                    </a:moveTo>
                    <a:lnTo>
                      <a:pt x="24" y="165"/>
                    </a:lnTo>
                    <a:lnTo>
                      <a:pt x="36" y="165"/>
                    </a:lnTo>
                    <a:lnTo>
                      <a:pt x="46" y="163"/>
                    </a:lnTo>
                    <a:lnTo>
                      <a:pt x="57" y="161"/>
                    </a:lnTo>
                    <a:lnTo>
                      <a:pt x="66" y="159"/>
                    </a:lnTo>
                    <a:lnTo>
                      <a:pt x="74" y="155"/>
                    </a:lnTo>
                    <a:lnTo>
                      <a:pt x="83" y="151"/>
                    </a:lnTo>
                    <a:lnTo>
                      <a:pt x="90" y="146"/>
                    </a:lnTo>
                    <a:lnTo>
                      <a:pt x="98" y="140"/>
                    </a:lnTo>
                    <a:lnTo>
                      <a:pt x="107" y="129"/>
                    </a:lnTo>
                    <a:lnTo>
                      <a:pt x="116" y="117"/>
                    </a:lnTo>
                    <a:lnTo>
                      <a:pt x="123" y="106"/>
                    </a:lnTo>
                    <a:lnTo>
                      <a:pt x="130" y="95"/>
                    </a:lnTo>
                    <a:lnTo>
                      <a:pt x="136" y="85"/>
                    </a:lnTo>
                    <a:lnTo>
                      <a:pt x="142" y="76"/>
                    </a:lnTo>
                    <a:lnTo>
                      <a:pt x="148" y="69"/>
                    </a:lnTo>
                    <a:lnTo>
                      <a:pt x="157" y="63"/>
                    </a:lnTo>
                    <a:lnTo>
                      <a:pt x="160" y="60"/>
                    </a:lnTo>
                    <a:lnTo>
                      <a:pt x="165" y="58"/>
                    </a:lnTo>
                    <a:lnTo>
                      <a:pt x="171" y="55"/>
                    </a:lnTo>
                    <a:lnTo>
                      <a:pt x="179" y="53"/>
                    </a:lnTo>
                    <a:lnTo>
                      <a:pt x="186" y="52"/>
                    </a:lnTo>
                    <a:lnTo>
                      <a:pt x="196" y="50"/>
                    </a:lnTo>
                    <a:lnTo>
                      <a:pt x="206" y="49"/>
                    </a:lnTo>
                    <a:lnTo>
                      <a:pt x="217" y="49"/>
                    </a:lnTo>
                    <a:lnTo>
                      <a:pt x="217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8" y="4"/>
                    </a:lnTo>
                    <a:lnTo>
                      <a:pt x="166" y="6"/>
                    </a:lnTo>
                    <a:lnTo>
                      <a:pt x="155" y="8"/>
                    </a:lnTo>
                    <a:lnTo>
                      <a:pt x="146" y="12"/>
                    </a:lnTo>
                    <a:lnTo>
                      <a:pt x="137" y="17"/>
                    </a:lnTo>
                    <a:lnTo>
                      <a:pt x="128" y="23"/>
                    </a:lnTo>
                    <a:lnTo>
                      <a:pt x="115" y="33"/>
                    </a:lnTo>
                    <a:lnTo>
                      <a:pt x="104" y="45"/>
                    </a:lnTo>
                    <a:lnTo>
                      <a:pt x="95" y="58"/>
                    </a:lnTo>
                    <a:lnTo>
                      <a:pt x="88" y="70"/>
                    </a:lnTo>
                    <a:lnTo>
                      <a:pt x="82" y="81"/>
                    </a:lnTo>
                    <a:lnTo>
                      <a:pt x="75" y="90"/>
                    </a:lnTo>
                    <a:lnTo>
                      <a:pt x="71" y="98"/>
                    </a:lnTo>
                    <a:lnTo>
                      <a:pt x="63" y="104"/>
                    </a:lnTo>
                    <a:lnTo>
                      <a:pt x="61" y="107"/>
                    </a:lnTo>
                    <a:lnTo>
                      <a:pt x="58" y="108"/>
                    </a:lnTo>
                    <a:lnTo>
                      <a:pt x="55" y="111"/>
                    </a:lnTo>
                    <a:lnTo>
                      <a:pt x="50" y="112"/>
                    </a:lnTo>
                    <a:lnTo>
                      <a:pt x="45" y="114"/>
                    </a:lnTo>
                    <a:lnTo>
                      <a:pt x="40" y="115"/>
                    </a:lnTo>
                    <a:lnTo>
                      <a:pt x="32" y="115"/>
                    </a:lnTo>
                    <a:lnTo>
                      <a:pt x="24" y="115"/>
                    </a:lnTo>
                    <a:lnTo>
                      <a:pt x="2" y="147"/>
                    </a:lnTo>
                    <a:lnTo>
                      <a:pt x="24" y="115"/>
                    </a:lnTo>
                    <a:lnTo>
                      <a:pt x="19" y="117"/>
                    </a:lnTo>
                    <a:lnTo>
                      <a:pt x="14" y="118"/>
                    </a:lnTo>
                    <a:lnTo>
                      <a:pt x="9" y="120"/>
                    </a:lnTo>
                    <a:lnTo>
                      <a:pt x="7" y="124"/>
                    </a:lnTo>
                    <a:lnTo>
                      <a:pt x="3" y="128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3" y="154"/>
                    </a:lnTo>
                    <a:lnTo>
                      <a:pt x="7" y="157"/>
                    </a:lnTo>
                    <a:lnTo>
                      <a:pt x="9" y="160"/>
                    </a:lnTo>
                    <a:lnTo>
                      <a:pt x="14" y="162"/>
                    </a:lnTo>
                    <a:lnTo>
                      <a:pt x="19" y="165"/>
                    </a:lnTo>
                    <a:lnTo>
                      <a:pt x="24" y="165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403320" y="3892320"/>
                <a:ext cx="260640" cy="403560"/>
              </a:xfrm>
              <a:custGeom>
                <a:avLst/>
                <a:gdLst/>
                <a:ahLst/>
                <a:rect l="l" t="t" r="r" b="b"/>
                <a:pathLst>
                  <a:path w="690" h="1066">
                    <a:moveTo>
                      <a:pt x="211" y="0"/>
                    </a:moveTo>
                    <a:lnTo>
                      <a:pt x="227" y="3"/>
                    </a:lnTo>
                    <a:lnTo>
                      <a:pt x="243" y="8"/>
                    </a:lnTo>
                    <a:lnTo>
                      <a:pt x="258" y="13"/>
                    </a:lnTo>
                    <a:lnTo>
                      <a:pt x="273" y="19"/>
                    </a:lnTo>
                    <a:lnTo>
                      <a:pt x="302" y="32"/>
                    </a:lnTo>
                    <a:lnTo>
                      <a:pt x="332" y="47"/>
                    </a:lnTo>
                    <a:lnTo>
                      <a:pt x="388" y="79"/>
                    </a:lnTo>
                    <a:lnTo>
                      <a:pt x="444" y="111"/>
                    </a:lnTo>
                    <a:lnTo>
                      <a:pt x="471" y="126"/>
                    </a:lnTo>
                    <a:lnTo>
                      <a:pt x="500" y="141"/>
                    </a:lnTo>
                    <a:lnTo>
                      <a:pt x="529" y="156"/>
                    </a:lnTo>
                    <a:lnTo>
                      <a:pt x="558" y="168"/>
                    </a:lnTo>
                    <a:lnTo>
                      <a:pt x="574" y="173"/>
                    </a:lnTo>
                    <a:lnTo>
                      <a:pt x="589" y="178"/>
                    </a:lnTo>
                    <a:lnTo>
                      <a:pt x="605" y="182"/>
                    </a:lnTo>
                    <a:lnTo>
                      <a:pt x="621" y="186"/>
                    </a:lnTo>
                    <a:lnTo>
                      <a:pt x="638" y="188"/>
                    </a:lnTo>
                    <a:lnTo>
                      <a:pt x="654" y="190"/>
                    </a:lnTo>
                    <a:lnTo>
                      <a:pt x="671" y="192"/>
                    </a:lnTo>
                    <a:lnTo>
                      <a:pt x="690" y="193"/>
                    </a:lnTo>
                    <a:lnTo>
                      <a:pt x="688" y="254"/>
                    </a:lnTo>
                    <a:lnTo>
                      <a:pt x="685" y="316"/>
                    </a:lnTo>
                    <a:lnTo>
                      <a:pt x="679" y="379"/>
                    </a:lnTo>
                    <a:lnTo>
                      <a:pt x="671" y="440"/>
                    </a:lnTo>
                    <a:lnTo>
                      <a:pt x="663" y="500"/>
                    </a:lnTo>
                    <a:lnTo>
                      <a:pt x="651" y="559"/>
                    </a:lnTo>
                    <a:lnTo>
                      <a:pt x="639" y="617"/>
                    </a:lnTo>
                    <a:lnTo>
                      <a:pt x="627" y="674"/>
                    </a:lnTo>
                    <a:lnTo>
                      <a:pt x="612" y="727"/>
                    </a:lnTo>
                    <a:lnTo>
                      <a:pt x="597" y="778"/>
                    </a:lnTo>
                    <a:lnTo>
                      <a:pt x="583" y="828"/>
                    </a:lnTo>
                    <a:lnTo>
                      <a:pt x="567" y="872"/>
                    </a:lnTo>
                    <a:lnTo>
                      <a:pt x="552" y="915"/>
                    </a:lnTo>
                    <a:lnTo>
                      <a:pt x="536" y="953"/>
                    </a:lnTo>
                    <a:lnTo>
                      <a:pt x="521" y="986"/>
                    </a:lnTo>
                    <a:lnTo>
                      <a:pt x="506" y="1017"/>
                    </a:lnTo>
                    <a:lnTo>
                      <a:pt x="499" y="1029"/>
                    </a:lnTo>
                    <a:lnTo>
                      <a:pt x="492" y="1040"/>
                    </a:lnTo>
                    <a:lnTo>
                      <a:pt x="484" y="1049"/>
                    </a:lnTo>
                    <a:lnTo>
                      <a:pt x="477" y="1055"/>
                    </a:lnTo>
                    <a:lnTo>
                      <a:pt x="471" y="1060"/>
                    </a:lnTo>
                    <a:lnTo>
                      <a:pt x="462" y="1064"/>
                    </a:lnTo>
                    <a:lnTo>
                      <a:pt x="455" y="1066"/>
                    </a:lnTo>
                    <a:lnTo>
                      <a:pt x="447" y="1066"/>
                    </a:lnTo>
                    <a:lnTo>
                      <a:pt x="439" y="1066"/>
                    </a:lnTo>
                    <a:lnTo>
                      <a:pt x="429" y="1064"/>
                    </a:lnTo>
                    <a:lnTo>
                      <a:pt x="420" y="1061"/>
                    </a:lnTo>
                    <a:lnTo>
                      <a:pt x="410" y="1058"/>
                    </a:lnTo>
                    <a:lnTo>
                      <a:pt x="388" y="1047"/>
                    </a:lnTo>
                    <a:lnTo>
                      <a:pt x="364" y="1034"/>
                    </a:lnTo>
                    <a:lnTo>
                      <a:pt x="335" y="1019"/>
                    </a:lnTo>
                    <a:lnTo>
                      <a:pt x="303" y="1005"/>
                    </a:lnTo>
                    <a:lnTo>
                      <a:pt x="285" y="996"/>
                    </a:lnTo>
                    <a:lnTo>
                      <a:pt x="267" y="989"/>
                    </a:lnTo>
                    <a:lnTo>
                      <a:pt x="246" y="981"/>
                    </a:lnTo>
                    <a:lnTo>
                      <a:pt x="225" y="974"/>
                    </a:lnTo>
                    <a:lnTo>
                      <a:pt x="203" y="968"/>
                    </a:lnTo>
                    <a:lnTo>
                      <a:pt x="178" y="962"/>
                    </a:lnTo>
                    <a:lnTo>
                      <a:pt x="152" y="957"/>
                    </a:lnTo>
                    <a:lnTo>
                      <a:pt x="125" y="952"/>
                    </a:lnTo>
                    <a:lnTo>
                      <a:pt x="97" y="948"/>
                    </a:lnTo>
                    <a:lnTo>
                      <a:pt x="66" y="944"/>
                    </a:lnTo>
                    <a:lnTo>
                      <a:pt x="34" y="943"/>
                    </a:lnTo>
                    <a:lnTo>
                      <a:pt x="0" y="942"/>
                    </a:lnTo>
                    <a:lnTo>
                      <a:pt x="1" y="906"/>
                    </a:lnTo>
                    <a:lnTo>
                      <a:pt x="2" y="871"/>
                    </a:lnTo>
                    <a:lnTo>
                      <a:pt x="6" y="836"/>
                    </a:lnTo>
                    <a:lnTo>
                      <a:pt x="9" y="803"/>
                    </a:lnTo>
                    <a:lnTo>
                      <a:pt x="14" y="771"/>
                    </a:lnTo>
                    <a:lnTo>
                      <a:pt x="21" y="740"/>
                    </a:lnTo>
                    <a:lnTo>
                      <a:pt x="28" y="710"/>
                    </a:lnTo>
                    <a:lnTo>
                      <a:pt x="35" y="680"/>
                    </a:lnTo>
                    <a:lnTo>
                      <a:pt x="44" y="652"/>
                    </a:lnTo>
                    <a:lnTo>
                      <a:pt x="53" y="623"/>
                    </a:lnTo>
                    <a:lnTo>
                      <a:pt x="62" y="596"/>
                    </a:lnTo>
                    <a:lnTo>
                      <a:pt x="72" y="569"/>
                    </a:lnTo>
                    <a:lnTo>
                      <a:pt x="93" y="515"/>
                    </a:lnTo>
                    <a:lnTo>
                      <a:pt x="115" y="464"/>
                    </a:lnTo>
                    <a:lnTo>
                      <a:pt x="136" y="411"/>
                    </a:lnTo>
                    <a:lnTo>
                      <a:pt x="157" y="359"/>
                    </a:lnTo>
                    <a:lnTo>
                      <a:pt x="177" y="305"/>
                    </a:lnTo>
                    <a:lnTo>
                      <a:pt x="194" y="249"/>
                    </a:lnTo>
                    <a:lnTo>
                      <a:pt x="201" y="221"/>
                    </a:lnTo>
                    <a:lnTo>
                      <a:pt x="209" y="193"/>
                    </a:lnTo>
                    <a:lnTo>
                      <a:pt x="215" y="162"/>
                    </a:lnTo>
                    <a:lnTo>
                      <a:pt x="220" y="131"/>
                    </a:lnTo>
                    <a:lnTo>
                      <a:pt x="223" y="101"/>
                    </a:lnTo>
                    <a:lnTo>
                      <a:pt x="227" y="67"/>
                    </a:lnTo>
                    <a:lnTo>
                      <a:pt x="228" y="34"/>
                    </a:lnTo>
                    <a:lnTo>
                      <a:pt x="230" y="0"/>
                    </a:lnTo>
                    <a:lnTo>
                      <a:pt x="239" y="0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76" y="0"/>
                    </a:lnTo>
                    <a:lnTo>
                      <a:pt x="280" y="0"/>
                    </a:lnTo>
                    <a:lnTo>
                      <a:pt x="273" y="0"/>
                    </a:lnTo>
                    <a:lnTo>
                      <a:pt x="251" y="0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480720" y="3882960"/>
                <a:ext cx="192960" cy="90720"/>
              </a:xfrm>
              <a:custGeom>
                <a:avLst/>
                <a:gdLst/>
                <a:ahLst/>
                <a:rect l="l" t="t" r="r" b="b"/>
                <a:pathLst>
                  <a:path w="508" h="240">
                    <a:moveTo>
                      <a:pt x="508" y="217"/>
                    </a:moveTo>
                    <a:lnTo>
                      <a:pt x="484" y="192"/>
                    </a:lnTo>
                    <a:lnTo>
                      <a:pt x="466" y="191"/>
                    </a:lnTo>
                    <a:lnTo>
                      <a:pt x="450" y="191"/>
                    </a:lnTo>
                    <a:lnTo>
                      <a:pt x="436" y="189"/>
                    </a:lnTo>
                    <a:lnTo>
                      <a:pt x="420" y="186"/>
                    </a:lnTo>
                    <a:lnTo>
                      <a:pt x="405" y="182"/>
                    </a:lnTo>
                    <a:lnTo>
                      <a:pt x="390" y="179"/>
                    </a:lnTo>
                    <a:lnTo>
                      <a:pt x="375" y="174"/>
                    </a:lnTo>
                    <a:lnTo>
                      <a:pt x="361" y="169"/>
                    </a:lnTo>
                    <a:lnTo>
                      <a:pt x="332" y="158"/>
                    </a:lnTo>
                    <a:lnTo>
                      <a:pt x="304" y="144"/>
                    </a:lnTo>
                    <a:lnTo>
                      <a:pt x="277" y="130"/>
                    </a:lnTo>
                    <a:lnTo>
                      <a:pt x="250" y="114"/>
                    </a:lnTo>
                    <a:lnTo>
                      <a:pt x="193" y="80"/>
                    </a:lnTo>
                    <a:lnTo>
                      <a:pt x="137" y="50"/>
                    </a:lnTo>
                    <a:lnTo>
                      <a:pt x="107" y="34"/>
                    </a:lnTo>
                    <a:lnTo>
                      <a:pt x="77" y="21"/>
                    </a:lnTo>
                    <a:lnTo>
                      <a:pt x="61" y="15"/>
                    </a:lnTo>
                    <a:lnTo>
                      <a:pt x="45" y="9"/>
                    </a:lnTo>
                    <a:lnTo>
                      <a:pt x="27" y="4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15" y="51"/>
                    </a:lnTo>
                    <a:lnTo>
                      <a:pt x="30" y="56"/>
                    </a:lnTo>
                    <a:lnTo>
                      <a:pt x="43" y="61"/>
                    </a:lnTo>
                    <a:lnTo>
                      <a:pt x="58" y="66"/>
                    </a:lnTo>
                    <a:lnTo>
                      <a:pt x="86" y="78"/>
                    </a:lnTo>
                    <a:lnTo>
                      <a:pt x="113" y="91"/>
                    </a:lnTo>
                    <a:lnTo>
                      <a:pt x="170" y="123"/>
                    </a:lnTo>
                    <a:lnTo>
                      <a:pt x="225" y="155"/>
                    </a:lnTo>
                    <a:lnTo>
                      <a:pt x="254" y="173"/>
                    </a:lnTo>
                    <a:lnTo>
                      <a:pt x="283" y="187"/>
                    </a:lnTo>
                    <a:lnTo>
                      <a:pt x="313" y="202"/>
                    </a:lnTo>
                    <a:lnTo>
                      <a:pt x="343" y="214"/>
                    </a:lnTo>
                    <a:lnTo>
                      <a:pt x="361" y="221"/>
                    </a:lnTo>
                    <a:lnTo>
                      <a:pt x="377" y="226"/>
                    </a:lnTo>
                    <a:lnTo>
                      <a:pt x="394" y="229"/>
                    </a:lnTo>
                    <a:lnTo>
                      <a:pt x="411" y="234"/>
                    </a:lnTo>
                    <a:lnTo>
                      <a:pt x="428" y="237"/>
                    </a:lnTo>
                    <a:lnTo>
                      <a:pt x="445" y="239"/>
                    </a:lnTo>
                    <a:lnTo>
                      <a:pt x="464" y="240"/>
                    </a:lnTo>
                    <a:lnTo>
                      <a:pt x="484" y="240"/>
                    </a:lnTo>
                    <a:lnTo>
                      <a:pt x="459" y="217"/>
                    </a:lnTo>
                    <a:lnTo>
                      <a:pt x="484" y="240"/>
                    </a:lnTo>
                    <a:lnTo>
                      <a:pt x="489" y="240"/>
                    </a:lnTo>
                    <a:lnTo>
                      <a:pt x="493" y="239"/>
                    </a:lnTo>
                    <a:lnTo>
                      <a:pt x="498" y="237"/>
                    </a:lnTo>
                    <a:lnTo>
                      <a:pt x="502" y="233"/>
                    </a:lnTo>
                    <a:lnTo>
                      <a:pt x="505" y="229"/>
                    </a:lnTo>
                    <a:lnTo>
                      <a:pt x="506" y="226"/>
                    </a:lnTo>
                    <a:lnTo>
                      <a:pt x="507" y="221"/>
                    </a:lnTo>
                    <a:lnTo>
                      <a:pt x="508" y="217"/>
                    </a:lnTo>
                    <a:lnTo>
                      <a:pt x="507" y="212"/>
                    </a:lnTo>
                    <a:lnTo>
                      <a:pt x="506" y="207"/>
                    </a:lnTo>
                    <a:lnTo>
                      <a:pt x="505" y="203"/>
                    </a:lnTo>
                    <a:lnTo>
                      <a:pt x="502" y="200"/>
                    </a:lnTo>
                    <a:lnTo>
                      <a:pt x="498" y="196"/>
                    </a:lnTo>
                    <a:lnTo>
                      <a:pt x="493" y="194"/>
                    </a:lnTo>
                    <a:lnTo>
                      <a:pt x="489" y="192"/>
                    </a:lnTo>
                    <a:lnTo>
                      <a:pt x="484" y="192"/>
                    </a:lnTo>
                    <a:lnTo>
                      <a:pt x="508" y="2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6584760" y="3966120"/>
                <a:ext cx="88560" cy="320040"/>
              </a:xfrm>
              <a:custGeom>
                <a:avLst/>
                <a:gdLst/>
                <a:ahLst/>
                <a:rect l="l" t="t" r="r" b="b"/>
                <a:pathLst>
                  <a:path w="232" h="849">
                    <a:moveTo>
                      <a:pt x="45" y="835"/>
                    </a:moveTo>
                    <a:lnTo>
                      <a:pt x="45" y="835"/>
                    </a:lnTo>
                    <a:lnTo>
                      <a:pt x="60" y="804"/>
                    </a:lnTo>
                    <a:lnTo>
                      <a:pt x="76" y="769"/>
                    </a:lnTo>
                    <a:lnTo>
                      <a:pt x="92" y="731"/>
                    </a:lnTo>
                    <a:lnTo>
                      <a:pt x="108" y="687"/>
                    </a:lnTo>
                    <a:lnTo>
                      <a:pt x="124" y="642"/>
                    </a:lnTo>
                    <a:lnTo>
                      <a:pt x="139" y="593"/>
                    </a:lnTo>
                    <a:lnTo>
                      <a:pt x="154" y="541"/>
                    </a:lnTo>
                    <a:lnTo>
                      <a:pt x="168" y="486"/>
                    </a:lnTo>
                    <a:lnTo>
                      <a:pt x="181" y="429"/>
                    </a:lnTo>
                    <a:lnTo>
                      <a:pt x="193" y="371"/>
                    </a:lnTo>
                    <a:lnTo>
                      <a:pt x="204" y="311"/>
                    </a:lnTo>
                    <a:lnTo>
                      <a:pt x="214" y="250"/>
                    </a:lnTo>
                    <a:lnTo>
                      <a:pt x="221" y="188"/>
                    </a:lnTo>
                    <a:lnTo>
                      <a:pt x="227" y="125"/>
                    </a:lnTo>
                    <a:lnTo>
                      <a:pt x="231" y="63"/>
                    </a:lnTo>
                    <a:lnTo>
                      <a:pt x="232" y="0"/>
                    </a:lnTo>
                    <a:lnTo>
                      <a:pt x="183" y="0"/>
                    </a:lnTo>
                    <a:lnTo>
                      <a:pt x="182" y="60"/>
                    </a:lnTo>
                    <a:lnTo>
                      <a:pt x="178" y="122"/>
                    </a:lnTo>
                    <a:lnTo>
                      <a:pt x="173" y="183"/>
                    </a:lnTo>
                    <a:lnTo>
                      <a:pt x="166" y="243"/>
                    </a:lnTo>
                    <a:lnTo>
                      <a:pt x="156" y="304"/>
                    </a:lnTo>
                    <a:lnTo>
                      <a:pt x="146" y="362"/>
                    </a:lnTo>
                    <a:lnTo>
                      <a:pt x="134" y="419"/>
                    </a:lnTo>
                    <a:lnTo>
                      <a:pt x="120" y="475"/>
                    </a:lnTo>
                    <a:lnTo>
                      <a:pt x="107" y="528"/>
                    </a:lnTo>
                    <a:lnTo>
                      <a:pt x="92" y="578"/>
                    </a:lnTo>
                    <a:lnTo>
                      <a:pt x="77" y="626"/>
                    </a:lnTo>
                    <a:lnTo>
                      <a:pt x="62" y="671"/>
                    </a:lnTo>
                    <a:lnTo>
                      <a:pt x="47" y="713"/>
                    </a:lnTo>
                    <a:lnTo>
                      <a:pt x="32" y="750"/>
                    </a:lnTo>
                    <a:lnTo>
                      <a:pt x="17" y="78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2" y="813"/>
                    </a:lnTo>
                    <a:lnTo>
                      <a:pt x="0" y="818"/>
                    </a:lnTo>
                    <a:lnTo>
                      <a:pt x="0" y="823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6"/>
                    </a:lnTo>
                    <a:lnTo>
                      <a:pt x="6" y="840"/>
                    </a:lnTo>
                    <a:lnTo>
                      <a:pt x="8" y="842"/>
                    </a:lnTo>
                    <a:lnTo>
                      <a:pt x="13" y="845"/>
                    </a:lnTo>
                    <a:lnTo>
                      <a:pt x="17" y="847"/>
                    </a:lnTo>
                    <a:lnTo>
                      <a:pt x="22" y="847"/>
                    </a:lnTo>
                    <a:lnTo>
                      <a:pt x="26" y="849"/>
                    </a:lnTo>
                    <a:lnTo>
                      <a:pt x="31" y="847"/>
                    </a:lnTo>
                    <a:lnTo>
                      <a:pt x="34" y="846"/>
                    </a:lnTo>
                    <a:lnTo>
                      <a:pt x="39" y="844"/>
                    </a:lnTo>
                    <a:lnTo>
                      <a:pt x="43" y="840"/>
                    </a:lnTo>
                    <a:lnTo>
                      <a:pt x="45" y="8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393960" y="4239000"/>
                <a:ext cx="208080" cy="66240"/>
              </a:xfrm>
              <a:custGeom>
                <a:avLst/>
                <a:gdLst/>
                <a:ahLst/>
                <a:rect l="l" t="t" r="r" b="b"/>
                <a:pathLst>
                  <a:path w="552" h="174">
                    <a:moveTo>
                      <a:pt x="0" y="25"/>
                    </a:moveTo>
                    <a:lnTo>
                      <a:pt x="25" y="50"/>
                    </a:lnTo>
                    <a:lnTo>
                      <a:pt x="58" y="51"/>
                    </a:lnTo>
                    <a:lnTo>
                      <a:pt x="89" y="52"/>
                    </a:lnTo>
                    <a:lnTo>
                      <a:pt x="118" y="55"/>
                    </a:lnTo>
                    <a:lnTo>
                      <a:pt x="146" y="58"/>
                    </a:lnTo>
                    <a:lnTo>
                      <a:pt x="172" y="63"/>
                    </a:lnTo>
                    <a:lnTo>
                      <a:pt x="197" y="68"/>
                    </a:lnTo>
                    <a:lnTo>
                      <a:pt x="220" y="74"/>
                    </a:lnTo>
                    <a:lnTo>
                      <a:pt x="242" y="80"/>
                    </a:lnTo>
                    <a:lnTo>
                      <a:pt x="263" y="88"/>
                    </a:lnTo>
                    <a:lnTo>
                      <a:pt x="283" y="95"/>
                    </a:lnTo>
                    <a:lnTo>
                      <a:pt x="301" y="102"/>
                    </a:lnTo>
                    <a:lnTo>
                      <a:pt x="317" y="110"/>
                    </a:lnTo>
                    <a:lnTo>
                      <a:pt x="349" y="125"/>
                    </a:lnTo>
                    <a:lnTo>
                      <a:pt x="378" y="139"/>
                    </a:lnTo>
                    <a:lnTo>
                      <a:pt x="402" y="152"/>
                    </a:lnTo>
                    <a:lnTo>
                      <a:pt x="426" y="163"/>
                    </a:lnTo>
                    <a:lnTo>
                      <a:pt x="437" y="168"/>
                    </a:lnTo>
                    <a:lnTo>
                      <a:pt x="448" y="170"/>
                    </a:lnTo>
                    <a:lnTo>
                      <a:pt x="460" y="173"/>
                    </a:lnTo>
                    <a:lnTo>
                      <a:pt x="472" y="174"/>
                    </a:lnTo>
                    <a:lnTo>
                      <a:pt x="483" y="173"/>
                    </a:lnTo>
                    <a:lnTo>
                      <a:pt x="496" y="170"/>
                    </a:lnTo>
                    <a:lnTo>
                      <a:pt x="507" y="164"/>
                    </a:lnTo>
                    <a:lnTo>
                      <a:pt x="518" y="157"/>
                    </a:lnTo>
                    <a:lnTo>
                      <a:pt x="528" y="148"/>
                    </a:lnTo>
                    <a:lnTo>
                      <a:pt x="536" y="137"/>
                    </a:lnTo>
                    <a:lnTo>
                      <a:pt x="545" y="125"/>
                    </a:lnTo>
                    <a:lnTo>
                      <a:pt x="552" y="111"/>
                    </a:lnTo>
                    <a:lnTo>
                      <a:pt x="509" y="89"/>
                    </a:lnTo>
                    <a:lnTo>
                      <a:pt x="503" y="100"/>
                    </a:lnTo>
                    <a:lnTo>
                      <a:pt x="497" y="109"/>
                    </a:lnTo>
                    <a:lnTo>
                      <a:pt x="492" y="115"/>
                    </a:lnTo>
                    <a:lnTo>
                      <a:pt x="487" y="120"/>
                    </a:lnTo>
                    <a:lnTo>
                      <a:pt x="483" y="122"/>
                    </a:lnTo>
                    <a:lnTo>
                      <a:pt x="480" y="125"/>
                    </a:lnTo>
                    <a:lnTo>
                      <a:pt x="476" y="125"/>
                    </a:lnTo>
                    <a:lnTo>
                      <a:pt x="472" y="126"/>
                    </a:lnTo>
                    <a:lnTo>
                      <a:pt x="466" y="125"/>
                    </a:lnTo>
                    <a:lnTo>
                      <a:pt x="460" y="123"/>
                    </a:lnTo>
                    <a:lnTo>
                      <a:pt x="453" y="121"/>
                    </a:lnTo>
                    <a:lnTo>
                      <a:pt x="445" y="118"/>
                    </a:lnTo>
                    <a:lnTo>
                      <a:pt x="424" y="109"/>
                    </a:lnTo>
                    <a:lnTo>
                      <a:pt x="400" y="95"/>
                    </a:lnTo>
                    <a:lnTo>
                      <a:pt x="371" y="82"/>
                    </a:lnTo>
                    <a:lnTo>
                      <a:pt x="338" y="66"/>
                    </a:lnTo>
                    <a:lnTo>
                      <a:pt x="320" y="57"/>
                    </a:lnTo>
                    <a:lnTo>
                      <a:pt x="300" y="50"/>
                    </a:lnTo>
                    <a:lnTo>
                      <a:pt x="279" y="42"/>
                    </a:lnTo>
                    <a:lnTo>
                      <a:pt x="257" y="35"/>
                    </a:lnTo>
                    <a:lnTo>
                      <a:pt x="234" y="27"/>
                    </a:lnTo>
                    <a:lnTo>
                      <a:pt x="208" y="21"/>
                    </a:lnTo>
                    <a:lnTo>
                      <a:pt x="182" y="15"/>
                    </a:lnTo>
                    <a:lnTo>
                      <a:pt x="154" y="10"/>
                    </a:lnTo>
                    <a:lnTo>
                      <a:pt x="124" y="7"/>
                    </a:lnTo>
                    <a:lnTo>
                      <a:pt x="92" y="3"/>
                    </a:lnTo>
                    <a:lnTo>
                      <a:pt x="59" y="2"/>
                    </a:lnTo>
                    <a:lnTo>
                      <a:pt x="25" y="0"/>
                    </a:lnTo>
                    <a:lnTo>
                      <a:pt x="49" y="25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393960" y="3882960"/>
                <a:ext cx="105840" cy="365040"/>
              </a:xfrm>
              <a:custGeom>
                <a:avLst/>
                <a:gdLst/>
                <a:ahLst/>
                <a:rect l="l" t="t" r="r" b="b"/>
                <a:pathLst>
                  <a:path w="279" h="967">
                    <a:moveTo>
                      <a:pt x="255" y="0"/>
                    </a:moveTo>
                    <a:lnTo>
                      <a:pt x="230" y="25"/>
                    </a:lnTo>
                    <a:lnTo>
                      <a:pt x="230" y="58"/>
                    </a:lnTo>
                    <a:lnTo>
                      <a:pt x="228" y="91"/>
                    </a:lnTo>
                    <a:lnTo>
                      <a:pt x="225" y="123"/>
                    </a:lnTo>
                    <a:lnTo>
                      <a:pt x="220" y="153"/>
                    </a:lnTo>
                    <a:lnTo>
                      <a:pt x="215" y="183"/>
                    </a:lnTo>
                    <a:lnTo>
                      <a:pt x="209" y="212"/>
                    </a:lnTo>
                    <a:lnTo>
                      <a:pt x="203" y="240"/>
                    </a:lnTo>
                    <a:lnTo>
                      <a:pt x="196" y="268"/>
                    </a:lnTo>
                    <a:lnTo>
                      <a:pt x="178" y="322"/>
                    </a:lnTo>
                    <a:lnTo>
                      <a:pt x="159" y="375"/>
                    </a:lnTo>
                    <a:lnTo>
                      <a:pt x="139" y="427"/>
                    </a:lnTo>
                    <a:lnTo>
                      <a:pt x="117" y="479"/>
                    </a:lnTo>
                    <a:lnTo>
                      <a:pt x="96" y="532"/>
                    </a:lnTo>
                    <a:lnTo>
                      <a:pt x="75" y="586"/>
                    </a:lnTo>
                    <a:lnTo>
                      <a:pt x="65" y="613"/>
                    </a:lnTo>
                    <a:lnTo>
                      <a:pt x="55" y="641"/>
                    </a:lnTo>
                    <a:lnTo>
                      <a:pt x="46" y="669"/>
                    </a:lnTo>
                    <a:lnTo>
                      <a:pt x="37" y="699"/>
                    </a:lnTo>
                    <a:lnTo>
                      <a:pt x="30" y="730"/>
                    </a:lnTo>
                    <a:lnTo>
                      <a:pt x="22" y="760"/>
                    </a:lnTo>
                    <a:lnTo>
                      <a:pt x="16" y="792"/>
                    </a:lnTo>
                    <a:lnTo>
                      <a:pt x="11" y="824"/>
                    </a:lnTo>
                    <a:lnTo>
                      <a:pt x="6" y="859"/>
                    </a:lnTo>
                    <a:lnTo>
                      <a:pt x="4" y="893"/>
                    </a:lnTo>
                    <a:lnTo>
                      <a:pt x="1" y="930"/>
                    </a:lnTo>
                    <a:lnTo>
                      <a:pt x="0" y="967"/>
                    </a:lnTo>
                    <a:lnTo>
                      <a:pt x="49" y="967"/>
                    </a:lnTo>
                    <a:lnTo>
                      <a:pt x="49" y="931"/>
                    </a:lnTo>
                    <a:lnTo>
                      <a:pt x="52" y="897"/>
                    </a:lnTo>
                    <a:lnTo>
                      <a:pt x="54" y="864"/>
                    </a:lnTo>
                    <a:lnTo>
                      <a:pt x="59" y="832"/>
                    </a:lnTo>
                    <a:lnTo>
                      <a:pt x="64" y="801"/>
                    </a:lnTo>
                    <a:lnTo>
                      <a:pt x="70" y="770"/>
                    </a:lnTo>
                    <a:lnTo>
                      <a:pt x="76" y="741"/>
                    </a:lnTo>
                    <a:lnTo>
                      <a:pt x="84" y="712"/>
                    </a:lnTo>
                    <a:lnTo>
                      <a:pt x="92" y="684"/>
                    </a:lnTo>
                    <a:lnTo>
                      <a:pt x="101" y="656"/>
                    </a:lnTo>
                    <a:lnTo>
                      <a:pt x="111" y="629"/>
                    </a:lnTo>
                    <a:lnTo>
                      <a:pt x="121" y="603"/>
                    </a:lnTo>
                    <a:lnTo>
                      <a:pt x="140" y="550"/>
                    </a:lnTo>
                    <a:lnTo>
                      <a:pt x="162" y="497"/>
                    </a:lnTo>
                    <a:lnTo>
                      <a:pt x="183" y="445"/>
                    </a:lnTo>
                    <a:lnTo>
                      <a:pt x="204" y="393"/>
                    </a:lnTo>
                    <a:lnTo>
                      <a:pt x="224" y="337"/>
                    </a:lnTo>
                    <a:lnTo>
                      <a:pt x="242" y="282"/>
                    </a:lnTo>
                    <a:lnTo>
                      <a:pt x="250" y="252"/>
                    </a:lnTo>
                    <a:lnTo>
                      <a:pt x="257" y="223"/>
                    </a:lnTo>
                    <a:lnTo>
                      <a:pt x="263" y="192"/>
                    </a:lnTo>
                    <a:lnTo>
                      <a:pt x="269" y="160"/>
                    </a:lnTo>
                    <a:lnTo>
                      <a:pt x="273" y="128"/>
                    </a:lnTo>
                    <a:lnTo>
                      <a:pt x="277" y="95"/>
                    </a:lnTo>
                    <a:lnTo>
                      <a:pt x="278" y="60"/>
                    </a:lnTo>
                    <a:lnTo>
                      <a:pt x="279" y="25"/>
                    </a:lnTo>
                    <a:lnTo>
                      <a:pt x="255" y="49"/>
                    </a:lnTo>
                    <a:lnTo>
                      <a:pt x="279" y="25"/>
                    </a:lnTo>
                    <a:lnTo>
                      <a:pt x="278" y="19"/>
                    </a:lnTo>
                    <a:lnTo>
                      <a:pt x="277" y="14"/>
                    </a:lnTo>
                    <a:lnTo>
                      <a:pt x="274" y="10"/>
                    </a:lnTo>
                    <a:lnTo>
                      <a:pt x="272" y="6"/>
                    </a:lnTo>
                    <a:lnTo>
                      <a:pt x="268" y="4"/>
                    </a:lnTo>
                    <a:lnTo>
                      <a:pt x="263" y="1"/>
                    </a:lnTo>
                    <a:lnTo>
                      <a:pt x="260" y="0"/>
                    </a:lnTo>
                    <a:lnTo>
                      <a:pt x="255" y="0"/>
                    </a:lnTo>
                    <a:lnTo>
                      <a:pt x="250" y="0"/>
                    </a:lnTo>
                    <a:lnTo>
                      <a:pt x="246" y="1"/>
                    </a:lnTo>
                    <a:lnTo>
                      <a:pt x="241" y="4"/>
                    </a:lnTo>
                    <a:lnTo>
                      <a:pt x="237" y="6"/>
                    </a:lnTo>
                    <a:lnTo>
                      <a:pt x="235" y="10"/>
                    </a:lnTo>
                    <a:lnTo>
                      <a:pt x="232" y="14"/>
                    </a:lnTo>
                    <a:lnTo>
                      <a:pt x="231" y="19"/>
                    </a:lnTo>
                    <a:lnTo>
                      <a:pt x="230" y="25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6473160" y="388296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29" y="1"/>
                    </a:moveTo>
                    <a:lnTo>
                      <a:pt x="24" y="49"/>
                    </a:lnTo>
                    <a:lnTo>
                      <a:pt x="64" y="49"/>
                    </a:lnTo>
                    <a:lnTo>
                      <a:pt x="86" y="49"/>
                    </a:lnTo>
                    <a:lnTo>
                      <a:pt x="93" y="49"/>
                    </a:lnTo>
                    <a:lnTo>
                      <a:pt x="89" y="0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43" y="49"/>
                    </a:lnTo>
                    <a:lnTo>
                      <a:pt x="52" y="49"/>
                    </a:lnTo>
                    <a:lnTo>
                      <a:pt x="66" y="49"/>
                    </a:lnTo>
                    <a:lnTo>
                      <a:pt x="80" y="49"/>
                    </a:lnTo>
                    <a:lnTo>
                      <a:pt x="89" y="49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24" y="0"/>
                    </a:lnTo>
                    <a:lnTo>
                      <a:pt x="19" y="48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9" y="44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4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6738120" y="37580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7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1"/>
                    </a:lnTo>
                    <a:lnTo>
                      <a:pt x="21" y="38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4"/>
                    </a:lnTo>
                    <a:lnTo>
                      <a:pt x="11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544800" y="3758040"/>
                <a:ext cx="192960" cy="85320"/>
              </a:xfrm>
              <a:custGeom>
                <a:avLst/>
                <a:gdLst/>
                <a:ahLst/>
                <a:rect l="l" t="t" r="r" b="b"/>
                <a:pathLst>
                  <a:path w="509" h="225">
                    <a:moveTo>
                      <a:pt x="49" y="200"/>
                    </a:moveTo>
                    <a:lnTo>
                      <a:pt x="25" y="225"/>
                    </a:lnTo>
                    <a:lnTo>
                      <a:pt x="37" y="225"/>
                    </a:lnTo>
                    <a:lnTo>
                      <a:pt x="51" y="222"/>
                    </a:lnTo>
                    <a:lnTo>
                      <a:pt x="63" y="220"/>
                    </a:lnTo>
                    <a:lnTo>
                      <a:pt x="76" y="216"/>
                    </a:lnTo>
                    <a:lnTo>
                      <a:pt x="101" y="206"/>
                    </a:lnTo>
                    <a:lnTo>
                      <a:pt x="126" y="194"/>
                    </a:lnTo>
                    <a:lnTo>
                      <a:pt x="176" y="166"/>
                    </a:lnTo>
                    <a:lnTo>
                      <a:pt x="230" y="134"/>
                    </a:lnTo>
                    <a:lnTo>
                      <a:pt x="259" y="118"/>
                    </a:lnTo>
                    <a:lnTo>
                      <a:pt x="288" y="102"/>
                    </a:lnTo>
                    <a:lnTo>
                      <a:pt x="320" y="87"/>
                    </a:lnTo>
                    <a:lnTo>
                      <a:pt x="353" y="75"/>
                    </a:lnTo>
                    <a:lnTo>
                      <a:pt x="370" y="68"/>
                    </a:lnTo>
                    <a:lnTo>
                      <a:pt x="389" y="64"/>
                    </a:lnTo>
                    <a:lnTo>
                      <a:pt x="407" y="60"/>
                    </a:lnTo>
                    <a:lnTo>
                      <a:pt x="427" y="56"/>
                    </a:lnTo>
                    <a:lnTo>
                      <a:pt x="447" y="52"/>
                    </a:lnTo>
                    <a:lnTo>
                      <a:pt x="466" y="50"/>
                    </a:lnTo>
                    <a:lnTo>
                      <a:pt x="487" y="49"/>
                    </a:lnTo>
                    <a:lnTo>
                      <a:pt x="509" y="49"/>
                    </a:lnTo>
                    <a:lnTo>
                      <a:pt x="509" y="0"/>
                    </a:lnTo>
                    <a:lnTo>
                      <a:pt x="486" y="1"/>
                    </a:lnTo>
                    <a:lnTo>
                      <a:pt x="463" y="2"/>
                    </a:lnTo>
                    <a:lnTo>
                      <a:pt x="439" y="4"/>
                    </a:lnTo>
                    <a:lnTo>
                      <a:pt x="418" y="8"/>
                    </a:lnTo>
                    <a:lnTo>
                      <a:pt x="397" y="12"/>
                    </a:lnTo>
                    <a:lnTo>
                      <a:pt x="377" y="17"/>
                    </a:lnTo>
                    <a:lnTo>
                      <a:pt x="357" y="23"/>
                    </a:lnTo>
                    <a:lnTo>
                      <a:pt x="337" y="29"/>
                    </a:lnTo>
                    <a:lnTo>
                      <a:pt x="302" y="43"/>
                    </a:lnTo>
                    <a:lnTo>
                      <a:pt x="267" y="57"/>
                    </a:lnTo>
                    <a:lnTo>
                      <a:pt x="235" y="75"/>
                    </a:lnTo>
                    <a:lnTo>
                      <a:pt x="206" y="92"/>
                    </a:lnTo>
                    <a:lnTo>
                      <a:pt x="152" y="124"/>
                    </a:lnTo>
                    <a:lnTo>
                      <a:pt x="102" y="152"/>
                    </a:lnTo>
                    <a:lnTo>
                      <a:pt x="81" y="162"/>
                    </a:lnTo>
                    <a:lnTo>
                      <a:pt x="60" y="171"/>
                    </a:lnTo>
                    <a:lnTo>
                      <a:pt x="52" y="173"/>
                    </a:lnTo>
                    <a:lnTo>
                      <a:pt x="42" y="174"/>
                    </a:lnTo>
                    <a:lnTo>
                      <a:pt x="33" y="175"/>
                    </a:lnTo>
                    <a:lnTo>
                      <a:pt x="25" y="177"/>
                    </a:lnTo>
                    <a:lnTo>
                      <a:pt x="0" y="200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4" y="178"/>
                    </a:lnTo>
                    <a:lnTo>
                      <a:pt x="10" y="180"/>
                    </a:lnTo>
                    <a:lnTo>
                      <a:pt x="6" y="184"/>
                    </a:lnTo>
                    <a:lnTo>
                      <a:pt x="4" y="188"/>
                    </a:lnTo>
                    <a:lnTo>
                      <a:pt x="1" y="191"/>
                    </a:lnTo>
                    <a:lnTo>
                      <a:pt x="0" y="196"/>
                    </a:lnTo>
                    <a:lnTo>
                      <a:pt x="0" y="200"/>
                    </a:lnTo>
                    <a:lnTo>
                      <a:pt x="0" y="205"/>
                    </a:lnTo>
                    <a:lnTo>
                      <a:pt x="1" y="210"/>
                    </a:lnTo>
                    <a:lnTo>
                      <a:pt x="4" y="214"/>
                    </a:lnTo>
                    <a:lnTo>
                      <a:pt x="6" y="217"/>
                    </a:lnTo>
                    <a:lnTo>
                      <a:pt x="10" y="221"/>
                    </a:lnTo>
                    <a:lnTo>
                      <a:pt x="14" y="222"/>
                    </a:lnTo>
                    <a:lnTo>
                      <a:pt x="19" y="225"/>
                    </a:lnTo>
                    <a:lnTo>
                      <a:pt x="25" y="225"/>
                    </a:lnTo>
                    <a:lnTo>
                      <a:pt x="49" y="2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516720" y="3834000"/>
                <a:ext cx="47160" cy="75240"/>
              </a:xfrm>
              <a:custGeom>
                <a:avLst/>
                <a:gdLst/>
                <a:ahLst/>
                <a:rect l="l" t="t" r="r" b="b"/>
                <a:pathLst>
                  <a:path w="124" h="201">
                    <a:moveTo>
                      <a:pt x="46" y="201"/>
                    </a:moveTo>
                    <a:lnTo>
                      <a:pt x="53" y="181"/>
                    </a:lnTo>
                    <a:lnTo>
                      <a:pt x="64" y="161"/>
                    </a:lnTo>
                    <a:lnTo>
                      <a:pt x="76" y="139"/>
                    </a:lnTo>
                    <a:lnTo>
                      <a:pt x="90" y="116"/>
                    </a:lnTo>
                    <a:lnTo>
                      <a:pt x="102" y="90"/>
                    </a:lnTo>
                    <a:lnTo>
                      <a:pt x="113" y="63"/>
                    </a:lnTo>
                    <a:lnTo>
                      <a:pt x="117" y="48"/>
                    </a:lnTo>
                    <a:lnTo>
                      <a:pt x="121" y="32"/>
                    </a:lnTo>
                    <a:lnTo>
                      <a:pt x="123" y="17"/>
                    </a:lnTo>
                    <a:lnTo>
                      <a:pt x="124" y="0"/>
                    </a:lnTo>
                    <a:lnTo>
                      <a:pt x="75" y="0"/>
                    </a:lnTo>
                    <a:lnTo>
                      <a:pt x="75" y="12"/>
                    </a:lnTo>
                    <a:lnTo>
                      <a:pt x="73" y="25"/>
                    </a:lnTo>
                    <a:lnTo>
                      <a:pt x="70" y="36"/>
                    </a:lnTo>
                    <a:lnTo>
                      <a:pt x="68" y="47"/>
                    </a:lnTo>
                    <a:lnTo>
                      <a:pt x="58" y="70"/>
                    </a:lnTo>
                    <a:lnTo>
                      <a:pt x="47" y="92"/>
                    </a:lnTo>
                    <a:lnTo>
                      <a:pt x="33" y="116"/>
                    </a:lnTo>
                    <a:lnTo>
                      <a:pt x="21" y="138"/>
                    </a:lnTo>
                    <a:lnTo>
                      <a:pt x="9" y="161"/>
                    </a:lnTo>
                    <a:lnTo>
                      <a:pt x="0" y="186"/>
                    </a:lnTo>
                    <a:lnTo>
                      <a:pt x="4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6516720" y="390384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1" y="0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9" y="26"/>
                    </a:lnTo>
                    <a:lnTo>
                      <a:pt x="12" y="28"/>
                    </a:lnTo>
                    <a:lnTo>
                      <a:pt x="16" y="31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29" y="31"/>
                    </a:lnTo>
                    <a:lnTo>
                      <a:pt x="34" y="29"/>
                    </a:lnTo>
                    <a:lnTo>
                      <a:pt x="38" y="27"/>
                    </a:lnTo>
                    <a:lnTo>
                      <a:pt x="42" y="24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757240" y="3390840"/>
                <a:ext cx="357840" cy="488520"/>
              </a:xfrm>
              <a:custGeom>
                <a:avLst/>
                <a:gdLst/>
                <a:ahLst/>
                <a:rect l="l" t="t" r="r" b="b"/>
                <a:pathLst>
                  <a:path w="945" h="1289">
                    <a:moveTo>
                      <a:pt x="643" y="288"/>
                    </a:moveTo>
                    <a:lnTo>
                      <a:pt x="626" y="289"/>
                    </a:lnTo>
                    <a:lnTo>
                      <a:pt x="609" y="293"/>
                    </a:lnTo>
                    <a:lnTo>
                      <a:pt x="593" y="298"/>
                    </a:lnTo>
                    <a:lnTo>
                      <a:pt x="577" y="306"/>
                    </a:lnTo>
                    <a:lnTo>
                      <a:pt x="562" y="315"/>
                    </a:lnTo>
                    <a:lnTo>
                      <a:pt x="547" y="326"/>
                    </a:lnTo>
                    <a:lnTo>
                      <a:pt x="534" y="339"/>
                    </a:lnTo>
                    <a:lnTo>
                      <a:pt x="520" y="354"/>
                    </a:lnTo>
                    <a:lnTo>
                      <a:pt x="508" y="370"/>
                    </a:lnTo>
                    <a:lnTo>
                      <a:pt x="496" y="387"/>
                    </a:lnTo>
                    <a:lnTo>
                      <a:pt x="485" y="406"/>
                    </a:lnTo>
                    <a:lnTo>
                      <a:pt x="473" y="424"/>
                    </a:lnTo>
                    <a:lnTo>
                      <a:pt x="464" y="445"/>
                    </a:lnTo>
                    <a:lnTo>
                      <a:pt x="454" y="466"/>
                    </a:lnTo>
                    <a:lnTo>
                      <a:pt x="445" y="488"/>
                    </a:lnTo>
                    <a:lnTo>
                      <a:pt x="437" y="512"/>
                    </a:lnTo>
                    <a:lnTo>
                      <a:pt x="422" y="558"/>
                    </a:lnTo>
                    <a:lnTo>
                      <a:pt x="408" y="606"/>
                    </a:lnTo>
                    <a:lnTo>
                      <a:pt x="398" y="654"/>
                    </a:lnTo>
                    <a:lnTo>
                      <a:pt x="390" y="701"/>
                    </a:lnTo>
                    <a:lnTo>
                      <a:pt x="382" y="746"/>
                    </a:lnTo>
                    <a:lnTo>
                      <a:pt x="379" y="790"/>
                    </a:lnTo>
                    <a:lnTo>
                      <a:pt x="375" y="829"/>
                    </a:lnTo>
                    <a:lnTo>
                      <a:pt x="375" y="863"/>
                    </a:lnTo>
                    <a:lnTo>
                      <a:pt x="392" y="861"/>
                    </a:lnTo>
                    <a:lnTo>
                      <a:pt x="411" y="860"/>
                    </a:lnTo>
                    <a:lnTo>
                      <a:pt x="428" y="858"/>
                    </a:lnTo>
                    <a:lnTo>
                      <a:pt x="446" y="860"/>
                    </a:lnTo>
                    <a:lnTo>
                      <a:pt x="481" y="862"/>
                    </a:lnTo>
                    <a:lnTo>
                      <a:pt x="517" y="867"/>
                    </a:lnTo>
                    <a:lnTo>
                      <a:pt x="550" y="873"/>
                    </a:lnTo>
                    <a:lnTo>
                      <a:pt x="583" y="879"/>
                    </a:lnTo>
                    <a:lnTo>
                      <a:pt x="614" y="883"/>
                    </a:lnTo>
                    <a:lnTo>
                      <a:pt x="643" y="884"/>
                    </a:lnTo>
                    <a:lnTo>
                      <a:pt x="649" y="892"/>
                    </a:lnTo>
                    <a:lnTo>
                      <a:pt x="657" y="898"/>
                    </a:lnTo>
                    <a:lnTo>
                      <a:pt x="667" y="904"/>
                    </a:lnTo>
                    <a:lnTo>
                      <a:pt x="679" y="909"/>
                    </a:lnTo>
                    <a:lnTo>
                      <a:pt x="694" y="914"/>
                    </a:lnTo>
                    <a:lnTo>
                      <a:pt x="708" y="919"/>
                    </a:lnTo>
                    <a:lnTo>
                      <a:pt x="724" y="922"/>
                    </a:lnTo>
                    <a:lnTo>
                      <a:pt x="742" y="926"/>
                    </a:lnTo>
                    <a:lnTo>
                      <a:pt x="776" y="932"/>
                    </a:lnTo>
                    <a:lnTo>
                      <a:pt x="808" y="937"/>
                    </a:lnTo>
                    <a:lnTo>
                      <a:pt x="835" y="940"/>
                    </a:lnTo>
                    <a:lnTo>
                      <a:pt x="855" y="941"/>
                    </a:lnTo>
                    <a:lnTo>
                      <a:pt x="868" y="953"/>
                    </a:lnTo>
                    <a:lnTo>
                      <a:pt x="881" y="967"/>
                    </a:lnTo>
                    <a:lnTo>
                      <a:pt x="892" y="979"/>
                    </a:lnTo>
                    <a:lnTo>
                      <a:pt x="901" y="992"/>
                    </a:lnTo>
                    <a:lnTo>
                      <a:pt x="910" y="1005"/>
                    </a:lnTo>
                    <a:lnTo>
                      <a:pt x="919" y="1017"/>
                    </a:lnTo>
                    <a:lnTo>
                      <a:pt x="925" y="1029"/>
                    </a:lnTo>
                    <a:lnTo>
                      <a:pt x="931" y="1042"/>
                    </a:lnTo>
                    <a:lnTo>
                      <a:pt x="936" y="1053"/>
                    </a:lnTo>
                    <a:lnTo>
                      <a:pt x="940" y="1065"/>
                    </a:lnTo>
                    <a:lnTo>
                      <a:pt x="942" y="1077"/>
                    </a:lnTo>
                    <a:lnTo>
                      <a:pt x="945" y="1088"/>
                    </a:lnTo>
                    <a:lnTo>
                      <a:pt x="945" y="1099"/>
                    </a:lnTo>
                    <a:lnTo>
                      <a:pt x="945" y="1111"/>
                    </a:lnTo>
                    <a:lnTo>
                      <a:pt x="943" y="1122"/>
                    </a:lnTo>
                    <a:lnTo>
                      <a:pt x="941" y="1133"/>
                    </a:lnTo>
                    <a:lnTo>
                      <a:pt x="937" y="1144"/>
                    </a:lnTo>
                    <a:lnTo>
                      <a:pt x="932" y="1154"/>
                    </a:lnTo>
                    <a:lnTo>
                      <a:pt x="926" y="1165"/>
                    </a:lnTo>
                    <a:lnTo>
                      <a:pt x="920" y="1175"/>
                    </a:lnTo>
                    <a:lnTo>
                      <a:pt x="913" y="1186"/>
                    </a:lnTo>
                    <a:lnTo>
                      <a:pt x="903" y="1195"/>
                    </a:lnTo>
                    <a:lnTo>
                      <a:pt x="893" y="1205"/>
                    </a:lnTo>
                    <a:lnTo>
                      <a:pt x="883" y="1215"/>
                    </a:lnTo>
                    <a:lnTo>
                      <a:pt x="871" y="1225"/>
                    </a:lnTo>
                    <a:lnTo>
                      <a:pt x="857" y="1234"/>
                    </a:lnTo>
                    <a:lnTo>
                      <a:pt x="844" y="1243"/>
                    </a:lnTo>
                    <a:lnTo>
                      <a:pt x="829" y="1253"/>
                    </a:lnTo>
                    <a:lnTo>
                      <a:pt x="794" y="1270"/>
                    </a:lnTo>
                    <a:lnTo>
                      <a:pt x="758" y="1289"/>
                    </a:lnTo>
                    <a:lnTo>
                      <a:pt x="728" y="1286"/>
                    </a:lnTo>
                    <a:lnTo>
                      <a:pt x="691" y="1283"/>
                    </a:lnTo>
                    <a:lnTo>
                      <a:pt x="648" y="1275"/>
                    </a:lnTo>
                    <a:lnTo>
                      <a:pt x="601" y="1266"/>
                    </a:lnTo>
                    <a:lnTo>
                      <a:pt x="550" y="1253"/>
                    </a:lnTo>
                    <a:lnTo>
                      <a:pt x="497" y="1238"/>
                    </a:lnTo>
                    <a:lnTo>
                      <a:pt x="441" y="1222"/>
                    </a:lnTo>
                    <a:lnTo>
                      <a:pt x="387" y="1204"/>
                    </a:lnTo>
                    <a:lnTo>
                      <a:pt x="336" y="1184"/>
                    </a:lnTo>
                    <a:lnTo>
                      <a:pt x="285" y="1163"/>
                    </a:lnTo>
                    <a:lnTo>
                      <a:pt x="262" y="1152"/>
                    </a:lnTo>
                    <a:lnTo>
                      <a:pt x="240" y="1141"/>
                    </a:lnTo>
                    <a:lnTo>
                      <a:pt x="219" y="1130"/>
                    </a:lnTo>
                    <a:lnTo>
                      <a:pt x="200" y="1118"/>
                    </a:lnTo>
                    <a:lnTo>
                      <a:pt x="182" y="1106"/>
                    </a:lnTo>
                    <a:lnTo>
                      <a:pt x="166" y="1095"/>
                    </a:lnTo>
                    <a:lnTo>
                      <a:pt x="152" y="1082"/>
                    </a:lnTo>
                    <a:lnTo>
                      <a:pt x="141" y="1070"/>
                    </a:lnTo>
                    <a:lnTo>
                      <a:pt x="132" y="1056"/>
                    </a:lnTo>
                    <a:lnTo>
                      <a:pt x="125" y="1044"/>
                    </a:lnTo>
                    <a:lnTo>
                      <a:pt x="120" y="1032"/>
                    </a:lnTo>
                    <a:lnTo>
                      <a:pt x="119" y="1020"/>
                    </a:lnTo>
                    <a:lnTo>
                      <a:pt x="114" y="1018"/>
                    </a:lnTo>
                    <a:lnTo>
                      <a:pt x="109" y="1018"/>
                    </a:lnTo>
                    <a:lnTo>
                      <a:pt x="104" y="1016"/>
                    </a:lnTo>
                    <a:lnTo>
                      <a:pt x="101" y="1015"/>
                    </a:lnTo>
                    <a:lnTo>
                      <a:pt x="93" y="1008"/>
                    </a:lnTo>
                    <a:lnTo>
                      <a:pt x="87" y="1001"/>
                    </a:lnTo>
                    <a:lnTo>
                      <a:pt x="75" y="983"/>
                    </a:lnTo>
                    <a:lnTo>
                      <a:pt x="65" y="962"/>
                    </a:lnTo>
                    <a:lnTo>
                      <a:pt x="60" y="951"/>
                    </a:lnTo>
                    <a:lnTo>
                      <a:pt x="55" y="940"/>
                    </a:lnTo>
                    <a:lnTo>
                      <a:pt x="50" y="930"/>
                    </a:lnTo>
                    <a:lnTo>
                      <a:pt x="44" y="921"/>
                    </a:lnTo>
                    <a:lnTo>
                      <a:pt x="37" y="914"/>
                    </a:lnTo>
                    <a:lnTo>
                      <a:pt x="29" y="908"/>
                    </a:lnTo>
                    <a:lnTo>
                      <a:pt x="25" y="906"/>
                    </a:lnTo>
                    <a:lnTo>
                      <a:pt x="20" y="904"/>
                    </a:lnTo>
                    <a:lnTo>
                      <a:pt x="15" y="904"/>
                    </a:lnTo>
                    <a:lnTo>
                      <a:pt x="10" y="903"/>
                    </a:lnTo>
                    <a:lnTo>
                      <a:pt x="5" y="876"/>
                    </a:lnTo>
                    <a:lnTo>
                      <a:pt x="1" y="849"/>
                    </a:lnTo>
                    <a:lnTo>
                      <a:pt x="0" y="820"/>
                    </a:lnTo>
                    <a:lnTo>
                      <a:pt x="1" y="791"/>
                    </a:lnTo>
                    <a:lnTo>
                      <a:pt x="5" y="761"/>
                    </a:lnTo>
                    <a:lnTo>
                      <a:pt x="11" y="732"/>
                    </a:lnTo>
                    <a:lnTo>
                      <a:pt x="17" y="701"/>
                    </a:lnTo>
                    <a:lnTo>
                      <a:pt x="27" y="670"/>
                    </a:lnTo>
                    <a:lnTo>
                      <a:pt x="37" y="639"/>
                    </a:lnTo>
                    <a:lnTo>
                      <a:pt x="49" y="609"/>
                    </a:lnTo>
                    <a:lnTo>
                      <a:pt x="63" y="578"/>
                    </a:lnTo>
                    <a:lnTo>
                      <a:pt x="77" y="546"/>
                    </a:lnTo>
                    <a:lnTo>
                      <a:pt x="93" y="515"/>
                    </a:lnTo>
                    <a:lnTo>
                      <a:pt x="111" y="484"/>
                    </a:lnTo>
                    <a:lnTo>
                      <a:pt x="129" y="453"/>
                    </a:lnTo>
                    <a:lnTo>
                      <a:pt x="149" y="422"/>
                    </a:lnTo>
                    <a:lnTo>
                      <a:pt x="168" y="391"/>
                    </a:lnTo>
                    <a:lnTo>
                      <a:pt x="189" y="361"/>
                    </a:lnTo>
                    <a:lnTo>
                      <a:pt x="210" y="331"/>
                    </a:lnTo>
                    <a:lnTo>
                      <a:pt x="231" y="301"/>
                    </a:lnTo>
                    <a:lnTo>
                      <a:pt x="277" y="243"/>
                    </a:lnTo>
                    <a:lnTo>
                      <a:pt x="321" y="188"/>
                    </a:lnTo>
                    <a:lnTo>
                      <a:pt x="366" y="135"/>
                    </a:lnTo>
                    <a:lnTo>
                      <a:pt x="409" y="86"/>
                    </a:lnTo>
                    <a:lnTo>
                      <a:pt x="451" y="42"/>
                    </a:lnTo>
                    <a:lnTo>
                      <a:pt x="491" y="0"/>
                    </a:lnTo>
                    <a:lnTo>
                      <a:pt x="509" y="37"/>
                    </a:lnTo>
                    <a:lnTo>
                      <a:pt x="529" y="72"/>
                    </a:lnTo>
                    <a:lnTo>
                      <a:pt x="548" y="109"/>
                    </a:lnTo>
                    <a:lnTo>
                      <a:pt x="567" y="145"/>
                    </a:lnTo>
                    <a:lnTo>
                      <a:pt x="587" y="181"/>
                    </a:lnTo>
                    <a:lnTo>
                      <a:pt x="605" y="216"/>
                    </a:lnTo>
                    <a:lnTo>
                      <a:pt x="625" y="252"/>
                    </a:lnTo>
                    <a:lnTo>
                      <a:pt x="643" y="288"/>
                    </a:lnTo>
                    <a:close/>
                  </a:path>
                </a:pathLst>
              </a:custGeom>
              <a:solidFill>
                <a:srgbClr val="ddd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2889720" y="3489120"/>
                <a:ext cx="111240" cy="236520"/>
              </a:xfrm>
              <a:custGeom>
                <a:avLst/>
                <a:gdLst/>
                <a:ahLst/>
                <a:rect l="l" t="t" r="r" b="b"/>
                <a:pathLst>
                  <a:path w="293" h="625">
                    <a:moveTo>
                      <a:pt x="20" y="577"/>
                    </a:moveTo>
                    <a:lnTo>
                      <a:pt x="48" y="600"/>
                    </a:lnTo>
                    <a:lnTo>
                      <a:pt x="50" y="567"/>
                    </a:lnTo>
                    <a:lnTo>
                      <a:pt x="52" y="529"/>
                    </a:lnTo>
                    <a:lnTo>
                      <a:pt x="57" y="487"/>
                    </a:lnTo>
                    <a:lnTo>
                      <a:pt x="63" y="442"/>
                    </a:lnTo>
                    <a:lnTo>
                      <a:pt x="72" y="396"/>
                    </a:lnTo>
                    <a:lnTo>
                      <a:pt x="83" y="349"/>
                    </a:lnTo>
                    <a:lnTo>
                      <a:pt x="95" y="301"/>
                    </a:lnTo>
                    <a:lnTo>
                      <a:pt x="110" y="256"/>
                    </a:lnTo>
                    <a:lnTo>
                      <a:pt x="117" y="235"/>
                    </a:lnTo>
                    <a:lnTo>
                      <a:pt x="127" y="213"/>
                    </a:lnTo>
                    <a:lnTo>
                      <a:pt x="136" y="192"/>
                    </a:lnTo>
                    <a:lnTo>
                      <a:pt x="146" y="174"/>
                    </a:lnTo>
                    <a:lnTo>
                      <a:pt x="155" y="155"/>
                    </a:lnTo>
                    <a:lnTo>
                      <a:pt x="167" y="137"/>
                    </a:lnTo>
                    <a:lnTo>
                      <a:pt x="178" y="121"/>
                    </a:lnTo>
                    <a:lnTo>
                      <a:pt x="189" y="106"/>
                    </a:lnTo>
                    <a:lnTo>
                      <a:pt x="201" y="94"/>
                    </a:lnTo>
                    <a:lnTo>
                      <a:pt x="213" y="81"/>
                    </a:lnTo>
                    <a:lnTo>
                      <a:pt x="226" y="71"/>
                    </a:lnTo>
                    <a:lnTo>
                      <a:pt x="239" y="64"/>
                    </a:lnTo>
                    <a:lnTo>
                      <a:pt x="251" y="58"/>
                    </a:lnTo>
                    <a:lnTo>
                      <a:pt x="265" y="53"/>
                    </a:lnTo>
                    <a:lnTo>
                      <a:pt x="280" y="51"/>
                    </a:lnTo>
                    <a:lnTo>
                      <a:pt x="293" y="49"/>
                    </a:lnTo>
                    <a:lnTo>
                      <a:pt x="293" y="0"/>
                    </a:lnTo>
                    <a:lnTo>
                      <a:pt x="272" y="3"/>
                    </a:lnTo>
                    <a:lnTo>
                      <a:pt x="253" y="6"/>
                    </a:lnTo>
                    <a:lnTo>
                      <a:pt x="233" y="12"/>
                    </a:lnTo>
                    <a:lnTo>
                      <a:pt x="216" y="21"/>
                    </a:lnTo>
                    <a:lnTo>
                      <a:pt x="197" y="32"/>
                    </a:lnTo>
                    <a:lnTo>
                      <a:pt x="181" y="44"/>
                    </a:lnTo>
                    <a:lnTo>
                      <a:pt x="167" y="59"/>
                    </a:lnTo>
                    <a:lnTo>
                      <a:pt x="152" y="75"/>
                    </a:lnTo>
                    <a:lnTo>
                      <a:pt x="138" y="92"/>
                    </a:lnTo>
                    <a:lnTo>
                      <a:pt x="126" y="111"/>
                    </a:lnTo>
                    <a:lnTo>
                      <a:pt x="114" y="130"/>
                    </a:lnTo>
                    <a:lnTo>
                      <a:pt x="103" y="150"/>
                    </a:lnTo>
                    <a:lnTo>
                      <a:pt x="91" y="172"/>
                    </a:lnTo>
                    <a:lnTo>
                      <a:pt x="82" y="194"/>
                    </a:lnTo>
                    <a:lnTo>
                      <a:pt x="73" y="217"/>
                    </a:lnTo>
                    <a:lnTo>
                      <a:pt x="64" y="241"/>
                    </a:lnTo>
                    <a:lnTo>
                      <a:pt x="48" y="288"/>
                    </a:lnTo>
                    <a:lnTo>
                      <a:pt x="35" y="337"/>
                    </a:lnTo>
                    <a:lnTo>
                      <a:pt x="24" y="386"/>
                    </a:lnTo>
                    <a:lnTo>
                      <a:pt x="15" y="434"/>
                    </a:lnTo>
                    <a:lnTo>
                      <a:pt x="9" y="481"/>
                    </a:lnTo>
                    <a:lnTo>
                      <a:pt x="4" y="524"/>
                    </a:lnTo>
                    <a:lnTo>
                      <a:pt x="2" y="565"/>
                    </a:lnTo>
                    <a:lnTo>
                      <a:pt x="0" y="600"/>
                    </a:lnTo>
                    <a:lnTo>
                      <a:pt x="29" y="625"/>
                    </a:lnTo>
                    <a:lnTo>
                      <a:pt x="0" y="600"/>
                    </a:lnTo>
                    <a:lnTo>
                      <a:pt x="0" y="606"/>
                    </a:lnTo>
                    <a:lnTo>
                      <a:pt x="2" y="611"/>
                    </a:lnTo>
                    <a:lnTo>
                      <a:pt x="4" y="615"/>
                    </a:lnTo>
                    <a:lnTo>
                      <a:pt x="8" y="619"/>
                    </a:lnTo>
                    <a:lnTo>
                      <a:pt x="12" y="621"/>
                    </a:lnTo>
                    <a:lnTo>
                      <a:pt x="15" y="624"/>
                    </a:lnTo>
                    <a:lnTo>
                      <a:pt x="20" y="625"/>
                    </a:lnTo>
                    <a:lnTo>
                      <a:pt x="25" y="625"/>
                    </a:lnTo>
                    <a:lnTo>
                      <a:pt x="29" y="625"/>
                    </a:lnTo>
                    <a:lnTo>
                      <a:pt x="34" y="624"/>
                    </a:lnTo>
                    <a:lnTo>
                      <a:pt x="37" y="621"/>
                    </a:lnTo>
                    <a:lnTo>
                      <a:pt x="41" y="619"/>
                    </a:lnTo>
                    <a:lnTo>
                      <a:pt x="45" y="615"/>
                    </a:lnTo>
                    <a:lnTo>
                      <a:pt x="47" y="611"/>
                    </a:lnTo>
                    <a:lnTo>
                      <a:pt x="48" y="606"/>
                    </a:lnTo>
                    <a:lnTo>
                      <a:pt x="48" y="600"/>
                    </a:lnTo>
                    <a:lnTo>
                      <a:pt x="20" y="5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2896920" y="3706920"/>
                <a:ext cx="113400" cy="28080"/>
              </a:xfrm>
              <a:custGeom>
                <a:avLst/>
                <a:gdLst/>
                <a:ahLst/>
                <a:rect l="l" t="t" r="r" b="b"/>
                <a:pathLst>
                  <a:path w="298" h="75">
                    <a:moveTo>
                      <a:pt x="295" y="39"/>
                    </a:moveTo>
                    <a:lnTo>
                      <a:pt x="273" y="26"/>
                    </a:lnTo>
                    <a:lnTo>
                      <a:pt x="246" y="24"/>
                    </a:lnTo>
                    <a:lnTo>
                      <a:pt x="217" y="21"/>
                    </a:lnTo>
                    <a:lnTo>
                      <a:pt x="185" y="15"/>
                    </a:lnTo>
                    <a:lnTo>
                      <a:pt x="150" y="10"/>
                    </a:lnTo>
                    <a:lnTo>
                      <a:pt x="115" y="3"/>
                    </a:lnTo>
                    <a:lnTo>
                      <a:pt x="78" y="1"/>
                    </a:lnTo>
                    <a:lnTo>
                      <a:pt x="58" y="0"/>
                    </a:lnTo>
                    <a:lnTo>
                      <a:pt x="38" y="1"/>
                    </a:lnTo>
                    <a:lnTo>
                      <a:pt x="20" y="2"/>
                    </a:lnTo>
                    <a:lnTo>
                      <a:pt x="0" y="6"/>
                    </a:lnTo>
                    <a:lnTo>
                      <a:pt x="9" y="54"/>
                    </a:lnTo>
                    <a:lnTo>
                      <a:pt x="25" y="51"/>
                    </a:lnTo>
                    <a:lnTo>
                      <a:pt x="42" y="49"/>
                    </a:lnTo>
                    <a:lnTo>
                      <a:pt x="58" y="49"/>
                    </a:lnTo>
                    <a:lnTo>
                      <a:pt x="74" y="49"/>
                    </a:lnTo>
                    <a:lnTo>
                      <a:pt x="108" y="53"/>
                    </a:lnTo>
                    <a:lnTo>
                      <a:pt x="143" y="58"/>
                    </a:lnTo>
                    <a:lnTo>
                      <a:pt x="176" y="63"/>
                    </a:lnTo>
                    <a:lnTo>
                      <a:pt x="209" y="69"/>
                    </a:lnTo>
                    <a:lnTo>
                      <a:pt x="241" y="74"/>
                    </a:lnTo>
                    <a:lnTo>
                      <a:pt x="273" y="75"/>
                    </a:lnTo>
                    <a:lnTo>
                      <a:pt x="252" y="61"/>
                    </a:lnTo>
                    <a:lnTo>
                      <a:pt x="273" y="75"/>
                    </a:lnTo>
                    <a:lnTo>
                      <a:pt x="279" y="75"/>
                    </a:lnTo>
                    <a:lnTo>
                      <a:pt x="284" y="72"/>
                    </a:lnTo>
                    <a:lnTo>
                      <a:pt x="289" y="70"/>
                    </a:lnTo>
                    <a:lnTo>
                      <a:pt x="292" y="67"/>
                    </a:lnTo>
                    <a:lnTo>
                      <a:pt x="294" y="64"/>
                    </a:lnTo>
                    <a:lnTo>
                      <a:pt x="297" y="60"/>
                    </a:lnTo>
                    <a:lnTo>
                      <a:pt x="298" y="55"/>
                    </a:lnTo>
                    <a:lnTo>
                      <a:pt x="298" y="50"/>
                    </a:lnTo>
                    <a:lnTo>
                      <a:pt x="298" y="47"/>
                    </a:lnTo>
                    <a:lnTo>
                      <a:pt x="297" y="42"/>
                    </a:lnTo>
                    <a:lnTo>
                      <a:pt x="294" y="38"/>
                    </a:lnTo>
                    <a:lnTo>
                      <a:pt x="292" y="34"/>
                    </a:lnTo>
                    <a:lnTo>
                      <a:pt x="289" y="31"/>
                    </a:lnTo>
                    <a:lnTo>
                      <a:pt x="284" y="28"/>
                    </a:lnTo>
                    <a:lnTo>
                      <a:pt x="279" y="27"/>
                    </a:lnTo>
                    <a:lnTo>
                      <a:pt x="273" y="26"/>
                    </a:lnTo>
                    <a:lnTo>
                      <a:pt x="29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2993400" y="3720240"/>
                <a:ext cx="96480" cy="36000"/>
              </a:xfrm>
              <a:custGeom>
                <a:avLst/>
                <a:gdLst/>
                <a:ahLst/>
                <a:rect l="l" t="t" r="r" b="b"/>
                <a:pathLst>
                  <a:path w="257" h="91">
                    <a:moveTo>
                      <a:pt x="250" y="49"/>
                    </a:moveTo>
                    <a:lnTo>
                      <a:pt x="233" y="43"/>
                    </a:lnTo>
                    <a:lnTo>
                      <a:pt x="216" y="42"/>
                    </a:lnTo>
                    <a:lnTo>
                      <a:pt x="188" y="40"/>
                    </a:lnTo>
                    <a:lnTo>
                      <a:pt x="158" y="36"/>
                    </a:lnTo>
                    <a:lnTo>
                      <a:pt x="124" y="30"/>
                    </a:lnTo>
                    <a:lnTo>
                      <a:pt x="109" y="26"/>
                    </a:lnTo>
                    <a:lnTo>
                      <a:pt x="93" y="22"/>
                    </a:lnTo>
                    <a:lnTo>
                      <a:pt x="79" y="17"/>
                    </a:lnTo>
                    <a:lnTo>
                      <a:pt x="65" y="14"/>
                    </a:lnTo>
                    <a:lnTo>
                      <a:pt x="56" y="9"/>
                    </a:lnTo>
                    <a:lnTo>
                      <a:pt x="48" y="5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9" y="36"/>
                    </a:lnTo>
                    <a:lnTo>
                      <a:pt x="21" y="44"/>
                    </a:lnTo>
                    <a:lnTo>
                      <a:pt x="33" y="52"/>
                    </a:lnTo>
                    <a:lnTo>
                      <a:pt x="48" y="58"/>
                    </a:lnTo>
                    <a:lnTo>
                      <a:pt x="63" y="64"/>
                    </a:lnTo>
                    <a:lnTo>
                      <a:pt x="80" y="69"/>
                    </a:lnTo>
                    <a:lnTo>
                      <a:pt x="97" y="74"/>
                    </a:lnTo>
                    <a:lnTo>
                      <a:pt x="115" y="78"/>
                    </a:lnTo>
                    <a:lnTo>
                      <a:pt x="150" y="84"/>
                    </a:lnTo>
                    <a:lnTo>
                      <a:pt x="184" y="87"/>
                    </a:lnTo>
                    <a:lnTo>
                      <a:pt x="212" y="91"/>
                    </a:lnTo>
                    <a:lnTo>
                      <a:pt x="233" y="91"/>
                    </a:lnTo>
                    <a:lnTo>
                      <a:pt x="216" y="85"/>
                    </a:lnTo>
                    <a:lnTo>
                      <a:pt x="233" y="91"/>
                    </a:lnTo>
                    <a:lnTo>
                      <a:pt x="239" y="91"/>
                    </a:lnTo>
                    <a:lnTo>
                      <a:pt x="244" y="90"/>
                    </a:lnTo>
                    <a:lnTo>
                      <a:pt x="247" y="87"/>
                    </a:lnTo>
                    <a:lnTo>
                      <a:pt x="251" y="84"/>
                    </a:lnTo>
                    <a:lnTo>
                      <a:pt x="254" y="80"/>
                    </a:lnTo>
                    <a:lnTo>
                      <a:pt x="256" y="76"/>
                    </a:lnTo>
                    <a:lnTo>
                      <a:pt x="257" y="72"/>
                    </a:lnTo>
                    <a:lnTo>
                      <a:pt x="257" y="68"/>
                    </a:lnTo>
                    <a:lnTo>
                      <a:pt x="257" y="63"/>
                    </a:lnTo>
                    <a:lnTo>
                      <a:pt x="256" y="58"/>
                    </a:lnTo>
                    <a:lnTo>
                      <a:pt x="254" y="54"/>
                    </a:lnTo>
                    <a:lnTo>
                      <a:pt x="251" y="51"/>
                    </a:lnTo>
                    <a:lnTo>
                      <a:pt x="247" y="47"/>
                    </a:lnTo>
                    <a:lnTo>
                      <a:pt x="244" y="44"/>
                    </a:lnTo>
                    <a:lnTo>
                      <a:pt x="239" y="43"/>
                    </a:lnTo>
                    <a:lnTo>
                      <a:pt x="233" y="43"/>
                    </a:lnTo>
                    <a:lnTo>
                      <a:pt x="25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035160" y="3738960"/>
                <a:ext cx="88920" cy="149760"/>
              </a:xfrm>
              <a:custGeom>
                <a:avLst/>
                <a:gdLst/>
                <a:ahLst/>
                <a:rect l="l" t="t" r="r" b="b"/>
                <a:pathLst>
                  <a:path w="236" h="392">
                    <a:moveTo>
                      <a:pt x="25" y="392"/>
                    </a:moveTo>
                    <a:lnTo>
                      <a:pt x="34" y="389"/>
                    </a:lnTo>
                    <a:lnTo>
                      <a:pt x="73" y="371"/>
                    </a:lnTo>
                    <a:lnTo>
                      <a:pt x="107" y="352"/>
                    </a:lnTo>
                    <a:lnTo>
                      <a:pt x="124" y="342"/>
                    </a:lnTo>
                    <a:lnTo>
                      <a:pt x="139" y="332"/>
                    </a:lnTo>
                    <a:lnTo>
                      <a:pt x="152" y="321"/>
                    </a:lnTo>
                    <a:lnTo>
                      <a:pt x="165" y="312"/>
                    </a:lnTo>
                    <a:lnTo>
                      <a:pt x="177" y="300"/>
                    </a:lnTo>
                    <a:lnTo>
                      <a:pt x="188" y="289"/>
                    </a:lnTo>
                    <a:lnTo>
                      <a:pt x="198" y="278"/>
                    </a:lnTo>
                    <a:lnTo>
                      <a:pt x="207" y="267"/>
                    </a:lnTo>
                    <a:lnTo>
                      <a:pt x="214" y="255"/>
                    </a:lnTo>
                    <a:lnTo>
                      <a:pt x="221" y="243"/>
                    </a:lnTo>
                    <a:lnTo>
                      <a:pt x="226" y="230"/>
                    </a:lnTo>
                    <a:lnTo>
                      <a:pt x="231" y="217"/>
                    </a:lnTo>
                    <a:lnTo>
                      <a:pt x="234" y="205"/>
                    </a:lnTo>
                    <a:lnTo>
                      <a:pt x="236" y="191"/>
                    </a:lnTo>
                    <a:lnTo>
                      <a:pt x="236" y="177"/>
                    </a:lnTo>
                    <a:lnTo>
                      <a:pt x="235" y="164"/>
                    </a:lnTo>
                    <a:lnTo>
                      <a:pt x="234" y="150"/>
                    </a:lnTo>
                    <a:lnTo>
                      <a:pt x="230" y="137"/>
                    </a:lnTo>
                    <a:lnTo>
                      <a:pt x="226" y="123"/>
                    </a:lnTo>
                    <a:lnTo>
                      <a:pt x="220" y="110"/>
                    </a:lnTo>
                    <a:lnTo>
                      <a:pt x="214" y="96"/>
                    </a:lnTo>
                    <a:lnTo>
                      <a:pt x="207" y="83"/>
                    </a:lnTo>
                    <a:lnTo>
                      <a:pt x="198" y="69"/>
                    </a:lnTo>
                    <a:lnTo>
                      <a:pt x="188" y="56"/>
                    </a:lnTo>
                    <a:lnTo>
                      <a:pt x="177" y="42"/>
                    </a:lnTo>
                    <a:lnTo>
                      <a:pt x="166" y="29"/>
                    </a:lnTo>
                    <a:lnTo>
                      <a:pt x="152" y="15"/>
                    </a:lnTo>
                    <a:lnTo>
                      <a:pt x="139" y="0"/>
                    </a:lnTo>
                    <a:lnTo>
                      <a:pt x="105" y="36"/>
                    </a:lnTo>
                    <a:lnTo>
                      <a:pt x="118" y="48"/>
                    </a:lnTo>
                    <a:lnTo>
                      <a:pt x="129" y="61"/>
                    </a:lnTo>
                    <a:lnTo>
                      <a:pt x="140" y="73"/>
                    </a:lnTo>
                    <a:lnTo>
                      <a:pt x="149" y="85"/>
                    </a:lnTo>
                    <a:lnTo>
                      <a:pt x="157" y="96"/>
                    </a:lnTo>
                    <a:lnTo>
                      <a:pt x="165" y="107"/>
                    </a:lnTo>
                    <a:lnTo>
                      <a:pt x="171" y="118"/>
                    </a:lnTo>
                    <a:lnTo>
                      <a:pt x="176" y="130"/>
                    </a:lnTo>
                    <a:lnTo>
                      <a:pt x="180" y="139"/>
                    </a:lnTo>
                    <a:lnTo>
                      <a:pt x="183" y="149"/>
                    </a:lnTo>
                    <a:lnTo>
                      <a:pt x="186" y="159"/>
                    </a:lnTo>
                    <a:lnTo>
                      <a:pt x="187" y="169"/>
                    </a:lnTo>
                    <a:lnTo>
                      <a:pt x="187" y="177"/>
                    </a:lnTo>
                    <a:lnTo>
                      <a:pt x="187" y="187"/>
                    </a:lnTo>
                    <a:lnTo>
                      <a:pt x="186" y="196"/>
                    </a:lnTo>
                    <a:lnTo>
                      <a:pt x="184" y="205"/>
                    </a:lnTo>
                    <a:lnTo>
                      <a:pt x="181" y="213"/>
                    </a:lnTo>
                    <a:lnTo>
                      <a:pt x="177" y="222"/>
                    </a:lnTo>
                    <a:lnTo>
                      <a:pt x="172" y="230"/>
                    </a:lnTo>
                    <a:lnTo>
                      <a:pt x="167" y="239"/>
                    </a:lnTo>
                    <a:lnTo>
                      <a:pt x="160" y="248"/>
                    </a:lnTo>
                    <a:lnTo>
                      <a:pt x="152" y="256"/>
                    </a:lnTo>
                    <a:lnTo>
                      <a:pt x="144" y="266"/>
                    </a:lnTo>
                    <a:lnTo>
                      <a:pt x="134" y="275"/>
                    </a:lnTo>
                    <a:lnTo>
                      <a:pt x="123" y="283"/>
                    </a:lnTo>
                    <a:lnTo>
                      <a:pt x="111" y="292"/>
                    </a:lnTo>
                    <a:lnTo>
                      <a:pt x="97" y="300"/>
                    </a:lnTo>
                    <a:lnTo>
                      <a:pt x="84" y="309"/>
                    </a:lnTo>
                    <a:lnTo>
                      <a:pt x="52" y="328"/>
                    </a:lnTo>
                    <a:lnTo>
                      <a:pt x="15" y="345"/>
                    </a:lnTo>
                    <a:lnTo>
                      <a:pt x="25" y="342"/>
                    </a:lnTo>
                    <a:lnTo>
                      <a:pt x="15" y="345"/>
                    </a:lnTo>
                    <a:lnTo>
                      <a:pt x="10" y="347"/>
                    </a:lnTo>
                    <a:lnTo>
                      <a:pt x="6" y="351"/>
                    </a:lnTo>
                    <a:lnTo>
                      <a:pt x="2" y="355"/>
                    </a:lnTo>
                    <a:lnTo>
                      <a:pt x="1" y="358"/>
                    </a:lnTo>
                    <a:lnTo>
                      <a:pt x="0" y="363"/>
                    </a:lnTo>
                    <a:lnTo>
                      <a:pt x="0" y="368"/>
                    </a:lnTo>
                    <a:lnTo>
                      <a:pt x="1" y="372"/>
                    </a:lnTo>
                    <a:lnTo>
                      <a:pt x="2" y="377"/>
                    </a:lnTo>
                    <a:lnTo>
                      <a:pt x="5" y="380"/>
                    </a:lnTo>
                    <a:lnTo>
                      <a:pt x="7" y="384"/>
                    </a:lnTo>
                    <a:lnTo>
                      <a:pt x="11" y="387"/>
                    </a:lnTo>
                    <a:lnTo>
                      <a:pt x="15" y="389"/>
                    </a:lnTo>
                    <a:lnTo>
                      <a:pt x="18" y="390"/>
                    </a:lnTo>
                    <a:lnTo>
                      <a:pt x="23" y="392"/>
                    </a:lnTo>
                    <a:lnTo>
                      <a:pt x="29" y="390"/>
                    </a:lnTo>
                    <a:lnTo>
                      <a:pt x="34" y="389"/>
                    </a:lnTo>
                    <a:lnTo>
                      <a:pt x="25" y="3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2793240" y="3767400"/>
                <a:ext cx="251280" cy="121320"/>
              </a:xfrm>
              <a:custGeom>
                <a:avLst/>
                <a:gdLst/>
                <a:ahLst/>
                <a:rect l="l" t="t" r="r" b="b"/>
                <a:pathLst>
                  <a:path w="663" h="319">
                    <a:moveTo>
                      <a:pt x="24" y="49"/>
                    </a:moveTo>
                    <a:lnTo>
                      <a:pt x="0" y="25"/>
                    </a:lnTo>
                    <a:lnTo>
                      <a:pt x="1" y="33"/>
                    </a:lnTo>
                    <a:lnTo>
                      <a:pt x="2" y="42"/>
                    </a:lnTo>
                    <a:lnTo>
                      <a:pt x="5" y="50"/>
                    </a:lnTo>
                    <a:lnTo>
                      <a:pt x="8" y="60"/>
                    </a:lnTo>
                    <a:lnTo>
                      <a:pt x="17" y="75"/>
                    </a:lnTo>
                    <a:lnTo>
                      <a:pt x="28" y="90"/>
                    </a:lnTo>
                    <a:lnTo>
                      <a:pt x="40" y="104"/>
                    </a:lnTo>
                    <a:lnTo>
                      <a:pt x="56" y="118"/>
                    </a:lnTo>
                    <a:lnTo>
                      <a:pt x="73" y="130"/>
                    </a:lnTo>
                    <a:lnTo>
                      <a:pt x="92" y="144"/>
                    </a:lnTo>
                    <a:lnTo>
                      <a:pt x="112" y="156"/>
                    </a:lnTo>
                    <a:lnTo>
                      <a:pt x="134" y="168"/>
                    </a:lnTo>
                    <a:lnTo>
                      <a:pt x="157" y="180"/>
                    </a:lnTo>
                    <a:lnTo>
                      <a:pt x="180" y="191"/>
                    </a:lnTo>
                    <a:lnTo>
                      <a:pt x="231" y="213"/>
                    </a:lnTo>
                    <a:lnTo>
                      <a:pt x="285" y="232"/>
                    </a:lnTo>
                    <a:lnTo>
                      <a:pt x="339" y="251"/>
                    </a:lnTo>
                    <a:lnTo>
                      <a:pt x="394" y="267"/>
                    </a:lnTo>
                    <a:lnTo>
                      <a:pt x="449" y="282"/>
                    </a:lnTo>
                    <a:lnTo>
                      <a:pt x="500" y="294"/>
                    </a:lnTo>
                    <a:lnTo>
                      <a:pt x="549" y="304"/>
                    </a:lnTo>
                    <a:lnTo>
                      <a:pt x="592" y="311"/>
                    </a:lnTo>
                    <a:lnTo>
                      <a:pt x="631" y="316"/>
                    </a:lnTo>
                    <a:lnTo>
                      <a:pt x="663" y="319"/>
                    </a:lnTo>
                    <a:lnTo>
                      <a:pt x="663" y="269"/>
                    </a:lnTo>
                    <a:lnTo>
                      <a:pt x="636" y="268"/>
                    </a:lnTo>
                    <a:lnTo>
                      <a:pt x="600" y="263"/>
                    </a:lnTo>
                    <a:lnTo>
                      <a:pt x="558" y="256"/>
                    </a:lnTo>
                    <a:lnTo>
                      <a:pt x="511" y="247"/>
                    </a:lnTo>
                    <a:lnTo>
                      <a:pt x="461" y="235"/>
                    </a:lnTo>
                    <a:lnTo>
                      <a:pt x="408" y="220"/>
                    </a:lnTo>
                    <a:lnTo>
                      <a:pt x="354" y="204"/>
                    </a:lnTo>
                    <a:lnTo>
                      <a:pt x="301" y="187"/>
                    </a:lnTo>
                    <a:lnTo>
                      <a:pt x="249" y="167"/>
                    </a:lnTo>
                    <a:lnTo>
                      <a:pt x="200" y="146"/>
                    </a:lnTo>
                    <a:lnTo>
                      <a:pt x="178" y="135"/>
                    </a:lnTo>
                    <a:lnTo>
                      <a:pt x="156" y="125"/>
                    </a:lnTo>
                    <a:lnTo>
                      <a:pt x="136" y="114"/>
                    </a:lnTo>
                    <a:lnTo>
                      <a:pt x="118" y="103"/>
                    </a:lnTo>
                    <a:lnTo>
                      <a:pt x="102" y="91"/>
                    </a:lnTo>
                    <a:lnTo>
                      <a:pt x="87" y="80"/>
                    </a:lnTo>
                    <a:lnTo>
                      <a:pt x="75" y="70"/>
                    </a:lnTo>
                    <a:lnTo>
                      <a:pt x="65" y="59"/>
                    </a:lnTo>
                    <a:lnTo>
                      <a:pt x="57" y="49"/>
                    </a:lnTo>
                    <a:lnTo>
                      <a:pt x="51" y="39"/>
                    </a:lnTo>
                    <a:lnTo>
                      <a:pt x="50" y="36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5"/>
                    </a:lnTo>
                    <a:lnTo>
                      <a:pt x="24" y="0"/>
                    </a:lnTo>
                    <a:lnTo>
                      <a:pt x="49" y="25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24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2751480" y="37242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134" h="165">
                    <a:moveTo>
                      <a:pt x="1" y="30"/>
                    </a:moveTo>
                    <a:lnTo>
                      <a:pt x="25" y="48"/>
                    </a:lnTo>
                    <a:lnTo>
                      <a:pt x="27" y="48"/>
                    </a:lnTo>
                    <a:lnTo>
                      <a:pt x="28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6" y="53"/>
                    </a:lnTo>
                    <a:lnTo>
                      <a:pt x="40" y="57"/>
                    </a:lnTo>
                    <a:lnTo>
                      <a:pt x="44" y="64"/>
                    </a:lnTo>
                    <a:lnTo>
                      <a:pt x="49" y="72"/>
                    </a:lnTo>
                    <a:lnTo>
                      <a:pt x="53" y="81"/>
                    </a:lnTo>
                    <a:lnTo>
                      <a:pt x="58" y="93"/>
                    </a:lnTo>
                    <a:lnTo>
                      <a:pt x="69" y="115"/>
                    </a:lnTo>
                    <a:lnTo>
                      <a:pt x="81" y="136"/>
                    </a:lnTo>
                    <a:lnTo>
                      <a:pt x="91" y="148"/>
                    </a:lnTo>
                    <a:lnTo>
                      <a:pt x="102" y="155"/>
                    </a:lnTo>
                    <a:lnTo>
                      <a:pt x="111" y="160"/>
                    </a:lnTo>
                    <a:lnTo>
                      <a:pt x="118" y="163"/>
                    </a:lnTo>
                    <a:lnTo>
                      <a:pt x="126" y="164"/>
                    </a:lnTo>
                    <a:lnTo>
                      <a:pt x="134" y="165"/>
                    </a:lnTo>
                    <a:lnTo>
                      <a:pt x="134" y="116"/>
                    </a:lnTo>
                    <a:lnTo>
                      <a:pt x="132" y="116"/>
                    </a:lnTo>
                    <a:lnTo>
                      <a:pt x="131" y="116"/>
                    </a:lnTo>
                    <a:lnTo>
                      <a:pt x="129" y="115"/>
                    </a:lnTo>
                    <a:lnTo>
                      <a:pt x="129" y="115"/>
                    </a:lnTo>
                    <a:lnTo>
                      <a:pt x="124" y="112"/>
                    </a:lnTo>
                    <a:lnTo>
                      <a:pt x="122" y="109"/>
                    </a:lnTo>
                    <a:lnTo>
                      <a:pt x="112" y="93"/>
                    </a:lnTo>
                    <a:lnTo>
                      <a:pt x="102" y="72"/>
                    </a:lnTo>
                    <a:lnTo>
                      <a:pt x="97" y="61"/>
                    </a:lnTo>
                    <a:lnTo>
                      <a:pt x="92" y="50"/>
                    </a:lnTo>
                    <a:lnTo>
                      <a:pt x="85" y="38"/>
                    </a:lnTo>
                    <a:lnTo>
                      <a:pt x="78" y="27"/>
                    </a:lnTo>
                    <a:lnTo>
                      <a:pt x="68" y="16"/>
                    </a:lnTo>
                    <a:lnTo>
                      <a:pt x="57" y="9"/>
                    </a:lnTo>
                    <a:lnTo>
                      <a:pt x="49" y="4"/>
                    </a:lnTo>
                    <a:lnTo>
                      <a:pt x="42" y="2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48" y="19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4" y="47"/>
                    </a:lnTo>
                    <a:lnTo>
                      <a:pt x="20" y="48"/>
                    </a:lnTo>
                    <a:lnTo>
                      <a:pt x="25" y="4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2749320" y="3381480"/>
                <a:ext cx="202320" cy="353520"/>
              </a:xfrm>
              <a:custGeom>
                <a:avLst/>
                <a:gdLst/>
                <a:ahLst/>
                <a:rect l="l" t="t" r="r" b="b"/>
                <a:pathLst>
                  <a:path w="538" h="934">
                    <a:moveTo>
                      <a:pt x="535" y="14"/>
                    </a:moveTo>
                    <a:lnTo>
                      <a:pt x="496" y="8"/>
                    </a:lnTo>
                    <a:lnTo>
                      <a:pt x="457" y="49"/>
                    </a:lnTo>
                    <a:lnTo>
                      <a:pt x="414" y="95"/>
                    </a:lnTo>
                    <a:lnTo>
                      <a:pt x="371" y="144"/>
                    </a:lnTo>
                    <a:lnTo>
                      <a:pt x="325" y="197"/>
                    </a:lnTo>
                    <a:lnTo>
                      <a:pt x="280" y="254"/>
                    </a:lnTo>
                    <a:lnTo>
                      <a:pt x="236" y="311"/>
                    </a:lnTo>
                    <a:lnTo>
                      <a:pt x="214" y="342"/>
                    </a:lnTo>
                    <a:lnTo>
                      <a:pt x="191" y="372"/>
                    </a:lnTo>
                    <a:lnTo>
                      <a:pt x="171" y="402"/>
                    </a:lnTo>
                    <a:lnTo>
                      <a:pt x="151" y="434"/>
                    </a:lnTo>
                    <a:lnTo>
                      <a:pt x="131" y="465"/>
                    </a:lnTo>
                    <a:lnTo>
                      <a:pt x="113" y="497"/>
                    </a:lnTo>
                    <a:lnTo>
                      <a:pt x="96" y="529"/>
                    </a:lnTo>
                    <a:lnTo>
                      <a:pt x="80" y="561"/>
                    </a:lnTo>
                    <a:lnTo>
                      <a:pt x="64" y="593"/>
                    </a:lnTo>
                    <a:lnTo>
                      <a:pt x="50" y="625"/>
                    </a:lnTo>
                    <a:lnTo>
                      <a:pt x="38" y="656"/>
                    </a:lnTo>
                    <a:lnTo>
                      <a:pt x="27" y="688"/>
                    </a:lnTo>
                    <a:lnTo>
                      <a:pt x="17" y="720"/>
                    </a:lnTo>
                    <a:lnTo>
                      <a:pt x="9" y="752"/>
                    </a:lnTo>
                    <a:lnTo>
                      <a:pt x="4" y="783"/>
                    </a:lnTo>
                    <a:lnTo>
                      <a:pt x="1" y="815"/>
                    </a:lnTo>
                    <a:lnTo>
                      <a:pt x="0" y="844"/>
                    </a:lnTo>
                    <a:lnTo>
                      <a:pt x="0" y="875"/>
                    </a:lnTo>
                    <a:lnTo>
                      <a:pt x="1" y="890"/>
                    </a:lnTo>
                    <a:lnTo>
                      <a:pt x="3" y="904"/>
                    </a:lnTo>
                    <a:lnTo>
                      <a:pt x="6" y="919"/>
                    </a:lnTo>
                    <a:lnTo>
                      <a:pt x="9" y="934"/>
                    </a:lnTo>
                    <a:lnTo>
                      <a:pt x="56" y="923"/>
                    </a:lnTo>
                    <a:lnTo>
                      <a:pt x="54" y="909"/>
                    </a:lnTo>
                    <a:lnTo>
                      <a:pt x="51" y="897"/>
                    </a:lnTo>
                    <a:lnTo>
                      <a:pt x="50" y="885"/>
                    </a:lnTo>
                    <a:lnTo>
                      <a:pt x="49" y="872"/>
                    </a:lnTo>
                    <a:lnTo>
                      <a:pt x="48" y="845"/>
                    </a:lnTo>
                    <a:lnTo>
                      <a:pt x="49" y="818"/>
                    </a:lnTo>
                    <a:lnTo>
                      <a:pt x="52" y="790"/>
                    </a:lnTo>
                    <a:lnTo>
                      <a:pt x="57" y="762"/>
                    </a:lnTo>
                    <a:lnTo>
                      <a:pt x="65" y="732"/>
                    </a:lnTo>
                    <a:lnTo>
                      <a:pt x="73" y="703"/>
                    </a:lnTo>
                    <a:lnTo>
                      <a:pt x="83" y="673"/>
                    </a:lnTo>
                    <a:lnTo>
                      <a:pt x="94" y="644"/>
                    </a:lnTo>
                    <a:lnTo>
                      <a:pt x="108" y="613"/>
                    </a:lnTo>
                    <a:lnTo>
                      <a:pt x="123" y="582"/>
                    </a:lnTo>
                    <a:lnTo>
                      <a:pt x="139" y="551"/>
                    </a:lnTo>
                    <a:lnTo>
                      <a:pt x="156" y="521"/>
                    </a:lnTo>
                    <a:lnTo>
                      <a:pt x="173" y="491"/>
                    </a:lnTo>
                    <a:lnTo>
                      <a:pt x="191" y="460"/>
                    </a:lnTo>
                    <a:lnTo>
                      <a:pt x="211" y="430"/>
                    </a:lnTo>
                    <a:lnTo>
                      <a:pt x="232" y="400"/>
                    </a:lnTo>
                    <a:lnTo>
                      <a:pt x="253" y="370"/>
                    </a:lnTo>
                    <a:lnTo>
                      <a:pt x="274" y="341"/>
                    </a:lnTo>
                    <a:lnTo>
                      <a:pt x="318" y="283"/>
                    </a:lnTo>
                    <a:lnTo>
                      <a:pt x="362" y="229"/>
                    </a:lnTo>
                    <a:lnTo>
                      <a:pt x="407" y="176"/>
                    </a:lnTo>
                    <a:lnTo>
                      <a:pt x="451" y="128"/>
                    </a:lnTo>
                    <a:lnTo>
                      <a:pt x="493" y="83"/>
                    </a:lnTo>
                    <a:lnTo>
                      <a:pt x="531" y="42"/>
                    </a:lnTo>
                    <a:lnTo>
                      <a:pt x="492" y="36"/>
                    </a:lnTo>
                    <a:lnTo>
                      <a:pt x="531" y="42"/>
                    </a:lnTo>
                    <a:lnTo>
                      <a:pt x="535" y="37"/>
                    </a:lnTo>
                    <a:lnTo>
                      <a:pt x="537" y="32"/>
                    </a:lnTo>
                    <a:lnTo>
                      <a:pt x="538" y="29"/>
                    </a:lnTo>
                    <a:lnTo>
                      <a:pt x="538" y="24"/>
                    </a:lnTo>
                    <a:lnTo>
                      <a:pt x="537" y="19"/>
                    </a:lnTo>
                    <a:lnTo>
                      <a:pt x="536" y="15"/>
                    </a:lnTo>
                    <a:lnTo>
                      <a:pt x="533" y="11"/>
                    </a:lnTo>
                    <a:lnTo>
                      <a:pt x="531" y="8"/>
                    </a:lnTo>
                    <a:lnTo>
                      <a:pt x="527" y="5"/>
                    </a:lnTo>
                    <a:lnTo>
                      <a:pt x="524" y="3"/>
                    </a:lnTo>
                    <a:lnTo>
                      <a:pt x="519" y="1"/>
                    </a:lnTo>
                    <a:lnTo>
                      <a:pt x="514" y="0"/>
                    </a:lnTo>
                    <a:lnTo>
                      <a:pt x="510" y="0"/>
                    </a:lnTo>
                    <a:lnTo>
                      <a:pt x="505" y="1"/>
                    </a:lnTo>
                    <a:lnTo>
                      <a:pt x="500" y="4"/>
                    </a:lnTo>
                    <a:lnTo>
                      <a:pt x="496" y="8"/>
                    </a:lnTo>
                    <a:lnTo>
                      <a:pt x="5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2935080" y="3386880"/>
                <a:ext cx="75240" cy="120960"/>
              </a:xfrm>
              <a:custGeom>
                <a:avLst/>
                <a:gdLst/>
                <a:ahLst/>
                <a:rect l="l" t="t" r="r" b="b"/>
                <a:pathLst>
                  <a:path w="199" h="323">
                    <a:moveTo>
                      <a:pt x="174" y="323"/>
                    </a:moveTo>
                    <a:lnTo>
                      <a:pt x="196" y="288"/>
                    </a:lnTo>
                    <a:lnTo>
                      <a:pt x="177" y="252"/>
                    </a:lnTo>
                    <a:lnTo>
                      <a:pt x="158" y="216"/>
                    </a:lnTo>
                    <a:lnTo>
                      <a:pt x="139" y="181"/>
                    </a:lnTo>
                    <a:lnTo>
                      <a:pt x="120" y="145"/>
                    </a:lnTo>
                    <a:lnTo>
                      <a:pt x="100" y="108"/>
                    </a:lnTo>
                    <a:lnTo>
                      <a:pt x="82" y="72"/>
                    </a:lnTo>
                    <a:lnTo>
                      <a:pt x="62" y="37"/>
                    </a:lnTo>
                    <a:lnTo>
                      <a:pt x="43" y="0"/>
                    </a:lnTo>
                    <a:lnTo>
                      <a:pt x="0" y="22"/>
                    </a:lnTo>
                    <a:lnTo>
                      <a:pt x="19" y="59"/>
                    </a:lnTo>
                    <a:lnTo>
                      <a:pt x="39" y="95"/>
                    </a:lnTo>
                    <a:lnTo>
                      <a:pt x="57" y="131"/>
                    </a:lnTo>
                    <a:lnTo>
                      <a:pt x="77" y="167"/>
                    </a:lnTo>
                    <a:lnTo>
                      <a:pt x="95" y="203"/>
                    </a:lnTo>
                    <a:lnTo>
                      <a:pt x="115" y="238"/>
                    </a:lnTo>
                    <a:lnTo>
                      <a:pt x="134" y="275"/>
                    </a:lnTo>
                    <a:lnTo>
                      <a:pt x="153" y="311"/>
                    </a:lnTo>
                    <a:lnTo>
                      <a:pt x="174" y="274"/>
                    </a:lnTo>
                    <a:lnTo>
                      <a:pt x="153" y="311"/>
                    </a:lnTo>
                    <a:lnTo>
                      <a:pt x="157" y="315"/>
                    </a:lnTo>
                    <a:lnTo>
                      <a:pt x="161" y="318"/>
                    </a:lnTo>
                    <a:lnTo>
                      <a:pt x="164" y="321"/>
                    </a:lnTo>
                    <a:lnTo>
                      <a:pt x="169" y="323"/>
                    </a:lnTo>
                    <a:lnTo>
                      <a:pt x="173" y="323"/>
                    </a:lnTo>
                    <a:lnTo>
                      <a:pt x="178" y="323"/>
                    </a:lnTo>
                    <a:lnTo>
                      <a:pt x="182" y="322"/>
                    </a:lnTo>
                    <a:lnTo>
                      <a:pt x="186" y="321"/>
                    </a:lnTo>
                    <a:lnTo>
                      <a:pt x="190" y="318"/>
                    </a:lnTo>
                    <a:lnTo>
                      <a:pt x="194" y="315"/>
                    </a:lnTo>
                    <a:lnTo>
                      <a:pt x="196" y="311"/>
                    </a:lnTo>
                    <a:lnTo>
                      <a:pt x="198" y="307"/>
                    </a:lnTo>
                    <a:lnTo>
                      <a:pt x="199" y="302"/>
                    </a:lnTo>
                    <a:lnTo>
                      <a:pt x="199" y="297"/>
                    </a:lnTo>
                    <a:lnTo>
                      <a:pt x="199" y="293"/>
                    </a:lnTo>
                    <a:lnTo>
                      <a:pt x="196" y="288"/>
                    </a:lnTo>
                    <a:lnTo>
                      <a:pt x="17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2798640" y="3419280"/>
                <a:ext cx="492120" cy="378360"/>
              </a:xfrm>
              <a:custGeom>
                <a:avLst/>
                <a:gdLst/>
                <a:ahLst/>
                <a:rect l="l" t="t" r="r" b="b"/>
                <a:pathLst>
                  <a:path w="1300" h="999">
                    <a:moveTo>
                      <a:pt x="1185" y="38"/>
                    </a:moveTo>
                    <a:lnTo>
                      <a:pt x="1160" y="70"/>
                    </a:lnTo>
                    <a:lnTo>
                      <a:pt x="1136" y="105"/>
                    </a:lnTo>
                    <a:lnTo>
                      <a:pt x="1109" y="139"/>
                    </a:lnTo>
                    <a:lnTo>
                      <a:pt x="1080" y="174"/>
                    </a:lnTo>
                    <a:lnTo>
                      <a:pt x="1051" y="209"/>
                    </a:lnTo>
                    <a:lnTo>
                      <a:pt x="1020" y="245"/>
                    </a:lnTo>
                    <a:lnTo>
                      <a:pt x="988" y="281"/>
                    </a:lnTo>
                    <a:lnTo>
                      <a:pt x="955" y="316"/>
                    </a:lnTo>
                    <a:lnTo>
                      <a:pt x="920" y="352"/>
                    </a:lnTo>
                    <a:lnTo>
                      <a:pt x="885" y="388"/>
                    </a:lnTo>
                    <a:lnTo>
                      <a:pt x="849" y="423"/>
                    </a:lnTo>
                    <a:lnTo>
                      <a:pt x="812" y="458"/>
                    </a:lnTo>
                    <a:lnTo>
                      <a:pt x="775" y="492"/>
                    </a:lnTo>
                    <a:lnTo>
                      <a:pt x="737" y="527"/>
                    </a:lnTo>
                    <a:lnTo>
                      <a:pt x="698" y="559"/>
                    </a:lnTo>
                    <a:lnTo>
                      <a:pt x="658" y="592"/>
                    </a:lnTo>
                    <a:lnTo>
                      <a:pt x="618" y="623"/>
                    </a:lnTo>
                    <a:lnTo>
                      <a:pt x="577" y="652"/>
                    </a:lnTo>
                    <a:lnTo>
                      <a:pt x="537" y="682"/>
                    </a:lnTo>
                    <a:lnTo>
                      <a:pt x="496" y="709"/>
                    </a:lnTo>
                    <a:lnTo>
                      <a:pt x="454" y="734"/>
                    </a:lnTo>
                    <a:lnTo>
                      <a:pt x="412" y="758"/>
                    </a:lnTo>
                    <a:lnTo>
                      <a:pt x="371" y="781"/>
                    </a:lnTo>
                    <a:lnTo>
                      <a:pt x="329" y="801"/>
                    </a:lnTo>
                    <a:lnTo>
                      <a:pt x="287" y="821"/>
                    </a:lnTo>
                    <a:lnTo>
                      <a:pt x="245" y="837"/>
                    </a:lnTo>
                    <a:lnTo>
                      <a:pt x="205" y="851"/>
                    </a:lnTo>
                    <a:lnTo>
                      <a:pt x="163" y="864"/>
                    </a:lnTo>
                    <a:lnTo>
                      <a:pt x="122" y="872"/>
                    </a:lnTo>
                    <a:lnTo>
                      <a:pt x="82" y="880"/>
                    </a:lnTo>
                    <a:lnTo>
                      <a:pt x="41" y="883"/>
                    </a:lnTo>
                    <a:lnTo>
                      <a:pt x="0" y="886"/>
                    </a:lnTo>
                    <a:lnTo>
                      <a:pt x="0" y="962"/>
                    </a:lnTo>
                    <a:lnTo>
                      <a:pt x="10" y="963"/>
                    </a:lnTo>
                    <a:lnTo>
                      <a:pt x="24" y="964"/>
                    </a:lnTo>
                    <a:lnTo>
                      <a:pt x="39" y="968"/>
                    </a:lnTo>
                    <a:lnTo>
                      <a:pt x="56" y="973"/>
                    </a:lnTo>
                    <a:lnTo>
                      <a:pt x="71" y="979"/>
                    </a:lnTo>
                    <a:lnTo>
                      <a:pt x="84" y="985"/>
                    </a:lnTo>
                    <a:lnTo>
                      <a:pt x="89" y="989"/>
                    </a:lnTo>
                    <a:lnTo>
                      <a:pt x="93" y="992"/>
                    </a:lnTo>
                    <a:lnTo>
                      <a:pt x="95" y="995"/>
                    </a:lnTo>
                    <a:lnTo>
                      <a:pt x="96" y="999"/>
                    </a:lnTo>
                    <a:lnTo>
                      <a:pt x="143" y="998"/>
                    </a:lnTo>
                    <a:lnTo>
                      <a:pt x="189" y="993"/>
                    </a:lnTo>
                    <a:lnTo>
                      <a:pt x="235" y="985"/>
                    </a:lnTo>
                    <a:lnTo>
                      <a:pt x="281" y="976"/>
                    </a:lnTo>
                    <a:lnTo>
                      <a:pt x="326" y="963"/>
                    </a:lnTo>
                    <a:lnTo>
                      <a:pt x="371" y="948"/>
                    </a:lnTo>
                    <a:lnTo>
                      <a:pt x="416" y="931"/>
                    </a:lnTo>
                    <a:lnTo>
                      <a:pt x="459" y="912"/>
                    </a:lnTo>
                    <a:lnTo>
                      <a:pt x="503" y="891"/>
                    </a:lnTo>
                    <a:lnTo>
                      <a:pt x="546" y="866"/>
                    </a:lnTo>
                    <a:lnTo>
                      <a:pt x="588" y="841"/>
                    </a:lnTo>
                    <a:lnTo>
                      <a:pt x="630" y="814"/>
                    </a:lnTo>
                    <a:lnTo>
                      <a:pt x="671" y="785"/>
                    </a:lnTo>
                    <a:lnTo>
                      <a:pt x="711" y="754"/>
                    </a:lnTo>
                    <a:lnTo>
                      <a:pt x="751" y="722"/>
                    </a:lnTo>
                    <a:lnTo>
                      <a:pt x="790" y="690"/>
                    </a:lnTo>
                    <a:lnTo>
                      <a:pt x="828" y="656"/>
                    </a:lnTo>
                    <a:lnTo>
                      <a:pt x="865" y="620"/>
                    </a:lnTo>
                    <a:lnTo>
                      <a:pt x="902" y="583"/>
                    </a:lnTo>
                    <a:lnTo>
                      <a:pt x="938" y="546"/>
                    </a:lnTo>
                    <a:lnTo>
                      <a:pt x="972" y="508"/>
                    </a:lnTo>
                    <a:lnTo>
                      <a:pt x="1005" y="470"/>
                    </a:lnTo>
                    <a:lnTo>
                      <a:pt x="1038" y="431"/>
                    </a:lnTo>
                    <a:lnTo>
                      <a:pt x="1070" y="391"/>
                    </a:lnTo>
                    <a:lnTo>
                      <a:pt x="1101" y="352"/>
                    </a:lnTo>
                    <a:lnTo>
                      <a:pt x="1131" y="313"/>
                    </a:lnTo>
                    <a:lnTo>
                      <a:pt x="1159" y="272"/>
                    </a:lnTo>
                    <a:lnTo>
                      <a:pt x="1186" y="233"/>
                    </a:lnTo>
                    <a:lnTo>
                      <a:pt x="1212" y="193"/>
                    </a:lnTo>
                    <a:lnTo>
                      <a:pt x="1236" y="154"/>
                    </a:lnTo>
                    <a:lnTo>
                      <a:pt x="1260" y="116"/>
                    </a:lnTo>
                    <a:lnTo>
                      <a:pt x="1282" y="78"/>
                    </a:lnTo>
                    <a:lnTo>
                      <a:pt x="1300" y="78"/>
                    </a:lnTo>
                    <a:lnTo>
                      <a:pt x="1300" y="0"/>
                    </a:lnTo>
                    <a:lnTo>
                      <a:pt x="1185" y="38"/>
                    </a:lnTo>
                    <a:close/>
                  </a:path>
                </a:pathLst>
              </a:custGeom>
              <a:solidFill>
                <a:srgbClr val="ce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2791080" y="3428640"/>
                <a:ext cx="463680" cy="335160"/>
              </a:xfrm>
              <a:custGeom>
                <a:avLst/>
                <a:gdLst/>
                <a:ahLst/>
                <a:rect l="l" t="t" r="r" b="b"/>
                <a:pathLst>
                  <a:path w="1227" h="886">
                    <a:moveTo>
                      <a:pt x="48" y="863"/>
                    </a:moveTo>
                    <a:lnTo>
                      <a:pt x="23" y="886"/>
                    </a:lnTo>
                    <a:lnTo>
                      <a:pt x="44" y="886"/>
                    </a:lnTo>
                    <a:lnTo>
                      <a:pt x="65" y="885"/>
                    </a:lnTo>
                    <a:lnTo>
                      <a:pt x="86" y="884"/>
                    </a:lnTo>
                    <a:lnTo>
                      <a:pt x="107" y="881"/>
                    </a:lnTo>
                    <a:lnTo>
                      <a:pt x="128" y="877"/>
                    </a:lnTo>
                    <a:lnTo>
                      <a:pt x="150" y="874"/>
                    </a:lnTo>
                    <a:lnTo>
                      <a:pt x="171" y="869"/>
                    </a:lnTo>
                    <a:lnTo>
                      <a:pt x="192" y="864"/>
                    </a:lnTo>
                    <a:lnTo>
                      <a:pt x="235" y="852"/>
                    </a:lnTo>
                    <a:lnTo>
                      <a:pt x="277" y="837"/>
                    </a:lnTo>
                    <a:lnTo>
                      <a:pt x="320" y="820"/>
                    </a:lnTo>
                    <a:lnTo>
                      <a:pt x="363" y="800"/>
                    </a:lnTo>
                    <a:lnTo>
                      <a:pt x="405" y="779"/>
                    </a:lnTo>
                    <a:lnTo>
                      <a:pt x="448" y="757"/>
                    </a:lnTo>
                    <a:lnTo>
                      <a:pt x="490" y="732"/>
                    </a:lnTo>
                    <a:lnTo>
                      <a:pt x="531" y="705"/>
                    </a:lnTo>
                    <a:lnTo>
                      <a:pt x="573" y="678"/>
                    </a:lnTo>
                    <a:lnTo>
                      <a:pt x="615" y="649"/>
                    </a:lnTo>
                    <a:lnTo>
                      <a:pt x="656" y="619"/>
                    </a:lnTo>
                    <a:lnTo>
                      <a:pt x="696" y="587"/>
                    </a:lnTo>
                    <a:lnTo>
                      <a:pt x="736" y="555"/>
                    </a:lnTo>
                    <a:lnTo>
                      <a:pt x="775" y="522"/>
                    </a:lnTo>
                    <a:lnTo>
                      <a:pt x="814" y="488"/>
                    </a:lnTo>
                    <a:lnTo>
                      <a:pt x="852" y="453"/>
                    </a:lnTo>
                    <a:lnTo>
                      <a:pt x="889" y="417"/>
                    </a:lnTo>
                    <a:lnTo>
                      <a:pt x="925" y="382"/>
                    </a:lnTo>
                    <a:lnTo>
                      <a:pt x="961" y="346"/>
                    </a:lnTo>
                    <a:lnTo>
                      <a:pt x="995" y="309"/>
                    </a:lnTo>
                    <a:lnTo>
                      <a:pt x="1028" y="274"/>
                    </a:lnTo>
                    <a:lnTo>
                      <a:pt x="1060" y="238"/>
                    </a:lnTo>
                    <a:lnTo>
                      <a:pt x="1092" y="202"/>
                    </a:lnTo>
                    <a:lnTo>
                      <a:pt x="1122" y="167"/>
                    </a:lnTo>
                    <a:lnTo>
                      <a:pt x="1150" y="131"/>
                    </a:lnTo>
                    <a:lnTo>
                      <a:pt x="1177" y="96"/>
                    </a:lnTo>
                    <a:lnTo>
                      <a:pt x="1203" y="62"/>
                    </a:lnTo>
                    <a:lnTo>
                      <a:pt x="1227" y="29"/>
                    </a:lnTo>
                    <a:lnTo>
                      <a:pt x="1188" y="0"/>
                    </a:lnTo>
                    <a:lnTo>
                      <a:pt x="1165" y="34"/>
                    </a:lnTo>
                    <a:lnTo>
                      <a:pt x="1139" y="67"/>
                    </a:lnTo>
                    <a:lnTo>
                      <a:pt x="1112" y="100"/>
                    </a:lnTo>
                    <a:lnTo>
                      <a:pt x="1084" y="135"/>
                    </a:lnTo>
                    <a:lnTo>
                      <a:pt x="1055" y="170"/>
                    </a:lnTo>
                    <a:lnTo>
                      <a:pt x="1025" y="206"/>
                    </a:lnTo>
                    <a:lnTo>
                      <a:pt x="993" y="240"/>
                    </a:lnTo>
                    <a:lnTo>
                      <a:pt x="959" y="276"/>
                    </a:lnTo>
                    <a:lnTo>
                      <a:pt x="926" y="312"/>
                    </a:lnTo>
                    <a:lnTo>
                      <a:pt x="890" y="347"/>
                    </a:lnTo>
                    <a:lnTo>
                      <a:pt x="855" y="383"/>
                    </a:lnTo>
                    <a:lnTo>
                      <a:pt x="819" y="417"/>
                    </a:lnTo>
                    <a:lnTo>
                      <a:pt x="781" y="451"/>
                    </a:lnTo>
                    <a:lnTo>
                      <a:pt x="744" y="485"/>
                    </a:lnTo>
                    <a:lnTo>
                      <a:pt x="705" y="517"/>
                    </a:lnTo>
                    <a:lnTo>
                      <a:pt x="665" y="549"/>
                    </a:lnTo>
                    <a:lnTo>
                      <a:pt x="626" y="580"/>
                    </a:lnTo>
                    <a:lnTo>
                      <a:pt x="587" y="609"/>
                    </a:lnTo>
                    <a:lnTo>
                      <a:pt x="546" y="638"/>
                    </a:lnTo>
                    <a:lnTo>
                      <a:pt x="506" y="665"/>
                    </a:lnTo>
                    <a:lnTo>
                      <a:pt x="465" y="691"/>
                    </a:lnTo>
                    <a:lnTo>
                      <a:pt x="423" y="714"/>
                    </a:lnTo>
                    <a:lnTo>
                      <a:pt x="383" y="736"/>
                    </a:lnTo>
                    <a:lnTo>
                      <a:pt x="342" y="757"/>
                    </a:lnTo>
                    <a:lnTo>
                      <a:pt x="301" y="774"/>
                    </a:lnTo>
                    <a:lnTo>
                      <a:pt x="261" y="791"/>
                    </a:lnTo>
                    <a:lnTo>
                      <a:pt x="220" y="805"/>
                    </a:lnTo>
                    <a:lnTo>
                      <a:pt x="180" y="816"/>
                    </a:lnTo>
                    <a:lnTo>
                      <a:pt x="160" y="821"/>
                    </a:lnTo>
                    <a:lnTo>
                      <a:pt x="140" y="826"/>
                    </a:lnTo>
                    <a:lnTo>
                      <a:pt x="121" y="830"/>
                    </a:lnTo>
                    <a:lnTo>
                      <a:pt x="101" y="832"/>
                    </a:lnTo>
                    <a:lnTo>
                      <a:pt x="81" y="834"/>
                    </a:lnTo>
                    <a:lnTo>
                      <a:pt x="62" y="837"/>
                    </a:lnTo>
                    <a:lnTo>
                      <a:pt x="43" y="838"/>
                    </a:lnTo>
                    <a:lnTo>
                      <a:pt x="23" y="838"/>
                    </a:lnTo>
                    <a:lnTo>
                      <a:pt x="0" y="863"/>
                    </a:lnTo>
                    <a:lnTo>
                      <a:pt x="23" y="838"/>
                    </a:lnTo>
                    <a:lnTo>
                      <a:pt x="18" y="838"/>
                    </a:lnTo>
                    <a:lnTo>
                      <a:pt x="14" y="839"/>
                    </a:lnTo>
                    <a:lnTo>
                      <a:pt x="9" y="842"/>
                    </a:lnTo>
                    <a:lnTo>
                      <a:pt x="5" y="846"/>
                    </a:lnTo>
                    <a:lnTo>
                      <a:pt x="2" y="849"/>
                    </a:lnTo>
                    <a:lnTo>
                      <a:pt x="1" y="853"/>
                    </a:lnTo>
                    <a:lnTo>
                      <a:pt x="0" y="858"/>
                    </a:lnTo>
                    <a:lnTo>
                      <a:pt x="0" y="863"/>
                    </a:lnTo>
                    <a:lnTo>
                      <a:pt x="0" y="866"/>
                    </a:lnTo>
                    <a:lnTo>
                      <a:pt x="1" y="871"/>
                    </a:lnTo>
                    <a:lnTo>
                      <a:pt x="2" y="875"/>
                    </a:lnTo>
                    <a:lnTo>
                      <a:pt x="5" y="879"/>
                    </a:lnTo>
                    <a:lnTo>
                      <a:pt x="9" y="882"/>
                    </a:lnTo>
                    <a:lnTo>
                      <a:pt x="14" y="885"/>
                    </a:lnTo>
                    <a:lnTo>
                      <a:pt x="18" y="886"/>
                    </a:lnTo>
                    <a:lnTo>
                      <a:pt x="23" y="886"/>
                    </a:lnTo>
                    <a:lnTo>
                      <a:pt x="48" y="8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2791080" y="3754440"/>
                <a:ext cx="16920" cy="3744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23" y="101"/>
                    </a:moveTo>
                    <a:lnTo>
                      <a:pt x="48" y="76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3" y="101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1" y="87"/>
                    </a:lnTo>
                    <a:lnTo>
                      <a:pt x="4" y="91"/>
                    </a:lnTo>
                    <a:lnTo>
                      <a:pt x="7" y="94"/>
                    </a:lnTo>
                    <a:lnTo>
                      <a:pt x="11" y="97"/>
                    </a:lnTo>
                    <a:lnTo>
                      <a:pt x="15" y="98"/>
                    </a:lnTo>
                    <a:lnTo>
                      <a:pt x="20" y="99"/>
                    </a:lnTo>
                    <a:lnTo>
                      <a:pt x="23" y="101"/>
                    </a:lnTo>
                    <a:lnTo>
                      <a:pt x="28" y="99"/>
                    </a:lnTo>
                    <a:lnTo>
                      <a:pt x="33" y="98"/>
                    </a:lnTo>
                    <a:lnTo>
                      <a:pt x="37" y="97"/>
                    </a:lnTo>
                    <a:lnTo>
                      <a:pt x="41" y="94"/>
                    </a:lnTo>
                    <a:lnTo>
                      <a:pt x="43" y="91"/>
                    </a:lnTo>
                    <a:lnTo>
                      <a:pt x="46" y="87"/>
                    </a:lnTo>
                    <a:lnTo>
                      <a:pt x="48" y="82"/>
                    </a:lnTo>
                    <a:lnTo>
                      <a:pt x="48" y="76"/>
                    </a:lnTo>
                    <a:lnTo>
                      <a:pt x="23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2798640" y="3773520"/>
                <a:ext cx="45360" cy="33840"/>
              </a:xfrm>
              <a:custGeom>
                <a:avLst/>
                <a:gdLst/>
                <a:ahLst/>
                <a:rect l="l" t="t" r="r" b="b"/>
                <a:pathLst>
                  <a:path w="121" h="86">
                    <a:moveTo>
                      <a:pt x="96" y="37"/>
                    </a:moveTo>
                    <a:lnTo>
                      <a:pt x="121" y="62"/>
                    </a:lnTo>
                    <a:lnTo>
                      <a:pt x="117" y="48"/>
                    </a:lnTo>
                    <a:lnTo>
                      <a:pt x="111" y="39"/>
                    </a:lnTo>
                    <a:lnTo>
                      <a:pt x="104" y="32"/>
                    </a:lnTo>
                    <a:lnTo>
                      <a:pt x="95" y="27"/>
                    </a:lnTo>
                    <a:lnTo>
                      <a:pt x="80" y="20"/>
                    </a:lnTo>
                    <a:lnTo>
                      <a:pt x="63" y="13"/>
                    </a:lnTo>
                    <a:lnTo>
                      <a:pt x="45" y="8"/>
                    </a:lnTo>
                    <a:lnTo>
                      <a:pt x="29" y="4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9" y="52"/>
                    </a:lnTo>
                    <a:lnTo>
                      <a:pt x="32" y="56"/>
                    </a:lnTo>
                    <a:lnTo>
                      <a:pt x="48" y="59"/>
                    </a:lnTo>
                    <a:lnTo>
                      <a:pt x="62" y="64"/>
                    </a:lnTo>
                    <a:lnTo>
                      <a:pt x="72" y="69"/>
                    </a:lnTo>
                    <a:lnTo>
                      <a:pt x="74" y="70"/>
                    </a:lnTo>
                    <a:lnTo>
                      <a:pt x="75" y="72"/>
                    </a:lnTo>
                    <a:lnTo>
                      <a:pt x="73" y="69"/>
                    </a:lnTo>
                    <a:lnTo>
                      <a:pt x="72" y="62"/>
                    </a:lnTo>
                    <a:lnTo>
                      <a:pt x="96" y="86"/>
                    </a:lnTo>
                    <a:lnTo>
                      <a:pt x="72" y="62"/>
                    </a:lnTo>
                    <a:lnTo>
                      <a:pt x="72" y="68"/>
                    </a:lnTo>
                    <a:lnTo>
                      <a:pt x="74" y="73"/>
                    </a:lnTo>
                    <a:lnTo>
                      <a:pt x="77" y="77"/>
                    </a:lnTo>
                    <a:lnTo>
                      <a:pt x="79" y="80"/>
                    </a:lnTo>
                    <a:lnTo>
                      <a:pt x="83" y="83"/>
                    </a:lnTo>
                    <a:lnTo>
                      <a:pt x="86" y="85"/>
                    </a:lnTo>
                    <a:lnTo>
                      <a:pt x="91" y="86"/>
                    </a:lnTo>
                    <a:lnTo>
                      <a:pt x="96" y="86"/>
                    </a:lnTo>
                    <a:lnTo>
                      <a:pt x="100" y="86"/>
                    </a:lnTo>
                    <a:lnTo>
                      <a:pt x="105" y="85"/>
                    </a:lnTo>
                    <a:lnTo>
                      <a:pt x="109" y="83"/>
                    </a:lnTo>
                    <a:lnTo>
                      <a:pt x="112" y="80"/>
                    </a:lnTo>
                    <a:lnTo>
                      <a:pt x="116" y="77"/>
                    </a:lnTo>
                    <a:lnTo>
                      <a:pt x="118" y="73"/>
                    </a:lnTo>
                    <a:lnTo>
                      <a:pt x="120" y="68"/>
                    </a:lnTo>
                    <a:lnTo>
                      <a:pt x="121" y="62"/>
                    </a:lnTo>
                    <a:lnTo>
                      <a:pt x="96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2834640" y="3439800"/>
                <a:ext cx="459360" cy="367200"/>
              </a:xfrm>
              <a:custGeom>
                <a:avLst/>
                <a:gdLst/>
                <a:ahLst/>
                <a:rect l="l" t="t" r="r" b="b"/>
                <a:pathLst>
                  <a:path w="1211" h="970">
                    <a:moveTo>
                      <a:pt x="1186" y="0"/>
                    </a:moveTo>
                    <a:lnTo>
                      <a:pt x="1165" y="12"/>
                    </a:lnTo>
                    <a:lnTo>
                      <a:pt x="1143" y="50"/>
                    </a:lnTo>
                    <a:lnTo>
                      <a:pt x="1120" y="89"/>
                    </a:lnTo>
                    <a:lnTo>
                      <a:pt x="1095" y="127"/>
                    </a:lnTo>
                    <a:lnTo>
                      <a:pt x="1069" y="166"/>
                    </a:lnTo>
                    <a:lnTo>
                      <a:pt x="1043" y="205"/>
                    </a:lnTo>
                    <a:lnTo>
                      <a:pt x="1015" y="245"/>
                    </a:lnTo>
                    <a:lnTo>
                      <a:pt x="985" y="284"/>
                    </a:lnTo>
                    <a:lnTo>
                      <a:pt x="955" y="324"/>
                    </a:lnTo>
                    <a:lnTo>
                      <a:pt x="924" y="363"/>
                    </a:lnTo>
                    <a:lnTo>
                      <a:pt x="891" y="401"/>
                    </a:lnTo>
                    <a:lnTo>
                      <a:pt x="858" y="439"/>
                    </a:lnTo>
                    <a:lnTo>
                      <a:pt x="824" y="477"/>
                    </a:lnTo>
                    <a:lnTo>
                      <a:pt x="789" y="514"/>
                    </a:lnTo>
                    <a:lnTo>
                      <a:pt x="753" y="550"/>
                    </a:lnTo>
                    <a:lnTo>
                      <a:pt x="716" y="584"/>
                    </a:lnTo>
                    <a:lnTo>
                      <a:pt x="678" y="619"/>
                    </a:lnTo>
                    <a:lnTo>
                      <a:pt x="640" y="651"/>
                    </a:lnTo>
                    <a:lnTo>
                      <a:pt x="601" y="683"/>
                    </a:lnTo>
                    <a:lnTo>
                      <a:pt x="561" y="712"/>
                    </a:lnTo>
                    <a:lnTo>
                      <a:pt x="521" y="740"/>
                    </a:lnTo>
                    <a:lnTo>
                      <a:pt x="480" y="768"/>
                    </a:lnTo>
                    <a:lnTo>
                      <a:pt x="438" y="792"/>
                    </a:lnTo>
                    <a:lnTo>
                      <a:pt x="396" y="816"/>
                    </a:lnTo>
                    <a:lnTo>
                      <a:pt x="353" y="836"/>
                    </a:lnTo>
                    <a:lnTo>
                      <a:pt x="310" y="856"/>
                    </a:lnTo>
                    <a:lnTo>
                      <a:pt x="267" y="873"/>
                    </a:lnTo>
                    <a:lnTo>
                      <a:pt x="245" y="881"/>
                    </a:lnTo>
                    <a:lnTo>
                      <a:pt x="223" y="887"/>
                    </a:lnTo>
                    <a:lnTo>
                      <a:pt x="201" y="893"/>
                    </a:lnTo>
                    <a:lnTo>
                      <a:pt x="179" y="899"/>
                    </a:lnTo>
                    <a:lnTo>
                      <a:pt x="157" y="904"/>
                    </a:lnTo>
                    <a:lnTo>
                      <a:pt x="134" y="909"/>
                    </a:lnTo>
                    <a:lnTo>
                      <a:pt x="112" y="913"/>
                    </a:lnTo>
                    <a:lnTo>
                      <a:pt x="90" y="916"/>
                    </a:lnTo>
                    <a:lnTo>
                      <a:pt x="68" y="919"/>
                    </a:lnTo>
                    <a:lnTo>
                      <a:pt x="45" y="920"/>
                    </a:lnTo>
                    <a:lnTo>
                      <a:pt x="22" y="921"/>
                    </a:lnTo>
                    <a:lnTo>
                      <a:pt x="0" y="921"/>
                    </a:lnTo>
                    <a:lnTo>
                      <a:pt x="0" y="970"/>
                    </a:lnTo>
                    <a:lnTo>
                      <a:pt x="24" y="969"/>
                    </a:lnTo>
                    <a:lnTo>
                      <a:pt x="48" y="969"/>
                    </a:lnTo>
                    <a:lnTo>
                      <a:pt x="72" y="967"/>
                    </a:lnTo>
                    <a:lnTo>
                      <a:pt x="96" y="964"/>
                    </a:lnTo>
                    <a:lnTo>
                      <a:pt x="120" y="961"/>
                    </a:lnTo>
                    <a:lnTo>
                      <a:pt x="143" y="957"/>
                    </a:lnTo>
                    <a:lnTo>
                      <a:pt x="168" y="952"/>
                    </a:lnTo>
                    <a:lnTo>
                      <a:pt x="191" y="947"/>
                    </a:lnTo>
                    <a:lnTo>
                      <a:pt x="214" y="941"/>
                    </a:lnTo>
                    <a:lnTo>
                      <a:pt x="238" y="934"/>
                    </a:lnTo>
                    <a:lnTo>
                      <a:pt x="260" y="926"/>
                    </a:lnTo>
                    <a:lnTo>
                      <a:pt x="283" y="919"/>
                    </a:lnTo>
                    <a:lnTo>
                      <a:pt x="329" y="900"/>
                    </a:lnTo>
                    <a:lnTo>
                      <a:pt x="374" y="881"/>
                    </a:lnTo>
                    <a:lnTo>
                      <a:pt x="419" y="859"/>
                    </a:lnTo>
                    <a:lnTo>
                      <a:pt x="462" y="835"/>
                    </a:lnTo>
                    <a:lnTo>
                      <a:pt x="506" y="808"/>
                    </a:lnTo>
                    <a:lnTo>
                      <a:pt x="548" y="781"/>
                    </a:lnTo>
                    <a:lnTo>
                      <a:pt x="589" y="752"/>
                    </a:lnTo>
                    <a:lnTo>
                      <a:pt x="630" y="721"/>
                    </a:lnTo>
                    <a:lnTo>
                      <a:pt x="671" y="689"/>
                    </a:lnTo>
                    <a:lnTo>
                      <a:pt x="710" y="654"/>
                    </a:lnTo>
                    <a:lnTo>
                      <a:pt x="748" y="620"/>
                    </a:lnTo>
                    <a:lnTo>
                      <a:pt x="786" y="584"/>
                    </a:lnTo>
                    <a:lnTo>
                      <a:pt x="823" y="547"/>
                    </a:lnTo>
                    <a:lnTo>
                      <a:pt x="859" y="510"/>
                    </a:lnTo>
                    <a:lnTo>
                      <a:pt x="894" y="472"/>
                    </a:lnTo>
                    <a:lnTo>
                      <a:pt x="929" y="433"/>
                    </a:lnTo>
                    <a:lnTo>
                      <a:pt x="961" y="394"/>
                    </a:lnTo>
                    <a:lnTo>
                      <a:pt x="993" y="354"/>
                    </a:lnTo>
                    <a:lnTo>
                      <a:pt x="1024" y="314"/>
                    </a:lnTo>
                    <a:lnTo>
                      <a:pt x="1054" y="273"/>
                    </a:lnTo>
                    <a:lnTo>
                      <a:pt x="1083" y="234"/>
                    </a:lnTo>
                    <a:lnTo>
                      <a:pt x="1110" y="193"/>
                    </a:lnTo>
                    <a:lnTo>
                      <a:pt x="1137" y="154"/>
                    </a:lnTo>
                    <a:lnTo>
                      <a:pt x="1161" y="114"/>
                    </a:lnTo>
                    <a:lnTo>
                      <a:pt x="1185" y="75"/>
                    </a:lnTo>
                    <a:lnTo>
                      <a:pt x="1207" y="36"/>
                    </a:lnTo>
                    <a:lnTo>
                      <a:pt x="1186" y="49"/>
                    </a:lnTo>
                    <a:lnTo>
                      <a:pt x="1207" y="36"/>
                    </a:lnTo>
                    <a:lnTo>
                      <a:pt x="1209" y="31"/>
                    </a:lnTo>
                    <a:lnTo>
                      <a:pt x="1211" y="26"/>
                    </a:lnTo>
                    <a:lnTo>
                      <a:pt x="1211" y="21"/>
                    </a:lnTo>
                    <a:lnTo>
                      <a:pt x="1209" y="17"/>
                    </a:lnTo>
                    <a:lnTo>
                      <a:pt x="1208" y="12"/>
                    </a:lnTo>
                    <a:lnTo>
                      <a:pt x="1206" y="9"/>
                    </a:lnTo>
                    <a:lnTo>
                      <a:pt x="1202" y="6"/>
                    </a:lnTo>
                    <a:lnTo>
                      <a:pt x="1198" y="4"/>
                    </a:lnTo>
                    <a:lnTo>
                      <a:pt x="1195" y="1"/>
                    </a:lnTo>
                    <a:lnTo>
                      <a:pt x="1190" y="0"/>
                    </a:lnTo>
                    <a:lnTo>
                      <a:pt x="1185" y="0"/>
                    </a:lnTo>
                    <a:lnTo>
                      <a:pt x="1181" y="0"/>
                    </a:lnTo>
                    <a:lnTo>
                      <a:pt x="1176" y="1"/>
                    </a:lnTo>
                    <a:lnTo>
                      <a:pt x="1172" y="4"/>
                    </a:lnTo>
                    <a:lnTo>
                      <a:pt x="1169" y="7"/>
                    </a:lnTo>
                    <a:lnTo>
                      <a:pt x="1165" y="12"/>
                    </a:lnTo>
                    <a:lnTo>
                      <a:pt x="118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85000" y="34398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43" y="25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8" y="49"/>
                    </a:lnTo>
                    <a:lnTo>
                      <a:pt x="43" y="25"/>
                    </a:lnTo>
                    <a:lnTo>
                      <a:pt x="18" y="49"/>
                    </a:lnTo>
                    <a:lnTo>
                      <a:pt x="25" y="48"/>
                    </a:lnTo>
                    <a:lnTo>
                      <a:pt x="29" y="47"/>
                    </a:lnTo>
                    <a:lnTo>
                      <a:pt x="33" y="44"/>
                    </a:lnTo>
                    <a:lnTo>
                      <a:pt x="37" y="41"/>
                    </a:lnTo>
                    <a:lnTo>
                      <a:pt x="39" y="37"/>
                    </a:lnTo>
                    <a:lnTo>
                      <a:pt x="42" y="33"/>
                    </a:lnTo>
                    <a:lnTo>
                      <a:pt x="43" y="28"/>
                    </a:lnTo>
                    <a:lnTo>
                      <a:pt x="43" y="25"/>
                    </a:lnTo>
                    <a:lnTo>
                      <a:pt x="43" y="20"/>
                    </a:lnTo>
                    <a:lnTo>
                      <a:pt x="42" y="15"/>
                    </a:lnTo>
                    <a:lnTo>
                      <a:pt x="39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29" y="2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4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83200" y="3409920"/>
                <a:ext cx="16920" cy="39600"/>
              </a:xfrm>
              <a:custGeom>
                <a:avLst/>
                <a:gdLst/>
                <a:ahLst/>
                <a:rect l="l" t="t" r="r" b="b"/>
                <a:pathLst>
                  <a:path w="48" h="101">
                    <a:moveTo>
                      <a:pt x="16" y="1"/>
                    </a:moveTo>
                    <a:lnTo>
                      <a:pt x="0" y="23"/>
                    </a:lnTo>
                    <a:lnTo>
                      <a:pt x="0" y="101"/>
                    </a:lnTo>
                    <a:lnTo>
                      <a:pt x="48" y="101"/>
                    </a:lnTo>
                    <a:lnTo>
                      <a:pt x="48" y="23"/>
                    </a:lnTo>
                    <a:lnTo>
                      <a:pt x="16" y="1"/>
                    </a:lnTo>
                    <a:lnTo>
                      <a:pt x="48" y="23"/>
                    </a:lnTo>
                    <a:lnTo>
                      <a:pt x="48" y="18"/>
                    </a:lnTo>
                    <a:lnTo>
                      <a:pt x="46" y="13"/>
                    </a:lnTo>
                    <a:lnTo>
                      <a:pt x="44" y="8"/>
                    </a:lnTo>
                    <a:lnTo>
                      <a:pt x="41" y="6"/>
                    </a:lnTo>
                    <a:lnTo>
                      <a:pt x="37" y="2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37840" y="3411360"/>
                <a:ext cx="56520" cy="30240"/>
              </a:xfrm>
              <a:custGeom>
                <a:avLst/>
                <a:gdLst/>
                <a:ahLst/>
                <a:rect l="l" t="t" r="r" b="b"/>
                <a:pathLst>
                  <a:path w="148" h="84">
                    <a:moveTo>
                      <a:pt x="5" y="45"/>
                    </a:moveTo>
                    <a:lnTo>
                      <a:pt x="32" y="82"/>
                    </a:lnTo>
                    <a:lnTo>
                      <a:pt x="148" y="45"/>
                    </a:lnTo>
                    <a:lnTo>
                      <a:pt x="133" y="0"/>
                    </a:lnTo>
                    <a:lnTo>
                      <a:pt x="17" y="37"/>
                    </a:lnTo>
                    <a:lnTo>
                      <a:pt x="5" y="45"/>
                    </a:lnTo>
                    <a:lnTo>
                      <a:pt x="17" y="37"/>
                    </a:lnTo>
                    <a:lnTo>
                      <a:pt x="13" y="39"/>
                    </a:lnTo>
                    <a:lnTo>
                      <a:pt x="8" y="42"/>
                    </a:lnTo>
                    <a:lnTo>
                      <a:pt x="5" y="45"/>
                    </a:lnTo>
                    <a:lnTo>
                      <a:pt x="3" y="49"/>
                    </a:lnTo>
                    <a:lnTo>
                      <a:pt x="1" y="54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1"/>
                    </a:lnTo>
                    <a:lnTo>
                      <a:pt x="6" y="75"/>
                    </a:lnTo>
                    <a:lnTo>
                      <a:pt x="9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21" y="84"/>
                    </a:lnTo>
                    <a:lnTo>
                      <a:pt x="26" y="84"/>
                    </a:lnTo>
                    <a:lnTo>
                      <a:pt x="32" y="82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189520" y="2801880"/>
                <a:ext cx="4875840" cy="666720"/>
              </a:xfrm>
              <a:custGeom>
                <a:avLst/>
                <a:gdLst/>
                <a:ahLst/>
                <a:rect l="l" t="t" r="r" b="b"/>
                <a:pathLst>
                  <a:path w="12886" h="1763">
                    <a:moveTo>
                      <a:pt x="12592" y="434"/>
                    </a:moveTo>
                    <a:lnTo>
                      <a:pt x="12607" y="435"/>
                    </a:lnTo>
                    <a:lnTo>
                      <a:pt x="12621" y="437"/>
                    </a:lnTo>
                    <a:lnTo>
                      <a:pt x="12637" y="439"/>
                    </a:lnTo>
                    <a:lnTo>
                      <a:pt x="12651" y="441"/>
                    </a:lnTo>
                    <a:lnTo>
                      <a:pt x="12666" y="446"/>
                    </a:lnTo>
                    <a:lnTo>
                      <a:pt x="12680" y="450"/>
                    </a:lnTo>
                    <a:lnTo>
                      <a:pt x="12694" y="456"/>
                    </a:lnTo>
                    <a:lnTo>
                      <a:pt x="12707" y="462"/>
                    </a:lnTo>
                    <a:lnTo>
                      <a:pt x="12720" y="470"/>
                    </a:lnTo>
                    <a:lnTo>
                      <a:pt x="12733" y="477"/>
                    </a:lnTo>
                    <a:lnTo>
                      <a:pt x="12746" y="486"/>
                    </a:lnTo>
                    <a:lnTo>
                      <a:pt x="12757" y="496"/>
                    </a:lnTo>
                    <a:lnTo>
                      <a:pt x="12769" y="505"/>
                    </a:lnTo>
                    <a:lnTo>
                      <a:pt x="12780" y="517"/>
                    </a:lnTo>
                    <a:lnTo>
                      <a:pt x="12790" y="528"/>
                    </a:lnTo>
                    <a:lnTo>
                      <a:pt x="12801" y="539"/>
                    </a:lnTo>
                    <a:lnTo>
                      <a:pt x="12811" y="552"/>
                    </a:lnTo>
                    <a:lnTo>
                      <a:pt x="12819" y="564"/>
                    </a:lnTo>
                    <a:lnTo>
                      <a:pt x="12828" y="578"/>
                    </a:lnTo>
                    <a:lnTo>
                      <a:pt x="12837" y="593"/>
                    </a:lnTo>
                    <a:lnTo>
                      <a:pt x="12844" y="608"/>
                    </a:lnTo>
                    <a:lnTo>
                      <a:pt x="12851" y="622"/>
                    </a:lnTo>
                    <a:lnTo>
                      <a:pt x="12858" y="638"/>
                    </a:lnTo>
                    <a:lnTo>
                      <a:pt x="12864" y="654"/>
                    </a:lnTo>
                    <a:lnTo>
                      <a:pt x="12869" y="670"/>
                    </a:lnTo>
                    <a:lnTo>
                      <a:pt x="12874" y="687"/>
                    </a:lnTo>
                    <a:lnTo>
                      <a:pt x="12877" y="705"/>
                    </a:lnTo>
                    <a:lnTo>
                      <a:pt x="12881" y="723"/>
                    </a:lnTo>
                    <a:lnTo>
                      <a:pt x="12883" y="740"/>
                    </a:lnTo>
                    <a:lnTo>
                      <a:pt x="12885" y="759"/>
                    </a:lnTo>
                    <a:lnTo>
                      <a:pt x="12886" y="777"/>
                    </a:lnTo>
                    <a:lnTo>
                      <a:pt x="12886" y="797"/>
                    </a:lnTo>
                    <a:lnTo>
                      <a:pt x="12886" y="815"/>
                    </a:lnTo>
                    <a:lnTo>
                      <a:pt x="12885" y="833"/>
                    </a:lnTo>
                    <a:lnTo>
                      <a:pt x="12883" y="851"/>
                    </a:lnTo>
                    <a:lnTo>
                      <a:pt x="12881" y="868"/>
                    </a:lnTo>
                    <a:lnTo>
                      <a:pt x="12877" y="886"/>
                    </a:lnTo>
                    <a:lnTo>
                      <a:pt x="12874" y="902"/>
                    </a:lnTo>
                    <a:lnTo>
                      <a:pt x="12869" y="919"/>
                    </a:lnTo>
                    <a:lnTo>
                      <a:pt x="12864" y="935"/>
                    </a:lnTo>
                    <a:lnTo>
                      <a:pt x="12858" y="951"/>
                    </a:lnTo>
                    <a:lnTo>
                      <a:pt x="12851" y="965"/>
                    </a:lnTo>
                    <a:lnTo>
                      <a:pt x="12844" y="980"/>
                    </a:lnTo>
                    <a:lnTo>
                      <a:pt x="12837" y="995"/>
                    </a:lnTo>
                    <a:lnTo>
                      <a:pt x="12828" y="1009"/>
                    </a:lnTo>
                    <a:lnTo>
                      <a:pt x="12819" y="1022"/>
                    </a:lnTo>
                    <a:lnTo>
                      <a:pt x="12811" y="1036"/>
                    </a:lnTo>
                    <a:lnTo>
                      <a:pt x="12801" y="1048"/>
                    </a:lnTo>
                    <a:lnTo>
                      <a:pt x="12790" y="1059"/>
                    </a:lnTo>
                    <a:lnTo>
                      <a:pt x="12780" y="1070"/>
                    </a:lnTo>
                    <a:lnTo>
                      <a:pt x="12769" y="1081"/>
                    </a:lnTo>
                    <a:lnTo>
                      <a:pt x="12757" y="1091"/>
                    </a:lnTo>
                    <a:lnTo>
                      <a:pt x="12746" y="1101"/>
                    </a:lnTo>
                    <a:lnTo>
                      <a:pt x="12733" y="1109"/>
                    </a:lnTo>
                    <a:lnTo>
                      <a:pt x="12720" y="1117"/>
                    </a:lnTo>
                    <a:lnTo>
                      <a:pt x="12707" y="1124"/>
                    </a:lnTo>
                    <a:lnTo>
                      <a:pt x="12694" y="1130"/>
                    </a:lnTo>
                    <a:lnTo>
                      <a:pt x="12680" y="1136"/>
                    </a:lnTo>
                    <a:lnTo>
                      <a:pt x="12666" y="1141"/>
                    </a:lnTo>
                    <a:lnTo>
                      <a:pt x="12651" y="1145"/>
                    </a:lnTo>
                    <a:lnTo>
                      <a:pt x="12637" y="1148"/>
                    </a:lnTo>
                    <a:lnTo>
                      <a:pt x="12621" y="1150"/>
                    </a:lnTo>
                    <a:lnTo>
                      <a:pt x="12607" y="1151"/>
                    </a:lnTo>
                    <a:lnTo>
                      <a:pt x="12592" y="1152"/>
                    </a:lnTo>
                    <a:lnTo>
                      <a:pt x="12576" y="1151"/>
                    </a:lnTo>
                    <a:lnTo>
                      <a:pt x="12561" y="1150"/>
                    </a:lnTo>
                    <a:lnTo>
                      <a:pt x="12546" y="1148"/>
                    </a:lnTo>
                    <a:lnTo>
                      <a:pt x="12532" y="1145"/>
                    </a:lnTo>
                    <a:lnTo>
                      <a:pt x="12517" y="1141"/>
                    </a:lnTo>
                    <a:lnTo>
                      <a:pt x="12503" y="1136"/>
                    </a:lnTo>
                    <a:lnTo>
                      <a:pt x="12490" y="1130"/>
                    </a:lnTo>
                    <a:lnTo>
                      <a:pt x="12476" y="1124"/>
                    </a:lnTo>
                    <a:lnTo>
                      <a:pt x="12463" y="1117"/>
                    </a:lnTo>
                    <a:lnTo>
                      <a:pt x="12450" y="1109"/>
                    </a:lnTo>
                    <a:lnTo>
                      <a:pt x="12438" y="1101"/>
                    </a:lnTo>
                    <a:lnTo>
                      <a:pt x="12426" y="1091"/>
                    </a:lnTo>
                    <a:lnTo>
                      <a:pt x="12415" y="1081"/>
                    </a:lnTo>
                    <a:lnTo>
                      <a:pt x="12402" y="1070"/>
                    </a:lnTo>
                    <a:lnTo>
                      <a:pt x="12393" y="1059"/>
                    </a:lnTo>
                    <a:lnTo>
                      <a:pt x="12383" y="1048"/>
                    </a:lnTo>
                    <a:lnTo>
                      <a:pt x="12373" y="1036"/>
                    </a:lnTo>
                    <a:lnTo>
                      <a:pt x="12363" y="1022"/>
                    </a:lnTo>
                    <a:lnTo>
                      <a:pt x="12354" y="1009"/>
                    </a:lnTo>
                    <a:lnTo>
                      <a:pt x="12346" y="995"/>
                    </a:lnTo>
                    <a:lnTo>
                      <a:pt x="12338" y="980"/>
                    </a:lnTo>
                    <a:lnTo>
                      <a:pt x="12332" y="965"/>
                    </a:lnTo>
                    <a:lnTo>
                      <a:pt x="12325" y="951"/>
                    </a:lnTo>
                    <a:lnTo>
                      <a:pt x="12320" y="935"/>
                    </a:lnTo>
                    <a:lnTo>
                      <a:pt x="12314" y="919"/>
                    </a:lnTo>
                    <a:lnTo>
                      <a:pt x="12310" y="902"/>
                    </a:lnTo>
                    <a:lnTo>
                      <a:pt x="12305" y="886"/>
                    </a:lnTo>
                    <a:lnTo>
                      <a:pt x="12303" y="868"/>
                    </a:lnTo>
                    <a:lnTo>
                      <a:pt x="12300" y="851"/>
                    </a:lnTo>
                    <a:lnTo>
                      <a:pt x="12298" y="833"/>
                    </a:lnTo>
                    <a:lnTo>
                      <a:pt x="12297" y="815"/>
                    </a:lnTo>
                    <a:lnTo>
                      <a:pt x="12297" y="797"/>
                    </a:lnTo>
                    <a:lnTo>
                      <a:pt x="12297" y="777"/>
                    </a:lnTo>
                    <a:lnTo>
                      <a:pt x="12298" y="759"/>
                    </a:lnTo>
                    <a:lnTo>
                      <a:pt x="12300" y="740"/>
                    </a:lnTo>
                    <a:lnTo>
                      <a:pt x="12303" y="723"/>
                    </a:lnTo>
                    <a:lnTo>
                      <a:pt x="12305" y="705"/>
                    </a:lnTo>
                    <a:lnTo>
                      <a:pt x="12310" y="687"/>
                    </a:lnTo>
                    <a:lnTo>
                      <a:pt x="12314" y="670"/>
                    </a:lnTo>
                    <a:lnTo>
                      <a:pt x="12320" y="654"/>
                    </a:lnTo>
                    <a:lnTo>
                      <a:pt x="12325" y="638"/>
                    </a:lnTo>
                    <a:lnTo>
                      <a:pt x="12332" y="622"/>
                    </a:lnTo>
                    <a:lnTo>
                      <a:pt x="12338" y="608"/>
                    </a:lnTo>
                    <a:lnTo>
                      <a:pt x="12346" y="593"/>
                    </a:lnTo>
                    <a:lnTo>
                      <a:pt x="12354" y="578"/>
                    </a:lnTo>
                    <a:lnTo>
                      <a:pt x="12363" y="564"/>
                    </a:lnTo>
                    <a:lnTo>
                      <a:pt x="12373" y="552"/>
                    </a:lnTo>
                    <a:lnTo>
                      <a:pt x="12383" y="539"/>
                    </a:lnTo>
                    <a:lnTo>
                      <a:pt x="12393" y="528"/>
                    </a:lnTo>
                    <a:lnTo>
                      <a:pt x="12402" y="517"/>
                    </a:lnTo>
                    <a:lnTo>
                      <a:pt x="12415" y="505"/>
                    </a:lnTo>
                    <a:lnTo>
                      <a:pt x="12426" y="496"/>
                    </a:lnTo>
                    <a:lnTo>
                      <a:pt x="12438" y="486"/>
                    </a:lnTo>
                    <a:lnTo>
                      <a:pt x="12450" y="477"/>
                    </a:lnTo>
                    <a:lnTo>
                      <a:pt x="12463" y="470"/>
                    </a:lnTo>
                    <a:lnTo>
                      <a:pt x="12476" y="462"/>
                    </a:lnTo>
                    <a:lnTo>
                      <a:pt x="12490" y="456"/>
                    </a:lnTo>
                    <a:lnTo>
                      <a:pt x="12503" y="450"/>
                    </a:lnTo>
                    <a:lnTo>
                      <a:pt x="12517" y="446"/>
                    </a:lnTo>
                    <a:lnTo>
                      <a:pt x="12532" y="441"/>
                    </a:lnTo>
                    <a:lnTo>
                      <a:pt x="12546" y="439"/>
                    </a:lnTo>
                    <a:lnTo>
                      <a:pt x="12561" y="437"/>
                    </a:lnTo>
                    <a:lnTo>
                      <a:pt x="12576" y="435"/>
                    </a:lnTo>
                    <a:lnTo>
                      <a:pt x="12592" y="434"/>
                    </a:lnTo>
                    <a:close/>
                    <a:moveTo>
                      <a:pt x="11196" y="434"/>
                    </a:moveTo>
                    <a:lnTo>
                      <a:pt x="11212" y="435"/>
                    </a:lnTo>
                    <a:lnTo>
                      <a:pt x="11227" y="437"/>
                    </a:lnTo>
                    <a:lnTo>
                      <a:pt x="11241" y="439"/>
                    </a:lnTo>
                    <a:lnTo>
                      <a:pt x="11256" y="441"/>
                    </a:lnTo>
                    <a:lnTo>
                      <a:pt x="11271" y="446"/>
                    </a:lnTo>
                    <a:lnTo>
                      <a:pt x="11284" y="450"/>
                    </a:lnTo>
                    <a:lnTo>
                      <a:pt x="11298" y="456"/>
                    </a:lnTo>
                    <a:lnTo>
                      <a:pt x="11312" y="462"/>
                    </a:lnTo>
                    <a:lnTo>
                      <a:pt x="11325" y="470"/>
                    </a:lnTo>
                    <a:lnTo>
                      <a:pt x="11337" y="477"/>
                    </a:lnTo>
                    <a:lnTo>
                      <a:pt x="11350" y="486"/>
                    </a:lnTo>
                    <a:lnTo>
                      <a:pt x="11362" y="496"/>
                    </a:lnTo>
                    <a:lnTo>
                      <a:pt x="11373" y="505"/>
                    </a:lnTo>
                    <a:lnTo>
                      <a:pt x="11384" y="517"/>
                    </a:lnTo>
                    <a:lnTo>
                      <a:pt x="11395" y="528"/>
                    </a:lnTo>
                    <a:lnTo>
                      <a:pt x="11405" y="539"/>
                    </a:lnTo>
                    <a:lnTo>
                      <a:pt x="11415" y="552"/>
                    </a:lnTo>
                    <a:lnTo>
                      <a:pt x="11425" y="564"/>
                    </a:lnTo>
                    <a:lnTo>
                      <a:pt x="11433" y="578"/>
                    </a:lnTo>
                    <a:lnTo>
                      <a:pt x="11441" y="593"/>
                    </a:lnTo>
                    <a:lnTo>
                      <a:pt x="11449" y="608"/>
                    </a:lnTo>
                    <a:lnTo>
                      <a:pt x="11455" y="622"/>
                    </a:lnTo>
                    <a:lnTo>
                      <a:pt x="11463" y="638"/>
                    </a:lnTo>
                    <a:lnTo>
                      <a:pt x="11468" y="654"/>
                    </a:lnTo>
                    <a:lnTo>
                      <a:pt x="11474" y="670"/>
                    </a:lnTo>
                    <a:lnTo>
                      <a:pt x="11478" y="687"/>
                    </a:lnTo>
                    <a:lnTo>
                      <a:pt x="11481" y="705"/>
                    </a:lnTo>
                    <a:lnTo>
                      <a:pt x="11485" y="723"/>
                    </a:lnTo>
                    <a:lnTo>
                      <a:pt x="11487" y="740"/>
                    </a:lnTo>
                    <a:lnTo>
                      <a:pt x="11490" y="759"/>
                    </a:lnTo>
                    <a:lnTo>
                      <a:pt x="11491" y="777"/>
                    </a:lnTo>
                    <a:lnTo>
                      <a:pt x="11491" y="797"/>
                    </a:lnTo>
                    <a:lnTo>
                      <a:pt x="11491" y="815"/>
                    </a:lnTo>
                    <a:lnTo>
                      <a:pt x="11490" y="833"/>
                    </a:lnTo>
                    <a:lnTo>
                      <a:pt x="11487" y="851"/>
                    </a:lnTo>
                    <a:lnTo>
                      <a:pt x="11485" y="868"/>
                    </a:lnTo>
                    <a:lnTo>
                      <a:pt x="11481" y="886"/>
                    </a:lnTo>
                    <a:lnTo>
                      <a:pt x="11478" y="902"/>
                    </a:lnTo>
                    <a:lnTo>
                      <a:pt x="11474" y="919"/>
                    </a:lnTo>
                    <a:lnTo>
                      <a:pt x="11468" y="935"/>
                    </a:lnTo>
                    <a:lnTo>
                      <a:pt x="11463" y="951"/>
                    </a:lnTo>
                    <a:lnTo>
                      <a:pt x="11455" y="965"/>
                    </a:lnTo>
                    <a:lnTo>
                      <a:pt x="11449" y="980"/>
                    </a:lnTo>
                    <a:lnTo>
                      <a:pt x="11441" y="995"/>
                    </a:lnTo>
                    <a:lnTo>
                      <a:pt x="11433" y="1009"/>
                    </a:lnTo>
                    <a:lnTo>
                      <a:pt x="11425" y="1022"/>
                    </a:lnTo>
                    <a:lnTo>
                      <a:pt x="11415" y="1036"/>
                    </a:lnTo>
                    <a:lnTo>
                      <a:pt x="11405" y="1048"/>
                    </a:lnTo>
                    <a:lnTo>
                      <a:pt x="11395" y="1059"/>
                    </a:lnTo>
                    <a:lnTo>
                      <a:pt x="11384" y="1070"/>
                    </a:lnTo>
                    <a:lnTo>
                      <a:pt x="11373" y="1081"/>
                    </a:lnTo>
                    <a:lnTo>
                      <a:pt x="11362" y="1091"/>
                    </a:lnTo>
                    <a:lnTo>
                      <a:pt x="11350" y="1101"/>
                    </a:lnTo>
                    <a:lnTo>
                      <a:pt x="11337" y="1109"/>
                    </a:lnTo>
                    <a:lnTo>
                      <a:pt x="11325" y="1117"/>
                    </a:lnTo>
                    <a:lnTo>
                      <a:pt x="11312" y="1124"/>
                    </a:lnTo>
                    <a:lnTo>
                      <a:pt x="11298" y="1130"/>
                    </a:lnTo>
                    <a:lnTo>
                      <a:pt x="11284" y="1136"/>
                    </a:lnTo>
                    <a:lnTo>
                      <a:pt x="11271" y="1141"/>
                    </a:lnTo>
                    <a:lnTo>
                      <a:pt x="11256" y="1145"/>
                    </a:lnTo>
                    <a:lnTo>
                      <a:pt x="11241" y="1148"/>
                    </a:lnTo>
                    <a:lnTo>
                      <a:pt x="11227" y="1150"/>
                    </a:lnTo>
                    <a:lnTo>
                      <a:pt x="11212" y="1151"/>
                    </a:lnTo>
                    <a:lnTo>
                      <a:pt x="11196" y="1152"/>
                    </a:lnTo>
                    <a:lnTo>
                      <a:pt x="11181" y="1151"/>
                    </a:lnTo>
                    <a:lnTo>
                      <a:pt x="11165" y="1150"/>
                    </a:lnTo>
                    <a:lnTo>
                      <a:pt x="11150" y="1148"/>
                    </a:lnTo>
                    <a:lnTo>
                      <a:pt x="11136" y="1145"/>
                    </a:lnTo>
                    <a:lnTo>
                      <a:pt x="11122" y="1141"/>
                    </a:lnTo>
                    <a:lnTo>
                      <a:pt x="11107" y="1136"/>
                    </a:lnTo>
                    <a:lnTo>
                      <a:pt x="11094" y="1130"/>
                    </a:lnTo>
                    <a:lnTo>
                      <a:pt x="11080" y="1124"/>
                    </a:lnTo>
                    <a:lnTo>
                      <a:pt x="11068" y="1117"/>
                    </a:lnTo>
                    <a:lnTo>
                      <a:pt x="11054" y="1109"/>
                    </a:lnTo>
                    <a:lnTo>
                      <a:pt x="11042" y="1101"/>
                    </a:lnTo>
                    <a:lnTo>
                      <a:pt x="11030" y="1091"/>
                    </a:lnTo>
                    <a:lnTo>
                      <a:pt x="11019" y="1081"/>
                    </a:lnTo>
                    <a:lnTo>
                      <a:pt x="11008" y="1070"/>
                    </a:lnTo>
                    <a:lnTo>
                      <a:pt x="10997" y="1059"/>
                    </a:lnTo>
                    <a:lnTo>
                      <a:pt x="10987" y="1048"/>
                    </a:lnTo>
                    <a:lnTo>
                      <a:pt x="10977" y="1036"/>
                    </a:lnTo>
                    <a:lnTo>
                      <a:pt x="10968" y="1022"/>
                    </a:lnTo>
                    <a:lnTo>
                      <a:pt x="10960" y="1009"/>
                    </a:lnTo>
                    <a:lnTo>
                      <a:pt x="10951" y="995"/>
                    </a:lnTo>
                    <a:lnTo>
                      <a:pt x="10944" y="980"/>
                    </a:lnTo>
                    <a:lnTo>
                      <a:pt x="10936" y="965"/>
                    </a:lnTo>
                    <a:lnTo>
                      <a:pt x="10930" y="951"/>
                    </a:lnTo>
                    <a:lnTo>
                      <a:pt x="10924" y="935"/>
                    </a:lnTo>
                    <a:lnTo>
                      <a:pt x="10919" y="919"/>
                    </a:lnTo>
                    <a:lnTo>
                      <a:pt x="10914" y="902"/>
                    </a:lnTo>
                    <a:lnTo>
                      <a:pt x="10911" y="886"/>
                    </a:lnTo>
                    <a:lnTo>
                      <a:pt x="10907" y="868"/>
                    </a:lnTo>
                    <a:lnTo>
                      <a:pt x="10904" y="851"/>
                    </a:lnTo>
                    <a:lnTo>
                      <a:pt x="10903" y="833"/>
                    </a:lnTo>
                    <a:lnTo>
                      <a:pt x="10902" y="815"/>
                    </a:lnTo>
                    <a:lnTo>
                      <a:pt x="10902" y="797"/>
                    </a:lnTo>
                    <a:lnTo>
                      <a:pt x="10902" y="777"/>
                    </a:lnTo>
                    <a:lnTo>
                      <a:pt x="10903" y="759"/>
                    </a:lnTo>
                    <a:lnTo>
                      <a:pt x="10904" y="740"/>
                    </a:lnTo>
                    <a:lnTo>
                      <a:pt x="10907" y="723"/>
                    </a:lnTo>
                    <a:lnTo>
                      <a:pt x="10911" y="705"/>
                    </a:lnTo>
                    <a:lnTo>
                      <a:pt x="10914" y="687"/>
                    </a:lnTo>
                    <a:lnTo>
                      <a:pt x="10919" y="670"/>
                    </a:lnTo>
                    <a:lnTo>
                      <a:pt x="10924" y="654"/>
                    </a:lnTo>
                    <a:lnTo>
                      <a:pt x="10930" y="638"/>
                    </a:lnTo>
                    <a:lnTo>
                      <a:pt x="10936" y="622"/>
                    </a:lnTo>
                    <a:lnTo>
                      <a:pt x="10944" y="608"/>
                    </a:lnTo>
                    <a:lnTo>
                      <a:pt x="10951" y="593"/>
                    </a:lnTo>
                    <a:lnTo>
                      <a:pt x="10960" y="578"/>
                    </a:lnTo>
                    <a:lnTo>
                      <a:pt x="10968" y="564"/>
                    </a:lnTo>
                    <a:lnTo>
                      <a:pt x="10977" y="552"/>
                    </a:lnTo>
                    <a:lnTo>
                      <a:pt x="10987" y="539"/>
                    </a:lnTo>
                    <a:lnTo>
                      <a:pt x="10997" y="528"/>
                    </a:lnTo>
                    <a:lnTo>
                      <a:pt x="11008" y="517"/>
                    </a:lnTo>
                    <a:lnTo>
                      <a:pt x="11019" y="505"/>
                    </a:lnTo>
                    <a:lnTo>
                      <a:pt x="11030" y="496"/>
                    </a:lnTo>
                    <a:lnTo>
                      <a:pt x="11042" y="486"/>
                    </a:lnTo>
                    <a:lnTo>
                      <a:pt x="11054" y="477"/>
                    </a:lnTo>
                    <a:lnTo>
                      <a:pt x="11068" y="470"/>
                    </a:lnTo>
                    <a:lnTo>
                      <a:pt x="11080" y="462"/>
                    </a:lnTo>
                    <a:lnTo>
                      <a:pt x="11094" y="456"/>
                    </a:lnTo>
                    <a:lnTo>
                      <a:pt x="11107" y="450"/>
                    </a:lnTo>
                    <a:lnTo>
                      <a:pt x="11122" y="446"/>
                    </a:lnTo>
                    <a:lnTo>
                      <a:pt x="11136" y="441"/>
                    </a:lnTo>
                    <a:lnTo>
                      <a:pt x="11150" y="439"/>
                    </a:lnTo>
                    <a:lnTo>
                      <a:pt x="11165" y="437"/>
                    </a:lnTo>
                    <a:lnTo>
                      <a:pt x="11181" y="435"/>
                    </a:lnTo>
                    <a:lnTo>
                      <a:pt x="11196" y="434"/>
                    </a:lnTo>
                    <a:close/>
                    <a:moveTo>
                      <a:pt x="8036" y="0"/>
                    </a:moveTo>
                    <a:lnTo>
                      <a:pt x="8061" y="1"/>
                    </a:lnTo>
                    <a:lnTo>
                      <a:pt x="8084" y="4"/>
                    </a:lnTo>
                    <a:lnTo>
                      <a:pt x="8106" y="7"/>
                    </a:lnTo>
                    <a:lnTo>
                      <a:pt x="8127" y="12"/>
                    </a:lnTo>
                    <a:lnTo>
                      <a:pt x="8147" y="20"/>
                    </a:lnTo>
                    <a:lnTo>
                      <a:pt x="8165" y="27"/>
                    </a:lnTo>
                    <a:lnTo>
                      <a:pt x="8184" y="36"/>
                    </a:lnTo>
                    <a:lnTo>
                      <a:pt x="8200" y="45"/>
                    </a:lnTo>
                    <a:lnTo>
                      <a:pt x="8216" y="56"/>
                    </a:lnTo>
                    <a:lnTo>
                      <a:pt x="8231" y="69"/>
                    </a:lnTo>
                    <a:lnTo>
                      <a:pt x="8244" y="81"/>
                    </a:lnTo>
                    <a:lnTo>
                      <a:pt x="8258" y="96"/>
                    </a:lnTo>
                    <a:lnTo>
                      <a:pt x="8270" y="109"/>
                    </a:lnTo>
                    <a:lnTo>
                      <a:pt x="8281" y="125"/>
                    </a:lnTo>
                    <a:lnTo>
                      <a:pt x="8291" y="141"/>
                    </a:lnTo>
                    <a:lnTo>
                      <a:pt x="8301" y="157"/>
                    </a:lnTo>
                    <a:lnTo>
                      <a:pt x="8309" y="175"/>
                    </a:lnTo>
                    <a:lnTo>
                      <a:pt x="8317" y="192"/>
                    </a:lnTo>
                    <a:lnTo>
                      <a:pt x="8324" y="209"/>
                    </a:lnTo>
                    <a:lnTo>
                      <a:pt x="8330" y="227"/>
                    </a:lnTo>
                    <a:lnTo>
                      <a:pt x="8341" y="264"/>
                    </a:lnTo>
                    <a:lnTo>
                      <a:pt x="8350" y="301"/>
                    </a:lnTo>
                    <a:lnTo>
                      <a:pt x="8356" y="338"/>
                    </a:lnTo>
                    <a:lnTo>
                      <a:pt x="8361" y="374"/>
                    </a:lnTo>
                    <a:lnTo>
                      <a:pt x="8363" y="408"/>
                    </a:lnTo>
                    <a:lnTo>
                      <a:pt x="8363" y="441"/>
                    </a:lnTo>
                    <a:lnTo>
                      <a:pt x="8363" y="457"/>
                    </a:lnTo>
                    <a:lnTo>
                      <a:pt x="8362" y="472"/>
                    </a:lnTo>
                    <a:lnTo>
                      <a:pt x="8358" y="487"/>
                    </a:lnTo>
                    <a:lnTo>
                      <a:pt x="8355" y="502"/>
                    </a:lnTo>
                    <a:lnTo>
                      <a:pt x="8350" y="517"/>
                    </a:lnTo>
                    <a:lnTo>
                      <a:pt x="8345" y="530"/>
                    </a:lnTo>
                    <a:lnTo>
                      <a:pt x="8338" y="544"/>
                    </a:lnTo>
                    <a:lnTo>
                      <a:pt x="8330" y="557"/>
                    </a:lnTo>
                    <a:lnTo>
                      <a:pt x="8322" y="571"/>
                    </a:lnTo>
                    <a:lnTo>
                      <a:pt x="8313" y="584"/>
                    </a:lnTo>
                    <a:lnTo>
                      <a:pt x="8303" y="596"/>
                    </a:lnTo>
                    <a:lnTo>
                      <a:pt x="8293" y="608"/>
                    </a:lnTo>
                    <a:lnTo>
                      <a:pt x="8282" y="620"/>
                    </a:lnTo>
                    <a:lnTo>
                      <a:pt x="8271" y="631"/>
                    </a:lnTo>
                    <a:lnTo>
                      <a:pt x="8259" y="642"/>
                    </a:lnTo>
                    <a:lnTo>
                      <a:pt x="8248" y="652"/>
                    </a:lnTo>
                    <a:lnTo>
                      <a:pt x="8222" y="671"/>
                    </a:lnTo>
                    <a:lnTo>
                      <a:pt x="8195" y="689"/>
                    </a:lnTo>
                    <a:lnTo>
                      <a:pt x="8168" y="703"/>
                    </a:lnTo>
                    <a:lnTo>
                      <a:pt x="8141" y="716"/>
                    </a:lnTo>
                    <a:lnTo>
                      <a:pt x="8114" y="726"/>
                    </a:lnTo>
                    <a:lnTo>
                      <a:pt x="8087" y="733"/>
                    </a:lnTo>
                    <a:lnTo>
                      <a:pt x="8073" y="735"/>
                    </a:lnTo>
                    <a:lnTo>
                      <a:pt x="8061" y="737"/>
                    </a:lnTo>
                    <a:lnTo>
                      <a:pt x="8049" y="738"/>
                    </a:lnTo>
                    <a:lnTo>
                      <a:pt x="8036" y="739"/>
                    </a:lnTo>
                    <a:lnTo>
                      <a:pt x="8024" y="738"/>
                    </a:lnTo>
                    <a:lnTo>
                      <a:pt x="8012" y="737"/>
                    </a:lnTo>
                    <a:lnTo>
                      <a:pt x="7999" y="735"/>
                    </a:lnTo>
                    <a:lnTo>
                      <a:pt x="7986" y="733"/>
                    </a:lnTo>
                    <a:lnTo>
                      <a:pt x="7959" y="726"/>
                    </a:lnTo>
                    <a:lnTo>
                      <a:pt x="7932" y="716"/>
                    </a:lnTo>
                    <a:lnTo>
                      <a:pt x="7903" y="703"/>
                    </a:lnTo>
                    <a:lnTo>
                      <a:pt x="7876" y="689"/>
                    </a:lnTo>
                    <a:lnTo>
                      <a:pt x="7849" y="671"/>
                    </a:lnTo>
                    <a:lnTo>
                      <a:pt x="7823" y="652"/>
                    </a:lnTo>
                    <a:lnTo>
                      <a:pt x="7811" y="642"/>
                    </a:lnTo>
                    <a:lnTo>
                      <a:pt x="7800" y="631"/>
                    </a:lnTo>
                    <a:lnTo>
                      <a:pt x="7788" y="620"/>
                    </a:lnTo>
                    <a:lnTo>
                      <a:pt x="7778" y="608"/>
                    </a:lnTo>
                    <a:lnTo>
                      <a:pt x="7767" y="596"/>
                    </a:lnTo>
                    <a:lnTo>
                      <a:pt x="7757" y="584"/>
                    </a:lnTo>
                    <a:lnTo>
                      <a:pt x="7748" y="571"/>
                    </a:lnTo>
                    <a:lnTo>
                      <a:pt x="7740" y="557"/>
                    </a:lnTo>
                    <a:lnTo>
                      <a:pt x="7732" y="544"/>
                    </a:lnTo>
                    <a:lnTo>
                      <a:pt x="7726" y="530"/>
                    </a:lnTo>
                    <a:lnTo>
                      <a:pt x="7720" y="517"/>
                    </a:lnTo>
                    <a:lnTo>
                      <a:pt x="7715" y="502"/>
                    </a:lnTo>
                    <a:lnTo>
                      <a:pt x="7712" y="487"/>
                    </a:lnTo>
                    <a:lnTo>
                      <a:pt x="7709" y="472"/>
                    </a:lnTo>
                    <a:lnTo>
                      <a:pt x="7708" y="457"/>
                    </a:lnTo>
                    <a:lnTo>
                      <a:pt x="7707" y="441"/>
                    </a:lnTo>
                    <a:lnTo>
                      <a:pt x="7708" y="408"/>
                    </a:lnTo>
                    <a:lnTo>
                      <a:pt x="7710" y="374"/>
                    </a:lnTo>
                    <a:lnTo>
                      <a:pt x="7714" y="338"/>
                    </a:lnTo>
                    <a:lnTo>
                      <a:pt x="7720" y="301"/>
                    </a:lnTo>
                    <a:lnTo>
                      <a:pt x="7725" y="283"/>
                    </a:lnTo>
                    <a:lnTo>
                      <a:pt x="7729" y="264"/>
                    </a:lnTo>
                    <a:lnTo>
                      <a:pt x="7734" y="246"/>
                    </a:lnTo>
                    <a:lnTo>
                      <a:pt x="7740" y="227"/>
                    </a:lnTo>
                    <a:lnTo>
                      <a:pt x="7747" y="209"/>
                    </a:lnTo>
                    <a:lnTo>
                      <a:pt x="7753" y="192"/>
                    </a:lnTo>
                    <a:lnTo>
                      <a:pt x="7762" y="175"/>
                    </a:lnTo>
                    <a:lnTo>
                      <a:pt x="7771" y="157"/>
                    </a:lnTo>
                    <a:lnTo>
                      <a:pt x="7780" y="141"/>
                    </a:lnTo>
                    <a:lnTo>
                      <a:pt x="7790" y="125"/>
                    </a:lnTo>
                    <a:lnTo>
                      <a:pt x="7801" y="109"/>
                    </a:lnTo>
                    <a:lnTo>
                      <a:pt x="7814" y="96"/>
                    </a:lnTo>
                    <a:lnTo>
                      <a:pt x="7827" y="81"/>
                    </a:lnTo>
                    <a:lnTo>
                      <a:pt x="7841" y="69"/>
                    </a:lnTo>
                    <a:lnTo>
                      <a:pt x="7855" y="56"/>
                    </a:lnTo>
                    <a:lnTo>
                      <a:pt x="7871" y="45"/>
                    </a:lnTo>
                    <a:lnTo>
                      <a:pt x="7889" y="36"/>
                    </a:lnTo>
                    <a:lnTo>
                      <a:pt x="7906" y="27"/>
                    </a:lnTo>
                    <a:lnTo>
                      <a:pt x="7926" y="20"/>
                    </a:lnTo>
                    <a:lnTo>
                      <a:pt x="7945" y="12"/>
                    </a:lnTo>
                    <a:lnTo>
                      <a:pt x="7966" y="7"/>
                    </a:lnTo>
                    <a:lnTo>
                      <a:pt x="7988" y="4"/>
                    </a:lnTo>
                    <a:lnTo>
                      <a:pt x="8012" y="1"/>
                    </a:lnTo>
                    <a:lnTo>
                      <a:pt x="8036" y="0"/>
                    </a:lnTo>
                    <a:close/>
                    <a:moveTo>
                      <a:pt x="5904" y="1192"/>
                    </a:moveTo>
                    <a:lnTo>
                      <a:pt x="5886" y="1191"/>
                    </a:lnTo>
                    <a:lnTo>
                      <a:pt x="5869" y="1189"/>
                    </a:lnTo>
                    <a:lnTo>
                      <a:pt x="5853" y="1187"/>
                    </a:lnTo>
                    <a:lnTo>
                      <a:pt x="5836" y="1184"/>
                    </a:lnTo>
                    <a:lnTo>
                      <a:pt x="5819" y="1179"/>
                    </a:lnTo>
                    <a:lnTo>
                      <a:pt x="5803" y="1175"/>
                    </a:lnTo>
                    <a:lnTo>
                      <a:pt x="5787" y="1168"/>
                    </a:lnTo>
                    <a:lnTo>
                      <a:pt x="5771" y="1161"/>
                    </a:lnTo>
                    <a:lnTo>
                      <a:pt x="5755" y="1154"/>
                    </a:lnTo>
                    <a:lnTo>
                      <a:pt x="5739" y="1145"/>
                    </a:lnTo>
                    <a:lnTo>
                      <a:pt x="5724" y="1135"/>
                    </a:lnTo>
                    <a:lnTo>
                      <a:pt x="5708" y="1125"/>
                    </a:lnTo>
                    <a:lnTo>
                      <a:pt x="5693" y="1114"/>
                    </a:lnTo>
                    <a:lnTo>
                      <a:pt x="5680" y="1103"/>
                    </a:lnTo>
                    <a:lnTo>
                      <a:pt x="5666" y="1091"/>
                    </a:lnTo>
                    <a:lnTo>
                      <a:pt x="5653" y="1077"/>
                    </a:lnTo>
                    <a:lnTo>
                      <a:pt x="5640" y="1064"/>
                    </a:lnTo>
                    <a:lnTo>
                      <a:pt x="5628" y="1049"/>
                    </a:lnTo>
                    <a:lnTo>
                      <a:pt x="5616" y="1034"/>
                    </a:lnTo>
                    <a:lnTo>
                      <a:pt x="5605" y="1018"/>
                    </a:lnTo>
                    <a:lnTo>
                      <a:pt x="5595" y="1002"/>
                    </a:lnTo>
                    <a:lnTo>
                      <a:pt x="5585" y="985"/>
                    </a:lnTo>
                    <a:lnTo>
                      <a:pt x="5576" y="968"/>
                    </a:lnTo>
                    <a:lnTo>
                      <a:pt x="5568" y="949"/>
                    </a:lnTo>
                    <a:lnTo>
                      <a:pt x="5562" y="931"/>
                    </a:lnTo>
                    <a:lnTo>
                      <a:pt x="5554" y="911"/>
                    </a:lnTo>
                    <a:lnTo>
                      <a:pt x="5549" y="893"/>
                    </a:lnTo>
                    <a:lnTo>
                      <a:pt x="5544" y="872"/>
                    </a:lnTo>
                    <a:lnTo>
                      <a:pt x="5541" y="852"/>
                    </a:lnTo>
                    <a:lnTo>
                      <a:pt x="5538" y="830"/>
                    </a:lnTo>
                    <a:lnTo>
                      <a:pt x="5537" y="809"/>
                    </a:lnTo>
                    <a:lnTo>
                      <a:pt x="5536" y="787"/>
                    </a:lnTo>
                    <a:lnTo>
                      <a:pt x="5537" y="766"/>
                    </a:lnTo>
                    <a:lnTo>
                      <a:pt x="5538" y="745"/>
                    </a:lnTo>
                    <a:lnTo>
                      <a:pt x="5541" y="726"/>
                    </a:lnTo>
                    <a:lnTo>
                      <a:pt x="5544" y="707"/>
                    </a:lnTo>
                    <a:lnTo>
                      <a:pt x="5549" y="689"/>
                    </a:lnTo>
                    <a:lnTo>
                      <a:pt x="5554" y="671"/>
                    </a:lnTo>
                    <a:lnTo>
                      <a:pt x="5562" y="656"/>
                    </a:lnTo>
                    <a:lnTo>
                      <a:pt x="5568" y="640"/>
                    </a:lnTo>
                    <a:lnTo>
                      <a:pt x="5576" y="625"/>
                    </a:lnTo>
                    <a:lnTo>
                      <a:pt x="5585" y="610"/>
                    </a:lnTo>
                    <a:lnTo>
                      <a:pt x="5595" y="596"/>
                    </a:lnTo>
                    <a:lnTo>
                      <a:pt x="5605" y="584"/>
                    </a:lnTo>
                    <a:lnTo>
                      <a:pt x="5616" y="572"/>
                    </a:lnTo>
                    <a:lnTo>
                      <a:pt x="5628" y="561"/>
                    </a:lnTo>
                    <a:lnTo>
                      <a:pt x="5640" y="550"/>
                    </a:lnTo>
                    <a:lnTo>
                      <a:pt x="5653" y="540"/>
                    </a:lnTo>
                    <a:lnTo>
                      <a:pt x="5666" y="531"/>
                    </a:lnTo>
                    <a:lnTo>
                      <a:pt x="5680" y="523"/>
                    </a:lnTo>
                    <a:lnTo>
                      <a:pt x="5693" y="514"/>
                    </a:lnTo>
                    <a:lnTo>
                      <a:pt x="5708" y="508"/>
                    </a:lnTo>
                    <a:lnTo>
                      <a:pt x="5724" y="501"/>
                    </a:lnTo>
                    <a:lnTo>
                      <a:pt x="5739" y="494"/>
                    </a:lnTo>
                    <a:lnTo>
                      <a:pt x="5755" y="489"/>
                    </a:lnTo>
                    <a:lnTo>
                      <a:pt x="5771" y="485"/>
                    </a:lnTo>
                    <a:lnTo>
                      <a:pt x="5803" y="477"/>
                    </a:lnTo>
                    <a:lnTo>
                      <a:pt x="5836" y="471"/>
                    </a:lnTo>
                    <a:lnTo>
                      <a:pt x="5869" y="469"/>
                    </a:lnTo>
                    <a:lnTo>
                      <a:pt x="5904" y="467"/>
                    </a:lnTo>
                    <a:lnTo>
                      <a:pt x="5937" y="469"/>
                    </a:lnTo>
                    <a:lnTo>
                      <a:pt x="5970" y="471"/>
                    </a:lnTo>
                    <a:lnTo>
                      <a:pt x="6003" y="477"/>
                    </a:lnTo>
                    <a:lnTo>
                      <a:pt x="6036" y="485"/>
                    </a:lnTo>
                    <a:lnTo>
                      <a:pt x="6052" y="489"/>
                    </a:lnTo>
                    <a:lnTo>
                      <a:pt x="6068" y="494"/>
                    </a:lnTo>
                    <a:lnTo>
                      <a:pt x="6083" y="501"/>
                    </a:lnTo>
                    <a:lnTo>
                      <a:pt x="6099" y="508"/>
                    </a:lnTo>
                    <a:lnTo>
                      <a:pt x="6114" y="514"/>
                    </a:lnTo>
                    <a:lnTo>
                      <a:pt x="6129" y="523"/>
                    </a:lnTo>
                    <a:lnTo>
                      <a:pt x="6142" y="531"/>
                    </a:lnTo>
                    <a:lnTo>
                      <a:pt x="6156" y="540"/>
                    </a:lnTo>
                    <a:lnTo>
                      <a:pt x="6169" y="550"/>
                    </a:lnTo>
                    <a:lnTo>
                      <a:pt x="6182" y="561"/>
                    </a:lnTo>
                    <a:lnTo>
                      <a:pt x="6194" y="572"/>
                    </a:lnTo>
                    <a:lnTo>
                      <a:pt x="6205" y="584"/>
                    </a:lnTo>
                    <a:lnTo>
                      <a:pt x="6216" y="596"/>
                    </a:lnTo>
                    <a:lnTo>
                      <a:pt x="6226" y="610"/>
                    </a:lnTo>
                    <a:lnTo>
                      <a:pt x="6234" y="625"/>
                    </a:lnTo>
                    <a:lnTo>
                      <a:pt x="6243" y="640"/>
                    </a:lnTo>
                    <a:lnTo>
                      <a:pt x="6250" y="656"/>
                    </a:lnTo>
                    <a:lnTo>
                      <a:pt x="6258" y="671"/>
                    </a:lnTo>
                    <a:lnTo>
                      <a:pt x="6263" y="689"/>
                    </a:lnTo>
                    <a:lnTo>
                      <a:pt x="6268" y="707"/>
                    </a:lnTo>
                    <a:lnTo>
                      <a:pt x="6271" y="726"/>
                    </a:lnTo>
                    <a:lnTo>
                      <a:pt x="6275" y="745"/>
                    </a:lnTo>
                    <a:lnTo>
                      <a:pt x="6276" y="766"/>
                    </a:lnTo>
                    <a:lnTo>
                      <a:pt x="6276" y="787"/>
                    </a:lnTo>
                    <a:lnTo>
                      <a:pt x="6276" y="809"/>
                    </a:lnTo>
                    <a:lnTo>
                      <a:pt x="6275" y="830"/>
                    </a:lnTo>
                    <a:lnTo>
                      <a:pt x="6271" y="852"/>
                    </a:lnTo>
                    <a:lnTo>
                      <a:pt x="6268" y="872"/>
                    </a:lnTo>
                    <a:lnTo>
                      <a:pt x="6263" y="893"/>
                    </a:lnTo>
                    <a:lnTo>
                      <a:pt x="6258" y="911"/>
                    </a:lnTo>
                    <a:lnTo>
                      <a:pt x="6250" y="931"/>
                    </a:lnTo>
                    <a:lnTo>
                      <a:pt x="6243" y="949"/>
                    </a:lnTo>
                    <a:lnTo>
                      <a:pt x="6234" y="968"/>
                    </a:lnTo>
                    <a:lnTo>
                      <a:pt x="6226" y="985"/>
                    </a:lnTo>
                    <a:lnTo>
                      <a:pt x="6216" y="1002"/>
                    </a:lnTo>
                    <a:lnTo>
                      <a:pt x="6205" y="1018"/>
                    </a:lnTo>
                    <a:lnTo>
                      <a:pt x="6194" y="1034"/>
                    </a:lnTo>
                    <a:lnTo>
                      <a:pt x="6182" y="1049"/>
                    </a:lnTo>
                    <a:lnTo>
                      <a:pt x="6169" y="1064"/>
                    </a:lnTo>
                    <a:lnTo>
                      <a:pt x="6156" y="1077"/>
                    </a:lnTo>
                    <a:lnTo>
                      <a:pt x="6142" y="1091"/>
                    </a:lnTo>
                    <a:lnTo>
                      <a:pt x="6129" y="1103"/>
                    </a:lnTo>
                    <a:lnTo>
                      <a:pt x="6114" y="1114"/>
                    </a:lnTo>
                    <a:lnTo>
                      <a:pt x="6099" y="1125"/>
                    </a:lnTo>
                    <a:lnTo>
                      <a:pt x="6083" y="1135"/>
                    </a:lnTo>
                    <a:lnTo>
                      <a:pt x="6068" y="1145"/>
                    </a:lnTo>
                    <a:lnTo>
                      <a:pt x="6052" y="1154"/>
                    </a:lnTo>
                    <a:lnTo>
                      <a:pt x="6036" y="1161"/>
                    </a:lnTo>
                    <a:lnTo>
                      <a:pt x="6019" y="1168"/>
                    </a:lnTo>
                    <a:lnTo>
                      <a:pt x="6003" y="1175"/>
                    </a:lnTo>
                    <a:lnTo>
                      <a:pt x="5986" y="1179"/>
                    </a:lnTo>
                    <a:lnTo>
                      <a:pt x="5970" y="1184"/>
                    </a:lnTo>
                    <a:lnTo>
                      <a:pt x="5953" y="1187"/>
                    </a:lnTo>
                    <a:lnTo>
                      <a:pt x="5937" y="1189"/>
                    </a:lnTo>
                    <a:lnTo>
                      <a:pt x="5920" y="1191"/>
                    </a:lnTo>
                    <a:lnTo>
                      <a:pt x="5904" y="1192"/>
                    </a:lnTo>
                    <a:close/>
                    <a:moveTo>
                      <a:pt x="4902" y="1171"/>
                    </a:moveTo>
                    <a:lnTo>
                      <a:pt x="4886" y="1170"/>
                    </a:lnTo>
                    <a:lnTo>
                      <a:pt x="4869" y="1168"/>
                    </a:lnTo>
                    <a:lnTo>
                      <a:pt x="4853" y="1166"/>
                    </a:lnTo>
                    <a:lnTo>
                      <a:pt x="4838" y="1162"/>
                    </a:lnTo>
                    <a:lnTo>
                      <a:pt x="4822" y="1157"/>
                    </a:lnTo>
                    <a:lnTo>
                      <a:pt x="4808" y="1151"/>
                    </a:lnTo>
                    <a:lnTo>
                      <a:pt x="4793" y="1145"/>
                    </a:lnTo>
                    <a:lnTo>
                      <a:pt x="4778" y="1136"/>
                    </a:lnTo>
                    <a:lnTo>
                      <a:pt x="4765" y="1128"/>
                    </a:lnTo>
                    <a:lnTo>
                      <a:pt x="4750" y="1119"/>
                    </a:lnTo>
                    <a:lnTo>
                      <a:pt x="4738" y="1108"/>
                    </a:lnTo>
                    <a:lnTo>
                      <a:pt x="4724" y="1097"/>
                    </a:lnTo>
                    <a:lnTo>
                      <a:pt x="4712" y="1085"/>
                    </a:lnTo>
                    <a:lnTo>
                      <a:pt x="4699" y="1072"/>
                    </a:lnTo>
                    <a:lnTo>
                      <a:pt x="4688" y="1059"/>
                    </a:lnTo>
                    <a:lnTo>
                      <a:pt x="4677" y="1045"/>
                    </a:lnTo>
                    <a:lnTo>
                      <a:pt x="4666" y="1031"/>
                    </a:lnTo>
                    <a:lnTo>
                      <a:pt x="4656" y="1015"/>
                    </a:lnTo>
                    <a:lnTo>
                      <a:pt x="4648" y="999"/>
                    </a:lnTo>
                    <a:lnTo>
                      <a:pt x="4638" y="981"/>
                    </a:lnTo>
                    <a:lnTo>
                      <a:pt x="4631" y="964"/>
                    </a:lnTo>
                    <a:lnTo>
                      <a:pt x="4622" y="947"/>
                    </a:lnTo>
                    <a:lnTo>
                      <a:pt x="4616" y="929"/>
                    </a:lnTo>
                    <a:lnTo>
                      <a:pt x="4610" y="909"/>
                    </a:lnTo>
                    <a:lnTo>
                      <a:pt x="4604" y="889"/>
                    </a:lnTo>
                    <a:lnTo>
                      <a:pt x="4599" y="870"/>
                    </a:lnTo>
                    <a:lnTo>
                      <a:pt x="4595" y="850"/>
                    </a:lnTo>
                    <a:lnTo>
                      <a:pt x="4591" y="829"/>
                    </a:lnTo>
                    <a:lnTo>
                      <a:pt x="4588" y="808"/>
                    </a:lnTo>
                    <a:lnTo>
                      <a:pt x="4586" y="787"/>
                    </a:lnTo>
                    <a:lnTo>
                      <a:pt x="4585" y="765"/>
                    </a:lnTo>
                    <a:lnTo>
                      <a:pt x="4584" y="743"/>
                    </a:lnTo>
                    <a:lnTo>
                      <a:pt x="4585" y="722"/>
                    </a:lnTo>
                    <a:lnTo>
                      <a:pt x="4586" y="701"/>
                    </a:lnTo>
                    <a:lnTo>
                      <a:pt x="4588" y="680"/>
                    </a:lnTo>
                    <a:lnTo>
                      <a:pt x="4591" y="659"/>
                    </a:lnTo>
                    <a:lnTo>
                      <a:pt x="4595" y="640"/>
                    </a:lnTo>
                    <a:lnTo>
                      <a:pt x="4599" y="620"/>
                    </a:lnTo>
                    <a:lnTo>
                      <a:pt x="4604" y="601"/>
                    </a:lnTo>
                    <a:lnTo>
                      <a:pt x="4610" y="583"/>
                    </a:lnTo>
                    <a:lnTo>
                      <a:pt x="4616" y="564"/>
                    </a:lnTo>
                    <a:lnTo>
                      <a:pt x="4622" y="547"/>
                    </a:lnTo>
                    <a:lnTo>
                      <a:pt x="4631" y="530"/>
                    </a:lnTo>
                    <a:lnTo>
                      <a:pt x="4638" y="514"/>
                    </a:lnTo>
                    <a:lnTo>
                      <a:pt x="4648" y="499"/>
                    </a:lnTo>
                    <a:lnTo>
                      <a:pt x="4656" y="483"/>
                    </a:lnTo>
                    <a:lnTo>
                      <a:pt x="4666" y="470"/>
                    </a:lnTo>
                    <a:lnTo>
                      <a:pt x="4677" y="455"/>
                    </a:lnTo>
                    <a:lnTo>
                      <a:pt x="4688" y="443"/>
                    </a:lnTo>
                    <a:lnTo>
                      <a:pt x="4699" y="430"/>
                    </a:lnTo>
                    <a:lnTo>
                      <a:pt x="4712" y="418"/>
                    </a:lnTo>
                    <a:lnTo>
                      <a:pt x="4724" y="408"/>
                    </a:lnTo>
                    <a:lnTo>
                      <a:pt x="4738" y="397"/>
                    </a:lnTo>
                    <a:lnTo>
                      <a:pt x="4750" y="389"/>
                    </a:lnTo>
                    <a:lnTo>
                      <a:pt x="4765" y="380"/>
                    </a:lnTo>
                    <a:lnTo>
                      <a:pt x="4778" y="371"/>
                    </a:lnTo>
                    <a:lnTo>
                      <a:pt x="4793" y="365"/>
                    </a:lnTo>
                    <a:lnTo>
                      <a:pt x="4808" y="359"/>
                    </a:lnTo>
                    <a:lnTo>
                      <a:pt x="4822" y="354"/>
                    </a:lnTo>
                    <a:lnTo>
                      <a:pt x="4838" y="349"/>
                    </a:lnTo>
                    <a:lnTo>
                      <a:pt x="4853" y="347"/>
                    </a:lnTo>
                    <a:lnTo>
                      <a:pt x="4869" y="344"/>
                    </a:lnTo>
                    <a:lnTo>
                      <a:pt x="4886" y="342"/>
                    </a:lnTo>
                    <a:lnTo>
                      <a:pt x="4902" y="342"/>
                    </a:lnTo>
                    <a:lnTo>
                      <a:pt x="4920" y="342"/>
                    </a:lnTo>
                    <a:lnTo>
                      <a:pt x="4936" y="344"/>
                    </a:lnTo>
                    <a:lnTo>
                      <a:pt x="4952" y="347"/>
                    </a:lnTo>
                    <a:lnTo>
                      <a:pt x="4968" y="349"/>
                    </a:lnTo>
                    <a:lnTo>
                      <a:pt x="4982" y="354"/>
                    </a:lnTo>
                    <a:lnTo>
                      <a:pt x="4998" y="359"/>
                    </a:lnTo>
                    <a:lnTo>
                      <a:pt x="5013" y="365"/>
                    </a:lnTo>
                    <a:lnTo>
                      <a:pt x="5028" y="371"/>
                    </a:lnTo>
                    <a:lnTo>
                      <a:pt x="5041" y="380"/>
                    </a:lnTo>
                    <a:lnTo>
                      <a:pt x="5055" y="389"/>
                    </a:lnTo>
                    <a:lnTo>
                      <a:pt x="5068" y="397"/>
                    </a:lnTo>
                    <a:lnTo>
                      <a:pt x="5082" y="408"/>
                    </a:lnTo>
                    <a:lnTo>
                      <a:pt x="5094" y="418"/>
                    </a:lnTo>
                    <a:lnTo>
                      <a:pt x="5107" y="430"/>
                    </a:lnTo>
                    <a:lnTo>
                      <a:pt x="5118" y="443"/>
                    </a:lnTo>
                    <a:lnTo>
                      <a:pt x="5129" y="455"/>
                    </a:lnTo>
                    <a:lnTo>
                      <a:pt x="5139" y="470"/>
                    </a:lnTo>
                    <a:lnTo>
                      <a:pt x="5148" y="483"/>
                    </a:lnTo>
                    <a:lnTo>
                      <a:pt x="5158" y="499"/>
                    </a:lnTo>
                    <a:lnTo>
                      <a:pt x="5167" y="514"/>
                    </a:lnTo>
                    <a:lnTo>
                      <a:pt x="5175" y="530"/>
                    </a:lnTo>
                    <a:lnTo>
                      <a:pt x="5183" y="547"/>
                    </a:lnTo>
                    <a:lnTo>
                      <a:pt x="5190" y="564"/>
                    </a:lnTo>
                    <a:lnTo>
                      <a:pt x="5196" y="583"/>
                    </a:lnTo>
                    <a:lnTo>
                      <a:pt x="5201" y="601"/>
                    </a:lnTo>
                    <a:lnTo>
                      <a:pt x="5206" y="620"/>
                    </a:lnTo>
                    <a:lnTo>
                      <a:pt x="5211" y="640"/>
                    </a:lnTo>
                    <a:lnTo>
                      <a:pt x="5214" y="659"/>
                    </a:lnTo>
                    <a:lnTo>
                      <a:pt x="5217" y="680"/>
                    </a:lnTo>
                    <a:lnTo>
                      <a:pt x="5219" y="701"/>
                    </a:lnTo>
                    <a:lnTo>
                      <a:pt x="5220" y="722"/>
                    </a:lnTo>
                    <a:lnTo>
                      <a:pt x="5221" y="743"/>
                    </a:lnTo>
                    <a:lnTo>
                      <a:pt x="5220" y="765"/>
                    </a:lnTo>
                    <a:lnTo>
                      <a:pt x="5219" y="787"/>
                    </a:lnTo>
                    <a:lnTo>
                      <a:pt x="5217" y="808"/>
                    </a:lnTo>
                    <a:lnTo>
                      <a:pt x="5214" y="829"/>
                    </a:lnTo>
                    <a:lnTo>
                      <a:pt x="5211" y="850"/>
                    </a:lnTo>
                    <a:lnTo>
                      <a:pt x="5206" y="870"/>
                    </a:lnTo>
                    <a:lnTo>
                      <a:pt x="5201" y="889"/>
                    </a:lnTo>
                    <a:lnTo>
                      <a:pt x="5196" y="909"/>
                    </a:lnTo>
                    <a:lnTo>
                      <a:pt x="5190" y="929"/>
                    </a:lnTo>
                    <a:lnTo>
                      <a:pt x="5183" y="947"/>
                    </a:lnTo>
                    <a:lnTo>
                      <a:pt x="5175" y="964"/>
                    </a:lnTo>
                    <a:lnTo>
                      <a:pt x="5167" y="981"/>
                    </a:lnTo>
                    <a:lnTo>
                      <a:pt x="5158" y="999"/>
                    </a:lnTo>
                    <a:lnTo>
                      <a:pt x="5148" y="1015"/>
                    </a:lnTo>
                    <a:lnTo>
                      <a:pt x="5139" y="1031"/>
                    </a:lnTo>
                    <a:lnTo>
                      <a:pt x="5129" y="1045"/>
                    </a:lnTo>
                    <a:lnTo>
                      <a:pt x="5118" y="1059"/>
                    </a:lnTo>
                    <a:lnTo>
                      <a:pt x="5107" y="1072"/>
                    </a:lnTo>
                    <a:lnTo>
                      <a:pt x="5094" y="1085"/>
                    </a:lnTo>
                    <a:lnTo>
                      <a:pt x="5082" y="1097"/>
                    </a:lnTo>
                    <a:lnTo>
                      <a:pt x="5068" y="1108"/>
                    </a:lnTo>
                    <a:lnTo>
                      <a:pt x="5055" y="1119"/>
                    </a:lnTo>
                    <a:lnTo>
                      <a:pt x="5041" y="1128"/>
                    </a:lnTo>
                    <a:lnTo>
                      <a:pt x="5028" y="1136"/>
                    </a:lnTo>
                    <a:lnTo>
                      <a:pt x="5013" y="1145"/>
                    </a:lnTo>
                    <a:lnTo>
                      <a:pt x="4998" y="1151"/>
                    </a:lnTo>
                    <a:lnTo>
                      <a:pt x="4982" y="1157"/>
                    </a:lnTo>
                    <a:lnTo>
                      <a:pt x="4968" y="1162"/>
                    </a:lnTo>
                    <a:lnTo>
                      <a:pt x="4952" y="1166"/>
                    </a:lnTo>
                    <a:lnTo>
                      <a:pt x="4936" y="1168"/>
                    </a:lnTo>
                    <a:lnTo>
                      <a:pt x="4920" y="1170"/>
                    </a:lnTo>
                    <a:lnTo>
                      <a:pt x="4902" y="1171"/>
                    </a:lnTo>
                    <a:close/>
                    <a:moveTo>
                      <a:pt x="461" y="991"/>
                    </a:moveTo>
                    <a:lnTo>
                      <a:pt x="481" y="996"/>
                    </a:lnTo>
                    <a:lnTo>
                      <a:pt x="499" y="1002"/>
                    </a:lnTo>
                    <a:lnTo>
                      <a:pt x="517" y="1009"/>
                    </a:lnTo>
                    <a:lnTo>
                      <a:pt x="533" y="1015"/>
                    </a:lnTo>
                    <a:lnTo>
                      <a:pt x="549" y="1022"/>
                    </a:lnTo>
                    <a:lnTo>
                      <a:pt x="565" y="1029"/>
                    </a:lnTo>
                    <a:lnTo>
                      <a:pt x="578" y="1038"/>
                    </a:lnTo>
                    <a:lnTo>
                      <a:pt x="593" y="1048"/>
                    </a:lnTo>
                    <a:lnTo>
                      <a:pt x="605" y="1058"/>
                    </a:lnTo>
                    <a:lnTo>
                      <a:pt x="617" y="1068"/>
                    </a:lnTo>
                    <a:lnTo>
                      <a:pt x="630" y="1079"/>
                    </a:lnTo>
                    <a:lnTo>
                      <a:pt x="641" y="1091"/>
                    </a:lnTo>
                    <a:lnTo>
                      <a:pt x="651" y="1103"/>
                    </a:lnTo>
                    <a:lnTo>
                      <a:pt x="660" y="1116"/>
                    </a:lnTo>
                    <a:lnTo>
                      <a:pt x="670" y="1129"/>
                    </a:lnTo>
                    <a:lnTo>
                      <a:pt x="679" y="1143"/>
                    </a:lnTo>
                    <a:lnTo>
                      <a:pt x="686" y="1157"/>
                    </a:lnTo>
                    <a:lnTo>
                      <a:pt x="695" y="1173"/>
                    </a:lnTo>
                    <a:lnTo>
                      <a:pt x="701" y="1188"/>
                    </a:lnTo>
                    <a:lnTo>
                      <a:pt x="708" y="1205"/>
                    </a:lnTo>
                    <a:lnTo>
                      <a:pt x="721" y="1240"/>
                    </a:lnTo>
                    <a:lnTo>
                      <a:pt x="731" y="1275"/>
                    </a:lnTo>
                    <a:lnTo>
                      <a:pt x="739" y="1314"/>
                    </a:lnTo>
                    <a:lnTo>
                      <a:pt x="747" y="1355"/>
                    </a:lnTo>
                    <a:lnTo>
                      <a:pt x="753" y="1397"/>
                    </a:lnTo>
                    <a:lnTo>
                      <a:pt x="759" y="1443"/>
                    </a:lnTo>
                    <a:lnTo>
                      <a:pt x="760" y="1465"/>
                    </a:lnTo>
                    <a:lnTo>
                      <a:pt x="760" y="1487"/>
                    </a:lnTo>
                    <a:lnTo>
                      <a:pt x="759" y="1508"/>
                    </a:lnTo>
                    <a:lnTo>
                      <a:pt x="756" y="1529"/>
                    </a:lnTo>
                    <a:lnTo>
                      <a:pt x="753" y="1548"/>
                    </a:lnTo>
                    <a:lnTo>
                      <a:pt x="748" y="1568"/>
                    </a:lnTo>
                    <a:lnTo>
                      <a:pt x="742" y="1587"/>
                    </a:lnTo>
                    <a:lnTo>
                      <a:pt x="734" y="1605"/>
                    </a:lnTo>
                    <a:lnTo>
                      <a:pt x="724" y="1622"/>
                    </a:lnTo>
                    <a:lnTo>
                      <a:pt x="715" y="1638"/>
                    </a:lnTo>
                    <a:lnTo>
                      <a:pt x="703" y="1654"/>
                    </a:lnTo>
                    <a:lnTo>
                      <a:pt x="692" y="1669"/>
                    </a:lnTo>
                    <a:lnTo>
                      <a:pt x="679" y="1683"/>
                    </a:lnTo>
                    <a:lnTo>
                      <a:pt x="665" y="1695"/>
                    </a:lnTo>
                    <a:lnTo>
                      <a:pt x="651" y="1706"/>
                    </a:lnTo>
                    <a:lnTo>
                      <a:pt x="635" y="1717"/>
                    </a:lnTo>
                    <a:lnTo>
                      <a:pt x="617" y="1727"/>
                    </a:lnTo>
                    <a:lnTo>
                      <a:pt x="600" y="1735"/>
                    </a:lnTo>
                    <a:lnTo>
                      <a:pt x="583" y="1743"/>
                    </a:lnTo>
                    <a:lnTo>
                      <a:pt x="563" y="1749"/>
                    </a:lnTo>
                    <a:lnTo>
                      <a:pt x="544" y="1754"/>
                    </a:lnTo>
                    <a:lnTo>
                      <a:pt x="524" y="1759"/>
                    </a:lnTo>
                    <a:lnTo>
                      <a:pt x="503" y="1761"/>
                    </a:lnTo>
                    <a:lnTo>
                      <a:pt x="482" y="1763"/>
                    </a:lnTo>
                    <a:lnTo>
                      <a:pt x="460" y="1763"/>
                    </a:lnTo>
                    <a:lnTo>
                      <a:pt x="438" y="1761"/>
                    </a:lnTo>
                    <a:lnTo>
                      <a:pt x="416" y="1759"/>
                    </a:lnTo>
                    <a:lnTo>
                      <a:pt x="392" y="1755"/>
                    </a:lnTo>
                    <a:lnTo>
                      <a:pt x="369" y="1750"/>
                    </a:lnTo>
                    <a:lnTo>
                      <a:pt x="344" y="1743"/>
                    </a:lnTo>
                    <a:lnTo>
                      <a:pt x="321" y="1735"/>
                    </a:lnTo>
                    <a:lnTo>
                      <a:pt x="296" y="1726"/>
                    </a:lnTo>
                    <a:lnTo>
                      <a:pt x="273" y="1715"/>
                    </a:lnTo>
                    <a:lnTo>
                      <a:pt x="250" y="1705"/>
                    </a:lnTo>
                    <a:lnTo>
                      <a:pt x="229" y="1694"/>
                    </a:lnTo>
                    <a:lnTo>
                      <a:pt x="209" y="1681"/>
                    </a:lnTo>
                    <a:lnTo>
                      <a:pt x="189" y="1670"/>
                    </a:lnTo>
                    <a:lnTo>
                      <a:pt x="171" y="1658"/>
                    </a:lnTo>
                    <a:lnTo>
                      <a:pt x="155" y="1647"/>
                    </a:lnTo>
                    <a:lnTo>
                      <a:pt x="139" y="1635"/>
                    </a:lnTo>
                    <a:lnTo>
                      <a:pt x="124" y="1622"/>
                    </a:lnTo>
                    <a:lnTo>
                      <a:pt x="111" y="1609"/>
                    </a:lnTo>
                    <a:lnTo>
                      <a:pt x="97" y="1596"/>
                    </a:lnTo>
                    <a:lnTo>
                      <a:pt x="85" y="1583"/>
                    </a:lnTo>
                    <a:lnTo>
                      <a:pt x="74" y="1569"/>
                    </a:lnTo>
                    <a:lnTo>
                      <a:pt x="64" y="1556"/>
                    </a:lnTo>
                    <a:lnTo>
                      <a:pt x="55" y="1542"/>
                    </a:lnTo>
                    <a:lnTo>
                      <a:pt x="47" y="1528"/>
                    </a:lnTo>
                    <a:lnTo>
                      <a:pt x="38" y="1514"/>
                    </a:lnTo>
                    <a:lnTo>
                      <a:pt x="32" y="1499"/>
                    </a:lnTo>
                    <a:lnTo>
                      <a:pt x="26" y="1485"/>
                    </a:lnTo>
                    <a:lnTo>
                      <a:pt x="20" y="1470"/>
                    </a:lnTo>
                    <a:lnTo>
                      <a:pt x="16" y="1454"/>
                    </a:lnTo>
                    <a:lnTo>
                      <a:pt x="11" y="1439"/>
                    </a:lnTo>
                    <a:lnTo>
                      <a:pt x="9" y="1423"/>
                    </a:lnTo>
                    <a:lnTo>
                      <a:pt x="5" y="1407"/>
                    </a:lnTo>
                    <a:lnTo>
                      <a:pt x="1" y="1375"/>
                    </a:lnTo>
                    <a:lnTo>
                      <a:pt x="0" y="1342"/>
                    </a:lnTo>
                    <a:lnTo>
                      <a:pt x="0" y="1307"/>
                    </a:lnTo>
                    <a:lnTo>
                      <a:pt x="1" y="1273"/>
                    </a:lnTo>
                    <a:lnTo>
                      <a:pt x="4" y="1256"/>
                    </a:lnTo>
                    <a:lnTo>
                      <a:pt x="7" y="1239"/>
                    </a:lnTo>
                    <a:lnTo>
                      <a:pt x="11" y="1221"/>
                    </a:lnTo>
                    <a:lnTo>
                      <a:pt x="17" y="1205"/>
                    </a:lnTo>
                    <a:lnTo>
                      <a:pt x="23" y="1189"/>
                    </a:lnTo>
                    <a:lnTo>
                      <a:pt x="31" y="1173"/>
                    </a:lnTo>
                    <a:lnTo>
                      <a:pt x="41" y="1157"/>
                    </a:lnTo>
                    <a:lnTo>
                      <a:pt x="50" y="1143"/>
                    </a:lnTo>
                    <a:lnTo>
                      <a:pt x="60" y="1129"/>
                    </a:lnTo>
                    <a:lnTo>
                      <a:pt x="73" y="1116"/>
                    </a:lnTo>
                    <a:lnTo>
                      <a:pt x="85" y="1102"/>
                    </a:lnTo>
                    <a:lnTo>
                      <a:pt x="98" y="1088"/>
                    </a:lnTo>
                    <a:lnTo>
                      <a:pt x="112" y="1077"/>
                    </a:lnTo>
                    <a:lnTo>
                      <a:pt x="127" y="1065"/>
                    </a:lnTo>
                    <a:lnTo>
                      <a:pt x="143" y="1054"/>
                    </a:lnTo>
                    <a:lnTo>
                      <a:pt x="159" y="1044"/>
                    </a:lnTo>
                    <a:lnTo>
                      <a:pt x="175" y="1034"/>
                    </a:lnTo>
                    <a:lnTo>
                      <a:pt x="192" y="1026"/>
                    </a:lnTo>
                    <a:lnTo>
                      <a:pt x="209" y="1018"/>
                    </a:lnTo>
                    <a:lnTo>
                      <a:pt x="228" y="1011"/>
                    </a:lnTo>
                    <a:lnTo>
                      <a:pt x="246" y="1005"/>
                    </a:lnTo>
                    <a:lnTo>
                      <a:pt x="264" y="999"/>
                    </a:lnTo>
                    <a:lnTo>
                      <a:pt x="284" y="994"/>
                    </a:lnTo>
                    <a:lnTo>
                      <a:pt x="304" y="990"/>
                    </a:lnTo>
                    <a:lnTo>
                      <a:pt x="322" y="986"/>
                    </a:lnTo>
                    <a:lnTo>
                      <a:pt x="342" y="984"/>
                    </a:lnTo>
                    <a:lnTo>
                      <a:pt x="363" y="983"/>
                    </a:lnTo>
                    <a:lnTo>
                      <a:pt x="382" y="983"/>
                    </a:lnTo>
                    <a:lnTo>
                      <a:pt x="402" y="984"/>
                    </a:lnTo>
                    <a:lnTo>
                      <a:pt x="422" y="985"/>
                    </a:lnTo>
                    <a:lnTo>
                      <a:pt x="442" y="988"/>
                    </a:lnTo>
                    <a:lnTo>
                      <a:pt x="461" y="991"/>
                    </a:lnTo>
                    <a:close/>
                    <a:moveTo>
                      <a:pt x="2444" y="904"/>
                    </a:moveTo>
                    <a:lnTo>
                      <a:pt x="2424" y="906"/>
                    </a:lnTo>
                    <a:lnTo>
                      <a:pt x="2406" y="910"/>
                    </a:lnTo>
                    <a:lnTo>
                      <a:pt x="2387" y="915"/>
                    </a:lnTo>
                    <a:lnTo>
                      <a:pt x="2369" y="920"/>
                    </a:lnTo>
                    <a:lnTo>
                      <a:pt x="2352" y="926"/>
                    </a:lnTo>
                    <a:lnTo>
                      <a:pt x="2336" y="933"/>
                    </a:lnTo>
                    <a:lnTo>
                      <a:pt x="2320" y="941"/>
                    </a:lnTo>
                    <a:lnTo>
                      <a:pt x="2305" y="949"/>
                    </a:lnTo>
                    <a:lnTo>
                      <a:pt x="2290" y="959"/>
                    </a:lnTo>
                    <a:lnTo>
                      <a:pt x="2277" y="969"/>
                    </a:lnTo>
                    <a:lnTo>
                      <a:pt x="2263" y="980"/>
                    </a:lnTo>
                    <a:lnTo>
                      <a:pt x="2251" y="993"/>
                    </a:lnTo>
                    <a:lnTo>
                      <a:pt x="2238" y="1005"/>
                    </a:lnTo>
                    <a:lnTo>
                      <a:pt x="2227" y="1017"/>
                    </a:lnTo>
                    <a:lnTo>
                      <a:pt x="2218" y="1031"/>
                    </a:lnTo>
                    <a:lnTo>
                      <a:pt x="2208" y="1044"/>
                    </a:lnTo>
                    <a:lnTo>
                      <a:pt x="2198" y="1059"/>
                    </a:lnTo>
                    <a:lnTo>
                      <a:pt x="2190" y="1074"/>
                    </a:lnTo>
                    <a:lnTo>
                      <a:pt x="2182" y="1090"/>
                    </a:lnTo>
                    <a:lnTo>
                      <a:pt x="2176" y="1106"/>
                    </a:lnTo>
                    <a:lnTo>
                      <a:pt x="2170" y="1122"/>
                    </a:lnTo>
                    <a:lnTo>
                      <a:pt x="2163" y="1139"/>
                    </a:lnTo>
                    <a:lnTo>
                      <a:pt x="2158" y="1156"/>
                    </a:lnTo>
                    <a:lnTo>
                      <a:pt x="2155" y="1173"/>
                    </a:lnTo>
                    <a:lnTo>
                      <a:pt x="2151" y="1191"/>
                    </a:lnTo>
                    <a:lnTo>
                      <a:pt x="2149" y="1209"/>
                    </a:lnTo>
                    <a:lnTo>
                      <a:pt x="2146" y="1227"/>
                    </a:lnTo>
                    <a:lnTo>
                      <a:pt x="2145" y="1246"/>
                    </a:lnTo>
                    <a:lnTo>
                      <a:pt x="2144" y="1264"/>
                    </a:lnTo>
                    <a:lnTo>
                      <a:pt x="2144" y="1284"/>
                    </a:lnTo>
                    <a:lnTo>
                      <a:pt x="2145" y="1302"/>
                    </a:lnTo>
                    <a:lnTo>
                      <a:pt x="2146" y="1321"/>
                    </a:lnTo>
                    <a:lnTo>
                      <a:pt x="2149" y="1341"/>
                    </a:lnTo>
                    <a:lnTo>
                      <a:pt x="2152" y="1359"/>
                    </a:lnTo>
                    <a:lnTo>
                      <a:pt x="2156" y="1379"/>
                    </a:lnTo>
                    <a:lnTo>
                      <a:pt x="2161" y="1397"/>
                    </a:lnTo>
                    <a:lnTo>
                      <a:pt x="2166" y="1414"/>
                    </a:lnTo>
                    <a:lnTo>
                      <a:pt x="2173" y="1433"/>
                    </a:lnTo>
                    <a:lnTo>
                      <a:pt x="2179" y="1450"/>
                    </a:lnTo>
                    <a:lnTo>
                      <a:pt x="2187" y="1467"/>
                    </a:lnTo>
                    <a:lnTo>
                      <a:pt x="2195" y="1485"/>
                    </a:lnTo>
                    <a:lnTo>
                      <a:pt x="2204" y="1501"/>
                    </a:lnTo>
                    <a:lnTo>
                      <a:pt x="2214" y="1517"/>
                    </a:lnTo>
                    <a:lnTo>
                      <a:pt x="2224" y="1532"/>
                    </a:lnTo>
                    <a:lnTo>
                      <a:pt x="2235" y="1547"/>
                    </a:lnTo>
                    <a:lnTo>
                      <a:pt x="2246" y="1561"/>
                    </a:lnTo>
                    <a:lnTo>
                      <a:pt x="2257" y="1576"/>
                    </a:lnTo>
                    <a:lnTo>
                      <a:pt x="2269" y="1588"/>
                    </a:lnTo>
                    <a:lnTo>
                      <a:pt x="2283" y="1600"/>
                    </a:lnTo>
                    <a:lnTo>
                      <a:pt x="2295" y="1612"/>
                    </a:lnTo>
                    <a:lnTo>
                      <a:pt x="2309" y="1624"/>
                    </a:lnTo>
                    <a:lnTo>
                      <a:pt x="2323" y="1633"/>
                    </a:lnTo>
                    <a:lnTo>
                      <a:pt x="2337" y="1643"/>
                    </a:lnTo>
                    <a:lnTo>
                      <a:pt x="2352" y="1652"/>
                    </a:lnTo>
                    <a:lnTo>
                      <a:pt x="2368" y="1659"/>
                    </a:lnTo>
                    <a:lnTo>
                      <a:pt x="2382" y="1667"/>
                    </a:lnTo>
                    <a:lnTo>
                      <a:pt x="2398" y="1673"/>
                    </a:lnTo>
                    <a:lnTo>
                      <a:pt x="2414" y="1678"/>
                    </a:lnTo>
                    <a:lnTo>
                      <a:pt x="2432" y="1681"/>
                    </a:lnTo>
                    <a:lnTo>
                      <a:pt x="2448" y="1685"/>
                    </a:lnTo>
                    <a:lnTo>
                      <a:pt x="2465" y="1686"/>
                    </a:lnTo>
                    <a:lnTo>
                      <a:pt x="2482" y="1687"/>
                    </a:lnTo>
                    <a:lnTo>
                      <a:pt x="2498" y="1687"/>
                    </a:lnTo>
                    <a:lnTo>
                      <a:pt x="2516" y="1686"/>
                    </a:lnTo>
                    <a:lnTo>
                      <a:pt x="2534" y="1684"/>
                    </a:lnTo>
                    <a:lnTo>
                      <a:pt x="2550" y="1680"/>
                    </a:lnTo>
                    <a:lnTo>
                      <a:pt x="2567" y="1675"/>
                    </a:lnTo>
                    <a:lnTo>
                      <a:pt x="2583" y="1669"/>
                    </a:lnTo>
                    <a:lnTo>
                      <a:pt x="2600" y="1662"/>
                    </a:lnTo>
                    <a:lnTo>
                      <a:pt x="2615" y="1654"/>
                    </a:lnTo>
                    <a:lnTo>
                      <a:pt x="2631" y="1646"/>
                    </a:lnTo>
                    <a:lnTo>
                      <a:pt x="2646" y="1636"/>
                    </a:lnTo>
                    <a:lnTo>
                      <a:pt x="2660" y="1625"/>
                    </a:lnTo>
                    <a:lnTo>
                      <a:pt x="2675" y="1614"/>
                    </a:lnTo>
                    <a:lnTo>
                      <a:pt x="2689" y="1601"/>
                    </a:lnTo>
                    <a:lnTo>
                      <a:pt x="2702" y="1588"/>
                    </a:lnTo>
                    <a:lnTo>
                      <a:pt x="2716" y="1574"/>
                    </a:lnTo>
                    <a:lnTo>
                      <a:pt x="2728" y="1560"/>
                    </a:lnTo>
                    <a:lnTo>
                      <a:pt x="2740" y="1545"/>
                    </a:lnTo>
                    <a:lnTo>
                      <a:pt x="2753" y="1530"/>
                    </a:lnTo>
                    <a:lnTo>
                      <a:pt x="2764" y="1514"/>
                    </a:lnTo>
                    <a:lnTo>
                      <a:pt x="2775" y="1497"/>
                    </a:lnTo>
                    <a:lnTo>
                      <a:pt x="2786" y="1480"/>
                    </a:lnTo>
                    <a:lnTo>
                      <a:pt x="2796" y="1462"/>
                    </a:lnTo>
                    <a:lnTo>
                      <a:pt x="2814" y="1427"/>
                    </a:lnTo>
                    <a:lnTo>
                      <a:pt x="2830" y="1390"/>
                    </a:lnTo>
                    <a:lnTo>
                      <a:pt x="2844" y="1352"/>
                    </a:lnTo>
                    <a:lnTo>
                      <a:pt x="2856" y="1312"/>
                    </a:lnTo>
                    <a:lnTo>
                      <a:pt x="2864" y="1274"/>
                    </a:lnTo>
                    <a:lnTo>
                      <a:pt x="2871" y="1236"/>
                    </a:lnTo>
                    <a:lnTo>
                      <a:pt x="2873" y="1216"/>
                    </a:lnTo>
                    <a:lnTo>
                      <a:pt x="2873" y="1198"/>
                    </a:lnTo>
                    <a:lnTo>
                      <a:pt x="2872" y="1179"/>
                    </a:lnTo>
                    <a:lnTo>
                      <a:pt x="2869" y="1162"/>
                    </a:lnTo>
                    <a:lnTo>
                      <a:pt x="2866" y="1144"/>
                    </a:lnTo>
                    <a:lnTo>
                      <a:pt x="2861" y="1127"/>
                    </a:lnTo>
                    <a:lnTo>
                      <a:pt x="2853" y="1111"/>
                    </a:lnTo>
                    <a:lnTo>
                      <a:pt x="2846" y="1095"/>
                    </a:lnTo>
                    <a:lnTo>
                      <a:pt x="2837" y="1079"/>
                    </a:lnTo>
                    <a:lnTo>
                      <a:pt x="2828" y="1064"/>
                    </a:lnTo>
                    <a:lnTo>
                      <a:pt x="2816" y="1049"/>
                    </a:lnTo>
                    <a:lnTo>
                      <a:pt x="2804" y="1034"/>
                    </a:lnTo>
                    <a:lnTo>
                      <a:pt x="2792" y="1021"/>
                    </a:lnTo>
                    <a:lnTo>
                      <a:pt x="2778" y="1009"/>
                    </a:lnTo>
                    <a:lnTo>
                      <a:pt x="2764" y="996"/>
                    </a:lnTo>
                    <a:lnTo>
                      <a:pt x="2748" y="984"/>
                    </a:lnTo>
                    <a:lnTo>
                      <a:pt x="2732" y="973"/>
                    </a:lnTo>
                    <a:lnTo>
                      <a:pt x="2716" y="963"/>
                    </a:lnTo>
                    <a:lnTo>
                      <a:pt x="2698" y="953"/>
                    </a:lnTo>
                    <a:lnTo>
                      <a:pt x="2680" y="945"/>
                    </a:lnTo>
                    <a:lnTo>
                      <a:pt x="2662" y="936"/>
                    </a:lnTo>
                    <a:lnTo>
                      <a:pt x="2643" y="930"/>
                    </a:lnTo>
                    <a:lnTo>
                      <a:pt x="2625" y="922"/>
                    </a:lnTo>
                    <a:lnTo>
                      <a:pt x="2605" y="917"/>
                    </a:lnTo>
                    <a:lnTo>
                      <a:pt x="2585" y="913"/>
                    </a:lnTo>
                    <a:lnTo>
                      <a:pt x="2566" y="908"/>
                    </a:lnTo>
                    <a:lnTo>
                      <a:pt x="2545" y="905"/>
                    </a:lnTo>
                    <a:lnTo>
                      <a:pt x="2525" y="903"/>
                    </a:lnTo>
                    <a:lnTo>
                      <a:pt x="2504" y="902"/>
                    </a:lnTo>
                    <a:lnTo>
                      <a:pt x="2484" y="902"/>
                    </a:lnTo>
                    <a:lnTo>
                      <a:pt x="2464" y="902"/>
                    </a:lnTo>
                    <a:lnTo>
                      <a:pt x="2444" y="904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695376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18" h="386">
                    <a:moveTo>
                      <a:pt x="318" y="386"/>
                    </a:moveTo>
                    <a:lnTo>
                      <a:pt x="318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5" y="327"/>
                    </a:lnTo>
                    <a:lnTo>
                      <a:pt x="312" y="307"/>
                    </a:lnTo>
                    <a:lnTo>
                      <a:pt x="309" y="289"/>
                    </a:lnTo>
                    <a:lnTo>
                      <a:pt x="305" y="270"/>
                    </a:lnTo>
                    <a:lnTo>
                      <a:pt x="300" y="253"/>
                    </a:lnTo>
                    <a:lnTo>
                      <a:pt x="295" y="235"/>
                    </a:lnTo>
                    <a:lnTo>
                      <a:pt x="288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6" y="169"/>
                    </a:lnTo>
                    <a:lnTo>
                      <a:pt x="257" y="155"/>
                    </a:lnTo>
                    <a:lnTo>
                      <a:pt x="248" y="140"/>
                    </a:lnTo>
                    <a:lnTo>
                      <a:pt x="238" y="126"/>
                    </a:lnTo>
                    <a:lnTo>
                      <a:pt x="227" y="113"/>
                    </a:lnTo>
                    <a:lnTo>
                      <a:pt x="216" y="101"/>
                    </a:lnTo>
                    <a:lnTo>
                      <a:pt x="205" y="88"/>
                    </a:lnTo>
                    <a:lnTo>
                      <a:pt x="193" y="76"/>
                    </a:lnTo>
                    <a:lnTo>
                      <a:pt x="181" y="66"/>
                    </a:lnTo>
                    <a:lnTo>
                      <a:pt x="167" y="55"/>
                    </a:lnTo>
                    <a:lnTo>
                      <a:pt x="154" y="46"/>
                    </a:lnTo>
                    <a:lnTo>
                      <a:pt x="140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6" y="17"/>
                    </a:lnTo>
                    <a:lnTo>
                      <a:pt x="81" y="12"/>
                    </a:lnTo>
                    <a:lnTo>
                      <a:pt x="65" y="7"/>
                    </a:lnTo>
                    <a:lnTo>
                      <a:pt x="49" y="3"/>
                    </a:lnTo>
                    <a:lnTo>
                      <a:pt x="33" y="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9"/>
                    </a:lnTo>
                    <a:lnTo>
                      <a:pt x="27" y="50"/>
                    </a:lnTo>
                    <a:lnTo>
                      <a:pt x="40" y="51"/>
                    </a:lnTo>
                    <a:lnTo>
                      <a:pt x="54" y="55"/>
                    </a:lnTo>
                    <a:lnTo>
                      <a:pt x="66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5" y="80"/>
                    </a:lnTo>
                    <a:lnTo>
                      <a:pt x="128" y="87"/>
                    </a:lnTo>
                    <a:lnTo>
                      <a:pt x="139" y="94"/>
                    </a:lnTo>
                    <a:lnTo>
                      <a:pt x="150" y="103"/>
                    </a:lnTo>
                    <a:lnTo>
                      <a:pt x="160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89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5" y="179"/>
                    </a:lnTo>
                    <a:lnTo>
                      <a:pt x="224" y="193"/>
                    </a:lnTo>
                    <a:lnTo>
                      <a:pt x="230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48" y="251"/>
                    </a:lnTo>
                    <a:lnTo>
                      <a:pt x="253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4" y="316"/>
                    </a:lnTo>
                    <a:lnTo>
                      <a:pt x="267" y="333"/>
                    </a:lnTo>
                    <a:lnTo>
                      <a:pt x="268" y="350"/>
                    </a:lnTo>
                    <a:lnTo>
                      <a:pt x="269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18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695376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18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6" y="379"/>
                    </a:lnTo>
                    <a:lnTo>
                      <a:pt x="33" y="378"/>
                    </a:lnTo>
                    <a:lnTo>
                      <a:pt x="49" y="375"/>
                    </a:lnTo>
                    <a:lnTo>
                      <a:pt x="65" y="371"/>
                    </a:lnTo>
                    <a:lnTo>
                      <a:pt x="81" y="366"/>
                    </a:lnTo>
                    <a:lnTo>
                      <a:pt x="96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0" y="341"/>
                    </a:lnTo>
                    <a:lnTo>
                      <a:pt x="154" y="332"/>
                    </a:lnTo>
                    <a:lnTo>
                      <a:pt x="167" y="323"/>
                    </a:lnTo>
                    <a:lnTo>
                      <a:pt x="181" y="312"/>
                    </a:lnTo>
                    <a:lnTo>
                      <a:pt x="193" y="303"/>
                    </a:lnTo>
                    <a:lnTo>
                      <a:pt x="205" y="290"/>
                    </a:lnTo>
                    <a:lnTo>
                      <a:pt x="216" y="279"/>
                    </a:lnTo>
                    <a:lnTo>
                      <a:pt x="227" y="266"/>
                    </a:lnTo>
                    <a:lnTo>
                      <a:pt x="237" y="253"/>
                    </a:lnTo>
                    <a:lnTo>
                      <a:pt x="247" y="239"/>
                    </a:lnTo>
                    <a:lnTo>
                      <a:pt x="257" y="225"/>
                    </a:lnTo>
                    <a:lnTo>
                      <a:pt x="266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8" y="162"/>
                    </a:lnTo>
                    <a:lnTo>
                      <a:pt x="294" y="145"/>
                    </a:lnTo>
                    <a:lnTo>
                      <a:pt x="300" y="128"/>
                    </a:lnTo>
                    <a:lnTo>
                      <a:pt x="305" y="111"/>
                    </a:lnTo>
                    <a:lnTo>
                      <a:pt x="309" y="93"/>
                    </a:lnTo>
                    <a:lnTo>
                      <a:pt x="312" y="75"/>
                    </a:lnTo>
                    <a:lnTo>
                      <a:pt x="315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18" y="0"/>
                    </a:lnTo>
                    <a:lnTo>
                      <a:pt x="270" y="0"/>
                    </a:lnTo>
                    <a:lnTo>
                      <a:pt x="269" y="17"/>
                    </a:lnTo>
                    <a:lnTo>
                      <a:pt x="268" y="34"/>
                    </a:lnTo>
                    <a:lnTo>
                      <a:pt x="267" y="50"/>
                    </a:lnTo>
                    <a:lnTo>
                      <a:pt x="264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3" y="114"/>
                    </a:lnTo>
                    <a:lnTo>
                      <a:pt x="248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0" y="172"/>
                    </a:lnTo>
                    <a:lnTo>
                      <a:pt x="224" y="186"/>
                    </a:lnTo>
                    <a:lnTo>
                      <a:pt x="215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0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39" y="284"/>
                    </a:lnTo>
                    <a:lnTo>
                      <a:pt x="128" y="291"/>
                    </a:lnTo>
                    <a:lnTo>
                      <a:pt x="115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6" y="321"/>
                    </a:lnTo>
                    <a:lnTo>
                      <a:pt x="54" y="325"/>
                    </a:lnTo>
                    <a:lnTo>
                      <a:pt x="40" y="327"/>
                    </a:lnTo>
                    <a:lnTo>
                      <a:pt x="27" y="330"/>
                    </a:lnTo>
                    <a:lnTo>
                      <a:pt x="13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8328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0"/>
                    </a:moveTo>
                    <a:lnTo>
                      <a:pt x="0" y="0"/>
                    </a:lnTo>
                    <a:lnTo>
                      <a:pt x="1" y="18"/>
                    </a:lnTo>
                    <a:lnTo>
                      <a:pt x="1" y="38"/>
                    </a:lnTo>
                    <a:lnTo>
                      <a:pt x="4" y="57"/>
                    </a:lnTo>
                    <a:lnTo>
                      <a:pt x="6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5" y="145"/>
                    </a:lnTo>
                    <a:lnTo>
                      <a:pt x="31" y="162"/>
                    </a:lnTo>
                    <a:lnTo>
                      <a:pt x="37" y="178"/>
                    </a:lnTo>
                    <a:lnTo>
                      <a:pt x="46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1" y="239"/>
                    </a:lnTo>
                    <a:lnTo>
                      <a:pt x="81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3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1" y="323"/>
                    </a:lnTo>
                    <a:lnTo>
                      <a:pt x="165" y="332"/>
                    </a:lnTo>
                    <a:lnTo>
                      <a:pt x="178" y="341"/>
                    </a:lnTo>
                    <a:lnTo>
                      <a:pt x="193" y="349"/>
                    </a:lnTo>
                    <a:lnTo>
                      <a:pt x="208" y="355"/>
                    </a:lnTo>
                    <a:lnTo>
                      <a:pt x="223" y="362"/>
                    </a:lnTo>
                    <a:lnTo>
                      <a:pt x="237" y="366"/>
                    </a:lnTo>
                    <a:lnTo>
                      <a:pt x="253" y="371"/>
                    </a:lnTo>
                    <a:lnTo>
                      <a:pt x="269" y="375"/>
                    </a:lnTo>
                    <a:lnTo>
                      <a:pt x="287" y="378"/>
                    </a:lnTo>
                    <a:lnTo>
                      <a:pt x="303" y="379"/>
                    </a:lnTo>
                    <a:lnTo>
                      <a:pt x="320" y="380"/>
                    </a:lnTo>
                    <a:lnTo>
                      <a:pt x="320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6" y="325"/>
                    </a:lnTo>
                    <a:lnTo>
                      <a:pt x="252" y="321"/>
                    </a:lnTo>
                    <a:lnTo>
                      <a:pt x="240" y="316"/>
                    </a:lnTo>
                    <a:lnTo>
                      <a:pt x="228" y="311"/>
                    </a:lnTo>
                    <a:lnTo>
                      <a:pt x="215" y="305"/>
                    </a:lnTo>
                    <a:lnTo>
                      <a:pt x="203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9" y="266"/>
                    </a:lnTo>
                    <a:lnTo>
                      <a:pt x="149" y="257"/>
                    </a:lnTo>
                    <a:lnTo>
                      <a:pt x="138" y="246"/>
                    </a:lnTo>
                    <a:lnTo>
                      <a:pt x="129" y="235"/>
                    </a:lnTo>
                    <a:lnTo>
                      <a:pt x="119" y="224"/>
                    </a:lnTo>
                    <a:lnTo>
                      <a:pt x="111" y="212"/>
                    </a:lnTo>
                    <a:lnTo>
                      <a:pt x="103" y="199"/>
                    </a:lnTo>
                    <a:lnTo>
                      <a:pt x="96" y="186"/>
                    </a:lnTo>
                    <a:lnTo>
                      <a:pt x="89" y="172"/>
                    </a:lnTo>
                    <a:lnTo>
                      <a:pt x="82" y="159"/>
                    </a:lnTo>
                    <a:lnTo>
                      <a:pt x="76" y="144"/>
                    </a:lnTo>
                    <a:lnTo>
                      <a:pt x="70" y="129"/>
                    </a:lnTo>
                    <a:lnTo>
                      <a:pt x="65" y="114"/>
                    </a:lnTo>
                    <a:lnTo>
                      <a:pt x="62" y="100"/>
                    </a:lnTo>
                    <a:lnTo>
                      <a:pt x="58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1" y="34"/>
                    </a:lnTo>
                    <a:lnTo>
                      <a:pt x="49" y="1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68328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0"/>
                    </a:moveTo>
                    <a:lnTo>
                      <a:pt x="320" y="0"/>
                    </a:lnTo>
                    <a:lnTo>
                      <a:pt x="303" y="0"/>
                    </a:lnTo>
                    <a:lnTo>
                      <a:pt x="287" y="1"/>
                    </a:lnTo>
                    <a:lnTo>
                      <a:pt x="269" y="3"/>
                    </a:lnTo>
                    <a:lnTo>
                      <a:pt x="253" y="7"/>
                    </a:lnTo>
                    <a:lnTo>
                      <a:pt x="237" y="12"/>
                    </a:lnTo>
                    <a:lnTo>
                      <a:pt x="223" y="17"/>
                    </a:lnTo>
                    <a:lnTo>
                      <a:pt x="208" y="23"/>
                    </a:lnTo>
                    <a:lnTo>
                      <a:pt x="193" y="29"/>
                    </a:lnTo>
                    <a:lnTo>
                      <a:pt x="178" y="38"/>
                    </a:lnTo>
                    <a:lnTo>
                      <a:pt x="165" y="46"/>
                    </a:lnTo>
                    <a:lnTo>
                      <a:pt x="151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3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1" y="126"/>
                    </a:lnTo>
                    <a:lnTo>
                      <a:pt x="71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6" y="185"/>
                    </a:lnTo>
                    <a:lnTo>
                      <a:pt x="37" y="201"/>
                    </a:lnTo>
                    <a:lnTo>
                      <a:pt x="31" y="219"/>
                    </a:lnTo>
                    <a:lnTo>
                      <a:pt x="25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6" y="307"/>
                    </a:lnTo>
                    <a:lnTo>
                      <a:pt x="4" y="327"/>
                    </a:lnTo>
                    <a:lnTo>
                      <a:pt x="1" y="347"/>
                    </a:lnTo>
                    <a:lnTo>
                      <a:pt x="1" y="366"/>
                    </a:lnTo>
                    <a:lnTo>
                      <a:pt x="0" y="386"/>
                    </a:lnTo>
                    <a:lnTo>
                      <a:pt x="49" y="386"/>
                    </a:lnTo>
                    <a:lnTo>
                      <a:pt x="49" y="368"/>
                    </a:lnTo>
                    <a:lnTo>
                      <a:pt x="51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5" y="267"/>
                    </a:lnTo>
                    <a:lnTo>
                      <a:pt x="70" y="251"/>
                    </a:lnTo>
                    <a:lnTo>
                      <a:pt x="76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6" y="193"/>
                    </a:lnTo>
                    <a:lnTo>
                      <a:pt x="103" y="179"/>
                    </a:lnTo>
                    <a:lnTo>
                      <a:pt x="112" y="167"/>
                    </a:lnTo>
                    <a:lnTo>
                      <a:pt x="121" y="155"/>
                    </a:lnTo>
                    <a:lnTo>
                      <a:pt x="129" y="144"/>
                    </a:lnTo>
                    <a:lnTo>
                      <a:pt x="139" y="133"/>
                    </a:lnTo>
                    <a:lnTo>
                      <a:pt x="149" y="123"/>
                    </a:lnTo>
                    <a:lnTo>
                      <a:pt x="159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3" y="80"/>
                    </a:lnTo>
                    <a:lnTo>
                      <a:pt x="215" y="74"/>
                    </a:lnTo>
                    <a:lnTo>
                      <a:pt x="226" y="67"/>
                    </a:lnTo>
                    <a:lnTo>
                      <a:pt x="240" y="62"/>
                    </a:lnTo>
                    <a:lnTo>
                      <a:pt x="252" y="58"/>
                    </a:lnTo>
                    <a:lnTo>
                      <a:pt x="266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20" y="48"/>
                    </a:lnTo>
                    <a:lnTo>
                      <a:pt x="320" y="48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6426000" y="2957040"/>
                <a:ext cx="120960" cy="145800"/>
              </a:xfrm>
              <a:custGeom>
                <a:avLst/>
                <a:gdLst/>
                <a:ahLst/>
                <a:rect l="l" t="t" r="r" b="b"/>
                <a:pathLst>
                  <a:path w="320" h="386">
                    <a:moveTo>
                      <a:pt x="320" y="386"/>
                    </a:moveTo>
                    <a:lnTo>
                      <a:pt x="320" y="386"/>
                    </a:lnTo>
                    <a:lnTo>
                      <a:pt x="318" y="366"/>
                    </a:lnTo>
                    <a:lnTo>
                      <a:pt x="317" y="347"/>
                    </a:lnTo>
                    <a:lnTo>
                      <a:pt x="316" y="327"/>
                    </a:lnTo>
                    <a:lnTo>
                      <a:pt x="314" y="307"/>
                    </a:lnTo>
                    <a:lnTo>
                      <a:pt x="310" y="289"/>
                    </a:lnTo>
                    <a:lnTo>
                      <a:pt x="306" y="270"/>
                    </a:lnTo>
                    <a:lnTo>
                      <a:pt x="301" y="253"/>
                    </a:lnTo>
                    <a:lnTo>
                      <a:pt x="295" y="235"/>
                    </a:lnTo>
                    <a:lnTo>
                      <a:pt x="289" y="219"/>
                    </a:lnTo>
                    <a:lnTo>
                      <a:pt x="282" y="201"/>
                    </a:lnTo>
                    <a:lnTo>
                      <a:pt x="274" y="185"/>
                    </a:lnTo>
                    <a:lnTo>
                      <a:pt x="267" y="169"/>
                    </a:lnTo>
                    <a:lnTo>
                      <a:pt x="258" y="155"/>
                    </a:lnTo>
                    <a:lnTo>
                      <a:pt x="248" y="140"/>
                    </a:lnTo>
                    <a:lnTo>
                      <a:pt x="239" y="126"/>
                    </a:lnTo>
                    <a:lnTo>
                      <a:pt x="229" y="113"/>
                    </a:lnTo>
                    <a:lnTo>
                      <a:pt x="218" y="101"/>
                    </a:lnTo>
                    <a:lnTo>
                      <a:pt x="205" y="88"/>
                    </a:lnTo>
                    <a:lnTo>
                      <a:pt x="194" y="76"/>
                    </a:lnTo>
                    <a:lnTo>
                      <a:pt x="182" y="66"/>
                    </a:lnTo>
                    <a:lnTo>
                      <a:pt x="168" y="55"/>
                    </a:lnTo>
                    <a:lnTo>
                      <a:pt x="155" y="46"/>
                    </a:lnTo>
                    <a:lnTo>
                      <a:pt x="141" y="38"/>
                    </a:lnTo>
                    <a:lnTo>
                      <a:pt x="127" y="29"/>
                    </a:lnTo>
                    <a:lnTo>
                      <a:pt x="112" y="23"/>
                    </a:lnTo>
                    <a:lnTo>
                      <a:pt x="97" y="17"/>
                    </a:lnTo>
                    <a:lnTo>
                      <a:pt x="81" y="12"/>
                    </a:lnTo>
                    <a:lnTo>
                      <a:pt x="66" y="7"/>
                    </a:lnTo>
                    <a:lnTo>
                      <a:pt x="50" y="3"/>
                    </a:lnTo>
                    <a:lnTo>
                      <a:pt x="33" y="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5" y="49"/>
                    </a:lnTo>
                    <a:lnTo>
                      <a:pt x="28" y="50"/>
                    </a:lnTo>
                    <a:lnTo>
                      <a:pt x="42" y="51"/>
                    </a:lnTo>
                    <a:lnTo>
                      <a:pt x="54" y="55"/>
                    </a:lnTo>
                    <a:lnTo>
                      <a:pt x="68" y="58"/>
                    </a:lnTo>
                    <a:lnTo>
                      <a:pt x="80" y="62"/>
                    </a:lnTo>
                    <a:lnTo>
                      <a:pt x="92" y="67"/>
                    </a:lnTo>
                    <a:lnTo>
                      <a:pt x="104" y="74"/>
                    </a:lnTo>
                    <a:lnTo>
                      <a:pt x="117" y="80"/>
                    </a:lnTo>
                    <a:lnTo>
                      <a:pt x="128" y="87"/>
                    </a:lnTo>
                    <a:lnTo>
                      <a:pt x="140" y="94"/>
                    </a:lnTo>
                    <a:lnTo>
                      <a:pt x="150" y="103"/>
                    </a:lnTo>
                    <a:lnTo>
                      <a:pt x="161" y="113"/>
                    </a:lnTo>
                    <a:lnTo>
                      <a:pt x="171" y="123"/>
                    </a:lnTo>
                    <a:lnTo>
                      <a:pt x="181" y="133"/>
                    </a:lnTo>
                    <a:lnTo>
                      <a:pt x="191" y="144"/>
                    </a:lnTo>
                    <a:lnTo>
                      <a:pt x="199" y="155"/>
                    </a:lnTo>
                    <a:lnTo>
                      <a:pt x="208" y="167"/>
                    </a:lnTo>
                    <a:lnTo>
                      <a:pt x="216" y="179"/>
                    </a:lnTo>
                    <a:lnTo>
                      <a:pt x="224" y="193"/>
                    </a:lnTo>
                    <a:lnTo>
                      <a:pt x="231" y="206"/>
                    </a:lnTo>
                    <a:lnTo>
                      <a:pt x="237" y="221"/>
                    </a:lnTo>
                    <a:lnTo>
                      <a:pt x="243" y="236"/>
                    </a:lnTo>
                    <a:lnTo>
                      <a:pt x="250" y="251"/>
                    </a:lnTo>
                    <a:lnTo>
                      <a:pt x="254" y="267"/>
                    </a:lnTo>
                    <a:lnTo>
                      <a:pt x="258" y="283"/>
                    </a:lnTo>
                    <a:lnTo>
                      <a:pt x="262" y="299"/>
                    </a:lnTo>
                    <a:lnTo>
                      <a:pt x="266" y="316"/>
                    </a:lnTo>
                    <a:lnTo>
                      <a:pt x="268" y="333"/>
                    </a:lnTo>
                    <a:lnTo>
                      <a:pt x="269" y="350"/>
                    </a:lnTo>
                    <a:lnTo>
                      <a:pt x="270" y="368"/>
                    </a:lnTo>
                    <a:lnTo>
                      <a:pt x="270" y="386"/>
                    </a:lnTo>
                    <a:lnTo>
                      <a:pt x="270" y="386"/>
                    </a:lnTo>
                    <a:lnTo>
                      <a:pt x="320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426000" y="3103200"/>
                <a:ext cx="120960" cy="143640"/>
              </a:xfrm>
              <a:custGeom>
                <a:avLst/>
                <a:gdLst/>
                <a:ahLst/>
                <a:rect l="l" t="t" r="r" b="b"/>
                <a:pathLst>
                  <a:path w="320" h="380">
                    <a:moveTo>
                      <a:pt x="0" y="380"/>
                    </a:moveTo>
                    <a:lnTo>
                      <a:pt x="0" y="380"/>
                    </a:lnTo>
                    <a:lnTo>
                      <a:pt x="17" y="379"/>
                    </a:lnTo>
                    <a:lnTo>
                      <a:pt x="33" y="378"/>
                    </a:lnTo>
                    <a:lnTo>
                      <a:pt x="50" y="375"/>
                    </a:lnTo>
                    <a:lnTo>
                      <a:pt x="66" y="371"/>
                    </a:lnTo>
                    <a:lnTo>
                      <a:pt x="81" y="366"/>
                    </a:lnTo>
                    <a:lnTo>
                      <a:pt x="97" y="362"/>
                    </a:lnTo>
                    <a:lnTo>
                      <a:pt x="112" y="355"/>
                    </a:lnTo>
                    <a:lnTo>
                      <a:pt x="127" y="349"/>
                    </a:lnTo>
                    <a:lnTo>
                      <a:pt x="141" y="341"/>
                    </a:lnTo>
                    <a:lnTo>
                      <a:pt x="155" y="332"/>
                    </a:lnTo>
                    <a:lnTo>
                      <a:pt x="168" y="323"/>
                    </a:lnTo>
                    <a:lnTo>
                      <a:pt x="182" y="312"/>
                    </a:lnTo>
                    <a:lnTo>
                      <a:pt x="194" y="303"/>
                    </a:lnTo>
                    <a:lnTo>
                      <a:pt x="205" y="290"/>
                    </a:lnTo>
                    <a:lnTo>
                      <a:pt x="218" y="279"/>
                    </a:lnTo>
                    <a:lnTo>
                      <a:pt x="229" y="266"/>
                    </a:lnTo>
                    <a:lnTo>
                      <a:pt x="239" y="253"/>
                    </a:lnTo>
                    <a:lnTo>
                      <a:pt x="248" y="239"/>
                    </a:lnTo>
                    <a:lnTo>
                      <a:pt x="258" y="225"/>
                    </a:lnTo>
                    <a:lnTo>
                      <a:pt x="267" y="210"/>
                    </a:lnTo>
                    <a:lnTo>
                      <a:pt x="274" y="194"/>
                    </a:lnTo>
                    <a:lnTo>
                      <a:pt x="282" y="178"/>
                    </a:lnTo>
                    <a:lnTo>
                      <a:pt x="289" y="162"/>
                    </a:lnTo>
                    <a:lnTo>
                      <a:pt x="295" y="145"/>
                    </a:lnTo>
                    <a:lnTo>
                      <a:pt x="301" y="128"/>
                    </a:lnTo>
                    <a:lnTo>
                      <a:pt x="306" y="111"/>
                    </a:lnTo>
                    <a:lnTo>
                      <a:pt x="310" y="93"/>
                    </a:lnTo>
                    <a:lnTo>
                      <a:pt x="314" y="75"/>
                    </a:lnTo>
                    <a:lnTo>
                      <a:pt x="316" y="57"/>
                    </a:lnTo>
                    <a:lnTo>
                      <a:pt x="317" y="38"/>
                    </a:lnTo>
                    <a:lnTo>
                      <a:pt x="318" y="18"/>
                    </a:lnTo>
                    <a:lnTo>
                      <a:pt x="320" y="0"/>
                    </a:lnTo>
                    <a:lnTo>
                      <a:pt x="270" y="0"/>
                    </a:lnTo>
                    <a:lnTo>
                      <a:pt x="270" y="17"/>
                    </a:lnTo>
                    <a:lnTo>
                      <a:pt x="269" y="34"/>
                    </a:lnTo>
                    <a:lnTo>
                      <a:pt x="268" y="50"/>
                    </a:lnTo>
                    <a:lnTo>
                      <a:pt x="266" y="68"/>
                    </a:lnTo>
                    <a:lnTo>
                      <a:pt x="262" y="84"/>
                    </a:lnTo>
                    <a:lnTo>
                      <a:pt x="258" y="100"/>
                    </a:lnTo>
                    <a:lnTo>
                      <a:pt x="254" y="114"/>
                    </a:lnTo>
                    <a:lnTo>
                      <a:pt x="250" y="129"/>
                    </a:lnTo>
                    <a:lnTo>
                      <a:pt x="243" y="144"/>
                    </a:lnTo>
                    <a:lnTo>
                      <a:pt x="237" y="159"/>
                    </a:lnTo>
                    <a:lnTo>
                      <a:pt x="231" y="172"/>
                    </a:lnTo>
                    <a:lnTo>
                      <a:pt x="224" y="186"/>
                    </a:lnTo>
                    <a:lnTo>
                      <a:pt x="216" y="199"/>
                    </a:lnTo>
                    <a:lnTo>
                      <a:pt x="208" y="212"/>
                    </a:lnTo>
                    <a:lnTo>
                      <a:pt x="199" y="224"/>
                    </a:lnTo>
                    <a:lnTo>
                      <a:pt x="191" y="235"/>
                    </a:lnTo>
                    <a:lnTo>
                      <a:pt x="181" y="246"/>
                    </a:lnTo>
                    <a:lnTo>
                      <a:pt x="171" y="256"/>
                    </a:lnTo>
                    <a:lnTo>
                      <a:pt x="161" y="266"/>
                    </a:lnTo>
                    <a:lnTo>
                      <a:pt x="150" y="275"/>
                    </a:lnTo>
                    <a:lnTo>
                      <a:pt x="140" y="284"/>
                    </a:lnTo>
                    <a:lnTo>
                      <a:pt x="128" y="291"/>
                    </a:lnTo>
                    <a:lnTo>
                      <a:pt x="117" y="299"/>
                    </a:lnTo>
                    <a:lnTo>
                      <a:pt x="104" y="305"/>
                    </a:lnTo>
                    <a:lnTo>
                      <a:pt x="92" y="311"/>
                    </a:lnTo>
                    <a:lnTo>
                      <a:pt x="80" y="316"/>
                    </a:lnTo>
                    <a:lnTo>
                      <a:pt x="68" y="321"/>
                    </a:lnTo>
                    <a:lnTo>
                      <a:pt x="54" y="325"/>
                    </a:lnTo>
                    <a:lnTo>
                      <a:pt x="42" y="327"/>
                    </a:lnTo>
                    <a:lnTo>
                      <a:pt x="28" y="330"/>
                    </a:lnTo>
                    <a:lnTo>
                      <a:pt x="15" y="331"/>
                    </a:lnTo>
                    <a:lnTo>
                      <a:pt x="0" y="331"/>
                    </a:lnTo>
                    <a:lnTo>
                      <a:pt x="0" y="331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304680" y="3103200"/>
                <a:ext cx="121320" cy="143640"/>
              </a:xfrm>
              <a:custGeom>
                <a:avLst/>
                <a:gdLst/>
                <a:ahLst/>
                <a:rect l="l" t="t" r="r" b="b"/>
                <a:pathLst>
                  <a:path w="319" h="380">
                    <a:moveTo>
                      <a:pt x="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" y="38"/>
                    </a:lnTo>
                    <a:lnTo>
                      <a:pt x="4" y="57"/>
                    </a:lnTo>
                    <a:lnTo>
                      <a:pt x="7" y="75"/>
                    </a:lnTo>
                    <a:lnTo>
                      <a:pt x="10" y="93"/>
                    </a:lnTo>
                    <a:lnTo>
                      <a:pt x="14" y="111"/>
                    </a:lnTo>
                    <a:lnTo>
                      <a:pt x="19" y="128"/>
                    </a:lnTo>
                    <a:lnTo>
                      <a:pt x="24" y="145"/>
                    </a:lnTo>
                    <a:lnTo>
                      <a:pt x="30" y="162"/>
                    </a:lnTo>
                    <a:lnTo>
                      <a:pt x="37" y="178"/>
                    </a:lnTo>
                    <a:lnTo>
                      <a:pt x="45" y="194"/>
                    </a:lnTo>
                    <a:lnTo>
                      <a:pt x="53" y="210"/>
                    </a:lnTo>
                    <a:lnTo>
                      <a:pt x="62" y="225"/>
                    </a:lnTo>
                    <a:lnTo>
                      <a:pt x="70" y="239"/>
                    </a:lnTo>
                    <a:lnTo>
                      <a:pt x="80" y="253"/>
                    </a:lnTo>
                    <a:lnTo>
                      <a:pt x="91" y="266"/>
                    </a:lnTo>
                    <a:lnTo>
                      <a:pt x="102" y="279"/>
                    </a:lnTo>
                    <a:lnTo>
                      <a:pt x="114" y="290"/>
                    </a:lnTo>
                    <a:lnTo>
                      <a:pt x="126" y="303"/>
                    </a:lnTo>
                    <a:lnTo>
                      <a:pt x="138" y="312"/>
                    </a:lnTo>
                    <a:lnTo>
                      <a:pt x="150" y="323"/>
                    </a:lnTo>
                    <a:lnTo>
                      <a:pt x="164" y="332"/>
                    </a:lnTo>
                    <a:lnTo>
                      <a:pt x="179" y="341"/>
                    </a:lnTo>
                    <a:lnTo>
                      <a:pt x="192" y="349"/>
                    </a:lnTo>
                    <a:lnTo>
                      <a:pt x="207" y="355"/>
                    </a:lnTo>
                    <a:lnTo>
                      <a:pt x="222" y="362"/>
                    </a:lnTo>
                    <a:lnTo>
                      <a:pt x="238" y="366"/>
                    </a:lnTo>
                    <a:lnTo>
                      <a:pt x="254" y="371"/>
                    </a:lnTo>
                    <a:lnTo>
                      <a:pt x="270" y="375"/>
                    </a:lnTo>
                    <a:lnTo>
                      <a:pt x="286" y="378"/>
                    </a:lnTo>
                    <a:lnTo>
                      <a:pt x="303" y="379"/>
                    </a:lnTo>
                    <a:lnTo>
                      <a:pt x="319" y="380"/>
                    </a:lnTo>
                    <a:lnTo>
                      <a:pt x="319" y="331"/>
                    </a:lnTo>
                    <a:lnTo>
                      <a:pt x="305" y="331"/>
                    </a:lnTo>
                    <a:lnTo>
                      <a:pt x="292" y="330"/>
                    </a:lnTo>
                    <a:lnTo>
                      <a:pt x="278" y="327"/>
                    </a:lnTo>
                    <a:lnTo>
                      <a:pt x="265" y="325"/>
                    </a:lnTo>
                    <a:lnTo>
                      <a:pt x="252" y="321"/>
                    </a:lnTo>
                    <a:lnTo>
                      <a:pt x="239" y="316"/>
                    </a:lnTo>
                    <a:lnTo>
                      <a:pt x="227" y="311"/>
                    </a:lnTo>
                    <a:lnTo>
                      <a:pt x="214" y="305"/>
                    </a:lnTo>
                    <a:lnTo>
                      <a:pt x="202" y="299"/>
                    </a:lnTo>
                    <a:lnTo>
                      <a:pt x="191" y="291"/>
                    </a:lnTo>
                    <a:lnTo>
                      <a:pt x="180" y="284"/>
                    </a:lnTo>
                    <a:lnTo>
                      <a:pt x="169" y="275"/>
                    </a:lnTo>
                    <a:lnTo>
                      <a:pt x="158" y="266"/>
                    </a:lnTo>
                    <a:lnTo>
                      <a:pt x="148" y="257"/>
                    </a:lnTo>
                    <a:lnTo>
                      <a:pt x="138" y="246"/>
                    </a:lnTo>
                    <a:lnTo>
                      <a:pt x="128" y="235"/>
                    </a:lnTo>
                    <a:lnTo>
                      <a:pt x="120" y="224"/>
                    </a:lnTo>
                    <a:lnTo>
                      <a:pt x="111" y="212"/>
                    </a:lnTo>
                    <a:lnTo>
                      <a:pt x="104" y="199"/>
                    </a:lnTo>
                    <a:lnTo>
                      <a:pt x="95" y="186"/>
                    </a:lnTo>
                    <a:lnTo>
                      <a:pt x="88" y="172"/>
                    </a:lnTo>
                    <a:lnTo>
                      <a:pt x="82" y="159"/>
                    </a:lnTo>
                    <a:lnTo>
                      <a:pt x="75" y="144"/>
                    </a:lnTo>
                    <a:lnTo>
                      <a:pt x="70" y="129"/>
                    </a:lnTo>
                    <a:lnTo>
                      <a:pt x="66" y="114"/>
                    </a:lnTo>
                    <a:lnTo>
                      <a:pt x="61" y="100"/>
                    </a:lnTo>
                    <a:lnTo>
                      <a:pt x="57" y="84"/>
                    </a:lnTo>
                    <a:lnTo>
                      <a:pt x="54" y="68"/>
                    </a:lnTo>
                    <a:lnTo>
                      <a:pt x="52" y="50"/>
                    </a:lnTo>
                    <a:lnTo>
                      <a:pt x="50" y="34"/>
                    </a:lnTo>
                    <a:lnTo>
                      <a:pt x="50" y="17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6304680" y="2957040"/>
                <a:ext cx="121320" cy="14580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19" y="0"/>
                    </a:moveTo>
                    <a:lnTo>
                      <a:pt x="319" y="0"/>
                    </a:lnTo>
                    <a:lnTo>
                      <a:pt x="303" y="0"/>
                    </a:lnTo>
                    <a:lnTo>
                      <a:pt x="286" y="1"/>
                    </a:lnTo>
                    <a:lnTo>
                      <a:pt x="270" y="3"/>
                    </a:lnTo>
                    <a:lnTo>
                      <a:pt x="254" y="7"/>
                    </a:lnTo>
                    <a:lnTo>
                      <a:pt x="238" y="12"/>
                    </a:lnTo>
                    <a:lnTo>
                      <a:pt x="222" y="17"/>
                    </a:lnTo>
                    <a:lnTo>
                      <a:pt x="207" y="23"/>
                    </a:lnTo>
                    <a:lnTo>
                      <a:pt x="192" y="29"/>
                    </a:lnTo>
                    <a:lnTo>
                      <a:pt x="179" y="38"/>
                    </a:lnTo>
                    <a:lnTo>
                      <a:pt x="164" y="46"/>
                    </a:lnTo>
                    <a:lnTo>
                      <a:pt x="150" y="55"/>
                    </a:lnTo>
                    <a:lnTo>
                      <a:pt x="138" y="66"/>
                    </a:lnTo>
                    <a:lnTo>
                      <a:pt x="126" y="76"/>
                    </a:lnTo>
                    <a:lnTo>
                      <a:pt x="114" y="88"/>
                    </a:lnTo>
                    <a:lnTo>
                      <a:pt x="102" y="101"/>
                    </a:lnTo>
                    <a:lnTo>
                      <a:pt x="91" y="113"/>
                    </a:lnTo>
                    <a:lnTo>
                      <a:pt x="80" y="126"/>
                    </a:lnTo>
                    <a:lnTo>
                      <a:pt x="70" y="140"/>
                    </a:lnTo>
                    <a:lnTo>
                      <a:pt x="62" y="155"/>
                    </a:lnTo>
                    <a:lnTo>
                      <a:pt x="53" y="169"/>
                    </a:lnTo>
                    <a:lnTo>
                      <a:pt x="45" y="185"/>
                    </a:lnTo>
                    <a:lnTo>
                      <a:pt x="37" y="201"/>
                    </a:lnTo>
                    <a:lnTo>
                      <a:pt x="30" y="219"/>
                    </a:lnTo>
                    <a:lnTo>
                      <a:pt x="24" y="235"/>
                    </a:lnTo>
                    <a:lnTo>
                      <a:pt x="19" y="253"/>
                    </a:lnTo>
                    <a:lnTo>
                      <a:pt x="14" y="270"/>
                    </a:lnTo>
                    <a:lnTo>
                      <a:pt x="10" y="289"/>
                    </a:lnTo>
                    <a:lnTo>
                      <a:pt x="7" y="307"/>
                    </a:lnTo>
                    <a:lnTo>
                      <a:pt x="4" y="327"/>
                    </a:lnTo>
                    <a:lnTo>
                      <a:pt x="2" y="347"/>
                    </a:lnTo>
                    <a:lnTo>
                      <a:pt x="0" y="366"/>
                    </a:lnTo>
                    <a:lnTo>
                      <a:pt x="0" y="386"/>
                    </a:lnTo>
                    <a:lnTo>
                      <a:pt x="48" y="386"/>
                    </a:lnTo>
                    <a:lnTo>
                      <a:pt x="50" y="368"/>
                    </a:lnTo>
                    <a:lnTo>
                      <a:pt x="50" y="350"/>
                    </a:lnTo>
                    <a:lnTo>
                      <a:pt x="52" y="333"/>
                    </a:lnTo>
                    <a:lnTo>
                      <a:pt x="54" y="316"/>
                    </a:lnTo>
                    <a:lnTo>
                      <a:pt x="57" y="299"/>
                    </a:lnTo>
                    <a:lnTo>
                      <a:pt x="61" y="283"/>
                    </a:lnTo>
                    <a:lnTo>
                      <a:pt x="66" y="267"/>
                    </a:lnTo>
                    <a:lnTo>
                      <a:pt x="70" y="251"/>
                    </a:lnTo>
                    <a:lnTo>
                      <a:pt x="75" y="236"/>
                    </a:lnTo>
                    <a:lnTo>
                      <a:pt x="82" y="221"/>
                    </a:lnTo>
                    <a:lnTo>
                      <a:pt x="89" y="206"/>
                    </a:lnTo>
                    <a:lnTo>
                      <a:pt x="95" y="193"/>
                    </a:lnTo>
                    <a:lnTo>
                      <a:pt x="104" y="179"/>
                    </a:lnTo>
                    <a:lnTo>
                      <a:pt x="111" y="167"/>
                    </a:lnTo>
                    <a:lnTo>
                      <a:pt x="120" y="155"/>
                    </a:lnTo>
                    <a:lnTo>
                      <a:pt x="128" y="144"/>
                    </a:lnTo>
                    <a:lnTo>
                      <a:pt x="138" y="133"/>
                    </a:lnTo>
                    <a:lnTo>
                      <a:pt x="148" y="123"/>
                    </a:lnTo>
                    <a:lnTo>
                      <a:pt x="158" y="113"/>
                    </a:lnTo>
                    <a:lnTo>
                      <a:pt x="169" y="103"/>
                    </a:lnTo>
                    <a:lnTo>
                      <a:pt x="180" y="94"/>
                    </a:lnTo>
                    <a:lnTo>
                      <a:pt x="191" y="87"/>
                    </a:lnTo>
                    <a:lnTo>
                      <a:pt x="202" y="80"/>
                    </a:lnTo>
                    <a:lnTo>
                      <a:pt x="214" y="74"/>
                    </a:lnTo>
                    <a:lnTo>
                      <a:pt x="227" y="67"/>
                    </a:lnTo>
                    <a:lnTo>
                      <a:pt x="239" y="62"/>
                    </a:lnTo>
                    <a:lnTo>
                      <a:pt x="252" y="58"/>
                    </a:lnTo>
                    <a:lnTo>
                      <a:pt x="265" y="55"/>
                    </a:lnTo>
                    <a:lnTo>
                      <a:pt x="278" y="51"/>
                    </a:lnTo>
                    <a:lnTo>
                      <a:pt x="292" y="50"/>
                    </a:lnTo>
                    <a:lnTo>
                      <a:pt x="305" y="49"/>
                    </a:lnTo>
                    <a:lnTo>
                      <a:pt x="319" y="48"/>
                    </a:lnTo>
                    <a:lnTo>
                      <a:pt x="319" y="48"/>
                    </a:lnTo>
                    <a:lnTo>
                      <a:pt x="3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230440" y="2792160"/>
                <a:ext cx="132120" cy="185760"/>
              </a:xfrm>
              <a:custGeom>
                <a:avLst/>
                <a:gdLst/>
                <a:ahLst/>
                <a:rect l="l" t="t" r="r" b="b"/>
                <a:pathLst>
                  <a:path w="352" h="489">
                    <a:moveTo>
                      <a:pt x="352" y="464"/>
                    </a:moveTo>
                    <a:lnTo>
                      <a:pt x="352" y="464"/>
                    </a:lnTo>
                    <a:lnTo>
                      <a:pt x="352" y="431"/>
                    </a:lnTo>
                    <a:lnTo>
                      <a:pt x="350" y="394"/>
                    </a:lnTo>
                    <a:lnTo>
                      <a:pt x="345" y="357"/>
                    </a:lnTo>
                    <a:lnTo>
                      <a:pt x="338" y="319"/>
                    </a:lnTo>
                    <a:lnTo>
                      <a:pt x="329" y="281"/>
                    </a:lnTo>
                    <a:lnTo>
                      <a:pt x="318" y="243"/>
                    </a:lnTo>
                    <a:lnTo>
                      <a:pt x="311" y="223"/>
                    </a:lnTo>
                    <a:lnTo>
                      <a:pt x="303" y="205"/>
                    </a:lnTo>
                    <a:lnTo>
                      <a:pt x="295" y="187"/>
                    </a:lnTo>
                    <a:lnTo>
                      <a:pt x="286" y="169"/>
                    </a:lnTo>
                    <a:lnTo>
                      <a:pt x="276" y="151"/>
                    </a:lnTo>
                    <a:lnTo>
                      <a:pt x="265" y="135"/>
                    </a:lnTo>
                    <a:lnTo>
                      <a:pt x="252" y="118"/>
                    </a:lnTo>
                    <a:lnTo>
                      <a:pt x="240" y="103"/>
                    </a:lnTo>
                    <a:lnTo>
                      <a:pt x="225" y="88"/>
                    </a:lnTo>
                    <a:lnTo>
                      <a:pt x="211" y="73"/>
                    </a:lnTo>
                    <a:lnTo>
                      <a:pt x="195" y="60"/>
                    </a:lnTo>
                    <a:lnTo>
                      <a:pt x="177" y="49"/>
                    </a:lnTo>
                    <a:lnTo>
                      <a:pt x="159" y="38"/>
                    </a:lnTo>
                    <a:lnTo>
                      <a:pt x="140" y="28"/>
                    </a:lnTo>
                    <a:lnTo>
                      <a:pt x="120" y="19"/>
                    </a:lnTo>
                    <a:lnTo>
                      <a:pt x="97" y="12"/>
                    </a:lnTo>
                    <a:lnTo>
                      <a:pt x="75" y="7"/>
                    </a:lnTo>
                    <a:lnTo>
                      <a:pt x="52" y="2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24" y="49"/>
                    </a:lnTo>
                    <a:lnTo>
                      <a:pt x="45" y="51"/>
                    </a:lnTo>
                    <a:lnTo>
                      <a:pt x="65" y="54"/>
                    </a:lnTo>
                    <a:lnTo>
                      <a:pt x="85" y="59"/>
                    </a:lnTo>
                    <a:lnTo>
                      <a:pt x="102" y="65"/>
                    </a:lnTo>
                    <a:lnTo>
                      <a:pt x="120" y="72"/>
                    </a:lnTo>
                    <a:lnTo>
                      <a:pt x="136" y="79"/>
                    </a:lnTo>
                    <a:lnTo>
                      <a:pt x="152" y="89"/>
                    </a:lnTo>
                    <a:lnTo>
                      <a:pt x="165" y="99"/>
                    </a:lnTo>
                    <a:lnTo>
                      <a:pt x="179" y="110"/>
                    </a:lnTo>
                    <a:lnTo>
                      <a:pt x="191" y="121"/>
                    </a:lnTo>
                    <a:lnTo>
                      <a:pt x="203" y="135"/>
                    </a:lnTo>
                    <a:lnTo>
                      <a:pt x="214" y="148"/>
                    </a:lnTo>
                    <a:lnTo>
                      <a:pt x="224" y="162"/>
                    </a:lnTo>
                    <a:lnTo>
                      <a:pt x="234" y="177"/>
                    </a:lnTo>
                    <a:lnTo>
                      <a:pt x="243" y="193"/>
                    </a:lnTo>
                    <a:lnTo>
                      <a:pt x="251" y="209"/>
                    </a:lnTo>
                    <a:lnTo>
                      <a:pt x="259" y="225"/>
                    </a:lnTo>
                    <a:lnTo>
                      <a:pt x="266" y="242"/>
                    </a:lnTo>
                    <a:lnTo>
                      <a:pt x="272" y="258"/>
                    </a:lnTo>
                    <a:lnTo>
                      <a:pt x="282" y="294"/>
                    </a:lnTo>
                    <a:lnTo>
                      <a:pt x="291" y="329"/>
                    </a:lnTo>
                    <a:lnTo>
                      <a:pt x="297" y="365"/>
                    </a:lnTo>
                    <a:lnTo>
                      <a:pt x="300" y="399"/>
                    </a:lnTo>
                    <a:lnTo>
                      <a:pt x="303" y="433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64"/>
                    </a:lnTo>
                    <a:lnTo>
                      <a:pt x="304" y="471"/>
                    </a:lnTo>
                    <a:lnTo>
                      <a:pt x="305" y="476"/>
                    </a:lnTo>
                    <a:lnTo>
                      <a:pt x="308" y="479"/>
                    </a:lnTo>
                    <a:lnTo>
                      <a:pt x="311" y="483"/>
                    </a:lnTo>
                    <a:lnTo>
                      <a:pt x="315" y="485"/>
                    </a:lnTo>
                    <a:lnTo>
                      <a:pt x="319" y="488"/>
                    </a:lnTo>
                    <a:lnTo>
                      <a:pt x="324" y="489"/>
                    </a:lnTo>
                    <a:lnTo>
                      <a:pt x="327" y="489"/>
                    </a:lnTo>
                    <a:lnTo>
                      <a:pt x="332" y="489"/>
                    </a:lnTo>
                    <a:lnTo>
                      <a:pt x="337" y="488"/>
                    </a:lnTo>
                    <a:lnTo>
                      <a:pt x="341" y="485"/>
                    </a:lnTo>
                    <a:lnTo>
                      <a:pt x="345" y="483"/>
                    </a:lnTo>
                    <a:lnTo>
                      <a:pt x="348" y="479"/>
                    </a:lnTo>
                    <a:lnTo>
                      <a:pt x="351" y="476"/>
                    </a:lnTo>
                    <a:lnTo>
                      <a:pt x="352" y="471"/>
                    </a:lnTo>
                    <a:lnTo>
                      <a:pt x="352" y="4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220720" y="2968200"/>
                <a:ext cx="141480" cy="121320"/>
              </a:xfrm>
              <a:custGeom>
                <a:avLst/>
                <a:gdLst/>
                <a:ahLst/>
                <a:rect l="l" t="t" r="r" b="b"/>
                <a:pathLst>
                  <a:path w="376" h="323">
                    <a:moveTo>
                      <a:pt x="24" y="323"/>
                    </a:moveTo>
                    <a:lnTo>
                      <a:pt x="24" y="323"/>
                    </a:lnTo>
                    <a:lnTo>
                      <a:pt x="38" y="322"/>
                    </a:lnTo>
                    <a:lnTo>
                      <a:pt x="51" y="320"/>
                    </a:lnTo>
                    <a:lnTo>
                      <a:pt x="66" y="318"/>
                    </a:lnTo>
                    <a:lnTo>
                      <a:pt x="81" y="315"/>
                    </a:lnTo>
                    <a:lnTo>
                      <a:pt x="109" y="308"/>
                    </a:lnTo>
                    <a:lnTo>
                      <a:pt x="137" y="297"/>
                    </a:lnTo>
                    <a:lnTo>
                      <a:pt x="167" y="283"/>
                    </a:lnTo>
                    <a:lnTo>
                      <a:pt x="195" y="269"/>
                    </a:lnTo>
                    <a:lnTo>
                      <a:pt x="223" y="250"/>
                    </a:lnTo>
                    <a:lnTo>
                      <a:pt x="251" y="230"/>
                    </a:lnTo>
                    <a:lnTo>
                      <a:pt x="263" y="219"/>
                    </a:lnTo>
                    <a:lnTo>
                      <a:pt x="276" y="207"/>
                    </a:lnTo>
                    <a:lnTo>
                      <a:pt x="287" y="196"/>
                    </a:lnTo>
                    <a:lnTo>
                      <a:pt x="300" y="184"/>
                    </a:lnTo>
                    <a:lnTo>
                      <a:pt x="311" y="170"/>
                    </a:lnTo>
                    <a:lnTo>
                      <a:pt x="321" y="157"/>
                    </a:lnTo>
                    <a:lnTo>
                      <a:pt x="331" y="143"/>
                    </a:lnTo>
                    <a:lnTo>
                      <a:pt x="339" y="128"/>
                    </a:lnTo>
                    <a:lnTo>
                      <a:pt x="348" y="114"/>
                    </a:lnTo>
                    <a:lnTo>
                      <a:pt x="355" y="99"/>
                    </a:lnTo>
                    <a:lnTo>
                      <a:pt x="361" y="84"/>
                    </a:lnTo>
                    <a:lnTo>
                      <a:pt x="366" y="68"/>
                    </a:lnTo>
                    <a:lnTo>
                      <a:pt x="371" y="51"/>
                    </a:lnTo>
                    <a:lnTo>
                      <a:pt x="374" y="35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328" y="0"/>
                    </a:lnTo>
                    <a:lnTo>
                      <a:pt x="327" y="14"/>
                    </a:lnTo>
                    <a:lnTo>
                      <a:pt x="326" y="28"/>
                    </a:lnTo>
                    <a:lnTo>
                      <a:pt x="323" y="41"/>
                    </a:lnTo>
                    <a:lnTo>
                      <a:pt x="319" y="53"/>
                    </a:lnTo>
                    <a:lnTo>
                      <a:pt x="316" y="67"/>
                    </a:lnTo>
                    <a:lnTo>
                      <a:pt x="310" y="79"/>
                    </a:lnTo>
                    <a:lnTo>
                      <a:pt x="305" y="92"/>
                    </a:lnTo>
                    <a:lnTo>
                      <a:pt x="297" y="104"/>
                    </a:lnTo>
                    <a:lnTo>
                      <a:pt x="290" y="116"/>
                    </a:lnTo>
                    <a:lnTo>
                      <a:pt x="281" y="128"/>
                    </a:lnTo>
                    <a:lnTo>
                      <a:pt x="273" y="139"/>
                    </a:lnTo>
                    <a:lnTo>
                      <a:pt x="263" y="151"/>
                    </a:lnTo>
                    <a:lnTo>
                      <a:pt x="253" y="162"/>
                    </a:lnTo>
                    <a:lnTo>
                      <a:pt x="242" y="173"/>
                    </a:lnTo>
                    <a:lnTo>
                      <a:pt x="231" y="183"/>
                    </a:lnTo>
                    <a:lnTo>
                      <a:pt x="220" y="192"/>
                    </a:lnTo>
                    <a:lnTo>
                      <a:pt x="196" y="211"/>
                    </a:lnTo>
                    <a:lnTo>
                      <a:pt x="171" y="227"/>
                    </a:lnTo>
                    <a:lnTo>
                      <a:pt x="145" y="240"/>
                    </a:lnTo>
                    <a:lnTo>
                      <a:pt x="119" y="253"/>
                    </a:lnTo>
                    <a:lnTo>
                      <a:pt x="94" y="261"/>
                    </a:lnTo>
                    <a:lnTo>
                      <a:pt x="69" y="269"/>
                    </a:lnTo>
                    <a:lnTo>
                      <a:pt x="57" y="270"/>
                    </a:lnTo>
                    <a:lnTo>
                      <a:pt x="46" y="272"/>
                    </a:lnTo>
                    <a:lnTo>
                      <a:pt x="35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24" y="274"/>
                    </a:lnTo>
                    <a:lnTo>
                      <a:pt x="19" y="274"/>
                    </a:lnTo>
                    <a:lnTo>
                      <a:pt x="14" y="276"/>
                    </a:lnTo>
                    <a:lnTo>
                      <a:pt x="9" y="278"/>
                    </a:lnTo>
                    <a:lnTo>
                      <a:pt x="6" y="281"/>
                    </a:lnTo>
                    <a:lnTo>
                      <a:pt x="3" y="285"/>
                    </a:lnTo>
                    <a:lnTo>
                      <a:pt x="2" y="288"/>
                    </a:lnTo>
                    <a:lnTo>
                      <a:pt x="1" y="293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2" y="307"/>
                    </a:lnTo>
                    <a:lnTo>
                      <a:pt x="3" y="310"/>
                    </a:lnTo>
                    <a:lnTo>
                      <a:pt x="6" y="314"/>
                    </a:lnTo>
                    <a:lnTo>
                      <a:pt x="9" y="318"/>
                    </a:lnTo>
                    <a:lnTo>
                      <a:pt x="14" y="320"/>
                    </a:lnTo>
                    <a:lnTo>
                      <a:pt x="19" y="322"/>
                    </a:lnTo>
                    <a:lnTo>
                      <a:pt x="24" y="3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95440" y="2958840"/>
                <a:ext cx="134640" cy="130680"/>
              </a:xfrm>
              <a:custGeom>
                <a:avLst/>
                <a:gdLst/>
                <a:ahLst/>
                <a:rect l="l" t="t" r="r" b="b"/>
                <a:pathLst>
                  <a:path w="354" h="347">
                    <a:moveTo>
                      <a:pt x="0" y="24"/>
                    </a:moveTo>
                    <a:lnTo>
                      <a:pt x="0" y="24"/>
                    </a:lnTo>
                    <a:lnTo>
                      <a:pt x="1" y="42"/>
                    </a:lnTo>
                    <a:lnTo>
                      <a:pt x="2" y="59"/>
                    </a:lnTo>
                    <a:lnTo>
                      <a:pt x="6" y="75"/>
                    </a:lnTo>
                    <a:lnTo>
                      <a:pt x="10" y="92"/>
                    </a:lnTo>
                    <a:lnTo>
                      <a:pt x="16" y="108"/>
                    </a:lnTo>
                    <a:lnTo>
                      <a:pt x="22" y="123"/>
                    </a:lnTo>
                    <a:lnTo>
                      <a:pt x="30" y="138"/>
                    </a:lnTo>
                    <a:lnTo>
                      <a:pt x="37" y="152"/>
                    </a:lnTo>
                    <a:lnTo>
                      <a:pt x="47" y="167"/>
                    </a:lnTo>
                    <a:lnTo>
                      <a:pt x="57" y="181"/>
                    </a:lnTo>
                    <a:lnTo>
                      <a:pt x="66" y="194"/>
                    </a:lnTo>
                    <a:lnTo>
                      <a:pt x="78" y="208"/>
                    </a:lnTo>
                    <a:lnTo>
                      <a:pt x="89" y="220"/>
                    </a:lnTo>
                    <a:lnTo>
                      <a:pt x="101" y="231"/>
                    </a:lnTo>
                    <a:lnTo>
                      <a:pt x="113" y="243"/>
                    </a:lnTo>
                    <a:lnTo>
                      <a:pt x="127" y="254"/>
                    </a:lnTo>
                    <a:lnTo>
                      <a:pt x="154" y="274"/>
                    </a:lnTo>
                    <a:lnTo>
                      <a:pt x="182" y="293"/>
                    </a:lnTo>
                    <a:lnTo>
                      <a:pt x="210" y="307"/>
                    </a:lnTo>
                    <a:lnTo>
                      <a:pt x="240" y="321"/>
                    </a:lnTo>
                    <a:lnTo>
                      <a:pt x="269" y="332"/>
                    </a:lnTo>
                    <a:lnTo>
                      <a:pt x="298" y="339"/>
                    </a:lnTo>
                    <a:lnTo>
                      <a:pt x="312" y="342"/>
                    </a:lnTo>
                    <a:lnTo>
                      <a:pt x="327" y="344"/>
                    </a:lnTo>
                    <a:lnTo>
                      <a:pt x="341" y="346"/>
                    </a:lnTo>
                    <a:lnTo>
                      <a:pt x="354" y="347"/>
                    </a:lnTo>
                    <a:lnTo>
                      <a:pt x="354" y="298"/>
                    </a:lnTo>
                    <a:lnTo>
                      <a:pt x="343" y="298"/>
                    </a:lnTo>
                    <a:lnTo>
                      <a:pt x="332" y="296"/>
                    </a:lnTo>
                    <a:lnTo>
                      <a:pt x="321" y="294"/>
                    </a:lnTo>
                    <a:lnTo>
                      <a:pt x="310" y="293"/>
                    </a:lnTo>
                    <a:lnTo>
                      <a:pt x="284" y="285"/>
                    </a:lnTo>
                    <a:lnTo>
                      <a:pt x="258" y="275"/>
                    </a:lnTo>
                    <a:lnTo>
                      <a:pt x="232" y="264"/>
                    </a:lnTo>
                    <a:lnTo>
                      <a:pt x="207" y="251"/>
                    </a:lnTo>
                    <a:lnTo>
                      <a:pt x="181" y="235"/>
                    </a:lnTo>
                    <a:lnTo>
                      <a:pt x="156" y="216"/>
                    </a:lnTo>
                    <a:lnTo>
                      <a:pt x="145" y="207"/>
                    </a:lnTo>
                    <a:lnTo>
                      <a:pt x="134" y="197"/>
                    </a:lnTo>
                    <a:lnTo>
                      <a:pt x="124" y="186"/>
                    </a:lnTo>
                    <a:lnTo>
                      <a:pt x="113" y="175"/>
                    </a:lnTo>
                    <a:lnTo>
                      <a:pt x="105" y="163"/>
                    </a:lnTo>
                    <a:lnTo>
                      <a:pt x="95" y="152"/>
                    </a:lnTo>
                    <a:lnTo>
                      <a:pt x="87" y="140"/>
                    </a:lnTo>
                    <a:lnTo>
                      <a:pt x="80" y="128"/>
                    </a:lnTo>
                    <a:lnTo>
                      <a:pt x="73" y="116"/>
                    </a:lnTo>
                    <a:lnTo>
                      <a:pt x="66" y="103"/>
                    </a:lnTo>
                    <a:lnTo>
                      <a:pt x="62" y="91"/>
                    </a:lnTo>
                    <a:lnTo>
                      <a:pt x="57" y="77"/>
                    </a:lnTo>
                    <a:lnTo>
                      <a:pt x="54" y="65"/>
                    </a:lnTo>
                    <a:lnTo>
                      <a:pt x="52" y="52"/>
                    </a:lnTo>
                    <a:lnTo>
                      <a:pt x="49" y="38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095440" y="2792160"/>
                <a:ext cx="144000" cy="176040"/>
              </a:xfrm>
              <a:custGeom>
                <a:avLst/>
                <a:gdLst/>
                <a:ahLst/>
                <a:rect l="l" t="t" r="r" b="b"/>
                <a:pathLst>
                  <a:path w="379" h="464">
                    <a:moveTo>
                      <a:pt x="354" y="0"/>
                    </a:moveTo>
                    <a:lnTo>
                      <a:pt x="354" y="0"/>
                    </a:lnTo>
                    <a:lnTo>
                      <a:pt x="328" y="0"/>
                    </a:lnTo>
                    <a:lnTo>
                      <a:pt x="304" y="2"/>
                    </a:lnTo>
                    <a:lnTo>
                      <a:pt x="279" y="7"/>
                    </a:lnTo>
                    <a:lnTo>
                      <a:pt x="257" y="12"/>
                    </a:lnTo>
                    <a:lnTo>
                      <a:pt x="235" y="19"/>
                    </a:lnTo>
                    <a:lnTo>
                      <a:pt x="214" y="28"/>
                    </a:lnTo>
                    <a:lnTo>
                      <a:pt x="194" y="38"/>
                    </a:lnTo>
                    <a:lnTo>
                      <a:pt x="176" y="49"/>
                    </a:lnTo>
                    <a:lnTo>
                      <a:pt x="159" y="60"/>
                    </a:lnTo>
                    <a:lnTo>
                      <a:pt x="143" y="73"/>
                    </a:lnTo>
                    <a:lnTo>
                      <a:pt x="128" y="87"/>
                    </a:lnTo>
                    <a:lnTo>
                      <a:pt x="113" y="103"/>
                    </a:lnTo>
                    <a:lnTo>
                      <a:pt x="101" y="118"/>
                    </a:lnTo>
                    <a:lnTo>
                      <a:pt x="89" y="135"/>
                    </a:lnTo>
                    <a:lnTo>
                      <a:pt x="78" y="151"/>
                    </a:lnTo>
                    <a:lnTo>
                      <a:pt x="68" y="169"/>
                    </a:lnTo>
                    <a:lnTo>
                      <a:pt x="58" y="187"/>
                    </a:lnTo>
                    <a:lnTo>
                      <a:pt x="49" y="205"/>
                    </a:lnTo>
                    <a:lnTo>
                      <a:pt x="42" y="223"/>
                    </a:lnTo>
                    <a:lnTo>
                      <a:pt x="36" y="243"/>
                    </a:lnTo>
                    <a:lnTo>
                      <a:pt x="30" y="262"/>
                    </a:lnTo>
                    <a:lnTo>
                      <a:pt x="23" y="281"/>
                    </a:lnTo>
                    <a:lnTo>
                      <a:pt x="18" y="301"/>
                    </a:lnTo>
                    <a:lnTo>
                      <a:pt x="15" y="319"/>
                    </a:lnTo>
                    <a:lnTo>
                      <a:pt x="9" y="357"/>
                    </a:lnTo>
                    <a:lnTo>
                      <a:pt x="4" y="394"/>
                    </a:lnTo>
                    <a:lnTo>
                      <a:pt x="1" y="431"/>
                    </a:lnTo>
                    <a:lnTo>
                      <a:pt x="0" y="464"/>
                    </a:lnTo>
                    <a:lnTo>
                      <a:pt x="49" y="464"/>
                    </a:lnTo>
                    <a:lnTo>
                      <a:pt x="50" y="433"/>
                    </a:lnTo>
                    <a:lnTo>
                      <a:pt x="52" y="399"/>
                    </a:lnTo>
                    <a:lnTo>
                      <a:pt x="57" y="365"/>
                    </a:lnTo>
                    <a:lnTo>
                      <a:pt x="63" y="329"/>
                    </a:lnTo>
                    <a:lnTo>
                      <a:pt x="66" y="311"/>
                    </a:lnTo>
                    <a:lnTo>
                      <a:pt x="70" y="294"/>
                    </a:lnTo>
                    <a:lnTo>
                      <a:pt x="75" y="276"/>
                    </a:lnTo>
                    <a:lnTo>
                      <a:pt x="81" y="258"/>
                    </a:lnTo>
                    <a:lnTo>
                      <a:pt x="87" y="242"/>
                    </a:lnTo>
                    <a:lnTo>
                      <a:pt x="95" y="225"/>
                    </a:lnTo>
                    <a:lnTo>
                      <a:pt x="102" y="209"/>
                    </a:lnTo>
                    <a:lnTo>
                      <a:pt x="109" y="193"/>
                    </a:lnTo>
                    <a:lnTo>
                      <a:pt x="119" y="177"/>
                    </a:lnTo>
                    <a:lnTo>
                      <a:pt x="129" y="162"/>
                    </a:lnTo>
                    <a:lnTo>
                      <a:pt x="139" y="148"/>
                    </a:lnTo>
                    <a:lnTo>
                      <a:pt x="150" y="135"/>
                    </a:lnTo>
                    <a:lnTo>
                      <a:pt x="162" y="121"/>
                    </a:lnTo>
                    <a:lnTo>
                      <a:pt x="175" y="110"/>
                    </a:lnTo>
                    <a:lnTo>
                      <a:pt x="188" y="99"/>
                    </a:lnTo>
                    <a:lnTo>
                      <a:pt x="203" y="89"/>
                    </a:lnTo>
                    <a:lnTo>
                      <a:pt x="218" y="79"/>
                    </a:lnTo>
                    <a:lnTo>
                      <a:pt x="234" y="72"/>
                    </a:lnTo>
                    <a:lnTo>
                      <a:pt x="251" y="65"/>
                    </a:lnTo>
                    <a:lnTo>
                      <a:pt x="269" y="59"/>
                    </a:lnTo>
                    <a:lnTo>
                      <a:pt x="289" y="54"/>
                    </a:lnTo>
                    <a:lnTo>
                      <a:pt x="310" y="51"/>
                    </a:lnTo>
                    <a:lnTo>
                      <a:pt x="331" y="49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54" y="48"/>
                    </a:lnTo>
                    <a:lnTo>
                      <a:pt x="360" y="48"/>
                    </a:lnTo>
                    <a:lnTo>
                      <a:pt x="365" y="46"/>
                    </a:lnTo>
                    <a:lnTo>
                      <a:pt x="369" y="44"/>
                    </a:lnTo>
                    <a:lnTo>
                      <a:pt x="373" y="40"/>
                    </a:lnTo>
                    <a:lnTo>
                      <a:pt x="375" y="36"/>
                    </a:lnTo>
                    <a:lnTo>
                      <a:pt x="378" y="33"/>
                    </a:lnTo>
                    <a:lnTo>
                      <a:pt x="379" y="28"/>
                    </a:lnTo>
                    <a:lnTo>
                      <a:pt x="379" y="24"/>
                    </a:lnTo>
                    <a:lnTo>
                      <a:pt x="379" y="19"/>
                    </a:lnTo>
                    <a:lnTo>
                      <a:pt x="378" y="14"/>
                    </a:lnTo>
                    <a:lnTo>
                      <a:pt x="375" y="11"/>
                    </a:lnTo>
                    <a:lnTo>
                      <a:pt x="373" y="7"/>
                    </a:lnTo>
                    <a:lnTo>
                      <a:pt x="369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2746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2" h="429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" y="46"/>
                    </a:lnTo>
                    <a:lnTo>
                      <a:pt x="5" y="68"/>
                    </a:lnTo>
                    <a:lnTo>
                      <a:pt x="9" y="90"/>
                    </a:lnTo>
                    <a:lnTo>
                      <a:pt x="14" y="111"/>
                    </a:lnTo>
                    <a:lnTo>
                      <a:pt x="20" y="132"/>
                    </a:lnTo>
                    <a:lnTo>
                      <a:pt x="26" y="153"/>
                    </a:lnTo>
                    <a:lnTo>
                      <a:pt x="34" y="172"/>
                    </a:lnTo>
                    <a:lnTo>
                      <a:pt x="42" y="191"/>
                    </a:lnTo>
                    <a:lnTo>
                      <a:pt x="52" y="209"/>
                    </a:lnTo>
                    <a:lnTo>
                      <a:pt x="62" y="228"/>
                    </a:lnTo>
                    <a:lnTo>
                      <a:pt x="73" y="245"/>
                    </a:lnTo>
                    <a:lnTo>
                      <a:pt x="84" y="262"/>
                    </a:lnTo>
                    <a:lnTo>
                      <a:pt x="96" y="278"/>
                    </a:lnTo>
                    <a:lnTo>
                      <a:pt x="110" y="293"/>
                    </a:lnTo>
                    <a:lnTo>
                      <a:pt x="123" y="308"/>
                    </a:lnTo>
                    <a:lnTo>
                      <a:pt x="137" y="321"/>
                    </a:lnTo>
                    <a:lnTo>
                      <a:pt x="152" y="335"/>
                    </a:lnTo>
                    <a:lnTo>
                      <a:pt x="167" y="347"/>
                    </a:lnTo>
                    <a:lnTo>
                      <a:pt x="182" y="358"/>
                    </a:lnTo>
                    <a:lnTo>
                      <a:pt x="198" y="369"/>
                    </a:lnTo>
                    <a:lnTo>
                      <a:pt x="214" y="379"/>
                    </a:lnTo>
                    <a:lnTo>
                      <a:pt x="232" y="389"/>
                    </a:lnTo>
                    <a:lnTo>
                      <a:pt x="248" y="396"/>
                    </a:lnTo>
                    <a:lnTo>
                      <a:pt x="265" y="404"/>
                    </a:lnTo>
                    <a:lnTo>
                      <a:pt x="283" y="411"/>
                    </a:lnTo>
                    <a:lnTo>
                      <a:pt x="301" y="416"/>
                    </a:lnTo>
                    <a:lnTo>
                      <a:pt x="319" y="421"/>
                    </a:lnTo>
                    <a:lnTo>
                      <a:pt x="336" y="424"/>
                    </a:lnTo>
                    <a:lnTo>
                      <a:pt x="355" y="427"/>
                    </a:lnTo>
                    <a:lnTo>
                      <a:pt x="373" y="428"/>
                    </a:lnTo>
                    <a:lnTo>
                      <a:pt x="392" y="429"/>
                    </a:lnTo>
                    <a:lnTo>
                      <a:pt x="392" y="380"/>
                    </a:lnTo>
                    <a:lnTo>
                      <a:pt x="376" y="380"/>
                    </a:lnTo>
                    <a:lnTo>
                      <a:pt x="361" y="379"/>
                    </a:lnTo>
                    <a:lnTo>
                      <a:pt x="345" y="376"/>
                    </a:lnTo>
                    <a:lnTo>
                      <a:pt x="329" y="373"/>
                    </a:lnTo>
                    <a:lnTo>
                      <a:pt x="314" y="369"/>
                    </a:lnTo>
                    <a:lnTo>
                      <a:pt x="298" y="364"/>
                    </a:lnTo>
                    <a:lnTo>
                      <a:pt x="283" y="359"/>
                    </a:lnTo>
                    <a:lnTo>
                      <a:pt x="269" y="352"/>
                    </a:lnTo>
                    <a:lnTo>
                      <a:pt x="254" y="345"/>
                    </a:lnTo>
                    <a:lnTo>
                      <a:pt x="239" y="337"/>
                    </a:lnTo>
                    <a:lnTo>
                      <a:pt x="224" y="329"/>
                    </a:lnTo>
                    <a:lnTo>
                      <a:pt x="211" y="319"/>
                    </a:lnTo>
                    <a:lnTo>
                      <a:pt x="197" y="309"/>
                    </a:lnTo>
                    <a:lnTo>
                      <a:pt x="184" y="298"/>
                    </a:lnTo>
                    <a:lnTo>
                      <a:pt x="170" y="285"/>
                    </a:lnTo>
                    <a:lnTo>
                      <a:pt x="158" y="273"/>
                    </a:lnTo>
                    <a:lnTo>
                      <a:pt x="146" y="261"/>
                    </a:lnTo>
                    <a:lnTo>
                      <a:pt x="135" y="247"/>
                    </a:lnTo>
                    <a:lnTo>
                      <a:pt x="123" y="233"/>
                    </a:lnTo>
                    <a:lnTo>
                      <a:pt x="114" y="218"/>
                    </a:lnTo>
                    <a:lnTo>
                      <a:pt x="104" y="203"/>
                    </a:lnTo>
                    <a:lnTo>
                      <a:pt x="95" y="187"/>
                    </a:lnTo>
                    <a:lnTo>
                      <a:pt x="87" y="170"/>
                    </a:lnTo>
                    <a:lnTo>
                      <a:pt x="79" y="154"/>
                    </a:lnTo>
                    <a:lnTo>
                      <a:pt x="72" y="135"/>
                    </a:lnTo>
                    <a:lnTo>
                      <a:pt x="66" y="118"/>
                    </a:lnTo>
                    <a:lnTo>
                      <a:pt x="61" y="100"/>
                    </a:lnTo>
                    <a:lnTo>
                      <a:pt x="57" y="80"/>
                    </a:lnTo>
                    <a:lnTo>
                      <a:pt x="53" y="62"/>
                    </a:lnTo>
                    <a:lnTo>
                      <a:pt x="51" y="42"/>
                    </a:lnTo>
                    <a:lnTo>
                      <a:pt x="50" y="2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42746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2" h="344">
                    <a:moveTo>
                      <a:pt x="392" y="0"/>
                    </a:moveTo>
                    <a:lnTo>
                      <a:pt x="392" y="0"/>
                    </a:lnTo>
                    <a:lnTo>
                      <a:pt x="356" y="1"/>
                    </a:lnTo>
                    <a:lnTo>
                      <a:pt x="321" y="5"/>
                    </a:lnTo>
                    <a:lnTo>
                      <a:pt x="286" y="10"/>
                    </a:lnTo>
                    <a:lnTo>
                      <a:pt x="253" y="18"/>
                    </a:lnTo>
                    <a:lnTo>
                      <a:pt x="235" y="23"/>
                    </a:lnTo>
                    <a:lnTo>
                      <a:pt x="218" y="29"/>
                    </a:lnTo>
                    <a:lnTo>
                      <a:pt x="202" y="35"/>
                    </a:lnTo>
                    <a:lnTo>
                      <a:pt x="186" y="43"/>
                    </a:lnTo>
                    <a:lnTo>
                      <a:pt x="170" y="50"/>
                    </a:lnTo>
                    <a:lnTo>
                      <a:pt x="155" y="59"/>
                    </a:lnTo>
                    <a:lnTo>
                      <a:pt x="141" y="67"/>
                    </a:lnTo>
                    <a:lnTo>
                      <a:pt x="126" y="77"/>
                    </a:lnTo>
                    <a:lnTo>
                      <a:pt x="112" y="88"/>
                    </a:lnTo>
                    <a:lnTo>
                      <a:pt x="99" y="99"/>
                    </a:lnTo>
                    <a:lnTo>
                      <a:pt x="87" y="113"/>
                    </a:lnTo>
                    <a:lnTo>
                      <a:pt x="74" y="125"/>
                    </a:lnTo>
                    <a:lnTo>
                      <a:pt x="63" y="139"/>
                    </a:lnTo>
                    <a:lnTo>
                      <a:pt x="53" y="153"/>
                    </a:lnTo>
                    <a:lnTo>
                      <a:pt x="44" y="169"/>
                    </a:lnTo>
                    <a:lnTo>
                      <a:pt x="35" y="185"/>
                    </a:lnTo>
                    <a:lnTo>
                      <a:pt x="26" y="203"/>
                    </a:lnTo>
                    <a:lnTo>
                      <a:pt x="20" y="221"/>
                    </a:lnTo>
                    <a:lnTo>
                      <a:pt x="14" y="240"/>
                    </a:lnTo>
                    <a:lnTo>
                      <a:pt x="9" y="259"/>
                    </a:lnTo>
                    <a:lnTo>
                      <a:pt x="5" y="279"/>
                    </a:lnTo>
                    <a:lnTo>
                      <a:pt x="2" y="300"/>
                    </a:lnTo>
                    <a:lnTo>
                      <a:pt x="0" y="322"/>
                    </a:lnTo>
                    <a:lnTo>
                      <a:pt x="0" y="344"/>
                    </a:lnTo>
                    <a:lnTo>
                      <a:pt x="48" y="344"/>
                    </a:lnTo>
                    <a:lnTo>
                      <a:pt x="50" y="324"/>
                    </a:lnTo>
                    <a:lnTo>
                      <a:pt x="51" y="305"/>
                    </a:lnTo>
                    <a:lnTo>
                      <a:pt x="53" y="288"/>
                    </a:lnTo>
                    <a:lnTo>
                      <a:pt x="56" y="269"/>
                    </a:lnTo>
                    <a:lnTo>
                      <a:pt x="61" y="253"/>
                    </a:lnTo>
                    <a:lnTo>
                      <a:pt x="66" y="237"/>
                    </a:lnTo>
                    <a:lnTo>
                      <a:pt x="72" y="222"/>
                    </a:lnTo>
                    <a:lnTo>
                      <a:pt x="78" y="208"/>
                    </a:lnTo>
                    <a:lnTo>
                      <a:pt x="85" y="194"/>
                    </a:lnTo>
                    <a:lnTo>
                      <a:pt x="94" y="181"/>
                    </a:lnTo>
                    <a:lnTo>
                      <a:pt x="103" y="168"/>
                    </a:lnTo>
                    <a:lnTo>
                      <a:pt x="111" y="157"/>
                    </a:lnTo>
                    <a:lnTo>
                      <a:pt x="122" y="146"/>
                    </a:lnTo>
                    <a:lnTo>
                      <a:pt x="132" y="136"/>
                    </a:lnTo>
                    <a:lnTo>
                      <a:pt x="143" y="126"/>
                    </a:lnTo>
                    <a:lnTo>
                      <a:pt x="155" y="117"/>
                    </a:lnTo>
                    <a:lnTo>
                      <a:pt x="168" y="108"/>
                    </a:lnTo>
                    <a:lnTo>
                      <a:pt x="180" y="101"/>
                    </a:lnTo>
                    <a:lnTo>
                      <a:pt x="194" y="93"/>
                    </a:lnTo>
                    <a:lnTo>
                      <a:pt x="207" y="86"/>
                    </a:lnTo>
                    <a:lnTo>
                      <a:pt x="221" y="80"/>
                    </a:lnTo>
                    <a:lnTo>
                      <a:pt x="235" y="75"/>
                    </a:lnTo>
                    <a:lnTo>
                      <a:pt x="250" y="70"/>
                    </a:lnTo>
                    <a:lnTo>
                      <a:pt x="265" y="65"/>
                    </a:lnTo>
                    <a:lnTo>
                      <a:pt x="296" y="58"/>
                    </a:lnTo>
                    <a:lnTo>
                      <a:pt x="326" y="53"/>
                    </a:lnTo>
                    <a:lnTo>
                      <a:pt x="358" y="49"/>
                    </a:lnTo>
                    <a:lnTo>
                      <a:pt x="392" y="49"/>
                    </a:lnTo>
                    <a:lnTo>
                      <a:pt x="392" y="49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4424040" y="2968200"/>
                <a:ext cx="149040" cy="130680"/>
              </a:xfrm>
              <a:custGeom>
                <a:avLst/>
                <a:gdLst/>
                <a:ahLst/>
                <a:rect l="l" t="t" r="r" b="b"/>
                <a:pathLst>
                  <a:path w="397" h="344">
                    <a:moveTo>
                      <a:pt x="397" y="344"/>
                    </a:moveTo>
                    <a:lnTo>
                      <a:pt x="397" y="344"/>
                    </a:lnTo>
                    <a:lnTo>
                      <a:pt x="397" y="322"/>
                    </a:lnTo>
                    <a:lnTo>
                      <a:pt x="394" y="300"/>
                    </a:lnTo>
                    <a:lnTo>
                      <a:pt x="392" y="279"/>
                    </a:lnTo>
                    <a:lnTo>
                      <a:pt x="388" y="258"/>
                    </a:lnTo>
                    <a:lnTo>
                      <a:pt x="382" y="240"/>
                    </a:lnTo>
                    <a:lnTo>
                      <a:pt x="376" y="220"/>
                    </a:lnTo>
                    <a:lnTo>
                      <a:pt x="369" y="203"/>
                    </a:lnTo>
                    <a:lnTo>
                      <a:pt x="361" y="185"/>
                    </a:lnTo>
                    <a:lnTo>
                      <a:pt x="351" y="169"/>
                    </a:lnTo>
                    <a:lnTo>
                      <a:pt x="341" y="153"/>
                    </a:lnTo>
                    <a:lnTo>
                      <a:pt x="330" y="139"/>
                    </a:lnTo>
                    <a:lnTo>
                      <a:pt x="319" y="125"/>
                    </a:lnTo>
                    <a:lnTo>
                      <a:pt x="307" y="112"/>
                    </a:lnTo>
                    <a:lnTo>
                      <a:pt x="294" y="99"/>
                    </a:lnTo>
                    <a:lnTo>
                      <a:pt x="280" y="88"/>
                    </a:lnTo>
                    <a:lnTo>
                      <a:pt x="266" y="77"/>
                    </a:lnTo>
                    <a:lnTo>
                      <a:pt x="252" y="67"/>
                    </a:lnTo>
                    <a:lnTo>
                      <a:pt x="237" y="59"/>
                    </a:lnTo>
                    <a:lnTo>
                      <a:pt x="221" y="50"/>
                    </a:lnTo>
                    <a:lnTo>
                      <a:pt x="205" y="43"/>
                    </a:lnTo>
                    <a:lnTo>
                      <a:pt x="189" y="35"/>
                    </a:lnTo>
                    <a:lnTo>
                      <a:pt x="172" y="29"/>
                    </a:lnTo>
                    <a:lnTo>
                      <a:pt x="156" y="23"/>
                    </a:lnTo>
                    <a:lnTo>
                      <a:pt x="137" y="18"/>
                    </a:lnTo>
                    <a:lnTo>
                      <a:pt x="104" y="10"/>
                    </a:lnTo>
                    <a:lnTo>
                      <a:pt x="68" y="5"/>
                    </a:lnTo>
                    <a:lnTo>
                      <a:pt x="34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30" y="49"/>
                    </a:lnTo>
                    <a:lnTo>
                      <a:pt x="62" y="53"/>
                    </a:lnTo>
                    <a:lnTo>
                      <a:pt x="94" y="58"/>
                    </a:lnTo>
                    <a:lnTo>
                      <a:pt x="126" y="65"/>
                    </a:lnTo>
                    <a:lnTo>
                      <a:pt x="141" y="70"/>
                    </a:lnTo>
                    <a:lnTo>
                      <a:pt x="156" y="75"/>
                    </a:lnTo>
                    <a:lnTo>
                      <a:pt x="171" y="81"/>
                    </a:lnTo>
                    <a:lnTo>
                      <a:pt x="185" y="87"/>
                    </a:lnTo>
                    <a:lnTo>
                      <a:pt x="199" y="93"/>
                    </a:lnTo>
                    <a:lnTo>
                      <a:pt x="212" y="101"/>
                    </a:lnTo>
                    <a:lnTo>
                      <a:pt x="226" y="108"/>
                    </a:lnTo>
                    <a:lnTo>
                      <a:pt x="238" y="117"/>
                    </a:lnTo>
                    <a:lnTo>
                      <a:pt x="250" y="126"/>
                    </a:lnTo>
                    <a:lnTo>
                      <a:pt x="262" y="136"/>
                    </a:lnTo>
                    <a:lnTo>
                      <a:pt x="273" y="146"/>
                    </a:lnTo>
                    <a:lnTo>
                      <a:pt x="282" y="157"/>
                    </a:lnTo>
                    <a:lnTo>
                      <a:pt x="292" y="169"/>
                    </a:lnTo>
                    <a:lnTo>
                      <a:pt x="302" y="182"/>
                    </a:lnTo>
                    <a:lnTo>
                      <a:pt x="310" y="194"/>
                    </a:lnTo>
                    <a:lnTo>
                      <a:pt x="318" y="208"/>
                    </a:lnTo>
                    <a:lnTo>
                      <a:pt x="324" y="222"/>
                    </a:lnTo>
                    <a:lnTo>
                      <a:pt x="330" y="237"/>
                    </a:lnTo>
                    <a:lnTo>
                      <a:pt x="335" y="253"/>
                    </a:lnTo>
                    <a:lnTo>
                      <a:pt x="340" y="269"/>
                    </a:lnTo>
                    <a:lnTo>
                      <a:pt x="344" y="288"/>
                    </a:lnTo>
                    <a:lnTo>
                      <a:pt x="346" y="306"/>
                    </a:lnTo>
                    <a:lnTo>
                      <a:pt x="348" y="324"/>
                    </a:lnTo>
                    <a:lnTo>
                      <a:pt x="349" y="344"/>
                    </a:lnTo>
                    <a:lnTo>
                      <a:pt x="349" y="344"/>
                    </a:lnTo>
                    <a:lnTo>
                      <a:pt x="397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424040" y="3099240"/>
                <a:ext cx="149040" cy="162720"/>
              </a:xfrm>
              <a:custGeom>
                <a:avLst/>
                <a:gdLst/>
                <a:ahLst/>
                <a:rect l="l" t="t" r="r" b="b"/>
                <a:pathLst>
                  <a:path w="397" h="429">
                    <a:moveTo>
                      <a:pt x="0" y="429"/>
                    </a:moveTo>
                    <a:lnTo>
                      <a:pt x="0" y="429"/>
                    </a:lnTo>
                    <a:lnTo>
                      <a:pt x="17" y="428"/>
                    </a:lnTo>
                    <a:lnTo>
                      <a:pt x="35" y="427"/>
                    </a:lnTo>
                    <a:lnTo>
                      <a:pt x="54" y="424"/>
                    </a:lnTo>
                    <a:lnTo>
                      <a:pt x="71" y="421"/>
                    </a:lnTo>
                    <a:lnTo>
                      <a:pt x="89" y="416"/>
                    </a:lnTo>
                    <a:lnTo>
                      <a:pt x="107" y="411"/>
                    </a:lnTo>
                    <a:lnTo>
                      <a:pt x="125" y="404"/>
                    </a:lnTo>
                    <a:lnTo>
                      <a:pt x="142" y="396"/>
                    </a:lnTo>
                    <a:lnTo>
                      <a:pt x="159" y="389"/>
                    </a:lnTo>
                    <a:lnTo>
                      <a:pt x="175" y="379"/>
                    </a:lnTo>
                    <a:lnTo>
                      <a:pt x="193" y="369"/>
                    </a:lnTo>
                    <a:lnTo>
                      <a:pt x="209" y="358"/>
                    </a:lnTo>
                    <a:lnTo>
                      <a:pt x="225" y="347"/>
                    </a:lnTo>
                    <a:lnTo>
                      <a:pt x="239" y="335"/>
                    </a:lnTo>
                    <a:lnTo>
                      <a:pt x="255" y="321"/>
                    </a:lnTo>
                    <a:lnTo>
                      <a:pt x="269" y="308"/>
                    </a:lnTo>
                    <a:lnTo>
                      <a:pt x="284" y="293"/>
                    </a:lnTo>
                    <a:lnTo>
                      <a:pt x="296" y="278"/>
                    </a:lnTo>
                    <a:lnTo>
                      <a:pt x="310" y="262"/>
                    </a:lnTo>
                    <a:lnTo>
                      <a:pt x="321" y="245"/>
                    </a:lnTo>
                    <a:lnTo>
                      <a:pt x="333" y="228"/>
                    </a:lnTo>
                    <a:lnTo>
                      <a:pt x="343" y="210"/>
                    </a:lnTo>
                    <a:lnTo>
                      <a:pt x="353" y="192"/>
                    </a:lnTo>
                    <a:lnTo>
                      <a:pt x="361" y="172"/>
                    </a:lnTo>
                    <a:lnTo>
                      <a:pt x="370" y="153"/>
                    </a:lnTo>
                    <a:lnTo>
                      <a:pt x="377" y="133"/>
                    </a:lnTo>
                    <a:lnTo>
                      <a:pt x="383" y="112"/>
                    </a:lnTo>
                    <a:lnTo>
                      <a:pt x="388" y="90"/>
                    </a:lnTo>
                    <a:lnTo>
                      <a:pt x="392" y="69"/>
                    </a:lnTo>
                    <a:lnTo>
                      <a:pt x="394" y="46"/>
                    </a:lnTo>
                    <a:lnTo>
                      <a:pt x="397" y="23"/>
                    </a:lnTo>
                    <a:lnTo>
                      <a:pt x="397" y="0"/>
                    </a:lnTo>
                    <a:lnTo>
                      <a:pt x="349" y="0"/>
                    </a:lnTo>
                    <a:lnTo>
                      <a:pt x="348" y="21"/>
                    </a:lnTo>
                    <a:lnTo>
                      <a:pt x="346" y="41"/>
                    </a:lnTo>
                    <a:lnTo>
                      <a:pt x="344" y="62"/>
                    </a:lnTo>
                    <a:lnTo>
                      <a:pt x="340" y="80"/>
                    </a:lnTo>
                    <a:lnTo>
                      <a:pt x="335" y="100"/>
                    </a:lnTo>
                    <a:lnTo>
                      <a:pt x="330" y="117"/>
                    </a:lnTo>
                    <a:lnTo>
                      <a:pt x="324" y="135"/>
                    </a:lnTo>
                    <a:lnTo>
                      <a:pt x="317" y="153"/>
                    </a:lnTo>
                    <a:lnTo>
                      <a:pt x="310" y="170"/>
                    </a:lnTo>
                    <a:lnTo>
                      <a:pt x="301" y="186"/>
                    </a:lnTo>
                    <a:lnTo>
                      <a:pt x="291" y="202"/>
                    </a:lnTo>
                    <a:lnTo>
                      <a:pt x="281" y="218"/>
                    </a:lnTo>
                    <a:lnTo>
                      <a:pt x="270" y="233"/>
                    </a:lnTo>
                    <a:lnTo>
                      <a:pt x="259" y="247"/>
                    </a:lnTo>
                    <a:lnTo>
                      <a:pt x="247" y="261"/>
                    </a:lnTo>
                    <a:lnTo>
                      <a:pt x="234" y="273"/>
                    </a:lnTo>
                    <a:lnTo>
                      <a:pt x="222" y="285"/>
                    </a:lnTo>
                    <a:lnTo>
                      <a:pt x="209" y="298"/>
                    </a:lnTo>
                    <a:lnTo>
                      <a:pt x="195" y="309"/>
                    </a:lnTo>
                    <a:lnTo>
                      <a:pt x="180" y="319"/>
                    </a:lnTo>
                    <a:lnTo>
                      <a:pt x="167" y="329"/>
                    </a:lnTo>
                    <a:lnTo>
                      <a:pt x="152" y="337"/>
                    </a:lnTo>
                    <a:lnTo>
                      <a:pt x="137" y="345"/>
                    </a:lnTo>
                    <a:lnTo>
                      <a:pt x="121" y="352"/>
                    </a:lnTo>
                    <a:lnTo>
                      <a:pt x="107" y="358"/>
                    </a:lnTo>
                    <a:lnTo>
                      <a:pt x="92" y="364"/>
                    </a:lnTo>
                    <a:lnTo>
                      <a:pt x="76" y="369"/>
                    </a:lnTo>
                    <a:lnTo>
                      <a:pt x="60" y="373"/>
                    </a:lnTo>
                    <a:lnTo>
                      <a:pt x="45" y="376"/>
                    </a:lnTo>
                    <a:lnTo>
                      <a:pt x="29" y="379"/>
                    </a:lnTo>
                    <a:lnTo>
                      <a:pt x="14" y="380"/>
                    </a:lnTo>
                    <a:lnTo>
                      <a:pt x="0" y="380"/>
                    </a:lnTo>
                    <a:lnTo>
                      <a:pt x="0" y="380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915360" y="3082320"/>
                <a:ext cx="128520" cy="172080"/>
              </a:xfrm>
              <a:custGeom>
                <a:avLst/>
                <a:gdLst/>
                <a:ahLst/>
                <a:rect l="l" t="t" r="r" b="b"/>
                <a:pathLst>
                  <a:path w="341" h="452">
                    <a:moveTo>
                      <a:pt x="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" y="45"/>
                    </a:lnTo>
                    <a:lnTo>
                      <a:pt x="3" y="67"/>
                    </a:lnTo>
                    <a:lnTo>
                      <a:pt x="6" y="90"/>
                    </a:lnTo>
                    <a:lnTo>
                      <a:pt x="9" y="112"/>
                    </a:lnTo>
                    <a:lnTo>
                      <a:pt x="14" y="133"/>
                    </a:lnTo>
                    <a:lnTo>
                      <a:pt x="19" y="154"/>
                    </a:lnTo>
                    <a:lnTo>
                      <a:pt x="25" y="173"/>
                    </a:lnTo>
                    <a:lnTo>
                      <a:pt x="31" y="193"/>
                    </a:lnTo>
                    <a:lnTo>
                      <a:pt x="39" y="213"/>
                    </a:lnTo>
                    <a:lnTo>
                      <a:pt x="47" y="231"/>
                    </a:lnTo>
                    <a:lnTo>
                      <a:pt x="56" y="250"/>
                    </a:lnTo>
                    <a:lnTo>
                      <a:pt x="65" y="267"/>
                    </a:lnTo>
                    <a:lnTo>
                      <a:pt x="75" y="284"/>
                    </a:lnTo>
                    <a:lnTo>
                      <a:pt x="86" y="301"/>
                    </a:lnTo>
                    <a:lnTo>
                      <a:pt x="97" y="316"/>
                    </a:lnTo>
                    <a:lnTo>
                      <a:pt x="109" y="332"/>
                    </a:lnTo>
                    <a:lnTo>
                      <a:pt x="121" y="345"/>
                    </a:lnTo>
                    <a:lnTo>
                      <a:pt x="134" y="359"/>
                    </a:lnTo>
                    <a:lnTo>
                      <a:pt x="147" y="373"/>
                    </a:lnTo>
                    <a:lnTo>
                      <a:pt x="161" y="385"/>
                    </a:lnTo>
                    <a:lnTo>
                      <a:pt x="175" y="396"/>
                    </a:lnTo>
                    <a:lnTo>
                      <a:pt x="190" y="406"/>
                    </a:lnTo>
                    <a:lnTo>
                      <a:pt x="205" y="416"/>
                    </a:lnTo>
                    <a:lnTo>
                      <a:pt x="221" y="423"/>
                    </a:lnTo>
                    <a:lnTo>
                      <a:pt x="237" y="430"/>
                    </a:lnTo>
                    <a:lnTo>
                      <a:pt x="254" y="436"/>
                    </a:lnTo>
                    <a:lnTo>
                      <a:pt x="270" y="443"/>
                    </a:lnTo>
                    <a:lnTo>
                      <a:pt x="289" y="446"/>
                    </a:lnTo>
                    <a:lnTo>
                      <a:pt x="306" y="450"/>
                    </a:lnTo>
                    <a:lnTo>
                      <a:pt x="323" y="451"/>
                    </a:lnTo>
                    <a:lnTo>
                      <a:pt x="341" y="452"/>
                    </a:lnTo>
                    <a:lnTo>
                      <a:pt x="341" y="403"/>
                    </a:lnTo>
                    <a:lnTo>
                      <a:pt x="327" y="403"/>
                    </a:lnTo>
                    <a:lnTo>
                      <a:pt x="312" y="401"/>
                    </a:lnTo>
                    <a:lnTo>
                      <a:pt x="297" y="398"/>
                    </a:lnTo>
                    <a:lnTo>
                      <a:pt x="284" y="396"/>
                    </a:lnTo>
                    <a:lnTo>
                      <a:pt x="270" y="391"/>
                    </a:lnTo>
                    <a:lnTo>
                      <a:pt x="255" y="386"/>
                    </a:lnTo>
                    <a:lnTo>
                      <a:pt x="243" y="380"/>
                    </a:lnTo>
                    <a:lnTo>
                      <a:pt x="230" y="373"/>
                    </a:lnTo>
                    <a:lnTo>
                      <a:pt x="216" y="365"/>
                    </a:lnTo>
                    <a:lnTo>
                      <a:pt x="204" y="357"/>
                    </a:lnTo>
                    <a:lnTo>
                      <a:pt x="191" y="347"/>
                    </a:lnTo>
                    <a:lnTo>
                      <a:pt x="179" y="337"/>
                    </a:lnTo>
                    <a:lnTo>
                      <a:pt x="168" y="326"/>
                    </a:lnTo>
                    <a:lnTo>
                      <a:pt x="157" y="313"/>
                    </a:lnTo>
                    <a:lnTo>
                      <a:pt x="146" y="301"/>
                    </a:lnTo>
                    <a:lnTo>
                      <a:pt x="136" y="288"/>
                    </a:lnTo>
                    <a:lnTo>
                      <a:pt x="126" y="274"/>
                    </a:lnTo>
                    <a:lnTo>
                      <a:pt x="116" y="259"/>
                    </a:lnTo>
                    <a:lnTo>
                      <a:pt x="108" y="243"/>
                    </a:lnTo>
                    <a:lnTo>
                      <a:pt x="99" y="227"/>
                    </a:lnTo>
                    <a:lnTo>
                      <a:pt x="92" y="211"/>
                    </a:lnTo>
                    <a:lnTo>
                      <a:pt x="84" y="194"/>
                    </a:lnTo>
                    <a:lnTo>
                      <a:pt x="77" y="177"/>
                    </a:lnTo>
                    <a:lnTo>
                      <a:pt x="72" y="159"/>
                    </a:lnTo>
                    <a:lnTo>
                      <a:pt x="66" y="140"/>
                    </a:lnTo>
                    <a:lnTo>
                      <a:pt x="61" y="122"/>
                    </a:lnTo>
                    <a:lnTo>
                      <a:pt x="57" y="102"/>
                    </a:lnTo>
                    <a:lnTo>
                      <a:pt x="54" y="82"/>
                    </a:lnTo>
                    <a:lnTo>
                      <a:pt x="51" y="63"/>
                    </a:lnTo>
                    <a:lnTo>
                      <a:pt x="49" y="42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915360" y="2921040"/>
                <a:ext cx="128520" cy="160920"/>
              </a:xfrm>
              <a:custGeom>
                <a:avLst/>
                <a:gdLst/>
                <a:ahLst/>
                <a:rect l="l" t="t" r="r" b="b"/>
                <a:pathLst>
                  <a:path w="341" h="426">
                    <a:moveTo>
                      <a:pt x="341" y="0"/>
                    </a:moveTo>
                    <a:lnTo>
                      <a:pt x="341" y="0"/>
                    </a:lnTo>
                    <a:lnTo>
                      <a:pt x="324" y="1"/>
                    </a:lnTo>
                    <a:lnTo>
                      <a:pt x="306" y="3"/>
                    </a:lnTo>
                    <a:lnTo>
                      <a:pt x="289" y="5"/>
                    </a:lnTo>
                    <a:lnTo>
                      <a:pt x="271" y="9"/>
                    </a:lnTo>
                    <a:lnTo>
                      <a:pt x="254" y="14"/>
                    </a:lnTo>
                    <a:lnTo>
                      <a:pt x="238" y="19"/>
                    </a:lnTo>
                    <a:lnTo>
                      <a:pt x="222" y="26"/>
                    </a:lnTo>
                    <a:lnTo>
                      <a:pt x="206" y="33"/>
                    </a:lnTo>
                    <a:lnTo>
                      <a:pt x="191" y="42"/>
                    </a:lnTo>
                    <a:lnTo>
                      <a:pt x="177" y="51"/>
                    </a:lnTo>
                    <a:lnTo>
                      <a:pt x="162" y="61"/>
                    </a:lnTo>
                    <a:lnTo>
                      <a:pt x="148" y="72"/>
                    </a:lnTo>
                    <a:lnTo>
                      <a:pt x="135" y="84"/>
                    </a:lnTo>
                    <a:lnTo>
                      <a:pt x="121" y="96"/>
                    </a:lnTo>
                    <a:lnTo>
                      <a:pt x="109" y="110"/>
                    </a:lnTo>
                    <a:lnTo>
                      <a:pt x="98" y="123"/>
                    </a:lnTo>
                    <a:lnTo>
                      <a:pt x="86" y="138"/>
                    </a:lnTo>
                    <a:lnTo>
                      <a:pt x="76" y="153"/>
                    </a:lnTo>
                    <a:lnTo>
                      <a:pt x="66" y="169"/>
                    </a:lnTo>
                    <a:lnTo>
                      <a:pt x="56" y="186"/>
                    </a:lnTo>
                    <a:lnTo>
                      <a:pt x="47" y="203"/>
                    </a:lnTo>
                    <a:lnTo>
                      <a:pt x="39" y="220"/>
                    </a:lnTo>
                    <a:lnTo>
                      <a:pt x="31" y="239"/>
                    </a:lnTo>
                    <a:lnTo>
                      <a:pt x="25" y="259"/>
                    </a:lnTo>
                    <a:lnTo>
                      <a:pt x="19" y="277"/>
                    </a:lnTo>
                    <a:lnTo>
                      <a:pt x="14" y="298"/>
                    </a:lnTo>
                    <a:lnTo>
                      <a:pt x="9" y="318"/>
                    </a:lnTo>
                    <a:lnTo>
                      <a:pt x="6" y="339"/>
                    </a:lnTo>
                    <a:lnTo>
                      <a:pt x="3" y="361"/>
                    </a:lnTo>
                    <a:lnTo>
                      <a:pt x="1" y="382"/>
                    </a:lnTo>
                    <a:lnTo>
                      <a:pt x="0" y="404"/>
                    </a:lnTo>
                    <a:lnTo>
                      <a:pt x="0" y="426"/>
                    </a:lnTo>
                    <a:lnTo>
                      <a:pt x="47" y="426"/>
                    </a:lnTo>
                    <a:lnTo>
                      <a:pt x="49" y="406"/>
                    </a:lnTo>
                    <a:lnTo>
                      <a:pt x="49" y="385"/>
                    </a:lnTo>
                    <a:lnTo>
                      <a:pt x="51" y="366"/>
                    </a:lnTo>
                    <a:lnTo>
                      <a:pt x="54" y="346"/>
                    </a:lnTo>
                    <a:lnTo>
                      <a:pt x="57" y="327"/>
                    </a:lnTo>
                    <a:lnTo>
                      <a:pt x="61" y="309"/>
                    </a:lnTo>
                    <a:lnTo>
                      <a:pt x="66" y="291"/>
                    </a:lnTo>
                    <a:lnTo>
                      <a:pt x="71" y="273"/>
                    </a:lnTo>
                    <a:lnTo>
                      <a:pt x="77" y="256"/>
                    </a:lnTo>
                    <a:lnTo>
                      <a:pt x="84" y="240"/>
                    </a:lnTo>
                    <a:lnTo>
                      <a:pt x="92" y="224"/>
                    </a:lnTo>
                    <a:lnTo>
                      <a:pt x="99" y="209"/>
                    </a:lnTo>
                    <a:lnTo>
                      <a:pt x="108" y="195"/>
                    </a:lnTo>
                    <a:lnTo>
                      <a:pt x="116" y="180"/>
                    </a:lnTo>
                    <a:lnTo>
                      <a:pt x="125" y="166"/>
                    </a:lnTo>
                    <a:lnTo>
                      <a:pt x="135" y="154"/>
                    </a:lnTo>
                    <a:lnTo>
                      <a:pt x="146" y="142"/>
                    </a:lnTo>
                    <a:lnTo>
                      <a:pt x="156" y="131"/>
                    </a:lnTo>
                    <a:lnTo>
                      <a:pt x="167" y="120"/>
                    </a:lnTo>
                    <a:lnTo>
                      <a:pt x="179" y="110"/>
                    </a:lnTo>
                    <a:lnTo>
                      <a:pt x="190" y="100"/>
                    </a:lnTo>
                    <a:lnTo>
                      <a:pt x="202" y="91"/>
                    </a:lnTo>
                    <a:lnTo>
                      <a:pt x="216" y="84"/>
                    </a:lnTo>
                    <a:lnTo>
                      <a:pt x="228" y="77"/>
                    </a:lnTo>
                    <a:lnTo>
                      <a:pt x="242" y="70"/>
                    </a:lnTo>
                    <a:lnTo>
                      <a:pt x="255" y="64"/>
                    </a:lnTo>
                    <a:lnTo>
                      <a:pt x="269" y="61"/>
                    </a:lnTo>
                    <a:lnTo>
                      <a:pt x="282" y="56"/>
                    </a:lnTo>
                    <a:lnTo>
                      <a:pt x="297" y="53"/>
                    </a:lnTo>
                    <a:lnTo>
                      <a:pt x="312" y="51"/>
                    </a:lnTo>
                    <a:lnTo>
                      <a:pt x="327" y="49"/>
                    </a:lnTo>
                    <a:lnTo>
                      <a:pt x="341" y="49"/>
                    </a:lnTo>
                    <a:lnTo>
                      <a:pt x="341" y="49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043880" y="2921040"/>
                <a:ext cx="130320" cy="160920"/>
              </a:xfrm>
              <a:custGeom>
                <a:avLst/>
                <a:gdLst/>
                <a:ahLst/>
                <a:rect l="l" t="t" r="r" b="b"/>
                <a:pathLst>
                  <a:path w="342" h="426">
                    <a:moveTo>
                      <a:pt x="342" y="426"/>
                    </a:moveTo>
                    <a:lnTo>
                      <a:pt x="342" y="426"/>
                    </a:lnTo>
                    <a:lnTo>
                      <a:pt x="342" y="404"/>
                    </a:lnTo>
                    <a:lnTo>
                      <a:pt x="341" y="382"/>
                    </a:lnTo>
                    <a:lnTo>
                      <a:pt x="339" y="361"/>
                    </a:lnTo>
                    <a:lnTo>
                      <a:pt x="336" y="339"/>
                    </a:lnTo>
                    <a:lnTo>
                      <a:pt x="333" y="318"/>
                    </a:lnTo>
                    <a:lnTo>
                      <a:pt x="328" y="298"/>
                    </a:lnTo>
                    <a:lnTo>
                      <a:pt x="323" y="278"/>
                    </a:lnTo>
                    <a:lnTo>
                      <a:pt x="317" y="259"/>
                    </a:lnTo>
                    <a:lnTo>
                      <a:pt x="310" y="239"/>
                    </a:lnTo>
                    <a:lnTo>
                      <a:pt x="303" y="220"/>
                    </a:lnTo>
                    <a:lnTo>
                      <a:pt x="296" y="203"/>
                    </a:lnTo>
                    <a:lnTo>
                      <a:pt x="287" y="186"/>
                    </a:lnTo>
                    <a:lnTo>
                      <a:pt x="277" y="169"/>
                    </a:lnTo>
                    <a:lnTo>
                      <a:pt x="267" y="153"/>
                    </a:lnTo>
                    <a:lnTo>
                      <a:pt x="256" y="138"/>
                    </a:lnTo>
                    <a:lnTo>
                      <a:pt x="245" y="123"/>
                    </a:lnTo>
                    <a:lnTo>
                      <a:pt x="234" y="110"/>
                    </a:lnTo>
                    <a:lnTo>
                      <a:pt x="222" y="96"/>
                    </a:lnTo>
                    <a:lnTo>
                      <a:pt x="208" y="84"/>
                    </a:lnTo>
                    <a:lnTo>
                      <a:pt x="195" y="72"/>
                    </a:lnTo>
                    <a:lnTo>
                      <a:pt x="181" y="61"/>
                    </a:lnTo>
                    <a:lnTo>
                      <a:pt x="166" y="51"/>
                    </a:lnTo>
                    <a:lnTo>
                      <a:pt x="152" y="42"/>
                    </a:lnTo>
                    <a:lnTo>
                      <a:pt x="137" y="33"/>
                    </a:lnTo>
                    <a:lnTo>
                      <a:pt x="121" y="26"/>
                    </a:lnTo>
                    <a:lnTo>
                      <a:pt x="105" y="19"/>
                    </a:lnTo>
                    <a:lnTo>
                      <a:pt x="88" y="14"/>
                    </a:lnTo>
                    <a:lnTo>
                      <a:pt x="72" y="9"/>
                    </a:lnTo>
                    <a:lnTo>
                      <a:pt x="53" y="5"/>
                    </a:lnTo>
                    <a:lnTo>
                      <a:pt x="36" y="3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5" y="49"/>
                    </a:lnTo>
                    <a:lnTo>
                      <a:pt x="31" y="51"/>
                    </a:lnTo>
                    <a:lnTo>
                      <a:pt x="45" y="53"/>
                    </a:lnTo>
                    <a:lnTo>
                      <a:pt x="59" y="56"/>
                    </a:lnTo>
                    <a:lnTo>
                      <a:pt x="74" y="61"/>
                    </a:lnTo>
                    <a:lnTo>
                      <a:pt x="88" y="64"/>
                    </a:lnTo>
                    <a:lnTo>
                      <a:pt x="101" y="70"/>
                    </a:lnTo>
                    <a:lnTo>
                      <a:pt x="115" y="77"/>
                    </a:lnTo>
                    <a:lnTo>
                      <a:pt x="127" y="84"/>
                    </a:lnTo>
                    <a:lnTo>
                      <a:pt x="139" y="91"/>
                    </a:lnTo>
                    <a:lnTo>
                      <a:pt x="152" y="100"/>
                    </a:lnTo>
                    <a:lnTo>
                      <a:pt x="164" y="110"/>
                    </a:lnTo>
                    <a:lnTo>
                      <a:pt x="175" y="120"/>
                    </a:lnTo>
                    <a:lnTo>
                      <a:pt x="186" y="131"/>
                    </a:lnTo>
                    <a:lnTo>
                      <a:pt x="197" y="142"/>
                    </a:lnTo>
                    <a:lnTo>
                      <a:pt x="207" y="154"/>
                    </a:lnTo>
                    <a:lnTo>
                      <a:pt x="217" y="166"/>
                    </a:lnTo>
                    <a:lnTo>
                      <a:pt x="227" y="180"/>
                    </a:lnTo>
                    <a:lnTo>
                      <a:pt x="235" y="195"/>
                    </a:lnTo>
                    <a:lnTo>
                      <a:pt x="244" y="209"/>
                    </a:lnTo>
                    <a:lnTo>
                      <a:pt x="251" y="224"/>
                    </a:lnTo>
                    <a:lnTo>
                      <a:pt x="259" y="240"/>
                    </a:lnTo>
                    <a:lnTo>
                      <a:pt x="265" y="256"/>
                    </a:lnTo>
                    <a:lnTo>
                      <a:pt x="271" y="273"/>
                    </a:lnTo>
                    <a:lnTo>
                      <a:pt x="276" y="291"/>
                    </a:lnTo>
                    <a:lnTo>
                      <a:pt x="281" y="309"/>
                    </a:lnTo>
                    <a:lnTo>
                      <a:pt x="285" y="327"/>
                    </a:lnTo>
                    <a:lnTo>
                      <a:pt x="288" y="346"/>
                    </a:lnTo>
                    <a:lnTo>
                      <a:pt x="291" y="366"/>
                    </a:lnTo>
                    <a:lnTo>
                      <a:pt x="293" y="385"/>
                    </a:lnTo>
                    <a:lnTo>
                      <a:pt x="294" y="406"/>
                    </a:lnTo>
                    <a:lnTo>
                      <a:pt x="294" y="426"/>
                    </a:lnTo>
                    <a:lnTo>
                      <a:pt x="294" y="426"/>
                    </a:lnTo>
                    <a:lnTo>
                      <a:pt x="342" y="4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043880" y="3082320"/>
                <a:ext cx="130320" cy="172080"/>
              </a:xfrm>
              <a:custGeom>
                <a:avLst/>
                <a:gdLst/>
                <a:ahLst/>
                <a:rect l="l" t="t" r="r" b="b"/>
                <a:pathLst>
                  <a:path w="342" h="452">
                    <a:moveTo>
                      <a:pt x="0" y="452"/>
                    </a:moveTo>
                    <a:lnTo>
                      <a:pt x="0" y="452"/>
                    </a:lnTo>
                    <a:lnTo>
                      <a:pt x="19" y="451"/>
                    </a:lnTo>
                    <a:lnTo>
                      <a:pt x="37" y="450"/>
                    </a:lnTo>
                    <a:lnTo>
                      <a:pt x="55" y="446"/>
                    </a:lnTo>
                    <a:lnTo>
                      <a:pt x="72" y="443"/>
                    </a:lnTo>
                    <a:lnTo>
                      <a:pt x="89" y="438"/>
                    </a:lnTo>
                    <a:lnTo>
                      <a:pt x="105" y="430"/>
                    </a:lnTo>
                    <a:lnTo>
                      <a:pt x="122" y="423"/>
                    </a:lnTo>
                    <a:lnTo>
                      <a:pt x="137" y="416"/>
                    </a:lnTo>
                    <a:lnTo>
                      <a:pt x="153" y="406"/>
                    </a:lnTo>
                    <a:lnTo>
                      <a:pt x="168" y="396"/>
                    </a:lnTo>
                    <a:lnTo>
                      <a:pt x="182" y="385"/>
                    </a:lnTo>
                    <a:lnTo>
                      <a:pt x="196" y="373"/>
                    </a:lnTo>
                    <a:lnTo>
                      <a:pt x="210" y="359"/>
                    </a:lnTo>
                    <a:lnTo>
                      <a:pt x="222" y="345"/>
                    </a:lnTo>
                    <a:lnTo>
                      <a:pt x="234" y="332"/>
                    </a:lnTo>
                    <a:lnTo>
                      <a:pt x="246" y="316"/>
                    </a:lnTo>
                    <a:lnTo>
                      <a:pt x="257" y="301"/>
                    </a:lnTo>
                    <a:lnTo>
                      <a:pt x="267" y="284"/>
                    </a:lnTo>
                    <a:lnTo>
                      <a:pt x="277" y="267"/>
                    </a:lnTo>
                    <a:lnTo>
                      <a:pt x="287" y="250"/>
                    </a:lnTo>
                    <a:lnTo>
                      <a:pt x="296" y="231"/>
                    </a:lnTo>
                    <a:lnTo>
                      <a:pt x="303" y="213"/>
                    </a:lnTo>
                    <a:lnTo>
                      <a:pt x="310" y="193"/>
                    </a:lnTo>
                    <a:lnTo>
                      <a:pt x="318" y="173"/>
                    </a:lnTo>
                    <a:lnTo>
                      <a:pt x="323" y="154"/>
                    </a:lnTo>
                    <a:lnTo>
                      <a:pt x="328" y="133"/>
                    </a:lnTo>
                    <a:lnTo>
                      <a:pt x="333" y="112"/>
                    </a:lnTo>
                    <a:lnTo>
                      <a:pt x="336" y="90"/>
                    </a:lnTo>
                    <a:lnTo>
                      <a:pt x="339" y="67"/>
                    </a:lnTo>
                    <a:lnTo>
                      <a:pt x="341" y="45"/>
                    </a:lnTo>
                    <a:lnTo>
                      <a:pt x="342" y="23"/>
                    </a:lnTo>
                    <a:lnTo>
                      <a:pt x="342" y="0"/>
                    </a:lnTo>
                    <a:lnTo>
                      <a:pt x="294" y="0"/>
                    </a:lnTo>
                    <a:lnTo>
                      <a:pt x="294" y="22"/>
                    </a:lnTo>
                    <a:lnTo>
                      <a:pt x="293" y="42"/>
                    </a:lnTo>
                    <a:lnTo>
                      <a:pt x="291" y="63"/>
                    </a:lnTo>
                    <a:lnTo>
                      <a:pt x="288" y="82"/>
                    </a:lnTo>
                    <a:lnTo>
                      <a:pt x="285" y="102"/>
                    </a:lnTo>
                    <a:lnTo>
                      <a:pt x="281" y="122"/>
                    </a:lnTo>
                    <a:lnTo>
                      <a:pt x="276" y="140"/>
                    </a:lnTo>
                    <a:lnTo>
                      <a:pt x="271" y="159"/>
                    </a:lnTo>
                    <a:lnTo>
                      <a:pt x="265" y="177"/>
                    </a:lnTo>
                    <a:lnTo>
                      <a:pt x="259" y="194"/>
                    </a:lnTo>
                    <a:lnTo>
                      <a:pt x="251" y="211"/>
                    </a:lnTo>
                    <a:lnTo>
                      <a:pt x="243" y="227"/>
                    </a:lnTo>
                    <a:lnTo>
                      <a:pt x="235" y="243"/>
                    </a:lnTo>
                    <a:lnTo>
                      <a:pt x="227" y="259"/>
                    </a:lnTo>
                    <a:lnTo>
                      <a:pt x="217" y="274"/>
                    </a:lnTo>
                    <a:lnTo>
                      <a:pt x="207" y="288"/>
                    </a:lnTo>
                    <a:lnTo>
                      <a:pt x="197" y="301"/>
                    </a:lnTo>
                    <a:lnTo>
                      <a:pt x="186" y="313"/>
                    </a:lnTo>
                    <a:lnTo>
                      <a:pt x="175" y="326"/>
                    </a:lnTo>
                    <a:lnTo>
                      <a:pt x="163" y="337"/>
                    </a:lnTo>
                    <a:lnTo>
                      <a:pt x="152" y="347"/>
                    </a:lnTo>
                    <a:lnTo>
                      <a:pt x="139" y="357"/>
                    </a:lnTo>
                    <a:lnTo>
                      <a:pt x="126" y="365"/>
                    </a:lnTo>
                    <a:lnTo>
                      <a:pt x="114" y="373"/>
                    </a:lnTo>
                    <a:lnTo>
                      <a:pt x="100" y="380"/>
                    </a:lnTo>
                    <a:lnTo>
                      <a:pt x="87" y="386"/>
                    </a:lnTo>
                    <a:lnTo>
                      <a:pt x="73" y="391"/>
                    </a:lnTo>
                    <a:lnTo>
                      <a:pt x="59" y="396"/>
                    </a:lnTo>
                    <a:lnTo>
                      <a:pt x="45" y="398"/>
                    </a:lnTo>
                    <a:lnTo>
                      <a:pt x="30" y="401"/>
                    </a:lnTo>
                    <a:lnTo>
                      <a:pt x="15" y="403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2361600" y="3167280"/>
                <a:ext cx="123120" cy="181800"/>
              </a:xfrm>
              <a:custGeom>
                <a:avLst/>
                <a:gdLst/>
                <a:ahLst/>
                <a:rect l="l" t="t" r="r" b="b"/>
                <a:pathLst>
                  <a:path w="326" h="477">
                    <a:moveTo>
                      <a:pt x="326" y="472"/>
                    </a:moveTo>
                    <a:lnTo>
                      <a:pt x="326" y="472"/>
                    </a:lnTo>
                    <a:lnTo>
                      <a:pt x="321" y="427"/>
                    </a:lnTo>
                    <a:lnTo>
                      <a:pt x="315" y="382"/>
                    </a:lnTo>
                    <a:lnTo>
                      <a:pt x="308" y="342"/>
                    </a:lnTo>
                    <a:lnTo>
                      <a:pt x="298" y="301"/>
                    </a:lnTo>
                    <a:lnTo>
                      <a:pt x="288" y="264"/>
                    </a:lnTo>
                    <a:lnTo>
                      <a:pt x="276" y="229"/>
                    </a:lnTo>
                    <a:lnTo>
                      <a:pt x="268" y="211"/>
                    </a:lnTo>
                    <a:lnTo>
                      <a:pt x="260" y="194"/>
                    </a:lnTo>
                    <a:lnTo>
                      <a:pt x="252" y="178"/>
                    </a:lnTo>
                    <a:lnTo>
                      <a:pt x="244" y="162"/>
                    </a:lnTo>
                    <a:lnTo>
                      <a:pt x="234" y="148"/>
                    </a:lnTo>
                    <a:lnTo>
                      <a:pt x="224" y="133"/>
                    </a:lnTo>
                    <a:lnTo>
                      <a:pt x="214" y="119"/>
                    </a:lnTo>
                    <a:lnTo>
                      <a:pt x="202" y="106"/>
                    </a:lnTo>
                    <a:lnTo>
                      <a:pt x="191" y="93"/>
                    </a:lnTo>
                    <a:lnTo>
                      <a:pt x="177" y="82"/>
                    </a:lnTo>
                    <a:lnTo>
                      <a:pt x="164" y="70"/>
                    </a:lnTo>
                    <a:lnTo>
                      <a:pt x="150" y="60"/>
                    </a:lnTo>
                    <a:lnTo>
                      <a:pt x="136" y="50"/>
                    </a:lnTo>
                    <a:lnTo>
                      <a:pt x="120" y="41"/>
                    </a:lnTo>
                    <a:lnTo>
                      <a:pt x="104" y="32"/>
                    </a:lnTo>
                    <a:lnTo>
                      <a:pt x="86" y="25"/>
                    </a:lnTo>
                    <a:lnTo>
                      <a:pt x="69" y="17"/>
                    </a:lnTo>
                    <a:lnTo>
                      <a:pt x="51" y="11"/>
                    </a:lnTo>
                    <a:lnTo>
                      <a:pt x="31" y="5"/>
                    </a:lnTo>
                    <a:lnTo>
                      <a:pt x="10" y="0"/>
                    </a:lnTo>
                    <a:lnTo>
                      <a:pt x="0" y="48"/>
                    </a:lnTo>
                    <a:lnTo>
                      <a:pt x="19" y="52"/>
                    </a:lnTo>
                    <a:lnTo>
                      <a:pt x="36" y="58"/>
                    </a:lnTo>
                    <a:lnTo>
                      <a:pt x="52" y="63"/>
                    </a:lnTo>
                    <a:lnTo>
                      <a:pt x="68" y="69"/>
                    </a:lnTo>
                    <a:lnTo>
                      <a:pt x="83" y="76"/>
                    </a:lnTo>
                    <a:lnTo>
                      <a:pt x="96" y="84"/>
                    </a:lnTo>
                    <a:lnTo>
                      <a:pt x="110" y="91"/>
                    </a:lnTo>
                    <a:lnTo>
                      <a:pt x="122" y="100"/>
                    </a:lnTo>
                    <a:lnTo>
                      <a:pt x="134" y="108"/>
                    </a:lnTo>
                    <a:lnTo>
                      <a:pt x="145" y="118"/>
                    </a:lnTo>
                    <a:lnTo>
                      <a:pt x="156" y="128"/>
                    </a:lnTo>
                    <a:lnTo>
                      <a:pt x="166" y="139"/>
                    </a:lnTo>
                    <a:lnTo>
                      <a:pt x="176" y="150"/>
                    </a:lnTo>
                    <a:lnTo>
                      <a:pt x="185" y="162"/>
                    </a:lnTo>
                    <a:lnTo>
                      <a:pt x="193" y="175"/>
                    </a:lnTo>
                    <a:lnTo>
                      <a:pt x="202" y="187"/>
                    </a:lnTo>
                    <a:lnTo>
                      <a:pt x="209" y="202"/>
                    </a:lnTo>
                    <a:lnTo>
                      <a:pt x="217" y="215"/>
                    </a:lnTo>
                    <a:lnTo>
                      <a:pt x="223" y="230"/>
                    </a:lnTo>
                    <a:lnTo>
                      <a:pt x="229" y="245"/>
                    </a:lnTo>
                    <a:lnTo>
                      <a:pt x="241" y="278"/>
                    </a:lnTo>
                    <a:lnTo>
                      <a:pt x="251" y="314"/>
                    </a:lnTo>
                    <a:lnTo>
                      <a:pt x="260" y="350"/>
                    </a:lnTo>
                    <a:lnTo>
                      <a:pt x="267" y="391"/>
                    </a:lnTo>
                    <a:lnTo>
                      <a:pt x="273" y="433"/>
                    </a:lnTo>
                    <a:lnTo>
                      <a:pt x="278" y="477"/>
                    </a:lnTo>
                    <a:lnTo>
                      <a:pt x="278" y="477"/>
                    </a:lnTo>
                    <a:lnTo>
                      <a:pt x="326" y="4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2297520" y="3346920"/>
                <a:ext cx="188640" cy="130680"/>
              </a:xfrm>
              <a:custGeom>
                <a:avLst/>
                <a:gdLst/>
                <a:ahLst/>
                <a:rect l="l" t="t" r="r" b="b"/>
                <a:pathLst>
                  <a:path w="498" h="347">
                    <a:moveTo>
                      <a:pt x="0" y="308"/>
                    </a:moveTo>
                    <a:lnTo>
                      <a:pt x="0" y="308"/>
                    </a:lnTo>
                    <a:lnTo>
                      <a:pt x="25" y="318"/>
                    </a:lnTo>
                    <a:lnTo>
                      <a:pt x="50" y="326"/>
                    </a:lnTo>
                    <a:lnTo>
                      <a:pt x="76" y="334"/>
                    </a:lnTo>
                    <a:lnTo>
                      <a:pt x="100" y="340"/>
                    </a:lnTo>
                    <a:lnTo>
                      <a:pt x="125" y="343"/>
                    </a:lnTo>
                    <a:lnTo>
                      <a:pt x="148" y="346"/>
                    </a:lnTo>
                    <a:lnTo>
                      <a:pt x="173" y="347"/>
                    </a:lnTo>
                    <a:lnTo>
                      <a:pt x="196" y="347"/>
                    </a:lnTo>
                    <a:lnTo>
                      <a:pt x="218" y="345"/>
                    </a:lnTo>
                    <a:lnTo>
                      <a:pt x="241" y="342"/>
                    </a:lnTo>
                    <a:lnTo>
                      <a:pt x="263" y="338"/>
                    </a:lnTo>
                    <a:lnTo>
                      <a:pt x="284" y="332"/>
                    </a:lnTo>
                    <a:lnTo>
                      <a:pt x="303" y="325"/>
                    </a:lnTo>
                    <a:lnTo>
                      <a:pt x="323" y="318"/>
                    </a:lnTo>
                    <a:lnTo>
                      <a:pt x="343" y="308"/>
                    </a:lnTo>
                    <a:lnTo>
                      <a:pt x="360" y="298"/>
                    </a:lnTo>
                    <a:lnTo>
                      <a:pt x="377" y="286"/>
                    </a:lnTo>
                    <a:lnTo>
                      <a:pt x="394" y="273"/>
                    </a:lnTo>
                    <a:lnTo>
                      <a:pt x="409" y="260"/>
                    </a:lnTo>
                    <a:lnTo>
                      <a:pt x="424" y="245"/>
                    </a:lnTo>
                    <a:lnTo>
                      <a:pt x="436" y="229"/>
                    </a:lnTo>
                    <a:lnTo>
                      <a:pt x="448" y="212"/>
                    </a:lnTo>
                    <a:lnTo>
                      <a:pt x="460" y="193"/>
                    </a:lnTo>
                    <a:lnTo>
                      <a:pt x="468" y="175"/>
                    </a:lnTo>
                    <a:lnTo>
                      <a:pt x="477" y="155"/>
                    </a:lnTo>
                    <a:lnTo>
                      <a:pt x="484" y="136"/>
                    </a:lnTo>
                    <a:lnTo>
                      <a:pt x="489" y="115"/>
                    </a:lnTo>
                    <a:lnTo>
                      <a:pt x="494" y="92"/>
                    </a:lnTo>
                    <a:lnTo>
                      <a:pt x="496" y="70"/>
                    </a:lnTo>
                    <a:lnTo>
                      <a:pt x="498" y="47"/>
                    </a:lnTo>
                    <a:lnTo>
                      <a:pt x="498" y="24"/>
                    </a:lnTo>
                    <a:lnTo>
                      <a:pt x="495" y="0"/>
                    </a:lnTo>
                    <a:lnTo>
                      <a:pt x="447" y="5"/>
                    </a:lnTo>
                    <a:lnTo>
                      <a:pt x="448" y="26"/>
                    </a:lnTo>
                    <a:lnTo>
                      <a:pt x="448" y="47"/>
                    </a:lnTo>
                    <a:lnTo>
                      <a:pt x="448" y="67"/>
                    </a:lnTo>
                    <a:lnTo>
                      <a:pt x="446" y="85"/>
                    </a:lnTo>
                    <a:lnTo>
                      <a:pt x="442" y="104"/>
                    </a:lnTo>
                    <a:lnTo>
                      <a:pt x="437" y="122"/>
                    </a:lnTo>
                    <a:lnTo>
                      <a:pt x="431" y="138"/>
                    </a:lnTo>
                    <a:lnTo>
                      <a:pt x="425" y="155"/>
                    </a:lnTo>
                    <a:lnTo>
                      <a:pt x="416" y="170"/>
                    </a:lnTo>
                    <a:lnTo>
                      <a:pt x="408" y="185"/>
                    </a:lnTo>
                    <a:lnTo>
                      <a:pt x="398" y="200"/>
                    </a:lnTo>
                    <a:lnTo>
                      <a:pt x="387" y="212"/>
                    </a:lnTo>
                    <a:lnTo>
                      <a:pt x="375" y="224"/>
                    </a:lnTo>
                    <a:lnTo>
                      <a:pt x="362" y="236"/>
                    </a:lnTo>
                    <a:lnTo>
                      <a:pt x="349" y="246"/>
                    </a:lnTo>
                    <a:lnTo>
                      <a:pt x="334" y="256"/>
                    </a:lnTo>
                    <a:lnTo>
                      <a:pt x="319" y="266"/>
                    </a:lnTo>
                    <a:lnTo>
                      <a:pt x="303" y="273"/>
                    </a:lnTo>
                    <a:lnTo>
                      <a:pt x="287" y="279"/>
                    </a:lnTo>
                    <a:lnTo>
                      <a:pt x="270" y="286"/>
                    </a:lnTo>
                    <a:lnTo>
                      <a:pt x="252" y="291"/>
                    </a:lnTo>
                    <a:lnTo>
                      <a:pt x="233" y="294"/>
                    </a:lnTo>
                    <a:lnTo>
                      <a:pt x="214" y="297"/>
                    </a:lnTo>
                    <a:lnTo>
                      <a:pt x="194" y="298"/>
                    </a:lnTo>
                    <a:lnTo>
                      <a:pt x="174" y="298"/>
                    </a:lnTo>
                    <a:lnTo>
                      <a:pt x="153" y="298"/>
                    </a:lnTo>
                    <a:lnTo>
                      <a:pt x="131" y="295"/>
                    </a:lnTo>
                    <a:lnTo>
                      <a:pt x="110" y="292"/>
                    </a:lnTo>
                    <a:lnTo>
                      <a:pt x="87" y="287"/>
                    </a:lnTo>
                    <a:lnTo>
                      <a:pt x="65" y="281"/>
                    </a:lnTo>
                    <a:lnTo>
                      <a:pt x="43" y="272"/>
                    </a:lnTo>
                    <a:lnTo>
                      <a:pt x="19" y="263"/>
                    </a:lnTo>
                    <a:lnTo>
                      <a:pt x="19" y="26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2180160" y="3282840"/>
                <a:ext cx="124560" cy="179640"/>
              </a:xfrm>
              <a:custGeom>
                <a:avLst/>
                <a:gdLst/>
                <a:ahLst/>
                <a:rect l="l" t="t" r="r" b="b"/>
                <a:pathLst>
                  <a:path w="331" h="477">
                    <a:moveTo>
                      <a:pt x="3" y="0"/>
                    </a:moveTo>
                    <a:lnTo>
                      <a:pt x="3" y="0"/>
                    </a:lnTo>
                    <a:lnTo>
                      <a:pt x="0" y="36"/>
                    </a:lnTo>
                    <a:lnTo>
                      <a:pt x="0" y="71"/>
                    </a:lnTo>
                    <a:lnTo>
                      <a:pt x="2" y="105"/>
                    </a:lnTo>
                    <a:lnTo>
                      <a:pt x="7" y="140"/>
                    </a:lnTo>
                    <a:lnTo>
                      <a:pt x="9" y="157"/>
                    </a:lnTo>
                    <a:lnTo>
                      <a:pt x="13" y="173"/>
                    </a:lnTo>
                    <a:lnTo>
                      <a:pt x="18" y="190"/>
                    </a:lnTo>
                    <a:lnTo>
                      <a:pt x="23" y="206"/>
                    </a:lnTo>
                    <a:lnTo>
                      <a:pt x="27" y="222"/>
                    </a:lnTo>
                    <a:lnTo>
                      <a:pt x="35" y="238"/>
                    </a:lnTo>
                    <a:lnTo>
                      <a:pt x="42" y="254"/>
                    </a:lnTo>
                    <a:lnTo>
                      <a:pt x="51" y="269"/>
                    </a:lnTo>
                    <a:lnTo>
                      <a:pt x="59" y="284"/>
                    </a:lnTo>
                    <a:lnTo>
                      <a:pt x="69" y="298"/>
                    </a:lnTo>
                    <a:lnTo>
                      <a:pt x="80" y="313"/>
                    </a:lnTo>
                    <a:lnTo>
                      <a:pt x="91" y="328"/>
                    </a:lnTo>
                    <a:lnTo>
                      <a:pt x="105" y="341"/>
                    </a:lnTo>
                    <a:lnTo>
                      <a:pt x="118" y="355"/>
                    </a:lnTo>
                    <a:lnTo>
                      <a:pt x="133" y="369"/>
                    </a:lnTo>
                    <a:lnTo>
                      <a:pt x="148" y="382"/>
                    </a:lnTo>
                    <a:lnTo>
                      <a:pt x="165" y="396"/>
                    </a:lnTo>
                    <a:lnTo>
                      <a:pt x="182" y="408"/>
                    </a:lnTo>
                    <a:lnTo>
                      <a:pt x="202" y="420"/>
                    </a:lnTo>
                    <a:lnTo>
                      <a:pt x="222" y="431"/>
                    </a:lnTo>
                    <a:lnTo>
                      <a:pt x="243" y="444"/>
                    </a:lnTo>
                    <a:lnTo>
                      <a:pt x="265" y="455"/>
                    </a:lnTo>
                    <a:lnTo>
                      <a:pt x="287" y="466"/>
                    </a:lnTo>
                    <a:lnTo>
                      <a:pt x="312" y="477"/>
                    </a:lnTo>
                    <a:lnTo>
                      <a:pt x="331" y="432"/>
                    </a:lnTo>
                    <a:lnTo>
                      <a:pt x="308" y="421"/>
                    </a:lnTo>
                    <a:lnTo>
                      <a:pt x="286" y="412"/>
                    </a:lnTo>
                    <a:lnTo>
                      <a:pt x="265" y="400"/>
                    </a:lnTo>
                    <a:lnTo>
                      <a:pt x="246" y="389"/>
                    </a:lnTo>
                    <a:lnTo>
                      <a:pt x="228" y="378"/>
                    </a:lnTo>
                    <a:lnTo>
                      <a:pt x="211" y="367"/>
                    </a:lnTo>
                    <a:lnTo>
                      <a:pt x="193" y="356"/>
                    </a:lnTo>
                    <a:lnTo>
                      <a:pt x="179" y="344"/>
                    </a:lnTo>
                    <a:lnTo>
                      <a:pt x="165" y="333"/>
                    </a:lnTo>
                    <a:lnTo>
                      <a:pt x="152" y="321"/>
                    </a:lnTo>
                    <a:lnTo>
                      <a:pt x="139" y="308"/>
                    </a:lnTo>
                    <a:lnTo>
                      <a:pt x="128" y="296"/>
                    </a:lnTo>
                    <a:lnTo>
                      <a:pt x="118" y="284"/>
                    </a:lnTo>
                    <a:lnTo>
                      <a:pt x="109" y="271"/>
                    </a:lnTo>
                    <a:lnTo>
                      <a:pt x="100" y="258"/>
                    </a:lnTo>
                    <a:lnTo>
                      <a:pt x="93" y="244"/>
                    </a:lnTo>
                    <a:lnTo>
                      <a:pt x="85" y="232"/>
                    </a:lnTo>
                    <a:lnTo>
                      <a:pt x="79" y="218"/>
                    </a:lnTo>
                    <a:lnTo>
                      <a:pt x="73" y="205"/>
                    </a:lnTo>
                    <a:lnTo>
                      <a:pt x="68" y="190"/>
                    </a:lnTo>
                    <a:lnTo>
                      <a:pt x="64" y="177"/>
                    </a:lnTo>
                    <a:lnTo>
                      <a:pt x="61" y="162"/>
                    </a:lnTo>
                    <a:lnTo>
                      <a:pt x="57" y="147"/>
                    </a:lnTo>
                    <a:lnTo>
                      <a:pt x="54" y="132"/>
                    </a:lnTo>
                    <a:lnTo>
                      <a:pt x="51" y="102"/>
                    </a:lnTo>
                    <a:lnTo>
                      <a:pt x="48" y="70"/>
                    </a:lnTo>
                    <a:lnTo>
                      <a:pt x="50" y="38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2180160" y="3163680"/>
                <a:ext cx="185040" cy="118800"/>
              </a:xfrm>
              <a:custGeom>
                <a:avLst/>
                <a:gdLst/>
                <a:ahLst/>
                <a:rect l="l" t="t" r="r" b="b"/>
                <a:pathLst>
                  <a:path w="488" h="316">
                    <a:moveTo>
                      <a:pt x="488" y="10"/>
                    </a:moveTo>
                    <a:lnTo>
                      <a:pt x="488" y="10"/>
                    </a:lnTo>
                    <a:lnTo>
                      <a:pt x="467" y="6"/>
                    </a:lnTo>
                    <a:lnTo>
                      <a:pt x="446" y="3"/>
                    </a:lnTo>
                    <a:lnTo>
                      <a:pt x="425" y="1"/>
                    </a:lnTo>
                    <a:lnTo>
                      <a:pt x="404" y="0"/>
                    </a:lnTo>
                    <a:lnTo>
                      <a:pt x="384" y="1"/>
                    </a:lnTo>
                    <a:lnTo>
                      <a:pt x="363" y="3"/>
                    </a:lnTo>
                    <a:lnTo>
                      <a:pt x="342" y="5"/>
                    </a:lnTo>
                    <a:lnTo>
                      <a:pt x="321" y="7"/>
                    </a:lnTo>
                    <a:lnTo>
                      <a:pt x="300" y="12"/>
                    </a:lnTo>
                    <a:lnTo>
                      <a:pt x="280" y="17"/>
                    </a:lnTo>
                    <a:lnTo>
                      <a:pt x="261" y="23"/>
                    </a:lnTo>
                    <a:lnTo>
                      <a:pt x="241" y="30"/>
                    </a:lnTo>
                    <a:lnTo>
                      <a:pt x="222" y="38"/>
                    </a:lnTo>
                    <a:lnTo>
                      <a:pt x="204" y="47"/>
                    </a:lnTo>
                    <a:lnTo>
                      <a:pt x="186" y="55"/>
                    </a:lnTo>
                    <a:lnTo>
                      <a:pt x="168" y="65"/>
                    </a:lnTo>
                    <a:lnTo>
                      <a:pt x="151" y="76"/>
                    </a:lnTo>
                    <a:lnTo>
                      <a:pt x="134" y="87"/>
                    </a:lnTo>
                    <a:lnTo>
                      <a:pt x="119" y="100"/>
                    </a:lnTo>
                    <a:lnTo>
                      <a:pt x="103" y="113"/>
                    </a:lnTo>
                    <a:lnTo>
                      <a:pt x="90" y="127"/>
                    </a:lnTo>
                    <a:lnTo>
                      <a:pt x="76" y="140"/>
                    </a:lnTo>
                    <a:lnTo>
                      <a:pt x="64" y="155"/>
                    </a:lnTo>
                    <a:lnTo>
                      <a:pt x="51" y="171"/>
                    </a:lnTo>
                    <a:lnTo>
                      <a:pt x="42" y="187"/>
                    </a:lnTo>
                    <a:lnTo>
                      <a:pt x="32" y="203"/>
                    </a:lnTo>
                    <a:lnTo>
                      <a:pt x="23" y="220"/>
                    </a:lnTo>
                    <a:lnTo>
                      <a:pt x="16" y="239"/>
                    </a:lnTo>
                    <a:lnTo>
                      <a:pt x="10" y="256"/>
                    </a:lnTo>
                    <a:lnTo>
                      <a:pt x="5" y="274"/>
                    </a:lnTo>
                    <a:lnTo>
                      <a:pt x="1" y="294"/>
                    </a:lnTo>
                    <a:lnTo>
                      <a:pt x="0" y="313"/>
                    </a:lnTo>
                    <a:lnTo>
                      <a:pt x="48" y="316"/>
                    </a:lnTo>
                    <a:lnTo>
                      <a:pt x="50" y="301"/>
                    </a:lnTo>
                    <a:lnTo>
                      <a:pt x="53" y="285"/>
                    </a:lnTo>
                    <a:lnTo>
                      <a:pt x="56" y="271"/>
                    </a:lnTo>
                    <a:lnTo>
                      <a:pt x="61" y="256"/>
                    </a:lnTo>
                    <a:lnTo>
                      <a:pt x="67" y="241"/>
                    </a:lnTo>
                    <a:lnTo>
                      <a:pt x="75" y="226"/>
                    </a:lnTo>
                    <a:lnTo>
                      <a:pt x="82" y="213"/>
                    </a:lnTo>
                    <a:lnTo>
                      <a:pt x="92" y="199"/>
                    </a:lnTo>
                    <a:lnTo>
                      <a:pt x="102" y="186"/>
                    </a:lnTo>
                    <a:lnTo>
                      <a:pt x="113" y="174"/>
                    </a:lnTo>
                    <a:lnTo>
                      <a:pt x="124" y="161"/>
                    </a:lnTo>
                    <a:lnTo>
                      <a:pt x="136" y="149"/>
                    </a:lnTo>
                    <a:lnTo>
                      <a:pt x="150" y="138"/>
                    </a:lnTo>
                    <a:lnTo>
                      <a:pt x="163" y="127"/>
                    </a:lnTo>
                    <a:lnTo>
                      <a:pt x="178" y="117"/>
                    </a:lnTo>
                    <a:lnTo>
                      <a:pt x="193" y="107"/>
                    </a:lnTo>
                    <a:lnTo>
                      <a:pt x="209" y="98"/>
                    </a:lnTo>
                    <a:lnTo>
                      <a:pt x="225" y="90"/>
                    </a:lnTo>
                    <a:lnTo>
                      <a:pt x="241" y="82"/>
                    </a:lnTo>
                    <a:lnTo>
                      <a:pt x="258" y="75"/>
                    </a:lnTo>
                    <a:lnTo>
                      <a:pt x="275" y="69"/>
                    </a:lnTo>
                    <a:lnTo>
                      <a:pt x="294" y="64"/>
                    </a:lnTo>
                    <a:lnTo>
                      <a:pt x="311" y="59"/>
                    </a:lnTo>
                    <a:lnTo>
                      <a:pt x="329" y="55"/>
                    </a:lnTo>
                    <a:lnTo>
                      <a:pt x="348" y="53"/>
                    </a:lnTo>
                    <a:lnTo>
                      <a:pt x="366" y="51"/>
                    </a:lnTo>
                    <a:lnTo>
                      <a:pt x="385" y="49"/>
                    </a:lnTo>
                    <a:lnTo>
                      <a:pt x="404" y="49"/>
                    </a:lnTo>
                    <a:lnTo>
                      <a:pt x="423" y="49"/>
                    </a:lnTo>
                    <a:lnTo>
                      <a:pt x="441" y="52"/>
                    </a:lnTo>
                    <a:lnTo>
                      <a:pt x="460" y="54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8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2991960" y="3133080"/>
                <a:ext cx="123120" cy="170280"/>
              </a:xfrm>
              <a:custGeom>
                <a:avLst/>
                <a:gdLst/>
                <a:ahLst/>
                <a:rect l="l" t="t" r="r" b="b"/>
                <a:pathLst>
                  <a:path w="326" h="446">
                    <a:moveTo>
                      <a:pt x="51" y="439"/>
                    </a:moveTo>
                    <a:lnTo>
                      <a:pt x="51" y="439"/>
                    </a:lnTo>
                    <a:lnTo>
                      <a:pt x="50" y="422"/>
                    </a:lnTo>
                    <a:lnTo>
                      <a:pt x="48" y="404"/>
                    </a:lnTo>
                    <a:lnTo>
                      <a:pt x="48" y="385"/>
                    </a:lnTo>
                    <a:lnTo>
                      <a:pt x="50" y="368"/>
                    </a:lnTo>
                    <a:lnTo>
                      <a:pt x="51" y="351"/>
                    </a:lnTo>
                    <a:lnTo>
                      <a:pt x="52" y="334"/>
                    </a:lnTo>
                    <a:lnTo>
                      <a:pt x="54" y="316"/>
                    </a:lnTo>
                    <a:lnTo>
                      <a:pt x="58" y="299"/>
                    </a:lnTo>
                    <a:lnTo>
                      <a:pt x="62" y="283"/>
                    </a:lnTo>
                    <a:lnTo>
                      <a:pt x="67" y="267"/>
                    </a:lnTo>
                    <a:lnTo>
                      <a:pt x="72" y="251"/>
                    </a:lnTo>
                    <a:lnTo>
                      <a:pt x="78" y="235"/>
                    </a:lnTo>
                    <a:lnTo>
                      <a:pt x="84" y="221"/>
                    </a:lnTo>
                    <a:lnTo>
                      <a:pt x="91" y="207"/>
                    </a:lnTo>
                    <a:lnTo>
                      <a:pt x="99" y="192"/>
                    </a:lnTo>
                    <a:lnTo>
                      <a:pt x="107" y="179"/>
                    </a:lnTo>
                    <a:lnTo>
                      <a:pt x="117" y="166"/>
                    </a:lnTo>
                    <a:lnTo>
                      <a:pt x="126" y="154"/>
                    </a:lnTo>
                    <a:lnTo>
                      <a:pt x="137" y="142"/>
                    </a:lnTo>
                    <a:lnTo>
                      <a:pt x="148" y="131"/>
                    </a:lnTo>
                    <a:lnTo>
                      <a:pt x="159" y="120"/>
                    </a:lnTo>
                    <a:lnTo>
                      <a:pt x="171" y="110"/>
                    </a:lnTo>
                    <a:lnTo>
                      <a:pt x="184" y="100"/>
                    </a:lnTo>
                    <a:lnTo>
                      <a:pt x="197" y="91"/>
                    </a:lnTo>
                    <a:lnTo>
                      <a:pt x="211" y="84"/>
                    </a:lnTo>
                    <a:lnTo>
                      <a:pt x="225" y="77"/>
                    </a:lnTo>
                    <a:lnTo>
                      <a:pt x="241" y="69"/>
                    </a:lnTo>
                    <a:lnTo>
                      <a:pt x="256" y="64"/>
                    </a:lnTo>
                    <a:lnTo>
                      <a:pt x="273" y="59"/>
                    </a:lnTo>
                    <a:lnTo>
                      <a:pt x="291" y="54"/>
                    </a:lnTo>
                    <a:lnTo>
                      <a:pt x="308" y="51"/>
                    </a:lnTo>
                    <a:lnTo>
                      <a:pt x="326" y="48"/>
                    </a:lnTo>
                    <a:lnTo>
                      <a:pt x="321" y="0"/>
                    </a:lnTo>
                    <a:lnTo>
                      <a:pt x="300" y="3"/>
                    </a:lnTo>
                    <a:lnTo>
                      <a:pt x="280" y="7"/>
                    </a:lnTo>
                    <a:lnTo>
                      <a:pt x="260" y="13"/>
                    </a:lnTo>
                    <a:lnTo>
                      <a:pt x="241" y="18"/>
                    </a:lnTo>
                    <a:lnTo>
                      <a:pt x="223" y="25"/>
                    </a:lnTo>
                    <a:lnTo>
                      <a:pt x="205" y="32"/>
                    </a:lnTo>
                    <a:lnTo>
                      <a:pt x="189" y="41"/>
                    </a:lnTo>
                    <a:lnTo>
                      <a:pt x="171" y="51"/>
                    </a:lnTo>
                    <a:lnTo>
                      <a:pt x="157" y="61"/>
                    </a:lnTo>
                    <a:lnTo>
                      <a:pt x="142" y="72"/>
                    </a:lnTo>
                    <a:lnTo>
                      <a:pt x="127" y="83"/>
                    </a:lnTo>
                    <a:lnTo>
                      <a:pt x="114" y="96"/>
                    </a:lnTo>
                    <a:lnTo>
                      <a:pt x="101" y="109"/>
                    </a:lnTo>
                    <a:lnTo>
                      <a:pt x="89" y="123"/>
                    </a:lnTo>
                    <a:lnTo>
                      <a:pt x="78" y="137"/>
                    </a:lnTo>
                    <a:lnTo>
                      <a:pt x="67" y="152"/>
                    </a:lnTo>
                    <a:lnTo>
                      <a:pt x="57" y="168"/>
                    </a:lnTo>
                    <a:lnTo>
                      <a:pt x="48" y="184"/>
                    </a:lnTo>
                    <a:lnTo>
                      <a:pt x="40" y="201"/>
                    </a:lnTo>
                    <a:lnTo>
                      <a:pt x="32" y="217"/>
                    </a:lnTo>
                    <a:lnTo>
                      <a:pt x="26" y="235"/>
                    </a:lnTo>
                    <a:lnTo>
                      <a:pt x="20" y="253"/>
                    </a:lnTo>
                    <a:lnTo>
                      <a:pt x="15" y="271"/>
                    </a:lnTo>
                    <a:lnTo>
                      <a:pt x="10" y="289"/>
                    </a:lnTo>
                    <a:lnTo>
                      <a:pt x="7" y="308"/>
                    </a:lnTo>
                    <a:lnTo>
                      <a:pt x="4" y="328"/>
                    </a:lnTo>
                    <a:lnTo>
                      <a:pt x="2" y="346"/>
                    </a:lnTo>
                    <a:lnTo>
                      <a:pt x="0" y="366"/>
                    </a:lnTo>
                    <a:lnTo>
                      <a:pt x="0" y="385"/>
                    </a:lnTo>
                    <a:lnTo>
                      <a:pt x="0" y="405"/>
                    </a:lnTo>
                    <a:lnTo>
                      <a:pt x="0" y="425"/>
                    </a:lnTo>
                    <a:lnTo>
                      <a:pt x="3" y="446"/>
                    </a:lnTo>
                    <a:lnTo>
                      <a:pt x="3" y="446"/>
                    </a:lnTo>
                    <a:lnTo>
                      <a:pt x="51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2991960" y="3299760"/>
                <a:ext cx="151200" cy="149760"/>
              </a:xfrm>
              <a:custGeom>
                <a:avLst/>
                <a:gdLst/>
                <a:ahLst/>
                <a:rect l="l" t="t" r="r" b="b"/>
                <a:pathLst>
                  <a:path w="396" h="394">
                    <a:moveTo>
                      <a:pt x="390" y="344"/>
                    </a:moveTo>
                    <a:lnTo>
                      <a:pt x="390" y="344"/>
                    </a:lnTo>
                    <a:lnTo>
                      <a:pt x="375" y="345"/>
                    </a:lnTo>
                    <a:lnTo>
                      <a:pt x="359" y="345"/>
                    </a:lnTo>
                    <a:lnTo>
                      <a:pt x="343" y="345"/>
                    </a:lnTo>
                    <a:lnTo>
                      <a:pt x="328" y="342"/>
                    </a:lnTo>
                    <a:lnTo>
                      <a:pt x="313" y="340"/>
                    </a:lnTo>
                    <a:lnTo>
                      <a:pt x="299" y="336"/>
                    </a:lnTo>
                    <a:lnTo>
                      <a:pt x="284" y="331"/>
                    </a:lnTo>
                    <a:lnTo>
                      <a:pt x="269" y="326"/>
                    </a:lnTo>
                    <a:lnTo>
                      <a:pt x="254" y="320"/>
                    </a:lnTo>
                    <a:lnTo>
                      <a:pt x="241" y="313"/>
                    </a:lnTo>
                    <a:lnTo>
                      <a:pt x="227" y="304"/>
                    </a:lnTo>
                    <a:lnTo>
                      <a:pt x="214" y="296"/>
                    </a:lnTo>
                    <a:lnTo>
                      <a:pt x="200" y="286"/>
                    </a:lnTo>
                    <a:lnTo>
                      <a:pt x="188" y="276"/>
                    </a:lnTo>
                    <a:lnTo>
                      <a:pt x="176" y="265"/>
                    </a:lnTo>
                    <a:lnTo>
                      <a:pt x="163" y="254"/>
                    </a:lnTo>
                    <a:lnTo>
                      <a:pt x="152" y="242"/>
                    </a:lnTo>
                    <a:lnTo>
                      <a:pt x="141" y="228"/>
                    </a:lnTo>
                    <a:lnTo>
                      <a:pt x="131" y="214"/>
                    </a:lnTo>
                    <a:lnTo>
                      <a:pt x="120" y="201"/>
                    </a:lnTo>
                    <a:lnTo>
                      <a:pt x="112" y="186"/>
                    </a:lnTo>
                    <a:lnTo>
                      <a:pt x="102" y="171"/>
                    </a:lnTo>
                    <a:lnTo>
                      <a:pt x="95" y="155"/>
                    </a:lnTo>
                    <a:lnTo>
                      <a:pt x="86" y="139"/>
                    </a:lnTo>
                    <a:lnTo>
                      <a:pt x="79" y="123"/>
                    </a:lnTo>
                    <a:lnTo>
                      <a:pt x="72" y="106"/>
                    </a:lnTo>
                    <a:lnTo>
                      <a:pt x="66" y="89"/>
                    </a:lnTo>
                    <a:lnTo>
                      <a:pt x="61" y="72"/>
                    </a:lnTo>
                    <a:lnTo>
                      <a:pt x="56" y="55"/>
                    </a:lnTo>
                    <a:lnTo>
                      <a:pt x="53" y="37"/>
                    </a:lnTo>
                    <a:lnTo>
                      <a:pt x="50" y="19"/>
                    </a:lnTo>
                    <a:lnTo>
                      <a:pt x="48" y="0"/>
                    </a:lnTo>
                    <a:lnTo>
                      <a:pt x="0" y="7"/>
                    </a:lnTo>
                    <a:lnTo>
                      <a:pt x="2" y="26"/>
                    </a:lnTo>
                    <a:lnTo>
                      <a:pt x="6" y="46"/>
                    </a:lnTo>
                    <a:lnTo>
                      <a:pt x="10" y="66"/>
                    </a:lnTo>
                    <a:lnTo>
                      <a:pt x="15" y="85"/>
                    </a:lnTo>
                    <a:lnTo>
                      <a:pt x="21" y="104"/>
                    </a:lnTo>
                    <a:lnTo>
                      <a:pt x="27" y="123"/>
                    </a:lnTo>
                    <a:lnTo>
                      <a:pt x="34" y="142"/>
                    </a:lnTo>
                    <a:lnTo>
                      <a:pt x="42" y="160"/>
                    </a:lnTo>
                    <a:lnTo>
                      <a:pt x="50" y="178"/>
                    </a:lnTo>
                    <a:lnTo>
                      <a:pt x="60" y="195"/>
                    </a:lnTo>
                    <a:lnTo>
                      <a:pt x="70" y="212"/>
                    </a:lnTo>
                    <a:lnTo>
                      <a:pt x="81" y="228"/>
                    </a:lnTo>
                    <a:lnTo>
                      <a:pt x="92" y="244"/>
                    </a:lnTo>
                    <a:lnTo>
                      <a:pt x="103" y="259"/>
                    </a:lnTo>
                    <a:lnTo>
                      <a:pt x="117" y="274"/>
                    </a:lnTo>
                    <a:lnTo>
                      <a:pt x="129" y="287"/>
                    </a:lnTo>
                    <a:lnTo>
                      <a:pt x="142" y="301"/>
                    </a:lnTo>
                    <a:lnTo>
                      <a:pt x="156" y="313"/>
                    </a:lnTo>
                    <a:lnTo>
                      <a:pt x="171" y="325"/>
                    </a:lnTo>
                    <a:lnTo>
                      <a:pt x="186" y="336"/>
                    </a:lnTo>
                    <a:lnTo>
                      <a:pt x="202" y="346"/>
                    </a:lnTo>
                    <a:lnTo>
                      <a:pt x="218" y="355"/>
                    </a:lnTo>
                    <a:lnTo>
                      <a:pt x="233" y="363"/>
                    </a:lnTo>
                    <a:lnTo>
                      <a:pt x="251" y="371"/>
                    </a:lnTo>
                    <a:lnTo>
                      <a:pt x="268" y="378"/>
                    </a:lnTo>
                    <a:lnTo>
                      <a:pt x="285" y="383"/>
                    </a:lnTo>
                    <a:lnTo>
                      <a:pt x="302" y="388"/>
                    </a:lnTo>
                    <a:lnTo>
                      <a:pt x="321" y="390"/>
                    </a:lnTo>
                    <a:lnTo>
                      <a:pt x="339" y="393"/>
                    </a:lnTo>
                    <a:lnTo>
                      <a:pt x="358" y="394"/>
                    </a:lnTo>
                    <a:lnTo>
                      <a:pt x="376" y="394"/>
                    </a:lnTo>
                    <a:lnTo>
                      <a:pt x="396" y="392"/>
                    </a:lnTo>
                    <a:lnTo>
                      <a:pt x="396" y="392"/>
                    </a:lnTo>
                    <a:lnTo>
                      <a:pt x="390" y="3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9560" y="3267720"/>
                <a:ext cx="145440" cy="181800"/>
              </a:xfrm>
              <a:custGeom>
                <a:avLst/>
                <a:gdLst/>
                <a:ahLst/>
                <a:rect l="l" t="t" r="r" b="b"/>
                <a:pathLst>
                  <a:path w="382" h="478">
                    <a:moveTo>
                      <a:pt x="334" y="0"/>
                    </a:moveTo>
                    <a:lnTo>
                      <a:pt x="334" y="0"/>
                    </a:lnTo>
                    <a:lnTo>
                      <a:pt x="328" y="37"/>
                    </a:lnTo>
                    <a:lnTo>
                      <a:pt x="319" y="74"/>
                    </a:lnTo>
                    <a:lnTo>
                      <a:pt x="308" y="111"/>
                    </a:lnTo>
                    <a:lnTo>
                      <a:pt x="295" y="148"/>
                    </a:lnTo>
                    <a:lnTo>
                      <a:pt x="279" y="184"/>
                    </a:lnTo>
                    <a:lnTo>
                      <a:pt x="260" y="219"/>
                    </a:lnTo>
                    <a:lnTo>
                      <a:pt x="252" y="235"/>
                    </a:lnTo>
                    <a:lnTo>
                      <a:pt x="242" y="251"/>
                    </a:lnTo>
                    <a:lnTo>
                      <a:pt x="231" y="267"/>
                    </a:lnTo>
                    <a:lnTo>
                      <a:pt x="220" y="283"/>
                    </a:lnTo>
                    <a:lnTo>
                      <a:pt x="209" y="298"/>
                    </a:lnTo>
                    <a:lnTo>
                      <a:pt x="196" y="313"/>
                    </a:lnTo>
                    <a:lnTo>
                      <a:pt x="185" y="326"/>
                    </a:lnTo>
                    <a:lnTo>
                      <a:pt x="172" y="339"/>
                    </a:lnTo>
                    <a:lnTo>
                      <a:pt x="160" y="351"/>
                    </a:lnTo>
                    <a:lnTo>
                      <a:pt x="146" y="363"/>
                    </a:lnTo>
                    <a:lnTo>
                      <a:pt x="133" y="373"/>
                    </a:lnTo>
                    <a:lnTo>
                      <a:pt x="119" y="383"/>
                    </a:lnTo>
                    <a:lnTo>
                      <a:pt x="105" y="393"/>
                    </a:lnTo>
                    <a:lnTo>
                      <a:pt x="91" y="401"/>
                    </a:lnTo>
                    <a:lnTo>
                      <a:pt x="76" y="408"/>
                    </a:lnTo>
                    <a:lnTo>
                      <a:pt x="61" y="415"/>
                    </a:lnTo>
                    <a:lnTo>
                      <a:pt x="46" y="420"/>
                    </a:lnTo>
                    <a:lnTo>
                      <a:pt x="32" y="425"/>
                    </a:lnTo>
                    <a:lnTo>
                      <a:pt x="16" y="427"/>
                    </a:lnTo>
                    <a:lnTo>
                      <a:pt x="0" y="430"/>
                    </a:lnTo>
                    <a:lnTo>
                      <a:pt x="6" y="478"/>
                    </a:lnTo>
                    <a:lnTo>
                      <a:pt x="24" y="475"/>
                    </a:lnTo>
                    <a:lnTo>
                      <a:pt x="43" y="471"/>
                    </a:lnTo>
                    <a:lnTo>
                      <a:pt x="61" y="467"/>
                    </a:lnTo>
                    <a:lnTo>
                      <a:pt x="80" y="459"/>
                    </a:lnTo>
                    <a:lnTo>
                      <a:pt x="97" y="452"/>
                    </a:lnTo>
                    <a:lnTo>
                      <a:pt x="114" y="443"/>
                    </a:lnTo>
                    <a:lnTo>
                      <a:pt x="130" y="435"/>
                    </a:lnTo>
                    <a:lnTo>
                      <a:pt x="146" y="423"/>
                    </a:lnTo>
                    <a:lnTo>
                      <a:pt x="162" y="412"/>
                    </a:lnTo>
                    <a:lnTo>
                      <a:pt x="178" y="400"/>
                    </a:lnTo>
                    <a:lnTo>
                      <a:pt x="193" y="387"/>
                    </a:lnTo>
                    <a:lnTo>
                      <a:pt x="206" y="373"/>
                    </a:lnTo>
                    <a:lnTo>
                      <a:pt x="221" y="360"/>
                    </a:lnTo>
                    <a:lnTo>
                      <a:pt x="233" y="344"/>
                    </a:lnTo>
                    <a:lnTo>
                      <a:pt x="247" y="329"/>
                    </a:lnTo>
                    <a:lnTo>
                      <a:pt x="259" y="312"/>
                    </a:lnTo>
                    <a:lnTo>
                      <a:pt x="272" y="296"/>
                    </a:lnTo>
                    <a:lnTo>
                      <a:pt x="283" y="278"/>
                    </a:lnTo>
                    <a:lnTo>
                      <a:pt x="294" y="260"/>
                    </a:lnTo>
                    <a:lnTo>
                      <a:pt x="303" y="241"/>
                    </a:lnTo>
                    <a:lnTo>
                      <a:pt x="323" y="205"/>
                    </a:lnTo>
                    <a:lnTo>
                      <a:pt x="339" y="166"/>
                    </a:lnTo>
                    <a:lnTo>
                      <a:pt x="354" y="127"/>
                    </a:lnTo>
                    <a:lnTo>
                      <a:pt x="366" y="88"/>
                    </a:lnTo>
                    <a:lnTo>
                      <a:pt x="375" y="47"/>
                    </a:lnTo>
                    <a:lnTo>
                      <a:pt x="382" y="7"/>
                    </a:lnTo>
                    <a:lnTo>
                      <a:pt x="382" y="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12920" y="3133080"/>
                <a:ext cx="171720" cy="136440"/>
              </a:xfrm>
              <a:custGeom>
                <a:avLst/>
                <a:gdLst/>
                <a:ahLst/>
                <a:rect l="l" t="t" r="r" b="b"/>
                <a:pathLst>
                  <a:path w="457" h="362">
                    <a:moveTo>
                      <a:pt x="5" y="50"/>
                    </a:moveTo>
                    <a:lnTo>
                      <a:pt x="5" y="50"/>
                    </a:lnTo>
                    <a:lnTo>
                      <a:pt x="24" y="49"/>
                    </a:lnTo>
                    <a:lnTo>
                      <a:pt x="43" y="49"/>
                    </a:lnTo>
                    <a:lnTo>
                      <a:pt x="63" y="49"/>
                    </a:lnTo>
                    <a:lnTo>
                      <a:pt x="82" y="50"/>
                    </a:lnTo>
                    <a:lnTo>
                      <a:pt x="101" y="52"/>
                    </a:lnTo>
                    <a:lnTo>
                      <a:pt x="120" y="55"/>
                    </a:lnTo>
                    <a:lnTo>
                      <a:pt x="138" y="59"/>
                    </a:lnTo>
                    <a:lnTo>
                      <a:pt x="158" y="64"/>
                    </a:lnTo>
                    <a:lnTo>
                      <a:pt x="176" y="69"/>
                    </a:lnTo>
                    <a:lnTo>
                      <a:pt x="193" y="75"/>
                    </a:lnTo>
                    <a:lnTo>
                      <a:pt x="212" y="82"/>
                    </a:lnTo>
                    <a:lnTo>
                      <a:pt x="229" y="90"/>
                    </a:lnTo>
                    <a:lnTo>
                      <a:pt x="246" y="98"/>
                    </a:lnTo>
                    <a:lnTo>
                      <a:pt x="262" y="107"/>
                    </a:lnTo>
                    <a:lnTo>
                      <a:pt x="278" y="117"/>
                    </a:lnTo>
                    <a:lnTo>
                      <a:pt x="293" y="127"/>
                    </a:lnTo>
                    <a:lnTo>
                      <a:pt x="307" y="138"/>
                    </a:lnTo>
                    <a:lnTo>
                      <a:pt x="320" y="150"/>
                    </a:lnTo>
                    <a:lnTo>
                      <a:pt x="334" y="161"/>
                    </a:lnTo>
                    <a:lnTo>
                      <a:pt x="346" y="173"/>
                    </a:lnTo>
                    <a:lnTo>
                      <a:pt x="356" y="187"/>
                    </a:lnTo>
                    <a:lnTo>
                      <a:pt x="367" y="200"/>
                    </a:lnTo>
                    <a:lnTo>
                      <a:pt x="375" y="214"/>
                    </a:lnTo>
                    <a:lnTo>
                      <a:pt x="384" y="229"/>
                    </a:lnTo>
                    <a:lnTo>
                      <a:pt x="390" y="243"/>
                    </a:lnTo>
                    <a:lnTo>
                      <a:pt x="396" y="258"/>
                    </a:lnTo>
                    <a:lnTo>
                      <a:pt x="401" y="273"/>
                    </a:lnTo>
                    <a:lnTo>
                      <a:pt x="405" y="289"/>
                    </a:lnTo>
                    <a:lnTo>
                      <a:pt x="407" y="305"/>
                    </a:lnTo>
                    <a:lnTo>
                      <a:pt x="407" y="321"/>
                    </a:lnTo>
                    <a:lnTo>
                      <a:pt x="407" y="338"/>
                    </a:lnTo>
                    <a:lnTo>
                      <a:pt x="406" y="355"/>
                    </a:lnTo>
                    <a:lnTo>
                      <a:pt x="454" y="362"/>
                    </a:lnTo>
                    <a:lnTo>
                      <a:pt x="457" y="341"/>
                    </a:lnTo>
                    <a:lnTo>
                      <a:pt x="457" y="321"/>
                    </a:lnTo>
                    <a:lnTo>
                      <a:pt x="455" y="300"/>
                    </a:lnTo>
                    <a:lnTo>
                      <a:pt x="453" y="280"/>
                    </a:lnTo>
                    <a:lnTo>
                      <a:pt x="448" y="261"/>
                    </a:lnTo>
                    <a:lnTo>
                      <a:pt x="442" y="242"/>
                    </a:lnTo>
                    <a:lnTo>
                      <a:pt x="436" y="224"/>
                    </a:lnTo>
                    <a:lnTo>
                      <a:pt x="427" y="207"/>
                    </a:lnTo>
                    <a:lnTo>
                      <a:pt x="417" y="189"/>
                    </a:lnTo>
                    <a:lnTo>
                      <a:pt x="406" y="172"/>
                    </a:lnTo>
                    <a:lnTo>
                      <a:pt x="394" y="156"/>
                    </a:lnTo>
                    <a:lnTo>
                      <a:pt x="382" y="141"/>
                    </a:lnTo>
                    <a:lnTo>
                      <a:pt x="368" y="127"/>
                    </a:lnTo>
                    <a:lnTo>
                      <a:pt x="353" y="113"/>
                    </a:lnTo>
                    <a:lnTo>
                      <a:pt x="337" y="100"/>
                    </a:lnTo>
                    <a:lnTo>
                      <a:pt x="321" y="87"/>
                    </a:lnTo>
                    <a:lnTo>
                      <a:pt x="304" y="76"/>
                    </a:lnTo>
                    <a:lnTo>
                      <a:pt x="287" y="65"/>
                    </a:lnTo>
                    <a:lnTo>
                      <a:pt x="268" y="55"/>
                    </a:lnTo>
                    <a:lnTo>
                      <a:pt x="250" y="45"/>
                    </a:lnTo>
                    <a:lnTo>
                      <a:pt x="230" y="37"/>
                    </a:lnTo>
                    <a:lnTo>
                      <a:pt x="211" y="29"/>
                    </a:lnTo>
                    <a:lnTo>
                      <a:pt x="191" y="22"/>
                    </a:lnTo>
                    <a:lnTo>
                      <a:pt x="170" y="16"/>
                    </a:lnTo>
                    <a:lnTo>
                      <a:pt x="149" y="11"/>
                    </a:lnTo>
                    <a:lnTo>
                      <a:pt x="128" y="7"/>
                    </a:lnTo>
                    <a:lnTo>
                      <a:pt x="107" y="4"/>
                    </a:lnTo>
                    <a:lnTo>
                      <a:pt x="85" y="1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5358600" y="3599280"/>
                <a:ext cx="444600" cy="361440"/>
              </a:xfrm>
              <a:custGeom>
                <a:avLst/>
                <a:gdLst/>
                <a:ahLst/>
                <a:rect l="l" t="t" r="r" b="b"/>
                <a:pathLst>
                  <a:path w="1175" h="954">
                    <a:moveTo>
                      <a:pt x="459" y="0"/>
                    </a:moveTo>
                    <a:lnTo>
                      <a:pt x="423" y="26"/>
                    </a:lnTo>
                    <a:lnTo>
                      <a:pt x="390" y="51"/>
                    </a:lnTo>
                    <a:lnTo>
                      <a:pt x="358" y="77"/>
                    </a:lnTo>
                    <a:lnTo>
                      <a:pt x="329" y="103"/>
                    </a:lnTo>
                    <a:lnTo>
                      <a:pt x="301" y="129"/>
                    </a:lnTo>
                    <a:lnTo>
                      <a:pt x="276" y="155"/>
                    </a:lnTo>
                    <a:lnTo>
                      <a:pt x="251" y="180"/>
                    </a:lnTo>
                    <a:lnTo>
                      <a:pt x="229" y="206"/>
                    </a:lnTo>
                    <a:lnTo>
                      <a:pt x="208" y="232"/>
                    </a:lnTo>
                    <a:lnTo>
                      <a:pt x="188" y="258"/>
                    </a:lnTo>
                    <a:lnTo>
                      <a:pt x="170" y="284"/>
                    </a:lnTo>
                    <a:lnTo>
                      <a:pt x="154" y="310"/>
                    </a:lnTo>
                    <a:lnTo>
                      <a:pt x="139" y="335"/>
                    </a:lnTo>
                    <a:lnTo>
                      <a:pt x="124" y="361"/>
                    </a:lnTo>
                    <a:lnTo>
                      <a:pt x="112" y="388"/>
                    </a:lnTo>
                    <a:lnTo>
                      <a:pt x="100" y="414"/>
                    </a:lnTo>
                    <a:lnTo>
                      <a:pt x="89" y="440"/>
                    </a:lnTo>
                    <a:lnTo>
                      <a:pt x="79" y="466"/>
                    </a:lnTo>
                    <a:lnTo>
                      <a:pt x="70" y="492"/>
                    </a:lnTo>
                    <a:lnTo>
                      <a:pt x="62" y="519"/>
                    </a:lnTo>
                    <a:lnTo>
                      <a:pt x="48" y="570"/>
                    </a:lnTo>
                    <a:lnTo>
                      <a:pt x="36" y="623"/>
                    </a:lnTo>
                    <a:lnTo>
                      <a:pt x="17" y="729"/>
                    </a:lnTo>
                    <a:lnTo>
                      <a:pt x="0" y="836"/>
                    </a:lnTo>
                    <a:lnTo>
                      <a:pt x="14" y="836"/>
                    </a:lnTo>
                    <a:lnTo>
                      <a:pt x="32" y="836"/>
                    </a:lnTo>
                    <a:lnTo>
                      <a:pt x="53" y="836"/>
                    </a:lnTo>
                    <a:lnTo>
                      <a:pt x="75" y="836"/>
                    </a:lnTo>
                    <a:lnTo>
                      <a:pt x="97" y="836"/>
                    </a:lnTo>
                    <a:lnTo>
                      <a:pt x="118" y="836"/>
                    </a:lnTo>
                    <a:lnTo>
                      <a:pt x="137" y="836"/>
                    </a:lnTo>
                    <a:lnTo>
                      <a:pt x="150" y="836"/>
                    </a:lnTo>
                    <a:lnTo>
                      <a:pt x="171" y="777"/>
                    </a:lnTo>
                    <a:lnTo>
                      <a:pt x="192" y="718"/>
                    </a:lnTo>
                    <a:lnTo>
                      <a:pt x="213" y="659"/>
                    </a:lnTo>
                    <a:lnTo>
                      <a:pt x="234" y="600"/>
                    </a:lnTo>
                    <a:lnTo>
                      <a:pt x="255" y="541"/>
                    </a:lnTo>
                    <a:lnTo>
                      <a:pt x="276" y="482"/>
                    </a:lnTo>
                    <a:lnTo>
                      <a:pt x="295" y="423"/>
                    </a:lnTo>
                    <a:lnTo>
                      <a:pt x="315" y="365"/>
                    </a:lnTo>
                    <a:lnTo>
                      <a:pt x="315" y="414"/>
                    </a:lnTo>
                    <a:lnTo>
                      <a:pt x="315" y="465"/>
                    </a:lnTo>
                    <a:lnTo>
                      <a:pt x="315" y="514"/>
                    </a:lnTo>
                    <a:lnTo>
                      <a:pt x="315" y="564"/>
                    </a:lnTo>
                    <a:lnTo>
                      <a:pt x="315" y="615"/>
                    </a:lnTo>
                    <a:lnTo>
                      <a:pt x="315" y="664"/>
                    </a:lnTo>
                    <a:lnTo>
                      <a:pt x="315" y="714"/>
                    </a:lnTo>
                    <a:lnTo>
                      <a:pt x="315" y="764"/>
                    </a:lnTo>
                    <a:lnTo>
                      <a:pt x="345" y="789"/>
                    </a:lnTo>
                    <a:lnTo>
                      <a:pt x="374" y="811"/>
                    </a:lnTo>
                    <a:lnTo>
                      <a:pt x="404" y="831"/>
                    </a:lnTo>
                    <a:lnTo>
                      <a:pt x="434" y="848"/>
                    </a:lnTo>
                    <a:lnTo>
                      <a:pt x="449" y="856"/>
                    </a:lnTo>
                    <a:lnTo>
                      <a:pt x="464" y="862"/>
                    </a:lnTo>
                    <a:lnTo>
                      <a:pt x="479" y="868"/>
                    </a:lnTo>
                    <a:lnTo>
                      <a:pt x="495" y="873"/>
                    </a:lnTo>
                    <a:lnTo>
                      <a:pt x="509" y="878"/>
                    </a:lnTo>
                    <a:lnTo>
                      <a:pt x="524" y="882"/>
                    </a:lnTo>
                    <a:lnTo>
                      <a:pt x="540" y="885"/>
                    </a:lnTo>
                    <a:lnTo>
                      <a:pt x="555" y="888"/>
                    </a:lnTo>
                    <a:lnTo>
                      <a:pt x="571" y="890"/>
                    </a:lnTo>
                    <a:lnTo>
                      <a:pt x="586" y="891"/>
                    </a:lnTo>
                    <a:lnTo>
                      <a:pt x="600" y="891"/>
                    </a:lnTo>
                    <a:lnTo>
                      <a:pt x="616" y="891"/>
                    </a:lnTo>
                    <a:lnTo>
                      <a:pt x="632" y="890"/>
                    </a:lnTo>
                    <a:lnTo>
                      <a:pt x="647" y="889"/>
                    </a:lnTo>
                    <a:lnTo>
                      <a:pt x="663" y="887"/>
                    </a:lnTo>
                    <a:lnTo>
                      <a:pt x="678" y="884"/>
                    </a:lnTo>
                    <a:lnTo>
                      <a:pt x="694" y="880"/>
                    </a:lnTo>
                    <a:lnTo>
                      <a:pt x="710" y="875"/>
                    </a:lnTo>
                    <a:lnTo>
                      <a:pt x="725" y="871"/>
                    </a:lnTo>
                    <a:lnTo>
                      <a:pt x="741" y="866"/>
                    </a:lnTo>
                    <a:lnTo>
                      <a:pt x="771" y="852"/>
                    </a:lnTo>
                    <a:lnTo>
                      <a:pt x="803" y="836"/>
                    </a:lnTo>
                    <a:lnTo>
                      <a:pt x="803" y="781"/>
                    </a:lnTo>
                    <a:lnTo>
                      <a:pt x="803" y="736"/>
                    </a:lnTo>
                    <a:lnTo>
                      <a:pt x="803" y="698"/>
                    </a:lnTo>
                    <a:lnTo>
                      <a:pt x="803" y="665"/>
                    </a:lnTo>
                    <a:lnTo>
                      <a:pt x="803" y="632"/>
                    </a:lnTo>
                    <a:lnTo>
                      <a:pt x="803" y="595"/>
                    </a:lnTo>
                    <a:lnTo>
                      <a:pt x="803" y="551"/>
                    </a:lnTo>
                    <a:lnTo>
                      <a:pt x="803" y="497"/>
                    </a:lnTo>
                    <a:lnTo>
                      <a:pt x="812" y="530"/>
                    </a:lnTo>
                    <a:lnTo>
                      <a:pt x="822" y="562"/>
                    </a:lnTo>
                    <a:lnTo>
                      <a:pt x="834" y="591"/>
                    </a:lnTo>
                    <a:lnTo>
                      <a:pt x="848" y="620"/>
                    </a:lnTo>
                    <a:lnTo>
                      <a:pt x="862" y="647"/>
                    </a:lnTo>
                    <a:lnTo>
                      <a:pt x="877" y="672"/>
                    </a:lnTo>
                    <a:lnTo>
                      <a:pt x="894" y="700"/>
                    </a:lnTo>
                    <a:lnTo>
                      <a:pt x="910" y="725"/>
                    </a:lnTo>
                    <a:lnTo>
                      <a:pt x="926" y="751"/>
                    </a:lnTo>
                    <a:lnTo>
                      <a:pt x="942" y="777"/>
                    </a:lnTo>
                    <a:lnTo>
                      <a:pt x="958" y="804"/>
                    </a:lnTo>
                    <a:lnTo>
                      <a:pt x="973" y="831"/>
                    </a:lnTo>
                    <a:lnTo>
                      <a:pt x="987" y="859"/>
                    </a:lnTo>
                    <a:lnTo>
                      <a:pt x="999" y="890"/>
                    </a:lnTo>
                    <a:lnTo>
                      <a:pt x="1010" y="921"/>
                    </a:lnTo>
                    <a:lnTo>
                      <a:pt x="1019" y="954"/>
                    </a:lnTo>
                    <a:lnTo>
                      <a:pt x="1026" y="953"/>
                    </a:lnTo>
                    <a:lnTo>
                      <a:pt x="1033" y="950"/>
                    </a:lnTo>
                    <a:lnTo>
                      <a:pt x="1042" y="946"/>
                    </a:lnTo>
                    <a:lnTo>
                      <a:pt x="1052" y="939"/>
                    </a:lnTo>
                    <a:lnTo>
                      <a:pt x="1074" y="925"/>
                    </a:lnTo>
                    <a:lnTo>
                      <a:pt x="1097" y="907"/>
                    </a:lnTo>
                    <a:lnTo>
                      <a:pt x="1119" y="891"/>
                    </a:lnTo>
                    <a:lnTo>
                      <a:pt x="1142" y="877"/>
                    </a:lnTo>
                    <a:lnTo>
                      <a:pt x="1151" y="871"/>
                    </a:lnTo>
                    <a:lnTo>
                      <a:pt x="1160" y="866"/>
                    </a:lnTo>
                    <a:lnTo>
                      <a:pt x="1169" y="863"/>
                    </a:lnTo>
                    <a:lnTo>
                      <a:pt x="1175" y="862"/>
                    </a:lnTo>
                    <a:lnTo>
                      <a:pt x="1164" y="839"/>
                    </a:lnTo>
                    <a:lnTo>
                      <a:pt x="1154" y="815"/>
                    </a:lnTo>
                    <a:lnTo>
                      <a:pt x="1144" y="792"/>
                    </a:lnTo>
                    <a:lnTo>
                      <a:pt x="1135" y="768"/>
                    </a:lnTo>
                    <a:lnTo>
                      <a:pt x="1121" y="719"/>
                    </a:lnTo>
                    <a:lnTo>
                      <a:pt x="1106" y="670"/>
                    </a:lnTo>
                    <a:lnTo>
                      <a:pt x="1092" y="620"/>
                    </a:lnTo>
                    <a:lnTo>
                      <a:pt x="1078" y="568"/>
                    </a:lnTo>
                    <a:lnTo>
                      <a:pt x="1062" y="516"/>
                    </a:lnTo>
                    <a:lnTo>
                      <a:pt x="1043" y="462"/>
                    </a:lnTo>
                    <a:lnTo>
                      <a:pt x="1033" y="435"/>
                    </a:lnTo>
                    <a:lnTo>
                      <a:pt x="1022" y="408"/>
                    </a:lnTo>
                    <a:lnTo>
                      <a:pt x="1010" y="380"/>
                    </a:lnTo>
                    <a:lnTo>
                      <a:pt x="998" y="353"/>
                    </a:lnTo>
                    <a:lnTo>
                      <a:pt x="983" y="324"/>
                    </a:lnTo>
                    <a:lnTo>
                      <a:pt x="967" y="296"/>
                    </a:lnTo>
                    <a:lnTo>
                      <a:pt x="950" y="268"/>
                    </a:lnTo>
                    <a:lnTo>
                      <a:pt x="931" y="238"/>
                    </a:lnTo>
                    <a:lnTo>
                      <a:pt x="912" y="210"/>
                    </a:lnTo>
                    <a:lnTo>
                      <a:pt x="888" y="180"/>
                    </a:lnTo>
                    <a:lnTo>
                      <a:pt x="865" y="151"/>
                    </a:lnTo>
                    <a:lnTo>
                      <a:pt x="839" y="121"/>
                    </a:lnTo>
                    <a:lnTo>
                      <a:pt x="811" y="92"/>
                    </a:lnTo>
                    <a:lnTo>
                      <a:pt x="780" y="61"/>
                    </a:lnTo>
                    <a:lnTo>
                      <a:pt x="748" y="30"/>
                    </a:lnTo>
                    <a:lnTo>
                      <a:pt x="712" y="0"/>
                    </a:lnTo>
                    <a:lnTo>
                      <a:pt x="680" y="0"/>
                    </a:lnTo>
                    <a:lnTo>
                      <a:pt x="648" y="0"/>
                    </a:lnTo>
                    <a:lnTo>
                      <a:pt x="616" y="0"/>
                    </a:lnTo>
                    <a:lnTo>
                      <a:pt x="586" y="0"/>
                    </a:lnTo>
                    <a:lnTo>
                      <a:pt x="554" y="0"/>
                    </a:lnTo>
                    <a:lnTo>
                      <a:pt x="522" y="0"/>
                    </a:lnTo>
                    <a:lnTo>
                      <a:pt x="491" y="0"/>
                    </a:lnTo>
                    <a:lnTo>
                      <a:pt x="459" y="0"/>
                    </a:lnTo>
                    <a:close/>
                  </a:path>
                </a:pathLst>
              </a:custGeom>
              <a:solidFill>
                <a:srgbClr val="db42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5352840" y="3593520"/>
                <a:ext cx="183600" cy="327600"/>
              </a:xfrm>
              <a:custGeom>
                <a:avLst/>
                <a:gdLst/>
                <a:ahLst/>
                <a:rect l="l" t="t" r="r" b="b"/>
                <a:pathLst>
                  <a:path w="487" h="867">
                    <a:moveTo>
                      <a:pt x="17" y="833"/>
                    </a:moveTo>
                    <a:lnTo>
                      <a:pt x="34" y="853"/>
                    </a:lnTo>
                    <a:lnTo>
                      <a:pt x="50" y="747"/>
                    </a:lnTo>
                    <a:lnTo>
                      <a:pt x="70" y="641"/>
                    </a:lnTo>
                    <a:lnTo>
                      <a:pt x="82" y="589"/>
                    </a:lnTo>
                    <a:lnTo>
                      <a:pt x="96" y="538"/>
                    </a:lnTo>
                    <a:lnTo>
                      <a:pt x="104" y="512"/>
                    </a:lnTo>
                    <a:lnTo>
                      <a:pt x="113" y="486"/>
                    </a:lnTo>
                    <a:lnTo>
                      <a:pt x="123" y="460"/>
                    </a:lnTo>
                    <a:lnTo>
                      <a:pt x="133" y="434"/>
                    </a:lnTo>
                    <a:lnTo>
                      <a:pt x="144" y="410"/>
                    </a:lnTo>
                    <a:lnTo>
                      <a:pt x="157" y="384"/>
                    </a:lnTo>
                    <a:lnTo>
                      <a:pt x="171" y="358"/>
                    </a:lnTo>
                    <a:lnTo>
                      <a:pt x="186" y="333"/>
                    </a:lnTo>
                    <a:lnTo>
                      <a:pt x="202" y="308"/>
                    </a:lnTo>
                    <a:lnTo>
                      <a:pt x="219" y="282"/>
                    </a:lnTo>
                    <a:lnTo>
                      <a:pt x="239" y="257"/>
                    </a:lnTo>
                    <a:lnTo>
                      <a:pt x="259" y="231"/>
                    </a:lnTo>
                    <a:lnTo>
                      <a:pt x="282" y="206"/>
                    </a:lnTo>
                    <a:lnTo>
                      <a:pt x="305" y="181"/>
                    </a:lnTo>
                    <a:lnTo>
                      <a:pt x="331" y="155"/>
                    </a:lnTo>
                    <a:lnTo>
                      <a:pt x="358" y="131"/>
                    </a:lnTo>
                    <a:lnTo>
                      <a:pt x="386" y="105"/>
                    </a:lnTo>
                    <a:lnTo>
                      <a:pt x="418" y="79"/>
                    </a:lnTo>
                    <a:lnTo>
                      <a:pt x="451" y="54"/>
                    </a:lnTo>
                    <a:lnTo>
                      <a:pt x="487" y="28"/>
                    </a:lnTo>
                    <a:lnTo>
                      <a:pt x="466" y="0"/>
                    </a:lnTo>
                    <a:lnTo>
                      <a:pt x="430" y="26"/>
                    </a:lnTo>
                    <a:lnTo>
                      <a:pt x="396" y="52"/>
                    </a:lnTo>
                    <a:lnTo>
                      <a:pt x="364" y="78"/>
                    </a:lnTo>
                    <a:lnTo>
                      <a:pt x="334" y="105"/>
                    </a:lnTo>
                    <a:lnTo>
                      <a:pt x="306" y="131"/>
                    </a:lnTo>
                    <a:lnTo>
                      <a:pt x="280" y="156"/>
                    </a:lnTo>
                    <a:lnTo>
                      <a:pt x="256" y="183"/>
                    </a:lnTo>
                    <a:lnTo>
                      <a:pt x="232" y="209"/>
                    </a:lnTo>
                    <a:lnTo>
                      <a:pt x="211" y="235"/>
                    </a:lnTo>
                    <a:lnTo>
                      <a:pt x="192" y="262"/>
                    </a:lnTo>
                    <a:lnTo>
                      <a:pt x="173" y="288"/>
                    </a:lnTo>
                    <a:lnTo>
                      <a:pt x="156" y="315"/>
                    </a:lnTo>
                    <a:lnTo>
                      <a:pt x="140" y="341"/>
                    </a:lnTo>
                    <a:lnTo>
                      <a:pt x="127" y="368"/>
                    </a:lnTo>
                    <a:lnTo>
                      <a:pt x="113" y="394"/>
                    </a:lnTo>
                    <a:lnTo>
                      <a:pt x="101" y="421"/>
                    </a:lnTo>
                    <a:lnTo>
                      <a:pt x="90" y="448"/>
                    </a:lnTo>
                    <a:lnTo>
                      <a:pt x="80" y="474"/>
                    </a:lnTo>
                    <a:lnTo>
                      <a:pt x="71" y="501"/>
                    </a:lnTo>
                    <a:lnTo>
                      <a:pt x="63" y="528"/>
                    </a:lnTo>
                    <a:lnTo>
                      <a:pt x="48" y="581"/>
                    </a:lnTo>
                    <a:lnTo>
                      <a:pt x="36" y="634"/>
                    </a:lnTo>
                    <a:lnTo>
                      <a:pt x="17" y="741"/>
                    </a:lnTo>
                    <a:lnTo>
                      <a:pt x="0" y="848"/>
                    </a:lnTo>
                    <a:lnTo>
                      <a:pt x="17" y="867"/>
                    </a:lnTo>
                    <a:lnTo>
                      <a:pt x="0" y="848"/>
                    </a:lnTo>
                    <a:lnTo>
                      <a:pt x="0" y="851"/>
                    </a:lnTo>
                    <a:lnTo>
                      <a:pt x="0" y="855"/>
                    </a:lnTo>
                    <a:lnTo>
                      <a:pt x="1" y="859"/>
                    </a:lnTo>
                    <a:lnTo>
                      <a:pt x="2" y="861"/>
                    </a:lnTo>
                    <a:lnTo>
                      <a:pt x="7" y="865"/>
                    </a:lnTo>
                    <a:lnTo>
                      <a:pt x="13" y="867"/>
                    </a:lnTo>
                    <a:lnTo>
                      <a:pt x="21" y="867"/>
                    </a:lnTo>
                    <a:lnTo>
                      <a:pt x="27" y="865"/>
                    </a:lnTo>
                    <a:lnTo>
                      <a:pt x="29" y="862"/>
                    </a:lnTo>
                    <a:lnTo>
                      <a:pt x="31" y="860"/>
                    </a:lnTo>
                    <a:lnTo>
                      <a:pt x="33" y="856"/>
                    </a:lnTo>
                    <a:lnTo>
                      <a:pt x="34" y="853"/>
                    </a:lnTo>
                    <a:lnTo>
                      <a:pt x="17" y="8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358600" y="3909600"/>
                <a:ext cx="64080" cy="11520"/>
              </a:xfrm>
              <a:custGeom>
                <a:avLst/>
                <a:gdLst/>
                <a:ahLst/>
                <a:rect l="l" t="t" r="r" b="b"/>
                <a:pathLst>
                  <a:path w="169" h="34">
                    <a:moveTo>
                      <a:pt x="134" y="11"/>
                    </a:moveTo>
                    <a:lnTo>
                      <a:pt x="150" y="0"/>
                    </a:lnTo>
                    <a:lnTo>
                      <a:pt x="137" y="0"/>
                    </a:lnTo>
                    <a:lnTo>
                      <a:pt x="118" y="0"/>
                    </a:lnTo>
                    <a:lnTo>
                      <a:pt x="97" y="0"/>
                    </a:lnTo>
                    <a:lnTo>
                      <a:pt x="75" y="0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14" y="34"/>
                    </a:lnTo>
                    <a:lnTo>
                      <a:pt x="32" y="34"/>
                    </a:lnTo>
                    <a:lnTo>
                      <a:pt x="53" y="34"/>
                    </a:lnTo>
                    <a:lnTo>
                      <a:pt x="75" y="34"/>
                    </a:lnTo>
                    <a:lnTo>
                      <a:pt x="97" y="34"/>
                    </a:lnTo>
                    <a:lnTo>
                      <a:pt x="118" y="34"/>
                    </a:lnTo>
                    <a:lnTo>
                      <a:pt x="137" y="34"/>
                    </a:lnTo>
                    <a:lnTo>
                      <a:pt x="150" y="34"/>
                    </a:lnTo>
                    <a:lnTo>
                      <a:pt x="167" y="23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9" y="33"/>
                    </a:lnTo>
                    <a:lnTo>
                      <a:pt x="161" y="32"/>
                    </a:lnTo>
                    <a:lnTo>
                      <a:pt x="164" y="29"/>
                    </a:lnTo>
                    <a:lnTo>
                      <a:pt x="167" y="23"/>
                    </a:lnTo>
                    <a:lnTo>
                      <a:pt x="169" y="17"/>
                    </a:lnTo>
                    <a:lnTo>
                      <a:pt x="167" y="11"/>
                    </a:lnTo>
                    <a:lnTo>
                      <a:pt x="164" y="5"/>
                    </a:lnTo>
                    <a:lnTo>
                      <a:pt x="161" y="2"/>
                    </a:lnTo>
                    <a:lnTo>
                      <a:pt x="159" y="1"/>
                    </a:lnTo>
                    <a:lnTo>
                      <a:pt x="155" y="0"/>
                    </a:lnTo>
                    <a:lnTo>
                      <a:pt x="150" y="0"/>
                    </a:lnTo>
                    <a:lnTo>
                      <a:pt x="13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5410080" y="3729600"/>
                <a:ext cx="75240" cy="187560"/>
              </a:xfrm>
              <a:custGeom>
                <a:avLst/>
                <a:gdLst/>
                <a:ahLst/>
                <a:rect l="l" t="t" r="r" b="b"/>
                <a:pathLst>
                  <a:path w="199" h="494">
                    <a:moveTo>
                      <a:pt x="199" y="17"/>
                    </a:moveTo>
                    <a:lnTo>
                      <a:pt x="165" y="11"/>
                    </a:lnTo>
                    <a:lnTo>
                      <a:pt x="145" y="70"/>
                    </a:lnTo>
                    <a:lnTo>
                      <a:pt x="124" y="128"/>
                    </a:lnTo>
                    <a:lnTo>
                      <a:pt x="105" y="187"/>
                    </a:lnTo>
                    <a:lnTo>
                      <a:pt x="84" y="246"/>
                    </a:lnTo>
                    <a:lnTo>
                      <a:pt x="63" y="305"/>
                    </a:lnTo>
                    <a:lnTo>
                      <a:pt x="42" y="364"/>
                    </a:lnTo>
                    <a:lnTo>
                      <a:pt x="21" y="423"/>
                    </a:lnTo>
                    <a:lnTo>
                      <a:pt x="0" y="482"/>
                    </a:lnTo>
                    <a:lnTo>
                      <a:pt x="33" y="494"/>
                    </a:lnTo>
                    <a:lnTo>
                      <a:pt x="54" y="435"/>
                    </a:lnTo>
                    <a:lnTo>
                      <a:pt x="75" y="375"/>
                    </a:lnTo>
                    <a:lnTo>
                      <a:pt x="96" y="316"/>
                    </a:lnTo>
                    <a:lnTo>
                      <a:pt x="116" y="257"/>
                    </a:lnTo>
                    <a:lnTo>
                      <a:pt x="137" y="198"/>
                    </a:lnTo>
                    <a:lnTo>
                      <a:pt x="158" y="140"/>
                    </a:lnTo>
                    <a:lnTo>
                      <a:pt x="177" y="81"/>
                    </a:lnTo>
                    <a:lnTo>
                      <a:pt x="198" y="22"/>
                    </a:lnTo>
                    <a:lnTo>
                      <a:pt x="164" y="17"/>
                    </a:lnTo>
                    <a:lnTo>
                      <a:pt x="198" y="22"/>
                    </a:lnTo>
                    <a:lnTo>
                      <a:pt x="199" y="18"/>
                    </a:lnTo>
                    <a:lnTo>
                      <a:pt x="199" y="15"/>
                    </a:lnTo>
                    <a:lnTo>
                      <a:pt x="198" y="11"/>
                    </a:lnTo>
                    <a:lnTo>
                      <a:pt x="197" y="8"/>
                    </a:lnTo>
                    <a:lnTo>
                      <a:pt x="193" y="3"/>
                    </a:lnTo>
                    <a:lnTo>
                      <a:pt x="187" y="0"/>
                    </a:lnTo>
                    <a:lnTo>
                      <a:pt x="181" y="0"/>
                    </a:lnTo>
                    <a:lnTo>
                      <a:pt x="175" y="1"/>
                    </a:lnTo>
                    <a:lnTo>
                      <a:pt x="171" y="2"/>
                    </a:lnTo>
                    <a:lnTo>
                      <a:pt x="169" y="5"/>
                    </a:lnTo>
                    <a:lnTo>
                      <a:pt x="166" y="7"/>
                    </a:lnTo>
                    <a:lnTo>
                      <a:pt x="165" y="11"/>
                    </a:lnTo>
                    <a:lnTo>
                      <a:pt x="1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5472360" y="3737520"/>
                <a:ext cx="12960" cy="156960"/>
              </a:xfrm>
              <a:custGeom>
                <a:avLst/>
                <a:gdLst/>
                <a:ahLst/>
                <a:rect l="l" t="t" r="r" b="b"/>
                <a:pathLst>
                  <a:path w="35" h="417">
                    <a:moveTo>
                      <a:pt x="29" y="386"/>
                    </a:moveTo>
                    <a:lnTo>
                      <a:pt x="35" y="399"/>
                    </a:lnTo>
                    <a:lnTo>
                      <a:pt x="35" y="349"/>
                    </a:lnTo>
                    <a:lnTo>
                      <a:pt x="35" y="299"/>
                    </a:lnTo>
                    <a:lnTo>
                      <a:pt x="35" y="250"/>
                    </a:lnTo>
                    <a:lnTo>
                      <a:pt x="35" y="199"/>
                    </a:lnTo>
                    <a:lnTo>
                      <a:pt x="35" y="149"/>
                    </a:lnTo>
                    <a:lnTo>
                      <a:pt x="35" y="100"/>
                    </a:lnTo>
                    <a:lnTo>
                      <a:pt x="35" y="49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0" y="100"/>
                    </a:lnTo>
                    <a:lnTo>
                      <a:pt x="0" y="149"/>
                    </a:lnTo>
                    <a:lnTo>
                      <a:pt x="0" y="199"/>
                    </a:lnTo>
                    <a:lnTo>
                      <a:pt x="0" y="250"/>
                    </a:lnTo>
                    <a:lnTo>
                      <a:pt x="0" y="299"/>
                    </a:lnTo>
                    <a:lnTo>
                      <a:pt x="0" y="349"/>
                    </a:lnTo>
                    <a:lnTo>
                      <a:pt x="0" y="399"/>
                    </a:lnTo>
                    <a:lnTo>
                      <a:pt x="6" y="412"/>
                    </a:lnTo>
                    <a:lnTo>
                      <a:pt x="0" y="399"/>
                    </a:lnTo>
                    <a:lnTo>
                      <a:pt x="1" y="403"/>
                    </a:lnTo>
                    <a:lnTo>
                      <a:pt x="1" y="407"/>
                    </a:lnTo>
                    <a:lnTo>
                      <a:pt x="3" y="410"/>
                    </a:lnTo>
                    <a:lnTo>
                      <a:pt x="6" y="412"/>
                    </a:lnTo>
                    <a:lnTo>
                      <a:pt x="11" y="416"/>
                    </a:lnTo>
                    <a:lnTo>
                      <a:pt x="17" y="417"/>
                    </a:lnTo>
                    <a:lnTo>
                      <a:pt x="24" y="416"/>
                    </a:lnTo>
                    <a:lnTo>
                      <a:pt x="29" y="412"/>
                    </a:lnTo>
                    <a:lnTo>
                      <a:pt x="32" y="410"/>
                    </a:lnTo>
                    <a:lnTo>
                      <a:pt x="33" y="407"/>
                    </a:lnTo>
                    <a:lnTo>
                      <a:pt x="34" y="403"/>
                    </a:lnTo>
                    <a:lnTo>
                      <a:pt x="35" y="399"/>
                    </a:lnTo>
                    <a:lnTo>
                      <a:pt x="29" y="3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474160" y="3882960"/>
                <a:ext cx="196920" cy="60480"/>
              </a:xfrm>
              <a:custGeom>
                <a:avLst/>
                <a:gdLst/>
                <a:ahLst/>
                <a:rect l="l" t="t" r="r" b="b"/>
                <a:pathLst>
                  <a:path w="517" h="158">
                    <a:moveTo>
                      <a:pt x="482" y="85"/>
                    </a:moveTo>
                    <a:lnTo>
                      <a:pt x="491" y="70"/>
                    </a:lnTo>
                    <a:lnTo>
                      <a:pt x="460" y="85"/>
                    </a:lnTo>
                    <a:lnTo>
                      <a:pt x="430" y="99"/>
                    </a:lnTo>
                    <a:lnTo>
                      <a:pt x="416" y="104"/>
                    </a:lnTo>
                    <a:lnTo>
                      <a:pt x="401" y="108"/>
                    </a:lnTo>
                    <a:lnTo>
                      <a:pt x="386" y="112"/>
                    </a:lnTo>
                    <a:lnTo>
                      <a:pt x="370" y="116"/>
                    </a:lnTo>
                    <a:lnTo>
                      <a:pt x="355" y="118"/>
                    </a:lnTo>
                    <a:lnTo>
                      <a:pt x="341" y="121"/>
                    </a:lnTo>
                    <a:lnTo>
                      <a:pt x="326" y="122"/>
                    </a:lnTo>
                    <a:lnTo>
                      <a:pt x="312" y="123"/>
                    </a:lnTo>
                    <a:lnTo>
                      <a:pt x="298" y="123"/>
                    </a:lnTo>
                    <a:lnTo>
                      <a:pt x="283" y="123"/>
                    </a:lnTo>
                    <a:lnTo>
                      <a:pt x="268" y="122"/>
                    </a:lnTo>
                    <a:lnTo>
                      <a:pt x="253" y="120"/>
                    </a:lnTo>
                    <a:lnTo>
                      <a:pt x="239" y="117"/>
                    </a:lnTo>
                    <a:lnTo>
                      <a:pt x="225" y="115"/>
                    </a:lnTo>
                    <a:lnTo>
                      <a:pt x="210" y="111"/>
                    </a:lnTo>
                    <a:lnTo>
                      <a:pt x="196" y="106"/>
                    </a:lnTo>
                    <a:lnTo>
                      <a:pt x="181" y="101"/>
                    </a:lnTo>
                    <a:lnTo>
                      <a:pt x="166" y="95"/>
                    </a:lnTo>
                    <a:lnTo>
                      <a:pt x="152" y="89"/>
                    </a:lnTo>
                    <a:lnTo>
                      <a:pt x="138" y="81"/>
                    </a:lnTo>
                    <a:lnTo>
                      <a:pt x="109" y="65"/>
                    </a:lnTo>
                    <a:lnTo>
                      <a:pt x="80" y="47"/>
                    </a:lnTo>
                    <a:lnTo>
                      <a:pt x="52" y="25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9" y="52"/>
                    </a:lnTo>
                    <a:lnTo>
                      <a:pt x="60" y="75"/>
                    </a:lnTo>
                    <a:lnTo>
                      <a:pt x="91" y="95"/>
                    </a:lnTo>
                    <a:lnTo>
                      <a:pt x="122" y="112"/>
                    </a:lnTo>
                    <a:lnTo>
                      <a:pt x="138" y="121"/>
                    </a:lnTo>
                    <a:lnTo>
                      <a:pt x="154" y="127"/>
                    </a:lnTo>
                    <a:lnTo>
                      <a:pt x="168" y="133"/>
                    </a:lnTo>
                    <a:lnTo>
                      <a:pt x="184" y="139"/>
                    </a:lnTo>
                    <a:lnTo>
                      <a:pt x="200" y="144"/>
                    </a:lnTo>
                    <a:lnTo>
                      <a:pt x="216" y="148"/>
                    </a:lnTo>
                    <a:lnTo>
                      <a:pt x="232" y="151"/>
                    </a:lnTo>
                    <a:lnTo>
                      <a:pt x="248" y="154"/>
                    </a:lnTo>
                    <a:lnTo>
                      <a:pt x="264" y="156"/>
                    </a:lnTo>
                    <a:lnTo>
                      <a:pt x="280" y="158"/>
                    </a:lnTo>
                    <a:lnTo>
                      <a:pt x="296" y="158"/>
                    </a:lnTo>
                    <a:lnTo>
                      <a:pt x="312" y="158"/>
                    </a:lnTo>
                    <a:lnTo>
                      <a:pt x="330" y="156"/>
                    </a:lnTo>
                    <a:lnTo>
                      <a:pt x="346" y="155"/>
                    </a:lnTo>
                    <a:lnTo>
                      <a:pt x="362" y="153"/>
                    </a:lnTo>
                    <a:lnTo>
                      <a:pt x="378" y="150"/>
                    </a:lnTo>
                    <a:lnTo>
                      <a:pt x="394" y="147"/>
                    </a:lnTo>
                    <a:lnTo>
                      <a:pt x="411" y="142"/>
                    </a:lnTo>
                    <a:lnTo>
                      <a:pt x="427" y="137"/>
                    </a:lnTo>
                    <a:lnTo>
                      <a:pt x="443" y="131"/>
                    </a:lnTo>
                    <a:lnTo>
                      <a:pt x="475" y="117"/>
                    </a:lnTo>
                    <a:lnTo>
                      <a:pt x="508" y="100"/>
                    </a:lnTo>
                    <a:lnTo>
                      <a:pt x="517" y="85"/>
                    </a:lnTo>
                    <a:lnTo>
                      <a:pt x="508" y="100"/>
                    </a:lnTo>
                    <a:lnTo>
                      <a:pt x="510" y="97"/>
                    </a:lnTo>
                    <a:lnTo>
                      <a:pt x="513" y="95"/>
                    </a:lnTo>
                    <a:lnTo>
                      <a:pt x="515" y="92"/>
                    </a:lnTo>
                    <a:lnTo>
                      <a:pt x="517" y="89"/>
                    </a:lnTo>
                    <a:lnTo>
                      <a:pt x="517" y="83"/>
                    </a:lnTo>
                    <a:lnTo>
                      <a:pt x="514" y="76"/>
                    </a:lnTo>
                    <a:lnTo>
                      <a:pt x="510" y="72"/>
                    </a:lnTo>
                    <a:lnTo>
                      <a:pt x="504" y="68"/>
                    </a:lnTo>
                    <a:lnTo>
                      <a:pt x="502" y="68"/>
                    </a:lnTo>
                    <a:lnTo>
                      <a:pt x="498" y="68"/>
                    </a:lnTo>
                    <a:lnTo>
                      <a:pt x="494" y="68"/>
                    </a:lnTo>
                    <a:lnTo>
                      <a:pt x="491" y="70"/>
                    </a:lnTo>
                    <a:lnTo>
                      <a:pt x="482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657760" y="3780720"/>
                <a:ext cx="12960" cy="134280"/>
              </a:xfrm>
              <a:custGeom>
                <a:avLst/>
                <a:gdLst/>
                <a:ahLst/>
                <a:rect l="l" t="t" r="r" b="b"/>
                <a:pathLst>
                  <a:path w="35" h="357">
                    <a:moveTo>
                      <a:pt x="35" y="14"/>
                    </a:moveTo>
                    <a:lnTo>
                      <a:pt x="0" y="18"/>
                    </a:lnTo>
                    <a:lnTo>
                      <a:pt x="0" y="72"/>
                    </a:lnTo>
                    <a:lnTo>
                      <a:pt x="0" y="116"/>
                    </a:lnTo>
                    <a:lnTo>
                      <a:pt x="0" y="153"/>
                    </a:lnTo>
                    <a:lnTo>
                      <a:pt x="0" y="186"/>
                    </a:lnTo>
                    <a:lnTo>
                      <a:pt x="0" y="219"/>
                    </a:lnTo>
                    <a:lnTo>
                      <a:pt x="0" y="257"/>
                    </a:lnTo>
                    <a:lnTo>
                      <a:pt x="0" y="302"/>
                    </a:lnTo>
                    <a:lnTo>
                      <a:pt x="0" y="357"/>
                    </a:lnTo>
                    <a:lnTo>
                      <a:pt x="35" y="357"/>
                    </a:lnTo>
                    <a:lnTo>
                      <a:pt x="35" y="302"/>
                    </a:lnTo>
                    <a:lnTo>
                      <a:pt x="35" y="257"/>
                    </a:lnTo>
                    <a:lnTo>
                      <a:pt x="35" y="219"/>
                    </a:lnTo>
                    <a:lnTo>
                      <a:pt x="35" y="186"/>
                    </a:lnTo>
                    <a:lnTo>
                      <a:pt x="35" y="153"/>
                    </a:lnTo>
                    <a:lnTo>
                      <a:pt x="35" y="116"/>
                    </a:lnTo>
                    <a:lnTo>
                      <a:pt x="35" y="72"/>
                    </a:lnTo>
                    <a:lnTo>
                      <a:pt x="35" y="18"/>
                    </a:lnTo>
                    <a:lnTo>
                      <a:pt x="0" y="21"/>
                    </a:lnTo>
                    <a:lnTo>
                      <a:pt x="35" y="18"/>
                    </a:lnTo>
                    <a:lnTo>
                      <a:pt x="35" y="14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30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657760" y="3784680"/>
                <a:ext cx="94680" cy="181440"/>
              </a:xfrm>
              <a:custGeom>
                <a:avLst/>
                <a:gdLst/>
                <a:ahLst/>
                <a:rect l="l" t="t" r="r" b="b"/>
                <a:pathLst>
                  <a:path w="251" h="478">
                    <a:moveTo>
                      <a:pt x="233" y="444"/>
                    </a:moveTo>
                    <a:lnTo>
                      <a:pt x="250" y="457"/>
                    </a:lnTo>
                    <a:lnTo>
                      <a:pt x="241" y="423"/>
                    </a:lnTo>
                    <a:lnTo>
                      <a:pt x="230" y="391"/>
                    </a:lnTo>
                    <a:lnTo>
                      <a:pt x="217" y="359"/>
                    </a:lnTo>
                    <a:lnTo>
                      <a:pt x="203" y="331"/>
                    </a:lnTo>
                    <a:lnTo>
                      <a:pt x="187" y="302"/>
                    </a:lnTo>
                    <a:lnTo>
                      <a:pt x="171" y="275"/>
                    </a:lnTo>
                    <a:lnTo>
                      <a:pt x="155" y="248"/>
                    </a:lnTo>
                    <a:lnTo>
                      <a:pt x="139" y="223"/>
                    </a:lnTo>
                    <a:lnTo>
                      <a:pt x="123" y="197"/>
                    </a:lnTo>
                    <a:lnTo>
                      <a:pt x="107" y="171"/>
                    </a:lnTo>
                    <a:lnTo>
                      <a:pt x="91" y="145"/>
                    </a:lnTo>
                    <a:lnTo>
                      <a:pt x="78" y="118"/>
                    </a:lnTo>
                    <a:lnTo>
                      <a:pt x="64" y="91"/>
                    </a:lnTo>
                    <a:lnTo>
                      <a:pt x="52" y="63"/>
                    </a:lnTo>
                    <a:lnTo>
                      <a:pt x="42" y="32"/>
                    </a:lnTo>
                    <a:lnTo>
                      <a:pt x="35" y="0"/>
                    </a:lnTo>
                    <a:lnTo>
                      <a:pt x="0" y="7"/>
                    </a:lnTo>
                    <a:lnTo>
                      <a:pt x="9" y="42"/>
                    </a:lnTo>
                    <a:lnTo>
                      <a:pt x="20" y="74"/>
                    </a:lnTo>
                    <a:lnTo>
                      <a:pt x="32" y="104"/>
                    </a:lnTo>
                    <a:lnTo>
                      <a:pt x="46" y="134"/>
                    </a:lnTo>
                    <a:lnTo>
                      <a:pt x="62" y="162"/>
                    </a:lnTo>
                    <a:lnTo>
                      <a:pt x="76" y="189"/>
                    </a:lnTo>
                    <a:lnTo>
                      <a:pt x="94" y="215"/>
                    </a:lnTo>
                    <a:lnTo>
                      <a:pt x="110" y="241"/>
                    </a:lnTo>
                    <a:lnTo>
                      <a:pt x="126" y="267"/>
                    </a:lnTo>
                    <a:lnTo>
                      <a:pt x="142" y="293"/>
                    </a:lnTo>
                    <a:lnTo>
                      <a:pt x="158" y="320"/>
                    </a:lnTo>
                    <a:lnTo>
                      <a:pt x="171" y="346"/>
                    </a:lnTo>
                    <a:lnTo>
                      <a:pt x="185" y="374"/>
                    </a:lnTo>
                    <a:lnTo>
                      <a:pt x="197" y="402"/>
                    </a:lnTo>
                    <a:lnTo>
                      <a:pt x="208" y="433"/>
                    </a:lnTo>
                    <a:lnTo>
                      <a:pt x="217" y="465"/>
                    </a:lnTo>
                    <a:lnTo>
                      <a:pt x="233" y="478"/>
                    </a:lnTo>
                    <a:lnTo>
                      <a:pt x="217" y="465"/>
                    </a:lnTo>
                    <a:lnTo>
                      <a:pt x="218" y="470"/>
                    </a:lnTo>
                    <a:lnTo>
                      <a:pt x="219" y="472"/>
                    </a:lnTo>
                    <a:lnTo>
                      <a:pt x="221" y="475"/>
                    </a:lnTo>
                    <a:lnTo>
                      <a:pt x="224" y="477"/>
                    </a:lnTo>
                    <a:lnTo>
                      <a:pt x="230" y="478"/>
                    </a:lnTo>
                    <a:lnTo>
                      <a:pt x="236" y="478"/>
                    </a:lnTo>
                    <a:lnTo>
                      <a:pt x="242" y="476"/>
                    </a:lnTo>
                    <a:lnTo>
                      <a:pt x="247" y="471"/>
                    </a:lnTo>
                    <a:lnTo>
                      <a:pt x="249" y="469"/>
                    </a:lnTo>
                    <a:lnTo>
                      <a:pt x="250" y="465"/>
                    </a:lnTo>
                    <a:lnTo>
                      <a:pt x="251" y="461"/>
                    </a:lnTo>
                    <a:lnTo>
                      <a:pt x="250" y="457"/>
                    </a:lnTo>
                    <a:lnTo>
                      <a:pt x="233" y="4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744880" y="3918960"/>
                <a:ext cx="65880" cy="47160"/>
              </a:xfrm>
              <a:custGeom>
                <a:avLst/>
                <a:gdLst/>
                <a:ahLst/>
                <a:rect l="l" t="t" r="r" b="b"/>
                <a:pathLst>
                  <a:path w="173" h="126">
                    <a:moveTo>
                      <a:pt x="140" y="24"/>
                    </a:moveTo>
                    <a:lnTo>
                      <a:pt x="156" y="0"/>
                    </a:lnTo>
                    <a:lnTo>
                      <a:pt x="145" y="1"/>
                    </a:lnTo>
                    <a:lnTo>
                      <a:pt x="135" y="5"/>
                    </a:lnTo>
                    <a:lnTo>
                      <a:pt x="124" y="10"/>
                    </a:lnTo>
                    <a:lnTo>
                      <a:pt x="113" y="17"/>
                    </a:lnTo>
                    <a:lnTo>
                      <a:pt x="91" y="32"/>
                    </a:lnTo>
                    <a:lnTo>
                      <a:pt x="67" y="49"/>
                    </a:lnTo>
                    <a:lnTo>
                      <a:pt x="44" y="6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89"/>
                    </a:lnTo>
                    <a:lnTo>
                      <a:pt x="2" y="92"/>
                    </a:lnTo>
                    <a:lnTo>
                      <a:pt x="0" y="92"/>
                    </a:lnTo>
                    <a:lnTo>
                      <a:pt x="0" y="126"/>
                    </a:lnTo>
                    <a:lnTo>
                      <a:pt x="11" y="125"/>
                    </a:lnTo>
                    <a:lnTo>
                      <a:pt x="22" y="121"/>
                    </a:lnTo>
                    <a:lnTo>
                      <a:pt x="32" y="117"/>
                    </a:lnTo>
                    <a:lnTo>
                      <a:pt x="43" y="109"/>
                    </a:lnTo>
                    <a:lnTo>
                      <a:pt x="65" y="94"/>
                    </a:lnTo>
                    <a:lnTo>
                      <a:pt x="88" y="77"/>
                    </a:lnTo>
                    <a:lnTo>
                      <a:pt x="111" y="60"/>
                    </a:lnTo>
                    <a:lnTo>
                      <a:pt x="132" y="45"/>
                    </a:lnTo>
                    <a:lnTo>
                      <a:pt x="141" y="40"/>
                    </a:lnTo>
                    <a:lnTo>
                      <a:pt x="148" y="37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72" y="8"/>
                    </a:lnTo>
                    <a:lnTo>
                      <a:pt x="156" y="34"/>
                    </a:lnTo>
                    <a:lnTo>
                      <a:pt x="159" y="34"/>
                    </a:lnTo>
                    <a:lnTo>
                      <a:pt x="163" y="33"/>
                    </a:lnTo>
                    <a:lnTo>
                      <a:pt x="166" y="30"/>
                    </a:lnTo>
                    <a:lnTo>
                      <a:pt x="168" y="28"/>
                    </a:lnTo>
                    <a:lnTo>
                      <a:pt x="172" y="23"/>
                    </a:lnTo>
                    <a:lnTo>
                      <a:pt x="173" y="17"/>
                    </a:lnTo>
                    <a:lnTo>
                      <a:pt x="172" y="11"/>
                    </a:lnTo>
                    <a:lnTo>
                      <a:pt x="168" y="5"/>
                    </a:lnTo>
                    <a:lnTo>
                      <a:pt x="166" y="2"/>
                    </a:lnTo>
                    <a:lnTo>
                      <a:pt x="163" y="1"/>
                    </a:lnTo>
                    <a:lnTo>
                      <a:pt x="159" y="0"/>
                    </a:lnTo>
                    <a:lnTo>
                      <a:pt x="156" y="0"/>
                    </a:lnTo>
                    <a:lnTo>
                      <a:pt x="14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5621760" y="3591360"/>
                <a:ext cx="189000" cy="336960"/>
              </a:xfrm>
              <a:custGeom>
                <a:avLst/>
                <a:gdLst/>
                <a:ahLst/>
                <a:rect l="l" t="t" r="r" b="b"/>
                <a:pathLst>
                  <a:path w="496" h="887">
                    <a:moveTo>
                      <a:pt x="17" y="36"/>
                    </a:moveTo>
                    <a:lnTo>
                      <a:pt x="6" y="31"/>
                    </a:lnTo>
                    <a:lnTo>
                      <a:pt x="41" y="62"/>
                    </a:lnTo>
                    <a:lnTo>
                      <a:pt x="74" y="91"/>
                    </a:lnTo>
                    <a:lnTo>
                      <a:pt x="103" y="121"/>
                    </a:lnTo>
                    <a:lnTo>
                      <a:pt x="130" y="151"/>
                    </a:lnTo>
                    <a:lnTo>
                      <a:pt x="156" y="180"/>
                    </a:lnTo>
                    <a:lnTo>
                      <a:pt x="180" y="210"/>
                    </a:lnTo>
                    <a:lnTo>
                      <a:pt x="202" y="238"/>
                    </a:lnTo>
                    <a:lnTo>
                      <a:pt x="221" y="266"/>
                    </a:lnTo>
                    <a:lnTo>
                      <a:pt x="240" y="294"/>
                    </a:lnTo>
                    <a:lnTo>
                      <a:pt x="257" y="323"/>
                    </a:lnTo>
                    <a:lnTo>
                      <a:pt x="273" y="351"/>
                    </a:lnTo>
                    <a:lnTo>
                      <a:pt x="287" y="378"/>
                    </a:lnTo>
                    <a:lnTo>
                      <a:pt x="299" y="405"/>
                    </a:lnTo>
                    <a:lnTo>
                      <a:pt x="311" y="432"/>
                    </a:lnTo>
                    <a:lnTo>
                      <a:pt x="322" y="459"/>
                    </a:lnTo>
                    <a:lnTo>
                      <a:pt x="332" y="486"/>
                    </a:lnTo>
                    <a:lnTo>
                      <a:pt x="351" y="539"/>
                    </a:lnTo>
                    <a:lnTo>
                      <a:pt x="365" y="591"/>
                    </a:lnTo>
                    <a:lnTo>
                      <a:pt x="380" y="643"/>
                    </a:lnTo>
                    <a:lnTo>
                      <a:pt x="394" y="693"/>
                    </a:lnTo>
                    <a:lnTo>
                      <a:pt x="408" y="742"/>
                    </a:lnTo>
                    <a:lnTo>
                      <a:pt x="424" y="791"/>
                    </a:lnTo>
                    <a:lnTo>
                      <a:pt x="433" y="816"/>
                    </a:lnTo>
                    <a:lnTo>
                      <a:pt x="443" y="841"/>
                    </a:lnTo>
                    <a:lnTo>
                      <a:pt x="453" y="864"/>
                    </a:lnTo>
                    <a:lnTo>
                      <a:pt x="464" y="887"/>
                    </a:lnTo>
                    <a:lnTo>
                      <a:pt x="496" y="871"/>
                    </a:lnTo>
                    <a:lnTo>
                      <a:pt x="485" y="849"/>
                    </a:lnTo>
                    <a:lnTo>
                      <a:pt x="475" y="827"/>
                    </a:lnTo>
                    <a:lnTo>
                      <a:pt x="466" y="804"/>
                    </a:lnTo>
                    <a:lnTo>
                      <a:pt x="458" y="780"/>
                    </a:lnTo>
                    <a:lnTo>
                      <a:pt x="442" y="732"/>
                    </a:lnTo>
                    <a:lnTo>
                      <a:pt x="428" y="683"/>
                    </a:lnTo>
                    <a:lnTo>
                      <a:pt x="413" y="633"/>
                    </a:lnTo>
                    <a:lnTo>
                      <a:pt x="400" y="581"/>
                    </a:lnTo>
                    <a:lnTo>
                      <a:pt x="384" y="528"/>
                    </a:lnTo>
                    <a:lnTo>
                      <a:pt x="365" y="474"/>
                    </a:lnTo>
                    <a:lnTo>
                      <a:pt x="354" y="447"/>
                    </a:lnTo>
                    <a:lnTo>
                      <a:pt x="343" y="419"/>
                    </a:lnTo>
                    <a:lnTo>
                      <a:pt x="331" y="392"/>
                    </a:lnTo>
                    <a:lnTo>
                      <a:pt x="317" y="363"/>
                    </a:lnTo>
                    <a:lnTo>
                      <a:pt x="303" y="334"/>
                    </a:lnTo>
                    <a:lnTo>
                      <a:pt x="287" y="305"/>
                    </a:lnTo>
                    <a:lnTo>
                      <a:pt x="269" y="276"/>
                    </a:lnTo>
                    <a:lnTo>
                      <a:pt x="251" y="246"/>
                    </a:lnTo>
                    <a:lnTo>
                      <a:pt x="230" y="217"/>
                    </a:lnTo>
                    <a:lnTo>
                      <a:pt x="208" y="187"/>
                    </a:lnTo>
                    <a:lnTo>
                      <a:pt x="183" y="158"/>
                    </a:lnTo>
                    <a:lnTo>
                      <a:pt x="156" y="127"/>
                    </a:lnTo>
                    <a:lnTo>
                      <a:pt x="128" y="98"/>
                    </a:lnTo>
                    <a:lnTo>
                      <a:pt x="97" y="67"/>
                    </a:lnTo>
                    <a:lnTo>
                      <a:pt x="64" y="36"/>
                    </a:lnTo>
                    <a:lnTo>
                      <a:pt x="28" y="5"/>
                    </a:lnTo>
                    <a:lnTo>
                      <a:pt x="17" y="0"/>
                    </a:lnTo>
                    <a:lnTo>
                      <a:pt x="28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4" y="7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4" y="29"/>
                    </a:lnTo>
                    <a:lnTo>
                      <a:pt x="6" y="31"/>
                    </a:lnTo>
                    <a:lnTo>
                      <a:pt x="17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527080" y="3591360"/>
                <a:ext cx="101880" cy="12960"/>
              </a:xfrm>
              <a:custGeom>
                <a:avLst/>
                <a:gdLst/>
                <a:ahLst/>
                <a:rect l="l" t="t" r="r" b="b"/>
                <a:pathLst>
                  <a:path w="270" h="36">
                    <a:moveTo>
                      <a:pt x="28" y="32"/>
                    </a:moveTo>
                    <a:lnTo>
                      <a:pt x="17" y="36"/>
                    </a:lnTo>
                    <a:lnTo>
                      <a:pt x="49" y="36"/>
                    </a:lnTo>
                    <a:lnTo>
                      <a:pt x="80" y="36"/>
                    </a:lnTo>
                    <a:lnTo>
                      <a:pt x="112" y="36"/>
                    </a:lnTo>
                    <a:lnTo>
                      <a:pt x="144" y="36"/>
                    </a:lnTo>
                    <a:lnTo>
                      <a:pt x="174" y="36"/>
                    </a:lnTo>
                    <a:lnTo>
                      <a:pt x="206" y="36"/>
                    </a:lnTo>
                    <a:lnTo>
                      <a:pt x="238" y="36"/>
                    </a:lnTo>
                    <a:lnTo>
                      <a:pt x="270" y="36"/>
                    </a:lnTo>
                    <a:lnTo>
                      <a:pt x="270" y="0"/>
                    </a:lnTo>
                    <a:lnTo>
                      <a:pt x="238" y="0"/>
                    </a:lnTo>
                    <a:lnTo>
                      <a:pt x="206" y="0"/>
                    </a:lnTo>
                    <a:lnTo>
                      <a:pt x="174" y="0"/>
                    </a:lnTo>
                    <a:lnTo>
                      <a:pt x="144" y="0"/>
                    </a:lnTo>
                    <a:lnTo>
                      <a:pt x="112" y="0"/>
                    </a:lnTo>
                    <a:lnTo>
                      <a:pt x="8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7" y="4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3" y="35"/>
                    </a:lnTo>
                    <a:lnTo>
                      <a:pt x="17" y="36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470560" y="347436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447" h="593">
                    <a:moveTo>
                      <a:pt x="224" y="0"/>
                    </a:moveTo>
                    <a:lnTo>
                      <a:pt x="235" y="2"/>
                    </a:lnTo>
                    <a:lnTo>
                      <a:pt x="246" y="3"/>
                    </a:lnTo>
                    <a:lnTo>
                      <a:pt x="257" y="4"/>
                    </a:lnTo>
                    <a:lnTo>
                      <a:pt x="268" y="7"/>
                    </a:lnTo>
                    <a:lnTo>
                      <a:pt x="278" y="10"/>
                    </a:lnTo>
                    <a:lnTo>
                      <a:pt x="289" y="14"/>
                    </a:lnTo>
                    <a:lnTo>
                      <a:pt x="299" y="19"/>
                    </a:lnTo>
                    <a:lnTo>
                      <a:pt x="309" y="24"/>
                    </a:lnTo>
                    <a:lnTo>
                      <a:pt x="319" y="30"/>
                    </a:lnTo>
                    <a:lnTo>
                      <a:pt x="329" y="36"/>
                    </a:lnTo>
                    <a:lnTo>
                      <a:pt x="338" y="44"/>
                    </a:lnTo>
                    <a:lnTo>
                      <a:pt x="347" y="51"/>
                    </a:lnTo>
                    <a:lnTo>
                      <a:pt x="364" y="68"/>
                    </a:lnTo>
                    <a:lnTo>
                      <a:pt x="380" y="88"/>
                    </a:lnTo>
                    <a:lnTo>
                      <a:pt x="395" y="109"/>
                    </a:lnTo>
                    <a:lnTo>
                      <a:pt x="407" y="131"/>
                    </a:lnTo>
                    <a:lnTo>
                      <a:pt x="420" y="155"/>
                    </a:lnTo>
                    <a:lnTo>
                      <a:pt x="428" y="181"/>
                    </a:lnTo>
                    <a:lnTo>
                      <a:pt x="437" y="208"/>
                    </a:lnTo>
                    <a:lnTo>
                      <a:pt x="442" y="237"/>
                    </a:lnTo>
                    <a:lnTo>
                      <a:pt x="445" y="266"/>
                    </a:lnTo>
                    <a:lnTo>
                      <a:pt x="447" y="296"/>
                    </a:lnTo>
                    <a:lnTo>
                      <a:pt x="445" y="326"/>
                    </a:lnTo>
                    <a:lnTo>
                      <a:pt x="442" y="356"/>
                    </a:lnTo>
                    <a:lnTo>
                      <a:pt x="437" y="384"/>
                    </a:lnTo>
                    <a:lnTo>
                      <a:pt x="428" y="411"/>
                    </a:lnTo>
                    <a:lnTo>
                      <a:pt x="420" y="437"/>
                    </a:lnTo>
                    <a:lnTo>
                      <a:pt x="407" y="462"/>
                    </a:lnTo>
                    <a:lnTo>
                      <a:pt x="395" y="485"/>
                    </a:lnTo>
                    <a:lnTo>
                      <a:pt x="380" y="506"/>
                    </a:lnTo>
                    <a:lnTo>
                      <a:pt x="364" y="526"/>
                    </a:lnTo>
                    <a:lnTo>
                      <a:pt x="347" y="543"/>
                    </a:lnTo>
                    <a:lnTo>
                      <a:pt x="338" y="550"/>
                    </a:lnTo>
                    <a:lnTo>
                      <a:pt x="329" y="558"/>
                    </a:lnTo>
                    <a:lnTo>
                      <a:pt x="319" y="564"/>
                    </a:lnTo>
                    <a:lnTo>
                      <a:pt x="309" y="570"/>
                    </a:lnTo>
                    <a:lnTo>
                      <a:pt x="299" y="575"/>
                    </a:lnTo>
                    <a:lnTo>
                      <a:pt x="289" y="580"/>
                    </a:lnTo>
                    <a:lnTo>
                      <a:pt x="278" y="584"/>
                    </a:lnTo>
                    <a:lnTo>
                      <a:pt x="268" y="587"/>
                    </a:lnTo>
                    <a:lnTo>
                      <a:pt x="257" y="590"/>
                    </a:lnTo>
                    <a:lnTo>
                      <a:pt x="246" y="591"/>
                    </a:lnTo>
                    <a:lnTo>
                      <a:pt x="235" y="592"/>
                    </a:lnTo>
                    <a:lnTo>
                      <a:pt x="224" y="593"/>
                    </a:lnTo>
                    <a:lnTo>
                      <a:pt x="212" y="592"/>
                    </a:lnTo>
                    <a:lnTo>
                      <a:pt x="201" y="591"/>
                    </a:lnTo>
                    <a:lnTo>
                      <a:pt x="190" y="590"/>
                    </a:lnTo>
                    <a:lnTo>
                      <a:pt x="178" y="587"/>
                    </a:lnTo>
                    <a:lnTo>
                      <a:pt x="167" y="584"/>
                    </a:lnTo>
                    <a:lnTo>
                      <a:pt x="158" y="580"/>
                    </a:lnTo>
                    <a:lnTo>
                      <a:pt x="146" y="575"/>
                    </a:lnTo>
                    <a:lnTo>
                      <a:pt x="137" y="570"/>
                    </a:lnTo>
                    <a:lnTo>
                      <a:pt x="127" y="564"/>
                    </a:lnTo>
                    <a:lnTo>
                      <a:pt x="117" y="558"/>
                    </a:lnTo>
                    <a:lnTo>
                      <a:pt x="108" y="550"/>
                    </a:lnTo>
                    <a:lnTo>
                      <a:pt x="99" y="543"/>
                    </a:lnTo>
                    <a:lnTo>
                      <a:pt x="81" y="526"/>
                    </a:lnTo>
                    <a:lnTo>
                      <a:pt x="67" y="506"/>
                    </a:lnTo>
                    <a:lnTo>
                      <a:pt x="52" y="485"/>
                    </a:lnTo>
                    <a:lnTo>
                      <a:pt x="38" y="462"/>
                    </a:lnTo>
                    <a:lnTo>
                      <a:pt x="27" y="437"/>
                    </a:lnTo>
                    <a:lnTo>
                      <a:pt x="19" y="411"/>
                    </a:lnTo>
                    <a:lnTo>
                      <a:pt x="11" y="384"/>
                    </a:lnTo>
                    <a:lnTo>
                      <a:pt x="5" y="356"/>
                    </a:lnTo>
                    <a:lnTo>
                      <a:pt x="1" y="326"/>
                    </a:lnTo>
                    <a:lnTo>
                      <a:pt x="0" y="296"/>
                    </a:lnTo>
                    <a:lnTo>
                      <a:pt x="1" y="266"/>
                    </a:lnTo>
                    <a:lnTo>
                      <a:pt x="5" y="237"/>
                    </a:lnTo>
                    <a:lnTo>
                      <a:pt x="11" y="208"/>
                    </a:lnTo>
                    <a:lnTo>
                      <a:pt x="19" y="181"/>
                    </a:lnTo>
                    <a:lnTo>
                      <a:pt x="27" y="155"/>
                    </a:lnTo>
                    <a:lnTo>
                      <a:pt x="38" y="131"/>
                    </a:lnTo>
                    <a:lnTo>
                      <a:pt x="52" y="109"/>
                    </a:lnTo>
                    <a:lnTo>
                      <a:pt x="67" y="88"/>
                    </a:lnTo>
                    <a:lnTo>
                      <a:pt x="81" y="68"/>
                    </a:lnTo>
                    <a:lnTo>
                      <a:pt x="99" y="51"/>
                    </a:lnTo>
                    <a:lnTo>
                      <a:pt x="108" y="44"/>
                    </a:lnTo>
                    <a:lnTo>
                      <a:pt x="117" y="36"/>
                    </a:lnTo>
                    <a:lnTo>
                      <a:pt x="127" y="30"/>
                    </a:lnTo>
                    <a:lnTo>
                      <a:pt x="137" y="24"/>
                    </a:lnTo>
                    <a:lnTo>
                      <a:pt x="146" y="19"/>
                    </a:lnTo>
                    <a:lnTo>
                      <a:pt x="158" y="14"/>
                    </a:lnTo>
                    <a:lnTo>
                      <a:pt x="167" y="10"/>
                    </a:lnTo>
                    <a:lnTo>
                      <a:pt x="178" y="7"/>
                    </a:lnTo>
                    <a:lnTo>
                      <a:pt x="190" y="4"/>
                    </a:lnTo>
                    <a:lnTo>
                      <a:pt x="201" y="3"/>
                    </a:lnTo>
                    <a:lnTo>
                      <a:pt x="212" y="2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a7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555520" y="3470400"/>
                <a:ext cx="86760" cy="115200"/>
              </a:xfrm>
              <a:custGeom>
                <a:avLst/>
                <a:gdLst/>
                <a:ahLst/>
                <a:rect l="l" t="t" r="r" b="b"/>
                <a:pathLst>
                  <a:path w="232" h="305">
                    <a:moveTo>
                      <a:pt x="232" y="305"/>
                    </a:moveTo>
                    <a:lnTo>
                      <a:pt x="232" y="305"/>
                    </a:lnTo>
                    <a:lnTo>
                      <a:pt x="231" y="274"/>
                    </a:lnTo>
                    <a:lnTo>
                      <a:pt x="227" y="244"/>
                    </a:lnTo>
                    <a:lnTo>
                      <a:pt x="223" y="215"/>
                    </a:lnTo>
                    <a:lnTo>
                      <a:pt x="214" y="187"/>
                    </a:lnTo>
                    <a:lnTo>
                      <a:pt x="204" y="161"/>
                    </a:lnTo>
                    <a:lnTo>
                      <a:pt x="193" y="135"/>
                    </a:lnTo>
                    <a:lnTo>
                      <a:pt x="180" y="112"/>
                    </a:lnTo>
                    <a:lnTo>
                      <a:pt x="165" y="91"/>
                    </a:lnTo>
                    <a:lnTo>
                      <a:pt x="148" y="70"/>
                    </a:lnTo>
                    <a:lnTo>
                      <a:pt x="130" y="53"/>
                    </a:lnTo>
                    <a:lnTo>
                      <a:pt x="120" y="45"/>
                    </a:lnTo>
                    <a:lnTo>
                      <a:pt x="111" y="37"/>
                    </a:lnTo>
                    <a:lnTo>
                      <a:pt x="101" y="30"/>
                    </a:lnTo>
                    <a:lnTo>
                      <a:pt x="91" y="24"/>
                    </a:lnTo>
                    <a:lnTo>
                      <a:pt x="80" y="18"/>
                    </a:lnTo>
                    <a:lnTo>
                      <a:pt x="69" y="13"/>
                    </a:lnTo>
                    <a:lnTo>
                      <a:pt x="58" y="9"/>
                    </a:lnTo>
                    <a:lnTo>
                      <a:pt x="47" y="6"/>
                    </a:lnTo>
                    <a:lnTo>
                      <a:pt x="34" y="3"/>
                    </a:lnTo>
                    <a:lnTo>
                      <a:pt x="23" y="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22"/>
                    </a:lnTo>
                    <a:lnTo>
                      <a:pt x="31" y="23"/>
                    </a:lnTo>
                    <a:lnTo>
                      <a:pt x="41" y="25"/>
                    </a:lnTo>
                    <a:lnTo>
                      <a:pt x="52" y="29"/>
                    </a:lnTo>
                    <a:lnTo>
                      <a:pt x="61" y="33"/>
                    </a:lnTo>
                    <a:lnTo>
                      <a:pt x="70" y="38"/>
                    </a:lnTo>
                    <a:lnTo>
                      <a:pt x="80" y="43"/>
                    </a:lnTo>
                    <a:lnTo>
                      <a:pt x="90" y="48"/>
                    </a:lnTo>
                    <a:lnTo>
                      <a:pt x="98" y="54"/>
                    </a:lnTo>
                    <a:lnTo>
                      <a:pt x="107" y="61"/>
                    </a:lnTo>
                    <a:lnTo>
                      <a:pt x="116" y="69"/>
                    </a:lnTo>
                    <a:lnTo>
                      <a:pt x="133" y="85"/>
                    </a:lnTo>
                    <a:lnTo>
                      <a:pt x="148" y="103"/>
                    </a:lnTo>
                    <a:lnTo>
                      <a:pt x="162" y="123"/>
                    </a:lnTo>
                    <a:lnTo>
                      <a:pt x="175" y="145"/>
                    </a:lnTo>
                    <a:lnTo>
                      <a:pt x="186" y="168"/>
                    </a:lnTo>
                    <a:lnTo>
                      <a:pt x="194" y="193"/>
                    </a:lnTo>
                    <a:lnTo>
                      <a:pt x="202" y="220"/>
                    </a:lnTo>
                    <a:lnTo>
                      <a:pt x="208" y="247"/>
                    </a:lnTo>
                    <a:lnTo>
                      <a:pt x="210" y="275"/>
                    </a:lnTo>
                    <a:lnTo>
                      <a:pt x="212" y="305"/>
                    </a:lnTo>
                    <a:lnTo>
                      <a:pt x="212" y="305"/>
                    </a:lnTo>
                    <a:lnTo>
                      <a:pt x="232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555520" y="3585960"/>
                <a:ext cx="86760" cy="117000"/>
              </a:xfrm>
              <a:custGeom>
                <a:avLst/>
                <a:gdLst/>
                <a:ahLst/>
                <a:rect l="l" t="t" r="r" b="b"/>
                <a:pathLst>
                  <a:path w="232" h="307">
                    <a:moveTo>
                      <a:pt x="0" y="307"/>
                    </a:moveTo>
                    <a:lnTo>
                      <a:pt x="0" y="307"/>
                    </a:lnTo>
                    <a:lnTo>
                      <a:pt x="11" y="307"/>
                    </a:lnTo>
                    <a:lnTo>
                      <a:pt x="23" y="306"/>
                    </a:lnTo>
                    <a:lnTo>
                      <a:pt x="34" y="304"/>
                    </a:lnTo>
                    <a:lnTo>
                      <a:pt x="47" y="301"/>
                    </a:lnTo>
                    <a:lnTo>
                      <a:pt x="58" y="297"/>
                    </a:lnTo>
                    <a:lnTo>
                      <a:pt x="69" y="294"/>
                    </a:lnTo>
                    <a:lnTo>
                      <a:pt x="80" y="289"/>
                    </a:lnTo>
                    <a:lnTo>
                      <a:pt x="91" y="283"/>
                    </a:lnTo>
                    <a:lnTo>
                      <a:pt x="101" y="276"/>
                    </a:lnTo>
                    <a:lnTo>
                      <a:pt x="111" y="269"/>
                    </a:lnTo>
                    <a:lnTo>
                      <a:pt x="120" y="262"/>
                    </a:lnTo>
                    <a:lnTo>
                      <a:pt x="130" y="254"/>
                    </a:lnTo>
                    <a:lnTo>
                      <a:pt x="148" y="236"/>
                    </a:lnTo>
                    <a:lnTo>
                      <a:pt x="165" y="216"/>
                    </a:lnTo>
                    <a:lnTo>
                      <a:pt x="180" y="194"/>
                    </a:lnTo>
                    <a:lnTo>
                      <a:pt x="193" y="171"/>
                    </a:lnTo>
                    <a:lnTo>
                      <a:pt x="204" y="146"/>
                    </a:lnTo>
                    <a:lnTo>
                      <a:pt x="214" y="119"/>
                    </a:lnTo>
                    <a:lnTo>
                      <a:pt x="223" y="91"/>
                    </a:lnTo>
                    <a:lnTo>
                      <a:pt x="227" y="61"/>
                    </a:lnTo>
                    <a:lnTo>
                      <a:pt x="231" y="30"/>
                    </a:lnTo>
                    <a:lnTo>
                      <a:pt x="232" y="0"/>
                    </a:lnTo>
                    <a:lnTo>
                      <a:pt x="212" y="0"/>
                    </a:lnTo>
                    <a:lnTo>
                      <a:pt x="210" y="29"/>
                    </a:lnTo>
                    <a:lnTo>
                      <a:pt x="208" y="59"/>
                    </a:lnTo>
                    <a:lnTo>
                      <a:pt x="202" y="86"/>
                    </a:lnTo>
                    <a:lnTo>
                      <a:pt x="194" y="113"/>
                    </a:lnTo>
                    <a:lnTo>
                      <a:pt x="186" y="137"/>
                    </a:lnTo>
                    <a:lnTo>
                      <a:pt x="175" y="162"/>
                    </a:lnTo>
                    <a:lnTo>
                      <a:pt x="162" y="184"/>
                    </a:lnTo>
                    <a:lnTo>
                      <a:pt x="148" y="204"/>
                    </a:lnTo>
                    <a:lnTo>
                      <a:pt x="133" y="222"/>
                    </a:lnTo>
                    <a:lnTo>
                      <a:pt x="116" y="238"/>
                    </a:lnTo>
                    <a:lnTo>
                      <a:pt x="107" y="246"/>
                    </a:lnTo>
                    <a:lnTo>
                      <a:pt x="98" y="253"/>
                    </a:lnTo>
                    <a:lnTo>
                      <a:pt x="90" y="259"/>
                    </a:lnTo>
                    <a:lnTo>
                      <a:pt x="80" y="264"/>
                    </a:lnTo>
                    <a:lnTo>
                      <a:pt x="70" y="269"/>
                    </a:lnTo>
                    <a:lnTo>
                      <a:pt x="61" y="274"/>
                    </a:lnTo>
                    <a:lnTo>
                      <a:pt x="52" y="278"/>
                    </a:lnTo>
                    <a:lnTo>
                      <a:pt x="41" y="281"/>
                    </a:lnTo>
                    <a:lnTo>
                      <a:pt x="31" y="284"/>
                    </a:lnTo>
                    <a:lnTo>
                      <a:pt x="21" y="285"/>
                    </a:lnTo>
                    <a:lnTo>
                      <a:pt x="10" y="286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466600" y="3585960"/>
                <a:ext cx="88560" cy="117000"/>
              </a:xfrm>
              <a:custGeom>
                <a:avLst/>
                <a:gdLst/>
                <a:ahLst/>
                <a:rect l="l" t="t" r="r" b="b"/>
                <a:pathLst>
                  <a:path w="234" h="307">
                    <a:moveTo>
                      <a:pt x="0" y="0"/>
                    </a:moveTo>
                    <a:lnTo>
                      <a:pt x="0" y="0"/>
                    </a:lnTo>
                    <a:lnTo>
                      <a:pt x="2" y="30"/>
                    </a:lnTo>
                    <a:lnTo>
                      <a:pt x="5" y="61"/>
                    </a:lnTo>
                    <a:lnTo>
                      <a:pt x="10" y="91"/>
                    </a:lnTo>
                    <a:lnTo>
                      <a:pt x="19" y="119"/>
                    </a:lnTo>
                    <a:lnTo>
                      <a:pt x="27" y="146"/>
                    </a:lnTo>
                    <a:lnTo>
                      <a:pt x="40" y="171"/>
                    </a:lnTo>
                    <a:lnTo>
                      <a:pt x="53" y="194"/>
                    </a:lnTo>
                    <a:lnTo>
                      <a:pt x="68" y="216"/>
                    </a:lnTo>
                    <a:lnTo>
                      <a:pt x="84" y="236"/>
                    </a:lnTo>
                    <a:lnTo>
                      <a:pt x="102" y="254"/>
                    </a:lnTo>
                    <a:lnTo>
                      <a:pt x="111" y="262"/>
                    </a:lnTo>
                    <a:lnTo>
                      <a:pt x="121" y="269"/>
                    </a:lnTo>
                    <a:lnTo>
                      <a:pt x="132" y="276"/>
                    </a:lnTo>
                    <a:lnTo>
                      <a:pt x="142" y="283"/>
                    </a:lnTo>
                    <a:lnTo>
                      <a:pt x="153" y="289"/>
                    </a:lnTo>
                    <a:lnTo>
                      <a:pt x="164" y="294"/>
                    </a:lnTo>
                    <a:lnTo>
                      <a:pt x="175" y="297"/>
                    </a:lnTo>
                    <a:lnTo>
                      <a:pt x="186" y="301"/>
                    </a:lnTo>
                    <a:lnTo>
                      <a:pt x="197" y="304"/>
                    </a:lnTo>
                    <a:lnTo>
                      <a:pt x="209" y="306"/>
                    </a:lnTo>
                    <a:lnTo>
                      <a:pt x="222" y="307"/>
                    </a:lnTo>
                    <a:lnTo>
                      <a:pt x="234" y="307"/>
                    </a:lnTo>
                    <a:lnTo>
                      <a:pt x="234" y="286"/>
                    </a:lnTo>
                    <a:lnTo>
                      <a:pt x="223" y="286"/>
                    </a:lnTo>
                    <a:lnTo>
                      <a:pt x="212" y="285"/>
                    </a:lnTo>
                    <a:lnTo>
                      <a:pt x="202" y="284"/>
                    </a:lnTo>
                    <a:lnTo>
                      <a:pt x="191" y="281"/>
                    </a:lnTo>
                    <a:lnTo>
                      <a:pt x="181" y="278"/>
                    </a:lnTo>
                    <a:lnTo>
                      <a:pt x="171" y="274"/>
                    </a:lnTo>
                    <a:lnTo>
                      <a:pt x="161" y="269"/>
                    </a:lnTo>
                    <a:lnTo>
                      <a:pt x="152" y="264"/>
                    </a:lnTo>
                    <a:lnTo>
                      <a:pt x="143" y="259"/>
                    </a:lnTo>
                    <a:lnTo>
                      <a:pt x="133" y="253"/>
                    </a:lnTo>
                    <a:lnTo>
                      <a:pt x="125" y="246"/>
                    </a:lnTo>
                    <a:lnTo>
                      <a:pt x="116" y="238"/>
                    </a:lnTo>
                    <a:lnTo>
                      <a:pt x="100" y="222"/>
                    </a:lnTo>
                    <a:lnTo>
                      <a:pt x="84" y="204"/>
                    </a:lnTo>
                    <a:lnTo>
                      <a:pt x="70" y="184"/>
                    </a:lnTo>
                    <a:lnTo>
                      <a:pt x="58" y="162"/>
                    </a:lnTo>
                    <a:lnTo>
                      <a:pt x="47" y="137"/>
                    </a:lnTo>
                    <a:lnTo>
                      <a:pt x="38" y="113"/>
                    </a:lnTo>
                    <a:lnTo>
                      <a:pt x="31" y="86"/>
                    </a:lnTo>
                    <a:lnTo>
                      <a:pt x="26" y="59"/>
                    </a:lnTo>
                    <a:lnTo>
                      <a:pt x="22" y="2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466600" y="3470400"/>
                <a:ext cx="88560" cy="115200"/>
              </a:xfrm>
              <a:custGeom>
                <a:avLst/>
                <a:gdLst/>
                <a:ahLst/>
                <a:rect l="l" t="t" r="r" b="b"/>
                <a:pathLst>
                  <a:path w="234" h="305">
                    <a:moveTo>
                      <a:pt x="234" y="0"/>
                    </a:moveTo>
                    <a:lnTo>
                      <a:pt x="234" y="0"/>
                    </a:lnTo>
                    <a:lnTo>
                      <a:pt x="222" y="0"/>
                    </a:lnTo>
                    <a:lnTo>
                      <a:pt x="209" y="1"/>
                    </a:lnTo>
                    <a:lnTo>
                      <a:pt x="197" y="3"/>
                    </a:lnTo>
                    <a:lnTo>
                      <a:pt x="186" y="6"/>
                    </a:lnTo>
                    <a:lnTo>
                      <a:pt x="175" y="9"/>
                    </a:lnTo>
                    <a:lnTo>
                      <a:pt x="164" y="13"/>
                    </a:lnTo>
                    <a:lnTo>
                      <a:pt x="153" y="18"/>
                    </a:lnTo>
                    <a:lnTo>
                      <a:pt x="142" y="24"/>
                    </a:lnTo>
                    <a:lnTo>
                      <a:pt x="132" y="30"/>
                    </a:lnTo>
                    <a:lnTo>
                      <a:pt x="121" y="37"/>
                    </a:lnTo>
                    <a:lnTo>
                      <a:pt x="111" y="45"/>
                    </a:lnTo>
                    <a:lnTo>
                      <a:pt x="102" y="53"/>
                    </a:lnTo>
                    <a:lnTo>
                      <a:pt x="84" y="70"/>
                    </a:lnTo>
                    <a:lnTo>
                      <a:pt x="68" y="91"/>
                    </a:lnTo>
                    <a:lnTo>
                      <a:pt x="53" y="112"/>
                    </a:lnTo>
                    <a:lnTo>
                      <a:pt x="40" y="135"/>
                    </a:lnTo>
                    <a:lnTo>
                      <a:pt x="27" y="161"/>
                    </a:lnTo>
                    <a:lnTo>
                      <a:pt x="19" y="187"/>
                    </a:lnTo>
                    <a:lnTo>
                      <a:pt x="10" y="215"/>
                    </a:lnTo>
                    <a:lnTo>
                      <a:pt x="5" y="244"/>
                    </a:lnTo>
                    <a:lnTo>
                      <a:pt x="2" y="274"/>
                    </a:lnTo>
                    <a:lnTo>
                      <a:pt x="0" y="305"/>
                    </a:lnTo>
                    <a:lnTo>
                      <a:pt x="21" y="305"/>
                    </a:lnTo>
                    <a:lnTo>
                      <a:pt x="22" y="275"/>
                    </a:lnTo>
                    <a:lnTo>
                      <a:pt x="26" y="247"/>
                    </a:lnTo>
                    <a:lnTo>
                      <a:pt x="31" y="220"/>
                    </a:lnTo>
                    <a:lnTo>
                      <a:pt x="38" y="193"/>
                    </a:lnTo>
                    <a:lnTo>
                      <a:pt x="47" y="168"/>
                    </a:lnTo>
                    <a:lnTo>
                      <a:pt x="58" y="145"/>
                    </a:lnTo>
                    <a:lnTo>
                      <a:pt x="70" y="123"/>
                    </a:lnTo>
                    <a:lnTo>
                      <a:pt x="84" y="103"/>
                    </a:lnTo>
                    <a:lnTo>
                      <a:pt x="100" y="85"/>
                    </a:lnTo>
                    <a:lnTo>
                      <a:pt x="116" y="69"/>
                    </a:lnTo>
                    <a:lnTo>
                      <a:pt x="125" y="61"/>
                    </a:lnTo>
                    <a:lnTo>
                      <a:pt x="133" y="54"/>
                    </a:lnTo>
                    <a:lnTo>
                      <a:pt x="143" y="48"/>
                    </a:lnTo>
                    <a:lnTo>
                      <a:pt x="152" y="43"/>
                    </a:lnTo>
                    <a:lnTo>
                      <a:pt x="161" y="38"/>
                    </a:lnTo>
                    <a:lnTo>
                      <a:pt x="171" y="33"/>
                    </a:lnTo>
                    <a:lnTo>
                      <a:pt x="181" y="29"/>
                    </a:lnTo>
                    <a:lnTo>
                      <a:pt x="191" y="25"/>
                    </a:lnTo>
                    <a:lnTo>
                      <a:pt x="202" y="23"/>
                    </a:lnTo>
                    <a:lnTo>
                      <a:pt x="212" y="22"/>
                    </a:lnTo>
                    <a:lnTo>
                      <a:pt x="223" y="21"/>
                    </a:lnTo>
                    <a:lnTo>
                      <a:pt x="234" y="21"/>
                    </a:lnTo>
                    <a:lnTo>
                      <a:pt x="234" y="21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70640" y="415404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418" h="522">
                    <a:moveTo>
                      <a:pt x="0" y="0"/>
                    </a:moveTo>
                    <a:lnTo>
                      <a:pt x="37" y="433"/>
                    </a:lnTo>
                    <a:lnTo>
                      <a:pt x="418" y="522"/>
                    </a:lnTo>
                    <a:lnTo>
                      <a:pt x="353" y="371"/>
                    </a:lnTo>
                    <a:lnTo>
                      <a:pt x="220" y="263"/>
                    </a:lnTo>
                    <a:lnTo>
                      <a:pt x="14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63080" y="4152240"/>
                <a:ext cx="28080" cy="172080"/>
              </a:xfrm>
              <a:custGeom>
                <a:avLst/>
                <a:gdLst/>
                <a:ahLst/>
                <a:rect l="l" t="t" r="r" b="b"/>
                <a:pathLst>
                  <a:path w="71" h="452">
                    <a:moveTo>
                      <a:pt x="51" y="451"/>
                    </a:moveTo>
                    <a:lnTo>
                      <a:pt x="71" y="432"/>
                    </a:lnTo>
                    <a:lnTo>
                      <a:pt x="35" y="0"/>
                    </a:lnTo>
                    <a:lnTo>
                      <a:pt x="0" y="4"/>
                    </a:lnTo>
                    <a:lnTo>
                      <a:pt x="37" y="436"/>
                    </a:lnTo>
                    <a:lnTo>
                      <a:pt x="51" y="451"/>
                    </a:lnTo>
                    <a:lnTo>
                      <a:pt x="37" y="436"/>
                    </a:lnTo>
                    <a:lnTo>
                      <a:pt x="37" y="439"/>
                    </a:lnTo>
                    <a:lnTo>
                      <a:pt x="39" y="443"/>
                    </a:lnTo>
                    <a:lnTo>
                      <a:pt x="41" y="446"/>
                    </a:lnTo>
                    <a:lnTo>
                      <a:pt x="43" y="448"/>
                    </a:lnTo>
                    <a:lnTo>
                      <a:pt x="49" y="451"/>
                    </a:lnTo>
                    <a:lnTo>
                      <a:pt x="55" y="452"/>
                    </a:lnTo>
                    <a:lnTo>
                      <a:pt x="62" y="449"/>
                    </a:lnTo>
                    <a:lnTo>
                      <a:pt x="67" y="446"/>
                    </a:lnTo>
                    <a:lnTo>
                      <a:pt x="69" y="443"/>
                    </a:lnTo>
                    <a:lnTo>
                      <a:pt x="70" y="441"/>
                    </a:lnTo>
                    <a:lnTo>
                      <a:pt x="71" y="437"/>
                    </a:lnTo>
                    <a:lnTo>
                      <a:pt x="71" y="432"/>
                    </a:lnTo>
                    <a:lnTo>
                      <a:pt x="51" y="4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583960" y="4311000"/>
                <a:ext cx="151200" cy="47160"/>
              </a:xfrm>
              <a:custGeom>
                <a:avLst/>
                <a:gdLst/>
                <a:ahLst/>
                <a:rect l="l" t="t" r="r" b="b"/>
                <a:pathLst>
                  <a:path w="402" h="125">
                    <a:moveTo>
                      <a:pt x="399" y="101"/>
                    </a:moveTo>
                    <a:lnTo>
                      <a:pt x="388" y="90"/>
                    </a:lnTo>
                    <a:lnTo>
                      <a:pt x="7" y="0"/>
                    </a:lnTo>
                    <a:lnTo>
                      <a:pt x="0" y="34"/>
                    </a:lnTo>
                    <a:lnTo>
                      <a:pt x="380" y="125"/>
                    </a:lnTo>
                    <a:lnTo>
                      <a:pt x="399" y="101"/>
                    </a:lnTo>
                    <a:lnTo>
                      <a:pt x="380" y="125"/>
                    </a:lnTo>
                    <a:lnTo>
                      <a:pt x="384" y="125"/>
                    </a:lnTo>
                    <a:lnTo>
                      <a:pt x="388" y="125"/>
                    </a:lnTo>
                    <a:lnTo>
                      <a:pt x="391" y="123"/>
                    </a:lnTo>
                    <a:lnTo>
                      <a:pt x="394" y="122"/>
                    </a:lnTo>
                    <a:lnTo>
                      <a:pt x="398" y="117"/>
                    </a:lnTo>
                    <a:lnTo>
                      <a:pt x="400" y="111"/>
                    </a:lnTo>
                    <a:lnTo>
                      <a:pt x="402" y="105"/>
                    </a:lnTo>
                    <a:lnTo>
                      <a:pt x="399" y="99"/>
                    </a:lnTo>
                    <a:lnTo>
                      <a:pt x="398" y="96"/>
                    </a:lnTo>
                    <a:lnTo>
                      <a:pt x="394" y="94"/>
                    </a:lnTo>
                    <a:lnTo>
                      <a:pt x="392" y="91"/>
                    </a:lnTo>
                    <a:lnTo>
                      <a:pt x="388" y="90"/>
                    </a:lnTo>
                    <a:lnTo>
                      <a:pt x="399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97360" y="4288320"/>
                <a:ext cx="36000" cy="65880"/>
              </a:xfrm>
              <a:custGeom>
                <a:avLst/>
                <a:gdLst/>
                <a:ahLst/>
                <a:rect l="l" t="t" r="r" b="b"/>
                <a:pathLst>
                  <a:path w="98" h="176">
                    <a:moveTo>
                      <a:pt x="29" y="5"/>
                    </a:moveTo>
                    <a:lnTo>
                      <a:pt x="2" y="24"/>
                    </a:lnTo>
                    <a:lnTo>
                      <a:pt x="68" y="176"/>
                    </a:lnTo>
                    <a:lnTo>
                      <a:pt x="98" y="162"/>
                    </a:lnTo>
                    <a:lnTo>
                      <a:pt x="34" y="11"/>
                    </a:lnTo>
                    <a:lnTo>
                      <a:pt x="29" y="5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646600" y="4246560"/>
                <a:ext cx="61920" cy="52920"/>
              </a:xfrm>
              <a:custGeom>
                <a:avLst/>
                <a:gdLst/>
                <a:ahLst/>
                <a:rect l="l" t="t" r="r" b="b"/>
                <a:pathLst>
                  <a:path w="161" h="141">
                    <a:moveTo>
                      <a:pt x="1" y="24"/>
                    </a:moveTo>
                    <a:lnTo>
                      <a:pt x="6" y="32"/>
                    </a:lnTo>
                    <a:lnTo>
                      <a:pt x="139" y="141"/>
                    </a:lnTo>
                    <a:lnTo>
                      <a:pt x="161" y="115"/>
                    </a:lnTo>
                    <a:lnTo>
                      <a:pt x="29" y="5"/>
                    </a:lnTo>
                    <a:lnTo>
                      <a:pt x="1" y="24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2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9" y="3"/>
                    </a:lnTo>
                    <a:lnTo>
                      <a:pt x="4" y="8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618160" y="4150080"/>
                <a:ext cx="41400" cy="104040"/>
              </a:xfrm>
              <a:custGeom>
                <a:avLst/>
                <a:gdLst/>
                <a:ahLst/>
                <a:rect l="l" t="t" r="r" b="b"/>
                <a:pathLst>
                  <a:path w="110" h="276">
                    <a:moveTo>
                      <a:pt x="20" y="0"/>
                    </a:moveTo>
                    <a:lnTo>
                      <a:pt x="1" y="22"/>
                    </a:lnTo>
                    <a:lnTo>
                      <a:pt x="76" y="276"/>
                    </a:lnTo>
                    <a:lnTo>
                      <a:pt x="110" y="266"/>
                    </a:lnTo>
                    <a:lnTo>
                      <a:pt x="35" y="13"/>
                    </a:lnTo>
                    <a:lnTo>
                      <a:pt x="20" y="0"/>
                    </a:lnTo>
                    <a:lnTo>
                      <a:pt x="35" y="13"/>
                    </a:lnTo>
                    <a:lnTo>
                      <a:pt x="33" y="9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26" y="1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8" y="4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63080" y="4146120"/>
                <a:ext cx="61920" cy="16920"/>
              </a:xfrm>
              <a:custGeom>
                <a:avLst/>
                <a:gdLst/>
                <a:ahLst/>
                <a:rect l="l" t="t" r="r" b="b"/>
                <a:pathLst>
                  <a:path w="165" h="45">
                    <a:moveTo>
                      <a:pt x="0" y="20"/>
                    </a:moveTo>
                    <a:lnTo>
                      <a:pt x="16" y="36"/>
                    </a:lnTo>
                    <a:lnTo>
                      <a:pt x="162" y="45"/>
                    </a:lnTo>
                    <a:lnTo>
                      <a:pt x="165" y="10"/>
                    </a:lnTo>
                    <a:lnTo>
                      <a:pt x="19" y="0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5" y="31"/>
                    </a:lnTo>
                    <a:lnTo>
                      <a:pt x="9" y="34"/>
                    </a:lnTo>
                    <a:lnTo>
                      <a:pt x="12" y="35"/>
                    </a:lnTo>
                    <a:lnTo>
                      <a:pt x="16" y="3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47440" y="4191840"/>
                <a:ext cx="171720" cy="156960"/>
              </a:xfrm>
              <a:custGeom>
                <a:avLst/>
                <a:gdLst/>
                <a:ahLst/>
                <a:rect l="l" t="t" r="r" b="b"/>
                <a:pathLst>
                  <a:path w="455" h="417">
                    <a:moveTo>
                      <a:pt x="455" y="74"/>
                    </a:moveTo>
                    <a:lnTo>
                      <a:pt x="455" y="417"/>
                    </a:lnTo>
                    <a:lnTo>
                      <a:pt x="0" y="365"/>
                    </a:lnTo>
                    <a:lnTo>
                      <a:pt x="0" y="274"/>
                    </a:lnTo>
                    <a:lnTo>
                      <a:pt x="327" y="200"/>
                    </a:lnTo>
                    <a:lnTo>
                      <a:pt x="327" y="0"/>
                    </a:lnTo>
                    <a:lnTo>
                      <a:pt x="455" y="74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512320" y="4219920"/>
                <a:ext cx="12960" cy="136440"/>
              </a:xfrm>
              <a:custGeom>
                <a:avLst/>
                <a:gdLst/>
                <a:ahLst/>
                <a:rect l="l" t="t" r="r" b="b"/>
                <a:pathLst>
                  <a:path w="34" h="362">
                    <a:moveTo>
                      <a:pt x="16" y="361"/>
                    </a:moveTo>
                    <a:lnTo>
                      <a:pt x="34" y="343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343"/>
                    </a:lnTo>
                    <a:lnTo>
                      <a:pt x="16" y="361"/>
                    </a:lnTo>
                    <a:lnTo>
                      <a:pt x="0" y="343"/>
                    </a:lnTo>
                    <a:lnTo>
                      <a:pt x="0" y="348"/>
                    </a:lnTo>
                    <a:lnTo>
                      <a:pt x="1" y="352"/>
                    </a:lnTo>
                    <a:lnTo>
                      <a:pt x="4" y="355"/>
                    </a:lnTo>
                    <a:lnTo>
                      <a:pt x="6" y="357"/>
                    </a:lnTo>
                    <a:lnTo>
                      <a:pt x="11" y="361"/>
                    </a:lnTo>
                    <a:lnTo>
                      <a:pt x="17" y="362"/>
                    </a:lnTo>
                    <a:lnTo>
                      <a:pt x="23" y="361"/>
                    </a:lnTo>
                    <a:lnTo>
                      <a:pt x="29" y="357"/>
                    </a:lnTo>
                    <a:lnTo>
                      <a:pt x="32" y="355"/>
                    </a:lnTo>
                    <a:lnTo>
                      <a:pt x="33" y="352"/>
                    </a:lnTo>
                    <a:lnTo>
                      <a:pt x="34" y="348"/>
                    </a:lnTo>
                    <a:lnTo>
                      <a:pt x="34" y="343"/>
                    </a:lnTo>
                    <a:lnTo>
                      <a:pt x="16" y="3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339520" y="4322160"/>
                <a:ext cx="179640" cy="34200"/>
              </a:xfrm>
              <a:custGeom>
                <a:avLst/>
                <a:gdLst/>
                <a:ahLst/>
                <a:rect l="l" t="t" r="r" b="b"/>
                <a:pathLst>
                  <a:path w="474" h="88">
                    <a:moveTo>
                      <a:pt x="0" y="18"/>
                    </a:moveTo>
                    <a:lnTo>
                      <a:pt x="16" y="35"/>
                    </a:lnTo>
                    <a:lnTo>
                      <a:pt x="471" y="88"/>
                    </a:lnTo>
                    <a:lnTo>
                      <a:pt x="474" y="53"/>
                    </a:lnTo>
                    <a:lnTo>
                      <a:pt x="19" y="0"/>
                    </a:lnTo>
                    <a:lnTo>
                      <a:pt x="0" y="18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7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1" y="34"/>
                    </a:lnTo>
                    <a:lnTo>
                      <a:pt x="16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339520" y="428832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34" h="109">
                    <a:moveTo>
                      <a:pt x="13" y="2"/>
                    </a:moveTo>
                    <a:lnTo>
                      <a:pt x="0" y="18"/>
                    </a:lnTo>
                    <a:lnTo>
                      <a:pt x="0" y="109"/>
                    </a:lnTo>
                    <a:lnTo>
                      <a:pt x="34" y="109"/>
                    </a:lnTo>
                    <a:lnTo>
                      <a:pt x="34" y="18"/>
                    </a:lnTo>
                    <a:lnTo>
                      <a:pt x="13" y="2"/>
                    </a:lnTo>
                    <a:lnTo>
                      <a:pt x="34" y="18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29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6" y="5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345640" y="4259880"/>
                <a:ext cx="132120" cy="41400"/>
              </a:xfrm>
              <a:custGeom>
                <a:avLst/>
                <a:gdLst/>
                <a:ahLst/>
                <a:rect l="l" t="t" r="r" b="b"/>
                <a:pathLst>
                  <a:path w="350" h="108">
                    <a:moveTo>
                      <a:pt x="350" y="17"/>
                    </a:moveTo>
                    <a:lnTo>
                      <a:pt x="327" y="0"/>
                    </a:lnTo>
                    <a:lnTo>
                      <a:pt x="0" y="75"/>
                    </a:lnTo>
                    <a:lnTo>
                      <a:pt x="8" y="108"/>
                    </a:lnTo>
                    <a:lnTo>
                      <a:pt x="336" y="34"/>
                    </a:lnTo>
                    <a:lnTo>
                      <a:pt x="350" y="17"/>
                    </a:lnTo>
                    <a:lnTo>
                      <a:pt x="336" y="34"/>
                    </a:lnTo>
                    <a:lnTo>
                      <a:pt x="340" y="33"/>
                    </a:lnTo>
                    <a:lnTo>
                      <a:pt x="342" y="30"/>
                    </a:lnTo>
                    <a:lnTo>
                      <a:pt x="345" y="28"/>
                    </a:lnTo>
                    <a:lnTo>
                      <a:pt x="347" y="25"/>
                    </a:lnTo>
                    <a:lnTo>
                      <a:pt x="348" y="19"/>
                    </a:lnTo>
                    <a:lnTo>
                      <a:pt x="348" y="13"/>
                    </a:lnTo>
                    <a:lnTo>
                      <a:pt x="346" y="7"/>
                    </a:lnTo>
                    <a:lnTo>
                      <a:pt x="342" y="2"/>
                    </a:lnTo>
                    <a:lnTo>
                      <a:pt x="338" y="1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7" y="0"/>
                    </a:lnTo>
                    <a:lnTo>
                      <a:pt x="35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464440" y="4184280"/>
                <a:ext cx="12960" cy="83160"/>
              </a:xfrm>
              <a:custGeom>
                <a:avLst/>
                <a:gdLst/>
                <a:ahLst/>
                <a:rect l="l" t="t" r="r" b="b"/>
                <a:pathLst>
                  <a:path w="36" h="217">
                    <a:moveTo>
                      <a:pt x="27" y="1"/>
                    </a:moveTo>
                    <a:lnTo>
                      <a:pt x="0" y="17"/>
                    </a:lnTo>
                    <a:lnTo>
                      <a:pt x="0" y="217"/>
                    </a:lnTo>
                    <a:lnTo>
                      <a:pt x="36" y="217"/>
                    </a:lnTo>
                    <a:lnTo>
                      <a:pt x="36" y="17"/>
                    </a:lnTo>
                    <a:lnTo>
                      <a:pt x="27" y="1"/>
                    </a:lnTo>
                    <a:lnTo>
                      <a:pt x="36" y="17"/>
                    </a:lnTo>
                    <a:lnTo>
                      <a:pt x="34" y="13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468400" y="41860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53" h="107">
                    <a:moveTo>
                      <a:pt x="153" y="90"/>
                    </a:moveTo>
                    <a:lnTo>
                      <a:pt x="145" y="76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27" y="105"/>
                    </a:lnTo>
                    <a:lnTo>
                      <a:pt x="153" y="90"/>
                    </a:lnTo>
                    <a:lnTo>
                      <a:pt x="127" y="105"/>
                    </a:lnTo>
                    <a:lnTo>
                      <a:pt x="131" y="107"/>
                    </a:lnTo>
                    <a:lnTo>
                      <a:pt x="135" y="107"/>
                    </a:lnTo>
                    <a:lnTo>
                      <a:pt x="138" y="107"/>
                    </a:lnTo>
                    <a:lnTo>
                      <a:pt x="142" y="107"/>
                    </a:lnTo>
                    <a:lnTo>
                      <a:pt x="147" y="104"/>
                    </a:lnTo>
                    <a:lnTo>
                      <a:pt x="151" y="99"/>
                    </a:lnTo>
                    <a:lnTo>
                      <a:pt x="153" y="93"/>
                    </a:lnTo>
                    <a:lnTo>
                      <a:pt x="153" y="87"/>
                    </a:lnTo>
                    <a:lnTo>
                      <a:pt x="152" y="83"/>
                    </a:lnTo>
                    <a:lnTo>
                      <a:pt x="151" y="80"/>
                    </a:lnTo>
                    <a:lnTo>
                      <a:pt x="148" y="78"/>
                    </a:lnTo>
                    <a:lnTo>
                      <a:pt x="145" y="76"/>
                    </a:lnTo>
                    <a:lnTo>
                      <a:pt x="153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402160" y="3867840"/>
                <a:ext cx="308160" cy="365040"/>
              </a:xfrm>
              <a:custGeom>
                <a:avLst/>
                <a:gdLst/>
                <a:ahLst/>
                <a:rect l="l" t="t" r="r" b="b"/>
                <a:pathLst>
                  <a:path w="815" h="965">
                    <a:moveTo>
                      <a:pt x="219" y="0"/>
                    </a:moveTo>
                    <a:lnTo>
                      <a:pt x="241" y="18"/>
                    </a:lnTo>
                    <a:lnTo>
                      <a:pt x="265" y="35"/>
                    </a:lnTo>
                    <a:lnTo>
                      <a:pt x="288" y="50"/>
                    </a:lnTo>
                    <a:lnTo>
                      <a:pt x="311" y="62"/>
                    </a:lnTo>
                    <a:lnTo>
                      <a:pt x="337" y="73"/>
                    </a:lnTo>
                    <a:lnTo>
                      <a:pt x="362" y="82"/>
                    </a:lnTo>
                    <a:lnTo>
                      <a:pt x="388" y="88"/>
                    </a:lnTo>
                    <a:lnTo>
                      <a:pt x="415" y="93"/>
                    </a:lnTo>
                    <a:lnTo>
                      <a:pt x="442" y="96"/>
                    </a:lnTo>
                    <a:lnTo>
                      <a:pt x="470" y="96"/>
                    </a:lnTo>
                    <a:lnTo>
                      <a:pt x="498" y="94"/>
                    </a:lnTo>
                    <a:lnTo>
                      <a:pt x="528" y="91"/>
                    </a:lnTo>
                    <a:lnTo>
                      <a:pt x="559" y="84"/>
                    </a:lnTo>
                    <a:lnTo>
                      <a:pt x="589" y="77"/>
                    </a:lnTo>
                    <a:lnTo>
                      <a:pt x="620" y="67"/>
                    </a:lnTo>
                    <a:lnTo>
                      <a:pt x="653" y="55"/>
                    </a:lnTo>
                    <a:lnTo>
                      <a:pt x="679" y="112"/>
                    </a:lnTo>
                    <a:lnTo>
                      <a:pt x="703" y="167"/>
                    </a:lnTo>
                    <a:lnTo>
                      <a:pt x="724" y="223"/>
                    </a:lnTo>
                    <a:lnTo>
                      <a:pt x="743" y="280"/>
                    </a:lnTo>
                    <a:lnTo>
                      <a:pt x="759" y="335"/>
                    </a:lnTo>
                    <a:lnTo>
                      <a:pt x="774" y="392"/>
                    </a:lnTo>
                    <a:lnTo>
                      <a:pt x="786" y="450"/>
                    </a:lnTo>
                    <a:lnTo>
                      <a:pt x="796" y="506"/>
                    </a:lnTo>
                    <a:lnTo>
                      <a:pt x="805" y="563"/>
                    </a:lnTo>
                    <a:lnTo>
                      <a:pt x="810" y="621"/>
                    </a:lnTo>
                    <a:lnTo>
                      <a:pt x="813" y="677"/>
                    </a:lnTo>
                    <a:lnTo>
                      <a:pt x="815" y="735"/>
                    </a:lnTo>
                    <a:lnTo>
                      <a:pt x="813" y="792"/>
                    </a:lnTo>
                    <a:lnTo>
                      <a:pt x="810" y="850"/>
                    </a:lnTo>
                    <a:lnTo>
                      <a:pt x="805" y="907"/>
                    </a:lnTo>
                    <a:lnTo>
                      <a:pt x="797" y="965"/>
                    </a:lnTo>
                    <a:lnTo>
                      <a:pt x="748" y="965"/>
                    </a:lnTo>
                    <a:lnTo>
                      <a:pt x="699" y="964"/>
                    </a:lnTo>
                    <a:lnTo>
                      <a:pt x="650" y="961"/>
                    </a:lnTo>
                    <a:lnTo>
                      <a:pt x="601" y="958"/>
                    </a:lnTo>
                    <a:lnTo>
                      <a:pt x="551" y="954"/>
                    </a:lnTo>
                    <a:lnTo>
                      <a:pt x="502" y="948"/>
                    </a:lnTo>
                    <a:lnTo>
                      <a:pt x="453" y="942"/>
                    </a:lnTo>
                    <a:lnTo>
                      <a:pt x="404" y="934"/>
                    </a:lnTo>
                    <a:lnTo>
                      <a:pt x="356" y="926"/>
                    </a:lnTo>
                    <a:lnTo>
                      <a:pt x="307" y="916"/>
                    </a:lnTo>
                    <a:lnTo>
                      <a:pt x="259" y="905"/>
                    </a:lnTo>
                    <a:lnTo>
                      <a:pt x="209" y="894"/>
                    </a:lnTo>
                    <a:lnTo>
                      <a:pt x="161" y="880"/>
                    </a:lnTo>
                    <a:lnTo>
                      <a:pt x="113" y="868"/>
                    </a:lnTo>
                    <a:lnTo>
                      <a:pt x="64" y="853"/>
                    </a:lnTo>
                    <a:lnTo>
                      <a:pt x="16" y="837"/>
                    </a:lnTo>
                    <a:lnTo>
                      <a:pt x="13" y="811"/>
                    </a:lnTo>
                    <a:lnTo>
                      <a:pt x="8" y="784"/>
                    </a:lnTo>
                    <a:lnTo>
                      <a:pt x="5" y="759"/>
                    </a:lnTo>
                    <a:lnTo>
                      <a:pt x="3" y="731"/>
                    </a:lnTo>
                    <a:lnTo>
                      <a:pt x="0" y="704"/>
                    </a:lnTo>
                    <a:lnTo>
                      <a:pt x="0" y="679"/>
                    </a:lnTo>
                    <a:lnTo>
                      <a:pt x="0" y="652"/>
                    </a:lnTo>
                    <a:lnTo>
                      <a:pt x="0" y="626"/>
                    </a:lnTo>
                    <a:lnTo>
                      <a:pt x="2" y="599"/>
                    </a:lnTo>
                    <a:lnTo>
                      <a:pt x="4" y="572"/>
                    </a:lnTo>
                    <a:lnTo>
                      <a:pt x="6" y="546"/>
                    </a:lnTo>
                    <a:lnTo>
                      <a:pt x="10" y="519"/>
                    </a:lnTo>
                    <a:lnTo>
                      <a:pt x="15" y="493"/>
                    </a:lnTo>
                    <a:lnTo>
                      <a:pt x="20" y="466"/>
                    </a:lnTo>
                    <a:lnTo>
                      <a:pt x="25" y="440"/>
                    </a:lnTo>
                    <a:lnTo>
                      <a:pt x="31" y="414"/>
                    </a:lnTo>
                    <a:lnTo>
                      <a:pt x="38" y="387"/>
                    </a:lnTo>
                    <a:lnTo>
                      <a:pt x="46" y="361"/>
                    </a:lnTo>
                    <a:lnTo>
                      <a:pt x="54" y="334"/>
                    </a:lnTo>
                    <a:lnTo>
                      <a:pt x="64" y="308"/>
                    </a:lnTo>
                    <a:lnTo>
                      <a:pt x="84" y="257"/>
                    </a:lnTo>
                    <a:lnTo>
                      <a:pt x="106" y="205"/>
                    </a:lnTo>
                    <a:lnTo>
                      <a:pt x="131" y="153"/>
                    </a:lnTo>
                    <a:lnTo>
                      <a:pt x="158" y="102"/>
                    </a:lnTo>
                    <a:lnTo>
                      <a:pt x="187" y="50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479920" y="3862440"/>
                <a:ext cx="175680" cy="49320"/>
              </a:xfrm>
              <a:custGeom>
                <a:avLst/>
                <a:gdLst/>
                <a:ahLst/>
                <a:rect l="l" t="t" r="r" b="b"/>
                <a:pathLst>
                  <a:path w="464" h="126">
                    <a:moveTo>
                      <a:pt x="461" y="61"/>
                    </a:moveTo>
                    <a:lnTo>
                      <a:pt x="440" y="52"/>
                    </a:lnTo>
                    <a:lnTo>
                      <a:pt x="408" y="63"/>
                    </a:lnTo>
                    <a:lnTo>
                      <a:pt x="378" y="73"/>
                    </a:lnTo>
                    <a:lnTo>
                      <a:pt x="348" y="80"/>
                    </a:lnTo>
                    <a:lnTo>
                      <a:pt x="318" y="86"/>
                    </a:lnTo>
                    <a:lnTo>
                      <a:pt x="290" y="90"/>
                    </a:lnTo>
                    <a:lnTo>
                      <a:pt x="263" y="91"/>
                    </a:lnTo>
                    <a:lnTo>
                      <a:pt x="236" y="91"/>
                    </a:lnTo>
                    <a:lnTo>
                      <a:pt x="210" y="89"/>
                    </a:lnTo>
                    <a:lnTo>
                      <a:pt x="184" y="84"/>
                    </a:lnTo>
                    <a:lnTo>
                      <a:pt x="160" y="78"/>
                    </a:lnTo>
                    <a:lnTo>
                      <a:pt x="136" y="70"/>
                    </a:lnTo>
                    <a:lnTo>
                      <a:pt x="113" y="61"/>
                    </a:lnTo>
                    <a:lnTo>
                      <a:pt x="90" y="48"/>
                    </a:lnTo>
                    <a:lnTo>
                      <a:pt x="68" y="35"/>
                    </a:lnTo>
                    <a:lnTo>
                      <a:pt x="45" y="18"/>
                    </a:lnTo>
                    <a:lnTo>
                      <a:pt x="23" y="0"/>
                    </a:lnTo>
                    <a:lnTo>
                      <a:pt x="0" y="26"/>
                    </a:lnTo>
                    <a:lnTo>
                      <a:pt x="23" y="46"/>
                    </a:lnTo>
                    <a:lnTo>
                      <a:pt x="48" y="63"/>
                    </a:lnTo>
                    <a:lnTo>
                      <a:pt x="73" y="78"/>
                    </a:lnTo>
                    <a:lnTo>
                      <a:pt x="97" y="91"/>
                    </a:lnTo>
                    <a:lnTo>
                      <a:pt x="124" y="102"/>
                    </a:lnTo>
                    <a:lnTo>
                      <a:pt x="150" y="112"/>
                    </a:lnTo>
                    <a:lnTo>
                      <a:pt x="178" y="118"/>
                    </a:lnTo>
                    <a:lnTo>
                      <a:pt x="205" y="123"/>
                    </a:lnTo>
                    <a:lnTo>
                      <a:pt x="235" y="126"/>
                    </a:lnTo>
                    <a:lnTo>
                      <a:pt x="263" y="126"/>
                    </a:lnTo>
                    <a:lnTo>
                      <a:pt x="294" y="125"/>
                    </a:lnTo>
                    <a:lnTo>
                      <a:pt x="323" y="121"/>
                    </a:lnTo>
                    <a:lnTo>
                      <a:pt x="355" y="115"/>
                    </a:lnTo>
                    <a:lnTo>
                      <a:pt x="387" y="106"/>
                    </a:lnTo>
                    <a:lnTo>
                      <a:pt x="419" y="96"/>
                    </a:lnTo>
                    <a:lnTo>
                      <a:pt x="453" y="85"/>
                    </a:lnTo>
                    <a:lnTo>
                      <a:pt x="430" y="75"/>
                    </a:lnTo>
                    <a:lnTo>
                      <a:pt x="453" y="85"/>
                    </a:lnTo>
                    <a:lnTo>
                      <a:pt x="456" y="83"/>
                    </a:lnTo>
                    <a:lnTo>
                      <a:pt x="459" y="80"/>
                    </a:lnTo>
                    <a:lnTo>
                      <a:pt x="461" y="78"/>
                    </a:lnTo>
                    <a:lnTo>
                      <a:pt x="462" y="75"/>
                    </a:lnTo>
                    <a:lnTo>
                      <a:pt x="464" y="68"/>
                    </a:lnTo>
                    <a:lnTo>
                      <a:pt x="462" y="62"/>
                    </a:lnTo>
                    <a:lnTo>
                      <a:pt x="459" y="57"/>
                    </a:lnTo>
                    <a:lnTo>
                      <a:pt x="454" y="52"/>
                    </a:lnTo>
                    <a:lnTo>
                      <a:pt x="450" y="52"/>
                    </a:lnTo>
                    <a:lnTo>
                      <a:pt x="448" y="51"/>
                    </a:lnTo>
                    <a:lnTo>
                      <a:pt x="444" y="51"/>
                    </a:lnTo>
                    <a:lnTo>
                      <a:pt x="440" y="52"/>
                    </a:lnTo>
                    <a:lnTo>
                      <a:pt x="461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642640" y="3886920"/>
                <a:ext cx="73440" cy="352080"/>
              </a:xfrm>
              <a:custGeom>
                <a:avLst/>
                <a:gdLst/>
                <a:ahLst/>
                <a:rect l="l" t="t" r="r" b="b"/>
                <a:pathLst>
                  <a:path w="195" h="934">
                    <a:moveTo>
                      <a:pt x="160" y="934"/>
                    </a:moveTo>
                    <a:lnTo>
                      <a:pt x="178" y="920"/>
                    </a:lnTo>
                    <a:lnTo>
                      <a:pt x="185" y="862"/>
                    </a:lnTo>
                    <a:lnTo>
                      <a:pt x="190" y="803"/>
                    </a:lnTo>
                    <a:lnTo>
                      <a:pt x="194" y="745"/>
                    </a:lnTo>
                    <a:lnTo>
                      <a:pt x="195" y="687"/>
                    </a:lnTo>
                    <a:lnTo>
                      <a:pt x="194" y="629"/>
                    </a:lnTo>
                    <a:lnTo>
                      <a:pt x="190" y="572"/>
                    </a:lnTo>
                    <a:lnTo>
                      <a:pt x="185" y="514"/>
                    </a:lnTo>
                    <a:lnTo>
                      <a:pt x="176" y="456"/>
                    </a:lnTo>
                    <a:lnTo>
                      <a:pt x="166" y="398"/>
                    </a:lnTo>
                    <a:lnTo>
                      <a:pt x="154" y="340"/>
                    </a:lnTo>
                    <a:lnTo>
                      <a:pt x="139" y="284"/>
                    </a:lnTo>
                    <a:lnTo>
                      <a:pt x="122" y="226"/>
                    </a:lnTo>
                    <a:lnTo>
                      <a:pt x="103" y="169"/>
                    </a:lnTo>
                    <a:lnTo>
                      <a:pt x="82" y="113"/>
                    </a:lnTo>
                    <a:lnTo>
                      <a:pt x="58" y="56"/>
                    </a:lnTo>
                    <a:lnTo>
                      <a:pt x="31" y="0"/>
                    </a:lnTo>
                    <a:lnTo>
                      <a:pt x="0" y="14"/>
                    </a:lnTo>
                    <a:lnTo>
                      <a:pt x="26" y="70"/>
                    </a:lnTo>
                    <a:lnTo>
                      <a:pt x="50" y="125"/>
                    </a:lnTo>
                    <a:lnTo>
                      <a:pt x="71" y="182"/>
                    </a:lnTo>
                    <a:lnTo>
                      <a:pt x="89" y="237"/>
                    </a:lnTo>
                    <a:lnTo>
                      <a:pt x="106" y="292"/>
                    </a:lnTo>
                    <a:lnTo>
                      <a:pt x="120" y="349"/>
                    </a:lnTo>
                    <a:lnTo>
                      <a:pt x="132" y="404"/>
                    </a:lnTo>
                    <a:lnTo>
                      <a:pt x="142" y="461"/>
                    </a:lnTo>
                    <a:lnTo>
                      <a:pt x="149" y="517"/>
                    </a:lnTo>
                    <a:lnTo>
                      <a:pt x="155" y="574"/>
                    </a:lnTo>
                    <a:lnTo>
                      <a:pt x="159" y="631"/>
                    </a:lnTo>
                    <a:lnTo>
                      <a:pt x="160" y="687"/>
                    </a:lnTo>
                    <a:lnTo>
                      <a:pt x="159" y="744"/>
                    </a:lnTo>
                    <a:lnTo>
                      <a:pt x="155" y="800"/>
                    </a:lnTo>
                    <a:lnTo>
                      <a:pt x="150" y="858"/>
                    </a:lnTo>
                    <a:lnTo>
                      <a:pt x="143" y="915"/>
                    </a:lnTo>
                    <a:lnTo>
                      <a:pt x="160" y="900"/>
                    </a:lnTo>
                    <a:lnTo>
                      <a:pt x="143" y="915"/>
                    </a:lnTo>
                    <a:lnTo>
                      <a:pt x="142" y="920"/>
                    </a:lnTo>
                    <a:lnTo>
                      <a:pt x="143" y="922"/>
                    </a:lnTo>
                    <a:lnTo>
                      <a:pt x="144" y="926"/>
                    </a:lnTo>
                    <a:lnTo>
                      <a:pt x="146" y="928"/>
                    </a:lnTo>
                    <a:lnTo>
                      <a:pt x="152" y="933"/>
                    </a:lnTo>
                    <a:lnTo>
                      <a:pt x="158" y="934"/>
                    </a:lnTo>
                    <a:lnTo>
                      <a:pt x="164" y="934"/>
                    </a:lnTo>
                    <a:lnTo>
                      <a:pt x="170" y="932"/>
                    </a:lnTo>
                    <a:lnTo>
                      <a:pt x="173" y="931"/>
                    </a:lnTo>
                    <a:lnTo>
                      <a:pt x="175" y="927"/>
                    </a:lnTo>
                    <a:lnTo>
                      <a:pt x="176" y="925"/>
                    </a:lnTo>
                    <a:lnTo>
                      <a:pt x="178" y="920"/>
                    </a:lnTo>
                    <a:lnTo>
                      <a:pt x="160" y="9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5402160" y="4178520"/>
                <a:ext cx="300600" cy="60480"/>
              </a:xfrm>
              <a:custGeom>
                <a:avLst/>
                <a:gdLst/>
                <a:ahLst/>
                <a:rect l="l" t="t" r="r" b="b"/>
                <a:pathLst>
                  <a:path w="798" h="162">
                    <a:moveTo>
                      <a:pt x="1" y="21"/>
                    </a:moveTo>
                    <a:lnTo>
                      <a:pt x="12" y="34"/>
                    </a:lnTo>
                    <a:lnTo>
                      <a:pt x="60" y="49"/>
                    </a:lnTo>
                    <a:lnTo>
                      <a:pt x="110" y="64"/>
                    </a:lnTo>
                    <a:lnTo>
                      <a:pt x="158" y="78"/>
                    </a:lnTo>
                    <a:lnTo>
                      <a:pt x="207" y="90"/>
                    </a:lnTo>
                    <a:lnTo>
                      <a:pt x="255" y="102"/>
                    </a:lnTo>
                    <a:lnTo>
                      <a:pt x="304" y="112"/>
                    </a:lnTo>
                    <a:lnTo>
                      <a:pt x="353" y="122"/>
                    </a:lnTo>
                    <a:lnTo>
                      <a:pt x="402" y="130"/>
                    </a:lnTo>
                    <a:lnTo>
                      <a:pt x="451" y="139"/>
                    </a:lnTo>
                    <a:lnTo>
                      <a:pt x="501" y="145"/>
                    </a:lnTo>
                    <a:lnTo>
                      <a:pt x="550" y="151"/>
                    </a:lnTo>
                    <a:lnTo>
                      <a:pt x="600" y="156"/>
                    </a:lnTo>
                    <a:lnTo>
                      <a:pt x="649" y="159"/>
                    </a:lnTo>
                    <a:lnTo>
                      <a:pt x="699" y="161"/>
                    </a:lnTo>
                    <a:lnTo>
                      <a:pt x="748" y="162"/>
                    </a:lnTo>
                    <a:lnTo>
                      <a:pt x="798" y="162"/>
                    </a:lnTo>
                    <a:lnTo>
                      <a:pt x="798" y="128"/>
                    </a:lnTo>
                    <a:lnTo>
                      <a:pt x="749" y="128"/>
                    </a:lnTo>
                    <a:lnTo>
                      <a:pt x="700" y="127"/>
                    </a:lnTo>
                    <a:lnTo>
                      <a:pt x="652" y="124"/>
                    </a:lnTo>
                    <a:lnTo>
                      <a:pt x="603" y="121"/>
                    </a:lnTo>
                    <a:lnTo>
                      <a:pt x="554" y="117"/>
                    </a:lnTo>
                    <a:lnTo>
                      <a:pt x="506" y="111"/>
                    </a:lnTo>
                    <a:lnTo>
                      <a:pt x="456" y="105"/>
                    </a:lnTo>
                    <a:lnTo>
                      <a:pt x="408" y="97"/>
                    </a:lnTo>
                    <a:lnTo>
                      <a:pt x="359" y="89"/>
                    </a:lnTo>
                    <a:lnTo>
                      <a:pt x="311" y="79"/>
                    </a:lnTo>
                    <a:lnTo>
                      <a:pt x="263" y="68"/>
                    </a:lnTo>
                    <a:lnTo>
                      <a:pt x="214" y="57"/>
                    </a:lnTo>
                    <a:lnTo>
                      <a:pt x="166" y="44"/>
                    </a:lnTo>
                    <a:lnTo>
                      <a:pt x="118" y="31"/>
                    </a:lnTo>
                    <a:lnTo>
                      <a:pt x="71" y="16"/>
                    </a:lnTo>
                    <a:lnTo>
                      <a:pt x="23" y="1"/>
                    </a:lnTo>
                    <a:lnTo>
                      <a:pt x="35" y="15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394600" y="3860280"/>
                <a:ext cx="96480" cy="325800"/>
              </a:xfrm>
              <a:custGeom>
                <a:avLst/>
                <a:gdLst/>
                <a:ahLst/>
                <a:rect l="l" t="t" r="r" b="b"/>
                <a:pathLst>
                  <a:path w="254" h="859">
                    <a:moveTo>
                      <a:pt x="248" y="5"/>
                    </a:moveTo>
                    <a:lnTo>
                      <a:pt x="222" y="8"/>
                    </a:lnTo>
                    <a:lnTo>
                      <a:pt x="191" y="59"/>
                    </a:lnTo>
                    <a:lnTo>
                      <a:pt x="161" y="111"/>
                    </a:lnTo>
                    <a:lnTo>
                      <a:pt x="133" y="163"/>
                    </a:lnTo>
                    <a:lnTo>
                      <a:pt x="108" y="216"/>
                    </a:lnTo>
                    <a:lnTo>
                      <a:pt x="86" y="267"/>
                    </a:lnTo>
                    <a:lnTo>
                      <a:pt x="65" y="320"/>
                    </a:lnTo>
                    <a:lnTo>
                      <a:pt x="56" y="347"/>
                    </a:lnTo>
                    <a:lnTo>
                      <a:pt x="48" y="374"/>
                    </a:lnTo>
                    <a:lnTo>
                      <a:pt x="40" y="400"/>
                    </a:lnTo>
                    <a:lnTo>
                      <a:pt x="33" y="427"/>
                    </a:lnTo>
                    <a:lnTo>
                      <a:pt x="27" y="454"/>
                    </a:lnTo>
                    <a:lnTo>
                      <a:pt x="21" y="481"/>
                    </a:lnTo>
                    <a:lnTo>
                      <a:pt x="16" y="507"/>
                    </a:lnTo>
                    <a:lnTo>
                      <a:pt x="11" y="534"/>
                    </a:lnTo>
                    <a:lnTo>
                      <a:pt x="7" y="561"/>
                    </a:lnTo>
                    <a:lnTo>
                      <a:pt x="5" y="588"/>
                    </a:lnTo>
                    <a:lnTo>
                      <a:pt x="2" y="615"/>
                    </a:lnTo>
                    <a:lnTo>
                      <a:pt x="1" y="642"/>
                    </a:lnTo>
                    <a:lnTo>
                      <a:pt x="0" y="670"/>
                    </a:lnTo>
                    <a:lnTo>
                      <a:pt x="0" y="697"/>
                    </a:lnTo>
                    <a:lnTo>
                      <a:pt x="1" y="724"/>
                    </a:lnTo>
                    <a:lnTo>
                      <a:pt x="4" y="751"/>
                    </a:lnTo>
                    <a:lnTo>
                      <a:pt x="6" y="778"/>
                    </a:lnTo>
                    <a:lnTo>
                      <a:pt x="8" y="805"/>
                    </a:lnTo>
                    <a:lnTo>
                      <a:pt x="13" y="832"/>
                    </a:lnTo>
                    <a:lnTo>
                      <a:pt x="18" y="859"/>
                    </a:lnTo>
                    <a:lnTo>
                      <a:pt x="52" y="853"/>
                    </a:lnTo>
                    <a:lnTo>
                      <a:pt x="47" y="827"/>
                    </a:lnTo>
                    <a:lnTo>
                      <a:pt x="43" y="800"/>
                    </a:lnTo>
                    <a:lnTo>
                      <a:pt x="40" y="774"/>
                    </a:lnTo>
                    <a:lnTo>
                      <a:pt x="38" y="748"/>
                    </a:lnTo>
                    <a:lnTo>
                      <a:pt x="36" y="722"/>
                    </a:lnTo>
                    <a:lnTo>
                      <a:pt x="36" y="697"/>
                    </a:lnTo>
                    <a:lnTo>
                      <a:pt x="36" y="670"/>
                    </a:lnTo>
                    <a:lnTo>
                      <a:pt x="36" y="644"/>
                    </a:lnTo>
                    <a:lnTo>
                      <a:pt x="37" y="618"/>
                    </a:lnTo>
                    <a:lnTo>
                      <a:pt x="39" y="592"/>
                    </a:lnTo>
                    <a:lnTo>
                      <a:pt x="42" y="566"/>
                    </a:lnTo>
                    <a:lnTo>
                      <a:pt x="45" y="539"/>
                    </a:lnTo>
                    <a:lnTo>
                      <a:pt x="50" y="513"/>
                    </a:lnTo>
                    <a:lnTo>
                      <a:pt x="54" y="487"/>
                    </a:lnTo>
                    <a:lnTo>
                      <a:pt x="60" y="462"/>
                    </a:lnTo>
                    <a:lnTo>
                      <a:pt x="66" y="436"/>
                    </a:lnTo>
                    <a:lnTo>
                      <a:pt x="74" y="410"/>
                    </a:lnTo>
                    <a:lnTo>
                      <a:pt x="81" y="384"/>
                    </a:lnTo>
                    <a:lnTo>
                      <a:pt x="90" y="358"/>
                    </a:lnTo>
                    <a:lnTo>
                      <a:pt x="98" y="332"/>
                    </a:lnTo>
                    <a:lnTo>
                      <a:pt x="118" y="281"/>
                    </a:lnTo>
                    <a:lnTo>
                      <a:pt x="140" y="229"/>
                    </a:lnTo>
                    <a:lnTo>
                      <a:pt x="165" y="179"/>
                    </a:lnTo>
                    <a:lnTo>
                      <a:pt x="191" y="128"/>
                    </a:lnTo>
                    <a:lnTo>
                      <a:pt x="220" y="78"/>
                    </a:lnTo>
                    <a:lnTo>
                      <a:pt x="251" y="27"/>
                    </a:lnTo>
                    <a:lnTo>
                      <a:pt x="225" y="31"/>
                    </a:lnTo>
                    <a:lnTo>
                      <a:pt x="251" y="27"/>
                    </a:lnTo>
                    <a:lnTo>
                      <a:pt x="253" y="24"/>
                    </a:lnTo>
                    <a:lnTo>
                      <a:pt x="254" y="20"/>
                    </a:lnTo>
                    <a:lnTo>
                      <a:pt x="254" y="16"/>
                    </a:lnTo>
                    <a:lnTo>
                      <a:pt x="253" y="13"/>
                    </a:lnTo>
                    <a:lnTo>
                      <a:pt x="251" y="8"/>
                    </a:lnTo>
                    <a:lnTo>
                      <a:pt x="246" y="3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1" y="2"/>
                    </a:lnTo>
                    <a:lnTo>
                      <a:pt x="227" y="3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48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5477760" y="3464640"/>
                <a:ext cx="147240" cy="84960"/>
              </a:xfrm>
              <a:custGeom>
                <a:avLst/>
                <a:gdLst/>
                <a:ahLst/>
                <a:rect l="l" t="t" r="r" b="b"/>
                <a:pathLst>
                  <a:path w="390" h="223">
                    <a:moveTo>
                      <a:pt x="16" y="223"/>
                    </a:moveTo>
                    <a:lnTo>
                      <a:pt x="7" y="198"/>
                    </a:lnTo>
                    <a:lnTo>
                      <a:pt x="2" y="176"/>
                    </a:lnTo>
                    <a:lnTo>
                      <a:pt x="0" y="154"/>
                    </a:lnTo>
                    <a:lnTo>
                      <a:pt x="1" y="134"/>
                    </a:lnTo>
                    <a:lnTo>
                      <a:pt x="3" y="116"/>
                    </a:lnTo>
                    <a:lnTo>
                      <a:pt x="10" y="98"/>
                    </a:lnTo>
                    <a:lnTo>
                      <a:pt x="18" y="82"/>
                    </a:lnTo>
                    <a:lnTo>
                      <a:pt x="29" y="68"/>
                    </a:lnTo>
                    <a:lnTo>
                      <a:pt x="42" y="54"/>
                    </a:lnTo>
                    <a:lnTo>
                      <a:pt x="55" y="43"/>
                    </a:lnTo>
                    <a:lnTo>
                      <a:pt x="71" y="32"/>
                    </a:lnTo>
                    <a:lnTo>
                      <a:pt x="87" y="23"/>
                    </a:lnTo>
                    <a:lnTo>
                      <a:pt x="106" y="16"/>
                    </a:lnTo>
                    <a:lnTo>
                      <a:pt x="124" y="10"/>
                    </a:lnTo>
                    <a:lnTo>
                      <a:pt x="144" y="5"/>
                    </a:lnTo>
                    <a:lnTo>
                      <a:pt x="165" y="1"/>
                    </a:lnTo>
                    <a:lnTo>
                      <a:pt x="184" y="0"/>
                    </a:lnTo>
                    <a:lnTo>
                      <a:pt x="205" y="0"/>
                    </a:lnTo>
                    <a:lnTo>
                      <a:pt x="225" y="0"/>
                    </a:lnTo>
                    <a:lnTo>
                      <a:pt x="246" y="2"/>
                    </a:lnTo>
                    <a:lnTo>
                      <a:pt x="264" y="6"/>
                    </a:lnTo>
                    <a:lnTo>
                      <a:pt x="284" y="12"/>
                    </a:lnTo>
                    <a:lnTo>
                      <a:pt x="301" y="18"/>
                    </a:lnTo>
                    <a:lnTo>
                      <a:pt x="318" y="27"/>
                    </a:lnTo>
                    <a:lnTo>
                      <a:pt x="334" y="36"/>
                    </a:lnTo>
                    <a:lnTo>
                      <a:pt x="348" y="47"/>
                    </a:lnTo>
                    <a:lnTo>
                      <a:pt x="360" y="59"/>
                    </a:lnTo>
                    <a:lnTo>
                      <a:pt x="371" y="74"/>
                    </a:lnTo>
                    <a:lnTo>
                      <a:pt x="379" y="88"/>
                    </a:lnTo>
                    <a:lnTo>
                      <a:pt x="385" y="106"/>
                    </a:lnTo>
                    <a:lnTo>
                      <a:pt x="388" y="124"/>
                    </a:lnTo>
                    <a:lnTo>
                      <a:pt x="390" y="144"/>
                    </a:lnTo>
                    <a:lnTo>
                      <a:pt x="360" y="135"/>
                    </a:lnTo>
                    <a:lnTo>
                      <a:pt x="333" y="130"/>
                    </a:lnTo>
                    <a:lnTo>
                      <a:pt x="309" y="127"/>
                    </a:lnTo>
                    <a:lnTo>
                      <a:pt x="285" y="125"/>
                    </a:lnTo>
                    <a:lnTo>
                      <a:pt x="263" y="125"/>
                    </a:lnTo>
                    <a:lnTo>
                      <a:pt x="242" y="128"/>
                    </a:lnTo>
                    <a:lnTo>
                      <a:pt x="221" y="132"/>
                    </a:lnTo>
                    <a:lnTo>
                      <a:pt x="200" y="138"/>
                    </a:lnTo>
                    <a:lnTo>
                      <a:pt x="181" y="145"/>
                    </a:lnTo>
                    <a:lnTo>
                      <a:pt x="160" y="152"/>
                    </a:lnTo>
                    <a:lnTo>
                      <a:pt x="139" y="162"/>
                    </a:lnTo>
                    <a:lnTo>
                      <a:pt x="117" y="172"/>
                    </a:lnTo>
                    <a:lnTo>
                      <a:pt x="70" y="197"/>
                    </a:lnTo>
                    <a:lnTo>
                      <a:pt x="16" y="223"/>
                    </a:lnTo>
                    <a:close/>
                  </a:path>
                </a:pathLst>
              </a:custGeom>
              <a:solidFill>
                <a:srgbClr val="6c1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468400" y="3455280"/>
                <a:ext cx="166320" cy="9828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07" y="191"/>
                    </a:moveTo>
                    <a:lnTo>
                      <a:pt x="438" y="169"/>
                    </a:lnTo>
                    <a:lnTo>
                      <a:pt x="438" y="158"/>
                    </a:lnTo>
                    <a:lnTo>
                      <a:pt x="438" y="145"/>
                    </a:lnTo>
                    <a:lnTo>
                      <a:pt x="436" y="134"/>
                    </a:lnTo>
                    <a:lnTo>
                      <a:pt x="433" y="125"/>
                    </a:lnTo>
                    <a:lnTo>
                      <a:pt x="431" y="113"/>
                    </a:lnTo>
                    <a:lnTo>
                      <a:pt x="426" y="104"/>
                    </a:lnTo>
                    <a:lnTo>
                      <a:pt x="422" y="94"/>
                    </a:lnTo>
                    <a:lnTo>
                      <a:pt x="416" y="84"/>
                    </a:lnTo>
                    <a:lnTo>
                      <a:pt x="404" y="68"/>
                    </a:lnTo>
                    <a:lnTo>
                      <a:pt x="389" y="53"/>
                    </a:lnTo>
                    <a:lnTo>
                      <a:pt x="373" y="41"/>
                    </a:lnTo>
                    <a:lnTo>
                      <a:pt x="356" y="30"/>
                    </a:lnTo>
                    <a:lnTo>
                      <a:pt x="336" y="21"/>
                    </a:lnTo>
                    <a:lnTo>
                      <a:pt x="316" y="14"/>
                    </a:lnTo>
                    <a:lnTo>
                      <a:pt x="295" y="8"/>
                    </a:lnTo>
                    <a:lnTo>
                      <a:pt x="274" y="4"/>
                    </a:lnTo>
                    <a:lnTo>
                      <a:pt x="252" y="2"/>
                    </a:lnTo>
                    <a:lnTo>
                      <a:pt x="230" y="0"/>
                    </a:lnTo>
                    <a:lnTo>
                      <a:pt x="208" y="0"/>
                    </a:lnTo>
                    <a:lnTo>
                      <a:pt x="186" y="3"/>
                    </a:lnTo>
                    <a:lnTo>
                      <a:pt x="164" y="6"/>
                    </a:lnTo>
                    <a:lnTo>
                      <a:pt x="143" y="11"/>
                    </a:lnTo>
                    <a:lnTo>
                      <a:pt x="122" y="18"/>
                    </a:lnTo>
                    <a:lnTo>
                      <a:pt x="102" y="26"/>
                    </a:lnTo>
                    <a:lnTo>
                      <a:pt x="84" y="36"/>
                    </a:lnTo>
                    <a:lnTo>
                      <a:pt x="65" y="48"/>
                    </a:lnTo>
                    <a:lnTo>
                      <a:pt x="49" y="62"/>
                    </a:lnTo>
                    <a:lnTo>
                      <a:pt x="36" y="77"/>
                    </a:lnTo>
                    <a:lnTo>
                      <a:pt x="28" y="85"/>
                    </a:lnTo>
                    <a:lnTo>
                      <a:pt x="22" y="94"/>
                    </a:lnTo>
                    <a:lnTo>
                      <a:pt x="17" y="104"/>
                    </a:lnTo>
                    <a:lnTo>
                      <a:pt x="12" y="113"/>
                    </a:lnTo>
                    <a:lnTo>
                      <a:pt x="9" y="123"/>
                    </a:lnTo>
                    <a:lnTo>
                      <a:pt x="5" y="134"/>
                    </a:lnTo>
                    <a:lnTo>
                      <a:pt x="3" y="145"/>
                    </a:lnTo>
                    <a:lnTo>
                      <a:pt x="1" y="157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1" y="192"/>
                    </a:lnTo>
                    <a:lnTo>
                      <a:pt x="3" y="204"/>
                    </a:lnTo>
                    <a:lnTo>
                      <a:pt x="5" y="217"/>
                    </a:lnTo>
                    <a:lnTo>
                      <a:pt x="9" y="230"/>
                    </a:lnTo>
                    <a:lnTo>
                      <a:pt x="12" y="243"/>
                    </a:lnTo>
                    <a:lnTo>
                      <a:pt x="17" y="256"/>
                    </a:lnTo>
                    <a:lnTo>
                      <a:pt x="63" y="238"/>
                    </a:lnTo>
                    <a:lnTo>
                      <a:pt x="59" y="227"/>
                    </a:lnTo>
                    <a:lnTo>
                      <a:pt x="56" y="217"/>
                    </a:lnTo>
                    <a:lnTo>
                      <a:pt x="53" y="206"/>
                    </a:lnTo>
                    <a:lnTo>
                      <a:pt x="51" y="196"/>
                    </a:lnTo>
                    <a:lnTo>
                      <a:pt x="49" y="187"/>
                    </a:lnTo>
                    <a:lnTo>
                      <a:pt x="49" y="179"/>
                    </a:lnTo>
                    <a:lnTo>
                      <a:pt x="49" y="170"/>
                    </a:lnTo>
                    <a:lnTo>
                      <a:pt x="49" y="161"/>
                    </a:lnTo>
                    <a:lnTo>
                      <a:pt x="51" y="154"/>
                    </a:lnTo>
                    <a:lnTo>
                      <a:pt x="53" y="147"/>
                    </a:lnTo>
                    <a:lnTo>
                      <a:pt x="54" y="139"/>
                    </a:lnTo>
                    <a:lnTo>
                      <a:pt x="57" y="133"/>
                    </a:lnTo>
                    <a:lnTo>
                      <a:pt x="60" y="126"/>
                    </a:lnTo>
                    <a:lnTo>
                      <a:pt x="64" y="120"/>
                    </a:lnTo>
                    <a:lnTo>
                      <a:pt x="68" y="113"/>
                    </a:lnTo>
                    <a:lnTo>
                      <a:pt x="72" y="109"/>
                    </a:lnTo>
                    <a:lnTo>
                      <a:pt x="83" y="97"/>
                    </a:lnTo>
                    <a:lnTo>
                      <a:pt x="95" y="88"/>
                    </a:lnTo>
                    <a:lnTo>
                      <a:pt x="108" y="78"/>
                    </a:lnTo>
                    <a:lnTo>
                      <a:pt x="123" y="70"/>
                    </a:lnTo>
                    <a:lnTo>
                      <a:pt x="139" y="64"/>
                    </a:lnTo>
                    <a:lnTo>
                      <a:pt x="156" y="58"/>
                    </a:lnTo>
                    <a:lnTo>
                      <a:pt x="174" y="54"/>
                    </a:lnTo>
                    <a:lnTo>
                      <a:pt x="192" y="51"/>
                    </a:lnTo>
                    <a:lnTo>
                      <a:pt x="211" y="49"/>
                    </a:lnTo>
                    <a:lnTo>
                      <a:pt x="230" y="48"/>
                    </a:lnTo>
                    <a:lnTo>
                      <a:pt x="249" y="49"/>
                    </a:lnTo>
                    <a:lnTo>
                      <a:pt x="267" y="52"/>
                    </a:lnTo>
                    <a:lnTo>
                      <a:pt x="284" y="56"/>
                    </a:lnTo>
                    <a:lnTo>
                      <a:pt x="302" y="59"/>
                    </a:lnTo>
                    <a:lnTo>
                      <a:pt x="318" y="65"/>
                    </a:lnTo>
                    <a:lnTo>
                      <a:pt x="332" y="73"/>
                    </a:lnTo>
                    <a:lnTo>
                      <a:pt x="345" y="81"/>
                    </a:lnTo>
                    <a:lnTo>
                      <a:pt x="357" y="90"/>
                    </a:lnTo>
                    <a:lnTo>
                      <a:pt x="367" y="100"/>
                    </a:lnTo>
                    <a:lnTo>
                      <a:pt x="375" y="112"/>
                    </a:lnTo>
                    <a:lnTo>
                      <a:pt x="379" y="117"/>
                    </a:lnTo>
                    <a:lnTo>
                      <a:pt x="381" y="123"/>
                    </a:lnTo>
                    <a:lnTo>
                      <a:pt x="384" y="129"/>
                    </a:lnTo>
                    <a:lnTo>
                      <a:pt x="386" y="137"/>
                    </a:lnTo>
                    <a:lnTo>
                      <a:pt x="388" y="144"/>
                    </a:lnTo>
                    <a:lnTo>
                      <a:pt x="389" y="152"/>
                    </a:lnTo>
                    <a:lnTo>
                      <a:pt x="390" y="159"/>
                    </a:lnTo>
                    <a:lnTo>
                      <a:pt x="390" y="168"/>
                    </a:lnTo>
                    <a:lnTo>
                      <a:pt x="421" y="145"/>
                    </a:lnTo>
                    <a:lnTo>
                      <a:pt x="390" y="168"/>
                    </a:lnTo>
                    <a:lnTo>
                      <a:pt x="390" y="174"/>
                    </a:lnTo>
                    <a:lnTo>
                      <a:pt x="391" y="179"/>
                    </a:lnTo>
                    <a:lnTo>
                      <a:pt x="394" y="182"/>
                    </a:lnTo>
                    <a:lnTo>
                      <a:pt x="397" y="186"/>
                    </a:lnTo>
                    <a:lnTo>
                      <a:pt x="401" y="188"/>
                    </a:lnTo>
                    <a:lnTo>
                      <a:pt x="405" y="191"/>
                    </a:lnTo>
                    <a:lnTo>
                      <a:pt x="409" y="192"/>
                    </a:lnTo>
                    <a:lnTo>
                      <a:pt x="413" y="192"/>
                    </a:lnTo>
                    <a:lnTo>
                      <a:pt x="418" y="192"/>
                    </a:lnTo>
                    <a:lnTo>
                      <a:pt x="422" y="191"/>
                    </a:lnTo>
                    <a:lnTo>
                      <a:pt x="427" y="190"/>
                    </a:lnTo>
                    <a:lnTo>
                      <a:pt x="431" y="187"/>
                    </a:lnTo>
                    <a:lnTo>
                      <a:pt x="433" y="184"/>
                    </a:lnTo>
                    <a:lnTo>
                      <a:pt x="436" y="180"/>
                    </a:lnTo>
                    <a:lnTo>
                      <a:pt x="438" y="175"/>
                    </a:lnTo>
                    <a:lnTo>
                      <a:pt x="438" y="169"/>
                    </a:lnTo>
                    <a:lnTo>
                      <a:pt x="407" y="1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474160" y="3504240"/>
                <a:ext cx="153360" cy="54720"/>
              </a:xfrm>
              <a:custGeom>
                <a:avLst/>
                <a:gdLst/>
                <a:ahLst/>
                <a:rect l="l" t="t" r="r" b="b"/>
                <a:pathLst>
                  <a:path w="405" h="146">
                    <a:moveTo>
                      <a:pt x="1" y="130"/>
                    </a:moveTo>
                    <a:lnTo>
                      <a:pt x="35" y="144"/>
                    </a:lnTo>
                    <a:lnTo>
                      <a:pt x="89" y="117"/>
                    </a:lnTo>
                    <a:lnTo>
                      <a:pt x="137" y="93"/>
                    </a:lnTo>
                    <a:lnTo>
                      <a:pt x="158" y="83"/>
                    </a:lnTo>
                    <a:lnTo>
                      <a:pt x="179" y="75"/>
                    </a:lnTo>
                    <a:lnTo>
                      <a:pt x="198" y="66"/>
                    </a:lnTo>
                    <a:lnTo>
                      <a:pt x="217" y="60"/>
                    </a:lnTo>
                    <a:lnTo>
                      <a:pt x="235" y="55"/>
                    </a:lnTo>
                    <a:lnTo>
                      <a:pt x="255" y="51"/>
                    </a:lnTo>
                    <a:lnTo>
                      <a:pt x="273" y="49"/>
                    </a:lnTo>
                    <a:lnTo>
                      <a:pt x="294" y="49"/>
                    </a:lnTo>
                    <a:lnTo>
                      <a:pt x="315" y="49"/>
                    </a:lnTo>
                    <a:lnTo>
                      <a:pt x="338" y="53"/>
                    </a:lnTo>
                    <a:lnTo>
                      <a:pt x="364" y="58"/>
                    </a:lnTo>
                    <a:lnTo>
                      <a:pt x="391" y="65"/>
                    </a:lnTo>
                    <a:lnTo>
                      <a:pt x="405" y="19"/>
                    </a:lnTo>
                    <a:lnTo>
                      <a:pt x="375" y="11"/>
                    </a:lnTo>
                    <a:lnTo>
                      <a:pt x="347" y="5"/>
                    </a:lnTo>
                    <a:lnTo>
                      <a:pt x="320" y="1"/>
                    </a:lnTo>
                    <a:lnTo>
                      <a:pt x="294" y="0"/>
                    </a:lnTo>
                    <a:lnTo>
                      <a:pt x="271" y="0"/>
                    </a:lnTo>
                    <a:lnTo>
                      <a:pt x="247" y="2"/>
                    </a:lnTo>
                    <a:lnTo>
                      <a:pt x="224" y="7"/>
                    </a:lnTo>
                    <a:lnTo>
                      <a:pt x="202" y="13"/>
                    </a:lnTo>
                    <a:lnTo>
                      <a:pt x="181" y="21"/>
                    </a:lnTo>
                    <a:lnTo>
                      <a:pt x="159" y="29"/>
                    </a:lnTo>
                    <a:lnTo>
                      <a:pt x="138" y="39"/>
                    </a:lnTo>
                    <a:lnTo>
                      <a:pt x="116" y="50"/>
                    </a:lnTo>
                    <a:lnTo>
                      <a:pt x="68" y="74"/>
                    </a:lnTo>
                    <a:lnTo>
                      <a:pt x="14" y="99"/>
                    </a:lnTo>
                    <a:lnTo>
                      <a:pt x="47" y="112"/>
                    </a:lnTo>
                    <a:lnTo>
                      <a:pt x="14" y="99"/>
                    </a:lnTo>
                    <a:lnTo>
                      <a:pt x="9" y="102"/>
                    </a:lnTo>
                    <a:lnTo>
                      <a:pt x="5" y="106"/>
                    </a:lnTo>
                    <a:lnTo>
                      <a:pt x="3" y="109"/>
                    </a:lnTo>
                    <a:lnTo>
                      <a:pt x="1" y="114"/>
                    </a:lnTo>
                    <a:lnTo>
                      <a:pt x="0" y="118"/>
                    </a:lnTo>
                    <a:lnTo>
                      <a:pt x="0" y="123"/>
                    </a:lnTo>
                    <a:lnTo>
                      <a:pt x="1" y="128"/>
                    </a:lnTo>
                    <a:lnTo>
                      <a:pt x="3" y="131"/>
                    </a:lnTo>
                    <a:lnTo>
                      <a:pt x="5" y="135"/>
                    </a:lnTo>
                    <a:lnTo>
                      <a:pt x="8" y="139"/>
                    </a:lnTo>
                    <a:lnTo>
                      <a:pt x="11" y="142"/>
                    </a:lnTo>
                    <a:lnTo>
                      <a:pt x="15" y="144"/>
                    </a:lnTo>
                    <a:lnTo>
                      <a:pt x="20" y="145"/>
                    </a:lnTo>
                    <a:lnTo>
                      <a:pt x="24" y="146"/>
                    </a:lnTo>
                    <a:lnTo>
                      <a:pt x="30" y="145"/>
                    </a:lnTo>
                    <a:lnTo>
                      <a:pt x="35" y="144"/>
                    </a:lnTo>
                    <a:lnTo>
                      <a:pt x="1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2133000" y="2955600"/>
                <a:ext cx="4809240" cy="698400"/>
              </a:xfrm>
              <a:custGeom>
                <a:avLst/>
                <a:gdLst/>
                <a:ahLst/>
                <a:rect l="l" t="t" r="r" b="b"/>
                <a:pathLst>
                  <a:path w="12709" h="1847">
                    <a:moveTo>
                      <a:pt x="2401" y="733"/>
                    </a:moveTo>
                    <a:lnTo>
                      <a:pt x="2406" y="736"/>
                    </a:lnTo>
                    <a:lnTo>
                      <a:pt x="2415" y="745"/>
                    </a:lnTo>
                    <a:lnTo>
                      <a:pt x="2431" y="755"/>
                    </a:lnTo>
                    <a:lnTo>
                      <a:pt x="2451" y="765"/>
                    </a:lnTo>
                    <a:lnTo>
                      <a:pt x="2462" y="768"/>
                    </a:lnTo>
                    <a:lnTo>
                      <a:pt x="2473" y="771"/>
                    </a:lnTo>
                    <a:lnTo>
                      <a:pt x="2484" y="772"/>
                    </a:lnTo>
                    <a:lnTo>
                      <a:pt x="2497" y="771"/>
                    </a:lnTo>
                    <a:lnTo>
                      <a:pt x="2508" y="768"/>
                    </a:lnTo>
                    <a:lnTo>
                      <a:pt x="2519" y="763"/>
                    </a:lnTo>
                    <a:lnTo>
                      <a:pt x="2524" y="760"/>
                    </a:lnTo>
                    <a:lnTo>
                      <a:pt x="2529" y="756"/>
                    </a:lnTo>
                    <a:lnTo>
                      <a:pt x="2534" y="751"/>
                    </a:lnTo>
                    <a:lnTo>
                      <a:pt x="2538" y="745"/>
                    </a:lnTo>
                    <a:lnTo>
                      <a:pt x="2401" y="733"/>
                    </a:lnTo>
                    <a:close/>
                    <a:moveTo>
                      <a:pt x="2750" y="821"/>
                    </a:moveTo>
                    <a:lnTo>
                      <a:pt x="2754" y="825"/>
                    </a:lnTo>
                    <a:lnTo>
                      <a:pt x="2764" y="832"/>
                    </a:lnTo>
                    <a:lnTo>
                      <a:pt x="2780" y="843"/>
                    </a:lnTo>
                    <a:lnTo>
                      <a:pt x="2799" y="852"/>
                    </a:lnTo>
                    <a:lnTo>
                      <a:pt x="2810" y="856"/>
                    </a:lnTo>
                    <a:lnTo>
                      <a:pt x="2821" y="859"/>
                    </a:lnTo>
                    <a:lnTo>
                      <a:pt x="2834" y="861"/>
                    </a:lnTo>
                    <a:lnTo>
                      <a:pt x="2845" y="859"/>
                    </a:lnTo>
                    <a:lnTo>
                      <a:pt x="2856" y="857"/>
                    </a:lnTo>
                    <a:lnTo>
                      <a:pt x="2867" y="852"/>
                    </a:lnTo>
                    <a:lnTo>
                      <a:pt x="2872" y="848"/>
                    </a:lnTo>
                    <a:lnTo>
                      <a:pt x="2877" y="843"/>
                    </a:lnTo>
                    <a:lnTo>
                      <a:pt x="2882" y="838"/>
                    </a:lnTo>
                    <a:lnTo>
                      <a:pt x="2887" y="834"/>
                    </a:lnTo>
                    <a:lnTo>
                      <a:pt x="2750" y="821"/>
                    </a:lnTo>
                    <a:close/>
                    <a:moveTo>
                      <a:pt x="342" y="926"/>
                    </a:moveTo>
                    <a:lnTo>
                      <a:pt x="347" y="927"/>
                    </a:lnTo>
                    <a:lnTo>
                      <a:pt x="360" y="927"/>
                    </a:lnTo>
                    <a:lnTo>
                      <a:pt x="380" y="927"/>
                    </a:lnTo>
                    <a:lnTo>
                      <a:pt x="402" y="925"/>
                    </a:lnTo>
                    <a:lnTo>
                      <a:pt x="413" y="922"/>
                    </a:lnTo>
                    <a:lnTo>
                      <a:pt x="423" y="918"/>
                    </a:lnTo>
                    <a:lnTo>
                      <a:pt x="434" y="913"/>
                    </a:lnTo>
                    <a:lnTo>
                      <a:pt x="443" y="906"/>
                    </a:lnTo>
                    <a:lnTo>
                      <a:pt x="446" y="902"/>
                    </a:lnTo>
                    <a:lnTo>
                      <a:pt x="451" y="897"/>
                    </a:lnTo>
                    <a:lnTo>
                      <a:pt x="454" y="893"/>
                    </a:lnTo>
                    <a:lnTo>
                      <a:pt x="457" y="888"/>
                    </a:lnTo>
                    <a:lnTo>
                      <a:pt x="459" y="881"/>
                    </a:lnTo>
                    <a:lnTo>
                      <a:pt x="461" y="875"/>
                    </a:lnTo>
                    <a:lnTo>
                      <a:pt x="462" y="868"/>
                    </a:lnTo>
                    <a:lnTo>
                      <a:pt x="462" y="861"/>
                    </a:lnTo>
                    <a:lnTo>
                      <a:pt x="342" y="926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638" y="814"/>
                    </a:moveTo>
                    <a:lnTo>
                      <a:pt x="2629" y="826"/>
                    </a:lnTo>
                    <a:lnTo>
                      <a:pt x="2606" y="857"/>
                    </a:lnTo>
                    <a:lnTo>
                      <a:pt x="2593" y="878"/>
                    </a:lnTo>
                    <a:lnTo>
                      <a:pt x="2577" y="901"/>
                    </a:lnTo>
                    <a:lnTo>
                      <a:pt x="2562" y="926"/>
                    </a:lnTo>
                    <a:lnTo>
                      <a:pt x="2548" y="953"/>
                    </a:lnTo>
                    <a:lnTo>
                      <a:pt x="2536" y="979"/>
                    </a:lnTo>
                    <a:lnTo>
                      <a:pt x="2526" y="1006"/>
                    </a:lnTo>
                    <a:lnTo>
                      <a:pt x="2522" y="1018"/>
                    </a:lnTo>
                    <a:lnTo>
                      <a:pt x="2520" y="1030"/>
                    </a:lnTo>
                    <a:lnTo>
                      <a:pt x="2518" y="1043"/>
                    </a:lnTo>
                    <a:lnTo>
                      <a:pt x="2518" y="1055"/>
                    </a:lnTo>
                    <a:lnTo>
                      <a:pt x="2519" y="1065"/>
                    </a:lnTo>
                    <a:lnTo>
                      <a:pt x="2521" y="1076"/>
                    </a:lnTo>
                    <a:lnTo>
                      <a:pt x="2525" y="1084"/>
                    </a:lnTo>
                    <a:lnTo>
                      <a:pt x="2530" y="1093"/>
                    </a:lnTo>
                    <a:lnTo>
                      <a:pt x="2537" y="1100"/>
                    </a:lnTo>
                    <a:lnTo>
                      <a:pt x="2547" y="1107"/>
                    </a:lnTo>
                    <a:lnTo>
                      <a:pt x="2558" y="1113"/>
                    </a:lnTo>
                    <a:lnTo>
                      <a:pt x="2570" y="1116"/>
                    </a:lnTo>
                    <a:lnTo>
                      <a:pt x="2638" y="814"/>
                    </a:lnTo>
                    <a:close/>
                    <a:moveTo>
                      <a:pt x="551" y="805"/>
                    </a:moveTo>
                    <a:lnTo>
                      <a:pt x="562" y="815"/>
                    </a:lnTo>
                    <a:lnTo>
                      <a:pt x="590" y="841"/>
                    </a:lnTo>
                    <a:lnTo>
                      <a:pt x="609" y="859"/>
                    </a:lnTo>
                    <a:lnTo>
                      <a:pt x="627" y="880"/>
                    </a:lnTo>
                    <a:lnTo>
                      <a:pt x="647" y="904"/>
                    </a:lnTo>
                    <a:lnTo>
                      <a:pt x="665" y="929"/>
                    </a:lnTo>
                    <a:lnTo>
                      <a:pt x="674" y="943"/>
                    </a:lnTo>
                    <a:lnTo>
                      <a:pt x="681" y="957"/>
                    </a:lnTo>
                    <a:lnTo>
                      <a:pt x="689" y="970"/>
                    </a:lnTo>
                    <a:lnTo>
                      <a:pt x="695" y="985"/>
                    </a:lnTo>
                    <a:lnTo>
                      <a:pt x="701" y="998"/>
                    </a:lnTo>
                    <a:lnTo>
                      <a:pt x="705" y="1013"/>
                    </a:lnTo>
                    <a:lnTo>
                      <a:pt x="708" y="1027"/>
                    </a:lnTo>
                    <a:lnTo>
                      <a:pt x="710" y="1041"/>
                    </a:lnTo>
                    <a:lnTo>
                      <a:pt x="710" y="1055"/>
                    </a:lnTo>
                    <a:lnTo>
                      <a:pt x="708" y="1070"/>
                    </a:lnTo>
                    <a:lnTo>
                      <a:pt x="705" y="1083"/>
                    </a:lnTo>
                    <a:lnTo>
                      <a:pt x="700" y="1097"/>
                    </a:lnTo>
                    <a:lnTo>
                      <a:pt x="692" y="1109"/>
                    </a:lnTo>
                    <a:lnTo>
                      <a:pt x="684" y="1123"/>
                    </a:lnTo>
                    <a:lnTo>
                      <a:pt x="671" y="1135"/>
                    </a:lnTo>
                    <a:lnTo>
                      <a:pt x="658" y="1146"/>
                    </a:lnTo>
                    <a:lnTo>
                      <a:pt x="551" y="805"/>
                    </a:lnTo>
                    <a:close/>
                    <a:moveTo>
                      <a:pt x="646" y="814"/>
                    </a:moveTo>
                    <a:lnTo>
                      <a:pt x="652" y="815"/>
                    </a:lnTo>
                    <a:lnTo>
                      <a:pt x="664" y="816"/>
                    </a:lnTo>
                    <a:lnTo>
                      <a:pt x="684" y="816"/>
                    </a:lnTo>
                    <a:lnTo>
                      <a:pt x="706" y="814"/>
                    </a:lnTo>
                    <a:lnTo>
                      <a:pt x="717" y="810"/>
                    </a:lnTo>
                    <a:lnTo>
                      <a:pt x="728" y="806"/>
                    </a:lnTo>
                    <a:lnTo>
                      <a:pt x="738" y="802"/>
                    </a:lnTo>
                    <a:lnTo>
                      <a:pt x="746" y="795"/>
                    </a:lnTo>
                    <a:lnTo>
                      <a:pt x="751" y="790"/>
                    </a:lnTo>
                    <a:lnTo>
                      <a:pt x="755" y="787"/>
                    </a:lnTo>
                    <a:lnTo>
                      <a:pt x="758" y="782"/>
                    </a:lnTo>
                    <a:lnTo>
                      <a:pt x="761" y="776"/>
                    </a:lnTo>
                    <a:lnTo>
                      <a:pt x="764" y="771"/>
                    </a:lnTo>
                    <a:lnTo>
                      <a:pt x="765" y="763"/>
                    </a:lnTo>
                    <a:lnTo>
                      <a:pt x="766" y="757"/>
                    </a:lnTo>
                    <a:lnTo>
                      <a:pt x="767" y="750"/>
                    </a:lnTo>
                    <a:lnTo>
                      <a:pt x="646" y="814"/>
                    </a:lnTo>
                    <a:close/>
                    <a:moveTo>
                      <a:pt x="2429" y="575"/>
                    </a:moveTo>
                    <a:lnTo>
                      <a:pt x="2443" y="588"/>
                    </a:lnTo>
                    <a:lnTo>
                      <a:pt x="2457" y="597"/>
                    </a:lnTo>
                    <a:lnTo>
                      <a:pt x="2473" y="606"/>
                    </a:lnTo>
                    <a:lnTo>
                      <a:pt x="2489" y="615"/>
                    </a:lnTo>
                    <a:lnTo>
                      <a:pt x="2506" y="621"/>
                    </a:lnTo>
                    <a:lnTo>
                      <a:pt x="2525" y="627"/>
                    </a:lnTo>
                    <a:lnTo>
                      <a:pt x="2545" y="632"/>
                    </a:lnTo>
                    <a:lnTo>
                      <a:pt x="2564" y="635"/>
                    </a:lnTo>
                    <a:lnTo>
                      <a:pt x="2605" y="642"/>
                    </a:lnTo>
                    <a:lnTo>
                      <a:pt x="2647" y="647"/>
                    </a:lnTo>
                    <a:lnTo>
                      <a:pt x="2690" y="650"/>
                    </a:lnTo>
                    <a:lnTo>
                      <a:pt x="2733" y="654"/>
                    </a:lnTo>
                    <a:lnTo>
                      <a:pt x="2780" y="672"/>
                    </a:lnTo>
                    <a:lnTo>
                      <a:pt x="2819" y="688"/>
                    </a:lnTo>
                    <a:lnTo>
                      <a:pt x="2850" y="702"/>
                    </a:lnTo>
                    <a:lnTo>
                      <a:pt x="2875" y="713"/>
                    </a:lnTo>
                    <a:lnTo>
                      <a:pt x="2894" y="724"/>
                    </a:lnTo>
                    <a:lnTo>
                      <a:pt x="2909" y="734"/>
                    </a:lnTo>
                    <a:lnTo>
                      <a:pt x="2915" y="739"/>
                    </a:lnTo>
                    <a:lnTo>
                      <a:pt x="2919" y="744"/>
                    </a:lnTo>
                    <a:lnTo>
                      <a:pt x="2923" y="749"/>
                    </a:lnTo>
                    <a:lnTo>
                      <a:pt x="2926" y="754"/>
                    </a:lnTo>
                    <a:lnTo>
                      <a:pt x="2930" y="765"/>
                    </a:lnTo>
                    <a:lnTo>
                      <a:pt x="2932" y="777"/>
                    </a:lnTo>
                    <a:lnTo>
                      <a:pt x="2935" y="790"/>
                    </a:lnTo>
                    <a:lnTo>
                      <a:pt x="2935" y="808"/>
                    </a:lnTo>
                    <a:lnTo>
                      <a:pt x="2937" y="827"/>
                    </a:lnTo>
                    <a:lnTo>
                      <a:pt x="2939" y="851"/>
                    </a:lnTo>
                    <a:lnTo>
                      <a:pt x="2944" y="878"/>
                    </a:lnTo>
                    <a:lnTo>
                      <a:pt x="2952" y="910"/>
                    </a:lnTo>
                    <a:lnTo>
                      <a:pt x="2965" y="923"/>
                    </a:lnTo>
                    <a:lnTo>
                      <a:pt x="2978" y="933"/>
                    </a:lnTo>
                    <a:lnTo>
                      <a:pt x="2984" y="936"/>
                    </a:lnTo>
                    <a:lnTo>
                      <a:pt x="2990" y="938"/>
                    </a:lnTo>
                    <a:lnTo>
                      <a:pt x="2995" y="941"/>
                    </a:lnTo>
                    <a:lnTo>
                      <a:pt x="3000" y="942"/>
                    </a:lnTo>
                    <a:lnTo>
                      <a:pt x="3005" y="942"/>
                    </a:lnTo>
                    <a:lnTo>
                      <a:pt x="3010" y="942"/>
                    </a:lnTo>
                    <a:lnTo>
                      <a:pt x="3014" y="941"/>
                    </a:lnTo>
                    <a:lnTo>
                      <a:pt x="3018" y="939"/>
                    </a:lnTo>
                    <a:lnTo>
                      <a:pt x="3027" y="934"/>
                    </a:lnTo>
                    <a:lnTo>
                      <a:pt x="3034" y="928"/>
                    </a:lnTo>
                    <a:lnTo>
                      <a:pt x="3050" y="912"/>
                    </a:lnTo>
                    <a:lnTo>
                      <a:pt x="3067" y="896"/>
                    </a:lnTo>
                    <a:lnTo>
                      <a:pt x="3076" y="888"/>
                    </a:lnTo>
                    <a:lnTo>
                      <a:pt x="3087" y="880"/>
                    </a:lnTo>
                    <a:lnTo>
                      <a:pt x="3097" y="874"/>
                    </a:lnTo>
                    <a:lnTo>
                      <a:pt x="3109" y="870"/>
                    </a:lnTo>
                    <a:lnTo>
                      <a:pt x="3108" y="842"/>
                    </a:lnTo>
                    <a:lnTo>
                      <a:pt x="3108" y="818"/>
                    </a:lnTo>
                    <a:lnTo>
                      <a:pt x="3110" y="798"/>
                    </a:lnTo>
                    <a:lnTo>
                      <a:pt x="3112" y="779"/>
                    </a:lnTo>
                    <a:lnTo>
                      <a:pt x="3114" y="763"/>
                    </a:lnTo>
                    <a:lnTo>
                      <a:pt x="3115" y="750"/>
                    </a:lnTo>
                    <a:lnTo>
                      <a:pt x="3114" y="735"/>
                    </a:lnTo>
                    <a:lnTo>
                      <a:pt x="3112" y="722"/>
                    </a:lnTo>
                    <a:lnTo>
                      <a:pt x="3109" y="714"/>
                    </a:lnTo>
                    <a:lnTo>
                      <a:pt x="3105" y="707"/>
                    </a:lnTo>
                    <a:lnTo>
                      <a:pt x="3102" y="698"/>
                    </a:lnTo>
                    <a:lnTo>
                      <a:pt x="3097" y="690"/>
                    </a:lnTo>
                    <a:lnTo>
                      <a:pt x="3083" y="671"/>
                    </a:lnTo>
                    <a:lnTo>
                      <a:pt x="3064" y="649"/>
                    </a:lnTo>
                    <a:lnTo>
                      <a:pt x="3040" y="624"/>
                    </a:lnTo>
                    <a:lnTo>
                      <a:pt x="3010" y="594"/>
                    </a:lnTo>
                    <a:lnTo>
                      <a:pt x="2971" y="558"/>
                    </a:lnTo>
                    <a:lnTo>
                      <a:pt x="2926" y="517"/>
                    </a:lnTo>
                    <a:lnTo>
                      <a:pt x="2874" y="499"/>
                    </a:lnTo>
                    <a:lnTo>
                      <a:pt x="2825" y="483"/>
                    </a:lnTo>
                    <a:lnTo>
                      <a:pt x="2778" y="471"/>
                    </a:lnTo>
                    <a:lnTo>
                      <a:pt x="2734" y="461"/>
                    </a:lnTo>
                    <a:lnTo>
                      <a:pt x="2713" y="458"/>
                    </a:lnTo>
                    <a:lnTo>
                      <a:pt x="2692" y="455"/>
                    </a:lnTo>
                    <a:lnTo>
                      <a:pt x="2673" y="453"/>
                    </a:lnTo>
                    <a:lnTo>
                      <a:pt x="2654" y="452"/>
                    </a:lnTo>
                    <a:lnTo>
                      <a:pt x="2636" y="452"/>
                    </a:lnTo>
                    <a:lnTo>
                      <a:pt x="2618" y="452"/>
                    </a:lnTo>
                    <a:lnTo>
                      <a:pt x="2601" y="453"/>
                    </a:lnTo>
                    <a:lnTo>
                      <a:pt x="2585" y="455"/>
                    </a:lnTo>
                    <a:lnTo>
                      <a:pt x="2569" y="457"/>
                    </a:lnTo>
                    <a:lnTo>
                      <a:pt x="2556" y="461"/>
                    </a:lnTo>
                    <a:lnTo>
                      <a:pt x="2541" y="465"/>
                    </a:lnTo>
                    <a:lnTo>
                      <a:pt x="2527" y="469"/>
                    </a:lnTo>
                    <a:lnTo>
                      <a:pt x="2515" y="474"/>
                    </a:lnTo>
                    <a:lnTo>
                      <a:pt x="2504" y="481"/>
                    </a:lnTo>
                    <a:lnTo>
                      <a:pt x="2493" y="487"/>
                    </a:lnTo>
                    <a:lnTo>
                      <a:pt x="2483" y="494"/>
                    </a:lnTo>
                    <a:lnTo>
                      <a:pt x="2473" y="501"/>
                    </a:lnTo>
                    <a:lnTo>
                      <a:pt x="2465" y="510"/>
                    </a:lnTo>
                    <a:lnTo>
                      <a:pt x="2456" y="520"/>
                    </a:lnTo>
                    <a:lnTo>
                      <a:pt x="2450" y="530"/>
                    </a:lnTo>
                    <a:lnTo>
                      <a:pt x="2444" y="540"/>
                    </a:lnTo>
                    <a:lnTo>
                      <a:pt x="2438" y="551"/>
                    </a:lnTo>
                    <a:lnTo>
                      <a:pt x="2433" y="563"/>
                    </a:lnTo>
                    <a:lnTo>
                      <a:pt x="2429" y="575"/>
                    </a:lnTo>
                    <a:close/>
                    <a:moveTo>
                      <a:pt x="686" y="633"/>
                    </a:moveTo>
                    <a:lnTo>
                      <a:pt x="671" y="645"/>
                    </a:lnTo>
                    <a:lnTo>
                      <a:pt x="657" y="655"/>
                    </a:lnTo>
                    <a:lnTo>
                      <a:pt x="642" y="665"/>
                    </a:lnTo>
                    <a:lnTo>
                      <a:pt x="625" y="672"/>
                    </a:lnTo>
                    <a:lnTo>
                      <a:pt x="608" y="679"/>
                    </a:lnTo>
                    <a:lnTo>
                      <a:pt x="589" y="685"/>
                    </a:lnTo>
                    <a:lnTo>
                      <a:pt x="571" y="690"/>
                    </a:lnTo>
                    <a:lnTo>
                      <a:pt x="551" y="693"/>
                    </a:lnTo>
                    <a:lnTo>
                      <a:pt x="510" y="699"/>
                    </a:lnTo>
                    <a:lnTo>
                      <a:pt x="469" y="704"/>
                    </a:lnTo>
                    <a:lnTo>
                      <a:pt x="425" y="708"/>
                    </a:lnTo>
                    <a:lnTo>
                      <a:pt x="381" y="712"/>
                    </a:lnTo>
                    <a:lnTo>
                      <a:pt x="334" y="730"/>
                    </a:lnTo>
                    <a:lnTo>
                      <a:pt x="296" y="746"/>
                    </a:lnTo>
                    <a:lnTo>
                      <a:pt x="264" y="760"/>
                    </a:lnTo>
                    <a:lnTo>
                      <a:pt x="240" y="772"/>
                    </a:lnTo>
                    <a:lnTo>
                      <a:pt x="220" y="782"/>
                    </a:lnTo>
                    <a:lnTo>
                      <a:pt x="205" y="792"/>
                    </a:lnTo>
                    <a:lnTo>
                      <a:pt x="200" y="797"/>
                    </a:lnTo>
                    <a:lnTo>
                      <a:pt x="195" y="802"/>
                    </a:lnTo>
                    <a:lnTo>
                      <a:pt x="192" y="806"/>
                    </a:lnTo>
                    <a:lnTo>
                      <a:pt x="189" y="811"/>
                    </a:lnTo>
                    <a:lnTo>
                      <a:pt x="184" y="822"/>
                    </a:lnTo>
                    <a:lnTo>
                      <a:pt x="182" y="835"/>
                    </a:lnTo>
                    <a:lnTo>
                      <a:pt x="181" y="848"/>
                    </a:lnTo>
                    <a:lnTo>
                      <a:pt x="179" y="866"/>
                    </a:lnTo>
                    <a:lnTo>
                      <a:pt x="178" y="885"/>
                    </a:lnTo>
                    <a:lnTo>
                      <a:pt x="176" y="909"/>
                    </a:lnTo>
                    <a:lnTo>
                      <a:pt x="171" y="936"/>
                    </a:lnTo>
                    <a:lnTo>
                      <a:pt x="164" y="968"/>
                    </a:lnTo>
                    <a:lnTo>
                      <a:pt x="149" y="981"/>
                    </a:lnTo>
                    <a:lnTo>
                      <a:pt x="136" y="991"/>
                    </a:lnTo>
                    <a:lnTo>
                      <a:pt x="130" y="995"/>
                    </a:lnTo>
                    <a:lnTo>
                      <a:pt x="125" y="997"/>
                    </a:lnTo>
                    <a:lnTo>
                      <a:pt x="119" y="998"/>
                    </a:lnTo>
                    <a:lnTo>
                      <a:pt x="114" y="1000"/>
                    </a:lnTo>
                    <a:lnTo>
                      <a:pt x="109" y="1000"/>
                    </a:lnTo>
                    <a:lnTo>
                      <a:pt x="106" y="1000"/>
                    </a:lnTo>
                    <a:lnTo>
                      <a:pt x="101" y="998"/>
                    </a:lnTo>
                    <a:lnTo>
                      <a:pt x="96" y="997"/>
                    </a:lnTo>
                    <a:lnTo>
                      <a:pt x="88" y="992"/>
                    </a:lnTo>
                    <a:lnTo>
                      <a:pt x="80" y="986"/>
                    </a:lnTo>
                    <a:lnTo>
                      <a:pt x="64" y="971"/>
                    </a:lnTo>
                    <a:lnTo>
                      <a:pt x="48" y="954"/>
                    </a:lnTo>
                    <a:lnTo>
                      <a:pt x="38" y="945"/>
                    </a:lnTo>
                    <a:lnTo>
                      <a:pt x="28" y="938"/>
                    </a:lnTo>
                    <a:lnTo>
                      <a:pt x="17" y="933"/>
                    </a:lnTo>
                    <a:lnTo>
                      <a:pt x="5" y="928"/>
                    </a:lnTo>
                    <a:lnTo>
                      <a:pt x="7" y="900"/>
                    </a:lnTo>
                    <a:lnTo>
                      <a:pt x="6" y="877"/>
                    </a:lnTo>
                    <a:lnTo>
                      <a:pt x="5" y="856"/>
                    </a:lnTo>
                    <a:lnTo>
                      <a:pt x="2" y="837"/>
                    </a:lnTo>
                    <a:lnTo>
                      <a:pt x="1" y="822"/>
                    </a:lnTo>
                    <a:lnTo>
                      <a:pt x="0" y="808"/>
                    </a:lnTo>
                    <a:lnTo>
                      <a:pt x="0" y="794"/>
                    </a:lnTo>
                    <a:lnTo>
                      <a:pt x="4" y="779"/>
                    </a:lnTo>
                    <a:lnTo>
                      <a:pt x="6" y="772"/>
                    </a:lnTo>
                    <a:lnTo>
                      <a:pt x="9" y="765"/>
                    </a:lnTo>
                    <a:lnTo>
                      <a:pt x="13" y="757"/>
                    </a:lnTo>
                    <a:lnTo>
                      <a:pt x="18" y="749"/>
                    </a:lnTo>
                    <a:lnTo>
                      <a:pt x="32" y="729"/>
                    </a:lnTo>
                    <a:lnTo>
                      <a:pt x="50" y="708"/>
                    </a:lnTo>
                    <a:lnTo>
                      <a:pt x="75" y="682"/>
                    </a:lnTo>
                    <a:lnTo>
                      <a:pt x="106" y="651"/>
                    </a:lnTo>
                    <a:lnTo>
                      <a:pt x="144" y="617"/>
                    </a:lnTo>
                    <a:lnTo>
                      <a:pt x="189" y="575"/>
                    </a:lnTo>
                    <a:lnTo>
                      <a:pt x="241" y="557"/>
                    </a:lnTo>
                    <a:lnTo>
                      <a:pt x="290" y="541"/>
                    </a:lnTo>
                    <a:lnTo>
                      <a:pt x="337" y="528"/>
                    </a:lnTo>
                    <a:lnTo>
                      <a:pt x="381" y="520"/>
                    </a:lnTo>
                    <a:lnTo>
                      <a:pt x="402" y="516"/>
                    </a:lnTo>
                    <a:lnTo>
                      <a:pt x="422" y="514"/>
                    </a:lnTo>
                    <a:lnTo>
                      <a:pt x="441" y="511"/>
                    </a:lnTo>
                    <a:lnTo>
                      <a:pt x="461" y="510"/>
                    </a:lnTo>
                    <a:lnTo>
                      <a:pt x="478" y="510"/>
                    </a:lnTo>
                    <a:lnTo>
                      <a:pt x="497" y="510"/>
                    </a:lnTo>
                    <a:lnTo>
                      <a:pt x="513" y="511"/>
                    </a:lnTo>
                    <a:lnTo>
                      <a:pt x="530" y="512"/>
                    </a:lnTo>
                    <a:lnTo>
                      <a:pt x="545" y="515"/>
                    </a:lnTo>
                    <a:lnTo>
                      <a:pt x="560" y="519"/>
                    </a:lnTo>
                    <a:lnTo>
                      <a:pt x="573" y="522"/>
                    </a:lnTo>
                    <a:lnTo>
                      <a:pt x="587" y="527"/>
                    </a:lnTo>
                    <a:lnTo>
                      <a:pt x="599" y="532"/>
                    </a:lnTo>
                    <a:lnTo>
                      <a:pt x="611" y="538"/>
                    </a:lnTo>
                    <a:lnTo>
                      <a:pt x="622" y="544"/>
                    </a:lnTo>
                    <a:lnTo>
                      <a:pt x="632" y="552"/>
                    </a:lnTo>
                    <a:lnTo>
                      <a:pt x="642" y="560"/>
                    </a:lnTo>
                    <a:lnTo>
                      <a:pt x="651" y="569"/>
                    </a:lnTo>
                    <a:lnTo>
                      <a:pt x="658" y="578"/>
                    </a:lnTo>
                    <a:lnTo>
                      <a:pt x="665" y="588"/>
                    </a:lnTo>
                    <a:lnTo>
                      <a:pt x="671" y="599"/>
                    </a:lnTo>
                    <a:lnTo>
                      <a:pt x="678" y="610"/>
                    </a:lnTo>
                    <a:lnTo>
                      <a:pt x="681" y="621"/>
                    </a:lnTo>
                    <a:lnTo>
                      <a:pt x="686" y="633"/>
                    </a:lnTo>
                    <a:close/>
                    <a:moveTo>
                      <a:pt x="5078" y="290"/>
                    </a:moveTo>
                    <a:lnTo>
                      <a:pt x="5082" y="302"/>
                    </a:lnTo>
                    <a:lnTo>
                      <a:pt x="5091" y="333"/>
                    </a:lnTo>
                    <a:lnTo>
                      <a:pt x="5095" y="354"/>
                    </a:lnTo>
                    <a:lnTo>
                      <a:pt x="5100" y="378"/>
                    </a:lnTo>
                    <a:lnTo>
                      <a:pt x="5104" y="403"/>
                    </a:lnTo>
                    <a:lnTo>
                      <a:pt x="5108" y="429"/>
                    </a:lnTo>
                    <a:lnTo>
                      <a:pt x="5110" y="455"/>
                    </a:lnTo>
                    <a:lnTo>
                      <a:pt x="5110" y="481"/>
                    </a:lnTo>
                    <a:lnTo>
                      <a:pt x="5110" y="492"/>
                    </a:lnTo>
                    <a:lnTo>
                      <a:pt x="5109" y="504"/>
                    </a:lnTo>
                    <a:lnTo>
                      <a:pt x="5107" y="515"/>
                    </a:lnTo>
                    <a:lnTo>
                      <a:pt x="5104" y="525"/>
                    </a:lnTo>
                    <a:lnTo>
                      <a:pt x="5102" y="535"/>
                    </a:lnTo>
                    <a:lnTo>
                      <a:pt x="5097" y="542"/>
                    </a:lnTo>
                    <a:lnTo>
                      <a:pt x="5092" y="551"/>
                    </a:lnTo>
                    <a:lnTo>
                      <a:pt x="5086" y="557"/>
                    </a:lnTo>
                    <a:lnTo>
                      <a:pt x="5079" y="562"/>
                    </a:lnTo>
                    <a:lnTo>
                      <a:pt x="5071" y="565"/>
                    </a:lnTo>
                    <a:lnTo>
                      <a:pt x="5062" y="568"/>
                    </a:lnTo>
                    <a:lnTo>
                      <a:pt x="5052" y="568"/>
                    </a:lnTo>
                    <a:lnTo>
                      <a:pt x="5078" y="290"/>
                    </a:lnTo>
                    <a:close/>
                    <a:moveTo>
                      <a:pt x="4836" y="243"/>
                    </a:moveTo>
                    <a:lnTo>
                      <a:pt x="4841" y="247"/>
                    </a:lnTo>
                    <a:lnTo>
                      <a:pt x="4851" y="254"/>
                    </a:lnTo>
                    <a:lnTo>
                      <a:pt x="4867" y="265"/>
                    </a:lnTo>
                    <a:lnTo>
                      <a:pt x="4886" y="274"/>
                    </a:lnTo>
                    <a:lnTo>
                      <a:pt x="4897" y="278"/>
                    </a:lnTo>
                    <a:lnTo>
                      <a:pt x="4909" y="281"/>
                    </a:lnTo>
                    <a:lnTo>
                      <a:pt x="4920" y="282"/>
                    </a:lnTo>
                    <a:lnTo>
                      <a:pt x="4932" y="281"/>
                    </a:lnTo>
                    <a:lnTo>
                      <a:pt x="4943" y="279"/>
                    </a:lnTo>
                    <a:lnTo>
                      <a:pt x="4954" y="274"/>
                    </a:lnTo>
                    <a:lnTo>
                      <a:pt x="4959" y="270"/>
                    </a:lnTo>
                    <a:lnTo>
                      <a:pt x="4964" y="265"/>
                    </a:lnTo>
                    <a:lnTo>
                      <a:pt x="4969" y="260"/>
                    </a:lnTo>
                    <a:lnTo>
                      <a:pt x="4974" y="255"/>
                    </a:lnTo>
                    <a:lnTo>
                      <a:pt x="4836" y="243"/>
                    </a:lnTo>
                    <a:close/>
                    <a:moveTo>
                      <a:pt x="5146" y="266"/>
                    </a:moveTo>
                    <a:lnTo>
                      <a:pt x="5151" y="269"/>
                    </a:lnTo>
                    <a:lnTo>
                      <a:pt x="5167" y="274"/>
                    </a:lnTo>
                    <a:lnTo>
                      <a:pt x="5189" y="281"/>
                    </a:lnTo>
                    <a:lnTo>
                      <a:pt x="5215" y="287"/>
                    </a:lnTo>
                    <a:lnTo>
                      <a:pt x="5228" y="290"/>
                    </a:lnTo>
                    <a:lnTo>
                      <a:pt x="5242" y="291"/>
                    </a:lnTo>
                    <a:lnTo>
                      <a:pt x="5254" y="291"/>
                    </a:lnTo>
                    <a:lnTo>
                      <a:pt x="5265" y="290"/>
                    </a:lnTo>
                    <a:lnTo>
                      <a:pt x="5276" y="287"/>
                    </a:lnTo>
                    <a:lnTo>
                      <a:pt x="5284" y="282"/>
                    </a:lnTo>
                    <a:lnTo>
                      <a:pt x="5287" y="279"/>
                    </a:lnTo>
                    <a:lnTo>
                      <a:pt x="5290" y="275"/>
                    </a:lnTo>
                    <a:lnTo>
                      <a:pt x="5292" y="271"/>
                    </a:lnTo>
                    <a:lnTo>
                      <a:pt x="5293" y="266"/>
                    </a:lnTo>
                    <a:lnTo>
                      <a:pt x="5146" y="266"/>
                    </a:lnTo>
                    <a:close/>
                    <a:moveTo>
                      <a:pt x="5008" y="682"/>
                    </a:moveTo>
                    <a:lnTo>
                      <a:pt x="5089" y="682"/>
                    </a:lnTo>
                    <a:lnTo>
                      <a:pt x="5008" y="682"/>
                    </a:lnTo>
                    <a:close/>
                    <a:moveTo>
                      <a:pt x="6076" y="337"/>
                    </a:moveTo>
                    <a:lnTo>
                      <a:pt x="6079" y="348"/>
                    </a:lnTo>
                    <a:lnTo>
                      <a:pt x="6088" y="380"/>
                    </a:lnTo>
                    <a:lnTo>
                      <a:pt x="6093" y="401"/>
                    </a:lnTo>
                    <a:lnTo>
                      <a:pt x="6098" y="424"/>
                    </a:lnTo>
                    <a:lnTo>
                      <a:pt x="6103" y="449"/>
                    </a:lnTo>
                    <a:lnTo>
                      <a:pt x="6106" y="474"/>
                    </a:lnTo>
                    <a:lnTo>
                      <a:pt x="6109" y="500"/>
                    </a:lnTo>
                    <a:lnTo>
                      <a:pt x="6109" y="525"/>
                    </a:lnTo>
                    <a:lnTo>
                      <a:pt x="6109" y="537"/>
                    </a:lnTo>
                    <a:lnTo>
                      <a:pt x="6108" y="548"/>
                    </a:lnTo>
                    <a:lnTo>
                      <a:pt x="6106" y="559"/>
                    </a:lnTo>
                    <a:lnTo>
                      <a:pt x="6104" y="569"/>
                    </a:lnTo>
                    <a:lnTo>
                      <a:pt x="6100" y="579"/>
                    </a:lnTo>
                    <a:lnTo>
                      <a:pt x="6097" y="588"/>
                    </a:lnTo>
                    <a:lnTo>
                      <a:pt x="6092" y="594"/>
                    </a:lnTo>
                    <a:lnTo>
                      <a:pt x="6086" y="601"/>
                    </a:lnTo>
                    <a:lnTo>
                      <a:pt x="6079" y="606"/>
                    </a:lnTo>
                    <a:lnTo>
                      <a:pt x="6072" y="610"/>
                    </a:lnTo>
                    <a:lnTo>
                      <a:pt x="6063" y="612"/>
                    </a:lnTo>
                    <a:lnTo>
                      <a:pt x="6054" y="612"/>
                    </a:lnTo>
                    <a:lnTo>
                      <a:pt x="6076" y="337"/>
                    </a:lnTo>
                    <a:close/>
                    <a:moveTo>
                      <a:pt x="5835" y="287"/>
                    </a:moveTo>
                    <a:lnTo>
                      <a:pt x="5838" y="291"/>
                    </a:lnTo>
                    <a:lnTo>
                      <a:pt x="5849" y="298"/>
                    </a:lnTo>
                    <a:lnTo>
                      <a:pt x="5865" y="308"/>
                    </a:lnTo>
                    <a:lnTo>
                      <a:pt x="5885" y="318"/>
                    </a:lnTo>
                    <a:lnTo>
                      <a:pt x="5896" y="322"/>
                    </a:lnTo>
                    <a:lnTo>
                      <a:pt x="5907" y="324"/>
                    </a:lnTo>
                    <a:lnTo>
                      <a:pt x="5918" y="326"/>
                    </a:lnTo>
                    <a:lnTo>
                      <a:pt x="5929" y="326"/>
                    </a:lnTo>
                    <a:lnTo>
                      <a:pt x="5940" y="323"/>
                    </a:lnTo>
                    <a:lnTo>
                      <a:pt x="5951" y="318"/>
                    </a:lnTo>
                    <a:lnTo>
                      <a:pt x="5958" y="314"/>
                    </a:lnTo>
                    <a:lnTo>
                      <a:pt x="5963" y="310"/>
                    </a:lnTo>
                    <a:lnTo>
                      <a:pt x="5967" y="305"/>
                    </a:lnTo>
                    <a:lnTo>
                      <a:pt x="5972" y="298"/>
                    </a:lnTo>
                    <a:lnTo>
                      <a:pt x="5835" y="287"/>
                    </a:lnTo>
                    <a:close/>
                    <a:moveTo>
                      <a:pt x="6143" y="311"/>
                    </a:moveTo>
                    <a:lnTo>
                      <a:pt x="6150" y="313"/>
                    </a:lnTo>
                    <a:lnTo>
                      <a:pt x="6165" y="318"/>
                    </a:lnTo>
                    <a:lnTo>
                      <a:pt x="6188" y="326"/>
                    </a:lnTo>
                    <a:lnTo>
                      <a:pt x="6213" y="332"/>
                    </a:lnTo>
                    <a:lnTo>
                      <a:pt x="6227" y="334"/>
                    </a:lnTo>
                    <a:lnTo>
                      <a:pt x="6241" y="335"/>
                    </a:lnTo>
                    <a:lnTo>
                      <a:pt x="6253" y="335"/>
                    </a:lnTo>
                    <a:lnTo>
                      <a:pt x="6265" y="334"/>
                    </a:lnTo>
                    <a:lnTo>
                      <a:pt x="6275" y="332"/>
                    </a:lnTo>
                    <a:lnTo>
                      <a:pt x="6284" y="327"/>
                    </a:lnTo>
                    <a:lnTo>
                      <a:pt x="6287" y="323"/>
                    </a:lnTo>
                    <a:lnTo>
                      <a:pt x="6291" y="319"/>
                    </a:lnTo>
                    <a:lnTo>
                      <a:pt x="6293" y="316"/>
                    </a:lnTo>
                    <a:lnTo>
                      <a:pt x="6295" y="311"/>
                    </a:lnTo>
                    <a:lnTo>
                      <a:pt x="6143" y="311"/>
                    </a:lnTo>
                    <a:close/>
                    <a:moveTo>
                      <a:pt x="6007" y="727"/>
                    </a:moveTo>
                    <a:lnTo>
                      <a:pt x="6088" y="727"/>
                    </a:lnTo>
                    <a:lnTo>
                      <a:pt x="6007" y="727"/>
                    </a:lnTo>
                    <a:close/>
                    <a:moveTo>
                      <a:pt x="8003" y="11"/>
                    </a:moveTo>
                    <a:lnTo>
                      <a:pt x="8007" y="14"/>
                    </a:lnTo>
                    <a:lnTo>
                      <a:pt x="8017" y="23"/>
                    </a:lnTo>
                    <a:lnTo>
                      <a:pt x="8033" y="35"/>
                    </a:lnTo>
                    <a:lnTo>
                      <a:pt x="8052" y="46"/>
                    </a:lnTo>
                    <a:lnTo>
                      <a:pt x="8062" y="50"/>
                    </a:lnTo>
                    <a:lnTo>
                      <a:pt x="8073" y="54"/>
                    </a:lnTo>
                    <a:lnTo>
                      <a:pt x="8084" y="56"/>
                    </a:lnTo>
                    <a:lnTo>
                      <a:pt x="8096" y="56"/>
                    </a:lnTo>
                    <a:lnTo>
                      <a:pt x="8101" y="55"/>
                    </a:lnTo>
                    <a:lnTo>
                      <a:pt x="8108" y="54"/>
                    </a:lnTo>
                    <a:lnTo>
                      <a:pt x="8114" y="52"/>
                    </a:lnTo>
                    <a:lnTo>
                      <a:pt x="8119" y="50"/>
                    </a:lnTo>
                    <a:lnTo>
                      <a:pt x="8125" y="46"/>
                    </a:lnTo>
                    <a:lnTo>
                      <a:pt x="8130" y="43"/>
                    </a:lnTo>
                    <a:lnTo>
                      <a:pt x="8135" y="38"/>
                    </a:lnTo>
                    <a:lnTo>
                      <a:pt x="8140" y="32"/>
                    </a:lnTo>
                    <a:lnTo>
                      <a:pt x="8003" y="11"/>
                    </a:lnTo>
                    <a:close/>
                    <a:moveTo>
                      <a:pt x="8272" y="41"/>
                    </a:moveTo>
                    <a:lnTo>
                      <a:pt x="8277" y="43"/>
                    </a:lnTo>
                    <a:lnTo>
                      <a:pt x="8290" y="46"/>
                    </a:lnTo>
                    <a:lnTo>
                      <a:pt x="8309" y="50"/>
                    </a:lnTo>
                    <a:lnTo>
                      <a:pt x="8330" y="51"/>
                    </a:lnTo>
                    <a:lnTo>
                      <a:pt x="8342" y="50"/>
                    </a:lnTo>
                    <a:lnTo>
                      <a:pt x="8354" y="49"/>
                    </a:lnTo>
                    <a:lnTo>
                      <a:pt x="8365" y="45"/>
                    </a:lnTo>
                    <a:lnTo>
                      <a:pt x="8374" y="40"/>
                    </a:lnTo>
                    <a:lnTo>
                      <a:pt x="8383" y="34"/>
                    </a:lnTo>
                    <a:lnTo>
                      <a:pt x="8392" y="24"/>
                    </a:lnTo>
                    <a:lnTo>
                      <a:pt x="8395" y="19"/>
                    </a:lnTo>
                    <a:lnTo>
                      <a:pt x="8398" y="13"/>
                    </a:lnTo>
                    <a:lnTo>
                      <a:pt x="8400" y="7"/>
                    </a:lnTo>
                    <a:lnTo>
                      <a:pt x="8403" y="0"/>
                    </a:lnTo>
                    <a:lnTo>
                      <a:pt x="8272" y="41"/>
                    </a:lnTo>
                    <a:close/>
                    <a:moveTo>
                      <a:pt x="8202" y="113"/>
                    </a:moveTo>
                    <a:lnTo>
                      <a:pt x="8142" y="322"/>
                    </a:lnTo>
                    <a:lnTo>
                      <a:pt x="8202" y="113"/>
                    </a:lnTo>
                    <a:close/>
                    <a:moveTo>
                      <a:pt x="11045" y="332"/>
                    </a:moveTo>
                    <a:lnTo>
                      <a:pt x="11220" y="287"/>
                    </a:lnTo>
                    <a:lnTo>
                      <a:pt x="11045" y="332"/>
                    </a:lnTo>
                    <a:close/>
                    <a:moveTo>
                      <a:pt x="11265" y="664"/>
                    </a:moveTo>
                    <a:lnTo>
                      <a:pt x="11271" y="661"/>
                    </a:lnTo>
                    <a:lnTo>
                      <a:pt x="11284" y="654"/>
                    </a:lnTo>
                    <a:lnTo>
                      <a:pt x="11304" y="643"/>
                    </a:lnTo>
                    <a:lnTo>
                      <a:pt x="11327" y="627"/>
                    </a:lnTo>
                    <a:lnTo>
                      <a:pt x="11340" y="618"/>
                    </a:lnTo>
                    <a:lnTo>
                      <a:pt x="11351" y="607"/>
                    </a:lnTo>
                    <a:lnTo>
                      <a:pt x="11361" y="596"/>
                    </a:lnTo>
                    <a:lnTo>
                      <a:pt x="11371" y="583"/>
                    </a:lnTo>
                    <a:lnTo>
                      <a:pt x="11379" y="569"/>
                    </a:lnTo>
                    <a:lnTo>
                      <a:pt x="11385" y="554"/>
                    </a:lnTo>
                    <a:lnTo>
                      <a:pt x="11388" y="547"/>
                    </a:lnTo>
                    <a:lnTo>
                      <a:pt x="11389" y="538"/>
                    </a:lnTo>
                    <a:lnTo>
                      <a:pt x="11390" y="531"/>
                    </a:lnTo>
                    <a:lnTo>
                      <a:pt x="11390" y="522"/>
                    </a:lnTo>
                    <a:lnTo>
                      <a:pt x="11265" y="664"/>
                    </a:lnTo>
                    <a:close/>
                    <a:moveTo>
                      <a:pt x="12533" y="332"/>
                    </a:moveTo>
                    <a:lnTo>
                      <a:pt x="12709" y="287"/>
                    </a:lnTo>
                    <a:lnTo>
                      <a:pt x="12533" y="332"/>
                    </a:lnTo>
                    <a:close/>
                    <a:moveTo>
                      <a:pt x="12560" y="664"/>
                    </a:moveTo>
                    <a:lnTo>
                      <a:pt x="12566" y="661"/>
                    </a:lnTo>
                    <a:lnTo>
                      <a:pt x="12580" y="654"/>
                    </a:lnTo>
                    <a:lnTo>
                      <a:pt x="12600" y="643"/>
                    </a:lnTo>
                    <a:lnTo>
                      <a:pt x="12623" y="627"/>
                    </a:lnTo>
                    <a:lnTo>
                      <a:pt x="12635" y="618"/>
                    </a:lnTo>
                    <a:lnTo>
                      <a:pt x="12646" y="607"/>
                    </a:lnTo>
                    <a:lnTo>
                      <a:pt x="12657" y="596"/>
                    </a:lnTo>
                    <a:lnTo>
                      <a:pt x="12666" y="583"/>
                    </a:lnTo>
                    <a:lnTo>
                      <a:pt x="12674" y="569"/>
                    </a:lnTo>
                    <a:lnTo>
                      <a:pt x="12680" y="554"/>
                    </a:lnTo>
                    <a:lnTo>
                      <a:pt x="12683" y="547"/>
                    </a:lnTo>
                    <a:lnTo>
                      <a:pt x="12684" y="538"/>
                    </a:lnTo>
                    <a:lnTo>
                      <a:pt x="12685" y="531"/>
                    </a:lnTo>
                    <a:lnTo>
                      <a:pt x="12685" y="522"/>
                    </a:lnTo>
                    <a:lnTo>
                      <a:pt x="12560" y="664"/>
                    </a:lnTo>
                    <a:close/>
                    <a:moveTo>
                      <a:pt x="9111" y="1601"/>
                    </a:moveTo>
                    <a:lnTo>
                      <a:pt x="9115" y="1605"/>
                    </a:lnTo>
                    <a:lnTo>
                      <a:pt x="9125" y="1613"/>
                    </a:lnTo>
                    <a:lnTo>
                      <a:pt x="9139" y="1626"/>
                    </a:lnTo>
                    <a:lnTo>
                      <a:pt x="9159" y="1637"/>
                    </a:lnTo>
                    <a:lnTo>
                      <a:pt x="9170" y="1640"/>
                    </a:lnTo>
                    <a:lnTo>
                      <a:pt x="9181" y="1644"/>
                    </a:lnTo>
                    <a:lnTo>
                      <a:pt x="9192" y="1647"/>
                    </a:lnTo>
                    <a:lnTo>
                      <a:pt x="9203" y="1647"/>
                    </a:lnTo>
                    <a:lnTo>
                      <a:pt x="9210" y="1645"/>
                    </a:lnTo>
                    <a:lnTo>
                      <a:pt x="9214" y="1644"/>
                    </a:lnTo>
                    <a:lnTo>
                      <a:pt x="9221" y="1643"/>
                    </a:lnTo>
                    <a:lnTo>
                      <a:pt x="9227" y="1640"/>
                    </a:lnTo>
                    <a:lnTo>
                      <a:pt x="9232" y="1637"/>
                    </a:lnTo>
                    <a:lnTo>
                      <a:pt x="9237" y="1633"/>
                    </a:lnTo>
                    <a:lnTo>
                      <a:pt x="9243" y="1628"/>
                    </a:lnTo>
                    <a:lnTo>
                      <a:pt x="9248" y="1622"/>
                    </a:lnTo>
                    <a:lnTo>
                      <a:pt x="9111" y="1601"/>
                    </a:lnTo>
                    <a:close/>
                    <a:moveTo>
                      <a:pt x="8860" y="1619"/>
                    </a:moveTo>
                    <a:lnTo>
                      <a:pt x="8864" y="1623"/>
                    </a:lnTo>
                    <a:lnTo>
                      <a:pt x="8874" y="1633"/>
                    </a:lnTo>
                    <a:lnTo>
                      <a:pt x="8889" y="1644"/>
                    </a:lnTo>
                    <a:lnTo>
                      <a:pt x="8908" y="1655"/>
                    </a:lnTo>
                    <a:lnTo>
                      <a:pt x="8919" y="1659"/>
                    </a:lnTo>
                    <a:lnTo>
                      <a:pt x="8930" y="1663"/>
                    </a:lnTo>
                    <a:lnTo>
                      <a:pt x="8941" y="1665"/>
                    </a:lnTo>
                    <a:lnTo>
                      <a:pt x="8952" y="1665"/>
                    </a:lnTo>
                    <a:lnTo>
                      <a:pt x="8959" y="1665"/>
                    </a:lnTo>
                    <a:lnTo>
                      <a:pt x="8965" y="1663"/>
                    </a:lnTo>
                    <a:lnTo>
                      <a:pt x="8970" y="1661"/>
                    </a:lnTo>
                    <a:lnTo>
                      <a:pt x="8976" y="1659"/>
                    </a:lnTo>
                    <a:lnTo>
                      <a:pt x="8981" y="1655"/>
                    </a:lnTo>
                    <a:lnTo>
                      <a:pt x="8987" y="1651"/>
                    </a:lnTo>
                    <a:lnTo>
                      <a:pt x="8992" y="1647"/>
                    </a:lnTo>
                    <a:lnTo>
                      <a:pt x="8997" y="1640"/>
                    </a:lnTo>
                    <a:lnTo>
                      <a:pt x="8860" y="1619"/>
                    </a:lnTo>
                    <a:close/>
                    <a:moveTo>
                      <a:pt x="9055" y="1645"/>
                    </a:moveTo>
                    <a:lnTo>
                      <a:pt x="9055" y="1847"/>
                    </a:lnTo>
                    <a:lnTo>
                      <a:pt x="9055" y="16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1200" y="322200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7"/>
                    </a:moveTo>
                    <a:lnTo>
                      <a:pt x="37" y="4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4"/>
                    </a:lnTo>
                    <a:lnTo>
                      <a:pt x="10" y="6"/>
                    </a:lnTo>
                    <a:lnTo>
                      <a:pt x="8" y="9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9" y="43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5160" y="32259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2">
                    <a:moveTo>
                      <a:pt x="134" y="15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8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2" y="31"/>
                    </a:lnTo>
                    <a:lnTo>
                      <a:pt x="85" y="30"/>
                    </a:lnTo>
                    <a:lnTo>
                      <a:pt x="76" y="28"/>
                    </a:lnTo>
                    <a:lnTo>
                      <a:pt x="59" y="19"/>
                    </a:lnTo>
                    <a:lnTo>
                      <a:pt x="44" y="9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6"/>
                    </a:lnTo>
                    <a:lnTo>
                      <a:pt x="5" y="41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2"/>
                    </a:lnTo>
                    <a:lnTo>
                      <a:pt x="70" y="77"/>
                    </a:lnTo>
                    <a:lnTo>
                      <a:pt x="85" y="79"/>
                    </a:lnTo>
                    <a:lnTo>
                      <a:pt x="99" y="82"/>
                    </a:lnTo>
                    <a:lnTo>
                      <a:pt x="114" y="80"/>
                    </a:lnTo>
                    <a:lnTo>
                      <a:pt x="130" y="77"/>
                    </a:lnTo>
                    <a:lnTo>
                      <a:pt x="145" y="71"/>
                    </a:lnTo>
                    <a:lnTo>
                      <a:pt x="153" y="64"/>
                    </a:lnTo>
                    <a:lnTo>
                      <a:pt x="161" y="58"/>
                    </a:lnTo>
                    <a:lnTo>
                      <a:pt x="167" y="52"/>
                    </a:lnTo>
                    <a:lnTo>
                      <a:pt x="173" y="43"/>
                    </a:lnTo>
                    <a:lnTo>
                      <a:pt x="13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86280" y="3228120"/>
                <a:ext cx="15120" cy="1260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4"/>
                    </a:lnTo>
                    <a:lnTo>
                      <a:pt x="44" y="29"/>
                    </a:lnTo>
                    <a:lnTo>
                      <a:pt x="44" y="25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164040" y="325656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166200" y="3258360"/>
                <a:ext cx="658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1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17" y="50"/>
                    </a:lnTo>
                    <a:lnTo>
                      <a:pt x="35" y="61"/>
                    </a:lnTo>
                    <a:lnTo>
                      <a:pt x="56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5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216960" y="3260520"/>
                <a:ext cx="16560" cy="147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0" y="11"/>
                    </a:lnTo>
                    <a:lnTo>
                      <a:pt x="37" y="7"/>
                    </a:lnTo>
                    <a:lnTo>
                      <a:pt x="34" y="5"/>
                    </a:lnTo>
                    <a:lnTo>
                      <a:pt x="29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2252160" y="3296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9">
                    <a:moveTo>
                      <a:pt x="29" y="1"/>
                    </a:moveTo>
                    <a:lnTo>
                      <a:pt x="24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6" y="47"/>
                    </a:lnTo>
                    <a:lnTo>
                      <a:pt x="21" y="49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2259360" y="3281040"/>
                <a:ext cx="56880" cy="3384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9" y="13"/>
                    </a:lnTo>
                    <a:lnTo>
                      <a:pt x="97" y="17"/>
                    </a:lnTo>
                    <a:lnTo>
                      <a:pt x="95" y="19"/>
                    </a:lnTo>
                    <a:lnTo>
                      <a:pt x="94" y="22"/>
                    </a:lnTo>
                    <a:lnTo>
                      <a:pt x="91" y="24"/>
                    </a:lnTo>
                    <a:lnTo>
                      <a:pt x="90" y="27"/>
                    </a:lnTo>
                    <a:lnTo>
                      <a:pt x="83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59" y="40"/>
                    </a:lnTo>
                    <a:lnTo>
                      <a:pt x="40" y="43"/>
                    </a:lnTo>
                    <a:lnTo>
                      <a:pt x="24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0" y="89"/>
                    </a:lnTo>
                    <a:lnTo>
                      <a:pt x="8" y="89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4"/>
                    </a:lnTo>
                    <a:lnTo>
                      <a:pt x="95" y="80"/>
                    </a:lnTo>
                    <a:lnTo>
                      <a:pt x="108" y="72"/>
                    </a:lnTo>
                    <a:lnTo>
                      <a:pt x="121" y="65"/>
                    </a:lnTo>
                    <a:lnTo>
                      <a:pt x="127" y="57"/>
                    </a:lnTo>
                    <a:lnTo>
                      <a:pt x="132" y="51"/>
                    </a:lnTo>
                    <a:lnTo>
                      <a:pt x="137" y="44"/>
                    </a:lnTo>
                    <a:lnTo>
                      <a:pt x="142" y="36"/>
                    </a:lnTo>
                    <a:lnTo>
                      <a:pt x="144" y="28"/>
                    </a:lnTo>
                    <a:lnTo>
                      <a:pt x="147" y="19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2299320" y="327168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48" h="26">
                    <a:moveTo>
                      <a:pt x="48" y="26"/>
                    </a:moveTo>
                    <a:lnTo>
                      <a:pt x="48" y="20"/>
                    </a:lnTo>
                    <a:lnTo>
                      <a:pt x="47" y="15"/>
                    </a:lnTo>
                    <a:lnTo>
                      <a:pt x="44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3124440" y="3252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0" y="36"/>
                    </a:lnTo>
                    <a:lnTo>
                      <a:pt x="41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1" y="17"/>
                    </a:lnTo>
                    <a:lnTo>
                      <a:pt x="39" y="14"/>
                    </a:lnTo>
                    <a:lnTo>
                      <a:pt x="37" y="10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7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3075120" y="325656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164" h="341">
                    <a:moveTo>
                      <a:pt x="84" y="294"/>
                    </a:moveTo>
                    <a:lnTo>
                      <a:pt x="74" y="290"/>
                    </a:lnTo>
                    <a:lnTo>
                      <a:pt x="65" y="287"/>
                    </a:lnTo>
                    <a:lnTo>
                      <a:pt x="60" y="283"/>
                    </a:lnTo>
                    <a:lnTo>
                      <a:pt x="57" y="279"/>
                    </a:lnTo>
                    <a:lnTo>
                      <a:pt x="53" y="274"/>
                    </a:lnTo>
                    <a:lnTo>
                      <a:pt x="50" y="269"/>
                    </a:lnTo>
                    <a:lnTo>
                      <a:pt x="49" y="262"/>
                    </a:lnTo>
                    <a:lnTo>
                      <a:pt x="49" y="255"/>
                    </a:lnTo>
                    <a:lnTo>
                      <a:pt x="49" y="246"/>
                    </a:lnTo>
                    <a:lnTo>
                      <a:pt x="50" y="236"/>
                    </a:lnTo>
                    <a:lnTo>
                      <a:pt x="53" y="225"/>
                    </a:lnTo>
                    <a:lnTo>
                      <a:pt x="55" y="214"/>
                    </a:lnTo>
                    <a:lnTo>
                      <a:pt x="65" y="190"/>
                    </a:lnTo>
                    <a:lnTo>
                      <a:pt x="76" y="164"/>
                    </a:lnTo>
                    <a:lnTo>
                      <a:pt x="90" y="139"/>
                    </a:lnTo>
                    <a:lnTo>
                      <a:pt x="105" y="114"/>
                    </a:lnTo>
                    <a:lnTo>
                      <a:pt x="119" y="92"/>
                    </a:lnTo>
                    <a:lnTo>
                      <a:pt x="133" y="71"/>
                    </a:lnTo>
                    <a:lnTo>
                      <a:pt x="155" y="42"/>
                    </a:lnTo>
                    <a:lnTo>
                      <a:pt x="164" y="31"/>
                    </a:lnTo>
                    <a:lnTo>
                      <a:pt x="127" y="0"/>
                    </a:lnTo>
                    <a:lnTo>
                      <a:pt x="117" y="12"/>
                    </a:lnTo>
                    <a:lnTo>
                      <a:pt x="93" y="43"/>
                    </a:lnTo>
                    <a:lnTo>
                      <a:pt x="79" y="65"/>
                    </a:lnTo>
                    <a:lnTo>
                      <a:pt x="63" y="89"/>
                    </a:lnTo>
                    <a:lnTo>
                      <a:pt x="48" y="114"/>
                    </a:lnTo>
                    <a:lnTo>
                      <a:pt x="33" y="143"/>
                    </a:lnTo>
                    <a:lnTo>
                      <a:pt x="20" y="171"/>
                    </a:lnTo>
                    <a:lnTo>
                      <a:pt x="10" y="198"/>
                    </a:lnTo>
                    <a:lnTo>
                      <a:pt x="5" y="213"/>
                    </a:lnTo>
                    <a:lnTo>
                      <a:pt x="2" y="228"/>
                    </a:lnTo>
                    <a:lnTo>
                      <a:pt x="1" y="242"/>
                    </a:lnTo>
                    <a:lnTo>
                      <a:pt x="0" y="256"/>
                    </a:lnTo>
                    <a:lnTo>
                      <a:pt x="1" y="269"/>
                    </a:lnTo>
                    <a:lnTo>
                      <a:pt x="5" y="284"/>
                    </a:lnTo>
                    <a:lnTo>
                      <a:pt x="10" y="298"/>
                    </a:lnTo>
                    <a:lnTo>
                      <a:pt x="18" y="310"/>
                    </a:lnTo>
                    <a:lnTo>
                      <a:pt x="28" y="320"/>
                    </a:lnTo>
                    <a:lnTo>
                      <a:pt x="42" y="330"/>
                    </a:lnTo>
                    <a:lnTo>
                      <a:pt x="57" y="336"/>
                    </a:lnTo>
                    <a:lnTo>
                      <a:pt x="73" y="341"/>
                    </a:lnTo>
                    <a:lnTo>
                      <a:pt x="84" y="2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3103560" y="3368160"/>
                <a:ext cx="1152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47"/>
                    </a:moveTo>
                    <a:lnTo>
                      <a:pt x="4" y="48"/>
                    </a:lnTo>
                    <a:lnTo>
                      <a:pt x="11" y="47"/>
                    </a:lnTo>
                    <a:lnTo>
                      <a:pt x="14" y="46"/>
                    </a:lnTo>
                    <a:lnTo>
                      <a:pt x="19" y="43"/>
                    </a:lnTo>
                    <a:lnTo>
                      <a:pt x="22" y="41"/>
                    </a:lnTo>
                    <a:lnTo>
                      <a:pt x="25" y="37"/>
                    </a:lnTo>
                    <a:lnTo>
                      <a:pt x="27" y="33"/>
                    </a:lnTo>
                    <a:lnTo>
                      <a:pt x="28" y="28"/>
                    </a:lnTo>
                    <a:lnTo>
                      <a:pt x="29" y="25"/>
                    </a:lnTo>
                    <a:lnTo>
                      <a:pt x="29" y="20"/>
                    </a:lnTo>
                    <a:lnTo>
                      <a:pt x="28" y="15"/>
                    </a:lnTo>
                    <a:lnTo>
                      <a:pt x="27" y="11"/>
                    </a:lnTo>
                    <a:lnTo>
                      <a:pt x="24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331360" y="3250800"/>
                <a:ext cx="14760" cy="147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40" y="6"/>
                    </a:moveTo>
                    <a:lnTo>
                      <a:pt x="36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8" y="1"/>
                    </a:lnTo>
                    <a:lnTo>
                      <a:pt x="13" y="3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5" y="39"/>
                    </a:lnTo>
                    <a:lnTo>
                      <a:pt x="10" y="43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2335320" y="3252600"/>
                <a:ext cx="75240" cy="143640"/>
              </a:xfrm>
              <a:custGeom>
                <a:avLst/>
                <a:gdLst/>
                <a:ahLst/>
                <a:rect l="l" t="t" r="r" b="b"/>
                <a:pathLst>
                  <a:path w="198" h="379">
                    <a:moveTo>
                      <a:pt x="137" y="379"/>
                    </a:moveTo>
                    <a:lnTo>
                      <a:pt x="153" y="365"/>
                    </a:lnTo>
                    <a:lnTo>
                      <a:pt x="166" y="350"/>
                    </a:lnTo>
                    <a:lnTo>
                      <a:pt x="177" y="336"/>
                    </a:lnTo>
                    <a:lnTo>
                      <a:pt x="186" y="320"/>
                    </a:lnTo>
                    <a:lnTo>
                      <a:pt x="192" y="304"/>
                    </a:lnTo>
                    <a:lnTo>
                      <a:pt x="196" y="286"/>
                    </a:lnTo>
                    <a:lnTo>
                      <a:pt x="198" y="269"/>
                    </a:lnTo>
                    <a:lnTo>
                      <a:pt x="198" y="253"/>
                    </a:lnTo>
                    <a:lnTo>
                      <a:pt x="196" y="236"/>
                    </a:lnTo>
                    <a:lnTo>
                      <a:pt x="192" y="220"/>
                    </a:lnTo>
                    <a:lnTo>
                      <a:pt x="188" y="204"/>
                    </a:lnTo>
                    <a:lnTo>
                      <a:pt x="182" y="188"/>
                    </a:lnTo>
                    <a:lnTo>
                      <a:pt x="175" y="173"/>
                    </a:lnTo>
                    <a:lnTo>
                      <a:pt x="167" y="157"/>
                    </a:lnTo>
                    <a:lnTo>
                      <a:pt x="159" y="144"/>
                    </a:lnTo>
                    <a:lnTo>
                      <a:pt x="149" y="129"/>
                    </a:lnTo>
                    <a:lnTo>
                      <a:pt x="131" y="102"/>
                    </a:lnTo>
                    <a:lnTo>
                      <a:pt x="110" y="77"/>
                    </a:lnTo>
                    <a:lnTo>
                      <a:pt x="90" y="56"/>
                    </a:lnTo>
                    <a:lnTo>
                      <a:pt x="72" y="37"/>
                    </a:lnTo>
                    <a:lnTo>
                      <a:pt x="42" y="10"/>
                    </a:lnTo>
                    <a:lnTo>
                      <a:pt x="30" y="0"/>
                    </a:lnTo>
                    <a:lnTo>
                      <a:pt x="0" y="37"/>
                    </a:lnTo>
                    <a:lnTo>
                      <a:pt x="10" y="45"/>
                    </a:lnTo>
                    <a:lnTo>
                      <a:pt x="37" y="71"/>
                    </a:lnTo>
                    <a:lnTo>
                      <a:pt x="54" y="90"/>
                    </a:lnTo>
                    <a:lnTo>
                      <a:pt x="73" y="109"/>
                    </a:lnTo>
                    <a:lnTo>
                      <a:pt x="91" y="133"/>
                    </a:lnTo>
                    <a:lnTo>
                      <a:pt x="110" y="156"/>
                    </a:lnTo>
                    <a:lnTo>
                      <a:pt x="117" y="168"/>
                    </a:lnTo>
                    <a:lnTo>
                      <a:pt x="124" y="182"/>
                    </a:lnTo>
                    <a:lnTo>
                      <a:pt x="131" y="194"/>
                    </a:lnTo>
                    <a:lnTo>
                      <a:pt x="137" y="206"/>
                    </a:lnTo>
                    <a:lnTo>
                      <a:pt x="142" y="219"/>
                    </a:lnTo>
                    <a:lnTo>
                      <a:pt x="145" y="232"/>
                    </a:lnTo>
                    <a:lnTo>
                      <a:pt x="148" y="243"/>
                    </a:lnTo>
                    <a:lnTo>
                      <a:pt x="149" y="256"/>
                    </a:lnTo>
                    <a:lnTo>
                      <a:pt x="149" y="267"/>
                    </a:lnTo>
                    <a:lnTo>
                      <a:pt x="148" y="278"/>
                    </a:lnTo>
                    <a:lnTo>
                      <a:pt x="145" y="289"/>
                    </a:lnTo>
                    <a:lnTo>
                      <a:pt x="142" y="299"/>
                    </a:lnTo>
                    <a:lnTo>
                      <a:pt x="137" y="310"/>
                    </a:lnTo>
                    <a:lnTo>
                      <a:pt x="128" y="320"/>
                    </a:lnTo>
                    <a:lnTo>
                      <a:pt x="119" y="329"/>
                    </a:lnTo>
                    <a:lnTo>
                      <a:pt x="107" y="340"/>
                    </a:lnTo>
                    <a:lnTo>
                      <a:pt x="137" y="3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2370960" y="3381480"/>
                <a:ext cx="15120" cy="16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0" y="0"/>
                    </a:moveTo>
                    <a:lnTo>
                      <a:pt x="5" y="4"/>
                    </a:lnTo>
                    <a:lnTo>
                      <a:pt x="3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9" y="37"/>
                    </a:lnTo>
                    <a:lnTo>
                      <a:pt x="11" y="40"/>
                    </a:lnTo>
                    <a:lnTo>
                      <a:pt x="16" y="42"/>
                    </a:lnTo>
                    <a:lnTo>
                      <a:pt x="20" y="44"/>
                    </a:lnTo>
                    <a:lnTo>
                      <a:pt x="25" y="45"/>
                    </a:lnTo>
                    <a:lnTo>
                      <a:pt x="30" y="44"/>
                    </a:lnTo>
                    <a:lnTo>
                      <a:pt x="35" y="42"/>
                    </a:lnTo>
                    <a:lnTo>
                      <a:pt x="40" y="3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2367360" y="325440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0"/>
                    </a:moveTo>
                    <a:lnTo>
                      <a:pt x="22" y="0"/>
                    </a:lnTo>
                    <a:lnTo>
                      <a:pt x="17" y="0"/>
                    </a:lnTo>
                    <a:lnTo>
                      <a:pt x="13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4" y="39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5" y="47"/>
                    </a:lnTo>
                    <a:lnTo>
                      <a:pt x="20" y="48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2374920" y="3237480"/>
                <a:ext cx="56880" cy="35280"/>
              </a:xfrm>
              <a:custGeom>
                <a:avLst/>
                <a:gdLst/>
                <a:ahLst/>
                <a:rect l="l" t="t" r="r" b="b"/>
                <a:pathLst>
                  <a:path w="149" h="91">
                    <a:moveTo>
                      <a:pt x="101" y="0"/>
                    </a:moveTo>
                    <a:lnTo>
                      <a:pt x="100" y="5"/>
                    </a:lnTo>
                    <a:lnTo>
                      <a:pt x="100" y="9"/>
                    </a:lnTo>
                    <a:lnTo>
                      <a:pt x="98" y="13"/>
                    </a:lnTo>
                    <a:lnTo>
                      <a:pt x="97" y="17"/>
                    </a:lnTo>
                    <a:lnTo>
                      <a:pt x="96" y="21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0" y="27"/>
                    </a:lnTo>
                    <a:lnTo>
                      <a:pt x="84" y="32"/>
                    </a:lnTo>
                    <a:lnTo>
                      <a:pt x="76" y="35"/>
                    </a:lnTo>
                    <a:lnTo>
                      <a:pt x="68" y="38"/>
                    </a:lnTo>
                    <a:lnTo>
                      <a:pt x="60" y="40"/>
                    </a:lnTo>
                    <a:lnTo>
                      <a:pt x="41" y="43"/>
                    </a:lnTo>
                    <a:lnTo>
                      <a:pt x="23" y="43"/>
                    </a:lnTo>
                    <a:lnTo>
                      <a:pt x="11" y="41"/>
                    </a:lnTo>
                    <a:lnTo>
                      <a:pt x="7" y="41"/>
                    </a:lnTo>
                    <a:lnTo>
                      <a:pt x="0" y="89"/>
                    </a:lnTo>
                    <a:lnTo>
                      <a:pt x="7" y="91"/>
                    </a:lnTo>
                    <a:lnTo>
                      <a:pt x="22" y="91"/>
                    </a:lnTo>
                    <a:lnTo>
                      <a:pt x="43" y="91"/>
                    </a:lnTo>
                    <a:lnTo>
                      <a:pt x="68" y="88"/>
                    </a:lnTo>
                    <a:lnTo>
                      <a:pt x="81" y="85"/>
                    </a:lnTo>
                    <a:lnTo>
                      <a:pt x="95" y="80"/>
                    </a:lnTo>
                    <a:lnTo>
                      <a:pt x="108" y="73"/>
                    </a:lnTo>
                    <a:lnTo>
                      <a:pt x="120" y="65"/>
                    </a:lnTo>
                    <a:lnTo>
                      <a:pt x="127" y="59"/>
                    </a:lnTo>
                    <a:lnTo>
                      <a:pt x="133" y="53"/>
                    </a:lnTo>
                    <a:lnTo>
                      <a:pt x="136" y="45"/>
                    </a:lnTo>
                    <a:lnTo>
                      <a:pt x="141" y="38"/>
                    </a:lnTo>
                    <a:lnTo>
                      <a:pt x="144" y="29"/>
                    </a:lnTo>
                    <a:lnTo>
                      <a:pt x="148" y="21"/>
                    </a:lnTo>
                    <a:lnTo>
                      <a:pt x="149" y="11"/>
                    </a:lnTo>
                    <a:lnTo>
                      <a:pt x="149" y="1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2413080" y="3229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4"/>
                    </a:lnTo>
                    <a:lnTo>
                      <a:pt x="33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3044520" y="3165480"/>
                <a:ext cx="130680" cy="45360"/>
              </a:xfrm>
              <a:custGeom>
                <a:avLst/>
                <a:gdLst/>
                <a:ahLst/>
                <a:rect l="l" t="t" r="r" b="b"/>
                <a:pathLst>
                  <a:path w="345" h="121">
                    <a:moveTo>
                      <a:pt x="331" y="74"/>
                    </a:moveTo>
                    <a:lnTo>
                      <a:pt x="323" y="73"/>
                    </a:lnTo>
                    <a:lnTo>
                      <a:pt x="280" y="68"/>
                    </a:lnTo>
                    <a:lnTo>
                      <a:pt x="237" y="64"/>
                    </a:lnTo>
                    <a:lnTo>
                      <a:pt x="195" y="60"/>
                    </a:lnTo>
                    <a:lnTo>
                      <a:pt x="156" y="54"/>
                    </a:lnTo>
                    <a:lnTo>
                      <a:pt x="138" y="50"/>
                    </a:lnTo>
                    <a:lnTo>
                      <a:pt x="120" y="46"/>
                    </a:lnTo>
                    <a:lnTo>
                      <a:pt x="103" y="41"/>
                    </a:lnTo>
                    <a:lnTo>
                      <a:pt x="87" y="34"/>
                    </a:lnTo>
                    <a:lnTo>
                      <a:pt x="72" y="27"/>
                    </a:lnTo>
                    <a:lnTo>
                      <a:pt x="59" y="18"/>
                    </a:lnTo>
                    <a:lnTo>
                      <a:pt x="45" y="10"/>
                    </a:lnTo>
                    <a:lnTo>
                      <a:pt x="34" y="0"/>
                    </a:lnTo>
                    <a:lnTo>
                      <a:pt x="0" y="34"/>
                    </a:lnTo>
                    <a:lnTo>
                      <a:pt x="16" y="48"/>
                    </a:lnTo>
                    <a:lnTo>
                      <a:pt x="32" y="60"/>
                    </a:lnTo>
                    <a:lnTo>
                      <a:pt x="50" y="70"/>
                    </a:lnTo>
                    <a:lnTo>
                      <a:pt x="69" y="79"/>
                    </a:lnTo>
                    <a:lnTo>
                      <a:pt x="87" y="86"/>
                    </a:lnTo>
                    <a:lnTo>
                      <a:pt x="107" y="92"/>
                    </a:lnTo>
                    <a:lnTo>
                      <a:pt x="126" y="97"/>
                    </a:lnTo>
                    <a:lnTo>
                      <a:pt x="147" y="102"/>
                    </a:lnTo>
                    <a:lnTo>
                      <a:pt x="189" y="108"/>
                    </a:lnTo>
                    <a:lnTo>
                      <a:pt x="232" y="113"/>
                    </a:lnTo>
                    <a:lnTo>
                      <a:pt x="275" y="117"/>
                    </a:lnTo>
                    <a:lnTo>
                      <a:pt x="318" y="121"/>
                    </a:lnTo>
                    <a:lnTo>
                      <a:pt x="312" y="119"/>
                    </a:lnTo>
                    <a:lnTo>
                      <a:pt x="318" y="121"/>
                    </a:lnTo>
                    <a:lnTo>
                      <a:pt x="324" y="121"/>
                    </a:lnTo>
                    <a:lnTo>
                      <a:pt x="329" y="119"/>
                    </a:lnTo>
                    <a:lnTo>
                      <a:pt x="334" y="117"/>
                    </a:lnTo>
                    <a:lnTo>
                      <a:pt x="338" y="114"/>
                    </a:lnTo>
                    <a:lnTo>
                      <a:pt x="340" y="111"/>
                    </a:lnTo>
                    <a:lnTo>
                      <a:pt x="343" y="107"/>
                    </a:lnTo>
                    <a:lnTo>
                      <a:pt x="344" y="103"/>
                    </a:lnTo>
                    <a:lnTo>
                      <a:pt x="345" y="98"/>
                    </a:lnTo>
                    <a:lnTo>
                      <a:pt x="345" y="93"/>
                    </a:lnTo>
                    <a:lnTo>
                      <a:pt x="344" y="90"/>
                    </a:lnTo>
                    <a:lnTo>
                      <a:pt x="343" y="85"/>
                    </a:lnTo>
                    <a:lnTo>
                      <a:pt x="340" y="81"/>
                    </a:lnTo>
                    <a:lnTo>
                      <a:pt x="338" y="77"/>
                    </a:lnTo>
                    <a:lnTo>
                      <a:pt x="334" y="75"/>
                    </a:lnTo>
                    <a:lnTo>
                      <a:pt x="329" y="73"/>
                    </a:lnTo>
                    <a:lnTo>
                      <a:pt x="323" y="73"/>
                    </a:lnTo>
                    <a:lnTo>
                      <a:pt x="331" y="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3164040" y="319392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2" h="302">
                    <a:moveTo>
                      <a:pt x="245" y="261"/>
                    </a:moveTo>
                    <a:lnTo>
                      <a:pt x="251" y="272"/>
                    </a:lnTo>
                    <a:lnTo>
                      <a:pt x="244" y="241"/>
                    </a:lnTo>
                    <a:lnTo>
                      <a:pt x="239" y="215"/>
                    </a:lnTo>
                    <a:lnTo>
                      <a:pt x="236" y="193"/>
                    </a:lnTo>
                    <a:lnTo>
                      <a:pt x="235" y="173"/>
                    </a:lnTo>
                    <a:lnTo>
                      <a:pt x="234" y="157"/>
                    </a:lnTo>
                    <a:lnTo>
                      <a:pt x="233" y="141"/>
                    </a:lnTo>
                    <a:lnTo>
                      <a:pt x="230" y="125"/>
                    </a:lnTo>
                    <a:lnTo>
                      <a:pt x="224" y="111"/>
                    </a:lnTo>
                    <a:lnTo>
                      <a:pt x="219" y="102"/>
                    </a:lnTo>
                    <a:lnTo>
                      <a:pt x="213" y="96"/>
                    </a:lnTo>
                    <a:lnTo>
                      <a:pt x="207" y="88"/>
                    </a:lnTo>
                    <a:lnTo>
                      <a:pt x="199" y="82"/>
                    </a:lnTo>
                    <a:lnTo>
                      <a:pt x="183" y="71"/>
                    </a:lnTo>
                    <a:lnTo>
                      <a:pt x="161" y="60"/>
                    </a:lnTo>
                    <a:lnTo>
                      <a:pt x="135" y="48"/>
                    </a:lnTo>
                    <a:lnTo>
                      <a:pt x="104" y="34"/>
                    </a:lnTo>
                    <a:lnTo>
                      <a:pt x="65" y="18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47" y="64"/>
                    </a:lnTo>
                    <a:lnTo>
                      <a:pt x="85" y="79"/>
                    </a:lnTo>
                    <a:lnTo>
                      <a:pt x="116" y="92"/>
                    </a:lnTo>
                    <a:lnTo>
                      <a:pt x="140" y="103"/>
                    </a:lnTo>
                    <a:lnTo>
                      <a:pt x="158" y="113"/>
                    </a:lnTo>
                    <a:lnTo>
                      <a:pt x="170" y="122"/>
                    </a:lnTo>
                    <a:lnTo>
                      <a:pt x="174" y="124"/>
                    </a:lnTo>
                    <a:lnTo>
                      <a:pt x="177" y="128"/>
                    </a:lnTo>
                    <a:lnTo>
                      <a:pt x="179" y="130"/>
                    </a:lnTo>
                    <a:lnTo>
                      <a:pt x="180" y="131"/>
                    </a:lnTo>
                    <a:lnTo>
                      <a:pt x="182" y="139"/>
                    </a:lnTo>
                    <a:lnTo>
                      <a:pt x="185" y="147"/>
                    </a:lnTo>
                    <a:lnTo>
                      <a:pt x="186" y="161"/>
                    </a:lnTo>
                    <a:lnTo>
                      <a:pt x="187" y="177"/>
                    </a:lnTo>
                    <a:lnTo>
                      <a:pt x="188" y="198"/>
                    </a:lnTo>
                    <a:lnTo>
                      <a:pt x="191" y="222"/>
                    </a:lnTo>
                    <a:lnTo>
                      <a:pt x="196" y="251"/>
                    </a:lnTo>
                    <a:lnTo>
                      <a:pt x="204" y="284"/>
                    </a:lnTo>
                    <a:lnTo>
                      <a:pt x="209" y="294"/>
                    </a:lnTo>
                    <a:lnTo>
                      <a:pt x="204" y="284"/>
                    </a:lnTo>
                    <a:lnTo>
                      <a:pt x="206" y="289"/>
                    </a:lnTo>
                    <a:lnTo>
                      <a:pt x="208" y="294"/>
                    </a:lnTo>
                    <a:lnTo>
                      <a:pt x="212" y="297"/>
                    </a:lnTo>
                    <a:lnTo>
                      <a:pt x="215" y="300"/>
                    </a:lnTo>
                    <a:lnTo>
                      <a:pt x="220" y="301"/>
                    </a:lnTo>
                    <a:lnTo>
                      <a:pt x="224" y="302"/>
                    </a:lnTo>
                    <a:lnTo>
                      <a:pt x="229" y="302"/>
                    </a:lnTo>
                    <a:lnTo>
                      <a:pt x="234" y="301"/>
                    </a:lnTo>
                    <a:lnTo>
                      <a:pt x="238" y="300"/>
                    </a:lnTo>
                    <a:lnTo>
                      <a:pt x="242" y="297"/>
                    </a:lnTo>
                    <a:lnTo>
                      <a:pt x="245" y="295"/>
                    </a:lnTo>
                    <a:lnTo>
                      <a:pt x="249" y="291"/>
                    </a:lnTo>
                    <a:lnTo>
                      <a:pt x="250" y="286"/>
                    </a:lnTo>
                    <a:lnTo>
                      <a:pt x="251" y="283"/>
                    </a:lnTo>
                    <a:lnTo>
                      <a:pt x="252" y="277"/>
                    </a:lnTo>
                    <a:lnTo>
                      <a:pt x="251" y="272"/>
                    </a:lnTo>
                    <a:lnTo>
                      <a:pt x="245" y="2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3241440" y="3275280"/>
                <a:ext cx="77400" cy="45360"/>
              </a:xfrm>
              <a:custGeom>
                <a:avLst/>
                <a:gdLst/>
                <a:ahLst/>
                <a:rect l="l" t="t" r="r" b="b"/>
                <a:pathLst>
                  <a:path w="201" h="120">
                    <a:moveTo>
                      <a:pt x="152" y="26"/>
                    </a:moveTo>
                    <a:lnTo>
                      <a:pt x="170" y="1"/>
                    </a:lnTo>
                    <a:lnTo>
                      <a:pt x="154" y="6"/>
                    </a:lnTo>
                    <a:lnTo>
                      <a:pt x="140" y="15"/>
                    </a:lnTo>
                    <a:lnTo>
                      <a:pt x="128" y="23"/>
                    </a:lnTo>
                    <a:lnTo>
                      <a:pt x="117" y="32"/>
                    </a:lnTo>
                    <a:lnTo>
                      <a:pt x="100" y="49"/>
                    </a:lnTo>
                    <a:lnTo>
                      <a:pt x="85" y="64"/>
                    </a:lnTo>
                    <a:lnTo>
                      <a:pt x="80" y="67"/>
                    </a:lnTo>
                    <a:lnTo>
                      <a:pt x="75" y="71"/>
                    </a:lnTo>
                    <a:lnTo>
                      <a:pt x="74" y="71"/>
                    </a:lnTo>
                    <a:lnTo>
                      <a:pt x="73" y="71"/>
                    </a:lnTo>
                    <a:lnTo>
                      <a:pt x="72" y="71"/>
                    </a:lnTo>
                    <a:lnTo>
                      <a:pt x="70" y="71"/>
                    </a:lnTo>
                    <a:lnTo>
                      <a:pt x="68" y="71"/>
                    </a:lnTo>
                    <a:lnTo>
                      <a:pt x="65" y="70"/>
                    </a:lnTo>
                    <a:lnTo>
                      <a:pt x="62" y="69"/>
                    </a:lnTo>
                    <a:lnTo>
                      <a:pt x="59" y="66"/>
                    </a:lnTo>
                    <a:lnTo>
                      <a:pt x="48" y="59"/>
                    </a:lnTo>
                    <a:lnTo>
                      <a:pt x="36" y="47"/>
                    </a:lnTo>
                    <a:lnTo>
                      <a:pt x="0" y="80"/>
                    </a:lnTo>
                    <a:lnTo>
                      <a:pt x="16" y="96"/>
                    </a:lnTo>
                    <a:lnTo>
                      <a:pt x="31" y="107"/>
                    </a:lnTo>
                    <a:lnTo>
                      <a:pt x="40" y="112"/>
                    </a:lnTo>
                    <a:lnTo>
                      <a:pt x="48" y="115"/>
                    </a:lnTo>
                    <a:lnTo>
                      <a:pt x="56" y="118"/>
                    </a:lnTo>
                    <a:lnTo>
                      <a:pt x="64" y="119"/>
                    </a:lnTo>
                    <a:lnTo>
                      <a:pt x="72" y="120"/>
                    </a:lnTo>
                    <a:lnTo>
                      <a:pt x="80" y="119"/>
                    </a:lnTo>
                    <a:lnTo>
                      <a:pt x="88" y="118"/>
                    </a:lnTo>
                    <a:lnTo>
                      <a:pt x="96" y="114"/>
                    </a:lnTo>
                    <a:lnTo>
                      <a:pt x="107" y="109"/>
                    </a:lnTo>
                    <a:lnTo>
                      <a:pt x="118" y="101"/>
                    </a:lnTo>
                    <a:lnTo>
                      <a:pt x="134" y="83"/>
                    </a:lnTo>
                    <a:lnTo>
                      <a:pt x="152" y="67"/>
                    </a:lnTo>
                    <a:lnTo>
                      <a:pt x="159" y="61"/>
                    </a:lnTo>
                    <a:lnTo>
                      <a:pt x="166" y="55"/>
                    </a:lnTo>
                    <a:lnTo>
                      <a:pt x="175" y="50"/>
                    </a:lnTo>
                    <a:lnTo>
                      <a:pt x="182" y="48"/>
                    </a:lnTo>
                    <a:lnTo>
                      <a:pt x="201" y="22"/>
                    </a:lnTo>
                    <a:lnTo>
                      <a:pt x="182" y="48"/>
                    </a:lnTo>
                    <a:lnTo>
                      <a:pt x="188" y="45"/>
                    </a:lnTo>
                    <a:lnTo>
                      <a:pt x="192" y="43"/>
                    </a:lnTo>
                    <a:lnTo>
                      <a:pt x="196" y="39"/>
                    </a:lnTo>
                    <a:lnTo>
                      <a:pt x="198" y="35"/>
                    </a:lnTo>
                    <a:lnTo>
                      <a:pt x="200" y="31"/>
                    </a:lnTo>
                    <a:lnTo>
                      <a:pt x="201" y="27"/>
                    </a:lnTo>
                    <a:lnTo>
                      <a:pt x="201" y="22"/>
                    </a:lnTo>
                    <a:lnTo>
                      <a:pt x="200" y="17"/>
                    </a:lnTo>
                    <a:lnTo>
                      <a:pt x="198" y="13"/>
                    </a:lnTo>
                    <a:lnTo>
                      <a:pt x="196" y="10"/>
                    </a:lnTo>
                    <a:lnTo>
                      <a:pt x="193" y="6"/>
                    </a:lnTo>
                    <a:lnTo>
                      <a:pt x="190" y="4"/>
                    </a:lnTo>
                    <a:lnTo>
                      <a:pt x="185" y="1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52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3230280" y="314100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79">
                    <a:moveTo>
                      <a:pt x="16" y="47"/>
                    </a:moveTo>
                    <a:lnTo>
                      <a:pt x="9" y="43"/>
                    </a:lnTo>
                    <a:lnTo>
                      <a:pt x="54" y="83"/>
                    </a:lnTo>
                    <a:lnTo>
                      <a:pt x="91" y="118"/>
                    </a:lnTo>
                    <a:lnTo>
                      <a:pt x="122" y="147"/>
                    </a:lnTo>
                    <a:lnTo>
                      <a:pt x="145" y="173"/>
                    </a:lnTo>
                    <a:lnTo>
                      <a:pt x="163" y="193"/>
                    </a:lnTo>
                    <a:lnTo>
                      <a:pt x="176" y="211"/>
                    </a:lnTo>
                    <a:lnTo>
                      <a:pt x="180" y="218"/>
                    </a:lnTo>
                    <a:lnTo>
                      <a:pt x="182" y="224"/>
                    </a:lnTo>
                    <a:lnTo>
                      <a:pt x="186" y="230"/>
                    </a:lnTo>
                    <a:lnTo>
                      <a:pt x="187" y="235"/>
                    </a:lnTo>
                    <a:lnTo>
                      <a:pt x="190" y="246"/>
                    </a:lnTo>
                    <a:lnTo>
                      <a:pt x="190" y="256"/>
                    </a:lnTo>
                    <a:lnTo>
                      <a:pt x="188" y="269"/>
                    </a:lnTo>
                    <a:lnTo>
                      <a:pt x="187" y="284"/>
                    </a:lnTo>
                    <a:lnTo>
                      <a:pt x="185" y="302"/>
                    </a:lnTo>
                    <a:lnTo>
                      <a:pt x="184" y="325"/>
                    </a:lnTo>
                    <a:lnTo>
                      <a:pt x="182" y="349"/>
                    </a:lnTo>
                    <a:lnTo>
                      <a:pt x="184" y="379"/>
                    </a:lnTo>
                    <a:lnTo>
                      <a:pt x="233" y="375"/>
                    </a:lnTo>
                    <a:lnTo>
                      <a:pt x="232" y="348"/>
                    </a:lnTo>
                    <a:lnTo>
                      <a:pt x="232" y="326"/>
                    </a:lnTo>
                    <a:lnTo>
                      <a:pt x="233" y="307"/>
                    </a:lnTo>
                    <a:lnTo>
                      <a:pt x="235" y="290"/>
                    </a:lnTo>
                    <a:lnTo>
                      <a:pt x="238" y="273"/>
                    </a:lnTo>
                    <a:lnTo>
                      <a:pt x="239" y="257"/>
                    </a:lnTo>
                    <a:lnTo>
                      <a:pt x="238" y="240"/>
                    </a:lnTo>
                    <a:lnTo>
                      <a:pt x="234" y="222"/>
                    </a:lnTo>
                    <a:lnTo>
                      <a:pt x="232" y="213"/>
                    </a:lnTo>
                    <a:lnTo>
                      <a:pt x="227" y="203"/>
                    </a:lnTo>
                    <a:lnTo>
                      <a:pt x="222" y="194"/>
                    </a:lnTo>
                    <a:lnTo>
                      <a:pt x="216" y="183"/>
                    </a:lnTo>
                    <a:lnTo>
                      <a:pt x="201" y="163"/>
                    </a:lnTo>
                    <a:lnTo>
                      <a:pt x="181" y="140"/>
                    </a:lnTo>
                    <a:lnTo>
                      <a:pt x="156" y="114"/>
                    </a:lnTo>
                    <a:lnTo>
                      <a:pt x="125" y="83"/>
                    </a:lnTo>
                    <a:lnTo>
                      <a:pt x="86" y="48"/>
                    </a:lnTo>
                    <a:lnTo>
                      <a:pt x="41" y="6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36" y="2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3042720" y="3116160"/>
                <a:ext cx="200160" cy="66240"/>
              </a:xfrm>
              <a:custGeom>
                <a:avLst/>
                <a:gdLst/>
                <a:ahLst/>
                <a:rect l="l" t="t" r="r" b="b"/>
                <a:pathLst>
                  <a:path w="531" h="172">
                    <a:moveTo>
                      <a:pt x="42" y="130"/>
                    </a:moveTo>
                    <a:lnTo>
                      <a:pt x="48" y="153"/>
                    </a:lnTo>
                    <a:lnTo>
                      <a:pt x="52" y="144"/>
                    </a:lnTo>
                    <a:lnTo>
                      <a:pt x="56" y="134"/>
                    </a:lnTo>
                    <a:lnTo>
                      <a:pt x="61" y="124"/>
                    </a:lnTo>
                    <a:lnTo>
                      <a:pt x="66" y="115"/>
                    </a:lnTo>
                    <a:lnTo>
                      <a:pt x="72" y="107"/>
                    </a:lnTo>
                    <a:lnTo>
                      <a:pt x="78" y="99"/>
                    </a:lnTo>
                    <a:lnTo>
                      <a:pt x="85" y="92"/>
                    </a:lnTo>
                    <a:lnTo>
                      <a:pt x="94" y="86"/>
                    </a:lnTo>
                    <a:lnTo>
                      <a:pt x="102" y="80"/>
                    </a:lnTo>
                    <a:lnTo>
                      <a:pt x="111" y="73"/>
                    </a:lnTo>
                    <a:lnTo>
                      <a:pt x="122" y="69"/>
                    </a:lnTo>
                    <a:lnTo>
                      <a:pt x="132" y="64"/>
                    </a:lnTo>
                    <a:lnTo>
                      <a:pt x="144" y="60"/>
                    </a:lnTo>
                    <a:lnTo>
                      <a:pt x="157" y="56"/>
                    </a:lnTo>
                    <a:lnTo>
                      <a:pt x="170" y="54"/>
                    </a:lnTo>
                    <a:lnTo>
                      <a:pt x="185" y="51"/>
                    </a:lnTo>
                    <a:lnTo>
                      <a:pt x="200" y="49"/>
                    </a:lnTo>
                    <a:lnTo>
                      <a:pt x="216" y="49"/>
                    </a:lnTo>
                    <a:lnTo>
                      <a:pt x="232" y="48"/>
                    </a:lnTo>
                    <a:lnTo>
                      <a:pt x="249" y="49"/>
                    </a:lnTo>
                    <a:lnTo>
                      <a:pt x="267" y="50"/>
                    </a:lnTo>
                    <a:lnTo>
                      <a:pt x="286" y="51"/>
                    </a:lnTo>
                    <a:lnTo>
                      <a:pt x="305" y="54"/>
                    </a:lnTo>
                    <a:lnTo>
                      <a:pt x="325" y="57"/>
                    </a:lnTo>
                    <a:lnTo>
                      <a:pt x="368" y="66"/>
                    </a:lnTo>
                    <a:lnTo>
                      <a:pt x="414" y="78"/>
                    </a:lnTo>
                    <a:lnTo>
                      <a:pt x="463" y="93"/>
                    </a:lnTo>
                    <a:lnTo>
                      <a:pt x="513" y="112"/>
                    </a:lnTo>
                    <a:lnTo>
                      <a:pt x="531" y="66"/>
                    </a:lnTo>
                    <a:lnTo>
                      <a:pt x="478" y="48"/>
                    </a:lnTo>
                    <a:lnTo>
                      <a:pt x="427" y="32"/>
                    </a:lnTo>
                    <a:lnTo>
                      <a:pt x="379" y="19"/>
                    </a:lnTo>
                    <a:lnTo>
                      <a:pt x="335" y="9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1" y="1"/>
                    </a:lnTo>
                    <a:lnTo>
                      <a:pt x="251" y="0"/>
                    </a:lnTo>
                    <a:lnTo>
                      <a:pt x="232" y="0"/>
                    </a:lnTo>
                    <a:lnTo>
                      <a:pt x="213" y="0"/>
                    </a:lnTo>
                    <a:lnTo>
                      <a:pt x="195" y="1"/>
                    </a:lnTo>
                    <a:lnTo>
                      <a:pt x="178" y="3"/>
                    </a:lnTo>
                    <a:lnTo>
                      <a:pt x="162" y="6"/>
                    </a:lnTo>
                    <a:lnTo>
                      <a:pt x="146" y="9"/>
                    </a:lnTo>
                    <a:lnTo>
                      <a:pt x="130" y="13"/>
                    </a:lnTo>
                    <a:lnTo>
                      <a:pt x="115" y="18"/>
                    </a:lnTo>
                    <a:lnTo>
                      <a:pt x="101" y="24"/>
                    </a:lnTo>
                    <a:lnTo>
                      <a:pt x="88" y="30"/>
                    </a:lnTo>
                    <a:lnTo>
                      <a:pt x="75" y="39"/>
                    </a:lnTo>
                    <a:lnTo>
                      <a:pt x="63" y="46"/>
                    </a:lnTo>
                    <a:lnTo>
                      <a:pt x="53" y="56"/>
                    </a:lnTo>
                    <a:lnTo>
                      <a:pt x="42" y="66"/>
                    </a:lnTo>
                    <a:lnTo>
                      <a:pt x="34" y="77"/>
                    </a:lnTo>
                    <a:lnTo>
                      <a:pt x="25" y="88"/>
                    </a:lnTo>
                    <a:lnTo>
                      <a:pt x="18" y="100"/>
                    </a:lnTo>
                    <a:lnTo>
                      <a:pt x="11" y="113"/>
                    </a:lnTo>
                    <a:lnTo>
                      <a:pt x="7" y="126"/>
                    </a:lnTo>
                    <a:lnTo>
                      <a:pt x="2" y="141"/>
                    </a:lnTo>
                    <a:lnTo>
                      <a:pt x="8" y="164"/>
                    </a:lnTo>
                    <a:lnTo>
                      <a:pt x="2" y="141"/>
                    </a:lnTo>
                    <a:lnTo>
                      <a:pt x="0" y="146"/>
                    </a:lnTo>
                    <a:lnTo>
                      <a:pt x="0" y="152"/>
                    </a:lnTo>
                    <a:lnTo>
                      <a:pt x="2" y="156"/>
                    </a:lnTo>
                    <a:lnTo>
                      <a:pt x="4" y="161"/>
                    </a:lnTo>
                    <a:lnTo>
                      <a:pt x="7" y="164"/>
                    </a:lnTo>
                    <a:lnTo>
                      <a:pt x="10" y="167"/>
                    </a:lnTo>
                    <a:lnTo>
                      <a:pt x="14" y="169"/>
                    </a:lnTo>
                    <a:lnTo>
                      <a:pt x="19" y="171"/>
                    </a:lnTo>
                    <a:lnTo>
                      <a:pt x="23" y="172"/>
                    </a:lnTo>
                    <a:lnTo>
                      <a:pt x="27" y="172"/>
                    </a:lnTo>
                    <a:lnTo>
                      <a:pt x="32" y="171"/>
                    </a:lnTo>
                    <a:lnTo>
                      <a:pt x="36" y="169"/>
                    </a:lnTo>
                    <a:lnTo>
                      <a:pt x="40" y="167"/>
                    </a:lnTo>
                    <a:lnTo>
                      <a:pt x="43" y="163"/>
                    </a:lnTo>
                    <a:lnTo>
                      <a:pt x="46" y="160"/>
                    </a:lnTo>
                    <a:lnTo>
                      <a:pt x="48" y="153"/>
                    </a:lnTo>
                    <a:lnTo>
                      <a:pt x="42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2267280" y="3188160"/>
                <a:ext cx="130320" cy="45360"/>
              </a:xfrm>
              <a:custGeom>
                <a:avLst/>
                <a:gdLst/>
                <a:ahLst/>
                <a:rect l="l" t="t" r="r" b="b"/>
                <a:pathLst>
                  <a:path w="344" h="120">
                    <a:moveTo>
                      <a:pt x="32" y="119"/>
                    </a:moveTo>
                    <a:lnTo>
                      <a:pt x="26" y="120"/>
                    </a:lnTo>
                    <a:lnTo>
                      <a:pt x="69" y="117"/>
                    </a:lnTo>
                    <a:lnTo>
                      <a:pt x="113" y="113"/>
                    </a:lnTo>
                    <a:lnTo>
                      <a:pt x="156" y="108"/>
                    </a:lnTo>
                    <a:lnTo>
                      <a:pt x="197" y="102"/>
                    </a:lnTo>
                    <a:lnTo>
                      <a:pt x="218" y="97"/>
                    </a:lnTo>
                    <a:lnTo>
                      <a:pt x="238" y="92"/>
                    </a:lnTo>
                    <a:lnTo>
                      <a:pt x="258" y="86"/>
                    </a:lnTo>
                    <a:lnTo>
                      <a:pt x="277" y="79"/>
                    </a:lnTo>
                    <a:lnTo>
                      <a:pt x="295" y="70"/>
                    </a:lnTo>
                    <a:lnTo>
                      <a:pt x="312" y="60"/>
                    </a:lnTo>
                    <a:lnTo>
                      <a:pt x="329" y="48"/>
                    </a:lnTo>
                    <a:lnTo>
                      <a:pt x="344" y="34"/>
                    </a:lnTo>
                    <a:lnTo>
                      <a:pt x="311" y="0"/>
                    </a:lnTo>
                    <a:lnTo>
                      <a:pt x="299" y="10"/>
                    </a:lnTo>
                    <a:lnTo>
                      <a:pt x="286" y="19"/>
                    </a:lnTo>
                    <a:lnTo>
                      <a:pt x="273" y="27"/>
                    </a:lnTo>
                    <a:lnTo>
                      <a:pt x="258" y="34"/>
                    </a:lnTo>
                    <a:lnTo>
                      <a:pt x="242" y="40"/>
                    </a:lnTo>
                    <a:lnTo>
                      <a:pt x="225" y="45"/>
                    </a:lnTo>
                    <a:lnTo>
                      <a:pt x="206" y="50"/>
                    </a:lnTo>
                    <a:lnTo>
                      <a:pt x="189" y="54"/>
                    </a:lnTo>
                    <a:lnTo>
                      <a:pt x="149" y="60"/>
                    </a:lnTo>
                    <a:lnTo>
                      <a:pt x="108" y="64"/>
                    </a:lnTo>
                    <a:lnTo>
                      <a:pt x="65" y="67"/>
                    </a:lnTo>
                    <a:lnTo>
                      <a:pt x="21" y="72"/>
                    </a:lnTo>
                    <a:lnTo>
                      <a:pt x="15" y="74"/>
                    </a:lnTo>
                    <a:lnTo>
                      <a:pt x="21" y="72"/>
                    </a:lnTo>
                    <a:lnTo>
                      <a:pt x="16" y="74"/>
                    </a:lnTo>
                    <a:lnTo>
                      <a:pt x="11" y="75"/>
                    </a:lnTo>
                    <a:lnTo>
                      <a:pt x="7" y="79"/>
                    </a:lnTo>
                    <a:lnTo>
                      <a:pt x="4" y="81"/>
                    </a:lnTo>
                    <a:lnTo>
                      <a:pt x="1" y="86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1" y="107"/>
                    </a:lnTo>
                    <a:lnTo>
                      <a:pt x="4" y="112"/>
                    </a:lnTo>
                    <a:lnTo>
                      <a:pt x="7" y="114"/>
                    </a:lnTo>
                    <a:lnTo>
                      <a:pt x="11" y="118"/>
                    </a:lnTo>
                    <a:lnTo>
                      <a:pt x="15" y="119"/>
                    </a:lnTo>
                    <a:lnTo>
                      <a:pt x="21" y="120"/>
                    </a:lnTo>
                    <a:lnTo>
                      <a:pt x="26" y="120"/>
                    </a:lnTo>
                    <a:lnTo>
                      <a:pt x="32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2185560" y="3216600"/>
                <a:ext cx="94680" cy="113760"/>
              </a:xfrm>
              <a:custGeom>
                <a:avLst/>
                <a:gdLst/>
                <a:ahLst/>
                <a:rect l="l" t="t" r="r" b="b"/>
                <a:pathLst>
                  <a:path w="251" h="302">
                    <a:moveTo>
                      <a:pt x="42" y="295"/>
                    </a:moveTo>
                    <a:lnTo>
                      <a:pt x="48" y="284"/>
                    </a:lnTo>
                    <a:lnTo>
                      <a:pt x="55" y="251"/>
                    </a:lnTo>
                    <a:lnTo>
                      <a:pt x="60" y="222"/>
                    </a:lnTo>
                    <a:lnTo>
                      <a:pt x="64" y="198"/>
                    </a:lnTo>
                    <a:lnTo>
                      <a:pt x="65" y="177"/>
                    </a:lnTo>
                    <a:lnTo>
                      <a:pt x="66" y="161"/>
                    </a:lnTo>
                    <a:lnTo>
                      <a:pt x="68" y="147"/>
                    </a:lnTo>
                    <a:lnTo>
                      <a:pt x="69" y="139"/>
                    </a:lnTo>
                    <a:lnTo>
                      <a:pt x="72" y="131"/>
                    </a:lnTo>
                    <a:lnTo>
                      <a:pt x="72" y="130"/>
                    </a:lnTo>
                    <a:lnTo>
                      <a:pt x="75" y="128"/>
                    </a:lnTo>
                    <a:lnTo>
                      <a:pt x="77" y="124"/>
                    </a:lnTo>
                    <a:lnTo>
                      <a:pt x="81" y="121"/>
                    </a:lnTo>
                    <a:lnTo>
                      <a:pt x="93" y="113"/>
                    </a:lnTo>
                    <a:lnTo>
                      <a:pt x="112" y="103"/>
                    </a:lnTo>
                    <a:lnTo>
                      <a:pt x="135" y="92"/>
                    </a:lnTo>
                    <a:lnTo>
                      <a:pt x="166" y="78"/>
                    </a:lnTo>
                    <a:lnTo>
                      <a:pt x="205" y="64"/>
                    </a:lnTo>
                    <a:lnTo>
                      <a:pt x="251" y="45"/>
                    </a:lnTo>
                    <a:lnTo>
                      <a:pt x="234" y="0"/>
                    </a:lnTo>
                    <a:lnTo>
                      <a:pt x="187" y="18"/>
                    </a:lnTo>
                    <a:lnTo>
                      <a:pt x="147" y="34"/>
                    </a:lnTo>
                    <a:lnTo>
                      <a:pt x="116" y="48"/>
                    </a:lnTo>
                    <a:lnTo>
                      <a:pt x="90" y="60"/>
                    </a:lnTo>
                    <a:lnTo>
                      <a:pt x="69" y="71"/>
                    </a:lnTo>
                    <a:lnTo>
                      <a:pt x="53" y="82"/>
                    </a:lnTo>
                    <a:lnTo>
                      <a:pt x="44" y="88"/>
                    </a:lnTo>
                    <a:lnTo>
                      <a:pt x="38" y="96"/>
                    </a:lnTo>
                    <a:lnTo>
                      <a:pt x="33" y="103"/>
                    </a:lnTo>
                    <a:lnTo>
                      <a:pt x="28" y="112"/>
                    </a:lnTo>
                    <a:lnTo>
                      <a:pt x="22" y="125"/>
                    </a:lnTo>
                    <a:lnTo>
                      <a:pt x="20" y="141"/>
                    </a:lnTo>
                    <a:lnTo>
                      <a:pt x="17" y="157"/>
                    </a:lnTo>
                    <a:lnTo>
                      <a:pt x="16" y="174"/>
                    </a:lnTo>
                    <a:lnTo>
                      <a:pt x="15" y="193"/>
                    </a:lnTo>
                    <a:lnTo>
                      <a:pt x="12" y="215"/>
                    </a:lnTo>
                    <a:lnTo>
                      <a:pt x="9" y="241"/>
                    </a:lnTo>
                    <a:lnTo>
                      <a:pt x="1" y="271"/>
                    </a:lnTo>
                    <a:lnTo>
                      <a:pt x="6" y="260"/>
                    </a:lnTo>
                    <a:lnTo>
                      <a:pt x="1" y="271"/>
                    </a:lnTo>
                    <a:lnTo>
                      <a:pt x="0" y="278"/>
                    </a:lnTo>
                    <a:lnTo>
                      <a:pt x="0" y="283"/>
                    </a:lnTo>
                    <a:lnTo>
                      <a:pt x="1" y="287"/>
                    </a:lnTo>
                    <a:lnTo>
                      <a:pt x="4" y="291"/>
                    </a:lnTo>
                    <a:lnTo>
                      <a:pt x="6" y="295"/>
                    </a:lnTo>
                    <a:lnTo>
                      <a:pt x="10" y="297"/>
                    </a:lnTo>
                    <a:lnTo>
                      <a:pt x="13" y="300"/>
                    </a:lnTo>
                    <a:lnTo>
                      <a:pt x="18" y="301"/>
                    </a:lnTo>
                    <a:lnTo>
                      <a:pt x="22" y="302"/>
                    </a:lnTo>
                    <a:lnTo>
                      <a:pt x="27" y="302"/>
                    </a:lnTo>
                    <a:lnTo>
                      <a:pt x="32" y="301"/>
                    </a:lnTo>
                    <a:lnTo>
                      <a:pt x="36" y="300"/>
                    </a:lnTo>
                    <a:lnTo>
                      <a:pt x="39" y="297"/>
                    </a:lnTo>
                    <a:lnTo>
                      <a:pt x="43" y="294"/>
                    </a:lnTo>
                    <a:lnTo>
                      <a:pt x="45" y="289"/>
                    </a:lnTo>
                    <a:lnTo>
                      <a:pt x="48" y="284"/>
                    </a:lnTo>
                    <a:lnTo>
                      <a:pt x="42" y="2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2125080" y="3296160"/>
                <a:ext cx="75600" cy="45360"/>
              </a:xfrm>
              <a:custGeom>
                <a:avLst/>
                <a:gdLst/>
                <a:ahLst/>
                <a:rect l="l" t="t" r="r" b="b"/>
                <a:pathLst>
                  <a:path w="200" h="120">
                    <a:moveTo>
                      <a:pt x="0" y="22"/>
                    </a:moveTo>
                    <a:lnTo>
                      <a:pt x="18" y="48"/>
                    </a:lnTo>
                    <a:lnTo>
                      <a:pt x="26" y="50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50" y="67"/>
                    </a:lnTo>
                    <a:lnTo>
                      <a:pt x="66" y="85"/>
                    </a:lnTo>
                    <a:lnTo>
                      <a:pt x="83" y="100"/>
                    </a:lnTo>
                    <a:lnTo>
                      <a:pt x="94" y="109"/>
                    </a:lnTo>
                    <a:lnTo>
                      <a:pt x="105" y="115"/>
                    </a:lnTo>
                    <a:lnTo>
                      <a:pt x="114" y="118"/>
                    </a:lnTo>
                    <a:lnTo>
                      <a:pt x="121" y="119"/>
                    </a:lnTo>
                    <a:lnTo>
                      <a:pt x="128" y="120"/>
                    </a:lnTo>
                    <a:lnTo>
                      <a:pt x="137" y="119"/>
                    </a:lnTo>
                    <a:lnTo>
                      <a:pt x="144" y="118"/>
                    </a:lnTo>
                    <a:lnTo>
                      <a:pt x="153" y="115"/>
                    </a:lnTo>
                    <a:lnTo>
                      <a:pt x="160" y="112"/>
                    </a:lnTo>
                    <a:lnTo>
                      <a:pt x="169" y="107"/>
                    </a:lnTo>
                    <a:lnTo>
                      <a:pt x="184" y="96"/>
                    </a:lnTo>
                    <a:lnTo>
                      <a:pt x="200" y="81"/>
                    </a:lnTo>
                    <a:lnTo>
                      <a:pt x="164" y="46"/>
                    </a:lnTo>
                    <a:lnTo>
                      <a:pt x="152" y="59"/>
                    </a:lnTo>
                    <a:lnTo>
                      <a:pt x="142" y="67"/>
                    </a:lnTo>
                    <a:lnTo>
                      <a:pt x="138" y="69"/>
                    </a:lnTo>
                    <a:lnTo>
                      <a:pt x="136" y="70"/>
                    </a:lnTo>
                    <a:lnTo>
                      <a:pt x="133" y="71"/>
                    </a:lnTo>
                    <a:lnTo>
                      <a:pt x="131" y="71"/>
                    </a:lnTo>
                    <a:lnTo>
                      <a:pt x="128" y="71"/>
                    </a:lnTo>
                    <a:lnTo>
                      <a:pt x="127" y="71"/>
                    </a:lnTo>
                    <a:lnTo>
                      <a:pt x="126" y="71"/>
                    </a:lnTo>
                    <a:lnTo>
                      <a:pt x="126" y="71"/>
                    </a:lnTo>
                    <a:lnTo>
                      <a:pt x="120" y="67"/>
                    </a:lnTo>
                    <a:lnTo>
                      <a:pt x="115" y="64"/>
                    </a:lnTo>
                    <a:lnTo>
                      <a:pt x="100" y="50"/>
                    </a:lnTo>
                    <a:lnTo>
                      <a:pt x="83" y="33"/>
                    </a:lnTo>
                    <a:lnTo>
                      <a:pt x="72" y="23"/>
                    </a:lnTo>
                    <a:lnTo>
                      <a:pt x="61" y="14"/>
                    </a:lnTo>
                    <a:lnTo>
                      <a:pt x="46" y="7"/>
                    </a:lnTo>
                    <a:lnTo>
                      <a:pt x="31" y="1"/>
                    </a:lnTo>
                    <a:lnTo>
                      <a:pt x="48" y="27"/>
                    </a:lnTo>
                    <a:lnTo>
                      <a:pt x="31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3" y="45"/>
                    </a:lnTo>
                    <a:lnTo>
                      <a:pt x="18" y="4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2123280" y="3163680"/>
                <a:ext cx="90360" cy="143640"/>
              </a:xfrm>
              <a:custGeom>
                <a:avLst/>
                <a:gdLst/>
                <a:ahLst/>
                <a:rect l="l" t="t" r="r" b="b"/>
                <a:pathLst>
                  <a:path w="239" h="380">
                    <a:moveTo>
                      <a:pt x="204" y="2"/>
                    </a:moveTo>
                    <a:lnTo>
                      <a:pt x="197" y="6"/>
                    </a:lnTo>
                    <a:lnTo>
                      <a:pt x="152" y="48"/>
                    </a:lnTo>
                    <a:lnTo>
                      <a:pt x="113" y="83"/>
                    </a:lnTo>
                    <a:lnTo>
                      <a:pt x="83" y="114"/>
                    </a:lnTo>
                    <a:lnTo>
                      <a:pt x="57" y="140"/>
                    </a:lnTo>
                    <a:lnTo>
                      <a:pt x="37" y="163"/>
                    </a:lnTo>
                    <a:lnTo>
                      <a:pt x="24" y="183"/>
                    </a:lnTo>
                    <a:lnTo>
                      <a:pt x="16" y="194"/>
                    </a:lnTo>
                    <a:lnTo>
                      <a:pt x="11" y="204"/>
                    </a:lnTo>
                    <a:lnTo>
                      <a:pt x="8" y="212"/>
                    </a:lnTo>
                    <a:lnTo>
                      <a:pt x="4" y="222"/>
                    </a:lnTo>
                    <a:lnTo>
                      <a:pt x="2" y="239"/>
                    </a:lnTo>
                    <a:lnTo>
                      <a:pt x="0" y="257"/>
                    </a:lnTo>
                    <a:lnTo>
                      <a:pt x="2" y="273"/>
                    </a:lnTo>
                    <a:lnTo>
                      <a:pt x="4" y="290"/>
                    </a:lnTo>
                    <a:lnTo>
                      <a:pt x="5" y="307"/>
                    </a:lnTo>
                    <a:lnTo>
                      <a:pt x="8" y="326"/>
                    </a:lnTo>
                    <a:lnTo>
                      <a:pt x="8" y="349"/>
                    </a:lnTo>
                    <a:lnTo>
                      <a:pt x="6" y="375"/>
                    </a:lnTo>
                    <a:lnTo>
                      <a:pt x="54" y="380"/>
                    </a:lnTo>
                    <a:lnTo>
                      <a:pt x="56" y="349"/>
                    </a:lnTo>
                    <a:lnTo>
                      <a:pt x="56" y="324"/>
                    </a:lnTo>
                    <a:lnTo>
                      <a:pt x="54" y="302"/>
                    </a:lnTo>
                    <a:lnTo>
                      <a:pt x="52" y="284"/>
                    </a:lnTo>
                    <a:lnTo>
                      <a:pt x="50" y="269"/>
                    </a:lnTo>
                    <a:lnTo>
                      <a:pt x="50" y="257"/>
                    </a:lnTo>
                    <a:lnTo>
                      <a:pt x="50" y="246"/>
                    </a:lnTo>
                    <a:lnTo>
                      <a:pt x="52" y="235"/>
                    </a:lnTo>
                    <a:lnTo>
                      <a:pt x="53" y="230"/>
                    </a:lnTo>
                    <a:lnTo>
                      <a:pt x="56" y="223"/>
                    </a:lnTo>
                    <a:lnTo>
                      <a:pt x="59" y="217"/>
                    </a:lnTo>
                    <a:lnTo>
                      <a:pt x="63" y="211"/>
                    </a:lnTo>
                    <a:lnTo>
                      <a:pt x="75" y="194"/>
                    </a:lnTo>
                    <a:lnTo>
                      <a:pt x="94" y="173"/>
                    </a:lnTo>
                    <a:lnTo>
                      <a:pt x="117" y="148"/>
                    </a:lnTo>
                    <a:lnTo>
                      <a:pt x="147" y="119"/>
                    </a:lnTo>
                    <a:lnTo>
                      <a:pt x="185" y="83"/>
                    </a:lnTo>
                    <a:lnTo>
                      <a:pt x="230" y="43"/>
                    </a:lnTo>
                    <a:lnTo>
                      <a:pt x="223" y="46"/>
                    </a:lnTo>
                    <a:lnTo>
                      <a:pt x="230" y="43"/>
                    </a:lnTo>
                    <a:lnTo>
                      <a:pt x="234" y="38"/>
                    </a:lnTo>
                    <a:lnTo>
                      <a:pt x="236" y="34"/>
                    </a:lnTo>
                    <a:lnTo>
                      <a:pt x="238" y="29"/>
                    </a:lnTo>
                    <a:lnTo>
                      <a:pt x="239" y="24"/>
                    </a:lnTo>
                    <a:lnTo>
                      <a:pt x="238" y="21"/>
                    </a:lnTo>
                    <a:lnTo>
                      <a:pt x="236" y="16"/>
                    </a:lnTo>
                    <a:lnTo>
                      <a:pt x="234" y="12"/>
                    </a:lnTo>
                    <a:lnTo>
                      <a:pt x="232" y="8"/>
                    </a:lnTo>
                    <a:lnTo>
                      <a:pt x="229" y="5"/>
                    </a:lnTo>
                    <a:lnTo>
                      <a:pt x="225" y="2"/>
                    </a:lnTo>
                    <a:lnTo>
                      <a:pt x="220" y="1"/>
                    </a:lnTo>
                    <a:lnTo>
                      <a:pt x="217" y="0"/>
                    </a:lnTo>
                    <a:lnTo>
                      <a:pt x="212" y="0"/>
                    </a:lnTo>
                    <a:lnTo>
                      <a:pt x="207" y="1"/>
                    </a:lnTo>
                    <a:lnTo>
                      <a:pt x="202" y="3"/>
                    </a:lnTo>
                    <a:lnTo>
                      <a:pt x="197" y="6"/>
                    </a:lnTo>
                    <a:lnTo>
                      <a:pt x="20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2201040" y="3138840"/>
                <a:ext cx="200160" cy="64080"/>
              </a:xfrm>
              <a:custGeom>
                <a:avLst/>
                <a:gdLst/>
                <a:ahLst/>
                <a:rect l="l" t="t" r="r" b="b"/>
                <a:pathLst>
                  <a:path w="531" h="173">
                    <a:moveTo>
                      <a:pt x="523" y="165"/>
                    </a:moveTo>
                    <a:lnTo>
                      <a:pt x="531" y="142"/>
                    </a:lnTo>
                    <a:lnTo>
                      <a:pt x="526" y="128"/>
                    </a:lnTo>
                    <a:lnTo>
                      <a:pt x="521" y="115"/>
                    </a:lnTo>
                    <a:lnTo>
                      <a:pt x="513" y="101"/>
                    </a:lnTo>
                    <a:lnTo>
                      <a:pt x="506" y="89"/>
                    </a:lnTo>
                    <a:lnTo>
                      <a:pt x="499" y="78"/>
                    </a:lnTo>
                    <a:lnTo>
                      <a:pt x="489" y="67"/>
                    </a:lnTo>
                    <a:lnTo>
                      <a:pt x="479" y="57"/>
                    </a:lnTo>
                    <a:lnTo>
                      <a:pt x="468" y="48"/>
                    </a:lnTo>
                    <a:lnTo>
                      <a:pt x="457" y="40"/>
                    </a:lnTo>
                    <a:lnTo>
                      <a:pt x="443" y="32"/>
                    </a:lnTo>
                    <a:lnTo>
                      <a:pt x="431" y="25"/>
                    </a:lnTo>
                    <a:lnTo>
                      <a:pt x="416" y="19"/>
                    </a:lnTo>
                    <a:lnTo>
                      <a:pt x="401" y="14"/>
                    </a:lnTo>
                    <a:lnTo>
                      <a:pt x="387" y="10"/>
                    </a:lnTo>
                    <a:lnTo>
                      <a:pt x="371" y="7"/>
                    </a:lnTo>
                    <a:lnTo>
                      <a:pt x="353" y="4"/>
                    </a:lnTo>
                    <a:lnTo>
                      <a:pt x="336" y="2"/>
                    </a:lnTo>
                    <a:lnTo>
                      <a:pt x="318" y="0"/>
                    </a:lnTo>
                    <a:lnTo>
                      <a:pt x="299" y="0"/>
                    </a:lnTo>
                    <a:lnTo>
                      <a:pt x="281" y="0"/>
                    </a:lnTo>
                    <a:lnTo>
                      <a:pt x="261" y="2"/>
                    </a:lnTo>
                    <a:lnTo>
                      <a:pt x="240" y="4"/>
                    </a:lnTo>
                    <a:lnTo>
                      <a:pt x="219" y="7"/>
                    </a:lnTo>
                    <a:lnTo>
                      <a:pt x="197" y="10"/>
                    </a:lnTo>
                    <a:lnTo>
                      <a:pt x="152" y="20"/>
                    </a:lnTo>
                    <a:lnTo>
                      <a:pt x="104" y="32"/>
                    </a:lnTo>
                    <a:lnTo>
                      <a:pt x="53" y="48"/>
                    </a:lnTo>
                    <a:lnTo>
                      <a:pt x="0" y="68"/>
                    </a:lnTo>
                    <a:lnTo>
                      <a:pt x="19" y="112"/>
                    </a:lnTo>
                    <a:lnTo>
                      <a:pt x="69" y="94"/>
                    </a:lnTo>
                    <a:lnTo>
                      <a:pt x="117" y="79"/>
                    </a:lnTo>
                    <a:lnTo>
                      <a:pt x="163" y="67"/>
                    </a:lnTo>
                    <a:lnTo>
                      <a:pt x="206" y="58"/>
                    </a:lnTo>
                    <a:lnTo>
                      <a:pt x="227" y="55"/>
                    </a:lnTo>
                    <a:lnTo>
                      <a:pt x="245" y="52"/>
                    </a:lnTo>
                    <a:lnTo>
                      <a:pt x="265" y="51"/>
                    </a:lnTo>
                    <a:lnTo>
                      <a:pt x="282" y="50"/>
                    </a:lnTo>
                    <a:lnTo>
                      <a:pt x="299" y="50"/>
                    </a:lnTo>
                    <a:lnTo>
                      <a:pt x="317" y="50"/>
                    </a:lnTo>
                    <a:lnTo>
                      <a:pt x="333" y="51"/>
                    </a:lnTo>
                    <a:lnTo>
                      <a:pt x="347" y="52"/>
                    </a:lnTo>
                    <a:lnTo>
                      <a:pt x="361" y="55"/>
                    </a:lnTo>
                    <a:lnTo>
                      <a:pt x="374" y="57"/>
                    </a:lnTo>
                    <a:lnTo>
                      <a:pt x="388" y="61"/>
                    </a:lnTo>
                    <a:lnTo>
                      <a:pt x="399" y="64"/>
                    </a:lnTo>
                    <a:lnTo>
                      <a:pt x="410" y="69"/>
                    </a:lnTo>
                    <a:lnTo>
                      <a:pt x="420" y="74"/>
                    </a:lnTo>
                    <a:lnTo>
                      <a:pt x="430" y="80"/>
                    </a:lnTo>
                    <a:lnTo>
                      <a:pt x="438" y="87"/>
                    </a:lnTo>
                    <a:lnTo>
                      <a:pt x="446" y="93"/>
                    </a:lnTo>
                    <a:lnTo>
                      <a:pt x="453" y="100"/>
                    </a:lnTo>
                    <a:lnTo>
                      <a:pt x="460" y="107"/>
                    </a:lnTo>
                    <a:lnTo>
                      <a:pt x="465" y="116"/>
                    </a:lnTo>
                    <a:lnTo>
                      <a:pt x="472" y="125"/>
                    </a:lnTo>
                    <a:lnTo>
                      <a:pt x="475" y="135"/>
                    </a:lnTo>
                    <a:lnTo>
                      <a:pt x="480" y="144"/>
                    </a:lnTo>
                    <a:lnTo>
                      <a:pt x="483" y="154"/>
                    </a:lnTo>
                    <a:lnTo>
                      <a:pt x="490" y="131"/>
                    </a:lnTo>
                    <a:lnTo>
                      <a:pt x="483" y="154"/>
                    </a:lnTo>
                    <a:lnTo>
                      <a:pt x="485" y="160"/>
                    </a:lnTo>
                    <a:lnTo>
                      <a:pt x="488" y="164"/>
                    </a:lnTo>
                    <a:lnTo>
                      <a:pt x="491" y="168"/>
                    </a:lnTo>
                    <a:lnTo>
                      <a:pt x="495" y="170"/>
                    </a:lnTo>
                    <a:lnTo>
                      <a:pt x="500" y="171"/>
                    </a:lnTo>
                    <a:lnTo>
                      <a:pt x="504" y="173"/>
                    </a:lnTo>
                    <a:lnTo>
                      <a:pt x="508" y="173"/>
                    </a:lnTo>
                    <a:lnTo>
                      <a:pt x="513" y="171"/>
                    </a:lnTo>
                    <a:lnTo>
                      <a:pt x="517" y="170"/>
                    </a:lnTo>
                    <a:lnTo>
                      <a:pt x="521" y="168"/>
                    </a:lnTo>
                    <a:lnTo>
                      <a:pt x="524" y="165"/>
                    </a:lnTo>
                    <a:lnTo>
                      <a:pt x="528" y="162"/>
                    </a:lnTo>
                    <a:lnTo>
                      <a:pt x="529" y="158"/>
                    </a:lnTo>
                    <a:lnTo>
                      <a:pt x="531" y="153"/>
                    </a:lnTo>
                    <a:lnTo>
                      <a:pt x="531" y="148"/>
                    </a:lnTo>
                    <a:lnTo>
                      <a:pt x="531" y="142"/>
                    </a:lnTo>
                    <a:lnTo>
                      <a:pt x="523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4045680" y="305568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17"/>
                    </a:moveTo>
                    <a:lnTo>
                      <a:pt x="45" y="13"/>
                    </a:lnTo>
                    <a:lnTo>
                      <a:pt x="41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2" y="3"/>
                    </a:lnTo>
                    <a:lnTo>
                      <a:pt x="8" y="5"/>
                    </a:lnTo>
                    <a:lnTo>
                      <a:pt x="6" y="9"/>
                    </a:lnTo>
                    <a:lnTo>
                      <a:pt x="2" y="13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4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043880" y="3061440"/>
                <a:ext cx="32040" cy="117000"/>
              </a:xfrm>
              <a:custGeom>
                <a:avLst/>
                <a:gdLst/>
                <a:ahLst/>
                <a:rect l="l" t="t" r="r" b="b"/>
                <a:pathLst>
                  <a:path w="83" h="310">
                    <a:moveTo>
                      <a:pt x="0" y="310"/>
                    </a:moveTo>
                    <a:lnTo>
                      <a:pt x="14" y="309"/>
                    </a:lnTo>
                    <a:lnTo>
                      <a:pt x="27" y="306"/>
                    </a:lnTo>
                    <a:lnTo>
                      <a:pt x="40" y="301"/>
                    </a:lnTo>
                    <a:lnTo>
                      <a:pt x="51" y="292"/>
                    </a:lnTo>
                    <a:lnTo>
                      <a:pt x="59" y="283"/>
                    </a:lnTo>
                    <a:lnTo>
                      <a:pt x="66" y="272"/>
                    </a:lnTo>
                    <a:lnTo>
                      <a:pt x="72" y="261"/>
                    </a:lnTo>
                    <a:lnTo>
                      <a:pt x="75" y="250"/>
                    </a:lnTo>
                    <a:lnTo>
                      <a:pt x="79" y="238"/>
                    </a:lnTo>
                    <a:lnTo>
                      <a:pt x="80" y="224"/>
                    </a:lnTo>
                    <a:lnTo>
                      <a:pt x="83" y="212"/>
                    </a:lnTo>
                    <a:lnTo>
                      <a:pt x="83" y="199"/>
                    </a:lnTo>
                    <a:lnTo>
                      <a:pt x="83" y="171"/>
                    </a:lnTo>
                    <a:lnTo>
                      <a:pt x="80" y="144"/>
                    </a:lnTo>
                    <a:lnTo>
                      <a:pt x="77" y="117"/>
                    </a:lnTo>
                    <a:lnTo>
                      <a:pt x="72" y="92"/>
                    </a:lnTo>
                    <a:lnTo>
                      <a:pt x="67" y="67"/>
                    </a:lnTo>
                    <a:lnTo>
                      <a:pt x="62" y="45"/>
                    </a:lnTo>
                    <a:lnTo>
                      <a:pt x="53" y="13"/>
                    </a:lnTo>
                    <a:lnTo>
                      <a:pt x="50" y="0"/>
                    </a:lnTo>
                    <a:lnTo>
                      <a:pt x="3" y="15"/>
                    </a:lnTo>
                    <a:lnTo>
                      <a:pt x="7" y="26"/>
                    </a:lnTo>
                    <a:lnTo>
                      <a:pt x="14" y="57"/>
                    </a:lnTo>
                    <a:lnTo>
                      <a:pt x="19" y="78"/>
                    </a:lnTo>
                    <a:lnTo>
                      <a:pt x="24" y="100"/>
                    </a:lnTo>
                    <a:lnTo>
                      <a:pt x="29" y="125"/>
                    </a:lnTo>
                    <a:lnTo>
                      <a:pt x="31" y="149"/>
                    </a:lnTo>
                    <a:lnTo>
                      <a:pt x="34" y="174"/>
                    </a:lnTo>
                    <a:lnTo>
                      <a:pt x="34" y="199"/>
                    </a:lnTo>
                    <a:lnTo>
                      <a:pt x="34" y="208"/>
                    </a:lnTo>
                    <a:lnTo>
                      <a:pt x="32" y="218"/>
                    </a:lnTo>
                    <a:lnTo>
                      <a:pt x="31" y="228"/>
                    </a:lnTo>
                    <a:lnTo>
                      <a:pt x="29" y="235"/>
                    </a:lnTo>
                    <a:lnTo>
                      <a:pt x="26" y="243"/>
                    </a:lnTo>
                    <a:lnTo>
                      <a:pt x="24" y="249"/>
                    </a:lnTo>
                    <a:lnTo>
                      <a:pt x="21" y="253"/>
                    </a:lnTo>
                    <a:lnTo>
                      <a:pt x="18" y="256"/>
                    </a:lnTo>
                    <a:lnTo>
                      <a:pt x="15" y="259"/>
                    </a:lnTo>
                    <a:lnTo>
                      <a:pt x="11" y="260"/>
                    </a:lnTo>
                    <a:lnTo>
                      <a:pt x="7" y="261"/>
                    </a:lnTo>
                    <a:lnTo>
                      <a:pt x="0" y="262"/>
                    </a:lnTo>
                    <a:lnTo>
                      <a:pt x="0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4034520" y="315972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3" y="4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3952800" y="303660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42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3956760" y="3040560"/>
                <a:ext cx="64080" cy="302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4" y="16"/>
                    </a:moveTo>
                    <a:lnTo>
                      <a:pt x="130" y="19"/>
                    </a:lnTo>
                    <a:lnTo>
                      <a:pt x="128" y="23"/>
                    </a:lnTo>
                    <a:lnTo>
                      <a:pt x="124" y="26"/>
                    </a:lnTo>
                    <a:lnTo>
                      <a:pt x="122" y="27"/>
                    </a:lnTo>
                    <a:lnTo>
                      <a:pt x="114" y="3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93" y="32"/>
                    </a:lnTo>
                    <a:lnTo>
                      <a:pt x="85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0" y="37"/>
                    </a:lnTo>
                    <a:lnTo>
                      <a:pt x="5" y="40"/>
                    </a:lnTo>
                    <a:lnTo>
                      <a:pt x="17" y="50"/>
                    </a:lnTo>
                    <a:lnTo>
                      <a:pt x="36" y="61"/>
                    </a:lnTo>
                    <a:lnTo>
                      <a:pt x="57" y="71"/>
                    </a:lnTo>
                    <a:lnTo>
                      <a:pt x="71" y="76"/>
                    </a:lnTo>
                    <a:lnTo>
                      <a:pt x="85" y="80"/>
                    </a:lnTo>
                    <a:lnTo>
                      <a:pt x="100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4" y="65"/>
                    </a:lnTo>
                    <a:lnTo>
                      <a:pt x="161" y="59"/>
                    </a:lnTo>
                    <a:lnTo>
                      <a:pt x="167" y="51"/>
                    </a:lnTo>
                    <a:lnTo>
                      <a:pt x="173" y="44"/>
                    </a:lnTo>
                    <a:lnTo>
                      <a:pt x="13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4007880" y="3042360"/>
                <a:ext cx="14760" cy="12960"/>
              </a:xfrm>
              <a:custGeom>
                <a:avLst/>
                <a:gdLst/>
                <a:ahLst/>
                <a:rect l="l" t="t" r="r" b="b"/>
                <a:pathLst>
                  <a:path w="44" h="38">
                    <a:moveTo>
                      <a:pt x="39" y="38"/>
                    </a:moveTo>
                    <a:lnTo>
                      <a:pt x="42" y="33"/>
                    </a:lnTo>
                    <a:lnTo>
                      <a:pt x="44" y="28"/>
                    </a:lnTo>
                    <a:lnTo>
                      <a:pt x="44" y="23"/>
                    </a:lnTo>
                    <a:lnTo>
                      <a:pt x="44" y="20"/>
                    </a:lnTo>
                    <a:lnTo>
                      <a:pt x="42" y="15"/>
                    </a:lnTo>
                    <a:lnTo>
                      <a:pt x="41" y="11"/>
                    </a:lnTo>
                    <a:lnTo>
                      <a:pt x="37" y="7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9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4070160" y="30459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2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2"/>
                    </a:lnTo>
                    <a:lnTo>
                      <a:pt x="10" y="44"/>
                    </a:lnTo>
                    <a:lnTo>
                      <a:pt x="15" y="47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4075920" y="304596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2" h="72">
                    <a:moveTo>
                      <a:pt x="134" y="18"/>
                    </a:moveTo>
                    <a:lnTo>
                      <a:pt x="134" y="19"/>
                    </a:lnTo>
                    <a:lnTo>
                      <a:pt x="134" y="19"/>
                    </a:lnTo>
                    <a:lnTo>
                      <a:pt x="133" y="19"/>
                    </a:lnTo>
                    <a:lnTo>
                      <a:pt x="134" y="19"/>
                    </a:lnTo>
                    <a:lnTo>
                      <a:pt x="130" y="20"/>
                    </a:lnTo>
                    <a:lnTo>
                      <a:pt x="126" y="22"/>
                    </a:lnTo>
                    <a:lnTo>
                      <a:pt x="117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4" y="20"/>
                    </a:lnTo>
                    <a:lnTo>
                      <a:pt x="59" y="14"/>
                    </a:lnTo>
                    <a:lnTo>
                      <a:pt x="38" y="8"/>
                    </a:lnTo>
                    <a:lnTo>
                      <a:pt x="23" y="2"/>
                    </a:lnTo>
                    <a:lnTo>
                      <a:pt x="19" y="0"/>
                    </a:lnTo>
                    <a:lnTo>
                      <a:pt x="0" y="45"/>
                    </a:lnTo>
                    <a:lnTo>
                      <a:pt x="7" y="47"/>
                    </a:lnTo>
                    <a:lnTo>
                      <a:pt x="23" y="53"/>
                    </a:lnTo>
                    <a:lnTo>
                      <a:pt x="47" y="61"/>
                    </a:lnTo>
                    <a:lnTo>
                      <a:pt x="74" y="67"/>
                    </a:lnTo>
                    <a:lnTo>
                      <a:pt x="90" y="69"/>
                    </a:lnTo>
                    <a:lnTo>
                      <a:pt x="105" y="72"/>
                    </a:lnTo>
                    <a:lnTo>
                      <a:pt x="119" y="72"/>
                    </a:lnTo>
                    <a:lnTo>
                      <a:pt x="134" y="70"/>
                    </a:lnTo>
                    <a:lnTo>
                      <a:pt x="149" y="66"/>
                    </a:lnTo>
                    <a:lnTo>
                      <a:pt x="161" y="58"/>
                    </a:lnTo>
                    <a:lnTo>
                      <a:pt x="170" y="52"/>
                    </a:lnTo>
                    <a:lnTo>
                      <a:pt x="175" y="45"/>
                    </a:lnTo>
                    <a:lnTo>
                      <a:pt x="180" y="36"/>
                    </a:lnTo>
                    <a:lnTo>
                      <a:pt x="182" y="27"/>
                    </a:lnTo>
                    <a:lnTo>
                      <a:pt x="134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4127040" y="304596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29"/>
                    </a:moveTo>
                    <a:lnTo>
                      <a:pt x="48" y="23"/>
                    </a:lnTo>
                    <a:lnTo>
                      <a:pt x="48" y="18"/>
                    </a:lnTo>
                    <a:lnTo>
                      <a:pt x="47" y="13"/>
                    </a:lnTo>
                    <a:lnTo>
                      <a:pt x="44" y="10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48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4019040" y="3203280"/>
                <a:ext cx="7560" cy="18720"/>
              </a:xfrm>
              <a:custGeom>
                <a:avLst/>
                <a:gdLst/>
                <a:ahLst/>
                <a:rect l="l" t="t" r="r" b="b"/>
                <a:pathLst>
                  <a:path w="24" h="49">
                    <a:moveTo>
                      <a:pt x="24" y="0"/>
                    </a:moveTo>
                    <a:lnTo>
                      <a:pt x="19" y="0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6" y="40"/>
                    </a:lnTo>
                    <a:lnTo>
                      <a:pt x="9" y="44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4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4026600" y="3203280"/>
                <a:ext cx="320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4059000" y="320328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6"/>
                    </a:lnTo>
                    <a:lnTo>
                      <a:pt x="15" y="44"/>
                    </a:lnTo>
                    <a:lnTo>
                      <a:pt x="19" y="40"/>
                    </a:lnTo>
                    <a:lnTo>
                      <a:pt x="21" y="37"/>
                    </a:lnTo>
                    <a:lnTo>
                      <a:pt x="24" y="33"/>
                    </a:lnTo>
                    <a:lnTo>
                      <a:pt x="25" y="29"/>
                    </a:lnTo>
                    <a:lnTo>
                      <a:pt x="25" y="24"/>
                    </a:lnTo>
                    <a:lnTo>
                      <a:pt x="25" y="19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422240" y="30726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7" h="32">
                    <a:moveTo>
                      <a:pt x="47" y="17"/>
                    </a:moveTo>
                    <a:lnTo>
                      <a:pt x="45" y="11"/>
                    </a:lnTo>
                    <a:lnTo>
                      <a:pt x="42" y="7"/>
                    </a:lnTo>
                    <a:lnTo>
                      <a:pt x="38" y="4"/>
                    </a:lnTo>
                    <a:lnTo>
                      <a:pt x="35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424040" y="3078360"/>
                <a:ext cx="30240" cy="117360"/>
              </a:xfrm>
              <a:custGeom>
                <a:avLst/>
                <a:gdLst/>
                <a:ahLst/>
                <a:rect l="l" t="t" r="r" b="b"/>
                <a:pathLst>
                  <a:path w="80" h="308">
                    <a:moveTo>
                      <a:pt x="0" y="308"/>
                    </a:moveTo>
                    <a:lnTo>
                      <a:pt x="13" y="306"/>
                    </a:lnTo>
                    <a:lnTo>
                      <a:pt x="27" y="303"/>
                    </a:lnTo>
                    <a:lnTo>
                      <a:pt x="38" y="298"/>
                    </a:lnTo>
                    <a:lnTo>
                      <a:pt x="49" y="289"/>
                    </a:lnTo>
                    <a:lnTo>
                      <a:pt x="57" y="281"/>
                    </a:lnTo>
                    <a:lnTo>
                      <a:pt x="64" y="270"/>
                    </a:lnTo>
                    <a:lnTo>
                      <a:pt x="70" y="259"/>
                    </a:lnTo>
                    <a:lnTo>
                      <a:pt x="73" y="247"/>
                    </a:lnTo>
                    <a:lnTo>
                      <a:pt x="76" y="235"/>
                    </a:lnTo>
                    <a:lnTo>
                      <a:pt x="78" y="223"/>
                    </a:lnTo>
                    <a:lnTo>
                      <a:pt x="80" y="209"/>
                    </a:lnTo>
                    <a:lnTo>
                      <a:pt x="80" y="196"/>
                    </a:lnTo>
                    <a:lnTo>
                      <a:pt x="80" y="170"/>
                    </a:lnTo>
                    <a:lnTo>
                      <a:pt x="77" y="143"/>
                    </a:lnTo>
                    <a:lnTo>
                      <a:pt x="73" y="116"/>
                    </a:lnTo>
                    <a:lnTo>
                      <a:pt x="68" y="90"/>
                    </a:lnTo>
                    <a:lnTo>
                      <a:pt x="64" y="65"/>
                    </a:lnTo>
                    <a:lnTo>
                      <a:pt x="57" y="45"/>
                    </a:lnTo>
                    <a:lnTo>
                      <a:pt x="49" y="13"/>
                    </a:lnTo>
                    <a:lnTo>
                      <a:pt x="45" y="0"/>
                    </a:lnTo>
                    <a:lnTo>
                      <a:pt x="0" y="15"/>
                    </a:lnTo>
                    <a:lnTo>
                      <a:pt x="2" y="26"/>
                    </a:lnTo>
                    <a:lnTo>
                      <a:pt x="11" y="57"/>
                    </a:lnTo>
                    <a:lnTo>
                      <a:pt x="16" y="76"/>
                    </a:lnTo>
                    <a:lnTo>
                      <a:pt x="20" y="99"/>
                    </a:lnTo>
                    <a:lnTo>
                      <a:pt x="25" y="123"/>
                    </a:lnTo>
                    <a:lnTo>
                      <a:pt x="28" y="148"/>
                    </a:lnTo>
                    <a:lnTo>
                      <a:pt x="30" y="172"/>
                    </a:lnTo>
                    <a:lnTo>
                      <a:pt x="32" y="196"/>
                    </a:lnTo>
                    <a:lnTo>
                      <a:pt x="30" y="207"/>
                    </a:lnTo>
                    <a:lnTo>
                      <a:pt x="29" y="217"/>
                    </a:lnTo>
                    <a:lnTo>
                      <a:pt x="28" y="225"/>
                    </a:lnTo>
                    <a:lnTo>
                      <a:pt x="27" y="234"/>
                    </a:lnTo>
                    <a:lnTo>
                      <a:pt x="24" y="240"/>
                    </a:lnTo>
                    <a:lnTo>
                      <a:pt x="22" y="246"/>
                    </a:lnTo>
                    <a:lnTo>
                      <a:pt x="18" y="250"/>
                    </a:lnTo>
                    <a:lnTo>
                      <a:pt x="16" y="254"/>
                    </a:lnTo>
                    <a:lnTo>
                      <a:pt x="13" y="256"/>
                    </a:lnTo>
                    <a:lnTo>
                      <a:pt x="9" y="257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414680" y="317700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8" y="1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4"/>
                    </a:lnTo>
                    <a:lnTo>
                      <a:pt x="4" y="38"/>
                    </a:lnTo>
                    <a:lnTo>
                      <a:pt x="6" y="41"/>
                    </a:lnTo>
                    <a:lnTo>
                      <a:pt x="9" y="44"/>
                    </a:lnTo>
                    <a:lnTo>
                      <a:pt x="14" y="46"/>
                    </a:lnTo>
                    <a:lnTo>
                      <a:pt x="18" y="49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331520" y="3053880"/>
                <a:ext cx="14760" cy="1692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41" y="6"/>
                    </a:moveTo>
                    <a:lnTo>
                      <a:pt x="37" y="3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9" y="43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335120" y="3055680"/>
                <a:ext cx="64080" cy="32040"/>
              </a:xfrm>
              <a:custGeom>
                <a:avLst/>
                <a:gdLst/>
                <a:ahLst/>
                <a:rect l="l" t="t" r="r" b="b"/>
                <a:pathLst>
                  <a:path w="173" h="81">
                    <a:moveTo>
                      <a:pt x="132" y="16"/>
                    </a:moveTo>
                    <a:lnTo>
                      <a:pt x="130" y="20"/>
                    </a:lnTo>
                    <a:lnTo>
                      <a:pt x="126" y="23"/>
                    </a:lnTo>
                    <a:lnTo>
                      <a:pt x="124" y="26"/>
                    </a:lnTo>
                    <a:lnTo>
                      <a:pt x="121" y="27"/>
                    </a:lnTo>
                    <a:lnTo>
                      <a:pt x="114" y="31"/>
                    </a:lnTo>
                    <a:lnTo>
                      <a:pt x="108" y="32"/>
                    </a:lnTo>
                    <a:lnTo>
                      <a:pt x="101" y="33"/>
                    </a:lnTo>
                    <a:lnTo>
                      <a:pt x="92" y="32"/>
                    </a:lnTo>
                    <a:lnTo>
                      <a:pt x="83" y="29"/>
                    </a:lnTo>
                    <a:lnTo>
                      <a:pt x="76" y="27"/>
                    </a:lnTo>
                    <a:lnTo>
                      <a:pt x="59" y="18"/>
                    </a:lnTo>
                    <a:lnTo>
                      <a:pt x="44" y="10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0" y="37"/>
                    </a:lnTo>
                    <a:lnTo>
                      <a:pt x="5" y="41"/>
                    </a:lnTo>
                    <a:lnTo>
                      <a:pt x="17" y="49"/>
                    </a:lnTo>
                    <a:lnTo>
                      <a:pt x="34" y="61"/>
                    </a:lnTo>
                    <a:lnTo>
                      <a:pt x="56" y="71"/>
                    </a:lnTo>
                    <a:lnTo>
                      <a:pt x="70" y="76"/>
                    </a:lnTo>
                    <a:lnTo>
                      <a:pt x="85" y="80"/>
                    </a:lnTo>
                    <a:lnTo>
                      <a:pt x="99" y="81"/>
                    </a:lnTo>
                    <a:lnTo>
                      <a:pt x="114" y="81"/>
                    </a:lnTo>
                    <a:lnTo>
                      <a:pt x="130" y="77"/>
                    </a:lnTo>
                    <a:lnTo>
                      <a:pt x="145" y="70"/>
                    </a:lnTo>
                    <a:lnTo>
                      <a:pt x="153" y="65"/>
                    </a:lnTo>
                    <a:lnTo>
                      <a:pt x="160" y="59"/>
                    </a:lnTo>
                    <a:lnTo>
                      <a:pt x="167" y="52"/>
                    </a:lnTo>
                    <a:lnTo>
                      <a:pt x="173" y="44"/>
                    </a:lnTo>
                    <a:lnTo>
                      <a:pt x="13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384080" y="30578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6" h="39">
                    <a:moveTo>
                      <a:pt x="41" y="39"/>
                    </a:moveTo>
                    <a:lnTo>
                      <a:pt x="44" y="34"/>
                    </a:lnTo>
                    <a:lnTo>
                      <a:pt x="45" y="29"/>
                    </a:lnTo>
                    <a:lnTo>
                      <a:pt x="46" y="24"/>
                    </a:lnTo>
                    <a:lnTo>
                      <a:pt x="45" y="20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39" y="8"/>
                    </a:lnTo>
                    <a:lnTo>
                      <a:pt x="35" y="5"/>
                    </a:lnTo>
                    <a:lnTo>
                      <a:pt x="31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0" y="11"/>
                    </a:lnTo>
                    <a:lnTo>
                      <a:pt x="41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48520" y="3063240"/>
                <a:ext cx="11520" cy="169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34" y="3"/>
                    </a:moveTo>
                    <a:lnTo>
                      <a:pt x="2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11" y="44"/>
                    </a:lnTo>
                    <a:lnTo>
                      <a:pt x="16" y="47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454640" y="3063240"/>
                <a:ext cx="67680" cy="28080"/>
              </a:xfrm>
              <a:custGeom>
                <a:avLst/>
                <a:gdLst/>
                <a:ahLst/>
                <a:rect l="l" t="t" r="r" b="b"/>
                <a:pathLst>
                  <a:path w="183" h="71">
                    <a:moveTo>
                      <a:pt x="136" y="16"/>
                    </a:moveTo>
                    <a:lnTo>
                      <a:pt x="135" y="17"/>
                    </a:lnTo>
                    <a:lnTo>
                      <a:pt x="135" y="17"/>
                    </a:lnTo>
                    <a:lnTo>
                      <a:pt x="135" y="18"/>
                    </a:lnTo>
                    <a:lnTo>
                      <a:pt x="136" y="17"/>
                    </a:lnTo>
                    <a:lnTo>
                      <a:pt x="131" y="19"/>
                    </a:lnTo>
                    <a:lnTo>
                      <a:pt x="125" y="22"/>
                    </a:lnTo>
                    <a:lnTo>
                      <a:pt x="118" y="22"/>
                    </a:lnTo>
                    <a:lnTo>
                      <a:pt x="107" y="22"/>
                    </a:lnTo>
                    <a:lnTo>
                      <a:pt x="96" y="21"/>
                    </a:lnTo>
                    <a:lnTo>
                      <a:pt x="83" y="18"/>
                    </a:lnTo>
                    <a:lnTo>
                      <a:pt x="59" y="13"/>
                    </a:lnTo>
                    <a:lnTo>
                      <a:pt x="38" y="6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23" y="53"/>
                    </a:lnTo>
                    <a:lnTo>
                      <a:pt x="46" y="60"/>
                    </a:lnTo>
                    <a:lnTo>
                      <a:pt x="74" y="66"/>
                    </a:lnTo>
                    <a:lnTo>
                      <a:pt x="90" y="69"/>
                    </a:lnTo>
                    <a:lnTo>
                      <a:pt x="104" y="71"/>
                    </a:lnTo>
                    <a:lnTo>
                      <a:pt x="119" y="71"/>
                    </a:lnTo>
                    <a:lnTo>
                      <a:pt x="134" y="69"/>
                    </a:lnTo>
                    <a:lnTo>
                      <a:pt x="150" y="65"/>
                    </a:lnTo>
                    <a:lnTo>
                      <a:pt x="162" y="59"/>
                    </a:lnTo>
                    <a:lnTo>
                      <a:pt x="171" y="51"/>
                    </a:lnTo>
                    <a:lnTo>
                      <a:pt x="176" y="44"/>
                    </a:lnTo>
                    <a:lnTo>
                      <a:pt x="181" y="37"/>
                    </a:lnTo>
                    <a:lnTo>
                      <a:pt x="183" y="28"/>
                    </a:lnTo>
                    <a:lnTo>
                      <a:pt x="136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505400" y="3063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6" y="15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39560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25" y="0"/>
                    </a:moveTo>
                    <a:lnTo>
                      <a:pt x="19" y="0"/>
                    </a:lnTo>
                    <a:lnTo>
                      <a:pt x="14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7"/>
                    </a:lnTo>
                    <a:lnTo>
                      <a:pt x="6" y="41"/>
                    </a:lnTo>
                    <a:lnTo>
                      <a:pt x="10" y="44"/>
                    </a:lnTo>
                    <a:lnTo>
                      <a:pt x="14" y="47"/>
                    </a:lnTo>
                    <a:lnTo>
                      <a:pt x="19" y="48"/>
                    </a:lnTo>
                    <a:lnTo>
                      <a:pt x="25" y="4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405320" y="3220560"/>
                <a:ext cx="30240" cy="1872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435560" y="322056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49"/>
                    </a:moveTo>
                    <a:lnTo>
                      <a:pt x="6" y="48"/>
                    </a:lnTo>
                    <a:lnTo>
                      <a:pt x="11" y="47"/>
                    </a:lnTo>
                    <a:lnTo>
                      <a:pt x="15" y="44"/>
                    </a:lnTo>
                    <a:lnTo>
                      <a:pt x="18" y="41"/>
                    </a:lnTo>
                    <a:lnTo>
                      <a:pt x="21" y="37"/>
                    </a:lnTo>
                    <a:lnTo>
                      <a:pt x="22" y="33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3" y="20"/>
                    </a:lnTo>
                    <a:lnTo>
                      <a:pt x="22" y="15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5" y="5"/>
                    </a:lnTo>
                    <a:lnTo>
                      <a:pt x="11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150520" y="2949480"/>
                <a:ext cx="16920" cy="1512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9"/>
                    </a:moveTo>
                    <a:lnTo>
                      <a:pt x="39" y="5"/>
                    </a:lnTo>
                    <a:lnTo>
                      <a:pt x="34" y="3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3"/>
                    </a:lnTo>
                    <a:lnTo>
                      <a:pt x="4" y="38"/>
                    </a:lnTo>
                    <a:lnTo>
                      <a:pt x="8" y="4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154480" y="29534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5" y="22"/>
                    </a:moveTo>
                    <a:lnTo>
                      <a:pt x="131" y="25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2" y="33"/>
                    </a:lnTo>
                    <a:lnTo>
                      <a:pt x="118" y="34"/>
                    </a:lnTo>
                    <a:lnTo>
                      <a:pt x="115" y="35"/>
                    </a:lnTo>
                    <a:lnTo>
                      <a:pt x="112" y="37"/>
                    </a:lnTo>
                    <a:lnTo>
                      <a:pt x="109" y="37"/>
                    </a:lnTo>
                    <a:lnTo>
                      <a:pt x="101" y="37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10"/>
                    </a:lnTo>
                    <a:lnTo>
                      <a:pt x="37" y="2"/>
                    </a:lnTo>
                    <a:lnTo>
                      <a:pt x="34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6" y="48"/>
                    </a:lnTo>
                    <a:lnTo>
                      <a:pt x="33" y="60"/>
                    </a:lnTo>
                    <a:lnTo>
                      <a:pt x="54" y="72"/>
                    </a:lnTo>
                    <a:lnTo>
                      <a:pt x="67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0" y="86"/>
                    </a:lnTo>
                    <a:lnTo>
                      <a:pt x="120" y="85"/>
                    </a:lnTo>
                    <a:lnTo>
                      <a:pt x="128" y="82"/>
                    </a:lnTo>
                    <a:lnTo>
                      <a:pt x="136" y="80"/>
                    </a:lnTo>
                    <a:lnTo>
                      <a:pt x="144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6" y="60"/>
                    </a:lnTo>
                    <a:lnTo>
                      <a:pt x="173" y="53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05240" y="295704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41" y="36"/>
                    </a:lnTo>
                    <a:lnTo>
                      <a:pt x="43" y="31"/>
                    </a:lnTo>
                    <a:lnTo>
                      <a:pt x="44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1" y="13"/>
                    </a:lnTo>
                    <a:lnTo>
                      <a:pt x="38" y="10"/>
                    </a:lnTo>
                    <a:lnTo>
                      <a:pt x="35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9" y="2"/>
                    </a:lnTo>
                    <a:lnTo>
                      <a:pt x="5" y="6"/>
                    </a:lnTo>
                    <a:lnTo>
                      <a:pt x="0" y="10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53120" y="296100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33" y="1"/>
                    </a:move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3" y="38"/>
                    </a:lnTo>
                    <a:lnTo>
                      <a:pt x="7" y="42"/>
                    </a:lnTo>
                    <a:lnTo>
                      <a:pt x="11" y="45"/>
                    </a:lnTo>
                    <a:lnTo>
                      <a:pt x="17" y="48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60320" y="2953440"/>
                <a:ext cx="60480" cy="30240"/>
              </a:xfrm>
              <a:custGeom>
                <a:avLst/>
                <a:gdLst/>
                <a:ahLst/>
                <a:rect l="l" t="t" r="r" b="b"/>
                <a:pathLst>
                  <a:path w="161" h="81">
                    <a:moveTo>
                      <a:pt x="114" y="0"/>
                    </a:moveTo>
                    <a:lnTo>
                      <a:pt x="112" y="5"/>
                    </a:lnTo>
                    <a:lnTo>
                      <a:pt x="111" y="8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2" y="21"/>
                    </a:lnTo>
                    <a:lnTo>
                      <a:pt x="97" y="24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4" y="32"/>
                    </a:lnTo>
                    <a:lnTo>
                      <a:pt x="66" y="32"/>
                    </a:lnTo>
                    <a:lnTo>
                      <a:pt x="47" y="30"/>
                    </a:lnTo>
                    <a:lnTo>
                      <a:pt x="31" y="28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0" y="70"/>
                    </a:lnTo>
                    <a:lnTo>
                      <a:pt x="6" y="71"/>
                    </a:lnTo>
                    <a:lnTo>
                      <a:pt x="20" y="75"/>
                    </a:lnTo>
                    <a:lnTo>
                      <a:pt x="41" y="78"/>
                    </a:lnTo>
                    <a:lnTo>
                      <a:pt x="65" y="81"/>
                    </a:lnTo>
                    <a:lnTo>
                      <a:pt x="80" y="80"/>
                    </a:lnTo>
                    <a:lnTo>
                      <a:pt x="93" y="77"/>
                    </a:lnTo>
                    <a:lnTo>
                      <a:pt x="108" y="73"/>
                    </a:lnTo>
                    <a:lnTo>
                      <a:pt x="122" y="66"/>
                    </a:lnTo>
                    <a:lnTo>
                      <a:pt x="135" y="56"/>
                    </a:lnTo>
                    <a:lnTo>
                      <a:pt x="145" y="45"/>
                    </a:lnTo>
                    <a:lnTo>
                      <a:pt x="151" y="37"/>
                    </a:lnTo>
                    <a:lnTo>
                      <a:pt x="155" y="28"/>
                    </a:lnTo>
                    <a:lnTo>
                      <a:pt x="159" y="19"/>
                    </a:lnTo>
                    <a:lnTo>
                      <a:pt x="161" y="1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304240" y="2945880"/>
                <a:ext cx="16560" cy="11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7" y="30"/>
                    </a:moveTo>
                    <a:lnTo>
                      <a:pt x="48" y="25"/>
                    </a:lnTo>
                    <a:lnTo>
                      <a:pt x="47" y="20"/>
                    </a:lnTo>
                    <a:lnTo>
                      <a:pt x="46" y="15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4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2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28280" y="2987640"/>
                <a:ext cx="16920" cy="1260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47" y="31"/>
                    </a:moveTo>
                    <a:lnTo>
                      <a:pt x="48" y="25"/>
                    </a:lnTo>
                    <a:lnTo>
                      <a:pt x="48" y="20"/>
                    </a:lnTo>
                    <a:lnTo>
                      <a:pt x="47" y="15"/>
                    </a:lnTo>
                    <a:lnTo>
                      <a:pt x="45" y="11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2" y="13"/>
                    </a:lnTo>
                    <a:lnTo>
                      <a:pt x="0" y="18"/>
                    </a:lnTo>
                    <a:lnTo>
                      <a:pt x="47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05240" y="2994840"/>
                <a:ext cx="39600" cy="83160"/>
              </a:xfrm>
              <a:custGeom>
                <a:avLst/>
                <a:gdLst/>
                <a:ahLst/>
                <a:rect l="l" t="t" r="r" b="b"/>
                <a:pathLst>
                  <a:path w="107" h="222">
                    <a:moveTo>
                      <a:pt x="46" y="222"/>
                    </a:moveTo>
                    <a:lnTo>
                      <a:pt x="107" y="13"/>
                    </a:lnTo>
                    <a:lnTo>
                      <a:pt x="60" y="0"/>
                    </a:lnTo>
                    <a:lnTo>
                      <a:pt x="0" y="209"/>
                    </a:lnTo>
                    <a:lnTo>
                      <a:pt x="46" y="2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05240" y="3074400"/>
                <a:ext cx="16920" cy="1152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0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8"/>
                    </a:lnTo>
                    <a:lnTo>
                      <a:pt x="17" y="29"/>
                    </a:lnTo>
                    <a:lnTo>
                      <a:pt x="22" y="30"/>
                    </a:lnTo>
                    <a:lnTo>
                      <a:pt x="25" y="30"/>
                    </a:lnTo>
                    <a:lnTo>
                      <a:pt x="30" y="30"/>
                    </a:lnTo>
                    <a:lnTo>
                      <a:pt x="34" y="28"/>
                    </a:lnTo>
                    <a:lnTo>
                      <a:pt x="38" y="26"/>
                    </a:lnTo>
                    <a:lnTo>
                      <a:pt x="41" y="23"/>
                    </a:lnTo>
                    <a:lnTo>
                      <a:pt x="45" y="18"/>
                    </a:lnTo>
                    <a:lnTo>
                      <a:pt x="46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302880" y="307116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8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4"/>
                    </a:lnTo>
                    <a:lnTo>
                      <a:pt x="5" y="37"/>
                    </a:lnTo>
                    <a:lnTo>
                      <a:pt x="7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30864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9" h="91">
                    <a:moveTo>
                      <a:pt x="178" y="0"/>
                    </a:moveTo>
                    <a:lnTo>
                      <a:pt x="0" y="44"/>
                    </a:lnTo>
                    <a:lnTo>
                      <a:pt x="13" y="91"/>
                    </a:lnTo>
                    <a:lnTo>
                      <a:pt x="189" y="47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37668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11" y="48"/>
                    </a:moveTo>
                    <a:lnTo>
                      <a:pt x="16" y="47"/>
                    </a:lnTo>
                    <a:lnTo>
                      <a:pt x="20" y="43"/>
                    </a:lnTo>
                    <a:lnTo>
                      <a:pt x="24" y="40"/>
                    </a:lnTo>
                    <a:lnTo>
                      <a:pt x="27" y="37"/>
                    </a:lnTo>
                    <a:lnTo>
                      <a:pt x="28" y="32"/>
                    </a:lnTo>
                    <a:lnTo>
                      <a:pt x="29" y="28"/>
                    </a:lnTo>
                    <a:lnTo>
                      <a:pt x="29" y="23"/>
                    </a:lnTo>
                    <a:lnTo>
                      <a:pt x="28" y="18"/>
                    </a:lnTo>
                    <a:lnTo>
                      <a:pt x="27" y="15"/>
                    </a:lnTo>
                    <a:lnTo>
                      <a:pt x="25" y="10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86040" y="31975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16" y="0"/>
                    </a:moveTo>
                    <a:lnTo>
                      <a:pt x="11" y="3"/>
                    </a:lnTo>
                    <a:lnTo>
                      <a:pt x="8" y="7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10" y="43"/>
                    </a:lnTo>
                    <a:lnTo>
                      <a:pt x="14" y="46"/>
                    </a:lnTo>
                    <a:lnTo>
                      <a:pt x="19" y="47"/>
                    </a:lnTo>
                    <a:lnTo>
                      <a:pt x="24" y="48"/>
                    </a:lnTo>
                    <a:lnTo>
                      <a:pt x="28" y="47"/>
                    </a:lnTo>
                    <a:lnTo>
                      <a:pt x="33" y="4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9180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0" y="0"/>
                    </a:moveTo>
                    <a:lnTo>
                      <a:pt x="110" y="6"/>
                    </a:lnTo>
                    <a:lnTo>
                      <a:pt x="108" y="13"/>
                    </a:lnTo>
                    <a:lnTo>
                      <a:pt x="107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4" y="117"/>
                    </a:lnTo>
                    <a:lnTo>
                      <a:pt x="0" y="118"/>
                    </a:lnTo>
                    <a:lnTo>
                      <a:pt x="17" y="164"/>
                    </a:lnTo>
                    <a:lnTo>
                      <a:pt x="25" y="161"/>
                    </a:lnTo>
                    <a:lnTo>
                      <a:pt x="39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5" y="74"/>
                    </a:lnTo>
                    <a:lnTo>
                      <a:pt x="144" y="58"/>
                    </a:lnTo>
                    <a:lnTo>
                      <a:pt x="151" y="41"/>
                    </a:lnTo>
                    <a:lnTo>
                      <a:pt x="155" y="31"/>
                    </a:lnTo>
                    <a:lnTo>
                      <a:pt x="156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43320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8" y="18"/>
                    </a:lnTo>
                    <a:lnTo>
                      <a:pt x="46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8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10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864840" y="307116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31" h="48">
                    <a:moveTo>
                      <a:pt x="19" y="0"/>
                    </a:moveTo>
                    <a:lnTo>
                      <a:pt x="14" y="2"/>
                    </a:lnTo>
                    <a:lnTo>
                      <a:pt x="9" y="4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4"/>
                    </a:lnTo>
                    <a:lnTo>
                      <a:pt x="5" y="37"/>
                    </a:lnTo>
                    <a:lnTo>
                      <a:pt x="8" y="41"/>
                    </a:lnTo>
                    <a:lnTo>
                      <a:pt x="11" y="45"/>
                    </a:lnTo>
                    <a:lnTo>
                      <a:pt x="15" y="46"/>
                    </a:lnTo>
                    <a:lnTo>
                      <a:pt x="20" y="47"/>
                    </a:lnTo>
                    <a:lnTo>
                      <a:pt x="25" y="48"/>
                    </a:lnTo>
                    <a:lnTo>
                      <a:pt x="31" y="4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872400" y="3053880"/>
                <a:ext cx="72000" cy="36000"/>
              </a:xfrm>
              <a:custGeom>
                <a:avLst/>
                <a:gdLst/>
                <a:ahLst/>
                <a:rect l="l" t="t" r="r" b="b"/>
                <a:pathLst>
                  <a:path w="188" h="91">
                    <a:moveTo>
                      <a:pt x="176" y="0"/>
                    </a:moveTo>
                    <a:lnTo>
                      <a:pt x="0" y="44"/>
                    </a:lnTo>
                    <a:lnTo>
                      <a:pt x="12" y="91"/>
                    </a:lnTo>
                    <a:lnTo>
                      <a:pt x="188" y="47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938640" y="305388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2" y="48"/>
                    </a:moveTo>
                    <a:lnTo>
                      <a:pt x="17" y="47"/>
                    </a:lnTo>
                    <a:lnTo>
                      <a:pt x="22" y="43"/>
                    </a:lnTo>
                    <a:lnTo>
                      <a:pt x="25" y="40"/>
                    </a:lnTo>
                    <a:lnTo>
                      <a:pt x="28" y="37"/>
                    </a:lnTo>
                    <a:lnTo>
                      <a:pt x="29" y="32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29" y="18"/>
                    </a:lnTo>
                    <a:lnTo>
                      <a:pt x="28" y="15"/>
                    </a:lnTo>
                    <a:lnTo>
                      <a:pt x="25" y="10"/>
                    </a:lnTo>
                    <a:lnTo>
                      <a:pt x="23" y="7"/>
                    </a:lnTo>
                    <a:lnTo>
                      <a:pt x="19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876000" y="319752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15" y="0"/>
                    </a:moveTo>
                    <a:lnTo>
                      <a:pt x="10" y="3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2" y="32"/>
                    </a:lnTo>
                    <a:lnTo>
                      <a:pt x="4" y="36"/>
                    </a:lnTo>
                    <a:lnTo>
                      <a:pt x="7" y="40"/>
                    </a:lnTo>
                    <a:lnTo>
                      <a:pt x="9" y="43"/>
                    </a:lnTo>
                    <a:lnTo>
                      <a:pt x="14" y="46"/>
                    </a:lnTo>
                    <a:lnTo>
                      <a:pt x="18" y="47"/>
                    </a:lnTo>
                    <a:lnTo>
                      <a:pt x="23" y="48"/>
                    </a:lnTo>
                    <a:lnTo>
                      <a:pt x="28" y="47"/>
                    </a:lnTo>
                    <a:lnTo>
                      <a:pt x="34" y="4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881760" y="3152160"/>
                <a:ext cx="60480" cy="62640"/>
              </a:xfrm>
              <a:custGeom>
                <a:avLst/>
                <a:gdLst/>
                <a:ahLst/>
                <a:rect l="l" t="t" r="r" b="b"/>
                <a:pathLst>
                  <a:path w="159" h="164">
                    <a:moveTo>
                      <a:pt x="111" y="0"/>
                    </a:moveTo>
                    <a:lnTo>
                      <a:pt x="110" y="6"/>
                    </a:lnTo>
                    <a:lnTo>
                      <a:pt x="110" y="13"/>
                    </a:lnTo>
                    <a:lnTo>
                      <a:pt x="108" y="19"/>
                    </a:lnTo>
                    <a:lnTo>
                      <a:pt x="106" y="24"/>
                    </a:lnTo>
                    <a:lnTo>
                      <a:pt x="101" y="36"/>
                    </a:lnTo>
                    <a:lnTo>
                      <a:pt x="95" y="48"/>
                    </a:lnTo>
                    <a:lnTo>
                      <a:pt x="86" y="58"/>
                    </a:lnTo>
                    <a:lnTo>
                      <a:pt x="78" y="68"/>
                    </a:lnTo>
                    <a:lnTo>
                      <a:pt x="68" y="78"/>
                    </a:lnTo>
                    <a:lnTo>
                      <a:pt x="58" y="85"/>
                    </a:lnTo>
                    <a:lnTo>
                      <a:pt x="36" y="100"/>
                    </a:lnTo>
                    <a:lnTo>
                      <a:pt x="17" y="111"/>
                    </a:lnTo>
                    <a:lnTo>
                      <a:pt x="5" y="117"/>
                    </a:lnTo>
                    <a:lnTo>
                      <a:pt x="0" y="118"/>
                    </a:lnTo>
                    <a:lnTo>
                      <a:pt x="19" y="164"/>
                    </a:lnTo>
                    <a:lnTo>
                      <a:pt x="25" y="161"/>
                    </a:lnTo>
                    <a:lnTo>
                      <a:pt x="41" y="154"/>
                    </a:lnTo>
                    <a:lnTo>
                      <a:pt x="62" y="142"/>
                    </a:lnTo>
                    <a:lnTo>
                      <a:pt x="86" y="126"/>
                    </a:lnTo>
                    <a:lnTo>
                      <a:pt x="100" y="115"/>
                    </a:lnTo>
                    <a:lnTo>
                      <a:pt x="112" y="102"/>
                    </a:lnTo>
                    <a:lnTo>
                      <a:pt x="124" y="89"/>
                    </a:lnTo>
                    <a:lnTo>
                      <a:pt x="136" y="74"/>
                    </a:lnTo>
                    <a:lnTo>
                      <a:pt x="145" y="58"/>
                    </a:lnTo>
                    <a:lnTo>
                      <a:pt x="152" y="41"/>
                    </a:lnTo>
                    <a:lnTo>
                      <a:pt x="155" y="31"/>
                    </a:lnTo>
                    <a:lnTo>
                      <a:pt x="158" y="21"/>
                    </a:lnTo>
                    <a:lnTo>
                      <a:pt x="159" y="10"/>
                    </a:lnTo>
                    <a:lnTo>
                      <a:pt x="159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923520" y="31428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8" y="18"/>
                    </a:lnTo>
                    <a:lnTo>
                      <a:pt x="45" y="13"/>
                    </a:lnTo>
                    <a:lnTo>
                      <a:pt x="44" y="10"/>
                    </a:lnTo>
                    <a:lnTo>
                      <a:pt x="41" y="6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3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570640" y="355176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43" y="9"/>
                    </a:moveTo>
                    <a:lnTo>
                      <a:pt x="38" y="5"/>
                    </a:lnTo>
                    <a:lnTo>
                      <a:pt x="34" y="3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9" y="8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3" y="34"/>
                    </a:lnTo>
                    <a:lnTo>
                      <a:pt x="4" y="37"/>
                    </a:lnTo>
                    <a:lnTo>
                      <a:pt x="8" y="42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572800" y="3555360"/>
                <a:ext cx="65880" cy="320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6"/>
                    </a:lnTo>
                    <a:lnTo>
                      <a:pt x="129" y="30"/>
                    </a:lnTo>
                    <a:lnTo>
                      <a:pt x="125" y="32"/>
                    </a:lnTo>
                    <a:lnTo>
                      <a:pt x="121" y="33"/>
                    </a:lnTo>
                    <a:lnTo>
                      <a:pt x="119" y="34"/>
                    </a:lnTo>
                    <a:lnTo>
                      <a:pt x="115" y="36"/>
                    </a:lnTo>
                    <a:lnTo>
                      <a:pt x="113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3" y="36"/>
                    </a:lnTo>
                    <a:lnTo>
                      <a:pt x="85" y="33"/>
                    </a:lnTo>
                    <a:lnTo>
                      <a:pt x="77" y="30"/>
                    </a:lnTo>
                    <a:lnTo>
                      <a:pt x="60" y="20"/>
                    </a:lnTo>
                    <a:lnTo>
                      <a:pt x="46" y="10"/>
                    </a:lnTo>
                    <a:lnTo>
                      <a:pt x="38" y="3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8"/>
                    </a:lnTo>
                    <a:lnTo>
                      <a:pt x="34" y="60"/>
                    </a:lnTo>
                    <a:lnTo>
                      <a:pt x="55" y="73"/>
                    </a:lnTo>
                    <a:lnTo>
                      <a:pt x="69" y="79"/>
                    </a:lnTo>
                    <a:lnTo>
                      <a:pt x="82" y="82"/>
                    </a:lnTo>
                    <a:lnTo>
                      <a:pt x="97" y="85"/>
                    </a:lnTo>
                    <a:lnTo>
                      <a:pt x="112" y="86"/>
                    </a:lnTo>
                    <a:lnTo>
                      <a:pt x="120" y="85"/>
                    </a:lnTo>
                    <a:lnTo>
                      <a:pt x="129" y="82"/>
                    </a:lnTo>
                    <a:lnTo>
                      <a:pt x="136" y="80"/>
                    </a:lnTo>
                    <a:lnTo>
                      <a:pt x="145" y="76"/>
                    </a:lnTo>
                    <a:lnTo>
                      <a:pt x="152" y="73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3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6253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7" y="41"/>
                    </a:moveTo>
                    <a:lnTo>
                      <a:pt x="41" y="36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1"/>
                    </a:lnTo>
                    <a:lnTo>
                      <a:pt x="42" y="18"/>
                    </a:lnTo>
                    <a:lnTo>
                      <a:pt x="40" y="14"/>
                    </a:lnTo>
                    <a:lnTo>
                      <a:pt x="37" y="10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475960" y="35593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41" y="9"/>
                    </a:move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477760" y="356148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73" h="86">
                    <a:moveTo>
                      <a:pt x="136" y="22"/>
                    </a:moveTo>
                    <a:lnTo>
                      <a:pt x="133" y="25"/>
                    </a:lnTo>
                    <a:lnTo>
                      <a:pt x="129" y="29"/>
                    </a:lnTo>
                    <a:lnTo>
                      <a:pt x="125" y="31"/>
                    </a:lnTo>
                    <a:lnTo>
                      <a:pt x="123" y="33"/>
                    </a:lnTo>
                    <a:lnTo>
                      <a:pt x="119" y="35"/>
                    </a:lnTo>
                    <a:lnTo>
                      <a:pt x="115" y="35"/>
                    </a:lnTo>
                    <a:lnTo>
                      <a:pt x="113" y="36"/>
                    </a:lnTo>
                    <a:lnTo>
                      <a:pt x="110" y="36"/>
                    </a:lnTo>
                    <a:lnTo>
                      <a:pt x="102" y="36"/>
                    </a:lnTo>
                    <a:lnTo>
                      <a:pt x="93" y="35"/>
                    </a:lnTo>
                    <a:lnTo>
                      <a:pt x="85" y="33"/>
                    </a:lnTo>
                    <a:lnTo>
                      <a:pt x="77" y="29"/>
                    </a:lnTo>
                    <a:lnTo>
                      <a:pt x="60" y="19"/>
                    </a:lnTo>
                    <a:lnTo>
                      <a:pt x="47" y="9"/>
                    </a:lnTo>
                    <a:lnTo>
                      <a:pt x="38" y="2"/>
                    </a:lnTo>
                    <a:lnTo>
                      <a:pt x="35" y="0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7" y="47"/>
                    </a:lnTo>
                    <a:lnTo>
                      <a:pt x="34" y="60"/>
                    </a:lnTo>
                    <a:lnTo>
                      <a:pt x="55" y="72"/>
                    </a:lnTo>
                    <a:lnTo>
                      <a:pt x="69" y="78"/>
                    </a:lnTo>
                    <a:lnTo>
                      <a:pt x="82" y="82"/>
                    </a:lnTo>
                    <a:lnTo>
                      <a:pt x="97" y="86"/>
                    </a:lnTo>
                    <a:lnTo>
                      <a:pt x="112" y="86"/>
                    </a:lnTo>
                    <a:lnTo>
                      <a:pt x="120" y="84"/>
                    </a:lnTo>
                    <a:lnTo>
                      <a:pt x="129" y="83"/>
                    </a:lnTo>
                    <a:lnTo>
                      <a:pt x="136" y="79"/>
                    </a:lnTo>
                    <a:lnTo>
                      <a:pt x="145" y="76"/>
                    </a:lnTo>
                    <a:lnTo>
                      <a:pt x="152" y="72"/>
                    </a:lnTo>
                    <a:lnTo>
                      <a:pt x="160" y="66"/>
                    </a:lnTo>
                    <a:lnTo>
                      <a:pt x="167" y="60"/>
                    </a:lnTo>
                    <a:lnTo>
                      <a:pt x="173" y="52"/>
                    </a:lnTo>
                    <a:lnTo>
                      <a:pt x="1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528880" y="3566880"/>
                <a:ext cx="16920" cy="14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7" y="40"/>
                    </a:moveTo>
                    <a:lnTo>
                      <a:pt x="41" y="35"/>
                    </a:lnTo>
                    <a:lnTo>
                      <a:pt x="42" y="31"/>
                    </a:lnTo>
                    <a:lnTo>
                      <a:pt x="43" y="26"/>
                    </a:lnTo>
                    <a:lnTo>
                      <a:pt x="43" y="22"/>
                    </a:lnTo>
                    <a:lnTo>
                      <a:pt x="42" y="17"/>
                    </a:lnTo>
                    <a:lnTo>
                      <a:pt x="40" y="13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3"/>
                    </a:lnTo>
                    <a:lnTo>
                      <a:pt x="26" y="2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9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37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549760" y="3568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49" y="24"/>
                    </a:moveTo>
                    <a:lnTo>
                      <a:pt x="49" y="19"/>
                    </a:lnTo>
                    <a:lnTo>
                      <a:pt x="47" y="14"/>
                    </a:lnTo>
                    <a:lnTo>
                      <a:pt x="44" y="10"/>
                    </a:lnTo>
                    <a:lnTo>
                      <a:pt x="42" y="6"/>
                    </a:lnTo>
                    <a:lnTo>
                      <a:pt x="38" y="3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5" y="10"/>
                    </a:lnTo>
                    <a:lnTo>
                      <a:pt x="2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4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549760" y="3578040"/>
                <a:ext cx="18720" cy="75960"/>
              </a:xfrm>
              <a:prstGeom prst="rect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549760" y="365400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49" h="25">
                    <a:moveTo>
                      <a:pt x="0" y="0"/>
                    </a:moveTo>
                    <a:lnTo>
                      <a:pt x="1" y="6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9" y="18"/>
                    </a:lnTo>
                    <a:lnTo>
                      <a:pt x="12" y="21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3"/>
                    </a:lnTo>
                    <a:lnTo>
                      <a:pt x="38" y="21"/>
                    </a:lnTo>
                    <a:lnTo>
                      <a:pt x="42" y="18"/>
                    </a:lnTo>
                    <a:lnTo>
                      <a:pt x="44" y="15"/>
                    </a:lnTo>
                    <a:lnTo>
                      <a:pt x="47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092200" y="2792160"/>
                <a:ext cx="256680" cy="119160"/>
              </a:xfrm>
              <a:custGeom>
                <a:avLst/>
                <a:gdLst/>
                <a:ahLst/>
                <a:rect l="l" t="t" r="r" b="b"/>
                <a:pathLst>
                  <a:path w="679" h="315">
                    <a:moveTo>
                      <a:pt x="2" y="280"/>
                    </a:moveTo>
                    <a:lnTo>
                      <a:pt x="0" y="245"/>
                    </a:lnTo>
                    <a:lnTo>
                      <a:pt x="1" y="210"/>
                    </a:lnTo>
                    <a:lnTo>
                      <a:pt x="7" y="179"/>
                    </a:lnTo>
                    <a:lnTo>
                      <a:pt x="17" y="151"/>
                    </a:lnTo>
                    <a:lnTo>
                      <a:pt x="30" y="125"/>
                    </a:lnTo>
                    <a:lnTo>
                      <a:pt x="48" y="102"/>
                    </a:lnTo>
                    <a:lnTo>
                      <a:pt x="67" y="80"/>
                    </a:lnTo>
                    <a:lnTo>
                      <a:pt x="91" y="61"/>
                    </a:lnTo>
                    <a:lnTo>
                      <a:pt x="115" y="45"/>
                    </a:lnTo>
                    <a:lnTo>
                      <a:pt x="142" y="32"/>
                    </a:lnTo>
                    <a:lnTo>
                      <a:pt x="172" y="21"/>
                    </a:lnTo>
                    <a:lnTo>
                      <a:pt x="203" y="12"/>
                    </a:lnTo>
                    <a:lnTo>
                      <a:pt x="233" y="5"/>
                    </a:lnTo>
                    <a:lnTo>
                      <a:pt x="267" y="1"/>
                    </a:lnTo>
                    <a:lnTo>
                      <a:pt x="300" y="0"/>
                    </a:lnTo>
                    <a:lnTo>
                      <a:pt x="334" y="0"/>
                    </a:lnTo>
                    <a:lnTo>
                      <a:pt x="367" y="2"/>
                    </a:lnTo>
                    <a:lnTo>
                      <a:pt x="401" y="8"/>
                    </a:lnTo>
                    <a:lnTo>
                      <a:pt x="434" y="16"/>
                    </a:lnTo>
                    <a:lnTo>
                      <a:pt x="466" y="26"/>
                    </a:lnTo>
                    <a:lnTo>
                      <a:pt x="497" y="38"/>
                    </a:lnTo>
                    <a:lnTo>
                      <a:pt x="526" y="51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4" y="108"/>
                    </a:lnTo>
                    <a:lnTo>
                      <a:pt x="625" y="131"/>
                    </a:lnTo>
                    <a:lnTo>
                      <a:pt x="643" y="156"/>
                    </a:lnTo>
                    <a:lnTo>
                      <a:pt x="657" y="184"/>
                    </a:lnTo>
                    <a:lnTo>
                      <a:pt x="669" y="214"/>
                    </a:lnTo>
                    <a:lnTo>
                      <a:pt x="675" y="246"/>
                    </a:lnTo>
                    <a:lnTo>
                      <a:pt x="679" y="279"/>
                    </a:lnTo>
                    <a:lnTo>
                      <a:pt x="677" y="315"/>
                    </a:lnTo>
                    <a:lnTo>
                      <a:pt x="657" y="300"/>
                    </a:lnTo>
                    <a:lnTo>
                      <a:pt x="636" y="286"/>
                    </a:lnTo>
                    <a:lnTo>
                      <a:pt x="615" y="273"/>
                    </a:lnTo>
                    <a:lnTo>
                      <a:pt x="594" y="262"/>
                    </a:lnTo>
                    <a:lnTo>
                      <a:pt x="572" y="251"/>
                    </a:lnTo>
                    <a:lnTo>
                      <a:pt x="551" y="242"/>
                    </a:lnTo>
                    <a:lnTo>
                      <a:pt x="530" y="233"/>
                    </a:lnTo>
                    <a:lnTo>
                      <a:pt x="509" y="226"/>
                    </a:lnTo>
                    <a:lnTo>
                      <a:pt x="488" y="221"/>
                    </a:lnTo>
                    <a:lnTo>
                      <a:pt x="467" y="215"/>
                    </a:lnTo>
                    <a:lnTo>
                      <a:pt x="445" y="211"/>
                    </a:lnTo>
                    <a:lnTo>
                      <a:pt x="424" y="208"/>
                    </a:lnTo>
                    <a:lnTo>
                      <a:pt x="403" y="205"/>
                    </a:lnTo>
                    <a:lnTo>
                      <a:pt x="382" y="204"/>
                    </a:lnTo>
                    <a:lnTo>
                      <a:pt x="361" y="204"/>
                    </a:lnTo>
                    <a:lnTo>
                      <a:pt x="340" y="204"/>
                    </a:lnTo>
                    <a:lnTo>
                      <a:pt x="318" y="204"/>
                    </a:lnTo>
                    <a:lnTo>
                      <a:pt x="297" y="206"/>
                    </a:lnTo>
                    <a:lnTo>
                      <a:pt x="276" y="208"/>
                    </a:lnTo>
                    <a:lnTo>
                      <a:pt x="256" y="211"/>
                    </a:lnTo>
                    <a:lnTo>
                      <a:pt x="214" y="219"/>
                    </a:lnTo>
                    <a:lnTo>
                      <a:pt x="171" y="227"/>
                    </a:lnTo>
                    <a:lnTo>
                      <a:pt x="129" y="238"/>
                    </a:lnTo>
                    <a:lnTo>
                      <a:pt x="87" y="252"/>
                    </a:lnTo>
                    <a:lnTo>
                      <a:pt x="44" y="265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dd8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086080" y="2786760"/>
                <a:ext cx="266760" cy="130320"/>
              </a:xfrm>
              <a:custGeom>
                <a:avLst/>
                <a:gdLst/>
                <a:ahLst/>
                <a:rect l="l" t="t" r="r" b="b"/>
                <a:pathLst>
                  <a:path w="707" h="344">
                    <a:moveTo>
                      <a:pt x="684" y="341"/>
                    </a:moveTo>
                    <a:lnTo>
                      <a:pt x="706" y="331"/>
                    </a:lnTo>
                    <a:lnTo>
                      <a:pt x="707" y="312"/>
                    </a:lnTo>
                    <a:lnTo>
                      <a:pt x="707" y="294"/>
                    </a:lnTo>
                    <a:lnTo>
                      <a:pt x="706" y="276"/>
                    </a:lnTo>
                    <a:lnTo>
                      <a:pt x="705" y="258"/>
                    </a:lnTo>
                    <a:lnTo>
                      <a:pt x="701" y="241"/>
                    </a:lnTo>
                    <a:lnTo>
                      <a:pt x="696" y="224"/>
                    </a:lnTo>
                    <a:lnTo>
                      <a:pt x="691" y="209"/>
                    </a:lnTo>
                    <a:lnTo>
                      <a:pt x="685" y="193"/>
                    </a:lnTo>
                    <a:lnTo>
                      <a:pt x="678" y="178"/>
                    </a:lnTo>
                    <a:lnTo>
                      <a:pt x="669" y="164"/>
                    </a:lnTo>
                    <a:lnTo>
                      <a:pt x="660" y="150"/>
                    </a:lnTo>
                    <a:lnTo>
                      <a:pt x="651" y="138"/>
                    </a:lnTo>
                    <a:lnTo>
                      <a:pt x="640" y="125"/>
                    </a:lnTo>
                    <a:lnTo>
                      <a:pt x="628" y="113"/>
                    </a:lnTo>
                    <a:lnTo>
                      <a:pt x="616" y="102"/>
                    </a:lnTo>
                    <a:lnTo>
                      <a:pt x="604" y="91"/>
                    </a:lnTo>
                    <a:lnTo>
                      <a:pt x="590" y="81"/>
                    </a:lnTo>
                    <a:lnTo>
                      <a:pt x="577" y="71"/>
                    </a:lnTo>
                    <a:lnTo>
                      <a:pt x="563" y="63"/>
                    </a:lnTo>
                    <a:lnTo>
                      <a:pt x="549" y="54"/>
                    </a:lnTo>
                    <a:lnTo>
                      <a:pt x="533" y="47"/>
                    </a:lnTo>
                    <a:lnTo>
                      <a:pt x="518" y="39"/>
                    </a:lnTo>
                    <a:lnTo>
                      <a:pt x="502" y="33"/>
                    </a:lnTo>
                    <a:lnTo>
                      <a:pt x="486" y="27"/>
                    </a:lnTo>
                    <a:lnTo>
                      <a:pt x="453" y="17"/>
                    </a:lnTo>
                    <a:lnTo>
                      <a:pt x="418" y="10"/>
                    </a:lnTo>
                    <a:lnTo>
                      <a:pt x="384" y="4"/>
                    </a:lnTo>
                    <a:lnTo>
                      <a:pt x="349" y="1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7" y="6"/>
                    </a:lnTo>
                    <a:lnTo>
                      <a:pt x="230" y="10"/>
                    </a:lnTo>
                    <a:lnTo>
                      <a:pt x="214" y="14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7" y="28"/>
                    </a:lnTo>
                    <a:lnTo>
                      <a:pt x="152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09" y="57"/>
                    </a:lnTo>
                    <a:lnTo>
                      <a:pt x="97" y="65"/>
                    </a:lnTo>
                    <a:lnTo>
                      <a:pt x="85" y="75"/>
                    </a:lnTo>
                    <a:lnTo>
                      <a:pt x="74" y="85"/>
                    </a:lnTo>
                    <a:lnTo>
                      <a:pt x="63" y="96"/>
                    </a:lnTo>
                    <a:lnTo>
                      <a:pt x="52" y="107"/>
                    </a:lnTo>
                    <a:lnTo>
                      <a:pt x="43" y="119"/>
                    </a:lnTo>
                    <a:lnTo>
                      <a:pt x="34" y="133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1"/>
                    </a:lnTo>
                    <a:lnTo>
                      <a:pt x="5" y="207"/>
                    </a:lnTo>
                    <a:lnTo>
                      <a:pt x="2" y="224"/>
                    </a:lnTo>
                    <a:lnTo>
                      <a:pt x="1" y="241"/>
                    </a:lnTo>
                    <a:lnTo>
                      <a:pt x="0" y="260"/>
                    </a:lnTo>
                    <a:lnTo>
                      <a:pt x="1" y="278"/>
                    </a:lnTo>
                    <a:lnTo>
                      <a:pt x="4" y="296"/>
                    </a:lnTo>
                    <a:lnTo>
                      <a:pt x="31" y="294"/>
                    </a:lnTo>
                    <a:lnTo>
                      <a:pt x="29" y="276"/>
                    </a:lnTo>
                    <a:lnTo>
                      <a:pt x="28" y="260"/>
                    </a:lnTo>
                    <a:lnTo>
                      <a:pt x="28" y="242"/>
                    </a:lnTo>
                    <a:lnTo>
                      <a:pt x="29" y="228"/>
                    </a:lnTo>
                    <a:lnTo>
                      <a:pt x="32" y="213"/>
                    </a:lnTo>
                    <a:lnTo>
                      <a:pt x="36" y="198"/>
                    </a:lnTo>
                    <a:lnTo>
                      <a:pt x="39" y="185"/>
                    </a:lnTo>
                    <a:lnTo>
                      <a:pt x="45" y="171"/>
                    </a:lnTo>
                    <a:lnTo>
                      <a:pt x="50" y="159"/>
                    </a:lnTo>
                    <a:lnTo>
                      <a:pt x="58" y="148"/>
                    </a:lnTo>
                    <a:lnTo>
                      <a:pt x="65" y="135"/>
                    </a:lnTo>
                    <a:lnTo>
                      <a:pt x="74" y="125"/>
                    </a:lnTo>
                    <a:lnTo>
                      <a:pt x="82" y="116"/>
                    </a:lnTo>
                    <a:lnTo>
                      <a:pt x="92" y="106"/>
                    </a:lnTo>
                    <a:lnTo>
                      <a:pt x="102" y="96"/>
                    </a:lnTo>
                    <a:lnTo>
                      <a:pt x="113" y="89"/>
                    </a:lnTo>
                    <a:lnTo>
                      <a:pt x="125" y="80"/>
                    </a:lnTo>
                    <a:lnTo>
                      <a:pt x="138" y="73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4"/>
                    </a:lnTo>
                    <a:lnTo>
                      <a:pt x="191" y="49"/>
                    </a:lnTo>
                    <a:lnTo>
                      <a:pt x="205" y="44"/>
                    </a:lnTo>
                    <a:lnTo>
                      <a:pt x="220" y="41"/>
                    </a:lnTo>
                    <a:lnTo>
                      <a:pt x="236" y="37"/>
                    </a:lnTo>
                    <a:lnTo>
                      <a:pt x="251" y="34"/>
                    </a:lnTo>
                    <a:lnTo>
                      <a:pt x="267" y="32"/>
                    </a:lnTo>
                    <a:lnTo>
                      <a:pt x="283" y="30"/>
                    </a:lnTo>
                    <a:lnTo>
                      <a:pt x="315" y="28"/>
                    </a:lnTo>
                    <a:lnTo>
                      <a:pt x="348" y="28"/>
                    </a:lnTo>
                    <a:lnTo>
                      <a:pt x="381" y="32"/>
                    </a:lnTo>
                    <a:lnTo>
                      <a:pt x="413" y="37"/>
                    </a:lnTo>
                    <a:lnTo>
                      <a:pt x="445" y="44"/>
                    </a:lnTo>
                    <a:lnTo>
                      <a:pt x="477" y="54"/>
                    </a:lnTo>
                    <a:lnTo>
                      <a:pt x="492" y="59"/>
                    </a:lnTo>
                    <a:lnTo>
                      <a:pt x="507" y="65"/>
                    </a:lnTo>
                    <a:lnTo>
                      <a:pt x="521" y="71"/>
                    </a:lnTo>
                    <a:lnTo>
                      <a:pt x="535" y="79"/>
                    </a:lnTo>
                    <a:lnTo>
                      <a:pt x="549" y="86"/>
                    </a:lnTo>
                    <a:lnTo>
                      <a:pt x="562" y="95"/>
                    </a:lnTo>
                    <a:lnTo>
                      <a:pt x="574" y="103"/>
                    </a:lnTo>
                    <a:lnTo>
                      <a:pt x="587" y="113"/>
                    </a:lnTo>
                    <a:lnTo>
                      <a:pt x="598" y="123"/>
                    </a:lnTo>
                    <a:lnTo>
                      <a:pt x="609" y="133"/>
                    </a:lnTo>
                    <a:lnTo>
                      <a:pt x="619" y="144"/>
                    </a:lnTo>
                    <a:lnTo>
                      <a:pt x="628" y="155"/>
                    </a:lnTo>
                    <a:lnTo>
                      <a:pt x="637" y="166"/>
                    </a:lnTo>
                    <a:lnTo>
                      <a:pt x="646" y="178"/>
                    </a:lnTo>
                    <a:lnTo>
                      <a:pt x="653" y="192"/>
                    </a:lnTo>
                    <a:lnTo>
                      <a:pt x="659" y="204"/>
                    </a:lnTo>
                    <a:lnTo>
                      <a:pt x="665" y="218"/>
                    </a:lnTo>
                    <a:lnTo>
                      <a:pt x="670" y="232"/>
                    </a:lnTo>
                    <a:lnTo>
                      <a:pt x="674" y="247"/>
                    </a:lnTo>
                    <a:lnTo>
                      <a:pt x="676" y="262"/>
                    </a:lnTo>
                    <a:lnTo>
                      <a:pt x="679" y="278"/>
                    </a:lnTo>
                    <a:lnTo>
                      <a:pt x="680" y="294"/>
                    </a:lnTo>
                    <a:lnTo>
                      <a:pt x="680" y="311"/>
                    </a:lnTo>
                    <a:lnTo>
                      <a:pt x="679" y="328"/>
                    </a:lnTo>
                    <a:lnTo>
                      <a:pt x="701" y="319"/>
                    </a:lnTo>
                    <a:lnTo>
                      <a:pt x="679" y="328"/>
                    </a:lnTo>
                    <a:lnTo>
                      <a:pt x="679" y="332"/>
                    </a:lnTo>
                    <a:lnTo>
                      <a:pt x="679" y="335"/>
                    </a:lnTo>
                    <a:lnTo>
                      <a:pt x="680" y="337"/>
                    </a:lnTo>
                    <a:lnTo>
                      <a:pt x="683" y="339"/>
                    </a:lnTo>
                    <a:lnTo>
                      <a:pt x="686" y="342"/>
                    </a:lnTo>
                    <a:lnTo>
                      <a:pt x="691" y="344"/>
                    </a:lnTo>
                    <a:lnTo>
                      <a:pt x="696" y="343"/>
                    </a:lnTo>
                    <a:lnTo>
                      <a:pt x="701" y="341"/>
                    </a:lnTo>
                    <a:lnTo>
                      <a:pt x="705" y="337"/>
                    </a:lnTo>
                    <a:lnTo>
                      <a:pt x="706" y="331"/>
                    </a:lnTo>
                    <a:lnTo>
                      <a:pt x="684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088240" y="2864520"/>
                <a:ext cx="262800" cy="50760"/>
              </a:xfrm>
              <a:custGeom>
                <a:avLst/>
                <a:gdLst/>
                <a:ahLst/>
                <a:rect l="l" t="t" r="r" b="b"/>
                <a:pathLst>
                  <a:path w="697" h="137">
                    <a:moveTo>
                      <a:pt x="0" y="92"/>
                    </a:moveTo>
                    <a:lnTo>
                      <a:pt x="18" y="105"/>
                    </a:lnTo>
                    <a:lnTo>
                      <a:pt x="60" y="90"/>
                    </a:lnTo>
                    <a:lnTo>
                      <a:pt x="102" y="75"/>
                    </a:lnTo>
                    <a:lnTo>
                      <a:pt x="144" y="63"/>
                    </a:lnTo>
                    <a:lnTo>
                      <a:pt x="185" y="52"/>
                    </a:lnTo>
                    <a:lnTo>
                      <a:pt x="227" y="43"/>
                    </a:lnTo>
                    <a:lnTo>
                      <a:pt x="269" y="36"/>
                    </a:lnTo>
                    <a:lnTo>
                      <a:pt x="289" y="33"/>
                    </a:lnTo>
                    <a:lnTo>
                      <a:pt x="310" y="31"/>
                    </a:lnTo>
                    <a:lnTo>
                      <a:pt x="331" y="30"/>
                    </a:lnTo>
                    <a:lnTo>
                      <a:pt x="351" y="28"/>
                    </a:lnTo>
                    <a:lnTo>
                      <a:pt x="372" y="28"/>
                    </a:lnTo>
                    <a:lnTo>
                      <a:pt x="392" y="30"/>
                    </a:lnTo>
                    <a:lnTo>
                      <a:pt x="413" y="31"/>
                    </a:lnTo>
                    <a:lnTo>
                      <a:pt x="434" y="33"/>
                    </a:lnTo>
                    <a:lnTo>
                      <a:pt x="454" y="36"/>
                    </a:lnTo>
                    <a:lnTo>
                      <a:pt x="474" y="40"/>
                    </a:lnTo>
                    <a:lnTo>
                      <a:pt x="495" y="44"/>
                    </a:lnTo>
                    <a:lnTo>
                      <a:pt x="515" y="51"/>
                    </a:lnTo>
                    <a:lnTo>
                      <a:pt x="536" y="58"/>
                    </a:lnTo>
                    <a:lnTo>
                      <a:pt x="557" y="65"/>
                    </a:lnTo>
                    <a:lnTo>
                      <a:pt x="578" y="75"/>
                    </a:lnTo>
                    <a:lnTo>
                      <a:pt x="597" y="85"/>
                    </a:lnTo>
                    <a:lnTo>
                      <a:pt x="618" y="96"/>
                    </a:lnTo>
                    <a:lnTo>
                      <a:pt x="639" y="108"/>
                    </a:lnTo>
                    <a:lnTo>
                      <a:pt x="660" y="122"/>
                    </a:lnTo>
                    <a:lnTo>
                      <a:pt x="680" y="137"/>
                    </a:lnTo>
                    <a:lnTo>
                      <a:pt x="697" y="115"/>
                    </a:lnTo>
                    <a:lnTo>
                      <a:pt x="675" y="100"/>
                    </a:lnTo>
                    <a:lnTo>
                      <a:pt x="654" y="85"/>
                    </a:lnTo>
                    <a:lnTo>
                      <a:pt x="632" y="72"/>
                    </a:lnTo>
                    <a:lnTo>
                      <a:pt x="611" y="60"/>
                    </a:lnTo>
                    <a:lnTo>
                      <a:pt x="589" y="49"/>
                    </a:lnTo>
                    <a:lnTo>
                      <a:pt x="567" y="40"/>
                    </a:lnTo>
                    <a:lnTo>
                      <a:pt x="546" y="32"/>
                    </a:lnTo>
                    <a:lnTo>
                      <a:pt x="524" y="25"/>
                    </a:lnTo>
                    <a:lnTo>
                      <a:pt x="503" y="19"/>
                    </a:lnTo>
                    <a:lnTo>
                      <a:pt x="481" y="12"/>
                    </a:lnTo>
                    <a:lnTo>
                      <a:pt x="458" y="9"/>
                    </a:lnTo>
                    <a:lnTo>
                      <a:pt x="438" y="5"/>
                    </a:lnTo>
                    <a:lnTo>
                      <a:pt x="415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50" y="0"/>
                    </a:lnTo>
                    <a:lnTo>
                      <a:pt x="329" y="1"/>
                    </a:lnTo>
                    <a:lnTo>
                      <a:pt x="307" y="3"/>
                    </a:lnTo>
                    <a:lnTo>
                      <a:pt x="286" y="5"/>
                    </a:lnTo>
                    <a:lnTo>
                      <a:pt x="264" y="8"/>
                    </a:lnTo>
                    <a:lnTo>
                      <a:pt x="221" y="15"/>
                    </a:lnTo>
                    <a:lnTo>
                      <a:pt x="179" y="25"/>
                    </a:lnTo>
                    <a:lnTo>
                      <a:pt x="136" y="36"/>
                    </a:lnTo>
                    <a:lnTo>
                      <a:pt x="93" y="49"/>
                    </a:lnTo>
                    <a:lnTo>
                      <a:pt x="51" y="63"/>
                    </a:lnTo>
                    <a:lnTo>
                      <a:pt x="8" y="78"/>
                    </a:lnTo>
                    <a:lnTo>
                      <a:pt x="27" y="90"/>
                    </a:lnTo>
                    <a:lnTo>
                      <a:pt x="8" y="78"/>
                    </a:lnTo>
                    <a:lnTo>
                      <a:pt x="3" y="81"/>
                    </a:lnTo>
                    <a:lnTo>
                      <a:pt x="0" y="86"/>
                    </a:lnTo>
                    <a:lnTo>
                      <a:pt x="0" y="91"/>
                    </a:lnTo>
                    <a:lnTo>
                      <a:pt x="0" y="96"/>
                    </a:lnTo>
                    <a:lnTo>
                      <a:pt x="2" y="100"/>
                    </a:lnTo>
                    <a:lnTo>
                      <a:pt x="7" y="104"/>
                    </a:lnTo>
                    <a:lnTo>
                      <a:pt x="10" y="105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5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3926160" y="2862720"/>
                <a:ext cx="236520" cy="149400"/>
              </a:xfrm>
              <a:custGeom>
                <a:avLst/>
                <a:gdLst/>
                <a:ahLst/>
                <a:rect l="l" t="t" r="r" b="b"/>
                <a:pathLst>
                  <a:path w="625" h="395">
                    <a:moveTo>
                      <a:pt x="4" y="359"/>
                    </a:moveTo>
                    <a:lnTo>
                      <a:pt x="0" y="314"/>
                    </a:lnTo>
                    <a:lnTo>
                      <a:pt x="2" y="272"/>
                    </a:lnTo>
                    <a:lnTo>
                      <a:pt x="7" y="233"/>
                    </a:lnTo>
                    <a:lnTo>
                      <a:pt x="15" y="196"/>
                    </a:lnTo>
                    <a:lnTo>
                      <a:pt x="28" y="162"/>
                    </a:lnTo>
                    <a:lnTo>
                      <a:pt x="42" y="133"/>
                    </a:lnTo>
                    <a:lnTo>
                      <a:pt x="61" y="106"/>
                    </a:lnTo>
                    <a:lnTo>
                      <a:pt x="80" y="82"/>
                    </a:lnTo>
                    <a:lnTo>
                      <a:pt x="104" y="62"/>
                    </a:lnTo>
                    <a:lnTo>
                      <a:pt x="128" y="44"/>
                    </a:lnTo>
                    <a:lnTo>
                      <a:pt x="155" y="30"/>
                    </a:lnTo>
                    <a:lnTo>
                      <a:pt x="184" y="17"/>
                    </a:lnTo>
                    <a:lnTo>
                      <a:pt x="212" y="9"/>
                    </a:lnTo>
                    <a:lnTo>
                      <a:pt x="243" y="4"/>
                    </a:lnTo>
                    <a:lnTo>
                      <a:pt x="274" y="0"/>
                    </a:lnTo>
                    <a:lnTo>
                      <a:pt x="304" y="1"/>
                    </a:lnTo>
                    <a:lnTo>
                      <a:pt x="335" y="4"/>
                    </a:lnTo>
                    <a:lnTo>
                      <a:pt x="367" y="10"/>
                    </a:lnTo>
                    <a:lnTo>
                      <a:pt x="397" y="20"/>
                    </a:lnTo>
                    <a:lnTo>
                      <a:pt x="427" y="31"/>
                    </a:lnTo>
                    <a:lnTo>
                      <a:pt x="456" y="46"/>
                    </a:lnTo>
                    <a:lnTo>
                      <a:pt x="483" y="64"/>
                    </a:lnTo>
                    <a:lnTo>
                      <a:pt x="508" y="84"/>
                    </a:lnTo>
                    <a:lnTo>
                      <a:pt x="533" y="107"/>
                    </a:lnTo>
                    <a:lnTo>
                      <a:pt x="554" y="134"/>
                    </a:lnTo>
                    <a:lnTo>
                      <a:pt x="574" y="162"/>
                    </a:lnTo>
                    <a:lnTo>
                      <a:pt x="591" y="194"/>
                    </a:lnTo>
                    <a:lnTo>
                      <a:pt x="604" y="229"/>
                    </a:lnTo>
                    <a:lnTo>
                      <a:pt x="614" y="266"/>
                    </a:lnTo>
                    <a:lnTo>
                      <a:pt x="622" y="306"/>
                    </a:lnTo>
                    <a:lnTo>
                      <a:pt x="625" y="349"/>
                    </a:lnTo>
                    <a:lnTo>
                      <a:pt x="624" y="395"/>
                    </a:lnTo>
                    <a:lnTo>
                      <a:pt x="603" y="379"/>
                    </a:lnTo>
                    <a:lnTo>
                      <a:pt x="582" y="365"/>
                    </a:lnTo>
                    <a:lnTo>
                      <a:pt x="561" y="353"/>
                    </a:lnTo>
                    <a:lnTo>
                      <a:pt x="542" y="341"/>
                    </a:lnTo>
                    <a:lnTo>
                      <a:pt x="522" y="331"/>
                    </a:lnTo>
                    <a:lnTo>
                      <a:pt x="502" y="321"/>
                    </a:lnTo>
                    <a:lnTo>
                      <a:pt x="483" y="314"/>
                    </a:lnTo>
                    <a:lnTo>
                      <a:pt x="464" y="306"/>
                    </a:lnTo>
                    <a:lnTo>
                      <a:pt x="444" y="300"/>
                    </a:lnTo>
                    <a:lnTo>
                      <a:pt x="426" y="295"/>
                    </a:lnTo>
                    <a:lnTo>
                      <a:pt x="406" y="290"/>
                    </a:lnTo>
                    <a:lnTo>
                      <a:pt x="388" y="288"/>
                    </a:lnTo>
                    <a:lnTo>
                      <a:pt x="369" y="285"/>
                    </a:lnTo>
                    <a:lnTo>
                      <a:pt x="351" y="284"/>
                    </a:lnTo>
                    <a:lnTo>
                      <a:pt x="333" y="283"/>
                    </a:lnTo>
                    <a:lnTo>
                      <a:pt x="314" y="283"/>
                    </a:lnTo>
                    <a:lnTo>
                      <a:pt x="296" y="284"/>
                    </a:lnTo>
                    <a:lnTo>
                      <a:pt x="277" y="285"/>
                    </a:lnTo>
                    <a:lnTo>
                      <a:pt x="259" y="288"/>
                    </a:lnTo>
                    <a:lnTo>
                      <a:pt x="240" y="290"/>
                    </a:lnTo>
                    <a:lnTo>
                      <a:pt x="202" y="298"/>
                    </a:lnTo>
                    <a:lnTo>
                      <a:pt x="164" y="306"/>
                    </a:lnTo>
                    <a:lnTo>
                      <a:pt x="126" y="319"/>
                    </a:lnTo>
                    <a:lnTo>
                      <a:pt x="87" y="331"/>
                    </a:lnTo>
                    <a:lnTo>
                      <a:pt x="46" y="344"/>
                    </a:lnTo>
                    <a:lnTo>
                      <a:pt x="4" y="359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3922560" y="2856600"/>
                <a:ext cx="246240" cy="159120"/>
              </a:xfrm>
              <a:custGeom>
                <a:avLst/>
                <a:gdLst/>
                <a:ahLst/>
                <a:rect l="l" t="t" r="r" b="b"/>
                <a:pathLst>
                  <a:path w="652" h="421">
                    <a:moveTo>
                      <a:pt x="628" y="419"/>
                    </a:moveTo>
                    <a:lnTo>
                      <a:pt x="651" y="408"/>
                    </a:lnTo>
                    <a:lnTo>
                      <a:pt x="652" y="385"/>
                    </a:lnTo>
                    <a:lnTo>
                      <a:pt x="652" y="361"/>
                    </a:lnTo>
                    <a:lnTo>
                      <a:pt x="651" y="339"/>
                    </a:lnTo>
                    <a:lnTo>
                      <a:pt x="648" y="318"/>
                    </a:lnTo>
                    <a:lnTo>
                      <a:pt x="646" y="296"/>
                    </a:lnTo>
                    <a:lnTo>
                      <a:pt x="641" y="276"/>
                    </a:lnTo>
                    <a:lnTo>
                      <a:pt x="636" y="257"/>
                    </a:lnTo>
                    <a:lnTo>
                      <a:pt x="631" y="237"/>
                    </a:lnTo>
                    <a:lnTo>
                      <a:pt x="624" y="220"/>
                    </a:lnTo>
                    <a:lnTo>
                      <a:pt x="616" y="201"/>
                    </a:lnTo>
                    <a:lnTo>
                      <a:pt x="608" y="185"/>
                    </a:lnTo>
                    <a:lnTo>
                      <a:pt x="599" y="168"/>
                    </a:lnTo>
                    <a:lnTo>
                      <a:pt x="589" y="153"/>
                    </a:lnTo>
                    <a:lnTo>
                      <a:pt x="578" y="139"/>
                    </a:lnTo>
                    <a:lnTo>
                      <a:pt x="567" y="125"/>
                    </a:lnTo>
                    <a:lnTo>
                      <a:pt x="556" y="111"/>
                    </a:lnTo>
                    <a:lnTo>
                      <a:pt x="544" y="99"/>
                    </a:lnTo>
                    <a:lnTo>
                      <a:pt x="531" y="87"/>
                    </a:lnTo>
                    <a:lnTo>
                      <a:pt x="518" y="76"/>
                    </a:lnTo>
                    <a:lnTo>
                      <a:pt x="504" y="66"/>
                    </a:lnTo>
                    <a:lnTo>
                      <a:pt x="489" y="56"/>
                    </a:lnTo>
                    <a:lnTo>
                      <a:pt x="476" y="47"/>
                    </a:lnTo>
                    <a:lnTo>
                      <a:pt x="460" y="39"/>
                    </a:lnTo>
                    <a:lnTo>
                      <a:pt x="445" y="31"/>
                    </a:lnTo>
                    <a:lnTo>
                      <a:pt x="430" y="25"/>
                    </a:lnTo>
                    <a:lnTo>
                      <a:pt x="414" y="19"/>
                    </a:lnTo>
                    <a:lnTo>
                      <a:pt x="398" y="14"/>
                    </a:lnTo>
                    <a:lnTo>
                      <a:pt x="382" y="9"/>
                    </a:lnTo>
                    <a:lnTo>
                      <a:pt x="366" y="6"/>
                    </a:lnTo>
                    <a:lnTo>
                      <a:pt x="350" y="3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1" y="0"/>
                    </a:lnTo>
                    <a:lnTo>
                      <a:pt x="285" y="0"/>
                    </a:lnTo>
                    <a:lnTo>
                      <a:pt x="269" y="1"/>
                    </a:lnTo>
                    <a:lnTo>
                      <a:pt x="253" y="2"/>
                    </a:lnTo>
                    <a:lnTo>
                      <a:pt x="237" y="6"/>
                    </a:lnTo>
                    <a:lnTo>
                      <a:pt x="223" y="8"/>
                    </a:lnTo>
                    <a:lnTo>
                      <a:pt x="207" y="13"/>
                    </a:lnTo>
                    <a:lnTo>
                      <a:pt x="192" y="18"/>
                    </a:lnTo>
                    <a:lnTo>
                      <a:pt x="177" y="23"/>
                    </a:lnTo>
                    <a:lnTo>
                      <a:pt x="162" y="30"/>
                    </a:lnTo>
                    <a:lnTo>
                      <a:pt x="148" y="36"/>
                    </a:lnTo>
                    <a:lnTo>
                      <a:pt x="134" y="45"/>
                    </a:lnTo>
                    <a:lnTo>
                      <a:pt x="120" y="54"/>
                    </a:lnTo>
                    <a:lnTo>
                      <a:pt x="108" y="63"/>
                    </a:lnTo>
                    <a:lnTo>
                      <a:pt x="96" y="75"/>
                    </a:lnTo>
                    <a:lnTo>
                      <a:pt x="84" y="86"/>
                    </a:lnTo>
                    <a:lnTo>
                      <a:pt x="73" y="98"/>
                    </a:lnTo>
                    <a:lnTo>
                      <a:pt x="63" y="110"/>
                    </a:lnTo>
                    <a:lnTo>
                      <a:pt x="53" y="125"/>
                    </a:lnTo>
                    <a:lnTo>
                      <a:pt x="43" y="139"/>
                    </a:lnTo>
                    <a:lnTo>
                      <a:pt x="36" y="154"/>
                    </a:lnTo>
                    <a:lnTo>
                      <a:pt x="27" y="170"/>
                    </a:lnTo>
                    <a:lnTo>
                      <a:pt x="21" y="188"/>
                    </a:lnTo>
                    <a:lnTo>
                      <a:pt x="15" y="205"/>
                    </a:lnTo>
                    <a:lnTo>
                      <a:pt x="10" y="223"/>
                    </a:lnTo>
                    <a:lnTo>
                      <a:pt x="6" y="243"/>
                    </a:lnTo>
                    <a:lnTo>
                      <a:pt x="2" y="263"/>
                    </a:lnTo>
                    <a:lnTo>
                      <a:pt x="1" y="284"/>
                    </a:lnTo>
                    <a:lnTo>
                      <a:pt x="0" y="305"/>
                    </a:lnTo>
                    <a:lnTo>
                      <a:pt x="0" y="327"/>
                    </a:lnTo>
                    <a:lnTo>
                      <a:pt x="1" y="350"/>
                    </a:lnTo>
                    <a:lnTo>
                      <a:pt x="4" y="375"/>
                    </a:lnTo>
                    <a:lnTo>
                      <a:pt x="31" y="371"/>
                    </a:lnTo>
                    <a:lnTo>
                      <a:pt x="28" y="349"/>
                    </a:lnTo>
                    <a:lnTo>
                      <a:pt x="28" y="327"/>
                    </a:lnTo>
                    <a:lnTo>
                      <a:pt x="27" y="306"/>
                    </a:lnTo>
                    <a:lnTo>
                      <a:pt x="28" y="285"/>
                    </a:lnTo>
                    <a:lnTo>
                      <a:pt x="31" y="266"/>
                    </a:lnTo>
                    <a:lnTo>
                      <a:pt x="33" y="248"/>
                    </a:lnTo>
                    <a:lnTo>
                      <a:pt x="37" y="230"/>
                    </a:lnTo>
                    <a:lnTo>
                      <a:pt x="42" y="214"/>
                    </a:lnTo>
                    <a:lnTo>
                      <a:pt x="47" y="196"/>
                    </a:lnTo>
                    <a:lnTo>
                      <a:pt x="53" y="182"/>
                    </a:lnTo>
                    <a:lnTo>
                      <a:pt x="60" y="167"/>
                    </a:lnTo>
                    <a:lnTo>
                      <a:pt x="68" y="153"/>
                    </a:lnTo>
                    <a:lnTo>
                      <a:pt x="76" y="140"/>
                    </a:lnTo>
                    <a:lnTo>
                      <a:pt x="85" y="127"/>
                    </a:lnTo>
                    <a:lnTo>
                      <a:pt x="93" y="116"/>
                    </a:lnTo>
                    <a:lnTo>
                      <a:pt x="104" y="105"/>
                    </a:lnTo>
                    <a:lnTo>
                      <a:pt x="114" y="95"/>
                    </a:lnTo>
                    <a:lnTo>
                      <a:pt x="125" y="86"/>
                    </a:lnTo>
                    <a:lnTo>
                      <a:pt x="136" y="77"/>
                    </a:lnTo>
                    <a:lnTo>
                      <a:pt x="149" y="68"/>
                    </a:lnTo>
                    <a:lnTo>
                      <a:pt x="161" y="61"/>
                    </a:lnTo>
                    <a:lnTo>
                      <a:pt x="175" y="55"/>
                    </a:lnTo>
                    <a:lnTo>
                      <a:pt x="187" y="49"/>
                    </a:lnTo>
                    <a:lnTo>
                      <a:pt x="200" y="44"/>
                    </a:lnTo>
                    <a:lnTo>
                      <a:pt x="214" y="39"/>
                    </a:lnTo>
                    <a:lnTo>
                      <a:pt x="229" y="35"/>
                    </a:lnTo>
                    <a:lnTo>
                      <a:pt x="243" y="33"/>
                    </a:lnTo>
                    <a:lnTo>
                      <a:pt x="257" y="30"/>
                    </a:lnTo>
                    <a:lnTo>
                      <a:pt x="272" y="29"/>
                    </a:lnTo>
                    <a:lnTo>
                      <a:pt x="287" y="28"/>
                    </a:lnTo>
                    <a:lnTo>
                      <a:pt x="301" y="28"/>
                    </a:lnTo>
                    <a:lnTo>
                      <a:pt x="316" y="28"/>
                    </a:lnTo>
                    <a:lnTo>
                      <a:pt x="332" y="29"/>
                    </a:lnTo>
                    <a:lnTo>
                      <a:pt x="347" y="30"/>
                    </a:lnTo>
                    <a:lnTo>
                      <a:pt x="362" y="34"/>
                    </a:lnTo>
                    <a:lnTo>
                      <a:pt x="376" y="36"/>
                    </a:lnTo>
                    <a:lnTo>
                      <a:pt x="391" y="41"/>
                    </a:lnTo>
                    <a:lnTo>
                      <a:pt x="406" y="45"/>
                    </a:lnTo>
                    <a:lnTo>
                      <a:pt x="419" y="51"/>
                    </a:lnTo>
                    <a:lnTo>
                      <a:pt x="434" y="57"/>
                    </a:lnTo>
                    <a:lnTo>
                      <a:pt x="448" y="63"/>
                    </a:lnTo>
                    <a:lnTo>
                      <a:pt x="461" y="71"/>
                    </a:lnTo>
                    <a:lnTo>
                      <a:pt x="475" y="79"/>
                    </a:lnTo>
                    <a:lnTo>
                      <a:pt x="488" y="88"/>
                    </a:lnTo>
                    <a:lnTo>
                      <a:pt x="501" y="98"/>
                    </a:lnTo>
                    <a:lnTo>
                      <a:pt x="513" y="108"/>
                    </a:lnTo>
                    <a:lnTo>
                      <a:pt x="524" y="119"/>
                    </a:lnTo>
                    <a:lnTo>
                      <a:pt x="535" y="130"/>
                    </a:lnTo>
                    <a:lnTo>
                      <a:pt x="546" y="142"/>
                    </a:lnTo>
                    <a:lnTo>
                      <a:pt x="556" y="154"/>
                    </a:lnTo>
                    <a:lnTo>
                      <a:pt x="566" y="168"/>
                    </a:lnTo>
                    <a:lnTo>
                      <a:pt x="574" y="183"/>
                    </a:lnTo>
                    <a:lnTo>
                      <a:pt x="583" y="198"/>
                    </a:lnTo>
                    <a:lnTo>
                      <a:pt x="590" y="214"/>
                    </a:lnTo>
                    <a:lnTo>
                      <a:pt x="598" y="230"/>
                    </a:lnTo>
                    <a:lnTo>
                      <a:pt x="604" y="247"/>
                    </a:lnTo>
                    <a:lnTo>
                      <a:pt x="610" y="264"/>
                    </a:lnTo>
                    <a:lnTo>
                      <a:pt x="614" y="282"/>
                    </a:lnTo>
                    <a:lnTo>
                      <a:pt x="617" y="301"/>
                    </a:lnTo>
                    <a:lnTo>
                      <a:pt x="621" y="321"/>
                    </a:lnTo>
                    <a:lnTo>
                      <a:pt x="622" y="341"/>
                    </a:lnTo>
                    <a:lnTo>
                      <a:pt x="624" y="362"/>
                    </a:lnTo>
                    <a:lnTo>
                      <a:pt x="624" y="385"/>
                    </a:lnTo>
                    <a:lnTo>
                      <a:pt x="624" y="407"/>
                    </a:lnTo>
                    <a:lnTo>
                      <a:pt x="646" y="397"/>
                    </a:lnTo>
                    <a:lnTo>
                      <a:pt x="624" y="407"/>
                    </a:lnTo>
                    <a:lnTo>
                      <a:pt x="624" y="410"/>
                    </a:lnTo>
                    <a:lnTo>
                      <a:pt x="624" y="413"/>
                    </a:lnTo>
                    <a:lnTo>
                      <a:pt x="625" y="415"/>
                    </a:lnTo>
                    <a:lnTo>
                      <a:pt x="627" y="418"/>
                    </a:lnTo>
                    <a:lnTo>
                      <a:pt x="631" y="420"/>
                    </a:lnTo>
                    <a:lnTo>
                      <a:pt x="636" y="421"/>
                    </a:lnTo>
                    <a:lnTo>
                      <a:pt x="641" y="420"/>
                    </a:lnTo>
                    <a:lnTo>
                      <a:pt x="646" y="419"/>
                    </a:lnTo>
                    <a:lnTo>
                      <a:pt x="649" y="414"/>
                    </a:lnTo>
                    <a:lnTo>
                      <a:pt x="651" y="408"/>
                    </a:lnTo>
                    <a:lnTo>
                      <a:pt x="628" y="4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3922560" y="2964960"/>
                <a:ext cx="244080" cy="50760"/>
              </a:xfrm>
              <a:custGeom>
                <a:avLst/>
                <a:gdLst/>
                <a:ahLst/>
                <a:rect l="l" t="t" r="r" b="b"/>
                <a:pathLst>
                  <a:path w="642" h="137">
                    <a:moveTo>
                      <a:pt x="0" y="93"/>
                    </a:moveTo>
                    <a:lnTo>
                      <a:pt x="18" y="104"/>
                    </a:lnTo>
                    <a:lnTo>
                      <a:pt x="59" y="89"/>
                    </a:lnTo>
                    <a:lnTo>
                      <a:pt x="99" y="75"/>
                    </a:lnTo>
                    <a:lnTo>
                      <a:pt x="139" y="62"/>
                    </a:lnTo>
                    <a:lnTo>
                      <a:pt x="177" y="51"/>
                    </a:lnTo>
                    <a:lnTo>
                      <a:pt x="214" y="42"/>
                    </a:lnTo>
                    <a:lnTo>
                      <a:pt x="252" y="35"/>
                    </a:lnTo>
                    <a:lnTo>
                      <a:pt x="269" y="32"/>
                    </a:lnTo>
                    <a:lnTo>
                      <a:pt x="287" y="30"/>
                    </a:lnTo>
                    <a:lnTo>
                      <a:pt x="305" y="29"/>
                    </a:lnTo>
                    <a:lnTo>
                      <a:pt x="323" y="27"/>
                    </a:lnTo>
                    <a:lnTo>
                      <a:pt x="342" y="27"/>
                    </a:lnTo>
                    <a:lnTo>
                      <a:pt x="359" y="29"/>
                    </a:lnTo>
                    <a:lnTo>
                      <a:pt x="377" y="30"/>
                    </a:lnTo>
                    <a:lnTo>
                      <a:pt x="396" y="32"/>
                    </a:lnTo>
                    <a:lnTo>
                      <a:pt x="413" y="35"/>
                    </a:lnTo>
                    <a:lnTo>
                      <a:pt x="431" y="40"/>
                    </a:lnTo>
                    <a:lnTo>
                      <a:pt x="450" y="45"/>
                    </a:lnTo>
                    <a:lnTo>
                      <a:pt x="468" y="50"/>
                    </a:lnTo>
                    <a:lnTo>
                      <a:pt x="487" y="57"/>
                    </a:lnTo>
                    <a:lnTo>
                      <a:pt x="505" y="64"/>
                    </a:lnTo>
                    <a:lnTo>
                      <a:pt x="525" y="74"/>
                    </a:lnTo>
                    <a:lnTo>
                      <a:pt x="544" y="84"/>
                    </a:lnTo>
                    <a:lnTo>
                      <a:pt x="564" y="95"/>
                    </a:lnTo>
                    <a:lnTo>
                      <a:pt x="584" y="107"/>
                    </a:lnTo>
                    <a:lnTo>
                      <a:pt x="604" y="121"/>
                    </a:lnTo>
                    <a:lnTo>
                      <a:pt x="624" y="137"/>
                    </a:lnTo>
                    <a:lnTo>
                      <a:pt x="642" y="115"/>
                    </a:lnTo>
                    <a:lnTo>
                      <a:pt x="620" y="99"/>
                    </a:lnTo>
                    <a:lnTo>
                      <a:pt x="599" y="84"/>
                    </a:lnTo>
                    <a:lnTo>
                      <a:pt x="578" y="72"/>
                    </a:lnTo>
                    <a:lnTo>
                      <a:pt x="558" y="59"/>
                    </a:lnTo>
                    <a:lnTo>
                      <a:pt x="537" y="50"/>
                    </a:lnTo>
                    <a:lnTo>
                      <a:pt x="517" y="40"/>
                    </a:lnTo>
                    <a:lnTo>
                      <a:pt x="497" y="31"/>
                    </a:lnTo>
                    <a:lnTo>
                      <a:pt x="477" y="24"/>
                    </a:lnTo>
                    <a:lnTo>
                      <a:pt x="457" y="18"/>
                    </a:lnTo>
                    <a:lnTo>
                      <a:pt x="437" y="13"/>
                    </a:lnTo>
                    <a:lnTo>
                      <a:pt x="419" y="8"/>
                    </a:lnTo>
                    <a:lnTo>
                      <a:pt x="399" y="5"/>
                    </a:lnTo>
                    <a:lnTo>
                      <a:pt x="380" y="3"/>
                    </a:lnTo>
                    <a:lnTo>
                      <a:pt x="361" y="0"/>
                    </a:lnTo>
                    <a:lnTo>
                      <a:pt x="342" y="0"/>
                    </a:lnTo>
                    <a:lnTo>
                      <a:pt x="323" y="0"/>
                    </a:lnTo>
                    <a:lnTo>
                      <a:pt x="303" y="0"/>
                    </a:lnTo>
                    <a:lnTo>
                      <a:pt x="285" y="3"/>
                    </a:lnTo>
                    <a:lnTo>
                      <a:pt x="265" y="4"/>
                    </a:lnTo>
                    <a:lnTo>
                      <a:pt x="247" y="8"/>
                    </a:lnTo>
                    <a:lnTo>
                      <a:pt x="209" y="15"/>
                    </a:lnTo>
                    <a:lnTo>
                      <a:pt x="169" y="25"/>
                    </a:lnTo>
                    <a:lnTo>
                      <a:pt x="130" y="36"/>
                    </a:lnTo>
                    <a:lnTo>
                      <a:pt x="91" y="48"/>
                    </a:lnTo>
                    <a:lnTo>
                      <a:pt x="50" y="63"/>
                    </a:lnTo>
                    <a:lnTo>
                      <a:pt x="8" y="78"/>
                    </a:lnTo>
                    <a:lnTo>
                      <a:pt x="27" y="89"/>
                    </a:lnTo>
                    <a:lnTo>
                      <a:pt x="8" y="78"/>
                    </a:lnTo>
                    <a:lnTo>
                      <a:pt x="3" y="80"/>
                    </a:lnTo>
                    <a:lnTo>
                      <a:pt x="0" y="85"/>
                    </a:lnTo>
                    <a:lnTo>
                      <a:pt x="0" y="90"/>
                    </a:lnTo>
                    <a:lnTo>
                      <a:pt x="0" y="95"/>
                    </a:lnTo>
                    <a:lnTo>
                      <a:pt x="2" y="100"/>
                    </a:lnTo>
                    <a:lnTo>
                      <a:pt x="7" y="103"/>
                    </a:lnTo>
                    <a:lnTo>
                      <a:pt x="8" y="104"/>
                    </a:lnTo>
                    <a:lnTo>
                      <a:pt x="12" y="105"/>
                    </a:lnTo>
                    <a:lnTo>
                      <a:pt x="14" y="105"/>
                    </a:lnTo>
                    <a:lnTo>
                      <a:pt x="18" y="104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300920" y="2923200"/>
                <a:ext cx="257400" cy="118800"/>
              </a:xfrm>
              <a:custGeom>
                <a:avLst/>
                <a:gdLst/>
                <a:ahLst/>
                <a:rect l="l" t="t" r="r" b="b"/>
                <a:pathLst>
                  <a:path w="678" h="316">
                    <a:moveTo>
                      <a:pt x="2" y="280"/>
                    </a:moveTo>
                    <a:lnTo>
                      <a:pt x="0" y="245"/>
                    </a:lnTo>
                    <a:lnTo>
                      <a:pt x="2" y="212"/>
                    </a:lnTo>
                    <a:lnTo>
                      <a:pt x="8" y="180"/>
                    </a:lnTo>
                    <a:lnTo>
                      <a:pt x="18" y="151"/>
                    </a:lnTo>
                    <a:lnTo>
                      <a:pt x="32" y="125"/>
                    </a:lnTo>
                    <a:lnTo>
                      <a:pt x="49" y="102"/>
                    </a:lnTo>
                    <a:lnTo>
                      <a:pt x="68" y="81"/>
                    </a:lnTo>
                    <a:lnTo>
                      <a:pt x="92" y="63"/>
                    </a:lnTo>
                    <a:lnTo>
                      <a:pt x="116" y="47"/>
                    </a:lnTo>
                    <a:lnTo>
                      <a:pt x="143" y="32"/>
                    </a:lnTo>
                    <a:lnTo>
                      <a:pt x="173" y="21"/>
                    </a:lnTo>
                    <a:lnTo>
                      <a:pt x="203" y="12"/>
                    </a:lnTo>
                    <a:lnTo>
                      <a:pt x="234" y="6"/>
                    </a:lnTo>
                    <a:lnTo>
                      <a:pt x="268" y="1"/>
                    </a:lnTo>
                    <a:lnTo>
                      <a:pt x="301" y="0"/>
                    </a:lnTo>
                    <a:lnTo>
                      <a:pt x="334" y="0"/>
                    </a:lnTo>
                    <a:lnTo>
                      <a:pt x="369" y="4"/>
                    </a:lnTo>
                    <a:lnTo>
                      <a:pt x="402" y="9"/>
                    </a:lnTo>
                    <a:lnTo>
                      <a:pt x="435" y="16"/>
                    </a:lnTo>
                    <a:lnTo>
                      <a:pt x="467" y="26"/>
                    </a:lnTo>
                    <a:lnTo>
                      <a:pt x="498" y="38"/>
                    </a:lnTo>
                    <a:lnTo>
                      <a:pt x="527" y="53"/>
                    </a:lnTo>
                    <a:lnTo>
                      <a:pt x="554" y="69"/>
                    </a:lnTo>
                    <a:lnTo>
                      <a:pt x="580" y="87"/>
                    </a:lnTo>
                    <a:lnTo>
                      <a:pt x="603" y="108"/>
                    </a:lnTo>
                    <a:lnTo>
                      <a:pt x="624" y="132"/>
                    </a:lnTo>
                    <a:lnTo>
                      <a:pt x="643" y="157"/>
                    </a:lnTo>
                    <a:lnTo>
                      <a:pt x="658" y="184"/>
                    </a:lnTo>
                    <a:lnTo>
                      <a:pt x="669" y="214"/>
                    </a:lnTo>
                    <a:lnTo>
                      <a:pt x="676" y="246"/>
                    </a:lnTo>
                    <a:lnTo>
                      <a:pt x="678" y="279"/>
                    </a:lnTo>
                    <a:lnTo>
                      <a:pt x="677" y="316"/>
                    </a:lnTo>
                    <a:lnTo>
                      <a:pt x="656" y="300"/>
                    </a:lnTo>
                    <a:lnTo>
                      <a:pt x="635" y="287"/>
                    </a:lnTo>
                    <a:lnTo>
                      <a:pt x="615" y="274"/>
                    </a:lnTo>
                    <a:lnTo>
                      <a:pt x="594" y="262"/>
                    </a:lnTo>
                    <a:lnTo>
                      <a:pt x="573" y="252"/>
                    </a:lnTo>
                    <a:lnTo>
                      <a:pt x="552" y="242"/>
                    </a:lnTo>
                    <a:lnTo>
                      <a:pt x="531" y="235"/>
                    </a:lnTo>
                    <a:lnTo>
                      <a:pt x="510" y="227"/>
                    </a:lnTo>
                    <a:lnTo>
                      <a:pt x="489" y="221"/>
                    </a:lnTo>
                    <a:lnTo>
                      <a:pt x="468" y="216"/>
                    </a:lnTo>
                    <a:lnTo>
                      <a:pt x="447" y="212"/>
                    </a:lnTo>
                    <a:lnTo>
                      <a:pt x="426" y="209"/>
                    </a:lnTo>
                    <a:lnTo>
                      <a:pt x="404" y="207"/>
                    </a:lnTo>
                    <a:lnTo>
                      <a:pt x="383" y="205"/>
                    </a:lnTo>
                    <a:lnTo>
                      <a:pt x="362" y="204"/>
                    </a:lnTo>
                    <a:lnTo>
                      <a:pt x="341" y="204"/>
                    </a:lnTo>
                    <a:lnTo>
                      <a:pt x="321" y="205"/>
                    </a:lnTo>
                    <a:lnTo>
                      <a:pt x="300" y="207"/>
                    </a:lnTo>
                    <a:lnTo>
                      <a:pt x="278" y="209"/>
                    </a:lnTo>
                    <a:lnTo>
                      <a:pt x="257" y="212"/>
                    </a:lnTo>
                    <a:lnTo>
                      <a:pt x="215" y="219"/>
                    </a:lnTo>
                    <a:lnTo>
                      <a:pt x="172" y="229"/>
                    </a:lnTo>
                    <a:lnTo>
                      <a:pt x="130" y="240"/>
                    </a:lnTo>
                    <a:lnTo>
                      <a:pt x="87" y="252"/>
                    </a:lnTo>
                    <a:lnTo>
                      <a:pt x="45" y="266"/>
                    </a:lnTo>
                    <a:lnTo>
                      <a:pt x="2" y="28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97320" y="2917440"/>
                <a:ext cx="266400" cy="130680"/>
              </a:xfrm>
              <a:custGeom>
                <a:avLst/>
                <a:gdLst/>
                <a:ahLst/>
                <a:rect l="l" t="t" r="r" b="b"/>
                <a:pathLst>
                  <a:path w="706" h="344">
                    <a:moveTo>
                      <a:pt x="683" y="341"/>
                    </a:moveTo>
                    <a:lnTo>
                      <a:pt x="705" y="331"/>
                    </a:lnTo>
                    <a:lnTo>
                      <a:pt x="706" y="312"/>
                    </a:lnTo>
                    <a:lnTo>
                      <a:pt x="706" y="293"/>
                    </a:lnTo>
                    <a:lnTo>
                      <a:pt x="706" y="275"/>
                    </a:lnTo>
                    <a:lnTo>
                      <a:pt x="704" y="257"/>
                    </a:lnTo>
                    <a:lnTo>
                      <a:pt x="700" y="240"/>
                    </a:lnTo>
                    <a:lnTo>
                      <a:pt x="695" y="224"/>
                    </a:lnTo>
                    <a:lnTo>
                      <a:pt x="690" y="208"/>
                    </a:lnTo>
                    <a:lnTo>
                      <a:pt x="684" y="192"/>
                    </a:lnTo>
                    <a:lnTo>
                      <a:pt x="676" y="178"/>
                    </a:lnTo>
                    <a:lnTo>
                      <a:pt x="668" y="164"/>
                    </a:lnTo>
                    <a:lnTo>
                      <a:pt x="659" y="150"/>
                    </a:lnTo>
                    <a:lnTo>
                      <a:pt x="649" y="137"/>
                    </a:lnTo>
                    <a:lnTo>
                      <a:pt x="638" y="125"/>
                    </a:lnTo>
                    <a:lnTo>
                      <a:pt x="627" y="112"/>
                    </a:lnTo>
                    <a:lnTo>
                      <a:pt x="616" y="101"/>
                    </a:lnTo>
                    <a:lnTo>
                      <a:pt x="603" y="90"/>
                    </a:lnTo>
                    <a:lnTo>
                      <a:pt x="590" y="80"/>
                    </a:lnTo>
                    <a:lnTo>
                      <a:pt x="577" y="72"/>
                    </a:lnTo>
                    <a:lnTo>
                      <a:pt x="562" y="62"/>
                    </a:lnTo>
                    <a:lnTo>
                      <a:pt x="547" y="55"/>
                    </a:lnTo>
                    <a:lnTo>
                      <a:pt x="533" y="46"/>
                    </a:lnTo>
                    <a:lnTo>
                      <a:pt x="517" y="40"/>
                    </a:lnTo>
                    <a:lnTo>
                      <a:pt x="502" y="32"/>
                    </a:lnTo>
                    <a:lnTo>
                      <a:pt x="485" y="26"/>
                    </a:lnTo>
                    <a:lnTo>
                      <a:pt x="453" y="16"/>
                    </a:lnTo>
                    <a:lnTo>
                      <a:pt x="418" y="9"/>
                    </a:lnTo>
                    <a:lnTo>
                      <a:pt x="384" y="4"/>
                    </a:lnTo>
                    <a:lnTo>
                      <a:pt x="349" y="0"/>
                    </a:lnTo>
                    <a:lnTo>
                      <a:pt x="315" y="0"/>
                    </a:lnTo>
                    <a:lnTo>
                      <a:pt x="280" y="2"/>
                    </a:lnTo>
                    <a:lnTo>
                      <a:pt x="263" y="4"/>
                    </a:lnTo>
                    <a:lnTo>
                      <a:pt x="246" y="7"/>
                    </a:lnTo>
                    <a:lnTo>
                      <a:pt x="230" y="9"/>
                    </a:lnTo>
                    <a:lnTo>
                      <a:pt x="214" y="13"/>
                    </a:lnTo>
                    <a:lnTo>
                      <a:pt x="198" y="18"/>
                    </a:lnTo>
                    <a:lnTo>
                      <a:pt x="182" y="23"/>
                    </a:lnTo>
                    <a:lnTo>
                      <a:pt x="167" y="27"/>
                    </a:lnTo>
                    <a:lnTo>
                      <a:pt x="151" y="34"/>
                    </a:lnTo>
                    <a:lnTo>
                      <a:pt x="138" y="41"/>
                    </a:lnTo>
                    <a:lnTo>
                      <a:pt x="123" y="48"/>
                    </a:lnTo>
                    <a:lnTo>
                      <a:pt x="110" y="56"/>
                    </a:lnTo>
                    <a:lnTo>
                      <a:pt x="97" y="66"/>
                    </a:lnTo>
                    <a:lnTo>
                      <a:pt x="85" y="74"/>
                    </a:lnTo>
                    <a:lnTo>
                      <a:pt x="73" y="85"/>
                    </a:lnTo>
                    <a:lnTo>
                      <a:pt x="62" y="95"/>
                    </a:lnTo>
                    <a:lnTo>
                      <a:pt x="52" y="107"/>
                    </a:lnTo>
                    <a:lnTo>
                      <a:pt x="42" y="120"/>
                    </a:lnTo>
                    <a:lnTo>
                      <a:pt x="33" y="132"/>
                    </a:lnTo>
                    <a:lnTo>
                      <a:pt x="26" y="146"/>
                    </a:lnTo>
                    <a:lnTo>
                      <a:pt x="20" y="160"/>
                    </a:lnTo>
                    <a:lnTo>
                      <a:pt x="14" y="175"/>
                    </a:lnTo>
                    <a:lnTo>
                      <a:pt x="9" y="190"/>
                    </a:lnTo>
                    <a:lnTo>
                      <a:pt x="5" y="207"/>
                    </a:lnTo>
                    <a:lnTo>
                      <a:pt x="1" y="223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277"/>
                    </a:lnTo>
                    <a:lnTo>
                      <a:pt x="2" y="297"/>
                    </a:lnTo>
                    <a:lnTo>
                      <a:pt x="30" y="293"/>
                    </a:lnTo>
                    <a:lnTo>
                      <a:pt x="28" y="276"/>
                    </a:lnTo>
                    <a:lnTo>
                      <a:pt x="27" y="259"/>
                    </a:lnTo>
                    <a:lnTo>
                      <a:pt x="28" y="243"/>
                    </a:lnTo>
                    <a:lnTo>
                      <a:pt x="30" y="227"/>
                    </a:lnTo>
                    <a:lnTo>
                      <a:pt x="32" y="212"/>
                    </a:lnTo>
                    <a:lnTo>
                      <a:pt x="36" y="197"/>
                    </a:lnTo>
                    <a:lnTo>
                      <a:pt x="39" y="184"/>
                    </a:lnTo>
                    <a:lnTo>
                      <a:pt x="44" y="171"/>
                    </a:lnTo>
                    <a:lnTo>
                      <a:pt x="50" y="159"/>
                    </a:lnTo>
                    <a:lnTo>
                      <a:pt x="58" y="147"/>
                    </a:lnTo>
                    <a:lnTo>
                      <a:pt x="65" y="136"/>
                    </a:lnTo>
                    <a:lnTo>
                      <a:pt x="73" y="125"/>
                    </a:lnTo>
                    <a:lnTo>
                      <a:pt x="82" y="115"/>
                    </a:lnTo>
                    <a:lnTo>
                      <a:pt x="92" y="105"/>
                    </a:lnTo>
                    <a:lnTo>
                      <a:pt x="102" y="96"/>
                    </a:lnTo>
                    <a:lnTo>
                      <a:pt x="113" y="88"/>
                    </a:lnTo>
                    <a:lnTo>
                      <a:pt x="125" y="79"/>
                    </a:lnTo>
                    <a:lnTo>
                      <a:pt x="137" y="72"/>
                    </a:lnTo>
                    <a:lnTo>
                      <a:pt x="150" y="66"/>
                    </a:lnTo>
                    <a:lnTo>
                      <a:pt x="164" y="59"/>
                    </a:lnTo>
                    <a:lnTo>
                      <a:pt x="177" y="53"/>
                    </a:lnTo>
                    <a:lnTo>
                      <a:pt x="191" y="48"/>
                    </a:lnTo>
                    <a:lnTo>
                      <a:pt x="205" y="43"/>
                    </a:lnTo>
                    <a:lnTo>
                      <a:pt x="220" y="40"/>
                    </a:lnTo>
                    <a:lnTo>
                      <a:pt x="236" y="36"/>
                    </a:lnTo>
                    <a:lnTo>
                      <a:pt x="251" y="34"/>
                    </a:lnTo>
                    <a:lnTo>
                      <a:pt x="267" y="31"/>
                    </a:lnTo>
                    <a:lnTo>
                      <a:pt x="283" y="30"/>
                    </a:lnTo>
                    <a:lnTo>
                      <a:pt x="315" y="27"/>
                    </a:lnTo>
                    <a:lnTo>
                      <a:pt x="348" y="29"/>
                    </a:lnTo>
                    <a:lnTo>
                      <a:pt x="380" y="31"/>
                    </a:lnTo>
                    <a:lnTo>
                      <a:pt x="413" y="36"/>
                    </a:lnTo>
                    <a:lnTo>
                      <a:pt x="445" y="43"/>
                    </a:lnTo>
                    <a:lnTo>
                      <a:pt x="476" y="53"/>
                    </a:lnTo>
                    <a:lnTo>
                      <a:pt x="491" y="58"/>
                    </a:lnTo>
                    <a:lnTo>
                      <a:pt x="506" y="64"/>
                    </a:lnTo>
                    <a:lnTo>
                      <a:pt x="520" y="72"/>
                    </a:lnTo>
                    <a:lnTo>
                      <a:pt x="535" y="78"/>
                    </a:lnTo>
                    <a:lnTo>
                      <a:pt x="549" y="87"/>
                    </a:lnTo>
                    <a:lnTo>
                      <a:pt x="561" y="94"/>
                    </a:lnTo>
                    <a:lnTo>
                      <a:pt x="573" y="104"/>
                    </a:lnTo>
                    <a:lnTo>
                      <a:pt x="585" y="112"/>
                    </a:lnTo>
                    <a:lnTo>
                      <a:pt x="597" y="122"/>
                    </a:lnTo>
                    <a:lnTo>
                      <a:pt x="608" y="132"/>
                    </a:lnTo>
                    <a:lnTo>
                      <a:pt x="619" y="143"/>
                    </a:lnTo>
                    <a:lnTo>
                      <a:pt x="627" y="154"/>
                    </a:lnTo>
                    <a:lnTo>
                      <a:pt x="637" y="166"/>
                    </a:lnTo>
                    <a:lnTo>
                      <a:pt x="645" y="179"/>
                    </a:lnTo>
                    <a:lnTo>
                      <a:pt x="652" y="191"/>
                    </a:lnTo>
                    <a:lnTo>
                      <a:pt x="658" y="205"/>
                    </a:lnTo>
                    <a:lnTo>
                      <a:pt x="664" y="218"/>
                    </a:lnTo>
                    <a:lnTo>
                      <a:pt x="669" y="232"/>
                    </a:lnTo>
                    <a:lnTo>
                      <a:pt x="673" y="246"/>
                    </a:lnTo>
                    <a:lnTo>
                      <a:pt x="675" y="262"/>
                    </a:lnTo>
                    <a:lnTo>
                      <a:pt x="678" y="278"/>
                    </a:lnTo>
                    <a:lnTo>
                      <a:pt x="679" y="294"/>
                    </a:lnTo>
                    <a:lnTo>
                      <a:pt x="679" y="310"/>
                    </a:lnTo>
                    <a:lnTo>
                      <a:pt x="678" y="329"/>
                    </a:lnTo>
                    <a:lnTo>
                      <a:pt x="700" y="319"/>
                    </a:lnTo>
                    <a:lnTo>
                      <a:pt x="678" y="329"/>
                    </a:lnTo>
                    <a:lnTo>
                      <a:pt x="678" y="331"/>
                    </a:lnTo>
                    <a:lnTo>
                      <a:pt x="679" y="335"/>
                    </a:lnTo>
                    <a:lnTo>
                      <a:pt x="679" y="337"/>
                    </a:lnTo>
                    <a:lnTo>
                      <a:pt x="681" y="339"/>
                    </a:lnTo>
                    <a:lnTo>
                      <a:pt x="685" y="342"/>
                    </a:lnTo>
                    <a:lnTo>
                      <a:pt x="690" y="344"/>
                    </a:lnTo>
                    <a:lnTo>
                      <a:pt x="695" y="344"/>
                    </a:lnTo>
                    <a:lnTo>
                      <a:pt x="700" y="341"/>
                    </a:lnTo>
                    <a:lnTo>
                      <a:pt x="704" y="337"/>
                    </a:lnTo>
                    <a:lnTo>
                      <a:pt x="705" y="331"/>
                    </a:lnTo>
                    <a:lnTo>
                      <a:pt x="683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297320" y="2994840"/>
                <a:ext cx="264600" cy="50760"/>
              </a:xfrm>
              <a:custGeom>
                <a:avLst/>
                <a:gdLst/>
                <a:ahLst/>
                <a:rect l="l" t="t" r="r" b="b"/>
                <a:pathLst>
                  <a:path w="698" h="136">
                    <a:moveTo>
                      <a:pt x="0" y="92"/>
                    </a:moveTo>
                    <a:lnTo>
                      <a:pt x="19" y="103"/>
                    </a:lnTo>
                    <a:lnTo>
                      <a:pt x="61" y="88"/>
                    </a:lnTo>
                    <a:lnTo>
                      <a:pt x="104" y="75"/>
                    </a:lnTo>
                    <a:lnTo>
                      <a:pt x="146" y="62"/>
                    </a:lnTo>
                    <a:lnTo>
                      <a:pt x="187" y="51"/>
                    </a:lnTo>
                    <a:lnTo>
                      <a:pt x="229" y="41"/>
                    </a:lnTo>
                    <a:lnTo>
                      <a:pt x="271" y="34"/>
                    </a:lnTo>
                    <a:lnTo>
                      <a:pt x="292" y="32"/>
                    </a:lnTo>
                    <a:lnTo>
                      <a:pt x="313" y="29"/>
                    </a:lnTo>
                    <a:lnTo>
                      <a:pt x="333" y="28"/>
                    </a:lnTo>
                    <a:lnTo>
                      <a:pt x="353" y="27"/>
                    </a:lnTo>
                    <a:lnTo>
                      <a:pt x="374" y="27"/>
                    </a:lnTo>
                    <a:lnTo>
                      <a:pt x="395" y="28"/>
                    </a:lnTo>
                    <a:lnTo>
                      <a:pt x="415" y="29"/>
                    </a:lnTo>
                    <a:lnTo>
                      <a:pt x="436" y="32"/>
                    </a:lnTo>
                    <a:lnTo>
                      <a:pt x="457" y="35"/>
                    </a:lnTo>
                    <a:lnTo>
                      <a:pt x="476" y="39"/>
                    </a:lnTo>
                    <a:lnTo>
                      <a:pt x="497" y="44"/>
                    </a:lnTo>
                    <a:lnTo>
                      <a:pt x="518" y="50"/>
                    </a:lnTo>
                    <a:lnTo>
                      <a:pt x="538" y="56"/>
                    </a:lnTo>
                    <a:lnTo>
                      <a:pt x="559" y="65"/>
                    </a:lnTo>
                    <a:lnTo>
                      <a:pt x="579" y="73"/>
                    </a:lnTo>
                    <a:lnTo>
                      <a:pt x="599" y="83"/>
                    </a:lnTo>
                    <a:lnTo>
                      <a:pt x="620" y="94"/>
                    </a:lnTo>
                    <a:lnTo>
                      <a:pt x="640" y="107"/>
                    </a:lnTo>
                    <a:lnTo>
                      <a:pt x="661" y="121"/>
                    </a:lnTo>
                    <a:lnTo>
                      <a:pt x="681" y="136"/>
                    </a:lnTo>
                    <a:lnTo>
                      <a:pt x="698" y="114"/>
                    </a:lnTo>
                    <a:lnTo>
                      <a:pt x="677" y="98"/>
                    </a:lnTo>
                    <a:lnTo>
                      <a:pt x="655" y="83"/>
                    </a:lnTo>
                    <a:lnTo>
                      <a:pt x="634" y="71"/>
                    </a:lnTo>
                    <a:lnTo>
                      <a:pt x="612" y="59"/>
                    </a:lnTo>
                    <a:lnTo>
                      <a:pt x="591" y="49"/>
                    </a:lnTo>
                    <a:lnTo>
                      <a:pt x="569" y="39"/>
                    </a:lnTo>
                    <a:lnTo>
                      <a:pt x="548" y="30"/>
                    </a:lnTo>
                    <a:lnTo>
                      <a:pt x="526" y="23"/>
                    </a:lnTo>
                    <a:lnTo>
                      <a:pt x="505" y="17"/>
                    </a:lnTo>
                    <a:lnTo>
                      <a:pt x="483" y="12"/>
                    </a:lnTo>
                    <a:lnTo>
                      <a:pt x="462" y="7"/>
                    </a:lnTo>
                    <a:lnTo>
                      <a:pt x="440" y="5"/>
                    </a:lnTo>
                    <a:lnTo>
                      <a:pt x="417" y="2"/>
                    </a:lnTo>
                    <a:lnTo>
                      <a:pt x="397" y="0"/>
                    </a:lnTo>
                    <a:lnTo>
                      <a:pt x="374" y="0"/>
                    </a:lnTo>
                    <a:lnTo>
                      <a:pt x="353" y="0"/>
                    </a:lnTo>
                    <a:lnTo>
                      <a:pt x="331" y="0"/>
                    </a:lnTo>
                    <a:lnTo>
                      <a:pt x="310" y="2"/>
                    </a:lnTo>
                    <a:lnTo>
                      <a:pt x="288" y="3"/>
                    </a:lnTo>
                    <a:lnTo>
                      <a:pt x="267" y="7"/>
                    </a:lnTo>
                    <a:lnTo>
                      <a:pt x="224" y="14"/>
                    </a:lnTo>
                    <a:lnTo>
                      <a:pt x="181" y="24"/>
                    </a:lnTo>
                    <a:lnTo>
                      <a:pt x="138" y="35"/>
                    </a:lnTo>
                    <a:lnTo>
                      <a:pt x="95" y="48"/>
                    </a:lnTo>
                    <a:lnTo>
                      <a:pt x="52" y="62"/>
                    </a:lnTo>
                    <a:lnTo>
                      <a:pt x="9" y="77"/>
                    </a:lnTo>
                    <a:lnTo>
                      <a:pt x="28" y="88"/>
                    </a:lnTo>
                    <a:lnTo>
                      <a:pt x="9" y="77"/>
                    </a:lnTo>
                    <a:lnTo>
                      <a:pt x="4" y="80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8" y="103"/>
                    </a:lnTo>
                    <a:lnTo>
                      <a:pt x="10" y="103"/>
                    </a:lnTo>
                    <a:lnTo>
                      <a:pt x="13" y="104"/>
                    </a:lnTo>
                    <a:lnTo>
                      <a:pt x="15" y="104"/>
                    </a:lnTo>
                    <a:lnTo>
                      <a:pt x="19" y="103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6342840" y="2892960"/>
                <a:ext cx="251280" cy="264600"/>
              </a:xfrm>
              <a:custGeom>
                <a:avLst/>
                <a:gdLst/>
                <a:ahLst/>
                <a:rect l="l" t="t" r="r" b="b"/>
                <a:pathLst>
                  <a:path w="664" h="699">
                    <a:moveTo>
                      <a:pt x="0" y="275"/>
                    </a:moveTo>
                    <a:lnTo>
                      <a:pt x="35" y="219"/>
                    </a:lnTo>
                    <a:lnTo>
                      <a:pt x="72" y="171"/>
                    </a:lnTo>
                    <a:lnTo>
                      <a:pt x="110" y="129"/>
                    </a:lnTo>
                    <a:lnTo>
                      <a:pt x="149" y="95"/>
                    </a:lnTo>
                    <a:lnTo>
                      <a:pt x="187" y="65"/>
                    </a:lnTo>
                    <a:lnTo>
                      <a:pt x="225" y="41"/>
                    </a:lnTo>
                    <a:lnTo>
                      <a:pt x="262" y="24"/>
                    </a:lnTo>
                    <a:lnTo>
                      <a:pt x="300" y="10"/>
                    </a:lnTo>
                    <a:lnTo>
                      <a:pt x="337" y="3"/>
                    </a:lnTo>
                    <a:lnTo>
                      <a:pt x="372" y="0"/>
                    </a:lnTo>
                    <a:lnTo>
                      <a:pt x="407" y="1"/>
                    </a:lnTo>
                    <a:lnTo>
                      <a:pt x="440" y="8"/>
                    </a:lnTo>
                    <a:lnTo>
                      <a:pt x="472" y="19"/>
                    </a:lnTo>
                    <a:lnTo>
                      <a:pt x="502" y="32"/>
                    </a:lnTo>
                    <a:lnTo>
                      <a:pt x="530" y="51"/>
                    </a:lnTo>
                    <a:lnTo>
                      <a:pt x="557" y="72"/>
                    </a:lnTo>
                    <a:lnTo>
                      <a:pt x="580" y="96"/>
                    </a:lnTo>
                    <a:lnTo>
                      <a:pt x="601" y="124"/>
                    </a:lnTo>
                    <a:lnTo>
                      <a:pt x="620" y="155"/>
                    </a:lnTo>
                    <a:lnTo>
                      <a:pt x="636" y="187"/>
                    </a:lnTo>
                    <a:lnTo>
                      <a:pt x="648" y="223"/>
                    </a:lnTo>
                    <a:lnTo>
                      <a:pt x="657" y="261"/>
                    </a:lnTo>
                    <a:lnTo>
                      <a:pt x="661" y="299"/>
                    </a:lnTo>
                    <a:lnTo>
                      <a:pt x="664" y="341"/>
                    </a:lnTo>
                    <a:lnTo>
                      <a:pt x="660" y="383"/>
                    </a:lnTo>
                    <a:lnTo>
                      <a:pt x="654" y="426"/>
                    </a:lnTo>
                    <a:lnTo>
                      <a:pt x="643" y="471"/>
                    </a:lnTo>
                    <a:lnTo>
                      <a:pt x="627" y="516"/>
                    </a:lnTo>
                    <a:lnTo>
                      <a:pt x="606" y="561"/>
                    </a:lnTo>
                    <a:lnTo>
                      <a:pt x="580" y="608"/>
                    </a:lnTo>
                    <a:lnTo>
                      <a:pt x="550" y="653"/>
                    </a:lnTo>
                    <a:lnTo>
                      <a:pt x="513" y="699"/>
                    </a:lnTo>
                    <a:lnTo>
                      <a:pt x="509" y="663"/>
                    </a:lnTo>
                    <a:lnTo>
                      <a:pt x="505" y="630"/>
                    </a:lnTo>
                    <a:lnTo>
                      <a:pt x="500" y="598"/>
                    </a:lnTo>
                    <a:lnTo>
                      <a:pt x="494" y="567"/>
                    </a:lnTo>
                    <a:lnTo>
                      <a:pt x="487" y="538"/>
                    </a:lnTo>
                    <a:lnTo>
                      <a:pt x="479" y="509"/>
                    </a:lnTo>
                    <a:lnTo>
                      <a:pt x="471" y="484"/>
                    </a:lnTo>
                    <a:lnTo>
                      <a:pt x="461" y="459"/>
                    </a:lnTo>
                    <a:lnTo>
                      <a:pt x="451" y="434"/>
                    </a:lnTo>
                    <a:lnTo>
                      <a:pt x="440" y="412"/>
                    </a:lnTo>
                    <a:lnTo>
                      <a:pt x="429" y="393"/>
                    </a:lnTo>
                    <a:lnTo>
                      <a:pt x="417" y="373"/>
                    </a:lnTo>
                    <a:lnTo>
                      <a:pt x="403" y="354"/>
                    </a:lnTo>
                    <a:lnTo>
                      <a:pt x="388" y="338"/>
                    </a:lnTo>
                    <a:lnTo>
                      <a:pt x="374" y="324"/>
                    </a:lnTo>
                    <a:lnTo>
                      <a:pt x="358" y="310"/>
                    </a:lnTo>
                    <a:lnTo>
                      <a:pt x="342" y="298"/>
                    </a:lnTo>
                    <a:lnTo>
                      <a:pt x="324" y="287"/>
                    </a:lnTo>
                    <a:lnTo>
                      <a:pt x="306" y="277"/>
                    </a:lnTo>
                    <a:lnTo>
                      <a:pt x="288" y="268"/>
                    </a:lnTo>
                    <a:lnTo>
                      <a:pt x="268" y="262"/>
                    </a:lnTo>
                    <a:lnTo>
                      <a:pt x="247" y="256"/>
                    </a:lnTo>
                    <a:lnTo>
                      <a:pt x="226" y="252"/>
                    </a:lnTo>
                    <a:lnTo>
                      <a:pt x="204" y="249"/>
                    </a:lnTo>
                    <a:lnTo>
                      <a:pt x="181" y="247"/>
                    </a:lnTo>
                    <a:lnTo>
                      <a:pt x="157" y="247"/>
                    </a:lnTo>
                    <a:lnTo>
                      <a:pt x="133" y="249"/>
                    </a:lnTo>
                    <a:lnTo>
                      <a:pt x="108" y="251"/>
                    </a:lnTo>
                    <a:lnTo>
                      <a:pt x="82" y="255"/>
                    </a:lnTo>
                    <a:lnTo>
                      <a:pt x="55" y="260"/>
                    </a:lnTo>
                    <a:lnTo>
                      <a:pt x="28" y="266"/>
                    </a:lnTo>
                    <a:lnTo>
                      <a:pt x="0" y="275"/>
                    </a:lnTo>
                    <a:close/>
                  </a:path>
                </a:pathLst>
              </a:custGeom>
              <a:solidFill>
                <a:srgbClr val="ee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6338880" y="2889000"/>
                <a:ext cx="258840" cy="272520"/>
              </a:xfrm>
              <a:custGeom>
                <a:avLst/>
                <a:gdLst/>
                <a:ahLst/>
                <a:rect l="l" t="t" r="r" b="b"/>
                <a:pathLst>
                  <a:path w="683" h="721">
                    <a:moveTo>
                      <a:pt x="512" y="711"/>
                    </a:moveTo>
                    <a:lnTo>
                      <a:pt x="529" y="716"/>
                    </a:lnTo>
                    <a:lnTo>
                      <a:pt x="549" y="694"/>
                    </a:lnTo>
                    <a:lnTo>
                      <a:pt x="567" y="671"/>
                    </a:lnTo>
                    <a:lnTo>
                      <a:pt x="583" y="647"/>
                    </a:lnTo>
                    <a:lnTo>
                      <a:pt x="598" y="624"/>
                    </a:lnTo>
                    <a:lnTo>
                      <a:pt x="611" y="600"/>
                    </a:lnTo>
                    <a:lnTo>
                      <a:pt x="625" y="577"/>
                    </a:lnTo>
                    <a:lnTo>
                      <a:pt x="636" y="554"/>
                    </a:lnTo>
                    <a:lnTo>
                      <a:pt x="646" y="530"/>
                    </a:lnTo>
                    <a:lnTo>
                      <a:pt x="654" y="508"/>
                    </a:lnTo>
                    <a:lnTo>
                      <a:pt x="662" y="485"/>
                    </a:lnTo>
                    <a:lnTo>
                      <a:pt x="668" y="461"/>
                    </a:lnTo>
                    <a:lnTo>
                      <a:pt x="673" y="439"/>
                    </a:lnTo>
                    <a:lnTo>
                      <a:pt x="678" y="417"/>
                    </a:lnTo>
                    <a:lnTo>
                      <a:pt x="680" y="395"/>
                    </a:lnTo>
                    <a:lnTo>
                      <a:pt x="682" y="373"/>
                    </a:lnTo>
                    <a:lnTo>
                      <a:pt x="683" y="352"/>
                    </a:lnTo>
                    <a:lnTo>
                      <a:pt x="683" y="331"/>
                    </a:lnTo>
                    <a:lnTo>
                      <a:pt x="682" y="310"/>
                    </a:lnTo>
                    <a:lnTo>
                      <a:pt x="679" y="289"/>
                    </a:lnTo>
                    <a:lnTo>
                      <a:pt x="675" y="270"/>
                    </a:lnTo>
                    <a:lnTo>
                      <a:pt x="672" y="250"/>
                    </a:lnTo>
                    <a:lnTo>
                      <a:pt x="667" y="231"/>
                    </a:lnTo>
                    <a:lnTo>
                      <a:pt x="661" y="213"/>
                    </a:lnTo>
                    <a:lnTo>
                      <a:pt x="654" y="194"/>
                    </a:lnTo>
                    <a:lnTo>
                      <a:pt x="646" y="177"/>
                    </a:lnTo>
                    <a:lnTo>
                      <a:pt x="638" y="161"/>
                    </a:lnTo>
                    <a:lnTo>
                      <a:pt x="629" y="145"/>
                    </a:lnTo>
                    <a:lnTo>
                      <a:pt x="619" y="129"/>
                    </a:lnTo>
                    <a:lnTo>
                      <a:pt x="609" y="115"/>
                    </a:lnTo>
                    <a:lnTo>
                      <a:pt x="597" y="101"/>
                    </a:lnTo>
                    <a:lnTo>
                      <a:pt x="586" y="87"/>
                    </a:lnTo>
                    <a:lnTo>
                      <a:pt x="572" y="75"/>
                    </a:lnTo>
                    <a:lnTo>
                      <a:pt x="560" y="64"/>
                    </a:lnTo>
                    <a:lnTo>
                      <a:pt x="545" y="53"/>
                    </a:lnTo>
                    <a:lnTo>
                      <a:pt x="531" y="43"/>
                    </a:lnTo>
                    <a:lnTo>
                      <a:pt x="517" y="35"/>
                    </a:lnTo>
                    <a:lnTo>
                      <a:pt x="501" y="26"/>
                    </a:lnTo>
                    <a:lnTo>
                      <a:pt x="485" y="20"/>
                    </a:lnTo>
                    <a:lnTo>
                      <a:pt x="469" y="14"/>
                    </a:lnTo>
                    <a:lnTo>
                      <a:pt x="452" y="9"/>
                    </a:lnTo>
                    <a:lnTo>
                      <a:pt x="434" y="5"/>
                    </a:lnTo>
                    <a:lnTo>
                      <a:pt x="417" y="3"/>
                    </a:lnTo>
                    <a:lnTo>
                      <a:pt x="399" y="1"/>
                    </a:lnTo>
                    <a:lnTo>
                      <a:pt x="381" y="0"/>
                    </a:lnTo>
                    <a:lnTo>
                      <a:pt x="363" y="1"/>
                    </a:lnTo>
                    <a:lnTo>
                      <a:pt x="343" y="4"/>
                    </a:lnTo>
                    <a:lnTo>
                      <a:pt x="325" y="8"/>
                    </a:lnTo>
                    <a:lnTo>
                      <a:pt x="305" y="11"/>
                    </a:lnTo>
                    <a:lnTo>
                      <a:pt x="287" y="17"/>
                    </a:lnTo>
                    <a:lnTo>
                      <a:pt x="267" y="25"/>
                    </a:lnTo>
                    <a:lnTo>
                      <a:pt x="247" y="33"/>
                    </a:lnTo>
                    <a:lnTo>
                      <a:pt x="229" y="43"/>
                    </a:lnTo>
                    <a:lnTo>
                      <a:pt x="209" y="54"/>
                    </a:lnTo>
                    <a:lnTo>
                      <a:pt x="190" y="68"/>
                    </a:lnTo>
                    <a:lnTo>
                      <a:pt x="170" y="81"/>
                    </a:lnTo>
                    <a:lnTo>
                      <a:pt x="150" y="97"/>
                    </a:lnTo>
                    <a:lnTo>
                      <a:pt x="131" y="115"/>
                    </a:lnTo>
                    <a:lnTo>
                      <a:pt x="112" y="133"/>
                    </a:lnTo>
                    <a:lnTo>
                      <a:pt x="92" y="154"/>
                    </a:lnTo>
                    <a:lnTo>
                      <a:pt x="74" y="176"/>
                    </a:lnTo>
                    <a:lnTo>
                      <a:pt x="55" y="199"/>
                    </a:lnTo>
                    <a:lnTo>
                      <a:pt x="36" y="224"/>
                    </a:lnTo>
                    <a:lnTo>
                      <a:pt x="17" y="251"/>
                    </a:lnTo>
                    <a:lnTo>
                      <a:pt x="0" y="279"/>
                    </a:lnTo>
                    <a:lnTo>
                      <a:pt x="17" y="290"/>
                    </a:lnTo>
                    <a:lnTo>
                      <a:pt x="36" y="262"/>
                    </a:lnTo>
                    <a:lnTo>
                      <a:pt x="53" y="236"/>
                    </a:lnTo>
                    <a:lnTo>
                      <a:pt x="71" y="212"/>
                    </a:lnTo>
                    <a:lnTo>
                      <a:pt x="90" y="188"/>
                    </a:lnTo>
                    <a:lnTo>
                      <a:pt x="108" y="167"/>
                    </a:lnTo>
                    <a:lnTo>
                      <a:pt x="127" y="148"/>
                    </a:lnTo>
                    <a:lnTo>
                      <a:pt x="145" y="129"/>
                    </a:lnTo>
                    <a:lnTo>
                      <a:pt x="164" y="113"/>
                    </a:lnTo>
                    <a:lnTo>
                      <a:pt x="182" y="99"/>
                    </a:lnTo>
                    <a:lnTo>
                      <a:pt x="201" y="85"/>
                    </a:lnTo>
                    <a:lnTo>
                      <a:pt x="220" y="73"/>
                    </a:lnTo>
                    <a:lnTo>
                      <a:pt x="239" y="62"/>
                    </a:lnTo>
                    <a:lnTo>
                      <a:pt x="257" y="52"/>
                    </a:lnTo>
                    <a:lnTo>
                      <a:pt x="276" y="44"/>
                    </a:lnTo>
                    <a:lnTo>
                      <a:pt x="293" y="37"/>
                    </a:lnTo>
                    <a:lnTo>
                      <a:pt x="311" y="32"/>
                    </a:lnTo>
                    <a:lnTo>
                      <a:pt x="329" y="27"/>
                    </a:lnTo>
                    <a:lnTo>
                      <a:pt x="347" y="25"/>
                    </a:lnTo>
                    <a:lnTo>
                      <a:pt x="364" y="22"/>
                    </a:lnTo>
                    <a:lnTo>
                      <a:pt x="381" y="21"/>
                    </a:lnTo>
                    <a:lnTo>
                      <a:pt x="397" y="22"/>
                    </a:lnTo>
                    <a:lnTo>
                      <a:pt x="415" y="24"/>
                    </a:lnTo>
                    <a:lnTo>
                      <a:pt x="431" y="26"/>
                    </a:lnTo>
                    <a:lnTo>
                      <a:pt x="447" y="30"/>
                    </a:lnTo>
                    <a:lnTo>
                      <a:pt x="463" y="33"/>
                    </a:lnTo>
                    <a:lnTo>
                      <a:pt x="477" y="40"/>
                    </a:lnTo>
                    <a:lnTo>
                      <a:pt x="492" y="46"/>
                    </a:lnTo>
                    <a:lnTo>
                      <a:pt x="506" y="53"/>
                    </a:lnTo>
                    <a:lnTo>
                      <a:pt x="520" y="60"/>
                    </a:lnTo>
                    <a:lnTo>
                      <a:pt x="533" y="70"/>
                    </a:lnTo>
                    <a:lnTo>
                      <a:pt x="546" y="80"/>
                    </a:lnTo>
                    <a:lnTo>
                      <a:pt x="559" y="91"/>
                    </a:lnTo>
                    <a:lnTo>
                      <a:pt x="570" y="102"/>
                    </a:lnTo>
                    <a:lnTo>
                      <a:pt x="582" y="115"/>
                    </a:lnTo>
                    <a:lnTo>
                      <a:pt x="592" y="127"/>
                    </a:lnTo>
                    <a:lnTo>
                      <a:pt x="602" y="142"/>
                    </a:lnTo>
                    <a:lnTo>
                      <a:pt x="611" y="155"/>
                    </a:lnTo>
                    <a:lnTo>
                      <a:pt x="620" y="171"/>
                    </a:lnTo>
                    <a:lnTo>
                      <a:pt x="627" y="186"/>
                    </a:lnTo>
                    <a:lnTo>
                      <a:pt x="635" y="203"/>
                    </a:lnTo>
                    <a:lnTo>
                      <a:pt x="641" y="219"/>
                    </a:lnTo>
                    <a:lnTo>
                      <a:pt x="647" y="236"/>
                    </a:lnTo>
                    <a:lnTo>
                      <a:pt x="652" y="255"/>
                    </a:lnTo>
                    <a:lnTo>
                      <a:pt x="656" y="273"/>
                    </a:lnTo>
                    <a:lnTo>
                      <a:pt x="658" y="292"/>
                    </a:lnTo>
                    <a:lnTo>
                      <a:pt x="661" y="311"/>
                    </a:lnTo>
                    <a:lnTo>
                      <a:pt x="662" y="331"/>
                    </a:lnTo>
                    <a:lnTo>
                      <a:pt x="662" y="352"/>
                    </a:lnTo>
                    <a:lnTo>
                      <a:pt x="661" y="372"/>
                    </a:lnTo>
                    <a:lnTo>
                      <a:pt x="659" y="393"/>
                    </a:lnTo>
                    <a:lnTo>
                      <a:pt x="657" y="413"/>
                    </a:lnTo>
                    <a:lnTo>
                      <a:pt x="653" y="436"/>
                    </a:lnTo>
                    <a:lnTo>
                      <a:pt x="648" y="456"/>
                    </a:lnTo>
                    <a:lnTo>
                      <a:pt x="642" y="479"/>
                    </a:lnTo>
                    <a:lnTo>
                      <a:pt x="635" y="501"/>
                    </a:lnTo>
                    <a:lnTo>
                      <a:pt x="626" y="523"/>
                    </a:lnTo>
                    <a:lnTo>
                      <a:pt x="616" y="545"/>
                    </a:lnTo>
                    <a:lnTo>
                      <a:pt x="605" y="567"/>
                    </a:lnTo>
                    <a:lnTo>
                      <a:pt x="594" y="591"/>
                    </a:lnTo>
                    <a:lnTo>
                      <a:pt x="581" y="613"/>
                    </a:lnTo>
                    <a:lnTo>
                      <a:pt x="566" y="635"/>
                    </a:lnTo>
                    <a:lnTo>
                      <a:pt x="550" y="658"/>
                    </a:lnTo>
                    <a:lnTo>
                      <a:pt x="533" y="680"/>
                    </a:lnTo>
                    <a:lnTo>
                      <a:pt x="514" y="702"/>
                    </a:lnTo>
                    <a:lnTo>
                      <a:pt x="533" y="709"/>
                    </a:lnTo>
                    <a:lnTo>
                      <a:pt x="514" y="702"/>
                    </a:lnTo>
                    <a:lnTo>
                      <a:pt x="512" y="707"/>
                    </a:lnTo>
                    <a:lnTo>
                      <a:pt x="512" y="711"/>
                    </a:lnTo>
                    <a:lnTo>
                      <a:pt x="513" y="715"/>
                    </a:lnTo>
                    <a:lnTo>
                      <a:pt x="515" y="717"/>
                    </a:lnTo>
                    <a:lnTo>
                      <a:pt x="518" y="720"/>
                    </a:lnTo>
                    <a:lnTo>
                      <a:pt x="522" y="721"/>
                    </a:lnTo>
                    <a:lnTo>
                      <a:pt x="525" y="720"/>
                    </a:lnTo>
                    <a:lnTo>
                      <a:pt x="529" y="716"/>
                    </a:lnTo>
                    <a:lnTo>
                      <a:pt x="512" y="7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338880" y="2983680"/>
                <a:ext cx="202320" cy="173880"/>
              </a:xfrm>
              <a:custGeom>
                <a:avLst/>
                <a:gdLst/>
                <a:ahLst/>
                <a:rect l="l" t="t" r="r" b="b"/>
                <a:pathLst>
                  <a:path w="535" h="462">
                    <a:moveTo>
                      <a:pt x="2" y="30"/>
                    </a:moveTo>
                    <a:lnTo>
                      <a:pt x="13" y="46"/>
                    </a:lnTo>
                    <a:lnTo>
                      <a:pt x="41" y="39"/>
                    </a:lnTo>
                    <a:lnTo>
                      <a:pt x="69" y="32"/>
                    </a:lnTo>
                    <a:lnTo>
                      <a:pt x="94" y="27"/>
                    </a:lnTo>
                    <a:lnTo>
                      <a:pt x="120" y="23"/>
                    </a:lnTo>
                    <a:lnTo>
                      <a:pt x="145" y="21"/>
                    </a:lnTo>
                    <a:lnTo>
                      <a:pt x="168" y="21"/>
                    </a:lnTo>
                    <a:lnTo>
                      <a:pt x="192" y="21"/>
                    </a:lnTo>
                    <a:lnTo>
                      <a:pt x="214" y="22"/>
                    </a:lnTo>
                    <a:lnTo>
                      <a:pt x="235" y="24"/>
                    </a:lnTo>
                    <a:lnTo>
                      <a:pt x="256" y="28"/>
                    </a:lnTo>
                    <a:lnTo>
                      <a:pt x="275" y="34"/>
                    </a:lnTo>
                    <a:lnTo>
                      <a:pt x="295" y="40"/>
                    </a:lnTo>
                    <a:lnTo>
                      <a:pt x="312" y="48"/>
                    </a:lnTo>
                    <a:lnTo>
                      <a:pt x="329" y="57"/>
                    </a:lnTo>
                    <a:lnTo>
                      <a:pt x="347" y="68"/>
                    </a:lnTo>
                    <a:lnTo>
                      <a:pt x="363" y="80"/>
                    </a:lnTo>
                    <a:lnTo>
                      <a:pt x="377" y="93"/>
                    </a:lnTo>
                    <a:lnTo>
                      <a:pt x="392" y="108"/>
                    </a:lnTo>
                    <a:lnTo>
                      <a:pt x="406" y="124"/>
                    </a:lnTo>
                    <a:lnTo>
                      <a:pt x="419" y="141"/>
                    </a:lnTo>
                    <a:lnTo>
                      <a:pt x="431" y="160"/>
                    </a:lnTo>
                    <a:lnTo>
                      <a:pt x="442" y="179"/>
                    </a:lnTo>
                    <a:lnTo>
                      <a:pt x="454" y="201"/>
                    </a:lnTo>
                    <a:lnTo>
                      <a:pt x="463" y="225"/>
                    </a:lnTo>
                    <a:lnTo>
                      <a:pt x="472" y="249"/>
                    </a:lnTo>
                    <a:lnTo>
                      <a:pt x="481" y="275"/>
                    </a:lnTo>
                    <a:lnTo>
                      <a:pt x="488" y="302"/>
                    </a:lnTo>
                    <a:lnTo>
                      <a:pt x="494" y="332"/>
                    </a:lnTo>
                    <a:lnTo>
                      <a:pt x="500" y="361"/>
                    </a:lnTo>
                    <a:lnTo>
                      <a:pt x="505" y="393"/>
                    </a:lnTo>
                    <a:lnTo>
                      <a:pt x="510" y="426"/>
                    </a:lnTo>
                    <a:lnTo>
                      <a:pt x="514" y="462"/>
                    </a:lnTo>
                    <a:lnTo>
                      <a:pt x="535" y="460"/>
                    </a:lnTo>
                    <a:lnTo>
                      <a:pt x="531" y="424"/>
                    </a:lnTo>
                    <a:lnTo>
                      <a:pt x="526" y="391"/>
                    </a:lnTo>
                    <a:lnTo>
                      <a:pt x="521" y="358"/>
                    </a:lnTo>
                    <a:lnTo>
                      <a:pt x="515" y="327"/>
                    </a:lnTo>
                    <a:lnTo>
                      <a:pt x="508" y="297"/>
                    </a:lnTo>
                    <a:lnTo>
                      <a:pt x="500" y="269"/>
                    </a:lnTo>
                    <a:lnTo>
                      <a:pt x="492" y="242"/>
                    </a:lnTo>
                    <a:lnTo>
                      <a:pt x="482" y="216"/>
                    </a:lnTo>
                    <a:lnTo>
                      <a:pt x="472" y="193"/>
                    </a:lnTo>
                    <a:lnTo>
                      <a:pt x="461" y="169"/>
                    </a:lnTo>
                    <a:lnTo>
                      <a:pt x="449" y="148"/>
                    </a:lnTo>
                    <a:lnTo>
                      <a:pt x="436" y="129"/>
                    </a:lnTo>
                    <a:lnTo>
                      <a:pt x="422" y="110"/>
                    </a:lnTo>
                    <a:lnTo>
                      <a:pt x="408" y="93"/>
                    </a:lnTo>
                    <a:lnTo>
                      <a:pt x="392" y="78"/>
                    </a:lnTo>
                    <a:lnTo>
                      <a:pt x="376" y="64"/>
                    </a:lnTo>
                    <a:lnTo>
                      <a:pt x="359" y="51"/>
                    </a:lnTo>
                    <a:lnTo>
                      <a:pt x="340" y="39"/>
                    </a:lnTo>
                    <a:lnTo>
                      <a:pt x="322" y="29"/>
                    </a:lnTo>
                    <a:lnTo>
                      <a:pt x="302" y="21"/>
                    </a:lnTo>
                    <a:lnTo>
                      <a:pt x="281" y="14"/>
                    </a:lnTo>
                    <a:lnTo>
                      <a:pt x="260" y="8"/>
                    </a:lnTo>
                    <a:lnTo>
                      <a:pt x="238" y="3"/>
                    </a:lnTo>
                    <a:lnTo>
                      <a:pt x="215" y="1"/>
                    </a:lnTo>
                    <a:lnTo>
                      <a:pt x="192" y="0"/>
                    </a:lnTo>
                    <a:lnTo>
                      <a:pt x="168" y="0"/>
                    </a:lnTo>
                    <a:lnTo>
                      <a:pt x="144" y="1"/>
                    </a:lnTo>
                    <a:lnTo>
                      <a:pt x="118" y="3"/>
                    </a:lnTo>
                    <a:lnTo>
                      <a:pt x="91" y="7"/>
                    </a:lnTo>
                    <a:lnTo>
                      <a:pt x="64" y="12"/>
                    </a:lnTo>
                    <a:lnTo>
                      <a:pt x="37" y="18"/>
                    </a:lnTo>
                    <a:lnTo>
                      <a:pt x="8" y="25"/>
                    </a:lnTo>
                    <a:lnTo>
                      <a:pt x="19" y="41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5" y="45"/>
                    </a:lnTo>
                    <a:lnTo>
                      <a:pt x="10" y="46"/>
                    </a:lnTo>
                    <a:lnTo>
                      <a:pt x="13" y="46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028600" y="2567520"/>
                <a:ext cx="20880" cy="43200"/>
              </a:xfrm>
              <a:custGeom>
                <a:avLst/>
                <a:gdLst/>
                <a:ahLst/>
                <a:rect l="l" t="t" r="r" b="b"/>
                <a:pathLst>
                  <a:path w="57" h="115">
                    <a:moveTo>
                      <a:pt x="0" y="115"/>
                    </a:moveTo>
                    <a:lnTo>
                      <a:pt x="8" y="115"/>
                    </a:lnTo>
                    <a:lnTo>
                      <a:pt x="14" y="113"/>
                    </a:lnTo>
                    <a:lnTo>
                      <a:pt x="20" y="112"/>
                    </a:lnTo>
                    <a:lnTo>
                      <a:pt x="25" y="110"/>
                    </a:lnTo>
                    <a:lnTo>
                      <a:pt x="35" y="104"/>
                    </a:lnTo>
                    <a:lnTo>
                      <a:pt x="43" y="97"/>
                    </a:lnTo>
                    <a:lnTo>
                      <a:pt x="50" y="89"/>
                    </a:lnTo>
                    <a:lnTo>
                      <a:pt x="53" y="79"/>
                    </a:lnTo>
                    <a:lnTo>
                      <a:pt x="57" y="68"/>
                    </a:lnTo>
                    <a:lnTo>
                      <a:pt x="57" y="58"/>
                    </a:lnTo>
                    <a:lnTo>
                      <a:pt x="57" y="47"/>
                    </a:lnTo>
                    <a:lnTo>
                      <a:pt x="53" y="37"/>
                    </a:lnTo>
                    <a:lnTo>
                      <a:pt x="50" y="27"/>
                    </a:lnTo>
                    <a:lnTo>
                      <a:pt x="43" y="19"/>
                    </a:lnTo>
                    <a:lnTo>
                      <a:pt x="35" y="11"/>
                    </a:lnTo>
                    <a:lnTo>
                      <a:pt x="25" y="5"/>
                    </a:lnTo>
                    <a:lnTo>
                      <a:pt x="20" y="4"/>
                    </a:lnTo>
                    <a:lnTo>
                      <a:pt x="14" y="3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1924920" y="2567520"/>
                <a:ext cx="103680" cy="43200"/>
              </a:xfrm>
              <a:custGeom>
                <a:avLst/>
                <a:gdLst/>
                <a:ahLst/>
                <a:rect l="l" t="t" r="r" b="b"/>
                <a:pathLst>
                  <a:path w="273" h="115">
                    <a:moveTo>
                      <a:pt x="115" y="54"/>
                    </a:moveTo>
                    <a:lnTo>
                      <a:pt x="58" y="115"/>
                    </a:lnTo>
                    <a:lnTo>
                      <a:pt x="84" y="115"/>
                    </a:lnTo>
                    <a:lnTo>
                      <a:pt x="111" y="115"/>
                    </a:lnTo>
                    <a:lnTo>
                      <a:pt x="138" y="115"/>
                    </a:lnTo>
                    <a:lnTo>
                      <a:pt x="165" y="115"/>
                    </a:lnTo>
                    <a:lnTo>
                      <a:pt x="192" y="115"/>
                    </a:lnTo>
                    <a:lnTo>
                      <a:pt x="219" y="115"/>
                    </a:lnTo>
                    <a:lnTo>
                      <a:pt x="246" y="115"/>
                    </a:lnTo>
                    <a:lnTo>
                      <a:pt x="273" y="115"/>
                    </a:lnTo>
                    <a:lnTo>
                      <a:pt x="273" y="0"/>
                    </a:lnTo>
                    <a:lnTo>
                      <a:pt x="246" y="0"/>
                    </a:lnTo>
                    <a:lnTo>
                      <a:pt x="219" y="0"/>
                    </a:lnTo>
                    <a:lnTo>
                      <a:pt x="192" y="0"/>
                    </a:lnTo>
                    <a:lnTo>
                      <a:pt x="165" y="0"/>
                    </a:lnTo>
                    <a:lnTo>
                      <a:pt x="138" y="0"/>
                    </a:lnTo>
                    <a:lnTo>
                      <a:pt x="111" y="0"/>
                    </a:lnTo>
                    <a:lnTo>
                      <a:pt x="84" y="0"/>
                    </a:lnTo>
                    <a:lnTo>
                      <a:pt x="58" y="0"/>
                    </a:lnTo>
                    <a:lnTo>
                      <a:pt x="0" y="62"/>
                    </a:lnTo>
                    <a:lnTo>
                      <a:pt x="58" y="0"/>
                    </a:lnTo>
                    <a:lnTo>
                      <a:pt x="51" y="1"/>
                    </a:lnTo>
                    <a:lnTo>
                      <a:pt x="45" y="3"/>
                    </a:lnTo>
                    <a:lnTo>
                      <a:pt x="39" y="4"/>
                    </a:lnTo>
                    <a:lnTo>
                      <a:pt x="32" y="5"/>
                    </a:lnTo>
                    <a:lnTo>
                      <a:pt x="23" y="11"/>
                    </a:lnTo>
                    <a:lnTo>
                      <a:pt x="15" y="19"/>
                    </a:lnTo>
                    <a:lnTo>
                      <a:pt x="9" y="27"/>
                    </a:lnTo>
                    <a:lnTo>
                      <a:pt x="4" y="37"/>
                    </a:lnTo>
                    <a:lnTo>
                      <a:pt x="2" y="47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9"/>
                    </a:lnTo>
                    <a:lnTo>
                      <a:pt x="9" y="89"/>
                    </a:lnTo>
                    <a:lnTo>
                      <a:pt x="15" y="97"/>
                    </a:lnTo>
                    <a:lnTo>
                      <a:pt x="23" y="104"/>
                    </a:lnTo>
                    <a:lnTo>
                      <a:pt x="32" y="110"/>
                    </a:lnTo>
                    <a:lnTo>
                      <a:pt x="39" y="112"/>
                    </a:lnTo>
                    <a:lnTo>
                      <a:pt x="45" y="113"/>
                    </a:lnTo>
                    <a:lnTo>
                      <a:pt x="51" y="115"/>
                    </a:lnTo>
                    <a:lnTo>
                      <a:pt x="58" y="115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1924920" y="2588040"/>
                <a:ext cx="50760" cy="183600"/>
              </a:xfrm>
              <a:custGeom>
                <a:avLst/>
                <a:gdLst/>
                <a:ahLst/>
                <a:rect l="l" t="t" r="r" b="b"/>
                <a:pathLst>
                  <a:path w="137" h="487">
                    <a:moveTo>
                      <a:pt x="80" y="374"/>
                    </a:moveTo>
                    <a:lnTo>
                      <a:pt x="137" y="428"/>
                    </a:lnTo>
                    <a:lnTo>
                      <a:pt x="134" y="374"/>
                    </a:lnTo>
                    <a:lnTo>
                      <a:pt x="132" y="320"/>
                    </a:lnTo>
                    <a:lnTo>
                      <a:pt x="130" y="267"/>
                    </a:lnTo>
                    <a:lnTo>
                      <a:pt x="127" y="213"/>
                    </a:lnTo>
                    <a:lnTo>
                      <a:pt x="123" y="160"/>
                    </a:lnTo>
                    <a:lnTo>
                      <a:pt x="121" y="107"/>
                    </a:lnTo>
                    <a:lnTo>
                      <a:pt x="117" y="53"/>
                    </a:lnTo>
                    <a:lnTo>
                      <a:pt x="115" y="0"/>
                    </a:lnTo>
                    <a:lnTo>
                      <a:pt x="0" y="8"/>
                    </a:lnTo>
                    <a:lnTo>
                      <a:pt x="4" y="61"/>
                    </a:lnTo>
                    <a:lnTo>
                      <a:pt x="8" y="114"/>
                    </a:lnTo>
                    <a:lnTo>
                      <a:pt x="10" y="166"/>
                    </a:lnTo>
                    <a:lnTo>
                      <a:pt x="14" y="219"/>
                    </a:lnTo>
                    <a:lnTo>
                      <a:pt x="16" y="272"/>
                    </a:lnTo>
                    <a:lnTo>
                      <a:pt x="19" y="326"/>
                    </a:lnTo>
                    <a:lnTo>
                      <a:pt x="21" y="379"/>
                    </a:lnTo>
                    <a:lnTo>
                      <a:pt x="24" y="433"/>
                    </a:lnTo>
                    <a:lnTo>
                      <a:pt x="80" y="487"/>
                    </a:lnTo>
                    <a:lnTo>
                      <a:pt x="24" y="433"/>
                    </a:lnTo>
                    <a:lnTo>
                      <a:pt x="25" y="441"/>
                    </a:lnTo>
                    <a:lnTo>
                      <a:pt x="26" y="447"/>
                    </a:lnTo>
                    <a:lnTo>
                      <a:pt x="27" y="453"/>
                    </a:lnTo>
                    <a:lnTo>
                      <a:pt x="30" y="458"/>
                    </a:lnTo>
                    <a:lnTo>
                      <a:pt x="36" y="468"/>
                    </a:lnTo>
                    <a:lnTo>
                      <a:pt x="43" y="475"/>
                    </a:lnTo>
                    <a:lnTo>
                      <a:pt x="53" y="481"/>
                    </a:lnTo>
                    <a:lnTo>
                      <a:pt x="63" y="485"/>
                    </a:lnTo>
                    <a:lnTo>
                      <a:pt x="73" y="487"/>
                    </a:lnTo>
                    <a:lnTo>
                      <a:pt x="84" y="487"/>
                    </a:lnTo>
                    <a:lnTo>
                      <a:pt x="94" y="486"/>
                    </a:lnTo>
                    <a:lnTo>
                      <a:pt x="104" y="483"/>
                    </a:lnTo>
                    <a:lnTo>
                      <a:pt x="114" y="478"/>
                    </a:lnTo>
                    <a:lnTo>
                      <a:pt x="122" y="471"/>
                    </a:lnTo>
                    <a:lnTo>
                      <a:pt x="128" y="463"/>
                    </a:lnTo>
                    <a:lnTo>
                      <a:pt x="133" y="453"/>
                    </a:lnTo>
                    <a:lnTo>
                      <a:pt x="136" y="448"/>
                    </a:lnTo>
                    <a:lnTo>
                      <a:pt x="137" y="442"/>
                    </a:lnTo>
                    <a:lnTo>
                      <a:pt x="137" y="435"/>
                    </a:lnTo>
                    <a:lnTo>
                      <a:pt x="137" y="428"/>
                    </a:lnTo>
                    <a:lnTo>
                      <a:pt x="80" y="374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1954800" y="2728080"/>
                <a:ext cx="73440" cy="43560"/>
              </a:xfrm>
              <a:custGeom>
                <a:avLst/>
                <a:gdLst/>
                <a:ahLst/>
                <a:rect l="l" t="t" r="r" b="b"/>
                <a:pathLst>
                  <a:path w="193" h="113">
                    <a:moveTo>
                      <a:pt x="193" y="0"/>
                    </a:moveTo>
                    <a:lnTo>
                      <a:pt x="170" y="0"/>
                    </a:lnTo>
                    <a:lnTo>
                      <a:pt x="147" y="0"/>
                    </a:lnTo>
                    <a:lnTo>
                      <a:pt x="122" y="0"/>
                    </a:lnTo>
                    <a:lnTo>
                      <a:pt x="97" y="0"/>
                    </a:lnTo>
                    <a:lnTo>
                      <a:pt x="74" y="0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13"/>
                    </a:lnTo>
                    <a:lnTo>
                      <a:pt x="25" y="113"/>
                    </a:lnTo>
                    <a:lnTo>
                      <a:pt x="50" y="113"/>
                    </a:lnTo>
                    <a:lnTo>
                      <a:pt x="74" y="113"/>
                    </a:lnTo>
                    <a:lnTo>
                      <a:pt x="97" y="113"/>
                    </a:lnTo>
                    <a:lnTo>
                      <a:pt x="122" y="113"/>
                    </a:lnTo>
                    <a:lnTo>
                      <a:pt x="147" y="113"/>
                    </a:lnTo>
                    <a:lnTo>
                      <a:pt x="170" y="113"/>
                    </a:lnTo>
                    <a:lnTo>
                      <a:pt x="193" y="11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028600" y="2728080"/>
                <a:ext cx="20880" cy="4356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0" y="113"/>
                    </a:moveTo>
                    <a:lnTo>
                      <a:pt x="8" y="113"/>
                    </a:lnTo>
                    <a:lnTo>
                      <a:pt x="14" y="112"/>
                    </a:lnTo>
                    <a:lnTo>
                      <a:pt x="20" y="111"/>
                    </a:lnTo>
                    <a:lnTo>
                      <a:pt x="25" y="109"/>
                    </a:lnTo>
                    <a:lnTo>
                      <a:pt x="35" y="104"/>
                    </a:lnTo>
                    <a:lnTo>
                      <a:pt x="43" y="96"/>
                    </a:lnTo>
                    <a:lnTo>
                      <a:pt x="50" y="88"/>
                    </a:lnTo>
                    <a:lnTo>
                      <a:pt x="53" y="78"/>
                    </a:lnTo>
                    <a:lnTo>
                      <a:pt x="57" y="68"/>
                    </a:lnTo>
                    <a:lnTo>
                      <a:pt x="57" y="57"/>
                    </a:lnTo>
                    <a:lnTo>
                      <a:pt x="57" y="46"/>
                    </a:lnTo>
                    <a:lnTo>
                      <a:pt x="53" y="36"/>
                    </a:lnTo>
                    <a:lnTo>
                      <a:pt x="50" y="26"/>
                    </a:lnTo>
                    <a:lnTo>
                      <a:pt x="43" y="17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20" y="3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1928520" y="2641320"/>
                <a:ext cx="20520" cy="43200"/>
              </a:xfrm>
              <a:custGeom>
                <a:avLst/>
                <a:gdLst/>
                <a:ahLst/>
                <a:rect l="l" t="t" r="r" b="b"/>
                <a:pathLst>
                  <a:path w="57" h="114">
                    <a:moveTo>
                      <a:pt x="57" y="0"/>
                    </a:moveTo>
                    <a:lnTo>
                      <a:pt x="49" y="0"/>
                    </a:lnTo>
                    <a:lnTo>
                      <a:pt x="43" y="1"/>
                    </a:lnTo>
                    <a:lnTo>
                      <a:pt x="37" y="2"/>
                    </a:lnTo>
                    <a:lnTo>
                      <a:pt x="32" y="5"/>
                    </a:lnTo>
                    <a:lnTo>
                      <a:pt x="22" y="11"/>
                    </a:lnTo>
                    <a:lnTo>
                      <a:pt x="14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7"/>
                    </a:lnTo>
                    <a:lnTo>
                      <a:pt x="0" y="56"/>
                    </a:lnTo>
                    <a:lnTo>
                      <a:pt x="1" y="67"/>
                    </a:lnTo>
                    <a:lnTo>
                      <a:pt x="4" y="77"/>
                    </a:lnTo>
                    <a:lnTo>
                      <a:pt x="8" y="87"/>
                    </a:lnTo>
                    <a:lnTo>
                      <a:pt x="14" y="96"/>
                    </a:lnTo>
                    <a:lnTo>
                      <a:pt x="22" y="103"/>
                    </a:lnTo>
                    <a:lnTo>
                      <a:pt x="32" y="109"/>
                    </a:lnTo>
                    <a:lnTo>
                      <a:pt x="37" y="110"/>
                    </a:lnTo>
                    <a:lnTo>
                      <a:pt x="43" y="112"/>
                    </a:lnTo>
                    <a:lnTo>
                      <a:pt x="49" y="113"/>
                    </a:lnTo>
                    <a:lnTo>
                      <a:pt x="57" y="11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9" name=""/>
            <p:cNvSpPr/>
            <p:nvPr/>
          </p:nvSpPr>
          <p:spPr>
            <a:xfrm>
              <a:off x="1949400" y="2641680"/>
              <a:ext cx="77400" cy="43200"/>
            </a:xfrm>
            <a:custGeom>
              <a:avLst/>
              <a:gdLst/>
              <a:ahLst/>
              <a:rect l="l" t="t" r="r" b="b"/>
              <a:pathLst>
                <a:path w="202" h="114">
                  <a:moveTo>
                    <a:pt x="202" y="0"/>
                  </a:moveTo>
                  <a:lnTo>
                    <a:pt x="177" y="0"/>
                  </a:lnTo>
                  <a:lnTo>
                    <a:pt x="151" y="0"/>
                  </a:lnTo>
                  <a:lnTo>
                    <a:pt x="126" y="0"/>
                  </a:lnTo>
                  <a:lnTo>
                    <a:pt x="101" y="0"/>
                  </a:lnTo>
                  <a:lnTo>
                    <a:pt x="76" y="0"/>
                  </a:lnTo>
                  <a:lnTo>
                    <a:pt x="50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6" y="114"/>
                  </a:lnTo>
                  <a:lnTo>
                    <a:pt x="50" y="114"/>
                  </a:lnTo>
                  <a:lnTo>
                    <a:pt x="76" y="114"/>
                  </a:lnTo>
                  <a:lnTo>
                    <a:pt x="101" y="114"/>
                  </a:lnTo>
                  <a:lnTo>
                    <a:pt x="126" y="114"/>
                  </a:lnTo>
                  <a:lnTo>
                    <a:pt x="151" y="114"/>
                  </a:lnTo>
                  <a:lnTo>
                    <a:pt x="177" y="114"/>
                  </a:lnTo>
                  <a:lnTo>
                    <a:pt x="202" y="114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027160" y="2641680"/>
              <a:ext cx="20520" cy="4320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0" y="114"/>
                  </a:moveTo>
                  <a:lnTo>
                    <a:pt x="7" y="113"/>
                  </a:lnTo>
                  <a:lnTo>
                    <a:pt x="13" y="112"/>
                  </a:lnTo>
                  <a:lnTo>
                    <a:pt x="19" y="110"/>
                  </a:lnTo>
                  <a:lnTo>
                    <a:pt x="25" y="109"/>
                  </a:lnTo>
                  <a:lnTo>
                    <a:pt x="34" y="103"/>
                  </a:lnTo>
                  <a:lnTo>
                    <a:pt x="43" y="96"/>
                  </a:lnTo>
                  <a:lnTo>
                    <a:pt x="49" y="87"/>
                  </a:lnTo>
                  <a:lnTo>
                    <a:pt x="54" y="77"/>
                  </a:lnTo>
                  <a:lnTo>
                    <a:pt x="56" y="67"/>
                  </a:lnTo>
                  <a:lnTo>
                    <a:pt x="57" y="56"/>
                  </a:lnTo>
                  <a:lnTo>
                    <a:pt x="56" y="47"/>
                  </a:lnTo>
                  <a:lnTo>
                    <a:pt x="54" y="35"/>
                  </a:lnTo>
                  <a:lnTo>
                    <a:pt x="49" y="26"/>
                  </a:lnTo>
                  <a:lnTo>
                    <a:pt x="43" y="17"/>
                  </a:lnTo>
                  <a:lnTo>
                    <a:pt x="34" y="11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0556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5" y="53"/>
                  </a:lnTo>
                  <a:lnTo>
                    <a:pt x="45" y="56"/>
                  </a:lnTo>
                  <a:lnTo>
                    <a:pt x="56" y="57"/>
                  </a:lnTo>
                  <a:lnTo>
                    <a:pt x="66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055600" y="2567520"/>
              <a:ext cx="75240" cy="176040"/>
            </a:xfrm>
            <a:custGeom>
              <a:avLst/>
              <a:gdLst/>
              <a:ahLst/>
              <a:rect l="l" t="t" r="r" b="b"/>
              <a:pathLst>
                <a:path w="201" h="463">
                  <a:moveTo>
                    <a:pt x="145" y="0"/>
                  </a:moveTo>
                  <a:lnTo>
                    <a:pt x="87" y="57"/>
                  </a:lnTo>
                  <a:lnTo>
                    <a:pt x="87" y="77"/>
                  </a:lnTo>
                  <a:lnTo>
                    <a:pt x="85" y="98"/>
                  </a:lnTo>
                  <a:lnTo>
                    <a:pt x="81" y="120"/>
                  </a:lnTo>
                  <a:lnTo>
                    <a:pt x="76" y="142"/>
                  </a:lnTo>
                  <a:lnTo>
                    <a:pt x="62" y="193"/>
                  </a:lnTo>
                  <a:lnTo>
                    <a:pt x="46" y="244"/>
                  </a:lnTo>
                  <a:lnTo>
                    <a:pt x="29" y="297"/>
                  </a:lnTo>
                  <a:lnTo>
                    <a:pt x="15" y="351"/>
                  </a:lnTo>
                  <a:lnTo>
                    <a:pt x="8" y="379"/>
                  </a:lnTo>
                  <a:lnTo>
                    <a:pt x="3" y="407"/>
                  </a:lnTo>
                  <a:lnTo>
                    <a:pt x="1" y="435"/>
                  </a:lnTo>
                  <a:lnTo>
                    <a:pt x="0" y="463"/>
                  </a:lnTo>
                  <a:lnTo>
                    <a:pt x="113" y="463"/>
                  </a:lnTo>
                  <a:lnTo>
                    <a:pt x="114" y="444"/>
                  </a:lnTo>
                  <a:lnTo>
                    <a:pt x="117" y="423"/>
                  </a:lnTo>
                  <a:lnTo>
                    <a:pt x="120" y="402"/>
                  </a:lnTo>
                  <a:lnTo>
                    <a:pt x="125" y="379"/>
                  </a:lnTo>
                  <a:lnTo>
                    <a:pt x="139" y="329"/>
                  </a:lnTo>
                  <a:lnTo>
                    <a:pt x="155" y="278"/>
                  </a:lnTo>
                  <a:lnTo>
                    <a:pt x="171" y="225"/>
                  </a:lnTo>
                  <a:lnTo>
                    <a:pt x="185" y="171"/>
                  </a:lnTo>
                  <a:lnTo>
                    <a:pt x="192" y="142"/>
                  </a:lnTo>
                  <a:lnTo>
                    <a:pt x="197" y="114"/>
                  </a:lnTo>
                  <a:lnTo>
                    <a:pt x="200" y="86"/>
                  </a:lnTo>
                  <a:lnTo>
                    <a:pt x="201" y="57"/>
                  </a:lnTo>
                  <a:lnTo>
                    <a:pt x="145" y="114"/>
                  </a:lnTo>
                  <a:lnTo>
                    <a:pt x="201" y="57"/>
                  </a:lnTo>
                  <a:lnTo>
                    <a:pt x="201" y="50"/>
                  </a:lnTo>
                  <a:lnTo>
                    <a:pt x="200" y="44"/>
                  </a:lnTo>
                  <a:lnTo>
                    <a:pt x="199" y="38"/>
                  </a:lnTo>
                  <a:lnTo>
                    <a:pt x="197" y="32"/>
                  </a:lnTo>
                  <a:lnTo>
                    <a:pt x="190" y="22"/>
                  </a:lnTo>
                  <a:lnTo>
                    <a:pt x="183" y="14"/>
                  </a:lnTo>
                  <a:lnTo>
                    <a:pt x="174" y="8"/>
                  </a:lnTo>
                  <a:lnTo>
                    <a:pt x="166" y="3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4" y="1"/>
                  </a:lnTo>
                  <a:lnTo>
                    <a:pt x="124" y="3"/>
                  </a:lnTo>
                  <a:lnTo>
                    <a:pt x="114" y="8"/>
                  </a:lnTo>
                  <a:lnTo>
                    <a:pt x="106" y="14"/>
                  </a:lnTo>
                  <a:lnTo>
                    <a:pt x="98" y="22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8" y="44"/>
                  </a:lnTo>
                  <a:lnTo>
                    <a:pt x="88" y="50"/>
                  </a:lnTo>
                  <a:lnTo>
                    <a:pt x="87" y="57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106360" y="2567520"/>
              <a:ext cx="86760" cy="201960"/>
            </a:xfrm>
            <a:custGeom>
              <a:avLst/>
              <a:gdLst/>
              <a:ahLst/>
              <a:rect l="l" t="t" r="r" b="b"/>
              <a:pathLst>
                <a:path w="228" h="535">
                  <a:moveTo>
                    <a:pt x="113" y="477"/>
                  </a:moveTo>
                  <a:lnTo>
                    <a:pt x="204" y="433"/>
                  </a:lnTo>
                  <a:lnTo>
                    <a:pt x="207" y="435"/>
                  </a:lnTo>
                  <a:lnTo>
                    <a:pt x="207" y="434"/>
                  </a:lnTo>
                  <a:lnTo>
                    <a:pt x="204" y="430"/>
                  </a:lnTo>
                  <a:lnTo>
                    <a:pt x="202" y="425"/>
                  </a:lnTo>
                  <a:lnTo>
                    <a:pt x="194" y="403"/>
                  </a:lnTo>
                  <a:lnTo>
                    <a:pt x="187" y="379"/>
                  </a:lnTo>
                  <a:lnTo>
                    <a:pt x="173" y="312"/>
                  </a:lnTo>
                  <a:lnTo>
                    <a:pt x="159" y="238"/>
                  </a:lnTo>
                  <a:lnTo>
                    <a:pt x="151" y="200"/>
                  </a:lnTo>
                  <a:lnTo>
                    <a:pt x="143" y="163"/>
                  </a:lnTo>
                  <a:lnTo>
                    <a:pt x="132" y="128"/>
                  </a:lnTo>
                  <a:lnTo>
                    <a:pt x="121" y="96"/>
                  </a:lnTo>
                  <a:lnTo>
                    <a:pt x="113" y="78"/>
                  </a:lnTo>
                  <a:lnTo>
                    <a:pt x="105" y="62"/>
                  </a:lnTo>
                  <a:lnTo>
                    <a:pt x="95" y="48"/>
                  </a:lnTo>
                  <a:lnTo>
                    <a:pt x="84" y="34"/>
                  </a:lnTo>
                  <a:lnTo>
                    <a:pt x="70" y="22"/>
                  </a:lnTo>
                  <a:lnTo>
                    <a:pt x="52" y="11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10" y="114"/>
                  </a:lnTo>
                  <a:lnTo>
                    <a:pt x="5" y="113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20"/>
                  </a:lnTo>
                  <a:lnTo>
                    <a:pt x="11" y="128"/>
                  </a:lnTo>
                  <a:lnTo>
                    <a:pt x="15" y="136"/>
                  </a:lnTo>
                  <a:lnTo>
                    <a:pt x="25" y="162"/>
                  </a:lnTo>
                  <a:lnTo>
                    <a:pt x="32" y="192"/>
                  </a:lnTo>
                  <a:lnTo>
                    <a:pt x="41" y="225"/>
                  </a:lnTo>
                  <a:lnTo>
                    <a:pt x="48" y="259"/>
                  </a:lnTo>
                  <a:lnTo>
                    <a:pt x="62" y="334"/>
                  </a:lnTo>
                  <a:lnTo>
                    <a:pt x="76" y="403"/>
                  </a:lnTo>
                  <a:lnTo>
                    <a:pt x="86" y="438"/>
                  </a:lnTo>
                  <a:lnTo>
                    <a:pt x="96" y="466"/>
                  </a:lnTo>
                  <a:lnTo>
                    <a:pt x="103" y="481"/>
                  </a:lnTo>
                  <a:lnTo>
                    <a:pt x="111" y="495"/>
                  </a:lnTo>
                  <a:lnTo>
                    <a:pt x="121" y="509"/>
                  </a:lnTo>
                  <a:lnTo>
                    <a:pt x="134" y="522"/>
                  </a:lnTo>
                  <a:lnTo>
                    <a:pt x="226" y="477"/>
                  </a:lnTo>
                  <a:lnTo>
                    <a:pt x="134" y="522"/>
                  </a:lnTo>
                  <a:lnTo>
                    <a:pt x="140" y="526"/>
                  </a:lnTo>
                  <a:lnTo>
                    <a:pt x="146" y="530"/>
                  </a:lnTo>
                  <a:lnTo>
                    <a:pt x="151" y="532"/>
                  </a:lnTo>
                  <a:lnTo>
                    <a:pt x="157" y="534"/>
                  </a:lnTo>
                  <a:lnTo>
                    <a:pt x="169" y="535"/>
                  </a:lnTo>
                  <a:lnTo>
                    <a:pt x="180" y="535"/>
                  </a:lnTo>
                  <a:lnTo>
                    <a:pt x="189" y="531"/>
                  </a:lnTo>
                  <a:lnTo>
                    <a:pt x="199" y="526"/>
                  </a:lnTo>
                  <a:lnTo>
                    <a:pt x="207" y="520"/>
                  </a:lnTo>
                  <a:lnTo>
                    <a:pt x="214" y="513"/>
                  </a:lnTo>
                  <a:lnTo>
                    <a:pt x="220" y="503"/>
                  </a:lnTo>
                  <a:lnTo>
                    <a:pt x="224" y="493"/>
                  </a:lnTo>
                  <a:lnTo>
                    <a:pt x="226" y="483"/>
                  </a:lnTo>
                  <a:lnTo>
                    <a:pt x="228" y="472"/>
                  </a:lnTo>
                  <a:lnTo>
                    <a:pt x="225" y="462"/>
                  </a:lnTo>
                  <a:lnTo>
                    <a:pt x="221" y="451"/>
                  </a:lnTo>
                  <a:lnTo>
                    <a:pt x="218" y="446"/>
                  </a:lnTo>
                  <a:lnTo>
                    <a:pt x="214" y="441"/>
                  </a:lnTo>
                  <a:lnTo>
                    <a:pt x="209" y="436"/>
                  </a:lnTo>
                  <a:lnTo>
                    <a:pt x="204" y="433"/>
                  </a:lnTo>
                  <a:lnTo>
                    <a:pt x="113" y="47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150280" y="2556000"/>
              <a:ext cx="83160" cy="192960"/>
            </a:xfrm>
            <a:custGeom>
              <a:avLst/>
              <a:gdLst/>
              <a:ahLst/>
              <a:rect l="l" t="t" r="r" b="b"/>
              <a:pathLst>
                <a:path w="222" h="511">
                  <a:moveTo>
                    <a:pt x="123" y="18"/>
                  </a:moveTo>
                  <a:lnTo>
                    <a:pt x="123" y="19"/>
                  </a:lnTo>
                  <a:lnTo>
                    <a:pt x="112" y="31"/>
                  </a:lnTo>
                  <a:lnTo>
                    <a:pt x="104" y="44"/>
                  </a:lnTo>
                  <a:lnTo>
                    <a:pt x="95" y="56"/>
                  </a:lnTo>
                  <a:lnTo>
                    <a:pt x="86" y="71"/>
                  </a:lnTo>
                  <a:lnTo>
                    <a:pt x="74" y="99"/>
                  </a:lnTo>
                  <a:lnTo>
                    <a:pt x="62" y="130"/>
                  </a:lnTo>
                  <a:lnTo>
                    <a:pt x="51" y="163"/>
                  </a:lnTo>
                  <a:lnTo>
                    <a:pt x="42" y="196"/>
                  </a:lnTo>
                  <a:lnTo>
                    <a:pt x="33" y="232"/>
                  </a:lnTo>
                  <a:lnTo>
                    <a:pt x="26" y="267"/>
                  </a:lnTo>
                  <a:lnTo>
                    <a:pt x="20" y="303"/>
                  </a:lnTo>
                  <a:lnTo>
                    <a:pt x="15" y="339"/>
                  </a:lnTo>
                  <a:lnTo>
                    <a:pt x="10" y="373"/>
                  </a:lnTo>
                  <a:lnTo>
                    <a:pt x="6" y="406"/>
                  </a:lnTo>
                  <a:lnTo>
                    <a:pt x="1" y="464"/>
                  </a:lnTo>
                  <a:lnTo>
                    <a:pt x="0" y="511"/>
                  </a:lnTo>
                  <a:lnTo>
                    <a:pt x="113" y="511"/>
                  </a:lnTo>
                  <a:lnTo>
                    <a:pt x="115" y="470"/>
                  </a:lnTo>
                  <a:lnTo>
                    <a:pt x="120" y="416"/>
                  </a:lnTo>
                  <a:lnTo>
                    <a:pt x="123" y="387"/>
                  </a:lnTo>
                  <a:lnTo>
                    <a:pt x="127" y="355"/>
                  </a:lnTo>
                  <a:lnTo>
                    <a:pt x="132" y="322"/>
                  </a:lnTo>
                  <a:lnTo>
                    <a:pt x="138" y="288"/>
                  </a:lnTo>
                  <a:lnTo>
                    <a:pt x="144" y="256"/>
                  </a:lnTo>
                  <a:lnTo>
                    <a:pt x="151" y="224"/>
                  </a:lnTo>
                  <a:lnTo>
                    <a:pt x="160" y="195"/>
                  </a:lnTo>
                  <a:lnTo>
                    <a:pt x="169" y="167"/>
                  </a:lnTo>
                  <a:lnTo>
                    <a:pt x="179" y="143"/>
                  </a:lnTo>
                  <a:lnTo>
                    <a:pt x="188" y="121"/>
                  </a:lnTo>
                  <a:lnTo>
                    <a:pt x="192" y="115"/>
                  </a:lnTo>
                  <a:lnTo>
                    <a:pt x="197" y="107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03" y="99"/>
                  </a:lnTo>
                  <a:lnTo>
                    <a:pt x="204" y="98"/>
                  </a:lnTo>
                  <a:lnTo>
                    <a:pt x="208" y="93"/>
                  </a:lnTo>
                  <a:lnTo>
                    <a:pt x="213" y="88"/>
                  </a:lnTo>
                  <a:lnTo>
                    <a:pt x="215" y="83"/>
                  </a:lnTo>
                  <a:lnTo>
                    <a:pt x="218" y="77"/>
                  </a:lnTo>
                  <a:lnTo>
                    <a:pt x="220" y="66"/>
                  </a:lnTo>
                  <a:lnTo>
                    <a:pt x="222" y="55"/>
                  </a:lnTo>
                  <a:lnTo>
                    <a:pt x="219" y="45"/>
                  </a:lnTo>
                  <a:lnTo>
                    <a:pt x="215" y="35"/>
                  </a:lnTo>
                  <a:lnTo>
                    <a:pt x="209" y="26"/>
                  </a:lnTo>
                  <a:lnTo>
                    <a:pt x="203" y="18"/>
                  </a:lnTo>
                  <a:lnTo>
                    <a:pt x="195" y="12"/>
                  </a:lnTo>
                  <a:lnTo>
                    <a:pt x="186" y="5"/>
                  </a:lnTo>
                  <a:lnTo>
                    <a:pt x="176" y="3"/>
                  </a:lnTo>
                  <a:lnTo>
                    <a:pt x="165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8" y="14"/>
                  </a:lnTo>
                  <a:lnTo>
                    <a:pt x="123" y="19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193480" y="2561760"/>
              <a:ext cx="79200" cy="181800"/>
            </a:xfrm>
            <a:custGeom>
              <a:avLst/>
              <a:gdLst/>
              <a:ahLst/>
              <a:rect l="l" t="t" r="r" b="b"/>
              <a:pathLst>
                <a:path w="211" h="479">
                  <a:moveTo>
                    <a:pt x="211" y="423"/>
                  </a:moveTo>
                  <a:lnTo>
                    <a:pt x="207" y="415"/>
                  </a:lnTo>
                  <a:lnTo>
                    <a:pt x="201" y="398"/>
                  </a:lnTo>
                  <a:lnTo>
                    <a:pt x="194" y="374"/>
                  </a:lnTo>
                  <a:lnTo>
                    <a:pt x="185" y="345"/>
                  </a:lnTo>
                  <a:lnTo>
                    <a:pt x="168" y="279"/>
                  </a:lnTo>
                  <a:lnTo>
                    <a:pt x="151" y="206"/>
                  </a:lnTo>
                  <a:lnTo>
                    <a:pt x="135" y="137"/>
                  </a:lnTo>
                  <a:lnTo>
                    <a:pt x="120" y="78"/>
                  </a:lnTo>
                  <a:lnTo>
                    <a:pt x="114" y="55"/>
                  </a:lnTo>
                  <a:lnTo>
                    <a:pt x="109" y="35"/>
                  </a:lnTo>
                  <a:lnTo>
                    <a:pt x="102" y="18"/>
                  </a:lnTo>
                  <a:lnTo>
                    <a:pt x="8" y="0"/>
                  </a:lnTo>
                  <a:lnTo>
                    <a:pt x="88" y="81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85"/>
                  </a:lnTo>
                  <a:lnTo>
                    <a:pt x="11" y="105"/>
                  </a:lnTo>
                  <a:lnTo>
                    <a:pt x="24" y="163"/>
                  </a:lnTo>
                  <a:lnTo>
                    <a:pt x="40" y="233"/>
                  </a:lnTo>
                  <a:lnTo>
                    <a:pt x="59" y="306"/>
                  </a:lnTo>
                  <a:lnTo>
                    <a:pt x="76" y="375"/>
                  </a:lnTo>
                  <a:lnTo>
                    <a:pt x="84" y="407"/>
                  </a:lnTo>
                  <a:lnTo>
                    <a:pt x="94" y="434"/>
                  </a:lnTo>
                  <a:lnTo>
                    <a:pt x="103" y="458"/>
                  </a:lnTo>
                  <a:lnTo>
                    <a:pt x="113" y="479"/>
                  </a:lnTo>
                  <a:lnTo>
                    <a:pt x="211" y="42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235240" y="2722680"/>
              <a:ext cx="41400" cy="32040"/>
            </a:xfrm>
            <a:custGeom>
              <a:avLst/>
              <a:gdLst/>
              <a:ahLst/>
              <a:rect l="l" t="t" r="r" b="b"/>
              <a:pathLst>
                <a:path w="107" h="86">
                  <a:moveTo>
                    <a:pt x="0" y="56"/>
                  </a:moveTo>
                  <a:lnTo>
                    <a:pt x="3" y="63"/>
                  </a:lnTo>
                  <a:lnTo>
                    <a:pt x="8" y="67"/>
                  </a:lnTo>
                  <a:lnTo>
                    <a:pt x="12" y="72"/>
                  </a:lnTo>
                  <a:lnTo>
                    <a:pt x="17" y="76"/>
                  </a:lnTo>
                  <a:lnTo>
                    <a:pt x="27" y="81"/>
                  </a:lnTo>
                  <a:lnTo>
                    <a:pt x="37" y="85"/>
                  </a:lnTo>
                  <a:lnTo>
                    <a:pt x="46" y="86"/>
                  </a:lnTo>
                  <a:lnTo>
                    <a:pt x="58" y="85"/>
                  </a:lnTo>
                  <a:lnTo>
                    <a:pt x="67" y="82"/>
                  </a:lnTo>
                  <a:lnTo>
                    <a:pt x="77" y="77"/>
                  </a:lnTo>
                  <a:lnTo>
                    <a:pt x="86" y="71"/>
                  </a:lnTo>
                  <a:lnTo>
                    <a:pt x="93" y="64"/>
                  </a:lnTo>
                  <a:lnTo>
                    <a:pt x="99" y="55"/>
                  </a:lnTo>
                  <a:lnTo>
                    <a:pt x="104" y="45"/>
                  </a:lnTo>
                  <a:lnTo>
                    <a:pt x="107" y="35"/>
                  </a:lnTo>
                  <a:lnTo>
                    <a:pt x="107" y="24"/>
                  </a:lnTo>
                  <a:lnTo>
                    <a:pt x="106" y="18"/>
                  </a:lnTo>
                  <a:lnTo>
                    <a:pt x="104" y="12"/>
                  </a:lnTo>
                  <a:lnTo>
                    <a:pt x="102" y="6"/>
                  </a:lnTo>
                  <a:lnTo>
                    <a:pt x="98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401560" y="2569320"/>
              <a:ext cx="22680" cy="432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113"/>
                  </a:moveTo>
                  <a:lnTo>
                    <a:pt x="7" y="114"/>
                  </a:lnTo>
                  <a:lnTo>
                    <a:pt x="13" y="113"/>
                  </a:lnTo>
                  <a:lnTo>
                    <a:pt x="19" y="112"/>
                  </a:lnTo>
                  <a:lnTo>
                    <a:pt x="25" y="110"/>
                  </a:lnTo>
                  <a:lnTo>
                    <a:pt x="35" y="105"/>
                  </a:lnTo>
                  <a:lnTo>
                    <a:pt x="44" y="98"/>
                  </a:lnTo>
                  <a:lnTo>
                    <a:pt x="50" y="89"/>
                  </a:lnTo>
                  <a:lnTo>
                    <a:pt x="55" y="81"/>
                  </a:lnTo>
                  <a:lnTo>
                    <a:pt x="59" y="71"/>
                  </a:lnTo>
                  <a:lnTo>
                    <a:pt x="60" y="60"/>
                  </a:lnTo>
                  <a:lnTo>
                    <a:pt x="60" y="49"/>
                  </a:lnTo>
                  <a:lnTo>
                    <a:pt x="57" y="39"/>
                  </a:lnTo>
                  <a:lnTo>
                    <a:pt x="54" y="29"/>
                  </a:lnTo>
                  <a:lnTo>
                    <a:pt x="49" y="21"/>
                  </a:lnTo>
                  <a:lnTo>
                    <a:pt x="40" y="12"/>
                  </a:lnTo>
                  <a:lnTo>
                    <a:pt x="32" y="6"/>
                  </a:lnTo>
                  <a:lnTo>
                    <a:pt x="25" y="5"/>
                  </a:lnTo>
                  <a:lnTo>
                    <a:pt x="20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295720" y="2565360"/>
              <a:ext cx="107640" cy="47160"/>
            </a:xfrm>
            <a:custGeom>
              <a:avLst/>
              <a:gdLst/>
              <a:ahLst/>
              <a:rect l="l" t="t" r="r" b="b"/>
              <a:pathLst>
                <a:path w="285" h="124">
                  <a:moveTo>
                    <a:pt x="53" y="113"/>
                  </a:moveTo>
                  <a:lnTo>
                    <a:pt x="53" y="113"/>
                  </a:lnTo>
                  <a:lnTo>
                    <a:pt x="81" y="114"/>
                  </a:lnTo>
                  <a:lnTo>
                    <a:pt x="109" y="116"/>
                  </a:lnTo>
                  <a:lnTo>
                    <a:pt x="137" y="118"/>
                  </a:lnTo>
                  <a:lnTo>
                    <a:pt x="166" y="119"/>
                  </a:lnTo>
                  <a:lnTo>
                    <a:pt x="194" y="120"/>
                  </a:lnTo>
                  <a:lnTo>
                    <a:pt x="222" y="121"/>
                  </a:lnTo>
                  <a:lnTo>
                    <a:pt x="251" y="123"/>
                  </a:lnTo>
                  <a:lnTo>
                    <a:pt x="278" y="124"/>
                  </a:lnTo>
                  <a:lnTo>
                    <a:pt x="285" y="11"/>
                  </a:lnTo>
                  <a:lnTo>
                    <a:pt x="255" y="9"/>
                  </a:lnTo>
                  <a:lnTo>
                    <a:pt x="227" y="8"/>
                  </a:lnTo>
                  <a:lnTo>
                    <a:pt x="199" y="7"/>
                  </a:lnTo>
                  <a:lnTo>
                    <a:pt x="171" y="6"/>
                  </a:lnTo>
                  <a:lnTo>
                    <a:pt x="142" y="4"/>
                  </a:lnTo>
                  <a:lnTo>
                    <a:pt x="115" y="2"/>
                  </a:lnTo>
                  <a:lnTo>
                    <a:pt x="87" y="1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2" y="93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40" y="110"/>
                  </a:lnTo>
                  <a:lnTo>
                    <a:pt x="46" y="111"/>
                  </a:lnTo>
                  <a:lnTo>
                    <a:pt x="53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284560" y="2565360"/>
              <a:ext cx="48600" cy="200880"/>
            </a:xfrm>
            <a:custGeom>
              <a:avLst/>
              <a:gdLst/>
              <a:ahLst/>
              <a:rect l="l" t="t" r="r" b="b"/>
              <a:pathLst>
                <a:path w="129" h="528">
                  <a:moveTo>
                    <a:pt x="52" y="415"/>
                  </a:moveTo>
                  <a:lnTo>
                    <a:pt x="114" y="472"/>
                  </a:lnTo>
                  <a:lnTo>
                    <a:pt x="114" y="423"/>
                  </a:lnTo>
                  <a:lnTo>
                    <a:pt x="113" y="360"/>
                  </a:lnTo>
                  <a:lnTo>
                    <a:pt x="113" y="292"/>
                  </a:lnTo>
                  <a:lnTo>
                    <a:pt x="115" y="223"/>
                  </a:lnTo>
                  <a:lnTo>
                    <a:pt x="117" y="191"/>
                  </a:lnTo>
                  <a:lnTo>
                    <a:pt x="118" y="162"/>
                  </a:lnTo>
                  <a:lnTo>
                    <a:pt x="120" y="135"/>
                  </a:lnTo>
                  <a:lnTo>
                    <a:pt x="123" y="113"/>
                  </a:lnTo>
                  <a:lnTo>
                    <a:pt x="127" y="97"/>
                  </a:lnTo>
                  <a:lnTo>
                    <a:pt x="129" y="87"/>
                  </a:lnTo>
                  <a:lnTo>
                    <a:pt x="128" y="92"/>
                  </a:lnTo>
                  <a:lnTo>
                    <a:pt x="123" y="98"/>
                  </a:lnTo>
                  <a:lnTo>
                    <a:pt x="108" y="108"/>
                  </a:lnTo>
                  <a:lnTo>
                    <a:pt x="84" y="113"/>
                  </a:lnTo>
                  <a:lnTo>
                    <a:pt x="91" y="0"/>
                  </a:lnTo>
                  <a:lnTo>
                    <a:pt x="59" y="6"/>
                  </a:lnTo>
                  <a:lnTo>
                    <a:pt x="39" y="20"/>
                  </a:lnTo>
                  <a:lnTo>
                    <a:pt x="28" y="35"/>
                  </a:lnTo>
                  <a:lnTo>
                    <a:pt x="22" y="50"/>
                  </a:lnTo>
                  <a:lnTo>
                    <a:pt x="16" y="71"/>
                  </a:lnTo>
                  <a:lnTo>
                    <a:pt x="11" y="97"/>
                  </a:lnTo>
                  <a:lnTo>
                    <a:pt x="7" y="124"/>
                  </a:lnTo>
                  <a:lnTo>
                    <a:pt x="5" y="153"/>
                  </a:lnTo>
                  <a:lnTo>
                    <a:pt x="2" y="186"/>
                  </a:lnTo>
                  <a:lnTo>
                    <a:pt x="1" y="221"/>
                  </a:lnTo>
                  <a:lnTo>
                    <a:pt x="0" y="291"/>
                  </a:lnTo>
                  <a:lnTo>
                    <a:pt x="0" y="360"/>
                  </a:lnTo>
                  <a:lnTo>
                    <a:pt x="0" y="423"/>
                  </a:lnTo>
                  <a:lnTo>
                    <a:pt x="0" y="472"/>
                  </a:lnTo>
                  <a:lnTo>
                    <a:pt x="63" y="528"/>
                  </a:lnTo>
                  <a:lnTo>
                    <a:pt x="0" y="472"/>
                  </a:lnTo>
                  <a:lnTo>
                    <a:pt x="1" y="478"/>
                  </a:lnTo>
                  <a:lnTo>
                    <a:pt x="1" y="485"/>
                  </a:lnTo>
                  <a:lnTo>
                    <a:pt x="4" y="492"/>
                  </a:lnTo>
                  <a:lnTo>
                    <a:pt x="5" y="496"/>
                  </a:lnTo>
                  <a:lnTo>
                    <a:pt x="11" y="506"/>
                  </a:lnTo>
                  <a:lnTo>
                    <a:pt x="18" y="514"/>
                  </a:lnTo>
                  <a:lnTo>
                    <a:pt x="27" y="521"/>
                  </a:lnTo>
                  <a:lnTo>
                    <a:pt x="37" y="525"/>
                  </a:lnTo>
                  <a:lnTo>
                    <a:pt x="47" y="527"/>
                  </a:lnTo>
                  <a:lnTo>
                    <a:pt x="58" y="528"/>
                  </a:lnTo>
                  <a:lnTo>
                    <a:pt x="68" y="527"/>
                  </a:lnTo>
                  <a:lnTo>
                    <a:pt x="79" y="525"/>
                  </a:lnTo>
                  <a:lnTo>
                    <a:pt x="87" y="521"/>
                  </a:lnTo>
                  <a:lnTo>
                    <a:pt x="96" y="514"/>
                  </a:lnTo>
                  <a:lnTo>
                    <a:pt x="103" y="506"/>
                  </a:lnTo>
                  <a:lnTo>
                    <a:pt x="109" y="496"/>
                  </a:lnTo>
                  <a:lnTo>
                    <a:pt x="111" y="492"/>
                  </a:lnTo>
                  <a:lnTo>
                    <a:pt x="113" y="485"/>
                  </a:lnTo>
                  <a:lnTo>
                    <a:pt x="114" y="478"/>
                  </a:lnTo>
                  <a:lnTo>
                    <a:pt x="114" y="472"/>
                  </a:lnTo>
                  <a:lnTo>
                    <a:pt x="52" y="4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303280" y="2722680"/>
              <a:ext cx="99720" cy="47160"/>
            </a:xfrm>
            <a:custGeom>
              <a:avLst/>
              <a:gdLst/>
              <a:ahLst/>
              <a:rect l="l" t="t" r="r" b="b"/>
              <a:pathLst>
                <a:path w="264" h="124">
                  <a:moveTo>
                    <a:pt x="253" y="10"/>
                  </a:moveTo>
                  <a:lnTo>
                    <a:pt x="223" y="11"/>
                  </a:lnTo>
                  <a:lnTo>
                    <a:pt x="195" y="11"/>
                  </a:lnTo>
                  <a:lnTo>
                    <a:pt x="166" y="8"/>
                  </a:lnTo>
                  <a:lnTo>
                    <a:pt x="136" y="6"/>
                  </a:lnTo>
                  <a:lnTo>
                    <a:pt x="104" y="2"/>
                  </a:lnTo>
                  <a:lnTo>
                    <a:pt x="71" y="1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1" y="115"/>
                  </a:lnTo>
                  <a:lnTo>
                    <a:pt x="39" y="113"/>
                  </a:lnTo>
                  <a:lnTo>
                    <a:pt x="67" y="114"/>
                  </a:lnTo>
                  <a:lnTo>
                    <a:pt x="95" y="115"/>
                  </a:lnTo>
                  <a:lnTo>
                    <a:pt x="125" y="119"/>
                  </a:lnTo>
                  <a:lnTo>
                    <a:pt x="157" y="122"/>
                  </a:lnTo>
                  <a:lnTo>
                    <a:pt x="190" y="124"/>
                  </a:lnTo>
                  <a:lnTo>
                    <a:pt x="226" y="124"/>
                  </a:lnTo>
                  <a:lnTo>
                    <a:pt x="264" y="122"/>
                  </a:lnTo>
                  <a:lnTo>
                    <a:pt x="253" y="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400120" y="27248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4">
                  <a:moveTo>
                    <a:pt x="11" y="114"/>
                  </a:moveTo>
                  <a:lnTo>
                    <a:pt x="17" y="114"/>
                  </a:lnTo>
                  <a:lnTo>
                    <a:pt x="24" y="111"/>
                  </a:lnTo>
                  <a:lnTo>
                    <a:pt x="29" y="110"/>
                  </a:lnTo>
                  <a:lnTo>
                    <a:pt x="36" y="106"/>
                  </a:lnTo>
                  <a:lnTo>
                    <a:pt x="44" y="100"/>
                  </a:lnTo>
                  <a:lnTo>
                    <a:pt x="52" y="93"/>
                  </a:lnTo>
                  <a:lnTo>
                    <a:pt x="56" y="83"/>
                  </a:lnTo>
                  <a:lnTo>
                    <a:pt x="60" y="73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0" y="41"/>
                  </a:lnTo>
                  <a:lnTo>
                    <a:pt x="56" y="31"/>
                  </a:lnTo>
                  <a:lnTo>
                    <a:pt x="50" y="23"/>
                  </a:lnTo>
                  <a:lnTo>
                    <a:pt x="43" y="14"/>
                  </a:lnTo>
                  <a:lnTo>
                    <a:pt x="34" y="8"/>
                  </a:lnTo>
                  <a:lnTo>
                    <a:pt x="24" y="3"/>
                  </a:lnTo>
                  <a:lnTo>
                    <a:pt x="18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282400" y="2644920"/>
              <a:ext cx="22680" cy="4356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60" y="0"/>
                  </a:move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4" y="8"/>
                  </a:lnTo>
                  <a:lnTo>
                    <a:pt x="16" y="14"/>
                  </a:lnTo>
                  <a:lnTo>
                    <a:pt x="10" y="23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6" y="83"/>
                  </a:lnTo>
                  <a:lnTo>
                    <a:pt x="11" y="92"/>
                  </a:lnTo>
                  <a:lnTo>
                    <a:pt x="19" y="100"/>
                  </a:lnTo>
                  <a:lnTo>
                    <a:pt x="28" y="107"/>
                  </a:lnTo>
                  <a:lnTo>
                    <a:pt x="34" y="109"/>
                  </a:lnTo>
                  <a:lnTo>
                    <a:pt x="39" y="110"/>
                  </a:lnTo>
                  <a:lnTo>
                    <a:pt x="46" y="112"/>
                  </a:lnTo>
                  <a:lnTo>
                    <a:pt x="53" y="11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301480" y="2644920"/>
              <a:ext cx="92520" cy="49320"/>
            </a:xfrm>
            <a:custGeom>
              <a:avLst/>
              <a:gdLst/>
              <a:ahLst/>
              <a:rect l="l" t="t" r="r" b="b"/>
              <a:pathLst>
                <a:path w="241" h="129">
                  <a:moveTo>
                    <a:pt x="241" y="16"/>
                  </a:moveTo>
                  <a:lnTo>
                    <a:pt x="210" y="13"/>
                  </a:lnTo>
                  <a:lnTo>
                    <a:pt x="180" y="11"/>
                  </a:lnTo>
                  <a:lnTo>
                    <a:pt x="151" y="8"/>
                  </a:lnTo>
                  <a:lnTo>
                    <a:pt x="123" y="7"/>
                  </a:lnTo>
                  <a:lnTo>
                    <a:pt x="93" y="5"/>
                  </a:lnTo>
                  <a:lnTo>
                    <a:pt x="64" y="3"/>
                  </a:lnTo>
                  <a:lnTo>
                    <a:pt x="35" y="1"/>
                  </a:lnTo>
                  <a:lnTo>
                    <a:pt x="7" y="0"/>
                  </a:lnTo>
                  <a:lnTo>
                    <a:pt x="0" y="113"/>
                  </a:lnTo>
                  <a:lnTo>
                    <a:pt x="29" y="114"/>
                  </a:lnTo>
                  <a:lnTo>
                    <a:pt x="57" y="116"/>
                  </a:lnTo>
                  <a:lnTo>
                    <a:pt x="86" y="118"/>
                  </a:lnTo>
                  <a:lnTo>
                    <a:pt x="114" y="120"/>
                  </a:lnTo>
                  <a:lnTo>
                    <a:pt x="144" y="121"/>
                  </a:lnTo>
                  <a:lnTo>
                    <a:pt x="172" y="124"/>
                  </a:lnTo>
                  <a:lnTo>
                    <a:pt x="201" y="126"/>
                  </a:lnTo>
                  <a:lnTo>
                    <a:pt x="231" y="129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390400" y="2651040"/>
              <a:ext cx="22680" cy="432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113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8" y="112"/>
                  </a:lnTo>
                  <a:lnTo>
                    <a:pt x="24" y="110"/>
                  </a:lnTo>
                  <a:lnTo>
                    <a:pt x="34" y="105"/>
                  </a:lnTo>
                  <a:lnTo>
                    <a:pt x="43" y="99"/>
                  </a:lnTo>
                  <a:lnTo>
                    <a:pt x="50" y="91"/>
                  </a:lnTo>
                  <a:lnTo>
                    <a:pt x="55" y="82"/>
                  </a:lnTo>
                  <a:lnTo>
                    <a:pt x="59" y="72"/>
                  </a:lnTo>
                  <a:lnTo>
                    <a:pt x="61" y="61"/>
                  </a:lnTo>
                  <a:lnTo>
                    <a:pt x="61" y="50"/>
                  </a:lnTo>
                  <a:lnTo>
                    <a:pt x="59" y="40"/>
                  </a:lnTo>
                  <a:lnTo>
                    <a:pt x="55" y="30"/>
                  </a:lnTo>
                  <a:lnTo>
                    <a:pt x="50" y="21"/>
                  </a:lnTo>
                  <a:lnTo>
                    <a:pt x="43" y="13"/>
                  </a:lnTo>
                  <a:lnTo>
                    <a:pt x="33" y="7"/>
                  </a:lnTo>
                  <a:lnTo>
                    <a:pt x="28" y="5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430000" y="273996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0" y="0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9" y="35"/>
                  </a:lnTo>
                  <a:lnTo>
                    <a:pt x="16" y="43"/>
                  </a:lnTo>
                  <a:lnTo>
                    <a:pt x="25" y="50"/>
                  </a:lnTo>
                  <a:lnTo>
                    <a:pt x="35" y="54"/>
                  </a:lnTo>
                  <a:lnTo>
                    <a:pt x="44" y="57"/>
                  </a:lnTo>
                  <a:lnTo>
                    <a:pt x="54" y="58"/>
                  </a:lnTo>
                  <a:lnTo>
                    <a:pt x="65" y="58"/>
                  </a:lnTo>
                  <a:lnTo>
                    <a:pt x="75" y="56"/>
                  </a:lnTo>
                  <a:lnTo>
                    <a:pt x="85" y="52"/>
                  </a:lnTo>
                  <a:lnTo>
                    <a:pt x="94" y="46"/>
                  </a:lnTo>
                  <a:lnTo>
                    <a:pt x="102" y="38"/>
                  </a:lnTo>
                  <a:lnTo>
                    <a:pt x="107" y="29"/>
                  </a:lnTo>
                  <a:lnTo>
                    <a:pt x="110" y="22"/>
                  </a:lnTo>
                  <a:lnTo>
                    <a:pt x="112" y="18"/>
                  </a:lnTo>
                  <a:lnTo>
                    <a:pt x="112" y="10"/>
                  </a:lnTo>
                  <a:lnTo>
                    <a:pt x="1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430000" y="2565360"/>
              <a:ext cx="49320" cy="17604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42" y="7"/>
                  </a:moveTo>
                  <a:lnTo>
                    <a:pt x="14" y="55"/>
                  </a:lnTo>
                  <a:lnTo>
                    <a:pt x="12" y="106"/>
                  </a:lnTo>
                  <a:lnTo>
                    <a:pt x="10" y="156"/>
                  </a:lnTo>
                  <a:lnTo>
                    <a:pt x="9" y="207"/>
                  </a:lnTo>
                  <a:lnTo>
                    <a:pt x="6" y="257"/>
                  </a:lnTo>
                  <a:lnTo>
                    <a:pt x="5" y="308"/>
                  </a:lnTo>
                  <a:lnTo>
                    <a:pt x="4" y="359"/>
                  </a:lnTo>
                  <a:lnTo>
                    <a:pt x="1" y="410"/>
                  </a:lnTo>
                  <a:lnTo>
                    <a:pt x="0" y="461"/>
                  </a:lnTo>
                  <a:lnTo>
                    <a:pt x="113" y="465"/>
                  </a:lnTo>
                  <a:lnTo>
                    <a:pt x="114" y="413"/>
                  </a:lnTo>
                  <a:lnTo>
                    <a:pt x="117" y="363"/>
                  </a:lnTo>
                  <a:lnTo>
                    <a:pt x="118" y="311"/>
                  </a:lnTo>
                  <a:lnTo>
                    <a:pt x="121" y="261"/>
                  </a:lnTo>
                  <a:lnTo>
                    <a:pt x="122" y="210"/>
                  </a:lnTo>
                  <a:lnTo>
                    <a:pt x="123" y="160"/>
                  </a:lnTo>
                  <a:lnTo>
                    <a:pt x="126" y="110"/>
                  </a:lnTo>
                  <a:lnTo>
                    <a:pt x="127" y="58"/>
                  </a:lnTo>
                  <a:lnTo>
                    <a:pt x="100" y="106"/>
                  </a:lnTo>
                  <a:lnTo>
                    <a:pt x="127" y="58"/>
                  </a:lnTo>
                  <a:lnTo>
                    <a:pt x="127" y="52"/>
                  </a:lnTo>
                  <a:lnTo>
                    <a:pt x="127" y="46"/>
                  </a:lnTo>
                  <a:lnTo>
                    <a:pt x="124" y="39"/>
                  </a:lnTo>
                  <a:lnTo>
                    <a:pt x="123" y="33"/>
                  </a:lnTo>
                  <a:lnTo>
                    <a:pt x="118" y="23"/>
                  </a:lnTo>
                  <a:lnTo>
                    <a:pt x="111" y="16"/>
                  </a:lnTo>
                  <a:lnTo>
                    <a:pt x="102" y="9"/>
                  </a:lnTo>
                  <a:lnTo>
                    <a:pt x="92" y="4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52" y="3"/>
                  </a:lnTo>
                  <a:lnTo>
                    <a:pt x="42" y="7"/>
                  </a:lnTo>
                  <a:lnTo>
                    <a:pt x="33" y="14"/>
                  </a:lnTo>
                  <a:lnTo>
                    <a:pt x="25" y="21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447280" y="2558160"/>
              <a:ext cx="97920" cy="47160"/>
            </a:xfrm>
            <a:custGeom>
              <a:avLst/>
              <a:gdLst/>
              <a:ahLst/>
              <a:rect l="l" t="t" r="r" b="b"/>
              <a:pathLst>
                <a:path w="262" h="123">
                  <a:moveTo>
                    <a:pt x="214" y="4"/>
                  </a:moveTo>
                  <a:lnTo>
                    <a:pt x="214" y="4"/>
                  </a:lnTo>
                  <a:lnTo>
                    <a:pt x="195" y="1"/>
                  </a:lnTo>
                  <a:lnTo>
                    <a:pt x="172" y="0"/>
                  </a:lnTo>
                  <a:lnTo>
                    <a:pt x="146" y="0"/>
                  </a:lnTo>
                  <a:lnTo>
                    <a:pt x="117" y="1"/>
                  </a:lnTo>
                  <a:lnTo>
                    <a:pt x="87" y="2"/>
                  </a:lnTo>
                  <a:lnTo>
                    <a:pt x="59" y="6"/>
                  </a:lnTo>
                  <a:lnTo>
                    <a:pt x="43" y="8"/>
                  </a:lnTo>
                  <a:lnTo>
                    <a:pt x="28" y="12"/>
                  </a:lnTo>
                  <a:lnTo>
                    <a:pt x="15" y="17"/>
                  </a:lnTo>
                  <a:lnTo>
                    <a:pt x="0" y="24"/>
                  </a:lnTo>
                  <a:lnTo>
                    <a:pt x="58" y="123"/>
                  </a:lnTo>
                  <a:lnTo>
                    <a:pt x="58" y="123"/>
                  </a:lnTo>
                  <a:lnTo>
                    <a:pt x="61" y="122"/>
                  </a:lnTo>
                  <a:lnTo>
                    <a:pt x="68" y="119"/>
                  </a:lnTo>
                  <a:lnTo>
                    <a:pt x="75" y="118"/>
                  </a:lnTo>
                  <a:lnTo>
                    <a:pt x="97" y="115"/>
                  </a:lnTo>
                  <a:lnTo>
                    <a:pt x="122" y="114"/>
                  </a:lnTo>
                  <a:lnTo>
                    <a:pt x="146" y="113"/>
                  </a:lnTo>
                  <a:lnTo>
                    <a:pt x="168" y="114"/>
                  </a:lnTo>
                  <a:lnTo>
                    <a:pt x="187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195" y="115"/>
                  </a:lnTo>
                  <a:lnTo>
                    <a:pt x="203" y="117"/>
                  </a:lnTo>
                  <a:lnTo>
                    <a:pt x="209" y="117"/>
                  </a:lnTo>
                  <a:lnTo>
                    <a:pt x="215" y="117"/>
                  </a:lnTo>
                  <a:lnTo>
                    <a:pt x="221" y="115"/>
                  </a:lnTo>
                  <a:lnTo>
                    <a:pt x="231" y="111"/>
                  </a:lnTo>
                  <a:lnTo>
                    <a:pt x="241" y="106"/>
                  </a:lnTo>
                  <a:lnTo>
                    <a:pt x="248" y="98"/>
                  </a:lnTo>
                  <a:lnTo>
                    <a:pt x="254" y="90"/>
                  </a:lnTo>
                  <a:lnTo>
                    <a:pt x="258" y="80"/>
                  </a:lnTo>
                  <a:lnTo>
                    <a:pt x="261" y="69"/>
                  </a:lnTo>
                  <a:lnTo>
                    <a:pt x="262" y="59"/>
                  </a:lnTo>
                  <a:lnTo>
                    <a:pt x="261" y="48"/>
                  </a:lnTo>
                  <a:lnTo>
                    <a:pt x="258" y="38"/>
                  </a:lnTo>
                  <a:lnTo>
                    <a:pt x="253" y="28"/>
                  </a:lnTo>
                  <a:lnTo>
                    <a:pt x="247" y="20"/>
                  </a:lnTo>
                  <a:lnTo>
                    <a:pt x="237" y="12"/>
                  </a:lnTo>
                  <a:lnTo>
                    <a:pt x="232" y="10"/>
                  </a:lnTo>
                  <a:lnTo>
                    <a:pt x="227" y="7"/>
                  </a:lnTo>
                  <a:lnTo>
                    <a:pt x="221" y="5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515320" y="2559960"/>
              <a:ext cx="50760" cy="115200"/>
            </a:xfrm>
            <a:custGeom>
              <a:avLst/>
              <a:gdLst/>
              <a:ahLst/>
              <a:rect l="l" t="t" r="r" b="b"/>
              <a:pathLst>
                <a:path w="133" h="306">
                  <a:moveTo>
                    <a:pt x="117" y="276"/>
                  </a:moveTo>
                  <a:lnTo>
                    <a:pt x="117" y="276"/>
                  </a:lnTo>
                  <a:lnTo>
                    <a:pt x="124" y="259"/>
                  </a:lnTo>
                  <a:lnTo>
                    <a:pt x="128" y="242"/>
                  </a:lnTo>
                  <a:lnTo>
                    <a:pt x="130" y="226"/>
                  </a:lnTo>
                  <a:lnTo>
                    <a:pt x="132" y="209"/>
                  </a:lnTo>
                  <a:lnTo>
                    <a:pt x="133" y="191"/>
                  </a:lnTo>
                  <a:lnTo>
                    <a:pt x="132" y="173"/>
                  </a:lnTo>
                  <a:lnTo>
                    <a:pt x="130" y="153"/>
                  </a:lnTo>
                  <a:lnTo>
                    <a:pt x="128" y="135"/>
                  </a:lnTo>
                  <a:lnTo>
                    <a:pt x="124" y="115"/>
                  </a:lnTo>
                  <a:lnTo>
                    <a:pt x="119" y="97"/>
                  </a:lnTo>
                  <a:lnTo>
                    <a:pt x="113" y="78"/>
                  </a:lnTo>
                  <a:lnTo>
                    <a:pt x="106" y="60"/>
                  </a:lnTo>
                  <a:lnTo>
                    <a:pt x="95" y="41"/>
                  </a:lnTo>
                  <a:lnTo>
                    <a:pt x="82" y="27"/>
                  </a:lnTo>
                  <a:lnTo>
                    <a:pt x="70" y="17"/>
                  </a:lnTo>
                  <a:lnTo>
                    <a:pt x="59" y="9"/>
                  </a:lnTo>
                  <a:lnTo>
                    <a:pt x="47" y="3"/>
                  </a:lnTo>
                  <a:lnTo>
                    <a:pt x="32" y="0"/>
                  </a:lnTo>
                  <a:lnTo>
                    <a:pt x="13" y="111"/>
                  </a:lnTo>
                  <a:lnTo>
                    <a:pt x="9" y="110"/>
                  </a:lnTo>
                  <a:lnTo>
                    <a:pt x="6" y="109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7" y="119"/>
                  </a:lnTo>
                  <a:lnTo>
                    <a:pt x="11" y="127"/>
                  </a:lnTo>
                  <a:lnTo>
                    <a:pt x="13" y="140"/>
                  </a:lnTo>
                  <a:lnTo>
                    <a:pt x="16" y="152"/>
                  </a:lnTo>
                  <a:lnTo>
                    <a:pt x="17" y="166"/>
                  </a:lnTo>
                  <a:lnTo>
                    <a:pt x="18" y="179"/>
                  </a:lnTo>
                  <a:lnTo>
                    <a:pt x="18" y="191"/>
                  </a:lnTo>
                  <a:lnTo>
                    <a:pt x="18" y="204"/>
                  </a:lnTo>
                  <a:lnTo>
                    <a:pt x="18" y="214"/>
                  </a:lnTo>
                  <a:lnTo>
                    <a:pt x="17" y="221"/>
                  </a:lnTo>
                  <a:lnTo>
                    <a:pt x="16" y="223"/>
                  </a:lnTo>
                  <a:lnTo>
                    <a:pt x="17" y="220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5" y="226"/>
                  </a:lnTo>
                  <a:lnTo>
                    <a:pt x="12" y="232"/>
                  </a:lnTo>
                  <a:lnTo>
                    <a:pt x="11" y="238"/>
                  </a:lnTo>
                  <a:lnTo>
                    <a:pt x="10" y="244"/>
                  </a:lnTo>
                  <a:lnTo>
                    <a:pt x="10" y="255"/>
                  </a:lnTo>
                  <a:lnTo>
                    <a:pt x="12" y="266"/>
                  </a:lnTo>
                  <a:lnTo>
                    <a:pt x="16" y="276"/>
                  </a:lnTo>
                  <a:lnTo>
                    <a:pt x="22" y="285"/>
                  </a:lnTo>
                  <a:lnTo>
                    <a:pt x="29" y="292"/>
                  </a:lnTo>
                  <a:lnTo>
                    <a:pt x="39" y="298"/>
                  </a:lnTo>
                  <a:lnTo>
                    <a:pt x="48" y="302"/>
                  </a:lnTo>
                  <a:lnTo>
                    <a:pt x="59" y="305"/>
                  </a:lnTo>
                  <a:lnTo>
                    <a:pt x="69" y="306"/>
                  </a:lnTo>
                  <a:lnTo>
                    <a:pt x="80" y="305"/>
                  </a:lnTo>
                  <a:lnTo>
                    <a:pt x="90" y="302"/>
                  </a:lnTo>
                  <a:lnTo>
                    <a:pt x="100" y="296"/>
                  </a:lnTo>
                  <a:lnTo>
                    <a:pt x="104" y="292"/>
                  </a:lnTo>
                  <a:lnTo>
                    <a:pt x="108" y="287"/>
                  </a:lnTo>
                  <a:lnTo>
                    <a:pt x="113" y="282"/>
                  </a:lnTo>
                  <a:lnTo>
                    <a:pt x="117" y="27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458440" y="2643120"/>
              <a:ext cx="100080" cy="54720"/>
            </a:xfrm>
            <a:custGeom>
              <a:avLst/>
              <a:gdLst/>
              <a:ahLst/>
              <a:rect l="l" t="t" r="r" b="b"/>
              <a:pathLst>
                <a:path w="268" h="145">
                  <a:moveTo>
                    <a:pt x="0" y="145"/>
                  </a:moveTo>
                  <a:lnTo>
                    <a:pt x="29" y="145"/>
                  </a:lnTo>
                  <a:lnTo>
                    <a:pt x="62" y="144"/>
                  </a:lnTo>
                  <a:lnTo>
                    <a:pt x="98" y="141"/>
                  </a:lnTo>
                  <a:lnTo>
                    <a:pt x="132" y="138"/>
                  </a:lnTo>
                  <a:lnTo>
                    <a:pt x="152" y="134"/>
                  </a:lnTo>
                  <a:lnTo>
                    <a:pt x="171" y="128"/>
                  </a:lnTo>
                  <a:lnTo>
                    <a:pt x="188" y="122"/>
                  </a:lnTo>
                  <a:lnTo>
                    <a:pt x="206" y="113"/>
                  </a:lnTo>
                  <a:lnTo>
                    <a:pt x="223" y="103"/>
                  </a:lnTo>
                  <a:lnTo>
                    <a:pt x="239" y="90"/>
                  </a:lnTo>
                  <a:lnTo>
                    <a:pt x="255" y="74"/>
                  </a:lnTo>
                  <a:lnTo>
                    <a:pt x="268" y="55"/>
                  </a:lnTo>
                  <a:lnTo>
                    <a:pt x="168" y="0"/>
                  </a:lnTo>
                  <a:lnTo>
                    <a:pt x="166" y="4"/>
                  </a:lnTo>
                  <a:lnTo>
                    <a:pt x="163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6" y="17"/>
                  </a:lnTo>
                  <a:lnTo>
                    <a:pt x="136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87" y="29"/>
                  </a:lnTo>
                  <a:lnTo>
                    <a:pt x="57" y="31"/>
                  </a:lnTo>
                  <a:lnTo>
                    <a:pt x="29" y="31"/>
                  </a:lnTo>
                  <a:lnTo>
                    <a:pt x="0" y="31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435760" y="2654280"/>
              <a:ext cx="22680" cy="43560"/>
            </a:xfrm>
            <a:custGeom>
              <a:avLst/>
              <a:gdLst/>
              <a:ahLst/>
              <a:rect l="l" t="t" r="r" b="b"/>
              <a:pathLst>
                <a:path w="57" h="114">
                  <a:moveTo>
                    <a:pt x="57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4" y="18"/>
                  </a:lnTo>
                  <a:lnTo>
                    <a:pt x="7" y="27"/>
                  </a:lnTo>
                  <a:lnTo>
                    <a:pt x="4" y="35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1" y="67"/>
                  </a:lnTo>
                  <a:lnTo>
                    <a:pt x="4" y="77"/>
                  </a:lnTo>
                  <a:lnTo>
                    <a:pt x="7" y="87"/>
                  </a:lnTo>
                  <a:lnTo>
                    <a:pt x="14" y="96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37" y="110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7" y="11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475360" y="2654280"/>
              <a:ext cx="39600" cy="3420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106" y="27"/>
                  </a:moveTo>
                  <a:lnTo>
                    <a:pt x="102" y="21"/>
                  </a:lnTo>
                  <a:lnTo>
                    <a:pt x="98" y="16"/>
                  </a:lnTo>
                  <a:lnTo>
                    <a:pt x="93" y="12"/>
                  </a:lnTo>
                  <a:lnTo>
                    <a:pt x="89" y="8"/>
                  </a:lnTo>
                  <a:lnTo>
                    <a:pt x="78" y="2"/>
                  </a:lnTo>
                  <a:lnTo>
                    <a:pt x="68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7" y="32"/>
                  </a:lnTo>
                  <a:lnTo>
                    <a:pt x="3" y="42"/>
                  </a:lnTo>
                  <a:lnTo>
                    <a:pt x="0" y="53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479320" y="2665800"/>
              <a:ext cx="96480" cy="9432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256" y="220"/>
                  </a:moveTo>
                  <a:lnTo>
                    <a:pt x="249" y="200"/>
                  </a:lnTo>
                  <a:lnTo>
                    <a:pt x="240" y="183"/>
                  </a:lnTo>
                  <a:lnTo>
                    <a:pt x="231" y="166"/>
                  </a:lnTo>
                  <a:lnTo>
                    <a:pt x="220" y="149"/>
                  </a:lnTo>
                  <a:lnTo>
                    <a:pt x="198" y="120"/>
                  </a:lnTo>
                  <a:lnTo>
                    <a:pt x="175" y="92"/>
                  </a:lnTo>
                  <a:lnTo>
                    <a:pt x="151" y="66"/>
                  </a:lnTo>
                  <a:lnTo>
                    <a:pt x="129" y="42"/>
                  </a:lnTo>
                  <a:lnTo>
                    <a:pt x="111" y="19"/>
                  </a:lnTo>
                  <a:lnTo>
                    <a:pt x="96" y="0"/>
                  </a:lnTo>
                  <a:lnTo>
                    <a:pt x="0" y="60"/>
                  </a:lnTo>
                  <a:lnTo>
                    <a:pt x="21" y="90"/>
                  </a:lnTo>
                  <a:lnTo>
                    <a:pt x="43" y="117"/>
                  </a:lnTo>
                  <a:lnTo>
                    <a:pt x="67" y="142"/>
                  </a:lnTo>
                  <a:lnTo>
                    <a:pt x="89" y="167"/>
                  </a:lnTo>
                  <a:lnTo>
                    <a:pt x="110" y="190"/>
                  </a:lnTo>
                  <a:lnTo>
                    <a:pt x="127" y="215"/>
                  </a:lnTo>
                  <a:lnTo>
                    <a:pt x="133" y="225"/>
                  </a:lnTo>
                  <a:lnTo>
                    <a:pt x="139" y="235"/>
                  </a:lnTo>
                  <a:lnTo>
                    <a:pt x="144" y="245"/>
                  </a:lnTo>
                  <a:lnTo>
                    <a:pt x="148" y="253"/>
                  </a:lnTo>
                  <a:lnTo>
                    <a:pt x="256" y="22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535840" y="2749320"/>
              <a:ext cx="41400" cy="2808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0" y="33"/>
                  </a:moveTo>
                  <a:lnTo>
                    <a:pt x="1" y="39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9" y="64"/>
                  </a:lnTo>
                  <a:lnTo>
                    <a:pt x="29" y="69"/>
                  </a:lnTo>
                  <a:lnTo>
                    <a:pt x="39" y="72"/>
                  </a:lnTo>
                  <a:lnTo>
                    <a:pt x="49" y="74"/>
                  </a:lnTo>
                  <a:lnTo>
                    <a:pt x="60" y="72"/>
                  </a:lnTo>
                  <a:lnTo>
                    <a:pt x="70" y="71"/>
                  </a:lnTo>
                  <a:lnTo>
                    <a:pt x="80" y="66"/>
                  </a:lnTo>
                  <a:lnTo>
                    <a:pt x="90" y="61"/>
                  </a:lnTo>
                  <a:lnTo>
                    <a:pt x="97" y="54"/>
                  </a:lnTo>
                  <a:lnTo>
                    <a:pt x="103" y="45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0" y="18"/>
                  </a:lnTo>
                  <a:lnTo>
                    <a:pt x="110" y="12"/>
                  </a:lnTo>
                  <a:lnTo>
                    <a:pt x="109" y="6"/>
                  </a:lnTo>
                  <a:lnTo>
                    <a:pt x="108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00720" y="2601720"/>
              <a:ext cx="43200" cy="280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0" y="29"/>
                  </a:moveTo>
                  <a:lnTo>
                    <a:pt x="1" y="35"/>
                  </a:lnTo>
                  <a:lnTo>
                    <a:pt x="3" y="41"/>
                  </a:lnTo>
                  <a:lnTo>
                    <a:pt x="7" y="47"/>
                  </a:lnTo>
                  <a:lnTo>
                    <a:pt x="11" y="52"/>
                  </a:lnTo>
                  <a:lnTo>
                    <a:pt x="18" y="60"/>
                  </a:lnTo>
                  <a:lnTo>
                    <a:pt x="27" y="66"/>
                  </a:lnTo>
                  <a:lnTo>
                    <a:pt x="37" y="69"/>
                  </a:lnTo>
                  <a:lnTo>
                    <a:pt x="48" y="72"/>
                  </a:lnTo>
                  <a:lnTo>
                    <a:pt x="59" y="71"/>
                  </a:lnTo>
                  <a:lnTo>
                    <a:pt x="69" y="69"/>
                  </a:lnTo>
                  <a:lnTo>
                    <a:pt x="78" y="66"/>
                  </a:lnTo>
                  <a:lnTo>
                    <a:pt x="88" y="61"/>
                  </a:lnTo>
                  <a:lnTo>
                    <a:pt x="96" y="53"/>
                  </a:lnTo>
                  <a:lnTo>
                    <a:pt x="103" y="46"/>
                  </a:lnTo>
                  <a:lnTo>
                    <a:pt x="108" y="36"/>
                  </a:lnTo>
                  <a:lnTo>
                    <a:pt x="110" y="25"/>
                  </a:lnTo>
                  <a:lnTo>
                    <a:pt x="112" y="19"/>
                  </a:lnTo>
                  <a:lnTo>
                    <a:pt x="112" y="13"/>
                  </a:lnTo>
                  <a:lnTo>
                    <a:pt x="110" y="7"/>
                  </a:lnTo>
                  <a:lnTo>
                    <a:pt x="10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592720" y="2569320"/>
              <a:ext cx="149400" cy="565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06" y="127"/>
                  </a:moveTo>
                  <a:lnTo>
                    <a:pt x="106" y="125"/>
                  </a:lnTo>
                  <a:lnTo>
                    <a:pt x="102" y="130"/>
                  </a:lnTo>
                  <a:lnTo>
                    <a:pt x="101" y="133"/>
                  </a:lnTo>
                  <a:lnTo>
                    <a:pt x="101" y="133"/>
                  </a:lnTo>
                  <a:lnTo>
                    <a:pt x="101" y="132"/>
                  </a:lnTo>
                  <a:lnTo>
                    <a:pt x="112" y="128"/>
                  </a:lnTo>
                  <a:lnTo>
                    <a:pt x="126" y="123"/>
                  </a:lnTo>
                  <a:lnTo>
                    <a:pt x="143" y="119"/>
                  </a:lnTo>
                  <a:lnTo>
                    <a:pt x="162" y="117"/>
                  </a:lnTo>
                  <a:lnTo>
                    <a:pt x="183" y="114"/>
                  </a:lnTo>
                  <a:lnTo>
                    <a:pt x="204" y="113"/>
                  </a:lnTo>
                  <a:lnTo>
                    <a:pt x="225" y="113"/>
                  </a:lnTo>
                  <a:lnTo>
                    <a:pt x="245" y="114"/>
                  </a:lnTo>
                  <a:lnTo>
                    <a:pt x="262" y="117"/>
                  </a:lnTo>
                  <a:lnTo>
                    <a:pt x="279" y="120"/>
                  </a:lnTo>
                  <a:lnTo>
                    <a:pt x="283" y="122"/>
                  </a:lnTo>
                  <a:lnTo>
                    <a:pt x="287" y="124"/>
                  </a:lnTo>
                  <a:lnTo>
                    <a:pt x="290" y="125"/>
                  </a:lnTo>
                  <a:lnTo>
                    <a:pt x="292" y="127"/>
                  </a:lnTo>
                  <a:lnTo>
                    <a:pt x="292" y="127"/>
                  </a:lnTo>
                  <a:lnTo>
                    <a:pt x="289" y="124"/>
                  </a:lnTo>
                  <a:lnTo>
                    <a:pt x="288" y="122"/>
                  </a:lnTo>
                  <a:lnTo>
                    <a:pt x="287" y="117"/>
                  </a:lnTo>
                  <a:lnTo>
                    <a:pt x="396" y="88"/>
                  </a:lnTo>
                  <a:lnTo>
                    <a:pt x="390" y="71"/>
                  </a:lnTo>
                  <a:lnTo>
                    <a:pt x="381" y="56"/>
                  </a:lnTo>
                  <a:lnTo>
                    <a:pt x="370" y="44"/>
                  </a:lnTo>
                  <a:lnTo>
                    <a:pt x="358" y="34"/>
                  </a:lnTo>
                  <a:lnTo>
                    <a:pt x="347" y="27"/>
                  </a:lnTo>
                  <a:lnTo>
                    <a:pt x="335" y="21"/>
                  </a:lnTo>
                  <a:lnTo>
                    <a:pt x="321" y="16"/>
                  </a:lnTo>
                  <a:lnTo>
                    <a:pt x="308" y="11"/>
                  </a:lnTo>
                  <a:lnTo>
                    <a:pt x="283" y="5"/>
                  </a:lnTo>
                  <a:lnTo>
                    <a:pt x="256" y="1"/>
                  </a:lnTo>
                  <a:lnTo>
                    <a:pt x="229" y="0"/>
                  </a:lnTo>
                  <a:lnTo>
                    <a:pt x="202" y="0"/>
                  </a:lnTo>
                  <a:lnTo>
                    <a:pt x="175" y="1"/>
                  </a:lnTo>
                  <a:lnTo>
                    <a:pt x="148" y="4"/>
                  </a:lnTo>
                  <a:lnTo>
                    <a:pt x="122" y="7"/>
                  </a:lnTo>
                  <a:lnTo>
                    <a:pt x="97" y="13"/>
                  </a:lnTo>
                  <a:lnTo>
                    <a:pt x="74" y="21"/>
                  </a:lnTo>
                  <a:lnTo>
                    <a:pt x="54" y="28"/>
                  </a:lnTo>
                  <a:lnTo>
                    <a:pt x="42" y="36"/>
                  </a:lnTo>
                  <a:lnTo>
                    <a:pt x="31" y="43"/>
                  </a:lnTo>
                  <a:lnTo>
                    <a:pt x="20" y="53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3" y="84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3" y="111"/>
                  </a:lnTo>
                  <a:lnTo>
                    <a:pt x="6" y="120"/>
                  </a:lnTo>
                  <a:lnTo>
                    <a:pt x="12" y="129"/>
                  </a:lnTo>
                  <a:lnTo>
                    <a:pt x="20" y="138"/>
                  </a:lnTo>
                  <a:lnTo>
                    <a:pt x="27" y="144"/>
                  </a:lnTo>
                  <a:lnTo>
                    <a:pt x="37" y="149"/>
                  </a:lnTo>
                  <a:lnTo>
                    <a:pt x="47" y="151"/>
                  </a:lnTo>
                  <a:lnTo>
                    <a:pt x="58" y="152"/>
                  </a:lnTo>
                  <a:lnTo>
                    <a:pt x="68" y="152"/>
                  </a:lnTo>
                  <a:lnTo>
                    <a:pt x="79" y="150"/>
                  </a:lnTo>
                  <a:lnTo>
                    <a:pt x="89" y="144"/>
                  </a:lnTo>
                  <a:lnTo>
                    <a:pt x="94" y="140"/>
                  </a:lnTo>
                  <a:lnTo>
                    <a:pt x="97" y="136"/>
                  </a:lnTo>
                  <a:lnTo>
                    <a:pt x="102" y="132"/>
                  </a:lnTo>
                  <a:lnTo>
                    <a:pt x="106" y="125"/>
                  </a:lnTo>
                  <a:lnTo>
                    <a:pt x="106" y="12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583360" y="2592000"/>
              <a:ext cx="128520" cy="176040"/>
            </a:xfrm>
            <a:custGeom>
              <a:avLst/>
              <a:gdLst/>
              <a:ahLst/>
              <a:rect l="l" t="t" r="r" b="b"/>
              <a:pathLst>
                <a:path w="340" h="465">
                  <a:moveTo>
                    <a:pt x="269" y="348"/>
                  </a:moveTo>
                  <a:lnTo>
                    <a:pt x="269" y="348"/>
                  </a:lnTo>
                  <a:lnTo>
                    <a:pt x="258" y="350"/>
                  </a:lnTo>
                  <a:lnTo>
                    <a:pt x="249" y="350"/>
                  </a:lnTo>
                  <a:lnTo>
                    <a:pt x="240" y="350"/>
                  </a:lnTo>
                  <a:lnTo>
                    <a:pt x="232" y="349"/>
                  </a:lnTo>
                  <a:lnTo>
                    <a:pt x="224" y="347"/>
                  </a:lnTo>
                  <a:lnTo>
                    <a:pt x="216" y="344"/>
                  </a:lnTo>
                  <a:lnTo>
                    <a:pt x="208" y="339"/>
                  </a:lnTo>
                  <a:lnTo>
                    <a:pt x="200" y="334"/>
                  </a:lnTo>
                  <a:lnTo>
                    <a:pt x="192" y="328"/>
                  </a:lnTo>
                  <a:lnTo>
                    <a:pt x="184" y="320"/>
                  </a:lnTo>
                  <a:lnTo>
                    <a:pt x="175" y="311"/>
                  </a:lnTo>
                  <a:lnTo>
                    <a:pt x="168" y="301"/>
                  </a:lnTo>
                  <a:lnTo>
                    <a:pt x="160" y="290"/>
                  </a:lnTo>
                  <a:lnTo>
                    <a:pt x="153" y="279"/>
                  </a:lnTo>
                  <a:lnTo>
                    <a:pt x="147" y="267"/>
                  </a:lnTo>
                  <a:lnTo>
                    <a:pt x="141" y="253"/>
                  </a:lnTo>
                  <a:lnTo>
                    <a:pt x="136" y="240"/>
                  </a:lnTo>
                  <a:lnTo>
                    <a:pt x="131" y="226"/>
                  </a:lnTo>
                  <a:lnTo>
                    <a:pt x="126" y="211"/>
                  </a:lnTo>
                  <a:lnTo>
                    <a:pt x="122" y="198"/>
                  </a:lnTo>
                  <a:lnTo>
                    <a:pt x="120" y="183"/>
                  </a:lnTo>
                  <a:lnTo>
                    <a:pt x="117" y="170"/>
                  </a:lnTo>
                  <a:lnTo>
                    <a:pt x="116" y="155"/>
                  </a:lnTo>
                  <a:lnTo>
                    <a:pt x="115" y="141"/>
                  </a:lnTo>
                  <a:lnTo>
                    <a:pt x="115" y="128"/>
                  </a:lnTo>
                  <a:lnTo>
                    <a:pt x="115" y="115"/>
                  </a:lnTo>
                  <a:lnTo>
                    <a:pt x="116" y="104"/>
                  </a:lnTo>
                  <a:lnTo>
                    <a:pt x="119" y="93"/>
                  </a:lnTo>
                  <a:lnTo>
                    <a:pt x="121" y="84"/>
                  </a:lnTo>
                  <a:lnTo>
                    <a:pt x="123" y="75"/>
                  </a:lnTo>
                  <a:lnTo>
                    <a:pt x="127" y="69"/>
                  </a:lnTo>
                  <a:lnTo>
                    <a:pt x="131" y="63"/>
                  </a:lnTo>
                  <a:lnTo>
                    <a:pt x="36" y="0"/>
                  </a:lnTo>
                  <a:lnTo>
                    <a:pt x="26" y="17"/>
                  </a:lnTo>
                  <a:lnTo>
                    <a:pt x="19" y="33"/>
                  </a:lnTo>
                  <a:lnTo>
                    <a:pt x="12" y="52"/>
                  </a:lnTo>
                  <a:lnTo>
                    <a:pt x="8" y="69"/>
                  </a:lnTo>
                  <a:lnTo>
                    <a:pt x="4" y="88"/>
                  </a:lnTo>
                  <a:lnTo>
                    <a:pt x="2" y="107"/>
                  </a:lnTo>
                  <a:lnTo>
                    <a:pt x="0" y="125"/>
                  </a:lnTo>
                  <a:lnTo>
                    <a:pt x="2" y="145"/>
                  </a:lnTo>
                  <a:lnTo>
                    <a:pt x="2" y="165"/>
                  </a:lnTo>
                  <a:lnTo>
                    <a:pt x="4" y="183"/>
                  </a:lnTo>
                  <a:lnTo>
                    <a:pt x="8" y="203"/>
                  </a:lnTo>
                  <a:lnTo>
                    <a:pt x="12" y="223"/>
                  </a:lnTo>
                  <a:lnTo>
                    <a:pt x="16" y="242"/>
                  </a:lnTo>
                  <a:lnTo>
                    <a:pt x="23" y="262"/>
                  </a:lnTo>
                  <a:lnTo>
                    <a:pt x="29" y="280"/>
                  </a:lnTo>
                  <a:lnTo>
                    <a:pt x="37" y="299"/>
                  </a:lnTo>
                  <a:lnTo>
                    <a:pt x="45" y="317"/>
                  </a:lnTo>
                  <a:lnTo>
                    <a:pt x="55" y="336"/>
                  </a:lnTo>
                  <a:lnTo>
                    <a:pt x="66" y="353"/>
                  </a:lnTo>
                  <a:lnTo>
                    <a:pt x="77" y="369"/>
                  </a:lnTo>
                  <a:lnTo>
                    <a:pt x="89" y="385"/>
                  </a:lnTo>
                  <a:lnTo>
                    <a:pt x="103" y="400"/>
                  </a:lnTo>
                  <a:lnTo>
                    <a:pt x="117" y="413"/>
                  </a:lnTo>
                  <a:lnTo>
                    <a:pt x="133" y="425"/>
                  </a:lnTo>
                  <a:lnTo>
                    <a:pt x="151" y="438"/>
                  </a:lnTo>
                  <a:lnTo>
                    <a:pt x="169" y="448"/>
                  </a:lnTo>
                  <a:lnTo>
                    <a:pt x="187" y="455"/>
                  </a:lnTo>
                  <a:lnTo>
                    <a:pt x="208" y="460"/>
                  </a:lnTo>
                  <a:lnTo>
                    <a:pt x="230" y="464"/>
                  </a:lnTo>
                  <a:lnTo>
                    <a:pt x="253" y="465"/>
                  </a:lnTo>
                  <a:lnTo>
                    <a:pt x="275" y="462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297" y="457"/>
                  </a:lnTo>
                  <a:lnTo>
                    <a:pt x="303" y="456"/>
                  </a:lnTo>
                  <a:lnTo>
                    <a:pt x="309" y="454"/>
                  </a:lnTo>
                  <a:lnTo>
                    <a:pt x="315" y="450"/>
                  </a:lnTo>
                  <a:lnTo>
                    <a:pt x="320" y="446"/>
                  </a:lnTo>
                  <a:lnTo>
                    <a:pt x="328" y="439"/>
                  </a:lnTo>
                  <a:lnTo>
                    <a:pt x="334" y="430"/>
                  </a:lnTo>
                  <a:lnTo>
                    <a:pt x="337" y="421"/>
                  </a:lnTo>
                  <a:lnTo>
                    <a:pt x="340" y="409"/>
                  </a:lnTo>
                  <a:lnTo>
                    <a:pt x="339" y="398"/>
                  </a:lnTo>
                  <a:lnTo>
                    <a:pt x="337" y="389"/>
                  </a:lnTo>
                  <a:lnTo>
                    <a:pt x="334" y="379"/>
                  </a:lnTo>
                  <a:lnTo>
                    <a:pt x="329" y="369"/>
                  </a:lnTo>
                  <a:lnTo>
                    <a:pt x="321" y="361"/>
                  </a:lnTo>
                  <a:lnTo>
                    <a:pt x="314" y="354"/>
                  </a:lnTo>
                  <a:lnTo>
                    <a:pt x="304" y="349"/>
                  </a:lnTo>
                  <a:lnTo>
                    <a:pt x="293" y="347"/>
                  </a:lnTo>
                  <a:lnTo>
                    <a:pt x="287" y="346"/>
                  </a:lnTo>
                  <a:lnTo>
                    <a:pt x="281" y="346"/>
                  </a:lnTo>
                  <a:lnTo>
                    <a:pt x="275" y="347"/>
                  </a:lnTo>
                  <a:lnTo>
                    <a:pt x="269" y="34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85600" y="2641680"/>
              <a:ext cx="75240" cy="124920"/>
            </a:xfrm>
            <a:custGeom>
              <a:avLst/>
              <a:gdLst/>
              <a:ahLst/>
              <a:rect l="l" t="t" r="r" b="b"/>
              <a:pathLst>
                <a:path w="200" h="329">
                  <a:moveTo>
                    <a:pt x="125" y="110"/>
                  </a:moveTo>
                  <a:lnTo>
                    <a:pt x="87" y="56"/>
                  </a:lnTo>
                  <a:lnTo>
                    <a:pt x="87" y="66"/>
                  </a:lnTo>
                  <a:lnTo>
                    <a:pt x="84" y="77"/>
                  </a:lnTo>
                  <a:lnTo>
                    <a:pt x="82" y="91"/>
                  </a:lnTo>
                  <a:lnTo>
                    <a:pt x="78" y="104"/>
                  </a:lnTo>
                  <a:lnTo>
                    <a:pt x="73" y="118"/>
                  </a:lnTo>
                  <a:lnTo>
                    <a:pt x="67" y="133"/>
                  </a:lnTo>
                  <a:lnTo>
                    <a:pt x="61" y="146"/>
                  </a:lnTo>
                  <a:lnTo>
                    <a:pt x="54" y="161"/>
                  </a:lnTo>
                  <a:lnTo>
                    <a:pt x="45" y="173"/>
                  </a:lnTo>
                  <a:lnTo>
                    <a:pt x="38" y="186"/>
                  </a:lnTo>
                  <a:lnTo>
                    <a:pt x="29" y="195"/>
                  </a:lnTo>
                  <a:lnTo>
                    <a:pt x="22" y="204"/>
                  </a:lnTo>
                  <a:lnTo>
                    <a:pt x="13" y="211"/>
                  </a:lnTo>
                  <a:lnTo>
                    <a:pt x="7" y="216"/>
                  </a:lnTo>
                  <a:lnTo>
                    <a:pt x="2" y="219"/>
                  </a:lnTo>
                  <a:lnTo>
                    <a:pt x="0" y="220"/>
                  </a:lnTo>
                  <a:lnTo>
                    <a:pt x="28" y="329"/>
                  </a:lnTo>
                  <a:lnTo>
                    <a:pt x="49" y="322"/>
                  </a:lnTo>
                  <a:lnTo>
                    <a:pt x="68" y="312"/>
                  </a:lnTo>
                  <a:lnTo>
                    <a:pt x="86" y="299"/>
                  </a:lnTo>
                  <a:lnTo>
                    <a:pt x="102" y="285"/>
                  </a:lnTo>
                  <a:lnTo>
                    <a:pt x="115" y="269"/>
                  </a:lnTo>
                  <a:lnTo>
                    <a:pt x="129" y="252"/>
                  </a:lnTo>
                  <a:lnTo>
                    <a:pt x="141" y="235"/>
                  </a:lnTo>
                  <a:lnTo>
                    <a:pt x="152" y="216"/>
                  </a:lnTo>
                  <a:lnTo>
                    <a:pt x="163" y="198"/>
                  </a:lnTo>
                  <a:lnTo>
                    <a:pt x="172" y="178"/>
                  </a:lnTo>
                  <a:lnTo>
                    <a:pt x="179" y="157"/>
                  </a:lnTo>
                  <a:lnTo>
                    <a:pt x="187" y="138"/>
                  </a:lnTo>
                  <a:lnTo>
                    <a:pt x="193" y="118"/>
                  </a:lnTo>
                  <a:lnTo>
                    <a:pt x="196" y="97"/>
                  </a:lnTo>
                  <a:lnTo>
                    <a:pt x="199" y="77"/>
                  </a:lnTo>
                  <a:lnTo>
                    <a:pt x="200" y="56"/>
                  </a:lnTo>
                  <a:lnTo>
                    <a:pt x="163" y="3"/>
                  </a:lnTo>
                  <a:lnTo>
                    <a:pt x="200" y="56"/>
                  </a:lnTo>
                  <a:lnTo>
                    <a:pt x="200" y="50"/>
                  </a:lnTo>
                  <a:lnTo>
                    <a:pt x="199" y="43"/>
                  </a:lnTo>
                  <a:lnTo>
                    <a:pt x="198" y="38"/>
                  </a:lnTo>
                  <a:lnTo>
                    <a:pt x="195" y="32"/>
                  </a:lnTo>
                  <a:lnTo>
                    <a:pt x="190" y="22"/>
                  </a:lnTo>
                  <a:lnTo>
                    <a:pt x="183" y="15"/>
                  </a:lnTo>
                  <a:lnTo>
                    <a:pt x="174" y="8"/>
                  </a:lnTo>
                  <a:lnTo>
                    <a:pt x="164" y="3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2" y="1"/>
                  </a:lnTo>
                  <a:lnTo>
                    <a:pt x="123" y="3"/>
                  </a:lnTo>
                  <a:lnTo>
                    <a:pt x="113" y="8"/>
                  </a:lnTo>
                  <a:lnTo>
                    <a:pt x="104" y="15"/>
                  </a:lnTo>
                  <a:lnTo>
                    <a:pt x="97" y="22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8" y="43"/>
                  </a:lnTo>
                  <a:lnTo>
                    <a:pt x="87" y="50"/>
                  </a:lnTo>
                  <a:lnTo>
                    <a:pt x="87" y="56"/>
                  </a:lnTo>
                  <a:lnTo>
                    <a:pt x="125" y="11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687400" y="2639520"/>
              <a:ext cx="58680" cy="4356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0" y="118"/>
                  </a:moveTo>
                  <a:lnTo>
                    <a:pt x="18" y="116"/>
                  </a:lnTo>
                  <a:lnTo>
                    <a:pt x="37" y="115"/>
                  </a:lnTo>
                  <a:lnTo>
                    <a:pt x="55" y="115"/>
                  </a:lnTo>
                  <a:lnTo>
                    <a:pt x="74" y="114"/>
                  </a:lnTo>
                  <a:lnTo>
                    <a:pt x="90" y="114"/>
                  </a:lnTo>
                  <a:lnTo>
                    <a:pt x="103" y="114"/>
                  </a:lnTo>
                  <a:lnTo>
                    <a:pt x="113" y="115"/>
                  </a:lnTo>
                  <a:lnTo>
                    <a:pt x="118" y="116"/>
                  </a:lnTo>
                  <a:lnTo>
                    <a:pt x="156" y="9"/>
                  </a:lnTo>
                  <a:lnTo>
                    <a:pt x="133" y="3"/>
                  </a:lnTo>
                  <a:lnTo>
                    <a:pt x="112" y="1"/>
                  </a:lnTo>
                  <a:lnTo>
                    <a:pt x="90" y="0"/>
                  </a:lnTo>
                  <a:lnTo>
                    <a:pt x="70" y="1"/>
                  </a:lnTo>
                  <a:lnTo>
                    <a:pt x="50" y="1"/>
                  </a:lnTo>
                  <a:lnTo>
                    <a:pt x="31" y="2"/>
                  </a:lnTo>
                  <a:lnTo>
                    <a:pt x="15" y="3"/>
                  </a:lnTo>
                  <a:lnTo>
                    <a:pt x="0" y="3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664720" y="2639520"/>
              <a:ext cx="22680" cy="4356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4" y="11"/>
                  </a:lnTo>
                  <a:lnTo>
                    <a:pt x="15" y="19"/>
                  </a:lnTo>
                  <a:lnTo>
                    <a:pt x="9" y="27"/>
                  </a:lnTo>
                  <a:lnTo>
                    <a:pt x="4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4" y="78"/>
                  </a:lnTo>
                  <a:lnTo>
                    <a:pt x="9" y="88"/>
                  </a:lnTo>
                  <a:lnTo>
                    <a:pt x="15" y="96"/>
                  </a:lnTo>
                  <a:lnTo>
                    <a:pt x="24" y="104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3"/>
                  </a:lnTo>
                  <a:lnTo>
                    <a:pt x="51" y="113"/>
                  </a:lnTo>
                  <a:lnTo>
                    <a:pt x="58" y="1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871000" y="2565360"/>
              <a:ext cx="22680" cy="41400"/>
            </a:xfrm>
            <a:custGeom>
              <a:avLst/>
              <a:gdLst/>
              <a:ahLst/>
              <a:rect l="l" t="t" r="r" b="b"/>
              <a:pathLst>
                <a:path w="59" h="113">
                  <a:moveTo>
                    <a:pt x="5" y="113"/>
                  </a:moveTo>
                  <a:lnTo>
                    <a:pt x="11" y="113"/>
                  </a:lnTo>
                  <a:lnTo>
                    <a:pt x="18" y="112"/>
                  </a:lnTo>
                  <a:lnTo>
                    <a:pt x="23" y="110"/>
                  </a:lnTo>
                  <a:lnTo>
                    <a:pt x="30" y="107"/>
                  </a:lnTo>
                  <a:lnTo>
                    <a:pt x="39" y="102"/>
                  </a:lnTo>
                  <a:lnTo>
                    <a:pt x="47" y="94"/>
                  </a:lnTo>
                  <a:lnTo>
                    <a:pt x="53" y="85"/>
                  </a:lnTo>
                  <a:lnTo>
                    <a:pt x="57" y="75"/>
                  </a:lnTo>
                  <a:lnTo>
                    <a:pt x="59" y="65"/>
                  </a:lnTo>
                  <a:lnTo>
                    <a:pt x="59" y="54"/>
                  </a:lnTo>
                  <a:lnTo>
                    <a:pt x="58" y="44"/>
                  </a:lnTo>
                  <a:lnTo>
                    <a:pt x="55" y="33"/>
                  </a:lnTo>
                  <a:lnTo>
                    <a:pt x="50" y="25"/>
                  </a:lnTo>
                  <a:lnTo>
                    <a:pt x="43" y="16"/>
                  </a:lnTo>
                  <a:lnTo>
                    <a:pt x="36" y="9"/>
                  </a:lnTo>
                  <a:lnTo>
                    <a:pt x="26" y="4"/>
                  </a:lnTo>
                  <a:lnTo>
                    <a:pt x="20" y="3"/>
                  </a:lnTo>
                  <a:lnTo>
                    <a:pt x="14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85680" y="2565360"/>
              <a:ext cx="86760" cy="453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115" y="62"/>
                  </a:moveTo>
                  <a:lnTo>
                    <a:pt x="59" y="121"/>
                  </a:lnTo>
                  <a:lnTo>
                    <a:pt x="81" y="119"/>
                  </a:lnTo>
                  <a:lnTo>
                    <a:pt x="104" y="118"/>
                  </a:lnTo>
                  <a:lnTo>
                    <a:pt x="124" y="118"/>
                  </a:lnTo>
                  <a:lnTo>
                    <a:pt x="147" y="117"/>
                  </a:lnTo>
                  <a:lnTo>
                    <a:pt x="169" y="116"/>
                  </a:lnTo>
                  <a:lnTo>
                    <a:pt x="190" y="116"/>
                  </a:lnTo>
                  <a:lnTo>
                    <a:pt x="212" y="114"/>
                  </a:lnTo>
                  <a:lnTo>
                    <a:pt x="234" y="113"/>
                  </a:lnTo>
                  <a:lnTo>
                    <a:pt x="229" y="0"/>
                  </a:lnTo>
                  <a:lnTo>
                    <a:pt x="207" y="1"/>
                  </a:lnTo>
                  <a:lnTo>
                    <a:pt x="186" y="1"/>
                  </a:lnTo>
                  <a:lnTo>
                    <a:pt x="164" y="3"/>
                  </a:lnTo>
                  <a:lnTo>
                    <a:pt x="142" y="4"/>
                  </a:lnTo>
                  <a:lnTo>
                    <a:pt x="121" y="5"/>
                  </a:lnTo>
                  <a:lnTo>
                    <a:pt x="99" y="5"/>
                  </a:lnTo>
                  <a:lnTo>
                    <a:pt x="77" y="6"/>
                  </a:lnTo>
                  <a:lnTo>
                    <a:pt x="56" y="7"/>
                  </a:lnTo>
                  <a:lnTo>
                    <a:pt x="0" y="65"/>
                  </a:lnTo>
                  <a:lnTo>
                    <a:pt x="56" y="7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2"/>
                  </a:lnTo>
                  <a:lnTo>
                    <a:pt x="21" y="19"/>
                  </a:lnTo>
                  <a:lnTo>
                    <a:pt x="14" y="26"/>
                  </a:lnTo>
                  <a:lnTo>
                    <a:pt x="8" y="36"/>
                  </a:lnTo>
                  <a:lnTo>
                    <a:pt x="4" y="44"/>
                  </a:lnTo>
                  <a:lnTo>
                    <a:pt x="2" y="55"/>
                  </a:lnTo>
                  <a:lnTo>
                    <a:pt x="0" y="66"/>
                  </a:lnTo>
                  <a:lnTo>
                    <a:pt x="2" y="76"/>
                  </a:lnTo>
                  <a:lnTo>
                    <a:pt x="5" y="86"/>
                  </a:lnTo>
                  <a:lnTo>
                    <a:pt x="10" y="96"/>
                  </a:lnTo>
                  <a:lnTo>
                    <a:pt x="16" y="105"/>
                  </a:lnTo>
                  <a:lnTo>
                    <a:pt x="25" y="111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6" y="119"/>
                  </a:lnTo>
                  <a:lnTo>
                    <a:pt x="53" y="121"/>
                  </a:lnTo>
                  <a:lnTo>
                    <a:pt x="59" y="121"/>
                  </a:lnTo>
                  <a:lnTo>
                    <a:pt x="115" y="6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85680" y="2588400"/>
              <a:ext cx="49320" cy="181440"/>
            </a:xfrm>
            <a:custGeom>
              <a:avLst/>
              <a:gdLst/>
              <a:ahLst/>
              <a:rect l="l" t="t" r="r" b="b"/>
              <a:pathLst>
                <a:path w="131" h="478">
                  <a:moveTo>
                    <a:pt x="69" y="365"/>
                  </a:moveTo>
                  <a:lnTo>
                    <a:pt x="131" y="419"/>
                  </a:lnTo>
                  <a:lnTo>
                    <a:pt x="128" y="366"/>
                  </a:lnTo>
                  <a:lnTo>
                    <a:pt x="126" y="314"/>
                  </a:lnTo>
                  <a:lnTo>
                    <a:pt x="123" y="262"/>
                  </a:lnTo>
                  <a:lnTo>
                    <a:pt x="121" y="209"/>
                  </a:lnTo>
                  <a:lnTo>
                    <a:pt x="120" y="157"/>
                  </a:lnTo>
                  <a:lnTo>
                    <a:pt x="117" y="104"/>
                  </a:lnTo>
                  <a:lnTo>
                    <a:pt x="116" y="52"/>
                  </a:lnTo>
                  <a:lnTo>
                    <a:pt x="115" y="0"/>
                  </a:lnTo>
                  <a:lnTo>
                    <a:pt x="0" y="3"/>
                  </a:lnTo>
                  <a:lnTo>
                    <a:pt x="3" y="56"/>
                  </a:lnTo>
                  <a:lnTo>
                    <a:pt x="4" y="108"/>
                  </a:lnTo>
                  <a:lnTo>
                    <a:pt x="6" y="161"/>
                  </a:lnTo>
                  <a:lnTo>
                    <a:pt x="8" y="212"/>
                  </a:lnTo>
                  <a:lnTo>
                    <a:pt x="10" y="265"/>
                  </a:lnTo>
                  <a:lnTo>
                    <a:pt x="13" y="318"/>
                  </a:lnTo>
                  <a:lnTo>
                    <a:pt x="15" y="371"/>
                  </a:lnTo>
                  <a:lnTo>
                    <a:pt x="17" y="425"/>
                  </a:lnTo>
                  <a:lnTo>
                    <a:pt x="79" y="478"/>
                  </a:lnTo>
                  <a:lnTo>
                    <a:pt x="17" y="425"/>
                  </a:lnTo>
                  <a:lnTo>
                    <a:pt x="17" y="431"/>
                  </a:lnTo>
                  <a:lnTo>
                    <a:pt x="19" y="437"/>
                  </a:lnTo>
                  <a:lnTo>
                    <a:pt x="21" y="444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7" y="466"/>
                  </a:lnTo>
                  <a:lnTo>
                    <a:pt x="46" y="472"/>
                  </a:lnTo>
                  <a:lnTo>
                    <a:pt x="56" y="476"/>
                  </a:lnTo>
                  <a:lnTo>
                    <a:pt x="65" y="478"/>
                  </a:lnTo>
                  <a:lnTo>
                    <a:pt x="77" y="478"/>
                  </a:lnTo>
                  <a:lnTo>
                    <a:pt x="86" y="477"/>
                  </a:lnTo>
                  <a:lnTo>
                    <a:pt x="97" y="474"/>
                  </a:lnTo>
                  <a:lnTo>
                    <a:pt x="106" y="469"/>
                  </a:lnTo>
                  <a:lnTo>
                    <a:pt x="115" y="462"/>
                  </a:lnTo>
                  <a:lnTo>
                    <a:pt x="122" y="455"/>
                  </a:lnTo>
                  <a:lnTo>
                    <a:pt x="127" y="445"/>
                  </a:lnTo>
                  <a:lnTo>
                    <a:pt x="128" y="439"/>
                  </a:lnTo>
                  <a:lnTo>
                    <a:pt x="129" y="433"/>
                  </a:lnTo>
                  <a:lnTo>
                    <a:pt x="131" y="426"/>
                  </a:lnTo>
                  <a:lnTo>
                    <a:pt x="131" y="419"/>
                  </a:lnTo>
                  <a:lnTo>
                    <a:pt x="69" y="36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810520" y="2720880"/>
              <a:ext cx="90360" cy="48600"/>
            </a:xfrm>
            <a:custGeom>
              <a:avLst/>
              <a:gdLst/>
              <a:ahLst/>
              <a:rect l="l" t="t" r="r" b="b"/>
              <a:pathLst>
                <a:path w="238" h="129">
                  <a:moveTo>
                    <a:pt x="231" y="0"/>
                  </a:moveTo>
                  <a:lnTo>
                    <a:pt x="202" y="2"/>
                  </a:lnTo>
                  <a:lnTo>
                    <a:pt x="174" y="4"/>
                  </a:lnTo>
                  <a:lnTo>
                    <a:pt x="145" y="5"/>
                  </a:lnTo>
                  <a:lnTo>
                    <a:pt x="116" y="7"/>
                  </a:lnTo>
                  <a:lnTo>
                    <a:pt x="86" y="10"/>
                  </a:lnTo>
                  <a:lnTo>
                    <a:pt x="58" y="11"/>
                  </a:lnTo>
                  <a:lnTo>
                    <a:pt x="28" y="13"/>
                  </a:lnTo>
                  <a:lnTo>
                    <a:pt x="0" y="16"/>
                  </a:lnTo>
                  <a:lnTo>
                    <a:pt x="10" y="129"/>
                  </a:lnTo>
                  <a:lnTo>
                    <a:pt x="38" y="127"/>
                  </a:lnTo>
                  <a:lnTo>
                    <a:pt x="67" y="125"/>
                  </a:lnTo>
                  <a:lnTo>
                    <a:pt x="95" y="123"/>
                  </a:lnTo>
                  <a:lnTo>
                    <a:pt x="123" y="120"/>
                  </a:lnTo>
                  <a:lnTo>
                    <a:pt x="151" y="119"/>
                  </a:lnTo>
                  <a:lnTo>
                    <a:pt x="181" y="117"/>
                  </a:lnTo>
                  <a:lnTo>
                    <a:pt x="209" y="116"/>
                  </a:lnTo>
                  <a:lnTo>
                    <a:pt x="238" y="113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899440" y="2720880"/>
              <a:ext cx="22680" cy="4140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7" y="113"/>
                  </a:moveTo>
                  <a:lnTo>
                    <a:pt x="14" y="113"/>
                  </a:lnTo>
                  <a:lnTo>
                    <a:pt x="20" y="112"/>
                  </a:lnTo>
                  <a:lnTo>
                    <a:pt x="26" y="109"/>
                  </a:lnTo>
                  <a:lnTo>
                    <a:pt x="31" y="107"/>
                  </a:lnTo>
                  <a:lnTo>
                    <a:pt x="41" y="101"/>
                  </a:lnTo>
                  <a:lnTo>
                    <a:pt x="48" y="93"/>
                  </a:lnTo>
                  <a:lnTo>
                    <a:pt x="54" y="85"/>
                  </a:lnTo>
                  <a:lnTo>
                    <a:pt x="58" y="75"/>
                  </a:lnTo>
                  <a:lnTo>
                    <a:pt x="59" y="64"/>
                  </a:lnTo>
                  <a:lnTo>
                    <a:pt x="61" y="53"/>
                  </a:lnTo>
                  <a:lnTo>
                    <a:pt x="58" y="43"/>
                  </a:lnTo>
                  <a:lnTo>
                    <a:pt x="56" y="33"/>
                  </a:lnTo>
                  <a:lnTo>
                    <a:pt x="51" y="23"/>
                  </a:lnTo>
                  <a:lnTo>
                    <a:pt x="43" y="15"/>
                  </a:lnTo>
                  <a:lnTo>
                    <a:pt x="35" y="9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8784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6" y="0"/>
                  </a:moveTo>
                  <a:lnTo>
                    <a:pt x="49" y="0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2" y="11"/>
                  </a:lnTo>
                  <a:lnTo>
                    <a:pt x="13" y="19"/>
                  </a:lnTo>
                  <a:lnTo>
                    <a:pt x="7" y="27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3" y="78"/>
                  </a:lnTo>
                  <a:lnTo>
                    <a:pt x="7" y="88"/>
                  </a:lnTo>
                  <a:lnTo>
                    <a:pt x="13" y="96"/>
                  </a:lnTo>
                  <a:lnTo>
                    <a:pt x="22" y="104"/>
                  </a:lnTo>
                  <a:lnTo>
                    <a:pt x="32" y="110"/>
                  </a:lnTo>
                  <a:lnTo>
                    <a:pt x="37" y="111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808360" y="2639520"/>
              <a:ext cx="75600" cy="43560"/>
            </a:xfrm>
            <a:custGeom>
              <a:avLst/>
              <a:gdLst/>
              <a:ahLst/>
              <a:rect l="l" t="t" r="r" b="b"/>
              <a:pathLst>
                <a:path w="198" h="115">
                  <a:moveTo>
                    <a:pt x="198" y="0"/>
                  </a:moveTo>
                  <a:lnTo>
                    <a:pt x="172" y="0"/>
                  </a:lnTo>
                  <a:lnTo>
                    <a:pt x="148" y="0"/>
                  </a:lnTo>
                  <a:lnTo>
                    <a:pt x="123" y="0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49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5"/>
                  </a:lnTo>
                  <a:lnTo>
                    <a:pt x="49" y="115"/>
                  </a:lnTo>
                  <a:lnTo>
                    <a:pt x="74" y="115"/>
                  </a:lnTo>
                  <a:lnTo>
                    <a:pt x="99" y="115"/>
                  </a:lnTo>
                  <a:lnTo>
                    <a:pt x="123" y="115"/>
                  </a:lnTo>
                  <a:lnTo>
                    <a:pt x="148" y="115"/>
                  </a:lnTo>
                  <a:lnTo>
                    <a:pt x="172" y="115"/>
                  </a:lnTo>
                  <a:lnTo>
                    <a:pt x="198" y="11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884320" y="2639520"/>
              <a:ext cx="20520" cy="4356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0" y="115"/>
                  </a:moveTo>
                  <a:lnTo>
                    <a:pt x="6" y="113"/>
                  </a:lnTo>
                  <a:lnTo>
                    <a:pt x="13" y="113"/>
                  </a:lnTo>
                  <a:lnTo>
                    <a:pt x="19" y="111"/>
                  </a:lnTo>
                  <a:lnTo>
                    <a:pt x="25" y="110"/>
                  </a:lnTo>
                  <a:lnTo>
                    <a:pt x="35" y="104"/>
                  </a:lnTo>
                  <a:lnTo>
                    <a:pt x="42" y="96"/>
                  </a:lnTo>
                  <a:lnTo>
                    <a:pt x="48" y="88"/>
                  </a:lnTo>
                  <a:lnTo>
                    <a:pt x="53" y="78"/>
                  </a:lnTo>
                  <a:lnTo>
                    <a:pt x="56" y="68"/>
                  </a:lnTo>
                  <a:lnTo>
                    <a:pt x="57" y="57"/>
                  </a:lnTo>
                  <a:lnTo>
                    <a:pt x="56" y="47"/>
                  </a:lnTo>
                  <a:lnTo>
                    <a:pt x="53" y="36"/>
                  </a:lnTo>
                  <a:lnTo>
                    <a:pt x="48" y="27"/>
                  </a:lnTo>
                  <a:lnTo>
                    <a:pt x="42" y="19"/>
                  </a:lnTo>
                  <a:lnTo>
                    <a:pt x="35" y="11"/>
                  </a:lnTo>
                  <a:lnTo>
                    <a:pt x="25" y="5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926080" y="2747520"/>
              <a:ext cx="43200" cy="2232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6"/>
                  </a:lnTo>
                  <a:lnTo>
                    <a:pt x="11" y="36"/>
                  </a:lnTo>
                  <a:lnTo>
                    <a:pt x="18" y="44"/>
                  </a:lnTo>
                  <a:lnTo>
                    <a:pt x="27" y="50"/>
                  </a:lnTo>
                  <a:lnTo>
                    <a:pt x="35" y="55"/>
                  </a:lnTo>
                  <a:lnTo>
                    <a:pt x="46" y="57"/>
                  </a:lnTo>
                  <a:lnTo>
                    <a:pt x="56" y="58"/>
                  </a:lnTo>
                  <a:lnTo>
                    <a:pt x="67" y="57"/>
                  </a:lnTo>
                  <a:lnTo>
                    <a:pt x="77" y="55"/>
                  </a:lnTo>
                  <a:lnTo>
                    <a:pt x="87" y="50"/>
                  </a:lnTo>
                  <a:lnTo>
                    <a:pt x="96" y="44"/>
                  </a:lnTo>
                  <a:lnTo>
                    <a:pt x="103" y="36"/>
                  </a:lnTo>
                  <a:lnTo>
                    <a:pt x="109" y="26"/>
                  </a:lnTo>
                  <a:lnTo>
                    <a:pt x="110" y="20"/>
                  </a:lnTo>
                  <a:lnTo>
                    <a:pt x="113" y="14"/>
                  </a:lnTo>
                  <a:lnTo>
                    <a:pt x="113" y="8"/>
                  </a:lnTo>
                  <a:lnTo>
                    <a:pt x="1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919960" y="2561760"/>
              <a:ext cx="49320" cy="185760"/>
            </a:xfrm>
            <a:custGeom>
              <a:avLst/>
              <a:gdLst/>
              <a:ahLst/>
              <a:rect l="l" t="t" r="r" b="b"/>
              <a:pathLst>
                <a:path w="130" h="490">
                  <a:moveTo>
                    <a:pt x="101" y="2"/>
                  </a:moveTo>
                  <a:lnTo>
                    <a:pt x="97" y="0"/>
                  </a:lnTo>
                  <a:lnTo>
                    <a:pt x="18" y="5"/>
                  </a:lnTo>
                  <a:lnTo>
                    <a:pt x="5" y="30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73"/>
                  </a:lnTo>
                  <a:lnTo>
                    <a:pt x="1" y="99"/>
                  </a:lnTo>
                  <a:lnTo>
                    <a:pt x="2" y="162"/>
                  </a:lnTo>
                  <a:lnTo>
                    <a:pt x="5" y="238"/>
                  </a:lnTo>
                  <a:lnTo>
                    <a:pt x="8" y="317"/>
                  </a:lnTo>
                  <a:lnTo>
                    <a:pt x="12" y="391"/>
                  </a:lnTo>
                  <a:lnTo>
                    <a:pt x="16" y="452"/>
                  </a:lnTo>
                  <a:lnTo>
                    <a:pt x="16" y="490"/>
                  </a:lnTo>
                  <a:lnTo>
                    <a:pt x="130" y="490"/>
                  </a:lnTo>
                  <a:lnTo>
                    <a:pt x="129" y="449"/>
                  </a:lnTo>
                  <a:lnTo>
                    <a:pt x="125" y="386"/>
                  </a:lnTo>
                  <a:lnTo>
                    <a:pt x="123" y="312"/>
                  </a:lnTo>
                  <a:lnTo>
                    <a:pt x="119" y="233"/>
                  </a:lnTo>
                  <a:lnTo>
                    <a:pt x="115" y="158"/>
                  </a:lnTo>
                  <a:lnTo>
                    <a:pt x="114" y="97"/>
                  </a:lnTo>
                  <a:lnTo>
                    <a:pt x="114" y="75"/>
                  </a:lnTo>
                  <a:lnTo>
                    <a:pt x="114" y="59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02" y="82"/>
                  </a:lnTo>
                  <a:lnTo>
                    <a:pt x="26" y="86"/>
                  </a:lnTo>
                  <a:lnTo>
                    <a:pt x="22" y="83"/>
                  </a:lnTo>
                  <a:lnTo>
                    <a:pt x="26" y="86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9" y="101"/>
                  </a:lnTo>
                  <a:lnTo>
                    <a:pt x="69" y="101"/>
                  </a:lnTo>
                  <a:lnTo>
                    <a:pt x="80" y="97"/>
                  </a:lnTo>
                  <a:lnTo>
                    <a:pt x="88" y="93"/>
                  </a:lnTo>
                  <a:lnTo>
                    <a:pt x="97" y="87"/>
                  </a:lnTo>
                  <a:lnTo>
                    <a:pt x="104" y="80"/>
                  </a:lnTo>
                  <a:lnTo>
                    <a:pt x="110" y="70"/>
                  </a:lnTo>
                  <a:lnTo>
                    <a:pt x="115" y="61"/>
                  </a:lnTo>
                  <a:lnTo>
                    <a:pt x="118" y="50"/>
                  </a:lnTo>
                  <a:lnTo>
                    <a:pt x="119" y="40"/>
                  </a:lnTo>
                  <a:lnTo>
                    <a:pt x="118" y="29"/>
                  </a:lnTo>
                  <a:lnTo>
                    <a:pt x="113" y="19"/>
                  </a:lnTo>
                  <a:lnTo>
                    <a:pt x="110" y="13"/>
                  </a:lnTo>
                  <a:lnTo>
                    <a:pt x="107" y="8"/>
                  </a:lnTo>
                  <a:lnTo>
                    <a:pt x="103" y="3"/>
                  </a:lnTo>
                  <a:lnTo>
                    <a:pt x="97" y="0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927880" y="2563920"/>
              <a:ext cx="168120" cy="202680"/>
            </a:xfrm>
            <a:custGeom>
              <a:avLst/>
              <a:gdLst/>
              <a:ahLst/>
              <a:rect l="l" t="t" r="r" b="b"/>
              <a:pathLst>
                <a:path w="445" h="535">
                  <a:moveTo>
                    <a:pt x="331" y="480"/>
                  </a:moveTo>
                  <a:lnTo>
                    <a:pt x="428" y="437"/>
                  </a:lnTo>
                  <a:lnTo>
                    <a:pt x="407" y="416"/>
                  </a:lnTo>
                  <a:lnTo>
                    <a:pt x="387" y="393"/>
                  </a:lnTo>
                  <a:lnTo>
                    <a:pt x="366" y="368"/>
                  </a:lnTo>
                  <a:lnTo>
                    <a:pt x="345" y="342"/>
                  </a:lnTo>
                  <a:lnTo>
                    <a:pt x="302" y="284"/>
                  </a:lnTo>
                  <a:lnTo>
                    <a:pt x="259" y="225"/>
                  </a:lnTo>
                  <a:lnTo>
                    <a:pt x="215" y="165"/>
                  </a:lnTo>
                  <a:lnTo>
                    <a:pt x="171" y="106"/>
                  </a:lnTo>
                  <a:lnTo>
                    <a:pt x="149" y="78"/>
                  </a:lnTo>
                  <a:lnTo>
                    <a:pt x="125" y="51"/>
                  </a:lnTo>
                  <a:lnTo>
                    <a:pt x="102" y="25"/>
                  </a:lnTo>
                  <a:lnTo>
                    <a:pt x="79" y="0"/>
                  </a:lnTo>
                  <a:lnTo>
                    <a:pt x="0" y="81"/>
                  </a:lnTo>
                  <a:lnTo>
                    <a:pt x="20" y="102"/>
                  </a:lnTo>
                  <a:lnTo>
                    <a:pt x="40" y="124"/>
                  </a:lnTo>
                  <a:lnTo>
                    <a:pt x="60" y="149"/>
                  </a:lnTo>
                  <a:lnTo>
                    <a:pt x="81" y="175"/>
                  </a:lnTo>
                  <a:lnTo>
                    <a:pt x="124" y="233"/>
                  </a:lnTo>
                  <a:lnTo>
                    <a:pt x="167" y="292"/>
                  </a:lnTo>
                  <a:lnTo>
                    <a:pt x="211" y="352"/>
                  </a:lnTo>
                  <a:lnTo>
                    <a:pt x="256" y="411"/>
                  </a:lnTo>
                  <a:lnTo>
                    <a:pt x="278" y="439"/>
                  </a:lnTo>
                  <a:lnTo>
                    <a:pt x="301" y="466"/>
                  </a:lnTo>
                  <a:lnTo>
                    <a:pt x="323" y="493"/>
                  </a:lnTo>
                  <a:lnTo>
                    <a:pt x="347" y="518"/>
                  </a:lnTo>
                  <a:lnTo>
                    <a:pt x="444" y="475"/>
                  </a:lnTo>
                  <a:lnTo>
                    <a:pt x="347" y="518"/>
                  </a:lnTo>
                  <a:lnTo>
                    <a:pt x="353" y="522"/>
                  </a:lnTo>
                  <a:lnTo>
                    <a:pt x="358" y="527"/>
                  </a:lnTo>
                  <a:lnTo>
                    <a:pt x="363" y="529"/>
                  </a:lnTo>
                  <a:lnTo>
                    <a:pt x="369" y="532"/>
                  </a:lnTo>
                  <a:lnTo>
                    <a:pt x="379" y="535"/>
                  </a:lnTo>
                  <a:lnTo>
                    <a:pt x="390" y="535"/>
                  </a:lnTo>
                  <a:lnTo>
                    <a:pt x="401" y="534"/>
                  </a:lnTo>
                  <a:lnTo>
                    <a:pt x="411" y="530"/>
                  </a:lnTo>
                  <a:lnTo>
                    <a:pt x="419" y="524"/>
                  </a:lnTo>
                  <a:lnTo>
                    <a:pt x="428" y="518"/>
                  </a:lnTo>
                  <a:lnTo>
                    <a:pt x="434" y="509"/>
                  </a:lnTo>
                  <a:lnTo>
                    <a:pt x="440" y="501"/>
                  </a:lnTo>
                  <a:lnTo>
                    <a:pt x="444" y="491"/>
                  </a:lnTo>
                  <a:lnTo>
                    <a:pt x="445" y="480"/>
                  </a:lnTo>
                  <a:lnTo>
                    <a:pt x="445" y="469"/>
                  </a:lnTo>
                  <a:lnTo>
                    <a:pt x="441" y="458"/>
                  </a:lnTo>
                  <a:lnTo>
                    <a:pt x="439" y="453"/>
                  </a:lnTo>
                  <a:lnTo>
                    <a:pt x="436" y="448"/>
                  </a:lnTo>
                  <a:lnTo>
                    <a:pt x="433" y="442"/>
                  </a:lnTo>
                  <a:lnTo>
                    <a:pt x="428" y="437"/>
                  </a:lnTo>
                  <a:lnTo>
                    <a:pt x="331" y="48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3048840" y="2595960"/>
              <a:ext cx="47160" cy="149400"/>
            </a:xfrm>
            <a:custGeom>
              <a:avLst/>
              <a:gdLst/>
              <a:ahLst/>
              <a:rect l="l" t="t" r="r" b="b"/>
              <a:pathLst>
                <a:path w="127" h="393">
                  <a:moveTo>
                    <a:pt x="0" y="5"/>
                  </a:moveTo>
                  <a:lnTo>
                    <a:pt x="1" y="50"/>
                  </a:lnTo>
                  <a:lnTo>
                    <a:pt x="4" y="98"/>
                  </a:lnTo>
                  <a:lnTo>
                    <a:pt x="5" y="147"/>
                  </a:lnTo>
                  <a:lnTo>
                    <a:pt x="6" y="197"/>
                  </a:lnTo>
                  <a:lnTo>
                    <a:pt x="9" y="248"/>
                  </a:lnTo>
                  <a:lnTo>
                    <a:pt x="10" y="297"/>
                  </a:lnTo>
                  <a:lnTo>
                    <a:pt x="12" y="346"/>
                  </a:lnTo>
                  <a:lnTo>
                    <a:pt x="14" y="393"/>
                  </a:lnTo>
                  <a:lnTo>
                    <a:pt x="127" y="388"/>
                  </a:lnTo>
                  <a:lnTo>
                    <a:pt x="126" y="342"/>
                  </a:lnTo>
                  <a:lnTo>
                    <a:pt x="123" y="293"/>
                  </a:lnTo>
                  <a:lnTo>
                    <a:pt x="122" y="244"/>
                  </a:lnTo>
                  <a:lnTo>
                    <a:pt x="121" y="194"/>
                  </a:lnTo>
                  <a:lnTo>
                    <a:pt x="118" y="143"/>
                  </a:lnTo>
                  <a:lnTo>
                    <a:pt x="117" y="94"/>
                  </a:lnTo>
                  <a:lnTo>
                    <a:pt x="115" y="46"/>
                  </a:lnTo>
                  <a:lnTo>
                    <a:pt x="1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3048840" y="2575080"/>
              <a:ext cx="41400" cy="22680"/>
            </a:xfrm>
            <a:custGeom>
              <a:avLst/>
              <a:gdLst/>
              <a:ahLst/>
              <a:rect l="l" t="t" r="r" b="b"/>
              <a:pathLst>
                <a:path w="113" h="59">
                  <a:moveTo>
                    <a:pt x="113" y="54"/>
                  </a:moveTo>
                  <a:lnTo>
                    <a:pt x="112" y="47"/>
                  </a:lnTo>
                  <a:lnTo>
                    <a:pt x="111" y="41"/>
                  </a:lnTo>
                  <a:lnTo>
                    <a:pt x="110" y="35"/>
                  </a:lnTo>
                  <a:lnTo>
                    <a:pt x="107" y="30"/>
                  </a:lnTo>
                  <a:lnTo>
                    <a:pt x="101" y="20"/>
                  </a:lnTo>
                  <a:lnTo>
                    <a:pt x="94" y="13"/>
                  </a:lnTo>
                  <a:lnTo>
                    <a:pt x="85" y="7"/>
                  </a:lnTo>
                  <a:lnTo>
                    <a:pt x="75" y="3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3" y="4"/>
                  </a:lnTo>
                  <a:lnTo>
                    <a:pt x="25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13" y="5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3213720" y="2577240"/>
              <a:ext cx="33840" cy="41400"/>
            </a:xfrm>
            <a:custGeom>
              <a:avLst/>
              <a:gdLst/>
              <a:ahLst/>
              <a:rect l="l" t="t" r="r" b="b"/>
              <a:pathLst>
                <a:path w="86" h="107">
                  <a:moveTo>
                    <a:pt x="0" y="99"/>
                  </a:moveTo>
                  <a:lnTo>
                    <a:pt x="6" y="101"/>
                  </a:lnTo>
                  <a:lnTo>
                    <a:pt x="11" y="104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35" y="107"/>
                  </a:lnTo>
                  <a:lnTo>
                    <a:pt x="46" y="105"/>
                  </a:lnTo>
                  <a:lnTo>
                    <a:pt x="56" y="100"/>
                  </a:lnTo>
                  <a:lnTo>
                    <a:pt x="64" y="94"/>
                  </a:lnTo>
                  <a:lnTo>
                    <a:pt x="72" y="86"/>
                  </a:lnTo>
                  <a:lnTo>
                    <a:pt x="78" y="78"/>
                  </a:lnTo>
                  <a:lnTo>
                    <a:pt x="83" y="68"/>
                  </a:lnTo>
                  <a:lnTo>
                    <a:pt x="85" y="58"/>
                  </a:lnTo>
                  <a:lnTo>
                    <a:pt x="86" y="47"/>
                  </a:lnTo>
                  <a:lnTo>
                    <a:pt x="85" y="37"/>
                  </a:lnTo>
                  <a:lnTo>
                    <a:pt x="81" y="26"/>
                  </a:lnTo>
                  <a:lnTo>
                    <a:pt x="77" y="18"/>
                  </a:lnTo>
                  <a:lnTo>
                    <a:pt x="73" y="13"/>
                  </a:lnTo>
                  <a:lnTo>
                    <a:pt x="68" y="8"/>
                  </a:lnTo>
                  <a:lnTo>
                    <a:pt x="63" y="4"/>
                  </a:lnTo>
                  <a:lnTo>
                    <a:pt x="57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098160" y="2561760"/>
              <a:ext cx="137880" cy="145800"/>
            </a:xfrm>
            <a:custGeom>
              <a:avLst/>
              <a:gdLst/>
              <a:ahLst/>
              <a:rect l="l" t="t" r="r" b="b"/>
              <a:pathLst>
                <a:path w="365" h="388">
                  <a:moveTo>
                    <a:pt x="116" y="324"/>
                  </a:moveTo>
                  <a:lnTo>
                    <a:pt x="116" y="324"/>
                  </a:lnTo>
                  <a:lnTo>
                    <a:pt x="114" y="308"/>
                  </a:lnTo>
                  <a:lnTo>
                    <a:pt x="114" y="291"/>
                  </a:lnTo>
                  <a:lnTo>
                    <a:pt x="113" y="276"/>
                  </a:lnTo>
                  <a:lnTo>
                    <a:pt x="114" y="260"/>
                  </a:lnTo>
                  <a:lnTo>
                    <a:pt x="114" y="246"/>
                  </a:lnTo>
                  <a:lnTo>
                    <a:pt x="116" y="231"/>
                  </a:lnTo>
                  <a:lnTo>
                    <a:pt x="119" y="219"/>
                  </a:lnTo>
                  <a:lnTo>
                    <a:pt x="121" y="207"/>
                  </a:lnTo>
                  <a:lnTo>
                    <a:pt x="125" y="195"/>
                  </a:lnTo>
                  <a:lnTo>
                    <a:pt x="129" y="185"/>
                  </a:lnTo>
                  <a:lnTo>
                    <a:pt x="134" y="174"/>
                  </a:lnTo>
                  <a:lnTo>
                    <a:pt x="137" y="165"/>
                  </a:lnTo>
                  <a:lnTo>
                    <a:pt x="142" y="156"/>
                  </a:lnTo>
                  <a:lnTo>
                    <a:pt x="148" y="149"/>
                  </a:lnTo>
                  <a:lnTo>
                    <a:pt x="153" y="143"/>
                  </a:lnTo>
                  <a:lnTo>
                    <a:pt x="159" y="137"/>
                  </a:lnTo>
                  <a:lnTo>
                    <a:pt x="166" y="132"/>
                  </a:lnTo>
                  <a:lnTo>
                    <a:pt x="172" y="127"/>
                  </a:lnTo>
                  <a:lnTo>
                    <a:pt x="178" y="123"/>
                  </a:lnTo>
                  <a:lnTo>
                    <a:pt x="185" y="120"/>
                  </a:lnTo>
                  <a:lnTo>
                    <a:pt x="193" y="117"/>
                  </a:lnTo>
                  <a:lnTo>
                    <a:pt x="200" y="116"/>
                  </a:lnTo>
                  <a:lnTo>
                    <a:pt x="207" y="115"/>
                  </a:lnTo>
                  <a:lnTo>
                    <a:pt x="216" y="113"/>
                  </a:lnTo>
                  <a:lnTo>
                    <a:pt x="225" y="113"/>
                  </a:lnTo>
                  <a:lnTo>
                    <a:pt x="234" y="115"/>
                  </a:lnTo>
                  <a:lnTo>
                    <a:pt x="246" y="116"/>
                  </a:lnTo>
                  <a:lnTo>
                    <a:pt x="257" y="118"/>
                  </a:lnTo>
                  <a:lnTo>
                    <a:pt x="269" y="122"/>
                  </a:lnTo>
                  <a:lnTo>
                    <a:pt x="281" y="127"/>
                  </a:lnTo>
                  <a:lnTo>
                    <a:pt x="293" y="134"/>
                  </a:lnTo>
                  <a:lnTo>
                    <a:pt x="308" y="142"/>
                  </a:lnTo>
                  <a:lnTo>
                    <a:pt x="365" y="43"/>
                  </a:lnTo>
                  <a:lnTo>
                    <a:pt x="345" y="32"/>
                  </a:lnTo>
                  <a:lnTo>
                    <a:pt x="327" y="24"/>
                  </a:lnTo>
                  <a:lnTo>
                    <a:pt x="307" y="16"/>
                  </a:lnTo>
                  <a:lnTo>
                    <a:pt x="287" y="9"/>
                  </a:lnTo>
                  <a:lnTo>
                    <a:pt x="269" y="5"/>
                  </a:lnTo>
                  <a:lnTo>
                    <a:pt x="249" y="1"/>
                  </a:lnTo>
                  <a:lnTo>
                    <a:pt x="231" y="0"/>
                  </a:lnTo>
                  <a:lnTo>
                    <a:pt x="212" y="0"/>
                  </a:lnTo>
                  <a:lnTo>
                    <a:pt x="194" y="1"/>
                  </a:lnTo>
                  <a:lnTo>
                    <a:pt x="175" y="4"/>
                  </a:lnTo>
                  <a:lnTo>
                    <a:pt x="158" y="9"/>
                  </a:lnTo>
                  <a:lnTo>
                    <a:pt x="141" y="15"/>
                  </a:lnTo>
                  <a:lnTo>
                    <a:pt x="125" y="22"/>
                  </a:lnTo>
                  <a:lnTo>
                    <a:pt x="110" y="32"/>
                  </a:lnTo>
                  <a:lnTo>
                    <a:pt x="95" y="42"/>
                  </a:lnTo>
                  <a:lnTo>
                    <a:pt x="82" y="54"/>
                  </a:lnTo>
                  <a:lnTo>
                    <a:pt x="70" y="67"/>
                  </a:lnTo>
                  <a:lnTo>
                    <a:pt x="59" y="80"/>
                  </a:lnTo>
                  <a:lnTo>
                    <a:pt x="48" y="95"/>
                  </a:lnTo>
                  <a:lnTo>
                    <a:pt x="39" y="110"/>
                  </a:lnTo>
                  <a:lnTo>
                    <a:pt x="30" y="126"/>
                  </a:lnTo>
                  <a:lnTo>
                    <a:pt x="23" y="143"/>
                  </a:lnTo>
                  <a:lnTo>
                    <a:pt x="17" y="160"/>
                  </a:lnTo>
                  <a:lnTo>
                    <a:pt x="12" y="177"/>
                  </a:lnTo>
                  <a:lnTo>
                    <a:pt x="7" y="196"/>
                  </a:lnTo>
                  <a:lnTo>
                    <a:pt x="3" y="215"/>
                  </a:lnTo>
                  <a:lnTo>
                    <a:pt x="2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5"/>
                  </a:lnTo>
                  <a:lnTo>
                    <a:pt x="2" y="318"/>
                  </a:lnTo>
                  <a:lnTo>
                    <a:pt x="4" y="338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46"/>
                  </a:lnTo>
                  <a:lnTo>
                    <a:pt x="7" y="352"/>
                  </a:lnTo>
                  <a:lnTo>
                    <a:pt x="9" y="358"/>
                  </a:lnTo>
                  <a:lnTo>
                    <a:pt x="12" y="363"/>
                  </a:lnTo>
                  <a:lnTo>
                    <a:pt x="19" y="372"/>
                  </a:lnTo>
                  <a:lnTo>
                    <a:pt x="27" y="379"/>
                  </a:lnTo>
                  <a:lnTo>
                    <a:pt x="36" y="384"/>
                  </a:lnTo>
                  <a:lnTo>
                    <a:pt x="46" y="386"/>
                  </a:lnTo>
                  <a:lnTo>
                    <a:pt x="57" y="388"/>
                  </a:lnTo>
                  <a:lnTo>
                    <a:pt x="67" y="388"/>
                  </a:lnTo>
                  <a:lnTo>
                    <a:pt x="78" y="385"/>
                  </a:lnTo>
                  <a:lnTo>
                    <a:pt x="88" y="382"/>
                  </a:lnTo>
                  <a:lnTo>
                    <a:pt x="97" y="375"/>
                  </a:lnTo>
                  <a:lnTo>
                    <a:pt x="104" y="368"/>
                  </a:lnTo>
                  <a:lnTo>
                    <a:pt x="110" y="359"/>
                  </a:lnTo>
                  <a:lnTo>
                    <a:pt x="115" y="350"/>
                  </a:lnTo>
                  <a:lnTo>
                    <a:pt x="116" y="343"/>
                  </a:lnTo>
                  <a:lnTo>
                    <a:pt x="116" y="337"/>
                  </a:lnTo>
                  <a:lnTo>
                    <a:pt x="116" y="331"/>
                  </a:lnTo>
                  <a:lnTo>
                    <a:pt x="116" y="324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099960" y="2683080"/>
              <a:ext cx="136440" cy="84960"/>
            </a:xfrm>
            <a:custGeom>
              <a:avLst/>
              <a:gdLst/>
              <a:ahLst/>
              <a:rect l="l" t="t" r="r" b="b"/>
              <a:pathLst>
                <a:path w="361" h="225">
                  <a:moveTo>
                    <a:pt x="341" y="109"/>
                  </a:moveTo>
                  <a:lnTo>
                    <a:pt x="326" y="112"/>
                  </a:lnTo>
                  <a:lnTo>
                    <a:pt x="308" y="112"/>
                  </a:lnTo>
                  <a:lnTo>
                    <a:pt x="289" y="110"/>
                  </a:lnTo>
                  <a:lnTo>
                    <a:pt x="270" y="108"/>
                  </a:lnTo>
                  <a:lnTo>
                    <a:pt x="250" y="104"/>
                  </a:lnTo>
                  <a:lnTo>
                    <a:pt x="230" y="98"/>
                  </a:lnTo>
                  <a:lnTo>
                    <a:pt x="212" y="92"/>
                  </a:lnTo>
                  <a:lnTo>
                    <a:pt x="194" y="83"/>
                  </a:lnTo>
                  <a:lnTo>
                    <a:pt x="176" y="75"/>
                  </a:lnTo>
                  <a:lnTo>
                    <a:pt x="160" y="65"/>
                  </a:lnTo>
                  <a:lnTo>
                    <a:pt x="147" y="54"/>
                  </a:lnTo>
                  <a:lnTo>
                    <a:pt x="135" y="42"/>
                  </a:lnTo>
                  <a:lnTo>
                    <a:pt x="131" y="38"/>
                  </a:lnTo>
                  <a:lnTo>
                    <a:pt x="126" y="32"/>
                  </a:lnTo>
                  <a:lnTo>
                    <a:pt x="122" y="27"/>
                  </a:lnTo>
                  <a:lnTo>
                    <a:pt x="120" y="21"/>
                  </a:lnTo>
                  <a:lnTo>
                    <a:pt x="117" y="16"/>
                  </a:lnTo>
                  <a:lnTo>
                    <a:pt x="115" y="10"/>
                  </a:lnTo>
                  <a:lnTo>
                    <a:pt x="114" y="5"/>
                  </a:lnTo>
                  <a:lnTo>
                    <a:pt x="112" y="0"/>
                  </a:lnTo>
                  <a:lnTo>
                    <a:pt x="0" y="16"/>
                  </a:lnTo>
                  <a:lnTo>
                    <a:pt x="3" y="30"/>
                  </a:lnTo>
                  <a:lnTo>
                    <a:pt x="7" y="45"/>
                  </a:lnTo>
                  <a:lnTo>
                    <a:pt x="13" y="60"/>
                  </a:lnTo>
                  <a:lnTo>
                    <a:pt x="19" y="74"/>
                  </a:lnTo>
                  <a:lnTo>
                    <a:pt x="26" y="86"/>
                  </a:lnTo>
                  <a:lnTo>
                    <a:pt x="34" y="98"/>
                  </a:lnTo>
                  <a:lnTo>
                    <a:pt x="42" y="109"/>
                  </a:lnTo>
                  <a:lnTo>
                    <a:pt x="53" y="121"/>
                  </a:lnTo>
                  <a:lnTo>
                    <a:pt x="73" y="140"/>
                  </a:lnTo>
                  <a:lnTo>
                    <a:pt x="95" y="157"/>
                  </a:lnTo>
                  <a:lnTo>
                    <a:pt x="119" y="173"/>
                  </a:lnTo>
                  <a:lnTo>
                    <a:pt x="144" y="187"/>
                  </a:lnTo>
                  <a:lnTo>
                    <a:pt x="170" y="198"/>
                  </a:lnTo>
                  <a:lnTo>
                    <a:pt x="197" y="208"/>
                  </a:lnTo>
                  <a:lnTo>
                    <a:pt x="224" y="215"/>
                  </a:lnTo>
                  <a:lnTo>
                    <a:pt x="253" y="220"/>
                  </a:lnTo>
                  <a:lnTo>
                    <a:pt x="280" y="224"/>
                  </a:lnTo>
                  <a:lnTo>
                    <a:pt x="307" y="225"/>
                  </a:lnTo>
                  <a:lnTo>
                    <a:pt x="334" y="225"/>
                  </a:lnTo>
                  <a:lnTo>
                    <a:pt x="361" y="221"/>
                  </a:lnTo>
                  <a:lnTo>
                    <a:pt x="341" y="109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228480" y="2724840"/>
              <a:ext cx="24120" cy="4320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20" y="113"/>
                  </a:moveTo>
                  <a:lnTo>
                    <a:pt x="26" y="112"/>
                  </a:lnTo>
                  <a:lnTo>
                    <a:pt x="32" y="109"/>
                  </a:lnTo>
                  <a:lnTo>
                    <a:pt x="38" y="107"/>
                  </a:lnTo>
                  <a:lnTo>
                    <a:pt x="43" y="105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79"/>
                  </a:lnTo>
                  <a:lnTo>
                    <a:pt x="65" y="69"/>
                  </a:lnTo>
                  <a:lnTo>
                    <a:pt x="67" y="59"/>
                  </a:lnTo>
                  <a:lnTo>
                    <a:pt x="67" y="48"/>
                  </a:lnTo>
                  <a:lnTo>
                    <a:pt x="63" y="38"/>
                  </a:lnTo>
                  <a:lnTo>
                    <a:pt x="59" y="28"/>
                  </a:lnTo>
                  <a:lnTo>
                    <a:pt x="53" y="20"/>
                  </a:lnTo>
                  <a:lnTo>
                    <a:pt x="46" y="12"/>
                  </a:lnTo>
                  <a:lnTo>
                    <a:pt x="37" y="6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1"/>
                  </a:lnTo>
                  <a:lnTo>
                    <a:pt x="20" y="113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252960" y="2561760"/>
              <a:ext cx="41400" cy="32040"/>
            </a:xfrm>
            <a:custGeom>
              <a:avLst/>
              <a:gdLst/>
              <a:ahLst/>
              <a:rect l="l" t="t" r="r" b="b"/>
              <a:pathLst>
                <a:path w="106" h="89">
                  <a:moveTo>
                    <a:pt x="106" y="26"/>
                  </a:moveTo>
                  <a:lnTo>
                    <a:pt x="101" y="20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8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45" y="1"/>
                  </a:lnTo>
                  <a:lnTo>
                    <a:pt x="35" y="5"/>
                  </a:lnTo>
                  <a:lnTo>
                    <a:pt x="27" y="10"/>
                  </a:lnTo>
                  <a:lnTo>
                    <a:pt x="18" y="17"/>
                  </a:lnTo>
                  <a:lnTo>
                    <a:pt x="11" y="25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3259080" y="2571120"/>
              <a:ext cx="97920" cy="123120"/>
            </a:xfrm>
            <a:custGeom>
              <a:avLst/>
              <a:gdLst/>
              <a:ahLst/>
              <a:rect l="l" t="t" r="r" b="b"/>
              <a:pathLst>
                <a:path w="264" h="328">
                  <a:moveTo>
                    <a:pt x="155" y="250"/>
                  </a:moveTo>
                  <a:lnTo>
                    <a:pt x="254" y="240"/>
                  </a:lnTo>
                  <a:lnTo>
                    <a:pt x="235" y="209"/>
                  </a:lnTo>
                  <a:lnTo>
                    <a:pt x="215" y="178"/>
                  </a:lnTo>
                  <a:lnTo>
                    <a:pt x="194" y="149"/>
                  </a:lnTo>
                  <a:lnTo>
                    <a:pt x="175" y="118"/>
                  </a:lnTo>
                  <a:lnTo>
                    <a:pt x="155" y="89"/>
                  </a:lnTo>
                  <a:lnTo>
                    <a:pt x="134" y="59"/>
                  </a:lnTo>
                  <a:lnTo>
                    <a:pt x="114" y="30"/>
                  </a:lnTo>
                  <a:lnTo>
                    <a:pt x="95" y="0"/>
                  </a:lnTo>
                  <a:lnTo>
                    <a:pt x="0" y="63"/>
                  </a:lnTo>
                  <a:lnTo>
                    <a:pt x="20" y="92"/>
                  </a:lnTo>
                  <a:lnTo>
                    <a:pt x="40" y="123"/>
                  </a:lnTo>
                  <a:lnTo>
                    <a:pt x="60" y="153"/>
                  </a:lnTo>
                  <a:lnTo>
                    <a:pt x="80" y="182"/>
                  </a:lnTo>
                  <a:lnTo>
                    <a:pt x="99" y="212"/>
                  </a:lnTo>
                  <a:lnTo>
                    <a:pt x="120" y="241"/>
                  </a:lnTo>
                  <a:lnTo>
                    <a:pt x="140" y="272"/>
                  </a:lnTo>
                  <a:lnTo>
                    <a:pt x="160" y="301"/>
                  </a:lnTo>
                  <a:lnTo>
                    <a:pt x="261" y="292"/>
                  </a:lnTo>
                  <a:lnTo>
                    <a:pt x="160" y="301"/>
                  </a:lnTo>
                  <a:lnTo>
                    <a:pt x="163" y="308"/>
                  </a:lnTo>
                  <a:lnTo>
                    <a:pt x="168" y="312"/>
                  </a:lnTo>
                  <a:lnTo>
                    <a:pt x="173" y="316"/>
                  </a:lnTo>
                  <a:lnTo>
                    <a:pt x="178" y="320"/>
                  </a:lnTo>
                  <a:lnTo>
                    <a:pt x="188" y="325"/>
                  </a:lnTo>
                  <a:lnTo>
                    <a:pt x="198" y="327"/>
                  </a:lnTo>
                  <a:lnTo>
                    <a:pt x="209" y="328"/>
                  </a:lnTo>
                  <a:lnTo>
                    <a:pt x="219" y="326"/>
                  </a:lnTo>
                  <a:lnTo>
                    <a:pt x="229" y="324"/>
                  </a:lnTo>
                  <a:lnTo>
                    <a:pt x="238" y="317"/>
                  </a:lnTo>
                  <a:lnTo>
                    <a:pt x="247" y="311"/>
                  </a:lnTo>
                  <a:lnTo>
                    <a:pt x="253" y="304"/>
                  </a:lnTo>
                  <a:lnTo>
                    <a:pt x="259" y="294"/>
                  </a:lnTo>
                  <a:lnTo>
                    <a:pt x="263" y="284"/>
                  </a:lnTo>
                  <a:lnTo>
                    <a:pt x="264" y="274"/>
                  </a:lnTo>
                  <a:lnTo>
                    <a:pt x="264" y="263"/>
                  </a:lnTo>
                  <a:lnTo>
                    <a:pt x="263" y="257"/>
                  </a:lnTo>
                  <a:lnTo>
                    <a:pt x="261" y="251"/>
                  </a:lnTo>
                  <a:lnTo>
                    <a:pt x="258" y="245"/>
                  </a:lnTo>
                  <a:lnTo>
                    <a:pt x="254" y="240"/>
                  </a:lnTo>
                  <a:lnTo>
                    <a:pt x="155" y="25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3317400" y="2584440"/>
              <a:ext cx="85320" cy="96480"/>
            </a:xfrm>
            <a:custGeom>
              <a:avLst/>
              <a:gdLst/>
              <a:ahLst/>
              <a:rect l="l" t="t" r="r" b="b"/>
              <a:pathLst>
                <a:path w="227" h="256">
                  <a:moveTo>
                    <a:pt x="114" y="0"/>
                  </a:moveTo>
                  <a:lnTo>
                    <a:pt x="113" y="2"/>
                  </a:lnTo>
                  <a:lnTo>
                    <a:pt x="112" y="8"/>
                  </a:lnTo>
                  <a:lnTo>
                    <a:pt x="108" y="18"/>
                  </a:lnTo>
                  <a:lnTo>
                    <a:pt x="104" y="29"/>
                  </a:lnTo>
                  <a:lnTo>
                    <a:pt x="88" y="59"/>
                  </a:lnTo>
                  <a:lnTo>
                    <a:pt x="71" y="90"/>
                  </a:lnTo>
                  <a:lnTo>
                    <a:pt x="50" y="123"/>
                  </a:lnTo>
                  <a:lnTo>
                    <a:pt x="31" y="155"/>
                  </a:lnTo>
                  <a:lnTo>
                    <a:pt x="13" y="185"/>
                  </a:lnTo>
                  <a:lnTo>
                    <a:pt x="0" y="214"/>
                  </a:lnTo>
                  <a:lnTo>
                    <a:pt x="106" y="256"/>
                  </a:lnTo>
                  <a:lnTo>
                    <a:pt x="113" y="238"/>
                  </a:lnTo>
                  <a:lnTo>
                    <a:pt x="128" y="213"/>
                  </a:lnTo>
                  <a:lnTo>
                    <a:pt x="147" y="182"/>
                  </a:lnTo>
                  <a:lnTo>
                    <a:pt x="168" y="149"/>
                  </a:lnTo>
                  <a:lnTo>
                    <a:pt x="188" y="113"/>
                  </a:lnTo>
                  <a:lnTo>
                    <a:pt x="206" y="78"/>
                  </a:lnTo>
                  <a:lnTo>
                    <a:pt x="214" y="59"/>
                  </a:lnTo>
                  <a:lnTo>
                    <a:pt x="221" y="40"/>
                  </a:lnTo>
                  <a:lnTo>
                    <a:pt x="226" y="22"/>
                  </a:lnTo>
                  <a:lnTo>
                    <a:pt x="227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359160" y="2563920"/>
              <a:ext cx="4356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13" y="57"/>
                  </a:moveTo>
                  <a:lnTo>
                    <a:pt x="113" y="51"/>
                  </a:lnTo>
                  <a:lnTo>
                    <a:pt x="112" y="43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4" y="22"/>
                  </a:lnTo>
                  <a:lnTo>
                    <a:pt x="96" y="15"/>
                  </a:lnTo>
                  <a:lnTo>
                    <a:pt x="88" y="9"/>
                  </a:lnTo>
                  <a:lnTo>
                    <a:pt x="78" y="4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13" y="57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310200" y="2654280"/>
              <a:ext cx="43200" cy="20880"/>
            </a:xfrm>
            <a:custGeom>
              <a:avLst/>
              <a:gdLst/>
              <a:ahLst/>
              <a:rect l="l" t="t" r="r" b="b"/>
              <a:pathLst>
                <a:path w="113" h="58">
                  <a:moveTo>
                    <a:pt x="113" y="58"/>
                  </a:moveTo>
                  <a:lnTo>
                    <a:pt x="113" y="51"/>
                  </a:lnTo>
                  <a:lnTo>
                    <a:pt x="112" y="45"/>
                  </a:lnTo>
                  <a:lnTo>
                    <a:pt x="111" y="38"/>
                  </a:lnTo>
                  <a:lnTo>
                    <a:pt x="108" y="32"/>
                  </a:lnTo>
                  <a:lnTo>
                    <a:pt x="103" y="22"/>
                  </a:lnTo>
                  <a:lnTo>
                    <a:pt x="96" y="15"/>
                  </a:lnTo>
                  <a:lnTo>
                    <a:pt x="87" y="9"/>
                  </a:lnTo>
                  <a:lnTo>
                    <a:pt x="77" y="4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26" y="9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13" y="5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3310200" y="2675520"/>
              <a:ext cx="43200" cy="6804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113" y="178"/>
                  </a:moveTo>
                  <a:lnTo>
                    <a:pt x="113" y="156"/>
                  </a:lnTo>
                  <a:lnTo>
                    <a:pt x="113" y="133"/>
                  </a:lnTo>
                  <a:lnTo>
                    <a:pt x="113" y="111"/>
                  </a:lnTo>
                  <a:lnTo>
                    <a:pt x="113" y="89"/>
                  </a:lnTo>
                  <a:lnTo>
                    <a:pt x="113" y="65"/>
                  </a:lnTo>
                  <a:lnTo>
                    <a:pt x="113" y="43"/>
                  </a:lnTo>
                  <a:lnTo>
                    <a:pt x="113" y="21"/>
                  </a:lnTo>
                  <a:lnTo>
                    <a:pt x="11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43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0" y="111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113" y="178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3310200" y="2743560"/>
              <a:ext cx="43200" cy="2052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0" y="0"/>
                  </a:moveTo>
                  <a:lnTo>
                    <a:pt x="0" y="8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10" y="35"/>
                  </a:lnTo>
                  <a:lnTo>
                    <a:pt x="17" y="43"/>
                  </a:lnTo>
                  <a:lnTo>
                    <a:pt x="26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7"/>
                  </a:lnTo>
                  <a:lnTo>
                    <a:pt x="67" y="56"/>
                  </a:lnTo>
                  <a:lnTo>
                    <a:pt x="77" y="53"/>
                  </a:lnTo>
                  <a:lnTo>
                    <a:pt x="87" y="50"/>
                  </a:lnTo>
                  <a:lnTo>
                    <a:pt x="96" y="43"/>
                  </a:lnTo>
                  <a:lnTo>
                    <a:pt x="103" y="35"/>
                  </a:lnTo>
                  <a:lnTo>
                    <a:pt x="108" y="25"/>
                  </a:lnTo>
                  <a:lnTo>
                    <a:pt x="111" y="20"/>
                  </a:lnTo>
                  <a:lnTo>
                    <a:pt x="112" y="14"/>
                  </a:lnTo>
                  <a:lnTo>
                    <a:pt x="113" y="8"/>
                  </a:lnTo>
                  <a:lnTo>
                    <a:pt x="1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011000" y="2626200"/>
              <a:ext cx="293400" cy="566280"/>
            </a:xfrm>
            <a:custGeom>
              <a:avLst/>
              <a:gdLst/>
              <a:ahLst/>
              <a:rect l="l" t="t" r="r" b="b"/>
              <a:pathLst>
                <a:path w="777" h="1496">
                  <a:moveTo>
                    <a:pt x="62" y="1001"/>
                  </a:moveTo>
                  <a:lnTo>
                    <a:pt x="71" y="1014"/>
                  </a:lnTo>
                  <a:lnTo>
                    <a:pt x="80" y="1026"/>
                  </a:lnTo>
                  <a:lnTo>
                    <a:pt x="89" y="1040"/>
                  </a:lnTo>
                  <a:lnTo>
                    <a:pt x="98" y="1054"/>
                  </a:lnTo>
                  <a:lnTo>
                    <a:pt x="105" y="1069"/>
                  </a:lnTo>
                  <a:lnTo>
                    <a:pt x="112" y="1084"/>
                  </a:lnTo>
                  <a:lnTo>
                    <a:pt x="119" y="1100"/>
                  </a:lnTo>
                  <a:lnTo>
                    <a:pt x="125" y="1116"/>
                  </a:lnTo>
                  <a:lnTo>
                    <a:pt x="130" y="1133"/>
                  </a:lnTo>
                  <a:lnTo>
                    <a:pt x="135" y="1150"/>
                  </a:lnTo>
                  <a:lnTo>
                    <a:pt x="138" y="1167"/>
                  </a:lnTo>
                  <a:lnTo>
                    <a:pt x="142" y="1185"/>
                  </a:lnTo>
                  <a:lnTo>
                    <a:pt x="144" y="1203"/>
                  </a:lnTo>
                  <a:lnTo>
                    <a:pt x="146" y="1223"/>
                  </a:lnTo>
                  <a:lnTo>
                    <a:pt x="147" y="1241"/>
                  </a:lnTo>
                  <a:lnTo>
                    <a:pt x="147" y="1261"/>
                  </a:lnTo>
                  <a:lnTo>
                    <a:pt x="147" y="1289"/>
                  </a:lnTo>
                  <a:lnTo>
                    <a:pt x="143" y="1318"/>
                  </a:lnTo>
                  <a:lnTo>
                    <a:pt x="139" y="1346"/>
                  </a:lnTo>
                  <a:lnTo>
                    <a:pt x="132" y="1373"/>
                  </a:lnTo>
                  <a:lnTo>
                    <a:pt x="125" y="1399"/>
                  </a:lnTo>
                  <a:lnTo>
                    <a:pt x="115" y="1423"/>
                  </a:lnTo>
                  <a:lnTo>
                    <a:pt x="104" y="1448"/>
                  </a:lnTo>
                  <a:lnTo>
                    <a:pt x="91" y="1470"/>
                  </a:lnTo>
                  <a:lnTo>
                    <a:pt x="94" y="1496"/>
                  </a:lnTo>
                  <a:lnTo>
                    <a:pt x="777" y="1434"/>
                  </a:lnTo>
                  <a:lnTo>
                    <a:pt x="714" y="0"/>
                  </a:lnTo>
                  <a:lnTo>
                    <a:pt x="0" y="0"/>
                  </a:lnTo>
                  <a:lnTo>
                    <a:pt x="62" y="100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026120" y="2999160"/>
              <a:ext cx="49320" cy="113760"/>
            </a:xfrm>
            <a:custGeom>
              <a:avLst/>
              <a:gdLst/>
              <a:ahLst/>
              <a:rect l="l" t="t" r="r" b="b"/>
              <a:pathLst>
                <a:path w="129" h="301">
                  <a:moveTo>
                    <a:pt x="129" y="276"/>
                  </a:moveTo>
                  <a:lnTo>
                    <a:pt x="129" y="276"/>
                  </a:lnTo>
                  <a:lnTo>
                    <a:pt x="129" y="255"/>
                  </a:lnTo>
                  <a:lnTo>
                    <a:pt x="128" y="235"/>
                  </a:lnTo>
                  <a:lnTo>
                    <a:pt x="126" y="216"/>
                  </a:lnTo>
                  <a:lnTo>
                    <a:pt x="123" y="196"/>
                  </a:lnTo>
                  <a:lnTo>
                    <a:pt x="120" y="178"/>
                  </a:lnTo>
                  <a:lnTo>
                    <a:pt x="116" y="159"/>
                  </a:lnTo>
                  <a:lnTo>
                    <a:pt x="111" y="141"/>
                  </a:lnTo>
                  <a:lnTo>
                    <a:pt x="105" y="123"/>
                  </a:lnTo>
                  <a:lnTo>
                    <a:pt x="99" y="106"/>
                  </a:lnTo>
                  <a:lnTo>
                    <a:pt x="93" y="89"/>
                  </a:lnTo>
                  <a:lnTo>
                    <a:pt x="85" y="73"/>
                  </a:lnTo>
                  <a:lnTo>
                    <a:pt x="77" y="57"/>
                  </a:lnTo>
                  <a:lnTo>
                    <a:pt x="68" y="42"/>
                  </a:lnTo>
                  <a:lnTo>
                    <a:pt x="58" y="27"/>
                  </a:lnTo>
                  <a:lnTo>
                    <a:pt x="48" y="14"/>
                  </a:lnTo>
                  <a:lnTo>
                    <a:pt x="38" y="0"/>
                  </a:lnTo>
                  <a:lnTo>
                    <a:pt x="0" y="31"/>
                  </a:lnTo>
                  <a:lnTo>
                    <a:pt x="10" y="42"/>
                  </a:lnTo>
                  <a:lnTo>
                    <a:pt x="19" y="55"/>
                  </a:lnTo>
                  <a:lnTo>
                    <a:pt x="26" y="68"/>
                  </a:lnTo>
                  <a:lnTo>
                    <a:pt x="33" y="80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54" y="123"/>
                  </a:lnTo>
                  <a:lnTo>
                    <a:pt x="59" y="138"/>
                  </a:lnTo>
                  <a:lnTo>
                    <a:pt x="64" y="154"/>
                  </a:lnTo>
                  <a:lnTo>
                    <a:pt x="69" y="170"/>
                  </a:lnTo>
                  <a:lnTo>
                    <a:pt x="73" y="187"/>
                  </a:lnTo>
                  <a:lnTo>
                    <a:pt x="75" y="205"/>
                  </a:lnTo>
                  <a:lnTo>
                    <a:pt x="78" y="222"/>
                  </a:lnTo>
                  <a:lnTo>
                    <a:pt x="79" y="239"/>
                  </a:lnTo>
                  <a:lnTo>
                    <a:pt x="80" y="258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76"/>
                  </a:lnTo>
                  <a:lnTo>
                    <a:pt x="81" y="282"/>
                  </a:lnTo>
                  <a:lnTo>
                    <a:pt x="83" y="287"/>
                  </a:lnTo>
                  <a:lnTo>
                    <a:pt x="85" y="291"/>
                  </a:lnTo>
                  <a:lnTo>
                    <a:pt x="89" y="294"/>
                  </a:lnTo>
                  <a:lnTo>
                    <a:pt x="93" y="297"/>
                  </a:lnTo>
                  <a:lnTo>
                    <a:pt x="96" y="299"/>
                  </a:lnTo>
                  <a:lnTo>
                    <a:pt x="101" y="299"/>
                  </a:lnTo>
                  <a:lnTo>
                    <a:pt x="105" y="301"/>
                  </a:lnTo>
                  <a:lnTo>
                    <a:pt x="110" y="299"/>
                  </a:lnTo>
                  <a:lnTo>
                    <a:pt x="115" y="299"/>
                  </a:lnTo>
                  <a:lnTo>
                    <a:pt x="118" y="297"/>
                  </a:lnTo>
                  <a:lnTo>
                    <a:pt x="122" y="294"/>
                  </a:lnTo>
                  <a:lnTo>
                    <a:pt x="126" y="291"/>
                  </a:lnTo>
                  <a:lnTo>
                    <a:pt x="127" y="287"/>
                  </a:lnTo>
                  <a:lnTo>
                    <a:pt x="129" y="282"/>
                  </a:lnTo>
                  <a:lnTo>
                    <a:pt x="129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7035480" y="3103560"/>
              <a:ext cx="39600" cy="88560"/>
            </a:xfrm>
            <a:custGeom>
              <a:avLst/>
              <a:gdLst/>
              <a:ahLst/>
              <a:rect l="l" t="t" r="r" b="b"/>
              <a:pathLst>
                <a:path w="104" h="234">
                  <a:moveTo>
                    <a:pt x="49" y="207"/>
                  </a:moveTo>
                  <a:lnTo>
                    <a:pt x="45" y="221"/>
                  </a:lnTo>
                  <a:lnTo>
                    <a:pt x="59" y="197"/>
                  </a:lnTo>
                  <a:lnTo>
                    <a:pt x="70" y="172"/>
                  </a:lnTo>
                  <a:lnTo>
                    <a:pt x="81" y="145"/>
                  </a:lnTo>
                  <a:lnTo>
                    <a:pt x="88" y="118"/>
                  </a:lnTo>
                  <a:lnTo>
                    <a:pt x="96" y="89"/>
                  </a:lnTo>
                  <a:lnTo>
                    <a:pt x="101" y="60"/>
                  </a:lnTo>
                  <a:lnTo>
                    <a:pt x="103" y="29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55" y="27"/>
                  </a:lnTo>
                  <a:lnTo>
                    <a:pt x="53" y="54"/>
                  </a:lnTo>
                  <a:lnTo>
                    <a:pt x="48" y="80"/>
                  </a:lnTo>
                  <a:lnTo>
                    <a:pt x="42" y="105"/>
                  </a:lnTo>
                  <a:lnTo>
                    <a:pt x="34" y="129"/>
                  </a:lnTo>
                  <a:lnTo>
                    <a:pt x="26" y="152"/>
                  </a:lnTo>
                  <a:lnTo>
                    <a:pt x="15" y="176"/>
                  </a:lnTo>
                  <a:lnTo>
                    <a:pt x="4" y="197"/>
                  </a:lnTo>
                  <a:lnTo>
                    <a:pt x="0" y="212"/>
                  </a:lnTo>
                  <a:lnTo>
                    <a:pt x="4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2"/>
                  </a:lnTo>
                  <a:lnTo>
                    <a:pt x="1" y="216"/>
                  </a:lnTo>
                  <a:lnTo>
                    <a:pt x="2" y="220"/>
                  </a:lnTo>
                  <a:lnTo>
                    <a:pt x="5" y="224"/>
                  </a:lnTo>
                  <a:lnTo>
                    <a:pt x="8" y="228"/>
                  </a:lnTo>
                  <a:lnTo>
                    <a:pt x="12" y="230"/>
                  </a:lnTo>
                  <a:lnTo>
                    <a:pt x="16" y="231"/>
                  </a:lnTo>
                  <a:lnTo>
                    <a:pt x="21" y="232"/>
                  </a:lnTo>
                  <a:lnTo>
                    <a:pt x="24" y="234"/>
                  </a:lnTo>
                  <a:lnTo>
                    <a:pt x="29" y="232"/>
                  </a:lnTo>
                  <a:lnTo>
                    <a:pt x="34" y="231"/>
                  </a:lnTo>
                  <a:lnTo>
                    <a:pt x="38" y="229"/>
                  </a:lnTo>
                  <a:lnTo>
                    <a:pt x="42" y="226"/>
                  </a:lnTo>
                  <a:lnTo>
                    <a:pt x="45" y="221"/>
                  </a:lnTo>
                  <a:lnTo>
                    <a:pt x="49" y="2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035480" y="3180960"/>
              <a:ext cx="19080" cy="208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9" y="51"/>
                  </a:moveTo>
                  <a:lnTo>
                    <a:pt x="52" y="25"/>
                  </a:lnTo>
                  <a:lnTo>
                    <a:pt x="49" y="0"/>
                  </a:lnTo>
                  <a:lnTo>
                    <a:pt x="0" y="5"/>
                  </a:lnTo>
                  <a:lnTo>
                    <a:pt x="2" y="29"/>
                  </a:lnTo>
                  <a:lnTo>
                    <a:pt x="29" y="51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2" y="48"/>
                  </a:lnTo>
                  <a:lnTo>
                    <a:pt x="16" y="49"/>
                  </a:lnTo>
                  <a:lnTo>
                    <a:pt x="20" y="51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8" y="49"/>
                  </a:lnTo>
                  <a:lnTo>
                    <a:pt x="42" y="48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2" y="30"/>
                  </a:lnTo>
                  <a:lnTo>
                    <a:pt x="52" y="25"/>
                  </a:lnTo>
                  <a:lnTo>
                    <a:pt x="29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7045560" y="3160080"/>
              <a:ext cx="268560" cy="41400"/>
            </a:xfrm>
            <a:custGeom>
              <a:avLst/>
              <a:gdLst/>
              <a:ahLst/>
              <a:rect l="l" t="t" r="r" b="b"/>
              <a:pathLst>
                <a:path w="710" h="108">
                  <a:moveTo>
                    <a:pt x="710" y="23"/>
                  </a:moveTo>
                  <a:lnTo>
                    <a:pt x="683" y="0"/>
                  </a:lnTo>
                  <a:lnTo>
                    <a:pt x="0" y="60"/>
                  </a:lnTo>
                  <a:lnTo>
                    <a:pt x="5" y="108"/>
                  </a:lnTo>
                  <a:lnTo>
                    <a:pt x="688" y="48"/>
                  </a:lnTo>
                  <a:lnTo>
                    <a:pt x="710" y="23"/>
                  </a:lnTo>
                  <a:lnTo>
                    <a:pt x="688" y="48"/>
                  </a:lnTo>
                  <a:lnTo>
                    <a:pt x="693" y="47"/>
                  </a:lnTo>
                  <a:lnTo>
                    <a:pt x="698" y="46"/>
                  </a:lnTo>
                  <a:lnTo>
                    <a:pt x="702" y="43"/>
                  </a:lnTo>
                  <a:lnTo>
                    <a:pt x="705" y="39"/>
                  </a:lnTo>
                  <a:lnTo>
                    <a:pt x="708" y="36"/>
                  </a:lnTo>
                  <a:lnTo>
                    <a:pt x="709" y="31"/>
                  </a:lnTo>
                  <a:lnTo>
                    <a:pt x="710" y="26"/>
                  </a:lnTo>
                  <a:lnTo>
                    <a:pt x="710" y="22"/>
                  </a:lnTo>
                  <a:lnTo>
                    <a:pt x="709" y="17"/>
                  </a:lnTo>
                  <a:lnTo>
                    <a:pt x="708" y="14"/>
                  </a:lnTo>
                  <a:lnTo>
                    <a:pt x="705" y="9"/>
                  </a:lnTo>
                  <a:lnTo>
                    <a:pt x="703" y="6"/>
                  </a:lnTo>
                  <a:lnTo>
                    <a:pt x="699" y="2"/>
                  </a:lnTo>
                  <a:lnTo>
                    <a:pt x="694" y="1"/>
                  </a:lnTo>
                  <a:lnTo>
                    <a:pt x="689" y="0"/>
                  </a:lnTo>
                  <a:lnTo>
                    <a:pt x="683" y="0"/>
                  </a:lnTo>
                  <a:lnTo>
                    <a:pt x="71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270200" y="2616480"/>
              <a:ext cx="43560" cy="552960"/>
            </a:xfrm>
            <a:custGeom>
              <a:avLst/>
              <a:gdLst/>
              <a:ahLst/>
              <a:rect l="l" t="t" r="r" b="b"/>
              <a:pathLst>
                <a:path w="112" h="1460">
                  <a:moveTo>
                    <a:pt x="25" y="0"/>
                  </a:moveTo>
                  <a:lnTo>
                    <a:pt x="0" y="25"/>
                  </a:lnTo>
                  <a:lnTo>
                    <a:pt x="63" y="1460"/>
                  </a:lnTo>
                  <a:lnTo>
                    <a:pt x="112" y="1458"/>
                  </a:lnTo>
                  <a:lnTo>
                    <a:pt x="49" y="23"/>
                  </a:lnTo>
                  <a:lnTo>
                    <a:pt x="25" y="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7001640" y="2616480"/>
              <a:ext cx="277920" cy="18720"/>
            </a:xfrm>
            <a:custGeom>
              <a:avLst/>
              <a:gdLst/>
              <a:ahLst/>
              <a:rect l="l" t="t" r="r" b="b"/>
              <a:pathLst>
                <a:path w="737" h="49">
                  <a:moveTo>
                    <a:pt x="0" y="25"/>
                  </a:moveTo>
                  <a:lnTo>
                    <a:pt x="23" y="49"/>
                  </a:lnTo>
                  <a:lnTo>
                    <a:pt x="737" y="49"/>
                  </a:lnTo>
                  <a:lnTo>
                    <a:pt x="737" y="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3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7001640" y="2626200"/>
              <a:ext cx="41400" cy="388080"/>
            </a:xfrm>
            <a:custGeom>
              <a:avLst/>
              <a:gdLst/>
              <a:ahLst/>
              <a:rect l="l" t="t" r="r" b="b"/>
              <a:pathLst>
                <a:path w="108" h="1026">
                  <a:moveTo>
                    <a:pt x="65" y="1017"/>
                  </a:moveTo>
                  <a:lnTo>
                    <a:pt x="108" y="1000"/>
                  </a:lnTo>
                  <a:lnTo>
                    <a:pt x="48" y="0"/>
                  </a:lnTo>
                  <a:lnTo>
                    <a:pt x="0" y="2"/>
                  </a:lnTo>
                  <a:lnTo>
                    <a:pt x="60" y="1004"/>
                  </a:lnTo>
                  <a:lnTo>
                    <a:pt x="65" y="1017"/>
                  </a:lnTo>
                  <a:lnTo>
                    <a:pt x="60" y="1004"/>
                  </a:lnTo>
                  <a:lnTo>
                    <a:pt x="62" y="1009"/>
                  </a:lnTo>
                  <a:lnTo>
                    <a:pt x="63" y="1013"/>
                  </a:lnTo>
                  <a:lnTo>
                    <a:pt x="65" y="1017"/>
                  </a:lnTo>
                  <a:lnTo>
                    <a:pt x="69" y="1021"/>
                  </a:lnTo>
                  <a:lnTo>
                    <a:pt x="73" y="1023"/>
                  </a:lnTo>
                  <a:lnTo>
                    <a:pt x="76" y="1025"/>
                  </a:lnTo>
                  <a:lnTo>
                    <a:pt x="81" y="1026"/>
                  </a:lnTo>
                  <a:lnTo>
                    <a:pt x="86" y="1026"/>
                  </a:lnTo>
                  <a:lnTo>
                    <a:pt x="90" y="1026"/>
                  </a:lnTo>
                  <a:lnTo>
                    <a:pt x="95" y="1025"/>
                  </a:lnTo>
                  <a:lnTo>
                    <a:pt x="98" y="1022"/>
                  </a:lnTo>
                  <a:lnTo>
                    <a:pt x="102" y="1020"/>
                  </a:lnTo>
                  <a:lnTo>
                    <a:pt x="105" y="1016"/>
                  </a:lnTo>
                  <a:lnTo>
                    <a:pt x="107" y="1011"/>
                  </a:lnTo>
                  <a:lnTo>
                    <a:pt x="108" y="1006"/>
                  </a:lnTo>
                  <a:lnTo>
                    <a:pt x="108" y="1000"/>
                  </a:lnTo>
                  <a:lnTo>
                    <a:pt x="65" y="10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6882480" y="2891520"/>
              <a:ext cx="246240" cy="225000"/>
            </a:xfrm>
            <a:custGeom>
              <a:avLst/>
              <a:gdLst/>
              <a:ahLst/>
              <a:rect l="l" t="t" r="r" b="b"/>
              <a:pathLst>
                <a:path w="652" h="592">
                  <a:moveTo>
                    <a:pt x="0" y="231"/>
                  </a:moveTo>
                  <a:lnTo>
                    <a:pt x="15" y="184"/>
                  </a:lnTo>
                  <a:lnTo>
                    <a:pt x="33" y="143"/>
                  </a:lnTo>
                  <a:lnTo>
                    <a:pt x="55" y="109"/>
                  </a:lnTo>
                  <a:lnTo>
                    <a:pt x="80" y="78"/>
                  </a:lnTo>
                  <a:lnTo>
                    <a:pt x="108" y="54"/>
                  </a:lnTo>
                  <a:lnTo>
                    <a:pt x="138" y="34"/>
                  </a:lnTo>
                  <a:lnTo>
                    <a:pt x="169" y="19"/>
                  </a:lnTo>
                  <a:lnTo>
                    <a:pt x="203" y="8"/>
                  </a:lnTo>
                  <a:lnTo>
                    <a:pt x="237" y="2"/>
                  </a:lnTo>
                  <a:lnTo>
                    <a:pt x="273" y="0"/>
                  </a:lnTo>
                  <a:lnTo>
                    <a:pt x="308" y="1"/>
                  </a:lnTo>
                  <a:lnTo>
                    <a:pt x="344" y="6"/>
                  </a:lnTo>
                  <a:lnTo>
                    <a:pt x="380" y="16"/>
                  </a:lnTo>
                  <a:lnTo>
                    <a:pt x="415" y="27"/>
                  </a:lnTo>
                  <a:lnTo>
                    <a:pt x="449" y="43"/>
                  </a:lnTo>
                  <a:lnTo>
                    <a:pt x="482" y="61"/>
                  </a:lnTo>
                  <a:lnTo>
                    <a:pt x="513" y="82"/>
                  </a:lnTo>
                  <a:lnTo>
                    <a:pt x="541" y="105"/>
                  </a:lnTo>
                  <a:lnTo>
                    <a:pt x="567" y="131"/>
                  </a:lnTo>
                  <a:lnTo>
                    <a:pt x="590" y="159"/>
                  </a:lnTo>
                  <a:lnTo>
                    <a:pt x="611" y="189"/>
                  </a:lnTo>
                  <a:lnTo>
                    <a:pt x="627" y="221"/>
                  </a:lnTo>
                  <a:lnTo>
                    <a:pt x="639" y="254"/>
                  </a:lnTo>
                  <a:lnTo>
                    <a:pt x="648" y="289"/>
                  </a:lnTo>
                  <a:lnTo>
                    <a:pt x="652" y="324"/>
                  </a:lnTo>
                  <a:lnTo>
                    <a:pt x="649" y="361"/>
                  </a:lnTo>
                  <a:lnTo>
                    <a:pt x="643" y="399"/>
                  </a:lnTo>
                  <a:lnTo>
                    <a:pt x="629" y="437"/>
                  </a:lnTo>
                  <a:lnTo>
                    <a:pt x="611" y="477"/>
                  </a:lnTo>
                  <a:lnTo>
                    <a:pt x="585" y="515"/>
                  </a:lnTo>
                  <a:lnTo>
                    <a:pt x="552" y="554"/>
                  </a:lnTo>
                  <a:lnTo>
                    <a:pt x="513" y="592"/>
                  </a:lnTo>
                  <a:lnTo>
                    <a:pt x="509" y="558"/>
                  </a:lnTo>
                  <a:lnTo>
                    <a:pt x="505" y="525"/>
                  </a:lnTo>
                  <a:lnTo>
                    <a:pt x="500" y="493"/>
                  </a:lnTo>
                  <a:lnTo>
                    <a:pt x="494" y="463"/>
                  </a:lnTo>
                  <a:lnTo>
                    <a:pt x="487" y="436"/>
                  </a:lnTo>
                  <a:lnTo>
                    <a:pt x="479" y="409"/>
                  </a:lnTo>
                  <a:lnTo>
                    <a:pt x="471" y="386"/>
                  </a:lnTo>
                  <a:lnTo>
                    <a:pt x="462" y="362"/>
                  </a:lnTo>
                  <a:lnTo>
                    <a:pt x="452" y="341"/>
                  </a:lnTo>
                  <a:lnTo>
                    <a:pt x="441" y="322"/>
                  </a:lnTo>
                  <a:lnTo>
                    <a:pt x="429" y="303"/>
                  </a:lnTo>
                  <a:lnTo>
                    <a:pt x="417" y="287"/>
                  </a:lnTo>
                  <a:lnTo>
                    <a:pt x="403" y="273"/>
                  </a:lnTo>
                  <a:lnTo>
                    <a:pt x="390" y="259"/>
                  </a:lnTo>
                  <a:lnTo>
                    <a:pt x="375" y="247"/>
                  </a:lnTo>
                  <a:lnTo>
                    <a:pt x="359" y="236"/>
                  </a:lnTo>
                  <a:lnTo>
                    <a:pt x="343" y="226"/>
                  </a:lnTo>
                  <a:lnTo>
                    <a:pt x="326" y="218"/>
                  </a:lnTo>
                  <a:lnTo>
                    <a:pt x="307" y="212"/>
                  </a:lnTo>
                  <a:lnTo>
                    <a:pt x="288" y="206"/>
                  </a:lnTo>
                  <a:lnTo>
                    <a:pt x="268" y="202"/>
                  </a:lnTo>
                  <a:lnTo>
                    <a:pt x="248" y="199"/>
                  </a:lnTo>
                  <a:lnTo>
                    <a:pt x="227" y="198"/>
                  </a:lnTo>
                  <a:lnTo>
                    <a:pt x="205" y="198"/>
                  </a:lnTo>
                  <a:lnTo>
                    <a:pt x="182" y="198"/>
                  </a:lnTo>
                  <a:lnTo>
                    <a:pt x="158" y="199"/>
                  </a:lnTo>
                  <a:lnTo>
                    <a:pt x="134" y="202"/>
                  </a:lnTo>
                  <a:lnTo>
                    <a:pt x="108" y="206"/>
                  </a:lnTo>
                  <a:lnTo>
                    <a:pt x="82" y="210"/>
                  </a:lnTo>
                  <a:lnTo>
                    <a:pt x="55" y="216"/>
                  </a:lnTo>
                  <a:lnTo>
                    <a:pt x="28" y="223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6878520" y="2887560"/>
              <a:ext cx="253440" cy="232560"/>
            </a:xfrm>
            <a:custGeom>
              <a:avLst/>
              <a:gdLst/>
              <a:ahLst/>
              <a:rect l="l" t="t" r="r" b="b"/>
              <a:pathLst>
                <a:path w="671" h="615">
                  <a:moveTo>
                    <a:pt x="513" y="606"/>
                  </a:moveTo>
                  <a:lnTo>
                    <a:pt x="530" y="613"/>
                  </a:lnTo>
                  <a:lnTo>
                    <a:pt x="551" y="593"/>
                  </a:lnTo>
                  <a:lnTo>
                    <a:pt x="571" y="574"/>
                  </a:lnTo>
                  <a:lnTo>
                    <a:pt x="588" y="553"/>
                  </a:lnTo>
                  <a:lnTo>
                    <a:pt x="604" y="533"/>
                  </a:lnTo>
                  <a:lnTo>
                    <a:pt x="617" y="513"/>
                  </a:lnTo>
                  <a:lnTo>
                    <a:pt x="630" y="494"/>
                  </a:lnTo>
                  <a:lnTo>
                    <a:pt x="641" y="474"/>
                  </a:lnTo>
                  <a:lnTo>
                    <a:pt x="649" y="453"/>
                  </a:lnTo>
                  <a:lnTo>
                    <a:pt x="657" y="433"/>
                  </a:lnTo>
                  <a:lnTo>
                    <a:pt x="663" y="414"/>
                  </a:lnTo>
                  <a:lnTo>
                    <a:pt x="667" y="394"/>
                  </a:lnTo>
                  <a:lnTo>
                    <a:pt x="670" y="374"/>
                  </a:lnTo>
                  <a:lnTo>
                    <a:pt x="671" y="356"/>
                  </a:lnTo>
                  <a:lnTo>
                    <a:pt x="671" y="336"/>
                  </a:lnTo>
                  <a:lnTo>
                    <a:pt x="670" y="318"/>
                  </a:lnTo>
                  <a:lnTo>
                    <a:pt x="668" y="299"/>
                  </a:lnTo>
                  <a:lnTo>
                    <a:pt x="664" y="281"/>
                  </a:lnTo>
                  <a:lnTo>
                    <a:pt x="659" y="264"/>
                  </a:lnTo>
                  <a:lnTo>
                    <a:pt x="654" y="245"/>
                  </a:lnTo>
                  <a:lnTo>
                    <a:pt x="647" y="229"/>
                  </a:lnTo>
                  <a:lnTo>
                    <a:pt x="638" y="212"/>
                  </a:lnTo>
                  <a:lnTo>
                    <a:pt x="630" y="196"/>
                  </a:lnTo>
                  <a:lnTo>
                    <a:pt x="620" y="180"/>
                  </a:lnTo>
                  <a:lnTo>
                    <a:pt x="609" y="165"/>
                  </a:lnTo>
                  <a:lnTo>
                    <a:pt x="598" y="151"/>
                  </a:lnTo>
                  <a:lnTo>
                    <a:pt x="585" y="136"/>
                  </a:lnTo>
                  <a:lnTo>
                    <a:pt x="572" y="122"/>
                  </a:lnTo>
                  <a:lnTo>
                    <a:pt x="558" y="110"/>
                  </a:lnTo>
                  <a:lnTo>
                    <a:pt x="544" y="98"/>
                  </a:lnTo>
                  <a:lnTo>
                    <a:pt x="529" y="85"/>
                  </a:lnTo>
                  <a:lnTo>
                    <a:pt x="513" y="74"/>
                  </a:lnTo>
                  <a:lnTo>
                    <a:pt x="497" y="64"/>
                  </a:lnTo>
                  <a:lnTo>
                    <a:pt x="481" y="55"/>
                  </a:lnTo>
                  <a:lnTo>
                    <a:pt x="464" y="45"/>
                  </a:lnTo>
                  <a:lnTo>
                    <a:pt x="446" y="37"/>
                  </a:lnTo>
                  <a:lnTo>
                    <a:pt x="429" y="30"/>
                  </a:lnTo>
                  <a:lnTo>
                    <a:pt x="411" y="23"/>
                  </a:lnTo>
                  <a:lnTo>
                    <a:pt x="393" y="16"/>
                  </a:lnTo>
                  <a:lnTo>
                    <a:pt x="375" y="12"/>
                  </a:lnTo>
                  <a:lnTo>
                    <a:pt x="357" y="8"/>
                  </a:lnTo>
                  <a:lnTo>
                    <a:pt x="338" y="4"/>
                  </a:lnTo>
                  <a:lnTo>
                    <a:pt x="320" y="3"/>
                  </a:lnTo>
                  <a:lnTo>
                    <a:pt x="301" y="2"/>
                  </a:lnTo>
                  <a:lnTo>
                    <a:pt x="283" y="0"/>
                  </a:lnTo>
                  <a:lnTo>
                    <a:pt x="264" y="2"/>
                  </a:lnTo>
                  <a:lnTo>
                    <a:pt x="246" y="3"/>
                  </a:lnTo>
                  <a:lnTo>
                    <a:pt x="229" y="5"/>
                  </a:lnTo>
                  <a:lnTo>
                    <a:pt x="210" y="10"/>
                  </a:lnTo>
                  <a:lnTo>
                    <a:pt x="193" y="15"/>
                  </a:lnTo>
                  <a:lnTo>
                    <a:pt x="176" y="21"/>
                  </a:lnTo>
                  <a:lnTo>
                    <a:pt x="159" y="29"/>
                  </a:lnTo>
                  <a:lnTo>
                    <a:pt x="143" y="37"/>
                  </a:lnTo>
                  <a:lnTo>
                    <a:pt x="127" y="46"/>
                  </a:lnTo>
                  <a:lnTo>
                    <a:pt x="112" y="57"/>
                  </a:lnTo>
                  <a:lnTo>
                    <a:pt x="97" y="69"/>
                  </a:lnTo>
                  <a:lnTo>
                    <a:pt x="82" y="83"/>
                  </a:lnTo>
                  <a:lnTo>
                    <a:pt x="69" y="98"/>
                  </a:lnTo>
                  <a:lnTo>
                    <a:pt x="57" y="115"/>
                  </a:lnTo>
                  <a:lnTo>
                    <a:pt x="45" y="132"/>
                  </a:lnTo>
                  <a:lnTo>
                    <a:pt x="34" y="151"/>
                  </a:lnTo>
                  <a:lnTo>
                    <a:pt x="25" y="171"/>
                  </a:lnTo>
                  <a:lnTo>
                    <a:pt x="15" y="192"/>
                  </a:lnTo>
                  <a:lnTo>
                    <a:pt x="7" y="216"/>
                  </a:lnTo>
                  <a:lnTo>
                    <a:pt x="0" y="240"/>
                  </a:lnTo>
                  <a:lnTo>
                    <a:pt x="20" y="245"/>
                  </a:lnTo>
                  <a:lnTo>
                    <a:pt x="27" y="222"/>
                  </a:lnTo>
                  <a:lnTo>
                    <a:pt x="34" y="200"/>
                  </a:lnTo>
                  <a:lnTo>
                    <a:pt x="43" y="180"/>
                  </a:lnTo>
                  <a:lnTo>
                    <a:pt x="53" y="160"/>
                  </a:lnTo>
                  <a:lnTo>
                    <a:pt x="63" y="143"/>
                  </a:lnTo>
                  <a:lnTo>
                    <a:pt x="74" y="127"/>
                  </a:lnTo>
                  <a:lnTo>
                    <a:pt x="85" y="111"/>
                  </a:lnTo>
                  <a:lnTo>
                    <a:pt x="97" y="98"/>
                  </a:lnTo>
                  <a:lnTo>
                    <a:pt x="111" y="85"/>
                  </a:lnTo>
                  <a:lnTo>
                    <a:pt x="124" y="74"/>
                  </a:lnTo>
                  <a:lnTo>
                    <a:pt x="138" y="64"/>
                  </a:lnTo>
                  <a:lnTo>
                    <a:pt x="152" y="55"/>
                  </a:lnTo>
                  <a:lnTo>
                    <a:pt x="168" y="47"/>
                  </a:lnTo>
                  <a:lnTo>
                    <a:pt x="183" y="40"/>
                  </a:lnTo>
                  <a:lnTo>
                    <a:pt x="199" y="35"/>
                  </a:lnTo>
                  <a:lnTo>
                    <a:pt x="215" y="30"/>
                  </a:lnTo>
                  <a:lnTo>
                    <a:pt x="232" y="26"/>
                  </a:lnTo>
                  <a:lnTo>
                    <a:pt x="248" y="24"/>
                  </a:lnTo>
                  <a:lnTo>
                    <a:pt x="266" y="23"/>
                  </a:lnTo>
                  <a:lnTo>
                    <a:pt x="283" y="21"/>
                  </a:lnTo>
                  <a:lnTo>
                    <a:pt x="300" y="21"/>
                  </a:lnTo>
                  <a:lnTo>
                    <a:pt x="317" y="24"/>
                  </a:lnTo>
                  <a:lnTo>
                    <a:pt x="336" y="25"/>
                  </a:lnTo>
                  <a:lnTo>
                    <a:pt x="353" y="29"/>
                  </a:lnTo>
                  <a:lnTo>
                    <a:pt x="370" y="32"/>
                  </a:lnTo>
                  <a:lnTo>
                    <a:pt x="387" y="37"/>
                  </a:lnTo>
                  <a:lnTo>
                    <a:pt x="405" y="42"/>
                  </a:lnTo>
                  <a:lnTo>
                    <a:pt x="422" y="48"/>
                  </a:lnTo>
                  <a:lnTo>
                    <a:pt x="438" y="56"/>
                  </a:lnTo>
                  <a:lnTo>
                    <a:pt x="455" y="64"/>
                  </a:lnTo>
                  <a:lnTo>
                    <a:pt x="471" y="72"/>
                  </a:lnTo>
                  <a:lnTo>
                    <a:pt x="486" y="82"/>
                  </a:lnTo>
                  <a:lnTo>
                    <a:pt x="502" y="91"/>
                  </a:lnTo>
                  <a:lnTo>
                    <a:pt x="516" y="103"/>
                  </a:lnTo>
                  <a:lnTo>
                    <a:pt x="530" y="114"/>
                  </a:lnTo>
                  <a:lnTo>
                    <a:pt x="545" y="125"/>
                  </a:lnTo>
                  <a:lnTo>
                    <a:pt x="557" y="137"/>
                  </a:lnTo>
                  <a:lnTo>
                    <a:pt x="569" y="151"/>
                  </a:lnTo>
                  <a:lnTo>
                    <a:pt x="582" y="164"/>
                  </a:lnTo>
                  <a:lnTo>
                    <a:pt x="593" y="178"/>
                  </a:lnTo>
                  <a:lnTo>
                    <a:pt x="603" y="192"/>
                  </a:lnTo>
                  <a:lnTo>
                    <a:pt x="611" y="206"/>
                  </a:lnTo>
                  <a:lnTo>
                    <a:pt x="620" y="222"/>
                  </a:lnTo>
                  <a:lnTo>
                    <a:pt x="627" y="237"/>
                  </a:lnTo>
                  <a:lnTo>
                    <a:pt x="635" y="253"/>
                  </a:lnTo>
                  <a:lnTo>
                    <a:pt x="639" y="270"/>
                  </a:lnTo>
                  <a:lnTo>
                    <a:pt x="644" y="286"/>
                  </a:lnTo>
                  <a:lnTo>
                    <a:pt x="648" y="303"/>
                  </a:lnTo>
                  <a:lnTo>
                    <a:pt x="649" y="320"/>
                  </a:lnTo>
                  <a:lnTo>
                    <a:pt x="651" y="337"/>
                  </a:lnTo>
                  <a:lnTo>
                    <a:pt x="651" y="355"/>
                  </a:lnTo>
                  <a:lnTo>
                    <a:pt x="649" y="372"/>
                  </a:lnTo>
                  <a:lnTo>
                    <a:pt x="647" y="390"/>
                  </a:lnTo>
                  <a:lnTo>
                    <a:pt x="642" y="409"/>
                  </a:lnTo>
                  <a:lnTo>
                    <a:pt x="637" y="427"/>
                  </a:lnTo>
                  <a:lnTo>
                    <a:pt x="630" y="446"/>
                  </a:lnTo>
                  <a:lnTo>
                    <a:pt x="621" y="464"/>
                  </a:lnTo>
                  <a:lnTo>
                    <a:pt x="611" y="483"/>
                  </a:lnTo>
                  <a:lnTo>
                    <a:pt x="600" y="502"/>
                  </a:lnTo>
                  <a:lnTo>
                    <a:pt x="587" y="521"/>
                  </a:lnTo>
                  <a:lnTo>
                    <a:pt x="572" y="540"/>
                  </a:lnTo>
                  <a:lnTo>
                    <a:pt x="555" y="559"/>
                  </a:lnTo>
                  <a:lnTo>
                    <a:pt x="536" y="577"/>
                  </a:lnTo>
                  <a:lnTo>
                    <a:pt x="516" y="597"/>
                  </a:lnTo>
                  <a:lnTo>
                    <a:pt x="534" y="604"/>
                  </a:lnTo>
                  <a:lnTo>
                    <a:pt x="516" y="597"/>
                  </a:lnTo>
                  <a:lnTo>
                    <a:pt x="513" y="601"/>
                  </a:lnTo>
                  <a:lnTo>
                    <a:pt x="513" y="604"/>
                  </a:lnTo>
                  <a:lnTo>
                    <a:pt x="513" y="608"/>
                  </a:lnTo>
                  <a:lnTo>
                    <a:pt x="515" y="612"/>
                  </a:lnTo>
                  <a:lnTo>
                    <a:pt x="518" y="614"/>
                  </a:lnTo>
                  <a:lnTo>
                    <a:pt x="521" y="615"/>
                  </a:lnTo>
                  <a:lnTo>
                    <a:pt x="525" y="614"/>
                  </a:lnTo>
                  <a:lnTo>
                    <a:pt x="530" y="613"/>
                  </a:lnTo>
                  <a:lnTo>
                    <a:pt x="513" y="6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6876720" y="2963160"/>
              <a:ext cx="202320" cy="153000"/>
            </a:xfrm>
            <a:custGeom>
              <a:avLst/>
              <a:gdLst/>
              <a:ahLst/>
              <a:rect l="l" t="t" r="r" b="b"/>
              <a:pathLst>
                <a:path w="535" h="408">
                  <a:moveTo>
                    <a:pt x="1" y="42"/>
                  </a:moveTo>
                  <a:lnTo>
                    <a:pt x="13" y="55"/>
                  </a:lnTo>
                  <a:lnTo>
                    <a:pt x="42" y="47"/>
                  </a:lnTo>
                  <a:lnTo>
                    <a:pt x="69" y="40"/>
                  </a:lnTo>
                  <a:lnTo>
                    <a:pt x="96" y="35"/>
                  </a:lnTo>
                  <a:lnTo>
                    <a:pt x="121" y="30"/>
                  </a:lnTo>
                  <a:lnTo>
                    <a:pt x="146" y="26"/>
                  </a:lnTo>
                  <a:lnTo>
                    <a:pt x="169" y="24"/>
                  </a:lnTo>
                  <a:lnTo>
                    <a:pt x="193" y="21"/>
                  </a:lnTo>
                  <a:lnTo>
                    <a:pt x="216" y="21"/>
                  </a:lnTo>
                  <a:lnTo>
                    <a:pt x="237" y="21"/>
                  </a:lnTo>
                  <a:lnTo>
                    <a:pt x="258" y="24"/>
                  </a:lnTo>
                  <a:lnTo>
                    <a:pt x="278" y="26"/>
                  </a:lnTo>
                  <a:lnTo>
                    <a:pt x="296" y="30"/>
                  </a:lnTo>
                  <a:lnTo>
                    <a:pt x="315" y="36"/>
                  </a:lnTo>
                  <a:lnTo>
                    <a:pt x="332" y="42"/>
                  </a:lnTo>
                  <a:lnTo>
                    <a:pt x="349" y="50"/>
                  </a:lnTo>
                  <a:lnTo>
                    <a:pt x="365" y="58"/>
                  </a:lnTo>
                  <a:lnTo>
                    <a:pt x="380" y="69"/>
                  </a:lnTo>
                  <a:lnTo>
                    <a:pt x="393" y="80"/>
                  </a:lnTo>
                  <a:lnTo>
                    <a:pt x="407" y="93"/>
                  </a:lnTo>
                  <a:lnTo>
                    <a:pt x="420" y="108"/>
                  </a:lnTo>
                  <a:lnTo>
                    <a:pt x="431" y="123"/>
                  </a:lnTo>
                  <a:lnTo>
                    <a:pt x="444" y="141"/>
                  </a:lnTo>
                  <a:lnTo>
                    <a:pt x="454" y="160"/>
                  </a:lnTo>
                  <a:lnTo>
                    <a:pt x="463" y="180"/>
                  </a:lnTo>
                  <a:lnTo>
                    <a:pt x="472" y="203"/>
                  </a:lnTo>
                  <a:lnTo>
                    <a:pt x="481" y="227"/>
                  </a:lnTo>
                  <a:lnTo>
                    <a:pt x="488" y="253"/>
                  </a:lnTo>
                  <a:lnTo>
                    <a:pt x="495" y="280"/>
                  </a:lnTo>
                  <a:lnTo>
                    <a:pt x="500" y="309"/>
                  </a:lnTo>
                  <a:lnTo>
                    <a:pt x="505" y="340"/>
                  </a:lnTo>
                  <a:lnTo>
                    <a:pt x="510" y="373"/>
                  </a:lnTo>
                  <a:lnTo>
                    <a:pt x="514" y="408"/>
                  </a:lnTo>
                  <a:lnTo>
                    <a:pt x="535" y="406"/>
                  </a:lnTo>
                  <a:lnTo>
                    <a:pt x="531" y="371"/>
                  </a:lnTo>
                  <a:lnTo>
                    <a:pt x="526" y="338"/>
                  </a:lnTo>
                  <a:lnTo>
                    <a:pt x="521" y="306"/>
                  </a:lnTo>
                  <a:lnTo>
                    <a:pt x="515" y="275"/>
                  </a:lnTo>
                  <a:lnTo>
                    <a:pt x="509" y="248"/>
                  </a:lnTo>
                  <a:lnTo>
                    <a:pt x="500" y="221"/>
                  </a:lnTo>
                  <a:lnTo>
                    <a:pt x="492" y="196"/>
                  </a:lnTo>
                  <a:lnTo>
                    <a:pt x="483" y="173"/>
                  </a:lnTo>
                  <a:lnTo>
                    <a:pt x="472" y="151"/>
                  </a:lnTo>
                  <a:lnTo>
                    <a:pt x="461" y="131"/>
                  </a:lnTo>
                  <a:lnTo>
                    <a:pt x="449" y="111"/>
                  </a:lnTo>
                  <a:lnTo>
                    <a:pt x="436" y="94"/>
                  </a:lnTo>
                  <a:lnTo>
                    <a:pt x="423" y="79"/>
                  </a:lnTo>
                  <a:lnTo>
                    <a:pt x="408" y="64"/>
                  </a:lnTo>
                  <a:lnTo>
                    <a:pt x="392" y="52"/>
                  </a:lnTo>
                  <a:lnTo>
                    <a:pt x="376" y="41"/>
                  </a:lnTo>
                  <a:lnTo>
                    <a:pt x="359" y="31"/>
                  </a:lnTo>
                  <a:lnTo>
                    <a:pt x="340" y="23"/>
                  </a:lnTo>
                  <a:lnTo>
                    <a:pt x="321" y="15"/>
                  </a:lnTo>
                  <a:lnTo>
                    <a:pt x="302" y="10"/>
                  </a:lnTo>
                  <a:lnTo>
                    <a:pt x="281" y="5"/>
                  </a:lnTo>
                  <a:lnTo>
                    <a:pt x="260" y="3"/>
                  </a:lnTo>
                  <a:lnTo>
                    <a:pt x="238" y="2"/>
                  </a:lnTo>
                  <a:lnTo>
                    <a:pt x="216" y="0"/>
                  </a:lnTo>
                  <a:lnTo>
                    <a:pt x="193" y="2"/>
                  </a:lnTo>
                  <a:lnTo>
                    <a:pt x="168" y="3"/>
                  </a:lnTo>
                  <a:lnTo>
                    <a:pt x="144" y="5"/>
                  </a:lnTo>
                  <a:lnTo>
                    <a:pt x="118" y="9"/>
                  </a:lnTo>
                  <a:lnTo>
                    <a:pt x="92" y="14"/>
                  </a:lnTo>
                  <a:lnTo>
                    <a:pt x="65" y="20"/>
                  </a:lnTo>
                  <a:lnTo>
                    <a:pt x="37" y="26"/>
                  </a:lnTo>
                  <a:lnTo>
                    <a:pt x="8" y="35"/>
                  </a:lnTo>
                  <a:lnTo>
                    <a:pt x="21" y="47"/>
                  </a:lnTo>
                  <a:lnTo>
                    <a:pt x="8" y="35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"/>
          <p:cNvSpPr/>
          <p:nvPr/>
        </p:nvSpPr>
        <p:spPr>
          <a:xfrm>
            <a:off x="1578960" y="1616040"/>
            <a:ext cx="5929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DOES NOT PROVE AN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1885680" y="2281320"/>
            <a:ext cx="533772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1f1a17"/>
                </a:solidFill>
                <a:latin typeface="Geometr231 Hv BT"/>
              </a:rPr>
              <a:t>EXCEPT YOUR NEED TO B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7" name=""/>
          <p:cNvGrpSpPr/>
          <p:nvPr/>
        </p:nvGrpSpPr>
        <p:grpSpPr>
          <a:xfrm>
            <a:off x="3164040" y="914400"/>
            <a:ext cx="2857320" cy="393840"/>
            <a:chOff x="3164040" y="914400"/>
            <a:chExt cx="2857320" cy="393840"/>
          </a:xfrm>
        </p:grpSpPr>
        <p:sp>
          <p:nvSpPr>
            <p:cNvPr id="4918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6" y="916"/>
                  </a:moveTo>
                  <a:lnTo>
                    <a:pt x="841" y="916"/>
                  </a:lnTo>
                  <a:lnTo>
                    <a:pt x="692" y="431"/>
                  </a:lnTo>
                  <a:lnTo>
                    <a:pt x="546" y="916"/>
                  </a:lnTo>
                  <a:close/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164040" y="920880"/>
              <a:ext cx="279360" cy="380880"/>
            </a:xfrm>
            <a:custGeom>
              <a:avLst/>
              <a:gdLst/>
              <a:ahLst/>
              <a:rect l="l" t="t" r="r" b="b"/>
              <a:pathLst>
                <a:path w="1056" h="1435">
                  <a:moveTo>
                    <a:pt x="0" y="1435"/>
                  </a:moveTo>
                  <a:lnTo>
                    <a:pt x="0" y="0"/>
                  </a:lnTo>
                  <a:lnTo>
                    <a:pt x="372" y="0"/>
                  </a:lnTo>
                  <a:lnTo>
                    <a:pt x="372" y="503"/>
                  </a:lnTo>
                  <a:lnTo>
                    <a:pt x="685" y="503"/>
                  </a:lnTo>
                  <a:lnTo>
                    <a:pt x="685" y="0"/>
                  </a:lnTo>
                  <a:lnTo>
                    <a:pt x="1056" y="0"/>
                  </a:lnTo>
                  <a:lnTo>
                    <a:pt x="1056" y="1435"/>
                  </a:lnTo>
                  <a:lnTo>
                    <a:pt x="685" y="1435"/>
                  </a:lnTo>
                  <a:lnTo>
                    <a:pt x="685" y="878"/>
                  </a:lnTo>
                  <a:lnTo>
                    <a:pt x="372" y="878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622680" y="1035000"/>
              <a:ext cx="77760" cy="128520"/>
            </a:xfrm>
            <a:custGeom>
              <a:avLst/>
              <a:gdLst/>
              <a:ahLst/>
              <a:rect l="l" t="t" r="r" b="b"/>
              <a:pathLst>
                <a:path w="295" h="485">
                  <a:moveTo>
                    <a:pt x="0" y="485"/>
                  </a:moveTo>
                  <a:lnTo>
                    <a:pt x="295" y="485"/>
                  </a:lnTo>
                  <a:lnTo>
                    <a:pt x="146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478320" y="920880"/>
              <a:ext cx="368280" cy="38088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2" y="0"/>
                  </a:lnTo>
                  <a:lnTo>
                    <a:pt x="922" y="0"/>
                  </a:lnTo>
                  <a:lnTo>
                    <a:pt x="1396" y="1435"/>
                  </a:lnTo>
                  <a:lnTo>
                    <a:pt x="1001" y="1435"/>
                  </a:lnTo>
                  <a:lnTo>
                    <a:pt x="950" y="1275"/>
                  </a:lnTo>
                  <a:lnTo>
                    <a:pt x="442" y="1275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825720" y="920880"/>
              <a:ext cx="320760" cy="380880"/>
            </a:xfrm>
            <a:custGeom>
              <a:avLst/>
              <a:gdLst/>
              <a:ahLst/>
              <a:rect l="l" t="t" r="r" b="b"/>
              <a:pathLst>
                <a:path w="1214" h="1435">
                  <a:moveTo>
                    <a:pt x="396" y="1435"/>
                  </a:moveTo>
                  <a:lnTo>
                    <a:pt x="0" y="0"/>
                  </a:lnTo>
                  <a:lnTo>
                    <a:pt x="395" y="0"/>
                  </a:lnTo>
                  <a:lnTo>
                    <a:pt x="632" y="985"/>
                  </a:lnTo>
                  <a:lnTo>
                    <a:pt x="843" y="0"/>
                  </a:lnTo>
                  <a:lnTo>
                    <a:pt x="1214" y="0"/>
                  </a:lnTo>
                  <a:lnTo>
                    <a:pt x="850" y="1435"/>
                  </a:lnTo>
                  <a:lnTo>
                    <a:pt x="396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184640" y="920880"/>
              <a:ext cx="98280" cy="38088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4351320" y="920880"/>
              <a:ext cx="282600" cy="380880"/>
            </a:xfrm>
            <a:custGeom>
              <a:avLst/>
              <a:gdLst/>
              <a:ahLst/>
              <a:rect l="l" t="t" r="r" b="b"/>
              <a:pathLst>
                <a:path w="1068" h="1435">
                  <a:moveTo>
                    <a:pt x="0" y="1435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697" y="629"/>
                  </a:lnTo>
                  <a:lnTo>
                    <a:pt x="697" y="0"/>
                  </a:lnTo>
                  <a:lnTo>
                    <a:pt x="1068" y="0"/>
                  </a:lnTo>
                  <a:lnTo>
                    <a:pt x="1068" y="1435"/>
                  </a:lnTo>
                  <a:lnTo>
                    <a:pt x="899" y="1435"/>
                  </a:lnTo>
                  <a:lnTo>
                    <a:pt x="372" y="813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4683240" y="914400"/>
              <a:ext cx="326880" cy="393840"/>
            </a:xfrm>
            <a:custGeom>
              <a:avLst/>
              <a:gdLst/>
              <a:ahLst/>
              <a:rect l="l" t="t" r="r" b="b"/>
              <a:pathLst>
                <a:path w="1235" h="1490">
                  <a:moveTo>
                    <a:pt x="1235" y="1405"/>
                  </a:moveTo>
                  <a:lnTo>
                    <a:pt x="1211" y="1415"/>
                  </a:lnTo>
                  <a:lnTo>
                    <a:pt x="1186" y="1424"/>
                  </a:lnTo>
                  <a:lnTo>
                    <a:pt x="1161" y="1433"/>
                  </a:lnTo>
                  <a:lnTo>
                    <a:pt x="1134" y="1441"/>
                  </a:lnTo>
                  <a:lnTo>
                    <a:pt x="1106" y="1448"/>
                  </a:lnTo>
                  <a:lnTo>
                    <a:pt x="1079" y="1455"/>
                  </a:lnTo>
                  <a:lnTo>
                    <a:pt x="1049" y="1462"/>
                  </a:lnTo>
                  <a:lnTo>
                    <a:pt x="1020" y="1468"/>
                  </a:lnTo>
                  <a:lnTo>
                    <a:pt x="990" y="1473"/>
                  </a:lnTo>
                  <a:lnTo>
                    <a:pt x="959" y="1478"/>
                  </a:lnTo>
                  <a:lnTo>
                    <a:pt x="928" y="1481"/>
                  </a:lnTo>
                  <a:lnTo>
                    <a:pt x="896" y="1484"/>
                  </a:lnTo>
                  <a:lnTo>
                    <a:pt x="865" y="1487"/>
                  </a:lnTo>
                  <a:lnTo>
                    <a:pt x="833" y="1489"/>
                  </a:lnTo>
                  <a:lnTo>
                    <a:pt x="800" y="1490"/>
                  </a:lnTo>
                  <a:lnTo>
                    <a:pt x="768" y="1490"/>
                  </a:lnTo>
                  <a:lnTo>
                    <a:pt x="724" y="1490"/>
                  </a:lnTo>
                  <a:lnTo>
                    <a:pt x="681" y="1487"/>
                  </a:lnTo>
                  <a:lnTo>
                    <a:pt x="638" y="1483"/>
                  </a:lnTo>
                  <a:lnTo>
                    <a:pt x="598" y="1478"/>
                  </a:lnTo>
                  <a:lnTo>
                    <a:pt x="559" y="1471"/>
                  </a:lnTo>
                  <a:lnTo>
                    <a:pt x="521" y="1462"/>
                  </a:lnTo>
                  <a:lnTo>
                    <a:pt x="484" y="1453"/>
                  </a:lnTo>
                  <a:lnTo>
                    <a:pt x="448" y="1441"/>
                  </a:lnTo>
                  <a:lnTo>
                    <a:pt x="414" y="1428"/>
                  </a:lnTo>
                  <a:lnTo>
                    <a:pt x="380" y="1414"/>
                  </a:lnTo>
                  <a:lnTo>
                    <a:pt x="348" y="1397"/>
                  </a:lnTo>
                  <a:lnTo>
                    <a:pt x="317" y="1379"/>
                  </a:lnTo>
                  <a:lnTo>
                    <a:pt x="288" y="1360"/>
                  </a:lnTo>
                  <a:lnTo>
                    <a:pt x="259" y="1340"/>
                  </a:lnTo>
                  <a:lnTo>
                    <a:pt x="232" y="1317"/>
                  </a:lnTo>
                  <a:lnTo>
                    <a:pt x="206" y="1294"/>
                  </a:lnTo>
                  <a:lnTo>
                    <a:pt x="181" y="1269"/>
                  </a:lnTo>
                  <a:lnTo>
                    <a:pt x="157" y="1243"/>
                  </a:lnTo>
                  <a:lnTo>
                    <a:pt x="136" y="1215"/>
                  </a:lnTo>
                  <a:lnTo>
                    <a:pt x="116" y="1187"/>
                  </a:lnTo>
                  <a:lnTo>
                    <a:pt x="97" y="1157"/>
                  </a:lnTo>
                  <a:lnTo>
                    <a:pt x="80" y="1127"/>
                  </a:lnTo>
                  <a:lnTo>
                    <a:pt x="64" y="1095"/>
                  </a:lnTo>
                  <a:lnTo>
                    <a:pt x="51" y="1062"/>
                  </a:lnTo>
                  <a:lnTo>
                    <a:pt x="40" y="1029"/>
                  </a:lnTo>
                  <a:lnTo>
                    <a:pt x="29" y="993"/>
                  </a:lnTo>
                  <a:lnTo>
                    <a:pt x="19" y="958"/>
                  </a:lnTo>
                  <a:lnTo>
                    <a:pt x="12" y="921"/>
                  </a:lnTo>
                  <a:lnTo>
                    <a:pt x="7" y="881"/>
                  </a:lnTo>
                  <a:lnTo>
                    <a:pt x="3" y="842"/>
                  </a:lnTo>
                  <a:lnTo>
                    <a:pt x="0" y="802"/>
                  </a:lnTo>
                  <a:lnTo>
                    <a:pt x="0" y="760"/>
                  </a:lnTo>
                  <a:lnTo>
                    <a:pt x="0" y="720"/>
                  </a:lnTo>
                  <a:lnTo>
                    <a:pt x="3" y="680"/>
                  </a:lnTo>
                  <a:lnTo>
                    <a:pt x="7" y="640"/>
                  </a:lnTo>
                  <a:lnTo>
                    <a:pt x="13" y="602"/>
                  </a:lnTo>
                  <a:lnTo>
                    <a:pt x="21" y="565"/>
                  </a:lnTo>
                  <a:lnTo>
                    <a:pt x="30" y="529"/>
                  </a:lnTo>
                  <a:lnTo>
                    <a:pt x="41" y="494"/>
                  </a:lnTo>
                  <a:lnTo>
                    <a:pt x="54" y="459"/>
                  </a:lnTo>
                  <a:lnTo>
                    <a:pt x="68" y="425"/>
                  </a:lnTo>
                  <a:lnTo>
                    <a:pt x="83" y="393"/>
                  </a:lnTo>
                  <a:lnTo>
                    <a:pt x="101" y="361"/>
                  </a:lnTo>
                  <a:lnTo>
                    <a:pt x="120" y="330"/>
                  </a:lnTo>
                  <a:lnTo>
                    <a:pt x="142" y="301"/>
                  </a:lnTo>
                  <a:lnTo>
                    <a:pt x="164" y="271"/>
                  </a:lnTo>
                  <a:lnTo>
                    <a:pt x="188" y="242"/>
                  </a:lnTo>
                  <a:lnTo>
                    <a:pt x="214" y="215"/>
                  </a:lnTo>
                  <a:lnTo>
                    <a:pt x="241" y="189"/>
                  </a:lnTo>
                  <a:lnTo>
                    <a:pt x="270" y="165"/>
                  </a:lnTo>
                  <a:lnTo>
                    <a:pt x="298" y="143"/>
                  </a:lnTo>
                  <a:lnTo>
                    <a:pt x="328" y="121"/>
                  </a:lnTo>
                  <a:lnTo>
                    <a:pt x="359" y="102"/>
                  </a:lnTo>
                  <a:lnTo>
                    <a:pt x="391" y="84"/>
                  </a:lnTo>
                  <a:lnTo>
                    <a:pt x="423" y="68"/>
                  </a:lnTo>
                  <a:lnTo>
                    <a:pt x="456" y="53"/>
                  </a:lnTo>
                  <a:lnTo>
                    <a:pt x="491" y="42"/>
                  </a:lnTo>
                  <a:lnTo>
                    <a:pt x="527" y="30"/>
                  </a:lnTo>
                  <a:lnTo>
                    <a:pt x="562" y="21"/>
                  </a:lnTo>
                  <a:lnTo>
                    <a:pt x="599" y="13"/>
                  </a:lnTo>
                  <a:lnTo>
                    <a:pt x="637" y="7"/>
                  </a:lnTo>
                  <a:lnTo>
                    <a:pt x="675" y="4"/>
                  </a:lnTo>
                  <a:lnTo>
                    <a:pt x="715" y="1"/>
                  </a:lnTo>
                  <a:lnTo>
                    <a:pt x="756" y="0"/>
                  </a:lnTo>
                  <a:lnTo>
                    <a:pt x="787" y="1"/>
                  </a:lnTo>
                  <a:lnTo>
                    <a:pt x="818" y="2"/>
                  </a:lnTo>
                  <a:lnTo>
                    <a:pt x="847" y="5"/>
                  </a:lnTo>
                  <a:lnTo>
                    <a:pt x="878" y="8"/>
                  </a:lnTo>
                  <a:lnTo>
                    <a:pt x="908" y="14"/>
                  </a:lnTo>
                  <a:lnTo>
                    <a:pt x="938" y="20"/>
                  </a:lnTo>
                  <a:lnTo>
                    <a:pt x="967" y="27"/>
                  </a:lnTo>
                  <a:lnTo>
                    <a:pt x="997" y="36"/>
                  </a:lnTo>
                  <a:lnTo>
                    <a:pt x="1025" y="45"/>
                  </a:lnTo>
                  <a:lnTo>
                    <a:pt x="1054" y="55"/>
                  </a:lnTo>
                  <a:lnTo>
                    <a:pt x="1082" y="67"/>
                  </a:lnTo>
                  <a:lnTo>
                    <a:pt x="1110" y="78"/>
                  </a:lnTo>
                  <a:lnTo>
                    <a:pt x="1136" y="91"/>
                  </a:lnTo>
                  <a:lnTo>
                    <a:pt x="1162" y="106"/>
                  </a:lnTo>
                  <a:lnTo>
                    <a:pt x="1187" y="120"/>
                  </a:lnTo>
                  <a:lnTo>
                    <a:pt x="1212" y="137"/>
                  </a:lnTo>
                  <a:lnTo>
                    <a:pt x="1060" y="480"/>
                  </a:lnTo>
                  <a:lnTo>
                    <a:pt x="1039" y="468"/>
                  </a:lnTo>
                  <a:lnTo>
                    <a:pt x="1016" y="456"/>
                  </a:lnTo>
                  <a:lnTo>
                    <a:pt x="996" y="447"/>
                  </a:lnTo>
                  <a:lnTo>
                    <a:pt x="974" y="436"/>
                  </a:lnTo>
                  <a:lnTo>
                    <a:pt x="954" y="428"/>
                  </a:lnTo>
                  <a:lnTo>
                    <a:pt x="934" y="419"/>
                  </a:lnTo>
                  <a:lnTo>
                    <a:pt x="915" y="412"/>
                  </a:lnTo>
                  <a:lnTo>
                    <a:pt x="896" y="406"/>
                  </a:lnTo>
                  <a:lnTo>
                    <a:pt x="877" y="402"/>
                  </a:lnTo>
                  <a:lnTo>
                    <a:pt x="858" y="397"/>
                  </a:lnTo>
                  <a:lnTo>
                    <a:pt x="839" y="392"/>
                  </a:lnTo>
                  <a:lnTo>
                    <a:pt x="821" y="390"/>
                  </a:lnTo>
                  <a:lnTo>
                    <a:pt x="802" y="387"/>
                  </a:lnTo>
                  <a:lnTo>
                    <a:pt x="783" y="385"/>
                  </a:lnTo>
                  <a:lnTo>
                    <a:pt x="765" y="384"/>
                  </a:lnTo>
                  <a:lnTo>
                    <a:pt x="746" y="384"/>
                  </a:lnTo>
                  <a:lnTo>
                    <a:pt x="726" y="384"/>
                  </a:lnTo>
                  <a:lnTo>
                    <a:pt x="707" y="385"/>
                  </a:lnTo>
                  <a:lnTo>
                    <a:pt x="687" y="387"/>
                  </a:lnTo>
                  <a:lnTo>
                    <a:pt x="669" y="390"/>
                  </a:lnTo>
                  <a:lnTo>
                    <a:pt x="650" y="393"/>
                  </a:lnTo>
                  <a:lnTo>
                    <a:pt x="632" y="398"/>
                  </a:lnTo>
                  <a:lnTo>
                    <a:pt x="616" y="404"/>
                  </a:lnTo>
                  <a:lnTo>
                    <a:pt x="599" y="410"/>
                  </a:lnTo>
                  <a:lnTo>
                    <a:pt x="582" y="417"/>
                  </a:lnTo>
                  <a:lnTo>
                    <a:pt x="566" y="425"/>
                  </a:lnTo>
                  <a:lnTo>
                    <a:pt x="550" y="434"/>
                  </a:lnTo>
                  <a:lnTo>
                    <a:pt x="535" y="443"/>
                  </a:lnTo>
                  <a:lnTo>
                    <a:pt x="521" y="454"/>
                  </a:lnTo>
                  <a:lnTo>
                    <a:pt x="506" y="465"/>
                  </a:lnTo>
                  <a:lnTo>
                    <a:pt x="493" y="476"/>
                  </a:lnTo>
                  <a:lnTo>
                    <a:pt x="479" y="489"/>
                  </a:lnTo>
                  <a:lnTo>
                    <a:pt x="467" y="503"/>
                  </a:lnTo>
                  <a:lnTo>
                    <a:pt x="455" y="517"/>
                  </a:lnTo>
                  <a:lnTo>
                    <a:pt x="445" y="531"/>
                  </a:lnTo>
                  <a:lnTo>
                    <a:pt x="434" y="545"/>
                  </a:lnTo>
                  <a:lnTo>
                    <a:pt x="424" y="561"/>
                  </a:lnTo>
                  <a:lnTo>
                    <a:pt x="416" y="577"/>
                  </a:lnTo>
                  <a:lnTo>
                    <a:pt x="408" y="593"/>
                  </a:lnTo>
                  <a:lnTo>
                    <a:pt x="402" y="609"/>
                  </a:lnTo>
                  <a:lnTo>
                    <a:pt x="395" y="627"/>
                  </a:lnTo>
                  <a:lnTo>
                    <a:pt x="390" y="644"/>
                  </a:lnTo>
                  <a:lnTo>
                    <a:pt x="385" y="662"/>
                  </a:lnTo>
                  <a:lnTo>
                    <a:pt x="382" y="681"/>
                  </a:lnTo>
                  <a:lnTo>
                    <a:pt x="379" y="700"/>
                  </a:lnTo>
                  <a:lnTo>
                    <a:pt x="377" y="719"/>
                  </a:lnTo>
                  <a:lnTo>
                    <a:pt x="376" y="739"/>
                  </a:lnTo>
                  <a:lnTo>
                    <a:pt x="376" y="759"/>
                  </a:lnTo>
                  <a:lnTo>
                    <a:pt x="376" y="778"/>
                  </a:lnTo>
                  <a:lnTo>
                    <a:pt x="377" y="796"/>
                  </a:lnTo>
                  <a:lnTo>
                    <a:pt x="378" y="814"/>
                  </a:lnTo>
                  <a:lnTo>
                    <a:pt x="382" y="832"/>
                  </a:lnTo>
                  <a:lnTo>
                    <a:pt x="384" y="848"/>
                  </a:lnTo>
                  <a:lnTo>
                    <a:pt x="389" y="865"/>
                  </a:lnTo>
                  <a:lnTo>
                    <a:pt x="394" y="881"/>
                  </a:lnTo>
                  <a:lnTo>
                    <a:pt x="399" y="897"/>
                  </a:lnTo>
                  <a:lnTo>
                    <a:pt x="405" y="912"/>
                  </a:lnTo>
                  <a:lnTo>
                    <a:pt x="413" y="927"/>
                  </a:lnTo>
                  <a:lnTo>
                    <a:pt x="421" y="941"/>
                  </a:lnTo>
                  <a:lnTo>
                    <a:pt x="429" y="955"/>
                  </a:lnTo>
                  <a:lnTo>
                    <a:pt x="439" y="968"/>
                  </a:lnTo>
                  <a:lnTo>
                    <a:pt x="449" y="981"/>
                  </a:lnTo>
                  <a:lnTo>
                    <a:pt x="460" y="994"/>
                  </a:lnTo>
                  <a:lnTo>
                    <a:pt x="472" y="1006"/>
                  </a:lnTo>
                  <a:lnTo>
                    <a:pt x="484" y="1018"/>
                  </a:lnTo>
                  <a:lnTo>
                    <a:pt x="497" y="1029"/>
                  </a:lnTo>
                  <a:lnTo>
                    <a:pt x="510" y="1038"/>
                  </a:lnTo>
                  <a:lnTo>
                    <a:pt x="524" y="1048"/>
                  </a:lnTo>
                  <a:lnTo>
                    <a:pt x="537" y="1056"/>
                  </a:lnTo>
                  <a:lnTo>
                    <a:pt x="553" y="1064"/>
                  </a:lnTo>
                  <a:lnTo>
                    <a:pt x="567" y="1072"/>
                  </a:lnTo>
                  <a:lnTo>
                    <a:pt x="582" y="1078"/>
                  </a:lnTo>
                  <a:lnTo>
                    <a:pt x="598" y="1083"/>
                  </a:lnTo>
                  <a:lnTo>
                    <a:pt x="614" y="1088"/>
                  </a:lnTo>
                  <a:lnTo>
                    <a:pt x="631" y="1093"/>
                  </a:lnTo>
                  <a:lnTo>
                    <a:pt x="648" y="1095"/>
                  </a:lnTo>
                  <a:lnTo>
                    <a:pt x="666" y="1099"/>
                  </a:lnTo>
                  <a:lnTo>
                    <a:pt x="683" y="1100"/>
                  </a:lnTo>
                  <a:lnTo>
                    <a:pt x="702" y="1101"/>
                  </a:lnTo>
                  <a:lnTo>
                    <a:pt x="721" y="1101"/>
                  </a:lnTo>
                  <a:lnTo>
                    <a:pt x="731" y="1101"/>
                  </a:lnTo>
                  <a:lnTo>
                    <a:pt x="740" y="1101"/>
                  </a:lnTo>
                  <a:lnTo>
                    <a:pt x="750" y="1101"/>
                  </a:lnTo>
                  <a:lnTo>
                    <a:pt x="758" y="1100"/>
                  </a:lnTo>
                  <a:lnTo>
                    <a:pt x="768" y="1099"/>
                  </a:lnTo>
                  <a:lnTo>
                    <a:pt x="777" y="1099"/>
                  </a:lnTo>
                  <a:lnTo>
                    <a:pt x="786" y="1097"/>
                  </a:lnTo>
                  <a:lnTo>
                    <a:pt x="795" y="1095"/>
                  </a:lnTo>
                  <a:lnTo>
                    <a:pt x="803" y="1094"/>
                  </a:lnTo>
                  <a:lnTo>
                    <a:pt x="812" y="1092"/>
                  </a:lnTo>
                  <a:lnTo>
                    <a:pt x="821" y="1089"/>
                  </a:lnTo>
                  <a:lnTo>
                    <a:pt x="829" y="1087"/>
                  </a:lnTo>
                  <a:lnTo>
                    <a:pt x="838" y="1085"/>
                  </a:lnTo>
                  <a:lnTo>
                    <a:pt x="846" y="1082"/>
                  </a:lnTo>
                  <a:lnTo>
                    <a:pt x="854" y="1080"/>
                  </a:lnTo>
                  <a:lnTo>
                    <a:pt x="863" y="1076"/>
                  </a:lnTo>
                  <a:lnTo>
                    <a:pt x="863" y="720"/>
                  </a:lnTo>
                  <a:lnTo>
                    <a:pt x="1235" y="720"/>
                  </a:lnTo>
                  <a:lnTo>
                    <a:pt x="1235" y="140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202360" y="915840"/>
              <a:ext cx="201600" cy="390600"/>
            </a:xfrm>
            <a:custGeom>
              <a:avLst/>
              <a:gdLst/>
              <a:ahLst/>
              <a:rect l="l" t="t" r="r" b="b"/>
              <a:pathLst>
                <a:path w="759" h="1480">
                  <a:moveTo>
                    <a:pt x="29" y="1462"/>
                  </a:moveTo>
                  <a:lnTo>
                    <a:pt x="18" y="1066"/>
                  </a:lnTo>
                  <a:lnTo>
                    <a:pt x="29" y="1071"/>
                  </a:lnTo>
                  <a:lnTo>
                    <a:pt x="39" y="1075"/>
                  </a:lnTo>
                  <a:lnTo>
                    <a:pt x="49" y="1078"/>
                  </a:lnTo>
                  <a:lnTo>
                    <a:pt x="59" y="1082"/>
                  </a:lnTo>
                  <a:lnTo>
                    <a:pt x="69" y="1085"/>
                  </a:lnTo>
                  <a:lnTo>
                    <a:pt x="80" y="1088"/>
                  </a:lnTo>
                  <a:lnTo>
                    <a:pt x="89" y="1091"/>
                  </a:lnTo>
                  <a:lnTo>
                    <a:pt x="99" y="1093"/>
                  </a:lnTo>
                  <a:lnTo>
                    <a:pt x="108" y="1095"/>
                  </a:lnTo>
                  <a:lnTo>
                    <a:pt x="118" y="1097"/>
                  </a:lnTo>
                  <a:lnTo>
                    <a:pt x="127" y="1098"/>
                  </a:lnTo>
                  <a:lnTo>
                    <a:pt x="136" y="1100"/>
                  </a:lnTo>
                  <a:lnTo>
                    <a:pt x="145" y="1101"/>
                  </a:lnTo>
                  <a:lnTo>
                    <a:pt x="153" y="1102"/>
                  </a:lnTo>
                  <a:lnTo>
                    <a:pt x="163" y="1102"/>
                  </a:lnTo>
                  <a:lnTo>
                    <a:pt x="171" y="1102"/>
                  </a:lnTo>
                  <a:lnTo>
                    <a:pt x="187" y="1102"/>
                  </a:lnTo>
                  <a:lnTo>
                    <a:pt x="201" y="1101"/>
                  </a:lnTo>
                  <a:lnTo>
                    <a:pt x="214" y="1098"/>
                  </a:lnTo>
                  <a:lnTo>
                    <a:pt x="227" y="1095"/>
                  </a:lnTo>
                  <a:lnTo>
                    <a:pt x="240" y="1090"/>
                  </a:lnTo>
                  <a:lnTo>
                    <a:pt x="251" y="1084"/>
                  </a:lnTo>
                  <a:lnTo>
                    <a:pt x="263" y="1078"/>
                  </a:lnTo>
                  <a:lnTo>
                    <a:pt x="272" y="1070"/>
                  </a:lnTo>
                  <a:lnTo>
                    <a:pt x="282" y="1062"/>
                  </a:lnTo>
                  <a:lnTo>
                    <a:pt x="289" y="1053"/>
                  </a:lnTo>
                  <a:lnTo>
                    <a:pt x="296" y="1044"/>
                  </a:lnTo>
                  <a:lnTo>
                    <a:pt x="302" y="1034"/>
                  </a:lnTo>
                  <a:lnTo>
                    <a:pt x="305" y="1024"/>
                  </a:lnTo>
                  <a:lnTo>
                    <a:pt x="309" y="1013"/>
                  </a:lnTo>
                  <a:lnTo>
                    <a:pt x="310" y="1001"/>
                  </a:lnTo>
                  <a:lnTo>
                    <a:pt x="311" y="989"/>
                  </a:lnTo>
                  <a:lnTo>
                    <a:pt x="311" y="982"/>
                  </a:lnTo>
                  <a:lnTo>
                    <a:pt x="310" y="974"/>
                  </a:lnTo>
                  <a:lnTo>
                    <a:pt x="308" y="964"/>
                  </a:lnTo>
                  <a:lnTo>
                    <a:pt x="304" y="956"/>
                  </a:lnTo>
                  <a:lnTo>
                    <a:pt x="301" y="946"/>
                  </a:lnTo>
                  <a:lnTo>
                    <a:pt x="296" y="937"/>
                  </a:lnTo>
                  <a:lnTo>
                    <a:pt x="291" y="927"/>
                  </a:lnTo>
                  <a:lnTo>
                    <a:pt x="285" y="918"/>
                  </a:lnTo>
                  <a:lnTo>
                    <a:pt x="270" y="897"/>
                  </a:lnTo>
                  <a:lnTo>
                    <a:pt x="252" y="875"/>
                  </a:lnTo>
                  <a:lnTo>
                    <a:pt x="229" y="853"/>
                  </a:lnTo>
                  <a:lnTo>
                    <a:pt x="204" y="828"/>
                  </a:lnTo>
                  <a:lnTo>
                    <a:pt x="196" y="820"/>
                  </a:lnTo>
                  <a:lnTo>
                    <a:pt x="188" y="812"/>
                  </a:lnTo>
                  <a:lnTo>
                    <a:pt x="179" y="805"/>
                  </a:lnTo>
                  <a:lnTo>
                    <a:pt x="172" y="798"/>
                  </a:lnTo>
                  <a:lnTo>
                    <a:pt x="165" y="792"/>
                  </a:lnTo>
                  <a:lnTo>
                    <a:pt x="159" y="786"/>
                  </a:lnTo>
                  <a:lnTo>
                    <a:pt x="155" y="780"/>
                  </a:lnTo>
                  <a:lnTo>
                    <a:pt x="149" y="775"/>
                  </a:lnTo>
                  <a:lnTo>
                    <a:pt x="131" y="756"/>
                  </a:lnTo>
                  <a:lnTo>
                    <a:pt x="113" y="736"/>
                  </a:lnTo>
                  <a:lnTo>
                    <a:pt x="97" y="717"/>
                  </a:lnTo>
                  <a:lnTo>
                    <a:pt x="83" y="697"/>
                  </a:lnTo>
                  <a:lnTo>
                    <a:pt x="69" y="678"/>
                  </a:lnTo>
                  <a:lnTo>
                    <a:pt x="57" y="658"/>
                  </a:lnTo>
                  <a:lnTo>
                    <a:pt x="46" y="638"/>
                  </a:lnTo>
                  <a:lnTo>
                    <a:pt x="37" y="617"/>
                  </a:lnTo>
                  <a:lnTo>
                    <a:pt x="29" y="597"/>
                  </a:lnTo>
                  <a:lnTo>
                    <a:pt x="21" y="576"/>
                  </a:lnTo>
                  <a:lnTo>
                    <a:pt x="14" y="554"/>
                  </a:lnTo>
                  <a:lnTo>
                    <a:pt x="10" y="533"/>
                  </a:lnTo>
                  <a:lnTo>
                    <a:pt x="6" y="510"/>
                  </a:lnTo>
                  <a:lnTo>
                    <a:pt x="2" y="488"/>
                  </a:lnTo>
                  <a:lnTo>
                    <a:pt x="1" y="465"/>
                  </a:lnTo>
                  <a:lnTo>
                    <a:pt x="0" y="442"/>
                  </a:lnTo>
                  <a:lnTo>
                    <a:pt x="1" y="418"/>
                  </a:lnTo>
                  <a:lnTo>
                    <a:pt x="2" y="395"/>
                  </a:lnTo>
                  <a:lnTo>
                    <a:pt x="5" y="373"/>
                  </a:lnTo>
                  <a:lnTo>
                    <a:pt x="10" y="350"/>
                  </a:lnTo>
                  <a:lnTo>
                    <a:pt x="13" y="329"/>
                  </a:lnTo>
                  <a:lnTo>
                    <a:pt x="19" y="307"/>
                  </a:lnTo>
                  <a:lnTo>
                    <a:pt x="26" y="286"/>
                  </a:lnTo>
                  <a:lnTo>
                    <a:pt x="35" y="266"/>
                  </a:lnTo>
                  <a:lnTo>
                    <a:pt x="43" y="247"/>
                  </a:lnTo>
                  <a:lnTo>
                    <a:pt x="54" y="228"/>
                  </a:lnTo>
                  <a:lnTo>
                    <a:pt x="64" y="209"/>
                  </a:lnTo>
                  <a:lnTo>
                    <a:pt x="76" y="191"/>
                  </a:lnTo>
                  <a:lnTo>
                    <a:pt x="90" y="174"/>
                  </a:lnTo>
                  <a:lnTo>
                    <a:pt x="105" y="156"/>
                  </a:lnTo>
                  <a:lnTo>
                    <a:pt x="119" y="141"/>
                  </a:lnTo>
                  <a:lnTo>
                    <a:pt x="136" y="124"/>
                  </a:lnTo>
                  <a:lnTo>
                    <a:pt x="153" y="110"/>
                  </a:lnTo>
                  <a:lnTo>
                    <a:pt x="171" y="96"/>
                  </a:lnTo>
                  <a:lnTo>
                    <a:pt x="189" y="83"/>
                  </a:lnTo>
                  <a:lnTo>
                    <a:pt x="208" y="70"/>
                  </a:lnTo>
                  <a:lnTo>
                    <a:pt x="228" y="59"/>
                  </a:lnTo>
                  <a:lnTo>
                    <a:pt x="248" y="48"/>
                  </a:lnTo>
                  <a:lnTo>
                    <a:pt x="270" y="40"/>
                  </a:lnTo>
                  <a:lnTo>
                    <a:pt x="291" y="32"/>
                  </a:lnTo>
                  <a:lnTo>
                    <a:pt x="314" y="25"/>
                  </a:lnTo>
                  <a:lnTo>
                    <a:pt x="336" y="17"/>
                  </a:lnTo>
                  <a:lnTo>
                    <a:pt x="359" y="13"/>
                  </a:lnTo>
                  <a:lnTo>
                    <a:pt x="384" y="8"/>
                  </a:lnTo>
                  <a:lnTo>
                    <a:pt x="408" y="4"/>
                  </a:lnTo>
                  <a:lnTo>
                    <a:pt x="434" y="2"/>
                  </a:lnTo>
                  <a:lnTo>
                    <a:pt x="459" y="1"/>
                  </a:lnTo>
                  <a:lnTo>
                    <a:pt x="486" y="0"/>
                  </a:lnTo>
                  <a:lnTo>
                    <a:pt x="503" y="1"/>
                  </a:lnTo>
                  <a:lnTo>
                    <a:pt x="519" y="1"/>
                  </a:lnTo>
                  <a:lnTo>
                    <a:pt x="536" y="2"/>
                  </a:lnTo>
                  <a:lnTo>
                    <a:pt x="551" y="2"/>
                  </a:lnTo>
                  <a:lnTo>
                    <a:pt x="567" y="3"/>
                  </a:lnTo>
                  <a:lnTo>
                    <a:pt x="582" y="6"/>
                  </a:lnTo>
                  <a:lnTo>
                    <a:pt x="598" y="7"/>
                  </a:lnTo>
                  <a:lnTo>
                    <a:pt x="613" y="9"/>
                  </a:lnTo>
                  <a:lnTo>
                    <a:pt x="627" y="11"/>
                  </a:lnTo>
                  <a:lnTo>
                    <a:pt x="642" y="14"/>
                  </a:lnTo>
                  <a:lnTo>
                    <a:pt x="657" y="17"/>
                  </a:lnTo>
                  <a:lnTo>
                    <a:pt x="671" y="20"/>
                  </a:lnTo>
                  <a:lnTo>
                    <a:pt x="685" y="23"/>
                  </a:lnTo>
                  <a:lnTo>
                    <a:pt x="700" y="28"/>
                  </a:lnTo>
                  <a:lnTo>
                    <a:pt x="713" y="32"/>
                  </a:lnTo>
                  <a:lnTo>
                    <a:pt x="727" y="36"/>
                  </a:lnTo>
                  <a:lnTo>
                    <a:pt x="727" y="392"/>
                  </a:lnTo>
                  <a:lnTo>
                    <a:pt x="715" y="387"/>
                  </a:lnTo>
                  <a:lnTo>
                    <a:pt x="703" y="381"/>
                  </a:lnTo>
                  <a:lnTo>
                    <a:pt x="693" y="376"/>
                  </a:lnTo>
                  <a:lnTo>
                    <a:pt x="682" y="371"/>
                  </a:lnTo>
                  <a:lnTo>
                    <a:pt x="671" y="368"/>
                  </a:lnTo>
                  <a:lnTo>
                    <a:pt x="661" y="363"/>
                  </a:lnTo>
                  <a:lnTo>
                    <a:pt x="650" y="360"/>
                  </a:lnTo>
                  <a:lnTo>
                    <a:pt x="640" y="357"/>
                  </a:lnTo>
                  <a:lnTo>
                    <a:pt x="630" y="354"/>
                  </a:lnTo>
                  <a:lnTo>
                    <a:pt x="620" y="351"/>
                  </a:lnTo>
                  <a:lnTo>
                    <a:pt x="611" y="350"/>
                  </a:lnTo>
                  <a:lnTo>
                    <a:pt x="601" y="348"/>
                  </a:lnTo>
                  <a:lnTo>
                    <a:pt x="593" y="346"/>
                  </a:lnTo>
                  <a:lnTo>
                    <a:pt x="585" y="345"/>
                  </a:lnTo>
                  <a:lnTo>
                    <a:pt x="576" y="345"/>
                  </a:lnTo>
                  <a:lnTo>
                    <a:pt x="568" y="345"/>
                  </a:lnTo>
                  <a:lnTo>
                    <a:pt x="551" y="345"/>
                  </a:lnTo>
                  <a:lnTo>
                    <a:pt x="535" y="346"/>
                  </a:lnTo>
                  <a:lnTo>
                    <a:pt x="520" y="349"/>
                  </a:lnTo>
                  <a:lnTo>
                    <a:pt x="506" y="352"/>
                  </a:lnTo>
                  <a:lnTo>
                    <a:pt x="493" y="356"/>
                  </a:lnTo>
                  <a:lnTo>
                    <a:pt x="481" y="362"/>
                  </a:lnTo>
                  <a:lnTo>
                    <a:pt x="469" y="368"/>
                  </a:lnTo>
                  <a:lnTo>
                    <a:pt x="460" y="375"/>
                  </a:lnTo>
                  <a:lnTo>
                    <a:pt x="451" y="382"/>
                  </a:lnTo>
                  <a:lnTo>
                    <a:pt x="443" y="390"/>
                  </a:lnTo>
                  <a:lnTo>
                    <a:pt x="437" y="400"/>
                  </a:lnTo>
                  <a:lnTo>
                    <a:pt x="431" y="409"/>
                  </a:lnTo>
                  <a:lnTo>
                    <a:pt x="428" y="421"/>
                  </a:lnTo>
                  <a:lnTo>
                    <a:pt x="424" y="432"/>
                  </a:lnTo>
                  <a:lnTo>
                    <a:pt x="423" y="445"/>
                  </a:lnTo>
                  <a:lnTo>
                    <a:pt x="422" y="458"/>
                  </a:lnTo>
                  <a:lnTo>
                    <a:pt x="423" y="465"/>
                  </a:lnTo>
                  <a:lnTo>
                    <a:pt x="424" y="474"/>
                  </a:lnTo>
                  <a:lnTo>
                    <a:pt x="425" y="481"/>
                  </a:lnTo>
                  <a:lnTo>
                    <a:pt x="429" y="489"/>
                  </a:lnTo>
                  <a:lnTo>
                    <a:pt x="432" y="497"/>
                  </a:lnTo>
                  <a:lnTo>
                    <a:pt x="436" y="506"/>
                  </a:lnTo>
                  <a:lnTo>
                    <a:pt x="442" y="515"/>
                  </a:lnTo>
                  <a:lnTo>
                    <a:pt x="448" y="523"/>
                  </a:lnTo>
                  <a:lnTo>
                    <a:pt x="462" y="541"/>
                  </a:lnTo>
                  <a:lnTo>
                    <a:pt x="480" y="560"/>
                  </a:lnTo>
                  <a:lnTo>
                    <a:pt x="501" y="579"/>
                  </a:lnTo>
                  <a:lnTo>
                    <a:pt x="525" y="600"/>
                  </a:lnTo>
                  <a:lnTo>
                    <a:pt x="535" y="608"/>
                  </a:lnTo>
                  <a:lnTo>
                    <a:pt x="544" y="616"/>
                  </a:lnTo>
                  <a:lnTo>
                    <a:pt x="554" y="623"/>
                  </a:lnTo>
                  <a:lnTo>
                    <a:pt x="562" y="629"/>
                  </a:lnTo>
                  <a:lnTo>
                    <a:pt x="569" y="636"/>
                  </a:lnTo>
                  <a:lnTo>
                    <a:pt x="576" y="642"/>
                  </a:lnTo>
                  <a:lnTo>
                    <a:pt x="583" y="648"/>
                  </a:lnTo>
                  <a:lnTo>
                    <a:pt x="589" y="653"/>
                  </a:lnTo>
                  <a:lnTo>
                    <a:pt x="608" y="671"/>
                  </a:lnTo>
                  <a:lnTo>
                    <a:pt x="627" y="690"/>
                  </a:lnTo>
                  <a:lnTo>
                    <a:pt x="645" y="710"/>
                  </a:lnTo>
                  <a:lnTo>
                    <a:pt x="662" y="730"/>
                  </a:lnTo>
                  <a:lnTo>
                    <a:pt x="677" y="752"/>
                  </a:lnTo>
                  <a:lnTo>
                    <a:pt x="691" y="774"/>
                  </a:lnTo>
                  <a:lnTo>
                    <a:pt x="705" y="797"/>
                  </a:lnTo>
                  <a:lnTo>
                    <a:pt x="716" y="819"/>
                  </a:lnTo>
                  <a:lnTo>
                    <a:pt x="726" y="843"/>
                  </a:lnTo>
                  <a:lnTo>
                    <a:pt x="735" y="867"/>
                  </a:lnTo>
                  <a:lnTo>
                    <a:pt x="743" y="892"/>
                  </a:lnTo>
                  <a:lnTo>
                    <a:pt x="748" y="917"/>
                  </a:lnTo>
                  <a:lnTo>
                    <a:pt x="753" y="942"/>
                  </a:lnTo>
                  <a:lnTo>
                    <a:pt x="757" y="968"/>
                  </a:lnTo>
                  <a:lnTo>
                    <a:pt x="759" y="994"/>
                  </a:lnTo>
                  <a:lnTo>
                    <a:pt x="759" y="1020"/>
                  </a:lnTo>
                  <a:lnTo>
                    <a:pt x="759" y="1046"/>
                  </a:lnTo>
                  <a:lnTo>
                    <a:pt x="757" y="1072"/>
                  </a:lnTo>
                  <a:lnTo>
                    <a:pt x="754" y="1097"/>
                  </a:lnTo>
                  <a:lnTo>
                    <a:pt x="751" y="1122"/>
                  </a:lnTo>
                  <a:lnTo>
                    <a:pt x="745" y="1146"/>
                  </a:lnTo>
                  <a:lnTo>
                    <a:pt x="739" y="1169"/>
                  </a:lnTo>
                  <a:lnTo>
                    <a:pt x="732" y="1191"/>
                  </a:lnTo>
                  <a:lnTo>
                    <a:pt x="724" y="1211"/>
                  </a:lnTo>
                  <a:lnTo>
                    <a:pt x="714" y="1233"/>
                  </a:lnTo>
                  <a:lnTo>
                    <a:pt x="703" y="1253"/>
                  </a:lnTo>
                  <a:lnTo>
                    <a:pt x="691" y="1272"/>
                  </a:lnTo>
                  <a:lnTo>
                    <a:pt x="680" y="1291"/>
                  </a:lnTo>
                  <a:lnTo>
                    <a:pt x="665" y="1309"/>
                  </a:lnTo>
                  <a:lnTo>
                    <a:pt x="650" y="1325"/>
                  </a:lnTo>
                  <a:lnTo>
                    <a:pt x="634" y="1342"/>
                  </a:lnTo>
                  <a:lnTo>
                    <a:pt x="617" y="1357"/>
                  </a:lnTo>
                  <a:lnTo>
                    <a:pt x="599" y="1372"/>
                  </a:lnTo>
                  <a:lnTo>
                    <a:pt x="580" y="1386"/>
                  </a:lnTo>
                  <a:lnTo>
                    <a:pt x="560" y="1399"/>
                  </a:lnTo>
                  <a:lnTo>
                    <a:pt x="538" y="1411"/>
                  </a:lnTo>
                  <a:lnTo>
                    <a:pt x="517" y="1422"/>
                  </a:lnTo>
                  <a:lnTo>
                    <a:pt x="494" y="1432"/>
                  </a:lnTo>
                  <a:lnTo>
                    <a:pt x="470" y="1441"/>
                  </a:lnTo>
                  <a:lnTo>
                    <a:pt x="447" y="1449"/>
                  </a:lnTo>
                  <a:lnTo>
                    <a:pt x="421" y="1456"/>
                  </a:lnTo>
                  <a:lnTo>
                    <a:pt x="396" y="1463"/>
                  </a:lnTo>
                  <a:lnTo>
                    <a:pt x="368" y="1468"/>
                  </a:lnTo>
                  <a:lnTo>
                    <a:pt x="341" y="1473"/>
                  </a:lnTo>
                  <a:lnTo>
                    <a:pt x="312" y="1476"/>
                  </a:lnTo>
                  <a:lnTo>
                    <a:pt x="283" y="1477"/>
                  </a:lnTo>
                  <a:lnTo>
                    <a:pt x="252" y="1480"/>
                  </a:lnTo>
                  <a:lnTo>
                    <a:pt x="221" y="1480"/>
                  </a:lnTo>
                  <a:lnTo>
                    <a:pt x="208" y="1480"/>
                  </a:lnTo>
                  <a:lnTo>
                    <a:pt x="195" y="1479"/>
                  </a:lnTo>
                  <a:lnTo>
                    <a:pt x="183" y="1479"/>
                  </a:lnTo>
                  <a:lnTo>
                    <a:pt x="170" y="1479"/>
                  </a:lnTo>
                  <a:lnTo>
                    <a:pt x="158" y="1477"/>
                  </a:lnTo>
                  <a:lnTo>
                    <a:pt x="145" y="1476"/>
                  </a:lnTo>
                  <a:lnTo>
                    <a:pt x="133" y="1476"/>
                  </a:lnTo>
                  <a:lnTo>
                    <a:pt x="121" y="1475"/>
                  </a:lnTo>
                  <a:lnTo>
                    <a:pt x="109" y="1474"/>
                  </a:lnTo>
                  <a:lnTo>
                    <a:pt x="97" y="1471"/>
                  </a:lnTo>
                  <a:lnTo>
                    <a:pt x="86" y="1470"/>
                  </a:lnTo>
                  <a:lnTo>
                    <a:pt x="74" y="1469"/>
                  </a:lnTo>
                  <a:lnTo>
                    <a:pt x="62" y="1468"/>
                  </a:lnTo>
                  <a:lnTo>
                    <a:pt x="51" y="1466"/>
                  </a:lnTo>
                  <a:lnTo>
                    <a:pt x="39" y="1463"/>
                  </a:lnTo>
                  <a:lnTo>
                    <a:pt x="29" y="1462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448240" y="920880"/>
              <a:ext cx="236520" cy="38088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41"/>
                  </a:moveTo>
                  <a:lnTo>
                    <a:pt x="798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8"/>
                  </a:lnTo>
                  <a:lnTo>
                    <a:pt x="695" y="528"/>
                  </a:lnTo>
                  <a:lnTo>
                    <a:pt x="695" y="907"/>
                  </a:lnTo>
                  <a:lnTo>
                    <a:pt x="372" y="907"/>
                  </a:lnTo>
                  <a:lnTo>
                    <a:pt x="372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691240" y="920880"/>
              <a:ext cx="330120" cy="380880"/>
            </a:xfrm>
            <a:custGeom>
              <a:avLst/>
              <a:gdLst/>
              <a:ahLst/>
              <a:rect l="l" t="t" r="r" b="b"/>
              <a:pathLst>
                <a:path w="1249" h="1435">
                  <a:moveTo>
                    <a:pt x="0" y="1435"/>
                  </a:moveTo>
                  <a:lnTo>
                    <a:pt x="413" y="711"/>
                  </a:lnTo>
                  <a:lnTo>
                    <a:pt x="24" y="0"/>
                  </a:lnTo>
                  <a:lnTo>
                    <a:pt x="440" y="0"/>
                  </a:lnTo>
                  <a:lnTo>
                    <a:pt x="629" y="402"/>
                  </a:lnTo>
                  <a:lnTo>
                    <a:pt x="819" y="0"/>
                  </a:lnTo>
                  <a:lnTo>
                    <a:pt x="1243" y="0"/>
                  </a:lnTo>
                  <a:lnTo>
                    <a:pt x="841" y="715"/>
                  </a:lnTo>
                  <a:lnTo>
                    <a:pt x="1249" y="1435"/>
                  </a:lnTo>
                  <a:lnTo>
                    <a:pt x="826" y="1435"/>
                  </a:lnTo>
                  <a:lnTo>
                    <a:pt x="631" y="1031"/>
                  </a:lnTo>
                  <a:lnTo>
                    <a:pt x="434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3370320" y="3317760"/>
            <a:ext cx="2432160" cy="2625840"/>
            <a:chOff x="3370320" y="3317760"/>
            <a:chExt cx="2432160" cy="2625840"/>
          </a:xfrm>
        </p:grpSpPr>
        <p:sp>
          <p:nvSpPr>
            <p:cNvPr id="4938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2" y="690"/>
                  </a:moveTo>
                  <a:lnTo>
                    <a:pt x="415" y="690"/>
                  </a:lnTo>
                  <a:lnTo>
                    <a:pt x="437" y="689"/>
                  </a:lnTo>
                  <a:lnTo>
                    <a:pt x="458" y="688"/>
                  </a:lnTo>
                  <a:lnTo>
                    <a:pt x="478" y="684"/>
                  </a:lnTo>
                  <a:lnTo>
                    <a:pt x="496" y="679"/>
                  </a:lnTo>
                  <a:lnTo>
                    <a:pt x="513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7" y="645"/>
                  </a:lnTo>
                  <a:lnTo>
                    <a:pt x="569" y="633"/>
                  </a:lnTo>
                  <a:lnTo>
                    <a:pt x="579" y="620"/>
                  </a:lnTo>
                  <a:lnTo>
                    <a:pt x="588" y="606"/>
                  </a:lnTo>
                  <a:lnTo>
                    <a:pt x="595" y="591"/>
                  </a:lnTo>
                  <a:lnTo>
                    <a:pt x="601" y="575"/>
                  </a:lnTo>
                  <a:lnTo>
                    <a:pt x="604" y="557"/>
                  </a:lnTo>
                  <a:lnTo>
                    <a:pt x="607" y="539"/>
                  </a:lnTo>
                  <a:lnTo>
                    <a:pt x="608" y="519"/>
                  </a:lnTo>
                  <a:lnTo>
                    <a:pt x="607" y="499"/>
                  </a:lnTo>
                  <a:lnTo>
                    <a:pt x="604" y="480"/>
                  </a:lnTo>
                  <a:lnTo>
                    <a:pt x="601" y="461"/>
                  </a:lnTo>
                  <a:lnTo>
                    <a:pt x="595" y="444"/>
                  </a:lnTo>
                  <a:lnTo>
                    <a:pt x="588" y="429"/>
                  </a:lnTo>
                  <a:lnTo>
                    <a:pt x="579" y="413"/>
                  </a:lnTo>
                  <a:lnTo>
                    <a:pt x="569" y="400"/>
                  </a:lnTo>
                  <a:lnTo>
                    <a:pt x="557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4" y="361"/>
                  </a:lnTo>
                  <a:lnTo>
                    <a:pt x="496" y="354"/>
                  </a:lnTo>
                  <a:lnTo>
                    <a:pt x="477" y="349"/>
                  </a:lnTo>
                  <a:lnTo>
                    <a:pt x="457" y="346"/>
                  </a:lnTo>
                  <a:lnTo>
                    <a:pt x="436" y="343"/>
                  </a:lnTo>
                  <a:lnTo>
                    <a:pt x="413" y="343"/>
                  </a:lnTo>
                  <a:lnTo>
                    <a:pt x="372" y="343"/>
                  </a:lnTo>
                  <a:lnTo>
                    <a:pt x="372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371" y="675"/>
                  </a:moveTo>
                  <a:lnTo>
                    <a:pt x="408" y="675"/>
                  </a:lnTo>
                  <a:lnTo>
                    <a:pt x="432" y="673"/>
                  </a:lnTo>
                  <a:lnTo>
                    <a:pt x="454" y="671"/>
                  </a:lnTo>
                  <a:lnTo>
                    <a:pt x="476" y="667"/>
                  </a:lnTo>
                  <a:lnTo>
                    <a:pt x="496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0" y="628"/>
                  </a:lnTo>
                  <a:lnTo>
                    <a:pt x="572" y="616"/>
                  </a:lnTo>
                  <a:lnTo>
                    <a:pt x="583" y="603"/>
                  </a:lnTo>
                  <a:lnTo>
                    <a:pt x="592" y="589"/>
                  </a:lnTo>
                  <a:lnTo>
                    <a:pt x="599" y="572"/>
                  </a:lnTo>
                  <a:lnTo>
                    <a:pt x="605" y="556"/>
                  </a:lnTo>
                  <a:lnTo>
                    <a:pt x="610" y="537"/>
                  </a:lnTo>
                  <a:lnTo>
                    <a:pt x="612" y="517"/>
                  </a:lnTo>
                  <a:lnTo>
                    <a:pt x="612" y="495"/>
                  </a:lnTo>
                  <a:lnTo>
                    <a:pt x="612" y="474"/>
                  </a:lnTo>
                  <a:lnTo>
                    <a:pt x="610" y="454"/>
                  </a:lnTo>
                  <a:lnTo>
                    <a:pt x="605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8" y="350"/>
                  </a:lnTo>
                  <a:lnTo>
                    <a:pt x="534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1" y="317"/>
                  </a:lnTo>
                  <a:lnTo>
                    <a:pt x="440" y="315"/>
                  </a:lnTo>
                  <a:lnTo>
                    <a:pt x="417" y="315"/>
                  </a:lnTo>
                  <a:lnTo>
                    <a:pt x="371" y="315"/>
                  </a:lnTo>
                  <a:lnTo>
                    <a:pt x="371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371" y="690"/>
                  </a:moveTo>
                  <a:lnTo>
                    <a:pt x="416" y="690"/>
                  </a:lnTo>
                  <a:lnTo>
                    <a:pt x="438" y="689"/>
                  </a:lnTo>
                  <a:lnTo>
                    <a:pt x="459" y="688"/>
                  </a:lnTo>
                  <a:lnTo>
                    <a:pt x="478" y="684"/>
                  </a:lnTo>
                  <a:lnTo>
                    <a:pt x="497" y="679"/>
                  </a:lnTo>
                  <a:lnTo>
                    <a:pt x="514" y="672"/>
                  </a:lnTo>
                  <a:lnTo>
                    <a:pt x="530" y="665"/>
                  </a:lnTo>
                  <a:lnTo>
                    <a:pt x="544" y="656"/>
                  </a:lnTo>
                  <a:lnTo>
                    <a:pt x="558" y="645"/>
                  </a:lnTo>
                  <a:lnTo>
                    <a:pt x="569" y="633"/>
                  </a:lnTo>
                  <a:lnTo>
                    <a:pt x="580" y="620"/>
                  </a:lnTo>
                  <a:lnTo>
                    <a:pt x="588" y="606"/>
                  </a:lnTo>
                  <a:lnTo>
                    <a:pt x="596" y="591"/>
                  </a:lnTo>
                  <a:lnTo>
                    <a:pt x="600" y="575"/>
                  </a:lnTo>
                  <a:lnTo>
                    <a:pt x="605" y="557"/>
                  </a:lnTo>
                  <a:lnTo>
                    <a:pt x="607" y="539"/>
                  </a:lnTo>
                  <a:lnTo>
                    <a:pt x="609" y="519"/>
                  </a:lnTo>
                  <a:lnTo>
                    <a:pt x="607" y="499"/>
                  </a:lnTo>
                  <a:lnTo>
                    <a:pt x="605" y="480"/>
                  </a:lnTo>
                  <a:lnTo>
                    <a:pt x="601" y="461"/>
                  </a:lnTo>
                  <a:lnTo>
                    <a:pt x="596" y="444"/>
                  </a:lnTo>
                  <a:lnTo>
                    <a:pt x="588" y="429"/>
                  </a:lnTo>
                  <a:lnTo>
                    <a:pt x="580" y="413"/>
                  </a:lnTo>
                  <a:lnTo>
                    <a:pt x="569" y="400"/>
                  </a:lnTo>
                  <a:lnTo>
                    <a:pt x="558" y="388"/>
                  </a:lnTo>
                  <a:lnTo>
                    <a:pt x="544" y="378"/>
                  </a:lnTo>
                  <a:lnTo>
                    <a:pt x="530" y="368"/>
                  </a:lnTo>
                  <a:lnTo>
                    <a:pt x="515" y="361"/>
                  </a:lnTo>
                  <a:lnTo>
                    <a:pt x="497" y="354"/>
                  </a:lnTo>
                  <a:lnTo>
                    <a:pt x="478" y="349"/>
                  </a:lnTo>
                  <a:lnTo>
                    <a:pt x="458" y="346"/>
                  </a:lnTo>
                  <a:lnTo>
                    <a:pt x="436" y="343"/>
                  </a:lnTo>
                  <a:lnTo>
                    <a:pt x="414" y="343"/>
                  </a:lnTo>
                  <a:lnTo>
                    <a:pt x="371" y="343"/>
                  </a:lnTo>
                  <a:lnTo>
                    <a:pt x="371" y="690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545" y="916"/>
                  </a:moveTo>
                  <a:lnTo>
                    <a:pt x="841" y="916"/>
                  </a:lnTo>
                  <a:lnTo>
                    <a:pt x="693" y="431"/>
                  </a:lnTo>
                  <a:lnTo>
                    <a:pt x="545" y="916"/>
                  </a:lnTo>
                  <a:close/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2" y="675"/>
                  </a:moveTo>
                  <a:lnTo>
                    <a:pt x="407" y="675"/>
                  </a:lnTo>
                  <a:lnTo>
                    <a:pt x="432" y="673"/>
                  </a:lnTo>
                  <a:lnTo>
                    <a:pt x="455" y="671"/>
                  </a:lnTo>
                  <a:lnTo>
                    <a:pt x="476" y="667"/>
                  </a:lnTo>
                  <a:lnTo>
                    <a:pt x="497" y="663"/>
                  </a:lnTo>
                  <a:lnTo>
                    <a:pt x="514" y="657"/>
                  </a:lnTo>
                  <a:lnTo>
                    <a:pt x="531" y="648"/>
                  </a:lnTo>
                  <a:lnTo>
                    <a:pt x="546" y="639"/>
                  </a:lnTo>
                  <a:lnTo>
                    <a:pt x="561" y="628"/>
                  </a:lnTo>
                  <a:lnTo>
                    <a:pt x="573" y="616"/>
                  </a:lnTo>
                  <a:lnTo>
                    <a:pt x="583" y="603"/>
                  </a:lnTo>
                  <a:lnTo>
                    <a:pt x="593" y="589"/>
                  </a:lnTo>
                  <a:lnTo>
                    <a:pt x="600" y="572"/>
                  </a:lnTo>
                  <a:lnTo>
                    <a:pt x="606" y="556"/>
                  </a:lnTo>
                  <a:lnTo>
                    <a:pt x="609" y="537"/>
                  </a:lnTo>
                  <a:lnTo>
                    <a:pt x="612" y="517"/>
                  </a:lnTo>
                  <a:lnTo>
                    <a:pt x="613" y="495"/>
                  </a:lnTo>
                  <a:lnTo>
                    <a:pt x="612" y="474"/>
                  </a:lnTo>
                  <a:lnTo>
                    <a:pt x="609" y="454"/>
                  </a:lnTo>
                  <a:lnTo>
                    <a:pt x="606" y="436"/>
                  </a:lnTo>
                  <a:lnTo>
                    <a:pt x="600" y="418"/>
                  </a:lnTo>
                  <a:lnTo>
                    <a:pt x="593" y="401"/>
                  </a:lnTo>
                  <a:lnTo>
                    <a:pt x="584" y="387"/>
                  </a:lnTo>
                  <a:lnTo>
                    <a:pt x="574" y="373"/>
                  </a:lnTo>
                  <a:lnTo>
                    <a:pt x="562" y="361"/>
                  </a:lnTo>
                  <a:lnTo>
                    <a:pt x="549" y="350"/>
                  </a:lnTo>
                  <a:lnTo>
                    <a:pt x="535" y="341"/>
                  </a:lnTo>
                  <a:lnTo>
                    <a:pt x="518" y="332"/>
                  </a:lnTo>
                  <a:lnTo>
                    <a:pt x="501" y="327"/>
                  </a:lnTo>
                  <a:lnTo>
                    <a:pt x="482" y="321"/>
                  </a:lnTo>
                  <a:lnTo>
                    <a:pt x="462" y="317"/>
                  </a:lnTo>
                  <a:lnTo>
                    <a:pt x="441" y="315"/>
                  </a:lnTo>
                  <a:lnTo>
                    <a:pt x="418" y="315"/>
                  </a:lnTo>
                  <a:lnTo>
                    <a:pt x="372" y="315"/>
                  </a:lnTo>
                  <a:lnTo>
                    <a:pt x="372" y="675"/>
                  </a:lnTo>
                  <a:close/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370" y="1051"/>
                  </a:moveTo>
                  <a:lnTo>
                    <a:pt x="388" y="1049"/>
                  </a:lnTo>
                  <a:lnTo>
                    <a:pt x="406" y="1046"/>
                  </a:lnTo>
                  <a:lnTo>
                    <a:pt x="423" y="1043"/>
                  </a:lnTo>
                  <a:lnTo>
                    <a:pt x="439" y="1039"/>
                  </a:lnTo>
                  <a:lnTo>
                    <a:pt x="455" y="1035"/>
                  </a:lnTo>
                  <a:lnTo>
                    <a:pt x="470" y="1030"/>
                  </a:lnTo>
                  <a:lnTo>
                    <a:pt x="486" y="1024"/>
                  </a:lnTo>
                  <a:lnTo>
                    <a:pt x="500" y="1018"/>
                  </a:lnTo>
                  <a:lnTo>
                    <a:pt x="514" y="1011"/>
                  </a:lnTo>
                  <a:lnTo>
                    <a:pt x="528" y="1002"/>
                  </a:lnTo>
                  <a:lnTo>
                    <a:pt x="541" y="994"/>
                  </a:lnTo>
                  <a:lnTo>
                    <a:pt x="554" y="986"/>
                  </a:lnTo>
                  <a:lnTo>
                    <a:pt x="566" y="976"/>
                  </a:lnTo>
                  <a:lnTo>
                    <a:pt x="578" y="967"/>
                  </a:lnTo>
                  <a:lnTo>
                    <a:pt x="590" y="956"/>
                  </a:lnTo>
                  <a:lnTo>
                    <a:pt x="601" y="944"/>
                  </a:lnTo>
                  <a:lnTo>
                    <a:pt x="611" y="934"/>
                  </a:lnTo>
                  <a:lnTo>
                    <a:pt x="621" y="921"/>
                  </a:lnTo>
                  <a:lnTo>
                    <a:pt x="630" y="909"/>
                  </a:lnTo>
                  <a:lnTo>
                    <a:pt x="639" y="896"/>
                  </a:lnTo>
                  <a:lnTo>
                    <a:pt x="647" y="883"/>
                  </a:lnTo>
                  <a:lnTo>
                    <a:pt x="654" y="869"/>
                  </a:lnTo>
                  <a:lnTo>
                    <a:pt x="660" y="855"/>
                  </a:lnTo>
                  <a:lnTo>
                    <a:pt x="666" y="841"/>
                  </a:lnTo>
                  <a:lnTo>
                    <a:pt x="671" y="827"/>
                  </a:lnTo>
                  <a:lnTo>
                    <a:pt x="676" y="811"/>
                  </a:lnTo>
                  <a:lnTo>
                    <a:pt x="679" y="796"/>
                  </a:lnTo>
                  <a:lnTo>
                    <a:pt x="682" y="780"/>
                  </a:lnTo>
                  <a:lnTo>
                    <a:pt x="684" y="765"/>
                  </a:lnTo>
                  <a:lnTo>
                    <a:pt x="686" y="748"/>
                  </a:lnTo>
                  <a:lnTo>
                    <a:pt x="688" y="732"/>
                  </a:lnTo>
                  <a:lnTo>
                    <a:pt x="688" y="714"/>
                  </a:lnTo>
                  <a:lnTo>
                    <a:pt x="688" y="696"/>
                  </a:lnTo>
                  <a:lnTo>
                    <a:pt x="686" y="678"/>
                  </a:lnTo>
                  <a:lnTo>
                    <a:pt x="684" y="660"/>
                  </a:lnTo>
                  <a:lnTo>
                    <a:pt x="682" y="643"/>
                  </a:lnTo>
                  <a:lnTo>
                    <a:pt x="679" y="626"/>
                  </a:lnTo>
                  <a:lnTo>
                    <a:pt x="676" y="610"/>
                  </a:lnTo>
                  <a:lnTo>
                    <a:pt x="671" y="594"/>
                  </a:lnTo>
                  <a:lnTo>
                    <a:pt x="666" y="578"/>
                  </a:lnTo>
                  <a:lnTo>
                    <a:pt x="660" y="564"/>
                  </a:lnTo>
                  <a:lnTo>
                    <a:pt x="653" y="549"/>
                  </a:lnTo>
                  <a:lnTo>
                    <a:pt x="646" y="534"/>
                  </a:lnTo>
                  <a:lnTo>
                    <a:pt x="639" y="521"/>
                  </a:lnTo>
                  <a:lnTo>
                    <a:pt x="629" y="507"/>
                  </a:lnTo>
                  <a:lnTo>
                    <a:pt x="621" y="494"/>
                  </a:lnTo>
                  <a:lnTo>
                    <a:pt x="610" y="482"/>
                  </a:lnTo>
                  <a:lnTo>
                    <a:pt x="600" y="469"/>
                  </a:lnTo>
                  <a:lnTo>
                    <a:pt x="589" y="458"/>
                  </a:lnTo>
                  <a:lnTo>
                    <a:pt x="577" y="448"/>
                  </a:lnTo>
                  <a:lnTo>
                    <a:pt x="565" y="437"/>
                  </a:lnTo>
                  <a:lnTo>
                    <a:pt x="552" y="428"/>
                  </a:lnTo>
                  <a:lnTo>
                    <a:pt x="540" y="419"/>
                  </a:lnTo>
                  <a:lnTo>
                    <a:pt x="526" y="411"/>
                  </a:lnTo>
                  <a:lnTo>
                    <a:pt x="513" y="404"/>
                  </a:lnTo>
                  <a:lnTo>
                    <a:pt x="499" y="398"/>
                  </a:lnTo>
                  <a:lnTo>
                    <a:pt x="484" y="392"/>
                  </a:lnTo>
                  <a:lnTo>
                    <a:pt x="469" y="387"/>
                  </a:lnTo>
                  <a:lnTo>
                    <a:pt x="453" y="382"/>
                  </a:lnTo>
                  <a:lnTo>
                    <a:pt x="438" y="379"/>
                  </a:lnTo>
                  <a:lnTo>
                    <a:pt x="421" y="375"/>
                  </a:lnTo>
                  <a:lnTo>
                    <a:pt x="405" y="374"/>
                  </a:lnTo>
                  <a:lnTo>
                    <a:pt x="388" y="372"/>
                  </a:lnTo>
                  <a:lnTo>
                    <a:pt x="370" y="372"/>
                  </a:lnTo>
                  <a:lnTo>
                    <a:pt x="370" y="1051"/>
                  </a:lnTo>
                  <a:close/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6" y="400"/>
                  </a:moveTo>
                  <a:lnTo>
                    <a:pt x="709" y="400"/>
                  </a:lnTo>
                  <a:lnTo>
                    <a:pt x="691" y="402"/>
                  </a:lnTo>
                  <a:lnTo>
                    <a:pt x="674" y="403"/>
                  </a:lnTo>
                  <a:lnTo>
                    <a:pt x="658" y="407"/>
                  </a:lnTo>
                  <a:lnTo>
                    <a:pt x="641" y="410"/>
                  </a:lnTo>
                  <a:lnTo>
                    <a:pt x="624" y="414"/>
                  </a:lnTo>
                  <a:lnTo>
                    <a:pt x="609" y="420"/>
                  </a:lnTo>
                  <a:lnTo>
                    <a:pt x="593" y="426"/>
                  </a:lnTo>
                  <a:lnTo>
                    <a:pt x="578" y="432"/>
                  </a:lnTo>
                  <a:lnTo>
                    <a:pt x="564" y="440"/>
                  </a:lnTo>
                  <a:lnTo>
                    <a:pt x="549" y="448"/>
                  </a:lnTo>
                  <a:lnTo>
                    <a:pt x="535" y="458"/>
                  </a:lnTo>
                  <a:lnTo>
                    <a:pt x="522" y="467"/>
                  </a:lnTo>
                  <a:lnTo>
                    <a:pt x="509" y="478"/>
                  </a:lnTo>
                  <a:lnTo>
                    <a:pt x="496" y="490"/>
                  </a:lnTo>
                  <a:lnTo>
                    <a:pt x="484" y="502"/>
                  </a:lnTo>
                  <a:lnTo>
                    <a:pt x="472" y="515"/>
                  </a:lnTo>
                  <a:lnTo>
                    <a:pt x="460" y="529"/>
                  </a:lnTo>
                  <a:lnTo>
                    <a:pt x="451" y="542"/>
                  </a:lnTo>
                  <a:lnTo>
                    <a:pt x="441" y="556"/>
                  </a:lnTo>
                  <a:lnTo>
                    <a:pt x="432" y="571"/>
                  </a:lnTo>
                  <a:lnTo>
                    <a:pt x="424" y="586"/>
                  </a:lnTo>
                  <a:lnTo>
                    <a:pt x="416" y="602"/>
                  </a:lnTo>
                  <a:lnTo>
                    <a:pt x="411" y="617"/>
                  </a:lnTo>
                  <a:lnTo>
                    <a:pt x="405" y="632"/>
                  </a:lnTo>
                  <a:lnTo>
                    <a:pt x="400" y="649"/>
                  </a:lnTo>
                  <a:lnTo>
                    <a:pt x="395" y="666"/>
                  </a:lnTo>
                  <a:lnTo>
                    <a:pt x="392" y="684"/>
                  </a:lnTo>
                  <a:lnTo>
                    <a:pt x="389" y="700"/>
                  </a:lnTo>
                  <a:lnTo>
                    <a:pt x="387" y="718"/>
                  </a:lnTo>
                  <a:lnTo>
                    <a:pt x="386" y="737"/>
                  </a:lnTo>
                  <a:lnTo>
                    <a:pt x="386" y="755"/>
                  </a:lnTo>
                  <a:lnTo>
                    <a:pt x="386" y="774"/>
                  </a:lnTo>
                  <a:lnTo>
                    <a:pt x="387" y="793"/>
                  </a:lnTo>
                  <a:lnTo>
                    <a:pt x="389" y="811"/>
                  </a:lnTo>
                  <a:lnTo>
                    <a:pt x="392" y="829"/>
                  </a:lnTo>
                  <a:lnTo>
                    <a:pt x="395" y="845"/>
                  </a:lnTo>
                  <a:lnTo>
                    <a:pt x="400" y="862"/>
                  </a:lnTo>
                  <a:lnTo>
                    <a:pt x="405" y="878"/>
                  </a:lnTo>
                  <a:lnTo>
                    <a:pt x="411" y="894"/>
                  </a:lnTo>
                  <a:lnTo>
                    <a:pt x="416" y="910"/>
                  </a:lnTo>
                  <a:lnTo>
                    <a:pt x="424" y="925"/>
                  </a:lnTo>
                  <a:lnTo>
                    <a:pt x="432" y="940"/>
                  </a:lnTo>
                  <a:lnTo>
                    <a:pt x="440" y="954"/>
                  </a:lnTo>
                  <a:lnTo>
                    <a:pt x="450" y="969"/>
                  </a:lnTo>
                  <a:lnTo>
                    <a:pt x="460" y="982"/>
                  </a:lnTo>
                  <a:lnTo>
                    <a:pt x="471" y="996"/>
                  </a:lnTo>
                  <a:lnTo>
                    <a:pt x="483" y="1008"/>
                  </a:lnTo>
                  <a:lnTo>
                    <a:pt x="496" y="1021"/>
                  </a:lnTo>
                  <a:lnTo>
                    <a:pt x="508" y="1033"/>
                  </a:lnTo>
                  <a:lnTo>
                    <a:pt x="521" y="1044"/>
                  </a:lnTo>
                  <a:lnTo>
                    <a:pt x="535" y="1053"/>
                  </a:lnTo>
                  <a:lnTo>
                    <a:pt x="549" y="1063"/>
                  </a:lnTo>
                  <a:lnTo>
                    <a:pt x="564" y="1071"/>
                  </a:lnTo>
                  <a:lnTo>
                    <a:pt x="578" y="1078"/>
                  </a:lnTo>
                  <a:lnTo>
                    <a:pt x="593" y="1085"/>
                  </a:lnTo>
                  <a:lnTo>
                    <a:pt x="609" y="1091"/>
                  </a:lnTo>
                  <a:lnTo>
                    <a:pt x="624" y="1096"/>
                  </a:lnTo>
                  <a:lnTo>
                    <a:pt x="640" y="1101"/>
                  </a:lnTo>
                  <a:lnTo>
                    <a:pt x="656" y="1104"/>
                  </a:lnTo>
                  <a:lnTo>
                    <a:pt x="674" y="1106"/>
                  </a:lnTo>
                  <a:lnTo>
                    <a:pt x="691" y="1109"/>
                  </a:lnTo>
                  <a:lnTo>
                    <a:pt x="709" y="1110"/>
                  </a:lnTo>
                  <a:lnTo>
                    <a:pt x="726" y="1110"/>
                  </a:lnTo>
                  <a:lnTo>
                    <a:pt x="744" y="1110"/>
                  </a:lnTo>
                  <a:lnTo>
                    <a:pt x="762" y="1109"/>
                  </a:lnTo>
                  <a:lnTo>
                    <a:pt x="780" y="1106"/>
                  </a:lnTo>
                  <a:lnTo>
                    <a:pt x="797" y="1104"/>
                  </a:lnTo>
                  <a:lnTo>
                    <a:pt x="813" y="1101"/>
                  </a:lnTo>
                  <a:lnTo>
                    <a:pt x="829" y="1096"/>
                  </a:lnTo>
                  <a:lnTo>
                    <a:pt x="845" y="1091"/>
                  </a:lnTo>
                  <a:lnTo>
                    <a:pt x="861" y="1085"/>
                  </a:lnTo>
                  <a:lnTo>
                    <a:pt x="875" y="1078"/>
                  </a:lnTo>
                  <a:lnTo>
                    <a:pt x="890" y="1071"/>
                  </a:lnTo>
                  <a:lnTo>
                    <a:pt x="905" y="1063"/>
                  </a:lnTo>
                  <a:lnTo>
                    <a:pt x="918" y="1053"/>
                  </a:lnTo>
                  <a:lnTo>
                    <a:pt x="932" y="1042"/>
                  </a:lnTo>
                  <a:lnTo>
                    <a:pt x="945" y="1032"/>
                  </a:lnTo>
                  <a:lnTo>
                    <a:pt x="958" y="1021"/>
                  </a:lnTo>
                  <a:lnTo>
                    <a:pt x="970" y="1008"/>
                  </a:lnTo>
                  <a:lnTo>
                    <a:pt x="982" y="995"/>
                  </a:lnTo>
                  <a:lnTo>
                    <a:pt x="993" y="982"/>
                  </a:lnTo>
                  <a:lnTo>
                    <a:pt x="1003" y="967"/>
                  </a:lnTo>
                  <a:lnTo>
                    <a:pt x="1013" y="954"/>
                  </a:lnTo>
                  <a:lnTo>
                    <a:pt x="1022" y="939"/>
                  </a:lnTo>
                  <a:lnTo>
                    <a:pt x="1029" y="925"/>
                  </a:lnTo>
                  <a:lnTo>
                    <a:pt x="1037" y="909"/>
                  </a:lnTo>
                  <a:lnTo>
                    <a:pt x="1044" y="894"/>
                  </a:lnTo>
                  <a:lnTo>
                    <a:pt x="1050" y="877"/>
                  </a:lnTo>
                  <a:lnTo>
                    <a:pt x="1054" y="862"/>
                  </a:lnTo>
                  <a:lnTo>
                    <a:pt x="1058" y="845"/>
                  </a:lnTo>
                  <a:lnTo>
                    <a:pt x="1061" y="827"/>
                  </a:lnTo>
                  <a:lnTo>
                    <a:pt x="1065" y="811"/>
                  </a:lnTo>
                  <a:lnTo>
                    <a:pt x="1066" y="793"/>
                  </a:lnTo>
                  <a:lnTo>
                    <a:pt x="1067" y="774"/>
                  </a:lnTo>
                  <a:lnTo>
                    <a:pt x="1069" y="755"/>
                  </a:lnTo>
                  <a:lnTo>
                    <a:pt x="1067" y="737"/>
                  </a:lnTo>
                  <a:lnTo>
                    <a:pt x="1066" y="719"/>
                  </a:lnTo>
                  <a:lnTo>
                    <a:pt x="1065" y="701"/>
                  </a:lnTo>
                  <a:lnTo>
                    <a:pt x="1061" y="684"/>
                  </a:lnTo>
                  <a:lnTo>
                    <a:pt x="1058" y="667"/>
                  </a:lnTo>
                  <a:lnTo>
                    <a:pt x="1054" y="650"/>
                  </a:lnTo>
                  <a:lnTo>
                    <a:pt x="1050" y="634"/>
                  </a:lnTo>
                  <a:lnTo>
                    <a:pt x="1044" y="617"/>
                  </a:lnTo>
                  <a:lnTo>
                    <a:pt x="1037" y="602"/>
                  </a:lnTo>
                  <a:lnTo>
                    <a:pt x="1029" y="586"/>
                  </a:lnTo>
                  <a:lnTo>
                    <a:pt x="1022" y="572"/>
                  </a:lnTo>
                  <a:lnTo>
                    <a:pt x="1013" y="558"/>
                  </a:lnTo>
                  <a:lnTo>
                    <a:pt x="1003" y="543"/>
                  </a:lnTo>
                  <a:lnTo>
                    <a:pt x="993" y="529"/>
                  </a:lnTo>
                  <a:lnTo>
                    <a:pt x="982" y="516"/>
                  </a:lnTo>
                  <a:lnTo>
                    <a:pt x="970" y="503"/>
                  </a:lnTo>
                  <a:lnTo>
                    <a:pt x="958" y="490"/>
                  </a:lnTo>
                  <a:lnTo>
                    <a:pt x="945" y="479"/>
                  </a:lnTo>
                  <a:lnTo>
                    <a:pt x="932" y="467"/>
                  </a:lnTo>
                  <a:lnTo>
                    <a:pt x="918" y="458"/>
                  </a:lnTo>
                  <a:lnTo>
                    <a:pt x="905" y="448"/>
                  </a:lnTo>
                  <a:lnTo>
                    <a:pt x="890" y="440"/>
                  </a:lnTo>
                  <a:lnTo>
                    <a:pt x="875" y="433"/>
                  </a:lnTo>
                  <a:lnTo>
                    <a:pt x="861" y="426"/>
                  </a:lnTo>
                  <a:lnTo>
                    <a:pt x="845" y="420"/>
                  </a:lnTo>
                  <a:lnTo>
                    <a:pt x="829" y="414"/>
                  </a:lnTo>
                  <a:lnTo>
                    <a:pt x="813" y="410"/>
                  </a:lnTo>
                  <a:lnTo>
                    <a:pt x="797" y="407"/>
                  </a:lnTo>
                  <a:lnTo>
                    <a:pt x="780" y="403"/>
                  </a:lnTo>
                  <a:lnTo>
                    <a:pt x="762" y="402"/>
                  </a:lnTo>
                  <a:lnTo>
                    <a:pt x="744" y="400"/>
                  </a:lnTo>
                  <a:lnTo>
                    <a:pt x="726" y="400"/>
                  </a:lnTo>
                  <a:close/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372" y="1053"/>
                  </a:moveTo>
                  <a:lnTo>
                    <a:pt x="390" y="1051"/>
                  </a:lnTo>
                  <a:lnTo>
                    <a:pt x="408" y="1048"/>
                  </a:lnTo>
                  <a:lnTo>
                    <a:pt x="425" y="1045"/>
                  </a:lnTo>
                  <a:lnTo>
                    <a:pt x="441" y="1040"/>
                  </a:lnTo>
                  <a:lnTo>
                    <a:pt x="457" y="1036"/>
                  </a:lnTo>
                  <a:lnTo>
                    <a:pt x="472" y="1030"/>
                  </a:lnTo>
                  <a:lnTo>
                    <a:pt x="487" y="1025"/>
                  </a:lnTo>
                  <a:lnTo>
                    <a:pt x="502" y="1019"/>
                  </a:lnTo>
                  <a:lnTo>
                    <a:pt x="516" y="1011"/>
                  </a:lnTo>
                  <a:lnTo>
                    <a:pt x="530" y="1004"/>
                  </a:lnTo>
                  <a:lnTo>
                    <a:pt x="543" y="996"/>
                  </a:lnTo>
                  <a:lnTo>
                    <a:pt x="556" y="988"/>
                  </a:lnTo>
                  <a:lnTo>
                    <a:pt x="568" y="978"/>
                  </a:lnTo>
                  <a:lnTo>
                    <a:pt x="580" y="968"/>
                  </a:lnTo>
                  <a:lnTo>
                    <a:pt x="592" y="957"/>
                  </a:lnTo>
                  <a:lnTo>
                    <a:pt x="603" y="946"/>
                  </a:lnTo>
                  <a:lnTo>
                    <a:pt x="613" y="934"/>
                  </a:lnTo>
                  <a:lnTo>
                    <a:pt x="623" y="922"/>
                  </a:lnTo>
                  <a:lnTo>
                    <a:pt x="632" y="909"/>
                  </a:lnTo>
                  <a:lnTo>
                    <a:pt x="641" y="897"/>
                  </a:lnTo>
                  <a:lnTo>
                    <a:pt x="648" y="884"/>
                  </a:lnTo>
                  <a:lnTo>
                    <a:pt x="655" y="870"/>
                  </a:lnTo>
                  <a:lnTo>
                    <a:pt x="662" y="857"/>
                  </a:lnTo>
                  <a:lnTo>
                    <a:pt x="668" y="843"/>
                  </a:lnTo>
                  <a:lnTo>
                    <a:pt x="673" y="827"/>
                  </a:lnTo>
                  <a:lnTo>
                    <a:pt x="676" y="813"/>
                  </a:lnTo>
                  <a:lnTo>
                    <a:pt x="681" y="798"/>
                  </a:lnTo>
                  <a:lnTo>
                    <a:pt x="684" y="782"/>
                  </a:lnTo>
                  <a:lnTo>
                    <a:pt x="686" y="766"/>
                  </a:lnTo>
                  <a:lnTo>
                    <a:pt x="687" y="749"/>
                  </a:lnTo>
                  <a:lnTo>
                    <a:pt x="688" y="732"/>
                  </a:lnTo>
                  <a:lnTo>
                    <a:pt x="689" y="716"/>
                  </a:lnTo>
                  <a:lnTo>
                    <a:pt x="688" y="697"/>
                  </a:lnTo>
                  <a:lnTo>
                    <a:pt x="687" y="679"/>
                  </a:lnTo>
                  <a:lnTo>
                    <a:pt x="686" y="661"/>
                  </a:lnTo>
                  <a:lnTo>
                    <a:pt x="684" y="644"/>
                  </a:lnTo>
                  <a:lnTo>
                    <a:pt x="680" y="628"/>
                  </a:lnTo>
                  <a:lnTo>
                    <a:pt x="676" y="611"/>
                  </a:lnTo>
                  <a:lnTo>
                    <a:pt x="673" y="596"/>
                  </a:lnTo>
                  <a:lnTo>
                    <a:pt x="667" y="580"/>
                  </a:lnTo>
                  <a:lnTo>
                    <a:pt x="661" y="565"/>
                  </a:lnTo>
                  <a:lnTo>
                    <a:pt x="655" y="551"/>
                  </a:lnTo>
                  <a:lnTo>
                    <a:pt x="648" y="536"/>
                  </a:lnTo>
                  <a:lnTo>
                    <a:pt x="640" y="522"/>
                  </a:lnTo>
                  <a:lnTo>
                    <a:pt x="631" y="509"/>
                  </a:lnTo>
                  <a:lnTo>
                    <a:pt x="622" y="496"/>
                  </a:lnTo>
                  <a:lnTo>
                    <a:pt x="612" y="483"/>
                  </a:lnTo>
                  <a:lnTo>
                    <a:pt x="602" y="471"/>
                  </a:lnTo>
                  <a:lnTo>
                    <a:pt x="590" y="459"/>
                  </a:lnTo>
                  <a:lnTo>
                    <a:pt x="579" y="448"/>
                  </a:lnTo>
                  <a:lnTo>
                    <a:pt x="567" y="439"/>
                  </a:lnTo>
                  <a:lnTo>
                    <a:pt x="554" y="429"/>
                  </a:lnTo>
                  <a:lnTo>
                    <a:pt x="541" y="420"/>
                  </a:lnTo>
                  <a:lnTo>
                    <a:pt x="528" y="413"/>
                  </a:lnTo>
                  <a:lnTo>
                    <a:pt x="515" y="406"/>
                  </a:lnTo>
                  <a:lnTo>
                    <a:pt x="501" y="398"/>
                  </a:lnTo>
                  <a:lnTo>
                    <a:pt x="485" y="393"/>
                  </a:lnTo>
                  <a:lnTo>
                    <a:pt x="471" y="388"/>
                  </a:lnTo>
                  <a:lnTo>
                    <a:pt x="455" y="383"/>
                  </a:lnTo>
                  <a:lnTo>
                    <a:pt x="440" y="379"/>
                  </a:lnTo>
                  <a:lnTo>
                    <a:pt x="423" y="377"/>
                  </a:lnTo>
                  <a:lnTo>
                    <a:pt x="407" y="375"/>
                  </a:lnTo>
                  <a:lnTo>
                    <a:pt x="390" y="374"/>
                  </a:lnTo>
                  <a:lnTo>
                    <a:pt x="372" y="372"/>
                  </a:lnTo>
                  <a:lnTo>
                    <a:pt x="372" y="1053"/>
                  </a:lnTo>
                  <a:close/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332320" y="3887640"/>
              <a:ext cx="90720" cy="379440"/>
            </a:xfrm>
            <a:custGeom>
              <a:avLst/>
              <a:gdLst/>
              <a:ahLst/>
              <a:rect l="l" t="t" r="r" b="b"/>
              <a:pathLst>
                <a:path w="343" h="1436">
                  <a:moveTo>
                    <a:pt x="0" y="1436"/>
                  </a:moveTo>
                  <a:lnTo>
                    <a:pt x="0" y="1068"/>
                  </a:lnTo>
                  <a:lnTo>
                    <a:pt x="343" y="1068"/>
                  </a:lnTo>
                  <a:lnTo>
                    <a:pt x="343" y="1436"/>
                  </a:lnTo>
                  <a:lnTo>
                    <a:pt x="0" y="1436"/>
                  </a:lnTo>
                  <a:close/>
                  <a:moveTo>
                    <a:pt x="0" y="984"/>
                  </a:moveTo>
                  <a:lnTo>
                    <a:pt x="0" y="0"/>
                  </a:lnTo>
                  <a:lnTo>
                    <a:pt x="343" y="0"/>
                  </a:lnTo>
                  <a:lnTo>
                    <a:pt x="343" y="984"/>
                  </a:lnTo>
                  <a:lnTo>
                    <a:pt x="0" y="98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346860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6" h="347">
                  <a:moveTo>
                    <a:pt x="0" y="347"/>
                  </a:moveTo>
                  <a:lnTo>
                    <a:pt x="43" y="347"/>
                  </a:lnTo>
                  <a:lnTo>
                    <a:pt x="65" y="346"/>
                  </a:lnTo>
                  <a:lnTo>
                    <a:pt x="86" y="345"/>
                  </a:lnTo>
                  <a:lnTo>
                    <a:pt x="106" y="341"/>
                  </a:lnTo>
                  <a:lnTo>
                    <a:pt x="124" y="336"/>
                  </a:lnTo>
                  <a:lnTo>
                    <a:pt x="141" y="329"/>
                  </a:lnTo>
                  <a:lnTo>
                    <a:pt x="158" y="322"/>
                  </a:lnTo>
                  <a:lnTo>
                    <a:pt x="172" y="313"/>
                  </a:lnTo>
                  <a:lnTo>
                    <a:pt x="185" y="302"/>
                  </a:lnTo>
                  <a:lnTo>
                    <a:pt x="197" y="290"/>
                  </a:lnTo>
                  <a:lnTo>
                    <a:pt x="207" y="277"/>
                  </a:lnTo>
                  <a:lnTo>
                    <a:pt x="216" y="263"/>
                  </a:lnTo>
                  <a:lnTo>
                    <a:pt x="223" y="248"/>
                  </a:lnTo>
                  <a:lnTo>
                    <a:pt x="229" y="232"/>
                  </a:lnTo>
                  <a:lnTo>
                    <a:pt x="232" y="214"/>
                  </a:lnTo>
                  <a:lnTo>
                    <a:pt x="235" y="196"/>
                  </a:lnTo>
                  <a:lnTo>
                    <a:pt x="236" y="176"/>
                  </a:lnTo>
                  <a:lnTo>
                    <a:pt x="235" y="156"/>
                  </a:lnTo>
                  <a:lnTo>
                    <a:pt x="232" y="137"/>
                  </a:lnTo>
                  <a:lnTo>
                    <a:pt x="229" y="118"/>
                  </a:lnTo>
                  <a:lnTo>
                    <a:pt x="223" y="101"/>
                  </a:lnTo>
                  <a:lnTo>
                    <a:pt x="216" y="86"/>
                  </a:lnTo>
                  <a:lnTo>
                    <a:pt x="207" y="70"/>
                  </a:lnTo>
                  <a:lnTo>
                    <a:pt x="197" y="57"/>
                  </a:lnTo>
                  <a:lnTo>
                    <a:pt x="185" y="45"/>
                  </a:lnTo>
                  <a:lnTo>
                    <a:pt x="172" y="35"/>
                  </a:lnTo>
                  <a:lnTo>
                    <a:pt x="158" y="25"/>
                  </a:lnTo>
                  <a:lnTo>
                    <a:pt x="142" y="18"/>
                  </a:lnTo>
                  <a:lnTo>
                    <a:pt x="124" y="11"/>
                  </a:lnTo>
                  <a:lnTo>
                    <a:pt x="105" y="6"/>
                  </a:lnTo>
                  <a:lnTo>
                    <a:pt x="85" y="3"/>
                  </a:lnTo>
                  <a:lnTo>
                    <a:pt x="64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337032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2" y="5"/>
                  </a:lnTo>
                  <a:lnTo>
                    <a:pt x="516" y="8"/>
                  </a:lnTo>
                  <a:lnTo>
                    <a:pt x="550" y="12"/>
                  </a:lnTo>
                  <a:lnTo>
                    <a:pt x="581" y="18"/>
                  </a:lnTo>
                  <a:lnTo>
                    <a:pt x="611" y="25"/>
                  </a:lnTo>
                  <a:lnTo>
                    <a:pt x="640" y="32"/>
                  </a:lnTo>
                  <a:lnTo>
                    <a:pt x="668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0" y="111"/>
                  </a:lnTo>
                  <a:lnTo>
                    <a:pt x="829" y="127"/>
                  </a:lnTo>
                  <a:lnTo>
                    <a:pt x="848" y="144"/>
                  </a:lnTo>
                  <a:lnTo>
                    <a:pt x="864" y="160"/>
                  </a:lnTo>
                  <a:lnTo>
                    <a:pt x="880" y="179"/>
                  </a:lnTo>
                  <a:lnTo>
                    <a:pt x="894" y="198"/>
                  </a:lnTo>
                  <a:lnTo>
                    <a:pt x="908" y="220"/>
                  </a:lnTo>
                  <a:lnTo>
                    <a:pt x="920" y="241"/>
                  </a:lnTo>
                  <a:lnTo>
                    <a:pt x="931" y="264"/>
                  </a:lnTo>
                  <a:lnTo>
                    <a:pt x="942" y="287"/>
                  </a:lnTo>
                  <a:lnTo>
                    <a:pt x="950" y="312"/>
                  </a:lnTo>
                  <a:lnTo>
                    <a:pt x="958" y="338"/>
                  </a:lnTo>
                  <a:lnTo>
                    <a:pt x="964" y="366"/>
                  </a:lnTo>
                  <a:lnTo>
                    <a:pt x="969" y="393"/>
                  </a:lnTo>
                  <a:lnTo>
                    <a:pt x="974" y="423"/>
                  </a:lnTo>
                  <a:lnTo>
                    <a:pt x="976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6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4" y="663"/>
                  </a:lnTo>
                  <a:lnTo>
                    <a:pt x="958" y="689"/>
                  </a:lnTo>
                  <a:lnTo>
                    <a:pt x="951" y="715"/>
                  </a:lnTo>
                  <a:lnTo>
                    <a:pt x="943" y="740"/>
                  </a:lnTo>
                  <a:lnTo>
                    <a:pt x="933" y="765"/>
                  </a:lnTo>
                  <a:lnTo>
                    <a:pt x="923" y="787"/>
                  </a:lnTo>
                  <a:lnTo>
                    <a:pt x="910" y="810"/>
                  </a:lnTo>
                  <a:lnTo>
                    <a:pt x="898" y="831"/>
                  </a:lnTo>
                  <a:lnTo>
                    <a:pt x="884" y="853"/>
                  </a:lnTo>
                  <a:lnTo>
                    <a:pt x="868" y="872"/>
                  </a:lnTo>
                  <a:lnTo>
                    <a:pt x="851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5" y="957"/>
                  </a:lnTo>
                  <a:lnTo>
                    <a:pt x="754" y="970"/>
                  </a:lnTo>
                  <a:lnTo>
                    <a:pt x="731" y="983"/>
                  </a:lnTo>
                  <a:lnTo>
                    <a:pt x="709" y="995"/>
                  </a:lnTo>
                  <a:lnTo>
                    <a:pt x="685" y="1005"/>
                  </a:lnTo>
                  <a:lnTo>
                    <a:pt x="659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79" y="1036"/>
                  </a:lnTo>
                  <a:lnTo>
                    <a:pt x="551" y="1041"/>
                  </a:lnTo>
                  <a:lnTo>
                    <a:pt x="521" y="1045"/>
                  </a:lnTo>
                  <a:lnTo>
                    <a:pt x="490" y="1048"/>
                  </a:lnTo>
                  <a:lnTo>
                    <a:pt x="459" y="1049"/>
                  </a:lnTo>
                  <a:lnTo>
                    <a:pt x="427" y="1050"/>
                  </a:lnTo>
                  <a:lnTo>
                    <a:pt x="372" y="1050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3781440" y="3402000"/>
              <a:ext cx="6336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7" y="360"/>
                  </a:lnTo>
                  <a:lnTo>
                    <a:pt x="61" y="358"/>
                  </a:lnTo>
                  <a:lnTo>
                    <a:pt x="83" y="356"/>
                  </a:lnTo>
                  <a:lnTo>
                    <a:pt x="105" y="352"/>
                  </a:lnTo>
                  <a:lnTo>
                    <a:pt x="125" y="348"/>
                  </a:lnTo>
                  <a:lnTo>
                    <a:pt x="143" y="342"/>
                  </a:lnTo>
                  <a:lnTo>
                    <a:pt x="160" y="333"/>
                  </a:lnTo>
                  <a:lnTo>
                    <a:pt x="175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2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9" y="222"/>
                  </a:lnTo>
                  <a:lnTo>
                    <a:pt x="241" y="202"/>
                  </a:lnTo>
                  <a:lnTo>
                    <a:pt x="241" y="180"/>
                  </a:lnTo>
                  <a:lnTo>
                    <a:pt x="241" y="159"/>
                  </a:lnTo>
                  <a:lnTo>
                    <a:pt x="239" y="139"/>
                  </a:lnTo>
                  <a:lnTo>
                    <a:pt x="234" y="121"/>
                  </a:lnTo>
                  <a:lnTo>
                    <a:pt x="229" y="103"/>
                  </a:lnTo>
                  <a:lnTo>
                    <a:pt x="222" y="86"/>
                  </a:lnTo>
                  <a:lnTo>
                    <a:pt x="213" y="72"/>
                  </a:lnTo>
                  <a:lnTo>
                    <a:pt x="203" y="58"/>
                  </a:lnTo>
                  <a:lnTo>
                    <a:pt x="191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7" y="17"/>
                  </a:lnTo>
                  <a:lnTo>
                    <a:pt x="130" y="12"/>
                  </a:lnTo>
                  <a:lnTo>
                    <a:pt x="111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3683160" y="331776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4" y="2"/>
                  </a:lnTo>
                  <a:lnTo>
                    <a:pt x="508" y="3"/>
                  </a:lnTo>
                  <a:lnTo>
                    <a:pt x="539" y="7"/>
                  </a:lnTo>
                  <a:lnTo>
                    <a:pt x="569" y="12"/>
                  </a:lnTo>
                  <a:lnTo>
                    <a:pt x="599" y="16"/>
                  </a:lnTo>
                  <a:lnTo>
                    <a:pt x="628" y="22"/>
                  </a:lnTo>
                  <a:lnTo>
                    <a:pt x="655" y="30"/>
                  </a:lnTo>
                  <a:lnTo>
                    <a:pt x="682" y="37"/>
                  </a:lnTo>
                  <a:lnTo>
                    <a:pt x="707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7" y="77"/>
                  </a:lnTo>
                  <a:lnTo>
                    <a:pt x="799" y="89"/>
                  </a:lnTo>
                  <a:lnTo>
                    <a:pt x="819" y="102"/>
                  </a:lnTo>
                  <a:lnTo>
                    <a:pt x="838" y="116"/>
                  </a:lnTo>
                  <a:lnTo>
                    <a:pt x="857" y="131"/>
                  </a:lnTo>
                  <a:lnTo>
                    <a:pt x="874" y="147"/>
                  </a:lnTo>
                  <a:lnTo>
                    <a:pt x="889" y="164"/>
                  </a:lnTo>
                  <a:lnTo>
                    <a:pt x="903" y="180"/>
                  </a:lnTo>
                  <a:lnTo>
                    <a:pt x="918" y="199"/>
                  </a:lnTo>
                  <a:lnTo>
                    <a:pt x="929" y="218"/>
                  </a:lnTo>
                  <a:lnTo>
                    <a:pt x="940" y="237"/>
                  </a:lnTo>
                  <a:lnTo>
                    <a:pt x="951" y="259"/>
                  </a:lnTo>
                  <a:lnTo>
                    <a:pt x="959" y="280"/>
                  </a:lnTo>
                  <a:lnTo>
                    <a:pt x="967" y="303"/>
                  </a:lnTo>
                  <a:lnTo>
                    <a:pt x="973" y="325"/>
                  </a:lnTo>
                  <a:lnTo>
                    <a:pt x="978" y="349"/>
                  </a:lnTo>
                  <a:lnTo>
                    <a:pt x="983" y="374"/>
                  </a:lnTo>
                  <a:lnTo>
                    <a:pt x="985" y="400"/>
                  </a:lnTo>
                  <a:lnTo>
                    <a:pt x="988" y="426"/>
                  </a:lnTo>
                  <a:lnTo>
                    <a:pt x="988" y="454"/>
                  </a:lnTo>
                  <a:lnTo>
                    <a:pt x="986" y="485"/>
                  </a:lnTo>
                  <a:lnTo>
                    <a:pt x="984" y="515"/>
                  </a:lnTo>
                  <a:lnTo>
                    <a:pt x="979" y="544"/>
                  </a:lnTo>
                  <a:lnTo>
                    <a:pt x="972" y="572"/>
                  </a:lnTo>
                  <a:lnTo>
                    <a:pt x="964" y="600"/>
                  </a:lnTo>
                  <a:lnTo>
                    <a:pt x="953" y="626"/>
                  </a:lnTo>
                  <a:lnTo>
                    <a:pt x="941" y="651"/>
                  </a:lnTo>
                  <a:lnTo>
                    <a:pt x="927" y="675"/>
                  </a:lnTo>
                  <a:lnTo>
                    <a:pt x="912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3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1" y="804"/>
                  </a:lnTo>
                  <a:lnTo>
                    <a:pt x="1077" y="1435"/>
                  </a:lnTo>
                  <a:lnTo>
                    <a:pt x="668" y="1435"/>
                  </a:lnTo>
                  <a:lnTo>
                    <a:pt x="371" y="821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99888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4" y="0"/>
                  </a:lnTo>
                  <a:lnTo>
                    <a:pt x="856" y="381"/>
                  </a:lnTo>
                  <a:lnTo>
                    <a:pt x="372" y="381"/>
                  </a:lnTo>
                  <a:lnTo>
                    <a:pt x="372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2" y="906"/>
                  </a:lnTo>
                  <a:lnTo>
                    <a:pt x="372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4375080" y="3409920"/>
              <a:ext cx="61920" cy="90360"/>
            </a:xfrm>
            <a:custGeom>
              <a:avLst/>
              <a:gdLst/>
              <a:ahLst/>
              <a:rect l="l" t="t" r="r" b="b"/>
              <a:pathLst>
                <a:path w="238" h="347">
                  <a:moveTo>
                    <a:pt x="0" y="347"/>
                  </a:moveTo>
                  <a:lnTo>
                    <a:pt x="45" y="347"/>
                  </a:lnTo>
                  <a:lnTo>
                    <a:pt x="67" y="346"/>
                  </a:lnTo>
                  <a:lnTo>
                    <a:pt x="88" y="345"/>
                  </a:lnTo>
                  <a:lnTo>
                    <a:pt x="107" y="341"/>
                  </a:lnTo>
                  <a:lnTo>
                    <a:pt x="126" y="336"/>
                  </a:lnTo>
                  <a:lnTo>
                    <a:pt x="143" y="329"/>
                  </a:lnTo>
                  <a:lnTo>
                    <a:pt x="159" y="322"/>
                  </a:lnTo>
                  <a:lnTo>
                    <a:pt x="173" y="313"/>
                  </a:lnTo>
                  <a:lnTo>
                    <a:pt x="187" y="302"/>
                  </a:lnTo>
                  <a:lnTo>
                    <a:pt x="198" y="290"/>
                  </a:lnTo>
                  <a:lnTo>
                    <a:pt x="209" y="277"/>
                  </a:lnTo>
                  <a:lnTo>
                    <a:pt x="217" y="263"/>
                  </a:lnTo>
                  <a:lnTo>
                    <a:pt x="225" y="248"/>
                  </a:lnTo>
                  <a:lnTo>
                    <a:pt x="229" y="232"/>
                  </a:lnTo>
                  <a:lnTo>
                    <a:pt x="234" y="214"/>
                  </a:lnTo>
                  <a:lnTo>
                    <a:pt x="236" y="196"/>
                  </a:lnTo>
                  <a:lnTo>
                    <a:pt x="238" y="176"/>
                  </a:lnTo>
                  <a:lnTo>
                    <a:pt x="236" y="156"/>
                  </a:lnTo>
                  <a:lnTo>
                    <a:pt x="234" y="137"/>
                  </a:lnTo>
                  <a:lnTo>
                    <a:pt x="230" y="118"/>
                  </a:lnTo>
                  <a:lnTo>
                    <a:pt x="225" y="101"/>
                  </a:lnTo>
                  <a:lnTo>
                    <a:pt x="217" y="86"/>
                  </a:lnTo>
                  <a:lnTo>
                    <a:pt x="209" y="70"/>
                  </a:lnTo>
                  <a:lnTo>
                    <a:pt x="198" y="57"/>
                  </a:lnTo>
                  <a:lnTo>
                    <a:pt x="187" y="45"/>
                  </a:lnTo>
                  <a:lnTo>
                    <a:pt x="173" y="35"/>
                  </a:lnTo>
                  <a:lnTo>
                    <a:pt x="159" y="25"/>
                  </a:lnTo>
                  <a:lnTo>
                    <a:pt x="144" y="18"/>
                  </a:lnTo>
                  <a:lnTo>
                    <a:pt x="126" y="11"/>
                  </a:lnTo>
                  <a:lnTo>
                    <a:pt x="107" y="6"/>
                  </a:lnTo>
                  <a:lnTo>
                    <a:pt x="87" y="3"/>
                  </a:lnTo>
                  <a:lnTo>
                    <a:pt x="65" y="0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4276800" y="3317760"/>
              <a:ext cx="258840" cy="379440"/>
            </a:xfrm>
            <a:custGeom>
              <a:avLst/>
              <a:gdLst/>
              <a:ahLst/>
              <a:rect l="l" t="t" r="r" b="b"/>
              <a:pathLst>
                <a:path w="979" h="1435">
                  <a:moveTo>
                    <a:pt x="0" y="1435"/>
                  </a:moveTo>
                  <a:lnTo>
                    <a:pt x="0" y="0"/>
                  </a:lnTo>
                  <a:lnTo>
                    <a:pt x="373" y="0"/>
                  </a:lnTo>
                  <a:lnTo>
                    <a:pt x="411" y="0"/>
                  </a:lnTo>
                  <a:lnTo>
                    <a:pt x="448" y="2"/>
                  </a:lnTo>
                  <a:lnTo>
                    <a:pt x="483" y="5"/>
                  </a:lnTo>
                  <a:lnTo>
                    <a:pt x="517" y="8"/>
                  </a:lnTo>
                  <a:lnTo>
                    <a:pt x="549" y="12"/>
                  </a:lnTo>
                  <a:lnTo>
                    <a:pt x="581" y="18"/>
                  </a:lnTo>
                  <a:lnTo>
                    <a:pt x="612" y="25"/>
                  </a:lnTo>
                  <a:lnTo>
                    <a:pt x="641" y="32"/>
                  </a:lnTo>
                  <a:lnTo>
                    <a:pt x="669" y="40"/>
                  </a:lnTo>
                  <a:lnTo>
                    <a:pt x="695" y="50"/>
                  </a:lnTo>
                  <a:lnTo>
                    <a:pt x="721" y="60"/>
                  </a:lnTo>
                  <a:lnTo>
                    <a:pt x="745" y="71"/>
                  </a:lnTo>
                  <a:lnTo>
                    <a:pt x="768" y="84"/>
                  </a:lnTo>
                  <a:lnTo>
                    <a:pt x="790" y="97"/>
                  </a:lnTo>
                  <a:lnTo>
                    <a:pt x="811" y="111"/>
                  </a:lnTo>
                  <a:lnTo>
                    <a:pt x="830" y="127"/>
                  </a:lnTo>
                  <a:lnTo>
                    <a:pt x="847" y="144"/>
                  </a:lnTo>
                  <a:lnTo>
                    <a:pt x="865" y="160"/>
                  </a:lnTo>
                  <a:lnTo>
                    <a:pt x="881" y="179"/>
                  </a:lnTo>
                  <a:lnTo>
                    <a:pt x="895" y="198"/>
                  </a:lnTo>
                  <a:lnTo>
                    <a:pt x="909" y="220"/>
                  </a:lnTo>
                  <a:lnTo>
                    <a:pt x="921" y="241"/>
                  </a:lnTo>
                  <a:lnTo>
                    <a:pt x="932" y="264"/>
                  </a:lnTo>
                  <a:lnTo>
                    <a:pt x="942" y="287"/>
                  </a:lnTo>
                  <a:lnTo>
                    <a:pt x="951" y="312"/>
                  </a:lnTo>
                  <a:lnTo>
                    <a:pt x="958" y="338"/>
                  </a:lnTo>
                  <a:lnTo>
                    <a:pt x="965" y="366"/>
                  </a:lnTo>
                  <a:lnTo>
                    <a:pt x="970" y="393"/>
                  </a:lnTo>
                  <a:lnTo>
                    <a:pt x="974" y="423"/>
                  </a:lnTo>
                  <a:lnTo>
                    <a:pt x="977" y="452"/>
                  </a:lnTo>
                  <a:lnTo>
                    <a:pt x="979" y="483"/>
                  </a:lnTo>
                  <a:lnTo>
                    <a:pt x="979" y="515"/>
                  </a:lnTo>
                  <a:lnTo>
                    <a:pt x="979" y="546"/>
                  </a:lnTo>
                  <a:lnTo>
                    <a:pt x="977" y="577"/>
                  </a:lnTo>
                  <a:lnTo>
                    <a:pt x="974" y="607"/>
                  </a:lnTo>
                  <a:lnTo>
                    <a:pt x="970" y="635"/>
                  </a:lnTo>
                  <a:lnTo>
                    <a:pt x="965" y="663"/>
                  </a:lnTo>
                  <a:lnTo>
                    <a:pt x="959" y="689"/>
                  </a:lnTo>
                  <a:lnTo>
                    <a:pt x="952" y="715"/>
                  </a:lnTo>
                  <a:lnTo>
                    <a:pt x="944" y="740"/>
                  </a:lnTo>
                  <a:lnTo>
                    <a:pt x="933" y="765"/>
                  </a:lnTo>
                  <a:lnTo>
                    <a:pt x="922" y="787"/>
                  </a:lnTo>
                  <a:lnTo>
                    <a:pt x="910" y="810"/>
                  </a:lnTo>
                  <a:lnTo>
                    <a:pt x="897" y="831"/>
                  </a:lnTo>
                  <a:lnTo>
                    <a:pt x="883" y="853"/>
                  </a:lnTo>
                  <a:lnTo>
                    <a:pt x="868" y="872"/>
                  </a:lnTo>
                  <a:lnTo>
                    <a:pt x="852" y="891"/>
                  </a:lnTo>
                  <a:lnTo>
                    <a:pt x="834" y="909"/>
                  </a:lnTo>
                  <a:lnTo>
                    <a:pt x="815" y="926"/>
                  </a:lnTo>
                  <a:lnTo>
                    <a:pt x="796" y="942"/>
                  </a:lnTo>
                  <a:lnTo>
                    <a:pt x="776" y="957"/>
                  </a:lnTo>
                  <a:lnTo>
                    <a:pt x="755" y="970"/>
                  </a:lnTo>
                  <a:lnTo>
                    <a:pt x="732" y="983"/>
                  </a:lnTo>
                  <a:lnTo>
                    <a:pt x="710" y="995"/>
                  </a:lnTo>
                  <a:lnTo>
                    <a:pt x="685" y="1005"/>
                  </a:lnTo>
                  <a:lnTo>
                    <a:pt x="660" y="1014"/>
                  </a:lnTo>
                  <a:lnTo>
                    <a:pt x="634" y="1023"/>
                  </a:lnTo>
                  <a:lnTo>
                    <a:pt x="607" y="1030"/>
                  </a:lnTo>
                  <a:lnTo>
                    <a:pt x="580" y="1036"/>
                  </a:lnTo>
                  <a:lnTo>
                    <a:pt x="550" y="1041"/>
                  </a:lnTo>
                  <a:lnTo>
                    <a:pt x="522" y="1045"/>
                  </a:lnTo>
                  <a:lnTo>
                    <a:pt x="491" y="1048"/>
                  </a:lnTo>
                  <a:lnTo>
                    <a:pt x="460" y="1049"/>
                  </a:lnTo>
                  <a:lnTo>
                    <a:pt x="427" y="1050"/>
                  </a:lnTo>
                  <a:lnTo>
                    <a:pt x="371" y="1050"/>
                  </a:lnTo>
                  <a:lnTo>
                    <a:pt x="371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4665600" y="3432240"/>
              <a:ext cx="79560" cy="128520"/>
            </a:xfrm>
            <a:custGeom>
              <a:avLst/>
              <a:gdLst/>
              <a:ahLst/>
              <a:rect l="l" t="t" r="r" b="b"/>
              <a:pathLst>
                <a:path w="296" h="485">
                  <a:moveTo>
                    <a:pt x="0" y="485"/>
                  </a:moveTo>
                  <a:lnTo>
                    <a:pt x="296" y="485"/>
                  </a:lnTo>
                  <a:lnTo>
                    <a:pt x="148" y="0"/>
                  </a:lnTo>
                  <a:lnTo>
                    <a:pt x="0" y="4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4522680" y="3317760"/>
              <a:ext cx="368280" cy="379440"/>
            </a:xfrm>
            <a:custGeom>
              <a:avLst/>
              <a:gdLst/>
              <a:ahLst/>
              <a:rect l="l" t="t" r="r" b="b"/>
              <a:pathLst>
                <a:path w="1396" h="1435">
                  <a:moveTo>
                    <a:pt x="0" y="1435"/>
                  </a:moveTo>
                  <a:lnTo>
                    <a:pt x="501" y="0"/>
                  </a:lnTo>
                  <a:lnTo>
                    <a:pt x="921" y="0"/>
                  </a:lnTo>
                  <a:lnTo>
                    <a:pt x="1396" y="1435"/>
                  </a:lnTo>
                  <a:lnTo>
                    <a:pt x="1002" y="1435"/>
                  </a:lnTo>
                  <a:lnTo>
                    <a:pt x="949" y="1273"/>
                  </a:lnTo>
                  <a:lnTo>
                    <a:pt x="442" y="1273"/>
                  </a:lnTo>
                  <a:lnTo>
                    <a:pt x="387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022720" y="3402000"/>
              <a:ext cx="63720" cy="95400"/>
            </a:xfrm>
            <a:custGeom>
              <a:avLst/>
              <a:gdLst/>
              <a:ahLst/>
              <a:rect l="l" t="t" r="r" b="b"/>
              <a:pathLst>
                <a:path w="241" h="360">
                  <a:moveTo>
                    <a:pt x="0" y="360"/>
                  </a:moveTo>
                  <a:lnTo>
                    <a:pt x="35" y="360"/>
                  </a:lnTo>
                  <a:lnTo>
                    <a:pt x="60" y="358"/>
                  </a:lnTo>
                  <a:lnTo>
                    <a:pt x="83" y="356"/>
                  </a:lnTo>
                  <a:lnTo>
                    <a:pt x="104" y="352"/>
                  </a:lnTo>
                  <a:lnTo>
                    <a:pt x="125" y="348"/>
                  </a:lnTo>
                  <a:lnTo>
                    <a:pt x="142" y="342"/>
                  </a:lnTo>
                  <a:lnTo>
                    <a:pt x="159" y="333"/>
                  </a:lnTo>
                  <a:lnTo>
                    <a:pt x="174" y="324"/>
                  </a:lnTo>
                  <a:lnTo>
                    <a:pt x="189" y="313"/>
                  </a:lnTo>
                  <a:lnTo>
                    <a:pt x="201" y="301"/>
                  </a:lnTo>
                  <a:lnTo>
                    <a:pt x="211" y="288"/>
                  </a:lnTo>
                  <a:lnTo>
                    <a:pt x="221" y="274"/>
                  </a:lnTo>
                  <a:lnTo>
                    <a:pt x="228" y="257"/>
                  </a:lnTo>
                  <a:lnTo>
                    <a:pt x="234" y="241"/>
                  </a:lnTo>
                  <a:lnTo>
                    <a:pt x="237" y="222"/>
                  </a:lnTo>
                  <a:lnTo>
                    <a:pt x="240" y="202"/>
                  </a:lnTo>
                  <a:lnTo>
                    <a:pt x="241" y="180"/>
                  </a:lnTo>
                  <a:lnTo>
                    <a:pt x="240" y="159"/>
                  </a:lnTo>
                  <a:lnTo>
                    <a:pt x="237" y="139"/>
                  </a:lnTo>
                  <a:lnTo>
                    <a:pt x="234" y="121"/>
                  </a:lnTo>
                  <a:lnTo>
                    <a:pt x="228" y="103"/>
                  </a:lnTo>
                  <a:lnTo>
                    <a:pt x="221" y="86"/>
                  </a:lnTo>
                  <a:lnTo>
                    <a:pt x="212" y="72"/>
                  </a:lnTo>
                  <a:lnTo>
                    <a:pt x="202" y="58"/>
                  </a:lnTo>
                  <a:lnTo>
                    <a:pt x="190" y="46"/>
                  </a:lnTo>
                  <a:lnTo>
                    <a:pt x="177" y="35"/>
                  </a:lnTo>
                  <a:lnTo>
                    <a:pt x="163" y="26"/>
                  </a:lnTo>
                  <a:lnTo>
                    <a:pt x="146" y="17"/>
                  </a:lnTo>
                  <a:lnTo>
                    <a:pt x="129" y="12"/>
                  </a:lnTo>
                  <a:lnTo>
                    <a:pt x="110" y="6"/>
                  </a:lnTo>
                  <a:lnTo>
                    <a:pt x="90" y="2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4924440" y="3317760"/>
              <a:ext cx="28584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0" y="1435"/>
                  </a:moveTo>
                  <a:lnTo>
                    <a:pt x="0" y="0"/>
                  </a:lnTo>
                  <a:lnTo>
                    <a:pt x="406" y="0"/>
                  </a:lnTo>
                  <a:lnTo>
                    <a:pt x="441" y="0"/>
                  </a:lnTo>
                  <a:lnTo>
                    <a:pt x="475" y="2"/>
                  </a:lnTo>
                  <a:lnTo>
                    <a:pt x="507" y="3"/>
                  </a:lnTo>
                  <a:lnTo>
                    <a:pt x="539" y="7"/>
                  </a:lnTo>
                  <a:lnTo>
                    <a:pt x="570" y="12"/>
                  </a:lnTo>
                  <a:lnTo>
                    <a:pt x="600" y="16"/>
                  </a:lnTo>
                  <a:lnTo>
                    <a:pt x="628" y="22"/>
                  </a:lnTo>
                  <a:lnTo>
                    <a:pt x="656" y="30"/>
                  </a:lnTo>
                  <a:lnTo>
                    <a:pt x="682" y="37"/>
                  </a:lnTo>
                  <a:lnTo>
                    <a:pt x="708" y="45"/>
                  </a:lnTo>
                  <a:lnTo>
                    <a:pt x="732" y="54"/>
                  </a:lnTo>
                  <a:lnTo>
                    <a:pt x="755" y="65"/>
                  </a:lnTo>
                  <a:lnTo>
                    <a:pt x="778" y="77"/>
                  </a:lnTo>
                  <a:lnTo>
                    <a:pt x="799" y="89"/>
                  </a:lnTo>
                  <a:lnTo>
                    <a:pt x="820" y="102"/>
                  </a:lnTo>
                  <a:lnTo>
                    <a:pt x="839" y="116"/>
                  </a:lnTo>
                  <a:lnTo>
                    <a:pt x="856" y="131"/>
                  </a:lnTo>
                  <a:lnTo>
                    <a:pt x="874" y="147"/>
                  </a:lnTo>
                  <a:lnTo>
                    <a:pt x="890" y="164"/>
                  </a:lnTo>
                  <a:lnTo>
                    <a:pt x="904" y="180"/>
                  </a:lnTo>
                  <a:lnTo>
                    <a:pt x="917" y="199"/>
                  </a:lnTo>
                  <a:lnTo>
                    <a:pt x="930" y="218"/>
                  </a:lnTo>
                  <a:lnTo>
                    <a:pt x="941" y="237"/>
                  </a:lnTo>
                  <a:lnTo>
                    <a:pt x="950" y="259"/>
                  </a:lnTo>
                  <a:lnTo>
                    <a:pt x="960" y="280"/>
                  </a:lnTo>
                  <a:lnTo>
                    <a:pt x="967" y="303"/>
                  </a:lnTo>
                  <a:lnTo>
                    <a:pt x="974" y="325"/>
                  </a:lnTo>
                  <a:lnTo>
                    <a:pt x="979" y="349"/>
                  </a:lnTo>
                  <a:lnTo>
                    <a:pt x="982" y="374"/>
                  </a:lnTo>
                  <a:lnTo>
                    <a:pt x="986" y="400"/>
                  </a:lnTo>
                  <a:lnTo>
                    <a:pt x="987" y="426"/>
                  </a:lnTo>
                  <a:lnTo>
                    <a:pt x="988" y="454"/>
                  </a:lnTo>
                  <a:lnTo>
                    <a:pt x="987" y="485"/>
                  </a:lnTo>
                  <a:lnTo>
                    <a:pt x="985" y="515"/>
                  </a:lnTo>
                  <a:lnTo>
                    <a:pt x="980" y="544"/>
                  </a:lnTo>
                  <a:lnTo>
                    <a:pt x="973" y="572"/>
                  </a:lnTo>
                  <a:lnTo>
                    <a:pt x="965" y="600"/>
                  </a:lnTo>
                  <a:lnTo>
                    <a:pt x="954" y="626"/>
                  </a:lnTo>
                  <a:lnTo>
                    <a:pt x="942" y="651"/>
                  </a:lnTo>
                  <a:lnTo>
                    <a:pt x="928" y="675"/>
                  </a:lnTo>
                  <a:lnTo>
                    <a:pt x="911" y="697"/>
                  </a:lnTo>
                  <a:lnTo>
                    <a:pt x="894" y="717"/>
                  </a:lnTo>
                  <a:lnTo>
                    <a:pt x="875" y="736"/>
                  </a:lnTo>
                  <a:lnTo>
                    <a:pt x="855" y="754"/>
                  </a:lnTo>
                  <a:lnTo>
                    <a:pt x="834" y="770"/>
                  </a:lnTo>
                  <a:lnTo>
                    <a:pt x="811" y="783"/>
                  </a:lnTo>
                  <a:lnTo>
                    <a:pt x="786" y="795"/>
                  </a:lnTo>
                  <a:lnTo>
                    <a:pt x="760" y="804"/>
                  </a:lnTo>
                  <a:lnTo>
                    <a:pt x="1076" y="1435"/>
                  </a:lnTo>
                  <a:lnTo>
                    <a:pt x="669" y="1435"/>
                  </a:lnTo>
                  <a:lnTo>
                    <a:pt x="372" y="821"/>
                  </a:lnTo>
                  <a:lnTo>
                    <a:pt x="372" y="1435"/>
                  </a:lnTo>
                  <a:lnTo>
                    <a:pt x="0" y="143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5241960" y="331776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5">
                  <a:moveTo>
                    <a:pt x="897" y="1039"/>
                  </a:moveTo>
                  <a:lnTo>
                    <a:pt x="797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854" y="381"/>
                  </a:lnTo>
                  <a:lnTo>
                    <a:pt x="371" y="381"/>
                  </a:lnTo>
                  <a:lnTo>
                    <a:pt x="371" y="527"/>
                  </a:lnTo>
                  <a:lnTo>
                    <a:pt x="695" y="527"/>
                  </a:lnTo>
                  <a:lnTo>
                    <a:pt x="695" y="906"/>
                  </a:lnTo>
                  <a:lnTo>
                    <a:pt x="371" y="906"/>
                  </a:lnTo>
                  <a:lnTo>
                    <a:pt x="371" y="1039"/>
                  </a:lnTo>
                  <a:lnTo>
                    <a:pt x="897" y="103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5616720" y="3416400"/>
              <a:ext cx="83880" cy="180720"/>
            </a:xfrm>
            <a:custGeom>
              <a:avLst/>
              <a:gdLst/>
              <a:ahLst/>
              <a:rect l="l" t="t" r="r" b="b"/>
              <a:pathLst>
                <a:path w="318" h="679">
                  <a:moveTo>
                    <a:pt x="0" y="679"/>
                  </a:moveTo>
                  <a:lnTo>
                    <a:pt x="18" y="677"/>
                  </a:lnTo>
                  <a:lnTo>
                    <a:pt x="36" y="674"/>
                  </a:lnTo>
                  <a:lnTo>
                    <a:pt x="53" y="671"/>
                  </a:lnTo>
                  <a:lnTo>
                    <a:pt x="69" y="667"/>
                  </a:lnTo>
                  <a:lnTo>
                    <a:pt x="85" y="663"/>
                  </a:lnTo>
                  <a:lnTo>
                    <a:pt x="100" y="658"/>
                  </a:lnTo>
                  <a:lnTo>
                    <a:pt x="116" y="652"/>
                  </a:lnTo>
                  <a:lnTo>
                    <a:pt x="130" y="646"/>
                  </a:lnTo>
                  <a:lnTo>
                    <a:pt x="144" y="639"/>
                  </a:lnTo>
                  <a:lnTo>
                    <a:pt x="158" y="630"/>
                  </a:lnTo>
                  <a:lnTo>
                    <a:pt x="171" y="622"/>
                  </a:lnTo>
                  <a:lnTo>
                    <a:pt x="184" y="614"/>
                  </a:lnTo>
                  <a:lnTo>
                    <a:pt x="196" y="604"/>
                  </a:lnTo>
                  <a:lnTo>
                    <a:pt x="208" y="595"/>
                  </a:lnTo>
                  <a:lnTo>
                    <a:pt x="220" y="584"/>
                  </a:lnTo>
                  <a:lnTo>
                    <a:pt x="231" y="572"/>
                  </a:lnTo>
                  <a:lnTo>
                    <a:pt x="241" y="562"/>
                  </a:lnTo>
                  <a:lnTo>
                    <a:pt x="251" y="549"/>
                  </a:lnTo>
                  <a:lnTo>
                    <a:pt x="260" y="537"/>
                  </a:lnTo>
                  <a:lnTo>
                    <a:pt x="269" y="524"/>
                  </a:lnTo>
                  <a:lnTo>
                    <a:pt x="277" y="511"/>
                  </a:lnTo>
                  <a:lnTo>
                    <a:pt x="284" y="497"/>
                  </a:lnTo>
                  <a:lnTo>
                    <a:pt x="290" y="483"/>
                  </a:lnTo>
                  <a:lnTo>
                    <a:pt x="296" y="469"/>
                  </a:lnTo>
                  <a:lnTo>
                    <a:pt x="301" y="455"/>
                  </a:lnTo>
                  <a:lnTo>
                    <a:pt x="306" y="439"/>
                  </a:lnTo>
                  <a:lnTo>
                    <a:pt x="309" y="424"/>
                  </a:lnTo>
                  <a:lnTo>
                    <a:pt x="312" y="408"/>
                  </a:lnTo>
                  <a:lnTo>
                    <a:pt x="314" y="393"/>
                  </a:lnTo>
                  <a:lnTo>
                    <a:pt x="316" y="376"/>
                  </a:lnTo>
                  <a:lnTo>
                    <a:pt x="318" y="360"/>
                  </a:lnTo>
                  <a:lnTo>
                    <a:pt x="318" y="342"/>
                  </a:lnTo>
                  <a:lnTo>
                    <a:pt x="318" y="324"/>
                  </a:lnTo>
                  <a:lnTo>
                    <a:pt x="316" y="306"/>
                  </a:lnTo>
                  <a:lnTo>
                    <a:pt x="314" y="288"/>
                  </a:lnTo>
                  <a:lnTo>
                    <a:pt x="312" y="271"/>
                  </a:lnTo>
                  <a:lnTo>
                    <a:pt x="309" y="254"/>
                  </a:lnTo>
                  <a:lnTo>
                    <a:pt x="306" y="238"/>
                  </a:lnTo>
                  <a:lnTo>
                    <a:pt x="301" y="222"/>
                  </a:lnTo>
                  <a:lnTo>
                    <a:pt x="296" y="206"/>
                  </a:lnTo>
                  <a:lnTo>
                    <a:pt x="290" y="192"/>
                  </a:lnTo>
                  <a:lnTo>
                    <a:pt x="283" y="177"/>
                  </a:lnTo>
                  <a:lnTo>
                    <a:pt x="276" y="162"/>
                  </a:lnTo>
                  <a:lnTo>
                    <a:pt x="269" y="149"/>
                  </a:lnTo>
                  <a:lnTo>
                    <a:pt x="259" y="135"/>
                  </a:lnTo>
                  <a:lnTo>
                    <a:pt x="251" y="122"/>
                  </a:lnTo>
                  <a:lnTo>
                    <a:pt x="240" y="110"/>
                  </a:lnTo>
                  <a:lnTo>
                    <a:pt x="230" y="97"/>
                  </a:lnTo>
                  <a:lnTo>
                    <a:pt x="219" y="86"/>
                  </a:lnTo>
                  <a:lnTo>
                    <a:pt x="207" y="76"/>
                  </a:lnTo>
                  <a:lnTo>
                    <a:pt x="195" y="65"/>
                  </a:lnTo>
                  <a:lnTo>
                    <a:pt x="182" y="56"/>
                  </a:lnTo>
                  <a:lnTo>
                    <a:pt x="170" y="47"/>
                  </a:lnTo>
                  <a:lnTo>
                    <a:pt x="156" y="39"/>
                  </a:lnTo>
                  <a:lnTo>
                    <a:pt x="143" y="32"/>
                  </a:lnTo>
                  <a:lnTo>
                    <a:pt x="129" y="26"/>
                  </a:lnTo>
                  <a:lnTo>
                    <a:pt x="114" y="20"/>
                  </a:lnTo>
                  <a:lnTo>
                    <a:pt x="99" y="15"/>
                  </a:lnTo>
                  <a:lnTo>
                    <a:pt x="83" y="10"/>
                  </a:lnTo>
                  <a:lnTo>
                    <a:pt x="68" y="7"/>
                  </a:lnTo>
                  <a:lnTo>
                    <a:pt x="51" y="3"/>
                  </a:lnTo>
                  <a:lnTo>
                    <a:pt x="35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679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518080" y="3317760"/>
              <a:ext cx="284400" cy="379440"/>
            </a:xfrm>
            <a:custGeom>
              <a:avLst/>
              <a:gdLst/>
              <a:ahLst/>
              <a:rect l="l" t="t" r="r" b="b"/>
              <a:pathLst>
                <a:path w="1076" h="1435">
                  <a:moveTo>
                    <a:pt x="216" y="0"/>
                  </a:moveTo>
                  <a:lnTo>
                    <a:pt x="266" y="0"/>
                  </a:lnTo>
                  <a:lnTo>
                    <a:pt x="313" y="1"/>
                  </a:lnTo>
                  <a:lnTo>
                    <a:pt x="358" y="3"/>
                  </a:lnTo>
                  <a:lnTo>
                    <a:pt x="400" y="7"/>
                  </a:lnTo>
                  <a:lnTo>
                    <a:pt x="439" y="11"/>
                  </a:lnTo>
                  <a:lnTo>
                    <a:pt x="476" y="14"/>
                  </a:lnTo>
                  <a:lnTo>
                    <a:pt x="511" y="20"/>
                  </a:lnTo>
                  <a:lnTo>
                    <a:pt x="543" y="26"/>
                  </a:lnTo>
                  <a:lnTo>
                    <a:pt x="573" y="33"/>
                  </a:lnTo>
                  <a:lnTo>
                    <a:pt x="602" y="41"/>
                  </a:lnTo>
                  <a:lnTo>
                    <a:pt x="630" y="50"/>
                  </a:lnTo>
                  <a:lnTo>
                    <a:pt x="659" y="60"/>
                  </a:lnTo>
                  <a:lnTo>
                    <a:pt x="685" y="71"/>
                  </a:lnTo>
                  <a:lnTo>
                    <a:pt x="711" y="84"/>
                  </a:lnTo>
                  <a:lnTo>
                    <a:pt x="737" y="97"/>
                  </a:lnTo>
                  <a:lnTo>
                    <a:pt x="762" y="111"/>
                  </a:lnTo>
                  <a:lnTo>
                    <a:pt x="781" y="123"/>
                  </a:lnTo>
                  <a:lnTo>
                    <a:pt x="799" y="136"/>
                  </a:lnTo>
                  <a:lnTo>
                    <a:pt x="817" y="150"/>
                  </a:lnTo>
                  <a:lnTo>
                    <a:pt x="834" y="164"/>
                  </a:lnTo>
                  <a:lnTo>
                    <a:pt x="850" y="178"/>
                  </a:lnTo>
                  <a:lnTo>
                    <a:pt x="867" y="192"/>
                  </a:lnTo>
                  <a:lnTo>
                    <a:pt x="882" y="208"/>
                  </a:lnTo>
                  <a:lnTo>
                    <a:pt x="898" y="223"/>
                  </a:lnTo>
                  <a:lnTo>
                    <a:pt x="912" y="239"/>
                  </a:lnTo>
                  <a:lnTo>
                    <a:pt x="925" y="255"/>
                  </a:lnTo>
                  <a:lnTo>
                    <a:pt x="938" y="272"/>
                  </a:lnTo>
                  <a:lnTo>
                    <a:pt x="951" y="290"/>
                  </a:lnTo>
                  <a:lnTo>
                    <a:pt x="963" y="308"/>
                  </a:lnTo>
                  <a:lnTo>
                    <a:pt x="975" y="325"/>
                  </a:lnTo>
                  <a:lnTo>
                    <a:pt x="986" y="344"/>
                  </a:lnTo>
                  <a:lnTo>
                    <a:pt x="995" y="363"/>
                  </a:lnTo>
                  <a:lnTo>
                    <a:pt x="1006" y="384"/>
                  </a:lnTo>
                  <a:lnTo>
                    <a:pt x="1014" y="404"/>
                  </a:lnTo>
                  <a:lnTo>
                    <a:pt x="1022" y="424"/>
                  </a:lnTo>
                  <a:lnTo>
                    <a:pt x="1031" y="445"/>
                  </a:lnTo>
                  <a:lnTo>
                    <a:pt x="1038" y="467"/>
                  </a:lnTo>
                  <a:lnTo>
                    <a:pt x="1044" y="488"/>
                  </a:lnTo>
                  <a:lnTo>
                    <a:pt x="1050" y="511"/>
                  </a:lnTo>
                  <a:lnTo>
                    <a:pt x="1056" y="533"/>
                  </a:lnTo>
                  <a:lnTo>
                    <a:pt x="1061" y="556"/>
                  </a:lnTo>
                  <a:lnTo>
                    <a:pt x="1064" y="578"/>
                  </a:lnTo>
                  <a:lnTo>
                    <a:pt x="1068" y="602"/>
                  </a:lnTo>
                  <a:lnTo>
                    <a:pt x="1071" y="626"/>
                  </a:lnTo>
                  <a:lnTo>
                    <a:pt x="1072" y="651"/>
                  </a:lnTo>
                  <a:lnTo>
                    <a:pt x="1075" y="676"/>
                  </a:lnTo>
                  <a:lnTo>
                    <a:pt x="1075" y="701"/>
                  </a:lnTo>
                  <a:lnTo>
                    <a:pt x="1076" y="726"/>
                  </a:lnTo>
                  <a:lnTo>
                    <a:pt x="1075" y="749"/>
                  </a:lnTo>
                  <a:lnTo>
                    <a:pt x="1075" y="772"/>
                  </a:lnTo>
                  <a:lnTo>
                    <a:pt x="1072" y="795"/>
                  </a:lnTo>
                  <a:lnTo>
                    <a:pt x="1070" y="817"/>
                  </a:lnTo>
                  <a:lnTo>
                    <a:pt x="1066" y="839"/>
                  </a:lnTo>
                  <a:lnTo>
                    <a:pt x="1063" y="861"/>
                  </a:lnTo>
                  <a:lnTo>
                    <a:pt x="1058" y="883"/>
                  </a:lnTo>
                  <a:lnTo>
                    <a:pt x="1053" y="904"/>
                  </a:lnTo>
                  <a:lnTo>
                    <a:pt x="1047" y="925"/>
                  </a:lnTo>
                  <a:lnTo>
                    <a:pt x="1041" y="945"/>
                  </a:lnTo>
                  <a:lnTo>
                    <a:pt x="1034" y="967"/>
                  </a:lnTo>
                  <a:lnTo>
                    <a:pt x="1026" y="987"/>
                  </a:lnTo>
                  <a:lnTo>
                    <a:pt x="1018" y="1007"/>
                  </a:lnTo>
                  <a:lnTo>
                    <a:pt x="1008" y="1026"/>
                  </a:lnTo>
                  <a:lnTo>
                    <a:pt x="998" y="1046"/>
                  </a:lnTo>
                  <a:lnTo>
                    <a:pt x="987" y="1065"/>
                  </a:lnTo>
                  <a:lnTo>
                    <a:pt x="976" y="1084"/>
                  </a:lnTo>
                  <a:lnTo>
                    <a:pt x="964" y="1103"/>
                  </a:lnTo>
                  <a:lnTo>
                    <a:pt x="951" y="1121"/>
                  </a:lnTo>
                  <a:lnTo>
                    <a:pt x="938" y="1139"/>
                  </a:lnTo>
                  <a:lnTo>
                    <a:pt x="925" y="1157"/>
                  </a:lnTo>
                  <a:lnTo>
                    <a:pt x="911" y="1174"/>
                  </a:lnTo>
                  <a:lnTo>
                    <a:pt x="897" y="1190"/>
                  </a:lnTo>
                  <a:lnTo>
                    <a:pt x="881" y="1206"/>
                  </a:lnTo>
                  <a:lnTo>
                    <a:pt x="865" y="1222"/>
                  </a:lnTo>
                  <a:lnTo>
                    <a:pt x="849" y="1237"/>
                  </a:lnTo>
                  <a:lnTo>
                    <a:pt x="831" y="1252"/>
                  </a:lnTo>
                  <a:lnTo>
                    <a:pt x="815" y="1266"/>
                  </a:lnTo>
                  <a:lnTo>
                    <a:pt x="796" y="1279"/>
                  </a:lnTo>
                  <a:lnTo>
                    <a:pt x="778" y="1292"/>
                  </a:lnTo>
                  <a:lnTo>
                    <a:pt x="758" y="1305"/>
                  </a:lnTo>
                  <a:lnTo>
                    <a:pt x="739" y="1319"/>
                  </a:lnTo>
                  <a:lnTo>
                    <a:pt x="712" y="1333"/>
                  </a:lnTo>
                  <a:lnTo>
                    <a:pt x="686" y="1347"/>
                  </a:lnTo>
                  <a:lnTo>
                    <a:pt x="660" y="1359"/>
                  </a:lnTo>
                  <a:lnTo>
                    <a:pt x="632" y="1371"/>
                  </a:lnTo>
                  <a:lnTo>
                    <a:pt x="603" y="1381"/>
                  </a:lnTo>
                  <a:lnTo>
                    <a:pt x="573" y="1391"/>
                  </a:lnTo>
                  <a:lnTo>
                    <a:pt x="544" y="1399"/>
                  </a:lnTo>
                  <a:lnTo>
                    <a:pt x="513" y="1408"/>
                  </a:lnTo>
                  <a:lnTo>
                    <a:pt x="481" y="1414"/>
                  </a:lnTo>
                  <a:lnTo>
                    <a:pt x="448" y="1419"/>
                  </a:lnTo>
                  <a:lnTo>
                    <a:pt x="412" y="1424"/>
                  </a:lnTo>
                  <a:lnTo>
                    <a:pt x="376" y="1428"/>
                  </a:lnTo>
                  <a:lnTo>
                    <a:pt x="338" y="1431"/>
                  </a:lnTo>
                  <a:lnTo>
                    <a:pt x="299" y="1434"/>
                  </a:lnTo>
                  <a:lnTo>
                    <a:pt x="257" y="1435"/>
                  </a:lnTo>
                  <a:lnTo>
                    <a:pt x="216" y="1435"/>
                  </a:lnTo>
                  <a:lnTo>
                    <a:pt x="0" y="1435"/>
                  </a:lnTo>
                  <a:lnTo>
                    <a:pt x="0" y="0"/>
                  </a:lnTo>
                  <a:lnTo>
                    <a:pt x="216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695760" y="3887640"/>
              <a:ext cx="252360" cy="379440"/>
            </a:xfrm>
            <a:custGeom>
              <a:avLst/>
              <a:gdLst/>
              <a:ahLst/>
              <a:rect l="l" t="t" r="r" b="b"/>
              <a:pathLst>
                <a:path w="956" h="1436">
                  <a:moveTo>
                    <a:pt x="665" y="364"/>
                  </a:moveTo>
                  <a:lnTo>
                    <a:pt x="665" y="1436"/>
                  </a:lnTo>
                  <a:lnTo>
                    <a:pt x="291" y="1436"/>
                  </a:lnTo>
                  <a:lnTo>
                    <a:pt x="291" y="364"/>
                  </a:lnTo>
                  <a:lnTo>
                    <a:pt x="0" y="364"/>
                  </a:lnTo>
                  <a:lnTo>
                    <a:pt x="39" y="0"/>
                  </a:lnTo>
                  <a:lnTo>
                    <a:pt x="916" y="0"/>
                  </a:lnTo>
                  <a:lnTo>
                    <a:pt x="956" y="364"/>
                  </a:lnTo>
                  <a:lnTo>
                    <a:pt x="665" y="364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4064040" y="3983040"/>
              <a:ext cx="181080" cy="189000"/>
            </a:xfrm>
            <a:custGeom>
              <a:avLst/>
              <a:gdLst/>
              <a:ahLst/>
              <a:rect l="l" t="t" r="r" b="b"/>
              <a:pathLst>
                <a:path w="683" h="710">
                  <a:moveTo>
                    <a:pt x="340" y="0"/>
                  </a:moveTo>
                  <a:lnTo>
                    <a:pt x="323" y="0"/>
                  </a:lnTo>
                  <a:lnTo>
                    <a:pt x="305" y="2"/>
                  </a:lnTo>
                  <a:lnTo>
                    <a:pt x="288" y="3"/>
                  </a:lnTo>
                  <a:lnTo>
                    <a:pt x="272" y="7"/>
                  </a:lnTo>
                  <a:lnTo>
                    <a:pt x="255" y="10"/>
                  </a:lnTo>
                  <a:lnTo>
                    <a:pt x="238" y="14"/>
                  </a:lnTo>
                  <a:lnTo>
                    <a:pt x="223" y="20"/>
                  </a:lnTo>
                  <a:lnTo>
                    <a:pt x="207" y="26"/>
                  </a:lnTo>
                  <a:lnTo>
                    <a:pt x="192" y="32"/>
                  </a:lnTo>
                  <a:lnTo>
                    <a:pt x="178" y="40"/>
                  </a:lnTo>
                  <a:lnTo>
                    <a:pt x="163" y="48"/>
                  </a:lnTo>
                  <a:lnTo>
                    <a:pt x="149" y="58"/>
                  </a:lnTo>
                  <a:lnTo>
                    <a:pt x="136" y="67"/>
                  </a:lnTo>
                  <a:lnTo>
                    <a:pt x="123" y="78"/>
                  </a:lnTo>
                  <a:lnTo>
                    <a:pt x="110" y="90"/>
                  </a:lnTo>
                  <a:lnTo>
                    <a:pt x="98" y="102"/>
                  </a:lnTo>
                  <a:lnTo>
                    <a:pt x="86" y="115"/>
                  </a:lnTo>
                  <a:lnTo>
                    <a:pt x="74" y="129"/>
                  </a:lnTo>
                  <a:lnTo>
                    <a:pt x="65" y="142"/>
                  </a:lnTo>
                  <a:lnTo>
                    <a:pt x="55" y="156"/>
                  </a:lnTo>
                  <a:lnTo>
                    <a:pt x="46" y="171"/>
                  </a:lnTo>
                  <a:lnTo>
                    <a:pt x="38" y="186"/>
                  </a:lnTo>
                  <a:lnTo>
                    <a:pt x="30" y="202"/>
                  </a:lnTo>
                  <a:lnTo>
                    <a:pt x="25" y="217"/>
                  </a:lnTo>
                  <a:lnTo>
                    <a:pt x="19" y="232"/>
                  </a:lnTo>
                  <a:lnTo>
                    <a:pt x="14" y="249"/>
                  </a:lnTo>
                  <a:lnTo>
                    <a:pt x="9" y="266"/>
                  </a:lnTo>
                  <a:lnTo>
                    <a:pt x="6" y="284"/>
                  </a:lnTo>
                  <a:lnTo>
                    <a:pt x="3" y="300"/>
                  </a:lnTo>
                  <a:lnTo>
                    <a:pt x="1" y="318"/>
                  </a:lnTo>
                  <a:lnTo>
                    <a:pt x="0" y="337"/>
                  </a:lnTo>
                  <a:lnTo>
                    <a:pt x="0" y="355"/>
                  </a:lnTo>
                  <a:lnTo>
                    <a:pt x="0" y="374"/>
                  </a:lnTo>
                  <a:lnTo>
                    <a:pt x="1" y="393"/>
                  </a:lnTo>
                  <a:lnTo>
                    <a:pt x="3" y="411"/>
                  </a:lnTo>
                  <a:lnTo>
                    <a:pt x="6" y="429"/>
                  </a:lnTo>
                  <a:lnTo>
                    <a:pt x="9" y="445"/>
                  </a:lnTo>
                  <a:lnTo>
                    <a:pt x="14" y="462"/>
                  </a:lnTo>
                  <a:lnTo>
                    <a:pt x="19" y="478"/>
                  </a:lnTo>
                  <a:lnTo>
                    <a:pt x="25" y="494"/>
                  </a:lnTo>
                  <a:lnTo>
                    <a:pt x="30" y="510"/>
                  </a:lnTo>
                  <a:lnTo>
                    <a:pt x="38" y="525"/>
                  </a:lnTo>
                  <a:lnTo>
                    <a:pt x="46" y="540"/>
                  </a:lnTo>
                  <a:lnTo>
                    <a:pt x="54" y="554"/>
                  </a:lnTo>
                  <a:lnTo>
                    <a:pt x="64" y="569"/>
                  </a:lnTo>
                  <a:lnTo>
                    <a:pt x="74" y="582"/>
                  </a:lnTo>
                  <a:lnTo>
                    <a:pt x="85" y="596"/>
                  </a:lnTo>
                  <a:lnTo>
                    <a:pt x="97" y="608"/>
                  </a:lnTo>
                  <a:lnTo>
                    <a:pt x="110" y="621"/>
                  </a:lnTo>
                  <a:lnTo>
                    <a:pt x="122" y="633"/>
                  </a:lnTo>
                  <a:lnTo>
                    <a:pt x="135" y="644"/>
                  </a:lnTo>
                  <a:lnTo>
                    <a:pt x="149" y="653"/>
                  </a:lnTo>
                  <a:lnTo>
                    <a:pt x="163" y="663"/>
                  </a:lnTo>
                  <a:lnTo>
                    <a:pt x="178" y="671"/>
                  </a:lnTo>
                  <a:lnTo>
                    <a:pt x="192" y="678"/>
                  </a:lnTo>
                  <a:lnTo>
                    <a:pt x="207" y="685"/>
                  </a:lnTo>
                  <a:lnTo>
                    <a:pt x="223" y="691"/>
                  </a:lnTo>
                  <a:lnTo>
                    <a:pt x="238" y="696"/>
                  </a:lnTo>
                  <a:lnTo>
                    <a:pt x="254" y="701"/>
                  </a:lnTo>
                  <a:lnTo>
                    <a:pt x="270" y="704"/>
                  </a:lnTo>
                  <a:lnTo>
                    <a:pt x="288" y="706"/>
                  </a:lnTo>
                  <a:lnTo>
                    <a:pt x="305" y="709"/>
                  </a:lnTo>
                  <a:lnTo>
                    <a:pt x="323" y="710"/>
                  </a:lnTo>
                  <a:lnTo>
                    <a:pt x="340" y="710"/>
                  </a:lnTo>
                  <a:lnTo>
                    <a:pt x="358" y="710"/>
                  </a:lnTo>
                  <a:lnTo>
                    <a:pt x="376" y="709"/>
                  </a:lnTo>
                  <a:lnTo>
                    <a:pt x="394" y="706"/>
                  </a:lnTo>
                  <a:lnTo>
                    <a:pt x="411" y="704"/>
                  </a:lnTo>
                  <a:lnTo>
                    <a:pt x="427" y="701"/>
                  </a:lnTo>
                  <a:lnTo>
                    <a:pt x="443" y="696"/>
                  </a:lnTo>
                  <a:lnTo>
                    <a:pt x="459" y="691"/>
                  </a:lnTo>
                  <a:lnTo>
                    <a:pt x="475" y="685"/>
                  </a:lnTo>
                  <a:lnTo>
                    <a:pt x="489" y="678"/>
                  </a:lnTo>
                  <a:lnTo>
                    <a:pt x="504" y="671"/>
                  </a:lnTo>
                  <a:lnTo>
                    <a:pt x="519" y="663"/>
                  </a:lnTo>
                  <a:lnTo>
                    <a:pt x="532" y="653"/>
                  </a:lnTo>
                  <a:lnTo>
                    <a:pt x="546" y="642"/>
                  </a:lnTo>
                  <a:lnTo>
                    <a:pt x="559" y="632"/>
                  </a:lnTo>
                  <a:lnTo>
                    <a:pt x="572" y="621"/>
                  </a:lnTo>
                  <a:lnTo>
                    <a:pt x="584" y="608"/>
                  </a:lnTo>
                  <a:lnTo>
                    <a:pt x="596" y="595"/>
                  </a:lnTo>
                  <a:lnTo>
                    <a:pt x="607" y="582"/>
                  </a:lnTo>
                  <a:lnTo>
                    <a:pt x="617" y="567"/>
                  </a:lnTo>
                  <a:lnTo>
                    <a:pt x="627" y="554"/>
                  </a:lnTo>
                  <a:lnTo>
                    <a:pt x="636" y="539"/>
                  </a:lnTo>
                  <a:lnTo>
                    <a:pt x="643" y="525"/>
                  </a:lnTo>
                  <a:lnTo>
                    <a:pt x="651" y="509"/>
                  </a:lnTo>
                  <a:lnTo>
                    <a:pt x="658" y="494"/>
                  </a:lnTo>
                  <a:lnTo>
                    <a:pt x="664" y="477"/>
                  </a:lnTo>
                  <a:lnTo>
                    <a:pt x="668" y="462"/>
                  </a:lnTo>
                  <a:lnTo>
                    <a:pt x="672" y="445"/>
                  </a:lnTo>
                  <a:lnTo>
                    <a:pt x="675" y="427"/>
                  </a:lnTo>
                  <a:lnTo>
                    <a:pt x="679" y="411"/>
                  </a:lnTo>
                  <a:lnTo>
                    <a:pt x="680" y="393"/>
                  </a:lnTo>
                  <a:lnTo>
                    <a:pt x="681" y="374"/>
                  </a:lnTo>
                  <a:lnTo>
                    <a:pt x="683" y="355"/>
                  </a:lnTo>
                  <a:lnTo>
                    <a:pt x="681" y="337"/>
                  </a:lnTo>
                  <a:lnTo>
                    <a:pt x="680" y="319"/>
                  </a:lnTo>
                  <a:lnTo>
                    <a:pt x="679" y="301"/>
                  </a:lnTo>
                  <a:lnTo>
                    <a:pt x="675" y="284"/>
                  </a:lnTo>
                  <a:lnTo>
                    <a:pt x="672" y="267"/>
                  </a:lnTo>
                  <a:lnTo>
                    <a:pt x="668" y="250"/>
                  </a:lnTo>
                  <a:lnTo>
                    <a:pt x="664" y="234"/>
                  </a:lnTo>
                  <a:lnTo>
                    <a:pt x="658" y="217"/>
                  </a:lnTo>
                  <a:lnTo>
                    <a:pt x="651" y="202"/>
                  </a:lnTo>
                  <a:lnTo>
                    <a:pt x="643" y="186"/>
                  </a:lnTo>
                  <a:lnTo>
                    <a:pt x="636" y="172"/>
                  </a:lnTo>
                  <a:lnTo>
                    <a:pt x="627" y="158"/>
                  </a:lnTo>
                  <a:lnTo>
                    <a:pt x="617" y="143"/>
                  </a:lnTo>
                  <a:lnTo>
                    <a:pt x="607" y="129"/>
                  </a:lnTo>
                  <a:lnTo>
                    <a:pt x="596" y="116"/>
                  </a:lnTo>
                  <a:lnTo>
                    <a:pt x="584" y="103"/>
                  </a:lnTo>
                  <a:lnTo>
                    <a:pt x="572" y="90"/>
                  </a:lnTo>
                  <a:lnTo>
                    <a:pt x="559" y="79"/>
                  </a:lnTo>
                  <a:lnTo>
                    <a:pt x="546" y="67"/>
                  </a:lnTo>
                  <a:lnTo>
                    <a:pt x="532" y="58"/>
                  </a:lnTo>
                  <a:lnTo>
                    <a:pt x="519" y="48"/>
                  </a:lnTo>
                  <a:lnTo>
                    <a:pt x="504" y="40"/>
                  </a:lnTo>
                  <a:lnTo>
                    <a:pt x="489" y="33"/>
                  </a:lnTo>
                  <a:lnTo>
                    <a:pt x="475" y="26"/>
                  </a:lnTo>
                  <a:lnTo>
                    <a:pt x="459" y="20"/>
                  </a:lnTo>
                  <a:lnTo>
                    <a:pt x="443" y="14"/>
                  </a:lnTo>
                  <a:lnTo>
                    <a:pt x="427" y="10"/>
                  </a:lnTo>
                  <a:lnTo>
                    <a:pt x="411" y="7"/>
                  </a:lnTo>
                  <a:lnTo>
                    <a:pt x="394" y="3"/>
                  </a:lnTo>
                  <a:lnTo>
                    <a:pt x="376" y="2"/>
                  </a:lnTo>
                  <a:lnTo>
                    <a:pt x="358" y="0"/>
                  </a:lnTo>
                  <a:lnTo>
                    <a:pt x="340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3962520" y="3878280"/>
              <a:ext cx="384120" cy="399960"/>
            </a:xfrm>
            <a:custGeom>
              <a:avLst/>
              <a:gdLst/>
              <a:ahLst/>
              <a:rect l="l" t="t" r="r" b="b"/>
              <a:pathLst>
                <a:path w="1453" h="1513">
                  <a:moveTo>
                    <a:pt x="725" y="0"/>
                  </a:moveTo>
                  <a:lnTo>
                    <a:pt x="759" y="2"/>
                  </a:lnTo>
                  <a:lnTo>
                    <a:pt x="792" y="4"/>
                  </a:lnTo>
                  <a:lnTo>
                    <a:pt x="825" y="8"/>
                  </a:lnTo>
                  <a:lnTo>
                    <a:pt x="858" y="12"/>
                  </a:lnTo>
                  <a:lnTo>
                    <a:pt x="890" y="19"/>
                  </a:lnTo>
                  <a:lnTo>
                    <a:pt x="921" y="27"/>
                  </a:lnTo>
                  <a:lnTo>
                    <a:pt x="953" y="36"/>
                  </a:lnTo>
                  <a:lnTo>
                    <a:pt x="984" y="47"/>
                  </a:lnTo>
                  <a:lnTo>
                    <a:pt x="1014" y="59"/>
                  </a:lnTo>
                  <a:lnTo>
                    <a:pt x="1044" y="73"/>
                  </a:lnTo>
                  <a:lnTo>
                    <a:pt x="1071" y="87"/>
                  </a:lnTo>
                  <a:lnTo>
                    <a:pt x="1098" y="103"/>
                  </a:lnTo>
                  <a:lnTo>
                    <a:pt x="1126" y="120"/>
                  </a:lnTo>
                  <a:lnTo>
                    <a:pt x="1151" y="138"/>
                  </a:lnTo>
                  <a:lnTo>
                    <a:pt x="1174" y="158"/>
                  </a:lnTo>
                  <a:lnTo>
                    <a:pt x="1198" y="180"/>
                  </a:lnTo>
                  <a:lnTo>
                    <a:pt x="1228" y="208"/>
                  </a:lnTo>
                  <a:lnTo>
                    <a:pt x="1256" y="238"/>
                  </a:lnTo>
                  <a:lnTo>
                    <a:pt x="1282" y="269"/>
                  </a:lnTo>
                  <a:lnTo>
                    <a:pt x="1307" y="301"/>
                  </a:lnTo>
                  <a:lnTo>
                    <a:pt x="1330" y="334"/>
                  </a:lnTo>
                  <a:lnTo>
                    <a:pt x="1351" y="369"/>
                  </a:lnTo>
                  <a:lnTo>
                    <a:pt x="1370" y="404"/>
                  </a:lnTo>
                  <a:lnTo>
                    <a:pt x="1388" y="441"/>
                  </a:lnTo>
                  <a:lnTo>
                    <a:pt x="1404" y="478"/>
                  </a:lnTo>
                  <a:lnTo>
                    <a:pt x="1417" y="516"/>
                  </a:lnTo>
                  <a:lnTo>
                    <a:pt x="1427" y="555"/>
                  </a:lnTo>
                  <a:lnTo>
                    <a:pt x="1437" y="594"/>
                  </a:lnTo>
                  <a:lnTo>
                    <a:pt x="1444" y="634"/>
                  </a:lnTo>
                  <a:lnTo>
                    <a:pt x="1449" y="674"/>
                  </a:lnTo>
                  <a:lnTo>
                    <a:pt x="1452" y="714"/>
                  </a:lnTo>
                  <a:lnTo>
                    <a:pt x="1453" y="756"/>
                  </a:lnTo>
                  <a:lnTo>
                    <a:pt x="1452" y="796"/>
                  </a:lnTo>
                  <a:lnTo>
                    <a:pt x="1449" y="838"/>
                  </a:lnTo>
                  <a:lnTo>
                    <a:pt x="1444" y="877"/>
                  </a:lnTo>
                  <a:lnTo>
                    <a:pt x="1437" y="918"/>
                  </a:lnTo>
                  <a:lnTo>
                    <a:pt x="1427" y="957"/>
                  </a:lnTo>
                  <a:lnTo>
                    <a:pt x="1415" y="995"/>
                  </a:lnTo>
                  <a:lnTo>
                    <a:pt x="1402" y="1034"/>
                  </a:lnTo>
                  <a:lnTo>
                    <a:pt x="1387" y="1071"/>
                  </a:lnTo>
                  <a:lnTo>
                    <a:pt x="1369" y="1108"/>
                  </a:lnTo>
                  <a:lnTo>
                    <a:pt x="1350" y="1145"/>
                  </a:lnTo>
                  <a:lnTo>
                    <a:pt x="1330" y="1179"/>
                  </a:lnTo>
                  <a:lnTo>
                    <a:pt x="1306" y="1212"/>
                  </a:lnTo>
                  <a:lnTo>
                    <a:pt x="1282" y="1244"/>
                  </a:lnTo>
                  <a:lnTo>
                    <a:pt x="1256" y="1275"/>
                  </a:lnTo>
                  <a:lnTo>
                    <a:pt x="1228" y="1305"/>
                  </a:lnTo>
                  <a:lnTo>
                    <a:pt x="1198" y="1333"/>
                  </a:lnTo>
                  <a:lnTo>
                    <a:pt x="1174" y="1355"/>
                  </a:lnTo>
                  <a:lnTo>
                    <a:pt x="1149" y="1375"/>
                  </a:lnTo>
                  <a:lnTo>
                    <a:pt x="1123" y="1393"/>
                  </a:lnTo>
                  <a:lnTo>
                    <a:pt x="1097" y="1411"/>
                  </a:lnTo>
                  <a:lnTo>
                    <a:pt x="1070" y="1426"/>
                  </a:lnTo>
                  <a:lnTo>
                    <a:pt x="1041" y="1440"/>
                  </a:lnTo>
                  <a:lnTo>
                    <a:pt x="1013" y="1455"/>
                  </a:lnTo>
                  <a:lnTo>
                    <a:pt x="982" y="1466"/>
                  </a:lnTo>
                  <a:lnTo>
                    <a:pt x="951" y="1477"/>
                  </a:lnTo>
                  <a:lnTo>
                    <a:pt x="920" y="1487"/>
                  </a:lnTo>
                  <a:lnTo>
                    <a:pt x="889" y="1494"/>
                  </a:lnTo>
                  <a:lnTo>
                    <a:pt x="857" y="1501"/>
                  </a:lnTo>
                  <a:lnTo>
                    <a:pt x="825" y="1506"/>
                  </a:lnTo>
                  <a:lnTo>
                    <a:pt x="792" y="1509"/>
                  </a:lnTo>
                  <a:lnTo>
                    <a:pt x="759" y="1512"/>
                  </a:lnTo>
                  <a:lnTo>
                    <a:pt x="725" y="1513"/>
                  </a:lnTo>
                  <a:lnTo>
                    <a:pt x="691" y="1512"/>
                  </a:lnTo>
                  <a:lnTo>
                    <a:pt x="659" y="1509"/>
                  </a:lnTo>
                  <a:lnTo>
                    <a:pt x="626" y="1506"/>
                  </a:lnTo>
                  <a:lnTo>
                    <a:pt x="593" y="1501"/>
                  </a:lnTo>
                  <a:lnTo>
                    <a:pt x="561" y="1494"/>
                  </a:lnTo>
                  <a:lnTo>
                    <a:pt x="530" y="1487"/>
                  </a:lnTo>
                  <a:lnTo>
                    <a:pt x="500" y="1477"/>
                  </a:lnTo>
                  <a:lnTo>
                    <a:pt x="469" y="1466"/>
                  </a:lnTo>
                  <a:lnTo>
                    <a:pt x="439" y="1455"/>
                  </a:lnTo>
                  <a:lnTo>
                    <a:pt x="409" y="1440"/>
                  </a:lnTo>
                  <a:lnTo>
                    <a:pt x="382" y="1426"/>
                  </a:lnTo>
                  <a:lnTo>
                    <a:pt x="353" y="1411"/>
                  </a:lnTo>
                  <a:lnTo>
                    <a:pt x="327" y="1393"/>
                  </a:lnTo>
                  <a:lnTo>
                    <a:pt x="301" y="1375"/>
                  </a:lnTo>
                  <a:lnTo>
                    <a:pt x="276" y="1355"/>
                  </a:lnTo>
                  <a:lnTo>
                    <a:pt x="253" y="1333"/>
                  </a:lnTo>
                  <a:lnTo>
                    <a:pt x="223" y="1305"/>
                  </a:lnTo>
                  <a:lnTo>
                    <a:pt x="196" y="1275"/>
                  </a:lnTo>
                  <a:lnTo>
                    <a:pt x="169" y="1244"/>
                  </a:lnTo>
                  <a:lnTo>
                    <a:pt x="144" y="1212"/>
                  </a:lnTo>
                  <a:lnTo>
                    <a:pt x="122" y="1179"/>
                  </a:lnTo>
                  <a:lnTo>
                    <a:pt x="102" y="1145"/>
                  </a:lnTo>
                  <a:lnTo>
                    <a:pt x="83" y="1109"/>
                  </a:lnTo>
                  <a:lnTo>
                    <a:pt x="65" y="1072"/>
                  </a:lnTo>
                  <a:lnTo>
                    <a:pt x="49" y="1034"/>
                  </a:lnTo>
                  <a:lnTo>
                    <a:pt x="36" y="996"/>
                  </a:lnTo>
                  <a:lnTo>
                    <a:pt x="26" y="958"/>
                  </a:lnTo>
                  <a:lnTo>
                    <a:pt x="16" y="918"/>
                  </a:lnTo>
                  <a:lnTo>
                    <a:pt x="9" y="878"/>
                  </a:lnTo>
                  <a:lnTo>
                    <a:pt x="4" y="838"/>
                  </a:lnTo>
                  <a:lnTo>
                    <a:pt x="1" y="798"/>
                  </a:lnTo>
                  <a:lnTo>
                    <a:pt x="0" y="756"/>
                  </a:lnTo>
                  <a:lnTo>
                    <a:pt x="1" y="714"/>
                  </a:lnTo>
                  <a:lnTo>
                    <a:pt x="4" y="674"/>
                  </a:lnTo>
                  <a:lnTo>
                    <a:pt x="9" y="634"/>
                  </a:lnTo>
                  <a:lnTo>
                    <a:pt x="16" y="593"/>
                  </a:lnTo>
                  <a:lnTo>
                    <a:pt x="26" y="554"/>
                  </a:lnTo>
                  <a:lnTo>
                    <a:pt x="36" y="516"/>
                  </a:lnTo>
                  <a:lnTo>
                    <a:pt x="49" y="478"/>
                  </a:lnTo>
                  <a:lnTo>
                    <a:pt x="65" y="440"/>
                  </a:lnTo>
                  <a:lnTo>
                    <a:pt x="81" y="403"/>
                  </a:lnTo>
                  <a:lnTo>
                    <a:pt x="102" y="368"/>
                  </a:lnTo>
                  <a:lnTo>
                    <a:pt x="122" y="333"/>
                  </a:lnTo>
                  <a:lnTo>
                    <a:pt x="144" y="300"/>
                  </a:lnTo>
                  <a:lnTo>
                    <a:pt x="168" y="269"/>
                  </a:lnTo>
                  <a:lnTo>
                    <a:pt x="194" y="238"/>
                  </a:lnTo>
                  <a:lnTo>
                    <a:pt x="223" y="208"/>
                  </a:lnTo>
                  <a:lnTo>
                    <a:pt x="253" y="180"/>
                  </a:lnTo>
                  <a:lnTo>
                    <a:pt x="276" y="158"/>
                  </a:lnTo>
                  <a:lnTo>
                    <a:pt x="301" y="138"/>
                  </a:lnTo>
                  <a:lnTo>
                    <a:pt x="327" y="119"/>
                  </a:lnTo>
                  <a:lnTo>
                    <a:pt x="353" y="103"/>
                  </a:lnTo>
                  <a:lnTo>
                    <a:pt x="382" y="86"/>
                  </a:lnTo>
                  <a:lnTo>
                    <a:pt x="409" y="72"/>
                  </a:lnTo>
                  <a:lnTo>
                    <a:pt x="439" y="59"/>
                  </a:lnTo>
                  <a:lnTo>
                    <a:pt x="469" y="47"/>
                  </a:lnTo>
                  <a:lnTo>
                    <a:pt x="500" y="36"/>
                  </a:lnTo>
                  <a:lnTo>
                    <a:pt x="530" y="27"/>
                  </a:lnTo>
                  <a:lnTo>
                    <a:pt x="561" y="18"/>
                  </a:lnTo>
                  <a:lnTo>
                    <a:pt x="593" y="12"/>
                  </a:lnTo>
                  <a:lnTo>
                    <a:pt x="626" y="8"/>
                  </a:lnTo>
                  <a:lnTo>
                    <a:pt x="659" y="4"/>
                  </a:lnTo>
                  <a:lnTo>
                    <a:pt x="691" y="2"/>
                  </a:lnTo>
                  <a:lnTo>
                    <a:pt x="725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4643280" y="3986280"/>
              <a:ext cx="82800" cy="181080"/>
            </a:xfrm>
            <a:custGeom>
              <a:avLst/>
              <a:gdLst/>
              <a:ahLst/>
              <a:rect l="l" t="t" r="r" b="b"/>
              <a:pathLst>
                <a:path w="317" h="681">
                  <a:moveTo>
                    <a:pt x="0" y="681"/>
                  </a:moveTo>
                  <a:lnTo>
                    <a:pt x="18" y="679"/>
                  </a:lnTo>
                  <a:lnTo>
                    <a:pt x="36" y="676"/>
                  </a:lnTo>
                  <a:lnTo>
                    <a:pt x="53" y="673"/>
                  </a:lnTo>
                  <a:lnTo>
                    <a:pt x="69" y="668"/>
                  </a:lnTo>
                  <a:lnTo>
                    <a:pt x="85" y="664"/>
                  </a:lnTo>
                  <a:lnTo>
                    <a:pt x="100" y="658"/>
                  </a:lnTo>
                  <a:lnTo>
                    <a:pt x="115" y="653"/>
                  </a:lnTo>
                  <a:lnTo>
                    <a:pt x="130" y="647"/>
                  </a:lnTo>
                  <a:lnTo>
                    <a:pt x="144" y="639"/>
                  </a:lnTo>
                  <a:lnTo>
                    <a:pt x="158" y="632"/>
                  </a:lnTo>
                  <a:lnTo>
                    <a:pt x="171" y="624"/>
                  </a:lnTo>
                  <a:lnTo>
                    <a:pt x="184" y="616"/>
                  </a:lnTo>
                  <a:lnTo>
                    <a:pt x="196" y="606"/>
                  </a:lnTo>
                  <a:lnTo>
                    <a:pt x="208" y="596"/>
                  </a:lnTo>
                  <a:lnTo>
                    <a:pt x="220" y="585"/>
                  </a:lnTo>
                  <a:lnTo>
                    <a:pt x="231" y="574"/>
                  </a:lnTo>
                  <a:lnTo>
                    <a:pt x="241" y="562"/>
                  </a:lnTo>
                  <a:lnTo>
                    <a:pt x="251" y="550"/>
                  </a:lnTo>
                  <a:lnTo>
                    <a:pt x="260" y="537"/>
                  </a:lnTo>
                  <a:lnTo>
                    <a:pt x="269" y="525"/>
                  </a:lnTo>
                  <a:lnTo>
                    <a:pt x="276" y="512"/>
                  </a:lnTo>
                  <a:lnTo>
                    <a:pt x="283" y="498"/>
                  </a:lnTo>
                  <a:lnTo>
                    <a:pt x="290" y="485"/>
                  </a:lnTo>
                  <a:lnTo>
                    <a:pt x="296" y="471"/>
                  </a:lnTo>
                  <a:lnTo>
                    <a:pt x="301" y="455"/>
                  </a:lnTo>
                  <a:lnTo>
                    <a:pt x="304" y="441"/>
                  </a:lnTo>
                  <a:lnTo>
                    <a:pt x="309" y="426"/>
                  </a:lnTo>
                  <a:lnTo>
                    <a:pt x="312" y="410"/>
                  </a:lnTo>
                  <a:lnTo>
                    <a:pt x="314" y="394"/>
                  </a:lnTo>
                  <a:lnTo>
                    <a:pt x="315" y="377"/>
                  </a:lnTo>
                  <a:lnTo>
                    <a:pt x="316" y="360"/>
                  </a:lnTo>
                  <a:lnTo>
                    <a:pt x="317" y="344"/>
                  </a:lnTo>
                  <a:lnTo>
                    <a:pt x="316" y="325"/>
                  </a:lnTo>
                  <a:lnTo>
                    <a:pt x="315" y="307"/>
                  </a:lnTo>
                  <a:lnTo>
                    <a:pt x="314" y="289"/>
                  </a:lnTo>
                  <a:lnTo>
                    <a:pt x="312" y="272"/>
                  </a:lnTo>
                  <a:lnTo>
                    <a:pt x="308" y="256"/>
                  </a:lnTo>
                  <a:lnTo>
                    <a:pt x="304" y="239"/>
                  </a:lnTo>
                  <a:lnTo>
                    <a:pt x="301" y="224"/>
                  </a:lnTo>
                  <a:lnTo>
                    <a:pt x="295" y="208"/>
                  </a:lnTo>
                  <a:lnTo>
                    <a:pt x="289" y="193"/>
                  </a:lnTo>
                  <a:lnTo>
                    <a:pt x="283" y="179"/>
                  </a:lnTo>
                  <a:lnTo>
                    <a:pt x="276" y="164"/>
                  </a:lnTo>
                  <a:lnTo>
                    <a:pt x="268" y="150"/>
                  </a:lnTo>
                  <a:lnTo>
                    <a:pt x="259" y="137"/>
                  </a:lnTo>
                  <a:lnTo>
                    <a:pt x="250" y="124"/>
                  </a:lnTo>
                  <a:lnTo>
                    <a:pt x="240" y="111"/>
                  </a:lnTo>
                  <a:lnTo>
                    <a:pt x="230" y="99"/>
                  </a:lnTo>
                  <a:lnTo>
                    <a:pt x="218" y="87"/>
                  </a:lnTo>
                  <a:lnTo>
                    <a:pt x="207" y="76"/>
                  </a:lnTo>
                  <a:lnTo>
                    <a:pt x="195" y="67"/>
                  </a:lnTo>
                  <a:lnTo>
                    <a:pt x="182" y="57"/>
                  </a:lnTo>
                  <a:lnTo>
                    <a:pt x="169" y="48"/>
                  </a:lnTo>
                  <a:lnTo>
                    <a:pt x="156" y="41"/>
                  </a:lnTo>
                  <a:lnTo>
                    <a:pt x="143" y="34"/>
                  </a:lnTo>
                  <a:lnTo>
                    <a:pt x="129" y="26"/>
                  </a:lnTo>
                  <a:lnTo>
                    <a:pt x="113" y="21"/>
                  </a:lnTo>
                  <a:lnTo>
                    <a:pt x="99" y="16"/>
                  </a:lnTo>
                  <a:lnTo>
                    <a:pt x="83" y="11"/>
                  </a:lnTo>
                  <a:lnTo>
                    <a:pt x="68" y="7"/>
                  </a:lnTo>
                  <a:lnTo>
                    <a:pt x="51" y="5"/>
                  </a:lnTo>
                  <a:lnTo>
                    <a:pt x="35" y="3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68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545000" y="3887640"/>
              <a:ext cx="284040" cy="379440"/>
            </a:xfrm>
            <a:custGeom>
              <a:avLst/>
              <a:gdLst/>
              <a:ahLst/>
              <a:rect l="l" t="t" r="r" b="b"/>
              <a:pathLst>
                <a:path w="1077" h="1436">
                  <a:moveTo>
                    <a:pt x="218" y="0"/>
                  </a:moveTo>
                  <a:lnTo>
                    <a:pt x="268" y="2"/>
                  </a:lnTo>
                  <a:lnTo>
                    <a:pt x="315" y="3"/>
                  </a:lnTo>
                  <a:lnTo>
                    <a:pt x="359" y="5"/>
                  </a:lnTo>
                  <a:lnTo>
                    <a:pt x="402" y="8"/>
                  </a:lnTo>
                  <a:lnTo>
                    <a:pt x="441" y="11"/>
                  </a:lnTo>
                  <a:lnTo>
                    <a:pt x="478" y="16"/>
                  </a:lnTo>
                  <a:lnTo>
                    <a:pt x="512" y="21"/>
                  </a:lnTo>
                  <a:lnTo>
                    <a:pt x="545" y="27"/>
                  </a:lnTo>
                  <a:lnTo>
                    <a:pt x="574" y="34"/>
                  </a:lnTo>
                  <a:lnTo>
                    <a:pt x="604" y="42"/>
                  </a:lnTo>
                  <a:lnTo>
                    <a:pt x="632" y="52"/>
                  </a:lnTo>
                  <a:lnTo>
                    <a:pt x="660" y="61"/>
                  </a:lnTo>
                  <a:lnTo>
                    <a:pt x="687" y="73"/>
                  </a:lnTo>
                  <a:lnTo>
                    <a:pt x="713" y="85"/>
                  </a:lnTo>
                  <a:lnTo>
                    <a:pt x="738" y="98"/>
                  </a:lnTo>
                  <a:lnTo>
                    <a:pt x="763" y="113"/>
                  </a:lnTo>
                  <a:lnTo>
                    <a:pt x="782" y="125"/>
                  </a:lnTo>
                  <a:lnTo>
                    <a:pt x="801" y="138"/>
                  </a:lnTo>
                  <a:lnTo>
                    <a:pt x="819" y="151"/>
                  </a:lnTo>
                  <a:lnTo>
                    <a:pt x="836" y="164"/>
                  </a:lnTo>
                  <a:lnTo>
                    <a:pt x="852" y="179"/>
                  </a:lnTo>
                  <a:lnTo>
                    <a:pt x="869" y="193"/>
                  </a:lnTo>
                  <a:lnTo>
                    <a:pt x="884" y="208"/>
                  </a:lnTo>
                  <a:lnTo>
                    <a:pt x="899" y="224"/>
                  </a:lnTo>
                  <a:lnTo>
                    <a:pt x="913" y="240"/>
                  </a:lnTo>
                  <a:lnTo>
                    <a:pt x="927" y="256"/>
                  </a:lnTo>
                  <a:lnTo>
                    <a:pt x="940" y="274"/>
                  </a:lnTo>
                  <a:lnTo>
                    <a:pt x="953" y="290"/>
                  </a:lnTo>
                  <a:lnTo>
                    <a:pt x="965" y="308"/>
                  </a:lnTo>
                  <a:lnTo>
                    <a:pt x="976" y="327"/>
                  </a:lnTo>
                  <a:lnTo>
                    <a:pt x="986" y="346"/>
                  </a:lnTo>
                  <a:lnTo>
                    <a:pt x="997" y="365"/>
                  </a:lnTo>
                  <a:lnTo>
                    <a:pt x="1007" y="385"/>
                  </a:lnTo>
                  <a:lnTo>
                    <a:pt x="1016" y="406"/>
                  </a:lnTo>
                  <a:lnTo>
                    <a:pt x="1024" y="426"/>
                  </a:lnTo>
                  <a:lnTo>
                    <a:pt x="1032" y="446"/>
                  </a:lnTo>
                  <a:lnTo>
                    <a:pt x="1039" y="467"/>
                  </a:lnTo>
                  <a:lnTo>
                    <a:pt x="1046" y="490"/>
                  </a:lnTo>
                  <a:lnTo>
                    <a:pt x="1052" y="511"/>
                  </a:lnTo>
                  <a:lnTo>
                    <a:pt x="1058" y="534"/>
                  </a:lnTo>
                  <a:lnTo>
                    <a:pt x="1061" y="556"/>
                  </a:lnTo>
                  <a:lnTo>
                    <a:pt x="1066" y="580"/>
                  </a:lnTo>
                  <a:lnTo>
                    <a:pt x="1070" y="604"/>
                  </a:lnTo>
                  <a:lnTo>
                    <a:pt x="1072" y="628"/>
                  </a:lnTo>
                  <a:lnTo>
                    <a:pt x="1074" y="653"/>
                  </a:lnTo>
                  <a:lnTo>
                    <a:pt x="1076" y="676"/>
                  </a:lnTo>
                  <a:lnTo>
                    <a:pt x="1077" y="701"/>
                  </a:lnTo>
                  <a:lnTo>
                    <a:pt x="1077" y="728"/>
                  </a:lnTo>
                  <a:lnTo>
                    <a:pt x="1077" y="750"/>
                  </a:lnTo>
                  <a:lnTo>
                    <a:pt x="1076" y="774"/>
                  </a:lnTo>
                  <a:lnTo>
                    <a:pt x="1074" y="796"/>
                  </a:lnTo>
                  <a:lnTo>
                    <a:pt x="1072" y="818"/>
                  </a:lnTo>
                  <a:lnTo>
                    <a:pt x="1068" y="840"/>
                  </a:lnTo>
                  <a:lnTo>
                    <a:pt x="1065" y="862"/>
                  </a:lnTo>
                  <a:lnTo>
                    <a:pt x="1060" y="883"/>
                  </a:lnTo>
                  <a:lnTo>
                    <a:pt x="1055" y="905"/>
                  </a:lnTo>
                  <a:lnTo>
                    <a:pt x="1049" y="926"/>
                  </a:lnTo>
                  <a:lnTo>
                    <a:pt x="1042" y="947"/>
                  </a:lnTo>
                  <a:lnTo>
                    <a:pt x="1035" y="968"/>
                  </a:lnTo>
                  <a:lnTo>
                    <a:pt x="1028" y="988"/>
                  </a:lnTo>
                  <a:lnTo>
                    <a:pt x="1018" y="1008"/>
                  </a:lnTo>
                  <a:lnTo>
                    <a:pt x="1009" y="1028"/>
                  </a:lnTo>
                  <a:lnTo>
                    <a:pt x="999" y="1047"/>
                  </a:lnTo>
                  <a:lnTo>
                    <a:pt x="989" y="1067"/>
                  </a:lnTo>
                  <a:lnTo>
                    <a:pt x="977" y="1086"/>
                  </a:lnTo>
                  <a:lnTo>
                    <a:pt x="965" y="1105"/>
                  </a:lnTo>
                  <a:lnTo>
                    <a:pt x="953" y="1123"/>
                  </a:lnTo>
                  <a:lnTo>
                    <a:pt x="940" y="1141"/>
                  </a:lnTo>
                  <a:lnTo>
                    <a:pt x="927" y="1158"/>
                  </a:lnTo>
                  <a:lnTo>
                    <a:pt x="913" y="1175"/>
                  </a:lnTo>
                  <a:lnTo>
                    <a:pt x="897" y="1191"/>
                  </a:lnTo>
                  <a:lnTo>
                    <a:pt x="882" y="1207"/>
                  </a:lnTo>
                  <a:lnTo>
                    <a:pt x="866" y="1223"/>
                  </a:lnTo>
                  <a:lnTo>
                    <a:pt x="850" y="1238"/>
                  </a:lnTo>
                  <a:lnTo>
                    <a:pt x="833" y="1253"/>
                  </a:lnTo>
                  <a:lnTo>
                    <a:pt x="815" y="1267"/>
                  </a:lnTo>
                  <a:lnTo>
                    <a:pt x="798" y="1281"/>
                  </a:lnTo>
                  <a:lnTo>
                    <a:pt x="779" y="1294"/>
                  </a:lnTo>
                  <a:lnTo>
                    <a:pt x="760" y="1307"/>
                  </a:lnTo>
                  <a:lnTo>
                    <a:pt x="741" y="1319"/>
                  </a:lnTo>
                  <a:lnTo>
                    <a:pt x="714" y="1335"/>
                  </a:lnTo>
                  <a:lnTo>
                    <a:pt x="688" y="1348"/>
                  </a:lnTo>
                  <a:lnTo>
                    <a:pt x="661" y="1361"/>
                  </a:lnTo>
                  <a:lnTo>
                    <a:pt x="634" y="1371"/>
                  </a:lnTo>
                  <a:lnTo>
                    <a:pt x="605" y="1382"/>
                  </a:lnTo>
                  <a:lnTo>
                    <a:pt x="575" y="1393"/>
                  </a:lnTo>
                  <a:lnTo>
                    <a:pt x="546" y="1401"/>
                  </a:lnTo>
                  <a:lnTo>
                    <a:pt x="515" y="1408"/>
                  </a:lnTo>
                  <a:lnTo>
                    <a:pt x="483" y="1415"/>
                  </a:lnTo>
                  <a:lnTo>
                    <a:pt x="448" y="1420"/>
                  </a:lnTo>
                  <a:lnTo>
                    <a:pt x="414" y="1425"/>
                  </a:lnTo>
                  <a:lnTo>
                    <a:pt x="377" y="1430"/>
                  </a:lnTo>
                  <a:lnTo>
                    <a:pt x="339" y="1432"/>
                  </a:lnTo>
                  <a:lnTo>
                    <a:pt x="300" y="1434"/>
                  </a:lnTo>
                  <a:lnTo>
                    <a:pt x="259" y="1436"/>
                  </a:lnTo>
                  <a:lnTo>
                    <a:pt x="218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218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4879800" y="3887640"/>
              <a:ext cx="98640" cy="3794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5048280" y="3887640"/>
              <a:ext cx="236520" cy="379440"/>
            </a:xfrm>
            <a:custGeom>
              <a:avLst/>
              <a:gdLst/>
              <a:ahLst/>
              <a:rect l="l" t="t" r="r" b="b"/>
              <a:pathLst>
                <a:path w="897" h="1436">
                  <a:moveTo>
                    <a:pt x="897" y="1041"/>
                  </a:moveTo>
                  <a:lnTo>
                    <a:pt x="796" y="1436"/>
                  </a:lnTo>
                  <a:lnTo>
                    <a:pt x="0" y="1436"/>
                  </a:lnTo>
                  <a:lnTo>
                    <a:pt x="0" y="0"/>
                  </a:lnTo>
                  <a:lnTo>
                    <a:pt x="793" y="0"/>
                  </a:lnTo>
                  <a:lnTo>
                    <a:pt x="854" y="383"/>
                  </a:lnTo>
                  <a:lnTo>
                    <a:pt x="371" y="383"/>
                  </a:lnTo>
                  <a:lnTo>
                    <a:pt x="371" y="528"/>
                  </a:lnTo>
                  <a:lnTo>
                    <a:pt x="695" y="528"/>
                  </a:lnTo>
                  <a:lnTo>
                    <a:pt x="695" y="908"/>
                  </a:lnTo>
                  <a:lnTo>
                    <a:pt x="371" y="908"/>
                  </a:lnTo>
                  <a:lnTo>
                    <a:pt x="371" y="1041"/>
                  </a:lnTo>
                  <a:lnTo>
                    <a:pt x="897" y="104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5332320" y="4170240"/>
              <a:ext cx="90720" cy="968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5332320" y="3887640"/>
              <a:ext cx="90720" cy="26064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695760" y="4516560"/>
              <a:ext cx="1733400" cy="1427040"/>
            </a:xfrm>
            <a:custGeom>
              <a:avLst/>
              <a:gdLst/>
              <a:ahLst/>
              <a:rect l="l" t="t" r="r" b="b"/>
              <a:pathLst>
                <a:path w="6550" h="5395">
                  <a:moveTo>
                    <a:pt x="6314" y="5395"/>
                  </a:moveTo>
                  <a:lnTo>
                    <a:pt x="6470" y="5321"/>
                  </a:lnTo>
                  <a:lnTo>
                    <a:pt x="6550" y="5239"/>
                  </a:lnTo>
                  <a:lnTo>
                    <a:pt x="6550" y="5084"/>
                  </a:lnTo>
                  <a:lnTo>
                    <a:pt x="6550" y="237"/>
                  </a:lnTo>
                  <a:lnTo>
                    <a:pt x="6550" y="81"/>
                  </a:lnTo>
                  <a:lnTo>
                    <a:pt x="6470" y="0"/>
                  </a:lnTo>
                  <a:lnTo>
                    <a:pt x="6314" y="0"/>
                  </a:lnTo>
                  <a:lnTo>
                    <a:pt x="312" y="0"/>
                  </a:lnTo>
                  <a:lnTo>
                    <a:pt x="156" y="0"/>
                  </a:lnTo>
                  <a:lnTo>
                    <a:pt x="75" y="81"/>
                  </a:lnTo>
                  <a:lnTo>
                    <a:pt x="0" y="237"/>
                  </a:lnTo>
                  <a:lnTo>
                    <a:pt x="0" y="5084"/>
                  </a:lnTo>
                  <a:lnTo>
                    <a:pt x="75" y="5239"/>
                  </a:lnTo>
                  <a:lnTo>
                    <a:pt x="156" y="5321"/>
                  </a:lnTo>
                  <a:lnTo>
                    <a:pt x="312" y="5395"/>
                  </a:lnTo>
                  <a:lnTo>
                    <a:pt x="6314" y="53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4122720" y="4618080"/>
              <a:ext cx="836640" cy="673200"/>
            </a:xfrm>
            <a:custGeom>
              <a:avLst/>
              <a:gdLst/>
              <a:ahLst/>
              <a:rect l="l" t="t" r="r" b="b"/>
              <a:pathLst>
                <a:path w="3156" h="2543">
                  <a:moveTo>
                    <a:pt x="2771" y="2468"/>
                  </a:moveTo>
                  <a:lnTo>
                    <a:pt x="2771" y="2394"/>
                  </a:lnTo>
                  <a:lnTo>
                    <a:pt x="2771" y="2312"/>
                  </a:lnTo>
                  <a:lnTo>
                    <a:pt x="2853" y="2238"/>
                  </a:lnTo>
                  <a:lnTo>
                    <a:pt x="2853" y="2156"/>
                  </a:lnTo>
                  <a:lnTo>
                    <a:pt x="2927" y="2009"/>
                  </a:lnTo>
                  <a:lnTo>
                    <a:pt x="2927" y="1927"/>
                  </a:lnTo>
                  <a:lnTo>
                    <a:pt x="3009" y="1853"/>
                  </a:lnTo>
                  <a:lnTo>
                    <a:pt x="3082" y="1772"/>
                  </a:lnTo>
                  <a:lnTo>
                    <a:pt x="3082" y="1698"/>
                  </a:lnTo>
                  <a:lnTo>
                    <a:pt x="3156" y="1623"/>
                  </a:lnTo>
                  <a:lnTo>
                    <a:pt x="3156" y="1467"/>
                  </a:lnTo>
                  <a:lnTo>
                    <a:pt x="3156" y="1387"/>
                  </a:lnTo>
                  <a:lnTo>
                    <a:pt x="3156" y="1312"/>
                  </a:lnTo>
                  <a:lnTo>
                    <a:pt x="3156" y="1238"/>
                  </a:lnTo>
                  <a:lnTo>
                    <a:pt x="3082" y="1156"/>
                  </a:lnTo>
                  <a:lnTo>
                    <a:pt x="3082" y="1001"/>
                  </a:lnTo>
                  <a:lnTo>
                    <a:pt x="3082" y="927"/>
                  </a:lnTo>
                  <a:lnTo>
                    <a:pt x="3009" y="853"/>
                  </a:lnTo>
                  <a:lnTo>
                    <a:pt x="3009" y="771"/>
                  </a:lnTo>
                  <a:lnTo>
                    <a:pt x="2927" y="771"/>
                  </a:lnTo>
                  <a:lnTo>
                    <a:pt x="2927" y="698"/>
                  </a:lnTo>
                  <a:lnTo>
                    <a:pt x="2853" y="623"/>
                  </a:lnTo>
                  <a:lnTo>
                    <a:pt x="2771" y="542"/>
                  </a:lnTo>
                  <a:lnTo>
                    <a:pt x="2698" y="467"/>
                  </a:lnTo>
                  <a:lnTo>
                    <a:pt x="2698" y="386"/>
                  </a:lnTo>
                  <a:lnTo>
                    <a:pt x="2623" y="386"/>
                  </a:lnTo>
                  <a:lnTo>
                    <a:pt x="2542" y="311"/>
                  </a:lnTo>
                  <a:lnTo>
                    <a:pt x="2467" y="311"/>
                  </a:lnTo>
                  <a:lnTo>
                    <a:pt x="2393" y="238"/>
                  </a:lnTo>
                  <a:lnTo>
                    <a:pt x="2312" y="238"/>
                  </a:lnTo>
                  <a:lnTo>
                    <a:pt x="2238" y="156"/>
                  </a:lnTo>
                  <a:lnTo>
                    <a:pt x="2156" y="156"/>
                  </a:lnTo>
                  <a:lnTo>
                    <a:pt x="2082" y="82"/>
                  </a:lnTo>
                  <a:lnTo>
                    <a:pt x="1927" y="82"/>
                  </a:lnTo>
                  <a:lnTo>
                    <a:pt x="1852" y="82"/>
                  </a:lnTo>
                  <a:lnTo>
                    <a:pt x="1771" y="82"/>
                  </a:lnTo>
                  <a:lnTo>
                    <a:pt x="1696" y="82"/>
                  </a:lnTo>
                  <a:lnTo>
                    <a:pt x="1623" y="0"/>
                  </a:lnTo>
                  <a:lnTo>
                    <a:pt x="1541" y="0"/>
                  </a:lnTo>
                  <a:lnTo>
                    <a:pt x="1385" y="82"/>
                  </a:lnTo>
                  <a:lnTo>
                    <a:pt x="1238" y="82"/>
                  </a:lnTo>
                  <a:lnTo>
                    <a:pt x="1156" y="82"/>
                  </a:lnTo>
                  <a:lnTo>
                    <a:pt x="1000" y="82"/>
                  </a:lnTo>
                  <a:lnTo>
                    <a:pt x="926" y="156"/>
                  </a:lnTo>
                  <a:lnTo>
                    <a:pt x="771" y="238"/>
                  </a:lnTo>
                  <a:lnTo>
                    <a:pt x="696" y="311"/>
                  </a:lnTo>
                  <a:lnTo>
                    <a:pt x="540" y="311"/>
                  </a:lnTo>
                  <a:lnTo>
                    <a:pt x="467" y="386"/>
                  </a:lnTo>
                  <a:lnTo>
                    <a:pt x="385" y="542"/>
                  </a:lnTo>
                  <a:lnTo>
                    <a:pt x="311" y="623"/>
                  </a:lnTo>
                  <a:lnTo>
                    <a:pt x="229" y="698"/>
                  </a:lnTo>
                  <a:lnTo>
                    <a:pt x="156" y="771"/>
                  </a:lnTo>
                  <a:lnTo>
                    <a:pt x="156" y="927"/>
                  </a:lnTo>
                  <a:lnTo>
                    <a:pt x="82" y="1001"/>
                  </a:lnTo>
                  <a:lnTo>
                    <a:pt x="82" y="1156"/>
                  </a:lnTo>
                  <a:lnTo>
                    <a:pt x="0" y="1312"/>
                  </a:lnTo>
                  <a:lnTo>
                    <a:pt x="0" y="1387"/>
                  </a:lnTo>
                  <a:lnTo>
                    <a:pt x="0" y="1542"/>
                  </a:lnTo>
                  <a:lnTo>
                    <a:pt x="0" y="1623"/>
                  </a:lnTo>
                  <a:lnTo>
                    <a:pt x="82" y="1698"/>
                  </a:lnTo>
                  <a:lnTo>
                    <a:pt x="82" y="1772"/>
                  </a:lnTo>
                  <a:lnTo>
                    <a:pt x="156" y="1853"/>
                  </a:lnTo>
                  <a:lnTo>
                    <a:pt x="229" y="1927"/>
                  </a:lnTo>
                  <a:lnTo>
                    <a:pt x="229" y="2009"/>
                  </a:lnTo>
                  <a:lnTo>
                    <a:pt x="311" y="2083"/>
                  </a:lnTo>
                  <a:lnTo>
                    <a:pt x="385" y="2238"/>
                  </a:lnTo>
                  <a:lnTo>
                    <a:pt x="385" y="2312"/>
                  </a:lnTo>
                  <a:lnTo>
                    <a:pt x="467" y="2468"/>
                  </a:lnTo>
                  <a:lnTo>
                    <a:pt x="467" y="254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469440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615" y="0"/>
                  </a:moveTo>
                  <a:lnTo>
                    <a:pt x="615" y="156"/>
                  </a:lnTo>
                  <a:lnTo>
                    <a:pt x="615" y="231"/>
                  </a:lnTo>
                  <a:lnTo>
                    <a:pt x="615" y="386"/>
                  </a:lnTo>
                  <a:lnTo>
                    <a:pt x="615" y="542"/>
                  </a:lnTo>
                  <a:lnTo>
                    <a:pt x="542" y="689"/>
                  </a:lnTo>
                  <a:lnTo>
                    <a:pt x="542" y="927"/>
                  </a:lnTo>
                  <a:lnTo>
                    <a:pt x="615" y="1076"/>
                  </a:lnTo>
                  <a:lnTo>
                    <a:pt x="697" y="1231"/>
                  </a:lnTo>
                  <a:lnTo>
                    <a:pt x="615" y="1312"/>
                  </a:lnTo>
                  <a:lnTo>
                    <a:pt x="615" y="1387"/>
                  </a:lnTo>
                  <a:lnTo>
                    <a:pt x="542" y="1460"/>
                  </a:lnTo>
                  <a:lnTo>
                    <a:pt x="467" y="1460"/>
                  </a:lnTo>
                  <a:lnTo>
                    <a:pt x="311" y="1542"/>
                  </a:lnTo>
                  <a:lnTo>
                    <a:pt x="237" y="1616"/>
                  </a:lnTo>
                  <a:lnTo>
                    <a:pt x="156" y="1616"/>
                  </a:lnTo>
                  <a:lnTo>
                    <a:pt x="82" y="1698"/>
                  </a:lnTo>
                  <a:lnTo>
                    <a:pt x="0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4226040" y="5006880"/>
              <a:ext cx="183960" cy="449280"/>
            </a:xfrm>
            <a:custGeom>
              <a:avLst/>
              <a:gdLst/>
              <a:ahLst/>
              <a:rect l="l" t="t" r="r" b="b"/>
              <a:pathLst>
                <a:path w="697" h="1698">
                  <a:moveTo>
                    <a:pt x="82" y="0"/>
                  </a:moveTo>
                  <a:lnTo>
                    <a:pt x="82" y="156"/>
                  </a:lnTo>
                  <a:lnTo>
                    <a:pt x="82" y="305"/>
                  </a:lnTo>
                  <a:lnTo>
                    <a:pt x="82" y="386"/>
                  </a:lnTo>
                  <a:lnTo>
                    <a:pt x="155" y="616"/>
                  </a:lnTo>
                  <a:lnTo>
                    <a:pt x="155" y="771"/>
                  </a:lnTo>
                  <a:lnTo>
                    <a:pt x="155" y="1001"/>
                  </a:lnTo>
                  <a:lnTo>
                    <a:pt x="82" y="1076"/>
                  </a:lnTo>
                  <a:lnTo>
                    <a:pt x="0" y="1231"/>
                  </a:lnTo>
                  <a:lnTo>
                    <a:pt x="82" y="1312"/>
                  </a:lnTo>
                  <a:lnTo>
                    <a:pt x="82" y="1387"/>
                  </a:lnTo>
                  <a:lnTo>
                    <a:pt x="155" y="1460"/>
                  </a:lnTo>
                  <a:lnTo>
                    <a:pt x="311" y="1460"/>
                  </a:lnTo>
                  <a:lnTo>
                    <a:pt x="386" y="1542"/>
                  </a:lnTo>
                  <a:lnTo>
                    <a:pt x="467" y="1616"/>
                  </a:lnTo>
                  <a:lnTo>
                    <a:pt x="541" y="1616"/>
                  </a:lnTo>
                  <a:lnTo>
                    <a:pt x="615" y="1698"/>
                  </a:lnTo>
                  <a:lnTo>
                    <a:pt x="697" y="169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4267080" y="5392800"/>
              <a:ext cx="569880" cy="345960"/>
            </a:xfrm>
            <a:custGeom>
              <a:avLst/>
              <a:gdLst/>
              <a:ahLst/>
              <a:rect l="l" t="t" r="r" b="b"/>
              <a:pathLst>
                <a:path w="2158" h="1312">
                  <a:moveTo>
                    <a:pt x="0" y="0"/>
                  </a:moveTo>
                  <a:lnTo>
                    <a:pt x="75" y="156"/>
                  </a:lnTo>
                  <a:lnTo>
                    <a:pt x="156" y="312"/>
                  </a:lnTo>
                  <a:lnTo>
                    <a:pt x="156" y="387"/>
                  </a:lnTo>
                  <a:lnTo>
                    <a:pt x="156" y="467"/>
                  </a:lnTo>
                  <a:lnTo>
                    <a:pt x="156" y="542"/>
                  </a:lnTo>
                  <a:lnTo>
                    <a:pt x="75" y="623"/>
                  </a:lnTo>
                  <a:lnTo>
                    <a:pt x="156" y="698"/>
                  </a:lnTo>
                  <a:lnTo>
                    <a:pt x="231" y="771"/>
                  </a:lnTo>
                  <a:lnTo>
                    <a:pt x="312" y="853"/>
                  </a:lnTo>
                  <a:lnTo>
                    <a:pt x="386" y="927"/>
                  </a:lnTo>
                  <a:lnTo>
                    <a:pt x="460" y="1001"/>
                  </a:lnTo>
                  <a:lnTo>
                    <a:pt x="616" y="1083"/>
                  </a:lnTo>
                  <a:lnTo>
                    <a:pt x="698" y="1083"/>
                  </a:lnTo>
                  <a:lnTo>
                    <a:pt x="771" y="1156"/>
                  </a:lnTo>
                  <a:lnTo>
                    <a:pt x="771" y="1238"/>
                  </a:lnTo>
                  <a:lnTo>
                    <a:pt x="845" y="1312"/>
                  </a:lnTo>
                  <a:lnTo>
                    <a:pt x="1001" y="1312"/>
                  </a:lnTo>
                  <a:lnTo>
                    <a:pt x="1083" y="1312"/>
                  </a:lnTo>
                  <a:lnTo>
                    <a:pt x="1156" y="1312"/>
                  </a:lnTo>
                  <a:lnTo>
                    <a:pt x="1312" y="1312"/>
                  </a:lnTo>
                  <a:lnTo>
                    <a:pt x="1387" y="1238"/>
                  </a:lnTo>
                  <a:lnTo>
                    <a:pt x="1467" y="1156"/>
                  </a:lnTo>
                  <a:lnTo>
                    <a:pt x="1542" y="1083"/>
                  </a:lnTo>
                  <a:lnTo>
                    <a:pt x="1616" y="1001"/>
                  </a:lnTo>
                  <a:lnTo>
                    <a:pt x="1772" y="927"/>
                  </a:lnTo>
                  <a:lnTo>
                    <a:pt x="1853" y="853"/>
                  </a:lnTo>
                  <a:lnTo>
                    <a:pt x="1927" y="853"/>
                  </a:lnTo>
                  <a:lnTo>
                    <a:pt x="2002" y="771"/>
                  </a:lnTo>
                  <a:lnTo>
                    <a:pt x="2002" y="698"/>
                  </a:lnTo>
                  <a:lnTo>
                    <a:pt x="2083" y="623"/>
                  </a:lnTo>
                  <a:lnTo>
                    <a:pt x="2083" y="542"/>
                  </a:lnTo>
                  <a:lnTo>
                    <a:pt x="2002" y="387"/>
                  </a:lnTo>
                  <a:lnTo>
                    <a:pt x="2002" y="238"/>
                  </a:lnTo>
                  <a:lnTo>
                    <a:pt x="2158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4572000" y="5475240"/>
              <a:ext cx="4140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155"/>
                  </a:moveTo>
                  <a:lnTo>
                    <a:pt x="156" y="75"/>
                  </a:lnTo>
                  <a:lnTo>
                    <a:pt x="75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467532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4654440" y="5494320"/>
              <a:ext cx="20880" cy="4140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75" y="0"/>
                  </a:moveTo>
                  <a:lnTo>
                    <a:pt x="0" y="80"/>
                  </a:lnTo>
                  <a:lnTo>
                    <a:pt x="0" y="155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552920" y="5475240"/>
              <a:ext cx="19080" cy="41400"/>
            </a:xfrm>
            <a:custGeom>
              <a:avLst/>
              <a:gdLst/>
              <a:ahLst/>
              <a:rect l="l" t="t" r="r" b="b"/>
              <a:pathLst>
                <a:path w="73" h="155">
                  <a:moveTo>
                    <a:pt x="0" y="155"/>
                  </a:moveTo>
                  <a:lnTo>
                    <a:pt x="73" y="155"/>
                  </a:lnTo>
                  <a:lnTo>
                    <a:pt x="73" y="0"/>
                  </a:lnTo>
                  <a:lnTo>
                    <a:pt x="0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552920" y="5516640"/>
              <a:ext cx="19080" cy="4104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73" y="0"/>
                  </a:moveTo>
                  <a:lnTo>
                    <a:pt x="0" y="0"/>
                  </a:lnTo>
                  <a:lnTo>
                    <a:pt x="0" y="75"/>
                  </a:lnTo>
                  <a:lnTo>
                    <a:pt x="73" y="156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489560" y="5475240"/>
              <a:ext cx="41040" cy="414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156" y="155"/>
                  </a:moveTo>
                  <a:lnTo>
                    <a:pt x="0" y="75"/>
                  </a:lnTo>
                  <a:lnTo>
                    <a:pt x="82" y="0"/>
                  </a:lnTo>
                  <a:lnTo>
                    <a:pt x="156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4410000" y="5494320"/>
              <a:ext cx="1908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429080" y="5494320"/>
              <a:ext cx="22320" cy="41400"/>
            </a:xfrm>
            <a:custGeom>
              <a:avLst/>
              <a:gdLst/>
              <a:ahLst/>
              <a:rect l="l" t="t" r="r" b="b"/>
              <a:pathLst>
                <a:path w="82" h="155">
                  <a:moveTo>
                    <a:pt x="0" y="0"/>
                  </a:moveTo>
                  <a:lnTo>
                    <a:pt x="82" y="80"/>
                  </a:lnTo>
                  <a:lnTo>
                    <a:pt x="82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530600" y="5475240"/>
              <a:ext cx="22320" cy="41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530600" y="5516640"/>
              <a:ext cx="22320" cy="41040"/>
            </a:xfrm>
            <a:custGeom>
              <a:avLst/>
              <a:gdLst/>
              <a:ahLst/>
              <a:rect l="l" t="t" r="r" b="b"/>
              <a:pathLst>
                <a:path w="82" h="156">
                  <a:moveTo>
                    <a:pt x="0" y="0"/>
                  </a:moveTo>
                  <a:lnTo>
                    <a:pt x="82" y="0"/>
                  </a:lnTo>
                  <a:lnTo>
                    <a:pt x="82" y="75"/>
                  </a:lnTo>
                  <a:lnTo>
                    <a:pt x="0" y="1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714920" y="5456160"/>
              <a:ext cx="41400" cy="60480"/>
            </a:xfrm>
            <a:custGeom>
              <a:avLst/>
              <a:gdLst/>
              <a:ahLst/>
              <a:rect l="l" t="t" r="r" b="b"/>
              <a:pathLst>
                <a:path w="155" h="229">
                  <a:moveTo>
                    <a:pt x="0" y="0"/>
                  </a:moveTo>
                  <a:lnTo>
                    <a:pt x="74" y="0"/>
                  </a:lnTo>
                  <a:lnTo>
                    <a:pt x="155" y="74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48080" y="5456160"/>
              <a:ext cx="39600" cy="60480"/>
            </a:xfrm>
            <a:custGeom>
              <a:avLst/>
              <a:gdLst/>
              <a:ahLst/>
              <a:rect l="l" t="t" r="r" b="b"/>
              <a:pathLst>
                <a:path w="148" h="229">
                  <a:moveTo>
                    <a:pt x="148" y="0"/>
                  </a:moveTo>
                  <a:lnTo>
                    <a:pt x="7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149"/>
                  </a:lnTo>
                  <a:lnTo>
                    <a:pt x="74" y="229"/>
                  </a:lnTo>
                  <a:lnTo>
                    <a:pt x="148" y="229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511520" y="5187960"/>
              <a:ext cx="101880" cy="165240"/>
            </a:xfrm>
            <a:custGeom>
              <a:avLst/>
              <a:gdLst/>
              <a:ahLst/>
              <a:rect l="l" t="t" r="r" b="b"/>
              <a:pathLst>
                <a:path w="385" h="623">
                  <a:moveTo>
                    <a:pt x="156" y="156"/>
                  </a:moveTo>
                  <a:lnTo>
                    <a:pt x="74" y="312"/>
                  </a:lnTo>
                  <a:lnTo>
                    <a:pt x="74" y="387"/>
                  </a:lnTo>
                  <a:lnTo>
                    <a:pt x="0" y="467"/>
                  </a:lnTo>
                  <a:lnTo>
                    <a:pt x="0" y="542"/>
                  </a:lnTo>
                  <a:lnTo>
                    <a:pt x="0" y="623"/>
                  </a:lnTo>
                  <a:lnTo>
                    <a:pt x="74" y="623"/>
                  </a:lnTo>
                  <a:lnTo>
                    <a:pt x="156" y="623"/>
                  </a:lnTo>
                  <a:lnTo>
                    <a:pt x="156" y="542"/>
                  </a:lnTo>
                  <a:lnTo>
                    <a:pt x="229" y="542"/>
                  </a:lnTo>
                  <a:lnTo>
                    <a:pt x="229" y="623"/>
                  </a:lnTo>
                  <a:lnTo>
                    <a:pt x="304" y="623"/>
                  </a:lnTo>
                  <a:lnTo>
                    <a:pt x="385" y="623"/>
                  </a:lnTo>
                  <a:lnTo>
                    <a:pt x="385" y="542"/>
                  </a:lnTo>
                  <a:lnTo>
                    <a:pt x="385" y="467"/>
                  </a:lnTo>
                  <a:lnTo>
                    <a:pt x="304" y="312"/>
                  </a:lnTo>
                  <a:lnTo>
                    <a:pt x="229" y="156"/>
                  </a:lnTo>
                  <a:lnTo>
                    <a:pt x="229" y="82"/>
                  </a:lnTo>
                  <a:lnTo>
                    <a:pt x="156" y="82"/>
                  </a:lnTo>
                  <a:lnTo>
                    <a:pt x="156" y="0"/>
                  </a:lnTo>
                  <a:lnTo>
                    <a:pt x="156" y="82"/>
                  </a:lnTo>
                  <a:lnTo>
                    <a:pt x="156" y="15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307040" y="5067360"/>
              <a:ext cx="182520" cy="142920"/>
            </a:xfrm>
            <a:custGeom>
              <a:avLst/>
              <a:gdLst/>
              <a:ahLst/>
              <a:rect l="l" t="t" r="r" b="b"/>
              <a:pathLst>
                <a:path w="689" h="540">
                  <a:moveTo>
                    <a:pt x="386" y="0"/>
                  </a:moveTo>
                  <a:lnTo>
                    <a:pt x="304" y="74"/>
                  </a:lnTo>
                  <a:lnTo>
                    <a:pt x="230" y="74"/>
                  </a:lnTo>
                  <a:lnTo>
                    <a:pt x="156" y="74"/>
                  </a:lnTo>
                  <a:lnTo>
                    <a:pt x="75" y="74"/>
                  </a:lnTo>
                  <a:lnTo>
                    <a:pt x="0" y="74"/>
                  </a:lnTo>
                  <a:lnTo>
                    <a:pt x="0" y="155"/>
                  </a:lnTo>
                  <a:lnTo>
                    <a:pt x="0" y="311"/>
                  </a:lnTo>
                  <a:lnTo>
                    <a:pt x="75" y="385"/>
                  </a:lnTo>
                  <a:lnTo>
                    <a:pt x="156" y="458"/>
                  </a:lnTo>
                  <a:lnTo>
                    <a:pt x="230" y="540"/>
                  </a:lnTo>
                  <a:lnTo>
                    <a:pt x="460" y="540"/>
                  </a:lnTo>
                  <a:lnTo>
                    <a:pt x="542" y="540"/>
                  </a:lnTo>
                  <a:lnTo>
                    <a:pt x="615" y="458"/>
                  </a:lnTo>
                  <a:lnTo>
                    <a:pt x="615" y="385"/>
                  </a:lnTo>
                  <a:lnTo>
                    <a:pt x="689" y="311"/>
                  </a:lnTo>
                  <a:lnTo>
                    <a:pt x="689" y="229"/>
                  </a:lnTo>
                  <a:lnTo>
                    <a:pt x="689" y="155"/>
                  </a:lnTo>
                  <a:lnTo>
                    <a:pt x="689" y="74"/>
                  </a:lnTo>
                  <a:lnTo>
                    <a:pt x="615" y="0"/>
                  </a:lnTo>
                  <a:lnTo>
                    <a:pt x="542" y="0"/>
                  </a:lnTo>
                  <a:lnTo>
                    <a:pt x="3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613400" y="5067360"/>
              <a:ext cx="204840" cy="120600"/>
            </a:xfrm>
            <a:custGeom>
              <a:avLst/>
              <a:gdLst/>
              <a:ahLst/>
              <a:rect l="l" t="t" r="r" b="b"/>
              <a:pathLst>
                <a:path w="771" h="458">
                  <a:moveTo>
                    <a:pt x="304" y="0"/>
                  </a:moveTo>
                  <a:lnTo>
                    <a:pt x="230" y="0"/>
                  </a:lnTo>
                  <a:lnTo>
                    <a:pt x="75" y="0"/>
                  </a:lnTo>
                  <a:lnTo>
                    <a:pt x="75" y="74"/>
                  </a:lnTo>
                  <a:lnTo>
                    <a:pt x="0" y="155"/>
                  </a:lnTo>
                  <a:lnTo>
                    <a:pt x="75" y="311"/>
                  </a:lnTo>
                  <a:lnTo>
                    <a:pt x="75" y="385"/>
                  </a:lnTo>
                  <a:lnTo>
                    <a:pt x="155" y="458"/>
                  </a:lnTo>
                  <a:lnTo>
                    <a:pt x="230" y="458"/>
                  </a:lnTo>
                  <a:lnTo>
                    <a:pt x="304" y="458"/>
                  </a:lnTo>
                  <a:lnTo>
                    <a:pt x="460" y="458"/>
                  </a:lnTo>
                  <a:lnTo>
                    <a:pt x="541" y="458"/>
                  </a:lnTo>
                  <a:lnTo>
                    <a:pt x="615" y="458"/>
                  </a:lnTo>
                  <a:lnTo>
                    <a:pt x="690" y="385"/>
                  </a:lnTo>
                  <a:lnTo>
                    <a:pt x="690" y="229"/>
                  </a:lnTo>
                  <a:lnTo>
                    <a:pt x="771" y="155"/>
                  </a:lnTo>
                  <a:lnTo>
                    <a:pt x="771" y="74"/>
                  </a:lnTo>
                  <a:lnTo>
                    <a:pt x="690" y="0"/>
                  </a:lnTo>
                  <a:lnTo>
                    <a:pt x="615" y="0"/>
                  </a:lnTo>
                  <a:lnTo>
                    <a:pt x="541" y="0"/>
                  </a:lnTo>
                  <a:lnTo>
                    <a:pt x="460" y="0"/>
                  </a:lnTo>
                  <a:lnTo>
                    <a:pt x="30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4878360" y="5025960"/>
              <a:ext cx="449280" cy="203400"/>
            </a:xfrm>
            <a:custGeom>
              <a:avLst/>
              <a:gdLst/>
              <a:ahLst/>
              <a:rect l="l" t="t" r="r" b="b"/>
              <a:pathLst>
                <a:path w="1696" h="770">
                  <a:moveTo>
                    <a:pt x="0" y="770"/>
                  </a:moveTo>
                  <a:lnTo>
                    <a:pt x="1074" y="230"/>
                  </a:lnTo>
                  <a:lnTo>
                    <a:pt x="1074" y="156"/>
                  </a:lnTo>
                  <a:lnTo>
                    <a:pt x="1074" y="81"/>
                  </a:lnTo>
                  <a:lnTo>
                    <a:pt x="1156" y="81"/>
                  </a:lnTo>
                  <a:lnTo>
                    <a:pt x="1156" y="0"/>
                  </a:lnTo>
                  <a:lnTo>
                    <a:pt x="1230" y="0"/>
                  </a:lnTo>
                  <a:lnTo>
                    <a:pt x="1312" y="0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41" y="0"/>
                  </a:lnTo>
                  <a:lnTo>
                    <a:pt x="1541" y="81"/>
                  </a:lnTo>
                  <a:lnTo>
                    <a:pt x="1615" y="81"/>
                  </a:lnTo>
                  <a:lnTo>
                    <a:pt x="1696" y="156"/>
                  </a:lnTo>
                  <a:lnTo>
                    <a:pt x="1696" y="230"/>
                  </a:lnTo>
                  <a:lnTo>
                    <a:pt x="1696" y="311"/>
                  </a:lnTo>
                  <a:lnTo>
                    <a:pt x="1615" y="3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5203800" y="5108400"/>
              <a:ext cx="123840" cy="142920"/>
            </a:xfrm>
            <a:custGeom>
              <a:avLst/>
              <a:gdLst/>
              <a:ahLst/>
              <a:rect l="l" t="t" r="r" b="b"/>
              <a:pathLst>
                <a:path w="466" h="541">
                  <a:moveTo>
                    <a:pt x="311" y="0"/>
                  </a:moveTo>
                  <a:lnTo>
                    <a:pt x="385" y="0"/>
                  </a:lnTo>
                  <a:lnTo>
                    <a:pt x="385" y="74"/>
                  </a:lnTo>
                  <a:lnTo>
                    <a:pt x="466" y="74"/>
                  </a:lnTo>
                  <a:lnTo>
                    <a:pt x="466" y="156"/>
                  </a:lnTo>
                  <a:lnTo>
                    <a:pt x="466" y="230"/>
                  </a:lnTo>
                  <a:lnTo>
                    <a:pt x="466" y="303"/>
                  </a:lnTo>
                  <a:lnTo>
                    <a:pt x="385" y="385"/>
                  </a:lnTo>
                  <a:lnTo>
                    <a:pt x="311" y="459"/>
                  </a:lnTo>
                  <a:lnTo>
                    <a:pt x="229" y="459"/>
                  </a:lnTo>
                  <a:lnTo>
                    <a:pt x="155" y="541"/>
                  </a:lnTo>
                  <a:lnTo>
                    <a:pt x="155" y="459"/>
                  </a:lnTo>
                  <a:lnTo>
                    <a:pt x="82" y="385"/>
                  </a:lnTo>
                  <a:lnTo>
                    <a:pt x="0" y="30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H="1">
              <a:off x="4856040" y="5210280"/>
              <a:ext cx="3477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3757680" y="5025960"/>
              <a:ext cx="468360" cy="203400"/>
            </a:xfrm>
            <a:custGeom>
              <a:avLst/>
              <a:gdLst/>
              <a:ahLst/>
              <a:rect l="l" t="t" r="r" b="b"/>
              <a:pathLst>
                <a:path w="1770" h="770">
                  <a:moveTo>
                    <a:pt x="1770" y="770"/>
                  </a:moveTo>
                  <a:lnTo>
                    <a:pt x="696" y="230"/>
                  </a:lnTo>
                  <a:lnTo>
                    <a:pt x="696" y="156"/>
                  </a:lnTo>
                  <a:lnTo>
                    <a:pt x="614" y="81"/>
                  </a:lnTo>
                  <a:lnTo>
                    <a:pt x="540" y="81"/>
                  </a:lnTo>
                  <a:lnTo>
                    <a:pt x="540" y="0"/>
                  </a:lnTo>
                  <a:lnTo>
                    <a:pt x="465" y="0"/>
                  </a:lnTo>
                  <a:lnTo>
                    <a:pt x="385" y="0"/>
                  </a:lnTo>
                  <a:lnTo>
                    <a:pt x="385" y="81"/>
                  </a:lnTo>
                  <a:lnTo>
                    <a:pt x="310" y="81"/>
                  </a:lnTo>
                  <a:lnTo>
                    <a:pt x="229" y="81"/>
                  </a:lnTo>
                  <a:lnTo>
                    <a:pt x="229" y="156"/>
                  </a:lnTo>
                  <a:lnTo>
                    <a:pt x="155" y="156"/>
                  </a:lnTo>
                  <a:lnTo>
                    <a:pt x="81" y="230"/>
                  </a:lnTo>
                  <a:lnTo>
                    <a:pt x="81" y="311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67"/>
                  </a:lnTo>
                  <a:lnTo>
                    <a:pt x="0" y="541"/>
                  </a:lnTo>
                  <a:lnTo>
                    <a:pt x="81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3757680" y="5168880"/>
              <a:ext cx="142920" cy="60480"/>
            </a:xfrm>
            <a:custGeom>
              <a:avLst/>
              <a:gdLst/>
              <a:ahLst/>
              <a:rect l="l" t="t" r="r" b="b"/>
              <a:pathLst>
                <a:path w="540" h="229">
                  <a:moveTo>
                    <a:pt x="155" y="0"/>
                  </a:moveTo>
                  <a:lnTo>
                    <a:pt x="0" y="73"/>
                  </a:lnTo>
                  <a:lnTo>
                    <a:pt x="81" y="155"/>
                  </a:lnTo>
                  <a:lnTo>
                    <a:pt x="155" y="229"/>
                  </a:lnTo>
                  <a:lnTo>
                    <a:pt x="310" y="229"/>
                  </a:lnTo>
                  <a:lnTo>
                    <a:pt x="385" y="229"/>
                  </a:lnTo>
                  <a:lnTo>
                    <a:pt x="465" y="229"/>
                  </a:lnTo>
                  <a:lnTo>
                    <a:pt x="54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900600" y="5210280"/>
              <a:ext cx="345960" cy="101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838680" y="5535720"/>
              <a:ext cx="468360" cy="142920"/>
            </a:xfrm>
            <a:custGeom>
              <a:avLst/>
              <a:gdLst/>
              <a:ahLst/>
              <a:rect l="l" t="t" r="r" b="b"/>
              <a:pathLst>
                <a:path w="1771" h="541">
                  <a:moveTo>
                    <a:pt x="1771" y="0"/>
                  </a:moveTo>
                  <a:lnTo>
                    <a:pt x="386" y="229"/>
                  </a:lnTo>
                  <a:lnTo>
                    <a:pt x="304" y="156"/>
                  </a:lnTo>
                  <a:lnTo>
                    <a:pt x="230" y="156"/>
                  </a:lnTo>
                  <a:lnTo>
                    <a:pt x="155" y="156"/>
                  </a:lnTo>
                  <a:lnTo>
                    <a:pt x="75" y="156"/>
                  </a:lnTo>
                  <a:lnTo>
                    <a:pt x="75" y="229"/>
                  </a:lnTo>
                  <a:lnTo>
                    <a:pt x="0" y="311"/>
                  </a:lnTo>
                  <a:lnTo>
                    <a:pt x="0" y="385"/>
                  </a:lnTo>
                  <a:lnTo>
                    <a:pt x="0" y="459"/>
                  </a:lnTo>
                  <a:lnTo>
                    <a:pt x="75" y="459"/>
                  </a:lnTo>
                  <a:lnTo>
                    <a:pt x="75" y="541"/>
                  </a:lnTo>
                  <a:lnTo>
                    <a:pt x="155" y="541"/>
                  </a:lnTo>
                  <a:lnTo>
                    <a:pt x="230" y="54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900600" y="5657760"/>
              <a:ext cx="82440" cy="101520"/>
            </a:xfrm>
            <a:custGeom>
              <a:avLst/>
              <a:gdLst/>
              <a:ahLst/>
              <a:rect l="l" t="t" r="r" b="b"/>
              <a:pathLst>
                <a:path w="312" h="386">
                  <a:moveTo>
                    <a:pt x="74" y="0"/>
                  </a:moveTo>
                  <a:lnTo>
                    <a:pt x="0" y="82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11"/>
                  </a:lnTo>
                  <a:lnTo>
                    <a:pt x="74" y="311"/>
                  </a:lnTo>
                  <a:lnTo>
                    <a:pt x="74" y="386"/>
                  </a:lnTo>
                  <a:lnTo>
                    <a:pt x="156" y="386"/>
                  </a:lnTo>
                  <a:lnTo>
                    <a:pt x="230" y="386"/>
                  </a:lnTo>
                  <a:lnTo>
                    <a:pt x="312" y="386"/>
                  </a:lnTo>
                  <a:lnTo>
                    <a:pt x="312" y="311"/>
                  </a:lnTo>
                  <a:lnTo>
                    <a:pt x="312" y="237"/>
                  </a:lnTo>
                  <a:lnTo>
                    <a:pt x="312" y="155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400212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795920" y="5535720"/>
              <a:ext cx="509400" cy="163440"/>
            </a:xfrm>
            <a:custGeom>
              <a:avLst/>
              <a:gdLst/>
              <a:ahLst/>
              <a:rect l="l" t="t" r="r" b="b"/>
              <a:pathLst>
                <a:path w="1926" h="614">
                  <a:moveTo>
                    <a:pt x="0" y="0"/>
                  </a:moveTo>
                  <a:lnTo>
                    <a:pt x="1385" y="156"/>
                  </a:lnTo>
                  <a:lnTo>
                    <a:pt x="1467" y="156"/>
                  </a:lnTo>
                  <a:lnTo>
                    <a:pt x="1541" y="156"/>
                  </a:lnTo>
                  <a:lnTo>
                    <a:pt x="1623" y="156"/>
                  </a:lnTo>
                  <a:lnTo>
                    <a:pt x="1696" y="156"/>
                  </a:lnTo>
                  <a:lnTo>
                    <a:pt x="1770" y="156"/>
                  </a:lnTo>
                  <a:lnTo>
                    <a:pt x="1852" y="229"/>
                  </a:lnTo>
                  <a:lnTo>
                    <a:pt x="1852" y="311"/>
                  </a:lnTo>
                  <a:lnTo>
                    <a:pt x="1926" y="311"/>
                  </a:lnTo>
                  <a:lnTo>
                    <a:pt x="1926" y="385"/>
                  </a:lnTo>
                  <a:lnTo>
                    <a:pt x="1926" y="459"/>
                  </a:lnTo>
                  <a:lnTo>
                    <a:pt x="1926" y="541"/>
                  </a:lnTo>
                  <a:lnTo>
                    <a:pt x="1852" y="614"/>
                  </a:lnTo>
                  <a:lnTo>
                    <a:pt x="1770" y="61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5122800" y="5678640"/>
              <a:ext cx="141480" cy="80640"/>
            </a:xfrm>
            <a:custGeom>
              <a:avLst/>
              <a:gdLst/>
              <a:ahLst/>
              <a:rect l="l" t="t" r="r" b="b"/>
              <a:pathLst>
                <a:path w="533" h="304">
                  <a:moveTo>
                    <a:pt x="459" y="0"/>
                  </a:moveTo>
                  <a:lnTo>
                    <a:pt x="533" y="73"/>
                  </a:lnTo>
                  <a:lnTo>
                    <a:pt x="533" y="155"/>
                  </a:lnTo>
                  <a:lnTo>
                    <a:pt x="459" y="229"/>
                  </a:lnTo>
                  <a:lnTo>
                    <a:pt x="386" y="229"/>
                  </a:lnTo>
                  <a:lnTo>
                    <a:pt x="304" y="304"/>
                  </a:lnTo>
                  <a:lnTo>
                    <a:pt x="230" y="304"/>
                  </a:lnTo>
                  <a:lnTo>
                    <a:pt x="148" y="304"/>
                  </a:lnTo>
                  <a:lnTo>
                    <a:pt x="74" y="304"/>
                  </a:lnTo>
                  <a:lnTo>
                    <a:pt x="0" y="304"/>
                  </a:lnTo>
                  <a:lnTo>
                    <a:pt x="0" y="229"/>
                  </a:lnTo>
                  <a:lnTo>
                    <a:pt x="0" y="15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776840" y="5595840"/>
              <a:ext cx="325440" cy="123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0" name=""/>
          <p:cNvSpPr/>
          <p:nvPr/>
        </p:nvSpPr>
        <p:spPr>
          <a:xfrm>
            <a:off x="5813280" y="797040"/>
            <a:ext cx="144720" cy="4680"/>
          </a:xfrm>
          <a:prstGeom prst="rect">
            <a:avLst/>
          </a:prstGeom>
          <a:solidFill>
            <a:srgbClr val="fc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5813280" y="777960"/>
            <a:ext cx="144720" cy="4680"/>
          </a:xfrm>
          <a:prstGeom prst="rect">
            <a:avLst/>
          </a:prstGeom>
          <a:solidFill>
            <a:srgbClr val="fd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2" name=""/>
          <p:cNvGrpSpPr/>
          <p:nvPr/>
        </p:nvGrpSpPr>
        <p:grpSpPr>
          <a:xfrm>
            <a:off x="2895480" y="923760"/>
            <a:ext cx="3352680" cy="4181040"/>
            <a:chOff x="2895480" y="923760"/>
            <a:chExt cx="3352680" cy="4181040"/>
          </a:xfrm>
        </p:grpSpPr>
        <p:sp>
          <p:nvSpPr>
            <p:cNvPr id="5013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728" y="1224"/>
                  </a:moveTo>
                  <a:lnTo>
                    <a:pt x="1123" y="1224"/>
                  </a:lnTo>
                  <a:lnTo>
                    <a:pt x="925" y="577"/>
                  </a:lnTo>
                  <a:lnTo>
                    <a:pt x="728" y="1224"/>
                  </a:lnTo>
                  <a:close/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6061680" y="941400"/>
              <a:ext cx="174600" cy="677880"/>
            </a:xfrm>
            <a:custGeom>
              <a:avLst/>
              <a:gdLst/>
              <a:ahLst/>
              <a:rect l="l" t="t" r="r" b="b"/>
              <a:pathLst>
                <a:path w="458" h="1919">
                  <a:moveTo>
                    <a:pt x="0" y="1919"/>
                  </a:moveTo>
                  <a:lnTo>
                    <a:pt x="0" y="1427"/>
                  </a:lnTo>
                  <a:lnTo>
                    <a:pt x="458" y="1427"/>
                  </a:lnTo>
                  <a:lnTo>
                    <a:pt x="458" y="1919"/>
                  </a:lnTo>
                  <a:lnTo>
                    <a:pt x="0" y="1919"/>
                  </a:lnTo>
                  <a:close/>
                  <a:moveTo>
                    <a:pt x="0" y="1315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315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895480" y="933840"/>
              <a:ext cx="758880" cy="685080"/>
            </a:xfrm>
            <a:custGeom>
              <a:avLst/>
              <a:gdLst/>
              <a:ahLst/>
              <a:rect l="l" t="t" r="r" b="b"/>
              <a:pathLst>
                <a:path w="1973" h="1935">
                  <a:moveTo>
                    <a:pt x="267" y="1935"/>
                  </a:moveTo>
                  <a:lnTo>
                    <a:pt x="0" y="16"/>
                  </a:lnTo>
                  <a:lnTo>
                    <a:pt x="499" y="16"/>
                  </a:lnTo>
                  <a:lnTo>
                    <a:pt x="596" y="910"/>
                  </a:lnTo>
                  <a:lnTo>
                    <a:pt x="985" y="0"/>
                  </a:lnTo>
                  <a:lnTo>
                    <a:pt x="1367" y="910"/>
                  </a:lnTo>
                  <a:lnTo>
                    <a:pt x="1487" y="16"/>
                  </a:lnTo>
                  <a:lnTo>
                    <a:pt x="1973" y="16"/>
                  </a:lnTo>
                  <a:lnTo>
                    <a:pt x="1724" y="1935"/>
                  </a:lnTo>
                  <a:lnTo>
                    <a:pt x="1333" y="1935"/>
                  </a:lnTo>
                  <a:lnTo>
                    <a:pt x="985" y="1073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932640" y="1144800"/>
              <a:ext cx="151560" cy="22824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7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654360" y="941400"/>
              <a:ext cx="714600" cy="677880"/>
            </a:xfrm>
            <a:custGeom>
              <a:avLst/>
              <a:gdLst/>
              <a:ahLst/>
              <a:rect l="l" t="t" r="r" b="b"/>
              <a:pathLst>
                <a:path w="1863" h="1919">
                  <a:moveTo>
                    <a:pt x="0" y="1919"/>
                  </a:moveTo>
                  <a:lnTo>
                    <a:pt x="670" y="0"/>
                  </a:lnTo>
                  <a:lnTo>
                    <a:pt x="1230" y="0"/>
                  </a:lnTo>
                  <a:lnTo>
                    <a:pt x="1863" y="1919"/>
                  </a:lnTo>
                  <a:lnTo>
                    <a:pt x="1337" y="1919"/>
                  </a:lnTo>
                  <a:lnTo>
                    <a:pt x="1268" y="1703"/>
                  </a:lnTo>
                  <a:lnTo>
                    <a:pt x="590" y="1703"/>
                  </a:lnTo>
                  <a:lnTo>
                    <a:pt x="516" y="1919"/>
                  </a:lnTo>
                  <a:lnTo>
                    <a:pt x="0" y="1919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442040" y="941400"/>
              <a:ext cx="191880" cy="6778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4707000" y="941400"/>
              <a:ext cx="491760" cy="677880"/>
            </a:xfrm>
            <a:custGeom>
              <a:avLst/>
              <a:gdLst/>
              <a:ahLst/>
              <a:rect l="l" t="t" r="r" b="b"/>
              <a:pathLst>
                <a:path w="1277" h="1919">
                  <a:moveTo>
                    <a:pt x="887" y="486"/>
                  </a:moveTo>
                  <a:lnTo>
                    <a:pt x="887" y="1919"/>
                  </a:lnTo>
                  <a:lnTo>
                    <a:pt x="389" y="1919"/>
                  </a:lnTo>
                  <a:lnTo>
                    <a:pt x="389" y="486"/>
                  </a:lnTo>
                  <a:lnTo>
                    <a:pt x="0" y="486"/>
                  </a:lnTo>
                  <a:lnTo>
                    <a:pt x="52" y="0"/>
                  </a:lnTo>
                  <a:lnTo>
                    <a:pt x="1222" y="0"/>
                  </a:lnTo>
                  <a:lnTo>
                    <a:pt x="1277" y="486"/>
                  </a:lnTo>
                  <a:lnTo>
                    <a:pt x="887" y="48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5164560" y="1443960"/>
              <a:ext cx="17244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545652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750640" y="1443960"/>
              <a:ext cx="174600" cy="17532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6061680" y="1445760"/>
              <a:ext cx="17460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6061680" y="941400"/>
              <a:ext cx="17460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482360" y="2028600"/>
              <a:ext cx="115200" cy="10080"/>
            </a:xfrm>
            <a:custGeom>
              <a:avLst/>
              <a:gdLst/>
              <a:ahLst/>
              <a:rect l="l" t="t" r="r" b="b"/>
              <a:pathLst>
                <a:path w="300" h="28">
                  <a:moveTo>
                    <a:pt x="108" y="0"/>
                  </a:moveTo>
                  <a:lnTo>
                    <a:pt x="165" y="0"/>
                  </a:lnTo>
                  <a:lnTo>
                    <a:pt x="244" y="20"/>
                  </a:lnTo>
                  <a:lnTo>
                    <a:pt x="300" y="28"/>
                  </a:lnTo>
                  <a:lnTo>
                    <a:pt x="0" y="28"/>
                  </a:lnTo>
                  <a:lnTo>
                    <a:pt x="49" y="13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453560" y="2028600"/>
              <a:ext cx="234360" cy="19080"/>
            </a:xfrm>
            <a:custGeom>
              <a:avLst/>
              <a:gdLst/>
              <a:ahLst/>
              <a:rect l="l" t="t" r="r" b="b"/>
              <a:pathLst>
                <a:path w="610" h="55">
                  <a:moveTo>
                    <a:pt x="180" y="0"/>
                  </a:moveTo>
                  <a:lnTo>
                    <a:pt x="237" y="0"/>
                  </a:lnTo>
                  <a:lnTo>
                    <a:pt x="316" y="20"/>
                  </a:lnTo>
                  <a:lnTo>
                    <a:pt x="393" y="31"/>
                  </a:lnTo>
                  <a:lnTo>
                    <a:pt x="482" y="31"/>
                  </a:lnTo>
                  <a:lnTo>
                    <a:pt x="569" y="42"/>
                  </a:lnTo>
                  <a:lnTo>
                    <a:pt x="610" y="55"/>
                  </a:lnTo>
                  <a:lnTo>
                    <a:pt x="0" y="55"/>
                  </a:lnTo>
                  <a:lnTo>
                    <a:pt x="5" y="50"/>
                  </a:lnTo>
                  <a:lnTo>
                    <a:pt x="64" y="31"/>
                  </a:lnTo>
                  <a:lnTo>
                    <a:pt x="121" y="1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443840" y="2039040"/>
              <a:ext cx="276480" cy="19080"/>
            </a:xfrm>
            <a:custGeom>
              <a:avLst/>
              <a:gdLst/>
              <a:ahLst/>
              <a:rect l="l" t="t" r="r" b="b"/>
              <a:pathLst>
                <a:path w="720" h="54">
                  <a:moveTo>
                    <a:pt x="96" y="0"/>
                  </a:moveTo>
                  <a:lnTo>
                    <a:pt x="396" y="0"/>
                  </a:lnTo>
                  <a:lnTo>
                    <a:pt x="417" y="3"/>
                  </a:lnTo>
                  <a:lnTo>
                    <a:pt x="506" y="3"/>
                  </a:lnTo>
                  <a:lnTo>
                    <a:pt x="593" y="14"/>
                  </a:lnTo>
                  <a:lnTo>
                    <a:pt x="717" y="52"/>
                  </a:lnTo>
                  <a:lnTo>
                    <a:pt x="720" y="54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29" y="22"/>
                  </a:lnTo>
                  <a:lnTo>
                    <a:pt x="88" y="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439880" y="2047680"/>
              <a:ext cx="295560" cy="19440"/>
            </a:xfrm>
            <a:custGeom>
              <a:avLst/>
              <a:gdLst/>
              <a:ahLst/>
              <a:rect l="l" t="t" r="r" b="b"/>
              <a:pathLst>
                <a:path w="770" h="54">
                  <a:moveTo>
                    <a:pt x="38" y="0"/>
                  </a:moveTo>
                  <a:lnTo>
                    <a:pt x="648" y="0"/>
                  </a:lnTo>
                  <a:lnTo>
                    <a:pt x="731" y="25"/>
                  </a:lnTo>
                  <a:lnTo>
                    <a:pt x="769" y="53"/>
                  </a:lnTo>
                  <a:lnTo>
                    <a:pt x="770" y="54"/>
                  </a:lnTo>
                  <a:lnTo>
                    <a:pt x="0" y="54"/>
                  </a:lnTo>
                  <a:lnTo>
                    <a:pt x="15" y="2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736800" y="2058120"/>
              <a:ext cx="1008720" cy="19440"/>
            </a:xfrm>
            <a:custGeom>
              <a:avLst/>
              <a:gdLst/>
              <a:ahLst/>
              <a:rect l="l" t="t" r="r" b="b"/>
              <a:pathLst>
                <a:path w="2623" h="54">
                  <a:moveTo>
                    <a:pt x="1840" y="0"/>
                  </a:moveTo>
                  <a:lnTo>
                    <a:pt x="2560" y="0"/>
                  </a:lnTo>
                  <a:lnTo>
                    <a:pt x="2595" y="26"/>
                  </a:lnTo>
                  <a:lnTo>
                    <a:pt x="2623" y="54"/>
                  </a:lnTo>
                  <a:lnTo>
                    <a:pt x="1812" y="54"/>
                  </a:lnTo>
                  <a:lnTo>
                    <a:pt x="1840" y="0"/>
                  </a:lnTo>
                  <a:close/>
                  <a:moveTo>
                    <a:pt x="230" y="54"/>
                  </a:moveTo>
                  <a:lnTo>
                    <a:pt x="0" y="54"/>
                  </a:lnTo>
                  <a:lnTo>
                    <a:pt x="4" y="53"/>
                  </a:lnTo>
                  <a:lnTo>
                    <a:pt x="71" y="46"/>
                  </a:lnTo>
                  <a:lnTo>
                    <a:pt x="186" y="46"/>
                  </a:lnTo>
                  <a:lnTo>
                    <a:pt x="230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3702240" y="2067480"/>
              <a:ext cx="1046880" cy="19080"/>
            </a:xfrm>
            <a:custGeom>
              <a:avLst/>
              <a:gdLst/>
              <a:ahLst/>
              <a:rect l="l" t="t" r="r" b="b"/>
              <a:pathLst>
                <a:path w="2727" h="54">
                  <a:moveTo>
                    <a:pt x="1918" y="0"/>
                  </a:moveTo>
                  <a:lnTo>
                    <a:pt x="2688" y="0"/>
                  </a:lnTo>
                  <a:lnTo>
                    <a:pt x="2716" y="28"/>
                  </a:lnTo>
                  <a:lnTo>
                    <a:pt x="2727" y="54"/>
                  </a:lnTo>
                  <a:lnTo>
                    <a:pt x="1893" y="54"/>
                  </a:lnTo>
                  <a:lnTo>
                    <a:pt x="1894" y="48"/>
                  </a:lnTo>
                  <a:lnTo>
                    <a:pt x="1918" y="0"/>
                  </a:lnTo>
                  <a:close/>
                  <a:moveTo>
                    <a:pt x="417" y="54"/>
                  </a:moveTo>
                  <a:lnTo>
                    <a:pt x="0" y="54"/>
                  </a:lnTo>
                  <a:lnTo>
                    <a:pt x="30" y="37"/>
                  </a:lnTo>
                  <a:lnTo>
                    <a:pt x="96" y="26"/>
                  </a:lnTo>
                  <a:lnTo>
                    <a:pt x="163" y="19"/>
                  </a:lnTo>
                  <a:lnTo>
                    <a:pt x="278" y="19"/>
                  </a:lnTo>
                  <a:lnTo>
                    <a:pt x="377" y="37"/>
                  </a:lnTo>
                  <a:lnTo>
                    <a:pt x="417" y="54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3688920" y="2077920"/>
              <a:ext cx="1065960" cy="17640"/>
            </a:xfrm>
            <a:custGeom>
              <a:avLst/>
              <a:gdLst/>
              <a:ahLst/>
              <a:rect l="l" t="t" r="r" b="b"/>
              <a:pathLst>
                <a:path w="2774" h="54">
                  <a:moveTo>
                    <a:pt x="127" y="0"/>
                  </a:moveTo>
                  <a:lnTo>
                    <a:pt x="357" y="0"/>
                  </a:lnTo>
                  <a:lnTo>
                    <a:pt x="412" y="10"/>
                  </a:lnTo>
                  <a:lnTo>
                    <a:pt x="510" y="50"/>
                  </a:lnTo>
                  <a:lnTo>
                    <a:pt x="520" y="54"/>
                  </a:lnTo>
                  <a:lnTo>
                    <a:pt x="0" y="54"/>
                  </a:lnTo>
                  <a:lnTo>
                    <a:pt x="14" y="39"/>
                  </a:lnTo>
                  <a:lnTo>
                    <a:pt x="65" y="10"/>
                  </a:lnTo>
                  <a:lnTo>
                    <a:pt x="127" y="0"/>
                  </a:lnTo>
                  <a:close/>
                  <a:moveTo>
                    <a:pt x="1939" y="0"/>
                  </a:moveTo>
                  <a:lnTo>
                    <a:pt x="2750" y="0"/>
                  </a:lnTo>
                  <a:lnTo>
                    <a:pt x="2751" y="1"/>
                  </a:lnTo>
                  <a:lnTo>
                    <a:pt x="2774" y="54"/>
                  </a:lnTo>
                  <a:lnTo>
                    <a:pt x="1923" y="54"/>
                  </a:lnTo>
                  <a:lnTo>
                    <a:pt x="1929" y="21"/>
                  </a:lnTo>
                  <a:lnTo>
                    <a:pt x="1939" y="0"/>
                  </a:lnTo>
                  <a:close/>
                </a:path>
              </a:pathLst>
            </a:custGeom>
            <a:solidFill>
              <a:srgbClr val="dc2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3679200" y="2086560"/>
              <a:ext cx="1079640" cy="19440"/>
            </a:xfrm>
            <a:custGeom>
              <a:avLst/>
              <a:gdLst/>
              <a:ahLst/>
              <a:rect l="l" t="t" r="r" b="b"/>
              <a:pathLst>
                <a:path w="2807" h="54">
                  <a:moveTo>
                    <a:pt x="59" y="0"/>
                  </a:moveTo>
                  <a:lnTo>
                    <a:pt x="476" y="0"/>
                  </a:lnTo>
                  <a:lnTo>
                    <a:pt x="534" y="23"/>
                  </a:lnTo>
                  <a:lnTo>
                    <a:pt x="609" y="51"/>
                  </a:lnTo>
                  <a:lnTo>
                    <a:pt x="612" y="54"/>
                  </a:lnTo>
                  <a:lnTo>
                    <a:pt x="0" y="54"/>
                  </a:lnTo>
                  <a:lnTo>
                    <a:pt x="2" y="51"/>
                  </a:lnTo>
                  <a:lnTo>
                    <a:pt x="38" y="12"/>
                  </a:lnTo>
                  <a:lnTo>
                    <a:pt x="59" y="0"/>
                  </a:lnTo>
                  <a:close/>
                  <a:moveTo>
                    <a:pt x="1952" y="0"/>
                  </a:moveTo>
                  <a:lnTo>
                    <a:pt x="2786" y="0"/>
                  </a:lnTo>
                  <a:lnTo>
                    <a:pt x="2804" y="41"/>
                  </a:lnTo>
                  <a:lnTo>
                    <a:pt x="2807" y="54"/>
                  </a:lnTo>
                  <a:lnTo>
                    <a:pt x="1949" y="54"/>
                  </a:lnTo>
                  <a:lnTo>
                    <a:pt x="1944" y="41"/>
                  </a:lnTo>
                  <a:lnTo>
                    <a:pt x="1952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3673440" y="2095560"/>
              <a:ext cx="1087560" cy="19440"/>
            </a:xfrm>
            <a:custGeom>
              <a:avLst/>
              <a:gdLst/>
              <a:ahLst/>
              <a:rect l="l" t="t" r="r" b="b"/>
              <a:pathLst>
                <a:path w="2833" h="54">
                  <a:moveTo>
                    <a:pt x="42" y="0"/>
                  </a:moveTo>
                  <a:lnTo>
                    <a:pt x="562" y="0"/>
                  </a:lnTo>
                  <a:lnTo>
                    <a:pt x="627" y="24"/>
                  </a:lnTo>
                  <a:lnTo>
                    <a:pt x="657" y="54"/>
                  </a:lnTo>
                  <a:lnTo>
                    <a:pt x="0" y="54"/>
                  </a:lnTo>
                  <a:lnTo>
                    <a:pt x="20" y="24"/>
                  </a:lnTo>
                  <a:lnTo>
                    <a:pt x="42" y="0"/>
                  </a:lnTo>
                  <a:close/>
                  <a:moveTo>
                    <a:pt x="1965" y="0"/>
                  </a:moveTo>
                  <a:lnTo>
                    <a:pt x="2816" y="0"/>
                  </a:lnTo>
                  <a:lnTo>
                    <a:pt x="2822" y="14"/>
                  </a:lnTo>
                  <a:lnTo>
                    <a:pt x="2833" y="54"/>
                  </a:lnTo>
                  <a:lnTo>
                    <a:pt x="1975" y="54"/>
                  </a:lnTo>
                  <a:lnTo>
                    <a:pt x="1962" y="14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665520" y="2106360"/>
              <a:ext cx="1096920" cy="17640"/>
            </a:xfrm>
            <a:custGeom>
              <a:avLst/>
              <a:gdLst/>
              <a:ahLst/>
              <a:rect l="l" t="t" r="r" b="b"/>
              <a:pathLst>
                <a:path w="2857" h="53">
                  <a:moveTo>
                    <a:pt x="36" y="0"/>
                  </a:moveTo>
                  <a:lnTo>
                    <a:pt x="648" y="0"/>
                  </a:lnTo>
                  <a:lnTo>
                    <a:pt x="693" y="44"/>
                  </a:lnTo>
                  <a:lnTo>
                    <a:pt x="704" y="53"/>
                  </a:lnTo>
                  <a:lnTo>
                    <a:pt x="0" y="53"/>
                  </a:lnTo>
                  <a:lnTo>
                    <a:pt x="36" y="0"/>
                  </a:lnTo>
                  <a:close/>
                  <a:moveTo>
                    <a:pt x="1985" y="0"/>
                  </a:moveTo>
                  <a:lnTo>
                    <a:pt x="2843" y="0"/>
                  </a:lnTo>
                  <a:lnTo>
                    <a:pt x="2857" y="53"/>
                  </a:lnTo>
                  <a:lnTo>
                    <a:pt x="2005" y="53"/>
                  </a:lnTo>
                  <a:lnTo>
                    <a:pt x="1998" y="44"/>
                  </a:lnTo>
                  <a:lnTo>
                    <a:pt x="198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661920" y="2115000"/>
              <a:ext cx="1106640" cy="19080"/>
            </a:xfrm>
            <a:custGeom>
              <a:avLst/>
              <a:gdLst/>
              <a:ahLst/>
              <a:rect l="l" t="t" r="r" b="b"/>
              <a:pathLst>
                <a:path w="2881" h="54">
                  <a:moveTo>
                    <a:pt x="30" y="0"/>
                  </a:moveTo>
                  <a:lnTo>
                    <a:pt x="687" y="0"/>
                  </a:lnTo>
                  <a:lnTo>
                    <a:pt x="705" y="17"/>
                  </a:lnTo>
                  <a:lnTo>
                    <a:pt x="748" y="54"/>
                  </a:lnTo>
                  <a:lnTo>
                    <a:pt x="0" y="54"/>
                  </a:lnTo>
                  <a:lnTo>
                    <a:pt x="10" y="30"/>
                  </a:lnTo>
                  <a:lnTo>
                    <a:pt x="30" y="0"/>
                  </a:lnTo>
                  <a:close/>
                  <a:moveTo>
                    <a:pt x="2005" y="0"/>
                  </a:moveTo>
                  <a:lnTo>
                    <a:pt x="2863" y="0"/>
                  </a:lnTo>
                  <a:lnTo>
                    <a:pt x="2872" y="39"/>
                  </a:lnTo>
                  <a:lnTo>
                    <a:pt x="2881" y="54"/>
                  </a:lnTo>
                  <a:lnTo>
                    <a:pt x="2033" y="54"/>
                  </a:lnTo>
                  <a:lnTo>
                    <a:pt x="2030" y="47"/>
                  </a:lnTo>
                  <a:lnTo>
                    <a:pt x="2010" y="17"/>
                  </a:lnTo>
                  <a:lnTo>
                    <a:pt x="2005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660120" y="2124000"/>
              <a:ext cx="1113840" cy="19080"/>
            </a:xfrm>
            <a:custGeom>
              <a:avLst/>
              <a:gdLst/>
              <a:ahLst/>
              <a:rect l="l" t="t" r="r" b="b"/>
              <a:pathLst>
                <a:path w="2896" h="55">
                  <a:moveTo>
                    <a:pt x="13" y="0"/>
                  </a:moveTo>
                  <a:lnTo>
                    <a:pt x="717" y="0"/>
                  </a:lnTo>
                  <a:lnTo>
                    <a:pt x="777" y="51"/>
                  </a:lnTo>
                  <a:lnTo>
                    <a:pt x="781" y="55"/>
                  </a:lnTo>
                  <a:lnTo>
                    <a:pt x="0" y="55"/>
                  </a:lnTo>
                  <a:lnTo>
                    <a:pt x="0" y="31"/>
                  </a:lnTo>
                  <a:lnTo>
                    <a:pt x="11" y="4"/>
                  </a:lnTo>
                  <a:lnTo>
                    <a:pt x="13" y="0"/>
                  </a:lnTo>
                  <a:close/>
                  <a:moveTo>
                    <a:pt x="2018" y="0"/>
                  </a:moveTo>
                  <a:lnTo>
                    <a:pt x="2870" y="0"/>
                  </a:lnTo>
                  <a:lnTo>
                    <a:pt x="2873" y="13"/>
                  </a:lnTo>
                  <a:lnTo>
                    <a:pt x="2896" y="55"/>
                  </a:lnTo>
                  <a:lnTo>
                    <a:pt x="2041" y="55"/>
                  </a:lnTo>
                  <a:lnTo>
                    <a:pt x="2041" y="40"/>
                  </a:lnTo>
                  <a:lnTo>
                    <a:pt x="2031" y="21"/>
                  </a:lnTo>
                  <a:lnTo>
                    <a:pt x="2018" y="0"/>
                  </a:lnTo>
                  <a:close/>
                </a:path>
              </a:pathLst>
            </a:custGeom>
            <a:solidFill>
              <a:srgbClr val="dd33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3660120" y="2134440"/>
              <a:ext cx="1119960" cy="19440"/>
            </a:xfrm>
            <a:custGeom>
              <a:avLst/>
              <a:gdLst/>
              <a:ahLst/>
              <a:rect l="l" t="t" r="r" b="b"/>
              <a:pathLst>
                <a:path w="2912" h="54">
                  <a:moveTo>
                    <a:pt x="1" y="0"/>
                  </a:moveTo>
                  <a:lnTo>
                    <a:pt x="749" y="0"/>
                  </a:lnTo>
                  <a:lnTo>
                    <a:pt x="777" y="23"/>
                  </a:lnTo>
                  <a:lnTo>
                    <a:pt x="804" y="54"/>
                  </a:lnTo>
                  <a:lnTo>
                    <a:pt x="15" y="54"/>
                  </a:lnTo>
                  <a:lnTo>
                    <a:pt x="11" y="50"/>
                  </a:lnTo>
                  <a:lnTo>
                    <a:pt x="0" y="34"/>
                  </a:lnTo>
                  <a:lnTo>
                    <a:pt x="0" y="3"/>
                  </a:lnTo>
                  <a:lnTo>
                    <a:pt x="1" y="0"/>
                  </a:lnTo>
                  <a:close/>
                  <a:moveTo>
                    <a:pt x="2034" y="0"/>
                  </a:moveTo>
                  <a:lnTo>
                    <a:pt x="2882" y="0"/>
                  </a:lnTo>
                  <a:lnTo>
                    <a:pt x="2911" y="52"/>
                  </a:lnTo>
                  <a:lnTo>
                    <a:pt x="2912" y="54"/>
                  </a:lnTo>
                  <a:lnTo>
                    <a:pt x="2041" y="54"/>
                  </a:lnTo>
                  <a:lnTo>
                    <a:pt x="2041" y="12"/>
                  </a:lnTo>
                  <a:lnTo>
                    <a:pt x="2034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3660120" y="2143080"/>
              <a:ext cx="1127520" cy="19440"/>
            </a:xfrm>
            <a:custGeom>
              <a:avLst/>
              <a:gdLst/>
              <a:ahLst/>
              <a:rect l="l" t="t" r="r" b="b"/>
              <a:pathLst>
                <a:path w="2932" h="54">
                  <a:moveTo>
                    <a:pt x="0" y="0"/>
                  </a:moveTo>
                  <a:lnTo>
                    <a:pt x="781" y="0"/>
                  </a:lnTo>
                  <a:lnTo>
                    <a:pt x="824" y="51"/>
                  </a:lnTo>
                  <a:lnTo>
                    <a:pt x="825" y="54"/>
                  </a:lnTo>
                  <a:lnTo>
                    <a:pt x="9" y="54"/>
                  </a:lnTo>
                  <a:lnTo>
                    <a:pt x="11" y="51"/>
                  </a:lnTo>
                  <a:lnTo>
                    <a:pt x="24" y="35"/>
                  </a:lnTo>
                  <a:lnTo>
                    <a:pt x="11" y="23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041" y="0"/>
                  </a:moveTo>
                  <a:lnTo>
                    <a:pt x="2896" y="0"/>
                  </a:lnTo>
                  <a:lnTo>
                    <a:pt x="2911" y="25"/>
                  </a:lnTo>
                  <a:lnTo>
                    <a:pt x="2930" y="53"/>
                  </a:lnTo>
                  <a:lnTo>
                    <a:pt x="2932" y="54"/>
                  </a:lnTo>
                  <a:lnTo>
                    <a:pt x="2041" y="54"/>
                  </a:lnTo>
                  <a:lnTo>
                    <a:pt x="2041" y="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3656160" y="2154240"/>
              <a:ext cx="1144800" cy="19080"/>
            </a:xfrm>
            <a:custGeom>
              <a:avLst/>
              <a:gdLst/>
              <a:ahLst/>
              <a:rect l="l" t="t" r="r" b="b"/>
              <a:pathLst>
                <a:path w="2979" h="54">
                  <a:moveTo>
                    <a:pt x="25" y="0"/>
                  </a:moveTo>
                  <a:lnTo>
                    <a:pt x="814" y="0"/>
                  </a:lnTo>
                  <a:lnTo>
                    <a:pt x="834" y="24"/>
                  </a:lnTo>
                  <a:lnTo>
                    <a:pt x="840" y="54"/>
                  </a:lnTo>
                  <a:lnTo>
                    <a:pt x="0" y="54"/>
                  </a:lnTo>
                  <a:lnTo>
                    <a:pt x="21" y="24"/>
                  </a:lnTo>
                  <a:lnTo>
                    <a:pt x="34" y="8"/>
                  </a:lnTo>
                  <a:lnTo>
                    <a:pt x="25" y="0"/>
                  </a:lnTo>
                  <a:close/>
                  <a:moveTo>
                    <a:pt x="2051" y="0"/>
                  </a:moveTo>
                  <a:lnTo>
                    <a:pt x="2922" y="0"/>
                  </a:lnTo>
                  <a:lnTo>
                    <a:pt x="2940" y="26"/>
                  </a:lnTo>
                  <a:lnTo>
                    <a:pt x="2970" y="48"/>
                  </a:lnTo>
                  <a:lnTo>
                    <a:pt x="2979" y="54"/>
                  </a:lnTo>
                  <a:lnTo>
                    <a:pt x="2051" y="54"/>
                  </a:lnTo>
                  <a:lnTo>
                    <a:pt x="2051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3650400" y="2162880"/>
              <a:ext cx="1165680" cy="19080"/>
            </a:xfrm>
            <a:custGeom>
              <a:avLst/>
              <a:gdLst/>
              <a:ahLst/>
              <a:rect l="l" t="t" r="r" b="b"/>
              <a:pathLst>
                <a:path w="3036" h="54">
                  <a:moveTo>
                    <a:pt x="38" y="0"/>
                  </a:moveTo>
                  <a:lnTo>
                    <a:pt x="854" y="0"/>
                  </a:lnTo>
                  <a:lnTo>
                    <a:pt x="864" y="54"/>
                  </a:lnTo>
                  <a:lnTo>
                    <a:pt x="0" y="54"/>
                  </a:lnTo>
                  <a:lnTo>
                    <a:pt x="9" y="41"/>
                  </a:lnTo>
                  <a:lnTo>
                    <a:pt x="38" y="0"/>
                  </a:lnTo>
                  <a:close/>
                  <a:moveTo>
                    <a:pt x="2070" y="0"/>
                  </a:moveTo>
                  <a:lnTo>
                    <a:pt x="2961" y="0"/>
                  </a:lnTo>
                  <a:lnTo>
                    <a:pt x="2989" y="21"/>
                  </a:lnTo>
                  <a:lnTo>
                    <a:pt x="3026" y="48"/>
                  </a:lnTo>
                  <a:lnTo>
                    <a:pt x="3036" y="54"/>
                  </a:lnTo>
                  <a:lnTo>
                    <a:pt x="2070" y="54"/>
                  </a:lnTo>
                  <a:lnTo>
                    <a:pt x="2070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642480" y="2173320"/>
              <a:ext cx="1189440" cy="17640"/>
            </a:xfrm>
            <a:custGeom>
              <a:avLst/>
              <a:gdLst/>
              <a:ahLst/>
              <a:rect l="l" t="t" r="r" b="b"/>
              <a:pathLst>
                <a:path w="3096" h="54">
                  <a:moveTo>
                    <a:pt x="37" y="0"/>
                  </a:moveTo>
                  <a:lnTo>
                    <a:pt x="877" y="0"/>
                  </a:lnTo>
                  <a:lnTo>
                    <a:pt x="888" y="54"/>
                  </a:lnTo>
                  <a:lnTo>
                    <a:pt x="0" y="54"/>
                  </a:lnTo>
                  <a:lnTo>
                    <a:pt x="27" y="14"/>
                  </a:lnTo>
                  <a:lnTo>
                    <a:pt x="37" y="0"/>
                  </a:lnTo>
                  <a:close/>
                  <a:moveTo>
                    <a:pt x="2088" y="0"/>
                  </a:moveTo>
                  <a:lnTo>
                    <a:pt x="3016" y="0"/>
                  </a:lnTo>
                  <a:lnTo>
                    <a:pt x="3044" y="21"/>
                  </a:lnTo>
                  <a:lnTo>
                    <a:pt x="3094" y="50"/>
                  </a:lnTo>
                  <a:lnTo>
                    <a:pt x="3096" y="54"/>
                  </a:lnTo>
                  <a:lnTo>
                    <a:pt x="2088" y="54"/>
                  </a:lnTo>
                  <a:lnTo>
                    <a:pt x="2088" y="0"/>
                  </a:lnTo>
                  <a:close/>
                </a:path>
              </a:pathLst>
            </a:custGeom>
            <a:solidFill>
              <a:srgbClr val="dd3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637080" y="2182320"/>
              <a:ext cx="1202400" cy="19440"/>
            </a:xfrm>
            <a:custGeom>
              <a:avLst/>
              <a:gdLst/>
              <a:ahLst/>
              <a:rect l="l" t="t" r="r" b="b"/>
              <a:pathLst>
                <a:path w="3133" h="54">
                  <a:moveTo>
                    <a:pt x="35" y="0"/>
                  </a:moveTo>
                  <a:lnTo>
                    <a:pt x="899" y="0"/>
                  </a:lnTo>
                  <a:lnTo>
                    <a:pt x="908" y="41"/>
                  </a:lnTo>
                  <a:lnTo>
                    <a:pt x="912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05" y="0"/>
                  </a:moveTo>
                  <a:lnTo>
                    <a:pt x="3071" y="0"/>
                  </a:lnTo>
                  <a:lnTo>
                    <a:pt x="3111" y="23"/>
                  </a:lnTo>
                  <a:lnTo>
                    <a:pt x="3133" y="54"/>
                  </a:lnTo>
                  <a:lnTo>
                    <a:pt x="2105" y="54"/>
                  </a:lnTo>
                  <a:lnTo>
                    <a:pt x="2105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629160" y="2190960"/>
              <a:ext cx="1218240" cy="19440"/>
            </a:xfrm>
            <a:custGeom>
              <a:avLst/>
              <a:gdLst/>
              <a:ahLst/>
              <a:rect l="l" t="t" r="r" b="b"/>
              <a:pathLst>
                <a:path w="3171" h="54">
                  <a:moveTo>
                    <a:pt x="35" y="0"/>
                  </a:moveTo>
                  <a:lnTo>
                    <a:pt x="923" y="0"/>
                  </a:lnTo>
                  <a:lnTo>
                    <a:pt x="926" y="14"/>
                  </a:lnTo>
                  <a:lnTo>
                    <a:pt x="938" y="54"/>
                  </a:lnTo>
                  <a:lnTo>
                    <a:pt x="0" y="54"/>
                  </a:lnTo>
                  <a:lnTo>
                    <a:pt x="35" y="0"/>
                  </a:lnTo>
                  <a:close/>
                  <a:moveTo>
                    <a:pt x="2123" y="0"/>
                  </a:moveTo>
                  <a:lnTo>
                    <a:pt x="3131" y="0"/>
                  </a:lnTo>
                  <a:lnTo>
                    <a:pt x="3171" y="54"/>
                  </a:lnTo>
                  <a:lnTo>
                    <a:pt x="2123" y="54"/>
                  </a:lnTo>
                  <a:lnTo>
                    <a:pt x="2123" y="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625200" y="2201760"/>
              <a:ext cx="1227600" cy="17640"/>
            </a:xfrm>
            <a:custGeom>
              <a:avLst/>
              <a:gdLst/>
              <a:ahLst/>
              <a:rect l="l" t="t" r="r" b="b"/>
              <a:pathLst>
                <a:path w="3196" h="53">
                  <a:moveTo>
                    <a:pt x="27" y="0"/>
                  </a:moveTo>
                  <a:lnTo>
                    <a:pt x="939" y="0"/>
                  </a:lnTo>
                  <a:lnTo>
                    <a:pt x="955" y="47"/>
                  </a:lnTo>
                  <a:lnTo>
                    <a:pt x="955" y="53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27" y="0"/>
                  </a:lnTo>
                  <a:close/>
                  <a:moveTo>
                    <a:pt x="2132" y="0"/>
                  </a:moveTo>
                  <a:lnTo>
                    <a:pt x="3160" y="0"/>
                  </a:lnTo>
                  <a:lnTo>
                    <a:pt x="3187" y="37"/>
                  </a:lnTo>
                  <a:lnTo>
                    <a:pt x="3196" y="53"/>
                  </a:lnTo>
                  <a:lnTo>
                    <a:pt x="2141" y="53"/>
                  </a:lnTo>
                  <a:lnTo>
                    <a:pt x="2132" y="27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623400" y="2210760"/>
              <a:ext cx="1235160" cy="19080"/>
            </a:xfrm>
            <a:custGeom>
              <a:avLst/>
              <a:gdLst/>
              <a:ahLst/>
              <a:rect l="l" t="t" r="r" b="b"/>
              <a:pathLst>
                <a:path w="3215" h="54">
                  <a:moveTo>
                    <a:pt x="13" y="0"/>
                  </a:moveTo>
                  <a:lnTo>
                    <a:pt x="951" y="0"/>
                  </a:lnTo>
                  <a:lnTo>
                    <a:pt x="959" y="20"/>
                  </a:lnTo>
                  <a:lnTo>
                    <a:pt x="959" y="54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7" y="8"/>
                  </a:lnTo>
                  <a:lnTo>
                    <a:pt x="13" y="0"/>
                  </a:lnTo>
                  <a:close/>
                  <a:moveTo>
                    <a:pt x="2136" y="0"/>
                  </a:moveTo>
                  <a:lnTo>
                    <a:pt x="3184" y="0"/>
                  </a:lnTo>
                  <a:lnTo>
                    <a:pt x="3191" y="10"/>
                  </a:lnTo>
                  <a:lnTo>
                    <a:pt x="3215" y="54"/>
                  </a:lnTo>
                  <a:lnTo>
                    <a:pt x="2155" y="54"/>
                  </a:lnTo>
                  <a:lnTo>
                    <a:pt x="2136" y="0"/>
                  </a:lnTo>
                  <a:lnTo>
                    <a:pt x="2136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623400" y="2219400"/>
              <a:ext cx="1241280" cy="19080"/>
            </a:xfrm>
            <a:custGeom>
              <a:avLst/>
              <a:gdLst/>
              <a:ahLst/>
              <a:rect l="l" t="t" r="r" b="b"/>
              <a:pathLst>
                <a:path w="3230" h="55">
                  <a:moveTo>
                    <a:pt x="4" y="0"/>
                  </a:moveTo>
                  <a:lnTo>
                    <a:pt x="959" y="0"/>
                  </a:lnTo>
                  <a:lnTo>
                    <a:pt x="959" y="33"/>
                  </a:lnTo>
                  <a:lnTo>
                    <a:pt x="949" y="55"/>
                  </a:lnTo>
                  <a:lnTo>
                    <a:pt x="5" y="55"/>
                  </a:lnTo>
                  <a:lnTo>
                    <a:pt x="0" y="41"/>
                  </a:lnTo>
                  <a:lnTo>
                    <a:pt x="0" y="21"/>
                  </a:lnTo>
                  <a:lnTo>
                    <a:pt x="4" y="0"/>
                  </a:lnTo>
                  <a:close/>
                  <a:moveTo>
                    <a:pt x="2145" y="0"/>
                  </a:moveTo>
                  <a:lnTo>
                    <a:pt x="3200" y="0"/>
                  </a:lnTo>
                  <a:lnTo>
                    <a:pt x="3230" y="55"/>
                  </a:lnTo>
                  <a:lnTo>
                    <a:pt x="3054" y="55"/>
                  </a:lnTo>
                  <a:lnTo>
                    <a:pt x="3047" y="53"/>
                  </a:lnTo>
                  <a:lnTo>
                    <a:pt x="3048" y="55"/>
                  </a:lnTo>
                  <a:lnTo>
                    <a:pt x="2163" y="55"/>
                  </a:lnTo>
                  <a:lnTo>
                    <a:pt x="2164" y="53"/>
                  </a:lnTo>
                  <a:lnTo>
                    <a:pt x="2145" y="0"/>
                  </a:lnTo>
                  <a:close/>
                </a:path>
              </a:pathLst>
            </a:custGeom>
            <a:solidFill>
              <a:srgbClr val="de3d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619440" y="2229840"/>
              <a:ext cx="1250640" cy="19440"/>
            </a:xfrm>
            <a:custGeom>
              <a:avLst/>
              <a:gdLst/>
              <a:ahLst/>
              <a:rect l="l" t="t" r="r" b="b"/>
              <a:pathLst>
                <a:path w="3257" h="53">
                  <a:moveTo>
                    <a:pt x="14" y="0"/>
                  </a:moveTo>
                  <a:lnTo>
                    <a:pt x="973" y="0"/>
                  </a:lnTo>
                  <a:lnTo>
                    <a:pt x="973" y="5"/>
                  </a:lnTo>
                  <a:lnTo>
                    <a:pt x="961" y="32"/>
                  </a:lnTo>
                  <a:lnTo>
                    <a:pt x="945" y="53"/>
                  </a:lnTo>
                  <a:lnTo>
                    <a:pt x="0" y="53"/>
                  </a:lnTo>
                  <a:lnTo>
                    <a:pt x="3" y="52"/>
                  </a:lnTo>
                  <a:lnTo>
                    <a:pt x="21" y="32"/>
                  </a:lnTo>
                  <a:lnTo>
                    <a:pt x="14" y="13"/>
                  </a:lnTo>
                  <a:lnTo>
                    <a:pt x="14" y="0"/>
                  </a:lnTo>
                  <a:close/>
                  <a:moveTo>
                    <a:pt x="2169" y="0"/>
                  </a:moveTo>
                  <a:lnTo>
                    <a:pt x="3229" y="0"/>
                  </a:lnTo>
                  <a:lnTo>
                    <a:pt x="3252" y="43"/>
                  </a:lnTo>
                  <a:lnTo>
                    <a:pt x="3257" y="53"/>
                  </a:lnTo>
                  <a:lnTo>
                    <a:pt x="3151" y="53"/>
                  </a:lnTo>
                  <a:lnTo>
                    <a:pt x="3126" y="43"/>
                  </a:lnTo>
                  <a:lnTo>
                    <a:pt x="3061" y="25"/>
                  </a:lnTo>
                  <a:lnTo>
                    <a:pt x="3078" y="53"/>
                  </a:lnTo>
                  <a:lnTo>
                    <a:pt x="2169" y="53"/>
                  </a:lnTo>
                  <a:lnTo>
                    <a:pt x="2178" y="25"/>
                  </a:lnTo>
                  <a:lnTo>
                    <a:pt x="2169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608280" y="2238840"/>
              <a:ext cx="1266120" cy="19440"/>
            </a:xfrm>
            <a:custGeom>
              <a:avLst/>
              <a:gdLst/>
              <a:ahLst/>
              <a:rect l="l" t="t" r="r" b="b"/>
              <a:pathLst>
                <a:path w="3298" h="54">
                  <a:moveTo>
                    <a:pt x="49" y="0"/>
                  </a:moveTo>
                  <a:lnTo>
                    <a:pt x="993" y="0"/>
                  </a:lnTo>
                  <a:lnTo>
                    <a:pt x="991" y="5"/>
                  </a:lnTo>
                  <a:lnTo>
                    <a:pt x="963" y="45"/>
                  </a:lnTo>
                  <a:lnTo>
                    <a:pt x="961" y="54"/>
                  </a:lnTo>
                  <a:lnTo>
                    <a:pt x="0" y="54"/>
                  </a:lnTo>
                  <a:lnTo>
                    <a:pt x="33" y="25"/>
                  </a:lnTo>
                  <a:lnTo>
                    <a:pt x="51" y="5"/>
                  </a:lnTo>
                  <a:lnTo>
                    <a:pt x="49" y="0"/>
                  </a:lnTo>
                  <a:close/>
                  <a:moveTo>
                    <a:pt x="2207" y="0"/>
                  </a:moveTo>
                  <a:lnTo>
                    <a:pt x="3092" y="0"/>
                  </a:lnTo>
                  <a:lnTo>
                    <a:pt x="3118" y="45"/>
                  </a:lnTo>
                  <a:lnTo>
                    <a:pt x="3127" y="54"/>
                  </a:lnTo>
                  <a:lnTo>
                    <a:pt x="2191" y="54"/>
                  </a:lnTo>
                  <a:lnTo>
                    <a:pt x="2207" y="0"/>
                  </a:lnTo>
                  <a:close/>
                  <a:moveTo>
                    <a:pt x="3098" y="0"/>
                  </a:moveTo>
                  <a:lnTo>
                    <a:pt x="3274" y="0"/>
                  </a:lnTo>
                  <a:lnTo>
                    <a:pt x="3282" y="16"/>
                  </a:lnTo>
                  <a:lnTo>
                    <a:pt x="3298" y="54"/>
                  </a:lnTo>
                  <a:lnTo>
                    <a:pt x="3234" y="54"/>
                  </a:lnTo>
                  <a:lnTo>
                    <a:pt x="3223" y="45"/>
                  </a:lnTo>
                  <a:lnTo>
                    <a:pt x="3156" y="16"/>
                  </a:lnTo>
                  <a:lnTo>
                    <a:pt x="3098" y="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598560" y="2249640"/>
              <a:ext cx="1279440" cy="19080"/>
            </a:xfrm>
            <a:custGeom>
              <a:avLst/>
              <a:gdLst/>
              <a:ahLst/>
              <a:rect l="l" t="t" r="r" b="b"/>
              <a:pathLst>
                <a:path w="3333" h="55">
                  <a:moveTo>
                    <a:pt x="55" y="0"/>
                  </a:moveTo>
                  <a:lnTo>
                    <a:pt x="1000" y="0"/>
                  </a:lnTo>
                  <a:lnTo>
                    <a:pt x="988" y="19"/>
                  </a:lnTo>
                  <a:lnTo>
                    <a:pt x="979" y="55"/>
                  </a:lnTo>
                  <a:lnTo>
                    <a:pt x="0" y="55"/>
                  </a:lnTo>
                  <a:lnTo>
                    <a:pt x="22" y="31"/>
                  </a:lnTo>
                  <a:lnTo>
                    <a:pt x="55" y="0"/>
                  </a:lnTo>
                  <a:close/>
                  <a:moveTo>
                    <a:pt x="2224" y="0"/>
                  </a:moveTo>
                  <a:lnTo>
                    <a:pt x="3133" y="0"/>
                  </a:lnTo>
                  <a:lnTo>
                    <a:pt x="3143" y="19"/>
                  </a:lnTo>
                  <a:lnTo>
                    <a:pt x="3178" y="55"/>
                  </a:lnTo>
                  <a:lnTo>
                    <a:pt x="2208" y="55"/>
                  </a:lnTo>
                  <a:lnTo>
                    <a:pt x="2224" y="0"/>
                  </a:lnTo>
                  <a:close/>
                  <a:moveTo>
                    <a:pt x="3206" y="0"/>
                  </a:moveTo>
                  <a:lnTo>
                    <a:pt x="3312" y="0"/>
                  </a:lnTo>
                  <a:lnTo>
                    <a:pt x="3333" y="55"/>
                  </a:lnTo>
                  <a:lnTo>
                    <a:pt x="3291" y="55"/>
                  </a:lnTo>
                  <a:lnTo>
                    <a:pt x="3248" y="19"/>
                  </a:lnTo>
                  <a:lnTo>
                    <a:pt x="320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588840" y="2258640"/>
              <a:ext cx="1292760" cy="19080"/>
            </a:xfrm>
            <a:custGeom>
              <a:avLst/>
              <a:gdLst/>
              <a:ahLst/>
              <a:rect l="l" t="t" r="r" b="b"/>
              <a:pathLst>
                <a:path w="3365" h="54">
                  <a:moveTo>
                    <a:pt x="49" y="0"/>
                  </a:moveTo>
                  <a:lnTo>
                    <a:pt x="1010" y="0"/>
                  </a:lnTo>
                  <a:lnTo>
                    <a:pt x="1000" y="39"/>
                  </a:lnTo>
                  <a:lnTo>
                    <a:pt x="1000" y="54"/>
                  </a:lnTo>
                  <a:lnTo>
                    <a:pt x="0" y="54"/>
                  </a:lnTo>
                  <a:lnTo>
                    <a:pt x="6" y="47"/>
                  </a:lnTo>
                  <a:lnTo>
                    <a:pt x="46" y="3"/>
                  </a:lnTo>
                  <a:lnTo>
                    <a:pt x="49" y="0"/>
                  </a:lnTo>
                  <a:close/>
                  <a:moveTo>
                    <a:pt x="2240" y="0"/>
                  </a:moveTo>
                  <a:lnTo>
                    <a:pt x="3176" y="0"/>
                  </a:lnTo>
                  <a:lnTo>
                    <a:pt x="3205" y="31"/>
                  </a:lnTo>
                  <a:lnTo>
                    <a:pt x="3247" y="54"/>
                  </a:lnTo>
                  <a:lnTo>
                    <a:pt x="2224" y="54"/>
                  </a:lnTo>
                  <a:lnTo>
                    <a:pt x="2240" y="0"/>
                  </a:lnTo>
                  <a:close/>
                  <a:moveTo>
                    <a:pt x="3283" y="0"/>
                  </a:moveTo>
                  <a:lnTo>
                    <a:pt x="3347" y="0"/>
                  </a:lnTo>
                  <a:lnTo>
                    <a:pt x="3359" y="31"/>
                  </a:lnTo>
                  <a:lnTo>
                    <a:pt x="3365" y="54"/>
                  </a:lnTo>
                  <a:lnTo>
                    <a:pt x="3342" y="54"/>
                  </a:lnTo>
                  <a:lnTo>
                    <a:pt x="3331" y="41"/>
                  </a:lnTo>
                  <a:lnTo>
                    <a:pt x="3283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581280" y="2269080"/>
              <a:ext cx="1302840" cy="176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45" y="0"/>
                  </a:moveTo>
                  <a:lnTo>
                    <a:pt x="1024" y="0"/>
                  </a:lnTo>
                  <a:lnTo>
                    <a:pt x="1021" y="12"/>
                  </a:lnTo>
                  <a:lnTo>
                    <a:pt x="1021" y="54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27" y="20"/>
                  </a:lnTo>
                  <a:lnTo>
                    <a:pt x="45" y="0"/>
                  </a:lnTo>
                  <a:close/>
                  <a:moveTo>
                    <a:pt x="2253" y="0"/>
                  </a:moveTo>
                  <a:lnTo>
                    <a:pt x="3223" y="0"/>
                  </a:lnTo>
                  <a:lnTo>
                    <a:pt x="3226" y="4"/>
                  </a:lnTo>
                  <a:lnTo>
                    <a:pt x="3317" y="54"/>
                  </a:lnTo>
                  <a:lnTo>
                    <a:pt x="2237" y="54"/>
                  </a:lnTo>
                  <a:lnTo>
                    <a:pt x="2253" y="0"/>
                  </a:lnTo>
                  <a:close/>
                  <a:moveTo>
                    <a:pt x="3336" y="0"/>
                  </a:moveTo>
                  <a:lnTo>
                    <a:pt x="3378" y="0"/>
                  </a:lnTo>
                  <a:lnTo>
                    <a:pt x="3380" y="4"/>
                  </a:lnTo>
                  <a:lnTo>
                    <a:pt x="3392" y="51"/>
                  </a:lnTo>
                  <a:lnTo>
                    <a:pt x="3392" y="54"/>
                  </a:lnTo>
                  <a:lnTo>
                    <a:pt x="3385" y="54"/>
                  </a:lnTo>
                  <a:lnTo>
                    <a:pt x="3352" y="14"/>
                  </a:lnTo>
                  <a:lnTo>
                    <a:pt x="3336" y="0"/>
                  </a:lnTo>
                  <a:close/>
                </a:path>
              </a:pathLst>
            </a:custGeom>
            <a:solidFill>
              <a:srgbClr val="de4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581280" y="2277720"/>
              <a:ext cx="1302840" cy="19440"/>
            </a:xfrm>
            <a:custGeom>
              <a:avLst/>
              <a:gdLst/>
              <a:ahLst/>
              <a:rect l="l" t="t" r="r" b="b"/>
              <a:pathLst>
                <a:path w="3392" h="54">
                  <a:moveTo>
                    <a:pt x="21" y="0"/>
                  </a:moveTo>
                  <a:lnTo>
                    <a:pt x="1021" y="0"/>
                  </a:lnTo>
                  <a:lnTo>
                    <a:pt x="1021" y="36"/>
                  </a:lnTo>
                  <a:lnTo>
                    <a:pt x="1029" y="54"/>
                  </a:lnTo>
                  <a:lnTo>
                    <a:pt x="1" y="54"/>
                  </a:lnTo>
                  <a:lnTo>
                    <a:pt x="0" y="52"/>
                  </a:lnTo>
                  <a:lnTo>
                    <a:pt x="0" y="24"/>
                  </a:lnTo>
                  <a:lnTo>
                    <a:pt x="21" y="0"/>
                  </a:lnTo>
                  <a:close/>
                  <a:moveTo>
                    <a:pt x="2245" y="0"/>
                  </a:moveTo>
                  <a:lnTo>
                    <a:pt x="3268" y="0"/>
                  </a:lnTo>
                  <a:lnTo>
                    <a:pt x="3334" y="36"/>
                  </a:lnTo>
                  <a:lnTo>
                    <a:pt x="3359" y="54"/>
                  </a:lnTo>
                  <a:lnTo>
                    <a:pt x="2276" y="54"/>
                  </a:lnTo>
                  <a:lnTo>
                    <a:pt x="2232" y="43"/>
                  </a:lnTo>
                  <a:lnTo>
                    <a:pt x="2245" y="0"/>
                  </a:lnTo>
                  <a:close/>
                  <a:moveTo>
                    <a:pt x="3363" y="0"/>
                  </a:moveTo>
                  <a:lnTo>
                    <a:pt x="3386" y="0"/>
                  </a:lnTo>
                  <a:lnTo>
                    <a:pt x="3392" y="24"/>
                  </a:lnTo>
                  <a:lnTo>
                    <a:pt x="3392" y="3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581280" y="2286720"/>
              <a:ext cx="1304280" cy="19440"/>
            </a:xfrm>
            <a:custGeom>
              <a:avLst/>
              <a:gdLst/>
              <a:ahLst/>
              <a:rect l="l" t="t" r="r" b="b"/>
              <a:pathLst>
                <a:path w="3397" h="54">
                  <a:moveTo>
                    <a:pt x="0" y="0"/>
                  </a:moveTo>
                  <a:lnTo>
                    <a:pt x="1021" y="0"/>
                  </a:lnTo>
                  <a:lnTo>
                    <a:pt x="1021" y="9"/>
                  </a:lnTo>
                  <a:lnTo>
                    <a:pt x="1033" y="36"/>
                  </a:lnTo>
                  <a:lnTo>
                    <a:pt x="1033" y="54"/>
                  </a:lnTo>
                  <a:lnTo>
                    <a:pt x="28" y="54"/>
                  </a:lnTo>
                  <a:lnTo>
                    <a:pt x="15" y="4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237" y="0"/>
                  </a:moveTo>
                  <a:lnTo>
                    <a:pt x="3317" y="0"/>
                  </a:lnTo>
                  <a:lnTo>
                    <a:pt x="3334" y="9"/>
                  </a:lnTo>
                  <a:lnTo>
                    <a:pt x="3397" y="54"/>
                  </a:lnTo>
                  <a:lnTo>
                    <a:pt x="2323" y="54"/>
                  </a:lnTo>
                  <a:lnTo>
                    <a:pt x="2319" y="36"/>
                  </a:lnTo>
                  <a:lnTo>
                    <a:pt x="2232" y="16"/>
                  </a:lnTo>
                  <a:lnTo>
                    <a:pt x="2237" y="0"/>
                  </a:lnTo>
                  <a:close/>
                  <a:moveTo>
                    <a:pt x="3385" y="0"/>
                  </a:moveTo>
                  <a:lnTo>
                    <a:pt x="3392" y="0"/>
                  </a:lnTo>
                  <a:lnTo>
                    <a:pt x="3392" y="9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3581280" y="2297520"/>
              <a:ext cx="1319760" cy="17640"/>
            </a:xfrm>
            <a:custGeom>
              <a:avLst/>
              <a:gdLst/>
              <a:ahLst/>
              <a:rect l="l" t="t" r="r" b="b"/>
              <a:pathLst>
                <a:path w="3434" h="53">
                  <a:moveTo>
                    <a:pt x="0" y="0"/>
                  </a:moveTo>
                  <a:lnTo>
                    <a:pt x="1028" y="0"/>
                  </a:lnTo>
                  <a:lnTo>
                    <a:pt x="1032" y="9"/>
                  </a:lnTo>
                  <a:lnTo>
                    <a:pt x="1032" y="38"/>
                  </a:lnTo>
                  <a:lnTo>
                    <a:pt x="1029" y="53"/>
                  </a:lnTo>
                  <a:lnTo>
                    <a:pt x="48" y="53"/>
                  </a:lnTo>
                  <a:lnTo>
                    <a:pt x="53" y="38"/>
                  </a:lnTo>
                  <a:lnTo>
                    <a:pt x="42" y="38"/>
                  </a:lnTo>
                  <a:lnTo>
                    <a:pt x="14" y="18"/>
                  </a:lnTo>
                  <a:lnTo>
                    <a:pt x="0" y="0"/>
                  </a:lnTo>
                  <a:close/>
                  <a:moveTo>
                    <a:pt x="2275" y="0"/>
                  </a:moveTo>
                  <a:lnTo>
                    <a:pt x="3358" y="0"/>
                  </a:lnTo>
                  <a:lnTo>
                    <a:pt x="3434" y="53"/>
                  </a:lnTo>
                  <a:lnTo>
                    <a:pt x="2330" y="53"/>
                  </a:lnTo>
                  <a:lnTo>
                    <a:pt x="2318" y="9"/>
                  </a:lnTo>
                  <a:lnTo>
                    <a:pt x="2275" y="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3590640" y="2306160"/>
              <a:ext cx="1320120" cy="1908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0" y="0"/>
                  </a:moveTo>
                  <a:lnTo>
                    <a:pt x="1005" y="0"/>
                  </a:lnTo>
                  <a:lnTo>
                    <a:pt x="1005" y="11"/>
                  </a:lnTo>
                  <a:lnTo>
                    <a:pt x="996" y="54"/>
                  </a:lnTo>
                  <a:lnTo>
                    <a:pt x="15" y="54"/>
                  </a:lnTo>
                  <a:lnTo>
                    <a:pt x="15" y="42"/>
                  </a:lnTo>
                  <a:lnTo>
                    <a:pt x="26" y="11"/>
                  </a:lnTo>
                  <a:lnTo>
                    <a:pt x="15" y="11"/>
                  </a:lnTo>
                  <a:lnTo>
                    <a:pt x="0" y="0"/>
                  </a:lnTo>
                  <a:close/>
                  <a:moveTo>
                    <a:pt x="2295" y="0"/>
                  </a:moveTo>
                  <a:lnTo>
                    <a:pt x="3369" y="0"/>
                  </a:lnTo>
                  <a:lnTo>
                    <a:pt x="3411" y="30"/>
                  </a:lnTo>
                  <a:lnTo>
                    <a:pt x="3434" y="54"/>
                  </a:lnTo>
                  <a:lnTo>
                    <a:pt x="2363" y="54"/>
                  </a:lnTo>
                  <a:lnTo>
                    <a:pt x="2366" y="50"/>
                  </a:lnTo>
                  <a:lnTo>
                    <a:pt x="2309" y="50"/>
                  </a:lnTo>
                  <a:lnTo>
                    <a:pt x="2295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3596400" y="2315160"/>
              <a:ext cx="1321920" cy="19080"/>
            </a:xfrm>
            <a:custGeom>
              <a:avLst/>
              <a:gdLst/>
              <a:ahLst/>
              <a:rect l="l" t="t" r="r" b="b"/>
              <a:pathLst>
                <a:path w="3438" h="55">
                  <a:moveTo>
                    <a:pt x="6" y="0"/>
                  </a:moveTo>
                  <a:lnTo>
                    <a:pt x="987" y="0"/>
                  </a:lnTo>
                  <a:lnTo>
                    <a:pt x="978" y="44"/>
                  </a:lnTo>
                  <a:lnTo>
                    <a:pt x="973" y="55"/>
                  </a:lnTo>
                  <a:lnTo>
                    <a:pt x="0" y="55"/>
                  </a:lnTo>
                  <a:lnTo>
                    <a:pt x="0" y="16"/>
                  </a:lnTo>
                  <a:lnTo>
                    <a:pt x="6" y="0"/>
                  </a:lnTo>
                  <a:close/>
                  <a:moveTo>
                    <a:pt x="2288" y="0"/>
                  </a:moveTo>
                  <a:lnTo>
                    <a:pt x="3392" y="0"/>
                  </a:lnTo>
                  <a:lnTo>
                    <a:pt x="3396" y="4"/>
                  </a:lnTo>
                  <a:lnTo>
                    <a:pt x="3436" y="46"/>
                  </a:lnTo>
                  <a:lnTo>
                    <a:pt x="3438" y="55"/>
                  </a:lnTo>
                  <a:lnTo>
                    <a:pt x="3363" y="55"/>
                  </a:lnTo>
                  <a:lnTo>
                    <a:pt x="3358" y="53"/>
                  </a:lnTo>
                  <a:lnTo>
                    <a:pt x="3349" y="53"/>
                  </a:lnTo>
                  <a:lnTo>
                    <a:pt x="3352" y="55"/>
                  </a:lnTo>
                  <a:lnTo>
                    <a:pt x="2333" y="55"/>
                  </a:lnTo>
                  <a:lnTo>
                    <a:pt x="2351" y="24"/>
                  </a:lnTo>
                  <a:lnTo>
                    <a:pt x="2294" y="24"/>
                  </a:lnTo>
                  <a:lnTo>
                    <a:pt x="2288" y="0"/>
                  </a:lnTo>
                  <a:close/>
                </a:path>
              </a:pathLst>
            </a:custGeom>
            <a:solidFill>
              <a:srgbClr val="df4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3596400" y="2325600"/>
              <a:ext cx="1325880" cy="19440"/>
            </a:xfrm>
            <a:custGeom>
              <a:avLst/>
              <a:gdLst/>
              <a:ahLst/>
              <a:rect l="l" t="t" r="r" b="b"/>
              <a:pathLst>
                <a:path w="3447" h="53">
                  <a:moveTo>
                    <a:pt x="0" y="0"/>
                  </a:moveTo>
                  <a:lnTo>
                    <a:pt x="981" y="0"/>
                  </a:lnTo>
                  <a:lnTo>
                    <a:pt x="978" y="16"/>
                  </a:lnTo>
                  <a:lnTo>
                    <a:pt x="960" y="53"/>
                  </a:lnTo>
                  <a:lnTo>
                    <a:pt x="6" y="53"/>
                  </a:lnTo>
                  <a:lnTo>
                    <a:pt x="0" y="43"/>
                  </a:lnTo>
                  <a:lnTo>
                    <a:pt x="0" y="0"/>
                  </a:lnTo>
                  <a:close/>
                  <a:moveTo>
                    <a:pt x="2348" y="0"/>
                  </a:moveTo>
                  <a:lnTo>
                    <a:pt x="3419" y="0"/>
                  </a:lnTo>
                  <a:lnTo>
                    <a:pt x="3436" y="18"/>
                  </a:lnTo>
                  <a:lnTo>
                    <a:pt x="3447" y="53"/>
                  </a:lnTo>
                  <a:lnTo>
                    <a:pt x="3416" y="53"/>
                  </a:lnTo>
                  <a:lnTo>
                    <a:pt x="3378" y="33"/>
                  </a:lnTo>
                  <a:lnTo>
                    <a:pt x="3358" y="25"/>
                  </a:lnTo>
                  <a:lnTo>
                    <a:pt x="3349" y="25"/>
                  </a:lnTo>
                  <a:lnTo>
                    <a:pt x="3367" y="33"/>
                  </a:lnTo>
                  <a:lnTo>
                    <a:pt x="3382" y="53"/>
                  </a:lnTo>
                  <a:lnTo>
                    <a:pt x="2331" y="53"/>
                  </a:lnTo>
                  <a:lnTo>
                    <a:pt x="2321" y="45"/>
                  </a:lnTo>
                  <a:lnTo>
                    <a:pt x="2348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3596400" y="2334240"/>
              <a:ext cx="1327320" cy="19440"/>
            </a:xfrm>
            <a:custGeom>
              <a:avLst/>
              <a:gdLst/>
              <a:ahLst/>
              <a:rect l="l" t="t" r="r" b="b"/>
              <a:pathLst>
                <a:path w="3453" h="54">
                  <a:moveTo>
                    <a:pt x="0" y="0"/>
                  </a:moveTo>
                  <a:lnTo>
                    <a:pt x="973" y="0"/>
                  </a:lnTo>
                  <a:lnTo>
                    <a:pt x="951" y="47"/>
                  </a:lnTo>
                  <a:lnTo>
                    <a:pt x="946" y="54"/>
                  </a:lnTo>
                  <a:lnTo>
                    <a:pt x="43" y="54"/>
                  </a:lnTo>
                  <a:lnTo>
                    <a:pt x="31" y="47"/>
                  </a:lnTo>
                  <a:lnTo>
                    <a:pt x="11" y="3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333" y="0"/>
                  </a:moveTo>
                  <a:lnTo>
                    <a:pt x="3352" y="0"/>
                  </a:lnTo>
                  <a:lnTo>
                    <a:pt x="3367" y="6"/>
                  </a:lnTo>
                  <a:lnTo>
                    <a:pt x="3396" y="47"/>
                  </a:lnTo>
                  <a:lnTo>
                    <a:pt x="3403" y="54"/>
                  </a:lnTo>
                  <a:lnTo>
                    <a:pt x="2359" y="54"/>
                  </a:lnTo>
                  <a:lnTo>
                    <a:pt x="2321" y="18"/>
                  </a:lnTo>
                  <a:lnTo>
                    <a:pt x="2333" y="0"/>
                  </a:lnTo>
                  <a:close/>
                  <a:moveTo>
                    <a:pt x="3363" y="0"/>
                  </a:moveTo>
                  <a:lnTo>
                    <a:pt x="3438" y="0"/>
                  </a:lnTo>
                  <a:lnTo>
                    <a:pt x="3453" y="47"/>
                  </a:lnTo>
                  <a:lnTo>
                    <a:pt x="3378" y="6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3598560" y="2345040"/>
              <a:ext cx="1325160" cy="19080"/>
            </a:xfrm>
            <a:custGeom>
              <a:avLst/>
              <a:gdLst/>
              <a:ahLst/>
              <a:rect l="l" t="t" r="r" b="b"/>
              <a:pathLst>
                <a:path w="3447" h="55">
                  <a:moveTo>
                    <a:pt x="0" y="0"/>
                  </a:moveTo>
                  <a:lnTo>
                    <a:pt x="954" y="0"/>
                  </a:lnTo>
                  <a:lnTo>
                    <a:pt x="945" y="21"/>
                  </a:lnTo>
                  <a:lnTo>
                    <a:pt x="919" y="55"/>
                  </a:lnTo>
                  <a:lnTo>
                    <a:pt x="1" y="55"/>
                  </a:lnTo>
                  <a:lnTo>
                    <a:pt x="54" y="37"/>
                  </a:lnTo>
                  <a:lnTo>
                    <a:pt x="25" y="21"/>
                  </a:lnTo>
                  <a:lnTo>
                    <a:pt x="5" y="10"/>
                  </a:lnTo>
                  <a:lnTo>
                    <a:pt x="0" y="0"/>
                  </a:lnTo>
                  <a:close/>
                  <a:moveTo>
                    <a:pt x="2325" y="0"/>
                  </a:moveTo>
                  <a:lnTo>
                    <a:pt x="3376" y="0"/>
                  </a:lnTo>
                  <a:lnTo>
                    <a:pt x="3390" y="21"/>
                  </a:lnTo>
                  <a:lnTo>
                    <a:pt x="3420" y="51"/>
                  </a:lnTo>
                  <a:lnTo>
                    <a:pt x="3420" y="55"/>
                  </a:lnTo>
                  <a:lnTo>
                    <a:pt x="3349" y="55"/>
                  </a:lnTo>
                  <a:lnTo>
                    <a:pt x="3331" y="51"/>
                  </a:lnTo>
                  <a:lnTo>
                    <a:pt x="3217" y="51"/>
                  </a:lnTo>
                  <a:lnTo>
                    <a:pt x="3225" y="55"/>
                  </a:lnTo>
                  <a:lnTo>
                    <a:pt x="2370" y="55"/>
                  </a:lnTo>
                  <a:lnTo>
                    <a:pt x="2364" y="39"/>
                  </a:lnTo>
                  <a:lnTo>
                    <a:pt x="2325" y="0"/>
                  </a:lnTo>
                  <a:close/>
                  <a:moveTo>
                    <a:pt x="3410" y="0"/>
                  </a:moveTo>
                  <a:lnTo>
                    <a:pt x="3441" y="0"/>
                  </a:lnTo>
                  <a:lnTo>
                    <a:pt x="3447" y="21"/>
                  </a:lnTo>
                  <a:lnTo>
                    <a:pt x="3410" y="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3596400" y="2354040"/>
              <a:ext cx="1316160" cy="19080"/>
            </a:xfrm>
            <a:custGeom>
              <a:avLst/>
              <a:gdLst/>
              <a:ahLst/>
              <a:rect l="l" t="t" r="r" b="b"/>
              <a:pathLst>
                <a:path w="3429" h="54">
                  <a:moveTo>
                    <a:pt x="46" y="0"/>
                  </a:moveTo>
                  <a:lnTo>
                    <a:pt x="949" y="0"/>
                  </a:lnTo>
                  <a:lnTo>
                    <a:pt x="926" y="29"/>
                  </a:lnTo>
                  <a:lnTo>
                    <a:pt x="901" y="54"/>
                  </a:lnTo>
                  <a:lnTo>
                    <a:pt x="0" y="54"/>
                  </a:lnTo>
                  <a:lnTo>
                    <a:pt x="3" y="29"/>
                  </a:lnTo>
                  <a:lnTo>
                    <a:pt x="63" y="9"/>
                  </a:lnTo>
                  <a:lnTo>
                    <a:pt x="46" y="0"/>
                  </a:lnTo>
                  <a:close/>
                  <a:moveTo>
                    <a:pt x="2362" y="0"/>
                  </a:moveTo>
                  <a:lnTo>
                    <a:pt x="3406" y="0"/>
                  </a:lnTo>
                  <a:lnTo>
                    <a:pt x="3429" y="23"/>
                  </a:lnTo>
                  <a:lnTo>
                    <a:pt x="3429" y="54"/>
                  </a:lnTo>
                  <a:lnTo>
                    <a:pt x="3418" y="54"/>
                  </a:lnTo>
                  <a:lnTo>
                    <a:pt x="3381" y="31"/>
                  </a:lnTo>
                  <a:lnTo>
                    <a:pt x="3340" y="23"/>
                  </a:lnTo>
                  <a:lnTo>
                    <a:pt x="3226" y="23"/>
                  </a:lnTo>
                  <a:lnTo>
                    <a:pt x="3245" y="31"/>
                  </a:lnTo>
                  <a:lnTo>
                    <a:pt x="3290" y="54"/>
                  </a:lnTo>
                  <a:lnTo>
                    <a:pt x="2387" y="54"/>
                  </a:lnTo>
                  <a:lnTo>
                    <a:pt x="2373" y="11"/>
                  </a:lnTo>
                  <a:lnTo>
                    <a:pt x="2362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3594600" y="2364480"/>
              <a:ext cx="1317960" cy="176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15" y="0"/>
                  </a:moveTo>
                  <a:lnTo>
                    <a:pt x="933" y="0"/>
                  </a:lnTo>
                  <a:lnTo>
                    <a:pt x="931" y="2"/>
                  </a:lnTo>
                  <a:lnTo>
                    <a:pt x="880" y="54"/>
                  </a:lnTo>
                  <a:lnTo>
                    <a:pt x="879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2"/>
                  </a:lnTo>
                  <a:lnTo>
                    <a:pt x="15" y="0"/>
                  </a:lnTo>
                  <a:close/>
                  <a:moveTo>
                    <a:pt x="2384" y="0"/>
                  </a:moveTo>
                  <a:lnTo>
                    <a:pt x="3239" y="0"/>
                  </a:lnTo>
                  <a:lnTo>
                    <a:pt x="3250" y="4"/>
                  </a:lnTo>
                  <a:lnTo>
                    <a:pt x="3348" y="54"/>
                  </a:lnTo>
                  <a:lnTo>
                    <a:pt x="2495" y="54"/>
                  </a:lnTo>
                  <a:lnTo>
                    <a:pt x="2495" y="54"/>
                  </a:lnTo>
                  <a:lnTo>
                    <a:pt x="2401" y="54"/>
                  </a:lnTo>
                  <a:lnTo>
                    <a:pt x="2384" y="0"/>
                  </a:lnTo>
                  <a:close/>
                  <a:moveTo>
                    <a:pt x="3363" y="0"/>
                  </a:moveTo>
                  <a:lnTo>
                    <a:pt x="3434" y="0"/>
                  </a:lnTo>
                  <a:lnTo>
                    <a:pt x="3434" y="34"/>
                  </a:lnTo>
                  <a:lnTo>
                    <a:pt x="3386" y="4"/>
                  </a:lnTo>
                  <a:lnTo>
                    <a:pt x="3363" y="0"/>
                  </a:lnTo>
                  <a:close/>
                </a:path>
              </a:pathLst>
            </a:custGeom>
            <a:solidFill>
              <a:srgbClr val="e04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3594600" y="2373120"/>
              <a:ext cx="1317960" cy="19440"/>
            </a:xfrm>
            <a:custGeom>
              <a:avLst/>
              <a:gdLst/>
              <a:ahLst/>
              <a:rect l="l" t="t" r="r" b="b"/>
              <a:pathLst>
                <a:path w="3434" h="54">
                  <a:moveTo>
                    <a:pt x="5" y="0"/>
                  </a:moveTo>
                  <a:lnTo>
                    <a:pt x="906" y="0"/>
                  </a:lnTo>
                  <a:lnTo>
                    <a:pt x="880" y="27"/>
                  </a:lnTo>
                  <a:lnTo>
                    <a:pt x="860" y="54"/>
                  </a:lnTo>
                  <a:lnTo>
                    <a:pt x="0" y="54"/>
                  </a:lnTo>
                  <a:lnTo>
                    <a:pt x="8" y="42"/>
                  </a:lnTo>
                  <a:lnTo>
                    <a:pt x="0" y="27"/>
                  </a:lnTo>
                  <a:lnTo>
                    <a:pt x="5" y="0"/>
                  </a:lnTo>
                  <a:close/>
                  <a:moveTo>
                    <a:pt x="2392" y="0"/>
                  </a:moveTo>
                  <a:lnTo>
                    <a:pt x="3295" y="0"/>
                  </a:lnTo>
                  <a:lnTo>
                    <a:pt x="3366" y="36"/>
                  </a:lnTo>
                  <a:lnTo>
                    <a:pt x="3391" y="54"/>
                  </a:lnTo>
                  <a:lnTo>
                    <a:pt x="2503" y="54"/>
                  </a:lnTo>
                  <a:lnTo>
                    <a:pt x="2495" y="27"/>
                  </a:lnTo>
                  <a:lnTo>
                    <a:pt x="2401" y="27"/>
                  </a:lnTo>
                  <a:lnTo>
                    <a:pt x="2392" y="0"/>
                  </a:lnTo>
                  <a:close/>
                  <a:moveTo>
                    <a:pt x="3423" y="0"/>
                  </a:moveTo>
                  <a:lnTo>
                    <a:pt x="3434" y="0"/>
                  </a:lnTo>
                  <a:lnTo>
                    <a:pt x="3434" y="7"/>
                  </a:lnTo>
                  <a:lnTo>
                    <a:pt x="3423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3590640" y="2382120"/>
              <a:ext cx="1310040" cy="19440"/>
            </a:xfrm>
            <a:custGeom>
              <a:avLst/>
              <a:gdLst/>
              <a:ahLst/>
              <a:rect l="l" t="t" r="r" b="b"/>
              <a:pathLst>
                <a:path w="3411" h="54">
                  <a:moveTo>
                    <a:pt x="7" y="0"/>
                  </a:moveTo>
                  <a:lnTo>
                    <a:pt x="886" y="0"/>
                  </a:lnTo>
                  <a:lnTo>
                    <a:pt x="848" y="54"/>
                  </a:lnTo>
                  <a:lnTo>
                    <a:pt x="0" y="54"/>
                  </a:lnTo>
                  <a:lnTo>
                    <a:pt x="7" y="27"/>
                  </a:lnTo>
                  <a:lnTo>
                    <a:pt x="15" y="15"/>
                  </a:lnTo>
                  <a:lnTo>
                    <a:pt x="7" y="0"/>
                  </a:lnTo>
                  <a:close/>
                  <a:moveTo>
                    <a:pt x="2502" y="0"/>
                  </a:moveTo>
                  <a:lnTo>
                    <a:pt x="3355" y="0"/>
                  </a:lnTo>
                  <a:lnTo>
                    <a:pt x="3373" y="9"/>
                  </a:lnTo>
                  <a:lnTo>
                    <a:pt x="3411" y="37"/>
                  </a:lnTo>
                  <a:lnTo>
                    <a:pt x="3404" y="54"/>
                  </a:lnTo>
                  <a:lnTo>
                    <a:pt x="2520" y="54"/>
                  </a:lnTo>
                  <a:lnTo>
                    <a:pt x="2502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3590640" y="2392920"/>
              <a:ext cx="1310040" cy="19080"/>
            </a:xfrm>
            <a:custGeom>
              <a:avLst/>
              <a:gdLst/>
              <a:ahLst/>
              <a:rect l="l" t="t" r="r" b="b"/>
              <a:pathLst>
                <a:path w="3412" h="54">
                  <a:moveTo>
                    <a:pt x="8" y="0"/>
                  </a:moveTo>
                  <a:lnTo>
                    <a:pt x="868" y="0"/>
                  </a:lnTo>
                  <a:lnTo>
                    <a:pt x="840" y="40"/>
                  </a:lnTo>
                  <a:lnTo>
                    <a:pt x="828" y="54"/>
                  </a:lnTo>
                  <a:lnTo>
                    <a:pt x="0" y="54"/>
                  </a:lnTo>
                  <a:lnTo>
                    <a:pt x="0" y="31"/>
                  </a:lnTo>
                  <a:lnTo>
                    <a:pt x="8" y="0"/>
                  </a:lnTo>
                  <a:lnTo>
                    <a:pt x="8" y="0"/>
                  </a:lnTo>
                  <a:close/>
                  <a:moveTo>
                    <a:pt x="2511" y="0"/>
                  </a:moveTo>
                  <a:lnTo>
                    <a:pt x="3399" y="0"/>
                  </a:lnTo>
                  <a:lnTo>
                    <a:pt x="3412" y="10"/>
                  </a:lnTo>
                  <a:lnTo>
                    <a:pt x="3403" y="31"/>
                  </a:lnTo>
                  <a:lnTo>
                    <a:pt x="3353" y="47"/>
                  </a:lnTo>
                  <a:lnTo>
                    <a:pt x="3334" y="54"/>
                  </a:lnTo>
                  <a:lnTo>
                    <a:pt x="2468" y="54"/>
                  </a:lnTo>
                  <a:lnTo>
                    <a:pt x="2483" y="47"/>
                  </a:lnTo>
                  <a:lnTo>
                    <a:pt x="2512" y="40"/>
                  </a:lnTo>
                  <a:lnTo>
                    <a:pt x="2525" y="40"/>
                  </a:lnTo>
                  <a:lnTo>
                    <a:pt x="2511" y="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3590640" y="2401920"/>
              <a:ext cx="1308240" cy="19080"/>
            </a:xfrm>
            <a:custGeom>
              <a:avLst/>
              <a:gdLst/>
              <a:ahLst/>
              <a:rect l="l" t="t" r="r" b="b"/>
              <a:pathLst>
                <a:path w="3405" h="54">
                  <a:moveTo>
                    <a:pt x="1" y="0"/>
                  </a:moveTo>
                  <a:lnTo>
                    <a:pt x="849" y="0"/>
                  </a:lnTo>
                  <a:lnTo>
                    <a:pt x="840" y="13"/>
                  </a:lnTo>
                  <a:lnTo>
                    <a:pt x="806" y="54"/>
                  </a:lnTo>
                  <a:lnTo>
                    <a:pt x="4" y="54"/>
                  </a:lnTo>
                  <a:lnTo>
                    <a:pt x="0" y="40"/>
                  </a:lnTo>
                  <a:lnTo>
                    <a:pt x="0" y="4"/>
                  </a:lnTo>
                  <a:lnTo>
                    <a:pt x="1" y="0"/>
                  </a:lnTo>
                  <a:close/>
                  <a:moveTo>
                    <a:pt x="2521" y="0"/>
                  </a:moveTo>
                  <a:lnTo>
                    <a:pt x="3405" y="0"/>
                  </a:lnTo>
                  <a:lnTo>
                    <a:pt x="3403" y="4"/>
                  </a:lnTo>
                  <a:lnTo>
                    <a:pt x="3353" y="20"/>
                  </a:lnTo>
                  <a:lnTo>
                    <a:pt x="3316" y="33"/>
                  </a:lnTo>
                  <a:lnTo>
                    <a:pt x="3296" y="33"/>
                  </a:lnTo>
                  <a:lnTo>
                    <a:pt x="3316" y="50"/>
                  </a:lnTo>
                  <a:lnTo>
                    <a:pt x="3319" y="54"/>
                  </a:lnTo>
                  <a:lnTo>
                    <a:pt x="2402" y="54"/>
                  </a:lnTo>
                  <a:lnTo>
                    <a:pt x="2483" y="20"/>
                  </a:lnTo>
                  <a:lnTo>
                    <a:pt x="2512" y="13"/>
                  </a:lnTo>
                  <a:lnTo>
                    <a:pt x="2525" y="13"/>
                  </a:lnTo>
                  <a:lnTo>
                    <a:pt x="2521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3590640" y="2412360"/>
              <a:ext cx="1285200" cy="18000"/>
            </a:xfrm>
            <a:custGeom>
              <a:avLst/>
              <a:gdLst/>
              <a:ahLst/>
              <a:rect l="l" t="t" r="r" b="b"/>
              <a:pathLst>
                <a:path w="3346" h="54">
                  <a:moveTo>
                    <a:pt x="0" y="0"/>
                  </a:moveTo>
                  <a:lnTo>
                    <a:pt x="828" y="0"/>
                  </a:lnTo>
                  <a:lnTo>
                    <a:pt x="801" y="33"/>
                  </a:lnTo>
                  <a:lnTo>
                    <a:pt x="774" y="53"/>
                  </a:lnTo>
                  <a:lnTo>
                    <a:pt x="772" y="54"/>
                  </a:lnTo>
                  <a:lnTo>
                    <a:pt x="32" y="54"/>
                  </a:lnTo>
                  <a:lnTo>
                    <a:pt x="8" y="40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468" y="0"/>
                  </a:moveTo>
                  <a:lnTo>
                    <a:pt x="3334" y="0"/>
                  </a:lnTo>
                  <a:lnTo>
                    <a:pt x="3316" y="6"/>
                  </a:lnTo>
                  <a:lnTo>
                    <a:pt x="3296" y="6"/>
                  </a:lnTo>
                  <a:lnTo>
                    <a:pt x="3316" y="23"/>
                  </a:lnTo>
                  <a:lnTo>
                    <a:pt x="3346" y="54"/>
                  </a:lnTo>
                  <a:lnTo>
                    <a:pt x="2337" y="54"/>
                  </a:lnTo>
                  <a:lnTo>
                    <a:pt x="2468" y="0"/>
                  </a:lnTo>
                  <a:close/>
                </a:path>
              </a:pathLst>
            </a:custGeom>
            <a:solidFill>
              <a:srgbClr val="e04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3592440" y="2421000"/>
              <a:ext cx="1295280" cy="19440"/>
            </a:xfrm>
            <a:custGeom>
              <a:avLst/>
              <a:gdLst/>
              <a:ahLst/>
              <a:rect l="l" t="t" r="r" b="b"/>
              <a:pathLst>
                <a:path w="3369" h="53">
                  <a:moveTo>
                    <a:pt x="0" y="0"/>
                  </a:moveTo>
                  <a:lnTo>
                    <a:pt x="802" y="0"/>
                  </a:lnTo>
                  <a:lnTo>
                    <a:pt x="797" y="6"/>
                  </a:lnTo>
                  <a:lnTo>
                    <a:pt x="770" y="26"/>
                  </a:lnTo>
                  <a:lnTo>
                    <a:pt x="750" y="45"/>
                  </a:lnTo>
                  <a:lnTo>
                    <a:pt x="746" y="53"/>
                  </a:lnTo>
                  <a:lnTo>
                    <a:pt x="116" y="53"/>
                  </a:lnTo>
                  <a:lnTo>
                    <a:pt x="110" y="45"/>
                  </a:lnTo>
                  <a:lnTo>
                    <a:pt x="63" y="45"/>
                  </a:lnTo>
                  <a:lnTo>
                    <a:pt x="4" y="13"/>
                  </a:lnTo>
                  <a:lnTo>
                    <a:pt x="0" y="0"/>
                  </a:lnTo>
                  <a:close/>
                  <a:moveTo>
                    <a:pt x="2398" y="0"/>
                  </a:moveTo>
                  <a:lnTo>
                    <a:pt x="3315" y="0"/>
                  </a:lnTo>
                  <a:lnTo>
                    <a:pt x="3369" y="53"/>
                  </a:lnTo>
                  <a:lnTo>
                    <a:pt x="2280" y="53"/>
                  </a:lnTo>
                  <a:lnTo>
                    <a:pt x="2288" y="45"/>
                  </a:lnTo>
                  <a:lnTo>
                    <a:pt x="2398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3602520" y="2430360"/>
              <a:ext cx="1294920" cy="19080"/>
            </a:xfrm>
            <a:custGeom>
              <a:avLst/>
              <a:gdLst/>
              <a:ahLst/>
              <a:rect l="l" t="t" r="r" b="b"/>
              <a:pathLst>
                <a:path w="3369" h="54">
                  <a:moveTo>
                    <a:pt x="0" y="0"/>
                  </a:moveTo>
                  <a:lnTo>
                    <a:pt x="740" y="0"/>
                  </a:lnTo>
                  <a:lnTo>
                    <a:pt x="722" y="18"/>
                  </a:lnTo>
                  <a:lnTo>
                    <a:pt x="707" y="54"/>
                  </a:lnTo>
                  <a:lnTo>
                    <a:pt x="101" y="54"/>
                  </a:lnTo>
                  <a:lnTo>
                    <a:pt x="94" y="38"/>
                  </a:lnTo>
                  <a:lnTo>
                    <a:pt x="82" y="18"/>
                  </a:lnTo>
                  <a:lnTo>
                    <a:pt x="35" y="18"/>
                  </a:lnTo>
                  <a:lnTo>
                    <a:pt x="0" y="0"/>
                  </a:lnTo>
                  <a:close/>
                  <a:moveTo>
                    <a:pt x="2305" y="0"/>
                  </a:moveTo>
                  <a:lnTo>
                    <a:pt x="3314" y="0"/>
                  </a:lnTo>
                  <a:lnTo>
                    <a:pt x="3342" y="28"/>
                  </a:lnTo>
                  <a:lnTo>
                    <a:pt x="3369" y="54"/>
                  </a:lnTo>
                  <a:lnTo>
                    <a:pt x="2226" y="54"/>
                  </a:lnTo>
                  <a:lnTo>
                    <a:pt x="2231" y="48"/>
                  </a:lnTo>
                  <a:lnTo>
                    <a:pt x="2260" y="18"/>
                  </a:lnTo>
                  <a:lnTo>
                    <a:pt x="2305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3637080" y="2440800"/>
              <a:ext cx="1270080" cy="19080"/>
            </a:xfrm>
            <a:custGeom>
              <a:avLst/>
              <a:gdLst/>
              <a:ahLst/>
              <a:rect l="l" t="t" r="r" b="b"/>
              <a:pathLst>
                <a:path w="3307" h="55">
                  <a:moveTo>
                    <a:pt x="0" y="0"/>
                  </a:moveTo>
                  <a:lnTo>
                    <a:pt x="630" y="0"/>
                  </a:lnTo>
                  <a:lnTo>
                    <a:pt x="614" y="39"/>
                  </a:lnTo>
                  <a:lnTo>
                    <a:pt x="620" y="55"/>
                  </a:lnTo>
                  <a:lnTo>
                    <a:pt x="26" y="55"/>
                  </a:lnTo>
                  <a:lnTo>
                    <a:pt x="6" y="12"/>
                  </a:lnTo>
                  <a:lnTo>
                    <a:pt x="0" y="0"/>
                  </a:lnTo>
                  <a:close/>
                  <a:moveTo>
                    <a:pt x="2164" y="0"/>
                  </a:moveTo>
                  <a:lnTo>
                    <a:pt x="3253" y="0"/>
                  </a:lnTo>
                  <a:lnTo>
                    <a:pt x="3254" y="2"/>
                  </a:lnTo>
                  <a:lnTo>
                    <a:pt x="3307" y="55"/>
                  </a:lnTo>
                  <a:lnTo>
                    <a:pt x="2122" y="55"/>
                  </a:lnTo>
                  <a:lnTo>
                    <a:pt x="2123" y="52"/>
                  </a:lnTo>
                  <a:lnTo>
                    <a:pt x="2143" y="22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642480" y="2449440"/>
              <a:ext cx="1275480" cy="19440"/>
            </a:xfrm>
            <a:custGeom>
              <a:avLst/>
              <a:gdLst/>
              <a:ahLst/>
              <a:rect l="l" t="t" r="r" b="b"/>
              <a:pathLst>
                <a:path w="3321" h="53">
                  <a:moveTo>
                    <a:pt x="0" y="0"/>
                  </a:moveTo>
                  <a:lnTo>
                    <a:pt x="606" y="0"/>
                  </a:lnTo>
                  <a:lnTo>
                    <a:pt x="601" y="11"/>
                  </a:lnTo>
                  <a:lnTo>
                    <a:pt x="609" y="31"/>
                  </a:lnTo>
                  <a:lnTo>
                    <a:pt x="641" y="44"/>
                  </a:lnTo>
                  <a:lnTo>
                    <a:pt x="688" y="51"/>
                  </a:lnTo>
                  <a:lnTo>
                    <a:pt x="696" y="53"/>
                  </a:lnTo>
                  <a:lnTo>
                    <a:pt x="25" y="53"/>
                  </a:lnTo>
                  <a:lnTo>
                    <a:pt x="21" y="44"/>
                  </a:lnTo>
                  <a:lnTo>
                    <a:pt x="0" y="0"/>
                  </a:lnTo>
                  <a:close/>
                  <a:moveTo>
                    <a:pt x="2125" y="0"/>
                  </a:moveTo>
                  <a:lnTo>
                    <a:pt x="3268" y="0"/>
                  </a:lnTo>
                  <a:lnTo>
                    <a:pt x="3321" y="53"/>
                  </a:lnTo>
                  <a:lnTo>
                    <a:pt x="2103" y="53"/>
                  </a:lnTo>
                  <a:lnTo>
                    <a:pt x="2110" y="24"/>
                  </a:lnTo>
                  <a:lnTo>
                    <a:pt x="2125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3646440" y="2459880"/>
              <a:ext cx="1281240" cy="18000"/>
            </a:xfrm>
            <a:custGeom>
              <a:avLst/>
              <a:gdLst/>
              <a:ahLst/>
              <a:rect l="l" t="t" r="r" b="b"/>
              <a:pathLst>
                <a:path w="3333" h="54">
                  <a:moveTo>
                    <a:pt x="0" y="0"/>
                  </a:moveTo>
                  <a:lnTo>
                    <a:pt x="594" y="0"/>
                  </a:lnTo>
                  <a:lnTo>
                    <a:pt x="596" y="4"/>
                  </a:lnTo>
                  <a:lnTo>
                    <a:pt x="628" y="17"/>
                  </a:lnTo>
                  <a:lnTo>
                    <a:pt x="675" y="24"/>
                  </a:lnTo>
                  <a:lnTo>
                    <a:pt x="742" y="44"/>
                  </a:lnTo>
                  <a:lnTo>
                    <a:pt x="766" y="54"/>
                  </a:lnTo>
                  <a:lnTo>
                    <a:pt x="24" y="54"/>
                  </a:lnTo>
                  <a:lnTo>
                    <a:pt x="8" y="17"/>
                  </a:lnTo>
                  <a:lnTo>
                    <a:pt x="0" y="0"/>
                  </a:lnTo>
                  <a:close/>
                  <a:moveTo>
                    <a:pt x="2096" y="0"/>
                  </a:moveTo>
                  <a:lnTo>
                    <a:pt x="3281" y="0"/>
                  </a:lnTo>
                  <a:lnTo>
                    <a:pt x="3316" y="34"/>
                  </a:lnTo>
                  <a:lnTo>
                    <a:pt x="3333" y="54"/>
                  </a:lnTo>
                  <a:lnTo>
                    <a:pt x="2085" y="54"/>
                  </a:lnTo>
                  <a:lnTo>
                    <a:pt x="2096" y="0"/>
                  </a:lnTo>
                  <a:close/>
                </a:path>
              </a:pathLst>
            </a:custGeom>
            <a:solidFill>
              <a:srgbClr val="e15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652200" y="2469240"/>
              <a:ext cx="1285200" cy="19080"/>
            </a:xfrm>
            <a:custGeom>
              <a:avLst/>
              <a:gdLst/>
              <a:ahLst/>
              <a:rect l="l" t="t" r="r" b="b"/>
              <a:pathLst>
                <a:path w="3345" h="55">
                  <a:moveTo>
                    <a:pt x="0" y="0"/>
                  </a:moveTo>
                  <a:lnTo>
                    <a:pt x="671" y="0"/>
                  </a:lnTo>
                  <a:lnTo>
                    <a:pt x="730" y="18"/>
                  </a:lnTo>
                  <a:lnTo>
                    <a:pt x="820" y="55"/>
                  </a:lnTo>
                  <a:lnTo>
                    <a:pt x="23" y="55"/>
                  </a:lnTo>
                  <a:lnTo>
                    <a:pt x="0" y="0"/>
                  </a:lnTo>
                  <a:close/>
                  <a:moveTo>
                    <a:pt x="2078" y="0"/>
                  </a:moveTo>
                  <a:lnTo>
                    <a:pt x="3296" y="0"/>
                  </a:lnTo>
                  <a:lnTo>
                    <a:pt x="3304" y="8"/>
                  </a:lnTo>
                  <a:lnTo>
                    <a:pt x="3345" y="55"/>
                  </a:lnTo>
                  <a:lnTo>
                    <a:pt x="2067" y="55"/>
                  </a:lnTo>
                  <a:lnTo>
                    <a:pt x="2078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656160" y="2478240"/>
              <a:ext cx="1289160" cy="19080"/>
            </a:xfrm>
            <a:custGeom>
              <a:avLst/>
              <a:gdLst/>
              <a:ahLst/>
              <a:rect l="l" t="t" r="r" b="b"/>
              <a:pathLst>
                <a:path w="3357" h="54">
                  <a:moveTo>
                    <a:pt x="0" y="0"/>
                  </a:moveTo>
                  <a:lnTo>
                    <a:pt x="742" y="0"/>
                  </a:lnTo>
                  <a:lnTo>
                    <a:pt x="864" y="49"/>
                  </a:lnTo>
                  <a:lnTo>
                    <a:pt x="871" y="54"/>
                  </a:lnTo>
                  <a:lnTo>
                    <a:pt x="22" y="54"/>
                  </a:lnTo>
                  <a:lnTo>
                    <a:pt x="0" y="0"/>
                  </a:lnTo>
                  <a:close/>
                  <a:moveTo>
                    <a:pt x="2061" y="0"/>
                  </a:moveTo>
                  <a:lnTo>
                    <a:pt x="3309" y="0"/>
                  </a:lnTo>
                  <a:lnTo>
                    <a:pt x="3357" y="54"/>
                  </a:lnTo>
                  <a:lnTo>
                    <a:pt x="2052" y="54"/>
                  </a:lnTo>
                  <a:lnTo>
                    <a:pt x="2053" y="37"/>
                  </a:lnTo>
                  <a:lnTo>
                    <a:pt x="2061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3660120" y="2488680"/>
              <a:ext cx="1294920" cy="19440"/>
            </a:xfrm>
            <a:custGeom>
              <a:avLst/>
              <a:gdLst/>
              <a:ahLst/>
              <a:rect l="l" t="t" r="r" b="b"/>
              <a:pathLst>
                <a:path w="3370" h="54">
                  <a:moveTo>
                    <a:pt x="0" y="0"/>
                  </a:moveTo>
                  <a:lnTo>
                    <a:pt x="797" y="0"/>
                  </a:lnTo>
                  <a:lnTo>
                    <a:pt x="853" y="22"/>
                  </a:lnTo>
                  <a:lnTo>
                    <a:pt x="906" y="54"/>
                  </a:lnTo>
                  <a:lnTo>
                    <a:pt x="23" y="54"/>
                  </a:lnTo>
                  <a:lnTo>
                    <a:pt x="0" y="0"/>
                  </a:lnTo>
                  <a:close/>
                  <a:moveTo>
                    <a:pt x="2044" y="0"/>
                  </a:moveTo>
                  <a:lnTo>
                    <a:pt x="3322" y="0"/>
                  </a:lnTo>
                  <a:lnTo>
                    <a:pt x="3370" y="54"/>
                  </a:lnTo>
                  <a:lnTo>
                    <a:pt x="2039" y="54"/>
                  </a:lnTo>
                  <a:lnTo>
                    <a:pt x="2042" y="10"/>
                  </a:lnTo>
                  <a:lnTo>
                    <a:pt x="2044" y="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3664080" y="2497320"/>
              <a:ext cx="1300320" cy="19440"/>
            </a:xfrm>
            <a:custGeom>
              <a:avLst/>
              <a:gdLst/>
              <a:ahLst/>
              <a:rect l="l" t="t" r="r" b="b"/>
              <a:pathLst>
                <a:path w="3384" h="54">
                  <a:moveTo>
                    <a:pt x="0" y="0"/>
                  </a:moveTo>
                  <a:lnTo>
                    <a:pt x="849" y="0"/>
                  </a:lnTo>
                  <a:lnTo>
                    <a:pt x="921" y="42"/>
                  </a:lnTo>
                  <a:lnTo>
                    <a:pt x="931" y="54"/>
                  </a:lnTo>
                  <a:lnTo>
                    <a:pt x="14" y="54"/>
                  </a:lnTo>
                  <a:lnTo>
                    <a:pt x="14" y="31"/>
                  </a:lnTo>
                  <a:lnTo>
                    <a:pt x="0" y="0"/>
                  </a:lnTo>
                  <a:close/>
                  <a:moveTo>
                    <a:pt x="2030" y="0"/>
                  </a:moveTo>
                  <a:lnTo>
                    <a:pt x="3335" y="0"/>
                  </a:lnTo>
                  <a:lnTo>
                    <a:pt x="3364" y="33"/>
                  </a:lnTo>
                  <a:lnTo>
                    <a:pt x="3384" y="54"/>
                  </a:lnTo>
                  <a:lnTo>
                    <a:pt x="2025" y="54"/>
                  </a:lnTo>
                  <a:lnTo>
                    <a:pt x="2030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3660120" y="2508120"/>
              <a:ext cx="1314000" cy="17640"/>
            </a:xfrm>
            <a:custGeom>
              <a:avLst/>
              <a:gdLst/>
              <a:ahLst/>
              <a:rect l="l" t="t" r="r" b="b"/>
              <a:pathLst>
                <a:path w="3419" h="54">
                  <a:moveTo>
                    <a:pt x="22" y="0"/>
                  </a:moveTo>
                  <a:lnTo>
                    <a:pt x="905" y="0"/>
                  </a:lnTo>
                  <a:lnTo>
                    <a:pt x="931" y="15"/>
                  </a:lnTo>
                  <a:lnTo>
                    <a:pt x="969" y="54"/>
                  </a:lnTo>
                  <a:lnTo>
                    <a:pt x="0" y="54"/>
                  </a:lnTo>
                  <a:lnTo>
                    <a:pt x="24" y="44"/>
                  </a:lnTo>
                  <a:lnTo>
                    <a:pt x="24" y="4"/>
                  </a:lnTo>
                  <a:lnTo>
                    <a:pt x="22" y="0"/>
                  </a:lnTo>
                  <a:close/>
                  <a:moveTo>
                    <a:pt x="2038" y="0"/>
                  </a:moveTo>
                  <a:lnTo>
                    <a:pt x="3369" y="0"/>
                  </a:lnTo>
                  <a:lnTo>
                    <a:pt x="3374" y="6"/>
                  </a:lnTo>
                  <a:lnTo>
                    <a:pt x="3419" y="54"/>
                  </a:lnTo>
                  <a:lnTo>
                    <a:pt x="2034" y="54"/>
                  </a:lnTo>
                  <a:lnTo>
                    <a:pt x="2038" y="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3640680" y="2517120"/>
              <a:ext cx="1344960" cy="19080"/>
            </a:xfrm>
            <a:custGeom>
              <a:avLst/>
              <a:gdLst/>
              <a:ahLst/>
              <a:rect l="l" t="t" r="r" b="b"/>
              <a:pathLst>
                <a:path w="3497" h="53">
                  <a:moveTo>
                    <a:pt x="75" y="0"/>
                  </a:moveTo>
                  <a:lnTo>
                    <a:pt x="992" y="0"/>
                  </a:lnTo>
                  <a:lnTo>
                    <a:pt x="1047" y="53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75" y="17"/>
                  </a:lnTo>
                  <a:lnTo>
                    <a:pt x="75" y="0"/>
                  </a:lnTo>
                  <a:close/>
                  <a:moveTo>
                    <a:pt x="2086" y="0"/>
                  </a:moveTo>
                  <a:lnTo>
                    <a:pt x="3445" y="0"/>
                  </a:lnTo>
                  <a:lnTo>
                    <a:pt x="3497" y="53"/>
                  </a:lnTo>
                  <a:lnTo>
                    <a:pt x="2083" y="53"/>
                  </a:lnTo>
                  <a:lnTo>
                    <a:pt x="2086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3629160" y="2525760"/>
              <a:ext cx="1366200" cy="19080"/>
            </a:xfrm>
            <a:custGeom>
              <a:avLst/>
              <a:gdLst/>
              <a:ahLst/>
              <a:rect l="l" t="t" r="r" b="b"/>
              <a:pathLst>
                <a:path w="3554" h="54">
                  <a:moveTo>
                    <a:pt x="83" y="0"/>
                  </a:moveTo>
                  <a:lnTo>
                    <a:pt x="1052" y="0"/>
                  </a:lnTo>
                  <a:lnTo>
                    <a:pt x="1081" y="29"/>
                  </a:lnTo>
                  <a:lnTo>
                    <a:pt x="1098" y="54"/>
                  </a:lnTo>
                  <a:lnTo>
                    <a:pt x="0" y="54"/>
                  </a:lnTo>
                  <a:lnTo>
                    <a:pt x="15" y="37"/>
                  </a:lnTo>
                  <a:lnTo>
                    <a:pt x="63" y="9"/>
                  </a:lnTo>
                  <a:lnTo>
                    <a:pt x="83" y="0"/>
                  </a:lnTo>
                  <a:close/>
                  <a:moveTo>
                    <a:pt x="2117" y="0"/>
                  </a:moveTo>
                  <a:lnTo>
                    <a:pt x="3502" y="0"/>
                  </a:lnTo>
                  <a:lnTo>
                    <a:pt x="3554" y="54"/>
                  </a:lnTo>
                  <a:lnTo>
                    <a:pt x="2113" y="54"/>
                  </a:lnTo>
                  <a:lnTo>
                    <a:pt x="2114" y="39"/>
                  </a:lnTo>
                  <a:lnTo>
                    <a:pt x="2117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19440" y="2536200"/>
              <a:ext cx="1385280" cy="19440"/>
            </a:xfrm>
            <a:custGeom>
              <a:avLst/>
              <a:gdLst/>
              <a:ahLst/>
              <a:rect l="l" t="t" r="r" b="b"/>
              <a:pathLst>
                <a:path w="3605" h="55">
                  <a:moveTo>
                    <a:pt x="58" y="0"/>
                  </a:moveTo>
                  <a:lnTo>
                    <a:pt x="1105" y="0"/>
                  </a:lnTo>
                  <a:lnTo>
                    <a:pt x="1107" y="3"/>
                  </a:lnTo>
                  <a:lnTo>
                    <a:pt x="1144" y="55"/>
                  </a:lnTo>
                  <a:lnTo>
                    <a:pt x="0" y="55"/>
                  </a:lnTo>
                  <a:lnTo>
                    <a:pt x="41" y="11"/>
                  </a:lnTo>
                  <a:lnTo>
                    <a:pt x="58" y="0"/>
                  </a:lnTo>
                  <a:close/>
                  <a:moveTo>
                    <a:pt x="2141" y="0"/>
                  </a:moveTo>
                  <a:lnTo>
                    <a:pt x="3555" y="0"/>
                  </a:lnTo>
                  <a:lnTo>
                    <a:pt x="3605" y="55"/>
                  </a:lnTo>
                  <a:lnTo>
                    <a:pt x="2136" y="55"/>
                  </a:lnTo>
                  <a:lnTo>
                    <a:pt x="2140" y="13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3610080" y="2545200"/>
              <a:ext cx="1404720" cy="19440"/>
            </a:xfrm>
            <a:custGeom>
              <a:avLst/>
              <a:gdLst/>
              <a:ahLst/>
              <a:rect l="l" t="t" r="r" b="b"/>
              <a:pathLst>
                <a:path w="3652" h="53">
                  <a:moveTo>
                    <a:pt x="47" y="0"/>
                  </a:moveTo>
                  <a:lnTo>
                    <a:pt x="1145" y="0"/>
                  </a:lnTo>
                  <a:lnTo>
                    <a:pt x="1184" y="53"/>
                  </a:lnTo>
                  <a:lnTo>
                    <a:pt x="0" y="53"/>
                  </a:lnTo>
                  <a:lnTo>
                    <a:pt x="8" y="42"/>
                  </a:lnTo>
                  <a:lnTo>
                    <a:pt x="47" y="0"/>
                  </a:lnTo>
                  <a:close/>
                  <a:moveTo>
                    <a:pt x="2160" y="0"/>
                  </a:moveTo>
                  <a:lnTo>
                    <a:pt x="3601" y="0"/>
                  </a:lnTo>
                  <a:lnTo>
                    <a:pt x="3652" y="53"/>
                  </a:lnTo>
                  <a:lnTo>
                    <a:pt x="2155" y="53"/>
                  </a:lnTo>
                  <a:lnTo>
                    <a:pt x="2160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3606120" y="2556000"/>
              <a:ext cx="1418040" cy="17640"/>
            </a:xfrm>
            <a:custGeom>
              <a:avLst/>
              <a:gdLst/>
              <a:ahLst/>
              <a:rect l="l" t="t" r="r" b="b"/>
              <a:pathLst>
                <a:path w="3691" h="54">
                  <a:moveTo>
                    <a:pt x="35" y="0"/>
                  </a:moveTo>
                  <a:lnTo>
                    <a:pt x="1179" y="0"/>
                  </a:lnTo>
                  <a:lnTo>
                    <a:pt x="1217" y="54"/>
                  </a:lnTo>
                  <a:lnTo>
                    <a:pt x="0" y="54"/>
                  </a:lnTo>
                  <a:lnTo>
                    <a:pt x="22" y="15"/>
                  </a:lnTo>
                  <a:lnTo>
                    <a:pt x="35" y="0"/>
                  </a:lnTo>
                  <a:close/>
                  <a:moveTo>
                    <a:pt x="2171" y="0"/>
                  </a:moveTo>
                  <a:lnTo>
                    <a:pt x="3640" y="0"/>
                  </a:lnTo>
                  <a:lnTo>
                    <a:pt x="3691" y="54"/>
                  </a:lnTo>
                  <a:lnTo>
                    <a:pt x="2167" y="54"/>
                  </a:lnTo>
                  <a:lnTo>
                    <a:pt x="2171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3600360" y="2564640"/>
              <a:ext cx="1433520" cy="19080"/>
            </a:xfrm>
            <a:custGeom>
              <a:avLst/>
              <a:gdLst/>
              <a:ahLst/>
              <a:rect l="l" t="t" r="r" b="b"/>
              <a:pathLst>
                <a:path w="3732" h="55">
                  <a:moveTo>
                    <a:pt x="29" y="0"/>
                  </a:moveTo>
                  <a:lnTo>
                    <a:pt x="1213" y="0"/>
                  </a:lnTo>
                  <a:lnTo>
                    <a:pt x="1251" y="55"/>
                  </a:lnTo>
                  <a:lnTo>
                    <a:pt x="0" y="55"/>
                  </a:lnTo>
                  <a:lnTo>
                    <a:pt x="29" y="0"/>
                  </a:lnTo>
                  <a:close/>
                  <a:moveTo>
                    <a:pt x="2184" y="0"/>
                  </a:moveTo>
                  <a:lnTo>
                    <a:pt x="3681" y="0"/>
                  </a:lnTo>
                  <a:lnTo>
                    <a:pt x="3732" y="55"/>
                  </a:lnTo>
                  <a:lnTo>
                    <a:pt x="2179" y="55"/>
                  </a:lnTo>
                  <a:lnTo>
                    <a:pt x="2184" y="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3596400" y="2573640"/>
              <a:ext cx="1446840" cy="19080"/>
            </a:xfrm>
            <a:custGeom>
              <a:avLst/>
              <a:gdLst/>
              <a:ahLst/>
              <a:rect l="l" t="t" r="r" b="b"/>
              <a:pathLst>
                <a:path w="3766" h="54">
                  <a:moveTo>
                    <a:pt x="23" y="0"/>
                  </a:moveTo>
                  <a:lnTo>
                    <a:pt x="1240" y="0"/>
                  </a:lnTo>
                  <a:lnTo>
                    <a:pt x="1277" y="54"/>
                  </a:lnTo>
                  <a:lnTo>
                    <a:pt x="0" y="54"/>
                  </a:lnTo>
                  <a:lnTo>
                    <a:pt x="1" y="40"/>
                  </a:lnTo>
                  <a:lnTo>
                    <a:pt x="23" y="0"/>
                  </a:lnTo>
                  <a:close/>
                  <a:moveTo>
                    <a:pt x="2190" y="0"/>
                  </a:moveTo>
                  <a:lnTo>
                    <a:pt x="3714" y="0"/>
                  </a:lnTo>
                  <a:lnTo>
                    <a:pt x="3766" y="54"/>
                  </a:lnTo>
                  <a:lnTo>
                    <a:pt x="2185" y="54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3594600" y="2584080"/>
              <a:ext cx="1458360" cy="19440"/>
            </a:xfrm>
            <a:custGeom>
              <a:avLst/>
              <a:gdLst/>
              <a:ahLst/>
              <a:rect l="l" t="t" r="r" b="b"/>
              <a:pathLst>
                <a:path w="3795" h="54">
                  <a:moveTo>
                    <a:pt x="12" y="0"/>
                  </a:moveTo>
                  <a:lnTo>
                    <a:pt x="1263" y="0"/>
                  </a:lnTo>
                  <a:lnTo>
                    <a:pt x="1282" y="28"/>
                  </a:lnTo>
                  <a:lnTo>
                    <a:pt x="1294" y="54"/>
                  </a:lnTo>
                  <a:lnTo>
                    <a:pt x="0" y="54"/>
                  </a:lnTo>
                  <a:lnTo>
                    <a:pt x="5" y="13"/>
                  </a:lnTo>
                  <a:lnTo>
                    <a:pt x="12" y="0"/>
                  </a:lnTo>
                  <a:close/>
                  <a:moveTo>
                    <a:pt x="2191" y="0"/>
                  </a:moveTo>
                  <a:lnTo>
                    <a:pt x="3744" y="0"/>
                  </a:lnTo>
                  <a:lnTo>
                    <a:pt x="3795" y="54"/>
                  </a:lnTo>
                  <a:lnTo>
                    <a:pt x="2186" y="54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594600" y="2592720"/>
              <a:ext cx="1467720" cy="19440"/>
            </a:xfrm>
            <a:custGeom>
              <a:avLst/>
              <a:gdLst/>
              <a:ahLst/>
              <a:rect l="l" t="t" r="r" b="b"/>
              <a:pathLst>
                <a:path w="3824" h="54">
                  <a:moveTo>
                    <a:pt x="7" y="0"/>
                  </a:moveTo>
                  <a:lnTo>
                    <a:pt x="1284" y="0"/>
                  </a:lnTo>
                  <a:lnTo>
                    <a:pt x="1285" y="1"/>
                  </a:lnTo>
                  <a:lnTo>
                    <a:pt x="1310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92" y="0"/>
                  </a:moveTo>
                  <a:lnTo>
                    <a:pt x="3773" y="0"/>
                  </a:lnTo>
                  <a:lnTo>
                    <a:pt x="3824" y="54"/>
                  </a:lnTo>
                  <a:lnTo>
                    <a:pt x="3383" y="54"/>
                  </a:lnTo>
                  <a:lnTo>
                    <a:pt x="3375" y="45"/>
                  </a:lnTo>
                  <a:lnTo>
                    <a:pt x="3366" y="33"/>
                  </a:lnTo>
                  <a:lnTo>
                    <a:pt x="3366" y="53"/>
                  </a:lnTo>
                  <a:lnTo>
                    <a:pt x="3366" y="54"/>
                  </a:lnTo>
                  <a:lnTo>
                    <a:pt x="2186" y="54"/>
                  </a:lnTo>
                  <a:lnTo>
                    <a:pt x="2192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594600" y="2603880"/>
              <a:ext cx="1477440" cy="17640"/>
            </a:xfrm>
            <a:custGeom>
              <a:avLst/>
              <a:gdLst/>
              <a:ahLst/>
              <a:rect l="l" t="t" r="r" b="b"/>
              <a:pathLst>
                <a:path w="3849" h="54">
                  <a:moveTo>
                    <a:pt x="3" y="0"/>
                  </a:moveTo>
                  <a:lnTo>
                    <a:pt x="1297" y="0"/>
                  </a:lnTo>
                  <a:lnTo>
                    <a:pt x="1321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3" y="0"/>
                  </a:lnTo>
                  <a:close/>
                  <a:moveTo>
                    <a:pt x="2189" y="0"/>
                  </a:moveTo>
                  <a:lnTo>
                    <a:pt x="3798" y="0"/>
                  </a:lnTo>
                  <a:lnTo>
                    <a:pt x="3849" y="54"/>
                  </a:lnTo>
                  <a:lnTo>
                    <a:pt x="3413" y="54"/>
                  </a:lnTo>
                  <a:lnTo>
                    <a:pt x="3404" y="48"/>
                  </a:lnTo>
                  <a:lnTo>
                    <a:pt x="3375" y="18"/>
                  </a:lnTo>
                  <a:lnTo>
                    <a:pt x="3366" y="6"/>
                  </a:lnTo>
                  <a:lnTo>
                    <a:pt x="3366" y="26"/>
                  </a:lnTo>
                  <a:lnTo>
                    <a:pt x="3361" y="54"/>
                  </a:lnTo>
                  <a:lnTo>
                    <a:pt x="2184" y="54"/>
                  </a:lnTo>
                  <a:lnTo>
                    <a:pt x="2189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594600" y="2612520"/>
              <a:ext cx="1488600" cy="19080"/>
            </a:xfrm>
            <a:custGeom>
              <a:avLst/>
              <a:gdLst/>
              <a:ahLst/>
              <a:rect l="l" t="t" r="r" b="b"/>
              <a:pathLst>
                <a:path w="3875" h="53">
                  <a:moveTo>
                    <a:pt x="0" y="0"/>
                  </a:moveTo>
                  <a:lnTo>
                    <a:pt x="1310" y="0"/>
                  </a:lnTo>
                  <a:lnTo>
                    <a:pt x="1333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86" y="0"/>
                  </a:moveTo>
                  <a:lnTo>
                    <a:pt x="3366" y="0"/>
                  </a:lnTo>
                  <a:lnTo>
                    <a:pt x="3357" y="48"/>
                  </a:lnTo>
                  <a:lnTo>
                    <a:pt x="3356" y="53"/>
                  </a:lnTo>
                  <a:lnTo>
                    <a:pt x="2182" y="53"/>
                  </a:lnTo>
                  <a:lnTo>
                    <a:pt x="2186" y="0"/>
                  </a:lnTo>
                  <a:close/>
                  <a:moveTo>
                    <a:pt x="3383" y="0"/>
                  </a:moveTo>
                  <a:lnTo>
                    <a:pt x="3824" y="0"/>
                  </a:lnTo>
                  <a:lnTo>
                    <a:pt x="3875" y="53"/>
                  </a:lnTo>
                  <a:lnTo>
                    <a:pt x="3448" y="53"/>
                  </a:lnTo>
                  <a:lnTo>
                    <a:pt x="3404" y="21"/>
                  </a:lnTo>
                  <a:lnTo>
                    <a:pt x="3383" y="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594600" y="2621520"/>
              <a:ext cx="1498320" cy="19080"/>
            </a:xfrm>
            <a:custGeom>
              <a:avLst/>
              <a:gdLst/>
              <a:ahLst/>
              <a:rect l="l" t="t" r="r" b="b"/>
              <a:pathLst>
                <a:path w="3900" h="54">
                  <a:moveTo>
                    <a:pt x="0" y="0"/>
                  </a:moveTo>
                  <a:lnTo>
                    <a:pt x="1321" y="0"/>
                  </a:lnTo>
                  <a:lnTo>
                    <a:pt x="134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84" y="0"/>
                  </a:moveTo>
                  <a:lnTo>
                    <a:pt x="3361" y="0"/>
                  </a:lnTo>
                  <a:lnTo>
                    <a:pt x="3357" y="21"/>
                  </a:lnTo>
                  <a:lnTo>
                    <a:pt x="3350" y="54"/>
                  </a:lnTo>
                  <a:lnTo>
                    <a:pt x="2179" y="54"/>
                  </a:lnTo>
                  <a:lnTo>
                    <a:pt x="2184" y="0"/>
                  </a:lnTo>
                  <a:close/>
                  <a:moveTo>
                    <a:pt x="3413" y="0"/>
                  </a:moveTo>
                  <a:lnTo>
                    <a:pt x="3849" y="0"/>
                  </a:lnTo>
                  <a:lnTo>
                    <a:pt x="3900" y="54"/>
                  </a:lnTo>
                  <a:lnTo>
                    <a:pt x="3480" y="54"/>
                  </a:lnTo>
                  <a:lnTo>
                    <a:pt x="3454" y="31"/>
                  </a:lnTo>
                  <a:lnTo>
                    <a:pt x="3413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3594600" y="2631960"/>
              <a:ext cx="1508040" cy="19440"/>
            </a:xfrm>
            <a:custGeom>
              <a:avLst/>
              <a:gdLst/>
              <a:ahLst/>
              <a:rect l="l" t="t" r="r" b="b"/>
              <a:pathLst>
                <a:path w="3926" h="55">
                  <a:moveTo>
                    <a:pt x="0" y="0"/>
                  </a:moveTo>
                  <a:lnTo>
                    <a:pt x="1333" y="0"/>
                  </a:lnTo>
                  <a:lnTo>
                    <a:pt x="1357" y="55"/>
                  </a:lnTo>
                  <a:lnTo>
                    <a:pt x="0" y="55"/>
                  </a:lnTo>
                  <a:lnTo>
                    <a:pt x="0" y="0"/>
                  </a:lnTo>
                  <a:close/>
                  <a:moveTo>
                    <a:pt x="2182" y="0"/>
                  </a:moveTo>
                  <a:lnTo>
                    <a:pt x="3356" y="0"/>
                  </a:lnTo>
                  <a:lnTo>
                    <a:pt x="3343" y="55"/>
                  </a:lnTo>
                  <a:lnTo>
                    <a:pt x="2177" y="55"/>
                  </a:lnTo>
                  <a:lnTo>
                    <a:pt x="2182" y="0"/>
                  </a:lnTo>
                  <a:close/>
                  <a:moveTo>
                    <a:pt x="3448" y="0"/>
                  </a:moveTo>
                  <a:lnTo>
                    <a:pt x="3875" y="0"/>
                  </a:lnTo>
                  <a:lnTo>
                    <a:pt x="3926" y="55"/>
                  </a:lnTo>
                  <a:lnTo>
                    <a:pt x="3511" y="55"/>
                  </a:lnTo>
                  <a:lnTo>
                    <a:pt x="3454" y="5"/>
                  </a:lnTo>
                  <a:lnTo>
                    <a:pt x="3448" y="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3594600" y="2640600"/>
              <a:ext cx="1517760" cy="19440"/>
            </a:xfrm>
            <a:custGeom>
              <a:avLst/>
              <a:gdLst/>
              <a:ahLst/>
              <a:rect l="l" t="t" r="r" b="b"/>
              <a:pathLst>
                <a:path w="3951" h="53">
                  <a:moveTo>
                    <a:pt x="0" y="0"/>
                  </a:moveTo>
                  <a:lnTo>
                    <a:pt x="1345" y="0"/>
                  </a:lnTo>
                  <a:lnTo>
                    <a:pt x="1365" y="44"/>
                  </a:lnTo>
                  <a:lnTo>
                    <a:pt x="1368" y="53"/>
                  </a:lnTo>
                  <a:lnTo>
                    <a:pt x="0" y="53"/>
                  </a:lnTo>
                  <a:lnTo>
                    <a:pt x="0" y="0"/>
                  </a:lnTo>
                  <a:close/>
                  <a:moveTo>
                    <a:pt x="2179" y="0"/>
                  </a:moveTo>
                  <a:lnTo>
                    <a:pt x="3350" y="0"/>
                  </a:lnTo>
                  <a:lnTo>
                    <a:pt x="3337" y="53"/>
                  </a:lnTo>
                  <a:lnTo>
                    <a:pt x="2175" y="53"/>
                  </a:lnTo>
                  <a:lnTo>
                    <a:pt x="2176" y="44"/>
                  </a:lnTo>
                  <a:lnTo>
                    <a:pt x="2179" y="0"/>
                  </a:lnTo>
                  <a:close/>
                  <a:moveTo>
                    <a:pt x="3480" y="0"/>
                  </a:moveTo>
                  <a:lnTo>
                    <a:pt x="3900" y="0"/>
                  </a:lnTo>
                  <a:lnTo>
                    <a:pt x="3951" y="53"/>
                  </a:lnTo>
                  <a:lnTo>
                    <a:pt x="3546" y="53"/>
                  </a:lnTo>
                  <a:lnTo>
                    <a:pt x="3521" y="34"/>
                  </a:lnTo>
                  <a:lnTo>
                    <a:pt x="3480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3594600" y="2651400"/>
              <a:ext cx="1527480" cy="17640"/>
            </a:xfrm>
            <a:custGeom>
              <a:avLst/>
              <a:gdLst/>
              <a:ahLst/>
              <a:rect l="l" t="t" r="r" b="b"/>
              <a:pathLst>
                <a:path w="3978" h="54">
                  <a:moveTo>
                    <a:pt x="0" y="0"/>
                  </a:moveTo>
                  <a:lnTo>
                    <a:pt x="1357" y="0"/>
                  </a:lnTo>
                  <a:lnTo>
                    <a:pt x="1365" y="17"/>
                  </a:lnTo>
                  <a:lnTo>
                    <a:pt x="1379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2177" y="0"/>
                  </a:moveTo>
                  <a:lnTo>
                    <a:pt x="3343" y="0"/>
                  </a:lnTo>
                  <a:lnTo>
                    <a:pt x="3337" y="27"/>
                  </a:lnTo>
                  <a:lnTo>
                    <a:pt x="3332" y="54"/>
                  </a:lnTo>
                  <a:lnTo>
                    <a:pt x="2171" y="54"/>
                  </a:lnTo>
                  <a:lnTo>
                    <a:pt x="2176" y="17"/>
                  </a:lnTo>
                  <a:lnTo>
                    <a:pt x="2177" y="0"/>
                  </a:lnTo>
                  <a:close/>
                  <a:moveTo>
                    <a:pt x="3511" y="0"/>
                  </a:moveTo>
                  <a:lnTo>
                    <a:pt x="3926" y="0"/>
                  </a:lnTo>
                  <a:lnTo>
                    <a:pt x="3978" y="54"/>
                  </a:lnTo>
                  <a:lnTo>
                    <a:pt x="3581" y="54"/>
                  </a:lnTo>
                  <a:lnTo>
                    <a:pt x="3521" y="7"/>
                  </a:lnTo>
                  <a:lnTo>
                    <a:pt x="3511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3592440" y="2660400"/>
              <a:ext cx="1539360" cy="19080"/>
            </a:xfrm>
            <a:custGeom>
              <a:avLst/>
              <a:gdLst/>
              <a:ahLst/>
              <a:rect l="l" t="t" r="r" b="b"/>
              <a:pathLst>
                <a:path w="4004" h="55">
                  <a:moveTo>
                    <a:pt x="1" y="0"/>
                  </a:moveTo>
                  <a:lnTo>
                    <a:pt x="1369" y="0"/>
                  </a:lnTo>
                  <a:lnTo>
                    <a:pt x="1390" y="55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1" y="0"/>
                  </a:lnTo>
                  <a:close/>
                  <a:moveTo>
                    <a:pt x="2176" y="0"/>
                  </a:moveTo>
                  <a:lnTo>
                    <a:pt x="3338" y="0"/>
                  </a:lnTo>
                  <a:lnTo>
                    <a:pt x="3338" y="1"/>
                  </a:lnTo>
                  <a:lnTo>
                    <a:pt x="3328" y="55"/>
                  </a:lnTo>
                  <a:lnTo>
                    <a:pt x="2168" y="55"/>
                  </a:lnTo>
                  <a:lnTo>
                    <a:pt x="2176" y="0"/>
                  </a:lnTo>
                  <a:close/>
                  <a:moveTo>
                    <a:pt x="3547" y="0"/>
                  </a:moveTo>
                  <a:lnTo>
                    <a:pt x="3952" y="0"/>
                  </a:lnTo>
                  <a:lnTo>
                    <a:pt x="4004" y="55"/>
                  </a:lnTo>
                  <a:lnTo>
                    <a:pt x="3615" y="55"/>
                  </a:lnTo>
                  <a:lnTo>
                    <a:pt x="3608" y="49"/>
                  </a:lnTo>
                  <a:lnTo>
                    <a:pt x="3547" y="0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3592440" y="2669040"/>
              <a:ext cx="1548720" cy="19080"/>
            </a:xfrm>
            <a:custGeom>
              <a:avLst/>
              <a:gdLst/>
              <a:ahLst/>
              <a:rect l="l" t="t" r="r" b="b"/>
              <a:pathLst>
                <a:path w="4031" h="54">
                  <a:moveTo>
                    <a:pt x="3" y="0"/>
                  </a:moveTo>
                  <a:lnTo>
                    <a:pt x="1382" y="0"/>
                  </a:lnTo>
                  <a:lnTo>
                    <a:pt x="1403" y="54"/>
                  </a:lnTo>
                  <a:lnTo>
                    <a:pt x="0" y="54"/>
                  </a:lnTo>
                  <a:lnTo>
                    <a:pt x="3" y="19"/>
                  </a:lnTo>
                  <a:lnTo>
                    <a:pt x="3" y="0"/>
                  </a:lnTo>
                  <a:close/>
                  <a:moveTo>
                    <a:pt x="2174" y="0"/>
                  </a:moveTo>
                  <a:lnTo>
                    <a:pt x="3335" y="0"/>
                  </a:lnTo>
                  <a:lnTo>
                    <a:pt x="3323" y="54"/>
                  </a:lnTo>
                  <a:lnTo>
                    <a:pt x="2167" y="54"/>
                  </a:lnTo>
                  <a:lnTo>
                    <a:pt x="2174" y="0"/>
                  </a:lnTo>
                  <a:close/>
                  <a:moveTo>
                    <a:pt x="3584" y="0"/>
                  </a:moveTo>
                  <a:lnTo>
                    <a:pt x="3981" y="0"/>
                  </a:lnTo>
                  <a:lnTo>
                    <a:pt x="4031" y="54"/>
                  </a:lnTo>
                  <a:lnTo>
                    <a:pt x="3649" y="54"/>
                  </a:lnTo>
                  <a:lnTo>
                    <a:pt x="3610" y="21"/>
                  </a:lnTo>
                  <a:lnTo>
                    <a:pt x="3584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3590640" y="2679480"/>
              <a:ext cx="1560240" cy="19440"/>
            </a:xfrm>
            <a:custGeom>
              <a:avLst/>
              <a:gdLst/>
              <a:ahLst/>
              <a:rect l="l" t="t" r="r" b="b"/>
              <a:pathLst>
                <a:path w="4059" h="54">
                  <a:moveTo>
                    <a:pt x="5" y="0"/>
                  </a:moveTo>
                  <a:lnTo>
                    <a:pt x="1395" y="0"/>
                  </a:lnTo>
                  <a:lnTo>
                    <a:pt x="1416" y="54"/>
                  </a:lnTo>
                  <a:lnTo>
                    <a:pt x="0" y="54"/>
                  </a:lnTo>
                  <a:lnTo>
                    <a:pt x="5" y="0"/>
                  </a:lnTo>
                  <a:close/>
                  <a:moveTo>
                    <a:pt x="2173" y="0"/>
                  </a:moveTo>
                  <a:lnTo>
                    <a:pt x="3333" y="0"/>
                  </a:lnTo>
                  <a:lnTo>
                    <a:pt x="3323" y="43"/>
                  </a:lnTo>
                  <a:lnTo>
                    <a:pt x="3321" y="54"/>
                  </a:lnTo>
                  <a:lnTo>
                    <a:pt x="2167" y="54"/>
                  </a:lnTo>
                  <a:lnTo>
                    <a:pt x="2173" y="0"/>
                  </a:lnTo>
                  <a:close/>
                  <a:moveTo>
                    <a:pt x="3620" y="0"/>
                  </a:moveTo>
                  <a:lnTo>
                    <a:pt x="4009" y="0"/>
                  </a:lnTo>
                  <a:lnTo>
                    <a:pt x="4050" y="43"/>
                  </a:lnTo>
                  <a:lnTo>
                    <a:pt x="4059" y="54"/>
                  </a:lnTo>
                  <a:lnTo>
                    <a:pt x="3682" y="54"/>
                  </a:lnTo>
                  <a:lnTo>
                    <a:pt x="3620" y="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3590640" y="2688480"/>
              <a:ext cx="1569600" cy="19440"/>
            </a:xfrm>
            <a:custGeom>
              <a:avLst/>
              <a:gdLst/>
              <a:ahLst/>
              <a:rect l="l" t="t" r="r" b="b"/>
              <a:pathLst>
                <a:path w="4086" h="54">
                  <a:moveTo>
                    <a:pt x="5" y="0"/>
                  </a:moveTo>
                  <a:lnTo>
                    <a:pt x="1408" y="0"/>
                  </a:lnTo>
                  <a:lnTo>
                    <a:pt x="1429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8" y="0"/>
                  </a:lnTo>
                  <a:lnTo>
                    <a:pt x="3325" y="16"/>
                  </a:lnTo>
                  <a:lnTo>
                    <a:pt x="3319" y="54"/>
                  </a:lnTo>
                  <a:lnTo>
                    <a:pt x="2166" y="54"/>
                  </a:lnTo>
                  <a:lnTo>
                    <a:pt x="2172" y="0"/>
                  </a:lnTo>
                  <a:close/>
                  <a:moveTo>
                    <a:pt x="3654" y="0"/>
                  </a:moveTo>
                  <a:lnTo>
                    <a:pt x="4036" y="0"/>
                  </a:lnTo>
                  <a:lnTo>
                    <a:pt x="4052" y="16"/>
                  </a:lnTo>
                  <a:lnTo>
                    <a:pt x="4086" y="54"/>
                  </a:lnTo>
                  <a:lnTo>
                    <a:pt x="3715" y="54"/>
                  </a:lnTo>
                  <a:lnTo>
                    <a:pt x="3714" y="53"/>
                  </a:lnTo>
                  <a:lnTo>
                    <a:pt x="3654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3588840" y="2699280"/>
              <a:ext cx="1581120" cy="17640"/>
            </a:xfrm>
            <a:custGeom>
              <a:avLst/>
              <a:gdLst/>
              <a:ahLst/>
              <a:rect l="l" t="t" r="r" b="b"/>
              <a:pathLst>
                <a:path w="4113" h="54">
                  <a:moveTo>
                    <a:pt x="5" y="0"/>
                  </a:moveTo>
                  <a:lnTo>
                    <a:pt x="1421" y="0"/>
                  </a:lnTo>
                  <a:lnTo>
                    <a:pt x="1435" y="36"/>
                  </a:lnTo>
                  <a:lnTo>
                    <a:pt x="1447" y="54"/>
                  </a:lnTo>
                  <a:lnTo>
                    <a:pt x="0" y="54"/>
                  </a:lnTo>
                  <a:lnTo>
                    <a:pt x="3" y="25"/>
                  </a:lnTo>
                  <a:lnTo>
                    <a:pt x="5" y="0"/>
                  </a:lnTo>
                  <a:close/>
                  <a:moveTo>
                    <a:pt x="2172" y="0"/>
                  </a:moveTo>
                  <a:lnTo>
                    <a:pt x="3326" y="0"/>
                  </a:lnTo>
                  <a:lnTo>
                    <a:pt x="3318" y="54"/>
                  </a:lnTo>
                  <a:lnTo>
                    <a:pt x="2166" y="54"/>
                  </a:lnTo>
                  <a:lnTo>
                    <a:pt x="2167" y="46"/>
                  </a:lnTo>
                  <a:lnTo>
                    <a:pt x="2172" y="0"/>
                  </a:lnTo>
                  <a:close/>
                  <a:moveTo>
                    <a:pt x="3687" y="0"/>
                  </a:moveTo>
                  <a:lnTo>
                    <a:pt x="4064" y="0"/>
                  </a:lnTo>
                  <a:lnTo>
                    <a:pt x="4113" y="54"/>
                  </a:lnTo>
                  <a:lnTo>
                    <a:pt x="3758" y="54"/>
                  </a:lnTo>
                  <a:lnTo>
                    <a:pt x="3717" y="26"/>
                  </a:lnTo>
                  <a:lnTo>
                    <a:pt x="3687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3588840" y="2708280"/>
              <a:ext cx="1590840" cy="19080"/>
            </a:xfrm>
            <a:custGeom>
              <a:avLst/>
              <a:gdLst/>
              <a:ahLst/>
              <a:rect l="l" t="t" r="r" b="b"/>
              <a:pathLst>
                <a:path w="4143" h="53">
                  <a:moveTo>
                    <a:pt x="7" y="0"/>
                  </a:moveTo>
                  <a:lnTo>
                    <a:pt x="1436" y="0"/>
                  </a:lnTo>
                  <a:lnTo>
                    <a:pt x="1439" y="9"/>
                  </a:lnTo>
                  <a:lnTo>
                    <a:pt x="1468" y="53"/>
                  </a:lnTo>
                  <a:lnTo>
                    <a:pt x="0" y="53"/>
                  </a:lnTo>
                  <a:lnTo>
                    <a:pt x="7" y="0"/>
                  </a:lnTo>
                  <a:close/>
                  <a:moveTo>
                    <a:pt x="2173" y="0"/>
                  </a:moveTo>
                  <a:lnTo>
                    <a:pt x="3326" y="0"/>
                  </a:lnTo>
                  <a:lnTo>
                    <a:pt x="3316" y="53"/>
                  </a:lnTo>
                  <a:lnTo>
                    <a:pt x="2169" y="53"/>
                  </a:lnTo>
                  <a:lnTo>
                    <a:pt x="2171" y="19"/>
                  </a:lnTo>
                  <a:lnTo>
                    <a:pt x="2173" y="0"/>
                  </a:lnTo>
                  <a:close/>
                  <a:moveTo>
                    <a:pt x="3722" y="0"/>
                  </a:moveTo>
                  <a:lnTo>
                    <a:pt x="4093" y="0"/>
                  </a:lnTo>
                  <a:lnTo>
                    <a:pt x="4143" y="53"/>
                  </a:lnTo>
                  <a:lnTo>
                    <a:pt x="3801" y="53"/>
                  </a:lnTo>
                  <a:lnTo>
                    <a:pt x="3722" y="0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3586680" y="2716920"/>
              <a:ext cx="1602360" cy="19080"/>
            </a:xfrm>
            <a:custGeom>
              <a:avLst/>
              <a:gdLst/>
              <a:ahLst/>
              <a:rect l="l" t="t" r="r" b="b"/>
              <a:pathLst>
                <a:path w="4171" h="54">
                  <a:moveTo>
                    <a:pt x="8" y="0"/>
                  </a:moveTo>
                  <a:lnTo>
                    <a:pt x="1455" y="0"/>
                  </a:lnTo>
                  <a:lnTo>
                    <a:pt x="1490" y="54"/>
                  </a:lnTo>
                  <a:lnTo>
                    <a:pt x="0" y="54"/>
                  </a:lnTo>
                  <a:lnTo>
                    <a:pt x="8" y="0"/>
                  </a:lnTo>
                  <a:close/>
                  <a:moveTo>
                    <a:pt x="2174" y="0"/>
                  </a:moveTo>
                  <a:lnTo>
                    <a:pt x="3326" y="0"/>
                  </a:lnTo>
                  <a:lnTo>
                    <a:pt x="3316" y="54"/>
                  </a:lnTo>
                  <a:lnTo>
                    <a:pt x="2172" y="54"/>
                  </a:lnTo>
                  <a:lnTo>
                    <a:pt x="2174" y="0"/>
                  </a:lnTo>
                  <a:close/>
                  <a:moveTo>
                    <a:pt x="3766" y="0"/>
                  </a:moveTo>
                  <a:lnTo>
                    <a:pt x="4121" y="0"/>
                  </a:lnTo>
                  <a:lnTo>
                    <a:pt x="4169" y="51"/>
                  </a:lnTo>
                  <a:lnTo>
                    <a:pt x="4171" y="54"/>
                  </a:lnTo>
                  <a:lnTo>
                    <a:pt x="3845" y="54"/>
                  </a:lnTo>
                  <a:lnTo>
                    <a:pt x="3841" y="51"/>
                  </a:lnTo>
                  <a:lnTo>
                    <a:pt x="3766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3585240" y="2727360"/>
              <a:ext cx="1612080" cy="19440"/>
            </a:xfrm>
            <a:custGeom>
              <a:avLst/>
              <a:gdLst/>
              <a:ahLst/>
              <a:rect l="l" t="t" r="r" b="b"/>
              <a:pathLst>
                <a:path w="4196" h="55">
                  <a:moveTo>
                    <a:pt x="7" y="0"/>
                  </a:moveTo>
                  <a:lnTo>
                    <a:pt x="1475" y="0"/>
                  </a:lnTo>
                  <a:lnTo>
                    <a:pt x="1512" y="55"/>
                  </a:lnTo>
                  <a:lnTo>
                    <a:pt x="0" y="55"/>
                  </a:lnTo>
                  <a:lnTo>
                    <a:pt x="7" y="0"/>
                  </a:lnTo>
                  <a:close/>
                  <a:moveTo>
                    <a:pt x="2176" y="0"/>
                  </a:moveTo>
                  <a:lnTo>
                    <a:pt x="3323" y="0"/>
                  </a:lnTo>
                  <a:lnTo>
                    <a:pt x="3314" y="55"/>
                  </a:lnTo>
                  <a:lnTo>
                    <a:pt x="2173" y="55"/>
                  </a:lnTo>
                  <a:lnTo>
                    <a:pt x="2176" y="0"/>
                  </a:lnTo>
                  <a:close/>
                  <a:moveTo>
                    <a:pt x="3808" y="0"/>
                  </a:moveTo>
                  <a:lnTo>
                    <a:pt x="4150" y="0"/>
                  </a:lnTo>
                  <a:lnTo>
                    <a:pt x="4172" y="25"/>
                  </a:lnTo>
                  <a:lnTo>
                    <a:pt x="4196" y="55"/>
                  </a:lnTo>
                  <a:lnTo>
                    <a:pt x="3886" y="55"/>
                  </a:lnTo>
                  <a:lnTo>
                    <a:pt x="3844" y="25"/>
                  </a:lnTo>
                  <a:lnTo>
                    <a:pt x="3808" y="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3585240" y="2736360"/>
              <a:ext cx="1621440" cy="19440"/>
            </a:xfrm>
            <a:custGeom>
              <a:avLst/>
              <a:gdLst/>
              <a:ahLst/>
              <a:rect l="l" t="t" r="r" b="b"/>
              <a:pathLst>
                <a:path w="4221" h="53">
                  <a:moveTo>
                    <a:pt x="6" y="0"/>
                  </a:moveTo>
                  <a:lnTo>
                    <a:pt x="1496" y="0"/>
                  </a:lnTo>
                  <a:lnTo>
                    <a:pt x="1528" y="46"/>
                  </a:lnTo>
                  <a:lnTo>
                    <a:pt x="1534" y="53"/>
                  </a:lnTo>
                  <a:lnTo>
                    <a:pt x="0" y="53"/>
                  </a:lnTo>
                  <a:lnTo>
                    <a:pt x="6" y="0"/>
                  </a:lnTo>
                  <a:close/>
                  <a:moveTo>
                    <a:pt x="2178" y="0"/>
                  </a:moveTo>
                  <a:lnTo>
                    <a:pt x="3322" y="0"/>
                  </a:lnTo>
                  <a:lnTo>
                    <a:pt x="3313" y="53"/>
                  </a:lnTo>
                  <a:lnTo>
                    <a:pt x="2175" y="53"/>
                  </a:lnTo>
                  <a:lnTo>
                    <a:pt x="2178" y="0"/>
                  </a:lnTo>
                  <a:close/>
                  <a:moveTo>
                    <a:pt x="3851" y="0"/>
                  </a:moveTo>
                  <a:lnTo>
                    <a:pt x="4177" y="0"/>
                  </a:lnTo>
                  <a:lnTo>
                    <a:pt x="4221" y="53"/>
                  </a:lnTo>
                  <a:lnTo>
                    <a:pt x="3926" y="53"/>
                  </a:lnTo>
                  <a:lnTo>
                    <a:pt x="3851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3582720" y="2747160"/>
              <a:ext cx="1631160" cy="17640"/>
            </a:xfrm>
            <a:custGeom>
              <a:avLst/>
              <a:gdLst/>
              <a:ahLst/>
              <a:rect l="l" t="t" r="r" b="b"/>
              <a:pathLst>
                <a:path w="4246" h="54">
                  <a:moveTo>
                    <a:pt x="6" y="0"/>
                  </a:moveTo>
                  <a:lnTo>
                    <a:pt x="1518" y="0"/>
                  </a:lnTo>
                  <a:lnTo>
                    <a:pt x="1531" y="19"/>
                  </a:lnTo>
                  <a:lnTo>
                    <a:pt x="1558" y="54"/>
                  </a:lnTo>
                  <a:lnTo>
                    <a:pt x="1" y="54"/>
                  </a:lnTo>
                  <a:lnTo>
                    <a:pt x="0" y="47"/>
                  </a:lnTo>
                  <a:lnTo>
                    <a:pt x="6" y="0"/>
                  </a:lnTo>
                  <a:close/>
                  <a:moveTo>
                    <a:pt x="2179" y="0"/>
                  </a:moveTo>
                  <a:lnTo>
                    <a:pt x="3320" y="0"/>
                  </a:lnTo>
                  <a:lnTo>
                    <a:pt x="3310" y="54"/>
                  </a:lnTo>
                  <a:lnTo>
                    <a:pt x="2498" y="54"/>
                  </a:lnTo>
                  <a:lnTo>
                    <a:pt x="2496" y="49"/>
                  </a:lnTo>
                  <a:lnTo>
                    <a:pt x="2496" y="54"/>
                  </a:lnTo>
                  <a:lnTo>
                    <a:pt x="2175" y="54"/>
                  </a:lnTo>
                  <a:lnTo>
                    <a:pt x="2175" y="49"/>
                  </a:lnTo>
                  <a:lnTo>
                    <a:pt x="2179" y="0"/>
                  </a:lnTo>
                  <a:close/>
                  <a:moveTo>
                    <a:pt x="3892" y="0"/>
                  </a:moveTo>
                  <a:lnTo>
                    <a:pt x="4202" y="0"/>
                  </a:lnTo>
                  <a:lnTo>
                    <a:pt x="4246" y="54"/>
                  </a:lnTo>
                  <a:lnTo>
                    <a:pt x="3967" y="54"/>
                  </a:lnTo>
                  <a:lnTo>
                    <a:pt x="3892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3582720" y="2755800"/>
              <a:ext cx="1640880" cy="19080"/>
            </a:xfrm>
            <a:custGeom>
              <a:avLst/>
              <a:gdLst/>
              <a:ahLst/>
              <a:rect l="l" t="t" r="r" b="b"/>
              <a:pathLst>
                <a:path w="4268" h="55">
                  <a:moveTo>
                    <a:pt x="3" y="0"/>
                  </a:moveTo>
                  <a:lnTo>
                    <a:pt x="1537" y="0"/>
                  </a:lnTo>
                  <a:lnTo>
                    <a:pt x="1580" y="55"/>
                  </a:lnTo>
                  <a:lnTo>
                    <a:pt x="3" y="55"/>
                  </a:lnTo>
                  <a:lnTo>
                    <a:pt x="0" y="21"/>
                  </a:lnTo>
                  <a:lnTo>
                    <a:pt x="3" y="0"/>
                  </a:lnTo>
                  <a:close/>
                  <a:moveTo>
                    <a:pt x="2178" y="0"/>
                  </a:moveTo>
                  <a:lnTo>
                    <a:pt x="3316" y="0"/>
                  </a:lnTo>
                  <a:lnTo>
                    <a:pt x="3306" y="55"/>
                  </a:lnTo>
                  <a:lnTo>
                    <a:pt x="2513" y="55"/>
                  </a:lnTo>
                  <a:lnTo>
                    <a:pt x="2503" y="39"/>
                  </a:lnTo>
                  <a:lnTo>
                    <a:pt x="2496" y="23"/>
                  </a:lnTo>
                  <a:lnTo>
                    <a:pt x="2496" y="31"/>
                  </a:lnTo>
                  <a:lnTo>
                    <a:pt x="2489" y="55"/>
                  </a:lnTo>
                  <a:lnTo>
                    <a:pt x="2172" y="55"/>
                  </a:lnTo>
                  <a:lnTo>
                    <a:pt x="2175" y="23"/>
                  </a:lnTo>
                  <a:lnTo>
                    <a:pt x="2178" y="0"/>
                  </a:lnTo>
                  <a:close/>
                  <a:moveTo>
                    <a:pt x="3929" y="0"/>
                  </a:moveTo>
                  <a:lnTo>
                    <a:pt x="4224" y="0"/>
                  </a:lnTo>
                  <a:lnTo>
                    <a:pt x="4265" y="51"/>
                  </a:lnTo>
                  <a:lnTo>
                    <a:pt x="4268" y="55"/>
                  </a:lnTo>
                  <a:lnTo>
                    <a:pt x="3993" y="55"/>
                  </a:lnTo>
                  <a:lnTo>
                    <a:pt x="3982" y="39"/>
                  </a:lnTo>
                  <a:lnTo>
                    <a:pt x="3929" y="0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3582720" y="2764800"/>
              <a:ext cx="1648800" cy="19080"/>
            </a:xfrm>
            <a:custGeom>
              <a:avLst/>
              <a:gdLst/>
              <a:ahLst/>
              <a:rect l="l" t="t" r="r" b="b"/>
              <a:pathLst>
                <a:path w="4289" h="53">
                  <a:moveTo>
                    <a:pt x="0" y="0"/>
                  </a:moveTo>
                  <a:lnTo>
                    <a:pt x="1557" y="0"/>
                  </a:lnTo>
                  <a:lnTo>
                    <a:pt x="1601" y="53"/>
                  </a:lnTo>
                  <a:lnTo>
                    <a:pt x="5" y="53"/>
                  </a:lnTo>
                  <a:lnTo>
                    <a:pt x="0" y="0"/>
                  </a:lnTo>
                  <a:close/>
                  <a:moveTo>
                    <a:pt x="2174" y="0"/>
                  </a:moveTo>
                  <a:lnTo>
                    <a:pt x="2495" y="0"/>
                  </a:lnTo>
                  <a:lnTo>
                    <a:pt x="2495" y="3"/>
                  </a:lnTo>
                  <a:lnTo>
                    <a:pt x="2484" y="41"/>
                  </a:lnTo>
                  <a:lnTo>
                    <a:pt x="2482" y="53"/>
                  </a:lnTo>
                  <a:lnTo>
                    <a:pt x="2168" y="53"/>
                  </a:lnTo>
                  <a:lnTo>
                    <a:pt x="2174" y="0"/>
                  </a:lnTo>
                  <a:close/>
                  <a:moveTo>
                    <a:pt x="2497" y="0"/>
                  </a:moveTo>
                  <a:lnTo>
                    <a:pt x="3309" y="0"/>
                  </a:lnTo>
                  <a:lnTo>
                    <a:pt x="3301" y="53"/>
                  </a:lnTo>
                  <a:lnTo>
                    <a:pt x="2528" y="53"/>
                  </a:lnTo>
                  <a:lnTo>
                    <a:pt x="2502" y="11"/>
                  </a:lnTo>
                  <a:lnTo>
                    <a:pt x="2497" y="0"/>
                  </a:lnTo>
                  <a:close/>
                  <a:moveTo>
                    <a:pt x="3966" y="0"/>
                  </a:moveTo>
                  <a:lnTo>
                    <a:pt x="4245" y="0"/>
                  </a:lnTo>
                  <a:lnTo>
                    <a:pt x="4264" y="23"/>
                  </a:lnTo>
                  <a:lnTo>
                    <a:pt x="4289" y="53"/>
                  </a:lnTo>
                  <a:lnTo>
                    <a:pt x="4011" y="53"/>
                  </a:lnTo>
                  <a:lnTo>
                    <a:pt x="3981" y="11"/>
                  </a:lnTo>
                  <a:lnTo>
                    <a:pt x="396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3585240" y="2775240"/>
              <a:ext cx="1654200" cy="19440"/>
            </a:xfrm>
            <a:custGeom>
              <a:avLst/>
              <a:gdLst/>
              <a:ahLst/>
              <a:rect l="l" t="t" r="r" b="b"/>
              <a:pathLst>
                <a:path w="4309" h="54">
                  <a:moveTo>
                    <a:pt x="0" y="0"/>
                  </a:moveTo>
                  <a:lnTo>
                    <a:pt x="1577" y="0"/>
                  </a:lnTo>
                  <a:lnTo>
                    <a:pt x="1620" y="54"/>
                  </a:lnTo>
                  <a:lnTo>
                    <a:pt x="5" y="54"/>
                  </a:lnTo>
                  <a:lnTo>
                    <a:pt x="5" y="52"/>
                  </a:lnTo>
                  <a:lnTo>
                    <a:pt x="0" y="0"/>
                  </a:lnTo>
                  <a:close/>
                  <a:moveTo>
                    <a:pt x="2169" y="0"/>
                  </a:moveTo>
                  <a:lnTo>
                    <a:pt x="2486" y="0"/>
                  </a:lnTo>
                  <a:lnTo>
                    <a:pt x="2482" y="14"/>
                  </a:lnTo>
                  <a:lnTo>
                    <a:pt x="2475" y="54"/>
                  </a:lnTo>
                  <a:lnTo>
                    <a:pt x="2163" y="54"/>
                  </a:lnTo>
                  <a:lnTo>
                    <a:pt x="2169" y="0"/>
                  </a:lnTo>
                  <a:close/>
                  <a:moveTo>
                    <a:pt x="2510" y="0"/>
                  </a:moveTo>
                  <a:lnTo>
                    <a:pt x="3303" y="0"/>
                  </a:lnTo>
                  <a:lnTo>
                    <a:pt x="3294" y="54"/>
                  </a:lnTo>
                  <a:lnTo>
                    <a:pt x="2538" y="54"/>
                  </a:lnTo>
                  <a:lnTo>
                    <a:pt x="2529" y="34"/>
                  </a:lnTo>
                  <a:lnTo>
                    <a:pt x="2510" y="0"/>
                  </a:lnTo>
                  <a:close/>
                  <a:moveTo>
                    <a:pt x="3990" y="0"/>
                  </a:moveTo>
                  <a:lnTo>
                    <a:pt x="4265" y="0"/>
                  </a:lnTo>
                  <a:lnTo>
                    <a:pt x="4309" y="54"/>
                  </a:lnTo>
                  <a:lnTo>
                    <a:pt x="4027" y="54"/>
                  </a:lnTo>
                  <a:lnTo>
                    <a:pt x="3990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3585240" y="2783880"/>
              <a:ext cx="1663920" cy="19440"/>
            </a:xfrm>
            <a:custGeom>
              <a:avLst/>
              <a:gdLst/>
              <a:ahLst/>
              <a:rect l="l" t="t" r="r" b="b"/>
              <a:pathLst>
                <a:path w="4328" h="55">
                  <a:moveTo>
                    <a:pt x="0" y="0"/>
                  </a:moveTo>
                  <a:lnTo>
                    <a:pt x="1596" y="0"/>
                  </a:lnTo>
                  <a:lnTo>
                    <a:pt x="1639" y="55"/>
                  </a:lnTo>
                  <a:lnTo>
                    <a:pt x="9" y="55"/>
                  </a:lnTo>
                  <a:lnTo>
                    <a:pt x="2" y="26"/>
                  </a:lnTo>
                  <a:lnTo>
                    <a:pt x="0" y="0"/>
                  </a:lnTo>
                  <a:close/>
                  <a:moveTo>
                    <a:pt x="2163" y="0"/>
                  </a:moveTo>
                  <a:lnTo>
                    <a:pt x="2477" y="0"/>
                  </a:lnTo>
                  <a:lnTo>
                    <a:pt x="2468" y="55"/>
                  </a:lnTo>
                  <a:lnTo>
                    <a:pt x="2160" y="55"/>
                  </a:lnTo>
                  <a:lnTo>
                    <a:pt x="2160" y="29"/>
                  </a:lnTo>
                  <a:lnTo>
                    <a:pt x="2163" y="0"/>
                  </a:lnTo>
                  <a:close/>
                  <a:moveTo>
                    <a:pt x="2523" y="0"/>
                  </a:moveTo>
                  <a:lnTo>
                    <a:pt x="3296" y="0"/>
                  </a:lnTo>
                  <a:lnTo>
                    <a:pt x="3287" y="55"/>
                  </a:lnTo>
                  <a:lnTo>
                    <a:pt x="2546" y="55"/>
                  </a:lnTo>
                  <a:lnTo>
                    <a:pt x="2526" y="8"/>
                  </a:lnTo>
                  <a:lnTo>
                    <a:pt x="2523" y="0"/>
                  </a:lnTo>
                  <a:close/>
                  <a:moveTo>
                    <a:pt x="4006" y="0"/>
                  </a:moveTo>
                  <a:lnTo>
                    <a:pt x="4284" y="0"/>
                  </a:lnTo>
                  <a:lnTo>
                    <a:pt x="4328" y="55"/>
                  </a:lnTo>
                  <a:lnTo>
                    <a:pt x="4043" y="55"/>
                  </a:lnTo>
                  <a:lnTo>
                    <a:pt x="4006" y="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3586680" y="2794680"/>
              <a:ext cx="1669680" cy="17640"/>
            </a:xfrm>
            <a:custGeom>
              <a:avLst/>
              <a:gdLst/>
              <a:ahLst/>
              <a:rect l="l" t="t" r="r" b="b"/>
              <a:pathLst>
                <a:path w="4345" h="54">
                  <a:moveTo>
                    <a:pt x="0" y="0"/>
                  </a:moveTo>
                  <a:lnTo>
                    <a:pt x="1615" y="0"/>
                  </a:lnTo>
                  <a:lnTo>
                    <a:pt x="1653" y="46"/>
                  </a:lnTo>
                  <a:lnTo>
                    <a:pt x="1658" y="54"/>
                  </a:lnTo>
                  <a:lnTo>
                    <a:pt x="13" y="54"/>
                  </a:lnTo>
                  <a:lnTo>
                    <a:pt x="0" y="0"/>
                  </a:lnTo>
                  <a:close/>
                  <a:moveTo>
                    <a:pt x="2158" y="0"/>
                  </a:moveTo>
                  <a:lnTo>
                    <a:pt x="2470" y="0"/>
                  </a:lnTo>
                  <a:lnTo>
                    <a:pt x="2460" y="54"/>
                  </a:lnTo>
                  <a:lnTo>
                    <a:pt x="2143" y="54"/>
                  </a:lnTo>
                  <a:lnTo>
                    <a:pt x="2146" y="46"/>
                  </a:lnTo>
                  <a:lnTo>
                    <a:pt x="2158" y="38"/>
                  </a:lnTo>
                  <a:lnTo>
                    <a:pt x="2158" y="1"/>
                  </a:lnTo>
                  <a:lnTo>
                    <a:pt x="2158" y="0"/>
                  </a:lnTo>
                  <a:close/>
                  <a:moveTo>
                    <a:pt x="2533" y="0"/>
                  </a:moveTo>
                  <a:lnTo>
                    <a:pt x="3289" y="0"/>
                  </a:lnTo>
                  <a:lnTo>
                    <a:pt x="3279" y="54"/>
                  </a:lnTo>
                  <a:lnTo>
                    <a:pt x="2557" y="54"/>
                  </a:lnTo>
                  <a:lnTo>
                    <a:pt x="2553" y="46"/>
                  </a:lnTo>
                  <a:lnTo>
                    <a:pt x="2533" y="0"/>
                  </a:lnTo>
                  <a:close/>
                  <a:moveTo>
                    <a:pt x="4022" y="0"/>
                  </a:moveTo>
                  <a:lnTo>
                    <a:pt x="4304" y="0"/>
                  </a:lnTo>
                  <a:lnTo>
                    <a:pt x="4336" y="38"/>
                  </a:lnTo>
                  <a:lnTo>
                    <a:pt x="4345" y="54"/>
                  </a:lnTo>
                  <a:lnTo>
                    <a:pt x="4058" y="54"/>
                  </a:lnTo>
                  <a:lnTo>
                    <a:pt x="4053" y="46"/>
                  </a:lnTo>
                  <a:lnTo>
                    <a:pt x="4022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3588840" y="2803680"/>
              <a:ext cx="1673640" cy="19080"/>
            </a:xfrm>
            <a:custGeom>
              <a:avLst/>
              <a:gdLst/>
              <a:ahLst/>
              <a:rect l="l" t="t" r="r" b="b"/>
              <a:pathLst>
                <a:path w="4356" h="53">
                  <a:moveTo>
                    <a:pt x="0" y="0"/>
                  </a:moveTo>
                  <a:lnTo>
                    <a:pt x="1630" y="0"/>
                  </a:lnTo>
                  <a:lnTo>
                    <a:pt x="1646" y="19"/>
                  </a:lnTo>
                  <a:lnTo>
                    <a:pt x="1669" y="53"/>
                  </a:lnTo>
                  <a:lnTo>
                    <a:pt x="1206" y="53"/>
                  </a:lnTo>
                  <a:lnTo>
                    <a:pt x="1185" y="39"/>
                  </a:lnTo>
                  <a:lnTo>
                    <a:pt x="1177" y="31"/>
                  </a:lnTo>
                  <a:lnTo>
                    <a:pt x="1177" y="39"/>
                  </a:lnTo>
                  <a:lnTo>
                    <a:pt x="1168" y="53"/>
                  </a:lnTo>
                  <a:lnTo>
                    <a:pt x="12" y="53"/>
                  </a:lnTo>
                  <a:lnTo>
                    <a:pt x="0" y="0"/>
                  </a:lnTo>
                  <a:close/>
                  <a:moveTo>
                    <a:pt x="2151" y="0"/>
                  </a:moveTo>
                  <a:lnTo>
                    <a:pt x="2459" y="0"/>
                  </a:lnTo>
                  <a:lnTo>
                    <a:pt x="2451" y="41"/>
                  </a:lnTo>
                  <a:lnTo>
                    <a:pt x="2447" y="53"/>
                  </a:lnTo>
                  <a:lnTo>
                    <a:pt x="2118" y="53"/>
                  </a:lnTo>
                  <a:lnTo>
                    <a:pt x="2131" y="41"/>
                  </a:lnTo>
                  <a:lnTo>
                    <a:pt x="2139" y="19"/>
                  </a:lnTo>
                  <a:lnTo>
                    <a:pt x="2151" y="11"/>
                  </a:lnTo>
                  <a:lnTo>
                    <a:pt x="2151" y="0"/>
                  </a:lnTo>
                  <a:close/>
                  <a:moveTo>
                    <a:pt x="2537" y="0"/>
                  </a:moveTo>
                  <a:lnTo>
                    <a:pt x="3278" y="0"/>
                  </a:lnTo>
                  <a:lnTo>
                    <a:pt x="3268" y="53"/>
                  </a:lnTo>
                  <a:lnTo>
                    <a:pt x="2565" y="53"/>
                  </a:lnTo>
                  <a:lnTo>
                    <a:pt x="2546" y="19"/>
                  </a:lnTo>
                  <a:lnTo>
                    <a:pt x="2537" y="0"/>
                  </a:lnTo>
                  <a:close/>
                  <a:moveTo>
                    <a:pt x="4034" y="0"/>
                  </a:moveTo>
                  <a:lnTo>
                    <a:pt x="4319" y="0"/>
                  </a:lnTo>
                  <a:lnTo>
                    <a:pt x="4329" y="11"/>
                  </a:lnTo>
                  <a:lnTo>
                    <a:pt x="4356" y="53"/>
                  </a:lnTo>
                  <a:lnTo>
                    <a:pt x="4072" y="53"/>
                  </a:lnTo>
                  <a:lnTo>
                    <a:pt x="4046" y="19"/>
                  </a:lnTo>
                  <a:lnTo>
                    <a:pt x="4034" y="0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3590640" y="2812320"/>
              <a:ext cx="1679040" cy="19440"/>
            </a:xfrm>
            <a:custGeom>
              <a:avLst/>
              <a:gdLst/>
              <a:ahLst/>
              <a:rect l="l" t="t" r="r" b="b"/>
              <a:pathLst>
                <a:path w="4368" h="54">
                  <a:moveTo>
                    <a:pt x="0" y="0"/>
                  </a:moveTo>
                  <a:lnTo>
                    <a:pt x="1645" y="0"/>
                  </a:lnTo>
                  <a:lnTo>
                    <a:pt x="1682" y="54"/>
                  </a:lnTo>
                  <a:lnTo>
                    <a:pt x="1234" y="54"/>
                  </a:lnTo>
                  <a:lnTo>
                    <a:pt x="1218" y="40"/>
                  </a:lnTo>
                  <a:lnTo>
                    <a:pt x="1179" y="12"/>
                  </a:lnTo>
                  <a:lnTo>
                    <a:pt x="1171" y="4"/>
                  </a:lnTo>
                  <a:lnTo>
                    <a:pt x="1171" y="12"/>
                  </a:lnTo>
                  <a:lnTo>
                    <a:pt x="1159" y="32"/>
                  </a:lnTo>
                  <a:lnTo>
                    <a:pt x="1156" y="54"/>
                  </a:lnTo>
                  <a:lnTo>
                    <a:pt x="14" y="54"/>
                  </a:lnTo>
                  <a:lnTo>
                    <a:pt x="7" y="32"/>
                  </a:lnTo>
                  <a:lnTo>
                    <a:pt x="0" y="0"/>
                  </a:lnTo>
                  <a:close/>
                  <a:moveTo>
                    <a:pt x="2130" y="0"/>
                  </a:moveTo>
                  <a:lnTo>
                    <a:pt x="2447" y="0"/>
                  </a:lnTo>
                  <a:lnTo>
                    <a:pt x="2445" y="14"/>
                  </a:lnTo>
                  <a:lnTo>
                    <a:pt x="2434" y="54"/>
                  </a:lnTo>
                  <a:lnTo>
                    <a:pt x="2084" y="54"/>
                  </a:lnTo>
                  <a:lnTo>
                    <a:pt x="2125" y="14"/>
                  </a:lnTo>
                  <a:lnTo>
                    <a:pt x="2130" y="0"/>
                  </a:lnTo>
                  <a:close/>
                  <a:moveTo>
                    <a:pt x="2544" y="0"/>
                  </a:moveTo>
                  <a:lnTo>
                    <a:pt x="3266" y="0"/>
                  </a:lnTo>
                  <a:lnTo>
                    <a:pt x="3257" y="54"/>
                  </a:lnTo>
                  <a:lnTo>
                    <a:pt x="2574" y="54"/>
                  </a:lnTo>
                  <a:lnTo>
                    <a:pt x="2544" y="0"/>
                  </a:lnTo>
                  <a:close/>
                  <a:moveTo>
                    <a:pt x="4045" y="0"/>
                  </a:moveTo>
                  <a:lnTo>
                    <a:pt x="4332" y="0"/>
                  </a:lnTo>
                  <a:lnTo>
                    <a:pt x="4368" y="54"/>
                  </a:lnTo>
                  <a:lnTo>
                    <a:pt x="4086" y="54"/>
                  </a:lnTo>
                  <a:lnTo>
                    <a:pt x="4045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3592440" y="2822760"/>
              <a:ext cx="1683000" cy="19440"/>
            </a:xfrm>
            <a:custGeom>
              <a:avLst/>
              <a:gdLst/>
              <a:ahLst/>
              <a:rect l="l" t="t" r="r" b="b"/>
              <a:pathLst>
                <a:path w="4379" h="55">
                  <a:moveTo>
                    <a:pt x="0" y="0"/>
                  </a:moveTo>
                  <a:lnTo>
                    <a:pt x="1156" y="0"/>
                  </a:lnTo>
                  <a:lnTo>
                    <a:pt x="1153" y="6"/>
                  </a:lnTo>
                  <a:lnTo>
                    <a:pt x="1146" y="55"/>
                  </a:lnTo>
                  <a:lnTo>
                    <a:pt x="15" y="55"/>
                  </a:lnTo>
                  <a:lnTo>
                    <a:pt x="1" y="6"/>
                  </a:lnTo>
                  <a:lnTo>
                    <a:pt x="0" y="0"/>
                  </a:lnTo>
                  <a:close/>
                  <a:moveTo>
                    <a:pt x="1194" y="0"/>
                  </a:moveTo>
                  <a:lnTo>
                    <a:pt x="1657" y="0"/>
                  </a:lnTo>
                  <a:lnTo>
                    <a:pt x="1694" y="55"/>
                  </a:lnTo>
                  <a:lnTo>
                    <a:pt x="1257" y="55"/>
                  </a:lnTo>
                  <a:lnTo>
                    <a:pt x="1212" y="14"/>
                  </a:lnTo>
                  <a:lnTo>
                    <a:pt x="1194" y="0"/>
                  </a:lnTo>
                  <a:close/>
                  <a:moveTo>
                    <a:pt x="2106" y="0"/>
                  </a:moveTo>
                  <a:lnTo>
                    <a:pt x="2435" y="0"/>
                  </a:lnTo>
                  <a:lnTo>
                    <a:pt x="2420" y="55"/>
                  </a:lnTo>
                  <a:lnTo>
                    <a:pt x="2051" y="55"/>
                  </a:lnTo>
                  <a:lnTo>
                    <a:pt x="2052" y="53"/>
                  </a:lnTo>
                  <a:lnTo>
                    <a:pt x="2106" y="0"/>
                  </a:lnTo>
                  <a:close/>
                  <a:moveTo>
                    <a:pt x="2553" y="0"/>
                  </a:moveTo>
                  <a:lnTo>
                    <a:pt x="3256" y="0"/>
                  </a:lnTo>
                  <a:lnTo>
                    <a:pt x="3247" y="55"/>
                  </a:lnTo>
                  <a:lnTo>
                    <a:pt x="2583" y="55"/>
                  </a:lnTo>
                  <a:lnTo>
                    <a:pt x="2583" y="53"/>
                  </a:lnTo>
                  <a:lnTo>
                    <a:pt x="2553" y="0"/>
                  </a:lnTo>
                  <a:close/>
                  <a:moveTo>
                    <a:pt x="4060" y="0"/>
                  </a:moveTo>
                  <a:lnTo>
                    <a:pt x="4344" y="0"/>
                  </a:lnTo>
                  <a:lnTo>
                    <a:pt x="4373" y="46"/>
                  </a:lnTo>
                  <a:lnTo>
                    <a:pt x="4379" y="55"/>
                  </a:lnTo>
                  <a:lnTo>
                    <a:pt x="4100" y="55"/>
                  </a:lnTo>
                  <a:lnTo>
                    <a:pt x="4060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3596400" y="2832120"/>
              <a:ext cx="1685160" cy="19080"/>
            </a:xfrm>
            <a:custGeom>
              <a:avLst/>
              <a:gdLst/>
              <a:ahLst/>
              <a:rect l="l" t="t" r="r" b="b"/>
              <a:pathLst>
                <a:path w="4386" h="53">
                  <a:moveTo>
                    <a:pt x="0" y="0"/>
                  </a:moveTo>
                  <a:lnTo>
                    <a:pt x="1142" y="0"/>
                  </a:lnTo>
                  <a:lnTo>
                    <a:pt x="1135" y="53"/>
                  </a:lnTo>
                  <a:lnTo>
                    <a:pt x="20" y="53"/>
                  </a:lnTo>
                  <a:lnTo>
                    <a:pt x="12" y="45"/>
                  </a:lnTo>
                  <a:lnTo>
                    <a:pt x="0" y="0"/>
                  </a:lnTo>
                  <a:close/>
                  <a:moveTo>
                    <a:pt x="1220" y="0"/>
                  </a:moveTo>
                  <a:lnTo>
                    <a:pt x="1668" y="0"/>
                  </a:lnTo>
                  <a:lnTo>
                    <a:pt x="1704" y="53"/>
                  </a:lnTo>
                  <a:lnTo>
                    <a:pt x="1278" y="53"/>
                  </a:lnTo>
                  <a:lnTo>
                    <a:pt x="1220" y="0"/>
                  </a:lnTo>
                  <a:close/>
                  <a:moveTo>
                    <a:pt x="2070" y="0"/>
                  </a:moveTo>
                  <a:lnTo>
                    <a:pt x="2420" y="0"/>
                  </a:lnTo>
                  <a:lnTo>
                    <a:pt x="2405" y="53"/>
                  </a:lnTo>
                  <a:lnTo>
                    <a:pt x="2016" y="53"/>
                  </a:lnTo>
                  <a:lnTo>
                    <a:pt x="2044" y="25"/>
                  </a:lnTo>
                  <a:lnTo>
                    <a:pt x="2070" y="0"/>
                  </a:lnTo>
                  <a:close/>
                  <a:moveTo>
                    <a:pt x="2560" y="0"/>
                  </a:moveTo>
                  <a:lnTo>
                    <a:pt x="3243" y="0"/>
                  </a:lnTo>
                  <a:lnTo>
                    <a:pt x="3235" y="53"/>
                  </a:lnTo>
                  <a:lnTo>
                    <a:pt x="2586" y="53"/>
                  </a:lnTo>
                  <a:lnTo>
                    <a:pt x="2575" y="25"/>
                  </a:lnTo>
                  <a:lnTo>
                    <a:pt x="2560" y="0"/>
                  </a:lnTo>
                  <a:close/>
                  <a:moveTo>
                    <a:pt x="4072" y="0"/>
                  </a:moveTo>
                  <a:lnTo>
                    <a:pt x="4354" y="0"/>
                  </a:lnTo>
                  <a:lnTo>
                    <a:pt x="4365" y="18"/>
                  </a:lnTo>
                  <a:lnTo>
                    <a:pt x="4386" y="53"/>
                  </a:lnTo>
                  <a:lnTo>
                    <a:pt x="4112" y="53"/>
                  </a:lnTo>
                  <a:lnTo>
                    <a:pt x="4072" y="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3598560" y="2842560"/>
              <a:ext cx="1688760" cy="1764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131" y="0"/>
                  </a:lnTo>
                  <a:lnTo>
                    <a:pt x="1126" y="38"/>
                  </a:lnTo>
                  <a:lnTo>
                    <a:pt x="1122" y="54"/>
                  </a:lnTo>
                  <a:lnTo>
                    <a:pt x="35" y="54"/>
                  </a:lnTo>
                  <a:lnTo>
                    <a:pt x="5" y="18"/>
                  </a:lnTo>
                  <a:lnTo>
                    <a:pt x="0" y="0"/>
                  </a:lnTo>
                  <a:close/>
                  <a:moveTo>
                    <a:pt x="1242" y="0"/>
                  </a:moveTo>
                  <a:lnTo>
                    <a:pt x="1679" y="0"/>
                  </a:lnTo>
                  <a:lnTo>
                    <a:pt x="1716" y="54"/>
                  </a:lnTo>
                  <a:lnTo>
                    <a:pt x="1299" y="54"/>
                  </a:lnTo>
                  <a:lnTo>
                    <a:pt x="1284" y="38"/>
                  </a:lnTo>
                  <a:lnTo>
                    <a:pt x="1242" y="0"/>
                  </a:lnTo>
                  <a:close/>
                  <a:moveTo>
                    <a:pt x="2036" y="0"/>
                  </a:moveTo>
                  <a:lnTo>
                    <a:pt x="2405" y="0"/>
                  </a:lnTo>
                  <a:lnTo>
                    <a:pt x="2394" y="40"/>
                  </a:lnTo>
                  <a:lnTo>
                    <a:pt x="2392" y="54"/>
                  </a:lnTo>
                  <a:lnTo>
                    <a:pt x="1981" y="54"/>
                  </a:lnTo>
                  <a:lnTo>
                    <a:pt x="2036" y="0"/>
                  </a:lnTo>
                  <a:close/>
                  <a:moveTo>
                    <a:pt x="2568" y="0"/>
                  </a:moveTo>
                  <a:lnTo>
                    <a:pt x="3232" y="0"/>
                  </a:lnTo>
                  <a:lnTo>
                    <a:pt x="3222" y="54"/>
                  </a:lnTo>
                  <a:lnTo>
                    <a:pt x="2589" y="54"/>
                  </a:lnTo>
                  <a:lnTo>
                    <a:pt x="2568" y="0"/>
                  </a:lnTo>
                  <a:close/>
                  <a:moveTo>
                    <a:pt x="4085" y="0"/>
                  </a:moveTo>
                  <a:lnTo>
                    <a:pt x="4364" y="0"/>
                  </a:lnTo>
                  <a:lnTo>
                    <a:pt x="4394" y="54"/>
                  </a:lnTo>
                  <a:lnTo>
                    <a:pt x="4126" y="54"/>
                  </a:lnTo>
                  <a:lnTo>
                    <a:pt x="4106" y="27"/>
                  </a:lnTo>
                  <a:lnTo>
                    <a:pt x="4085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3604320" y="2851560"/>
              <a:ext cx="1688760" cy="19440"/>
            </a:xfrm>
            <a:custGeom>
              <a:avLst/>
              <a:gdLst/>
              <a:ahLst/>
              <a:rect l="l" t="t" r="r" b="b"/>
              <a:pathLst>
                <a:path w="4397" h="55">
                  <a:moveTo>
                    <a:pt x="0" y="0"/>
                  </a:moveTo>
                  <a:lnTo>
                    <a:pt x="1115" y="0"/>
                  </a:lnTo>
                  <a:lnTo>
                    <a:pt x="1113" y="12"/>
                  </a:lnTo>
                  <a:lnTo>
                    <a:pt x="1103" y="55"/>
                  </a:lnTo>
                  <a:lnTo>
                    <a:pt x="33" y="55"/>
                  </a:lnTo>
                  <a:lnTo>
                    <a:pt x="32" y="43"/>
                  </a:lnTo>
                  <a:lnTo>
                    <a:pt x="25" y="31"/>
                  </a:lnTo>
                  <a:lnTo>
                    <a:pt x="0" y="0"/>
                  </a:lnTo>
                  <a:close/>
                  <a:moveTo>
                    <a:pt x="1258" y="0"/>
                  </a:moveTo>
                  <a:lnTo>
                    <a:pt x="1684" y="0"/>
                  </a:lnTo>
                  <a:lnTo>
                    <a:pt x="1705" y="31"/>
                  </a:lnTo>
                  <a:lnTo>
                    <a:pt x="1717" y="55"/>
                  </a:lnTo>
                  <a:lnTo>
                    <a:pt x="1312" y="55"/>
                  </a:lnTo>
                  <a:lnTo>
                    <a:pt x="1271" y="12"/>
                  </a:lnTo>
                  <a:lnTo>
                    <a:pt x="1258" y="0"/>
                  </a:lnTo>
                  <a:close/>
                  <a:moveTo>
                    <a:pt x="1996" y="0"/>
                  </a:moveTo>
                  <a:lnTo>
                    <a:pt x="2385" y="0"/>
                  </a:lnTo>
                  <a:lnTo>
                    <a:pt x="2381" y="14"/>
                  </a:lnTo>
                  <a:lnTo>
                    <a:pt x="2375" y="55"/>
                  </a:lnTo>
                  <a:lnTo>
                    <a:pt x="1942" y="55"/>
                  </a:lnTo>
                  <a:lnTo>
                    <a:pt x="1996" y="0"/>
                  </a:lnTo>
                  <a:close/>
                  <a:moveTo>
                    <a:pt x="2566" y="0"/>
                  </a:moveTo>
                  <a:lnTo>
                    <a:pt x="3215" y="0"/>
                  </a:lnTo>
                  <a:lnTo>
                    <a:pt x="3205" y="55"/>
                  </a:lnTo>
                  <a:lnTo>
                    <a:pt x="2587" y="55"/>
                  </a:lnTo>
                  <a:lnTo>
                    <a:pt x="2566" y="0"/>
                  </a:lnTo>
                  <a:close/>
                  <a:moveTo>
                    <a:pt x="4092" y="0"/>
                  </a:moveTo>
                  <a:lnTo>
                    <a:pt x="4366" y="0"/>
                  </a:lnTo>
                  <a:lnTo>
                    <a:pt x="4383" y="31"/>
                  </a:lnTo>
                  <a:lnTo>
                    <a:pt x="4397" y="55"/>
                  </a:lnTo>
                  <a:lnTo>
                    <a:pt x="4135" y="55"/>
                  </a:lnTo>
                  <a:lnTo>
                    <a:pt x="4093" y="1"/>
                  </a:lnTo>
                  <a:lnTo>
                    <a:pt x="4092" y="0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3612240" y="2860200"/>
              <a:ext cx="1688760" cy="19440"/>
            </a:xfrm>
            <a:custGeom>
              <a:avLst/>
              <a:gdLst/>
              <a:ahLst/>
              <a:rect l="l" t="t" r="r" b="b"/>
              <a:pathLst>
                <a:path w="4392" h="53">
                  <a:moveTo>
                    <a:pt x="0" y="0"/>
                  </a:moveTo>
                  <a:lnTo>
                    <a:pt x="1087" y="0"/>
                  </a:lnTo>
                  <a:lnTo>
                    <a:pt x="1075" y="53"/>
                  </a:lnTo>
                  <a:lnTo>
                    <a:pt x="15" y="53"/>
                  </a:lnTo>
                  <a:lnTo>
                    <a:pt x="10" y="15"/>
                  </a:lnTo>
                  <a:lnTo>
                    <a:pt x="3" y="3"/>
                  </a:lnTo>
                  <a:lnTo>
                    <a:pt x="0" y="0"/>
                  </a:lnTo>
                  <a:close/>
                  <a:moveTo>
                    <a:pt x="1264" y="0"/>
                  </a:moveTo>
                  <a:lnTo>
                    <a:pt x="1681" y="0"/>
                  </a:lnTo>
                  <a:lnTo>
                    <a:pt x="1683" y="3"/>
                  </a:lnTo>
                  <a:lnTo>
                    <a:pt x="1709" y="53"/>
                  </a:lnTo>
                  <a:lnTo>
                    <a:pt x="1316" y="53"/>
                  </a:lnTo>
                  <a:lnTo>
                    <a:pt x="1264" y="0"/>
                  </a:lnTo>
                  <a:close/>
                  <a:moveTo>
                    <a:pt x="1946" y="0"/>
                  </a:moveTo>
                  <a:lnTo>
                    <a:pt x="2357" y="0"/>
                  </a:lnTo>
                  <a:lnTo>
                    <a:pt x="2352" y="33"/>
                  </a:lnTo>
                  <a:lnTo>
                    <a:pt x="2335" y="53"/>
                  </a:lnTo>
                  <a:lnTo>
                    <a:pt x="1894" y="53"/>
                  </a:lnTo>
                  <a:lnTo>
                    <a:pt x="1903" y="43"/>
                  </a:lnTo>
                  <a:lnTo>
                    <a:pt x="1946" y="0"/>
                  </a:lnTo>
                  <a:close/>
                  <a:moveTo>
                    <a:pt x="2554" y="0"/>
                  </a:moveTo>
                  <a:lnTo>
                    <a:pt x="3187" y="0"/>
                  </a:lnTo>
                  <a:lnTo>
                    <a:pt x="3182" y="33"/>
                  </a:lnTo>
                  <a:lnTo>
                    <a:pt x="3186" y="53"/>
                  </a:lnTo>
                  <a:lnTo>
                    <a:pt x="2574" y="53"/>
                  </a:lnTo>
                  <a:lnTo>
                    <a:pt x="2554" y="0"/>
                  </a:lnTo>
                  <a:close/>
                  <a:moveTo>
                    <a:pt x="4091" y="0"/>
                  </a:moveTo>
                  <a:lnTo>
                    <a:pt x="4359" y="0"/>
                  </a:lnTo>
                  <a:lnTo>
                    <a:pt x="4361" y="3"/>
                  </a:lnTo>
                  <a:lnTo>
                    <a:pt x="4391" y="52"/>
                  </a:lnTo>
                  <a:lnTo>
                    <a:pt x="4392" y="53"/>
                  </a:lnTo>
                  <a:lnTo>
                    <a:pt x="4134" y="53"/>
                  </a:lnTo>
                  <a:lnTo>
                    <a:pt x="4091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3617640" y="2871000"/>
              <a:ext cx="1686960" cy="19080"/>
            </a:xfrm>
            <a:custGeom>
              <a:avLst/>
              <a:gdLst/>
              <a:ahLst/>
              <a:rect l="l" t="t" r="r" b="b"/>
              <a:pathLst>
                <a:path w="4394" h="54">
                  <a:moveTo>
                    <a:pt x="0" y="0"/>
                  </a:moveTo>
                  <a:lnTo>
                    <a:pt x="1070" y="0"/>
                  </a:lnTo>
                  <a:lnTo>
                    <a:pt x="1057" y="54"/>
                  </a:lnTo>
                  <a:lnTo>
                    <a:pt x="8" y="54"/>
                  </a:lnTo>
                  <a:lnTo>
                    <a:pt x="0" y="0"/>
                  </a:lnTo>
                  <a:close/>
                  <a:moveTo>
                    <a:pt x="1279" y="0"/>
                  </a:moveTo>
                  <a:lnTo>
                    <a:pt x="1684" y="0"/>
                  </a:lnTo>
                  <a:lnTo>
                    <a:pt x="1713" y="54"/>
                  </a:lnTo>
                  <a:lnTo>
                    <a:pt x="1330" y="54"/>
                  </a:lnTo>
                  <a:lnTo>
                    <a:pt x="1279" y="0"/>
                  </a:lnTo>
                  <a:close/>
                  <a:moveTo>
                    <a:pt x="1909" y="0"/>
                  </a:moveTo>
                  <a:lnTo>
                    <a:pt x="2342" y="0"/>
                  </a:lnTo>
                  <a:lnTo>
                    <a:pt x="2341" y="6"/>
                  </a:lnTo>
                  <a:lnTo>
                    <a:pt x="2318" y="34"/>
                  </a:lnTo>
                  <a:lnTo>
                    <a:pt x="2299" y="54"/>
                  </a:lnTo>
                  <a:lnTo>
                    <a:pt x="1858" y="54"/>
                  </a:lnTo>
                  <a:lnTo>
                    <a:pt x="1892" y="16"/>
                  </a:lnTo>
                  <a:lnTo>
                    <a:pt x="1909" y="0"/>
                  </a:lnTo>
                  <a:close/>
                  <a:moveTo>
                    <a:pt x="2554" y="0"/>
                  </a:moveTo>
                  <a:lnTo>
                    <a:pt x="3172" y="0"/>
                  </a:lnTo>
                  <a:lnTo>
                    <a:pt x="3171" y="6"/>
                  </a:lnTo>
                  <a:lnTo>
                    <a:pt x="3180" y="54"/>
                  </a:lnTo>
                  <a:lnTo>
                    <a:pt x="2574" y="54"/>
                  </a:lnTo>
                  <a:lnTo>
                    <a:pt x="2554" y="0"/>
                  </a:lnTo>
                  <a:close/>
                  <a:moveTo>
                    <a:pt x="4102" y="0"/>
                  </a:moveTo>
                  <a:lnTo>
                    <a:pt x="4364" y="0"/>
                  </a:lnTo>
                  <a:lnTo>
                    <a:pt x="4380" y="25"/>
                  </a:lnTo>
                  <a:lnTo>
                    <a:pt x="4394" y="54"/>
                  </a:lnTo>
                  <a:lnTo>
                    <a:pt x="4144" y="54"/>
                  </a:lnTo>
                  <a:lnTo>
                    <a:pt x="4102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3617640" y="2880000"/>
              <a:ext cx="1706040" cy="19080"/>
            </a:xfrm>
            <a:custGeom>
              <a:avLst/>
              <a:gdLst/>
              <a:ahLst/>
              <a:rect l="l" t="t" r="r" b="b"/>
              <a:pathLst>
                <a:path w="4437" h="55">
                  <a:moveTo>
                    <a:pt x="0" y="0"/>
                  </a:moveTo>
                  <a:lnTo>
                    <a:pt x="1060" y="0"/>
                  </a:lnTo>
                  <a:lnTo>
                    <a:pt x="1048" y="49"/>
                  </a:lnTo>
                  <a:lnTo>
                    <a:pt x="1046" y="55"/>
                  </a:lnTo>
                  <a:lnTo>
                    <a:pt x="8" y="55"/>
                  </a:lnTo>
                  <a:lnTo>
                    <a:pt x="0" y="0"/>
                  </a:lnTo>
                  <a:close/>
                  <a:moveTo>
                    <a:pt x="1301" y="0"/>
                  </a:moveTo>
                  <a:lnTo>
                    <a:pt x="1694" y="0"/>
                  </a:lnTo>
                  <a:lnTo>
                    <a:pt x="1723" y="55"/>
                  </a:lnTo>
                  <a:lnTo>
                    <a:pt x="1351" y="55"/>
                  </a:lnTo>
                  <a:lnTo>
                    <a:pt x="1329" y="30"/>
                  </a:lnTo>
                  <a:lnTo>
                    <a:pt x="1301" y="0"/>
                  </a:lnTo>
                  <a:close/>
                  <a:moveTo>
                    <a:pt x="1879" y="0"/>
                  </a:moveTo>
                  <a:lnTo>
                    <a:pt x="2320" y="0"/>
                  </a:lnTo>
                  <a:lnTo>
                    <a:pt x="2314" y="8"/>
                  </a:lnTo>
                  <a:lnTo>
                    <a:pt x="2267" y="55"/>
                  </a:lnTo>
                  <a:lnTo>
                    <a:pt x="1828" y="55"/>
                  </a:lnTo>
                  <a:lnTo>
                    <a:pt x="1879" y="0"/>
                  </a:lnTo>
                  <a:close/>
                  <a:moveTo>
                    <a:pt x="2559" y="0"/>
                  </a:moveTo>
                  <a:lnTo>
                    <a:pt x="3171" y="0"/>
                  </a:lnTo>
                  <a:lnTo>
                    <a:pt x="3176" y="30"/>
                  </a:lnTo>
                  <a:lnTo>
                    <a:pt x="3190" y="55"/>
                  </a:lnTo>
                  <a:lnTo>
                    <a:pt x="2580" y="55"/>
                  </a:lnTo>
                  <a:lnTo>
                    <a:pt x="2559" y="0"/>
                  </a:lnTo>
                  <a:close/>
                  <a:moveTo>
                    <a:pt x="4119" y="0"/>
                  </a:moveTo>
                  <a:lnTo>
                    <a:pt x="4377" y="0"/>
                  </a:lnTo>
                  <a:lnTo>
                    <a:pt x="4395" y="37"/>
                  </a:lnTo>
                  <a:lnTo>
                    <a:pt x="4405" y="49"/>
                  </a:lnTo>
                  <a:lnTo>
                    <a:pt x="4425" y="49"/>
                  </a:lnTo>
                  <a:lnTo>
                    <a:pt x="4437" y="55"/>
                  </a:lnTo>
                  <a:lnTo>
                    <a:pt x="4161" y="55"/>
                  </a:lnTo>
                  <a:lnTo>
                    <a:pt x="4119" y="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3619440" y="2890440"/>
              <a:ext cx="1761840" cy="17640"/>
            </a:xfrm>
            <a:custGeom>
              <a:avLst/>
              <a:gdLst/>
              <a:ahLst/>
              <a:rect l="l" t="t" r="r" b="b"/>
              <a:pathLst>
                <a:path w="4585" h="54">
                  <a:moveTo>
                    <a:pt x="0" y="0"/>
                  </a:moveTo>
                  <a:lnTo>
                    <a:pt x="1049" y="0"/>
                  </a:lnTo>
                  <a:lnTo>
                    <a:pt x="1044" y="21"/>
                  </a:lnTo>
                  <a:lnTo>
                    <a:pt x="1033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22" y="0"/>
                  </a:moveTo>
                  <a:lnTo>
                    <a:pt x="1705" y="0"/>
                  </a:lnTo>
                  <a:lnTo>
                    <a:pt x="1731" y="49"/>
                  </a:lnTo>
                  <a:lnTo>
                    <a:pt x="1732" y="54"/>
                  </a:lnTo>
                  <a:lnTo>
                    <a:pt x="1361" y="54"/>
                  </a:lnTo>
                  <a:lnTo>
                    <a:pt x="1356" y="36"/>
                  </a:lnTo>
                  <a:lnTo>
                    <a:pt x="1325" y="2"/>
                  </a:lnTo>
                  <a:lnTo>
                    <a:pt x="1322" y="0"/>
                  </a:lnTo>
                  <a:close/>
                  <a:moveTo>
                    <a:pt x="1850" y="0"/>
                  </a:moveTo>
                  <a:lnTo>
                    <a:pt x="2291" y="0"/>
                  </a:lnTo>
                  <a:lnTo>
                    <a:pt x="2237" y="54"/>
                  </a:lnTo>
                  <a:lnTo>
                    <a:pt x="1799" y="54"/>
                  </a:lnTo>
                  <a:lnTo>
                    <a:pt x="1850" y="0"/>
                  </a:lnTo>
                  <a:close/>
                  <a:moveTo>
                    <a:pt x="2566" y="0"/>
                  </a:moveTo>
                  <a:lnTo>
                    <a:pt x="3172" y="0"/>
                  </a:lnTo>
                  <a:lnTo>
                    <a:pt x="3172" y="2"/>
                  </a:lnTo>
                  <a:lnTo>
                    <a:pt x="3200" y="54"/>
                  </a:lnTo>
                  <a:lnTo>
                    <a:pt x="2588" y="54"/>
                  </a:lnTo>
                  <a:lnTo>
                    <a:pt x="2581" y="38"/>
                  </a:lnTo>
                  <a:lnTo>
                    <a:pt x="2566" y="0"/>
                  </a:lnTo>
                  <a:close/>
                  <a:moveTo>
                    <a:pt x="4136" y="0"/>
                  </a:moveTo>
                  <a:lnTo>
                    <a:pt x="4386" y="0"/>
                  </a:lnTo>
                  <a:lnTo>
                    <a:pt x="4391" y="9"/>
                  </a:lnTo>
                  <a:lnTo>
                    <a:pt x="4401" y="21"/>
                  </a:lnTo>
                  <a:lnTo>
                    <a:pt x="4421" y="21"/>
                  </a:lnTo>
                  <a:lnTo>
                    <a:pt x="4459" y="38"/>
                  </a:lnTo>
                  <a:lnTo>
                    <a:pt x="4575" y="51"/>
                  </a:lnTo>
                  <a:lnTo>
                    <a:pt x="4585" y="54"/>
                  </a:lnTo>
                  <a:lnTo>
                    <a:pt x="4178" y="54"/>
                  </a:lnTo>
                  <a:lnTo>
                    <a:pt x="4136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3621600" y="2899080"/>
              <a:ext cx="1778760" cy="19440"/>
            </a:xfrm>
            <a:custGeom>
              <a:avLst/>
              <a:gdLst/>
              <a:ahLst/>
              <a:rect l="l" t="t" r="r" b="b"/>
              <a:pathLst>
                <a:path w="4629" h="53">
                  <a:moveTo>
                    <a:pt x="0" y="0"/>
                  </a:moveTo>
                  <a:lnTo>
                    <a:pt x="1038" y="0"/>
                  </a:lnTo>
                  <a:lnTo>
                    <a:pt x="1019" y="53"/>
                  </a:lnTo>
                  <a:lnTo>
                    <a:pt x="7" y="53"/>
                  </a:lnTo>
                  <a:lnTo>
                    <a:pt x="0" y="0"/>
                  </a:lnTo>
                  <a:close/>
                  <a:moveTo>
                    <a:pt x="1343" y="0"/>
                  </a:moveTo>
                  <a:lnTo>
                    <a:pt x="1715" y="0"/>
                  </a:lnTo>
                  <a:lnTo>
                    <a:pt x="1727" y="22"/>
                  </a:lnTo>
                  <a:lnTo>
                    <a:pt x="1735" y="53"/>
                  </a:lnTo>
                  <a:lnTo>
                    <a:pt x="1352" y="53"/>
                  </a:lnTo>
                  <a:lnTo>
                    <a:pt x="1359" y="38"/>
                  </a:lnTo>
                  <a:lnTo>
                    <a:pt x="1352" y="9"/>
                  </a:lnTo>
                  <a:lnTo>
                    <a:pt x="1343" y="0"/>
                  </a:lnTo>
                  <a:close/>
                  <a:moveTo>
                    <a:pt x="1820" y="0"/>
                  </a:moveTo>
                  <a:lnTo>
                    <a:pt x="2259" y="0"/>
                  </a:lnTo>
                  <a:lnTo>
                    <a:pt x="2220" y="40"/>
                  </a:lnTo>
                  <a:lnTo>
                    <a:pt x="2205" y="53"/>
                  </a:lnTo>
                  <a:lnTo>
                    <a:pt x="1771" y="53"/>
                  </a:lnTo>
                  <a:lnTo>
                    <a:pt x="1820" y="0"/>
                  </a:lnTo>
                  <a:close/>
                  <a:moveTo>
                    <a:pt x="2572" y="0"/>
                  </a:moveTo>
                  <a:lnTo>
                    <a:pt x="3182" y="0"/>
                  </a:lnTo>
                  <a:lnTo>
                    <a:pt x="3198" y="31"/>
                  </a:lnTo>
                  <a:lnTo>
                    <a:pt x="3214" y="53"/>
                  </a:lnTo>
                  <a:lnTo>
                    <a:pt x="2595" y="53"/>
                  </a:lnTo>
                  <a:lnTo>
                    <a:pt x="2577" y="11"/>
                  </a:lnTo>
                  <a:lnTo>
                    <a:pt x="2572" y="0"/>
                  </a:lnTo>
                  <a:close/>
                  <a:moveTo>
                    <a:pt x="4153" y="0"/>
                  </a:moveTo>
                  <a:lnTo>
                    <a:pt x="4429" y="0"/>
                  </a:lnTo>
                  <a:lnTo>
                    <a:pt x="4455" y="11"/>
                  </a:lnTo>
                  <a:lnTo>
                    <a:pt x="4571" y="24"/>
                  </a:lnTo>
                  <a:lnTo>
                    <a:pt x="4621" y="40"/>
                  </a:lnTo>
                  <a:lnTo>
                    <a:pt x="4629" y="53"/>
                  </a:lnTo>
                  <a:lnTo>
                    <a:pt x="4196" y="53"/>
                  </a:lnTo>
                  <a:lnTo>
                    <a:pt x="4194" y="51"/>
                  </a:lnTo>
                  <a:lnTo>
                    <a:pt x="4153" y="0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3623400" y="2908080"/>
              <a:ext cx="1782720" cy="19440"/>
            </a:xfrm>
            <a:custGeom>
              <a:avLst/>
              <a:gdLst/>
              <a:ahLst/>
              <a:rect l="l" t="t" r="r" b="b"/>
              <a:pathLst>
                <a:path w="4642" h="54">
                  <a:moveTo>
                    <a:pt x="0" y="0"/>
                  </a:moveTo>
                  <a:lnTo>
                    <a:pt x="1026" y="0"/>
                  </a:lnTo>
                  <a:lnTo>
                    <a:pt x="1007" y="54"/>
                  </a:lnTo>
                  <a:lnTo>
                    <a:pt x="7" y="54"/>
                  </a:lnTo>
                  <a:lnTo>
                    <a:pt x="0" y="0"/>
                  </a:lnTo>
                  <a:close/>
                  <a:moveTo>
                    <a:pt x="1354" y="0"/>
                  </a:moveTo>
                  <a:lnTo>
                    <a:pt x="1725" y="0"/>
                  </a:lnTo>
                  <a:lnTo>
                    <a:pt x="1740" y="54"/>
                  </a:lnTo>
                  <a:lnTo>
                    <a:pt x="1323" y="54"/>
                  </a:lnTo>
                  <a:lnTo>
                    <a:pt x="1341" y="42"/>
                  </a:lnTo>
                  <a:lnTo>
                    <a:pt x="1356" y="11"/>
                  </a:lnTo>
                  <a:lnTo>
                    <a:pt x="1354" y="0"/>
                  </a:lnTo>
                  <a:close/>
                  <a:moveTo>
                    <a:pt x="1792" y="0"/>
                  </a:moveTo>
                  <a:lnTo>
                    <a:pt x="2230" y="0"/>
                  </a:lnTo>
                  <a:lnTo>
                    <a:pt x="2217" y="13"/>
                  </a:lnTo>
                  <a:lnTo>
                    <a:pt x="2172" y="54"/>
                  </a:lnTo>
                  <a:lnTo>
                    <a:pt x="1740" y="54"/>
                  </a:lnTo>
                  <a:lnTo>
                    <a:pt x="1753" y="42"/>
                  </a:lnTo>
                  <a:lnTo>
                    <a:pt x="1792" y="0"/>
                  </a:lnTo>
                  <a:close/>
                  <a:moveTo>
                    <a:pt x="2581" y="0"/>
                  </a:moveTo>
                  <a:lnTo>
                    <a:pt x="3193" y="0"/>
                  </a:lnTo>
                  <a:lnTo>
                    <a:pt x="3195" y="4"/>
                  </a:lnTo>
                  <a:lnTo>
                    <a:pt x="3230" y="54"/>
                  </a:lnTo>
                  <a:lnTo>
                    <a:pt x="2604" y="54"/>
                  </a:lnTo>
                  <a:lnTo>
                    <a:pt x="2581" y="0"/>
                  </a:lnTo>
                  <a:close/>
                  <a:moveTo>
                    <a:pt x="4171" y="0"/>
                  </a:moveTo>
                  <a:lnTo>
                    <a:pt x="4578" y="0"/>
                  </a:lnTo>
                  <a:lnTo>
                    <a:pt x="4618" y="13"/>
                  </a:lnTo>
                  <a:lnTo>
                    <a:pt x="4642" y="54"/>
                  </a:lnTo>
                  <a:lnTo>
                    <a:pt x="4214" y="54"/>
                  </a:lnTo>
                  <a:lnTo>
                    <a:pt x="4191" y="24"/>
                  </a:lnTo>
                  <a:lnTo>
                    <a:pt x="4171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3623400" y="2918880"/>
              <a:ext cx="1786680" cy="19080"/>
            </a:xfrm>
            <a:custGeom>
              <a:avLst/>
              <a:gdLst/>
              <a:ahLst/>
              <a:rect l="l" t="t" r="r" b="b"/>
              <a:pathLst>
                <a:path w="4649" h="55">
                  <a:moveTo>
                    <a:pt x="0" y="0"/>
                  </a:moveTo>
                  <a:lnTo>
                    <a:pt x="1012" y="0"/>
                  </a:lnTo>
                  <a:lnTo>
                    <a:pt x="993" y="55"/>
                  </a:lnTo>
                  <a:lnTo>
                    <a:pt x="6" y="55"/>
                  </a:lnTo>
                  <a:lnTo>
                    <a:pt x="0" y="0"/>
                  </a:lnTo>
                  <a:close/>
                  <a:moveTo>
                    <a:pt x="1345" y="0"/>
                  </a:moveTo>
                  <a:lnTo>
                    <a:pt x="1728" y="0"/>
                  </a:lnTo>
                  <a:lnTo>
                    <a:pt x="1736" y="28"/>
                  </a:lnTo>
                  <a:lnTo>
                    <a:pt x="1749" y="16"/>
                  </a:lnTo>
                  <a:lnTo>
                    <a:pt x="1764" y="0"/>
                  </a:lnTo>
                  <a:lnTo>
                    <a:pt x="2198" y="0"/>
                  </a:lnTo>
                  <a:lnTo>
                    <a:pt x="2139" y="55"/>
                  </a:lnTo>
                  <a:lnTo>
                    <a:pt x="1275" y="55"/>
                  </a:lnTo>
                  <a:lnTo>
                    <a:pt x="1294" y="44"/>
                  </a:lnTo>
                  <a:lnTo>
                    <a:pt x="1337" y="16"/>
                  </a:lnTo>
                  <a:lnTo>
                    <a:pt x="1345" y="0"/>
                  </a:lnTo>
                  <a:close/>
                  <a:moveTo>
                    <a:pt x="2588" y="0"/>
                  </a:moveTo>
                  <a:lnTo>
                    <a:pt x="3207" y="0"/>
                  </a:lnTo>
                  <a:lnTo>
                    <a:pt x="3238" y="46"/>
                  </a:lnTo>
                  <a:lnTo>
                    <a:pt x="3245" y="55"/>
                  </a:lnTo>
                  <a:lnTo>
                    <a:pt x="2605" y="55"/>
                  </a:lnTo>
                  <a:lnTo>
                    <a:pt x="2600" y="28"/>
                  </a:lnTo>
                  <a:lnTo>
                    <a:pt x="2588" y="0"/>
                  </a:lnTo>
                  <a:close/>
                  <a:moveTo>
                    <a:pt x="4189" y="0"/>
                  </a:moveTo>
                  <a:lnTo>
                    <a:pt x="4622" y="0"/>
                  </a:lnTo>
                  <a:lnTo>
                    <a:pt x="4643" y="36"/>
                  </a:lnTo>
                  <a:lnTo>
                    <a:pt x="4649" y="55"/>
                  </a:lnTo>
                  <a:lnTo>
                    <a:pt x="4232" y="55"/>
                  </a:lnTo>
                  <a:lnTo>
                    <a:pt x="4189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615480" y="2927880"/>
              <a:ext cx="1798560" cy="19080"/>
            </a:xfrm>
            <a:custGeom>
              <a:avLst/>
              <a:gdLst/>
              <a:ahLst/>
              <a:rect l="l" t="t" r="r" b="b"/>
              <a:pathLst>
                <a:path w="4680" h="53">
                  <a:moveTo>
                    <a:pt x="23" y="0"/>
                  </a:moveTo>
                  <a:lnTo>
                    <a:pt x="1023" y="0"/>
                  </a:lnTo>
                  <a:lnTo>
                    <a:pt x="1006" y="47"/>
                  </a:lnTo>
                  <a:lnTo>
                    <a:pt x="1004" y="53"/>
                  </a:lnTo>
                  <a:lnTo>
                    <a:pt x="0" y="53"/>
                  </a:lnTo>
                  <a:lnTo>
                    <a:pt x="9" y="47"/>
                  </a:lnTo>
                  <a:lnTo>
                    <a:pt x="27" y="35"/>
                  </a:lnTo>
                  <a:lnTo>
                    <a:pt x="23" y="0"/>
                  </a:lnTo>
                  <a:close/>
                  <a:moveTo>
                    <a:pt x="1339" y="0"/>
                  </a:moveTo>
                  <a:lnTo>
                    <a:pt x="1756" y="0"/>
                  </a:lnTo>
                  <a:lnTo>
                    <a:pt x="1756" y="0"/>
                  </a:lnTo>
                  <a:lnTo>
                    <a:pt x="1756" y="0"/>
                  </a:lnTo>
                  <a:lnTo>
                    <a:pt x="2188" y="0"/>
                  </a:lnTo>
                  <a:lnTo>
                    <a:pt x="2130" y="53"/>
                  </a:lnTo>
                  <a:lnTo>
                    <a:pt x="1246" y="53"/>
                  </a:lnTo>
                  <a:lnTo>
                    <a:pt x="1314" y="16"/>
                  </a:lnTo>
                  <a:lnTo>
                    <a:pt x="1339" y="0"/>
                  </a:lnTo>
                  <a:close/>
                  <a:moveTo>
                    <a:pt x="2620" y="0"/>
                  </a:moveTo>
                  <a:lnTo>
                    <a:pt x="3246" y="0"/>
                  </a:lnTo>
                  <a:lnTo>
                    <a:pt x="3258" y="18"/>
                  </a:lnTo>
                  <a:lnTo>
                    <a:pt x="3284" y="53"/>
                  </a:lnTo>
                  <a:lnTo>
                    <a:pt x="2630" y="53"/>
                  </a:lnTo>
                  <a:lnTo>
                    <a:pt x="2620" y="0"/>
                  </a:lnTo>
                  <a:lnTo>
                    <a:pt x="2620" y="0"/>
                  </a:lnTo>
                  <a:close/>
                  <a:moveTo>
                    <a:pt x="4230" y="0"/>
                  </a:moveTo>
                  <a:lnTo>
                    <a:pt x="4658" y="0"/>
                  </a:lnTo>
                  <a:lnTo>
                    <a:pt x="4663" y="8"/>
                  </a:lnTo>
                  <a:lnTo>
                    <a:pt x="4680" y="53"/>
                  </a:lnTo>
                  <a:lnTo>
                    <a:pt x="4274" y="53"/>
                  </a:lnTo>
                  <a:lnTo>
                    <a:pt x="4230" y="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3602520" y="2938320"/>
              <a:ext cx="1817280" cy="17640"/>
            </a:xfrm>
            <a:custGeom>
              <a:avLst/>
              <a:gdLst/>
              <a:ahLst/>
              <a:rect l="l" t="t" r="r" b="b"/>
              <a:pathLst>
                <a:path w="4730" h="54">
                  <a:moveTo>
                    <a:pt x="64" y="0"/>
                  </a:moveTo>
                  <a:lnTo>
                    <a:pt x="1051" y="0"/>
                  </a:lnTo>
                  <a:lnTo>
                    <a:pt x="1044" y="20"/>
                  </a:lnTo>
                  <a:lnTo>
                    <a:pt x="1035" y="54"/>
                  </a:lnTo>
                  <a:lnTo>
                    <a:pt x="0" y="54"/>
                  </a:lnTo>
                  <a:lnTo>
                    <a:pt x="11" y="47"/>
                  </a:lnTo>
                  <a:lnTo>
                    <a:pt x="47" y="20"/>
                  </a:lnTo>
                  <a:lnTo>
                    <a:pt x="65" y="8"/>
                  </a:lnTo>
                  <a:lnTo>
                    <a:pt x="64" y="0"/>
                  </a:lnTo>
                  <a:close/>
                  <a:moveTo>
                    <a:pt x="1333" y="0"/>
                  </a:moveTo>
                  <a:lnTo>
                    <a:pt x="2197" y="0"/>
                  </a:lnTo>
                  <a:lnTo>
                    <a:pt x="2164" y="31"/>
                  </a:lnTo>
                  <a:lnTo>
                    <a:pt x="2131" y="54"/>
                  </a:lnTo>
                  <a:lnTo>
                    <a:pt x="1237" y="54"/>
                  </a:lnTo>
                  <a:lnTo>
                    <a:pt x="1333" y="0"/>
                  </a:lnTo>
                  <a:close/>
                  <a:moveTo>
                    <a:pt x="2663" y="0"/>
                  </a:moveTo>
                  <a:lnTo>
                    <a:pt x="3303" y="0"/>
                  </a:lnTo>
                  <a:lnTo>
                    <a:pt x="3342" y="54"/>
                  </a:lnTo>
                  <a:lnTo>
                    <a:pt x="2670" y="54"/>
                  </a:lnTo>
                  <a:lnTo>
                    <a:pt x="2669" y="31"/>
                  </a:lnTo>
                  <a:lnTo>
                    <a:pt x="2663" y="0"/>
                  </a:lnTo>
                  <a:close/>
                  <a:moveTo>
                    <a:pt x="4290" y="0"/>
                  </a:moveTo>
                  <a:lnTo>
                    <a:pt x="4707" y="0"/>
                  </a:lnTo>
                  <a:lnTo>
                    <a:pt x="4719" y="31"/>
                  </a:lnTo>
                  <a:lnTo>
                    <a:pt x="4730" y="47"/>
                  </a:lnTo>
                  <a:lnTo>
                    <a:pt x="4730" y="54"/>
                  </a:lnTo>
                  <a:lnTo>
                    <a:pt x="4335" y="54"/>
                  </a:lnTo>
                  <a:lnTo>
                    <a:pt x="4290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3585240" y="2946960"/>
              <a:ext cx="1834560" cy="19440"/>
            </a:xfrm>
            <a:custGeom>
              <a:avLst/>
              <a:gdLst/>
              <a:ahLst/>
              <a:rect l="l" t="t" r="r" b="b"/>
              <a:pathLst>
                <a:path w="4775" h="55">
                  <a:moveTo>
                    <a:pt x="83" y="0"/>
                  </a:moveTo>
                  <a:lnTo>
                    <a:pt x="1087" y="0"/>
                  </a:lnTo>
                  <a:lnTo>
                    <a:pt x="1071" y="55"/>
                  </a:lnTo>
                  <a:lnTo>
                    <a:pt x="0" y="55"/>
                  </a:lnTo>
                  <a:lnTo>
                    <a:pt x="56" y="21"/>
                  </a:lnTo>
                  <a:lnTo>
                    <a:pt x="83" y="0"/>
                  </a:lnTo>
                  <a:close/>
                  <a:moveTo>
                    <a:pt x="1329" y="0"/>
                  </a:moveTo>
                  <a:lnTo>
                    <a:pt x="2213" y="0"/>
                  </a:lnTo>
                  <a:lnTo>
                    <a:pt x="2209" y="5"/>
                  </a:lnTo>
                  <a:lnTo>
                    <a:pt x="2137" y="55"/>
                  </a:lnTo>
                  <a:lnTo>
                    <a:pt x="1234" y="55"/>
                  </a:lnTo>
                  <a:lnTo>
                    <a:pt x="1329" y="0"/>
                  </a:lnTo>
                  <a:close/>
                  <a:moveTo>
                    <a:pt x="2713" y="0"/>
                  </a:moveTo>
                  <a:lnTo>
                    <a:pt x="3367" y="0"/>
                  </a:lnTo>
                  <a:lnTo>
                    <a:pt x="3399" y="43"/>
                  </a:lnTo>
                  <a:lnTo>
                    <a:pt x="3407" y="55"/>
                  </a:lnTo>
                  <a:lnTo>
                    <a:pt x="2716" y="55"/>
                  </a:lnTo>
                  <a:lnTo>
                    <a:pt x="2714" y="5"/>
                  </a:lnTo>
                  <a:lnTo>
                    <a:pt x="2713" y="0"/>
                  </a:lnTo>
                  <a:close/>
                  <a:moveTo>
                    <a:pt x="4357" y="0"/>
                  </a:moveTo>
                  <a:lnTo>
                    <a:pt x="4763" y="0"/>
                  </a:lnTo>
                  <a:lnTo>
                    <a:pt x="4764" y="5"/>
                  </a:lnTo>
                  <a:lnTo>
                    <a:pt x="4775" y="21"/>
                  </a:lnTo>
                  <a:lnTo>
                    <a:pt x="4775" y="55"/>
                  </a:lnTo>
                  <a:lnTo>
                    <a:pt x="4402" y="55"/>
                  </a:lnTo>
                  <a:lnTo>
                    <a:pt x="4357" y="0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3567600" y="2955960"/>
              <a:ext cx="1852200" cy="19440"/>
            </a:xfrm>
            <a:custGeom>
              <a:avLst/>
              <a:gdLst/>
              <a:ahLst/>
              <a:rect l="l" t="t" r="r" b="b"/>
              <a:pathLst>
                <a:path w="4820" h="53">
                  <a:moveTo>
                    <a:pt x="90" y="0"/>
                  </a:moveTo>
                  <a:lnTo>
                    <a:pt x="1125" y="0"/>
                  </a:lnTo>
                  <a:lnTo>
                    <a:pt x="1114" y="33"/>
                  </a:lnTo>
                  <a:lnTo>
                    <a:pt x="1110" y="53"/>
                  </a:lnTo>
                  <a:lnTo>
                    <a:pt x="0" y="53"/>
                  </a:lnTo>
                  <a:lnTo>
                    <a:pt x="34" y="33"/>
                  </a:lnTo>
                  <a:lnTo>
                    <a:pt x="90" y="0"/>
                  </a:lnTo>
                  <a:close/>
                  <a:moveTo>
                    <a:pt x="1327" y="0"/>
                  </a:moveTo>
                  <a:lnTo>
                    <a:pt x="2221" y="0"/>
                  </a:lnTo>
                  <a:lnTo>
                    <a:pt x="2144" y="53"/>
                  </a:lnTo>
                  <a:lnTo>
                    <a:pt x="1232" y="53"/>
                  </a:lnTo>
                  <a:lnTo>
                    <a:pt x="1233" y="53"/>
                  </a:lnTo>
                  <a:lnTo>
                    <a:pt x="1327" y="0"/>
                  </a:lnTo>
                  <a:close/>
                  <a:moveTo>
                    <a:pt x="2760" y="0"/>
                  </a:moveTo>
                  <a:lnTo>
                    <a:pt x="3432" y="0"/>
                  </a:lnTo>
                  <a:lnTo>
                    <a:pt x="3444" y="15"/>
                  </a:lnTo>
                  <a:lnTo>
                    <a:pt x="3473" y="53"/>
                  </a:lnTo>
                  <a:lnTo>
                    <a:pt x="2762" y="53"/>
                  </a:lnTo>
                  <a:lnTo>
                    <a:pt x="2760" y="0"/>
                  </a:lnTo>
                  <a:close/>
                  <a:moveTo>
                    <a:pt x="4425" y="0"/>
                  </a:moveTo>
                  <a:lnTo>
                    <a:pt x="4820" y="0"/>
                  </a:lnTo>
                  <a:lnTo>
                    <a:pt x="4820" y="53"/>
                  </a:lnTo>
                  <a:lnTo>
                    <a:pt x="4467" y="53"/>
                  </a:lnTo>
                  <a:lnTo>
                    <a:pt x="4459" y="43"/>
                  </a:lnTo>
                  <a:lnTo>
                    <a:pt x="4425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3550320" y="2966760"/>
              <a:ext cx="1869480" cy="19080"/>
            </a:xfrm>
            <a:custGeom>
              <a:avLst/>
              <a:gdLst/>
              <a:ahLst/>
              <a:rect l="l" t="t" r="r" b="b"/>
              <a:pathLst>
                <a:path w="4865" h="54">
                  <a:moveTo>
                    <a:pt x="90" y="0"/>
                  </a:moveTo>
                  <a:lnTo>
                    <a:pt x="1161" y="0"/>
                  </a:lnTo>
                  <a:lnTo>
                    <a:pt x="1159" y="6"/>
                  </a:lnTo>
                  <a:lnTo>
                    <a:pt x="1150" y="54"/>
                  </a:lnTo>
                  <a:lnTo>
                    <a:pt x="0" y="54"/>
                  </a:lnTo>
                  <a:lnTo>
                    <a:pt x="79" y="6"/>
                  </a:lnTo>
                  <a:lnTo>
                    <a:pt x="90" y="0"/>
                  </a:lnTo>
                  <a:close/>
                  <a:moveTo>
                    <a:pt x="1324" y="0"/>
                  </a:moveTo>
                  <a:lnTo>
                    <a:pt x="2227" y="0"/>
                  </a:lnTo>
                  <a:lnTo>
                    <a:pt x="2150" y="54"/>
                  </a:lnTo>
                  <a:lnTo>
                    <a:pt x="1250" y="54"/>
                  </a:lnTo>
                  <a:lnTo>
                    <a:pt x="1278" y="26"/>
                  </a:lnTo>
                  <a:lnTo>
                    <a:pt x="1324" y="0"/>
                  </a:lnTo>
                  <a:close/>
                  <a:moveTo>
                    <a:pt x="2806" y="0"/>
                  </a:moveTo>
                  <a:lnTo>
                    <a:pt x="3497" y="0"/>
                  </a:lnTo>
                  <a:lnTo>
                    <a:pt x="3539" y="54"/>
                  </a:lnTo>
                  <a:lnTo>
                    <a:pt x="2808" y="54"/>
                  </a:lnTo>
                  <a:lnTo>
                    <a:pt x="2806" y="0"/>
                  </a:lnTo>
                  <a:close/>
                  <a:moveTo>
                    <a:pt x="4492" y="0"/>
                  </a:moveTo>
                  <a:lnTo>
                    <a:pt x="4865" y="0"/>
                  </a:lnTo>
                  <a:lnTo>
                    <a:pt x="4865" y="54"/>
                  </a:lnTo>
                  <a:lnTo>
                    <a:pt x="4528" y="54"/>
                  </a:lnTo>
                  <a:lnTo>
                    <a:pt x="4504" y="16"/>
                  </a:lnTo>
                  <a:lnTo>
                    <a:pt x="4492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3530880" y="2975400"/>
              <a:ext cx="1891080" cy="19080"/>
            </a:xfrm>
            <a:custGeom>
              <a:avLst/>
              <a:gdLst/>
              <a:ahLst/>
              <a:rect l="l" t="t" r="r" b="b"/>
              <a:pathLst>
                <a:path w="4923" h="55">
                  <a:moveTo>
                    <a:pt x="96" y="0"/>
                  </a:moveTo>
                  <a:lnTo>
                    <a:pt x="1206" y="0"/>
                  </a:lnTo>
                  <a:lnTo>
                    <a:pt x="1195" y="55"/>
                  </a:lnTo>
                  <a:lnTo>
                    <a:pt x="0" y="55"/>
                  </a:lnTo>
                  <a:lnTo>
                    <a:pt x="51" y="28"/>
                  </a:lnTo>
                  <a:lnTo>
                    <a:pt x="96" y="0"/>
                  </a:lnTo>
                  <a:close/>
                  <a:moveTo>
                    <a:pt x="1328" y="0"/>
                  </a:moveTo>
                  <a:lnTo>
                    <a:pt x="2240" y="0"/>
                  </a:lnTo>
                  <a:lnTo>
                    <a:pt x="2162" y="55"/>
                  </a:lnTo>
                  <a:lnTo>
                    <a:pt x="1777" y="55"/>
                  </a:lnTo>
                  <a:lnTo>
                    <a:pt x="1794" y="39"/>
                  </a:lnTo>
                  <a:lnTo>
                    <a:pt x="1756" y="55"/>
                  </a:lnTo>
                  <a:lnTo>
                    <a:pt x="1278" y="55"/>
                  </a:lnTo>
                  <a:lnTo>
                    <a:pt x="1289" y="39"/>
                  </a:lnTo>
                  <a:lnTo>
                    <a:pt x="1328" y="0"/>
                  </a:lnTo>
                  <a:close/>
                  <a:moveTo>
                    <a:pt x="2858" y="0"/>
                  </a:moveTo>
                  <a:lnTo>
                    <a:pt x="3569" y="0"/>
                  </a:lnTo>
                  <a:lnTo>
                    <a:pt x="3611" y="55"/>
                  </a:lnTo>
                  <a:lnTo>
                    <a:pt x="2859" y="55"/>
                  </a:lnTo>
                  <a:lnTo>
                    <a:pt x="2858" y="0"/>
                  </a:lnTo>
                  <a:close/>
                  <a:moveTo>
                    <a:pt x="4563" y="0"/>
                  </a:moveTo>
                  <a:lnTo>
                    <a:pt x="4916" y="0"/>
                  </a:lnTo>
                  <a:lnTo>
                    <a:pt x="4916" y="39"/>
                  </a:lnTo>
                  <a:lnTo>
                    <a:pt x="4923" y="55"/>
                  </a:lnTo>
                  <a:lnTo>
                    <a:pt x="4597" y="55"/>
                  </a:lnTo>
                  <a:lnTo>
                    <a:pt x="4563" y="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3510000" y="2985840"/>
              <a:ext cx="1915200" cy="17640"/>
            </a:xfrm>
            <a:custGeom>
              <a:avLst/>
              <a:gdLst/>
              <a:ahLst/>
              <a:rect l="l" t="t" r="r" b="b"/>
              <a:pathLst>
                <a:path w="4985" h="53">
                  <a:moveTo>
                    <a:pt x="102" y="0"/>
                  </a:moveTo>
                  <a:lnTo>
                    <a:pt x="1252" y="0"/>
                  </a:lnTo>
                  <a:lnTo>
                    <a:pt x="1242" y="47"/>
                  </a:lnTo>
                  <a:lnTo>
                    <a:pt x="1241" y="53"/>
                  </a:lnTo>
                  <a:lnTo>
                    <a:pt x="0" y="53"/>
                  </a:lnTo>
                  <a:lnTo>
                    <a:pt x="102" y="0"/>
                  </a:lnTo>
                  <a:lnTo>
                    <a:pt x="102" y="0"/>
                  </a:lnTo>
                  <a:close/>
                  <a:moveTo>
                    <a:pt x="1352" y="0"/>
                  </a:moveTo>
                  <a:lnTo>
                    <a:pt x="2252" y="0"/>
                  </a:lnTo>
                  <a:lnTo>
                    <a:pt x="2176" y="53"/>
                  </a:lnTo>
                  <a:lnTo>
                    <a:pt x="1798" y="53"/>
                  </a:lnTo>
                  <a:lnTo>
                    <a:pt x="1845" y="11"/>
                  </a:lnTo>
                  <a:lnTo>
                    <a:pt x="1740" y="53"/>
                  </a:lnTo>
                  <a:lnTo>
                    <a:pt x="1316" y="53"/>
                  </a:lnTo>
                  <a:lnTo>
                    <a:pt x="1321" y="39"/>
                  </a:lnTo>
                  <a:lnTo>
                    <a:pt x="1340" y="11"/>
                  </a:lnTo>
                  <a:lnTo>
                    <a:pt x="1352" y="0"/>
                  </a:lnTo>
                  <a:close/>
                  <a:moveTo>
                    <a:pt x="2910" y="0"/>
                  </a:moveTo>
                  <a:lnTo>
                    <a:pt x="3641" y="0"/>
                  </a:lnTo>
                  <a:lnTo>
                    <a:pt x="3684" y="53"/>
                  </a:lnTo>
                  <a:lnTo>
                    <a:pt x="2912" y="53"/>
                  </a:lnTo>
                  <a:lnTo>
                    <a:pt x="2910" y="0"/>
                  </a:lnTo>
                  <a:close/>
                  <a:moveTo>
                    <a:pt x="4630" y="0"/>
                  </a:moveTo>
                  <a:lnTo>
                    <a:pt x="4967" y="0"/>
                  </a:lnTo>
                  <a:lnTo>
                    <a:pt x="4967" y="11"/>
                  </a:lnTo>
                  <a:lnTo>
                    <a:pt x="4985" y="53"/>
                  </a:lnTo>
                  <a:lnTo>
                    <a:pt x="4665" y="53"/>
                  </a:lnTo>
                  <a:lnTo>
                    <a:pt x="4630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3490920" y="2994840"/>
              <a:ext cx="1940400" cy="19440"/>
            </a:xfrm>
            <a:custGeom>
              <a:avLst/>
              <a:gdLst/>
              <a:ahLst/>
              <a:rect l="l" t="t" r="r" b="b"/>
              <a:pathLst>
                <a:path w="5047" h="53">
                  <a:moveTo>
                    <a:pt x="101" y="0"/>
                  </a:moveTo>
                  <a:lnTo>
                    <a:pt x="1296" y="0"/>
                  </a:lnTo>
                  <a:lnTo>
                    <a:pt x="1292" y="20"/>
                  </a:lnTo>
                  <a:lnTo>
                    <a:pt x="1288" y="53"/>
                  </a:lnTo>
                  <a:lnTo>
                    <a:pt x="0" y="53"/>
                  </a:lnTo>
                  <a:lnTo>
                    <a:pt x="101" y="0"/>
                  </a:lnTo>
                  <a:close/>
                  <a:moveTo>
                    <a:pt x="1379" y="0"/>
                  </a:moveTo>
                  <a:lnTo>
                    <a:pt x="1857" y="0"/>
                  </a:lnTo>
                  <a:lnTo>
                    <a:pt x="1777" y="31"/>
                  </a:lnTo>
                  <a:lnTo>
                    <a:pt x="1739" y="53"/>
                  </a:lnTo>
                  <a:lnTo>
                    <a:pt x="1356" y="53"/>
                  </a:lnTo>
                  <a:lnTo>
                    <a:pt x="1371" y="12"/>
                  </a:lnTo>
                  <a:lnTo>
                    <a:pt x="1379" y="0"/>
                  </a:lnTo>
                  <a:close/>
                  <a:moveTo>
                    <a:pt x="1878" y="0"/>
                  </a:moveTo>
                  <a:lnTo>
                    <a:pt x="2263" y="0"/>
                  </a:lnTo>
                  <a:lnTo>
                    <a:pt x="2200" y="44"/>
                  </a:lnTo>
                  <a:lnTo>
                    <a:pt x="2186" y="53"/>
                  </a:lnTo>
                  <a:lnTo>
                    <a:pt x="1816" y="53"/>
                  </a:lnTo>
                  <a:lnTo>
                    <a:pt x="1842" y="31"/>
                  </a:lnTo>
                  <a:lnTo>
                    <a:pt x="1878" y="0"/>
                  </a:lnTo>
                  <a:close/>
                  <a:moveTo>
                    <a:pt x="2960" y="0"/>
                  </a:moveTo>
                  <a:lnTo>
                    <a:pt x="3712" y="0"/>
                  </a:lnTo>
                  <a:lnTo>
                    <a:pt x="3755" y="53"/>
                  </a:lnTo>
                  <a:lnTo>
                    <a:pt x="2963" y="53"/>
                  </a:lnTo>
                  <a:lnTo>
                    <a:pt x="2960" y="0"/>
                  </a:lnTo>
                  <a:close/>
                  <a:moveTo>
                    <a:pt x="4698" y="0"/>
                  </a:moveTo>
                  <a:lnTo>
                    <a:pt x="5024" y="0"/>
                  </a:lnTo>
                  <a:lnTo>
                    <a:pt x="5047" y="53"/>
                  </a:lnTo>
                  <a:lnTo>
                    <a:pt x="4732" y="53"/>
                  </a:lnTo>
                  <a:lnTo>
                    <a:pt x="4698" y="0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469680" y="3003480"/>
              <a:ext cx="1963800" cy="19440"/>
            </a:xfrm>
            <a:custGeom>
              <a:avLst/>
              <a:gdLst/>
              <a:ahLst/>
              <a:rect l="l" t="t" r="r" b="b"/>
              <a:pathLst>
                <a:path w="5110" h="55">
                  <a:moveTo>
                    <a:pt x="105" y="0"/>
                  </a:moveTo>
                  <a:lnTo>
                    <a:pt x="1346" y="0"/>
                  </a:lnTo>
                  <a:lnTo>
                    <a:pt x="1339" y="55"/>
                  </a:lnTo>
                  <a:lnTo>
                    <a:pt x="0" y="55"/>
                  </a:lnTo>
                  <a:lnTo>
                    <a:pt x="21" y="45"/>
                  </a:lnTo>
                  <a:lnTo>
                    <a:pt x="105" y="0"/>
                  </a:lnTo>
                  <a:close/>
                  <a:moveTo>
                    <a:pt x="1421" y="0"/>
                  </a:moveTo>
                  <a:lnTo>
                    <a:pt x="1845" y="0"/>
                  </a:lnTo>
                  <a:lnTo>
                    <a:pt x="1832" y="5"/>
                  </a:lnTo>
                  <a:lnTo>
                    <a:pt x="1765" y="45"/>
                  </a:lnTo>
                  <a:lnTo>
                    <a:pt x="1754" y="55"/>
                  </a:lnTo>
                  <a:lnTo>
                    <a:pt x="1402" y="55"/>
                  </a:lnTo>
                  <a:lnTo>
                    <a:pt x="1406" y="45"/>
                  </a:lnTo>
                  <a:lnTo>
                    <a:pt x="1421" y="0"/>
                  </a:lnTo>
                  <a:close/>
                  <a:moveTo>
                    <a:pt x="1903" y="0"/>
                  </a:moveTo>
                  <a:lnTo>
                    <a:pt x="2281" y="0"/>
                  </a:lnTo>
                  <a:lnTo>
                    <a:pt x="2255" y="18"/>
                  </a:lnTo>
                  <a:lnTo>
                    <a:pt x="2200" y="55"/>
                  </a:lnTo>
                  <a:lnTo>
                    <a:pt x="1838" y="55"/>
                  </a:lnTo>
                  <a:lnTo>
                    <a:pt x="1897" y="5"/>
                  </a:lnTo>
                  <a:lnTo>
                    <a:pt x="1903" y="0"/>
                  </a:lnTo>
                  <a:close/>
                  <a:moveTo>
                    <a:pt x="3017" y="0"/>
                  </a:moveTo>
                  <a:lnTo>
                    <a:pt x="3789" y="0"/>
                  </a:lnTo>
                  <a:lnTo>
                    <a:pt x="3831" y="55"/>
                  </a:lnTo>
                  <a:lnTo>
                    <a:pt x="3019" y="55"/>
                  </a:lnTo>
                  <a:lnTo>
                    <a:pt x="3017" y="0"/>
                  </a:lnTo>
                  <a:close/>
                  <a:moveTo>
                    <a:pt x="4770" y="0"/>
                  </a:moveTo>
                  <a:lnTo>
                    <a:pt x="5090" y="0"/>
                  </a:lnTo>
                  <a:lnTo>
                    <a:pt x="5110" y="45"/>
                  </a:lnTo>
                  <a:lnTo>
                    <a:pt x="5110" y="55"/>
                  </a:lnTo>
                  <a:lnTo>
                    <a:pt x="4805" y="55"/>
                  </a:lnTo>
                  <a:lnTo>
                    <a:pt x="477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3446640" y="3014280"/>
              <a:ext cx="1990800" cy="19080"/>
            </a:xfrm>
            <a:custGeom>
              <a:avLst/>
              <a:gdLst/>
              <a:ahLst/>
              <a:rect l="l" t="t" r="r" b="b"/>
              <a:pathLst>
                <a:path w="5179" h="55">
                  <a:moveTo>
                    <a:pt x="118" y="0"/>
                  </a:moveTo>
                  <a:lnTo>
                    <a:pt x="1406" y="0"/>
                  </a:lnTo>
                  <a:lnTo>
                    <a:pt x="1399" y="55"/>
                  </a:lnTo>
                  <a:lnTo>
                    <a:pt x="0" y="55"/>
                  </a:lnTo>
                  <a:lnTo>
                    <a:pt x="84" y="18"/>
                  </a:lnTo>
                  <a:lnTo>
                    <a:pt x="118" y="0"/>
                  </a:lnTo>
                  <a:close/>
                  <a:moveTo>
                    <a:pt x="1474" y="0"/>
                  </a:moveTo>
                  <a:lnTo>
                    <a:pt x="1857" y="0"/>
                  </a:lnTo>
                  <a:lnTo>
                    <a:pt x="1828" y="18"/>
                  </a:lnTo>
                  <a:lnTo>
                    <a:pt x="1788" y="55"/>
                  </a:lnTo>
                  <a:lnTo>
                    <a:pt x="1453" y="55"/>
                  </a:lnTo>
                  <a:lnTo>
                    <a:pt x="1469" y="18"/>
                  </a:lnTo>
                  <a:lnTo>
                    <a:pt x="1474" y="0"/>
                  </a:lnTo>
                  <a:close/>
                  <a:moveTo>
                    <a:pt x="1934" y="0"/>
                  </a:moveTo>
                  <a:lnTo>
                    <a:pt x="2304" y="0"/>
                  </a:lnTo>
                  <a:lnTo>
                    <a:pt x="2222" y="55"/>
                  </a:lnTo>
                  <a:lnTo>
                    <a:pt x="1874" y="55"/>
                  </a:lnTo>
                  <a:lnTo>
                    <a:pt x="1900" y="28"/>
                  </a:lnTo>
                  <a:lnTo>
                    <a:pt x="1934" y="0"/>
                  </a:lnTo>
                  <a:close/>
                  <a:moveTo>
                    <a:pt x="3081" y="0"/>
                  </a:moveTo>
                  <a:lnTo>
                    <a:pt x="3873" y="0"/>
                  </a:lnTo>
                  <a:lnTo>
                    <a:pt x="3894" y="28"/>
                  </a:lnTo>
                  <a:lnTo>
                    <a:pt x="3913" y="55"/>
                  </a:lnTo>
                  <a:lnTo>
                    <a:pt x="3086" y="55"/>
                  </a:lnTo>
                  <a:lnTo>
                    <a:pt x="3082" y="36"/>
                  </a:lnTo>
                  <a:lnTo>
                    <a:pt x="3081" y="0"/>
                  </a:lnTo>
                  <a:close/>
                  <a:moveTo>
                    <a:pt x="4850" y="0"/>
                  </a:moveTo>
                  <a:lnTo>
                    <a:pt x="5165" y="0"/>
                  </a:lnTo>
                  <a:lnTo>
                    <a:pt x="5173" y="18"/>
                  </a:lnTo>
                  <a:lnTo>
                    <a:pt x="5173" y="28"/>
                  </a:lnTo>
                  <a:lnTo>
                    <a:pt x="5179" y="55"/>
                  </a:lnTo>
                  <a:lnTo>
                    <a:pt x="5026" y="55"/>
                  </a:lnTo>
                  <a:lnTo>
                    <a:pt x="5007" y="48"/>
                  </a:lnTo>
                  <a:lnTo>
                    <a:pt x="4969" y="48"/>
                  </a:lnTo>
                  <a:lnTo>
                    <a:pt x="4961" y="55"/>
                  </a:lnTo>
                  <a:lnTo>
                    <a:pt x="4884" y="55"/>
                  </a:lnTo>
                  <a:lnTo>
                    <a:pt x="4873" y="36"/>
                  </a:lnTo>
                  <a:lnTo>
                    <a:pt x="485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421800" y="3023280"/>
              <a:ext cx="2015640" cy="19080"/>
            </a:xfrm>
            <a:custGeom>
              <a:avLst/>
              <a:gdLst/>
              <a:ahLst/>
              <a:rect l="l" t="t" r="r" b="b"/>
              <a:pathLst>
                <a:path w="5242" h="53">
                  <a:moveTo>
                    <a:pt x="125" y="0"/>
                  </a:moveTo>
                  <a:lnTo>
                    <a:pt x="1464" y="0"/>
                  </a:lnTo>
                  <a:lnTo>
                    <a:pt x="1457" y="53"/>
                  </a:lnTo>
                  <a:lnTo>
                    <a:pt x="0" y="53"/>
                  </a:lnTo>
                  <a:lnTo>
                    <a:pt x="125" y="0"/>
                  </a:lnTo>
                  <a:close/>
                  <a:moveTo>
                    <a:pt x="1527" y="0"/>
                  </a:moveTo>
                  <a:lnTo>
                    <a:pt x="1879" y="0"/>
                  </a:lnTo>
                  <a:lnTo>
                    <a:pt x="1839" y="38"/>
                  </a:lnTo>
                  <a:lnTo>
                    <a:pt x="1838" y="53"/>
                  </a:lnTo>
                  <a:lnTo>
                    <a:pt x="1505" y="53"/>
                  </a:lnTo>
                  <a:lnTo>
                    <a:pt x="1527" y="0"/>
                  </a:lnTo>
                  <a:close/>
                  <a:moveTo>
                    <a:pt x="1963" y="0"/>
                  </a:moveTo>
                  <a:lnTo>
                    <a:pt x="2325" y="0"/>
                  </a:lnTo>
                  <a:lnTo>
                    <a:pt x="2267" y="38"/>
                  </a:lnTo>
                  <a:lnTo>
                    <a:pt x="2239" y="53"/>
                  </a:lnTo>
                  <a:lnTo>
                    <a:pt x="1903" y="53"/>
                  </a:lnTo>
                  <a:lnTo>
                    <a:pt x="1926" y="38"/>
                  </a:lnTo>
                  <a:lnTo>
                    <a:pt x="1962" y="0"/>
                  </a:lnTo>
                  <a:lnTo>
                    <a:pt x="1963" y="0"/>
                  </a:lnTo>
                  <a:close/>
                  <a:moveTo>
                    <a:pt x="3144" y="0"/>
                  </a:moveTo>
                  <a:lnTo>
                    <a:pt x="3956" y="0"/>
                  </a:lnTo>
                  <a:lnTo>
                    <a:pt x="3956" y="0"/>
                  </a:lnTo>
                  <a:lnTo>
                    <a:pt x="3993" y="53"/>
                  </a:lnTo>
                  <a:lnTo>
                    <a:pt x="3152" y="53"/>
                  </a:lnTo>
                  <a:lnTo>
                    <a:pt x="3144" y="8"/>
                  </a:lnTo>
                  <a:lnTo>
                    <a:pt x="3144" y="0"/>
                  </a:lnTo>
                  <a:close/>
                  <a:moveTo>
                    <a:pt x="4930" y="0"/>
                  </a:moveTo>
                  <a:lnTo>
                    <a:pt x="5235" y="0"/>
                  </a:lnTo>
                  <a:lnTo>
                    <a:pt x="5235" y="0"/>
                  </a:lnTo>
                  <a:lnTo>
                    <a:pt x="5242" y="30"/>
                  </a:lnTo>
                  <a:lnTo>
                    <a:pt x="5236" y="53"/>
                  </a:lnTo>
                  <a:lnTo>
                    <a:pt x="5143" y="53"/>
                  </a:lnTo>
                  <a:lnTo>
                    <a:pt x="5119" y="38"/>
                  </a:lnTo>
                  <a:lnTo>
                    <a:pt x="5069" y="20"/>
                  </a:lnTo>
                  <a:lnTo>
                    <a:pt x="5031" y="20"/>
                  </a:lnTo>
                  <a:lnTo>
                    <a:pt x="4994" y="49"/>
                  </a:lnTo>
                  <a:lnTo>
                    <a:pt x="4964" y="49"/>
                  </a:lnTo>
                  <a:lnTo>
                    <a:pt x="4953" y="38"/>
                  </a:lnTo>
                  <a:lnTo>
                    <a:pt x="4935" y="8"/>
                  </a:lnTo>
                  <a:lnTo>
                    <a:pt x="4930" y="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3314160" y="3033720"/>
              <a:ext cx="2123280" cy="17640"/>
            </a:xfrm>
            <a:custGeom>
              <a:avLst/>
              <a:gdLst/>
              <a:ahLst/>
              <a:rect l="l" t="t" r="r" b="b"/>
              <a:pathLst>
                <a:path w="5525" h="54">
                  <a:moveTo>
                    <a:pt x="345" y="0"/>
                  </a:moveTo>
                  <a:lnTo>
                    <a:pt x="1744" y="0"/>
                  </a:lnTo>
                  <a:lnTo>
                    <a:pt x="1738" y="38"/>
                  </a:lnTo>
                  <a:lnTo>
                    <a:pt x="1736" y="54"/>
                  </a:lnTo>
                  <a:lnTo>
                    <a:pt x="0" y="54"/>
                  </a:lnTo>
                  <a:lnTo>
                    <a:pt x="3" y="51"/>
                  </a:lnTo>
                  <a:lnTo>
                    <a:pt x="43" y="38"/>
                  </a:lnTo>
                  <a:lnTo>
                    <a:pt x="256" y="38"/>
                  </a:lnTo>
                  <a:lnTo>
                    <a:pt x="345" y="0"/>
                  </a:lnTo>
                  <a:close/>
                  <a:moveTo>
                    <a:pt x="1798" y="0"/>
                  </a:moveTo>
                  <a:lnTo>
                    <a:pt x="2133" y="0"/>
                  </a:lnTo>
                  <a:lnTo>
                    <a:pt x="2122" y="11"/>
                  </a:lnTo>
                  <a:lnTo>
                    <a:pt x="2119" y="53"/>
                  </a:lnTo>
                  <a:lnTo>
                    <a:pt x="2171" y="40"/>
                  </a:lnTo>
                  <a:lnTo>
                    <a:pt x="2180" y="31"/>
                  </a:lnTo>
                  <a:lnTo>
                    <a:pt x="2209" y="11"/>
                  </a:lnTo>
                  <a:lnTo>
                    <a:pt x="2219" y="0"/>
                  </a:lnTo>
                  <a:lnTo>
                    <a:pt x="2567" y="0"/>
                  </a:lnTo>
                  <a:lnTo>
                    <a:pt x="2550" y="11"/>
                  </a:lnTo>
                  <a:lnTo>
                    <a:pt x="2474" y="54"/>
                  </a:lnTo>
                  <a:lnTo>
                    <a:pt x="1781" y="54"/>
                  </a:lnTo>
                  <a:lnTo>
                    <a:pt x="1782" y="38"/>
                  </a:lnTo>
                  <a:lnTo>
                    <a:pt x="1798" y="0"/>
                  </a:lnTo>
                  <a:close/>
                  <a:moveTo>
                    <a:pt x="3431" y="0"/>
                  </a:moveTo>
                  <a:lnTo>
                    <a:pt x="4258" y="0"/>
                  </a:lnTo>
                  <a:lnTo>
                    <a:pt x="4295" y="54"/>
                  </a:lnTo>
                  <a:lnTo>
                    <a:pt x="3440" y="54"/>
                  </a:lnTo>
                  <a:lnTo>
                    <a:pt x="3431" y="0"/>
                  </a:lnTo>
                  <a:close/>
                  <a:moveTo>
                    <a:pt x="5229" y="0"/>
                  </a:moveTo>
                  <a:lnTo>
                    <a:pt x="5306" y="0"/>
                  </a:lnTo>
                  <a:lnTo>
                    <a:pt x="5277" y="22"/>
                  </a:lnTo>
                  <a:lnTo>
                    <a:pt x="5247" y="22"/>
                  </a:lnTo>
                  <a:lnTo>
                    <a:pt x="5236" y="11"/>
                  </a:lnTo>
                  <a:lnTo>
                    <a:pt x="5229" y="0"/>
                  </a:lnTo>
                  <a:close/>
                  <a:moveTo>
                    <a:pt x="5371" y="0"/>
                  </a:moveTo>
                  <a:lnTo>
                    <a:pt x="5524" y="0"/>
                  </a:lnTo>
                  <a:lnTo>
                    <a:pt x="5525" y="3"/>
                  </a:lnTo>
                  <a:lnTo>
                    <a:pt x="5518" y="31"/>
                  </a:lnTo>
                  <a:lnTo>
                    <a:pt x="5496" y="53"/>
                  </a:lnTo>
                  <a:lnTo>
                    <a:pt x="5431" y="31"/>
                  </a:lnTo>
                  <a:lnTo>
                    <a:pt x="5402" y="11"/>
                  </a:lnTo>
                  <a:lnTo>
                    <a:pt x="537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3304440" y="3042720"/>
              <a:ext cx="2130480" cy="19440"/>
            </a:xfrm>
            <a:custGeom>
              <a:avLst/>
              <a:gdLst/>
              <a:ahLst/>
              <a:rect l="l" t="t" r="r" b="b"/>
              <a:pathLst>
                <a:path w="5544" h="55">
                  <a:moveTo>
                    <a:pt x="308" y="0"/>
                  </a:moveTo>
                  <a:lnTo>
                    <a:pt x="1765" y="0"/>
                  </a:lnTo>
                  <a:lnTo>
                    <a:pt x="1763" y="12"/>
                  </a:lnTo>
                  <a:lnTo>
                    <a:pt x="1757" y="55"/>
                  </a:lnTo>
                  <a:lnTo>
                    <a:pt x="0" y="55"/>
                  </a:lnTo>
                  <a:lnTo>
                    <a:pt x="28" y="25"/>
                  </a:lnTo>
                  <a:lnTo>
                    <a:pt x="68" y="12"/>
                  </a:lnTo>
                  <a:lnTo>
                    <a:pt x="281" y="12"/>
                  </a:lnTo>
                  <a:lnTo>
                    <a:pt x="308" y="0"/>
                  </a:lnTo>
                  <a:close/>
                  <a:moveTo>
                    <a:pt x="1813" y="0"/>
                  </a:moveTo>
                  <a:lnTo>
                    <a:pt x="2146" y="0"/>
                  </a:lnTo>
                  <a:lnTo>
                    <a:pt x="2144" y="27"/>
                  </a:lnTo>
                  <a:lnTo>
                    <a:pt x="2196" y="14"/>
                  </a:lnTo>
                  <a:lnTo>
                    <a:pt x="2205" y="5"/>
                  </a:lnTo>
                  <a:lnTo>
                    <a:pt x="2211" y="0"/>
                  </a:lnTo>
                  <a:lnTo>
                    <a:pt x="2547" y="0"/>
                  </a:lnTo>
                  <a:lnTo>
                    <a:pt x="2474" y="42"/>
                  </a:lnTo>
                  <a:lnTo>
                    <a:pt x="2456" y="55"/>
                  </a:lnTo>
                  <a:lnTo>
                    <a:pt x="1804" y="55"/>
                  </a:lnTo>
                  <a:lnTo>
                    <a:pt x="1807" y="12"/>
                  </a:lnTo>
                  <a:lnTo>
                    <a:pt x="1813" y="0"/>
                  </a:lnTo>
                  <a:close/>
                  <a:moveTo>
                    <a:pt x="3460" y="0"/>
                  </a:moveTo>
                  <a:lnTo>
                    <a:pt x="4301" y="0"/>
                  </a:lnTo>
                  <a:lnTo>
                    <a:pt x="4324" y="34"/>
                  </a:lnTo>
                  <a:lnTo>
                    <a:pt x="4332" y="55"/>
                  </a:lnTo>
                  <a:lnTo>
                    <a:pt x="3471" y="55"/>
                  </a:lnTo>
                  <a:lnTo>
                    <a:pt x="3460" y="0"/>
                  </a:lnTo>
                  <a:close/>
                  <a:moveTo>
                    <a:pt x="5451" y="0"/>
                  </a:moveTo>
                  <a:lnTo>
                    <a:pt x="5544" y="0"/>
                  </a:lnTo>
                  <a:lnTo>
                    <a:pt x="5543" y="5"/>
                  </a:lnTo>
                  <a:lnTo>
                    <a:pt x="5521" y="27"/>
                  </a:lnTo>
                  <a:lnTo>
                    <a:pt x="5456" y="5"/>
                  </a:lnTo>
                  <a:lnTo>
                    <a:pt x="5451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3294720" y="3051360"/>
              <a:ext cx="1677240" cy="19440"/>
            </a:xfrm>
            <a:custGeom>
              <a:avLst/>
              <a:gdLst/>
              <a:ahLst/>
              <a:rect l="l" t="t" r="r" b="b"/>
              <a:pathLst>
                <a:path w="4366" h="53">
                  <a:moveTo>
                    <a:pt x="49" y="0"/>
                  </a:moveTo>
                  <a:lnTo>
                    <a:pt x="1785" y="0"/>
                  </a:lnTo>
                  <a:lnTo>
                    <a:pt x="1778" y="53"/>
                  </a:lnTo>
                  <a:lnTo>
                    <a:pt x="0" y="53"/>
                  </a:lnTo>
                  <a:lnTo>
                    <a:pt x="17" y="35"/>
                  </a:lnTo>
                  <a:lnTo>
                    <a:pt x="49" y="0"/>
                  </a:lnTo>
                  <a:close/>
                  <a:moveTo>
                    <a:pt x="1830" y="0"/>
                  </a:moveTo>
                  <a:lnTo>
                    <a:pt x="2523" y="0"/>
                  </a:lnTo>
                  <a:lnTo>
                    <a:pt x="2498" y="14"/>
                  </a:lnTo>
                  <a:lnTo>
                    <a:pt x="2444" y="53"/>
                  </a:lnTo>
                  <a:lnTo>
                    <a:pt x="1826" y="53"/>
                  </a:lnTo>
                  <a:lnTo>
                    <a:pt x="1830" y="0"/>
                  </a:lnTo>
                  <a:close/>
                  <a:moveTo>
                    <a:pt x="3489" y="0"/>
                  </a:moveTo>
                  <a:lnTo>
                    <a:pt x="4344" y="0"/>
                  </a:lnTo>
                  <a:lnTo>
                    <a:pt x="4348" y="6"/>
                  </a:lnTo>
                  <a:lnTo>
                    <a:pt x="4366" y="53"/>
                  </a:lnTo>
                  <a:lnTo>
                    <a:pt x="3500" y="53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e87d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3285360" y="3062160"/>
              <a:ext cx="1690560" cy="19080"/>
            </a:xfrm>
            <a:custGeom>
              <a:avLst/>
              <a:gdLst/>
              <a:ahLst/>
              <a:rect l="l" t="t" r="r" b="b"/>
              <a:pathLst>
                <a:path w="4402" h="54">
                  <a:moveTo>
                    <a:pt x="49" y="0"/>
                  </a:moveTo>
                  <a:lnTo>
                    <a:pt x="1806" y="0"/>
                  </a:lnTo>
                  <a:lnTo>
                    <a:pt x="1799" y="54"/>
                  </a:lnTo>
                  <a:lnTo>
                    <a:pt x="874" y="54"/>
                  </a:lnTo>
                  <a:lnTo>
                    <a:pt x="871" y="28"/>
                  </a:lnTo>
                  <a:lnTo>
                    <a:pt x="767" y="54"/>
                  </a:lnTo>
                  <a:lnTo>
                    <a:pt x="0" y="54"/>
                  </a:lnTo>
                  <a:lnTo>
                    <a:pt x="42" y="8"/>
                  </a:lnTo>
                  <a:lnTo>
                    <a:pt x="49" y="0"/>
                  </a:lnTo>
                  <a:close/>
                  <a:moveTo>
                    <a:pt x="1853" y="0"/>
                  </a:moveTo>
                  <a:lnTo>
                    <a:pt x="2505" y="0"/>
                  </a:lnTo>
                  <a:lnTo>
                    <a:pt x="2465" y="28"/>
                  </a:lnTo>
                  <a:lnTo>
                    <a:pt x="2448" y="37"/>
                  </a:lnTo>
                  <a:lnTo>
                    <a:pt x="2436" y="37"/>
                  </a:lnTo>
                  <a:lnTo>
                    <a:pt x="2430" y="54"/>
                  </a:lnTo>
                  <a:lnTo>
                    <a:pt x="1848" y="54"/>
                  </a:lnTo>
                  <a:lnTo>
                    <a:pt x="1853" y="0"/>
                  </a:lnTo>
                  <a:close/>
                  <a:moveTo>
                    <a:pt x="3520" y="0"/>
                  </a:moveTo>
                  <a:lnTo>
                    <a:pt x="4381" y="0"/>
                  </a:lnTo>
                  <a:lnTo>
                    <a:pt x="4402" y="54"/>
                  </a:lnTo>
                  <a:lnTo>
                    <a:pt x="3529" y="54"/>
                  </a:lnTo>
                  <a:lnTo>
                    <a:pt x="3520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3275640" y="3071160"/>
              <a:ext cx="1703880" cy="19080"/>
            </a:xfrm>
            <a:custGeom>
              <a:avLst/>
              <a:gdLst/>
              <a:ahLst/>
              <a:rect l="l" t="t" r="r" b="b"/>
              <a:pathLst>
                <a:path w="4436" h="55">
                  <a:moveTo>
                    <a:pt x="49" y="0"/>
                  </a:moveTo>
                  <a:lnTo>
                    <a:pt x="1827" y="0"/>
                  </a:lnTo>
                  <a:lnTo>
                    <a:pt x="1818" y="55"/>
                  </a:lnTo>
                  <a:lnTo>
                    <a:pt x="902" y="55"/>
                  </a:lnTo>
                  <a:lnTo>
                    <a:pt x="895" y="2"/>
                  </a:lnTo>
                  <a:lnTo>
                    <a:pt x="681" y="55"/>
                  </a:lnTo>
                  <a:lnTo>
                    <a:pt x="0" y="55"/>
                  </a:lnTo>
                  <a:lnTo>
                    <a:pt x="49" y="0"/>
                  </a:lnTo>
                  <a:close/>
                  <a:moveTo>
                    <a:pt x="1875" y="0"/>
                  </a:moveTo>
                  <a:lnTo>
                    <a:pt x="2493" y="0"/>
                  </a:lnTo>
                  <a:lnTo>
                    <a:pt x="2489" y="2"/>
                  </a:lnTo>
                  <a:lnTo>
                    <a:pt x="2472" y="11"/>
                  </a:lnTo>
                  <a:lnTo>
                    <a:pt x="2460" y="11"/>
                  </a:lnTo>
                  <a:lnTo>
                    <a:pt x="2453" y="32"/>
                  </a:lnTo>
                  <a:lnTo>
                    <a:pt x="2434" y="55"/>
                  </a:lnTo>
                  <a:lnTo>
                    <a:pt x="1874" y="55"/>
                  </a:lnTo>
                  <a:lnTo>
                    <a:pt x="1872" y="30"/>
                  </a:lnTo>
                  <a:lnTo>
                    <a:pt x="1875" y="0"/>
                  </a:lnTo>
                  <a:close/>
                  <a:moveTo>
                    <a:pt x="3549" y="0"/>
                  </a:moveTo>
                  <a:lnTo>
                    <a:pt x="4415" y="0"/>
                  </a:lnTo>
                  <a:lnTo>
                    <a:pt x="4434" y="50"/>
                  </a:lnTo>
                  <a:lnTo>
                    <a:pt x="4436" y="55"/>
                  </a:lnTo>
                  <a:lnTo>
                    <a:pt x="3558" y="55"/>
                  </a:lnTo>
                  <a:lnTo>
                    <a:pt x="3549" y="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3267720" y="3081600"/>
              <a:ext cx="1713960" cy="17640"/>
            </a:xfrm>
            <a:custGeom>
              <a:avLst/>
              <a:gdLst/>
              <a:ahLst/>
              <a:rect l="l" t="t" r="r" b="b"/>
              <a:pathLst>
                <a:path w="4464" h="53">
                  <a:moveTo>
                    <a:pt x="47" y="0"/>
                  </a:moveTo>
                  <a:lnTo>
                    <a:pt x="814" y="0"/>
                  </a:lnTo>
                  <a:lnTo>
                    <a:pt x="594" y="53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7" y="0"/>
                  </a:lnTo>
                  <a:close/>
                  <a:moveTo>
                    <a:pt x="921" y="0"/>
                  </a:moveTo>
                  <a:lnTo>
                    <a:pt x="1846" y="0"/>
                  </a:lnTo>
                  <a:lnTo>
                    <a:pt x="1837" y="53"/>
                  </a:lnTo>
                  <a:lnTo>
                    <a:pt x="928" y="53"/>
                  </a:lnTo>
                  <a:lnTo>
                    <a:pt x="921" y="0"/>
                  </a:lnTo>
                  <a:close/>
                  <a:moveTo>
                    <a:pt x="1895" y="0"/>
                  </a:moveTo>
                  <a:lnTo>
                    <a:pt x="2477" y="0"/>
                  </a:lnTo>
                  <a:lnTo>
                    <a:pt x="2476" y="4"/>
                  </a:lnTo>
                  <a:lnTo>
                    <a:pt x="2438" y="49"/>
                  </a:lnTo>
                  <a:lnTo>
                    <a:pt x="2435" y="53"/>
                  </a:lnTo>
                  <a:lnTo>
                    <a:pt x="1899" y="53"/>
                  </a:lnTo>
                  <a:lnTo>
                    <a:pt x="1895" y="2"/>
                  </a:lnTo>
                  <a:lnTo>
                    <a:pt x="1895" y="0"/>
                  </a:lnTo>
                  <a:close/>
                  <a:moveTo>
                    <a:pt x="3576" y="0"/>
                  </a:moveTo>
                  <a:lnTo>
                    <a:pt x="4449" y="0"/>
                  </a:lnTo>
                  <a:lnTo>
                    <a:pt x="4457" y="22"/>
                  </a:lnTo>
                  <a:lnTo>
                    <a:pt x="4464" y="53"/>
                  </a:lnTo>
                  <a:lnTo>
                    <a:pt x="3586" y="53"/>
                  </a:lnTo>
                  <a:lnTo>
                    <a:pt x="3585" y="49"/>
                  </a:lnTo>
                  <a:lnTo>
                    <a:pt x="3576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3262320" y="3090240"/>
              <a:ext cx="1723680" cy="19440"/>
            </a:xfrm>
            <a:custGeom>
              <a:avLst/>
              <a:gdLst/>
              <a:ahLst/>
              <a:rect l="l" t="t" r="r" b="b"/>
              <a:pathLst>
                <a:path w="4485" h="53">
                  <a:moveTo>
                    <a:pt x="37" y="0"/>
                  </a:moveTo>
                  <a:lnTo>
                    <a:pt x="718" y="0"/>
                  </a:lnTo>
                  <a:lnTo>
                    <a:pt x="544" y="42"/>
                  </a:lnTo>
                  <a:lnTo>
                    <a:pt x="537" y="50"/>
                  </a:lnTo>
                  <a:lnTo>
                    <a:pt x="535" y="53"/>
                  </a:lnTo>
                  <a:lnTo>
                    <a:pt x="0" y="53"/>
                  </a:lnTo>
                  <a:lnTo>
                    <a:pt x="16" y="22"/>
                  </a:lnTo>
                  <a:lnTo>
                    <a:pt x="37" y="0"/>
                  </a:lnTo>
                  <a:close/>
                  <a:moveTo>
                    <a:pt x="939" y="0"/>
                  </a:moveTo>
                  <a:lnTo>
                    <a:pt x="1855" y="0"/>
                  </a:lnTo>
                  <a:lnTo>
                    <a:pt x="1850" y="35"/>
                  </a:lnTo>
                  <a:lnTo>
                    <a:pt x="1855" y="53"/>
                  </a:lnTo>
                  <a:lnTo>
                    <a:pt x="946" y="53"/>
                  </a:lnTo>
                  <a:lnTo>
                    <a:pt x="939" y="0"/>
                  </a:lnTo>
                  <a:close/>
                  <a:moveTo>
                    <a:pt x="1911" y="0"/>
                  </a:moveTo>
                  <a:lnTo>
                    <a:pt x="2471" y="0"/>
                  </a:lnTo>
                  <a:lnTo>
                    <a:pt x="2452" y="22"/>
                  </a:lnTo>
                  <a:lnTo>
                    <a:pt x="2427" y="53"/>
                  </a:lnTo>
                  <a:lnTo>
                    <a:pt x="1916" y="53"/>
                  </a:lnTo>
                  <a:lnTo>
                    <a:pt x="1911" y="0"/>
                  </a:lnTo>
                  <a:close/>
                  <a:moveTo>
                    <a:pt x="3595" y="0"/>
                  </a:moveTo>
                  <a:lnTo>
                    <a:pt x="4473" y="0"/>
                  </a:lnTo>
                  <a:lnTo>
                    <a:pt x="4485" y="53"/>
                  </a:lnTo>
                  <a:lnTo>
                    <a:pt x="3608" y="53"/>
                  </a:lnTo>
                  <a:lnTo>
                    <a:pt x="3599" y="22"/>
                  </a:lnTo>
                  <a:lnTo>
                    <a:pt x="3595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260520" y="3099240"/>
              <a:ext cx="1726920" cy="19440"/>
            </a:xfrm>
            <a:custGeom>
              <a:avLst/>
              <a:gdLst/>
              <a:ahLst/>
              <a:rect l="l" t="t" r="r" b="b"/>
              <a:pathLst>
                <a:path w="4495" h="55">
                  <a:moveTo>
                    <a:pt x="18" y="0"/>
                  </a:moveTo>
                  <a:lnTo>
                    <a:pt x="612" y="0"/>
                  </a:lnTo>
                  <a:lnTo>
                    <a:pt x="548" y="16"/>
                  </a:lnTo>
                  <a:lnTo>
                    <a:pt x="541" y="24"/>
                  </a:lnTo>
                  <a:lnTo>
                    <a:pt x="522" y="55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18" y="0"/>
                  </a:lnTo>
                  <a:close/>
                  <a:moveTo>
                    <a:pt x="946" y="0"/>
                  </a:moveTo>
                  <a:lnTo>
                    <a:pt x="1855" y="0"/>
                  </a:lnTo>
                  <a:lnTo>
                    <a:pt x="1854" y="9"/>
                  </a:lnTo>
                  <a:lnTo>
                    <a:pt x="1866" y="55"/>
                  </a:lnTo>
                  <a:lnTo>
                    <a:pt x="954" y="55"/>
                  </a:lnTo>
                  <a:lnTo>
                    <a:pt x="946" y="0"/>
                  </a:lnTo>
                  <a:close/>
                  <a:moveTo>
                    <a:pt x="1917" y="0"/>
                  </a:moveTo>
                  <a:lnTo>
                    <a:pt x="2453" y="0"/>
                  </a:lnTo>
                  <a:lnTo>
                    <a:pt x="2410" y="55"/>
                  </a:lnTo>
                  <a:lnTo>
                    <a:pt x="1928" y="55"/>
                  </a:lnTo>
                  <a:lnTo>
                    <a:pt x="1921" y="44"/>
                  </a:lnTo>
                  <a:lnTo>
                    <a:pt x="1917" y="0"/>
                  </a:lnTo>
                  <a:close/>
                  <a:moveTo>
                    <a:pt x="3604" y="0"/>
                  </a:moveTo>
                  <a:lnTo>
                    <a:pt x="4482" y="0"/>
                  </a:lnTo>
                  <a:lnTo>
                    <a:pt x="4495" y="55"/>
                  </a:lnTo>
                  <a:lnTo>
                    <a:pt x="3619" y="55"/>
                  </a:lnTo>
                  <a:lnTo>
                    <a:pt x="3604" y="0"/>
                  </a:lnTo>
                  <a:close/>
                </a:path>
              </a:pathLst>
            </a:custGeom>
            <a:solidFill>
              <a:srgbClr val="e98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260520" y="3110040"/>
              <a:ext cx="1728720" cy="19080"/>
            </a:xfrm>
            <a:custGeom>
              <a:avLst/>
              <a:gdLst/>
              <a:ahLst/>
              <a:rect l="l" t="t" r="r" b="b"/>
              <a:pathLst>
                <a:path w="4498" h="55">
                  <a:moveTo>
                    <a:pt x="4" y="0"/>
                  </a:moveTo>
                  <a:lnTo>
                    <a:pt x="539" y="0"/>
                  </a:lnTo>
                  <a:lnTo>
                    <a:pt x="521" y="29"/>
                  </a:lnTo>
                  <a:lnTo>
                    <a:pt x="490" y="5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9"/>
                  </a:lnTo>
                  <a:lnTo>
                    <a:pt x="4" y="0"/>
                  </a:lnTo>
                  <a:close/>
                  <a:moveTo>
                    <a:pt x="950" y="0"/>
                  </a:moveTo>
                  <a:lnTo>
                    <a:pt x="1859" y="0"/>
                  </a:lnTo>
                  <a:lnTo>
                    <a:pt x="1872" y="55"/>
                  </a:lnTo>
                  <a:lnTo>
                    <a:pt x="958" y="55"/>
                  </a:lnTo>
                  <a:lnTo>
                    <a:pt x="950" y="0"/>
                  </a:lnTo>
                  <a:close/>
                  <a:moveTo>
                    <a:pt x="1920" y="0"/>
                  </a:moveTo>
                  <a:lnTo>
                    <a:pt x="2431" y="0"/>
                  </a:lnTo>
                  <a:lnTo>
                    <a:pt x="2388" y="55"/>
                  </a:lnTo>
                  <a:lnTo>
                    <a:pt x="1945" y="55"/>
                  </a:lnTo>
                  <a:lnTo>
                    <a:pt x="1921" y="17"/>
                  </a:lnTo>
                  <a:lnTo>
                    <a:pt x="1920" y="0"/>
                  </a:lnTo>
                  <a:close/>
                  <a:moveTo>
                    <a:pt x="3612" y="0"/>
                  </a:moveTo>
                  <a:lnTo>
                    <a:pt x="4489" y="0"/>
                  </a:lnTo>
                  <a:lnTo>
                    <a:pt x="4495" y="29"/>
                  </a:lnTo>
                  <a:lnTo>
                    <a:pt x="4498" y="55"/>
                  </a:lnTo>
                  <a:lnTo>
                    <a:pt x="3627" y="55"/>
                  </a:lnTo>
                  <a:lnTo>
                    <a:pt x="3625" y="49"/>
                  </a:lnTo>
                  <a:lnTo>
                    <a:pt x="3612" y="0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6" name=""/>
            <p:cNvGrpSpPr/>
            <p:nvPr/>
          </p:nvGrpSpPr>
          <p:grpSpPr>
            <a:xfrm>
              <a:off x="2989440" y="1472400"/>
              <a:ext cx="2881440" cy="3632400"/>
              <a:chOff x="2989440" y="1472400"/>
              <a:chExt cx="2881440" cy="3632400"/>
            </a:xfrm>
          </p:grpSpPr>
          <p:sp>
            <p:nvSpPr>
              <p:cNvPr id="5147" name=""/>
              <p:cNvSpPr/>
              <p:nvPr/>
            </p:nvSpPr>
            <p:spPr>
              <a:xfrm>
                <a:off x="3260160" y="3118680"/>
                <a:ext cx="1728720" cy="19080"/>
              </a:xfrm>
              <a:custGeom>
                <a:avLst/>
                <a:gdLst/>
                <a:ahLst/>
                <a:rect l="l" t="t" r="r" b="b"/>
                <a:pathLst>
                  <a:path w="4501" h="53">
                    <a:moveTo>
                      <a:pt x="0" y="0"/>
                    </a:moveTo>
                    <a:lnTo>
                      <a:pt x="522" y="0"/>
                    </a:lnTo>
                    <a:lnTo>
                      <a:pt x="521" y="1"/>
                    </a:lnTo>
                    <a:lnTo>
                      <a:pt x="460" y="53"/>
                    </a:lnTo>
                    <a:lnTo>
                      <a:pt x="14" y="53"/>
                    </a:lnTo>
                    <a:lnTo>
                      <a:pt x="8" y="4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6" y="0"/>
                    </a:lnTo>
                    <a:lnTo>
                      <a:pt x="1877" y="48"/>
                    </a:lnTo>
                    <a:lnTo>
                      <a:pt x="1879" y="53"/>
                    </a:lnTo>
                    <a:lnTo>
                      <a:pt x="962" y="53"/>
                    </a:lnTo>
                    <a:lnTo>
                      <a:pt x="954" y="0"/>
                    </a:lnTo>
                    <a:close/>
                    <a:moveTo>
                      <a:pt x="1928" y="0"/>
                    </a:moveTo>
                    <a:lnTo>
                      <a:pt x="2410" y="0"/>
                    </a:lnTo>
                    <a:lnTo>
                      <a:pt x="2377" y="40"/>
                    </a:lnTo>
                    <a:lnTo>
                      <a:pt x="2359" y="53"/>
                    </a:lnTo>
                    <a:lnTo>
                      <a:pt x="1952" y="53"/>
                    </a:lnTo>
                    <a:lnTo>
                      <a:pt x="1959" y="44"/>
                    </a:lnTo>
                    <a:lnTo>
                      <a:pt x="1953" y="40"/>
                    </a:lnTo>
                    <a:lnTo>
                      <a:pt x="1928" y="0"/>
                    </a:lnTo>
                    <a:close/>
                    <a:moveTo>
                      <a:pt x="3619" y="0"/>
                    </a:moveTo>
                    <a:lnTo>
                      <a:pt x="4495" y="0"/>
                    </a:lnTo>
                    <a:lnTo>
                      <a:pt x="4495" y="1"/>
                    </a:lnTo>
                    <a:lnTo>
                      <a:pt x="4501" y="53"/>
                    </a:lnTo>
                    <a:lnTo>
                      <a:pt x="3630" y="53"/>
                    </a:lnTo>
                    <a:lnTo>
                      <a:pt x="3625" y="21"/>
                    </a:lnTo>
                    <a:lnTo>
                      <a:pt x="3619" y="0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261960" y="3129120"/>
                <a:ext cx="1729080" cy="17640"/>
              </a:xfrm>
              <a:custGeom>
                <a:avLst/>
                <a:gdLst/>
                <a:ahLst/>
                <a:rect l="l" t="t" r="r" b="b"/>
                <a:pathLst>
                  <a:path w="4500" h="54">
                    <a:moveTo>
                      <a:pt x="0" y="0"/>
                    </a:moveTo>
                    <a:lnTo>
                      <a:pt x="486" y="0"/>
                    </a:lnTo>
                    <a:lnTo>
                      <a:pt x="430" y="48"/>
                    </a:lnTo>
                    <a:lnTo>
                      <a:pt x="417" y="54"/>
                    </a:lnTo>
                    <a:lnTo>
                      <a:pt x="19" y="54"/>
                    </a:lnTo>
                    <a:lnTo>
                      <a:pt x="16" y="41"/>
                    </a:lnTo>
                    <a:lnTo>
                      <a:pt x="4" y="13"/>
                    </a:lnTo>
                    <a:lnTo>
                      <a:pt x="0" y="0"/>
                    </a:lnTo>
                    <a:close/>
                    <a:moveTo>
                      <a:pt x="954" y="0"/>
                    </a:moveTo>
                    <a:lnTo>
                      <a:pt x="1868" y="0"/>
                    </a:lnTo>
                    <a:lnTo>
                      <a:pt x="1873" y="21"/>
                    </a:lnTo>
                    <a:lnTo>
                      <a:pt x="1886" y="54"/>
                    </a:lnTo>
                    <a:lnTo>
                      <a:pt x="962" y="54"/>
                    </a:lnTo>
                    <a:lnTo>
                      <a:pt x="954" y="0"/>
                    </a:lnTo>
                    <a:close/>
                    <a:moveTo>
                      <a:pt x="1941" y="0"/>
                    </a:moveTo>
                    <a:lnTo>
                      <a:pt x="2384" y="0"/>
                    </a:lnTo>
                    <a:lnTo>
                      <a:pt x="2373" y="13"/>
                    </a:lnTo>
                    <a:lnTo>
                      <a:pt x="2321" y="54"/>
                    </a:lnTo>
                    <a:lnTo>
                      <a:pt x="1937" y="54"/>
                    </a:lnTo>
                    <a:lnTo>
                      <a:pt x="1937" y="43"/>
                    </a:lnTo>
                    <a:lnTo>
                      <a:pt x="1955" y="17"/>
                    </a:lnTo>
                    <a:lnTo>
                      <a:pt x="1949" y="13"/>
                    </a:lnTo>
                    <a:lnTo>
                      <a:pt x="1941" y="0"/>
                    </a:lnTo>
                    <a:close/>
                    <a:moveTo>
                      <a:pt x="3623" y="0"/>
                    </a:moveTo>
                    <a:lnTo>
                      <a:pt x="4494" y="0"/>
                    </a:lnTo>
                    <a:lnTo>
                      <a:pt x="4500" y="54"/>
                    </a:lnTo>
                    <a:lnTo>
                      <a:pt x="3630" y="54"/>
                    </a:lnTo>
                    <a:lnTo>
                      <a:pt x="3629" y="51"/>
                    </a:lnTo>
                    <a:lnTo>
                      <a:pt x="3623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265920" y="3137760"/>
                <a:ext cx="1725120" cy="19440"/>
              </a:xfrm>
              <a:custGeom>
                <a:avLst/>
                <a:gdLst/>
                <a:ahLst/>
                <a:rect l="l" t="t" r="r" b="b"/>
                <a:pathLst>
                  <a:path w="4491" h="55">
                    <a:moveTo>
                      <a:pt x="0" y="0"/>
                    </a:moveTo>
                    <a:lnTo>
                      <a:pt x="446" y="0"/>
                    </a:lnTo>
                    <a:lnTo>
                      <a:pt x="420" y="22"/>
                    </a:lnTo>
                    <a:lnTo>
                      <a:pt x="334" y="55"/>
                    </a:lnTo>
                    <a:lnTo>
                      <a:pt x="16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948" y="0"/>
                    </a:moveTo>
                    <a:lnTo>
                      <a:pt x="1865" y="0"/>
                    </a:lnTo>
                    <a:lnTo>
                      <a:pt x="1885" y="55"/>
                    </a:lnTo>
                    <a:lnTo>
                      <a:pt x="953" y="55"/>
                    </a:lnTo>
                    <a:lnTo>
                      <a:pt x="953" y="34"/>
                    </a:lnTo>
                    <a:lnTo>
                      <a:pt x="948" y="0"/>
                    </a:lnTo>
                    <a:close/>
                    <a:moveTo>
                      <a:pt x="1938" y="0"/>
                    </a:moveTo>
                    <a:lnTo>
                      <a:pt x="2345" y="0"/>
                    </a:lnTo>
                    <a:lnTo>
                      <a:pt x="2276" y="54"/>
                    </a:lnTo>
                    <a:lnTo>
                      <a:pt x="2275" y="55"/>
                    </a:lnTo>
                    <a:lnTo>
                      <a:pt x="1927" y="55"/>
                    </a:lnTo>
                    <a:lnTo>
                      <a:pt x="1927" y="17"/>
                    </a:lnTo>
                    <a:lnTo>
                      <a:pt x="1938" y="0"/>
                    </a:lnTo>
                    <a:close/>
                    <a:moveTo>
                      <a:pt x="3616" y="0"/>
                    </a:moveTo>
                    <a:lnTo>
                      <a:pt x="4487" y="0"/>
                    </a:lnTo>
                    <a:lnTo>
                      <a:pt x="4491" y="34"/>
                    </a:lnTo>
                    <a:lnTo>
                      <a:pt x="4491" y="55"/>
                    </a:lnTo>
                    <a:lnTo>
                      <a:pt x="3631" y="55"/>
                    </a:lnTo>
                    <a:lnTo>
                      <a:pt x="3619" y="25"/>
                    </a:lnTo>
                    <a:lnTo>
                      <a:pt x="3616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269880" y="3146760"/>
                <a:ext cx="1721160" cy="19440"/>
              </a:xfrm>
              <a:custGeom>
                <a:avLst/>
                <a:gdLst/>
                <a:ahLst/>
                <a:rect l="l" t="t" r="r" b="b"/>
                <a:pathLst>
                  <a:path w="4482" h="53">
                    <a:moveTo>
                      <a:pt x="0" y="0"/>
                    </a:moveTo>
                    <a:lnTo>
                      <a:pt x="398" y="0"/>
                    </a:lnTo>
                    <a:lnTo>
                      <a:pt x="305" y="34"/>
                    </a:lnTo>
                    <a:lnTo>
                      <a:pt x="265" y="46"/>
                    </a:lnTo>
                    <a:lnTo>
                      <a:pt x="246" y="46"/>
                    </a:lnTo>
                    <a:lnTo>
                      <a:pt x="237" y="53"/>
                    </a:lnTo>
                    <a:lnTo>
                      <a:pt x="19" y="53"/>
                    </a:lnTo>
                    <a:lnTo>
                      <a:pt x="13" y="46"/>
                    </a:lnTo>
                    <a:lnTo>
                      <a:pt x="0" y="0"/>
                    </a:lnTo>
                    <a:close/>
                    <a:moveTo>
                      <a:pt x="943" y="0"/>
                    </a:moveTo>
                    <a:lnTo>
                      <a:pt x="1867" y="0"/>
                    </a:lnTo>
                    <a:lnTo>
                      <a:pt x="1887" y="53"/>
                    </a:lnTo>
                    <a:lnTo>
                      <a:pt x="942" y="53"/>
                    </a:lnTo>
                    <a:lnTo>
                      <a:pt x="944" y="46"/>
                    </a:lnTo>
                    <a:lnTo>
                      <a:pt x="944" y="6"/>
                    </a:lnTo>
                    <a:lnTo>
                      <a:pt x="943" y="0"/>
                    </a:lnTo>
                    <a:close/>
                    <a:moveTo>
                      <a:pt x="1918" y="0"/>
                    </a:moveTo>
                    <a:lnTo>
                      <a:pt x="2302" y="0"/>
                    </a:lnTo>
                    <a:lnTo>
                      <a:pt x="2267" y="26"/>
                    </a:lnTo>
                    <a:lnTo>
                      <a:pt x="2255" y="30"/>
                    </a:lnTo>
                    <a:lnTo>
                      <a:pt x="2222" y="53"/>
                    </a:lnTo>
                    <a:lnTo>
                      <a:pt x="1949" y="53"/>
                    </a:lnTo>
                    <a:lnTo>
                      <a:pt x="1928" y="46"/>
                    </a:lnTo>
                    <a:lnTo>
                      <a:pt x="1918" y="36"/>
                    </a:lnTo>
                    <a:lnTo>
                      <a:pt x="1918" y="0"/>
                    </a:lnTo>
                    <a:close/>
                    <a:moveTo>
                      <a:pt x="3611" y="0"/>
                    </a:moveTo>
                    <a:lnTo>
                      <a:pt x="4481" y="0"/>
                    </a:lnTo>
                    <a:lnTo>
                      <a:pt x="4482" y="6"/>
                    </a:lnTo>
                    <a:lnTo>
                      <a:pt x="4482" y="53"/>
                    </a:lnTo>
                    <a:lnTo>
                      <a:pt x="3630" y="53"/>
                    </a:lnTo>
                    <a:lnTo>
                      <a:pt x="3630" y="46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271680" y="3157560"/>
                <a:ext cx="1719360" cy="19080"/>
              </a:xfrm>
              <a:custGeom>
                <a:avLst/>
                <a:gdLst/>
                <a:ahLst/>
                <a:rect l="l" t="t" r="r" b="b"/>
                <a:pathLst>
                  <a:path w="4475" h="54">
                    <a:moveTo>
                      <a:pt x="0" y="0"/>
                    </a:moveTo>
                    <a:lnTo>
                      <a:pt x="318" y="0"/>
                    </a:lnTo>
                    <a:lnTo>
                      <a:pt x="298" y="7"/>
                    </a:lnTo>
                    <a:lnTo>
                      <a:pt x="258" y="19"/>
                    </a:lnTo>
                    <a:lnTo>
                      <a:pt x="239" y="19"/>
                    </a:lnTo>
                    <a:lnTo>
                      <a:pt x="223" y="35"/>
                    </a:lnTo>
                    <a:lnTo>
                      <a:pt x="200" y="54"/>
                    </a:lnTo>
                    <a:lnTo>
                      <a:pt x="49" y="54"/>
                    </a:lnTo>
                    <a:lnTo>
                      <a:pt x="17" y="35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  <a:moveTo>
                      <a:pt x="937" y="0"/>
                    </a:moveTo>
                    <a:lnTo>
                      <a:pt x="1869" y="0"/>
                    </a:lnTo>
                    <a:lnTo>
                      <a:pt x="1889" y="54"/>
                    </a:lnTo>
                    <a:lnTo>
                      <a:pt x="931" y="54"/>
                    </a:lnTo>
                    <a:lnTo>
                      <a:pt x="937" y="19"/>
                    </a:lnTo>
                    <a:lnTo>
                      <a:pt x="937" y="0"/>
                    </a:lnTo>
                    <a:close/>
                    <a:moveTo>
                      <a:pt x="1911" y="0"/>
                    </a:moveTo>
                    <a:lnTo>
                      <a:pt x="2259" y="0"/>
                    </a:lnTo>
                    <a:lnTo>
                      <a:pt x="2248" y="3"/>
                    </a:lnTo>
                    <a:lnTo>
                      <a:pt x="2203" y="35"/>
                    </a:lnTo>
                    <a:lnTo>
                      <a:pt x="2162" y="54"/>
                    </a:lnTo>
                    <a:lnTo>
                      <a:pt x="2034" y="54"/>
                    </a:lnTo>
                    <a:lnTo>
                      <a:pt x="2024" y="37"/>
                    </a:lnTo>
                    <a:lnTo>
                      <a:pt x="1948" y="28"/>
                    </a:lnTo>
                    <a:lnTo>
                      <a:pt x="1921" y="19"/>
                    </a:lnTo>
                    <a:lnTo>
                      <a:pt x="1911" y="9"/>
                    </a:lnTo>
                    <a:lnTo>
                      <a:pt x="1911" y="0"/>
                    </a:lnTo>
                    <a:close/>
                    <a:moveTo>
                      <a:pt x="3615" y="0"/>
                    </a:moveTo>
                    <a:lnTo>
                      <a:pt x="4475" y="0"/>
                    </a:lnTo>
                    <a:lnTo>
                      <a:pt x="4475" y="48"/>
                    </a:lnTo>
                    <a:lnTo>
                      <a:pt x="4474" y="54"/>
                    </a:lnTo>
                    <a:lnTo>
                      <a:pt x="3590" y="54"/>
                    </a:lnTo>
                    <a:lnTo>
                      <a:pt x="3603" y="37"/>
                    </a:lnTo>
                    <a:lnTo>
                      <a:pt x="3623" y="28"/>
                    </a:lnTo>
                    <a:lnTo>
                      <a:pt x="3623" y="19"/>
                    </a:lnTo>
                    <a:lnTo>
                      <a:pt x="3615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5640" y="3166200"/>
                <a:ext cx="1715760" cy="19080"/>
              </a:xfrm>
              <a:custGeom>
                <a:avLst/>
                <a:gdLst/>
                <a:ahLst/>
                <a:rect l="l" t="t" r="r" b="b"/>
                <a:pathLst>
                  <a:path w="4463" h="55">
                    <a:moveTo>
                      <a:pt x="0" y="0"/>
                    </a:moveTo>
                    <a:lnTo>
                      <a:pt x="218" y="0"/>
                    </a:lnTo>
                    <a:lnTo>
                      <a:pt x="211" y="9"/>
                    </a:lnTo>
                    <a:lnTo>
                      <a:pt x="160" y="52"/>
                    </a:lnTo>
                    <a:lnTo>
                      <a:pt x="112" y="52"/>
                    </a:lnTo>
                    <a:lnTo>
                      <a:pt x="81" y="40"/>
                    </a:lnTo>
                    <a:lnTo>
                      <a:pt x="72" y="40"/>
                    </a:lnTo>
                    <a:lnTo>
                      <a:pt x="45" y="33"/>
                    </a:lnTo>
                    <a:lnTo>
                      <a:pt x="5" y="9"/>
                    </a:lnTo>
                    <a:lnTo>
                      <a:pt x="0" y="0"/>
                    </a:lnTo>
                    <a:close/>
                    <a:moveTo>
                      <a:pt x="923" y="0"/>
                    </a:moveTo>
                    <a:lnTo>
                      <a:pt x="1868" y="0"/>
                    </a:lnTo>
                    <a:lnTo>
                      <a:pt x="1879" y="33"/>
                    </a:lnTo>
                    <a:lnTo>
                      <a:pt x="1890" y="55"/>
                    </a:lnTo>
                    <a:lnTo>
                      <a:pt x="915" y="55"/>
                    </a:lnTo>
                    <a:lnTo>
                      <a:pt x="923" y="0"/>
                    </a:lnTo>
                    <a:close/>
                    <a:moveTo>
                      <a:pt x="1930" y="0"/>
                    </a:moveTo>
                    <a:lnTo>
                      <a:pt x="2203" y="0"/>
                    </a:lnTo>
                    <a:lnTo>
                      <a:pt x="2191" y="9"/>
                    </a:lnTo>
                    <a:lnTo>
                      <a:pt x="2124" y="40"/>
                    </a:lnTo>
                    <a:lnTo>
                      <a:pt x="2084" y="52"/>
                    </a:lnTo>
                    <a:lnTo>
                      <a:pt x="2025" y="33"/>
                    </a:lnTo>
                    <a:lnTo>
                      <a:pt x="2012" y="11"/>
                    </a:lnTo>
                    <a:lnTo>
                      <a:pt x="1936" y="2"/>
                    </a:lnTo>
                    <a:lnTo>
                      <a:pt x="1930" y="0"/>
                    </a:lnTo>
                    <a:close/>
                    <a:moveTo>
                      <a:pt x="3611" y="0"/>
                    </a:moveTo>
                    <a:lnTo>
                      <a:pt x="4463" y="0"/>
                    </a:lnTo>
                    <a:lnTo>
                      <a:pt x="4463" y="22"/>
                    </a:lnTo>
                    <a:lnTo>
                      <a:pt x="4458" y="55"/>
                    </a:lnTo>
                    <a:lnTo>
                      <a:pt x="3558" y="55"/>
                    </a:lnTo>
                    <a:lnTo>
                      <a:pt x="3591" y="11"/>
                    </a:lnTo>
                    <a:lnTo>
                      <a:pt x="3611" y="2"/>
                    </a:lnTo>
                    <a:lnTo>
                      <a:pt x="3611" y="0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290760" y="3176640"/>
                <a:ext cx="1700280" cy="18000"/>
              </a:xfrm>
              <a:custGeom>
                <a:avLst/>
                <a:gdLst/>
                <a:ahLst/>
                <a:rect l="l" t="t" r="r" b="b"/>
                <a:pathLst>
                  <a:path w="4425" h="53">
                    <a:moveTo>
                      <a:pt x="0" y="0"/>
                    </a:moveTo>
                    <a:lnTo>
                      <a:pt x="151" y="0"/>
                    </a:lnTo>
                    <a:lnTo>
                      <a:pt x="123" y="24"/>
                    </a:lnTo>
                    <a:lnTo>
                      <a:pt x="75" y="24"/>
                    </a:lnTo>
                    <a:lnTo>
                      <a:pt x="44" y="12"/>
                    </a:lnTo>
                    <a:lnTo>
                      <a:pt x="35" y="12"/>
                    </a:lnTo>
                    <a:lnTo>
                      <a:pt x="8" y="5"/>
                    </a:lnTo>
                    <a:lnTo>
                      <a:pt x="0" y="0"/>
                    </a:lnTo>
                    <a:close/>
                    <a:moveTo>
                      <a:pt x="882" y="0"/>
                    </a:moveTo>
                    <a:lnTo>
                      <a:pt x="1840" y="0"/>
                    </a:lnTo>
                    <a:lnTo>
                      <a:pt x="1842" y="5"/>
                    </a:lnTo>
                    <a:lnTo>
                      <a:pt x="1867" y="53"/>
                    </a:lnTo>
                    <a:lnTo>
                      <a:pt x="875" y="53"/>
                    </a:lnTo>
                    <a:lnTo>
                      <a:pt x="875" y="40"/>
                    </a:lnTo>
                    <a:lnTo>
                      <a:pt x="882" y="0"/>
                    </a:lnTo>
                    <a:close/>
                    <a:moveTo>
                      <a:pt x="1985" y="0"/>
                    </a:moveTo>
                    <a:lnTo>
                      <a:pt x="2113" y="0"/>
                    </a:lnTo>
                    <a:lnTo>
                      <a:pt x="2087" y="12"/>
                    </a:lnTo>
                    <a:lnTo>
                      <a:pt x="2047" y="24"/>
                    </a:lnTo>
                    <a:lnTo>
                      <a:pt x="1988" y="5"/>
                    </a:lnTo>
                    <a:lnTo>
                      <a:pt x="1985" y="0"/>
                    </a:lnTo>
                    <a:close/>
                    <a:moveTo>
                      <a:pt x="3541" y="0"/>
                    </a:moveTo>
                    <a:lnTo>
                      <a:pt x="4425" y="0"/>
                    </a:lnTo>
                    <a:lnTo>
                      <a:pt x="4416" y="53"/>
                    </a:lnTo>
                    <a:lnTo>
                      <a:pt x="3496" y="53"/>
                    </a:lnTo>
                    <a:lnTo>
                      <a:pt x="3517" y="32"/>
                    </a:lnTo>
                    <a:lnTo>
                      <a:pt x="3541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627000" y="3185640"/>
                <a:ext cx="1361880" cy="19440"/>
              </a:xfrm>
              <a:custGeom>
                <a:avLst/>
                <a:gdLst/>
                <a:ahLst/>
                <a:rect l="l" t="t" r="r" b="b"/>
                <a:pathLst>
                  <a:path w="3547" h="53">
                    <a:moveTo>
                      <a:pt x="4" y="0"/>
                    </a:moveTo>
                    <a:lnTo>
                      <a:pt x="979" y="0"/>
                    </a:lnTo>
                    <a:lnTo>
                      <a:pt x="1006" y="53"/>
                    </a:lnTo>
                    <a:lnTo>
                      <a:pt x="0" y="53"/>
                    </a:lnTo>
                    <a:lnTo>
                      <a:pt x="1" y="13"/>
                    </a:lnTo>
                    <a:lnTo>
                      <a:pt x="4" y="0"/>
                    </a:lnTo>
                    <a:close/>
                    <a:moveTo>
                      <a:pt x="2647" y="0"/>
                    </a:moveTo>
                    <a:lnTo>
                      <a:pt x="3547" y="0"/>
                    </a:lnTo>
                    <a:lnTo>
                      <a:pt x="3542" y="27"/>
                    </a:lnTo>
                    <a:lnTo>
                      <a:pt x="3531" y="53"/>
                    </a:lnTo>
                    <a:lnTo>
                      <a:pt x="2596" y="53"/>
                    </a:lnTo>
                    <a:lnTo>
                      <a:pt x="2643" y="5"/>
                    </a:lnTo>
                    <a:lnTo>
                      <a:pt x="2647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624840" y="319500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3" h="55">
                    <a:moveTo>
                      <a:pt x="2" y="0"/>
                    </a:moveTo>
                    <a:lnTo>
                      <a:pt x="994" y="0"/>
                    </a:lnTo>
                    <a:lnTo>
                      <a:pt x="1021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623" y="0"/>
                    </a:moveTo>
                    <a:lnTo>
                      <a:pt x="3543" y="0"/>
                    </a:lnTo>
                    <a:lnTo>
                      <a:pt x="3543" y="1"/>
                    </a:lnTo>
                    <a:lnTo>
                      <a:pt x="3522" y="55"/>
                    </a:lnTo>
                    <a:lnTo>
                      <a:pt x="2572" y="55"/>
                    </a:lnTo>
                    <a:lnTo>
                      <a:pt x="2586" y="38"/>
                    </a:lnTo>
                    <a:lnTo>
                      <a:pt x="2623" y="0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624840" y="3205440"/>
                <a:ext cx="1358280" cy="19080"/>
              </a:xfrm>
              <a:custGeom>
                <a:avLst/>
                <a:gdLst/>
                <a:ahLst/>
                <a:rect l="l" t="t" r="r" b="b"/>
                <a:pathLst>
                  <a:path w="3533" h="55">
                    <a:moveTo>
                      <a:pt x="2" y="0"/>
                    </a:moveTo>
                    <a:lnTo>
                      <a:pt x="1008" y="0"/>
                    </a:lnTo>
                    <a:lnTo>
                      <a:pt x="1036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98" y="0"/>
                    </a:moveTo>
                    <a:lnTo>
                      <a:pt x="3533" y="0"/>
                    </a:lnTo>
                    <a:lnTo>
                      <a:pt x="3514" y="49"/>
                    </a:lnTo>
                    <a:lnTo>
                      <a:pt x="3508" y="55"/>
                    </a:lnTo>
                    <a:lnTo>
                      <a:pt x="2548" y="55"/>
                    </a:lnTo>
                    <a:lnTo>
                      <a:pt x="2587" y="11"/>
                    </a:lnTo>
                    <a:lnTo>
                      <a:pt x="2598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24840" y="3214080"/>
                <a:ext cx="1354320" cy="19440"/>
              </a:xfrm>
              <a:custGeom>
                <a:avLst/>
                <a:gdLst/>
                <a:ahLst/>
                <a:rect l="l" t="t" r="r" b="b"/>
                <a:pathLst>
                  <a:path w="3524" h="53">
                    <a:moveTo>
                      <a:pt x="2" y="0"/>
                    </a:moveTo>
                    <a:lnTo>
                      <a:pt x="1023" y="0"/>
                    </a:lnTo>
                    <a:lnTo>
                      <a:pt x="1042" y="3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74" y="0"/>
                    </a:moveTo>
                    <a:lnTo>
                      <a:pt x="3524" y="0"/>
                    </a:lnTo>
                    <a:lnTo>
                      <a:pt x="3515" y="21"/>
                    </a:lnTo>
                    <a:lnTo>
                      <a:pt x="3496" y="41"/>
                    </a:lnTo>
                    <a:lnTo>
                      <a:pt x="3496" y="50"/>
                    </a:lnTo>
                    <a:lnTo>
                      <a:pt x="3500" y="53"/>
                    </a:lnTo>
                    <a:lnTo>
                      <a:pt x="2524" y="53"/>
                    </a:lnTo>
                    <a:lnTo>
                      <a:pt x="2574" y="0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624840" y="3224520"/>
                <a:ext cx="1352520" cy="18000"/>
              </a:xfrm>
              <a:custGeom>
                <a:avLst/>
                <a:gdLst/>
                <a:ahLst/>
                <a:rect l="l" t="t" r="r" b="b"/>
                <a:pathLst>
                  <a:path w="3520" h="54">
                    <a:moveTo>
                      <a:pt x="2" y="0"/>
                    </a:moveTo>
                    <a:lnTo>
                      <a:pt x="1038" y="0"/>
                    </a:lnTo>
                    <a:lnTo>
                      <a:pt x="1043" y="12"/>
                    </a:lnTo>
                    <a:lnTo>
                      <a:pt x="1055" y="54"/>
                    </a:lnTo>
                    <a:lnTo>
                      <a:pt x="0" y="54"/>
                    </a:lnTo>
                    <a:lnTo>
                      <a:pt x="2" y="0"/>
                    </a:lnTo>
                    <a:close/>
                    <a:moveTo>
                      <a:pt x="2550" y="0"/>
                    </a:moveTo>
                    <a:lnTo>
                      <a:pt x="3510" y="0"/>
                    </a:lnTo>
                    <a:lnTo>
                      <a:pt x="3497" y="14"/>
                    </a:lnTo>
                    <a:lnTo>
                      <a:pt x="3497" y="23"/>
                    </a:lnTo>
                    <a:lnTo>
                      <a:pt x="3509" y="33"/>
                    </a:lnTo>
                    <a:lnTo>
                      <a:pt x="3516" y="51"/>
                    </a:lnTo>
                    <a:lnTo>
                      <a:pt x="3520" y="54"/>
                    </a:lnTo>
                    <a:lnTo>
                      <a:pt x="2501" y="54"/>
                    </a:lnTo>
                    <a:lnTo>
                      <a:pt x="2511" y="43"/>
                    </a:lnTo>
                    <a:lnTo>
                      <a:pt x="2550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624840" y="3233880"/>
                <a:ext cx="1362240" cy="19080"/>
              </a:xfrm>
              <a:custGeom>
                <a:avLst/>
                <a:gdLst/>
                <a:ahLst/>
                <a:rect l="l" t="t" r="r" b="b"/>
                <a:pathLst>
                  <a:path w="3547" h="55">
                    <a:moveTo>
                      <a:pt x="2" y="0"/>
                    </a:moveTo>
                    <a:lnTo>
                      <a:pt x="1048" y="0"/>
                    </a:lnTo>
                    <a:lnTo>
                      <a:pt x="1064" y="55"/>
                    </a:lnTo>
                    <a:lnTo>
                      <a:pt x="0" y="55"/>
                    </a:lnTo>
                    <a:lnTo>
                      <a:pt x="2" y="0"/>
                    </a:lnTo>
                    <a:close/>
                    <a:moveTo>
                      <a:pt x="2526" y="0"/>
                    </a:moveTo>
                    <a:lnTo>
                      <a:pt x="3502" y="0"/>
                    </a:lnTo>
                    <a:lnTo>
                      <a:pt x="3510" y="7"/>
                    </a:lnTo>
                    <a:lnTo>
                      <a:pt x="3517" y="25"/>
                    </a:lnTo>
                    <a:lnTo>
                      <a:pt x="3547" y="55"/>
                    </a:lnTo>
                    <a:lnTo>
                      <a:pt x="3547" y="55"/>
                    </a:lnTo>
                    <a:lnTo>
                      <a:pt x="2478" y="55"/>
                    </a:lnTo>
                    <a:lnTo>
                      <a:pt x="2512" y="17"/>
                    </a:lnTo>
                    <a:lnTo>
                      <a:pt x="2526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623040" y="3242520"/>
                <a:ext cx="1369800" cy="19080"/>
              </a:xfrm>
              <a:custGeom>
                <a:avLst/>
                <a:gdLst/>
                <a:ahLst/>
                <a:rect l="l" t="t" r="r" b="b"/>
                <a:pathLst>
                  <a:path w="3565" h="53">
                    <a:moveTo>
                      <a:pt x="2" y="0"/>
                    </a:moveTo>
                    <a:lnTo>
                      <a:pt x="1057" y="0"/>
                    </a:lnTo>
                    <a:lnTo>
                      <a:pt x="1072" y="53"/>
                    </a:lnTo>
                    <a:lnTo>
                      <a:pt x="0" y="53"/>
                    </a:lnTo>
                    <a:lnTo>
                      <a:pt x="2" y="0"/>
                    </a:lnTo>
                    <a:close/>
                    <a:moveTo>
                      <a:pt x="2503" y="0"/>
                    </a:moveTo>
                    <a:lnTo>
                      <a:pt x="3522" y="0"/>
                    </a:lnTo>
                    <a:lnTo>
                      <a:pt x="3548" y="27"/>
                    </a:lnTo>
                    <a:lnTo>
                      <a:pt x="3565" y="53"/>
                    </a:lnTo>
                    <a:lnTo>
                      <a:pt x="2455" y="53"/>
                    </a:lnTo>
                    <a:lnTo>
                      <a:pt x="2503" y="0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623040" y="3252960"/>
                <a:ext cx="1375200" cy="19440"/>
              </a:xfrm>
              <a:custGeom>
                <a:avLst/>
                <a:gdLst/>
                <a:ahLst/>
                <a:rect l="l" t="t" r="r" b="b"/>
                <a:pathLst>
                  <a:path w="3580" h="54">
                    <a:moveTo>
                      <a:pt x="1" y="0"/>
                    </a:moveTo>
                    <a:lnTo>
                      <a:pt x="1065" y="0"/>
                    </a:lnTo>
                    <a:lnTo>
                      <a:pt x="1073" y="29"/>
                    </a:lnTo>
                    <a:lnTo>
                      <a:pt x="1079" y="54"/>
                    </a:lnTo>
                    <a:lnTo>
                      <a:pt x="1" y="54"/>
                    </a:lnTo>
                    <a:lnTo>
                      <a:pt x="0" y="29"/>
                    </a:lnTo>
                    <a:lnTo>
                      <a:pt x="1" y="0"/>
                    </a:lnTo>
                    <a:close/>
                    <a:moveTo>
                      <a:pt x="2479" y="0"/>
                    </a:moveTo>
                    <a:lnTo>
                      <a:pt x="3548" y="0"/>
                    </a:lnTo>
                    <a:lnTo>
                      <a:pt x="3577" y="48"/>
                    </a:lnTo>
                    <a:lnTo>
                      <a:pt x="3580" y="54"/>
                    </a:lnTo>
                    <a:lnTo>
                      <a:pt x="2431" y="54"/>
                    </a:lnTo>
                    <a:lnTo>
                      <a:pt x="2479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623040" y="3261960"/>
                <a:ext cx="1383120" cy="19440"/>
              </a:xfrm>
              <a:custGeom>
                <a:avLst/>
                <a:gdLst/>
                <a:ahLst/>
                <a:rect l="l" t="t" r="r" b="b"/>
                <a:pathLst>
                  <a:path w="3598" h="55">
                    <a:moveTo>
                      <a:pt x="0" y="0"/>
                    </a:moveTo>
                    <a:lnTo>
                      <a:pt x="1072" y="0"/>
                    </a:lnTo>
                    <a:lnTo>
                      <a:pt x="1073" y="3"/>
                    </a:lnTo>
                    <a:lnTo>
                      <a:pt x="1087" y="55"/>
                    </a:lnTo>
                    <a:lnTo>
                      <a:pt x="3" y="5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2455" y="0"/>
                    </a:moveTo>
                    <a:lnTo>
                      <a:pt x="3565" y="0"/>
                    </a:lnTo>
                    <a:lnTo>
                      <a:pt x="3577" y="22"/>
                    </a:lnTo>
                    <a:lnTo>
                      <a:pt x="3598" y="55"/>
                    </a:lnTo>
                    <a:lnTo>
                      <a:pt x="2407" y="55"/>
                    </a:lnTo>
                    <a:lnTo>
                      <a:pt x="2455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624840" y="3272760"/>
                <a:ext cx="1387080" cy="17640"/>
              </a:xfrm>
              <a:custGeom>
                <a:avLst/>
                <a:gdLst/>
                <a:ahLst/>
                <a:rect l="l" t="t" r="r" b="b"/>
                <a:pathLst>
                  <a:path w="3614" h="53">
                    <a:moveTo>
                      <a:pt x="0" y="0"/>
                    </a:moveTo>
                    <a:lnTo>
                      <a:pt x="1078" y="0"/>
                    </a:lnTo>
                    <a:lnTo>
                      <a:pt x="1093" y="53"/>
                    </a:lnTo>
                    <a:lnTo>
                      <a:pt x="4" y="53"/>
                    </a:lnTo>
                    <a:lnTo>
                      <a:pt x="0" y="0"/>
                    </a:lnTo>
                    <a:close/>
                    <a:moveTo>
                      <a:pt x="2430" y="0"/>
                    </a:moveTo>
                    <a:lnTo>
                      <a:pt x="3579" y="0"/>
                    </a:lnTo>
                    <a:lnTo>
                      <a:pt x="3614" y="53"/>
                    </a:lnTo>
                    <a:lnTo>
                      <a:pt x="2381" y="53"/>
                    </a:lnTo>
                    <a:lnTo>
                      <a:pt x="2430" y="0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3624840" y="3281400"/>
                <a:ext cx="1395000" cy="19080"/>
              </a:xfrm>
              <a:custGeom>
                <a:avLst/>
                <a:gdLst/>
                <a:ahLst/>
                <a:rect l="l" t="t" r="r" b="b"/>
                <a:pathLst>
                  <a:path w="3629" h="53">
                    <a:moveTo>
                      <a:pt x="0" y="0"/>
                    </a:moveTo>
                    <a:lnTo>
                      <a:pt x="1084" y="0"/>
                    </a:lnTo>
                    <a:lnTo>
                      <a:pt x="1098" y="53"/>
                    </a:lnTo>
                    <a:lnTo>
                      <a:pt x="3" y="53"/>
                    </a:lnTo>
                    <a:lnTo>
                      <a:pt x="0" y="0"/>
                    </a:lnTo>
                    <a:close/>
                    <a:moveTo>
                      <a:pt x="2404" y="0"/>
                    </a:moveTo>
                    <a:lnTo>
                      <a:pt x="3595" y="0"/>
                    </a:lnTo>
                    <a:lnTo>
                      <a:pt x="3629" y="53"/>
                    </a:lnTo>
                    <a:lnTo>
                      <a:pt x="2355" y="53"/>
                    </a:lnTo>
                    <a:lnTo>
                      <a:pt x="2404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3624840" y="3290400"/>
                <a:ext cx="1400760" cy="19080"/>
              </a:xfrm>
              <a:custGeom>
                <a:avLst/>
                <a:gdLst/>
                <a:ahLst/>
                <a:rect l="l" t="t" r="r" b="b"/>
                <a:pathLst>
                  <a:path w="3645" h="55">
                    <a:moveTo>
                      <a:pt x="0" y="0"/>
                    </a:moveTo>
                    <a:lnTo>
                      <a:pt x="1089" y="0"/>
                    </a:lnTo>
                    <a:lnTo>
                      <a:pt x="1100" y="37"/>
                    </a:lnTo>
                    <a:lnTo>
                      <a:pt x="1101" y="55"/>
                    </a:lnTo>
                    <a:lnTo>
                      <a:pt x="3" y="55"/>
                    </a:lnTo>
                    <a:lnTo>
                      <a:pt x="2" y="49"/>
                    </a:lnTo>
                    <a:lnTo>
                      <a:pt x="0" y="0"/>
                    </a:lnTo>
                    <a:close/>
                    <a:moveTo>
                      <a:pt x="2377" y="0"/>
                    </a:moveTo>
                    <a:lnTo>
                      <a:pt x="3610" y="0"/>
                    </a:lnTo>
                    <a:lnTo>
                      <a:pt x="3645" y="55"/>
                    </a:lnTo>
                    <a:lnTo>
                      <a:pt x="2329" y="55"/>
                    </a:lnTo>
                    <a:lnTo>
                      <a:pt x="2334" y="49"/>
                    </a:lnTo>
                    <a:lnTo>
                      <a:pt x="2377" y="0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3627000" y="3300840"/>
                <a:ext cx="1404000" cy="17640"/>
              </a:xfrm>
              <a:custGeom>
                <a:avLst/>
                <a:gdLst/>
                <a:ahLst/>
                <a:rect l="l" t="t" r="r" b="b"/>
                <a:pathLst>
                  <a:path w="3659" h="54">
                    <a:moveTo>
                      <a:pt x="0" y="0"/>
                    </a:moveTo>
                    <a:lnTo>
                      <a:pt x="1095" y="0"/>
                    </a:lnTo>
                    <a:lnTo>
                      <a:pt x="1099" y="10"/>
                    </a:lnTo>
                    <a:lnTo>
                      <a:pt x="1101" y="54"/>
                    </a:lnTo>
                    <a:lnTo>
                      <a:pt x="8" y="54"/>
                    </a:lnTo>
                    <a:lnTo>
                      <a:pt x="1" y="22"/>
                    </a:lnTo>
                    <a:lnTo>
                      <a:pt x="0" y="0"/>
                    </a:lnTo>
                    <a:close/>
                    <a:moveTo>
                      <a:pt x="2352" y="0"/>
                    </a:moveTo>
                    <a:lnTo>
                      <a:pt x="3626" y="0"/>
                    </a:lnTo>
                    <a:lnTo>
                      <a:pt x="3651" y="39"/>
                    </a:lnTo>
                    <a:lnTo>
                      <a:pt x="3659" y="54"/>
                    </a:lnTo>
                    <a:lnTo>
                      <a:pt x="2308" y="54"/>
                    </a:lnTo>
                    <a:lnTo>
                      <a:pt x="2333" y="22"/>
                    </a:lnTo>
                    <a:lnTo>
                      <a:pt x="2352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3627000" y="3309480"/>
                <a:ext cx="1411920" cy="19440"/>
              </a:xfrm>
              <a:custGeom>
                <a:avLst/>
                <a:gdLst/>
                <a:ahLst/>
                <a:rect l="l" t="t" r="r" b="b"/>
                <a:pathLst>
                  <a:path w="3673" h="53">
                    <a:moveTo>
                      <a:pt x="0" y="0"/>
                    </a:moveTo>
                    <a:lnTo>
                      <a:pt x="1098" y="0"/>
                    </a:lnTo>
                    <a:lnTo>
                      <a:pt x="1101" y="53"/>
                    </a:lnTo>
                    <a:lnTo>
                      <a:pt x="11" y="53"/>
                    </a:lnTo>
                    <a:lnTo>
                      <a:pt x="0" y="0"/>
                    </a:lnTo>
                    <a:close/>
                    <a:moveTo>
                      <a:pt x="2326" y="0"/>
                    </a:moveTo>
                    <a:lnTo>
                      <a:pt x="3642" y="0"/>
                    </a:lnTo>
                    <a:lnTo>
                      <a:pt x="3649" y="11"/>
                    </a:lnTo>
                    <a:lnTo>
                      <a:pt x="3673" y="53"/>
                    </a:lnTo>
                    <a:lnTo>
                      <a:pt x="2286" y="53"/>
                    </a:lnTo>
                    <a:lnTo>
                      <a:pt x="2326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3628800" y="3318480"/>
                <a:ext cx="1415880" cy="19440"/>
              </a:xfrm>
              <a:custGeom>
                <a:avLst/>
                <a:gdLst/>
                <a:ahLst/>
                <a:rect l="l" t="t" r="r" b="b"/>
                <a:pathLst>
                  <a:path w="3682" h="55">
                    <a:moveTo>
                      <a:pt x="0" y="0"/>
                    </a:moveTo>
                    <a:lnTo>
                      <a:pt x="1093" y="0"/>
                    </a:lnTo>
                    <a:lnTo>
                      <a:pt x="1096" y="55"/>
                    </a:lnTo>
                    <a:lnTo>
                      <a:pt x="10" y="55"/>
                    </a:lnTo>
                    <a:lnTo>
                      <a:pt x="0" y="0"/>
                    </a:lnTo>
                    <a:close/>
                    <a:moveTo>
                      <a:pt x="2300" y="0"/>
                    </a:moveTo>
                    <a:lnTo>
                      <a:pt x="3651" y="0"/>
                    </a:lnTo>
                    <a:lnTo>
                      <a:pt x="3682" y="55"/>
                    </a:lnTo>
                    <a:lnTo>
                      <a:pt x="2259" y="55"/>
                    </a:lnTo>
                    <a:lnTo>
                      <a:pt x="2300" y="0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3630960" y="3329280"/>
                <a:ext cx="1419480" cy="19080"/>
              </a:xfrm>
              <a:custGeom>
                <a:avLst/>
                <a:gdLst/>
                <a:ahLst/>
                <a:rect l="l" t="t" r="r" b="b"/>
                <a:pathLst>
                  <a:path w="3693" h="55">
                    <a:moveTo>
                      <a:pt x="0" y="0"/>
                    </a:moveTo>
                    <a:lnTo>
                      <a:pt x="1090" y="0"/>
                    </a:lnTo>
                    <a:lnTo>
                      <a:pt x="1092" y="55"/>
                    </a:lnTo>
                    <a:lnTo>
                      <a:pt x="10" y="55"/>
                    </a:lnTo>
                    <a:lnTo>
                      <a:pt x="8" y="43"/>
                    </a:lnTo>
                    <a:lnTo>
                      <a:pt x="0" y="0"/>
                    </a:lnTo>
                    <a:close/>
                    <a:moveTo>
                      <a:pt x="2275" y="0"/>
                    </a:moveTo>
                    <a:lnTo>
                      <a:pt x="3662" y="0"/>
                    </a:lnTo>
                    <a:lnTo>
                      <a:pt x="3693" y="55"/>
                    </a:lnTo>
                    <a:lnTo>
                      <a:pt x="2234" y="55"/>
                    </a:lnTo>
                    <a:lnTo>
                      <a:pt x="2275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3632760" y="3338280"/>
                <a:ext cx="1423800" cy="19080"/>
              </a:xfrm>
              <a:custGeom>
                <a:avLst/>
                <a:gdLst/>
                <a:ahLst/>
                <a:rect l="l" t="t" r="r" b="b"/>
                <a:pathLst>
                  <a:path w="3703" h="53">
                    <a:moveTo>
                      <a:pt x="0" y="0"/>
                    </a:moveTo>
                    <a:lnTo>
                      <a:pt x="1086" y="0"/>
                    </a:lnTo>
                    <a:lnTo>
                      <a:pt x="1088" y="47"/>
                    </a:lnTo>
                    <a:lnTo>
                      <a:pt x="1088" y="53"/>
                    </a:lnTo>
                    <a:lnTo>
                      <a:pt x="11" y="53"/>
                    </a:lnTo>
                    <a:lnTo>
                      <a:pt x="3" y="15"/>
                    </a:lnTo>
                    <a:lnTo>
                      <a:pt x="0" y="0"/>
                    </a:lnTo>
                    <a:close/>
                    <a:moveTo>
                      <a:pt x="2249" y="0"/>
                    </a:moveTo>
                    <a:lnTo>
                      <a:pt x="3672" y="0"/>
                    </a:lnTo>
                    <a:lnTo>
                      <a:pt x="3703" y="53"/>
                    </a:lnTo>
                    <a:lnTo>
                      <a:pt x="2208" y="53"/>
                    </a:lnTo>
                    <a:lnTo>
                      <a:pt x="2249" y="0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3634560" y="3348720"/>
                <a:ext cx="1427760" cy="19440"/>
              </a:xfrm>
              <a:custGeom>
                <a:avLst/>
                <a:gdLst/>
                <a:ahLst/>
                <a:rect l="l" t="t" r="r" b="b"/>
                <a:pathLst>
                  <a:path w="3713" h="54">
                    <a:moveTo>
                      <a:pt x="0" y="0"/>
                    </a:moveTo>
                    <a:lnTo>
                      <a:pt x="1082" y="0"/>
                    </a:lnTo>
                    <a:lnTo>
                      <a:pt x="1083" y="20"/>
                    </a:lnTo>
                    <a:lnTo>
                      <a:pt x="1083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2224" y="0"/>
                    </a:moveTo>
                    <a:lnTo>
                      <a:pt x="3683" y="0"/>
                    </a:lnTo>
                    <a:lnTo>
                      <a:pt x="3713" y="54"/>
                    </a:lnTo>
                    <a:lnTo>
                      <a:pt x="2183" y="54"/>
                    </a:lnTo>
                    <a:lnTo>
                      <a:pt x="2224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3636720" y="3357360"/>
                <a:ext cx="1431000" cy="19440"/>
              </a:xfrm>
              <a:custGeom>
                <a:avLst/>
                <a:gdLst/>
                <a:ahLst/>
                <a:rect l="l" t="t" r="r" b="b"/>
                <a:pathLst>
                  <a:path w="3723" h="55">
                    <a:moveTo>
                      <a:pt x="0" y="0"/>
                    </a:moveTo>
                    <a:lnTo>
                      <a:pt x="1077" y="0"/>
                    </a:lnTo>
                    <a:lnTo>
                      <a:pt x="1077" y="55"/>
                    </a:lnTo>
                    <a:lnTo>
                      <a:pt x="11" y="55"/>
                    </a:lnTo>
                    <a:lnTo>
                      <a:pt x="0" y="0"/>
                    </a:lnTo>
                    <a:close/>
                    <a:moveTo>
                      <a:pt x="2197" y="0"/>
                    </a:moveTo>
                    <a:lnTo>
                      <a:pt x="3692" y="0"/>
                    </a:lnTo>
                    <a:lnTo>
                      <a:pt x="3717" y="43"/>
                    </a:lnTo>
                    <a:lnTo>
                      <a:pt x="3723" y="55"/>
                    </a:lnTo>
                    <a:lnTo>
                      <a:pt x="2157" y="55"/>
                    </a:lnTo>
                    <a:lnTo>
                      <a:pt x="2197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3640680" y="3368160"/>
                <a:ext cx="1432800" cy="17640"/>
              </a:xfrm>
              <a:custGeom>
                <a:avLst/>
                <a:gdLst/>
                <a:ahLst/>
                <a:rect l="l" t="t" r="r" b="b"/>
                <a:pathLst>
                  <a:path w="3732" h="53">
                    <a:moveTo>
                      <a:pt x="0" y="0"/>
                    </a:moveTo>
                    <a:lnTo>
                      <a:pt x="1071" y="0"/>
                    </a:lnTo>
                    <a:lnTo>
                      <a:pt x="1071" y="53"/>
                    </a:lnTo>
                    <a:lnTo>
                      <a:pt x="8" y="53"/>
                    </a:lnTo>
                    <a:lnTo>
                      <a:pt x="6" y="33"/>
                    </a:lnTo>
                    <a:lnTo>
                      <a:pt x="0" y="0"/>
                    </a:lnTo>
                    <a:close/>
                    <a:moveTo>
                      <a:pt x="2171" y="0"/>
                    </a:moveTo>
                    <a:lnTo>
                      <a:pt x="3701" y="0"/>
                    </a:lnTo>
                    <a:lnTo>
                      <a:pt x="3711" y="15"/>
                    </a:lnTo>
                    <a:lnTo>
                      <a:pt x="3732" y="53"/>
                    </a:lnTo>
                    <a:lnTo>
                      <a:pt x="2996" y="53"/>
                    </a:lnTo>
                    <a:lnTo>
                      <a:pt x="2994" y="52"/>
                    </a:lnTo>
                    <a:lnTo>
                      <a:pt x="2994" y="45"/>
                    </a:lnTo>
                    <a:lnTo>
                      <a:pt x="2986" y="53"/>
                    </a:lnTo>
                    <a:lnTo>
                      <a:pt x="2130" y="53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3642480" y="3377160"/>
                <a:ext cx="1437120" cy="19080"/>
              </a:xfrm>
              <a:custGeom>
                <a:avLst/>
                <a:gdLst/>
                <a:ahLst/>
                <a:rect l="l" t="t" r="r" b="b"/>
                <a:pathLst>
                  <a:path w="3741" h="54">
                    <a:moveTo>
                      <a:pt x="0" y="0"/>
                    </a:moveTo>
                    <a:lnTo>
                      <a:pt x="1066" y="0"/>
                    </a:lnTo>
                    <a:lnTo>
                      <a:pt x="1066" y="54"/>
                    </a:lnTo>
                    <a:lnTo>
                      <a:pt x="7" y="54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  <a:moveTo>
                      <a:pt x="2146" y="0"/>
                    </a:moveTo>
                    <a:lnTo>
                      <a:pt x="3712" y="0"/>
                    </a:lnTo>
                    <a:lnTo>
                      <a:pt x="3741" y="54"/>
                    </a:lnTo>
                    <a:lnTo>
                      <a:pt x="3008" y="54"/>
                    </a:lnTo>
                    <a:lnTo>
                      <a:pt x="2989" y="25"/>
                    </a:lnTo>
                    <a:lnTo>
                      <a:pt x="2989" y="18"/>
                    </a:lnTo>
                    <a:lnTo>
                      <a:pt x="2955" y="54"/>
                    </a:lnTo>
                    <a:lnTo>
                      <a:pt x="2105" y="54"/>
                    </a:lnTo>
                    <a:lnTo>
                      <a:pt x="2118" y="38"/>
                    </a:lnTo>
                    <a:lnTo>
                      <a:pt x="2146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3642480" y="3385800"/>
                <a:ext cx="1442880" cy="19080"/>
              </a:xfrm>
              <a:custGeom>
                <a:avLst/>
                <a:gdLst/>
                <a:ahLst/>
                <a:rect l="l" t="t" r="r" b="b"/>
                <a:pathLst>
                  <a:path w="3753" h="55">
                    <a:moveTo>
                      <a:pt x="0" y="0"/>
                    </a:moveTo>
                    <a:lnTo>
                      <a:pt x="1063" y="0"/>
                    </a:lnTo>
                    <a:lnTo>
                      <a:pt x="1063" y="55"/>
                    </a:lnTo>
                    <a:lnTo>
                      <a:pt x="7" y="55"/>
                    </a:lnTo>
                    <a:lnTo>
                      <a:pt x="0" y="0"/>
                    </a:lnTo>
                    <a:close/>
                    <a:moveTo>
                      <a:pt x="2122" y="0"/>
                    </a:moveTo>
                    <a:lnTo>
                      <a:pt x="2978" y="0"/>
                    </a:lnTo>
                    <a:lnTo>
                      <a:pt x="2927" y="55"/>
                    </a:lnTo>
                    <a:lnTo>
                      <a:pt x="2084" y="55"/>
                    </a:lnTo>
                    <a:lnTo>
                      <a:pt x="2115" y="12"/>
                    </a:lnTo>
                    <a:lnTo>
                      <a:pt x="2122" y="0"/>
                    </a:lnTo>
                    <a:close/>
                    <a:moveTo>
                      <a:pt x="2988" y="0"/>
                    </a:moveTo>
                    <a:lnTo>
                      <a:pt x="3724" y="0"/>
                    </a:lnTo>
                    <a:lnTo>
                      <a:pt x="3753" y="55"/>
                    </a:lnTo>
                    <a:lnTo>
                      <a:pt x="3018" y="55"/>
                    </a:lnTo>
                    <a:lnTo>
                      <a:pt x="3006" y="30"/>
                    </a:lnTo>
                    <a:lnTo>
                      <a:pt x="2988" y="0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3644640" y="3396240"/>
                <a:ext cx="1446480" cy="17640"/>
              </a:xfrm>
              <a:custGeom>
                <a:avLst/>
                <a:gdLst/>
                <a:ahLst/>
                <a:rect l="l" t="t" r="r" b="b"/>
                <a:pathLst>
                  <a:path w="3764" h="53">
                    <a:moveTo>
                      <a:pt x="0" y="0"/>
                    </a:moveTo>
                    <a:lnTo>
                      <a:pt x="1059" y="0"/>
                    </a:lnTo>
                    <a:lnTo>
                      <a:pt x="1059" y="31"/>
                    </a:lnTo>
                    <a:lnTo>
                      <a:pt x="1056" y="53"/>
                    </a:lnTo>
                    <a:lnTo>
                      <a:pt x="6" y="53"/>
                    </a:lnTo>
                    <a:lnTo>
                      <a:pt x="0" y="0"/>
                    </a:lnTo>
                    <a:close/>
                    <a:moveTo>
                      <a:pt x="2098" y="0"/>
                    </a:moveTo>
                    <a:lnTo>
                      <a:pt x="2948" y="0"/>
                    </a:lnTo>
                    <a:lnTo>
                      <a:pt x="2896" y="53"/>
                    </a:lnTo>
                    <a:lnTo>
                      <a:pt x="2061" y="53"/>
                    </a:lnTo>
                    <a:lnTo>
                      <a:pt x="2098" y="0"/>
                    </a:lnTo>
                    <a:close/>
                    <a:moveTo>
                      <a:pt x="3001" y="0"/>
                    </a:moveTo>
                    <a:lnTo>
                      <a:pt x="3734" y="0"/>
                    </a:lnTo>
                    <a:lnTo>
                      <a:pt x="3764" y="53"/>
                    </a:lnTo>
                    <a:lnTo>
                      <a:pt x="3029" y="53"/>
                    </a:lnTo>
                    <a:lnTo>
                      <a:pt x="3021" y="43"/>
                    </a:lnTo>
                    <a:lnTo>
                      <a:pt x="3002" y="2"/>
                    </a:lnTo>
                    <a:lnTo>
                      <a:pt x="300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3646440" y="3405240"/>
                <a:ext cx="1450440" cy="19440"/>
              </a:xfrm>
              <a:custGeom>
                <a:avLst/>
                <a:gdLst/>
                <a:ahLst/>
                <a:rect l="l" t="t" r="r" b="b"/>
                <a:pathLst>
                  <a:path w="3776" h="53">
                    <a:moveTo>
                      <a:pt x="0" y="0"/>
                    </a:moveTo>
                    <a:lnTo>
                      <a:pt x="1056" y="0"/>
                    </a:lnTo>
                    <a:lnTo>
                      <a:pt x="1056" y="4"/>
                    </a:lnTo>
                    <a:lnTo>
                      <a:pt x="1049" y="53"/>
                    </a:lnTo>
                    <a:lnTo>
                      <a:pt x="0" y="53"/>
                    </a:lnTo>
                    <a:lnTo>
                      <a:pt x="3" y="31"/>
                    </a:lnTo>
                    <a:lnTo>
                      <a:pt x="0" y="0"/>
                    </a:lnTo>
                    <a:close/>
                    <a:moveTo>
                      <a:pt x="2077" y="0"/>
                    </a:moveTo>
                    <a:lnTo>
                      <a:pt x="2920" y="0"/>
                    </a:lnTo>
                    <a:lnTo>
                      <a:pt x="2867" y="53"/>
                    </a:lnTo>
                    <a:lnTo>
                      <a:pt x="2038" y="53"/>
                    </a:lnTo>
                    <a:lnTo>
                      <a:pt x="2077" y="0"/>
                    </a:lnTo>
                    <a:close/>
                    <a:moveTo>
                      <a:pt x="3011" y="0"/>
                    </a:moveTo>
                    <a:lnTo>
                      <a:pt x="3746" y="0"/>
                    </a:lnTo>
                    <a:lnTo>
                      <a:pt x="3776" y="53"/>
                    </a:lnTo>
                    <a:lnTo>
                      <a:pt x="3044" y="53"/>
                    </a:lnTo>
                    <a:lnTo>
                      <a:pt x="3018" y="16"/>
                    </a:lnTo>
                    <a:lnTo>
                      <a:pt x="3011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3644640" y="3413880"/>
                <a:ext cx="1457640" cy="19440"/>
              </a:xfrm>
              <a:custGeom>
                <a:avLst/>
                <a:gdLst/>
                <a:ahLst/>
                <a:rect l="l" t="t" r="r" b="b"/>
                <a:pathLst>
                  <a:path w="3794" h="55">
                    <a:moveTo>
                      <a:pt x="6" y="0"/>
                    </a:moveTo>
                    <a:lnTo>
                      <a:pt x="1056" y="0"/>
                    </a:lnTo>
                    <a:lnTo>
                      <a:pt x="1047" y="55"/>
                    </a:lnTo>
                    <a:lnTo>
                      <a:pt x="0" y="5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  <a:moveTo>
                      <a:pt x="2061" y="0"/>
                    </a:moveTo>
                    <a:lnTo>
                      <a:pt x="2896" y="0"/>
                    </a:lnTo>
                    <a:lnTo>
                      <a:pt x="2845" y="55"/>
                    </a:lnTo>
                    <a:lnTo>
                      <a:pt x="2025" y="55"/>
                    </a:lnTo>
                    <a:lnTo>
                      <a:pt x="2035" y="35"/>
                    </a:lnTo>
                    <a:lnTo>
                      <a:pt x="2061" y="0"/>
                    </a:lnTo>
                    <a:close/>
                    <a:moveTo>
                      <a:pt x="3029" y="0"/>
                    </a:moveTo>
                    <a:lnTo>
                      <a:pt x="3764" y="0"/>
                    </a:lnTo>
                    <a:lnTo>
                      <a:pt x="3794" y="55"/>
                    </a:lnTo>
                    <a:lnTo>
                      <a:pt x="3063" y="55"/>
                    </a:lnTo>
                    <a:lnTo>
                      <a:pt x="3059" y="46"/>
                    </a:lnTo>
                    <a:lnTo>
                      <a:pt x="3029" y="0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642480" y="3425040"/>
                <a:ext cx="1465920" cy="19080"/>
              </a:xfrm>
              <a:custGeom>
                <a:avLst/>
                <a:gdLst/>
                <a:ahLst/>
                <a:rect l="l" t="t" r="r" b="b"/>
                <a:pathLst>
                  <a:path w="3814" h="55">
                    <a:moveTo>
                      <a:pt x="8" y="0"/>
                    </a:moveTo>
                    <a:lnTo>
                      <a:pt x="1057" y="0"/>
                    </a:lnTo>
                    <a:lnTo>
                      <a:pt x="1048" y="55"/>
                    </a:lnTo>
                    <a:lnTo>
                      <a:pt x="0" y="55"/>
                    </a:lnTo>
                    <a:lnTo>
                      <a:pt x="8" y="0"/>
                    </a:lnTo>
                    <a:close/>
                    <a:moveTo>
                      <a:pt x="2046" y="0"/>
                    </a:moveTo>
                    <a:lnTo>
                      <a:pt x="2875" y="0"/>
                    </a:lnTo>
                    <a:lnTo>
                      <a:pt x="2824" y="55"/>
                    </a:lnTo>
                    <a:lnTo>
                      <a:pt x="2014" y="55"/>
                    </a:lnTo>
                    <a:lnTo>
                      <a:pt x="2040" y="8"/>
                    </a:lnTo>
                    <a:lnTo>
                      <a:pt x="2046" y="0"/>
                    </a:lnTo>
                    <a:close/>
                    <a:moveTo>
                      <a:pt x="3052" y="0"/>
                    </a:moveTo>
                    <a:lnTo>
                      <a:pt x="3784" y="0"/>
                    </a:lnTo>
                    <a:lnTo>
                      <a:pt x="3814" y="55"/>
                    </a:lnTo>
                    <a:lnTo>
                      <a:pt x="3085" y="55"/>
                    </a:lnTo>
                    <a:lnTo>
                      <a:pt x="3064" y="19"/>
                    </a:lnTo>
                    <a:lnTo>
                      <a:pt x="3052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640680" y="3433680"/>
                <a:ext cx="1473480" cy="19080"/>
              </a:xfrm>
              <a:custGeom>
                <a:avLst/>
                <a:gdLst/>
                <a:ahLst/>
                <a:rect l="l" t="t" r="r" b="b"/>
                <a:pathLst>
                  <a:path w="3831" h="53">
                    <a:moveTo>
                      <a:pt x="8" y="0"/>
                    </a:moveTo>
                    <a:lnTo>
                      <a:pt x="1055" y="0"/>
                    </a:lnTo>
                    <a:lnTo>
                      <a:pt x="1048" y="49"/>
                    </a:lnTo>
                    <a:lnTo>
                      <a:pt x="1046" y="53"/>
                    </a:lnTo>
                    <a:lnTo>
                      <a:pt x="0" y="53"/>
                    </a:lnTo>
                    <a:lnTo>
                      <a:pt x="8" y="0"/>
                    </a:lnTo>
                    <a:close/>
                    <a:moveTo>
                      <a:pt x="2033" y="0"/>
                    </a:moveTo>
                    <a:lnTo>
                      <a:pt x="2853" y="0"/>
                    </a:lnTo>
                    <a:lnTo>
                      <a:pt x="2801" y="53"/>
                    </a:lnTo>
                    <a:lnTo>
                      <a:pt x="2001" y="53"/>
                    </a:lnTo>
                    <a:lnTo>
                      <a:pt x="2033" y="0"/>
                    </a:lnTo>
                    <a:close/>
                    <a:moveTo>
                      <a:pt x="3071" y="0"/>
                    </a:moveTo>
                    <a:lnTo>
                      <a:pt x="3802" y="0"/>
                    </a:lnTo>
                    <a:lnTo>
                      <a:pt x="3831" y="53"/>
                    </a:lnTo>
                    <a:lnTo>
                      <a:pt x="3104" y="53"/>
                    </a:lnTo>
                    <a:lnTo>
                      <a:pt x="3071" y="0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640680" y="3444120"/>
                <a:ext cx="1478880" cy="19440"/>
              </a:xfrm>
              <a:custGeom>
                <a:avLst/>
                <a:gdLst/>
                <a:ahLst/>
                <a:rect l="l" t="t" r="r" b="b"/>
                <a:pathLst>
                  <a:path w="3850" h="54">
                    <a:moveTo>
                      <a:pt x="7" y="0"/>
                    </a:moveTo>
                    <a:lnTo>
                      <a:pt x="1055" y="0"/>
                    </a:lnTo>
                    <a:lnTo>
                      <a:pt x="1052" y="22"/>
                    </a:lnTo>
                    <a:lnTo>
                      <a:pt x="1043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  <a:moveTo>
                      <a:pt x="2021" y="0"/>
                    </a:moveTo>
                    <a:lnTo>
                      <a:pt x="2831" y="0"/>
                    </a:lnTo>
                    <a:lnTo>
                      <a:pt x="2779" y="54"/>
                    </a:lnTo>
                    <a:lnTo>
                      <a:pt x="1991" y="54"/>
                    </a:lnTo>
                    <a:lnTo>
                      <a:pt x="1998" y="40"/>
                    </a:lnTo>
                    <a:lnTo>
                      <a:pt x="2021" y="0"/>
                    </a:lnTo>
                    <a:close/>
                    <a:moveTo>
                      <a:pt x="3092" y="0"/>
                    </a:moveTo>
                    <a:lnTo>
                      <a:pt x="3821" y="0"/>
                    </a:lnTo>
                    <a:lnTo>
                      <a:pt x="3850" y="54"/>
                    </a:lnTo>
                    <a:lnTo>
                      <a:pt x="3125" y="54"/>
                    </a:lnTo>
                    <a:lnTo>
                      <a:pt x="3111" y="32"/>
                    </a:lnTo>
                    <a:lnTo>
                      <a:pt x="3092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3638520" y="3453120"/>
                <a:ext cx="1486800" cy="19440"/>
              </a:xfrm>
              <a:custGeom>
                <a:avLst/>
                <a:gdLst/>
                <a:ahLst/>
                <a:rect l="l" t="t" r="r" b="b"/>
                <a:pathLst>
                  <a:path w="3870" h="55">
                    <a:moveTo>
                      <a:pt x="9" y="0"/>
                    </a:moveTo>
                    <a:lnTo>
                      <a:pt x="1055" y="0"/>
                    </a:lnTo>
                    <a:lnTo>
                      <a:pt x="1040" y="55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9" y="0"/>
                    </a:lnTo>
                    <a:close/>
                    <a:moveTo>
                      <a:pt x="2010" y="0"/>
                    </a:moveTo>
                    <a:lnTo>
                      <a:pt x="2810" y="0"/>
                    </a:lnTo>
                    <a:lnTo>
                      <a:pt x="2759" y="55"/>
                    </a:lnTo>
                    <a:lnTo>
                      <a:pt x="1981" y="55"/>
                    </a:lnTo>
                    <a:lnTo>
                      <a:pt x="2003" y="14"/>
                    </a:lnTo>
                    <a:lnTo>
                      <a:pt x="2010" y="0"/>
                    </a:lnTo>
                    <a:close/>
                    <a:moveTo>
                      <a:pt x="3113" y="0"/>
                    </a:moveTo>
                    <a:lnTo>
                      <a:pt x="3840" y="0"/>
                    </a:lnTo>
                    <a:lnTo>
                      <a:pt x="3870" y="55"/>
                    </a:lnTo>
                    <a:lnTo>
                      <a:pt x="3148" y="55"/>
                    </a:lnTo>
                    <a:lnTo>
                      <a:pt x="3116" y="6"/>
                    </a:lnTo>
                    <a:lnTo>
                      <a:pt x="3113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3634560" y="3463920"/>
                <a:ext cx="1496880" cy="17640"/>
              </a:xfrm>
              <a:custGeom>
                <a:avLst/>
                <a:gdLst/>
                <a:ahLst/>
                <a:rect l="l" t="t" r="r" b="b"/>
                <a:pathLst>
                  <a:path w="3895" h="53">
                    <a:moveTo>
                      <a:pt x="15" y="0"/>
                    </a:moveTo>
                    <a:lnTo>
                      <a:pt x="1058" y="0"/>
                    </a:lnTo>
                    <a:lnTo>
                      <a:pt x="1043" y="53"/>
                    </a:lnTo>
                    <a:lnTo>
                      <a:pt x="0" y="53"/>
                    </a:lnTo>
                    <a:lnTo>
                      <a:pt x="13" y="15"/>
                    </a:lnTo>
                    <a:lnTo>
                      <a:pt x="15" y="0"/>
                    </a:lnTo>
                    <a:close/>
                    <a:moveTo>
                      <a:pt x="2006" y="0"/>
                    </a:moveTo>
                    <a:lnTo>
                      <a:pt x="2794" y="0"/>
                    </a:lnTo>
                    <a:lnTo>
                      <a:pt x="2743" y="53"/>
                    </a:lnTo>
                    <a:lnTo>
                      <a:pt x="1976" y="53"/>
                    </a:lnTo>
                    <a:lnTo>
                      <a:pt x="2006" y="0"/>
                    </a:lnTo>
                    <a:close/>
                    <a:moveTo>
                      <a:pt x="3140" y="0"/>
                    </a:moveTo>
                    <a:lnTo>
                      <a:pt x="3865" y="0"/>
                    </a:lnTo>
                    <a:lnTo>
                      <a:pt x="3895" y="53"/>
                    </a:lnTo>
                    <a:lnTo>
                      <a:pt x="3175" y="53"/>
                    </a:lnTo>
                    <a:lnTo>
                      <a:pt x="3140" y="0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3630960" y="3472560"/>
                <a:ext cx="1505880" cy="19080"/>
              </a:xfrm>
              <a:custGeom>
                <a:avLst/>
                <a:gdLst/>
                <a:ahLst/>
                <a:rect l="l" t="t" r="r" b="b"/>
                <a:pathLst>
                  <a:path w="3918" h="54">
                    <a:moveTo>
                      <a:pt x="18" y="0"/>
                    </a:moveTo>
                    <a:lnTo>
                      <a:pt x="1058" y="0"/>
                    </a:lnTo>
                    <a:lnTo>
                      <a:pt x="1044" y="54"/>
                    </a:lnTo>
                    <a:lnTo>
                      <a:pt x="0" y="54"/>
                    </a:lnTo>
                    <a:lnTo>
                      <a:pt x="18" y="0"/>
                    </a:lnTo>
                    <a:close/>
                    <a:moveTo>
                      <a:pt x="1999" y="0"/>
                    </a:moveTo>
                    <a:lnTo>
                      <a:pt x="2777" y="0"/>
                    </a:lnTo>
                    <a:lnTo>
                      <a:pt x="2725" y="54"/>
                    </a:lnTo>
                    <a:lnTo>
                      <a:pt x="1970" y="54"/>
                    </a:lnTo>
                    <a:lnTo>
                      <a:pt x="1999" y="0"/>
                    </a:lnTo>
                    <a:close/>
                    <a:moveTo>
                      <a:pt x="3166" y="0"/>
                    </a:moveTo>
                    <a:lnTo>
                      <a:pt x="3888" y="0"/>
                    </a:lnTo>
                    <a:lnTo>
                      <a:pt x="3918" y="54"/>
                    </a:lnTo>
                    <a:lnTo>
                      <a:pt x="3204" y="54"/>
                    </a:lnTo>
                    <a:lnTo>
                      <a:pt x="3191" y="38"/>
                    </a:lnTo>
                    <a:lnTo>
                      <a:pt x="3166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3627000" y="3481560"/>
                <a:ext cx="1515600" cy="19080"/>
              </a:xfrm>
              <a:custGeom>
                <a:avLst/>
                <a:gdLst/>
                <a:ahLst/>
                <a:rect l="l" t="t" r="r" b="b"/>
                <a:pathLst>
                  <a:path w="3943" h="55">
                    <a:moveTo>
                      <a:pt x="18" y="0"/>
                    </a:moveTo>
                    <a:lnTo>
                      <a:pt x="1061" y="0"/>
                    </a:lnTo>
                    <a:lnTo>
                      <a:pt x="1053" y="30"/>
                    </a:lnTo>
                    <a:lnTo>
                      <a:pt x="1046" y="55"/>
                    </a:lnTo>
                    <a:lnTo>
                      <a:pt x="0" y="55"/>
                    </a:lnTo>
                    <a:lnTo>
                      <a:pt x="18" y="0"/>
                    </a:lnTo>
                    <a:close/>
                    <a:moveTo>
                      <a:pt x="1994" y="0"/>
                    </a:moveTo>
                    <a:lnTo>
                      <a:pt x="2761" y="0"/>
                    </a:lnTo>
                    <a:lnTo>
                      <a:pt x="2709" y="55"/>
                    </a:lnTo>
                    <a:lnTo>
                      <a:pt x="1966" y="55"/>
                    </a:lnTo>
                    <a:lnTo>
                      <a:pt x="1994" y="0"/>
                    </a:lnTo>
                    <a:close/>
                    <a:moveTo>
                      <a:pt x="3193" y="0"/>
                    </a:moveTo>
                    <a:lnTo>
                      <a:pt x="3913" y="0"/>
                    </a:lnTo>
                    <a:lnTo>
                      <a:pt x="3943" y="55"/>
                    </a:lnTo>
                    <a:lnTo>
                      <a:pt x="3236" y="55"/>
                    </a:lnTo>
                    <a:lnTo>
                      <a:pt x="3201" y="12"/>
                    </a:lnTo>
                    <a:lnTo>
                      <a:pt x="3193" y="0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3623040" y="3492000"/>
                <a:ext cx="1525320" cy="17640"/>
              </a:xfrm>
              <a:custGeom>
                <a:avLst/>
                <a:gdLst/>
                <a:ahLst/>
                <a:rect l="l" t="t" r="r" b="b"/>
                <a:pathLst>
                  <a:path w="3970" h="53">
                    <a:moveTo>
                      <a:pt x="18" y="0"/>
                    </a:moveTo>
                    <a:lnTo>
                      <a:pt x="1062" y="0"/>
                    </a:lnTo>
                    <a:lnTo>
                      <a:pt x="1061" y="2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8" y="0"/>
                    </a:lnTo>
                    <a:close/>
                    <a:moveTo>
                      <a:pt x="1988" y="0"/>
                    </a:moveTo>
                    <a:lnTo>
                      <a:pt x="2743" y="0"/>
                    </a:lnTo>
                    <a:lnTo>
                      <a:pt x="2691" y="53"/>
                    </a:lnTo>
                    <a:lnTo>
                      <a:pt x="1959" y="53"/>
                    </a:lnTo>
                    <a:lnTo>
                      <a:pt x="1960" y="51"/>
                    </a:lnTo>
                    <a:lnTo>
                      <a:pt x="1988" y="0"/>
                    </a:lnTo>
                    <a:close/>
                    <a:moveTo>
                      <a:pt x="3222" y="0"/>
                    </a:moveTo>
                    <a:lnTo>
                      <a:pt x="3936" y="0"/>
                    </a:lnTo>
                    <a:lnTo>
                      <a:pt x="3954" y="33"/>
                    </a:lnTo>
                    <a:lnTo>
                      <a:pt x="3970" y="53"/>
                    </a:lnTo>
                    <a:lnTo>
                      <a:pt x="3268" y="53"/>
                    </a:lnTo>
                    <a:lnTo>
                      <a:pt x="3222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3621600" y="3500640"/>
                <a:ext cx="1534680" cy="19440"/>
              </a:xfrm>
              <a:custGeom>
                <a:avLst/>
                <a:gdLst/>
                <a:ahLst/>
                <a:rect l="l" t="t" r="r" b="b"/>
                <a:pathLst>
                  <a:path w="3998" h="53">
                    <a:moveTo>
                      <a:pt x="17" y="0"/>
                    </a:moveTo>
                    <a:lnTo>
                      <a:pt x="1063" y="0"/>
                    </a:lnTo>
                    <a:lnTo>
                      <a:pt x="1047" y="53"/>
                    </a:lnTo>
                    <a:lnTo>
                      <a:pt x="0" y="53"/>
                    </a:lnTo>
                    <a:lnTo>
                      <a:pt x="17" y="0"/>
                    </a:lnTo>
                    <a:close/>
                    <a:moveTo>
                      <a:pt x="1983" y="0"/>
                    </a:moveTo>
                    <a:lnTo>
                      <a:pt x="2726" y="0"/>
                    </a:lnTo>
                    <a:lnTo>
                      <a:pt x="2675" y="53"/>
                    </a:lnTo>
                    <a:lnTo>
                      <a:pt x="1957" y="53"/>
                    </a:lnTo>
                    <a:lnTo>
                      <a:pt x="1969" y="24"/>
                    </a:lnTo>
                    <a:lnTo>
                      <a:pt x="1983" y="0"/>
                    </a:lnTo>
                    <a:close/>
                    <a:moveTo>
                      <a:pt x="3253" y="0"/>
                    </a:moveTo>
                    <a:lnTo>
                      <a:pt x="3960" y="0"/>
                    </a:lnTo>
                    <a:lnTo>
                      <a:pt x="3963" y="6"/>
                    </a:lnTo>
                    <a:lnTo>
                      <a:pt x="3998" y="53"/>
                    </a:lnTo>
                    <a:lnTo>
                      <a:pt x="3300" y="53"/>
                    </a:lnTo>
                    <a:lnTo>
                      <a:pt x="3253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3617640" y="3509640"/>
                <a:ext cx="1546560" cy="19440"/>
              </a:xfrm>
              <a:custGeom>
                <a:avLst/>
                <a:gdLst/>
                <a:ahLst/>
                <a:rect l="l" t="t" r="r" b="b"/>
                <a:pathLst>
                  <a:path w="4027" h="55">
                    <a:moveTo>
                      <a:pt x="19" y="0"/>
                    </a:moveTo>
                    <a:lnTo>
                      <a:pt x="1066" y="0"/>
                    </a:lnTo>
                    <a:lnTo>
                      <a:pt x="1052" y="47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8" y="36"/>
                    </a:lnTo>
                    <a:lnTo>
                      <a:pt x="19" y="0"/>
                    </a:lnTo>
                    <a:close/>
                    <a:moveTo>
                      <a:pt x="1978" y="0"/>
                    </a:moveTo>
                    <a:lnTo>
                      <a:pt x="2710" y="0"/>
                    </a:lnTo>
                    <a:lnTo>
                      <a:pt x="2659" y="55"/>
                    </a:lnTo>
                    <a:lnTo>
                      <a:pt x="1955" y="55"/>
                    </a:lnTo>
                    <a:lnTo>
                      <a:pt x="1978" y="0"/>
                    </a:lnTo>
                    <a:close/>
                    <a:moveTo>
                      <a:pt x="3287" y="0"/>
                    </a:moveTo>
                    <a:lnTo>
                      <a:pt x="3989" y="0"/>
                    </a:lnTo>
                    <a:lnTo>
                      <a:pt x="4023" y="47"/>
                    </a:lnTo>
                    <a:lnTo>
                      <a:pt x="4027" y="55"/>
                    </a:lnTo>
                    <a:lnTo>
                      <a:pt x="3332" y="55"/>
                    </a:lnTo>
                    <a:lnTo>
                      <a:pt x="3287" y="0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3613680" y="3520440"/>
                <a:ext cx="1556280" cy="19080"/>
              </a:xfrm>
              <a:custGeom>
                <a:avLst/>
                <a:gdLst/>
                <a:ahLst/>
                <a:rect l="l" t="t" r="r" b="b"/>
                <a:pathLst>
                  <a:path w="4050" h="54">
                    <a:moveTo>
                      <a:pt x="20" y="0"/>
                    </a:moveTo>
                    <a:lnTo>
                      <a:pt x="1067" y="0"/>
                    </a:lnTo>
                    <a:lnTo>
                      <a:pt x="1062" y="20"/>
                    </a:lnTo>
                    <a:lnTo>
                      <a:pt x="1051" y="54"/>
                    </a:lnTo>
                    <a:lnTo>
                      <a:pt x="0" y="54"/>
                    </a:lnTo>
                    <a:lnTo>
                      <a:pt x="18" y="9"/>
                    </a:lnTo>
                    <a:lnTo>
                      <a:pt x="20" y="0"/>
                    </a:lnTo>
                    <a:close/>
                    <a:moveTo>
                      <a:pt x="1977" y="0"/>
                    </a:moveTo>
                    <a:lnTo>
                      <a:pt x="2695" y="0"/>
                    </a:lnTo>
                    <a:lnTo>
                      <a:pt x="2643" y="54"/>
                    </a:lnTo>
                    <a:lnTo>
                      <a:pt x="1955" y="54"/>
                    </a:lnTo>
                    <a:lnTo>
                      <a:pt x="1977" y="0"/>
                    </a:lnTo>
                    <a:close/>
                    <a:moveTo>
                      <a:pt x="3320" y="0"/>
                    </a:moveTo>
                    <a:lnTo>
                      <a:pt x="4018" y="0"/>
                    </a:lnTo>
                    <a:lnTo>
                      <a:pt x="4033" y="20"/>
                    </a:lnTo>
                    <a:lnTo>
                      <a:pt x="4050" y="54"/>
                    </a:lnTo>
                    <a:lnTo>
                      <a:pt x="3365" y="54"/>
                    </a:lnTo>
                    <a:lnTo>
                      <a:pt x="3320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3607920" y="3529080"/>
                <a:ext cx="1565640" cy="19080"/>
              </a:xfrm>
              <a:custGeom>
                <a:avLst/>
                <a:gdLst/>
                <a:ahLst/>
                <a:rect l="l" t="t" r="r" b="b"/>
                <a:pathLst>
                  <a:path w="4075" h="53">
                    <a:moveTo>
                      <a:pt x="21" y="0"/>
                    </a:moveTo>
                    <a:lnTo>
                      <a:pt x="1071" y="0"/>
                    </a:lnTo>
                    <a:lnTo>
                      <a:pt x="1052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80" y="0"/>
                    </a:lnTo>
                    <a:lnTo>
                      <a:pt x="2628" y="53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53" y="0"/>
                    </a:moveTo>
                    <a:lnTo>
                      <a:pt x="4048" y="0"/>
                    </a:lnTo>
                    <a:lnTo>
                      <a:pt x="4073" y="49"/>
                    </a:lnTo>
                    <a:lnTo>
                      <a:pt x="4075" y="53"/>
                    </a:lnTo>
                    <a:lnTo>
                      <a:pt x="3399" y="53"/>
                    </a:lnTo>
                    <a:lnTo>
                      <a:pt x="3395" y="49"/>
                    </a:lnTo>
                    <a:lnTo>
                      <a:pt x="3353" y="0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3603960" y="3539520"/>
                <a:ext cx="1761840" cy="19440"/>
              </a:xfrm>
              <a:custGeom>
                <a:avLst/>
                <a:gdLst/>
                <a:ahLst/>
                <a:rect l="l" t="t" r="r" b="b"/>
                <a:pathLst>
                  <a:path w="4583" h="55">
                    <a:moveTo>
                      <a:pt x="21" y="0"/>
                    </a:moveTo>
                    <a:lnTo>
                      <a:pt x="1072" y="0"/>
                    </a:lnTo>
                    <a:lnTo>
                      <a:pt x="1056" y="45"/>
                    </a:lnTo>
                    <a:lnTo>
                      <a:pt x="1052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6" y="0"/>
                    </a:moveTo>
                    <a:lnTo>
                      <a:pt x="2664" y="0"/>
                    </a:lnTo>
                    <a:lnTo>
                      <a:pt x="2613" y="55"/>
                    </a:lnTo>
                    <a:lnTo>
                      <a:pt x="1953" y="55"/>
                    </a:lnTo>
                    <a:lnTo>
                      <a:pt x="1954" y="53"/>
                    </a:lnTo>
                    <a:lnTo>
                      <a:pt x="1976" y="0"/>
                    </a:lnTo>
                    <a:close/>
                    <a:moveTo>
                      <a:pt x="3386" y="0"/>
                    </a:moveTo>
                    <a:lnTo>
                      <a:pt x="4071" y="0"/>
                    </a:lnTo>
                    <a:lnTo>
                      <a:pt x="4083" y="23"/>
                    </a:lnTo>
                    <a:lnTo>
                      <a:pt x="4094" y="55"/>
                    </a:lnTo>
                    <a:lnTo>
                      <a:pt x="3432" y="55"/>
                    </a:lnTo>
                    <a:lnTo>
                      <a:pt x="3405" y="23"/>
                    </a:lnTo>
                    <a:lnTo>
                      <a:pt x="3386" y="0"/>
                    </a:lnTo>
                    <a:close/>
                    <a:moveTo>
                      <a:pt x="4583" y="55"/>
                    </a:moveTo>
                    <a:lnTo>
                      <a:pt x="4197" y="55"/>
                    </a:lnTo>
                    <a:lnTo>
                      <a:pt x="4227" y="45"/>
                    </a:lnTo>
                    <a:lnTo>
                      <a:pt x="4294" y="34"/>
                    </a:lnTo>
                    <a:lnTo>
                      <a:pt x="4470" y="34"/>
                    </a:lnTo>
                    <a:lnTo>
                      <a:pt x="4576" y="53"/>
                    </a:lnTo>
                    <a:lnTo>
                      <a:pt x="4583" y="5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3600000" y="3548520"/>
                <a:ext cx="1805760" cy="19440"/>
              </a:xfrm>
              <a:custGeom>
                <a:avLst/>
                <a:gdLst/>
                <a:ahLst/>
                <a:rect l="l" t="t" r="r" b="b"/>
                <a:pathLst>
                  <a:path w="4698" h="55">
                    <a:moveTo>
                      <a:pt x="21" y="0"/>
                    </a:moveTo>
                    <a:lnTo>
                      <a:pt x="1073" y="0"/>
                    </a:lnTo>
                    <a:lnTo>
                      <a:pt x="1067" y="18"/>
                    </a:lnTo>
                    <a:lnTo>
                      <a:pt x="1050" y="55"/>
                    </a:lnTo>
                    <a:lnTo>
                      <a:pt x="0" y="55"/>
                    </a:lnTo>
                    <a:lnTo>
                      <a:pt x="21" y="0"/>
                    </a:lnTo>
                    <a:close/>
                    <a:moveTo>
                      <a:pt x="1975" y="0"/>
                    </a:moveTo>
                    <a:lnTo>
                      <a:pt x="2649" y="0"/>
                    </a:lnTo>
                    <a:lnTo>
                      <a:pt x="2598" y="55"/>
                    </a:lnTo>
                    <a:lnTo>
                      <a:pt x="1952" y="55"/>
                    </a:lnTo>
                    <a:lnTo>
                      <a:pt x="1965" y="26"/>
                    </a:lnTo>
                    <a:lnTo>
                      <a:pt x="1975" y="0"/>
                    </a:lnTo>
                    <a:close/>
                    <a:moveTo>
                      <a:pt x="3420" y="0"/>
                    </a:moveTo>
                    <a:lnTo>
                      <a:pt x="4096" y="0"/>
                    </a:lnTo>
                    <a:lnTo>
                      <a:pt x="4112" y="45"/>
                    </a:lnTo>
                    <a:lnTo>
                      <a:pt x="4122" y="55"/>
                    </a:lnTo>
                    <a:lnTo>
                      <a:pt x="3467" y="55"/>
                    </a:lnTo>
                    <a:lnTo>
                      <a:pt x="3420" y="0"/>
                    </a:lnTo>
                    <a:close/>
                    <a:moveTo>
                      <a:pt x="4698" y="55"/>
                    </a:moveTo>
                    <a:lnTo>
                      <a:pt x="4134" y="55"/>
                    </a:lnTo>
                    <a:lnTo>
                      <a:pt x="4152" y="45"/>
                    </a:lnTo>
                    <a:lnTo>
                      <a:pt x="4238" y="18"/>
                    </a:lnTo>
                    <a:lnTo>
                      <a:pt x="4305" y="7"/>
                    </a:lnTo>
                    <a:lnTo>
                      <a:pt x="4481" y="7"/>
                    </a:lnTo>
                    <a:lnTo>
                      <a:pt x="4587" y="26"/>
                    </a:lnTo>
                    <a:lnTo>
                      <a:pt x="4698" y="5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3596040" y="3559320"/>
                <a:ext cx="1846440" cy="17640"/>
              </a:xfrm>
              <a:custGeom>
                <a:avLst/>
                <a:gdLst/>
                <a:ahLst/>
                <a:rect l="l" t="t" r="r" b="b"/>
                <a:pathLst>
                  <a:path w="4804" h="53">
                    <a:moveTo>
                      <a:pt x="21" y="0"/>
                    </a:moveTo>
                    <a:lnTo>
                      <a:pt x="1073" y="0"/>
                    </a:lnTo>
                    <a:lnTo>
                      <a:pt x="1057" y="33"/>
                    </a:lnTo>
                    <a:lnTo>
                      <a:pt x="1045" y="53"/>
                    </a:lnTo>
                    <a:lnTo>
                      <a:pt x="1045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1" y="0"/>
                    </a:lnTo>
                    <a:close/>
                    <a:moveTo>
                      <a:pt x="1974" y="0"/>
                    </a:moveTo>
                    <a:lnTo>
                      <a:pt x="2634" y="0"/>
                    </a:lnTo>
                    <a:lnTo>
                      <a:pt x="2581" y="53"/>
                    </a:lnTo>
                    <a:lnTo>
                      <a:pt x="1949" y="53"/>
                    </a:lnTo>
                    <a:lnTo>
                      <a:pt x="1974" y="0"/>
                    </a:lnTo>
                    <a:close/>
                    <a:moveTo>
                      <a:pt x="3453" y="0"/>
                    </a:moveTo>
                    <a:lnTo>
                      <a:pt x="4115" y="0"/>
                    </a:lnTo>
                    <a:lnTo>
                      <a:pt x="4122" y="17"/>
                    </a:lnTo>
                    <a:lnTo>
                      <a:pt x="4133" y="28"/>
                    </a:lnTo>
                    <a:lnTo>
                      <a:pt x="4142" y="28"/>
                    </a:lnTo>
                    <a:lnTo>
                      <a:pt x="4162" y="17"/>
                    </a:lnTo>
                    <a:lnTo>
                      <a:pt x="4218" y="0"/>
                    </a:lnTo>
                    <a:lnTo>
                      <a:pt x="4604" y="0"/>
                    </a:lnTo>
                    <a:lnTo>
                      <a:pt x="4788" y="47"/>
                    </a:lnTo>
                    <a:lnTo>
                      <a:pt x="4804" y="53"/>
                    </a:lnTo>
                    <a:lnTo>
                      <a:pt x="3501" y="53"/>
                    </a:lnTo>
                    <a:lnTo>
                      <a:pt x="3453" y="0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3594600" y="3568320"/>
                <a:ext cx="1875240" cy="19080"/>
              </a:xfrm>
              <a:custGeom>
                <a:avLst/>
                <a:gdLst/>
                <a:ahLst/>
                <a:rect l="l" t="t" r="r" b="b"/>
                <a:pathLst>
                  <a:path w="4881" h="54">
                    <a:moveTo>
                      <a:pt x="16" y="0"/>
                    </a:moveTo>
                    <a:lnTo>
                      <a:pt x="1066" y="0"/>
                    </a:lnTo>
                    <a:lnTo>
                      <a:pt x="1063" y="6"/>
                    </a:lnTo>
                    <a:lnTo>
                      <a:pt x="1051" y="26"/>
                    </a:lnTo>
                    <a:lnTo>
                      <a:pt x="1034" y="54"/>
                    </a:lnTo>
                    <a:lnTo>
                      <a:pt x="0" y="54"/>
                    </a:lnTo>
                    <a:lnTo>
                      <a:pt x="6" y="26"/>
                    </a:lnTo>
                    <a:lnTo>
                      <a:pt x="16" y="0"/>
                    </a:lnTo>
                    <a:close/>
                    <a:moveTo>
                      <a:pt x="1968" y="0"/>
                    </a:moveTo>
                    <a:lnTo>
                      <a:pt x="2614" y="0"/>
                    </a:lnTo>
                    <a:lnTo>
                      <a:pt x="2562" y="54"/>
                    </a:lnTo>
                    <a:lnTo>
                      <a:pt x="1942" y="54"/>
                    </a:lnTo>
                    <a:lnTo>
                      <a:pt x="1950" y="38"/>
                    </a:lnTo>
                    <a:lnTo>
                      <a:pt x="1968" y="0"/>
                    </a:lnTo>
                    <a:close/>
                    <a:moveTo>
                      <a:pt x="3483" y="0"/>
                    </a:moveTo>
                    <a:lnTo>
                      <a:pt x="4138" y="0"/>
                    </a:lnTo>
                    <a:lnTo>
                      <a:pt x="4139" y="1"/>
                    </a:lnTo>
                    <a:lnTo>
                      <a:pt x="4148" y="1"/>
                    </a:lnTo>
                    <a:lnTo>
                      <a:pt x="4150" y="0"/>
                    </a:lnTo>
                    <a:lnTo>
                      <a:pt x="4714" y="0"/>
                    </a:lnTo>
                    <a:lnTo>
                      <a:pt x="4794" y="20"/>
                    </a:lnTo>
                    <a:lnTo>
                      <a:pt x="4881" y="54"/>
                    </a:lnTo>
                    <a:lnTo>
                      <a:pt x="3528" y="54"/>
                    </a:lnTo>
                    <a:lnTo>
                      <a:pt x="3508" y="28"/>
                    </a:lnTo>
                    <a:lnTo>
                      <a:pt x="348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3592440" y="3576960"/>
                <a:ext cx="1903680" cy="19440"/>
              </a:xfrm>
              <a:custGeom>
                <a:avLst/>
                <a:gdLst/>
                <a:ahLst/>
                <a:rect l="l" t="t" r="r" b="b"/>
                <a:pathLst>
                  <a:path w="4956" h="55">
                    <a:moveTo>
                      <a:pt x="12" y="0"/>
                    </a:moveTo>
                    <a:lnTo>
                      <a:pt x="1057" y="0"/>
                    </a:lnTo>
                    <a:lnTo>
                      <a:pt x="1023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61" y="0"/>
                    </a:moveTo>
                    <a:lnTo>
                      <a:pt x="2593" y="0"/>
                    </a:lnTo>
                    <a:lnTo>
                      <a:pt x="2542" y="55"/>
                    </a:lnTo>
                    <a:lnTo>
                      <a:pt x="1933" y="55"/>
                    </a:lnTo>
                    <a:lnTo>
                      <a:pt x="1956" y="12"/>
                    </a:lnTo>
                    <a:lnTo>
                      <a:pt x="1961" y="0"/>
                    </a:lnTo>
                    <a:close/>
                    <a:moveTo>
                      <a:pt x="3513" y="0"/>
                    </a:moveTo>
                    <a:lnTo>
                      <a:pt x="4816" y="0"/>
                    </a:lnTo>
                    <a:lnTo>
                      <a:pt x="4956" y="55"/>
                    </a:lnTo>
                    <a:lnTo>
                      <a:pt x="3554" y="55"/>
                    </a:lnTo>
                    <a:lnTo>
                      <a:pt x="3514" y="2"/>
                    </a:lnTo>
                    <a:lnTo>
                      <a:pt x="3513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3590640" y="3587400"/>
                <a:ext cx="1932480" cy="18000"/>
              </a:xfrm>
              <a:custGeom>
                <a:avLst/>
                <a:gdLst/>
                <a:ahLst/>
                <a:rect l="l" t="t" r="r" b="b"/>
                <a:pathLst>
                  <a:path w="5030" h="53">
                    <a:moveTo>
                      <a:pt x="12" y="0"/>
                    </a:moveTo>
                    <a:lnTo>
                      <a:pt x="1046" y="0"/>
                    </a:lnTo>
                    <a:lnTo>
                      <a:pt x="10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574" y="0"/>
                    </a:lnTo>
                    <a:lnTo>
                      <a:pt x="2523" y="53"/>
                    </a:lnTo>
                    <a:lnTo>
                      <a:pt x="1925" y="53"/>
                    </a:lnTo>
                    <a:lnTo>
                      <a:pt x="1925" y="53"/>
                    </a:lnTo>
                    <a:lnTo>
                      <a:pt x="1954" y="0"/>
                    </a:lnTo>
                    <a:close/>
                    <a:moveTo>
                      <a:pt x="3540" y="0"/>
                    </a:moveTo>
                    <a:lnTo>
                      <a:pt x="4893" y="0"/>
                    </a:lnTo>
                    <a:lnTo>
                      <a:pt x="4980" y="33"/>
                    </a:lnTo>
                    <a:lnTo>
                      <a:pt x="5030" y="53"/>
                    </a:lnTo>
                    <a:lnTo>
                      <a:pt x="3580" y="53"/>
                    </a:lnTo>
                    <a:lnTo>
                      <a:pt x="3540" y="0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588840" y="3596760"/>
                <a:ext cx="1959480" cy="19080"/>
              </a:xfrm>
              <a:custGeom>
                <a:avLst/>
                <a:gdLst/>
                <a:ahLst/>
                <a:rect l="l" t="t" r="r" b="b"/>
                <a:pathLst>
                  <a:path w="5101" h="53">
                    <a:moveTo>
                      <a:pt x="11" y="0"/>
                    </a:moveTo>
                    <a:lnTo>
                      <a:pt x="1034" y="0"/>
                    </a:lnTo>
                    <a:lnTo>
                      <a:pt x="999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4" y="0"/>
                    </a:moveTo>
                    <a:lnTo>
                      <a:pt x="2553" y="0"/>
                    </a:lnTo>
                    <a:lnTo>
                      <a:pt x="2502" y="53"/>
                    </a:lnTo>
                    <a:lnTo>
                      <a:pt x="1924" y="53"/>
                    </a:lnTo>
                    <a:lnTo>
                      <a:pt x="1930" y="26"/>
                    </a:lnTo>
                    <a:lnTo>
                      <a:pt x="1944" y="0"/>
                    </a:lnTo>
                    <a:close/>
                    <a:moveTo>
                      <a:pt x="3565" y="0"/>
                    </a:moveTo>
                    <a:lnTo>
                      <a:pt x="4967" y="0"/>
                    </a:lnTo>
                    <a:lnTo>
                      <a:pt x="4985" y="6"/>
                    </a:lnTo>
                    <a:lnTo>
                      <a:pt x="5101" y="53"/>
                    </a:lnTo>
                    <a:lnTo>
                      <a:pt x="3609" y="53"/>
                    </a:lnTo>
                    <a:lnTo>
                      <a:pt x="3593" y="36"/>
                    </a:lnTo>
                    <a:lnTo>
                      <a:pt x="3565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584880" y="3605400"/>
                <a:ext cx="1992240" cy="19080"/>
              </a:xfrm>
              <a:custGeom>
                <a:avLst/>
                <a:gdLst/>
                <a:ahLst/>
                <a:rect l="l" t="t" r="r" b="b"/>
                <a:pathLst>
                  <a:path w="5182" h="55">
                    <a:moveTo>
                      <a:pt x="12" y="0"/>
                    </a:moveTo>
                    <a:lnTo>
                      <a:pt x="1024" y="0"/>
                    </a:lnTo>
                    <a:lnTo>
                      <a:pt x="989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1937" y="0"/>
                    </a:moveTo>
                    <a:lnTo>
                      <a:pt x="2535" y="0"/>
                    </a:lnTo>
                    <a:lnTo>
                      <a:pt x="2483" y="55"/>
                    </a:lnTo>
                    <a:lnTo>
                      <a:pt x="1932" y="55"/>
                    </a:lnTo>
                    <a:lnTo>
                      <a:pt x="1929" y="38"/>
                    </a:lnTo>
                    <a:lnTo>
                      <a:pt x="1937" y="0"/>
                    </a:lnTo>
                    <a:close/>
                    <a:moveTo>
                      <a:pt x="3592" y="0"/>
                    </a:moveTo>
                    <a:lnTo>
                      <a:pt x="5042" y="0"/>
                    </a:lnTo>
                    <a:lnTo>
                      <a:pt x="5158" y="47"/>
                    </a:lnTo>
                    <a:lnTo>
                      <a:pt x="5182" y="55"/>
                    </a:lnTo>
                    <a:lnTo>
                      <a:pt x="3642" y="55"/>
                    </a:lnTo>
                    <a:lnTo>
                      <a:pt x="3600" y="10"/>
                    </a:lnTo>
                    <a:lnTo>
                      <a:pt x="3592" y="0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582720" y="3615840"/>
                <a:ext cx="2028960" cy="19440"/>
              </a:xfrm>
              <a:custGeom>
                <a:avLst/>
                <a:gdLst/>
                <a:ahLst/>
                <a:rect l="l" t="t" r="r" b="b"/>
                <a:pathLst>
                  <a:path w="5280" h="54">
                    <a:moveTo>
                      <a:pt x="13" y="0"/>
                    </a:moveTo>
                    <a:lnTo>
                      <a:pt x="1012" y="0"/>
                    </a:lnTo>
                    <a:lnTo>
                      <a:pt x="977" y="54"/>
                    </a:lnTo>
                    <a:lnTo>
                      <a:pt x="0" y="54"/>
                    </a:lnTo>
                    <a:lnTo>
                      <a:pt x="13" y="0"/>
                    </a:lnTo>
                    <a:close/>
                    <a:moveTo>
                      <a:pt x="1937" y="0"/>
                    </a:moveTo>
                    <a:lnTo>
                      <a:pt x="2515" y="0"/>
                    </a:lnTo>
                    <a:lnTo>
                      <a:pt x="2463" y="54"/>
                    </a:lnTo>
                    <a:lnTo>
                      <a:pt x="1942" y="54"/>
                    </a:lnTo>
                    <a:lnTo>
                      <a:pt x="1935" y="11"/>
                    </a:lnTo>
                    <a:lnTo>
                      <a:pt x="1937" y="0"/>
                    </a:lnTo>
                    <a:close/>
                    <a:moveTo>
                      <a:pt x="3622" y="0"/>
                    </a:moveTo>
                    <a:lnTo>
                      <a:pt x="5114" y="0"/>
                    </a:lnTo>
                    <a:lnTo>
                      <a:pt x="5164" y="20"/>
                    </a:lnTo>
                    <a:lnTo>
                      <a:pt x="5280" y="54"/>
                    </a:lnTo>
                    <a:lnTo>
                      <a:pt x="3674" y="54"/>
                    </a:lnTo>
                    <a:lnTo>
                      <a:pt x="3622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580920" y="3624840"/>
                <a:ext cx="2211480" cy="19440"/>
              </a:xfrm>
              <a:custGeom>
                <a:avLst/>
                <a:gdLst/>
                <a:ahLst/>
                <a:rect l="l" t="t" r="r" b="b"/>
                <a:pathLst>
                  <a:path w="5757" h="53">
                    <a:moveTo>
                      <a:pt x="11" y="0"/>
                    </a:moveTo>
                    <a:lnTo>
                      <a:pt x="1000" y="0"/>
                    </a:lnTo>
                    <a:lnTo>
                      <a:pt x="966" y="53"/>
                    </a:lnTo>
                    <a:lnTo>
                      <a:pt x="0" y="53"/>
                    </a:lnTo>
                    <a:lnTo>
                      <a:pt x="11" y="0"/>
                    </a:lnTo>
                    <a:close/>
                    <a:moveTo>
                      <a:pt x="1943" y="0"/>
                    </a:moveTo>
                    <a:lnTo>
                      <a:pt x="2494" y="0"/>
                    </a:lnTo>
                    <a:lnTo>
                      <a:pt x="2463" y="32"/>
                    </a:lnTo>
                    <a:lnTo>
                      <a:pt x="2463" y="42"/>
                    </a:lnTo>
                    <a:lnTo>
                      <a:pt x="2466" y="53"/>
                    </a:lnTo>
                    <a:lnTo>
                      <a:pt x="1955" y="53"/>
                    </a:lnTo>
                    <a:lnTo>
                      <a:pt x="1948" y="32"/>
                    </a:lnTo>
                    <a:lnTo>
                      <a:pt x="1943" y="0"/>
                    </a:lnTo>
                    <a:close/>
                    <a:moveTo>
                      <a:pt x="3653" y="0"/>
                    </a:moveTo>
                    <a:lnTo>
                      <a:pt x="5193" y="0"/>
                    </a:lnTo>
                    <a:lnTo>
                      <a:pt x="5364" y="50"/>
                    </a:lnTo>
                    <a:lnTo>
                      <a:pt x="5394" y="53"/>
                    </a:lnTo>
                    <a:lnTo>
                      <a:pt x="3704" y="53"/>
                    </a:lnTo>
                    <a:lnTo>
                      <a:pt x="3653" y="0"/>
                    </a:lnTo>
                    <a:close/>
                    <a:moveTo>
                      <a:pt x="5757" y="53"/>
                    </a:moveTo>
                    <a:lnTo>
                      <a:pt x="5571" y="53"/>
                    </a:lnTo>
                    <a:lnTo>
                      <a:pt x="5635" y="42"/>
                    </a:lnTo>
                    <a:lnTo>
                      <a:pt x="5701" y="32"/>
                    </a:lnTo>
                    <a:lnTo>
                      <a:pt x="5741" y="42"/>
                    </a:lnTo>
                    <a:lnTo>
                      <a:pt x="5757" y="53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579120" y="3635640"/>
                <a:ext cx="2226240" cy="19080"/>
              </a:xfrm>
              <a:custGeom>
                <a:avLst/>
                <a:gdLst/>
                <a:ahLst/>
                <a:rect l="l" t="t" r="r" b="b"/>
                <a:pathLst>
                  <a:path w="5796" h="55">
                    <a:moveTo>
                      <a:pt x="12" y="0"/>
                    </a:moveTo>
                    <a:lnTo>
                      <a:pt x="989" y="0"/>
                    </a:lnTo>
                    <a:lnTo>
                      <a:pt x="956" y="55"/>
                    </a:lnTo>
                    <a:lnTo>
                      <a:pt x="0" y="55"/>
                    </a:lnTo>
                    <a:lnTo>
                      <a:pt x="5" y="36"/>
                    </a:lnTo>
                    <a:lnTo>
                      <a:pt x="12" y="0"/>
                    </a:lnTo>
                    <a:close/>
                    <a:moveTo>
                      <a:pt x="1954" y="0"/>
                    </a:moveTo>
                    <a:lnTo>
                      <a:pt x="2475" y="0"/>
                    </a:lnTo>
                    <a:lnTo>
                      <a:pt x="2470" y="6"/>
                    </a:lnTo>
                    <a:lnTo>
                      <a:pt x="2470" y="16"/>
                    </a:lnTo>
                    <a:lnTo>
                      <a:pt x="2478" y="43"/>
                    </a:lnTo>
                    <a:lnTo>
                      <a:pt x="2478" y="55"/>
                    </a:lnTo>
                    <a:lnTo>
                      <a:pt x="1969" y="55"/>
                    </a:lnTo>
                    <a:lnTo>
                      <a:pt x="1955" y="6"/>
                    </a:lnTo>
                    <a:lnTo>
                      <a:pt x="1954" y="0"/>
                    </a:lnTo>
                    <a:close/>
                    <a:moveTo>
                      <a:pt x="3686" y="0"/>
                    </a:moveTo>
                    <a:lnTo>
                      <a:pt x="5292" y="0"/>
                    </a:lnTo>
                    <a:lnTo>
                      <a:pt x="5371" y="24"/>
                    </a:lnTo>
                    <a:lnTo>
                      <a:pt x="5465" y="36"/>
                    </a:lnTo>
                    <a:lnTo>
                      <a:pt x="5533" y="36"/>
                    </a:lnTo>
                    <a:lnTo>
                      <a:pt x="5642" y="16"/>
                    </a:lnTo>
                    <a:lnTo>
                      <a:pt x="5708" y="6"/>
                    </a:lnTo>
                    <a:lnTo>
                      <a:pt x="5748" y="16"/>
                    </a:lnTo>
                    <a:lnTo>
                      <a:pt x="5786" y="43"/>
                    </a:lnTo>
                    <a:lnTo>
                      <a:pt x="5796" y="55"/>
                    </a:lnTo>
                    <a:lnTo>
                      <a:pt x="3736" y="55"/>
                    </a:lnTo>
                    <a:lnTo>
                      <a:pt x="3686" y="0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6960" y="3644640"/>
                <a:ext cx="2238480" cy="19080"/>
              </a:xfrm>
              <a:custGeom>
                <a:avLst/>
                <a:gdLst/>
                <a:ahLst/>
                <a:rect l="l" t="t" r="r" b="b"/>
                <a:pathLst>
                  <a:path w="5825" h="55">
                    <a:moveTo>
                      <a:pt x="11" y="0"/>
                    </a:moveTo>
                    <a:lnTo>
                      <a:pt x="977" y="0"/>
                    </a:lnTo>
                    <a:lnTo>
                      <a:pt x="942" y="55"/>
                    </a:lnTo>
                    <a:lnTo>
                      <a:pt x="0" y="55"/>
                    </a:lnTo>
                    <a:lnTo>
                      <a:pt x="9" y="9"/>
                    </a:lnTo>
                    <a:lnTo>
                      <a:pt x="11" y="0"/>
                    </a:lnTo>
                    <a:close/>
                    <a:moveTo>
                      <a:pt x="1966" y="0"/>
                    </a:moveTo>
                    <a:lnTo>
                      <a:pt x="2477" y="0"/>
                    </a:lnTo>
                    <a:lnTo>
                      <a:pt x="2482" y="16"/>
                    </a:lnTo>
                    <a:lnTo>
                      <a:pt x="2482" y="55"/>
                    </a:lnTo>
                    <a:lnTo>
                      <a:pt x="1981" y="55"/>
                    </a:lnTo>
                    <a:lnTo>
                      <a:pt x="1978" y="47"/>
                    </a:lnTo>
                    <a:lnTo>
                      <a:pt x="1966" y="0"/>
                    </a:lnTo>
                    <a:close/>
                    <a:moveTo>
                      <a:pt x="3715" y="0"/>
                    </a:moveTo>
                    <a:lnTo>
                      <a:pt x="5405" y="0"/>
                    </a:lnTo>
                    <a:lnTo>
                      <a:pt x="5469" y="9"/>
                    </a:lnTo>
                    <a:lnTo>
                      <a:pt x="5537" y="9"/>
                    </a:lnTo>
                    <a:lnTo>
                      <a:pt x="5582" y="0"/>
                    </a:lnTo>
                    <a:lnTo>
                      <a:pt x="5768" y="0"/>
                    </a:lnTo>
                    <a:lnTo>
                      <a:pt x="5790" y="16"/>
                    </a:lnTo>
                    <a:lnTo>
                      <a:pt x="5825" y="55"/>
                    </a:lnTo>
                    <a:lnTo>
                      <a:pt x="3767" y="55"/>
                    </a:lnTo>
                    <a:lnTo>
                      <a:pt x="3758" y="47"/>
                    </a:lnTo>
                    <a:lnTo>
                      <a:pt x="371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575160" y="3655080"/>
                <a:ext cx="2245680" cy="17640"/>
              </a:xfrm>
              <a:custGeom>
                <a:avLst/>
                <a:gdLst/>
                <a:ahLst/>
                <a:rect l="l" t="t" r="r" b="b"/>
                <a:pathLst>
                  <a:path w="5846" h="53">
                    <a:moveTo>
                      <a:pt x="9" y="0"/>
                    </a:moveTo>
                    <a:lnTo>
                      <a:pt x="965" y="0"/>
                    </a:lnTo>
                    <a:lnTo>
                      <a:pt x="930" y="53"/>
                    </a:lnTo>
                    <a:lnTo>
                      <a:pt x="905" y="53"/>
                    </a:lnTo>
                    <a:lnTo>
                      <a:pt x="842" y="48"/>
                    </a:lnTo>
                    <a:lnTo>
                      <a:pt x="842" y="53"/>
                    </a:lnTo>
                    <a:lnTo>
                      <a:pt x="0" y="53"/>
                    </a:lnTo>
                    <a:lnTo>
                      <a:pt x="9" y="0"/>
                    </a:lnTo>
                    <a:close/>
                    <a:moveTo>
                      <a:pt x="1978" y="0"/>
                    </a:moveTo>
                    <a:lnTo>
                      <a:pt x="2487" y="0"/>
                    </a:lnTo>
                    <a:lnTo>
                      <a:pt x="2487" y="37"/>
                    </a:lnTo>
                    <a:lnTo>
                      <a:pt x="2488" y="53"/>
                    </a:lnTo>
                    <a:lnTo>
                      <a:pt x="1996" y="53"/>
                    </a:lnTo>
                    <a:lnTo>
                      <a:pt x="1983" y="19"/>
                    </a:lnTo>
                    <a:lnTo>
                      <a:pt x="1978" y="0"/>
                    </a:lnTo>
                    <a:close/>
                    <a:moveTo>
                      <a:pt x="3745" y="0"/>
                    </a:moveTo>
                    <a:lnTo>
                      <a:pt x="5805" y="0"/>
                    </a:lnTo>
                    <a:lnTo>
                      <a:pt x="5831" y="28"/>
                    </a:lnTo>
                    <a:lnTo>
                      <a:pt x="5846" y="53"/>
                    </a:lnTo>
                    <a:lnTo>
                      <a:pt x="3801" y="53"/>
                    </a:lnTo>
                    <a:lnTo>
                      <a:pt x="3763" y="19"/>
                    </a:lnTo>
                    <a:lnTo>
                      <a:pt x="3745" y="0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573000" y="3663720"/>
                <a:ext cx="2251800" cy="19440"/>
              </a:xfrm>
              <a:custGeom>
                <a:avLst/>
                <a:gdLst/>
                <a:ahLst/>
                <a:rect l="l" t="t" r="r" b="b"/>
                <a:pathLst>
                  <a:path w="5860" h="54">
                    <a:moveTo>
                      <a:pt x="10" y="0"/>
                    </a:moveTo>
                    <a:lnTo>
                      <a:pt x="952" y="0"/>
                    </a:lnTo>
                    <a:lnTo>
                      <a:pt x="934" y="28"/>
                    </a:lnTo>
                    <a:lnTo>
                      <a:pt x="847" y="21"/>
                    </a:lnTo>
                    <a:lnTo>
                      <a:pt x="847" y="28"/>
                    </a:lnTo>
                    <a:lnTo>
                      <a:pt x="839" y="48"/>
                    </a:lnTo>
                    <a:lnTo>
                      <a:pt x="838" y="54"/>
                    </a:lnTo>
                    <a:lnTo>
                      <a:pt x="0" y="54"/>
                    </a:lnTo>
                    <a:lnTo>
                      <a:pt x="10" y="0"/>
                    </a:lnTo>
                    <a:close/>
                    <a:moveTo>
                      <a:pt x="1991" y="0"/>
                    </a:moveTo>
                    <a:lnTo>
                      <a:pt x="2492" y="0"/>
                    </a:lnTo>
                    <a:lnTo>
                      <a:pt x="2492" y="10"/>
                    </a:lnTo>
                    <a:lnTo>
                      <a:pt x="2498" y="54"/>
                    </a:lnTo>
                    <a:lnTo>
                      <a:pt x="2010" y="54"/>
                    </a:lnTo>
                    <a:lnTo>
                      <a:pt x="1991" y="0"/>
                    </a:lnTo>
                    <a:close/>
                    <a:moveTo>
                      <a:pt x="3777" y="0"/>
                    </a:moveTo>
                    <a:lnTo>
                      <a:pt x="5835" y="0"/>
                    </a:lnTo>
                    <a:lnTo>
                      <a:pt x="5836" y="1"/>
                    </a:lnTo>
                    <a:lnTo>
                      <a:pt x="5858" y="41"/>
                    </a:lnTo>
                    <a:lnTo>
                      <a:pt x="5860" y="54"/>
                    </a:lnTo>
                    <a:lnTo>
                      <a:pt x="3835" y="54"/>
                    </a:lnTo>
                    <a:lnTo>
                      <a:pt x="3777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569760" y="3672720"/>
                <a:ext cx="2255400" cy="19440"/>
              </a:xfrm>
              <a:custGeom>
                <a:avLst/>
                <a:gdLst/>
                <a:ahLst/>
                <a:rect l="l" t="t" r="r" b="b"/>
                <a:pathLst>
                  <a:path w="5873" h="55">
                    <a:moveTo>
                      <a:pt x="15" y="0"/>
                    </a:moveTo>
                    <a:lnTo>
                      <a:pt x="857" y="0"/>
                    </a:lnTo>
                    <a:lnTo>
                      <a:pt x="857" y="2"/>
                    </a:lnTo>
                    <a:lnTo>
                      <a:pt x="849" y="22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9" y="31"/>
                    </a:lnTo>
                    <a:lnTo>
                      <a:pt x="15" y="0"/>
                    </a:lnTo>
                    <a:close/>
                    <a:moveTo>
                      <a:pt x="920" y="0"/>
                    </a:moveTo>
                    <a:lnTo>
                      <a:pt x="945" y="0"/>
                    </a:lnTo>
                    <a:lnTo>
                      <a:pt x="944" y="2"/>
                    </a:lnTo>
                    <a:lnTo>
                      <a:pt x="920" y="0"/>
                    </a:lnTo>
                    <a:close/>
                    <a:moveTo>
                      <a:pt x="2011" y="0"/>
                    </a:moveTo>
                    <a:lnTo>
                      <a:pt x="2503" y="0"/>
                    </a:lnTo>
                    <a:lnTo>
                      <a:pt x="2510" y="44"/>
                    </a:lnTo>
                    <a:lnTo>
                      <a:pt x="2510" y="55"/>
                    </a:lnTo>
                    <a:lnTo>
                      <a:pt x="2029" y="55"/>
                    </a:lnTo>
                    <a:lnTo>
                      <a:pt x="2029" y="52"/>
                    </a:lnTo>
                    <a:lnTo>
                      <a:pt x="2011" y="0"/>
                    </a:lnTo>
                    <a:close/>
                    <a:moveTo>
                      <a:pt x="3816" y="0"/>
                    </a:moveTo>
                    <a:lnTo>
                      <a:pt x="5861" y="0"/>
                    </a:lnTo>
                    <a:lnTo>
                      <a:pt x="5868" y="15"/>
                    </a:lnTo>
                    <a:lnTo>
                      <a:pt x="5873" y="55"/>
                    </a:lnTo>
                    <a:lnTo>
                      <a:pt x="3875" y="55"/>
                    </a:lnTo>
                    <a:lnTo>
                      <a:pt x="3816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3565800" y="3683520"/>
                <a:ext cx="2261160" cy="17640"/>
              </a:xfrm>
              <a:custGeom>
                <a:avLst/>
                <a:gdLst/>
                <a:ahLst/>
                <a:rect l="l" t="t" r="r" b="b"/>
                <a:pathLst>
                  <a:path w="5885" h="53">
                    <a:moveTo>
                      <a:pt x="20" y="0"/>
                    </a:moveTo>
                    <a:lnTo>
                      <a:pt x="858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9" y="3"/>
                    </a:lnTo>
                    <a:lnTo>
                      <a:pt x="20" y="0"/>
                    </a:lnTo>
                    <a:close/>
                    <a:moveTo>
                      <a:pt x="2030" y="0"/>
                    </a:moveTo>
                    <a:lnTo>
                      <a:pt x="2518" y="0"/>
                    </a:lnTo>
                    <a:lnTo>
                      <a:pt x="2520" y="16"/>
                    </a:lnTo>
                    <a:lnTo>
                      <a:pt x="2520" y="53"/>
                    </a:lnTo>
                    <a:lnTo>
                      <a:pt x="2048" y="53"/>
                    </a:lnTo>
                    <a:lnTo>
                      <a:pt x="2039" y="24"/>
                    </a:lnTo>
                    <a:lnTo>
                      <a:pt x="2030" y="0"/>
                    </a:lnTo>
                    <a:close/>
                    <a:moveTo>
                      <a:pt x="3855" y="0"/>
                    </a:moveTo>
                    <a:lnTo>
                      <a:pt x="5880" y="0"/>
                    </a:lnTo>
                    <a:lnTo>
                      <a:pt x="5885" y="53"/>
                    </a:lnTo>
                    <a:lnTo>
                      <a:pt x="3914" y="53"/>
                    </a:lnTo>
                    <a:lnTo>
                      <a:pt x="3855" y="0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3561840" y="3692160"/>
                <a:ext cx="2265120" cy="19080"/>
              </a:xfrm>
              <a:custGeom>
                <a:avLst/>
                <a:gdLst/>
                <a:ahLst/>
                <a:rect l="l" t="t" r="r" b="b"/>
                <a:pathLst>
                  <a:path w="5897" h="53">
                    <a:moveTo>
                      <a:pt x="20" y="0"/>
                    </a:moveTo>
                    <a:lnTo>
                      <a:pt x="861" y="0"/>
                    </a:lnTo>
                    <a:lnTo>
                      <a:pt x="850" y="46"/>
                    </a:lnTo>
                    <a:lnTo>
                      <a:pt x="848" y="53"/>
                    </a:lnTo>
                    <a:lnTo>
                      <a:pt x="0" y="53"/>
                    </a:lnTo>
                    <a:lnTo>
                      <a:pt x="20" y="0"/>
                    </a:lnTo>
                    <a:close/>
                    <a:moveTo>
                      <a:pt x="2049" y="0"/>
                    </a:moveTo>
                    <a:lnTo>
                      <a:pt x="2530" y="0"/>
                    </a:lnTo>
                    <a:lnTo>
                      <a:pt x="2530" y="53"/>
                    </a:lnTo>
                    <a:lnTo>
                      <a:pt x="2067" y="53"/>
                    </a:lnTo>
                    <a:lnTo>
                      <a:pt x="2049" y="0"/>
                    </a:lnTo>
                    <a:close/>
                    <a:moveTo>
                      <a:pt x="3895" y="0"/>
                    </a:moveTo>
                    <a:lnTo>
                      <a:pt x="5893" y="0"/>
                    </a:lnTo>
                    <a:lnTo>
                      <a:pt x="5897" y="46"/>
                    </a:lnTo>
                    <a:lnTo>
                      <a:pt x="5896" y="53"/>
                    </a:lnTo>
                    <a:lnTo>
                      <a:pt x="3961" y="53"/>
                    </a:lnTo>
                    <a:lnTo>
                      <a:pt x="3924" y="26"/>
                    </a:lnTo>
                    <a:lnTo>
                      <a:pt x="3895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3557880" y="3701160"/>
                <a:ext cx="2269080" cy="19080"/>
              </a:xfrm>
              <a:custGeom>
                <a:avLst/>
                <a:gdLst/>
                <a:ahLst/>
                <a:rect l="l" t="t" r="r" b="b"/>
                <a:pathLst>
                  <a:path w="5904" h="55">
                    <a:moveTo>
                      <a:pt x="17" y="0"/>
                    </a:moveTo>
                    <a:lnTo>
                      <a:pt x="861" y="0"/>
                    </a:lnTo>
                    <a:lnTo>
                      <a:pt x="857" y="20"/>
                    </a:lnTo>
                    <a:lnTo>
                      <a:pt x="847" y="55"/>
                    </a:lnTo>
                    <a:lnTo>
                      <a:pt x="0" y="55"/>
                    </a:lnTo>
                    <a:lnTo>
                      <a:pt x="4" y="36"/>
                    </a:lnTo>
                    <a:lnTo>
                      <a:pt x="17" y="0"/>
                    </a:lnTo>
                    <a:close/>
                    <a:moveTo>
                      <a:pt x="2065" y="0"/>
                    </a:moveTo>
                    <a:lnTo>
                      <a:pt x="2537" y="0"/>
                    </a:lnTo>
                    <a:lnTo>
                      <a:pt x="2537" y="55"/>
                    </a:lnTo>
                    <a:lnTo>
                      <a:pt x="2082" y="55"/>
                    </a:lnTo>
                    <a:lnTo>
                      <a:pt x="2065" y="0"/>
                    </a:lnTo>
                    <a:close/>
                    <a:moveTo>
                      <a:pt x="3931" y="0"/>
                    </a:moveTo>
                    <a:lnTo>
                      <a:pt x="5902" y="0"/>
                    </a:lnTo>
                    <a:lnTo>
                      <a:pt x="5904" y="20"/>
                    </a:lnTo>
                    <a:lnTo>
                      <a:pt x="5901" y="55"/>
                    </a:lnTo>
                    <a:lnTo>
                      <a:pt x="4885" y="55"/>
                    </a:lnTo>
                    <a:lnTo>
                      <a:pt x="4801" y="49"/>
                    </a:lnTo>
                    <a:lnTo>
                      <a:pt x="4685" y="49"/>
                    </a:lnTo>
                    <a:lnTo>
                      <a:pt x="4624" y="55"/>
                    </a:lnTo>
                    <a:lnTo>
                      <a:pt x="4003" y="55"/>
                    </a:lnTo>
                    <a:lnTo>
                      <a:pt x="3931" y="0"/>
                    </a:lnTo>
                    <a:lnTo>
                      <a:pt x="3931" y="0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3556080" y="3711600"/>
                <a:ext cx="2270520" cy="19440"/>
              </a:xfrm>
              <a:custGeom>
                <a:avLst/>
                <a:gdLst/>
                <a:ahLst/>
                <a:rect l="l" t="t" r="r" b="b"/>
                <a:pathLst>
                  <a:path w="5908" h="54">
                    <a:moveTo>
                      <a:pt x="12" y="0"/>
                    </a:moveTo>
                    <a:lnTo>
                      <a:pt x="860" y="0"/>
                    </a:lnTo>
                    <a:lnTo>
                      <a:pt x="844" y="54"/>
                    </a:lnTo>
                    <a:lnTo>
                      <a:pt x="0" y="54"/>
                    </a:lnTo>
                    <a:lnTo>
                      <a:pt x="9" y="9"/>
                    </a:lnTo>
                    <a:lnTo>
                      <a:pt x="12" y="0"/>
                    </a:lnTo>
                    <a:close/>
                    <a:moveTo>
                      <a:pt x="2079" y="0"/>
                    </a:moveTo>
                    <a:lnTo>
                      <a:pt x="2542" y="0"/>
                    </a:lnTo>
                    <a:lnTo>
                      <a:pt x="2542" y="54"/>
                    </a:lnTo>
                    <a:lnTo>
                      <a:pt x="2096" y="54"/>
                    </a:lnTo>
                    <a:lnTo>
                      <a:pt x="2079" y="0"/>
                    </a:lnTo>
                    <a:close/>
                    <a:moveTo>
                      <a:pt x="3973" y="0"/>
                    </a:moveTo>
                    <a:lnTo>
                      <a:pt x="5908" y="0"/>
                    </a:lnTo>
                    <a:lnTo>
                      <a:pt x="5904" y="54"/>
                    </a:lnTo>
                    <a:lnTo>
                      <a:pt x="5120" y="54"/>
                    </a:lnTo>
                    <a:lnTo>
                      <a:pt x="5108" y="53"/>
                    </a:lnTo>
                    <a:lnTo>
                      <a:pt x="4952" y="31"/>
                    </a:lnTo>
                    <a:lnTo>
                      <a:pt x="4806" y="22"/>
                    </a:lnTo>
                    <a:lnTo>
                      <a:pt x="4690" y="22"/>
                    </a:lnTo>
                    <a:lnTo>
                      <a:pt x="4585" y="31"/>
                    </a:lnTo>
                    <a:lnTo>
                      <a:pt x="4419" y="53"/>
                    </a:lnTo>
                    <a:lnTo>
                      <a:pt x="4411" y="54"/>
                    </a:lnTo>
                    <a:lnTo>
                      <a:pt x="4045" y="54"/>
                    </a:lnTo>
                    <a:lnTo>
                      <a:pt x="3973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3553920" y="3720240"/>
                <a:ext cx="2273040" cy="19440"/>
              </a:xfrm>
              <a:custGeom>
                <a:avLst/>
                <a:gdLst/>
                <a:ahLst/>
                <a:rect l="l" t="t" r="r" b="b"/>
                <a:pathLst>
                  <a:path w="5913" h="53">
                    <a:moveTo>
                      <a:pt x="12" y="0"/>
                    </a:moveTo>
                    <a:lnTo>
                      <a:pt x="859" y="0"/>
                    </a:lnTo>
                    <a:lnTo>
                      <a:pt x="844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  <a:moveTo>
                      <a:pt x="2094" y="0"/>
                    </a:moveTo>
                    <a:lnTo>
                      <a:pt x="2549" y="0"/>
                    </a:lnTo>
                    <a:lnTo>
                      <a:pt x="2549" y="53"/>
                    </a:lnTo>
                    <a:lnTo>
                      <a:pt x="2109" y="53"/>
                    </a:lnTo>
                    <a:lnTo>
                      <a:pt x="2105" y="32"/>
                    </a:lnTo>
                    <a:lnTo>
                      <a:pt x="2094" y="0"/>
                    </a:lnTo>
                    <a:close/>
                    <a:moveTo>
                      <a:pt x="4015" y="0"/>
                    </a:moveTo>
                    <a:lnTo>
                      <a:pt x="4636" y="0"/>
                    </a:lnTo>
                    <a:lnTo>
                      <a:pt x="4592" y="3"/>
                    </a:lnTo>
                    <a:lnTo>
                      <a:pt x="4426" y="25"/>
                    </a:lnTo>
                    <a:lnTo>
                      <a:pt x="4310" y="52"/>
                    </a:lnTo>
                    <a:lnTo>
                      <a:pt x="4303" y="53"/>
                    </a:lnTo>
                    <a:lnTo>
                      <a:pt x="4092" y="53"/>
                    </a:lnTo>
                    <a:lnTo>
                      <a:pt x="4087" y="52"/>
                    </a:lnTo>
                    <a:lnTo>
                      <a:pt x="4015" y="0"/>
                    </a:lnTo>
                    <a:close/>
                    <a:moveTo>
                      <a:pt x="4897" y="0"/>
                    </a:moveTo>
                    <a:lnTo>
                      <a:pt x="5913" y="0"/>
                    </a:lnTo>
                    <a:lnTo>
                      <a:pt x="5909" y="53"/>
                    </a:lnTo>
                    <a:lnTo>
                      <a:pt x="5295" y="53"/>
                    </a:lnTo>
                    <a:lnTo>
                      <a:pt x="5288" y="52"/>
                    </a:lnTo>
                    <a:lnTo>
                      <a:pt x="5115" y="25"/>
                    </a:lnTo>
                    <a:lnTo>
                      <a:pt x="4959" y="3"/>
                    </a:lnTo>
                    <a:lnTo>
                      <a:pt x="4897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3552120" y="3731040"/>
                <a:ext cx="2273040" cy="19080"/>
              </a:xfrm>
              <a:custGeom>
                <a:avLst/>
                <a:gdLst/>
                <a:ahLst/>
                <a:rect l="l" t="t" r="r" b="b"/>
                <a:pathLst>
                  <a:path w="5916" h="55">
                    <a:moveTo>
                      <a:pt x="12" y="0"/>
                    </a:moveTo>
                    <a:lnTo>
                      <a:pt x="856" y="0"/>
                    </a:lnTo>
                    <a:lnTo>
                      <a:pt x="841" y="55"/>
                    </a:lnTo>
                    <a:lnTo>
                      <a:pt x="0" y="55"/>
                    </a:lnTo>
                    <a:lnTo>
                      <a:pt x="12" y="0"/>
                    </a:lnTo>
                    <a:close/>
                    <a:moveTo>
                      <a:pt x="2108" y="0"/>
                    </a:moveTo>
                    <a:lnTo>
                      <a:pt x="2554" y="0"/>
                    </a:lnTo>
                    <a:lnTo>
                      <a:pt x="2554" y="55"/>
                    </a:lnTo>
                    <a:lnTo>
                      <a:pt x="2092" y="55"/>
                    </a:lnTo>
                    <a:lnTo>
                      <a:pt x="2116" y="40"/>
                    </a:lnTo>
                    <a:lnTo>
                      <a:pt x="2110" y="6"/>
                    </a:lnTo>
                    <a:lnTo>
                      <a:pt x="2108" y="0"/>
                    </a:lnTo>
                    <a:close/>
                    <a:moveTo>
                      <a:pt x="4057" y="0"/>
                    </a:moveTo>
                    <a:lnTo>
                      <a:pt x="4423" y="0"/>
                    </a:lnTo>
                    <a:lnTo>
                      <a:pt x="4315" y="26"/>
                    </a:lnTo>
                    <a:lnTo>
                      <a:pt x="4220" y="44"/>
                    </a:lnTo>
                    <a:lnTo>
                      <a:pt x="4152" y="44"/>
                    </a:lnTo>
                    <a:lnTo>
                      <a:pt x="4092" y="26"/>
                    </a:lnTo>
                    <a:lnTo>
                      <a:pt x="4057" y="0"/>
                    </a:lnTo>
                    <a:close/>
                    <a:moveTo>
                      <a:pt x="5132" y="0"/>
                    </a:moveTo>
                    <a:lnTo>
                      <a:pt x="5916" y="0"/>
                    </a:lnTo>
                    <a:lnTo>
                      <a:pt x="5912" y="36"/>
                    </a:lnTo>
                    <a:lnTo>
                      <a:pt x="5916" y="55"/>
                    </a:lnTo>
                    <a:lnTo>
                      <a:pt x="5439" y="55"/>
                    </a:lnTo>
                    <a:lnTo>
                      <a:pt x="5293" y="26"/>
                    </a:lnTo>
                    <a:lnTo>
                      <a:pt x="5132" y="0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3549960" y="3740040"/>
                <a:ext cx="2276640" cy="19080"/>
              </a:xfrm>
              <a:custGeom>
                <a:avLst/>
                <a:gdLst/>
                <a:ahLst/>
                <a:rect l="l" t="t" r="r" b="b"/>
                <a:pathLst>
                  <a:path w="5925" h="55">
                    <a:moveTo>
                      <a:pt x="10" y="0"/>
                    </a:moveTo>
                    <a:lnTo>
                      <a:pt x="854" y="0"/>
                    </a:lnTo>
                    <a:lnTo>
                      <a:pt x="839" y="55"/>
                    </a:lnTo>
                    <a:lnTo>
                      <a:pt x="0" y="55"/>
                    </a:lnTo>
                    <a:lnTo>
                      <a:pt x="10" y="0"/>
                    </a:lnTo>
                    <a:close/>
                    <a:moveTo>
                      <a:pt x="2119" y="0"/>
                    </a:moveTo>
                    <a:lnTo>
                      <a:pt x="2559" y="0"/>
                    </a:lnTo>
                    <a:lnTo>
                      <a:pt x="2559" y="29"/>
                    </a:lnTo>
                    <a:lnTo>
                      <a:pt x="2557" y="55"/>
                    </a:lnTo>
                    <a:lnTo>
                      <a:pt x="2047" y="55"/>
                    </a:lnTo>
                    <a:lnTo>
                      <a:pt x="2065" y="47"/>
                    </a:lnTo>
                    <a:lnTo>
                      <a:pt x="2121" y="13"/>
                    </a:lnTo>
                    <a:lnTo>
                      <a:pt x="2119" y="0"/>
                    </a:lnTo>
                    <a:close/>
                    <a:moveTo>
                      <a:pt x="4102" y="0"/>
                    </a:moveTo>
                    <a:lnTo>
                      <a:pt x="4313" y="0"/>
                    </a:lnTo>
                    <a:lnTo>
                      <a:pt x="4225" y="17"/>
                    </a:lnTo>
                    <a:lnTo>
                      <a:pt x="4157" y="17"/>
                    </a:lnTo>
                    <a:lnTo>
                      <a:pt x="4102" y="0"/>
                    </a:lnTo>
                    <a:close/>
                    <a:moveTo>
                      <a:pt x="5305" y="0"/>
                    </a:moveTo>
                    <a:lnTo>
                      <a:pt x="5919" y="0"/>
                    </a:lnTo>
                    <a:lnTo>
                      <a:pt x="5917" y="9"/>
                    </a:lnTo>
                    <a:lnTo>
                      <a:pt x="5925" y="55"/>
                    </a:lnTo>
                    <a:lnTo>
                      <a:pt x="5538" y="55"/>
                    </a:lnTo>
                    <a:lnTo>
                      <a:pt x="5502" y="38"/>
                    </a:lnTo>
                    <a:lnTo>
                      <a:pt x="5305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3546360" y="3750480"/>
                <a:ext cx="2282040" cy="17640"/>
              </a:xfrm>
              <a:custGeom>
                <a:avLst/>
                <a:gdLst/>
                <a:ahLst/>
                <a:rect l="l" t="t" r="r" b="b"/>
                <a:pathLst>
                  <a:path w="5940" h="53">
                    <a:moveTo>
                      <a:pt x="15" y="0"/>
                    </a:moveTo>
                    <a:lnTo>
                      <a:pt x="856" y="0"/>
                    </a:lnTo>
                    <a:lnTo>
                      <a:pt x="841" y="53"/>
                    </a:lnTo>
                    <a:lnTo>
                      <a:pt x="0" y="53"/>
                    </a:lnTo>
                    <a:lnTo>
                      <a:pt x="9" y="30"/>
                    </a:lnTo>
                    <a:lnTo>
                      <a:pt x="15" y="0"/>
                    </a:lnTo>
                    <a:close/>
                    <a:moveTo>
                      <a:pt x="2107" y="0"/>
                    </a:moveTo>
                    <a:lnTo>
                      <a:pt x="2569" y="0"/>
                    </a:lnTo>
                    <a:lnTo>
                      <a:pt x="2569" y="1"/>
                    </a:lnTo>
                    <a:lnTo>
                      <a:pt x="2566" y="53"/>
                    </a:lnTo>
                    <a:lnTo>
                      <a:pt x="1995" y="53"/>
                    </a:lnTo>
                    <a:lnTo>
                      <a:pt x="2075" y="19"/>
                    </a:lnTo>
                    <a:lnTo>
                      <a:pt x="2107" y="0"/>
                    </a:lnTo>
                    <a:close/>
                    <a:moveTo>
                      <a:pt x="5454" y="0"/>
                    </a:moveTo>
                    <a:lnTo>
                      <a:pt x="5931" y="0"/>
                    </a:lnTo>
                    <a:lnTo>
                      <a:pt x="5940" y="53"/>
                    </a:lnTo>
                    <a:lnTo>
                      <a:pt x="5603" y="53"/>
                    </a:lnTo>
                    <a:lnTo>
                      <a:pt x="5598" y="48"/>
                    </a:lnTo>
                    <a:lnTo>
                      <a:pt x="5512" y="10"/>
                    </a:lnTo>
                    <a:lnTo>
                      <a:pt x="5454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3542760" y="3759120"/>
                <a:ext cx="2288160" cy="19440"/>
              </a:xfrm>
              <a:custGeom>
                <a:avLst/>
                <a:gdLst/>
                <a:ahLst/>
                <a:rect l="l" t="t" r="r" b="b"/>
                <a:pathLst>
                  <a:path w="5952" h="54">
                    <a:moveTo>
                      <a:pt x="18" y="0"/>
                    </a:moveTo>
                    <a:lnTo>
                      <a:pt x="857" y="0"/>
                    </a:lnTo>
                    <a:lnTo>
                      <a:pt x="842" y="54"/>
                    </a:lnTo>
                    <a:lnTo>
                      <a:pt x="0" y="54"/>
                    </a:lnTo>
                    <a:lnTo>
                      <a:pt x="17" y="3"/>
                    </a:lnTo>
                    <a:lnTo>
                      <a:pt x="18" y="0"/>
                    </a:lnTo>
                    <a:close/>
                    <a:moveTo>
                      <a:pt x="2065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1941" y="54"/>
                    </a:lnTo>
                    <a:lnTo>
                      <a:pt x="2065" y="0"/>
                    </a:lnTo>
                    <a:close/>
                    <a:moveTo>
                      <a:pt x="5556" y="0"/>
                    </a:moveTo>
                    <a:lnTo>
                      <a:pt x="5943" y="0"/>
                    </a:lnTo>
                    <a:lnTo>
                      <a:pt x="5952" y="54"/>
                    </a:lnTo>
                    <a:lnTo>
                      <a:pt x="5637" y="54"/>
                    </a:lnTo>
                    <a:lnTo>
                      <a:pt x="5606" y="21"/>
                    </a:lnTo>
                    <a:lnTo>
                      <a:pt x="5556" y="0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3540600" y="3768120"/>
                <a:ext cx="2292120" cy="19440"/>
              </a:xfrm>
              <a:custGeom>
                <a:avLst/>
                <a:gdLst/>
                <a:ahLst/>
                <a:rect l="l" t="t" r="r" b="b"/>
                <a:pathLst>
                  <a:path w="5968" h="55">
                    <a:moveTo>
                      <a:pt x="17" y="0"/>
                    </a:moveTo>
                    <a:lnTo>
                      <a:pt x="858" y="0"/>
                    </a:lnTo>
                    <a:lnTo>
                      <a:pt x="846" y="44"/>
                    </a:lnTo>
                    <a:lnTo>
                      <a:pt x="1252" y="44"/>
                    </a:lnTo>
                    <a:lnTo>
                      <a:pt x="1316" y="55"/>
                    </a:lnTo>
                    <a:lnTo>
                      <a:pt x="0" y="55"/>
                    </a:lnTo>
                    <a:lnTo>
                      <a:pt x="17" y="0"/>
                    </a:lnTo>
                    <a:close/>
                    <a:moveTo>
                      <a:pt x="2012" y="0"/>
                    </a:moveTo>
                    <a:lnTo>
                      <a:pt x="2583" y="0"/>
                    </a:lnTo>
                    <a:lnTo>
                      <a:pt x="2578" y="55"/>
                    </a:lnTo>
                    <a:lnTo>
                      <a:pt x="1875" y="55"/>
                    </a:lnTo>
                    <a:lnTo>
                      <a:pt x="1939" y="33"/>
                    </a:lnTo>
                    <a:lnTo>
                      <a:pt x="2012" y="0"/>
                    </a:lnTo>
                    <a:close/>
                    <a:moveTo>
                      <a:pt x="5620" y="0"/>
                    </a:moveTo>
                    <a:lnTo>
                      <a:pt x="5957" y="0"/>
                    </a:lnTo>
                    <a:lnTo>
                      <a:pt x="5964" y="44"/>
                    </a:lnTo>
                    <a:lnTo>
                      <a:pt x="5968" y="55"/>
                    </a:lnTo>
                    <a:lnTo>
                      <a:pt x="5673" y="55"/>
                    </a:lnTo>
                    <a:lnTo>
                      <a:pt x="5620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3537000" y="3778920"/>
                <a:ext cx="2299320" cy="17640"/>
              </a:xfrm>
              <a:custGeom>
                <a:avLst/>
                <a:gdLst/>
                <a:ahLst/>
                <a:rect l="l" t="t" r="r" b="b"/>
                <a:pathLst>
                  <a:path w="5983" h="53">
                    <a:moveTo>
                      <a:pt x="15" y="0"/>
                    </a:moveTo>
                    <a:lnTo>
                      <a:pt x="857" y="0"/>
                    </a:lnTo>
                    <a:lnTo>
                      <a:pt x="852" y="16"/>
                    </a:lnTo>
                    <a:lnTo>
                      <a:pt x="1258" y="16"/>
                    </a:lnTo>
                    <a:lnTo>
                      <a:pt x="1384" y="36"/>
                    </a:lnTo>
                    <a:lnTo>
                      <a:pt x="1444" y="44"/>
                    </a:lnTo>
                    <a:lnTo>
                      <a:pt x="1491" y="52"/>
                    </a:lnTo>
                    <a:lnTo>
                      <a:pt x="1500" y="53"/>
                    </a:lnTo>
                    <a:lnTo>
                      <a:pt x="1" y="53"/>
                    </a:lnTo>
                    <a:lnTo>
                      <a:pt x="0" y="44"/>
                    </a:lnTo>
                    <a:lnTo>
                      <a:pt x="15" y="0"/>
                    </a:lnTo>
                    <a:close/>
                    <a:moveTo>
                      <a:pt x="1956" y="0"/>
                    </a:moveTo>
                    <a:lnTo>
                      <a:pt x="2586" y="0"/>
                    </a:lnTo>
                    <a:lnTo>
                      <a:pt x="2582" y="53"/>
                    </a:lnTo>
                    <a:lnTo>
                      <a:pt x="1801" y="53"/>
                    </a:lnTo>
                    <a:lnTo>
                      <a:pt x="1945" y="5"/>
                    </a:lnTo>
                    <a:lnTo>
                      <a:pt x="1956" y="0"/>
                    </a:lnTo>
                    <a:close/>
                    <a:moveTo>
                      <a:pt x="5652" y="0"/>
                    </a:moveTo>
                    <a:lnTo>
                      <a:pt x="5967" y="0"/>
                    </a:lnTo>
                    <a:lnTo>
                      <a:pt x="5970" y="16"/>
                    </a:lnTo>
                    <a:lnTo>
                      <a:pt x="5983" y="53"/>
                    </a:lnTo>
                    <a:lnTo>
                      <a:pt x="5701" y="53"/>
                    </a:lnTo>
                    <a:lnTo>
                      <a:pt x="5688" y="36"/>
                    </a:lnTo>
                    <a:lnTo>
                      <a:pt x="5652" y="0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537000" y="3787920"/>
                <a:ext cx="2303280" cy="19080"/>
              </a:xfrm>
              <a:custGeom>
                <a:avLst/>
                <a:gdLst/>
                <a:ahLst/>
                <a:rect l="l" t="t" r="r" b="b"/>
                <a:pathLst>
                  <a:path w="5992" h="53">
                    <a:moveTo>
                      <a:pt x="6" y="0"/>
                    </a:moveTo>
                    <a:lnTo>
                      <a:pt x="1322" y="0"/>
                    </a:lnTo>
                    <a:lnTo>
                      <a:pt x="1384" y="9"/>
                    </a:lnTo>
                    <a:lnTo>
                      <a:pt x="1444" y="17"/>
                    </a:lnTo>
                    <a:lnTo>
                      <a:pt x="1491" y="25"/>
                    </a:lnTo>
                    <a:lnTo>
                      <a:pt x="1606" y="45"/>
                    </a:lnTo>
                    <a:lnTo>
                      <a:pt x="1684" y="45"/>
                    </a:lnTo>
                    <a:lnTo>
                      <a:pt x="1772" y="37"/>
                    </a:lnTo>
                    <a:lnTo>
                      <a:pt x="1881" y="0"/>
                    </a:lnTo>
                    <a:lnTo>
                      <a:pt x="2584" y="0"/>
                    </a:lnTo>
                    <a:lnTo>
                      <a:pt x="2581" y="53"/>
                    </a:lnTo>
                    <a:lnTo>
                      <a:pt x="6" y="53"/>
                    </a:lnTo>
                    <a:lnTo>
                      <a:pt x="0" y="17"/>
                    </a:lnTo>
                    <a:lnTo>
                      <a:pt x="6" y="0"/>
                    </a:lnTo>
                    <a:close/>
                    <a:moveTo>
                      <a:pt x="5679" y="0"/>
                    </a:moveTo>
                    <a:lnTo>
                      <a:pt x="5974" y="0"/>
                    </a:lnTo>
                    <a:lnTo>
                      <a:pt x="5992" y="53"/>
                    </a:lnTo>
                    <a:lnTo>
                      <a:pt x="5721" y="53"/>
                    </a:lnTo>
                    <a:lnTo>
                      <a:pt x="5688" y="9"/>
                    </a:lnTo>
                    <a:lnTo>
                      <a:pt x="5679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3538800" y="3796560"/>
                <a:ext cx="2305440" cy="19080"/>
              </a:xfrm>
              <a:custGeom>
                <a:avLst/>
                <a:gdLst/>
                <a:ahLst/>
                <a:rect l="l" t="t" r="r" b="b"/>
                <a:pathLst>
                  <a:path w="6001" h="55">
                    <a:moveTo>
                      <a:pt x="0" y="0"/>
                    </a:moveTo>
                    <a:lnTo>
                      <a:pt x="1499" y="0"/>
                    </a:lnTo>
                    <a:lnTo>
                      <a:pt x="1605" y="19"/>
                    </a:lnTo>
                    <a:lnTo>
                      <a:pt x="1683" y="19"/>
                    </a:lnTo>
                    <a:lnTo>
                      <a:pt x="1771" y="11"/>
                    </a:lnTo>
                    <a:lnTo>
                      <a:pt x="1800" y="0"/>
                    </a:lnTo>
                    <a:lnTo>
                      <a:pt x="2581" y="0"/>
                    </a:lnTo>
                    <a:lnTo>
                      <a:pt x="2578" y="55"/>
                    </a:lnTo>
                    <a:lnTo>
                      <a:pt x="9" y="55"/>
                    </a:lnTo>
                    <a:lnTo>
                      <a:pt x="0" y="0"/>
                    </a:lnTo>
                    <a:close/>
                    <a:moveTo>
                      <a:pt x="5700" y="0"/>
                    </a:moveTo>
                    <a:lnTo>
                      <a:pt x="5982" y="0"/>
                    </a:lnTo>
                    <a:lnTo>
                      <a:pt x="5999" y="51"/>
                    </a:lnTo>
                    <a:lnTo>
                      <a:pt x="6001" y="55"/>
                    </a:lnTo>
                    <a:lnTo>
                      <a:pt x="5738" y="55"/>
                    </a:lnTo>
                    <a:lnTo>
                      <a:pt x="5700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540600" y="3807000"/>
                <a:ext cx="2307240" cy="19440"/>
              </a:xfrm>
              <a:custGeom>
                <a:avLst/>
                <a:gdLst/>
                <a:ahLst/>
                <a:rect l="l" t="t" r="r" b="b"/>
                <a:pathLst>
                  <a:path w="6008" h="54">
                    <a:moveTo>
                      <a:pt x="0" y="0"/>
                    </a:moveTo>
                    <a:lnTo>
                      <a:pt x="2575" y="0"/>
                    </a:lnTo>
                    <a:lnTo>
                      <a:pt x="2571" y="54"/>
                    </a:lnTo>
                    <a:lnTo>
                      <a:pt x="9" y="54"/>
                    </a:lnTo>
                    <a:lnTo>
                      <a:pt x="6" y="42"/>
                    </a:lnTo>
                    <a:lnTo>
                      <a:pt x="0" y="0"/>
                    </a:lnTo>
                    <a:close/>
                    <a:moveTo>
                      <a:pt x="5715" y="0"/>
                    </a:moveTo>
                    <a:lnTo>
                      <a:pt x="5986" y="0"/>
                    </a:lnTo>
                    <a:lnTo>
                      <a:pt x="5994" y="24"/>
                    </a:lnTo>
                    <a:lnTo>
                      <a:pt x="6008" y="54"/>
                    </a:lnTo>
                    <a:lnTo>
                      <a:pt x="5753" y="54"/>
                    </a:lnTo>
                    <a:lnTo>
                      <a:pt x="5715" y="0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3540600" y="3816000"/>
                <a:ext cx="2313360" cy="194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69" y="0"/>
                    </a:lnTo>
                    <a:lnTo>
                      <a:pt x="2566" y="45"/>
                    </a:lnTo>
                    <a:lnTo>
                      <a:pt x="2565" y="53"/>
                    </a:lnTo>
                    <a:lnTo>
                      <a:pt x="13" y="53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  <a:moveTo>
                      <a:pt x="5729" y="0"/>
                    </a:moveTo>
                    <a:lnTo>
                      <a:pt x="5992" y="0"/>
                    </a:lnTo>
                    <a:lnTo>
                      <a:pt x="6017" y="52"/>
                    </a:lnTo>
                    <a:lnTo>
                      <a:pt x="6018" y="53"/>
                    </a:lnTo>
                    <a:lnTo>
                      <a:pt x="5768" y="53"/>
                    </a:lnTo>
                    <a:lnTo>
                      <a:pt x="5729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3542760" y="3826800"/>
                <a:ext cx="2316960" cy="1908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62" y="0"/>
                    </a:lnTo>
                    <a:lnTo>
                      <a:pt x="2561" y="19"/>
                    </a:lnTo>
                    <a:lnTo>
                      <a:pt x="2558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5744" y="0"/>
                    </a:moveTo>
                    <a:lnTo>
                      <a:pt x="5999" y="0"/>
                    </a:lnTo>
                    <a:lnTo>
                      <a:pt x="6012" y="26"/>
                    </a:lnTo>
                    <a:lnTo>
                      <a:pt x="6029" y="55"/>
                    </a:lnTo>
                    <a:lnTo>
                      <a:pt x="5783" y="55"/>
                    </a:lnTo>
                    <a:lnTo>
                      <a:pt x="5744" y="0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3546360" y="3835440"/>
                <a:ext cx="2318760" cy="19080"/>
              </a:xfrm>
              <a:custGeom>
                <a:avLst/>
                <a:gdLst/>
                <a:ahLst/>
                <a:rect l="l" t="t" r="r" b="b"/>
                <a:pathLst>
                  <a:path w="6036" h="54">
                    <a:moveTo>
                      <a:pt x="0" y="0"/>
                    </a:moveTo>
                    <a:lnTo>
                      <a:pt x="2552" y="0"/>
                    </a:lnTo>
                    <a:lnTo>
                      <a:pt x="254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5755" y="0"/>
                    </a:moveTo>
                    <a:lnTo>
                      <a:pt x="6005" y="0"/>
                    </a:lnTo>
                    <a:lnTo>
                      <a:pt x="6035" y="49"/>
                    </a:lnTo>
                    <a:lnTo>
                      <a:pt x="6036" y="54"/>
                    </a:lnTo>
                    <a:lnTo>
                      <a:pt x="5794" y="54"/>
                    </a:lnTo>
                    <a:lnTo>
                      <a:pt x="5782" y="37"/>
                    </a:lnTo>
                    <a:lnTo>
                      <a:pt x="5755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3549960" y="3845880"/>
                <a:ext cx="2317320" cy="17640"/>
              </a:xfrm>
              <a:custGeom>
                <a:avLst/>
                <a:gdLst/>
                <a:ahLst/>
                <a:rect l="l" t="t" r="r" b="b"/>
                <a:pathLst>
                  <a:path w="6032" h="53">
                    <a:moveTo>
                      <a:pt x="0" y="0"/>
                    </a:moveTo>
                    <a:lnTo>
                      <a:pt x="2541" y="0"/>
                    </a:lnTo>
                    <a:lnTo>
                      <a:pt x="2534" y="53"/>
                    </a:lnTo>
                    <a:lnTo>
                      <a:pt x="17" y="53"/>
                    </a:lnTo>
                    <a:lnTo>
                      <a:pt x="0" y="0"/>
                    </a:lnTo>
                    <a:close/>
                    <a:moveTo>
                      <a:pt x="5766" y="0"/>
                    </a:moveTo>
                    <a:lnTo>
                      <a:pt x="6012" y="0"/>
                    </a:lnTo>
                    <a:lnTo>
                      <a:pt x="6026" y="21"/>
                    </a:lnTo>
                    <a:lnTo>
                      <a:pt x="6032" y="53"/>
                    </a:lnTo>
                    <a:lnTo>
                      <a:pt x="5803" y="53"/>
                    </a:lnTo>
                    <a:lnTo>
                      <a:pt x="5773" y="9"/>
                    </a:lnTo>
                    <a:lnTo>
                      <a:pt x="5766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3552120" y="3854880"/>
                <a:ext cx="2316960" cy="19440"/>
              </a:xfrm>
              <a:custGeom>
                <a:avLst/>
                <a:gdLst/>
                <a:ahLst/>
                <a:rect l="l" t="t" r="r" b="b"/>
                <a:pathLst>
                  <a:path w="6029" h="55">
                    <a:moveTo>
                      <a:pt x="0" y="0"/>
                    </a:moveTo>
                    <a:lnTo>
                      <a:pt x="2530" y="0"/>
                    </a:lnTo>
                    <a:lnTo>
                      <a:pt x="2524" y="54"/>
                    </a:lnTo>
                    <a:lnTo>
                      <a:pt x="2524" y="55"/>
                    </a:lnTo>
                    <a:lnTo>
                      <a:pt x="16" y="55"/>
                    </a:lnTo>
                    <a:lnTo>
                      <a:pt x="0" y="0"/>
                    </a:lnTo>
                    <a:close/>
                    <a:moveTo>
                      <a:pt x="5777" y="0"/>
                    </a:moveTo>
                    <a:lnTo>
                      <a:pt x="6019" y="0"/>
                    </a:lnTo>
                    <a:lnTo>
                      <a:pt x="6029" y="55"/>
                    </a:lnTo>
                    <a:lnTo>
                      <a:pt x="5814" y="55"/>
                    </a:lnTo>
                    <a:lnTo>
                      <a:pt x="5814" y="54"/>
                    </a:lnTo>
                    <a:lnTo>
                      <a:pt x="5777" y="0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3556080" y="3863520"/>
                <a:ext cx="2314800" cy="19440"/>
              </a:xfrm>
              <a:custGeom>
                <a:avLst/>
                <a:gdLst/>
                <a:ahLst/>
                <a:rect l="l" t="t" r="r" b="b"/>
                <a:pathLst>
                  <a:path w="6025" h="55">
                    <a:moveTo>
                      <a:pt x="0" y="0"/>
                    </a:moveTo>
                    <a:lnTo>
                      <a:pt x="2517" y="0"/>
                    </a:lnTo>
                    <a:lnTo>
                      <a:pt x="2515" y="27"/>
                    </a:lnTo>
                    <a:lnTo>
                      <a:pt x="2510" y="55"/>
                    </a:lnTo>
                    <a:lnTo>
                      <a:pt x="15" y="55"/>
                    </a:lnTo>
                    <a:lnTo>
                      <a:pt x="0" y="0"/>
                    </a:lnTo>
                    <a:close/>
                    <a:moveTo>
                      <a:pt x="5786" y="0"/>
                    </a:moveTo>
                    <a:lnTo>
                      <a:pt x="6015" y="0"/>
                    </a:lnTo>
                    <a:lnTo>
                      <a:pt x="6025" y="55"/>
                    </a:lnTo>
                    <a:lnTo>
                      <a:pt x="5823" y="55"/>
                    </a:lnTo>
                    <a:lnTo>
                      <a:pt x="5805" y="27"/>
                    </a:lnTo>
                    <a:lnTo>
                      <a:pt x="5786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3559680" y="3874320"/>
                <a:ext cx="2311200" cy="17640"/>
              </a:xfrm>
              <a:custGeom>
                <a:avLst/>
                <a:gdLst/>
                <a:ahLst/>
                <a:rect l="l" t="t" r="r" b="b"/>
                <a:pathLst>
                  <a:path w="6018" h="53">
                    <a:moveTo>
                      <a:pt x="0" y="0"/>
                    </a:moveTo>
                    <a:lnTo>
                      <a:pt x="2508" y="0"/>
                    </a:lnTo>
                    <a:lnTo>
                      <a:pt x="2498" y="53"/>
                    </a:lnTo>
                    <a:lnTo>
                      <a:pt x="19" y="53"/>
                    </a:lnTo>
                    <a:lnTo>
                      <a:pt x="12" y="34"/>
                    </a:lnTo>
                    <a:lnTo>
                      <a:pt x="0" y="0"/>
                    </a:lnTo>
                    <a:close/>
                    <a:moveTo>
                      <a:pt x="5798" y="0"/>
                    </a:moveTo>
                    <a:lnTo>
                      <a:pt x="6013" y="0"/>
                    </a:lnTo>
                    <a:lnTo>
                      <a:pt x="6018" y="27"/>
                    </a:lnTo>
                    <a:lnTo>
                      <a:pt x="6016" y="53"/>
                    </a:lnTo>
                    <a:lnTo>
                      <a:pt x="5834" y="53"/>
                    </a:lnTo>
                    <a:lnTo>
                      <a:pt x="5798" y="0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3561840" y="3883320"/>
                <a:ext cx="2309040" cy="19080"/>
              </a:xfrm>
              <a:custGeom>
                <a:avLst/>
                <a:gdLst/>
                <a:ahLst/>
                <a:rect l="l" t="t" r="r" b="b"/>
                <a:pathLst>
                  <a:path w="6010" h="53">
                    <a:moveTo>
                      <a:pt x="0" y="0"/>
                    </a:moveTo>
                    <a:lnTo>
                      <a:pt x="2495" y="0"/>
                    </a:lnTo>
                    <a:lnTo>
                      <a:pt x="2485" y="53"/>
                    </a:lnTo>
                    <a:lnTo>
                      <a:pt x="1968" y="53"/>
                    </a:lnTo>
                    <a:lnTo>
                      <a:pt x="1940" y="47"/>
                    </a:lnTo>
                    <a:lnTo>
                      <a:pt x="1834" y="47"/>
                    </a:lnTo>
                    <a:lnTo>
                      <a:pt x="1804" y="53"/>
                    </a:lnTo>
                    <a:lnTo>
                      <a:pt x="22" y="53"/>
                    </a:lnTo>
                    <a:lnTo>
                      <a:pt x="4" y="7"/>
                    </a:lnTo>
                    <a:lnTo>
                      <a:pt x="0" y="0"/>
                    </a:lnTo>
                    <a:close/>
                    <a:moveTo>
                      <a:pt x="5808" y="0"/>
                    </a:moveTo>
                    <a:lnTo>
                      <a:pt x="6010" y="0"/>
                    </a:lnTo>
                    <a:lnTo>
                      <a:pt x="6010" y="0"/>
                    </a:lnTo>
                    <a:lnTo>
                      <a:pt x="6006" y="53"/>
                    </a:lnTo>
                    <a:lnTo>
                      <a:pt x="5841" y="53"/>
                    </a:lnTo>
                    <a:lnTo>
                      <a:pt x="5828" y="29"/>
                    </a:lnTo>
                    <a:lnTo>
                      <a:pt x="5808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565800" y="3892320"/>
                <a:ext cx="2305080" cy="19080"/>
              </a:xfrm>
              <a:custGeom>
                <a:avLst/>
                <a:gdLst/>
                <a:ahLst/>
                <a:rect l="l" t="t" r="r" b="b"/>
                <a:pathLst>
                  <a:path w="5997" h="55">
                    <a:moveTo>
                      <a:pt x="0" y="0"/>
                    </a:moveTo>
                    <a:lnTo>
                      <a:pt x="2479" y="0"/>
                    </a:lnTo>
                    <a:lnTo>
                      <a:pt x="2472" y="41"/>
                    </a:lnTo>
                    <a:lnTo>
                      <a:pt x="2469" y="55"/>
                    </a:lnTo>
                    <a:lnTo>
                      <a:pt x="2046" y="55"/>
                    </a:lnTo>
                    <a:lnTo>
                      <a:pt x="2016" y="41"/>
                    </a:lnTo>
                    <a:lnTo>
                      <a:pt x="1929" y="21"/>
                    </a:lnTo>
                    <a:lnTo>
                      <a:pt x="1823" y="21"/>
                    </a:lnTo>
                    <a:lnTo>
                      <a:pt x="1672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5815" y="0"/>
                    </a:moveTo>
                    <a:lnTo>
                      <a:pt x="5997" y="0"/>
                    </a:lnTo>
                    <a:lnTo>
                      <a:pt x="5993" y="55"/>
                    </a:lnTo>
                    <a:lnTo>
                      <a:pt x="5846" y="55"/>
                    </a:lnTo>
                    <a:lnTo>
                      <a:pt x="5846" y="51"/>
                    </a:lnTo>
                    <a:lnTo>
                      <a:pt x="5838" y="41"/>
                    </a:lnTo>
                    <a:lnTo>
                      <a:pt x="5817" y="3"/>
                    </a:lnTo>
                    <a:lnTo>
                      <a:pt x="5815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571200" y="3902760"/>
                <a:ext cx="2297880" cy="19440"/>
              </a:xfrm>
              <a:custGeom>
                <a:avLst/>
                <a:gdLst/>
                <a:ahLst/>
                <a:rect l="l" t="t" r="r" b="b"/>
                <a:pathLst>
                  <a:path w="5984" h="54">
                    <a:moveTo>
                      <a:pt x="0" y="0"/>
                    </a:moveTo>
                    <a:lnTo>
                      <a:pt x="1782" y="0"/>
                    </a:lnTo>
                    <a:lnTo>
                      <a:pt x="1598" y="41"/>
                    </a:lnTo>
                    <a:lnTo>
                      <a:pt x="1545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946" y="0"/>
                    </a:moveTo>
                    <a:lnTo>
                      <a:pt x="2463" y="0"/>
                    </a:lnTo>
                    <a:lnTo>
                      <a:pt x="2461" y="14"/>
                    </a:lnTo>
                    <a:lnTo>
                      <a:pt x="2453" y="54"/>
                    </a:lnTo>
                    <a:lnTo>
                      <a:pt x="2088" y="54"/>
                    </a:lnTo>
                    <a:lnTo>
                      <a:pt x="2084" y="49"/>
                    </a:lnTo>
                    <a:lnTo>
                      <a:pt x="2005" y="14"/>
                    </a:lnTo>
                    <a:lnTo>
                      <a:pt x="1946" y="0"/>
                    </a:lnTo>
                    <a:close/>
                    <a:moveTo>
                      <a:pt x="5819" y="0"/>
                    </a:moveTo>
                    <a:lnTo>
                      <a:pt x="5984" y="0"/>
                    </a:lnTo>
                    <a:lnTo>
                      <a:pt x="5981" y="44"/>
                    </a:lnTo>
                    <a:lnTo>
                      <a:pt x="5979" y="54"/>
                    </a:lnTo>
                    <a:lnTo>
                      <a:pt x="5840" y="54"/>
                    </a:lnTo>
                    <a:lnTo>
                      <a:pt x="5835" y="35"/>
                    </a:lnTo>
                    <a:lnTo>
                      <a:pt x="5835" y="24"/>
                    </a:lnTo>
                    <a:lnTo>
                      <a:pt x="5827" y="14"/>
                    </a:lnTo>
                    <a:lnTo>
                      <a:pt x="5819" y="0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575160" y="3911400"/>
                <a:ext cx="2293920" cy="19440"/>
              </a:xfrm>
              <a:custGeom>
                <a:avLst/>
                <a:gdLst/>
                <a:ahLst/>
                <a:rect l="l" t="t" r="r" b="b"/>
                <a:pathLst>
                  <a:path w="5970" h="53">
                    <a:moveTo>
                      <a:pt x="0" y="0"/>
                    </a:moveTo>
                    <a:lnTo>
                      <a:pt x="1649" y="0"/>
                    </a:lnTo>
                    <a:lnTo>
                      <a:pt x="1586" y="13"/>
                    </a:lnTo>
                    <a:lnTo>
                      <a:pt x="1424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2023" y="0"/>
                    </a:moveTo>
                    <a:lnTo>
                      <a:pt x="2446" y="0"/>
                    </a:lnTo>
                    <a:lnTo>
                      <a:pt x="2437" y="53"/>
                    </a:lnTo>
                    <a:lnTo>
                      <a:pt x="2101" y="53"/>
                    </a:lnTo>
                    <a:lnTo>
                      <a:pt x="2072" y="21"/>
                    </a:lnTo>
                    <a:lnTo>
                      <a:pt x="2023" y="0"/>
                    </a:lnTo>
                    <a:close/>
                    <a:moveTo>
                      <a:pt x="5823" y="0"/>
                    </a:moveTo>
                    <a:lnTo>
                      <a:pt x="5970" y="0"/>
                    </a:lnTo>
                    <a:lnTo>
                      <a:pt x="5969" y="16"/>
                    </a:lnTo>
                    <a:lnTo>
                      <a:pt x="5961" y="53"/>
                    </a:lnTo>
                    <a:lnTo>
                      <a:pt x="5834" y="53"/>
                    </a:lnTo>
                    <a:lnTo>
                      <a:pt x="5830" y="35"/>
                    </a:lnTo>
                    <a:lnTo>
                      <a:pt x="5823" y="7"/>
                    </a:lnTo>
                    <a:lnTo>
                      <a:pt x="5823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3579120" y="3922200"/>
                <a:ext cx="2288160" cy="19080"/>
              </a:xfrm>
              <a:custGeom>
                <a:avLst/>
                <a:gdLst/>
                <a:ahLst/>
                <a:rect l="l" t="t" r="r" b="b"/>
                <a:pathLst>
                  <a:path w="5955" h="55">
                    <a:moveTo>
                      <a:pt x="0" y="0"/>
                    </a:moveTo>
                    <a:lnTo>
                      <a:pt x="1521" y="0"/>
                    </a:lnTo>
                    <a:lnTo>
                      <a:pt x="1334" y="46"/>
                    </a:lnTo>
                    <a:lnTo>
                      <a:pt x="1289" y="55"/>
                    </a:lnTo>
                    <a:lnTo>
                      <a:pt x="23" y="55"/>
                    </a:lnTo>
                    <a:lnTo>
                      <a:pt x="0" y="0"/>
                    </a:lnTo>
                    <a:close/>
                    <a:moveTo>
                      <a:pt x="2064" y="0"/>
                    </a:moveTo>
                    <a:lnTo>
                      <a:pt x="2429" y="0"/>
                    </a:lnTo>
                    <a:lnTo>
                      <a:pt x="2421" y="50"/>
                    </a:lnTo>
                    <a:lnTo>
                      <a:pt x="2422" y="55"/>
                    </a:lnTo>
                    <a:lnTo>
                      <a:pt x="2097" y="55"/>
                    </a:lnTo>
                    <a:lnTo>
                      <a:pt x="2097" y="37"/>
                    </a:lnTo>
                    <a:lnTo>
                      <a:pt x="2064" y="0"/>
                    </a:lnTo>
                    <a:close/>
                    <a:moveTo>
                      <a:pt x="5816" y="0"/>
                    </a:moveTo>
                    <a:lnTo>
                      <a:pt x="5955" y="0"/>
                    </a:lnTo>
                    <a:lnTo>
                      <a:pt x="5942" y="55"/>
                    </a:lnTo>
                    <a:lnTo>
                      <a:pt x="5826" y="55"/>
                    </a:lnTo>
                    <a:lnTo>
                      <a:pt x="5818" y="9"/>
                    </a:lnTo>
                    <a:lnTo>
                      <a:pt x="5816" y="0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3584880" y="3931200"/>
                <a:ext cx="2280240" cy="19080"/>
              </a:xfrm>
              <a:custGeom>
                <a:avLst/>
                <a:gdLst/>
                <a:ahLst/>
                <a:rect l="l" t="t" r="r" b="b"/>
                <a:pathLst>
                  <a:path w="5938" h="54">
                    <a:moveTo>
                      <a:pt x="0" y="0"/>
                    </a:moveTo>
                    <a:lnTo>
                      <a:pt x="1401" y="0"/>
                    </a:lnTo>
                    <a:lnTo>
                      <a:pt x="1323" y="19"/>
                    </a:lnTo>
                    <a:lnTo>
                      <a:pt x="1125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2078" y="0"/>
                    </a:moveTo>
                    <a:lnTo>
                      <a:pt x="2414" y="0"/>
                    </a:lnTo>
                    <a:lnTo>
                      <a:pt x="2410" y="23"/>
                    </a:lnTo>
                    <a:lnTo>
                      <a:pt x="2419" y="54"/>
                    </a:lnTo>
                    <a:lnTo>
                      <a:pt x="2086" y="54"/>
                    </a:lnTo>
                    <a:lnTo>
                      <a:pt x="2086" y="10"/>
                    </a:lnTo>
                    <a:lnTo>
                      <a:pt x="2078" y="0"/>
                    </a:lnTo>
                    <a:close/>
                    <a:moveTo>
                      <a:pt x="5811" y="0"/>
                    </a:moveTo>
                    <a:lnTo>
                      <a:pt x="5938" y="0"/>
                    </a:lnTo>
                    <a:lnTo>
                      <a:pt x="5925" y="54"/>
                    </a:lnTo>
                    <a:lnTo>
                      <a:pt x="5819" y="54"/>
                    </a:lnTo>
                    <a:lnTo>
                      <a:pt x="5811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3588840" y="3941640"/>
                <a:ext cx="2274480" cy="18000"/>
              </a:xfrm>
              <a:custGeom>
                <a:avLst/>
                <a:gdLst/>
                <a:ahLst/>
                <a:rect l="l" t="t" r="r" b="b"/>
                <a:pathLst>
                  <a:path w="5919" h="53">
                    <a:moveTo>
                      <a:pt x="0" y="0"/>
                    </a:moveTo>
                    <a:lnTo>
                      <a:pt x="1266" y="0"/>
                    </a:lnTo>
                    <a:lnTo>
                      <a:pt x="1086" y="31"/>
                    </a:lnTo>
                    <a:lnTo>
                      <a:pt x="905" y="51"/>
                    </a:lnTo>
                    <a:lnTo>
                      <a:pt x="885" y="53"/>
                    </a:lnTo>
                    <a:lnTo>
                      <a:pt x="25" y="53"/>
                    </a:lnTo>
                    <a:lnTo>
                      <a:pt x="13" y="31"/>
                    </a:lnTo>
                    <a:lnTo>
                      <a:pt x="0" y="0"/>
                    </a:lnTo>
                    <a:close/>
                    <a:moveTo>
                      <a:pt x="2074" y="0"/>
                    </a:moveTo>
                    <a:lnTo>
                      <a:pt x="2399" y="0"/>
                    </a:lnTo>
                    <a:lnTo>
                      <a:pt x="2416" y="53"/>
                    </a:lnTo>
                    <a:lnTo>
                      <a:pt x="2074" y="53"/>
                    </a:lnTo>
                    <a:lnTo>
                      <a:pt x="2074" y="0"/>
                    </a:lnTo>
                    <a:close/>
                    <a:moveTo>
                      <a:pt x="5803" y="0"/>
                    </a:moveTo>
                    <a:lnTo>
                      <a:pt x="5919" y="0"/>
                    </a:lnTo>
                    <a:lnTo>
                      <a:pt x="5912" y="31"/>
                    </a:lnTo>
                    <a:lnTo>
                      <a:pt x="5904" y="53"/>
                    </a:lnTo>
                    <a:lnTo>
                      <a:pt x="5816" y="53"/>
                    </a:lnTo>
                    <a:lnTo>
                      <a:pt x="5808" y="31"/>
                    </a:lnTo>
                    <a:lnTo>
                      <a:pt x="5803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592440" y="3950280"/>
                <a:ext cx="2269080" cy="19440"/>
              </a:xfrm>
              <a:custGeom>
                <a:avLst/>
                <a:gdLst/>
                <a:ahLst/>
                <a:rect l="l" t="t" r="r" b="b"/>
                <a:pathLst>
                  <a:path w="5902" h="55">
                    <a:moveTo>
                      <a:pt x="0" y="0"/>
                    </a:moveTo>
                    <a:lnTo>
                      <a:pt x="1102" y="0"/>
                    </a:lnTo>
                    <a:lnTo>
                      <a:pt x="1075" y="5"/>
                    </a:lnTo>
                    <a:lnTo>
                      <a:pt x="894" y="25"/>
                    </a:lnTo>
                    <a:lnTo>
                      <a:pt x="748" y="44"/>
                    </a:lnTo>
                    <a:lnTo>
                      <a:pt x="649" y="52"/>
                    </a:lnTo>
                    <a:lnTo>
                      <a:pt x="622" y="52"/>
                    </a:lnTo>
                    <a:lnTo>
                      <a:pt x="622" y="55"/>
                    </a:lnTo>
                    <a:lnTo>
                      <a:pt x="28" y="5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  <a:moveTo>
                      <a:pt x="2063" y="0"/>
                    </a:moveTo>
                    <a:lnTo>
                      <a:pt x="2396" y="0"/>
                    </a:lnTo>
                    <a:lnTo>
                      <a:pt x="2414" y="55"/>
                    </a:lnTo>
                    <a:lnTo>
                      <a:pt x="2063" y="55"/>
                    </a:lnTo>
                    <a:lnTo>
                      <a:pt x="2063" y="0"/>
                    </a:lnTo>
                    <a:close/>
                    <a:moveTo>
                      <a:pt x="5796" y="0"/>
                    </a:moveTo>
                    <a:lnTo>
                      <a:pt x="5902" y="0"/>
                    </a:lnTo>
                    <a:lnTo>
                      <a:pt x="5901" y="5"/>
                    </a:lnTo>
                    <a:lnTo>
                      <a:pt x="5881" y="55"/>
                    </a:lnTo>
                    <a:lnTo>
                      <a:pt x="5816" y="55"/>
                    </a:lnTo>
                    <a:lnTo>
                      <a:pt x="5797" y="5"/>
                    </a:lnTo>
                    <a:lnTo>
                      <a:pt x="5796" y="0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3598200" y="3959640"/>
                <a:ext cx="2259360" cy="19080"/>
              </a:xfrm>
              <a:custGeom>
                <a:avLst/>
                <a:gdLst/>
                <a:ahLst/>
                <a:rect l="l" t="t" r="r" b="b"/>
                <a:pathLst>
                  <a:path w="5879" h="55">
                    <a:moveTo>
                      <a:pt x="0" y="0"/>
                    </a:moveTo>
                    <a:lnTo>
                      <a:pt x="860" y="0"/>
                    </a:lnTo>
                    <a:lnTo>
                      <a:pt x="734" y="17"/>
                    </a:lnTo>
                    <a:lnTo>
                      <a:pt x="635" y="25"/>
                    </a:lnTo>
                    <a:lnTo>
                      <a:pt x="608" y="25"/>
                    </a:lnTo>
                    <a:lnTo>
                      <a:pt x="608" y="33"/>
                    </a:lnTo>
                    <a:lnTo>
                      <a:pt x="617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49" y="0"/>
                    </a:moveTo>
                    <a:lnTo>
                      <a:pt x="2391" y="0"/>
                    </a:lnTo>
                    <a:lnTo>
                      <a:pt x="2408" y="55"/>
                    </a:lnTo>
                    <a:lnTo>
                      <a:pt x="2048" y="55"/>
                    </a:lnTo>
                    <a:lnTo>
                      <a:pt x="2049" y="48"/>
                    </a:lnTo>
                    <a:lnTo>
                      <a:pt x="2049" y="0"/>
                    </a:lnTo>
                    <a:close/>
                    <a:moveTo>
                      <a:pt x="5791" y="0"/>
                    </a:moveTo>
                    <a:lnTo>
                      <a:pt x="5879" y="0"/>
                    </a:lnTo>
                    <a:lnTo>
                      <a:pt x="5860" y="48"/>
                    </a:lnTo>
                    <a:lnTo>
                      <a:pt x="5853" y="55"/>
                    </a:lnTo>
                    <a:lnTo>
                      <a:pt x="5812" y="55"/>
                    </a:lnTo>
                    <a:lnTo>
                      <a:pt x="5791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3603960" y="3970080"/>
                <a:ext cx="2247480" cy="17640"/>
              </a:xfrm>
              <a:custGeom>
                <a:avLst/>
                <a:gdLst/>
                <a:ahLst/>
                <a:rect l="l" t="t" r="r" b="b"/>
                <a:pathLst>
                  <a:path w="5853" h="53">
                    <a:moveTo>
                      <a:pt x="0" y="0"/>
                    </a:moveTo>
                    <a:lnTo>
                      <a:pt x="594" y="0"/>
                    </a:lnTo>
                    <a:lnTo>
                      <a:pt x="594" y="5"/>
                    </a:lnTo>
                    <a:lnTo>
                      <a:pt x="613" y="49"/>
                    </a:lnTo>
                    <a:lnTo>
                      <a:pt x="614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35" y="0"/>
                    </a:moveTo>
                    <a:lnTo>
                      <a:pt x="2386" y="0"/>
                    </a:lnTo>
                    <a:lnTo>
                      <a:pt x="2403" y="53"/>
                    </a:lnTo>
                    <a:lnTo>
                      <a:pt x="2032" y="53"/>
                    </a:lnTo>
                    <a:lnTo>
                      <a:pt x="2035" y="20"/>
                    </a:lnTo>
                    <a:lnTo>
                      <a:pt x="2035" y="0"/>
                    </a:lnTo>
                    <a:close/>
                    <a:moveTo>
                      <a:pt x="5788" y="0"/>
                    </a:moveTo>
                    <a:lnTo>
                      <a:pt x="5853" y="0"/>
                    </a:lnTo>
                    <a:lnTo>
                      <a:pt x="5846" y="20"/>
                    </a:lnTo>
                    <a:lnTo>
                      <a:pt x="5818" y="53"/>
                    </a:lnTo>
                    <a:lnTo>
                      <a:pt x="5806" y="53"/>
                    </a:lnTo>
                    <a:lnTo>
                      <a:pt x="5798" y="27"/>
                    </a:lnTo>
                    <a:lnTo>
                      <a:pt x="5788" y="0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607920" y="3978720"/>
                <a:ext cx="2239920" cy="19440"/>
              </a:xfrm>
              <a:custGeom>
                <a:avLst/>
                <a:gdLst/>
                <a:ahLst/>
                <a:rect l="l" t="t" r="r" b="b"/>
                <a:pathLst>
                  <a:path w="5826" h="53">
                    <a:moveTo>
                      <a:pt x="0" y="0"/>
                    </a:moveTo>
                    <a:lnTo>
                      <a:pt x="590" y="0"/>
                    </a:lnTo>
                    <a:lnTo>
                      <a:pt x="600" y="22"/>
                    </a:lnTo>
                    <a:lnTo>
                      <a:pt x="603" y="53"/>
                    </a:lnTo>
                    <a:lnTo>
                      <a:pt x="27" y="53"/>
                    </a:lnTo>
                    <a:lnTo>
                      <a:pt x="0" y="0"/>
                    </a:lnTo>
                    <a:close/>
                    <a:moveTo>
                      <a:pt x="2021" y="0"/>
                    </a:moveTo>
                    <a:lnTo>
                      <a:pt x="2381" y="0"/>
                    </a:lnTo>
                    <a:lnTo>
                      <a:pt x="2391" y="29"/>
                    </a:lnTo>
                    <a:lnTo>
                      <a:pt x="2392" y="53"/>
                    </a:lnTo>
                    <a:lnTo>
                      <a:pt x="2017" y="53"/>
                    </a:lnTo>
                    <a:lnTo>
                      <a:pt x="2021" y="0"/>
                    </a:lnTo>
                    <a:close/>
                    <a:moveTo>
                      <a:pt x="5785" y="0"/>
                    </a:moveTo>
                    <a:lnTo>
                      <a:pt x="5826" y="0"/>
                    </a:lnTo>
                    <a:lnTo>
                      <a:pt x="5803" y="29"/>
                    </a:lnTo>
                    <a:lnTo>
                      <a:pt x="5793" y="29"/>
                    </a:lnTo>
                    <a:lnTo>
                      <a:pt x="5785" y="0"/>
                    </a:lnTo>
                    <a:lnTo>
                      <a:pt x="5785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613680" y="3987720"/>
                <a:ext cx="2224440" cy="19440"/>
              </a:xfrm>
              <a:custGeom>
                <a:avLst/>
                <a:gdLst/>
                <a:ahLst/>
                <a:rect l="l" t="t" r="r" b="b"/>
                <a:pathLst>
                  <a:path w="5791" h="55">
                    <a:moveTo>
                      <a:pt x="0" y="0"/>
                    </a:moveTo>
                    <a:lnTo>
                      <a:pt x="587" y="0"/>
                    </a:lnTo>
                    <a:lnTo>
                      <a:pt x="591" y="55"/>
                    </a:lnTo>
                    <a:lnTo>
                      <a:pt x="27" y="55"/>
                    </a:lnTo>
                    <a:lnTo>
                      <a:pt x="0" y="0"/>
                    </a:lnTo>
                    <a:close/>
                    <a:moveTo>
                      <a:pt x="2005" y="0"/>
                    </a:moveTo>
                    <a:lnTo>
                      <a:pt x="2376" y="0"/>
                    </a:lnTo>
                    <a:lnTo>
                      <a:pt x="2377" y="3"/>
                    </a:lnTo>
                    <a:lnTo>
                      <a:pt x="2379" y="55"/>
                    </a:lnTo>
                    <a:lnTo>
                      <a:pt x="2001" y="55"/>
                    </a:lnTo>
                    <a:lnTo>
                      <a:pt x="2005" y="0"/>
                    </a:lnTo>
                    <a:close/>
                    <a:moveTo>
                      <a:pt x="5779" y="0"/>
                    </a:moveTo>
                    <a:lnTo>
                      <a:pt x="5791" y="0"/>
                    </a:lnTo>
                    <a:lnTo>
                      <a:pt x="5789" y="3"/>
                    </a:lnTo>
                    <a:lnTo>
                      <a:pt x="5779" y="3"/>
                    </a:lnTo>
                    <a:lnTo>
                      <a:pt x="5779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619440" y="3998520"/>
                <a:ext cx="908640" cy="19080"/>
              </a:xfrm>
              <a:custGeom>
                <a:avLst/>
                <a:gdLst/>
                <a:ahLst/>
                <a:rect l="l" t="t" r="r" b="b"/>
                <a:pathLst>
                  <a:path w="2368" h="54">
                    <a:moveTo>
                      <a:pt x="0" y="0"/>
                    </a:moveTo>
                    <a:lnTo>
                      <a:pt x="576" y="0"/>
                    </a:lnTo>
                    <a:lnTo>
                      <a:pt x="581" y="54"/>
                    </a:lnTo>
                    <a:lnTo>
                      <a:pt x="28" y="54"/>
                    </a:lnTo>
                    <a:lnTo>
                      <a:pt x="0" y="0"/>
                    </a:lnTo>
                    <a:close/>
                    <a:moveTo>
                      <a:pt x="1990" y="0"/>
                    </a:moveTo>
                    <a:lnTo>
                      <a:pt x="2365" y="0"/>
                    </a:lnTo>
                    <a:lnTo>
                      <a:pt x="2368" y="54"/>
                    </a:lnTo>
                    <a:lnTo>
                      <a:pt x="1985" y="54"/>
                    </a:lnTo>
                    <a:lnTo>
                      <a:pt x="1990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3624840" y="4007520"/>
                <a:ext cx="904680" cy="19080"/>
              </a:xfrm>
              <a:custGeom>
                <a:avLst/>
                <a:gdLst/>
                <a:ahLst/>
                <a:rect l="l" t="t" r="r" b="b"/>
                <a:pathLst>
                  <a:path w="2355" h="53">
                    <a:moveTo>
                      <a:pt x="0" y="0"/>
                    </a:moveTo>
                    <a:lnTo>
                      <a:pt x="564" y="0"/>
                    </a:lnTo>
                    <a:lnTo>
                      <a:pt x="567" y="27"/>
                    </a:lnTo>
                    <a:lnTo>
                      <a:pt x="577" y="53"/>
                    </a:lnTo>
                    <a:lnTo>
                      <a:pt x="27" y="53"/>
                    </a:lnTo>
                    <a:lnTo>
                      <a:pt x="19" y="36"/>
                    </a:lnTo>
                    <a:lnTo>
                      <a:pt x="0" y="0"/>
                    </a:lnTo>
                    <a:close/>
                    <a:moveTo>
                      <a:pt x="1974" y="0"/>
                    </a:moveTo>
                    <a:lnTo>
                      <a:pt x="2352" y="0"/>
                    </a:lnTo>
                    <a:lnTo>
                      <a:pt x="2355" y="53"/>
                    </a:lnTo>
                    <a:lnTo>
                      <a:pt x="1969" y="53"/>
                    </a:lnTo>
                    <a:lnTo>
                      <a:pt x="1971" y="27"/>
                    </a:lnTo>
                    <a:lnTo>
                      <a:pt x="1974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3628800" y="4017960"/>
                <a:ext cx="900720" cy="19440"/>
              </a:xfrm>
              <a:custGeom>
                <a:avLst/>
                <a:gdLst/>
                <a:ahLst/>
                <a:rect l="l" t="t" r="r" b="b"/>
                <a:pathLst>
                  <a:path w="2342" h="55">
                    <a:moveTo>
                      <a:pt x="0" y="0"/>
                    </a:moveTo>
                    <a:lnTo>
                      <a:pt x="553" y="0"/>
                    </a:lnTo>
                    <a:lnTo>
                      <a:pt x="553" y="1"/>
                    </a:lnTo>
                    <a:lnTo>
                      <a:pt x="572" y="55"/>
                    </a:lnTo>
                    <a:lnTo>
                      <a:pt x="26" y="55"/>
                    </a:lnTo>
                    <a:lnTo>
                      <a:pt x="5" y="10"/>
                    </a:lnTo>
                    <a:lnTo>
                      <a:pt x="0" y="0"/>
                    </a:lnTo>
                    <a:close/>
                    <a:moveTo>
                      <a:pt x="1957" y="0"/>
                    </a:moveTo>
                    <a:lnTo>
                      <a:pt x="2340" y="0"/>
                    </a:lnTo>
                    <a:lnTo>
                      <a:pt x="2342" y="55"/>
                    </a:lnTo>
                    <a:lnTo>
                      <a:pt x="1952" y="55"/>
                    </a:lnTo>
                    <a:lnTo>
                      <a:pt x="1957" y="1"/>
                    </a:lnTo>
                    <a:lnTo>
                      <a:pt x="1957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634560" y="4026600"/>
                <a:ext cx="895320" cy="19440"/>
              </a:xfrm>
              <a:custGeom>
                <a:avLst/>
                <a:gdLst/>
                <a:ahLst/>
                <a:rect l="l" t="t" r="r" b="b"/>
                <a:pathLst>
                  <a:path w="2331" h="54">
                    <a:moveTo>
                      <a:pt x="0" y="0"/>
                    </a:moveTo>
                    <a:lnTo>
                      <a:pt x="550" y="0"/>
                    </a:lnTo>
                    <a:lnTo>
                      <a:pt x="560" y="30"/>
                    </a:lnTo>
                    <a:lnTo>
                      <a:pt x="563" y="54"/>
                    </a:lnTo>
                    <a:lnTo>
                      <a:pt x="26" y="54"/>
                    </a:lnTo>
                    <a:lnTo>
                      <a:pt x="0" y="0"/>
                    </a:lnTo>
                    <a:close/>
                    <a:moveTo>
                      <a:pt x="1942" y="0"/>
                    </a:moveTo>
                    <a:lnTo>
                      <a:pt x="2328" y="0"/>
                    </a:lnTo>
                    <a:lnTo>
                      <a:pt x="2331" y="50"/>
                    </a:lnTo>
                    <a:lnTo>
                      <a:pt x="2330" y="54"/>
                    </a:lnTo>
                    <a:lnTo>
                      <a:pt x="1935" y="54"/>
                    </a:lnTo>
                    <a:lnTo>
                      <a:pt x="1942" y="0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640680" y="4037400"/>
                <a:ext cx="889200" cy="17640"/>
              </a:xfrm>
              <a:custGeom>
                <a:avLst/>
                <a:gdLst/>
                <a:ahLst/>
                <a:rect l="l" t="t" r="r" b="b"/>
                <a:pathLst>
                  <a:path w="2318" h="53">
                    <a:moveTo>
                      <a:pt x="0" y="0"/>
                    </a:moveTo>
                    <a:lnTo>
                      <a:pt x="546" y="0"/>
                    </a:lnTo>
                    <a:lnTo>
                      <a:pt x="547" y="2"/>
                    </a:lnTo>
                    <a:lnTo>
                      <a:pt x="554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926" y="0"/>
                    </a:moveTo>
                    <a:lnTo>
                      <a:pt x="2316" y="0"/>
                    </a:lnTo>
                    <a:lnTo>
                      <a:pt x="2318" y="22"/>
                    </a:lnTo>
                    <a:lnTo>
                      <a:pt x="2314" y="53"/>
                    </a:lnTo>
                    <a:lnTo>
                      <a:pt x="1919" y="5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3644640" y="4046400"/>
                <a:ext cx="885240" cy="19080"/>
              </a:xfrm>
              <a:custGeom>
                <a:avLst/>
                <a:gdLst/>
                <a:ahLst/>
                <a:rect l="l" t="t" r="r" b="b"/>
                <a:pathLst>
                  <a:path w="2304" h="55">
                    <a:moveTo>
                      <a:pt x="0" y="0"/>
                    </a:moveTo>
                    <a:lnTo>
                      <a:pt x="537" y="0"/>
                    </a:lnTo>
                    <a:lnTo>
                      <a:pt x="546" y="50"/>
                    </a:lnTo>
                    <a:lnTo>
                      <a:pt x="546" y="55"/>
                    </a:lnTo>
                    <a:lnTo>
                      <a:pt x="26" y="55"/>
                    </a:lnTo>
                    <a:lnTo>
                      <a:pt x="0" y="0"/>
                    </a:lnTo>
                    <a:close/>
                    <a:moveTo>
                      <a:pt x="1909" y="0"/>
                    </a:moveTo>
                    <a:lnTo>
                      <a:pt x="2304" y="0"/>
                    </a:lnTo>
                    <a:lnTo>
                      <a:pt x="2298" y="55"/>
                    </a:lnTo>
                    <a:lnTo>
                      <a:pt x="1903" y="55"/>
                    </a:lnTo>
                    <a:lnTo>
                      <a:pt x="1909" y="0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3650040" y="4055040"/>
                <a:ext cx="877680" cy="19080"/>
              </a:xfrm>
              <a:custGeom>
                <a:avLst/>
                <a:gdLst/>
                <a:ahLst/>
                <a:rect l="l" t="t" r="r" b="b"/>
                <a:pathLst>
                  <a:path w="2288" h="54">
                    <a:moveTo>
                      <a:pt x="0" y="0"/>
                    </a:moveTo>
                    <a:lnTo>
                      <a:pt x="528" y="0"/>
                    </a:lnTo>
                    <a:lnTo>
                      <a:pt x="533" y="23"/>
                    </a:lnTo>
                    <a:lnTo>
                      <a:pt x="537" y="54"/>
                    </a:lnTo>
                    <a:lnTo>
                      <a:pt x="25" y="54"/>
                    </a:lnTo>
                    <a:lnTo>
                      <a:pt x="0" y="0"/>
                    </a:lnTo>
                    <a:close/>
                    <a:moveTo>
                      <a:pt x="1893" y="0"/>
                    </a:moveTo>
                    <a:lnTo>
                      <a:pt x="2288" y="0"/>
                    </a:lnTo>
                    <a:lnTo>
                      <a:pt x="2284" y="36"/>
                    </a:lnTo>
                    <a:lnTo>
                      <a:pt x="2277" y="54"/>
                    </a:lnTo>
                    <a:lnTo>
                      <a:pt x="1887" y="54"/>
                    </a:lnTo>
                    <a:lnTo>
                      <a:pt x="1893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654000" y="4065480"/>
                <a:ext cx="873720" cy="17640"/>
              </a:xfrm>
              <a:custGeom>
                <a:avLst/>
                <a:gdLst/>
                <a:ahLst/>
                <a:rect l="l" t="t" r="r" b="b"/>
                <a:pathLst>
                  <a:path w="2272" h="53">
                    <a:moveTo>
                      <a:pt x="0" y="0"/>
                    </a:moveTo>
                    <a:lnTo>
                      <a:pt x="520" y="0"/>
                    </a:lnTo>
                    <a:lnTo>
                      <a:pt x="528" y="53"/>
                    </a:lnTo>
                    <a:lnTo>
                      <a:pt x="26" y="53"/>
                    </a:lnTo>
                    <a:lnTo>
                      <a:pt x="0" y="0"/>
                    </a:lnTo>
                    <a:close/>
                    <a:moveTo>
                      <a:pt x="1877" y="0"/>
                    </a:moveTo>
                    <a:lnTo>
                      <a:pt x="2272" y="0"/>
                    </a:lnTo>
                    <a:lnTo>
                      <a:pt x="2271" y="8"/>
                    </a:lnTo>
                    <a:lnTo>
                      <a:pt x="2252" y="53"/>
                    </a:lnTo>
                    <a:lnTo>
                      <a:pt x="2151" y="53"/>
                    </a:lnTo>
                    <a:lnTo>
                      <a:pt x="2147" y="49"/>
                    </a:lnTo>
                    <a:lnTo>
                      <a:pt x="2146" y="53"/>
                    </a:lnTo>
                    <a:lnTo>
                      <a:pt x="1868" y="53"/>
                    </a:lnTo>
                    <a:lnTo>
                      <a:pt x="1873" y="40"/>
                    </a:lnTo>
                    <a:lnTo>
                      <a:pt x="1877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659760" y="4074480"/>
                <a:ext cx="864360" cy="19440"/>
              </a:xfrm>
              <a:custGeom>
                <a:avLst/>
                <a:gdLst/>
                <a:ahLst/>
                <a:rect l="l" t="t" r="r" b="b"/>
                <a:pathLst>
                  <a:path w="2252" h="54">
                    <a:moveTo>
                      <a:pt x="0" y="0"/>
                    </a:moveTo>
                    <a:lnTo>
                      <a:pt x="512" y="0"/>
                    </a:lnTo>
                    <a:lnTo>
                      <a:pt x="519" y="54"/>
                    </a:lnTo>
                    <a:lnTo>
                      <a:pt x="26" y="54"/>
                    </a:lnTo>
                    <a:lnTo>
                      <a:pt x="14" y="29"/>
                    </a:lnTo>
                    <a:lnTo>
                      <a:pt x="0" y="0"/>
                    </a:lnTo>
                    <a:close/>
                    <a:moveTo>
                      <a:pt x="1862" y="0"/>
                    </a:moveTo>
                    <a:lnTo>
                      <a:pt x="2252" y="0"/>
                    </a:lnTo>
                    <a:lnTo>
                      <a:pt x="2239" y="29"/>
                    </a:lnTo>
                    <a:lnTo>
                      <a:pt x="2207" y="54"/>
                    </a:lnTo>
                    <a:lnTo>
                      <a:pt x="2179" y="54"/>
                    </a:lnTo>
                    <a:lnTo>
                      <a:pt x="2160" y="49"/>
                    </a:lnTo>
                    <a:lnTo>
                      <a:pt x="2135" y="23"/>
                    </a:lnTo>
                    <a:lnTo>
                      <a:pt x="2130" y="54"/>
                    </a:lnTo>
                    <a:lnTo>
                      <a:pt x="1848" y="54"/>
                    </a:lnTo>
                    <a:lnTo>
                      <a:pt x="1861" y="14"/>
                    </a:lnTo>
                    <a:lnTo>
                      <a:pt x="1862" y="0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665520" y="4083120"/>
                <a:ext cx="854640" cy="19440"/>
              </a:xfrm>
              <a:custGeom>
                <a:avLst/>
                <a:gdLst/>
                <a:ahLst/>
                <a:rect l="l" t="t" r="r" b="b"/>
                <a:pathLst>
                  <a:path w="2226" h="55">
                    <a:moveTo>
                      <a:pt x="0" y="0"/>
                    </a:moveTo>
                    <a:lnTo>
                      <a:pt x="502" y="0"/>
                    </a:lnTo>
                    <a:lnTo>
                      <a:pt x="509" y="55"/>
                    </a:lnTo>
                    <a:lnTo>
                      <a:pt x="23" y="5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1842" y="0"/>
                    </a:moveTo>
                    <a:lnTo>
                      <a:pt x="2120" y="0"/>
                    </a:lnTo>
                    <a:lnTo>
                      <a:pt x="2112" y="55"/>
                    </a:lnTo>
                    <a:lnTo>
                      <a:pt x="1826" y="55"/>
                    </a:lnTo>
                    <a:lnTo>
                      <a:pt x="1842" y="0"/>
                    </a:lnTo>
                    <a:close/>
                    <a:moveTo>
                      <a:pt x="2125" y="0"/>
                    </a:moveTo>
                    <a:lnTo>
                      <a:pt x="2226" y="0"/>
                    </a:lnTo>
                    <a:lnTo>
                      <a:pt x="2225" y="2"/>
                    </a:lnTo>
                    <a:lnTo>
                      <a:pt x="2186" y="34"/>
                    </a:lnTo>
                    <a:lnTo>
                      <a:pt x="2146" y="22"/>
                    </a:lnTo>
                    <a:lnTo>
                      <a:pt x="2125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3669480" y="4093920"/>
                <a:ext cx="837360" cy="19080"/>
              </a:xfrm>
              <a:custGeom>
                <a:avLst/>
                <a:gdLst/>
                <a:ahLst/>
                <a:rect l="l" t="t" r="r" b="b"/>
                <a:pathLst>
                  <a:path w="2181" h="54">
                    <a:moveTo>
                      <a:pt x="0" y="0"/>
                    </a:moveTo>
                    <a:lnTo>
                      <a:pt x="493" y="0"/>
                    </a:lnTo>
                    <a:lnTo>
                      <a:pt x="502" y="54"/>
                    </a:lnTo>
                    <a:lnTo>
                      <a:pt x="50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822" y="0"/>
                    </a:moveTo>
                    <a:lnTo>
                      <a:pt x="2104" y="0"/>
                    </a:lnTo>
                    <a:lnTo>
                      <a:pt x="2095" y="54"/>
                    </a:lnTo>
                    <a:lnTo>
                      <a:pt x="1806" y="54"/>
                    </a:lnTo>
                    <a:lnTo>
                      <a:pt x="1822" y="0"/>
                    </a:lnTo>
                    <a:close/>
                    <a:moveTo>
                      <a:pt x="2153" y="0"/>
                    </a:moveTo>
                    <a:lnTo>
                      <a:pt x="2181" y="0"/>
                    </a:lnTo>
                    <a:lnTo>
                      <a:pt x="2174" y="7"/>
                    </a:lnTo>
                    <a:lnTo>
                      <a:pt x="2153" y="0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3673440" y="4102920"/>
                <a:ext cx="802800" cy="19080"/>
              </a:xfrm>
              <a:custGeom>
                <a:avLst/>
                <a:gdLst/>
                <a:ahLst/>
                <a:rect l="l" t="t" r="r" b="b"/>
                <a:pathLst>
                  <a:path w="2089" h="53">
                    <a:moveTo>
                      <a:pt x="0" y="0"/>
                    </a:moveTo>
                    <a:lnTo>
                      <a:pt x="486" y="0"/>
                    </a:lnTo>
                    <a:lnTo>
                      <a:pt x="491" y="26"/>
                    </a:lnTo>
                    <a:lnTo>
                      <a:pt x="492" y="53"/>
                    </a:lnTo>
                    <a:lnTo>
                      <a:pt x="24" y="53"/>
                    </a:lnTo>
                    <a:lnTo>
                      <a:pt x="0" y="0"/>
                    </a:lnTo>
                    <a:close/>
                    <a:moveTo>
                      <a:pt x="1803" y="0"/>
                    </a:moveTo>
                    <a:lnTo>
                      <a:pt x="2089" y="0"/>
                    </a:lnTo>
                    <a:lnTo>
                      <a:pt x="2084" y="28"/>
                    </a:lnTo>
                    <a:lnTo>
                      <a:pt x="2080" y="53"/>
                    </a:lnTo>
                    <a:lnTo>
                      <a:pt x="1786" y="53"/>
                    </a:lnTo>
                    <a:lnTo>
                      <a:pt x="180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3678840" y="4113360"/>
                <a:ext cx="795240" cy="19440"/>
              </a:xfrm>
              <a:custGeom>
                <a:avLst/>
                <a:gdLst/>
                <a:ahLst/>
                <a:rect l="l" t="t" r="r" b="b"/>
                <a:pathLst>
                  <a:path w="2072" h="55">
                    <a:moveTo>
                      <a:pt x="0" y="0"/>
                    </a:moveTo>
                    <a:lnTo>
                      <a:pt x="479" y="0"/>
                    </a:lnTo>
                    <a:lnTo>
                      <a:pt x="482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783" y="0"/>
                    </a:moveTo>
                    <a:lnTo>
                      <a:pt x="2072" y="0"/>
                    </a:lnTo>
                    <a:lnTo>
                      <a:pt x="2072" y="2"/>
                    </a:lnTo>
                    <a:lnTo>
                      <a:pt x="2064" y="55"/>
                    </a:lnTo>
                    <a:lnTo>
                      <a:pt x="1764" y="55"/>
                    </a:lnTo>
                    <a:lnTo>
                      <a:pt x="1774" y="29"/>
                    </a:lnTo>
                    <a:lnTo>
                      <a:pt x="1783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3682800" y="4122360"/>
                <a:ext cx="789480" cy="19440"/>
              </a:xfrm>
              <a:custGeom>
                <a:avLst/>
                <a:gdLst/>
                <a:ahLst/>
                <a:rect l="l" t="t" r="r" b="b"/>
                <a:pathLst>
                  <a:path w="2056" h="54">
                    <a:moveTo>
                      <a:pt x="0" y="0"/>
                    </a:moveTo>
                    <a:lnTo>
                      <a:pt x="468" y="0"/>
                    </a:lnTo>
                    <a:lnTo>
                      <a:pt x="472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762" y="0"/>
                    </a:moveTo>
                    <a:lnTo>
                      <a:pt x="2056" y="0"/>
                    </a:lnTo>
                    <a:lnTo>
                      <a:pt x="2048" y="54"/>
                    </a:lnTo>
                    <a:lnTo>
                      <a:pt x="1740" y="54"/>
                    </a:lnTo>
                    <a:lnTo>
                      <a:pt x="1762" y="2"/>
                    </a:lnTo>
                    <a:lnTo>
                      <a:pt x="1762" y="0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3686760" y="4133160"/>
                <a:ext cx="783720" cy="17640"/>
              </a:xfrm>
              <a:custGeom>
                <a:avLst/>
                <a:gdLst/>
                <a:ahLst/>
                <a:rect l="l" t="t" r="r" b="b"/>
                <a:pathLst>
                  <a:path w="2040" h="53">
                    <a:moveTo>
                      <a:pt x="0" y="0"/>
                    </a:moveTo>
                    <a:lnTo>
                      <a:pt x="458" y="0"/>
                    </a:lnTo>
                    <a:lnTo>
                      <a:pt x="461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740" y="0"/>
                    </a:moveTo>
                    <a:lnTo>
                      <a:pt x="2040" y="0"/>
                    </a:lnTo>
                    <a:lnTo>
                      <a:pt x="2031" y="53"/>
                    </a:lnTo>
                    <a:lnTo>
                      <a:pt x="1717" y="53"/>
                    </a:lnTo>
                    <a:lnTo>
                      <a:pt x="1740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3692520" y="4141800"/>
                <a:ext cx="777960" cy="19080"/>
              </a:xfrm>
              <a:custGeom>
                <a:avLst/>
                <a:gdLst/>
                <a:ahLst/>
                <a:rect l="l" t="t" r="r" b="b"/>
                <a:pathLst>
                  <a:path w="2025" h="55">
                    <a:moveTo>
                      <a:pt x="0" y="0"/>
                    </a:moveTo>
                    <a:lnTo>
                      <a:pt x="449" y="0"/>
                    </a:lnTo>
                    <a:lnTo>
                      <a:pt x="451" y="45"/>
                    </a:lnTo>
                    <a:lnTo>
                      <a:pt x="452" y="55"/>
                    </a:lnTo>
                    <a:lnTo>
                      <a:pt x="25" y="55"/>
                    </a:lnTo>
                    <a:lnTo>
                      <a:pt x="0" y="0"/>
                    </a:lnTo>
                    <a:close/>
                    <a:moveTo>
                      <a:pt x="1717" y="0"/>
                    </a:moveTo>
                    <a:lnTo>
                      <a:pt x="2025" y="0"/>
                    </a:lnTo>
                    <a:lnTo>
                      <a:pt x="2017" y="45"/>
                    </a:lnTo>
                    <a:lnTo>
                      <a:pt x="2016" y="55"/>
                    </a:lnTo>
                    <a:lnTo>
                      <a:pt x="1694" y="55"/>
                    </a:lnTo>
                    <a:lnTo>
                      <a:pt x="1717" y="0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3696480" y="4150800"/>
                <a:ext cx="771840" cy="19080"/>
              </a:xfrm>
              <a:custGeom>
                <a:avLst/>
                <a:gdLst/>
                <a:ahLst/>
                <a:rect l="l" t="t" r="r" b="b"/>
                <a:pathLst>
                  <a:path w="2008" h="54">
                    <a:moveTo>
                      <a:pt x="0" y="0"/>
                    </a:moveTo>
                    <a:lnTo>
                      <a:pt x="438" y="0"/>
                    </a:lnTo>
                    <a:lnTo>
                      <a:pt x="439" y="18"/>
                    </a:lnTo>
                    <a:lnTo>
                      <a:pt x="444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694" y="0"/>
                    </a:moveTo>
                    <a:lnTo>
                      <a:pt x="2008" y="0"/>
                    </a:lnTo>
                    <a:lnTo>
                      <a:pt x="2005" y="18"/>
                    </a:lnTo>
                    <a:lnTo>
                      <a:pt x="2002" y="54"/>
                    </a:lnTo>
                    <a:lnTo>
                      <a:pt x="1665" y="54"/>
                    </a:lnTo>
                    <a:lnTo>
                      <a:pt x="1678" y="38"/>
                    </a:lnTo>
                    <a:lnTo>
                      <a:pt x="1694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3702240" y="4161240"/>
                <a:ext cx="764640" cy="17640"/>
              </a:xfrm>
              <a:custGeom>
                <a:avLst/>
                <a:gdLst/>
                <a:ahLst/>
                <a:rect l="l" t="t" r="r" b="b"/>
                <a:pathLst>
                  <a:path w="1991" h="53">
                    <a:moveTo>
                      <a:pt x="0" y="0"/>
                    </a:moveTo>
                    <a:lnTo>
                      <a:pt x="427" y="0"/>
                    </a:lnTo>
                    <a:lnTo>
                      <a:pt x="435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669" y="0"/>
                    </a:moveTo>
                    <a:lnTo>
                      <a:pt x="1991" y="0"/>
                    </a:lnTo>
                    <a:lnTo>
                      <a:pt x="1987" y="53"/>
                    </a:lnTo>
                    <a:lnTo>
                      <a:pt x="1624" y="53"/>
                    </a:lnTo>
                    <a:lnTo>
                      <a:pt x="1635" y="48"/>
                    </a:lnTo>
                    <a:lnTo>
                      <a:pt x="1665" y="10"/>
                    </a:lnTo>
                    <a:lnTo>
                      <a:pt x="1669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3705840" y="4169880"/>
                <a:ext cx="758520" cy="19440"/>
              </a:xfrm>
              <a:custGeom>
                <a:avLst/>
                <a:gdLst/>
                <a:ahLst/>
                <a:rect l="l" t="t" r="r" b="b"/>
                <a:pathLst>
                  <a:path w="1978" h="54">
                    <a:moveTo>
                      <a:pt x="0" y="0"/>
                    </a:moveTo>
                    <a:lnTo>
                      <a:pt x="420" y="0"/>
                    </a:lnTo>
                    <a:lnTo>
                      <a:pt x="427" y="54"/>
                    </a:lnTo>
                    <a:lnTo>
                      <a:pt x="23" y="54"/>
                    </a:lnTo>
                    <a:lnTo>
                      <a:pt x="0" y="0"/>
                    </a:lnTo>
                    <a:close/>
                    <a:moveTo>
                      <a:pt x="1641" y="0"/>
                    </a:moveTo>
                    <a:lnTo>
                      <a:pt x="1978" y="0"/>
                    </a:lnTo>
                    <a:lnTo>
                      <a:pt x="1974" y="54"/>
                    </a:lnTo>
                    <a:lnTo>
                      <a:pt x="1555" y="54"/>
                    </a:lnTo>
                    <a:lnTo>
                      <a:pt x="1567" y="51"/>
                    </a:lnTo>
                    <a:lnTo>
                      <a:pt x="1624" y="22"/>
                    </a:lnTo>
                    <a:lnTo>
                      <a:pt x="1641" y="0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3709440" y="4178880"/>
                <a:ext cx="754920" cy="19440"/>
              </a:xfrm>
              <a:custGeom>
                <a:avLst/>
                <a:gdLst/>
                <a:ahLst/>
                <a:rect l="l" t="t" r="r" b="b"/>
                <a:pathLst>
                  <a:path w="1964" h="55">
                    <a:moveTo>
                      <a:pt x="0" y="0"/>
                    </a:moveTo>
                    <a:lnTo>
                      <a:pt x="412" y="0"/>
                    </a:lnTo>
                    <a:lnTo>
                      <a:pt x="420" y="55"/>
                    </a:lnTo>
                    <a:lnTo>
                      <a:pt x="24" y="55"/>
                    </a:lnTo>
                    <a:lnTo>
                      <a:pt x="0" y="0"/>
                    </a:lnTo>
                    <a:close/>
                    <a:moveTo>
                      <a:pt x="1601" y="0"/>
                    </a:moveTo>
                    <a:lnTo>
                      <a:pt x="1964" y="0"/>
                    </a:lnTo>
                    <a:lnTo>
                      <a:pt x="1961" y="36"/>
                    </a:lnTo>
                    <a:lnTo>
                      <a:pt x="1961" y="55"/>
                    </a:lnTo>
                    <a:lnTo>
                      <a:pt x="1442" y="55"/>
                    </a:lnTo>
                    <a:lnTo>
                      <a:pt x="1555" y="24"/>
                    </a:lnTo>
                    <a:lnTo>
                      <a:pt x="1601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3713400" y="4189680"/>
                <a:ext cx="750960" cy="19080"/>
              </a:xfrm>
              <a:custGeom>
                <a:avLst/>
                <a:gdLst/>
                <a:ahLst/>
                <a:rect l="l" t="t" r="r" b="b"/>
                <a:pathLst>
                  <a:path w="1951" h="54">
                    <a:moveTo>
                      <a:pt x="0" y="0"/>
                    </a:moveTo>
                    <a:lnTo>
                      <a:pt x="404" y="0"/>
                    </a:lnTo>
                    <a:lnTo>
                      <a:pt x="412" y="52"/>
                    </a:lnTo>
                    <a:lnTo>
                      <a:pt x="412" y="54"/>
                    </a:lnTo>
                    <a:lnTo>
                      <a:pt x="24" y="54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951" y="0"/>
                    </a:lnTo>
                    <a:lnTo>
                      <a:pt x="1950" y="9"/>
                    </a:lnTo>
                    <a:lnTo>
                      <a:pt x="1950" y="54"/>
                    </a:lnTo>
                    <a:lnTo>
                      <a:pt x="1306" y="54"/>
                    </a:lnTo>
                    <a:lnTo>
                      <a:pt x="1390" y="38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3719160" y="4198320"/>
                <a:ext cx="743400" cy="19080"/>
              </a:xfrm>
              <a:custGeom>
                <a:avLst/>
                <a:gdLst/>
                <a:ahLst/>
                <a:rect l="l" t="t" r="r" b="b"/>
                <a:pathLst>
                  <a:path w="1937" h="53">
                    <a:moveTo>
                      <a:pt x="0" y="0"/>
                    </a:moveTo>
                    <a:lnTo>
                      <a:pt x="396" y="0"/>
                    </a:lnTo>
                    <a:lnTo>
                      <a:pt x="399" y="24"/>
                    </a:lnTo>
                    <a:lnTo>
                      <a:pt x="406" y="53"/>
                    </a:lnTo>
                    <a:lnTo>
                      <a:pt x="23" y="53"/>
                    </a:lnTo>
                    <a:lnTo>
                      <a:pt x="0" y="0"/>
                    </a:lnTo>
                    <a:close/>
                    <a:moveTo>
                      <a:pt x="1418" y="0"/>
                    </a:moveTo>
                    <a:lnTo>
                      <a:pt x="1937" y="0"/>
                    </a:lnTo>
                    <a:lnTo>
                      <a:pt x="1937" y="53"/>
                    </a:lnTo>
                    <a:lnTo>
                      <a:pt x="1033" y="53"/>
                    </a:lnTo>
                    <a:lnTo>
                      <a:pt x="1046" y="48"/>
                    </a:lnTo>
                    <a:lnTo>
                      <a:pt x="1174" y="48"/>
                    </a:lnTo>
                    <a:lnTo>
                      <a:pt x="1189" y="48"/>
                    </a:lnTo>
                    <a:lnTo>
                      <a:pt x="1231" y="39"/>
                    </a:lnTo>
                    <a:lnTo>
                      <a:pt x="1377" y="10"/>
                    </a:lnTo>
                    <a:lnTo>
                      <a:pt x="1418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3723120" y="4208760"/>
                <a:ext cx="739800" cy="19440"/>
              </a:xfrm>
              <a:custGeom>
                <a:avLst/>
                <a:gdLst/>
                <a:ahLst/>
                <a:rect l="l" t="t" r="r" b="b"/>
                <a:pathLst>
                  <a:path w="1926" h="55">
                    <a:moveTo>
                      <a:pt x="0" y="0"/>
                    </a:moveTo>
                    <a:lnTo>
                      <a:pt x="388" y="0"/>
                    </a:lnTo>
                    <a:lnTo>
                      <a:pt x="401" y="55"/>
                    </a:lnTo>
                    <a:lnTo>
                      <a:pt x="20" y="55"/>
                    </a:lnTo>
                    <a:lnTo>
                      <a:pt x="13" y="29"/>
                    </a:lnTo>
                    <a:lnTo>
                      <a:pt x="0" y="0"/>
                    </a:lnTo>
                    <a:close/>
                    <a:moveTo>
                      <a:pt x="1282" y="0"/>
                    </a:moveTo>
                    <a:lnTo>
                      <a:pt x="1926" y="0"/>
                    </a:lnTo>
                    <a:lnTo>
                      <a:pt x="1926" y="55"/>
                    </a:lnTo>
                    <a:lnTo>
                      <a:pt x="978" y="55"/>
                    </a:lnTo>
                    <a:lnTo>
                      <a:pt x="976" y="49"/>
                    </a:lnTo>
                    <a:lnTo>
                      <a:pt x="987" y="42"/>
                    </a:lnTo>
                    <a:lnTo>
                      <a:pt x="1035" y="22"/>
                    </a:lnTo>
                    <a:lnTo>
                      <a:pt x="1163" y="22"/>
                    </a:lnTo>
                    <a:lnTo>
                      <a:pt x="1178" y="22"/>
                    </a:lnTo>
                    <a:lnTo>
                      <a:pt x="1220" y="13"/>
                    </a:lnTo>
                    <a:lnTo>
                      <a:pt x="1282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3729240" y="4217760"/>
                <a:ext cx="733680" cy="19440"/>
              </a:xfrm>
              <a:custGeom>
                <a:avLst/>
                <a:gdLst/>
                <a:ahLst/>
                <a:rect l="l" t="t" r="r" b="b"/>
                <a:pathLst>
                  <a:path w="1914" h="54">
                    <a:moveTo>
                      <a:pt x="0" y="0"/>
                    </a:moveTo>
                    <a:lnTo>
                      <a:pt x="383" y="0"/>
                    </a:lnTo>
                    <a:lnTo>
                      <a:pt x="396" y="51"/>
                    </a:lnTo>
                    <a:lnTo>
                      <a:pt x="397" y="54"/>
                    </a:lnTo>
                    <a:lnTo>
                      <a:pt x="18" y="54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  <a:moveTo>
                      <a:pt x="1010" y="0"/>
                    </a:moveTo>
                    <a:lnTo>
                      <a:pt x="1914" y="0"/>
                    </a:lnTo>
                    <a:lnTo>
                      <a:pt x="1914" y="54"/>
                    </a:lnTo>
                    <a:lnTo>
                      <a:pt x="984" y="54"/>
                    </a:lnTo>
                    <a:lnTo>
                      <a:pt x="975" y="45"/>
                    </a:lnTo>
                    <a:lnTo>
                      <a:pt x="964" y="22"/>
                    </a:lnTo>
                    <a:lnTo>
                      <a:pt x="975" y="15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3730680" y="4228560"/>
                <a:ext cx="731880" cy="17640"/>
              </a:xfrm>
              <a:custGeom>
                <a:avLst/>
                <a:gdLst/>
                <a:ahLst/>
                <a:rect l="l" t="t" r="r" b="b"/>
                <a:pathLst>
                  <a:path w="1906" h="53">
                    <a:moveTo>
                      <a:pt x="0" y="0"/>
                    </a:moveTo>
                    <a:lnTo>
                      <a:pt x="381" y="0"/>
                    </a:lnTo>
                    <a:lnTo>
                      <a:pt x="388" y="23"/>
                    </a:lnTo>
                    <a:lnTo>
                      <a:pt x="397" y="53"/>
                    </a:lnTo>
                    <a:lnTo>
                      <a:pt x="18" y="53"/>
                    </a:lnTo>
                    <a:lnTo>
                      <a:pt x="0" y="0"/>
                    </a:lnTo>
                    <a:close/>
                    <a:moveTo>
                      <a:pt x="958" y="0"/>
                    </a:moveTo>
                    <a:lnTo>
                      <a:pt x="1906" y="0"/>
                    </a:lnTo>
                    <a:lnTo>
                      <a:pt x="1906" y="53"/>
                    </a:lnTo>
                    <a:lnTo>
                      <a:pt x="1000" y="53"/>
                    </a:lnTo>
                    <a:lnTo>
                      <a:pt x="967" y="17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3734640" y="4237560"/>
                <a:ext cx="727920" cy="19080"/>
              </a:xfrm>
              <a:custGeom>
                <a:avLst/>
                <a:gdLst/>
                <a:ahLst/>
                <a:rect l="l" t="t" r="r" b="b"/>
                <a:pathLst>
                  <a:path w="1896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6" y="55"/>
                    </a:lnTo>
                    <a:lnTo>
                      <a:pt x="17" y="55"/>
                    </a:lnTo>
                    <a:lnTo>
                      <a:pt x="0" y="0"/>
                    </a:lnTo>
                    <a:close/>
                    <a:moveTo>
                      <a:pt x="966" y="0"/>
                    </a:moveTo>
                    <a:lnTo>
                      <a:pt x="1896" y="0"/>
                    </a:lnTo>
                    <a:lnTo>
                      <a:pt x="1896" y="47"/>
                    </a:lnTo>
                    <a:lnTo>
                      <a:pt x="1896" y="55"/>
                    </a:lnTo>
                    <a:lnTo>
                      <a:pt x="1021" y="55"/>
                    </a:lnTo>
                    <a:lnTo>
                      <a:pt x="997" y="36"/>
                    </a:lnTo>
                    <a:lnTo>
                      <a:pt x="966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3738600" y="4246200"/>
                <a:ext cx="723960" cy="19080"/>
              </a:xfrm>
              <a:custGeom>
                <a:avLst/>
                <a:gdLst/>
                <a:ahLst/>
                <a:rect l="l" t="t" r="r" b="b"/>
                <a:pathLst>
                  <a:path w="188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7" y="54"/>
                    </a:lnTo>
                    <a:lnTo>
                      <a:pt x="17" y="54"/>
                    </a:lnTo>
                    <a:lnTo>
                      <a:pt x="0" y="0"/>
                    </a:lnTo>
                    <a:close/>
                    <a:moveTo>
                      <a:pt x="982" y="0"/>
                    </a:moveTo>
                    <a:lnTo>
                      <a:pt x="1888" y="0"/>
                    </a:lnTo>
                    <a:lnTo>
                      <a:pt x="1888" y="20"/>
                    </a:lnTo>
                    <a:lnTo>
                      <a:pt x="1886" y="54"/>
                    </a:lnTo>
                    <a:lnTo>
                      <a:pt x="1048" y="54"/>
                    </a:lnTo>
                    <a:lnTo>
                      <a:pt x="989" y="9"/>
                    </a:lnTo>
                    <a:lnTo>
                      <a:pt x="982" y="0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3742200" y="4256640"/>
                <a:ext cx="720360" cy="17640"/>
              </a:xfrm>
              <a:custGeom>
                <a:avLst/>
                <a:gdLst/>
                <a:ahLst/>
                <a:rect l="l" t="t" r="r" b="b"/>
                <a:pathLst>
                  <a:path w="1879" h="53">
                    <a:moveTo>
                      <a:pt x="0" y="0"/>
                    </a:moveTo>
                    <a:lnTo>
                      <a:pt x="379" y="0"/>
                    </a:lnTo>
                    <a:lnTo>
                      <a:pt x="392" y="40"/>
                    </a:lnTo>
                    <a:lnTo>
                      <a:pt x="395" y="53"/>
                    </a:lnTo>
                    <a:lnTo>
                      <a:pt x="16" y="53"/>
                    </a:lnTo>
                    <a:lnTo>
                      <a:pt x="0" y="0"/>
                    </a:lnTo>
                    <a:close/>
                    <a:moveTo>
                      <a:pt x="1004" y="0"/>
                    </a:moveTo>
                    <a:lnTo>
                      <a:pt x="1879" y="0"/>
                    </a:lnTo>
                    <a:lnTo>
                      <a:pt x="1875" y="53"/>
                    </a:lnTo>
                    <a:lnTo>
                      <a:pt x="1080" y="53"/>
                    </a:lnTo>
                    <a:lnTo>
                      <a:pt x="1057" y="40"/>
                    </a:lnTo>
                    <a:lnTo>
                      <a:pt x="1004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3744360" y="4265640"/>
                <a:ext cx="718200" cy="19440"/>
              </a:xfrm>
              <a:custGeom>
                <a:avLst/>
                <a:gdLst/>
                <a:ahLst/>
                <a:rect l="l" t="t" r="r" b="b"/>
                <a:pathLst>
                  <a:path w="1869" h="54">
                    <a:moveTo>
                      <a:pt x="0" y="0"/>
                    </a:moveTo>
                    <a:lnTo>
                      <a:pt x="380" y="0"/>
                    </a:lnTo>
                    <a:lnTo>
                      <a:pt x="384" y="14"/>
                    </a:lnTo>
                    <a:lnTo>
                      <a:pt x="396" y="54"/>
                    </a:lnTo>
                    <a:lnTo>
                      <a:pt x="17" y="54"/>
                    </a:lnTo>
                    <a:lnTo>
                      <a:pt x="14" y="42"/>
                    </a:lnTo>
                    <a:lnTo>
                      <a:pt x="0" y="0"/>
                    </a:lnTo>
                    <a:close/>
                    <a:moveTo>
                      <a:pt x="1031" y="0"/>
                    </a:moveTo>
                    <a:lnTo>
                      <a:pt x="1869" y="0"/>
                    </a:lnTo>
                    <a:lnTo>
                      <a:pt x="1865" y="54"/>
                    </a:lnTo>
                    <a:lnTo>
                      <a:pt x="1446" y="54"/>
                    </a:lnTo>
                    <a:lnTo>
                      <a:pt x="1444" y="53"/>
                    </a:lnTo>
                    <a:lnTo>
                      <a:pt x="1386" y="42"/>
                    </a:lnTo>
                    <a:lnTo>
                      <a:pt x="1339" y="53"/>
                    </a:lnTo>
                    <a:lnTo>
                      <a:pt x="1336" y="54"/>
                    </a:lnTo>
                    <a:lnTo>
                      <a:pt x="1119" y="54"/>
                    </a:lnTo>
                    <a:lnTo>
                      <a:pt x="1049" y="14"/>
                    </a:lnTo>
                    <a:lnTo>
                      <a:pt x="1031" y="0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3748320" y="4274280"/>
                <a:ext cx="714240" cy="19440"/>
              </a:xfrm>
              <a:custGeom>
                <a:avLst/>
                <a:gdLst/>
                <a:ahLst/>
                <a:rect l="l" t="t" r="r" b="b"/>
                <a:pathLst>
                  <a:path w="1859" h="55">
                    <a:moveTo>
                      <a:pt x="0" y="0"/>
                    </a:moveTo>
                    <a:lnTo>
                      <a:pt x="379" y="0"/>
                    </a:lnTo>
                    <a:lnTo>
                      <a:pt x="395" y="55"/>
                    </a:lnTo>
                    <a:lnTo>
                      <a:pt x="15" y="55"/>
                    </a:lnTo>
                    <a:lnTo>
                      <a:pt x="6" y="15"/>
                    </a:lnTo>
                    <a:lnTo>
                      <a:pt x="0" y="0"/>
                    </a:lnTo>
                    <a:close/>
                    <a:moveTo>
                      <a:pt x="1064" y="0"/>
                    </a:moveTo>
                    <a:lnTo>
                      <a:pt x="1859" y="0"/>
                    </a:lnTo>
                    <a:lnTo>
                      <a:pt x="1855" y="55"/>
                    </a:lnTo>
                    <a:lnTo>
                      <a:pt x="1511" y="55"/>
                    </a:lnTo>
                    <a:lnTo>
                      <a:pt x="1494" y="44"/>
                    </a:lnTo>
                    <a:lnTo>
                      <a:pt x="1436" y="26"/>
                    </a:lnTo>
                    <a:lnTo>
                      <a:pt x="1378" y="15"/>
                    </a:lnTo>
                    <a:lnTo>
                      <a:pt x="1331" y="26"/>
                    </a:lnTo>
                    <a:lnTo>
                      <a:pt x="1261" y="44"/>
                    </a:lnTo>
                    <a:lnTo>
                      <a:pt x="1213" y="55"/>
                    </a:lnTo>
                    <a:lnTo>
                      <a:pt x="1162" y="55"/>
                    </a:lnTo>
                    <a:lnTo>
                      <a:pt x="1128" y="36"/>
                    </a:lnTo>
                    <a:lnTo>
                      <a:pt x="1064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3751560" y="4285080"/>
                <a:ext cx="709200" cy="19080"/>
              </a:xfrm>
              <a:custGeom>
                <a:avLst/>
                <a:gdLst/>
                <a:ahLst/>
                <a:rect l="l" t="t" r="r" b="b"/>
                <a:pathLst>
                  <a:path w="1848" h="54">
                    <a:moveTo>
                      <a:pt x="0" y="0"/>
                    </a:moveTo>
                    <a:lnTo>
                      <a:pt x="379" y="0"/>
                    </a:lnTo>
                    <a:lnTo>
                      <a:pt x="39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102" y="0"/>
                    </a:moveTo>
                    <a:lnTo>
                      <a:pt x="1319" y="0"/>
                    </a:lnTo>
                    <a:lnTo>
                      <a:pt x="1252" y="17"/>
                    </a:lnTo>
                    <a:lnTo>
                      <a:pt x="1196" y="29"/>
                    </a:lnTo>
                    <a:lnTo>
                      <a:pt x="1156" y="29"/>
                    </a:lnTo>
                    <a:lnTo>
                      <a:pt x="1119" y="9"/>
                    </a:lnTo>
                    <a:lnTo>
                      <a:pt x="1102" y="0"/>
                    </a:lnTo>
                    <a:close/>
                    <a:moveTo>
                      <a:pt x="1429" y="0"/>
                    </a:moveTo>
                    <a:lnTo>
                      <a:pt x="1848" y="0"/>
                    </a:lnTo>
                    <a:lnTo>
                      <a:pt x="1845" y="37"/>
                    </a:lnTo>
                    <a:lnTo>
                      <a:pt x="1837" y="54"/>
                    </a:lnTo>
                    <a:lnTo>
                      <a:pt x="1544" y="54"/>
                    </a:lnTo>
                    <a:lnTo>
                      <a:pt x="1535" y="47"/>
                    </a:lnTo>
                    <a:lnTo>
                      <a:pt x="1485" y="17"/>
                    </a:lnTo>
                    <a:lnTo>
                      <a:pt x="1429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3754080" y="4294080"/>
                <a:ext cx="707040" cy="19080"/>
              </a:xfrm>
              <a:custGeom>
                <a:avLst/>
                <a:gdLst/>
                <a:ahLst/>
                <a:rect l="l" t="t" r="r" b="b"/>
                <a:pathLst>
                  <a:path w="1840" h="53">
                    <a:moveTo>
                      <a:pt x="0" y="0"/>
                    </a:moveTo>
                    <a:lnTo>
                      <a:pt x="380" y="0"/>
                    </a:lnTo>
                    <a:lnTo>
                      <a:pt x="389" y="30"/>
                    </a:lnTo>
                    <a:lnTo>
                      <a:pt x="397" y="53"/>
                    </a:lnTo>
                    <a:lnTo>
                      <a:pt x="13" y="53"/>
                    </a:lnTo>
                    <a:lnTo>
                      <a:pt x="0" y="0"/>
                    </a:lnTo>
                    <a:close/>
                    <a:moveTo>
                      <a:pt x="1147" y="0"/>
                    </a:moveTo>
                    <a:lnTo>
                      <a:pt x="1198" y="0"/>
                    </a:lnTo>
                    <a:lnTo>
                      <a:pt x="1190" y="1"/>
                    </a:lnTo>
                    <a:lnTo>
                      <a:pt x="1150" y="1"/>
                    </a:lnTo>
                    <a:lnTo>
                      <a:pt x="1147" y="0"/>
                    </a:lnTo>
                    <a:close/>
                    <a:moveTo>
                      <a:pt x="1496" y="0"/>
                    </a:moveTo>
                    <a:lnTo>
                      <a:pt x="1840" y="0"/>
                    </a:lnTo>
                    <a:lnTo>
                      <a:pt x="1839" y="9"/>
                    </a:lnTo>
                    <a:lnTo>
                      <a:pt x="1821" y="53"/>
                    </a:lnTo>
                    <a:lnTo>
                      <a:pt x="1572" y="53"/>
                    </a:lnTo>
                    <a:lnTo>
                      <a:pt x="1529" y="19"/>
                    </a:lnTo>
                    <a:lnTo>
                      <a:pt x="1496" y="0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3755520" y="4304520"/>
                <a:ext cx="701280" cy="19440"/>
              </a:xfrm>
              <a:custGeom>
                <a:avLst/>
                <a:gdLst/>
                <a:ahLst/>
                <a:rect l="l" t="t" r="r" b="b"/>
                <a:pathLst>
                  <a:path w="1825" h="55">
                    <a:moveTo>
                      <a:pt x="0" y="0"/>
                    </a:moveTo>
                    <a:lnTo>
                      <a:pt x="382" y="0"/>
                    </a:lnTo>
                    <a:lnTo>
                      <a:pt x="383" y="4"/>
                    </a:lnTo>
                    <a:lnTo>
                      <a:pt x="401" y="55"/>
                    </a:lnTo>
                    <a:lnTo>
                      <a:pt x="13" y="55"/>
                    </a:lnTo>
                    <a:lnTo>
                      <a:pt x="0" y="0"/>
                    </a:lnTo>
                    <a:close/>
                    <a:moveTo>
                      <a:pt x="1532" y="0"/>
                    </a:moveTo>
                    <a:lnTo>
                      <a:pt x="1825" y="0"/>
                    </a:lnTo>
                    <a:lnTo>
                      <a:pt x="1813" y="33"/>
                    </a:lnTo>
                    <a:lnTo>
                      <a:pt x="1795" y="55"/>
                    </a:lnTo>
                    <a:lnTo>
                      <a:pt x="1593" y="55"/>
                    </a:lnTo>
                    <a:lnTo>
                      <a:pt x="1572" y="33"/>
                    </a:lnTo>
                    <a:lnTo>
                      <a:pt x="1532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3757680" y="4313160"/>
                <a:ext cx="695160" cy="19440"/>
              </a:xfrm>
              <a:custGeom>
                <a:avLst/>
                <a:gdLst/>
                <a:ahLst/>
                <a:rect l="l" t="t" r="r" b="b"/>
                <a:pathLst>
                  <a:path w="1808" h="54">
                    <a:moveTo>
                      <a:pt x="0" y="0"/>
                    </a:moveTo>
                    <a:lnTo>
                      <a:pt x="384" y="0"/>
                    </a:lnTo>
                    <a:lnTo>
                      <a:pt x="403" y="53"/>
                    </a:lnTo>
                    <a:lnTo>
                      <a:pt x="404" y="54"/>
                    </a:lnTo>
                    <a:lnTo>
                      <a:pt x="12" y="54"/>
                    </a:lnTo>
                    <a:lnTo>
                      <a:pt x="0" y="0"/>
                    </a:lnTo>
                    <a:close/>
                    <a:moveTo>
                      <a:pt x="1559" y="0"/>
                    </a:moveTo>
                    <a:lnTo>
                      <a:pt x="1808" y="0"/>
                    </a:lnTo>
                    <a:lnTo>
                      <a:pt x="1806" y="6"/>
                    </a:lnTo>
                    <a:lnTo>
                      <a:pt x="1768" y="53"/>
                    </a:lnTo>
                    <a:lnTo>
                      <a:pt x="1766" y="54"/>
                    </a:lnTo>
                    <a:lnTo>
                      <a:pt x="1625" y="54"/>
                    </a:lnTo>
                    <a:lnTo>
                      <a:pt x="1603" y="45"/>
                    </a:lnTo>
                    <a:lnTo>
                      <a:pt x="1565" y="6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3761640" y="4323960"/>
                <a:ext cx="683280" cy="17640"/>
              </a:xfrm>
              <a:custGeom>
                <a:avLst/>
                <a:gdLst/>
                <a:ahLst/>
                <a:rect l="l" t="t" r="r" b="b"/>
                <a:pathLst>
                  <a:path w="1782" h="53">
                    <a:moveTo>
                      <a:pt x="0" y="0"/>
                    </a:moveTo>
                    <a:lnTo>
                      <a:pt x="388" y="0"/>
                    </a:lnTo>
                    <a:lnTo>
                      <a:pt x="397" y="25"/>
                    </a:lnTo>
                    <a:lnTo>
                      <a:pt x="413" y="53"/>
                    </a:lnTo>
                    <a:lnTo>
                      <a:pt x="4" y="53"/>
                    </a:lnTo>
                    <a:lnTo>
                      <a:pt x="10" y="45"/>
                    </a:lnTo>
                    <a:lnTo>
                      <a:pt x="0" y="0"/>
                    </a:lnTo>
                    <a:close/>
                    <a:moveTo>
                      <a:pt x="1580" y="0"/>
                    </a:moveTo>
                    <a:lnTo>
                      <a:pt x="1782" y="0"/>
                    </a:lnTo>
                    <a:lnTo>
                      <a:pt x="1762" y="25"/>
                    </a:lnTo>
                    <a:lnTo>
                      <a:pt x="1722" y="53"/>
                    </a:lnTo>
                    <a:lnTo>
                      <a:pt x="1681" y="53"/>
                    </a:lnTo>
                    <a:lnTo>
                      <a:pt x="1597" y="17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3754080" y="4332960"/>
                <a:ext cx="684000" cy="19080"/>
              </a:xfrm>
              <a:custGeom>
                <a:avLst/>
                <a:gdLst/>
                <a:ahLst/>
                <a:rect l="l" t="t" r="r" b="b"/>
                <a:pathLst>
                  <a:path w="1777" h="55">
                    <a:moveTo>
                      <a:pt x="23" y="0"/>
                    </a:moveTo>
                    <a:lnTo>
                      <a:pt x="415" y="0"/>
                    </a:lnTo>
                    <a:lnTo>
                      <a:pt x="444" y="55"/>
                    </a:lnTo>
                    <a:lnTo>
                      <a:pt x="0" y="55"/>
                    </a:lnTo>
                    <a:lnTo>
                      <a:pt x="8" y="46"/>
                    </a:lnTo>
                    <a:lnTo>
                      <a:pt x="27" y="19"/>
                    </a:lnTo>
                    <a:lnTo>
                      <a:pt x="23" y="0"/>
                    </a:lnTo>
                    <a:close/>
                    <a:moveTo>
                      <a:pt x="1636" y="0"/>
                    </a:moveTo>
                    <a:lnTo>
                      <a:pt x="1777" y="0"/>
                    </a:lnTo>
                    <a:lnTo>
                      <a:pt x="1738" y="28"/>
                    </a:lnTo>
                    <a:lnTo>
                      <a:pt x="1700" y="28"/>
                    </a:lnTo>
                    <a:lnTo>
                      <a:pt x="1636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3744360" y="4341960"/>
                <a:ext cx="677880" cy="19440"/>
              </a:xfrm>
              <a:custGeom>
                <a:avLst/>
                <a:gdLst/>
                <a:ahLst/>
                <a:rect l="l" t="t" r="r" b="b"/>
                <a:pathLst>
                  <a:path w="1766" h="54">
                    <a:moveTo>
                      <a:pt x="48" y="0"/>
                    </a:moveTo>
                    <a:lnTo>
                      <a:pt x="457" y="0"/>
                    </a:lnTo>
                    <a:lnTo>
                      <a:pt x="485" y="54"/>
                    </a:lnTo>
                    <a:lnTo>
                      <a:pt x="0" y="54"/>
                    </a:lnTo>
                    <a:lnTo>
                      <a:pt x="35" y="19"/>
                    </a:lnTo>
                    <a:lnTo>
                      <a:pt x="48" y="0"/>
                    </a:lnTo>
                    <a:close/>
                    <a:moveTo>
                      <a:pt x="1725" y="0"/>
                    </a:moveTo>
                    <a:lnTo>
                      <a:pt x="1766" y="0"/>
                    </a:lnTo>
                    <a:lnTo>
                      <a:pt x="1765" y="1"/>
                    </a:lnTo>
                    <a:lnTo>
                      <a:pt x="1727" y="1"/>
                    </a:lnTo>
                    <a:lnTo>
                      <a:pt x="1725" y="0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3727080" y="4352400"/>
                <a:ext cx="209520" cy="18000"/>
              </a:xfrm>
              <a:custGeom>
                <a:avLst/>
                <a:gdLst/>
                <a:ahLst/>
                <a:rect l="l" t="t" r="r" b="b"/>
                <a:pathLst>
                  <a:path w="543" h="53">
                    <a:moveTo>
                      <a:pt x="70" y="0"/>
                    </a:moveTo>
                    <a:lnTo>
                      <a:pt x="514" y="0"/>
                    </a:lnTo>
                    <a:lnTo>
                      <a:pt x="543" y="53"/>
                    </a:lnTo>
                    <a:lnTo>
                      <a:pt x="0" y="53"/>
                    </a:lnTo>
                    <a:lnTo>
                      <a:pt x="39" y="3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3709440" y="4361400"/>
                <a:ext cx="232560" cy="19080"/>
              </a:xfrm>
              <a:custGeom>
                <a:avLst/>
                <a:gdLst/>
                <a:ahLst/>
                <a:rect l="l" t="t" r="r" b="b"/>
                <a:pathLst>
                  <a:path w="603" h="55">
                    <a:moveTo>
                      <a:pt x="89" y="0"/>
                    </a:moveTo>
                    <a:lnTo>
                      <a:pt x="574" y="0"/>
                    </a:lnTo>
                    <a:lnTo>
                      <a:pt x="597" y="44"/>
                    </a:lnTo>
                    <a:lnTo>
                      <a:pt x="603" y="55"/>
                    </a:lnTo>
                    <a:lnTo>
                      <a:pt x="0" y="55"/>
                    </a:lnTo>
                    <a:lnTo>
                      <a:pt x="8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3692520" y="4370400"/>
                <a:ext cx="255240" cy="19080"/>
              </a:xfrm>
              <a:custGeom>
                <a:avLst/>
                <a:gdLst/>
                <a:ahLst/>
                <a:rect l="l" t="t" r="r" b="b"/>
                <a:pathLst>
                  <a:path w="663" h="54">
                    <a:moveTo>
                      <a:pt x="91" y="0"/>
                    </a:moveTo>
                    <a:lnTo>
                      <a:pt x="634" y="0"/>
                    </a:lnTo>
                    <a:lnTo>
                      <a:pt x="642" y="17"/>
                    </a:lnTo>
                    <a:lnTo>
                      <a:pt x="663" y="54"/>
                    </a:lnTo>
                    <a:lnTo>
                      <a:pt x="0" y="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3674880" y="4380840"/>
                <a:ext cx="276480" cy="19440"/>
              </a:xfrm>
              <a:custGeom>
                <a:avLst/>
                <a:gdLst/>
                <a:ahLst/>
                <a:rect l="l" t="t" r="r" b="b"/>
                <a:pathLst>
                  <a:path w="724" h="53">
                    <a:moveTo>
                      <a:pt x="92" y="0"/>
                    </a:moveTo>
                    <a:lnTo>
                      <a:pt x="695" y="0"/>
                    </a:lnTo>
                    <a:lnTo>
                      <a:pt x="724" y="53"/>
                    </a:lnTo>
                    <a:lnTo>
                      <a:pt x="0" y="53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3655800" y="4389480"/>
                <a:ext cx="301320" cy="19440"/>
              </a:xfrm>
              <a:custGeom>
                <a:avLst/>
                <a:gdLst/>
                <a:ahLst/>
                <a:rect l="l" t="t" r="r" b="b"/>
                <a:pathLst>
                  <a:path w="784" h="54">
                    <a:moveTo>
                      <a:pt x="93" y="0"/>
                    </a:moveTo>
                    <a:lnTo>
                      <a:pt x="756" y="0"/>
                    </a:lnTo>
                    <a:lnTo>
                      <a:pt x="784" y="54"/>
                    </a:lnTo>
                    <a:lnTo>
                      <a:pt x="0" y="5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3638520" y="4400280"/>
                <a:ext cx="322560" cy="19080"/>
              </a:xfrm>
              <a:custGeom>
                <a:avLst/>
                <a:gdLst/>
                <a:ahLst/>
                <a:rect l="l" t="t" r="r" b="b"/>
                <a:pathLst>
                  <a:path w="836" h="55">
                    <a:moveTo>
                      <a:pt x="91" y="0"/>
                    </a:moveTo>
                    <a:lnTo>
                      <a:pt x="815" y="0"/>
                    </a:lnTo>
                    <a:lnTo>
                      <a:pt x="832" y="31"/>
                    </a:lnTo>
                    <a:lnTo>
                      <a:pt x="836" y="55"/>
                    </a:lnTo>
                    <a:lnTo>
                      <a:pt x="0" y="55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3617640" y="4409280"/>
                <a:ext cx="343440" cy="19080"/>
              </a:xfrm>
              <a:custGeom>
                <a:avLst/>
                <a:gdLst/>
                <a:ahLst/>
                <a:rect l="l" t="t" r="r" b="b"/>
                <a:pathLst>
                  <a:path w="899" h="54">
                    <a:moveTo>
                      <a:pt x="104" y="0"/>
                    </a:moveTo>
                    <a:lnTo>
                      <a:pt x="888" y="0"/>
                    </a:lnTo>
                    <a:lnTo>
                      <a:pt x="891" y="4"/>
                    </a:lnTo>
                    <a:lnTo>
                      <a:pt x="899" y="54"/>
                    </a:lnTo>
                    <a:lnTo>
                      <a:pt x="0" y="54"/>
                    </a:lnTo>
                    <a:lnTo>
                      <a:pt x="19" y="43"/>
                    </a:lnTo>
                    <a:lnTo>
                      <a:pt x="58" y="28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3569760" y="4419720"/>
                <a:ext cx="391680" cy="17640"/>
              </a:xfrm>
              <a:custGeom>
                <a:avLst/>
                <a:gdLst/>
                <a:ahLst/>
                <a:rect l="l" t="t" r="r" b="b"/>
                <a:pathLst>
                  <a:path w="1021" h="53">
                    <a:moveTo>
                      <a:pt x="181" y="0"/>
                    </a:moveTo>
                    <a:lnTo>
                      <a:pt x="1017" y="0"/>
                    </a:lnTo>
                    <a:lnTo>
                      <a:pt x="1021" y="27"/>
                    </a:lnTo>
                    <a:lnTo>
                      <a:pt x="1016" y="53"/>
                    </a:lnTo>
                    <a:lnTo>
                      <a:pt x="0" y="53"/>
                    </a:lnTo>
                    <a:lnTo>
                      <a:pt x="70" y="34"/>
                    </a:lnTo>
                    <a:lnTo>
                      <a:pt x="114" y="27"/>
                    </a:lnTo>
                    <a:lnTo>
                      <a:pt x="121" y="27"/>
                    </a:lnTo>
                    <a:lnTo>
                      <a:pt x="141" y="15"/>
                    </a:lnTo>
                    <a:lnTo>
                      <a:pt x="180" y="0"/>
                    </a:lnTo>
                    <a:lnTo>
                      <a:pt x="181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3559680" y="4428360"/>
                <a:ext cx="401400" cy="19440"/>
              </a:xfrm>
              <a:custGeom>
                <a:avLst/>
                <a:gdLst/>
                <a:ahLst/>
                <a:rect l="l" t="t" r="r" b="b"/>
                <a:pathLst>
                  <a:path w="1046" h="55">
                    <a:moveTo>
                      <a:pt x="147" y="0"/>
                    </a:moveTo>
                    <a:lnTo>
                      <a:pt x="1046" y="0"/>
                    </a:lnTo>
                    <a:lnTo>
                      <a:pt x="1046" y="1"/>
                    </a:lnTo>
                    <a:lnTo>
                      <a:pt x="1038" y="48"/>
                    </a:lnTo>
                    <a:lnTo>
                      <a:pt x="1034" y="55"/>
                    </a:lnTo>
                    <a:lnTo>
                      <a:pt x="0" y="55"/>
                    </a:lnTo>
                    <a:lnTo>
                      <a:pt x="0" y="37"/>
                    </a:lnTo>
                    <a:lnTo>
                      <a:pt x="20" y="28"/>
                    </a:lnTo>
                    <a:lnTo>
                      <a:pt x="95" y="8"/>
                    </a:lnTo>
                    <a:lnTo>
                      <a:pt x="139" y="1"/>
                    </a:lnTo>
                    <a:lnTo>
                      <a:pt x="146" y="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3559680" y="4437360"/>
                <a:ext cx="399960" cy="19440"/>
              </a:xfrm>
              <a:custGeom>
                <a:avLst/>
                <a:gdLst/>
                <a:ahLst/>
                <a:rect l="l" t="t" r="r" b="b"/>
                <a:pathLst>
                  <a:path w="1041" h="54">
                    <a:moveTo>
                      <a:pt x="25" y="0"/>
                    </a:moveTo>
                    <a:lnTo>
                      <a:pt x="1041" y="0"/>
                    </a:lnTo>
                    <a:lnTo>
                      <a:pt x="1038" y="21"/>
                    </a:lnTo>
                    <a:lnTo>
                      <a:pt x="1021" y="54"/>
                    </a:lnTo>
                    <a:lnTo>
                      <a:pt x="8" y="54"/>
                    </a:lnTo>
                    <a:lnTo>
                      <a:pt x="0" y="49"/>
                    </a:lnTo>
                    <a:lnTo>
                      <a:pt x="0" y="10"/>
                    </a:lnTo>
                    <a:lnTo>
                      <a:pt x="20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3559680" y="4448160"/>
                <a:ext cx="397440" cy="17640"/>
              </a:xfrm>
              <a:custGeom>
                <a:avLst/>
                <a:gdLst/>
                <a:ahLst/>
                <a:rect l="l" t="t" r="r" b="b"/>
                <a:pathLst>
                  <a:path w="1034" h="53">
                    <a:moveTo>
                      <a:pt x="0" y="0"/>
                    </a:moveTo>
                    <a:lnTo>
                      <a:pt x="1034" y="0"/>
                    </a:lnTo>
                    <a:lnTo>
                      <a:pt x="1018" y="33"/>
                    </a:lnTo>
                    <a:lnTo>
                      <a:pt x="1001" y="53"/>
                    </a:lnTo>
                    <a:lnTo>
                      <a:pt x="47" y="53"/>
                    </a:lnTo>
                    <a:lnTo>
                      <a:pt x="40" y="49"/>
                    </a:lnTo>
                    <a:lnTo>
                      <a:pt x="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3563640" y="4457160"/>
                <a:ext cx="388080" cy="19080"/>
              </a:xfrm>
              <a:custGeom>
                <a:avLst/>
                <a:gdLst/>
                <a:ahLst/>
                <a:rect l="l" t="t" r="r" b="b"/>
                <a:pathLst>
                  <a:path w="1013" h="55">
                    <a:moveTo>
                      <a:pt x="0" y="0"/>
                    </a:moveTo>
                    <a:lnTo>
                      <a:pt x="1013" y="0"/>
                    </a:lnTo>
                    <a:lnTo>
                      <a:pt x="1010" y="7"/>
                    </a:lnTo>
                    <a:lnTo>
                      <a:pt x="986" y="35"/>
                    </a:lnTo>
                    <a:lnTo>
                      <a:pt x="923" y="55"/>
                    </a:lnTo>
                    <a:lnTo>
                      <a:pt x="813" y="46"/>
                    </a:lnTo>
                    <a:lnTo>
                      <a:pt x="659" y="35"/>
                    </a:lnTo>
                    <a:lnTo>
                      <a:pt x="505" y="35"/>
                    </a:lnTo>
                    <a:lnTo>
                      <a:pt x="363" y="46"/>
                    </a:lnTo>
                    <a:lnTo>
                      <a:pt x="245" y="55"/>
                    </a:lnTo>
                    <a:lnTo>
                      <a:pt x="118" y="55"/>
                    </a:lnTo>
                    <a:lnTo>
                      <a:pt x="71" y="46"/>
                    </a:lnTo>
                    <a:lnTo>
                      <a:pt x="32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3579120" y="4465800"/>
                <a:ext cx="364680" cy="10080"/>
              </a:xfrm>
              <a:custGeom>
                <a:avLst/>
                <a:gdLst/>
                <a:ahLst/>
                <a:rect l="l" t="t" r="r" b="b"/>
                <a:pathLst>
                  <a:path w="954" h="28">
                    <a:moveTo>
                      <a:pt x="0" y="0"/>
                    </a:moveTo>
                    <a:lnTo>
                      <a:pt x="954" y="0"/>
                    </a:lnTo>
                    <a:lnTo>
                      <a:pt x="947" y="8"/>
                    </a:lnTo>
                    <a:lnTo>
                      <a:pt x="884" y="28"/>
                    </a:lnTo>
                    <a:lnTo>
                      <a:pt x="774" y="19"/>
                    </a:lnTo>
                    <a:lnTo>
                      <a:pt x="620" y="8"/>
                    </a:lnTo>
                    <a:lnTo>
                      <a:pt x="466" y="8"/>
                    </a:lnTo>
                    <a:lnTo>
                      <a:pt x="324" y="19"/>
                    </a:lnTo>
                    <a:lnTo>
                      <a:pt x="206" y="28"/>
                    </a:lnTo>
                    <a:lnTo>
                      <a:pt x="79" y="28"/>
                    </a:lnTo>
                    <a:lnTo>
                      <a:pt x="32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3260160" y="2028240"/>
                <a:ext cx="2610360" cy="2448000"/>
              </a:xfrm>
              <a:custGeom>
                <a:avLst/>
                <a:gdLst/>
                <a:ahLst/>
                <a:rect l="l" t="t" r="r" b="b"/>
                <a:pathLst>
                  <a:path w="6796" h="6913">
                    <a:moveTo>
                      <a:pt x="1066" y="360"/>
                    </a:moveTo>
                    <a:lnTo>
                      <a:pt x="1053" y="376"/>
                    </a:lnTo>
                    <a:lnTo>
                      <a:pt x="1022" y="420"/>
                    </a:lnTo>
                    <a:lnTo>
                      <a:pt x="954" y="522"/>
                    </a:lnTo>
                    <a:lnTo>
                      <a:pt x="947" y="561"/>
                    </a:lnTo>
                    <a:lnTo>
                      <a:pt x="947" y="581"/>
                    </a:lnTo>
                    <a:lnTo>
                      <a:pt x="954" y="600"/>
                    </a:lnTo>
                    <a:lnTo>
                      <a:pt x="936" y="620"/>
                    </a:lnTo>
                    <a:lnTo>
                      <a:pt x="900" y="652"/>
                    </a:lnTo>
                    <a:lnTo>
                      <a:pt x="860" y="696"/>
                    </a:lnTo>
                    <a:lnTo>
                      <a:pt x="833" y="727"/>
                    </a:lnTo>
                    <a:lnTo>
                      <a:pt x="833" y="755"/>
                    </a:lnTo>
                    <a:lnTo>
                      <a:pt x="848" y="775"/>
                    </a:lnTo>
                    <a:lnTo>
                      <a:pt x="876" y="795"/>
                    </a:lnTo>
                    <a:lnTo>
                      <a:pt x="887" y="795"/>
                    </a:lnTo>
                    <a:lnTo>
                      <a:pt x="876" y="826"/>
                    </a:lnTo>
                    <a:lnTo>
                      <a:pt x="876" y="881"/>
                    </a:lnTo>
                    <a:lnTo>
                      <a:pt x="887" y="901"/>
                    </a:lnTo>
                    <a:lnTo>
                      <a:pt x="907" y="912"/>
                    </a:lnTo>
                    <a:lnTo>
                      <a:pt x="936" y="928"/>
                    </a:lnTo>
                    <a:lnTo>
                      <a:pt x="876" y="948"/>
                    </a:lnTo>
                    <a:lnTo>
                      <a:pt x="868" y="1000"/>
                    </a:lnTo>
                    <a:lnTo>
                      <a:pt x="876" y="1015"/>
                    </a:lnTo>
                    <a:lnTo>
                      <a:pt x="868" y="1027"/>
                    </a:lnTo>
                    <a:lnTo>
                      <a:pt x="860" y="1058"/>
                    </a:lnTo>
                    <a:lnTo>
                      <a:pt x="860" y="1094"/>
                    </a:lnTo>
                    <a:lnTo>
                      <a:pt x="868" y="1121"/>
                    </a:lnTo>
                    <a:lnTo>
                      <a:pt x="927" y="1153"/>
                    </a:lnTo>
                    <a:lnTo>
                      <a:pt x="974" y="1153"/>
                    </a:lnTo>
                    <a:lnTo>
                      <a:pt x="986" y="1173"/>
                    </a:lnTo>
                    <a:lnTo>
                      <a:pt x="1014" y="1233"/>
                    </a:lnTo>
                    <a:lnTo>
                      <a:pt x="1066" y="1355"/>
                    </a:lnTo>
                    <a:lnTo>
                      <a:pt x="1066" y="1395"/>
                    </a:lnTo>
                    <a:lnTo>
                      <a:pt x="1022" y="1414"/>
                    </a:lnTo>
                    <a:lnTo>
                      <a:pt x="974" y="1442"/>
                    </a:lnTo>
                    <a:lnTo>
                      <a:pt x="920" y="1501"/>
                    </a:lnTo>
                    <a:lnTo>
                      <a:pt x="876" y="1580"/>
                    </a:lnTo>
                    <a:lnTo>
                      <a:pt x="868" y="1647"/>
                    </a:lnTo>
                    <a:lnTo>
                      <a:pt x="868" y="1829"/>
                    </a:lnTo>
                    <a:lnTo>
                      <a:pt x="860" y="1916"/>
                    </a:lnTo>
                    <a:lnTo>
                      <a:pt x="840" y="2073"/>
                    </a:lnTo>
                    <a:lnTo>
                      <a:pt x="848" y="2159"/>
                    </a:lnTo>
                    <a:lnTo>
                      <a:pt x="868" y="2247"/>
                    </a:lnTo>
                    <a:lnTo>
                      <a:pt x="887" y="2314"/>
                    </a:lnTo>
                    <a:lnTo>
                      <a:pt x="920" y="2353"/>
                    </a:lnTo>
                    <a:lnTo>
                      <a:pt x="927" y="2365"/>
                    </a:lnTo>
                    <a:lnTo>
                      <a:pt x="954" y="2574"/>
                    </a:lnTo>
                    <a:lnTo>
                      <a:pt x="936" y="2586"/>
                    </a:lnTo>
                    <a:lnTo>
                      <a:pt x="900" y="2613"/>
                    </a:lnTo>
                    <a:lnTo>
                      <a:pt x="833" y="2653"/>
                    </a:lnTo>
                    <a:lnTo>
                      <a:pt x="754" y="2701"/>
                    </a:lnTo>
                    <a:lnTo>
                      <a:pt x="568" y="2799"/>
                    </a:lnTo>
                    <a:lnTo>
                      <a:pt x="395" y="2874"/>
                    </a:lnTo>
                    <a:lnTo>
                      <a:pt x="182" y="2874"/>
                    </a:lnTo>
                    <a:lnTo>
                      <a:pt x="142" y="2887"/>
                    </a:lnTo>
                    <a:lnTo>
                      <a:pt x="107" y="2925"/>
                    </a:lnTo>
                    <a:lnTo>
                      <a:pt x="20" y="3020"/>
                    </a:lnTo>
                    <a:lnTo>
                      <a:pt x="0" y="3060"/>
                    </a:lnTo>
                    <a:lnTo>
                      <a:pt x="0" y="3091"/>
                    </a:lnTo>
                    <a:lnTo>
                      <a:pt x="8" y="3119"/>
                    </a:lnTo>
                    <a:lnTo>
                      <a:pt x="20" y="3147"/>
                    </a:lnTo>
                    <a:lnTo>
                      <a:pt x="36" y="3206"/>
                    </a:lnTo>
                    <a:lnTo>
                      <a:pt x="47" y="3222"/>
                    </a:lnTo>
                    <a:lnTo>
                      <a:pt x="87" y="3246"/>
                    </a:lnTo>
                    <a:lnTo>
                      <a:pt x="114" y="3253"/>
                    </a:lnTo>
                    <a:lnTo>
                      <a:pt x="123" y="3253"/>
                    </a:lnTo>
                    <a:lnTo>
                      <a:pt x="154" y="3265"/>
                    </a:lnTo>
                    <a:lnTo>
                      <a:pt x="202" y="3265"/>
                    </a:lnTo>
                    <a:lnTo>
                      <a:pt x="253" y="3222"/>
                    </a:lnTo>
                    <a:lnTo>
                      <a:pt x="269" y="3206"/>
                    </a:lnTo>
                    <a:lnTo>
                      <a:pt x="288" y="3206"/>
                    </a:lnTo>
                    <a:lnTo>
                      <a:pt x="328" y="3194"/>
                    </a:lnTo>
                    <a:lnTo>
                      <a:pt x="434" y="3154"/>
                    </a:lnTo>
                    <a:lnTo>
                      <a:pt x="521" y="3080"/>
                    </a:lnTo>
                    <a:lnTo>
                      <a:pt x="541" y="3048"/>
                    </a:lnTo>
                    <a:lnTo>
                      <a:pt x="548" y="3040"/>
                    </a:lnTo>
                    <a:lnTo>
                      <a:pt x="936" y="2945"/>
                    </a:lnTo>
                    <a:lnTo>
                      <a:pt x="967" y="3166"/>
                    </a:lnTo>
                    <a:lnTo>
                      <a:pt x="967" y="3206"/>
                    </a:lnTo>
                    <a:lnTo>
                      <a:pt x="954" y="3281"/>
                    </a:lnTo>
                    <a:lnTo>
                      <a:pt x="947" y="3486"/>
                    </a:lnTo>
                    <a:lnTo>
                      <a:pt x="954" y="3613"/>
                    </a:lnTo>
                    <a:lnTo>
                      <a:pt x="974" y="3715"/>
                    </a:lnTo>
                    <a:lnTo>
                      <a:pt x="994" y="3814"/>
                    </a:lnTo>
                    <a:lnTo>
                      <a:pt x="1006" y="3920"/>
                    </a:lnTo>
                    <a:lnTo>
                      <a:pt x="986" y="4066"/>
                    </a:lnTo>
                    <a:lnTo>
                      <a:pt x="936" y="4221"/>
                    </a:lnTo>
                    <a:lnTo>
                      <a:pt x="876" y="4374"/>
                    </a:lnTo>
                    <a:lnTo>
                      <a:pt x="833" y="4572"/>
                    </a:lnTo>
                    <a:lnTo>
                      <a:pt x="813" y="4675"/>
                    </a:lnTo>
                    <a:lnTo>
                      <a:pt x="781" y="4761"/>
                    </a:lnTo>
                    <a:lnTo>
                      <a:pt x="754" y="4891"/>
                    </a:lnTo>
                    <a:lnTo>
                      <a:pt x="722" y="4986"/>
                    </a:lnTo>
                    <a:lnTo>
                      <a:pt x="734" y="5064"/>
                    </a:lnTo>
                    <a:lnTo>
                      <a:pt x="790" y="5246"/>
                    </a:lnTo>
                    <a:lnTo>
                      <a:pt x="868" y="5432"/>
                    </a:lnTo>
                    <a:lnTo>
                      <a:pt x="967" y="5626"/>
                    </a:lnTo>
                    <a:lnTo>
                      <a:pt x="1053" y="5807"/>
                    </a:lnTo>
                    <a:lnTo>
                      <a:pt x="1219" y="6185"/>
                    </a:lnTo>
                    <a:lnTo>
                      <a:pt x="1275" y="6360"/>
                    </a:lnTo>
                    <a:lnTo>
                      <a:pt x="1313" y="6526"/>
                    </a:lnTo>
                    <a:lnTo>
                      <a:pt x="1294" y="6553"/>
                    </a:lnTo>
                    <a:lnTo>
                      <a:pt x="1255" y="6592"/>
                    </a:lnTo>
                    <a:lnTo>
                      <a:pt x="986" y="6751"/>
                    </a:lnTo>
                    <a:lnTo>
                      <a:pt x="947" y="6766"/>
                    </a:lnTo>
                    <a:lnTo>
                      <a:pt x="927" y="6778"/>
                    </a:lnTo>
                    <a:lnTo>
                      <a:pt x="920" y="6778"/>
                    </a:lnTo>
                    <a:lnTo>
                      <a:pt x="876" y="6785"/>
                    </a:lnTo>
                    <a:lnTo>
                      <a:pt x="801" y="6805"/>
                    </a:lnTo>
                    <a:lnTo>
                      <a:pt x="781" y="6814"/>
                    </a:lnTo>
                    <a:lnTo>
                      <a:pt x="781" y="6853"/>
                    </a:lnTo>
                    <a:lnTo>
                      <a:pt x="821" y="6881"/>
                    </a:lnTo>
                    <a:lnTo>
                      <a:pt x="860" y="6904"/>
                    </a:lnTo>
                    <a:lnTo>
                      <a:pt x="907" y="6913"/>
                    </a:lnTo>
                    <a:lnTo>
                      <a:pt x="1034" y="6913"/>
                    </a:lnTo>
                    <a:lnTo>
                      <a:pt x="1152" y="6904"/>
                    </a:lnTo>
                    <a:lnTo>
                      <a:pt x="1294" y="6893"/>
                    </a:lnTo>
                    <a:lnTo>
                      <a:pt x="1448" y="6893"/>
                    </a:lnTo>
                    <a:lnTo>
                      <a:pt x="1602" y="6904"/>
                    </a:lnTo>
                    <a:lnTo>
                      <a:pt x="1712" y="6913"/>
                    </a:lnTo>
                    <a:lnTo>
                      <a:pt x="1775" y="6893"/>
                    </a:lnTo>
                    <a:lnTo>
                      <a:pt x="1799" y="6865"/>
                    </a:lnTo>
                    <a:lnTo>
                      <a:pt x="1819" y="6825"/>
                    </a:lnTo>
                    <a:lnTo>
                      <a:pt x="1827" y="6778"/>
                    </a:lnTo>
                    <a:lnTo>
                      <a:pt x="1819" y="6727"/>
                    </a:lnTo>
                    <a:lnTo>
                      <a:pt x="1767" y="6632"/>
                    </a:lnTo>
                    <a:lnTo>
                      <a:pt x="1700" y="6506"/>
                    </a:lnTo>
                    <a:lnTo>
                      <a:pt x="1673" y="6430"/>
                    </a:lnTo>
                    <a:lnTo>
                      <a:pt x="1645" y="6332"/>
                    </a:lnTo>
                    <a:lnTo>
                      <a:pt x="1614" y="6234"/>
                    </a:lnTo>
                    <a:lnTo>
                      <a:pt x="1594" y="6154"/>
                    </a:lnTo>
                    <a:lnTo>
                      <a:pt x="1574" y="6012"/>
                    </a:lnTo>
                    <a:lnTo>
                      <a:pt x="1567" y="5886"/>
                    </a:lnTo>
                    <a:lnTo>
                      <a:pt x="1547" y="5747"/>
                    </a:lnTo>
                    <a:lnTo>
                      <a:pt x="1535" y="5673"/>
                    </a:lnTo>
                    <a:lnTo>
                      <a:pt x="1515" y="5617"/>
                    </a:lnTo>
                    <a:lnTo>
                      <a:pt x="1507" y="5531"/>
                    </a:lnTo>
                    <a:lnTo>
                      <a:pt x="1488" y="5487"/>
                    </a:lnTo>
                    <a:lnTo>
                      <a:pt x="1488" y="5479"/>
                    </a:lnTo>
                    <a:lnTo>
                      <a:pt x="1515" y="5479"/>
                    </a:lnTo>
                    <a:lnTo>
                      <a:pt x="1614" y="5471"/>
                    </a:lnTo>
                    <a:lnTo>
                      <a:pt x="1760" y="5452"/>
                    </a:lnTo>
                    <a:lnTo>
                      <a:pt x="1941" y="5432"/>
                    </a:lnTo>
                    <a:lnTo>
                      <a:pt x="2166" y="5392"/>
                    </a:lnTo>
                    <a:lnTo>
                      <a:pt x="2406" y="5333"/>
                    </a:lnTo>
                    <a:lnTo>
                      <a:pt x="2620" y="5286"/>
                    </a:lnTo>
                    <a:lnTo>
                      <a:pt x="2726" y="5286"/>
                    </a:lnTo>
                    <a:lnTo>
                      <a:pt x="2813" y="5306"/>
                    </a:lnTo>
                    <a:lnTo>
                      <a:pt x="2892" y="5341"/>
                    </a:lnTo>
                    <a:lnTo>
                      <a:pt x="2929" y="5383"/>
                    </a:lnTo>
                    <a:lnTo>
                      <a:pt x="2929" y="5502"/>
                    </a:lnTo>
                    <a:lnTo>
                      <a:pt x="2919" y="5617"/>
                    </a:lnTo>
                    <a:lnTo>
                      <a:pt x="2900" y="5792"/>
                    </a:lnTo>
                    <a:lnTo>
                      <a:pt x="2862" y="5915"/>
                    </a:lnTo>
                    <a:lnTo>
                      <a:pt x="2813" y="6032"/>
                    </a:lnTo>
                    <a:lnTo>
                      <a:pt x="2783" y="6070"/>
                    </a:lnTo>
                    <a:lnTo>
                      <a:pt x="2726" y="6099"/>
                    </a:lnTo>
                    <a:lnTo>
                      <a:pt x="2572" y="6140"/>
                    </a:lnTo>
                    <a:lnTo>
                      <a:pt x="2426" y="6169"/>
                    </a:lnTo>
                    <a:lnTo>
                      <a:pt x="2384" y="6178"/>
                    </a:lnTo>
                    <a:lnTo>
                      <a:pt x="2369" y="6178"/>
                    </a:lnTo>
                    <a:lnTo>
                      <a:pt x="2241" y="6178"/>
                    </a:lnTo>
                    <a:lnTo>
                      <a:pt x="2193" y="6198"/>
                    </a:lnTo>
                    <a:lnTo>
                      <a:pt x="2182" y="6205"/>
                    </a:lnTo>
                    <a:lnTo>
                      <a:pt x="2193" y="6228"/>
                    </a:lnTo>
                    <a:lnTo>
                      <a:pt x="2233" y="6273"/>
                    </a:lnTo>
                    <a:lnTo>
                      <a:pt x="2310" y="6332"/>
                    </a:lnTo>
                    <a:lnTo>
                      <a:pt x="2397" y="6381"/>
                    </a:lnTo>
                    <a:lnTo>
                      <a:pt x="2434" y="6401"/>
                    </a:lnTo>
                    <a:lnTo>
                      <a:pt x="2474" y="6401"/>
                    </a:lnTo>
                    <a:lnTo>
                      <a:pt x="2530" y="6389"/>
                    </a:lnTo>
                    <a:lnTo>
                      <a:pt x="2600" y="6371"/>
                    </a:lnTo>
                    <a:lnTo>
                      <a:pt x="2647" y="6360"/>
                    </a:lnTo>
                    <a:lnTo>
                      <a:pt x="2705" y="6371"/>
                    </a:lnTo>
                    <a:lnTo>
                      <a:pt x="2763" y="6389"/>
                    </a:lnTo>
                    <a:lnTo>
                      <a:pt x="2813" y="6419"/>
                    </a:lnTo>
                    <a:lnTo>
                      <a:pt x="2862" y="6459"/>
                    </a:lnTo>
                    <a:lnTo>
                      <a:pt x="2900" y="6498"/>
                    </a:lnTo>
                    <a:lnTo>
                      <a:pt x="2986" y="6535"/>
                    </a:lnTo>
                    <a:lnTo>
                      <a:pt x="3024" y="6535"/>
                    </a:lnTo>
                    <a:lnTo>
                      <a:pt x="3065" y="6506"/>
                    </a:lnTo>
                    <a:lnTo>
                      <a:pt x="3103" y="6459"/>
                    </a:lnTo>
                    <a:lnTo>
                      <a:pt x="3123" y="6409"/>
                    </a:lnTo>
                    <a:lnTo>
                      <a:pt x="3132" y="6284"/>
                    </a:lnTo>
                    <a:lnTo>
                      <a:pt x="3132" y="6111"/>
                    </a:lnTo>
                    <a:lnTo>
                      <a:pt x="3140" y="6012"/>
                    </a:lnTo>
                    <a:lnTo>
                      <a:pt x="3160" y="5888"/>
                    </a:lnTo>
                    <a:lnTo>
                      <a:pt x="3174" y="5801"/>
                    </a:lnTo>
                    <a:lnTo>
                      <a:pt x="3199" y="5827"/>
                    </a:lnTo>
                    <a:lnTo>
                      <a:pt x="3239" y="5839"/>
                    </a:lnTo>
                    <a:lnTo>
                      <a:pt x="3278" y="5807"/>
                    </a:lnTo>
                    <a:lnTo>
                      <a:pt x="3298" y="5760"/>
                    </a:lnTo>
                    <a:lnTo>
                      <a:pt x="3306" y="5693"/>
                    </a:lnTo>
                    <a:lnTo>
                      <a:pt x="3298" y="5538"/>
                    </a:lnTo>
                    <a:lnTo>
                      <a:pt x="3253" y="5396"/>
                    </a:lnTo>
                    <a:lnTo>
                      <a:pt x="3269" y="5306"/>
                    </a:lnTo>
                    <a:lnTo>
                      <a:pt x="3286" y="5211"/>
                    </a:lnTo>
                    <a:lnTo>
                      <a:pt x="3298" y="5095"/>
                    </a:lnTo>
                    <a:lnTo>
                      <a:pt x="3314" y="4862"/>
                    </a:lnTo>
                    <a:lnTo>
                      <a:pt x="3314" y="4688"/>
                    </a:lnTo>
                    <a:lnTo>
                      <a:pt x="3306" y="4628"/>
                    </a:lnTo>
                    <a:lnTo>
                      <a:pt x="3306" y="4579"/>
                    </a:lnTo>
                    <a:lnTo>
                      <a:pt x="3298" y="4552"/>
                    </a:lnTo>
                    <a:lnTo>
                      <a:pt x="3298" y="4542"/>
                    </a:lnTo>
                    <a:lnTo>
                      <a:pt x="3982" y="3826"/>
                    </a:lnTo>
                    <a:lnTo>
                      <a:pt x="3982" y="3833"/>
                    </a:lnTo>
                    <a:lnTo>
                      <a:pt x="4002" y="3864"/>
                    </a:lnTo>
                    <a:lnTo>
                      <a:pt x="4021" y="3905"/>
                    </a:lnTo>
                    <a:lnTo>
                      <a:pt x="4059" y="3961"/>
                    </a:lnTo>
                    <a:lnTo>
                      <a:pt x="4099" y="4029"/>
                    </a:lnTo>
                    <a:lnTo>
                      <a:pt x="4156" y="4116"/>
                    </a:lnTo>
                    <a:lnTo>
                      <a:pt x="4302" y="4289"/>
                    </a:lnTo>
                    <a:lnTo>
                      <a:pt x="4378" y="4376"/>
                    </a:lnTo>
                    <a:lnTo>
                      <a:pt x="4446" y="4465"/>
                    </a:lnTo>
                    <a:lnTo>
                      <a:pt x="4582" y="4610"/>
                    </a:lnTo>
                    <a:lnTo>
                      <a:pt x="4708" y="4725"/>
                    </a:lnTo>
                    <a:lnTo>
                      <a:pt x="4852" y="4832"/>
                    </a:lnTo>
                    <a:lnTo>
                      <a:pt x="4912" y="4850"/>
                    </a:lnTo>
                    <a:lnTo>
                      <a:pt x="4980" y="4850"/>
                    </a:lnTo>
                    <a:lnTo>
                      <a:pt x="5075" y="4832"/>
                    </a:lnTo>
                    <a:lnTo>
                      <a:pt x="5191" y="4805"/>
                    </a:lnTo>
                    <a:lnTo>
                      <a:pt x="5357" y="4783"/>
                    </a:lnTo>
                    <a:lnTo>
                      <a:pt x="5462" y="4774"/>
                    </a:lnTo>
                    <a:lnTo>
                      <a:pt x="5578" y="4774"/>
                    </a:lnTo>
                    <a:lnTo>
                      <a:pt x="5724" y="4783"/>
                    </a:lnTo>
                    <a:lnTo>
                      <a:pt x="5880" y="4805"/>
                    </a:lnTo>
                    <a:lnTo>
                      <a:pt x="6053" y="4832"/>
                    </a:lnTo>
                    <a:lnTo>
                      <a:pt x="6257" y="4871"/>
                    </a:lnTo>
                    <a:lnTo>
                      <a:pt x="6343" y="4909"/>
                    </a:lnTo>
                    <a:lnTo>
                      <a:pt x="6410" y="4978"/>
                    </a:lnTo>
                    <a:lnTo>
                      <a:pt x="6527" y="5140"/>
                    </a:lnTo>
                    <a:lnTo>
                      <a:pt x="6576" y="5211"/>
                    </a:lnTo>
                    <a:lnTo>
                      <a:pt x="6614" y="5268"/>
                    </a:lnTo>
                    <a:lnTo>
                      <a:pt x="6635" y="5306"/>
                    </a:lnTo>
                    <a:lnTo>
                      <a:pt x="6643" y="5316"/>
                    </a:lnTo>
                    <a:lnTo>
                      <a:pt x="6643" y="5327"/>
                    </a:lnTo>
                    <a:lnTo>
                      <a:pt x="6650" y="5355"/>
                    </a:lnTo>
                    <a:lnTo>
                      <a:pt x="6663" y="5432"/>
                    </a:lnTo>
                    <a:lnTo>
                      <a:pt x="6692" y="5509"/>
                    </a:lnTo>
                    <a:lnTo>
                      <a:pt x="6700" y="5538"/>
                    </a:lnTo>
                    <a:lnTo>
                      <a:pt x="6710" y="5538"/>
                    </a:lnTo>
                    <a:lnTo>
                      <a:pt x="6740" y="5502"/>
                    </a:lnTo>
                    <a:lnTo>
                      <a:pt x="6767" y="5432"/>
                    </a:lnTo>
                    <a:lnTo>
                      <a:pt x="6789" y="5336"/>
                    </a:lnTo>
                    <a:lnTo>
                      <a:pt x="6796" y="5239"/>
                    </a:lnTo>
                    <a:lnTo>
                      <a:pt x="6780" y="5152"/>
                    </a:lnTo>
                    <a:lnTo>
                      <a:pt x="6749" y="5102"/>
                    </a:lnTo>
                    <a:lnTo>
                      <a:pt x="6722" y="5046"/>
                    </a:lnTo>
                    <a:lnTo>
                      <a:pt x="6692" y="4958"/>
                    </a:lnTo>
                    <a:lnTo>
                      <a:pt x="6672" y="4842"/>
                    </a:lnTo>
                    <a:lnTo>
                      <a:pt x="6681" y="4745"/>
                    </a:lnTo>
                    <a:lnTo>
                      <a:pt x="6672" y="4659"/>
                    </a:lnTo>
                    <a:lnTo>
                      <a:pt x="6650" y="4619"/>
                    </a:lnTo>
                    <a:lnTo>
                      <a:pt x="6614" y="4579"/>
                    </a:lnTo>
                    <a:lnTo>
                      <a:pt x="6576" y="4552"/>
                    </a:lnTo>
                    <a:lnTo>
                      <a:pt x="6536" y="4542"/>
                    </a:lnTo>
                    <a:lnTo>
                      <a:pt x="6470" y="4552"/>
                    </a:lnTo>
                    <a:lnTo>
                      <a:pt x="6361" y="4572"/>
                    </a:lnTo>
                    <a:lnTo>
                      <a:pt x="6293" y="4572"/>
                    </a:lnTo>
                    <a:lnTo>
                      <a:pt x="6199" y="4560"/>
                    </a:lnTo>
                    <a:lnTo>
                      <a:pt x="6004" y="4502"/>
                    </a:lnTo>
                    <a:lnTo>
                      <a:pt x="5838" y="4435"/>
                    </a:lnTo>
                    <a:lnTo>
                      <a:pt x="5664" y="4368"/>
                    </a:lnTo>
                    <a:lnTo>
                      <a:pt x="5473" y="4319"/>
                    </a:lnTo>
                    <a:lnTo>
                      <a:pt x="5367" y="4300"/>
                    </a:lnTo>
                    <a:lnTo>
                      <a:pt x="5191" y="4300"/>
                    </a:lnTo>
                    <a:lnTo>
                      <a:pt x="5124" y="4311"/>
                    </a:lnTo>
                    <a:lnTo>
                      <a:pt x="5038" y="4338"/>
                    </a:lnTo>
                    <a:lnTo>
                      <a:pt x="5018" y="4349"/>
                    </a:lnTo>
                    <a:lnTo>
                      <a:pt x="5009" y="4349"/>
                    </a:lnTo>
                    <a:lnTo>
                      <a:pt x="4998" y="4338"/>
                    </a:lnTo>
                    <a:lnTo>
                      <a:pt x="4980" y="4289"/>
                    </a:lnTo>
                    <a:lnTo>
                      <a:pt x="4951" y="4232"/>
                    </a:lnTo>
                    <a:lnTo>
                      <a:pt x="4901" y="4165"/>
                    </a:lnTo>
                    <a:lnTo>
                      <a:pt x="4699" y="3796"/>
                    </a:lnTo>
                    <a:lnTo>
                      <a:pt x="4604" y="3630"/>
                    </a:lnTo>
                    <a:lnTo>
                      <a:pt x="4524" y="3505"/>
                    </a:lnTo>
                    <a:lnTo>
                      <a:pt x="4495" y="3457"/>
                    </a:lnTo>
                    <a:lnTo>
                      <a:pt x="4465" y="3427"/>
                    </a:lnTo>
                    <a:lnTo>
                      <a:pt x="4458" y="3409"/>
                    </a:lnTo>
                    <a:lnTo>
                      <a:pt x="4446" y="3399"/>
                    </a:lnTo>
                    <a:lnTo>
                      <a:pt x="4446" y="3390"/>
                    </a:lnTo>
                    <a:lnTo>
                      <a:pt x="4465" y="3370"/>
                    </a:lnTo>
                    <a:lnTo>
                      <a:pt x="4495" y="3295"/>
                    </a:lnTo>
                    <a:lnTo>
                      <a:pt x="4505" y="3235"/>
                    </a:lnTo>
                    <a:lnTo>
                      <a:pt x="4505" y="3166"/>
                    </a:lnTo>
                    <a:lnTo>
                      <a:pt x="4495" y="3080"/>
                    </a:lnTo>
                    <a:lnTo>
                      <a:pt x="4475" y="2993"/>
                    </a:lnTo>
                    <a:lnTo>
                      <a:pt x="4438" y="2896"/>
                    </a:lnTo>
                    <a:lnTo>
                      <a:pt x="4378" y="2809"/>
                    </a:lnTo>
                    <a:lnTo>
                      <a:pt x="4243" y="2635"/>
                    </a:lnTo>
                    <a:lnTo>
                      <a:pt x="4185" y="2557"/>
                    </a:lnTo>
                    <a:lnTo>
                      <a:pt x="4138" y="2489"/>
                    </a:lnTo>
                    <a:lnTo>
                      <a:pt x="4108" y="2433"/>
                    </a:lnTo>
                    <a:lnTo>
                      <a:pt x="4099" y="2383"/>
                    </a:lnTo>
                    <a:lnTo>
                      <a:pt x="4185" y="1880"/>
                    </a:lnTo>
                    <a:lnTo>
                      <a:pt x="4205" y="1783"/>
                    </a:lnTo>
                    <a:lnTo>
                      <a:pt x="4225" y="1696"/>
                    </a:lnTo>
                    <a:lnTo>
                      <a:pt x="4234" y="1647"/>
                    </a:lnTo>
                    <a:lnTo>
                      <a:pt x="4234" y="1627"/>
                    </a:lnTo>
                    <a:lnTo>
                      <a:pt x="4243" y="1639"/>
                    </a:lnTo>
                    <a:lnTo>
                      <a:pt x="4272" y="1669"/>
                    </a:lnTo>
                    <a:lnTo>
                      <a:pt x="4322" y="1706"/>
                    </a:lnTo>
                    <a:lnTo>
                      <a:pt x="4389" y="1763"/>
                    </a:lnTo>
                    <a:lnTo>
                      <a:pt x="4475" y="1831"/>
                    </a:lnTo>
                    <a:lnTo>
                      <a:pt x="4574" y="1917"/>
                    </a:lnTo>
                    <a:lnTo>
                      <a:pt x="4690" y="1996"/>
                    </a:lnTo>
                    <a:lnTo>
                      <a:pt x="4822" y="2091"/>
                    </a:lnTo>
                    <a:lnTo>
                      <a:pt x="4901" y="2207"/>
                    </a:lnTo>
                    <a:lnTo>
                      <a:pt x="4988" y="2323"/>
                    </a:lnTo>
                    <a:lnTo>
                      <a:pt x="5134" y="2509"/>
                    </a:lnTo>
                    <a:lnTo>
                      <a:pt x="5258" y="2663"/>
                    </a:lnTo>
                    <a:lnTo>
                      <a:pt x="5357" y="2817"/>
                    </a:lnTo>
                    <a:lnTo>
                      <a:pt x="5375" y="2847"/>
                    </a:lnTo>
                    <a:lnTo>
                      <a:pt x="5386" y="2858"/>
                    </a:lnTo>
                    <a:lnTo>
                      <a:pt x="5416" y="2858"/>
                    </a:lnTo>
                    <a:lnTo>
                      <a:pt x="5453" y="2829"/>
                    </a:lnTo>
                    <a:lnTo>
                      <a:pt x="5491" y="2829"/>
                    </a:lnTo>
                    <a:lnTo>
                      <a:pt x="5541" y="2847"/>
                    </a:lnTo>
                    <a:lnTo>
                      <a:pt x="5570" y="2867"/>
                    </a:lnTo>
                    <a:lnTo>
                      <a:pt x="5635" y="2889"/>
                    </a:lnTo>
                    <a:lnTo>
                      <a:pt x="5657" y="2867"/>
                    </a:lnTo>
                    <a:lnTo>
                      <a:pt x="5664" y="2839"/>
                    </a:lnTo>
                    <a:lnTo>
                      <a:pt x="5657" y="2809"/>
                    </a:lnTo>
                    <a:lnTo>
                      <a:pt x="5657" y="2799"/>
                    </a:lnTo>
                    <a:lnTo>
                      <a:pt x="5619" y="2712"/>
                    </a:lnTo>
                    <a:lnTo>
                      <a:pt x="5619" y="2613"/>
                    </a:lnTo>
                    <a:lnTo>
                      <a:pt x="5608" y="2597"/>
                    </a:lnTo>
                    <a:lnTo>
                      <a:pt x="5590" y="2547"/>
                    </a:lnTo>
                    <a:lnTo>
                      <a:pt x="5561" y="2498"/>
                    </a:lnTo>
                    <a:lnTo>
                      <a:pt x="5511" y="2482"/>
                    </a:lnTo>
                    <a:lnTo>
                      <a:pt x="5395" y="2469"/>
                    </a:lnTo>
                    <a:lnTo>
                      <a:pt x="5357" y="2452"/>
                    </a:lnTo>
                    <a:lnTo>
                      <a:pt x="5337" y="2452"/>
                    </a:lnTo>
                    <a:lnTo>
                      <a:pt x="5327" y="2440"/>
                    </a:lnTo>
                    <a:lnTo>
                      <a:pt x="5308" y="2402"/>
                    </a:lnTo>
                    <a:lnTo>
                      <a:pt x="5278" y="2353"/>
                    </a:lnTo>
                    <a:lnTo>
                      <a:pt x="5240" y="2287"/>
                    </a:lnTo>
                    <a:lnTo>
                      <a:pt x="5184" y="2199"/>
                    </a:lnTo>
                    <a:lnTo>
                      <a:pt x="5105" y="2103"/>
                    </a:lnTo>
                    <a:lnTo>
                      <a:pt x="5018" y="1996"/>
                    </a:lnTo>
                    <a:lnTo>
                      <a:pt x="4912" y="1880"/>
                    </a:lnTo>
                    <a:lnTo>
                      <a:pt x="4416" y="1357"/>
                    </a:lnTo>
                    <a:lnTo>
                      <a:pt x="4322" y="1250"/>
                    </a:lnTo>
                    <a:lnTo>
                      <a:pt x="4234" y="1163"/>
                    </a:lnTo>
                    <a:lnTo>
                      <a:pt x="4176" y="1104"/>
                    </a:lnTo>
                    <a:lnTo>
                      <a:pt x="4156" y="1087"/>
                    </a:lnTo>
                    <a:lnTo>
                      <a:pt x="4176" y="1087"/>
                    </a:lnTo>
                    <a:lnTo>
                      <a:pt x="4213" y="1074"/>
                    </a:lnTo>
                    <a:lnTo>
                      <a:pt x="4263" y="1058"/>
                    </a:lnTo>
                    <a:lnTo>
                      <a:pt x="4272" y="1037"/>
                    </a:lnTo>
                    <a:lnTo>
                      <a:pt x="4234" y="1009"/>
                    </a:lnTo>
                    <a:lnTo>
                      <a:pt x="4118" y="950"/>
                    </a:lnTo>
                    <a:lnTo>
                      <a:pt x="4099" y="942"/>
                    </a:lnTo>
                    <a:lnTo>
                      <a:pt x="4213" y="942"/>
                    </a:lnTo>
                    <a:lnTo>
                      <a:pt x="4254" y="950"/>
                    </a:lnTo>
                    <a:lnTo>
                      <a:pt x="4302" y="980"/>
                    </a:lnTo>
                    <a:lnTo>
                      <a:pt x="4302" y="942"/>
                    </a:lnTo>
                    <a:lnTo>
                      <a:pt x="4272" y="912"/>
                    </a:lnTo>
                    <a:lnTo>
                      <a:pt x="4243" y="871"/>
                    </a:lnTo>
                    <a:lnTo>
                      <a:pt x="4225" y="863"/>
                    </a:lnTo>
                    <a:lnTo>
                      <a:pt x="4234" y="863"/>
                    </a:lnTo>
                    <a:lnTo>
                      <a:pt x="4254" y="871"/>
                    </a:lnTo>
                    <a:lnTo>
                      <a:pt x="4329" y="912"/>
                    </a:lnTo>
                    <a:lnTo>
                      <a:pt x="4312" y="856"/>
                    </a:lnTo>
                    <a:lnTo>
                      <a:pt x="4272" y="814"/>
                    </a:lnTo>
                    <a:lnTo>
                      <a:pt x="4167" y="739"/>
                    </a:lnTo>
                    <a:lnTo>
                      <a:pt x="4059" y="680"/>
                    </a:lnTo>
                    <a:lnTo>
                      <a:pt x="4021" y="640"/>
                    </a:lnTo>
                    <a:lnTo>
                      <a:pt x="3994" y="593"/>
                    </a:lnTo>
                    <a:lnTo>
                      <a:pt x="4059" y="611"/>
                    </a:lnTo>
                    <a:lnTo>
                      <a:pt x="4126" y="640"/>
                    </a:lnTo>
                    <a:lnTo>
                      <a:pt x="4185" y="690"/>
                    </a:lnTo>
                    <a:lnTo>
                      <a:pt x="4225" y="739"/>
                    </a:lnTo>
                    <a:lnTo>
                      <a:pt x="4225" y="727"/>
                    </a:lnTo>
                    <a:lnTo>
                      <a:pt x="4213" y="680"/>
                    </a:lnTo>
                    <a:lnTo>
                      <a:pt x="4185" y="611"/>
                    </a:lnTo>
                    <a:lnTo>
                      <a:pt x="4138" y="524"/>
                    </a:lnTo>
                    <a:lnTo>
                      <a:pt x="4089" y="456"/>
                    </a:lnTo>
                    <a:lnTo>
                      <a:pt x="4039" y="427"/>
                    </a:lnTo>
                    <a:lnTo>
                      <a:pt x="4002" y="400"/>
                    </a:lnTo>
                    <a:lnTo>
                      <a:pt x="3972" y="378"/>
                    </a:lnTo>
                    <a:lnTo>
                      <a:pt x="3953" y="350"/>
                    </a:lnTo>
                    <a:lnTo>
                      <a:pt x="3915" y="283"/>
                    </a:lnTo>
                    <a:lnTo>
                      <a:pt x="3895" y="204"/>
                    </a:lnTo>
                    <a:lnTo>
                      <a:pt x="3866" y="137"/>
                    </a:lnTo>
                    <a:lnTo>
                      <a:pt x="3837" y="108"/>
                    </a:lnTo>
                    <a:lnTo>
                      <a:pt x="3799" y="80"/>
                    </a:lnTo>
                    <a:lnTo>
                      <a:pt x="3675" y="42"/>
                    </a:lnTo>
                    <a:lnTo>
                      <a:pt x="3588" y="31"/>
                    </a:lnTo>
                    <a:lnTo>
                      <a:pt x="3499" y="31"/>
                    </a:lnTo>
                    <a:lnTo>
                      <a:pt x="3422" y="20"/>
                    </a:lnTo>
                    <a:lnTo>
                      <a:pt x="3343" y="0"/>
                    </a:lnTo>
                    <a:lnTo>
                      <a:pt x="3286" y="0"/>
                    </a:lnTo>
                    <a:lnTo>
                      <a:pt x="3227" y="13"/>
                    </a:lnTo>
                    <a:lnTo>
                      <a:pt x="3170" y="31"/>
                    </a:lnTo>
                    <a:lnTo>
                      <a:pt x="3111" y="50"/>
                    </a:lnTo>
                    <a:lnTo>
                      <a:pt x="3083" y="80"/>
                    </a:lnTo>
                    <a:lnTo>
                      <a:pt x="3044" y="157"/>
                    </a:lnTo>
                    <a:lnTo>
                      <a:pt x="3035" y="204"/>
                    </a:lnTo>
                    <a:lnTo>
                      <a:pt x="3053" y="261"/>
                    </a:lnTo>
                    <a:lnTo>
                      <a:pt x="3073" y="291"/>
                    </a:lnTo>
                    <a:lnTo>
                      <a:pt x="3083" y="310"/>
                    </a:lnTo>
                    <a:lnTo>
                      <a:pt x="3083" y="514"/>
                    </a:lnTo>
                    <a:lnTo>
                      <a:pt x="3111" y="593"/>
                    </a:lnTo>
                    <a:lnTo>
                      <a:pt x="3065" y="746"/>
                    </a:lnTo>
                    <a:lnTo>
                      <a:pt x="3152" y="766"/>
                    </a:lnTo>
                    <a:lnTo>
                      <a:pt x="3170" y="834"/>
                    </a:lnTo>
                    <a:lnTo>
                      <a:pt x="3227" y="834"/>
                    </a:lnTo>
                    <a:lnTo>
                      <a:pt x="3197" y="883"/>
                    </a:lnTo>
                    <a:lnTo>
                      <a:pt x="3246" y="930"/>
                    </a:lnTo>
                    <a:lnTo>
                      <a:pt x="3269" y="1000"/>
                    </a:lnTo>
                    <a:lnTo>
                      <a:pt x="3363" y="1000"/>
                    </a:lnTo>
                    <a:lnTo>
                      <a:pt x="3385" y="1067"/>
                    </a:lnTo>
                    <a:lnTo>
                      <a:pt x="3372" y="1067"/>
                    </a:lnTo>
                    <a:lnTo>
                      <a:pt x="3343" y="1074"/>
                    </a:lnTo>
                    <a:lnTo>
                      <a:pt x="3152" y="1153"/>
                    </a:lnTo>
                    <a:lnTo>
                      <a:pt x="3123" y="1183"/>
                    </a:lnTo>
                    <a:lnTo>
                      <a:pt x="3103" y="1213"/>
                    </a:lnTo>
                    <a:lnTo>
                      <a:pt x="3083" y="1307"/>
                    </a:lnTo>
                    <a:lnTo>
                      <a:pt x="3073" y="1444"/>
                    </a:lnTo>
                    <a:lnTo>
                      <a:pt x="3044" y="1773"/>
                    </a:lnTo>
                    <a:lnTo>
                      <a:pt x="3024" y="1937"/>
                    </a:lnTo>
                    <a:lnTo>
                      <a:pt x="3015" y="2075"/>
                    </a:lnTo>
                    <a:lnTo>
                      <a:pt x="3006" y="2162"/>
                    </a:lnTo>
                    <a:lnTo>
                      <a:pt x="3006" y="2199"/>
                    </a:lnTo>
                    <a:lnTo>
                      <a:pt x="2994" y="2207"/>
                    </a:lnTo>
                    <a:lnTo>
                      <a:pt x="2986" y="2229"/>
                    </a:lnTo>
                    <a:lnTo>
                      <a:pt x="2919" y="2294"/>
                    </a:lnTo>
                    <a:lnTo>
                      <a:pt x="2820" y="2393"/>
                    </a:lnTo>
                    <a:lnTo>
                      <a:pt x="2696" y="2527"/>
                    </a:lnTo>
                    <a:lnTo>
                      <a:pt x="2683" y="2539"/>
                    </a:lnTo>
                    <a:lnTo>
                      <a:pt x="2667" y="2480"/>
                    </a:lnTo>
                    <a:lnTo>
                      <a:pt x="2600" y="2353"/>
                    </a:lnTo>
                    <a:lnTo>
                      <a:pt x="2501" y="2207"/>
                    </a:lnTo>
                    <a:lnTo>
                      <a:pt x="2371" y="2045"/>
                    </a:lnTo>
                    <a:lnTo>
                      <a:pt x="2292" y="1927"/>
                    </a:lnTo>
                    <a:lnTo>
                      <a:pt x="2233" y="1773"/>
                    </a:lnTo>
                    <a:lnTo>
                      <a:pt x="2153" y="1595"/>
                    </a:lnTo>
                    <a:lnTo>
                      <a:pt x="2040" y="1434"/>
                    </a:lnTo>
                    <a:lnTo>
                      <a:pt x="1973" y="1366"/>
                    </a:lnTo>
                    <a:lnTo>
                      <a:pt x="1894" y="1319"/>
                    </a:lnTo>
                    <a:lnTo>
                      <a:pt x="1748" y="1260"/>
                    </a:lnTo>
                    <a:lnTo>
                      <a:pt x="1681" y="1240"/>
                    </a:lnTo>
                    <a:lnTo>
                      <a:pt x="1634" y="1233"/>
                    </a:lnTo>
                    <a:lnTo>
                      <a:pt x="1602" y="1220"/>
                    </a:lnTo>
                    <a:lnTo>
                      <a:pt x="1594" y="1200"/>
                    </a:lnTo>
                    <a:lnTo>
                      <a:pt x="1614" y="1153"/>
                    </a:lnTo>
                    <a:lnTo>
                      <a:pt x="1634" y="1134"/>
                    </a:lnTo>
                    <a:lnTo>
                      <a:pt x="1661" y="1114"/>
                    </a:lnTo>
                    <a:lnTo>
                      <a:pt x="1700" y="1067"/>
                    </a:lnTo>
                    <a:lnTo>
                      <a:pt x="1748" y="1000"/>
                    </a:lnTo>
                    <a:lnTo>
                      <a:pt x="1799" y="948"/>
                    </a:lnTo>
                    <a:lnTo>
                      <a:pt x="1827" y="912"/>
                    </a:lnTo>
                    <a:lnTo>
                      <a:pt x="1854" y="854"/>
                    </a:lnTo>
                    <a:lnTo>
                      <a:pt x="1866" y="795"/>
                    </a:lnTo>
                    <a:lnTo>
                      <a:pt x="1866" y="766"/>
                    </a:lnTo>
                    <a:lnTo>
                      <a:pt x="1854" y="739"/>
                    </a:lnTo>
                    <a:lnTo>
                      <a:pt x="1854" y="688"/>
                    </a:lnTo>
                    <a:lnTo>
                      <a:pt x="1866" y="640"/>
                    </a:lnTo>
                    <a:lnTo>
                      <a:pt x="1894" y="600"/>
                    </a:lnTo>
                    <a:lnTo>
                      <a:pt x="1906" y="573"/>
                    </a:lnTo>
                    <a:lnTo>
                      <a:pt x="1906" y="534"/>
                    </a:lnTo>
                    <a:lnTo>
                      <a:pt x="1886" y="474"/>
                    </a:lnTo>
                    <a:lnTo>
                      <a:pt x="1866" y="376"/>
                    </a:lnTo>
                    <a:lnTo>
                      <a:pt x="1819" y="321"/>
                    </a:lnTo>
                    <a:lnTo>
                      <a:pt x="1748" y="261"/>
                    </a:lnTo>
                    <a:lnTo>
                      <a:pt x="1700" y="214"/>
                    </a:lnTo>
                    <a:lnTo>
                      <a:pt x="1625" y="186"/>
                    </a:lnTo>
                    <a:lnTo>
                      <a:pt x="1527" y="146"/>
                    </a:lnTo>
                    <a:lnTo>
                      <a:pt x="1428" y="128"/>
                    </a:lnTo>
                    <a:lnTo>
                      <a:pt x="1313" y="128"/>
                    </a:lnTo>
                    <a:lnTo>
                      <a:pt x="1246" y="135"/>
                    </a:lnTo>
                    <a:lnTo>
                      <a:pt x="1180" y="146"/>
                    </a:lnTo>
                    <a:lnTo>
                      <a:pt x="1129" y="175"/>
                    </a:lnTo>
                    <a:lnTo>
                      <a:pt x="1093" y="214"/>
                    </a:lnTo>
                    <a:lnTo>
                      <a:pt x="1053" y="274"/>
                    </a:lnTo>
                    <a:lnTo>
                      <a:pt x="1042" y="301"/>
                    </a:lnTo>
                    <a:lnTo>
                      <a:pt x="1042" y="332"/>
                    </a:lnTo>
                    <a:lnTo>
                      <a:pt x="1053" y="348"/>
                    </a:lnTo>
                    <a:lnTo>
                      <a:pt x="1066" y="36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3865320" y="2763000"/>
                <a:ext cx="798840" cy="1040400"/>
              </a:xfrm>
              <a:custGeom>
                <a:avLst/>
                <a:gdLst/>
                <a:ahLst/>
                <a:rect l="l" t="t" r="r" b="b"/>
                <a:pathLst>
                  <a:path w="2079" h="2939">
                    <a:moveTo>
                      <a:pt x="1302" y="2771"/>
                    </a:moveTo>
                    <a:lnTo>
                      <a:pt x="1246" y="2805"/>
                    </a:lnTo>
                    <a:lnTo>
                      <a:pt x="1093" y="2872"/>
                    </a:lnTo>
                    <a:lnTo>
                      <a:pt x="920" y="2931"/>
                    </a:lnTo>
                    <a:lnTo>
                      <a:pt x="832" y="2939"/>
                    </a:lnTo>
                    <a:lnTo>
                      <a:pt x="754" y="2939"/>
                    </a:lnTo>
                    <a:lnTo>
                      <a:pt x="639" y="2919"/>
                    </a:lnTo>
                    <a:lnTo>
                      <a:pt x="592" y="2911"/>
                    </a:lnTo>
                    <a:lnTo>
                      <a:pt x="532" y="2903"/>
                    </a:lnTo>
                    <a:lnTo>
                      <a:pt x="406" y="2883"/>
                    </a:lnTo>
                    <a:lnTo>
                      <a:pt x="0" y="2883"/>
                    </a:lnTo>
                    <a:lnTo>
                      <a:pt x="60" y="2670"/>
                    </a:lnTo>
                    <a:lnTo>
                      <a:pt x="79" y="2591"/>
                    </a:lnTo>
                    <a:lnTo>
                      <a:pt x="87" y="2571"/>
                    </a:lnTo>
                    <a:lnTo>
                      <a:pt x="87" y="2564"/>
                    </a:lnTo>
                    <a:lnTo>
                      <a:pt x="174" y="2571"/>
                    </a:lnTo>
                    <a:lnTo>
                      <a:pt x="347" y="2299"/>
                    </a:lnTo>
                    <a:lnTo>
                      <a:pt x="359" y="2279"/>
                    </a:lnTo>
                    <a:lnTo>
                      <a:pt x="379" y="2236"/>
                    </a:lnTo>
                    <a:lnTo>
                      <a:pt x="406" y="2157"/>
                    </a:lnTo>
                    <a:lnTo>
                      <a:pt x="434" y="2059"/>
                    </a:lnTo>
                    <a:lnTo>
                      <a:pt x="466" y="1944"/>
                    </a:lnTo>
                    <a:lnTo>
                      <a:pt x="485" y="1818"/>
                    </a:lnTo>
                    <a:lnTo>
                      <a:pt x="485" y="1672"/>
                    </a:lnTo>
                    <a:lnTo>
                      <a:pt x="478" y="1526"/>
                    </a:lnTo>
                    <a:lnTo>
                      <a:pt x="446" y="1411"/>
                    </a:lnTo>
                    <a:lnTo>
                      <a:pt x="418" y="1313"/>
                    </a:lnTo>
                    <a:lnTo>
                      <a:pt x="347" y="1171"/>
                    </a:lnTo>
                    <a:lnTo>
                      <a:pt x="303" y="1052"/>
                    </a:lnTo>
                    <a:lnTo>
                      <a:pt x="280" y="958"/>
                    </a:lnTo>
                    <a:lnTo>
                      <a:pt x="303" y="799"/>
                    </a:lnTo>
                    <a:lnTo>
                      <a:pt x="320" y="673"/>
                    </a:lnTo>
                    <a:lnTo>
                      <a:pt x="339" y="578"/>
                    </a:lnTo>
                    <a:lnTo>
                      <a:pt x="359" y="511"/>
                    </a:lnTo>
                    <a:lnTo>
                      <a:pt x="406" y="377"/>
                    </a:lnTo>
                    <a:lnTo>
                      <a:pt x="434" y="259"/>
                    </a:lnTo>
                    <a:lnTo>
                      <a:pt x="446" y="172"/>
                    </a:lnTo>
                    <a:lnTo>
                      <a:pt x="458" y="152"/>
                    </a:lnTo>
                    <a:lnTo>
                      <a:pt x="458" y="144"/>
                    </a:lnTo>
                    <a:lnTo>
                      <a:pt x="466" y="152"/>
                    </a:lnTo>
                    <a:lnTo>
                      <a:pt x="505" y="180"/>
                    </a:lnTo>
                    <a:lnTo>
                      <a:pt x="592" y="259"/>
                    </a:lnTo>
                    <a:lnTo>
                      <a:pt x="687" y="358"/>
                    </a:lnTo>
                    <a:lnTo>
                      <a:pt x="718" y="392"/>
                    </a:lnTo>
                    <a:lnTo>
                      <a:pt x="725" y="421"/>
                    </a:lnTo>
                    <a:lnTo>
                      <a:pt x="710" y="452"/>
                    </a:lnTo>
                    <a:lnTo>
                      <a:pt x="667" y="480"/>
                    </a:lnTo>
                    <a:lnTo>
                      <a:pt x="458" y="598"/>
                    </a:lnTo>
                    <a:lnTo>
                      <a:pt x="418" y="637"/>
                    </a:lnTo>
                    <a:lnTo>
                      <a:pt x="399" y="665"/>
                    </a:lnTo>
                    <a:lnTo>
                      <a:pt x="379" y="724"/>
                    </a:lnTo>
                    <a:lnTo>
                      <a:pt x="347" y="799"/>
                    </a:lnTo>
                    <a:lnTo>
                      <a:pt x="339" y="898"/>
                    </a:lnTo>
                    <a:lnTo>
                      <a:pt x="347" y="993"/>
                    </a:lnTo>
                    <a:lnTo>
                      <a:pt x="379" y="1044"/>
                    </a:lnTo>
                    <a:lnTo>
                      <a:pt x="385" y="1048"/>
                    </a:lnTo>
                    <a:lnTo>
                      <a:pt x="367" y="1074"/>
                    </a:lnTo>
                    <a:lnTo>
                      <a:pt x="367" y="1121"/>
                    </a:lnTo>
                    <a:lnTo>
                      <a:pt x="377" y="1131"/>
                    </a:lnTo>
                    <a:lnTo>
                      <a:pt x="404" y="1140"/>
                    </a:lnTo>
                    <a:lnTo>
                      <a:pt x="480" y="1149"/>
                    </a:lnTo>
                    <a:lnTo>
                      <a:pt x="493" y="1171"/>
                    </a:lnTo>
                    <a:lnTo>
                      <a:pt x="552" y="1190"/>
                    </a:lnTo>
                    <a:lnTo>
                      <a:pt x="592" y="1178"/>
                    </a:lnTo>
                    <a:lnTo>
                      <a:pt x="659" y="1147"/>
                    </a:lnTo>
                    <a:lnTo>
                      <a:pt x="704" y="1115"/>
                    </a:lnTo>
                    <a:lnTo>
                      <a:pt x="716" y="1111"/>
                    </a:lnTo>
                    <a:lnTo>
                      <a:pt x="803" y="1044"/>
                    </a:lnTo>
                    <a:lnTo>
                      <a:pt x="882" y="945"/>
                    </a:lnTo>
                    <a:lnTo>
                      <a:pt x="920" y="900"/>
                    </a:lnTo>
                    <a:lnTo>
                      <a:pt x="927" y="879"/>
                    </a:lnTo>
                    <a:lnTo>
                      <a:pt x="939" y="879"/>
                    </a:lnTo>
                    <a:lnTo>
                      <a:pt x="956" y="870"/>
                    </a:lnTo>
                    <a:lnTo>
                      <a:pt x="1014" y="829"/>
                    </a:lnTo>
                    <a:lnTo>
                      <a:pt x="1115" y="772"/>
                    </a:lnTo>
                    <a:lnTo>
                      <a:pt x="1228" y="697"/>
                    </a:lnTo>
                    <a:lnTo>
                      <a:pt x="1479" y="522"/>
                    </a:lnTo>
                    <a:lnTo>
                      <a:pt x="1586" y="423"/>
                    </a:lnTo>
                    <a:lnTo>
                      <a:pt x="1672" y="336"/>
                    </a:lnTo>
                    <a:lnTo>
                      <a:pt x="1695" y="308"/>
                    </a:lnTo>
                    <a:lnTo>
                      <a:pt x="1702" y="261"/>
                    </a:lnTo>
                    <a:lnTo>
                      <a:pt x="1732" y="154"/>
                    </a:lnTo>
                    <a:lnTo>
                      <a:pt x="1751" y="46"/>
                    </a:lnTo>
                    <a:lnTo>
                      <a:pt x="1762" y="8"/>
                    </a:lnTo>
                    <a:lnTo>
                      <a:pt x="1762" y="0"/>
                    </a:lnTo>
                    <a:lnTo>
                      <a:pt x="1769" y="16"/>
                    </a:lnTo>
                    <a:lnTo>
                      <a:pt x="1798" y="66"/>
                    </a:lnTo>
                    <a:lnTo>
                      <a:pt x="1827" y="132"/>
                    </a:lnTo>
                    <a:lnTo>
                      <a:pt x="1876" y="219"/>
                    </a:lnTo>
                    <a:lnTo>
                      <a:pt x="1943" y="394"/>
                    </a:lnTo>
                    <a:lnTo>
                      <a:pt x="1973" y="464"/>
                    </a:lnTo>
                    <a:lnTo>
                      <a:pt x="1984" y="522"/>
                    </a:lnTo>
                    <a:lnTo>
                      <a:pt x="1992" y="742"/>
                    </a:lnTo>
                    <a:lnTo>
                      <a:pt x="2029" y="945"/>
                    </a:lnTo>
                    <a:lnTo>
                      <a:pt x="2051" y="1025"/>
                    </a:lnTo>
                    <a:lnTo>
                      <a:pt x="2059" y="1082"/>
                    </a:lnTo>
                    <a:lnTo>
                      <a:pt x="2079" y="1131"/>
                    </a:lnTo>
                    <a:lnTo>
                      <a:pt x="2079" y="1140"/>
                    </a:lnTo>
                    <a:lnTo>
                      <a:pt x="2059" y="1149"/>
                    </a:lnTo>
                    <a:lnTo>
                      <a:pt x="2022" y="1198"/>
                    </a:lnTo>
                    <a:lnTo>
                      <a:pt x="1964" y="1257"/>
                    </a:lnTo>
                    <a:lnTo>
                      <a:pt x="1886" y="1344"/>
                    </a:lnTo>
                    <a:lnTo>
                      <a:pt x="1712" y="1538"/>
                    </a:lnTo>
                    <a:lnTo>
                      <a:pt x="1537" y="1771"/>
                    </a:lnTo>
                    <a:lnTo>
                      <a:pt x="1461" y="1875"/>
                    </a:lnTo>
                    <a:lnTo>
                      <a:pt x="1412" y="1962"/>
                    </a:lnTo>
                    <a:lnTo>
                      <a:pt x="1333" y="2108"/>
                    </a:lnTo>
                    <a:lnTo>
                      <a:pt x="1277" y="2244"/>
                    </a:lnTo>
                    <a:lnTo>
                      <a:pt x="1246" y="2311"/>
                    </a:lnTo>
                    <a:lnTo>
                      <a:pt x="1209" y="2380"/>
                    </a:lnTo>
                    <a:lnTo>
                      <a:pt x="1201" y="2418"/>
                    </a:lnTo>
                    <a:lnTo>
                      <a:pt x="1209" y="2467"/>
                    </a:lnTo>
                    <a:lnTo>
                      <a:pt x="1228" y="2535"/>
                    </a:lnTo>
                    <a:lnTo>
                      <a:pt x="1259" y="2621"/>
                    </a:lnTo>
                    <a:lnTo>
                      <a:pt x="1296" y="2737"/>
                    </a:lnTo>
                    <a:lnTo>
                      <a:pt x="1302" y="27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128480" y="2989440"/>
                <a:ext cx="90000" cy="61560"/>
              </a:xfrm>
              <a:custGeom>
                <a:avLst/>
                <a:gdLst/>
                <a:ahLst/>
                <a:rect l="l" t="t" r="r" b="b"/>
                <a:pathLst>
                  <a:path w="239" h="177">
                    <a:moveTo>
                      <a:pt x="0" y="177"/>
                    </a:moveTo>
                    <a:lnTo>
                      <a:pt x="3" y="135"/>
                    </a:lnTo>
                    <a:lnTo>
                      <a:pt x="54" y="87"/>
                    </a:lnTo>
                    <a:lnTo>
                      <a:pt x="121" y="47"/>
                    </a:lnTo>
                    <a:lnTo>
                      <a:pt x="239" y="0"/>
                    </a:lnTo>
                    <a:lnTo>
                      <a:pt x="186" y="47"/>
                    </a:lnTo>
                    <a:lnTo>
                      <a:pt x="126" y="97"/>
                    </a:lnTo>
                    <a:lnTo>
                      <a:pt x="90" y="135"/>
                    </a:lnTo>
                    <a:lnTo>
                      <a:pt x="61" y="155"/>
                    </a:lnTo>
                    <a:lnTo>
                      <a:pt x="52" y="164"/>
                    </a:lnTo>
                    <a:lnTo>
                      <a:pt x="0" y="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35520" y="4476240"/>
                <a:ext cx="1425600" cy="615960"/>
              </a:xfrm>
              <a:custGeom>
                <a:avLst/>
                <a:gdLst/>
                <a:ahLst/>
                <a:rect l="l" t="t" r="r" b="b"/>
                <a:pathLst>
                  <a:path w="3710" h="1743">
                    <a:moveTo>
                      <a:pt x="655" y="1684"/>
                    </a:moveTo>
                    <a:lnTo>
                      <a:pt x="646" y="1679"/>
                    </a:lnTo>
                    <a:lnTo>
                      <a:pt x="623" y="1669"/>
                    </a:lnTo>
                    <a:lnTo>
                      <a:pt x="572" y="1643"/>
                    </a:lnTo>
                    <a:lnTo>
                      <a:pt x="569" y="1632"/>
                    </a:lnTo>
                    <a:lnTo>
                      <a:pt x="572" y="1627"/>
                    </a:lnTo>
                    <a:lnTo>
                      <a:pt x="584" y="1622"/>
                    </a:lnTo>
                    <a:lnTo>
                      <a:pt x="567" y="1616"/>
                    </a:lnTo>
                    <a:lnTo>
                      <a:pt x="534" y="1609"/>
                    </a:lnTo>
                    <a:lnTo>
                      <a:pt x="503" y="1597"/>
                    </a:lnTo>
                    <a:lnTo>
                      <a:pt x="478" y="1590"/>
                    </a:lnTo>
                    <a:lnTo>
                      <a:pt x="483" y="1583"/>
                    </a:lnTo>
                    <a:lnTo>
                      <a:pt x="503" y="1577"/>
                    </a:lnTo>
                    <a:lnTo>
                      <a:pt x="536" y="1572"/>
                    </a:lnTo>
                    <a:lnTo>
                      <a:pt x="547" y="1572"/>
                    </a:lnTo>
                    <a:lnTo>
                      <a:pt x="540" y="1565"/>
                    </a:lnTo>
                    <a:lnTo>
                      <a:pt x="548" y="1549"/>
                    </a:lnTo>
                    <a:lnTo>
                      <a:pt x="563" y="1545"/>
                    </a:lnTo>
                    <a:lnTo>
                      <a:pt x="582" y="1542"/>
                    </a:lnTo>
                    <a:lnTo>
                      <a:pt x="613" y="1538"/>
                    </a:lnTo>
                    <a:lnTo>
                      <a:pt x="559" y="1532"/>
                    </a:lnTo>
                    <a:lnTo>
                      <a:pt x="558" y="1520"/>
                    </a:lnTo>
                    <a:lnTo>
                      <a:pt x="569" y="1515"/>
                    </a:lnTo>
                    <a:lnTo>
                      <a:pt x="562" y="1512"/>
                    </a:lnTo>
                    <a:lnTo>
                      <a:pt x="558" y="1505"/>
                    </a:lnTo>
                    <a:lnTo>
                      <a:pt x="563" y="1496"/>
                    </a:lnTo>
                    <a:lnTo>
                      <a:pt x="577" y="1487"/>
                    </a:lnTo>
                    <a:lnTo>
                      <a:pt x="639" y="1480"/>
                    </a:lnTo>
                    <a:lnTo>
                      <a:pt x="688" y="1480"/>
                    </a:lnTo>
                    <a:lnTo>
                      <a:pt x="700" y="1474"/>
                    </a:lnTo>
                    <a:lnTo>
                      <a:pt x="738" y="1460"/>
                    </a:lnTo>
                    <a:lnTo>
                      <a:pt x="806" y="1428"/>
                    </a:lnTo>
                    <a:lnTo>
                      <a:pt x="812" y="1418"/>
                    </a:lnTo>
                    <a:lnTo>
                      <a:pt x="774" y="1413"/>
                    </a:lnTo>
                    <a:lnTo>
                      <a:pt x="732" y="1405"/>
                    </a:lnTo>
                    <a:lnTo>
                      <a:pt x="684" y="1390"/>
                    </a:lnTo>
                    <a:lnTo>
                      <a:pt x="654" y="1370"/>
                    </a:lnTo>
                    <a:lnTo>
                      <a:pt x="656" y="1354"/>
                    </a:lnTo>
                    <a:lnTo>
                      <a:pt x="684" y="1306"/>
                    </a:lnTo>
                    <a:lnTo>
                      <a:pt x="688" y="1284"/>
                    </a:lnTo>
                    <a:lnTo>
                      <a:pt x="692" y="1243"/>
                    </a:lnTo>
                    <a:lnTo>
                      <a:pt x="714" y="1221"/>
                    </a:lnTo>
                    <a:lnTo>
                      <a:pt x="747" y="1199"/>
                    </a:lnTo>
                    <a:lnTo>
                      <a:pt x="778" y="1181"/>
                    </a:lnTo>
                    <a:lnTo>
                      <a:pt x="813" y="1172"/>
                    </a:lnTo>
                    <a:lnTo>
                      <a:pt x="823" y="1169"/>
                    </a:lnTo>
                    <a:lnTo>
                      <a:pt x="884" y="1114"/>
                    </a:lnTo>
                    <a:lnTo>
                      <a:pt x="865" y="1112"/>
                    </a:lnTo>
                    <a:lnTo>
                      <a:pt x="832" y="1105"/>
                    </a:lnTo>
                    <a:lnTo>
                      <a:pt x="771" y="1094"/>
                    </a:lnTo>
                    <a:lnTo>
                      <a:pt x="699" y="1083"/>
                    </a:lnTo>
                    <a:lnTo>
                      <a:pt x="532" y="1057"/>
                    </a:lnTo>
                    <a:lnTo>
                      <a:pt x="370" y="1037"/>
                    </a:lnTo>
                    <a:lnTo>
                      <a:pt x="154" y="1037"/>
                    </a:lnTo>
                    <a:lnTo>
                      <a:pt x="119" y="1034"/>
                    </a:lnTo>
                    <a:lnTo>
                      <a:pt x="86" y="1025"/>
                    </a:lnTo>
                    <a:lnTo>
                      <a:pt x="14" y="1001"/>
                    </a:lnTo>
                    <a:lnTo>
                      <a:pt x="0" y="990"/>
                    </a:lnTo>
                    <a:lnTo>
                      <a:pt x="4" y="983"/>
                    </a:lnTo>
                    <a:lnTo>
                      <a:pt x="18" y="974"/>
                    </a:lnTo>
                    <a:lnTo>
                      <a:pt x="34" y="967"/>
                    </a:lnTo>
                    <a:lnTo>
                      <a:pt x="60" y="952"/>
                    </a:lnTo>
                    <a:lnTo>
                      <a:pt x="74" y="948"/>
                    </a:lnTo>
                    <a:lnTo>
                      <a:pt x="115" y="943"/>
                    </a:lnTo>
                    <a:lnTo>
                      <a:pt x="145" y="941"/>
                    </a:lnTo>
                    <a:lnTo>
                      <a:pt x="153" y="941"/>
                    </a:lnTo>
                    <a:lnTo>
                      <a:pt x="185" y="938"/>
                    </a:lnTo>
                    <a:lnTo>
                      <a:pt x="234" y="938"/>
                    </a:lnTo>
                    <a:lnTo>
                      <a:pt x="277" y="948"/>
                    </a:lnTo>
                    <a:lnTo>
                      <a:pt x="292" y="952"/>
                    </a:lnTo>
                    <a:lnTo>
                      <a:pt x="312" y="952"/>
                    </a:lnTo>
                    <a:lnTo>
                      <a:pt x="349" y="955"/>
                    </a:lnTo>
                    <a:lnTo>
                      <a:pt x="450" y="965"/>
                    </a:lnTo>
                    <a:lnTo>
                      <a:pt x="525" y="985"/>
                    </a:lnTo>
                    <a:lnTo>
                      <a:pt x="541" y="993"/>
                    </a:lnTo>
                    <a:lnTo>
                      <a:pt x="548" y="995"/>
                    </a:lnTo>
                    <a:lnTo>
                      <a:pt x="920" y="1020"/>
                    </a:lnTo>
                    <a:lnTo>
                      <a:pt x="982" y="963"/>
                    </a:lnTo>
                    <a:lnTo>
                      <a:pt x="988" y="952"/>
                    </a:lnTo>
                    <a:lnTo>
                      <a:pt x="991" y="933"/>
                    </a:lnTo>
                    <a:lnTo>
                      <a:pt x="1013" y="881"/>
                    </a:lnTo>
                    <a:lnTo>
                      <a:pt x="1042" y="848"/>
                    </a:lnTo>
                    <a:lnTo>
                      <a:pt x="1077" y="821"/>
                    </a:lnTo>
                    <a:lnTo>
                      <a:pt x="1110" y="796"/>
                    </a:lnTo>
                    <a:lnTo>
                      <a:pt x="1137" y="768"/>
                    </a:lnTo>
                    <a:lnTo>
                      <a:pt x="1139" y="732"/>
                    </a:lnTo>
                    <a:lnTo>
                      <a:pt x="1114" y="692"/>
                    </a:lnTo>
                    <a:lnTo>
                      <a:pt x="1079" y="652"/>
                    </a:lnTo>
                    <a:lnTo>
                      <a:pt x="1063" y="601"/>
                    </a:lnTo>
                    <a:lnTo>
                      <a:pt x="1057" y="575"/>
                    </a:lnTo>
                    <a:lnTo>
                      <a:pt x="1042" y="552"/>
                    </a:lnTo>
                    <a:lnTo>
                      <a:pt x="1032" y="519"/>
                    </a:lnTo>
                    <a:lnTo>
                      <a:pt x="1018" y="495"/>
                    </a:lnTo>
                    <a:lnTo>
                      <a:pt x="1039" y="475"/>
                    </a:lnTo>
                    <a:lnTo>
                      <a:pt x="1125" y="428"/>
                    </a:lnTo>
                    <a:lnTo>
                      <a:pt x="1231" y="381"/>
                    </a:lnTo>
                    <a:lnTo>
                      <a:pt x="1356" y="330"/>
                    </a:lnTo>
                    <a:lnTo>
                      <a:pt x="1471" y="284"/>
                    </a:lnTo>
                    <a:lnTo>
                      <a:pt x="1694" y="186"/>
                    </a:lnTo>
                    <a:lnTo>
                      <a:pt x="1778" y="142"/>
                    </a:lnTo>
                    <a:lnTo>
                      <a:pt x="1841" y="99"/>
                    </a:lnTo>
                    <a:lnTo>
                      <a:pt x="1828" y="92"/>
                    </a:lnTo>
                    <a:lnTo>
                      <a:pt x="1793" y="82"/>
                    </a:lnTo>
                    <a:lnTo>
                      <a:pt x="1547" y="42"/>
                    </a:lnTo>
                    <a:lnTo>
                      <a:pt x="1512" y="37"/>
                    </a:lnTo>
                    <a:lnTo>
                      <a:pt x="1493" y="34"/>
                    </a:lnTo>
                    <a:lnTo>
                      <a:pt x="1485" y="34"/>
                    </a:lnTo>
                    <a:lnTo>
                      <a:pt x="1445" y="32"/>
                    </a:lnTo>
                    <a:lnTo>
                      <a:pt x="1372" y="27"/>
                    </a:lnTo>
                    <a:lnTo>
                      <a:pt x="1354" y="25"/>
                    </a:lnTo>
                    <a:lnTo>
                      <a:pt x="1360" y="15"/>
                    </a:lnTo>
                    <a:lnTo>
                      <a:pt x="1402" y="8"/>
                    </a:lnTo>
                    <a:lnTo>
                      <a:pt x="1446" y="3"/>
                    </a:lnTo>
                    <a:lnTo>
                      <a:pt x="1493" y="0"/>
                    </a:lnTo>
                    <a:lnTo>
                      <a:pt x="1621" y="0"/>
                    </a:lnTo>
                    <a:lnTo>
                      <a:pt x="1736" y="3"/>
                    </a:lnTo>
                    <a:lnTo>
                      <a:pt x="1880" y="5"/>
                    </a:lnTo>
                    <a:lnTo>
                      <a:pt x="2033" y="5"/>
                    </a:lnTo>
                    <a:lnTo>
                      <a:pt x="2188" y="3"/>
                    </a:lnTo>
                    <a:lnTo>
                      <a:pt x="2297" y="0"/>
                    </a:lnTo>
                    <a:lnTo>
                      <a:pt x="2361" y="5"/>
                    </a:lnTo>
                    <a:lnTo>
                      <a:pt x="2377" y="12"/>
                    </a:lnTo>
                    <a:lnTo>
                      <a:pt x="2391" y="23"/>
                    </a:lnTo>
                    <a:lnTo>
                      <a:pt x="2393" y="34"/>
                    </a:lnTo>
                    <a:lnTo>
                      <a:pt x="2376" y="48"/>
                    </a:lnTo>
                    <a:lnTo>
                      <a:pt x="2313" y="72"/>
                    </a:lnTo>
                    <a:lnTo>
                      <a:pt x="2227" y="104"/>
                    </a:lnTo>
                    <a:lnTo>
                      <a:pt x="2186" y="124"/>
                    </a:lnTo>
                    <a:lnTo>
                      <a:pt x="2142" y="150"/>
                    </a:lnTo>
                    <a:lnTo>
                      <a:pt x="2099" y="174"/>
                    </a:lnTo>
                    <a:lnTo>
                      <a:pt x="2066" y="195"/>
                    </a:lnTo>
                    <a:lnTo>
                      <a:pt x="2024" y="232"/>
                    </a:lnTo>
                    <a:lnTo>
                      <a:pt x="1996" y="264"/>
                    </a:lnTo>
                    <a:lnTo>
                      <a:pt x="1955" y="299"/>
                    </a:lnTo>
                    <a:lnTo>
                      <a:pt x="1935" y="318"/>
                    </a:lnTo>
                    <a:lnTo>
                      <a:pt x="1906" y="334"/>
                    </a:lnTo>
                    <a:lnTo>
                      <a:pt x="1884" y="356"/>
                    </a:lnTo>
                    <a:lnTo>
                      <a:pt x="1857" y="366"/>
                    </a:lnTo>
                    <a:lnTo>
                      <a:pt x="1856" y="368"/>
                    </a:lnTo>
                    <a:lnTo>
                      <a:pt x="1885" y="368"/>
                    </a:lnTo>
                    <a:lnTo>
                      <a:pt x="1982" y="370"/>
                    </a:lnTo>
                    <a:lnTo>
                      <a:pt x="2124" y="376"/>
                    </a:lnTo>
                    <a:lnTo>
                      <a:pt x="2305" y="381"/>
                    </a:lnTo>
                    <a:lnTo>
                      <a:pt x="2522" y="390"/>
                    </a:lnTo>
                    <a:lnTo>
                      <a:pt x="2754" y="406"/>
                    </a:lnTo>
                    <a:lnTo>
                      <a:pt x="2959" y="419"/>
                    </a:lnTo>
                    <a:lnTo>
                      <a:pt x="3066" y="419"/>
                    </a:lnTo>
                    <a:lnTo>
                      <a:pt x="3156" y="413"/>
                    </a:lnTo>
                    <a:lnTo>
                      <a:pt x="3240" y="403"/>
                    </a:lnTo>
                    <a:lnTo>
                      <a:pt x="3309" y="385"/>
                    </a:lnTo>
                    <a:lnTo>
                      <a:pt x="3429" y="344"/>
                    </a:lnTo>
                    <a:lnTo>
                      <a:pt x="3531" y="303"/>
                    </a:lnTo>
                    <a:lnTo>
                      <a:pt x="3578" y="288"/>
                    </a:lnTo>
                    <a:lnTo>
                      <a:pt x="3621" y="279"/>
                    </a:lnTo>
                    <a:lnTo>
                      <a:pt x="3663" y="277"/>
                    </a:lnTo>
                    <a:lnTo>
                      <a:pt x="3697" y="284"/>
                    </a:lnTo>
                    <a:lnTo>
                      <a:pt x="3710" y="296"/>
                    </a:lnTo>
                    <a:lnTo>
                      <a:pt x="3708" y="314"/>
                    </a:lnTo>
                    <a:lnTo>
                      <a:pt x="3676" y="353"/>
                    </a:lnTo>
                    <a:lnTo>
                      <a:pt x="3604" y="392"/>
                    </a:lnTo>
                    <a:lnTo>
                      <a:pt x="3517" y="426"/>
                    </a:lnTo>
                    <a:lnTo>
                      <a:pt x="3461" y="452"/>
                    </a:lnTo>
                    <a:lnTo>
                      <a:pt x="3419" y="475"/>
                    </a:lnTo>
                    <a:lnTo>
                      <a:pt x="3389" y="495"/>
                    </a:lnTo>
                    <a:lnTo>
                      <a:pt x="3343" y="523"/>
                    </a:lnTo>
                    <a:lnTo>
                      <a:pt x="3318" y="532"/>
                    </a:lnTo>
                    <a:lnTo>
                      <a:pt x="3275" y="539"/>
                    </a:lnTo>
                    <a:lnTo>
                      <a:pt x="3246" y="542"/>
                    </a:lnTo>
                    <a:lnTo>
                      <a:pt x="3197" y="539"/>
                    </a:lnTo>
                    <a:lnTo>
                      <a:pt x="3100" y="523"/>
                    </a:lnTo>
                    <a:lnTo>
                      <a:pt x="2957" y="505"/>
                    </a:lnTo>
                    <a:lnTo>
                      <a:pt x="2791" y="490"/>
                    </a:lnTo>
                    <a:lnTo>
                      <a:pt x="2706" y="488"/>
                    </a:lnTo>
                    <a:lnTo>
                      <a:pt x="2627" y="488"/>
                    </a:lnTo>
                    <a:lnTo>
                      <a:pt x="2508" y="493"/>
                    </a:lnTo>
                    <a:lnTo>
                      <a:pt x="2460" y="495"/>
                    </a:lnTo>
                    <a:lnTo>
                      <a:pt x="2401" y="497"/>
                    </a:lnTo>
                    <a:lnTo>
                      <a:pt x="2270" y="503"/>
                    </a:lnTo>
                    <a:lnTo>
                      <a:pt x="1864" y="503"/>
                    </a:lnTo>
                    <a:lnTo>
                      <a:pt x="1890" y="557"/>
                    </a:lnTo>
                    <a:lnTo>
                      <a:pt x="1898" y="577"/>
                    </a:lnTo>
                    <a:lnTo>
                      <a:pt x="1904" y="583"/>
                    </a:lnTo>
                    <a:lnTo>
                      <a:pt x="1903" y="585"/>
                    </a:lnTo>
                    <a:lnTo>
                      <a:pt x="1991" y="583"/>
                    </a:lnTo>
                    <a:lnTo>
                      <a:pt x="2124" y="652"/>
                    </a:lnTo>
                    <a:lnTo>
                      <a:pt x="2133" y="657"/>
                    </a:lnTo>
                    <a:lnTo>
                      <a:pt x="2143" y="669"/>
                    </a:lnTo>
                    <a:lnTo>
                      <a:pt x="2160" y="689"/>
                    </a:lnTo>
                    <a:lnTo>
                      <a:pt x="2175" y="714"/>
                    </a:lnTo>
                    <a:lnTo>
                      <a:pt x="2186" y="743"/>
                    </a:lnTo>
                    <a:lnTo>
                      <a:pt x="2186" y="777"/>
                    </a:lnTo>
                    <a:lnTo>
                      <a:pt x="2164" y="814"/>
                    </a:lnTo>
                    <a:lnTo>
                      <a:pt x="2134" y="851"/>
                    </a:lnTo>
                    <a:lnTo>
                      <a:pt x="2087" y="881"/>
                    </a:lnTo>
                    <a:lnTo>
                      <a:pt x="2043" y="905"/>
                    </a:lnTo>
                    <a:lnTo>
                      <a:pt x="1952" y="943"/>
                    </a:lnTo>
                    <a:lnTo>
                      <a:pt x="1888" y="972"/>
                    </a:lnTo>
                    <a:lnTo>
                      <a:pt x="1853" y="998"/>
                    </a:lnTo>
                    <a:lnTo>
                      <a:pt x="1849" y="1037"/>
                    </a:lnTo>
                    <a:lnTo>
                      <a:pt x="1848" y="1070"/>
                    </a:lnTo>
                    <a:lnTo>
                      <a:pt x="1853" y="1094"/>
                    </a:lnTo>
                    <a:lnTo>
                      <a:pt x="1864" y="1112"/>
                    </a:lnTo>
                    <a:lnTo>
                      <a:pt x="1889" y="1147"/>
                    </a:lnTo>
                    <a:lnTo>
                      <a:pt x="1901" y="1176"/>
                    </a:lnTo>
                    <a:lnTo>
                      <a:pt x="1899" y="1199"/>
                    </a:lnTo>
                    <a:lnTo>
                      <a:pt x="1905" y="1204"/>
                    </a:lnTo>
                    <a:lnTo>
                      <a:pt x="1904" y="1207"/>
                    </a:lnTo>
                    <a:lnTo>
                      <a:pt x="1913" y="1204"/>
                    </a:lnTo>
                    <a:lnTo>
                      <a:pt x="1958" y="1196"/>
                    </a:lnTo>
                    <a:lnTo>
                      <a:pt x="2058" y="1176"/>
                    </a:lnTo>
                    <a:lnTo>
                      <a:pt x="2168" y="1152"/>
                    </a:lnTo>
                    <a:lnTo>
                      <a:pt x="2203" y="1142"/>
                    </a:lnTo>
                    <a:lnTo>
                      <a:pt x="2216" y="1135"/>
                    </a:lnTo>
                    <a:lnTo>
                      <a:pt x="2203" y="1127"/>
                    </a:lnTo>
                    <a:lnTo>
                      <a:pt x="2166" y="1119"/>
                    </a:lnTo>
                    <a:lnTo>
                      <a:pt x="1972" y="1090"/>
                    </a:lnTo>
                    <a:lnTo>
                      <a:pt x="1940" y="1079"/>
                    </a:lnTo>
                    <a:lnTo>
                      <a:pt x="1925" y="1072"/>
                    </a:lnTo>
                    <a:lnTo>
                      <a:pt x="1913" y="1057"/>
                    </a:lnTo>
                    <a:lnTo>
                      <a:pt x="1896" y="1037"/>
                    </a:lnTo>
                    <a:lnTo>
                      <a:pt x="1903" y="1012"/>
                    </a:lnTo>
                    <a:lnTo>
                      <a:pt x="1926" y="988"/>
                    </a:lnTo>
                    <a:lnTo>
                      <a:pt x="1961" y="974"/>
                    </a:lnTo>
                    <a:lnTo>
                      <a:pt x="2020" y="960"/>
                    </a:lnTo>
                    <a:lnTo>
                      <a:pt x="2077" y="948"/>
                    </a:lnTo>
                    <a:lnTo>
                      <a:pt x="2097" y="943"/>
                    </a:lnTo>
                    <a:lnTo>
                      <a:pt x="2158" y="938"/>
                    </a:lnTo>
                    <a:lnTo>
                      <a:pt x="2197" y="941"/>
                    </a:lnTo>
                    <a:lnTo>
                      <a:pt x="2260" y="948"/>
                    </a:lnTo>
                    <a:lnTo>
                      <a:pt x="2303" y="958"/>
                    </a:lnTo>
                    <a:lnTo>
                      <a:pt x="2286" y="967"/>
                    </a:lnTo>
                    <a:lnTo>
                      <a:pt x="2262" y="978"/>
                    </a:lnTo>
                    <a:lnTo>
                      <a:pt x="2227" y="988"/>
                    </a:lnTo>
                    <a:lnTo>
                      <a:pt x="2214" y="990"/>
                    </a:lnTo>
                    <a:lnTo>
                      <a:pt x="2223" y="995"/>
                    </a:lnTo>
                    <a:lnTo>
                      <a:pt x="2226" y="1005"/>
                    </a:lnTo>
                    <a:lnTo>
                      <a:pt x="2235" y="1023"/>
                    </a:lnTo>
                    <a:lnTo>
                      <a:pt x="2231" y="1045"/>
                    </a:lnTo>
                    <a:lnTo>
                      <a:pt x="2273" y="1057"/>
                    </a:lnTo>
                    <a:lnTo>
                      <a:pt x="2334" y="1068"/>
                    </a:lnTo>
                    <a:lnTo>
                      <a:pt x="2470" y="1083"/>
                    </a:lnTo>
                    <a:lnTo>
                      <a:pt x="2576" y="1099"/>
                    </a:lnTo>
                    <a:lnTo>
                      <a:pt x="2609" y="1107"/>
                    </a:lnTo>
                    <a:lnTo>
                      <a:pt x="2617" y="1114"/>
                    </a:lnTo>
                    <a:lnTo>
                      <a:pt x="2582" y="1139"/>
                    </a:lnTo>
                    <a:lnTo>
                      <a:pt x="2496" y="1172"/>
                    </a:lnTo>
                    <a:lnTo>
                      <a:pt x="2375" y="1210"/>
                    </a:lnTo>
                    <a:lnTo>
                      <a:pt x="2217" y="1251"/>
                    </a:lnTo>
                    <a:lnTo>
                      <a:pt x="2121" y="1281"/>
                    </a:lnTo>
                    <a:lnTo>
                      <a:pt x="2039" y="1321"/>
                    </a:lnTo>
                    <a:lnTo>
                      <a:pt x="1934" y="1366"/>
                    </a:lnTo>
                    <a:lnTo>
                      <a:pt x="1793" y="1407"/>
                    </a:lnTo>
                    <a:lnTo>
                      <a:pt x="1716" y="1426"/>
                    </a:lnTo>
                    <a:lnTo>
                      <a:pt x="1631" y="1438"/>
                    </a:lnTo>
                    <a:lnTo>
                      <a:pt x="1476" y="1452"/>
                    </a:lnTo>
                    <a:lnTo>
                      <a:pt x="1407" y="1458"/>
                    </a:lnTo>
                    <a:lnTo>
                      <a:pt x="1356" y="1460"/>
                    </a:lnTo>
                    <a:lnTo>
                      <a:pt x="1325" y="1463"/>
                    </a:lnTo>
                    <a:lnTo>
                      <a:pt x="1314" y="1467"/>
                    </a:lnTo>
                    <a:lnTo>
                      <a:pt x="1326" y="1480"/>
                    </a:lnTo>
                    <a:lnTo>
                      <a:pt x="1341" y="1485"/>
                    </a:lnTo>
                    <a:lnTo>
                      <a:pt x="1367" y="1490"/>
                    </a:lnTo>
                    <a:lnTo>
                      <a:pt x="1401" y="1503"/>
                    </a:lnTo>
                    <a:lnTo>
                      <a:pt x="1436" y="1520"/>
                    </a:lnTo>
                    <a:lnTo>
                      <a:pt x="1478" y="1532"/>
                    </a:lnTo>
                    <a:lnTo>
                      <a:pt x="1502" y="1542"/>
                    </a:lnTo>
                    <a:lnTo>
                      <a:pt x="1523" y="1557"/>
                    </a:lnTo>
                    <a:lnTo>
                      <a:pt x="1522" y="1572"/>
                    </a:lnTo>
                    <a:lnTo>
                      <a:pt x="1517" y="1580"/>
                    </a:lnTo>
                    <a:lnTo>
                      <a:pt x="1505" y="1587"/>
                    </a:lnTo>
                    <a:lnTo>
                      <a:pt x="1497" y="1600"/>
                    </a:lnTo>
                    <a:lnTo>
                      <a:pt x="1498" y="1612"/>
                    </a:lnTo>
                    <a:lnTo>
                      <a:pt x="1522" y="1622"/>
                    </a:lnTo>
                    <a:lnTo>
                      <a:pt x="1529" y="1629"/>
                    </a:lnTo>
                    <a:lnTo>
                      <a:pt x="1523" y="1639"/>
                    </a:lnTo>
                    <a:lnTo>
                      <a:pt x="1494" y="1654"/>
                    </a:lnTo>
                    <a:lnTo>
                      <a:pt x="1459" y="1679"/>
                    </a:lnTo>
                    <a:lnTo>
                      <a:pt x="1403" y="1694"/>
                    </a:lnTo>
                    <a:lnTo>
                      <a:pt x="1325" y="1709"/>
                    </a:lnTo>
                    <a:lnTo>
                      <a:pt x="1272" y="1721"/>
                    </a:lnTo>
                    <a:lnTo>
                      <a:pt x="1189" y="1729"/>
                    </a:lnTo>
                    <a:lnTo>
                      <a:pt x="1087" y="1739"/>
                    </a:lnTo>
                    <a:lnTo>
                      <a:pt x="985" y="1743"/>
                    </a:lnTo>
                    <a:lnTo>
                      <a:pt x="869" y="1743"/>
                    </a:lnTo>
                    <a:lnTo>
                      <a:pt x="803" y="1741"/>
                    </a:lnTo>
                    <a:lnTo>
                      <a:pt x="738" y="1739"/>
                    </a:lnTo>
                    <a:lnTo>
                      <a:pt x="693" y="1732"/>
                    </a:lnTo>
                    <a:lnTo>
                      <a:pt x="662" y="1721"/>
                    </a:lnTo>
                    <a:lnTo>
                      <a:pt x="630" y="1707"/>
                    </a:lnTo>
                    <a:lnTo>
                      <a:pt x="626" y="1698"/>
                    </a:lnTo>
                    <a:lnTo>
                      <a:pt x="630" y="1691"/>
                    </a:lnTo>
                    <a:lnTo>
                      <a:pt x="642" y="1687"/>
                    </a:lnTo>
                    <a:lnTo>
                      <a:pt x="655" y="16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3786480" y="4510080"/>
                <a:ext cx="1990080" cy="594720"/>
              </a:xfrm>
              <a:custGeom>
                <a:avLst/>
                <a:gdLst/>
                <a:ahLst/>
                <a:rect l="l" t="t" r="r" b="b"/>
                <a:pathLst>
                  <a:path w="5180" h="1679">
                    <a:moveTo>
                      <a:pt x="710" y="1599"/>
                    </a:moveTo>
                    <a:lnTo>
                      <a:pt x="742" y="1548"/>
                    </a:lnTo>
                    <a:lnTo>
                      <a:pt x="782" y="1527"/>
                    </a:lnTo>
                    <a:lnTo>
                      <a:pt x="759" y="1488"/>
                    </a:lnTo>
                    <a:lnTo>
                      <a:pt x="849" y="1483"/>
                    </a:lnTo>
                    <a:lnTo>
                      <a:pt x="877" y="1466"/>
                    </a:lnTo>
                    <a:lnTo>
                      <a:pt x="935" y="1466"/>
                    </a:lnTo>
                    <a:lnTo>
                      <a:pt x="914" y="1452"/>
                    </a:lnTo>
                    <a:lnTo>
                      <a:pt x="969" y="1441"/>
                    </a:lnTo>
                    <a:lnTo>
                      <a:pt x="1001" y="1423"/>
                    </a:lnTo>
                    <a:lnTo>
                      <a:pt x="1096" y="1423"/>
                    </a:lnTo>
                    <a:lnTo>
                      <a:pt x="1127" y="1406"/>
                    </a:lnTo>
                    <a:lnTo>
                      <a:pt x="1115" y="1406"/>
                    </a:lnTo>
                    <a:lnTo>
                      <a:pt x="1087" y="1404"/>
                    </a:lnTo>
                    <a:lnTo>
                      <a:pt x="907" y="1383"/>
                    </a:lnTo>
                    <a:lnTo>
                      <a:pt x="883" y="1375"/>
                    </a:lnTo>
                    <a:lnTo>
                      <a:pt x="868" y="1368"/>
                    </a:lnTo>
                    <a:lnTo>
                      <a:pt x="861" y="1344"/>
                    </a:lnTo>
                    <a:lnTo>
                      <a:pt x="874" y="1308"/>
                    </a:lnTo>
                    <a:lnTo>
                      <a:pt x="895" y="1224"/>
                    </a:lnTo>
                    <a:lnTo>
                      <a:pt x="899" y="1182"/>
                    </a:lnTo>
                    <a:lnTo>
                      <a:pt x="912" y="1146"/>
                    </a:lnTo>
                    <a:lnTo>
                      <a:pt x="916" y="1124"/>
                    </a:lnTo>
                    <a:lnTo>
                      <a:pt x="921" y="1115"/>
                    </a:lnTo>
                    <a:lnTo>
                      <a:pt x="912" y="1113"/>
                    </a:lnTo>
                    <a:lnTo>
                      <a:pt x="905" y="1107"/>
                    </a:lnTo>
                    <a:lnTo>
                      <a:pt x="849" y="1090"/>
                    </a:lnTo>
                    <a:lnTo>
                      <a:pt x="766" y="1064"/>
                    </a:lnTo>
                    <a:lnTo>
                      <a:pt x="661" y="1030"/>
                    </a:lnTo>
                    <a:lnTo>
                      <a:pt x="443" y="971"/>
                    </a:lnTo>
                    <a:lnTo>
                      <a:pt x="393" y="957"/>
                    </a:lnTo>
                    <a:lnTo>
                      <a:pt x="361" y="948"/>
                    </a:lnTo>
                    <a:lnTo>
                      <a:pt x="335" y="943"/>
                    </a:lnTo>
                    <a:lnTo>
                      <a:pt x="328" y="940"/>
                    </a:lnTo>
                    <a:lnTo>
                      <a:pt x="121" y="928"/>
                    </a:lnTo>
                    <a:lnTo>
                      <a:pt x="30" y="886"/>
                    </a:lnTo>
                    <a:lnTo>
                      <a:pt x="23" y="881"/>
                    </a:lnTo>
                    <a:lnTo>
                      <a:pt x="0" y="870"/>
                    </a:lnTo>
                    <a:lnTo>
                      <a:pt x="8" y="858"/>
                    </a:lnTo>
                    <a:lnTo>
                      <a:pt x="18" y="855"/>
                    </a:lnTo>
                    <a:lnTo>
                      <a:pt x="49" y="853"/>
                    </a:lnTo>
                    <a:lnTo>
                      <a:pt x="137" y="851"/>
                    </a:lnTo>
                    <a:lnTo>
                      <a:pt x="251" y="853"/>
                    </a:lnTo>
                    <a:lnTo>
                      <a:pt x="355" y="861"/>
                    </a:lnTo>
                    <a:lnTo>
                      <a:pt x="432" y="877"/>
                    </a:lnTo>
                    <a:lnTo>
                      <a:pt x="495" y="904"/>
                    </a:lnTo>
                    <a:lnTo>
                      <a:pt x="525" y="915"/>
                    </a:lnTo>
                    <a:lnTo>
                      <a:pt x="532" y="920"/>
                    </a:lnTo>
                    <a:lnTo>
                      <a:pt x="543" y="920"/>
                    </a:lnTo>
                    <a:lnTo>
                      <a:pt x="559" y="923"/>
                    </a:lnTo>
                    <a:lnTo>
                      <a:pt x="610" y="933"/>
                    </a:lnTo>
                    <a:lnTo>
                      <a:pt x="701" y="948"/>
                    </a:lnTo>
                    <a:lnTo>
                      <a:pt x="806" y="968"/>
                    </a:lnTo>
                    <a:lnTo>
                      <a:pt x="1028" y="1012"/>
                    </a:lnTo>
                    <a:lnTo>
                      <a:pt x="1121" y="1038"/>
                    </a:lnTo>
                    <a:lnTo>
                      <a:pt x="1194" y="1060"/>
                    </a:lnTo>
                    <a:lnTo>
                      <a:pt x="1211" y="1068"/>
                    </a:lnTo>
                    <a:lnTo>
                      <a:pt x="1212" y="1079"/>
                    </a:lnTo>
                    <a:lnTo>
                      <a:pt x="1224" y="1107"/>
                    </a:lnTo>
                    <a:lnTo>
                      <a:pt x="1229" y="1135"/>
                    </a:lnTo>
                    <a:lnTo>
                      <a:pt x="1232" y="1144"/>
                    </a:lnTo>
                    <a:lnTo>
                      <a:pt x="1231" y="1146"/>
                    </a:lnTo>
                    <a:lnTo>
                      <a:pt x="1241" y="1142"/>
                    </a:lnTo>
                    <a:lnTo>
                      <a:pt x="1278" y="1130"/>
                    </a:lnTo>
                    <a:lnTo>
                      <a:pt x="1318" y="1113"/>
                    </a:lnTo>
                    <a:lnTo>
                      <a:pt x="1380" y="1090"/>
                    </a:lnTo>
                    <a:lnTo>
                      <a:pt x="1473" y="1045"/>
                    </a:lnTo>
                    <a:lnTo>
                      <a:pt x="1513" y="1028"/>
                    </a:lnTo>
                    <a:lnTo>
                      <a:pt x="1533" y="1012"/>
                    </a:lnTo>
                    <a:lnTo>
                      <a:pt x="1575" y="955"/>
                    </a:lnTo>
                    <a:lnTo>
                      <a:pt x="1644" y="904"/>
                    </a:lnTo>
                    <a:lnTo>
                      <a:pt x="1676" y="883"/>
                    </a:lnTo>
                    <a:lnTo>
                      <a:pt x="1694" y="868"/>
                    </a:lnTo>
                    <a:lnTo>
                      <a:pt x="1722" y="855"/>
                    </a:lnTo>
                    <a:lnTo>
                      <a:pt x="1723" y="853"/>
                    </a:lnTo>
                    <a:lnTo>
                      <a:pt x="1704" y="851"/>
                    </a:lnTo>
                    <a:lnTo>
                      <a:pt x="1674" y="839"/>
                    </a:lnTo>
                    <a:lnTo>
                      <a:pt x="1625" y="824"/>
                    </a:lnTo>
                    <a:lnTo>
                      <a:pt x="1559" y="801"/>
                    </a:lnTo>
                    <a:lnTo>
                      <a:pt x="1415" y="751"/>
                    </a:lnTo>
                    <a:lnTo>
                      <a:pt x="1276" y="691"/>
                    </a:lnTo>
                    <a:lnTo>
                      <a:pt x="1216" y="664"/>
                    </a:lnTo>
                    <a:lnTo>
                      <a:pt x="1180" y="642"/>
                    </a:lnTo>
                    <a:lnTo>
                      <a:pt x="1124" y="605"/>
                    </a:lnTo>
                    <a:lnTo>
                      <a:pt x="1087" y="570"/>
                    </a:lnTo>
                    <a:lnTo>
                      <a:pt x="1068" y="553"/>
                    </a:lnTo>
                    <a:lnTo>
                      <a:pt x="1041" y="535"/>
                    </a:lnTo>
                    <a:lnTo>
                      <a:pt x="1038" y="525"/>
                    </a:lnTo>
                    <a:lnTo>
                      <a:pt x="1054" y="512"/>
                    </a:lnTo>
                    <a:lnTo>
                      <a:pt x="1085" y="495"/>
                    </a:lnTo>
                    <a:lnTo>
                      <a:pt x="1127" y="473"/>
                    </a:lnTo>
                    <a:lnTo>
                      <a:pt x="1182" y="442"/>
                    </a:lnTo>
                    <a:lnTo>
                      <a:pt x="1233" y="406"/>
                    </a:lnTo>
                    <a:lnTo>
                      <a:pt x="1281" y="358"/>
                    </a:lnTo>
                    <a:lnTo>
                      <a:pt x="1324" y="301"/>
                    </a:lnTo>
                    <a:lnTo>
                      <a:pt x="1344" y="266"/>
                    </a:lnTo>
                    <a:lnTo>
                      <a:pt x="1354" y="237"/>
                    </a:lnTo>
                    <a:lnTo>
                      <a:pt x="1360" y="191"/>
                    </a:lnTo>
                    <a:lnTo>
                      <a:pt x="1341" y="159"/>
                    </a:lnTo>
                    <a:lnTo>
                      <a:pt x="1310" y="129"/>
                    </a:lnTo>
                    <a:lnTo>
                      <a:pt x="1286" y="120"/>
                    </a:lnTo>
                    <a:lnTo>
                      <a:pt x="1232" y="113"/>
                    </a:lnTo>
                    <a:lnTo>
                      <a:pt x="1085" y="102"/>
                    </a:lnTo>
                    <a:lnTo>
                      <a:pt x="944" y="95"/>
                    </a:lnTo>
                    <a:lnTo>
                      <a:pt x="904" y="93"/>
                    </a:lnTo>
                    <a:lnTo>
                      <a:pt x="887" y="93"/>
                    </a:lnTo>
                    <a:lnTo>
                      <a:pt x="759" y="93"/>
                    </a:lnTo>
                    <a:lnTo>
                      <a:pt x="716" y="87"/>
                    </a:lnTo>
                    <a:lnTo>
                      <a:pt x="706" y="84"/>
                    </a:lnTo>
                    <a:lnTo>
                      <a:pt x="721" y="79"/>
                    </a:lnTo>
                    <a:lnTo>
                      <a:pt x="766" y="67"/>
                    </a:lnTo>
                    <a:lnTo>
                      <a:pt x="853" y="53"/>
                    </a:lnTo>
                    <a:lnTo>
                      <a:pt x="947" y="40"/>
                    </a:lnTo>
                    <a:lnTo>
                      <a:pt x="988" y="35"/>
                    </a:lnTo>
                    <a:lnTo>
                      <a:pt x="1026" y="35"/>
                    </a:lnTo>
                    <a:lnTo>
                      <a:pt x="1082" y="38"/>
                    </a:lnTo>
                    <a:lnTo>
                      <a:pt x="1149" y="42"/>
                    </a:lnTo>
                    <a:lnTo>
                      <a:pt x="1194" y="45"/>
                    </a:lnTo>
                    <a:lnTo>
                      <a:pt x="1254" y="42"/>
                    </a:lnTo>
                    <a:lnTo>
                      <a:pt x="1314" y="38"/>
                    </a:lnTo>
                    <a:lnTo>
                      <a:pt x="1368" y="31"/>
                    </a:lnTo>
                    <a:lnTo>
                      <a:pt x="1423" y="20"/>
                    </a:lnTo>
                    <a:lnTo>
                      <a:pt x="1467" y="10"/>
                    </a:lnTo>
                    <a:lnTo>
                      <a:pt x="1559" y="0"/>
                    </a:lnTo>
                    <a:lnTo>
                      <a:pt x="1597" y="0"/>
                    </a:lnTo>
                    <a:lnTo>
                      <a:pt x="1634" y="7"/>
                    </a:lnTo>
                    <a:lnTo>
                      <a:pt x="1664" y="20"/>
                    </a:lnTo>
                    <a:lnTo>
                      <a:pt x="1677" y="33"/>
                    </a:lnTo>
                    <a:lnTo>
                      <a:pt x="1667" y="64"/>
                    </a:lnTo>
                    <a:lnTo>
                      <a:pt x="1640" y="109"/>
                    </a:lnTo>
                    <a:lnTo>
                      <a:pt x="1634" y="135"/>
                    </a:lnTo>
                    <a:lnTo>
                      <a:pt x="1635" y="167"/>
                    </a:lnTo>
                    <a:lnTo>
                      <a:pt x="1637" y="199"/>
                    </a:lnTo>
                    <a:lnTo>
                      <a:pt x="1638" y="226"/>
                    </a:lnTo>
                    <a:lnTo>
                      <a:pt x="1652" y="271"/>
                    </a:lnTo>
                    <a:lnTo>
                      <a:pt x="1655" y="316"/>
                    </a:lnTo>
                    <a:lnTo>
                      <a:pt x="1657" y="341"/>
                    </a:lnTo>
                    <a:lnTo>
                      <a:pt x="1652" y="370"/>
                    </a:lnTo>
                    <a:lnTo>
                      <a:pt x="1634" y="430"/>
                    </a:lnTo>
                    <a:lnTo>
                      <a:pt x="1607" y="475"/>
                    </a:lnTo>
                    <a:lnTo>
                      <a:pt x="1590" y="490"/>
                    </a:lnTo>
                    <a:lnTo>
                      <a:pt x="1583" y="502"/>
                    </a:lnTo>
                    <a:lnTo>
                      <a:pt x="1569" y="510"/>
                    </a:lnTo>
                    <a:lnTo>
                      <a:pt x="1568" y="512"/>
                    </a:lnTo>
                    <a:lnTo>
                      <a:pt x="2143" y="697"/>
                    </a:lnTo>
                    <a:lnTo>
                      <a:pt x="2145" y="695"/>
                    </a:lnTo>
                    <a:lnTo>
                      <a:pt x="2169" y="687"/>
                    </a:lnTo>
                    <a:lnTo>
                      <a:pt x="2196" y="677"/>
                    </a:lnTo>
                    <a:lnTo>
                      <a:pt x="2243" y="661"/>
                    </a:lnTo>
                    <a:lnTo>
                      <a:pt x="2290" y="644"/>
                    </a:lnTo>
                    <a:lnTo>
                      <a:pt x="2362" y="622"/>
                    </a:lnTo>
                    <a:lnTo>
                      <a:pt x="2534" y="577"/>
                    </a:lnTo>
                    <a:lnTo>
                      <a:pt x="2625" y="555"/>
                    </a:lnTo>
                    <a:lnTo>
                      <a:pt x="2705" y="533"/>
                    </a:lnTo>
                    <a:lnTo>
                      <a:pt x="2863" y="495"/>
                    </a:lnTo>
                    <a:lnTo>
                      <a:pt x="3006" y="466"/>
                    </a:lnTo>
                    <a:lnTo>
                      <a:pt x="3167" y="437"/>
                    </a:lnTo>
                    <a:lnTo>
                      <a:pt x="3228" y="433"/>
                    </a:lnTo>
                    <a:lnTo>
                      <a:pt x="3297" y="433"/>
                    </a:lnTo>
                    <a:lnTo>
                      <a:pt x="3391" y="437"/>
                    </a:lnTo>
                    <a:lnTo>
                      <a:pt x="3502" y="445"/>
                    </a:lnTo>
                    <a:lnTo>
                      <a:pt x="3665" y="450"/>
                    </a:lnTo>
                    <a:lnTo>
                      <a:pt x="3767" y="453"/>
                    </a:lnTo>
                    <a:lnTo>
                      <a:pt x="3884" y="453"/>
                    </a:lnTo>
                    <a:lnTo>
                      <a:pt x="4030" y="450"/>
                    </a:lnTo>
                    <a:lnTo>
                      <a:pt x="4191" y="445"/>
                    </a:lnTo>
                    <a:lnTo>
                      <a:pt x="4369" y="437"/>
                    </a:lnTo>
                    <a:lnTo>
                      <a:pt x="4578" y="428"/>
                    </a:lnTo>
                    <a:lnTo>
                      <a:pt x="4670" y="418"/>
                    </a:lnTo>
                    <a:lnTo>
                      <a:pt x="4748" y="400"/>
                    </a:lnTo>
                    <a:lnTo>
                      <a:pt x="4889" y="358"/>
                    </a:lnTo>
                    <a:lnTo>
                      <a:pt x="4949" y="341"/>
                    </a:lnTo>
                    <a:lnTo>
                      <a:pt x="4995" y="326"/>
                    </a:lnTo>
                    <a:lnTo>
                      <a:pt x="5021" y="316"/>
                    </a:lnTo>
                    <a:lnTo>
                      <a:pt x="5031" y="313"/>
                    </a:lnTo>
                    <a:lnTo>
                      <a:pt x="5033" y="311"/>
                    </a:lnTo>
                    <a:lnTo>
                      <a:pt x="5046" y="304"/>
                    </a:lnTo>
                    <a:lnTo>
                      <a:pt x="5069" y="284"/>
                    </a:lnTo>
                    <a:lnTo>
                      <a:pt x="5110" y="264"/>
                    </a:lnTo>
                    <a:lnTo>
                      <a:pt x="5123" y="256"/>
                    </a:lnTo>
                    <a:lnTo>
                      <a:pt x="5131" y="256"/>
                    </a:lnTo>
                    <a:lnTo>
                      <a:pt x="5154" y="266"/>
                    </a:lnTo>
                    <a:lnTo>
                      <a:pt x="5173" y="284"/>
                    </a:lnTo>
                    <a:lnTo>
                      <a:pt x="5180" y="309"/>
                    </a:lnTo>
                    <a:lnTo>
                      <a:pt x="5173" y="333"/>
                    </a:lnTo>
                    <a:lnTo>
                      <a:pt x="5143" y="355"/>
                    </a:lnTo>
                    <a:lnTo>
                      <a:pt x="5106" y="368"/>
                    </a:lnTo>
                    <a:lnTo>
                      <a:pt x="5068" y="384"/>
                    </a:lnTo>
                    <a:lnTo>
                      <a:pt x="5026" y="406"/>
                    </a:lnTo>
                    <a:lnTo>
                      <a:pt x="4989" y="435"/>
                    </a:lnTo>
                    <a:lnTo>
                      <a:pt x="4982" y="460"/>
                    </a:lnTo>
                    <a:lnTo>
                      <a:pt x="4960" y="482"/>
                    </a:lnTo>
                    <a:lnTo>
                      <a:pt x="4934" y="493"/>
                    </a:lnTo>
                    <a:lnTo>
                      <a:pt x="4890" y="502"/>
                    </a:lnTo>
                    <a:lnTo>
                      <a:pt x="4848" y="510"/>
                    </a:lnTo>
                    <a:lnTo>
                      <a:pt x="4806" y="512"/>
                    </a:lnTo>
                    <a:lnTo>
                      <a:pt x="4741" y="510"/>
                    </a:lnTo>
                    <a:lnTo>
                      <a:pt x="4637" y="504"/>
                    </a:lnTo>
                    <a:lnTo>
                      <a:pt x="4570" y="504"/>
                    </a:lnTo>
                    <a:lnTo>
                      <a:pt x="4472" y="508"/>
                    </a:lnTo>
                    <a:lnTo>
                      <a:pt x="4269" y="522"/>
                    </a:lnTo>
                    <a:lnTo>
                      <a:pt x="4094" y="540"/>
                    </a:lnTo>
                    <a:lnTo>
                      <a:pt x="3909" y="557"/>
                    </a:lnTo>
                    <a:lnTo>
                      <a:pt x="3710" y="570"/>
                    </a:lnTo>
                    <a:lnTo>
                      <a:pt x="3599" y="575"/>
                    </a:lnTo>
                    <a:lnTo>
                      <a:pt x="3425" y="575"/>
                    </a:lnTo>
                    <a:lnTo>
                      <a:pt x="3360" y="572"/>
                    </a:lnTo>
                    <a:lnTo>
                      <a:pt x="3278" y="564"/>
                    </a:lnTo>
                    <a:lnTo>
                      <a:pt x="3259" y="562"/>
                    </a:lnTo>
                    <a:lnTo>
                      <a:pt x="3250" y="562"/>
                    </a:lnTo>
                    <a:lnTo>
                      <a:pt x="3237" y="564"/>
                    </a:lnTo>
                    <a:lnTo>
                      <a:pt x="3212" y="577"/>
                    </a:lnTo>
                    <a:lnTo>
                      <a:pt x="3174" y="592"/>
                    </a:lnTo>
                    <a:lnTo>
                      <a:pt x="3115" y="609"/>
                    </a:lnTo>
                    <a:lnTo>
                      <a:pt x="2856" y="704"/>
                    </a:lnTo>
                    <a:lnTo>
                      <a:pt x="2735" y="746"/>
                    </a:lnTo>
                    <a:lnTo>
                      <a:pt x="2638" y="779"/>
                    </a:lnTo>
                    <a:lnTo>
                      <a:pt x="2601" y="791"/>
                    </a:lnTo>
                    <a:lnTo>
                      <a:pt x="2567" y="799"/>
                    </a:lnTo>
                    <a:lnTo>
                      <a:pt x="2557" y="803"/>
                    </a:lnTo>
                    <a:lnTo>
                      <a:pt x="2543" y="806"/>
                    </a:lnTo>
                    <a:lnTo>
                      <a:pt x="2542" y="808"/>
                    </a:lnTo>
                    <a:lnTo>
                      <a:pt x="2559" y="813"/>
                    </a:lnTo>
                    <a:lnTo>
                      <a:pt x="2577" y="833"/>
                    </a:lnTo>
                    <a:lnTo>
                      <a:pt x="2577" y="848"/>
                    </a:lnTo>
                    <a:lnTo>
                      <a:pt x="2566" y="866"/>
                    </a:lnTo>
                    <a:lnTo>
                      <a:pt x="2544" y="888"/>
                    </a:lnTo>
                    <a:lnTo>
                      <a:pt x="2511" y="911"/>
                    </a:lnTo>
                    <a:lnTo>
                      <a:pt x="2458" y="935"/>
                    </a:lnTo>
                    <a:lnTo>
                      <a:pt x="2387" y="957"/>
                    </a:lnTo>
                    <a:lnTo>
                      <a:pt x="2224" y="1002"/>
                    </a:lnTo>
                    <a:lnTo>
                      <a:pt x="2154" y="1022"/>
                    </a:lnTo>
                    <a:lnTo>
                      <a:pt x="2097" y="1040"/>
                    </a:lnTo>
                    <a:lnTo>
                      <a:pt x="2059" y="1055"/>
                    </a:lnTo>
                    <a:lnTo>
                      <a:pt x="2040" y="1068"/>
                    </a:lnTo>
                    <a:lnTo>
                      <a:pt x="2051" y="1197"/>
                    </a:lnTo>
                    <a:lnTo>
                      <a:pt x="2057" y="1221"/>
                    </a:lnTo>
                    <a:lnTo>
                      <a:pt x="2064" y="1244"/>
                    </a:lnTo>
                    <a:lnTo>
                      <a:pt x="2065" y="1257"/>
                    </a:lnTo>
                    <a:lnTo>
                      <a:pt x="2062" y="1262"/>
                    </a:lnTo>
                    <a:lnTo>
                      <a:pt x="2073" y="1259"/>
                    </a:lnTo>
                    <a:lnTo>
                      <a:pt x="2106" y="1251"/>
                    </a:lnTo>
                    <a:lnTo>
                      <a:pt x="2161" y="1241"/>
                    </a:lnTo>
                    <a:lnTo>
                      <a:pt x="2237" y="1226"/>
                    </a:lnTo>
                    <a:lnTo>
                      <a:pt x="2334" y="1209"/>
                    </a:lnTo>
                    <a:lnTo>
                      <a:pt x="2446" y="1187"/>
                    </a:lnTo>
                    <a:lnTo>
                      <a:pt x="2574" y="1166"/>
                    </a:lnTo>
                    <a:lnTo>
                      <a:pt x="2722" y="1142"/>
                    </a:lnTo>
                    <a:lnTo>
                      <a:pt x="2818" y="1113"/>
                    </a:lnTo>
                    <a:lnTo>
                      <a:pt x="2922" y="1082"/>
                    </a:lnTo>
                    <a:lnTo>
                      <a:pt x="3096" y="1035"/>
                    </a:lnTo>
                    <a:lnTo>
                      <a:pt x="3244" y="995"/>
                    </a:lnTo>
                    <a:lnTo>
                      <a:pt x="3366" y="955"/>
                    </a:lnTo>
                    <a:lnTo>
                      <a:pt x="3387" y="948"/>
                    </a:lnTo>
                    <a:lnTo>
                      <a:pt x="3401" y="945"/>
                    </a:lnTo>
                    <a:lnTo>
                      <a:pt x="3430" y="945"/>
                    </a:lnTo>
                    <a:lnTo>
                      <a:pt x="3464" y="953"/>
                    </a:lnTo>
                    <a:lnTo>
                      <a:pt x="3502" y="953"/>
                    </a:lnTo>
                    <a:lnTo>
                      <a:pt x="3553" y="948"/>
                    </a:lnTo>
                    <a:lnTo>
                      <a:pt x="3586" y="943"/>
                    </a:lnTo>
                    <a:lnTo>
                      <a:pt x="3655" y="937"/>
                    </a:lnTo>
                    <a:lnTo>
                      <a:pt x="3673" y="943"/>
                    </a:lnTo>
                    <a:lnTo>
                      <a:pt x="3677" y="950"/>
                    </a:lnTo>
                    <a:lnTo>
                      <a:pt x="3664" y="957"/>
                    </a:lnTo>
                    <a:lnTo>
                      <a:pt x="3662" y="960"/>
                    </a:lnTo>
                    <a:lnTo>
                      <a:pt x="3611" y="982"/>
                    </a:lnTo>
                    <a:lnTo>
                      <a:pt x="3596" y="1008"/>
                    </a:lnTo>
                    <a:lnTo>
                      <a:pt x="3582" y="1012"/>
                    </a:lnTo>
                    <a:lnTo>
                      <a:pt x="3557" y="1024"/>
                    </a:lnTo>
                    <a:lnTo>
                      <a:pt x="3521" y="1038"/>
                    </a:lnTo>
                    <a:lnTo>
                      <a:pt x="3468" y="1042"/>
                    </a:lnTo>
                    <a:lnTo>
                      <a:pt x="3351" y="1045"/>
                    </a:lnTo>
                    <a:lnTo>
                      <a:pt x="3311" y="1050"/>
                    </a:lnTo>
                    <a:lnTo>
                      <a:pt x="3290" y="1050"/>
                    </a:lnTo>
                    <a:lnTo>
                      <a:pt x="3279" y="1053"/>
                    </a:lnTo>
                    <a:lnTo>
                      <a:pt x="3254" y="1062"/>
                    </a:lnTo>
                    <a:lnTo>
                      <a:pt x="3217" y="1075"/>
                    </a:lnTo>
                    <a:lnTo>
                      <a:pt x="3169" y="1092"/>
                    </a:lnTo>
                    <a:lnTo>
                      <a:pt x="3098" y="1115"/>
                    </a:lnTo>
                    <a:lnTo>
                      <a:pt x="3005" y="1139"/>
                    </a:lnTo>
                    <a:lnTo>
                      <a:pt x="2901" y="1166"/>
                    </a:lnTo>
                    <a:lnTo>
                      <a:pt x="2776" y="1197"/>
                    </a:lnTo>
                    <a:lnTo>
                      <a:pt x="2204" y="1331"/>
                    </a:lnTo>
                    <a:lnTo>
                      <a:pt x="2092" y="1359"/>
                    </a:lnTo>
                    <a:lnTo>
                      <a:pt x="1992" y="1381"/>
                    </a:lnTo>
                    <a:lnTo>
                      <a:pt x="1925" y="1395"/>
                    </a:lnTo>
                    <a:lnTo>
                      <a:pt x="1902" y="1401"/>
                    </a:lnTo>
                    <a:lnTo>
                      <a:pt x="1922" y="1401"/>
                    </a:lnTo>
                    <a:lnTo>
                      <a:pt x="1958" y="1404"/>
                    </a:lnTo>
                    <a:lnTo>
                      <a:pt x="2005" y="1408"/>
                    </a:lnTo>
                    <a:lnTo>
                      <a:pt x="2010" y="1413"/>
                    </a:lnTo>
                    <a:lnTo>
                      <a:pt x="1968" y="1421"/>
                    </a:lnTo>
                    <a:lnTo>
                      <a:pt x="1843" y="1435"/>
                    </a:lnTo>
                    <a:lnTo>
                      <a:pt x="1822" y="1437"/>
                    </a:lnTo>
                    <a:lnTo>
                      <a:pt x="1937" y="1437"/>
                    </a:lnTo>
                    <a:lnTo>
                      <a:pt x="1979" y="1435"/>
                    </a:lnTo>
                    <a:lnTo>
                      <a:pt x="2031" y="1428"/>
                    </a:lnTo>
                    <a:lnTo>
                      <a:pt x="2025" y="1437"/>
                    </a:lnTo>
                    <a:lnTo>
                      <a:pt x="1991" y="1445"/>
                    </a:lnTo>
                    <a:lnTo>
                      <a:pt x="1956" y="1455"/>
                    </a:lnTo>
                    <a:lnTo>
                      <a:pt x="1937" y="1457"/>
                    </a:lnTo>
                    <a:lnTo>
                      <a:pt x="1946" y="1457"/>
                    </a:lnTo>
                    <a:lnTo>
                      <a:pt x="1968" y="1455"/>
                    </a:lnTo>
                    <a:lnTo>
                      <a:pt x="2050" y="1445"/>
                    </a:lnTo>
                    <a:lnTo>
                      <a:pt x="2024" y="1460"/>
                    </a:lnTo>
                    <a:lnTo>
                      <a:pt x="1976" y="1470"/>
                    </a:lnTo>
                    <a:lnTo>
                      <a:pt x="1861" y="1490"/>
                    </a:lnTo>
                    <a:lnTo>
                      <a:pt x="1744" y="1505"/>
                    </a:lnTo>
                    <a:lnTo>
                      <a:pt x="1700" y="1515"/>
                    </a:lnTo>
                    <a:lnTo>
                      <a:pt x="1664" y="1527"/>
                    </a:lnTo>
                    <a:lnTo>
                      <a:pt x="1734" y="1522"/>
                    </a:lnTo>
                    <a:lnTo>
                      <a:pt x="1805" y="1515"/>
                    </a:lnTo>
                    <a:lnTo>
                      <a:pt x="1870" y="1503"/>
                    </a:lnTo>
                    <a:lnTo>
                      <a:pt x="1919" y="1490"/>
                    </a:lnTo>
                    <a:lnTo>
                      <a:pt x="1916" y="1493"/>
                    </a:lnTo>
                    <a:lnTo>
                      <a:pt x="1898" y="1505"/>
                    </a:lnTo>
                    <a:lnTo>
                      <a:pt x="1859" y="1522"/>
                    </a:lnTo>
                    <a:lnTo>
                      <a:pt x="1799" y="1546"/>
                    </a:lnTo>
                    <a:lnTo>
                      <a:pt x="1739" y="1562"/>
                    </a:lnTo>
                    <a:lnTo>
                      <a:pt x="1685" y="1570"/>
                    </a:lnTo>
                    <a:lnTo>
                      <a:pt x="1643" y="1577"/>
                    </a:lnTo>
                    <a:lnTo>
                      <a:pt x="1611" y="1582"/>
                    </a:lnTo>
                    <a:lnTo>
                      <a:pt x="1587" y="1590"/>
                    </a:lnTo>
                    <a:lnTo>
                      <a:pt x="1538" y="1607"/>
                    </a:lnTo>
                    <a:lnTo>
                      <a:pt x="1507" y="1628"/>
                    </a:lnTo>
                    <a:lnTo>
                      <a:pt x="1467" y="1644"/>
                    </a:lnTo>
                    <a:lnTo>
                      <a:pt x="1433" y="1652"/>
                    </a:lnTo>
                    <a:lnTo>
                      <a:pt x="1391" y="1659"/>
                    </a:lnTo>
                    <a:lnTo>
                      <a:pt x="1261" y="1669"/>
                    </a:lnTo>
                    <a:lnTo>
                      <a:pt x="1172" y="1672"/>
                    </a:lnTo>
                    <a:lnTo>
                      <a:pt x="1085" y="1672"/>
                    </a:lnTo>
                    <a:lnTo>
                      <a:pt x="1006" y="1674"/>
                    </a:lnTo>
                    <a:lnTo>
                      <a:pt x="924" y="1679"/>
                    </a:lnTo>
                    <a:lnTo>
                      <a:pt x="866" y="1679"/>
                    </a:lnTo>
                    <a:lnTo>
                      <a:pt x="810" y="1677"/>
                    </a:lnTo>
                    <a:lnTo>
                      <a:pt x="754" y="1672"/>
                    </a:lnTo>
                    <a:lnTo>
                      <a:pt x="700" y="1666"/>
                    </a:lnTo>
                    <a:lnTo>
                      <a:pt x="675" y="1659"/>
                    </a:lnTo>
                    <a:lnTo>
                      <a:pt x="649" y="1639"/>
                    </a:lnTo>
                    <a:lnTo>
                      <a:pt x="647" y="1628"/>
                    </a:lnTo>
                    <a:lnTo>
                      <a:pt x="673" y="1612"/>
                    </a:lnTo>
                    <a:lnTo>
                      <a:pt x="698" y="1604"/>
                    </a:lnTo>
                    <a:lnTo>
                      <a:pt x="710" y="15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3010320" y="1605240"/>
                <a:ext cx="559080" cy="2880"/>
              </a:xfrm>
              <a:custGeom>
                <a:avLst/>
                <a:gdLst/>
                <a:ahLst/>
                <a:rect l="l" t="t" r="r" b="b"/>
                <a:pathLst>
                  <a:path w="1459" h="8">
                    <a:moveTo>
                      <a:pt x="1458" y="8"/>
                    </a:moveTo>
                    <a:lnTo>
                      <a:pt x="1068" y="8"/>
                    </a:lnTo>
                    <a:lnTo>
                      <a:pt x="1065" y="0"/>
                    </a:lnTo>
                    <a:lnTo>
                      <a:pt x="1459" y="0"/>
                    </a:lnTo>
                    <a:lnTo>
                      <a:pt x="1458" y="8"/>
                    </a:lnTo>
                    <a:close/>
                    <a:moveTo>
                      <a:pt x="379" y="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382" y="0"/>
                    </a:lnTo>
                    <a:lnTo>
                      <a:pt x="379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3008520" y="16030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1" h="16">
                    <a:moveTo>
                      <a:pt x="1459" y="16"/>
                    </a:moveTo>
                    <a:lnTo>
                      <a:pt x="1069" y="16"/>
                    </a:lnTo>
                    <a:lnTo>
                      <a:pt x="1062" y="0"/>
                    </a:lnTo>
                    <a:lnTo>
                      <a:pt x="1461" y="0"/>
                    </a:lnTo>
                    <a:lnTo>
                      <a:pt x="1459" y="16"/>
                    </a:lnTo>
                    <a:close/>
                    <a:moveTo>
                      <a:pt x="3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385" y="0"/>
                    </a:lnTo>
                    <a:lnTo>
                      <a:pt x="380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3008520" y="1599480"/>
                <a:ext cx="562680" cy="540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1" y="15"/>
                    </a:moveTo>
                    <a:lnTo>
                      <a:pt x="1067" y="15"/>
                    </a:lnTo>
                    <a:lnTo>
                      <a:pt x="1060" y="0"/>
                    </a:lnTo>
                    <a:lnTo>
                      <a:pt x="1464" y="0"/>
                    </a:lnTo>
                    <a:lnTo>
                      <a:pt x="1461" y="15"/>
                    </a:lnTo>
                    <a:close/>
                    <a:moveTo>
                      <a:pt x="3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84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3008520" y="15980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6" h="14">
                    <a:moveTo>
                      <a:pt x="1463" y="14"/>
                    </a:moveTo>
                    <a:lnTo>
                      <a:pt x="1064" y="14"/>
                    </a:lnTo>
                    <a:lnTo>
                      <a:pt x="1058" y="0"/>
                    </a:lnTo>
                    <a:lnTo>
                      <a:pt x="1466" y="0"/>
                    </a:lnTo>
                    <a:lnTo>
                      <a:pt x="1463" y="14"/>
                    </a:lnTo>
                    <a:close/>
                    <a:moveTo>
                      <a:pt x="3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394" y="0"/>
                    </a:lnTo>
                    <a:lnTo>
                      <a:pt x="38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008520" y="159444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8" h="15">
                    <a:moveTo>
                      <a:pt x="1466" y="15"/>
                    </a:moveTo>
                    <a:lnTo>
                      <a:pt x="1062" y="15"/>
                    </a:lnTo>
                    <a:lnTo>
                      <a:pt x="1056" y="0"/>
                    </a:lnTo>
                    <a:lnTo>
                      <a:pt x="1468" y="0"/>
                    </a:lnTo>
                    <a:lnTo>
                      <a:pt x="1466" y="15"/>
                    </a:lnTo>
                    <a:close/>
                    <a:moveTo>
                      <a:pt x="39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398" y="0"/>
                    </a:lnTo>
                    <a:lnTo>
                      <a:pt x="391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3008520" y="1592640"/>
                <a:ext cx="564480" cy="5040"/>
              </a:xfrm>
              <a:custGeom>
                <a:avLst/>
                <a:gdLst/>
                <a:ahLst/>
                <a:rect l="l" t="t" r="r" b="b"/>
                <a:pathLst>
                  <a:path w="1470" h="16">
                    <a:moveTo>
                      <a:pt x="1468" y="16"/>
                    </a:moveTo>
                    <a:lnTo>
                      <a:pt x="1060" y="16"/>
                    </a:lnTo>
                    <a:lnTo>
                      <a:pt x="1054" y="0"/>
                    </a:lnTo>
                    <a:lnTo>
                      <a:pt x="1470" y="0"/>
                    </a:lnTo>
                    <a:lnTo>
                      <a:pt x="1468" y="16"/>
                    </a:lnTo>
                    <a:close/>
                    <a:moveTo>
                      <a:pt x="3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02" y="0"/>
                    </a:lnTo>
                    <a:lnTo>
                      <a:pt x="39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3006360" y="15890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2" h="15">
                    <a:moveTo>
                      <a:pt x="1470" y="15"/>
                    </a:moveTo>
                    <a:lnTo>
                      <a:pt x="1058" y="15"/>
                    </a:lnTo>
                    <a:lnTo>
                      <a:pt x="1052" y="0"/>
                    </a:lnTo>
                    <a:lnTo>
                      <a:pt x="1472" y="0"/>
                    </a:lnTo>
                    <a:lnTo>
                      <a:pt x="1470" y="15"/>
                    </a:lnTo>
                    <a:close/>
                    <a:moveTo>
                      <a:pt x="4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06" y="0"/>
                    </a:lnTo>
                    <a:lnTo>
                      <a:pt x="400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3006360" y="1586880"/>
                <a:ext cx="566640" cy="5400"/>
              </a:xfrm>
              <a:custGeom>
                <a:avLst/>
                <a:gdLst/>
                <a:ahLst/>
                <a:rect l="l" t="t" r="r" b="b"/>
                <a:pathLst>
                  <a:path w="1474" h="15">
                    <a:moveTo>
                      <a:pt x="1472" y="15"/>
                    </a:moveTo>
                    <a:lnTo>
                      <a:pt x="1056" y="15"/>
                    </a:lnTo>
                    <a:lnTo>
                      <a:pt x="1050" y="0"/>
                    </a:lnTo>
                    <a:lnTo>
                      <a:pt x="1474" y="0"/>
                    </a:lnTo>
                    <a:lnTo>
                      <a:pt x="1472" y="15"/>
                    </a:lnTo>
                    <a:close/>
                    <a:moveTo>
                      <a:pt x="4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0" y="0"/>
                    </a:lnTo>
                    <a:lnTo>
                      <a:pt x="404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3006360" y="158400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6" h="15">
                    <a:moveTo>
                      <a:pt x="1474" y="15"/>
                    </a:moveTo>
                    <a:lnTo>
                      <a:pt x="1054" y="15"/>
                    </a:lnTo>
                    <a:lnTo>
                      <a:pt x="1047" y="0"/>
                    </a:lnTo>
                    <a:lnTo>
                      <a:pt x="1476" y="0"/>
                    </a:lnTo>
                    <a:lnTo>
                      <a:pt x="1474" y="15"/>
                    </a:lnTo>
                    <a:close/>
                    <a:moveTo>
                      <a:pt x="4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408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3006360" y="158184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8" h="14">
                    <a:moveTo>
                      <a:pt x="1476" y="14"/>
                    </a:moveTo>
                    <a:lnTo>
                      <a:pt x="1052" y="14"/>
                    </a:lnTo>
                    <a:lnTo>
                      <a:pt x="1046" y="0"/>
                    </a:lnTo>
                    <a:lnTo>
                      <a:pt x="1478" y="0"/>
                    </a:lnTo>
                    <a:lnTo>
                      <a:pt x="1476" y="14"/>
                    </a:lnTo>
                    <a:close/>
                    <a:moveTo>
                      <a:pt x="41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17" y="0"/>
                    </a:lnTo>
                    <a:lnTo>
                      <a:pt x="412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3004560" y="157824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1" h="16">
                    <a:moveTo>
                      <a:pt x="1479" y="16"/>
                    </a:moveTo>
                    <a:lnTo>
                      <a:pt x="1050" y="16"/>
                    </a:lnTo>
                    <a:lnTo>
                      <a:pt x="1045" y="0"/>
                    </a:lnTo>
                    <a:lnTo>
                      <a:pt x="1481" y="0"/>
                    </a:lnTo>
                    <a:lnTo>
                      <a:pt x="1479" y="16"/>
                    </a:lnTo>
                    <a:close/>
                    <a:moveTo>
                      <a:pt x="416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3" y="0"/>
                    </a:lnTo>
                    <a:lnTo>
                      <a:pt x="416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004560" y="15764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3" h="16">
                    <a:moveTo>
                      <a:pt x="1481" y="16"/>
                    </a:moveTo>
                    <a:lnTo>
                      <a:pt x="1049" y="16"/>
                    </a:lnTo>
                    <a:lnTo>
                      <a:pt x="1043" y="0"/>
                    </a:lnTo>
                    <a:lnTo>
                      <a:pt x="1483" y="0"/>
                    </a:lnTo>
                    <a:lnTo>
                      <a:pt x="1481" y="16"/>
                    </a:lnTo>
                    <a:close/>
                    <a:moveTo>
                      <a:pt x="420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27" y="0"/>
                    </a:lnTo>
                    <a:lnTo>
                      <a:pt x="420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004560" y="157284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5" h="15">
                    <a:moveTo>
                      <a:pt x="1483" y="15"/>
                    </a:moveTo>
                    <a:lnTo>
                      <a:pt x="1047" y="15"/>
                    </a:lnTo>
                    <a:lnTo>
                      <a:pt x="1041" y="0"/>
                    </a:lnTo>
                    <a:lnTo>
                      <a:pt x="1485" y="0"/>
                    </a:lnTo>
                    <a:lnTo>
                      <a:pt x="1483" y="15"/>
                    </a:lnTo>
                    <a:close/>
                    <a:moveTo>
                      <a:pt x="42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25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3004560" y="15714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7" h="15">
                    <a:moveTo>
                      <a:pt x="1485" y="15"/>
                    </a:moveTo>
                    <a:lnTo>
                      <a:pt x="1045" y="15"/>
                    </a:lnTo>
                    <a:lnTo>
                      <a:pt x="1039" y="0"/>
                    </a:lnTo>
                    <a:lnTo>
                      <a:pt x="1487" y="0"/>
                    </a:lnTo>
                    <a:lnTo>
                      <a:pt x="1485" y="15"/>
                    </a:lnTo>
                    <a:close/>
                    <a:moveTo>
                      <a:pt x="4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35" y="0"/>
                    </a:lnTo>
                    <a:lnTo>
                      <a:pt x="429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3004560" y="1567800"/>
                <a:ext cx="570600" cy="5040"/>
              </a:xfrm>
              <a:custGeom>
                <a:avLst/>
                <a:gdLst/>
                <a:ahLst/>
                <a:rect l="l" t="t" r="r" b="b"/>
                <a:pathLst>
                  <a:path w="1488" h="14">
                    <a:moveTo>
                      <a:pt x="1487" y="14"/>
                    </a:moveTo>
                    <a:lnTo>
                      <a:pt x="1043" y="14"/>
                    </a:lnTo>
                    <a:lnTo>
                      <a:pt x="1037" y="0"/>
                    </a:lnTo>
                    <a:lnTo>
                      <a:pt x="1488" y="0"/>
                    </a:lnTo>
                    <a:lnTo>
                      <a:pt x="1487" y="14"/>
                    </a:lnTo>
                    <a:close/>
                    <a:moveTo>
                      <a:pt x="4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38" y="0"/>
                    </a:lnTo>
                    <a:lnTo>
                      <a:pt x="433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3002760" y="156600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89" y="15"/>
                    </a:moveTo>
                    <a:lnTo>
                      <a:pt x="1041" y="15"/>
                    </a:lnTo>
                    <a:lnTo>
                      <a:pt x="1034" y="0"/>
                    </a:lnTo>
                    <a:lnTo>
                      <a:pt x="1490" y="0"/>
                    </a:lnTo>
                    <a:lnTo>
                      <a:pt x="1489" y="15"/>
                    </a:lnTo>
                    <a:close/>
                    <a:moveTo>
                      <a:pt x="43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42" y="0"/>
                    </a:lnTo>
                    <a:lnTo>
                      <a:pt x="437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3002760" y="15624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2" h="16">
                    <a:moveTo>
                      <a:pt x="1490" y="16"/>
                    </a:moveTo>
                    <a:lnTo>
                      <a:pt x="1039" y="16"/>
                    </a:lnTo>
                    <a:lnTo>
                      <a:pt x="1032" y="0"/>
                    </a:lnTo>
                    <a:lnTo>
                      <a:pt x="1492" y="0"/>
                    </a:lnTo>
                    <a:lnTo>
                      <a:pt x="1490" y="16"/>
                    </a:lnTo>
                    <a:close/>
                    <a:moveTo>
                      <a:pt x="44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46" y="0"/>
                    </a:lnTo>
                    <a:lnTo>
                      <a:pt x="440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3002760" y="1560600"/>
                <a:ext cx="574200" cy="5400"/>
              </a:xfrm>
              <a:custGeom>
                <a:avLst/>
                <a:gdLst/>
                <a:ahLst/>
                <a:rect l="l" t="t" r="r" b="b"/>
                <a:pathLst>
                  <a:path w="1494" h="15">
                    <a:moveTo>
                      <a:pt x="1492" y="15"/>
                    </a:moveTo>
                    <a:lnTo>
                      <a:pt x="1036" y="15"/>
                    </a:lnTo>
                    <a:lnTo>
                      <a:pt x="1030" y="0"/>
                    </a:lnTo>
                    <a:lnTo>
                      <a:pt x="1494" y="0"/>
                    </a:lnTo>
                    <a:lnTo>
                      <a:pt x="1492" y="15"/>
                    </a:lnTo>
                    <a:close/>
                    <a:moveTo>
                      <a:pt x="44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1" y="0"/>
                    </a:lnTo>
                    <a:lnTo>
                      <a:pt x="444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3002760" y="155736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6" h="15">
                    <a:moveTo>
                      <a:pt x="1494" y="15"/>
                    </a:moveTo>
                    <a:lnTo>
                      <a:pt x="1034" y="15"/>
                    </a:lnTo>
                    <a:lnTo>
                      <a:pt x="1028" y="0"/>
                    </a:lnTo>
                    <a:lnTo>
                      <a:pt x="1496" y="0"/>
                    </a:lnTo>
                    <a:lnTo>
                      <a:pt x="1494" y="15"/>
                    </a:lnTo>
                    <a:close/>
                    <a:moveTo>
                      <a:pt x="4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48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3002760" y="1555200"/>
                <a:ext cx="574200" cy="5040"/>
              </a:xfrm>
              <a:custGeom>
                <a:avLst/>
                <a:gdLst/>
                <a:ahLst/>
                <a:rect l="l" t="t" r="r" b="b"/>
                <a:pathLst>
                  <a:path w="1498" h="15">
                    <a:moveTo>
                      <a:pt x="1496" y="15"/>
                    </a:moveTo>
                    <a:lnTo>
                      <a:pt x="1032" y="15"/>
                    </a:lnTo>
                    <a:lnTo>
                      <a:pt x="1026" y="0"/>
                    </a:lnTo>
                    <a:lnTo>
                      <a:pt x="1498" y="0"/>
                    </a:lnTo>
                    <a:lnTo>
                      <a:pt x="1496" y="15"/>
                    </a:lnTo>
                    <a:close/>
                    <a:moveTo>
                      <a:pt x="4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59" y="0"/>
                    </a:lnTo>
                    <a:lnTo>
                      <a:pt x="453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3000600" y="155160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500" h="14">
                    <a:moveTo>
                      <a:pt x="1498" y="14"/>
                    </a:moveTo>
                    <a:lnTo>
                      <a:pt x="1030" y="14"/>
                    </a:lnTo>
                    <a:lnTo>
                      <a:pt x="1024" y="0"/>
                    </a:lnTo>
                    <a:lnTo>
                      <a:pt x="1500" y="0"/>
                    </a:lnTo>
                    <a:lnTo>
                      <a:pt x="1498" y="14"/>
                    </a:lnTo>
                    <a:close/>
                    <a:moveTo>
                      <a:pt x="45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63" y="0"/>
                    </a:lnTo>
                    <a:lnTo>
                      <a:pt x="457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3000600" y="1550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2" h="16">
                    <a:moveTo>
                      <a:pt x="1500" y="16"/>
                    </a:moveTo>
                    <a:lnTo>
                      <a:pt x="1028" y="16"/>
                    </a:lnTo>
                    <a:lnTo>
                      <a:pt x="1023" y="0"/>
                    </a:lnTo>
                    <a:lnTo>
                      <a:pt x="1502" y="0"/>
                    </a:lnTo>
                    <a:lnTo>
                      <a:pt x="1500" y="16"/>
                    </a:lnTo>
                    <a:close/>
                    <a:moveTo>
                      <a:pt x="4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66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3000600" y="15465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4" h="16">
                    <a:moveTo>
                      <a:pt x="1502" y="16"/>
                    </a:moveTo>
                    <a:lnTo>
                      <a:pt x="1026" y="16"/>
                    </a:lnTo>
                    <a:lnTo>
                      <a:pt x="1020" y="0"/>
                    </a:lnTo>
                    <a:lnTo>
                      <a:pt x="1504" y="0"/>
                    </a:lnTo>
                    <a:lnTo>
                      <a:pt x="1502" y="16"/>
                    </a:lnTo>
                    <a:close/>
                    <a:moveTo>
                      <a:pt x="46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0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3000600" y="15447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7" h="15">
                    <a:moveTo>
                      <a:pt x="1504" y="15"/>
                    </a:moveTo>
                    <a:lnTo>
                      <a:pt x="1025" y="15"/>
                    </a:lnTo>
                    <a:lnTo>
                      <a:pt x="1018" y="0"/>
                    </a:lnTo>
                    <a:lnTo>
                      <a:pt x="1507" y="0"/>
                    </a:lnTo>
                    <a:lnTo>
                      <a:pt x="1504" y="15"/>
                    </a:lnTo>
                    <a:close/>
                    <a:moveTo>
                      <a:pt x="46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3000600" y="154116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9" h="15">
                    <a:moveTo>
                      <a:pt x="1506" y="15"/>
                    </a:moveTo>
                    <a:lnTo>
                      <a:pt x="1022" y="15"/>
                    </a:lnTo>
                    <a:lnTo>
                      <a:pt x="1016" y="0"/>
                    </a:lnTo>
                    <a:lnTo>
                      <a:pt x="1509" y="0"/>
                    </a:lnTo>
                    <a:lnTo>
                      <a:pt x="1506" y="15"/>
                    </a:lnTo>
                    <a:close/>
                    <a:moveTo>
                      <a:pt x="47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2998800" y="1539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1" h="14">
                    <a:moveTo>
                      <a:pt x="1509" y="14"/>
                    </a:moveTo>
                    <a:lnTo>
                      <a:pt x="1020" y="14"/>
                    </a:lnTo>
                    <a:lnTo>
                      <a:pt x="1014" y="0"/>
                    </a:lnTo>
                    <a:lnTo>
                      <a:pt x="1511" y="0"/>
                    </a:lnTo>
                    <a:lnTo>
                      <a:pt x="150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2998800" y="15361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3" h="16">
                    <a:moveTo>
                      <a:pt x="1511" y="16"/>
                    </a:moveTo>
                    <a:lnTo>
                      <a:pt x="1018" y="16"/>
                    </a:lnTo>
                    <a:lnTo>
                      <a:pt x="1012" y="0"/>
                    </a:lnTo>
                    <a:lnTo>
                      <a:pt x="1513" y="0"/>
                    </a:lnTo>
                    <a:lnTo>
                      <a:pt x="1511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2998800" y="153396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6">
                    <a:moveTo>
                      <a:pt x="1513" y="16"/>
                    </a:moveTo>
                    <a:lnTo>
                      <a:pt x="1016" y="16"/>
                    </a:lnTo>
                    <a:lnTo>
                      <a:pt x="1010" y="0"/>
                    </a:lnTo>
                    <a:lnTo>
                      <a:pt x="1515" y="0"/>
                    </a:lnTo>
                    <a:lnTo>
                      <a:pt x="1513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2998800" y="1530360"/>
                <a:ext cx="581760" cy="5400"/>
              </a:xfrm>
              <a:custGeom>
                <a:avLst/>
                <a:gdLst/>
                <a:ahLst/>
                <a:rect l="l" t="t" r="r" b="b"/>
                <a:pathLst>
                  <a:path w="1517" h="14">
                    <a:moveTo>
                      <a:pt x="1515" y="14"/>
                    </a:moveTo>
                    <a:lnTo>
                      <a:pt x="1014" y="14"/>
                    </a:lnTo>
                    <a:lnTo>
                      <a:pt x="1008" y="0"/>
                    </a:lnTo>
                    <a:lnTo>
                      <a:pt x="1517" y="0"/>
                    </a:lnTo>
                    <a:lnTo>
                      <a:pt x="1515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998800" y="1528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8" h="15">
                    <a:moveTo>
                      <a:pt x="1517" y="15"/>
                    </a:moveTo>
                    <a:lnTo>
                      <a:pt x="1012" y="15"/>
                    </a:lnTo>
                    <a:lnTo>
                      <a:pt x="1005" y="0"/>
                    </a:lnTo>
                    <a:lnTo>
                      <a:pt x="1518" y="0"/>
                    </a:lnTo>
                    <a:lnTo>
                      <a:pt x="1517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2996640" y="15253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1" h="15">
                    <a:moveTo>
                      <a:pt x="1520" y="15"/>
                    </a:moveTo>
                    <a:lnTo>
                      <a:pt x="1011" y="15"/>
                    </a:lnTo>
                    <a:lnTo>
                      <a:pt x="1004" y="0"/>
                    </a:lnTo>
                    <a:lnTo>
                      <a:pt x="1521" y="0"/>
                    </a:lnTo>
                    <a:lnTo>
                      <a:pt x="1520" y="15"/>
                    </a:lnTo>
                    <a:close/>
                    <a:moveTo>
                      <a:pt x="497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3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2996640" y="15235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3" h="15">
                    <a:moveTo>
                      <a:pt x="1521" y="15"/>
                    </a:moveTo>
                    <a:lnTo>
                      <a:pt x="1008" y="15"/>
                    </a:lnTo>
                    <a:lnTo>
                      <a:pt x="1002" y="0"/>
                    </a:lnTo>
                    <a:lnTo>
                      <a:pt x="1523" y="0"/>
                    </a:lnTo>
                    <a:lnTo>
                      <a:pt x="1521" y="15"/>
                    </a:lnTo>
                    <a:close/>
                    <a:moveTo>
                      <a:pt x="50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08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2996640" y="151992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3" y="16"/>
                    </a:moveTo>
                    <a:lnTo>
                      <a:pt x="1006" y="16"/>
                    </a:lnTo>
                    <a:lnTo>
                      <a:pt x="1001" y="0"/>
                    </a:lnTo>
                    <a:lnTo>
                      <a:pt x="1525" y="0"/>
                    </a:lnTo>
                    <a:lnTo>
                      <a:pt x="1523" y="16"/>
                    </a:lnTo>
                    <a:close/>
                    <a:moveTo>
                      <a:pt x="50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2996640" y="151848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7" h="15">
                    <a:moveTo>
                      <a:pt x="1525" y="15"/>
                    </a:moveTo>
                    <a:lnTo>
                      <a:pt x="1004" y="15"/>
                    </a:lnTo>
                    <a:lnTo>
                      <a:pt x="999" y="0"/>
                    </a:lnTo>
                    <a:lnTo>
                      <a:pt x="1527" y="0"/>
                    </a:lnTo>
                    <a:lnTo>
                      <a:pt x="1525" y="15"/>
                    </a:lnTo>
                    <a:close/>
                    <a:moveTo>
                      <a:pt x="5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6" y="0"/>
                    </a:lnTo>
                    <a:lnTo>
                      <a:pt x="51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2994840" y="151488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29" h="15">
                    <a:moveTo>
                      <a:pt x="1527" y="15"/>
                    </a:moveTo>
                    <a:lnTo>
                      <a:pt x="1003" y="15"/>
                    </a:lnTo>
                    <a:lnTo>
                      <a:pt x="997" y="0"/>
                    </a:lnTo>
                    <a:lnTo>
                      <a:pt x="1529" y="0"/>
                    </a:lnTo>
                    <a:lnTo>
                      <a:pt x="1527" y="15"/>
                    </a:lnTo>
                    <a:close/>
                    <a:moveTo>
                      <a:pt x="5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19" y="0"/>
                    </a:lnTo>
                    <a:lnTo>
                      <a:pt x="514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2994840" y="1512720"/>
                <a:ext cx="587520" cy="540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29" y="15"/>
                    </a:moveTo>
                    <a:lnTo>
                      <a:pt x="1001" y="15"/>
                    </a:lnTo>
                    <a:lnTo>
                      <a:pt x="995" y="0"/>
                    </a:lnTo>
                    <a:lnTo>
                      <a:pt x="1531" y="0"/>
                    </a:lnTo>
                    <a:lnTo>
                      <a:pt x="1529" y="15"/>
                    </a:lnTo>
                    <a:close/>
                    <a:moveTo>
                      <a:pt x="5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2994840" y="150912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3" h="15">
                    <a:moveTo>
                      <a:pt x="1531" y="15"/>
                    </a:moveTo>
                    <a:lnTo>
                      <a:pt x="999" y="15"/>
                    </a:lnTo>
                    <a:lnTo>
                      <a:pt x="992" y="0"/>
                    </a:lnTo>
                    <a:lnTo>
                      <a:pt x="1533" y="0"/>
                    </a:lnTo>
                    <a:lnTo>
                      <a:pt x="1531" y="15"/>
                    </a:lnTo>
                    <a:close/>
                    <a:moveTo>
                      <a:pt x="52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27" y="0"/>
                    </a:lnTo>
                    <a:lnTo>
                      <a:pt x="521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2994840" y="1505880"/>
                <a:ext cx="589680" cy="6480"/>
              </a:xfrm>
              <a:custGeom>
                <a:avLst/>
                <a:gdLst/>
                <a:ahLst/>
                <a:rect l="l" t="t" r="r" b="b"/>
                <a:pathLst>
                  <a:path w="1535" h="16">
                    <a:moveTo>
                      <a:pt x="1533" y="16"/>
                    </a:moveTo>
                    <a:lnTo>
                      <a:pt x="997" y="16"/>
                    </a:lnTo>
                    <a:lnTo>
                      <a:pt x="990" y="0"/>
                    </a:lnTo>
                    <a:lnTo>
                      <a:pt x="1535" y="0"/>
                    </a:lnTo>
                    <a:lnTo>
                      <a:pt x="1533" y="16"/>
                    </a:lnTo>
                    <a:close/>
                    <a:moveTo>
                      <a:pt x="52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31" y="0"/>
                    </a:lnTo>
                    <a:lnTo>
                      <a:pt x="525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994840" y="1504080"/>
                <a:ext cx="589680" cy="5040"/>
              </a:xfrm>
              <a:custGeom>
                <a:avLst/>
                <a:gdLst/>
                <a:ahLst/>
                <a:rect l="l" t="t" r="r" b="b"/>
                <a:pathLst>
                  <a:path w="1537" h="15">
                    <a:moveTo>
                      <a:pt x="1535" y="15"/>
                    </a:moveTo>
                    <a:lnTo>
                      <a:pt x="994" y="15"/>
                    </a:lnTo>
                    <a:lnTo>
                      <a:pt x="988" y="0"/>
                    </a:lnTo>
                    <a:lnTo>
                      <a:pt x="1537" y="0"/>
                    </a:lnTo>
                    <a:lnTo>
                      <a:pt x="1535" y="15"/>
                    </a:lnTo>
                    <a:close/>
                    <a:moveTo>
                      <a:pt x="5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36" y="0"/>
                    </a:lnTo>
                    <a:lnTo>
                      <a:pt x="529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993040" y="1502280"/>
                <a:ext cx="591480" cy="3600"/>
              </a:xfrm>
              <a:custGeom>
                <a:avLst/>
                <a:gdLst/>
                <a:ahLst/>
                <a:rect l="l" t="t" r="r" b="b"/>
                <a:pathLst>
                  <a:path w="1539" h="14">
                    <a:moveTo>
                      <a:pt x="1537" y="14"/>
                    </a:moveTo>
                    <a:lnTo>
                      <a:pt x="992" y="14"/>
                    </a:lnTo>
                    <a:lnTo>
                      <a:pt x="986" y="0"/>
                    </a:lnTo>
                    <a:lnTo>
                      <a:pt x="1539" y="0"/>
                    </a:lnTo>
                    <a:lnTo>
                      <a:pt x="1537" y="14"/>
                    </a:lnTo>
                    <a:close/>
                    <a:moveTo>
                      <a:pt x="53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33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2993040" y="149868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1" h="15">
                    <a:moveTo>
                      <a:pt x="1539" y="15"/>
                    </a:moveTo>
                    <a:lnTo>
                      <a:pt x="990" y="15"/>
                    </a:lnTo>
                    <a:lnTo>
                      <a:pt x="984" y="0"/>
                    </a:lnTo>
                    <a:lnTo>
                      <a:pt x="1541" y="0"/>
                    </a:lnTo>
                    <a:lnTo>
                      <a:pt x="1539" y="15"/>
                    </a:lnTo>
                    <a:close/>
                    <a:moveTo>
                      <a:pt x="5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43" y="0"/>
                    </a:lnTo>
                    <a:lnTo>
                      <a:pt x="538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2993040" y="1495080"/>
                <a:ext cx="593280" cy="7200"/>
              </a:xfrm>
              <a:custGeom>
                <a:avLst/>
                <a:gdLst/>
                <a:ahLst/>
                <a:rect l="l" t="t" r="r" b="b"/>
                <a:pathLst>
                  <a:path w="1543" h="16">
                    <a:moveTo>
                      <a:pt x="1541" y="16"/>
                    </a:moveTo>
                    <a:lnTo>
                      <a:pt x="988" y="16"/>
                    </a:lnTo>
                    <a:lnTo>
                      <a:pt x="982" y="0"/>
                    </a:lnTo>
                    <a:lnTo>
                      <a:pt x="1543" y="0"/>
                    </a:lnTo>
                    <a:lnTo>
                      <a:pt x="1541" y="16"/>
                    </a:lnTo>
                    <a:close/>
                    <a:moveTo>
                      <a:pt x="54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47" y="0"/>
                    </a:lnTo>
                    <a:lnTo>
                      <a:pt x="542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2993040" y="14936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5" h="15">
                    <a:moveTo>
                      <a:pt x="1543" y="15"/>
                    </a:moveTo>
                    <a:lnTo>
                      <a:pt x="986" y="15"/>
                    </a:lnTo>
                    <a:lnTo>
                      <a:pt x="979" y="0"/>
                    </a:lnTo>
                    <a:lnTo>
                      <a:pt x="1545" y="0"/>
                    </a:lnTo>
                    <a:lnTo>
                      <a:pt x="1543" y="15"/>
                    </a:lnTo>
                    <a:close/>
                    <a:moveTo>
                      <a:pt x="54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1" y="0"/>
                    </a:lnTo>
                    <a:lnTo>
                      <a:pt x="545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2993040" y="149004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7" h="15">
                    <a:moveTo>
                      <a:pt x="1545" y="15"/>
                    </a:moveTo>
                    <a:lnTo>
                      <a:pt x="984" y="15"/>
                    </a:lnTo>
                    <a:lnTo>
                      <a:pt x="978" y="0"/>
                    </a:lnTo>
                    <a:lnTo>
                      <a:pt x="1547" y="0"/>
                    </a:lnTo>
                    <a:lnTo>
                      <a:pt x="1545" y="15"/>
                    </a:lnTo>
                    <a:close/>
                    <a:moveTo>
                      <a:pt x="54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5" y="0"/>
                    </a:lnTo>
                    <a:lnTo>
                      <a:pt x="5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2990880" y="14882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0" h="15">
                    <a:moveTo>
                      <a:pt x="1547" y="15"/>
                    </a:moveTo>
                    <a:lnTo>
                      <a:pt x="981" y="15"/>
                    </a:lnTo>
                    <a:lnTo>
                      <a:pt x="976" y="0"/>
                    </a:lnTo>
                    <a:lnTo>
                      <a:pt x="1550" y="0"/>
                    </a:lnTo>
                    <a:lnTo>
                      <a:pt x="1547" y="15"/>
                    </a:lnTo>
                    <a:close/>
                    <a:moveTo>
                      <a:pt x="55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55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2990880" y="1484640"/>
                <a:ext cx="595440" cy="5040"/>
              </a:xfrm>
              <a:custGeom>
                <a:avLst/>
                <a:gdLst/>
                <a:ahLst/>
                <a:rect l="l" t="t" r="r" b="b"/>
                <a:pathLst>
                  <a:path w="1551" h="15">
                    <a:moveTo>
                      <a:pt x="1549" y="15"/>
                    </a:moveTo>
                    <a:lnTo>
                      <a:pt x="980" y="15"/>
                    </a:lnTo>
                    <a:lnTo>
                      <a:pt x="974" y="0"/>
                    </a:lnTo>
                    <a:lnTo>
                      <a:pt x="1551" y="0"/>
                    </a:lnTo>
                    <a:lnTo>
                      <a:pt x="1549" y="15"/>
                    </a:lnTo>
                    <a:close/>
                    <a:moveTo>
                      <a:pt x="55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64" y="0"/>
                    </a:lnTo>
                    <a:lnTo>
                      <a:pt x="557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2990880" y="1482480"/>
                <a:ext cx="597600" cy="5400"/>
              </a:xfrm>
              <a:custGeom>
                <a:avLst/>
                <a:gdLst/>
                <a:ahLst/>
                <a:rect l="l" t="t" r="r" b="b"/>
                <a:pathLst>
                  <a:path w="1553" h="16">
                    <a:moveTo>
                      <a:pt x="1552" y="16"/>
                    </a:moveTo>
                    <a:lnTo>
                      <a:pt x="978" y="16"/>
                    </a:lnTo>
                    <a:lnTo>
                      <a:pt x="972" y="0"/>
                    </a:lnTo>
                    <a:lnTo>
                      <a:pt x="1553" y="0"/>
                    </a:lnTo>
                    <a:lnTo>
                      <a:pt x="1552" y="16"/>
                    </a:lnTo>
                    <a:close/>
                    <a:moveTo>
                      <a:pt x="56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68" y="0"/>
                    </a:lnTo>
                    <a:lnTo>
                      <a:pt x="561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2990880" y="147960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5" h="15">
                    <a:moveTo>
                      <a:pt x="1553" y="15"/>
                    </a:moveTo>
                    <a:lnTo>
                      <a:pt x="976" y="15"/>
                    </a:lnTo>
                    <a:lnTo>
                      <a:pt x="970" y="0"/>
                    </a:lnTo>
                    <a:lnTo>
                      <a:pt x="1555" y="0"/>
                    </a:lnTo>
                    <a:lnTo>
                      <a:pt x="1553" y="15"/>
                    </a:lnTo>
                    <a:close/>
                    <a:moveTo>
                      <a:pt x="56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1" y="0"/>
                    </a:lnTo>
                    <a:lnTo>
                      <a:pt x="566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2990880" y="147744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7" h="15">
                    <a:moveTo>
                      <a:pt x="1555" y="15"/>
                    </a:moveTo>
                    <a:lnTo>
                      <a:pt x="974" y="15"/>
                    </a:lnTo>
                    <a:lnTo>
                      <a:pt x="968" y="0"/>
                    </a:lnTo>
                    <a:lnTo>
                      <a:pt x="1557" y="0"/>
                    </a:lnTo>
                    <a:lnTo>
                      <a:pt x="1555" y="15"/>
                    </a:lnTo>
                    <a:close/>
                    <a:moveTo>
                      <a:pt x="57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5" y="0"/>
                    </a:lnTo>
                    <a:lnTo>
                      <a:pt x="570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989440" y="1473840"/>
                <a:ext cx="599400" cy="5400"/>
              </a:xfrm>
              <a:custGeom>
                <a:avLst/>
                <a:gdLst/>
                <a:ahLst/>
                <a:rect l="l" t="t" r="r" b="b"/>
                <a:pathLst>
                  <a:path w="1559" h="15">
                    <a:moveTo>
                      <a:pt x="1557" y="15"/>
                    </a:moveTo>
                    <a:lnTo>
                      <a:pt x="972" y="15"/>
                    </a:lnTo>
                    <a:lnTo>
                      <a:pt x="965" y="0"/>
                    </a:lnTo>
                    <a:lnTo>
                      <a:pt x="1559" y="0"/>
                    </a:lnTo>
                    <a:lnTo>
                      <a:pt x="1557" y="15"/>
                    </a:lnTo>
                    <a:close/>
                    <a:moveTo>
                      <a:pt x="57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79" y="0"/>
                    </a:lnTo>
                    <a:lnTo>
                      <a:pt x="57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989440" y="147240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2" h="14">
                    <a:moveTo>
                      <a:pt x="1560" y="14"/>
                    </a:moveTo>
                    <a:lnTo>
                      <a:pt x="971" y="14"/>
                    </a:lnTo>
                    <a:lnTo>
                      <a:pt x="964" y="0"/>
                    </a:lnTo>
                    <a:lnTo>
                      <a:pt x="1562" y="0"/>
                    </a:lnTo>
                    <a:lnTo>
                      <a:pt x="1560" y="14"/>
                    </a:lnTo>
                    <a:close/>
                    <a:moveTo>
                      <a:pt x="578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584" y="0"/>
                    </a:lnTo>
                    <a:lnTo>
                      <a:pt x="578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7" name=""/>
            <p:cNvGrpSpPr/>
            <p:nvPr/>
          </p:nvGrpSpPr>
          <p:grpSpPr>
            <a:xfrm>
              <a:off x="2908800" y="937800"/>
              <a:ext cx="756360" cy="535680"/>
              <a:chOff x="2908800" y="937800"/>
              <a:chExt cx="756360" cy="535680"/>
            </a:xfrm>
          </p:grpSpPr>
          <p:sp>
            <p:nvSpPr>
              <p:cNvPr id="5348" name=""/>
              <p:cNvSpPr/>
              <p:nvPr/>
            </p:nvSpPr>
            <p:spPr>
              <a:xfrm>
                <a:off x="2989080" y="14684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4" h="15">
                    <a:moveTo>
                      <a:pt x="1562" y="15"/>
                    </a:moveTo>
                    <a:lnTo>
                      <a:pt x="968" y="15"/>
                    </a:lnTo>
                    <a:lnTo>
                      <a:pt x="962" y="0"/>
                    </a:lnTo>
                    <a:lnTo>
                      <a:pt x="1564" y="0"/>
                    </a:lnTo>
                    <a:lnTo>
                      <a:pt x="1562" y="15"/>
                    </a:lnTo>
                    <a:close/>
                    <a:moveTo>
                      <a:pt x="5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588" y="0"/>
                    </a:lnTo>
                    <a:lnTo>
                      <a:pt x="582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2989080" y="1466640"/>
                <a:ext cx="600840" cy="5040"/>
              </a:xfrm>
              <a:custGeom>
                <a:avLst/>
                <a:gdLst/>
                <a:ahLst/>
                <a:rect l="l" t="t" r="r" b="b"/>
                <a:pathLst>
                  <a:path w="1566" h="16">
                    <a:moveTo>
                      <a:pt x="1564" y="16"/>
                    </a:moveTo>
                    <a:lnTo>
                      <a:pt x="966" y="16"/>
                    </a:lnTo>
                    <a:lnTo>
                      <a:pt x="960" y="0"/>
                    </a:lnTo>
                    <a:lnTo>
                      <a:pt x="1566" y="0"/>
                    </a:lnTo>
                    <a:lnTo>
                      <a:pt x="1564" y="16"/>
                    </a:lnTo>
                    <a:close/>
                    <a:moveTo>
                      <a:pt x="58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593" y="0"/>
                    </a:lnTo>
                    <a:lnTo>
                      <a:pt x="586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2986920" y="146304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68" h="15">
                    <a:moveTo>
                      <a:pt x="1566" y="15"/>
                    </a:moveTo>
                    <a:lnTo>
                      <a:pt x="964" y="15"/>
                    </a:lnTo>
                    <a:lnTo>
                      <a:pt x="958" y="0"/>
                    </a:lnTo>
                    <a:lnTo>
                      <a:pt x="1568" y="0"/>
                    </a:lnTo>
                    <a:lnTo>
                      <a:pt x="1566" y="15"/>
                    </a:lnTo>
                    <a:close/>
                    <a:moveTo>
                      <a:pt x="5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596" y="0"/>
                    </a:lnTo>
                    <a:lnTo>
                      <a:pt x="590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986920" y="1461240"/>
                <a:ext cx="603000" cy="5400"/>
              </a:xfrm>
              <a:custGeom>
                <a:avLst/>
                <a:gdLst/>
                <a:ahLst/>
                <a:rect l="l" t="t" r="r" b="b"/>
                <a:pathLst>
                  <a:path w="1570" h="15">
                    <a:moveTo>
                      <a:pt x="1568" y="15"/>
                    </a:moveTo>
                    <a:lnTo>
                      <a:pt x="962" y="15"/>
                    </a:lnTo>
                    <a:lnTo>
                      <a:pt x="957" y="0"/>
                    </a:lnTo>
                    <a:lnTo>
                      <a:pt x="1570" y="0"/>
                    </a:lnTo>
                    <a:lnTo>
                      <a:pt x="1568" y="15"/>
                    </a:lnTo>
                    <a:close/>
                    <a:moveTo>
                      <a:pt x="5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0" y="0"/>
                    </a:lnTo>
                    <a:lnTo>
                      <a:pt x="595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986920" y="1458000"/>
                <a:ext cx="60300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0" y="15"/>
                    </a:moveTo>
                    <a:lnTo>
                      <a:pt x="960" y="15"/>
                    </a:lnTo>
                    <a:lnTo>
                      <a:pt x="955" y="0"/>
                    </a:lnTo>
                    <a:lnTo>
                      <a:pt x="1572" y="0"/>
                    </a:lnTo>
                    <a:lnTo>
                      <a:pt x="1570" y="15"/>
                    </a:lnTo>
                    <a:close/>
                    <a:moveTo>
                      <a:pt x="5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4" y="0"/>
                    </a:lnTo>
                    <a:lnTo>
                      <a:pt x="598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986920" y="1455840"/>
                <a:ext cx="604800" cy="5040"/>
              </a:xfrm>
              <a:custGeom>
                <a:avLst/>
                <a:gdLst/>
                <a:ahLst/>
                <a:rect l="l" t="t" r="r" b="b"/>
                <a:pathLst>
                  <a:path w="1574" h="15">
                    <a:moveTo>
                      <a:pt x="1572" y="15"/>
                    </a:moveTo>
                    <a:lnTo>
                      <a:pt x="959" y="15"/>
                    </a:lnTo>
                    <a:lnTo>
                      <a:pt x="952" y="0"/>
                    </a:lnTo>
                    <a:lnTo>
                      <a:pt x="1574" y="0"/>
                    </a:lnTo>
                    <a:lnTo>
                      <a:pt x="1572" y="15"/>
                    </a:lnTo>
                    <a:close/>
                    <a:moveTo>
                      <a:pt x="60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986920" y="145224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4" y="16"/>
                    </a:moveTo>
                    <a:lnTo>
                      <a:pt x="957" y="16"/>
                    </a:lnTo>
                    <a:lnTo>
                      <a:pt x="950" y="0"/>
                    </a:lnTo>
                    <a:lnTo>
                      <a:pt x="1576" y="0"/>
                    </a:lnTo>
                    <a:lnTo>
                      <a:pt x="1574" y="16"/>
                    </a:lnTo>
                    <a:close/>
                    <a:moveTo>
                      <a:pt x="60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12" y="0"/>
                    </a:lnTo>
                    <a:lnTo>
                      <a:pt x="60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985120" y="1450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78" h="15">
                    <a:moveTo>
                      <a:pt x="1576" y="15"/>
                    </a:moveTo>
                    <a:lnTo>
                      <a:pt x="954" y="15"/>
                    </a:lnTo>
                    <a:lnTo>
                      <a:pt x="948" y="0"/>
                    </a:lnTo>
                    <a:lnTo>
                      <a:pt x="1578" y="0"/>
                    </a:lnTo>
                    <a:lnTo>
                      <a:pt x="1576" y="15"/>
                    </a:lnTo>
                    <a:close/>
                    <a:moveTo>
                      <a:pt x="61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10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985120" y="1447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0" h="15">
                    <a:moveTo>
                      <a:pt x="1578" y="15"/>
                    </a:moveTo>
                    <a:lnTo>
                      <a:pt x="952" y="15"/>
                    </a:lnTo>
                    <a:lnTo>
                      <a:pt x="946" y="0"/>
                    </a:lnTo>
                    <a:lnTo>
                      <a:pt x="1580" y="0"/>
                    </a:lnTo>
                    <a:lnTo>
                      <a:pt x="1578" y="15"/>
                    </a:lnTo>
                    <a:close/>
                    <a:moveTo>
                      <a:pt x="61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1" y="0"/>
                    </a:lnTo>
                    <a:lnTo>
                      <a:pt x="614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985120" y="14454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1" h="15">
                    <a:moveTo>
                      <a:pt x="1580" y="15"/>
                    </a:moveTo>
                    <a:lnTo>
                      <a:pt x="950" y="15"/>
                    </a:lnTo>
                    <a:lnTo>
                      <a:pt x="944" y="0"/>
                    </a:lnTo>
                    <a:lnTo>
                      <a:pt x="1581" y="0"/>
                    </a:lnTo>
                    <a:lnTo>
                      <a:pt x="1580" y="15"/>
                    </a:lnTo>
                    <a:close/>
                    <a:moveTo>
                      <a:pt x="61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18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985120" y="14418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3" h="14">
                    <a:moveTo>
                      <a:pt x="1582" y="14"/>
                    </a:moveTo>
                    <a:lnTo>
                      <a:pt x="948" y="14"/>
                    </a:lnTo>
                    <a:lnTo>
                      <a:pt x="942" y="0"/>
                    </a:lnTo>
                    <a:lnTo>
                      <a:pt x="1583" y="0"/>
                    </a:lnTo>
                    <a:lnTo>
                      <a:pt x="1582" y="14"/>
                    </a:lnTo>
                    <a:close/>
                    <a:moveTo>
                      <a:pt x="6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23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985120" y="1440000"/>
                <a:ext cx="608760" cy="5400"/>
              </a:xfrm>
              <a:custGeom>
                <a:avLst/>
                <a:gdLst/>
                <a:ahLst/>
                <a:rect l="l" t="t" r="r" b="b"/>
                <a:pathLst>
                  <a:path w="1585" h="16">
                    <a:moveTo>
                      <a:pt x="1583" y="16"/>
                    </a:moveTo>
                    <a:lnTo>
                      <a:pt x="946" y="16"/>
                    </a:lnTo>
                    <a:lnTo>
                      <a:pt x="940" y="0"/>
                    </a:lnTo>
                    <a:lnTo>
                      <a:pt x="1585" y="0"/>
                    </a:lnTo>
                    <a:lnTo>
                      <a:pt x="1583" y="16"/>
                    </a:lnTo>
                    <a:close/>
                    <a:moveTo>
                      <a:pt x="62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2" y="0"/>
                    </a:lnTo>
                    <a:lnTo>
                      <a:pt x="626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983680" y="143676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7" h="16">
                    <a:moveTo>
                      <a:pt x="1585" y="16"/>
                    </a:moveTo>
                    <a:lnTo>
                      <a:pt x="944" y="16"/>
                    </a:lnTo>
                    <a:lnTo>
                      <a:pt x="937" y="0"/>
                    </a:lnTo>
                    <a:lnTo>
                      <a:pt x="1587" y="0"/>
                    </a:lnTo>
                    <a:lnTo>
                      <a:pt x="1585" y="16"/>
                    </a:lnTo>
                    <a:close/>
                    <a:moveTo>
                      <a:pt x="6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36" y="0"/>
                    </a:lnTo>
                    <a:lnTo>
                      <a:pt x="630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983680" y="1434600"/>
                <a:ext cx="610560" cy="5040"/>
              </a:xfrm>
              <a:custGeom>
                <a:avLst/>
                <a:gdLst/>
                <a:ahLst/>
                <a:rect l="l" t="t" r="r" b="b"/>
                <a:pathLst>
                  <a:path w="1589" h="14">
                    <a:moveTo>
                      <a:pt x="1587" y="14"/>
                    </a:moveTo>
                    <a:lnTo>
                      <a:pt x="942" y="14"/>
                    </a:lnTo>
                    <a:lnTo>
                      <a:pt x="935" y="0"/>
                    </a:lnTo>
                    <a:lnTo>
                      <a:pt x="1589" y="0"/>
                    </a:lnTo>
                    <a:lnTo>
                      <a:pt x="1587" y="14"/>
                    </a:lnTo>
                    <a:close/>
                    <a:moveTo>
                      <a:pt x="63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34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83680" y="1431000"/>
                <a:ext cx="610560" cy="5400"/>
              </a:xfrm>
              <a:custGeom>
                <a:avLst/>
                <a:gdLst/>
                <a:ahLst/>
                <a:rect l="l" t="t" r="r" b="b"/>
                <a:pathLst>
                  <a:path w="1591" h="15">
                    <a:moveTo>
                      <a:pt x="1589" y="15"/>
                    </a:moveTo>
                    <a:lnTo>
                      <a:pt x="939" y="15"/>
                    </a:lnTo>
                    <a:lnTo>
                      <a:pt x="934" y="0"/>
                    </a:lnTo>
                    <a:lnTo>
                      <a:pt x="1591" y="0"/>
                    </a:lnTo>
                    <a:lnTo>
                      <a:pt x="1589" y="15"/>
                    </a:lnTo>
                    <a:close/>
                    <a:moveTo>
                      <a:pt x="63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4" y="0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2983680" y="14295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4" h="15">
                    <a:moveTo>
                      <a:pt x="1591" y="15"/>
                    </a:moveTo>
                    <a:lnTo>
                      <a:pt x="937" y="15"/>
                    </a:lnTo>
                    <a:lnTo>
                      <a:pt x="932" y="0"/>
                    </a:lnTo>
                    <a:lnTo>
                      <a:pt x="1594" y="0"/>
                    </a:lnTo>
                    <a:lnTo>
                      <a:pt x="1591" y="15"/>
                    </a:lnTo>
                    <a:close/>
                    <a:moveTo>
                      <a:pt x="64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49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2983680" y="1425960"/>
                <a:ext cx="612360" cy="5040"/>
              </a:xfrm>
              <a:custGeom>
                <a:avLst/>
                <a:gdLst/>
                <a:ahLst/>
                <a:rect l="l" t="t" r="r" b="b"/>
                <a:pathLst>
                  <a:path w="1596" h="16">
                    <a:moveTo>
                      <a:pt x="1593" y="16"/>
                    </a:moveTo>
                    <a:lnTo>
                      <a:pt x="936" y="16"/>
                    </a:lnTo>
                    <a:lnTo>
                      <a:pt x="930" y="0"/>
                    </a:lnTo>
                    <a:lnTo>
                      <a:pt x="1596" y="0"/>
                    </a:lnTo>
                    <a:lnTo>
                      <a:pt x="1593" y="16"/>
                    </a:lnTo>
                    <a:close/>
                    <a:moveTo>
                      <a:pt x="64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46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2981520" y="14241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598" h="16">
                    <a:moveTo>
                      <a:pt x="1596" y="16"/>
                    </a:moveTo>
                    <a:lnTo>
                      <a:pt x="934" y="16"/>
                    </a:lnTo>
                    <a:lnTo>
                      <a:pt x="928" y="0"/>
                    </a:lnTo>
                    <a:lnTo>
                      <a:pt x="1598" y="0"/>
                    </a:lnTo>
                    <a:lnTo>
                      <a:pt x="1596" y="16"/>
                    </a:lnTo>
                    <a:close/>
                    <a:moveTo>
                      <a:pt x="65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56" y="0"/>
                    </a:lnTo>
                    <a:lnTo>
                      <a:pt x="651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2981520" y="142056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0" h="14">
                    <a:moveTo>
                      <a:pt x="1598" y="14"/>
                    </a:moveTo>
                    <a:lnTo>
                      <a:pt x="932" y="14"/>
                    </a:lnTo>
                    <a:lnTo>
                      <a:pt x="926" y="0"/>
                    </a:lnTo>
                    <a:lnTo>
                      <a:pt x="1600" y="0"/>
                    </a:lnTo>
                    <a:lnTo>
                      <a:pt x="1598" y="14"/>
                    </a:lnTo>
                    <a:close/>
                    <a:moveTo>
                      <a:pt x="65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54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2981520" y="141912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3" h="15">
                    <a:moveTo>
                      <a:pt x="1601" y="15"/>
                    </a:moveTo>
                    <a:lnTo>
                      <a:pt x="931" y="15"/>
                    </a:lnTo>
                    <a:lnTo>
                      <a:pt x="924" y="0"/>
                    </a:lnTo>
                    <a:lnTo>
                      <a:pt x="1603" y="0"/>
                    </a:lnTo>
                    <a:lnTo>
                      <a:pt x="1601" y="15"/>
                    </a:lnTo>
                    <a:close/>
                    <a:moveTo>
                      <a:pt x="659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5" y="0"/>
                    </a:lnTo>
                    <a:lnTo>
                      <a:pt x="65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2981520" y="1415520"/>
                <a:ext cx="616680" cy="5040"/>
              </a:xfrm>
              <a:custGeom>
                <a:avLst/>
                <a:gdLst/>
                <a:ahLst/>
                <a:rect l="l" t="t" r="r" b="b"/>
                <a:pathLst>
                  <a:path w="1605" h="15">
                    <a:moveTo>
                      <a:pt x="1603" y="15"/>
                    </a:moveTo>
                    <a:lnTo>
                      <a:pt x="929" y="15"/>
                    </a:lnTo>
                    <a:lnTo>
                      <a:pt x="922" y="0"/>
                    </a:lnTo>
                    <a:lnTo>
                      <a:pt x="1605" y="0"/>
                    </a:lnTo>
                    <a:lnTo>
                      <a:pt x="1603" y="15"/>
                    </a:lnTo>
                    <a:close/>
                    <a:moveTo>
                      <a:pt x="663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669" y="0"/>
                    </a:lnTo>
                    <a:lnTo>
                      <a:pt x="663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2979720" y="141336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07" h="15">
                    <a:moveTo>
                      <a:pt x="1605" y="15"/>
                    </a:moveTo>
                    <a:lnTo>
                      <a:pt x="926" y="15"/>
                    </a:lnTo>
                    <a:lnTo>
                      <a:pt x="920" y="0"/>
                    </a:lnTo>
                    <a:lnTo>
                      <a:pt x="1607" y="0"/>
                    </a:lnTo>
                    <a:lnTo>
                      <a:pt x="1605" y="15"/>
                    </a:lnTo>
                    <a:close/>
                    <a:moveTo>
                      <a:pt x="66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73" y="0"/>
                    </a:lnTo>
                    <a:lnTo>
                      <a:pt x="667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2979720" y="14101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9" h="16">
                    <a:moveTo>
                      <a:pt x="1607" y="16"/>
                    </a:moveTo>
                    <a:lnTo>
                      <a:pt x="924" y="16"/>
                    </a:lnTo>
                    <a:lnTo>
                      <a:pt x="918" y="0"/>
                    </a:lnTo>
                    <a:lnTo>
                      <a:pt x="1609" y="0"/>
                    </a:lnTo>
                    <a:lnTo>
                      <a:pt x="1607" y="16"/>
                    </a:lnTo>
                    <a:close/>
                    <a:moveTo>
                      <a:pt x="67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77" y="0"/>
                    </a:lnTo>
                    <a:lnTo>
                      <a:pt x="671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2979720" y="14083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1" h="15">
                    <a:moveTo>
                      <a:pt x="1609" y="15"/>
                    </a:moveTo>
                    <a:lnTo>
                      <a:pt x="922" y="15"/>
                    </a:lnTo>
                    <a:lnTo>
                      <a:pt x="916" y="0"/>
                    </a:lnTo>
                    <a:lnTo>
                      <a:pt x="1611" y="0"/>
                    </a:lnTo>
                    <a:lnTo>
                      <a:pt x="1609" y="15"/>
                    </a:lnTo>
                    <a:close/>
                    <a:moveTo>
                      <a:pt x="6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1" y="0"/>
                    </a:lnTo>
                    <a:lnTo>
                      <a:pt x="675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2979720" y="1404720"/>
                <a:ext cx="618480" cy="5400"/>
              </a:xfrm>
              <a:custGeom>
                <a:avLst/>
                <a:gdLst/>
                <a:ahLst/>
                <a:rect l="l" t="t" r="r" b="b"/>
                <a:pathLst>
                  <a:path w="1612" h="14">
                    <a:moveTo>
                      <a:pt x="1611" y="14"/>
                    </a:moveTo>
                    <a:lnTo>
                      <a:pt x="920" y="14"/>
                    </a:lnTo>
                    <a:lnTo>
                      <a:pt x="914" y="0"/>
                    </a:lnTo>
                    <a:lnTo>
                      <a:pt x="1612" y="0"/>
                    </a:lnTo>
                    <a:lnTo>
                      <a:pt x="1611" y="14"/>
                    </a:lnTo>
                    <a:close/>
                    <a:moveTo>
                      <a:pt x="6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685" y="0"/>
                    </a:lnTo>
                    <a:lnTo>
                      <a:pt x="679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979720" y="140292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4" h="15">
                    <a:moveTo>
                      <a:pt x="1613" y="15"/>
                    </a:moveTo>
                    <a:lnTo>
                      <a:pt x="918" y="15"/>
                    </a:lnTo>
                    <a:lnTo>
                      <a:pt x="912" y="0"/>
                    </a:lnTo>
                    <a:lnTo>
                      <a:pt x="1614" y="0"/>
                    </a:lnTo>
                    <a:lnTo>
                      <a:pt x="1613" y="15"/>
                    </a:lnTo>
                    <a:close/>
                    <a:moveTo>
                      <a:pt x="6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689" y="0"/>
                    </a:lnTo>
                    <a:lnTo>
                      <a:pt x="683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977560" y="139932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16" h="16">
                    <a:moveTo>
                      <a:pt x="1614" y="16"/>
                    </a:moveTo>
                    <a:lnTo>
                      <a:pt x="916" y="16"/>
                    </a:lnTo>
                    <a:lnTo>
                      <a:pt x="910" y="0"/>
                    </a:lnTo>
                    <a:lnTo>
                      <a:pt x="1616" y="0"/>
                    </a:lnTo>
                    <a:lnTo>
                      <a:pt x="1614" y="16"/>
                    </a:lnTo>
                    <a:close/>
                    <a:moveTo>
                      <a:pt x="6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3" y="0"/>
                    </a:lnTo>
                    <a:lnTo>
                      <a:pt x="687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977560" y="1395720"/>
                <a:ext cx="622440" cy="7200"/>
              </a:xfrm>
              <a:custGeom>
                <a:avLst/>
                <a:gdLst/>
                <a:ahLst/>
                <a:rect l="l" t="t" r="r" b="b"/>
                <a:pathLst>
                  <a:path w="1618" h="16">
                    <a:moveTo>
                      <a:pt x="1616" y="16"/>
                    </a:moveTo>
                    <a:lnTo>
                      <a:pt x="914" y="16"/>
                    </a:lnTo>
                    <a:lnTo>
                      <a:pt x="908" y="0"/>
                    </a:lnTo>
                    <a:lnTo>
                      <a:pt x="1618" y="0"/>
                    </a:lnTo>
                    <a:lnTo>
                      <a:pt x="1616" y="16"/>
                    </a:lnTo>
                    <a:close/>
                    <a:moveTo>
                      <a:pt x="69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697" y="0"/>
                    </a:lnTo>
                    <a:lnTo>
                      <a:pt x="691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977560" y="13942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0" h="15">
                    <a:moveTo>
                      <a:pt x="1618" y="15"/>
                    </a:moveTo>
                    <a:lnTo>
                      <a:pt x="912" y="15"/>
                    </a:lnTo>
                    <a:lnTo>
                      <a:pt x="906" y="0"/>
                    </a:lnTo>
                    <a:lnTo>
                      <a:pt x="1620" y="0"/>
                    </a:lnTo>
                    <a:lnTo>
                      <a:pt x="1618" y="15"/>
                    </a:lnTo>
                    <a:close/>
                    <a:moveTo>
                      <a:pt x="6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95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977560" y="1392120"/>
                <a:ext cx="622440" cy="3600"/>
              </a:xfrm>
              <a:custGeom>
                <a:avLst/>
                <a:gdLst/>
                <a:ahLst/>
                <a:rect l="l" t="t" r="r" b="b"/>
                <a:pathLst>
                  <a:path w="1622" h="14">
                    <a:moveTo>
                      <a:pt x="1620" y="14"/>
                    </a:moveTo>
                    <a:lnTo>
                      <a:pt x="910" y="14"/>
                    </a:lnTo>
                    <a:lnTo>
                      <a:pt x="904" y="0"/>
                    </a:lnTo>
                    <a:lnTo>
                      <a:pt x="1622" y="0"/>
                    </a:lnTo>
                    <a:lnTo>
                      <a:pt x="1620" y="14"/>
                    </a:lnTo>
                    <a:close/>
                    <a:moveTo>
                      <a:pt x="69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05" y="0"/>
                    </a:lnTo>
                    <a:lnTo>
                      <a:pt x="699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977560" y="138888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4" h="15">
                    <a:moveTo>
                      <a:pt x="1622" y="15"/>
                    </a:moveTo>
                    <a:lnTo>
                      <a:pt x="908" y="15"/>
                    </a:lnTo>
                    <a:lnTo>
                      <a:pt x="902" y="0"/>
                    </a:lnTo>
                    <a:lnTo>
                      <a:pt x="1624" y="0"/>
                    </a:lnTo>
                    <a:lnTo>
                      <a:pt x="1622" y="15"/>
                    </a:lnTo>
                    <a:close/>
                    <a:moveTo>
                      <a:pt x="70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0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975760" y="1387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26" h="15">
                    <a:moveTo>
                      <a:pt x="1624" y="15"/>
                    </a:moveTo>
                    <a:lnTo>
                      <a:pt x="906" y="15"/>
                    </a:lnTo>
                    <a:lnTo>
                      <a:pt x="900" y="0"/>
                    </a:lnTo>
                    <a:lnTo>
                      <a:pt x="1626" y="0"/>
                    </a:lnTo>
                    <a:lnTo>
                      <a:pt x="1624" y="15"/>
                    </a:lnTo>
                    <a:close/>
                    <a:moveTo>
                      <a:pt x="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3" y="0"/>
                    </a:lnTo>
                    <a:lnTo>
                      <a:pt x="707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975760" y="1383480"/>
                <a:ext cx="626040" cy="540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6" y="15"/>
                    </a:moveTo>
                    <a:lnTo>
                      <a:pt x="904" y="15"/>
                    </a:lnTo>
                    <a:lnTo>
                      <a:pt x="898" y="0"/>
                    </a:lnTo>
                    <a:lnTo>
                      <a:pt x="1628" y="0"/>
                    </a:lnTo>
                    <a:lnTo>
                      <a:pt x="1626" y="15"/>
                    </a:lnTo>
                    <a:close/>
                    <a:moveTo>
                      <a:pt x="7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17" y="0"/>
                    </a:lnTo>
                    <a:lnTo>
                      <a:pt x="711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975760" y="1380240"/>
                <a:ext cx="626040" cy="6480"/>
              </a:xfrm>
              <a:custGeom>
                <a:avLst/>
                <a:gdLst/>
                <a:ahLst/>
                <a:rect l="l" t="t" r="r" b="b"/>
                <a:pathLst>
                  <a:path w="1630" h="16">
                    <a:moveTo>
                      <a:pt x="1628" y="16"/>
                    </a:moveTo>
                    <a:lnTo>
                      <a:pt x="902" y="16"/>
                    </a:lnTo>
                    <a:lnTo>
                      <a:pt x="895" y="0"/>
                    </a:lnTo>
                    <a:lnTo>
                      <a:pt x="1630" y="0"/>
                    </a:lnTo>
                    <a:lnTo>
                      <a:pt x="1628" y="16"/>
                    </a:lnTo>
                    <a:close/>
                    <a:moveTo>
                      <a:pt x="7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21" y="0"/>
                    </a:lnTo>
                    <a:lnTo>
                      <a:pt x="715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975760" y="1378080"/>
                <a:ext cx="626040" cy="5040"/>
              </a:xfrm>
              <a:custGeom>
                <a:avLst/>
                <a:gdLst/>
                <a:ahLst/>
                <a:rect l="l" t="t" r="r" b="b"/>
                <a:pathLst>
                  <a:path w="1632" h="15">
                    <a:moveTo>
                      <a:pt x="1630" y="15"/>
                    </a:moveTo>
                    <a:lnTo>
                      <a:pt x="900" y="15"/>
                    </a:lnTo>
                    <a:lnTo>
                      <a:pt x="893" y="0"/>
                    </a:lnTo>
                    <a:lnTo>
                      <a:pt x="1632" y="0"/>
                    </a:lnTo>
                    <a:lnTo>
                      <a:pt x="1630" y="15"/>
                    </a:lnTo>
                    <a:close/>
                    <a:moveTo>
                      <a:pt x="71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25" y="0"/>
                    </a:lnTo>
                    <a:lnTo>
                      <a:pt x="719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975760" y="1376640"/>
                <a:ext cx="626040" cy="3600"/>
              </a:xfrm>
              <a:custGeom>
                <a:avLst/>
                <a:gdLst/>
                <a:ahLst/>
                <a:rect l="l" t="t" r="r" b="b"/>
                <a:pathLst>
                  <a:path w="1634" h="14">
                    <a:moveTo>
                      <a:pt x="1632" y="14"/>
                    </a:moveTo>
                    <a:lnTo>
                      <a:pt x="897" y="14"/>
                    </a:lnTo>
                    <a:lnTo>
                      <a:pt x="891" y="0"/>
                    </a:lnTo>
                    <a:lnTo>
                      <a:pt x="1634" y="0"/>
                    </a:lnTo>
                    <a:lnTo>
                      <a:pt x="1632" y="14"/>
                    </a:lnTo>
                    <a:close/>
                    <a:moveTo>
                      <a:pt x="72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28" y="0"/>
                    </a:lnTo>
                    <a:lnTo>
                      <a:pt x="723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973960" y="1373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37" h="15">
                    <a:moveTo>
                      <a:pt x="1634" y="15"/>
                    </a:moveTo>
                    <a:lnTo>
                      <a:pt x="895" y="15"/>
                    </a:lnTo>
                    <a:lnTo>
                      <a:pt x="889" y="0"/>
                    </a:lnTo>
                    <a:lnTo>
                      <a:pt x="1637" y="0"/>
                    </a:lnTo>
                    <a:lnTo>
                      <a:pt x="1634" y="15"/>
                    </a:lnTo>
                    <a:close/>
                    <a:moveTo>
                      <a:pt x="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33" y="0"/>
                    </a:lnTo>
                    <a:lnTo>
                      <a:pt x="727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973960" y="1369440"/>
                <a:ext cx="629640" cy="7200"/>
              </a:xfrm>
              <a:custGeom>
                <a:avLst/>
                <a:gdLst/>
                <a:ahLst/>
                <a:rect l="l" t="t" r="r" b="b"/>
                <a:pathLst>
                  <a:path w="1639" h="16">
                    <a:moveTo>
                      <a:pt x="1636" y="16"/>
                    </a:moveTo>
                    <a:lnTo>
                      <a:pt x="893" y="16"/>
                    </a:lnTo>
                    <a:lnTo>
                      <a:pt x="888" y="0"/>
                    </a:lnTo>
                    <a:lnTo>
                      <a:pt x="1639" y="0"/>
                    </a:lnTo>
                    <a:lnTo>
                      <a:pt x="1636" y="16"/>
                    </a:lnTo>
                    <a:close/>
                    <a:moveTo>
                      <a:pt x="73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37" y="0"/>
                    </a:lnTo>
                    <a:lnTo>
                      <a:pt x="730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2973960" y="13676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1" h="16">
                    <a:moveTo>
                      <a:pt x="1639" y="16"/>
                    </a:moveTo>
                    <a:lnTo>
                      <a:pt x="891" y="16"/>
                    </a:lnTo>
                    <a:lnTo>
                      <a:pt x="886" y="0"/>
                    </a:lnTo>
                    <a:lnTo>
                      <a:pt x="1641" y="0"/>
                    </a:lnTo>
                    <a:lnTo>
                      <a:pt x="1639" y="16"/>
                    </a:lnTo>
                    <a:close/>
                    <a:moveTo>
                      <a:pt x="73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41" y="0"/>
                    </a:lnTo>
                    <a:lnTo>
                      <a:pt x="735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2973960" y="1364040"/>
                <a:ext cx="62964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2" y="15"/>
                    </a:moveTo>
                    <a:lnTo>
                      <a:pt x="891" y="15"/>
                    </a:lnTo>
                    <a:lnTo>
                      <a:pt x="885" y="0"/>
                    </a:lnTo>
                    <a:lnTo>
                      <a:pt x="1643" y="0"/>
                    </a:lnTo>
                    <a:lnTo>
                      <a:pt x="1642" y="15"/>
                    </a:lnTo>
                    <a:close/>
                    <a:moveTo>
                      <a:pt x="74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746" y="0"/>
                    </a:lnTo>
                    <a:lnTo>
                      <a:pt x="740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2971800" y="1362240"/>
                <a:ext cx="631800" cy="5400"/>
              </a:xfrm>
              <a:custGeom>
                <a:avLst/>
                <a:gdLst/>
                <a:ahLst/>
                <a:rect l="l" t="t" r="r" b="b"/>
                <a:pathLst>
                  <a:path w="1645" h="14">
                    <a:moveTo>
                      <a:pt x="1644" y="14"/>
                    </a:moveTo>
                    <a:lnTo>
                      <a:pt x="889" y="14"/>
                    </a:lnTo>
                    <a:lnTo>
                      <a:pt x="882" y="0"/>
                    </a:lnTo>
                    <a:lnTo>
                      <a:pt x="1645" y="0"/>
                    </a:lnTo>
                    <a:lnTo>
                      <a:pt x="1644" y="14"/>
                    </a:lnTo>
                    <a:close/>
                    <a:moveTo>
                      <a:pt x="744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750" y="0"/>
                    </a:lnTo>
                    <a:lnTo>
                      <a:pt x="744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2971800" y="13590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7" h="15">
                    <a:moveTo>
                      <a:pt x="1645" y="15"/>
                    </a:moveTo>
                    <a:lnTo>
                      <a:pt x="887" y="15"/>
                    </a:lnTo>
                    <a:lnTo>
                      <a:pt x="880" y="0"/>
                    </a:lnTo>
                    <a:lnTo>
                      <a:pt x="1647" y="0"/>
                    </a:lnTo>
                    <a:lnTo>
                      <a:pt x="1645" y="15"/>
                    </a:lnTo>
                    <a:close/>
                    <a:moveTo>
                      <a:pt x="74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54" y="0"/>
                    </a:lnTo>
                    <a:lnTo>
                      <a:pt x="748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2971800" y="13568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6">
                    <a:moveTo>
                      <a:pt x="1647" y="16"/>
                    </a:moveTo>
                    <a:lnTo>
                      <a:pt x="884" y="16"/>
                    </a:lnTo>
                    <a:lnTo>
                      <a:pt x="878" y="0"/>
                    </a:lnTo>
                    <a:lnTo>
                      <a:pt x="1649" y="0"/>
                    </a:lnTo>
                    <a:lnTo>
                      <a:pt x="1647" y="16"/>
                    </a:lnTo>
                    <a:close/>
                    <a:moveTo>
                      <a:pt x="75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57" y="0"/>
                    </a:lnTo>
                    <a:lnTo>
                      <a:pt x="752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2971800" y="1353240"/>
                <a:ext cx="633600" cy="5400"/>
              </a:xfrm>
              <a:custGeom>
                <a:avLst/>
                <a:gdLst/>
                <a:ahLst/>
                <a:rect l="l" t="t" r="r" b="b"/>
                <a:pathLst>
                  <a:path w="1651" h="15">
                    <a:moveTo>
                      <a:pt x="1649" y="15"/>
                    </a:moveTo>
                    <a:lnTo>
                      <a:pt x="882" y="15"/>
                    </a:lnTo>
                    <a:lnTo>
                      <a:pt x="876" y="0"/>
                    </a:lnTo>
                    <a:lnTo>
                      <a:pt x="1651" y="0"/>
                    </a:lnTo>
                    <a:lnTo>
                      <a:pt x="1649" y="15"/>
                    </a:lnTo>
                    <a:close/>
                    <a:moveTo>
                      <a:pt x="75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2" y="0"/>
                    </a:lnTo>
                    <a:lnTo>
                      <a:pt x="75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2971800" y="135180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3" h="15">
                    <a:moveTo>
                      <a:pt x="1651" y="15"/>
                    </a:moveTo>
                    <a:lnTo>
                      <a:pt x="880" y="15"/>
                    </a:lnTo>
                    <a:lnTo>
                      <a:pt x="874" y="0"/>
                    </a:lnTo>
                    <a:lnTo>
                      <a:pt x="1653" y="0"/>
                    </a:lnTo>
                    <a:lnTo>
                      <a:pt x="1651" y="15"/>
                    </a:lnTo>
                    <a:close/>
                    <a:moveTo>
                      <a:pt x="75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66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2970000" y="1348200"/>
                <a:ext cx="635400" cy="5040"/>
              </a:xfrm>
              <a:custGeom>
                <a:avLst/>
                <a:gdLst/>
                <a:ahLst/>
                <a:rect l="l" t="t" r="r" b="b"/>
                <a:pathLst>
                  <a:path w="1655" h="15">
                    <a:moveTo>
                      <a:pt x="1653" y="15"/>
                    </a:moveTo>
                    <a:lnTo>
                      <a:pt x="878" y="15"/>
                    </a:lnTo>
                    <a:lnTo>
                      <a:pt x="872" y="0"/>
                    </a:lnTo>
                    <a:lnTo>
                      <a:pt x="1655" y="0"/>
                    </a:lnTo>
                    <a:lnTo>
                      <a:pt x="1653" y="15"/>
                    </a:lnTo>
                    <a:close/>
                    <a:moveTo>
                      <a:pt x="76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70" y="0"/>
                    </a:lnTo>
                    <a:lnTo>
                      <a:pt x="764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2970000" y="13464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7" h="14">
                    <a:moveTo>
                      <a:pt x="1655" y="14"/>
                    </a:moveTo>
                    <a:lnTo>
                      <a:pt x="876" y="14"/>
                    </a:lnTo>
                    <a:lnTo>
                      <a:pt x="869" y="0"/>
                    </a:lnTo>
                    <a:lnTo>
                      <a:pt x="1657" y="0"/>
                    </a:lnTo>
                    <a:lnTo>
                      <a:pt x="1655" y="14"/>
                    </a:lnTo>
                    <a:close/>
                    <a:moveTo>
                      <a:pt x="76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74" y="0"/>
                    </a:lnTo>
                    <a:lnTo>
                      <a:pt x="768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2970000" y="134280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7" y="16"/>
                    </a:moveTo>
                    <a:lnTo>
                      <a:pt x="874" y="16"/>
                    </a:lnTo>
                    <a:lnTo>
                      <a:pt x="867" y="0"/>
                    </a:lnTo>
                    <a:lnTo>
                      <a:pt x="1659" y="0"/>
                    </a:lnTo>
                    <a:lnTo>
                      <a:pt x="1657" y="16"/>
                    </a:lnTo>
                    <a:close/>
                    <a:moveTo>
                      <a:pt x="77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78" y="0"/>
                    </a:lnTo>
                    <a:lnTo>
                      <a:pt x="772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2970000" y="13413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1" h="16">
                    <a:moveTo>
                      <a:pt x="1659" y="16"/>
                    </a:moveTo>
                    <a:lnTo>
                      <a:pt x="871" y="16"/>
                    </a:lnTo>
                    <a:lnTo>
                      <a:pt x="866" y="0"/>
                    </a:lnTo>
                    <a:lnTo>
                      <a:pt x="1661" y="0"/>
                    </a:lnTo>
                    <a:lnTo>
                      <a:pt x="1659" y="16"/>
                    </a:lnTo>
                    <a:close/>
                    <a:moveTo>
                      <a:pt x="77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82" y="0"/>
                    </a:lnTo>
                    <a:lnTo>
                      <a:pt x="77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2970000" y="133776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3" h="15">
                    <a:moveTo>
                      <a:pt x="1661" y="15"/>
                    </a:moveTo>
                    <a:lnTo>
                      <a:pt x="869" y="15"/>
                    </a:lnTo>
                    <a:lnTo>
                      <a:pt x="864" y="0"/>
                    </a:lnTo>
                    <a:lnTo>
                      <a:pt x="1663" y="0"/>
                    </a:lnTo>
                    <a:lnTo>
                      <a:pt x="1661" y="15"/>
                    </a:lnTo>
                    <a:close/>
                    <a:moveTo>
                      <a:pt x="7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780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2967840" y="1335600"/>
                <a:ext cx="639720" cy="5400"/>
              </a:xfrm>
              <a:custGeom>
                <a:avLst/>
                <a:gdLst/>
                <a:ahLst/>
                <a:rect l="l" t="t" r="r" b="b"/>
                <a:pathLst>
                  <a:path w="1665" h="15">
                    <a:moveTo>
                      <a:pt x="1663" y="15"/>
                    </a:moveTo>
                    <a:lnTo>
                      <a:pt x="868" y="15"/>
                    </a:lnTo>
                    <a:lnTo>
                      <a:pt x="862" y="0"/>
                    </a:lnTo>
                    <a:lnTo>
                      <a:pt x="1665" y="0"/>
                    </a:lnTo>
                    <a:lnTo>
                      <a:pt x="1663" y="15"/>
                    </a:lnTo>
                    <a:close/>
                    <a:moveTo>
                      <a:pt x="7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790" y="0"/>
                    </a:lnTo>
                    <a:lnTo>
                      <a:pt x="7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2967840" y="1332000"/>
                <a:ext cx="641520" cy="5400"/>
              </a:xfrm>
              <a:custGeom>
                <a:avLst/>
                <a:gdLst/>
                <a:ahLst/>
                <a:rect l="l" t="t" r="r" b="b"/>
                <a:pathLst>
                  <a:path w="1667" h="14">
                    <a:moveTo>
                      <a:pt x="1665" y="14"/>
                    </a:moveTo>
                    <a:lnTo>
                      <a:pt x="866" y="14"/>
                    </a:lnTo>
                    <a:lnTo>
                      <a:pt x="860" y="0"/>
                    </a:lnTo>
                    <a:lnTo>
                      <a:pt x="1667" y="0"/>
                    </a:lnTo>
                    <a:lnTo>
                      <a:pt x="1665" y="14"/>
                    </a:lnTo>
                    <a:close/>
                    <a:moveTo>
                      <a:pt x="78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794" y="0"/>
                    </a:lnTo>
                    <a:lnTo>
                      <a:pt x="787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2967840" y="13305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69" h="16">
                    <a:moveTo>
                      <a:pt x="1667" y="16"/>
                    </a:moveTo>
                    <a:lnTo>
                      <a:pt x="864" y="16"/>
                    </a:lnTo>
                    <a:lnTo>
                      <a:pt x="858" y="0"/>
                    </a:lnTo>
                    <a:lnTo>
                      <a:pt x="1669" y="0"/>
                    </a:lnTo>
                    <a:lnTo>
                      <a:pt x="1667" y="16"/>
                    </a:lnTo>
                    <a:close/>
                    <a:moveTo>
                      <a:pt x="7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798" y="0"/>
                    </a:lnTo>
                    <a:lnTo>
                      <a:pt x="792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2967840" y="13269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1" h="16">
                    <a:moveTo>
                      <a:pt x="1669" y="16"/>
                    </a:moveTo>
                    <a:lnTo>
                      <a:pt x="862" y="16"/>
                    </a:lnTo>
                    <a:lnTo>
                      <a:pt x="855" y="0"/>
                    </a:lnTo>
                    <a:lnTo>
                      <a:pt x="1671" y="0"/>
                    </a:lnTo>
                    <a:lnTo>
                      <a:pt x="1669" y="16"/>
                    </a:lnTo>
                    <a:close/>
                    <a:moveTo>
                      <a:pt x="7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96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2967840" y="132516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2" h="14">
                    <a:moveTo>
                      <a:pt x="1671" y="14"/>
                    </a:moveTo>
                    <a:lnTo>
                      <a:pt x="860" y="14"/>
                    </a:lnTo>
                    <a:lnTo>
                      <a:pt x="853" y="0"/>
                    </a:lnTo>
                    <a:lnTo>
                      <a:pt x="1672" y="0"/>
                    </a:lnTo>
                    <a:lnTo>
                      <a:pt x="1671" y="14"/>
                    </a:lnTo>
                    <a:close/>
                    <a:moveTo>
                      <a:pt x="80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806" y="0"/>
                    </a:lnTo>
                    <a:lnTo>
                      <a:pt x="800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2966040" y="132156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4" h="15">
                    <a:moveTo>
                      <a:pt x="1673" y="15"/>
                    </a:moveTo>
                    <a:lnTo>
                      <a:pt x="857" y="15"/>
                    </a:lnTo>
                    <a:lnTo>
                      <a:pt x="851" y="0"/>
                    </a:lnTo>
                    <a:lnTo>
                      <a:pt x="1674" y="0"/>
                    </a:lnTo>
                    <a:lnTo>
                      <a:pt x="1673" y="15"/>
                    </a:lnTo>
                    <a:close/>
                    <a:moveTo>
                      <a:pt x="8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09" y="0"/>
                    </a:lnTo>
                    <a:lnTo>
                      <a:pt x="804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2966040" y="1320120"/>
                <a:ext cx="643320" cy="5040"/>
              </a:xfrm>
              <a:custGeom>
                <a:avLst/>
                <a:gdLst/>
                <a:ahLst/>
                <a:rect l="l" t="t" r="r" b="b"/>
                <a:pathLst>
                  <a:path w="1676" h="15">
                    <a:moveTo>
                      <a:pt x="1674" y="15"/>
                    </a:moveTo>
                    <a:lnTo>
                      <a:pt x="855" y="15"/>
                    </a:lnTo>
                    <a:lnTo>
                      <a:pt x="849" y="0"/>
                    </a:lnTo>
                    <a:lnTo>
                      <a:pt x="1676" y="0"/>
                    </a:lnTo>
                    <a:lnTo>
                      <a:pt x="1674" y="15"/>
                    </a:lnTo>
                    <a:close/>
                    <a:moveTo>
                      <a:pt x="80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3" y="0"/>
                    </a:lnTo>
                    <a:lnTo>
                      <a:pt x="808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2966040" y="1316520"/>
                <a:ext cx="645480" cy="5040"/>
              </a:xfrm>
              <a:custGeom>
                <a:avLst/>
                <a:gdLst/>
                <a:ahLst/>
                <a:rect l="l" t="t" r="r" b="b"/>
                <a:pathLst>
                  <a:path w="1678" h="15">
                    <a:moveTo>
                      <a:pt x="1676" y="15"/>
                    </a:moveTo>
                    <a:lnTo>
                      <a:pt x="853" y="15"/>
                    </a:lnTo>
                    <a:lnTo>
                      <a:pt x="847" y="0"/>
                    </a:lnTo>
                    <a:lnTo>
                      <a:pt x="1678" y="0"/>
                    </a:lnTo>
                    <a:lnTo>
                      <a:pt x="1676" y="15"/>
                    </a:lnTo>
                    <a:close/>
                    <a:moveTo>
                      <a:pt x="81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18" y="0"/>
                    </a:lnTo>
                    <a:lnTo>
                      <a:pt x="81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2966040" y="1314360"/>
                <a:ext cx="645480" cy="5400"/>
              </a:xfrm>
              <a:custGeom>
                <a:avLst/>
                <a:gdLst/>
                <a:ahLst/>
                <a:rect l="l" t="t" r="r" b="b"/>
                <a:pathLst>
                  <a:path w="1681" h="16">
                    <a:moveTo>
                      <a:pt x="1678" y="16"/>
                    </a:moveTo>
                    <a:lnTo>
                      <a:pt x="851" y="16"/>
                    </a:lnTo>
                    <a:lnTo>
                      <a:pt x="845" y="0"/>
                    </a:lnTo>
                    <a:lnTo>
                      <a:pt x="1681" y="0"/>
                    </a:lnTo>
                    <a:lnTo>
                      <a:pt x="1678" y="16"/>
                    </a:lnTo>
                    <a:close/>
                    <a:moveTo>
                      <a:pt x="81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822" y="0"/>
                    </a:lnTo>
                    <a:lnTo>
                      <a:pt x="815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2963880" y="131112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1" y="15"/>
                    </a:moveTo>
                    <a:lnTo>
                      <a:pt x="850" y="15"/>
                    </a:lnTo>
                    <a:lnTo>
                      <a:pt x="844" y="0"/>
                    </a:lnTo>
                    <a:lnTo>
                      <a:pt x="1684" y="0"/>
                    </a:lnTo>
                    <a:lnTo>
                      <a:pt x="1681" y="15"/>
                    </a:lnTo>
                    <a:close/>
                    <a:moveTo>
                      <a:pt x="82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2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2963880" y="1308960"/>
                <a:ext cx="647640" cy="5040"/>
              </a:xfrm>
              <a:custGeom>
                <a:avLst/>
                <a:gdLst/>
                <a:ahLst/>
                <a:rect l="l" t="t" r="r" b="b"/>
                <a:pathLst>
                  <a:path w="1686" h="15">
                    <a:moveTo>
                      <a:pt x="1684" y="15"/>
                    </a:moveTo>
                    <a:lnTo>
                      <a:pt x="848" y="15"/>
                    </a:lnTo>
                    <a:lnTo>
                      <a:pt x="843" y="0"/>
                    </a:lnTo>
                    <a:lnTo>
                      <a:pt x="1686" y="0"/>
                    </a:lnTo>
                    <a:lnTo>
                      <a:pt x="1684" y="15"/>
                    </a:lnTo>
                    <a:close/>
                    <a:moveTo>
                      <a:pt x="825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831" y="0"/>
                    </a:lnTo>
                    <a:lnTo>
                      <a:pt x="825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2963880" y="130536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88" h="15">
                    <a:moveTo>
                      <a:pt x="1686" y="15"/>
                    </a:moveTo>
                    <a:lnTo>
                      <a:pt x="846" y="15"/>
                    </a:lnTo>
                    <a:lnTo>
                      <a:pt x="840" y="0"/>
                    </a:lnTo>
                    <a:lnTo>
                      <a:pt x="1688" y="0"/>
                    </a:lnTo>
                    <a:lnTo>
                      <a:pt x="1686" y="15"/>
                    </a:lnTo>
                    <a:close/>
                    <a:moveTo>
                      <a:pt x="8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835" y="0"/>
                    </a:lnTo>
                    <a:lnTo>
                      <a:pt x="829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2963880" y="13039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0" h="14">
                    <a:moveTo>
                      <a:pt x="1688" y="14"/>
                    </a:moveTo>
                    <a:lnTo>
                      <a:pt x="845" y="14"/>
                    </a:lnTo>
                    <a:lnTo>
                      <a:pt x="838" y="0"/>
                    </a:lnTo>
                    <a:lnTo>
                      <a:pt x="833" y="14"/>
                    </a:lnTo>
                    <a:lnTo>
                      <a:pt x="2" y="14"/>
                    </a:lnTo>
                    <a:lnTo>
                      <a:pt x="0" y="0"/>
                    </a:lnTo>
                    <a:lnTo>
                      <a:pt x="1690" y="0"/>
                    </a:lnTo>
                    <a:lnTo>
                      <a:pt x="1688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2963880" y="1300320"/>
                <a:ext cx="649440" cy="5040"/>
              </a:xfrm>
              <a:custGeom>
                <a:avLst/>
                <a:gdLst/>
                <a:ahLst/>
                <a:rect l="l" t="t" r="r" b="b"/>
                <a:pathLst>
                  <a:path w="1692" h="16">
                    <a:moveTo>
                      <a:pt x="1690" y="16"/>
                    </a:moveTo>
                    <a:lnTo>
                      <a:pt x="842" y="16"/>
                    </a:lnTo>
                    <a:lnTo>
                      <a:pt x="839" y="9"/>
                    </a:lnTo>
                    <a:lnTo>
                      <a:pt x="837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692" y="0"/>
                    </a:lnTo>
                    <a:lnTo>
                      <a:pt x="169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62080" y="12985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4" h="16">
                    <a:moveTo>
                      <a:pt x="16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694" y="0"/>
                    </a:lnTo>
                    <a:lnTo>
                      <a:pt x="1692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62080" y="1294920"/>
                <a:ext cx="650880" cy="5040"/>
              </a:xfrm>
              <a:custGeom>
                <a:avLst/>
                <a:gdLst/>
                <a:ahLst/>
                <a:rect l="l" t="t" r="r" b="b"/>
                <a:pathLst>
                  <a:path w="1696" h="14">
                    <a:moveTo>
                      <a:pt x="16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4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62080" y="1293120"/>
                <a:ext cx="652680" cy="5400"/>
              </a:xfrm>
              <a:custGeom>
                <a:avLst/>
                <a:gdLst/>
                <a:ahLst/>
                <a:rect l="l" t="t" r="r" b="b"/>
                <a:pathLst>
                  <a:path w="1698" h="15">
                    <a:moveTo>
                      <a:pt x="169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698" y="0"/>
                    </a:lnTo>
                    <a:lnTo>
                      <a:pt x="1696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62080" y="128988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6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0" y="0"/>
                    </a:lnTo>
                    <a:lnTo>
                      <a:pt x="169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2962080" y="1287720"/>
                <a:ext cx="652680" cy="5040"/>
              </a:xfrm>
              <a:custGeom>
                <a:avLst/>
                <a:gdLst/>
                <a:ahLst/>
                <a:rect l="l" t="t" r="r" b="b"/>
                <a:pathLst>
                  <a:path w="1702" h="15">
                    <a:moveTo>
                      <a:pt x="170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2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2960280" y="1284120"/>
                <a:ext cx="654480" cy="5400"/>
              </a:xfrm>
              <a:custGeom>
                <a:avLst/>
                <a:gdLst/>
                <a:ahLst/>
                <a:rect l="l" t="t" r="r" b="b"/>
                <a:pathLst>
                  <a:path w="1704" h="16">
                    <a:moveTo>
                      <a:pt x="170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04" y="0"/>
                    </a:lnTo>
                    <a:lnTo>
                      <a:pt x="1702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60280" y="12826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5">
                    <a:moveTo>
                      <a:pt x="170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5" y="0"/>
                    </a:lnTo>
                    <a:lnTo>
                      <a:pt x="1704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60280" y="127908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7" h="15">
                    <a:moveTo>
                      <a:pt x="170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7" y="0"/>
                    </a:lnTo>
                    <a:lnTo>
                      <a:pt x="1706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60280" y="12772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09" h="15">
                    <a:moveTo>
                      <a:pt x="170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09" y="0"/>
                    </a:lnTo>
                    <a:lnTo>
                      <a:pt x="170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60280" y="127368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1" h="15">
                    <a:moveTo>
                      <a:pt x="170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1" y="0"/>
                    </a:lnTo>
                    <a:lnTo>
                      <a:pt x="1709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2958120" y="1270080"/>
                <a:ext cx="658800" cy="7200"/>
              </a:xfrm>
              <a:custGeom>
                <a:avLst/>
                <a:gdLst/>
                <a:ahLst/>
                <a:rect l="l" t="t" r="r" b="b"/>
                <a:pathLst>
                  <a:path w="1713" h="16">
                    <a:moveTo>
                      <a:pt x="171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13" y="0"/>
                    </a:lnTo>
                    <a:lnTo>
                      <a:pt x="1711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2958120" y="126864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5" h="15">
                    <a:moveTo>
                      <a:pt x="171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5" y="0"/>
                    </a:lnTo>
                    <a:lnTo>
                      <a:pt x="1713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2958120" y="1266480"/>
                <a:ext cx="658800" cy="3600"/>
              </a:xfrm>
              <a:custGeom>
                <a:avLst/>
                <a:gdLst/>
                <a:ahLst/>
                <a:rect l="l" t="t" r="r" b="b"/>
                <a:pathLst>
                  <a:path w="1717" h="14">
                    <a:moveTo>
                      <a:pt x="171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1717" y="0"/>
                    </a:lnTo>
                    <a:lnTo>
                      <a:pt x="171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2958120" y="126324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19" h="15">
                    <a:moveTo>
                      <a:pt x="171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19" y="0"/>
                    </a:lnTo>
                    <a:lnTo>
                      <a:pt x="1717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2958120" y="1259640"/>
                <a:ext cx="660600" cy="6480"/>
              </a:xfrm>
              <a:custGeom>
                <a:avLst/>
                <a:gdLst/>
                <a:ahLst/>
                <a:rect l="l" t="t" r="r" b="b"/>
                <a:pathLst>
                  <a:path w="1721" h="16">
                    <a:moveTo>
                      <a:pt x="171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21" y="0"/>
                    </a:lnTo>
                    <a:lnTo>
                      <a:pt x="1719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2956680" y="12578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5">
                    <a:moveTo>
                      <a:pt x="172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5" y="0"/>
                    </a:lnTo>
                    <a:lnTo>
                      <a:pt x="172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2956680" y="125424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7" h="15">
                    <a:moveTo>
                      <a:pt x="1724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1727" y="0"/>
                    </a:lnTo>
                    <a:lnTo>
                      <a:pt x="172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956680" y="12524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29" h="15">
                    <a:moveTo>
                      <a:pt x="172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29" y="0"/>
                    </a:lnTo>
                    <a:lnTo>
                      <a:pt x="1727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2956680" y="124884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5">
                    <a:moveTo>
                      <a:pt x="172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729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2954520" y="1247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3" h="16">
                    <a:moveTo>
                      <a:pt x="173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733" y="0"/>
                    </a:lnTo>
                    <a:lnTo>
                      <a:pt x="1731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2954520" y="12438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5" h="15">
                    <a:moveTo>
                      <a:pt x="173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2" y="0"/>
                    </a:lnTo>
                    <a:lnTo>
                      <a:pt x="473" y="4"/>
                    </a:lnTo>
                    <a:lnTo>
                      <a:pt x="474" y="0"/>
                    </a:lnTo>
                    <a:lnTo>
                      <a:pt x="1242" y="0"/>
                    </a:lnTo>
                    <a:lnTo>
                      <a:pt x="1243" y="4"/>
                    </a:lnTo>
                    <a:lnTo>
                      <a:pt x="1244" y="0"/>
                    </a:lnTo>
                    <a:lnTo>
                      <a:pt x="1735" y="0"/>
                    </a:lnTo>
                    <a:lnTo>
                      <a:pt x="1733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954520" y="12420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5">
                    <a:moveTo>
                      <a:pt x="173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2"/>
                    </a:lnTo>
                    <a:lnTo>
                      <a:pt x="478" y="0"/>
                    </a:lnTo>
                    <a:lnTo>
                      <a:pt x="1240" y="0"/>
                    </a:lnTo>
                    <a:lnTo>
                      <a:pt x="1244" y="12"/>
                    </a:lnTo>
                    <a:lnTo>
                      <a:pt x="1246" y="0"/>
                    </a:lnTo>
                    <a:lnTo>
                      <a:pt x="1736" y="0"/>
                    </a:lnTo>
                    <a:lnTo>
                      <a:pt x="1735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954520" y="123840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8" h="15">
                    <a:moveTo>
                      <a:pt x="1737" y="15"/>
                    </a:moveTo>
                    <a:lnTo>
                      <a:pt x="1246" y="15"/>
                    </a:lnTo>
                    <a:lnTo>
                      <a:pt x="1249" y="0"/>
                    </a:lnTo>
                    <a:lnTo>
                      <a:pt x="1738" y="0"/>
                    </a:lnTo>
                    <a:lnTo>
                      <a:pt x="1737" y="15"/>
                    </a:lnTo>
                    <a:close/>
                    <a:moveTo>
                      <a:pt x="1244" y="15"/>
                    </a:moveTo>
                    <a:lnTo>
                      <a:pt x="476" y="15"/>
                    </a:lnTo>
                    <a:lnTo>
                      <a:pt x="48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954520" y="123660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0" h="14">
                    <a:moveTo>
                      <a:pt x="1738" y="14"/>
                    </a:moveTo>
                    <a:lnTo>
                      <a:pt x="1248" y="14"/>
                    </a:lnTo>
                    <a:lnTo>
                      <a:pt x="1251" y="0"/>
                    </a:lnTo>
                    <a:lnTo>
                      <a:pt x="1740" y="0"/>
                    </a:lnTo>
                    <a:lnTo>
                      <a:pt x="1738" y="14"/>
                    </a:lnTo>
                    <a:close/>
                    <a:moveTo>
                      <a:pt x="1242" y="14"/>
                    </a:moveTo>
                    <a:lnTo>
                      <a:pt x="480" y="14"/>
                    </a:lnTo>
                    <a:lnTo>
                      <a:pt x="486" y="0"/>
                    </a:lnTo>
                    <a:lnTo>
                      <a:pt x="1236" y="0"/>
                    </a:lnTo>
                    <a:lnTo>
                      <a:pt x="1242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2952720" y="12333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2" h="16">
                    <a:moveTo>
                      <a:pt x="1740" y="16"/>
                    </a:moveTo>
                    <a:lnTo>
                      <a:pt x="1251" y="16"/>
                    </a:lnTo>
                    <a:lnTo>
                      <a:pt x="1253" y="0"/>
                    </a:lnTo>
                    <a:lnTo>
                      <a:pt x="1742" y="0"/>
                    </a:lnTo>
                    <a:lnTo>
                      <a:pt x="1740" y="16"/>
                    </a:lnTo>
                    <a:close/>
                    <a:moveTo>
                      <a:pt x="1240" y="16"/>
                    </a:moveTo>
                    <a:lnTo>
                      <a:pt x="484" y="16"/>
                    </a:lnTo>
                    <a:lnTo>
                      <a:pt x="490" y="0"/>
                    </a:lnTo>
                    <a:lnTo>
                      <a:pt x="1234" y="0"/>
                    </a:lnTo>
                    <a:lnTo>
                      <a:pt x="1240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2952720" y="123120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4" h="16">
                    <a:moveTo>
                      <a:pt x="1742" y="16"/>
                    </a:moveTo>
                    <a:lnTo>
                      <a:pt x="1253" y="16"/>
                    </a:lnTo>
                    <a:lnTo>
                      <a:pt x="1255" y="0"/>
                    </a:lnTo>
                    <a:lnTo>
                      <a:pt x="1744" y="0"/>
                    </a:lnTo>
                    <a:lnTo>
                      <a:pt x="1742" y="16"/>
                    </a:lnTo>
                    <a:close/>
                    <a:moveTo>
                      <a:pt x="1238" y="16"/>
                    </a:moveTo>
                    <a:lnTo>
                      <a:pt x="488" y="16"/>
                    </a:lnTo>
                    <a:lnTo>
                      <a:pt x="496" y="0"/>
                    </a:lnTo>
                    <a:lnTo>
                      <a:pt x="1232" y="0"/>
                    </a:lnTo>
                    <a:lnTo>
                      <a:pt x="1238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952720" y="1227600"/>
                <a:ext cx="670320" cy="5400"/>
              </a:xfrm>
              <a:custGeom>
                <a:avLst/>
                <a:gdLst/>
                <a:ahLst/>
                <a:rect l="l" t="t" r="r" b="b"/>
                <a:pathLst>
                  <a:path w="1746" h="14">
                    <a:moveTo>
                      <a:pt x="1744" y="14"/>
                    </a:moveTo>
                    <a:lnTo>
                      <a:pt x="1255" y="14"/>
                    </a:lnTo>
                    <a:lnTo>
                      <a:pt x="1257" y="0"/>
                    </a:lnTo>
                    <a:lnTo>
                      <a:pt x="1746" y="0"/>
                    </a:lnTo>
                    <a:lnTo>
                      <a:pt x="1744" y="14"/>
                    </a:lnTo>
                    <a:close/>
                    <a:moveTo>
                      <a:pt x="1236" y="14"/>
                    </a:moveTo>
                    <a:lnTo>
                      <a:pt x="492" y="14"/>
                    </a:lnTo>
                    <a:lnTo>
                      <a:pt x="500" y="0"/>
                    </a:lnTo>
                    <a:lnTo>
                      <a:pt x="1229" y="0"/>
                    </a:lnTo>
                    <a:lnTo>
                      <a:pt x="1236" y="14"/>
                    </a:lnTo>
                    <a:close/>
                    <a:moveTo>
                      <a:pt x="47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952720" y="1226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8" h="15">
                    <a:moveTo>
                      <a:pt x="1746" y="15"/>
                    </a:moveTo>
                    <a:lnTo>
                      <a:pt x="1257" y="15"/>
                    </a:lnTo>
                    <a:lnTo>
                      <a:pt x="1259" y="0"/>
                    </a:lnTo>
                    <a:lnTo>
                      <a:pt x="1748" y="0"/>
                    </a:lnTo>
                    <a:lnTo>
                      <a:pt x="1746" y="15"/>
                    </a:lnTo>
                    <a:close/>
                    <a:moveTo>
                      <a:pt x="1234" y="15"/>
                    </a:moveTo>
                    <a:lnTo>
                      <a:pt x="498" y="15"/>
                    </a:lnTo>
                    <a:lnTo>
                      <a:pt x="504" y="0"/>
                    </a:lnTo>
                    <a:lnTo>
                      <a:pt x="1227" y="0"/>
                    </a:lnTo>
                    <a:lnTo>
                      <a:pt x="1234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952720" y="12225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0" h="15">
                    <a:moveTo>
                      <a:pt x="1748" y="15"/>
                    </a:moveTo>
                    <a:lnTo>
                      <a:pt x="1259" y="15"/>
                    </a:lnTo>
                    <a:lnTo>
                      <a:pt x="1260" y="0"/>
                    </a:lnTo>
                    <a:lnTo>
                      <a:pt x="1750" y="0"/>
                    </a:lnTo>
                    <a:lnTo>
                      <a:pt x="1748" y="15"/>
                    </a:lnTo>
                    <a:close/>
                    <a:moveTo>
                      <a:pt x="1231" y="15"/>
                    </a:moveTo>
                    <a:lnTo>
                      <a:pt x="502" y="15"/>
                    </a:lnTo>
                    <a:lnTo>
                      <a:pt x="508" y="0"/>
                    </a:lnTo>
                    <a:lnTo>
                      <a:pt x="1225" y="0"/>
                    </a:lnTo>
                    <a:lnTo>
                      <a:pt x="1231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2950920" y="12207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2" h="15">
                    <a:moveTo>
                      <a:pt x="1750" y="15"/>
                    </a:moveTo>
                    <a:lnTo>
                      <a:pt x="1261" y="15"/>
                    </a:lnTo>
                    <a:lnTo>
                      <a:pt x="1262" y="0"/>
                    </a:lnTo>
                    <a:lnTo>
                      <a:pt x="1752" y="0"/>
                    </a:lnTo>
                    <a:lnTo>
                      <a:pt x="1750" y="15"/>
                    </a:lnTo>
                    <a:close/>
                    <a:moveTo>
                      <a:pt x="1229" y="15"/>
                    </a:moveTo>
                    <a:lnTo>
                      <a:pt x="506" y="15"/>
                    </a:lnTo>
                    <a:lnTo>
                      <a:pt x="512" y="0"/>
                    </a:lnTo>
                    <a:lnTo>
                      <a:pt x="1223" y="0"/>
                    </a:lnTo>
                    <a:lnTo>
                      <a:pt x="1229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2950920" y="121716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4" h="16">
                    <a:moveTo>
                      <a:pt x="1752" y="16"/>
                    </a:moveTo>
                    <a:lnTo>
                      <a:pt x="1262" y="16"/>
                    </a:lnTo>
                    <a:lnTo>
                      <a:pt x="1264" y="0"/>
                    </a:lnTo>
                    <a:lnTo>
                      <a:pt x="1754" y="0"/>
                    </a:lnTo>
                    <a:lnTo>
                      <a:pt x="1752" y="16"/>
                    </a:lnTo>
                    <a:close/>
                    <a:moveTo>
                      <a:pt x="1227" y="16"/>
                    </a:moveTo>
                    <a:lnTo>
                      <a:pt x="510" y="16"/>
                    </a:lnTo>
                    <a:lnTo>
                      <a:pt x="516" y="0"/>
                    </a:lnTo>
                    <a:lnTo>
                      <a:pt x="1221" y="0"/>
                    </a:lnTo>
                    <a:lnTo>
                      <a:pt x="1227" y="16"/>
                    </a:lnTo>
                    <a:close/>
                    <a:moveTo>
                      <a:pt x="47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950920" y="1215360"/>
                <a:ext cx="673560" cy="5400"/>
              </a:xfrm>
              <a:custGeom>
                <a:avLst/>
                <a:gdLst/>
                <a:ahLst/>
                <a:rect l="l" t="t" r="r" b="b"/>
                <a:pathLst>
                  <a:path w="1756" h="15">
                    <a:moveTo>
                      <a:pt x="1754" y="15"/>
                    </a:moveTo>
                    <a:lnTo>
                      <a:pt x="1264" y="15"/>
                    </a:lnTo>
                    <a:lnTo>
                      <a:pt x="1266" y="0"/>
                    </a:lnTo>
                    <a:lnTo>
                      <a:pt x="1756" y="0"/>
                    </a:lnTo>
                    <a:lnTo>
                      <a:pt x="1754" y="15"/>
                    </a:lnTo>
                    <a:close/>
                    <a:moveTo>
                      <a:pt x="1225" y="15"/>
                    </a:moveTo>
                    <a:lnTo>
                      <a:pt x="514" y="15"/>
                    </a:lnTo>
                    <a:lnTo>
                      <a:pt x="520" y="0"/>
                    </a:lnTo>
                    <a:lnTo>
                      <a:pt x="1219" y="0"/>
                    </a:lnTo>
                    <a:lnTo>
                      <a:pt x="1225" y="15"/>
                    </a:lnTo>
                    <a:close/>
                    <a:moveTo>
                      <a:pt x="47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950920" y="1212120"/>
                <a:ext cx="673560" cy="5040"/>
              </a:xfrm>
              <a:custGeom>
                <a:avLst/>
                <a:gdLst/>
                <a:ahLst/>
                <a:rect l="l" t="t" r="r" b="b"/>
                <a:pathLst>
                  <a:path w="1758" h="15">
                    <a:moveTo>
                      <a:pt x="1756" y="15"/>
                    </a:moveTo>
                    <a:lnTo>
                      <a:pt x="1266" y="15"/>
                    </a:lnTo>
                    <a:lnTo>
                      <a:pt x="1268" y="0"/>
                    </a:lnTo>
                    <a:lnTo>
                      <a:pt x="1758" y="0"/>
                    </a:lnTo>
                    <a:lnTo>
                      <a:pt x="1756" y="15"/>
                    </a:lnTo>
                    <a:close/>
                    <a:moveTo>
                      <a:pt x="1223" y="15"/>
                    </a:moveTo>
                    <a:lnTo>
                      <a:pt x="518" y="15"/>
                    </a:lnTo>
                    <a:lnTo>
                      <a:pt x="525" y="0"/>
                    </a:lnTo>
                    <a:lnTo>
                      <a:pt x="1217" y="0"/>
                    </a:lnTo>
                    <a:lnTo>
                      <a:pt x="1223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950920" y="1209960"/>
                <a:ext cx="675720" cy="5040"/>
              </a:xfrm>
              <a:custGeom>
                <a:avLst/>
                <a:gdLst/>
                <a:ahLst/>
                <a:rect l="l" t="t" r="r" b="b"/>
                <a:pathLst>
                  <a:path w="1760" h="15">
                    <a:moveTo>
                      <a:pt x="1758" y="15"/>
                    </a:moveTo>
                    <a:lnTo>
                      <a:pt x="1268" y="15"/>
                    </a:lnTo>
                    <a:lnTo>
                      <a:pt x="1270" y="0"/>
                    </a:lnTo>
                    <a:lnTo>
                      <a:pt x="1760" y="0"/>
                    </a:lnTo>
                    <a:lnTo>
                      <a:pt x="1758" y="15"/>
                    </a:lnTo>
                    <a:close/>
                    <a:moveTo>
                      <a:pt x="1221" y="15"/>
                    </a:moveTo>
                    <a:lnTo>
                      <a:pt x="522" y="15"/>
                    </a:lnTo>
                    <a:lnTo>
                      <a:pt x="529" y="0"/>
                    </a:lnTo>
                    <a:lnTo>
                      <a:pt x="1214" y="0"/>
                    </a:lnTo>
                    <a:lnTo>
                      <a:pt x="1221" y="15"/>
                    </a:lnTo>
                    <a:close/>
                    <a:moveTo>
                      <a:pt x="47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4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2948760" y="1206360"/>
                <a:ext cx="677880" cy="5400"/>
              </a:xfrm>
              <a:custGeom>
                <a:avLst/>
                <a:gdLst/>
                <a:ahLst/>
                <a:rect l="l" t="t" r="r" b="b"/>
                <a:pathLst>
                  <a:path w="1762" h="14">
                    <a:moveTo>
                      <a:pt x="1760" y="14"/>
                    </a:moveTo>
                    <a:lnTo>
                      <a:pt x="1270" y="14"/>
                    </a:lnTo>
                    <a:lnTo>
                      <a:pt x="1272" y="0"/>
                    </a:lnTo>
                    <a:lnTo>
                      <a:pt x="1762" y="0"/>
                    </a:lnTo>
                    <a:lnTo>
                      <a:pt x="1760" y="14"/>
                    </a:lnTo>
                    <a:close/>
                    <a:moveTo>
                      <a:pt x="1219" y="14"/>
                    </a:moveTo>
                    <a:lnTo>
                      <a:pt x="527" y="14"/>
                    </a:lnTo>
                    <a:lnTo>
                      <a:pt x="533" y="0"/>
                    </a:lnTo>
                    <a:lnTo>
                      <a:pt x="1212" y="0"/>
                    </a:lnTo>
                    <a:lnTo>
                      <a:pt x="1219" y="14"/>
                    </a:lnTo>
                    <a:close/>
                    <a:moveTo>
                      <a:pt x="476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5" y="0"/>
                    </a:lnTo>
                    <a:lnTo>
                      <a:pt x="476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2948760" y="12049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5" h="16">
                    <a:moveTo>
                      <a:pt x="1763" y="16"/>
                    </a:moveTo>
                    <a:lnTo>
                      <a:pt x="1273" y="16"/>
                    </a:lnTo>
                    <a:lnTo>
                      <a:pt x="1275" y="0"/>
                    </a:lnTo>
                    <a:lnTo>
                      <a:pt x="1765" y="0"/>
                    </a:lnTo>
                    <a:lnTo>
                      <a:pt x="1763" y="16"/>
                    </a:lnTo>
                    <a:close/>
                    <a:moveTo>
                      <a:pt x="1217" y="16"/>
                    </a:moveTo>
                    <a:lnTo>
                      <a:pt x="532" y="16"/>
                    </a:lnTo>
                    <a:lnTo>
                      <a:pt x="538" y="0"/>
                    </a:lnTo>
                    <a:lnTo>
                      <a:pt x="1211" y="0"/>
                    </a:lnTo>
                    <a:lnTo>
                      <a:pt x="1217" y="16"/>
                    </a:lnTo>
                    <a:close/>
                    <a:moveTo>
                      <a:pt x="47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948760" y="12013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6" h="16">
                    <a:moveTo>
                      <a:pt x="1765" y="16"/>
                    </a:moveTo>
                    <a:lnTo>
                      <a:pt x="1275" y="16"/>
                    </a:lnTo>
                    <a:lnTo>
                      <a:pt x="1277" y="0"/>
                    </a:lnTo>
                    <a:lnTo>
                      <a:pt x="1766" y="0"/>
                    </a:lnTo>
                    <a:lnTo>
                      <a:pt x="1765" y="16"/>
                    </a:lnTo>
                    <a:close/>
                    <a:moveTo>
                      <a:pt x="1215" y="16"/>
                    </a:moveTo>
                    <a:lnTo>
                      <a:pt x="536" y="16"/>
                    </a:lnTo>
                    <a:lnTo>
                      <a:pt x="542" y="0"/>
                    </a:lnTo>
                    <a:lnTo>
                      <a:pt x="1209" y="0"/>
                    </a:lnTo>
                    <a:lnTo>
                      <a:pt x="1215" y="16"/>
                    </a:lnTo>
                    <a:close/>
                    <a:moveTo>
                      <a:pt x="478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948760" y="1199520"/>
                <a:ext cx="677880" cy="5040"/>
              </a:xfrm>
              <a:custGeom>
                <a:avLst/>
                <a:gdLst/>
                <a:ahLst/>
                <a:rect l="l" t="t" r="r" b="b"/>
                <a:pathLst>
                  <a:path w="1769" h="14">
                    <a:moveTo>
                      <a:pt x="1767" y="14"/>
                    </a:moveTo>
                    <a:lnTo>
                      <a:pt x="1277" y="14"/>
                    </a:lnTo>
                    <a:lnTo>
                      <a:pt x="1279" y="0"/>
                    </a:lnTo>
                    <a:lnTo>
                      <a:pt x="1769" y="0"/>
                    </a:lnTo>
                    <a:lnTo>
                      <a:pt x="1767" y="14"/>
                    </a:lnTo>
                    <a:close/>
                    <a:moveTo>
                      <a:pt x="1213" y="14"/>
                    </a:moveTo>
                    <a:lnTo>
                      <a:pt x="540" y="14"/>
                    </a:lnTo>
                    <a:lnTo>
                      <a:pt x="546" y="0"/>
                    </a:lnTo>
                    <a:lnTo>
                      <a:pt x="1207" y="0"/>
                    </a:lnTo>
                    <a:lnTo>
                      <a:pt x="1213" y="14"/>
                    </a:lnTo>
                    <a:close/>
                    <a:moveTo>
                      <a:pt x="47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946960" y="119592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1" h="15">
                    <a:moveTo>
                      <a:pt x="1768" y="15"/>
                    </a:moveTo>
                    <a:lnTo>
                      <a:pt x="1279" y="15"/>
                    </a:lnTo>
                    <a:lnTo>
                      <a:pt x="1281" y="0"/>
                    </a:lnTo>
                    <a:lnTo>
                      <a:pt x="1771" y="0"/>
                    </a:lnTo>
                    <a:lnTo>
                      <a:pt x="1768" y="15"/>
                    </a:lnTo>
                    <a:close/>
                    <a:moveTo>
                      <a:pt x="1211" y="15"/>
                    </a:moveTo>
                    <a:lnTo>
                      <a:pt x="544" y="15"/>
                    </a:lnTo>
                    <a:lnTo>
                      <a:pt x="552" y="0"/>
                    </a:lnTo>
                    <a:lnTo>
                      <a:pt x="1205" y="0"/>
                    </a:lnTo>
                    <a:lnTo>
                      <a:pt x="1211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6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2946960" y="11944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1" y="15"/>
                    </a:moveTo>
                    <a:lnTo>
                      <a:pt x="1281" y="15"/>
                    </a:lnTo>
                    <a:lnTo>
                      <a:pt x="1283" y="0"/>
                    </a:lnTo>
                    <a:lnTo>
                      <a:pt x="1773" y="0"/>
                    </a:lnTo>
                    <a:lnTo>
                      <a:pt x="1771" y="15"/>
                    </a:lnTo>
                    <a:close/>
                    <a:moveTo>
                      <a:pt x="1209" y="15"/>
                    </a:moveTo>
                    <a:lnTo>
                      <a:pt x="548" y="15"/>
                    </a:lnTo>
                    <a:lnTo>
                      <a:pt x="556" y="0"/>
                    </a:lnTo>
                    <a:lnTo>
                      <a:pt x="1202" y="0"/>
                    </a:lnTo>
                    <a:lnTo>
                      <a:pt x="1209" y="15"/>
                    </a:lnTo>
                    <a:close/>
                    <a:moveTo>
                      <a:pt x="47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2946960" y="119088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5" h="16">
                    <a:moveTo>
                      <a:pt x="1773" y="16"/>
                    </a:moveTo>
                    <a:lnTo>
                      <a:pt x="1283" y="16"/>
                    </a:lnTo>
                    <a:lnTo>
                      <a:pt x="1285" y="0"/>
                    </a:lnTo>
                    <a:lnTo>
                      <a:pt x="1775" y="0"/>
                    </a:lnTo>
                    <a:lnTo>
                      <a:pt x="1773" y="16"/>
                    </a:lnTo>
                    <a:close/>
                    <a:moveTo>
                      <a:pt x="1207" y="16"/>
                    </a:moveTo>
                    <a:lnTo>
                      <a:pt x="554" y="16"/>
                    </a:lnTo>
                    <a:lnTo>
                      <a:pt x="560" y="0"/>
                    </a:lnTo>
                    <a:lnTo>
                      <a:pt x="1200" y="0"/>
                    </a:lnTo>
                    <a:lnTo>
                      <a:pt x="1207" y="16"/>
                    </a:lnTo>
                    <a:close/>
                    <a:moveTo>
                      <a:pt x="47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8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946960" y="11887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7" h="16">
                    <a:moveTo>
                      <a:pt x="1775" y="16"/>
                    </a:moveTo>
                    <a:lnTo>
                      <a:pt x="1285" y="16"/>
                    </a:lnTo>
                    <a:lnTo>
                      <a:pt x="1287" y="0"/>
                    </a:lnTo>
                    <a:lnTo>
                      <a:pt x="1777" y="0"/>
                    </a:lnTo>
                    <a:lnTo>
                      <a:pt x="1775" y="16"/>
                    </a:lnTo>
                    <a:close/>
                    <a:moveTo>
                      <a:pt x="1204" y="16"/>
                    </a:moveTo>
                    <a:lnTo>
                      <a:pt x="558" y="16"/>
                    </a:lnTo>
                    <a:lnTo>
                      <a:pt x="564" y="0"/>
                    </a:lnTo>
                    <a:lnTo>
                      <a:pt x="1197" y="0"/>
                    </a:lnTo>
                    <a:lnTo>
                      <a:pt x="1204" y="16"/>
                    </a:lnTo>
                    <a:close/>
                    <a:moveTo>
                      <a:pt x="47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946960" y="1185120"/>
                <a:ext cx="681480" cy="5400"/>
              </a:xfrm>
              <a:custGeom>
                <a:avLst/>
                <a:gdLst/>
                <a:ahLst/>
                <a:rect l="l" t="t" r="r" b="b"/>
                <a:pathLst>
                  <a:path w="1779" h="14">
                    <a:moveTo>
                      <a:pt x="1777" y="14"/>
                    </a:moveTo>
                    <a:lnTo>
                      <a:pt x="1287" y="14"/>
                    </a:lnTo>
                    <a:lnTo>
                      <a:pt x="1289" y="0"/>
                    </a:lnTo>
                    <a:lnTo>
                      <a:pt x="1779" y="0"/>
                    </a:lnTo>
                    <a:lnTo>
                      <a:pt x="1777" y="14"/>
                    </a:lnTo>
                    <a:close/>
                    <a:moveTo>
                      <a:pt x="1202" y="14"/>
                    </a:moveTo>
                    <a:lnTo>
                      <a:pt x="562" y="14"/>
                    </a:lnTo>
                    <a:lnTo>
                      <a:pt x="568" y="0"/>
                    </a:lnTo>
                    <a:lnTo>
                      <a:pt x="1195" y="0"/>
                    </a:lnTo>
                    <a:lnTo>
                      <a:pt x="1202" y="14"/>
                    </a:lnTo>
                    <a:close/>
                    <a:moveTo>
                      <a:pt x="47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944800" y="1183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1" h="15">
                    <a:moveTo>
                      <a:pt x="1779" y="15"/>
                    </a:moveTo>
                    <a:lnTo>
                      <a:pt x="1289" y="15"/>
                    </a:lnTo>
                    <a:lnTo>
                      <a:pt x="1292" y="0"/>
                    </a:lnTo>
                    <a:lnTo>
                      <a:pt x="1781" y="0"/>
                    </a:lnTo>
                    <a:lnTo>
                      <a:pt x="1779" y="15"/>
                    </a:lnTo>
                    <a:close/>
                    <a:moveTo>
                      <a:pt x="1199" y="15"/>
                    </a:moveTo>
                    <a:lnTo>
                      <a:pt x="566" y="15"/>
                    </a:lnTo>
                    <a:lnTo>
                      <a:pt x="572" y="0"/>
                    </a:lnTo>
                    <a:lnTo>
                      <a:pt x="1193" y="0"/>
                    </a:lnTo>
                    <a:lnTo>
                      <a:pt x="1199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7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2944800" y="11800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3" h="15">
                    <a:moveTo>
                      <a:pt x="1781" y="15"/>
                    </a:moveTo>
                    <a:lnTo>
                      <a:pt x="1291" y="15"/>
                    </a:lnTo>
                    <a:lnTo>
                      <a:pt x="1294" y="0"/>
                    </a:lnTo>
                    <a:lnTo>
                      <a:pt x="1783" y="0"/>
                    </a:lnTo>
                    <a:lnTo>
                      <a:pt x="1781" y="15"/>
                    </a:lnTo>
                    <a:close/>
                    <a:moveTo>
                      <a:pt x="1197" y="15"/>
                    </a:moveTo>
                    <a:lnTo>
                      <a:pt x="570" y="15"/>
                    </a:lnTo>
                    <a:lnTo>
                      <a:pt x="576" y="0"/>
                    </a:lnTo>
                    <a:lnTo>
                      <a:pt x="1191" y="0"/>
                    </a:lnTo>
                    <a:lnTo>
                      <a:pt x="1197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2944800" y="11782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5" h="15">
                    <a:moveTo>
                      <a:pt x="1783" y="15"/>
                    </a:moveTo>
                    <a:lnTo>
                      <a:pt x="1294" y="15"/>
                    </a:lnTo>
                    <a:lnTo>
                      <a:pt x="1296" y="0"/>
                    </a:lnTo>
                    <a:lnTo>
                      <a:pt x="1785" y="0"/>
                    </a:lnTo>
                    <a:lnTo>
                      <a:pt x="1783" y="15"/>
                    </a:lnTo>
                    <a:close/>
                    <a:moveTo>
                      <a:pt x="1195" y="15"/>
                    </a:moveTo>
                    <a:lnTo>
                      <a:pt x="574" y="15"/>
                    </a:lnTo>
                    <a:lnTo>
                      <a:pt x="581" y="0"/>
                    </a:lnTo>
                    <a:lnTo>
                      <a:pt x="1189" y="0"/>
                    </a:lnTo>
                    <a:lnTo>
                      <a:pt x="1195" y="15"/>
                    </a:lnTo>
                    <a:close/>
                    <a:moveTo>
                      <a:pt x="47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79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944800" y="117468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7" h="16">
                    <a:moveTo>
                      <a:pt x="1785" y="16"/>
                    </a:moveTo>
                    <a:lnTo>
                      <a:pt x="1296" y="16"/>
                    </a:lnTo>
                    <a:lnTo>
                      <a:pt x="1298" y="0"/>
                    </a:lnTo>
                    <a:lnTo>
                      <a:pt x="1787" y="0"/>
                    </a:lnTo>
                    <a:lnTo>
                      <a:pt x="1785" y="16"/>
                    </a:lnTo>
                    <a:close/>
                    <a:moveTo>
                      <a:pt x="1193" y="16"/>
                    </a:moveTo>
                    <a:lnTo>
                      <a:pt x="578" y="16"/>
                    </a:lnTo>
                    <a:lnTo>
                      <a:pt x="585" y="0"/>
                    </a:lnTo>
                    <a:lnTo>
                      <a:pt x="1186" y="0"/>
                    </a:lnTo>
                    <a:lnTo>
                      <a:pt x="1193" y="16"/>
                    </a:lnTo>
                    <a:close/>
                    <a:moveTo>
                      <a:pt x="48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944800" y="117324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9" h="15">
                    <a:moveTo>
                      <a:pt x="1787" y="15"/>
                    </a:moveTo>
                    <a:lnTo>
                      <a:pt x="1298" y="15"/>
                    </a:lnTo>
                    <a:lnTo>
                      <a:pt x="1300" y="0"/>
                    </a:lnTo>
                    <a:lnTo>
                      <a:pt x="1789" y="0"/>
                    </a:lnTo>
                    <a:lnTo>
                      <a:pt x="1787" y="15"/>
                    </a:lnTo>
                    <a:close/>
                    <a:moveTo>
                      <a:pt x="1191" y="15"/>
                    </a:moveTo>
                    <a:lnTo>
                      <a:pt x="583" y="15"/>
                    </a:lnTo>
                    <a:lnTo>
                      <a:pt x="589" y="0"/>
                    </a:lnTo>
                    <a:lnTo>
                      <a:pt x="1184" y="0"/>
                    </a:lnTo>
                    <a:lnTo>
                      <a:pt x="1191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943000" y="11696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1" h="14">
                    <a:moveTo>
                      <a:pt x="1789" y="14"/>
                    </a:moveTo>
                    <a:lnTo>
                      <a:pt x="1300" y="14"/>
                    </a:lnTo>
                    <a:lnTo>
                      <a:pt x="1302" y="0"/>
                    </a:lnTo>
                    <a:lnTo>
                      <a:pt x="1791" y="0"/>
                    </a:lnTo>
                    <a:lnTo>
                      <a:pt x="1789" y="14"/>
                    </a:lnTo>
                    <a:close/>
                    <a:moveTo>
                      <a:pt x="1188" y="14"/>
                    </a:moveTo>
                    <a:lnTo>
                      <a:pt x="587" y="14"/>
                    </a:lnTo>
                    <a:lnTo>
                      <a:pt x="593" y="0"/>
                    </a:lnTo>
                    <a:lnTo>
                      <a:pt x="1182" y="0"/>
                    </a:lnTo>
                    <a:lnTo>
                      <a:pt x="118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2943000" y="116748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3" h="15">
                    <a:moveTo>
                      <a:pt x="1791" y="15"/>
                    </a:moveTo>
                    <a:lnTo>
                      <a:pt x="1302" y="15"/>
                    </a:lnTo>
                    <a:lnTo>
                      <a:pt x="1304" y="0"/>
                    </a:lnTo>
                    <a:lnTo>
                      <a:pt x="1793" y="0"/>
                    </a:lnTo>
                    <a:lnTo>
                      <a:pt x="1791" y="15"/>
                    </a:lnTo>
                    <a:close/>
                    <a:moveTo>
                      <a:pt x="1186" y="15"/>
                    </a:moveTo>
                    <a:lnTo>
                      <a:pt x="591" y="15"/>
                    </a:lnTo>
                    <a:lnTo>
                      <a:pt x="597" y="0"/>
                    </a:lnTo>
                    <a:lnTo>
                      <a:pt x="1180" y="0"/>
                    </a:lnTo>
                    <a:lnTo>
                      <a:pt x="1186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2943000" y="116424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5" h="16">
                    <a:moveTo>
                      <a:pt x="1793" y="16"/>
                    </a:moveTo>
                    <a:lnTo>
                      <a:pt x="1304" y="16"/>
                    </a:lnTo>
                    <a:lnTo>
                      <a:pt x="1306" y="0"/>
                    </a:lnTo>
                    <a:lnTo>
                      <a:pt x="1795" y="0"/>
                    </a:lnTo>
                    <a:lnTo>
                      <a:pt x="1793" y="16"/>
                    </a:lnTo>
                    <a:close/>
                    <a:moveTo>
                      <a:pt x="1184" y="16"/>
                    </a:moveTo>
                    <a:lnTo>
                      <a:pt x="595" y="16"/>
                    </a:lnTo>
                    <a:lnTo>
                      <a:pt x="601" y="0"/>
                    </a:lnTo>
                    <a:lnTo>
                      <a:pt x="1178" y="0"/>
                    </a:lnTo>
                    <a:lnTo>
                      <a:pt x="1184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943000" y="1160640"/>
                <a:ext cx="689400" cy="6480"/>
              </a:xfrm>
              <a:custGeom>
                <a:avLst/>
                <a:gdLst/>
                <a:ahLst/>
                <a:rect l="l" t="t" r="r" b="b"/>
                <a:pathLst>
                  <a:path w="1796" h="16">
                    <a:moveTo>
                      <a:pt x="1795" y="16"/>
                    </a:moveTo>
                    <a:lnTo>
                      <a:pt x="1306" y="16"/>
                    </a:lnTo>
                    <a:lnTo>
                      <a:pt x="1308" y="0"/>
                    </a:lnTo>
                    <a:lnTo>
                      <a:pt x="1796" y="0"/>
                    </a:lnTo>
                    <a:lnTo>
                      <a:pt x="1795" y="16"/>
                    </a:lnTo>
                    <a:close/>
                    <a:moveTo>
                      <a:pt x="1182" y="16"/>
                    </a:moveTo>
                    <a:lnTo>
                      <a:pt x="599" y="16"/>
                    </a:lnTo>
                    <a:lnTo>
                      <a:pt x="607" y="0"/>
                    </a:lnTo>
                    <a:lnTo>
                      <a:pt x="1176" y="0"/>
                    </a:lnTo>
                    <a:lnTo>
                      <a:pt x="1182" y="16"/>
                    </a:lnTo>
                    <a:close/>
                    <a:moveTo>
                      <a:pt x="48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943000" y="1158840"/>
                <a:ext cx="689400" cy="5400"/>
              </a:xfrm>
              <a:custGeom>
                <a:avLst/>
                <a:gdLst/>
                <a:ahLst/>
                <a:rect l="l" t="t" r="r" b="b"/>
                <a:pathLst>
                  <a:path w="1798" h="15">
                    <a:moveTo>
                      <a:pt x="1797" y="15"/>
                    </a:moveTo>
                    <a:lnTo>
                      <a:pt x="1308" y="15"/>
                    </a:lnTo>
                    <a:lnTo>
                      <a:pt x="1309" y="0"/>
                    </a:lnTo>
                    <a:lnTo>
                      <a:pt x="1798" y="0"/>
                    </a:lnTo>
                    <a:lnTo>
                      <a:pt x="1797" y="15"/>
                    </a:lnTo>
                    <a:close/>
                    <a:moveTo>
                      <a:pt x="1180" y="15"/>
                    </a:moveTo>
                    <a:lnTo>
                      <a:pt x="603" y="15"/>
                    </a:lnTo>
                    <a:lnTo>
                      <a:pt x="611" y="0"/>
                    </a:lnTo>
                    <a:lnTo>
                      <a:pt x="1173" y="0"/>
                    </a:lnTo>
                    <a:lnTo>
                      <a:pt x="1180" y="15"/>
                    </a:lnTo>
                    <a:close/>
                    <a:moveTo>
                      <a:pt x="48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8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941200" y="1157040"/>
                <a:ext cx="691200" cy="3600"/>
              </a:xfrm>
              <a:custGeom>
                <a:avLst/>
                <a:gdLst/>
                <a:ahLst/>
                <a:rect l="l" t="t" r="r" b="b"/>
                <a:pathLst>
                  <a:path w="1800" h="14">
                    <a:moveTo>
                      <a:pt x="1798" y="14"/>
                    </a:moveTo>
                    <a:lnTo>
                      <a:pt x="1310" y="14"/>
                    </a:lnTo>
                    <a:lnTo>
                      <a:pt x="1311" y="0"/>
                    </a:lnTo>
                    <a:lnTo>
                      <a:pt x="1800" y="0"/>
                    </a:lnTo>
                    <a:lnTo>
                      <a:pt x="1798" y="14"/>
                    </a:lnTo>
                    <a:close/>
                    <a:moveTo>
                      <a:pt x="1178" y="14"/>
                    </a:moveTo>
                    <a:lnTo>
                      <a:pt x="609" y="14"/>
                    </a:lnTo>
                    <a:lnTo>
                      <a:pt x="615" y="0"/>
                    </a:lnTo>
                    <a:lnTo>
                      <a:pt x="1171" y="0"/>
                    </a:lnTo>
                    <a:lnTo>
                      <a:pt x="1178" y="14"/>
                    </a:lnTo>
                    <a:close/>
                    <a:moveTo>
                      <a:pt x="48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2941200" y="115344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0" y="15"/>
                    </a:moveTo>
                    <a:lnTo>
                      <a:pt x="1311" y="15"/>
                    </a:lnTo>
                    <a:lnTo>
                      <a:pt x="1313" y="0"/>
                    </a:lnTo>
                    <a:lnTo>
                      <a:pt x="1802" y="0"/>
                    </a:lnTo>
                    <a:lnTo>
                      <a:pt x="1800" y="15"/>
                    </a:lnTo>
                    <a:close/>
                    <a:moveTo>
                      <a:pt x="1175" y="15"/>
                    </a:moveTo>
                    <a:lnTo>
                      <a:pt x="613" y="15"/>
                    </a:lnTo>
                    <a:lnTo>
                      <a:pt x="619" y="0"/>
                    </a:lnTo>
                    <a:lnTo>
                      <a:pt x="1169" y="0"/>
                    </a:lnTo>
                    <a:lnTo>
                      <a:pt x="1175" y="15"/>
                    </a:lnTo>
                    <a:close/>
                    <a:moveTo>
                      <a:pt x="48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79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2941200" y="1149840"/>
                <a:ext cx="693000" cy="7200"/>
              </a:xfrm>
              <a:custGeom>
                <a:avLst/>
                <a:gdLst/>
                <a:ahLst/>
                <a:rect l="l" t="t" r="r" b="b"/>
                <a:pathLst>
                  <a:path w="1805" h="16">
                    <a:moveTo>
                      <a:pt x="1803" y="16"/>
                    </a:moveTo>
                    <a:lnTo>
                      <a:pt x="1314" y="16"/>
                    </a:lnTo>
                    <a:lnTo>
                      <a:pt x="1316" y="0"/>
                    </a:lnTo>
                    <a:lnTo>
                      <a:pt x="1805" y="0"/>
                    </a:lnTo>
                    <a:lnTo>
                      <a:pt x="1803" y="16"/>
                    </a:lnTo>
                    <a:close/>
                    <a:moveTo>
                      <a:pt x="1174" y="16"/>
                    </a:moveTo>
                    <a:lnTo>
                      <a:pt x="618" y="16"/>
                    </a:lnTo>
                    <a:lnTo>
                      <a:pt x="624" y="0"/>
                    </a:lnTo>
                    <a:lnTo>
                      <a:pt x="1168" y="0"/>
                    </a:lnTo>
                    <a:lnTo>
                      <a:pt x="1174" y="16"/>
                    </a:lnTo>
                    <a:close/>
                    <a:moveTo>
                      <a:pt x="482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941200" y="1148400"/>
                <a:ext cx="693000" cy="5040"/>
              </a:xfrm>
              <a:custGeom>
                <a:avLst/>
                <a:gdLst/>
                <a:ahLst/>
                <a:rect l="l" t="t" r="r" b="b"/>
                <a:pathLst>
                  <a:path w="1807" h="15">
                    <a:moveTo>
                      <a:pt x="1805" y="15"/>
                    </a:moveTo>
                    <a:lnTo>
                      <a:pt x="1316" y="15"/>
                    </a:lnTo>
                    <a:lnTo>
                      <a:pt x="1318" y="0"/>
                    </a:lnTo>
                    <a:lnTo>
                      <a:pt x="1807" y="0"/>
                    </a:lnTo>
                    <a:lnTo>
                      <a:pt x="1805" y="15"/>
                    </a:lnTo>
                    <a:close/>
                    <a:moveTo>
                      <a:pt x="1172" y="15"/>
                    </a:moveTo>
                    <a:lnTo>
                      <a:pt x="622" y="15"/>
                    </a:lnTo>
                    <a:lnTo>
                      <a:pt x="628" y="0"/>
                    </a:lnTo>
                    <a:lnTo>
                      <a:pt x="1166" y="0"/>
                    </a:lnTo>
                    <a:lnTo>
                      <a:pt x="1172" y="15"/>
                    </a:lnTo>
                    <a:close/>
                    <a:moveTo>
                      <a:pt x="48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39040" y="1144800"/>
                <a:ext cx="695160" cy="5040"/>
              </a:xfrm>
              <a:custGeom>
                <a:avLst/>
                <a:gdLst/>
                <a:ahLst/>
                <a:rect l="l" t="t" r="r" b="b"/>
                <a:pathLst>
                  <a:path w="1809" h="15">
                    <a:moveTo>
                      <a:pt x="1807" y="15"/>
                    </a:moveTo>
                    <a:lnTo>
                      <a:pt x="1318" y="15"/>
                    </a:lnTo>
                    <a:lnTo>
                      <a:pt x="1320" y="0"/>
                    </a:lnTo>
                    <a:lnTo>
                      <a:pt x="1809" y="0"/>
                    </a:lnTo>
                    <a:lnTo>
                      <a:pt x="1807" y="15"/>
                    </a:lnTo>
                    <a:close/>
                    <a:moveTo>
                      <a:pt x="1170" y="15"/>
                    </a:moveTo>
                    <a:lnTo>
                      <a:pt x="626" y="15"/>
                    </a:lnTo>
                    <a:lnTo>
                      <a:pt x="632" y="0"/>
                    </a:lnTo>
                    <a:lnTo>
                      <a:pt x="1164" y="0"/>
                    </a:lnTo>
                    <a:lnTo>
                      <a:pt x="1170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939040" y="114300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2" h="15">
                    <a:moveTo>
                      <a:pt x="1809" y="15"/>
                    </a:moveTo>
                    <a:lnTo>
                      <a:pt x="1320" y="15"/>
                    </a:lnTo>
                    <a:lnTo>
                      <a:pt x="1322" y="0"/>
                    </a:lnTo>
                    <a:lnTo>
                      <a:pt x="1812" y="0"/>
                    </a:lnTo>
                    <a:lnTo>
                      <a:pt x="1809" y="15"/>
                    </a:lnTo>
                    <a:close/>
                    <a:moveTo>
                      <a:pt x="1168" y="15"/>
                    </a:moveTo>
                    <a:lnTo>
                      <a:pt x="630" y="15"/>
                    </a:lnTo>
                    <a:lnTo>
                      <a:pt x="637" y="0"/>
                    </a:lnTo>
                    <a:lnTo>
                      <a:pt x="1162" y="0"/>
                    </a:lnTo>
                    <a:lnTo>
                      <a:pt x="1168" y="15"/>
                    </a:lnTo>
                    <a:close/>
                    <a:moveTo>
                      <a:pt x="48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2939040" y="1141200"/>
                <a:ext cx="697320" cy="3600"/>
              </a:xfrm>
              <a:custGeom>
                <a:avLst/>
                <a:gdLst/>
                <a:ahLst/>
                <a:rect l="l" t="t" r="r" b="b"/>
                <a:pathLst>
                  <a:path w="1814" h="14">
                    <a:moveTo>
                      <a:pt x="1811" y="14"/>
                    </a:moveTo>
                    <a:lnTo>
                      <a:pt x="1322" y="14"/>
                    </a:lnTo>
                    <a:lnTo>
                      <a:pt x="1324" y="0"/>
                    </a:lnTo>
                    <a:lnTo>
                      <a:pt x="1814" y="0"/>
                    </a:lnTo>
                    <a:lnTo>
                      <a:pt x="1811" y="14"/>
                    </a:lnTo>
                    <a:close/>
                    <a:moveTo>
                      <a:pt x="1166" y="14"/>
                    </a:moveTo>
                    <a:lnTo>
                      <a:pt x="634" y="14"/>
                    </a:lnTo>
                    <a:lnTo>
                      <a:pt x="641" y="0"/>
                    </a:lnTo>
                    <a:lnTo>
                      <a:pt x="1159" y="0"/>
                    </a:lnTo>
                    <a:lnTo>
                      <a:pt x="1166" y="14"/>
                    </a:lnTo>
                    <a:close/>
                    <a:moveTo>
                      <a:pt x="48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2939040" y="1137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6" h="15">
                    <a:moveTo>
                      <a:pt x="1814" y="15"/>
                    </a:moveTo>
                    <a:lnTo>
                      <a:pt x="1324" y="15"/>
                    </a:lnTo>
                    <a:lnTo>
                      <a:pt x="1326" y="0"/>
                    </a:lnTo>
                    <a:lnTo>
                      <a:pt x="1816" y="0"/>
                    </a:lnTo>
                    <a:lnTo>
                      <a:pt x="1814" y="15"/>
                    </a:lnTo>
                    <a:close/>
                    <a:moveTo>
                      <a:pt x="1164" y="15"/>
                    </a:moveTo>
                    <a:lnTo>
                      <a:pt x="639" y="15"/>
                    </a:lnTo>
                    <a:lnTo>
                      <a:pt x="645" y="0"/>
                    </a:lnTo>
                    <a:lnTo>
                      <a:pt x="1157" y="0"/>
                    </a:lnTo>
                    <a:lnTo>
                      <a:pt x="1164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39040" y="1134360"/>
                <a:ext cx="697320" cy="6480"/>
              </a:xfrm>
              <a:custGeom>
                <a:avLst/>
                <a:gdLst/>
                <a:ahLst/>
                <a:rect l="l" t="t" r="r" b="b"/>
                <a:pathLst>
                  <a:path w="1818" h="16">
                    <a:moveTo>
                      <a:pt x="1816" y="16"/>
                    </a:moveTo>
                    <a:lnTo>
                      <a:pt x="1326" y="16"/>
                    </a:lnTo>
                    <a:lnTo>
                      <a:pt x="1328" y="0"/>
                    </a:lnTo>
                    <a:lnTo>
                      <a:pt x="1818" y="0"/>
                    </a:lnTo>
                    <a:lnTo>
                      <a:pt x="1816" y="16"/>
                    </a:lnTo>
                    <a:close/>
                    <a:moveTo>
                      <a:pt x="1161" y="16"/>
                    </a:moveTo>
                    <a:lnTo>
                      <a:pt x="643" y="16"/>
                    </a:lnTo>
                    <a:lnTo>
                      <a:pt x="649" y="0"/>
                    </a:lnTo>
                    <a:lnTo>
                      <a:pt x="1155" y="0"/>
                    </a:lnTo>
                    <a:lnTo>
                      <a:pt x="1161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1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2937240" y="1132200"/>
                <a:ext cx="699120" cy="5040"/>
              </a:xfrm>
              <a:custGeom>
                <a:avLst/>
                <a:gdLst/>
                <a:ahLst/>
                <a:rect l="l" t="t" r="r" b="b"/>
                <a:pathLst>
                  <a:path w="1820" h="16">
                    <a:moveTo>
                      <a:pt x="1818" y="16"/>
                    </a:moveTo>
                    <a:lnTo>
                      <a:pt x="1328" y="16"/>
                    </a:lnTo>
                    <a:lnTo>
                      <a:pt x="1330" y="0"/>
                    </a:lnTo>
                    <a:lnTo>
                      <a:pt x="1820" y="0"/>
                    </a:lnTo>
                    <a:lnTo>
                      <a:pt x="1818" y="16"/>
                    </a:lnTo>
                    <a:close/>
                    <a:moveTo>
                      <a:pt x="1159" y="16"/>
                    </a:moveTo>
                    <a:lnTo>
                      <a:pt x="647" y="16"/>
                    </a:lnTo>
                    <a:lnTo>
                      <a:pt x="653" y="0"/>
                    </a:lnTo>
                    <a:lnTo>
                      <a:pt x="1153" y="0"/>
                    </a:lnTo>
                    <a:lnTo>
                      <a:pt x="1159" y="16"/>
                    </a:lnTo>
                    <a:close/>
                    <a:moveTo>
                      <a:pt x="48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37240" y="1128600"/>
                <a:ext cx="700560" cy="5400"/>
              </a:xfrm>
              <a:custGeom>
                <a:avLst/>
                <a:gdLst/>
                <a:ahLst/>
                <a:rect l="l" t="t" r="r" b="b"/>
                <a:pathLst>
                  <a:path w="1822" h="15">
                    <a:moveTo>
                      <a:pt x="1820" y="15"/>
                    </a:moveTo>
                    <a:lnTo>
                      <a:pt x="1330" y="15"/>
                    </a:lnTo>
                    <a:lnTo>
                      <a:pt x="1332" y="0"/>
                    </a:lnTo>
                    <a:lnTo>
                      <a:pt x="1822" y="0"/>
                    </a:lnTo>
                    <a:lnTo>
                      <a:pt x="1820" y="15"/>
                    </a:lnTo>
                    <a:close/>
                    <a:moveTo>
                      <a:pt x="1157" y="15"/>
                    </a:moveTo>
                    <a:lnTo>
                      <a:pt x="651" y="15"/>
                    </a:lnTo>
                    <a:lnTo>
                      <a:pt x="657" y="0"/>
                    </a:lnTo>
                    <a:lnTo>
                      <a:pt x="1151" y="0"/>
                    </a:lnTo>
                    <a:lnTo>
                      <a:pt x="1157" y="15"/>
                    </a:lnTo>
                    <a:close/>
                    <a:moveTo>
                      <a:pt x="48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3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2937240" y="11271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4" h="14">
                    <a:moveTo>
                      <a:pt x="1822" y="14"/>
                    </a:moveTo>
                    <a:lnTo>
                      <a:pt x="1332" y="14"/>
                    </a:lnTo>
                    <a:lnTo>
                      <a:pt x="1335" y="0"/>
                    </a:lnTo>
                    <a:lnTo>
                      <a:pt x="1824" y="0"/>
                    </a:lnTo>
                    <a:lnTo>
                      <a:pt x="1822" y="14"/>
                    </a:lnTo>
                    <a:close/>
                    <a:moveTo>
                      <a:pt x="1155" y="14"/>
                    </a:moveTo>
                    <a:lnTo>
                      <a:pt x="655" y="14"/>
                    </a:lnTo>
                    <a:lnTo>
                      <a:pt x="662" y="0"/>
                    </a:lnTo>
                    <a:lnTo>
                      <a:pt x="1149" y="0"/>
                    </a:lnTo>
                    <a:lnTo>
                      <a:pt x="1155" y="14"/>
                    </a:lnTo>
                    <a:close/>
                    <a:moveTo>
                      <a:pt x="48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2937240" y="112320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6" h="15">
                    <a:moveTo>
                      <a:pt x="1824" y="15"/>
                    </a:moveTo>
                    <a:lnTo>
                      <a:pt x="1334" y="15"/>
                    </a:lnTo>
                    <a:lnTo>
                      <a:pt x="1337" y="0"/>
                    </a:lnTo>
                    <a:lnTo>
                      <a:pt x="1826" y="0"/>
                    </a:lnTo>
                    <a:lnTo>
                      <a:pt x="1824" y="15"/>
                    </a:lnTo>
                    <a:close/>
                    <a:moveTo>
                      <a:pt x="1153" y="15"/>
                    </a:moveTo>
                    <a:lnTo>
                      <a:pt x="659" y="15"/>
                    </a:lnTo>
                    <a:lnTo>
                      <a:pt x="667" y="0"/>
                    </a:lnTo>
                    <a:lnTo>
                      <a:pt x="1147" y="0"/>
                    </a:lnTo>
                    <a:lnTo>
                      <a:pt x="1153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2937240" y="1121760"/>
                <a:ext cx="700560" cy="5040"/>
              </a:xfrm>
              <a:custGeom>
                <a:avLst/>
                <a:gdLst/>
                <a:ahLst/>
                <a:rect l="l" t="t" r="r" b="b"/>
                <a:pathLst>
                  <a:path w="1827" h="16">
                    <a:moveTo>
                      <a:pt x="1826" y="16"/>
                    </a:moveTo>
                    <a:lnTo>
                      <a:pt x="1337" y="16"/>
                    </a:lnTo>
                    <a:lnTo>
                      <a:pt x="1339" y="0"/>
                    </a:lnTo>
                    <a:lnTo>
                      <a:pt x="1827" y="0"/>
                    </a:lnTo>
                    <a:lnTo>
                      <a:pt x="1826" y="16"/>
                    </a:lnTo>
                    <a:close/>
                    <a:moveTo>
                      <a:pt x="1151" y="16"/>
                    </a:moveTo>
                    <a:lnTo>
                      <a:pt x="664" y="16"/>
                    </a:lnTo>
                    <a:lnTo>
                      <a:pt x="671" y="0"/>
                    </a:lnTo>
                    <a:lnTo>
                      <a:pt x="1144" y="0"/>
                    </a:lnTo>
                    <a:lnTo>
                      <a:pt x="1151" y="16"/>
                    </a:lnTo>
                    <a:close/>
                    <a:moveTo>
                      <a:pt x="48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2935080" y="111816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8" y="15"/>
                    </a:moveTo>
                    <a:lnTo>
                      <a:pt x="1339" y="15"/>
                    </a:lnTo>
                    <a:lnTo>
                      <a:pt x="1341" y="0"/>
                    </a:lnTo>
                    <a:lnTo>
                      <a:pt x="1829" y="0"/>
                    </a:lnTo>
                    <a:lnTo>
                      <a:pt x="1828" y="15"/>
                    </a:lnTo>
                    <a:close/>
                    <a:moveTo>
                      <a:pt x="1149" y="15"/>
                    </a:moveTo>
                    <a:lnTo>
                      <a:pt x="669" y="15"/>
                    </a:lnTo>
                    <a:lnTo>
                      <a:pt x="675" y="0"/>
                    </a:lnTo>
                    <a:lnTo>
                      <a:pt x="1142" y="0"/>
                    </a:lnTo>
                    <a:lnTo>
                      <a:pt x="1149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2935080" y="1116720"/>
                <a:ext cx="702720" cy="5040"/>
              </a:xfrm>
              <a:custGeom>
                <a:avLst/>
                <a:gdLst/>
                <a:ahLst/>
                <a:rect l="l" t="t" r="r" b="b"/>
                <a:pathLst>
                  <a:path w="1831" h="15">
                    <a:moveTo>
                      <a:pt x="1829" y="15"/>
                    </a:moveTo>
                    <a:lnTo>
                      <a:pt x="1341" y="15"/>
                    </a:lnTo>
                    <a:lnTo>
                      <a:pt x="1343" y="0"/>
                    </a:lnTo>
                    <a:lnTo>
                      <a:pt x="1831" y="0"/>
                    </a:lnTo>
                    <a:lnTo>
                      <a:pt x="1829" y="15"/>
                    </a:lnTo>
                    <a:close/>
                    <a:moveTo>
                      <a:pt x="1146" y="15"/>
                    </a:moveTo>
                    <a:lnTo>
                      <a:pt x="673" y="15"/>
                    </a:lnTo>
                    <a:lnTo>
                      <a:pt x="679" y="0"/>
                    </a:lnTo>
                    <a:lnTo>
                      <a:pt x="1140" y="0"/>
                    </a:lnTo>
                    <a:lnTo>
                      <a:pt x="1146" y="15"/>
                    </a:lnTo>
                    <a:close/>
                    <a:moveTo>
                      <a:pt x="48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2935080" y="111312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1" y="15"/>
                    </a:moveTo>
                    <a:lnTo>
                      <a:pt x="1343" y="15"/>
                    </a:lnTo>
                    <a:lnTo>
                      <a:pt x="1345" y="0"/>
                    </a:lnTo>
                    <a:lnTo>
                      <a:pt x="1833" y="0"/>
                    </a:lnTo>
                    <a:lnTo>
                      <a:pt x="1831" y="15"/>
                    </a:lnTo>
                    <a:close/>
                    <a:moveTo>
                      <a:pt x="1144" y="15"/>
                    </a:moveTo>
                    <a:lnTo>
                      <a:pt x="677" y="15"/>
                    </a:lnTo>
                    <a:lnTo>
                      <a:pt x="683" y="0"/>
                    </a:lnTo>
                    <a:lnTo>
                      <a:pt x="1138" y="0"/>
                    </a:lnTo>
                    <a:lnTo>
                      <a:pt x="1144" y="15"/>
                    </a:lnTo>
                    <a:close/>
                    <a:moveTo>
                      <a:pt x="48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2935080" y="11109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5" h="14">
                    <a:moveTo>
                      <a:pt x="1833" y="14"/>
                    </a:moveTo>
                    <a:lnTo>
                      <a:pt x="1345" y="14"/>
                    </a:lnTo>
                    <a:lnTo>
                      <a:pt x="1347" y="0"/>
                    </a:lnTo>
                    <a:lnTo>
                      <a:pt x="1835" y="0"/>
                    </a:lnTo>
                    <a:lnTo>
                      <a:pt x="1833" y="14"/>
                    </a:lnTo>
                    <a:close/>
                    <a:moveTo>
                      <a:pt x="1142" y="14"/>
                    </a:moveTo>
                    <a:lnTo>
                      <a:pt x="681" y="14"/>
                    </a:lnTo>
                    <a:lnTo>
                      <a:pt x="687" y="0"/>
                    </a:lnTo>
                    <a:lnTo>
                      <a:pt x="1136" y="0"/>
                    </a:lnTo>
                    <a:lnTo>
                      <a:pt x="1142" y="14"/>
                    </a:lnTo>
                    <a:close/>
                    <a:moveTo>
                      <a:pt x="485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3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2935080" y="110736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7" h="16">
                    <a:moveTo>
                      <a:pt x="1835" y="16"/>
                    </a:moveTo>
                    <a:lnTo>
                      <a:pt x="1347" y="16"/>
                    </a:lnTo>
                    <a:lnTo>
                      <a:pt x="1349" y="0"/>
                    </a:lnTo>
                    <a:lnTo>
                      <a:pt x="1837" y="0"/>
                    </a:lnTo>
                    <a:lnTo>
                      <a:pt x="1835" y="16"/>
                    </a:lnTo>
                    <a:close/>
                    <a:moveTo>
                      <a:pt x="1140" y="16"/>
                    </a:moveTo>
                    <a:lnTo>
                      <a:pt x="685" y="16"/>
                    </a:lnTo>
                    <a:lnTo>
                      <a:pt x="692" y="0"/>
                    </a:lnTo>
                    <a:lnTo>
                      <a:pt x="1134" y="0"/>
                    </a:lnTo>
                    <a:lnTo>
                      <a:pt x="1140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2933280" y="11055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39" h="16">
                    <a:moveTo>
                      <a:pt x="1837" y="16"/>
                    </a:moveTo>
                    <a:lnTo>
                      <a:pt x="1349" y="16"/>
                    </a:lnTo>
                    <a:lnTo>
                      <a:pt x="1351" y="0"/>
                    </a:lnTo>
                    <a:lnTo>
                      <a:pt x="1839" y="0"/>
                    </a:lnTo>
                    <a:lnTo>
                      <a:pt x="1837" y="16"/>
                    </a:lnTo>
                    <a:close/>
                    <a:moveTo>
                      <a:pt x="1138" y="16"/>
                    </a:moveTo>
                    <a:lnTo>
                      <a:pt x="689" y="16"/>
                    </a:lnTo>
                    <a:lnTo>
                      <a:pt x="696" y="0"/>
                    </a:lnTo>
                    <a:lnTo>
                      <a:pt x="1131" y="0"/>
                    </a:lnTo>
                    <a:lnTo>
                      <a:pt x="1138" y="16"/>
                    </a:lnTo>
                    <a:close/>
                    <a:moveTo>
                      <a:pt x="485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5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2933280" y="1101960"/>
                <a:ext cx="706680" cy="5040"/>
              </a:xfrm>
              <a:custGeom>
                <a:avLst/>
                <a:gdLst/>
                <a:ahLst/>
                <a:rect l="l" t="t" r="r" b="b"/>
                <a:pathLst>
                  <a:path w="1841" h="15">
                    <a:moveTo>
                      <a:pt x="1839" y="15"/>
                    </a:moveTo>
                    <a:lnTo>
                      <a:pt x="1351" y="15"/>
                    </a:lnTo>
                    <a:lnTo>
                      <a:pt x="1353" y="0"/>
                    </a:lnTo>
                    <a:lnTo>
                      <a:pt x="1841" y="0"/>
                    </a:lnTo>
                    <a:lnTo>
                      <a:pt x="1839" y="15"/>
                    </a:lnTo>
                    <a:close/>
                    <a:moveTo>
                      <a:pt x="1136" y="15"/>
                    </a:moveTo>
                    <a:lnTo>
                      <a:pt x="694" y="15"/>
                    </a:lnTo>
                    <a:lnTo>
                      <a:pt x="700" y="0"/>
                    </a:lnTo>
                    <a:lnTo>
                      <a:pt x="1129" y="0"/>
                    </a:lnTo>
                    <a:lnTo>
                      <a:pt x="1136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2933280" y="11005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5">
                    <a:moveTo>
                      <a:pt x="1841" y="15"/>
                    </a:moveTo>
                    <a:lnTo>
                      <a:pt x="1353" y="15"/>
                    </a:lnTo>
                    <a:lnTo>
                      <a:pt x="1355" y="0"/>
                    </a:lnTo>
                    <a:lnTo>
                      <a:pt x="1843" y="0"/>
                    </a:lnTo>
                    <a:lnTo>
                      <a:pt x="1841" y="15"/>
                    </a:lnTo>
                    <a:close/>
                    <a:moveTo>
                      <a:pt x="1133" y="15"/>
                    </a:moveTo>
                    <a:lnTo>
                      <a:pt x="698" y="15"/>
                    </a:lnTo>
                    <a:lnTo>
                      <a:pt x="704" y="0"/>
                    </a:lnTo>
                    <a:lnTo>
                      <a:pt x="1127" y="0"/>
                    </a:lnTo>
                    <a:lnTo>
                      <a:pt x="1133" y="15"/>
                    </a:lnTo>
                    <a:close/>
                    <a:moveTo>
                      <a:pt x="486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2933280" y="109692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6" h="14">
                    <a:moveTo>
                      <a:pt x="1844" y="14"/>
                    </a:moveTo>
                    <a:lnTo>
                      <a:pt x="1356" y="14"/>
                    </a:lnTo>
                    <a:lnTo>
                      <a:pt x="1357" y="0"/>
                    </a:lnTo>
                    <a:lnTo>
                      <a:pt x="1846" y="0"/>
                    </a:lnTo>
                    <a:lnTo>
                      <a:pt x="1844" y="14"/>
                    </a:lnTo>
                    <a:close/>
                    <a:moveTo>
                      <a:pt x="1132" y="14"/>
                    </a:moveTo>
                    <a:lnTo>
                      <a:pt x="703" y="14"/>
                    </a:lnTo>
                    <a:lnTo>
                      <a:pt x="709" y="0"/>
                    </a:lnTo>
                    <a:lnTo>
                      <a:pt x="1126" y="0"/>
                    </a:lnTo>
                    <a:lnTo>
                      <a:pt x="1132" y="14"/>
                    </a:lnTo>
                    <a:close/>
                    <a:moveTo>
                      <a:pt x="487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2931840" y="10951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48" h="16">
                    <a:moveTo>
                      <a:pt x="1846" y="16"/>
                    </a:moveTo>
                    <a:lnTo>
                      <a:pt x="1358" y="16"/>
                    </a:lnTo>
                    <a:lnTo>
                      <a:pt x="1359" y="0"/>
                    </a:lnTo>
                    <a:lnTo>
                      <a:pt x="1848" y="0"/>
                    </a:lnTo>
                    <a:lnTo>
                      <a:pt x="1846" y="16"/>
                    </a:lnTo>
                    <a:close/>
                    <a:moveTo>
                      <a:pt x="1130" y="16"/>
                    </a:moveTo>
                    <a:lnTo>
                      <a:pt x="707" y="16"/>
                    </a:lnTo>
                    <a:lnTo>
                      <a:pt x="713" y="0"/>
                    </a:lnTo>
                    <a:lnTo>
                      <a:pt x="1124" y="0"/>
                    </a:lnTo>
                    <a:lnTo>
                      <a:pt x="1130" y="16"/>
                    </a:lnTo>
                    <a:close/>
                    <a:moveTo>
                      <a:pt x="487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2931840" y="1091520"/>
                <a:ext cx="710280" cy="5040"/>
              </a:xfrm>
              <a:custGeom>
                <a:avLst/>
                <a:gdLst/>
                <a:ahLst/>
                <a:rect l="l" t="t" r="r" b="b"/>
                <a:pathLst>
                  <a:path w="1850" h="16">
                    <a:moveTo>
                      <a:pt x="1848" y="16"/>
                    </a:moveTo>
                    <a:lnTo>
                      <a:pt x="1359" y="16"/>
                    </a:lnTo>
                    <a:lnTo>
                      <a:pt x="1361" y="0"/>
                    </a:lnTo>
                    <a:lnTo>
                      <a:pt x="1850" y="0"/>
                    </a:lnTo>
                    <a:lnTo>
                      <a:pt x="1848" y="16"/>
                    </a:lnTo>
                    <a:close/>
                    <a:moveTo>
                      <a:pt x="1128" y="16"/>
                    </a:moveTo>
                    <a:lnTo>
                      <a:pt x="711" y="16"/>
                    </a:lnTo>
                    <a:lnTo>
                      <a:pt x="718" y="0"/>
                    </a:lnTo>
                    <a:lnTo>
                      <a:pt x="1122" y="0"/>
                    </a:lnTo>
                    <a:lnTo>
                      <a:pt x="1128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2931840" y="1089720"/>
                <a:ext cx="710280" cy="5400"/>
              </a:xfrm>
              <a:custGeom>
                <a:avLst/>
                <a:gdLst/>
                <a:ahLst/>
                <a:rect l="l" t="t" r="r" b="b"/>
                <a:pathLst>
                  <a:path w="1852" h="14">
                    <a:moveTo>
                      <a:pt x="1850" y="14"/>
                    </a:moveTo>
                    <a:lnTo>
                      <a:pt x="1361" y="14"/>
                    </a:lnTo>
                    <a:lnTo>
                      <a:pt x="1363" y="0"/>
                    </a:lnTo>
                    <a:lnTo>
                      <a:pt x="1852" y="0"/>
                    </a:lnTo>
                    <a:lnTo>
                      <a:pt x="1850" y="14"/>
                    </a:lnTo>
                    <a:close/>
                    <a:moveTo>
                      <a:pt x="1126" y="14"/>
                    </a:moveTo>
                    <a:lnTo>
                      <a:pt x="715" y="14"/>
                    </a:lnTo>
                    <a:lnTo>
                      <a:pt x="722" y="0"/>
                    </a:lnTo>
                    <a:lnTo>
                      <a:pt x="1120" y="0"/>
                    </a:lnTo>
                    <a:lnTo>
                      <a:pt x="1126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2931840" y="10864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5">
                    <a:moveTo>
                      <a:pt x="1852" y="15"/>
                    </a:moveTo>
                    <a:lnTo>
                      <a:pt x="1363" y="15"/>
                    </a:lnTo>
                    <a:lnTo>
                      <a:pt x="1365" y="0"/>
                    </a:lnTo>
                    <a:lnTo>
                      <a:pt x="1855" y="0"/>
                    </a:lnTo>
                    <a:lnTo>
                      <a:pt x="1852" y="15"/>
                    </a:lnTo>
                    <a:close/>
                    <a:moveTo>
                      <a:pt x="1124" y="15"/>
                    </a:moveTo>
                    <a:lnTo>
                      <a:pt x="720" y="15"/>
                    </a:lnTo>
                    <a:lnTo>
                      <a:pt x="727" y="0"/>
                    </a:lnTo>
                    <a:lnTo>
                      <a:pt x="1117" y="0"/>
                    </a:lnTo>
                    <a:lnTo>
                      <a:pt x="1124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5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2931840" y="108432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7" h="15">
                    <a:moveTo>
                      <a:pt x="1854" y="15"/>
                    </a:moveTo>
                    <a:lnTo>
                      <a:pt x="1365" y="15"/>
                    </a:lnTo>
                    <a:lnTo>
                      <a:pt x="1367" y="0"/>
                    </a:lnTo>
                    <a:lnTo>
                      <a:pt x="1857" y="0"/>
                    </a:lnTo>
                    <a:lnTo>
                      <a:pt x="1854" y="15"/>
                    </a:lnTo>
                    <a:close/>
                    <a:moveTo>
                      <a:pt x="1122" y="15"/>
                    </a:moveTo>
                    <a:lnTo>
                      <a:pt x="724" y="15"/>
                    </a:lnTo>
                    <a:lnTo>
                      <a:pt x="731" y="0"/>
                    </a:lnTo>
                    <a:lnTo>
                      <a:pt x="1115" y="0"/>
                    </a:lnTo>
                    <a:lnTo>
                      <a:pt x="1122" y="15"/>
                    </a:lnTo>
                    <a:close/>
                    <a:moveTo>
                      <a:pt x="48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2929680" y="1080720"/>
                <a:ext cx="714600" cy="5400"/>
              </a:xfrm>
              <a:custGeom>
                <a:avLst/>
                <a:gdLst/>
                <a:ahLst/>
                <a:rect l="l" t="t" r="r" b="b"/>
                <a:pathLst>
                  <a:path w="1858" h="16">
                    <a:moveTo>
                      <a:pt x="1857" y="16"/>
                    </a:moveTo>
                    <a:lnTo>
                      <a:pt x="1367" y="16"/>
                    </a:lnTo>
                    <a:lnTo>
                      <a:pt x="1369" y="0"/>
                    </a:lnTo>
                    <a:lnTo>
                      <a:pt x="1858" y="0"/>
                    </a:lnTo>
                    <a:lnTo>
                      <a:pt x="1857" y="16"/>
                    </a:lnTo>
                    <a:close/>
                    <a:moveTo>
                      <a:pt x="1119" y="16"/>
                    </a:moveTo>
                    <a:lnTo>
                      <a:pt x="729" y="16"/>
                    </a:lnTo>
                    <a:lnTo>
                      <a:pt x="735" y="0"/>
                    </a:lnTo>
                    <a:lnTo>
                      <a:pt x="1113" y="0"/>
                    </a:lnTo>
                    <a:lnTo>
                      <a:pt x="1119" y="16"/>
                    </a:lnTo>
                    <a:close/>
                    <a:moveTo>
                      <a:pt x="487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2929680" y="10792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0" h="16">
                    <a:moveTo>
                      <a:pt x="1859" y="16"/>
                    </a:moveTo>
                    <a:lnTo>
                      <a:pt x="1369" y="16"/>
                    </a:lnTo>
                    <a:lnTo>
                      <a:pt x="1371" y="0"/>
                    </a:lnTo>
                    <a:lnTo>
                      <a:pt x="1860" y="0"/>
                    </a:lnTo>
                    <a:lnTo>
                      <a:pt x="1859" y="16"/>
                    </a:lnTo>
                    <a:close/>
                    <a:moveTo>
                      <a:pt x="1117" y="16"/>
                    </a:moveTo>
                    <a:lnTo>
                      <a:pt x="733" y="16"/>
                    </a:lnTo>
                    <a:lnTo>
                      <a:pt x="739" y="0"/>
                    </a:lnTo>
                    <a:lnTo>
                      <a:pt x="1110" y="0"/>
                    </a:lnTo>
                    <a:lnTo>
                      <a:pt x="1117" y="16"/>
                    </a:lnTo>
                    <a:close/>
                    <a:moveTo>
                      <a:pt x="48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2929680" y="1075680"/>
                <a:ext cx="714600" cy="5040"/>
              </a:xfrm>
              <a:custGeom>
                <a:avLst/>
                <a:gdLst/>
                <a:ahLst/>
                <a:rect l="l" t="t" r="r" b="b"/>
                <a:pathLst>
                  <a:path w="1862" h="14">
                    <a:moveTo>
                      <a:pt x="1860" y="14"/>
                    </a:moveTo>
                    <a:lnTo>
                      <a:pt x="1371" y="14"/>
                    </a:lnTo>
                    <a:lnTo>
                      <a:pt x="1373" y="0"/>
                    </a:lnTo>
                    <a:lnTo>
                      <a:pt x="1862" y="0"/>
                    </a:lnTo>
                    <a:lnTo>
                      <a:pt x="1860" y="14"/>
                    </a:lnTo>
                    <a:close/>
                    <a:moveTo>
                      <a:pt x="1115" y="14"/>
                    </a:moveTo>
                    <a:lnTo>
                      <a:pt x="737" y="14"/>
                    </a:lnTo>
                    <a:lnTo>
                      <a:pt x="743" y="0"/>
                    </a:lnTo>
                    <a:lnTo>
                      <a:pt x="1108" y="0"/>
                    </a:lnTo>
                    <a:lnTo>
                      <a:pt x="1115" y="14"/>
                    </a:lnTo>
                    <a:close/>
                    <a:moveTo>
                      <a:pt x="48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2929680" y="10738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5">
                    <a:moveTo>
                      <a:pt x="1862" y="15"/>
                    </a:moveTo>
                    <a:lnTo>
                      <a:pt x="1373" y="15"/>
                    </a:lnTo>
                    <a:lnTo>
                      <a:pt x="1375" y="0"/>
                    </a:lnTo>
                    <a:lnTo>
                      <a:pt x="1864" y="0"/>
                    </a:lnTo>
                    <a:lnTo>
                      <a:pt x="1862" y="15"/>
                    </a:lnTo>
                    <a:close/>
                    <a:moveTo>
                      <a:pt x="1112" y="15"/>
                    </a:moveTo>
                    <a:lnTo>
                      <a:pt x="741" y="15"/>
                    </a:lnTo>
                    <a:lnTo>
                      <a:pt x="748" y="0"/>
                    </a:lnTo>
                    <a:lnTo>
                      <a:pt x="1106" y="0"/>
                    </a:lnTo>
                    <a:lnTo>
                      <a:pt x="1112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6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2929680" y="10702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6" h="15">
                    <a:moveTo>
                      <a:pt x="1864" y="15"/>
                    </a:moveTo>
                    <a:lnTo>
                      <a:pt x="1375" y="15"/>
                    </a:lnTo>
                    <a:lnTo>
                      <a:pt x="1378" y="0"/>
                    </a:lnTo>
                    <a:lnTo>
                      <a:pt x="1866" y="0"/>
                    </a:lnTo>
                    <a:lnTo>
                      <a:pt x="1864" y="15"/>
                    </a:lnTo>
                    <a:close/>
                    <a:moveTo>
                      <a:pt x="1110" y="15"/>
                    </a:moveTo>
                    <a:lnTo>
                      <a:pt x="745" y="15"/>
                    </a:lnTo>
                    <a:lnTo>
                      <a:pt x="752" y="0"/>
                    </a:lnTo>
                    <a:lnTo>
                      <a:pt x="1103" y="0"/>
                    </a:lnTo>
                    <a:lnTo>
                      <a:pt x="1110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2927880" y="1068480"/>
                <a:ext cx="718200" cy="5400"/>
              </a:xfrm>
              <a:custGeom>
                <a:avLst/>
                <a:gdLst/>
                <a:ahLst/>
                <a:rect l="l" t="t" r="r" b="b"/>
                <a:pathLst>
                  <a:path w="1868" h="15">
                    <a:moveTo>
                      <a:pt x="1866" y="15"/>
                    </a:moveTo>
                    <a:lnTo>
                      <a:pt x="1377" y="15"/>
                    </a:lnTo>
                    <a:lnTo>
                      <a:pt x="1380" y="0"/>
                    </a:lnTo>
                    <a:lnTo>
                      <a:pt x="1868" y="0"/>
                    </a:lnTo>
                    <a:lnTo>
                      <a:pt x="1866" y="15"/>
                    </a:lnTo>
                    <a:close/>
                    <a:moveTo>
                      <a:pt x="1108" y="15"/>
                    </a:moveTo>
                    <a:lnTo>
                      <a:pt x="750" y="15"/>
                    </a:lnTo>
                    <a:lnTo>
                      <a:pt x="756" y="0"/>
                    </a:lnTo>
                    <a:lnTo>
                      <a:pt x="1101" y="0"/>
                    </a:lnTo>
                    <a:lnTo>
                      <a:pt x="1108" y="15"/>
                    </a:lnTo>
                    <a:close/>
                    <a:moveTo>
                      <a:pt x="48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8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2927880" y="106524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0" h="16">
                    <a:moveTo>
                      <a:pt x="1868" y="16"/>
                    </a:moveTo>
                    <a:lnTo>
                      <a:pt x="1380" y="16"/>
                    </a:lnTo>
                    <a:lnTo>
                      <a:pt x="1382" y="0"/>
                    </a:lnTo>
                    <a:lnTo>
                      <a:pt x="1870" y="0"/>
                    </a:lnTo>
                    <a:lnTo>
                      <a:pt x="1868" y="16"/>
                    </a:lnTo>
                    <a:close/>
                    <a:moveTo>
                      <a:pt x="1105" y="16"/>
                    </a:moveTo>
                    <a:lnTo>
                      <a:pt x="754" y="16"/>
                    </a:lnTo>
                    <a:lnTo>
                      <a:pt x="760" y="0"/>
                    </a:lnTo>
                    <a:lnTo>
                      <a:pt x="1099" y="0"/>
                    </a:lnTo>
                    <a:lnTo>
                      <a:pt x="1105" y="16"/>
                    </a:lnTo>
                    <a:close/>
                    <a:moveTo>
                      <a:pt x="48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2927880" y="1063080"/>
                <a:ext cx="718200" cy="5040"/>
              </a:xfrm>
              <a:custGeom>
                <a:avLst/>
                <a:gdLst/>
                <a:ahLst/>
                <a:rect l="l" t="t" r="r" b="b"/>
                <a:pathLst>
                  <a:path w="1872" h="15">
                    <a:moveTo>
                      <a:pt x="1870" y="15"/>
                    </a:moveTo>
                    <a:lnTo>
                      <a:pt x="1382" y="15"/>
                    </a:lnTo>
                    <a:lnTo>
                      <a:pt x="1384" y="0"/>
                    </a:lnTo>
                    <a:lnTo>
                      <a:pt x="1872" y="0"/>
                    </a:lnTo>
                    <a:lnTo>
                      <a:pt x="1870" y="15"/>
                    </a:lnTo>
                    <a:close/>
                    <a:moveTo>
                      <a:pt x="1103" y="15"/>
                    </a:moveTo>
                    <a:lnTo>
                      <a:pt x="758" y="15"/>
                    </a:lnTo>
                    <a:lnTo>
                      <a:pt x="764" y="0"/>
                    </a:lnTo>
                    <a:lnTo>
                      <a:pt x="1097" y="0"/>
                    </a:lnTo>
                    <a:lnTo>
                      <a:pt x="1103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7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927880" y="1059480"/>
                <a:ext cx="720000" cy="5400"/>
              </a:xfrm>
              <a:custGeom>
                <a:avLst/>
                <a:gdLst/>
                <a:ahLst/>
                <a:rect l="l" t="t" r="r" b="b"/>
                <a:pathLst>
                  <a:path w="1874" h="14">
                    <a:moveTo>
                      <a:pt x="1872" y="14"/>
                    </a:moveTo>
                    <a:lnTo>
                      <a:pt x="1384" y="14"/>
                    </a:lnTo>
                    <a:lnTo>
                      <a:pt x="1386" y="0"/>
                    </a:lnTo>
                    <a:lnTo>
                      <a:pt x="1874" y="0"/>
                    </a:lnTo>
                    <a:lnTo>
                      <a:pt x="1872" y="14"/>
                    </a:lnTo>
                    <a:close/>
                    <a:moveTo>
                      <a:pt x="1101" y="14"/>
                    </a:moveTo>
                    <a:lnTo>
                      <a:pt x="762" y="14"/>
                    </a:lnTo>
                    <a:lnTo>
                      <a:pt x="768" y="0"/>
                    </a:lnTo>
                    <a:lnTo>
                      <a:pt x="1095" y="0"/>
                    </a:lnTo>
                    <a:lnTo>
                      <a:pt x="1101" y="14"/>
                    </a:lnTo>
                    <a:close/>
                    <a:moveTo>
                      <a:pt x="489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2927880" y="1058040"/>
                <a:ext cx="720000" cy="5040"/>
              </a:xfrm>
              <a:custGeom>
                <a:avLst/>
                <a:gdLst/>
                <a:ahLst/>
                <a:rect l="l" t="t" r="r" b="b"/>
                <a:pathLst>
                  <a:path w="1876" h="15">
                    <a:moveTo>
                      <a:pt x="1874" y="15"/>
                    </a:moveTo>
                    <a:lnTo>
                      <a:pt x="1386" y="15"/>
                    </a:lnTo>
                    <a:lnTo>
                      <a:pt x="1388" y="0"/>
                    </a:lnTo>
                    <a:lnTo>
                      <a:pt x="1876" y="0"/>
                    </a:lnTo>
                    <a:lnTo>
                      <a:pt x="1874" y="15"/>
                    </a:lnTo>
                    <a:close/>
                    <a:moveTo>
                      <a:pt x="1099" y="15"/>
                    </a:moveTo>
                    <a:lnTo>
                      <a:pt x="766" y="15"/>
                    </a:lnTo>
                    <a:lnTo>
                      <a:pt x="773" y="0"/>
                    </a:lnTo>
                    <a:lnTo>
                      <a:pt x="1093" y="0"/>
                    </a:lnTo>
                    <a:lnTo>
                      <a:pt x="1099" y="15"/>
                    </a:lnTo>
                    <a:close/>
                    <a:moveTo>
                      <a:pt x="48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89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2925720" y="10544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78" h="15">
                    <a:moveTo>
                      <a:pt x="1876" y="15"/>
                    </a:moveTo>
                    <a:lnTo>
                      <a:pt x="1388" y="15"/>
                    </a:lnTo>
                    <a:lnTo>
                      <a:pt x="1390" y="0"/>
                    </a:lnTo>
                    <a:lnTo>
                      <a:pt x="1878" y="0"/>
                    </a:lnTo>
                    <a:lnTo>
                      <a:pt x="1876" y="15"/>
                    </a:lnTo>
                    <a:close/>
                    <a:moveTo>
                      <a:pt x="1097" y="15"/>
                    </a:moveTo>
                    <a:lnTo>
                      <a:pt x="770" y="15"/>
                    </a:lnTo>
                    <a:lnTo>
                      <a:pt x="777" y="0"/>
                    </a:lnTo>
                    <a:lnTo>
                      <a:pt x="1091" y="0"/>
                    </a:lnTo>
                    <a:lnTo>
                      <a:pt x="1097" y="15"/>
                    </a:lnTo>
                    <a:close/>
                    <a:moveTo>
                      <a:pt x="490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2925720" y="1050840"/>
                <a:ext cx="722160" cy="7200"/>
              </a:xfrm>
              <a:custGeom>
                <a:avLst/>
                <a:gdLst/>
                <a:ahLst/>
                <a:rect l="l" t="t" r="r" b="b"/>
                <a:pathLst>
                  <a:path w="1880" h="16">
                    <a:moveTo>
                      <a:pt x="1878" y="16"/>
                    </a:moveTo>
                    <a:lnTo>
                      <a:pt x="1390" y="16"/>
                    </a:lnTo>
                    <a:lnTo>
                      <a:pt x="1392" y="0"/>
                    </a:lnTo>
                    <a:lnTo>
                      <a:pt x="1880" y="0"/>
                    </a:lnTo>
                    <a:lnTo>
                      <a:pt x="1878" y="16"/>
                    </a:lnTo>
                    <a:close/>
                    <a:moveTo>
                      <a:pt x="1095" y="16"/>
                    </a:moveTo>
                    <a:lnTo>
                      <a:pt x="775" y="16"/>
                    </a:lnTo>
                    <a:lnTo>
                      <a:pt x="782" y="0"/>
                    </a:lnTo>
                    <a:lnTo>
                      <a:pt x="1088" y="0"/>
                    </a:lnTo>
                    <a:lnTo>
                      <a:pt x="1095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2925720" y="1049040"/>
                <a:ext cx="722160" cy="5040"/>
              </a:xfrm>
              <a:custGeom>
                <a:avLst/>
                <a:gdLst/>
                <a:ahLst/>
                <a:rect l="l" t="t" r="r" b="b"/>
                <a:pathLst>
                  <a:path w="1882" h="16">
                    <a:moveTo>
                      <a:pt x="1880" y="16"/>
                    </a:moveTo>
                    <a:lnTo>
                      <a:pt x="1392" y="16"/>
                    </a:lnTo>
                    <a:lnTo>
                      <a:pt x="1394" y="0"/>
                    </a:lnTo>
                    <a:lnTo>
                      <a:pt x="1882" y="0"/>
                    </a:lnTo>
                    <a:lnTo>
                      <a:pt x="1880" y="16"/>
                    </a:lnTo>
                    <a:close/>
                    <a:moveTo>
                      <a:pt x="1093" y="16"/>
                    </a:moveTo>
                    <a:lnTo>
                      <a:pt x="779" y="16"/>
                    </a:lnTo>
                    <a:lnTo>
                      <a:pt x="786" y="0"/>
                    </a:lnTo>
                    <a:lnTo>
                      <a:pt x="1086" y="0"/>
                    </a:lnTo>
                    <a:lnTo>
                      <a:pt x="1093" y="16"/>
                    </a:lnTo>
                    <a:close/>
                    <a:moveTo>
                      <a:pt x="49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490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2925720" y="1047600"/>
                <a:ext cx="724320" cy="2880"/>
              </a:xfrm>
              <a:custGeom>
                <a:avLst/>
                <a:gdLst/>
                <a:ahLst/>
                <a:rect l="l" t="t" r="r" b="b"/>
                <a:pathLst>
                  <a:path w="1884" h="14">
                    <a:moveTo>
                      <a:pt x="1882" y="14"/>
                    </a:moveTo>
                    <a:lnTo>
                      <a:pt x="1394" y="14"/>
                    </a:lnTo>
                    <a:lnTo>
                      <a:pt x="1396" y="0"/>
                    </a:lnTo>
                    <a:lnTo>
                      <a:pt x="1884" y="0"/>
                    </a:lnTo>
                    <a:lnTo>
                      <a:pt x="1882" y="14"/>
                    </a:lnTo>
                    <a:close/>
                    <a:moveTo>
                      <a:pt x="1090" y="14"/>
                    </a:moveTo>
                    <a:lnTo>
                      <a:pt x="784" y="14"/>
                    </a:lnTo>
                    <a:lnTo>
                      <a:pt x="790" y="0"/>
                    </a:lnTo>
                    <a:lnTo>
                      <a:pt x="1084" y="0"/>
                    </a:lnTo>
                    <a:lnTo>
                      <a:pt x="1090" y="14"/>
                    </a:lnTo>
                    <a:close/>
                    <a:moveTo>
                      <a:pt x="490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89" y="0"/>
                    </a:lnTo>
                    <a:lnTo>
                      <a:pt x="490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2923920" y="10440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87" h="15">
                    <a:moveTo>
                      <a:pt x="1885" y="15"/>
                    </a:moveTo>
                    <a:lnTo>
                      <a:pt x="1397" y="15"/>
                    </a:lnTo>
                    <a:lnTo>
                      <a:pt x="1399" y="0"/>
                    </a:lnTo>
                    <a:lnTo>
                      <a:pt x="1887" y="0"/>
                    </a:lnTo>
                    <a:lnTo>
                      <a:pt x="1885" y="15"/>
                    </a:lnTo>
                    <a:close/>
                    <a:moveTo>
                      <a:pt x="1089" y="15"/>
                    </a:moveTo>
                    <a:lnTo>
                      <a:pt x="789" y="15"/>
                    </a:lnTo>
                    <a:lnTo>
                      <a:pt x="795" y="0"/>
                    </a:lnTo>
                    <a:lnTo>
                      <a:pt x="1083" y="0"/>
                    </a:lnTo>
                    <a:lnTo>
                      <a:pt x="1089" y="15"/>
                    </a:lnTo>
                    <a:close/>
                    <a:moveTo>
                      <a:pt x="491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2923920" y="10418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89" h="15">
                    <a:moveTo>
                      <a:pt x="1887" y="15"/>
                    </a:moveTo>
                    <a:lnTo>
                      <a:pt x="1399" y="15"/>
                    </a:lnTo>
                    <a:lnTo>
                      <a:pt x="1401" y="0"/>
                    </a:lnTo>
                    <a:lnTo>
                      <a:pt x="1889" y="0"/>
                    </a:lnTo>
                    <a:lnTo>
                      <a:pt x="1887" y="15"/>
                    </a:lnTo>
                    <a:close/>
                    <a:moveTo>
                      <a:pt x="1087" y="15"/>
                    </a:moveTo>
                    <a:lnTo>
                      <a:pt x="793" y="15"/>
                    </a:lnTo>
                    <a:lnTo>
                      <a:pt x="799" y="0"/>
                    </a:lnTo>
                    <a:lnTo>
                      <a:pt x="1081" y="0"/>
                    </a:lnTo>
                    <a:lnTo>
                      <a:pt x="1087" y="15"/>
                    </a:lnTo>
                    <a:close/>
                    <a:moveTo>
                      <a:pt x="492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2923920" y="1038240"/>
                <a:ext cx="726120" cy="5400"/>
              </a:xfrm>
              <a:custGeom>
                <a:avLst/>
                <a:gdLst/>
                <a:ahLst/>
                <a:rect l="l" t="t" r="r" b="b"/>
                <a:pathLst>
                  <a:path w="1890" h="15">
                    <a:moveTo>
                      <a:pt x="1889" y="15"/>
                    </a:moveTo>
                    <a:lnTo>
                      <a:pt x="1401" y="15"/>
                    </a:lnTo>
                    <a:lnTo>
                      <a:pt x="1403" y="0"/>
                    </a:lnTo>
                    <a:lnTo>
                      <a:pt x="1890" y="0"/>
                    </a:lnTo>
                    <a:lnTo>
                      <a:pt x="1889" y="15"/>
                    </a:lnTo>
                    <a:close/>
                    <a:moveTo>
                      <a:pt x="1085" y="15"/>
                    </a:moveTo>
                    <a:lnTo>
                      <a:pt x="797" y="15"/>
                    </a:lnTo>
                    <a:lnTo>
                      <a:pt x="804" y="0"/>
                    </a:lnTo>
                    <a:lnTo>
                      <a:pt x="1079" y="0"/>
                    </a:lnTo>
                    <a:lnTo>
                      <a:pt x="1085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2923920" y="1035000"/>
                <a:ext cx="726120" cy="6480"/>
              </a:xfrm>
              <a:custGeom>
                <a:avLst/>
                <a:gdLst/>
                <a:ahLst/>
                <a:rect l="l" t="t" r="r" b="b"/>
                <a:pathLst>
                  <a:path w="1892" h="16">
                    <a:moveTo>
                      <a:pt x="1891" y="16"/>
                    </a:moveTo>
                    <a:lnTo>
                      <a:pt x="1403" y="16"/>
                    </a:lnTo>
                    <a:lnTo>
                      <a:pt x="1405" y="0"/>
                    </a:lnTo>
                    <a:lnTo>
                      <a:pt x="1892" y="0"/>
                    </a:lnTo>
                    <a:lnTo>
                      <a:pt x="1891" y="16"/>
                    </a:lnTo>
                    <a:close/>
                    <a:moveTo>
                      <a:pt x="1083" y="16"/>
                    </a:moveTo>
                    <a:lnTo>
                      <a:pt x="801" y="16"/>
                    </a:lnTo>
                    <a:lnTo>
                      <a:pt x="808" y="0"/>
                    </a:lnTo>
                    <a:lnTo>
                      <a:pt x="1077" y="0"/>
                    </a:lnTo>
                    <a:lnTo>
                      <a:pt x="1083" y="16"/>
                    </a:lnTo>
                    <a:close/>
                    <a:moveTo>
                      <a:pt x="492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2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2923920" y="1033200"/>
                <a:ext cx="726120" cy="5040"/>
              </a:xfrm>
              <a:custGeom>
                <a:avLst/>
                <a:gdLst/>
                <a:ahLst/>
                <a:rect l="l" t="t" r="r" b="b"/>
                <a:pathLst>
                  <a:path w="1894" h="15">
                    <a:moveTo>
                      <a:pt x="1892" y="15"/>
                    </a:moveTo>
                    <a:lnTo>
                      <a:pt x="1405" y="15"/>
                    </a:lnTo>
                    <a:lnTo>
                      <a:pt x="1406" y="0"/>
                    </a:lnTo>
                    <a:lnTo>
                      <a:pt x="1894" y="0"/>
                    </a:lnTo>
                    <a:lnTo>
                      <a:pt x="1892" y="15"/>
                    </a:lnTo>
                    <a:close/>
                    <a:moveTo>
                      <a:pt x="1081" y="15"/>
                    </a:moveTo>
                    <a:lnTo>
                      <a:pt x="806" y="15"/>
                    </a:lnTo>
                    <a:lnTo>
                      <a:pt x="812" y="0"/>
                    </a:lnTo>
                    <a:lnTo>
                      <a:pt x="1074" y="0"/>
                    </a:lnTo>
                    <a:lnTo>
                      <a:pt x="1081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2921760" y="1031400"/>
                <a:ext cx="729720" cy="3600"/>
              </a:xfrm>
              <a:custGeom>
                <a:avLst/>
                <a:gdLst/>
                <a:ahLst/>
                <a:rect l="l" t="t" r="r" b="b"/>
                <a:pathLst>
                  <a:path w="1896" h="14">
                    <a:moveTo>
                      <a:pt x="1894" y="14"/>
                    </a:moveTo>
                    <a:lnTo>
                      <a:pt x="1407" y="14"/>
                    </a:lnTo>
                    <a:lnTo>
                      <a:pt x="1408" y="0"/>
                    </a:lnTo>
                    <a:lnTo>
                      <a:pt x="1896" y="0"/>
                    </a:lnTo>
                    <a:lnTo>
                      <a:pt x="1894" y="14"/>
                    </a:lnTo>
                    <a:close/>
                    <a:moveTo>
                      <a:pt x="1079" y="14"/>
                    </a:moveTo>
                    <a:lnTo>
                      <a:pt x="810" y="14"/>
                    </a:lnTo>
                    <a:lnTo>
                      <a:pt x="816" y="0"/>
                    </a:lnTo>
                    <a:lnTo>
                      <a:pt x="1072" y="0"/>
                    </a:lnTo>
                    <a:lnTo>
                      <a:pt x="1079" y="14"/>
                    </a:lnTo>
                    <a:close/>
                    <a:moveTo>
                      <a:pt x="492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2921760" y="102780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899" h="15">
                    <a:moveTo>
                      <a:pt x="1896" y="15"/>
                    </a:moveTo>
                    <a:lnTo>
                      <a:pt x="1408" y="15"/>
                    </a:lnTo>
                    <a:lnTo>
                      <a:pt x="1410" y="0"/>
                    </a:lnTo>
                    <a:lnTo>
                      <a:pt x="1899" y="0"/>
                    </a:lnTo>
                    <a:lnTo>
                      <a:pt x="1896" y="15"/>
                    </a:lnTo>
                    <a:close/>
                    <a:moveTo>
                      <a:pt x="1076" y="15"/>
                    </a:moveTo>
                    <a:lnTo>
                      <a:pt x="814" y="15"/>
                    </a:lnTo>
                    <a:lnTo>
                      <a:pt x="820" y="0"/>
                    </a:lnTo>
                    <a:lnTo>
                      <a:pt x="1070" y="0"/>
                    </a:lnTo>
                    <a:lnTo>
                      <a:pt x="107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2921760" y="1024200"/>
                <a:ext cx="729720" cy="7200"/>
              </a:xfrm>
              <a:custGeom>
                <a:avLst/>
                <a:gdLst/>
                <a:ahLst/>
                <a:rect l="l" t="t" r="r" b="b"/>
                <a:pathLst>
                  <a:path w="1901" h="16">
                    <a:moveTo>
                      <a:pt x="1898" y="16"/>
                    </a:moveTo>
                    <a:lnTo>
                      <a:pt x="1410" y="16"/>
                    </a:lnTo>
                    <a:lnTo>
                      <a:pt x="1412" y="0"/>
                    </a:lnTo>
                    <a:lnTo>
                      <a:pt x="1901" y="0"/>
                    </a:lnTo>
                    <a:lnTo>
                      <a:pt x="1898" y="16"/>
                    </a:lnTo>
                    <a:close/>
                    <a:moveTo>
                      <a:pt x="1074" y="16"/>
                    </a:moveTo>
                    <a:lnTo>
                      <a:pt x="818" y="16"/>
                    </a:lnTo>
                    <a:lnTo>
                      <a:pt x="824" y="0"/>
                    </a:lnTo>
                    <a:lnTo>
                      <a:pt x="1068" y="0"/>
                    </a:lnTo>
                    <a:lnTo>
                      <a:pt x="1074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921760" y="1022760"/>
                <a:ext cx="729720" cy="5040"/>
              </a:xfrm>
              <a:custGeom>
                <a:avLst/>
                <a:gdLst/>
                <a:ahLst/>
                <a:rect l="l" t="t" r="r" b="b"/>
                <a:pathLst>
                  <a:path w="1903" h="16">
                    <a:moveTo>
                      <a:pt x="1901" y="16"/>
                    </a:moveTo>
                    <a:lnTo>
                      <a:pt x="1412" y="16"/>
                    </a:lnTo>
                    <a:lnTo>
                      <a:pt x="1414" y="0"/>
                    </a:lnTo>
                    <a:lnTo>
                      <a:pt x="1903" y="0"/>
                    </a:lnTo>
                    <a:lnTo>
                      <a:pt x="1901" y="16"/>
                    </a:lnTo>
                    <a:close/>
                    <a:moveTo>
                      <a:pt x="1072" y="16"/>
                    </a:moveTo>
                    <a:lnTo>
                      <a:pt x="822" y="16"/>
                    </a:lnTo>
                    <a:lnTo>
                      <a:pt x="829" y="0"/>
                    </a:lnTo>
                    <a:lnTo>
                      <a:pt x="1066" y="0"/>
                    </a:lnTo>
                    <a:lnTo>
                      <a:pt x="1072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921760" y="1019160"/>
                <a:ext cx="732240" cy="5040"/>
              </a:xfrm>
              <a:custGeom>
                <a:avLst/>
                <a:gdLst/>
                <a:ahLst/>
                <a:rect l="l" t="t" r="r" b="b"/>
                <a:pathLst>
                  <a:path w="1905" h="15">
                    <a:moveTo>
                      <a:pt x="1903" y="15"/>
                    </a:moveTo>
                    <a:lnTo>
                      <a:pt x="1414" y="15"/>
                    </a:lnTo>
                    <a:lnTo>
                      <a:pt x="1416" y="0"/>
                    </a:lnTo>
                    <a:lnTo>
                      <a:pt x="1905" y="0"/>
                    </a:lnTo>
                    <a:lnTo>
                      <a:pt x="1903" y="15"/>
                    </a:lnTo>
                    <a:close/>
                    <a:moveTo>
                      <a:pt x="1070" y="15"/>
                    </a:moveTo>
                    <a:lnTo>
                      <a:pt x="826" y="15"/>
                    </a:lnTo>
                    <a:lnTo>
                      <a:pt x="833" y="0"/>
                    </a:lnTo>
                    <a:lnTo>
                      <a:pt x="1064" y="0"/>
                    </a:lnTo>
                    <a:lnTo>
                      <a:pt x="1070" y="15"/>
                    </a:lnTo>
                    <a:close/>
                    <a:moveTo>
                      <a:pt x="492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2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919960" y="10173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7" h="14">
                    <a:moveTo>
                      <a:pt x="1905" y="14"/>
                    </a:moveTo>
                    <a:lnTo>
                      <a:pt x="1416" y="14"/>
                    </a:lnTo>
                    <a:lnTo>
                      <a:pt x="1418" y="0"/>
                    </a:lnTo>
                    <a:lnTo>
                      <a:pt x="1907" y="0"/>
                    </a:lnTo>
                    <a:lnTo>
                      <a:pt x="1905" y="14"/>
                    </a:lnTo>
                    <a:close/>
                    <a:moveTo>
                      <a:pt x="1068" y="14"/>
                    </a:moveTo>
                    <a:lnTo>
                      <a:pt x="831" y="14"/>
                    </a:lnTo>
                    <a:lnTo>
                      <a:pt x="837" y="0"/>
                    </a:lnTo>
                    <a:lnTo>
                      <a:pt x="1061" y="0"/>
                    </a:lnTo>
                    <a:lnTo>
                      <a:pt x="1068" y="14"/>
                    </a:lnTo>
                    <a:close/>
                    <a:moveTo>
                      <a:pt x="493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919960" y="101376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09" h="15">
                    <a:moveTo>
                      <a:pt x="1907" y="15"/>
                    </a:moveTo>
                    <a:lnTo>
                      <a:pt x="1418" y="15"/>
                    </a:lnTo>
                    <a:lnTo>
                      <a:pt x="1421" y="0"/>
                    </a:lnTo>
                    <a:lnTo>
                      <a:pt x="1909" y="0"/>
                    </a:lnTo>
                    <a:lnTo>
                      <a:pt x="1907" y="15"/>
                    </a:lnTo>
                    <a:close/>
                    <a:moveTo>
                      <a:pt x="1066" y="15"/>
                    </a:moveTo>
                    <a:lnTo>
                      <a:pt x="835" y="15"/>
                    </a:lnTo>
                    <a:lnTo>
                      <a:pt x="842" y="0"/>
                    </a:lnTo>
                    <a:lnTo>
                      <a:pt x="1059" y="0"/>
                    </a:lnTo>
                    <a:lnTo>
                      <a:pt x="1066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919960" y="1011960"/>
                <a:ext cx="733680" cy="5400"/>
              </a:xfrm>
              <a:custGeom>
                <a:avLst/>
                <a:gdLst/>
                <a:ahLst/>
                <a:rect l="l" t="t" r="r" b="b"/>
                <a:pathLst>
                  <a:path w="1911" h="16">
                    <a:moveTo>
                      <a:pt x="1909" y="16"/>
                    </a:moveTo>
                    <a:lnTo>
                      <a:pt x="1420" y="16"/>
                    </a:lnTo>
                    <a:lnTo>
                      <a:pt x="1423" y="0"/>
                    </a:lnTo>
                    <a:lnTo>
                      <a:pt x="1911" y="0"/>
                    </a:lnTo>
                    <a:lnTo>
                      <a:pt x="1909" y="16"/>
                    </a:lnTo>
                    <a:close/>
                    <a:moveTo>
                      <a:pt x="1063" y="16"/>
                    </a:moveTo>
                    <a:lnTo>
                      <a:pt x="839" y="16"/>
                    </a:lnTo>
                    <a:lnTo>
                      <a:pt x="846" y="0"/>
                    </a:lnTo>
                    <a:lnTo>
                      <a:pt x="1057" y="0"/>
                    </a:lnTo>
                    <a:lnTo>
                      <a:pt x="1063" y="16"/>
                    </a:lnTo>
                    <a:close/>
                    <a:moveTo>
                      <a:pt x="493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1" y="0"/>
                    </a:lnTo>
                    <a:lnTo>
                      <a:pt x="493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919960" y="1008720"/>
                <a:ext cx="733680" cy="5040"/>
              </a:xfrm>
              <a:custGeom>
                <a:avLst/>
                <a:gdLst/>
                <a:ahLst/>
                <a:rect l="l" t="t" r="r" b="b"/>
                <a:pathLst>
                  <a:path w="1913" h="15">
                    <a:moveTo>
                      <a:pt x="1911" y="15"/>
                    </a:moveTo>
                    <a:lnTo>
                      <a:pt x="1423" y="15"/>
                    </a:lnTo>
                    <a:lnTo>
                      <a:pt x="1425" y="0"/>
                    </a:lnTo>
                    <a:lnTo>
                      <a:pt x="1913" y="0"/>
                    </a:lnTo>
                    <a:lnTo>
                      <a:pt x="1911" y="15"/>
                    </a:lnTo>
                    <a:close/>
                    <a:moveTo>
                      <a:pt x="1061" y="15"/>
                    </a:moveTo>
                    <a:lnTo>
                      <a:pt x="844" y="15"/>
                    </a:lnTo>
                    <a:lnTo>
                      <a:pt x="850" y="0"/>
                    </a:lnTo>
                    <a:lnTo>
                      <a:pt x="1055" y="0"/>
                    </a:lnTo>
                    <a:lnTo>
                      <a:pt x="1061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919960" y="1006560"/>
                <a:ext cx="735480" cy="5040"/>
              </a:xfrm>
              <a:custGeom>
                <a:avLst/>
                <a:gdLst/>
                <a:ahLst/>
                <a:rect l="l" t="t" r="r" b="b"/>
                <a:pathLst>
                  <a:path w="1915" h="15">
                    <a:moveTo>
                      <a:pt x="1913" y="15"/>
                    </a:moveTo>
                    <a:lnTo>
                      <a:pt x="1425" y="15"/>
                    </a:lnTo>
                    <a:lnTo>
                      <a:pt x="1427" y="0"/>
                    </a:lnTo>
                    <a:lnTo>
                      <a:pt x="1915" y="0"/>
                    </a:lnTo>
                    <a:lnTo>
                      <a:pt x="1913" y="15"/>
                    </a:lnTo>
                    <a:close/>
                    <a:moveTo>
                      <a:pt x="1059" y="15"/>
                    </a:moveTo>
                    <a:lnTo>
                      <a:pt x="848" y="15"/>
                    </a:lnTo>
                    <a:lnTo>
                      <a:pt x="854" y="0"/>
                    </a:lnTo>
                    <a:lnTo>
                      <a:pt x="1053" y="0"/>
                    </a:lnTo>
                    <a:lnTo>
                      <a:pt x="1059" y="15"/>
                    </a:lnTo>
                    <a:close/>
                    <a:moveTo>
                      <a:pt x="493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918160" y="1002960"/>
                <a:ext cx="737280" cy="5400"/>
              </a:xfrm>
              <a:custGeom>
                <a:avLst/>
                <a:gdLst/>
                <a:ahLst/>
                <a:rect l="l" t="t" r="r" b="b"/>
                <a:pathLst>
                  <a:path w="1917" h="15">
                    <a:moveTo>
                      <a:pt x="1915" y="15"/>
                    </a:moveTo>
                    <a:lnTo>
                      <a:pt x="1427" y="15"/>
                    </a:lnTo>
                    <a:lnTo>
                      <a:pt x="1429" y="0"/>
                    </a:lnTo>
                    <a:lnTo>
                      <a:pt x="1917" y="0"/>
                    </a:lnTo>
                    <a:lnTo>
                      <a:pt x="1915" y="15"/>
                    </a:lnTo>
                    <a:close/>
                    <a:moveTo>
                      <a:pt x="1057" y="15"/>
                    </a:moveTo>
                    <a:lnTo>
                      <a:pt x="852" y="15"/>
                    </a:lnTo>
                    <a:lnTo>
                      <a:pt x="859" y="0"/>
                    </a:lnTo>
                    <a:lnTo>
                      <a:pt x="1051" y="0"/>
                    </a:lnTo>
                    <a:lnTo>
                      <a:pt x="1057" y="15"/>
                    </a:lnTo>
                    <a:close/>
                    <a:moveTo>
                      <a:pt x="494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918160" y="1001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19" h="14">
                    <a:moveTo>
                      <a:pt x="1917" y="14"/>
                    </a:moveTo>
                    <a:lnTo>
                      <a:pt x="1429" y="14"/>
                    </a:lnTo>
                    <a:lnTo>
                      <a:pt x="1431" y="0"/>
                    </a:lnTo>
                    <a:lnTo>
                      <a:pt x="1919" y="0"/>
                    </a:lnTo>
                    <a:lnTo>
                      <a:pt x="1917" y="14"/>
                    </a:lnTo>
                    <a:close/>
                    <a:moveTo>
                      <a:pt x="1055" y="14"/>
                    </a:moveTo>
                    <a:lnTo>
                      <a:pt x="856" y="14"/>
                    </a:lnTo>
                    <a:lnTo>
                      <a:pt x="863" y="0"/>
                    </a:lnTo>
                    <a:lnTo>
                      <a:pt x="1049" y="0"/>
                    </a:lnTo>
                    <a:lnTo>
                      <a:pt x="1055" y="14"/>
                    </a:lnTo>
                    <a:close/>
                    <a:moveTo>
                      <a:pt x="494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2" y="0"/>
                    </a:lnTo>
                    <a:lnTo>
                      <a:pt x="494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918160" y="9979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0" h="16">
                    <a:moveTo>
                      <a:pt x="1919" y="16"/>
                    </a:moveTo>
                    <a:lnTo>
                      <a:pt x="1431" y="16"/>
                    </a:lnTo>
                    <a:lnTo>
                      <a:pt x="1433" y="0"/>
                    </a:lnTo>
                    <a:lnTo>
                      <a:pt x="1920" y="0"/>
                    </a:lnTo>
                    <a:lnTo>
                      <a:pt x="1919" y="16"/>
                    </a:lnTo>
                    <a:close/>
                    <a:moveTo>
                      <a:pt x="1053" y="16"/>
                    </a:moveTo>
                    <a:lnTo>
                      <a:pt x="861" y="16"/>
                    </a:lnTo>
                    <a:lnTo>
                      <a:pt x="867" y="0"/>
                    </a:lnTo>
                    <a:lnTo>
                      <a:pt x="1046" y="0"/>
                    </a:lnTo>
                    <a:lnTo>
                      <a:pt x="1053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918160" y="9961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2" h="16">
                    <a:moveTo>
                      <a:pt x="1921" y="16"/>
                    </a:moveTo>
                    <a:lnTo>
                      <a:pt x="1433" y="16"/>
                    </a:lnTo>
                    <a:lnTo>
                      <a:pt x="1435" y="0"/>
                    </a:lnTo>
                    <a:lnTo>
                      <a:pt x="1922" y="0"/>
                    </a:lnTo>
                    <a:lnTo>
                      <a:pt x="1921" y="16"/>
                    </a:lnTo>
                    <a:close/>
                    <a:moveTo>
                      <a:pt x="1051" y="16"/>
                    </a:moveTo>
                    <a:lnTo>
                      <a:pt x="865" y="16"/>
                    </a:lnTo>
                    <a:lnTo>
                      <a:pt x="871" y="0"/>
                    </a:lnTo>
                    <a:lnTo>
                      <a:pt x="1044" y="0"/>
                    </a:lnTo>
                    <a:lnTo>
                      <a:pt x="1051" y="16"/>
                    </a:lnTo>
                    <a:close/>
                    <a:moveTo>
                      <a:pt x="494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4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918160" y="992520"/>
                <a:ext cx="737280" cy="5040"/>
              </a:xfrm>
              <a:custGeom>
                <a:avLst/>
                <a:gdLst/>
                <a:ahLst/>
                <a:rect l="l" t="t" r="r" b="b"/>
                <a:pathLst>
                  <a:path w="1924" h="15">
                    <a:moveTo>
                      <a:pt x="1922" y="15"/>
                    </a:moveTo>
                    <a:lnTo>
                      <a:pt x="1435" y="15"/>
                    </a:lnTo>
                    <a:lnTo>
                      <a:pt x="1437" y="0"/>
                    </a:lnTo>
                    <a:lnTo>
                      <a:pt x="1924" y="0"/>
                    </a:lnTo>
                    <a:lnTo>
                      <a:pt x="1922" y="15"/>
                    </a:lnTo>
                    <a:close/>
                    <a:moveTo>
                      <a:pt x="1048" y="15"/>
                    </a:moveTo>
                    <a:lnTo>
                      <a:pt x="869" y="15"/>
                    </a:lnTo>
                    <a:lnTo>
                      <a:pt x="875" y="0"/>
                    </a:lnTo>
                    <a:lnTo>
                      <a:pt x="1042" y="0"/>
                    </a:lnTo>
                    <a:lnTo>
                      <a:pt x="1048" y="15"/>
                    </a:lnTo>
                    <a:close/>
                    <a:moveTo>
                      <a:pt x="495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3" y="0"/>
                    </a:lnTo>
                    <a:lnTo>
                      <a:pt x="495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916000" y="990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27" h="15">
                    <a:moveTo>
                      <a:pt x="1925" y="15"/>
                    </a:moveTo>
                    <a:lnTo>
                      <a:pt x="1438" y="15"/>
                    </a:lnTo>
                    <a:lnTo>
                      <a:pt x="1440" y="0"/>
                    </a:lnTo>
                    <a:lnTo>
                      <a:pt x="1927" y="0"/>
                    </a:lnTo>
                    <a:lnTo>
                      <a:pt x="1925" y="15"/>
                    </a:lnTo>
                    <a:close/>
                    <a:moveTo>
                      <a:pt x="1047" y="15"/>
                    </a:moveTo>
                    <a:lnTo>
                      <a:pt x="874" y="15"/>
                    </a:lnTo>
                    <a:lnTo>
                      <a:pt x="880" y="0"/>
                    </a:lnTo>
                    <a:lnTo>
                      <a:pt x="1041" y="0"/>
                    </a:lnTo>
                    <a:lnTo>
                      <a:pt x="1047" y="15"/>
                    </a:lnTo>
                    <a:close/>
                    <a:moveTo>
                      <a:pt x="496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916000" y="98748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29" h="14">
                    <a:moveTo>
                      <a:pt x="1927" y="14"/>
                    </a:moveTo>
                    <a:lnTo>
                      <a:pt x="1440" y="14"/>
                    </a:lnTo>
                    <a:lnTo>
                      <a:pt x="1442" y="0"/>
                    </a:lnTo>
                    <a:lnTo>
                      <a:pt x="1929" y="0"/>
                    </a:lnTo>
                    <a:lnTo>
                      <a:pt x="1927" y="14"/>
                    </a:lnTo>
                    <a:close/>
                    <a:moveTo>
                      <a:pt x="1045" y="14"/>
                    </a:moveTo>
                    <a:lnTo>
                      <a:pt x="878" y="14"/>
                    </a:lnTo>
                    <a:lnTo>
                      <a:pt x="885" y="0"/>
                    </a:lnTo>
                    <a:lnTo>
                      <a:pt x="1039" y="0"/>
                    </a:lnTo>
                    <a:lnTo>
                      <a:pt x="1045" y="14"/>
                    </a:lnTo>
                    <a:close/>
                    <a:moveTo>
                      <a:pt x="496" y="14"/>
                    </a:moveTo>
                    <a:lnTo>
                      <a:pt x="3" y="14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916000" y="985320"/>
                <a:ext cx="741240" cy="5040"/>
              </a:xfrm>
              <a:custGeom>
                <a:avLst/>
                <a:gdLst/>
                <a:ahLst/>
                <a:rect l="l" t="t" r="r" b="b"/>
                <a:pathLst>
                  <a:path w="1931" h="16">
                    <a:moveTo>
                      <a:pt x="1929" y="16"/>
                    </a:moveTo>
                    <a:lnTo>
                      <a:pt x="1442" y="16"/>
                    </a:lnTo>
                    <a:lnTo>
                      <a:pt x="1444" y="0"/>
                    </a:lnTo>
                    <a:lnTo>
                      <a:pt x="1931" y="0"/>
                    </a:lnTo>
                    <a:lnTo>
                      <a:pt x="1929" y="16"/>
                    </a:lnTo>
                    <a:close/>
                    <a:moveTo>
                      <a:pt x="1043" y="16"/>
                    </a:moveTo>
                    <a:lnTo>
                      <a:pt x="882" y="16"/>
                    </a:lnTo>
                    <a:lnTo>
                      <a:pt x="889" y="0"/>
                    </a:lnTo>
                    <a:lnTo>
                      <a:pt x="1037" y="0"/>
                    </a:lnTo>
                    <a:lnTo>
                      <a:pt x="1043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916000" y="981720"/>
                <a:ext cx="741240" cy="5400"/>
              </a:xfrm>
              <a:custGeom>
                <a:avLst/>
                <a:gdLst/>
                <a:ahLst/>
                <a:rect l="l" t="t" r="r" b="b"/>
                <a:pathLst>
                  <a:path w="1933" h="16">
                    <a:moveTo>
                      <a:pt x="1931" y="16"/>
                    </a:moveTo>
                    <a:lnTo>
                      <a:pt x="1444" y="16"/>
                    </a:lnTo>
                    <a:lnTo>
                      <a:pt x="1446" y="0"/>
                    </a:lnTo>
                    <a:lnTo>
                      <a:pt x="1933" y="0"/>
                    </a:lnTo>
                    <a:lnTo>
                      <a:pt x="1931" y="16"/>
                    </a:lnTo>
                    <a:close/>
                    <a:moveTo>
                      <a:pt x="1041" y="16"/>
                    </a:moveTo>
                    <a:lnTo>
                      <a:pt x="887" y="16"/>
                    </a:lnTo>
                    <a:lnTo>
                      <a:pt x="893" y="0"/>
                    </a:lnTo>
                    <a:lnTo>
                      <a:pt x="1035" y="0"/>
                    </a:lnTo>
                    <a:lnTo>
                      <a:pt x="1041" y="16"/>
                    </a:lnTo>
                    <a:close/>
                    <a:moveTo>
                      <a:pt x="496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6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14200" y="980280"/>
                <a:ext cx="743040" cy="5040"/>
              </a:xfrm>
              <a:custGeom>
                <a:avLst/>
                <a:gdLst/>
                <a:ahLst/>
                <a:rect l="l" t="t" r="r" b="b"/>
                <a:pathLst>
                  <a:path w="1935" h="14">
                    <a:moveTo>
                      <a:pt x="1933" y="14"/>
                    </a:moveTo>
                    <a:lnTo>
                      <a:pt x="1446" y="14"/>
                    </a:lnTo>
                    <a:lnTo>
                      <a:pt x="1448" y="0"/>
                    </a:lnTo>
                    <a:lnTo>
                      <a:pt x="1935" y="0"/>
                    </a:lnTo>
                    <a:lnTo>
                      <a:pt x="1933" y="14"/>
                    </a:lnTo>
                    <a:close/>
                    <a:moveTo>
                      <a:pt x="1039" y="14"/>
                    </a:moveTo>
                    <a:lnTo>
                      <a:pt x="891" y="14"/>
                    </a:lnTo>
                    <a:lnTo>
                      <a:pt x="898" y="0"/>
                    </a:lnTo>
                    <a:lnTo>
                      <a:pt x="1032" y="0"/>
                    </a:lnTo>
                    <a:lnTo>
                      <a:pt x="1039" y="14"/>
                    </a:lnTo>
                    <a:close/>
                    <a:moveTo>
                      <a:pt x="497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14200" y="9766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7" h="15">
                    <a:moveTo>
                      <a:pt x="1935" y="15"/>
                    </a:moveTo>
                    <a:lnTo>
                      <a:pt x="1448" y="15"/>
                    </a:lnTo>
                    <a:lnTo>
                      <a:pt x="1450" y="0"/>
                    </a:lnTo>
                    <a:lnTo>
                      <a:pt x="1937" y="0"/>
                    </a:lnTo>
                    <a:lnTo>
                      <a:pt x="1935" y="15"/>
                    </a:lnTo>
                    <a:close/>
                    <a:moveTo>
                      <a:pt x="1037" y="15"/>
                    </a:moveTo>
                    <a:lnTo>
                      <a:pt x="895" y="15"/>
                    </a:lnTo>
                    <a:lnTo>
                      <a:pt x="902" y="0"/>
                    </a:lnTo>
                    <a:lnTo>
                      <a:pt x="1030" y="0"/>
                    </a:lnTo>
                    <a:lnTo>
                      <a:pt x="1037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5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2914200" y="9748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39" h="15">
                    <a:moveTo>
                      <a:pt x="1937" y="15"/>
                    </a:moveTo>
                    <a:lnTo>
                      <a:pt x="1450" y="15"/>
                    </a:lnTo>
                    <a:lnTo>
                      <a:pt x="1452" y="0"/>
                    </a:lnTo>
                    <a:lnTo>
                      <a:pt x="1939" y="0"/>
                    </a:lnTo>
                    <a:lnTo>
                      <a:pt x="1937" y="15"/>
                    </a:lnTo>
                    <a:close/>
                    <a:moveTo>
                      <a:pt x="1034" y="15"/>
                    </a:moveTo>
                    <a:lnTo>
                      <a:pt x="900" y="15"/>
                    </a:lnTo>
                    <a:lnTo>
                      <a:pt x="906" y="0"/>
                    </a:lnTo>
                    <a:lnTo>
                      <a:pt x="1028" y="0"/>
                    </a:lnTo>
                    <a:lnTo>
                      <a:pt x="1034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2914200" y="97128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2" h="15">
                    <a:moveTo>
                      <a:pt x="1939" y="15"/>
                    </a:moveTo>
                    <a:lnTo>
                      <a:pt x="1452" y="15"/>
                    </a:lnTo>
                    <a:lnTo>
                      <a:pt x="1454" y="0"/>
                    </a:lnTo>
                    <a:lnTo>
                      <a:pt x="1942" y="0"/>
                    </a:lnTo>
                    <a:lnTo>
                      <a:pt x="1939" y="15"/>
                    </a:lnTo>
                    <a:close/>
                    <a:moveTo>
                      <a:pt x="1032" y="15"/>
                    </a:moveTo>
                    <a:lnTo>
                      <a:pt x="904" y="15"/>
                    </a:lnTo>
                    <a:lnTo>
                      <a:pt x="910" y="0"/>
                    </a:lnTo>
                    <a:lnTo>
                      <a:pt x="1025" y="0"/>
                    </a:lnTo>
                    <a:lnTo>
                      <a:pt x="1032" y="15"/>
                    </a:lnTo>
                    <a:close/>
                    <a:moveTo>
                      <a:pt x="497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7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2914200" y="969840"/>
                <a:ext cx="745200" cy="5040"/>
              </a:xfrm>
              <a:custGeom>
                <a:avLst/>
                <a:gdLst/>
                <a:ahLst/>
                <a:rect l="l" t="t" r="r" b="b"/>
                <a:pathLst>
                  <a:path w="1944" h="16">
                    <a:moveTo>
                      <a:pt x="1941" y="16"/>
                    </a:moveTo>
                    <a:lnTo>
                      <a:pt x="1454" y="16"/>
                    </a:lnTo>
                    <a:lnTo>
                      <a:pt x="1455" y="0"/>
                    </a:lnTo>
                    <a:lnTo>
                      <a:pt x="1944" y="0"/>
                    </a:lnTo>
                    <a:lnTo>
                      <a:pt x="1941" y="16"/>
                    </a:lnTo>
                    <a:close/>
                    <a:moveTo>
                      <a:pt x="1030" y="16"/>
                    </a:moveTo>
                    <a:lnTo>
                      <a:pt x="908" y="16"/>
                    </a:lnTo>
                    <a:lnTo>
                      <a:pt x="915" y="0"/>
                    </a:lnTo>
                    <a:lnTo>
                      <a:pt x="1024" y="0"/>
                    </a:lnTo>
                    <a:lnTo>
                      <a:pt x="1030" y="16"/>
                    </a:lnTo>
                    <a:close/>
                    <a:moveTo>
                      <a:pt x="498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2912040" y="9662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46" h="15">
                    <a:moveTo>
                      <a:pt x="1944" y="15"/>
                    </a:moveTo>
                    <a:lnTo>
                      <a:pt x="1456" y="15"/>
                    </a:lnTo>
                    <a:lnTo>
                      <a:pt x="1457" y="0"/>
                    </a:lnTo>
                    <a:lnTo>
                      <a:pt x="1946" y="0"/>
                    </a:lnTo>
                    <a:lnTo>
                      <a:pt x="1944" y="15"/>
                    </a:lnTo>
                    <a:close/>
                    <a:moveTo>
                      <a:pt x="1027" y="15"/>
                    </a:moveTo>
                    <a:lnTo>
                      <a:pt x="912" y="15"/>
                    </a:lnTo>
                    <a:lnTo>
                      <a:pt x="919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2912040" y="9640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48" h="15">
                    <a:moveTo>
                      <a:pt x="1946" y="15"/>
                    </a:moveTo>
                    <a:lnTo>
                      <a:pt x="1457" y="15"/>
                    </a:lnTo>
                    <a:lnTo>
                      <a:pt x="1459" y="0"/>
                    </a:lnTo>
                    <a:lnTo>
                      <a:pt x="1948" y="0"/>
                    </a:lnTo>
                    <a:lnTo>
                      <a:pt x="1946" y="15"/>
                    </a:lnTo>
                    <a:close/>
                    <a:moveTo>
                      <a:pt x="1026" y="15"/>
                    </a:moveTo>
                    <a:lnTo>
                      <a:pt x="917" y="15"/>
                    </a:lnTo>
                    <a:lnTo>
                      <a:pt x="923" y="0"/>
                    </a:lnTo>
                    <a:lnTo>
                      <a:pt x="1018" y="0"/>
                    </a:lnTo>
                    <a:lnTo>
                      <a:pt x="1026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2912040" y="960480"/>
                <a:ext cx="749160" cy="5400"/>
              </a:xfrm>
              <a:custGeom>
                <a:avLst/>
                <a:gdLst/>
                <a:ahLst/>
                <a:rect l="l" t="t" r="r" b="b"/>
                <a:pathLst>
                  <a:path w="1950" h="15">
                    <a:moveTo>
                      <a:pt x="1948" y="15"/>
                    </a:moveTo>
                    <a:lnTo>
                      <a:pt x="1459" y="15"/>
                    </a:lnTo>
                    <a:lnTo>
                      <a:pt x="1461" y="0"/>
                    </a:lnTo>
                    <a:lnTo>
                      <a:pt x="1950" y="0"/>
                    </a:lnTo>
                    <a:lnTo>
                      <a:pt x="1948" y="15"/>
                    </a:lnTo>
                    <a:close/>
                    <a:moveTo>
                      <a:pt x="1023" y="15"/>
                    </a:moveTo>
                    <a:lnTo>
                      <a:pt x="921" y="15"/>
                    </a:lnTo>
                    <a:lnTo>
                      <a:pt x="927" y="0"/>
                    </a:lnTo>
                    <a:lnTo>
                      <a:pt x="1016" y="0"/>
                    </a:lnTo>
                    <a:lnTo>
                      <a:pt x="1023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2912040" y="9590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1" h="14">
                    <a:moveTo>
                      <a:pt x="1950" y="14"/>
                    </a:moveTo>
                    <a:lnTo>
                      <a:pt x="1461" y="14"/>
                    </a:lnTo>
                    <a:lnTo>
                      <a:pt x="1464" y="0"/>
                    </a:lnTo>
                    <a:lnTo>
                      <a:pt x="1951" y="0"/>
                    </a:lnTo>
                    <a:lnTo>
                      <a:pt x="1950" y="14"/>
                    </a:lnTo>
                    <a:close/>
                    <a:moveTo>
                      <a:pt x="1020" y="14"/>
                    </a:moveTo>
                    <a:lnTo>
                      <a:pt x="925" y="14"/>
                    </a:lnTo>
                    <a:lnTo>
                      <a:pt x="931" y="0"/>
                    </a:lnTo>
                    <a:lnTo>
                      <a:pt x="1014" y="0"/>
                    </a:lnTo>
                    <a:lnTo>
                      <a:pt x="1020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2912040" y="955440"/>
                <a:ext cx="749160" cy="5040"/>
              </a:xfrm>
              <a:custGeom>
                <a:avLst/>
                <a:gdLst/>
                <a:ahLst/>
                <a:rect l="l" t="t" r="r" b="b"/>
                <a:pathLst>
                  <a:path w="1953" h="16">
                    <a:moveTo>
                      <a:pt x="1952" y="16"/>
                    </a:moveTo>
                    <a:lnTo>
                      <a:pt x="1463" y="16"/>
                    </a:lnTo>
                    <a:lnTo>
                      <a:pt x="1466" y="0"/>
                    </a:lnTo>
                    <a:lnTo>
                      <a:pt x="1953" y="0"/>
                    </a:lnTo>
                    <a:lnTo>
                      <a:pt x="1952" y="16"/>
                    </a:lnTo>
                    <a:close/>
                    <a:moveTo>
                      <a:pt x="1018" y="16"/>
                    </a:moveTo>
                    <a:lnTo>
                      <a:pt x="929" y="16"/>
                    </a:lnTo>
                    <a:lnTo>
                      <a:pt x="935" y="0"/>
                    </a:lnTo>
                    <a:lnTo>
                      <a:pt x="1012" y="0"/>
                    </a:lnTo>
                    <a:lnTo>
                      <a:pt x="1018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2910240" y="953640"/>
                <a:ext cx="750960" cy="5040"/>
              </a:xfrm>
              <a:custGeom>
                <a:avLst/>
                <a:gdLst/>
                <a:ahLst/>
                <a:rect l="l" t="t" r="r" b="b"/>
                <a:pathLst>
                  <a:path w="1955" h="16">
                    <a:moveTo>
                      <a:pt x="1953" y="16"/>
                    </a:moveTo>
                    <a:lnTo>
                      <a:pt x="1466" y="16"/>
                    </a:lnTo>
                    <a:lnTo>
                      <a:pt x="1468" y="0"/>
                    </a:lnTo>
                    <a:lnTo>
                      <a:pt x="1955" y="0"/>
                    </a:lnTo>
                    <a:lnTo>
                      <a:pt x="1953" y="16"/>
                    </a:lnTo>
                    <a:close/>
                    <a:moveTo>
                      <a:pt x="1016" y="16"/>
                    </a:moveTo>
                    <a:lnTo>
                      <a:pt x="933" y="16"/>
                    </a:lnTo>
                    <a:lnTo>
                      <a:pt x="940" y="0"/>
                    </a:lnTo>
                    <a:lnTo>
                      <a:pt x="1010" y="0"/>
                    </a:lnTo>
                    <a:lnTo>
                      <a:pt x="1016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6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2910240" y="95004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7" h="14">
                    <a:moveTo>
                      <a:pt x="1955" y="14"/>
                    </a:moveTo>
                    <a:lnTo>
                      <a:pt x="1468" y="14"/>
                    </a:lnTo>
                    <a:lnTo>
                      <a:pt x="1470" y="0"/>
                    </a:lnTo>
                    <a:lnTo>
                      <a:pt x="1957" y="0"/>
                    </a:lnTo>
                    <a:lnTo>
                      <a:pt x="1955" y="14"/>
                    </a:lnTo>
                    <a:close/>
                    <a:moveTo>
                      <a:pt x="1014" y="14"/>
                    </a:moveTo>
                    <a:lnTo>
                      <a:pt x="937" y="14"/>
                    </a:lnTo>
                    <a:lnTo>
                      <a:pt x="944" y="0"/>
                    </a:lnTo>
                    <a:lnTo>
                      <a:pt x="1008" y="0"/>
                    </a:lnTo>
                    <a:lnTo>
                      <a:pt x="1014" y="14"/>
                    </a:lnTo>
                    <a:close/>
                    <a:moveTo>
                      <a:pt x="498" y="14"/>
                    </a:moveTo>
                    <a:lnTo>
                      <a:pt x="2" y="14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2910240" y="9486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59" h="15">
                    <a:moveTo>
                      <a:pt x="1957" y="15"/>
                    </a:moveTo>
                    <a:lnTo>
                      <a:pt x="1470" y="15"/>
                    </a:lnTo>
                    <a:lnTo>
                      <a:pt x="1472" y="0"/>
                    </a:lnTo>
                    <a:lnTo>
                      <a:pt x="1959" y="0"/>
                    </a:lnTo>
                    <a:lnTo>
                      <a:pt x="1957" y="15"/>
                    </a:lnTo>
                    <a:close/>
                    <a:moveTo>
                      <a:pt x="1012" y="15"/>
                    </a:moveTo>
                    <a:lnTo>
                      <a:pt x="942" y="15"/>
                    </a:lnTo>
                    <a:lnTo>
                      <a:pt x="948" y="0"/>
                    </a:lnTo>
                    <a:lnTo>
                      <a:pt x="1006" y="0"/>
                    </a:lnTo>
                    <a:lnTo>
                      <a:pt x="1012" y="15"/>
                    </a:lnTo>
                    <a:close/>
                    <a:moveTo>
                      <a:pt x="498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8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910240" y="945000"/>
                <a:ext cx="753120" cy="5040"/>
              </a:xfrm>
              <a:custGeom>
                <a:avLst/>
                <a:gdLst/>
                <a:ahLst/>
                <a:rect l="l" t="t" r="r" b="b"/>
                <a:pathLst>
                  <a:path w="1961" h="15">
                    <a:moveTo>
                      <a:pt x="1959" y="15"/>
                    </a:moveTo>
                    <a:lnTo>
                      <a:pt x="1472" y="15"/>
                    </a:lnTo>
                    <a:lnTo>
                      <a:pt x="1474" y="0"/>
                    </a:lnTo>
                    <a:lnTo>
                      <a:pt x="1961" y="0"/>
                    </a:lnTo>
                    <a:lnTo>
                      <a:pt x="1959" y="15"/>
                    </a:lnTo>
                    <a:close/>
                    <a:moveTo>
                      <a:pt x="1010" y="15"/>
                    </a:moveTo>
                    <a:lnTo>
                      <a:pt x="946" y="15"/>
                    </a:lnTo>
                    <a:lnTo>
                      <a:pt x="952" y="0"/>
                    </a:lnTo>
                    <a:lnTo>
                      <a:pt x="1003" y="0"/>
                    </a:lnTo>
                    <a:lnTo>
                      <a:pt x="1010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2910240" y="942840"/>
                <a:ext cx="753120" cy="5400"/>
              </a:xfrm>
              <a:custGeom>
                <a:avLst/>
                <a:gdLst/>
                <a:ahLst/>
                <a:rect l="l" t="t" r="r" b="b"/>
                <a:pathLst>
                  <a:path w="1963" h="15">
                    <a:moveTo>
                      <a:pt x="1961" y="15"/>
                    </a:moveTo>
                    <a:lnTo>
                      <a:pt x="1474" y="15"/>
                    </a:lnTo>
                    <a:lnTo>
                      <a:pt x="1476" y="0"/>
                    </a:lnTo>
                    <a:lnTo>
                      <a:pt x="1963" y="0"/>
                    </a:lnTo>
                    <a:lnTo>
                      <a:pt x="1961" y="15"/>
                    </a:lnTo>
                    <a:close/>
                    <a:moveTo>
                      <a:pt x="1008" y="15"/>
                    </a:moveTo>
                    <a:lnTo>
                      <a:pt x="950" y="15"/>
                    </a:lnTo>
                    <a:lnTo>
                      <a:pt x="957" y="0"/>
                    </a:lnTo>
                    <a:lnTo>
                      <a:pt x="1001" y="0"/>
                    </a:lnTo>
                    <a:lnTo>
                      <a:pt x="1008" y="15"/>
                    </a:lnTo>
                    <a:close/>
                    <a:moveTo>
                      <a:pt x="499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2908800" y="939600"/>
                <a:ext cx="754560" cy="5040"/>
              </a:xfrm>
              <a:custGeom>
                <a:avLst/>
                <a:gdLst/>
                <a:ahLst/>
                <a:rect l="l" t="t" r="r" b="b"/>
                <a:pathLst>
                  <a:path w="1965" h="16">
                    <a:moveTo>
                      <a:pt x="1963" y="16"/>
                    </a:moveTo>
                    <a:lnTo>
                      <a:pt x="1476" y="16"/>
                    </a:lnTo>
                    <a:lnTo>
                      <a:pt x="1478" y="0"/>
                    </a:lnTo>
                    <a:lnTo>
                      <a:pt x="1965" y="0"/>
                    </a:lnTo>
                    <a:lnTo>
                      <a:pt x="1963" y="16"/>
                    </a:lnTo>
                    <a:close/>
                    <a:moveTo>
                      <a:pt x="1005" y="16"/>
                    </a:moveTo>
                    <a:lnTo>
                      <a:pt x="954" y="16"/>
                    </a:lnTo>
                    <a:lnTo>
                      <a:pt x="961" y="0"/>
                    </a:lnTo>
                    <a:lnTo>
                      <a:pt x="999" y="0"/>
                    </a:lnTo>
                    <a:lnTo>
                      <a:pt x="1005" y="16"/>
                    </a:lnTo>
                    <a:close/>
                    <a:moveTo>
                      <a:pt x="499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497" y="0"/>
                    </a:lnTo>
                    <a:lnTo>
                      <a:pt x="49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2908800" y="937800"/>
                <a:ext cx="756360" cy="5040"/>
              </a:xfrm>
              <a:custGeom>
                <a:avLst/>
                <a:gdLst/>
                <a:ahLst/>
                <a:rect l="l" t="t" r="r" b="b"/>
                <a:pathLst>
                  <a:path w="1968" h="15">
                    <a:moveTo>
                      <a:pt x="1966" y="15"/>
                    </a:moveTo>
                    <a:lnTo>
                      <a:pt x="1479" y="15"/>
                    </a:lnTo>
                    <a:lnTo>
                      <a:pt x="1481" y="0"/>
                    </a:lnTo>
                    <a:lnTo>
                      <a:pt x="1968" y="0"/>
                    </a:lnTo>
                    <a:lnTo>
                      <a:pt x="1966" y="15"/>
                    </a:lnTo>
                    <a:close/>
                    <a:moveTo>
                      <a:pt x="1004" y="15"/>
                    </a:moveTo>
                    <a:lnTo>
                      <a:pt x="960" y="15"/>
                    </a:lnTo>
                    <a:lnTo>
                      <a:pt x="966" y="0"/>
                    </a:lnTo>
                    <a:lnTo>
                      <a:pt x="998" y="0"/>
                    </a:lnTo>
                    <a:lnTo>
                      <a:pt x="1004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8" name=""/>
            <p:cNvGrpSpPr/>
            <p:nvPr/>
          </p:nvGrpSpPr>
          <p:grpSpPr>
            <a:xfrm>
              <a:off x="2906640" y="923760"/>
              <a:ext cx="1475280" cy="684360"/>
              <a:chOff x="2906640" y="923760"/>
              <a:chExt cx="1475280" cy="684360"/>
            </a:xfrm>
          </p:grpSpPr>
          <p:sp>
            <p:nvSpPr>
              <p:cNvPr id="5549" name=""/>
              <p:cNvSpPr/>
              <p:nvPr/>
            </p:nvSpPr>
            <p:spPr>
              <a:xfrm>
                <a:off x="2908800" y="933840"/>
                <a:ext cx="756720" cy="5400"/>
              </a:xfrm>
              <a:custGeom>
                <a:avLst/>
                <a:gdLst/>
                <a:ahLst/>
                <a:rect l="l" t="t" r="r" b="b"/>
                <a:pathLst>
                  <a:path w="1970" h="15">
                    <a:moveTo>
                      <a:pt x="1968" y="15"/>
                    </a:moveTo>
                    <a:lnTo>
                      <a:pt x="1481" y="15"/>
                    </a:lnTo>
                    <a:lnTo>
                      <a:pt x="1483" y="0"/>
                    </a:lnTo>
                    <a:lnTo>
                      <a:pt x="1970" y="0"/>
                    </a:lnTo>
                    <a:lnTo>
                      <a:pt x="1968" y="15"/>
                    </a:lnTo>
                    <a:close/>
                    <a:moveTo>
                      <a:pt x="1002" y="15"/>
                    </a:moveTo>
                    <a:lnTo>
                      <a:pt x="964" y="15"/>
                    </a:lnTo>
                    <a:lnTo>
                      <a:pt x="971" y="0"/>
                    </a:lnTo>
                    <a:lnTo>
                      <a:pt x="996" y="0"/>
                    </a:lnTo>
                    <a:lnTo>
                      <a:pt x="1002" y="15"/>
                    </a:lnTo>
                    <a:close/>
                    <a:moveTo>
                      <a:pt x="500" y="15"/>
                    </a:moveTo>
                    <a:lnTo>
                      <a:pt x="3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0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908800" y="932400"/>
                <a:ext cx="756720" cy="5040"/>
              </a:xfrm>
              <a:custGeom>
                <a:avLst/>
                <a:gdLst/>
                <a:ahLst/>
                <a:rect l="l" t="t" r="r" b="b"/>
                <a:pathLst>
                  <a:path w="1972" h="15">
                    <a:moveTo>
                      <a:pt x="1970" y="15"/>
                    </a:moveTo>
                    <a:lnTo>
                      <a:pt x="1483" y="15"/>
                    </a:lnTo>
                    <a:lnTo>
                      <a:pt x="1485" y="0"/>
                    </a:lnTo>
                    <a:lnTo>
                      <a:pt x="1972" y="0"/>
                    </a:lnTo>
                    <a:lnTo>
                      <a:pt x="1970" y="15"/>
                    </a:lnTo>
                    <a:close/>
                    <a:moveTo>
                      <a:pt x="1000" y="15"/>
                    </a:moveTo>
                    <a:lnTo>
                      <a:pt x="968" y="15"/>
                    </a:lnTo>
                    <a:lnTo>
                      <a:pt x="975" y="0"/>
                    </a:lnTo>
                    <a:lnTo>
                      <a:pt x="994" y="0"/>
                    </a:lnTo>
                    <a:lnTo>
                      <a:pt x="1000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0"/>
                    </a:lnTo>
                    <a:lnTo>
                      <a:pt x="499" y="0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2906640" y="928800"/>
                <a:ext cx="758880" cy="5040"/>
              </a:xfrm>
              <a:custGeom>
                <a:avLst/>
                <a:gdLst/>
                <a:ahLst/>
                <a:rect l="l" t="t" r="r" b="b"/>
                <a:pathLst>
                  <a:path w="1974" h="15">
                    <a:moveTo>
                      <a:pt x="1972" y="15"/>
                    </a:moveTo>
                    <a:lnTo>
                      <a:pt x="1485" y="15"/>
                    </a:lnTo>
                    <a:lnTo>
                      <a:pt x="1487" y="2"/>
                    </a:lnTo>
                    <a:lnTo>
                      <a:pt x="1974" y="2"/>
                    </a:lnTo>
                    <a:lnTo>
                      <a:pt x="1972" y="15"/>
                    </a:lnTo>
                    <a:close/>
                    <a:moveTo>
                      <a:pt x="998" y="15"/>
                    </a:moveTo>
                    <a:lnTo>
                      <a:pt x="973" y="15"/>
                    </a:lnTo>
                    <a:lnTo>
                      <a:pt x="979" y="0"/>
                    </a:lnTo>
                    <a:lnTo>
                      <a:pt x="992" y="0"/>
                    </a:lnTo>
                    <a:lnTo>
                      <a:pt x="998" y="15"/>
                    </a:lnTo>
                    <a:close/>
                    <a:moveTo>
                      <a:pt x="501" y="15"/>
                    </a:moveTo>
                    <a:lnTo>
                      <a:pt x="2" y="15"/>
                    </a:lnTo>
                    <a:lnTo>
                      <a:pt x="0" y="2"/>
                    </a:lnTo>
                    <a:lnTo>
                      <a:pt x="499" y="2"/>
                    </a:lnTo>
                    <a:lnTo>
                      <a:pt x="501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2906640" y="925200"/>
                <a:ext cx="758880" cy="7200"/>
              </a:xfrm>
              <a:custGeom>
                <a:avLst/>
                <a:gdLst/>
                <a:ahLst/>
                <a:rect l="l" t="t" r="r" b="b"/>
                <a:pathLst>
                  <a:path w="1974" h="16">
                    <a:moveTo>
                      <a:pt x="1973" y="16"/>
                    </a:moveTo>
                    <a:lnTo>
                      <a:pt x="1486" y="16"/>
                    </a:lnTo>
                    <a:lnTo>
                      <a:pt x="1487" y="10"/>
                    </a:lnTo>
                    <a:lnTo>
                      <a:pt x="1974" y="10"/>
                    </a:lnTo>
                    <a:lnTo>
                      <a:pt x="1973" y="16"/>
                    </a:lnTo>
                    <a:close/>
                    <a:moveTo>
                      <a:pt x="995" y="16"/>
                    </a:moveTo>
                    <a:lnTo>
                      <a:pt x="976" y="16"/>
                    </a:lnTo>
                    <a:lnTo>
                      <a:pt x="982" y="0"/>
                    </a:lnTo>
                    <a:lnTo>
                      <a:pt x="988" y="0"/>
                    </a:lnTo>
                    <a:lnTo>
                      <a:pt x="995" y="16"/>
                    </a:lnTo>
                    <a:close/>
                    <a:moveTo>
                      <a:pt x="500" y="16"/>
                    </a:moveTo>
                    <a:lnTo>
                      <a:pt x="1" y="16"/>
                    </a:lnTo>
                    <a:lnTo>
                      <a:pt x="0" y="10"/>
                    </a:lnTo>
                    <a:lnTo>
                      <a:pt x="499" y="10"/>
                    </a:lnTo>
                    <a:lnTo>
                      <a:pt x="500" y="1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3282840" y="92376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3285000" y="923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7"/>
                    </a:lnTo>
                    <a:lnTo>
                      <a:pt x="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3665520" y="1604880"/>
                <a:ext cx="716400" cy="2880"/>
              </a:xfrm>
              <a:custGeom>
                <a:avLst/>
                <a:gdLst/>
                <a:ahLst/>
                <a:rect l="l" t="t" r="r" b="b"/>
                <a:pathLst>
                  <a:path w="1864" h="8">
                    <a:moveTo>
                      <a:pt x="1864" y="8"/>
                    </a:moveTo>
                    <a:lnTo>
                      <a:pt x="1338" y="8"/>
                    </a:lnTo>
                    <a:lnTo>
                      <a:pt x="1336" y="0"/>
                    </a:lnTo>
                    <a:lnTo>
                      <a:pt x="1862" y="0"/>
                    </a:lnTo>
                    <a:lnTo>
                      <a:pt x="1864" y="8"/>
                    </a:lnTo>
                    <a:close/>
                    <a:moveTo>
                      <a:pt x="517" y="8"/>
                    </a:moveTo>
                    <a:lnTo>
                      <a:pt x="0" y="8"/>
                    </a:lnTo>
                    <a:lnTo>
                      <a:pt x="2" y="0"/>
                    </a:lnTo>
                    <a:lnTo>
                      <a:pt x="520" y="0"/>
                    </a:lnTo>
                    <a:lnTo>
                      <a:pt x="517" y="8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3665520" y="1603080"/>
                <a:ext cx="716400" cy="5040"/>
              </a:xfrm>
              <a:custGeom>
                <a:avLst/>
                <a:gdLst/>
                <a:ahLst/>
                <a:rect l="l" t="t" r="r" b="b"/>
                <a:pathLst>
                  <a:path w="1864" h="16">
                    <a:moveTo>
                      <a:pt x="1864" y="16"/>
                    </a:moveTo>
                    <a:lnTo>
                      <a:pt x="1338" y="16"/>
                    </a:lnTo>
                    <a:lnTo>
                      <a:pt x="1333" y="0"/>
                    </a:lnTo>
                    <a:lnTo>
                      <a:pt x="1860" y="0"/>
                    </a:lnTo>
                    <a:lnTo>
                      <a:pt x="186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3665520" y="1599480"/>
                <a:ext cx="714240" cy="5400"/>
              </a:xfrm>
              <a:custGeom>
                <a:avLst/>
                <a:gdLst/>
                <a:ahLst/>
                <a:rect l="l" t="t" r="r" b="b"/>
                <a:pathLst>
                  <a:path w="1860" h="15">
                    <a:moveTo>
                      <a:pt x="1860" y="15"/>
                    </a:moveTo>
                    <a:lnTo>
                      <a:pt x="1334" y="15"/>
                    </a:lnTo>
                    <a:lnTo>
                      <a:pt x="1328" y="0"/>
                    </a:lnTo>
                    <a:lnTo>
                      <a:pt x="1855" y="0"/>
                    </a:lnTo>
                    <a:lnTo>
                      <a:pt x="1860" y="15"/>
                    </a:lnTo>
                    <a:close/>
                    <a:moveTo>
                      <a:pt x="51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8" y="15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3666960" y="1597680"/>
                <a:ext cx="712440" cy="5040"/>
              </a:xfrm>
              <a:custGeom>
                <a:avLst/>
                <a:gdLst/>
                <a:ahLst/>
                <a:rect l="l" t="t" r="r" b="b"/>
                <a:pathLst>
                  <a:path w="1855" h="14">
                    <a:moveTo>
                      <a:pt x="1855" y="14"/>
                    </a:moveTo>
                    <a:lnTo>
                      <a:pt x="1328" y="14"/>
                    </a:lnTo>
                    <a:lnTo>
                      <a:pt x="1323" y="0"/>
                    </a:lnTo>
                    <a:lnTo>
                      <a:pt x="1849" y="0"/>
                    </a:lnTo>
                    <a:lnTo>
                      <a:pt x="1855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3669120" y="159408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9" h="15">
                    <a:moveTo>
                      <a:pt x="1849" y="15"/>
                    </a:moveTo>
                    <a:lnTo>
                      <a:pt x="1322" y="15"/>
                    </a:lnTo>
                    <a:lnTo>
                      <a:pt x="1317" y="0"/>
                    </a:lnTo>
                    <a:lnTo>
                      <a:pt x="1843" y="0"/>
                    </a:lnTo>
                    <a:lnTo>
                      <a:pt x="1849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3669120" y="1592640"/>
                <a:ext cx="708480" cy="5040"/>
              </a:xfrm>
              <a:custGeom>
                <a:avLst/>
                <a:gdLst/>
                <a:ahLst/>
                <a:rect l="l" t="t" r="r" b="b"/>
                <a:pathLst>
                  <a:path w="1843" h="16">
                    <a:moveTo>
                      <a:pt x="1843" y="16"/>
                    </a:moveTo>
                    <a:lnTo>
                      <a:pt x="1317" y="16"/>
                    </a:lnTo>
                    <a:lnTo>
                      <a:pt x="1312" y="0"/>
                    </a:lnTo>
                    <a:lnTo>
                      <a:pt x="1838" y="0"/>
                    </a:lnTo>
                    <a:lnTo>
                      <a:pt x="1843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670920" y="1589040"/>
                <a:ext cx="705240" cy="5040"/>
              </a:xfrm>
              <a:custGeom>
                <a:avLst/>
                <a:gdLst/>
                <a:ahLst/>
                <a:rect l="l" t="t" r="r" b="b"/>
                <a:pathLst>
                  <a:path w="1838" h="15">
                    <a:moveTo>
                      <a:pt x="1838" y="15"/>
                    </a:moveTo>
                    <a:lnTo>
                      <a:pt x="1312" y="15"/>
                    </a:lnTo>
                    <a:lnTo>
                      <a:pt x="1308" y="0"/>
                    </a:lnTo>
                    <a:lnTo>
                      <a:pt x="1834" y="0"/>
                    </a:lnTo>
                    <a:lnTo>
                      <a:pt x="183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3670920" y="1586880"/>
                <a:ext cx="705240" cy="5400"/>
              </a:xfrm>
              <a:custGeom>
                <a:avLst/>
                <a:gdLst/>
                <a:ahLst/>
                <a:rect l="l" t="t" r="r" b="b"/>
                <a:pathLst>
                  <a:path w="1833" h="15">
                    <a:moveTo>
                      <a:pt x="1833" y="15"/>
                    </a:moveTo>
                    <a:lnTo>
                      <a:pt x="1307" y="15"/>
                    </a:lnTo>
                    <a:lnTo>
                      <a:pt x="1302" y="0"/>
                    </a:lnTo>
                    <a:lnTo>
                      <a:pt x="1828" y="0"/>
                    </a:lnTo>
                    <a:lnTo>
                      <a:pt x="1833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3673080" y="15836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9" h="15">
                    <a:moveTo>
                      <a:pt x="1829" y="15"/>
                    </a:moveTo>
                    <a:lnTo>
                      <a:pt x="1303" y="15"/>
                    </a:lnTo>
                    <a:lnTo>
                      <a:pt x="1298" y="0"/>
                    </a:lnTo>
                    <a:lnTo>
                      <a:pt x="1824" y="0"/>
                    </a:lnTo>
                    <a:lnTo>
                      <a:pt x="1829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3673080" y="1581840"/>
                <a:ext cx="700920" cy="5040"/>
              </a:xfrm>
              <a:custGeom>
                <a:avLst/>
                <a:gdLst/>
                <a:ahLst/>
                <a:rect l="l" t="t" r="r" b="b"/>
                <a:pathLst>
                  <a:path w="1823" h="14">
                    <a:moveTo>
                      <a:pt x="1823" y="14"/>
                    </a:moveTo>
                    <a:lnTo>
                      <a:pt x="1297" y="14"/>
                    </a:lnTo>
                    <a:lnTo>
                      <a:pt x="1293" y="0"/>
                    </a:lnTo>
                    <a:lnTo>
                      <a:pt x="1819" y="0"/>
                    </a:lnTo>
                    <a:lnTo>
                      <a:pt x="1823" y="14"/>
                    </a:lnTo>
                    <a:close/>
                    <a:moveTo>
                      <a:pt x="51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4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3674880" y="1578240"/>
                <a:ext cx="697320" cy="5400"/>
              </a:xfrm>
              <a:custGeom>
                <a:avLst/>
                <a:gdLst/>
                <a:ahLst/>
                <a:rect l="l" t="t" r="r" b="b"/>
                <a:pathLst>
                  <a:path w="1819" h="16">
                    <a:moveTo>
                      <a:pt x="1819" y="16"/>
                    </a:moveTo>
                    <a:lnTo>
                      <a:pt x="1293" y="16"/>
                    </a:lnTo>
                    <a:lnTo>
                      <a:pt x="1288" y="0"/>
                    </a:lnTo>
                    <a:lnTo>
                      <a:pt x="1814" y="0"/>
                    </a:lnTo>
                    <a:lnTo>
                      <a:pt x="1819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3674880" y="1576440"/>
                <a:ext cx="697320" cy="5040"/>
              </a:xfrm>
              <a:custGeom>
                <a:avLst/>
                <a:gdLst/>
                <a:ahLst/>
                <a:rect l="l" t="t" r="r" b="b"/>
                <a:pathLst>
                  <a:path w="1814" h="16">
                    <a:moveTo>
                      <a:pt x="1814" y="16"/>
                    </a:moveTo>
                    <a:lnTo>
                      <a:pt x="1288" y="16"/>
                    </a:lnTo>
                    <a:lnTo>
                      <a:pt x="1282" y="0"/>
                    </a:lnTo>
                    <a:lnTo>
                      <a:pt x="1808" y="0"/>
                    </a:lnTo>
                    <a:lnTo>
                      <a:pt x="1814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3676680" y="157284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8" h="15">
                    <a:moveTo>
                      <a:pt x="1808" y="15"/>
                    </a:moveTo>
                    <a:lnTo>
                      <a:pt x="1282" y="15"/>
                    </a:lnTo>
                    <a:lnTo>
                      <a:pt x="1277" y="0"/>
                    </a:lnTo>
                    <a:lnTo>
                      <a:pt x="1802" y="0"/>
                    </a:lnTo>
                    <a:lnTo>
                      <a:pt x="1808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3676680" y="1571400"/>
                <a:ext cx="693360" cy="5040"/>
              </a:xfrm>
              <a:custGeom>
                <a:avLst/>
                <a:gdLst/>
                <a:ahLst/>
                <a:rect l="l" t="t" r="r" b="b"/>
                <a:pathLst>
                  <a:path w="1802" h="15">
                    <a:moveTo>
                      <a:pt x="1802" y="15"/>
                    </a:moveTo>
                    <a:lnTo>
                      <a:pt x="1276" y="15"/>
                    </a:lnTo>
                    <a:lnTo>
                      <a:pt x="1272" y="0"/>
                    </a:lnTo>
                    <a:lnTo>
                      <a:pt x="1797" y="0"/>
                    </a:lnTo>
                    <a:lnTo>
                      <a:pt x="180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3678840" y="15678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7" h="14">
                    <a:moveTo>
                      <a:pt x="1797" y="14"/>
                    </a:moveTo>
                    <a:lnTo>
                      <a:pt x="1272" y="14"/>
                    </a:lnTo>
                    <a:lnTo>
                      <a:pt x="1267" y="0"/>
                    </a:lnTo>
                    <a:lnTo>
                      <a:pt x="1793" y="0"/>
                    </a:lnTo>
                    <a:lnTo>
                      <a:pt x="179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3678840" y="1566000"/>
                <a:ext cx="689400" cy="5040"/>
              </a:xfrm>
              <a:custGeom>
                <a:avLst/>
                <a:gdLst/>
                <a:ahLst/>
                <a:rect l="l" t="t" r="r" b="b"/>
                <a:pathLst>
                  <a:path w="1792" h="15">
                    <a:moveTo>
                      <a:pt x="1792" y="15"/>
                    </a:moveTo>
                    <a:lnTo>
                      <a:pt x="1267" y="15"/>
                    </a:lnTo>
                    <a:lnTo>
                      <a:pt x="1262" y="0"/>
                    </a:lnTo>
                    <a:lnTo>
                      <a:pt x="1787" y="0"/>
                    </a:lnTo>
                    <a:lnTo>
                      <a:pt x="1792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3680640" y="1562400"/>
                <a:ext cx="685800" cy="5040"/>
              </a:xfrm>
              <a:custGeom>
                <a:avLst/>
                <a:gdLst/>
                <a:ahLst/>
                <a:rect l="l" t="t" r="r" b="b"/>
                <a:pathLst>
                  <a:path w="1788" h="16">
                    <a:moveTo>
                      <a:pt x="1788" y="16"/>
                    </a:moveTo>
                    <a:lnTo>
                      <a:pt x="1262" y="16"/>
                    </a:lnTo>
                    <a:lnTo>
                      <a:pt x="1258" y="0"/>
                    </a:lnTo>
                    <a:lnTo>
                      <a:pt x="1783" y="0"/>
                    </a:lnTo>
                    <a:lnTo>
                      <a:pt x="1788" y="16"/>
                    </a:lnTo>
                    <a:close/>
                    <a:moveTo>
                      <a:pt x="5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2" y="0"/>
                    </a:lnTo>
                    <a:lnTo>
                      <a:pt x="517" y="1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3680640" y="1560600"/>
                <a:ext cx="685800" cy="5400"/>
              </a:xfrm>
              <a:custGeom>
                <a:avLst/>
                <a:gdLst/>
                <a:ahLst/>
                <a:rect l="l" t="t" r="r" b="b"/>
                <a:pathLst>
                  <a:path w="1782" h="15">
                    <a:moveTo>
                      <a:pt x="1782" y="15"/>
                    </a:moveTo>
                    <a:lnTo>
                      <a:pt x="1257" y="15"/>
                    </a:lnTo>
                    <a:lnTo>
                      <a:pt x="1252" y="0"/>
                    </a:lnTo>
                    <a:lnTo>
                      <a:pt x="1778" y="0"/>
                    </a:lnTo>
                    <a:lnTo>
                      <a:pt x="1782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3682800" y="155736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8" h="15">
                    <a:moveTo>
                      <a:pt x="1778" y="15"/>
                    </a:moveTo>
                    <a:lnTo>
                      <a:pt x="1253" y="15"/>
                    </a:lnTo>
                    <a:lnTo>
                      <a:pt x="1248" y="0"/>
                    </a:lnTo>
                    <a:lnTo>
                      <a:pt x="1773" y="0"/>
                    </a:lnTo>
                    <a:lnTo>
                      <a:pt x="1778" y="15"/>
                    </a:lnTo>
                    <a:close/>
                    <a:moveTo>
                      <a:pt x="51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2" y="0"/>
                    </a:lnTo>
                    <a:lnTo>
                      <a:pt x="517" y="15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3682800" y="1555200"/>
                <a:ext cx="681480" cy="5040"/>
              </a:xfrm>
              <a:custGeom>
                <a:avLst/>
                <a:gdLst/>
                <a:ahLst/>
                <a:rect l="l" t="t" r="r" b="b"/>
                <a:pathLst>
                  <a:path w="1773" h="15">
                    <a:moveTo>
                      <a:pt x="1773" y="15"/>
                    </a:moveTo>
                    <a:lnTo>
                      <a:pt x="1247" y="15"/>
                    </a:lnTo>
                    <a:lnTo>
                      <a:pt x="1243" y="0"/>
                    </a:lnTo>
                    <a:lnTo>
                      <a:pt x="1768" y="0"/>
                    </a:lnTo>
                    <a:lnTo>
                      <a:pt x="1773" y="15"/>
                    </a:lnTo>
                    <a:close/>
                    <a:moveTo>
                      <a:pt x="51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5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3684600" y="1551600"/>
                <a:ext cx="678240" cy="5400"/>
              </a:xfrm>
              <a:custGeom>
                <a:avLst/>
                <a:gdLst/>
                <a:ahLst/>
                <a:rect l="l" t="t" r="r" b="b"/>
                <a:pathLst>
                  <a:path w="1767" h="14">
                    <a:moveTo>
                      <a:pt x="1767" y="14"/>
                    </a:moveTo>
                    <a:lnTo>
                      <a:pt x="1242" y="14"/>
                    </a:lnTo>
                    <a:lnTo>
                      <a:pt x="1236" y="0"/>
                    </a:lnTo>
                    <a:lnTo>
                      <a:pt x="1761" y="0"/>
                    </a:lnTo>
                    <a:lnTo>
                      <a:pt x="1767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3686760" y="1550160"/>
                <a:ext cx="676080" cy="5040"/>
              </a:xfrm>
              <a:custGeom>
                <a:avLst/>
                <a:gdLst/>
                <a:ahLst/>
                <a:rect l="l" t="t" r="r" b="b"/>
                <a:pathLst>
                  <a:path w="1762" h="16">
                    <a:moveTo>
                      <a:pt x="1762" y="16"/>
                    </a:moveTo>
                    <a:lnTo>
                      <a:pt x="1237" y="16"/>
                    </a:lnTo>
                    <a:lnTo>
                      <a:pt x="1231" y="0"/>
                    </a:lnTo>
                    <a:lnTo>
                      <a:pt x="1756" y="0"/>
                    </a:lnTo>
                    <a:lnTo>
                      <a:pt x="1762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3686760" y="1546560"/>
                <a:ext cx="673920" cy="5040"/>
              </a:xfrm>
              <a:custGeom>
                <a:avLst/>
                <a:gdLst/>
                <a:ahLst/>
                <a:rect l="l" t="t" r="r" b="b"/>
                <a:pathLst>
                  <a:path w="1755" h="16">
                    <a:moveTo>
                      <a:pt x="1755" y="16"/>
                    </a:moveTo>
                    <a:lnTo>
                      <a:pt x="1230" y="16"/>
                    </a:lnTo>
                    <a:lnTo>
                      <a:pt x="1226" y="0"/>
                    </a:lnTo>
                    <a:lnTo>
                      <a:pt x="1751" y="0"/>
                    </a:lnTo>
                    <a:lnTo>
                      <a:pt x="1755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3688560" y="1544760"/>
                <a:ext cx="672120" cy="5040"/>
              </a:xfrm>
              <a:custGeom>
                <a:avLst/>
                <a:gdLst/>
                <a:ahLst/>
                <a:rect l="l" t="t" r="r" b="b"/>
                <a:pathLst>
                  <a:path w="1751" h="15">
                    <a:moveTo>
                      <a:pt x="1751" y="15"/>
                    </a:moveTo>
                    <a:lnTo>
                      <a:pt x="1226" y="15"/>
                    </a:lnTo>
                    <a:lnTo>
                      <a:pt x="1221" y="0"/>
                    </a:lnTo>
                    <a:lnTo>
                      <a:pt x="1746" y="0"/>
                    </a:lnTo>
                    <a:lnTo>
                      <a:pt x="1751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3688560" y="1541160"/>
                <a:ext cx="670320" cy="5040"/>
              </a:xfrm>
              <a:custGeom>
                <a:avLst/>
                <a:gdLst/>
                <a:ahLst/>
                <a:rect l="l" t="t" r="r" b="b"/>
                <a:pathLst>
                  <a:path w="1746" h="15">
                    <a:moveTo>
                      <a:pt x="1746" y="15"/>
                    </a:moveTo>
                    <a:lnTo>
                      <a:pt x="1221" y="15"/>
                    </a:lnTo>
                    <a:lnTo>
                      <a:pt x="1216" y="0"/>
                    </a:lnTo>
                    <a:lnTo>
                      <a:pt x="1741" y="0"/>
                    </a:lnTo>
                    <a:lnTo>
                      <a:pt x="1746" y="15"/>
                    </a:lnTo>
                    <a:close/>
                    <a:moveTo>
                      <a:pt x="51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20" y="0"/>
                    </a:lnTo>
                    <a:lnTo>
                      <a:pt x="515" y="15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690360" y="1539360"/>
                <a:ext cx="668520" cy="5400"/>
              </a:xfrm>
              <a:custGeom>
                <a:avLst/>
                <a:gdLst/>
                <a:ahLst/>
                <a:rect l="l" t="t" r="r" b="b"/>
                <a:pathLst>
                  <a:path w="1741" h="14">
                    <a:moveTo>
                      <a:pt x="1741" y="14"/>
                    </a:moveTo>
                    <a:lnTo>
                      <a:pt x="1216" y="14"/>
                    </a:lnTo>
                    <a:lnTo>
                      <a:pt x="1212" y="0"/>
                    </a:lnTo>
                    <a:lnTo>
                      <a:pt x="1736" y="0"/>
                    </a:lnTo>
                    <a:lnTo>
                      <a:pt x="1741" y="14"/>
                    </a:lnTo>
                    <a:close/>
                    <a:moveTo>
                      <a:pt x="51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521" y="0"/>
                    </a:lnTo>
                    <a:lnTo>
                      <a:pt x="516" y="1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3690360" y="1536120"/>
                <a:ext cx="666720" cy="5040"/>
              </a:xfrm>
              <a:custGeom>
                <a:avLst/>
                <a:gdLst/>
                <a:ahLst/>
                <a:rect l="l" t="t" r="r" b="b"/>
                <a:pathLst>
                  <a:path w="1736" h="16">
                    <a:moveTo>
                      <a:pt x="1736" y="16"/>
                    </a:moveTo>
                    <a:lnTo>
                      <a:pt x="1211" y="16"/>
                    </a:lnTo>
                    <a:lnTo>
                      <a:pt x="1206" y="0"/>
                    </a:lnTo>
                    <a:lnTo>
                      <a:pt x="1731" y="0"/>
                    </a:lnTo>
                    <a:lnTo>
                      <a:pt x="1736" y="16"/>
                    </a:lnTo>
                    <a:close/>
                    <a:moveTo>
                      <a:pt x="51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0" y="0"/>
                    </a:lnTo>
                    <a:lnTo>
                      <a:pt x="515" y="1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3692520" y="1533960"/>
                <a:ext cx="664560" cy="5040"/>
              </a:xfrm>
              <a:custGeom>
                <a:avLst/>
                <a:gdLst/>
                <a:ahLst/>
                <a:rect l="l" t="t" r="r" b="b"/>
                <a:pathLst>
                  <a:path w="1731" h="16">
                    <a:moveTo>
                      <a:pt x="1731" y="16"/>
                    </a:moveTo>
                    <a:lnTo>
                      <a:pt x="1207" y="16"/>
                    </a:lnTo>
                    <a:lnTo>
                      <a:pt x="1202" y="0"/>
                    </a:lnTo>
                    <a:lnTo>
                      <a:pt x="1727" y="0"/>
                    </a:lnTo>
                    <a:lnTo>
                      <a:pt x="1731" y="16"/>
                    </a:lnTo>
                    <a:close/>
                    <a:moveTo>
                      <a:pt x="51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21" y="0"/>
                    </a:lnTo>
                    <a:lnTo>
                      <a:pt x="516" y="16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3692520" y="1530360"/>
                <a:ext cx="662400" cy="5400"/>
              </a:xfrm>
              <a:custGeom>
                <a:avLst/>
                <a:gdLst/>
                <a:ahLst/>
                <a:rect l="l" t="t" r="r" b="b"/>
                <a:pathLst>
                  <a:path w="1725" h="14">
                    <a:moveTo>
                      <a:pt x="1725" y="14"/>
                    </a:moveTo>
                    <a:lnTo>
                      <a:pt x="1200" y="14"/>
                    </a:lnTo>
                    <a:lnTo>
                      <a:pt x="1197" y="4"/>
                    </a:lnTo>
                    <a:lnTo>
                      <a:pt x="518" y="4"/>
                    </a:lnTo>
                    <a:lnTo>
                      <a:pt x="514" y="14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1719" y="0"/>
                    </a:lnTo>
                    <a:lnTo>
                      <a:pt x="1725" y="1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3693960" y="1528920"/>
                <a:ext cx="660600" cy="5040"/>
              </a:xfrm>
              <a:custGeom>
                <a:avLst/>
                <a:gdLst/>
                <a:ahLst/>
                <a:rect l="l" t="t" r="r" b="b"/>
                <a:pathLst>
                  <a:path w="1721" h="15">
                    <a:moveTo>
                      <a:pt x="1721" y="15"/>
                    </a:moveTo>
                    <a:lnTo>
                      <a:pt x="1196" y="15"/>
                    </a:lnTo>
                    <a:lnTo>
                      <a:pt x="1195" y="12"/>
                    </a:lnTo>
                    <a:lnTo>
                      <a:pt x="516" y="12"/>
                    </a:lnTo>
                    <a:lnTo>
                      <a:pt x="515" y="15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715" y="0"/>
                    </a:lnTo>
                    <a:lnTo>
                      <a:pt x="1721" y="15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3693960" y="1525320"/>
                <a:ext cx="658800" cy="5040"/>
              </a:xfrm>
              <a:custGeom>
                <a:avLst/>
                <a:gdLst/>
                <a:ahLst/>
                <a:rect l="l" t="t" r="r" b="b"/>
                <a:pathLst>
                  <a:path w="1714" h="15">
                    <a:moveTo>
                      <a:pt x="171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10" y="0"/>
                    </a:lnTo>
                    <a:lnTo>
                      <a:pt x="1714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3696480" y="1523520"/>
                <a:ext cx="656640" cy="5040"/>
              </a:xfrm>
              <a:custGeom>
                <a:avLst/>
                <a:gdLst/>
                <a:ahLst/>
                <a:rect l="l" t="t" r="r" b="b"/>
                <a:pathLst>
                  <a:path w="1710" h="15">
                    <a:moveTo>
                      <a:pt x="17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705" y="0"/>
                    </a:lnTo>
                    <a:lnTo>
                      <a:pt x="1710" y="15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3696480" y="1519920"/>
                <a:ext cx="654480" cy="5040"/>
              </a:xfrm>
              <a:custGeom>
                <a:avLst/>
                <a:gdLst/>
                <a:ahLst/>
                <a:rect l="l" t="t" r="r" b="b"/>
                <a:pathLst>
                  <a:path w="1705" h="16">
                    <a:moveTo>
                      <a:pt x="17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700" y="0"/>
                    </a:lnTo>
                    <a:lnTo>
                      <a:pt x="1705" y="1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3697920" y="1518480"/>
                <a:ext cx="653040" cy="5040"/>
              </a:xfrm>
              <a:custGeom>
                <a:avLst/>
                <a:gdLst/>
                <a:ahLst/>
                <a:rect l="l" t="t" r="r" b="b"/>
                <a:pathLst>
                  <a:path w="1700" h="15">
                    <a:moveTo>
                      <a:pt x="17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95" y="0"/>
                    </a:lnTo>
                    <a:lnTo>
                      <a:pt x="1700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3697920" y="1514880"/>
                <a:ext cx="651240" cy="5040"/>
              </a:xfrm>
              <a:custGeom>
                <a:avLst/>
                <a:gdLst/>
                <a:ahLst/>
                <a:rect l="l" t="t" r="r" b="b"/>
                <a:pathLst>
                  <a:path w="1695" h="15">
                    <a:moveTo>
                      <a:pt x="169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90" y="0"/>
                    </a:lnTo>
                    <a:lnTo>
                      <a:pt x="1695" y="15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3699720" y="1512720"/>
                <a:ext cx="649440" cy="5400"/>
              </a:xfrm>
              <a:custGeom>
                <a:avLst/>
                <a:gdLst/>
                <a:ahLst/>
                <a:rect l="l" t="t" r="r" b="b"/>
                <a:pathLst>
                  <a:path w="1690" h="15">
                    <a:moveTo>
                      <a:pt x="16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86" y="0"/>
                    </a:lnTo>
                    <a:lnTo>
                      <a:pt x="1690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3701880" y="1509120"/>
                <a:ext cx="645120" cy="5400"/>
              </a:xfrm>
              <a:custGeom>
                <a:avLst/>
                <a:gdLst/>
                <a:ahLst/>
                <a:rect l="l" t="t" r="r" b="b"/>
                <a:pathLst>
                  <a:path w="1684" h="15">
                    <a:moveTo>
                      <a:pt x="16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78" y="0"/>
                    </a:lnTo>
                    <a:lnTo>
                      <a:pt x="1684" y="15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3701880" y="1505880"/>
                <a:ext cx="645120" cy="6480"/>
              </a:xfrm>
              <a:custGeom>
                <a:avLst/>
                <a:gdLst/>
                <a:ahLst/>
                <a:rect l="l" t="t" r="r" b="b"/>
                <a:pathLst>
                  <a:path w="1680" h="16">
                    <a:moveTo>
                      <a:pt x="168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74" y="0"/>
                    </a:lnTo>
                    <a:lnTo>
                      <a:pt x="1680" y="16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703680" y="1504080"/>
                <a:ext cx="641520" cy="5040"/>
              </a:xfrm>
              <a:custGeom>
                <a:avLst/>
                <a:gdLst/>
                <a:ahLst/>
                <a:rect l="l" t="t" r="r" b="b"/>
                <a:pathLst>
                  <a:path w="1673" h="15">
                    <a:moveTo>
                      <a:pt x="16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69" y="0"/>
                    </a:lnTo>
                    <a:lnTo>
                      <a:pt x="1673" y="15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3703680" y="1502280"/>
                <a:ext cx="641520" cy="3600"/>
              </a:xfrm>
              <a:custGeom>
                <a:avLst/>
                <a:gdLst/>
                <a:ahLst/>
                <a:rect l="l" t="t" r="r" b="b"/>
                <a:pathLst>
                  <a:path w="1669" h="14">
                    <a:moveTo>
                      <a:pt x="16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664" y="0"/>
                    </a:lnTo>
                    <a:lnTo>
                      <a:pt x="1669" y="14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3705840" y="14986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1664" h="15">
                    <a:moveTo>
                      <a:pt x="16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59" y="0"/>
                    </a:lnTo>
                    <a:lnTo>
                      <a:pt x="1664" y="15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3705840" y="1495080"/>
                <a:ext cx="637560" cy="7200"/>
              </a:xfrm>
              <a:custGeom>
                <a:avLst/>
                <a:gdLst/>
                <a:ahLst/>
                <a:rect l="l" t="t" r="r" b="b"/>
                <a:pathLst>
                  <a:path w="1659" h="16">
                    <a:moveTo>
                      <a:pt x="165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54" y="0"/>
                    </a:lnTo>
                    <a:lnTo>
                      <a:pt x="1659" y="1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3707640" y="14936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54" h="15">
                    <a:moveTo>
                      <a:pt x="165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9" y="0"/>
                    </a:lnTo>
                    <a:lnTo>
                      <a:pt x="1654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3707640" y="1490040"/>
                <a:ext cx="633600" cy="5040"/>
              </a:xfrm>
              <a:custGeom>
                <a:avLst/>
                <a:gdLst/>
                <a:ahLst/>
                <a:rect l="l" t="t" r="r" b="b"/>
                <a:pathLst>
                  <a:path w="1649" h="15">
                    <a:moveTo>
                      <a:pt x="16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645" y="0"/>
                    </a:lnTo>
                    <a:lnTo>
                      <a:pt x="1649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3709440" y="14882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43" h="15">
                    <a:moveTo>
                      <a:pt x="164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8" y="0"/>
                    </a:lnTo>
                    <a:lnTo>
                      <a:pt x="1643" y="1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3709440" y="1484640"/>
                <a:ext cx="630360" cy="5040"/>
              </a:xfrm>
              <a:custGeom>
                <a:avLst/>
                <a:gdLst/>
                <a:ahLst/>
                <a:rect l="l" t="t" r="r" b="b"/>
                <a:pathLst>
                  <a:path w="1639" h="15">
                    <a:moveTo>
                      <a:pt x="163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33" y="0"/>
                    </a:lnTo>
                    <a:lnTo>
                      <a:pt x="1639" y="15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3711600" y="1482480"/>
                <a:ext cx="625680" cy="5400"/>
              </a:xfrm>
              <a:custGeom>
                <a:avLst/>
                <a:gdLst/>
                <a:ahLst/>
                <a:rect l="l" t="t" r="r" b="b"/>
                <a:pathLst>
                  <a:path w="1633" h="16">
                    <a:moveTo>
                      <a:pt x="163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628" y="0"/>
                    </a:lnTo>
                    <a:lnTo>
                      <a:pt x="1633" y="16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3711600" y="1479600"/>
                <a:ext cx="625680" cy="5040"/>
              </a:xfrm>
              <a:custGeom>
                <a:avLst/>
                <a:gdLst/>
                <a:ahLst/>
                <a:rect l="l" t="t" r="r" b="b"/>
                <a:pathLst>
                  <a:path w="1628" h="15">
                    <a:moveTo>
                      <a:pt x="16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23" y="0"/>
                    </a:lnTo>
                    <a:lnTo>
                      <a:pt x="162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3713400" y="1477440"/>
                <a:ext cx="622440" cy="5040"/>
              </a:xfrm>
              <a:custGeom>
                <a:avLst/>
                <a:gdLst/>
                <a:ahLst/>
                <a:rect l="l" t="t" r="r" b="b"/>
                <a:pathLst>
                  <a:path w="1623" h="15">
                    <a:moveTo>
                      <a:pt x="16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8" y="0"/>
                    </a:lnTo>
                    <a:lnTo>
                      <a:pt x="1623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3713400" y="1473840"/>
                <a:ext cx="622440" cy="5400"/>
              </a:xfrm>
              <a:custGeom>
                <a:avLst/>
                <a:gdLst/>
                <a:ahLst/>
                <a:rect l="l" t="t" r="r" b="b"/>
                <a:pathLst>
                  <a:path w="1618" h="15">
                    <a:moveTo>
                      <a:pt x="16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613" y="0"/>
                    </a:lnTo>
                    <a:lnTo>
                      <a:pt x="1618" y="15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715560" y="14720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13" h="14">
                    <a:moveTo>
                      <a:pt x="1613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608" y="0"/>
                    </a:lnTo>
                    <a:lnTo>
                      <a:pt x="1613" y="14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715560" y="1468440"/>
                <a:ext cx="618480" cy="5040"/>
              </a:xfrm>
              <a:custGeom>
                <a:avLst/>
                <a:gdLst/>
                <a:ahLst/>
                <a:rect l="l" t="t" r="r" b="b"/>
                <a:pathLst>
                  <a:path w="1608" h="15">
                    <a:moveTo>
                      <a:pt x="1608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1604" y="0"/>
                    </a:lnTo>
                    <a:lnTo>
                      <a:pt x="1608" y="15"/>
                    </a:lnTo>
                    <a:close/>
                  </a:path>
                </a:pathLst>
              </a:cu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717360" y="1467000"/>
                <a:ext cx="614520" cy="5040"/>
              </a:xfrm>
              <a:custGeom>
                <a:avLst/>
                <a:gdLst/>
                <a:ahLst/>
                <a:rect l="l" t="t" r="r" b="b"/>
                <a:pathLst>
                  <a:path w="1602" h="16">
                    <a:moveTo>
                      <a:pt x="160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97" y="0"/>
                    </a:lnTo>
                    <a:lnTo>
                      <a:pt x="1602" y="16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718800" y="1463400"/>
                <a:ext cx="612720" cy="5040"/>
              </a:xfrm>
              <a:custGeom>
                <a:avLst/>
                <a:gdLst/>
                <a:ahLst/>
                <a:rect l="l" t="t" r="r" b="b"/>
                <a:pathLst>
                  <a:path w="1597" h="15">
                    <a:moveTo>
                      <a:pt x="159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91" y="0"/>
                    </a:lnTo>
                    <a:lnTo>
                      <a:pt x="1597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718800" y="1461240"/>
                <a:ext cx="610920" cy="5400"/>
              </a:xfrm>
              <a:custGeom>
                <a:avLst/>
                <a:gdLst/>
                <a:ahLst/>
                <a:rect l="l" t="t" r="r" b="b"/>
                <a:pathLst>
                  <a:path w="1592" h="15">
                    <a:moveTo>
                      <a:pt x="159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7" y="0"/>
                    </a:lnTo>
                    <a:lnTo>
                      <a:pt x="1592" y="15"/>
                    </a:lnTo>
                    <a:close/>
                  </a:path>
                </a:pathLst>
              </a:cu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720960" y="1458000"/>
                <a:ext cx="608760" cy="5040"/>
              </a:xfrm>
              <a:custGeom>
                <a:avLst/>
                <a:gdLst/>
                <a:ahLst/>
                <a:rect l="l" t="t" r="r" b="b"/>
                <a:pathLst>
                  <a:path w="1586" h="15">
                    <a:moveTo>
                      <a:pt x="15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81" y="0"/>
                    </a:lnTo>
                    <a:lnTo>
                      <a:pt x="1586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720960" y="1456200"/>
                <a:ext cx="606600" cy="5040"/>
              </a:xfrm>
              <a:custGeom>
                <a:avLst/>
                <a:gdLst/>
                <a:ahLst/>
                <a:rect l="l" t="t" r="r" b="b"/>
                <a:pathLst>
                  <a:path w="1582" h="15">
                    <a:moveTo>
                      <a:pt x="158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77" y="0"/>
                    </a:lnTo>
                    <a:lnTo>
                      <a:pt x="1582" y="15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722760" y="1452600"/>
                <a:ext cx="604800" cy="5400"/>
              </a:xfrm>
              <a:custGeom>
                <a:avLst/>
                <a:gdLst/>
                <a:ahLst/>
                <a:rect l="l" t="t" r="r" b="b"/>
                <a:pathLst>
                  <a:path w="1576" h="16">
                    <a:moveTo>
                      <a:pt x="157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71" y="0"/>
                    </a:lnTo>
                    <a:lnTo>
                      <a:pt x="1576" y="16"/>
                    </a:lnTo>
                    <a:close/>
                  </a:path>
                </a:pathLst>
              </a:cu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722760" y="1450800"/>
                <a:ext cx="603360" cy="5040"/>
              </a:xfrm>
              <a:custGeom>
                <a:avLst/>
                <a:gdLst/>
                <a:ahLst/>
                <a:rect l="l" t="t" r="r" b="b"/>
                <a:pathLst>
                  <a:path w="1572" h="15">
                    <a:moveTo>
                      <a:pt x="15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7" y="0"/>
                    </a:lnTo>
                    <a:lnTo>
                      <a:pt x="1572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724920" y="1447200"/>
                <a:ext cx="601200" cy="5040"/>
              </a:xfrm>
              <a:custGeom>
                <a:avLst/>
                <a:gdLst/>
                <a:ahLst/>
                <a:rect l="l" t="t" r="r" b="b"/>
                <a:pathLst>
                  <a:path w="1566" h="15">
                    <a:moveTo>
                      <a:pt x="15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62" y="0"/>
                    </a:lnTo>
                    <a:lnTo>
                      <a:pt x="1566" y="15"/>
                    </a:lnTo>
                    <a:close/>
                  </a:path>
                </a:pathLst>
              </a:cu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724920" y="1445760"/>
                <a:ext cx="599400" cy="5040"/>
              </a:xfrm>
              <a:custGeom>
                <a:avLst/>
                <a:gdLst/>
                <a:ahLst/>
                <a:rect l="l" t="t" r="r" b="b"/>
                <a:pathLst>
                  <a:path w="1561" h="15">
                    <a:moveTo>
                      <a:pt x="15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56" y="0"/>
                    </a:lnTo>
                    <a:lnTo>
                      <a:pt x="1561" y="15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726720" y="1442160"/>
                <a:ext cx="597600" cy="5040"/>
              </a:xfrm>
              <a:custGeom>
                <a:avLst/>
                <a:gdLst/>
                <a:ahLst/>
                <a:rect l="l" t="t" r="r" b="b"/>
                <a:pathLst>
                  <a:path w="1556" h="14">
                    <a:moveTo>
                      <a:pt x="1556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51" y="0"/>
                    </a:lnTo>
                    <a:lnTo>
                      <a:pt x="1556" y="14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726720" y="1440000"/>
                <a:ext cx="595440" cy="5400"/>
              </a:xfrm>
              <a:custGeom>
                <a:avLst/>
                <a:gdLst/>
                <a:ahLst/>
                <a:rect l="l" t="t" r="r" b="b"/>
                <a:pathLst>
                  <a:path w="1551" h="16">
                    <a:moveTo>
                      <a:pt x="155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5" y="0"/>
                    </a:lnTo>
                    <a:lnTo>
                      <a:pt x="1551" y="16"/>
                    </a:lnTo>
                    <a:close/>
                  </a:path>
                </a:pathLst>
              </a:cu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728880" y="1436760"/>
                <a:ext cx="593280" cy="5040"/>
              </a:xfrm>
              <a:custGeom>
                <a:avLst/>
                <a:gdLst/>
                <a:ahLst/>
                <a:rect l="l" t="t" r="r" b="b"/>
                <a:pathLst>
                  <a:path w="1546" h="16">
                    <a:moveTo>
                      <a:pt x="154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40" y="0"/>
                    </a:lnTo>
                    <a:lnTo>
                      <a:pt x="1546" y="16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728880" y="1434960"/>
                <a:ext cx="591480" cy="5040"/>
              </a:xfrm>
              <a:custGeom>
                <a:avLst/>
                <a:gdLst/>
                <a:ahLst/>
                <a:rect l="l" t="t" r="r" b="b"/>
                <a:pathLst>
                  <a:path w="1540" h="14">
                    <a:moveTo>
                      <a:pt x="154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36" y="0"/>
                    </a:lnTo>
                    <a:lnTo>
                      <a:pt x="1540" y="14"/>
                    </a:lnTo>
                    <a:close/>
                  </a:path>
                </a:pathLst>
              </a:cu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730680" y="1431360"/>
                <a:ext cx="589680" cy="5400"/>
              </a:xfrm>
              <a:custGeom>
                <a:avLst/>
                <a:gdLst/>
                <a:ahLst/>
                <a:rect l="l" t="t" r="r" b="b"/>
                <a:pathLst>
                  <a:path w="1535" h="15">
                    <a:moveTo>
                      <a:pt x="153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30" y="0"/>
                    </a:lnTo>
                    <a:lnTo>
                      <a:pt x="1535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730680" y="1429560"/>
                <a:ext cx="587520" cy="5040"/>
              </a:xfrm>
              <a:custGeom>
                <a:avLst/>
                <a:gdLst/>
                <a:ahLst/>
                <a:rect l="l" t="t" r="r" b="b"/>
                <a:pathLst>
                  <a:path w="1531" h="15">
                    <a:moveTo>
                      <a:pt x="1531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526" y="0"/>
                    </a:lnTo>
                    <a:lnTo>
                      <a:pt x="1531" y="15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732480" y="1425960"/>
                <a:ext cx="585720" cy="5040"/>
              </a:xfrm>
              <a:custGeom>
                <a:avLst/>
                <a:gdLst/>
                <a:ahLst/>
                <a:rect l="l" t="t" r="r" b="b"/>
                <a:pathLst>
                  <a:path w="1525" h="16">
                    <a:moveTo>
                      <a:pt x="152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521" y="0"/>
                    </a:lnTo>
                    <a:lnTo>
                      <a:pt x="1525" y="16"/>
                    </a:lnTo>
                    <a:close/>
                  </a:path>
                </a:pathLst>
              </a:cu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732480" y="1424520"/>
                <a:ext cx="583920" cy="5040"/>
              </a:xfrm>
              <a:custGeom>
                <a:avLst/>
                <a:gdLst/>
                <a:ahLst/>
                <a:rect l="l" t="t" r="r" b="b"/>
                <a:pathLst>
                  <a:path w="1520" h="16">
                    <a:moveTo>
                      <a:pt x="15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515" y="0"/>
                    </a:lnTo>
                    <a:lnTo>
                      <a:pt x="1520" y="16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734640" y="1420920"/>
                <a:ext cx="581760" cy="5040"/>
              </a:xfrm>
              <a:custGeom>
                <a:avLst/>
                <a:gdLst/>
                <a:ahLst/>
                <a:rect l="l" t="t" r="r" b="b"/>
                <a:pathLst>
                  <a:path w="1515" h="14">
                    <a:moveTo>
                      <a:pt x="151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510" y="0"/>
                    </a:lnTo>
                    <a:lnTo>
                      <a:pt x="1515" y="14"/>
                    </a:lnTo>
                    <a:close/>
                  </a:path>
                </a:pathLst>
              </a:cu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734640" y="1419120"/>
                <a:ext cx="579960" cy="5040"/>
              </a:xfrm>
              <a:custGeom>
                <a:avLst/>
                <a:gdLst/>
                <a:ahLst/>
                <a:rect l="l" t="t" r="r" b="b"/>
                <a:pathLst>
                  <a:path w="1510" h="15">
                    <a:moveTo>
                      <a:pt x="151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504" y="0"/>
                    </a:lnTo>
                    <a:lnTo>
                      <a:pt x="1510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736440" y="1415520"/>
                <a:ext cx="578520" cy="5040"/>
              </a:xfrm>
              <a:custGeom>
                <a:avLst/>
                <a:gdLst/>
                <a:ahLst/>
                <a:rect l="l" t="t" r="r" b="b"/>
                <a:pathLst>
                  <a:path w="1505" h="15">
                    <a:moveTo>
                      <a:pt x="150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9" y="0"/>
                    </a:lnTo>
                    <a:lnTo>
                      <a:pt x="1505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736440" y="1413720"/>
                <a:ext cx="576360" cy="5400"/>
              </a:xfrm>
              <a:custGeom>
                <a:avLst/>
                <a:gdLst/>
                <a:ahLst/>
                <a:rect l="l" t="t" r="r" b="b"/>
                <a:pathLst>
                  <a:path w="1499" h="15">
                    <a:moveTo>
                      <a:pt x="149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95" y="0"/>
                    </a:lnTo>
                    <a:lnTo>
                      <a:pt x="1499" y="15"/>
                    </a:lnTo>
                    <a:close/>
                  </a:path>
                </a:pathLst>
              </a:cu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600" y="1410480"/>
                <a:ext cx="573840" cy="5040"/>
              </a:xfrm>
              <a:custGeom>
                <a:avLst/>
                <a:gdLst/>
                <a:ahLst/>
                <a:rect l="l" t="t" r="r" b="b"/>
                <a:pathLst>
                  <a:path w="1494" h="16">
                    <a:moveTo>
                      <a:pt x="149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89" y="0"/>
                    </a:lnTo>
                    <a:lnTo>
                      <a:pt x="1494" y="16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38600" y="1408320"/>
                <a:ext cx="572400" cy="5040"/>
              </a:xfrm>
              <a:custGeom>
                <a:avLst/>
                <a:gdLst/>
                <a:ahLst/>
                <a:rect l="l" t="t" r="r" b="b"/>
                <a:pathLst>
                  <a:path w="1490" h="15">
                    <a:moveTo>
                      <a:pt x="149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85" y="0"/>
                    </a:lnTo>
                    <a:lnTo>
                      <a:pt x="1490" y="15"/>
                    </a:lnTo>
                    <a:close/>
                  </a:path>
                </a:pathLst>
              </a:cu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740400" y="1404720"/>
                <a:ext cx="570600" cy="5400"/>
              </a:xfrm>
              <a:custGeom>
                <a:avLst/>
                <a:gdLst/>
                <a:ahLst/>
                <a:rect l="l" t="t" r="r" b="b"/>
                <a:pathLst>
                  <a:path w="1484" h="14">
                    <a:moveTo>
                      <a:pt x="1484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1480" y="0"/>
                    </a:lnTo>
                    <a:lnTo>
                      <a:pt x="1484" y="14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742200" y="14032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9" h="15">
                    <a:moveTo>
                      <a:pt x="14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74" y="0"/>
                    </a:lnTo>
                    <a:lnTo>
                      <a:pt x="1479" y="15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742200" y="1399680"/>
                <a:ext cx="566640" cy="5040"/>
              </a:xfrm>
              <a:custGeom>
                <a:avLst/>
                <a:gdLst/>
                <a:ahLst/>
                <a:rect l="l" t="t" r="r" b="b"/>
                <a:pathLst>
                  <a:path w="1474" h="16">
                    <a:moveTo>
                      <a:pt x="1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9" y="0"/>
                    </a:lnTo>
                    <a:lnTo>
                      <a:pt x="1474" y="16"/>
                    </a:lnTo>
                    <a:close/>
                  </a:path>
                </a:pathLst>
              </a:cu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3744360" y="1396080"/>
                <a:ext cx="562680" cy="7200"/>
              </a:xfrm>
              <a:custGeom>
                <a:avLst/>
                <a:gdLst/>
                <a:ahLst/>
                <a:rect l="l" t="t" r="r" b="b"/>
                <a:pathLst>
                  <a:path w="1469" h="16">
                    <a:moveTo>
                      <a:pt x="146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63" y="0"/>
                    </a:lnTo>
                    <a:lnTo>
                      <a:pt x="1469" y="16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744360" y="1394280"/>
                <a:ext cx="562680" cy="5040"/>
              </a:xfrm>
              <a:custGeom>
                <a:avLst/>
                <a:gdLst/>
                <a:ahLst/>
                <a:rect l="l" t="t" r="r" b="b"/>
                <a:pathLst>
                  <a:path w="1464" h="15">
                    <a:moveTo>
                      <a:pt x="1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58" y="0"/>
                    </a:lnTo>
                    <a:lnTo>
                      <a:pt x="1464" y="15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3745800" y="1392480"/>
                <a:ext cx="558720" cy="3600"/>
              </a:xfrm>
              <a:custGeom>
                <a:avLst/>
                <a:gdLst/>
                <a:ahLst/>
                <a:rect l="l" t="t" r="r" b="b"/>
                <a:pathLst>
                  <a:path w="1458" h="14">
                    <a:moveTo>
                      <a:pt x="1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54" y="0"/>
                    </a:lnTo>
                    <a:lnTo>
                      <a:pt x="1458" y="14"/>
                    </a:lnTo>
                    <a:close/>
                  </a:path>
                </a:pathLst>
              </a:cu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3745800" y="1389240"/>
                <a:ext cx="558720" cy="5040"/>
              </a:xfrm>
              <a:custGeom>
                <a:avLst/>
                <a:gdLst/>
                <a:ahLst/>
                <a:rect l="l" t="t" r="r" b="b"/>
                <a:pathLst>
                  <a:path w="1453" h="15">
                    <a:moveTo>
                      <a:pt x="145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48" y="0"/>
                    </a:lnTo>
                    <a:lnTo>
                      <a:pt x="1453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3748320" y="1387080"/>
                <a:ext cx="554760" cy="5040"/>
              </a:xfrm>
              <a:custGeom>
                <a:avLst/>
                <a:gdLst/>
                <a:ahLst/>
                <a:rect l="l" t="t" r="r" b="b"/>
                <a:pathLst>
                  <a:path w="1449" h="15">
                    <a:moveTo>
                      <a:pt x="144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44" y="0"/>
                    </a:lnTo>
                    <a:lnTo>
                      <a:pt x="1449" y="15"/>
                    </a:lnTo>
                    <a:close/>
                  </a:path>
                </a:pathLst>
              </a:cu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3748320" y="1383480"/>
                <a:ext cx="554760" cy="5400"/>
              </a:xfrm>
              <a:custGeom>
                <a:avLst/>
                <a:gdLst/>
                <a:ahLst/>
                <a:rect l="l" t="t" r="r" b="b"/>
                <a:pathLst>
                  <a:path w="1443" h="15">
                    <a:moveTo>
                      <a:pt x="144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39" y="0"/>
                    </a:lnTo>
                    <a:lnTo>
                      <a:pt x="144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3749760" y="1380240"/>
                <a:ext cx="551520" cy="6480"/>
              </a:xfrm>
              <a:custGeom>
                <a:avLst/>
                <a:gdLst/>
                <a:ahLst/>
                <a:rect l="l" t="t" r="r" b="b"/>
                <a:pathLst>
                  <a:path w="1438" h="16">
                    <a:moveTo>
                      <a:pt x="1438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1433" y="0"/>
                    </a:lnTo>
                    <a:lnTo>
                      <a:pt x="1438" y="16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3749760" y="1378440"/>
                <a:ext cx="551520" cy="5040"/>
              </a:xfrm>
              <a:custGeom>
                <a:avLst/>
                <a:gdLst/>
                <a:ahLst/>
                <a:rect l="l" t="t" r="r" b="b"/>
                <a:pathLst>
                  <a:path w="1433" h="15">
                    <a:moveTo>
                      <a:pt x="143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28" y="0"/>
                    </a:lnTo>
                    <a:lnTo>
                      <a:pt x="1433" y="15"/>
                    </a:lnTo>
                    <a:close/>
                  </a:path>
                </a:pathLst>
              </a:cu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3751560" y="1376640"/>
                <a:ext cx="547560" cy="3600"/>
              </a:xfrm>
              <a:custGeom>
                <a:avLst/>
                <a:gdLst/>
                <a:ahLst/>
                <a:rect l="l" t="t" r="r" b="b"/>
                <a:pathLst>
                  <a:path w="1427" h="14">
                    <a:moveTo>
                      <a:pt x="142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422" y="0"/>
                    </a:lnTo>
                    <a:lnTo>
                      <a:pt x="1427" y="14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3751560" y="1373040"/>
                <a:ext cx="547560" cy="5040"/>
              </a:xfrm>
              <a:custGeom>
                <a:avLst/>
                <a:gdLst/>
                <a:ahLst/>
                <a:rect l="l" t="t" r="r" b="b"/>
                <a:pathLst>
                  <a:path w="1423" h="15">
                    <a:moveTo>
                      <a:pt x="14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1417" y="0"/>
                    </a:lnTo>
                    <a:lnTo>
                      <a:pt x="1423" y="15"/>
                    </a:lnTo>
                    <a:close/>
                  </a:path>
                </a:pathLst>
              </a:cu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3753720" y="1369440"/>
                <a:ext cx="543600" cy="7200"/>
              </a:xfrm>
              <a:custGeom>
                <a:avLst/>
                <a:gdLst/>
                <a:ahLst/>
                <a:rect l="l" t="t" r="r" b="b"/>
                <a:pathLst>
                  <a:path w="1417" h="16">
                    <a:moveTo>
                      <a:pt x="141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12" y="0"/>
                    </a:lnTo>
                    <a:lnTo>
                      <a:pt x="1417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3753720" y="1368000"/>
                <a:ext cx="543600" cy="5040"/>
              </a:xfrm>
              <a:custGeom>
                <a:avLst/>
                <a:gdLst/>
                <a:ahLst/>
                <a:rect l="l" t="t" r="r" b="b"/>
                <a:pathLst>
                  <a:path w="1412" h="16">
                    <a:moveTo>
                      <a:pt x="141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1407" y="0"/>
                    </a:lnTo>
                    <a:lnTo>
                      <a:pt x="1412" y="16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3755520" y="1364400"/>
                <a:ext cx="539640" cy="5040"/>
              </a:xfrm>
              <a:custGeom>
                <a:avLst/>
                <a:gdLst/>
                <a:ahLst/>
                <a:rect l="l" t="t" r="r" b="b"/>
                <a:pathLst>
                  <a:path w="1407" h="15">
                    <a:moveTo>
                      <a:pt x="140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402" y="0"/>
                    </a:lnTo>
                    <a:lnTo>
                      <a:pt x="1407" y="15"/>
                    </a:lnTo>
                    <a:close/>
                  </a:path>
                </a:pathLst>
              </a:cu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3755520" y="1362240"/>
                <a:ext cx="539640" cy="5400"/>
              </a:xfrm>
              <a:custGeom>
                <a:avLst/>
                <a:gdLst/>
                <a:ahLst/>
                <a:rect l="l" t="t" r="r" b="b"/>
                <a:pathLst>
                  <a:path w="1402" h="14">
                    <a:moveTo>
                      <a:pt x="140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93" y="0"/>
                    </a:lnTo>
                    <a:lnTo>
                      <a:pt x="492" y="1"/>
                    </a:lnTo>
                    <a:lnTo>
                      <a:pt x="887" y="1"/>
                    </a:lnTo>
                    <a:lnTo>
                      <a:pt x="886" y="0"/>
                    </a:lnTo>
                    <a:lnTo>
                      <a:pt x="1398" y="0"/>
                    </a:lnTo>
                    <a:lnTo>
                      <a:pt x="1402" y="14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3757680" y="1359000"/>
                <a:ext cx="535680" cy="5040"/>
              </a:xfrm>
              <a:custGeom>
                <a:avLst/>
                <a:gdLst/>
                <a:ahLst/>
                <a:rect l="l" t="t" r="r" b="b"/>
                <a:pathLst>
                  <a:path w="1396" h="15">
                    <a:moveTo>
                      <a:pt x="13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8" y="9"/>
                    </a:lnTo>
                    <a:lnTo>
                      <a:pt x="883" y="9"/>
                    </a:lnTo>
                    <a:lnTo>
                      <a:pt x="880" y="0"/>
                    </a:lnTo>
                    <a:lnTo>
                      <a:pt x="1391" y="0"/>
                    </a:lnTo>
                    <a:lnTo>
                      <a:pt x="1396" y="15"/>
                    </a:lnTo>
                    <a:close/>
                  </a:path>
                </a:pathLst>
              </a:cu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3759480" y="1357200"/>
                <a:ext cx="533880" cy="5040"/>
              </a:xfrm>
              <a:custGeom>
                <a:avLst/>
                <a:gdLst/>
                <a:ahLst/>
                <a:rect l="l" t="t" r="r" b="b"/>
                <a:pathLst>
                  <a:path w="1392" h="16">
                    <a:moveTo>
                      <a:pt x="1392" y="16"/>
                    </a:moveTo>
                    <a:lnTo>
                      <a:pt x="880" y="16"/>
                    </a:lnTo>
                    <a:lnTo>
                      <a:pt x="875" y="0"/>
                    </a:lnTo>
                    <a:lnTo>
                      <a:pt x="1387" y="0"/>
                    </a:lnTo>
                    <a:lnTo>
                      <a:pt x="1392" y="16"/>
                    </a:lnTo>
                    <a:close/>
                    <a:moveTo>
                      <a:pt x="4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7" y="16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3759480" y="1353240"/>
                <a:ext cx="532080" cy="5400"/>
              </a:xfrm>
              <a:custGeom>
                <a:avLst/>
                <a:gdLst/>
                <a:ahLst/>
                <a:rect l="l" t="t" r="r" b="b"/>
                <a:pathLst>
                  <a:path w="1386" h="15">
                    <a:moveTo>
                      <a:pt x="1386" y="15"/>
                    </a:moveTo>
                    <a:lnTo>
                      <a:pt x="875" y="15"/>
                    </a:lnTo>
                    <a:lnTo>
                      <a:pt x="870" y="0"/>
                    </a:lnTo>
                    <a:lnTo>
                      <a:pt x="1381" y="0"/>
                    </a:lnTo>
                    <a:lnTo>
                      <a:pt x="1386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3761640" y="1351800"/>
                <a:ext cx="529920" cy="5040"/>
              </a:xfrm>
              <a:custGeom>
                <a:avLst/>
                <a:gdLst/>
                <a:ahLst/>
                <a:rect l="l" t="t" r="r" b="b"/>
                <a:pathLst>
                  <a:path w="1382" h="15">
                    <a:moveTo>
                      <a:pt x="1382" y="15"/>
                    </a:moveTo>
                    <a:lnTo>
                      <a:pt x="870" y="15"/>
                    </a:lnTo>
                    <a:lnTo>
                      <a:pt x="866" y="0"/>
                    </a:lnTo>
                    <a:lnTo>
                      <a:pt x="1376" y="0"/>
                    </a:lnTo>
                    <a:lnTo>
                      <a:pt x="1382" y="15"/>
                    </a:lnTo>
                    <a:close/>
                    <a:moveTo>
                      <a:pt x="48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90" y="0"/>
                    </a:lnTo>
                    <a:lnTo>
                      <a:pt x="486" y="15"/>
                    </a:lnTo>
                    <a:close/>
                  </a:path>
                </a:pathLst>
              </a:cu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3761640" y="1348200"/>
                <a:ext cx="527760" cy="5040"/>
              </a:xfrm>
              <a:custGeom>
                <a:avLst/>
                <a:gdLst/>
                <a:ahLst/>
                <a:rect l="l" t="t" r="r" b="b"/>
                <a:pathLst>
                  <a:path w="1376" h="15">
                    <a:moveTo>
                      <a:pt x="1376" y="15"/>
                    </a:moveTo>
                    <a:lnTo>
                      <a:pt x="865" y="15"/>
                    </a:lnTo>
                    <a:lnTo>
                      <a:pt x="860" y="0"/>
                    </a:lnTo>
                    <a:lnTo>
                      <a:pt x="1371" y="0"/>
                    </a:lnTo>
                    <a:lnTo>
                      <a:pt x="1376" y="15"/>
                    </a:lnTo>
                    <a:close/>
                    <a:moveTo>
                      <a:pt x="4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9" y="0"/>
                    </a:lnTo>
                    <a:lnTo>
                      <a:pt x="485" y="15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3763440" y="1346760"/>
                <a:ext cx="525960" cy="5040"/>
              </a:xfrm>
              <a:custGeom>
                <a:avLst/>
                <a:gdLst/>
                <a:ahLst/>
                <a:rect l="l" t="t" r="r" b="b"/>
                <a:pathLst>
                  <a:path w="1371" h="14">
                    <a:moveTo>
                      <a:pt x="1371" y="14"/>
                    </a:moveTo>
                    <a:lnTo>
                      <a:pt x="861" y="14"/>
                    </a:lnTo>
                    <a:lnTo>
                      <a:pt x="856" y="0"/>
                    </a:lnTo>
                    <a:lnTo>
                      <a:pt x="1366" y="0"/>
                    </a:lnTo>
                    <a:lnTo>
                      <a:pt x="1371" y="14"/>
                    </a:lnTo>
                    <a:close/>
                    <a:moveTo>
                      <a:pt x="48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91" y="0"/>
                    </a:lnTo>
                    <a:lnTo>
                      <a:pt x="485" y="14"/>
                    </a:lnTo>
                    <a:close/>
                  </a:path>
                </a:pathLst>
              </a:cu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763440" y="1342800"/>
                <a:ext cx="524520" cy="5040"/>
              </a:xfrm>
              <a:custGeom>
                <a:avLst/>
                <a:gdLst/>
                <a:ahLst/>
                <a:rect l="l" t="t" r="r" b="b"/>
                <a:pathLst>
                  <a:path w="1366" h="16">
                    <a:moveTo>
                      <a:pt x="1366" y="16"/>
                    </a:moveTo>
                    <a:lnTo>
                      <a:pt x="855" y="16"/>
                    </a:lnTo>
                    <a:lnTo>
                      <a:pt x="851" y="0"/>
                    </a:lnTo>
                    <a:lnTo>
                      <a:pt x="1361" y="0"/>
                    </a:lnTo>
                    <a:lnTo>
                      <a:pt x="1366" y="16"/>
                    </a:lnTo>
                    <a:close/>
                    <a:moveTo>
                      <a:pt x="48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4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3765240" y="1341360"/>
                <a:ext cx="522720" cy="5040"/>
              </a:xfrm>
              <a:custGeom>
                <a:avLst/>
                <a:gdLst/>
                <a:ahLst/>
                <a:rect l="l" t="t" r="r" b="b"/>
                <a:pathLst>
                  <a:path w="1361" h="16">
                    <a:moveTo>
                      <a:pt x="1361" y="16"/>
                    </a:moveTo>
                    <a:lnTo>
                      <a:pt x="851" y="16"/>
                    </a:lnTo>
                    <a:lnTo>
                      <a:pt x="847" y="0"/>
                    </a:lnTo>
                    <a:lnTo>
                      <a:pt x="1356" y="0"/>
                    </a:lnTo>
                    <a:lnTo>
                      <a:pt x="1361" y="16"/>
                    </a:lnTo>
                    <a:close/>
                    <a:moveTo>
                      <a:pt x="486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90" y="0"/>
                    </a:lnTo>
                    <a:lnTo>
                      <a:pt x="486" y="16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3765240" y="1337760"/>
                <a:ext cx="520560" cy="5040"/>
              </a:xfrm>
              <a:custGeom>
                <a:avLst/>
                <a:gdLst/>
                <a:ahLst/>
                <a:rect l="l" t="t" r="r" b="b"/>
                <a:pathLst>
                  <a:path w="1355" h="15">
                    <a:moveTo>
                      <a:pt x="1355" y="15"/>
                    </a:moveTo>
                    <a:lnTo>
                      <a:pt x="845" y="15"/>
                    </a:lnTo>
                    <a:lnTo>
                      <a:pt x="841" y="0"/>
                    </a:lnTo>
                    <a:lnTo>
                      <a:pt x="1350" y="0"/>
                    </a:lnTo>
                    <a:lnTo>
                      <a:pt x="1355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3767400" y="1335600"/>
                <a:ext cx="518400" cy="5400"/>
              </a:xfrm>
              <a:custGeom>
                <a:avLst/>
                <a:gdLst/>
                <a:ahLst/>
                <a:rect l="l" t="t" r="r" b="b"/>
                <a:pathLst>
                  <a:path w="1350" h="15">
                    <a:moveTo>
                      <a:pt x="1350" y="15"/>
                    </a:moveTo>
                    <a:lnTo>
                      <a:pt x="841" y="15"/>
                    </a:lnTo>
                    <a:lnTo>
                      <a:pt x="836" y="0"/>
                    </a:lnTo>
                    <a:lnTo>
                      <a:pt x="1346" y="0"/>
                    </a:lnTo>
                    <a:lnTo>
                      <a:pt x="1350" y="15"/>
                    </a:lnTo>
                    <a:close/>
                    <a:moveTo>
                      <a:pt x="48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4" y="15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3767400" y="1332000"/>
                <a:ext cx="516600" cy="5400"/>
              </a:xfrm>
              <a:custGeom>
                <a:avLst/>
                <a:gdLst/>
                <a:ahLst/>
                <a:rect l="l" t="t" r="r" b="b"/>
                <a:pathLst>
                  <a:path w="1345" h="14">
                    <a:moveTo>
                      <a:pt x="1345" y="14"/>
                    </a:moveTo>
                    <a:lnTo>
                      <a:pt x="836" y="14"/>
                    </a:lnTo>
                    <a:lnTo>
                      <a:pt x="830" y="0"/>
                    </a:lnTo>
                    <a:lnTo>
                      <a:pt x="1340" y="0"/>
                    </a:lnTo>
                    <a:lnTo>
                      <a:pt x="1345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3769200" y="1330560"/>
                <a:ext cx="514800" cy="5040"/>
              </a:xfrm>
              <a:custGeom>
                <a:avLst/>
                <a:gdLst/>
                <a:ahLst/>
                <a:rect l="l" t="t" r="r" b="b"/>
                <a:pathLst>
                  <a:path w="1341" h="16">
                    <a:moveTo>
                      <a:pt x="1341" y="16"/>
                    </a:moveTo>
                    <a:lnTo>
                      <a:pt x="831" y="16"/>
                    </a:lnTo>
                    <a:lnTo>
                      <a:pt x="826" y="0"/>
                    </a:lnTo>
                    <a:lnTo>
                      <a:pt x="1336" y="0"/>
                    </a:lnTo>
                    <a:lnTo>
                      <a:pt x="1341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8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3769200" y="1326960"/>
                <a:ext cx="513000" cy="5040"/>
              </a:xfrm>
              <a:custGeom>
                <a:avLst/>
                <a:gdLst/>
                <a:ahLst/>
                <a:rect l="l" t="t" r="r" b="b"/>
                <a:pathLst>
                  <a:path w="1335" h="16">
                    <a:moveTo>
                      <a:pt x="1335" y="16"/>
                    </a:moveTo>
                    <a:lnTo>
                      <a:pt x="825" y="16"/>
                    </a:lnTo>
                    <a:lnTo>
                      <a:pt x="821" y="0"/>
                    </a:lnTo>
                    <a:lnTo>
                      <a:pt x="1330" y="0"/>
                    </a:lnTo>
                    <a:lnTo>
                      <a:pt x="1335" y="16"/>
                    </a:lnTo>
                    <a:close/>
                    <a:moveTo>
                      <a:pt x="4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6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3771360" y="1325160"/>
                <a:ext cx="510840" cy="5040"/>
              </a:xfrm>
              <a:custGeom>
                <a:avLst/>
                <a:gdLst/>
                <a:ahLst/>
                <a:rect l="l" t="t" r="r" b="b"/>
                <a:pathLst>
                  <a:path w="1331" h="14">
                    <a:moveTo>
                      <a:pt x="1331" y="14"/>
                    </a:moveTo>
                    <a:lnTo>
                      <a:pt x="821" y="14"/>
                    </a:lnTo>
                    <a:lnTo>
                      <a:pt x="817" y="0"/>
                    </a:lnTo>
                    <a:lnTo>
                      <a:pt x="1325" y="0"/>
                    </a:lnTo>
                    <a:lnTo>
                      <a:pt x="1331" y="14"/>
                    </a:lnTo>
                    <a:close/>
                    <a:moveTo>
                      <a:pt x="4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7" y="0"/>
                    </a:lnTo>
                    <a:lnTo>
                      <a:pt x="483" y="14"/>
                    </a:lnTo>
                    <a:close/>
                  </a:path>
                </a:pathLst>
              </a:cu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3771360" y="1321560"/>
                <a:ext cx="508680" cy="5040"/>
              </a:xfrm>
              <a:custGeom>
                <a:avLst/>
                <a:gdLst/>
                <a:ahLst/>
                <a:rect l="l" t="t" r="r" b="b"/>
                <a:pathLst>
                  <a:path w="1325" h="15">
                    <a:moveTo>
                      <a:pt x="1325" y="15"/>
                    </a:moveTo>
                    <a:lnTo>
                      <a:pt x="816" y="15"/>
                    </a:lnTo>
                    <a:lnTo>
                      <a:pt x="811" y="0"/>
                    </a:lnTo>
                    <a:lnTo>
                      <a:pt x="1320" y="0"/>
                    </a:lnTo>
                    <a:lnTo>
                      <a:pt x="1325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3772800" y="1320120"/>
                <a:ext cx="506880" cy="5040"/>
              </a:xfrm>
              <a:custGeom>
                <a:avLst/>
                <a:gdLst/>
                <a:ahLst/>
                <a:rect l="l" t="t" r="r" b="b"/>
                <a:pathLst>
                  <a:path w="1320" h="15">
                    <a:moveTo>
                      <a:pt x="1320" y="15"/>
                    </a:moveTo>
                    <a:lnTo>
                      <a:pt x="812" y="15"/>
                    </a:lnTo>
                    <a:lnTo>
                      <a:pt x="807" y="0"/>
                    </a:lnTo>
                    <a:lnTo>
                      <a:pt x="1315" y="0"/>
                    </a:lnTo>
                    <a:lnTo>
                      <a:pt x="1320" y="15"/>
                    </a:lnTo>
                    <a:close/>
                    <a:moveTo>
                      <a:pt x="48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7" y="0"/>
                    </a:lnTo>
                    <a:lnTo>
                      <a:pt x="482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3774600" y="1316520"/>
                <a:ext cx="503280" cy="5040"/>
              </a:xfrm>
              <a:custGeom>
                <a:avLst/>
                <a:gdLst/>
                <a:ahLst/>
                <a:rect l="l" t="t" r="r" b="b"/>
                <a:pathLst>
                  <a:path w="1314" h="15">
                    <a:moveTo>
                      <a:pt x="1314" y="15"/>
                    </a:moveTo>
                    <a:lnTo>
                      <a:pt x="805" y="15"/>
                    </a:lnTo>
                    <a:lnTo>
                      <a:pt x="801" y="0"/>
                    </a:lnTo>
                    <a:lnTo>
                      <a:pt x="1309" y="0"/>
                    </a:lnTo>
                    <a:lnTo>
                      <a:pt x="131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3774600" y="1314360"/>
                <a:ext cx="503280" cy="5400"/>
              </a:xfrm>
              <a:custGeom>
                <a:avLst/>
                <a:gdLst/>
                <a:ahLst/>
                <a:rect l="l" t="t" r="r" b="b"/>
                <a:pathLst>
                  <a:path w="1309" h="16">
                    <a:moveTo>
                      <a:pt x="1309" y="16"/>
                    </a:moveTo>
                    <a:lnTo>
                      <a:pt x="801" y="16"/>
                    </a:lnTo>
                    <a:lnTo>
                      <a:pt x="797" y="0"/>
                    </a:lnTo>
                    <a:lnTo>
                      <a:pt x="1305" y="0"/>
                    </a:lnTo>
                    <a:lnTo>
                      <a:pt x="1309" y="16"/>
                    </a:lnTo>
                    <a:close/>
                    <a:moveTo>
                      <a:pt x="48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6" y="0"/>
                    </a:lnTo>
                    <a:lnTo>
                      <a:pt x="481" y="16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3776760" y="13111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4" h="15">
                    <a:moveTo>
                      <a:pt x="1304" y="15"/>
                    </a:moveTo>
                    <a:lnTo>
                      <a:pt x="796" y="15"/>
                    </a:lnTo>
                    <a:lnTo>
                      <a:pt x="792" y="0"/>
                    </a:lnTo>
                    <a:lnTo>
                      <a:pt x="1299" y="0"/>
                    </a:lnTo>
                    <a:lnTo>
                      <a:pt x="1304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3776760" y="1309320"/>
                <a:ext cx="498960" cy="5040"/>
              </a:xfrm>
              <a:custGeom>
                <a:avLst/>
                <a:gdLst/>
                <a:ahLst/>
                <a:rect l="l" t="t" r="r" b="b"/>
                <a:pathLst>
                  <a:path w="1300" h="15">
                    <a:moveTo>
                      <a:pt x="1300" y="15"/>
                    </a:moveTo>
                    <a:lnTo>
                      <a:pt x="792" y="15"/>
                    </a:lnTo>
                    <a:lnTo>
                      <a:pt x="786" y="0"/>
                    </a:lnTo>
                    <a:lnTo>
                      <a:pt x="1295" y="0"/>
                    </a:lnTo>
                    <a:lnTo>
                      <a:pt x="1300" y="15"/>
                    </a:lnTo>
                    <a:close/>
                    <a:moveTo>
                      <a:pt x="48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1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3778560" y="1305720"/>
                <a:ext cx="495720" cy="5400"/>
              </a:xfrm>
              <a:custGeom>
                <a:avLst/>
                <a:gdLst/>
                <a:ahLst/>
                <a:rect l="l" t="t" r="r" b="b"/>
                <a:pathLst>
                  <a:path w="1294" h="15">
                    <a:moveTo>
                      <a:pt x="1294" y="15"/>
                    </a:moveTo>
                    <a:lnTo>
                      <a:pt x="787" y="15"/>
                    </a:lnTo>
                    <a:lnTo>
                      <a:pt x="781" y="0"/>
                    </a:lnTo>
                    <a:lnTo>
                      <a:pt x="1289" y="0"/>
                    </a:lnTo>
                    <a:lnTo>
                      <a:pt x="1294" y="15"/>
                    </a:lnTo>
                    <a:close/>
                    <a:moveTo>
                      <a:pt x="48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4" y="0"/>
                    </a:lnTo>
                    <a:lnTo>
                      <a:pt x="480" y="15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3778560" y="1303920"/>
                <a:ext cx="495720" cy="5040"/>
              </a:xfrm>
              <a:custGeom>
                <a:avLst/>
                <a:gdLst/>
                <a:ahLst/>
                <a:rect l="l" t="t" r="r" b="b"/>
                <a:pathLst>
                  <a:path w="1290" h="14">
                    <a:moveTo>
                      <a:pt x="1290" y="14"/>
                    </a:moveTo>
                    <a:lnTo>
                      <a:pt x="781" y="14"/>
                    </a:lnTo>
                    <a:lnTo>
                      <a:pt x="777" y="0"/>
                    </a:lnTo>
                    <a:lnTo>
                      <a:pt x="1284" y="0"/>
                    </a:lnTo>
                    <a:lnTo>
                      <a:pt x="1290" y="14"/>
                    </a:lnTo>
                    <a:close/>
                    <a:moveTo>
                      <a:pt x="48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5" y="0"/>
                    </a:lnTo>
                    <a:lnTo>
                      <a:pt x="480" y="14"/>
                    </a:lnTo>
                    <a:close/>
                  </a:path>
                </a:pathLst>
              </a:cu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3780720" y="130032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84" h="16">
                    <a:moveTo>
                      <a:pt x="1284" y="16"/>
                    </a:moveTo>
                    <a:lnTo>
                      <a:pt x="776" y="16"/>
                    </a:lnTo>
                    <a:lnTo>
                      <a:pt x="772" y="0"/>
                    </a:lnTo>
                    <a:lnTo>
                      <a:pt x="1279" y="0"/>
                    </a:lnTo>
                    <a:lnTo>
                      <a:pt x="1284" y="16"/>
                    </a:lnTo>
                    <a:close/>
                    <a:moveTo>
                      <a:pt x="47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84" y="0"/>
                    </a:lnTo>
                    <a:lnTo>
                      <a:pt x="479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3780720" y="1298880"/>
                <a:ext cx="491400" cy="5040"/>
              </a:xfrm>
              <a:custGeom>
                <a:avLst/>
                <a:gdLst/>
                <a:ahLst/>
                <a:rect l="l" t="t" r="r" b="b"/>
                <a:pathLst>
                  <a:path w="1279" h="16">
                    <a:moveTo>
                      <a:pt x="1279" y="16"/>
                    </a:moveTo>
                    <a:lnTo>
                      <a:pt x="772" y="16"/>
                    </a:lnTo>
                    <a:lnTo>
                      <a:pt x="768" y="0"/>
                    </a:lnTo>
                    <a:lnTo>
                      <a:pt x="1274" y="0"/>
                    </a:lnTo>
                    <a:lnTo>
                      <a:pt x="1279" y="16"/>
                    </a:lnTo>
                    <a:close/>
                    <a:moveTo>
                      <a:pt x="480" y="16"/>
                    </a:moveTo>
                    <a:lnTo>
                      <a:pt x="0" y="16"/>
                    </a:lnTo>
                    <a:lnTo>
                      <a:pt x="7" y="0"/>
                    </a:lnTo>
                    <a:lnTo>
                      <a:pt x="485" y="0"/>
                    </a:lnTo>
                    <a:lnTo>
                      <a:pt x="480" y="16"/>
                    </a:lnTo>
                    <a:close/>
                  </a:path>
                </a:pathLst>
              </a:cu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3782520" y="12952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3" h="14">
                    <a:moveTo>
                      <a:pt x="1273" y="14"/>
                    </a:moveTo>
                    <a:lnTo>
                      <a:pt x="766" y="14"/>
                    </a:lnTo>
                    <a:lnTo>
                      <a:pt x="761" y="0"/>
                    </a:lnTo>
                    <a:lnTo>
                      <a:pt x="1268" y="0"/>
                    </a:lnTo>
                    <a:lnTo>
                      <a:pt x="1273" y="14"/>
                    </a:lnTo>
                    <a:close/>
                    <a:moveTo>
                      <a:pt x="47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83" y="0"/>
                    </a:lnTo>
                    <a:lnTo>
                      <a:pt x="478" y="14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3782520" y="12931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5">
                    <a:moveTo>
                      <a:pt x="1267" y="15"/>
                    </a:moveTo>
                    <a:lnTo>
                      <a:pt x="761" y="15"/>
                    </a:lnTo>
                    <a:lnTo>
                      <a:pt x="756" y="0"/>
                    </a:lnTo>
                    <a:lnTo>
                      <a:pt x="1263" y="0"/>
                    </a:lnTo>
                    <a:lnTo>
                      <a:pt x="1267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3784320" y="1289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756" y="15"/>
                    </a:lnTo>
                    <a:lnTo>
                      <a:pt x="752" y="0"/>
                    </a:lnTo>
                    <a:lnTo>
                      <a:pt x="1258" y="0"/>
                    </a:lnTo>
                    <a:lnTo>
                      <a:pt x="1263" y="15"/>
                    </a:lnTo>
                    <a:close/>
                    <a:moveTo>
                      <a:pt x="47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8" y="15"/>
                    </a:lnTo>
                    <a:close/>
                  </a:path>
                </a:pathLst>
              </a:cu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3784320" y="1288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5">
                    <a:moveTo>
                      <a:pt x="1258" y="15"/>
                    </a:moveTo>
                    <a:lnTo>
                      <a:pt x="751" y="15"/>
                    </a:lnTo>
                    <a:lnTo>
                      <a:pt x="747" y="0"/>
                    </a:lnTo>
                    <a:lnTo>
                      <a:pt x="1253" y="0"/>
                    </a:lnTo>
                    <a:lnTo>
                      <a:pt x="125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3786480" y="1284480"/>
                <a:ext cx="479880" cy="5400"/>
              </a:xfrm>
              <a:custGeom>
                <a:avLst/>
                <a:gdLst/>
                <a:ahLst/>
                <a:rect l="l" t="t" r="r" b="b"/>
                <a:pathLst>
                  <a:path w="1253" h="16">
                    <a:moveTo>
                      <a:pt x="1253" y="16"/>
                    </a:moveTo>
                    <a:lnTo>
                      <a:pt x="747" y="16"/>
                    </a:lnTo>
                    <a:lnTo>
                      <a:pt x="742" y="0"/>
                    </a:lnTo>
                    <a:lnTo>
                      <a:pt x="1249" y="0"/>
                    </a:lnTo>
                    <a:lnTo>
                      <a:pt x="1253" y="16"/>
                    </a:lnTo>
                    <a:close/>
                    <a:moveTo>
                      <a:pt x="4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2" y="0"/>
                    </a:lnTo>
                    <a:lnTo>
                      <a:pt x="477" y="16"/>
                    </a:lnTo>
                    <a:close/>
                  </a:path>
                </a:pathLst>
              </a:cu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3786480" y="128268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8" h="15">
                    <a:moveTo>
                      <a:pt x="1248" y="15"/>
                    </a:moveTo>
                    <a:lnTo>
                      <a:pt x="742" y="15"/>
                    </a:lnTo>
                    <a:lnTo>
                      <a:pt x="736" y="0"/>
                    </a:lnTo>
                    <a:lnTo>
                      <a:pt x="1242" y="0"/>
                    </a:lnTo>
                    <a:lnTo>
                      <a:pt x="1248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3788280" y="127908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4" h="15">
                    <a:moveTo>
                      <a:pt x="1244" y="15"/>
                    </a:moveTo>
                    <a:lnTo>
                      <a:pt x="737" y="15"/>
                    </a:lnTo>
                    <a:lnTo>
                      <a:pt x="732" y="0"/>
                    </a:lnTo>
                    <a:lnTo>
                      <a:pt x="1238" y="0"/>
                    </a:lnTo>
                    <a:lnTo>
                      <a:pt x="1244" y="15"/>
                    </a:lnTo>
                    <a:close/>
                    <a:moveTo>
                      <a:pt x="47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81" y="0"/>
                    </a:lnTo>
                    <a:lnTo>
                      <a:pt x="477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3790440" y="1277640"/>
                <a:ext cx="474120" cy="5040"/>
              </a:xfrm>
              <a:custGeom>
                <a:avLst/>
                <a:gdLst/>
                <a:ahLst/>
                <a:rect l="l" t="t" r="r" b="b"/>
                <a:pathLst>
                  <a:path w="1236" h="15">
                    <a:moveTo>
                      <a:pt x="1236" y="15"/>
                    </a:moveTo>
                    <a:lnTo>
                      <a:pt x="730" y="15"/>
                    </a:lnTo>
                    <a:lnTo>
                      <a:pt x="726" y="0"/>
                    </a:lnTo>
                    <a:lnTo>
                      <a:pt x="1231" y="0"/>
                    </a:lnTo>
                    <a:lnTo>
                      <a:pt x="1236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3790440" y="127404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2" h="15">
                    <a:moveTo>
                      <a:pt x="1232" y="15"/>
                    </a:moveTo>
                    <a:lnTo>
                      <a:pt x="726" y="15"/>
                    </a:lnTo>
                    <a:lnTo>
                      <a:pt x="722" y="0"/>
                    </a:lnTo>
                    <a:lnTo>
                      <a:pt x="1227" y="0"/>
                    </a:lnTo>
                    <a:lnTo>
                      <a:pt x="123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1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3792240" y="1270440"/>
                <a:ext cx="470160" cy="7200"/>
              </a:xfrm>
              <a:custGeom>
                <a:avLst/>
                <a:gdLst/>
                <a:ahLst/>
                <a:rect l="l" t="t" r="r" b="b"/>
                <a:pathLst>
                  <a:path w="1226" h="16">
                    <a:moveTo>
                      <a:pt x="1226" y="16"/>
                    </a:moveTo>
                    <a:lnTo>
                      <a:pt x="721" y="16"/>
                    </a:lnTo>
                    <a:lnTo>
                      <a:pt x="717" y="0"/>
                    </a:lnTo>
                    <a:lnTo>
                      <a:pt x="1222" y="0"/>
                    </a:lnTo>
                    <a:lnTo>
                      <a:pt x="1226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3792240" y="1268640"/>
                <a:ext cx="46872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717" y="15"/>
                    </a:lnTo>
                    <a:lnTo>
                      <a:pt x="712" y="0"/>
                    </a:lnTo>
                    <a:lnTo>
                      <a:pt x="1217" y="0"/>
                    </a:lnTo>
                    <a:lnTo>
                      <a:pt x="1222" y="15"/>
                    </a:lnTo>
                    <a:close/>
                    <a:moveTo>
                      <a:pt x="47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80" y="0"/>
                    </a:lnTo>
                    <a:lnTo>
                      <a:pt x="476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3794040" y="1266840"/>
                <a:ext cx="466920" cy="3600"/>
              </a:xfrm>
              <a:custGeom>
                <a:avLst/>
                <a:gdLst/>
                <a:ahLst/>
                <a:rect l="l" t="t" r="r" b="b"/>
                <a:pathLst>
                  <a:path w="1217" h="14">
                    <a:moveTo>
                      <a:pt x="1217" y="14"/>
                    </a:moveTo>
                    <a:lnTo>
                      <a:pt x="712" y="14"/>
                    </a:lnTo>
                    <a:lnTo>
                      <a:pt x="707" y="0"/>
                    </a:lnTo>
                    <a:lnTo>
                      <a:pt x="1212" y="0"/>
                    </a:lnTo>
                    <a:lnTo>
                      <a:pt x="1217" y="14"/>
                    </a:lnTo>
                    <a:close/>
                    <a:moveTo>
                      <a:pt x="47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4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3794040" y="126360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707" y="15"/>
                    </a:lnTo>
                    <a:lnTo>
                      <a:pt x="703" y="0"/>
                    </a:lnTo>
                    <a:lnTo>
                      <a:pt x="1208" y="0"/>
                    </a:lnTo>
                    <a:lnTo>
                      <a:pt x="1212" y="15"/>
                    </a:lnTo>
                    <a:close/>
                    <a:moveTo>
                      <a:pt x="47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9" y="0"/>
                    </a:lnTo>
                    <a:lnTo>
                      <a:pt x="475" y="15"/>
                    </a:lnTo>
                    <a:close/>
                  </a:path>
                </a:pathLst>
              </a:cu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796200" y="1260000"/>
                <a:ext cx="462960" cy="6480"/>
              </a:xfrm>
              <a:custGeom>
                <a:avLst/>
                <a:gdLst/>
                <a:ahLst/>
                <a:rect l="l" t="t" r="r" b="b"/>
                <a:pathLst>
                  <a:path w="1207" h="16">
                    <a:moveTo>
                      <a:pt x="1207" y="16"/>
                    </a:moveTo>
                    <a:lnTo>
                      <a:pt x="702" y="16"/>
                    </a:lnTo>
                    <a:lnTo>
                      <a:pt x="697" y="0"/>
                    </a:lnTo>
                    <a:lnTo>
                      <a:pt x="1201" y="0"/>
                    </a:lnTo>
                    <a:lnTo>
                      <a:pt x="1207" y="16"/>
                    </a:lnTo>
                    <a:close/>
                    <a:moveTo>
                      <a:pt x="47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8" y="0"/>
                    </a:lnTo>
                    <a:lnTo>
                      <a:pt x="474" y="16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3796200" y="1257840"/>
                <a:ext cx="462960" cy="540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698" y="15"/>
                    </a:lnTo>
                    <a:lnTo>
                      <a:pt x="693" y="0"/>
                    </a:lnTo>
                    <a:lnTo>
                      <a:pt x="1197" y="0"/>
                    </a:lnTo>
                    <a:lnTo>
                      <a:pt x="1203" y="15"/>
                    </a:lnTo>
                    <a:close/>
                    <a:moveTo>
                      <a:pt x="47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9" y="0"/>
                    </a:lnTo>
                    <a:lnTo>
                      <a:pt x="474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3797640" y="125424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691" y="15"/>
                    </a:lnTo>
                    <a:lnTo>
                      <a:pt x="686" y="0"/>
                    </a:lnTo>
                    <a:lnTo>
                      <a:pt x="1190" y="0"/>
                    </a:lnTo>
                    <a:lnTo>
                      <a:pt x="119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3797640" y="125280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1" h="15">
                    <a:moveTo>
                      <a:pt x="1191" y="15"/>
                    </a:moveTo>
                    <a:lnTo>
                      <a:pt x="687" y="15"/>
                    </a:lnTo>
                    <a:lnTo>
                      <a:pt x="682" y="0"/>
                    </a:lnTo>
                    <a:lnTo>
                      <a:pt x="1186" y="0"/>
                    </a:lnTo>
                    <a:lnTo>
                      <a:pt x="1191" y="15"/>
                    </a:lnTo>
                    <a:close/>
                    <a:moveTo>
                      <a:pt x="47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3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3800160" y="1249200"/>
                <a:ext cx="455040" cy="5040"/>
              </a:xfrm>
              <a:custGeom>
                <a:avLst/>
                <a:gdLst/>
                <a:ahLst/>
                <a:rect l="l" t="t" r="r" b="b"/>
                <a:pathLst>
                  <a:path w="1185" h="15">
                    <a:moveTo>
                      <a:pt x="1185" y="15"/>
                    </a:moveTo>
                    <a:lnTo>
                      <a:pt x="681" y="15"/>
                    </a:lnTo>
                    <a:lnTo>
                      <a:pt x="677" y="0"/>
                    </a:lnTo>
                    <a:lnTo>
                      <a:pt x="1181" y="0"/>
                    </a:lnTo>
                    <a:lnTo>
                      <a:pt x="1185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3800160" y="1247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677" y="16"/>
                    </a:lnTo>
                    <a:lnTo>
                      <a:pt x="673" y="0"/>
                    </a:lnTo>
                    <a:lnTo>
                      <a:pt x="1176" y="0"/>
                    </a:lnTo>
                    <a:lnTo>
                      <a:pt x="1181" y="16"/>
                    </a:lnTo>
                    <a:close/>
                    <a:moveTo>
                      <a:pt x="47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6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3801600" y="1243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672" y="15"/>
                    </a:lnTo>
                    <a:lnTo>
                      <a:pt x="668" y="0"/>
                    </a:lnTo>
                    <a:lnTo>
                      <a:pt x="1171" y="0"/>
                    </a:lnTo>
                    <a:lnTo>
                      <a:pt x="1176" y="15"/>
                    </a:lnTo>
                    <a:close/>
                    <a:moveTo>
                      <a:pt x="47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1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3801600" y="1242360"/>
                <a:ext cx="449280" cy="5040"/>
              </a:xfrm>
              <a:custGeom>
                <a:avLst/>
                <a:gdLst/>
                <a:ahLst/>
                <a:rect l="l" t="t" r="r" b="b"/>
                <a:pathLst>
                  <a:path w="1171" h="15">
                    <a:moveTo>
                      <a:pt x="1171" y="15"/>
                    </a:moveTo>
                    <a:lnTo>
                      <a:pt x="668" y="15"/>
                    </a:lnTo>
                    <a:lnTo>
                      <a:pt x="663" y="0"/>
                    </a:lnTo>
                    <a:lnTo>
                      <a:pt x="1167" y="0"/>
                    </a:lnTo>
                    <a:lnTo>
                      <a:pt x="1171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7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3803760" y="1238760"/>
                <a:ext cx="447120" cy="5040"/>
              </a:xfrm>
              <a:custGeom>
                <a:avLst/>
                <a:gdLst/>
                <a:ahLst/>
                <a:rect l="l" t="t" r="r" b="b"/>
                <a:pathLst>
                  <a:path w="1166" h="15">
                    <a:moveTo>
                      <a:pt x="1166" y="15"/>
                    </a:moveTo>
                    <a:lnTo>
                      <a:pt x="663" y="15"/>
                    </a:lnTo>
                    <a:lnTo>
                      <a:pt x="658" y="0"/>
                    </a:lnTo>
                    <a:lnTo>
                      <a:pt x="1160" y="0"/>
                    </a:lnTo>
                    <a:lnTo>
                      <a:pt x="1166" y="15"/>
                    </a:lnTo>
                    <a:close/>
                    <a:moveTo>
                      <a:pt x="47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5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803760" y="1236600"/>
                <a:ext cx="447120" cy="5400"/>
              </a:xfrm>
              <a:custGeom>
                <a:avLst/>
                <a:gdLst/>
                <a:ahLst/>
                <a:rect l="l" t="t" r="r" b="b"/>
                <a:pathLst>
                  <a:path w="1162" h="14">
                    <a:moveTo>
                      <a:pt x="1162" y="14"/>
                    </a:moveTo>
                    <a:lnTo>
                      <a:pt x="658" y="14"/>
                    </a:lnTo>
                    <a:lnTo>
                      <a:pt x="653" y="0"/>
                    </a:lnTo>
                    <a:lnTo>
                      <a:pt x="1156" y="0"/>
                    </a:lnTo>
                    <a:lnTo>
                      <a:pt x="1162" y="14"/>
                    </a:lnTo>
                    <a:close/>
                    <a:moveTo>
                      <a:pt x="472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476" y="0"/>
                    </a:lnTo>
                    <a:lnTo>
                      <a:pt x="472" y="14"/>
                    </a:lnTo>
                    <a:close/>
                  </a:path>
                </a:pathLst>
              </a:cu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805560" y="1233360"/>
                <a:ext cx="443880" cy="5040"/>
              </a:xfrm>
              <a:custGeom>
                <a:avLst/>
                <a:gdLst/>
                <a:ahLst/>
                <a:rect l="l" t="t" r="r" b="b"/>
                <a:pathLst>
                  <a:path w="1154" h="16">
                    <a:moveTo>
                      <a:pt x="1154" y="16"/>
                    </a:moveTo>
                    <a:lnTo>
                      <a:pt x="652" y="16"/>
                    </a:lnTo>
                    <a:lnTo>
                      <a:pt x="647" y="0"/>
                    </a:lnTo>
                    <a:lnTo>
                      <a:pt x="1149" y="0"/>
                    </a:lnTo>
                    <a:lnTo>
                      <a:pt x="1154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805560" y="1231560"/>
                <a:ext cx="441720" cy="5040"/>
              </a:xfrm>
              <a:custGeom>
                <a:avLst/>
                <a:gdLst/>
                <a:ahLst/>
                <a:rect l="l" t="t" r="r" b="b"/>
                <a:pathLst>
                  <a:path w="1150" h="16">
                    <a:moveTo>
                      <a:pt x="1150" y="16"/>
                    </a:moveTo>
                    <a:lnTo>
                      <a:pt x="647" y="16"/>
                    </a:lnTo>
                    <a:lnTo>
                      <a:pt x="643" y="0"/>
                    </a:lnTo>
                    <a:lnTo>
                      <a:pt x="1145" y="0"/>
                    </a:lnTo>
                    <a:lnTo>
                      <a:pt x="1150" y="16"/>
                    </a:lnTo>
                    <a:close/>
                    <a:moveTo>
                      <a:pt x="47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70" y="16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807360" y="1227960"/>
                <a:ext cx="439920" cy="5400"/>
              </a:xfrm>
              <a:custGeom>
                <a:avLst/>
                <a:gdLst/>
                <a:ahLst/>
                <a:rect l="l" t="t" r="r" b="b"/>
                <a:pathLst>
                  <a:path w="1144" h="14">
                    <a:moveTo>
                      <a:pt x="1144" y="14"/>
                    </a:moveTo>
                    <a:lnTo>
                      <a:pt x="642" y="14"/>
                    </a:lnTo>
                    <a:lnTo>
                      <a:pt x="637" y="0"/>
                    </a:lnTo>
                    <a:lnTo>
                      <a:pt x="1140" y="0"/>
                    </a:lnTo>
                    <a:lnTo>
                      <a:pt x="1144" y="14"/>
                    </a:lnTo>
                    <a:close/>
                    <a:moveTo>
                      <a:pt x="46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4"/>
                    </a:lnTo>
                    <a:close/>
                  </a:path>
                </a:pathLst>
              </a:cu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807360" y="1226160"/>
                <a:ext cx="438120" cy="5040"/>
              </a:xfrm>
              <a:custGeom>
                <a:avLst/>
                <a:gdLst/>
                <a:ahLst/>
                <a:rect l="l" t="t" r="r" b="b"/>
                <a:pathLst>
                  <a:path w="1140" h="15">
                    <a:moveTo>
                      <a:pt x="1140" y="15"/>
                    </a:moveTo>
                    <a:lnTo>
                      <a:pt x="638" y="15"/>
                    </a:lnTo>
                    <a:lnTo>
                      <a:pt x="633" y="0"/>
                    </a:lnTo>
                    <a:lnTo>
                      <a:pt x="1135" y="0"/>
                    </a:lnTo>
                    <a:lnTo>
                      <a:pt x="114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3809520" y="1222560"/>
                <a:ext cx="435960" cy="5040"/>
              </a:xfrm>
              <a:custGeom>
                <a:avLst/>
                <a:gdLst/>
                <a:ahLst/>
                <a:rect l="l" t="t" r="r" b="b"/>
                <a:pathLst>
                  <a:path w="1135" h="15">
                    <a:moveTo>
                      <a:pt x="1135" y="15"/>
                    </a:moveTo>
                    <a:lnTo>
                      <a:pt x="632" y="15"/>
                    </a:lnTo>
                    <a:lnTo>
                      <a:pt x="628" y="0"/>
                    </a:lnTo>
                    <a:lnTo>
                      <a:pt x="1130" y="0"/>
                    </a:lnTo>
                    <a:lnTo>
                      <a:pt x="1135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3809520" y="1221120"/>
                <a:ext cx="433800" cy="5040"/>
              </a:xfrm>
              <a:custGeom>
                <a:avLst/>
                <a:gdLst/>
                <a:ahLst/>
                <a:rect l="l" t="t" r="r" b="b"/>
                <a:pathLst>
                  <a:path w="1130" h="15">
                    <a:moveTo>
                      <a:pt x="1130" y="15"/>
                    </a:moveTo>
                    <a:lnTo>
                      <a:pt x="628" y="15"/>
                    </a:lnTo>
                    <a:lnTo>
                      <a:pt x="624" y="0"/>
                    </a:lnTo>
                    <a:lnTo>
                      <a:pt x="1125" y="0"/>
                    </a:lnTo>
                    <a:lnTo>
                      <a:pt x="113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3811320" y="1217520"/>
                <a:ext cx="432000" cy="5040"/>
              </a:xfrm>
              <a:custGeom>
                <a:avLst/>
                <a:gdLst/>
                <a:ahLst/>
                <a:rect l="l" t="t" r="r" b="b"/>
                <a:pathLst>
                  <a:path w="1125" h="16">
                    <a:moveTo>
                      <a:pt x="1125" y="16"/>
                    </a:moveTo>
                    <a:lnTo>
                      <a:pt x="623" y="16"/>
                    </a:lnTo>
                    <a:lnTo>
                      <a:pt x="618" y="0"/>
                    </a:lnTo>
                    <a:lnTo>
                      <a:pt x="1120" y="0"/>
                    </a:lnTo>
                    <a:lnTo>
                      <a:pt x="1125" y="16"/>
                    </a:lnTo>
                    <a:close/>
                    <a:moveTo>
                      <a:pt x="46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73" y="0"/>
                    </a:lnTo>
                    <a:lnTo>
                      <a:pt x="469" y="16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3811320" y="1215360"/>
                <a:ext cx="430200" cy="5400"/>
              </a:xfrm>
              <a:custGeom>
                <a:avLst/>
                <a:gdLst/>
                <a:ahLst/>
                <a:rect l="l" t="t" r="r" b="b"/>
                <a:pathLst>
                  <a:path w="1120" h="15">
                    <a:moveTo>
                      <a:pt x="1120" y="15"/>
                    </a:moveTo>
                    <a:lnTo>
                      <a:pt x="619" y="15"/>
                    </a:lnTo>
                    <a:lnTo>
                      <a:pt x="614" y="0"/>
                    </a:lnTo>
                    <a:lnTo>
                      <a:pt x="1115" y="0"/>
                    </a:lnTo>
                    <a:lnTo>
                      <a:pt x="1120" y="15"/>
                    </a:lnTo>
                    <a:close/>
                    <a:moveTo>
                      <a:pt x="469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4" y="0"/>
                    </a:lnTo>
                    <a:lnTo>
                      <a:pt x="469" y="15"/>
                    </a:lnTo>
                    <a:close/>
                  </a:path>
                </a:pathLst>
              </a:cu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3813480" y="1212120"/>
                <a:ext cx="428040" cy="5040"/>
              </a:xfrm>
              <a:custGeom>
                <a:avLst/>
                <a:gdLst/>
                <a:ahLst/>
                <a:rect l="l" t="t" r="r" b="b"/>
                <a:pathLst>
                  <a:path w="1114" h="15">
                    <a:moveTo>
                      <a:pt x="1114" y="15"/>
                    </a:moveTo>
                    <a:lnTo>
                      <a:pt x="612" y="15"/>
                    </a:lnTo>
                    <a:lnTo>
                      <a:pt x="607" y="0"/>
                    </a:lnTo>
                    <a:lnTo>
                      <a:pt x="1108" y="0"/>
                    </a:lnTo>
                    <a:lnTo>
                      <a:pt x="1114" y="15"/>
                    </a:lnTo>
                    <a:close/>
                    <a:moveTo>
                      <a:pt x="4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72" y="0"/>
                    </a:lnTo>
                    <a:lnTo>
                      <a:pt x="467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815280" y="1209960"/>
                <a:ext cx="424440" cy="5040"/>
              </a:xfrm>
              <a:custGeom>
                <a:avLst/>
                <a:gdLst/>
                <a:ahLst/>
                <a:rect l="l" t="t" r="r" b="b"/>
                <a:pathLst>
                  <a:path w="1109" h="15">
                    <a:moveTo>
                      <a:pt x="1109" y="15"/>
                    </a:moveTo>
                    <a:lnTo>
                      <a:pt x="608" y="15"/>
                    </a:lnTo>
                    <a:lnTo>
                      <a:pt x="603" y="0"/>
                    </a:lnTo>
                    <a:lnTo>
                      <a:pt x="1104" y="0"/>
                    </a:lnTo>
                    <a:lnTo>
                      <a:pt x="1109" y="15"/>
                    </a:lnTo>
                    <a:close/>
                    <a:moveTo>
                      <a:pt x="468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2" y="0"/>
                    </a:lnTo>
                    <a:lnTo>
                      <a:pt x="468" y="15"/>
                    </a:lnTo>
                    <a:close/>
                  </a:path>
                </a:pathLst>
              </a:cu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3815280" y="1206360"/>
                <a:ext cx="424440" cy="5400"/>
              </a:xfrm>
              <a:custGeom>
                <a:avLst/>
                <a:gdLst/>
                <a:ahLst/>
                <a:rect l="l" t="t" r="r" b="b"/>
                <a:pathLst>
                  <a:path w="1103" h="14">
                    <a:moveTo>
                      <a:pt x="1103" y="14"/>
                    </a:moveTo>
                    <a:lnTo>
                      <a:pt x="602" y="14"/>
                    </a:lnTo>
                    <a:lnTo>
                      <a:pt x="598" y="0"/>
                    </a:lnTo>
                    <a:lnTo>
                      <a:pt x="1099" y="0"/>
                    </a:lnTo>
                    <a:lnTo>
                      <a:pt x="1103" y="14"/>
                    </a:lnTo>
                    <a:close/>
                    <a:moveTo>
                      <a:pt x="467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7" y="14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3817080" y="12049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8" h="16">
                    <a:moveTo>
                      <a:pt x="1098" y="16"/>
                    </a:moveTo>
                    <a:lnTo>
                      <a:pt x="597" y="16"/>
                    </a:lnTo>
                    <a:lnTo>
                      <a:pt x="592" y="0"/>
                    </a:lnTo>
                    <a:lnTo>
                      <a:pt x="1093" y="0"/>
                    </a:lnTo>
                    <a:lnTo>
                      <a:pt x="1098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3817080" y="1201320"/>
                <a:ext cx="420840" cy="5040"/>
              </a:xfrm>
              <a:custGeom>
                <a:avLst/>
                <a:gdLst/>
                <a:ahLst/>
                <a:rect l="l" t="t" r="r" b="b"/>
                <a:pathLst>
                  <a:path w="1094" h="16">
                    <a:moveTo>
                      <a:pt x="1094" y="16"/>
                    </a:moveTo>
                    <a:lnTo>
                      <a:pt x="593" y="16"/>
                    </a:lnTo>
                    <a:lnTo>
                      <a:pt x="588" y="0"/>
                    </a:lnTo>
                    <a:lnTo>
                      <a:pt x="1089" y="0"/>
                    </a:lnTo>
                    <a:lnTo>
                      <a:pt x="1094" y="16"/>
                    </a:lnTo>
                    <a:close/>
                    <a:moveTo>
                      <a:pt x="466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70" y="0"/>
                    </a:lnTo>
                    <a:lnTo>
                      <a:pt x="466" y="16"/>
                    </a:lnTo>
                    <a:close/>
                  </a:path>
                </a:pathLst>
              </a:cu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3819240" y="11995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8" h="14">
                    <a:moveTo>
                      <a:pt x="1088" y="14"/>
                    </a:moveTo>
                    <a:lnTo>
                      <a:pt x="587" y="14"/>
                    </a:lnTo>
                    <a:lnTo>
                      <a:pt x="583" y="0"/>
                    </a:lnTo>
                    <a:lnTo>
                      <a:pt x="1083" y="0"/>
                    </a:lnTo>
                    <a:lnTo>
                      <a:pt x="1088" y="14"/>
                    </a:lnTo>
                    <a:close/>
                    <a:moveTo>
                      <a:pt x="465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71" y="0"/>
                    </a:lnTo>
                    <a:lnTo>
                      <a:pt x="465" y="14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3819240" y="1195920"/>
                <a:ext cx="416880" cy="5040"/>
              </a:xfrm>
              <a:custGeom>
                <a:avLst/>
                <a:gdLst/>
                <a:ahLst/>
                <a:rect l="l" t="t" r="r" b="b"/>
                <a:pathLst>
                  <a:path w="1084" h="15">
                    <a:moveTo>
                      <a:pt x="1084" y="15"/>
                    </a:moveTo>
                    <a:lnTo>
                      <a:pt x="583" y="15"/>
                    </a:lnTo>
                    <a:lnTo>
                      <a:pt x="579" y="0"/>
                    </a:lnTo>
                    <a:lnTo>
                      <a:pt x="1079" y="0"/>
                    </a:lnTo>
                    <a:lnTo>
                      <a:pt x="1084" y="15"/>
                    </a:lnTo>
                    <a:close/>
                    <a:moveTo>
                      <a:pt x="46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1" y="0"/>
                    </a:lnTo>
                    <a:lnTo>
                      <a:pt x="465" y="15"/>
                    </a:lnTo>
                    <a:close/>
                  </a:path>
                </a:pathLst>
              </a:cu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3821040" y="11944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8" h="15">
                    <a:moveTo>
                      <a:pt x="1078" y="15"/>
                    </a:moveTo>
                    <a:lnTo>
                      <a:pt x="578" y="15"/>
                    </a:lnTo>
                    <a:lnTo>
                      <a:pt x="574" y="0"/>
                    </a:lnTo>
                    <a:lnTo>
                      <a:pt x="1073" y="0"/>
                    </a:lnTo>
                    <a:lnTo>
                      <a:pt x="1078" y="15"/>
                    </a:lnTo>
                    <a:close/>
                    <a:moveTo>
                      <a:pt x="466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70" y="0"/>
                    </a:lnTo>
                    <a:lnTo>
                      <a:pt x="466" y="15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3821040" y="1190880"/>
                <a:ext cx="412920" cy="5040"/>
              </a:xfrm>
              <a:custGeom>
                <a:avLst/>
                <a:gdLst/>
                <a:ahLst/>
                <a:rect l="l" t="t" r="r" b="b"/>
                <a:pathLst>
                  <a:path w="1073" h="16">
                    <a:moveTo>
                      <a:pt x="1073" y="16"/>
                    </a:moveTo>
                    <a:lnTo>
                      <a:pt x="573" y="16"/>
                    </a:lnTo>
                    <a:lnTo>
                      <a:pt x="568" y="0"/>
                    </a:lnTo>
                    <a:lnTo>
                      <a:pt x="1067" y="0"/>
                    </a:lnTo>
                    <a:lnTo>
                      <a:pt x="1073" y="16"/>
                    </a:lnTo>
                    <a:close/>
                    <a:moveTo>
                      <a:pt x="46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5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3823200" y="11887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7" h="16">
                    <a:moveTo>
                      <a:pt x="1067" y="16"/>
                    </a:moveTo>
                    <a:lnTo>
                      <a:pt x="568" y="16"/>
                    </a:lnTo>
                    <a:lnTo>
                      <a:pt x="562" y="0"/>
                    </a:lnTo>
                    <a:lnTo>
                      <a:pt x="1062" y="0"/>
                    </a:lnTo>
                    <a:lnTo>
                      <a:pt x="1067" y="16"/>
                    </a:lnTo>
                    <a:close/>
                    <a:moveTo>
                      <a:pt x="464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6"/>
                    </a:lnTo>
                    <a:close/>
                  </a:path>
                </a:pathLst>
              </a:cu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23200" y="1185120"/>
                <a:ext cx="408960" cy="5400"/>
              </a:xfrm>
              <a:custGeom>
                <a:avLst/>
                <a:gdLst/>
                <a:ahLst/>
                <a:rect l="l" t="t" r="r" b="b"/>
                <a:pathLst>
                  <a:path w="1062" h="14">
                    <a:moveTo>
                      <a:pt x="1062" y="14"/>
                    </a:moveTo>
                    <a:lnTo>
                      <a:pt x="563" y="14"/>
                    </a:lnTo>
                    <a:lnTo>
                      <a:pt x="558" y="0"/>
                    </a:lnTo>
                    <a:lnTo>
                      <a:pt x="1058" y="0"/>
                    </a:lnTo>
                    <a:lnTo>
                      <a:pt x="1062" y="14"/>
                    </a:lnTo>
                    <a:close/>
                    <a:moveTo>
                      <a:pt x="4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9" y="0"/>
                    </a:lnTo>
                    <a:lnTo>
                      <a:pt x="464" y="14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3825000" y="11836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7" h="15">
                    <a:moveTo>
                      <a:pt x="1057" y="15"/>
                    </a:moveTo>
                    <a:lnTo>
                      <a:pt x="557" y="15"/>
                    </a:lnTo>
                    <a:lnTo>
                      <a:pt x="553" y="0"/>
                    </a:lnTo>
                    <a:lnTo>
                      <a:pt x="1052" y="0"/>
                    </a:lnTo>
                    <a:lnTo>
                      <a:pt x="105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3825000" y="1180080"/>
                <a:ext cx="405000" cy="5040"/>
              </a:xfrm>
              <a:custGeom>
                <a:avLst/>
                <a:gdLst/>
                <a:ahLst/>
                <a:rect l="l" t="t" r="r" b="b"/>
                <a:pathLst>
                  <a:path w="1053" h="15">
                    <a:moveTo>
                      <a:pt x="1053" y="15"/>
                    </a:moveTo>
                    <a:lnTo>
                      <a:pt x="553" y="15"/>
                    </a:lnTo>
                    <a:lnTo>
                      <a:pt x="549" y="0"/>
                    </a:lnTo>
                    <a:lnTo>
                      <a:pt x="1048" y="0"/>
                    </a:lnTo>
                    <a:lnTo>
                      <a:pt x="1053" y="15"/>
                    </a:lnTo>
                    <a:close/>
                    <a:moveTo>
                      <a:pt x="46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8" y="0"/>
                    </a:lnTo>
                    <a:lnTo>
                      <a:pt x="464" y="15"/>
                    </a:lnTo>
                    <a:close/>
                  </a:path>
                </a:pathLst>
              </a:cu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826440" y="11782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7" h="15">
                    <a:moveTo>
                      <a:pt x="1047" y="15"/>
                    </a:moveTo>
                    <a:lnTo>
                      <a:pt x="548" y="15"/>
                    </a:lnTo>
                    <a:lnTo>
                      <a:pt x="543" y="0"/>
                    </a:lnTo>
                    <a:lnTo>
                      <a:pt x="1042" y="0"/>
                    </a:lnTo>
                    <a:lnTo>
                      <a:pt x="1047" y="15"/>
                    </a:lnTo>
                    <a:close/>
                    <a:moveTo>
                      <a:pt x="46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3" y="15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826440" y="1174680"/>
                <a:ext cx="401400" cy="5040"/>
              </a:xfrm>
              <a:custGeom>
                <a:avLst/>
                <a:gdLst/>
                <a:ahLst/>
                <a:rect l="l" t="t" r="r" b="b"/>
                <a:pathLst>
                  <a:path w="1043" h="16">
                    <a:moveTo>
                      <a:pt x="1043" y="16"/>
                    </a:moveTo>
                    <a:lnTo>
                      <a:pt x="544" y="16"/>
                    </a:lnTo>
                    <a:lnTo>
                      <a:pt x="539" y="0"/>
                    </a:lnTo>
                    <a:lnTo>
                      <a:pt x="1038" y="0"/>
                    </a:lnTo>
                    <a:lnTo>
                      <a:pt x="1043" y="16"/>
                    </a:lnTo>
                    <a:close/>
                    <a:moveTo>
                      <a:pt x="46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8" y="0"/>
                    </a:lnTo>
                    <a:lnTo>
                      <a:pt x="463" y="16"/>
                    </a:lnTo>
                    <a:close/>
                  </a:path>
                </a:pathLst>
              </a:cu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828600" y="1173240"/>
                <a:ext cx="397440" cy="5040"/>
              </a:xfrm>
              <a:custGeom>
                <a:avLst/>
                <a:gdLst/>
                <a:ahLst/>
                <a:rect l="l" t="t" r="r" b="b"/>
                <a:pathLst>
                  <a:path w="1037" h="15">
                    <a:moveTo>
                      <a:pt x="1037" y="15"/>
                    </a:moveTo>
                    <a:lnTo>
                      <a:pt x="538" y="15"/>
                    </a:lnTo>
                    <a:lnTo>
                      <a:pt x="534" y="0"/>
                    </a:lnTo>
                    <a:lnTo>
                      <a:pt x="1033" y="0"/>
                    </a:lnTo>
                    <a:lnTo>
                      <a:pt x="1037" y="15"/>
                    </a:lnTo>
                    <a:close/>
                    <a:moveTo>
                      <a:pt x="462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7" y="0"/>
                    </a:lnTo>
                    <a:lnTo>
                      <a:pt x="462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830400" y="1169640"/>
                <a:ext cx="396000" cy="5040"/>
              </a:xfrm>
              <a:custGeom>
                <a:avLst/>
                <a:gdLst/>
                <a:ahLst/>
                <a:rect l="l" t="t" r="r" b="b"/>
                <a:pathLst>
                  <a:path w="1032" h="14">
                    <a:moveTo>
                      <a:pt x="1032" y="14"/>
                    </a:moveTo>
                    <a:lnTo>
                      <a:pt x="533" y="14"/>
                    </a:lnTo>
                    <a:lnTo>
                      <a:pt x="529" y="0"/>
                    </a:lnTo>
                    <a:lnTo>
                      <a:pt x="1026" y="0"/>
                    </a:lnTo>
                    <a:lnTo>
                      <a:pt x="1032" y="14"/>
                    </a:lnTo>
                    <a:close/>
                    <a:moveTo>
                      <a:pt x="46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7" y="0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830400" y="1167480"/>
                <a:ext cx="396000" cy="5400"/>
              </a:xfrm>
              <a:custGeom>
                <a:avLst/>
                <a:gdLst/>
                <a:ahLst/>
                <a:rect l="l" t="t" r="r" b="b"/>
                <a:pathLst>
                  <a:path w="1027" h="15">
                    <a:moveTo>
                      <a:pt x="1027" y="15"/>
                    </a:moveTo>
                    <a:lnTo>
                      <a:pt x="528" y="15"/>
                    </a:lnTo>
                    <a:lnTo>
                      <a:pt x="524" y="0"/>
                    </a:lnTo>
                    <a:lnTo>
                      <a:pt x="1021" y="0"/>
                    </a:lnTo>
                    <a:lnTo>
                      <a:pt x="1027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832560" y="1164240"/>
                <a:ext cx="391320" cy="5040"/>
              </a:xfrm>
              <a:custGeom>
                <a:avLst/>
                <a:gdLst/>
                <a:ahLst/>
                <a:rect l="l" t="t" r="r" b="b"/>
                <a:pathLst>
                  <a:path w="1021" h="16">
                    <a:moveTo>
                      <a:pt x="1021" y="16"/>
                    </a:moveTo>
                    <a:lnTo>
                      <a:pt x="524" y="16"/>
                    </a:lnTo>
                    <a:lnTo>
                      <a:pt x="518" y="0"/>
                    </a:lnTo>
                    <a:lnTo>
                      <a:pt x="1017" y="0"/>
                    </a:lnTo>
                    <a:lnTo>
                      <a:pt x="1021" y="16"/>
                    </a:lnTo>
                    <a:close/>
                    <a:moveTo>
                      <a:pt x="462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6" y="0"/>
                    </a:lnTo>
                    <a:lnTo>
                      <a:pt x="462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832560" y="1160640"/>
                <a:ext cx="389880" cy="6480"/>
              </a:xfrm>
              <a:custGeom>
                <a:avLst/>
                <a:gdLst/>
                <a:ahLst/>
                <a:rect l="l" t="t" r="r" b="b"/>
                <a:pathLst>
                  <a:path w="1016" h="16">
                    <a:moveTo>
                      <a:pt x="1016" y="16"/>
                    </a:moveTo>
                    <a:lnTo>
                      <a:pt x="519" y="16"/>
                    </a:lnTo>
                    <a:lnTo>
                      <a:pt x="513" y="0"/>
                    </a:lnTo>
                    <a:lnTo>
                      <a:pt x="1011" y="0"/>
                    </a:lnTo>
                    <a:lnTo>
                      <a:pt x="1016" y="16"/>
                    </a:lnTo>
                    <a:close/>
                    <a:moveTo>
                      <a:pt x="46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6"/>
                    </a:lnTo>
                    <a:close/>
                  </a:path>
                </a:pathLst>
              </a:cu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834360" y="1158840"/>
                <a:ext cx="388080" cy="5400"/>
              </a:xfrm>
              <a:custGeom>
                <a:avLst/>
                <a:gdLst/>
                <a:ahLst/>
                <a:rect l="l" t="t" r="r" b="b"/>
                <a:pathLst>
                  <a:path w="1012" h="15">
                    <a:moveTo>
                      <a:pt x="1012" y="15"/>
                    </a:moveTo>
                    <a:lnTo>
                      <a:pt x="513" y="15"/>
                    </a:lnTo>
                    <a:lnTo>
                      <a:pt x="509" y="0"/>
                    </a:lnTo>
                    <a:lnTo>
                      <a:pt x="1007" y="0"/>
                    </a:lnTo>
                    <a:lnTo>
                      <a:pt x="1012" y="15"/>
                    </a:lnTo>
                    <a:close/>
                    <a:moveTo>
                      <a:pt x="461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1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834360" y="1157040"/>
                <a:ext cx="385920" cy="3600"/>
              </a:xfrm>
              <a:custGeom>
                <a:avLst/>
                <a:gdLst/>
                <a:ahLst/>
                <a:rect l="l" t="t" r="r" b="b"/>
                <a:pathLst>
                  <a:path w="1006" h="14">
                    <a:moveTo>
                      <a:pt x="1006" y="14"/>
                    </a:moveTo>
                    <a:lnTo>
                      <a:pt x="508" y="14"/>
                    </a:lnTo>
                    <a:lnTo>
                      <a:pt x="504" y="0"/>
                    </a:lnTo>
                    <a:lnTo>
                      <a:pt x="1001" y="0"/>
                    </a:lnTo>
                    <a:lnTo>
                      <a:pt x="1006" y="14"/>
                    </a:lnTo>
                    <a:close/>
                    <a:moveTo>
                      <a:pt x="46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5" y="0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836160" y="1153440"/>
                <a:ext cx="384120" cy="5040"/>
              </a:xfrm>
              <a:custGeom>
                <a:avLst/>
                <a:gdLst/>
                <a:ahLst/>
                <a:rect l="l" t="t" r="r" b="b"/>
                <a:pathLst>
                  <a:path w="1002" h="15">
                    <a:moveTo>
                      <a:pt x="1002" y="15"/>
                    </a:moveTo>
                    <a:lnTo>
                      <a:pt x="504" y="15"/>
                    </a:lnTo>
                    <a:lnTo>
                      <a:pt x="500" y="0"/>
                    </a:lnTo>
                    <a:lnTo>
                      <a:pt x="997" y="0"/>
                    </a:lnTo>
                    <a:lnTo>
                      <a:pt x="1002" y="15"/>
                    </a:lnTo>
                    <a:close/>
                    <a:moveTo>
                      <a:pt x="460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5"/>
                    </a:lnTo>
                    <a:close/>
                  </a:path>
                </a:pathLst>
              </a:cu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836160" y="1149840"/>
                <a:ext cx="382320" cy="7200"/>
              </a:xfrm>
              <a:custGeom>
                <a:avLst/>
                <a:gdLst/>
                <a:ahLst/>
                <a:rect l="l" t="t" r="r" b="b"/>
                <a:pathLst>
                  <a:path w="996" h="16">
                    <a:moveTo>
                      <a:pt x="996" y="16"/>
                    </a:moveTo>
                    <a:lnTo>
                      <a:pt x="499" y="16"/>
                    </a:lnTo>
                    <a:lnTo>
                      <a:pt x="494" y="0"/>
                    </a:lnTo>
                    <a:lnTo>
                      <a:pt x="992" y="0"/>
                    </a:lnTo>
                    <a:lnTo>
                      <a:pt x="996" y="16"/>
                    </a:lnTo>
                    <a:close/>
                    <a:moveTo>
                      <a:pt x="460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465" y="0"/>
                    </a:lnTo>
                    <a:lnTo>
                      <a:pt x="460" y="16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838320" y="11484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91" h="15">
                    <a:moveTo>
                      <a:pt x="991" y="15"/>
                    </a:moveTo>
                    <a:lnTo>
                      <a:pt x="494" y="15"/>
                    </a:lnTo>
                    <a:lnTo>
                      <a:pt x="489" y="0"/>
                    </a:lnTo>
                    <a:lnTo>
                      <a:pt x="985" y="0"/>
                    </a:lnTo>
                    <a:lnTo>
                      <a:pt x="991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4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838320" y="1144800"/>
                <a:ext cx="380160" cy="5040"/>
              </a:xfrm>
              <a:custGeom>
                <a:avLst/>
                <a:gdLst/>
                <a:ahLst/>
                <a:rect l="l" t="t" r="r" b="b"/>
                <a:pathLst>
                  <a:path w="986" h="15">
                    <a:moveTo>
                      <a:pt x="986" y="15"/>
                    </a:moveTo>
                    <a:lnTo>
                      <a:pt x="488" y="15"/>
                    </a:lnTo>
                    <a:lnTo>
                      <a:pt x="484" y="0"/>
                    </a:lnTo>
                    <a:lnTo>
                      <a:pt x="980" y="0"/>
                    </a:lnTo>
                    <a:lnTo>
                      <a:pt x="986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840120" y="1143000"/>
                <a:ext cx="376560" cy="5040"/>
              </a:xfrm>
              <a:custGeom>
                <a:avLst/>
                <a:gdLst/>
                <a:ahLst/>
                <a:rect l="l" t="t" r="r" b="b"/>
                <a:pathLst>
                  <a:path w="980" h="15">
                    <a:moveTo>
                      <a:pt x="980" y="15"/>
                    </a:moveTo>
                    <a:lnTo>
                      <a:pt x="484" y="15"/>
                    </a:lnTo>
                    <a:lnTo>
                      <a:pt x="480" y="0"/>
                    </a:lnTo>
                    <a:lnTo>
                      <a:pt x="975" y="0"/>
                    </a:lnTo>
                    <a:lnTo>
                      <a:pt x="980" y="15"/>
                    </a:lnTo>
                    <a:close/>
                    <a:moveTo>
                      <a:pt x="4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9" y="15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840120" y="1141200"/>
                <a:ext cx="374400" cy="3600"/>
              </a:xfrm>
              <a:custGeom>
                <a:avLst/>
                <a:gdLst/>
                <a:ahLst/>
                <a:rect l="l" t="t" r="r" b="b"/>
                <a:pathLst>
                  <a:path w="975" h="14">
                    <a:moveTo>
                      <a:pt x="975" y="14"/>
                    </a:moveTo>
                    <a:lnTo>
                      <a:pt x="479" y="14"/>
                    </a:lnTo>
                    <a:lnTo>
                      <a:pt x="475" y="0"/>
                    </a:lnTo>
                    <a:lnTo>
                      <a:pt x="970" y="0"/>
                    </a:lnTo>
                    <a:lnTo>
                      <a:pt x="975" y="14"/>
                    </a:lnTo>
                    <a:close/>
                    <a:moveTo>
                      <a:pt x="45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4"/>
                    </a:lnTo>
                    <a:close/>
                  </a:path>
                </a:pathLst>
              </a:cu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842280" y="1137600"/>
                <a:ext cx="372240" cy="5400"/>
              </a:xfrm>
              <a:custGeom>
                <a:avLst/>
                <a:gdLst/>
                <a:ahLst/>
                <a:rect l="l" t="t" r="r" b="b"/>
                <a:pathLst>
                  <a:path w="970" h="15">
                    <a:moveTo>
                      <a:pt x="970" y="15"/>
                    </a:moveTo>
                    <a:lnTo>
                      <a:pt x="475" y="15"/>
                    </a:lnTo>
                    <a:lnTo>
                      <a:pt x="469" y="0"/>
                    </a:lnTo>
                    <a:lnTo>
                      <a:pt x="966" y="0"/>
                    </a:lnTo>
                    <a:lnTo>
                      <a:pt x="970" y="15"/>
                    </a:lnTo>
                    <a:close/>
                    <a:moveTo>
                      <a:pt x="45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463" y="0"/>
                    </a:lnTo>
                    <a:lnTo>
                      <a:pt x="458" y="15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842280" y="1134360"/>
                <a:ext cx="370440" cy="6480"/>
              </a:xfrm>
              <a:custGeom>
                <a:avLst/>
                <a:gdLst/>
                <a:ahLst/>
                <a:rect l="l" t="t" r="r" b="b"/>
                <a:pathLst>
                  <a:path w="965" h="16">
                    <a:moveTo>
                      <a:pt x="965" y="16"/>
                    </a:moveTo>
                    <a:lnTo>
                      <a:pt x="470" y="16"/>
                    </a:lnTo>
                    <a:lnTo>
                      <a:pt x="464" y="0"/>
                    </a:lnTo>
                    <a:lnTo>
                      <a:pt x="960" y="0"/>
                    </a:lnTo>
                    <a:lnTo>
                      <a:pt x="965" y="16"/>
                    </a:lnTo>
                    <a:close/>
                    <a:moveTo>
                      <a:pt x="45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462" y="0"/>
                    </a:lnTo>
                    <a:lnTo>
                      <a:pt x="458" y="16"/>
                    </a:lnTo>
                    <a:close/>
                  </a:path>
                </a:pathLst>
              </a:cu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844080" y="1132200"/>
                <a:ext cx="369000" cy="5040"/>
              </a:xfrm>
              <a:custGeom>
                <a:avLst/>
                <a:gdLst/>
                <a:ahLst/>
                <a:rect l="l" t="t" r="r" b="b"/>
                <a:pathLst>
                  <a:path w="961" h="16">
                    <a:moveTo>
                      <a:pt x="961" y="16"/>
                    </a:moveTo>
                    <a:lnTo>
                      <a:pt x="464" y="16"/>
                    </a:lnTo>
                    <a:lnTo>
                      <a:pt x="461" y="5"/>
                    </a:lnTo>
                    <a:lnTo>
                      <a:pt x="458" y="16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956" y="0"/>
                    </a:lnTo>
                    <a:lnTo>
                      <a:pt x="961" y="16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844080" y="1128600"/>
                <a:ext cx="366480" cy="5400"/>
              </a:xfrm>
              <a:custGeom>
                <a:avLst/>
                <a:gdLst/>
                <a:ahLst/>
                <a:rect l="l" t="t" r="r" b="b"/>
                <a:pathLst>
                  <a:path w="955" h="15">
                    <a:moveTo>
                      <a:pt x="955" y="15"/>
                    </a:moveTo>
                    <a:lnTo>
                      <a:pt x="459" y="15"/>
                    </a:lnTo>
                    <a:lnTo>
                      <a:pt x="458" y="12"/>
                    </a:lnTo>
                    <a:lnTo>
                      <a:pt x="457" y="15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951" y="0"/>
                    </a:lnTo>
                    <a:lnTo>
                      <a:pt x="955" y="15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846240" y="1127160"/>
                <a:ext cx="364320" cy="5040"/>
              </a:xfrm>
              <a:custGeom>
                <a:avLst/>
                <a:gdLst/>
                <a:ahLst/>
                <a:rect l="l" t="t" r="r" b="b"/>
                <a:pathLst>
                  <a:path w="949" h="14">
                    <a:moveTo>
                      <a:pt x="949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943" y="0"/>
                    </a:lnTo>
                    <a:lnTo>
                      <a:pt x="949" y="14"/>
                    </a:lnTo>
                    <a:close/>
                  </a:path>
                </a:pathLst>
              </a:cu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848040" y="1123560"/>
                <a:ext cx="362880" cy="5040"/>
              </a:xfrm>
              <a:custGeom>
                <a:avLst/>
                <a:gdLst/>
                <a:ahLst/>
                <a:rect l="l" t="t" r="r" b="b"/>
                <a:pathLst>
                  <a:path w="945" h="15">
                    <a:moveTo>
                      <a:pt x="94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39" y="0"/>
                    </a:lnTo>
                    <a:lnTo>
                      <a:pt x="945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848040" y="1121760"/>
                <a:ext cx="361080" cy="5040"/>
              </a:xfrm>
              <a:custGeom>
                <a:avLst/>
                <a:gdLst/>
                <a:ahLst/>
                <a:rect l="l" t="t" r="r" b="b"/>
                <a:pathLst>
                  <a:path w="938" h="16">
                    <a:moveTo>
                      <a:pt x="93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33" y="0"/>
                    </a:lnTo>
                    <a:lnTo>
                      <a:pt x="938" y="16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849480" y="111816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34" h="15">
                    <a:moveTo>
                      <a:pt x="9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9" y="0"/>
                    </a:lnTo>
                    <a:lnTo>
                      <a:pt x="934" y="15"/>
                    </a:lnTo>
                    <a:close/>
                  </a:path>
                </a:pathLst>
              </a:cu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849480" y="1116720"/>
                <a:ext cx="357480" cy="5040"/>
              </a:xfrm>
              <a:custGeom>
                <a:avLst/>
                <a:gdLst/>
                <a:ahLst/>
                <a:rect l="l" t="t" r="r" b="b"/>
                <a:pathLst>
                  <a:path w="928" h="15">
                    <a:moveTo>
                      <a:pt x="92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24" y="0"/>
                    </a:lnTo>
                    <a:lnTo>
                      <a:pt x="928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852000" y="1113120"/>
                <a:ext cx="353160" cy="5040"/>
              </a:xfrm>
              <a:custGeom>
                <a:avLst/>
                <a:gdLst/>
                <a:ahLst/>
                <a:rect l="l" t="t" r="r" b="b"/>
                <a:pathLst>
                  <a:path w="924" h="15">
                    <a:moveTo>
                      <a:pt x="92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919" y="0"/>
                    </a:lnTo>
                    <a:lnTo>
                      <a:pt x="924" y="15"/>
                    </a:lnTo>
                    <a:close/>
                  </a:path>
                </a:pathLst>
              </a:cu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852000" y="1110960"/>
                <a:ext cx="353160" cy="5400"/>
              </a:xfrm>
              <a:custGeom>
                <a:avLst/>
                <a:gdLst/>
                <a:ahLst/>
                <a:rect l="l" t="t" r="r" b="b"/>
                <a:pathLst>
                  <a:path w="919" h="14">
                    <a:moveTo>
                      <a:pt x="919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914" y="0"/>
                    </a:lnTo>
                    <a:lnTo>
                      <a:pt x="919" y="14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853440" y="1107360"/>
                <a:ext cx="349560" cy="5400"/>
              </a:xfrm>
              <a:custGeom>
                <a:avLst/>
                <a:gdLst/>
                <a:ahLst/>
                <a:rect l="l" t="t" r="r" b="b"/>
                <a:pathLst>
                  <a:path w="914" h="16">
                    <a:moveTo>
                      <a:pt x="914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910" y="0"/>
                    </a:lnTo>
                    <a:lnTo>
                      <a:pt x="914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853440" y="1105920"/>
                <a:ext cx="349560" cy="5040"/>
              </a:xfrm>
              <a:custGeom>
                <a:avLst/>
                <a:gdLst/>
                <a:ahLst/>
                <a:rect l="l" t="t" r="r" b="b"/>
                <a:pathLst>
                  <a:path w="908" h="16">
                    <a:moveTo>
                      <a:pt x="908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903" y="0"/>
                    </a:lnTo>
                    <a:lnTo>
                      <a:pt x="908" y="16"/>
                    </a:lnTo>
                    <a:close/>
                  </a:path>
                </a:pathLst>
              </a:cu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855600" y="1102320"/>
                <a:ext cx="347400" cy="5040"/>
              </a:xfrm>
              <a:custGeom>
                <a:avLst/>
                <a:gdLst/>
                <a:ahLst/>
                <a:rect l="l" t="t" r="r" b="b"/>
                <a:pathLst>
                  <a:path w="904" h="15">
                    <a:moveTo>
                      <a:pt x="90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8" y="0"/>
                    </a:lnTo>
                    <a:lnTo>
                      <a:pt x="904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855600" y="1100520"/>
                <a:ext cx="345240" cy="5040"/>
              </a:xfrm>
              <a:custGeom>
                <a:avLst/>
                <a:gdLst/>
                <a:ahLst/>
                <a:rect l="l" t="t" r="r" b="b"/>
                <a:pathLst>
                  <a:path w="898" h="15">
                    <a:moveTo>
                      <a:pt x="89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92" y="0"/>
                    </a:lnTo>
                    <a:lnTo>
                      <a:pt x="898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857400" y="109692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93" h="14">
                    <a:moveTo>
                      <a:pt x="89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88" y="0"/>
                    </a:lnTo>
                    <a:lnTo>
                      <a:pt x="893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857400" y="1095480"/>
                <a:ext cx="341640" cy="5040"/>
              </a:xfrm>
              <a:custGeom>
                <a:avLst/>
                <a:gdLst/>
                <a:ahLst/>
                <a:rect l="l" t="t" r="r" b="b"/>
                <a:pathLst>
                  <a:path w="887" h="16">
                    <a:moveTo>
                      <a:pt x="88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83" y="0"/>
                    </a:lnTo>
                    <a:lnTo>
                      <a:pt x="887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859200" y="1091880"/>
                <a:ext cx="338400" cy="5040"/>
              </a:xfrm>
              <a:custGeom>
                <a:avLst/>
                <a:gdLst/>
                <a:ahLst/>
                <a:rect l="l" t="t" r="r" b="b"/>
                <a:pathLst>
                  <a:path w="883" h="16">
                    <a:moveTo>
                      <a:pt x="88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78" y="0"/>
                    </a:lnTo>
                    <a:lnTo>
                      <a:pt x="883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859200" y="1089720"/>
                <a:ext cx="338400" cy="5400"/>
              </a:xfrm>
              <a:custGeom>
                <a:avLst/>
                <a:gdLst/>
                <a:ahLst/>
                <a:rect l="l" t="t" r="r" b="b"/>
                <a:pathLst>
                  <a:path w="878" h="14">
                    <a:moveTo>
                      <a:pt x="87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873" y="0"/>
                    </a:lnTo>
                    <a:lnTo>
                      <a:pt x="878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9" name=""/>
            <p:cNvGrpSpPr/>
            <p:nvPr/>
          </p:nvGrpSpPr>
          <p:grpSpPr>
            <a:xfrm>
              <a:off x="3861720" y="928800"/>
              <a:ext cx="783360" cy="679320"/>
              <a:chOff x="3861720" y="928800"/>
              <a:chExt cx="783360" cy="679320"/>
            </a:xfrm>
          </p:grpSpPr>
          <p:sp>
            <p:nvSpPr>
              <p:cNvPr id="5750" name=""/>
              <p:cNvSpPr/>
              <p:nvPr/>
            </p:nvSpPr>
            <p:spPr>
              <a:xfrm>
                <a:off x="3861720" y="1086480"/>
                <a:ext cx="334080" cy="5040"/>
              </a:xfrm>
              <a:custGeom>
                <a:avLst/>
                <a:gdLst/>
                <a:ahLst/>
                <a:rect l="l" t="t" r="r" b="b"/>
                <a:pathLst>
                  <a:path w="873" h="15">
                    <a:moveTo>
                      <a:pt x="873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69" y="0"/>
                    </a:lnTo>
                    <a:lnTo>
                      <a:pt x="873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63160" y="1084320"/>
                <a:ext cx="332280" cy="5040"/>
              </a:xfrm>
              <a:custGeom>
                <a:avLst/>
                <a:gdLst/>
                <a:ahLst/>
                <a:rect l="l" t="t" r="r" b="b"/>
                <a:pathLst>
                  <a:path w="867" h="15">
                    <a:moveTo>
                      <a:pt x="867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62" y="0"/>
                    </a:lnTo>
                    <a:lnTo>
                      <a:pt x="867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63160" y="1080720"/>
                <a:ext cx="332280" cy="5400"/>
              </a:xfrm>
              <a:custGeom>
                <a:avLst/>
                <a:gdLst/>
                <a:ahLst/>
                <a:rect l="l" t="t" r="r" b="b"/>
                <a:pathLst>
                  <a:path w="863" h="16">
                    <a:moveTo>
                      <a:pt x="86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7" y="0"/>
                    </a:lnTo>
                    <a:lnTo>
                      <a:pt x="863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65320" y="1079280"/>
                <a:ext cx="328320" cy="5040"/>
              </a:xfrm>
              <a:custGeom>
                <a:avLst/>
                <a:gdLst/>
                <a:ahLst/>
                <a:rect l="l" t="t" r="r" b="b"/>
                <a:pathLst>
                  <a:path w="857" h="16">
                    <a:moveTo>
                      <a:pt x="85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51" y="0"/>
                    </a:lnTo>
                    <a:lnTo>
                      <a:pt x="85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65320" y="1075680"/>
                <a:ext cx="326160" cy="5040"/>
              </a:xfrm>
              <a:custGeom>
                <a:avLst/>
                <a:gdLst/>
                <a:ahLst/>
                <a:rect l="l" t="t" r="r" b="b"/>
                <a:pathLst>
                  <a:path w="852" h="14">
                    <a:moveTo>
                      <a:pt x="852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47" y="0"/>
                    </a:lnTo>
                    <a:lnTo>
                      <a:pt x="852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67120" y="1073880"/>
                <a:ext cx="324360" cy="5040"/>
              </a:xfrm>
              <a:custGeom>
                <a:avLst/>
                <a:gdLst/>
                <a:ahLst/>
                <a:rect l="l" t="t" r="r" b="b"/>
                <a:pathLst>
                  <a:path w="846" h="15">
                    <a:moveTo>
                      <a:pt x="84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42" y="0"/>
                    </a:lnTo>
                    <a:lnTo>
                      <a:pt x="846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867120" y="1070280"/>
                <a:ext cx="322560" cy="5040"/>
              </a:xfrm>
              <a:custGeom>
                <a:avLst/>
                <a:gdLst/>
                <a:ahLst/>
                <a:rect l="l" t="t" r="r" b="b"/>
                <a:pathLst>
                  <a:path w="842" h="15">
                    <a:moveTo>
                      <a:pt x="8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37" y="0"/>
                    </a:lnTo>
                    <a:lnTo>
                      <a:pt x="842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868920" y="1068480"/>
                <a:ext cx="320760" cy="5400"/>
              </a:xfrm>
              <a:custGeom>
                <a:avLst/>
                <a:gdLst/>
                <a:ahLst/>
                <a:rect l="l" t="t" r="r" b="b"/>
                <a:pathLst>
                  <a:path w="837" h="15">
                    <a:moveTo>
                      <a:pt x="837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832" y="0"/>
                    </a:lnTo>
                    <a:lnTo>
                      <a:pt x="837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868920" y="1065240"/>
                <a:ext cx="318600" cy="5040"/>
              </a:xfrm>
              <a:custGeom>
                <a:avLst/>
                <a:gdLst/>
                <a:ahLst/>
                <a:rect l="l" t="t" r="r" b="b"/>
                <a:pathLst>
                  <a:path w="832" h="16">
                    <a:moveTo>
                      <a:pt x="832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827" y="0"/>
                    </a:lnTo>
                    <a:lnTo>
                      <a:pt x="832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871080" y="1063080"/>
                <a:ext cx="316440" cy="5040"/>
              </a:xfrm>
              <a:custGeom>
                <a:avLst/>
                <a:gdLst/>
                <a:ahLst/>
                <a:rect l="l" t="t" r="r" b="b"/>
                <a:pathLst>
                  <a:path w="826" h="15">
                    <a:moveTo>
                      <a:pt x="82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21" y="0"/>
                    </a:lnTo>
                    <a:lnTo>
                      <a:pt x="826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871080" y="1059480"/>
                <a:ext cx="314640" cy="5400"/>
              </a:xfrm>
              <a:custGeom>
                <a:avLst/>
                <a:gdLst/>
                <a:ahLst/>
                <a:rect l="l" t="t" r="r" b="b"/>
                <a:pathLst>
                  <a:path w="821" h="14">
                    <a:moveTo>
                      <a:pt x="821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817" y="0"/>
                    </a:lnTo>
                    <a:lnTo>
                      <a:pt x="821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872880" y="10580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6" h="15">
                    <a:moveTo>
                      <a:pt x="81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10" y="0"/>
                    </a:lnTo>
                    <a:lnTo>
                      <a:pt x="816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872880" y="1054440"/>
                <a:ext cx="312840" cy="5040"/>
              </a:xfrm>
              <a:custGeom>
                <a:avLst/>
                <a:gdLst/>
                <a:ahLst/>
                <a:rect l="l" t="t" r="r" b="b"/>
                <a:pathLst>
                  <a:path w="812" h="15">
                    <a:moveTo>
                      <a:pt x="81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806" y="0"/>
                    </a:lnTo>
                    <a:lnTo>
                      <a:pt x="812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875040" y="1050480"/>
                <a:ext cx="309240" cy="7200"/>
              </a:xfrm>
              <a:custGeom>
                <a:avLst/>
                <a:gdLst/>
                <a:ahLst/>
                <a:rect l="l" t="t" r="r" b="b"/>
                <a:pathLst>
                  <a:path w="805" h="16">
                    <a:moveTo>
                      <a:pt x="80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801" y="0"/>
                    </a:lnTo>
                    <a:lnTo>
                      <a:pt x="805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875040" y="1049040"/>
                <a:ext cx="307080" cy="5040"/>
              </a:xfrm>
              <a:custGeom>
                <a:avLst/>
                <a:gdLst/>
                <a:ahLst/>
                <a:rect l="l" t="t" r="r" b="b"/>
                <a:pathLst>
                  <a:path w="801" h="16">
                    <a:moveTo>
                      <a:pt x="801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96" y="0"/>
                    </a:lnTo>
                    <a:lnTo>
                      <a:pt x="801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876840" y="1047600"/>
                <a:ext cx="305280" cy="2880"/>
              </a:xfrm>
              <a:custGeom>
                <a:avLst/>
                <a:gdLst/>
                <a:ahLst/>
                <a:rect l="l" t="t" r="r" b="b"/>
                <a:pathLst>
                  <a:path w="796" h="14">
                    <a:moveTo>
                      <a:pt x="79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91" y="0"/>
                    </a:lnTo>
                    <a:lnTo>
                      <a:pt x="796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876840" y="1044000"/>
                <a:ext cx="303480" cy="5040"/>
              </a:xfrm>
              <a:custGeom>
                <a:avLst/>
                <a:gdLst/>
                <a:ahLst/>
                <a:rect l="l" t="t" r="r" b="b"/>
                <a:pathLst>
                  <a:path w="791" h="15">
                    <a:moveTo>
                      <a:pt x="791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786" y="0"/>
                    </a:lnTo>
                    <a:lnTo>
                      <a:pt x="791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879000" y="1041840"/>
                <a:ext cx="301320" cy="5400"/>
              </a:xfrm>
              <a:custGeom>
                <a:avLst/>
                <a:gdLst/>
                <a:ahLst/>
                <a:rect l="l" t="t" r="r" b="b"/>
                <a:pathLst>
                  <a:path w="785" h="15">
                    <a:moveTo>
                      <a:pt x="785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80" y="0"/>
                    </a:lnTo>
                    <a:lnTo>
                      <a:pt x="785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880800" y="1038240"/>
                <a:ext cx="297360" cy="5400"/>
              </a:xfrm>
              <a:custGeom>
                <a:avLst/>
                <a:gdLst/>
                <a:ahLst/>
                <a:rect l="l" t="t" r="r" b="b"/>
                <a:pathLst>
                  <a:path w="779" h="15">
                    <a:moveTo>
                      <a:pt x="7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75" y="0"/>
                    </a:lnTo>
                    <a:lnTo>
                      <a:pt x="779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880800" y="1035000"/>
                <a:ext cx="297360" cy="6480"/>
              </a:xfrm>
              <a:custGeom>
                <a:avLst/>
                <a:gdLst/>
                <a:ahLst/>
                <a:rect l="l" t="t" r="r" b="b"/>
                <a:pathLst>
                  <a:path w="775" h="16">
                    <a:moveTo>
                      <a:pt x="77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69" y="0"/>
                    </a:lnTo>
                    <a:lnTo>
                      <a:pt x="775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882600" y="1032840"/>
                <a:ext cx="295560" cy="5040"/>
              </a:xfrm>
              <a:custGeom>
                <a:avLst/>
                <a:gdLst/>
                <a:ahLst/>
                <a:rect l="l" t="t" r="r" b="b"/>
                <a:pathLst>
                  <a:path w="770" h="15">
                    <a:moveTo>
                      <a:pt x="77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64" y="0"/>
                    </a:lnTo>
                    <a:lnTo>
                      <a:pt x="770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882600" y="1031400"/>
                <a:ext cx="293760" cy="3600"/>
              </a:xfrm>
              <a:custGeom>
                <a:avLst/>
                <a:gdLst/>
                <a:ahLst/>
                <a:rect l="l" t="t" r="r" b="b"/>
                <a:pathLst>
                  <a:path w="764" h="14">
                    <a:moveTo>
                      <a:pt x="764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60" y="0"/>
                    </a:lnTo>
                    <a:lnTo>
                      <a:pt x="764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884760" y="1027800"/>
                <a:ext cx="289800" cy="5040"/>
              </a:xfrm>
              <a:custGeom>
                <a:avLst/>
                <a:gdLst/>
                <a:ahLst/>
                <a:rect l="l" t="t" r="r" b="b"/>
                <a:pathLst>
                  <a:path w="759" h="15">
                    <a:moveTo>
                      <a:pt x="75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54" y="0"/>
                    </a:lnTo>
                    <a:lnTo>
                      <a:pt x="759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884760" y="1024200"/>
                <a:ext cx="289800" cy="7200"/>
              </a:xfrm>
              <a:custGeom>
                <a:avLst/>
                <a:gdLst/>
                <a:ahLst/>
                <a:rect l="l" t="t" r="r" b="b"/>
                <a:pathLst>
                  <a:path w="755" h="16">
                    <a:moveTo>
                      <a:pt x="755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50" y="0"/>
                    </a:lnTo>
                    <a:lnTo>
                      <a:pt x="755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886200" y="10224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9" h="16">
                    <a:moveTo>
                      <a:pt x="74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744" y="0"/>
                    </a:lnTo>
                    <a:lnTo>
                      <a:pt x="749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886200" y="1018800"/>
                <a:ext cx="285840" cy="5040"/>
              </a:xfrm>
              <a:custGeom>
                <a:avLst/>
                <a:gdLst/>
                <a:ahLst/>
                <a:rect l="l" t="t" r="r" b="b"/>
                <a:pathLst>
                  <a:path w="744" h="15">
                    <a:moveTo>
                      <a:pt x="74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39" y="0"/>
                    </a:lnTo>
                    <a:lnTo>
                      <a:pt x="744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888720" y="10173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8" h="14">
                    <a:moveTo>
                      <a:pt x="738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734" y="0"/>
                    </a:lnTo>
                    <a:lnTo>
                      <a:pt x="73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888720" y="1013760"/>
                <a:ext cx="282240" cy="5040"/>
              </a:xfrm>
              <a:custGeom>
                <a:avLst/>
                <a:gdLst/>
                <a:ahLst/>
                <a:rect l="l" t="t" r="r" b="b"/>
                <a:pathLst>
                  <a:path w="734" h="15">
                    <a:moveTo>
                      <a:pt x="73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28" y="0"/>
                    </a:lnTo>
                    <a:lnTo>
                      <a:pt x="734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890160" y="1011600"/>
                <a:ext cx="280440" cy="5400"/>
              </a:xfrm>
              <a:custGeom>
                <a:avLst/>
                <a:gdLst/>
                <a:ahLst/>
                <a:rect l="l" t="t" r="r" b="b"/>
                <a:pathLst>
                  <a:path w="729" h="16">
                    <a:moveTo>
                      <a:pt x="729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723" y="0"/>
                    </a:lnTo>
                    <a:lnTo>
                      <a:pt x="729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890160" y="1008360"/>
                <a:ext cx="278280" cy="5040"/>
              </a:xfrm>
              <a:custGeom>
                <a:avLst/>
                <a:gdLst/>
                <a:ahLst/>
                <a:rect l="l" t="t" r="r" b="b"/>
                <a:pathLst>
                  <a:path w="723" h="15">
                    <a:moveTo>
                      <a:pt x="72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9" y="0"/>
                    </a:lnTo>
                    <a:lnTo>
                      <a:pt x="7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891960" y="1006560"/>
                <a:ext cx="274680" cy="5040"/>
              </a:xfrm>
              <a:custGeom>
                <a:avLst/>
                <a:gdLst/>
                <a:ahLst/>
                <a:rect l="l" t="t" r="r" b="b"/>
                <a:pathLst>
                  <a:path w="718" h="15">
                    <a:moveTo>
                      <a:pt x="71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713" y="0"/>
                    </a:lnTo>
                    <a:lnTo>
                      <a:pt x="718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891960" y="1002960"/>
                <a:ext cx="274680" cy="5400"/>
              </a:xfrm>
              <a:custGeom>
                <a:avLst/>
                <a:gdLst/>
                <a:ahLst/>
                <a:rect l="l" t="t" r="r" b="b"/>
                <a:pathLst>
                  <a:path w="714" h="15">
                    <a:moveTo>
                      <a:pt x="714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709" y="0"/>
                    </a:lnTo>
                    <a:lnTo>
                      <a:pt x="714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894120" y="10011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8" h="14">
                    <a:moveTo>
                      <a:pt x="708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703" y="0"/>
                    </a:lnTo>
                    <a:lnTo>
                      <a:pt x="70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894120" y="997560"/>
                <a:ext cx="270720" cy="5040"/>
              </a:xfrm>
              <a:custGeom>
                <a:avLst/>
                <a:gdLst/>
                <a:ahLst/>
                <a:rect l="l" t="t" r="r" b="b"/>
                <a:pathLst>
                  <a:path w="703" h="16">
                    <a:moveTo>
                      <a:pt x="703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8" y="0"/>
                    </a:lnTo>
                    <a:lnTo>
                      <a:pt x="703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895920" y="9961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7" h="16">
                    <a:moveTo>
                      <a:pt x="69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93" y="0"/>
                    </a:lnTo>
                    <a:lnTo>
                      <a:pt x="697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895920" y="992520"/>
                <a:ext cx="266760" cy="5040"/>
              </a:xfrm>
              <a:custGeom>
                <a:avLst/>
                <a:gdLst/>
                <a:ahLst/>
                <a:rect l="l" t="t" r="r" b="b"/>
                <a:pathLst>
                  <a:path w="693" h="15">
                    <a:moveTo>
                      <a:pt x="693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8" y="0"/>
                    </a:lnTo>
                    <a:lnTo>
                      <a:pt x="693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898080" y="990360"/>
                <a:ext cx="264600" cy="5400"/>
              </a:xfrm>
              <a:custGeom>
                <a:avLst/>
                <a:gdLst/>
                <a:ahLst/>
                <a:rect l="l" t="t" r="r" b="b"/>
                <a:pathLst>
                  <a:path w="688" h="15">
                    <a:moveTo>
                      <a:pt x="688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82" y="0"/>
                    </a:lnTo>
                    <a:lnTo>
                      <a:pt x="688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898080" y="987120"/>
                <a:ext cx="262800" cy="5040"/>
              </a:xfrm>
              <a:custGeom>
                <a:avLst/>
                <a:gdLst/>
                <a:ahLst/>
                <a:rect l="l" t="t" r="r" b="b"/>
                <a:pathLst>
                  <a:path w="683" h="14">
                    <a:moveTo>
                      <a:pt x="683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78" y="0"/>
                    </a:lnTo>
                    <a:lnTo>
                      <a:pt x="683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899880" y="985320"/>
                <a:ext cx="258840" cy="5040"/>
              </a:xfrm>
              <a:custGeom>
                <a:avLst/>
                <a:gdLst/>
                <a:ahLst/>
                <a:rect l="l" t="t" r="r" b="b"/>
                <a:pathLst>
                  <a:path w="677" h="16">
                    <a:moveTo>
                      <a:pt x="67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72" y="0"/>
                    </a:lnTo>
                    <a:lnTo>
                      <a:pt x="677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899880" y="981720"/>
                <a:ext cx="258840" cy="5400"/>
              </a:xfrm>
              <a:custGeom>
                <a:avLst/>
                <a:gdLst/>
                <a:ahLst/>
                <a:rect l="l" t="t" r="r" b="b"/>
                <a:pathLst>
                  <a:path w="673" h="16">
                    <a:moveTo>
                      <a:pt x="673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668" y="0"/>
                    </a:lnTo>
                    <a:lnTo>
                      <a:pt x="673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901680" y="979920"/>
                <a:ext cx="255600" cy="5040"/>
              </a:xfrm>
              <a:custGeom>
                <a:avLst/>
                <a:gdLst/>
                <a:ahLst/>
                <a:rect l="l" t="t" r="r" b="b"/>
                <a:pathLst>
                  <a:path w="667" h="14">
                    <a:moveTo>
                      <a:pt x="667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62" y="0"/>
                    </a:lnTo>
                    <a:lnTo>
                      <a:pt x="667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903840" y="976320"/>
                <a:ext cx="253440" cy="5040"/>
              </a:xfrm>
              <a:custGeom>
                <a:avLst/>
                <a:gdLst/>
                <a:ahLst/>
                <a:rect l="l" t="t" r="r" b="b"/>
                <a:pathLst>
                  <a:path w="662" h="15">
                    <a:moveTo>
                      <a:pt x="66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7" y="0"/>
                    </a:lnTo>
                    <a:lnTo>
                      <a:pt x="662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903840" y="974880"/>
                <a:ext cx="251640" cy="5040"/>
              </a:xfrm>
              <a:custGeom>
                <a:avLst/>
                <a:gdLst/>
                <a:ahLst/>
                <a:rect l="l" t="t" r="r" b="b"/>
                <a:pathLst>
                  <a:path w="656" h="15">
                    <a:moveTo>
                      <a:pt x="65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52" y="0"/>
                    </a:lnTo>
                    <a:lnTo>
                      <a:pt x="656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905640" y="9712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52" h="15">
                    <a:moveTo>
                      <a:pt x="65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47" y="0"/>
                    </a:lnTo>
                    <a:lnTo>
                      <a:pt x="65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905640" y="969480"/>
                <a:ext cx="249840" cy="5040"/>
              </a:xfrm>
              <a:custGeom>
                <a:avLst/>
                <a:gdLst/>
                <a:ahLst/>
                <a:rect l="l" t="t" r="r" b="b"/>
                <a:pathLst>
                  <a:path w="647" h="16">
                    <a:moveTo>
                      <a:pt x="647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41" y="0"/>
                    </a:lnTo>
                    <a:lnTo>
                      <a:pt x="647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907800" y="965880"/>
                <a:ext cx="245520" cy="5040"/>
              </a:xfrm>
              <a:custGeom>
                <a:avLst/>
                <a:gdLst/>
                <a:ahLst/>
                <a:rect l="l" t="t" r="r" b="b"/>
                <a:pathLst>
                  <a:path w="642" h="15">
                    <a:moveTo>
                      <a:pt x="642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7" y="0"/>
                    </a:lnTo>
                    <a:lnTo>
                      <a:pt x="642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907800" y="964080"/>
                <a:ext cx="243720" cy="5400"/>
              </a:xfrm>
              <a:custGeom>
                <a:avLst/>
                <a:gdLst/>
                <a:ahLst/>
                <a:rect l="l" t="t" r="r" b="b"/>
                <a:pathLst>
                  <a:path w="636" h="15">
                    <a:moveTo>
                      <a:pt x="63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31" y="0"/>
                    </a:lnTo>
                    <a:lnTo>
                      <a:pt x="63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909600" y="960480"/>
                <a:ext cx="241920" cy="5400"/>
              </a:xfrm>
              <a:custGeom>
                <a:avLst/>
                <a:gdLst/>
                <a:ahLst/>
                <a:rect l="l" t="t" r="r" b="b"/>
                <a:pathLst>
                  <a:path w="632" h="15">
                    <a:moveTo>
                      <a:pt x="632" y="15"/>
                    </a:moveTo>
                    <a:lnTo>
                      <a:pt x="0" y="15"/>
                    </a:lnTo>
                    <a:lnTo>
                      <a:pt x="7" y="0"/>
                    </a:lnTo>
                    <a:lnTo>
                      <a:pt x="627" y="0"/>
                    </a:lnTo>
                    <a:lnTo>
                      <a:pt x="632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909600" y="958680"/>
                <a:ext cx="239760" cy="5040"/>
              </a:xfrm>
              <a:custGeom>
                <a:avLst/>
                <a:gdLst/>
                <a:ahLst/>
                <a:rect l="l" t="t" r="r" b="b"/>
                <a:pathLst>
                  <a:path w="626" h="14">
                    <a:moveTo>
                      <a:pt x="626" y="14"/>
                    </a:moveTo>
                    <a:lnTo>
                      <a:pt x="0" y="14"/>
                    </a:lnTo>
                    <a:lnTo>
                      <a:pt x="6" y="0"/>
                    </a:lnTo>
                    <a:lnTo>
                      <a:pt x="621" y="0"/>
                    </a:lnTo>
                    <a:lnTo>
                      <a:pt x="626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911040" y="955080"/>
                <a:ext cx="237960" cy="5040"/>
              </a:xfrm>
              <a:custGeom>
                <a:avLst/>
                <a:gdLst/>
                <a:ahLst/>
                <a:rect l="l" t="t" r="r" b="b"/>
                <a:pathLst>
                  <a:path w="620" h="16">
                    <a:moveTo>
                      <a:pt x="620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5" y="0"/>
                    </a:lnTo>
                    <a:lnTo>
                      <a:pt x="62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911040" y="953640"/>
                <a:ext cx="236520" cy="5040"/>
              </a:xfrm>
              <a:custGeom>
                <a:avLst/>
                <a:gdLst/>
                <a:ahLst/>
                <a:rect l="l" t="t" r="r" b="b"/>
                <a:pathLst>
                  <a:path w="615" h="16">
                    <a:moveTo>
                      <a:pt x="615" y="16"/>
                    </a:moveTo>
                    <a:lnTo>
                      <a:pt x="0" y="16"/>
                    </a:lnTo>
                    <a:lnTo>
                      <a:pt x="5" y="0"/>
                    </a:lnTo>
                    <a:lnTo>
                      <a:pt x="611" y="0"/>
                    </a:lnTo>
                    <a:lnTo>
                      <a:pt x="615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913200" y="9500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10" h="14">
                    <a:moveTo>
                      <a:pt x="610" y="14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605" y="0"/>
                    </a:lnTo>
                    <a:lnTo>
                      <a:pt x="610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913200" y="948240"/>
                <a:ext cx="234000" cy="5040"/>
              </a:xfrm>
              <a:custGeom>
                <a:avLst/>
                <a:gdLst/>
                <a:ahLst/>
                <a:rect l="l" t="t" r="r" b="b"/>
                <a:pathLst>
                  <a:path w="606" h="15">
                    <a:moveTo>
                      <a:pt x="60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601" y="0"/>
                    </a:lnTo>
                    <a:lnTo>
                      <a:pt x="60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915000" y="944640"/>
                <a:ext cx="230400" cy="5040"/>
              </a:xfrm>
              <a:custGeom>
                <a:avLst/>
                <a:gdLst/>
                <a:ahLst/>
                <a:rect l="l" t="t" r="r" b="b"/>
                <a:pathLst>
                  <a:path w="600" h="15">
                    <a:moveTo>
                      <a:pt x="600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4" y="0"/>
                    </a:lnTo>
                    <a:lnTo>
                      <a:pt x="600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915000" y="942840"/>
                <a:ext cx="230400" cy="5400"/>
              </a:xfrm>
              <a:custGeom>
                <a:avLst/>
                <a:gdLst/>
                <a:ahLst/>
                <a:rect l="l" t="t" r="r" b="b"/>
                <a:pathLst>
                  <a:path w="596" h="15">
                    <a:moveTo>
                      <a:pt x="596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90" y="0"/>
                    </a:lnTo>
                    <a:lnTo>
                      <a:pt x="59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917160" y="939600"/>
                <a:ext cx="226440" cy="5040"/>
              </a:xfrm>
              <a:custGeom>
                <a:avLst/>
                <a:gdLst/>
                <a:ahLst/>
                <a:rect l="l" t="t" r="r" b="b"/>
                <a:pathLst>
                  <a:path w="589" h="16">
                    <a:moveTo>
                      <a:pt x="589" y="16"/>
                    </a:moveTo>
                    <a:lnTo>
                      <a:pt x="0" y="16"/>
                    </a:lnTo>
                    <a:lnTo>
                      <a:pt x="6" y="0"/>
                    </a:lnTo>
                    <a:lnTo>
                      <a:pt x="585" y="0"/>
                    </a:lnTo>
                    <a:lnTo>
                      <a:pt x="589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917160" y="937440"/>
                <a:ext cx="224640" cy="5040"/>
              </a:xfrm>
              <a:custGeom>
                <a:avLst/>
                <a:gdLst/>
                <a:ahLst/>
                <a:rect l="l" t="t" r="r" b="b"/>
                <a:pathLst>
                  <a:path w="585" h="15">
                    <a:moveTo>
                      <a:pt x="585" y="15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580" y="0"/>
                    </a:lnTo>
                    <a:lnTo>
                      <a:pt x="585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918960" y="933840"/>
                <a:ext cx="222840" cy="5400"/>
              </a:xfrm>
              <a:custGeom>
                <a:avLst/>
                <a:gdLst/>
                <a:ahLst/>
                <a:rect l="l" t="t" r="r" b="b"/>
                <a:pathLst>
                  <a:path w="579" h="15">
                    <a:moveTo>
                      <a:pt x="579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4" y="0"/>
                    </a:lnTo>
                    <a:lnTo>
                      <a:pt x="579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921120" y="9324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74" h="15">
                    <a:moveTo>
                      <a:pt x="574" y="15"/>
                    </a:moveTo>
                    <a:lnTo>
                      <a:pt x="0" y="15"/>
                    </a:lnTo>
                    <a:lnTo>
                      <a:pt x="5" y="0"/>
                    </a:lnTo>
                    <a:lnTo>
                      <a:pt x="570" y="0"/>
                    </a:lnTo>
                    <a:lnTo>
                      <a:pt x="574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921120" y="928800"/>
                <a:ext cx="218520" cy="5040"/>
              </a:xfrm>
              <a:custGeom>
                <a:avLst/>
                <a:gdLst/>
                <a:ahLst/>
                <a:rect l="l" t="t" r="r" b="b"/>
                <a:pathLst>
                  <a:path w="569" h="13">
                    <a:moveTo>
                      <a:pt x="569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65" y="0"/>
                    </a:lnTo>
                    <a:lnTo>
                      <a:pt x="569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922920" y="928800"/>
                <a:ext cx="216720" cy="3600"/>
              </a:xfrm>
              <a:custGeom>
                <a:avLst/>
                <a:gdLst/>
                <a:ahLst/>
                <a:rect l="l" t="t" r="r" b="b"/>
                <a:pathLst>
                  <a:path w="565" h="6">
                    <a:moveTo>
                      <a:pt x="565" y="6"/>
                    </a:moveTo>
                    <a:lnTo>
                      <a:pt x="0" y="6"/>
                    </a:lnTo>
                    <a:lnTo>
                      <a:pt x="2" y="0"/>
                    </a:lnTo>
                    <a:lnTo>
                      <a:pt x="563" y="0"/>
                    </a:lnTo>
                    <a:lnTo>
                      <a:pt x="565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4455000" y="1604880"/>
                <a:ext cx="19008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4455000" y="16030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55000" y="1599480"/>
                <a:ext cx="19008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455000" y="1597680"/>
                <a:ext cx="19008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4455000" y="159408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455000" y="15926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455000" y="1589040"/>
                <a:ext cx="19008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4455000" y="1586880"/>
                <a:ext cx="19008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4455000" y="1583640"/>
                <a:ext cx="19008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4455000" y="15818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455000" y="1578240"/>
                <a:ext cx="19008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455000" y="1576440"/>
                <a:ext cx="19008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455000" y="157284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455000" y="1571400"/>
                <a:ext cx="19008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455000" y="15678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455000" y="15660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455000" y="1562400"/>
                <a:ext cx="19008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455000" y="1560600"/>
                <a:ext cx="19008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455000" y="1557360"/>
                <a:ext cx="19008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455000" y="155520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455000" y="1551600"/>
                <a:ext cx="19008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455000" y="1550160"/>
                <a:ext cx="19008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455000" y="15465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455000" y="1544760"/>
                <a:ext cx="19008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455000" y="154116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455000" y="1539360"/>
                <a:ext cx="19008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455000" y="1536120"/>
                <a:ext cx="19008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455000" y="153396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455000" y="1530360"/>
                <a:ext cx="19008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455000" y="1528920"/>
                <a:ext cx="19008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455000" y="15253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455000" y="1523520"/>
                <a:ext cx="19008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455000" y="151992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455000" y="15184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455000" y="1514880"/>
                <a:ext cx="19008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455000" y="15127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455000" y="1509120"/>
                <a:ext cx="19008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455000" y="1505880"/>
                <a:ext cx="19008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455000" y="1503720"/>
                <a:ext cx="19008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455000" y="1502280"/>
                <a:ext cx="19008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455000" y="1498680"/>
                <a:ext cx="19008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455000" y="1495080"/>
                <a:ext cx="19008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455000" y="14932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455000" y="148968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455000" y="1488240"/>
                <a:ext cx="19008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455000" y="1484640"/>
                <a:ext cx="19008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4455000" y="1482480"/>
                <a:ext cx="19008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4455000" y="14792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4455000" y="1477440"/>
                <a:ext cx="19008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455000" y="1473840"/>
                <a:ext cx="19008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4455000" y="14720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4455000" y="1468440"/>
                <a:ext cx="19008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455000" y="14670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4455000" y="1463400"/>
                <a:ext cx="19008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455000" y="1461240"/>
                <a:ext cx="19008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4455000" y="14580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4455000" y="1456200"/>
                <a:ext cx="19008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4455000" y="1452600"/>
                <a:ext cx="19008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4455000" y="14508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4455000" y="1447200"/>
                <a:ext cx="19008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455000" y="14457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455000" y="1442160"/>
                <a:ext cx="19008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4455000" y="1440000"/>
                <a:ext cx="19008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4455000" y="14367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455000" y="1434960"/>
                <a:ext cx="19008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4455000" y="1431360"/>
                <a:ext cx="19008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4455000" y="14295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4455000" y="1425960"/>
                <a:ext cx="19008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4455000" y="14245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4455000" y="1420920"/>
                <a:ext cx="19008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4455000" y="14191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4455000" y="1415520"/>
                <a:ext cx="19008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4455000" y="1413720"/>
                <a:ext cx="19008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4455000" y="141048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4455000" y="1408320"/>
                <a:ext cx="19008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4455000" y="1404720"/>
                <a:ext cx="19008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455000" y="14032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4455000" y="1399680"/>
                <a:ext cx="19008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4455000" y="1395720"/>
                <a:ext cx="19008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4455000" y="1394280"/>
                <a:ext cx="19008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4455000" y="1392120"/>
                <a:ext cx="19008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4455000" y="138924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4455000" y="1387080"/>
                <a:ext cx="19008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455000" y="1383480"/>
                <a:ext cx="19008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4455000" y="1380240"/>
                <a:ext cx="19008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4455000" y="1378080"/>
                <a:ext cx="19008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455000" y="1376640"/>
                <a:ext cx="19008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455000" y="1373040"/>
                <a:ext cx="19008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55000" y="1369440"/>
                <a:ext cx="19008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455000" y="13676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455000" y="1364040"/>
                <a:ext cx="19008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4455000" y="1362240"/>
                <a:ext cx="19008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455000" y="1359000"/>
                <a:ext cx="19008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455000" y="135684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455000" y="1353240"/>
                <a:ext cx="19008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455000" y="1351800"/>
                <a:ext cx="19008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4455000" y="13482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4455000" y="1346400"/>
                <a:ext cx="19008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4455000" y="134280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4455000" y="13413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4455000" y="1337760"/>
                <a:ext cx="19008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4455000" y="13356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455000" y="1332000"/>
                <a:ext cx="19008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4455000" y="13305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4455000" y="13269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4455000" y="1325160"/>
                <a:ext cx="19008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4455000" y="132156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4455000" y="13201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4455000" y="1316520"/>
                <a:ext cx="19008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4455000" y="1314360"/>
                <a:ext cx="19008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4455000" y="1311120"/>
                <a:ext cx="19008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4455000" y="13093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4455000" y="1305720"/>
                <a:ext cx="19008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4455000" y="1303920"/>
                <a:ext cx="19008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4455000" y="130032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4455000" y="1298880"/>
                <a:ext cx="19008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455000" y="12952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4455000" y="1293120"/>
                <a:ext cx="19008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4455000" y="1289880"/>
                <a:ext cx="19008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455000" y="1288080"/>
                <a:ext cx="19008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4455000" y="1284120"/>
                <a:ext cx="19008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4455000" y="12826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4455000" y="127908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4455000" y="1277640"/>
                <a:ext cx="19008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4455000" y="1273680"/>
                <a:ext cx="19008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4455000" y="1270080"/>
                <a:ext cx="19008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4455000" y="126864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4455000" y="1266480"/>
                <a:ext cx="19008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4455000" y="1263600"/>
                <a:ext cx="19008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4455000" y="1259640"/>
                <a:ext cx="19008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4455000" y="12578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4455000" y="1254240"/>
                <a:ext cx="19008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4455000" y="12524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4455000" y="1248840"/>
                <a:ext cx="19008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4455000" y="12474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4455000" y="12438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4455000" y="1242000"/>
                <a:ext cx="19008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4455000" y="1238400"/>
                <a:ext cx="19008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4455000" y="1236600"/>
                <a:ext cx="19008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0" name=""/>
            <p:cNvGrpSpPr/>
            <p:nvPr/>
          </p:nvGrpSpPr>
          <p:grpSpPr>
            <a:xfrm>
              <a:off x="4455360" y="928800"/>
              <a:ext cx="604800" cy="679320"/>
              <a:chOff x="4455360" y="928800"/>
              <a:chExt cx="604800" cy="679320"/>
            </a:xfrm>
          </p:grpSpPr>
          <p:sp>
            <p:nvSpPr>
              <p:cNvPr id="5951" name=""/>
              <p:cNvSpPr/>
              <p:nvPr/>
            </p:nvSpPr>
            <p:spPr>
              <a:xfrm>
                <a:off x="4455360" y="123336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4455360" y="1231200"/>
                <a:ext cx="19008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455360" y="1227600"/>
                <a:ext cx="19008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455360" y="12261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455360" y="1222560"/>
                <a:ext cx="19008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4455360" y="12207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4455360" y="1217160"/>
                <a:ext cx="19008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455360" y="1215360"/>
                <a:ext cx="19008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455360" y="121212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55360" y="1209960"/>
                <a:ext cx="19008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55360" y="1206360"/>
                <a:ext cx="19008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55360" y="12049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455360" y="1201320"/>
                <a:ext cx="19008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455360" y="11995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4455360" y="1195920"/>
                <a:ext cx="19008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4455360" y="11944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455360" y="1190880"/>
                <a:ext cx="19008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455360" y="1188720"/>
                <a:ext cx="19008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455360" y="1185120"/>
                <a:ext cx="19008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455360" y="11836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55360" y="1180080"/>
                <a:ext cx="19008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55360" y="11782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455360" y="1174680"/>
                <a:ext cx="19008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4455360" y="11732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455360" y="1169640"/>
                <a:ext cx="19008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4455360" y="1167480"/>
                <a:ext cx="19008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4455360" y="1164240"/>
                <a:ext cx="19008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455360" y="1160640"/>
                <a:ext cx="19008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4455360" y="1158480"/>
                <a:ext cx="19008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455360" y="1157040"/>
                <a:ext cx="19008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4455360" y="1153440"/>
                <a:ext cx="19008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455360" y="1149840"/>
                <a:ext cx="19008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4455360" y="1148040"/>
                <a:ext cx="19008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4455360" y="114444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455360" y="1143000"/>
                <a:ext cx="19008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4455360" y="1140840"/>
                <a:ext cx="19008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455360" y="1137240"/>
                <a:ext cx="19008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4455360" y="1134000"/>
                <a:ext cx="19008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4455360" y="11322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455360" y="1128600"/>
                <a:ext cx="19008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455360" y="1126800"/>
                <a:ext cx="19008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4455360" y="112320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4455360" y="11217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455360" y="1118160"/>
                <a:ext cx="19008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455360" y="11163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455360" y="1112760"/>
                <a:ext cx="19008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455360" y="11109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455360" y="1107360"/>
                <a:ext cx="19008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4455360" y="1105560"/>
                <a:ext cx="19008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4455360" y="110196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4455360" y="1100520"/>
                <a:ext cx="19008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4455360" y="10969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4455360" y="10951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455360" y="1091520"/>
                <a:ext cx="19008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4455360" y="1089720"/>
                <a:ext cx="19008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4455360" y="1086480"/>
                <a:ext cx="19008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4455360" y="108432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4455360" y="1080720"/>
                <a:ext cx="19008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4455360" y="1079280"/>
                <a:ext cx="19008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4455360" y="10756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4455360" y="1073880"/>
                <a:ext cx="19008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4455360" y="107028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4455360" y="1068480"/>
                <a:ext cx="19008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4455360" y="1065240"/>
                <a:ext cx="19008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455360" y="1063080"/>
                <a:ext cx="19008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4455360" y="1059480"/>
                <a:ext cx="19008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4455360" y="10580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4455360" y="1054440"/>
                <a:ext cx="19008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455360" y="1050480"/>
                <a:ext cx="19008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4455360" y="104904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4455360" y="1047600"/>
                <a:ext cx="19008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455360" y="1044000"/>
                <a:ext cx="19008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455360" y="10418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455360" y="1038240"/>
                <a:ext cx="19008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455360" y="1035000"/>
                <a:ext cx="19008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455360" y="1032840"/>
                <a:ext cx="19008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455360" y="1031400"/>
                <a:ext cx="19008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455360" y="1027800"/>
                <a:ext cx="19008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455360" y="1024200"/>
                <a:ext cx="19008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4455360" y="10224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4455360" y="101880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4455360" y="1017360"/>
                <a:ext cx="19008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4455360" y="1013760"/>
                <a:ext cx="19008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4455360" y="1011600"/>
                <a:ext cx="19008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4455360" y="10083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4455360" y="1006560"/>
                <a:ext cx="19008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4455360" y="1002960"/>
                <a:ext cx="19008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4455360" y="10011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4455360" y="997560"/>
                <a:ext cx="19008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4455360" y="9961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4455360" y="992520"/>
                <a:ext cx="19008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4455360" y="990360"/>
                <a:ext cx="19008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4455360" y="9871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4455360" y="985320"/>
                <a:ext cx="19008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4455360" y="981720"/>
                <a:ext cx="19008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4455360" y="9799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455360" y="976320"/>
                <a:ext cx="19008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455360" y="9748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455360" y="9712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4455360" y="969480"/>
                <a:ext cx="19008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455360" y="965880"/>
                <a:ext cx="190080" cy="504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4455360" y="964080"/>
                <a:ext cx="190080" cy="5400"/>
              </a:xfrm>
              <a:prstGeom prst="rect">
                <a:avLst/>
              </a:pr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4455360" y="960480"/>
                <a:ext cx="190080" cy="540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4455360" y="9586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455360" y="955080"/>
                <a:ext cx="190080" cy="5040"/>
              </a:xfrm>
              <a:prstGeom prst="rect">
                <a:avLst/>
              </a:pr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4455360" y="9536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4455360" y="950040"/>
                <a:ext cx="190080" cy="5040"/>
              </a:xfrm>
              <a:prstGeom prst="rect">
                <a:avLst/>
              </a:pr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4455360" y="9482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4455360" y="944640"/>
                <a:ext cx="190080" cy="504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455360" y="942840"/>
                <a:ext cx="190080" cy="5400"/>
              </a:xfrm>
              <a:prstGeom prst="rect">
                <a:avLst/>
              </a:pr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4455360" y="93960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455360" y="937440"/>
                <a:ext cx="190080" cy="5040"/>
              </a:xfrm>
              <a:prstGeom prst="rect">
                <a:avLst/>
              </a:pr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455360" y="933840"/>
                <a:ext cx="190080" cy="540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455360" y="9324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455360" y="928800"/>
                <a:ext cx="190080" cy="5040"/>
              </a:xfrm>
              <a:prstGeom prst="rect">
                <a:avLst/>
              </a:pr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4455360" y="928800"/>
                <a:ext cx="190080" cy="3600"/>
              </a:xfrm>
              <a:prstGeom prst="rect">
                <a:avLst/>
              </a:pr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868640" y="1604880"/>
                <a:ext cx="19152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4868640" y="16030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868640" y="1599480"/>
                <a:ext cx="19152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4868640" y="1597680"/>
                <a:ext cx="19152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4868640" y="159408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4868640" y="15926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4868640" y="1589040"/>
                <a:ext cx="19152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4868640" y="1586880"/>
                <a:ext cx="19152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868640" y="1583640"/>
                <a:ext cx="19152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4868640" y="15818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4868640" y="1578240"/>
                <a:ext cx="19152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4868640" y="1576440"/>
                <a:ext cx="19152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4868640" y="157284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4868640" y="1571400"/>
                <a:ext cx="19152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4868640" y="15678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4868640" y="15660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4868640" y="1562400"/>
                <a:ext cx="19152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4868640" y="1560600"/>
                <a:ext cx="19152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4868640" y="1557360"/>
                <a:ext cx="19152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4868640" y="155520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4868640" y="1551600"/>
                <a:ext cx="19152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868640" y="1550160"/>
                <a:ext cx="19152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868640" y="15465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68640" y="1544760"/>
                <a:ext cx="19152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868640" y="154116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868640" y="1539360"/>
                <a:ext cx="19152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868640" y="1536120"/>
                <a:ext cx="19152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868640" y="153396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868640" y="1530360"/>
                <a:ext cx="19152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868640" y="1528920"/>
                <a:ext cx="19152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868640" y="15253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868640" y="1523520"/>
                <a:ext cx="19152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868640" y="151992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868640" y="15184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868640" y="1514880"/>
                <a:ext cx="19152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868640" y="15127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868640" y="1509120"/>
                <a:ext cx="19152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4868640" y="1505880"/>
                <a:ext cx="19152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868640" y="1503720"/>
                <a:ext cx="19152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4868640" y="1502280"/>
                <a:ext cx="19152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4868640" y="1498680"/>
                <a:ext cx="19152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4868640" y="1495080"/>
                <a:ext cx="19152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868640" y="14932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4868640" y="148968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4868640" y="1488240"/>
                <a:ext cx="19152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4868640" y="1484640"/>
                <a:ext cx="19152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4868640" y="1482480"/>
                <a:ext cx="19152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4868640" y="14792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4868640" y="1477440"/>
                <a:ext cx="19152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4868640" y="1473840"/>
                <a:ext cx="19152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4868640" y="14720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4868640" y="1468440"/>
                <a:ext cx="19152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4868640" y="14670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4868640" y="1463400"/>
                <a:ext cx="19152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4868640" y="1461240"/>
                <a:ext cx="19152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868640" y="14580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868640" y="1456200"/>
                <a:ext cx="19152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868640" y="1452600"/>
                <a:ext cx="19152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868640" y="14508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868640" y="1447200"/>
                <a:ext cx="19152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868640" y="14457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4868640" y="1442160"/>
                <a:ext cx="19152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868640" y="1440000"/>
                <a:ext cx="19152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868640" y="14367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868640" y="1434960"/>
                <a:ext cx="19152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868640" y="1431360"/>
                <a:ext cx="19152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868640" y="14295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868640" y="1425960"/>
                <a:ext cx="191520" cy="504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868640" y="14245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868640" y="1420920"/>
                <a:ext cx="191520" cy="5040"/>
              </a:xfrm>
              <a:prstGeom prst="rect">
                <a:avLst/>
              </a:prstGeom>
              <a:solidFill>
                <a:srgbClr val="e36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868640" y="14191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868640" y="1415520"/>
                <a:ext cx="191520" cy="504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868640" y="1413720"/>
                <a:ext cx="191520" cy="5400"/>
              </a:xfrm>
              <a:prstGeom prst="rect">
                <a:avLst/>
              </a:prstGeom>
              <a:solidFill>
                <a:srgbClr val="e465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868640" y="141048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868640" y="1408320"/>
                <a:ext cx="191520" cy="5040"/>
              </a:xfrm>
              <a:prstGeom prst="rect">
                <a:avLst/>
              </a:prstGeom>
              <a:solidFill>
                <a:srgbClr val="e466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868640" y="1404720"/>
                <a:ext cx="191520" cy="540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868640" y="14032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868640" y="1399680"/>
                <a:ext cx="191520" cy="5040"/>
              </a:xfrm>
              <a:prstGeom prst="rect">
                <a:avLst/>
              </a:prstGeom>
              <a:solidFill>
                <a:srgbClr val="e469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868640" y="1395720"/>
                <a:ext cx="191520" cy="72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868640" y="1394280"/>
                <a:ext cx="191520" cy="504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68640" y="1392120"/>
                <a:ext cx="191520" cy="36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868640" y="138924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868640" y="1387080"/>
                <a:ext cx="19152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868640" y="1383480"/>
                <a:ext cx="19152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1" name=""/>
            <p:cNvGrpSpPr/>
            <p:nvPr/>
          </p:nvGrpSpPr>
          <p:grpSpPr>
            <a:xfrm>
              <a:off x="4720680" y="928800"/>
              <a:ext cx="627840" cy="679320"/>
              <a:chOff x="4720680" y="928800"/>
              <a:chExt cx="627840" cy="679320"/>
            </a:xfrm>
          </p:grpSpPr>
          <p:sp>
            <p:nvSpPr>
              <p:cNvPr id="6152" name=""/>
              <p:cNvSpPr/>
              <p:nvPr/>
            </p:nvSpPr>
            <p:spPr>
              <a:xfrm>
                <a:off x="4868640" y="1380240"/>
                <a:ext cx="19152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868640" y="1378080"/>
                <a:ext cx="19152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868640" y="1376640"/>
                <a:ext cx="19152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868640" y="1373040"/>
                <a:ext cx="19152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868640" y="1369440"/>
                <a:ext cx="19152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868640" y="13676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4868640" y="1364040"/>
                <a:ext cx="19152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868640" y="1362240"/>
                <a:ext cx="19152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4868640" y="1359000"/>
                <a:ext cx="19152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868640" y="135684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4868640" y="1353240"/>
                <a:ext cx="19152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868640" y="1351800"/>
                <a:ext cx="19152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4868640" y="13482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4868640" y="1346400"/>
                <a:ext cx="19152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868640" y="134280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868640" y="13413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868640" y="1337760"/>
                <a:ext cx="19152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4868640" y="13356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868640" y="1332000"/>
                <a:ext cx="19152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4868640" y="13305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868640" y="13269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4868640" y="1325160"/>
                <a:ext cx="19152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4868640" y="132156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4868640" y="13201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4868640" y="1316520"/>
                <a:ext cx="19152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4868640" y="1314360"/>
                <a:ext cx="19152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4868640" y="1311120"/>
                <a:ext cx="19152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4868640" y="13093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4868640" y="1305720"/>
                <a:ext cx="19152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868640" y="1303920"/>
                <a:ext cx="19152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868640" y="130032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868640" y="1298880"/>
                <a:ext cx="19152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4868640" y="12952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868640" y="1293120"/>
                <a:ext cx="19152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4868640" y="1289880"/>
                <a:ext cx="19152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4868640" y="1288080"/>
                <a:ext cx="19152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4868640" y="1284120"/>
                <a:ext cx="19152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4868640" y="12826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868640" y="127908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868640" y="1277640"/>
                <a:ext cx="19152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868640" y="1273680"/>
                <a:ext cx="19152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868640" y="1270080"/>
                <a:ext cx="19152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4868640" y="126864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4868640" y="1266480"/>
                <a:ext cx="19152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868640" y="1263600"/>
                <a:ext cx="19152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868640" y="1259640"/>
                <a:ext cx="19152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868640" y="12578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4868640" y="1254240"/>
                <a:ext cx="19152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4868640" y="12524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868640" y="1248840"/>
                <a:ext cx="19152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868640" y="12474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868640" y="12438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868640" y="1242000"/>
                <a:ext cx="19152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868640" y="1238400"/>
                <a:ext cx="19152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868640" y="1236600"/>
                <a:ext cx="19152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868640" y="123336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868640" y="1231200"/>
                <a:ext cx="19152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868640" y="1227600"/>
                <a:ext cx="19152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4868640" y="12261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4868640" y="1222560"/>
                <a:ext cx="19152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4868640" y="12207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4868640" y="1217160"/>
                <a:ext cx="19152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4868640" y="1215360"/>
                <a:ext cx="19152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868640" y="121212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4868640" y="1209960"/>
                <a:ext cx="19152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4868640" y="1206360"/>
                <a:ext cx="19152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4868640" y="12049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868640" y="1201320"/>
                <a:ext cx="19152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4868640" y="11995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4868640" y="1195920"/>
                <a:ext cx="19152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4868640" y="11944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4868640" y="1190880"/>
                <a:ext cx="19152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4868640" y="1188720"/>
                <a:ext cx="19152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868640" y="1185120"/>
                <a:ext cx="19152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868640" y="11836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4868640" y="1180080"/>
                <a:ext cx="19152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868640" y="11782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868640" y="1174680"/>
                <a:ext cx="19152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4868640" y="11732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868640" y="1169640"/>
                <a:ext cx="19152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4868640" y="1167480"/>
                <a:ext cx="19152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868640" y="1164240"/>
                <a:ext cx="19152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868640" y="1160640"/>
                <a:ext cx="19152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4868640" y="1158480"/>
                <a:ext cx="19152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868640" y="1157040"/>
                <a:ext cx="19152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4868640" y="1153440"/>
                <a:ext cx="19152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4868640" y="1149840"/>
                <a:ext cx="19152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4868640" y="1148040"/>
                <a:ext cx="19152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4868640" y="114444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4868640" y="1143000"/>
                <a:ext cx="19152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4868640" y="1140840"/>
                <a:ext cx="19152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4868640" y="1137240"/>
                <a:ext cx="19152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4868640" y="1134000"/>
                <a:ext cx="19152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4868640" y="11322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4868640" y="1128600"/>
                <a:ext cx="19152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4868640" y="1126800"/>
                <a:ext cx="19152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4868640" y="112320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868640" y="11217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4868640" y="1118160"/>
                <a:ext cx="19152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868640" y="11163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4868640" y="1112760"/>
                <a:ext cx="19152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4868640" y="11109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4868640" y="1107360"/>
                <a:ext cx="19152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4868640" y="1105560"/>
                <a:ext cx="19152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4868640" y="1101960"/>
                <a:ext cx="19152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4720680" y="1100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5">
                    <a:moveTo>
                      <a:pt x="887" y="15"/>
                    </a:moveTo>
                    <a:lnTo>
                      <a:pt x="388" y="15"/>
                    </a:lnTo>
                    <a:lnTo>
                      <a:pt x="388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76" y="2"/>
                    </a:lnTo>
                    <a:lnTo>
                      <a:pt x="887" y="2"/>
                    </a:lnTo>
                    <a:lnTo>
                      <a:pt x="887" y="15"/>
                    </a:lnTo>
                    <a:close/>
                  </a:path>
                </a:pathLst>
              </a:cu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720680" y="10969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6" h="14">
                    <a:moveTo>
                      <a:pt x="887" y="14"/>
                    </a:moveTo>
                    <a:lnTo>
                      <a:pt x="388" y="14"/>
                    </a:lnTo>
                    <a:lnTo>
                      <a:pt x="388" y="9"/>
                    </a:lnTo>
                    <a:lnTo>
                      <a:pt x="0" y="9"/>
                    </a:lnTo>
                    <a:lnTo>
                      <a:pt x="1" y="0"/>
                    </a:lnTo>
                    <a:lnTo>
                      <a:pt x="1275" y="0"/>
                    </a:lnTo>
                    <a:lnTo>
                      <a:pt x="1276" y="9"/>
                    </a:lnTo>
                    <a:lnTo>
                      <a:pt x="887" y="9"/>
                    </a:lnTo>
                    <a:lnTo>
                      <a:pt x="887" y="14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4720680" y="10951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5" h="16">
                    <a:moveTo>
                      <a:pt x="1275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4" y="0"/>
                    </a:lnTo>
                    <a:lnTo>
                      <a:pt x="1275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4720680" y="1091520"/>
                <a:ext cx="489600" cy="5040"/>
              </a:xfrm>
              <a:custGeom>
                <a:avLst/>
                <a:gdLst/>
                <a:ahLst/>
                <a:rect l="l" t="t" r="r" b="b"/>
                <a:pathLst>
                  <a:path w="1274" h="16">
                    <a:moveTo>
                      <a:pt x="1274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72" y="0"/>
                    </a:lnTo>
                    <a:lnTo>
                      <a:pt x="1274" y="16"/>
                    </a:lnTo>
                    <a:close/>
                  </a:path>
                </a:pathLst>
              </a:cu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4720680" y="1089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72" h="14">
                    <a:moveTo>
                      <a:pt x="127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70" y="0"/>
                    </a:lnTo>
                    <a:lnTo>
                      <a:pt x="1272" y="14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720680" y="108648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70" h="15">
                    <a:moveTo>
                      <a:pt x="1270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68" y="0"/>
                    </a:lnTo>
                    <a:lnTo>
                      <a:pt x="1270" y="15"/>
                    </a:lnTo>
                    <a:close/>
                  </a:path>
                </a:pathLst>
              </a:cu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4720680" y="1084320"/>
                <a:ext cx="487800" cy="5040"/>
              </a:xfrm>
              <a:custGeom>
                <a:avLst/>
                <a:gdLst/>
                <a:ahLst/>
                <a:rect l="l" t="t" r="r" b="b"/>
                <a:pathLst>
                  <a:path w="1269" h="15">
                    <a:moveTo>
                      <a:pt x="126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8" y="0"/>
                    </a:lnTo>
                    <a:lnTo>
                      <a:pt x="1269" y="15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4720680" y="1080720"/>
                <a:ext cx="487800" cy="5400"/>
              </a:xfrm>
              <a:custGeom>
                <a:avLst/>
                <a:gdLst/>
                <a:ahLst/>
                <a:rect l="l" t="t" r="r" b="b"/>
                <a:pathLst>
                  <a:path w="1267" h="16">
                    <a:moveTo>
                      <a:pt x="1267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66" y="0"/>
                    </a:lnTo>
                    <a:lnTo>
                      <a:pt x="1267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722120" y="10792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6" h="16">
                    <a:moveTo>
                      <a:pt x="1266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64" y="0"/>
                    </a:lnTo>
                    <a:lnTo>
                      <a:pt x="1266" y="16"/>
                    </a:lnTo>
                    <a:close/>
                  </a:path>
                </a:pathLst>
              </a:cu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722120" y="1075680"/>
                <a:ext cx="486000" cy="5040"/>
              </a:xfrm>
              <a:custGeom>
                <a:avLst/>
                <a:gdLst/>
                <a:ahLst/>
                <a:rect l="l" t="t" r="r" b="b"/>
                <a:pathLst>
                  <a:path w="1264" h="14">
                    <a:moveTo>
                      <a:pt x="1264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62" y="0"/>
                    </a:lnTo>
                    <a:lnTo>
                      <a:pt x="1264" y="14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722120" y="10738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3" h="15">
                    <a:moveTo>
                      <a:pt x="126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1" y="0"/>
                    </a:lnTo>
                    <a:lnTo>
                      <a:pt x="1263" y="15"/>
                    </a:lnTo>
                    <a:close/>
                  </a:path>
                </a:pathLst>
              </a:cu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722120" y="10702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61" h="15">
                    <a:moveTo>
                      <a:pt x="1261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60" y="0"/>
                    </a:lnTo>
                    <a:lnTo>
                      <a:pt x="1261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4722120" y="1068480"/>
                <a:ext cx="484200" cy="5400"/>
              </a:xfrm>
              <a:custGeom>
                <a:avLst/>
                <a:gdLst/>
                <a:ahLst/>
                <a:rect l="l" t="t" r="r" b="b"/>
                <a:pathLst>
                  <a:path w="1259" h="15">
                    <a:moveTo>
                      <a:pt x="125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8" y="0"/>
                    </a:lnTo>
                    <a:lnTo>
                      <a:pt x="1259" y="15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4722120" y="106524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8" h="16">
                    <a:moveTo>
                      <a:pt x="1258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56" y="0"/>
                    </a:lnTo>
                    <a:lnTo>
                      <a:pt x="1258" y="16"/>
                    </a:lnTo>
                    <a:close/>
                  </a:path>
                </a:pathLst>
              </a:cu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4722120" y="1063080"/>
                <a:ext cx="484200" cy="5040"/>
              </a:xfrm>
              <a:custGeom>
                <a:avLst/>
                <a:gdLst/>
                <a:ahLst/>
                <a:rect l="l" t="t" r="r" b="b"/>
                <a:pathLst>
                  <a:path w="1257" h="15">
                    <a:moveTo>
                      <a:pt x="1257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55" y="0"/>
                    </a:lnTo>
                    <a:lnTo>
                      <a:pt x="1257" y="15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4724280" y="1059480"/>
                <a:ext cx="482040" cy="5400"/>
              </a:xfrm>
              <a:custGeom>
                <a:avLst/>
                <a:gdLst/>
                <a:ahLst/>
                <a:rect l="l" t="t" r="r" b="b"/>
                <a:pathLst>
                  <a:path w="1255" h="14">
                    <a:moveTo>
                      <a:pt x="1255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53" y="0"/>
                    </a:lnTo>
                    <a:lnTo>
                      <a:pt x="1255" y="14"/>
                    </a:lnTo>
                    <a:close/>
                  </a:path>
                </a:pathLst>
              </a:cu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4724280" y="1058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3" h="15">
                    <a:moveTo>
                      <a:pt x="125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2" y="0"/>
                    </a:lnTo>
                    <a:lnTo>
                      <a:pt x="1253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724280" y="10544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51" h="15">
                    <a:moveTo>
                      <a:pt x="1251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50" y="0"/>
                    </a:lnTo>
                    <a:lnTo>
                      <a:pt x="1251" y="15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724280" y="1050480"/>
                <a:ext cx="479880" cy="7200"/>
              </a:xfrm>
              <a:custGeom>
                <a:avLst/>
                <a:gdLst/>
                <a:ahLst/>
                <a:rect l="l" t="t" r="r" b="b"/>
                <a:pathLst>
                  <a:path w="1251" h="16">
                    <a:moveTo>
                      <a:pt x="125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9" y="0"/>
                    </a:lnTo>
                    <a:lnTo>
                      <a:pt x="1251" y="16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724280" y="1049040"/>
                <a:ext cx="479880" cy="50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4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47" y="0"/>
                    </a:lnTo>
                    <a:lnTo>
                      <a:pt x="1249" y="16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724280" y="1047600"/>
                <a:ext cx="479880" cy="2880"/>
              </a:xfrm>
              <a:custGeom>
                <a:avLst/>
                <a:gdLst/>
                <a:ahLst/>
                <a:rect l="l" t="t" r="r" b="b"/>
                <a:pathLst>
                  <a:path w="1247" h="14">
                    <a:moveTo>
                      <a:pt x="124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45" y="0"/>
                    </a:lnTo>
                    <a:lnTo>
                      <a:pt x="1247" y="14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726080" y="1044000"/>
                <a:ext cx="478080" cy="5040"/>
              </a:xfrm>
              <a:custGeom>
                <a:avLst/>
                <a:gdLst/>
                <a:ahLst/>
                <a:rect l="l" t="t" r="r" b="b"/>
                <a:pathLst>
                  <a:path w="1245" h="15">
                    <a:moveTo>
                      <a:pt x="1245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44" y="0"/>
                    </a:lnTo>
                    <a:lnTo>
                      <a:pt x="1245" y="15"/>
                    </a:lnTo>
                    <a:close/>
                  </a:path>
                </a:pathLst>
              </a:cu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726080" y="10418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42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4726080" y="1038240"/>
                <a:ext cx="476280" cy="5400"/>
              </a:xfrm>
              <a:custGeom>
                <a:avLst/>
                <a:gdLst/>
                <a:ahLst/>
                <a:rect l="l" t="t" r="r" b="b"/>
                <a:pathLst>
                  <a:path w="1243" h="15">
                    <a:moveTo>
                      <a:pt x="1243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240" y="0"/>
                    </a:lnTo>
                    <a:lnTo>
                      <a:pt x="1243" y="15"/>
                    </a:lnTo>
                    <a:close/>
                  </a:path>
                </a:pathLst>
              </a:cu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4726080" y="1035000"/>
                <a:ext cx="476280" cy="6480"/>
              </a:xfrm>
              <a:custGeom>
                <a:avLst/>
                <a:gdLst/>
                <a:ahLst/>
                <a:rect l="l" t="t" r="r" b="b"/>
                <a:pathLst>
                  <a:path w="1240" h="16">
                    <a:moveTo>
                      <a:pt x="124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7" y="0"/>
                    </a:lnTo>
                    <a:lnTo>
                      <a:pt x="1240" y="16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726080" y="1032840"/>
                <a:ext cx="476280" cy="5040"/>
              </a:xfrm>
              <a:custGeom>
                <a:avLst/>
                <a:gdLst/>
                <a:ahLst/>
                <a:rect l="l" t="t" r="r" b="b"/>
                <a:pathLst>
                  <a:path w="1237" h="15">
                    <a:moveTo>
                      <a:pt x="1237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35" y="0"/>
                    </a:lnTo>
                    <a:lnTo>
                      <a:pt x="1237" y="15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4728240" y="1031400"/>
                <a:ext cx="474120" cy="3600"/>
              </a:xfrm>
              <a:custGeom>
                <a:avLst/>
                <a:gdLst/>
                <a:ahLst/>
                <a:rect l="l" t="t" r="r" b="b"/>
                <a:pathLst>
                  <a:path w="1235" h="14">
                    <a:moveTo>
                      <a:pt x="1235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34" y="0"/>
                    </a:lnTo>
                    <a:lnTo>
                      <a:pt x="1235" y="14"/>
                    </a:lnTo>
                    <a:close/>
                  </a:path>
                </a:pathLst>
              </a:cu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4728240" y="1027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4" h="15">
                    <a:moveTo>
                      <a:pt x="123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33" y="0"/>
                    </a:lnTo>
                    <a:lnTo>
                      <a:pt x="1234" y="15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4728240" y="1024200"/>
                <a:ext cx="471960" cy="7200"/>
              </a:xfrm>
              <a:custGeom>
                <a:avLst/>
                <a:gdLst/>
                <a:ahLst/>
                <a:rect l="l" t="t" r="r" b="b"/>
                <a:pathLst>
                  <a:path w="1233" h="16">
                    <a:moveTo>
                      <a:pt x="1233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31" y="0"/>
                    </a:lnTo>
                    <a:lnTo>
                      <a:pt x="1233" y="16"/>
                    </a:lnTo>
                    <a:close/>
                  </a:path>
                </a:pathLst>
              </a:cu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4728240" y="10224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31" h="16">
                    <a:moveTo>
                      <a:pt x="1231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9" y="0"/>
                    </a:lnTo>
                    <a:lnTo>
                      <a:pt x="1231" y="16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4728240" y="101880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9" h="15">
                    <a:moveTo>
                      <a:pt x="1229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7" y="0"/>
                    </a:lnTo>
                    <a:lnTo>
                      <a:pt x="1229" y="15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4728240" y="10173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8" h="14">
                    <a:moveTo>
                      <a:pt x="1228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227" y="0"/>
                    </a:lnTo>
                    <a:lnTo>
                      <a:pt x="1228" y="14"/>
                    </a:lnTo>
                    <a:close/>
                  </a:path>
                </a:pathLst>
              </a:cu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4728240" y="1013760"/>
                <a:ext cx="471960" cy="5040"/>
              </a:xfrm>
              <a:custGeom>
                <a:avLst/>
                <a:gdLst/>
                <a:ahLst/>
                <a:rect l="l" t="t" r="r" b="b"/>
                <a:pathLst>
                  <a:path w="1226" h="15">
                    <a:moveTo>
                      <a:pt x="1226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5" y="0"/>
                    </a:lnTo>
                    <a:lnTo>
                      <a:pt x="1226" y="15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4730040" y="1011600"/>
                <a:ext cx="470160" cy="5400"/>
              </a:xfrm>
              <a:custGeom>
                <a:avLst/>
                <a:gdLst/>
                <a:ahLst/>
                <a:rect l="l" t="t" r="r" b="b"/>
                <a:pathLst>
                  <a:path w="1225" h="16">
                    <a:moveTo>
                      <a:pt x="1225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23" y="0"/>
                    </a:lnTo>
                    <a:lnTo>
                      <a:pt x="1225" y="16"/>
                    </a:lnTo>
                    <a:close/>
                  </a:path>
                </a:pathLst>
              </a:cu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4730040" y="10083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3" h="15">
                    <a:moveTo>
                      <a:pt x="1223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21" y="0"/>
                    </a:lnTo>
                    <a:lnTo>
                      <a:pt x="1223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730040" y="1006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22" h="15">
                    <a:moveTo>
                      <a:pt x="1222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20" y="0"/>
                    </a:lnTo>
                    <a:lnTo>
                      <a:pt x="1222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4730040" y="1002960"/>
                <a:ext cx="468360" cy="5400"/>
              </a:xfrm>
              <a:custGeom>
                <a:avLst/>
                <a:gdLst/>
                <a:ahLst/>
                <a:rect l="l" t="t" r="r" b="b"/>
                <a:pathLst>
                  <a:path w="1220" h="15">
                    <a:moveTo>
                      <a:pt x="1220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9" y="0"/>
                    </a:lnTo>
                    <a:lnTo>
                      <a:pt x="1220" y="15"/>
                    </a:lnTo>
                    <a:close/>
                  </a:path>
                </a:pathLst>
              </a:cu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4730040" y="10011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8" h="14">
                    <a:moveTo>
                      <a:pt x="1218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17" y="0"/>
                    </a:lnTo>
                    <a:lnTo>
                      <a:pt x="1218" y="14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730040" y="99756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7" h="16">
                    <a:moveTo>
                      <a:pt x="1217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215" y="0"/>
                    </a:lnTo>
                    <a:lnTo>
                      <a:pt x="1217" y="16"/>
                    </a:lnTo>
                    <a:close/>
                  </a:path>
                </a:pathLst>
              </a:cu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4730040" y="996120"/>
                <a:ext cx="468360" cy="5040"/>
              </a:xfrm>
              <a:custGeom>
                <a:avLst/>
                <a:gdLst/>
                <a:ahLst/>
                <a:rect l="l" t="t" r="r" b="b"/>
                <a:pathLst>
                  <a:path w="1216" h="16">
                    <a:moveTo>
                      <a:pt x="1216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14" y="0"/>
                    </a:lnTo>
                    <a:lnTo>
                      <a:pt x="1216" y="16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731840" y="9925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4" h="15">
                    <a:moveTo>
                      <a:pt x="121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12" y="0"/>
                    </a:lnTo>
                    <a:lnTo>
                      <a:pt x="1214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4731840" y="99036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12" h="15">
                    <a:moveTo>
                      <a:pt x="1212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11" y="0"/>
                    </a:lnTo>
                    <a:lnTo>
                      <a:pt x="1212" y="15"/>
                    </a:lnTo>
                    <a:close/>
                  </a:path>
                </a:pathLst>
              </a:cu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4731840" y="9871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4">
                    <a:moveTo>
                      <a:pt x="1210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9" y="0"/>
                    </a:lnTo>
                    <a:lnTo>
                      <a:pt x="1210" y="14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4731840" y="9853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10" h="16">
                    <a:moveTo>
                      <a:pt x="121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8" y="0"/>
                    </a:lnTo>
                    <a:lnTo>
                      <a:pt x="1210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4731840" y="981720"/>
                <a:ext cx="465120" cy="5400"/>
              </a:xfrm>
              <a:custGeom>
                <a:avLst/>
                <a:gdLst/>
                <a:ahLst/>
                <a:rect l="l" t="t" r="r" b="b"/>
                <a:pathLst>
                  <a:path w="1208" h="16">
                    <a:moveTo>
                      <a:pt x="1208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206" y="0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4731840" y="979920"/>
                <a:ext cx="465120" cy="5040"/>
              </a:xfrm>
              <a:custGeom>
                <a:avLst/>
                <a:gdLst/>
                <a:ahLst/>
                <a:rect l="l" t="t" r="r" b="b"/>
                <a:pathLst>
                  <a:path w="1206" h="14">
                    <a:moveTo>
                      <a:pt x="1206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204" y="0"/>
                    </a:lnTo>
                    <a:lnTo>
                      <a:pt x="1206" y="14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734000" y="97632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4" h="15">
                    <a:moveTo>
                      <a:pt x="120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203" y="0"/>
                    </a:lnTo>
                    <a:lnTo>
                      <a:pt x="1204" y="15"/>
                    </a:lnTo>
                    <a:close/>
                  </a:path>
                </a:pathLst>
              </a:cu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4734000" y="974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3" h="15">
                    <a:moveTo>
                      <a:pt x="120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202" y="0"/>
                    </a:lnTo>
                    <a:lnTo>
                      <a:pt x="1203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734000" y="9712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2" h="15">
                    <a:moveTo>
                      <a:pt x="1202" y="15"/>
                    </a:moveTo>
                    <a:lnTo>
                      <a:pt x="0" y="15"/>
                    </a:lnTo>
                    <a:lnTo>
                      <a:pt x="3" y="0"/>
                    </a:lnTo>
                    <a:lnTo>
                      <a:pt x="1199" y="0"/>
                    </a:lnTo>
                    <a:lnTo>
                      <a:pt x="1202" y="15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4734000" y="9694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200" h="16">
                    <a:moveTo>
                      <a:pt x="1200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97" y="0"/>
                    </a:lnTo>
                    <a:lnTo>
                      <a:pt x="1200" y="16"/>
                    </a:lnTo>
                    <a:close/>
                  </a:path>
                </a:pathLst>
              </a:cu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4734000" y="965880"/>
                <a:ext cx="460800" cy="5040"/>
              </a:xfrm>
              <a:custGeom>
                <a:avLst/>
                <a:gdLst/>
                <a:ahLst/>
                <a:rect l="l" t="t" r="r" b="b"/>
                <a:pathLst>
                  <a:path w="1196" h="15">
                    <a:moveTo>
                      <a:pt x="119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95" y="0"/>
                    </a:lnTo>
                    <a:lnTo>
                      <a:pt x="1196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4734000" y="964080"/>
                <a:ext cx="459000" cy="5400"/>
              </a:xfrm>
              <a:custGeom>
                <a:avLst/>
                <a:gdLst/>
                <a:ahLst/>
                <a:rect l="l" t="t" r="r" b="b"/>
                <a:pathLst>
                  <a:path w="1195" h="15">
                    <a:moveTo>
                      <a:pt x="1195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4" y="0"/>
                    </a:lnTo>
                    <a:lnTo>
                      <a:pt x="1195" y="15"/>
                    </a:lnTo>
                    <a:close/>
                  </a:path>
                </a:pathLst>
              </a:custGeom>
              <a:solidFill>
                <a:srgbClr val="fc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4735800" y="960480"/>
                <a:ext cx="457200" cy="5400"/>
              </a:xfrm>
              <a:custGeom>
                <a:avLst/>
                <a:gdLst/>
                <a:ahLst/>
                <a:rect l="l" t="t" r="r" b="b"/>
                <a:pathLst>
                  <a:path w="1194" h="15">
                    <a:moveTo>
                      <a:pt x="1194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92" y="0"/>
                    </a:lnTo>
                    <a:lnTo>
                      <a:pt x="1194" y="15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735800" y="9586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2" h="14">
                    <a:moveTo>
                      <a:pt x="1192" y="14"/>
                    </a:moveTo>
                    <a:lnTo>
                      <a:pt x="0" y="14"/>
                    </a:lnTo>
                    <a:lnTo>
                      <a:pt x="1" y="0"/>
                    </a:lnTo>
                    <a:lnTo>
                      <a:pt x="1190" y="0"/>
                    </a:lnTo>
                    <a:lnTo>
                      <a:pt x="1192" y="14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735800" y="95508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90" h="16">
                    <a:moveTo>
                      <a:pt x="1190" y="16"/>
                    </a:moveTo>
                    <a:lnTo>
                      <a:pt x="0" y="16"/>
                    </a:lnTo>
                    <a:lnTo>
                      <a:pt x="1" y="0"/>
                    </a:lnTo>
                    <a:lnTo>
                      <a:pt x="1188" y="0"/>
                    </a:lnTo>
                    <a:lnTo>
                      <a:pt x="1190" y="16"/>
                    </a:lnTo>
                    <a:close/>
                  </a:path>
                </a:pathLst>
              </a:custGeom>
              <a:solidFill>
                <a:srgbClr val="fc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4735800" y="9536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9" h="16">
                    <a:moveTo>
                      <a:pt x="1189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8" y="0"/>
                    </a:lnTo>
                    <a:lnTo>
                      <a:pt x="1189" y="16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735800" y="9500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7" h="14">
                    <a:moveTo>
                      <a:pt x="1187" y="14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1186" y="0"/>
                    </a:lnTo>
                    <a:lnTo>
                      <a:pt x="1187" y="14"/>
                    </a:lnTo>
                    <a:close/>
                  </a:path>
                </a:pathLst>
              </a:custGeom>
              <a:solidFill>
                <a:srgbClr val="fc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4735800" y="948240"/>
                <a:ext cx="457200" cy="5040"/>
              </a:xfrm>
              <a:custGeom>
                <a:avLst/>
                <a:gdLst/>
                <a:ahLst/>
                <a:rect l="l" t="t" r="r" b="b"/>
                <a:pathLst>
                  <a:path w="1186" h="15">
                    <a:moveTo>
                      <a:pt x="118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4" y="0"/>
                    </a:lnTo>
                    <a:lnTo>
                      <a:pt x="1186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737960" y="9446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4" h="15">
                    <a:moveTo>
                      <a:pt x="1184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82" y="0"/>
                    </a:lnTo>
                    <a:lnTo>
                      <a:pt x="1184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737960" y="942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83" h="15">
                    <a:moveTo>
                      <a:pt x="1183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81" y="0"/>
                    </a:lnTo>
                    <a:lnTo>
                      <a:pt x="1183" y="15"/>
                    </a:lnTo>
                    <a:close/>
                  </a:path>
                </a:pathLst>
              </a:custGeom>
              <a:solidFill>
                <a:srgbClr val="fd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737960" y="9396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81" h="16">
                    <a:moveTo>
                      <a:pt x="1181" y="16"/>
                    </a:moveTo>
                    <a:lnTo>
                      <a:pt x="0" y="16"/>
                    </a:lnTo>
                    <a:lnTo>
                      <a:pt x="2" y="0"/>
                    </a:lnTo>
                    <a:lnTo>
                      <a:pt x="1180" y="0"/>
                    </a:lnTo>
                    <a:lnTo>
                      <a:pt x="1181" y="16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737960" y="93744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9" h="15">
                    <a:moveTo>
                      <a:pt x="1179" y="15"/>
                    </a:moveTo>
                    <a:lnTo>
                      <a:pt x="0" y="15"/>
                    </a:lnTo>
                    <a:lnTo>
                      <a:pt x="2" y="0"/>
                    </a:lnTo>
                    <a:lnTo>
                      <a:pt x="1178" y="0"/>
                    </a:lnTo>
                    <a:lnTo>
                      <a:pt x="1179" y="15"/>
                    </a:lnTo>
                    <a:close/>
                  </a:path>
                </a:pathLst>
              </a:custGeom>
              <a:solidFill>
                <a:srgbClr val="fd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737960" y="933840"/>
                <a:ext cx="452880" cy="5400"/>
              </a:xfrm>
              <a:custGeom>
                <a:avLst/>
                <a:gdLst/>
                <a:ahLst/>
                <a:rect l="l" t="t" r="r" b="b"/>
                <a:pathLst>
                  <a:path w="1178" h="15">
                    <a:moveTo>
                      <a:pt x="1178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6" y="0"/>
                    </a:lnTo>
                    <a:lnTo>
                      <a:pt x="1178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737960" y="932400"/>
                <a:ext cx="452880" cy="5040"/>
              </a:xfrm>
              <a:custGeom>
                <a:avLst/>
                <a:gdLst/>
                <a:ahLst/>
                <a:rect l="l" t="t" r="r" b="b"/>
                <a:pathLst>
                  <a:path w="1176" h="15">
                    <a:moveTo>
                      <a:pt x="1176" y="15"/>
                    </a:moveTo>
                    <a:lnTo>
                      <a:pt x="0" y="15"/>
                    </a:lnTo>
                    <a:lnTo>
                      <a:pt x="1" y="0"/>
                    </a:lnTo>
                    <a:lnTo>
                      <a:pt x="1174" y="0"/>
                    </a:lnTo>
                    <a:lnTo>
                      <a:pt x="1176" y="15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737960" y="928800"/>
                <a:ext cx="451080" cy="5040"/>
              </a:xfrm>
              <a:custGeom>
                <a:avLst/>
                <a:gdLst/>
                <a:ahLst/>
                <a:rect l="l" t="t" r="r" b="b"/>
                <a:pathLst>
                  <a:path w="1175" h="13">
                    <a:moveTo>
                      <a:pt x="1175" y="13"/>
                    </a:moveTo>
                    <a:lnTo>
                      <a:pt x="0" y="13"/>
                    </a:lnTo>
                    <a:lnTo>
                      <a:pt x="2" y="0"/>
                    </a:lnTo>
                    <a:lnTo>
                      <a:pt x="1174" y="0"/>
                    </a:lnTo>
                    <a:lnTo>
                      <a:pt x="1175" y="13"/>
                    </a:lnTo>
                    <a:close/>
                  </a:path>
                </a:pathLst>
              </a:custGeom>
              <a:solidFill>
                <a:srgbClr val="fdf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739760" y="928800"/>
                <a:ext cx="449280" cy="3600"/>
              </a:xfrm>
              <a:custGeom>
                <a:avLst/>
                <a:gdLst/>
                <a:ahLst/>
                <a:rect l="l" t="t" r="r" b="b"/>
                <a:pathLst>
                  <a:path w="1173" h="6">
                    <a:moveTo>
                      <a:pt x="1173" y="6"/>
                    </a:moveTo>
                    <a:lnTo>
                      <a:pt x="0" y="6"/>
                    </a:lnTo>
                    <a:lnTo>
                      <a:pt x="1" y="0"/>
                    </a:lnTo>
                    <a:lnTo>
                      <a:pt x="1173" y="0"/>
                    </a:lnTo>
                    <a:lnTo>
                      <a:pt x="1173" y="6"/>
                    </a:lnTo>
                    <a:close/>
                  </a:path>
                </a:pathLst>
              </a:custGeom>
              <a:solidFill>
                <a:srgbClr val="fe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175720" y="1604880"/>
                <a:ext cx="1728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175720" y="16030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175720" y="1599480"/>
                <a:ext cx="1728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5175720" y="1597680"/>
                <a:ext cx="1728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175720" y="159408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175720" y="15926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175720" y="1589040"/>
                <a:ext cx="1728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5175720" y="1586880"/>
                <a:ext cx="1728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5175720" y="1583640"/>
                <a:ext cx="1728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5175720" y="15818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175720" y="1578240"/>
                <a:ext cx="1728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175720" y="1576440"/>
                <a:ext cx="1728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175720" y="157284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175720" y="1571400"/>
                <a:ext cx="1728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175720" y="15678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175720" y="15660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175720" y="1562400"/>
                <a:ext cx="1728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175720" y="1560600"/>
                <a:ext cx="1728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75720" y="1557360"/>
                <a:ext cx="1728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75720" y="155520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75720" y="1551600"/>
                <a:ext cx="1728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175720" y="1550160"/>
                <a:ext cx="1728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175720" y="15465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5175720" y="1544760"/>
                <a:ext cx="1728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5175720" y="154116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175720" y="1539360"/>
                <a:ext cx="1728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175720" y="1536120"/>
                <a:ext cx="1728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175720" y="15339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175720" y="1530360"/>
                <a:ext cx="1728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2" name=""/>
            <p:cNvGrpSpPr/>
            <p:nvPr/>
          </p:nvGrpSpPr>
          <p:grpSpPr>
            <a:xfrm>
              <a:off x="5176080" y="1431360"/>
              <a:ext cx="1071720" cy="176400"/>
              <a:chOff x="5176080" y="1431360"/>
              <a:chExt cx="1071720" cy="176400"/>
            </a:xfrm>
          </p:grpSpPr>
          <p:sp>
            <p:nvSpPr>
              <p:cNvPr id="6353" name=""/>
              <p:cNvSpPr/>
              <p:nvPr/>
            </p:nvSpPr>
            <p:spPr>
              <a:xfrm>
                <a:off x="5176080" y="1528560"/>
                <a:ext cx="1728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176080" y="152496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176080" y="1523520"/>
                <a:ext cx="1728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76080" y="15199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5176080" y="15181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176080" y="1514520"/>
                <a:ext cx="1728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176080" y="15123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176080" y="1508760"/>
                <a:ext cx="1728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176080" y="1505880"/>
                <a:ext cx="1728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76080" y="1503720"/>
                <a:ext cx="1728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176080" y="1502280"/>
                <a:ext cx="1728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5176080" y="1498680"/>
                <a:ext cx="1728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176080" y="1494720"/>
                <a:ext cx="1728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176080" y="14932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176080" y="148968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76080" y="1488240"/>
                <a:ext cx="1728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5176080" y="1484640"/>
                <a:ext cx="1728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176080" y="1482480"/>
                <a:ext cx="1728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176080" y="14792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176080" y="1477440"/>
                <a:ext cx="1728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176080" y="1473480"/>
                <a:ext cx="1728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76080" y="14720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5176080" y="1468440"/>
                <a:ext cx="1728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5176080" y="14670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5176080" y="1463400"/>
                <a:ext cx="1728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176080" y="1461240"/>
                <a:ext cx="1728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176080" y="14580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76080" y="1456200"/>
                <a:ext cx="1728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5176080" y="1452240"/>
                <a:ext cx="1728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5176080" y="14508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176080" y="1447200"/>
                <a:ext cx="1728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176080" y="14457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176080" y="1442160"/>
                <a:ext cx="1728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176080" y="1440000"/>
                <a:ext cx="1728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176080" y="14367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176080" y="1434960"/>
                <a:ext cx="1728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176080" y="1431360"/>
                <a:ext cx="1728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176080" y="1431360"/>
                <a:ext cx="1728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176080" y="1431360"/>
                <a:ext cx="1728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46768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46768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546768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546768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46768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46768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46768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46768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46768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46768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46768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46768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46768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46768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546768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46768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46768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46768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546768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46768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46768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46768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46768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46768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546768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467680" y="1539000"/>
                <a:ext cx="17496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467680" y="153576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467680" y="153360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467680" y="1530000"/>
                <a:ext cx="17496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467680" y="1528560"/>
                <a:ext cx="17496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5467680" y="152496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5467680" y="1523520"/>
                <a:ext cx="17496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467680" y="15199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467680" y="15181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67680" y="1514520"/>
                <a:ext cx="17496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467680" y="15123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467680" y="1508760"/>
                <a:ext cx="17496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467680" y="1505880"/>
                <a:ext cx="17496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467680" y="1503720"/>
                <a:ext cx="17496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467680" y="1502280"/>
                <a:ext cx="17496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467680" y="1498680"/>
                <a:ext cx="17496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467680" y="1494720"/>
                <a:ext cx="17496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467680" y="14932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467680" y="148968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467680" y="1488240"/>
                <a:ext cx="17496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467680" y="1484640"/>
                <a:ext cx="17496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467680" y="1482480"/>
                <a:ext cx="17496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467680" y="14792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467680" y="1477440"/>
                <a:ext cx="17496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467680" y="1473480"/>
                <a:ext cx="17496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467680" y="14720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467680" y="1468440"/>
                <a:ext cx="17496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467680" y="14670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467680" y="1463400"/>
                <a:ext cx="17496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467680" y="1461240"/>
                <a:ext cx="17496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467680" y="14580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467680" y="1456200"/>
                <a:ext cx="17496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467680" y="1452240"/>
                <a:ext cx="17496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467680" y="14508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467680" y="1447200"/>
                <a:ext cx="17496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467680" y="14457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467680" y="1442160"/>
                <a:ext cx="17496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467680" y="1440000"/>
                <a:ext cx="17496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467680" y="14367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467680" y="1434960"/>
                <a:ext cx="17496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467680" y="1431360"/>
                <a:ext cx="17496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467680" y="1431360"/>
                <a:ext cx="17496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467680" y="1431360"/>
                <a:ext cx="17496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761800" y="1604520"/>
                <a:ext cx="17460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761800" y="16027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761800" y="1599120"/>
                <a:ext cx="17460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761800" y="1597320"/>
                <a:ext cx="17460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761800" y="159372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761800" y="15922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761800" y="1588680"/>
                <a:ext cx="17460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761800" y="1586520"/>
                <a:ext cx="17460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761800" y="1583280"/>
                <a:ext cx="17460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761800" y="15814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761800" y="1577880"/>
                <a:ext cx="17460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761800" y="1576080"/>
                <a:ext cx="17460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761800" y="157248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761800" y="1571040"/>
                <a:ext cx="17460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761800" y="15674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761800" y="156600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761800" y="1562040"/>
                <a:ext cx="17460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761800" y="1560240"/>
                <a:ext cx="17460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761800" y="1557000"/>
                <a:ext cx="17460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761800" y="155484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761800" y="1551240"/>
                <a:ext cx="17460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761800" y="1549800"/>
                <a:ext cx="17460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761800" y="154620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761800" y="1544760"/>
                <a:ext cx="17460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761800" y="154080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7618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7618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7618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7618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7618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7618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761800" y="152352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761800" y="15199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7618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7618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7618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7618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761800" y="150588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7618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761800" y="150228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761800" y="149868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7618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7618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7618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761800" y="148824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761800" y="148464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7618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7618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761800" y="14774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7618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7618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7618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761800" y="14670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761800" y="146340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7618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7618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761800" y="14562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7618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7618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7618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761800" y="14457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761800" y="144216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761800" y="144000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7618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761800" y="14349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761800" y="1431360"/>
                <a:ext cx="174600" cy="54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761800" y="1431360"/>
                <a:ext cx="174600" cy="36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761800" y="143136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6072840" y="1604520"/>
                <a:ext cx="174960" cy="288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6072840" y="16027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6072840" y="1599120"/>
                <a:ext cx="174960" cy="540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6072840" y="1597320"/>
                <a:ext cx="174960" cy="5040"/>
              </a:xfrm>
              <a:prstGeom prst="rect">
                <a:avLst/>
              </a:pr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072840" y="159372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6072840" y="15922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72840" y="1588680"/>
                <a:ext cx="174960" cy="5040"/>
              </a:xfrm>
              <a:prstGeom prst="rect">
                <a:avLst/>
              </a:prstGeom>
              <a:solidFill>
                <a:srgbClr val="dc2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6072840" y="1586520"/>
                <a:ext cx="174960" cy="540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6072840" y="1583280"/>
                <a:ext cx="174960" cy="5040"/>
              </a:xfrm>
              <a:prstGeom prst="rect">
                <a:avLst/>
              </a:prstGeom>
              <a:solidFill>
                <a:srgbClr val="dc3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6072840" y="15814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072840" y="1577880"/>
                <a:ext cx="174960" cy="540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6072840" y="1576080"/>
                <a:ext cx="174960" cy="5040"/>
              </a:xfrm>
              <a:prstGeom prst="rect">
                <a:avLst/>
              </a:prstGeom>
              <a:solidFill>
                <a:srgbClr val="dd33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072840" y="157248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6072840" y="1571040"/>
                <a:ext cx="174960" cy="5040"/>
              </a:xfrm>
              <a:prstGeom prst="rect">
                <a:avLst/>
              </a:pr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6072840" y="15674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072840" y="156600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6072840" y="1562040"/>
                <a:ext cx="174960" cy="5040"/>
              </a:xfrm>
              <a:prstGeom prst="rect">
                <a:avLst/>
              </a:pr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72840" y="1560240"/>
                <a:ext cx="174960" cy="540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072840" y="1557000"/>
                <a:ext cx="174960" cy="5040"/>
              </a:xfrm>
              <a:prstGeom prst="rect">
                <a:avLst/>
              </a:pr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072840" y="155484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072840" y="1551240"/>
                <a:ext cx="174960" cy="540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6072840" y="1549800"/>
                <a:ext cx="174960" cy="5040"/>
              </a:xfrm>
              <a:prstGeom prst="rect">
                <a:avLst/>
              </a:pr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6072840" y="154620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6072840" y="1544760"/>
                <a:ext cx="174960" cy="5040"/>
              </a:xfrm>
              <a:prstGeom prst="rect">
                <a:avLst/>
              </a:pr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072840" y="1540800"/>
                <a:ext cx="17496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3" name=""/>
            <p:cNvGrpSpPr/>
            <p:nvPr/>
          </p:nvGrpSpPr>
          <p:grpSpPr>
            <a:xfrm>
              <a:off x="6073200" y="974880"/>
              <a:ext cx="174600" cy="569520"/>
              <a:chOff x="6073200" y="974880"/>
              <a:chExt cx="174600" cy="569520"/>
            </a:xfrm>
          </p:grpSpPr>
          <p:sp>
            <p:nvSpPr>
              <p:cNvPr id="6554" name=""/>
              <p:cNvSpPr/>
              <p:nvPr/>
            </p:nvSpPr>
            <p:spPr>
              <a:xfrm>
                <a:off x="6073200" y="1539000"/>
                <a:ext cx="174600" cy="540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073200" y="1535760"/>
                <a:ext cx="174600" cy="5040"/>
              </a:xfrm>
              <a:prstGeom prst="rect">
                <a:avLst/>
              </a:pr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073200" y="153360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073200" y="1530000"/>
                <a:ext cx="174600" cy="540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073200" y="1528560"/>
                <a:ext cx="174600" cy="5040"/>
              </a:xfrm>
              <a:prstGeom prst="rect">
                <a:avLst/>
              </a:pr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6073200" y="15249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6073200" y="1523160"/>
                <a:ext cx="174600" cy="5040"/>
              </a:xfrm>
              <a:prstGeom prst="rect">
                <a:avLst/>
              </a:pr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6073200" y="151956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6073200" y="15181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073200" y="1514520"/>
                <a:ext cx="174600" cy="5040"/>
              </a:xfrm>
              <a:prstGeom prst="rect">
                <a:avLst/>
              </a:pr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073200" y="15123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073200" y="1508760"/>
                <a:ext cx="174600" cy="5400"/>
              </a:xfrm>
              <a:prstGeom prst="rect">
                <a:avLst/>
              </a:pr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073200" y="1505520"/>
                <a:ext cx="174600" cy="648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073200" y="1503720"/>
                <a:ext cx="174600" cy="504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073200" y="1501920"/>
                <a:ext cx="174600" cy="3600"/>
              </a:xfrm>
              <a:prstGeom prst="rect">
                <a:avLst/>
              </a:pr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6073200" y="1498320"/>
                <a:ext cx="174600" cy="504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6073200" y="1494720"/>
                <a:ext cx="174600" cy="7200"/>
              </a:xfrm>
              <a:prstGeom prst="rect">
                <a:avLst/>
              </a:pr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6073200" y="14932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6073200" y="14896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6073200" y="1487880"/>
                <a:ext cx="174600" cy="5040"/>
              </a:xfrm>
              <a:prstGeom prst="rect">
                <a:avLst/>
              </a:pr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073200" y="1484280"/>
                <a:ext cx="174600" cy="504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073200" y="1482480"/>
                <a:ext cx="174600" cy="5400"/>
              </a:xfrm>
              <a:prstGeom prst="rect">
                <a:avLst/>
              </a:pr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073200" y="147924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073200" y="1477080"/>
                <a:ext cx="174600" cy="504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073200" y="1473480"/>
                <a:ext cx="174600" cy="5400"/>
              </a:xfrm>
              <a:prstGeom prst="rect">
                <a:avLst/>
              </a:pr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073200" y="14720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6073200" y="1468440"/>
                <a:ext cx="174600" cy="5040"/>
              </a:xfrm>
              <a:prstGeom prst="rect">
                <a:avLst/>
              </a:prstGeom>
              <a:solidFill>
                <a:srgbClr val="e15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6073200" y="14666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6073200" y="1463040"/>
                <a:ext cx="174600" cy="504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6073200" y="1461240"/>
                <a:ext cx="174600" cy="5400"/>
              </a:xfrm>
              <a:prstGeom prst="rect">
                <a:avLst/>
              </a:prstGeom>
              <a:solidFill>
                <a:srgbClr val="e258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6073200" y="145800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6073200" y="1455840"/>
                <a:ext cx="174600" cy="504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6073200" y="1452240"/>
                <a:ext cx="174600" cy="5400"/>
              </a:xfrm>
              <a:prstGeom prst="rect">
                <a:avLst/>
              </a:prstGeom>
              <a:solidFill>
                <a:srgbClr val="e25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073200" y="14508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073200" y="1447200"/>
                <a:ext cx="174600" cy="5040"/>
              </a:xfrm>
              <a:prstGeom prst="rect">
                <a:avLst/>
              </a:prstGeom>
              <a:solidFill>
                <a:srgbClr val="e25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073200" y="14454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073200" y="1441800"/>
                <a:ext cx="174600" cy="504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073200" y="1439640"/>
                <a:ext cx="174600" cy="5400"/>
              </a:xfrm>
              <a:prstGeom prst="rect">
                <a:avLst/>
              </a:prstGeom>
              <a:solidFill>
                <a:srgbClr val="e35e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073200" y="143676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073200" y="1434600"/>
                <a:ext cx="174600" cy="5040"/>
              </a:xfrm>
              <a:prstGeom prst="rect">
                <a:avLst/>
              </a:prstGeom>
              <a:solidFill>
                <a:srgbClr val="e35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073200" y="1434600"/>
                <a:ext cx="174600" cy="180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6073200" y="1434600"/>
                <a:ext cx="174600" cy="360"/>
              </a:xfrm>
              <a:prstGeom prst="rect">
                <a:avLst/>
              </a:prstGeom>
              <a:solidFill>
                <a:srgbClr val="e36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6073200" y="1393920"/>
                <a:ext cx="174600" cy="36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6073200" y="1392120"/>
                <a:ext cx="174600" cy="1800"/>
              </a:xfrm>
              <a:prstGeom prst="rect">
                <a:avLst/>
              </a:prstGeom>
              <a:solidFill>
                <a:srgbClr val="e56a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6073200" y="138888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073200" y="1386720"/>
                <a:ext cx="174600" cy="5040"/>
              </a:xfrm>
              <a:prstGeom prst="rect">
                <a:avLst/>
              </a:prstGeom>
              <a:solidFill>
                <a:srgbClr val="e56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073200" y="1383120"/>
                <a:ext cx="174600" cy="540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073200" y="1379880"/>
                <a:ext cx="174600" cy="648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>
                <a:off x="6073200" y="1378080"/>
                <a:ext cx="174600" cy="5040"/>
              </a:xfrm>
              <a:prstGeom prst="rect">
                <a:avLst/>
              </a:prstGeom>
              <a:solidFill>
                <a:srgbClr val="e56e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>
                <a:off x="6073200" y="1376280"/>
                <a:ext cx="174600" cy="360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>
                <a:off x="6073200" y="1372680"/>
                <a:ext cx="174600" cy="5040"/>
              </a:xfrm>
              <a:prstGeom prst="rect">
                <a:avLst/>
              </a:prstGeom>
              <a:solidFill>
                <a:srgbClr val="e66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>
                <a:off x="6073200" y="1369080"/>
                <a:ext cx="174600" cy="720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>
                <a:off x="6073200" y="13676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>
                <a:off x="6073200" y="1364040"/>
                <a:ext cx="174600" cy="5040"/>
              </a:xfrm>
              <a:prstGeom prst="rect">
                <a:avLst/>
              </a:prstGeom>
              <a:solidFill>
                <a:srgbClr val="e67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>
                <a:off x="6073200" y="1361880"/>
                <a:ext cx="174600" cy="540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>
                <a:off x="6073200" y="1358640"/>
                <a:ext cx="174600" cy="5040"/>
              </a:xfrm>
              <a:prstGeom prst="rect">
                <a:avLst/>
              </a:prstGeom>
              <a:solidFill>
                <a:srgbClr val="e672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>
                <a:off x="6073200" y="13568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>
                <a:off x="6073200" y="1353240"/>
                <a:ext cx="174600" cy="540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>
                <a:off x="6073200" y="1351440"/>
                <a:ext cx="174600" cy="5040"/>
              </a:xfrm>
              <a:prstGeom prst="rect">
                <a:avLst/>
              </a:prstGeom>
              <a:solidFill>
                <a:srgbClr val="e67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6073200" y="134784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>
                <a:off x="6073200" y="1346400"/>
                <a:ext cx="174600" cy="5040"/>
              </a:xfrm>
              <a:prstGeom prst="rect">
                <a:avLst/>
              </a:prstGeom>
              <a:solidFill>
                <a:srgbClr val="e776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>
                <a:off x="6073200" y="13428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>
                <a:off x="6073200" y="13410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6073200" y="1337400"/>
                <a:ext cx="174600" cy="5040"/>
              </a:xfrm>
              <a:prstGeom prst="rect">
                <a:avLst/>
              </a:prstGeom>
              <a:solidFill>
                <a:srgbClr val="e77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>
                <a:off x="6073200" y="13356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>
                <a:off x="6073200" y="1332000"/>
                <a:ext cx="174600" cy="5400"/>
              </a:xfrm>
              <a:prstGeom prst="rect">
                <a:avLst/>
              </a:prstGeom>
              <a:solidFill>
                <a:srgbClr val="e77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6073200" y="13302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6073200" y="132660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6073200" y="1325160"/>
                <a:ext cx="174600" cy="5040"/>
              </a:xfrm>
              <a:prstGeom prst="rect">
                <a:avLst/>
              </a:prstGeom>
              <a:solidFill>
                <a:srgbClr val="e87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>
                <a:off x="6073200" y="13215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6073200" y="13197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6073200" y="1316160"/>
                <a:ext cx="174600" cy="5040"/>
              </a:xfrm>
              <a:prstGeom prst="rect">
                <a:avLst/>
              </a:prstGeom>
              <a:solidFill>
                <a:srgbClr val="e87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6073200" y="1314360"/>
                <a:ext cx="174600" cy="540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6073200" y="1311120"/>
                <a:ext cx="174600" cy="5040"/>
              </a:xfrm>
              <a:prstGeom prst="rect">
                <a:avLst/>
              </a:prstGeom>
              <a:solidFill>
                <a:srgbClr val="e87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6073200" y="130896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6073200" y="1305360"/>
                <a:ext cx="174600" cy="540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6073200" y="1303920"/>
                <a:ext cx="174600" cy="5040"/>
              </a:xfrm>
              <a:prstGeom prst="rect">
                <a:avLst/>
              </a:prstGeom>
              <a:solidFill>
                <a:srgbClr val="e98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6073200" y="13003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6073200" y="1298520"/>
                <a:ext cx="174600" cy="5040"/>
              </a:xfrm>
              <a:prstGeom prst="rect">
                <a:avLst/>
              </a:prstGeom>
              <a:solidFill>
                <a:srgbClr val="e9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>
                <a:off x="6073200" y="129492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6073200" y="1292760"/>
                <a:ext cx="174600" cy="540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6073200" y="1289880"/>
                <a:ext cx="174600" cy="5040"/>
              </a:xfrm>
              <a:prstGeom prst="rect">
                <a:avLst/>
              </a:prstGeom>
              <a:solidFill>
                <a:srgbClr val="e98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6073200" y="1287720"/>
                <a:ext cx="174600" cy="504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>
                <a:off x="6073200" y="1284120"/>
                <a:ext cx="174600" cy="5400"/>
              </a:xfrm>
              <a:prstGeom prst="rect">
                <a:avLst/>
              </a:prstGeom>
              <a:solidFill>
                <a:srgbClr val="e985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>
                <a:off x="6073200" y="12823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>
                <a:off x="6073200" y="127872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>
                <a:off x="6073200" y="1277280"/>
                <a:ext cx="174600" cy="5040"/>
              </a:xfrm>
              <a:prstGeom prst="rect">
                <a:avLst/>
              </a:prstGeom>
              <a:solidFill>
                <a:srgbClr val="ea8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>
                <a:off x="6073200" y="1273680"/>
                <a:ext cx="174600" cy="504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>
                <a:off x="6073200" y="1270080"/>
                <a:ext cx="174600" cy="7200"/>
              </a:xfrm>
              <a:prstGeom prst="rect">
                <a:avLst/>
              </a:prstGeom>
              <a:solidFill>
                <a:srgbClr val="ea88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>
                <a:off x="6073200" y="126828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>
                <a:off x="6073200" y="1266480"/>
                <a:ext cx="174600" cy="360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>
                <a:off x="6073200" y="1263240"/>
                <a:ext cx="174600" cy="5040"/>
              </a:xfrm>
              <a:prstGeom prst="rect">
                <a:avLst/>
              </a:prstGeom>
              <a:solidFill>
                <a:srgbClr val="ea8a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>
                <a:off x="6073200" y="1259640"/>
                <a:ext cx="174600" cy="648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>
                <a:off x="6073200" y="12574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>
                <a:off x="6073200" y="1253880"/>
                <a:ext cx="174600" cy="5400"/>
              </a:xfrm>
              <a:prstGeom prst="rect">
                <a:avLst/>
              </a:pr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6073200" y="12524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6073200" y="1248840"/>
                <a:ext cx="174600" cy="5040"/>
              </a:xfrm>
              <a:prstGeom prst="rect">
                <a:avLst/>
              </a:prstGeom>
              <a:solidFill>
                <a:srgbClr val="eb8d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>
                <a:off x="6073200" y="12470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>
                <a:off x="6073200" y="124344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>
                <a:off x="6073200" y="1242000"/>
                <a:ext cx="174600" cy="5040"/>
              </a:xfrm>
              <a:prstGeom prst="rect">
                <a:avLst/>
              </a:prstGeom>
              <a:solidFill>
                <a:srgbClr val="eb8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>
                <a:off x="6073200" y="1238400"/>
                <a:ext cx="174600" cy="504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>
                <a:off x="6073200" y="1236240"/>
                <a:ext cx="174600" cy="5400"/>
              </a:xfrm>
              <a:prstGeom prst="rect">
                <a:avLst/>
              </a:prstGeom>
              <a:solidFill>
                <a:srgbClr val="ec9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6073200" y="12330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>
                <a:off x="6073200" y="1231200"/>
                <a:ext cx="174600" cy="504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6073200" y="1227600"/>
                <a:ext cx="174600" cy="5400"/>
              </a:xfrm>
              <a:prstGeom prst="rect">
                <a:avLst/>
              </a:prstGeom>
              <a:solidFill>
                <a:srgbClr val="ec9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6073200" y="12258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6073200" y="1222200"/>
                <a:ext cx="174600" cy="5040"/>
              </a:xfrm>
              <a:prstGeom prst="rect">
                <a:avLst/>
              </a:prstGeom>
              <a:solidFill>
                <a:srgbClr val="ec94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6073200" y="12207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6073200" y="1217160"/>
                <a:ext cx="174600" cy="504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6073200" y="1215000"/>
                <a:ext cx="174600" cy="5400"/>
              </a:xfrm>
              <a:prstGeom prst="rect">
                <a:avLst/>
              </a:prstGeom>
              <a:solidFill>
                <a:srgbClr val="ed9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6073200" y="12117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6073200" y="1209960"/>
                <a:ext cx="174600" cy="5040"/>
              </a:xfrm>
              <a:prstGeom prst="rect">
                <a:avLst/>
              </a:prstGeom>
              <a:solidFill>
                <a:srgbClr val="ed9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6073200" y="1206360"/>
                <a:ext cx="174600" cy="540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6073200" y="12045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6073200" y="1200960"/>
                <a:ext cx="174600" cy="5040"/>
              </a:xfrm>
              <a:prstGeom prst="rect">
                <a:avLst/>
              </a:prstGeom>
              <a:solidFill>
                <a:srgbClr val="ed9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6073200" y="11995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6073200" y="1195920"/>
                <a:ext cx="174600" cy="5040"/>
              </a:xfrm>
              <a:prstGeom prst="rect">
                <a:avLst/>
              </a:prstGeom>
              <a:solidFill>
                <a:srgbClr val="ee9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6073200" y="11941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6073200" y="1190520"/>
                <a:ext cx="174600" cy="504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6073200" y="1188720"/>
                <a:ext cx="174600" cy="5400"/>
              </a:xfrm>
              <a:prstGeom prst="rect">
                <a:avLst/>
              </a:prstGeom>
              <a:solidFill>
                <a:srgbClr val="ee9d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6073200" y="1185120"/>
                <a:ext cx="174600" cy="540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6073200" y="11833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6073200" y="1179720"/>
                <a:ext cx="174600" cy="5040"/>
              </a:xfrm>
              <a:prstGeom prst="rect">
                <a:avLst/>
              </a:prstGeom>
              <a:solidFill>
                <a:srgbClr val="efa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6073200" y="11782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6073200" y="1174680"/>
                <a:ext cx="174600" cy="5040"/>
              </a:xfrm>
              <a:prstGeom prst="rect">
                <a:avLst/>
              </a:prstGeom>
              <a:solidFill>
                <a:srgbClr val="efa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6073200" y="11728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6073200" y="1169280"/>
                <a:ext cx="174600" cy="504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6073200" y="1167480"/>
                <a:ext cx="174600" cy="5400"/>
              </a:xfrm>
              <a:prstGeom prst="rect">
                <a:avLst/>
              </a:prstGeom>
              <a:solidFill>
                <a:srgbClr val="f0a3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6073200" y="1164240"/>
                <a:ext cx="174600" cy="504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6073200" y="1160640"/>
                <a:ext cx="174600" cy="6480"/>
              </a:xfrm>
              <a:prstGeom prst="rect">
                <a:avLst/>
              </a:prstGeom>
              <a:solidFill>
                <a:srgbClr val="f0a5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6073200" y="1158480"/>
                <a:ext cx="174600" cy="54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6073200" y="1157040"/>
                <a:ext cx="174600" cy="360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6073200" y="1153440"/>
                <a:ext cx="174600" cy="5040"/>
              </a:xfrm>
              <a:prstGeom prst="rect">
                <a:avLst/>
              </a:prstGeom>
              <a:solidFill>
                <a:srgbClr val="f1a7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6073200" y="1149840"/>
                <a:ext cx="174600" cy="720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6073200" y="1148040"/>
                <a:ext cx="174600" cy="5040"/>
              </a:xfrm>
              <a:prstGeom prst="rect">
                <a:avLst/>
              </a:prstGeom>
              <a:solidFill>
                <a:srgbClr val="f1a8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6073200" y="114444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6073200" y="1143000"/>
                <a:ext cx="174600" cy="504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6073200" y="1140840"/>
                <a:ext cx="174600" cy="3600"/>
              </a:xfrm>
              <a:prstGeom prst="rect">
                <a:avLst/>
              </a:prstGeom>
              <a:solidFill>
                <a:srgbClr val="f1a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6073200" y="1137240"/>
                <a:ext cx="174600" cy="540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6073200" y="1134000"/>
                <a:ext cx="174600" cy="6480"/>
              </a:xfrm>
              <a:prstGeom prst="rect">
                <a:avLst/>
              </a:prstGeom>
              <a:solidFill>
                <a:srgbClr val="f2a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6073200" y="113184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6073200" y="1128240"/>
                <a:ext cx="174600" cy="540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6073200" y="1126800"/>
                <a:ext cx="174600" cy="5040"/>
              </a:xfrm>
              <a:prstGeom prst="rect">
                <a:avLst/>
              </a:prstGeom>
              <a:solidFill>
                <a:srgbClr val="f2a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6073200" y="11232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6073200" y="11214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6073200" y="1117800"/>
                <a:ext cx="174600" cy="5040"/>
              </a:xfrm>
              <a:prstGeom prst="rect">
                <a:avLst/>
              </a:prstGeom>
              <a:solidFill>
                <a:srgbClr val="f3b0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6073200" y="11163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6073200" y="1112760"/>
                <a:ext cx="174600" cy="5040"/>
              </a:xfrm>
              <a:prstGeom prst="rect">
                <a:avLst/>
              </a:prstGeom>
              <a:solidFill>
                <a:srgbClr val="f3b2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6073200" y="11106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6073200" y="1107000"/>
                <a:ext cx="174600" cy="540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6073200" y="1105560"/>
                <a:ext cx="174600" cy="5040"/>
              </a:xfrm>
              <a:prstGeom prst="rect">
                <a:avLst/>
              </a:prstGeom>
              <a:solidFill>
                <a:srgbClr val="f4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6073200" y="11019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6073200" y="1100160"/>
                <a:ext cx="174600" cy="5040"/>
              </a:xfrm>
              <a:prstGeom prst="rect">
                <a:avLst/>
              </a:prstGeom>
              <a:solidFill>
                <a:srgbClr val="f4b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6073200" y="109656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6073200" y="10951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6073200" y="1091520"/>
                <a:ext cx="174600" cy="5040"/>
              </a:xfrm>
              <a:prstGeom prst="rect">
                <a:avLst/>
              </a:prstGeom>
              <a:solidFill>
                <a:srgbClr val="f5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6073200" y="1089360"/>
                <a:ext cx="174600" cy="540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6073200" y="1086120"/>
                <a:ext cx="174600" cy="5040"/>
              </a:xfrm>
              <a:prstGeom prst="rect">
                <a:avLst/>
              </a:prstGeom>
              <a:solidFill>
                <a:srgbClr val="f5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6073200" y="10843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6073200" y="1080720"/>
                <a:ext cx="174600" cy="540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6073200" y="1078920"/>
                <a:ext cx="174600" cy="5040"/>
              </a:xfrm>
              <a:prstGeom prst="rect">
                <a:avLst/>
              </a:prstGeom>
              <a:solidFill>
                <a:srgbClr val="f5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073200" y="107532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073200" y="1073880"/>
                <a:ext cx="174600" cy="5040"/>
              </a:xfrm>
              <a:prstGeom prst="rect">
                <a:avLst/>
              </a:prstGeom>
              <a:solidFill>
                <a:srgbClr val="f6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073200" y="10702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073200" y="1068120"/>
                <a:ext cx="174600" cy="540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6073200" y="1064880"/>
                <a:ext cx="174600" cy="5040"/>
              </a:xfrm>
              <a:prstGeom prst="rect">
                <a:avLst/>
              </a:prstGeom>
              <a:solidFill>
                <a:srgbClr val="f6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6073200" y="1063080"/>
                <a:ext cx="174600" cy="504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6073200" y="1059480"/>
                <a:ext cx="174600" cy="5400"/>
              </a:xfrm>
              <a:prstGeom prst="rect">
                <a:avLst/>
              </a:prstGeom>
              <a:solidFill>
                <a:srgbClr val="f6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6073200" y="10576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6073200" y="1054080"/>
                <a:ext cx="174600" cy="504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6073200" y="1050480"/>
                <a:ext cx="174600" cy="7200"/>
              </a:xfrm>
              <a:prstGeom prst="rect">
                <a:avLst/>
              </a:pr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6073200" y="10490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6073200" y="1047240"/>
                <a:ext cx="174600" cy="288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6073200" y="1043640"/>
                <a:ext cx="174600" cy="5040"/>
              </a:xfrm>
              <a:prstGeom prst="rect">
                <a:avLst/>
              </a:prstGeom>
              <a:solidFill>
                <a:srgbClr val="f7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6073200" y="10418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6073200" y="1038240"/>
                <a:ext cx="174600" cy="5400"/>
              </a:xfrm>
              <a:prstGeom prst="rect">
                <a:avLst/>
              </a:prstGeom>
              <a:solidFill>
                <a:srgbClr val="f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6073200" y="1035000"/>
                <a:ext cx="174600" cy="648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6073200" y="1032840"/>
                <a:ext cx="174600" cy="504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6073200" y="1031400"/>
                <a:ext cx="174600" cy="3600"/>
              </a:xfrm>
              <a:prstGeom prst="rect">
                <a:avLst/>
              </a:prstGeom>
              <a:solidFill>
                <a:srgbClr val="f8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6073200" y="1027800"/>
                <a:ext cx="174600" cy="504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6073200" y="1024200"/>
                <a:ext cx="174600" cy="7200"/>
              </a:xfrm>
              <a:prstGeom prst="rect">
                <a:avLst/>
              </a:prstGeom>
              <a:solidFill>
                <a:srgbClr val="f8c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6073200" y="10224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073200" y="101880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6073200" y="1017360"/>
                <a:ext cx="174600" cy="5040"/>
              </a:xfrm>
              <a:prstGeom prst="rect">
                <a:avLst/>
              </a:prstGeom>
              <a:solidFill>
                <a:srgbClr val="f9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6073200" y="1013760"/>
                <a:ext cx="174600" cy="504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6073200" y="1011600"/>
                <a:ext cx="174600" cy="5400"/>
              </a:xfrm>
              <a:prstGeom prst="rect">
                <a:avLst/>
              </a:prstGeom>
              <a:solidFill>
                <a:srgbClr val="f9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6073200" y="10083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6073200" y="1006560"/>
                <a:ext cx="174600" cy="504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6073200" y="1002960"/>
                <a:ext cx="174600" cy="5400"/>
              </a:xfrm>
              <a:prstGeom prst="rect">
                <a:avLst/>
              </a:prstGeom>
              <a:solidFill>
                <a:srgbClr val="fa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6073200" y="10011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6073200" y="997560"/>
                <a:ext cx="174600" cy="5040"/>
              </a:xfrm>
              <a:prstGeom prst="rect">
                <a:avLst/>
              </a:prstGeom>
              <a:solidFill>
                <a:srgbClr val="fa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6073200" y="9961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6073200" y="992520"/>
                <a:ext cx="174600" cy="504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6073200" y="990360"/>
                <a:ext cx="174600" cy="5400"/>
              </a:xfrm>
              <a:prstGeom prst="rect">
                <a:avLst/>
              </a:prstGeom>
              <a:solidFill>
                <a:srgbClr val="fa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6073200" y="98712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6073200" y="984960"/>
                <a:ext cx="174600" cy="504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6073200" y="981360"/>
                <a:ext cx="174600" cy="5400"/>
              </a:xfrm>
              <a:prstGeom prst="rect">
                <a:avLst/>
              </a:prstGeom>
              <a:solidFill>
                <a:srgbClr val="fb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6073200" y="9799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6073200" y="976320"/>
                <a:ext cx="174600" cy="5040"/>
              </a:xfrm>
              <a:prstGeom prst="rect">
                <a:avLst/>
              </a:prstGeom>
              <a:solidFill>
                <a:srgbClr val="fb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6073200" y="974880"/>
                <a:ext cx="174600" cy="5040"/>
              </a:xfrm>
              <a:prstGeom prst="rect">
                <a:avLst/>
              </a:prstGeom>
              <a:solidFill>
                <a:srgbClr val="fb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4" name=""/>
            <p:cNvSpPr/>
            <p:nvPr/>
          </p:nvSpPr>
          <p:spPr>
            <a:xfrm>
              <a:off x="6073200" y="9590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6073200" y="955440"/>
              <a:ext cx="174960" cy="5040"/>
            </a:xfrm>
            <a:prstGeom prst="rect">
              <a:avLst/>
            </a:prstGeom>
            <a:solidFill>
              <a:srgbClr val="fc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6073200" y="953640"/>
              <a:ext cx="174960" cy="50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6073200" y="937800"/>
              <a:ext cx="174960" cy="504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6073200" y="933840"/>
              <a:ext cx="174960" cy="540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6073200" y="932400"/>
              <a:ext cx="174960" cy="5040"/>
            </a:xfrm>
            <a:prstGeom prst="rect">
              <a:avLst/>
            </a:prstGeom>
            <a:solidFill>
              <a:srgbClr val="fd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906640" y="923760"/>
              <a:ext cx="758880" cy="684720"/>
            </a:xfrm>
            <a:custGeom>
              <a:avLst/>
              <a:gdLst/>
              <a:ahLst/>
              <a:rect l="l" t="t" r="r" b="b"/>
              <a:pathLst>
                <a:path w="1974" h="1935">
                  <a:moveTo>
                    <a:pt x="267" y="1935"/>
                  </a:moveTo>
                  <a:lnTo>
                    <a:pt x="0" y="17"/>
                  </a:lnTo>
                  <a:lnTo>
                    <a:pt x="499" y="17"/>
                  </a:lnTo>
                  <a:lnTo>
                    <a:pt x="597" y="911"/>
                  </a:lnTo>
                  <a:lnTo>
                    <a:pt x="985" y="0"/>
                  </a:lnTo>
                  <a:lnTo>
                    <a:pt x="1367" y="911"/>
                  </a:lnTo>
                  <a:lnTo>
                    <a:pt x="1487" y="17"/>
                  </a:lnTo>
                  <a:lnTo>
                    <a:pt x="1974" y="17"/>
                  </a:lnTo>
                  <a:lnTo>
                    <a:pt x="1724" y="1935"/>
                  </a:lnTo>
                  <a:lnTo>
                    <a:pt x="1334" y="1935"/>
                  </a:lnTo>
                  <a:lnTo>
                    <a:pt x="985" y="1074"/>
                  </a:lnTo>
                  <a:lnTo>
                    <a:pt x="645" y="1935"/>
                  </a:lnTo>
                  <a:lnTo>
                    <a:pt x="267" y="193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946320" y="1134360"/>
              <a:ext cx="151560" cy="227880"/>
            </a:xfrm>
            <a:custGeom>
              <a:avLst/>
              <a:gdLst/>
              <a:ahLst/>
              <a:rect l="l" t="t" r="r" b="b"/>
              <a:pathLst>
                <a:path w="395" h="647">
                  <a:moveTo>
                    <a:pt x="0" y="647"/>
                  </a:moveTo>
                  <a:lnTo>
                    <a:pt x="395" y="647"/>
                  </a:lnTo>
                  <a:lnTo>
                    <a:pt x="196" y="0"/>
                  </a:lnTo>
                  <a:lnTo>
                    <a:pt x="0" y="647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665520" y="928800"/>
              <a:ext cx="716760" cy="679680"/>
            </a:xfrm>
            <a:custGeom>
              <a:avLst/>
              <a:gdLst/>
              <a:ahLst/>
              <a:rect l="l" t="t" r="r" b="b"/>
              <a:pathLst>
                <a:path w="1864" h="1918">
                  <a:moveTo>
                    <a:pt x="0" y="1918"/>
                  </a:moveTo>
                  <a:lnTo>
                    <a:pt x="670" y="0"/>
                  </a:lnTo>
                  <a:lnTo>
                    <a:pt x="1231" y="0"/>
                  </a:lnTo>
                  <a:lnTo>
                    <a:pt x="1864" y="1918"/>
                  </a:lnTo>
                  <a:lnTo>
                    <a:pt x="1338" y="1918"/>
                  </a:lnTo>
                  <a:lnTo>
                    <a:pt x="1269" y="1703"/>
                  </a:lnTo>
                  <a:lnTo>
                    <a:pt x="590" y="1703"/>
                  </a:lnTo>
                  <a:lnTo>
                    <a:pt x="517" y="1918"/>
                  </a:lnTo>
                  <a:lnTo>
                    <a:pt x="0" y="1918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4455360" y="928800"/>
              <a:ext cx="190080" cy="6796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4720680" y="928800"/>
              <a:ext cx="489600" cy="679680"/>
            </a:xfrm>
            <a:custGeom>
              <a:avLst/>
              <a:gdLst/>
              <a:ahLst/>
              <a:rect l="l" t="t" r="r" b="b"/>
              <a:pathLst>
                <a:path w="1276" h="1918">
                  <a:moveTo>
                    <a:pt x="887" y="484"/>
                  </a:moveTo>
                  <a:lnTo>
                    <a:pt x="887" y="1918"/>
                  </a:lnTo>
                  <a:lnTo>
                    <a:pt x="388" y="1918"/>
                  </a:lnTo>
                  <a:lnTo>
                    <a:pt x="388" y="484"/>
                  </a:lnTo>
                  <a:lnTo>
                    <a:pt x="0" y="484"/>
                  </a:lnTo>
                  <a:lnTo>
                    <a:pt x="51" y="0"/>
                  </a:lnTo>
                  <a:lnTo>
                    <a:pt x="1223" y="0"/>
                  </a:lnTo>
                  <a:lnTo>
                    <a:pt x="1276" y="484"/>
                  </a:lnTo>
                  <a:lnTo>
                    <a:pt x="887" y="4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5176080" y="1431360"/>
              <a:ext cx="1728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5468040" y="1431360"/>
              <a:ext cx="17496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5762160" y="1431360"/>
              <a:ext cx="174600" cy="1767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6073200" y="1434960"/>
              <a:ext cx="174960" cy="17316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6073200" y="928800"/>
              <a:ext cx="174960" cy="465480"/>
            </a:xfrm>
            <a:prstGeom prst="rect">
              <a:avLst/>
            </a:prstGeom>
            <a:noFill/>
            <a:ln w="93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0" name=""/>
          <p:cNvSpPr/>
          <p:nvPr/>
        </p:nvSpPr>
        <p:spPr>
          <a:xfrm>
            <a:off x="685800" y="5303880"/>
            <a:ext cx="7772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...SAVE YOURSELF IN SEX UNTIL MARR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5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"/>
          <p:cNvSpPr/>
          <p:nvPr/>
        </p:nvSpPr>
        <p:spPr>
          <a:xfrm>
            <a:off x="6477120" y="3830760"/>
            <a:ext cx="2880" cy="28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0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2" name=""/>
          <p:cNvGrpSpPr/>
          <p:nvPr/>
        </p:nvGrpSpPr>
        <p:grpSpPr>
          <a:xfrm>
            <a:off x="2751480" y="2209680"/>
            <a:ext cx="3690360" cy="3733920"/>
            <a:chOff x="2751480" y="2209680"/>
            <a:chExt cx="3690360" cy="3733920"/>
          </a:xfrm>
        </p:grpSpPr>
        <p:sp>
          <p:nvSpPr>
            <p:cNvPr id="6773" name=""/>
            <p:cNvSpPr/>
            <p:nvPr/>
          </p:nvSpPr>
          <p:spPr>
            <a:xfrm>
              <a:off x="2751480" y="2209680"/>
              <a:ext cx="3690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902444"/>
                  </a:solidFill>
                  <a:latin typeface="Geometr231 Hv BT"/>
                </a:rPr>
                <a:t>NO ONE IS EXEMP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4" name=""/>
            <p:cNvGrpSpPr/>
            <p:nvPr/>
          </p:nvGrpSpPr>
          <p:grpSpPr>
            <a:xfrm>
              <a:off x="3948120" y="3041640"/>
              <a:ext cx="1284120" cy="2901960"/>
              <a:chOff x="3948120" y="3041640"/>
              <a:chExt cx="1284120" cy="2901960"/>
            </a:xfrm>
          </p:grpSpPr>
          <p:sp>
            <p:nvSpPr>
              <p:cNvPr id="6775" name=""/>
              <p:cNvSpPr/>
              <p:nvPr/>
            </p:nvSpPr>
            <p:spPr>
              <a:xfrm>
                <a:off x="4870440" y="5753160"/>
                <a:ext cx="141120" cy="168120"/>
              </a:xfrm>
              <a:custGeom>
                <a:avLst/>
                <a:gdLst/>
                <a:ahLst/>
                <a:rect l="l" t="t" r="r" b="b"/>
                <a:pathLst>
                  <a:path w="531" h="635">
                    <a:moveTo>
                      <a:pt x="531" y="635"/>
                    </a:moveTo>
                    <a:lnTo>
                      <a:pt x="486" y="589"/>
                    </a:lnTo>
                    <a:lnTo>
                      <a:pt x="439" y="544"/>
                    </a:lnTo>
                    <a:lnTo>
                      <a:pt x="409" y="513"/>
                    </a:lnTo>
                    <a:lnTo>
                      <a:pt x="380" y="468"/>
                    </a:lnTo>
                    <a:lnTo>
                      <a:pt x="349" y="423"/>
                    </a:lnTo>
                    <a:lnTo>
                      <a:pt x="319" y="392"/>
                    </a:lnTo>
                    <a:lnTo>
                      <a:pt x="289" y="348"/>
                    </a:lnTo>
                    <a:lnTo>
                      <a:pt x="274" y="303"/>
                    </a:lnTo>
                    <a:lnTo>
                      <a:pt x="243" y="272"/>
                    </a:lnTo>
                    <a:lnTo>
                      <a:pt x="229" y="227"/>
                    </a:lnTo>
                    <a:lnTo>
                      <a:pt x="198" y="180"/>
                    </a:lnTo>
                    <a:lnTo>
                      <a:pt x="167" y="151"/>
                    </a:lnTo>
                    <a:lnTo>
                      <a:pt x="138" y="104"/>
                    </a:lnTo>
                    <a:lnTo>
                      <a:pt x="93" y="76"/>
                    </a:lnTo>
                    <a:lnTo>
                      <a:pt x="47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851360" y="5280120"/>
                <a:ext cx="52560" cy="271440"/>
              </a:xfrm>
              <a:custGeom>
                <a:avLst/>
                <a:gdLst/>
                <a:ahLst/>
                <a:rect l="l" t="t" r="r" b="b"/>
                <a:pathLst>
                  <a:path w="197" h="1029">
                    <a:moveTo>
                      <a:pt x="0" y="1029"/>
                    </a:moveTo>
                    <a:lnTo>
                      <a:pt x="15" y="954"/>
                    </a:lnTo>
                    <a:lnTo>
                      <a:pt x="31" y="892"/>
                    </a:lnTo>
                    <a:lnTo>
                      <a:pt x="46" y="833"/>
                    </a:lnTo>
                    <a:lnTo>
                      <a:pt x="61" y="772"/>
                    </a:lnTo>
                    <a:lnTo>
                      <a:pt x="75" y="713"/>
                    </a:lnTo>
                    <a:lnTo>
                      <a:pt x="75" y="637"/>
                    </a:lnTo>
                    <a:lnTo>
                      <a:pt x="92" y="576"/>
                    </a:lnTo>
                    <a:lnTo>
                      <a:pt x="92" y="514"/>
                    </a:lnTo>
                    <a:lnTo>
                      <a:pt x="106" y="440"/>
                    </a:lnTo>
                    <a:lnTo>
                      <a:pt x="122" y="379"/>
                    </a:lnTo>
                    <a:lnTo>
                      <a:pt x="122" y="318"/>
                    </a:lnTo>
                    <a:lnTo>
                      <a:pt x="137" y="258"/>
                    </a:lnTo>
                    <a:lnTo>
                      <a:pt x="152" y="182"/>
                    </a:lnTo>
                    <a:lnTo>
                      <a:pt x="168" y="122"/>
                    </a:lnTo>
                    <a:lnTo>
                      <a:pt x="168" y="61"/>
                    </a:lnTo>
                    <a:lnTo>
                      <a:pt x="19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788000" y="5091120"/>
                <a:ext cx="115920" cy="189000"/>
              </a:xfrm>
              <a:custGeom>
                <a:avLst/>
                <a:gdLst/>
                <a:ahLst/>
                <a:rect l="l" t="t" r="r" b="b"/>
                <a:pathLst>
                  <a:path w="438" h="710">
                    <a:moveTo>
                      <a:pt x="438" y="710"/>
                    </a:moveTo>
                    <a:lnTo>
                      <a:pt x="423" y="651"/>
                    </a:lnTo>
                    <a:lnTo>
                      <a:pt x="423" y="605"/>
                    </a:lnTo>
                    <a:lnTo>
                      <a:pt x="409" y="559"/>
                    </a:lnTo>
                    <a:lnTo>
                      <a:pt x="378" y="514"/>
                    </a:lnTo>
                    <a:lnTo>
                      <a:pt x="363" y="469"/>
                    </a:lnTo>
                    <a:lnTo>
                      <a:pt x="333" y="424"/>
                    </a:lnTo>
                    <a:lnTo>
                      <a:pt x="302" y="377"/>
                    </a:lnTo>
                    <a:lnTo>
                      <a:pt x="272" y="332"/>
                    </a:lnTo>
                    <a:lnTo>
                      <a:pt x="227" y="301"/>
                    </a:lnTo>
                    <a:lnTo>
                      <a:pt x="196" y="256"/>
                    </a:lnTo>
                    <a:lnTo>
                      <a:pt x="165" y="211"/>
                    </a:lnTo>
                    <a:lnTo>
                      <a:pt x="120" y="166"/>
                    </a:lnTo>
                    <a:lnTo>
                      <a:pt x="90" y="121"/>
                    </a:lnTo>
                    <a:lnTo>
                      <a:pt x="60" y="91"/>
                    </a:lnTo>
                    <a:lnTo>
                      <a:pt x="30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4927680" y="5468760"/>
                <a:ext cx="36360" cy="235080"/>
              </a:xfrm>
              <a:custGeom>
                <a:avLst/>
                <a:gdLst/>
                <a:ahLst/>
                <a:rect l="l" t="t" r="r" b="b"/>
                <a:pathLst>
                  <a:path w="136" h="892">
                    <a:moveTo>
                      <a:pt x="121" y="0"/>
                    </a:moveTo>
                    <a:lnTo>
                      <a:pt x="106" y="45"/>
                    </a:lnTo>
                    <a:lnTo>
                      <a:pt x="76" y="104"/>
                    </a:lnTo>
                    <a:lnTo>
                      <a:pt x="61" y="151"/>
                    </a:lnTo>
                    <a:lnTo>
                      <a:pt x="45" y="210"/>
                    </a:lnTo>
                    <a:lnTo>
                      <a:pt x="30" y="271"/>
                    </a:lnTo>
                    <a:lnTo>
                      <a:pt x="16" y="332"/>
                    </a:lnTo>
                    <a:lnTo>
                      <a:pt x="0" y="392"/>
                    </a:lnTo>
                    <a:lnTo>
                      <a:pt x="0" y="437"/>
                    </a:lnTo>
                    <a:lnTo>
                      <a:pt x="0" y="498"/>
                    </a:lnTo>
                    <a:lnTo>
                      <a:pt x="0" y="559"/>
                    </a:lnTo>
                    <a:lnTo>
                      <a:pt x="16" y="619"/>
                    </a:lnTo>
                    <a:lnTo>
                      <a:pt x="16" y="679"/>
                    </a:lnTo>
                    <a:lnTo>
                      <a:pt x="45" y="724"/>
                    </a:lnTo>
                    <a:lnTo>
                      <a:pt x="61" y="786"/>
                    </a:lnTo>
                    <a:lnTo>
                      <a:pt x="91" y="831"/>
                    </a:lnTo>
                    <a:lnTo>
                      <a:pt x="136" y="892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4863960" y="56595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w="438" h="834">
                    <a:moveTo>
                      <a:pt x="438" y="834"/>
                    </a:moveTo>
                    <a:lnTo>
                      <a:pt x="392" y="804"/>
                    </a:lnTo>
                    <a:lnTo>
                      <a:pt x="363" y="758"/>
                    </a:lnTo>
                    <a:lnTo>
                      <a:pt x="318" y="712"/>
                    </a:lnTo>
                    <a:lnTo>
                      <a:pt x="287" y="667"/>
                    </a:lnTo>
                    <a:lnTo>
                      <a:pt x="258" y="622"/>
                    </a:lnTo>
                    <a:lnTo>
                      <a:pt x="227" y="561"/>
                    </a:lnTo>
                    <a:lnTo>
                      <a:pt x="196" y="501"/>
                    </a:lnTo>
                    <a:lnTo>
                      <a:pt x="167" y="440"/>
                    </a:lnTo>
                    <a:lnTo>
                      <a:pt x="136" y="379"/>
                    </a:lnTo>
                    <a:lnTo>
                      <a:pt x="122" y="319"/>
                    </a:lnTo>
                    <a:lnTo>
                      <a:pt x="91" y="258"/>
                    </a:lnTo>
                    <a:lnTo>
                      <a:pt x="76" y="213"/>
                    </a:lnTo>
                    <a:lnTo>
                      <a:pt x="60" y="152"/>
                    </a:lnTo>
                    <a:lnTo>
                      <a:pt x="46" y="107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4863960" y="544824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136" h="800">
                    <a:moveTo>
                      <a:pt x="0" y="800"/>
                    </a:moveTo>
                    <a:lnTo>
                      <a:pt x="0" y="755"/>
                    </a:lnTo>
                    <a:lnTo>
                      <a:pt x="0" y="695"/>
                    </a:lnTo>
                    <a:lnTo>
                      <a:pt x="0" y="650"/>
                    </a:lnTo>
                    <a:lnTo>
                      <a:pt x="15" y="604"/>
                    </a:lnTo>
                    <a:lnTo>
                      <a:pt x="15" y="544"/>
                    </a:lnTo>
                    <a:lnTo>
                      <a:pt x="29" y="499"/>
                    </a:lnTo>
                    <a:lnTo>
                      <a:pt x="46" y="454"/>
                    </a:lnTo>
                    <a:lnTo>
                      <a:pt x="60" y="408"/>
                    </a:lnTo>
                    <a:lnTo>
                      <a:pt x="76" y="347"/>
                    </a:lnTo>
                    <a:lnTo>
                      <a:pt x="91" y="303"/>
                    </a:lnTo>
                    <a:lnTo>
                      <a:pt x="106" y="255"/>
                    </a:lnTo>
                    <a:lnTo>
                      <a:pt x="106" y="210"/>
                    </a:lnTo>
                    <a:lnTo>
                      <a:pt x="122" y="151"/>
                    </a:lnTo>
                    <a:lnTo>
                      <a:pt x="136" y="104"/>
                    </a:lnTo>
                    <a:lnTo>
                      <a:pt x="136" y="59"/>
                    </a:lnTo>
                    <a:lnTo>
                      <a:pt x="13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898880" y="5392800"/>
                <a:ext cx="12960" cy="55440"/>
              </a:xfrm>
              <a:custGeom>
                <a:avLst/>
                <a:gdLst/>
                <a:ahLst/>
                <a:rect l="l" t="t" r="r" b="b"/>
                <a:pathLst>
                  <a:path w="46" h="213">
                    <a:moveTo>
                      <a:pt x="0" y="213"/>
                    </a:moveTo>
                    <a:lnTo>
                      <a:pt x="15" y="213"/>
                    </a:lnTo>
                    <a:lnTo>
                      <a:pt x="15" y="197"/>
                    </a:lnTo>
                    <a:lnTo>
                      <a:pt x="15" y="182"/>
                    </a:lnTo>
                    <a:lnTo>
                      <a:pt x="31" y="166"/>
                    </a:lnTo>
                    <a:lnTo>
                      <a:pt x="31" y="152"/>
                    </a:lnTo>
                    <a:lnTo>
                      <a:pt x="31" y="137"/>
                    </a:lnTo>
                    <a:lnTo>
                      <a:pt x="31" y="121"/>
                    </a:lnTo>
                    <a:lnTo>
                      <a:pt x="31" y="107"/>
                    </a:lnTo>
                    <a:lnTo>
                      <a:pt x="31" y="90"/>
                    </a:lnTo>
                    <a:lnTo>
                      <a:pt x="31" y="76"/>
                    </a:lnTo>
                    <a:lnTo>
                      <a:pt x="31" y="59"/>
                    </a:lnTo>
                    <a:lnTo>
                      <a:pt x="46" y="59"/>
                    </a:lnTo>
                    <a:lnTo>
                      <a:pt x="46" y="45"/>
                    </a:lnTo>
                    <a:lnTo>
                      <a:pt x="46" y="31"/>
                    </a:lnTo>
                    <a:lnTo>
                      <a:pt x="46" y="16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4911840" y="5187960"/>
                <a:ext cx="39600" cy="204840"/>
              </a:xfrm>
              <a:custGeom>
                <a:avLst/>
                <a:gdLst/>
                <a:ahLst/>
                <a:rect l="l" t="t" r="r" b="b"/>
                <a:pathLst>
                  <a:path w="151" h="772">
                    <a:moveTo>
                      <a:pt x="0" y="772"/>
                    </a:moveTo>
                    <a:lnTo>
                      <a:pt x="14" y="727"/>
                    </a:lnTo>
                    <a:lnTo>
                      <a:pt x="14" y="681"/>
                    </a:lnTo>
                    <a:lnTo>
                      <a:pt x="29" y="621"/>
                    </a:lnTo>
                    <a:lnTo>
                      <a:pt x="29" y="576"/>
                    </a:lnTo>
                    <a:lnTo>
                      <a:pt x="45" y="530"/>
                    </a:lnTo>
                    <a:lnTo>
                      <a:pt x="60" y="485"/>
                    </a:lnTo>
                    <a:lnTo>
                      <a:pt x="60" y="439"/>
                    </a:lnTo>
                    <a:lnTo>
                      <a:pt x="76" y="394"/>
                    </a:lnTo>
                    <a:lnTo>
                      <a:pt x="90" y="334"/>
                    </a:lnTo>
                    <a:lnTo>
                      <a:pt x="105" y="289"/>
                    </a:lnTo>
                    <a:lnTo>
                      <a:pt x="105" y="243"/>
                    </a:lnTo>
                    <a:lnTo>
                      <a:pt x="121" y="197"/>
                    </a:lnTo>
                    <a:lnTo>
                      <a:pt x="136" y="152"/>
                    </a:lnTo>
                    <a:lnTo>
                      <a:pt x="136" y="107"/>
                    </a:lnTo>
                    <a:lnTo>
                      <a:pt x="151" y="4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911840" y="503568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4">
                    <a:moveTo>
                      <a:pt x="151" y="574"/>
                    </a:moveTo>
                    <a:lnTo>
                      <a:pt x="151" y="544"/>
                    </a:lnTo>
                    <a:lnTo>
                      <a:pt x="151" y="499"/>
                    </a:lnTo>
                    <a:lnTo>
                      <a:pt x="151" y="468"/>
                    </a:lnTo>
                    <a:lnTo>
                      <a:pt x="151" y="423"/>
                    </a:lnTo>
                    <a:lnTo>
                      <a:pt x="136" y="392"/>
                    </a:lnTo>
                    <a:lnTo>
                      <a:pt x="136" y="348"/>
                    </a:lnTo>
                    <a:lnTo>
                      <a:pt x="136" y="317"/>
                    </a:lnTo>
                    <a:lnTo>
                      <a:pt x="121" y="272"/>
                    </a:lnTo>
                    <a:lnTo>
                      <a:pt x="121" y="241"/>
                    </a:lnTo>
                    <a:lnTo>
                      <a:pt x="105" y="212"/>
                    </a:lnTo>
                    <a:lnTo>
                      <a:pt x="105" y="166"/>
                    </a:lnTo>
                    <a:lnTo>
                      <a:pt x="90" y="135"/>
                    </a:lnTo>
                    <a:lnTo>
                      <a:pt x="76" y="105"/>
                    </a:lnTo>
                    <a:lnTo>
                      <a:pt x="45" y="76"/>
                    </a:lnTo>
                    <a:lnTo>
                      <a:pt x="29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898880" y="5043600"/>
                <a:ext cx="16200" cy="188640"/>
              </a:xfrm>
              <a:custGeom>
                <a:avLst/>
                <a:gdLst/>
                <a:ahLst/>
                <a:rect l="l" t="t" r="r" b="b"/>
                <a:pathLst>
                  <a:path w="60" h="711">
                    <a:moveTo>
                      <a:pt x="0" y="0"/>
                    </a:moveTo>
                    <a:lnTo>
                      <a:pt x="0" y="29"/>
                    </a:lnTo>
                    <a:lnTo>
                      <a:pt x="15" y="75"/>
                    </a:lnTo>
                    <a:lnTo>
                      <a:pt x="31" y="121"/>
                    </a:lnTo>
                    <a:lnTo>
                      <a:pt x="31" y="166"/>
                    </a:lnTo>
                    <a:lnTo>
                      <a:pt x="46" y="211"/>
                    </a:lnTo>
                    <a:lnTo>
                      <a:pt x="46" y="256"/>
                    </a:lnTo>
                    <a:lnTo>
                      <a:pt x="46" y="303"/>
                    </a:lnTo>
                    <a:lnTo>
                      <a:pt x="46" y="348"/>
                    </a:lnTo>
                    <a:lnTo>
                      <a:pt x="60" y="393"/>
                    </a:lnTo>
                    <a:lnTo>
                      <a:pt x="60" y="438"/>
                    </a:lnTo>
                    <a:lnTo>
                      <a:pt x="46" y="483"/>
                    </a:lnTo>
                    <a:lnTo>
                      <a:pt x="46" y="530"/>
                    </a:lnTo>
                    <a:lnTo>
                      <a:pt x="46" y="575"/>
                    </a:lnTo>
                    <a:lnTo>
                      <a:pt x="46" y="620"/>
                    </a:lnTo>
                    <a:lnTo>
                      <a:pt x="46" y="665"/>
                    </a:lnTo>
                    <a:lnTo>
                      <a:pt x="31" y="711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746600" y="4967280"/>
                <a:ext cx="160200" cy="264960"/>
              </a:xfrm>
              <a:custGeom>
                <a:avLst/>
                <a:gdLst/>
                <a:ahLst/>
                <a:rect l="l" t="t" r="r" b="b"/>
                <a:pathLst>
                  <a:path w="606" h="999">
                    <a:moveTo>
                      <a:pt x="606" y="999"/>
                    </a:moveTo>
                    <a:lnTo>
                      <a:pt x="575" y="939"/>
                    </a:lnTo>
                    <a:lnTo>
                      <a:pt x="530" y="877"/>
                    </a:lnTo>
                    <a:lnTo>
                      <a:pt x="485" y="818"/>
                    </a:lnTo>
                    <a:lnTo>
                      <a:pt x="439" y="757"/>
                    </a:lnTo>
                    <a:lnTo>
                      <a:pt x="393" y="695"/>
                    </a:lnTo>
                    <a:lnTo>
                      <a:pt x="348" y="636"/>
                    </a:lnTo>
                    <a:lnTo>
                      <a:pt x="317" y="575"/>
                    </a:lnTo>
                    <a:lnTo>
                      <a:pt x="272" y="516"/>
                    </a:lnTo>
                    <a:lnTo>
                      <a:pt x="227" y="454"/>
                    </a:lnTo>
                    <a:lnTo>
                      <a:pt x="182" y="379"/>
                    </a:lnTo>
                    <a:lnTo>
                      <a:pt x="152" y="317"/>
                    </a:lnTo>
                    <a:lnTo>
                      <a:pt x="107" y="258"/>
                    </a:lnTo>
                    <a:lnTo>
                      <a:pt x="76" y="197"/>
                    </a:lnTo>
                    <a:lnTo>
                      <a:pt x="45" y="121"/>
                    </a:lnTo>
                    <a:lnTo>
                      <a:pt x="31" y="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819680" y="3683160"/>
                <a:ext cx="28440" cy="82440"/>
              </a:xfrm>
              <a:custGeom>
                <a:avLst/>
                <a:gdLst/>
                <a:ahLst/>
                <a:rect l="l" t="t" r="r" b="b"/>
                <a:pathLst>
                  <a:path w="107" h="316">
                    <a:moveTo>
                      <a:pt x="0" y="316"/>
                    </a:moveTo>
                    <a:lnTo>
                      <a:pt x="16" y="301"/>
                    </a:lnTo>
                    <a:lnTo>
                      <a:pt x="16" y="287"/>
                    </a:lnTo>
                    <a:lnTo>
                      <a:pt x="31" y="256"/>
                    </a:lnTo>
                    <a:lnTo>
                      <a:pt x="31" y="241"/>
                    </a:lnTo>
                    <a:lnTo>
                      <a:pt x="45" y="227"/>
                    </a:lnTo>
                    <a:lnTo>
                      <a:pt x="45" y="211"/>
                    </a:lnTo>
                    <a:lnTo>
                      <a:pt x="62" y="181"/>
                    </a:lnTo>
                    <a:lnTo>
                      <a:pt x="76" y="165"/>
                    </a:lnTo>
                    <a:lnTo>
                      <a:pt x="76" y="151"/>
                    </a:lnTo>
                    <a:lnTo>
                      <a:pt x="91" y="120"/>
                    </a:lnTo>
                    <a:lnTo>
                      <a:pt x="91" y="105"/>
                    </a:lnTo>
                    <a:lnTo>
                      <a:pt x="91" y="90"/>
                    </a:lnTo>
                    <a:lnTo>
                      <a:pt x="107" y="60"/>
                    </a:lnTo>
                    <a:lnTo>
                      <a:pt x="107" y="45"/>
                    </a:lnTo>
                    <a:lnTo>
                      <a:pt x="107" y="29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951440" y="5407200"/>
                <a:ext cx="47520" cy="241200"/>
              </a:xfrm>
              <a:custGeom>
                <a:avLst/>
                <a:gdLst/>
                <a:ahLst/>
                <a:rect l="l" t="t" r="r" b="b"/>
                <a:pathLst>
                  <a:path w="182" h="909">
                    <a:moveTo>
                      <a:pt x="59" y="909"/>
                    </a:moveTo>
                    <a:lnTo>
                      <a:pt x="30" y="849"/>
                    </a:lnTo>
                    <a:lnTo>
                      <a:pt x="15" y="804"/>
                    </a:lnTo>
                    <a:lnTo>
                      <a:pt x="0" y="743"/>
                    </a:lnTo>
                    <a:lnTo>
                      <a:pt x="0" y="682"/>
                    </a:lnTo>
                    <a:lnTo>
                      <a:pt x="0" y="622"/>
                    </a:lnTo>
                    <a:lnTo>
                      <a:pt x="0" y="562"/>
                    </a:lnTo>
                    <a:lnTo>
                      <a:pt x="0" y="516"/>
                    </a:lnTo>
                    <a:lnTo>
                      <a:pt x="15" y="457"/>
                    </a:lnTo>
                    <a:lnTo>
                      <a:pt x="30" y="395"/>
                    </a:lnTo>
                    <a:lnTo>
                      <a:pt x="45" y="334"/>
                    </a:lnTo>
                    <a:lnTo>
                      <a:pt x="59" y="275"/>
                    </a:lnTo>
                    <a:lnTo>
                      <a:pt x="90" y="213"/>
                    </a:lnTo>
                    <a:lnTo>
                      <a:pt x="105" y="168"/>
                    </a:lnTo>
                    <a:lnTo>
                      <a:pt x="135" y="107"/>
                    </a:lnTo>
                    <a:lnTo>
                      <a:pt x="166" y="48"/>
                    </a:lnTo>
                    <a:lnTo>
                      <a:pt x="182" y="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691160" y="3181320"/>
                <a:ext cx="541080" cy="2759040"/>
              </a:xfrm>
              <a:custGeom>
                <a:avLst/>
                <a:gdLst/>
                <a:ahLst/>
                <a:rect l="l" t="t" r="r" b="b"/>
                <a:pathLst>
                  <a:path w="2042" h="10427">
                    <a:moveTo>
                      <a:pt x="954" y="138"/>
                    </a:moveTo>
                    <a:lnTo>
                      <a:pt x="984" y="182"/>
                    </a:lnTo>
                    <a:lnTo>
                      <a:pt x="1014" y="213"/>
                    </a:lnTo>
                    <a:lnTo>
                      <a:pt x="1043" y="258"/>
                    </a:lnTo>
                    <a:lnTo>
                      <a:pt x="1060" y="303"/>
                    </a:lnTo>
                    <a:lnTo>
                      <a:pt x="1089" y="348"/>
                    </a:lnTo>
                    <a:lnTo>
                      <a:pt x="1105" y="409"/>
                    </a:lnTo>
                    <a:lnTo>
                      <a:pt x="1119" y="454"/>
                    </a:lnTo>
                    <a:lnTo>
                      <a:pt x="1136" y="499"/>
                    </a:lnTo>
                    <a:lnTo>
                      <a:pt x="1150" y="561"/>
                    </a:lnTo>
                    <a:lnTo>
                      <a:pt x="1150" y="606"/>
                    </a:lnTo>
                    <a:lnTo>
                      <a:pt x="1150" y="667"/>
                    </a:lnTo>
                    <a:lnTo>
                      <a:pt x="1150" y="712"/>
                    </a:lnTo>
                    <a:lnTo>
                      <a:pt x="1136" y="772"/>
                    </a:lnTo>
                    <a:lnTo>
                      <a:pt x="1119" y="818"/>
                    </a:lnTo>
                    <a:lnTo>
                      <a:pt x="1105" y="863"/>
                    </a:lnTo>
                    <a:lnTo>
                      <a:pt x="1089" y="924"/>
                    </a:lnTo>
                    <a:lnTo>
                      <a:pt x="1074" y="939"/>
                    </a:lnTo>
                    <a:lnTo>
                      <a:pt x="1060" y="954"/>
                    </a:lnTo>
                    <a:lnTo>
                      <a:pt x="1060" y="970"/>
                    </a:lnTo>
                    <a:lnTo>
                      <a:pt x="1043" y="970"/>
                    </a:lnTo>
                    <a:lnTo>
                      <a:pt x="1043" y="984"/>
                    </a:lnTo>
                    <a:lnTo>
                      <a:pt x="1029" y="984"/>
                    </a:lnTo>
                    <a:lnTo>
                      <a:pt x="1029" y="999"/>
                    </a:lnTo>
                    <a:lnTo>
                      <a:pt x="1014" y="999"/>
                    </a:lnTo>
                    <a:lnTo>
                      <a:pt x="999" y="1014"/>
                    </a:lnTo>
                    <a:lnTo>
                      <a:pt x="984" y="1014"/>
                    </a:lnTo>
                    <a:lnTo>
                      <a:pt x="984" y="1030"/>
                    </a:lnTo>
                    <a:lnTo>
                      <a:pt x="969" y="1030"/>
                    </a:lnTo>
                    <a:lnTo>
                      <a:pt x="954" y="1030"/>
                    </a:lnTo>
                    <a:lnTo>
                      <a:pt x="938" y="1044"/>
                    </a:lnTo>
                    <a:lnTo>
                      <a:pt x="938" y="1059"/>
                    </a:lnTo>
                    <a:lnTo>
                      <a:pt x="938" y="1075"/>
                    </a:lnTo>
                    <a:lnTo>
                      <a:pt x="954" y="1090"/>
                    </a:lnTo>
                    <a:lnTo>
                      <a:pt x="954" y="1106"/>
                    </a:lnTo>
                    <a:lnTo>
                      <a:pt x="954" y="1121"/>
                    </a:lnTo>
                    <a:lnTo>
                      <a:pt x="969" y="1136"/>
                    </a:lnTo>
                    <a:lnTo>
                      <a:pt x="969" y="1151"/>
                    </a:lnTo>
                    <a:lnTo>
                      <a:pt x="969" y="1166"/>
                    </a:lnTo>
                    <a:lnTo>
                      <a:pt x="984" y="1181"/>
                    </a:lnTo>
                    <a:lnTo>
                      <a:pt x="984" y="1195"/>
                    </a:lnTo>
                    <a:lnTo>
                      <a:pt x="999" y="1195"/>
                    </a:lnTo>
                    <a:lnTo>
                      <a:pt x="999" y="1212"/>
                    </a:lnTo>
                    <a:lnTo>
                      <a:pt x="1014" y="1212"/>
                    </a:lnTo>
                    <a:lnTo>
                      <a:pt x="1043" y="1226"/>
                    </a:lnTo>
                    <a:lnTo>
                      <a:pt x="1074" y="1226"/>
                    </a:lnTo>
                    <a:lnTo>
                      <a:pt x="1105" y="1226"/>
                    </a:lnTo>
                    <a:lnTo>
                      <a:pt x="1136" y="1241"/>
                    </a:lnTo>
                    <a:lnTo>
                      <a:pt x="1166" y="1241"/>
                    </a:lnTo>
                    <a:lnTo>
                      <a:pt x="1195" y="1257"/>
                    </a:lnTo>
                    <a:lnTo>
                      <a:pt x="1225" y="1257"/>
                    </a:lnTo>
                    <a:lnTo>
                      <a:pt x="1256" y="1271"/>
                    </a:lnTo>
                    <a:lnTo>
                      <a:pt x="1287" y="1288"/>
                    </a:lnTo>
                    <a:lnTo>
                      <a:pt x="1318" y="1302"/>
                    </a:lnTo>
                    <a:lnTo>
                      <a:pt x="1346" y="1317"/>
                    </a:lnTo>
                    <a:lnTo>
                      <a:pt x="1362" y="1332"/>
                    </a:lnTo>
                    <a:lnTo>
                      <a:pt x="1393" y="1347"/>
                    </a:lnTo>
                    <a:lnTo>
                      <a:pt x="1407" y="1377"/>
                    </a:lnTo>
                    <a:lnTo>
                      <a:pt x="1422" y="1408"/>
                    </a:lnTo>
                    <a:lnTo>
                      <a:pt x="1438" y="1439"/>
                    </a:lnTo>
                    <a:lnTo>
                      <a:pt x="1438" y="1467"/>
                    </a:lnTo>
                    <a:lnTo>
                      <a:pt x="1438" y="1514"/>
                    </a:lnTo>
                    <a:lnTo>
                      <a:pt x="1438" y="1545"/>
                    </a:lnTo>
                    <a:lnTo>
                      <a:pt x="1438" y="1574"/>
                    </a:lnTo>
                    <a:lnTo>
                      <a:pt x="1438" y="1604"/>
                    </a:lnTo>
                    <a:lnTo>
                      <a:pt x="1422" y="1635"/>
                    </a:lnTo>
                    <a:lnTo>
                      <a:pt x="1422" y="1666"/>
                    </a:lnTo>
                    <a:lnTo>
                      <a:pt x="1407" y="1696"/>
                    </a:lnTo>
                    <a:lnTo>
                      <a:pt x="1407" y="1725"/>
                    </a:lnTo>
                    <a:lnTo>
                      <a:pt x="1393" y="1756"/>
                    </a:lnTo>
                    <a:lnTo>
                      <a:pt x="1393" y="1786"/>
                    </a:lnTo>
                    <a:lnTo>
                      <a:pt x="1393" y="1817"/>
                    </a:lnTo>
                    <a:lnTo>
                      <a:pt x="1393" y="1848"/>
                    </a:lnTo>
                    <a:lnTo>
                      <a:pt x="1407" y="1876"/>
                    </a:lnTo>
                    <a:lnTo>
                      <a:pt x="1407" y="1907"/>
                    </a:lnTo>
                    <a:lnTo>
                      <a:pt x="1438" y="1953"/>
                    </a:lnTo>
                    <a:lnTo>
                      <a:pt x="1469" y="2074"/>
                    </a:lnTo>
                    <a:lnTo>
                      <a:pt x="1514" y="2194"/>
                    </a:lnTo>
                    <a:lnTo>
                      <a:pt x="1543" y="2316"/>
                    </a:lnTo>
                    <a:lnTo>
                      <a:pt x="1589" y="2438"/>
                    </a:lnTo>
                    <a:lnTo>
                      <a:pt x="1634" y="2558"/>
                    </a:lnTo>
                    <a:lnTo>
                      <a:pt x="1665" y="2679"/>
                    </a:lnTo>
                    <a:lnTo>
                      <a:pt x="1710" y="2799"/>
                    </a:lnTo>
                    <a:lnTo>
                      <a:pt x="1741" y="2922"/>
                    </a:lnTo>
                    <a:lnTo>
                      <a:pt x="1786" y="3043"/>
                    </a:lnTo>
                    <a:lnTo>
                      <a:pt x="1815" y="3163"/>
                    </a:lnTo>
                    <a:lnTo>
                      <a:pt x="1846" y="3284"/>
                    </a:lnTo>
                    <a:lnTo>
                      <a:pt x="1892" y="3420"/>
                    </a:lnTo>
                    <a:lnTo>
                      <a:pt x="1922" y="3540"/>
                    </a:lnTo>
                    <a:lnTo>
                      <a:pt x="1952" y="3663"/>
                    </a:lnTo>
                    <a:lnTo>
                      <a:pt x="1983" y="3784"/>
                    </a:lnTo>
                    <a:lnTo>
                      <a:pt x="1997" y="3919"/>
                    </a:lnTo>
                    <a:lnTo>
                      <a:pt x="2028" y="4056"/>
                    </a:lnTo>
                    <a:lnTo>
                      <a:pt x="2028" y="4193"/>
                    </a:lnTo>
                    <a:lnTo>
                      <a:pt x="2042" y="4344"/>
                    </a:lnTo>
                    <a:lnTo>
                      <a:pt x="2042" y="4480"/>
                    </a:lnTo>
                    <a:lnTo>
                      <a:pt x="2042" y="4616"/>
                    </a:lnTo>
                    <a:lnTo>
                      <a:pt x="2042" y="4766"/>
                    </a:lnTo>
                    <a:lnTo>
                      <a:pt x="2028" y="4903"/>
                    </a:lnTo>
                    <a:lnTo>
                      <a:pt x="2013" y="5040"/>
                    </a:lnTo>
                    <a:lnTo>
                      <a:pt x="1997" y="5175"/>
                    </a:lnTo>
                    <a:lnTo>
                      <a:pt x="1983" y="5326"/>
                    </a:lnTo>
                    <a:lnTo>
                      <a:pt x="1952" y="5463"/>
                    </a:lnTo>
                    <a:lnTo>
                      <a:pt x="1922" y="5599"/>
                    </a:lnTo>
                    <a:lnTo>
                      <a:pt x="1892" y="5720"/>
                    </a:lnTo>
                    <a:lnTo>
                      <a:pt x="1846" y="5857"/>
                    </a:lnTo>
                    <a:lnTo>
                      <a:pt x="1815" y="5993"/>
                    </a:lnTo>
                    <a:lnTo>
                      <a:pt x="1770" y="6115"/>
                    </a:lnTo>
                    <a:lnTo>
                      <a:pt x="1755" y="6160"/>
                    </a:lnTo>
                    <a:lnTo>
                      <a:pt x="1755" y="6190"/>
                    </a:lnTo>
                    <a:lnTo>
                      <a:pt x="1741" y="6235"/>
                    </a:lnTo>
                    <a:lnTo>
                      <a:pt x="1725" y="6266"/>
                    </a:lnTo>
                    <a:lnTo>
                      <a:pt x="1725" y="6294"/>
                    </a:lnTo>
                    <a:lnTo>
                      <a:pt x="1710" y="6342"/>
                    </a:lnTo>
                    <a:lnTo>
                      <a:pt x="1696" y="6370"/>
                    </a:lnTo>
                    <a:lnTo>
                      <a:pt x="1696" y="6401"/>
                    </a:lnTo>
                    <a:lnTo>
                      <a:pt x="1679" y="6448"/>
                    </a:lnTo>
                    <a:lnTo>
                      <a:pt x="1665" y="6476"/>
                    </a:lnTo>
                    <a:lnTo>
                      <a:pt x="1650" y="6507"/>
                    </a:lnTo>
                    <a:lnTo>
                      <a:pt x="1634" y="6552"/>
                    </a:lnTo>
                    <a:lnTo>
                      <a:pt x="1634" y="6583"/>
                    </a:lnTo>
                    <a:lnTo>
                      <a:pt x="1619" y="6613"/>
                    </a:lnTo>
                    <a:lnTo>
                      <a:pt x="1604" y="6658"/>
                    </a:lnTo>
                    <a:lnTo>
                      <a:pt x="1589" y="6689"/>
                    </a:lnTo>
                    <a:lnTo>
                      <a:pt x="1589" y="6720"/>
                    </a:lnTo>
                    <a:lnTo>
                      <a:pt x="1574" y="6765"/>
                    </a:lnTo>
                    <a:lnTo>
                      <a:pt x="1574" y="6794"/>
                    </a:lnTo>
                    <a:lnTo>
                      <a:pt x="1559" y="6825"/>
                    </a:lnTo>
                    <a:lnTo>
                      <a:pt x="1543" y="6870"/>
                    </a:lnTo>
                    <a:lnTo>
                      <a:pt x="1543" y="6901"/>
                    </a:lnTo>
                    <a:lnTo>
                      <a:pt x="1528" y="6946"/>
                    </a:lnTo>
                    <a:lnTo>
                      <a:pt x="1514" y="6976"/>
                    </a:lnTo>
                    <a:lnTo>
                      <a:pt x="1514" y="7007"/>
                    </a:lnTo>
                    <a:lnTo>
                      <a:pt x="1497" y="7052"/>
                    </a:lnTo>
                    <a:lnTo>
                      <a:pt x="1483" y="7083"/>
                    </a:lnTo>
                    <a:lnTo>
                      <a:pt x="1483" y="7128"/>
                    </a:lnTo>
                    <a:lnTo>
                      <a:pt x="1469" y="7158"/>
                    </a:lnTo>
                    <a:lnTo>
                      <a:pt x="1452" y="7188"/>
                    </a:lnTo>
                    <a:lnTo>
                      <a:pt x="1452" y="7234"/>
                    </a:lnTo>
                    <a:lnTo>
                      <a:pt x="1438" y="7265"/>
                    </a:lnTo>
                    <a:lnTo>
                      <a:pt x="1422" y="7293"/>
                    </a:lnTo>
                    <a:lnTo>
                      <a:pt x="1407" y="7340"/>
                    </a:lnTo>
                    <a:lnTo>
                      <a:pt x="1393" y="7369"/>
                    </a:lnTo>
                    <a:lnTo>
                      <a:pt x="1377" y="7416"/>
                    </a:lnTo>
                    <a:lnTo>
                      <a:pt x="1377" y="7444"/>
                    </a:lnTo>
                    <a:lnTo>
                      <a:pt x="1362" y="7492"/>
                    </a:lnTo>
                    <a:lnTo>
                      <a:pt x="1346" y="7520"/>
                    </a:lnTo>
                    <a:lnTo>
                      <a:pt x="1332" y="7567"/>
                    </a:lnTo>
                    <a:lnTo>
                      <a:pt x="1318" y="7596"/>
                    </a:lnTo>
                    <a:lnTo>
                      <a:pt x="1301" y="7643"/>
                    </a:lnTo>
                    <a:lnTo>
                      <a:pt x="1287" y="7674"/>
                    </a:lnTo>
                    <a:lnTo>
                      <a:pt x="1287" y="7717"/>
                    </a:lnTo>
                    <a:lnTo>
                      <a:pt x="1270" y="7748"/>
                    </a:lnTo>
                    <a:lnTo>
                      <a:pt x="1256" y="7794"/>
                    </a:lnTo>
                    <a:lnTo>
                      <a:pt x="1242" y="7824"/>
                    </a:lnTo>
                    <a:lnTo>
                      <a:pt x="1242" y="7870"/>
                    </a:lnTo>
                    <a:lnTo>
                      <a:pt x="1225" y="7884"/>
                    </a:lnTo>
                    <a:lnTo>
                      <a:pt x="1211" y="7915"/>
                    </a:lnTo>
                    <a:lnTo>
                      <a:pt x="1211" y="7929"/>
                    </a:lnTo>
                    <a:lnTo>
                      <a:pt x="1195" y="7944"/>
                    </a:lnTo>
                    <a:lnTo>
                      <a:pt x="1195" y="7975"/>
                    </a:lnTo>
                    <a:lnTo>
                      <a:pt x="1180" y="7990"/>
                    </a:lnTo>
                    <a:lnTo>
                      <a:pt x="1180" y="8020"/>
                    </a:lnTo>
                    <a:lnTo>
                      <a:pt x="1166" y="8035"/>
                    </a:lnTo>
                    <a:lnTo>
                      <a:pt x="1166" y="8066"/>
                    </a:lnTo>
                    <a:lnTo>
                      <a:pt x="1150" y="8081"/>
                    </a:lnTo>
                    <a:lnTo>
                      <a:pt x="1150" y="8111"/>
                    </a:lnTo>
                    <a:lnTo>
                      <a:pt x="1150" y="8126"/>
                    </a:lnTo>
                    <a:lnTo>
                      <a:pt x="1136" y="8142"/>
                    </a:lnTo>
                    <a:lnTo>
                      <a:pt x="1136" y="8171"/>
                    </a:lnTo>
                    <a:lnTo>
                      <a:pt x="1119" y="8187"/>
                    </a:lnTo>
                    <a:lnTo>
                      <a:pt x="1119" y="8216"/>
                    </a:lnTo>
                    <a:lnTo>
                      <a:pt x="1136" y="8233"/>
                    </a:lnTo>
                    <a:lnTo>
                      <a:pt x="1150" y="8262"/>
                    </a:lnTo>
                    <a:lnTo>
                      <a:pt x="1166" y="8292"/>
                    </a:lnTo>
                    <a:lnTo>
                      <a:pt x="1180" y="8323"/>
                    </a:lnTo>
                    <a:lnTo>
                      <a:pt x="1180" y="8353"/>
                    </a:lnTo>
                    <a:lnTo>
                      <a:pt x="1195" y="8369"/>
                    </a:lnTo>
                    <a:lnTo>
                      <a:pt x="1211" y="8398"/>
                    </a:lnTo>
                    <a:lnTo>
                      <a:pt x="1225" y="8429"/>
                    </a:lnTo>
                    <a:lnTo>
                      <a:pt x="1242" y="8460"/>
                    </a:lnTo>
                    <a:lnTo>
                      <a:pt x="1256" y="8474"/>
                    </a:lnTo>
                    <a:lnTo>
                      <a:pt x="1270" y="8505"/>
                    </a:lnTo>
                    <a:lnTo>
                      <a:pt x="1287" y="8535"/>
                    </a:lnTo>
                    <a:lnTo>
                      <a:pt x="1318" y="8566"/>
                    </a:lnTo>
                    <a:lnTo>
                      <a:pt x="1332" y="8594"/>
                    </a:lnTo>
                    <a:lnTo>
                      <a:pt x="1346" y="8611"/>
                    </a:lnTo>
                    <a:lnTo>
                      <a:pt x="1362" y="8642"/>
                    </a:lnTo>
                    <a:lnTo>
                      <a:pt x="1377" y="8670"/>
                    </a:lnTo>
                    <a:lnTo>
                      <a:pt x="1393" y="8687"/>
                    </a:lnTo>
                    <a:lnTo>
                      <a:pt x="1407" y="8717"/>
                    </a:lnTo>
                    <a:lnTo>
                      <a:pt x="1407" y="8746"/>
                    </a:lnTo>
                    <a:lnTo>
                      <a:pt x="1422" y="8762"/>
                    </a:lnTo>
                    <a:lnTo>
                      <a:pt x="1438" y="8793"/>
                    </a:lnTo>
                    <a:lnTo>
                      <a:pt x="1452" y="8821"/>
                    </a:lnTo>
                    <a:lnTo>
                      <a:pt x="1452" y="8852"/>
                    </a:lnTo>
                    <a:lnTo>
                      <a:pt x="1452" y="8869"/>
                    </a:lnTo>
                    <a:lnTo>
                      <a:pt x="1469" y="8898"/>
                    </a:lnTo>
                    <a:lnTo>
                      <a:pt x="1469" y="8928"/>
                    </a:lnTo>
                    <a:lnTo>
                      <a:pt x="1469" y="8958"/>
                    </a:lnTo>
                    <a:lnTo>
                      <a:pt x="1469" y="8989"/>
                    </a:lnTo>
                    <a:lnTo>
                      <a:pt x="1452" y="9020"/>
                    </a:lnTo>
                    <a:lnTo>
                      <a:pt x="1452" y="9034"/>
                    </a:lnTo>
                    <a:lnTo>
                      <a:pt x="1438" y="9065"/>
                    </a:lnTo>
                    <a:lnTo>
                      <a:pt x="1407" y="9110"/>
                    </a:lnTo>
                    <a:lnTo>
                      <a:pt x="1377" y="9155"/>
                    </a:lnTo>
                    <a:lnTo>
                      <a:pt x="1346" y="9201"/>
                    </a:lnTo>
                    <a:lnTo>
                      <a:pt x="1318" y="9230"/>
                    </a:lnTo>
                    <a:lnTo>
                      <a:pt x="1287" y="9276"/>
                    </a:lnTo>
                    <a:lnTo>
                      <a:pt x="1256" y="9321"/>
                    </a:lnTo>
                    <a:lnTo>
                      <a:pt x="1211" y="9352"/>
                    </a:lnTo>
                    <a:lnTo>
                      <a:pt x="1180" y="9397"/>
                    </a:lnTo>
                    <a:lnTo>
                      <a:pt x="1150" y="9428"/>
                    </a:lnTo>
                    <a:lnTo>
                      <a:pt x="1105" y="9473"/>
                    </a:lnTo>
                    <a:lnTo>
                      <a:pt x="1074" y="9503"/>
                    </a:lnTo>
                    <a:lnTo>
                      <a:pt x="1043" y="9534"/>
                    </a:lnTo>
                    <a:lnTo>
                      <a:pt x="999" y="9579"/>
                    </a:lnTo>
                    <a:lnTo>
                      <a:pt x="969" y="9610"/>
                    </a:lnTo>
                    <a:lnTo>
                      <a:pt x="923" y="9638"/>
                    </a:lnTo>
                    <a:lnTo>
                      <a:pt x="893" y="9685"/>
                    </a:lnTo>
                    <a:lnTo>
                      <a:pt x="878" y="9685"/>
                    </a:lnTo>
                    <a:lnTo>
                      <a:pt x="862" y="9700"/>
                    </a:lnTo>
                    <a:lnTo>
                      <a:pt x="862" y="9716"/>
                    </a:lnTo>
                    <a:lnTo>
                      <a:pt x="862" y="9730"/>
                    </a:lnTo>
                    <a:lnTo>
                      <a:pt x="862" y="9745"/>
                    </a:lnTo>
                    <a:lnTo>
                      <a:pt x="862" y="9761"/>
                    </a:lnTo>
                    <a:lnTo>
                      <a:pt x="878" y="9761"/>
                    </a:lnTo>
                    <a:lnTo>
                      <a:pt x="878" y="9775"/>
                    </a:lnTo>
                    <a:lnTo>
                      <a:pt x="878" y="9792"/>
                    </a:lnTo>
                    <a:lnTo>
                      <a:pt x="893" y="9792"/>
                    </a:lnTo>
                    <a:lnTo>
                      <a:pt x="893" y="9806"/>
                    </a:lnTo>
                    <a:lnTo>
                      <a:pt x="909" y="9820"/>
                    </a:lnTo>
                    <a:lnTo>
                      <a:pt x="909" y="9837"/>
                    </a:lnTo>
                    <a:lnTo>
                      <a:pt x="923" y="9851"/>
                    </a:lnTo>
                    <a:lnTo>
                      <a:pt x="938" y="9882"/>
                    </a:lnTo>
                    <a:lnTo>
                      <a:pt x="969" y="9912"/>
                    </a:lnTo>
                    <a:lnTo>
                      <a:pt x="984" y="9957"/>
                    </a:lnTo>
                    <a:lnTo>
                      <a:pt x="1014" y="9988"/>
                    </a:lnTo>
                    <a:lnTo>
                      <a:pt x="1029" y="10019"/>
                    </a:lnTo>
                    <a:lnTo>
                      <a:pt x="1043" y="10047"/>
                    </a:lnTo>
                    <a:lnTo>
                      <a:pt x="1074" y="10093"/>
                    </a:lnTo>
                    <a:lnTo>
                      <a:pt x="1089" y="10124"/>
                    </a:lnTo>
                    <a:lnTo>
                      <a:pt x="1105" y="10153"/>
                    </a:lnTo>
                    <a:lnTo>
                      <a:pt x="1136" y="10184"/>
                    </a:lnTo>
                    <a:lnTo>
                      <a:pt x="1150" y="10215"/>
                    </a:lnTo>
                    <a:lnTo>
                      <a:pt x="1180" y="10260"/>
                    </a:lnTo>
                    <a:lnTo>
                      <a:pt x="1195" y="10290"/>
                    </a:lnTo>
                    <a:lnTo>
                      <a:pt x="1225" y="10320"/>
                    </a:lnTo>
                    <a:lnTo>
                      <a:pt x="1242" y="10351"/>
                    </a:lnTo>
                    <a:lnTo>
                      <a:pt x="1270" y="10380"/>
                    </a:lnTo>
                    <a:lnTo>
                      <a:pt x="1270" y="10396"/>
                    </a:lnTo>
                    <a:lnTo>
                      <a:pt x="1256" y="10411"/>
                    </a:lnTo>
                    <a:lnTo>
                      <a:pt x="1242" y="10427"/>
                    </a:lnTo>
                    <a:lnTo>
                      <a:pt x="1136" y="10320"/>
                    </a:lnTo>
                    <a:lnTo>
                      <a:pt x="1029" y="10215"/>
                    </a:lnTo>
                    <a:lnTo>
                      <a:pt x="923" y="10124"/>
                    </a:lnTo>
                    <a:lnTo>
                      <a:pt x="818" y="10033"/>
                    </a:lnTo>
                    <a:lnTo>
                      <a:pt x="697" y="9927"/>
                    </a:lnTo>
                    <a:lnTo>
                      <a:pt x="666" y="9896"/>
                    </a:lnTo>
                    <a:lnTo>
                      <a:pt x="591" y="9806"/>
                    </a:lnTo>
                    <a:lnTo>
                      <a:pt x="546" y="9700"/>
                    </a:lnTo>
                    <a:lnTo>
                      <a:pt x="529" y="9593"/>
                    </a:lnTo>
                    <a:lnTo>
                      <a:pt x="546" y="9473"/>
                    </a:lnTo>
                    <a:lnTo>
                      <a:pt x="560" y="9352"/>
                    </a:lnTo>
                    <a:lnTo>
                      <a:pt x="560" y="9307"/>
                    </a:lnTo>
                    <a:lnTo>
                      <a:pt x="591" y="9140"/>
                    </a:lnTo>
                    <a:lnTo>
                      <a:pt x="605" y="8958"/>
                    </a:lnTo>
                    <a:lnTo>
                      <a:pt x="636" y="8776"/>
                    </a:lnTo>
                    <a:lnTo>
                      <a:pt x="651" y="8594"/>
                    </a:lnTo>
                    <a:lnTo>
                      <a:pt x="666" y="8429"/>
                    </a:lnTo>
                    <a:lnTo>
                      <a:pt x="680" y="8369"/>
                    </a:lnTo>
                    <a:lnTo>
                      <a:pt x="666" y="8233"/>
                    </a:lnTo>
                    <a:lnTo>
                      <a:pt x="620" y="8111"/>
                    </a:lnTo>
                    <a:lnTo>
                      <a:pt x="560" y="7990"/>
                    </a:lnTo>
                    <a:lnTo>
                      <a:pt x="484" y="7870"/>
                    </a:lnTo>
                    <a:lnTo>
                      <a:pt x="424" y="7748"/>
                    </a:lnTo>
                    <a:lnTo>
                      <a:pt x="409" y="7702"/>
                    </a:lnTo>
                    <a:lnTo>
                      <a:pt x="333" y="7475"/>
                    </a:lnTo>
                    <a:lnTo>
                      <a:pt x="257" y="7248"/>
                    </a:lnTo>
                    <a:lnTo>
                      <a:pt x="196" y="7021"/>
                    </a:lnTo>
                    <a:lnTo>
                      <a:pt x="137" y="6779"/>
                    </a:lnTo>
                    <a:lnTo>
                      <a:pt x="92" y="6538"/>
                    </a:lnTo>
                    <a:lnTo>
                      <a:pt x="75" y="6462"/>
                    </a:lnTo>
                    <a:lnTo>
                      <a:pt x="30" y="6008"/>
                    </a:lnTo>
                    <a:lnTo>
                      <a:pt x="0" y="5539"/>
                    </a:lnTo>
                    <a:lnTo>
                      <a:pt x="0" y="5085"/>
                    </a:lnTo>
                    <a:lnTo>
                      <a:pt x="46" y="4616"/>
                    </a:lnTo>
                    <a:lnTo>
                      <a:pt x="120" y="4176"/>
                    </a:lnTo>
                    <a:lnTo>
                      <a:pt x="151" y="4041"/>
                    </a:lnTo>
                    <a:lnTo>
                      <a:pt x="182" y="3890"/>
                    </a:lnTo>
                    <a:lnTo>
                      <a:pt x="227" y="3739"/>
                    </a:lnTo>
                    <a:lnTo>
                      <a:pt x="257" y="3588"/>
                    </a:lnTo>
                    <a:lnTo>
                      <a:pt x="302" y="3435"/>
                    </a:lnTo>
                    <a:lnTo>
                      <a:pt x="348" y="3299"/>
                    </a:lnTo>
                    <a:lnTo>
                      <a:pt x="364" y="3239"/>
                    </a:lnTo>
                    <a:lnTo>
                      <a:pt x="424" y="3026"/>
                    </a:lnTo>
                    <a:lnTo>
                      <a:pt x="470" y="2816"/>
                    </a:lnTo>
                    <a:lnTo>
                      <a:pt x="515" y="2589"/>
                    </a:lnTo>
                    <a:lnTo>
                      <a:pt x="515" y="2362"/>
                    </a:lnTo>
                    <a:lnTo>
                      <a:pt x="470" y="2149"/>
                    </a:lnTo>
                    <a:lnTo>
                      <a:pt x="439" y="2074"/>
                    </a:lnTo>
                    <a:lnTo>
                      <a:pt x="409" y="1998"/>
                    </a:lnTo>
                    <a:lnTo>
                      <a:pt x="364" y="1938"/>
                    </a:lnTo>
                    <a:lnTo>
                      <a:pt x="333" y="1862"/>
                    </a:lnTo>
                    <a:lnTo>
                      <a:pt x="319" y="1786"/>
                    </a:lnTo>
                    <a:lnTo>
                      <a:pt x="319" y="1696"/>
                    </a:lnTo>
                    <a:lnTo>
                      <a:pt x="333" y="1666"/>
                    </a:lnTo>
                    <a:lnTo>
                      <a:pt x="378" y="1574"/>
                    </a:lnTo>
                    <a:lnTo>
                      <a:pt x="439" y="1484"/>
                    </a:lnTo>
                    <a:lnTo>
                      <a:pt x="529" y="1408"/>
                    </a:lnTo>
                    <a:lnTo>
                      <a:pt x="605" y="1332"/>
                    </a:lnTo>
                    <a:lnTo>
                      <a:pt x="697" y="1271"/>
                    </a:lnTo>
                    <a:lnTo>
                      <a:pt x="727" y="1257"/>
                    </a:lnTo>
                    <a:lnTo>
                      <a:pt x="757" y="1241"/>
                    </a:lnTo>
                    <a:lnTo>
                      <a:pt x="802" y="1226"/>
                    </a:lnTo>
                    <a:lnTo>
                      <a:pt x="833" y="1212"/>
                    </a:lnTo>
                    <a:lnTo>
                      <a:pt x="862" y="1212"/>
                    </a:lnTo>
                    <a:lnTo>
                      <a:pt x="893" y="1181"/>
                    </a:lnTo>
                    <a:lnTo>
                      <a:pt x="893" y="1166"/>
                    </a:lnTo>
                    <a:lnTo>
                      <a:pt x="878" y="1059"/>
                    </a:lnTo>
                    <a:lnTo>
                      <a:pt x="773" y="1044"/>
                    </a:lnTo>
                    <a:lnTo>
                      <a:pt x="651" y="999"/>
                    </a:lnTo>
                    <a:lnTo>
                      <a:pt x="560" y="954"/>
                    </a:lnTo>
                    <a:lnTo>
                      <a:pt x="470" y="879"/>
                    </a:lnTo>
                    <a:lnTo>
                      <a:pt x="394" y="788"/>
                    </a:lnTo>
                    <a:lnTo>
                      <a:pt x="364" y="757"/>
                    </a:lnTo>
                    <a:lnTo>
                      <a:pt x="319" y="681"/>
                    </a:lnTo>
                    <a:lnTo>
                      <a:pt x="288" y="591"/>
                    </a:lnTo>
                    <a:lnTo>
                      <a:pt x="288" y="499"/>
                    </a:lnTo>
                    <a:lnTo>
                      <a:pt x="288" y="395"/>
                    </a:lnTo>
                    <a:lnTo>
                      <a:pt x="302" y="303"/>
                    </a:lnTo>
                    <a:lnTo>
                      <a:pt x="319" y="272"/>
                    </a:lnTo>
                    <a:lnTo>
                      <a:pt x="348" y="213"/>
                    </a:lnTo>
                    <a:lnTo>
                      <a:pt x="394" y="138"/>
                    </a:lnTo>
                    <a:lnTo>
                      <a:pt x="454" y="76"/>
                    </a:lnTo>
                    <a:lnTo>
                      <a:pt x="515" y="31"/>
                    </a:lnTo>
                    <a:lnTo>
                      <a:pt x="591" y="0"/>
                    </a:lnTo>
                    <a:lnTo>
                      <a:pt x="620" y="0"/>
                    </a:lnTo>
                    <a:lnTo>
                      <a:pt x="680" y="0"/>
                    </a:lnTo>
                    <a:lnTo>
                      <a:pt x="757" y="16"/>
                    </a:lnTo>
                    <a:lnTo>
                      <a:pt x="818" y="45"/>
                    </a:lnTo>
                    <a:lnTo>
                      <a:pt x="878" y="76"/>
                    </a:lnTo>
                    <a:lnTo>
                      <a:pt x="938" y="121"/>
                    </a:lnTo>
                    <a:lnTo>
                      <a:pt x="954" y="1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943520" y="3218040"/>
                <a:ext cx="52200" cy="207720"/>
              </a:xfrm>
              <a:custGeom>
                <a:avLst/>
                <a:gdLst/>
                <a:ahLst/>
                <a:rect l="l" t="t" r="r" b="b"/>
                <a:pathLst>
                  <a:path w="196" h="786">
                    <a:moveTo>
                      <a:pt x="0" y="0"/>
                    </a:moveTo>
                    <a:lnTo>
                      <a:pt x="30" y="44"/>
                    </a:lnTo>
                    <a:lnTo>
                      <a:pt x="60" y="75"/>
                    </a:lnTo>
                    <a:lnTo>
                      <a:pt x="89" y="120"/>
                    </a:lnTo>
                    <a:lnTo>
                      <a:pt x="106" y="165"/>
                    </a:lnTo>
                    <a:lnTo>
                      <a:pt x="135" y="210"/>
                    </a:lnTo>
                    <a:lnTo>
                      <a:pt x="151" y="271"/>
                    </a:lnTo>
                    <a:lnTo>
                      <a:pt x="165" y="316"/>
                    </a:lnTo>
                    <a:lnTo>
                      <a:pt x="182" y="361"/>
                    </a:lnTo>
                    <a:lnTo>
                      <a:pt x="196" y="423"/>
                    </a:lnTo>
                    <a:lnTo>
                      <a:pt x="196" y="468"/>
                    </a:lnTo>
                    <a:lnTo>
                      <a:pt x="196" y="529"/>
                    </a:lnTo>
                    <a:lnTo>
                      <a:pt x="196" y="574"/>
                    </a:lnTo>
                    <a:lnTo>
                      <a:pt x="182" y="634"/>
                    </a:lnTo>
                    <a:lnTo>
                      <a:pt x="165" y="680"/>
                    </a:lnTo>
                    <a:lnTo>
                      <a:pt x="151" y="725"/>
                    </a:lnTo>
                    <a:lnTo>
                      <a:pt x="135" y="7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938840" y="3457440"/>
                <a:ext cx="20520" cy="44640"/>
              </a:xfrm>
              <a:custGeom>
                <a:avLst/>
                <a:gdLst/>
                <a:ahLst/>
                <a:rect l="l" t="t" r="r" b="b"/>
                <a:pathLst>
                  <a:path w="76" h="168">
                    <a:moveTo>
                      <a:pt x="0" y="0"/>
                    </a:moveTo>
                    <a:lnTo>
                      <a:pt x="0" y="15"/>
                    </a:lnTo>
                    <a:lnTo>
                      <a:pt x="0" y="31"/>
                    </a:lnTo>
                    <a:lnTo>
                      <a:pt x="16" y="46"/>
                    </a:lnTo>
                    <a:lnTo>
                      <a:pt x="16" y="62"/>
                    </a:lnTo>
                    <a:lnTo>
                      <a:pt x="16" y="77"/>
                    </a:lnTo>
                    <a:lnTo>
                      <a:pt x="31" y="92"/>
                    </a:lnTo>
                    <a:lnTo>
                      <a:pt x="31" y="107"/>
                    </a:lnTo>
                    <a:lnTo>
                      <a:pt x="31" y="122"/>
                    </a:lnTo>
                    <a:lnTo>
                      <a:pt x="46" y="137"/>
                    </a:lnTo>
                    <a:lnTo>
                      <a:pt x="46" y="151"/>
                    </a:lnTo>
                    <a:lnTo>
                      <a:pt x="61" y="151"/>
                    </a:lnTo>
                    <a:lnTo>
                      <a:pt x="61" y="168"/>
                    </a:lnTo>
                    <a:lnTo>
                      <a:pt x="76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959360" y="350208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424" h="227">
                    <a:moveTo>
                      <a:pt x="0" y="0"/>
                    </a:moveTo>
                    <a:lnTo>
                      <a:pt x="29" y="14"/>
                    </a:lnTo>
                    <a:lnTo>
                      <a:pt x="60" y="14"/>
                    </a:lnTo>
                    <a:lnTo>
                      <a:pt x="91" y="14"/>
                    </a:lnTo>
                    <a:lnTo>
                      <a:pt x="122" y="29"/>
                    </a:lnTo>
                    <a:lnTo>
                      <a:pt x="152" y="29"/>
                    </a:lnTo>
                    <a:lnTo>
                      <a:pt x="181" y="45"/>
                    </a:lnTo>
                    <a:lnTo>
                      <a:pt x="211" y="45"/>
                    </a:lnTo>
                    <a:lnTo>
                      <a:pt x="242" y="59"/>
                    </a:lnTo>
                    <a:lnTo>
                      <a:pt x="273" y="76"/>
                    </a:lnTo>
                    <a:lnTo>
                      <a:pt x="304" y="90"/>
                    </a:lnTo>
                    <a:lnTo>
                      <a:pt x="332" y="105"/>
                    </a:lnTo>
                    <a:lnTo>
                      <a:pt x="348" y="120"/>
                    </a:lnTo>
                    <a:lnTo>
                      <a:pt x="379" y="135"/>
                    </a:lnTo>
                    <a:lnTo>
                      <a:pt x="393" y="165"/>
                    </a:lnTo>
                    <a:lnTo>
                      <a:pt x="408" y="196"/>
                    </a:lnTo>
                    <a:lnTo>
                      <a:pt x="424" y="2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5059440" y="3562200"/>
                <a:ext cx="12600" cy="136800"/>
              </a:xfrm>
              <a:custGeom>
                <a:avLst/>
                <a:gdLst/>
                <a:ahLst/>
                <a:rect l="l" t="t" r="r" b="b"/>
                <a:pathLst>
                  <a:path w="45" h="514">
                    <a:moveTo>
                      <a:pt x="45" y="0"/>
                    </a:moveTo>
                    <a:lnTo>
                      <a:pt x="45" y="28"/>
                    </a:lnTo>
                    <a:lnTo>
                      <a:pt x="45" y="75"/>
                    </a:lnTo>
                    <a:lnTo>
                      <a:pt x="45" y="106"/>
                    </a:lnTo>
                    <a:lnTo>
                      <a:pt x="45" y="135"/>
                    </a:lnTo>
                    <a:lnTo>
                      <a:pt x="45" y="165"/>
                    </a:lnTo>
                    <a:lnTo>
                      <a:pt x="29" y="196"/>
                    </a:lnTo>
                    <a:lnTo>
                      <a:pt x="29" y="227"/>
                    </a:lnTo>
                    <a:lnTo>
                      <a:pt x="14" y="257"/>
                    </a:lnTo>
                    <a:lnTo>
                      <a:pt x="14" y="286"/>
                    </a:lnTo>
                    <a:lnTo>
                      <a:pt x="0" y="317"/>
                    </a:lnTo>
                    <a:lnTo>
                      <a:pt x="0" y="347"/>
                    </a:lnTo>
                    <a:lnTo>
                      <a:pt x="0" y="378"/>
                    </a:lnTo>
                    <a:lnTo>
                      <a:pt x="0" y="409"/>
                    </a:lnTo>
                    <a:lnTo>
                      <a:pt x="14" y="437"/>
                    </a:lnTo>
                    <a:lnTo>
                      <a:pt x="14" y="468"/>
                    </a:lnTo>
                    <a:lnTo>
                      <a:pt x="45" y="5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5072040" y="3699000"/>
                <a:ext cx="147600" cy="520560"/>
              </a:xfrm>
              <a:custGeom>
                <a:avLst/>
                <a:gdLst/>
                <a:ahLst/>
                <a:rect l="l" t="t" r="r" b="b"/>
                <a:pathLst>
                  <a:path w="559" h="1966">
                    <a:moveTo>
                      <a:pt x="0" y="0"/>
                    </a:moveTo>
                    <a:lnTo>
                      <a:pt x="31" y="121"/>
                    </a:lnTo>
                    <a:lnTo>
                      <a:pt x="76" y="241"/>
                    </a:lnTo>
                    <a:lnTo>
                      <a:pt x="105" y="363"/>
                    </a:lnTo>
                    <a:lnTo>
                      <a:pt x="151" y="485"/>
                    </a:lnTo>
                    <a:lnTo>
                      <a:pt x="196" y="605"/>
                    </a:lnTo>
                    <a:lnTo>
                      <a:pt x="227" y="726"/>
                    </a:lnTo>
                    <a:lnTo>
                      <a:pt x="272" y="846"/>
                    </a:lnTo>
                    <a:lnTo>
                      <a:pt x="303" y="969"/>
                    </a:lnTo>
                    <a:lnTo>
                      <a:pt x="348" y="1090"/>
                    </a:lnTo>
                    <a:lnTo>
                      <a:pt x="377" y="1210"/>
                    </a:lnTo>
                    <a:lnTo>
                      <a:pt x="408" y="1331"/>
                    </a:lnTo>
                    <a:lnTo>
                      <a:pt x="454" y="1467"/>
                    </a:lnTo>
                    <a:lnTo>
                      <a:pt x="484" y="1587"/>
                    </a:lnTo>
                    <a:lnTo>
                      <a:pt x="514" y="1710"/>
                    </a:lnTo>
                    <a:lnTo>
                      <a:pt x="545" y="1831"/>
                    </a:lnTo>
                    <a:lnTo>
                      <a:pt x="559" y="19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5159520" y="4219560"/>
                <a:ext cx="72720" cy="579600"/>
              </a:xfrm>
              <a:custGeom>
                <a:avLst/>
                <a:gdLst/>
                <a:ahLst/>
                <a:rect l="l" t="t" r="r" b="b"/>
                <a:pathLst>
                  <a:path w="272" h="2196">
                    <a:moveTo>
                      <a:pt x="227" y="0"/>
                    </a:moveTo>
                    <a:lnTo>
                      <a:pt x="258" y="137"/>
                    </a:lnTo>
                    <a:lnTo>
                      <a:pt x="258" y="274"/>
                    </a:lnTo>
                    <a:lnTo>
                      <a:pt x="272" y="425"/>
                    </a:lnTo>
                    <a:lnTo>
                      <a:pt x="272" y="561"/>
                    </a:lnTo>
                    <a:lnTo>
                      <a:pt x="272" y="697"/>
                    </a:lnTo>
                    <a:lnTo>
                      <a:pt x="272" y="847"/>
                    </a:lnTo>
                    <a:lnTo>
                      <a:pt x="258" y="984"/>
                    </a:lnTo>
                    <a:lnTo>
                      <a:pt x="243" y="1121"/>
                    </a:lnTo>
                    <a:lnTo>
                      <a:pt x="227" y="1256"/>
                    </a:lnTo>
                    <a:lnTo>
                      <a:pt x="213" y="1407"/>
                    </a:lnTo>
                    <a:lnTo>
                      <a:pt x="182" y="1544"/>
                    </a:lnTo>
                    <a:lnTo>
                      <a:pt x="152" y="1680"/>
                    </a:lnTo>
                    <a:lnTo>
                      <a:pt x="122" y="1801"/>
                    </a:lnTo>
                    <a:lnTo>
                      <a:pt x="76" y="1938"/>
                    </a:lnTo>
                    <a:lnTo>
                      <a:pt x="45" y="2074"/>
                    </a:lnTo>
                    <a:lnTo>
                      <a:pt x="0" y="2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5111640" y="4799160"/>
                <a:ext cx="47880" cy="152280"/>
              </a:xfrm>
              <a:custGeom>
                <a:avLst/>
                <a:gdLst/>
                <a:ahLst/>
                <a:rect l="l" t="t" r="r" b="b"/>
                <a:pathLst>
                  <a:path w="181" h="574">
                    <a:moveTo>
                      <a:pt x="181" y="0"/>
                    </a:moveTo>
                    <a:lnTo>
                      <a:pt x="166" y="45"/>
                    </a:lnTo>
                    <a:lnTo>
                      <a:pt x="166" y="75"/>
                    </a:lnTo>
                    <a:lnTo>
                      <a:pt x="152" y="120"/>
                    </a:lnTo>
                    <a:lnTo>
                      <a:pt x="136" y="151"/>
                    </a:lnTo>
                    <a:lnTo>
                      <a:pt x="136" y="179"/>
                    </a:lnTo>
                    <a:lnTo>
                      <a:pt x="121" y="227"/>
                    </a:lnTo>
                    <a:lnTo>
                      <a:pt x="107" y="255"/>
                    </a:lnTo>
                    <a:lnTo>
                      <a:pt x="107" y="286"/>
                    </a:lnTo>
                    <a:lnTo>
                      <a:pt x="90" y="333"/>
                    </a:lnTo>
                    <a:lnTo>
                      <a:pt x="76" y="361"/>
                    </a:lnTo>
                    <a:lnTo>
                      <a:pt x="61" y="392"/>
                    </a:lnTo>
                    <a:lnTo>
                      <a:pt x="45" y="437"/>
                    </a:lnTo>
                    <a:lnTo>
                      <a:pt x="45" y="468"/>
                    </a:lnTo>
                    <a:lnTo>
                      <a:pt x="30" y="498"/>
                    </a:lnTo>
                    <a:lnTo>
                      <a:pt x="15" y="543"/>
                    </a:lnTo>
                    <a:lnTo>
                      <a:pt x="0" y="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5072040" y="4951440"/>
                <a:ext cx="39600" cy="152280"/>
              </a:xfrm>
              <a:custGeom>
                <a:avLst/>
                <a:gdLst/>
                <a:ahLst/>
                <a:rect l="l" t="t" r="r" b="b"/>
                <a:pathLst>
                  <a:path w="151" h="576">
                    <a:moveTo>
                      <a:pt x="151" y="0"/>
                    </a:moveTo>
                    <a:lnTo>
                      <a:pt x="151" y="31"/>
                    </a:lnTo>
                    <a:lnTo>
                      <a:pt x="136" y="76"/>
                    </a:lnTo>
                    <a:lnTo>
                      <a:pt x="136" y="105"/>
                    </a:lnTo>
                    <a:lnTo>
                      <a:pt x="121" y="136"/>
                    </a:lnTo>
                    <a:lnTo>
                      <a:pt x="105" y="181"/>
                    </a:lnTo>
                    <a:lnTo>
                      <a:pt x="105" y="212"/>
                    </a:lnTo>
                    <a:lnTo>
                      <a:pt x="90" y="257"/>
                    </a:lnTo>
                    <a:lnTo>
                      <a:pt x="76" y="287"/>
                    </a:lnTo>
                    <a:lnTo>
                      <a:pt x="76" y="318"/>
                    </a:lnTo>
                    <a:lnTo>
                      <a:pt x="59" y="363"/>
                    </a:lnTo>
                    <a:lnTo>
                      <a:pt x="45" y="394"/>
                    </a:lnTo>
                    <a:lnTo>
                      <a:pt x="45" y="439"/>
                    </a:lnTo>
                    <a:lnTo>
                      <a:pt x="31" y="469"/>
                    </a:lnTo>
                    <a:lnTo>
                      <a:pt x="14" y="499"/>
                    </a:lnTo>
                    <a:lnTo>
                      <a:pt x="14" y="545"/>
                    </a:lnTo>
                    <a:lnTo>
                      <a:pt x="0" y="57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5019840" y="5103720"/>
                <a:ext cx="52200" cy="160560"/>
              </a:xfrm>
              <a:custGeom>
                <a:avLst/>
                <a:gdLst/>
                <a:ahLst/>
                <a:rect l="l" t="t" r="r" b="b"/>
                <a:pathLst>
                  <a:path w="196" h="605">
                    <a:moveTo>
                      <a:pt x="196" y="0"/>
                    </a:moveTo>
                    <a:lnTo>
                      <a:pt x="180" y="28"/>
                    </a:lnTo>
                    <a:lnTo>
                      <a:pt x="165" y="75"/>
                    </a:lnTo>
                    <a:lnTo>
                      <a:pt x="151" y="104"/>
                    </a:lnTo>
                    <a:lnTo>
                      <a:pt x="135" y="151"/>
                    </a:lnTo>
                    <a:lnTo>
                      <a:pt x="135" y="179"/>
                    </a:lnTo>
                    <a:lnTo>
                      <a:pt x="120" y="227"/>
                    </a:lnTo>
                    <a:lnTo>
                      <a:pt x="104" y="255"/>
                    </a:lnTo>
                    <a:lnTo>
                      <a:pt x="90" y="302"/>
                    </a:lnTo>
                    <a:lnTo>
                      <a:pt x="76" y="331"/>
                    </a:lnTo>
                    <a:lnTo>
                      <a:pt x="59" y="378"/>
                    </a:lnTo>
                    <a:lnTo>
                      <a:pt x="45" y="409"/>
                    </a:lnTo>
                    <a:lnTo>
                      <a:pt x="45" y="452"/>
                    </a:lnTo>
                    <a:lnTo>
                      <a:pt x="28" y="483"/>
                    </a:lnTo>
                    <a:lnTo>
                      <a:pt x="14" y="529"/>
                    </a:lnTo>
                    <a:lnTo>
                      <a:pt x="0" y="559"/>
                    </a:lnTo>
                    <a:lnTo>
                      <a:pt x="0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987800" y="5264280"/>
                <a:ext cx="32040" cy="91800"/>
              </a:xfrm>
              <a:custGeom>
                <a:avLst/>
                <a:gdLst/>
                <a:ahLst/>
                <a:rect l="l" t="t" r="r" b="b"/>
                <a:pathLst>
                  <a:path w="123" h="346">
                    <a:moveTo>
                      <a:pt x="123" y="0"/>
                    </a:moveTo>
                    <a:lnTo>
                      <a:pt x="106" y="14"/>
                    </a:lnTo>
                    <a:lnTo>
                      <a:pt x="92" y="45"/>
                    </a:lnTo>
                    <a:lnTo>
                      <a:pt x="92" y="59"/>
                    </a:lnTo>
                    <a:lnTo>
                      <a:pt x="76" y="74"/>
                    </a:lnTo>
                    <a:lnTo>
                      <a:pt x="76" y="105"/>
                    </a:lnTo>
                    <a:lnTo>
                      <a:pt x="61" y="120"/>
                    </a:lnTo>
                    <a:lnTo>
                      <a:pt x="61" y="150"/>
                    </a:lnTo>
                    <a:lnTo>
                      <a:pt x="47" y="165"/>
                    </a:lnTo>
                    <a:lnTo>
                      <a:pt x="47" y="196"/>
                    </a:lnTo>
                    <a:lnTo>
                      <a:pt x="31" y="211"/>
                    </a:lnTo>
                    <a:lnTo>
                      <a:pt x="31" y="241"/>
                    </a:lnTo>
                    <a:lnTo>
                      <a:pt x="31" y="256"/>
                    </a:lnTo>
                    <a:lnTo>
                      <a:pt x="17" y="272"/>
                    </a:lnTo>
                    <a:lnTo>
                      <a:pt x="17" y="301"/>
                    </a:lnTo>
                    <a:lnTo>
                      <a:pt x="0" y="317"/>
                    </a:lnTo>
                    <a:lnTo>
                      <a:pt x="0" y="3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987800" y="5356080"/>
                <a:ext cx="63720" cy="112680"/>
              </a:xfrm>
              <a:custGeom>
                <a:avLst/>
                <a:gdLst/>
                <a:ahLst/>
                <a:rect l="l" t="t" r="r" b="b"/>
                <a:pathLst>
                  <a:path w="243" h="426">
                    <a:moveTo>
                      <a:pt x="0" y="0"/>
                    </a:moveTo>
                    <a:lnTo>
                      <a:pt x="17" y="17"/>
                    </a:lnTo>
                    <a:lnTo>
                      <a:pt x="31" y="46"/>
                    </a:lnTo>
                    <a:lnTo>
                      <a:pt x="47" y="76"/>
                    </a:lnTo>
                    <a:lnTo>
                      <a:pt x="61" y="107"/>
                    </a:lnTo>
                    <a:lnTo>
                      <a:pt x="61" y="137"/>
                    </a:lnTo>
                    <a:lnTo>
                      <a:pt x="76" y="153"/>
                    </a:lnTo>
                    <a:lnTo>
                      <a:pt x="92" y="182"/>
                    </a:lnTo>
                    <a:lnTo>
                      <a:pt x="106" y="213"/>
                    </a:lnTo>
                    <a:lnTo>
                      <a:pt x="123" y="244"/>
                    </a:lnTo>
                    <a:lnTo>
                      <a:pt x="137" y="258"/>
                    </a:lnTo>
                    <a:lnTo>
                      <a:pt x="151" y="289"/>
                    </a:lnTo>
                    <a:lnTo>
                      <a:pt x="168" y="319"/>
                    </a:lnTo>
                    <a:lnTo>
                      <a:pt x="199" y="350"/>
                    </a:lnTo>
                    <a:lnTo>
                      <a:pt x="213" y="378"/>
                    </a:lnTo>
                    <a:lnTo>
                      <a:pt x="227" y="395"/>
                    </a:lnTo>
                    <a:lnTo>
                      <a:pt x="243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927680" y="5580000"/>
                <a:ext cx="144360" cy="163440"/>
              </a:xfrm>
              <a:custGeom>
                <a:avLst/>
                <a:gdLst/>
                <a:ahLst/>
                <a:rect l="l" t="t" r="r" b="b"/>
                <a:pathLst>
                  <a:path w="545" h="620">
                    <a:moveTo>
                      <a:pt x="545" y="0"/>
                    </a:moveTo>
                    <a:lnTo>
                      <a:pt x="514" y="45"/>
                    </a:lnTo>
                    <a:lnTo>
                      <a:pt x="484" y="90"/>
                    </a:lnTo>
                    <a:lnTo>
                      <a:pt x="453" y="136"/>
                    </a:lnTo>
                    <a:lnTo>
                      <a:pt x="425" y="165"/>
                    </a:lnTo>
                    <a:lnTo>
                      <a:pt x="394" y="211"/>
                    </a:lnTo>
                    <a:lnTo>
                      <a:pt x="363" y="256"/>
                    </a:lnTo>
                    <a:lnTo>
                      <a:pt x="318" y="287"/>
                    </a:lnTo>
                    <a:lnTo>
                      <a:pt x="287" y="332"/>
                    </a:lnTo>
                    <a:lnTo>
                      <a:pt x="257" y="363"/>
                    </a:lnTo>
                    <a:lnTo>
                      <a:pt x="212" y="408"/>
                    </a:lnTo>
                    <a:lnTo>
                      <a:pt x="181" y="438"/>
                    </a:lnTo>
                    <a:lnTo>
                      <a:pt x="150" y="469"/>
                    </a:lnTo>
                    <a:lnTo>
                      <a:pt x="106" y="514"/>
                    </a:lnTo>
                    <a:lnTo>
                      <a:pt x="76" y="545"/>
                    </a:lnTo>
                    <a:lnTo>
                      <a:pt x="30" y="573"/>
                    </a:lnTo>
                    <a:lnTo>
                      <a:pt x="0" y="62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919760" y="57434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61" h="166">
                    <a:moveTo>
                      <a:pt x="31" y="0"/>
                    </a:moveTo>
                    <a:lnTo>
                      <a:pt x="16" y="0"/>
                    </a:lnTo>
                    <a:lnTo>
                      <a:pt x="0" y="15"/>
                    </a:lnTo>
                    <a:lnTo>
                      <a:pt x="0" y="31"/>
                    </a:lnTo>
                    <a:lnTo>
                      <a:pt x="0" y="45"/>
                    </a:lnTo>
                    <a:lnTo>
                      <a:pt x="0" y="60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90"/>
                    </a:lnTo>
                    <a:lnTo>
                      <a:pt x="16" y="107"/>
                    </a:lnTo>
                    <a:lnTo>
                      <a:pt x="31" y="107"/>
                    </a:lnTo>
                    <a:lnTo>
                      <a:pt x="31" y="121"/>
                    </a:lnTo>
                    <a:lnTo>
                      <a:pt x="47" y="135"/>
                    </a:lnTo>
                    <a:lnTo>
                      <a:pt x="47" y="152"/>
                    </a:lnTo>
                    <a:lnTo>
                      <a:pt x="61" y="16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935600" y="5788080"/>
                <a:ext cx="92160" cy="139680"/>
              </a:xfrm>
              <a:custGeom>
                <a:avLst/>
                <a:gdLst/>
                <a:ahLst/>
                <a:rect l="l" t="t" r="r" b="b"/>
                <a:pathLst>
                  <a:path w="347" h="529">
                    <a:moveTo>
                      <a:pt x="0" y="0"/>
                    </a:moveTo>
                    <a:lnTo>
                      <a:pt x="15" y="31"/>
                    </a:lnTo>
                    <a:lnTo>
                      <a:pt x="46" y="61"/>
                    </a:lnTo>
                    <a:lnTo>
                      <a:pt x="61" y="106"/>
                    </a:lnTo>
                    <a:lnTo>
                      <a:pt x="91" y="137"/>
                    </a:lnTo>
                    <a:lnTo>
                      <a:pt x="106" y="168"/>
                    </a:lnTo>
                    <a:lnTo>
                      <a:pt x="120" y="196"/>
                    </a:lnTo>
                    <a:lnTo>
                      <a:pt x="151" y="242"/>
                    </a:lnTo>
                    <a:lnTo>
                      <a:pt x="166" y="273"/>
                    </a:lnTo>
                    <a:lnTo>
                      <a:pt x="182" y="302"/>
                    </a:lnTo>
                    <a:lnTo>
                      <a:pt x="213" y="333"/>
                    </a:lnTo>
                    <a:lnTo>
                      <a:pt x="227" y="364"/>
                    </a:lnTo>
                    <a:lnTo>
                      <a:pt x="257" y="409"/>
                    </a:lnTo>
                    <a:lnTo>
                      <a:pt x="272" y="439"/>
                    </a:lnTo>
                    <a:lnTo>
                      <a:pt x="302" y="469"/>
                    </a:lnTo>
                    <a:lnTo>
                      <a:pt x="319" y="500"/>
                    </a:lnTo>
                    <a:lnTo>
                      <a:pt x="347" y="5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867200" y="5800680"/>
                <a:ext cx="152640" cy="139680"/>
              </a:xfrm>
              <a:custGeom>
                <a:avLst/>
                <a:gdLst/>
                <a:ahLst/>
                <a:rect l="l" t="t" r="r" b="b"/>
                <a:pathLst>
                  <a:path w="576" h="531">
                    <a:moveTo>
                      <a:pt x="576" y="531"/>
                    </a:moveTo>
                    <a:lnTo>
                      <a:pt x="545" y="484"/>
                    </a:lnTo>
                    <a:lnTo>
                      <a:pt x="500" y="455"/>
                    </a:lnTo>
                    <a:lnTo>
                      <a:pt x="470" y="424"/>
                    </a:lnTo>
                    <a:lnTo>
                      <a:pt x="439" y="379"/>
                    </a:lnTo>
                    <a:lnTo>
                      <a:pt x="394" y="350"/>
                    </a:lnTo>
                    <a:lnTo>
                      <a:pt x="363" y="319"/>
                    </a:lnTo>
                    <a:lnTo>
                      <a:pt x="333" y="288"/>
                    </a:lnTo>
                    <a:lnTo>
                      <a:pt x="288" y="257"/>
                    </a:lnTo>
                    <a:lnTo>
                      <a:pt x="257" y="228"/>
                    </a:lnTo>
                    <a:lnTo>
                      <a:pt x="212" y="197"/>
                    </a:lnTo>
                    <a:lnTo>
                      <a:pt x="181" y="168"/>
                    </a:lnTo>
                    <a:lnTo>
                      <a:pt x="152" y="137"/>
                    </a:lnTo>
                    <a:lnTo>
                      <a:pt x="107" y="106"/>
                    </a:lnTo>
                    <a:lnTo>
                      <a:pt x="76" y="61"/>
                    </a:lnTo>
                    <a:lnTo>
                      <a:pt x="31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830840" y="5645160"/>
                <a:ext cx="36360" cy="155520"/>
              </a:xfrm>
              <a:custGeom>
                <a:avLst/>
                <a:gdLst/>
                <a:ahLst/>
                <a:rect l="l" t="t" r="r" b="b"/>
                <a:pathLst>
                  <a:path w="137" h="589">
                    <a:moveTo>
                      <a:pt x="137" y="589"/>
                    </a:moveTo>
                    <a:lnTo>
                      <a:pt x="107" y="560"/>
                    </a:lnTo>
                    <a:lnTo>
                      <a:pt x="76" y="530"/>
                    </a:lnTo>
                    <a:lnTo>
                      <a:pt x="62" y="499"/>
                    </a:lnTo>
                    <a:lnTo>
                      <a:pt x="46" y="468"/>
                    </a:lnTo>
                    <a:lnTo>
                      <a:pt x="31" y="438"/>
                    </a:lnTo>
                    <a:lnTo>
                      <a:pt x="17" y="393"/>
                    </a:lnTo>
                    <a:lnTo>
                      <a:pt x="17" y="362"/>
                    </a:lnTo>
                    <a:lnTo>
                      <a:pt x="0" y="317"/>
                    </a:lnTo>
                    <a:lnTo>
                      <a:pt x="0" y="286"/>
                    </a:lnTo>
                    <a:lnTo>
                      <a:pt x="0" y="241"/>
                    </a:lnTo>
                    <a:lnTo>
                      <a:pt x="0" y="196"/>
                    </a:lnTo>
                    <a:lnTo>
                      <a:pt x="17" y="166"/>
                    </a:lnTo>
                    <a:lnTo>
                      <a:pt x="17" y="121"/>
                    </a:lnTo>
                    <a:lnTo>
                      <a:pt x="17" y="90"/>
                    </a:lnTo>
                    <a:lnTo>
                      <a:pt x="31" y="4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838760" y="5396040"/>
                <a:ext cx="31680" cy="249120"/>
              </a:xfrm>
              <a:custGeom>
                <a:avLst/>
                <a:gdLst/>
                <a:ahLst/>
                <a:rect l="l" t="t" r="r" b="b"/>
                <a:pathLst>
                  <a:path w="120" h="938">
                    <a:moveTo>
                      <a:pt x="0" y="938"/>
                    </a:moveTo>
                    <a:lnTo>
                      <a:pt x="15" y="892"/>
                    </a:lnTo>
                    <a:lnTo>
                      <a:pt x="15" y="832"/>
                    </a:lnTo>
                    <a:lnTo>
                      <a:pt x="31" y="771"/>
                    </a:lnTo>
                    <a:lnTo>
                      <a:pt x="45" y="710"/>
                    </a:lnTo>
                    <a:lnTo>
                      <a:pt x="45" y="651"/>
                    </a:lnTo>
                    <a:lnTo>
                      <a:pt x="45" y="589"/>
                    </a:lnTo>
                    <a:lnTo>
                      <a:pt x="60" y="529"/>
                    </a:lnTo>
                    <a:lnTo>
                      <a:pt x="60" y="469"/>
                    </a:lnTo>
                    <a:lnTo>
                      <a:pt x="76" y="407"/>
                    </a:lnTo>
                    <a:lnTo>
                      <a:pt x="76" y="348"/>
                    </a:lnTo>
                    <a:lnTo>
                      <a:pt x="76" y="287"/>
                    </a:lnTo>
                    <a:lnTo>
                      <a:pt x="91" y="225"/>
                    </a:lnTo>
                    <a:lnTo>
                      <a:pt x="91" y="166"/>
                    </a:lnTo>
                    <a:lnTo>
                      <a:pt x="106" y="121"/>
                    </a:lnTo>
                    <a:lnTo>
                      <a:pt x="106" y="6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799160" y="5219640"/>
                <a:ext cx="71280" cy="176400"/>
              </a:xfrm>
              <a:custGeom>
                <a:avLst/>
                <a:gdLst/>
                <a:ahLst/>
                <a:rect l="l" t="t" r="r" b="b"/>
                <a:pathLst>
                  <a:path w="271" h="667">
                    <a:moveTo>
                      <a:pt x="271" y="667"/>
                    </a:moveTo>
                    <a:lnTo>
                      <a:pt x="271" y="621"/>
                    </a:lnTo>
                    <a:lnTo>
                      <a:pt x="257" y="576"/>
                    </a:lnTo>
                    <a:lnTo>
                      <a:pt x="257" y="531"/>
                    </a:lnTo>
                    <a:lnTo>
                      <a:pt x="242" y="485"/>
                    </a:lnTo>
                    <a:lnTo>
                      <a:pt x="227" y="440"/>
                    </a:lnTo>
                    <a:lnTo>
                      <a:pt x="211" y="409"/>
                    </a:lnTo>
                    <a:lnTo>
                      <a:pt x="196" y="364"/>
                    </a:lnTo>
                    <a:lnTo>
                      <a:pt x="166" y="318"/>
                    </a:lnTo>
                    <a:lnTo>
                      <a:pt x="151" y="288"/>
                    </a:lnTo>
                    <a:lnTo>
                      <a:pt x="120" y="242"/>
                    </a:lnTo>
                    <a:lnTo>
                      <a:pt x="106" y="213"/>
                    </a:lnTo>
                    <a:lnTo>
                      <a:pt x="75" y="168"/>
                    </a:lnTo>
                    <a:lnTo>
                      <a:pt x="61" y="122"/>
                    </a:lnTo>
                    <a:lnTo>
                      <a:pt x="30" y="92"/>
                    </a:lnTo>
                    <a:lnTo>
                      <a:pt x="15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4711680" y="4890960"/>
                <a:ext cx="87480" cy="328680"/>
              </a:xfrm>
              <a:custGeom>
                <a:avLst/>
                <a:gdLst/>
                <a:ahLst/>
                <a:rect l="l" t="t" r="r" b="b"/>
                <a:pathLst>
                  <a:path w="334" h="1240">
                    <a:moveTo>
                      <a:pt x="334" y="1240"/>
                    </a:moveTo>
                    <a:lnTo>
                      <a:pt x="303" y="1164"/>
                    </a:lnTo>
                    <a:lnTo>
                      <a:pt x="273" y="1089"/>
                    </a:lnTo>
                    <a:lnTo>
                      <a:pt x="258" y="1013"/>
                    </a:lnTo>
                    <a:lnTo>
                      <a:pt x="227" y="937"/>
                    </a:lnTo>
                    <a:lnTo>
                      <a:pt x="197" y="862"/>
                    </a:lnTo>
                    <a:lnTo>
                      <a:pt x="182" y="786"/>
                    </a:lnTo>
                    <a:lnTo>
                      <a:pt x="152" y="711"/>
                    </a:lnTo>
                    <a:lnTo>
                      <a:pt x="137" y="635"/>
                    </a:lnTo>
                    <a:lnTo>
                      <a:pt x="121" y="559"/>
                    </a:lnTo>
                    <a:lnTo>
                      <a:pt x="107" y="469"/>
                    </a:lnTo>
                    <a:lnTo>
                      <a:pt x="76" y="394"/>
                    </a:lnTo>
                    <a:lnTo>
                      <a:pt x="62" y="317"/>
                    </a:lnTo>
                    <a:lnTo>
                      <a:pt x="45" y="241"/>
                    </a:lnTo>
                    <a:lnTo>
                      <a:pt x="31" y="151"/>
                    </a:lnTo>
                    <a:lnTo>
                      <a:pt x="17" y="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4691160" y="4251240"/>
                <a:ext cx="39600" cy="639720"/>
              </a:xfrm>
              <a:custGeom>
                <a:avLst/>
                <a:gdLst/>
                <a:ahLst/>
                <a:rect l="l" t="t" r="r" b="b"/>
                <a:pathLst>
                  <a:path w="151" h="2421">
                    <a:moveTo>
                      <a:pt x="75" y="2421"/>
                    </a:moveTo>
                    <a:lnTo>
                      <a:pt x="61" y="2270"/>
                    </a:lnTo>
                    <a:lnTo>
                      <a:pt x="46" y="2119"/>
                    </a:lnTo>
                    <a:lnTo>
                      <a:pt x="30" y="1967"/>
                    </a:lnTo>
                    <a:lnTo>
                      <a:pt x="16" y="1816"/>
                    </a:lnTo>
                    <a:lnTo>
                      <a:pt x="0" y="1665"/>
                    </a:lnTo>
                    <a:lnTo>
                      <a:pt x="0" y="1498"/>
                    </a:lnTo>
                    <a:lnTo>
                      <a:pt x="0" y="1347"/>
                    </a:lnTo>
                    <a:lnTo>
                      <a:pt x="0" y="1195"/>
                    </a:lnTo>
                    <a:lnTo>
                      <a:pt x="0" y="1044"/>
                    </a:lnTo>
                    <a:lnTo>
                      <a:pt x="16" y="876"/>
                    </a:lnTo>
                    <a:lnTo>
                      <a:pt x="30" y="725"/>
                    </a:lnTo>
                    <a:lnTo>
                      <a:pt x="46" y="575"/>
                    </a:lnTo>
                    <a:lnTo>
                      <a:pt x="61" y="424"/>
                    </a:lnTo>
                    <a:lnTo>
                      <a:pt x="92" y="272"/>
                    </a:lnTo>
                    <a:lnTo>
                      <a:pt x="120" y="135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730760" y="4038480"/>
                <a:ext cx="57240" cy="212760"/>
              </a:xfrm>
              <a:custGeom>
                <a:avLst/>
                <a:gdLst/>
                <a:ahLst/>
                <a:rect l="l" t="t" r="r" b="b"/>
                <a:pathLst>
                  <a:path w="213" h="802">
                    <a:moveTo>
                      <a:pt x="0" y="802"/>
                    </a:moveTo>
                    <a:lnTo>
                      <a:pt x="16" y="741"/>
                    </a:lnTo>
                    <a:lnTo>
                      <a:pt x="16" y="696"/>
                    </a:lnTo>
                    <a:lnTo>
                      <a:pt x="31" y="651"/>
                    </a:lnTo>
                    <a:lnTo>
                      <a:pt x="45" y="590"/>
                    </a:lnTo>
                    <a:lnTo>
                      <a:pt x="61" y="545"/>
                    </a:lnTo>
                    <a:lnTo>
                      <a:pt x="76" y="500"/>
                    </a:lnTo>
                    <a:lnTo>
                      <a:pt x="92" y="454"/>
                    </a:lnTo>
                    <a:lnTo>
                      <a:pt x="92" y="394"/>
                    </a:lnTo>
                    <a:lnTo>
                      <a:pt x="106" y="349"/>
                    </a:lnTo>
                    <a:lnTo>
                      <a:pt x="121" y="301"/>
                    </a:lnTo>
                    <a:lnTo>
                      <a:pt x="137" y="258"/>
                    </a:lnTo>
                    <a:lnTo>
                      <a:pt x="151" y="196"/>
                    </a:lnTo>
                    <a:lnTo>
                      <a:pt x="168" y="151"/>
                    </a:lnTo>
                    <a:lnTo>
                      <a:pt x="182" y="105"/>
                    </a:lnTo>
                    <a:lnTo>
                      <a:pt x="197" y="60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4788000" y="3730680"/>
                <a:ext cx="39600" cy="307800"/>
              </a:xfrm>
              <a:custGeom>
                <a:avLst/>
                <a:gdLst/>
                <a:ahLst/>
                <a:rect l="l" t="t" r="r" b="b"/>
                <a:pathLst>
                  <a:path w="151" h="1165">
                    <a:moveTo>
                      <a:pt x="0" y="1165"/>
                    </a:moveTo>
                    <a:lnTo>
                      <a:pt x="14" y="1105"/>
                    </a:lnTo>
                    <a:lnTo>
                      <a:pt x="30" y="1028"/>
                    </a:lnTo>
                    <a:lnTo>
                      <a:pt x="60" y="952"/>
                    </a:lnTo>
                    <a:lnTo>
                      <a:pt x="75" y="893"/>
                    </a:lnTo>
                    <a:lnTo>
                      <a:pt x="90" y="817"/>
                    </a:lnTo>
                    <a:lnTo>
                      <a:pt x="106" y="742"/>
                    </a:lnTo>
                    <a:lnTo>
                      <a:pt x="120" y="666"/>
                    </a:lnTo>
                    <a:lnTo>
                      <a:pt x="136" y="591"/>
                    </a:lnTo>
                    <a:lnTo>
                      <a:pt x="151" y="515"/>
                    </a:lnTo>
                    <a:lnTo>
                      <a:pt x="151" y="439"/>
                    </a:lnTo>
                    <a:lnTo>
                      <a:pt x="151" y="364"/>
                    </a:lnTo>
                    <a:lnTo>
                      <a:pt x="151" y="288"/>
                    </a:lnTo>
                    <a:lnTo>
                      <a:pt x="136" y="211"/>
                    </a:lnTo>
                    <a:lnTo>
                      <a:pt x="120" y="151"/>
                    </a:lnTo>
                    <a:lnTo>
                      <a:pt x="106" y="7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4775040" y="3622680"/>
                <a:ext cx="32040" cy="108000"/>
              </a:xfrm>
              <a:custGeom>
                <a:avLst/>
                <a:gdLst/>
                <a:ahLst/>
                <a:rect l="l" t="t" r="r" b="b"/>
                <a:pathLst>
                  <a:path w="120" h="408">
                    <a:moveTo>
                      <a:pt x="120" y="408"/>
                    </a:moveTo>
                    <a:lnTo>
                      <a:pt x="105" y="378"/>
                    </a:lnTo>
                    <a:lnTo>
                      <a:pt x="90" y="363"/>
                    </a:lnTo>
                    <a:lnTo>
                      <a:pt x="90" y="332"/>
                    </a:lnTo>
                    <a:lnTo>
                      <a:pt x="75" y="317"/>
                    </a:lnTo>
                    <a:lnTo>
                      <a:pt x="59" y="287"/>
                    </a:lnTo>
                    <a:lnTo>
                      <a:pt x="45" y="272"/>
                    </a:lnTo>
                    <a:lnTo>
                      <a:pt x="29" y="241"/>
                    </a:lnTo>
                    <a:lnTo>
                      <a:pt x="14" y="210"/>
                    </a:lnTo>
                    <a:lnTo>
                      <a:pt x="14" y="196"/>
                    </a:lnTo>
                    <a:lnTo>
                      <a:pt x="0" y="165"/>
                    </a:lnTo>
                    <a:lnTo>
                      <a:pt x="0" y="135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0" y="59"/>
                    </a:lnTo>
                    <a:lnTo>
                      <a:pt x="0" y="30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4780080" y="3514680"/>
                <a:ext cx="102960" cy="108000"/>
              </a:xfrm>
              <a:custGeom>
                <a:avLst/>
                <a:gdLst/>
                <a:ahLst/>
                <a:rect l="l" t="t" r="r" b="b"/>
                <a:pathLst>
                  <a:path w="394" h="409">
                    <a:moveTo>
                      <a:pt x="0" y="409"/>
                    </a:moveTo>
                    <a:lnTo>
                      <a:pt x="15" y="378"/>
                    </a:lnTo>
                    <a:lnTo>
                      <a:pt x="31" y="347"/>
                    </a:lnTo>
                    <a:lnTo>
                      <a:pt x="45" y="317"/>
                    </a:lnTo>
                    <a:lnTo>
                      <a:pt x="61" y="288"/>
                    </a:lnTo>
                    <a:lnTo>
                      <a:pt x="91" y="257"/>
                    </a:lnTo>
                    <a:lnTo>
                      <a:pt x="106" y="227"/>
                    </a:lnTo>
                    <a:lnTo>
                      <a:pt x="137" y="196"/>
                    </a:lnTo>
                    <a:lnTo>
                      <a:pt x="167" y="182"/>
                    </a:lnTo>
                    <a:lnTo>
                      <a:pt x="196" y="151"/>
                    </a:lnTo>
                    <a:lnTo>
                      <a:pt x="227" y="120"/>
                    </a:lnTo>
                    <a:lnTo>
                      <a:pt x="258" y="106"/>
                    </a:lnTo>
                    <a:lnTo>
                      <a:pt x="272" y="75"/>
                    </a:lnTo>
                    <a:lnTo>
                      <a:pt x="303" y="60"/>
                    </a:lnTo>
                    <a:lnTo>
                      <a:pt x="333" y="31"/>
                    </a:lnTo>
                    <a:lnTo>
                      <a:pt x="364" y="14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4788000" y="3381480"/>
                <a:ext cx="136440" cy="81000"/>
              </a:xfrm>
              <a:custGeom>
                <a:avLst/>
                <a:gdLst/>
                <a:ahLst/>
                <a:rect l="l" t="t" r="r" b="b"/>
                <a:pathLst>
                  <a:path w="514" h="302">
                    <a:moveTo>
                      <a:pt x="514" y="302"/>
                    </a:moveTo>
                    <a:lnTo>
                      <a:pt x="483" y="302"/>
                    </a:lnTo>
                    <a:lnTo>
                      <a:pt x="438" y="287"/>
                    </a:lnTo>
                    <a:lnTo>
                      <a:pt x="409" y="287"/>
                    </a:lnTo>
                    <a:lnTo>
                      <a:pt x="363" y="273"/>
                    </a:lnTo>
                    <a:lnTo>
                      <a:pt x="333" y="257"/>
                    </a:lnTo>
                    <a:lnTo>
                      <a:pt x="287" y="242"/>
                    </a:lnTo>
                    <a:lnTo>
                      <a:pt x="256" y="227"/>
                    </a:lnTo>
                    <a:lnTo>
                      <a:pt x="227" y="213"/>
                    </a:lnTo>
                    <a:lnTo>
                      <a:pt x="196" y="197"/>
                    </a:lnTo>
                    <a:lnTo>
                      <a:pt x="165" y="167"/>
                    </a:lnTo>
                    <a:lnTo>
                      <a:pt x="136" y="151"/>
                    </a:lnTo>
                    <a:lnTo>
                      <a:pt x="106" y="122"/>
                    </a:lnTo>
                    <a:lnTo>
                      <a:pt x="75" y="91"/>
                    </a:lnTo>
                    <a:lnTo>
                      <a:pt x="45" y="61"/>
                    </a:lnTo>
                    <a:lnTo>
                      <a:pt x="30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4767120" y="3254400"/>
                <a:ext cx="20880" cy="127080"/>
              </a:xfrm>
              <a:custGeom>
                <a:avLst/>
                <a:gdLst/>
                <a:ahLst/>
                <a:rect l="l" t="t" r="r" b="b"/>
                <a:pathLst>
                  <a:path w="76" h="485">
                    <a:moveTo>
                      <a:pt x="76" y="485"/>
                    </a:moveTo>
                    <a:lnTo>
                      <a:pt x="60" y="455"/>
                    </a:lnTo>
                    <a:lnTo>
                      <a:pt x="45" y="426"/>
                    </a:lnTo>
                    <a:lnTo>
                      <a:pt x="31" y="409"/>
                    </a:lnTo>
                    <a:lnTo>
                      <a:pt x="14" y="379"/>
                    </a:lnTo>
                    <a:lnTo>
                      <a:pt x="14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0" y="258"/>
                    </a:lnTo>
                    <a:lnTo>
                      <a:pt x="0" y="227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0" y="123"/>
                    </a:lnTo>
                    <a:lnTo>
                      <a:pt x="0" y="92"/>
                    </a:lnTo>
                    <a:lnTo>
                      <a:pt x="14" y="62"/>
                    </a:lnTo>
                    <a:lnTo>
                      <a:pt x="14" y="31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4775040" y="3181320"/>
                <a:ext cx="81000" cy="73080"/>
              </a:xfrm>
              <a:custGeom>
                <a:avLst/>
                <a:gdLst/>
                <a:ahLst/>
                <a:rect l="l" t="t" r="r" b="b"/>
                <a:pathLst>
                  <a:path w="301" h="272">
                    <a:moveTo>
                      <a:pt x="0" y="272"/>
                    </a:moveTo>
                    <a:lnTo>
                      <a:pt x="0" y="258"/>
                    </a:lnTo>
                    <a:lnTo>
                      <a:pt x="14" y="227"/>
                    </a:lnTo>
                    <a:lnTo>
                      <a:pt x="29" y="213"/>
                    </a:lnTo>
                    <a:lnTo>
                      <a:pt x="45" y="182"/>
                    </a:lnTo>
                    <a:lnTo>
                      <a:pt x="59" y="167"/>
                    </a:lnTo>
                    <a:lnTo>
                      <a:pt x="75" y="138"/>
                    </a:lnTo>
                    <a:lnTo>
                      <a:pt x="90" y="121"/>
                    </a:lnTo>
                    <a:lnTo>
                      <a:pt x="105" y="91"/>
                    </a:lnTo>
                    <a:lnTo>
                      <a:pt x="135" y="76"/>
                    </a:lnTo>
                    <a:lnTo>
                      <a:pt x="151" y="62"/>
                    </a:lnTo>
                    <a:lnTo>
                      <a:pt x="181" y="45"/>
                    </a:lnTo>
                    <a:lnTo>
                      <a:pt x="196" y="31"/>
                    </a:lnTo>
                    <a:lnTo>
                      <a:pt x="227" y="16"/>
                    </a:lnTo>
                    <a:lnTo>
                      <a:pt x="256" y="16"/>
                    </a:lnTo>
                    <a:lnTo>
                      <a:pt x="272" y="0"/>
                    </a:lnTo>
                    <a:lnTo>
                      <a:pt x="30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4780080" y="3193920"/>
                <a:ext cx="203040" cy="247680"/>
              </a:xfrm>
              <a:custGeom>
                <a:avLst/>
                <a:gdLst/>
                <a:ahLst/>
                <a:rect l="l" t="t" r="r" b="b"/>
                <a:pathLst>
                  <a:path w="772" h="939">
                    <a:moveTo>
                      <a:pt x="485" y="46"/>
                    </a:moveTo>
                    <a:lnTo>
                      <a:pt x="529" y="76"/>
                    </a:lnTo>
                    <a:lnTo>
                      <a:pt x="576" y="107"/>
                    </a:lnTo>
                    <a:lnTo>
                      <a:pt x="605" y="137"/>
                    </a:lnTo>
                    <a:lnTo>
                      <a:pt x="636" y="182"/>
                    </a:lnTo>
                    <a:lnTo>
                      <a:pt x="666" y="213"/>
                    </a:lnTo>
                    <a:lnTo>
                      <a:pt x="696" y="258"/>
                    </a:lnTo>
                    <a:lnTo>
                      <a:pt x="710" y="303"/>
                    </a:lnTo>
                    <a:lnTo>
                      <a:pt x="727" y="350"/>
                    </a:lnTo>
                    <a:lnTo>
                      <a:pt x="741" y="395"/>
                    </a:lnTo>
                    <a:lnTo>
                      <a:pt x="756" y="440"/>
                    </a:lnTo>
                    <a:lnTo>
                      <a:pt x="756" y="501"/>
                    </a:lnTo>
                    <a:lnTo>
                      <a:pt x="772" y="546"/>
                    </a:lnTo>
                    <a:lnTo>
                      <a:pt x="772" y="591"/>
                    </a:lnTo>
                    <a:lnTo>
                      <a:pt x="772" y="653"/>
                    </a:lnTo>
                    <a:lnTo>
                      <a:pt x="756" y="698"/>
                    </a:lnTo>
                    <a:lnTo>
                      <a:pt x="756" y="743"/>
                    </a:lnTo>
                    <a:lnTo>
                      <a:pt x="741" y="758"/>
                    </a:lnTo>
                    <a:lnTo>
                      <a:pt x="741" y="788"/>
                    </a:lnTo>
                    <a:lnTo>
                      <a:pt x="727" y="803"/>
                    </a:lnTo>
                    <a:lnTo>
                      <a:pt x="727" y="818"/>
                    </a:lnTo>
                    <a:lnTo>
                      <a:pt x="710" y="834"/>
                    </a:lnTo>
                    <a:lnTo>
                      <a:pt x="696" y="849"/>
                    </a:lnTo>
                    <a:lnTo>
                      <a:pt x="696" y="863"/>
                    </a:lnTo>
                    <a:lnTo>
                      <a:pt x="681" y="879"/>
                    </a:lnTo>
                    <a:lnTo>
                      <a:pt x="666" y="879"/>
                    </a:lnTo>
                    <a:lnTo>
                      <a:pt x="651" y="894"/>
                    </a:lnTo>
                    <a:lnTo>
                      <a:pt x="636" y="909"/>
                    </a:lnTo>
                    <a:lnTo>
                      <a:pt x="621" y="909"/>
                    </a:lnTo>
                    <a:lnTo>
                      <a:pt x="605" y="925"/>
                    </a:lnTo>
                    <a:lnTo>
                      <a:pt x="590" y="925"/>
                    </a:lnTo>
                    <a:lnTo>
                      <a:pt x="576" y="925"/>
                    </a:lnTo>
                    <a:lnTo>
                      <a:pt x="560" y="939"/>
                    </a:lnTo>
                    <a:lnTo>
                      <a:pt x="514" y="925"/>
                    </a:lnTo>
                    <a:lnTo>
                      <a:pt x="469" y="925"/>
                    </a:lnTo>
                    <a:lnTo>
                      <a:pt x="440" y="925"/>
                    </a:lnTo>
                    <a:lnTo>
                      <a:pt x="394" y="909"/>
                    </a:lnTo>
                    <a:lnTo>
                      <a:pt x="364" y="894"/>
                    </a:lnTo>
                    <a:lnTo>
                      <a:pt x="318" y="879"/>
                    </a:lnTo>
                    <a:lnTo>
                      <a:pt x="287" y="849"/>
                    </a:lnTo>
                    <a:lnTo>
                      <a:pt x="258" y="834"/>
                    </a:lnTo>
                    <a:lnTo>
                      <a:pt x="227" y="803"/>
                    </a:lnTo>
                    <a:lnTo>
                      <a:pt x="196" y="773"/>
                    </a:lnTo>
                    <a:lnTo>
                      <a:pt x="167" y="743"/>
                    </a:lnTo>
                    <a:lnTo>
                      <a:pt x="137" y="712"/>
                    </a:lnTo>
                    <a:lnTo>
                      <a:pt x="106" y="682"/>
                    </a:lnTo>
                    <a:lnTo>
                      <a:pt x="91" y="653"/>
                    </a:lnTo>
                    <a:lnTo>
                      <a:pt x="61" y="622"/>
                    </a:lnTo>
                    <a:lnTo>
                      <a:pt x="45" y="591"/>
                    </a:lnTo>
                    <a:lnTo>
                      <a:pt x="31" y="546"/>
                    </a:lnTo>
                    <a:lnTo>
                      <a:pt x="15" y="516"/>
                    </a:lnTo>
                    <a:lnTo>
                      <a:pt x="15" y="485"/>
                    </a:lnTo>
                    <a:lnTo>
                      <a:pt x="0" y="454"/>
                    </a:lnTo>
                    <a:lnTo>
                      <a:pt x="0" y="426"/>
                    </a:lnTo>
                    <a:lnTo>
                      <a:pt x="0" y="379"/>
                    </a:lnTo>
                    <a:lnTo>
                      <a:pt x="0" y="350"/>
                    </a:lnTo>
                    <a:lnTo>
                      <a:pt x="0" y="319"/>
                    </a:lnTo>
                    <a:lnTo>
                      <a:pt x="0" y="289"/>
                    </a:lnTo>
                    <a:lnTo>
                      <a:pt x="15" y="244"/>
                    </a:lnTo>
                    <a:lnTo>
                      <a:pt x="31" y="213"/>
                    </a:lnTo>
                    <a:lnTo>
                      <a:pt x="45" y="182"/>
                    </a:lnTo>
                    <a:lnTo>
                      <a:pt x="61" y="152"/>
                    </a:lnTo>
                    <a:lnTo>
                      <a:pt x="76" y="122"/>
                    </a:lnTo>
                    <a:lnTo>
                      <a:pt x="91" y="93"/>
                    </a:lnTo>
                    <a:lnTo>
                      <a:pt x="121" y="76"/>
                    </a:lnTo>
                    <a:lnTo>
                      <a:pt x="137" y="46"/>
                    </a:lnTo>
                    <a:lnTo>
                      <a:pt x="151" y="31"/>
                    </a:lnTo>
                    <a:lnTo>
                      <a:pt x="182" y="31"/>
                    </a:lnTo>
                    <a:lnTo>
                      <a:pt x="196" y="17"/>
                    </a:lnTo>
                    <a:lnTo>
                      <a:pt x="227" y="17"/>
                    </a:lnTo>
                    <a:lnTo>
                      <a:pt x="242" y="0"/>
                    </a:lnTo>
                    <a:lnTo>
                      <a:pt x="272" y="0"/>
                    </a:lnTo>
                    <a:lnTo>
                      <a:pt x="303" y="0"/>
                    </a:lnTo>
                    <a:lnTo>
                      <a:pt x="318" y="17"/>
                    </a:lnTo>
                    <a:lnTo>
                      <a:pt x="347" y="17"/>
                    </a:lnTo>
                    <a:lnTo>
                      <a:pt x="378" y="17"/>
                    </a:lnTo>
                    <a:lnTo>
                      <a:pt x="394" y="17"/>
                    </a:lnTo>
                    <a:lnTo>
                      <a:pt x="424" y="31"/>
                    </a:lnTo>
                    <a:lnTo>
                      <a:pt x="440" y="31"/>
                    </a:lnTo>
                    <a:lnTo>
                      <a:pt x="469" y="46"/>
                    </a:lnTo>
                    <a:lnTo>
                      <a:pt x="485" y="46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4906800" y="3205080"/>
                <a:ext cx="76320" cy="185760"/>
              </a:xfrm>
              <a:custGeom>
                <a:avLst/>
                <a:gdLst/>
                <a:ahLst/>
                <a:rect l="l" t="t" r="r" b="b"/>
                <a:pathLst>
                  <a:path w="287" h="697">
                    <a:moveTo>
                      <a:pt x="0" y="0"/>
                    </a:moveTo>
                    <a:lnTo>
                      <a:pt x="44" y="30"/>
                    </a:lnTo>
                    <a:lnTo>
                      <a:pt x="91" y="61"/>
                    </a:lnTo>
                    <a:lnTo>
                      <a:pt x="120" y="91"/>
                    </a:lnTo>
                    <a:lnTo>
                      <a:pt x="151" y="136"/>
                    </a:lnTo>
                    <a:lnTo>
                      <a:pt x="181" y="167"/>
                    </a:lnTo>
                    <a:lnTo>
                      <a:pt x="211" y="212"/>
                    </a:lnTo>
                    <a:lnTo>
                      <a:pt x="225" y="257"/>
                    </a:lnTo>
                    <a:lnTo>
                      <a:pt x="242" y="304"/>
                    </a:lnTo>
                    <a:lnTo>
                      <a:pt x="256" y="349"/>
                    </a:lnTo>
                    <a:lnTo>
                      <a:pt x="271" y="394"/>
                    </a:lnTo>
                    <a:lnTo>
                      <a:pt x="271" y="455"/>
                    </a:lnTo>
                    <a:lnTo>
                      <a:pt x="287" y="500"/>
                    </a:lnTo>
                    <a:lnTo>
                      <a:pt x="287" y="545"/>
                    </a:lnTo>
                    <a:lnTo>
                      <a:pt x="287" y="607"/>
                    </a:lnTo>
                    <a:lnTo>
                      <a:pt x="271" y="652"/>
                    </a:lnTo>
                    <a:lnTo>
                      <a:pt x="271" y="6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4927680" y="339084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196" h="196">
                    <a:moveTo>
                      <a:pt x="196" y="0"/>
                    </a:moveTo>
                    <a:lnTo>
                      <a:pt x="181" y="15"/>
                    </a:lnTo>
                    <a:lnTo>
                      <a:pt x="181" y="45"/>
                    </a:lnTo>
                    <a:lnTo>
                      <a:pt x="167" y="60"/>
                    </a:lnTo>
                    <a:lnTo>
                      <a:pt x="167" y="75"/>
                    </a:lnTo>
                    <a:lnTo>
                      <a:pt x="150" y="91"/>
                    </a:lnTo>
                    <a:lnTo>
                      <a:pt x="136" y="106"/>
                    </a:lnTo>
                    <a:lnTo>
                      <a:pt x="136" y="120"/>
                    </a:lnTo>
                    <a:lnTo>
                      <a:pt x="121" y="136"/>
                    </a:lnTo>
                    <a:lnTo>
                      <a:pt x="106" y="136"/>
                    </a:lnTo>
                    <a:lnTo>
                      <a:pt x="91" y="151"/>
                    </a:lnTo>
                    <a:lnTo>
                      <a:pt x="76" y="166"/>
                    </a:lnTo>
                    <a:lnTo>
                      <a:pt x="61" y="166"/>
                    </a:lnTo>
                    <a:lnTo>
                      <a:pt x="45" y="182"/>
                    </a:lnTo>
                    <a:lnTo>
                      <a:pt x="30" y="182"/>
                    </a:lnTo>
                    <a:lnTo>
                      <a:pt x="16" y="182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791240" y="3349800"/>
                <a:ext cx="136440" cy="9180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515" y="348"/>
                    </a:moveTo>
                    <a:lnTo>
                      <a:pt x="469" y="334"/>
                    </a:lnTo>
                    <a:lnTo>
                      <a:pt x="424" y="334"/>
                    </a:lnTo>
                    <a:lnTo>
                      <a:pt x="395" y="334"/>
                    </a:lnTo>
                    <a:lnTo>
                      <a:pt x="349" y="318"/>
                    </a:lnTo>
                    <a:lnTo>
                      <a:pt x="319" y="303"/>
                    </a:lnTo>
                    <a:lnTo>
                      <a:pt x="273" y="288"/>
                    </a:lnTo>
                    <a:lnTo>
                      <a:pt x="242" y="258"/>
                    </a:lnTo>
                    <a:lnTo>
                      <a:pt x="213" y="243"/>
                    </a:lnTo>
                    <a:lnTo>
                      <a:pt x="182" y="212"/>
                    </a:lnTo>
                    <a:lnTo>
                      <a:pt x="151" y="182"/>
                    </a:lnTo>
                    <a:lnTo>
                      <a:pt x="122" y="152"/>
                    </a:lnTo>
                    <a:lnTo>
                      <a:pt x="92" y="121"/>
                    </a:lnTo>
                    <a:lnTo>
                      <a:pt x="61" y="91"/>
                    </a:lnTo>
                    <a:lnTo>
                      <a:pt x="46" y="62"/>
                    </a:lnTo>
                    <a:lnTo>
                      <a:pt x="16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4780080" y="3214800"/>
                <a:ext cx="31680" cy="135000"/>
              </a:xfrm>
              <a:custGeom>
                <a:avLst/>
                <a:gdLst/>
                <a:ahLst/>
                <a:rect l="l" t="t" r="r" b="b"/>
                <a:pathLst>
                  <a:path w="121" h="515">
                    <a:moveTo>
                      <a:pt x="45" y="515"/>
                    </a:moveTo>
                    <a:lnTo>
                      <a:pt x="31" y="470"/>
                    </a:lnTo>
                    <a:lnTo>
                      <a:pt x="15" y="440"/>
                    </a:lnTo>
                    <a:lnTo>
                      <a:pt x="15" y="409"/>
                    </a:lnTo>
                    <a:lnTo>
                      <a:pt x="0" y="378"/>
                    </a:lnTo>
                    <a:lnTo>
                      <a:pt x="0" y="350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0" y="213"/>
                    </a:lnTo>
                    <a:lnTo>
                      <a:pt x="15" y="168"/>
                    </a:lnTo>
                    <a:lnTo>
                      <a:pt x="31" y="137"/>
                    </a:lnTo>
                    <a:lnTo>
                      <a:pt x="45" y="106"/>
                    </a:lnTo>
                    <a:lnTo>
                      <a:pt x="61" y="76"/>
                    </a:lnTo>
                    <a:lnTo>
                      <a:pt x="76" y="46"/>
                    </a:lnTo>
                    <a:lnTo>
                      <a:pt x="91" y="17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4703760" y="3522600"/>
                <a:ext cx="515880" cy="2333520"/>
              </a:xfrm>
              <a:custGeom>
                <a:avLst/>
                <a:gdLst/>
                <a:ahLst/>
                <a:rect l="l" t="t" r="r" b="b"/>
                <a:pathLst>
                  <a:path w="1951" h="8820">
                    <a:moveTo>
                      <a:pt x="1316" y="165"/>
                    </a:moveTo>
                    <a:lnTo>
                      <a:pt x="1331" y="196"/>
                    </a:lnTo>
                    <a:lnTo>
                      <a:pt x="1331" y="210"/>
                    </a:lnTo>
                    <a:lnTo>
                      <a:pt x="1331" y="226"/>
                    </a:lnTo>
                    <a:lnTo>
                      <a:pt x="1331" y="257"/>
                    </a:lnTo>
                    <a:lnTo>
                      <a:pt x="1331" y="271"/>
                    </a:lnTo>
                    <a:lnTo>
                      <a:pt x="1331" y="302"/>
                    </a:lnTo>
                    <a:lnTo>
                      <a:pt x="1331" y="316"/>
                    </a:lnTo>
                    <a:lnTo>
                      <a:pt x="1331" y="333"/>
                    </a:lnTo>
                    <a:lnTo>
                      <a:pt x="1316" y="361"/>
                    </a:lnTo>
                    <a:lnTo>
                      <a:pt x="1316" y="378"/>
                    </a:lnTo>
                    <a:lnTo>
                      <a:pt x="1300" y="392"/>
                    </a:lnTo>
                    <a:lnTo>
                      <a:pt x="1300" y="423"/>
                    </a:lnTo>
                    <a:lnTo>
                      <a:pt x="1286" y="437"/>
                    </a:lnTo>
                    <a:lnTo>
                      <a:pt x="1286" y="453"/>
                    </a:lnTo>
                    <a:lnTo>
                      <a:pt x="1272" y="468"/>
                    </a:lnTo>
                    <a:lnTo>
                      <a:pt x="1272" y="498"/>
                    </a:lnTo>
                    <a:lnTo>
                      <a:pt x="1300" y="634"/>
                    </a:lnTo>
                    <a:lnTo>
                      <a:pt x="1347" y="770"/>
                    </a:lnTo>
                    <a:lnTo>
                      <a:pt x="1392" y="906"/>
                    </a:lnTo>
                    <a:lnTo>
                      <a:pt x="1437" y="1028"/>
                    </a:lnTo>
                    <a:lnTo>
                      <a:pt x="1468" y="1164"/>
                    </a:lnTo>
                    <a:lnTo>
                      <a:pt x="1513" y="1301"/>
                    </a:lnTo>
                    <a:lnTo>
                      <a:pt x="1558" y="1436"/>
                    </a:lnTo>
                    <a:lnTo>
                      <a:pt x="1604" y="1573"/>
                    </a:lnTo>
                    <a:lnTo>
                      <a:pt x="1650" y="1710"/>
                    </a:lnTo>
                    <a:lnTo>
                      <a:pt x="1695" y="1845"/>
                    </a:lnTo>
                    <a:lnTo>
                      <a:pt x="1740" y="1966"/>
                    </a:lnTo>
                    <a:lnTo>
                      <a:pt x="1769" y="2102"/>
                    </a:lnTo>
                    <a:lnTo>
                      <a:pt x="1815" y="2238"/>
                    </a:lnTo>
                    <a:lnTo>
                      <a:pt x="1846" y="2390"/>
                    </a:lnTo>
                    <a:lnTo>
                      <a:pt x="1876" y="2527"/>
                    </a:lnTo>
                    <a:lnTo>
                      <a:pt x="1906" y="2661"/>
                    </a:lnTo>
                    <a:lnTo>
                      <a:pt x="1922" y="2753"/>
                    </a:lnTo>
                    <a:lnTo>
                      <a:pt x="1922" y="2843"/>
                    </a:lnTo>
                    <a:lnTo>
                      <a:pt x="1937" y="2934"/>
                    </a:lnTo>
                    <a:lnTo>
                      <a:pt x="1937" y="3025"/>
                    </a:lnTo>
                    <a:lnTo>
                      <a:pt x="1951" y="3116"/>
                    </a:lnTo>
                    <a:lnTo>
                      <a:pt x="1951" y="3222"/>
                    </a:lnTo>
                    <a:lnTo>
                      <a:pt x="1951" y="3313"/>
                    </a:lnTo>
                    <a:lnTo>
                      <a:pt x="1951" y="3404"/>
                    </a:lnTo>
                    <a:lnTo>
                      <a:pt x="1951" y="3495"/>
                    </a:lnTo>
                    <a:lnTo>
                      <a:pt x="1951" y="3584"/>
                    </a:lnTo>
                    <a:lnTo>
                      <a:pt x="1937" y="3677"/>
                    </a:lnTo>
                    <a:lnTo>
                      <a:pt x="1937" y="3766"/>
                    </a:lnTo>
                    <a:lnTo>
                      <a:pt x="1922" y="3856"/>
                    </a:lnTo>
                    <a:lnTo>
                      <a:pt x="1906" y="3948"/>
                    </a:lnTo>
                    <a:lnTo>
                      <a:pt x="1876" y="4024"/>
                    </a:lnTo>
                    <a:lnTo>
                      <a:pt x="1860" y="4114"/>
                    </a:lnTo>
                    <a:lnTo>
                      <a:pt x="1831" y="4220"/>
                    </a:lnTo>
                    <a:lnTo>
                      <a:pt x="1800" y="4311"/>
                    </a:lnTo>
                    <a:lnTo>
                      <a:pt x="1769" y="4418"/>
                    </a:lnTo>
                    <a:lnTo>
                      <a:pt x="1740" y="4508"/>
                    </a:lnTo>
                    <a:lnTo>
                      <a:pt x="1709" y="4614"/>
                    </a:lnTo>
                    <a:lnTo>
                      <a:pt x="1695" y="4705"/>
                    </a:lnTo>
                    <a:lnTo>
                      <a:pt x="1664" y="4796"/>
                    </a:lnTo>
                    <a:lnTo>
                      <a:pt x="1633" y="4902"/>
                    </a:lnTo>
                    <a:lnTo>
                      <a:pt x="1604" y="4992"/>
                    </a:lnTo>
                    <a:lnTo>
                      <a:pt x="1573" y="5099"/>
                    </a:lnTo>
                    <a:lnTo>
                      <a:pt x="1543" y="5188"/>
                    </a:lnTo>
                    <a:lnTo>
                      <a:pt x="1513" y="5295"/>
                    </a:lnTo>
                    <a:lnTo>
                      <a:pt x="1482" y="5386"/>
                    </a:lnTo>
                    <a:lnTo>
                      <a:pt x="1468" y="5491"/>
                    </a:lnTo>
                    <a:lnTo>
                      <a:pt x="1437" y="5582"/>
                    </a:lnTo>
                    <a:lnTo>
                      <a:pt x="1423" y="5688"/>
                    </a:lnTo>
                    <a:lnTo>
                      <a:pt x="1376" y="5809"/>
                    </a:lnTo>
                    <a:lnTo>
                      <a:pt x="1347" y="5931"/>
                    </a:lnTo>
                    <a:lnTo>
                      <a:pt x="1300" y="6067"/>
                    </a:lnTo>
                    <a:lnTo>
                      <a:pt x="1255" y="6187"/>
                    </a:lnTo>
                    <a:lnTo>
                      <a:pt x="1210" y="6308"/>
                    </a:lnTo>
                    <a:lnTo>
                      <a:pt x="1179" y="6429"/>
                    </a:lnTo>
                    <a:lnTo>
                      <a:pt x="1134" y="6551"/>
                    </a:lnTo>
                    <a:lnTo>
                      <a:pt x="1090" y="6672"/>
                    </a:lnTo>
                    <a:lnTo>
                      <a:pt x="1043" y="6808"/>
                    </a:lnTo>
                    <a:lnTo>
                      <a:pt x="997" y="6928"/>
                    </a:lnTo>
                    <a:lnTo>
                      <a:pt x="968" y="7050"/>
                    </a:lnTo>
                    <a:lnTo>
                      <a:pt x="923" y="7172"/>
                    </a:lnTo>
                    <a:lnTo>
                      <a:pt x="877" y="7292"/>
                    </a:lnTo>
                    <a:lnTo>
                      <a:pt x="847" y="7429"/>
                    </a:lnTo>
                    <a:lnTo>
                      <a:pt x="801" y="7550"/>
                    </a:lnTo>
                    <a:lnTo>
                      <a:pt x="772" y="7670"/>
                    </a:lnTo>
                    <a:lnTo>
                      <a:pt x="756" y="7732"/>
                    </a:lnTo>
                    <a:lnTo>
                      <a:pt x="741" y="7777"/>
                    </a:lnTo>
                    <a:lnTo>
                      <a:pt x="727" y="7822"/>
                    </a:lnTo>
                    <a:lnTo>
                      <a:pt x="727" y="7882"/>
                    </a:lnTo>
                    <a:lnTo>
                      <a:pt x="711" y="7928"/>
                    </a:lnTo>
                    <a:lnTo>
                      <a:pt x="696" y="7988"/>
                    </a:lnTo>
                    <a:lnTo>
                      <a:pt x="696" y="8033"/>
                    </a:lnTo>
                    <a:lnTo>
                      <a:pt x="696" y="8095"/>
                    </a:lnTo>
                    <a:lnTo>
                      <a:pt x="696" y="8154"/>
                    </a:lnTo>
                    <a:lnTo>
                      <a:pt x="696" y="8200"/>
                    </a:lnTo>
                    <a:lnTo>
                      <a:pt x="696" y="8260"/>
                    </a:lnTo>
                    <a:lnTo>
                      <a:pt x="711" y="8305"/>
                    </a:lnTo>
                    <a:lnTo>
                      <a:pt x="711" y="8350"/>
                    </a:lnTo>
                    <a:lnTo>
                      <a:pt x="741" y="8412"/>
                    </a:lnTo>
                    <a:lnTo>
                      <a:pt x="756" y="8457"/>
                    </a:lnTo>
                    <a:lnTo>
                      <a:pt x="787" y="8504"/>
                    </a:lnTo>
                    <a:lnTo>
                      <a:pt x="787" y="8518"/>
                    </a:lnTo>
                    <a:lnTo>
                      <a:pt x="801" y="8549"/>
                    </a:lnTo>
                    <a:lnTo>
                      <a:pt x="801" y="8563"/>
                    </a:lnTo>
                    <a:lnTo>
                      <a:pt x="816" y="8579"/>
                    </a:lnTo>
                    <a:lnTo>
                      <a:pt x="832" y="8608"/>
                    </a:lnTo>
                    <a:lnTo>
                      <a:pt x="847" y="8624"/>
                    </a:lnTo>
                    <a:lnTo>
                      <a:pt x="863" y="8639"/>
                    </a:lnTo>
                    <a:lnTo>
                      <a:pt x="863" y="8669"/>
                    </a:lnTo>
                    <a:lnTo>
                      <a:pt x="877" y="8683"/>
                    </a:lnTo>
                    <a:lnTo>
                      <a:pt x="892" y="8700"/>
                    </a:lnTo>
                    <a:lnTo>
                      <a:pt x="908" y="8714"/>
                    </a:lnTo>
                    <a:lnTo>
                      <a:pt x="923" y="8745"/>
                    </a:lnTo>
                    <a:lnTo>
                      <a:pt x="938" y="8759"/>
                    </a:lnTo>
                    <a:lnTo>
                      <a:pt x="938" y="8776"/>
                    </a:lnTo>
                    <a:lnTo>
                      <a:pt x="953" y="8805"/>
                    </a:lnTo>
                    <a:lnTo>
                      <a:pt x="968" y="8820"/>
                    </a:lnTo>
                    <a:lnTo>
                      <a:pt x="938" y="8790"/>
                    </a:lnTo>
                    <a:lnTo>
                      <a:pt x="908" y="8759"/>
                    </a:lnTo>
                    <a:lnTo>
                      <a:pt x="877" y="8745"/>
                    </a:lnTo>
                    <a:lnTo>
                      <a:pt x="847" y="8714"/>
                    </a:lnTo>
                    <a:lnTo>
                      <a:pt x="816" y="8683"/>
                    </a:lnTo>
                    <a:lnTo>
                      <a:pt x="787" y="8669"/>
                    </a:lnTo>
                    <a:lnTo>
                      <a:pt x="741" y="8639"/>
                    </a:lnTo>
                    <a:lnTo>
                      <a:pt x="711" y="8608"/>
                    </a:lnTo>
                    <a:lnTo>
                      <a:pt x="681" y="8579"/>
                    </a:lnTo>
                    <a:lnTo>
                      <a:pt x="665" y="8563"/>
                    </a:lnTo>
                    <a:lnTo>
                      <a:pt x="634" y="8532"/>
                    </a:lnTo>
                    <a:lnTo>
                      <a:pt x="605" y="8504"/>
                    </a:lnTo>
                    <a:lnTo>
                      <a:pt x="590" y="8473"/>
                    </a:lnTo>
                    <a:lnTo>
                      <a:pt x="574" y="8428"/>
                    </a:lnTo>
                    <a:lnTo>
                      <a:pt x="559" y="8397"/>
                    </a:lnTo>
                    <a:lnTo>
                      <a:pt x="545" y="8350"/>
                    </a:lnTo>
                    <a:lnTo>
                      <a:pt x="545" y="8305"/>
                    </a:lnTo>
                    <a:lnTo>
                      <a:pt x="545" y="8260"/>
                    </a:lnTo>
                    <a:lnTo>
                      <a:pt x="545" y="8215"/>
                    </a:lnTo>
                    <a:lnTo>
                      <a:pt x="545" y="8170"/>
                    </a:lnTo>
                    <a:lnTo>
                      <a:pt x="559" y="8124"/>
                    </a:lnTo>
                    <a:lnTo>
                      <a:pt x="559" y="8078"/>
                    </a:lnTo>
                    <a:lnTo>
                      <a:pt x="574" y="8033"/>
                    </a:lnTo>
                    <a:lnTo>
                      <a:pt x="574" y="7988"/>
                    </a:lnTo>
                    <a:lnTo>
                      <a:pt x="590" y="7942"/>
                    </a:lnTo>
                    <a:lnTo>
                      <a:pt x="590" y="7897"/>
                    </a:lnTo>
                    <a:lnTo>
                      <a:pt x="605" y="7852"/>
                    </a:lnTo>
                    <a:lnTo>
                      <a:pt x="605" y="7806"/>
                    </a:lnTo>
                    <a:lnTo>
                      <a:pt x="620" y="7762"/>
                    </a:lnTo>
                    <a:lnTo>
                      <a:pt x="620" y="7715"/>
                    </a:lnTo>
                    <a:lnTo>
                      <a:pt x="620" y="7670"/>
                    </a:lnTo>
                    <a:lnTo>
                      <a:pt x="620" y="7625"/>
                    </a:lnTo>
                    <a:lnTo>
                      <a:pt x="634" y="7610"/>
                    </a:lnTo>
                    <a:lnTo>
                      <a:pt x="634" y="7595"/>
                    </a:lnTo>
                    <a:lnTo>
                      <a:pt x="634" y="7581"/>
                    </a:lnTo>
                    <a:lnTo>
                      <a:pt x="634" y="7564"/>
                    </a:lnTo>
                    <a:lnTo>
                      <a:pt x="634" y="7550"/>
                    </a:lnTo>
                    <a:lnTo>
                      <a:pt x="651" y="7550"/>
                    </a:lnTo>
                    <a:lnTo>
                      <a:pt x="651" y="7533"/>
                    </a:lnTo>
                    <a:lnTo>
                      <a:pt x="651" y="7519"/>
                    </a:lnTo>
                    <a:lnTo>
                      <a:pt x="651" y="7505"/>
                    </a:lnTo>
                    <a:lnTo>
                      <a:pt x="651" y="7488"/>
                    </a:lnTo>
                    <a:lnTo>
                      <a:pt x="651" y="7474"/>
                    </a:lnTo>
                    <a:lnTo>
                      <a:pt x="651" y="7458"/>
                    </a:lnTo>
                    <a:lnTo>
                      <a:pt x="651" y="7444"/>
                    </a:lnTo>
                    <a:lnTo>
                      <a:pt x="651" y="7429"/>
                    </a:lnTo>
                    <a:lnTo>
                      <a:pt x="665" y="7413"/>
                    </a:lnTo>
                    <a:lnTo>
                      <a:pt x="665" y="7368"/>
                    </a:lnTo>
                    <a:lnTo>
                      <a:pt x="665" y="7323"/>
                    </a:lnTo>
                    <a:lnTo>
                      <a:pt x="665" y="7278"/>
                    </a:lnTo>
                    <a:lnTo>
                      <a:pt x="681" y="7247"/>
                    </a:lnTo>
                    <a:lnTo>
                      <a:pt x="681" y="7202"/>
                    </a:lnTo>
                    <a:lnTo>
                      <a:pt x="696" y="7155"/>
                    </a:lnTo>
                    <a:lnTo>
                      <a:pt x="696" y="7110"/>
                    </a:lnTo>
                    <a:lnTo>
                      <a:pt x="696" y="7065"/>
                    </a:lnTo>
                    <a:lnTo>
                      <a:pt x="711" y="7020"/>
                    </a:lnTo>
                    <a:lnTo>
                      <a:pt x="711" y="6974"/>
                    </a:lnTo>
                    <a:lnTo>
                      <a:pt x="727" y="6928"/>
                    </a:lnTo>
                    <a:lnTo>
                      <a:pt x="727" y="6883"/>
                    </a:lnTo>
                    <a:lnTo>
                      <a:pt x="741" y="6838"/>
                    </a:lnTo>
                    <a:lnTo>
                      <a:pt x="741" y="6793"/>
                    </a:lnTo>
                    <a:lnTo>
                      <a:pt x="741" y="6747"/>
                    </a:lnTo>
                    <a:lnTo>
                      <a:pt x="756" y="6702"/>
                    </a:lnTo>
                    <a:lnTo>
                      <a:pt x="756" y="6672"/>
                    </a:lnTo>
                    <a:lnTo>
                      <a:pt x="741" y="6641"/>
                    </a:lnTo>
                    <a:lnTo>
                      <a:pt x="741" y="6596"/>
                    </a:lnTo>
                    <a:lnTo>
                      <a:pt x="741" y="6565"/>
                    </a:lnTo>
                    <a:lnTo>
                      <a:pt x="741" y="6536"/>
                    </a:lnTo>
                    <a:lnTo>
                      <a:pt x="741" y="6490"/>
                    </a:lnTo>
                    <a:lnTo>
                      <a:pt x="741" y="6460"/>
                    </a:lnTo>
                    <a:lnTo>
                      <a:pt x="741" y="6429"/>
                    </a:lnTo>
                    <a:lnTo>
                      <a:pt x="727" y="6400"/>
                    </a:lnTo>
                    <a:lnTo>
                      <a:pt x="727" y="6355"/>
                    </a:lnTo>
                    <a:lnTo>
                      <a:pt x="711" y="6324"/>
                    </a:lnTo>
                    <a:lnTo>
                      <a:pt x="711" y="6293"/>
                    </a:lnTo>
                    <a:lnTo>
                      <a:pt x="696" y="6263"/>
                    </a:lnTo>
                    <a:lnTo>
                      <a:pt x="681" y="6232"/>
                    </a:lnTo>
                    <a:lnTo>
                      <a:pt x="665" y="6204"/>
                    </a:lnTo>
                    <a:lnTo>
                      <a:pt x="651" y="6173"/>
                    </a:lnTo>
                    <a:lnTo>
                      <a:pt x="634" y="6173"/>
                    </a:lnTo>
                    <a:lnTo>
                      <a:pt x="634" y="6187"/>
                    </a:lnTo>
                    <a:lnTo>
                      <a:pt x="620" y="6187"/>
                    </a:lnTo>
                    <a:lnTo>
                      <a:pt x="634" y="6232"/>
                    </a:lnTo>
                    <a:lnTo>
                      <a:pt x="634" y="6279"/>
                    </a:lnTo>
                    <a:lnTo>
                      <a:pt x="651" y="6308"/>
                    </a:lnTo>
                    <a:lnTo>
                      <a:pt x="651" y="6355"/>
                    </a:lnTo>
                    <a:lnTo>
                      <a:pt x="651" y="6400"/>
                    </a:lnTo>
                    <a:lnTo>
                      <a:pt x="651" y="6445"/>
                    </a:lnTo>
                    <a:lnTo>
                      <a:pt x="651" y="6475"/>
                    </a:lnTo>
                    <a:lnTo>
                      <a:pt x="665" y="6520"/>
                    </a:lnTo>
                    <a:lnTo>
                      <a:pt x="665" y="6565"/>
                    </a:lnTo>
                    <a:lnTo>
                      <a:pt x="665" y="6611"/>
                    </a:lnTo>
                    <a:lnTo>
                      <a:pt x="665" y="6641"/>
                    </a:lnTo>
                    <a:lnTo>
                      <a:pt x="651" y="6687"/>
                    </a:lnTo>
                    <a:lnTo>
                      <a:pt x="651" y="6732"/>
                    </a:lnTo>
                    <a:lnTo>
                      <a:pt x="651" y="6778"/>
                    </a:lnTo>
                    <a:lnTo>
                      <a:pt x="651" y="6823"/>
                    </a:lnTo>
                    <a:lnTo>
                      <a:pt x="651" y="6854"/>
                    </a:lnTo>
                    <a:lnTo>
                      <a:pt x="620" y="6808"/>
                    </a:lnTo>
                    <a:lnTo>
                      <a:pt x="590" y="6747"/>
                    </a:lnTo>
                    <a:lnTo>
                      <a:pt x="574" y="6687"/>
                    </a:lnTo>
                    <a:lnTo>
                      <a:pt x="545" y="6627"/>
                    </a:lnTo>
                    <a:lnTo>
                      <a:pt x="514" y="6582"/>
                    </a:lnTo>
                    <a:lnTo>
                      <a:pt x="483" y="6520"/>
                    </a:lnTo>
                    <a:lnTo>
                      <a:pt x="454" y="6460"/>
                    </a:lnTo>
                    <a:lnTo>
                      <a:pt x="424" y="6400"/>
                    </a:lnTo>
                    <a:lnTo>
                      <a:pt x="408" y="6355"/>
                    </a:lnTo>
                    <a:lnTo>
                      <a:pt x="378" y="6293"/>
                    </a:lnTo>
                    <a:lnTo>
                      <a:pt x="348" y="6232"/>
                    </a:lnTo>
                    <a:lnTo>
                      <a:pt x="332" y="6173"/>
                    </a:lnTo>
                    <a:lnTo>
                      <a:pt x="318" y="6111"/>
                    </a:lnTo>
                    <a:lnTo>
                      <a:pt x="287" y="6052"/>
                    </a:lnTo>
                    <a:lnTo>
                      <a:pt x="273" y="5991"/>
                    </a:lnTo>
                    <a:lnTo>
                      <a:pt x="256" y="5931"/>
                    </a:lnTo>
                    <a:lnTo>
                      <a:pt x="242" y="5840"/>
                    </a:lnTo>
                    <a:lnTo>
                      <a:pt x="211" y="5733"/>
                    </a:lnTo>
                    <a:lnTo>
                      <a:pt x="197" y="5643"/>
                    </a:lnTo>
                    <a:lnTo>
                      <a:pt x="166" y="5552"/>
                    </a:lnTo>
                    <a:lnTo>
                      <a:pt x="150" y="5461"/>
                    </a:lnTo>
                    <a:lnTo>
                      <a:pt x="121" y="5370"/>
                    </a:lnTo>
                    <a:lnTo>
                      <a:pt x="105" y="5264"/>
                    </a:lnTo>
                    <a:lnTo>
                      <a:pt x="91" y="5174"/>
                    </a:lnTo>
                    <a:lnTo>
                      <a:pt x="74" y="5082"/>
                    </a:lnTo>
                    <a:lnTo>
                      <a:pt x="60" y="4978"/>
                    </a:lnTo>
                    <a:lnTo>
                      <a:pt x="46" y="4886"/>
                    </a:lnTo>
                    <a:lnTo>
                      <a:pt x="29" y="4796"/>
                    </a:lnTo>
                    <a:lnTo>
                      <a:pt x="29" y="4690"/>
                    </a:lnTo>
                    <a:lnTo>
                      <a:pt x="15" y="4599"/>
                    </a:lnTo>
                    <a:lnTo>
                      <a:pt x="15" y="4493"/>
                    </a:lnTo>
                    <a:lnTo>
                      <a:pt x="15" y="4387"/>
                    </a:lnTo>
                    <a:lnTo>
                      <a:pt x="0" y="4084"/>
                    </a:lnTo>
                    <a:lnTo>
                      <a:pt x="15" y="3766"/>
                    </a:lnTo>
                    <a:lnTo>
                      <a:pt x="29" y="3464"/>
                    </a:lnTo>
                    <a:lnTo>
                      <a:pt x="74" y="3161"/>
                    </a:lnTo>
                    <a:lnTo>
                      <a:pt x="150" y="2874"/>
                    </a:lnTo>
                    <a:lnTo>
                      <a:pt x="181" y="2768"/>
                    </a:lnTo>
                    <a:lnTo>
                      <a:pt x="181" y="2737"/>
                    </a:lnTo>
                    <a:lnTo>
                      <a:pt x="181" y="2709"/>
                    </a:lnTo>
                    <a:lnTo>
                      <a:pt x="197" y="2692"/>
                    </a:lnTo>
                    <a:lnTo>
                      <a:pt x="197" y="2661"/>
                    </a:lnTo>
                    <a:lnTo>
                      <a:pt x="197" y="2631"/>
                    </a:lnTo>
                    <a:lnTo>
                      <a:pt x="226" y="2527"/>
                    </a:lnTo>
                    <a:lnTo>
                      <a:pt x="242" y="2434"/>
                    </a:lnTo>
                    <a:lnTo>
                      <a:pt x="273" y="2345"/>
                    </a:lnTo>
                    <a:lnTo>
                      <a:pt x="302" y="2252"/>
                    </a:lnTo>
                    <a:lnTo>
                      <a:pt x="332" y="2163"/>
                    </a:lnTo>
                    <a:lnTo>
                      <a:pt x="348" y="2132"/>
                    </a:lnTo>
                    <a:lnTo>
                      <a:pt x="363" y="2056"/>
                    </a:lnTo>
                    <a:lnTo>
                      <a:pt x="378" y="1982"/>
                    </a:lnTo>
                    <a:lnTo>
                      <a:pt x="393" y="1920"/>
                    </a:lnTo>
                    <a:lnTo>
                      <a:pt x="408" y="1845"/>
                    </a:lnTo>
                    <a:lnTo>
                      <a:pt x="424" y="1769"/>
                    </a:lnTo>
                    <a:lnTo>
                      <a:pt x="438" y="1738"/>
                    </a:lnTo>
                    <a:lnTo>
                      <a:pt x="454" y="1693"/>
                    </a:lnTo>
                    <a:lnTo>
                      <a:pt x="469" y="1634"/>
                    </a:lnTo>
                    <a:lnTo>
                      <a:pt x="483" y="1573"/>
                    </a:lnTo>
                    <a:lnTo>
                      <a:pt x="500" y="1528"/>
                    </a:lnTo>
                    <a:lnTo>
                      <a:pt x="500" y="1466"/>
                    </a:lnTo>
                    <a:lnTo>
                      <a:pt x="500" y="1452"/>
                    </a:lnTo>
                    <a:lnTo>
                      <a:pt x="529" y="1270"/>
                    </a:lnTo>
                    <a:lnTo>
                      <a:pt x="529" y="1088"/>
                    </a:lnTo>
                    <a:lnTo>
                      <a:pt x="500" y="906"/>
                    </a:lnTo>
                    <a:lnTo>
                      <a:pt x="438" y="741"/>
                    </a:lnTo>
                    <a:lnTo>
                      <a:pt x="363" y="574"/>
                    </a:lnTo>
                    <a:lnTo>
                      <a:pt x="332" y="529"/>
                    </a:lnTo>
                    <a:lnTo>
                      <a:pt x="318" y="437"/>
                    </a:lnTo>
                    <a:lnTo>
                      <a:pt x="332" y="361"/>
                    </a:lnTo>
                    <a:lnTo>
                      <a:pt x="378" y="286"/>
                    </a:lnTo>
                    <a:lnTo>
                      <a:pt x="424" y="210"/>
                    </a:lnTo>
                    <a:lnTo>
                      <a:pt x="483" y="151"/>
                    </a:lnTo>
                    <a:lnTo>
                      <a:pt x="514" y="134"/>
                    </a:lnTo>
                    <a:lnTo>
                      <a:pt x="574" y="75"/>
                    </a:lnTo>
                    <a:lnTo>
                      <a:pt x="634" y="44"/>
                    </a:lnTo>
                    <a:lnTo>
                      <a:pt x="711" y="14"/>
                    </a:lnTo>
                    <a:lnTo>
                      <a:pt x="787" y="0"/>
                    </a:lnTo>
                    <a:lnTo>
                      <a:pt x="863" y="0"/>
                    </a:lnTo>
                    <a:lnTo>
                      <a:pt x="892" y="0"/>
                    </a:lnTo>
                    <a:lnTo>
                      <a:pt x="968" y="14"/>
                    </a:lnTo>
                    <a:lnTo>
                      <a:pt x="1059" y="29"/>
                    </a:lnTo>
                    <a:lnTo>
                      <a:pt x="1149" y="59"/>
                    </a:lnTo>
                    <a:lnTo>
                      <a:pt x="1224" y="89"/>
                    </a:lnTo>
                    <a:lnTo>
                      <a:pt x="1300" y="151"/>
                    </a:lnTo>
                    <a:lnTo>
                      <a:pt x="1316" y="165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5040360" y="3567240"/>
                <a:ext cx="15840" cy="87120"/>
              </a:xfrm>
              <a:custGeom>
                <a:avLst/>
                <a:gdLst/>
                <a:ahLst/>
                <a:rect l="l" t="t" r="r" b="b"/>
                <a:pathLst>
                  <a:path w="59" h="333">
                    <a:moveTo>
                      <a:pt x="44" y="0"/>
                    </a:moveTo>
                    <a:lnTo>
                      <a:pt x="59" y="31"/>
                    </a:lnTo>
                    <a:lnTo>
                      <a:pt x="59" y="45"/>
                    </a:lnTo>
                    <a:lnTo>
                      <a:pt x="59" y="61"/>
                    </a:lnTo>
                    <a:lnTo>
                      <a:pt x="59" y="92"/>
                    </a:lnTo>
                    <a:lnTo>
                      <a:pt x="59" y="106"/>
                    </a:lnTo>
                    <a:lnTo>
                      <a:pt x="59" y="137"/>
                    </a:lnTo>
                    <a:lnTo>
                      <a:pt x="59" y="151"/>
                    </a:lnTo>
                    <a:lnTo>
                      <a:pt x="59" y="168"/>
                    </a:lnTo>
                    <a:lnTo>
                      <a:pt x="44" y="196"/>
                    </a:lnTo>
                    <a:lnTo>
                      <a:pt x="44" y="213"/>
                    </a:lnTo>
                    <a:lnTo>
                      <a:pt x="28" y="227"/>
                    </a:lnTo>
                    <a:lnTo>
                      <a:pt x="28" y="258"/>
                    </a:lnTo>
                    <a:lnTo>
                      <a:pt x="14" y="272"/>
                    </a:lnTo>
                    <a:lnTo>
                      <a:pt x="14" y="288"/>
                    </a:lnTo>
                    <a:lnTo>
                      <a:pt x="0" y="303"/>
                    </a:lnTo>
                    <a:lnTo>
                      <a:pt x="0" y="3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5040360" y="3654360"/>
                <a:ext cx="168120" cy="573120"/>
              </a:xfrm>
              <a:custGeom>
                <a:avLst/>
                <a:gdLst/>
                <a:ahLst/>
                <a:rect l="l" t="t" r="r" b="b"/>
                <a:pathLst>
                  <a:path w="634" h="2163">
                    <a:moveTo>
                      <a:pt x="0" y="0"/>
                    </a:moveTo>
                    <a:lnTo>
                      <a:pt x="28" y="136"/>
                    </a:lnTo>
                    <a:lnTo>
                      <a:pt x="75" y="272"/>
                    </a:lnTo>
                    <a:lnTo>
                      <a:pt x="120" y="408"/>
                    </a:lnTo>
                    <a:lnTo>
                      <a:pt x="165" y="530"/>
                    </a:lnTo>
                    <a:lnTo>
                      <a:pt x="196" y="666"/>
                    </a:lnTo>
                    <a:lnTo>
                      <a:pt x="241" y="803"/>
                    </a:lnTo>
                    <a:lnTo>
                      <a:pt x="286" y="938"/>
                    </a:lnTo>
                    <a:lnTo>
                      <a:pt x="332" y="1075"/>
                    </a:lnTo>
                    <a:lnTo>
                      <a:pt x="378" y="1212"/>
                    </a:lnTo>
                    <a:lnTo>
                      <a:pt x="423" y="1347"/>
                    </a:lnTo>
                    <a:lnTo>
                      <a:pt x="468" y="1468"/>
                    </a:lnTo>
                    <a:lnTo>
                      <a:pt x="497" y="1604"/>
                    </a:lnTo>
                    <a:lnTo>
                      <a:pt x="543" y="1740"/>
                    </a:lnTo>
                    <a:lnTo>
                      <a:pt x="574" y="1892"/>
                    </a:lnTo>
                    <a:lnTo>
                      <a:pt x="604" y="2029"/>
                    </a:lnTo>
                    <a:lnTo>
                      <a:pt x="634" y="21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5195880" y="4227480"/>
                <a:ext cx="23760" cy="384120"/>
              </a:xfrm>
              <a:custGeom>
                <a:avLst/>
                <a:gdLst/>
                <a:ahLst/>
                <a:rect l="l" t="t" r="r" b="b"/>
                <a:pathLst>
                  <a:path w="91" h="1453">
                    <a:moveTo>
                      <a:pt x="46" y="0"/>
                    </a:moveTo>
                    <a:lnTo>
                      <a:pt x="62" y="92"/>
                    </a:lnTo>
                    <a:lnTo>
                      <a:pt x="62" y="182"/>
                    </a:lnTo>
                    <a:lnTo>
                      <a:pt x="77" y="273"/>
                    </a:lnTo>
                    <a:lnTo>
                      <a:pt x="77" y="364"/>
                    </a:lnTo>
                    <a:lnTo>
                      <a:pt x="91" y="455"/>
                    </a:lnTo>
                    <a:lnTo>
                      <a:pt x="91" y="561"/>
                    </a:lnTo>
                    <a:lnTo>
                      <a:pt x="91" y="652"/>
                    </a:lnTo>
                    <a:lnTo>
                      <a:pt x="91" y="743"/>
                    </a:lnTo>
                    <a:lnTo>
                      <a:pt x="91" y="834"/>
                    </a:lnTo>
                    <a:lnTo>
                      <a:pt x="91" y="923"/>
                    </a:lnTo>
                    <a:lnTo>
                      <a:pt x="77" y="1016"/>
                    </a:lnTo>
                    <a:lnTo>
                      <a:pt x="77" y="1105"/>
                    </a:lnTo>
                    <a:lnTo>
                      <a:pt x="62" y="1195"/>
                    </a:lnTo>
                    <a:lnTo>
                      <a:pt x="46" y="1287"/>
                    </a:lnTo>
                    <a:lnTo>
                      <a:pt x="16" y="1363"/>
                    </a:lnTo>
                    <a:lnTo>
                      <a:pt x="0" y="145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5079960" y="4611600"/>
                <a:ext cx="115920" cy="416160"/>
              </a:xfrm>
              <a:custGeom>
                <a:avLst/>
                <a:gdLst/>
                <a:ahLst/>
                <a:rect l="l" t="t" r="r" b="b"/>
                <a:pathLst>
                  <a:path w="437" h="1574">
                    <a:moveTo>
                      <a:pt x="437" y="0"/>
                    </a:moveTo>
                    <a:lnTo>
                      <a:pt x="408" y="106"/>
                    </a:lnTo>
                    <a:lnTo>
                      <a:pt x="377" y="197"/>
                    </a:lnTo>
                    <a:lnTo>
                      <a:pt x="346" y="304"/>
                    </a:lnTo>
                    <a:lnTo>
                      <a:pt x="317" y="394"/>
                    </a:lnTo>
                    <a:lnTo>
                      <a:pt x="286" y="500"/>
                    </a:lnTo>
                    <a:lnTo>
                      <a:pt x="272" y="591"/>
                    </a:lnTo>
                    <a:lnTo>
                      <a:pt x="241" y="682"/>
                    </a:lnTo>
                    <a:lnTo>
                      <a:pt x="210" y="788"/>
                    </a:lnTo>
                    <a:lnTo>
                      <a:pt x="181" y="878"/>
                    </a:lnTo>
                    <a:lnTo>
                      <a:pt x="150" y="985"/>
                    </a:lnTo>
                    <a:lnTo>
                      <a:pt x="120" y="1074"/>
                    </a:lnTo>
                    <a:lnTo>
                      <a:pt x="90" y="1181"/>
                    </a:lnTo>
                    <a:lnTo>
                      <a:pt x="59" y="1272"/>
                    </a:lnTo>
                    <a:lnTo>
                      <a:pt x="45" y="1377"/>
                    </a:lnTo>
                    <a:lnTo>
                      <a:pt x="14" y="1468"/>
                    </a:lnTo>
                    <a:lnTo>
                      <a:pt x="0" y="157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4906800" y="5027760"/>
                <a:ext cx="173160" cy="523800"/>
              </a:xfrm>
              <a:custGeom>
                <a:avLst/>
                <a:gdLst/>
                <a:ahLst/>
                <a:rect l="l" t="t" r="r" b="b"/>
                <a:pathLst>
                  <a:path w="651" h="1982">
                    <a:moveTo>
                      <a:pt x="651" y="0"/>
                    </a:moveTo>
                    <a:lnTo>
                      <a:pt x="604" y="121"/>
                    </a:lnTo>
                    <a:lnTo>
                      <a:pt x="575" y="243"/>
                    </a:lnTo>
                    <a:lnTo>
                      <a:pt x="528" y="379"/>
                    </a:lnTo>
                    <a:lnTo>
                      <a:pt x="483" y="499"/>
                    </a:lnTo>
                    <a:lnTo>
                      <a:pt x="438" y="620"/>
                    </a:lnTo>
                    <a:lnTo>
                      <a:pt x="407" y="741"/>
                    </a:lnTo>
                    <a:lnTo>
                      <a:pt x="362" y="863"/>
                    </a:lnTo>
                    <a:lnTo>
                      <a:pt x="318" y="984"/>
                    </a:lnTo>
                    <a:lnTo>
                      <a:pt x="271" y="1120"/>
                    </a:lnTo>
                    <a:lnTo>
                      <a:pt x="225" y="1240"/>
                    </a:lnTo>
                    <a:lnTo>
                      <a:pt x="196" y="1362"/>
                    </a:lnTo>
                    <a:lnTo>
                      <a:pt x="151" y="1484"/>
                    </a:lnTo>
                    <a:lnTo>
                      <a:pt x="105" y="1604"/>
                    </a:lnTo>
                    <a:lnTo>
                      <a:pt x="75" y="1741"/>
                    </a:lnTo>
                    <a:lnTo>
                      <a:pt x="29" y="1862"/>
                    </a:lnTo>
                    <a:lnTo>
                      <a:pt x="0" y="19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4888080" y="5551560"/>
                <a:ext cx="23760" cy="220680"/>
              </a:xfrm>
              <a:custGeom>
                <a:avLst/>
                <a:gdLst/>
                <a:ahLst/>
                <a:rect l="l" t="t" r="r" b="b"/>
                <a:pathLst>
                  <a:path w="91" h="834">
                    <a:moveTo>
                      <a:pt x="76" y="0"/>
                    </a:moveTo>
                    <a:lnTo>
                      <a:pt x="60" y="62"/>
                    </a:lnTo>
                    <a:lnTo>
                      <a:pt x="45" y="107"/>
                    </a:lnTo>
                    <a:lnTo>
                      <a:pt x="31" y="152"/>
                    </a:lnTo>
                    <a:lnTo>
                      <a:pt x="31" y="212"/>
                    </a:lnTo>
                    <a:lnTo>
                      <a:pt x="15" y="258"/>
                    </a:lnTo>
                    <a:lnTo>
                      <a:pt x="0" y="318"/>
                    </a:lnTo>
                    <a:lnTo>
                      <a:pt x="0" y="363"/>
                    </a:lnTo>
                    <a:lnTo>
                      <a:pt x="0" y="425"/>
                    </a:lnTo>
                    <a:lnTo>
                      <a:pt x="0" y="484"/>
                    </a:lnTo>
                    <a:lnTo>
                      <a:pt x="0" y="530"/>
                    </a:lnTo>
                    <a:lnTo>
                      <a:pt x="0" y="590"/>
                    </a:lnTo>
                    <a:lnTo>
                      <a:pt x="15" y="635"/>
                    </a:lnTo>
                    <a:lnTo>
                      <a:pt x="15" y="680"/>
                    </a:lnTo>
                    <a:lnTo>
                      <a:pt x="45" y="742"/>
                    </a:lnTo>
                    <a:lnTo>
                      <a:pt x="60" y="787"/>
                    </a:lnTo>
                    <a:lnTo>
                      <a:pt x="91" y="83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4911840" y="5772240"/>
                <a:ext cx="47520" cy="83880"/>
              </a:xfrm>
              <a:custGeom>
                <a:avLst/>
                <a:gdLst/>
                <a:ahLst/>
                <a:rect l="l" t="t" r="r" b="b"/>
                <a:pathLst>
                  <a:path w="181" h="316">
                    <a:moveTo>
                      <a:pt x="0" y="0"/>
                    </a:moveTo>
                    <a:lnTo>
                      <a:pt x="0" y="14"/>
                    </a:lnTo>
                    <a:lnTo>
                      <a:pt x="14" y="45"/>
                    </a:lnTo>
                    <a:lnTo>
                      <a:pt x="14" y="59"/>
                    </a:lnTo>
                    <a:lnTo>
                      <a:pt x="29" y="75"/>
                    </a:lnTo>
                    <a:lnTo>
                      <a:pt x="45" y="104"/>
                    </a:lnTo>
                    <a:lnTo>
                      <a:pt x="60" y="120"/>
                    </a:lnTo>
                    <a:lnTo>
                      <a:pt x="76" y="135"/>
                    </a:lnTo>
                    <a:lnTo>
                      <a:pt x="76" y="165"/>
                    </a:lnTo>
                    <a:lnTo>
                      <a:pt x="90" y="179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6" y="241"/>
                    </a:lnTo>
                    <a:lnTo>
                      <a:pt x="151" y="255"/>
                    </a:lnTo>
                    <a:lnTo>
                      <a:pt x="151" y="272"/>
                    </a:lnTo>
                    <a:lnTo>
                      <a:pt x="166" y="301"/>
                    </a:lnTo>
                    <a:lnTo>
                      <a:pt x="181" y="31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848120" y="5732640"/>
                <a:ext cx="111240" cy="123480"/>
              </a:xfrm>
              <a:custGeom>
                <a:avLst/>
                <a:gdLst/>
                <a:ahLst/>
                <a:rect l="l" t="t" r="r" b="b"/>
                <a:pathLst>
                  <a:path w="423" h="470">
                    <a:moveTo>
                      <a:pt x="423" y="470"/>
                    </a:moveTo>
                    <a:lnTo>
                      <a:pt x="393" y="440"/>
                    </a:lnTo>
                    <a:lnTo>
                      <a:pt x="363" y="409"/>
                    </a:lnTo>
                    <a:lnTo>
                      <a:pt x="332" y="395"/>
                    </a:lnTo>
                    <a:lnTo>
                      <a:pt x="302" y="364"/>
                    </a:lnTo>
                    <a:lnTo>
                      <a:pt x="271" y="333"/>
                    </a:lnTo>
                    <a:lnTo>
                      <a:pt x="242" y="319"/>
                    </a:lnTo>
                    <a:lnTo>
                      <a:pt x="196" y="289"/>
                    </a:lnTo>
                    <a:lnTo>
                      <a:pt x="166" y="258"/>
                    </a:lnTo>
                    <a:lnTo>
                      <a:pt x="136" y="229"/>
                    </a:lnTo>
                    <a:lnTo>
                      <a:pt x="120" y="213"/>
                    </a:lnTo>
                    <a:lnTo>
                      <a:pt x="89" y="182"/>
                    </a:lnTo>
                    <a:lnTo>
                      <a:pt x="60" y="154"/>
                    </a:lnTo>
                    <a:lnTo>
                      <a:pt x="45" y="123"/>
                    </a:lnTo>
                    <a:lnTo>
                      <a:pt x="29" y="78"/>
                    </a:lnTo>
                    <a:lnTo>
                      <a:pt x="14" y="4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848120" y="5540400"/>
                <a:ext cx="19080" cy="192240"/>
              </a:xfrm>
              <a:custGeom>
                <a:avLst/>
                <a:gdLst/>
                <a:ahLst/>
                <a:rect l="l" t="t" r="r" b="b"/>
                <a:pathLst>
                  <a:path w="75" h="725">
                    <a:moveTo>
                      <a:pt x="0" y="725"/>
                    </a:moveTo>
                    <a:lnTo>
                      <a:pt x="0" y="680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45"/>
                    </a:lnTo>
                    <a:lnTo>
                      <a:pt x="14" y="499"/>
                    </a:lnTo>
                    <a:lnTo>
                      <a:pt x="14" y="453"/>
                    </a:lnTo>
                    <a:lnTo>
                      <a:pt x="29" y="408"/>
                    </a:lnTo>
                    <a:lnTo>
                      <a:pt x="29" y="363"/>
                    </a:lnTo>
                    <a:lnTo>
                      <a:pt x="45" y="317"/>
                    </a:lnTo>
                    <a:lnTo>
                      <a:pt x="45" y="272"/>
                    </a:lnTo>
                    <a:lnTo>
                      <a:pt x="60" y="227"/>
                    </a:lnTo>
                    <a:lnTo>
                      <a:pt x="60" y="181"/>
                    </a:lnTo>
                    <a:lnTo>
                      <a:pt x="75" y="137"/>
                    </a:lnTo>
                    <a:lnTo>
                      <a:pt x="75" y="90"/>
                    </a:lnTo>
                    <a:lnTo>
                      <a:pt x="75" y="45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867200" y="5484960"/>
                <a:ext cx="12600" cy="55440"/>
              </a:xfrm>
              <a:custGeom>
                <a:avLst/>
                <a:gdLst/>
                <a:ahLst/>
                <a:rect l="l" t="t" r="r" b="b"/>
                <a:pathLst>
                  <a:path w="45" h="212">
                    <a:moveTo>
                      <a:pt x="0" y="212"/>
                    </a:moveTo>
                    <a:lnTo>
                      <a:pt x="14" y="197"/>
                    </a:lnTo>
                    <a:lnTo>
                      <a:pt x="14" y="182"/>
                    </a:lnTo>
                    <a:lnTo>
                      <a:pt x="14" y="168"/>
                    </a:lnTo>
                    <a:lnTo>
                      <a:pt x="14" y="151"/>
                    </a:lnTo>
                    <a:lnTo>
                      <a:pt x="14" y="137"/>
                    </a:lnTo>
                    <a:lnTo>
                      <a:pt x="31" y="137"/>
                    </a:lnTo>
                    <a:lnTo>
                      <a:pt x="31" y="120"/>
                    </a:lnTo>
                    <a:lnTo>
                      <a:pt x="31" y="106"/>
                    </a:lnTo>
                    <a:lnTo>
                      <a:pt x="31" y="92"/>
                    </a:lnTo>
                    <a:lnTo>
                      <a:pt x="31" y="75"/>
                    </a:lnTo>
                    <a:lnTo>
                      <a:pt x="31" y="61"/>
                    </a:lnTo>
                    <a:lnTo>
                      <a:pt x="31" y="45"/>
                    </a:lnTo>
                    <a:lnTo>
                      <a:pt x="31" y="31"/>
                    </a:lnTo>
                    <a:lnTo>
                      <a:pt x="31" y="16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879800" y="5295960"/>
                <a:ext cx="24120" cy="189000"/>
              </a:xfrm>
              <a:custGeom>
                <a:avLst/>
                <a:gdLst/>
                <a:ahLst/>
                <a:rect l="l" t="t" r="r" b="b"/>
                <a:pathLst>
                  <a:path w="91" h="711">
                    <a:moveTo>
                      <a:pt x="0" y="711"/>
                    </a:moveTo>
                    <a:lnTo>
                      <a:pt x="0" y="666"/>
                    </a:lnTo>
                    <a:lnTo>
                      <a:pt x="0" y="621"/>
                    </a:lnTo>
                    <a:lnTo>
                      <a:pt x="0" y="576"/>
                    </a:lnTo>
                    <a:lnTo>
                      <a:pt x="16" y="545"/>
                    </a:lnTo>
                    <a:lnTo>
                      <a:pt x="16" y="500"/>
                    </a:lnTo>
                    <a:lnTo>
                      <a:pt x="31" y="453"/>
                    </a:lnTo>
                    <a:lnTo>
                      <a:pt x="31" y="408"/>
                    </a:lnTo>
                    <a:lnTo>
                      <a:pt x="31" y="363"/>
                    </a:lnTo>
                    <a:lnTo>
                      <a:pt x="46" y="318"/>
                    </a:lnTo>
                    <a:lnTo>
                      <a:pt x="46" y="272"/>
                    </a:lnTo>
                    <a:lnTo>
                      <a:pt x="62" y="226"/>
                    </a:lnTo>
                    <a:lnTo>
                      <a:pt x="62" y="181"/>
                    </a:lnTo>
                    <a:lnTo>
                      <a:pt x="76" y="136"/>
                    </a:lnTo>
                    <a:lnTo>
                      <a:pt x="76" y="91"/>
                    </a:lnTo>
                    <a:lnTo>
                      <a:pt x="76" y="45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4875120" y="5156280"/>
                <a:ext cx="28800" cy="139680"/>
              </a:xfrm>
              <a:custGeom>
                <a:avLst/>
                <a:gdLst/>
                <a:ahLst/>
                <a:rect l="l" t="t" r="r" b="b"/>
                <a:pathLst>
                  <a:path w="105" h="529">
                    <a:moveTo>
                      <a:pt x="105" y="529"/>
                    </a:moveTo>
                    <a:lnTo>
                      <a:pt x="105" y="499"/>
                    </a:lnTo>
                    <a:lnTo>
                      <a:pt x="90" y="468"/>
                    </a:lnTo>
                    <a:lnTo>
                      <a:pt x="90" y="423"/>
                    </a:lnTo>
                    <a:lnTo>
                      <a:pt x="90" y="392"/>
                    </a:lnTo>
                    <a:lnTo>
                      <a:pt x="90" y="363"/>
                    </a:lnTo>
                    <a:lnTo>
                      <a:pt x="90" y="317"/>
                    </a:lnTo>
                    <a:lnTo>
                      <a:pt x="90" y="287"/>
                    </a:lnTo>
                    <a:lnTo>
                      <a:pt x="90" y="256"/>
                    </a:lnTo>
                    <a:lnTo>
                      <a:pt x="76" y="227"/>
                    </a:lnTo>
                    <a:lnTo>
                      <a:pt x="76" y="182"/>
                    </a:lnTo>
                    <a:lnTo>
                      <a:pt x="60" y="151"/>
                    </a:lnTo>
                    <a:lnTo>
                      <a:pt x="60" y="120"/>
                    </a:lnTo>
                    <a:lnTo>
                      <a:pt x="45" y="90"/>
                    </a:lnTo>
                    <a:lnTo>
                      <a:pt x="30" y="59"/>
                    </a:lnTo>
                    <a:lnTo>
                      <a:pt x="14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4867200" y="5159520"/>
                <a:ext cx="12600" cy="176040"/>
              </a:xfrm>
              <a:custGeom>
                <a:avLst/>
                <a:gdLst/>
                <a:ahLst/>
                <a:rect l="l" t="t" r="r" b="b"/>
                <a:pathLst>
                  <a:path w="45" h="667">
                    <a:moveTo>
                      <a:pt x="0" y="0"/>
                    </a:moveTo>
                    <a:lnTo>
                      <a:pt x="14" y="45"/>
                    </a:lnTo>
                    <a:lnTo>
                      <a:pt x="14" y="92"/>
                    </a:lnTo>
                    <a:lnTo>
                      <a:pt x="31" y="121"/>
                    </a:lnTo>
                    <a:lnTo>
                      <a:pt x="31" y="168"/>
                    </a:lnTo>
                    <a:lnTo>
                      <a:pt x="31" y="213"/>
                    </a:lnTo>
                    <a:lnTo>
                      <a:pt x="31" y="258"/>
                    </a:lnTo>
                    <a:lnTo>
                      <a:pt x="31" y="288"/>
                    </a:lnTo>
                    <a:lnTo>
                      <a:pt x="45" y="333"/>
                    </a:lnTo>
                    <a:lnTo>
                      <a:pt x="45" y="378"/>
                    </a:lnTo>
                    <a:lnTo>
                      <a:pt x="45" y="424"/>
                    </a:lnTo>
                    <a:lnTo>
                      <a:pt x="45" y="454"/>
                    </a:lnTo>
                    <a:lnTo>
                      <a:pt x="31" y="500"/>
                    </a:lnTo>
                    <a:lnTo>
                      <a:pt x="31" y="545"/>
                    </a:lnTo>
                    <a:lnTo>
                      <a:pt x="31" y="591"/>
                    </a:lnTo>
                    <a:lnTo>
                      <a:pt x="31" y="636"/>
                    </a:lnTo>
                    <a:lnTo>
                      <a:pt x="31" y="6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4772160" y="5091120"/>
                <a:ext cx="102960" cy="244440"/>
              </a:xfrm>
              <a:custGeom>
                <a:avLst/>
                <a:gdLst/>
                <a:ahLst/>
                <a:rect l="l" t="t" r="r" b="b"/>
                <a:pathLst>
                  <a:path w="395" h="923">
                    <a:moveTo>
                      <a:pt x="395" y="923"/>
                    </a:moveTo>
                    <a:lnTo>
                      <a:pt x="364" y="877"/>
                    </a:lnTo>
                    <a:lnTo>
                      <a:pt x="334" y="816"/>
                    </a:lnTo>
                    <a:lnTo>
                      <a:pt x="318" y="756"/>
                    </a:lnTo>
                    <a:lnTo>
                      <a:pt x="289" y="696"/>
                    </a:lnTo>
                    <a:lnTo>
                      <a:pt x="258" y="651"/>
                    </a:lnTo>
                    <a:lnTo>
                      <a:pt x="227" y="589"/>
                    </a:lnTo>
                    <a:lnTo>
                      <a:pt x="198" y="529"/>
                    </a:lnTo>
                    <a:lnTo>
                      <a:pt x="168" y="469"/>
                    </a:lnTo>
                    <a:lnTo>
                      <a:pt x="152" y="424"/>
                    </a:lnTo>
                    <a:lnTo>
                      <a:pt x="122" y="362"/>
                    </a:lnTo>
                    <a:lnTo>
                      <a:pt x="92" y="301"/>
                    </a:lnTo>
                    <a:lnTo>
                      <a:pt x="76" y="242"/>
                    </a:lnTo>
                    <a:lnTo>
                      <a:pt x="62" y="180"/>
                    </a:lnTo>
                    <a:lnTo>
                      <a:pt x="31" y="121"/>
                    </a:lnTo>
                    <a:lnTo>
                      <a:pt x="17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4707000" y="4683240"/>
                <a:ext cx="65160" cy="407880"/>
              </a:xfrm>
              <a:custGeom>
                <a:avLst/>
                <a:gdLst/>
                <a:ahLst/>
                <a:rect l="l" t="t" r="r" b="b"/>
                <a:pathLst>
                  <a:path w="241" h="1544">
                    <a:moveTo>
                      <a:pt x="241" y="1544"/>
                    </a:moveTo>
                    <a:lnTo>
                      <a:pt x="227" y="1453"/>
                    </a:lnTo>
                    <a:lnTo>
                      <a:pt x="196" y="1346"/>
                    </a:lnTo>
                    <a:lnTo>
                      <a:pt x="182" y="1256"/>
                    </a:lnTo>
                    <a:lnTo>
                      <a:pt x="151" y="1165"/>
                    </a:lnTo>
                    <a:lnTo>
                      <a:pt x="135" y="1074"/>
                    </a:lnTo>
                    <a:lnTo>
                      <a:pt x="106" y="983"/>
                    </a:lnTo>
                    <a:lnTo>
                      <a:pt x="90" y="877"/>
                    </a:lnTo>
                    <a:lnTo>
                      <a:pt x="76" y="787"/>
                    </a:lnTo>
                    <a:lnTo>
                      <a:pt x="59" y="695"/>
                    </a:lnTo>
                    <a:lnTo>
                      <a:pt x="45" y="591"/>
                    </a:lnTo>
                    <a:lnTo>
                      <a:pt x="31" y="499"/>
                    </a:lnTo>
                    <a:lnTo>
                      <a:pt x="14" y="409"/>
                    </a:lnTo>
                    <a:lnTo>
                      <a:pt x="14" y="303"/>
                    </a:lnTo>
                    <a:lnTo>
                      <a:pt x="0" y="212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4703760" y="4254480"/>
                <a:ext cx="47520" cy="428760"/>
              </a:xfrm>
              <a:custGeom>
                <a:avLst/>
                <a:gdLst/>
                <a:ahLst/>
                <a:rect l="l" t="t" r="r" b="b"/>
                <a:pathLst>
                  <a:path w="181" h="1619">
                    <a:moveTo>
                      <a:pt x="15" y="1619"/>
                    </a:moveTo>
                    <a:lnTo>
                      <a:pt x="0" y="1528"/>
                    </a:lnTo>
                    <a:lnTo>
                      <a:pt x="0" y="1422"/>
                    </a:lnTo>
                    <a:lnTo>
                      <a:pt x="0" y="1316"/>
                    </a:lnTo>
                    <a:lnTo>
                      <a:pt x="15" y="1211"/>
                    </a:lnTo>
                    <a:lnTo>
                      <a:pt x="15" y="1105"/>
                    </a:lnTo>
                    <a:lnTo>
                      <a:pt x="15" y="998"/>
                    </a:lnTo>
                    <a:lnTo>
                      <a:pt x="15" y="909"/>
                    </a:lnTo>
                    <a:lnTo>
                      <a:pt x="29" y="802"/>
                    </a:lnTo>
                    <a:lnTo>
                      <a:pt x="29" y="696"/>
                    </a:lnTo>
                    <a:lnTo>
                      <a:pt x="46" y="591"/>
                    </a:lnTo>
                    <a:lnTo>
                      <a:pt x="60" y="500"/>
                    </a:lnTo>
                    <a:lnTo>
                      <a:pt x="74" y="393"/>
                    </a:lnTo>
                    <a:lnTo>
                      <a:pt x="91" y="288"/>
                    </a:lnTo>
                    <a:lnTo>
                      <a:pt x="121" y="196"/>
                    </a:lnTo>
                    <a:lnTo>
                      <a:pt x="150" y="106"/>
                    </a:lnTo>
                    <a:lnTo>
                      <a:pt x="1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4756320" y="4086360"/>
                <a:ext cx="39600" cy="133200"/>
              </a:xfrm>
              <a:custGeom>
                <a:avLst/>
                <a:gdLst/>
                <a:ahLst/>
                <a:rect l="l" t="t" r="r" b="b"/>
                <a:pathLst>
                  <a:path w="151" h="499">
                    <a:moveTo>
                      <a:pt x="0" y="499"/>
                    </a:moveTo>
                    <a:lnTo>
                      <a:pt x="14" y="454"/>
                    </a:lnTo>
                    <a:lnTo>
                      <a:pt x="14" y="423"/>
                    </a:lnTo>
                    <a:lnTo>
                      <a:pt x="29" y="395"/>
                    </a:lnTo>
                    <a:lnTo>
                      <a:pt x="29" y="364"/>
                    </a:lnTo>
                    <a:lnTo>
                      <a:pt x="45" y="333"/>
                    </a:lnTo>
                    <a:lnTo>
                      <a:pt x="45" y="302"/>
                    </a:lnTo>
                    <a:lnTo>
                      <a:pt x="59" y="273"/>
                    </a:lnTo>
                    <a:lnTo>
                      <a:pt x="76" y="243"/>
                    </a:lnTo>
                    <a:lnTo>
                      <a:pt x="76" y="213"/>
                    </a:lnTo>
                    <a:lnTo>
                      <a:pt x="90" y="182"/>
                    </a:lnTo>
                    <a:lnTo>
                      <a:pt x="105" y="151"/>
                    </a:lnTo>
                    <a:lnTo>
                      <a:pt x="105" y="120"/>
                    </a:lnTo>
                    <a:lnTo>
                      <a:pt x="121" y="91"/>
                    </a:lnTo>
                    <a:lnTo>
                      <a:pt x="121" y="61"/>
                    </a:lnTo>
                    <a:lnTo>
                      <a:pt x="135" y="31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795920" y="3983040"/>
                <a:ext cx="23760" cy="103320"/>
              </a:xfrm>
              <a:custGeom>
                <a:avLst/>
                <a:gdLst/>
                <a:ahLst/>
                <a:rect l="l" t="t" r="r" b="b"/>
                <a:pathLst>
                  <a:path w="90" h="394">
                    <a:moveTo>
                      <a:pt x="0" y="394"/>
                    </a:moveTo>
                    <a:lnTo>
                      <a:pt x="0" y="364"/>
                    </a:lnTo>
                    <a:lnTo>
                      <a:pt x="0" y="349"/>
                    </a:lnTo>
                    <a:lnTo>
                      <a:pt x="15" y="318"/>
                    </a:lnTo>
                    <a:lnTo>
                      <a:pt x="15" y="289"/>
                    </a:lnTo>
                    <a:lnTo>
                      <a:pt x="15" y="273"/>
                    </a:lnTo>
                    <a:lnTo>
                      <a:pt x="30" y="244"/>
                    </a:lnTo>
                    <a:lnTo>
                      <a:pt x="30" y="228"/>
                    </a:lnTo>
                    <a:lnTo>
                      <a:pt x="45" y="198"/>
                    </a:lnTo>
                    <a:lnTo>
                      <a:pt x="45" y="182"/>
                    </a:lnTo>
                    <a:lnTo>
                      <a:pt x="45" y="153"/>
                    </a:lnTo>
                    <a:lnTo>
                      <a:pt x="60" y="122"/>
                    </a:lnTo>
                    <a:lnTo>
                      <a:pt x="60" y="107"/>
                    </a:lnTo>
                    <a:lnTo>
                      <a:pt x="76" y="76"/>
                    </a:lnTo>
                    <a:lnTo>
                      <a:pt x="76" y="62"/>
                    </a:lnTo>
                    <a:lnTo>
                      <a:pt x="76" y="31"/>
                    </a:lnTo>
                    <a:lnTo>
                      <a:pt x="9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4819680" y="3906720"/>
                <a:ext cx="15840" cy="76320"/>
              </a:xfrm>
              <a:custGeom>
                <a:avLst/>
                <a:gdLst/>
                <a:ahLst/>
                <a:rect l="l" t="t" r="r" b="b"/>
                <a:pathLst>
                  <a:path w="62" h="286">
                    <a:moveTo>
                      <a:pt x="0" y="286"/>
                    </a:moveTo>
                    <a:lnTo>
                      <a:pt x="0" y="272"/>
                    </a:lnTo>
                    <a:lnTo>
                      <a:pt x="0" y="258"/>
                    </a:lnTo>
                    <a:lnTo>
                      <a:pt x="16" y="241"/>
                    </a:lnTo>
                    <a:lnTo>
                      <a:pt x="16" y="227"/>
                    </a:lnTo>
                    <a:lnTo>
                      <a:pt x="16" y="196"/>
                    </a:lnTo>
                    <a:lnTo>
                      <a:pt x="31" y="182"/>
                    </a:lnTo>
                    <a:lnTo>
                      <a:pt x="31" y="166"/>
                    </a:lnTo>
                    <a:lnTo>
                      <a:pt x="45" y="151"/>
                    </a:lnTo>
                    <a:lnTo>
                      <a:pt x="45" y="121"/>
                    </a:lnTo>
                    <a:lnTo>
                      <a:pt x="45" y="105"/>
                    </a:lnTo>
                    <a:lnTo>
                      <a:pt x="45" y="90"/>
                    </a:lnTo>
                    <a:lnTo>
                      <a:pt x="62" y="76"/>
                    </a:lnTo>
                    <a:lnTo>
                      <a:pt x="62" y="59"/>
                    </a:lnTo>
                    <a:lnTo>
                      <a:pt x="62" y="31"/>
                    </a:lnTo>
                    <a:lnTo>
                      <a:pt x="62" y="14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4791240" y="3662280"/>
                <a:ext cx="52200" cy="244440"/>
              </a:xfrm>
              <a:custGeom>
                <a:avLst/>
                <a:gdLst/>
                <a:ahLst/>
                <a:rect l="l" t="t" r="r" b="b"/>
                <a:pathLst>
                  <a:path w="197" h="923">
                    <a:moveTo>
                      <a:pt x="168" y="923"/>
                    </a:moveTo>
                    <a:lnTo>
                      <a:pt x="182" y="862"/>
                    </a:lnTo>
                    <a:lnTo>
                      <a:pt x="197" y="800"/>
                    </a:lnTo>
                    <a:lnTo>
                      <a:pt x="197" y="741"/>
                    </a:lnTo>
                    <a:lnTo>
                      <a:pt x="197" y="680"/>
                    </a:lnTo>
                    <a:lnTo>
                      <a:pt x="197" y="621"/>
                    </a:lnTo>
                    <a:lnTo>
                      <a:pt x="197" y="559"/>
                    </a:lnTo>
                    <a:lnTo>
                      <a:pt x="182" y="499"/>
                    </a:lnTo>
                    <a:lnTo>
                      <a:pt x="182" y="439"/>
                    </a:lnTo>
                    <a:lnTo>
                      <a:pt x="168" y="377"/>
                    </a:lnTo>
                    <a:lnTo>
                      <a:pt x="151" y="317"/>
                    </a:lnTo>
                    <a:lnTo>
                      <a:pt x="137" y="257"/>
                    </a:lnTo>
                    <a:lnTo>
                      <a:pt x="106" y="212"/>
                    </a:lnTo>
                    <a:lnTo>
                      <a:pt x="92" y="151"/>
                    </a:lnTo>
                    <a:lnTo>
                      <a:pt x="61" y="105"/>
                    </a:lnTo>
                    <a:lnTo>
                      <a:pt x="31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4788000" y="3557520"/>
                <a:ext cx="50760" cy="104760"/>
              </a:xfrm>
              <a:custGeom>
                <a:avLst/>
                <a:gdLst/>
                <a:ahLst/>
                <a:rect l="l" t="t" r="r" b="b"/>
                <a:pathLst>
                  <a:path w="196" h="395">
                    <a:moveTo>
                      <a:pt x="14" y="395"/>
                    </a:moveTo>
                    <a:lnTo>
                      <a:pt x="0" y="364"/>
                    </a:lnTo>
                    <a:lnTo>
                      <a:pt x="0" y="334"/>
                    </a:lnTo>
                    <a:lnTo>
                      <a:pt x="0" y="303"/>
                    </a:lnTo>
                    <a:lnTo>
                      <a:pt x="0" y="274"/>
                    </a:lnTo>
                    <a:lnTo>
                      <a:pt x="14" y="244"/>
                    </a:lnTo>
                    <a:lnTo>
                      <a:pt x="14" y="227"/>
                    </a:lnTo>
                    <a:lnTo>
                      <a:pt x="30" y="199"/>
                    </a:lnTo>
                    <a:lnTo>
                      <a:pt x="45" y="168"/>
                    </a:lnTo>
                    <a:lnTo>
                      <a:pt x="60" y="152"/>
                    </a:lnTo>
                    <a:lnTo>
                      <a:pt x="75" y="123"/>
                    </a:lnTo>
                    <a:lnTo>
                      <a:pt x="90" y="92"/>
                    </a:lnTo>
                    <a:lnTo>
                      <a:pt x="106" y="76"/>
                    </a:lnTo>
                    <a:lnTo>
                      <a:pt x="136" y="62"/>
                    </a:lnTo>
                    <a:lnTo>
                      <a:pt x="151" y="31"/>
                    </a:lnTo>
                    <a:lnTo>
                      <a:pt x="165" y="17"/>
                    </a:lnTo>
                    <a:lnTo>
                      <a:pt x="1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4938840" y="3522600"/>
                <a:ext cx="112680" cy="44640"/>
              </a:xfrm>
              <a:custGeom>
                <a:avLst/>
                <a:gdLst/>
                <a:ahLst/>
                <a:rect l="l" t="t" r="r" b="b"/>
                <a:pathLst>
                  <a:path w="424" h="165">
                    <a:moveTo>
                      <a:pt x="0" y="0"/>
                    </a:moveTo>
                    <a:lnTo>
                      <a:pt x="31" y="0"/>
                    </a:lnTo>
                    <a:lnTo>
                      <a:pt x="46" y="14"/>
                    </a:lnTo>
                    <a:lnTo>
                      <a:pt x="76" y="14"/>
                    </a:lnTo>
                    <a:lnTo>
                      <a:pt x="105" y="14"/>
                    </a:lnTo>
                    <a:lnTo>
                      <a:pt x="136" y="29"/>
                    </a:lnTo>
                    <a:lnTo>
                      <a:pt x="167" y="29"/>
                    </a:lnTo>
                    <a:lnTo>
                      <a:pt x="198" y="29"/>
                    </a:lnTo>
                    <a:lnTo>
                      <a:pt x="228" y="44"/>
                    </a:lnTo>
                    <a:lnTo>
                      <a:pt x="257" y="59"/>
                    </a:lnTo>
                    <a:lnTo>
                      <a:pt x="287" y="59"/>
                    </a:lnTo>
                    <a:lnTo>
                      <a:pt x="304" y="75"/>
                    </a:lnTo>
                    <a:lnTo>
                      <a:pt x="332" y="89"/>
                    </a:lnTo>
                    <a:lnTo>
                      <a:pt x="363" y="105"/>
                    </a:lnTo>
                    <a:lnTo>
                      <a:pt x="380" y="120"/>
                    </a:lnTo>
                    <a:lnTo>
                      <a:pt x="408" y="151"/>
                    </a:lnTo>
                    <a:lnTo>
                      <a:pt x="424" y="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4938840" y="5380200"/>
                <a:ext cx="120600" cy="336240"/>
              </a:xfrm>
              <a:custGeom>
                <a:avLst/>
                <a:gdLst/>
                <a:ahLst/>
                <a:rect l="l" t="t" r="r" b="b"/>
                <a:pathLst>
                  <a:path w="455" h="1271">
                    <a:moveTo>
                      <a:pt x="455" y="650"/>
                    </a:moveTo>
                    <a:lnTo>
                      <a:pt x="455" y="695"/>
                    </a:lnTo>
                    <a:lnTo>
                      <a:pt x="439" y="742"/>
                    </a:lnTo>
                    <a:lnTo>
                      <a:pt x="424" y="786"/>
                    </a:lnTo>
                    <a:lnTo>
                      <a:pt x="408" y="817"/>
                    </a:lnTo>
                    <a:lnTo>
                      <a:pt x="380" y="862"/>
                    </a:lnTo>
                    <a:lnTo>
                      <a:pt x="349" y="908"/>
                    </a:lnTo>
                    <a:lnTo>
                      <a:pt x="318" y="938"/>
                    </a:lnTo>
                    <a:lnTo>
                      <a:pt x="287" y="984"/>
                    </a:lnTo>
                    <a:lnTo>
                      <a:pt x="257" y="1013"/>
                    </a:lnTo>
                    <a:lnTo>
                      <a:pt x="228" y="1044"/>
                    </a:lnTo>
                    <a:lnTo>
                      <a:pt x="198" y="1075"/>
                    </a:lnTo>
                    <a:lnTo>
                      <a:pt x="151" y="1120"/>
                    </a:lnTo>
                    <a:lnTo>
                      <a:pt x="122" y="1150"/>
                    </a:lnTo>
                    <a:lnTo>
                      <a:pt x="91" y="1180"/>
                    </a:lnTo>
                    <a:lnTo>
                      <a:pt x="61" y="1226"/>
                    </a:lnTo>
                    <a:lnTo>
                      <a:pt x="16" y="1256"/>
                    </a:lnTo>
                    <a:lnTo>
                      <a:pt x="0" y="1271"/>
                    </a:lnTo>
                    <a:lnTo>
                      <a:pt x="16" y="1226"/>
                    </a:lnTo>
                    <a:lnTo>
                      <a:pt x="46" y="1180"/>
                    </a:lnTo>
                    <a:lnTo>
                      <a:pt x="61" y="1134"/>
                    </a:lnTo>
                    <a:lnTo>
                      <a:pt x="91" y="1104"/>
                    </a:lnTo>
                    <a:lnTo>
                      <a:pt x="122" y="1058"/>
                    </a:lnTo>
                    <a:lnTo>
                      <a:pt x="136" y="1013"/>
                    </a:lnTo>
                    <a:lnTo>
                      <a:pt x="167" y="968"/>
                    </a:lnTo>
                    <a:lnTo>
                      <a:pt x="181" y="922"/>
                    </a:lnTo>
                    <a:lnTo>
                      <a:pt x="212" y="877"/>
                    </a:lnTo>
                    <a:lnTo>
                      <a:pt x="228" y="832"/>
                    </a:lnTo>
                    <a:lnTo>
                      <a:pt x="242" y="786"/>
                    </a:lnTo>
                    <a:lnTo>
                      <a:pt x="257" y="742"/>
                    </a:lnTo>
                    <a:lnTo>
                      <a:pt x="273" y="695"/>
                    </a:lnTo>
                    <a:lnTo>
                      <a:pt x="273" y="650"/>
                    </a:lnTo>
                    <a:lnTo>
                      <a:pt x="273" y="590"/>
                    </a:lnTo>
                    <a:lnTo>
                      <a:pt x="273" y="544"/>
                    </a:lnTo>
                    <a:lnTo>
                      <a:pt x="257" y="513"/>
                    </a:lnTo>
                    <a:lnTo>
                      <a:pt x="257" y="499"/>
                    </a:lnTo>
                    <a:lnTo>
                      <a:pt x="242" y="468"/>
                    </a:lnTo>
                    <a:lnTo>
                      <a:pt x="228" y="454"/>
                    </a:lnTo>
                    <a:lnTo>
                      <a:pt x="228" y="438"/>
                    </a:lnTo>
                    <a:lnTo>
                      <a:pt x="212" y="409"/>
                    </a:lnTo>
                    <a:lnTo>
                      <a:pt x="198" y="393"/>
                    </a:lnTo>
                    <a:lnTo>
                      <a:pt x="181" y="379"/>
                    </a:lnTo>
                    <a:lnTo>
                      <a:pt x="167" y="362"/>
                    </a:lnTo>
                    <a:lnTo>
                      <a:pt x="151" y="334"/>
                    </a:lnTo>
                    <a:lnTo>
                      <a:pt x="136" y="317"/>
                    </a:lnTo>
                    <a:lnTo>
                      <a:pt x="122" y="303"/>
                    </a:lnTo>
                    <a:lnTo>
                      <a:pt x="105" y="272"/>
                    </a:lnTo>
                    <a:lnTo>
                      <a:pt x="91" y="258"/>
                    </a:lnTo>
                    <a:lnTo>
                      <a:pt x="76" y="242"/>
                    </a:lnTo>
                    <a:lnTo>
                      <a:pt x="76" y="227"/>
                    </a:lnTo>
                    <a:lnTo>
                      <a:pt x="61" y="227"/>
                    </a:lnTo>
                    <a:lnTo>
                      <a:pt x="136" y="0"/>
                    </a:lnTo>
                    <a:lnTo>
                      <a:pt x="167" y="30"/>
                    </a:lnTo>
                    <a:lnTo>
                      <a:pt x="181" y="76"/>
                    </a:lnTo>
                    <a:lnTo>
                      <a:pt x="198" y="121"/>
                    </a:lnTo>
                    <a:lnTo>
                      <a:pt x="228" y="152"/>
                    </a:lnTo>
                    <a:lnTo>
                      <a:pt x="242" y="197"/>
                    </a:lnTo>
                    <a:lnTo>
                      <a:pt x="273" y="227"/>
                    </a:lnTo>
                    <a:lnTo>
                      <a:pt x="287" y="272"/>
                    </a:lnTo>
                    <a:lnTo>
                      <a:pt x="318" y="317"/>
                    </a:lnTo>
                    <a:lnTo>
                      <a:pt x="332" y="348"/>
                    </a:lnTo>
                    <a:lnTo>
                      <a:pt x="363" y="393"/>
                    </a:lnTo>
                    <a:lnTo>
                      <a:pt x="380" y="438"/>
                    </a:lnTo>
                    <a:lnTo>
                      <a:pt x="394" y="485"/>
                    </a:lnTo>
                    <a:lnTo>
                      <a:pt x="408" y="513"/>
                    </a:lnTo>
                    <a:lnTo>
                      <a:pt x="439" y="561"/>
                    </a:lnTo>
                    <a:lnTo>
                      <a:pt x="455" y="605"/>
                    </a:lnTo>
                    <a:lnTo>
                      <a:pt x="455" y="650"/>
                    </a:lnTo>
                    <a:close/>
                  </a:path>
                </a:pathLst>
              </a:custGeom>
              <a:solidFill>
                <a:srgbClr val="147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4943520" y="5551560"/>
                <a:ext cx="115920" cy="160200"/>
              </a:xfrm>
              <a:custGeom>
                <a:avLst/>
                <a:gdLst/>
                <a:ahLst/>
                <a:rect l="l" t="t" r="r" b="b"/>
                <a:pathLst>
                  <a:path w="439" h="606">
                    <a:moveTo>
                      <a:pt x="439" y="0"/>
                    </a:moveTo>
                    <a:lnTo>
                      <a:pt x="439" y="45"/>
                    </a:lnTo>
                    <a:lnTo>
                      <a:pt x="423" y="92"/>
                    </a:lnTo>
                    <a:lnTo>
                      <a:pt x="408" y="136"/>
                    </a:lnTo>
                    <a:lnTo>
                      <a:pt x="392" y="167"/>
                    </a:lnTo>
                    <a:lnTo>
                      <a:pt x="364" y="212"/>
                    </a:lnTo>
                    <a:lnTo>
                      <a:pt x="333" y="258"/>
                    </a:lnTo>
                    <a:lnTo>
                      <a:pt x="302" y="288"/>
                    </a:lnTo>
                    <a:lnTo>
                      <a:pt x="271" y="334"/>
                    </a:lnTo>
                    <a:lnTo>
                      <a:pt x="241" y="363"/>
                    </a:lnTo>
                    <a:lnTo>
                      <a:pt x="212" y="394"/>
                    </a:lnTo>
                    <a:lnTo>
                      <a:pt x="182" y="425"/>
                    </a:lnTo>
                    <a:lnTo>
                      <a:pt x="135" y="470"/>
                    </a:lnTo>
                    <a:lnTo>
                      <a:pt x="106" y="500"/>
                    </a:lnTo>
                    <a:lnTo>
                      <a:pt x="75" y="530"/>
                    </a:lnTo>
                    <a:lnTo>
                      <a:pt x="45" y="576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4938840" y="5524560"/>
                <a:ext cx="72720" cy="191880"/>
              </a:xfrm>
              <a:custGeom>
                <a:avLst/>
                <a:gdLst/>
                <a:ahLst/>
                <a:rect l="l" t="t" r="r" b="b"/>
                <a:pathLst>
                  <a:path w="273" h="727">
                    <a:moveTo>
                      <a:pt x="0" y="727"/>
                    </a:moveTo>
                    <a:lnTo>
                      <a:pt x="16" y="682"/>
                    </a:lnTo>
                    <a:lnTo>
                      <a:pt x="46" y="636"/>
                    </a:lnTo>
                    <a:lnTo>
                      <a:pt x="61" y="590"/>
                    </a:lnTo>
                    <a:lnTo>
                      <a:pt x="91" y="560"/>
                    </a:lnTo>
                    <a:lnTo>
                      <a:pt x="122" y="514"/>
                    </a:lnTo>
                    <a:lnTo>
                      <a:pt x="136" y="469"/>
                    </a:lnTo>
                    <a:lnTo>
                      <a:pt x="167" y="424"/>
                    </a:lnTo>
                    <a:lnTo>
                      <a:pt x="181" y="378"/>
                    </a:lnTo>
                    <a:lnTo>
                      <a:pt x="212" y="333"/>
                    </a:lnTo>
                    <a:lnTo>
                      <a:pt x="228" y="288"/>
                    </a:lnTo>
                    <a:lnTo>
                      <a:pt x="242" y="242"/>
                    </a:lnTo>
                    <a:lnTo>
                      <a:pt x="257" y="198"/>
                    </a:lnTo>
                    <a:lnTo>
                      <a:pt x="273" y="151"/>
                    </a:lnTo>
                    <a:lnTo>
                      <a:pt x="273" y="106"/>
                    </a:lnTo>
                    <a:lnTo>
                      <a:pt x="273" y="46"/>
                    </a:lnTo>
                    <a:lnTo>
                      <a:pt x="2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959360" y="544032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197" h="317">
                    <a:moveTo>
                      <a:pt x="197" y="317"/>
                    </a:moveTo>
                    <a:lnTo>
                      <a:pt x="181" y="286"/>
                    </a:lnTo>
                    <a:lnTo>
                      <a:pt x="181" y="272"/>
                    </a:lnTo>
                    <a:lnTo>
                      <a:pt x="166" y="241"/>
                    </a:lnTo>
                    <a:lnTo>
                      <a:pt x="152" y="227"/>
                    </a:lnTo>
                    <a:lnTo>
                      <a:pt x="152" y="211"/>
                    </a:lnTo>
                    <a:lnTo>
                      <a:pt x="136" y="182"/>
                    </a:lnTo>
                    <a:lnTo>
                      <a:pt x="122" y="166"/>
                    </a:lnTo>
                    <a:lnTo>
                      <a:pt x="105" y="152"/>
                    </a:lnTo>
                    <a:lnTo>
                      <a:pt x="91" y="135"/>
                    </a:lnTo>
                    <a:lnTo>
                      <a:pt x="75" y="107"/>
                    </a:lnTo>
                    <a:lnTo>
                      <a:pt x="60" y="90"/>
                    </a:lnTo>
                    <a:lnTo>
                      <a:pt x="46" y="76"/>
                    </a:lnTo>
                    <a:lnTo>
                      <a:pt x="29" y="45"/>
                    </a:lnTo>
                    <a:lnTo>
                      <a:pt x="15" y="31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V="1">
                <a:off x="4956120" y="5379840"/>
                <a:ext cx="1908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4975200" y="5380200"/>
                <a:ext cx="84240" cy="171360"/>
              </a:xfrm>
              <a:custGeom>
                <a:avLst/>
                <a:gdLst/>
                <a:ahLst/>
                <a:rect l="l" t="t" r="r" b="b"/>
                <a:pathLst>
                  <a:path w="319" h="650">
                    <a:moveTo>
                      <a:pt x="0" y="0"/>
                    </a:moveTo>
                    <a:lnTo>
                      <a:pt x="31" y="30"/>
                    </a:lnTo>
                    <a:lnTo>
                      <a:pt x="45" y="76"/>
                    </a:lnTo>
                    <a:lnTo>
                      <a:pt x="62" y="121"/>
                    </a:lnTo>
                    <a:lnTo>
                      <a:pt x="92" y="152"/>
                    </a:lnTo>
                    <a:lnTo>
                      <a:pt x="106" y="197"/>
                    </a:lnTo>
                    <a:lnTo>
                      <a:pt x="137" y="227"/>
                    </a:lnTo>
                    <a:lnTo>
                      <a:pt x="151" y="272"/>
                    </a:lnTo>
                    <a:lnTo>
                      <a:pt x="182" y="317"/>
                    </a:lnTo>
                    <a:lnTo>
                      <a:pt x="196" y="348"/>
                    </a:lnTo>
                    <a:lnTo>
                      <a:pt x="227" y="393"/>
                    </a:lnTo>
                    <a:lnTo>
                      <a:pt x="244" y="438"/>
                    </a:lnTo>
                    <a:lnTo>
                      <a:pt x="258" y="485"/>
                    </a:lnTo>
                    <a:lnTo>
                      <a:pt x="272" y="513"/>
                    </a:lnTo>
                    <a:lnTo>
                      <a:pt x="303" y="561"/>
                    </a:lnTo>
                    <a:lnTo>
                      <a:pt x="319" y="605"/>
                    </a:lnTo>
                    <a:lnTo>
                      <a:pt x="319" y="6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4903920" y="5459400"/>
                <a:ext cx="91800" cy="277920"/>
              </a:xfrm>
              <a:custGeom>
                <a:avLst/>
                <a:gdLst/>
                <a:ahLst/>
                <a:rect l="l" t="t" r="r" b="b"/>
                <a:pathLst>
                  <a:path w="348" h="1044">
                    <a:moveTo>
                      <a:pt x="334" y="454"/>
                    </a:moveTo>
                    <a:lnTo>
                      <a:pt x="317" y="499"/>
                    </a:lnTo>
                    <a:lnTo>
                      <a:pt x="303" y="529"/>
                    </a:lnTo>
                    <a:lnTo>
                      <a:pt x="287" y="574"/>
                    </a:lnTo>
                    <a:lnTo>
                      <a:pt x="272" y="605"/>
                    </a:lnTo>
                    <a:lnTo>
                      <a:pt x="258" y="650"/>
                    </a:lnTo>
                    <a:lnTo>
                      <a:pt x="241" y="681"/>
                    </a:lnTo>
                    <a:lnTo>
                      <a:pt x="212" y="726"/>
                    </a:lnTo>
                    <a:lnTo>
                      <a:pt x="197" y="755"/>
                    </a:lnTo>
                    <a:lnTo>
                      <a:pt x="182" y="801"/>
                    </a:lnTo>
                    <a:lnTo>
                      <a:pt x="167" y="831"/>
                    </a:lnTo>
                    <a:lnTo>
                      <a:pt x="136" y="862"/>
                    </a:lnTo>
                    <a:lnTo>
                      <a:pt x="121" y="907"/>
                    </a:lnTo>
                    <a:lnTo>
                      <a:pt x="107" y="937"/>
                    </a:lnTo>
                    <a:lnTo>
                      <a:pt x="76" y="968"/>
                    </a:lnTo>
                    <a:lnTo>
                      <a:pt x="60" y="1013"/>
                    </a:lnTo>
                    <a:lnTo>
                      <a:pt x="45" y="1044"/>
                    </a:lnTo>
                    <a:lnTo>
                      <a:pt x="31" y="999"/>
                    </a:lnTo>
                    <a:lnTo>
                      <a:pt x="16" y="937"/>
                    </a:lnTo>
                    <a:lnTo>
                      <a:pt x="0" y="892"/>
                    </a:lnTo>
                    <a:lnTo>
                      <a:pt x="0" y="831"/>
                    </a:lnTo>
                    <a:lnTo>
                      <a:pt x="0" y="786"/>
                    </a:lnTo>
                    <a:lnTo>
                      <a:pt x="0" y="726"/>
                    </a:lnTo>
                    <a:lnTo>
                      <a:pt x="0" y="681"/>
                    </a:lnTo>
                    <a:lnTo>
                      <a:pt x="16" y="619"/>
                    </a:lnTo>
                    <a:lnTo>
                      <a:pt x="16" y="559"/>
                    </a:lnTo>
                    <a:lnTo>
                      <a:pt x="31" y="514"/>
                    </a:lnTo>
                    <a:lnTo>
                      <a:pt x="45" y="454"/>
                    </a:lnTo>
                    <a:lnTo>
                      <a:pt x="60" y="409"/>
                    </a:lnTo>
                    <a:lnTo>
                      <a:pt x="76" y="347"/>
                    </a:lnTo>
                    <a:lnTo>
                      <a:pt x="91" y="302"/>
                    </a:lnTo>
                    <a:lnTo>
                      <a:pt x="107" y="258"/>
                    </a:lnTo>
                    <a:lnTo>
                      <a:pt x="121" y="196"/>
                    </a:lnTo>
                    <a:lnTo>
                      <a:pt x="182" y="0"/>
                    </a:lnTo>
                    <a:lnTo>
                      <a:pt x="197" y="31"/>
                    </a:lnTo>
                    <a:lnTo>
                      <a:pt x="212" y="59"/>
                    </a:lnTo>
                    <a:lnTo>
                      <a:pt x="227" y="90"/>
                    </a:lnTo>
                    <a:lnTo>
                      <a:pt x="241" y="106"/>
                    </a:lnTo>
                    <a:lnTo>
                      <a:pt x="258" y="135"/>
                    </a:lnTo>
                    <a:lnTo>
                      <a:pt x="272" y="165"/>
                    </a:lnTo>
                    <a:lnTo>
                      <a:pt x="287" y="196"/>
                    </a:lnTo>
                    <a:lnTo>
                      <a:pt x="303" y="210"/>
                    </a:lnTo>
                    <a:lnTo>
                      <a:pt x="317" y="241"/>
                    </a:lnTo>
                    <a:lnTo>
                      <a:pt x="334" y="272"/>
                    </a:lnTo>
                    <a:lnTo>
                      <a:pt x="348" y="302"/>
                    </a:lnTo>
                    <a:lnTo>
                      <a:pt x="348" y="332"/>
                    </a:lnTo>
                    <a:lnTo>
                      <a:pt x="348" y="363"/>
                    </a:lnTo>
                    <a:lnTo>
                      <a:pt x="348" y="392"/>
                    </a:lnTo>
                    <a:lnTo>
                      <a:pt x="348" y="423"/>
                    </a:lnTo>
                    <a:lnTo>
                      <a:pt x="334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4915080" y="5580000"/>
                <a:ext cx="77760" cy="157320"/>
              </a:xfrm>
              <a:custGeom>
                <a:avLst/>
                <a:gdLst/>
                <a:ahLst/>
                <a:rect l="l" t="t" r="r" b="b"/>
                <a:pathLst>
                  <a:path w="289" h="590">
                    <a:moveTo>
                      <a:pt x="289" y="0"/>
                    </a:moveTo>
                    <a:lnTo>
                      <a:pt x="272" y="45"/>
                    </a:lnTo>
                    <a:lnTo>
                      <a:pt x="258" y="75"/>
                    </a:lnTo>
                    <a:lnTo>
                      <a:pt x="242" y="120"/>
                    </a:lnTo>
                    <a:lnTo>
                      <a:pt x="227" y="151"/>
                    </a:lnTo>
                    <a:lnTo>
                      <a:pt x="213" y="196"/>
                    </a:lnTo>
                    <a:lnTo>
                      <a:pt x="196" y="227"/>
                    </a:lnTo>
                    <a:lnTo>
                      <a:pt x="167" y="272"/>
                    </a:lnTo>
                    <a:lnTo>
                      <a:pt x="152" y="301"/>
                    </a:lnTo>
                    <a:lnTo>
                      <a:pt x="137" y="347"/>
                    </a:lnTo>
                    <a:lnTo>
                      <a:pt x="122" y="377"/>
                    </a:lnTo>
                    <a:lnTo>
                      <a:pt x="91" y="408"/>
                    </a:lnTo>
                    <a:lnTo>
                      <a:pt x="76" y="453"/>
                    </a:lnTo>
                    <a:lnTo>
                      <a:pt x="62" y="483"/>
                    </a:lnTo>
                    <a:lnTo>
                      <a:pt x="31" y="514"/>
                    </a:lnTo>
                    <a:lnTo>
                      <a:pt x="15" y="559"/>
                    </a:lnTo>
                    <a:lnTo>
                      <a:pt x="0" y="5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4903920" y="5511960"/>
                <a:ext cx="31680" cy="225360"/>
              </a:xfrm>
              <a:custGeom>
                <a:avLst/>
                <a:gdLst/>
                <a:ahLst/>
                <a:rect l="l" t="t" r="r" b="b"/>
                <a:pathLst>
                  <a:path w="121" h="848">
                    <a:moveTo>
                      <a:pt x="45" y="848"/>
                    </a:moveTo>
                    <a:lnTo>
                      <a:pt x="31" y="803"/>
                    </a:lnTo>
                    <a:lnTo>
                      <a:pt x="16" y="741"/>
                    </a:lnTo>
                    <a:lnTo>
                      <a:pt x="0" y="696"/>
                    </a:lnTo>
                    <a:lnTo>
                      <a:pt x="0" y="635"/>
                    </a:lnTo>
                    <a:lnTo>
                      <a:pt x="0" y="590"/>
                    </a:lnTo>
                    <a:lnTo>
                      <a:pt x="0" y="530"/>
                    </a:lnTo>
                    <a:lnTo>
                      <a:pt x="0" y="485"/>
                    </a:lnTo>
                    <a:lnTo>
                      <a:pt x="16" y="423"/>
                    </a:lnTo>
                    <a:lnTo>
                      <a:pt x="16" y="363"/>
                    </a:lnTo>
                    <a:lnTo>
                      <a:pt x="31" y="318"/>
                    </a:lnTo>
                    <a:lnTo>
                      <a:pt x="45" y="258"/>
                    </a:lnTo>
                    <a:lnTo>
                      <a:pt x="60" y="213"/>
                    </a:lnTo>
                    <a:lnTo>
                      <a:pt x="76" y="151"/>
                    </a:lnTo>
                    <a:lnTo>
                      <a:pt x="91" y="106"/>
                    </a:lnTo>
                    <a:lnTo>
                      <a:pt x="107" y="62"/>
                    </a:lnTo>
                    <a:lnTo>
                      <a:pt x="1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V="1">
                <a:off x="4935600" y="5459400"/>
                <a:ext cx="15840" cy="525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951440" y="5459400"/>
                <a:ext cx="44280" cy="120600"/>
              </a:xfrm>
              <a:custGeom>
                <a:avLst/>
                <a:gdLst/>
                <a:ahLst/>
                <a:rect l="l" t="t" r="r" b="b"/>
                <a:pathLst>
                  <a:path w="166" h="454">
                    <a:moveTo>
                      <a:pt x="0" y="0"/>
                    </a:moveTo>
                    <a:lnTo>
                      <a:pt x="15" y="31"/>
                    </a:lnTo>
                    <a:lnTo>
                      <a:pt x="30" y="59"/>
                    </a:lnTo>
                    <a:lnTo>
                      <a:pt x="45" y="90"/>
                    </a:lnTo>
                    <a:lnTo>
                      <a:pt x="59" y="106"/>
                    </a:lnTo>
                    <a:lnTo>
                      <a:pt x="76" y="135"/>
                    </a:lnTo>
                    <a:lnTo>
                      <a:pt x="90" y="165"/>
                    </a:lnTo>
                    <a:lnTo>
                      <a:pt x="105" y="196"/>
                    </a:lnTo>
                    <a:lnTo>
                      <a:pt x="121" y="210"/>
                    </a:lnTo>
                    <a:lnTo>
                      <a:pt x="135" y="241"/>
                    </a:lnTo>
                    <a:lnTo>
                      <a:pt x="152" y="272"/>
                    </a:lnTo>
                    <a:lnTo>
                      <a:pt x="166" y="302"/>
                    </a:lnTo>
                    <a:lnTo>
                      <a:pt x="166" y="332"/>
                    </a:lnTo>
                    <a:lnTo>
                      <a:pt x="166" y="363"/>
                    </a:lnTo>
                    <a:lnTo>
                      <a:pt x="166" y="392"/>
                    </a:lnTo>
                    <a:lnTo>
                      <a:pt x="166" y="423"/>
                    </a:lnTo>
                    <a:lnTo>
                      <a:pt x="152" y="4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471920" y="3521160"/>
                <a:ext cx="22320" cy="287280"/>
              </a:xfrm>
              <a:custGeom>
                <a:avLst/>
                <a:gdLst/>
                <a:ahLst/>
                <a:rect l="l" t="t" r="r" b="b"/>
                <a:pathLst>
                  <a:path w="85" h="1085">
                    <a:moveTo>
                      <a:pt x="0" y="0"/>
                    </a:moveTo>
                    <a:lnTo>
                      <a:pt x="0" y="68"/>
                    </a:lnTo>
                    <a:lnTo>
                      <a:pt x="18" y="136"/>
                    </a:lnTo>
                    <a:lnTo>
                      <a:pt x="35" y="202"/>
                    </a:lnTo>
                    <a:lnTo>
                      <a:pt x="35" y="271"/>
                    </a:lnTo>
                    <a:lnTo>
                      <a:pt x="35" y="339"/>
                    </a:lnTo>
                    <a:lnTo>
                      <a:pt x="52" y="406"/>
                    </a:lnTo>
                    <a:lnTo>
                      <a:pt x="52" y="474"/>
                    </a:lnTo>
                    <a:lnTo>
                      <a:pt x="69" y="543"/>
                    </a:lnTo>
                    <a:lnTo>
                      <a:pt x="69" y="610"/>
                    </a:lnTo>
                    <a:lnTo>
                      <a:pt x="69" y="678"/>
                    </a:lnTo>
                    <a:lnTo>
                      <a:pt x="69" y="746"/>
                    </a:lnTo>
                    <a:lnTo>
                      <a:pt x="85" y="813"/>
                    </a:lnTo>
                    <a:lnTo>
                      <a:pt x="85" y="882"/>
                    </a:lnTo>
                    <a:lnTo>
                      <a:pt x="85" y="949"/>
                    </a:lnTo>
                    <a:lnTo>
                      <a:pt x="85" y="1017"/>
                    </a:lnTo>
                    <a:lnTo>
                      <a:pt x="85" y="1085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471920" y="3808440"/>
                <a:ext cx="22320" cy="218880"/>
              </a:xfrm>
              <a:custGeom>
                <a:avLst/>
                <a:gdLst/>
                <a:ahLst/>
                <a:rect l="l" t="t" r="r" b="b"/>
                <a:pathLst>
                  <a:path w="85" h="830">
                    <a:moveTo>
                      <a:pt x="85" y="0"/>
                    </a:moveTo>
                    <a:lnTo>
                      <a:pt x="85" y="51"/>
                    </a:lnTo>
                    <a:lnTo>
                      <a:pt x="85" y="119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85" y="271"/>
                    </a:lnTo>
                    <a:lnTo>
                      <a:pt x="85" y="322"/>
                    </a:lnTo>
                    <a:lnTo>
                      <a:pt x="85" y="373"/>
                    </a:lnTo>
                    <a:lnTo>
                      <a:pt x="85" y="423"/>
                    </a:lnTo>
                    <a:lnTo>
                      <a:pt x="85" y="474"/>
                    </a:lnTo>
                    <a:lnTo>
                      <a:pt x="85" y="526"/>
                    </a:lnTo>
                    <a:lnTo>
                      <a:pt x="69" y="576"/>
                    </a:lnTo>
                    <a:lnTo>
                      <a:pt x="69" y="642"/>
                    </a:lnTo>
                    <a:lnTo>
                      <a:pt x="52" y="677"/>
                    </a:lnTo>
                    <a:lnTo>
                      <a:pt x="35" y="729"/>
                    </a:lnTo>
                    <a:lnTo>
                      <a:pt x="35" y="780"/>
                    </a:lnTo>
                    <a:lnTo>
                      <a:pt x="0" y="83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319640" y="4027320"/>
                <a:ext cx="152280" cy="412920"/>
              </a:xfrm>
              <a:custGeom>
                <a:avLst/>
                <a:gdLst/>
                <a:ahLst/>
                <a:rect l="l" t="t" r="r" b="b"/>
                <a:pathLst>
                  <a:path w="576" h="1560">
                    <a:moveTo>
                      <a:pt x="576" y="0"/>
                    </a:moveTo>
                    <a:lnTo>
                      <a:pt x="560" y="101"/>
                    </a:lnTo>
                    <a:lnTo>
                      <a:pt x="527" y="203"/>
                    </a:lnTo>
                    <a:lnTo>
                      <a:pt x="492" y="304"/>
                    </a:lnTo>
                    <a:lnTo>
                      <a:pt x="475" y="390"/>
                    </a:lnTo>
                    <a:lnTo>
                      <a:pt x="441" y="492"/>
                    </a:lnTo>
                    <a:lnTo>
                      <a:pt x="408" y="593"/>
                    </a:lnTo>
                    <a:lnTo>
                      <a:pt x="373" y="695"/>
                    </a:lnTo>
                    <a:lnTo>
                      <a:pt x="339" y="779"/>
                    </a:lnTo>
                    <a:lnTo>
                      <a:pt x="289" y="880"/>
                    </a:lnTo>
                    <a:lnTo>
                      <a:pt x="255" y="984"/>
                    </a:lnTo>
                    <a:lnTo>
                      <a:pt x="221" y="1085"/>
                    </a:lnTo>
                    <a:lnTo>
                      <a:pt x="169" y="1169"/>
                    </a:lnTo>
                    <a:lnTo>
                      <a:pt x="136" y="1271"/>
                    </a:lnTo>
                    <a:lnTo>
                      <a:pt x="102" y="1357"/>
                    </a:lnTo>
                    <a:lnTo>
                      <a:pt x="50" y="1458"/>
                    </a:lnTo>
                    <a:lnTo>
                      <a:pt x="0" y="1560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4162320" y="4440240"/>
                <a:ext cx="157320" cy="255600"/>
              </a:xfrm>
              <a:custGeom>
                <a:avLst/>
                <a:gdLst/>
                <a:ahLst/>
                <a:rect l="l" t="t" r="r" b="b"/>
                <a:pathLst>
                  <a:path w="592" h="966">
                    <a:moveTo>
                      <a:pt x="592" y="0"/>
                    </a:moveTo>
                    <a:lnTo>
                      <a:pt x="558" y="50"/>
                    </a:lnTo>
                    <a:lnTo>
                      <a:pt x="526" y="119"/>
                    </a:lnTo>
                    <a:lnTo>
                      <a:pt x="491" y="169"/>
                    </a:lnTo>
                    <a:lnTo>
                      <a:pt x="457" y="238"/>
                    </a:lnTo>
                    <a:lnTo>
                      <a:pt x="422" y="304"/>
                    </a:lnTo>
                    <a:lnTo>
                      <a:pt x="389" y="355"/>
                    </a:lnTo>
                    <a:lnTo>
                      <a:pt x="355" y="423"/>
                    </a:lnTo>
                    <a:lnTo>
                      <a:pt x="321" y="492"/>
                    </a:lnTo>
                    <a:lnTo>
                      <a:pt x="288" y="542"/>
                    </a:lnTo>
                    <a:lnTo>
                      <a:pt x="237" y="611"/>
                    </a:lnTo>
                    <a:lnTo>
                      <a:pt x="203" y="661"/>
                    </a:lnTo>
                    <a:lnTo>
                      <a:pt x="169" y="729"/>
                    </a:lnTo>
                    <a:lnTo>
                      <a:pt x="135" y="779"/>
                    </a:lnTo>
                    <a:lnTo>
                      <a:pt x="101" y="847"/>
                    </a:lnTo>
                    <a:lnTo>
                      <a:pt x="51" y="898"/>
                    </a:lnTo>
                    <a:lnTo>
                      <a:pt x="0" y="96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4087800" y="469584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288" h="424">
                    <a:moveTo>
                      <a:pt x="288" y="0"/>
                    </a:moveTo>
                    <a:lnTo>
                      <a:pt x="288" y="18"/>
                    </a:lnTo>
                    <a:lnTo>
                      <a:pt x="270" y="51"/>
                    </a:lnTo>
                    <a:lnTo>
                      <a:pt x="253" y="84"/>
                    </a:lnTo>
                    <a:lnTo>
                      <a:pt x="238" y="102"/>
                    </a:lnTo>
                    <a:lnTo>
                      <a:pt x="220" y="136"/>
                    </a:lnTo>
                    <a:lnTo>
                      <a:pt x="203" y="152"/>
                    </a:lnTo>
                    <a:lnTo>
                      <a:pt x="185" y="186"/>
                    </a:lnTo>
                    <a:lnTo>
                      <a:pt x="152" y="221"/>
                    </a:lnTo>
                    <a:lnTo>
                      <a:pt x="134" y="237"/>
                    </a:lnTo>
                    <a:lnTo>
                      <a:pt x="119" y="271"/>
                    </a:lnTo>
                    <a:lnTo>
                      <a:pt x="101" y="287"/>
                    </a:lnTo>
                    <a:lnTo>
                      <a:pt x="67" y="322"/>
                    </a:lnTo>
                    <a:lnTo>
                      <a:pt x="50" y="340"/>
                    </a:lnTo>
                    <a:lnTo>
                      <a:pt x="33" y="372"/>
                    </a:lnTo>
                    <a:lnTo>
                      <a:pt x="16" y="406"/>
                    </a:lnTo>
                    <a:lnTo>
                      <a:pt x="0" y="424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4378320" y="3494160"/>
                <a:ext cx="98280" cy="739800"/>
              </a:xfrm>
              <a:custGeom>
                <a:avLst/>
                <a:gdLst/>
                <a:ahLst/>
                <a:rect l="l" t="t" r="r" b="b"/>
                <a:pathLst>
                  <a:path w="373" h="2796">
                    <a:moveTo>
                      <a:pt x="237" y="0"/>
                    </a:moveTo>
                    <a:lnTo>
                      <a:pt x="271" y="170"/>
                    </a:lnTo>
                    <a:lnTo>
                      <a:pt x="289" y="356"/>
                    </a:lnTo>
                    <a:lnTo>
                      <a:pt x="321" y="526"/>
                    </a:lnTo>
                    <a:lnTo>
                      <a:pt x="339" y="712"/>
                    </a:lnTo>
                    <a:lnTo>
                      <a:pt x="355" y="880"/>
                    </a:lnTo>
                    <a:lnTo>
                      <a:pt x="355" y="1068"/>
                    </a:lnTo>
                    <a:lnTo>
                      <a:pt x="373" y="1238"/>
                    </a:lnTo>
                    <a:lnTo>
                      <a:pt x="355" y="1424"/>
                    </a:lnTo>
                    <a:lnTo>
                      <a:pt x="355" y="1594"/>
                    </a:lnTo>
                    <a:lnTo>
                      <a:pt x="339" y="1763"/>
                    </a:lnTo>
                    <a:lnTo>
                      <a:pt x="306" y="1948"/>
                    </a:lnTo>
                    <a:lnTo>
                      <a:pt x="271" y="2118"/>
                    </a:lnTo>
                    <a:lnTo>
                      <a:pt x="220" y="2289"/>
                    </a:lnTo>
                    <a:lnTo>
                      <a:pt x="152" y="2458"/>
                    </a:lnTo>
                    <a:lnTo>
                      <a:pt x="86" y="2628"/>
                    </a:lnTo>
                    <a:lnTo>
                      <a:pt x="0" y="2796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4110120" y="4233960"/>
                <a:ext cx="268200" cy="520560"/>
              </a:xfrm>
              <a:custGeom>
                <a:avLst/>
                <a:gdLst/>
                <a:ahLst/>
                <a:rect l="l" t="t" r="r" b="b"/>
                <a:pathLst>
                  <a:path w="1017" h="1968">
                    <a:moveTo>
                      <a:pt x="1017" y="0"/>
                    </a:moveTo>
                    <a:lnTo>
                      <a:pt x="965" y="120"/>
                    </a:lnTo>
                    <a:lnTo>
                      <a:pt x="915" y="255"/>
                    </a:lnTo>
                    <a:lnTo>
                      <a:pt x="846" y="374"/>
                    </a:lnTo>
                    <a:lnTo>
                      <a:pt x="796" y="492"/>
                    </a:lnTo>
                    <a:lnTo>
                      <a:pt x="730" y="628"/>
                    </a:lnTo>
                    <a:lnTo>
                      <a:pt x="661" y="747"/>
                    </a:lnTo>
                    <a:lnTo>
                      <a:pt x="593" y="865"/>
                    </a:lnTo>
                    <a:lnTo>
                      <a:pt x="525" y="984"/>
                    </a:lnTo>
                    <a:lnTo>
                      <a:pt x="458" y="1120"/>
                    </a:lnTo>
                    <a:lnTo>
                      <a:pt x="389" y="1238"/>
                    </a:lnTo>
                    <a:lnTo>
                      <a:pt x="322" y="1357"/>
                    </a:lnTo>
                    <a:lnTo>
                      <a:pt x="255" y="1476"/>
                    </a:lnTo>
                    <a:lnTo>
                      <a:pt x="186" y="1595"/>
                    </a:lnTo>
                    <a:lnTo>
                      <a:pt x="119" y="1730"/>
                    </a:lnTo>
                    <a:lnTo>
                      <a:pt x="50" y="1849"/>
                    </a:lnTo>
                    <a:lnTo>
                      <a:pt x="0" y="1968"/>
                    </a:lnTo>
                  </a:path>
                </a:pathLst>
              </a:custGeom>
              <a:noFill/>
              <a:ln w="0">
                <a:solidFill>
                  <a:srgbClr val="5da3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3948120" y="3041640"/>
                <a:ext cx="604800" cy="2901960"/>
              </a:xfrm>
              <a:custGeom>
                <a:avLst/>
                <a:gdLst/>
                <a:ahLst/>
                <a:rect l="l" t="t" r="r" b="b"/>
                <a:pathLst>
                  <a:path w="2289" h="10967">
                    <a:moveTo>
                      <a:pt x="1779" y="304"/>
                    </a:moveTo>
                    <a:lnTo>
                      <a:pt x="1797" y="339"/>
                    </a:lnTo>
                    <a:lnTo>
                      <a:pt x="1797" y="355"/>
                    </a:lnTo>
                    <a:lnTo>
                      <a:pt x="1814" y="389"/>
                    </a:lnTo>
                    <a:lnTo>
                      <a:pt x="1814" y="405"/>
                    </a:lnTo>
                    <a:lnTo>
                      <a:pt x="1829" y="440"/>
                    </a:lnTo>
                    <a:lnTo>
                      <a:pt x="1829" y="474"/>
                    </a:lnTo>
                    <a:lnTo>
                      <a:pt x="1829" y="490"/>
                    </a:lnTo>
                    <a:lnTo>
                      <a:pt x="1847" y="524"/>
                    </a:lnTo>
                    <a:lnTo>
                      <a:pt x="1847" y="559"/>
                    </a:lnTo>
                    <a:lnTo>
                      <a:pt x="1847" y="576"/>
                    </a:lnTo>
                    <a:lnTo>
                      <a:pt x="1847" y="608"/>
                    </a:lnTo>
                    <a:lnTo>
                      <a:pt x="1847" y="643"/>
                    </a:lnTo>
                    <a:lnTo>
                      <a:pt x="1829" y="661"/>
                    </a:lnTo>
                    <a:lnTo>
                      <a:pt x="1829" y="694"/>
                    </a:lnTo>
                    <a:lnTo>
                      <a:pt x="1829" y="712"/>
                    </a:lnTo>
                    <a:lnTo>
                      <a:pt x="1814" y="745"/>
                    </a:lnTo>
                    <a:lnTo>
                      <a:pt x="1814" y="762"/>
                    </a:lnTo>
                    <a:lnTo>
                      <a:pt x="1797" y="796"/>
                    </a:lnTo>
                    <a:lnTo>
                      <a:pt x="1779" y="831"/>
                    </a:lnTo>
                    <a:lnTo>
                      <a:pt x="1763" y="846"/>
                    </a:lnTo>
                    <a:lnTo>
                      <a:pt x="1763" y="864"/>
                    </a:lnTo>
                    <a:lnTo>
                      <a:pt x="1745" y="897"/>
                    </a:lnTo>
                    <a:lnTo>
                      <a:pt x="1713" y="915"/>
                    </a:lnTo>
                    <a:lnTo>
                      <a:pt x="1695" y="932"/>
                    </a:lnTo>
                    <a:lnTo>
                      <a:pt x="1678" y="965"/>
                    </a:lnTo>
                    <a:lnTo>
                      <a:pt x="1644" y="981"/>
                    </a:lnTo>
                    <a:lnTo>
                      <a:pt x="1627" y="999"/>
                    </a:lnTo>
                    <a:lnTo>
                      <a:pt x="1609" y="1016"/>
                    </a:lnTo>
                    <a:lnTo>
                      <a:pt x="1575" y="1016"/>
                    </a:lnTo>
                    <a:lnTo>
                      <a:pt x="1542" y="1034"/>
                    </a:lnTo>
                    <a:lnTo>
                      <a:pt x="1525" y="1034"/>
                    </a:lnTo>
                    <a:lnTo>
                      <a:pt x="1491" y="1050"/>
                    </a:lnTo>
                    <a:lnTo>
                      <a:pt x="1475" y="1050"/>
                    </a:lnTo>
                    <a:lnTo>
                      <a:pt x="1456" y="1050"/>
                    </a:lnTo>
                    <a:lnTo>
                      <a:pt x="1441" y="1050"/>
                    </a:lnTo>
                    <a:lnTo>
                      <a:pt x="1424" y="1050"/>
                    </a:lnTo>
                    <a:lnTo>
                      <a:pt x="1406" y="1050"/>
                    </a:lnTo>
                    <a:lnTo>
                      <a:pt x="1390" y="1050"/>
                    </a:lnTo>
                    <a:lnTo>
                      <a:pt x="1372" y="1050"/>
                    </a:lnTo>
                    <a:lnTo>
                      <a:pt x="1355" y="1050"/>
                    </a:lnTo>
                    <a:lnTo>
                      <a:pt x="1340" y="1050"/>
                    </a:lnTo>
                    <a:lnTo>
                      <a:pt x="1322" y="1066"/>
                    </a:lnTo>
                    <a:lnTo>
                      <a:pt x="1322" y="1084"/>
                    </a:lnTo>
                    <a:lnTo>
                      <a:pt x="1322" y="1100"/>
                    </a:lnTo>
                    <a:lnTo>
                      <a:pt x="1322" y="1118"/>
                    </a:lnTo>
                    <a:lnTo>
                      <a:pt x="1322" y="1135"/>
                    </a:lnTo>
                    <a:lnTo>
                      <a:pt x="1322" y="1151"/>
                    </a:lnTo>
                    <a:lnTo>
                      <a:pt x="1322" y="1169"/>
                    </a:lnTo>
                    <a:lnTo>
                      <a:pt x="1340" y="1185"/>
                    </a:lnTo>
                    <a:lnTo>
                      <a:pt x="1340" y="1204"/>
                    </a:lnTo>
                    <a:lnTo>
                      <a:pt x="1340" y="1219"/>
                    </a:lnTo>
                    <a:lnTo>
                      <a:pt x="1355" y="1219"/>
                    </a:lnTo>
                    <a:lnTo>
                      <a:pt x="1355" y="1237"/>
                    </a:lnTo>
                    <a:lnTo>
                      <a:pt x="1355" y="1254"/>
                    </a:lnTo>
                    <a:lnTo>
                      <a:pt x="1372" y="1254"/>
                    </a:lnTo>
                    <a:lnTo>
                      <a:pt x="1406" y="1254"/>
                    </a:lnTo>
                    <a:lnTo>
                      <a:pt x="1424" y="1254"/>
                    </a:lnTo>
                    <a:lnTo>
                      <a:pt x="1441" y="1254"/>
                    </a:lnTo>
                    <a:lnTo>
                      <a:pt x="1456" y="1254"/>
                    </a:lnTo>
                    <a:lnTo>
                      <a:pt x="1475" y="1254"/>
                    </a:lnTo>
                    <a:lnTo>
                      <a:pt x="1491" y="1254"/>
                    </a:lnTo>
                    <a:lnTo>
                      <a:pt x="1508" y="1270"/>
                    </a:lnTo>
                    <a:lnTo>
                      <a:pt x="1525" y="1270"/>
                    </a:lnTo>
                    <a:lnTo>
                      <a:pt x="1542" y="1270"/>
                    </a:lnTo>
                    <a:lnTo>
                      <a:pt x="1560" y="1288"/>
                    </a:lnTo>
                    <a:lnTo>
                      <a:pt x="1575" y="1288"/>
                    </a:lnTo>
                    <a:lnTo>
                      <a:pt x="1594" y="1288"/>
                    </a:lnTo>
                    <a:lnTo>
                      <a:pt x="1609" y="1305"/>
                    </a:lnTo>
                    <a:lnTo>
                      <a:pt x="1627" y="1305"/>
                    </a:lnTo>
                    <a:lnTo>
                      <a:pt x="1644" y="1322"/>
                    </a:lnTo>
                    <a:lnTo>
                      <a:pt x="1678" y="1322"/>
                    </a:lnTo>
                    <a:lnTo>
                      <a:pt x="1695" y="1338"/>
                    </a:lnTo>
                    <a:lnTo>
                      <a:pt x="1728" y="1355"/>
                    </a:lnTo>
                    <a:lnTo>
                      <a:pt x="1745" y="1372"/>
                    </a:lnTo>
                    <a:lnTo>
                      <a:pt x="1763" y="1389"/>
                    </a:lnTo>
                    <a:lnTo>
                      <a:pt x="1779" y="1407"/>
                    </a:lnTo>
                    <a:lnTo>
                      <a:pt x="1797" y="1439"/>
                    </a:lnTo>
                    <a:lnTo>
                      <a:pt x="1814" y="1457"/>
                    </a:lnTo>
                    <a:lnTo>
                      <a:pt x="1829" y="1473"/>
                    </a:lnTo>
                    <a:lnTo>
                      <a:pt x="1847" y="1508"/>
                    </a:lnTo>
                    <a:lnTo>
                      <a:pt x="1864" y="1526"/>
                    </a:lnTo>
                    <a:lnTo>
                      <a:pt x="1864" y="1558"/>
                    </a:lnTo>
                    <a:lnTo>
                      <a:pt x="1881" y="1575"/>
                    </a:lnTo>
                    <a:lnTo>
                      <a:pt x="1898" y="1592"/>
                    </a:lnTo>
                    <a:lnTo>
                      <a:pt x="1916" y="1627"/>
                    </a:lnTo>
                    <a:lnTo>
                      <a:pt x="1916" y="1643"/>
                    </a:lnTo>
                    <a:lnTo>
                      <a:pt x="1933" y="1676"/>
                    </a:lnTo>
                    <a:lnTo>
                      <a:pt x="1933" y="1711"/>
                    </a:lnTo>
                    <a:lnTo>
                      <a:pt x="1948" y="1728"/>
                    </a:lnTo>
                    <a:lnTo>
                      <a:pt x="1948" y="1762"/>
                    </a:lnTo>
                    <a:lnTo>
                      <a:pt x="1966" y="1795"/>
                    </a:lnTo>
                    <a:lnTo>
                      <a:pt x="1966" y="1813"/>
                    </a:lnTo>
                    <a:lnTo>
                      <a:pt x="1982" y="1846"/>
                    </a:lnTo>
                    <a:lnTo>
                      <a:pt x="1982" y="1881"/>
                    </a:lnTo>
                    <a:lnTo>
                      <a:pt x="2000" y="1899"/>
                    </a:lnTo>
                    <a:lnTo>
                      <a:pt x="2000" y="1931"/>
                    </a:lnTo>
                    <a:lnTo>
                      <a:pt x="2017" y="1965"/>
                    </a:lnTo>
                    <a:lnTo>
                      <a:pt x="2017" y="1983"/>
                    </a:lnTo>
                    <a:lnTo>
                      <a:pt x="2017" y="2015"/>
                    </a:lnTo>
                    <a:lnTo>
                      <a:pt x="2034" y="2049"/>
                    </a:lnTo>
                    <a:lnTo>
                      <a:pt x="2034" y="2067"/>
                    </a:lnTo>
                    <a:lnTo>
                      <a:pt x="2034" y="2102"/>
                    </a:lnTo>
                    <a:lnTo>
                      <a:pt x="2051" y="2152"/>
                    </a:lnTo>
                    <a:lnTo>
                      <a:pt x="2051" y="2203"/>
                    </a:lnTo>
                    <a:lnTo>
                      <a:pt x="2067" y="2253"/>
                    </a:lnTo>
                    <a:lnTo>
                      <a:pt x="2067" y="2304"/>
                    </a:lnTo>
                    <a:lnTo>
                      <a:pt x="2085" y="2356"/>
                    </a:lnTo>
                    <a:lnTo>
                      <a:pt x="2085" y="2406"/>
                    </a:lnTo>
                    <a:lnTo>
                      <a:pt x="2101" y="2457"/>
                    </a:lnTo>
                    <a:lnTo>
                      <a:pt x="2118" y="2507"/>
                    </a:lnTo>
                    <a:lnTo>
                      <a:pt x="2136" y="2559"/>
                    </a:lnTo>
                    <a:lnTo>
                      <a:pt x="2136" y="2610"/>
                    </a:lnTo>
                    <a:lnTo>
                      <a:pt x="2152" y="2660"/>
                    </a:lnTo>
                    <a:lnTo>
                      <a:pt x="2152" y="2711"/>
                    </a:lnTo>
                    <a:lnTo>
                      <a:pt x="2170" y="2762"/>
                    </a:lnTo>
                    <a:lnTo>
                      <a:pt x="2170" y="2830"/>
                    </a:lnTo>
                    <a:lnTo>
                      <a:pt x="2186" y="2880"/>
                    </a:lnTo>
                    <a:lnTo>
                      <a:pt x="2186" y="2932"/>
                    </a:lnTo>
                    <a:lnTo>
                      <a:pt x="2170" y="2949"/>
                    </a:lnTo>
                    <a:lnTo>
                      <a:pt x="2186" y="2967"/>
                    </a:lnTo>
                    <a:lnTo>
                      <a:pt x="2186" y="2982"/>
                    </a:lnTo>
                    <a:lnTo>
                      <a:pt x="2186" y="2999"/>
                    </a:lnTo>
                    <a:lnTo>
                      <a:pt x="2203" y="3017"/>
                    </a:lnTo>
                    <a:lnTo>
                      <a:pt x="2203" y="3033"/>
                    </a:lnTo>
                    <a:lnTo>
                      <a:pt x="2203" y="3051"/>
                    </a:lnTo>
                    <a:lnTo>
                      <a:pt x="2203" y="3068"/>
                    </a:lnTo>
                    <a:lnTo>
                      <a:pt x="2220" y="3083"/>
                    </a:lnTo>
                    <a:lnTo>
                      <a:pt x="2220" y="3101"/>
                    </a:lnTo>
                    <a:lnTo>
                      <a:pt x="2220" y="3118"/>
                    </a:lnTo>
                    <a:lnTo>
                      <a:pt x="2220" y="3135"/>
                    </a:lnTo>
                    <a:lnTo>
                      <a:pt x="2220" y="3152"/>
                    </a:lnTo>
                    <a:lnTo>
                      <a:pt x="2220" y="3169"/>
                    </a:lnTo>
                    <a:lnTo>
                      <a:pt x="2220" y="3186"/>
                    </a:lnTo>
                    <a:lnTo>
                      <a:pt x="2237" y="3220"/>
                    </a:lnTo>
                    <a:lnTo>
                      <a:pt x="2237" y="3236"/>
                    </a:lnTo>
                    <a:lnTo>
                      <a:pt x="2237" y="3287"/>
                    </a:lnTo>
                    <a:lnTo>
                      <a:pt x="2237" y="3340"/>
                    </a:lnTo>
                    <a:lnTo>
                      <a:pt x="2254" y="3406"/>
                    </a:lnTo>
                    <a:lnTo>
                      <a:pt x="2254" y="3456"/>
                    </a:lnTo>
                    <a:lnTo>
                      <a:pt x="2254" y="3525"/>
                    </a:lnTo>
                    <a:lnTo>
                      <a:pt x="2254" y="3575"/>
                    </a:lnTo>
                    <a:lnTo>
                      <a:pt x="2271" y="3644"/>
                    </a:lnTo>
                    <a:lnTo>
                      <a:pt x="2271" y="3694"/>
                    </a:lnTo>
                    <a:lnTo>
                      <a:pt x="2271" y="3763"/>
                    </a:lnTo>
                    <a:lnTo>
                      <a:pt x="2271" y="3812"/>
                    </a:lnTo>
                    <a:lnTo>
                      <a:pt x="2271" y="3881"/>
                    </a:lnTo>
                    <a:lnTo>
                      <a:pt x="2271" y="3931"/>
                    </a:lnTo>
                    <a:lnTo>
                      <a:pt x="2289" y="3982"/>
                    </a:lnTo>
                    <a:lnTo>
                      <a:pt x="2289" y="4050"/>
                    </a:lnTo>
                    <a:lnTo>
                      <a:pt x="2289" y="4101"/>
                    </a:lnTo>
                    <a:lnTo>
                      <a:pt x="2289" y="4169"/>
                    </a:lnTo>
                    <a:lnTo>
                      <a:pt x="2289" y="4203"/>
                    </a:lnTo>
                    <a:lnTo>
                      <a:pt x="2289" y="4254"/>
                    </a:lnTo>
                    <a:lnTo>
                      <a:pt x="2289" y="4304"/>
                    </a:lnTo>
                    <a:lnTo>
                      <a:pt x="2289" y="4339"/>
                    </a:lnTo>
                    <a:lnTo>
                      <a:pt x="2289" y="4389"/>
                    </a:lnTo>
                    <a:lnTo>
                      <a:pt x="2289" y="4440"/>
                    </a:lnTo>
                    <a:lnTo>
                      <a:pt x="2289" y="4474"/>
                    </a:lnTo>
                    <a:lnTo>
                      <a:pt x="2289" y="4524"/>
                    </a:lnTo>
                    <a:lnTo>
                      <a:pt x="2289" y="4576"/>
                    </a:lnTo>
                    <a:lnTo>
                      <a:pt x="2271" y="4608"/>
                    </a:lnTo>
                    <a:lnTo>
                      <a:pt x="2271" y="4661"/>
                    </a:lnTo>
                    <a:lnTo>
                      <a:pt x="2271" y="4694"/>
                    </a:lnTo>
                    <a:lnTo>
                      <a:pt x="2271" y="4746"/>
                    </a:lnTo>
                    <a:lnTo>
                      <a:pt x="2254" y="4780"/>
                    </a:lnTo>
                    <a:lnTo>
                      <a:pt x="2254" y="4831"/>
                    </a:lnTo>
                    <a:lnTo>
                      <a:pt x="2237" y="4865"/>
                    </a:lnTo>
                    <a:lnTo>
                      <a:pt x="2220" y="4949"/>
                    </a:lnTo>
                    <a:lnTo>
                      <a:pt x="2203" y="5034"/>
                    </a:lnTo>
                    <a:lnTo>
                      <a:pt x="2186" y="5118"/>
                    </a:lnTo>
                    <a:lnTo>
                      <a:pt x="2170" y="5204"/>
                    </a:lnTo>
                    <a:lnTo>
                      <a:pt x="2152" y="5288"/>
                    </a:lnTo>
                    <a:lnTo>
                      <a:pt x="2136" y="5372"/>
                    </a:lnTo>
                    <a:lnTo>
                      <a:pt x="2118" y="5457"/>
                    </a:lnTo>
                    <a:lnTo>
                      <a:pt x="2085" y="5542"/>
                    </a:lnTo>
                    <a:lnTo>
                      <a:pt x="2067" y="5627"/>
                    </a:lnTo>
                    <a:lnTo>
                      <a:pt x="2051" y="5711"/>
                    </a:lnTo>
                    <a:lnTo>
                      <a:pt x="2034" y="5780"/>
                    </a:lnTo>
                    <a:lnTo>
                      <a:pt x="2000" y="5864"/>
                    </a:lnTo>
                    <a:lnTo>
                      <a:pt x="1982" y="5949"/>
                    </a:lnTo>
                    <a:lnTo>
                      <a:pt x="1948" y="6034"/>
                    </a:lnTo>
                    <a:lnTo>
                      <a:pt x="1933" y="6118"/>
                    </a:lnTo>
                    <a:lnTo>
                      <a:pt x="1898" y="6203"/>
                    </a:lnTo>
                    <a:lnTo>
                      <a:pt x="1881" y="6254"/>
                    </a:lnTo>
                    <a:lnTo>
                      <a:pt x="1864" y="6305"/>
                    </a:lnTo>
                    <a:lnTo>
                      <a:pt x="1829" y="6356"/>
                    </a:lnTo>
                    <a:lnTo>
                      <a:pt x="1814" y="6406"/>
                    </a:lnTo>
                    <a:lnTo>
                      <a:pt x="1797" y="6457"/>
                    </a:lnTo>
                    <a:lnTo>
                      <a:pt x="1779" y="6507"/>
                    </a:lnTo>
                    <a:lnTo>
                      <a:pt x="1763" y="6559"/>
                    </a:lnTo>
                    <a:lnTo>
                      <a:pt x="1745" y="6610"/>
                    </a:lnTo>
                    <a:lnTo>
                      <a:pt x="1713" y="6660"/>
                    </a:lnTo>
                    <a:lnTo>
                      <a:pt x="1695" y="6711"/>
                    </a:lnTo>
                    <a:lnTo>
                      <a:pt x="1678" y="6763"/>
                    </a:lnTo>
                    <a:lnTo>
                      <a:pt x="1661" y="6813"/>
                    </a:lnTo>
                    <a:lnTo>
                      <a:pt x="1627" y="6863"/>
                    </a:lnTo>
                    <a:lnTo>
                      <a:pt x="1609" y="6914"/>
                    </a:lnTo>
                    <a:lnTo>
                      <a:pt x="1594" y="6967"/>
                    </a:lnTo>
                    <a:lnTo>
                      <a:pt x="1560" y="7017"/>
                    </a:lnTo>
                    <a:lnTo>
                      <a:pt x="1560" y="7051"/>
                    </a:lnTo>
                    <a:lnTo>
                      <a:pt x="1542" y="7068"/>
                    </a:lnTo>
                    <a:lnTo>
                      <a:pt x="1542" y="7083"/>
                    </a:lnTo>
                    <a:lnTo>
                      <a:pt x="1525" y="7118"/>
                    </a:lnTo>
                    <a:lnTo>
                      <a:pt x="1525" y="7135"/>
                    </a:lnTo>
                    <a:lnTo>
                      <a:pt x="1508" y="7170"/>
                    </a:lnTo>
                    <a:lnTo>
                      <a:pt x="1491" y="7186"/>
                    </a:lnTo>
                    <a:lnTo>
                      <a:pt x="1491" y="7203"/>
                    </a:lnTo>
                    <a:lnTo>
                      <a:pt x="1475" y="7236"/>
                    </a:lnTo>
                    <a:lnTo>
                      <a:pt x="1456" y="7254"/>
                    </a:lnTo>
                    <a:lnTo>
                      <a:pt x="1441" y="7271"/>
                    </a:lnTo>
                    <a:lnTo>
                      <a:pt x="1441" y="7305"/>
                    </a:lnTo>
                    <a:lnTo>
                      <a:pt x="1424" y="7322"/>
                    </a:lnTo>
                    <a:lnTo>
                      <a:pt x="1406" y="7340"/>
                    </a:lnTo>
                    <a:lnTo>
                      <a:pt x="1390" y="7355"/>
                    </a:lnTo>
                    <a:lnTo>
                      <a:pt x="1390" y="7390"/>
                    </a:lnTo>
                    <a:lnTo>
                      <a:pt x="1305" y="7543"/>
                    </a:lnTo>
                    <a:lnTo>
                      <a:pt x="1221" y="7694"/>
                    </a:lnTo>
                    <a:lnTo>
                      <a:pt x="1135" y="7847"/>
                    </a:lnTo>
                    <a:lnTo>
                      <a:pt x="1051" y="8000"/>
                    </a:lnTo>
                    <a:lnTo>
                      <a:pt x="967" y="8151"/>
                    </a:lnTo>
                    <a:lnTo>
                      <a:pt x="949" y="8203"/>
                    </a:lnTo>
                    <a:lnTo>
                      <a:pt x="915" y="8237"/>
                    </a:lnTo>
                    <a:lnTo>
                      <a:pt x="880" y="8321"/>
                    </a:lnTo>
                    <a:lnTo>
                      <a:pt x="830" y="8408"/>
                    </a:lnTo>
                    <a:lnTo>
                      <a:pt x="796" y="8492"/>
                    </a:lnTo>
                    <a:lnTo>
                      <a:pt x="746" y="8576"/>
                    </a:lnTo>
                    <a:lnTo>
                      <a:pt x="711" y="8661"/>
                    </a:lnTo>
                    <a:lnTo>
                      <a:pt x="695" y="8695"/>
                    </a:lnTo>
                    <a:lnTo>
                      <a:pt x="645" y="8831"/>
                    </a:lnTo>
                    <a:lnTo>
                      <a:pt x="610" y="8966"/>
                    </a:lnTo>
                    <a:lnTo>
                      <a:pt x="576" y="9100"/>
                    </a:lnTo>
                    <a:lnTo>
                      <a:pt x="542" y="9238"/>
                    </a:lnTo>
                    <a:lnTo>
                      <a:pt x="542" y="9389"/>
                    </a:lnTo>
                    <a:lnTo>
                      <a:pt x="559" y="9441"/>
                    </a:lnTo>
                    <a:lnTo>
                      <a:pt x="559" y="9491"/>
                    </a:lnTo>
                    <a:lnTo>
                      <a:pt x="593" y="9542"/>
                    </a:lnTo>
                    <a:lnTo>
                      <a:pt x="610" y="9592"/>
                    </a:lnTo>
                    <a:lnTo>
                      <a:pt x="660" y="9644"/>
                    </a:lnTo>
                    <a:lnTo>
                      <a:pt x="695" y="9661"/>
                    </a:lnTo>
                    <a:lnTo>
                      <a:pt x="729" y="9678"/>
                    </a:lnTo>
                    <a:lnTo>
                      <a:pt x="880" y="9729"/>
                    </a:lnTo>
                    <a:lnTo>
                      <a:pt x="1033" y="9780"/>
                    </a:lnTo>
                    <a:lnTo>
                      <a:pt x="1187" y="9830"/>
                    </a:lnTo>
                    <a:lnTo>
                      <a:pt x="1355" y="9864"/>
                    </a:lnTo>
                    <a:lnTo>
                      <a:pt x="1525" y="9899"/>
                    </a:lnTo>
                    <a:lnTo>
                      <a:pt x="1575" y="9915"/>
                    </a:lnTo>
                    <a:lnTo>
                      <a:pt x="1609" y="9915"/>
                    </a:lnTo>
                    <a:lnTo>
                      <a:pt x="1627" y="9933"/>
                    </a:lnTo>
                    <a:lnTo>
                      <a:pt x="1661" y="9933"/>
                    </a:lnTo>
                    <a:lnTo>
                      <a:pt x="1678" y="9949"/>
                    </a:lnTo>
                    <a:lnTo>
                      <a:pt x="1713" y="9965"/>
                    </a:lnTo>
                    <a:lnTo>
                      <a:pt x="1713" y="9983"/>
                    </a:lnTo>
                    <a:lnTo>
                      <a:pt x="1728" y="10000"/>
                    </a:lnTo>
                    <a:lnTo>
                      <a:pt x="1713" y="10034"/>
                    </a:lnTo>
                    <a:lnTo>
                      <a:pt x="1695" y="10049"/>
                    </a:lnTo>
                    <a:lnTo>
                      <a:pt x="1678" y="10067"/>
                    </a:lnTo>
                    <a:lnTo>
                      <a:pt x="1661" y="10084"/>
                    </a:lnTo>
                    <a:lnTo>
                      <a:pt x="1644" y="10084"/>
                    </a:lnTo>
                    <a:lnTo>
                      <a:pt x="1424" y="10118"/>
                    </a:lnTo>
                    <a:lnTo>
                      <a:pt x="1221" y="10118"/>
                    </a:lnTo>
                    <a:lnTo>
                      <a:pt x="999" y="10118"/>
                    </a:lnTo>
                    <a:lnTo>
                      <a:pt x="796" y="10118"/>
                    </a:lnTo>
                    <a:lnTo>
                      <a:pt x="576" y="10102"/>
                    </a:lnTo>
                    <a:lnTo>
                      <a:pt x="492" y="10102"/>
                    </a:lnTo>
                    <a:lnTo>
                      <a:pt x="475" y="10118"/>
                    </a:lnTo>
                    <a:lnTo>
                      <a:pt x="492" y="10272"/>
                    </a:lnTo>
                    <a:lnTo>
                      <a:pt x="526" y="10423"/>
                    </a:lnTo>
                    <a:lnTo>
                      <a:pt x="542" y="10576"/>
                    </a:lnTo>
                    <a:lnTo>
                      <a:pt x="559" y="10711"/>
                    </a:lnTo>
                    <a:lnTo>
                      <a:pt x="576" y="10864"/>
                    </a:lnTo>
                    <a:lnTo>
                      <a:pt x="576" y="10914"/>
                    </a:lnTo>
                    <a:lnTo>
                      <a:pt x="559" y="10932"/>
                    </a:lnTo>
                    <a:lnTo>
                      <a:pt x="559" y="10949"/>
                    </a:lnTo>
                    <a:lnTo>
                      <a:pt x="542" y="10949"/>
                    </a:lnTo>
                    <a:lnTo>
                      <a:pt x="542" y="10967"/>
                    </a:lnTo>
                    <a:lnTo>
                      <a:pt x="507" y="10967"/>
                    </a:lnTo>
                    <a:lnTo>
                      <a:pt x="475" y="10967"/>
                    </a:lnTo>
                    <a:lnTo>
                      <a:pt x="441" y="10932"/>
                    </a:lnTo>
                    <a:lnTo>
                      <a:pt x="423" y="10914"/>
                    </a:lnTo>
                    <a:lnTo>
                      <a:pt x="407" y="10898"/>
                    </a:lnTo>
                    <a:lnTo>
                      <a:pt x="391" y="10882"/>
                    </a:lnTo>
                    <a:lnTo>
                      <a:pt x="203" y="10526"/>
                    </a:lnTo>
                    <a:lnTo>
                      <a:pt x="84" y="10135"/>
                    </a:lnTo>
                    <a:lnTo>
                      <a:pt x="16" y="9729"/>
                    </a:lnTo>
                    <a:lnTo>
                      <a:pt x="0" y="9322"/>
                    </a:lnTo>
                    <a:lnTo>
                      <a:pt x="34" y="8897"/>
                    </a:lnTo>
                    <a:lnTo>
                      <a:pt x="50" y="8762"/>
                    </a:lnTo>
                    <a:lnTo>
                      <a:pt x="135" y="8321"/>
                    </a:lnTo>
                    <a:lnTo>
                      <a:pt x="237" y="7898"/>
                    </a:lnTo>
                    <a:lnTo>
                      <a:pt x="356" y="7474"/>
                    </a:lnTo>
                    <a:lnTo>
                      <a:pt x="457" y="7051"/>
                    </a:lnTo>
                    <a:lnTo>
                      <a:pt x="542" y="6626"/>
                    </a:lnTo>
                    <a:lnTo>
                      <a:pt x="559" y="6475"/>
                    </a:lnTo>
                    <a:lnTo>
                      <a:pt x="593" y="6102"/>
                    </a:lnTo>
                    <a:lnTo>
                      <a:pt x="593" y="5729"/>
                    </a:lnTo>
                    <a:lnTo>
                      <a:pt x="559" y="5372"/>
                    </a:lnTo>
                    <a:lnTo>
                      <a:pt x="507" y="4999"/>
                    </a:lnTo>
                    <a:lnTo>
                      <a:pt x="475" y="4627"/>
                    </a:lnTo>
                    <a:lnTo>
                      <a:pt x="475" y="4507"/>
                    </a:lnTo>
                    <a:lnTo>
                      <a:pt x="475" y="4405"/>
                    </a:lnTo>
                    <a:lnTo>
                      <a:pt x="475" y="4304"/>
                    </a:lnTo>
                    <a:lnTo>
                      <a:pt x="457" y="4186"/>
                    </a:lnTo>
                    <a:lnTo>
                      <a:pt x="457" y="4085"/>
                    </a:lnTo>
                    <a:lnTo>
                      <a:pt x="457" y="3982"/>
                    </a:lnTo>
                    <a:lnTo>
                      <a:pt x="457" y="3931"/>
                    </a:lnTo>
                    <a:lnTo>
                      <a:pt x="457" y="3812"/>
                    </a:lnTo>
                    <a:lnTo>
                      <a:pt x="441" y="3712"/>
                    </a:lnTo>
                    <a:lnTo>
                      <a:pt x="423" y="3593"/>
                    </a:lnTo>
                    <a:lnTo>
                      <a:pt x="423" y="3474"/>
                    </a:lnTo>
                    <a:lnTo>
                      <a:pt x="423" y="3355"/>
                    </a:lnTo>
                    <a:lnTo>
                      <a:pt x="423" y="3321"/>
                    </a:lnTo>
                    <a:lnTo>
                      <a:pt x="423" y="3220"/>
                    </a:lnTo>
                    <a:lnTo>
                      <a:pt x="423" y="3118"/>
                    </a:lnTo>
                    <a:lnTo>
                      <a:pt x="423" y="3017"/>
                    </a:lnTo>
                    <a:lnTo>
                      <a:pt x="423" y="2914"/>
                    </a:lnTo>
                    <a:lnTo>
                      <a:pt x="407" y="2830"/>
                    </a:lnTo>
                    <a:lnTo>
                      <a:pt x="407" y="2796"/>
                    </a:lnTo>
                    <a:lnTo>
                      <a:pt x="441" y="2475"/>
                    </a:lnTo>
                    <a:lnTo>
                      <a:pt x="507" y="2168"/>
                    </a:lnTo>
                    <a:lnTo>
                      <a:pt x="610" y="1864"/>
                    </a:lnTo>
                    <a:lnTo>
                      <a:pt x="764" y="1610"/>
                    </a:lnTo>
                    <a:lnTo>
                      <a:pt x="1017" y="1389"/>
                    </a:lnTo>
                    <a:lnTo>
                      <a:pt x="1118" y="1338"/>
                    </a:lnTo>
                    <a:lnTo>
                      <a:pt x="1152" y="1322"/>
                    </a:lnTo>
                    <a:lnTo>
                      <a:pt x="1187" y="1305"/>
                    </a:lnTo>
                    <a:lnTo>
                      <a:pt x="1221" y="1288"/>
                    </a:lnTo>
                    <a:lnTo>
                      <a:pt x="1253" y="1288"/>
                    </a:lnTo>
                    <a:lnTo>
                      <a:pt x="1288" y="1270"/>
                    </a:lnTo>
                    <a:lnTo>
                      <a:pt x="1305" y="1270"/>
                    </a:lnTo>
                    <a:lnTo>
                      <a:pt x="1288" y="1185"/>
                    </a:lnTo>
                    <a:lnTo>
                      <a:pt x="1253" y="1118"/>
                    </a:lnTo>
                    <a:lnTo>
                      <a:pt x="1221" y="1050"/>
                    </a:lnTo>
                    <a:lnTo>
                      <a:pt x="1187" y="999"/>
                    </a:lnTo>
                    <a:lnTo>
                      <a:pt x="1118" y="949"/>
                    </a:lnTo>
                    <a:lnTo>
                      <a:pt x="1084" y="949"/>
                    </a:lnTo>
                    <a:lnTo>
                      <a:pt x="999" y="846"/>
                    </a:lnTo>
                    <a:lnTo>
                      <a:pt x="932" y="745"/>
                    </a:lnTo>
                    <a:lnTo>
                      <a:pt x="898" y="626"/>
                    </a:lnTo>
                    <a:lnTo>
                      <a:pt x="880" y="507"/>
                    </a:lnTo>
                    <a:lnTo>
                      <a:pt x="880" y="373"/>
                    </a:lnTo>
                    <a:lnTo>
                      <a:pt x="880" y="339"/>
                    </a:lnTo>
                    <a:lnTo>
                      <a:pt x="915" y="235"/>
                    </a:lnTo>
                    <a:lnTo>
                      <a:pt x="967" y="169"/>
                    </a:lnTo>
                    <a:lnTo>
                      <a:pt x="1051" y="85"/>
                    </a:lnTo>
                    <a:lnTo>
                      <a:pt x="1135" y="32"/>
                    </a:lnTo>
                    <a:lnTo>
                      <a:pt x="1221" y="0"/>
                    </a:lnTo>
                    <a:lnTo>
                      <a:pt x="1253" y="0"/>
                    </a:lnTo>
                    <a:lnTo>
                      <a:pt x="1372" y="0"/>
                    </a:lnTo>
                    <a:lnTo>
                      <a:pt x="1491" y="32"/>
                    </a:lnTo>
                    <a:lnTo>
                      <a:pt x="1594" y="85"/>
                    </a:lnTo>
                    <a:lnTo>
                      <a:pt x="1695" y="169"/>
                    </a:lnTo>
                    <a:lnTo>
                      <a:pt x="1763" y="270"/>
                    </a:lnTo>
                    <a:lnTo>
                      <a:pt x="1779" y="30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4417920" y="312264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68" h="441">
                    <a:moveTo>
                      <a:pt x="0" y="0"/>
                    </a:moveTo>
                    <a:lnTo>
                      <a:pt x="18" y="35"/>
                    </a:lnTo>
                    <a:lnTo>
                      <a:pt x="18" y="51"/>
                    </a:lnTo>
                    <a:lnTo>
                      <a:pt x="35" y="85"/>
                    </a:lnTo>
                    <a:lnTo>
                      <a:pt x="35" y="101"/>
                    </a:lnTo>
                    <a:lnTo>
                      <a:pt x="50" y="136"/>
                    </a:lnTo>
                    <a:lnTo>
                      <a:pt x="50" y="170"/>
                    </a:lnTo>
                    <a:lnTo>
                      <a:pt x="50" y="186"/>
                    </a:lnTo>
                    <a:lnTo>
                      <a:pt x="68" y="220"/>
                    </a:lnTo>
                    <a:lnTo>
                      <a:pt x="68" y="255"/>
                    </a:lnTo>
                    <a:lnTo>
                      <a:pt x="68" y="272"/>
                    </a:lnTo>
                    <a:lnTo>
                      <a:pt x="68" y="304"/>
                    </a:lnTo>
                    <a:lnTo>
                      <a:pt x="68" y="339"/>
                    </a:lnTo>
                    <a:lnTo>
                      <a:pt x="50" y="357"/>
                    </a:lnTo>
                    <a:lnTo>
                      <a:pt x="50" y="390"/>
                    </a:lnTo>
                    <a:lnTo>
                      <a:pt x="50" y="408"/>
                    </a:lnTo>
                    <a:lnTo>
                      <a:pt x="35" y="4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4341960" y="3238560"/>
                <a:ext cx="85680" cy="81000"/>
              </a:xfrm>
              <a:custGeom>
                <a:avLst/>
                <a:gdLst/>
                <a:ahLst/>
                <a:rect l="l" t="t" r="r" b="b"/>
                <a:pathLst>
                  <a:path w="323" h="305">
                    <a:moveTo>
                      <a:pt x="323" y="0"/>
                    </a:moveTo>
                    <a:lnTo>
                      <a:pt x="323" y="17"/>
                    </a:lnTo>
                    <a:lnTo>
                      <a:pt x="306" y="51"/>
                    </a:lnTo>
                    <a:lnTo>
                      <a:pt x="288" y="86"/>
                    </a:lnTo>
                    <a:lnTo>
                      <a:pt x="272" y="101"/>
                    </a:lnTo>
                    <a:lnTo>
                      <a:pt x="272" y="119"/>
                    </a:lnTo>
                    <a:lnTo>
                      <a:pt x="254" y="152"/>
                    </a:lnTo>
                    <a:lnTo>
                      <a:pt x="222" y="170"/>
                    </a:lnTo>
                    <a:lnTo>
                      <a:pt x="204" y="187"/>
                    </a:lnTo>
                    <a:lnTo>
                      <a:pt x="187" y="220"/>
                    </a:lnTo>
                    <a:lnTo>
                      <a:pt x="153" y="236"/>
                    </a:lnTo>
                    <a:lnTo>
                      <a:pt x="136" y="254"/>
                    </a:lnTo>
                    <a:lnTo>
                      <a:pt x="118" y="271"/>
                    </a:lnTo>
                    <a:lnTo>
                      <a:pt x="84" y="271"/>
                    </a:lnTo>
                    <a:lnTo>
                      <a:pt x="51" y="289"/>
                    </a:lnTo>
                    <a:lnTo>
                      <a:pt x="34" y="289"/>
                    </a:lnTo>
                    <a:lnTo>
                      <a:pt x="0" y="3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4297320" y="3322800"/>
                <a:ext cx="9720" cy="45720"/>
              </a:xfrm>
              <a:custGeom>
                <a:avLst/>
                <a:gdLst/>
                <a:ahLst/>
                <a:rect l="l" t="t" r="r" b="b"/>
                <a:pathLst>
                  <a:path w="33" h="171">
                    <a:moveTo>
                      <a:pt x="0" y="0"/>
                    </a:moveTo>
                    <a:lnTo>
                      <a:pt x="0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3"/>
                    </a:lnTo>
                    <a:lnTo>
                      <a:pt x="18" y="119"/>
                    </a:lnTo>
                    <a:lnTo>
                      <a:pt x="18" y="138"/>
                    </a:lnTo>
                    <a:lnTo>
                      <a:pt x="18" y="153"/>
                    </a:lnTo>
                    <a:lnTo>
                      <a:pt x="33" y="153"/>
                    </a:lnTo>
                    <a:lnTo>
                      <a:pt x="33" y="1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4383000" y="3390840"/>
                <a:ext cx="71640" cy="85680"/>
              </a:xfrm>
              <a:custGeom>
                <a:avLst/>
                <a:gdLst/>
                <a:ahLst/>
                <a:rect l="l" t="t" r="r" b="b"/>
                <a:pathLst>
                  <a:path w="272" h="321">
                    <a:moveTo>
                      <a:pt x="0" y="0"/>
                    </a:moveTo>
                    <a:lnTo>
                      <a:pt x="34" y="0"/>
                    </a:lnTo>
                    <a:lnTo>
                      <a:pt x="51" y="16"/>
                    </a:lnTo>
                    <a:lnTo>
                      <a:pt x="84" y="33"/>
                    </a:lnTo>
                    <a:lnTo>
                      <a:pt x="101" y="50"/>
                    </a:lnTo>
                    <a:lnTo>
                      <a:pt x="119" y="67"/>
                    </a:lnTo>
                    <a:lnTo>
                      <a:pt x="135" y="85"/>
                    </a:lnTo>
                    <a:lnTo>
                      <a:pt x="153" y="117"/>
                    </a:lnTo>
                    <a:lnTo>
                      <a:pt x="170" y="135"/>
                    </a:lnTo>
                    <a:lnTo>
                      <a:pt x="185" y="151"/>
                    </a:lnTo>
                    <a:lnTo>
                      <a:pt x="203" y="186"/>
                    </a:lnTo>
                    <a:lnTo>
                      <a:pt x="220" y="204"/>
                    </a:lnTo>
                    <a:lnTo>
                      <a:pt x="220" y="236"/>
                    </a:lnTo>
                    <a:lnTo>
                      <a:pt x="237" y="253"/>
                    </a:lnTo>
                    <a:lnTo>
                      <a:pt x="254" y="270"/>
                    </a:lnTo>
                    <a:lnTo>
                      <a:pt x="272" y="305"/>
                    </a:lnTo>
                    <a:lnTo>
                      <a:pt x="272" y="32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454640" y="3476520"/>
                <a:ext cx="31680" cy="120600"/>
              </a:xfrm>
              <a:custGeom>
                <a:avLst/>
                <a:gdLst/>
                <a:ahLst/>
                <a:rect l="l" t="t" r="r" b="b"/>
                <a:pathLst>
                  <a:path w="118" h="459">
                    <a:moveTo>
                      <a:pt x="0" y="0"/>
                    </a:moveTo>
                    <a:lnTo>
                      <a:pt x="17" y="33"/>
                    </a:lnTo>
                    <a:lnTo>
                      <a:pt x="17" y="68"/>
                    </a:lnTo>
                    <a:lnTo>
                      <a:pt x="32" y="85"/>
                    </a:lnTo>
                    <a:lnTo>
                      <a:pt x="32" y="119"/>
                    </a:lnTo>
                    <a:lnTo>
                      <a:pt x="50" y="152"/>
                    </a:lnTo>
                    <a:lnTo>
                      <a:pt x="50" y="170"/>
                    </a:lnTo>
                    <a:lnTo>
                      <a:pt x="66" y="203"/>
                    </a:lnTo>
                    <a:lnTo>
                      <a:pt x="66" y="238"/>
                    </a:lnTo>
                    <a:lnTo>
                      <a:pt x="84" y="256"/>
                    </a:lnTo>
                    <a:lnTo>
                      <a:pt x="84" y="288"/>
                    </a:lnTo>
                    <a:lnTo>
                      <a:pt x="101" y="322"/>
                    </a:lnTo>
                    <a:lnTo>
                      <a:pt x="101" y="340"/>
                    </a:lnTo>
                    <a:lnTo>
                      <a:pt x="101" y="372"/>
                    </a:lnTo>
                    <a:lnTo>
                      <a:pt x="118" y="406"/>
                    </a:lnTo>
                    <a:lnTo>
                      <a:pt x="118" y="424"/>
                    </a:lnTo>
                    <a:lnTo>
                      <a:pt x="118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4486320" y="3597120"/>
                <a:ext cx="39600" cy="220680"/>
              </a:xfrm>
              <a:custGeom>
                <a:avLst/>
                <a:gdLst/>
                <a:ahLst/>
                <a:rect l="l" t="t" r="r" b="b"/>
                <a:pathLst>
                  <a:path w="152" h="830">
                    <a:moveTo>
                      <a:pt x="0" y="0"/>
                    </a:moveTo>
                    <a:lnTo>
                      <a:pt x="17" y="50"/>
                    </a:lnTo>
                    <a:lnTo>
                      <a:pt x="17" y="101"/>
                    </a:lnTo>
                    <a:lnTo>
                      <a:pt x="33" y="151"/>
                    </a:lnTo>
                    <a:lnTo>
                      <a:pt x="33" y="202"/>
                    </a:lnTo>
                    <a:lnTo>
                      <a:pt x="51" y="254"/>
                    </a:lnTo>
                    <a:lnTo>
                      <a:pt x="51" y="304"/>
                    </a:lnTo>
                    <a:lnTo>
                      <a:pt x="67" y="355"/>
                    </a:lnTo>
                    <a:lnTo>
                      <a:pt x="84" y="405"/>
                    </a:lnTo>
                    <a:lnTo>
                      <a:pt x="102" y="457"/>
                    </a:lnTo>
                    <a:lnTo>
                      <a:pt x="102" y="508"/>
                    </a:lnTo>
                    <a:lnTo>
                      <a:pt x="118" y="558"/>
                    </a:lnTo>
                    <a:lnTo>
                      <a:pt x="118" y="609"/>
                    </a:lnTo>
                    <a:lnTo>
                      <a:pt x="136" y="660"/>
                    </a:lnTo>
                    <a:lnTo>
                      <a:pt x="136" y="728"/>
                    </a:lnTo>
                    <a:lnTo>
                      <a:pt x="152" y="778"/>
                    </a:lnTo>
                    <a:lnTo>
                      <a:pt x="152" y="8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4522680" y="3821040"/>
                <a:ext cx="17640" cy="76320"/>
              </a:xfrm>
              <a:custGeom>
                <a:avLst/>
                <a:gdLst/>
                <a:ahLst/>
                <a:rect l="l" t="t" r="r" b="b"/>
                <a:pathLst>
                  <a:path w="67" h="287">
                    <a:moveTo>
                      <a:pt x="0" y="0"/>
                    </a:moveTo>
                    <a:lnTo>
                      <a:pt x="16" y="18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33" y="68"/>
                    </a:lnTo>
                    <a:lnTo>
                      <a:pt x="33" y="84"/>
                    </a:lnTo>
                    <a:lnTo>
                      <a:pt x="33" y="102"/>
                    </a:lnTo>
                    <a:lnTo>
                      <a:pt x="33" y="119"/>
                    </a:lnTo>
                    <a:lnTo>
                      <a:pt x="50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50" y="186"/>
                    </a:lnTo>
                    <a:lnTo>
                      <a:pt x="50" y="203"/>
                    </a:lnTo>
                    <a:lnTo>
                      <a:pt x="50" y="220"/>
                    </a:lnTo>
                    <a:lnTo>
                      <a:pt x="50" y="237"/>
                    </a:lnTo>
                    <a:lnTo>
                      <a:pt x="67" y="271"/>
                    </a:lnTo>
                    <a:lnTo>
                      <a:pt x="67" y="28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40320" y="3897360"/>
                <a:ext cx="12600" cy="247680"/>
              </a:xfrm>
              <a:custGeom>
                <a:avLst/>
                <a:gdLst/>
                <a:ahLst/>
                <a:rect l="l" t="t" r="r" b="b"/>
                <a:pathLst>
                  <a:path w="52" h="933">
                    <a:moveTo>
                      <a:pt x="0" y="0"/>
                    </a:moveTo>
                    <a:lnTo>
                      <a:pt x="0" y="51"/>
                    </a:lnTo>
                    <a:lnTo>
                      <a:pt x="0" y="104"/>
                    </a:lnTo>
                    <a:lnTo>
                      <a:pt x="17" y="170"/>
                    </a:lnTo>
                    <a:lnTo>
                      <a:pt x="17" y="220"/>
                    </a:lnTo>
                    <a:lnTo>
                      <a:pt x="17" y="289"/>
                    </a:lnTo>
                    <a:lnTo>
                      <a:pt x="17" y="339"/>
                    </a:lnTo>
                    <a:lnTo>
                      <a:pt x="34" y="408"/>
                    </a:lnTo>
                    <a:lnTo>
                      <a:pt x="34" y="458"/>
                    </a:lnTo>
                    <a:lnTo>
                      <a:pt x="34" y="527"/>
                    </a:lnTo>
                    <a:lnTo>
                      <a:pt x="34" y="576"/>
                    </a:lnTo>
                    <a:lnTo>
                      <a:pt x="34" y="645"/>
                    </a:lnTo>
                    <a:lnTo>
                      <a:pt x="34" y="695"/>
                    </a:lnTo>
                    <a:lnTo>
                      <a:pt x="52" y="746"/>
                    </a:lnTo>
                    <a:lnTo>
                      <a:pt x="52" y="814"/>
                    </a:lnTo>
                    <a:lnTo>
                      <a:pt x="52" y="865"/>
                    </a:lnTo>
                    <a:lnTo>
                      <a:pt x="52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4540320" y="4145040"/>
                <a:ext cx="12600" cy="183960"/>
              </a:xfrm>
              <a:custGeom>
                <a:avLst/>
                <a:gdLst/>
                <a:ahLst/>
                <a:rect l="l" t="t" r="r" b="b"/>
                <a:pathLst>
                  <a:path w="52" h="696">
                    <a:moveTo>
                      <a:pt x="52" y="0"/>
                    </a:moveTo>
                    <a:lnTo>
                      <a:pt x="52" y="34"/>
                    </a:lnTo>
                    <a:lnTo>
                      <a:pt x="52" y="85"/>
                    </a:lnTo>
                    <a:lnTo>
                      <a:pt x="52" y="135"/>
                    </a:lnTo>
                    <a:lnTo>
                      <a:pt x="52" y="170"/>
                    </a:lnTo>
                    <a:lnTo>
                      <a:pt x="52" y="220"/>
                    </a:lnTo>
                    <a:lnTo>
                      <a:pt x="52" y="271"/>
                    </a:lnTo>
                    <a:lnTo>
                      <a:pt x="52" y="305"/>
                    </a:lnTo>
                    <a:lnTo>
                      <a:pt x="52" y="355"/>
                    </a:lnTo>
                    <a:lnTo>
                      <a:pt x="52" y="407"/>
                    </a:lnTo>
                    <a:lnTo>
                      <a:pt x="34" y="439"/>
                    </a:lnTo>
                    <a:lnTo>
                      <a:pt x="34" y="492"/>
                    </a:lnTo>
                    <a:lnTo>
                      <a:pt x="34" y="525"/>
                    </a:lnTo>
                    <a:lnTo>
                      <a:pt x="34" y="577"/>
                    </a:lnTo>
                    <a:lnTo>
                      <a:pt x="17" y="611"/>
                    </a:lnTo>
                    <a:lnTo>
                      <a:pt x="17" y="662"/>
                    </a:lnTo>
                    <a:lnTo>
                      <a:pt x="0" y="6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4449600" y="4329000"/>
                <a:ext cx="90720" cy="354240"/>
              </a:xfrm>
              <a:custGeom>
                <a:avLst/>
                <a:gdLst/>
                <a:ahLst/>
                <a:rect l="l" t="t" r="r" b="b"/>
                <a:pathLst>
                  <a:path w="339" h="1338">
                    <a:moveTo>
                      <a:pt x="339" y="0"/>
                    </a:moveTo>
                    <a:lnTo>
                      <a:pt x="322" y="84"/>
                    </a:lnTo>
                    <a:lnTo>
                      <a:pt x="305" y="169"/>
                    </a:lnTo>
                    <a:lnTo>
                      <a:pt x="288" y="253"/>
                    </a:lnTo>
                    <a:lnTo>
                      <a:pt x="272" y="339"/>
                    </a:lnTo>
                    <a:lnTo>
                      <a:pt x="254" y="423"/>
                    </a:lnTo>
                    <a:lnTo>
                      <a:pt x="238" y="507"/>
                    </a:lnTo>
                    <a:lnTo>
                      <a:pt x="220" y="592"/>
                    </a:lnTo>
                    <a:lnTo>
                      <a:pt x="187" y="677"/>
                    </a:lnTo>
                    <a:lnTo>
                      <a:pt x="169" y="762"/>
                    </a:lnTo>
                    <a:lnTo>
                      <a:pt x="153" y="846"/>
                    </a:lnTo>
                    <a:lnTo>
                      <a:pt x="136" y="915"/>
                    </a:lnTo>
                    <a:lnTo>
                      <a:pt x="102" y="999"/>
                    </a:lnTo>
                    <a:lnTo>
                      <a:pt x="84" y="1084"/>
                    </a:lnTo>
                    <a:lnTo>
                      <a:pt x="50" y="1169"/>
                    </a:lnTo>
                    <a:lnTo>
                      <a:pt x="35" y="1253"/>
                    </a:lnTo>
                    <a:lnTo>
                      <a:pt x="0" y="13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4361040" y="4683240"/>
                <a:ext cx="88560" cy="214200"/>
              </a:xfrm>
              <a:custGeom>
                <a:avLst/>
                <a:gdLst/>
                <a:ahLst/>
                <a:rect l="l" t="t" r="r" b="b"/>
                <a:pathLst>
                  <a:path w="338" h="814">
                    <a:moveTo>
                      <a:pt x="338" y="0"/>
                    </a:moveTo>
                    <a:lnTo>
                      <a:pt x="321" y="51"/>
                    </a:lnTo>
                    <a:lnTo>
                      <a:pt x="304" y="102"/>
                    </a:lnTo>
                    <a:lnTo>
                      <a:pt x="269" y="153"/>
                    </a:lnTo>
                    <a:lnTo>
                      <a:pt x="254" y="203"/>
                    </a:lnTo>
                    <a:lnTo>
                      <a:pt x="237" y="254"/>
                    </a:lnTo>
                    <a:lnTo>
                      <a:pt x="219" y="304"/>
                    </a:lnTo>
                    <a:lnTo>
                      <a:pt x="203" y="356"/>
                    </a:lnTo>
                    <a:lnTo>
                      <a:pt x="185" y="407"/>
                    </a:lnTo>
                    <a:lnTo>
                      <a:pt x="153" y="457"/>
                    </a:lnTo>
                    <a:lnTo>
                      <a:pt x="135" y="508"/>
                    </a:lnTo>
                    <a:lnTo>
                      <a:pt x="118" y="560"/>
                    </a:lnTo>
                    <a:lnTo>
                      <a:pt x="101" y="610"/>
                    </a:lnTo>
                    <a:lnTo>
                      <a:pt x="67" y="660"/>
                    </a:lnTo>
                    <a:lnTo>
                      <a:pt x="49" y="711"/>
                    </a:lnTo>
                    <a:lnTo>
                      <a:pt x="34" y="764"/>
                    </a:lnTo>
                    <a:lnTo>
                      <a:pt x="0" y="8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4314960" y="4897440"/>
                <a:ext cx="46080" cy="98280"/>
              </a:xfrm>
              <a:custGeom>
                <a:avLst/>
                <a:gdLst/>
                <a:ahLst/>
                <a:rect l="l" t="t" r="r" b="b"/>
                <a:pathLst>
                  <a:path w="170" h="373">
                    <a:moveTo>
                      <a:pt x="170" y="0"/>
                    </a:moveTo>
                    <a:lnTo>
                      <a:pt x="170" y="34"/>
                    </a:lnTo>
                    <a:lnTo>
                      <a:pt x="152" y="51"/>
                    </a:lnTo>
                    <a:lnTo>
                      <a:pt x="152" y="66"/>
                    </a:lnTo>
                    <a:lnTo>
                      <a:pt x="135" y="101"/>
                    </a:lnTo>
                    <a:lnTo>
                      <a:pt x="135" y="118"/>
                    </a:lnTo>
                    <a:lnTo>
                      <a:pt x="118" y="153"/>
                    </a:lnTo>
                    <a:lnTo>
                      <a:pt x="101" y="169"/>
                    </a:lnTo>
                    <a:lnTo>
                      <a:pt x="101" y="186"/>
                    </a:lnTo>
                    <a:lnTo>
                      <a:pt x="85" y="219"/>
                    </a:lnTo>
                    <a:lnTo>
                      <a:pt x="66" y="237"/>
                    </a:lnTo>
                    <a:lnTo>
                      <a:pt x="51" y="254"/>
                    </a:lnTo>
                    <a:lnTo>
                      <a:pt x="51" y="288"/>
                    </a:lnTo>
                    <a:lnTo>
                      <a:pt x="34" y="305"/>
                    </a:lnTo>
                    <a:lnTo>
                      <a:pt x="16" y="323"/>
                    </a:lnTo>
                    <a:lnTo>
                      <a:pt x="0" y="338"/>
                    </a:lnTo>
                    <a:lnTo>
                      <a:pt x="0" y="3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199040" y="4995720"/>
                <a:ext cx="115920" cy="216000"/>
              </a:xfrm>
              <a:custGeom>
                <a:avLst/>
                <a:gdLst/>
                <a:ahLst/>
                <a:rect l="l" t="t" r="r" b="b"/>
                <a:pathLst>
                  <a:path w="441" h="813">
                    <a:moveTo>
                      <a:pt x="441" y="0"/>
                    </a:moveTo>
                    <a:lnTo>
                      <a:pt x="406" y="51"/>
                    </a:lnTo>
                    <a:lnTo>
                      <a:pt x="391" y="101"/>
                    </a:lnTo>
                    <a:lnTo>
                      <a:pt x="356" y="153"/>
                    </a:lnTo>
                    <a:lnTo>
                      <a:pt x="339" y="203"/>
                    </a:lnTo>
                    <a:lnTo>
                      <a:pt x="304" y="254"/>
                    </a:lnTo>
                    <a:lnTo>
                      <a:pt x="272" y="304"/>
                    </a:lnTo>
                    <a:lnTo>
                      <a:pt x="254" y="355"/>
                    </a:lnTo>
                    <a:lnTo>
                      <a:pt x="220" y="407"/>
                    </a:lnTo>
                    <a:lnTo>
                      <a:pt x="186" y="457"/>
                    </a:lnTo>
                    <a:lnTo>
                      <a:pt x="153" y="508"/>
                    </a:lnTo>
                    <a:lnTo>
                      <a:pt x="135" y="558"/>
                    </a:lnTo>
                    <a:lnTo>
                      <a:pt x="102" y="610"/>
                    </a:lnTo>
                    <a:lnTo>
                      <a:pt x="68" y="660"/>
                    </a:lnTo>
                    <a:lnTo>
                      <a:pt x="50" y="711"/>
                    </a:lnTo>
                    <a:lnTo>
                      <a:pt x="18" y="761"/>
                    </a:lnTo>
                    <a:lnTo>
                      <a:pt x="0" y="8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132440" y="5221440"/>
                <a:ext cx="56880" cy="120600"/>
              </a:xfrm>
              <a:custGeom>
                <a:avLst/>
                <a:gdLst/>
                <a:ahLst/>
                <a:rect l="l" t="t" r="r" b="b"/>
                <a:pathLst>
                  <a:path w="220" h="458">
                    <a:moveTo>
                      <a:pt x="220" y="0"/>
                    </a:moveTo>
                    <a:lnTo>
                      <a:pt x="203" y="17"/>
                    </a:lnTo>
                    <a:lnTo>
                      <a:pt x="203" y="52"/>
                    </a:lnTo>
                    <a:lnTo>
                      <a:pt x="185" y="84"/>
                    </a:lnTo>
                    <a:lnTo>
                      <a:pt x="170" y="102"/>
                    </a:lnTo>
                    <a:lnTo>
                      <a:pt x="153" y="136"/>
                    </a:lnTo>
                    <a:lnTo>
                      <a:pt x="135" y="171"/>
                    </a:lnTo>
                    <a:lnTo>
                      <a:pt x="119" y="186"/>
                    </a:lnTo>
                    <a:lnTo>
                      <a:pt x="119" y="221"/>
                    </a:lnTo>
                    <a:lnTo>
                      <a:pt x="101" y="255"/>
                    </a:lnTo>
                    <a:lnTo>
                      <a:pt x="84" y="272"/>
                    </a:lnTo>
                    <a:lnTo>
                      <a:pt x="69" y="305"/>
                    </a:lnTo>
                    <a:lnTo>
                      <a:pt x="51" y="339"/>
                    </a:lnTo>
                    <a:lnTo>
                      <a:pt x="34" y="356"/>
                    </a:lnTo>
                    <a:lnTo>
                      <a:pt x="34" y="390"/>
                    </a:lnTo>
                    <a:lnTo>
                      <a:pt x="16" y="424"/>
                    </a:lnTo>
                    <a:lnTo>
                      <a:pt x="0" y="4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91040" y="5342040"/>
                <a:ext cx="41400" cy="196920"/>
              </a:xfrm>
              <a:custGeom>
                <a:avLst/>
                <a:gdLst/>
                <a:ahLst/>
                <a:rect l="l" t="t" r="r" b="b"/>
                <a:pathLst>
                  <a:path w="153" h="746">
                    <a:moveTo>
                      <a:pt x="153" y="0"/>
                    </a:moveTo>
                    <a:lnTo>
                      <a:pt x="136" y="33"/>
                    </a:lnTo>
                    <a:lnTo>
                      <a:pt x="118" y="85"/>
                    </a:lnTo>
                    <a:lnTo>
                      <a:pt x="103" y="136"/>
                    </a:lnTo>
                    <a:lnTo>
                      <a:pt x="85" y="170"/>
                    </a:lnTo>
                    <a:lnTo>
                      <a:pt x="85" y="220"/>
                    </a:lnTo>
                    <a:lnTo>
                      <a:pt x="68" y="271"/>
                    </a:lnTo>
                    <a:lnTo>
                      <a:pt x="51" y="304"/>
                    </a:lnTo>
                    <a:lnTo>
                      <a:pt x="34" y="355"/>
                    </a:lnTo>
                    <a:lnTo>
                      <a:pt x="34" y="405"/>
                    </a:lnTo>
                    <a:lnTo>
                      <a:pt x="17" y="458"/>
                    </a:lnTo>
                    <a:lnTo>
                      <a:pt x="17" y="491"/>
                    </a:lnTo>
                    <a:lnTo>
                      <a:pt x="0" y="543"/>
                    </a:lnTo>
                    <a:lnTo>
                      <a:pt x="0" y="593"/>
                    </a:lnTo>
                    <a:lnTo>
                      <a:pt x="0" y="644"/>
                    </a:lnTo>
                    <a:lnTo>
                      <a:pt x="0" y="694"/>
                    </a:lnTo>
                    <a:lnTo>
                      <a:pt x="17" y="7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095720" y="553896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170" h="237">
                    <a:moveTo>
                      <a:pt x="0" y="0"/>
                    </a:moveTo>
                    <a:lnTo>
                      <a:pt x="0" y="17"/>
                    </a:lnTo>
                    <a:lnTo>
                      <a:pt x="0" y="32"/>
                    </a:lnTo>
                    <a:lnTo>
                      <a:pt x="0" y="50"/>
                    </a:lnTo>
                    <a:lnTo>
                      <a:pt x="17" y="67"/>
                    </a:lnTo>
                    <a:lnTo>
                      <a:pt x="17" y="85"/>
                    </a:lnTo>
                    <a:lnTo>
                      <a:pt x="34" y="101"/>
                    </a:lnTo>
                    <a:lnTo>
                      <a:pt x="34" y="118"/>
                    </a:lnTo>
                    <a:lnTo>
                      <a:pt x="51" y="136"/>
                    </a:lnTo>
                    <a:lnTo>
                      <a:pt x="51" y="151"/>
                    </a:lnTo>
                    <a:lnTo>
                      <a:pt x="68" y="169"/>
                    </a:lnTo>
                    <a:lnTo>
                      <a:pt x="86" y="186"/>
                    </a:lnTo>
                    <a:lnTo>
                      <a:pt x="101" y="203"/>
                    </a:lnTo>
                    <a:lnTo>
                      <a:pt x="119" y="220"/>
                    </a:lnTo>
                    <a:lnTo>
                      <a:pt x="136" y="220"/>
                    </a:lnTo>
                    <a:lnTo>
                      <a:pt x="17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140360" y="5602320"/>
                <a:ext cx="223560" cy="61920"/>
              </a:xfrm>
              <a:custGeom>
                <a:avLst/>
                <a:gdLst/>
                <a:ahLst/>
                <a:rect l="l" t="t" r="r" b="b"/>
                <a:pathLst>
                  <a:path w="846" h="237">
                    <a:moveTo>
                      <a:pt x="0" y="0"/>
                    </a:moveTo>
                    <a:lnTo>
                      <a:pt x="50" y="17"/>
                    </a:lnTo>
                    <a:lnTo>
                      <a:pt x="101" y="33"/>
                    </a:lnTo>
                    <a:lnTo>
                      <a:pt x="151" y="51"/>
                    </a:lnTo>
                    <a:lnTo>
                      <a:pt x="203" y="67"/>
                    </a:lnTo>
                    <a:lnTo>
                      <a:pt x="254" y="84"/>
                    </a:lnTo>
                    <a:lnTo>
                      <a:pt x="304" y="102"/>
                    </a:lnTo>
                    <a:lnTo>
                      <a:pt x="355" y="118"/>
                    </a:lnTo>
                    <a:lnTo>
                      <a:pt x="406" y="136"/>
                    </a:lnTo>
                    <a:lnTo>
                      <a:pt x="458" y="152"/>
                    </a:lnTo>
                    <a:lnTo>
                      <a:pt x="524" y="152"/>
                    </a:lnTo>
                    <a:lnTo>
                      <a:pt x="576" y="168"/>
                    </a:lnTo>
                    <a:lnTo>
                      <a:pt x="626" y="186"/>
                    </a:lnTo>
                    <a:lnTo>
                      <a:pt x="677" y="203"/>
                    </a:lnTo>
                    <a:lnTo>
                      <a:pt x="746" y="203"/>
                    </a:lnTo>
                    <a:lnTo>
                      <a:pt x="796" y="221"/>
                    </a:lnTo>
                    <a:lnTo>
                      <a:pt x="846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073400" y="5718240"/>
                <a:ext cx="27000" cy="210960"/>
              </a:xfrm>
              <a:custGeom>
                <a:avLst/>
                <a:gdLst/>
                <a:ahLst/>
                <a:rect l="l" t="t" r="r" b="b"/>
                <a:pathLst>
                  <a:path w="101" h="796">
                    <a:moveTo>
                      <a:pt x="0" y="0"/>
                    </a:moveTo>
                    <a:lnTo>
                      <a:pt x="0" y="50"/>
                    </a:lnTo>
                    <a:lnTo>
                      <a:pt x="17" y="103"/>
                    </a:lnTo>
                    <a:lnTo>
                      <a:pt x="17" y="154"/>
                    </a:lnTo>
                    <a:lnTo>
                      <a:pt x="32" y="204"/>
                    </a:lnTo>
                    <a:lnTo>
                      <a:pt x="32" y="255"/>
                    </a:lnTo>
                    <a:lnTo>
                      <a:pt x="51" y="305"/>
                    </a:lnTo>
                    <a:lnTo>
                      <a:pt x="51" y="357"/>
                    </a:lnTo>
                    <a:lnTo>
                      <a:pt x="67" y="408"/>
                    </a:lnTo>
                    <a:lnTo>
                      <a:pt x="67" y="458"/>
                    </a:lnTo>
                    <a:lnTo>
                      <a:pt x="84" y="492"/>
                    </a:lnTo>
                    <a:lnTo>
                      <a:pt x="84" y="542"/>
                    </a:lnTo>
                    <a:lnTo>
                      <a:pt x="84" y="593"/>
                    </a:lnTo>
                    <a:lnTo>
                      <a:pt x="101" y="645"/>
                    </a:lnTo>
                    <a:lnTo>
                      <a:pt x="101" y="695"/>
                    </a:lnTo>
                    <a:lnTo>
                      <a:pt x="101" y="746"/>
                    </a:lnTo>
                    <a:lnTo>
                      <a:pt x="101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3948120" y="5359320"/>
                <a:ext cx="103320" cy="561960"/>
              </a:xfrm>
              <a:custGeom>
                <a:avLst/>
                <a:gdLst/>
                <a:ahLst/>
                <a:rect l="l" t="t" r="r" b="b"/>
                <a:pathLst>
                  <a:path w="391" h="2120">
                    <a:moveTo>
                      <a:pt x="391" y="2120"/>
                    </a:moveTo>
                    <a:lnTo>
                      <a:pt x="322" y="2017"/>
                    </a:lnTo>
                    <a:lnTo>
                      <a:pt x="272" y="1883"/>
                    </a:lnTo>
                    <a:lnTo>
                      <a:pt x="203" y="1764"/>
                    </a:lnTo>
                    <a:lnTo>
                      <a:pt x="169" y="1645"/>
                    </a:lnTo>
                    <a:lnTo>
                      <a:pt x="119" y="1510"/>
                    </a:lnTo>
                    <a:lnTo>
                      <a:pt x="84" y="1373"/>
                    </a:lnTo>
                    <a:lnTo>
                      <a:pt x="50" y="1238"/>
                    </a:lnTo>
                    <a:lnTo>
                      <a:pt x="34" y="1102"/>
                    </a:lnTo>
                    <a:lnTo>
                      <a:pt x="16" y="967"/>
                    </a:lnTo>
                    <a:lnTo>
                      <a:pt x="0" y="830"/>
                    </a:lnTo>
                    <a:lnTo>
                      <a:pt x="0" y="696"/>
                    </a:lnTo>
                    <a:lnTo>
                      <a:pt x="0" y="560"/>
                    </a:lnTo>
                    <a:lnTo>
                      <a:pt x="0" y="407"/>
                    </a:lnTo>
                    <a:lnTo>
                      <a:pt x="16" y="272"/>
                    </a:lnTo>
                    <a:lnTo>
                      <a:pt x="34" y="135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960720" y="4754520"/>
                <a:ext cx="135000" cy="604800"/>
              </a:xfrm>
              <a:custGeom>
                <a:avLst/>
                <a:gdLst/>
                <a:ahLst/>
                <a:rect l="l" t="t" r="r" b="b"/>
                <a:pathLst>
                  <a:path w="509" h="2287">
                    <a:moveTo>
                      <a:pt x="0" y="2287"/>
                    </a:moveTo>
                    <a:lnTo>
                      <a:pt x="34" y="2135"/>
                    </a:lnTo>
                    <a:lnTo>
                      <a:pt x="69" y="1999"/>
                    </a:lnTo>
                    <a:lnTo>
                      <a:pt x="85" y="1846"/>
                    </a:lnTo>
                    <a:lnTo>
                      <a:pt x="119" y="1711"/>
                    </a:lnTo>
                    <a:lnTo>
                      <a:pt x="153" y="1557"/>
                    </a:lnTo>
                    <a:lnTo>
                      <a:pt x="187" y="1423"/>
                    </a:lnTo>
                    <a:lnTo>
                      <a:pt x="222" y="1288"/>
                    </a:lnTo>
                    <a:lnTo>
                      <a:pt x="272" y="1152"/>
                    </a:lnTo>
                    <a:lnTo>
                      <a:pt x="306" y="999"/>
                    </a:lnTo>
                    <a:lnTo>
                      <a:pt x="341" y="865"/>
                    </a:lnTo>
                    <a:lnTo>
                      <a:pt x="373" y="728"/>
                    </a:lnTo>
                    <a:lnTo>
                      <a:pt x="407" y="576"/>
                    </a:lnTo>
                    <a:lnTo>
                      <a:pt x="425" y="439"/>
                    </a:lnTo>
                    <a:lnTo>
                      <a:pt x="457" y="288"/>
                    </a:lnTo>
                    <a:lnTo>
                      <a:pt x="492" y="151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4073400" y="4233960"/>
                <a:ext cx="32040" cy="520560"/>
              </a:xfrm>
              <a:custGeom>
                <a:avLst/>
                <a:gdLst/>
                <a:ahLst/>
                <a:rect l="l" t="t" r="r" b="b"/>
                <a:pathLst>
                  <a:path w="118" h="1968">
                    <a:moveTo>
                      <a:pt x="84" y="1968"/>
                    </a:moveTo>
                    <a:lnTo>
                      <a:pt x="101" y="1849"/>
                    </a:lnTo>
                    <a:lnTo>
                      <a:pt x="118" y="1730"/>
                    </a:lnTo>
                    <a:lnTo>
                      <a:pt x="118" y="1595"/>
                    </a:lnTo>
                    <a:lnTo>
                      <a:pt x="118" y="1476"/>
                    </a:lnTo>
                    <a:lnTo>
                      <a:pt x="118" y="1357"/>
                    </a:lnTo>
                    <a:lnTo>
                      <a:pt x="118" y="1222"/>
                    </a:lnTo>
                    <a:lnTo>
                      <a:pt x="101" y="1103"/>
                    </a:lnTo>
                    <a:lnTo>
                      <a:pt x="84" y="984"/>
                    </a:lnTo>
                    <a:lnTo>
                      <a:pt x="84" y="865"/>
                    </a:lnTo>
                    <a:lnTo>
                      <a:pt x="67" y="747"/>
                    </a:lnTo>
                    <a:lnTo>
                      <a:pt x="51" y="611"/>
                    </a:lnTo>
                    <a:lnTo>
                      <a:pt x="32" y="492"/>
                    </a:lnTo>
                    <a:lnTo>
                      <a:pt x="17" y="374"/>
                    </a:lnTo>
                    <a:lnTo>
                      <a:pt x="17" y="255"/>
                    </a:lnTo>
                    <a:lnTo>
                      <a:pt x="0" y="1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4068720" y="4081320"/>
                <a:ext cx="4680" cy="152640"/>
              </a:xfrm>
              <a:custGeom>
                <a:avLst/>
                <a:gdLst/>
                <a:ahLst/>
                <a:rect l="l" t="t" r="r" b="b"/>
                <a:pathLst>
                  <a:path w="18" h="576">
                    <a:moveTo>
                      <a:pt x="18" y="576"/>
                    </a:moveTo>
                    <a:lnTo>
                      <a:pt x="18" y="543"/>
                    </a:lnTo>
                    <a:lnTo>
                      <a:pt x="18" y="509"/>
                    </a:lnTo>
                    <a:lnTo>
                      <a:pt x="18" y="474"/>
                    </a:lnTo>
                    <a:lnTo>
                      <a:pt x="18" y="442"/>
                    </a:lnTo>
                    <a:lnTo>
                      <a:pt x="18" y="408"/>
                    </a:lnTo>
                    <a:lnTo>
                      <a:pt x="18" y="373"/>
                    </a:lnTo>
                    <a:lnTo>
                      <a:pt x="0" y="339"/>
                    </a:lnTo>
                    <a:lnTo>
                      <a:pt x="0" y="306"/>
                    </a:lnTo>
                    <a:lnTo>
                      <a:pt x="0" y="255"/>
                    </a:lnTo>
                    <a:lnTo>
                      <a:pt x="0" y="220"/>
                    </a:lnTo>
                    <a:lnTo>
                      <a:pt x="0" y="187"/>
                    </a:lnTo>
                    <a:lnTo>
                      <a:pt x="0" y="154"/>
                    </a:lnTo>
                    <a:lnTo>
                      <a:pt x="0" y="119"/>
                    </a:lnTo>
                    <a:lnTo>
                      <a:pt x="0" y="86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059360" y="3919680"/>
                <a:ext cx="9360" cy="161640"/>
              </a:xfrm>
              <a:custGeom>
                <a:avLst/>
                <a:gdLst/>
                <a:ahLst/>
                <a:rect l="l" t="t" r="r" b="b"/>
                <a:pathLst>
                  <a:path w="34" h="610">
                    <a:moveTo>
                      <a:pt x="34" y="610"/>
                    </a:moveTo>
                    <a:lnTo>
                      <a:pt x="34" y="577"/>
                    </a:lnTo>
                    <a:lnTo>
                      <a:pt x="34" y="543"/>
                    </a:lnTo>
                    <a:lnTo>
                      <a:pt x="34" y="491"/>
                    </a:lnTo>
                    <a:lnTo>
                      <a:pt x="34" y="458"/>
                    </a:lnTo>
                    <a:lnTo>
                      <a:pt x="18" y="424"/>
                    </a:lnTo>
                    <a:lnTo>
                      <a:pt x="18" y="391"/>
                    </a:lnTo>
                    <a:lnTo>
                      <a:pt x="18" y="338"/>
                    </a:lnTo>
                    <a:lnTo>
                      <a:pt x="18" y="306"/>
                    </a:lnTo>
                    <a:lnTo>
                      <a:pt x="0" y="272"/>
                    </a:lnTo>
                    <a:lnTo>
                      <a:pt x="0" y="238"/>
                    </a:lnTo>
                    <a:lnTo>
                      <a:pt x="0" y="187"/>
                    </a:lnTo>
                    <a:lnTo>
                      <a:pt x="0" y="153"/>
                    </a:lnTo>
                    <a:lnTo>
                      <a:pt x="0" y="118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056120" y="3781440"/>
                <a:ext cx="3240" cy="138240"/>
              </a:xfrm>
              <a:custGeom>
                <a:avLst/>
                <a:gdLst/>
                <a:ahLst/>
                <a:rect l="l" t="t" r="r" b="b"/>
                <a:pathLst>
                  <a:path w="16" h="525">
                    <a:moveTo>
                      <a:pt x="16" y="525"/>
                    </a:moveTo>
                    <a:lnTo>
                      <a:pt x="16" y="491"/>
                    </a:lnTo>
                    <a:lnTo>
                      <a:pt x="16" y="457"/>
                    </a:lnTo>
                    <a:lnTo>
                      <a:pt x="16" y="424"/>
                    </a:lnTo>
                    <a:lnTo>
                      <a:pt x="16" y="390"/>
                    </a:lnTo>
                    <a:lnTo>
                      <a:pt x="16" y="356"/>
                    </a:lnTo>
                    <a:lnTo>
                      <a:pt x="16" y="322"/>
                    </a:lnTo>
                    <a:lnTo>
                      <a:pt x="16" y="287"/>
                    </a:lnTo>
                    <a:lnTo>
                      <a:pt x="16" y="255"/>
                    </a:lnTo>
                    <a:lnTo>
                      <a:pt x="16" y="221"/>
                    </a:lnTo>
                    <a:lnTo>
                      <a:pt x="16" y="186"/>
                    </a:lnTo>
                    <a:lnTo>
                      <a:pt x="16" y="153"/>
                    </a:lnTo>
                    <a:lnTo>
                      <a:pt x="16" y="118"/>
                    </a:lnTo>
                    <a:lnTo>
                      <a:pt x="16" y="84"/>
                    </a:lnTo>
                    <a:lnTo>
                      <a:pt x="16" y="67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056120" y="3395520"/>
                <a:ext cx="187200" cy="385920"/>
              </a:xfrm>
              <a:custGeom>
                <a:avLst/>
                <a:gdLst/>
                <a:ahLst/>
                <a:rect l="l" t="t" r="r" b="b"/>
                <a:pathLst>
                  <a:path w="711" h="1458">
                    <a:moveTo>
                      <a:pt x="0" y="1458"/>
                    </a:moveTo>
                    <a:lnTo>
                      <a:pt x="16" y="1340"/>
                    </a:lnTo>
                    <a:lnTo>
                      <a:pt x="34" y="1238"/>
                    </a:lnTo>
                    <a:lnTo>
                      <a:pt x="34" y="1137"/>
                    </a:lnTo>
                    <a:lnTo>
                      <a:pt x="50" y="1033"/>
                    </a:lnTo>
                    <a:lnTo>
                      <a:pt x="68" y="934"/>
                    </a:lnTo>
                    <a:lnTo>
                      <a:pt x="100" y="830"/>
                    </a:lnTo>
                    <a:lnTo>
                      <a:pt x="135" y="729"/>
                    </a:lnTo>
                    <a:lnTo>
                      <a:pt x="169" y="627"/>
                    </a:lnTo>
                    <a:lnTo>
                      <a:pt x="203" y="526"/>
                    </a:lnTo>
                    <a:lnTo>
                      <a:pt x="253" y="442"/>
                    </a:lnTo>
                    <a:lnTo>
                      <a:pt x="304" y="356"/>
                    </a:lnTo>
                    <a:lnTo>
                      <a:pt x="357" y="272"/>
                    </a:lnTo>
                    <a:lnTo>
                      <a:pt x="441" y="188"/>
                    </a:lnTo>
                    <a:lnTo>
                      <a:pt x="508" y="119"/>
                    </a:lnTo>
                    <a:lnTo>
                      <a:pt x="610" y="51"/>
                    </a:lnTo>
                    <a:lnTo>
                      <a:pt x="7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235400" y="32925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221" h="321">
                    <a:moveTo>
                      <a:pt x="221" y="321"/>
                    </a:moveTo>
                    <a:lnTo>
                      <a:pt x="221" y="288"/>
                    </a:lnTo>
                    <a:lnTo>
                      <a:pt x="204" y="270"/>
                    </a:lnTo>
                    <a:lnTo>
                      <a:pt x="204" y="236"/>
                    </a:lnTo>
                    <a:lnTo>
                      <a:pt x="187" y="220"/>
                    </a:lnTo>
                    <a:lnTo>
                      <a:pt x="187" y="202"/>
                    </a:lnTo>
                    <a:lnTo>
                      <a:pt x="169" y="169"/>
                    </a:lnTo>
                    <a:lnTo>
                      <a:pt x="169" y="151"/>
                    </a:lnTo>
                    <a:lnTo>
                      <a:pt x="152" y="117"/>
                    </a:lnTo>
                    <a:lnTo>
                      <a:pt x="137" y="101"/>
                    </a:lnTo>
                    <a:lnTo>
                      <a:pt x="137" y="85"/>
                    </a:lnTo>
                    <a:lnTo>
                      <a:pt x="119" y="67"/>
                    </a:lnTo>
                    <a:lnTo>
                      <a:pt x="103" y="50"/>
                    </a:lnTo>
                    <a:lnTo>
                      <a:pt x="68" y="32"/>
                    </a:lnTo>
                    <a:lnTo>
                      <a:pt x="51" y="16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4181400" y="3130560"/>
                <a:ext cx="54000" cy="162000"/>
              </a:xfrm>
              <a:custGeom>
                <a:avLst/>
                <a:gdLst/>
                <a:ahLst/>
                <a:rect l="l" t="t" r="r" b="b"/>
                <a:pathLst>
                  <a:path w="204" h="610">
                    <a:moveTo>
                      <a:pt x="204" y="610"/>
                    </a:moveTo>
                    <a:lnTo>
                      <a:pt x="171" y="576"/>
                    </a:lnTo>
                    <a:lnTo>
                      <a:pt x="137" y="542"/>
                    </a:lnTo>
                    <a:lnTo>
                      <a:pt x="119" y="507"/>
                    </a:lnTo>
                    <a:lnTo>
                      <a:pt x="87" y="474"/>
                    </a:lnTo>
                    <a:lnTo>
                      <a:pt x="69" y="439"/>
                    </a:lnTo>
                    <a:lnTo>
                      <a:pt x="52" y="406"/>
                    </a:lnTo>
                    <a:lnTo>
                      <a:pt x="35" y="373"/>
                    </a:lnTo>
                    <a:lnTo>
                      <a:pt x="18" y="338"/>
                    </a:lnTo>
                    <a:lnTo>
                      <a:pt x="18" y="287"/>
                    </a:lnTo>
                    <a:lnTo>
                      <a:pt x="0" y="254"/>
                    </a:lnTo>
                    <a:lnTo>
                      <a:pt x="0" y="203"/>
                    </a:lnTo>
                    <a:lnTo>
                      <a:pt x="0" y="168"/>
                    </a:lnTo>
                    <a:lnTo>
                      <a:pt x="0" y="135"/>
                    </a:lnTo>
                    <a:lnTo>
                      <a:pt x="0" y="84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4181400" y="3041640"/>
                <a:ext cx="98640" cy="88920"/>
              </a:xfrm>
              <a:custGeom>
                <a:avLst/>
                <a:gdLst/>
                <a:ahLst/>
                <a:rect l="l" t="t" r="r" b="b"/>
                <a:pathLst>
                  <a:path w="373" h="339">
                    <a:moveTo>
                      <a:pt x="0" y="339"/>
                    </a:moveTo>
                    <a:lnTo>
                      <a:pt x="18" y="304"/>
                    </a:lnTo>
                    <a:lnTo>
                      <a:pt x="18" y="270"/>
                    </a:lnTo>
                    <a:lnTo>
                      <a:pt x="35" y="235"/>
                    </a:lnTo>
                    <a:lnTo>
                      <a:pt x="52" y="220"/>
                    </a:lnTo>
                    <a:lnTo>
                      <a:pt x="69" y="186"/>
                    </a:lnTo>
                    <a:lnTo>
                      <a:pt x="87" y="169"/>
                    </a:lnTo>
                    <a:lnTo>
                      <a:pt x="119" y="136"/>
                    </a:lnTo>
                    <a:lnTo>
                      <a:pt x="137" y="117"/>
                    </a:lnTo>
                    <a:lnTo>
                      <a:pt x="171" y="85"/>
                    </a:lnTo>
                    <a:lnTo>
                      <a:pt x="188" y="67"/>
                    </a:lnTo>
                    <a:lnTo>
                      <a:pt x="222" y="50"/>
                    </a:lnTo>
                    <a:lnTo>
                      <a:pt x="255" y="32"/>
                    </a:lnTo>
                    <a:lnTo>
                      <a:pt x="272" y="16"/>
                    </a:lnTo>
                    <a:lnTo>
                      <a:pt x="307" y="0"/>
                    </a:lnTo>
                    <a:lnTo>
                      <a:pt x="341" y="0"/>
                    </a:lnTo>
                    <a:lnTo>
                      <a:pt x="37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4280040" y="3041640"/>
                <a:ext cx="137880" cy="81000"/>
              </a:xfrm>
              <a:custGeom>
                <a:avLst/>
                <a:gdLst/>
                <a:ahLst/>
                <a:rect l="l" t="t" r="r" b="b"/>
                <a:pathLst>
                  <a:path w="526" h="304">
                    <a:moveTo>
                      <a:pt x="0" y="0"/>
                    </a:moveTo>
                    <a:lnTo>
                      <a:pt x="35" y="0"/>
                    </a:lnTo>
                    <a:lnTo>
                      <a:pt x="87" y="0"/>
                    </a:lnTo>
                    <a:lnTo>
                      <a:pt x="119" y="0"/>
                    </a:lnTo>
                    <a:lnTo>
                      <a:pt x="153" y="16"/>
                    </a:lnTo>
                    <a:lnTo>
                      <a:pt x="203" y="16"/>
                    </a:lnTo>
                    <a:lnTo>
                      <a:pt x="238" y="32"/>
                    </a:lnTo>
                    <a:lnTo>
                      <a:pt x="272" y="50"/>
                    </a:lnTo>
                    <a:lnTo>
                      <a:pt x="307" y="67"/>
                    </a:lnTo>
                    <a:lnTo>
                      <a:pt x="341" y="85"/>
                    </a:lnTo>
                    <a:lnTo>
                      <a:pt x="374" y="117"/>
                    </a:lnTo>
                    <a:lnTo>
                      <a:pt x="408" y="136"/>
                    </a:lnTo>
                    <a:lnTo>
                      <a:pt x="442" y="169"/>
                    </a:lnTo>
                    <a:lnTo>
                      <a:pt x="460" y="202"/>
                    </a:lnTo>
                    <a:lnTo>
                      <a:pt x="492" y="235"/>
                    </a:lnTo>
                    <a:lnTo>
                      <a:pt x="510" y="270"/>
                    </a:lnTo>
                    <a:lnTo>
                      <a:pt x="526" y="3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4338720" y="3063960"/>
                <a:ext cx="83880" cy="135000"/>
              </a:xfrm>
              <a:custGeom>
                <a:avLst/>
                <a:gdLst/>
                <a:ahLst/>
                <a:rect l="l" t="t" r="r" b="b"/>
                <a:pathLst>
                  <a:path w="322" h="508">
                    <a:moveTo>
                      <a:pt x="0" y="0"/>
                    </a:moveTo>
                    <a:lnTo>
                      <a:pt x="50" y="16"/>
                    </a:lnTo>
                    <a:lnTo>
                      <a:pt x="85" y="32"/>
                    </a:lnTo>
                    <a:lnTo>
                      <a:pt x="100" y="51"/>
                    </a:lnTo>
                    <a:lnTo>
                      <a:pt x="134" y="84"/>
                    </a:lnTo>
                    <a:lnTo>
                      <a:pt x="169" y="101"/>
                    </a:lnTo>
                    <a:lnTo>
                      <a:pt x="186" y="135"/>
                    </a:lnTo>
                    <a:lnTo>
                      <a:pt x="220" y="169"/>
                    </a:lnTo>
                    <a:lnTo>
                      <a:pt x="238" y="203"/>
                    </a:lnTo>
                    <a:lnTo>
                      <a:pt x="253" y="236"/>
                    </a:lnTo>
                    <a:lnTo>
                      <a:pt x="270" y="270"/>
                    </a:lnTo>
                    <a:lnTo>
                      <a:pt x="288" y="304"/>
                    </a:lnTo>
                    <a:lnTo>
                      <a:pt x="304" y="355"/>
                    </a:lnTo>
                    <a:lnTo>
                      <a:pt x="304" y="389"/>
                    </a:lnTo>
                    <a:lnTo>
                      <a:pt x="304" y="422"/>
                    </a:lnTo>
                    <a:lnTo>
                      <a:pt x="322" y="457"/>
                    </a:lnTo>
                    <a:lnTo>
                      <a:pt x="322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4400640" y="3198960"/>
                <a:ext cx="21960" cy="61920"/>
              </a:xfrm>
              <a:custGeom>
                <a:avLst/>
                <a:gdLst/>
                <a:ahLst/>
                <a:rect l="l" t="t" r="r" b="b"/>
                <a:pathLst>
                  <a:path w="84" h="238">
                    <a:moveTo>
                      <a:pt x="84" y="0"/>
                    </a:moveTo>
                    <a:lnTo>
                      <a:pt x="84" y="15"/>
                    </a:lnTo>
                    <a:lnTo>
                      <a:pt x="66" y="33"/>
                    </a:lnTo>
                    <a:lnTo>
                      <a:pt x="66" y="50"/>
                    </a:lnTo>
                    <a:lnTo>
                      <a:pt x="66" y="68"/>
                    </a:lnTo>
                    <a:lnTo>
                      <a:pt x="66" y="84"/>
                    </a:lnTo>
                    <a:lnTo>
                      <a:pt x="66" y="101"/>
                    </a:lnTo>
                    <a:lnTo>
                      <a:pt x="66" y="119"/>
                    </a:lnTo>
                    <a:lnTo>
                      <a:pt x="66" y="134"/>
                    </a:lnTo>
                    <a:lnTo>
                      <a:pt x="50" y="152"/>
                    </a:lnTo>
                    <a:lnTo>
                      <a:pt x="50" y="169"/>
                    </a:lnTo>
                    <a:lnTo>
                      <a:pt x="32" y="185"/>
                    </a:lnTo>
                    <a:lnTo>
                      <a:pt x="32" y="203"/>
                    </a:lnTo>
                    <a:lnTo>
                      <a:pt x="15" y="220"/>
                    </a:lnTo>
                    <a:lnTo>
                      <a:pt x="15" y="238"/>
                    </a:lnTo>
                    <a:lnTo>
                      <a:pt x="0" y="23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4199040" y="3174840"/>
                <a:ext cx="75960" cy="108000"/>
              </a:xfrm>
              <a:custGeom>
                <a:avLst/>
                <a:gdLst/>
                <a:ahLst/>
                <a:rect l="l" t="t" r="r" b="b"/>
                <a:pathLst>
                  <a:path w="287" h="408">
                    <a:moveTo>
                      <a:pt x="287" y="408"/>
                    </a:moveTo>
                    <a:lnTo>
                      <a:pt x="254" y="390"/>
                    </a:lnTo>
                    <a:lnTo>
                      <a:pt x="220" y="374"/>
                    </a:lnTo>
                    <a:lnTo>
                      <a:pt x="203" y="357"/>
                    </a:lnTo>
                    <a:lnTo>
                      <a:pt x="169" y="339"/>
                    </a:lnTo>
                    <a:lnTo>
                      <a:pt x="153" y="306"/>
                    </a:lnTo>
                    <a:lnTo>
                      <a:pt x="135" y="289"/>
                    </a:lnTo>
                    <a:lnTo>
                      <a:pt x="119" y="255"/>
                    </a:lnTo>
                    <a:lnTo>
                      <a:pt x="102" y="238"/>
                    </a:lnTo>
                    <a:lnTo>
                      <a:pt x="84" y="205"/>
                    </a:lnTo>
                    <a:lnTo>
                      <a:pt x="68" y="170"/>
                    </a:lnTo>
                    <a:lnTo>
                      <a:pt x="50" y="154"/>
                    </a:lnTo>
                    <a:lnTo>
                      <a:pt x="34" y="119"/>
                    </a:lnTo>
                    <a:lnTo>
                      <a:pt x="34" y="86"/>
                    </a:lnTo>
                    <a:lnTo>
                      <a:pt x="18" y="52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4194000" y="307656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152" h="371">
                    <a:moveTo>
                      <a:pt x="17" y="371"/>
                    </a:moveTo>
                    <a:lnTo>
                      <a:pt x="0" y="338"/>
                    </a:lnTo>
                    <a:lnTo>
                      <a:pt x="0" y="322"/>
                    </a:lnTo>
                    <a:lnTo>
                      <a:pt x="0" y="287"/>
                    </a:lnTo>
                    <a:lnTo>
                      <a:pt x="0" y="269"/>
                    </a:lnTo>
                    <a:lnTo>
                      <a:pt x="0" y="237"/>
                    </a:lnTo>
                    <a:lnTo>
                      <a:pt x="17" y="219"/>
                    </a:lnTo>
                    <a:lnTo>
                      <a:pt x="17" y="185"/>
                    </a:lnTo>
                    <a:lnTo>
                      <a:pt x="17" y="168"/>
                    </a:lnTo>
                    <a:lnTo>
                      <a:pt x="35" y="134"/>
                    </a:lnTo>
                    <a:lnTo>
                      <a:pt x="51" y="118"/>
                    </a:lnTo>
                    <a:lnTo>
                      <a:pt x="51" y="99"/>
                    </a:lnTo>
                    <a:lnTo>
                      <a:pt x="67" y="66"/>
                    </a:lnTo>
                    <a:lnTo>
                      <a:pt x="85" y="50"/>
                    </a:lnTo>
                    <a:lnTo>
                      <a:pt x="101" y="33"/>
                    </a:lnTo>
                    <a:lnTo>
                      <a:pt x="119" y="15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970440" y="3386160"/>
                <a:ext cx="569880" cy="2535120"/>
              </a:xfrm>
              <a:custGeom>
                <a:avLst/>
                <a:gdLst/>
                <a:ahLst/>
                <a:rect l="l" t="t" r="r" b="b"/>
                <a:pathLst>
                  <a:path w="2153" h="9577">
                    <a:moveTo>
                      <a:pt x="1695" y="221"/>
                    </a:moveTo>
                    <a:lnTo>
                      <a:pt x="1745" y="322"/>
                    </a:lnTo>
                    <a:lnTo>
                      <a:pt x="1780" y="406"/>
                    </a:lnTo>
                    <a:lnTo>
                      <a:pt x="1814" y="508"/>
                    </a:lnTo>
                    <a:lnTo>
                      <a:pt x="1849" y="609"/>
                    </a:lnTo>
                    <a:lnTo>
                      <a:pt x="1882" y="710"/>
                    </a:lnTo>
                    <a:lnTo>
                      <a:pt x="1898" y="813"/>
                    </a:lnTo>
                    <a:lnTo>
                      <a:pt x="1916" y="914"/>
                    </a:lnTo>
                    <a:lnTo>
                      <a:pt x="1950" y="1017"/>
                    </a:lnTo>
                    <a:lnTo>
                      <a:pt x="1967" y="1118"/>
                    </a:lnTo>
                    <a:lnTo>
                      <a:pt x="1983" y="1220"/>
                    </a:lnTo>
                    <a:lnTo>
                      <a:pt x="2001" y="1321"/>
                    </a:lnTo>
                    <a:lnTo>
                      <a:pt x="2017" y="1424"/>
                    </a:lnTo>
                    <a:lnTo>
                      <a:pt x="2034" y="1525"/>
                    </a:lnTo>
                    <a:lnTo>
                      <a:pt x="2052" y="1627"/>
                    </a:lnTo>
                    <a:lnTo>
                      <a:pt x="2068" y="1728"/>
                    </a:lnTo>
                    <a:lnTo>
                      <a:pt x="2086" y="1830"/>
                    </a:lnTo>
                    <a:lnTo>
                      <a:pt x="2102" y="1982"/>
                    </a:lnTo>
                    <a:lnTo>
                      <a:pt x="2119" y="2134"/>
                    </a:lnTo>
                    <a:lnTo>
                      <a:pt x="2119" y="2288"/>
                    </a:lnTo>
                    <a:lnTo>
                      <a:pt x="2136" y="2440"/>
                    </a:lnTo>
                    <a:lnTo>
                      <a:pt x="2153" y="2593"/>
                    </a:lnTo>
                    <a:lnTo>
                      <a:pt x="2153" y="2745"/>
                    </a:lnTo>
                    <a:lnTo>
                      <a:pt x="2153" y="2898"/>
                    </a:lnTo>
                    <a:lnTo>
                      <a:pt x="2153" y="3050"/>
                    </a:lnTo>
                    <a:lnTo>
                      <a:pt x="2153" y="3202"/>
                    </a:lnTo>
                    <a:lnTo>
                      <a:pt x="2136" y="3356"/>
                    </a:lnTo>
                    <a:lnTo>
                      <a:pt x="2119" y="3508"/>
                    </a:lnTo>
                    <a:lnTo>
                      <a:pt x="2102" y="3644"/>
                    </a:lnTo>
                    <a:lnTo>
                      <a:pt x="2068" y="3795"/>
                    </a:lnTo>
                    <a:lnTo>
                      <a:pt x="2034" y="3932"/>
                    </a:lnTo>
                    <a:lnTo>
                      <a:pt x="2001" y="4084"/>
                    </a:lnTo>
                    <a:lnTo>
                      <a:pt x="1950" y="4221"/>
                    </a:lnTo>
                    <a:lnTo>
                      <a:pt x="1916" y="4338"/>
                    </a:lnTo>
                    <a:lnTo>
                      <a:pt x="1882" y="4440"/>
                    </a:lnTo>
                    <a:lnTo>
                      <a:pt x="1849" y="4541"/>
                    </a:lnTo>
                    <a:lnTo>
                      <a:pt x="1814" y="4660"/>
                    </a:lnTo>
                    <a:lnTo>
                      <a:pt x="1780" y="4762"/>
                    </a:lnTo>
                    <a:lnTo>
                      <a:pt x="1745" y="4863"/>
                    </a:lnTo>
                    <a:lnTo>
                      <a:pt x="1695" y="4967"/>
                    </a:lnTo>
                    <a:lnTo>
                      <a:pt x="1661" y="5068"/>
                    </a:lnTo>
                    <a:lnTo>
                      <a:pt x="1629" y="5170"/>
                    </a:lnTo>
                    <a:lnTo>
                      <a:pt x="1577" y="5289"/>
                    </a:lnTo>
                    <a:lnTo>
                      <a:pt x="1543" y="5390"/>
                    </a:lnTo>
                    <a:lnTo>
                      <a:pt x="1510" y="5491"/>
                    </a:lnTo>
                    <a:lnTo>
                      <a:pt x="1458" y="5593"/>
                    </a:lnTo>
                    <a:lnTo>
                      <a:pt x="1424" y="5694"/>
                    </a:lnTo>
                    <a:lnTo>
                      <a:pt x="1391" y="5797"/>
                    </a:lnTo>
                    <a:lnTo>
                      <a:pt x="1357" y="5916"/>
                    </a:lnTo>
                    <a:lnTo>
                      <a:pt x="1306" y="6000"/>
                    </a:lnTo>
                    <a:lnTo>
                      <a:pt x="1256" y="6085"/>
                    </a:lnTo>
                    <a:lnTo>
                      <a:pt x="1204" y="6186"/>
                    </a:lnTo>
                    <a:lnTo>
                      <a:pt x="1152" y="6270"/>
                    </a:lnTo>
                    <a:lnTo>
                      <a:pt x="1103" y="6355"/>
                    </a:lnTo>
                    <a:lnTo>
                      <a:pt x="1051" y="6458"/>
                    </a:lnTo>
                    <a:lnTo>
                      <a:pt x="1000" y="6542"/>
                    </a:lnTo>
                    <a:lnTo>
                      <a:pt x="949" y="6626"/>
                    </a:lnTo>
                    <a:lnTo>
                      <a:pt x="899" y="6727"/>
                    </a:lnTo>
                    <a:lnTo>
                      <a:pt x="848" y="6814"/>
                    </a:lnTo>
                    <a:lnTo>
                      <a:pt x="796" y="6898"/>
                    </a:lnTo>
                    <a:lnTo>
                      <a:pt x="746" y="6999"/>
                    </a:lnTo>
                    <a:lnTo>
                      <a:pt x="695" y="7085"/>
                    </a:lnTo>
                    <a:lnTo>
                      <a:pt x="645" y="7187"/>
                    </a:lnTo>
                    <a:lnTo>
                      <a:pt x="611" y="7271"/>
                    </a:lnTo>
                    <a:lnTo>
                      <a:pt x="561" y="7356"/>
                    </a:lnTo>
                    <a:lnTo>
                      <a:pt x="543" y="7423"/>
                    </a:lnTo>
                    <a:lnTo>
                      <a:pt x="509" y="7475"/>
                    </a:lnTo>
                    <a:lnTo>
                      <a:pt x="492" y="7542"/>
                    </a:lnTo>
                    <a:lnTo>
                      <a:pt x="475" y="7592"/>
                    </a:lnTo>
                    <a:lnTo>
                      <a:pt x="442" y="7661"/>
                    </a:lnTo>
                    <a:lnTo>
                      <a:pt x="423" y="7711"/>
                    </a:lnTo>
                    <a:lnTo>
                      <a:pt x="408" y="7780"/>
                    </a:lnTo>
                    <a:lnTo>
                      <a:pt x="391" y="7848"/>
                    </a:lnTo>
                    <a:lnTo>
                      <a:pt x="373" y="7914"/>
                    </a:lnTo>
                    <a:lnTo>
                      <a:pt x="373" y="7966"/>
                    </a:lnTo>
                    <a:lnTo>
                      <a:pt x="373" y="8034"/>
                    </a:lnTo>
                    <a:lnTo>
                      <a:pt x="373" y="8102"/>
                    </a:lnTo>
                    <a:lnTo>
                      <a:pt x="373" y="8153"/>
                    </a:lnTo>
                    <a:lnTo>
                      <a:pt x="408" y="8221"/>
                    </a:lnTo>
                    <a:lnTo>
                      <a:pt x="423" y="8272"/>
                    </a:lnTo>
                    <a:lnTo>
                      <a:pt x="458" y="8339"/>
                    </a:lnTo>
                    <a:lnTo>
                      <a:pt x="526" y="8373"/>
                    </a:lnTo>
                    <a:lnTo>
                      <a:pt x="594" y="8406"/>
                    </a:lnTo>
                    <a:lnTo>
                      <a:pt x="662" y="8440"/>
                    </a:lnTo>
                    <a:lnTo>
                      <a:pt x="712" y="8457"/>
                    </a:lnTo>
                    <a:lnTo>
                      <a:pt x="796" y="8491"/>
                    </a:lnTo>
                    <a:lnTo>
                      <a:pt x="865" y="8509"/>
                    </a:lnTo>
                    <a:lnTo>
                      <a:pt x="933" y="8525"/>
                    </a:lnTo>
                    <a:lnTo>
                      <a:pt x="1000" y="8541"/>
                    </a:lnTo>
                    <a:lnTo>
                      <a:pt x="1068" y="8559"/>
                    </a:lnTo>
                    <a:lnTo>
                      <a:pt x="1137" y="8576"/>
                    </a:lnTo>
                    <a:lnTo>
                      <a:pt x="1204" y="8594"/>
                    </a:lnTo>
                    <a:lnTo>
                      <a:pt x="1288" y="8610"/>
                    </a:lnTo>
                    <a:lnTo>
                      <a:pt x="1357" y="8628"/>
                    </a:lnTo>
                    <a:lnTo>
                      <a:pt x="1424" y="8644"/>
                    </a:lnTo>
                    <a:lnTo>
                      <a:pt x="1491" y="8660"/>
                    </a:lnTo>
                    <a:lnTo>
                      <a:pt x="1560" y="8678"/>
                    </a:lnTo>
                    <a:lnTo>
                      <a:pt x="1577" y="8678"/>
                    </a:lnTo>
                    <a:lnTo>
                      <a:pt x="1577" y="8695"/>
                    </a:lnTo>
                    <a:lnTo>
                      <a:pt x="1577" y="8712"/>
                    </a:lnTo>
                    <a:lnTo>
                      <a:pt x="1560" y="8712"/>
                    </a:lnTo>
                    <a:lnTo>
                      <a:pt x="1560" y="8729"/>
                    </a:lnTo>
                    <a:lnTo>
                      <a:pt x="1543" y="8729"/>
                    </a:lnTo>
                    <a:lnTo>
                      <a:pt x="1525" y="8729"/>
                    </a:lnTo>
                    <a:lnTo>
                      <a:pt x="1510" y="8729"/>
                    </a:lnTo>
                    <a:lnTo>
                      <a:pt x="1491" y="8744"/>
                    </a:lnTo>
                    <a:lnTo>
                      <a:pt x="1476" y="8744"/>
                    </a:lnTo>
                    <a:lnTo>
                      <a:pt x="1407" y="8744"/>
                    </a:lnTo>
                    <a:lnTo>
                      <a:pt x="1340" y="8762"/>
                    </a:lnTo>
                    <a:lnTo>
                      <a:pt x="1271" y="8762"/>
                    </a:lnTo>
                    <a:lnTo>
                      <a:pt x="1204" y="8762"/>
                    </a:lnTo>
                    <a:lnTo>
                      <a:pt x="1137" y="8762"/>
                    </a:lnTo>
                    <a:lnTo>
                      <a:pt x="1068" y="8762"/>
                    </a:lnTo>
                    <a:lnTo>
                      <a:pt x="1000" y="8762"/>
                    </a:lnTo>
                    <a:lnTo>
                      <a:pt x="933" y="8762"/>
                    </a:lnTo>
                    <a:lnTo>
                      <a:pt x="865" y="8762"/>
                    </a:lnTo>
                    <a:lnTo>
                      <a:pt x="796" y="8744"/>
                    </a:lnTo>
                    <a:lnTo>
                      <a:pt x="730" y="8744"/>
                    </a:lnTo>
                    <a:lnTo>
                      <a:pt x="662" y="8744"/>
                    </a:lnTo>
                    <a:lnTo>
                      <a:pt x="594" y="8744"/>
                    </a:lnTo>
                    <a:lnTo>
                      <a:pt x="526" y="8729"/>
                    </a:lnTo>
                    <a:lnTo>
                      <a:pt x="458" y="8729"/>
                    </a:lnTo>
                    <a:lnTo>
                      <a:pt x="391" y="8729"/>
                    </a:lnTo>
                    <a:lnTo>
                      <a:pt x="391" y="8678"/>
                    </a:lnTo>
                    <a:lnTo>
                      <a:pt x="391" y="8628"/>
                    </a:lnTo>
                    <a:lnTo>
                      <a:pt x="391" y="8576"/>
                    </a:lnTo>
                    <a:lnTo>
                      <a:pt x="373" y="8525"/>
                    </a:lnTo>
                    <a:lnTo>
                      <a:pt x="373" y="8475"/>
                    </a:lnTo>
                    <a:lnTo>
                      <a:pt x="357" y="8440"/>
                    </a:lnTo>
                    <a:lnTo>
                      <a:pt x="357" y="8390"/>
                    </a:lnTo>
                    <a:lnTo>
                      <a:pt x="339" y="8339"/>
                    </a:lnTo>
                    <a:lnTo>
                      <a:pt x="323" y="8287"/>
                    </a:lnTo>
                    <a:lnTo>
                      <a:pt x="323" y="8237"/>
                    </a:lnTo>
                    <a:lnTo>
                      <a:pt x="307" y="8186"/>
                    </a:lnTo>
                    <a:lnTo>
                      <a:pt x="307" y="8136"/>
                    </a:lnTo>
                    <a:lnTo>
                      <a:pt x="307" y="8084"/>
                    </a:lnTo>
                    <a:lnTo>
                      <a:pt x="307" y="8034"/>
                    </a:lnTo>
                    <a:lnTo>
                      <a:pt x="307" y="7983"/>
                    </a:lnTo>
                    <a:lnTo>
                      <a:pt x="323" y="7933"/>
                    </a:lnTo>
                    <a:lnTo>
                      <a:pt x="339" y="7848"/>
                    </a:lnTo>
                    <a:lnTo>
                      <a:pt x="357" y="7763"/>
                    </a:lnTo>
                    <a:lnTo>
                      <a:pt x="391" y="7679"/>
                    </a:lnTo>
                    <a:lnTo>
                      <a:pt x="408" y="7592"/>
                    </a:lnTo>
                    <a:lnTo>
                      <a:pt x="442" y="7508"/>
                    </a:lnTo>
                    <a:lnTo>
                      <a:pt x="475" y="7441"/>
                    </a:lnTo>
                    <a:lnTo>
                      <a:pt x="509" y="7356"/>
                    </a:lnTo>
                    <a:lnTo>
                      <a:pt x="543" y="7271"/>
                    </a:lnTo>
                    <a:lnTo>
                      <a:pt x="576" y="7204"/>
                    </a:lnTo>
                    <a:lnTo>
                      <a:pt x="611" y="7118"/>
                    </a:lnTo>
                    <a:lnTo>
                      <a:pt x="662" y="7034"/>
                    </a:lnTo>
                    <a:lnTo>
                      <a:pt x="695" y="6966"/>
                    </a:lnTo>
                    <a:lnTo>
                      <a:pt x="730" y="6881"/>
                    </a:lnTo>
                    <a:lnTo>
                      <a:pt x="781" y="6814"/>
                    </a:lnTo>
                    <a:lnTo>
                      <a:pt x="814" y="6727"/>
                    </a:lnTo>
                    <a:lnTo>
                      <a:pt x="865" y="6643"/>
                    </a:lnTo>
                    <a:lnTo>
                      <a:pt x="865" y="6626"/>
                    </a:lnTo>
                    <a:lnTo>
                      <a:pt x="883" y="6611"/>
                    </a:lnTo>
                    <a:lnTo>
                      <a:pt x="883" y="6593"/>
                    </a:lnTo>
                    <a:lnTo>
                      <a:pt x="899" y="6576"/>
                    </a:lnTo>
                    <a:lnTo>
                      <a:pt x="899" y="6559"/>
                    </a:lnTo>
                    <a:lnTo>
                      <a:pt x="915" y="6542"/>
                    </a:lnTo>
                    <a:lnTo>
                      <a:pt x="915" y="6525"/>
                    </a:lnTo>
                    <a:lnTo>
                      <a:pt x="933" y="6507"/>
                    </a:lnTo>
                    <a:lnTo>
                      <a:pt x="949" y="6492"/>
                    </a:lnTo>
                    <a:lnTo>
                      <a:pt x="949" y="6474"/>
                    </a:lnTo>
                    <a:lnTo>
                      <a:pt x="967" y="6458"/>
                    </a:lnTo>
                    <a:lnTo>
                      <a:pt x="967" y="6440"/>
                    </a:lnTo>
                    <a:lnTo>
                      <a:pt x="984" y="6423"/>
                    </a:lnTo>
                    <a:lnTo>
                      <a:pt x="984" y="6407"/>
                    </a:lnTo>
                    <a:lnTo>
                      <a:pt x="1000" y="6389"/>
                    </a:lnTo>
                    <a:lnTo>
                      <a:pt x="1018" y="6373"/>
                    </a:lnTo>
                    <a:lnTo>
                      <a:pt x="1000" y="6373"/>
                    </a:lnTo>
                    <a:lnTo>
                      <a:pt x="1000" y="6355"/>
                    </a:lnTo>
                    <a:lnTo>
                      <a:pt x="984" y="6355"/>
                    </a:lnTo>
                    <a:lnTo>
                      <a:pt x="933" y="6423"/>
                    </a:lnTo>
                    <a:lnTo>
                      <a:pt x="899" y="6507"/>
                    </a:lnTo>
                    <a:lnTo>
                      <a:pt x="848" y="6576"/>
                    </a:lnTo>
                    <a:lnTo>
                      <a:pt x="814" y="6661"/>
                    </a:lnTo>
                    <a:lnTo>
                      <a:pt x="764" y="6727"/>
                    </a:lnTo>
                    <a:lnTo>
                      <a:pt x="730" y="6814"/>
                    </a:lnTo>
                    <a:lnTo>
                      <a:pt x="680" y="6881"/>
                    </a:lnTo>
                    <a:lnTo>
                      <a:pt x="645" y="6966"/>
                    </a:lnTo>
                    <a:lnTo>
                      <a:pt x="594" y="7050"/>
                    </a:lnTo>
                    <a:lnTo>
                      <a:pt x="561" y="7118"/>
                    </a:lnTo>
                    <a:lnTo>
                      <a:pt x="526" y="7204"/>
                    </a:lnTo>
                    <a:lnTo>
                      <a:pt x="475" y="7271"/>
                    </a:lnTo>
                    <a:lnTo>
                      <a:pt x="442" y="7356"/>
                    </a:lnTo>
                    <a:lnTo>
                      <a:pt x="408" y="7441"/>
                    </a:lnTo>
                    <a:lnTo>
                      <a:pt x="373" y="7526"/>
                    </a:lnTo>
                    <a:lnTo>
                      <a:pt x="339" y="7610"/>
                    </a:lnTo>
                    <a:lnTo>
                      <a:pt x="339" y="7644"/>
                    </a:lnTo>
                    <a:lnTo>
                      <a:pt x="323" y="7679"/>
                    </a:lnTo>
                    <a:lnTo>
                      <a:pt x="323" y="7711"/>
                    </a:lnTo>
                    <a:lnTo>
                      <a:pt x="307" y="7763"/>
                    </a:lnTo>
                    <a:lnTo>
                      <a:pt x="307" y="7795"/>
                    </a:lnTo>
                    <a:lnTo>
                      <a:pt x="289" y="7830"/>
                    </a:lnTo>
                    <a:lnTo>
                      <a:pt x="272" y="7881"/>
                    </a:lnTo>
                    <a:lnTo>
                      <a:pt x="272" y="7914"/>
                    </a:lnTo>
                    <a:lnTo>
                      <a:pt x="254" y="7949"/>
                    </a:lnTo>
                    <a:lnTo>
                      <a:pt x="254" y="8000"/>
                    </a:lnTo>
                    <a:lnTo>
                      <a:pt x="254" y="8034"/>
                    </a:lnTo>
                    <a:lnTo>
                      <a:pt x="238" y="8067"/>
                    </a:lnTo>
                    <a:lnTo>
                      <a:pt x="238" y="8118"/>
                    </a:lnTo>
                    <a:lnTo>
                      <a:pt x="238" y="8153"/>
                    </a:lnTo>
                    <a:lnTo>
                      <a:pt x="254" y="8203"/>
                    </a:lnTo>
                    <a:lnTo>
                      <a:pt x="254" y="8237"/>
                    </a:lnTo>
                    <a:lnTo>
                      <a:pt x="272" y="8287"/>
                    </a:lnTo>
                    <a:lnTo>
                      <a:pt x="289" y="8339"/>
                    </a:lnTo>
                    <a:lnTo>
                      <a:pt x="307" y="8390"/>
                    </a:lnTo>
                    <a:lnTo>
                      <a:pt x="323" y="8457"/>
                    </a:lnTo>
                    <a:lnTo>
                      <a:pt x="323" y="8509"/>
                    </a:lnTo>
                    <a:lnTo>
                      <a:pt x="339" y="8576"/>
                    </a:lnTo>
                    <a:lnTo>
                      <a:pt x="339" y="8628"/>
                    </a:lnTo>
                    <a:lnTo>
                      <a:pt x="339" y="8695"/>
                    </a:lnTo>
                    <a:lnTo>
                      <a:pt x="339" y="8744"/>
                    </a:lnTo>
                    <a:lnTo>
                      <a:pt x="339" y="8813"/>
                    </a:lnTo>
                    <a:lnTo>
                      <a:pt x="339" y="8863"/>
                    </a:lnTo>
                    <a:lnTo>
                      <a:pt x="339" y="8932"/>
                    </a:lnTo>
                    <a:lnTo>
                      <a:pt x="339" y="8982"/>
                    </a:lnTo>
                    <a:lnTo>
                      <a:pt x="339" y="9051"/>
                    </a:lnTo>
                    <a:lnTo>
                      <a:pt x="339" y="9102"/>
                    </a:lnTo>
                    <a:lnTo>
                      <a:pt x="357" y="9170"/>
                    </a:lnTo>
                    <a:lnTo>
                      <a:pt x="357" y="9236"/>
                    </a:lnTo>
                    <a:lnTo>
                      <a:pt x="373" y="9322"/>
                    </a:lnTo>
                    <a:lnTo>
                      <a:pt x="391" y="9390"/>
                    </a:lnTo>
                    <a:lnTo>
                      <a:pt x="391" y="9474"/>
                    </a:lnTo>
                    <a:lnTo>
                      <a:pt x="408" y="9559"/>
                    </a:lnTo>
                    <a:lnTo>
                      <a:pt x="408" y="9577"/>
                    </a:lnTo>
                    <a:lnTo>
                      <a:pt x="373" y="9577"/>
                    </a:lnTo>
                    <a:lnTo>
                      <a:pt x="357" y="9559"/>
                    </a:lnTo>
                    <a:lnTo>
                      <a:pt x="339" y="9543"/>
                    </a:lnTo>
                    <a:lnTo>
                      <a:pt x="323" y="9525"/>
                    </a:lnTo>
                    <a:lnTo>
                      <a:pt x="307" y="9508"/>
                    </a:lnTo>
                    <a:lnTo>
                      <a:pt x="307" y="9492"/>
                    </a:lnTo>
                    <a:lnTo>
                      <a:pt x="188" y="9221"/>
                    </a:lnTo>
                    <a:lnTo>
                      <a:pt x="102" y="8932"/>
                    </a:lnTo>
                    <a:lnTo>
                      <a:pt x="35" y="8628"/>
                    </a:lnTo>
                    <a:lnTo>
                      <a:pt x="0" y="8339"/>
                    </a:lnTo>
                    <a:lnTo>
                      <a:pt x="0" y="8017"/>
                    </a:lnTo>
                    <a:lnTo>
                      <a:pt x="0" y="7914"/>
                    </a:lnTo>
                    <a:lnTo>
                      <a:pt x="35" y="7814"/>
                    </a:lnTo>
                    <a:lnTo>
                      <a:pt x="51" y="7694"/>
                    </a:lnTo>
                    <a:lnTo>
                      <a:pt x="51" y="7575"/>
                    </a:lnTo>
                    <a:lnTo>
                      <a:pt x="69" y="7457"/>
                    </a:lnTo>
                    <a:lnTo>
                      <a:pt x="85" y="7338"/>
                    </a:lnTo>
                    <a:lnTo>
                      <a:pt x="85" y="7305"/>
                    </a:lnTo>
                    <a:lnTo>
                      <a:pt x="119" y="7118"/>
                    </a:lnTo>
                    <a:lnTo>
                      <a:pt x="153" y="6932"/>
                    </a:lnTo>
                    <a:lnTo>
                      <a:pt x="188" y="6745"/>
                    </a:lnTo>
                    <a:lnTo>
                      <a:pt x="238" y="6559"/>
                    </a:lnTo>
                    <a:lnTo>
                      <a:pt x="272" y="6373"/>
                    </a:lnTo>
                    <a:lnTo>
                      <a:pt x="289" y="6322"/>
                    </a:lnTo>
                    <a:lnTo>
                      <a:pt x="339" y="6101"/>
                    </a:lnTo>
                    <a:lnTo>
                      <a:pt x="391" y="5881"/>
                    </a:lnTo>
                    <a:lnTo>
                      <a:pt x="442" y="5662"/>
                    </a:lnTo>
                    <a:lnTo>
                      <a:pt x="492" y="5439"/>
                    </a:lnTo>
                    <a:lnTo>
                      <a:pt x="543" y="5220"/>
                    </a:lnTo>
                    <a:lnTo>
                      <a:pt x="576" y="5135"/>
                    </a:lnTo>
                    <a:lnTo>
                      <a:pt x="576" y="5068"/>
                    </a:lnTo>
                    <a:lnTo>
                      <a:pt x="594" y="4982"/>
                    </a:lnTo>
                    <a:lnTo>
                      <a:pt x="594" y="4898"/>
                    </a:lnTo>
                    <a:lnTo>
                      <a:pt x="594" y="4813"/>
                    </a:lnTo>
                    <a:lnTo>
                      <a:pt x="594" y="4744"/>
                    </a:lnTo>
                    <a:lnTo>
                      <a:pt x="576" y="4712"/>
                    </a:lnTo>
                    <a:lnTo>
                      <a:pt x="576" y="4610"/>
                    </a:lnTo>
                    <a:lnTo>
                      <a:pt x="561" y="4509"/>
                    </a:lnTo>
                    <a:lnTo>
                      <a:pt x="543" y="4406"/>
                    </a:lnTo>
                    <a:lnTo>
                      <a:pt x="543" y="4305"/>
                    </a:lnTo>
                    <a:lnTo>
                      <a:pt x="526" y="4203"/>
                    </a:lnTo>
                    <a:lnTo>
                      <a:pt x="526" y="4168"/>
                    </a:lnTo>
                    <a:lnTo>
                      <a:pt x="509" y="3932"/>
                    </a:lnTo>
                    <a:lnTo>
                      <a:pt x="475" y="3694"/>
                    </a:lnTo>
                    <a:lnTo>
                      <a:pt x="458" y="3457"/>
                    </a:lnTo>
                    <a:lnTo>
                      <a:pt x="442" y="3219"/>
                    </a:lnTo>
                    <a:lnTo>
                      <a:pt x="442" y="2983"/>
                    </a:lnTo>
                    <a:lnTo>
                      <a:pt x="442" y="2898"/>
                    </a:lnTo>
                    <a:lnTo>
                      <a:pt x="423" y="2762"/>
                    </a:lnTo>
                    <a:lnTo>
                      <a:pt x="423" y="2643"/>
                    </a:lnTo>
                    <a:lnTo>
                      <a:pt x="423" y="2507"/>
                    </a:lnTo>
                    <a:lnTo>
                      <a:pt x="408" y="2373"/>
                    </a:lnTo>
                    <a:lnTo>
                      <a:pt x="391" y="2254"/>
                    </a:lnTo>
                    <a:lnTo>
                      <a:pt x="391" y="2220"/>
                    </a:lnTo>
                    <a:lnTo>
                      <a:pt x="391" y="2134"/>
                    </a:lnTo>
                    <a:lnTo>
                      <a:pt x="408" y="2067"/>
                    </a:lnTo>
                    <a:lnTo>
                      <a:pt x="408" y="1982"/>
                    </a:lnTo>
                    <a:lnTo>
                      <a:pt x="408" y="1915"/>
                    </a:lnTo>
                    <a:lnTo>
                      <a:pt x="408" y="1830"/>
                    </a:lnTo>
                    <a:lnTo>
                      <a:pt x="408" y="1813"/>
                    </a:lnTo>
                    <a:lnTo>
                      <a:pt x="408" y="1728"/>
                    </a:lnTo>
                    <a:lnTo>
                      <a:pt x="408" y="1662"/>
                    </a:lnTo>
                    <a:lnTo>
                      <a:pt x="391" y="1593"/>
                    </a:lnTo>
                    <a:lnTo>
                      <a:pt x="391" y="1525"/>
                    </a:lnTo>
                    <a:lnTo>
                      <a:pt x="408" y="1439"/>
                    </a:lnTo>
                    <a:lnTo>
                      <a:pt x="408" y="1424"/>
                    </a:lnTo>
                    <a:lnTo>
                      <a:pt x="408" y="1305"/>
                    </a:lnTo>
                    <a:lnTo>
                      <a:pt x="408" y="1186"/>
                    </a:lnTo>
                    <a:lnTo>
                      <a:pt x="442" y="1066"/>
                    </a:lnTo>
                    <a:lnTo>
                      <a:pt x="458" y="967"/>
                    </a:lnTo>
                    <a:lnTo>
                      <a:pt x="475" y="847"/>
                    </a:lnTo>
                    <a:lnTo>
                      <a:pt x="492" y="813"/>
                    </a:lnTo>
                    <a:lnTo>
                      <a:pt x="543" y="644"/>
                    </a:lnTo>
                    <a:lnTo>
                      <a:pt x="627" y="490"/>
                    </a:lnTo>
                    <a:lnTo>
                      <a:pt x="730" y="338"/>
                    </a:lnTo>
                    <a:lnTo>
                      <a:pt x="848" y="221"/>
                    </a:lnTo>
                    <a:lnTo>
                      <a:pt x="1000" y="102"/>
                    </a:lnTo>
                    <a:lnTo>
                      <a:pt x="1051" y="84"/>
                    </a:lnTo>
                    <a:lnTo>
                      <a:pt x="1137" y="33"/>
                    </a:lnTo>
                    <a:lnTo>
                      <a:pt x="1238" y="17"/>
                    </a:lnTo>
                    <a:lnTo>
                      <a:pt x="1322" y="0"/>
                    </a:lnTo>
                    <a:lnTo>
                      <a:pt x="1424" y="17"/>
                    </a:lnTo>
                    <a:lnTo>
                      <a:pt x="1510" y="50"/>
                    </a:lnTo>
                    <a:lnTo>
                      <a:pt x="1543" y="67"/>
                    </a:lnTo>
                    <a:lnTo>
                      <a:pt x="1577" y="102"/>
                    </a:lnTo>
                    <a:lnTo>
                      <a:pt x="1611" y="118"/>
                    </a:lnTo>
                    <a:lnTo>
                      <a:pt x="1644" y="152"/>
                    </a:lnTo>
                    <a:lnTo>
                      <a:pt x="1661" y="186"/>
                    </a:lnTo>
                    <a:lnTo>
                      <a:pt x="1695" y="221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417920" y="3444840"/>
                <a:ext cx="104760" cy="425520"/>
              </a:xfrm>
              <a:custGeom>
                <a:avLst/>
                <a:gdLst/>
                <a:ahLst/>
                <a:rect l="l" t="t" r="r" b="b"/>
                <a:pathLst>
                  <a:path w="391" h="1609">
                    <a:moveTo>
                      <a:pt x="0" y="0"/>
                    </a:moveTo>
                    <a:lnTo>
                      <a:pt x="50" y="101"/>
                    </a:lnTo>
                    <a:lnTo>
                      <a:pt x="85" y="185"/>
                    </a:lnTo>
                    <a:lnTo>
                      <a:pt x="119" y="287"/>
                    </a:lnTo>
                    <a:lnTo>
                      <a:pt x="154" y="388"/>
                    </a:lnTo>
                    <a:lnTo>
                      <a:pt x="187" y="489"/>
                    </a:lnTo>
                    <a:lnTo>
                      <a:pt x="203" y="592"/>
                    </a:lnTo>
                    <a:lnTo>
                      <a:pt x="221" y="693"/>
                    </a:lnTo>
                    <a:lnTo>
                      <a:pt x="255" y="796"/>
                    </a:lnTo>
                    <a:lnTo>
                      <a:pt x="272" y="897"/>
                    </a:lnTo>
                    <a:lnTo>
                      <a:pt x="288" y="999"/>
                    </a:lnTo>
                    <a:lnTo>
                      <a:pt x="306" y="1100"/>
                    </a:lnTo>
                    <a:lnTo>
                      <a:pt x="322" y="1203"/>
                    </a:lnTo>
                    <a:lnTo>
                      <a:pt x="339" y="1304"/>
                    </a:lnTo>
                    <a:lnTo>
                      <a:pt x="357" y="1406"/>
                    </a:lnTo>
                    <a:lnTo>
                      <a:pt x="373" y="1507"/>
                    </a:lnTo>
                    <a:lnTo>
                      <a:pt x="391" y="16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4486320" y="3870360"/>
                <a:ext cx="54000" cy="633240"/>
              </a:xfrm>
              <a:custGeom>
                <a:avLst/>
                <a:gdLst/>
                <a:ahLst/>
                <a:rect l="l" t="t" r="r" b="b"/>
                <a:pathLst>
                  <a:path w="203" h="2391">
                    <a:moveTo>
                      <a:pt x="136" y="0"/>
                    </a:moveTo>
                    <a:lnTo>
                      <a:pt x="152" y="152"/>
                    </a:lnTo>
                    <a:lnTo>
                      <a:pt x="169" y="304"/>
                    </a:lnTo>
                    <a:lnTo>
                      <a:pt x="169" y="458"/>
                    </a:lnTo>
                    <a:lnTo>
                      <a:pt x="186" y="610"/>
                    </a:lnTo>
                    <a:lnTo>
                      <a:pt x="203" y="763"/>
                    </a:lnTo>
                    <a:lnTo>
                      <a:pt x="203" y="915"/>
                    </a:lnTo>
                    <a:lnTo>
                      <a:pt x="203" y="1068"/>
                    </a:lnTo>
                    <a:lnTo>
                      <a:pt x="203" y="1220"/>
                    </a:lnTo>
                    <a:lnTo>
                      <a:pt x="203" y="1372"/>
                    </a:lnTo>
                    <a:lnTo>
                      <a:pt x="186" y="1526"/>
                    </a:lnTo>
                    <a:lnTo>
                      <a:pt x="169" y="1678"/>
                    </a:lnTo>
                    <a:lnTo>
                      <a:pt x="152" y="1814"/>
                    </a:lnTo>
                    <a:lnTo>
                      <a:pt x="118" y="1965"/>
                    </a:lnTo>
                    <a:lnTo>
                      <a:pt x="84" y="2102"/>
                    </a:lnTo>
                    <a:lnTo>
                      <a:pt x="51" y="2254"/>
                    </a:lnTo>
                    <a:lnTo>
                      <a:pt x="0" y="23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4329000" y="4503600"/>
                <a:ext cx="157320" cy="447840"/>
              </a:xfrm>
              <a:custGeom>
                <a:avLst/>
                <a:gdLst/>
                <a:ahLst/>
                <a:rect l="l" t="t" r="r" b="b"/>
                <a:pathLst>
                  <a:path w="593" h="1695">
                    <a:moveTo>
                      <a:pt x="593" y="0"/>
                    </a:moveTo>
                    <a:lnTo>
                      <a:pt x="559" y="117"/>
                    </a:lnTo>
                    <a:lnTo>
                      <a:pt x="525" y="219"/>
                    </a:lnTo>
                    <a:lnTo>
                      <a:pt x="492" y="320"/>
                    </a:lnTo>
                    <a:lnTo>
                      <a:pt x="457" y="439"/>
                    </a:lnTo>
                    <a:lnTo>
                      <a:pt x="423" y="541"/>
                    </a:lnTo>
                    <a:lnTo>
                      <a:pt x="388" y="642"/>
                    </a:lnTo>
                    <a:lnTo>
                      <a:pt x="338" y="746"/>
                    </a:lnTo>
                    <a:lnTo>
                      <a:pt x="304" y="847"/>
                    </a:lnTo>
                    <a:lnTo>
                      <a:pt x="272" y="949"/>
                    </a:lnTo>
                    <a:lnTo>
                      <a:pt x="220" y="1068"/>
                    </a:lnTo>
                    <a:lnTo>
                      <a:pt x="186" y="1169"/>
                    </a:lnTo>
                    <a:lnTo>
                      <a:pt x="153" y="1270"/>
                    </a:lnTo>
                    <a:lnTo>
                      <a:pt x="101" y="1372"/>
                    </a:lnTo>
                    <a:lnTo>
                      <a:pt x="67" y="1473"/>
                    </a:lnTo>
                    <a:lnTo>
                      <a:pt x="34" y="1576"/>
                    </a:lnTo>
                    <a:lnTo>
                      <a:pt x="0" y="16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4118040" y="4951440"/>
                <a:ext cx="210960" cy="380880"/>
              </a:xfrm>
              <a:custGeom>
                <a:avLst/>
                <a:gdLst/>
                <a:ahLst/>
                <a:rect l="l" t="t" r="r" b="b"/>
                <a:pathLst>
                  <a:path w="796" h="1440">
                    <a:moveTo>
                      <a:pt x="796" y="0"/>
                    </a:moveTo>
                    <a:lnTo>
                      <a:pt x="745" y="84"/>
                    </a:lnTo>
                    <a:lnTo>
                      <a:pt x="695" y="169"/>
                    </a:lnTo>
                    <a:lnTo>
                      <a:pt x="643" y="270"/>
                    </a:lnTo>
                    <a:lnTo>
                      <a:pt x="591" y="354"/>
                    </a:lnTo>
                    <a:lnTo>
                      <a:pt x="542" y="439"/>
                    </a:lnTo>
                    <a:lnTo>
                      <a:pt x="490" y="542"/>
                    </a:lnTo>
                    <a:lnTo>
                      <a:pt x="439" y="626"/>
                    </a:lnTo>
                    <a:lnTo>
                      <a:pt x="388" y="710"/>
                    </a:lnTo>
                    <a:lnTo>
                      <a:pt x="338" y="811"/>
                    </a:lnTo>
                    <a:lnTo>
                      <a:pt x="287" y="898"/>
                    </a:lnTo>
                    <a:lnTo>
                      <a:pt x="235" y="982"/>
                    </a:lnTo>
                    <a:lnTo>
                      <a:pt x="185" y="1083"/>
                    </a:lnTo>
                    <a:lnTo>
                      <a:pt x="134" y="1169"/>
                    </a:lnTo>
                    <a:lnTo>
                      <a:pt x="84" y="1271"/>
                    </a:lnTo>
                    <a:lnTo>
                      <a:pt x="50" y="1355"/>
                    </a:lnTo>
                    <a:lnTo>
                      <a:pt x="0" y="14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4068720" y="5332320"/>
                <a:ext cx="49320" cy="260280"/>
              </a:xfrm>
              <a:custGeom>
                <a:avLst/>
                <a:gdLst/>
                <a:ahLst/>
                <a:rect l="l" t="t" r="r" b="b"/>
                <a:pathLst>
                  <a:path w="188" h="983">
                    <a:moveTo>
                      <a:pt x="188" y="0"/>
                    </a:moveTo>
                    <a:lnTo>
                      <a:pt x="170" y="67"/>
                    </a:lnTo>
                    <a:lnTo>
                      <a:pt x="136" y="119"/>
                    </a:lnTo>
                    <a:lnTo>
                      <a:pt x="119" y="186"/>
                    </a:lnTo>
                    <a:lnTo>
                      <a:pt x="102" y="236"/>
                    </a:lnTo>
                    <a:lnTo>
                      <a:pt x="69" y="305"/>
                    </a:lnTo>
                    <a:lnTo>
                      <a:pt x="50" y="355"/>
                    </a:lnTo>
                    <a:lnTo>
                      <a:pt x="35" y="424"/>
                    </a:lnTo>
                    <a:lnTo>
                      <a:pt x="18" y="492"/>
                    </a:lnTo>
                    <a:lnTo>
                      <a:pt x="0" y="558"/>
                    </a:lnTo>
                    <a:lnTo>
                      <a:pt x="0" y="610"/>
                    </a:lnTo>
                    <a:lnTo>
                      <a:pt x="0" y="678"/>
                    </a:lnTo>
                    <a:lnTo>
                      <a:pt x="0" y="746"/>
                    </a:lnTo>
                    <a:lnTo>
                      <a:pt x="0" y="797"/>
                    </a:lnTo>
                    <a:lnTo>
                      <a:pt x="35" y="865"/>
                    </a:lnTo>
                    <a:lnTo>
                      <a:pt x="50" y="916"/>
                    </a:lnTo>
                    <a:lnTo>
                      <a:pt x="85" y="9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91040" y="5592600"/>
                <a:ext cx="291960" cy="90720"/>
              </a:xfrm>
              <a:custGeom>
                <a:avLst/>
                <a:gdLst/>
                <a:ahLst/>
                <a:rect l="l" t="t" r="r" b="b"/>
                <a:pathLst>
                  <a:path w="1102" h="339">
                    <a:moveTo>
                      <a:pt x="0" y="0"/>
                    </a:moveTo>
                    <a:lnTo>
                      <a:pt x="68" y="34"/>
                    </a:lnTo>
                    <a:lnTo>
                      <a:pt x="136" y="67"/>
                    </a:lnTo>
                    <a:lnTo>
                      <a:pt x="204" y="101"/>
                    </a:lnTo>
                    <a:lnTo>
                      <a:pt x="254" y="118"/>
                    </a:lnTo>
                    <a:lnTo>
                      <a:pt x="338" y="152"/>
                    </a:lnTo>
                    <a:lnTo>
                      <a:pt x="407" y="170"/>
                    </a:lnTo>
                    <a:lnTo>
                      <a:pt x="475" y="186"/>
                    </a:lnTo>
                    <a:lnTo>
                      <a:pt x="542" y="202"/>
                    </a:lnTo>
                    <a:lnTo>
                      <a:pt x="610" y="220"/>
                    </a:lnTo>
                    <a:lnTo>
                      <a:pt x="679" y="237"/>
                    </a:lnTo>
                    <a:lnTo>
                      <a:pt x="746" y="255"/>
                    </a:lnTo>
                    <a:lnTo>
                      <a:pt x="830" y="271"/>
                    </a:lnTo>
                    <a:lnTo>
                      <a:pt x="899" y="289"/>
                    </a:lnTo>
                    <a:lnTo>
                      <a:pt x="966" y="305"/>
                    </a:lnTo>
                    <a:lnTo>
                      <a:pt x="1033" y="321"/>
                    </a:lnTo>
                    <a:lnTo>
                      <a:pt x="1102" y="33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051440" y="5486400"/>
                <a:ext cx="21960" cy="209520"/>
              </a:xfrm>
              <a:custGeom>
                <a:avLst/>
                <a:gdLst/>
                <a:ahLst/>
                <a:rect l="l" t="t" r="r" b="b"/>
                <a:pathLst>
                  <a:path w="84" h="796">
                    <a:moveTo>
                      <a:pt x="84" y="796"/>
                    </a:moveTo>
                    <a:lnTo>
                      <a:pt x="84" y="745"/>
                    </a:lnTo>
                    <a:lnTo>
                      <a:pt x="84" y="695"/>
                    </a:lnTo>
                    <a:lnTo>
                      <a:pt x="84" y="643"/>
                    </a:lnTo>
                    <a:lnTo>
                      <a:pt x="66" y="592"/>
                    </a:lnTo>
                    <a:lnTo>
                      <a:pt x="66" y="542"/>
                    </a:lnTo>
                    <a:lnTo>
                      <a:pt x="50" y="507"/>
                    </a:lnTo>
                    <a:lnTo>
                      <a:pt x="50" y="457"/>
                    </a:lnTo>
                    <a:lnTo>
                      <a:pt x="32" y="406"/>
                    </a:lnTo>
                    <a:lnTo>
                      <a:pt x="16" y="354"/>
                    </a:lnTo>
                    <a:lnTo>
                      <a:pt x="16" y="304"/>
                    </a:lnTo>
                    <a:lnTo>
                      <a:pt x="0" y="253"/>
                    </a:lnTo>
                    <a:lnTo>
                      <a:pt x="0" y="203"/>
                    </a:lnTo>
                    <a:lnTo>
                      <a:pt x="0" y="151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056120" y="5143680"/>
                <a:ext cx="142920" cy="342720"/>
              </a:xfrm>
              <a:custGeom>
                <a:avLst/>
                <a:gdLst/>
                <a:ahLst/>
                <a:rect l="l" t="t" r="r" b="b"/>
                <a:pathLst>
                  <a:path w="542" h="1290">
                    <a:moveTo>
                      <a:pt x="0" y="1290"/>
                    </a:moveTo>
                    <a:lnTo>
                      <a:pt x="16" y="1205"/>
                    </a:lnTo>
                    <a:lnTo>
                      <a:pt x="34" y="1120"/>
                    </a:lnTo>
                    <a:lnTo>
                      <a:pt x="68" y="1036"/>
                    </a:lnTo>
                    <a:lnTo>
                      <a:pt x="85" y="949"/>
                    </a:lnTo>
                    <a:lnTo>
                      <a:pt x="119" y="865"/>
                    </a:lnTo>
                    <a:lnTo>
                      <a:pt x="152" y="798"/>
                    </a:lnTo>
                    <a:lnTo>
                      <a:pt x="186" y="713"/>
                    </a:lnTo>
                    <a:lnTo>
                      <a:pt x="220" y="628"/>
                    </a:lnTo>
                    <a:lnTo>
                      <a:pt x="253" y="561"/>
                    </a:lnTo>
                    <a:lnTo>
                      <a:pt x="288" y="475"/>
                    </a:lnTo>
                    <a:lnTo>
                      <a:pt x="339" y="391"/>
                    </a:lnTo>
                    <a:lnTo>
                      <a:pt x="372" y="323"/>
                    </a:lnTo>
                    <a:lnTo>
                      <a:pt x="407" y="238"/>
                    </a:lnTo>
                    <a:lnTo>
                      <a:pt x="458" y="171"/>
                    </a:lnTo>
                    <a:lnTo>
                      <a:pt x="491" y="84"/>
                    </a:lnTo>
                    <a:lnTo>
                      <a:pt x="5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4199040" y="5073480"/>
                <a:ext cx="41040" cy="70200"/>
              </a:xfrm>
              <a:custGeom>
                <a:avLst/>
                <a:gdLst/>
                <a:ahLst/>
                <a:rect l="l" t="t" r="r" b="b"/>
                <a:pathLst>
                  <a:path w="153" h="270">
                    <a:moveTo>
                      <a:pt x="0" y="270"/>
                    </a:moveTo>
                    <a:lnTo>
                      <a:pt x="0" y="253"/>
                    </a:lnTo>
                    <a:lnTo>
                      <a:pt x="18" y="238"/>
                    </a:lnTo>
                    <a:lnTo>
                      <a:pt x="18" y="220"/>
                    </a:lnTo>
                    <a:lnTo>
                      <a:pt x="34" y="203"/>
                    </a:lnTo>
                    <a:lnTo>
                      <a:pt x="34" y="186"/>
                    </a:lnTo>
                    <a:lnTo>
                      <a:pt x="50" y="169"/>
                    </a:lnTo>
                    <a:lnTo>
                      <a:pt x="50" y="152"/>
                    </a:lnTo>
                    <a:lnTo>
                      <a:pt x="68" y="134"/>
                    </a:lnTo>
                    <a:lnTo>
                      <a:pt x="84" y="119"/>
                    </a:lnTo>
                    <a:lnTo>
                      <a:pt x="84" y="101"/>
                    </a:lnTo>
                    <a:lnTo>
                      <a:pt x="102" y="85"/>
                    </a:lnTo>
                    <a:lnTo>
                      <a:pt x="102" y="67"/>
                    </a:lnTo>
                    <a:lnTo>
                      <a:pt x="119" y="50"/>
                    </a:lnTo>
                    <a:lnTo>
                      <a:pt x="119" y="34"/>
                    </a:lnTo>
                    <a:lnTo>
                      <a:pt x="135" y="16"/>
                    </a:lnTo>
                    <a:lnTo>
                      <a:pt x="15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059360" y="5068800"/>
                <a:ext cx="171360" cy="331920"/>
              </a:xfrm>
              <a:custGeom>
                <a:avLst/>
                <a:gdLst/>
                <a:ahLst/>
                <a:rect l="l" t="t" r="r" b="b"/>
                <a:pathLst>
                  <a:path w="645" h="1255">
                    <a:moveTo>
                      <a:pt x="645" y="0"/>
                    </a:moveTo>
                    <a:lnTo>
                      <a:pt x="594" y="68"/>
                    </a:lnTo>
                    <a:lnTo>
                      <a:pt x="560" y="152"/>
                    </a:lnTo>
                    <a:lnTo>
                      <a:pt x="509" y="221"/>
                    </a:lnTo>
                    <a:lnTo>
                      <a:pt x="475" y="306"/>
                    </a:lnTo>
                    <a:lnTo>
                      <a:pt x="425" y="372"/>
                    </a:lnTo>
                    <a:lnTo>
                      <a:pt x="391" y="459"/>
                    </a:lnTo>
                    <a:lnTo>
                      <a:pt x="341" y="526"/>
                    </a:lnTo>
                    <a:lnTo>
                      <a:pt x="306" y="611"/>
                    </a:lnTo>
                    <a:lnTo>
                      <a:pt x="255" y="695"/>
                    </a:lnTo>
                    <a:lnTo>
                      <a:pt x="222" y="763"/>
                    </a:lnTo>
                    <a:lnTo>
                      <a:pt x="187" y="849"/>
                    </a:lnTo>
                    <a:lnTo>
                      <a:pt x="136" y="916"/>
                    </a:lnTo>
                    <a:lnTo>
                      <a:pt x="103" y="1001"/>
                    </a:lnTo>
                    <a:lnTo>
                      <a:pt x="69" y="1086"/>
                    </a:lnTo>
                    <a:lnTo>
                      <a:pt x="34" y="1171"/>
                    </a:lnTo>
                    <a:lnTo>
                      <a:pt x="0" y="12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032360" y="54007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01" h="627">
                    <a:moveTo>
                      <a:pt x="101" y="0"/>
                    </a:moveTo>
                    <a:lnTo>
                      <a:pt x="101" y="34"/>
                    </a:lnTo>
                    <a:lnTo>
                      <a:pt x="85" y="69"/>
                    </a:lnTo>
                    <a:lnTo>
                      <a:pt x="85" y="101"/>
                    </a:lnTo>
                    <a:lnTo>
                      <a:pt x="69" y="153"/>
                    </a:lnTo>
                    <a:lnTo>
                      <a:pt x="69" y="185"/>
                    </a:lnTo>
                    <a:lnTo>
                      <a:pt x="51" y="220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16" y="339"/>
                    </a:lnTo>
                    <a:lnTo>
                      <a:pt x="16" y="390"/>
                    </a:lnTo>
                    <a:lnTo>
                      <a:pt x="16" y="424"/>
                    </a:lnTo>
                    <a:lnTo>
                      <a:pt x="0" y="457"/>
                    </a:lnTo>
                    <a:lnTo>
                      <a:pt x="0" y="508"/>
                    </a:lnTo>
                    <a:lnTo>
                      <a:pt x="0" y="543"/>
                    </a:lnTo>
                    <a:lnTo>
                      <a:pt x="16" y="593"/>
                    </a:lnTo>
                    <a:lnTo>
                      <a:pt x="16" y="62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037040" y="5565600"/>
                <a:ext cx="27000" cy="247680"/>
              </a:xfrm>
              <a:custGeom>
                <a:avLst/>
                <a:gdLst/>
                <a:ahLst/>
                <a:rect l="l" t="t" r="r" b="b"/>
                <a:pathLst>
                  <a:path w="103" h="933">
                    <a:moveTo>
                      <a:pt x="0" y="0"/>
                    </a:moveTo>
                    <a:lnTo>
                      <a:pt x="18" y="50"/>
                    </a:lnTo>
                    <a:lnTo>
                      <a:pt x="35" y="102"/>
                    </a:lnTo>
                    <a:lnTo>
                      <a:pt x="53" y="153"/>
                    </a:lnTo>
                    <a:lnTo>
                      <a:pt x="69" y="220"/>
                    </a:lnTo>
                    <a:lnTo>
                      <a:pt x="69" y="272"/>
                    </a:lnTo>
                    <a:lnTo>
                      <a:pt x="85" y="339"/>
                    </a:lnTo>
                    <a:lnTo>
                      <a:pt x="85" y="391"/>
                    </a:lnTo>
                    <a:lnTo>
                      <a:pt x="85" y="458"/>
                    </a:lnTo>
                    <a:lnTo>
                      <a:pt x="85" y="507"/>
                    </a:lnTo>
                    <a:lnTo>
                      <a:pt x="85" y="576"/>
                    </a:lnTo>
                    <a:lnTo>
                      <a:pt x="85" y="626"/>
                    </a:lnTo>
                    <a:lnTo>
                      <a:pt x="85" y="695"/>
                    </a:lnTo>
                    <a:lnTo>
                      <a:pt x="85" y="745"/>
                    </a:lnTo>
                    <a:lnTo>
                      <a:pt x="85" y="814"/>
                    </a:lnTo>
                    <a:lnTo>
                      <a:pt x="85" y="865"/>
                    </a:lnTo>
                    <a:lnTo>
                      <a:pt x="103" y="93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064040" y="5813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51" h="407">
                    <a:moveTo>
                      <a:pt x="0" y="0"/>
                    </a:moveTo>
                    <a:lnTo>
                      <a:pt x="0" y="16"/>
                    </a:lnTo>
                    <a:lnTo>
                      <a:pt x="0" y="51"/>
                    </a:lnTo>
                    <a:lnTo>
                      <a:pt x="0" y="66"/>
                    </a:lnTo>
                    <a:lnTo>
                      <a:pt x="16" y="101"/>
                    </a:lnTo>
                    <a:lnTo>
                      <a:pt x="16" y="119"/>
                    </a:lnTo>
                    <a:lnTo>
                      <a:pt x="16" y="152"/>
                    </a:lnTo>
                    <a:lnTo>
                      <a:pt x="16" y="170"/>
                    </a:lnTo>
                    <a:lnTo>
                      <a:pt x="34" y="203"/>
                    </a:lnTo>
                    <a:lnTo>
                      <a:pt x="34" y="220"/>
                    </a:lnTo>
                    <a:lnTo>
                      <a:pt x="34" y="254"/>
                    </a:lnTo>
                    <a:lnTo>
                      <a:pt x="34" y="271"/>
                    </a:lnTo>
                    <a:lnTo>
                      <a:pt x="34" y="304"/>
                    </a:lnTo>
                    <a:lnTo>
                      <a:pt x="34" y="338"/>
                    </a:lnTo>
                    <a:lnTo>
                      <a:pt x="34" y="355"/>
                    </a:lnTo>
                    <a:lnTo>
                      <a:pt x="51" y="389"/>
                    </a:lnTo>
                    <a:lnTo>
                      <a:pt x="51" y="4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965400" y="5479920"/>
                <a:ext cx="86040" cy="417600"/>
              </a:xfrm>
              <a:custGeom>
                <a:avLst/>
                <a:gdLst/>
                <a:ahLst/>
                <a:rect l="l" t="t" r="r" b="b"/>
                <a:pathLst>
                  <a:path w="323" h="1578">
                    <a:moveTo>
                      <a:pt x="323" y="1578"/>
                    </a:moveTo>
                    <a:lnTo>
                      <a:pt x="288" y="1492"/>
                    </a:lnTo>
                    <a:lnTo>
                      <a:pt x="254" y="1408"/>
                    </a:lnTo>
                    <a:lnTo>
                      <a:pt x="204" y="1307"/>
                    </a:lnTo>
                    <a:lnTo>
                      <a:pt x="169" y="1204"/>
                    </a:lnTo>
                    <a:lnTo>
                      <a:pt x="152" y="1119"/>
                    </a:lnTo>
                    <a:lnTo>
                      <a:pt x="118" y="1018"/>
                    </a:lnTo>
                    <a:lnTo>
                      <a:pt x="85" y="916"/>
                    </a:lnTo>
                    <a:lnTo>
                      <a:pt x="67" y="815"/>
                    </a:lnTo>
                    <a:lnTo>
                      <a:pt x="51" y="714"/>
                    </a:lnTo>
                    <a:lnTo>
                      <a:pt x="34" y="611"/>
                    </a:lnTo>
                    <a:lnTo>
                      <a:pt x="16" y="510"/>
                    </a:lnTo>
                    <a:lnTo>
                      <a:pt x="16" y="425"/>
                    </a:lnTo>
                    <a:lnTo>
                      <a:pt x="0" y="323"/>
                    </a:lnTo>
                    <a:lnTo>
                      <a:pt x="0" y="222"/>
                    </a:lnTo>
                    <a:lnTo>
                      <a:pt x="16" y="10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970440" y="5319720"/>
                <a:ext cx="21960" cy="160200"/>
              </a:xfrm>
              <a:custGeom>
                <a:avLst/>
                <a:gdLst/>
                <a:ahLst/>
                <a:rect l="l" t="t" r="r" b="b"/>
                <a:pathLst>
                  <a:path w="85" h="609">
                    <a:moveTo>
                      <a:pt x="0" y="609"/>
                    </a:moveTo>
                    <a:lnTo>
                      <a:pt x="18" y="576"/>
                    </a:lnTo>
                    <a:lnTo>
                      <a:pt x="35" y="543"/>
                    </a:lnTo>
                    <a:lnTo>
                      <a:pt x="35" y="509"/>
                    </a:lnTo>
                    <a:lnTo>
                      <a:pt x="35" y="475"/>
                    </a:lnTo>
                    <a:lnTo>
                      <a:pt x="51" y="424"/>
                    </a:lnTo>
                    <a:lnTo>
                      <a:pt x="51" y="389"/>
                    </a:lnTo>
                    <a:lnTo>
                      <a:pt x="51" y="356"/>
                    </a:lnTo>
                    <a:lnTo>
                      <a:pt x="51" y="305"/>
                    </a:lnTo>
                    <a:lnTo>
                      <a:pt x="51" y="270"/>
                    </a:lnTo>
                    <a:lnTo>
                      <a:pt x="69" y="237"/>
                    </a:lnTo>
                    <a:lnTo>
                      <a:pt x="69" y="203"/>
                    </a:lnTo>
                    <a:lnTo>
                      <a:pt x="69" y="152"/>
                    </a:lnTo>
                    <a:lnTo>
                      <a:pt x="69" y="118"/>
                    </a:lnTo>
                    <a:lnTo>
                      <a:pt x="69" y="85"/>
                    </a:lnTo>
                    <a:lnTo>
                      <a:pt x="85" y="33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992400" y="5059440"/>
                <a:ext cx="54000" cy="260280"/>
              </a:xfrm>
              <a:custGeom>
                <a:avLst/>
                <a:gdLst/>
                <a:ahLst/>
                <a:rect l="l" t="t" r="r" b="b"/>
                <a:pathLst>
                  <a:path w="204" h="983">
                    <a:moveTo>
                      <a:pt x="0" y="983"/>
                    </a:moveTo>
                    <a:lnTo>
                      <a:pt x="17" y="932"/>
                    </a:lnTo>
                    <a:lnTo>
                      <a:pt x="17" y="865"/>
                    </a:lnTo>
                    <a:lnTo>
                      <a:pt x="34" y="796"/>
                    </a:lnTo>
                    <a:lnTo>
                      <a:pt x="34" y="728"/>
                    </a:lnTo>
                    <a:lnTo>
                      <a:pt x="51" y="677"/>
                    </a:lnTo>
                    <a:lnTo>
                      <a:pt x="68" y="610"/>
                    </a:lnTo>
                    <a:lnTo>
                      <a:pt x="85" y="543"/>
                    </a:lnTo>
                    <a:lnTo>
                      <a:pt x="85" y="492"/>
                    </a:lnTo>
                    <a:lnTo>
                      <a:pt x="103" y="423"/>
                    </a:lnTo>
                    <a:lnTo>
                      <a:pt x="118" y="373"/>
                    </a:lnTo>
                    <a:lnTo>
                      <a:pt x="135" y="304"/>
                    </a:lnTo>
                    <a:lnTo>
                      <a:pt x="153" y="237"/>
                    </a:lnTo>
                    <a:lnTo>
                      <a:pt x="169" y="185"/>
                    </a:lnTo>
                    <a:lnTo>
                      <a:pt x="169" y="118"/>
                    </a:lnTo>
                    <a:lnTo>
                      <a:pt x="187" y="51"/>
                    </a:lnTo>
                    <a:lnTo>
                      <a:pt x="2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4046400" y="4745160"/>
                <a:ext cx="76320" cy="314280"/>
              </a:xfrm>
              <a:custGeom>
                <a:avLst/>
                <a:gdLst/>
                <a:ahLst/>
                <a:rect l="l" t="t" r="r" b="b"/>
                <a:pathLst>
                  <a:path w="287" h="1187">
                    <a:moveTo>
                      <a:pt x="0" y="1187"/>
                    </a:moveTo>
                    <a:lnTo>
                      <a:pt x="18" y="1119"/>
                    </a:lnTo>
                    <a:lnTo>
                      <a:pt x="34" y="1034"/>
                    </a:lnTo>
                    <a:lnTo>
                      <a:pt x="50" y="966"/>
                    </a:lnTo>
                    <a:lnTo>
                      <a:pt x="68" y="900"/>
                    </a:lnTo>
                    <a:lnTo>
                      <a:pt x="84" y="814"/>
                    </a:lnTo>
                    <a:lnTo>
                      <a:pt x="102" y="746"/>
                    </a:lnTo>
                    <a:lnTo>
                      <a:pt x="119" y="678"/>
                    </a:lnTo>
                    <a:lnTo>
                      <a:pt x="134" y="593"/>
                    </a:lnTo>
                    <a:lnTo>
                      <a:pt x="153" y="527"/>
                    </a:lnTo>
                    <a:lnTo>
                      <a:pt x="169" y="442"/>
                    </a:lnTo>
                    <a:lnTo>
                      <a:pt x="186" y="373"/>
                    </a:lnTo>
                    <a:lnTo>
                      <a:pt x="203" y="304"/>
                    </a:lnTo>
                    <a:lnTo>
                      <a:pt x="220" y="220"/>
                    </a:lnTo>
                    <a:lnTo>
                      <a:pt x="237" y="154"/>
                    </a:lnTo>
                    <a:lnTo>
                      <a:pt x="254" y="85"/>
                    </a:lnTo>
                    <a:lnTo>
                      <a:pt x="28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4122720" y="4633920"/>
                <a:ext cx="4680" cy="111240"/>
              </a:xfrm>
              <a:custGeom>
                <a:avLst/>
                <a:gdLst/>
                <a:ahLst/>
                <a:rect l="l" t="t" r="r" b="b"/>
                <a:pathLst>
                  <a:path w="18" h="423">
                    <a:moveTo>
                      <a:pt x="0" y="423"/>
                    </a:moveTo>
                    <a:lnTo>
                      <a:pt x="0" y="406"/>
                    </a:lnTo>
                    <a:lnTo>
                      <a:pt x="0" y="373"/>
                    </a:lnTo>
                    <a:lnTo>
                      <a:pt x="0" y="356"/>
                    </a:lnTo>
                    <a:lnTo>
                      <a:pt x="0" y="321"/>
                    </a:lnTo>
                    <a:lnTo>
                      <a:pt x="0" y="305"/>
                    </a:lnTo>
                    <a:lnTo>
                      <a:pt x="18" y="270"/>
                    </a:lnTo>
                    <a:lnTo>
                      <a:pt x="18" y="237"/>
                    </a:lnTo>
                    <a:lnTo>
                      <a:pt x="18" y="220"/>
                    </a:lnTo>
                    <a:lnTo>
                      <a:pt x="18" y="186"/>
                    </a:lnTo>
                    <a:lnTo>
                      <a:pt x="18" y="169"/>
                    </a:lnTo>
                    <a:lnTo>
                      <a:pt x="18" y="136"/>
                    </a:lnTo>
                    <a:lnTo>
                      <a:pt x="18" y="101"/>
                    </a:lnTo>
                    <a:lnTo>
                      <a:pt x="18" y="85"/>
                    </a:lnTo>
                    <a:lnTo>
                      <a:pt x="18" y="50"/>
                    </a:lnTo>
                    <a:lnTo>
                      <a:pt x="18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110120" y="4489560"/>
                <a:ext cx="12600" cy="144360"/>
              </a:xfrm>
              <a:custGeom>
                <a:avLst/>
                <a:gdLst/>
                <a:ahLst/>
                <a:rect l="l" t="t" r="r" b="b"/>
                <a:pathLst>
                  <a:path w="50" h="544">
                    <a:moveTo>
                      <a:pt x="50" y="544"/>
                    </a:moveTo>
                    <a:lnTo>
                      <a:pt x="50" y="510"/>
                    </a:lnTo>
                    <a:lnTo>
                      <a:pt x="50" y="476"/>
                    </a:lnTo>
                    <a:lnTo>
                      <a:pt x="50" y="442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35" y="341"/>
                    </a:lnTo>
                    <a:lnTo>
                      <a:pt x="35" y="307"/>
                    </a:lnTo>
                    <a:lnTo>
                      <a:pt x="35" y="272"/>
                    </a:lnTo>
                    <a:lnTo>
                      <a:pt x="17" y="238"/>
                    </a:lnTo>
                    <a:lnTo>
                      <a:pt x="17" y="203"/>
                    </a:lnTo>
                    <a:lnTo>
                      <a:pt x="17" y="170"/>
                    </a:lnTo>
                    <a:lnTo>
                      <a:pt x="17" y="137"/>
                    </a:lnTo>
                    <a:lnTo>
                      <a:pt x="0" y="102"/>
                    </a:lnTo>
                    <a:lnTo>
                      <a:pt x="0" y="69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4087800" y="4152960"/>
                <a:ext cx="22320" cy="336600"/>
              </a:xfrm>
              <a:custGeom>
                <a:avLst/>
                <a:gdLst/>
                <a:ahLst/>
                <a:rect l="l" t="t" r="r" b="b"/>
                <a:pathLst>
                  <a:path w="84" h="1270">
                    <a:moveTo>
                      <a:pt x="84" y="1270"/>
                    </a:moveTo>
                    <a:lnTo>
                      <a:pt x="84" y="1186"/>
                    </a:lnTo>
                    <a:lnTo>
                      <a:pt x="67" y="1119"/>
                    </a:lnTo>
                    <a:lnTo>
                      <a:pt x="67" y="1034"/>
                    </a:lnTo>
                    <a:lnTo>
                      <a:pt x="50" y="950"/>
                    </a:lnTo>
                    <a:lnTo>
                      <a:pt x="50" y="882"/>
                    </a:lnTo>
                    <a:lnTo>
                      <a:pt x="33" y="796"/>
                    </a:lnTo>
                    <a:lnTo>
                      <a:pt x="33" y="712"/>
                    </a:lnTo>
                    <a:lnTo>
                      <a:pt x="16" y="644"/>
                    </a:lnTo>
                    <a:lnTo>
                      <a:pt x="16" y="559"/>
                    </a:lnTo>
                    <a:lnTo>
                      <a:pt x="16" y="474"/>
                    </a:lnTo>
                    <a:lnTo>
                      <a:pt x="0" y="405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0" y="170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073400" y="3973680"/>
                <a:ext cx="14400" cy="179280"/>
              </a:xfrm>
              <a:custGeom>
                <a:avLst/>
                <a:gdLst/>
                <a:ahLst/>
                <a:rect l="l" t="t" r="r" b="b"/>
                <a:pathLst>
                  <a:path w="51" h="678">
                    <a:moveTo>
                      <a:pt x="51" y="678"/>
                    </a:moveTo>
                    <a:lnTo>
                      <a:pt x="32" y="626"/>
                    </a:lnTo>
                    <a:lnTo>
                      <a:pt x="32" y="593"/>
                    </a:lnTo>
                    <a:lnTo>
                      <a:pt x="32" y="542"/>
                    </a:lnTo>
                    <a:lnTo>
                      <a:pt x="32" y="507"/>
                    </a:lnTo>
                    <a:lnTo>
                      <a:pt x="32" y="457"/>
                    </a:lnTo>
                    <a:lnTo>
                      <a:pt x="32" y="423"/>
                    </a:lnTo>
                    <a:lnTo>
                      <a:pt x="32" y="373"/>
                    </a:lnTo>
                    <a:lnTo>
                      <a:pt x="32" y="322"/>
                    </a:lnTo>
                    <a:lnTo>
                      <a:pt x="32" y="287"/>
                    </a:lnTo>
                    <a:lnTo>
                      <a:pt x="32" y="238"/>
                    </a:lnTo>
                    <a:lnTo>
                      <a:pt x="32" y="203"/>
                    </a:lnTo>
                    <a:lnTo>
                      <a:pt x="17" y="153"/>
                    </a:lnTo>
                    <a:lnTo>
                      <a:pt x="17" y="119"/>
                    </a:lnTo>
                    <a:lnTo>
                      <a:pt x="17" y="68"/>
                    </a:lnTo>
                    <a:lnTo>
                      <a:pt x="0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4073400" y="3865680"/>
                <a:ext cx="5040" cy="10800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407"/>
                    </a:moveTo>
                    <a:lnTo>
                      <a:pt x="0" y="373"/>
                    </a:lnTo>
                    <a:lnTo>
                      <a:pt x="0" y="338"/>
                    </a:lnTo>
                    <a:lnTo>
                      <a:pt x="0" y="321"/>
                    </a:lnTo>
                    <a:lnTo>
                      <a:pt x="0" y="306"/>
                    </a:lnTo>
                    <a:lnTo>
                      <a:pt x="17" y="272"/>
                    </a:lnTo>
                    <a:lnTo>
                      <a:pt x="17" y="254"/>
                    </a:lnTo>
                    <a:lnTo>
                      <a:pt x="17" y="222"/>
                    </a:lnTo>
                    <a:lnTo>
                      <a:pt x="17" y="203"/>
                    </a:lnTo>
                    <a:lnTo>
                      <a:pt x="17" y="169"/>
                    </a:lnTo>
                    <a:lnTo>
                      <a:pt x="17" y="153"/>
                    </a:lnTo>
                    <a:lnTo>
                      <a:pt x="17" y="118"/>
                    </a:lnTo>
                    <a:lnTo>
                      <a:pt x="17" y="102"/>
                    </a:lnTo>
                    <a:lnTo>
                      <a:pt x="17" y="68"/>
                    </a:lnTo>
                    <a:lnTo>
                      <a:pt x="17" y="51"/>
                    </a:lnTo>
                    <a:lnTo>
                      <a:pt x="17" y="17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4073400" y="3763800"/>
                <a:ext cx="5040" cy="101880"/>
              </a:xfrm>
              <a:custGeom>
                <a:avLst/>
                <a:gdLst/>
                <a:ahLst/>
                <a:rect l="l" t="t" r="r" b="b"/>
                <a:pathLst>
                  <a:path w="17" h="389">
                    <a:moveTo>
                      <a:pt x="17" y="389"/>
                    </a:moveTo>
                    <a:lnTo>
                      <a:pt x="17" y="354"/>
                    </a:lnTo>
                    <a:lnTo>
                      <a:pt x="17" y="339"/>
                    </a:lnTo>
                    <a:lnTo>
                      <a:pt x="17" y="304"/>
                    </a:lnTo>
                    <a:lnTo>
                      <a:pt x="17" y="288"/>
                    </a:lnTo>
                    <a:lnTo>
                      <a:pt x="17" y="253"/>
                    </a:lnTo>
                    <a:lnTo>
                      <a:pt x="17" y="238"/>
                    </a:lnTo>
                    <a:lnTo>
                      <a:pt x="0" y="203"/>
                    </a:lnTo>
                    <a:lnTo>
                      <a:pt x="0" y="18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1"/>
                    </a:lnTo>
                    <a:lnTo>
                      <a:pt x="0" y="67"/>
                    </a:lnTo>
                    <a:lnTo>
                      <a:pt x="0" y="50"/>
                    </a:lnTo>
                    <a:lnTo>
                      <a:pt x="17" y="15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4078440" y="3602160"/>
                <a:ext cx="21960" cy="161640"/>
              </a:xfrm>
              <a:custGeom>
                <a:avLst/>
                <a:gdLst/>
                <a:ahLst/>
                <a:rect l="l" t="t" r="r" b="b"/>
                <a:pathLst>
                  <a:path w="84" h="611">
                    <a:moveTo>
                      <a:pt x="0" y="611"/>
                    </a:moveTo>
                    <a:lnTo>
                      <a:pt x="0" y="560"/>
                    </a:lnTo>
                    <a:lnTo>
                      <a:pt x="0" y="525"/>
                    </a:lnTo>
                    <a:lnTo>
                      <a:pt x="0" y="492"/>
                    </a:lnTo>
                    <a:lnTo>
                      <a:pt x="0" y="458"/>
                    </a:lnTo>
                    <a:lnTo>
                      <a:pt x="0" y="407"/>
                    </a:lnTo>
                    <a:lnTo>
                      <a:pt x="0" y="373"/>
                    </a:lnTo>
                    <a:lnTo>
                      <a:pt x="15" y="339"/>
                    </a:lnTo>
                    <a:lnTo>
                      <a:pt x="15" y="305"/>
                    </a:lnTo>
                    <a:lnTo>
                      <a:pt x="34" y="253"/>
                    </a:lnTo>
                    <a:lnTo>
                      <a:pt x="34" y="220"/>
                    </a:lnTo>
                    <a:lnTo>
                      <a:pt x="34" y="186"/>
                    </a:lnTo>
                    <a:lnTo>
                      <a:pt x="50" y="154"/>
                    </a:lnTo>
                    <a:lnTo>
                      <a:pt x="50" y="101"/>
                    </a:lnTo>
                    <a:lnTo>
                      <a:pt x="67" y="68"/>
                    </a:lnTo>
                    <a:lnTo>
                      <a:pt x="67" y="34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4100400" y="34084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559" h="729">
                    <a:moveTo>
                      <a:pt x="0" y="729"/>
                    </a:moveTo>
                    <a:lnTo>
                      <a:pt x="17" y="678"/>
                    </a:lnTo>
                    <a:lnTo>
                      <a:pt x="34" y="611"/>
                    </a:lnTo>
                    <a:lnTo>
                      <a:pt x="51" y="560"/>
                    </a:lnTo>
                    <a:lnTo>
                      <a:pt x="84" y="510"/>
                    </a:lnTo>
                    <a:lnTo>
                      <a:pt x="102" y="457"/>
                    </a:lnTo>
                    <a:lnTo>
                      <a:pt x="135" y="406"/>
                    </a:lnTo>
                    <a:lnTo>
                      <a:pt x="170" y="356"/>
                    </a:lnTo>
                    <a:lnTo>
                      <a:pt x="203" y="305"/>
                    </a:lnTo>
                    <a:lnTo>
                      <a:pt x="238" y="254"/>
                    </a:lnTo>
                    <a:lnTo>
                      <a:pt x="272" y="221"/>
                    </a:lnTo>
                    <a:lnTo>
                      <a:pt x="322" y="169"/>
                    </a:lnTo>
                    <a:lnTo>
                      <a:pt x="356" y="137"/>
                    </a:lnTo>
                    <a:lnTo>
                      <a:pt x="407" y="84"/>
                    </a:lnTo>
                    <a:lnTo>
                      <a:pt x="457" y="50"/>
                    </a:lnTo>
                    <a:lnTo>
                      <a:pt x="508" y="18"/>
                    </a:lnTo>
                    <a:lnTo>
                      <a:pt x="5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4378320" y="340524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0" y="0"/>
                    </a:moveTo>
                    <a:lnTo>
                      <a:pt x="17" y="17"/>
                    </a:lnTo>
                    <a:lnTo>
                      <a:pt x="34" y="35"/>
                    </a:lnTo>
                    <a:lnTo>
                      <a:pt x="51" y="35"/>
                    </a:lnTo>
                    <a:lnTo>
                      <a:pt x="68" y="51"/>
                    </a:lnTo>
                    <a:lnTo>
                      <a:pt x="86" y="51"/>
                    </a:lnTo>
                    <a:lnTo>
                      <a:pt x="86" y="67"/>
                    </a:lnTo>
                    <a:lnTo>
                      <a:pt x="101" y="85"/>
                    </a:lnTo>
                    <a:lnTo>
                      <a:pt x="118" y="101"/>
                    </a:lnTo>
                    <a:lnTo>
                      <a:pt x="118" y="119"/>
                    </a:lnTo>
                    <a:lnTo>
                      <a:pt x="136" y="119"/>
                    </a:lnTo>
                    <a:lnTo>
                      <a:pt x="136" y="136"/>
                    </a:lnTo>
                    <a:lnTo>
                      <a:pt x="152" y="1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3" name=""/>
          <p:cNvGrpSpPr/>
          <p:nvPr/>
        </p:nvGrpSpPr>
        <p:grpSpPr>
          <a:xfrm>
            <a:off x="990720" y="831960"/>
            <a:ext cx="6859440" cy="4482360"/>
            <a:chOff x="990720" y="831960"/>
            <a:chExt cx="6859440" cy="4482360"/>
          </a:xfrm>
        </p:grpSpPr>
        <p:sp>
          <p:nvSpPr>
            <p:cNvPr id="6924" name=""/>
            <p:cNvSpPr/>
            <p:nvPr/>
          </p:nvSpPr>
          <p:spPr>
            <a:xfrm>
              <a:off x="1354320" y="831960"/>
              <a:ext cx="649584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SEXUAL PURITY IS FOR BOTH TH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1f1a17"/>
                  </a:solidFill>
                  <a:latin typeface="Geometr231 Hv BT"/>
                </a:rPr>
                <a:t>MARRIED &amp; UNMARRIED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5" name=""/>
            <p:cNvGrpSpPr/>
            <p:nvPr/>
          </p:nvGrpSpPr>
          <p:grpSpPr>
            <a:xfrm>
              <a:off x="6248520" y="1981080"/>
              <a:ext cx="1514160" cy="3333240"/>
              <a:chOff x="6248520" y="1981080"/>
              <a:chExt cx="1514160" cy="3333240"/>
            </a:xfrm>
          </p:grpSpPr>
          <p:sp>
            <p:nvSpPr>
              <p:cNvPr id="6926" name=""/>
              <p:cNvSpPr/>
              <p:nvPr/>
            </p:nvSpPr>
            <p:spPr>
              <a:xfrm>
                <a:off x="7382160" y="1981080"/>
                <a:ext cx="375480" cy="487800"/>
              </a:xfrm>
              <a:custGeom>
                <a:avLst/>
                <a:gdLst/>
                <a:ahLst/>
                <a:rect l="l" t="t" r="r" b="b"/>
                <a:pathLst>
                  <a:path w="966" h="1256">
                    <a:moveTo>
                      <a:pt x="966" y="146"/>
                    </a:moveTo>
                    <a:lnTo>
                      <a:pt x="966" y="169"/>
                    </a:lnTo>
                    <a:lnTo>
                      <a:pt x="966" y="202"/>
                    </a:lnTo>
                    <a:lnTo>
                      <a:pt x="954" y="226"/>
                    </a:lnTo>
                    <a:lnTo>
                      <a:pt x="954" y="259"/>
                    </a:lnTo>
                    <a:lnTo>
                      <a:pt x="944" y="292"/>
                    </a:lnTo>
                    <a:lnTo>
                      <a:pt x="944" y="315"/>
                    </a:lnTo>
                    <a:lnTo>
                      <a:pt x="932" y="348"/>
                    </a:lnTo>
                    <a:lnTo>
                      <a:pt x="932" y="371"/>
                    </a:lnTo>
                    <a:lnTo>
                      <a:pt x="921" y="404"/>
                    </a:lnTo>
                    <a:lnTo>
                      <a:pt x="921" y="426"/>
                    </a:lnTo>
                    <a:lnTo>
                      <a:pt x="909" y="460"/>
                    </a:lnTo>
                    <a:lnTo>
                      <a:pt x="897" y="482"/>
                    </a:lnTo>
                    <a:lnTo>
                      <a:pt x="897" y="516"/>
                    </a:lnTo>
                    <a:lnTo>
                      <a:pt x="887" y="538"/>
                    </a:lnTo>
                    <a:lnTo>
                      <a:pt x="887" y="561"/>
                    </a:lnTo>
                    <a:lnTo>
                      <a:pt x="875" y="594"/>
                    </a:lnTo>
                    <a:lnTo>
                      <a:pt x="864" y="628"/>
                    </a:lnTo>
                    <a:lnTo>
                      <a:pt x="853" y="663"/>
                    </a:lnTo>
                    <a:lnTo>
                      <a:pt x="842" y="707"/>
                    </a:lnTo>
                    <a:lnTo>
                      <a:pt x="831" y="741"/>
                    </a:lnTo>
                    <a:lnTo>
                      <a:pt x="819" y="775"/>
                    </a:lnTo>
                    <a:lnTo>
                      <a:pt x="808" y="808"/>
                    </a:lnTo>
                    <a:lnTo>
                      <a:pt x="798" y="841"/>
                    </a:lnTo>
                    <a:lnTo>
                      <a:pt x="786" y="886"/>
                    </a:lnTo>
                    <a:lnTo>
                      <a:pt x="775" y="919"/>
                    </a:lnTo>
                    <a:lnTo>
                      <a:pt x="763" y="953"/>
                    </a:lnTo>
                    <a:lnTo>
                      <a:pt x="752" y="987"/>
                    </a:lnTo>
                    <a:lnTo>
                      <a:pt x="742" y="1020"/>
                    </a:lnTo>
                    <a:lnTo>
                      <a:pt x="730" y="1066"/>
                    </a:lnTo>
                    <a:lnTo>
                      <a:pt x="719" y="1100"/>
                    </a:lnTo>
                    <a:lnTo>
                      <a:pt x="719" y="1133"/>
                    </a:lnTo>
                    <a:lnTo>
                      <a:pt x="707" y="1178"/>
                    </a:lnTo>
                    <a:lnTo>
                      <a:pt x="697" y="1189"/>
                    </a:lnTo>
                    <a:lnTo>
                      <a:pt x="685" y="1200"/>
                    </a:lnTo>
                    <a:lnTo>
                      <a:pt x="674" y="1212"/>
                    </a:lnTo>
                    <a:lnTo>
                      <a:pt x="674" y="1222"/>
                    </a:lnTo>
                    <a:lnTo>
                      <a:pt x="663" y="1222"/>
                    </a:lnTo>
                    <a:lnTo>
                      <a:pt x="651" y="1234"/>
                    </a:lnTo>
                    <a:lnTo>
                      <a:pt x="641" y="1245"/>
                    </a:lnTo>
                    <a:lnTo>
                      <a:pt x="629" y="1245"/>
                    </a:lnTo>
                    <a:lnTo>
                      <a:pt x="618" y="1245"/>
                    </a:lnTo>
                    <a:lnTo>
                      <a:pt x="596" y="1245"/>
                    </a:lnTo>
                    <a:lnTo>
                      <a:pt x="573" y="1245"/>
                    </a:lnTo>
                    <a:lnTo>
                      <a:pt x="562" y="1245"/>
                    </a:lnTo>
                    <a:lnTo>
                      <a:pt x="540" y="1256"/>
                    </a:lnTo>
                    <a:lnTo>
                      <a:pt x="517" y="1256"/>
                    </a:lnTo>
                    <a:lnTo>
                      <a:pt x="505" y="1256"/>
                    </a:lnTo>
                    <a:lnTo>
                      <a:pt x="483" y="1256"/>
                    </a:lnTo>
                    <a:lnTo>
                      <a:pt x="472" y="1256"/>
                    </a:lnTo>
                    <a:lnTo>
                      <a:pt x="450" y="1256"/>
                    </a:lnTo>
                    <a:lnTo>
                      <a:pt x="438" y="1256"/>
                    </a:lnTo>
                    <a:lnTo>
                      <a:pt x="416" y="1245"/>
                    </a:lnTo>
                    <a:lnTo>
                      <a:pt x="404" y="1245"/>
                    </a:lnTo>
                    <a:lnTo>
                      <a:pt x="382" y="1234"/>
                    </a:lnTo>
                    <a:lnTo>
                      <a:pt x="371" y="1234"/>
                    </a:lnTo>
                    <a:lnTo>
                      <a:pt x="360" y="1222"/>
                    </a:lnTo>
                    <a:lnTo>
                      <a:pt x="349" y="1212"/>
                    </a:lnTo>
                    <a:lnTo>
                      <a:pt x="326" y="1167"/>
                    </a:lnTo>
                    <a:lnTo>
                      <a:pt x="303" y="1123"/>
                    </a:lnTo>
                    <a:lnTo>
                      <a:pt x="293" y="1077"/>
                    </a:lnTo>
                    <a:lnTo>
                      <a:pt x="282" y="1031"/>
                    </a:lnTo>
                    <a:lnTo>
                      <a:pt x="259" y="975"/>
                    </a:lnTo>
                    <a:lnTo>
                      <a:pt x="248" y="931"/>
                    </a:lnTo>
                    <a:lnTo>
                      <a:pt x="237" y="886"/>
                    </a:lnTo>
                    <a:lnTo>
                      <a:pt x="214" y="841"/>
                    </a:lnTo>
                    <a:lnTo>
                      <a:pt x="204" y="797"/>
                    </a:lnTo>
                    <a:lnTo>
                      <a:pt x="192" y="752"/>
                    </a:lnTo>
                    <a:lnTo>
                      <a:pt x="170" y="707"/>
                    </a:lnTo>
                    <a:lnTo>
                      <a:pt x="158" y="663"/>
                    </a:lnTo>
                    <a:lnTo>
                      <a:pt x="136" y="617"/>
                    </a:lnTo>
                    <a:lnTo>
                      <a:pt x="113" y="571"/>
                    </a:lnTo>
                    <a:lnTo>
                      <a:pt x="91" y="527"/>
                    </a:lnTo>
                    <a:lnTo>
                      <a:pt x="80" y="494"/>
                    </a:lnTo>
                    <a:lnTo>
                      <a:pt x="68" y="472"/>
                    </a:lnTo>
                    <a:lnTo>
                      <a:pt x="56" y="460"/>
                    </a:lnTo>
                    <a:lnTo>
                      <a:pt x="56" y="449"/>
                    </a:lnTo>
                    <a:lnTo>
                      <a:pt x="46" y="437"/>
                    </a:lnTo>
                    <a:lnTo>
                      <a:pt x="46" y="416"/>
                    </a:lnTo>
                    <a:lnTo>
                      <a:pt x="35" y="404"/>
                    </a:lnTo>
                    <a:lnTo>
                      <a:pt x="35" y="393"/>
                    </a:lnTo>
                    <a:lnTo>
                      <a:pt x="35" y="381"/>
                    </a:lnTo>
                    <a:lnTo>
                      <a:pt x="23" y="360"/>
                    </a:lnTo>
                    <a:lnTo>
                      <a:pt x="23" y="348"/>
                    </a:lnTo>
                    <a:lnTo>
                      <a:pt x="12" y="337"/>
                    </a:lnTo>
                    <a:lnTo>
                      <a:pt x="12" y="315"/>
                    </a:lnTo>
                    <a:lnTo>
                      <a:pt x="12" y="304"/>
                    </a:lnTo>
                    <a:lnTo>
                      <a:pt x="0" y="292"/>
                    </a:lnTo>
                    <a:lnTo>
                      <a:pt x="0" y="270"/>
                    </a:lnTo>
                    <a:lnTo>
                      <a:pt x="0" y="259"/>
                    </a:lnTo>
                    <a:lnTo>
                      <a:pt x="0" y="247"/>
                    </a:lnTo>
                    <a:lnTo>
                      <a:pt x="12" y="236"/>
                    </a:lnTo>
                    <a:lnTo>
                      <a:pt x="23" y="226"/>
                    </a:lnTo>
                    <a:lnTo>
                      <a:pt x="35" y="214"/>
                    </a:lnTo>
                    <a:lnTo>
                      <a:pt x="46" y="214"/>
                    </a:lnTo>
                    <a:lnTo>
                      <a:pt x="56" y="202"/>
                    </a:lnTo>
                    <a:lnTo>
                      <a:pt x="68" y="190"/>
                    </a:lnTo>
                    <a:lnTo>
                      <a:pt x="91" y="179"/>
                    </a:lnTo>
                    <a:lnTo>
                      <a:pt x="103" y="179"/>
                    </a:lnTo>
                    <a:lnTo>
                      <a:pt x="113" y="169"/>
                    </a:lnTo>
                    <a:lnTo>
                      <a:pt x="125" y="169"/>
                    </a:lnTo>
                    <a:lnTo>
                      <a:pt x="136" y="157"/>
                    </a:lnTo>
                    <a:lnTo>
                      <a:pt x="148" y="146"/>
                    </a:lnTo>
                    <a:lnTo>
                      <a:pt x="158" y="146"/>
                    </a:lnTo>
                    <a:lnTo>
                      <a:pt x="181" y="134"/>
                    </a:lnTo>
                    <a:lnTo>
                      <a:pt x="192" y="124"/>
                    </a:lnTo>
                    <a:lnTo>
                      <a:pt x="226" y="101"/>
                    </a:lnTo>
                    <a:lnTo>
                      <a:pt x="270" y="78"/>
                    </a:lnTo>
                    <a:lnTo>
                      <a:pt x="326" y="56"/>
                    </a:lnTo>
                    <a:lnTo>
                      <a:pt x="371" y="45"/>
                    </a:lnTo>
                    <a:lnTo>
                      <a:pt x="427" y="23"/>
                    </a:lnTo>
                    <a:lnTo>
                      <a:pt x="483" y="12"/>
                    </a:lnTo>
                    <a:lnTo>
                      <a:pt x="529" y="12"/>
                    </a:lnTo>
                    <a:lnTo>
                      <a:pt x="585" y="0"/>
                    </a:lnTo>
                    <a:lnTo>
                      <a:pt x="641" y="0"/>
                    </a:lnTo>
                    <a:lnTo>
                      <a:pt x="697" y="0"/>
                    </a:lnTo>
                    <a:lnTo>
                      <a:pt x="742" y="12"/>
                    </a:lnTo>
                    <a:lnTo>
                      <a:pt x="798" y="34"/>
                    </a:lnTo>
                    <a:lnTo>
                      <a:pt x="842" y="45"/>
                    </a:lnTo>
                    <a:lnTo>
                      <a:pt x="887" y="78"/>
                    </a:lnTo>
                    <a:lnTo>
                      <a:pt x="932" y="101"/>
                    </a:lnTo>
                    <a:lnTo>
                      <a:pt x="966" y="14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7723080" y="2036880"/>
                <a:ext cx="34920" cy="174960"/>
              </a:xfrm>
              <a:custGeom>
                <a:avLst/>
                <a:gdLst/>
                <a:ahLst/>
                <a:rect l="l" t="t" r="r" b="b"/>
                <a:pathLst>
                  <a:path w="91" h="448">
                    <a:moveTo>
                      <a:pt x="91" y="0"/>
                    </a:moveTo>
                    <a:lnTo>
                      <a:pt x="91" y="23"/>
                    </a:lnTo>
                    <a:lnTo>
                      <a:pt x="91" y="56"/>
                    </a:lnTo>
                    <a:lnTo>
                      <a:pt x="79" y="80"/>
                    </a:lnTo>
                    <a:lnTo>
                      <a:pt x="79" y="113"/>
                    </a:lnTo>
                    <a:lnTo>
                      <a:pt x="69" y="146"/>
                    </a:lnTo>
                    <a:lnTo>
                      <a:pt x="69" y="169"/>
                    </a:lnTo>
                    <a:lnTo>
                      <a:pt x="57" y="202"/>
                    </a:lnTo>
                    <a:lnTo>
                      <a:pt x="57" y="225"/>
                    </a:lnTo>
                    <a:lnTo>
                      <a:pt x="46" y="258"/>
                    </a:lnTo>
                    <a:lnTo>
                      <a:pt x="46" y="280"/>
                    </a:lnTo>
                    <a:lnTo>
                      <a:pt x="34" y="314"/>
                    </a:lnTo>
                    <a:lnTo>
                      <a:pt x="22" y="336"/>
                    </a:lnTo>
                    <a:lnTo>
                      <a:pt x="22" y="370"/>
                    </a:lnTo>
                    <a:lnTo>
                      <a:pt x="12" y="392"/>
                    </a:lnTo>
                    <a:lnTo>
                      <a:pt x="12" y="415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7657560" y="2212200"/>
                <a:ext cx="65520" cy="226440"/>
              </a:xfrm>
              <a:custGeom>
                <a:avLst/>
                <a:gdLst/>
                <a:ahLst/>
                <a:rect l="l" t="t" r="r" b="b"/>
                <a:pathLst>
                  <a:path w="168" h="584">
                    <a:moveTo>
                      <a:pt x="168" y="0"/>
                    </a:moveTo>
                    <a:lnTo>
                      <a:pt x="157" y="34"/>
                    </a:lnTo>
                    <a:lnTo>
                      <a:pt x="146" y="69"/>
                    </a:lnTo>
                    <a:lnTo>
                      <a:pt x="135" y="113"/>
                    </a:lnTo>
                    <a:lnTo>
                      <a:pt x="124" y="147"/>
                    </a:lnTo>
                    <a:lnTo>
                      <a:pt x="112" y="181"/>
                    </a:lnTo>
                    <a:lnTo>
                      <a:pt x="101" y="214"/>
                    </a:lnTo>
                    <a:lnTo>
                      <a:pt x="91" y="247"/>
                    </a:lnTo>
                    <a:lnTo>
                      <a:pt x="79" y="292"/>
                    </a:lnTo>
                    <a:lnTo>
                      <a:pt x="68" y="325"/>
                    </a:lnTo>
                    <a:lnTo>
                      <a:pt x="56" y="359"/>
                    </a:lnTo>
                    <a:lnTo>
                      <a:pt x="45" y="393"/>
                    </a:lnTo>
                    <a:lnTo>
                      <a:pt x="35" y="426"/>
                    </a:lnTo>
                    <a:lnTo>
                      <a:pt x="23" y="472"/>
                    </a:lnTo>
                    <a:lnTo>
                      <a:pt x="12" y="506"/>
                    </a:lnTo>
                    <a:lnTo>
                      <a:pt x="12" y="539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7412400" y="2172600"/>
                <a:ext cx="105120" cy="279720"/>
              </a:xfrm>
              <a:custGeom>
                <a:avLst/>
                <a:gdLst/>
                <a:ahLst/>
                <a:rect l="l" t="t" r="r" b="b"/>
                <a:pathLst>
                  <a:path w="269" h="718">
                    <a:moveTo>
                      <a:pt x="269" y="718"/>
                    </a:moveTo>
                    <a:lnTo>
                      <a:pt x="246" y="673"/>
                    </a:lnTo>
                    <a:lnTo>
                      <a:pt x="223" y="629"/>
                    </a:lnTo>
                    <a:lnTo>
                      <a:pt x="213" y="583"/>
                    </a:lnTo>
                    <a:lnTo>
                      <a:pt x="202" y="537"/>
                    </a:lnTo>
                    <a:lnTo>
                      <a:pt x="179" y="481"/>
                    </a:lnTo>
                    <a:lnTo>
                      <a:pt x="168" y="437"/>
                    </a:lnTo>
                    <a:lnTo>
                      <a:pt x="157" y="392"/>
                    </a:lnTo>
                    <a:lnTo>
                      <a:pt x="134" y="347"/>
                    </a:lnTo>
                    <a:lnTo>
                      <a:pt x="124" y="303"/>
                    </a:lnTo>
                    <a:lnTo>
                      <a:pt x="112" y="258"/>
                    </a:lnTo>
                    <a:lnTo>
                      <a:pt x="90" y="213"/>
                    </a:lnTo>
                    <a:lnTo>
                      <a:pt x="78" y="169"/>
                    </a:lnTo>
                    <a:lnTo>
                      <a:pt x="56" y="123"/>
                    </a:lnTo>
                    <a:lnTo>
                      <a:pt x="33" y="77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7382160" y="2081520"/>
                <a:ext cx="29880" cy="90720"/>
              </a:xfrm>
              <a:custGeom>
                <a:avLst/>
                <a:gdLst/>
                <a:ahLst/>
                <a:rect l="l" t="t" r="r" b="b"/>
                <a:pathLst>
                  <a:path w="80" h="235">
                    <a:moveTo>
                      <a:pt x="80" y="235"/>
                    </a:moveTo>
                    <a:lnTo>
                      <a:pt x="68" y="213"/>
                    </a:lnTo>
                    <a:lnTo>
                      <a:pt x="56" y="201"/>
                    </a:lnTo>
                    <a:lnTo>
                      <a:pt x="56" y="190"/>
                    </a:lnTo>
                    <a:lnTo>
                      <a:pt x="46" y="178"/>
                    </a:lnTo>
                    <a:lnTo>
                      <a:pt x="46" y="157"/>
                    </a:lnTo>
                    <a:lnTo>
                      <a:pt x="35" y="145"/>
                    </a:lnTo>
                    <a:lnTo>
                      <a:pt x="35" y="134"/>
                    </a:lnTo>
                    <a:lnTo>
                      <a:pt x="35" y="122"/>
                    </a:lnTo>
                    <a:lnTo>
                      <a:pt x="23" y="101"/>
                    </a:lnTo>
                    <a:lnTo>
                      <a:pt x="23" y="89"/>
                    </a:lnTo>
                    <a:lnTo>
                      <a:pt x="12" y="78"/>
                    </a:lnTo>
                    <a:lnTo>
                      <a:pt x="12" y="56"/>
                    </a:lnTo>
                    <a:lnTo>
                      <a:pt x="12" y="45"/>
                    </a:lnTo>
                    <a:lnTo>
                      <a:pt x="0" y="3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7403040" y="1999800"/>
                <a:ext cx="338400" cy="452520"/>
              </a:xfrm>
              <a:custGeom>
                <a:avLst/>
                <a:gdLst/>
                <a:ahLst/>
                <a:rect l="l" t="t" r="r" b="b"/>
                <a:pathLst>
                  <a:path w="865" h="1167">
                    <a:moveTo>
                      <a:pt x="865" y="124"/>
                    </a:moveTo>
                    <a:lnTo>
                      <a:pt x="853" y="191"/>
                    </a:lnTo>
                    <a:lnTo>
                      <a:pt x="841" y="247"/>
                    </a:lnTo>
                    <a:lnTo>
                      <a:pt x="831" y="315"/>
                    </a:lnTo>
                    <a:lnTo>
                      <a:pt x="819" y="381"/>
                    </a:lnTo>
                    <a:lnTo>
                      <a:pt x="797" y="449"/>
                    </a:lnTo>
                    <a:lnTo>
                      <a:pt x="786" y="505"/>
                    </a:lnTo>
                    <a:lnTo>
                      <a:pt x="763" y="572"/>
                    </a:lnTo>
                    <a:lnTo>
                      <a:pt x="752" y="629"/>
                    </a:lnTo>
                    <a:lnTo>
                      <a:pt x="730" y="696"/>
                    </a:lnTo>
                    <a:lnTo>
                      <a:pt x="707" y="763"/>
                    </a:lnTo>
                    <a:lnTo>
                      <a:pt x="696" y="819"/>
                    </a:lnTo>
                    <a:lnTo>
                      <a:pt x="674" y="886"/>
                    </a:lnTo>
                    <a:lnTo>
                      <a:pt x="651" y="942"/>
                    </a:lnTo>
                    <a:lnTo>
                      <a:pt x="641" y="1010"/>
                    </a:lnTo>
                    <a:lnTo>
                      <a:pt x="618" y="1078"/>
                    </a:lnTo>
                    <a:lnTo>
                      <a:pt x="607" y="1133"/>
                    </a:lnTo>
                    <a:lnTo>
                      <a:pt x="595" y="1144"/>
                    </a:lnTo>
                    <a:lnTo>
                      <a:pt x="585" y="1144"/>
                    </a:lnTo>
                    <a:lnTo>
                      <a:pt x="573" y="1155"/>
                    </a:lnTo>
                    <a:lnTo>
                      <a:pt x="562" y="1155"/>
                    </a:lnTo>
                    <a:lnTo>
                      <a:pt x="552" y="1155"/>
                    </a:lnTo>
                    <a:lnTo>
                      <a:pt x="540" y="1155"/>
                    </a:lnTo>
                    <a:lnTo>
                      <a:pt x="529" y="1167"/>
                    </a:lnTo>
                    <a:lnTo>
                      <a:pt x="517" y="1167"/>
                    </a:lnTo>
                    <a:lnTo>
                      <a:pt x="506" y="1167"/>
                    </a:lnTo>
                    <a:lnTo>
                      <a:pt x="496" y="1167"/>
                    </a:lnTo>
                    <a:lnTo>
                      <a:pt x="484" y="1167"/>
                    </a:lnTo>
                    <a:lnTo>
                      <a:pt x="473" y="1167"/>
                    </a:lnTo>
                    <a:lnTo>
                      <a:pt x="461" y="1167"/>
                    </a:lnTo>
                    <a:lnTo>
                      <a:pt x="449" y="1167"/>
                    </a:lnTo>
                    <a:lnTo>
                      <a:pt x="439" y="1167"/>
                    </a:lnTo>
                    <a:lnTo>
                      <a:pt x="427" y="1155"/>
                    </a:lnTo>
                    <a:lnTo>
                      <a:pt x="416" y="1155"/>
                    </a:lnTo>
                    <a:lnTo>
                      <a:pt x="404" y="1155"/>
                    </a:lnTo>
                    <a:lnTo>
                      <a:pt x="394" y="1155"/>
                    </a:lnTo>
                    <a:lnTo>
                      <a:pt x="382" y="1155"/>
                    </a:lnTo>
                    <a:lnTo>
                      <a:pt x="371" y="1155"/>
                    </a:lnTo>
                    <a:lnTo>
                      <a:pt x="360" y="1144"/>
                    </a:lnTo>
                    <a:lnTo>
                      <a:pt x="348" y="1144"/>
                    </a:lnTo>
                    <a:lnTo>
                      <a:pt x="348" y="1133"/>
                    </a:lnTo>
                    <a:lnTo>
                      <a:pt x="338" y="1133"/>
                    </a:lnTo>
                    <a:lnTo>
                      <a:pt x="338" y="1111"/>
                    </a:lnTo>
                    <a:lnTo>
                      <a:pt x="326" y="1088"/>
                    </a:lnTo>
                    <a:lnTo>
                      <a:pt x="315" y="1066"/>
                    </a:lnTo>
                    <a:lnTo>
                      <a:pt x="315" y="1043"/>
                    </a:lnTo>
                    <a:lnTo>
                      <a:pt x="304" y="1032"/>
                    </a:lnTo>
                    <a:lnTo>
                      <a:pt x="304" y="1010"/>
                    </a:lnTo>
                    <a:lnTo>
                      <a:pt x="293" y="986"/>
                    </a:lnTo>
                    <a:lnTo>
                      <a:pt x="282" y="964"/>
                    </a:lnTo>
                    <a:lnTo>
                      <a:pt x="282" y="942"/>
                    </a:lnTo>
                    <a:lnTo>
                      <a:pt x="270" y="920"/>
                    </a:lnTo>
                    <a:lnTo>
                      <a:pt x="259" y="897"/>
                    </a:lnTo>
                    <a:lnTo>
                      <a:pt x="259" y="886"/>
                    </a:lnTo>
                    <a:lnTo>
                      <a:pt x="247" y="864"/>
                    </a:lnTo>
                    <a:lnTo>
                      <a:pt x="237" y="841"/>
                    </a:lnTo>
                    <a:lnTo>
                      <a:pt x="237" y="819"/>
                    </a:lnTo>
                    <a:lnTo>
                      <a:pt x="226" y="796"/>
                    </a:lnTo>
                    <a:lnTo>
                      <a:pt x="226" y="785"/>
                    </a:lnTo>
                    <a:lnTo>
                      <a:pt x="226" y="774"/>
                    </a:lnTo>
                    <a:lnTo>
                      <a:pt x="226" y="763"/>
                    </a:lnTo>
                    <a:lnTo>
                      <a:pt x="226" y="752"/>
                    </a:lnTo>
                    <a:lnTo>
                      <a:pt x="214" y="740"/>
                    </a:lnTo>
                    <a:lnTo>
                      <a:pt x="214" y="730"/>
                    </a:lnTo>
                    <a:lnTo>
                      <a:pt x="214" y="718"/>
                    </a:lnTo>
                    <a:lnTo>
                      <a:pt x="203" y="707"/>
                    </a:lnTo>
                    <a:lnTo>
                      <a:pt x="203" y="696"/>
                    </a:lnTo>
                    <a:lnTo>
                      <a:pt x="192" y="684"/>
                    </a:lnTo>
                    <a:lnTo>
                      <a:pt x="192" y="674"/>
                    </a:lnTo>
                    <a:lnTo>
                      <a:pt x="181" y="662"/>
                    </a:lnTo>
                    <a:lnTo>
                      <a:pt x="181" y="651"/>
                    </a:lnTo>
                    <a:lnTo>
                      <a:pt x="181" y="640"/>
                    </a:lnTo>
                    <a:lnTo>
                      <a:pt x="170" y="606"/>
                    </a:lnTo>
                    <a:lnTo>
                      <a:pt x="158" y="583"/>
                    </a:lnTo>
                    <a:lnTo>
                      <a:pt x="148" y="561"/>
                    </a:lnTo>
                    <a:lnTo>
                      <a:pt x="148" y="538"/>
                    </a:lnTo>
                    <a:lnTo>
                      <a:pt x="136" y="505"/>
                    </a:lnTo>
                    <a:lnTo>
                      <a:pt x="125" y="482"/>
                    </a:lnTo>
                    <a:lnTo>
                      <a:pt x="114" y="460"/>
                    </a:lnTo>
                    <a:lnTo>
                      <a:pt x="92" y="437"/>
                    </a:lnTo>
                    <a:lnTo>
                      <a:pt x="80" y="415"/>
                    </a:lnTo>
                    <a:lnTo>
                      <a:pt x="69" y="381"/>
                    </a:lnTo>
                    <a:lnTo>
                      <a:pt x="57" y="359"/>
                    </a:lnTo>
                    <a:lnTo>
                      <a:pt x="47" y="336"/>
                    </a:lnTo>
                    <a:lnTo>
                      <a:pt x="35" y="315"/>
                    </a:lnTo>
                    <a:lnTo>
                      <a:pt x="24" y="292"/>
                    </a:lnTo>
                    <a:lnTo>
                      <a:pt x="12" y="270"/>
                    </a:lnTo>
                    <a:lnTo>
                      <a:pt x="0" y="247"/>
                    </a:lnTo>
                    <a:lnTo>
                      <a:pt x="0" y="225"/>
                    </a:lnTo>
                    <a:lnTo>
                      <a:pt x="12" y="214"/>
                    </a:lnTo>
                    <a:lnTo>
                      <a:pt x="24" y="202"/>
                    </a:lnTo>
                    <a:lnTo>
                      <a:pt x="35" y="202"/>
                    </a:lnTo>
                    <a:lnTo>
                      <a:pt x="47" y="191"/>
                    </a:lnTo>
                    <a:lnTo>
                      <a:pt x="57" y="181"/>
                    </a:lnTo>
                    <a:lnTo>
                      <a:pt x="69" y="169"/>
                    </a:lnTo>
                    <a:lnTo>
                      <a:pt x="80" y="169"/>
                    </a:lnTo>
                    <a:lnTo>
                      <a:pt x="92" y="157"/>
                    </a:lnTo>
                    <a:lnTo>
                      <a:pt x="102" y="157"/>
                    </a:lnTo>
                    <a:lnTo>
                      <a:pt x="114" y="145"/>
                    </a:lnTo>
                    <a:lnTo>
                      <a:pt x="125" y="145"/>
                    </a:lnTo>
                    <a:lnTo>
                      <a:pt x="136" y="134"/>
                    </a:lnTo>
                    <a:lnTo>
                      <a:pt x="148" y="124"/>
                    </a:lnTo>
                    <a:lnTo>
                      <a:pt x="158" y="124"/>
                    </a:lnTo>
                    <a:lnTo>
                      <a:pt x="170" y="112"/>
                    </a:lnTo>
                    <a:lnTo>
                      <a:pt x="181" y="112"/>
                    </a:lnTo>
                    <a:lnTo>
                      <a:pt x="192" y="101"/>
                    </a:lnTo>
                    <a:lnTo>
                      <a:pt x="203" y="101"/>
                    </a:lnTo>
                    <a:lnTo>
                      <a:pt x="203" y="89"/>
                    </a:lnTo>
                    <a:lnTo>
                      <a:pt x="214" y="89"/>
                    </a:lnTo>
                    <a:lnTo>
                      <a:pt x="226" y="79"/>
                    </a:lnTo>
                    <a:lnTo>
                      <a:pt x="237" y="79"/>
                    </a:lnTo>
                    <a:lnTo>
                      <a:pt x="247" y="68"/>
                    </a:lnTo>
                    <a:lnTo>
                      <a:pt x="259" y="68"/>
                    </a:lnTo>
                    <a:lnTo>
                      <a:pt x="270" y="56"/>
                    </a:lnTo>
                    <a:lnTo>
                      <a:pt x="282" y="56"/>
                    </a:lnTo>
                    <a:lnTo>
                      <a:pt x="293" y="56"/>
                    </a:lnTo>
                    <a:lnTo>
                      <a:pt x="304" y="56"/>
                    </a:lnTo>
                    <a:lnTo>
                      <a:pt x="315" y="56"/>
                    </a:lnTo>
                    <a:lnTo>
                      <a:pt x="348" y="45"/>
                    </a:lnTo>
                    <a:lnTo>
                      <a:pt x="382" y="33"/>
                    </a:lnTo>
                    <a:lnTo>
                      <a:pt x="416" y="23"/>
                    </a:lnTo>
                    <a:lnTo>
                      <a:pt x="449" y="11"/>
                    </a:lnTo>
                    <a:lnTo>
                      <a:pt x="496" y="11"/>
                    </a:lnTo>
                    <a:lnTo>
                      <a:pt x="529" y="0"/>
                    </a:lnTo>
                    <a:lnTo>
                      <a:pt x="562" y="0"/>
                    </a:lnTo>
                    <a:lnTo>
                      <a:pt x="607" y="0"/>
                    </a:lnTo>
                    <a:lnTo>
                      <a:pt x="641" y="11"/>
                    </a:lnTo>
                    <a:lnTo>
                      <a:pt x="674" y="11"/>
                    </a:lnTo>
                    <a:lnTo>
                      <a:pt x="707" y="23"/>
                    </a:lnTo>
                    <a:lnTo>
                      <a:pt x="742" y="33"/>
                    </a:lnTo>
                    <a:lnTo>
                      <a:pt x="775" y="56"/>
                    </a:lnTo>
                    <a:lnTo>
                      <a:pt x="808" y="68"/>
                    </a:lnTo>
                    <a:lnTo>
                      <a:pt x="831" y="89"/>
                    </a:lnTo>
                    <a:lnTo>
                      <a:pt x="865" y="1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7641000" y="2046600"/>
                <a:ext cx="100440" cy="392040"/>
              </a:xfrm>
              <a:custGeom>
                <a:avLst/>
                <a:gdLst/>
                <a:ahLst/>
                <a:rect l="l" t="t" r="r" b="b"/>
                <a:pathLst>
                  <a:path w="258" h="1009">
                    <a:moveTo>
                      <a:pt x="258" y="0"/>
                    </a:moveTo>
                    <a:lnTo>
                      <a:pt x="246" y="67"/>
                    </a:lnTo>
                    <a:lnTo>
                      <a:pt x="234" y="123"/>
                    </a:lnTo>
                    <a:lnTo>
                      <a:pt x="224" y="191"/>
                    </a:lnTo>
                    <a:lnTo>
                      <a:pt x="212" y="257"/>
                    </a:lnTo>
                    <a:lnTo>
                      <a:pt x="190" y="325"/>
                    </a:lnTo>
                    <a:lnTo>
                      <a:pt x="179" y="381"/>
                    </a:lnTo>
                    <a:lnTo>
                      <a:pt x="156" y="448"/>
                    </a:lnTo>
                    <a:lnTo>
                      <a:pt x="145" y="505"/>
                    </a:lnTo>
                    <a:lnTo>
                      <a:pt x="123" y="572"/>
                    </a:lnTo>
                    <a:lnTo>
                      <a:pt x="100" y="639"/>
                    </a:lnTo>
                    <a:lnTo>
                      <a:pt x="89" y="695"/>
                    </a:lnTo>
                    <a:lnTo>
                      <a:pt x="67" y="762"/>
                    </a:lnTo>
                    <a:lnTo>
                      <a:pt x="44" y="818"/>
                    </a:lnTo>
                    <a:lnTo>
                      <a:pt x="34" y="886"/>
                    </a:lnTo>
                    <a:lnTo>
                      <a:pt x="11" y="954"/>
                    </a:lnTo>
                    <a:lnTo>
                      <a:pt x="0" y="100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7491600" y="2307960"/>
                <a:ext cx="44280" cy="130680"/>
              </a:xfrm>
              <a:custGeom>
                <a:avLst/>
                <a:gdLst/>
                <a:ahLst/>
                <a:rect l="l" t="t" r="r" b="b"/>
                <a:pathLst>
                  <a:path w="112" h="337">
                    <a:moveTo>
                      <a:pt x="112" y="337"/>
                    </a:moveTo>
                    <a:lnTo>
                      <a:pt x="112" y="315"/>
                    </a:lnTo>
                    <a:lnTo>
                      <a:pt x="100" y="292"/>
                    </a:lnTo>
                    <a:lnTo>
                      <a:pt x="89" y="270"/>
                    </a:lnTo>
                    <a:lnTo>
                      <a:pt x="89" y="247"/>
                    </a:lnTo>
                    <a:lnTo>
                      <a:pt x="78" y="236"/>
                    </a:lnTo>
                    <a:lnTo>
                      <a:pt x="78" y="214"/>
                    </a:lnTo>
                    <a:lnTo>
                      <a:pt x="67" y="190"/>
                    </a:lnTo>
                    <a:lnTo>
                      <a:pt x="56" y="168"/>
                    </a:lnTo>
                    <a:lnTo>
                      <a:pt x="56" y="146"/>
                    </a:lnTo>
                    <a:lnTo>
                      <a:pt x="44" y="124"/>
                    </a:lnTo>
                    <a:lnTo>
                      <a:pt x="33" y="101"/>
                    </a:lnTo>
                    <a:lnTo>
                      <a:pt x="33" y="90"/>
                    </a:lnTo>
                    <a:lnTo>
                      <a:pt x="21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7473240" y="2247120"/>
                <a:ext cx="18360" cy="6084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45" y="156"/>
                    </a:moveTo>
                    <a:lnTo>
                      <a:pt x="45" y="145"/>
                    </a:lnTo>
                    <a:lnTo>
                      <a:pt x="45" y="134"/>
                    </a:lnTo>
                    <a:lnTo>
                      <a:pt x="45" y="123"/>
                    </a:lnTo>
                    <a:lnTo>
                      <a:pt x="45" y="112"/>
                    </a:lnTo>
                    <a:lnTo>
                      <a:pt x="33" y="100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22" y="67"/>
                    </a:lnTo>
                    <a:lnTo>
                      <a:pt x="22" y="56"/>
                    </a:lnTo>
                    <a:lnTo>
                      <a:pt x="11" y="44"/>
                    </a:lnTo>
                    <a:lnTo>
                      <a:pt x="11" y="34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7403040" y="2095200"/>
                <a:ext cx="70200" cy="151920"/>
              </a:xfrm>
              <a:custGeom>
                <a:avLst/>
                <a:gdLst/>
                <a:ahLst/>
                <a:rect l="l" t="t" r="r" b="b"/>
                <a:pathLst>
                  <a:path w="181" h="393">
                    <a:moveTo>
                      <a:pt x="181" y="393"/>
                    </a:moveTo>
                    <a:lnTo>
                      <a:pt x="170" y="359"/>
                    </a:lnTo>
                    <a:lnTo>
                      <a:pt x="158" y="336"/>
                    </a:lnTo>
                    <a:lnTo>
                      <a:pt x="148" y="314"/>
                    </a:lnTo>
                    <a:lnTo>
                      <a:pt x="148" y="291"/>
                    </a:lnTo>
                    <a:lnTo>
                      <a:pt x="136" y="258"/>
                    </a:lnTo>
                    <a:lnTo>
                      <a:pt x="125" y="235"/>
                    </a:lnTo>
                    <a:lnTo>
                      <a:pt x="114" y="213"/>
                    </a:lnTo>
                    <a:lnTo>
                      <a:pt x="92" y="190"/>
                    </a:lnTo>
                    <a:lnTo>
                      <a:pt x="80" y="168"/>
                    </a:lnTo>
                    <a:lnTo>
                      <a:pt x="69" y="134"/>
                    </a:lnTo>
                    <a:lnTo>
                      <a:pt x="57" y="112"/>
                    </a:lnTo>
                    <a:lnTo>
                      <a:pt x="47" y="89"/>
                    </a:lnTo>
                    <a:lnTo>
                      <a:pt x="35" y="68"/>
                    </a:lnTo>
                    <a:lnTo>
                      <a:pt x="24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7151040" y="2146680"/>
                <a:ext cx="345240" cy="441360"/>
              </a:xfrm>
              <a:custGeom>
                <a:avLst/>
                <a:gdLst/>
                <a:ahLst/>
                <a:rect l="l" t="t" r="r" b="b"/>
                <a:pathLst>
                  <a:path w="885" h="1134">
                    <a:moveTo>
                      <a:pt x="615" y="68"/>
                    </a:moveTo>
                    <a:lnTo>
                      <a:pt x="627" y="112"/>
                    </a:lnTo>
                    <a:lnTo>
                      <a:pt x="648" y="157"/>
                    </a:lnTo>
                    <a:lnTo>
                      <a:pt x="660" y="191"/>
                    </a:lnTo>
                    <a:lnTo>
                      <a:pt x="672" y="237"/>
                    </a:lnTo>
                    <a:lnTo>
                      <a:pt x="695" y="270"/>
                    </a:lnTo>
                    <a:lnTo>
                      <a:pt x="705" y="315"/>
                    </a:lnTo>
                    <a:lnTo>
                      <a:pt x="728" y="359"/>
                    </a:lnTo>
                    <a:lnTo>
                      <a:pt x="740" y="393"/>
                    </a:lnTo>
                    <a:lnTo>
                      <a:pt x="750" y="438"/>
                    </a:lnTo>
                    <a:lnTo>
                      <a:pt x="762" y="483"/>
                    </a:lnTo>
                    <a:lnTo>
                      <a:pt x="784" y="527"/>
                    </a:lnTo>
                    <a:lnTo>
                      <a:pt x="796" y="561"/>
                    </a:lnTo>
                    <a:lnTo>
                      <a:pt x="806" y="605"/>
                    </a:lnTo>
                    <a:lnTo>
                      <a:pt x="818" y="651"/>
                    </a:lnTo>
                    <a:lnTo>
                      <a:pt x="829" y="697"/>
                    </a:lnTo>
                    <a:lnTo>
                      <a:pt x="840" y="741"/>
                    </a:lnTo>
                    <a:lnTo>
                      <a:pt x="840" y="752"/>
                    </a:lnTo>
                    <a:lnTo>
                      <a:pt x="851" y="763"/>
                    </a:lnTo>
                    <a:lnTo>
                      <a:pt x="851" y="774"/>
                    </a:lnTo>
                    <a:lnTo>
                      <a:pt x="851" y="786"/>
                    </a:lnTo>
                    <a:lnTo>
                      <a:pt x="862" y="796"/>
                    </a:lnTo>
                    <a:lnTo>
                      <a:pt x="862" y="808"/>
                    </a:lnTo>
                    <a:lnTo>
                      <a:pt x="874" y="819"/>
                    </a:lnTo>
                    <a:lnTo>
                      <a:pt x="874" y="830"/>
                    </a:lnTo>
                    <a:lnTo>
                      <a:pt x="885" y="842"/>
                    </a:lnTo>
                    <a:lnTo>
                      <a:pt x="885" y="852"/>
                    </a:lnTo>
                    <a:lnTo>
                      <a:pt x="885" y="864"/>
                    </a:lnTo>
                    <a:lnTo>
                      <a:pt x="885" y="875"/>
                    </a:lnTo>
                    <a:lnTo>
                      <a:pt x="885" y="887"/>
                    </a:lnTo>
                    <a:lnTo>
                      <a:pt x="885" y="897"/>
                    </a:lnTo>
                    <a:lnTo>
                      <a:pt x="862" y="920"/>
                    </a:lnTo>
                    <a:lnTo>
                      <a:pt x="829" y="931"/>
                    </a:lnTo>
                    <a:lnTo>
                      <a:pt x="796" y="943"/>
                    </a:lnTo>
                    <a:lnTo>
                      <a:pt x="762" y="953"/>
                    </a:lnTo>
                    <a:lnTo>
                      <a:pt x="728" y="964"/>
                    </a:lnTo>
                    <a:lnTo>
                      <a:pt x="695" y="987"/>
                    </a:lnTo>
                    <a:lnTo>
                      <a:pt x="672" y="998"/>
                    </a:lnTo>
                    <a:lnTo>
                      <a:pt x="638" y="1009"/>
                    </a:lnTo>
                    <a:lnTo>
                      <a:pt x="604" y="1020"/>
                    </a:lnTo>
                    <a:lnTo>
                      <a:pt x="571" y="1044"/>
                    </a:lnTo>
                    <a:lnTo>
                      <a:pt x="537" y="1054"/>
                    </a:lnTo>
                    <a:lnTo>
                      <a:pt x="515" y="1066"/>
                    </a:lnTo>
                    <a:lnTo>
                      <a:pt x="481" y="1089"/>
                    </a:lnTo>
                    <a:lnTo>
                      <a:pt x="448" y="1099"/>
                    </a:lnTo>
                    <a:lnTo>
                      <a:pt x="414" y="1111"/>
                    </a:lnTo>
                    <a:lnTo>
                      <a:pt x="381" y="1134"/>
                    </a:lnTo>
                    <a:lnTo>
                      <a:pt x="369" y="1134"/>
                    </a:lnTo>
                    <a:lnTo>
                      <a:pt x="358" y="1134"/>
                    </a:lnTo>
                    <a:lnTo>
                      <a:pt x="347" y="1134"/>
                    </a:lnTo>
                    <a:lnTo>
                      <a:pt x="336" y="1134"/>
                    </a:lnTo>
                    <a:lnTo>
                      <a:pt x="325" y="1134"/>
                    </a:lnTo>
                    <a:lnTo>
                      <a:pt x="303" y="1122"/>
                    </a:lnTo>
                    <a:lnTo>
                      <a:pt x="291" y="1111"/>
                    </a:lnTo>
                    <a:lnTo>
                      <a:pt x="291" y="1099"/>
                    </a:lnTo>
                    <a:lnTo>
                      <a:pt x="280" y="1099"/>
                    </a:lnTo>
                    <a:lnTo>
                      <a:pt x="268" y="1089"/>
                    </a:lnTo>
                    <a:lnTo>
                      <a:pt x="258" y="1078"/>
                    </a:lnTo>
                    <a:lnTo>
                      <a:pt x="246" y="1066"/>
                    </a:lnTo>
                    <a:lnTo>
                      <a:pt x="234" y="1054"/>
                    </a:lnTo>
                    <a:lnTo>
                      <a:pt x="223" y="1044"/>
                    </a:lnTo>
                    <a:lnTo>
                      <a:pt x="211" y="1032"/>
                    </a:lnTo>
                    <a:lnTo>
                      <a:pt x="200" y="1020"/>
                    </a:lnTo>
                    <a:lnTo>
                      <a:pt x="190" y="998"/>
                    </a:lnTo>
                    <a:lnTo>
                      <a:pt x="178" y="976"/>
                    </a:lnTo>
                    <a:lnTo>
                      <a:pt x="167" y="953"/>
                    </a:lnTo>
                    <a:lnTo>
                      <a:pt x="155" y="931"/>
                    </a:lnTo>
                    <a:lnTo>
                      <a:pt x="134" y="908"/>
                    </a:lnTo>
                    <a:lnTo>
                      <a:pt x="122" y="887"/>
                    </a:lnTo>
                    <a:lnTo>
                      <a:pt x="111" y="864"/>
                    </a:lnTo>
                    <a:lnTo>
                      <a:pt x="100" y="842"/>
                    </a:lnTo>
                    <a:lnTo>
                      <a:pt x="100" y="819"/>
                    </a:lnTo>
                    <a:lnTo>
                      <a:pt x="89" y="796"/>
                    </a:lnTo>
                    <a:lnTo>
                      <a:pt x="77" y="774"/>
                    </a:lnTo>
                    <a:lnTo>
                      <a:pt x="66" y="752"/>
                    </a:lnTo>
                    <a:lnTo>
                      <a:pt x="56" y="730"/>
                    </a:lnTo>
                    <a:lnTo>
                      <a:pt x="56" y="707"/>
                    </a:lnTo>
                    <a:lnTo>
                      <a:pt x="44" y="674"/>
                    </a:lnTo>
                    <a:lnTo>
                      <a:pt x="33" y="651"/>
                    </a:lnTo>
                    <a:lnTo>
                      <a:pt x="33" y="640"/>
                    </a:lnTo>
                    <a:lnTo>
                      <a:pt x="21" y="640"/>
                    </a:lnTo>
                    <a:lnTo>
                      <a:pt x="21" y="629"/>
                    </a:lnTo>
                    <a:lnTo>
                      <a:pt x="10" y="629"/>
                    </a:lnTo>
                    <a:lnTo>
                      <a:pt x="10" y="617"/>
                    </a:lnTo>
                    <a:lnTo>
                      <a:pt x="10" y="605"/>
                    </a:lnTo>
                    <a:lnTo>
                      <a:pt x="10" y="594"/>
                    </a:lnTo>
                    <a:lnTo>
                      <a:pt x="0" y="594"/>
                    </a:lnTo>
                    <a:lnTo>
                      <a:pt x="0" y="583"/>
                    </a:lnTo>
                    <a:lnTo>
                      <a:pt x="0" y="572"/>
                    </a:lnTo>
                    <a:lnTo>
                      <a:pt x="10" y="561"/>
                    </a:lnTo>
                    <a:lnTo>
                      <a:pt x="10" y="549"/>
                    </a:lnTo>
                    <a:lnTo>
                      <a:pt x="44" y="516"/>
                    </a:lnTo>
                    <a:lnTo>
                      <a:pt x="77" y="483"/>
                    </a:lnTo>
                    <a:lnTo>
                      <a:pt x="111" y="450"/>
                    </a:lnTo>
                    <a:lnTo>
                      <a:pt x="155" y="427"/>
                    </a:lnTo>
                    <a:lnTo>
                      <a:pt x="190" y="393"/>
                    </a:lnTo>
                    <a:lnTo>
                      <a:pt x="223" y="359"/>
                    </a:lnTo>
                    <a:lnTo>
                      <a:pt x="268" y="326"/>
                    </a:lnTo>
                    <a:lnTo>
                      <a:pt x="303" y="293"/>
                    </a:lnTo>
                    <a:lnTo>
                      <a:pt x="336" y="270"/>
                    </a:lnTo>
                    <a:lnTo>
                      <a:pt x="381" y="237"/>
                    </a:lnTo>
                    <a:lnTo>
                      <a:pt x="414" y="191"/>
                    </a:lnTo>
                    <a:lnTo>
                      <a:pt x="448" y="157"/>
                    </a:lnTo>
                    <a:lnTo>
                      <a:pt x="481" y="124"/>
                    </a:lnTo>
                    <a:lnTo>
                      <a:pt x="503" y="90"/>
                    </a:lnTo>
                    <a:lnTo>
                      <a:pt x="537" y="46"/>
                    </a:lnTo>
                    <a:lnTo>
                      <a:pt x="559" y="0"/>
                    </a:lnTo>
                    <a:lnTo>
                      <a:pt x="571" y="0"/>
                    </a:lnTo>
                    <a:lnTo>
                      <a:pt x="582" y="11"/>
                    </a:lnTo>
                    <a:lnTo>
                      <a:pt x="592" y="11"/>
                    </a:lnTo>
                    <a:lnTo>
                      <a:pt x="592" y="23"/>
                    </a:lnTo>
                    <a:lnTo>
                      <a:pt x="592" y="34"/>
                    </a:lnTo>
                    <a:lnTo>
                      <a:pt x="604" y="34"/>
                    </a:lnTo>
                    <a:lnTo>
                      <a:pt x="604" y="46"/>
                    </a:lnTo>
                    <a:lnTo>
                      <a:pt x="604" y="56"/>
                    </a:lnTo>
                    <a:lnTo>
                      <a:pt x="615" y="6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7391160" y="2172600"/>
                <a:ext cx="86760" cy="261360"/>
              </a:xfrm>
              <a:custGeom>
                <a:avLst/>
                <a:gdLst/>
                <a:ahLst/>
                <a:rect l="l" t="t" r="r" b="b"/>
                <a:pathLst>
                  <a:path w="225" h="673">
                    <a:moveTo>
                      <a:pt x="0" y="0"/>
                    </a:moveTo>
                    <a:lnTo>
                      <a:pt x="12" y="44"/>
                    </a:lnTo>
                    <a:lnTo>
                      <a:pt x="33" y="89"/>
                    </a:lnTo>
                    <a:lnTo>
                      <a:pt x="45" y="123"/>
                    </a:lnTo>
                    <a:lnTo>
                      <a:pt x="57" y="169"/>
                    </a:lnTo>
                    <a:lnTo>
                      <a:pt x="80" y="202"/>
                    </a:lnTo>
                    <a:lnTo>
                      <a:pt x="90" y="247"/>
                    </a:lnTo>
                    <a:lnTo>
                      <a:pt x="113" y="291"/>
                    </a:lnTo>
                    <a:lnTo>
                      <a:pt x="125" y="325"/>
                    </a:lnTo>
                    <a:lnTo>
                      <a:pt x="135" y="370"/>
                    </a:lnTo>
                    <a:lnTo>
                      <a:pt x="147" y="415"/>
                    </a:lnTo>
                    <a:lnTo>
                      <a:pt x="169" y="459"/>
                    </a:lnTo>
                    <a:lnTo>
                      <a:pt x="181" y="493"/>
                    </a:lnTo>
                    <a:lnTo>
                      <a:pt x="191" y="537"/>
                    </a:lnTo>
                    <a:lnTo>
                      <a:pt x="203" y="583"/>
                    </a:lnTo>
                    <a:lnTo>
                      <a:pt x="214" y="629"/>
                    </a:lnTo>
                    <a:lnTo>
                      <a:pt x="225" y="67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7477920" y="2433960"/>
                <a:ext cx="18360" cy="63000"/>
              </a:xfrm>
              <a:custGeom>
                <a:avLst/>
                <a:gdLst/>
                <a:ahLst/>
                <a:rect l="l" t="t" r="r" b="b"/>
                <a:pathLst>
                  <a:path w="45" h="156">
                    <a:moveTo>
                      <a:pt x="0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22" y="55"/>
                    </a:lnTo>
                    <a:lnTo>
                      <a:pt x="22" y="67"/>
                    </a:lnTo>
                    <a:lnTo>
                      <a:pt x="34" y="78"/>
                    </a:lnTo>
                    <a:lnTo>
                      <a:pt x="34" y="89"/>
                    </a:lnTo>
                    <a:lnTo>
                      <a:pt x="45" y="101"/>
                    </a:lnTo>
                    <a:lnTo>
                      <a:pt x="45" y="111"/>
                    </a:lnTo>
                    <a:lnTo>
                      <a:pt x="45" y="123"/>
                    </a:lnTo>
                    <a:lnTo>
                      <a:pt x="45" y="134"/>
                    </a:lnTo>
                    <a:lnTo>
                      <a:pt x="45" y="146"/>
                    </a:lnTo>
                    <a:lnTo>
                      <a:pt x="45" y="1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7300080" y="249696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7">
                    <a:moveTo>
                      <a:pt x="504" y="0"/>
                    </a:moveTo>
                    <a:lnTo>
                      <a:pt x="481" y="23"/>
                    </a:lnTo>
                    <a:lnTo>
                      <a:pt x="448" y="34"/>
                    </a:lnTo>
                    <a:lnTo>
                      <a:pt x="415" y="46"/>
                    </a:lnTo>
                    <a:lnTo>
                      <a:pt x="381" y="56"/>
                    </a:lnTo>
                    <a:lnTo>
                      <a:pt x="347" y="67"/>
                    </a:lnTo>
                    <a:lnTo>
                      <a:pt x="314" y="90"/>
                    </a:lnTo>
                    <a:lnTo>
                      <a:pt x="291" y="101"/>
                    </a:lnTo>
                    <a:lnTo>
                      <a:pt x="257" y="112"/>
                    </a:lnTo>
                    <a:lnTo>
                      <a:pt x="223" y="123"/>
                    </a:lnTo>
                    <a:lnTo>
                      <a:pt x="190" y="147"/>
                    </a:lnTo>
                    <a:lnTo>
                      <a:pt x="156" y="157"/>
                    </a:lnTo>
                    <a:lnTo>
                      <a:pt x="134" y="169"/>
                    </a:lnTo>
                    <a:lnTo>
                      <a:pt x="100" y="192"/>
                    </a:lnTo>
                    <a:lnTo>
                      <a:pt x="67" y="202"/>
                    </a:lnTo>
                    <a:lnTo>
                      <a:pt x="33" y="214"/>
                    </a:lnTo>
                    <a:lnTo>
                      <a:pt x="0" y="2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7165440" y="2401200"/>
                <a:ext cx="64800" cy="142200"/>
              </a:xfrm>
              <a:custGeom>
                <a:avLst/>
                <a:gdLst/>
                <a:ahLst/>
                <a:rect l="l" t="t" r="r" b="b"/>
                <a:pathLst>
                  <a:path w="167" h="369">
                    <a:moveTo>
                      <a:pt x="167" y="369"/>
                    </a:moveTo>
                    <a:lnTo>
                      <a:pt x="157" y="347"/>
                    </a:lnTo>
                    <a:lnTo>
                      <a:pt x="145" y="325"/>
                    </a:lnTo>
                    <a:lnTo>
                      <a:pt x="134" y="302"/>
                    </a:lnTo>
                    <a:lnTo>
                      <a:pt x="122" y="280"/>
                    </a:lnTo>
                    <a:lnTo>
                      <a:pt x="101" y="257"/>
                    </a:lnTo>
                    <a:lnTo>
                      <a:pt x="89" y="236"/>
                    </a:lnTo>
                    <a:lnTo>
                      <a:pt x="78" y="213"/>
                    </a:lnTo>
                    <a:lnTo>
                      <a:pt x="67" y="191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3"/>
                    </a:lnTo>
                    <a:lnTo>
                      <a:pt x="33" y="101"/>
                    </a:lnTo>
                    <a:lnTo>
                      <a:pt x="23" y="79"/>
                    </a:lnTo>
                    <a:lnTo>
                      <a:pt x="23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7155720" y="2146680"/>
                <a:ext cx="214560" cy="214920"/>
              </a:xfrm>
              <a:custGeom>
                <a:avLst/>
                <a:gdLst/>
                <a:ahLst/>
                <a:rect l="l" t="t" r="r" b="b"/>
                <a:pathLst>
                  <a:path w="549" h="549">
                    <a:moveTo>
                      <a:pt x="0" y="549"/>
                    </a:moveTo>
                    <a:lnTo>
                      <a:pt x="34" y="516"/>
                    </a:lnTo>
                    <a:lnTo>
                      <a:pt x="67" y="483"/>
                    </a:lnTo>
                    <a:lnTo>
                      <a:pt x="101" y="450"/>
                    </a:lnTo>
                    <a:lnTo>
                      <a:pt x="145" y="427"/>
                    </a:lnTo>
                    <a:lnTo>
                      <a:pt x="180" y="393"/>
                    </a:lnTo>
                    <a:lnTo>
                      <a:pt x="213" y="359"/>
                    </a:lnTo>
                    <a:lnTo>
                      <a:pt x="258" y="326"/>
                    </a:lnTo>
                    <a:lnTo>
                      <a:pt x="293" y="293"/>
                    </a:lnTo>
                    <a:lnTo>
                      <a:pt x="326" y="270"/>
                    </a:lnTo>
                    <a:lnTo>
                      <a:pt x="371" y="237"/>
                    </a:lnTo>
                    <a:lnTo>
                      <a:pt x="404" y="191"/>
                    </a:lnTo>
                    <a:lnTo>
                      <a:pt x="438" y="157"/>
                    </a:lnTo>
                    <a:lnTo>
                      <a:pt x="471" y="124"/>
                    </a:lnTo>
                    <a:lnTo>
                      <a:pt x="493" y="90"/>
                    </a:lnTo>
                    <a:lnTo>
                      <a:pt x="527" y="46"/>
                    </a:lnTo>
                    <a:lnTo>
                      <a:pt x="54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7181640" y="2177280"/>
                <a:ext cx="300240" cy="389520"/>
              </a:xfrm>
              <a:custGeom>
                <a:avLst/>
                <a:gdLst/>
                <a:ahLst/>
                <a:rect l="l" t="t" r="r" b="b"/>
                <a:pathLst>
                  <a:path w="774" h="999">
                    <a:moveTo>
                      <a:pt x="685" y="595"/>
                    </a:moveTo>
                    <a:lnTo>
                      <a:pt x="685" y="606"/>
                    </a:lnTo>
                    <a:lnTo>
                      <a:pt x="696" y="628"/>
                    </a:lnTo>
                    <a:lnTo>
                      <a:pt x="696" y="639"/>
                    </a:lnTo>
                    <a:lnTo>
                      <a:pt x="696" y="651"/>
                    </a:lnTo>
                    <a:lnTo>
                      <a:pt x="707" y="662"/>
                    </a:lnTo>
                    <a:lnTo>
                      <a:pt x="707" y="684"/>
                    </a:lnTo>
                    <a:lnTo>
                      <a:pt x="719" y="695"/>
                    </a:lnTo>
                    <a:lnTo>
                      <a:pt x="719" y="707"/>
                    </a:lnTo>
                    <a:lnTo>
                      <a:pt x="729" y="717"/>
                    </a:lnTo>
                    <a:lnTo>
                      <a:pt x="729" y="729"/>
                    </a:lnTo>
                    <a:lnTo>
                      <a:pt x="741" y="751"/>
                    </a:lnTo>
                    <a:lnTo>
                      <a:pt x="741" y="763"/>
                    </a:lnTo>
                    <a:lnTo>
                      <a:pt x="752" y="773"/>
                    </a:lnTo>
                    <a:lnTo>
                      <a:pt x="763" y="785"/>
                    </a:lnTo>
                    <a:lnTo>
                      <a:pt x="763" y="796"/>
                    </a:lnTo>
                    <a:lnTo>
                      <a:pt x="774" y="808"/>
                    </a:lnTo>
                    <a:lnTo>
                      <a:pt x="741" y="829"/>
                    </a:lnTo>
                    <a:lnTo>
                      <a:pt x="719" y="841"/>
                    </a:lnTo>
                    <a:lnTo>
                      <a:pt x="685" y="852"/>
                    </a:lnTo>
                    <a:lnTo>
                      <a:pt x="663" y="864"/>
                    </a:lnTo>
                    <a:lnTo>
                      <a:pt x="628" y="874"/>
                    </a:lnTo>
                    <a:lnTo>
                      <a:pt x="606" y="885"/>
                    </a:lnTo>
                    <a:lnTo>
                      <a:pt x="571" y="897"/>
                    </a:lnTo>
                    <a:lnTo>
                      <a:pt x="550" y="908"/>
                    </a:lnTo>
                    <a:lnTo>
                      <a:pt x="515" y="919"/>
                    </a:lnTo>
                    <a:lnTo>
                      <a:pt x="482" y="930"/>
                    </a:lnTo>
                    <a:lnTo>
                      <a:pt x="460" y="930"/>
                    </a:lnTo>
                    <a:lnTo>
                      <a:pt x="426" y="941"/>
                    </a:lnTo>
                    <a:lnTo>
                      <a:pt x="404" y="953"/>
                    </a:lnTo>
                    <a:lnTo>
                      <a:pt x="371" y="965"/>
                    </a:lnTo>
                    <a:lnTo>
                      <a:pt x="348" y="987"/>
                    </a:lnTo>
                    <a:lnTo>
                      <a:pt x="315" y="999"/>
                    </a:lnTo>
                    <a:lnTo>
                      <a:pt x="304" y="999"/>
                    </a:lnTo>
                    <a:lnTo>
                      <a:pt x="292" y="999"/>
                    </a:lnTo>
                    <a:lnTo>
                      <a:pt x="281" y="999"/>
                    </a:lnTo>
                    <a:lnTo>
                      <a:pt x="270" y="987"/>
                    </a:lnTo>
                    <a:lnTo>
                      <a:pt x="259" y="987"/>
                    </a:lnTo>
                    <a:lnTo>
                      <a:pt x="248" y="975"/>
                    </a:lnTo>
                    <a:lnTo>
                      <a:pt x="236" y="965"/>
                    </a:lnTo>
                    <a:lnTo>
                      <a:pt x="226" y="953"/>
                    </a:lnTo>
                    <a:lnTo>
                      <a:pt x="214" y="941"/>
                    </a:lnTo>
                    <a:lnTo>
                      <a:pt x="214" y="930"/>
                    </a:lnTo>
                    <a:lnTo>
                      <a:pt x="203" y="930"/>
                    </a:lnTo>
                    <a:lnTo>
                      <a:pt x="191" y="919"/>
                    </a:lnTo>
                    <a:lnTo>
                      <a:pt x="169" y="897"/>
                    </a:lnTo>
                    <a:lnTo>
                      <a:pt x="157" y="885"/>
                    </a:lnTo>
                    <a:lnTo>
                      <a:pt x="146" y="864"/>
                    </a:lnTo>
                    <a:lnTo>
                      <a:pt x="134" y="841"/>
                    </a:lnTo>
                    <a:lnTo>
                      <a:pt x="123" y="818"/>
                    </a:lnTo>
                    <a:lnTo>
                      <a:pt x="113" y="796"/>
                    </a:lnTo>
                    <a:lnTo>
                      <a:pt x="113" y="785"/>
                    </a:lnTo>
                    <a:lnTo>
                      <a:pt x="101" y="763"/>
                    </a:lnTo>
                    <a:lnTo>
                      <a:pt x="90" y="740"/>
                    </a:lnTo>
                    <a:lnTo>
                      <a:pt x="78" y="717"/>
                    </a:lnTo>
                    <a:lnTo>
                      <a:pt x="78" y="695"/>
                    </a:lnTo>
                    <a:lnTo>
                      <a:pt x="68" y="673"/>
                    </a:lnTo>
                    <a:lnTo>
                      <a:pt x="57" y="651"/>
                    </a:lnTo>
                    <a:lnTo>
                      <a:pt x="57" y="628"/>
                    </a:lnTo>
                    <a:lnTo>
                      <a:pt x="45" y="606"/>
                    </a:lnTo>
                    <a:lnTo>
                      <a:pt x="45" y="583"/>
                    </a:lnTo>
                    <a:lnTo>
                      <a:pt x="34" y="572"/>
                    </a:lnTo>
                    <a:lnTo>
                      <a:pt x="34" y="561"/>
                    </a:lnTo>
                    <a:lnTo>
                      <a:pt x="23" y="550"/>
                    </a:lnTo>
                    <a:lnTo>
                      <a:pt x="23" y="538"/>
                    </a:lnTo>
                    <a:lnTo>
                      <a:pt x="12" y="526"/>
                    </a:lnTo>
                    <a:lnTo>
                      <a:pt x="12" y="515"/>
                    </a:lnTo>
                    <a:lnTo>
                      <a:pt x="0" y="515"/>
                    </a:lnTo>
                    <a:lnTo>
                      <a:pt x="0" y="504"/>
                    </a:lnTo>
                    <a:lnTo>
                      <a:pt x="0" y="493"/>
                    </a:lnTo>
                    <a:lnTo>
                      <a:pt x="0" y="482"/>
                    </a:lnTo>
                    <a:lnTo>
                      <a:pt x="12" y="470"/>
                    </a:lnTo>
                    <a:lnTo>
                      <a:pt x="23" y="460"/>
                    </a:lnTo>
                    <a:lnTo>
                      <a:pt x="34" y="448"/>
                    </a:lnTo>
                    <a:lnTo>
                      <a:pt x="45" y="448"/>
                    </a:lnTo>
                    <a:lnTo>
                      <a:pt x="45" y="437"/>
                    </a:lnTo>
                    <a:lnTo>
                      <a:pt x="57" y="437"/>
                    </a:lnTo>
                    <a:lnTo>
                      <a:pt x="57" y="426"/>
                    </a:lnTo>
                    <a:lnTo>
                      <a:pt x="68" y="426"/>
                    </a:lnTo>
                    <a:lnTo>
                      <a:pt x="68" y="414"/>
                    </a:lnTo>
                    <a:lnTo>
                      <a:pt x="78" y="414"/>
                    </a:lnTo>
                    <a:lnTo>
                      <a:pt x="90" y="404"/>
                    </a:lnTo>
                    <a:lnTo>
                      <a:pt x="101" y="392"/>
                    </a:lnTo>
                    <a:lnTo>
                      <a:pt x="113" y="392"/>
                    </a:lnTo>
                    <a:lnTo>
                      <a:pt x="113" y="381"/>
                    </a:lnTo>
                    <a:lnTo>
                      <a:pt x="146" y="359"/>
                    </a:lnTo>
                    <a:lnTo>
                      <a:pt x="169" y="336"/>
                    </a:lnTo>
                    <a:lnTo>
                      <a:pt x="191" y="314"/>
                    </a:lnTo>
                    <a:lnTo>
                      <a:pt x="214" y="292"/>
                    </a:lnTo>
                    <a:lnTo>
                      <a:pt x="248" y="270"/>
                    </a:lnTo>
                    <a:lnTo>
                      <a:pt x="270" y="247"/>
                    </a:lnTo>
                    <a:lnTo>
                      <a:pt x="292" y="224"/>
                    </a:lnTo>
                    <a:lnTo>
                      <a:pt x="315" y="202"/>
                    </a:lnTo>
                    <a:lnTo>
                      <a:pt x="348" y="180"/>
                    </a:lnTo>
                    <a:lnTo>
                      <a:pt x="371" y="158"/>
                    </a:lnTo>
                    <a:lnTo>
                      <a:pt x="393" y="135"/>
                    </a:lnTo>
                    <a:lnTo>
                      <a:pt x="416" y="101"/>
                    </a:lnTo>
                    <a:lnTo>
                      <a:pt x="426" y="78"/>
                    </a:lnTo>
                    <a:lnTo>
                      <a:pt x="449" y="56"/>
                    </a:lnTo>
                    <a:lnTo>
                      <a:pt x="472" y="22"/>
                    </a:lnTo>
                    <a:lnTo>
                      <a:pt x="482" y="0"/>
                    </a:lnTo>
                    <a:lnTo>
                      <a:pt x="505" y="33"/>
                    </a:lnTo>
                    <a:lnTo>
                      <a:pt x="515" y="66"/>
                    </a:lnTo>
                    <a:lnTo>
                      <a:pt x="527" y="101"/>
                    </a:lnTo>
                    <a:lnTo>
                      <a:pt x="538" y="146"/>
                    </a:lnTo>
                    <a:lnTo>
                      <a:pt x="550" y="180"/>
                    </a:lnTo>
                    <a:lnTo>
                      <a:pt x="571" y="214"/>
                    </a:lnTo>
                    <a:lnTo>
                      <a:pt x="583" y="258"/>
                    </a:lnTo>
                    <a:lnTo>
                      <a:pt x="595" y="292"/>
                    </a:lnTo>
                    <a:lnTo>
                      <a:pt x="606" y="325"/>
                    </a:lnTo>
                    <a:lnTo>
                      <a:pt x="618" y="371"/>
                    </a:lnTo>
                    <a:lnTo>
                      <a:pt x="628" y="404"/>
                    </a:lnTo>
                    <a:lnTo>
                      <a:pt x="640" y="448"/>
                    </a:lnTo>
                    <a:lnTo>
                      <a:pt x="651" y="482"/>
                    </a:lnTo>
                    <a:lnTo>
                      <a:pt x="663" y="515"/>
                    </a:lnTo>
                    <a:lnTo>
                      <a:pt x="673" y="561"/>
                    </a:lnTo>
                    <a:lnTo>
                      <a:pt x="685" y="595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7447320" y="2408040"/>
                <a:ext cx="34920" cy="8388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0" y="0"/>
                    </a:moveTo>
                    <a:lnTo>
                      <a:pt x="0" y="11"/>
                    </a:lnTo>
                    <a:lnTo>
                      <a:pt x="11" y="33"/>
                    </a:lnTo>
                    <a:lnTo>
                      <a:pt x="11" y="44"/>
                    </a:lnTo>
                    <a:lnTo>
                      <a:pt x="11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34" y="100"/>
                    </a:lnTo>
                    <a:lnTo>
                      <a:pt x="34" y="112"/>
                    </a:lnTo>
                    <a:lnTo>
                      <a:pt x="44" y="122"/>
                    </a:lnTo>
                    <a:lnTo>
                      <a:pt x="44" y="134"/>
                    </a:lnTo>
                    <a:lnTo>
                      <a:pt x="56" y="156"/>
                    </a:lnTo>
                    <a:lnTo>
                      <a:pt x="56" y="168"/>
                    </a:lnTo>
                    <a:lnTo>
                      <a:pt x="67" y="178"/>
                    </a:lnTo>
                    <a:lnTo>
                      <a:pt x="78" y="190"/>
                    </a:lnTo>
                    <a:lnTo>
                      <a:pt x="78" y="201"/>
                    </a:lnTo>
                    <a:lnTo>
                      <a:pt x="89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7305120" y="2492280"/>
                <a:ext cx="177120" cy="74520"/>
              </a:xfrm>
              <a:custGeom>
                <a:avLst/>
                <a:gdLst/>
                <a:ahLst/>
                <a:rect l="l" t="t" r="r" b="b"/>
                <a:pathLst>
                  <a:path w="459" h="191">
                    <a:moveTo>
                      <a:pt x="459" y="0"/>
                    </a:moveTo>
                    <a:lnTo>
                      <a:pt x="426" y="21"/>
                    </a:lnTo>
                    <a:lnTo>
                      <a:pt x="404" y="33"/>
                    </a:lnTo>
                    <a:lnTo>
                      <a:pt x="370" y="44"/>
                    </a:lnTo>
                    <a:lnTo>
                      <a:pt x="348" y="56"/>
                    </a:lnTo>
                    <a:lnTo>
                      <a:pt x="313" y="66"/>
                    </a:lnTo>
                    <a:lnTo>
                      <a:pt x="291" y="77"/>
                    </a:lnTo>
                    <a:lnTo>
                      <a:pt x="256" y="89"/>
                    </a:lnTo>
                    <a:lnTo>
                      <a:pt x="235" y="100"/>
                    </a:lnTo>
                    <a:lnTo>
                      <a:pt x="200" y="111"/>
                    </a:lnTo>
                    <a:lnTo>
                      <a:pt x="167" y="122"/>
                    </a:lnTo>
                    <a:lnTo>
                      <a:pt x="145" y="122"/>
                    </a:lnTo>
                    <a:lnTo>
                      <a:pt x="111" y="133"/>
                    </a:lnTo>
                    <a:lnTo>
                      <a:pt x="89" y="145"/>
                    </a:lnTo>
                    <a:lnTo>
                      <a:pt x="56" y="157"/>
                    </a:lnTo>
                    <a:lnTo>
                      <a:pt x="33" y="179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7200360" y="2404080"/>
                <a:ext cx="55800" cy="129960"/>
              </a:xfrm>
              <a:custGeom>
                <a:avLst/>
                <a:gdLst/>
                <a:ahLst/>
                <a:rect l="l" t="t" r="r" b="b"/>
                <a:pathLst>
                  <a:path w="146" h="336">
                    <a:moveTo>
                      <a:pt x="146" y="336"/>
                    </a:moveTo>
                    <a:lnTo>
                      <a:pt x="124" y="314"/>
                    </a:lnTo>
                    <a:lnTo>
                      <a:pt x="112" y="302"/>
                    </a:lnTo>
                    <a:lnTo>
                      <a:pt x="101" y="281"/>
                    </a:lnTo>
                    <a:lnTo>
                      <a:pt x="89" y="258"/>
                    </a:lnTo>
                    <a:lnTo>
                      <a:pt x="78" y="235"/>
                    </a:lnTo>
                    <a:lnTo>
                      <a:pt x="68" y="213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45" y="157"/>
                    </a:lnTo>
                    <a:lnTo>
                      <a:pt x="33" y="134"/>
                    </a:lnTo>
                    <a:lnTo>
                      <a:pt x="33" y="112"/>
                    </a:lnTo>
                    <a:lnTo>
                      <a:pt x="23" y="90"/>
                    </a:lnTo>
                    <a:lnTo>
                      <a:pt x="12" y="68"/>
                    </a:lnTo>
                    <a:lnTo>
                      <a:pt x="12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7225560" y="2177280"/>
                <a:ext cx="144720" cy="149040"/>
              </a:xfrm>
              <a:custGeom>
                <a:avLst/>
                <a:gdLst/>
                <a:ahLst/>
                <a:rect l="l" t="t" r="r" b="b"/>
                <a:pathLst>
                  <a:path w="369" h="381">
                    <a:moveTo>
                      <a:pt x="0" y="381"/>
                    </a:moveTo>
                    <a:lnTo>
                      <a:pt x="33" y="359"/>
                    </a:lnTo>
                    <a:lnTo>
                      <a:pt x="56" y="336"/>
                    </a:lnTo>
                    <a:lnTo>
                      <a:pt x="78" y="314"/>
                    </a:lnTo>
                    <a:lnTo>
                      <a:pt x="101" y="292"/>
                    </a:lnTo>
                    <a:lnTo>
                      <a:pt x="135" y="270"/>
                    </a:lnTo>
                    <a:lnTo>
                      <a:pt x="157" y="247"/>
                    </a:lnTo>
                    <a:lnTo>
                      <a:pt x="179" y="224"/>
                    </a:lnTo>
                    <a:lnTo>
                      <a:pt x="202" y="202"/>
                    </a:lnTo>
                    <a:lnTo>
                      <a:pt x="235" y="180"/>
                    </a:lnTo>
                    <a:lnTo>
                      <a:pt x="258" y="158"/>
                    </a:lnTo>
                    <a:lnTo>
                      <a:pt x="280" y="135"/>
                    </a:lnTo>
                    <a:lnTo>
                      <a:pt x="303" y="101"/>
                    </a:lnTo>
                    <a:lnTo>
                      <a:pt x="313" y="78"/>
                    </a:lnTo>
                    <a:lnTo>
                      <a:pt x="336" y="56"/>
                    </a:lnTo>
                    <a:lnTo>
                      <a:pt x="359" y="22"/>
                    </a:lnTo>
                    <a:lnTo>
                      <a:pt x="3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7370640" y="2177280"/>
                <a:ext cx="76680" cy="230760"/>
              </a:xfrm>
              <a:custGeom>
                <a:avLst/>
                <a:gdLst/>
                <a:ahLst/>
                <a:rect l="l" t="t" r="r" b="b"/>
                <a:pathLst>
                  <a:path w="203" h="595">
                    <a:moveTo>
                      <a:pt x="0" y="0"/>
                    </a:moveTo>
                    <a:lnTo>
                      <a:pt x="23" y="33"/>
                    </a:lnTo>
                    <a:lnTo>
                      <a:pt x="33" y="66"/>
                    </a:lnTo>
                    <a:lnTo>
                      <a:pt x="45" y="101"/>
                    </a:lnTo>
                    <a:lnTo>
                      <a:pt x="56" y="146"/>
                    </a:lnTo>
                    <a:lnTo>
                      <a:pt x="68" y="180"/>
                    </a:lnTo>
                    <a:lnTo>
                      <a:pt x="89" y="214"/>
                    </a:lnTo>
                    <a:lnTo>
                      <a:pt x="101" y="258"/>
                    </a:lnTo>
                    <a:lnTo>
                      <a:pt x="113" y="292"/>
                    </a:lnTo>
                    <a:lnTo>
                      <a:pt x="124" y="325"/>
                    </a:lnTo>
                    <a:lnTo>
                      <a:pt x="136" y="371"/>
                    </a:lnTo>
                    <a:lnTo>
                      <a:pt x="146" y="404"/>
                    </a:lnTo>
                    <a:lnTo>
                      <a:pt x="158" y="448"/>
                    </a:lnTo>
                    <a:lnTo>
                      <a:pt x="169" y="482"/>
                    </a:lnTo>
                    <a:lnTo>
                      <a:pt x="181" y="515"/>
                    </a:lnTo>
                    <a:lnTo>
                      <a:pt x="191" y="561"/>
                    </a:lnTo>
                    <a:lnTo>
                      <a:pt x="203" y="5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7456680" y="2478600"/>
                <a:ext cx="305640" cy="615960"/>
              </a:xfrm>
              <a:custGeom>
                <a:avLst/>
                <a:gdLst/>
                <a:ahLst/>
                <a:rect l="l" t="t" r="r" b="b"/>
                <a:pathLst>
                  <a:path w="785" h="1581">
                    <a:moveTo>
                      <a:pt x="672" y="23"/>
                    </a:moveTo>
                    <a:lnTo>
                      <a:pt x="683" y="35"/>
                    </a:lnTo>
                    <a:lnTo>
                      <a:pt x="695" y="45"/>
                    </a:lnTo>
                    <a:lnTo>
                      <a:pt x="705" y="45"/>
                    </a:lnTo>
                    <a:lnTo>
                      <a:pt x="717" y="56"/>
                    </a:lnTo>
                    <a:lnTo>
                      <a:pt x="717" y="68"/>
                    </a:lnTo>
                    <a:lnTo>
                      <a:pt x="729" y="91"/>
                    </a:lnTo>
                    <a:lnTo>
                      <a:pt x="729" y="101"/>
                    </a:lnTo>
                    <a:lnTo>
                      <a:pt x="740" y="112"/>
                    </a:lnTo>
                    <a:lnTo>
                      <a:pt x="740" y="124"/>
                    </a:lnTo>
                    <a:lnTo>
                      <a:pt x="740" y="146"/>
                    </a:lnTo>
                    <a:lnTo>
                      <a:pt x="740" y="157"/>
                    </a:lnTo>
                    <a:lnTo>
                      <a:pt x="740" y="168"/>
                    </a:lnTo>
                    <a:lnTo>
                      <a:pt x="740" y="192"/>
                    </a:lnTo>
                    <a:lnTo>
                      <a:pt x="740" y="202"/>
                    </a:lnTo>
                    <a:lnTo>
                      <a:pt x="740" y="214"/>
                    </a:lnTo>
                    <a:lnTo>
                      <a:pt x="740" y="226"/>
                    </a:lnTo>
                    <a:lnTo>
                      <a:pt x="740" y="270"/>
                    </a:lnTo>
                    <a:lnTo>
                      <a:pt x="752" y="303"/>
                    </a:lnTo>
                    <a:lnTo>
                      <a:pt x="752" y="338"/>
                    </a:lnTo>
                    <a:lnTo>
                      <a:pt x="752" y="371"/>
                    </a:lnTo>
                    <a:lnTo>
                      <a:pt x="752" y="416"/>
                    </a:lnTo>
                    <a:lnTo>
                      <a:pt x="762" y="449"/>
                    </a:lnTo>
                    <a:lnTo>
                      <a:pt x="762" y="483"/>
                    </a:lnTo>
                    <a:lnTo>
                      <a:pt x="762" y="516"/>
                    </a:lnTo>
                    <a:lnTo>
                      <a:pt x="762" y="549"/>
                    </a:lnTo>
                    <a:lnTo>
                      <a:pt x="762" y="594"/>
                    </a:lnTo>
                    <a:lnTo>
                      <a:pt x="774" y="629"/>
                    </a:lnTo>
                    <a:lnTo>
                      <a:pt x="774" y="663"/>
                    </a:lnTo>
                    <a:lnTo>
                      <a:pt x="774" y="696"/>
                    </a:lnTo>
                    <a:lnTo>
                      <a:pt x="774" y="730"/>
                    </a:lnTo>
                    <a:lnTo>
                      <a:pt x="774" y="775"/>
                    </a:lnTo>
                    <a:lnTo>
                      <a:pt x="774" y="808"/>
                    </a:lnTo>
                    <a:lnTo>
                      <a:pt x="774" y="831"/>
                    </a:lnTo>
                    <a:lnTo>
                      <a:pt x="774" y="864"/>
                    </a:lnTo>
                    <a:lnTo>
                      <a:pt x="774" y="887"/>
                    </a:lnTo>
                    <a:lnTo>
                      <a:pt x="774" y="920"/>
                    </a:lnTo>
                    <a:lnTo>
                      <a:pt x="774" y="942"/>
                    </a:lnTo>
                    <a:lnTo>
                      <a:pt x="774" y="965"/>
                    </a:lnTo>
                    <a:lnTo>
                      <a:pt x="774" y="998"/>
                    </a:lnTo>
                    <a:lnTo>
                      <a:pt x="774" y="1021"/>
                    </a:lnTo>
                    <a:lnTo>
                      <a:pt x="774" y="1043"/>
                    </a:lnTo>
                    <a:lnTo>
                      <a:pt x="774" y="1066"/>
                    </a:lnTo>
                    <a:lnTo>
                      <a:pt x="774" y="1100"/>
                    </a:lnTo>
                    <a:lnTo>
                      <a:pt x="785" y="1122"/>
                    </a:lnTo>
                    <a:lnTo>
                      <a:pt x="785" y="1144"/>
                    </a:lnTo>
                    <a:lnTo>
                      <a:pt x="785" y="1179"/>
                    </a:lnTo>
                    <a:lnTo>
                      <a:pt x="785" y="1200"/>
                    </a:lnTo>
                    <a:lnTo>
                      <a:pt x="785" y="1223"/>
                    </a:lnTo>
                    <a:lnTo>
                      <a:pt x="774" y="1256"/>
                    </a:lnTo>
                    <a:lnTo>
                      <a:pt x="752" y="1279"/>
                    </a:lnTo>
                    <a:lnTo>
                      <a:pt x="740" y="1301"/>
                    </a:lnTo>
                    <a:lnTo>
                      <a:pt x="717" y="1324"/>
                    </a:lnTo>
                    <a:lnTo>
                      <a:pt x="695" y="1346"/>
                    </a:lnTo>
                    <a:lnTo>
                      <a:pt x="683" y="1369"/>
                    </a:lnTo>
                    <a:lnTo>
                      <a:pt x="661" y="1390"/>
                    </a:lnTo>
                    <a:lnTo>
                      <a:pt x="639" y="1413"/>
                    </a:lnTo>
                    <a:lnTo>
                      <a:pt x="616" y="1425"/>
                    </a:lnTo>
                    <a:lnTo>
                      <a:pt x="594" y="1446"/>
                    </a:lnTo>
                    <a:lnTo>
                      <a:pt x="571" y="1470"/>
                    </a:lnTo>
                    <a:lnTo>
                      <a:pt x="550" y="1492"/>
                    </a:lnTo>
                    <a:lnTo>
                      <a:pt x="527" y="1515"/>
                    </a:lnTo>
                    <a:lnTo>
                      <a:pt x="505" y="1538"/>
                    </a:lnTo>
                    <a:lnTo>
                      <a:pt x="482" y="1560"/>
                    </a:lnTo>
                    <a:lnTo>
                      <a:pt x="471" y="1581"/>
                    </a:lnTo>
                    <a:lnTo>
                      <a:pt x="459" y="1581"/>
                    </a:lnTo>
                    <a:lnTo>
                      <a:pt x="449" y="1581"/>
                    </a:lnTo>
                    <a:lnTo>
                      <a:pt x="437" y="1581"/>
                    </a:lnTo>
                    <a:lnTo>
                      <a:pt x="426" y="1581"/>
                    </a:lnTo>
                    <a:lnTo>
                      <a:pt x="404" y="1526"/>
                    </a:lnTo>
                    <a:lnTo>
                      <a:pt x="381" y="1458"/>
                    </a:lnTo>
                    <a:lnTo>
                      <a:pt x="360" y="1402"/>
                    </a:lnTo>
                    <a:lnTo>
                      <a:pt x="337" y="1334"/>
                    </a:lnTo>
                    <a:lnTo>
                      <a:pt x="325" y="1268"/>
                    </a:lnTo>
                    <a:lnTo>
                      <a:pt x="303" y="1200"/>
                    </a:lnTo>
                    <a:lnTo>
                      <a:pt x="280" y="1144"/>
                    </a:lnTo>
                    <a:lnTo>
                      <a:pt x="258" y="1078"/>
                    </a:lnTo>
                    <a:lnTo>
                      <a:pt x="246" y="1009"/>
                    </a:lnTo>
                    <a:lnTo>
                      <a:pt x="224" y="953"/>
                    </a:lnTo>
                    <a:lnTo>
                      <a:pt x="202" y="887"/>
                    </a:lnTo>
                    <a:lnTo>
                      <a:pt x="168" y="819"/>
                    </a:lnTo>
                    <a:lnTo>
                      <a:pt x="146" y="763"/>
                    </a:lnTo>
                    <a:lnTo>
                      <a:pt x="111" y="707"/>
                    </a:lnTo>
                    <a:lnTo>
                      <a:pt x="90" y="641"/>
                    </a:lnTo>
                    <a:lnTo>
                      <a:pt x="56" y="584"/>
                    </a:lnTo>
                    <a:lnTo>
                      <a:pt x="45" y="584"/>
                    </a:lnTo>
                    <a:lnTo>
                      <a:pt x="0" y="427"/>
                    </a:lnTo>
                    <a:lnTo>
                      <a:pt x="0" y="404"/>
                    </a:lnTo>
                    <a:lnTo>
                      <a:pt x="12" y="382"/>
                    </a:lnTo>
                    <a:lnTo>
                      <a:pt x="22" y="371"/>
                    </a:lnTo>
                    <a:lnTo>
                      <a:pt x="22" y="348"/>
                    </a:lnTo>
                    <a:lnTo>
                      <a:pt x="34" y="326"/>
                    </a:lnTo>
                    <a:lnTo>
                      <a:pt x="45" y="303"/>
                    </a:lnTo>
                    <a:lnTo>
                      <a:pt x="56" y="293"/>
                    </a:lnTo>
                    <a:lnTo>
                      <a:pt x="56" y="270"/>
                    </a:lnTo>
                    <a:lnTo>
                      <a:pt x="67" y="247"/>
                    </a:lnTo>
                    <a:lnTo>
                      <a:pt x="78" y="226"/>
                    </a:lnTo>
                    <a:lnTo>
                      <a:pt x="90" y="214"/>
                    </a:lnTo>
                    <a:lnTo>
                      <a:pt x="90" y="192"/>
                    </a:lnTo>
                    <a:lnTo>
                      <a:pt x="101" y="168"/>
                    </a:lnTo>
                    <a:lnTo>
                      <a:pt x="101" y="146"/>
                    </a:lnTo>
                    <a:lnTo>
                      <a:pt x="111" y="124"/>
                    </a:lnTo>
                    <a:lnTo>
                      <a:pt x="123" y="112"/>
                    </a:lnTo>
                    <a:lnTo>
                      <a:pt x="146" y="91"/>
                    </a:lnTo>
                    <a:lnTo>
                      <a:pt x="179" y="68"/>
                    </a:lnTo>
                    <a:lnTo>
                      <a:pt x="212" y="56"/>
                    </a:lnTo>
                    <a:lnTo>
                      <a:pt x="246" y="45"/>
                    </a:lnTo>
                    <a:lnTo>
                      <a:pt x="280" y="35"/>
                    </a:lnTo>
                    <a:lnTo>
                      <a:pt x="313" y="23"/>
                    </a:lnTo>
                    <a:lnTo>
                      <a:pt x="348" y="23"/>
                    </a:lnTo>
                    <a:lnTo>
                      <a:pt x="381" y="12"/>
                    </a:lnTo>
                    <a:lnTo>
                      <a:pt x="426" y="12"/>
                    </a:lnTo>
                    <a:lnTo>
                      <a:pt x="459" y="12"/>
                    </a:lnTo>
                    <a:lnTo>
                      <a:pt x="493" y="0"/>
                    </a:lnTo>
                    <a:lnTo>
                      <a:pt x="527" y="12"/>
                    </a:lnTo>
                    <a:lnTo>
                      <a:pt x="560" y="12"/>
                    </a:lnTo>
                    <a:lnTo>
                      <a:pt x="594" y="12"/>
                    </a:lnTo>
                    <a:lnTo>
                      <a:pt x="639" y="23"/>
                    </a:lnTo>
                    <a:lnTo>
                      <a:pt x="672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7718400" y="2487600"/>
                <a:ext cx="25200" cy="79200"/>
              </a:xfrm>
              <a:custGeom>
                <a:avLst/>
                <a:gdLst/>
                <a:ahLst/>
                <a:rect l="l" t="t" r="r" b="b"/>
                <a:pathLst>
                  <a:path w="68" h="203">
                    <a:moveTo>
                      <a:pt x="0" y="0"/>
                    </a:moveTo>
                    <a:lnTo>
                      <a:pt x="11" y="12"/>
                    </a:lnTo>
                    <a:lnTo>
                      <a:pt x="23" y="22"/>
                    </a:lnTo>
                    <a:lnTo>
                      <a:pt x="33" y="22"/>
                    </a:lnTo>
                    <a:lnTo>
                      <a:pt x="45" y="33"/>
                    </a:lnTo>
                    <a:lnTo>
                      <a:pt x="45" y="45"/>
                    </a:lnTo>
                    <a:lnTo>
                      <a:pt x="57" y="68"/>
                    </a:lnTo>
                    <a:lnTo>
                      <a:pt x="57" y="78"/>
                    </a:lnTo>
                    <a:lnTo>
                      <a:pt x="68" y="89"/>
                    </a:lnTo>
                    <a:lnTo>
                      <a:pt x="68" y="101"/>
                    </a:lnTo>
                    <a:lnTo>
                      <a:pt x="68" y="123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68" y="169"/>
                    </a:lnTo>
                    <a:lnTo>
                      <a:pt x="68" y="179"/>
                    </a:lnTo>
                    <a:lnTo>
                      <a:pt x="68" y="191"/>
                    </a:lnTo>
                    <a:lnTo>
                      <a:pt x="68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7743600" y="2566800"/>
                <a:ext cx="14040" cy="226440"/>
              </a:xfrm>
              <a:custGeom>
                <a:avLst/>
                <a:gdLst/>
                <a:ahLst/>
                <a:rect l="l" t="t" r="r" b="b"/>
                <a:pathLst>
                  <a:path w="34" h="582">
                    <a:moveTo>
                      <a:pt x="0" y="0"/>
                    </a:moveTo>
                    <a:lnTo>
                      <a:pt x="0" y="44"/>
                    </a:lnTo>
                    <a:lnTo>
                      <a:pt x="12" y="77"/>
                    </a:lnTo>
                    <a:lnTo>
                      <a:pt x="12" y="112"/>
                    </a:lnTo>
                    <a:lnTo>
                      <a:pt x="12" y="145"/>
                    </a:lnTo>
                    <a:lnTo>
                      <a:pt x="12" y="190"/>
                    </a:lnTo>
                    <a:lnTo>
                      <a:pt x="22" y="223"/>
                    </a:lnTo>
                    <a:lnTo>
                      <a:pt x="22" y="257"/>
                    </a:lnTo>
                    <a:lnTo>
                      <a:pt x="22" y="290"/>
                    </a:lnTo>
                    <a:lnTo>
                      <a:pt x="22" y="323"/>
                    </a:lnTo>
                    <a:lnTo>
                      <a:pt x="22" y="368"/>
                    </a:lnTo>
                    <a:lnTo>
                      <a:pt x="34" y="403"/>
                    </a:lnTo>
                    <a:lnTo>
                      <a:pt x="34" y="437"/>
                    </a:lnTo>
                    <a:lnTo>
                      <a:pt x="34" y="470"/>
                    </a:lnTo>
                    <a:lnTo>
                      <a:pt x="34" y="504"/>
                    </a:lnTo>
                    <a:lnTo>
                      <a:pt x="34" y="549"/>
                    </a:lnTo>
                    <a:lnTo>
                      <a:pt x="34" y="5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7758000" y="2793600"/>
                <a:ext cx="4680" cy="160920"/>
              </a:xfrm>
              <a:custGeom>
                <a:avLst/>
                <a:gdLst/>
                <a:ahLst/>
                <a:rect l="l" t="t" r="r" b="b"/>
                <a:pathLst>
                  <a:path w="11" h="415">
                    <a:moveTo>
                      <a:pt x="0" y="0"/>
                    </a:moveTo>
                    <a:lnTo>
                      <a:pt x="0" y="23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0" y="112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0" y="190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58"/>
                    </a:lnTo>
                    <a:lnTo>
                      <a:pt x="0" y="292"/>
                    </a:lnTo>
                    <a:lnTo>
                      <a:pt x="11" y="314"/>
                    </a:lnTo>
                    <a:lnTo>
                      <a:pt x="11" y="336"/>
                    </a:lnTo>
                    <a:lnTo>
                      <a:pt x="11" y="371"/>
                    </a:lnTo>
                    <a:lnTo>
                      <a:pt x="11" y="392"/>
                    </a:lnTo>
                    <a:lnTo>
                      <a:pt x="11" y="4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7641000" y="2954520"/>
                <a:ext cx="121680" cy="140040"/>
              </a:xfrm>
              <a:custGeom>
                <a:avLst/>
                <a:gdLst/>
                <a:ahLst/>
                <a:rect l="l" t="t" r="r" b="b"/>
                <a:pathLst>
                  <a:path w="314" h="358">
                    <a:moveTo>
                      <a:pt x="314" y="0"/>
                    </a:moveTo>
                    <a:lnTo>
                      <a:pt x="303" y="33"/>
                    </a:lnTo>
                    <a:lnTo>
                      <a:pt x="281" y="56"/>
                    </a:lnTo>
                    <a:lnTo>
                      <a:pt x="269" y="78"/>
                    </a:lnTo>
                    <a:lnTo>
                      <a:pt x="246" y="101"/>
                    </a:lnTo>
                    <a:lnTo>
                      <a:pt x="224" y="123"/>
                    </a:lnTo>
                    <a:lnTo>
                      <a:pt x="212" y="146"/>
                    </a:lnTo>
                    <a:lnTo>
                      <a:pt x="190" y="167"/>
                    </a:lnTo>
                    <a:lnTo>
                      <a:pt x="168" y="190"/>
                    </a:lnTo>
                    <a:lnTo>
                      <a:pt x="145" y="202"/>
                    </a:lnTo>
                    <a:lnTo>
                      <a:pt x="123" y="223"/>
                    </a:lnTo>
                    <a:lnTo>
                      <a:pt x="100" y="247"/>
                    </a:lnTo>
                    <a:lnTo>
                      <a:pt x="79" y="269"/>
                    </a:lnTo>
                    <a:lnTo>
                      <a:pt x="56" y="292"/>
                    </a:lnTo>
                    <a:lnTo>
                      <a:pt x="34" y="315"/>
                    </a:lnTo>
                    <a:lnTo>
                      <a:pt x="11" y="337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7477920" y="2704680"/>
                <a:ext cx="144360" cy="389880"/>
              </a:xfrm>
              <a:custGeom>
                <a:avLst/>
                <a:gdLst/>
                <a:ahLst/>
                <a:rect l="l" t="t" r="r" b="b"/>
                <a:pathLst>
                  <a:path w="370" h="997">
                    <a:moveTo>
                      <a:pt x="370" y="997"/>
                    </a:moveTo>
                    <a:lnTo>
                      <a:pt x="348" y="942"/>
                    </a:lnTo>
                    <a:lnTo>
                      <a:pt x="325" y="874"/>
                    </a:lnTo>
                    <a:lnTo>
                      <a:pt x="304" y="818"/>
                    </a:lnTo>
                    <a:lnTo>
                      <a:pt x="281" y="750"/>
                    </a:lnTo>
                    <a:lnTo>
                      <a:pt x="269" y="684"/>
                    </a:lnTo>
                    <a:lnTo>
                      <a:pt x="247" y="616"/>
                    </a:lnTo>
                    <a:lnTo>
                      <a:pt x="224" y="560"/>
                    </a:lnTo>
                    <a:lnTo>
                      <a:pt x="202" y="494"/>
                    </a:lnTo>
                    <a:lnTo>
                      <a:pt x="190" y="425"/>
                    </a:lnTo>
                    <a:lnTo>
                      <a:pt x="168" y="369"/>
                    </a:lnTo>
                    <a:lnTo>
                      <a:pt x="146" y="303"/>
                    </a:lnTo>
                    <a:lnTo>
                      <a:pt x="112" y="235"/>
                    </a:lnTo>
                    <a:lnTo>
                      <a:pt x="90" y="179"/>
                    </a:lnTo>
                    <a:lnTo>
                      <a:pt x="55" y="123"/>
                    </a:lnTo>
                    <a:lnTo>
                      <a:pt x="34" y="5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 flipV="1">
                <a:off x="7456320" y="2643840"/>
                <a:ext cx="16200" cy="60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7456680" y="2522520"/>
                <a:ext cx="48960" cy="121680"/>
              </a:xfrm>
              <a:custGeom>
                <a:avLst/>
                <a:gdLst/>
                <a:ahLst/>
                <a:rect l="l" t="t" r="r" b="b"/>
                <a:pathLst>
                  <a:path w="123" h="315">
                    <a:moveTo>
                      <a:pt x="0" y="315"/>
                    </a:moveTo>
                    <a:lnTo>
                      <a:pt x="0" y="292"/>
                    </a:lnTo>
                    <a:lnTo>
                      <a:pt x="12" y="270"/>
                    </a:lnTo>
                    <a:lnTo>
                      <a:pt x="22" y="259"/>
                    </a:lnTo>
                    <a:lnTo>
                      <a:pt x="22" y="236"/>
                    </a:lnTo>
                    <a:lnTo>
                      <a:pt x="34" y="214"/>
                    </a:lnTo>
                    <a:lnTo>
                      <a:pt x="45" y="191"/>
                    </a:lnTo>
                    <a:lnTo>
                      <a:pt x="56" y="181"/>
                    </a:lnTo>
                    <a:lnTo>
                      <a:pt x="56" y="158"/>
                    </a:lnTo>
                    <a:lnTo>
                      <a:pt x="67" y="135"/>
                    </a:lnTo>
                    <a:lnTo>
                      <a:pt x="78" y="114"/>
                    </a:lnTo>
                    <a:lnTo>
                      <a:pt x="90" y="102"/>
                    </a:lnTo>
                    <a:lnTo>
                      <a:pt x="90" y="80"/>
                    </a:lnTo>
                    <a:lnTo>
                      <a:pt x="101" y="56"/>
                    </a:lnTo>
                    <a:lnTo>
                      <a:pt x="101" y="34"/>
                    </a:lnTo>
                    <a:lnTo>
                      <a:pt x="111" y="12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7470720" y="2499120"/>
                <a:ext cx="270720" cy="572040"/>
              </a:xfrm>
              <a:custGeom>
                <a:avLst/>
                <a:gdLst/>
                <a:ahLst/>
                <a:rect l="l" t="t" r="r" b="b"/>
                <a:pathLst>
                  <a:path w="695" h="1470">
                    <a:moveTo>
                      <a:pt x="649" y="56"/>
                    </a:moveTo>
                    <a:lnTo>
                      <a:pt x="661" y="124"/>
                    </a:lnTo>
                    <a:lnTo>
                      <a:pt x="661" y="191"/>
                    </a:lnTo>
                    <a:lnTo>
                      <a:pt x="671" y="270"/>
                    </a:lnTo>
                    <a:lnTo>
                      <a:pt x="671" y="337"/>
                    </a:lnTo>
                    <a:lnTo>
                      <a:pt x="683" y="404"/>
                    </a:lnTo>
                    <a:lnTo>
                      <a:pt x="683" y="482"/>
                    </a:lnTo>
                    <a:lnTo>
                      <a:pt x="683" y="550"/>
                    </a:lnTo>
                    <a:lnTo>
                      <a:pt x="683" y="618"/>
                    </a:lnTo>
                    <a:lnTo>
                      <a:pt x="683" y="696"/>
                    </a:lnTo>
                    <a:lnTo>
                      <a:pt x="695" y="763"/>
                    </a:lnTo>
                    <a:lnTo>
                      <a:pt x="695" y="831"/>
                    </a:lnTo>
                    <a:lnTo>
                      <a:pt x="695" y="897"/>
                    </a:lnTo>
                    <a:lnTo>
                      <a:pt x="695" y="975"/>
                    </a:lnTo>
                    <a:lnTo>
                      <a:pt x="695" y="1044"/>
                    </a:lnTo>
                    <a:lnTo>
                      <a:pt x="695" y="1111"/>
                    </a:lnTo>
                    <a:lnTo>
                      <a:pt x="695" y="1179"/>
                    </a:lnTo>
                    <a:lnTo>
                      <a:pt x="661" y="1245"/>
                    </a:lnTo>
                    <a:lnTo>
                      <a:pt x="425" y="1470"/>
                    </a:lnTo>
                    <a:lnTo>
                      <a:pt x="415" y="1414"/>
                    </a:lnTo>
                    <a:lnTo>
                      <a:pt x="392" y="1369"/>
                    </a:lnTo>
                    <a:lnTo>
                      <a:pt x="382" y="1324"/>
                    </a:lnTo>
                    <a:lnTo>
                      <a:pt x="370" y="1278"/>
                    </a:lnTo>
                    <a:lnTo>
                      <a:pt x="347" y="1234"/>
                    </a:lnTo>
                    <a:lnTo>
                      <a:pt x="336" y="1189"/>
                    </a:lnTo>
                    <a:lnTo>
                      <a:pt x="326" y="1144"/>
                    </a:lnTo>
                    <a:lnTo>
                      <a:pt x="303" y="1088"/>
                    </a:lnTo>
                    <a:lnTo>
                      <a:pt x="291" y="1044"/>
                    </a:lnTo>
                    <a:lnTo>
                      <a:pt x="269" y="999"/>
                    </a:lnTo>
                    <a:lnTo>
                      <a:pt x="257" y="953"/>
                    </a:lnTo>
                    <a:lnTo>
                      <a:pt x="246" y="909"/>
                    </a:lnTo>
                    <a:lnTo>
                      <a:pt x="224" y="864"/>
                    </a:lnTo>
                    <a:lnTo>
                      <a:pt x="212" y="819"/>
                    </a:lnTo>
                    <a:lnTo>
                      <a:pt x="190" y="775"/>
                    </a:lnTo>
                    <a:lnTo>
                      <a:pt x="178" y="719"/>
                    </a:lnTo>
                    <a:lnTo>
                      <a:pt x="168" y="696"/>
                    </a:lnTo>
                    <a:lnTo>
                      <a:pt x="156" y="674"/>
                    </a:lnTo>
                    <a:lnTo>
                      <a:pt x="145" y="651"/>
                    </a:lnTo>
                    <a:lnTo>
                      <a:pt x="134" y="629"/>
                    </a:lnTo>
                    <a:lnTo>
                      <a:pt x="123" y="607"/>
                    </a:lnTo>
                    <a:lnTo>
                      <a:pt x="112" y="585"/>
                    </a:lnTo>
                    <a:lnTo>
                      <a:pt x="89" y="573"/>
                    </a:lnTo>
                    <a:lnTo>
                      <a:pt x="77" y="550"/>
                    </a:lnTo>
                    <a:lnTo>
                      <a:pt x="67" y="528"/>
                    </a:lnTo>
                    <a:lnTo>
                      <a:pt x="56" y="505"/>
                    </a:lnTo>
                    <a:lnTo>
                      <a:pt x="44" y="482"/>
                    </a:lnTo>
                    <a:lnTo>
                      <a:pt x="33" y="460"/>
                    </a:lnTo>
                    <a:lnTo>
                      <a:pt x="22" y="437"/>
                    </a:lnTo>
                    <a:lnTo>
                      <a:pt x="11" y="416"/>
                    </a:lnTo>
                    <a:lnTo>
                      <a:pt x="0" y="381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11" y="337"/>
                    </a:lnTo>
                    <a:lnTo>
                      <a:pt x="11" y="326"/>
                    </a:lnTo>
                    <a:lnTo>
                      <a:pt x="22" y="315"/>
                    </a:lnTo>
                    <a:lnTo>
                      <a:pt x="33" y="303"/>
                    </a:lnTo>
                    <a:lnTo>
                      <a:pt x="33" y="292"/>
                    </a:lnTo>
                    <a:lnTo>
                      <a:pt x="44" y="282"/>
                    </a:lnTo>
                    <a:lnTo>
                      <a:pt x="44" y="270"/>
                    </a:lnTo>
                    <a:lnTo>
                      <a:pt x="56" y="259"/>
                    </a:lnTo>
                    <a:lnTo>
                      <a:pt x="56" y="247"/>
                    </a:lnTo>
                    <a:lnTo>
                      <a:pt x="67" y="237"/>
                    </a:lnTo>
                    <a:lnTo>
                      <a:pt x="67" y="214"/>
                    </a:lnTo>
                    <a:lnTo>
                      <a:pt x="77" y="203"/>
                    </a:lnTo>
                    <a:lnTo>
                      <a:pt x="89" y="191"/>
                    </a:lnTo>
                    <a:lnTo>
                      <a:pt x="89" y="181"/>
                    </a:lnTo>
                    <a:lnTo>
                      <a:pt x="100" y="170"/>
                    </a:lnTo>
                    <a:lnTo>
                      <a:pt x="112" y="158"/>
                    </a:lnTo>
                    <a:lnTo>
                      <a:pt x="134" y="146"/>
                    </a:lnTo>
                    <a:lnTo>
                      <a:pt x="145" y="136"/>
                    </a:lnTo>
                    <a:lnTo>
                      <a:pt x="168" y="124"/>
                    </a:lnTo>
                    <a:lnTo>
                      <a:pt x="178" y="112"/>
                    </a:lnTo>
                    <a:lnTo>
                      <a:pt x="201" y="101"/>
                    </a:lnTo>
                    <a:lnTo>
                      <a:pt x="212" y="90"/>
                    </a:lnTo>
                    <a:lnTo>
                      <a:pt x="234" y="79"/>
                    </a:lnTo>
                    <a:lnTo>
                      <a:pt x="257" y="68"/>
                    </a:lnTo>
                    <a:lnTo>
                      <a:pt x="269" y="56"/>
                    </a:lnTo>
                    <a:lnTo>
                      <a:pt x="291" y="45"/>
                    </a:lnTo>
                    <a:lnTo>
                      <a:pt x="314" y="45"/>
                    </a:lnTo>
                    <a:lnTo>
                      <a:pt x="326" y="35"/>
                    </a:lnTo>
                    <a:lnTo>
                      <a:pt x="347" y="23"/>
                    </a:lnTo>
                    <a:lnTo>
                      <a:pt x="370" y="23"/>
                    </a:lnTo>
                    <a:lnTo>
                      <a:pt x="392" y="23"/>
                    </a:lnTo>
                    <a:lnTo>
                      <a:pt x="403" y="23"/>
                    </a:lnTo>
                    <a:lnTo>
                      <a:pt x="415" y="23"/>
                    </a:lnTo>
                    <a:lnTo>
                      <a:pt x="425" y="12"/>
                    </a:lnTo>
                    <a:lnTo>
                      <a:pt x="437" y="12"/>
                    </a:lnTo>
                    <a:lnTo>
                      <a:pt x="448" y="12"/>
                    </a:lnTo>
                    <a:lnTo>
                      <a:pt x="459" y="12"/>
                    </a:lnTo>
                    <a:lnTo>
                      <a:pt x="471" y="12"/>
                    </a:lnTo>
                    <a:lnTo>
                      <a:pt x="481" y="12"/>
                    </a:lnTo>
                    <a:lnTo>
                      <a:pt x="493" y="0"/>
                    </a:lnTo>
                    <a:lnTo>
                      <a:pt x="504" y="0"/>
                    </a:lnTo>
                    <a:lnTo>
                      <a:pt x="516" y="0"/>
                    </a:lnTo>
                    <a:lnTo>
                      <a:pt x="516" y="12"/>
                    </a:lnTo>
                    <a:lnTo>
                      <a:pt x="526" y="12"/>
                    </a:lnTo>
                    <a:lnTo>
                      <a:pt x="537" y="12"/>
                    </a:lnTo>
                    <a:lnTo>
                      <a:pt x="549" y="12"/>
                    </a:lnTo>
                    <a:lnTo>
                      <a:pt x="560" y="12"/>
                    </a:lnTo>
                    <a:lnTo>
                      <a:pt x="560" y="23"/>
                    </a:lnTo>
                    <a:lnTo>
                      <a:pt x="572" y="23"/>
                    </a:lnTo>
                    <a:lnTo>
                      <a:pt x="582" y="23"/>
                    </a:lnTo>
                    <a:lnTo>
                      <a:pt x="593" y="23"/>
                    </a:lnTo>
                    <a:lnTo>
                      <a:pt x="605" y="23"/>
                    </a:lnTo>
                    <a:lnTo>
                      <a:pt x="605" y="35"/>
                    </a:lnTo>
                    <a:lnTo>
                      <a:pt x="616" y="35"/>
                    </a:lnTo>
                    <a:lnTo>
                      <a:pt x="627" y="35"/>
                    </a:lnTo>
                    <a:lnTo>
                      <a:pt x="638" y="45"/>
                    </a:lnTo>
                    <a:lnTo>
                      <a:pt x="649" y="56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7723080" y="2522520"/>
                <a:ext cx="18360" cy="436680"/>
              </a:xfrm>
              <a:custGeom>
                <a:avLst/>
                <a:gdLst/>
                <a:ahLst/>
                <a:rect l="l" t="t" r="r" b="b"/>
                <a:pathLst>
                  <a:path w="46" h="1123">
                    <a:moveTo>
                      <a:pt x="0" y="0"/>
                    </a:moveTo>
                    <a:lnTo>
                      <a:pt x="12" y="68"/>
                    </a:lnTo>
                    <a:lnTo>
                      <a:pt x="12" y="135"/>
                    </a:lnTo>
                    <a:lnTo>
                      <a:pt x="22" y="214"/>
                    </a:lnTo>
                    <a:lnTo>
                      <a:pt x="22" y="281"/>
                    </a:lnTo>
                    <a:lnTo>
                      <a:pt x="34" y="348"/>
                    </a:lnTo>
                    <a:lnTo>
                      <a:pt x="34" y="426"/>
                    </a:lnTo>
                    <a:lnTo>
                      <a:pt x="34" y="494"/>
                    </a:lnTo>
                    <a:lnTo>
                      <a:pt x="34" y="562"/>
                    </a:lnTo>
                    <a:lnTo>
                      <a:pt x="34" y="640"/>
                    </a:lnTo>
                    <a:lnTo>
                      <a:pt x="46" y="707"/>
                    </a:lnTo>
                    <a:lnTo>
                      <a:pt x="46" y="775"/>
                    </a:lnTo>
                    <a:lnTo>
                      <a:pt x="46" y="841"/>
                    </a:lnTo>
                    <a:lnTo>
                      <a:pt x="46" y="919"/>
                    </a:lnTo>
                    <a:lnTo>
                      <a:pt x="46" y="988"/>
                    </a:lnTo>
                    <a:lnTo>
                      <a:pt x="46" y="1055"/>
                    </a:lnTo>
                    <a:lnTo>
                      <a:pt x="46" y="112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7636320" y="2959200"/>
                <a:ext cx="105120" cy="111960"/>
              </a:xfrm>
              <a:custGeom>
                <a:avLst/>
                <a:gdLst/>
                <a:ahLst/>
                <a:rect l="l" t="t" r="r" b="b"/>
                <a:pathLst>
                  <a:path w="270" h="291">
                    <a:moveTo>
                      <a:pt x="270" y="0"/>
                    </a:moveTo>
                    <a:lnTo>
                      <a:pt x="236" y="66"/>
                    </a:lnTo>
                    <a:lnTo>
                      <a:pt x="0" y="29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7538400" y="2779920"/>
                <a:ext cx="97560" cy="291600"/>
              </a:xfrm>
              <a:custGeom>
                <a:avLst/>
                <a:gdLst/>
                <a:ahLst/>
                <a:rect l="l" t="t" r="r" b="b"/>
                <a:pathLst>
                  <a:path w="247" h="751">
                    <a:moveTo>
                      <a:pt x="247" y="751"/>
                    </a:moveTo>
                    <a:lnTo>
                      <a:pt x="237" y="695"/>
                    </a:lnTo>
                    <a:lnTo>
                      <a:pt x="214" y="650"/>
                    </a:lnTo>
                    <a:lnTo>
                      <a:pt x="204" y="605"/>
                    </a:lnTo>
                    <a:lnTo>
                      <a:pt x="192" y="559"/>
                    </a:lnTo>
                    <a:lnTo>
                      <a:pt x="169" y="515"/>
                    </a:lnTo>
                    <a:lnTo>
                      <a:pt x="158" y="470"/>
                    </a:lnTo>
                    <a:lnTo>
                      <a:pt x="148" y="425"/>
                    </a:lnTo>
                    <a:lnTo>
                      <a:pt x="125" y="369"/>
                    </a:lnTo>
                    <a:lnTo>
                      <a:pt x="113" y="325"/>
                    </a:lnTo>
                    <a:lnTo>
                      <a:pt x="91" y="280"/>
                    </a:lnTo>
                    <a:lnTo>
                      <a:pt x="79" y="234"/>
                    </a:lnTo>
                    <a:lnTo>
                      <a:pt x="68" y="190"/>
                    </a:lnTo>
                    <a:lnTo>
                      <a:pt x="46" y="145"/>
                    </a:lnTo>
                    <a:lnTo>
                      <a:pt x="34" y="100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7470720" y="2639520"/>
                <a:ext cx="67680" cy="140040"/>
              </a:xfrm>
              <a:custGeom>
                <a:avLst/>
                <a:gdLst/>
                <a:ahLst/>
                <a:rect l="l" t="t" r="r" b="b"/>
                <a:pathLst>
                  <a:path w="178" h="359">
                    <a:moveTo>
                      <a:pt x="178" y="359"/>
                    </a:moveTo>
                    <a:lnTo>
                      <a:pt x="168" y="336"/>
                    </a:lnTo>
                    <a:lnTo>
                      <a:pt x="156" y="314"/>
                    </a:lnTo>
                    <a:lnTo>
                      <a:pt x="145" y="291"/>
                    </a:lnTo>
                    <a:lnTo>
                      <a:pt x="134" y="269"/>
                    </a:lnTo>
                    <a:lnTo>
                      <a:pt x="123" y="247"/>
                    </a:lnTo>
                    <a:lnTo>
                      <a:pt x="112" y="225"/>
                    </a:lnTo>
                    <a:lnTo>
                      <a:pt x="89" y="213"/>
                    </a:lnTo>
                    <a:lnTo>
                      <a:pt x="77" y="190"/>
                    </a:lnTo>
                    <a:lnTo>
                      <a:pt x="67" y="168"/>
                    </a:lnTo>
                    <a:lnTo>
                      <a:pt x="56" y="145"/>
                    </a:lnTo>
                    <a:lnTo>
                      <a:pt x="44" y="122"/>
                    </a:lnTo>
                    <a:lnTo>
                      <a:pt x="33" y="100"/>
                    </a:lnTo>
                    <a:lnTo>
                      <a:pt x="22" y="77"/>
                    </a:lnTo>
                    <a:lnTo>
                      <a:pt x="11" y="56"/>
                    </a:lnTo>
                    <a:lnTo>
                      <a:pt x="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7470720" y="2566800"/>
                <a:ext cx="37440" cy="72360"/>
              </a:xfrm>
              <a:custGeom>
                <a:avLst/>
                <a:gdLst/>
                <a:ahLst/>
                <a:rect l="l" t="t" r="r" b="b"/>
                <a:pathLst>
                  <a:path w="100" h="190">
                    <a:moveTo>
                      <a:pt x="0" y="190"/>
                    </a:moveTo>
                    <a:lnTo>
                      <a:pt x="0" y="178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22" y="145"/>
                    </a:lnTo>
                    <a:lnTo>
                      <a:pt x="33" y="133"/>
                    </a:lnTo>
                    <a:lnTo>
                      <a:pt x="33" y="122"/>
                    </a:lnTo>
                    <a:lnTo>
                      <a:pt x="44" y="112"/>
                    </a:lnTo>
                    <a:lnTo>
                      <a:pt x="44" y="100"/>
                    </a:lnTo>
                    <a:lnTo>
                      <a:pt x="56" y="89"/>
                    </a:lnTo>
                    <a:lnTo>
                      <a:pt x="56" y="77"/>
                    </a:lnTo>
                    <a:lnTo>
                      <a:pt x="67" y="67"/>
                    </a:lnTo>
                    <a:lnTo>
                      <a:pt x="67" y="44"/>
                    </a:lnTo>
                    <a:lnTo>
                      <a:pt x="77" y="33"/>
                    </a:lnTo>
                    <a:lnTo>
                      <a:pt x="89" y="21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7211880" y="2653200"/>
                <a:ext cx="384480" cy="452880"/>
              </a:xfrm>
              <a:custGeom>
                <a:avLst/>
                <a:gdLst/>
                <a:ahLst/>
                <a:rect l="l" t="t" r="r" b="b"/>
                <a:pathLst>
                  <a:path w="989" h="1167">
                    <a:moveTo>
                      <a:pt x="585" y="0"/>
                    </a:moveTo>
                    <a:lnTo>
                      <a:pt x="618" y="67"/>
                    </a:lnTo>
                    <a:lnTo>
                      <a:pt x="651" y="123"/>
                    </a:lnTo>
                    <a:lnTo>
                      <a:pt x="685" y="192"/>
                    </a:lnTo>
                    <a:lnTo>
                      <a:pt x="707" y="258"/>
                    </a:lnTo>
                    <a:lnTo>
                      <a:pt x="730" y="314"/>
                    </a:lnTo>
                    <a:lnTo>
                      <a:pt x="752" y="382"/>
                    </a:lnTo>
                    <a:lnTo>
                      <a:pt x="775" y="448"/>
                    </a:lnTo>
                    <a:lnTo>
                      <a:pt x="797" y="516"/>
                    </a:lnTo>
                    <a:lnTo>
                      <a:pt x="819" y="582"/>
                    </a:lnTo>
                    <a:lnTo>
                      <a:pt x="841" y="651"/>
                    </a:lnTo>
                    <a:lnTo>
                      <a:pt x="864" y="718"/>
                    </a:lnTo>
                    <a:lnTo>
                      <a:pt x="875" y="786"/>
                    </a:lnTo>
                    <a:lnTo>
                      <a:pt x="897" y="852"/>
                    </a:lnTo>
                    <a:lnTo>
                      <a:pt x="920" y="920"/>
                    </a:lnTo>
                    <a:lnTo>
                      <a:pt x="942" y="986"/>
                    </a:lnTo>
                    <a:lnTo>
                      <a:pt x="966" y="1054"/>
                    </a:lnTo>
                    <a:lnTo>
                      <a:pt x="977" y="1054"/>
                    </a:lnTo>
                    <a:lnTo>
                      <a:pt x="977" y="1066"/>
                    </a:lnTo>
                    <a:lnTo>
                      <a:pt x="989" y="1066"/>
                    </a:lnTo>
                    <a:lnTo>
                      <a:pt x="989" y="1077"/>
                    </a:lnTo>
                    <a:lnTo>
                      <a:pt x="989" y="1089"/>
                    </a:lnTo>
                    <a:lnTo>
                      <a:pt x="989" y="1099"/>
                    </a:lnTo>
                    <a:lnTo>
                      <a:pt x="989" y="1111"/>
                    </a:lnTo>
                    <a:lnTo>
                      <a:pt x="989" y="1122"/>
                    </a:lnTo>
                    <a:lnTo>
                      <a:pt x="977" y="1122"/>
                    </a:lnTo>
                    <a:lnTo>
                      <a:pt x="966" y="1132"/>
                    </a:lnTo>
                    <a:lnTo>
                      <a:pt x="954" y="1132"/>
                    </a:lnTo>
                    <a:lnTo>
                      <a:pt x="932" y="1144"/>
                    </a:lnTo>
                    <a:lnTo>
                      <a:pt x="920" y="1144"/>
                    </a:lnTo>
                    <a:lnTo>
                      <a:pt x="909" y="1155"/>
                    </a:lnTo>
                    <a:lnTo>
                      <a:pt x="897" y="1155"/>
                    </a:lnTo>
                    <a:lnTo>
                      <a:pt x="887" y="1155"/>
                    </a:lnTo>
                    <a:lnTo>
                      <a:pt x="864" y="1167"/>
                    </a:lnTo>
                    <a:lnTo>
                      <a:pt x="853" y="1167"/>
                    </a:lnTo>
                    <a:lnTo>
                      <a:pt x="841" y="1167"/>
                    </a:lnTo>
                    <a:lnTo>
                      <a:pt x="831" y="1167"/>
                    </a:lnTo>
                    <a:lnTo>
                      <a:pt x="808" y="1167"/>
                    </a:lnTo>
                    <a:lnTo>
                      <a:pt x="797" y="1167"/>
                    </a:lnTo>
                    <a:lnTo>
                      <a:pt x="786" y="1167"/>
                    </a:lnTo>
                    <a:lnTo>
                      <a:pt x="763" y="1167"/>
                    </a:lnTo>
                    <a:lnTo>
                      <a:pt x="752" y="1167"/>
                    </a:lnTo>
                    <a:lnTo>
                      <a:pt x="730" y="1167"/>
                    </a:lnTo>
                    <a:lnTo>
                      <a:pt x="707" y="1167"/>
                    </a:lnTo>
                    <a:lnTo>
                      <a:pt x="696" y="1155"/>
                    </a:lnTo>
                    <a:lnTo>
                      <a:pt x="674" y="1155"/>
                    </a:lnTo>
                    <a:lnTo>
                      <a:pt x="651" y="1155"/>
                    </a:lnTo>
                    <a:lnTo>
                      <a:pt x="629" y="1155"/>
                    </a:lnTo>
                    <a:lnTo>
                      <a:pt x="618" y="1155"/>
                    </a:lnTo>
                    <a:lnTo>
                      <a:pt x="595" y="1155"/>
                    </a:lnTo>
                    <a:lnTo>
                      <a:pt x="573" y="1155"/>
                    </a:lnTo>
                    <a:lnTo>
                      <a:pt x="562" y="1144"/>
                    </a:lnTo>
                    <a:lnTo>
                      <a:pt x="540" y="1144"/>
                    </a:lnTo>
                    <a:lnTo>
                      <a:pt x="517" y="1144"/>
                    </a:lnTo>
                    <a:lnTo>
                      <a:pt x="505" y="1132"/>
                    </a:lnTo>
                    <a:lnTo>
                      <a:pt x="483" y="1132"/>
                    </a:lnTo>
                    <a:lnTo>
                      <a:pt x="460" y="1132"/>
                    </a:lnTo>
                    <a:lnTo>
                      <a:pt x="437" y="1122"/>
                    </a:lnTo>
                    <a:lnTo>
                      <a:pt x="416" y="1122"/>
                    </a:lnTo>
                    <a:lnTo>
                      <a:pt x="394" y="1122"/>
                    </a:lnTo>
                    <a:lnTo>
                      <a:pt x="360" y="1111"/>
                    </a:lnTo>
                    <a:lnTo>
                      <a:pt x="338" y="1111"/>
                    </a:lnTo>
                    <a:lnTo>
                      <a:pt x="315" y="1111"/>
                    </a:lnTo>
                    <a:lnTo>
                      <a:pt x="293" y="1099"/>
                    </a:lnTo>
                    <a:lnTo>
                      <a:pt x="259" y="1099"/>
                    </a:lnTo>
                    <a:lnTo>
                      <a:pt x="237" y="1089"/>
                    </a:lnTo>
                    <a:lnTo>
                      <a:pt x="214" y="1077"/>
                    </a:lnTo>
                    <a:lnTo>
                      <a:pt x="192" y="1066"/>
                    </a:lnTo>
                    <a:lnTo>
                      <a:pt x="181" y="1043"/>
                    </a:lnTo>
                    <a:lnTo>
                      <a:pt x="158" y="1032"/>
                    </a:lnTo>
                    <a:lnTo>
                      <a:pt x="148" y="1009"/>
                    </a:lnTo>
                    <a:lnTo>
                      <a:pt x="136" y="986"/>
                    </a:lnTo>
                    <a:lnTo>
                      <a:pt x="125" y="953"/>
                    </a:lnTo>
                    <a:lnTo>
                      <a:pt x="113" y="931"/>
                    </a:lnTo>
                    <a:lnTo>
                      <a:pt x="113" y="908"/>
                    </a:lnTo>
                    <a:lnTo>
                      <a:pt x="103" y="885"/>
                    </a:lnTo>
                    <a:lnTo>
                      <a:pt x="91" y="863"/>
                    </a:lnTo>
                    <a:lnTo>
                      <a:pt x="79" y="841"/>
                    </a:lnTo>
                    <a:lnTo>
                      <a:pt x="79" y="819"/>
                    </a:lnTo>
                    <a:lnTo>
                      <a:pt x="68" y="796"/>
                    </a:lnTo>
                    <a:lnTo>
                      <a:pt x="56" y="774"/>
                    </a:lnTo>
                    <a:lnTo>
                      <a:pt x="56" y="751"/>
                    </a:lnTo>
                    <a:lnTo>
                      <a:pt x="45" y="730"/>
                    </a:lnTo>
                    <a:lnTo>
                      <a:pt x="35" y="707"/>
                    </a:lnTo>
                    <a:lnTo>
                      <a:pt x="35" y="685"/>
                    </a:lnTo>
                    <a:lnTo>
                      <a:pt x="23" y="662"/>
                    </a:lnTo>
                    <a:lnTo>
                      <a:pt x="23" y="639"/>
                    </a:lnTo>
                    <a:lnTo>
                      <a:pt x="12" y="617"/>
                    </a:lnTo>
                    <a:lnTo>
                      <a:pt x="0" y="594"/>
                    </a:lnTo>
                    <a:lnTo>
                      <a:pt x="12" y="582"/>
                    </a:lnTo>
                    <a:lnTo>
                      <a:pt x="12" y="572"/>
                    </a:lnTo>
                    <a:lnTo>
                      <a:pt x="23" y="560"/>
                    </a:lnTo>
                    <a:lnTo>
                      <a:pt x="23" y="549"/>
                    </a:lnTo>
                    <a:lnTo>
                      <a:pt x="35" y="549"/>
                    </a:lnTo>
                    <a:lnTo>
                      <a:pt x="45" y="538"/>
                    </a:lnTo>
                    <a:lnTo>
                      <a:pt x="45" y="527"/>
                    </a:lnTo>
                    <a:lnTo>
                      <a:pt x="56" y="516"/>
                    </a:lnTo>
                    <a:lnTo>
                      <a:pt x="68" y="504"/>
                    </a:lnTo>
                    <a:lnTo>
                      <a:pt x="79" y="493"/>
                    </a:lnTo>
                    <a:lnTo>
                      <a:pt x="91" y="493"/>
                    </a:lnTo>
                    <a:lnTo>
                      <a:pt x="91" y="481"/>
                    </a:lnTo>
                    <a:lnTo>
                      <a:pt x="103" y="471"/>
                    </a:lnTo>
                    <a:lnTo>
                      <a:pt x="113" y="460"/>
                    </a:lnTo>
                    <a:lnTo>
                      <a:pt x="125" y="460"/>
                    </a:lnTo>
                    <a:lnTo>
                      <a:pt x="136" y="448"/>
                    </a:lnTo>
                    <a:lnTo>
                      <a:pt x="170" y="426"/>
                    </a:lnTo>
                    <a:lnTo>
                      <a:pt x="192" y="392"/>
                    </a:lnTo>
                    <a:lnTo>
                      <a:pt x="226" y="370"/>
                    </a:lnTo>
                    <a:lnTo>
                      <a:pt x="259" y="348"/>
                    </a:lnTo>
                    <a:lnTo>
                      <a:pt x="282" y="326"/>
                    </a:lnTo>
                    <a:lnTo>
                      <a:pt x="315" y="291"/>
                    </a:lnTo>
                    <a:lnTo>
                      <a:pt x="338" y="270"/>
                    </a:lnTo>
                    <a:lnTo>
                      <a:pt x="371" y="247"/>
                    </a:lnTo>
                    <a:lnTo>
                      <a:pt x="394" y="214"/>
                    </a:lnTo>
                    <a:lnTo>
                      <a:pt x="427" y="192"/>
                    </a:lnTo>
                    <a:lnTo>
                      <a:pt x="449" y="157"/>
                    </a:lnTo>
                    <a:lnTo>
                      <a:pt x="472" y="123"/>
                    </a:lnTo>
                    <a:lnTo>
                      <a:pt x="505" y="100"/>
                    </a:lnTo>
                    <a:lnTo>
                      <a:pt x="528" y="67"/>
                    </a:lnTo>
                    <a:lnTo>
                      <a:pt x="550" y="34"/>
                    </a:lnTo>
                    <a:lnTo>
                      <a:pt x="573" y="0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7440480" y="2653200"/>
                <a:ext cx="146880" cy="411120"/>
              </a:xfrm>
              <a:custGeom>
                <a:avLst/>
                <a:gdLst/>
                <a:ahLst/>
                <a:rect l="l" t="t" r="r" b="b"/>
                <a:pathLst>
                  <a:path w="381" h="1054">
                    <a:moveTo>
                      <a:pt x="0" y="0"/>
                    </a:moveTo>
                    <a:lnTo>
                      <a:pt x="33" y="67"/>
                    </a:lnTo>
                    <a:lnTo>
                      <a:pt x="66" y="123"/>
                    </a:lnTo>
                    <a:lnTo>
                      <a:pt x="100" y="192"/>
                    </a:lnTo>
                    <a:lnTo>
                      <a:pt x="122" y="258"/>
                    </a:lnTo>
                    <a:lnTo>
                      <a:pt x="145" y="314"/>
                    </a:lnTo>
                    <a:lnTo>
                      <a:pt x="167" y="382"/>
                    </a:lnTo>
                    <a:lnTo>
                      <a:pt x="190" y="448"/>
                    </a:lnTo>
                    <a:lnTo>
                      <a:pt x="212" y="516"/>
                    </a:lnTo>
                    <a:lnTo>
                      <a:pt x="234" y="582"/>
                    </a:lnTo>
                    <a:lnTo>
                      <a:pt x="256" y="651"/>
                    </a:lnTo>
                    <a:lnTo>
                      <a:pt x="279" y="718"/>
                    </a:lnTo>
                    <a:lnTo>
                      <a:pt x="290" y="786"/>
                    </a:lnTo>
                    <a:lnTo>
                      <a:pt x="312" y="852"/>
                    </a:lnTo>
                    <a:lnTo>
                      <a:pt x="335" y="920"/>
                    </a:lnTo>
                    <a:lnTo>
                      <a:pt x="357" y="986"/>
                    </a:lnTo>
                    <a:lnTo>
                      <a:pt x="381" y="10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7260480" y="3025080"/>
                <a:ext cx="130680" cy="69840"/>
              </a:xfrm>
              <a:custGeom>
                <a:avLst/>
                <a:gdLst/>
                <a:ahLst/>
                <a:rect l="l" t="t" r="r" b="b"/>
                <a:pathLst>
                  <a:path w="335" h="179">
                    <a:moveTo>
                      <a:pt x="335" y="179"/>
                    </a:moveTo>
                    <a:lnTo>
                      <a:pt x="312" y="169"/>
                    </a:lnTo>
                    <a:lnTo>
                      <a:pt x="291" y="169"/>
                    </a:lnTo>
                    <a:lnTo>
                      <a:pt x="269" y="169"/>
                    </a:lnTo>
                    <a:lnTo>
                      <a:pt x="235" y="158"/>
                    </a:lnTo>
                    <a:lnTo>
                      <a:pt x="213" y="158"/>
                    </a:lnTo>
                    <a:lnTo>
                      <a:pt x="190" y="158"/>
                    </a:lnTo>
                    <a:lnTo>
                      <a:pt x="168" y="146"/>
                    </a:lnTo>
                    <a:lnTo>
                      <a:pt x="134" y="146"/>
                    </a:lnTo>
                    <a:lnTo>
                      <a:pt x="112" y="136"/>
                    </a:lnTo>
                    <a:lnTo>
                      <a:pt x="89" y="124"/>
                    </a:lnTo>
                    <a:lnTo>
                      <a:pt x="67" y="113"/>
                    </a:lnTo>
                    <a:lnTo>
                      <a:pt x="56" y="90"/>
                    </a:lnTo>
                    <a:lnTo>
                      <a:pt x="33" y="79"/>
                    </a:lnTo>
                    <a:lnTo>
                      <a:pt x="23" y="56"/>
                    </a:lnTo>
                    <a:lnTo>
                      <a:pt x="11" y="3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7211880" y="2884680"/>
                <a:ext cx="48600" cy="140040"/>
              </a:xfrm>
              <a:custGeom>
                <a:avLst/>
                <a:gdLst/>
                <a:ahLst/>
                <a:rect l="l" t="t" r="r" b="b"/>
                <a:pathLst>
                  <a:path w="125" h="359">
                    <a:moveTo>
                      <a:pt x="125" y="359"/>
                    </a:moveTo>
                    <a:lnTo>
                      <a:pt x="113" y="337"/>
                    </a:lnTo>
                    <a:lnTo>
                      <a:pt x="113" y="314"/>
                    </a:lnTo>
                    <a:lnTo>
                      <a:pt x="103" y="291"/>
                    </a:lnTo>
                    <a:lnTo>
                      <a:pt x="91" y="269"/>
                    </a:lnTo>
                    <a:lnTo>
                      <a:pt x="79" y="247"/>
                    </a:lnTo>
                    <a:lnTo>
                      <a:pt x="79" y="225"/>
                    </a:lnTo>
                    <a:lnTo>
                      <a:pt x="68" y="202"/>
                    </a:lnTo>
                    <a:lnTo>
                      <a:pt x="56" y="180"/>
                    </a:lnTo>
                    <a:lnTo>
                      <a:pt x="56" y="157"/>
                    </a:lnTo>
                    <a:lnTo>
                      <a:pt x="45" y="136"/>
                    </a:lnTo>
                    <a:lnTo>
                      <a:pt x="35" y="113"/>
                    </a:lnTo>
                    <a:lnTo>
                      <a:pt x="35" y="91"/>
                    </a:lnTo>
                    <a:lnTo>
                      <a:pt x="23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7265160" y="2653200"/>
                <a:ext cx="170280" cy="174960"/>
              </a:xfrm>
              <a:custGeom>
                <a:avLst/>
                <a:gdLst/>
                <a:ahLst/>
                <a:rect l="l" t="t" r="r" b="b"/>
                <a:pathLst>
                  <a:path w="437" h="448">
                    <a:moveTo>
                      <a:pt x="0" y="448"/>
                    </a:moveTo>
                    <a:lnTo>
                      <a:pt x="34" y="426"/>
                    </a:lnTo>
                    <a:lnTo>
                      <a:pt x="56" y="392"/>
                    </a:lnTo>
                    <a:lnTo>
                      <a:pt x="90" y="370"/>
                    </a:lnTo>
                    <a:lnTo>
                      <a:pt x="123" y="348"/>
                    </a:lnTo>
                    <a:lnTo>
                      <a:pt x="146" y="326"/>
                    </a:lnTo>
                    <a:lnTo>
                      <a:pt x="179" y="291"/>
                    </a:lnTo>
                    <a:lnTo>
                      <a:pt x="202" y="270"/>
                    </a:lnTo>
                    <a:lnTo>
                      <a:pt x="235" y="247"/>
                    </a:lnTo>
                    <a:lnTo>
                      <a:pt x="258" y="214"/>
                    </a:lnTo>
                    <a:lnTo>
                      <a:pt x="291" y="192"/>
                    </a:lnTo>
                    <a:lnTo>
                      <a:pt x="313" y="157"/>
                    </a:lnTo>
                    <a:lnTo>
                      <a:pt x="336" y="123"/>
                    </a:lnTo>
                    <a:lnTo>
                      <a:pt x="369" y="100"/>
                    </a:lnTo>
                    <a:lnTo>
                      <a:pt x="392" y="67"/>
                    </a:lnTo>
                    <a:lnTo>
                      <a:pt x="414" y="34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7242120" y="2683800"/>
                <a:ext cx="331200" cy="405720"/>
              </a:xfrm>
              <a:custGeom>
                <a:avLst/>
                <a:gdLst/>
                <a:ahLst/>
                <a:rect l="l" t="t" r="r" b="b"/>
                <a:pathLst>
                  <a:path w="853" h="1043">
                    <a:moveTo>
                      <a:pt x="841" y="998"/>
                    </a:moveTo>
                    <a:lnTo>
                      <a:pt x="853" y="1020"/>
                    </a:lnTo>
                    <a:lnTo>
                      <a:pt x="830" y="1032"/>
                    </a:lnTo>
                    <a:lnTo>
                      <a:pt x="796" y="1032"/>
                    </a:lnTo>
                    <a:lnTo>
                      <a:pt x="774" y="1043"/>
                    </a:lnTo>
                    <a:lnTo>
                      <a:pt x="752" y="1043"/>
                    </a:lnTo>
                    <a:lnTo>
                      <a:pt x="718" y="1043"/>
                    </a:lnTo>
                    <a:lnTo>
                      <a:pt x="696" y="1043"/>
                    </a:lnTo>
                    <a:lnTo>
                      <a:pt x="661" y="1032"/>
                    </a:lnTo>
                    <a:lnTo>
                      <a:pt x="640" y="1032"/>
                    </a:lnTo>
                    <a:lnTo>
                      <a:pt x="606" y="1032"/>
                    </a:lnTo>
                    <a:lnTo>
                      <a:pt x="584" y="1020"/>
                    </a:lnTo>
                    <a:lnTo>
                      <a:pt x="550" y="1020"/>
                    </a:lnTo>
                    <a:lnTo>
                      <a:pt x="528" y="1020"/>
                    </a:lnTo>
                    <a:lnTo>
                      <a:pt x="494" y="1010"/>
                    </a:lnTo>
                    <a:lnTo>
                      <a:pt x="471" y="1010"/>
                    </a:lnTo>
                    <a:lnTo>
                      <a:pt x="438" y="1010"/>
                    </a:lnTo>
                    <a:lnTo>
                      <a:pt x="414" y="998"/>
                    </a:lnTo>
                    <a:lnTo>
                      <a:pt x="393" y="998"/>
                    </a:lnTo>
                    <a:lnTo>
                      <a:pt x="370" y="998"/>
                    </a:lnTo>
                    <a:lnTo>
                      <a:pt x="348" y="987"/>
                    </a:lnTo>
                    <a:lnTo>
                      <a:pt x="325" y="987"/>
                    </a:lnTo>
                    <a:lnTo>
                      <a:pt x="303" y="975"/>
                    </a:lnTo>
                    <a:lnTo>
                      <a:pt x="292" y="975"/>
                    </a:lnTo>
                    <a:lnTo>
                      <a:pt x="269" y="975"/>
                    </a:lnTo>
                    <a:lnTo>
                      <a:pt x="247" y="964"/>
                    </a:lnTo>
                    <a:lnTo>
                      <a:pt x="224" y="964"/>
                    </a:lnTo>
                    <a:lnTo>
                      <a:pt x="203" y="953"/>
                    </a:lnTo>
                    <a:lnTo>
                      <a:pt x="191" y="942"/>
                    </a:lnTo>
                    <a:lnTo>
                      <a:pt x="168" y="930"/>
                    </a:lnTo>
                    <a:lnTo>
                      <a:pt x="158" y="918"/>
                    </a:lnTo>
                    <a:lnTo>
                      <a:pt x="147" y="907"/>
                    </a:lnTo>
                    <a:lnTo>
                      <a:pt x="135" y="885"/>
                    </a:lnTo>
                    <a:lnTo>
                      <a:pt x="124" y="862"/>
                    </a:lnTo>
                    <a:lnTo>
                      <a:pt x="113" y="852"/>
                    </a:lnTo>
                    <a:lnTo>
                      <a:pt x="102" y="829"/>
                    </a:lnTo>
                    <a:lnTo>
                      <a:pt x="102" y="806"/>
                    </a:lnTo>
                    <a:lnTo>
                      <a:pt x="91" y="784"/>
                    </a:lnTo>
                    <a:lnTo>
                      <a:pt x="91" y="762"/>
                    </a:lnTo>
                    <a:lnTo>
                      <a:pt x="79" y="740"/>
                    </a:lnTo>
                    <a:lnTo>
                      <a:pt x="69" y="717"/>
                    </a:lnTo>
                    <a:lnTo>
                      <a:pt x="69" y="707"/>
                    </a:lnTo>
                    <a:lnTo>
                      <a:pt x="57" y="684"/>
                    </a:lnTo>
                    <a:lnTo>
                      <a:pt x="46" y="661"/>
                    </a:lnTo>
                    <a:lnTo>
                      <a:pt x="46" y="639"/>
                    </a:lnTo>
                    <a:lnTo>
                      <a:pt x="34" y="616"/>
                    </a:lnTo>
                    <a:lnTo>
                      <a:pt x="24" y="606"/>
                    </a:lnTo>
                    <a:lnTo>
                      <a:pt x="12" y="583"/>
                    </a:lnTo>
                    <a:lnTo>
                      <a:pt x="0" y="560"/>
                    </a:lnTo>
                    <a:lnTo>
                      <a:pt x="0" y="538"/>
                    </a:lnTo>
                    <a:lnTo>
                      <a:pt x="0" y="527"/>
                    </a:lnTo>
                    <a:lnTo>
                      <a:pt x="0" y="515"/>
                    </a:lnTo>
                    <a:lnTo>
                      <a:pt x="12" y="503"/>
                    </a:lnTo>
                    <a:lnTo>
                      <a:pt x="12" y="493"/>
                    </a:lnTo>
                    <a:lnTo>
                      <a:pt x="24" y="481"/>
                    </a:lnTo>
                    <a:lnTo>
                      <a:pt x="24" y="470"/>
                    </a:lnTo>
                    <a:lnTo>
                      <a:pt x="34" y="470"/>
                    </a:lnTo>
                    <a:lnTo>
                      <a:pt x="46" y="459"/>
                    </a:lnTo>
                    <a:lnTo>
                      <a:pt x="46" y="448"/>
                    </a:lnTo>
                    <a:lnTo>
                      <a:pt x="57" y="448"/>
                    </a:lnTo>
                    <a:lnTo>
                      <a:pt x="57" y="437"/>
                    </a:lnTo>
                    <a:lnTo>
                      <a:pt x="69" y="425"/>
                    </a:lnTo>
                    <a:lnTo>
                      <a:pt x="79" y="425"/>
                    </a:lnTo>
                    <a:lnTo>
                      <a:pt x="79" y="414"/>
                    </a:lnTo>
                    <a:lnTo>
                      <a:pt x="113" y="392"/>
                    </a:lnTo>
                    <a:lnTo>
                      <a:pt x="135" y="369"/>
                    </a:lnTo>
                    <a:lnTo>
                      <a:pt x="168" y="347"/>
                    </a:lnTo>
                    <a:lnTo>
                      <a:pt x="191" y="325"/>
                    </a:lnTo>
                    <a:lnTo>
                      <a:pt x="224" y="303"/>
                    </a:lnTo>
                    <a:lnTo>
                      <a:pt x="259" y="280"/>
                    </a:lnTo>
                    <a:lnTo>
                      <a:pt x="281" y="247"/>
                    </a:lnTo>
                    <a:lnTo>
                      <a:pt x="315" y="224"/>
                    </a:lnTo>
                    <a:lnTo>
                      <a:pt x="337" y="202"/>
                    </a:lnTo>
                    <a:lnTo>
                      <a:pt x="358" y="179"/>
                    </a:lnTo>
                    <a:lnTo>
                      <a:pt x="393" y="157"/>
                    </a:lnTo>
                    <a:lnTo>
                      <a:pt x="414" y="123"/>
                    </a:lnTo>
                    <a:lnTo>
                      <a:pt x="438" y="101"/>
                    </a:lnTo>
                    <a:lnTo>
                      <a:pt x="461" y="66"/>
                    </a:lnTo>
                    <a:lnTo>
                      <a:pt x="471" y="33"/>
                    </a:lnTo>
                    <a:lnTo>
                      <a:pt x="494" y="0"/>
                    </a:lnTo>
                    <a:lnTo>
                      <a:pt x="516" y="56"/>
                    </a:lnTo>
                    <a:lnTo>
                      <a:pt x="550" y="123"/>
                    </a:lnTo>
                    <a:lnTo>
                      <a:pt x="572" y="179"/>
                    </a:lnTo>
                    <a:lnTo>
                      <a:pt x="595" y="247"/>
                    </a:lnTo>
                    <a:lnTo>
                      <a:pt x="617" y="303"/>
                    </a:lnTo>
                    <a:lnTo>
                      <a:pt x="628" y="369"/>
                    </a:lnTo>
                    <a:lnTo>
                      <a:pt x="651" y="425"/>
                    </a:lnTo>
                    <a:lnTo>
                      <a:pt x="673" y="493"/>
                    </a:lnTo>
                    <a:lnTo>
                      <a:pt x="696" y="560"/>
                    </a:lnTo>
                    <a:lnTo>
                      <a:pt x="707" y="616"/>
                    </a:lnTo>
                    <a:lnTo>
                      <a:pt x="729" y="684"/>
                    </a:lnTo>
                    <a:lnTo>
                      <a:pt x="752" y="751"/>
                    </a:lnTo>
                    <a:lnTo>
                      <a:pt x="774" y="806"/>
                    </a:lnTo>
                    <a:lnTo>
                      <a:pt x="796" y="874"/>
                    </a:lnTo>
                    <a:lnTo>
                      <a:pt x="818" y="930"/>
                    </a:lnTo>
                    <a:lnTo>
                      <a:pt x="841" y="99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7242120" y="2894040"/>
                <a:ext cx="48960" cy="126000"/>
              </a:xfrm>
              <a:custGeom>
                <a:avLst/>
                <a:gdLst/>
                <a:ahLst/>
                <a:rect l="l" t="t" r="r" b="b"/>
                <a:pathLst>
                  <a:path w="124" h="324">
                    <a:moveTo>
                      <a:pt x="124" y="324"/>
                    </a:moveTo>
                    <a:lnTo>
                      <a:pt x="113" y="314"/>
                    </a:lnTo>
                    <a:lnTo>
                      <a:pt x="102" y="291"/>
                    </a:lnTo>
                    <a:lnTo>
                      <a:pt x="102" y="268"/>
                    </a:lnTo>
                    <a:lnTo>
                      <a:pt x="91" y="246"/>
                    </a:lnTo>
                    <a:lnTo>
                      <a:pt x="91" y="224"/>
                    </a:lnTo>
                    <a:lnTo>
                      <a:pt x="79" y="202"/>
                    </a:lnTo>
                    <a:lnTo>
                      <a:pt x="69" y="179"/>
                    </a:lnTo>
                    <a:lnTo>
                      <a:pt x="69" y="169"/>
                    </a:lnTo>
                    <a:lnTo>
                      <a:pt x="57" y="146"/>
                    </a:lnTo>
                    <a:lnTo>
                      <a:pt x="46" y="123"/>
                    </a:lnTo>
                    <a:lnTo>
                      <a:pt x="46" y="101"/>
                    </a:lnTo>
                    <a:lnTo>
                      <a:pt x="34" y="78"/>
                    </a:lnTo>
                    <a:lnTo>
                      <a:pt x="24" y="68"/>
                    </a:lnTo>
                    <a:lnTo>
                      <a:pt x="12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7274880" y="2683800"/>
                <a:ext cx="160560" cy="160920"/>
              </a:xfrm>
              <a:custGeom>
                <a:avLst/>
                <a:gdLst/>
                <a:ahLst/>
                <a:rect l="l" t="t" r="r" b="b"/>
                <a:pathLst>
                  <a:path w="415" h="414">
                    <a:moveTo>
                      <a:pt x="0" y="414"/>
                    </a:moveTo>
                    <a:lnTo>
                      <a:pt x="34" y="392"/>
                    </a:lnTo>
                    <a:lnTo>
                      <a:pt x="56" y="369"/>
                    </a:lnTo>
                    <a:lnTo>
                      <a:pt x="89" y="347"/>
                    </a:lnTo>
                    <a:lnTo>
                      <a:pt x="112" y="325"/>
                    </a:lnTo>
                    <a:lnTo>
                      <a:pt x="145" y="303"/>
                    </a:lnTo>
                    <a:lnTo>
                      <a:pt x="180" y="280"/>
                    </a:lnTo>
                    <a:lnTo>
                      <a:pt x="202" y="247"/>
                    </a:lnTo>
                    <a:lnTo>
                      <a:pt x="236" y="224"/>
                    </a:lnTo>
                    <a:lnTo>
                      <a:pt x="258" y="202"/>
                    </a:lnTo>
                    <a:lnTo>
                      <a:pt x="279" y="179"/>
                    </a:lnTo>
                    <a:lnTo>
                      <a:pt x="314" y="157"/>
                    </a:lnTo>
                    <a:lnTo>
                      <a:pt x="335" y="123"/>
                    </a:lnTo>
                    <a:lnTo>
                      <a:pt x="359" y="101"/>
                    </a:lnTo>
                    <a:lnTo>
                      <a:pt x="382" y="66"/>
                    </a:lnTo>
                    <a:lnTo>
                      <a:pt x="392" y="33"/>
                    </a:lnTo>
                    <a:lnTo>
                      <a:pt x="41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7435800" y="26838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347" h="998">
                    <a:moveTo>
                      <a:pt x="0" y="0"/>
                    </a:moveTo>
                    <a:lnTo>
                      <a:pt x="22" y="56"/>
                    </a:lnTo>
                    <a:lnTo>
                      <a:pt x="56" y="123"/>
                    </a:lnTo>
                    <a:lnTo>
                      <a:pt x="78" y="179"/>
                    </a:lnTo>
                    <a:lnTo>
                      <a:pt x="101" y="247"/>
                    </a:lnTo>
                    <a:lnTo>
                      <a:pt x="123" y="303"/>
                    </a:lnTo>
                    <a:lnTo>
                      <a:pt x="134" y="369"/>
                    </a:lnTo>
                    <a:lnTo>
                      <a:pt x="157" y="425"/>
                    </a:lnTo>
                    <a:lnTo>
                      <a:pt x="179" y="493"/>
                    </a:lnTo>
                    <a:lnTo>
                      <a:pt x="202" y="560"/>
                    </a:lnTo>
                    <a:lnTo>
                      <a:pt x="213" y="616"/>
                    </a:lnTo>
                    <a:lnTo>
                      <a:pt x="235" y="684"/>
                    </a:lnTo>
                    <a:lnTo>
                      <a:pt x="258" y="751"/>
                    </a:lnTo>
                    <a:lnTo>
                      <a:pt x="280" y="806"/>
                    </a:lnTo>
                    <a:lnTo>
                      <a:pt x="302" y="874"/>
                    </a:lnTo>
                    <a:lnTo>
                      <a:pt x="324" y="930"/>
                    </a:lnTo>
                    <a:lnTo>
                      <a:pt x="347" y="99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6808320" y="2980440"/>
                <a:ext cx="504000" cy="702360"/>
              </a:xfrm>
              <a:custGeom>
                <a:avLst/>
                <a:gdLst/>
                <a:ahLst/>
                <a:rect l="l" t="t" r="r" b="b"/>
                <a:pathLst>
                  <a:path w="1300" h="1805">
                    <a:moveTo>
                      <a:pt x="762" y="337"/>
                    </a:moveTo>
                    <a:lnTo>
                      <a:pt x="807" y="382"/>
                    </a:lnTo>
                    <a:lnTo>
                      <a:pt x="841" y="438"/>
                    </a:lnTo>
                    <a:lnTo>
                      <a:pt x="874" y="482"/>
                    </a:lnTo>
                    <a:lnTo>
                      <a:pt x="919" y="527"/>
                    </a:lnTo>
                    <a:lnTo>
                      <a:pt x="952" y="572"/>
                    </a:lnTo>
                    <a:lnTo>
                      <a:pt x="986" y="628"/>
                    </a:lnTo>
                    <a:lnTo>
                      <a:pt x="1020" y="673"/>
                    </a:lnTo>
                    <a:lnTo>
                      <a:pt x="1053" y="718"/>
                    </a:lnTo>
                    <a:lnTo>
                      <a:pt x="1076" y="774"/>
                    </a:lnTo>
                    <a:lnTo>
                      <a:pt x="1109" y="819"/>
                    </a:lnTo>
                    <a:lnTo>
                      <a:pt x="1132" y="875"/>
                    </a:lnTo>
                    <a:lnTo>
                      <a:pt x="1166" y="919"/>
                    </a:lnTo>
                    <a:lnTo>
                      <a:pt x="1189" y="975"/>
                    </a:lnTo>
                    <a:lnTo>
                      <a:pt x="1211" y="1032"/>
                    </a:lnTo>
                    <a:lnTo>
                      <a:pt x="1233" y="1077"/>
                    </a:lnTo>
                    <a:lnTo>
                      <a:pt x="1255" y="1133"/>
                    </a:lnTo>
                    <a:lnTo>
                      <a:pt x="1255" y="1155"/>
                    </a:lnTo>
                    <a:lnTo>
                      <a:pt x="1267" y="1166"/>
                    </a:lnTo>
                    <a:lnTo>
                      <a:pt x="1267" y="1188"/>
                    </a:lnTo>
                    <a:lnTo>
                      <a:pt x="1278" y="1211"/>
                    </a:lnTo>
                    <a:lnTo>
                      <a:pt x="1278" y="1222"/>
                    </a:lnTo>
                    <a:lnTo>
                      <a:pt x="1288" y="1244"/>
                    </a:lnTo>
                    <a:lnTo>
                      <a:pt x="1288" y="1267"/>
                    </a:lnTo>
                    <a:lnTo>
                      <a:pt x="1288" y="1279"/>
                    </a:lnTo>
                    <a:lnTo>
                      <a:pt x="1288" y="1300"/>
                    </a:lnTo>
                    <a:lnTo>
                      <a:pt x="1300" y="1323"/>
                    </a:lnTo>
                    <a:lnTo>
                      <a:pt x="1300" y="1335"/>
                    </a:lnTo>
                    <a:lnTo>
                      <a:pt x="1300" y="1356"/>
                    </a:lnTo>
                    <a:lnTo>
                      <a:pt x="1300" y="1379"/>
                    </a:lnTo>
                    <a:lnTo>
                      <a:pt x="1300" y="1401"/>
                    </a:lnTo>
                    <a:lnTo>
                      <a:pt x="1300" y="1412"/>
                    </a:lnTo>
                    <a:lnTo>
                      <a:pt x="1300" y="1434"/>
                    </a:lnTo>
                    <a:lnTo>
                      <a:pt x="1288" y="1446"/>
                    </a:lnTo>
                    <a:lnTo>
                      <a:pt x="1278" y="1446"/>
                    </a:lnTo>
                    <a:lnTo>
                      <a:pt x="1267" y="1457"/>
                    </a:lnTo>
                    <a:lnTo>
                      <a:pt x="1255" y="1457"/>
                    </a:lnTo>
                    <a:lnTo>
                      <a:pt x="1244" y="1457"/>
                    </a:lnTo>
                    <a:lnTo>
                      <a:pt x="1244" y="1469"/>
                    </a:lnTo>
                    <a:lnTo>
                      <a:pt x="1233" y="1469"/>
                    </a:lnTo>
                    <a:lnTo>
                      <a:pt x="1233" y="1481"/>
                    </a:lnTo>
                    <a:lnTo>
                      <a:pt x="1222" y="1481"/>
                    </a:lnTo>
                    <a:lnTo>
                      <a:pt x="1211" y="1491"/>
                    </a:lnTo>
                    <a:lnTo>
                      <a:pt x="1189" y="1491"/>
                    </a:lnTo>
                    <a:lnTo>
                      <a:pt x="1177" y="1503"/>
                    </a:lnTo>
                    <a:lnTo>
                      <a:pt x="1154" y="1503"/>
                    </a:lnTo>
                    <a:lnTo>
                      <a:pt x="1144" y="1514"/>
                    </a:lnTo>
                    <a:lnTo>
                      <a:pt x="1120" y="1526"/>
                    </a:lnTo>
                    <a:lnTo>
                      <a:pt x="1109" y="1526"/>
                    </a:lnTo>
                    <a:lnTo>
                      <a:pt x="1086" y="1537"/>
                    </a:lnTo>
                    <a:lnTo>
                      <a:pt x="1076" y="1547"/>
                    </a:lnTo>
                    <a:lnTo>
                      <a:pt x="1053" y="1559"/>
                    </a:lnTo>
                    <a:lnTo>
                      <a:pt x="1041" y="1559"/>
                    </a:lnTo>
                    <a:lnTo>
                      <a:pt x="1020" y="1570"/>
                    </a:lnTo>
                    <a:lnTo>
                      <a:pt x="1008" y="1582"/>
                    </a:lnTo>
                    <a:lnTo>
                      <a:pt x="986" y="1582"/>
                    </a:lnTo>
                    <a:lnTo>
                      <a:pt x="975" y="1592"/>
                    </a:lnTo>
                    <a:lnTo>
                      <a:pt x="952" y="1603"/>
                    </a:lnTo>
                    <a:lnTo>
                      <a:pt x="942" y="1603"/>
                    </a:lnTo>
                    <a:lnTo>
                      <a:pt x="942" y="1615"/>
                    </a:lnTo>
                    <a:lnTo>
                      <a:pt x="930" y="1615"/>
                    </a:lnTo>
                    <a:lnTo>
                      <a:pt x="919" y="1626"/>
                    </a:lnTo>
                    <a:lnTo>
                      <a:pt x="907" y="1626"/>
                    </a:lnTo>
                    <a:lnTo>
                      <a:pt x="896" y="1637"/>
                    </a:lnTo>
                    <a:lnTo>
                      <a:pt x="886" y="1637"/>
                    </a:lnTo>
                    <a:lnTo>
                      <a:pt x="874" y="1648"/>
                    </a:lnTo>
                    <a:lnTo>
                      <a:pt x="863" y="1648"/>
                    </a:lnTo>
                    <a:lnTo>
                      <a:pt x="851" y="1648"/>
                    </a:lnTo>
                    <a:lnTo>
                      <a:pt x="841" y="1660"/>
                    </a:lnTo>
                    <a:lnTo>
                      <a:pt x="830" y="1660"/>
                    </a:lnTo>
                    <a:lnTo>
                      <a:pt x="818" y="1671"/>
                    </a:lnTo>
                    <a:lnTo>
                      <a:pt x="807" y="1671"/>
                    </a:lnTo>
                    <a:lnTo>
                      <a:pt x="795" y="1681"/>
                    </a:lnTo>
                    <a:lnTo>
                      <a:pt x="773" y="1693"/>
                    </a:lnTo>
                    <a:lnTo>
                      <a:pt x="752" y="1693"/>
                    </a:lnTo>
                    <a:lnTo>
                      <a:pt x="740" y="1704"/>
                    </a:lnTo>
                    <a:lnTo>
                      <a:pt x="717" y="1716"/>
                    </a:lnTo>
                    <a:lnTo>
                      <a:pt x="705" y="1716"/>
                    </a:lnTo>
                    <a:lnTo>
                      <a:pt x="683" y="1727"/>
                    </a:lnTo>
                    <a:lnTo>
                      <a:pt x="672" y="1737"/>
                    </a:lnTo>
                    <a:lnTo>
                      <a:pt x="649" y="1737"/>
                    </a:lnTo>
                    <a:lnTo>
                      <a:pt x="639" y="1749"/>
                    </a:lnTo>
                    <a:lnTo>
                      <a:pt x="616" y="1760"/>
                    </a:lnTo>
                    <a:lnTo>
                      <a:pt x="604" y="1772"/>
                    </a:lnTo>
                    <a:lnTo>
                      <a:pt x="582" y="1782"/>
                    </a:lnTo>
                    <a:lnTo>
                      <a:pt x="571" y="1782"/>
                    </a:lnTo>
                    <a:lnTo>
                      <a:pt x="548" y="1793"/>
                    </a:lnTo>
                    <a:lnTo>
                      <a:pt x="538" y="1805"/>
                    </a:lnTo>
                    <a:lnTo>
                      <a:pt x="515" y="1805"/>
                    </a:lnTo>
                    <a:lnTo>
                      <a:pt x="493" y="1793"/>
                    </a:lnTo>
                    <a:lnTo>
                      <a:pt x="493" y="1737"/>
                    </a:lnTo>
                    <a:lnTo>
                      <a:pt x="493" y="1681"/>
                    </a:lnTo>
                    <a:lnTo>
                      <a:pt x="482" y="1615"/>
                    </a:lnTo>
                    <a:lnTo>
                      <a:pt x="482" y="1559"/>
                    </a:lnTo>
                    <a:lnTo>
                      <a:pt x="470" y="1503"/>
                    </a:lnTo>
                    <a:lnTo>
                      <a:pt x="459" y="1446"/>
                    </a:lnTo>
                    <a:lnTo>
                      <a:pt x="449" y="1390"/>
                    </a:lnTo>
                    <a:lnTo>
                      <a:pt x="437" y="1335"/>
                    </a:lnTo>
                    <a:lnTo>
                      <a:pt x="426" y="1279"/>
                    </a:lnTo>
                    <a:lnTo>
                      <a:pt x="414" y="1222"/>
                    </a:lnTo>
                    <a:lnTo>
                      <a:pt x="403" y="1166"/>
                    </a:lnTo>
                    <a:lnTo>
                      <a:pt x="392" y="1110"/>
                    </a:lnTo>
                    <a:lnTo>
                      <a:pt x="370" y="1054"/>
                    </a:lnTo>
                    <a:lnTo>
                      <a:pt x="358" y="997"/>
                    </a:lnTo>
                    <a:lnTo>
                      <a:pt x="348" y="941"/>
                    </a:lnTo>
                    <a:lnTo>
                      <a:pt x="336" y="885"/>
                    </a:lnTo>
                    <a:lnTo>
                      <a:pt x="325" y="840"/>
                    </a:lnTo>
                    <a:lnTo>
                      <a:pt x="314" y="807"/>
                    </a:lnTo>
                    <a:lnTo>
                      <a:pt x="302" y="763"/>
                    </a:lnTo>
                    <a:lnTo>
                      <a:pt x="280" y="729"/>
                    </a:lnTo>
                    <a:lnTo>
                      <a:pt x="268" y="685"/>
                    </a:lnTo>
                    <a:lnTo>
                      <a:pt x="245" y="650"/>
                    </a:lnTo>
                    <a:lnTo>
                      <a:pt x="223" y="617"/>
                    </a:lnTo>
                    <a:lnTo>
                      <a:pt x="200" y="583"/>
                    </a:lnTo>
                    <a:lnTo>
                      <a:pt x="179" y="549"/>
                    </a:lnTo>
                    <a:lnTo>
                      <a:pt x="156" y="516"/>
                    </a:lnTo>
                    <a:lnTo>
                      <a:pt x="134" y="482"/>
                    </a:lnTo>
                    <a:lnTo>
                      <a:pt x="111" y="438"/>
                    </a:lnTo>
                    <a:lnTo>
                      <a:pt x="78" y="403"/>
                    </a:lnTo>
                    <a:lnTo>
                      <a:pt x="55" y="370"/>
                    </a:lnTo>
                    <a:lnTo>
                      <a:pt x="33" y="337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325" y="0"/>
                    </a:lnTo>
                    <a:lnTo>
                      <a:pt x="358" y="11"/>
                    </a:lnTo>
                    <a:lnTo>
                      <a:pt x="392" y="22"/>
                    </a:lnTo>
                    <a:lnTo>
                      <a:pt x="426" y="34"/>
                    </a:lnTo>
                    <a:lnTo>
                      <a:pt x="449" y="56"/>
                    </a:lnTo>
                    <a:lnTo>
                      <a:pt x="482" y="67"/>
                    </a:lnTo>
                    <a:lnTo>
                      <a:pt x="504" y="90"/>
                    </a:lnTo>
                    <a:lnTo>
                      <a:pt x="538" y="112"/>
                    </a:lnTo>
                    <a:lnTo>
                      <a:pt x="560" y="135"/>
                    </a:lnTo>
                    <a:lnTo>
                      <a:pt x="582" y="156"/>
                    </a:lnTo>
                    <a:lnTo>
                      <a:pt x="616" y="191"/>
                    </a:lnTo>
                    <a:lnTo>
                      <a:pt x="639" y="213"/>
                    </a:lnTo>
                    <a:lnTo>
                      <a:pt x="660" y="236"/>
                    </a:lnTo>
                    <a:lnTo>
                      <a:pt x="683" y="270"/>
                    </a:lnTo>
                    <a:lnTo>
                      <a:pt x="717" y="291"/>
                    </a:lnTo>
                    <a:lnTo>
                      <a:pt x="740" y="314"/>
                    </a:lnTo>
                    <a:lnTo>
                      <a:pt x="762" y="33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7104600" y="3111120"/>
                <a:ext cx="191520" cy="309960"/>
              </a:xfrm>
              <a:custGeom>
                <a:avLst/>
                <a:gdLst/>
                <a:ahLst/>
                <a:rect l="l" t="t" r="r" b="b"/>
                <a:pathLst>
                  <a:path w="493" h="796">
                    <a:moveTo>
                      <a:pt x="0" y="0"/>
                    </a:moveTo>
                    <a:lnTo>
                      <a:pt x="45" y="45"/>
                    </a:lnTo>
                    <a:lnTo>
                      <a:pt x="79" y="101"/>
                    </a:lnTo>
                    <a:lnTo>
                      <a:pt x="112" y="145"/>
                    </a:lnTo>
                    <a:lnTo>
                      <a:pt x="157" y="190"/>
                    </a:lnTo>
                    <a:lnTo>
                      <a:pt x="190" y="235"/>
                    </a:lnTo>
                    <a:lnTo>
                      <a:pt x="224" y="291"/>
                    </a:lnTo>
                    <a:lnTo>
                      <a:pt x="258" y="336"/>
                    </a:lnTo>
                    <a:lnTo>
                      <a:pt x="291" y="381"/>
                    </a:lnTo>
                    <a:lnTo>
                      <a:pt x="314" y="437"/>
                    </a:lnTo>
                    <a:lnTo>
                      <a:pt x="347" y="482"/>
                    </a:lnTo>
                    <a:lnTo>
                      <a:pt x="370" y="538"/>
                    </a:lnTo>
                    <a:lnTo>
                      <a:pt x="404" y="582"/>
                    </a:lnTo>
                    <a:lnTo>
                      <a:pt x="427" y="638"/>
                    </a:lnTo>
                    <a:lnTo>
                      <a:pt x="449" y="695"/>
                    </a:lnTo>
                    <a:lnTo>
                      <a:pt x="471" y="740"/>
                    </a:lnTo>
                    <a:lnTo>
                      <a:pt x="49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7296120" y="3421440"/>
                <a:ext cx="16200" cy="117000"/>
              </a:xfrm>
              <a:custGeom>
                <a:avLst/>
                <a:gdLst/>
                <a:ahLst/>
                <a:rect l="l" t="t" r="r" b="b"/>
                <a:pathLst>
                  <a:path w="45" h="301">
                    <a:moveTo>
                      <a:pt x="0" y="0"/>
                    </a:moveTo>
                    <a:lnTo>
                      <a:pt x="0" y="22"/>
                    </a:lnTo>
                    <a:lnTo>
                      <a:pt x="12" y="33"/>
                    </a:lnTo>
                    <a:lnTo>
                      <a:pt x="12" y="55"/>
                    </a:lnTo>
                    <a:lnTo>
                      <a:pt x="23" y="78"/>
                    </a:lnTo>
                    <a:lnTo>
                      <a:pt x="23" y="89"/>
                    </a:lnTo>
                    <a:lnTo>
                      <a:pt x="33" y="111"/>
                    </a:lnTo>
                    <a:lnTo>
                      <a:pt x="33" y="134"/>
                    </a:lnTo>
                    <a:lnTo>
                      <a:pt x="33" y="146"/>
                    </a:lnTo>
                    <a:lnTo>
                      <a:pt x="33" y="167"/>
                    </a:lnTo>
                    <a:lnTo>
                      <a:pt x="45" y="190"/>
                    </a:lnTo>
                    <a:lnTo>
                      <a:pt x="45" y="202"/>
                    </a:lnTo>
                    <a:lnTo>
                      <a:pt x="45" y="223"/>
                    </a:lnTo>
                    <a:lnTo>
                      <a:pt x="45" y="246"/>
                    </a:lnTo>
                    <a:lnTo>
                      <a:pt x="45" y="268"/>
                    </a:lnTo>
                    <a:lnTo>
                      <a:pt x="45" y="279"/>
                    </a:lnTo>
                    <a:lnTo>
                      <a:pt x="45" y="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6939000" y="3325680"/>
                <a:ext cx="60840" cy="352440"/>
              </a:xfrm>
              <a:custGeom>
                <a:avLst/>
                <a:gdLst/>
                <a:ahLst/>
                <a:rect l="l" t="t" r="r" b="b"/>
                <a:pathLst>
                  <a:path w="157" h="908">
                    <a:moveTo>
                      <a:pt x="157" y="908"/>
                    </a:moveTo>
                    <a:lnTo>
                      <a:pt x="157" y="852"/>
                    </a:lnTo>
                    <a:lnTo>
                      <a:pt x="157" y="796"/>
                    </a:lnTo>
                    <a:lnTo>
                      <a:pt x="146" y="730"/>
                    </a:lnTo>
                    <a:lnTo>
                      <a:pt x="146" y="674"/>
                    </a:lnTo>
                    <a:lnTo>
                      <a:pt x="134" y="618"/>
                    </a:lnTo>
                    <a:lnTo>
                      <a:pt x="123" y="561"/>
                    </a:lnTo>
                    <a:lnTo>
                      <a:pt x="113" y="505"/>
                    </a:lnTo>
                    <a:lnTo>
                      <a:pt x="101" y="450"/>
                    </a:lnTo>
                    <a:lnTo>
                      <a:pt x="90" y="394"/>
                    </a:lnTo>
                    <a:lnTo>
                      <a:pt x="78" y="337"/>
                    </a:lnTo>
                    <a:lnTo>
                      <a:pt x="67" y="281"/>
                    </a:lnTo>
                    <a:lnTo>
                      <a:pt x="56" y="225"/>
                    </a:lnTo>
                    <a:lnTo>
                      <a:pt x="34" y="169"/>
                    </a:lnTo>
                    <a:lnTo>
                      <a:pt x="22" y="112"/>
                    </a:lnTo>
                    <a:lnTo>
                      <a:pt x="1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6808320" y="3099600"/>
                <a:ext cx="130680" cy="225720"/>
              </a:xfrm>
              <a:custGeom>
                <a:avLst/>
                <a:gdLst/>
                <a:ahLst/>
                <a:rect l="l" t="t" r="r" b="b"/>
                <a:pathLst>
                  <a:path w="336" h="582">
                    <a:moveTo>
                      <a:pt x="336" y="582"/>
                    </a:moveTo>
                    <a:lnTo>
                      <a:pt x="325" y="537"/>
                    </a:lnTo>
                    <a:lnTo>
                      <a:pt x="314" y="504"/>
                    </a:lnTo>
                    <a:lnTo>
                      <a:pt x="302" y="460"/>
                    </a:lnTo>
                    <a:lnTo>
                      <a:pt x="280" y="426"/>
                    </a:lnTo>
                    <a:lnTo>
                      <a:pt x="268" y="382"/>
                    </a:lnTo>
                    <a:lnTo>
                      <a:pt x="245" y="347"/>
                    </a:lnTo>
                    <a:lnTo>
                      <a:pt x="223" y="314"/>
                    </a:lnTo>
                    <a:lnTo>
                      <a:pt x="200" y="280"/>
                    </a:lnTo>
                    <a:lnTo>
                      <a:pt x="179" y="246"/>
                    </a:lnTo>
                    <a:lnTo>
                      <a:pt x="156" y="213"/>
                    </a:lnTo>
                    <a:lnTo>
                      <a:pt x="134" y="179"/>
                    </a:lnTo>
                    <a:lnTo>
                      <a:pt x="111" y="135"/>
                    </a:lnTo>
                    <a:lnTo>
                      <a:pt x="78" y="100"/>
                    </a:lnTo>
                    <a:lnTo>
                      <a:pt x="55" y="6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6808320" y="2980440"/>
                <a:ext cx="125640" cy="118800"/>
              </a:xfrm>
              <a:custGeom>
                <a:avLst/>
                <a:gdLst/>
                <a:ahLst/>
                <a:rect l="l" t="t" r="r" b="b"/>
                <a:pathLst>
                  <a:path w="325" h="303">
                    <a:moveTo>
                      <a:pt x="0" y="303"/>
                    </a:moveTo>
                    <a:lnTo>
                      <a:pt x="0" y="291"/>
                    </a:lnTo>
                    <a:lnTo>
                      <a:pt x="3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6933960" y="2980440"/>
                <a:ext cx="170280" cy="130680"/>
              </a:xfrm>
              <a:custGeom>
                <a:avLst/>
                <a:gdLst/>
                <a:ahLst/>
                <a:rect l="l" t="t" r="r" b="b"/>
                <a:pathLst>
                  <a:path w="437" h="337">
                    <a:moveTo>
                      <a:pt x="0" y="0"/>
                    </a:moveTo>
                    <a:lnTo>
                      <a:pt x="33" y="11"/>
                    </a:lnTo>
                    <a:lnTo>
                      <a:pt x="67" y="22"/>
                    </a:lnTo>
                    <a:lnTo>
                      <a:pt x="101" y="34"/>
                    </a:lnTo>
                    <a:lnTo>
                      <a:pt x="124" y="56"/>
                    </a:lnTo>
                    <a:lnTo>
                      <a:pt x="157" y="67"/>
                    </a:lnTo>
                    <a:lnTo>
                      <a:pt x="179" y="90"/>
                    </a:lnTo>
                    <a:lnTo>
                      <a:pt x="213" y="112"/>
                    </a:lnTo>
                    <a:lnTo>
                      <a:pt x="235" y="135"/>
                    </a:lnTo>
                    <a:lnTo>
                      <a:pt x="257" y="156"/>
                    </a:lnTo>
                    <a:lnTo>
                      <a:pt x="291" y="191"/>
                    </a:lnTo>
                    <a:lnTo>
                      <a:pt x="314" y="213"/>
                    </a:lnTo>
                    <a:lnTo>
                      <a:pt x="335" y="236"/>
                    </a:lnTo>
                    <a:lnTo>
                      <a:pt x="358" y="270"/>
                    </a:lnTo>
                    <a:lnTo>
                      <a:pt x="392" y="291"/>
                    </a:lnTo>
                    <a:lnTo>
                      <a:pt x="415" y="314"/>
                    </a:lnTo>
                    <a:lnTo>
                      <a:pt x="437" y="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7265160" y="2997000"/>
                <a:ext cx="497160" cy="1388520"/>
              </a:xfrm>
              <a:custGeom>
                <a:avLst/>
                <a:gdLst/>
                <a:ahLst/>
                <a:rect l="l" t="t" r="r" b="b"/>
                <a:pathLst>
                  <a:path w="1278" h="3567">
                    <a:moveTo>
                      <a:pt x="1255" y="56"/>
                    </a:moveTo>
                    <a:lnTo>
                      <a:pt x="1255" y="68"/>
                    </a:lnTo>
                    <a:lnTo>
                      <a:pt x="1255" y="79"/>
                    </a:lnTo>
                    <a:lnTo>
                      <a:pt x="1255" y="91"/>
                    </a:lnTo>
                    <a:lnTo>
                      <a:pt x="1267" y="101"/>
                    </a:lnTo>
                    <a:lnTo>
                      <a:pt x="1267" y="112"/>
                    </a:lnTo>
                    <a:lnTo>
                      <a:pt x="1255" y="124"/>
                    </a:lnTo>
                    <a:lnTo>
                      <a:pt x="1255" y="147"/>
                    </a:lnTo>
                    <a:lnTo>
                      <a:pt x="1255" y="158"/>
                    </a:lnTo>
                    <a:lnTo>
                      <a:pt x="1255" y="169"/>
                    </a:lnTo>
                    <a:lnTo>
                      <a:pt x="1255" y="181"/>
                    </a:lnTo>
                    <a:lnTo>
                      <a:pt x="1255" y="192"/>
                    </a:lnTo>
                    <a:lnTo>
                      <a:pt x="1255" y="204"/>
                    </a:lnTo>
                    <a:lnTo>
                      <a:pt x="1255" y="214"/>
                    </a:lnTo>
                    <a:lnTo>
                      <a:pt x="1255" y="237"/>
                    </a:lnTo>
                    <a:lnTo>
                      <a:pt x="1255" y="247"/>
                    </a:lnTo>
                    <a:lnTo>
                      <a:pt x="1255" y="259"/>
                    </a:lnTo>
                    <a:lnTo>
                      <a:pt x="1255" y="282"/>
                    </a:lnTo>
                    <a:lnTo>
                      <a:pt x="1255" y="293"/>
                    </a:lnTo>
                    <a:lnTo>
                      <a:pt x="1255" y="315"/>
                    </a:lnTo>
                    <a:lnTo>
                      <a:pt x="1255" y="326"/>
                    </a:lnTo>
                    <a:lnTo>
                      <a:pt x="1255" y="348"/>
                    </a:lnTo>
                    <a:lnTo>
                      <a:pt x="1255" y="371"/>
                    </a:lnTo>
                    <a:lnTo>
                      <a:pt x="1255" y="382"/>
                    </a:lnTo>
                    <a:lnTo>
                      <a:pt x="1255" y="404"/>
                    </a:lnTo>
                    <a:lnTo>
                      <a:pt x="1255" y="415"/>
                    </a:lnTo>
                    <a:lnTo>
                      <a:pt x="1245" y="438"/>
                    </a:lnTo>
                    <a:lnTo>
                      <a:pt x="1245" y="460"/>
                    </a:lnTo>
                    <a:lnTo>
                      <a:pt x="1245" y="472"/>
                    </a:lnTo>
                    <a:lnTo>
                      <a:pt x="1245" y="493"/>
                    </a:lnTo>
                    <a:lnTo>
                      <a:pt x="1233" y="516"/>
                    </a:lnTo>
                    <a:lnTo>
                      <a:pt x="1233" y="528"/>
                    </a:lnTo>
                    <a:lnTo>
                      <a:pt x="1233" y="549"/>
                    </a:lnTo>
                    <a:lnTo>
                      <a:pt x="1233" y="606"/>
                    </a:lnTo>
                    <a:lnTo>
                      <a:pt x="1222" y="651"/>
                    </a:lnTo>
                    <a:lnTo>
                      <a:pt x="1222" y="707"/>
                    </a:lnTo>
                    <a:lnTo>
                      <a:pt x="1222" y="752"/>
                    </a:lnTo>
                    <a:lnTo>
                      <a:pt x="1233" y="808"/>
                    </a:lnTo>
                    <a:lnTo>
                      <a:pt x="1233" y="864"/>
                    </a:lnTo>
                    <a:lnTo>
                      <a:pt x="1233" y="909"/>
                    </a:lnTo>
                    <a:lnTo>
                      <a:pt x="1233" y="965"/>
                    </a:lnTo>
                    <a:lnTo>
                      <a:pt x="1245" y="1022"/>
                    </a:lnTo>
                    <a:lnTo>
                      <a:pt x="1245" y="1066"/>
                    </a:lnTo>
                    <a:lnTo>
                      <a:pt x="1255" y="1122"/>
                    </a:lnTo>
                    <a:lnTo>
                      <a:pt x="1255" y="1178"/>
                    </a:lnTo>
                    <a:lnTo>
                      <a:pt x="1255" y="1235"/>
                    </a:lnTo>
                    <a:lnTo>
                      <a:pt x="1267" y="1279"/>
                    </a:lnTo>
                    <a:lnTo>
                      <a:pt x="1267" y="1335"/>
                    </a:lnTo>
                    <a:lnTo>
                      <a:pt x="1267" y="1390"/>
                    </a:lnTo>
                    <a:lnTo>
                      <a:pt x="1267" y="1402"/>
                    </a:lnTo>
                    <a:lnTo>
                      <a:pt x="1267" y="1515"/>
                    </a:lnTo>
                    <a:lnTo>
                      <a:pt x="1267" y="1627"/>
                    </a:lnTo>
                    <a:lnTo>
                      <a:pt x="1267" y="1728"/>
                    </a:lnTo>
                    <a:lnTo>
                      <a:pt x="1278" y="1839"/>
                    </a:lnTo>
                    <a:lnTo>
                      <a:pt x="1278" y="1952"/>
                    </a:lnTo>
                    <a:lnTo>
                      <a:pt x="1278" y="2053"/>
                    </a:lnTo>
                    <a:lnTo>
                      <a:pt x="1278" y="2165"/>
                    </a:lnTo>
                    <a:lnTo>
                      <a:pt x="1278" y="2278"/>
                    </a:lnTo>
                    <a:lnTo>
                      <a:pt x="1278" y="2378"/>
                    </a:lnTo>
                    <a:lnTo>
                      <a:pt x="1278" y="2490"/>
                    </a:lnTo>
                    <a:lnTo>
                      <a:pt x="1278" y="2590"/>
                    </a:lnTo>
                    <a:lnTo>
                      <a:pt x="1278" y="2703"/>
                    </a:lnTo>
                    <a:lnTo>
                      <a:pt x="1267" y="2816"/>
                    </a:lnTo>
                    <a:lnTo>
                      <a:pt x="1267" y="2916"/>
                    </a:lnTo>
                    <a:lnTo>
                      <a:pt x="1255" y="3027"/>
                    </a:lnTo>
                    <a:lnTo>
                      <a:pt x="1255" y="3130"/>
                    </a:lnTo>
                    <a:lnTo>
                      <a:pt x="1245" y="3152"/>
                    </a:lnTo>
                    <a:lnTo>
                      <a:pt x="1245" y="3175"/>
                    </a:lnTo>
                    <a:lnTo>
                      <a:pt x="1245" y="3197"/>
                    </a:lnTo>
                    <a:lnTo>
                      <a:pt x="1245" y="3219"/>
                    </a:lnTo>
                    <a:lnTo>
                      <a:pt x="1233" y="3241"/>
                    </a:lnTo>
                    <a:lnTo>
                      <a:pt x="1233" y="3264"/>
                    </a:lnTo>
                    <a:lnTo>
                      <a:pt x="1233" y="3286"/>
                    </a:lnTo>
                    <a:lnTo>
                      <a:pt x="1233" y="3309"/>
                    </a:lnTo>
                    <a:lnTo>
                      <a:pt x="1233" y="3330"/>
                    </a:lnTo>
                    <a:lnTo>
                      <a:pt x="1222" y="3353"/>
                    </a:lnTo>
                    <a:lnTo>
                      <a:pt x="1222" y="3375"/>
                    </a:lnTo>
                    <a:lnTo>
                      <a:pt x="1222" y="3398"/>
                    </a:lnTo>
                    <a:lnTo>
                      <a:pt x="1222" y="3421"/>
                    </a:lnTo>
                    <a:lnTo>
                      <a:pt x="1222" y="3443"/>
                    </a:lnTo>
                    <a:lnTo>
                      <a:pt x="1222" y="3465"/>
                    </a:lnTo>
                    <a:lnTo>
                      <a:pt x="1222" y="3487"/>
                    </a:lnTo>
                    <a:lnTo>
                      <a:pt x="1222" y="3499"/>
                    </a:lnTo>
                    <a:lnTo>
                      <a:pt x="1210" y="3499"/>
                    </a:lnTo>
                    <a:lnTo>
                      <a:pt x="1210" y="3510"/>
                    </a:lnTo>
                    <a:lnTo>
                      <a:pt x="1210" y="3520"/>
                    </a:lnTo>
                    <a:lnTo>
                      <a:pt x="1210" y="3532"/>
                    </a:lnTo>
                    <a:lnTo>
                      <a:pt x="1198" y="3544"/>
                    </a:lnTo>
                    <a:lnTo>
                      <a:pt x="1198" y="3555"/>
                    </a:lnTo>
                    <a:lnTo>
                      <a:pt x="1198" y="3567"/>
                    </a:lnTo>
                    <a:lnTo>
                      <a:pt x="1188" y="3567"/>
                    </a:lnTo>
                    <a:lnTo>
                      <a:pt x="1176" y="3567"/>
                    </a:lnTo>
                    <a:lnTo>
                      <a:pt x="1176" y="3555"/>
                    </a:lnTo>
                    <a:lnTo>
                      <a:pt x="1165" y="3544"/>
                    </a:lnTo>
                    <a:lnTo>
                      <a:pt x="1143" y="3532"/>
                    </a:lnTo>
                    <a:lnTo>
                      <a:pt x="1120" y="3520"/>
                    </a:lnTo>
                    <a:lnTo>
                      <a:pt x="1109" y="3510"/>
                    </a:lnTo>
                    <a:lnTo>
                      <a:pt x="1099" y="3499"/>
                    </a:lnTo>
                    <a:lnTo>
                      <a:pt x="1087" y="3476"/>
                    </a:lnTo>
                    <a:lnTo>
                      <a:pt x="1076" y="3465"/>
                    </a:lnTo>
                    <a:lnTo>
                      <a:pt x="1064" y="3443"/>
                    </a:lnTo>
                    <a:lnTo>
                      <a:pt x="1053" y="3431"/>
                    </a:lnTo>
                    <a:lnTo>
                      <a:pt x="1043" y="3409"/>
                    </a:lnTo>
                    <a:lnTo>
                      <a:pt x="1031" y="3398"/>
                    </a:lnTo>
                    <a:lnTo>
                      <a:pt x="1020" y="3375"/>
                    </a:lnTo>
                    <a:lnTo>
                      <a:pt x="1008" y="3365"/>
                    </a:lnTo>
                    <a:lnTo>
                      <a:pt x="998" y="3342"/>
                    </a:lnTo>
                    <a:lnTo>
                      <a:pt x="986" y="3330"/>
                    </a:lnTo>
                    <a:lnTo>
                      <a:pt x="975" y="3309"/>
                    </a:lnTo>
                    <a:lnTo>
                      <a:pt x="952" y="3297"/>
                    </a:lnTo>
                    <a:lnTo>
                      <a:pt x="761" y="3050"/>
                    </a:lnTo>
                    <a:lnTo>
                      <a:pt x="347" y="2389"/>
                    </a:lnTo>
                    <a:lnTo>
                      <a:pt x="324" y="2344"/>
                    </a:lnTo>
                    <a:lnTo>
                      <a:pt x="301" y="2300"/>
                    </a:lnTo>
                    <a:lnTo>
                      <a:pt x="280" y="2254"/>
                    </a:lnTo>
                    <a:lnTo>
                      <a:pt x="258" y="2209"/>
                    </a:lnTo>
                    <a:lnTo>
                      <a:pt x="235" y="2165"/>
                    </a:lnTo>
                    <a:lnTo>
                      <a:pt x="212" y="2120"/>
                    </a:lnTo>
                    <a:lnTo>
                      <a:pt x="190" y="2075"/>
                    </a:lnTo>
                    <a:lnTo>
                      <a:pt x="167" y="2031"/>
                    </a:lnTo>
                    <a:lnTo>
                      <a:pt x="146" y="1986"/>
                    </a:lnTo>
                    <a:lnTo>
                      <a:pt x="134" y="1940"/>
                    </a:lnTo>
                    <a:lnTo>
                      <a:pt x="111" y="1896"/>
                    </a:lnTo>
                    <a:lnTo>
                      <a:pt x="90" y="1851"/>
                    </a:lnTo>
                    <a:lnTo>
                      <a:pt x="67" y="1806"/>
                    </a:lnTo>
                    <a:lnTo>
                      <a:pt x="56" y="1761"/>
                    </a:lnTo>
                    <a:lnTo>
                      <a:pt x="34" y="1716"/>
                    </a:lnTo>
                    <a:lnTo>
                      <a:pt x="22" y="1672"/>
                    </a:lnTo>
                    <a:lnTo>
                      <a:pt x="12" y="1660"/>
                    </a:lnTo>
                    <a:lnTo>
                      <a:pt x="12" y="1649"/>
                    </a:lnTo>
                    <a:lnTo>
                      <a:pt x="12" y="1637"/>
                    </a:lnTo>
                    <a:lnTo>
                      <a:pt x="12" y="1627"/>
                    </a:lnTo>
                    <a:lnTo>
                      <a:pt x="0" y="1616"/>
                    </a:lnTo>
                    <a:lnTo>
                      <a:pt x="0" y="1604"/>
                    </a:lnTo>
                    <a:lnTo>
                      <a:pt x="0" y="1593"/>
                    </a:lnTo>
                    <a:lnTo>
                      <a:pt x="12" y="1593"/>
                    </a:lnTo>
                    <a:lnTo>
                      <a:pt x="0" y="1593"/>
                    </a:lnTo>
                    <a:lnTo>
                      <a:pt x="190" y="1368"/>
                    </a:lnTo>
                    <a:lnTo>
                      <a:pt x="886" y="449"/>
                    </a:lnTo>
                    <a:lnTo>
                      <a:pt x="909" y="427"/>
                    </a:lnTo>
                    <a:lnTo>
                      <a:pt x="930" y="394"/>
                    </a:lnTo>
                    <a:lnTo>
                      <a:pt x="952" y="371"/>
                    </a:lnTo>
                    <a:lnTo>
                      <a:pt x="975" y="338"/>
                    </a:lnTo>
                    <a:lnTo>
                      <a:pt x="986" y="315"/>
                    </a:lnTo>
                    <a:lnTo>
                      <a:pt x="1008" y="282"/>
                    </a:lnTo>
                    <a:lnTo>
                      <a:pt x="1031" y="247"/>
                    </a:lnTo>
                    <a:lnTo>
                      <a:pt x="1043" y="226"/>
                    </a:lnTo>
                    <a:lnTo>
                      <a:pt x="1064" y="192"/>
                    </a:lnTo>
                    <a:lnTo>
                      <a:pt x="1087" y="169"/>
                    </a:lnTo>
                    <a:lnTo>
                      <a:pt x="1099" y="136"/>
                    </a:lnTo>
                    <a:lnTo>
                      <a:pt x="1120" y="112"/>
                    </a:lnTo>
                    <a:lnTo>
                      <a:pt x="1143" y="79"/>
                    </a:lnTo>
                    <a:lnTo>
                      <a:pt x="1165" y="56"/>
                    </a:lnTo>
                    <a:lnTo>
                      <a:pt x="1188" y="35"/>
                    </a:lnTo>
                    <a:lnTo>
                      <a:pt x="1222" y="0"/>
                    </a:lnTo>
                    <a:lnTo>
                      <a:pt x="1222" y="12"/>
                    </a:lnTo>
                    <a:lnTo>
                      <a:pt x="1233" y="12"/>
                    </a:lnTo>
                    <a:lnTo>
                      <a:pt x="1245" y="23"/>
                    </a:lnTo>
                    <a:lnTo>
                      <a:pt x="1245" y="35"/>
                    </a:lnTo>
                    <a:lnTo>
                      <a:pt x="1245" y="46"/>
                    </a:lnTo>
                    <a:lnTo>
                      <a:pt x="1255" y="46"/>
                    </a:lnTo>
                    <a:lnTo>
                      <a:pt x="1255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7753320" y="3020040"/>
                <a:ext cx="4680" cy="79200"/>
              </a:xfrm>
              <a:custGeom>
                <a:avLst/>
                <a:gdLst/>
                <a:ahLst/>
                <a:rect l="l" t="t" r="r" b="b"/>
                <a:pathLst>
                  <a:path w="12" h="203">
                    <a:moveTo>
                      <a:pt x="0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3"/>
                    </a:lnTo>
                    <a:lnTo>
                      <a:pt x="0" y="125"/>
                    </a:lnTo>
                    <a:lnTo>
                      <a:pt x="0" y="136"/>
                    </a:lnTo>
                    <a:lnTo>
                      <a:pt x="0" y="148"/>
                    </a:lnTo>
                    <a:lnTo>
                      <a:pt x="0" y="158"/>
                    </a:lnTo>
                    <a:lnTo>
                      <a:pt x="0" y="181"/>
                    </a:lnTo>
                    <a:lnTo>
                      <a:pt x="0" y="191"/>
                    </a:lnTo>
                    <a:lnTo>
                      <a:pt x="0" y="2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7743600" y="3099600"/>
                <a:ext cx="9360" cy="111600"/>
              </a:xfrm>
              <a:custGeom>
                <a:avLst/>
                <a:gdLst/>
                <a:ahLst/>
                <a:rect l="l" t="t" r="r" b="b"/>
                <a:pathLst>
                  <a:path w="22" h="290">
                    <a:moveTo>
                      <a:pt x="22" y="0"/>
                    </a:moveTo>
                    <a:lnTo>
                      <a:pt x="22" y="23"/>
                    </a:lnTo>
                    <a:lnTo>
                      <a:pt x="22" y="34"/>
                    </a:lnTo>
                    <a:lnTo>
                      <a:pt x="22" y="56"/>
                    </a:lnTo>
                    <a:lnTo>
                      <a:pt x="22" y="67"/>
                    </a:lnTo>
                    <a:lnTo>
                      <a:pt x="22" y="89"/>
                    </a:lnTo>
                    <a:lnTo>
                      <a:pt x="22" y="112"/>
                    </a:lnTo>
                    <a:lnTo>
                      <a:pt x="22" y="123"/>
                    </a:lnTo>
                    <a:lnTo>
                      <a:pt x="22" y="145"/>
                    </a:lnTo>
                    <a:lnTo>
                      <a:pt x="22" y="156"/>
                    </a:lnTo>
                    <a:lnTo>
                      <a:pt x="12" y="179"/>
                    </a:lnTo>
                    <a:lnTo>
                      <a:pt x="12" y="201"/>
                    </a:lnTo>
                    <a:lnTo>
                      <a:pt x="12" y="213"/>
                    </a:lnTo>
                    <a:lnTo>
                      <a:pt x="12" y="234"/>
                    </a:lnTo>
                    <a:lnTo>
                      <a:pt x="0" y="257"/>
                    </a:lnTo>
                    <a:lnTo>
                      <a:pt x="0" y="269"/>
                    </a:lnTo>
                    <a:lnTo>
                      <a:pt x="0" y="2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7741440" y="3211200"/>
                <a:ext cx="16200" cy="326880"/>
              </a:xfrm>
              <a:custGeom>
                <a:avLst/>
                <a:gdLst/>
                <a:ahLst/>
                <a:rect l="l" t="t" r="r" b="b"/>
                <a:pathLst>
                  <a:path w="45" h="841">
                    <a:moveTo>
                      <a:pt x="11" y="0"/>
                    </a:moveTo>
                    <a:lnTo>
                      <a:pt x="11" y="57"/>
                    </a:lnTo>
                    <a:lnTo>
                      <a:pt x="0" y="102"/>
                    </a:lnTo>
                    <a:lnTo>
                      <a:pt x="0" y="158"/>
                    </a:lnTo>
                    <a:lnTo>
                      <a:pt x="0" y="203"/>
                    </a:lnTo>
                    <a:lnTo>
                      <a:pt x="11" y="259"/>
                    </a:lnTo>
                    <a:lnTo>
                      <a:pt x="11" y="315"/>
                    </a:lnTo>
                    <a:lnTo>
                      <a:pt x="11" y="360"/>
                    </a:lnTo>
                    <a:lnTo>
                      <a:pt x="11" y="416"/>
                    </a:lnTo>
                    <a:lnTo>
                      <a:pt x="23" y="473"/>
                    </a:lnTo>
                    <a:lnTo>
                      <a:pt x="23" y="517"/>
                    </a:lnTo>
                    <a:lnTo>
                      <a:pt x="33" y="573"/>
                    </a:lnTo>
                    <a:lnTo>
                      <a:pt x="33" y="629"/>
                    </a:lnTo>
                    <a:lnTo>
                      <a:pt x="33" y="686"/>
                    </a:lnTo>
                    <a:lnTo>
                      <a:pt x="45" y="730"/>
                    </a:lnTo>
                    <a:lnTo>
                      <a:pt x="45" y="786"/>
                    </a:lnTo>
                    <a:lnTo>
                      <a:pt x="45" y="8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7753320" y="3542760"/>
                <a:ext cx="9360" cy="672120"/>
              </a:xfrm>
              <a:custGeom>
                <a:avLst/>
                <a:gdLst/>
                <a:ahLst/>
                <a:rect l="l" t="t" r="r" b="b"/>
                <a:pathLst>
                  <a:path w="23" h="1728">
                    <a:moveTo>
                      <a:pt x="12" y="0"/>
                    </a:moveTo>
                    <a:lnTo>
                      <a:pt x="12" y="113"/>
                    </a:lnTo>
                    <a:lnTo>
                      <a:pt x="12" y="225"/>
                    </a:lnTo>
                    <a:lnTo>
                      <a:pt x="12" y="326"/>
                    </a:lnTo>
                    <a:lnTo>
                      <a:pt x="23" y="437"/>
                    </a:lnTo>
                    <a:lnTo>
                      <a:pt x="23" y="550"/>
                    </a:lnTo>
                    <a:lnTo>
                      <a:pt x="23" y="651"/>
                    </a:lnTo>
                    <a:lnTo>
                      <a:pt x="23" y="763"/>
                    </a:lnTo>
                    <a:lnTo>
                      <a:pt x="23" y="876"/>
                    </a:lnTo>
                    <a:lnTo>
                      <a:pt x="23" y="976"/>
                    </a:lnTo>
                    <a:lnTo>
                      <a:pt x="23" y="1088"/>
                    </a:lnTo>
                    <a:lnTo>
                      <a:pt x="23" y="1188"/>
                    </a:lnTo>
                    <a:lnTo>
                      <a:pt x="23" y="1301"/>
                    </a:lnTo>
                    <a:lnTo>
                      <a:pt x="12" y="1414"/>
                    </a:lnTo>
                    <a:lnTo>
                      <a:pt x="12" y="1514"/>
                    </a:lnTo>
                    <a:lnTo>
                      <a:pt x="0" y="1625"/>
                    </a:lnTo>
                    <a:lnTo>
                      <a:pt x="0" y="172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7741440" y="4215240"/>
                <a:ext cx="11520" cy="140040"/>
              </a:xfrm>
              <a:custGeom>
                <a:avLst/>
                <a:gdLst/>
                <a:ahLst/>
                <a:rect l="l" t="t" r="r" b="b"/>
                <a:pathLst>
                  <a:path w="33" h="357">
                    <a:moveTo>
                      <a:pt x="33" y="0"/>
                    </a:moveTo>
                    <a:lnTo>
                      <a:pt x="23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23" y="89"/>
                    </a:lnTo>
                    <a:lnTo>
                      <a:pt x="11" y="111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9"/>
                    </a:lnTo>
                    <a:lnTo>
                      <a:pt x="11" y="200"/>
                    </a:lnTo>
                    <a:lnTo>
                      <a:pt x="0" y="223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3"/>
                    </a:lnTo>
                    <a:lnTo>
                      <a:pt x="0" y="335"/>
                    </a:lnTo>
                    <a:lnTo>
                      <a:pt x="0" y="3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7636320" y="4280760"/>
                <a:ext cx="81720" cy="95760"/>
              </a:xfrm>
              <a:custGeom>
                <a:avLst/>
                <a:gdLst/>
                <a:ahLst/>
                <a:rect l="l" t="t" r="r" b="b"/>
                <a:pathLst>
                  <a:path w="213" h="247">
                    <a:moveTo>
                      <a:pt x="213" y="247"/>
                    </a:moveTo>
                    <a:lnTo>
                      <a:pt x="191" y="235"/>
                    </a:lnTo>
                    <a:lnTo>
                      <a:pt x="168" y="223"/>
                    </a:lnTo>
                    <a:lnTo>
                      <a:pt x="157" y="213"/>
                    </a:lnTo>
                    <a:lnTo>
                      <a:pt x="147" y="202"/>
                    </a:lnTo>
                    <a:lnTo>
                      <a:pt x="135" y="179"/>
                    </a:lnTo>
                    <a:lnTo>
                      <a:pt x="124" y="168"/>
                    </a:lnTo>
                    <a:lnTo>
                      <a:pt x="112" y="146"/>
                    </a:lnTo>
                    <a:lnTo>
                      <a:pt x="101" y="134"/>
                    </a:lnTo>
                    <a:lnTo>
                      <a:pt x="91" y="112"/>
                    </a:lnTo>
                    <a:lnTo>
                      <a:pt x="79" y="101"/>
                    </a:lnTo>
                    <a:lnTo>
                      <a:pt x="68" y="78"/>
                    </a:lnTo>
                    <a:lnTo>
                      <a:pt x="56" y="68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7400880" y="3927960"/>
                <a:ext cx="235440" cy="352440"/>
              </a:xfrm>
              <a:custGeom>
                <a:avLst/>
                <a:gdLst/>
                <a:ahLst/>
                <a:rect l="l" t="t" r="r" b="b"/>
                <a:pathLst>
                  <a:path w="605" h="908">
                    <a:moveTo>
                      <a:pt x="605" y="908"/>
                    </a:moveTo>
                    <a:lnTo>
                      <a:pt x="414" y="66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7274880" y="3648240"/>
                <a:ext cx="125640" cy="279720"/>
              </a:xfrm>
              <a:custGeom>
                <a:avLst/>
                <a:gdLst/>
                <a:ahLst/>
                <a:rect l="l" t="t" r="r" b="b"/>
                <a:pathLst>
                  <a:path w="325" h="717">
                    <a:moveTo>
                      <a:pt x="325" y="717"/>
                    </a:moveTo>
                    <a:lnTo>
                      <a:pt x="302" y="672"/>
                    </a:lnTo>
                    <a:lnTo>
                      <a:pt x="279" y="628"/>
                    </a:lnTo>
                    <a:lnTo>
                      <a:pt x="258" y="582"/>
                    </a:lnTo>
                    <a:lnTo>
                      <a:pt x="236" y="537"/>
                    </a:lnTo>
                    <a:lnTo>
                      <a:pt x="213" y="493"/>
                    </a:lnTo>
                    <a:lnTo>
                      <a:pt x="190" y="448"/>
                    </a:lnTo>
                    <a:lnTo>
                      <a:pt x="168" y="403"/>
                    </a:lnTo>
                    <a:lnTo>
                      <a:pt x="145" y="359"/>
                    </a:lnTo>
                    <a:lnTo>
                      <a:pt x="124" y="314"/>
                    </a:lnTo>
                    <a:lnTo>
                      <a:pt x="112" y="268"/>
                    </a:lnTo>
                    <a:lnTo>
                      <a:pt x="89" y="224"/>
                    </a:lnTo>
                    <a:lnTo>
                      <a:pt x="68" y="179"/>
                    </a:lnTo>
                    <a:lnTo>
                      <a:pt x="45" y="134"/>
                    </a:lnTo>
                    <a:lnTo>
                      <a:pt x="34" y="89"/>
                    </a:lnTo>
                    <a:lnTo>
                      <a:pt x="12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7265160" y="3171600"/>
                <a:ext cx="343080" cy="446040"/>
              </a:xfrm>
              <a:custGeom>
                <a:avLst/>
                <a:gdLst/>
                <a:ahLst/>
                <a:rect l="l" t="t" r="r" b="b"/>
                <a:pathLst>
                  <a:path w="886" h="1144">
                    <a:moveTo>
                      <a:pt x="0" y="1144"/>
                    </a:moveTo>
                    <a:lnTo>
                      <a:pt x="190" y="919"/>
                    </a:lnTo>
                    <a:lnTo>
                      <a:pt x="88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7608600" y="2997000"/>
                <a:ext cx="132480" cy="174600"/>
              </a:xfrm>
              <a:custGeom>
                <a:avLst/>
                <a:gdLst/>
                <a:ahLst/>
                <a:rect l="l" t="t" r="r" b="b"/>
                <a:pathLst>
                  <a:path w="336" h="449">
                    <a:moveTo>
                      <a:pt x="0" y="449"/>
                    </a:moveTo>
                    <a:lnTo>
                      <a:pt x="23" y="427"/>
                    </a:lnTo>
                    <a:lnTo>
                      <a:pt x="44" y="394"/>
                    </a:lnTo>
                    <a:lnTo>
                      <a:pt x="66" y="371"/>
                    </a:lnTo>
                    <a:lnTo>
                      <a:pt x="89" y="338"/>
                    </a:lnTo>
                    <a:lnTo>
                      <a:pt x="100" y="315"/>
                    </a:lnTo>
                    <a:lnTo>
                      <a:pt x="122" y="282"/>
                    </a:lnTo>
                    <a:lnTo>
                      <a:pt x="145" y="247"/>
                    </a:lnTo>
                    <a:lnTo>
                      <a:pt x="157" y="226"/>
                    </a:lnTo>
                    <a:lnTo>
                      <a:pt x="178" y="192"/>
                    </a:lnTo>
                    <a:lnTo>
                      <a:pt x="201" y="169"/>
                    </a:lnTo>
                    <a:lnTo>
                      <a:pt x="213" y="136"/>
                    </a:lnTo>
                    <a:lnTo>
                      <a:pt x="234" y="112"/>
                    </a:lnTo>
                    <a:lnTo>
                      <a:pt x="257" y="79"/>
                    </a:lnTo>
                    <a:lnTo>
                      <a:pt x="279" y="56"/>
                    </a:lnTo>
                    <a:lnTo>
                      <a:pt x="302" y="35"/>
                    </a:lnTo>
                    <a:lnTo>
                      <a:pt x="3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6834240" y="3000960"/>
                <a:ext cx="456840" cy="663120"/>
              </a:xfrm>
              <a:custGeom>
                <a:avLst/>
                <a:gdLst/>
                <a:ahLst/>
                <a:rect l="l" t="t" r="r" b="b"/>
                <a:pathLst>
                  <a:path w="1177" h="1704">
                    <a:moveTo>
                      <a:pt x="829" y="549"/>
                    </a:moveTo>
                    <a:lnTo>
                      <a:pt x="863" y="594"/>
                    </a:lnTo>
                    <a:lnTo>
                      <a:pt x="896" y="639"/>
                    </a:lnTo>
                    <a:lnTo>
                      <a:pt x="919" y="685"/>
                    </a:lnTo>
                    <a:lnTo>
                      <a:pt x="953" y="729"/>
                    </a:lnTo>
                    <a:lnTo>
                      <a:pt x="986" y="774"/>
                    </a:lnTo>
                    <a:lnTo>
                      <a:pt x="1009" y="819"/>
                    </a:lnTo>
                    <a:lnTo>
                      <a:pt x="1030" y="875"/>
                    </a:lnTo>
                    <a:lnTo>
                      <a:pt x="1053" y="919"/>
                    </a:lnTo>
                    <a:lnTo>
                      <a:pt x="1087" y="976"/>
                    </a:lnTo>
                    <a:lnTo>
                      <a:pt x="1099" y="1021"/>
                    </a:lnTo>
                    <a:lnTo>
                      <a:pt x="1122" y="1077"/>
                    </a:lnTo>
                    <a:lnTo>
                      <a:pt x="1132" y="1122"/>
                    </a:lnTo>
                    <a:lnTo>
                      <a:pt x="1155" y="1178"/>
                    </a:lnTo>
                    <a:lnTo>
                      <a:pt x="1166" y="1233"/>
                    </a:lnTo>
                    <a:lnTo>
                      <a:pt x="1166" y="1289"/>
                    </a:lnTo>
                    <a:lnTo>
                      <a:pt x="1177" y="1345"/>
                    </a:lnTo>
                    <a:lnTo>
                      <a:pt x="1132" y="1368"/>
                    </a:lnTo>
                    <a:lnTo>
                      <a:pt x="1087" y="1401"/>
                    </a:lnTo>
                    <a:lnTo>
                      <a:pt x="1042" y="1425"/>
                    </a:lnTo>
                    <a:lnTo>
                      <a:pt x="997" y="1447"/>
                    </a:lnTo>
                    <a:lnTo>
                      <a:pt x="953" y="1470"/>
                    </a:lnTo>
                    <a:lnTo>
                      <a:pt x="908" y="1491"/>
                    </a:lnTo>
                    <a:lnTo>
                      <a:pt x="863" y="1514"/>
                    </a:lnTo>
                    <a:lnTo>
                      <a:pt x="819" y="1536"/>
                    </a:lnTo>
                    <a:lnTo>
                      <a:pt x="774" y="1559"/>
                    </a:lnTo>
                    <a:lnTo>
                      <a:pt x="728" y="1581"/>
                    </a:lnTo>
                    <a:lnTo>
                      <a:pt x="685" y="1604"/>
                    </a:lnTo>
                    <a:lnTo>
                      <a:pt x="638" y="1615"/>
                    </a:lnTo>
                    <a:lnTo>
                      <a:pt x="593" y="1637"/>
                    </a:lnTo>
                    <a:lnTo>
                      <a:pt x="549" y="1660"/>
                    </a:lnTo>
                    <a:lnTo>
                      <a:pt x="504" y="1681"/>
                    </a:lnTo>
                    <a:lnTo>
                      <a:pt x="459" y="1704"/>
                    </a:lnTo>
                    <a:lnTo>
                      <a:pt x="459" y="1681"/>
                    </a:lnTo>
                    <a:lnTo>
                      <a:pt x="459" y="1671"/>
                    </a:lnTo>
                    <a:lnTo>
                      <a:pt x="459" y="1648"/>
                    </a:lnTo>
                    <a:lnTo>
                      <a:pt x="459" y="1625"/>
                    </a:lnTo>
                    <a:lnTo>
                      <a:pt x="459" y="1615"/>
                    </a:lnTo>
                    <a:lnTo>
                      <a:pt x="459" y="1592"/>
                    </a:lnTo>
                    <a:lnTo>
                      <a:pt x="459" y="1581"/>
                    </a:lnTo>
                    <a:lnTo>
                      <a:pt x="459" y="1559"/>
                    </a:lnTo>
                    <a:lnTo>
                      <a:pt x="459" y="1536"/>
                    </a:lnTo>
                    <a:lnTo>
                      <a:pt x="459" y="1526"/>
                    </a:lnTo>
                    <a:lnTo>
                      <a:pt x="459" y="1503"/>
                    </a:lnTo>
                    <a:lnTo>
                      <a:pt x="459" y="1481"/>
                    </a:lnTo>
                    <a:lnTo>
                      <a:pt x="459" y="1470"/>
                    </a:lnTo>
                    <a:lnTo>
                      <a:pt x="448" y="1447"/>
                    </a:lnTo>
                    <a:lnTo>
                      <a:pt x="448" y="1425"/>
                    </a:lnTo>
                    <a:lnTo>
                      <a:pt x="448" y="1413"/>
                    </a:lnTo>
                    <a:lnTo>
                      <a:pt x="448" y="1390"/>
                    </a:lnTo>
                    <a:lnTo>
                      <a:pt x="448" y="1378"/>
                    </a:lnTo>
                    <a:lnTo>
                      <a:pt x="437" y="1356"/>
                    </a:lnTo>
                    <a:lnTo>
                      <a:pt x="437" y="1334"/>
                    </a:lnTo>
                    <a:lnTo>
                      <a:pt x="437" y="1323"/>
                    </a:lnTo>
                    <a:lnTo>
                      <a:pt x="437" y="1300"/>
                    </a:lnTo>
                    <a:lnTo>
                      <a:pt x="437" y="1289"/>
                    </a:lnTo>
                    <a:lnTo>
                      <a:pt x="426" y="1267"/>
                    </a:lnTo>
                    <a:lnTo>
                      <a:pt x="426" y="1256"/>
                    </a:lnTo>
                    <a:lnTo>
                      <a:pt x="426" y="1233"/>
                    </a:lnTo>
                    <a:lnTo>
                      <a:pt x="426" y="1223"/>
                    </a:lnTo>
                    <a:lnTo>
                      <a:pt x="415" y="1200"/>
                    </a:lnTo>
                    <a:lnTo>
                      <a:pt x="415" y="1188"/>
                    </a:lnTo>
                    <a:lnTo>
                      <a:pt x="415" y="1166"/>
                    </a:lnTo>
                    <a:lnTo>
                      <a:pt x="415" y="1155"/>
                    </a:lnTo>
                    <a:lnTo>
                      <a:pt x="415" y="1132"/>
                    </a:lnTo>
                    <a:lnTo>
                      <a:pt x="403" y="1132"/>
                    </a:lnTo>
                    <a:lnTo>
                      <a:pt x="403" y="1122"/>
                    </a:lnTo>
                    <a:lnTo>
                      <a:pt x="392" y="1110"/>
                    </a:lnTo>
                    <a:lnTo>
                      <a:pt x="392" y="1099"/>
                    </a:lnTo>
                    <a:lnTo>
                      <a:pt x="392" y="1088"/>
                    </a:lnTo>
                    <a:lnTo>
                      <a:pt x="392" y="1077"/>
                    </a:lnTo>
                    <a:lnTo>
                      <a:pt x="392" y="1066"/>
                    </a:lnTo>
                    <a:lnTo>
                      <a:pt x="392" y="1054"/>
                    </a:lnTo>
                    <a:lnTo>
                      <a:pt x="392" y="1043"/>
                    </a:lnTo>
                    <a:lnTo>
                      <a:pt x="392" y="1033"/>
                    </a:lnTo>
                    <a:lnTo>
                      <a:pt x="382" y="1021"/>
                    </a:lnTo>
                    <a:lnTo>
                      <a:pt x="382" y="1010"/>
                    </a:lnTo>
                    <a:lnTo>
                      <a:pt x="370" y="998"/>
                    </a:lnTo>
                    <a:lnTo>
                      <a:pt x="370" y="986"/>
                    </a:lnTo>
                    <a:lnTo>
                      <a:pt x="359" y="964"/>
                    </a:lnTo>
                    <a:lnTo>
                      <a:pt x="359" y="941"/>
                    </a:lnTo>
                    <a:lnTo>
                      <a:pt x="359" y="919"/>
                    </a:lnTo>
                    <a:lnTo>
                      <a:pt x="347" y="897"/>
                    </a:lnTo>
                    <a:lnTo>
                      <a:pt x="347" y="885"/>
                    </a:lnTo>
                    <a:lnTo>
                      <a:pt x="347" y="863"/>
                    </a:lnTo>
                    <a:lnTo>
                      <a:pt x="336" y="841"/>
                    </a:lnTo>
                    <a:lnTo>
                      <a:pt x="336" y="819"/>
                    </a:lnTo>
                    <a:lnTo>
                      <a:pt x="325" y="796"/>
                    </a:lnTo>
                    <a:lnTo>
                      <a:pt x="325" y="784"/>
                    </a:lnTo>
                    <a:lnTo>
                      <a:pt x="314" y="763"/>
                    </a:lnTo>
                    <a:lnTo>
                      <a:pt x="314" y="740"/>
                    </a:lnTo>
                    <a:lnTo>
                      <a:pt x="303" y="729"/>
                    </a:lnTo>
                    <a:lnTo>
                      <a:pt x="303" y="707"/>
                    </a:lnTo>
                    <a:lnTo>
                      <a:pt x="291" y="685"/>
                    </a:lnTo>
                    <a:lnTo>
                      <a:pt x="281" y="673"/>
                    </a:lnTo>
                    <a:lnTo>
                      <a:pt x="281" y="651"/>
                    </a:lnTo>
                    <a:lnTo>
                      <a:pt x="281" y="639"/>
                    </a:lnTo>
                    <a:lnTo>
                      <a:pt x="269" y="629"/>
                    </a:lnTo>
                    <a:lnTo>
                      <a:pt x="269" y="606"/>
                    </a:lnTo>
                    <a:lnTo>
                      <a:pt x="258" y="594"/>
                    </a:lnTo>
                    <a:lnTo>
                      <a:pt x="247" y="584"/>
                    </a:lnTo>
                    <a:lnTo>
                      <a:pt x="247" y="561"/>
                    </a:lnTo>
                    <a:lnTo>
                      <a:pt x="235" y="549"/>
                    </a:lnTo>
                    <a:lnTo>
                      <a:pt x="224" y="537"/>
                    </a:lnTo>
                    <a:lnTo>
                      <a:pt x="213" y="527"/>
                    </a:lnTo>
                    <a:lnTo>
                      <a:pt x="213" y="504"/>
                    </a:lnTo>
                    <a:lnTo>
                      <a:pt x="201" y="493"/>
                    </a:lnTo>
                    <a:lnTo>
                      <a:pt x="190" y="481"/>
                    </a:lnTo>
                    <a:lnTo>
                      <a:pt x="178" y="471"/>
                    </a:lnTo>
                    <a:lnTo>
                      <a:pt x="178" y="448"/>
                    </a:lnTo>
                    <a:lnTo>
                      <a:pt x="168" y="437"/>
                    </a:lnTo>
                    <a:lnTo>
                      <a:pt x="156" y="426"/>
                    </a:lnTo>
                    <a:lnTo>
                      <a:pt x="145" y="415"/>
                    </a:lnTo>
                    <a:lnTo>
                      <a:pt x="133" y="403"/>
                    </a:lnTo>
                    <a:lnTo>
                      <a:pt x="133" y="392"/>
                    </a:lnTo>
                    <a:lnTo>
                      <a:pt x="123" y="382"/>
                    </a:lnTo>
                    <a:lnTo>
                      <a:pt x="112" y="370"/>
                    </a:lnTo>
                    <a:lnTo>
                      <a:pt x="100" y="359"/>
                    </a:lnTo>
                    <a:lnTo>
                      <a:pt x="89" y="347"/>
                    </a:lnTo>
                    <a:lnTo>
                      <a:pt x="77" y="336"/>
                    </a:lnTo>
                    <a:lnTo>
                      <a:pt x="67" y="326"/>
                    </a:lnTo>
                    <a:lnTo>
                      <a:pt x="56" y="326"/>
                    </a:lnTo>
                    <a:lnTo>
                      <a:pt x="56" y="314"/>
                    </a:lnTo>
                    <a:lnTo>
                      <a:pt x="44" y="303"/>
                    </a:lnTo>
                    <a:lnTo>
                      <a:pt x="34" y="291"/>
                    </a:lnTo>
                    <a:lnTo>
                      <a:pt x="22" y="281"/>
                    </a:lnTo>
                    <a:lnTo>
                      <a:pt x="11" y="281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0" y="235"/>
                    </a:lnTo>
                    <a:lnTo>
                      <a:pt x="11" y="235"/>
                    </a:lnTo>
                    <a:lnTo>
                      <a:pt x="11" y="225"/>
                    </a:lnTo>
                    <a:lnTo>
                      <a:pt x="22" y="225"/>
                    </a:lnTo>
                    <a:lnTo>
                      <a:pt x="22" y="214"/>
                    </a:lnTo>
                    <a:lnTo>
                      <a:pt x="34" y="214"/>
                    </a:lnTo>
                    <a:lnTo>
                      <a:pt x="34" y="202"/>
                    </a:lnTo>
                    <a:lnTo>
                      <a:pt x="44" y="192"/>
                    </a:lnTo>
                    <a:lnTo>
                      <a:pt x="44" y="202"/>
                    </a:lnTo>
                    <a:lnTo>
                      <a:pt x="247" y="11"/>
                    </a:lnTo>
                    <a:lnTo>
                      <a:pt x="247" y="0"/>
                    </a:lnTo>
                    <a:lnTo>
                      <a:pt x="291" y="34"/>
                    </a:lnTo>
                    <a:lnTo>
                      <a:pt x="336" y="56"/>
                    </a:lnTo>
                    <a:lnTo>
                      <a:pt x="370" y="79"/>
                    </a:lnTo>
                    <a:lnTo>
                      <a:pt x="415" y="112"/>
                    </a:lnTo>
                    <a:lnTo>
                      <a:pt x="448" y="146"/>
                    </a:lnTo>
                    <a:lnTo>
                      <a:pt x="493" y="180"/>
                    </a:lnTo>
                    <a:lnTo>
                      <a:pt x="527" y="214"/>
                    </a:lnTo>
                    <a:lnTo>
                      <a:pt x="572" y="247"/>
                    </a:lnTo>
                    <a:lnTo>
                      <a:pt x="605" y="281"/>
                    </a:lnTo>
                    <a:lnTo>
                      <a:pt x="638" y="314"/>
                    </a:lnTo>
                    <a:lnTo>
                      <a:pt x="673" y="359"/>
                    </a:lnTo>
                    <a:lnTo>
                      <a:pt x="706" y="392"/>
                    </a:lnTo>
                    <a:lnTo>
                      <a:pt x="740" y="426"/>
                    </a:lnTo>
                    <a:lnTo>
                      <a:pt x="774" y="471"/>
                    </a:lnTo>
                    <a:lnTo>
                      <a:pt x="807" y="504"/>
                    </a:lnTo>
                    <a:lnTo>
                      <a:pt x="829" y="549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7155720" y="3215880"/>
                <a:ext cx="135360" cy="310680"/>
              </a:xfrm>
              <a:custGeom>
                <a:avLst/>
                <a:gdLst/>
                <a:ahLst/>
                <a:rect l="l" t="t" r="r" b="b"/>
                <a:pathLst>
                  <a:path w="348" h="796">
                    <a:moveTo>
                      <a:pt x="0" y="0"/>
                    </a:moveTo>
                    <a:lnTo>
                      <a:pt x="34" y="45"/>
                    </a:lnTo>
                    <a:lnTo>
                      <a:pt x="67" y="90"/>
                    </a:lnTo>
                    <a:lnTo>
                      <a:pt x="90" y="136"/>
                    </a:lnTo>
                    <a:lnTo>
                      <a:pt x="124" y="180"/>
                    </a:lnTo>
                    <a:lnTo>
                      <a:pt x="157" y="225"/>
                    </a:lnTo>
                    <a:lnTo>
                      <a:pt x="180" y="270"/>
                    </a:lnTo>
                    <a:lnTo>
                      <a:pt x="201" y="326"/>
                    </a:lnTo>
                    <a:lnTo>
                      <a:pt x="224" y="370"/>
                    </a:lnTo>
                    <a:lnTo>
                      <a:pt x="258" y="427"/>
                    </a:lnTo>
                    <a:lnTo>
                      <a:pt x="270" y="472"/>
                    </a:lnTo>
                    <a:lnTo>
                      <a:pt x="293" y="528"/>
                    </a:lnTo>
                    <a:lnTo>
                      <a:pt x="303" y="573"/>
                    </a:lnTo>
                    <a:lnTo>
                      <a:pt x="326" y="629"/>
                    </a:lnTo>
                    <a:lnTo>
                      <a:pt x="337" y="684"/>
                    </a:lnTo>
                    <a:lnTo>
                      <a:pt x="337" y="740"/>
                    </a:lnTo>
                    <a:lnTo>
                      <a:pt x="348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7011360" y="3526920"/>
                <a:ext cx="279720" cy="137520"/>
              </a:xfrm>
              <a:custGeom>
                <a:avLst/>
                <a:gdLst/>
                <a:ahLst/>
                <a:rect l="l" t="t" r="r" b="b"/>
                <a:pathLst>
                  <a:path w="718" h="359">
                    <a:moveTo>
                      <a:pt x="718" y="0"/>
                    </a:moveTo>
                    <a:lnTo>
                      <a:pt x="673" y="23"/>
                    </a:lnTo>
                    <a:lnTo>
                      <a:pt x="628" y="56"/>
                    </a:lnTo>
                    <a:lnTo>
                      <a:pt x="583" y="80"/>
                    </a:lnTo>
                    <a:lnTo>
                      <a:pt x="538" y="102"/>
                    </a:lnTo>
                    <a:lnTo>
                      <a:pt x="494" y="125"/>
                    </a:lnTo>
                    <a:lnTo>
                      <a:pt x="449" y="146"/>
                    </a:lnTo>
                    <a:lnTo>
                      <a:pt x="404" y="169"/>
                    </a:lnTo>
                    <a:lnTo>
                      <a:pt x="360" y="191"/>
                    </a:lnTo>
                    <a:lnTo>
                      <a:pt x="315" y="214"/>
                    </a:lnTo>
                    <a:lnTo>
                      <a:pt x="269" y="236"/>
                    </a:lnTo>
                    <a:lnTo>
                      <a:pt x="226" y="259"/>
                    </a:lnTo>
                    <a:lnTo>
                      <a:pt x="179" y="270"/>
                    </a:lnTo>
                    <a:lnTo>
                      <a:pt x="134" y="292"/>
                    </a:lnTo>
                    <a:lnTo>
                      <a:pt x="90" y="315"/>
                    </a:lnTo>
                    <a:lnTo>
                      <a:pt x="45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7008840" y="3552120"/>
                <a:ext cx="2520" cy="111960"/>
              </a:xfrm>
              <a:custGeom>
                <a:avLst/>
                <a:gdLst/>
                <a:ahLst/>
                <a:rect l="l" t="t" r="r" b="b"/>
                <a:pathLst>
                  <a:path w="11" h="291">
                    <a:moveTo>
                      <a:pt x="11" y="291"/>
                    </a:moveTo>
                    <a:lnTo>
                      <a:pt x="11" y="268"/>
                    </a:lnTo>
                    <a:lnTo>
                      <a:pt x="11" y="258"/>
                    </a:lnTo>
                    <a:lnTo>
                      <a:pt x="11" y="235"/>
                    </a:lnTo>
                    <a:lnTo>
                      <a:pt x="11" y="212"/>
                    </a:lnTo>
                    <a:lnTo>
                      <a:pt x="11" y="202"/>
                    </a:lnTo>
                    <a:lnTo>
                      <a:pt x="11" y="179"/>
                    </a:lnTo>
                    <a:lnTo>
                      <a:pt x="11" y="168"/>
                    </a:lnTo>
                    <a:lnTo>
                      <a:pt x="11" y="146"/>
                    </a:lnTo>
                    <a:lnTo>
                      <a:pt x="11" y="123"/>
                    </a:lnTo>
                    <a:lnTo>
                      <a:pt x="11" y="113"/>
                    </a:lnTo>
                    <a:lnTo>
                      <a:pt x="11" y="90"/>
                    </a:lnTo>
                    <a:lnTo>
                      <a:pt x="11" y="68"/>
                    </a:lnTo>
                    <a:lnTo>
                      <a:pt x="11" y="57"/>
                    </a:lnTo>
                    <a:lnTo>
                      <a:pt x="0" y="34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6994800" y="3442680"/>
                <a:ext cx="13680" cy="109440"/>
              </a:xfrm>
              <a:custGeom>
                <a:avLst/>
                <a:gdLst/>
                <a:ahLst/>
                <a:rect l="l" t="t" r="r" b="b"/>
                <a:pathLst>
                  <a:path w="33" h="281">
                    <a:moveTo>
                      <a:pt x="33" y="281"/>
                    </a:moveTo>
                    <a:lnTo>
                      <a:pt x="33" y="258"/>
                    </a:lnTo>
                    <a:lnTo>
                      <a:pt x="33" y="246"/>
                    </a:lnTo>
                    <a:lnTo>
                      <a:pt x="22" y="224"/>
                    </a:lnTo>
                    <a:lnTo>
                      <a:pt x="22" y="202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11" y="135"/>
                    </a:lnTo>
                    <a:lnTo>
                      <a:pt x="11" y="124"/>
                    </a:lnTo>
                    <a:lnTo>
                      <a:pt x="11" y="101"/>
                    </a:lnTo>
                    <a:lnTo>
                      <a:pt x="11" y="91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6945840" y="3267360"/>
                <a:ext cx="30600" cy="123840"/>
              </a:xfrm>
              <a:custGeom>
                <a:avLst/>
                <a:gdLst/>
                <a:ahLst/>
                <a:rect l="l" t="t" r="r" b="b"/>
                <a:pathLst>
                  <a:path w="79" h="313">
                    <a:moveTo>
                      <a:pt x="79" y="313"/>
                    </a:moveTo>
                    <a:lnTo>
                      <a:pt x="79" y="301"/>
                    </a:lnTo>
                    <a:lnTo>
                      <a:pt x="68" y="279"/>
                    </a:lnTo>
                    <a:lnTo>
                      <a:pt x="68" y="256"/>
                    </a:lnTo>
                    <a:lnTo>
                      <a:pt x="68" y="234"/>
                    </a:lnTo>
                    <a:lnTo>
                      <a:pt x="56" y="212"/>
                    </a:lnTo>
                    <a:lnTo>
                      <a:pt x="56" y="200"/>
                    </a:lnTo>
                    <a:lnTo>
                      <a:pt x="56" y="178"/>
                    </a:lnTo>
                    <a:lnTo>
                      <a:pt x="45" y="156"/>
                    </a:lnTo>
                    <a:lnTo>
                      <a:pt x="45" y="134"/>
                    </a:lnTo>
                    <a:lnTo>
                      <a:pt x="34" y="111"/>
                    </a:lnTo>
                    <a:lnTo>
                      <a:pt x="34" y="99"/>
                    </a:lnTo>
                    <a:lnTo>
                      <a:pt x="23" y="78"/>
                    </a:lnTo>
                    <a:lnTo>
                      <a:pt x="23" y="55"/>
                    </a:lnTo>
                    <a:lnTo>
                      <a:pt x="12" y="44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6904080" y="3176280"/>
                <a:ext cx="41760" cy="9072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3" y="237"/>
                    </a:moveTo>
                    <a:lnTo>
                      <a:pt x="103" y="225"/>
                    </a:lnTo>
                    <a:lnTo>
                      <a:pt x="103" y="203"/>
                    </a:lnTo>
                    <a:lnTo>
                      <a:pt x="103" y="191"/>
                    </a:lnTo>
                    <a:lnTo>
                      <a:pt x="91" y="181"/>
                    </a:lnTo>
                    <a:lnTo>
                      <a:pt x="91" y="158"/>
                    </a:lnTo>
                    <a:lnTo>
                      <a:pt x="80" y="146"/>
                    </a:lnTo>
                    <a:lnTo>
                      <a:pt x="69" y="136"/>
                    </a:lnTo>
                    <a:lnTo>
                      <a:pt x="69" y="113"/>
                    </a:lnTo>
                    <a:lnTo>
                      <a:pt x="57" y="101"/>
                    </a:lnTo>
                    <a:lnTo>
                      <a:pt x="46" y="89"/>
                    </a:lnTo>
                    <a:lnTo>
                      <a:pt x="35" y="79"/>
                    </a:lnTo>
                    <a:lnTo>
                      <a:pt x="35" y="56"/>
                    </a:lnTo>
                    <a:lnTo>
                      <a:pt x="23" y="45"/>
                    </a:lnTo>
                    <a:lnTo>
                      <a:pt x="12" y="33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6841080" y="3111120"/>
                <a:ext cx="62640" cy="64800"/>
              </a:xfrm>
              <a:custGeom>
                <a:avLst/>
                <a:gdLst/>
                <a:ahLst/>
                <a:rect l="l" t="t" r="r" b="b"/>
                <a:pathLst>
                  <a:path w="156" h="167">
                    <a:moveTo>
                      <a:pt x="156" y="167"/>
                    </a:moveTo>
                    <a:lnTo>
                      <a:pt x="146" y="156"/>
                    </a:lnTo>
                    <a:lnTo>
                      <a:pt x="134" y="145"/>
                    </a:lnTo>
                    <a:lnTo>
                      <a:pt x="123" y="134"/>
                    </a:lnTo>
                    <a:lnTo>
                      <a:pt x="111" y="122"/>
                    </a:lnTo>
                    <a:lnTo>
                      <a:pt x="111" y="111"/>
                    </a:lnTo>
                    <a:lnTo>
                      <a:pt x="101" y="101"/>
                    </a:lnTo>
                    <a:lnTo>
                      <a:pt x="90" y="89"/>
                    </a:lnTo>
                    <a:lnTo>
                      <a:pt x="78" y="78"/>
                    </a:lnTo>
                    <a:lnTo>
                      <a:pt x="67" y="66"/>
                    </a:lnTo>
                    <a:lnTo>
                      <a:pt x="55" y="55"/>
                    </a:lnTo>
                    <a:lnTo>
                      <a:pt x="45" y="45"/>
                    </a:lnTo>
                    <a:lnTo>
                      <a:pt x="34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V="1">
                <a:off x="6850080" y="3005640"/>
                <a:ext cx="79200" cy="745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6929280" y="3000960"/>
                <a:ext cx="226440" cy="214920"/>
              </a:xfrm>
              <a:custGeom>
                <a:avLst/>
                <a:gdLst/>
                <a:ahLst/>
                <a:rect l="l" t="t" r="r" b="b"/>
                <a:pathLst>
                  <a:path w="582" h="549">
                    <a:moveTo>
                      <a:pt x="0" y="0"/>
                    </a:moveTo>
                    <a:lnTo>
                      <a:pt x="44" y="34"/>
                    </a:lnTo>
                    <a:lnTo>
                      <a:pt x="89" y="56"/>
                    </a:lnTo>
                    <a:lnTo>
                      <a:pt x="123" y="79"/>
                    </a:lnTo>
                    <a:lnTo>
                      <a:pt x="168" y="112"/>
                    </a:lnTo>
                    <a:lnTo>
                      <a:pt x="201" y="146"/>
                    </a:lnTo>
                    <a:lnTo>
                      <a:pt x="246" y="180"/>
                    </a:lnTo>
                    <a:lnTo>
                      <a:pt x="280" y="214"/>
                    </a:lnTo>
                    <a:lnTo>
                      <a:pt x="325" y="247"/>
                    </a:lnTo>
                    <a:lnTo>
                      <a:pt x="358" y="281"/>
                    </a:lnTo>
                    <a:lnTo>
                      <a:pt x="391" y="314"/>
                    </a:lnTo>
                    <a:lnTo>
                      <a:pt x="426" y="359"/>
                    </a:lnTo>
                    <a:lnTo>
                      <a:pt x="459" y="392"/>
                    </a:lnTo>
                    <a:lnTo>
                      <a:pt x="493" y="426"/>
                    </a:lnTo>
                    <a:lnTo>
                      <a:pt x="527" y="471"/>
                    </a:lnTo>
                    <a:lnTo>
                      <a:pt x="560" y="504"/>
                    </a:lnTo>
                    <a:lnTo>
                      <a:pt x="582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7286400" y="3054960"/>
                <a:ext cx="456840" cy="1290600"/>
              </a:xfrm>
              <a:custGeom>
                <a:avLst/>
                <a:gdLst/>
                <a:ahLst/>
                <a:rect l="l" t="t" r="r" b="b"/>
                <a:pathLst>
                  <a:path w="1177" h="3318">
                    <a:moveTo>
                      <a:pt x="1142" y="22"/>
                    </a:moveTo>
                    <a:lnTo>
                      <a:pt x="1142" y="79"/>
                    </a:lnTo>
                    <a:lnTo>
                      <a:pt x="1132" y="135"/>
                    </a:lnTo>
                    <a:lnTo>
                      <a:pt x="1132" y="191"/>
                    </a:lnTo>
                    <a:lnTo>
                      <a:pt x="1132" y="257"/>
                    </a:lnTo>
                    <a:lnTo>
                      <a:pt x="1120" y="313"/>
                    </a:lnTo>
                    <a:lnTo>
                      <a:pt x="1120" y="369"/>
                    </a:lnTo>
                    <a:lnTo>
                      <a:pt x="1120" y="426"/>
                    </a:lnTo>
                    <a:lnTo>
                      <a:pt x="1120" y="494"/>
                    </a:lnTo>
                    <a:lnTo>
                      <a:pt x="1109" y="550"/>
                    </a:lnTo>
                    <a:lnTo>
                      <a:pt x="1109" y="605"/>
                    </a:lnTo>
                    <a:lnTo>
                      <a:pt x="1109" y="661"/>
                    </a:lnTo>
                    <a:lnTo>
                      <a:pt x="1120" y="717"/>
                    </a:lnTo>
                    <a:lnTo>
                      <a:pt x="1120" y="773"/>
                    </a:lnTo>
                    <a:lnTo>
                      <a:pt x="1120" y="841"/>
                    </a:lnTo>
                    <a:lnTo>
                      <a:pt x="1132" y="898"/>
                    </a:lnTo>
                    <a:lnTo>
                      <a:pt x="1142" y="953"/>
                    </a:lnTo>
                    <a:lnTo>
                      <a:pt x="1142" y="997"/>
                    </a:lnTo>
                    <a:lnTo>
                      <a:pt x="1154" y="1043"/>
                    </a:lnTo>
                    <a:lnTo>
                      <a:pt x="1154" y="1088"/>
                    </a:lnTo>
                    <a:lnTo>
                      <a:pt x="1154" y="1132"/>
                    </a:lnTo>
                    <a:lnTo>
                      <a:pt x="1154" y="1177"/>
                    </a:lnTo>
                    <a:lnTo>
                      <a:pt x="1154" y="1221"/>
                    </a:lnTo>
                    <a:lnTo>
                      <a:pt x="1154" y="1266"/>
                    </a:lnTo>
                    <a:lnTo>
                      <a:pt x="1154" y="1300"/>
                    </a:lnTo>
                    <a:lnTo>
                      <a:pt x="1154" y="1346"/>
                    </a:lnTo>
                    <a:lnTo>
                      <a:pt x="1154" y="1391"/>
                    </a:lnTo>
                    <a:lnTo>
                      <a:pt x="1154" y="1435"/>
                    </a:lnTo>
                    <a:lnTo>
                      <a:pt x="1154" y="1480"/>
                    </a:lnTo>
                    <a:lnTo>
                      <a:pt x="1154" y="1525"/>
                    </a:lnTo>
                    <a:lnTo>
                      <a:pt x="1154" y="1569"/>
                    </a:lnTo>
                    <a:lnTo>
                      <a:pt x="1154" y="1614"/>
                    </a:lnTo>
                    <a:lnTo>
                      <a:pt x="1166" y="1659"/>
                    </a:lnTo>
                    <a:lnTo>
                      <a:pt x="1166" y="1738"/>
                    </a:lnTo>
                    <a:lnTo>
                      <a:pt x="1166" y="1816"/>
                    </a:lnTo>
                    <a:lnTo>
                      <a:pt x="1177" y="1894"/>
                    </a:lnTo>
                    <a:lnTo>
                      <a:pt x="1177" y="1983"/>
                    </a:lnTo>
                    <a:lnTo>
                      <a:pt x="1177" y="2062"/>
                    </a:lnTo>
                    <a:lnTo>
                      <a:pt x="1177" y="2141"/>
                    </a:lnTo>
                    <a:lnTo>
                      <a:pt x="1177" y="2231"/>
                    </a:lnTo>
                    <a:lnTo>
                      <a:pt x="1177" y="2309"/>
                    </a:lnTo>
                    <a:lnTo>
                      <a:pt x="1177" y="2387"/>
                    </a:lnTo>
                    <a:lnTo>
                      <a:pt x="1166" y="2478"/>
                    </a:lnTo>
                    <a:lnTo>
                      <a:pt x="1166" y="2556"/>
                    </a:lnTo>
                    <a:lnTo>
                      <a:pt x="1166" y="2634"/>
                    </a:lnTo>
                    <a:lnTo>
                      <a:pt x="1166" y="2713"/>
                    </a:lnTo>
                    <a:lnTo>
                      <a:pt x="1154" y="2802"/>
                    </a:lnTo>
                    <a:lnTo>
                      <a:pt x="1154" y="2880"/>
                    </a:lnTo>
                    <a:lnTo>
                      <a:pt x="1154" y="2960"/>
                    </a:lnTo>
                    <a:lnTo>
                      <a:pt x="1142" y="2983"/>
                    </a:lnTo>
                    <a:lnTo>
                      <a:pt x="1142" y="3005"/>
                    </a:lnTo>
                    <a:lnTo>
                      <a:pt x="1142" y="3028"/>
                    </a:lnTo>
                    <a:lnTo>
                      <a:pt x="1142" y="3050"/>
                    </a:lnTo>
                    <a:lnTo>
                      <a:pt x="1132" y="3072"/>
                    </a:lnTo>
                    <a:lnTo>
                      <a:pt x="1132" y="3094"/>
                    </a:lnTo>
                    <a:lnTo>
                      <a:pt x="1132" y="3117"/>
                    </a:lnTo>
                    <a:lnTo>
                      <a:pt x="1132" y="3139"/>
                    </a:lnTo>
                    <a:lnTo>
                      <a:pt x="1132" y="3162"/>
                    </a:lnTo>
                    <a:lnTo>
                      <a:pt x="1120" y="3183"/>
                    </a:lnTo>
                    <a:lnTo>
                      <a:pt x="1120" y="3206"/>
                    </a:lnTo>
                    <a:lnTo>
                      <a:pt x="1120" y="3228"/>
                    </a:lnTo>
                    <a:lnTo>
                      <a:pt x="1120" y="3251"/>
                    </a:lnTo>
                    <a:lnTo>
                      <a:pt x="1120" y="3274"/>
                    </a:lnTo>
                    <a:lnTo>
                      <a:pt x="1120" y="3296"/>
                    </a:lnTo>
                    <a:lnTo>
                      <a:pt x="1120" y="3318"/>
                    </a:lnTo>
                    <a:lnTo>
                      <a:pt x="1098" y="3307"/>
                    </a:lnTo>
                    <a:lnTo>
                      <a:pt x="1087" y="3296"/>
                    </a:lnTo>
                    <a:lnTo>
                      <a:pt x="1064" y="3284"/>
                    </a:lnTo>
                    <a:lnTo>
                      <a:pt x="1053" y="3274"/>
                    </a:lnTo>
                    <a:lnTo>
                      <a:pt x="1043" y="3262"/>
                    </a:lnTo>
                    <a:lnTo>
                      <a:pt x="1031" y="3240"/>
                    </a:lnTo>
                    <a:lnTo>
                      <a:pt x="1020" y="3228"/>
                    </a:lnTo>
                    <a:lnTo>
                      <a:pt x="997" y="3206"/>
                    </a:lnTo>
                    <a:lnTo>
                      <a:pt x="987" y="3195"/>
                    </a:lnTo>
                    <a:lnTo>
                      <a:pt x="975" y="3173"/>
                    </a:lnTo>
                    <a:lnTo>
                      <a:pt x="964" y="3162"/>
                    </a:lnTo>
                    <a:lnTo>
                      <a:pt x="952" y="3139"/>
                    </a:lnTo>
                    <a:lnTo>
                      <a:pt x="942" y="3128"/>
                    </a:lnTo>
                    <a:lnTo>
                      <a:pt x="930" y="3117"/>
                    </a:lnTo>
                    <a:lnTo>
                      <a:pt x="919" y="3094"/>
                    </a:lnTo>
                    <a:lnTo>
                      <a:pt x="896" y="3084"/>
                    </a:lnTo>
                    <a:lnTo>
                      <a:pt x="896" y="3072"/>
                    </a:lnTo>
                    <a:lnTo>
                      <a:pt x="886" y="3050"/>
                    </a:lnTo>
                    <a:lnTo>
                      <a:pt x="874" y="3038"/>
                    </a:lnTo>
                    <a:lnTo>
                      <a:pt x="863" y="3028"/>
                    </a:lnTo>
                    <a:lnTo>
                      <a:pt x="853" y="3016"/>
                    </a:lnTo>
                    <a:lnTo>
                      <a:pt x="841" y="3005"/>
                    </a:lnTo>
                    <a:lnTo>
                      <a:pt x="830" y="2993"/>
                    </a:lnTo>
                    <a:lnTo>
                      <a:pt x="818" y="2983"/>
                    </a:lnTo>
                    <a:lnTo>
                      <a:pt x="807" y="2971"/>
                    </a:lnTo>
                    <a:lnTo>
                      <a:pt x="797" y="2960"/>
                    </a:lnTo>
                    <a:lnTo>
                      <a:pt x="785" y="2948"/>
                    </a:lnTo>
                    <a:lnTo>
                      <a:pt x="774" y="2936"/>
                    </a:lnTo>
                    <a:lnTo>
                      <a:pt x="762" y="2926"/>
                    </a:lnTo>
                    <a:lnTo>
                      <a:pt x="762" y="2915"/>
                    </a:lnTo>
                    <a:lnTo>
                      <a:pt x="750" y="2903"/>
                    </a:lnTo>
                    <a:lnTo>
                      <a:pt x="740" y="2892"/>
                    </a:lnTo>
                    <a:lnTo>
                      <a:pt x="728" y="2880"/>
                    </a:lnTo>
                    <a:lnTo>
                      <a:pt x="728" y="2870"/>
                    </a:lnTo>
                    <a:lnTo>
                      <a:pt x="717" y="2859"/>
                    </a:lnTo>
                    <a:lnTo>
                      <a:pt x="705" y="2847"/>
                    </a:lnTo>
                    <a:lnTo>
                      <a:pt x="705" y="2836"/>
                    </a:lnTo>
                    <a:lnTo>
                      <a:pt x="695" y="2825"/>
                    </a:lnTo>
                    <a:lnTo>
                      <a:pt x="683" y="2802"/>
                    </a:lnTo>
                    <a:lnTo>
                      <a:pt x="683" y="2791"/>
                    </a:lnTo>
                    <a:lnTo>
                      <a:pt x="672" y="2781"/>
                    </a:lnTo>
                    <a:lnTo>
                      <a:pt x="672" y="2769"/>
                    </a:lnTo>
                    <a:lnTo>
                      <a:pt x="661" y="2758"/>
                    </a:lnTo>
                    <a:lnTo>
                      <a:pt x="649" y="2746"/>
                    </a:lnTo>
                    <a:lnTo>
                      <a:pt x="649" y="2735"/>
                    </a:lnTo>
                    <a:lnTo>
                      <a:pt x="639" y="2725"/>
                    </a:lnTo>
                    <a:lnTo>
                      <a:pt x="627" y="2713"/>
                    </a:lnTo>
                    <a:lnTo>
                      <a:pt x="627" y="2702"/>
                    </a:lnTo>
                    <a:lnTo>
                      <a:pt x="583" y="2646"/>
                    </a:lnTo>
                    <a:lnTo>
                      <a:pt x="548" y="2601"/>
                    </a:lnTo>
                    <a:lnTo>
                      <a:pt x="527" y="2556"/>
                    </a:lnTo>
                    <a:lnTo>
                      <a:pt x="493" y="2511"/>
                    </a:lnTo>
                    <a:lnTo>
                      <a:pt x="459" y="2455"/>
                    </a:lnTo>
                    <a:lnTo>
                      <a:pt x="426" y="2410"/>
                    </a:lnTo>
                    <a:lnTo>
                      <a:pt x="403" y="2354"/>
                    </a:lnTo>
                    <a:lnTo>
                      <a:pt x="370" y="2309"/>
                    </a:lnTo>
                    <a:lnTo>
                      <a:pt x="348" y="2265"/>
                    </a:lnTo>
                    <a:lnTo>
                      <a:pt x="313" y="2209"/>
                    </a:lnTo>
                    <a:lnTo>
                      <a:pt x="291" y="2164"/>
                    </a:lnTo>
                    <a:lnTo>
                      <a:pt x="257" y="2107"/>
                    </a:lnTo>
                    <a:lnTo>
                      <a:pt x="235" y="2062"/>
                    </a:lnTo>
                    <a:lnTo>
                      <a:pt x="212" y="2006"/>
                    </a:lnTo>
                    <a:lnTo>
                      <a:pt x="190" y="1950"/>
                    </a:lnTo>
                    <a:lnTo>
                      <a:pt x="156" y="1906"/>
                    </a:lnTo>
                    <a:lnTo>
                      <a:pt x="146" y="1884"/>
                    </a:lnTo>
                    <a:lnTo>
                      <a:pt x="134" y="1861"/>
                    </a:lnTo>
                    <a:lnTo>
                      <a:pt x="123" y="1828"/>
                    </a:lnTo>
                    <a:lnTo>
                      <a:pt x="111" y="1805"/>
                    </a:lnTo>
                    <a:lnTo>
                      <a:pt x="101" y="1783"/>
                    </a:lnTo>
                    <a:lnTo>
                      <a:pt x="90" y="1760"/>
                    </a:lnTo>
                    <a:lnTo>
                      <a:pt x="90" y="1738"/>
                    </a:lnTo>
                    <a:lnTo>
                      <a:pt x="78" y="1704"/>
                    </a:lnTo>
                    <a:lnTo>
                      <a:pt x="67" y="1681"/>
                    </a:lnTo>
                    <a:lnTo>
                      <a:pt x="55" y="1659"/>
                    </a:lnTo>
                    <a:lnTo>
                      <a:pt x="45" y="1637"/>
                    </a:lnTo>
                    <a:lnTo>
                      <a:pt x="34" y="1614"/>
                    </a:lnTo>
                    <a:lnTo>
                      <a:pt x="22" y="1581"/>
                    </a:lnTo>
                    <a:lnTo>
                      <a:pt x="11" y="1558"/>
                    </a:lnTo>
                    <a:lnTo>
                      <a:pt x="11" y="1536"/>
                    </a:lnTo>
                    <a:lnTo>
                      <a:pt x="0" y="1513"/>
                    </a:lnTo>
                    <a:lnTo>
                      <a:pt x="0" y="1502"/>
                    </a:lnTo>
                    <a:lnTo>
                      <a:pt x="0" y="1490"/>
                    </a:lnTo>
                    <a:lnTo>
                      <a:pt x="0" y="1480"/>
                    </a:lnTo>
                    <a:lnTo>
                      <a:pt x="0" y="1469"/>
                    </a:lnTo>
                    <a:lnTo>
                      <a:pt x="0" y="1457"/>
                    </a:lnTo>
                    <a:lnTo>
                      <a:pt x="11" y="1457"/>
                    </a:lnTo>
                    <a:lnTo>
                      <a:pt x="11" y="1446"/>
                    </a:lnTo>
                    <a:lnTo>
                      <a:pt x="22" y="1435"/>
                    </a:lnTo>
                    <a:lnTo>
                      <a:pt x="34" y="1424"/>
                    </a:lnTo>
                    <a:lnTo>
                      <a:pt x="34" y="1412"/>
                    </a:lnTo>
                    <a:lnTo>
                      <a:pt x="45" y="1412"/>
                    </a:lnTo>
                    <a:lnTo>
                      <a:pt x="45" y="1401"/>
                    </a:lnTo>
                    <a:lnTo>
                      <a:pt x="55" y="1401"/>
                    </a:lnTo>
                    <a:lnTo>
                      <a:pt x="55" y="1391"/>
                    </a:lnTo>
                    <a:lnTo>
                      <a:pt x="67" y="1379"/>
                    </a:lnTo>
                    <a:lnTo>
                      <a:pt x="90" y="1356"/>
                    </a:lnTo>
                    <a:lnTo>
                      <a:pt x="101" y="1335"/>
                    </a:lnTo>
                    <a:lnTo>
                      <a:pt x="123" y="1323"/>
                    </a:lnTo>
                    <a:lnTo>
                      <a:pt x="134" y="1300"/>
                    </a:lnTo>
                    <a:lnTo>
                      <a:pt x="146" y="1290"/>
                    </a:lnTo>
                    <a:lnTo>
                      <a:pt x="168" y="1266"/>
                    </a:lnTo>
                    <a:lnTo>
                      <a:pt x="179" y="1243"/>
                    </a:lnTo>
                    <a:lnTo>
                      <a:pt x="190" y="1221"/>
                    </a:lnTo>
                    <a:lnTo>
                      <a:pt x="202" y="1210"/>
                    </a:lnTo>
                    <a:lnTo>
                      <a:pt x="224" y="1188"/>
                    </a:lnTo>
                    <a:lnTo>
                      <a:pt x="235" y="1165"/>
                    </a:lnTo>
                    <a:lnTo>
                      <a:pt x="245" y="1154"/>
                    </a:lnTo>
                    <a:lnTo>
                      <a:pt x="257" y="1132"/>
                    </a:lnTo>
                    <a:lnTo>
                      <a:pt x="268" y="1109"/>
                    </a:lnTo>
                    <a:lnTo>
                      <a:pt x="291" y="1098"/>
                    </a:lnTo>
                    <a:lnTo>
                      <a:pt x="336" y="1043"/>
                    </a:lnTo>
                    <a:lnTo>
                      <a:pt x="381" y="975"/>
                    </a:lnTo>
                    <a:lnTo>
                      <a:pt x="426" y="919"/>
                    </a:lnTo>
                    <a:lnTo>
                      <a:pt x="471" y="863"/>
                    </a:lnTo>
                    <a:lnTo>
                      <a:pt x="515" y="806"/>
                    </a:lnTo>
                    <a:lnTo>
                      <a:pt x="560" y="750"/>
                    </a:lnTo>
                    <a:lnTo>
                      <a:pt x="605" y="684"/>
                    </a:lnTo>
                    <a:lnTo>
                      <a:pt x="649" y="628"/>
                    </a:lnTo>
                    <a:lnTo>
                      <a:pt x="695" y="572"/>
                    </a:lnTo>
                    <a:lnTo>
                      <a:pt x="740" y="516"/>
                    </a:lnTo>
                    <a:lnTo>
                      <a:pt x="785" y="459"/>
                    </a:lnTo>
                    <a:lnTo>
                      <a:pt x="830" y="392"/>
                    </a:lnTo>
                    <a:lnTo>
                      <a:pt x="874" y="336"/>
                    </a:lnTo>
                    <a:lnTo>
                      <a:pt x="919" y="280"/>
                    </a:lnTo>
                    <a:lnTo>
                      <a:pt x="964" y="224"/>
                    </a:lnTo>
                    <a:lnTo>
                      <a:pt x="1020" y="168"/>
                    </a:lnTo>
                    <a:lnTo>
                      <a:pt x="1020" y="156"/>
                    </a:lnTo>
                    <a:lnTo>
                      <a:pt x="1031" y="146"/>
                    </a:lnTo>
                    <a:lnTo>
                      <a:pt x="1031" y="135"/>
                    </a:lnTo>
                    <a:lnTo>
                      <a:pt x="1043" y="123"/>
                    </a:lnTo>
                    <a:lnTo>
                      <a:pt x="1053" y="123"/>
                    </a:lnTo>
                    <a:lnTo>
                      <a:pt x="1053" y="112"/>
                    </a:lnTo>
                    <a:lnTo>
                      <a:pt x="1064" y="100"/>
                    </a:lnTo>
                    <a:lnTo>
                      <a:pt x="1064" y="90"/>
                    </a:lnTo>
                    <a:lnTo>
                      <a:pt x="1076" y="79"/>
                    </a:lnTo>
                    <a:lnTo>
                      <a:pt x="1087" y="67"/>
                    </a:lnTo>
                    <a:lnTo>
                      <a:pt x="1087" y="57"/>
                    </a:lnTo>
                    <a:lnTo>
                      <a:pt x="1098" y="45"/>
                    </a:lnTo>
                    <a:lnTo>
                      <a:pt x="1098" y="34"/>
                    </a:lnTo>
                    <a:lnTo>
                      <a:pt x="1109" y="22"/>
                    </a:lnTo>
                    <a:lnTo>
                      <a:pt x="1109" y="11"/>
                    </a:lnTo>
                    <a:lnTo>
                      <a:pt x="1120" y="0"/>
                    </a:lnTo>
                    <a:lnTo>
                      <a:pt x="1132" y="0"/>
                    </a:lnTo>
                    <a:lnTo>
                      <a:pt x="1132" y="11"/>
                    </a:lnTo>
                    <a:lnTo>
                      <a:pt x="1142" y="11"/>
                    </a:lnTo>
                    <a:lnTo>
                      <a:pt x="1142" y="22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7718400" y="3064680"/>
                <a:ext cx="13680" cy="361440"/>
              </a:xfrm>
              <a:custGeom>
                <a:avLst/>
                <a:gdLst/>
                <a:ahLst/>
                <a:rect l="l" t="t" r="r" b="b"/>
                <a:pathLst>
                  <a:path w="33" h="931">
                    <a:moveTo>
                      <a:pt x="33" y="0"/>
                    </a:moveTo>
                    <a:lnTo>
                      <a:pt x="33" y="57"/>
                    </a:lnTo>
                    <a:lnTo>
                      <a:pt x="23" y="113"/>
                    </a:lnTo>
                    <a:lnTo>
                      <a:pt x="23" y="169"/>
                    </a:lnTo>
                    <a:lnTo>
                      <a:pt x="23" y="235"/>
                    </a:lnTo>
                    <a:lnTo>
                      <a:pt x="11" y="291"/>
                    </a:lnTo>
                    <a:lnTo>
                      <a:pt x="11" y="347"/>
                    </a:lnTo>
                    <a:lnTo>
                      <a:pt x="11" y="404"/>
                    </a:lnTo>
                    <a:lnTo>
                      <a:pt x="11" y="472"/>
                    </a:lnTo>
                    <a:lnTo>
                      <a:pt x="0" y="528"/>
                    </a:lnTo>
                    <a:lnTo>
                      <a:pt x="0" y="583"/>
                    </a:lnTo>
                    <a:lnTo>
                      <a:pt x="0" y="639"/>
                    </a:lnTo>
                    <a:lnTo>
                      <a:pt x="11" y="695"/>
                    </a:lnTo>
                    <a:lnTo>
                      <a:pt x="11" y="751"/>
                    </a:lnTo>
                    <a:lnTo>
                      <a:pt x="11" y="819"/>
                    </a:lnTo>
                    <a:lnTo>
                      <a:pt x="23" y="876"/>
                    </a:lnTo>
                    <a:lnTo>
                      <a:pt x="33" y="93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7732080" y="3426120"/>
                <a:ext cx="9360" cy="272880"/>
              </a:xfrm>
              <a:custGeom>
                <a:avLst/>
                <a:gdLst/>
                <a:ahLst/>
                <a:rect l="l" t="t" r="r" b="b"/>
                <a:pathLst>
                  <a:path w="24" h="706">
                    <a:moveTo>
                      <a:pt x="0" y="0"/>
                    </a:moveTo>
                    <a:lnTo>
                      <a:pt x="0" y="44"/>
                    </a:lnTo>
                    <a:lnTo>
                      <a:pt x="12" y="90"/>
                    </a:lnTo>
                    <a:lnTo>
                      <a:pt x="12" y="135"/>
                    </a:lnTo>
                    <a:lnTo>
                      <a:pt x="12" y="179"/>
                    </a:lnTo>
                    <a:lnTo>
                      <a:pt x="12" y="224"/>
                    </a:lnTo>
                    <a:lnTo>
                      <a:pt x="12" y="268"/>
                    </a:lnTo>
                    <a:lnTo>
                      <a:pt x="12" y="313"/>
                    </a:lnTo>
                    <a:lnTo>
                      <a:pt x="12" y="347"/>
                    </a:lnTo>
                    <a:lnTo>
                      <a:pt x="12" y="393"/>
                    </a:lnTo>
                    <a:lnTo>
                      <a:pt x="12" y="438"/>
                    </a:lnTo>
                    <a:lnTo>
                      <a:pt x="12" y="482"/>
                    </a:lnTo>
                    <a:lnTo>
                      <a:pt x="12" y="527"/>
                    </a:lnTo>
                    <a:lnTo>
                      <a:pt x="12" y="572"/>
                    </a:lnTo>
                    <a:lnTo>
                      <a:pt x="12" y="616"/>
                    </a:lnTo>
                    <a:lnTo>
                      <a:pt x="12" y="661"/>
                    </a:lnTo>
                    <a:lnTo>
                      <a:pt x="24" y="7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7736760" y="3699360"/>
                <a:ext cx="6840" cy="506520"/>
              </a:xfrm>
              <a:custGeom>
                <a:avLst/>
                <a:gdLst/>
                <a:ahLst/>
                <a:rect l="l" t="t" r="r" b="b"/>
                <a:pathLst>
                  <a:path w="23" h="1301">
                    <a:moveTo>
                      <a:pt x="12" y="0"/>
                    </a:moveTo>
                    <a:lnTo>
                      <a:pt x="12" y="79"/>
                    </a:lnTo>
                    <a:lnTo>
                      <a:pt x="12" y="157"/>
                    </a:lnTo>
                    <a:lnTo>
                      <a:pt x="23" y="235"/>
                    </a:lnTo>
                    <a:lnTo>
                      <a:pt x="23" y="324"/>
                    </a:lnTo>
                    <a:lnTo>
                      <a:pt x="23" y="403"/>
                    </a:lnTo>
                    <a:lnTo>
                      <a:pt x="23" y="482"/>
                    </a:lnTo>
                    <a:lnTo>
                      <a:pt x="23" y="572"/>
                    </a:lnTo>
                    <a:lnTo>
                      <a:pt x="23" y="650"/>
                    </a:lnTo>
                    <a:lnTo>
                      <a:pt x="23" y="728"/>
                    </a:lnTo>
                    <a:lnTo>
                      <a:pt x="12" y="819"/>
                    </a:lnTo>
                    <a:lnTo>
                      <a:pt x="12" y="897"/>
                    </a:lnTo>
                    <a:lnTo>
                      <a:pt x="12" y="975"/>
                    </a:lnTo>
                    <a:lnTo>
                      <a:pt x="12" y="1054"/>
                    </a:lnTo>
                    <a:lnTo>
                      <a:pt x="0" y="1143"/>
                    </a:lnTo>
                    <a:lnTo>
                      <a:pt x="0" y="1221"/>
                    </a:lnTo>
                    <a:lnTo>
                      <a:pt x="0" y="13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7723080" y="4206240"/>
                <a:ext cx="13680" cy="139680"/>
              </a:xfrm>
              <a:custGeom>
                <a:avLst/>
                <a:gdLst/>
                <a:ahLst/>
                <a:rect l="l" t="t" r="r" b="b"/>
                <a:pathLst>
                  <a:path w="34" h="358">
                    <a:moveTo>
                      <a:pt x="34" y="0"/>
                    </a:moveTo>
                    <a:lnTo>
                      <a:pt x="22" y="23"/>
                    </a:lnTo>
                    <a:lnTo>
                      <a:pt x="22" y="45"/>
                    </a:lnTo>
                    <a:lnTo>
                      <a:pt x="22" y="68"/>
                    </a:lnTo>
                    <a:lnTo>
                      <a:pt x="22" y="90"/>
                    </a:lnTo>
                    <a:lnTo>
                      <a:pt x="12" y="112"/>
                    </a:lnTo>
                    <a:lnTo>
                      <a:pt x="12" y="134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12" y="202"/>
                    </a:lnTo>
                    <a:lnTo>
                      <a:pt x="0" y="223"/>
                    </a:lnTo>
                    <a:lnTo>
                      <a:pt x="0" y="246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36"/>
                    </a:lnTo>
                    <a:lnTo>
                      <a:pt x="0" y="3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7636320" y="4254840"/>
                <a:ext cx="86760" cy="90720"/>
              </a:xfrm>
              <a:custGeom>
                <a:avLst/>
                <a:gdLst/>
                <a:ahLst/>
                <a:rect l="l" t="t" r="r" b="b"/>
                <a:pathLst>
                  <a:path w="224" h="234">
                    <a:moveTo>
                      <a:pt x="224" y="234"/>
                    </a:moveTo>
                    <a:lnTo>
                      <a:pt x="202" y="223"/>
                    </a:lnTo>
                    <a:lnTo>
                      <a:pt x="191" y="212"/>
                    </a:lnTo>
                    <a:lnTo>
                      <a:pt x="168" y="200"/>
                    </a:lnTo>
                    <a:lnTo>
                      <a:pt x="157" y="190"/>
                    </a:lnTo>
                    <a:lnTo>
                      <a:pt x="147" y="178"/>
                    </a:lnTo>
                    <a:lnTo>
                      <a:pt x="135" y="156"/>
                    </a:lnTo>
                    <a:lnTo>
                      <a:pt x="124" y="144"/>
                    </a:lnTo>
                    <a:lnTo>
                      <a:pt x="101" y="122"/>
                    </a:lnTo>
                    <a:lnTo>
                      <a:pt x="91" y="111"/>
                    </a:lnTo>
                    <a:lnTo>
                      <a:pt x="79" y="89"/>
                    </a:lnTo>
                    <a:lnTo>
                      <a:pt x="68" y="78"/>
                    </a:lnTo>
                    <a:lnTo>
                      <a:pt x="56" y="55"/>
                    </a:lnTo>
                    <a:lnTo>
                      <a:pt x="46" y="44"/>
                    </a:lnTo>
                    <a:lnTo>
                      <a:pt x="34" y="33"/>
                    </a:lnTo>
                    <a:lnTo>
                      <a:pt x="23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7573320" y="4179960"/>
                <a:ext cx="62640" cy="74520"/>
              </a:xfrm>
              <a:custGeom>
                <a:avLst/>
                <a:gdLst/>
                <a:ahLst/>
                <a:rect l="l" t="t" r="r" b="b"/>
                <a:pathLst>
                  <a:path w="156" h="192">
                    <a:moveTo>
                      <a:pt x="156" y="192"/>
                    </a:moveTo>
                    <a:lnTo>
                      <a:pt x="156" y="180"/>
                    </a:lnTo>
                    <a:lnTo>
                      <a:pt x="146" y="158"/>
                    </a:lnTo>
                    <a:lnTo>
                      <a:pt x="134" y="146"/>
                    </a:lnTo>
                    <a:lnTo>
                      <a:pt x="123" y="136"/>
                    </a:lnTo>
                    <a:lnTo>
                      <a:pt x="113" y="124"/>
                    </a:lnTo>
                    <a:lnTo>
                      <a:pt x="101" y="113"/>
                    </a:lnTo>
                    <a:lnTo>
                      <a:pt x="90" y="101"/>
                    </a:lnTo>
                    <a:lnTo>
                      <a:pt x="78" y="91"/>
                    </a:lnTo>
                    <a:lnTo>
                      <a:pt x="67" y="79"/>
                    </a:lnTo>
                    <a:lnTo>
                      <a:pt x="57" y="68"/>
                    </a:lnTo>
                    <a:lnTo>
                      <a:pt x="45" y="56"/>
                    </a:lnTo>
                    <a:lnTo>
                      <a:pt x="34" y="44"/>
                    </a:lnTo>
                    <a:lnTo>
                      <a:pt x="22" y="34"/>
                    </a:lnTo>
                    <a:lnTo>
                      <a:pt x="22" y="23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7531560" y="4105440"/>
                <a:ext cx="41760" cy="74520"/>
              </a:xfrm>
              <a:custGeom>
                <a:avLst/>
                <a:gdLst/>
                <a:ahLst/>
                <a:rect l="l" t="t" r="r" b="b"/>
                <a:pathLst>
                  <a:path w="113" h="190">
                    <a:moveTo>
                      <a:pt x="113" y="190"/>
                    </a:moveTo>
                    <a:lnTo>
                      <a:pt x="101" y="178"/>
                    </a:lnTo>
                    <a:lnTo>
                      <a:pt x="101" y="168"/>
                    </a:lnTo>
                    <a:lnTo>
                      <a:pt x="90" y="157"/>
                    </a:lnTo>
                    <a:lnTo>
                      <a:pt x="78" y="145"/>
                    </a:lnTo>
                    <a:lnTo>
                      <a:pt x="78" y="134"/>
                    </a:lnTo>
                    <a:lnTo>
                      <a:pt x="68" y="123"/>
                    </a:lnTo>
                    <a:lnTo>
                      <a:pt x="56" y="100"/>
                    </a:lnTo>
                    <a:lnTo>
                      <a:pt x="56" y="89"/>
                    </a:lnTo>
                    <a:lnTo>
                      <a:pt x="45" y="79"/>
                    </a:lnTo>
                    <a:lnTo>
                      <a:pt x="45" y="67"/>
                    </a:lnTo>
                    <a:lnTo>
                      <a:pt x="34" y="56"/>
                    </a:lnTo>
                    <a:lnTo>
                      <a:pt x="22" y="44"/>
                    </a:lnTo>
                    <a:lnTo>
                      <a:pt x="22" y="33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7347240" y="3797280"/>
                <a:ext cx="183960" cy="307800"/>
              </a:xfrm>
              <a:custGeom>
                <a:avLst/>
                <a:gdLst/>
                <a:ahLst/>
                <a:rect l="l" t="t" r="r" b="b"/>
                <a:pathLst>
                  <a:path w="471" h="796">
                    <a:moveTo>
                      <a:pt x="471" y="796"/>
                    </a:moveTo>
                    <a:lnTo>
                      <a:pt x="427" y="740"/>
                    </a:lnTo>
                    <a:lnTo>
                      <a:pt x="392" y="695"/>
                    </a:lnTo>
                    <a:lnTo>
                      <a:pt x="371" y="650"/>
                    </a:lnTo>
                    <a:lnTo>
                      <a:pt x="337" y="605"/>
                    </a:lnTo>
                    <a:lnTo>
                      <a:pt x="303" y="549"/>
                    </a:lnTo>
                    <a:lnTo>
                      <a:pt x="270" y="504"/>
                    </a:lnTo>
                    <a:lnTo>
                      <a:pt x="247" y="448"/>
                    </a:lnTo>
                    <a:lnTo>
                      <a:pt x="214" y="403"/>
                    </a:lnTo>
                    <a:lnTo>
                      <a:pt x="192" y="359"/>
                    </a:lnTo>
                    <a:lnTo>
                      <a:pt x="157" y="303"/>
                    </a:lnTo>
                    <a:lnTo>
                      <a:pt x="135" y="258"/>
                    </a:lnTo>
                    <a:lnTo>
                      <a:pt x="101" y="201"/>
                    </a:lnTo>
                    <a:lnTo>
                      <a:pt x="79" y="156"/>
                    </a:lnTo>
                    <a:lnTo>
                      <a:pt x="56" y="100"/>
                    </a:lnTo>
                    <a:lnTo>
                      <a:pt x="34" y="4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7286400" y="3643200"/>
                <a:ext cx="60840" cy="153720"/>
              </a:xfrm>
              <a:custGeom>
                <a:avLst/>
                <a:gdLst/>
                <a:ahLst/>
                <a:rect l="l" t="t" r="r" b="b"/>
                <a:pathLst>
                  <a:path w="156" h="393">
                    <a:moveTo>
                      <a:pt x="156" y="393"/>
                    </a:moveTo>
                    <a:lnTo>
                      <a:pt x="146" y="371"/>
                    </a:lnTo>
                    <a:lnTo>
                      <a:pt x="134" y="348"/>
                    </a:lnTo>
                    <a:lnTo>
                      <a:pt x="123" y="315"/>
                    </a:lnTo>
                    <a:lnTo>
                      <a:pt x="111" y="292"/>
                    </a:lnTo>
                    <a:lnTo>
                      <a:pt x="101" y="270"/>
                    </a:lnTo>
                    <a:lnTo>
                      <a:pt x="90" y="247"/>
                    </a:lnTo>
                    <a:lnTo>
                      <a:pt x="90" y="225"/>
                    </a:lnTo>
                    <a:lnTo>
                      <a:pt x="78" y="191"/>
                    </a:lnTo>
                    <a:lnTo>
                      <a:pt x="67" y="168"/>
                    </a:lnTo>
                    <a:lnTo>
                      <a:pt x="55" y="146"/>
                    </a:lnTo>
                    <a:lnTo>
                      <a:pt x="45" y="124"/>
                    </a:lnTo>
                    <a:lnTo>
                      <a:pt x="34" y="101"/>
                    </a:lnTo>
                    <a:lnTo>
                      <a:pt x="22" y="68"/>
                    </a:lnTo>
                    <a:lnTo>
                      <a:pt x="11" y="45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7307640" y="3482280"/>
                <a:ext cx="92880" cy="114120"/>
              </a:xfrm>
              <a:custGeom>
                <a:avLst/>
                <a:gdLst/>
                <a:ahLst/>
                <a:rect l="l" t="t" r="r" b="b"/>
                <a:pathLst>
                  <a:path w="236" h="293">
                    <a:moveTo>
                      <a:pt x="0" y="293"/>
                    </a:moveTo>
                    <a:lnTo>
                      <a:pt x="12" y="281"/>
                    </a:lnTo>
                    <a:lnTo>
                      <a:pt x="35" y="258"/>
                    </a:lnTo>
                    <a:lnTo>
                      <a:pt x="46" y="237"/>
                    </a:lnTo>
                    <a:lnTo>
                      <a:pt x="68" y="225"/>
                    </a:lnTo>
                    <a:lnTo>
                      <a:pt x="79" y="202"/>
                    </a:lnTo>
                    <a:lnTo>
                      <a:pt x="91" y="192"/>
                    </a:lnTo>
                    <a:lnTo>
                      <a:pt x="113" y="168"/>
                    </a:lnTo>
                    <a:lnTo>
                      <a:pt x="124" y="145"/>
                    </a:lnTo>
                    <a:lnTo>
                      <a:pt x="135" y="123"/>
                    </a:lnTo>
                    <a:lnTo>
                      <a:pt x="147" y="112"/>
                    </a:lnTo>
                    <a:lnTo>
                      <a:pt x="169" y="90"/>
                    </a:lnTo>
                    <a:lnTo>
                      <a:pt x="180" y="67"/>
                    </a:lnTo>
                    <a:lnTo>
                      <a:pt x="190" y="56"/>
                    </a:lnTo>
                    <a:lnTo>
                      <a:pt x="202" y="34"/>
                    </a:lnTo>
                    <a:lnTo>
                      <a:pt x="213" y="11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7400880" y="3120120"/>
                <a:ext cx="282240" cy="361800"/>
              </a:xfrm>
              <a:custGeom>
                <a:avLst/>
                <a:gdLst/>
                <a:ahLst/>
                <a:rect l="l" t="t" r="r" b="b"/>
                <a:pathLst>
                  <a:path w="729" h="930">
                    <a:moveTo>
                      <a:pt x="0" y="930"/>
                    </a:moveTo>
                    <a:lnTo>
                      <a:pt x="45" y="875"/>
                    </a:lnTo>
                    <a:lnTo>
                      <a:pt x="90" y="807"/>
                    </a:lnTo>
                    <a:lnTo>
                      <a:pt x="135" y="751"/>
                    </a:lnTo>
                    <a:lnTo>
                      <a:pt x="180" y="695"/>
                    </a:lnTo>
                    <a:lnTo>
                      <a:pt x="224" y="638"/>
                    </a:lnTo>
                    <a:lnTo>
                      <a:pt x="269" y="582"/>
                    </a:lnTo>
                    <a:lnTo>
                      <a:pt x="314" y="516"/>
                    </a:lnTo>
                    <a:lnTo>
                      <a:pt x="358" y="460"/>
                    </a:lnTo>
                    <a:lnTo>
                      <a:pt x="404" y="404"/>
                    </a:lnTo>
                    <a:lnTo>
                      <a:pt x="449" y="348"/>
                    </a:lnTo>
                    <a:lnTo>
                      <a:pt x="494" y="291"/>
                    </a:lnTo>
                    <a:lnTo>
                      <a:pt x="539" y="224"/>
                    </a:lnTo>
                    <a:lnTo>
                      <a:pt x="583" y="168"/>
                    </a:lnTo>
                    <a:lnTo>
                      <a:pt x="628" y="112"/>
                    </a:lnTo>
                    <a:lnTo>
                      <a:pt x="673" y="56"/>
                    </a:lnTo>
                    <a:lnTo>
                      <a:pt x="7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7683480" y="30549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100" h="168">
                    <a:moveTo>
                      <a:pt x="0" y="168"/>
                    </a:moveTo>
                    <a:lnTo>
                      <a:pt x="0" y="156"/>
                    </a:lnTo>
                    <a:lnTo>
                      <a:pt x="11" y="146"/>
                    </a:lnTo>
                    <a:lnTo>
                      <a:pt x="11" y="135"/>
                    </a:lnTo>
                    <a:lnTo>
                      <a:pt x="23" y="123"/>
                    </a:lnTo>
                    <a:lnTo>
                      <a:pt x="33" y="123"/>
                    </a:lnTo>
                    <a:lnTo>
                      <a:pt x="33" y="112"/>
                    </a:lnTo>
                    <a:lnTo>
                      <a:pt x="44" y="100"/>
                    </a:lnTo>
                    <a:lnTo>
                      <a:pt x="44" y="90"/>
                    </a:lnTo>
                    <a:lnTo>
                      <a:pt x="56" y="79"/>
                    </a:lnTo>
                    <a:lnTo>
                      <a:pt x="67" y="67"/>
                    </a:lnTo>
                    <a:lnTo>
                      <a:pt x="67" y="57"/>
                    </a:lnTo>
                    <a:lnTo>
                      <a:pt x="78" y="45"/>
                    </a:lnTo>
                    <a:lnTo>
                      <a:pt x="78" y="34"/>
                    </a:lnTo>
                    <a:lnTo>
                      <a:pt x="89" y="22"/>
                    </a:lnTo>
                    <a:lnTo>
                      <a:pt x="89" y="11"/>
                    </a:lnTo>
                    <a:lnTo>
                      <a:pt x="10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7221240" y="3089880"/>
                <a:ext cx="375120" cy="413280"/>
              </a:xfrm>
              <a:custGeom>
                <a:avLst/>
                <a:gdLst/>
                <a:ahLst/>
                <a:rect l="l" t="t" r="r" b="b"/>
                <a:pathLst>
                  <a:path w="966" h="1064">
                    <a:moveTo>
                      <a:pt x="292" y="45"/>
                    </a:moveTo>
                    <a:lnTo>
                      <a:pt x="315" y="56"/>
                    </a:lnTo>
                    <a:lnTo>
                      <a:pt x="337" y="56"/>
                    </a:lnTo>
                    <a:lnTo>
                      <a:pt x="359" y="66"/>
                    </a:lnTo>
                    <a:lnTo>
                      <a:pt x="381" y="78"/>
                    </a:lnTo>
                    <a:lnTo>
                      <a:pt x="404" y="78"/>
                    </a:lnTo>
                    <a:lnTo>
                      <a:pt x="426" y="89"/>
                    </a:lnTo>
                    <a:lnTo>
                      <a:pt x="449" y="89"/>
                    </a:lnTo>
                    <a:lnTo>
                      <a:pt x="470" y="101"/>
                    </a:lnTo>
                    <a:lnTo>
                      <a:pt x="494" y="101"/>
                    </a:lnTo>
                    <a:lnTo>
                      <a:pt x="517" y="101"/>
                    </a:lnTo>
                    <a:lnTo>
                      <a:pt x="539" y="111"/>
                    </a:lnTo>
                    <a:lnTo>
                      <a:pt x="562" y="111"/>
                    </a:lnTo>
                    <a:lnTo>
                      <a:pt x="584" y="111"/>
                    </a:lnTo>
                    <a:lnTo>
                      <a:pt x="618" y="111"/>
                    </a:lnTo>
                    <a:lnTo>
                      <a:pt x="640" y="111"/>
                    </a:lnTo>
                    <a:lnTo>
                      <a:pt x="662" y="122"/>
                    </a:lnTo>
                    <a:lnTo>
                      <a:pt x="673" y="122"/>
                    </a:lnTo>
                    <a:lnTo>
                      <a:pt x="696" y="122"/>
                    </a:lnTo>
                    <a:lnTo>
                      <a:pt x="717" y="122"/>
                    </a:lnTo>
                    <a:lnTo>
                      <a:pt x="729" y="122"/>
                    </a:lnTo>
                    <a:lnTo>
                      <a:pt x="752" y="122"/>
                    </a:lnTo>
                    <a:lnTo>
                      <a:pt x="774" y="122"/>
                    </a:lnTo>
                    <a:lnTo>
                      <a:pt x="785" y="122"/>
                    </a:lnTo>
                    <a:lnTo>
                      <a:pt x="808" y="122"/>
                    </a:lnTo>
                    <a:lnTo>
                      <a:pt x="830" y="122"/>
                    </a:lnTo>
                    <a:lnTo>
                      <a:pt x="841" y="122"/>
                    </a:lnTo>
                    <a:lnTo>
                      <a:pt x="864" y="111"/>
                    </a:lnTo>
                    <a:lnTo>
                      <a:pt x="886" y="111"/>
                    </a:lnTo>
                    <a:lnTo>
                      <a:pt x="897" y="111"/>
                    </a:lnTo>
                    <a:lnTo>
                      <a:pt x="919" y="111"/>
                    </a:lnTo>
                    <a:lnTo>
                      <a:pt x="931" y="101"/>
                    </a:lnTo>
                    <a:lnTo>
                      <a:pt x="954" y="101"/>
                    </a:lnTo>
                    <a:lnTo>
                      <a:pt x="966" y="111"/>
                    </a:lnTo>
                    <a:lnTo>
                      <a:pt x="966" y="122"/>
                    </a:lnTo>
                    <a:lnTo>
                      <a:pt x="966" y="134"/>
                    </a:lnTo>
                    <a:lnTo>
                      <a:pt x="966" y="145"/>
                    </a:lnTo>
                    <a:lnTo>
                      <a:pt x="966" y="157"/>
                    </a:lnTo>
                    <a:lnTo>
                      <a:pt x="966" y="167"/>
                    </a:lnTo>
                    <a:lnTo>
                      <a:pt x="954" y="167"/>
                    </a:lnTo>
                    <a:lnTo>
                      <a:pt x="954" y="178"/>
                    </a:lnTo>
                    <a:lnTo>
                      <a:pt x="954" y="190"/>
                    </a:lnTo>
                    <a:lnTo>
                      <a:pt x="943" y="190"/>
                    </a:lnTo>
                    <a:lnTo>
                      <a:pt x="943" y="201"/>
                    </a:lnTo>
                    <a:lnTo>
                      <a:pt x="931" y="212"/>
                    </a:lnTo>
                    <a:lnTo>
                      <a:pt x="931" y="223"/>
                    </a:lnTo>
                    <a:lnTo>
                      <a:pt x="919" y="223"/>
                    </a:lnTo>
                    <a:lnTo>
                      <a:pt x="919" y="235"/>
                    </a:lnTo>
                    <a:lnTo>
                      <a:pt x="909" y="246"/>
                    </a:lnTo>
                    <a:lnTo>
                      <a:pt x="897" y="256"/>
                    </a:lnTo>
                    <a:lnTo>
                      <a:pt x="886" y="268"/>
                    </a:lnTo>
                    <a:lnTo>
                      <a:pt x="886" y="279"/>
                    </a:lnTo>
                    <a:lnTo>
                      <a:pt x="874" y="279"/>
                    </a:lnTo>
                    <a:lnTo>
                      <a:pt x="874" y="291"/>
                    </a:lnTo>
                    <a:lnTo>
                      <a:pt x="864" y="302"/>
                    </a:lnTo>
                    <a:lnTo>
                      <a:pt x="852" y="312"/>
                    </a:lnTo>
                    <a:lnTo>
                      <a:pt x="852" y="324"/>
                    </a:lnTo>
                    <a:lnTo>
                      <a:pt x="818" y="369"/>
                    </a:lnTo>
                    <a:lnTo>
                      <a:pt x="785" y="404"/>
                    </a:lnTo>
                    <a:lnTo>
                      <a:pt x="763" y="437"/>
                    </a:lnTo>
                    <a:lnTo>
                      <a:pt x="729" y="470"/>
                    </a:lnTo>
                    <a:lnTo>
                      <a:pt x="707" y="504"/>
                    </a:lnTo>
                    <a:lnTo>
                      <a:pt x="673" y="549"/>
                    </a:lnTo>
                    <a:lnTo>
                      <a:pt x="651" y="582"/>
                    </a:lnTo>
                    <a:lnTo>
                      <a:pt x="618" y="616"/>
                    </a:lnTo>
                    <a:lnTo>
                      <a:pt x="595" y="650"/>
                    </a:lnTo>
                    <a:lnTo>
                      <a:pt x="572" y="683"/>
                    </a:lnTo>
                    <a:lnTo>
                      <a:pt x="539" y="728"/>
                    </a:lnTo>
                    <a:lnTo>
                      <a:pt x="517" y="761"/>
                    </a:lnTo>
                    <a:lnTo>
                      <a:pt x="482" y="796"/>
                    </a:lnTo>
                    <a:lnTo>
                      <a:pt x="460" y="841"/>
                    </a:lnTo>
                    <a:lnTo>
                      <a:pt x="426" y="874"/>
                    </a:lnTo>
                    <a:lnTo>
                      <a:pt x="404" y="907"/>
                    </a:lnTo>
                    <a:lnTo>
                      <a:pt x="404" y="919"/>
                    </a:lnTo>
                    <a:lnTo>
                      <a:pt x="404" y="930"/>
                    </a:lnTo>
                    <a:lnTo>
                      <a:pt x="404" y="941"/>
                    </a:lnTo>
                    <a:lnTo>
                      <a:pt x="393" y="953"/>
                    </a:lnTo>
                    <a:lnTo>
                      <a:pt x="393" y="963"/>
                    </a:lnTo>
                    <a:lnTo>
                      <a:pt x="393" y="975"/>
                    </a:lnTo>
                    <a:lnTo>
                      <a:pt x="381" y="986"/>
                    </a:lnTo>
                    <a:lnTo>
                      <a:pt x="381" y="998"/>
                    </a:lnTo>
                    <a:lnTo>
                      <a:pt x="371" y="1008"/>
                    </a:lnTo>
                    <a:lnTo>
                      <a:pt x="371" y="1019"/>
                    </a:lnTo>
                    <a:lnTo>
                      <a:pt x="359" y="1031"/>
                    </a:lnTo>
                    <a:lnTo>
                      <a:pt x="348" y="1042"/>
                    </a:lnTo>
                    <a:lnTo>
                      <a:pt x="337" y="1054"/>
                    </a:lnTo>
                    <a:lnTo>
                      <a:pt x="325" y="1064"/>
                    </a:lnTo>
                    <a:lnTo>
                      <a:pt x="315" y="1064"/>
                    </a:lnTo>
                    <a:lnTo>
                      <a:pt x="292" y="1064"/>
                    </a:lnTo>
                    <a:lnTo>
                      <a:pt x="280" y="1064"/>
                    </a:lnTo>
                    <a:lnTo>
                      <a:pt x="270" y="1064"/>
                    </a:lnTo>
                    <a:lnTo>
                      <a:pt x="270" y="1054"/>
                    </a:lnTo>
                    <a:lnTo>
                      <a:pt x="259" y="1042"/>
                    </a:lnTo>
                    <a:lnTo>
                      <a:pt x="259" y="1031"/>
                    </a:lnTo>
                    <a:lnTo>
                      <a:pt x="259" y="1019"/>
                    </a:lnTo>
                    <a:lnTo>
                      <a:pt x="259" y="1008"/>
                    </a:lnTo>
                    <a:lnTo>
                      <a:pt x="259" y="998"/>
                    </a:lnTo>
                    <a:lnTo>
                      <a:pt x="259" y="986"/>
                    </a:lnTo>
                    <a:lnTo>
                      <a:pt x="270" y="975"/>
                    </a:lnTo>
                    <a:lnTo>
                      <a:pt x="270" y="953"/>
                    </a:lnTo>
                    <a:lnTo>
                      <a:pt x="270" y="941"/>
                    </a:lnTo>
                    <a:lnTo>
                      <a:pt x="270" y="930"/>
                    </a:lnTo>
                    <a:lnTo>
                      <a:pt x="259" y="919"/>
                    </a:lnTo>
                    <a:lnTo>
                      <a:pt x="259" y="907"/>
                    </a:lnTo>
                    <a:lnTo>
                      <a:pt x="247" y="874"/>
                    </a:lnTo>
                    <a:lnTo>
                      <a:pt x="236" y="841"/>
                    </a:lnTo>
                    <a:lnTo>
                      <a:pt x="224" y="808"/>
                    </a:lnTo>
                    <a:lnTo>
                      <a:pt x="214" y="785"/>
                    </a:lnTo>
                    <a:lnTo>
                      <a:pt x="191" y="751"/>
                    </a:lnTo>
                    <a:lnTo>
                      <a:pt x="180" y="716"/>
                    </a:lnTo>
                    <a:lnTo>
                      <a:pt x="169" y="683"/>
                    </a:lnTo>
                    <a:lnTo>
                      <a:pt x="147" y="650"/>
                    </a:lnTo>
                    <a:lnTo>
                      <a:pt x="135" y="616"/>
                    </a:lnTo>
                    <a:lnTo>
                      <a:pt x="125" y="594"/>
                    </a:lnTo>
                    <a:lnTo>
                      <a:pt x="102" y="559"/>
                    </a:lnTo>
                    <a:lnTo>
                      <a:pt x="80" y="526"/>
                    </a:lnTo>
                    <a:lnTo>
                      <a:pt x="68" y="504"/>
                    </a:lnTo>
                    <a:lnTo>
                      <a:pt x="45" y="470"/>
                    </a:lnTo>
                    <a:lnTo>
                      <a:pt x="22" y="448"/>
                    </a:lnTo>
                    <a:lnTo>
                      <a:pt x="0" y="414"/>
                    </a:ln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  <a:lnTo>
                      <a:pt x="180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4" y="0"/>
                    </a:lnTo>
                    <a:lnTo>
                      <a:pt x="224" y="10"/>
                    </a:lnTo>
                    <a:lnTo>
                      <a:pt x="236" y="10"/>
                    </a:lnTo>
                    <a:lnTo>
                      <a:pt x="236" y="22"/>
                    </a:lnTo>
                    <a:lnTo>
                      <a:pt x="247" y="22"/>
                    </a:lnTo>
                    <a:lnTo>
                      <a:pt x="259" y="33"/>
                    </a:lnTo>
                    <a:lnTo>
                      <a:pt x="270" y="33"/>
                    </a:lnTo>
                    <a:lnTo>
                      <a:pt x="270" y="45"/>
                    </a:lnTo>
                    <a:lnTo>
                      <a:pt x="280" y="45"/>
                    </a:lnTo>
                    <a:lnTo>
                      <a:pt x="292" y="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7377480" y="3215880"/>
                <a:ext cx="174960" cy="226440"/>
              </a:xfrm>
              <a:custGeom>
                <a:avLst/>
                <a:gdLst/>
                <a:ahLst/>
                <a:rect l="l" t="t" r="r" b="b"/>
                <a:pathLst>
                  <a:path w="448" h="583">
                    <a:moveTo>
                      <a:pt x="448" y="0"/>
                    </a:moveTo>
                    <a:lnTo>
                      <a:pt x="414" y="45"/>
                    </a:lnTo>
                    <a:lnTo>
                      <a:pt x="381" y="80"/>
                    </a:lnTo>
                    <a:lnTo>
                      <a:pt x="359" y="113"/>
                    </a:lnTo>
                    <a:lnTo>
                      <a:pt x="325" y="146"/>
                    </a:lnTo>
                    <a:lnTo>
                      <a:pt x="303" y="180"/>
                    </a:lnTo>
                    <a:lnTo>
                      <a:pt x="269" y="225"/>
                    </a:lnTo>
                    <a:lnTo>
                      <a:pt x="247" y="258"/>
                    </a:lnTo>
                    <a:lnTo>
                      <a:pt x="214" y="292"/>
                    </a:lnTo>
                    <a:lnTo>
                      <a:pt x="191" y="326"/>
                    </a:lnTo>
                    <a:lnTo>
                      <a:pt x="168" y="359"/>
                    </a:lnTo>
                    <a:lnTo>
                      <a:pt x="135" y="404"/>
                    </a:lnTo>
                    <a:lnTo>
                      <a:pt x="113" y="437"/>
                    </a:lnTo>
                    <a:lnTo>
                      <a:pt x="78" y="472"/>
                    </a:lnTo>
                    <a:lnTo>
                      <a:pt x="56" y="517"/>
                    </a:lnTo>
                    <a:lnTo>
                      <a:pt x="22" y="550"/>
                    </a:lnTo>
                    <a:lnTo>
                      <a:pt x="0" y="5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7342560" y="3442680"/>
                <a:ext cx="34920" cy="60840"/>
              </a:xfrm>
              <a:custGeom>
                <a:avLst/>
                <a:gdLst/>
                <a:ahLst/>
                <a:rect l="l" t="t" r="r" b="b"/>
                <a:pathLst>
                  <a:path w="89" h="157">
                    <a:moveTo>
                      <a:pt x="89" y="0"/>
                    </a:moveTo>
                    <a:lnTo>
                      <a:pt x="89" y="12"/>
                    </a:lnTo>
                    <a:lnTo>
                      <a:pt x="89" y="23"/>
                    </a:lnTo>
                    <a:lnTo>
                      <a:pt x="89" y="34"/>
                    </a:lnTo>
                    <a:lnTo>
                      <a:pt x="78" y="46"/>
                    </a:lnTo>
                    <a:lnTo>
                      <a:pt x="78" y="56"/>
                    </a:lnTo>
                    <a:lnTo>
                      <a:pt x="78" y="68"/>
                    </a:lnTo>
                    <a:lnTo>
                      <a:pt x="66" y="79"/>
                    </a:lnTo>
                    <a:lnTo>
                      <a:pt x="66" y="91"/>
                    </a:lnTo>
                    <a:lnTo>
                      <a:pt x="56" y="101"/>
                    </a:lnTo>
                    <a:lnTo>
                      <a:pt x="56" y="112"/>
                    </a:lnTo>
                    <a:lnTo>
                      <a:pt x="44" y="124"/>
                    </a:lnTo>
                    <a:lnTo>
                      <a:pt x="33" y="135"/>
                    </a:lnTo>
                    <a:lnTo>
                      <a:pt x="22" y="147"/>
                    </a:lnTo>
                    <a:lnTo>
                      <a:pt x="10" y="157"/>
                    </a:lnTo>
                    <a:lnTo>
                      <a:pt x="0" y="15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7321320" y="3442680"/>
                <a:ext cx="20880" cy="60840"/>
              </a:xfrm>
              <a:custGeom>
                <a:avLst/>
                <a:gdLst/>
                <a:ahLst/>
                <a:rect l="l" t="t" r="r" b="b"/>
                <a:pathLst>
                  <a:path w="56" h="157">
                    <a:moveTo>
                      <a:pt x="56" y="157"/>
                    </a:moveTo>
                    <a:lnTo>
                      <a:pt x="33" y="157"/>
                    </a:lnTo>
                    <a:lnTo>
                      <a:pt x="21" y="157"/>
                    </a:lnTo>
                    <a:lnTo>
                      <a:pt x="11" y="157"/>
                    </a:lnTo>
                    <a:lnTo>
                      <a:pt x="11" y="147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12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68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7221240" y="3251160"/>
                <a:ext cx="99720" cy="191520"/>
              </a:xfrm>
              <a:custGeom>
                <a:avLst/>
                <a:gdLst/>
                <a:ahLst/>
                <a:rect l="l" t="t" r="r" b="b"/>
                <a:pathLst>
                  <a:path w="259" h="493">
                    <a:moveTo>
                      <a:pt x="259" y="493"/>
                    </a:moveTo>
                    <a:lnTo>
                      <a:pt x="247" y="460"/>
                    </a:lnTo>
                    <a:lnTo>
                      <a:pt x="236" y="427"/>
                    </a:lnTo>
                    <a:lnTo>
                      <a:pt x="224" y="394"/>
                    </a:lnTo>
                    <a:lnTo>
                      <a:pt x="214" y="371"/>
                    </a:lnTo>
                    <a:lnTo>
                      <a:pt x="191" y="337"/>
                    </a:lnTo>
                    <a:lnTo>
                      <a:pt x="180" y="302"/>
                    </a:lnTo>
                    <a:lnTo>
                      <a:pt x="169" y="269"/>
                    </a:lnTo>
                    <a:lnTo>
                      <a:pt x="147" y="236"/>
                    </a:lnTo>
                    <a:lnTo>
                      <a:pt x="135" y="202"/>
                    </a:lnTo>
                    <a:lnTo>
                      <a:pt x="125" y="180"/>
                    </a:lnTo>
                    <a:lnTo>
                      <a:pt x="102" y="145"/>
                    </a:lnTo>
                    <a:lnTo>
                      <a:pt x="80" y="112"/>
                    </a:lnTo>
                    <a:lnTo>
                      <a:pt x="68" y="90"/>
                    </a:lnTo>
                    <a:lnTo>
                      <a:pt x="45" y="56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221240" y="3089880"/>
                <a:ext cx="64800" cy="160920"/>
              </a:xfrm>
              <a:custGeom>
                <a:avLst/>
                <a:gdLst/>
                <a:ahLst/>
                <a:rect l="l" t="t" r="r" b="b"/>
                <a:pathLst>
                  <a:path w="169" h="414">
                    <a:moveTo>
                      <a:pt x="0" y="414"/>
                    </a:moveTo>
                    <a:lnTo>
                      <a:pt x="12" y="392"/>
                    </a:lnTo>
                    <a:lnTo>
                      <a:pt x="22" y="359"/>
                    </a:lnTo>
                    <a:lnTo>
                      <a:pt x="22" y="336"/>
                    </a:lnTo>
                    <a:lnTo>
                      <a:pt x="33" y="312"/>
                    </a:lnTo>
                    <a:lnTo>
                      <a:pt x="45" y="279"/>
                    </a:lnTo>
                    <a:lnTo>
                      <a:pt x="56" y="256"/>
                    </a:lnTo>
                    <a:lnTo>
                      <a:pt x="68" y="235"/>
                    </a:lnTo>
                    <a:lnTo>
                      <a:pt x="80" y="212"/>
                    </a:lnTo>
                    <a:lnTo>
                      <a:pt x="90" y="178"/>
                    </a:lnTo>
                    <a:lnTo>
                      <a:pt x="102" y="157"/>
                    </a:lnTo>
                    <a:lnTo>
                      <a:pt x="113" y="134"/>
                    </a:lnTo>
                    <a:lnTo>
                      <a:pt x="125" y="111"/>
                    </a:lnTo>
                    <a:lnTo>
                      <a:pt x="135" y="78"/>
                    </a:lnTo>
                    <a:lnTo>
                      <a:pt x="147" y="56"/>
                    </a:lnTo>
                    <a:lnTo>
                      <a:pt x="158" y="33"/>
                    </a:lnTo>
                    <a:lnTo>
                      <a:pt x="16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7256160" y="3111120"/>
                <a:ext cx="321480" cy="331200"/>
              </a:xfrm>
              <a:custGeom>
                <a:avLst/>
                <a:gdLst/>
                <a:ahLst/>
                <a:rect l="l" t="t" r="r" b="b"/>
                <a:pathLst>
                  <a:path w="829" h="851">
                    <a:moveTo>
                      <a:pt x="169" y="45"/>
                    </a:moveTo>
                    <a:lnTo>
                      <a:pt x="190" y="45"/>
                    </a:lnTo>
                    <a:lnTo>
                      <a:pt x="202" y="55"/>
                    </a:lnTo>
                    <a:lnTo>
                      <a:pt x="225" y="55"/>
                    </a:lnTo>
                    <a:lnTo>
                      <a:pt x="235" y="66"/>
                    </a:lnTo>
                    <a:lnTo>
                      <a:pt x="258" y="66"/>
                    </a:lnTo>
                    <a:lnTo>
                      <a:pt x="281" y="66"/>
                    </a:lnTo>
                    <a:lnTo>
                      <a:pt x="291" y="78"/>
                    </a:lnTo>
                    <a:lnTo>
                      <a:pt x="314" y="78"/>
                    </a:lnTo>
                    <a:lnTo>
                      <a:pt x="324" y="78"/>
                    </a:lnTo>
                    <a:lnTo>
                      <a:pt x="347" y="89"/>
                    </a:lnTo>
                    <a:lnTo>
                      <a:pt x="370" y="89"/>
                    </a:lnTo>
                    <a:lnTo>
                      <a:pt x="380" y="89"/>
                    </a:lnTo>
                    <a:lnTo>
                      <a:pt x="404" y="89"/>
                    </a:lnTo>
                    <a:lnTo>
                      <a:pt x="427" y="101"/>
                    </a:lnTo>
                    <a:lnTo>
                      <a:pt x="437" y="101"/>
                    </a:lnTo>
                    <a:lnTo>
                      <a:pt x="460" y="101"/>
                    </a:lnTo>
                    <a:lnTo>
                      <a:pt x="482" y="101"/>
                    </a:lnTo>
                    <a:lnTo>
                      <a:pt x="505" y="111"/>
                    </a:lnTo>
                    <a:lnTo>
                      <a:pt x="528" y="111"/>
                    </a:lnTo>
                    <a:lnTo>
                      <a:pt x="550" y="111"/>
                    </a:lnTo>
                    <a:lnTo>
                      <a:pt x="572" y="111"/>
                    </a:lnTo>
                    <a:lnTo>
                      <a:pt x="594" y="111"/>
                    </a:lnTo>
                    <a:lnTo>
                      <a:pt x="617" y="111"/>
                    </a:lnTo>
                    <a:lnTo>
                      <a:pt x="639" y="111"/>
                    </a:lnTo>
                    <a:lnTo>
                      <a:pt x="673" y="111"/>
                    </a:lnTo>
                    <a:lnTo>
                      <a:pt x="695" y="111"/>
                    </a:lnTo>
                    <a:lnTo>
                      <a:pt x="718" y="111"/>
                    </a:lnTo>
                    <a:lnTo>
                      <a:pt x="740" y="111"/>
                    </a:lnTo>
                    <a:lnTo>
                      <a:pt x="762" y="111"/>
                    </a:lnTo>
                    <a:lnTo>
                      <a:pt x="784" y="101"/>
                    </a:lnTo>
                    <a:lnTo>
                      <a:pt x="807" y="101"/>
                    </a:lnTo>
                    <a:lnTo>
                      <a:pt x="829" y="101"/>
                    </a:lnTo>
                    <a:lnTo>
                      <a:pt x="796" y="145"/>
                    </a:lnTo>
                    <a:lnTo>
                      <a:pt x="762" y="190"/>
                    </a:lnTo>
                    <a:lnTo>
                      <a:pt x="728" y="246"/>
                    </a:lnTo>
                    <a:lnTo>
                      <a:pt x="695" y="291"/>
                    </a:lnTo>
                    <a:lnTo>
                      <a:pt x="662" y="336"/>
                    </a:lnTo>
                    <a:lnTo>
                      <a:pt x="627" y="381"/>
                    </a:lnTo>
                    <a:lnTo>
                      <a:pt x="594" y="426"/>
                    </a:lnTo>
                    <a:lnTo>
                      <a:pt x="550" y="470"/>
                    </a:lnTo>
                    <a:lnTo>
                      <a:pt x="516" y="515"/>
                    </a:lnTo>
                    <a:lnTo>
                      <a:pt x="482" y="560"/>
                    </a:lnTo>
                    <a:lnTo>
                      <a:pt x="437" y="604"/>
                    </a:lnTo>
                    <a:lnTo>
                      <a:pt x="404" y="660"/>
                    </a:lnTo>
                    <a:lnTo>
                      <a:pt x="370" y="705"/>
                    </a:lnTo>
                    <a:lnTo>
                      <a:pt x="336" y="752"/>
                    </a:lnTo>
                    <a:lnTo>
                      <a:pt x="303" y="796"/>
                    </a:lnTo>
                    <a:lnTo>
                      <a:pt x="269" y="851"/>
                    </a:lnTo>
                    <a:lnTo>
                      <a:pt x="258" y="841"/>
                    </a:lnTo>
                    <a:lnTo>
                      <a:pt x="247" y="841"/>
                    </a:lnTo>
                    <a:lnTo>
                      <a:pt x="247" y="829"/>
                    </a:lnTo>
                    <a:lnTo>
                      <a:pt x="235" y="829"/>
                    </a:lnTo>
                    <a:lnTo>
                      <a:pt x="235" y="818"/>
                    </a:lnTo>
                    <a:lnTo>
                      <a:pt x="225" y="807"/>
                    </a:lnTo>
                    <a:lnTo>
                      <a:pt x="225" y="796"/>
                    </a:lnTo>
                    <a:lnTo>
                      <a:pt x="225" y="785"/>
                    </a:lnTo>
                    <a:lnTo>
                      <a:pt x="225" y="773"/>
                    </a:lnTo>
                    <a:lnTo>
                      <a:pt x="213" y="762"/>
                    </a:lnTo>
                    <a:lnTo>
                      <a:pt x="213" y="752"/>
                    </a:lnTo>
                    <a:lnTo>
                      <a:pt x="213" y="740"/>
                    </a:lnTo>
                    <a:lnTo>
                      <a:pt x="202" y="705"/>
                    </a:lnTo>
                    <a:lnTo>
                      <a:pt x="190" y="683"/>
                    </a:lnTo>
                    <a:lnTo>
                      <a:pt x="180" y="660"/>
                    </a:lnTo>
                    <a:lnTo>
                      <a:pt x="169" y="638"/>
                    </a:lnTo>
                    <a:lnTo>
                      <a:pt x="157" y="604"/>
                    </a:lnTo>
                    <a:lnTo>
                      <a:pt x="146" y="582"/>
                    </a:lnTo>
                    <a:lnTo>
                      <a:pt x="124" y="560"/>
                    </a:lnTo>
                    <a:lnTo>
                      <a:pt x="113" y="526"/>
                    </a:lnTo>
                    <a:lnTo>
                      <a:pt x="101" y="503"/>
                    </a:lnTo>
                    <a:lnTo>
                      <a:pt x="90" y="482"/>
                    </a:lnTo>
                    <a:lnTo>
                      <a:pt x="79" y="459"/>
                    </a:lnTo>
                    <a:lnTo>
                      <a:pt x="68" y="426"/>
                    </a:lnTo>
                    <a:lnTo>
                      <a:pt x="45" y="404"/>
                    </a:lnTo>
                    <a:lnTo>
                      <a:pt x="35" y="381"/>
                    </a:lnTo>
                    <a:lnTo>
                      <a:pt x="12" y="35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1"/>
                    </a:lnTo>
                    <a:lnTo>
                      <a:pt x="0" y="280"/>
                    </a:lnTo>
                    <a:lnTo>
                      <a:pt x="12" y="268"/>
                    </a:lnTo>
                    <a:lnTo>
                      <a:pt x="12" y="256"/>
                    </a:lnTo>
                    <a:lnTo>
                      <a:pt x="12" y="246"/>
                    </a:lnTo>
                    <a:lnTo>
                      <a:pt x="23" y="235"/>
                    </a:lnTo>
                    <a:lnTo>
                      <a:pt x="23" y="223"/>
                    </a:lnTo>
                    <a:lnTo>
                      <a:pt x="23" y="212"/>
                    </a:lnTo>
                    <a:lnTo>
                      <a:pt x="23" y="200"/>
                    </a:lnTo>
                    <a:lnTo>
                      <a:pt x="35" y="200"/>
                    </a:lnTo>
                    <a:lnTo>
                      <a:pt x="35" y="190"/>
                    </a:lnTo>
                    <a:lnTo>
                      <a:pt x="45" y="179"/>
                    </a:lnTo>
                    <a:lnTo>
                      <a:pt x="45" y="167"/>
                    </a:lnTo>
                    <a:lnTo>
                      <a:pt x="57" y="156"/>
                    </a:lnTo>
                    <a:lnTo>
                      <a:pt x="57" y="145"/>
                    </a:lnTo>
                    <a:lnTo>
                      <a:pt x="57" y="134"/>
                    </a:lnTo>
                    <a:lnTo>
                      <a:pt x="57" y="122"/>
                    </a:lnTo>
                    <a:lnTo>
                      <a:pt x="57" y="111"/>
                    </a:lnTo>
                    <a:lnTo>
                      <a:pt x="68" y="101"/>
                    </a:lnTo>
                    <a:lnTo>
                      <a:pt x="68" y="89"/>
                    </a:lnTo>
                    <a:lnTo>
                      <a:pt x="68" y="78"/>
                    </a:lnTo>
                    <a:lnTo>
                      <a:pt x="79" y="66"/>
                    </a:lnTo>
                    <a:lnTo>
                      <a:pt x="79" y="55"/>
                    </a:lnTo>
                    <a:lnTo>
                      <a:pt x="79" y="45"/>
                    </a:lnTo>
                    <a:lnTo>
                      <a:pt x="90" y="45"/>
                    </a:lnTo>
                    <a:lnTo>
                      <a:pt x="90" y="33"/>
                    </a:lnTo>
                    <a:lnTo>
                      <a:pt x="90" y="22"/>
                    </a:lnTo>
                    <a:lnTo>
                      <a:pt x="90" y="10"/>
                    </a:lnTo>
                    <a:lnTo>
                      <a:pt x="101" y="10"/>
                    </a:lnTo>
                    <a:lnTo>
                      <a:pt x="101" y="0"/>
                    </a:lnTo>
                    <a:lnTo>
                      <a:pt x="113" y="0"/>
                    </a:lnTo>
                    <a:lnTo>
                      <a:pt x="124" y="0"/>
                    </a:lnTo>
                    <a:lnTo>
                      <a:pt x="124" y="10"/>
                    </a:lnTo>
                    <a:lnTo>
                      <a:pt x="134" y="10"/>
                    </a:lnTo>
                    <a:lnTo>
                      <a:pt x="134" y="22"/>
                    </a:lnTo>
                    <a:lnTo>
                      <a:pt x="146" y="22"/>
                    </a:lnTo>
                    <a:lnTo>
                      <a:pt x="157" y="33"/>
                    </a:lnTo>
                    <a:lnTo>
                      <a:pt x="169" y="33"/>
                    </a:lnTo>
                    <a:lnTo>
                      <a:pt x="169" y="4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7360920" y="3151080"/>
                <a:ext cx="216720" cy="291600"/>
              </a:xfrm>
              <a:custGeom>
                <a:avLst/>
                <a:gdLst/>
                <a:ahLst/>
                <a:rect l="l" t="t" r="r" b="b"/>
                <a:pathLst>
                  <a:path w="560" h="750">
                    <a:moveTo>
                      <a:pt x="560" y="0"/>
                    </a:moveTo>
                    <a:lnTo>
                      <a:pt x="527" y="44"/>
                    </a:lnTo>
                    <a:lnTo>
                      <a:pt x="493" y="89"/>
                    </a:lnTo>
                    <a:lnTo>
                      <a:pt x="459" y="145"/>
                    </a:lnTo>
                    <a:lnTo>
                      <a:pt x="426" y="190"/>
                    </a:lnTo>
                    <a:lnTo>
                      <a:pt x="393" y="235"/>
                    </a:lnTo>
                    <a:lnTo>
                      <a:pt x="358" y="280"/>
                    </a:lnTo>
                    <a:lnTo>
                      <a:pt x="325" y="325"/>
                    </a:lnTo>
                    <a:lnTo>
                      <a:pt x="281" y="369"/>
                    </a:lnTo>
                    <a:lnTo>
                      <a:pt x="247" y="414"/>
                    </a:lnTo>
                    <a:lnTo>
                      <a:pt x="213" y="459"/>
                    </a:lnTo>
                    <a:lnTo>
                      <a:pt x="168" y="503"/>
                    </a:lnTo>
                    <a:lnTo>
                      <a:pt x="135" y="559"/>
                    </a:lnTo>
                    <a:lnTo>
                      <a:pt x="101" y="604"/>
                    </a:lnTo>
                    <a:lnTo>
                      <a:pt x="67" y="651"/>
                    </a:lnTo>
                    <a:lnTo>
                      <a:pt x="34" y="695"/>
                    </a:lnTo>
                    <a:lnTo>
                      <a:pt x="0" y="7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7256160" y="3242160"/>
                <a:ext cx="81360" cy="155880"/>
              </a:xfrm>
              <a:custGeom>
                <a:avLst/>
                <a:gdLst/>
                <a:ahLst/>
                <a:rect l="l" t="t" r="r" b="b"/>
                <a:pathLst>
                  <a:path w="213" h="404">
                    <a:moveTo>
                      <a:pt x="213" y="404"/>
                    </a:moveTo>
                    <a:lnTo>
                      <a:pt x="202" y="369"/>
                    </a:lnTo>
                    <a:lnTo>
                      <a:pt x="190" y="347"/>
                    </a:lnTo>
                    <a:lnTo>
                      <a:pt x="180" y="324"/>
                    </a:lnTo>
                    <a:lnTo>
                      <a:pt x="169" y="302"/>
                    </a:lnTo>
                    <a:lnTo>
                      <a:pt x="157" y="268"/>
                    </a:lnTo>
                    <a:lnTo>
                      <a:pt x="146" y="246"/>
                    </a:lnTo>
                    <a:lnTo>
                      <a:pt x="124" y="224"/>
                    </a:lnTo>
                    <a:lnTo>
                      <a:pt x="113" y="190"/>
                    </a:lnTo>
                    <a:lnTo>
                      <a:pt x="101" y="167"/>
                    </a:lnTo>
                    <a:lnTo>
                      <a:pt x="90" y="146"/>
                    </a:lnTo>
                    <a:lnTo>
                      <a:pt x="79" y="123"/>
                    </a:lnTo>
                    <a:lnTo>
                      <a:pt x="68" y="90"/>
                    </a:lnTo>
                    <a:lnTo>
                      <a:pt x="45" y="68"/>
                    </a:lnTo>
                    <a:lnTo>
                      <a:pt x="35" y="45"/>
                    </a:lnTo>
                    <a:lnTo>
                      <a:pt x="1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6553800" y="3120120"/>
                <a:ext cx="380160" cy="401760"/>
              </a:xfrm>
              <a:custGeom>
                <a:avLst/>
                <a:gdLst/>
                <a:ahLst/>
                <a:rect l="l" t="t" r="r" b="b"/>
                <a:pathLst>
                  <a:path w="976" h="1031">
                    <a:moveTo>
                      <a:pt x="651" y="23"/>
                    </a:moveTo>
                    <a:lnTo>
                      <a:pt x="661" y="23"/>
                    </a:lnTo>
                    <a:lnTo>
                      <a:pt x="696" y="56"/>
                    </a:lnTo>
                    <a:lnTo>
                      <a:pt x="729" y="89"/>
                    </a:lnTo>
                    <a:lnTo>
                      <a:pt x="752" y="134"/>
                    </a:lnTo>
                    <a:lnTo>
                      <a:pt x="785" y="168"/>
                    </a:lnTo>
                    <a:lnTo>
                      <a:pt x="807" y="213"/>
                    </a:lnTo>
                    <a:lnTo>
                      <a:pt x="830" y="258"/>
                    </a:lnTo>
                    <a:lnTo>
                      <a:pt x="851" y="291"/>
                    </a:lnTo>
                    <a:lnTo>
                      <a:pt x="874" y="336"/>
                    </a:lnTo>
                    <a:lnTo>
                      <a:pt x="886" y="382"/>
                    </a:lnTo>
                    <a:lnTo>
                      <a:pt x="908" y="426"/>
                    </a:lnTo>
                    <a:lnTo>
                      <a:pt x="919" y="471"/>
                    </a:lnTo>
                    <a:lnTo>
                      <a:pt x="931" y="516"/>
                    </a:lnTo>
                    <a:lnTo>
                      <a:pt x="942" y="560"/>
                    </a:lnTo>
                    <a:lnTo>
                      <a:pt x="953" y="605"/>
                    </a:lnTo>
                    <a:lnTo>
                      <a:pt x="965" y="650"/>
                    </a:lnTo>
                    <a:lnTo>
                      <a:pt x="976" y="695"/>
                    </a:lnTo>
                    <a:lnTo>
                      <a:pt x="965" y="707"/>
                    </a:lnTo>
                    <a:lnTo>
                      <a:pt x="931" y="718"/>
                    </a:lnTo>
                    <a:lnTo>
                      <a:pt x="896" y="740"/>
                    </a:lnTo>
                    <a:lnTo>
                      <a:pt x="863" y="763"/>
                    </a:lnTo>
                    <a:lnTo>
                      <a:pt x="830" y="785"/>
                    </a:lnTo>
                    <a:lnTo>
                      <a:pt x="785" y="796"/>
                    </a:lnTo>
                    <a:lnTo>
                      <a:pt x="752" y="819"/>
                    </a:lnTo>
                    <a:lnTo>
                      <a:pt x="718" y="841"/>
                    </a:lnTo>
                    <a:lnTo>
                      <a:pt x="684" y="852"/>
                    </a:lnTo>
                    <a:lnTo>
                      <a:pt x="651" y="875"/>
                    </a:lnTo>
                    <a:lnTo>
                      <a:pt x="617" y="897"/>
                    </a:lnTo>
                    <a:lnTo>
                      <a:pt x="572" y="908"/>
                    </a:lnTo>
                    <a:lnTo>
                      <a:pt x="539" y="930"/>
                    </a:lnTo>
                    <a:lnTo>
                      <a:pt x="504" y="953"/>
                    </a:lnTo>
                    <a:lnTo>
                      <a:pt x="470" y="964"/>
                    </a:lnTo>
                    <a:lnTo>
                      <a:pt x="437" y="986"/>
                    </a:lnTo>
                    <a:lnTo>
                      <a:pt x="403" y="1009"/>
                    </a:lnTo>
                    <a:lnTo>
                      <a:pt x="393" y="1009"/>
                    </a:lnTo>
                    <a:lnTo>
                      <a:pt x="381" y="1009"/>
                    </a:lnTo>
                    <a:lnTo>
                      <a:pt x="370" y="1009"/>
                    </a:lnTo>
                    <a:lnTo>
                      <a:pt x="358" y="1009"/>
                    </a:lnTo>
                    <a:lnTo>
                      <a:pt x="358" y="1020"/>
                    </a:lnTo>
                    <a:lnTo>
                      <a:pt x="348" y="1020"/>
                    </a:lnTo>
                    <a:lnTo>
                      <a:pt x="337" y="1020"/>
                    </a:lnTo>
                    <a:lnTo>
                      <a:pt x="325" y="1020"/>
                    </a:lnTo>
                    <a:lnTo>
                      <a:pt x="325" y="1031"/>
                    </a:lnTo>
                    <a:lnTo>
                      <a:pt x="314" y="1031"/>
                    </a:lnTo>
                    <a:lnTo>
                      <a:pt x="303" y="1020"/>
                    </a:lnTo>
                    <a:lnTo>
                      <a:pt x="292" y="1020"/>
                    </a:lnTo>
                    <a:lnTo>
                      <a:pt x="280" y="1020"/>
                    </a:lnTo>
                    <a:lnTo>
                      <a:pt x="269" y="1009"/>
                    </a:lnTo>
                    <a:lnTo>
                      <a:pt x="259" y="997"/>
                    </a:lnTo>
                    <a:lnTo>
                      <a:pt x="247" y="997"/>
                    </a:lnTo>
                    <a:lnTo>
                      <a:pt x="236" y="986"/>
                    </a:lnTo>
                    <a:lnTo>
                      <a:pt x="224" y="976"/>
                    </a:lnTo>
                    <a:lnTo>
                      <a:pt x="213" y="964"/>
                    </a:lnTo>
                    <a:lnTo>
                      <a:pt x="203" y="964"/>
                    </a:lnTo>
                    <a:lnTo>
                      <a:pt x="191" y="953"/>
                    </a:lnTo>
                    <a:lnTo>
                      <a:pt x="180" y="941"/>
                    </a:lnTo>
                    <a:lnTo>
                      <a:pt x="168" y="941"/>
                    </a:lnTo>
                    <a:lnTo>
                      <a:pt x="158" y="930"/>
                    </a:lnTo>
                    <a:lnTo>
                      <a:pt x="147" y="930"/>
                    </a:lnTo>
                    <a:lnTo>
                      <a:pt x="135" y="920"/>
                    </a:lnTo>
                    <a:lnTo>
                      <a:pt x="112" y="920"/>
                    </a:lnTo>
                    <a:lnTo>
                      <a:pt x="102" y="908"/>
                    </a:lnTo>
                    <a:lnTo>
                      <a:pt x="90" y="908"/>
                    </a:lnTo>
                    <a:lnTo>
                      <a:pt x="90" y="897"/>
                    </a:lnTo>
                    <a:lnTo>
                      <a:pt x="78" y="897"/>
                    </a:lnTo>
                    <a:lnTo>
                      <a:pt x="67" y="885"/>
                    </a:lnTo>
                    <a:lnTo>
                      <a:pt x="55" y="875"/>
                    </a:lnTo>
                    <a:lnTo>
                      <a:pt x="45" y="863"/>
                    </a:lnTo>
                    <a:lnTo>
                      <a:pt x="45" y="852"/>
                    </a:lnTo>
                    <a:lnTo>
                      <a:pt x="33" y="841"/>
                    </a:lnTo>
                    <a:lnTo>
                      <a:pt x="33" y="829"/>
                    </a:lnTo>
                    <a:lnTo>
                      <a:pt x="33" y="807"/>
                    </a:lnTo>
                    <a:lnTo>
                      <a:pt x="33" y="796"/>
                    </a:lnTo>
                    <a:lnTo>
                      <a:pt x="33" y="774"/>
                    </a:lnTo>
                    <a:lnTo>
                      <a:pt x="33" y="763"/>
                    </a:lnTo>
                    <a:lnTo>
                      <a:pt x="33" y="740"/>
                    </a:lnTo>
                    <a:lnTo>
                      <a:pt x="33" y="730"/>
                    </a:lnTo>
                    <a:lnTo>
                      <a:pt x="22" y="707"/>
                    </a:lnTo>
                    <a:lnTo>
                      <a:pt x="22" y="695"/>
                    </a:lnTo>
                    <a:lnTo>
                      <a:pt x="22" y="673"/>
                    </a:lnTo>
                    <a:lnTo>
                      <a:pt x="11" y="661"/>
                    </a:lnTo>
                    <a:lnTo>
                      <a:pt x="11" y="650"/>
                    </a:lnTo>
                    <a:lnTo>
                      <a:pt x="0" y="627"/>
                    </a:lnTo>
                    <a:lnTo>
                      <a:pt x="0" y="616"/>
                    </a:lnTo>
                    <a:lnTo>
                      <a:pt x="0" y="594"/>
                    </a:lnTo>
                    <a:lnTo>
                      <a:pt x="0" y="582"/>
                    </a:lnTo>
                    <a:lnTo>
                      <a:pt x="0" y="560"/>
                    </a:ln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  <a:lnTo>
                      <a:pt x="617" y="0"/>
                    </a:lnTo>
                    <a:lnTo>
                      <a:pt x="628" y="0"/>
                    </a:lnTo>
                    <a:lnTo>
                      <a:pt x="628" y="11"/>
                    </a:lnTo>
                    <a:lnTo>
                      <a:pt x="640" y="11"/>
                    </a:lnTo>
                    <a:lnTo>
                      <a:pt x="640" y="23"/>
                    </a:lnTo>
                    <a:lnTo>
                      <a:pt x="651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6810120" y="3129840"/>
                <a:ext cx="123480" cy="261360"/>
              </a:xfrm>
              <a:custGeom>
                <a:avLst/>
                <a:gdLst/>
                <a:ahLst/>
                <a:rect l="l" t="t" r="r" b="b"/>
                <a:pathLst>
                  <a:path w="315" h="672">
                    <a:moveTo>
                      <a:pt x="0" y="0"/>
                    </a:moveTo>
                    <a:lnTo>
                      <a:pt x="35" y="33"/>
                    </a:lnTo>
                    <a:lnTo>
                      <a:pt x="68" y="66"/>
                    </a:lnTo>
                    <a:lnTo>
                      <a:pt x="91" y="111"/>
                    </a:lnTo>
                    <a:lnTo>
                      <a:pt x="124" y="145"/>
                    </a:lnTo>
                    <a:lnTo>
                      <a:pt x="146" y="190"/>
                    </a:lnTo>
                    <a:lnTo>
                      <a:pt x="169" y="235"/>
                    </a:lnTo>
                    <a:lnTo>
                      <a:pt x="190" y="268"/>
                    </a:lnTo>
                    <a:lnTo>
                      <a:pt x="213" y="313"/>
                    </a:lnTo>
                    <a:lnTo>
                      <a:pt x="225" y="359"/>
                    </a:lnTo>
                    <a:lnTo>
                      <a:pt x="247" y="403"/>
                    </a:lnTo>
                    <a:lnTo>
                      <a:pt x="258" y="448"/>
                    </a:lnTo>
                    <a:lnTo>
                      <a:pt x="270" y="493"/>
                    </a:lnTo>
                    <a:lnTo>
                      <a:pt x="281" y="537"/>
                    </a:lnTo>
                    <a:lnTo>
                      <a:pt x="292" y="582"/>
                    </a:lnTo>
                    <a:lnTo>
                      <a:pt x="304" y="627"/>
                    </a:lnTo>
                    <a:lnTo>
                      <a:pt x="315" y="6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710400" y="3395880"/>
                <a:ext cx="218880" cy="116280"/>
              </a:xfrm>
              <a:custGeom>
                <a:avLst/>
                <a:gdLst/>
                <a:ahLst/>
                <a:rect l="l" t="t" r="r" b="b"/>
                <a:pathLst>
                  <a:path w="562" h="302">
                    <a:moveTo>
                      <a:pt x="562" y="0"/>
                    </a:moveTo>
                    <a:lnTo>
                      <a:pt x="528" y="11"/>
                    </a:lnTo>
                    <a:lnTo>
                      <a:pt x="493" y="33"/>
                    </a:lnTo>
                    <a:lnTo>
                      <a:pt x="460" y="56"/>
                    </a:lnTo>
                    <a:lnTo>
                      <a:pt x="427" y="78"/>
                    </a:lnTo>
                    <a:lnTo>
                      <a:pt x="382" y="89"/>
                    </a:lnTo>
                    <a:lnTo>
                      <a:pt x="349" y="112"/>
                    </a:lnTo>
                    <a:lnTo>
                      <a:pt x="315" y="134"/>
                    </a:lnTo>
                    <a:lnTo>
                      <a:pt x="281" y="145"/>
                    </a:lnTo>
                    <a:lnTo>
                      <a:pt x="248" y="168"/>
                    </a:lnTo>
                    <a:lnTo>
                      <a:pt x="214" y="190"/>
                    </a:lnTo>
                    <a:lnTo>
                      <a:pt x="169" y="201"/>
                    </a:lnTo>
                    <a:lnTo>
                      <a:pt x="136" y="223"/>
                    </a:lnTo>
                    <a:lnTo>
                      <a:pt x="101" y="246"/>
                    </a:lnTo>
                    <a:lnTo>
                      <a:pt x="67" y="257"/>
                    </a:lnTo>
                    <a:lnTo>
                      <a:pt x="34" y="279"/>
                    </a:lnTo>
                    <a:lnTo>
                      <a:pt x="0" y="3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6553800" y="3337200"/>
                <a:ext cx="14040" cy="105120"/>
              </a:xfrm>
              <a:custGeom>
                <a:avLst/>
                <a:gdLst/>
                <a:ahLst/>
                <a:rect l="l" t="t" r="r" b="b"/>
                <a:pathLst>
                  <a:path w="33" h="269">
                    <a:moveTo>
                      <a:pt x="33" y="269"/>
                    </a:moveTo>
                    <a:lnTo>
                      <a:pt x="33" y="247"/>
                    </a:lnTo>
                    <a:lnTo>
                      <a:pt x="33" y="236"/>
                    </a:lnTo>
                    <a:lnTo>
                      <a:pt x="33" y="214"/>
                    </a:lnTo>
                    <a:lnTo>
                      <a:pt x="33" y="203"/>
                    </a:lnTo>
                    <a:lnTo>
                      <a:pt x="33" y="180"/>
                    </a:lnTo>
                    <a:lnTo>
                      <a:pt x="33" y="170"/>
                    </a:lnTo>
                    <a:lnTo>
                      <a:pt x="22" y="147"/>
                    </a:lnTo>
                    <a:lnTo>
                      <a:pt x="22" y="135"/>
                    </a:lnTo>
                    <a:lnTo>
                      <a:pt x="22" y="113"/>
                    </a:lnTo>
                    <a:lnTo>
                      <a:pt x="11" y="101"/>
                    </a:lnTo>
                    <a:lnTo>
                      <a:pt x="11" y="90"/>
                    </a:lnTo>
                    <a:lnTo>
                      <a:pt x="0" y="67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6553800" y="3120120"/>
                <a:ext cx="235800" cy="216720"/>
              </a:xfrm>
              <a:custGeom>
                <a:avLst/>
                <a:gdLst/>
                <a:ahLst/>
                <a:rect l="l" t="t" r="r" b="b"/>
                <a:pathLst>
                  <a:path w="605" h="560">
                    <a:moveTo>
                      <a:pt x="0" y="560"/>
                    </a:moveTo>
                    <a:lnTo>
                      <a:pt x="45" y="526"/>
                    </a:lnTo>
                    <a:lnTo>
                      <a:pt x="78" y="493"/>
                    </a:lnTo>
                    <a:lnTo>
                      <a:pt x="124" y="460"/>
                    </a:lnTo>
                    <a:lnTo>
                      <a:pt x="158" y="426"/>
                    </a:lnTo>
                    <a:lnTo>
                      <a:pt x="203" y="392"/>
                    </a:lnTo>
                    <a:lnTo>
                      <a:pt x="247" y="370"/>
                    </a:lnTo>
                    <a:lnTo>
                      <a:pt x="280" y="336"/>
                    </a:lnTo>
                    <a:lnTo>
                      <a:pt x="325" y="303"/>
                    </a:lnTo>
                    <a:lnTo>
                      <a:pt x="358" y="269"/>
                    </a:lnTo>
                    <a:lnTo>
                      <a:pt x="403" y="234"/>
                    </a:lnTo>
                    <a:lnTo>
                      <a:pt x="437" y="190"/>
                    </a:lnTo>
                    <a:lnTo>
                      <a:pt x="482" y="157"/>
                    </a:lnTo>
                    <a:lnTo>
                      <a:pt x="516" y="123"/>
                    </a:lnTo>
                    <a:lnTo>
                      <a:pt x="550" y="79"/>
                    </a:lnTo>
                    <a:lnTo>
                      <a:pt x="572" y="33"/>
                    </a:lnTo>
                    <a:lnTo>
                      <a:pt x="60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6572520" y="3141360"/>
                <a:ext cx="342720" cy="352440"/>
              </a:xfrm>
              <a:custGeom>
                <a:avLst/>
                <a:gdLst/>
                <a:ahLst/>
                <a:rect l="l" t="t" r="r" b="b"/>
                <a:pathLst>
                  <a:path w="886" h="908">
                    <a:moveTo>
                      <a:pt x="707" y="168"/>
                    </a:moveTo>
                    <a:lnTo>
                      <a:pt x="717" y="190"/>
                    </a:lnTo>
                    <a:lnTo>
                      <a:pt x="740" y="225"/>
                    </a:lnTo>
                    <a:lnTo>
                      <a:pt x="750" y="247"/>
                    </a:lnTo>
                    <a:lnTo>
                      <a:pt x="762" y="280"/>
                    </a:lnTo>
                    <a:lnTo>
                      <a:pt x="773" y="303"/>
                    </a:lnTo>
                    <a:lnTo>
                      <a:pt x="785" y="336"/>
                    </a:lnTo>
                    <a:lnTo>
                      <a:pt x="796" y="359"/>
                    </a:lnTo>
                    <a:lnTo>
                      <a:pt x="806" y="392"/>
                    </a:lnTo>
                    <a:lnTo>
                      <a:pt x="818" y="415"/>
                    </a:lnTo>
                    <a:lnTo>
                      <a:pt x="829" y="448"/>
                    </a:lnTo>
                    <a:lnTo>
                      <a:pt x="841" y="482"/>
                    </a:lnTo>
                    <a:lnTo>
                      <a:pt x="851" y="504"/>
                    </a:lnTo>
                    <a:lnTo>
                      <a:pt x="851" y="538"/>
                    </a:lnTo>
                    <a:lnTo>
                      <a:pt x="863" y="571"/>
                    </a:lnTo>
                    <a:lnTo>
                      <a:pt x="874" y="594"/>
                    </a:lnTo>
                    <a:lnTo>
                      <a:pt x="886" y="627"/>
                    </a:lnTo>
                    <a:lnTo>
                      <a:pt x="851" y="651"/>
                    </a:lnTo>
                    <a:lnTo>
                      <a:pt x="818" y="662"/>
                    </a:lnTo>
                    <a:lnTo>
                      <a:pt x="785" y="684"/>
                    </a:lnTo>
                    <a:lnTo>
                      <a:pt x="750" y="707"/>
                    </a:lnTo>
                    <a:lnTo>
                      <a:pt x="717" y="718"/>
                    </a:lnTo>
                    <a:lnTo>
                      <a:pt x="684" y="740"/>
                    </a:lnTo>
                    <a:lnTo>
                      <a:pt x="651" y="751"/>
                    </a:lnTo>
                    <a:lnTo>
                      <a:pt x="616" y="773"/>
                    </a:lnTo>
                    <a:lnTo>
                      <a:pt x="583" y="785"/>
                    </a:lnTo>
                    <a:lnTo>
                      <a:pt x="550" y="796"/>
                    </a:lnTo>
                    <a:lnTo>
                      <a:pt x="516" y="819"/>
                    </a:lnTo>
                    <a:lnTo>
                      <a:pt x="482" y="829"/>
                    </a:lnTo>
                    <a:lnTo>
                      <a:pt x="448" y="841"/>
                    </a:lnTo>
                    <a:lnTo>
                      <a:pt x="414" y="864"/>
                    </a:lnTo>
                    <a:lnTo>
                      <a:pt x="381" y="874"/>
                    </a:lnTo>
                    <a:lnTo>
                      <a:pt x="348" y="897"/>
                    </a:lnTo>
                    <a:lnTo>
                      <a:pt x="325" y="897"/>
                    </a:lnTo>
                    <a:lnTo>
                      <a:pt x="313" y="897"/>
                    </a:lnTo>
                    <a:lnTo>
                      <a:pt x="303" y="908"/>
                    </a:lnTo>
                    <a:lnTo>
                      <a:pt x="292" y="897"/>
                    </a:lnTo>
                    <a:lnTo>
                      <a:pt x="280" y="897"/>
                    </a:lnTo>
                    <a:lnTo>
                      <a:pt x="258" y="885"/>
                    </a:lnTo>
                    <a:lnTo>
                      <a:pt x="247" y="885"/>
                    </a:lnTo>
                    <a:lnTo>
                      <a:pt x="235" y="874"/>
                    </a:lnTo>
                    <a:lnTo>
                      <a:pt x="224" y="864"/>
                    </a:lnTo>
                    <a:lnTo>
                      <a:pt x="214" y="852"/>
                    </a:lnTo>
                    <a:lnTo>
                      <a:pt x="202" y="841"/>
                    </a:lnTo>
                    <a:lnTo>
                      <a:pt x="191" y="841"/>
                    </a:lnTo>
                    <a:lnTo>
                      <a:pt x="179" y="829"/>
                    </a:lnTo>
                    <a:lnTo>
                      <a:pt x="168" y="819"/>
                    </a:lnTo>
                    <a:lnTo>
                      <a:pt x="158" y="819"/>
                    </a:lnTo>
                    <a:lnTo>
                      <a:pt x="146" y="807"/>
                    </a:lnTo>
                    <a:lnTo>
                      <a:pt x="135" y="807"/>
                    </a:lnTo>
                    <a:lnTo>
                      <a:pt x="123" y="807"/>
                    </a:lnTo>
                    <a:lnTo>
                      <a:pt x="113" y="796"/>
                    </a:lnTo>
                    <a:lnTo>
                      <a:pt x="102" y="796"/>
                    </a:lnTo>
                    <a:lnTo>
                      <a:pt x="90" y="796"/>
                    </a:lnTo>
                    <a:lnTo>
                      <a:pt x="79" y="785"/>
                    </a:lnTo>
                    <a:lnTo>
                      <a:pt x="67" y="773"/>
                    </a:lnTo>
                    <a:lnTo>
                      <a:pt x="57" y="773"/>
                    </a:lnTo>
                    <a:lnTo>
                      <a:pt x="67" y="751"/>
                    </a:lnTo>
                    <a:lnTo>
                      <a:pt x="67" y="740"/>
                    </a:lnTo>
                    <a:lnTo>
                      <a:pt x="79" y="718"/>
                    </a:lnTo>
                    <a:lnTo>
                      <a:pt x="79" y="707"/>
                    </a:lnTo>
                    <a:lnTo>
                      <a:pt x="67" y="695"/>
                    </a:lnTo>
                    <a:lnTo>
                      <a:pt x="67" y="674"/>
                    </a:lnTo>
                    <a:lnTo>
                      <a:pt x="67" y="662"/>
                    </a:lnTo>
                    <a:lnTo>
                      <a:pt x="57" y="651"/>
                    </a:lnTo>
                    <a:lnTo>
                      <a:pt x="57" y="627"/>
                    </a:lnTo>
                    <a:lnTo>
                      <a:pt x="45" y="617"/>
                    </a:lnTo>
                    <a:lnTo>
                      <a:pt x="45" y="605"/>
                    </a:lnTo>
                    <a:lnTo>
                      <a:pt x="33" y="582"/>
                    </a:lnTo>
                    <a:lnTo>
                      <a:pt x="22" y="571"/>
                    </a:lnTo>
                    <a:lnTo>
                      <a:pt x="22" y="560"/>
                    </a:lnTo>
                    <a:lnTo>
                      <a:pt x="10" y="538"/>
                    </a:lnTo>
                    <a:lnTo>
                      <a:pt x="0" y="526"/>
                    </a:ln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  <a:lnTo>
                      <a:pt x="572" y="11"/>
                    </a:lnTo>
                    <a:lnTo>
                      <a:pt x="583" y="11"/>
                    </a:lnTo>
                    <a:lnTo>
                      <a:pt x="595" y="23"/>
                    </a:lnTo>
                    <a:lnTo>
                      <a:pt x="606" y="33"/>
                    </a:lnTo>
                    <a:lnTo>
                      <a:pt x="606" y="44"/>
                    </a:lnTo>
                    <a:lnTo>
                      <a:pt x="616" y="56"/>
                    </a:lnTo>
                    <a:lnTo>
                      <a:pt x="628" y="67"/>
                    </a:lnTo>
                    <a:lnTo>
                      <a:pt x="639" y="78"/>
                    </a:lnTo>
                    <a:lnTo>
                      <a:pt x="651" y="89"/>
                    </a:lnTo>
                    <a:lnTo>
                      <a:pt x="651" y="101"/>
                    </a:lnTo>
                    <a:lnTo>
                      <a:pt x="661" y="112"/>
                    </a:lnTo>
                    <a:lnTo>
                      <a:pt x="673" y="122"/>
                    </a:lnTo>
                    <a:lnTo>
                      <a:pt x="684" y="134"/>
                    </a:lnTo>
                    <a:lnTo>
                      <a:pt x="684" y="145"/>
                    </a:lnTo>
                    <a:lnTo>
                      <a:pt x="695" y="157"/>
                    </a:lnTo>
                    <a:lnTo>
                      <a:pt x="707" y="16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6845760" y="3206520"/>
                <a:ext cx="69840" cy="180000"/>
              </a:xfrm>
              <a:custGeom>
                <a:avLst/>
                <a:gdLst/>
                <a:ahLst/>
                <a:rect l="l" t="t" r="r" b="b"/>
                <a:pathLst>
                  <a:path w="179" h="459">
                    <a:moveTo>
                      <a:pt x="0" y="0"/>
                    </a:moveTo>
                    <a:lnTo>
                      <a:pt x="10" y="22"/>
                    </a:lnTo>
                    <a:lnTo>
                      <a:pt x="33" y="57"/>
                    </a:lnTo>
                    <a:lnTo>
                      <a:pt x="43" y="79"/>
                    </a:lnTo>
                    <a:lnTo>
                      <a:pt x="55" y="112"/>
                    </a:lnTo>
                    <a:lnTo>
                      <a:pt x="66" y="135"/>
                    </a:lnTo>
                    <a:lnTo>
                      <a:pt x="78" y="168"/>
                    </a:lnTo>
                    <a:lnTo>
                      <a:pt x="89" y="191"/>
                    </a:lnTo>
                    <a:lnTo>
                      <a:pt x="99" y="224"/>
                    </a:lnTo>
                    <a:lnTo>
                      <a:pt x="111" y="247"/>
                    </a:lnTo>
                    <a:lnTo>
                      <a:pt x="122" y="280"/>
                    </a:lnTo>
                    <a:lnTo>
                      <a:pt x="134" y="314"/>
                    </a:lnTo>
                    <a:lnTo>
                      <a:pt x="144" y="336"/>
                    </a:lnTo>
                    <a:lnTo>
                      <a:pt x="144" y="370"/>
                    </a:lnTo>
                    <a:lnTo>
                      <a:pt x="156" y="403"/>
                    </a:lnTo>
                    <a:lnTo>
                      <a:pt x="167" y="426"/>
                    </a:lnTo>
                    <a:lnTo>
                      <a:pt x="179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6707520" y="3386520"/>
                <a:ext cx="207720" cy="104760"/>
              </a:xfrm>
              <a:custGeom>
                <a:avLst/>
                <a:gdLst/>
                <a:ahLst/>
                <a:rect l="l" t="t" r="r" b="b"/>
                <a:pathLst>
                  <a:path w="538" h="270">
                    <a:moveTo>
                      <a:pt x="538" y="0"/>
                    </a:moveTo>
                    <a:lnTo>
                      <a:pt x="503" y="24"/>
                    </a:lnTo>
                    <a:lnTo>
                      <a:pt x="470" y="35"/>
                    </a:lnTo>
                    <a:lnTo>
                      <a:pt x="437" y="57"/>
                    </a:lnTo>
                    <a:lnTo>
                      <a:pt x="402" y="80"/>
                    </a:lnTo>
                    <a:lnTo>
                      <a:pt x="369" y="91"/>
                    </a:lnTo>
                    <a:lnTo>
                      <a:pt x="336" y="113"/>
                    </a:lnTo>
                    <a:lnTo>
                      <a:pt x="303" y="124"/>
                    </a:lnTo>
                    <a:lnTo>
                      <a:pt x="268" y="146"/>
                    </a:lnTo>
                    <a:lnTo>
                      <a:pt x="235" y="158"/>
                    </a:lnTo>
                    <a:lnTo>
                      <a:pt x="202" y="169"/>
                    </a:lnTo>
                    <a:lnTo>
                      <a:pt x="168" y="192"/>
                    </a:lnTo>
                    <a:lnTo>
                      <a:pt x="134" y="202"/>
                    </a:lnTo>
                    <a:lnTo>
                      <a:pt x="100" y="214"/>
                    </a:lnTo>
                    <a:lnTo>
                      <a:pt x="66" y="237"/>
                    </a:lnTo>
                    <a:lnTo>
                      <a:pt x="33" y="247"/>
                    </a:lnTo>
                    <a:lnTo>
                      <a:pt x="0" y="2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6572520" y="3346920"/>
                <a:ext cx="29880" cy="95760"/>
              </a:xfrm>
              <a:custGeom>
                <a:avLst/>
                <a:gdLst/>
                <a:ahLst/>
                <a:rect l="l" t="t" r="r" b="b"/>
                <a:pathLst>
                  <a:path w="79" h="247">
                    <a:moveTo>
                      <a:pt x="57" y="247"/>
                    </a:moveTo>
                    <a:lnTo>
                      <a:pt x="67" y="225"/>
                    </a:lnTo>
                    <a:lnTo>
                      <a:pt x="67" y="214"/>
                    </a:lnTo>
                    <a:lnTo>
                      <a:pt x="79" y="192"/>
                    </a:lnTo>
                    <a:lnTo>
                      <a:pt x="79" y="181"/>
                    </a:lnTo>
                    <a:lnTo>
                      <a:pt x="67" y="169"/>
                    </a:lnTo>
                    <a:lnTo>
                      <a:pt x="67" y="148"/>
                    </a:lnTo>
                    <a:lnTo>
                      <a:pt x="67" y="136"/>
                    </a:lnTo>
                    <a:lnTo>
                      <a:pt x="57" y="125"/>
                    </a:lnTo>
                    <a:lnTo>
                      <a:pt x="57" y="101"/>
                    </a:lnTo>
                    <a:lnTo>
                      <a:pt x="45" y="91"/>
                    </a:lnTo>
                    <a:lnTo>
                      <a:pt x="45" y="79"/>
                    </a:lnTo>
                    <a:lnTo>
                      <a:pt x="33" y="56"/>
                    </a:lnTo>
                    <a:lnTo>
                      <a:pt x="22" y="45"/>
                    </a:lnTo>
                    <a:lnTo>
                      <a:pt x="22" y="34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572520" y="3141360"/>
                <a:ext cx="216720" cy="205200"/>
              </a:xfrm>
              <a:custGeom>
                <a:avLst/>
                <a:gdLst/>
                <a:ahLst/>
                <a:rect l="l" t="t" r="r" b="b"/>
                <a:pathLst>
                  <a:path w="560" h="526">
                    <a:moveTo>
                      <a:pt x="0" y="526"/>
                    </a:moveTo>
                    <a:lnTo>
                      <a:pt x="45" y="493"/>
                    </a:lnTo>
                    <a:lnTo>
                      <a:pt x="79" y="470"/>
                    </a:lnTo>
                    <a:lnTo>
                      <a:pt x="113" y="437"/>
                    </a:lnTo>
                    <a:lnTo>
                      <a:pt x="146" y="404"/>
                    </a:lnTo>
                    <a:lnTo>
                      <a:pt x="191" y="370"/>
                    </a:lnTo>
                    <a:lnTo>
                      <a:pt x="224" y="348"/>
                    </a:lnTo>
                    <a:lnTo>
                      <a:pt x="258" y="314"/>
                    </a:lnTo>
                    <a:lnTo>
                      <a:pt x="303" y="280"/>
                    </a:lnTo>
                    <a:lnTo>
                      <a:pt x="336" y="247"/>
                    </a:lnTo>
                    <a:lnTo>
                      <a:pt x="369" y="225"/>
                    </a:lnTo>
                    <a:lnTo>
                      <a:pt x="404" y="190"/>
                    </a:lnTo>
                    <a:lnTo>
                      <a:pt x="437" y="145"/>
                    </a:lnTo>
                    <a:lnTo>
                      <a:pt x="471" y="112"/>
                    </a:lnTo>
                    <a:lnTo>
                      <a:pt x="505" y="78"/>
                    </a:lnTo>
                    <a:lnTo>
                      <a:pt x="539" y="33"/>
                    </a:lnTo>
                    <a:lnTo>
                      <a:pt x="5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6789600" y="3141360"/>
                <a:ext cx="55800" cy="64800"/>
              </a:xfrm>
              <a:custGeom>
                <a:avLst/>
                <a:gdLst/>
                <a:ahLst/>
                <a:rect l="l" t="t" r="r" b="b"/>
                <a:pathLst>
                  <a:path w="147" h="168">
                    <a:moveTo>
                      <a:pt x="0" y="0"/>
                    </a:moveTo>
                    <a:lnTo>
                      <a:pt x="12" y="11"/>
                    </a:lnTo>
                    <a:lnTo>
                      <a:pt x="23" y="11"/>
                    </a:lnTo>
                    <a:lnTo>
                      <a:pt x="35" y="23"/>
                    </a:lnTo>
                    <a:lnTo>
                      <a:pt x="46" y="33"/>
                    </a:lnTo>
                    <a:lnTo>
                      <a:pt x="46" y="44"/>
                    </a:lnTo>
                    <a:lnTo>
                      <a:pt x="56" y="56"/>
                    </a:lnTo>
                    <a:lnTo>
                      <a:pt x="68" y="67"/>
                    </a:lnTo>
                    <a:lnTo>
                      <a:pt x="79" y="78"/>
                    </a:lnTo>
                    <a:lnTo>
                      <a:pt x="91" y="89"/>
                    </a:lnTo>
                    <a:lnTo>
                      <a:pt x="91" y="101"/>
                    </a:lnTo>
                    <a:lnTo>
                      <a:pt x="101" y="112"/>
                    </a:lnTo>
                    <a:lnTo>
                      <a:pt x="113" y="122"/>
                    </a:lnTo>
                    <a:lnTo>
                      <a:pt x="124" y="134"/>
                    </a:lnTo>
                    <a:lnTo>
                      <a:pt x="124" y="145"/>
                    </a:lnTo>
                    <a:lnTo>
                      <a:pt x="135" y="157"/>
                    </a:lnTo>
                    <a:lnTo>
                      <a:pt x="147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6703560" y="3416760"/>
                <a:ext cx="270360" cy="1181520"/>
              </a:xfrm>
              <a:custGeom>
                <a:avLst/>
                <a:gdLst/>
                <a:ahLst/>
                <a:rect l="l" t="t" r="r" b="b"/>
                <a:pathLst>
                  <a:path w="696" h="3038">
                    <a:moveTo>
                      <a:pt x="651" y="33"/>
                    </a:moveTo>
                    <a:lnTo>
                      <a:pt x="651" y="89"/>
                    </a:lnTo>
                    <a:lnTo>
                      <a:pt x="662" y="145"/>
                    </a:lnTo>
                    <a:lnTo>
                      <a:pt x="673" y="190"/>
                    </a:lnTo>
                    <a:lnTo>
                      <a:pt x="673" y="246"/>
                    </a:lnTo>
                    <a:lnTo>
                      <a:pt x="673" y="302"/>
                    </a:lnTo>
                    <a:lnTo>
                      <a:pt x="684" y="359"/>
                    </a:lnTo>
                    <a:lnTo>
                      <a:pt x="684" y="415"/>
                    </a:lnTo>
                    <a:lnTo>
                      <a:pt x="684" y="470"/>
                    </a:lnTo>
                    <a:lnTo>
                      <a:pt x="684" y="515"/>
                    </a:lnTo>
                    <a:lnTo>
                      <a:pt x="696" y="571"/>
                    </a:lnTo>
                    <a:lnTo>
                      <a:pt x="696" y="627"/>
                    </a:lnTo>
                    <a:lnTo>
                      <a:pt x="696" y="683"/>
                    </a:lnTo>
                    <a:lnTo>
                      <a:pt x="684" y="739"/>
                    </a:lnTo>
                    <a:lnTo>
                      <a:pt x="684" y="785"/>
                    </a:lnTo>
                    <a:lnTo>
                      <a:pt x="684" y="841"/>
                    </a:lnTo>
                    <a:lnTo>
                      <a:pt x="684" y="897"/>
                    </a:lnTo>
                    <a:lnTo>
                      <a:pt x="684" y="963"/>
                    </a:lnTo>
                    <a:lnTo>
                      <a:pt x="684" y="1019"/>
                    </a:lnTo>
                    <a:lnTo>
                      <a:pt x="684" y="1087"/>
                    </a:lnTo>
                    <a:lnTo>
                      <a:pt x="684" y="1143"/>
                    </a:lnTo>
                    <a:lnTo>
                      <a:pt x="684" y="1210"/>
                    </a:lnTo>
                    <a:lnTo>
                      <a:pt x="684" y="1278"/>
                    </a:lnTo>
                    <a:lnTo>
                      <a:pt x="684" y="1334"/>
                    </a:lnTo>
                    <a:lnTo>
                      <a:pt x="684" y="1401"/>
                    </a:lnTo>
                    <a:lnTo>
                      <a:pt x="684" y="1456"/>
                    </a:lnTo>
                    <a:lnTo>
                      <a:pt x="684" y="1524"/>
                    </a:lnTo>
                    <a:lnTo>
                      <a:pt x="684" y="1580"/>
                    </a:lnTo>
                    <a:lnTo>
                      <a:pt x="684" y="1648"/>
                    </a:lnTo>
                    <a:lnTo>
                      <a:pt x="684" y="1703"/>
                    </a:lnTo>
                    <a:lnTo>
                      <a:pt x="684" y="1759"/>
                    </a:lnTo>
                    <a:lnTo>
                      <a:pt x="673" y="1827"/>
                    </a:lnTo>
                    <a:lnTo>
                      <a:pt x="673" y="1883"/>
                    </a:lnTo>
                    <a:lnTo>
                      <a:pt x="673" y="1916"/>
                    </a:lnTo>
                    <a:lnTo>
                      <a:pt x="673" y="1949"/>
                    </a:lnTo>
                    <a:lnTo>
                      <a:pt x="673" y="1984"/>
                    </a:lnTo>
                    <a:lnTo>
                      <a:pt x="673" y="2017"/>
                    </a:lnTo>
                    <a:lnTo>
                      <a:pt x="673" y="2052"/>
                    </a:lnTo>
                    <a:lnTo>
                      <a:pt x="673" y="2097"/>
                    </a:lnTo>
                    <a:lnTo>
                      <a:pt x="673" y="2130"/>
                    </a:lnTo>
                    <a:lnTo>
                      <a:pt x="673" y="2163"/>
                    </a:lnTo>
                    <a:lnTo>
                      <a:pt x="673" y="2197"/>
                    </a:lnTo>
                    <a:lnTo>
                      <a:pt x="673" y="2231"/>
                    </a:lnTo>
                    <a:lnTo>
                      <a:pt x="673" y="2264"/>
                    </a:lnTo>
                    <a:lnTo>
                      <a:pt x="673" y="2297"/>
                    </a:lnTo>
                    <a:lnTo>
                      <a:pt x="662" y="2331"/>
                    </a:lnTo>
                    <a:lnTo>
                      <a:pt x="662" y="2365"/>
                    </a:lnTo>
                    <a:lnTo>
                      <a:pt x="662" y="2398"/>
                    </a:lnTo>
                    <a:lnTo>
                      <a:pt x="662" y="2442"/>
                    </a:lnTo>
                    <a:lnTo>
                      <a:pt x="651" y="2454"/>
                    </a:lnTo>
                    <a:lnTo>
                      <a:pt x="628" y="2466"/>
                    </a:lnTo>
                    <a:lnTo>
                      <a:pt x="618" y="2477"/>
                    </a:lnTo>
                    <a:lnTo>
                      <a:pt x="595" y="2477"/>
                    </a:lnTo>
                    <a:lnTo>
                      <a:pt x="584" y="2489"/>
                    </a:lnTo>
                    <a:lnTo>
                      <a:pt x="561" y="2501"/>
                    </a:lnTo>
                    <a:lnTo>
                      <a:pt x="550" y="2511"/>
                    </a:lnTo>
                    <a:lnTo>
                      <a:pt x="527" y="2522"/>
                    </a:lnTo>
                    <a:lnTo>
                      <a:pt x="515" y="2522"/>
                    </a:lnTo>
                    <a:lnTo>
                      <a:pt x="493" y="2534"/>
                    </a:lnTo>
                    <a:lnTo>
                      <a:pt x="470" y="2545"/>
                    </a:lnTo>
                    <a:lnTo>
                      <a:pt x="460" y="2556"/>
                    </a:lnTo>
                    <a:lnTo>
                      <a:pt x="437" y="2556"/>
                    </a:lnTo>
                    <a:lnTo>
                      <a:pt x="426" y="2567"/>
                    </a:lnTo>
                    <a:lnTo>
                      <a:pt x="404" y="2578"/>
                    </a:lnTo>
                    <a:lnTo>
                      <a:pt x="393" y="2590"/>
                    </a:lnTo>
                    <a:lnTo>
                      <a:pt x="303" y="2634"/>
                    </a:lnTo>
                    <a:lnTo>
                      <a:pt x="292" y="2656"/>
                    </a:lnTo>
                    <a:lnTo>
                      <a:pt x="292" y="2679"/>
                    </a:lnTo>
                    <a:lnTo>
                      <a:pt x="280" y="2701"/>
                    </a:lnTo>
                    <a:lnTo>
                      <a:pt x="270" y="2724"/>
                    </a:lnTo>
                    <a:lnTo>
                      <a:pt x="270" y="2747"/>
                    </a:lnTo>
                    <a:lnTo>
                      <a:pt x="259" y="2768"/>
                    </a:lnTo>
                    <a:lnTo>
                      <a:pt x="259" y="2791"/>
                    </a:lnTo>
                    <a:lnTo>
                      <a:pt x="247" y="2813"/>
                    </a:lnTo>
                    <a:lnTo>
                      <a:pt x="247" y="2836"/>
                    </a:lnTo>
                    <a:lnTo>
                      <a:pt x="236" y="2858"/>
                    </a:lnTo>
                    <a:lnTo>
                      <a:pt x="224" y="2881"/>
                    </a:lnTo>
                    <a:lnTo>
                      <a:pt x="224" y="2903"/>
                    </a:lnTo>
                    <a:lnTo>
                      <a:pt x="214" y="2938"/>
                    </a:lnTo>
                    <a:lnTo>
                      <a:pt x="214" y="2959"/>
                    </a:lnTo>
                    <a:lnTo>
                      <a:pt x="203" y="2982"/>
                    </a:lnTo>
                    <a:lnTo>
                      <a:pt x="191" y="3004"/>
                    </a:lnTo>
                    <a:lnTo>
                      <a:pt x="180" y="3015"/>
                    </a:lnTo>
                    <a:lnTo>
                      <a:pt x="169" y="3015"/>
                    </a:lnTo>
                    <a:lnTo>
                      <a:pt x="169" y="3027"/>
                    </a:lnTo>
                    <a:lnTo>
                      <a:pt x="158" y="3027"/>
                    </a:lnTo>
                    <a:lnTo>
                      <a:pt x="146" y="3027"/>
                    </a:lnTo>
                    <a:lnTo>
                      <a:pt x="135" y="3038"/>
                    </a:lnTo>
                    <a:lnTo>
                      <a:pt x="123" y="3038"/>
                    </a:lnTo>
                    <a:lnTo>
                      <a:pt x="112" y="3038"/>
                    </a:lnTo>
                    <a:lnTo>
                      <a:pt x="101" y="3038"/>
                    </a:lnTo>
                    <a:lnTo>
                      <a:pt x="89" y="3015"/>
                    </a:lnTo>
                    <a:lnTo>
                      <a:pt x="0" y="2534"/>
                    </a:lnTo>
                    <a:lnTo>
                      <a:pt x="12" y="2534"/>
                    </a:lnTo>
                    <a:lnTo>
                      <a:pt x="12" y="2522"/>
                    </a:lnTo>
                    <a:lnTo>
                      <a:pt x="12" y="2511"/>
                    </a:lnTo>
                    <a:lnTo>
                      <a:pt x="12" y="2501"/>
                    </a:lnTo>
                    <a:lnTo>
                      <a:pt x="22" y="2489"/>
                    </a:lnTo>
                    <a:lnTo>
                      <a:pt x="33" y="2477"/>
                    </a:lnTo>
                    <a:lnTo>
                      <a:pt x="45" y="2466"/>
                    </a:lnTo>
                    <a:lnTo>
                      <a:pt x="56" y="2454"/>
                    </a:lnTo>
                    <a:lnTo>
                      <a:pt x="68" y="2454"/>
                    </a:lnTo>
                    <a:lnTo>
                      <a:pt x="78" y="2442"/>
                    </a:lnTo>
                    <a:lnTo>
                      <a:pt x="89" y="2442"/>
                    </a:lnTo>
                    <a:lnTo>
                      <a:pt x="89" y="2432"/>
                    </a:lnTo>
                    <a:lnTo>
                      <a:pt x="101" y="2432"/>
                    </a:lnTo>
                    <a:lnTo>
                      <a:pt x="112" y="2421"/>
                    </a:lnTo>
                    <a:lnTo>
                      <a:pt x="123" y="2409"/>
                    </a:lnTo>
                    <a:lnTo>
                      <a:pt x="135" y="2398"/>
                    </a:lnTo>
                    <a:lnTo>
                      <a:pt x="158" y="2387"/>
                    </a:lnTo>
                    <a:lnTo>
                      <a:pt x="180" y="2376"/>
                    </a:lnTo>
                    <a:lnTo>
                      <a:pt x="191" y="2365"/>
                    </a:lnTo>
                    <a:lnTo>
                      <a:pt x="214" y="2343"/>
                    </a:lnTo>
                    <a:lnTo>
                      <a:pt x="236" y="2331"/>
                    </a:lnTo>
                    <a:lnTo>
                      <a:pt x="247" y="2320"/>
                    </a:lnTo>
                    <a:lnTo>
                      <a:pt x="270" y="2309"/>
                    </a:lnTo>
                    <a:lnTo>
                      <a:pt x="292" y="2297"/>
                    </a:lnTo>
                    <a:lnTo>
                      <a:pt x="303" y="2287"/>
                    </a:lnTo>
                    <a:lnTo>
                      <a:pt x="325" y="2264"/>
                    </a:lnTo>
                    <a:lnTo>
                      <a:pt x="348" y="2252"/>
                    </a:lnTo>
                    <a:lnTo>
                      <a:pt x="359" y="2242"/>
                    </a:lnTo>
                    <a:lnTo>
                      <a:pt x="381" y="2231"/>
                    </a:lnTo>
                    <a:lnTo>
                      <a:pt x="393" y="2208"/>
                    </a:lnTo>
                    <a:lnTo>
                      <a:pt x="414" y="2197"/>
                    </a:lnTo>
                    <a:lnTo>
                      <a:pt x="414" y="2085"/>
                    </a:lnTo>
                    <a:lnTo>
                      <a:pt x="426" y="1984"/>
                    </a:lnTo>
                    <a:lnTo>
                      <a:pt x="426" y="1871"/>
                    </a:lnTo>
                    <a:lnTo>
                      <a:pt x="426" y="1771"/>
                    </a:lnTo>
                    <a:lnTo>
                      <a:pt x="426" y="1660"/>
                    </a:lnTo>
                    <a:lnTo>
                      <a:pt x="426" y="1547"/>
                    </a:lnTo>
                    <a:lnTo>
                      <a:pt x="426" y="1446"/>
                    </a:lnTo>
                    <a:lnTo>
                      <a:pt x="426" y="1334"/>
                    </a:lnTo>
                    <a:lnTo>
                      <a:pt x="426" y="1222"/>
                    </a:lnTo>
                    <a:lnTo>
                      <a:pt x="426" y="1120"/>
                    </a:lnTo>
                    <a:lnTo>
                      <a:pt x="414" y="1009"/>
                    </a:lnTo>
                    <a:lnTo>
                      <a:pt x="414" y="908"/>
                    </a:lnTo>
                    <a:lnTo>
                      <a:pt x="414" y="796"/>
                    </a:lnTo>
                    <a:lnTo>
                      <a:pt x="414" y="694"/>
                    </a:lnTo>
                    <a:lnTo>
                      <a:pt x="414" y="582"/>
                    </a:lnTo>
                    <a:lnTo>
                      <a:pt x="414" y="481"/>
                    </a:lnTo>
                    <a:lnTo>
                      <a:pt x="414" y="460"/>
                    </a:lnTo>
                    <a:lnTo>
                      <a:pt x="414" y="437"/>
                    </a:lnTo>
                    <a:lnTo>
                      <a:pt x="414" y="415"/>
                    </a:lnTo>
                    <a:lnTo>
                      <a:pt x="414" y="392"/>
                    </a:lnTo>
                    <a:lnTo>
                      <a:pt x="414" y="369"/>
                    </a:lnTo>
                    <a:lnTo>
                      <a:pt x="404" y="347"/>
                    </a:lnTo>
                    <a:lnTo>
                      <a:pt x="404" y="324"/>
                    </a:lnTo>
                    <a:lnTo>
                      <a:pt x="404" y="302"/>
                    </a:lnTo>
                    <a:lnTo>
                      <a:pt x="404" y="279"/>
                    </a:lnTo>
                    <a:lnTo>
                      <a:pt x="393" y="257"/>
                    </a:lnTo>
                    <a:lnTo>
                      <a:pt x="393" y="234"/>
                    </a:lnTo>
                    <a:lnTo>
                      <a:pt x="393" y="213"/>
                    </a:lnTo>
                    <a:lnTo>
                      <a:pt x="381" y="190"/>
                    </a:lnTo>
                    <a:lnTo>
                      <a:pt x="381" y="167"/>
                    </a:lnTo>
                    <a:lnTo>
                      <a:pt x="381" y="145"/>
                    </a:lnTo>
                    <a:lnTo>
                      <a:pt x="381" y="122"/>
                    </a:lnTo>
                    <a:lnTo>
                      <a:pt x="393" y="112"/>
                    </a:lnTo>
                    <a:lnTo>
                      <a:pt x="404" y="112"/>
                    </a:lnTo>
                    <a:lnTo>
                      <a:pt x="414" y="100"/>
                    </a:lnTo>
                    <a:lnTo>
                      <a:pt x="437" y="89"/>
                    </a:lnTo>
                    <a:lnTo>
                      <a:pt x="449" y="78"/>
                    </a:lnTo>
                    <a:lnTo>
                      <a:pt x="460" y="78"/>
                    </a:lnTo>
                    <a:lnTo>
                      <a:pt x="482" y="66"/>
                    </a:lnTo>
                    <a:lnTo>
                      <a:pt x="493" y="56"/>
                    </a:lnTo>
                    <a:lnTo>
                      <a:pt x="515" y="56"/>
                    </a:lnTo>
                    <a:lnTo>
                      <a:pt x="527" y="44"/>
                    </a:lnTo>
                    <a:lnTo>
                      <a:pt x="538" y="33"/>
                    </a:lnTo>
                    <a:lnTo>
                      <a:pt x="561" y="33"/>
                    </a:lnTo>
                    <a:lnTo>
                      <a:pt x="572" y="22"/>
                    </a:lnTo>
                    <a:lnTo>
                      <a:pt x="595" y="11"/>
                    </a:lnTo>
                    <a:lnTo>
                      <a:pt x="606" y="11"/>
                    </a:lnTo>
                    <a:lnTo>
                      <a:pt x="618" y="0"/>
                    </a:lnTo>
                    <a:lnTo>
                      <a:pt x="651" y="3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6955200" y="3431160"/>
                <a:ext cx="18360" cy="333360"/>
              </a:xfrm>
              <a:custGeom>
                <a:avLst/>
                <a:gdLst/>
                <a:ahLst/>
                <a:rect l="l" t="t" r="r" b="b"/>
                <a:pathLst>
                  <a:path w="45" h="864">
                    <a:moveTo>
                      <a:pt x="0" y="0"/>
                    </a:moveTo>
                    <a:lnTo>
                      <a:pt x="0" y="56"/>
                    </a:lnTo>
                    <a:lnTo>
                      <a:pt x="11" y="112"/>
                    </a:lnTo>
                    <a:lnTo>
                      <a:pt x="22" y="157"/>
                    </a:lnTo>
                    <a:lnTo>
                      <a:pt x="22" y="213"/>
                    </a:lnTo>
                    <a:lnTo>
                      <a:pt x="22" y="269"/>
                    </a:lnTo>
                    <a:lnTo>
                      <a:pt x="33" y="326"/>
                    </a:lnTo>
                    <a:lnTo>
                      <a:pt x="33" y="382"/>
                    </a:lnTo>
                    <a:lnTo>
                      <a:pt x="33" y="437"/>
                    </a:lnTo>
                    <a:lnTo>
                      <a:pt x="33" y="482"/>
                    </a:lnTo>
                    <a:lnTo>
                      <a:pt x="45" y="538"/>
                    </a:lnTo>
                    <a:lnTo>
                      <a:pt x="45" y="594"/>
                    </a:lnTo>
                    <a:lnTo>
                      <a:pt x="45" y="650"/>
                    </a:lnTo>
                    <a:lnTo>
                      <a:pt x="33" y="706"/>
                    </a:lnTo>
                    <a:lnTo>
                      <a:pt x="33" y="752"/>
                    </a:lnTo>
                    <a:lnTo>
                      <a:pt x="33" y="808"/>
                    </a:lnTo>
                    <a:lnTo>
                      <a:pt x="33" y="8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6964200" y="3764520"/>
                <a:ext cx="4680" cy="385200"/>
              </a:xfrm>
              <a:custGeom>
                <a:avLst/>
                <a:gdLst/>
                <a:ahLst/>
                <a:rect l="l" t="t" r="r" b="b"/>
                <a:pathLst>
                  <a:path w="11" h="986">
                    <a:moveTo>
                      <a:pt x="11" y="0"/>
                    </a:moveTo>
                    <a:lnTo>
                      <a:pt x="11" y="66"/>
                    </a:lnTo>
                    <a:lnTo>
                      <a:pt x="11" y="122"/>
                    </a:lnTo>
                    <a:lnTo>
                      <a:pt x="11" y="190"/>
                    </a:lnTo>
                    <a:lnTo>
                      <a:pt x="11" y="246"/>
                    </a:lnTo>
                    <a:lnTo>
                      <a:pt x="11" y="313"/>
                    </a:lnTo>
                    <a:lnTo>
                      <a:pt x="11" y="381"/>
                    </a:lnTo>
                    <a:lnTo>
                      <a:pt x="11" y="437"/>
                    </a:lnTo>
                    <a:lnTo>
                      <a:pt x="11" y="504"/>
                    </a:lnTo>
                    <a:lnTo>
                      <a:pt x="11" y="559"/>
                    </a:lnTo>
                    <a:lnTo>
                      <a:pt x="11" y="627"/>
                    </a:lnTo>
                    <a:lnTo>
                      <a:pt x="11" y="683"/>
                    </a:lnTo>
                    <a:lnTo>
                      <a:pt x="11" y="751"/>
                    </a:lnTo>
                    <a:lnTo>
                      <a:pt x="11" y="806"/>
                    </a:lnTo>
                    <a:lnTo>
                      <a:pt x="11" y="862"/>
                    </a:lnTo>
                    <a:lnTo>
                      <a:pt x="0" y="930"/>
                    </a:lnTo>
                    <a:lnTo>
                      <a:pt x="0" y="9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6959880" y="4150080"/>
                <a:ext cx="3960" cy="216720"/>
              </a:xfrm>
              <a:custGeom>
                <a:avLst/>
                <a:gdLst/>
                <a:ahLst/>
                <a:rect l="l" t="t" r="r" b="b"/>
                <a:pathLst>
                  <a:path w="11" h="559">
                    <a:moveTo>
                      <a:pt x="11" y="0"/>
                    </a:moveTo>
                    <a:lnTo>
                      <a:pt x="11" y="33"/>
                    </a:lnTo>
                    <a:lnTo>
                      <a:pt x="11" y="66"/>
                    </a:lnTo>
                    <a:lnTo>
                      <a:pt x="11" y="101"/>
                    </a:lnTo>
                    <a:lnTo>
                      <a:pt x="11" y="134"/>
                    </a:lnTo>
                    <a:lnTo>
                      <a:pt x="11" y="169"/>
                    </a:lnTo>
                    <a:lnTo>
                      <a:pt x="11" y="214"/>
                    </a:lnTo>
                    <a:lnTo>
                      <a:pt x="11" y="247"/>
                    </a:lnTo>
                    <a:lnTo>
                      <a:pt x="11" y="280"/>
                    </a:lnTo>
                    <a:lnTo>
                      <a:pt x="11" y="314"/>
                    </a:lnTo>
                    <a:lnTo>
                      <a:pt x="11" y="348"/>
                    </a:lnTo>
                    <a:lnTo>
                      <a:pt x="11" y="381"/>
                    </a:lnTo>
                    <a:lnTo>
                      <a:pt x="11" y="414"/>
                    </a:lnTo>
                    <a:lnTo>
                      <a:pt x="0" y="448"/>
                    </a:lnTo>
                    <a:lnTo>
                      <a:pt x="0" y="482"/>
                    </a:lnTo>
                    <a:lnTo>
                      <a:pt x="0" y="515"/>
                    </a:lnTo>
                    <a:lnTo>
                      <a:pt x="0" y="5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6778080" y="4441680"/>
                <a:ext cx="41760" cy="144720"/>
              </a:xfrm>
              <a:custGeom>
                <a:avLst/>
                <a:gdLst/>
                <a:ahLst/>
                <a:rect l="l" t="t" r="r" b="b"/>
                <a:pathLst>
                  <a:path w="112" h="370">
                    <a:moveTo>
                      <a:pt x="112" y="0"/>
                    </a:moveTo>
                    <a:lnTo>
                      <a:pt x="101" y="22"/>
                    </a:lnTo>
                    <a:lnTo>
                      <a:pt x="101" y="45"/>
                    </a:lnTo>
                    <a:lnTo>
                      <a:pt x="89" y="67"/>
                    </a:lnTo>
                    <a:lnTo>
                      <a:pt x="79" y="90"/>
                    </a:lnTo>
                    <a:lnTo>
                      <a:pt x="79" y="113"/>
                    </a:lnTo>
                    <a:lnTo>
                      <a:pt x="68" y="134"/>
                    </a:lnTo>
                    <a:lnTo>
                      <a:pt x="68" y="157"/>
                    </a:lnTo>
                    <a:lnTo>
                      <a:pt x="56" y="179"/>
                    </a:lnTo>
                    <a:lnTo>
                      <a:pt x="56" y="202"/>
                    </a:lnTo>
                    <a:lnTo>
                      <a:pt x="45" y="224"/>
                    </a:lnTo>
                    <a:lnTo>
                      <a:pt x="33" y="247"/>
                    </a:lnTo>
                    <a:lnTo>
                      <a:pt x="33" y="269"/>
                    </a:lnTo>
                    <a:lnTo>
                      <a:pt x="23" y="304"/>
                    </a:lnTo>
                    <a:lnTo>
                      <a:pt x="23" y="325"/>
                    </a:lnTo>
                    <a:lnTo>
                      <a:pt x="12" y="348"/>
                    </a:lnTo>
                    <a:lnTo>
                      <a:pt x="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6703560" y="4402080"/>
                <a:ext cx="36720" cy="196200"/>
              </a:xfrm>
              <a:custGeom>
                <a:avLst/>
                <a:gdLst/>
                <a:ahLst/>
                <a:rect l="l" t="t" r="r" b="b"/>
                <a:pathLst>
                  <a:path w="101" h="504">
                    <a:moveTo>
                      <a:pt x="101" y="504"/>
                    </a:moveTo>
                    <a:lnTo>
                      <a:pt x="89" y="48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6750000" y="4271040"/>
                <a:ext cx="114120" cy="83880"/>
              </a:xfrm>
              <a:custGeom>
                <a:avLst/>
                <a:gdLst/>
                <a:ahLst/>
                <a:rect l="l" t="t" r="r" b="b"/>
                <a:pathLst>
                  <a:path w="291" h="212">
                    <a:moveTo>
                      <a:pt x="0" y="212"/>
                    </a:moveTo>
                    <a:lnTo>
                      <a:pt x="12" y="201"/>
                    </a:lnTo>
                    <a:lnTo>
                      <a:pt x="35" y="190"/>
                    </a:lnTo>
                    <a:lnTo>
                      <a:pt x="57" y="179"/>
                    </a:lnTo>
                    <a:lnTo>
                      <a:pt x="68" y="168"/>
                    </a:lnTo>
                    <a:lnTo>
                      <a:pt x="91" y="146"/>
                    </a:lnTo>
                    <a:lnTo>
                      <a:pt x="113" y="134"/>
                    </a:lnTo>
                    <a:lnTo>
                      <a:pt x="124" y="123"/>
                    </a:lnTo>
                    <a:lnTo>
                      <a:pt x="147" y="112"/>
                    </a:lnTo>
                    <a:lnTo>
                      <a:pt x="169" y="100"/>
                    </a:lnTo>
                    <a:lnTo>
                      <a:pt x="180" y="90"/>
                    </a:lnTo>
                    <a:lnTo>
                      <a:pt x="202" y="67"/>
                    </a:lnTo>
                    <a:lnTo>
                      <a:pt x="225" y="55"/>
                    </a:lnTo>
                    <a:lnTo>
                      <a:pt x="236" y="45"/>
                    </a:lnTo>
                    <a:lnTo>
                      <a:pt x="258" y="34"/>
                    </a:lnTo>
                    <a:lnTo>
                      <a:pt x="270" y="11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6864120" y="3603600"/>
                <a:ext cx="4680" cy="667440"/>
              </a:xfrm>
              <a:custGeom>
                <a:avLst/>
                <a:gdLst/>
                <a:ahLst/>
                <a:rect l="l" t="t" r="r" b="b"/>
                <a:pathLst>
                  <a:path w="12" h="1716">
                    <a:moveTo>
                      <a:pt x="0" y="1716"/>
                    </a:moveTo>
                    <a:lnTo>
                      <a:pt x="0" y="1604"/>
                    </a:lnTo>
                    <a:lnTo>
                      <a:pt x="12" y="1503"/>
                    </a:lnTo>
                    <a:lnTo>
                      <a:pt x="12" y="1390"/>
                    </a:lnTo>
                    <a:lnTo>
                      <a:pt x="12" y="1290"/>
                    </a:lnTo>
                    <a:lnTo>
                      <a:pt x="12" y="1179"/>
                    </a:lnTo>
                    <a:lnTo>
                      <a:pt x="12" y="1066"/>
                    </a:lnTo>
                    <a:lnTo>
                      <a:pt x="12" y="965"/>
                    </a:lnTo>
                    <a:lnTo>
                      <a:pt x="12" y="853"/>
                    </a:lnTo>
                    <a:lnTo>
                      <a:pt x="12" y="741"/>
                    </a:lnTo>
                    <a:lnTo>
                      <a:pt x="12" y="639"/>
                    </a:lnTo>
                    <a:lnTo>
                      <a:pt x="0" y="528"/>
                    </a:lnTo>
                    <a:lnTo>
                      <a:pt x="0" y="427"/>
                    </a:lnTo>
                    <a:lnTo>
                      <a:pt x="0" y="315"/>
                    </a:lnTo>
                    <a:lnTo>
                      <a:pt x="0" y="213"/>
                    </a:lnTo>
                    <a:lnTo>
                      <a:pt x="0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6850080" y="3463920"/>
                <a:ext cx="14040" cy="139680"/>
              </a:xfrm>
              <a:custGeom>
                <a:avLst/>
                <a:gdLst/>
                <a:ahLst/>
                <a:rect l="l" t="t" r="r" b="b"/>
                <a:pathLst>
                  <a:path w="33" h="359">
                    <a:moveTo>
                      <a:pt x="33" y="359"/>
                    </a:moveTo>
                    <a:lnTo>
                      <a:pt x="33" y="338"/>
                    </a:lnTo>
                    <a:lnTo>
                      <a:pt x="33" y="315"/>
                    </a:lnTo>
                    <a:lnTo>
                      <a:pt x="33" y="293"/>
                    </a:lnTo>
                    <a:lnTo>
                      <a:pt x="33" y="270"/>
                    </a:lnTo>
                    <a:lnTo>
                      <a:pt x="33" y="247"/>
                    </a:lnTo>
                    <a:lnTo>
                      <a:pt x="23" y="225"/>
                    </a:lnTo>
                    <a:lnTo>
                      <a:pt x="23" y="202"/>
                    </a:lnTo>
                    <a:lnTo>
                      <a:pt x="23" y="180"/>
                    </a:lnTo>
                    <a:lnTo>
                      <a:pt x="23" y="157"/>
                    </a:lnTo>
                    <a:lnTo>
                      <a:pt x="12" y="135"/>
                    </a:lnTo>
                    <a:lnTo>
                      <a:pt x="12" y="112"/>
                    </a:lnTo>
                    <a:lnTo>
                      <a:pt x="12" y="91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6719400" y="3442680"/>
                <a:ext cx="226440" cy="1139040"/>
              </a:xfrm>
              <a:custGeom>
                <a:avLst/>
                <a:gdLst/>
                <a:ahLst/>
                <a:rect l="l" t="t" r="r" b="b"/>
                <a:pathLst>
                  <a:path w="583" h="2928">
                    <a:moveTo>
                      <a:pt x="561" y="0"/>
                    </a:moveTo>
                    <a:lnTo>
                      <a:pt x="561" y="34"/>
                    </a:lnTo>
                    <a:lnTo>
                      <a:pt x="573" y="56"/>
                    </a:lnTo>
                    <a:lnTo>
                      <a:pt x="573" y="91"/>
                    </a:lnTo>
                    <a:lnTo>
                      <a:pt x="573" y="124"/>
                    </a:lnTo>
                    <a:lnTo>
                      <a:pt x="573" y="147"/>
                    </a:lnTo>
                    <a:lnTo>
                      <a:pt x="573" y="180"/>
                    </a:lnTo>
                    <a:lnTo>
                      <a:pt x="573" y="202"/>
                    </a:lnTo>
                    <a:lnTo>
                      <a:pt x="573" y="236"/>
                    </a:lnTo>
                    <a:lnTo>
                      <a:pt x="573" y="269"/>
                    </a:lnTo>
                    <a:lnTo>
                      <a:pt x="573" y="293"/>
                    </a:lnTo>
                    <a:lnTo>
                      <a:pt x="573" y="326"/>
                    </a:lnTo>
                    <a:lnTo>
                      <a:pt x="573" y="349"/>
                    </a:lnTo>
                    <a:lnTo>
                      <a:pt x="583" y="382"/>
                    </a:lnTo>
                    <a:lnTo>
                      <a:pt x="583" y="415"/>
                    </a:lnTo>
                    <a:lnTo>
                      <a:pt x="583" y="438"/>
                    </a:lnTo>
                    <a:lnTo>
                      <a:pt x="583" y="472"/>
                    </a:lnTo>
                    <a:lnTo>
                      <a:pt x="583" y="1929"/>
                    </a:lnTo>
                    <a:lnTo>
                      <a:pt x="573" y="1951"/>
                    </a:lnTo>
                    <a:lnTo>
                      <a:pt x="573" y="1974"/>
                    </a:lnTo>
                    <a:lnTo>
                      <a:pt x="573" y="2008"/>
                    </a:lnTo>
                    <a:lnTo>
                      <a:pt x="573" y="2031"/>
                    </a:lnTo>
                    <a:lnTo>
                      <a:pt x="573" y="2064"/>
                    </a:lnTo>
                    <a:lnTo>
                      <a:pt x="573" y="2087"/>
                    </a:lnTo>
                    <a:lnTo>
                      <a:pt x="573" y="2120"/>
                    </a:lnTo>
                    <a:lnTo>
                      <a:pt x="573" y="2142"/>
                    </a:lnTo>
                    <a:lnTo>
                      <a:pt x="573" y="2176"/>
                    </a:lnTo>
                    <a:lnTo>
                      <a:pt x="573" y="2198"/>
                    </a:lnTo>
                    <a:lnTo>
                      <a:pt x="573" y="2231"/>
                    </a:lnTo>
                    <a:lnTo>
                      <a:pt x="573" y="2254"/>
                    </a:lnTo>
                    <a:lnTo>
                      <a:pt x="573" y="2287"/>
                    </a:lnTo>
                    <a:lnTo>
                      <a:pt x="573" y="2310"/>
                    </a:lnTo>
                    <a:lnTo>
                      <a:pt x="573" y="2343"/>
                    </a:lnTo>
                    <a:lnTo>
                      <a:pt x="573" y="2366"/>
                    </a:lnTo>
                    <a:lnTo>
                      <a:pt x="550" y="2376"/>
                    </a:lnTo>
                    <a:lnTo>
                      <a:pt x="539" y="2388"/>
                    </a:lnTo>
                    <a:lnTo>
                      <a:pt x="516" y="2400"/>
                    </a:lnTo>
                    <a:lnTo>
                      <a:pt x="493" y="2411"/>
                    </a:lnTo>
                    <a:lnTo>
                      <a:pt x="482" y="2423"/>
                    </a:lnTo>
                    <a:lnTo>
                      <a:pt x="460" y="2435"/>
                    </a:lnTo>
                    <a:lnTo>
                      <a:pt x="437" y="2445"/>
                    </a:lnTo>
                    <a:lnTo>
                      <a:pt x="425" y="2456"/>
                    </a:lnTo>
                    <a:lnTo>
                      <a:pt x="404" y="2456"/>
                    </a:lnTo>
                    <a:lnTo>
                      <a:pt x="381" y="2468"/>
                    </a:lnTo>
                    <a:lnTo>
                      <a:pt x="359" y="2479"/>
                    </a:lnTo>
                    <a:lnTo>
                      <a:pt x="348" y="2490"/>
                    </a:lnTo>
                    <a:lnTo>
                      <a:pt x="326" y="2501"/>
                    </a:lnTo>
                    <a:lnTo>
                      <a:pt x="303" y="2501"/>
                    </a:lnTo>
                    <a:lnTo>
                      <a:pt x="280" y="2512"/>
                    </a:lnTo>
                    <a:lnTo>
                      <a:pt x="270" y="2524"/>
                    </a:lnTo>
                    <a:lnTo>
                      <a:pt x="235" y="2546"/>
                    </a:lnTo>
                    <a:lnTo>
                      <a:pt x="225" y="2580"/>
                    </a:lnTo>
                    <a:lnTo>
                      <a:pt x="225" y="2602"/>
                    </a:lnTo>
                    <a:lnTo>
                      <a:pt x="214" y="2625"/>
                    </a:lnTo>
                    <a:lnTo>
                      <a:pt x="202" y="2646"/>
                    </a:lnTo>
                    <a:lnTo>
                      <a:pt x="202" y="2669"/>
                    </a:lnTo>
                    <a:lnTo>
                      <a:pt x="191" y="2691"/>
                    </a:lnTo>
                    <a:lnTo>
                      <a:pt x="191" y="2725"/>
                    </a:lnTo>
                    <a:lnTo>
                      <a:pt x="179" y="2747"/>
                    </a:lnTo>
                    <a:lnTo>
                      <a:pt x="179" y="2770"/>
                    </a:lnTo>
                    <a:lnTo>
                      <a:pt x="169" y="2792"/>
                    </a:lnTo>
                    <a:lnTo>
                      <a:pt x="158" y="2815"/>
                    </a:lnTo>
                    <a:lnTo>
                      <a:pt x="158" y="2837"/>
                    </a:lnTo>
                    <a:lnTo>
                      <a:pt x="146" y="2860"/>
                    </a:lnTo>
                    <a:lnTo>
                      <a:pt x="135" y="2883"/>
                    </a:lnTo>
                    <a:lnTo>
                      <a:pt x="124" y="2905"/>
                    </a:lnTo>
                    <a:lnTo>
                      <a:pt x="113" y="2928"/>
                    </a:lnTo>
                    <a:lnTo>
                      <a:pt x="101" y="2928"/>
                    </a:lnTo>
                    <a:lnTo>
                      <a:pt x="90" y="2928"/>
                    </a:lnTo>
                    <a:lnTo>
                      <a:pt x="90" y="2916"/>
                    </a:lnTo>
                    <a:lnTo>
                      <a:pt x="78" y="2905"/>
                    </a:lnTo>
                    <a:lnTo>
                      <a:pt x="78" y="2883"/>
                    </a:lnTo>
                    <a:lnTo>
                      <a:pt x="78" y="2872"/>
                    </a:lnTo>
                    <a:lnTo>
                      <a:pt x="78" y="2860"/>
                    </a:lnTo>
                    <a:lnTo>
                      <a:pt x="78" y="2849"/>
                    </a:lnTo>
                    <a:lnTo>
                      <a:pt x="78" y="2837"/>
                    </a:lnTo>
                    <a:lnTo>
                      <a:pt x="78" y="2825"/>
                    </a:lnTo>
                    <a:lnTo>
                      <a:pt x="67" y="2815"/>
                    </a:lnTo>
                    <a:lnTo>
                      <a:pt x="67" y="2803"/>
                    </a:lnTo>
                    <a:lnTo>
                      <a:pt x="67" y="2792"/>
                    </a:lnTo>
                    <a:lnTo>
                      <a:pt x="67" y="2780"/>
                    </a:lnTo>
                    <a:lnTo>
                      <a:pt x="67" y="2770"/>
                    </a:lnTo>
                    <a:lnTo>
                      <a:pt x="56" y="2758"/>
                    </a:lnTo>
                    <a:lnTo>
                      <a:pt x="56" y="2747"/>
                    </a:lnTo>
                    <a:lnTo>
                      <a:pt x="44" y="2725"/>
                    </a:lnTo>
                    <a:lnTo>
                      <a:pt x="44" y="2714"/>
                    </a:lnTo>
                    <a:lnTo>
                      <a:pt x="44" y="2691"/>
                    </a:lnTo>
                    <a:lnTo>
                      <a:pt x="44" y="2669"/>
                    </a:lnTo>
                    <a:lnTo>
                      <a:pt x="33" y="2658"/>
                    </a:lnTo>
                    <a:lnTo>
                      <a:pt x="33" y="2635"/>
                    </a:lnTo>
                    <a:lnTo>
                      <a:pt x="33" y="2613"/>
                    </a:lnTo>
                    <a:lnTo>
                      <a:pt x="33" y="2602"/>
                    </a:lnTo>
                    <a:lnTo>
                      <a:pt x="23" y="2580"/>
                    </a:lnTo>
                    <a:lnTo>
                      <a:pt x="23" y="2557"/>
                    </a:lnTo>
                    <a:lnTo>
                      <a:pt x="23" y="2546"/>
                    </a:lnTo>
                    <a:lnTo>
                      <a:pt x="11" y="2524"/>
                    </a:lnTo>
                    <a:lnTo>
                      <a:pt x="11" y="2501"/>
                    </a:lnTo>
                    <a:lnTo>
                      <a:pt x="11" y="2490"/>
                    </a:lnTo>
                    <a:lnTo>
                      <a:pt x="0" y="2468"/>
                    </a:lnTo>
                    <a:lnTo>
                      <a:pt x="0" y="2445"/>
                    </a:lnTo>
                    <a:lnTo>
                      <a:pt x="11" y="2435"/>
                    </a:lnTo>
                    <a:lnTo>
                      <a:pt x="33" y="2423"/>
                    </a:lnTo>
                    <a:lnTo>
                      <a:pt x="44" y="2411"/>
                    </a:lnTo>
                    <a:lnTo>
                      <a:pt x="56" y="2388"/>
                    </a:lnTo>
                    <a:lnTo>
                      <a:pt x="78" y="2376"/>
                    </a:lnTo>
                    <a:lnTo>
                      <a:pt x="90" y="2366"/>
                    </a:lnTo>
                    <a:lnTo>
                      <a:pt x="113" y="2355"/>
                    </a:lnTo>
                    <a:lnTo>
                      <a:pt x="124" y="2343"/>
                    </a:lnTo>
                    <a:lnTo>
                      <a:pt x="146" y="2332"/>
                    </a:lnTo>
                    <a:lnTo>
                      <a:pt x="158" y="2321"/>
                    </a:lnTo>
                    <a:lnTo>
                      <a:pt x="179" y="2310"/>
                    </a:lnTo>
                    <a:lnTo>
                      <a:pt x="191" y="2299"/>
                    </a:lnTo>
                    <a:lnTo>
                      <a:pt x="214" y="2287"/>
                    </a:lnTo>
                    <a:lnTo>
                      <a:pt x="225" y="2277"/>
                    </a:lnTo>
                    <a:lnTo>
                      <a:pt x="235" y="2265"/>
                    </a:lnTo>
                    <a:lnTo>
                      <a:pt x="258" y="2254"/>
                    </a:lnTo>
                    <a:lnTo>
                      <a:pt x="270" y="2243"/>
                    </a:lnTo>
                    <a:lnTo>
                      <a:pt x="280" y="2243"/>
                    </a:lnTo>
                    <a:lnTo>
                      <a:pt x="280" y="2231"/>
                    </a:lnTo>
                    <a:lnTo>
                      <a:pt x="292" y="2231"/>
                    </a:lnTo>
                    <a:lnTo>
                      <a:pt x="303" y="2221"/>
                    </a:lnTo>
                    <a:lnTo>
                      <a:pt x="314" y="2221"/>
                    </a:lnTo>
                    <a:lnTo>
                      <a:pt x="326" y="2209"/>
                    </a:lnTo>
                    <a:lnTo>
                      <a:pt x="336" y="2198"/>
                    </a:lnTo>
                    <a:lnTo>
                      <a:pt x="348" y="2198"/>
                    </a:lnTo>
                    <a:lnTo>
                      <a:pt x="348" y="2186"/>
                    </a:lnTo>
                    <a:lnTo>
                      <a:pt x="359" y="2176"/>
                    </a:lnTo>
                    <a:lnTo>
                      <a:pt x="369" y="2176"/>
                    </a:lnTo>
                    <a:lnTo>
                      <a:pt x="381" y="2165"/>
                    </a:lnTo>
                    <a:lnTo>
                      <a:pt x="392" y="2153"/>
                    </a:lnTo>
                    <a:lnTo>
                      <a:pt x="392" y="2142"/>
                    </a:lnTo>
                    <a:lnTo>
                      <a:pt x="404" y="2142"/>
                    </a:lnTo>
                    <a:lnTo>
                      <a:pt x="404" y="2131"/>
                    </a:lnTo>
                    <a:lnTo>
                      <a:pt x="404" y="2120"/>
                    </a:lnTo>
                    <a:lnTo>
                      <a:pt x="404" y="2109"/>
                    </a:lnTo>
                    <a:lnTo>
                      <a:pt x="404" y="2097"/>
                    </a:lnTo>
                    <a:lnTo>
                      <a:pt x="404" y="2087"/>
                    </a:lnTo>
                    <a:lnTo>
                      <a:pt x="404" y="2075"/>
                    </a:lnTo>
                    <a:lnTo>
                      <a:pt x="404" y="2064"/>
                    </a:lnTo>
                    <a:lnTo>
                      <a:pt x="404" y="2053"/>
                    </a:lnTo>
                    <a:lnTo>
                      <a:pt x="404" y="2041"/>
                    </a:lnTo>
                    <a:lnTo>
                      <a:pt x="404" y="2031"/>
                    </a:lnTo>
                    <a:lnTo>
                      <a:pt x="404" y="2019"/>
                    </a:lnTo>
                    <a:lnTo>
                      <a:pt x="404" y="2008"/>
                    </a:lnTo>
                    <a:lnTo>
                      <a:pt x="404" y="1996"/>
                    </a:lnTo>
                    <a:lnTo>
                      <a:pt x="415" y="1986"/>
                    </a:lnTo>
                    <a:lnTo>
                      <a:pt x="415" y="1951"/>
                    </a:lnTo>
                    <a:lnTo>
                      <a:pt x="415" y="1918"/>
                    </a:lnTo>
                    <a:lnTo>
                      <a:pt x="415" y="1895"/>
                    </a:lnTo>
                    <a:lnTo>
                      <a:pt x="425" y="1862"/>
                    </a:lnTo>
                    <a:lnTo>
                      <a:pt x="425" y="1828"/>
                    </a:lnTo>
                    <a:lnTo>
                      <a:pt x="425" y="1794"/>
                    </a:lnTo>
                    <a:lnTo>
                      <a:pt x="425" y="1772"/>
                    </a:lnTo>
                    <a:lnTo>
                      <a:pt x="425" y="1738"/>
                    </a:lnTo>
                    <a:lnTo>
                      <a:pt x="425" y="1705"/>
                    </a:lnTo>
                    <a:lnTo>
                      <a:pt x="425" y="1683"/>
                    </a:lnTo>
                    <a:lnTo>
                      <a:pt x="425" y="1649"/>
                    </a:lnTo>
                    <a:lnTo>
                      <a:pt x="425" y="1615"/>
                    </a:lnTo>
                    <a:lnTo>
                      <a:pt x="425" y="1594"/>
                    </a:lnTo>
                    <a:lnTo>
                      <a:pt x="425" y="1559"/>
                    </a:lnTo>
                    <a:lnTo>
                      <a:pt x="425" y="1525"/>
                    </a:lnTo>
                    <a:lnTo>
                      <a:pt x="437" y="1502"/>
                    </a:lnTo>
                    <a:lnTo>
                      <a:pt x="437" y="1491"/>
                    </a:lnTo>
                    <a:lnTo>
                      <a:pt x="425" y="1481"/>
                    </a:lnTo>
                    <a:lnTo>
                      <a:pt x="425" y="1469"/>
                    </a:lnTo>
                    <a:lnTo>
                      <a:pt x="425" y="1458"/>
                    </a:lnTo>
                    <a:lnTo>
                      <a:pt x="425" y="1446"/>
                    </a:lnTo>
                    <a:lnTo>
                      <a:pt x="425" y="1436"/>
                    </a:lnTo>
                    <a:lnTo>
                      <a:pt x="425" y="1424"/>
                    </a:lnTo>
                    <a:lnTo>
                      <a:pt x="425" y="1413"/>
                    </a:lnTo>
                    <a:lnTo>
                      <a:pt x="425" y="1402"/>
                    </a:lnTo>
                    <a:lnTo>
                      <a:pt x="425" y="1390"/>
                    </a:lnTo>
                    <a:lnTo>
                      <a:pt x="425" y="1380"/>
                    </a:lnTo>
                    <a:lnTo>
                      <a:pt x="425" y="1368"/>
                    </a:lnTo>
                    <a:lnTo>
                      <a:pt x="425" y="1357"/>
                    </a:lnTo>
                    <a:lnTo>
                      <a:pt x="425" y="1346"/>
                    </a:lnTo>
                    <a:lnTo>
                      <a:pt x="425" y="1335"/>
                    </a:lnTo>
                    <a:lnTo>
                      <a:pt x="425" y="1324"/>
                    </a:lnTo>
                    <a:lnTo>
                      <a:pt x="425" y="1291"/>
                    </a:lnTo>
                    <a:lnTo>
                      <a:pt x="425" y="1245"/>
                    </a:lnTo>
                    <a:lnTo>
                      <a:pt x="425" y="1212"/>
                    </a:lnTo>
                    <a:lnTo>
                      <a:pt x="425" y="1167"/>
                    </a:lnTo>
                    <a:lnTo>
                      <a:pt x="425" y="1134"/>
                    </a:lnTo>
                    <a:lnTo>
                      <a:pt x="425" y="1087"/>
                    </a:lnTo>
                    <a:lnTo>
                      <a:pt x="425" y="1043"/>
                    </a:lnTo>
                    <a:lnTo>
                      <a:pt x="425" y="1009"/>
                    </a:lnTo>
                    <a:lnTo>
                      <a:pt x="425" y="965"/>
                    </a:lnTo>
                    <a:lnTo>
                      <a:pt x="425" y="931"/>
                    </a:lnTo>
                    <a:lnTo>
                      <a:pt x="425" y="887"/>
                    </a:lnTo>
                    <a:lnTo>
                      <a:pt x="425" y="842"/>
                    </a:lnTo>
                    <a:lnTo>
                      <a:pt x="437" y="808"/>
                    </a:lnTo>
                    <a:lnTo>
                      <a:pt x="437" y="763"/>
                    </a:lnTo>
                    <a:lnTo>
                      <a:pt x="437" y="730"/>
                    </a:lnTo>
                    <a:lnTo>
                      <a:pt x="437" y="684"/>
                    </a:lnTo>
                    <a:lnTo>
                      <a:pt x="437" y="662"/>
                    </a:lnTo>
                    <a:lnTo>
                      <a:pt x="448" y="628"/>
                    </a:lnTo>
                    <a:lnTo>
                      <a:pt x="448" y="605"/>
                    </a:lnTo>
                    <a:lnTo>
                      <a:pt x="448" y="584"/>
                    </a:lnTo>
                    <a:lnTo>
                      <a:pt x="448" y="549"/>
                    </a:lnTo>
                    <a:lnTo>
                      <a:pt x="448" y="528"/>
                    </a:lnTo>
                    <a:lnTo>
                      <a:pt x="437" y="493"/>
                    </a:lnTo>
                    <a:lnTo>
                      <a:pt x="437" y="472"/>
                    </a:lnTo>
                    <a:lnTo>
                      <a:pt x="437" y="449"/>
                    </a:lnTo>
                    <a:lnTo>
                      <a:pt x="437" y="427"/>
                    </a:lnTo>
                    <a:lnTo>
                      <a:pt x="437" y="394"/>
                    </a:lnTo>
                    <a:lnTo>
                      <a:pt x="437" y="371"/>
                    </a:lnTo>
                    <a:lnTo>
                      <a:pt x="437" y="338"/>
                    </a:lnTo>
                    <a:lnTo>
                      <a:pt x="437" y="315"/>
                    </a:lnTo>
                    <a:lnTo>
                      <a:pt x="437" y="293"/>
                    </a:lnTo>
                    <a:lnTo>
                      <a:pt x="437" y="258"/>
                    </a:lnTo>
                    <a:lnTo>
                      <a:pt x="425" y="246"/>
                    </a:lnTo>
                    <a:lnTo>
                      <a:pt x="425" y="236"/>
                    </a:lnTo>
                    <a:lnTo>
                      <a:pt x="425" y="224"/>
                    </a:lnTo>
                    <a:lnTo>
                      <a:pt x="425" y="213"/>
                    </a:lnTo>
                    <a:lnTo>
                      <a:pt x="415" y="202"/>
                    </a:lnTo>
                    <a:lnTo>
                      <a:pt x="415" y="191"/>
                    </a:lnTo>
                    <a:lnTo>
                      <a:pt x="415" y="180"/>
                    </a:lnTo>
                    <a:lnTo>
                      <a:pt x="415" y="157"/>
                    </a:lnTo>
                    <a:lnTo>
                      <a:pt x="415" y="147"/>
                    </a:lnTo>
                    <a:lnTo>
                      <a:pt x="415" y="135"/>
                    </a:lnTo>
                    <a:lnTo>
                      <a:pt x="415" y="124"/>
                    </a:lnTo>
                    <a:lnTo>
                      <a:pt x="415" y="112"/>
                    </a:lnTo>
                    <a:lnTo>
                      <a:pt x="415" y="101"/>
                    </a:lnTo>
                    <a:lnTo>
                      <a:pt x="415" y="91"/>
                    </a:lnTo>
                    <a:lnTo>
                      <a:pt x="425" y="68"/>
                    </a:lnTo>
                    <a:lnTo>
                      <a:pt x="425" y="56"/>
                    </a:lnTo>
                    <a:lnTo>
                      <a:pt x="437" y="56"/>
                    </a:lnTo>
                    <a:lnTo>
                      <a:pt x="448" y="46"/>
                    </a:lnTo>
                    <a:lnTo>
                      <a:pt x="460" y="46"/>
                    </a:lnTo>
                    <a:lnTo>
                      <a:pt x="470" y="46"/>
                    </a:lnTo>
                    <a:lnTo>
                      <a:pt x="470" y="34"/>
                    </a:lnTo>
                    <a:lnTo>
                      <a:pt x="482" y="34"/>
                    </a:lnTo>
                    <a:lnTo>
                      <a:pt x="493" y="23"/>
                    </a:lnTo>
                    <a:lnTo>
                      <a:pt x="505" y="23"/>
                    </a:lnTo>
                    <a:lnTo>
                      <a:pt x="516" y="12"/>
                    </a:lnTo>
                    <a:lnTo>
                      <a:pt x="527" y="12"/>
                    </a:lnTo>
                    <a:lnTo>
                      <a:pt x="539" y="12"/>
                    </a:lnTo>
                    <a:lnTo>
                      <a:pt x="550" y="12"/>
                    </a:lnTo>
                    <a:lnTo>
                      <a:pt x="561" y="0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6939000" y="3442680"/>
                <a:ext cx="6840" cy="183960"/>
              </a:xfrm>
              <a:custGeom>
                <a:avLst/>
                <a:gdLst/>
                <a:ahLst/>
                <a:rect l="l" t="t" r="r" b="b"/>
                <a:pathLst>
                  <a:path w="22" h="472">
                    <a:moveTo>
                      <a:pt x="0" y="0"/>
                    </a:moveTo>
                    <a:lnTo>
                      <a:pt x="0" y="34"/>
                    </a:lnTo>
                    <a:lnTo>
                      <a:pt x="12" y="56"/>
                    </a:lnTo>
                    <a:lnTo>
                      <a:pt x="12" y="91"/>
                    </a:lnTo>
                    <a:lnTo>
                      <a:pt x="12" y="124"/>
                    </a:lnTo>
                    <a:lnTo>
                      <a:pt x="12" y="147"/>
                    </a:lnTo>
                    <a:lnTo>
                      <a:pt x="12" y="180"/>
                    </a:lnTo>
                    <a:lnTo>
                      <a:pt x="12" y="202"/>
                    </a:lnTo>
                    <a:lnTo>
                      <a:pt x="12" y="236"/>
                    </a:lnTo>
                    <a:lnTo>
                      <a:pt x="12" y="269"/>
                    </a:lnTo>
                    <a:lnTo>
                      <a:pt x="12" y="293"/>
                    </a:lnTo>
                    <a:lnTo>
                      <a:pt x="12" y="326"/>
                    </a:lnTo>
                    <a:lnTo>
                      <a:pt x="12" y="349"/>
                    </a:lnTo>
                    <a:lnTo>
                      <a:pt x="22" y="382"/>
                    </a:lnTo>
                    <a:lnTo>
                      <a:pt x="22" y="415"/>
                    </a:lnTo>
                    <a:lnTo>
                      <a:pt x="22" y="438"/>
                    </a:lnTo>
                    <a:lnTo>
                      <a:pt x="22" y="4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6945840" y="3627000"/>
                <a:ext cx="2520" cy="564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6943680" y="4191840"/>
                <a:ext cx="1800" cy="170280"/>
              </a:xfrm>
              <a:custGeom>
                <a:avLst/>
                <a:gdLst/>
                <a:ahLst/>
                <a:rect l="l" t="t" r="r" b="b"/>
                <a:pathLst>
                  <a:path w="10" h="437">
                    <a:moveTo>
                      <a:pt x="1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0" y="79"/>
                    </a:lnTo>
                    <a:lnTo>
                      <a:pt x="0" y="102"/>
                    </a:lnTo>
                    <a:lnTo>
                      <a:pt x="0" y="135"/>
                    </a:lnTo>
                    <a:lnTo>
                      <a:pt x="0" y="158"/>
                    </a:lnTo>
                    <a:lnTo>
                      <a:pt x="0" y="191"/>
                    </a:lnTo>
                    <a:lnTo>
                      <a:pt x="0" y="213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2"/>
                    </a:lnTo>
                    <a:lnTo>
                      <a:pt x="0" y="325"/>
                    </a:lnTo>
                    <a:lnTo>
                      <a:pt x="0" y="358"/>
                    </a:lnTo>
                    <a:lnTo>
                      <a:pt x="0" y="381"/>
                    </a:lnTo>
                    <a:lnTo>
                      <a:pt x="0" y="414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6824520" y="4362120"/>
                <a:ext cx="118800" cy="63000"/>
              </a:xfrm>
              <a:custGeom>
                <a:avLst/>
                <a:gdLst/>
                <a:ahLst/>
                <a:rect l="l" t="t" r="r" b="b"/>
                <a:pathLst>
                  <a:path w="303" h="158">
                    <a:moveTo>
                      <a:pt x="303" y="0"/>
                    </a:moveTo>
                    <a:lnTo>
                      <a:pt x="280" y="10"/>
                    </a:lnTo>
                    <a:lnTo>
                      <a:pt x="269" y="22"/>
                    </a:lnTo>
                    <a:lnTo>
                      <a:pt x="246" y="34"/>
                    </a:lnTo>
                    <a:lnTo>
                      <a:pt x="223" y="45"/>
                    </a:lnTo>
                    <a:lnTo>
                      <a:pt x="212" y="57"/>
                    </a:lnTo>
                    <a:lnTo>
                      <a:pt x="190" y="69"/>
                    </a:lnTo>
                    <a:lnTo>
                      <a:pt x="167" y="79"/>
                    </a:lnTo>
                    <a:lnTo>
                      <a:pt x="155" y="90"/>
                    </a:lnTo>
                    <a:lnTo>
                      <a:pt x="134" y="90"/>
                    </a:lnTo>
                    <a:lnTo>
                      <a:pt x="111" y="102"/>
                    </a:lnTo>
                    <a:lnTo>
                      <a:pt x="89" y="113"/>
                    </a:lnTo>
                    <a:lnTo>
                      <a:pt x="78" y="124"/>
                    </a:lnTo>
                    <a:lnTo>
                      <a:pt x="56" y="135"/>
                    </a:lnTo>
                    <a:lnTo>
                      <a:pt x="33" y="135"/>
                    </a:lnTo>
                    <a:lnTo>
                      <a:pt x="1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6763680" y="4432680"/>
                <a:ext cx="46440" cy="149040"/>
              </a:xfrm>
              <a:custGeom>
                <a:avLst/>
                <a:gdLst/>
                <a:ahLst/>
                <a:rect l="l" t="t" r="r" b="b"/>
                <a:pathLst>
                  <a:path w="122" h="382">
                    <a:moveTo>
                      <a:pt x="122" y="0"/>
                    </a:moveTo>
                    <a:lnTo>
                      <a:pt x="112" y="34"/>
                    </a:lnTo>
                    <a:lnTo>
                      <a:pt x="112" y="56"/>
                    </a:lnTo>
                    <a:lnTo>
                      <a:pt x="101" y="79"/>
                    </a:lnTo>
                    <a:lnTo>
                      <a:pt x="89" y="100"/>
                    </a:lnTo>
                    <a:lnTo>
                      <a:pt x="89" y="123"/>
                    </a:lnTo>
                    <a:lnTo>
                      <a:pt x="78" y="145"/>
                    </a:lnTo>
                    <a:lnTo>
                      <a:pt x="78" y="179"/>
                    </a:lnTo>
                    <a:lnTo>
                      <a:pt x="66" y="201"/>
                    </a:lnTo>
                    <a:lnTo>
                      <a:pt x="66" y="224"/>
                    </a:lnTo>
                    <a:lnTo>
                      <a:pt x="56" y="246"/>
                    </a:lnTo>
                    <a:lnTo>
                      <a:pt x="45" y="269"/>
                    </a:lnTo>
                    <a:lnTo>
                      <a:pt x="45" y="291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1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6740280" y="4512240"/>
                <a:ext cx="18360" cy="69840"/>
              </a:xfrm>
              <a:custGeom>
                <a:avLst/>
                <a:gdLst/>
                <a:ahLst/>
                <a:rect l="l" t="t" r="r" b="b"/>
                <a:pathLst>
                  <a:path w="45" h="181">
                    <a:moveTo>
                      <a:pt x="45" y="181"/>
                    </a:moveTo>
                    <a:lnTo>
                      <a:pt x="34" y="181"/>
                    </a:lnTo>
                    <a:lnTo>
                      <a:pt x="34" y="169"/>
                    </a:lnTo>
                    <a:lnTo>
                      <a:pt x="22" y="158"/>
                    </a:lnTo>
                    <a:lnTo>
                      <a:pt x="22" y="136"/>
                    </a:lnTo>
                    <a:lnTo>
                      <a:pt x="22" y="125"/>
                    </a:lnTo>
                    <a:lnTo>
                      <a:pt x="22" y="113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78"/>
                    </a:lnTo>
                    <a:lnTo>
                      <a:pt x="11" y="68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6719400" y="4395240"/>
                <a:ext cx="20880" cy="117000"/>
              </a:xfrm>
              <a:custGeom>
                <a:avLst/>
                <a:gdLst/>
                <a:ahLst/>
                <a:rect l="l" t="t" r="r" b="b"/>
                <a:pathLst>
                  <a:path w="56" h="302">
                    <a:moveTo>
                      <a:pt x="56" y="302"/>
                    </a:moveTo>
                    <a:lnTo>
                      <a:pt x="44" y="280"/>
                    </a:lnTo>
                    <a:lnTo>
                      <a:pt x="44" y="269"/>
                    </a:lnTo>
                    <a:lnTo>
                      <a:pt x="44" y="246"/>
                    </a:lnTo>
                    <a:lnTo>
                      <a:pt x="44" y="224"/>
                    </a:lnTo>
                    <a:lnTo>
                      <a:pt x="33" y="213"/>
                    </a:lnTo>
                    <a:lnTo>
                      <a:pt x="33" y="190"/>
                    </a:lnTo>
                    <a:lnTo>
                      <a:pt x="33" y="168"/>
                    </a:lnTo>
                    <a:lnTo>
                      <a:pt x="33" y="157"/>
                    </a:lnTo>
                    <a:lnTo>
                      <a:pt x="23" y="135"/>
                    </a:lnTo>
                    <a:lnTo>
                      <a:pt x="23" y="112"/>
                    </a:lnTo>
                    <a:lnTo>
                      <a:pt x="23" y="101"/>
                    </a:lnTo>
                    <a:lnTo>
                      <a:pt x="11" y="79"/>
                    </a:lnTo>
                    <a:lnTo>
                      <a:pt x="11" y="56"/>
                    </a:lnTo>
                    <a:lnTo>
                      <a:pt x="11" y="45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6719400" y="4320360"/>
                <a:ext cx="100440" cy="74520"/>
              </a:xfrm>
              <a:custGeom>
                <a:avLst/>
                <a:gdLst/>
                <a:ahLst/>
                <a:rect l="l" t="t" r="r" b="b"/>
                <a:pathLst>
                  <a:path w="258" h="191">
                    <a:moveTo>
                      <a:pt x="0" y="191"/>
                    </a:moveTo>
                    <a:lnTo>
                      <a:pt x="11" y="181"/>
                    </a:lnTo>
                    <a:lnTo>
                      <a:pt x="33" y="169"/>
                    </a:lnTo>
                    <a:lnTo>
                      <a:pt x="44" y="157"/>
                    </a:lnTo>
                    <a:lnTo>
                      <a:pt x="56" y="134"/>
                    </a:lnTo>
                    <a:lnTo>
                      <a:pt x="78" y="122"/>
                    </a:lnTo>
                    <a:lnTo>
                      <a:pt x="90" y="112"/>
                    </a:lnTo>
                    <a:lnTo>
                      <a:pt x="113" y="101"/>
                    </a:lnTo>
                    <a:lnTo>
                      <a:pt x="124" y="89"/>
                    </a:lnTo>
                    <a:lnTo>
                      <a:pt x="146" y="78"/>
                    </a:lnTo>
                    <a:lnTo>
                      <a:pt x="158" y="67"/>
                    </a:lnTo>
                    <a:lnTo>
                      <a:pt x="179" y="56"/>
                    </a:lnTo>
                    <a:lnTo>
                      <a:pt x="191" y="45"/>
                    </a:lnTo>
                    <a:lnTo>
                      <a:pt x="214" y="33"/>
                    </a:lnTo>
                    <a:lnTo>
                      <a:pt x="225" y="23"/>
                    </a:lnTo>
                    <a:lnTo>
                      <a:pt x="235" y="11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6876000" y="421524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6">
                    <a:moveTo>
                      <a:pt x="0" y="156"/>
                    </a:moveTo>
                    <a:lnTo>
                      <a:pt x="0" y="145"/>
                    </a:lnTo>
                    <a:lnTo>
                      <a:pt x="0" y="134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7"/>
                    </a:lnTo>
                    <a:lnTo>
                      <a:pt x="0" y="55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6880680" y="4026240"/>
                <a:ext cx="8640" cy="189000"/>
              </a:xfrm>
              <a:custGeom>
                <a:avLst/>
                <a:gdLst/>
                <a:ahLst/>
                <a:rect l="l" t="t" r="r" b="b"/>
                <a:pathLst>
                  <a:path w="22" h="484">
                    <a:moveTo>
                      <a:pt x="0" y="484"/>
                    </a:moveTo>
                    <a:lnTo>
                      <a:pt x="0" y="449"/>
                    </a:lnTo>
                    <a:lnTo>
                      <a:pt x="0" y="416"/>
                    </a:lnTo>
                    <a:lnTo>
                      <a:pt x="0" y="393"/>
                    </a:lnTo>
                    <a:lnTo>
                      <a:pt x="10" y="360"/>
                    </a:lnTo>
                    <a:lnTo>
                      <a:pt x="10" y="326"/>
                    </a:lnTo>
                    <a:lnTo>
                      <a:pt x="10" y="292"/>
                    </a:lnTo>
                    <a:lnTo>
                      <a:pt x="10" y="270"/>
                    </a:lnTo>
                    <a:lnTo>
                      <a:pt x="10" y="236"/>
                    </a:lnTo>
                    <a:lnTo>
                      <a:pt x="10" y="203"/>
                    </a:lnTo>
                    <a:lnTo>
                      <a:pt x="10" y="181"/>
                    </a:lnTo>
                    <a:lnTo>
                      <a:pt x="10" y="147"/>
                    </a:lnTo>
                    <a:lnTo>
                      <a:pt x="10" y="113"/>
                    </a:lnTo>
                    <a:lnTo>
                      <a:pt x="10" y="92"/>
                    </a:lnTo>
                    <a:lnTo>
                      <a:pt x="10" y="57"/>
                    </a:lnTo>
                    <a:lnTo>
                      <a:pt x="10" y="2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6885360" y="3958200"/>
                <a:ext cx="3960" cy="67680"/>
              </a:xfrm>
              <a:custGeom>
                <a:avLst/>
                <a:gdLst/>
                <a:ahLst/>
                <a:rect l="l" t="t" r="r" b="b"/>
                <a:pathLst>
                  <a:path w="12" h="178">
                    <a:moveTo>
                      <a:pt x="12" y="178"/>
                    </a:moveTo>
                    <a:lnTo>
                      <a:pt x="12" y="167"/>
                    </a:lnTo>
                    <a:lnTo>
                      <a:pt x="0" y="157"/>
                    </a:lnTo>
                    <a:lnTo>
                      <a:pt x="0" y="145"/>
                    </a:lnTo>
                    <a:lnTo>
                      <a:pt x="0" y="134"/>
                    </a:lnTo>
                    <a:lnTo>
                      <a:pt x="0" y="122"/>
                    </a:lnTo>
                    <a:lnTo>
                      <a:pt x="0" y="112"/>
                    </a:lnTo>
                    <a:lnTo>
                      <a:pt x="0" y="100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6885360" y="3709080"/>
                <a:ext cx="3960" cy="249120"/>
              </a:xfrm>
              <a:custGeom>
                <a:avLst/>
                <a:gdLst/>
                <a:ahLst/>
                <a:rect l="l" t="t" r="r" b="b"/>
                <a:pathLst>
                  <a:path w="12" h="640">
                    <a:moveTo>
                      <a:pt x="0" y="640"/>
                    </a:moveTo>
                    <a:lnTo>
                      <a:pt x="0" y="607"/>
                    </a:lnTo>
                    <a:lnTo>
                      <a:pt x="0" y="561"/>
                    </a:lnTo>
                    <a:lnTo>
                      <a:pt x="0" y="528"/>
                    </a:lnTo>
                    <a:lnTo>
                      <a:pt x="0" y="483"/>
                    </a:lnTo>
                    <a:lnTo>
                      <a:pt x="0" y="450"/>
                    </a:lnTo>
                    <a:lnTo>
                      <a:pt x="0" y="403"/>
                    </a:lnTo>
                    <a:lnTo>
                      <a:pt x="0" y="359"/>
                    </a:lnTo>
                    <a:lnTo>
                      <a:pt x="0" y="325"/>
                    </a:lnTo>
                    <a:lnTo>
                      <a:pt x="0" y="281"/>
                    </a:lnTo>
                    <a:lnTo>
                      <a:pt x="0" y="247"/>
                    </a:lnTo>
                    <a:lnTo>
                      <a:pt x="0" y="203"/>
                    </a:lnTo>
                    <a:lnTo>
                      <a:pt x="0" y="158"/>
                    </a:lnTo>
                    <a:lnTo>
                      <a:pt x="12" y="124"/>
                    </a:lnTo>
                    <a:lnTo>
                      <a:pt x="12" y="79"/>
                    </a:lnTo>
                    <a:lnTo>
                      <a:pt x="12" y="46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6889680" y="3542760"/>
                <a:ext cx="4680" cy="165960"/>
              </a:xfrm>
              <a:custGeom>
                <a:avLst/>
                <a:gdLst/>
                <a:ahLst/>
                <a:rect l="l" t="t" r="r" b="b"/>
                <a:pathLst>
                  <a:path w="11" h="426">
                    <a:moveTo>
                      <a:pt x="0" y="426"/>
                    </a:moveTo>
                    <a:lnTo>
                      <a:pt x="0" y="404"/>
                    </a:lnTo>
                    <a:lnTo>
                      <a:pt x="11" y="370"/>
                    </a:lnTo>
                    <a:lnTo>
                      <a:pt x="11" y="347"/>
                    </a:lnTo>
                    <a:lnTo>
                      <a:pt x="11" y="326"/>
                    </a:lnTo>
                    <a:lnTo>
                      <a:pt x="11" y="291"/>
                    </a:lnTo>
                    <a:lnTo>
                      <a:pt x="11" y="270"/>
                    </a:lnTo>
                    <a:lnTo>
                      <a:pt x="0" y="235"/>
                    </a:lnTo>
                    <a:lnTo>
                      <a:pt x="0" y="214"/>
                    </a:lnTo>
                    <a:lnTo>
                      <a:pt x="0" y="191"/>
                    </a:lnTo>
                    <a:lnTo>
                      <a:pt x="0" y="169"/>
                    </a:lnTo>
                    <a:lnTo>
                      <a:pt x="0" y="136"/>
                    </a:lnTo>
                    <a:lnTo>
                      <a:pt x="0" y="113"/>
                    </a:lnTo>
                    <a:lnTo>
                      <a:pt x="0" y="80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6880680" y="3463920"/>
                <a:ext cx="8640" cy="78840"/>
              </a:xfrm>
              <a:custGeom>
                <a:avLst/>
                <a:gdLst/>
                <a:ahLst/>
                <a:rect l="l" t="t" r="r" b="b"/>
                <a:pathLst>
                  <a:path w="22" h="202">
                    <a:moveTo>
                      <a:pt x="22" y="202"/>
                    </a:moveTo>
                    <a:lnTo>
                      <a:pt x="10" y="190"/>
                    </a:lnTo>
                    <a:lnTo>
                      <a:pt x="10" y="180"/>
                    </a:lnTo>
                    <a:lnTo>
                      <a:pt x="10" y="168"/>
                    </a:lnTo>
                    <a:lnTo>
                      <a:pt x="10" y="157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0" y="68"/>
                    </a:lnTo>
                    <a:lnTo>
                      <a:pt x="0" y="56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10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6976440" y="3608280"/>
                <a:ext cx="375120" cy="650880"/>
              </a:xfrm>
              <a:custGeom>
                <a:avLst/>
                <a:gdLst/>
                <a:ahLst/>
                <a:rect l="l" t="t" r="r" b="b"/>
                <a:pathLst>
                  <a:path w="964" h="1670">
                    <a:moveTo>
                      <a:pt x="639" y="56"/>
                    </a:moveTo>
                    <a:lnTo>
                      <a:pt x="649" y="66"/>
                    </a:lnTo>
                    <a:lnTo>
                      <a:pt x="649" y="89"/>
                    </a:lnTo>
                    <a:lnTo>
                      <a:pt x="660" y="101"/>
                    </a:lnTo>
                    <a:lnTo>
                      <a:pt x="660" y="112"/>
                    </a:lnTo>
                    <a:lnTo>
                      <a:pt x="672" y="122"/>
                    </a:lnTo>
                    <a:lnTo>
                      <a:pt x="672" y="134"/>
                    </a:lnTo>
                    <a:lnTo>
                      <a:pt x="683" y="145"/>
                    </a:lnTo>
                    <a:lnTo>
                      <a:pt x="683" y="157"/>
                    </a:lnTo>
                    <a:lnTo>
                      <a:pt x="695" y="167"/>
                    </a:lnTo>
                    <a:lnTo>
                      <a:pt x="707" y="190"/>
                    </a:lnTo>
                    <a:lnTo>
                      <a:pt x="707" y="201"/>
                    </a:lnTo>
                    <a:lnTo>
                      <a:pt x="717" y="213"/>
                    </a:lnTo>
                    <a:lnTo>
                      <a:pt x="717" y="223"/>
                    </a:lnTo>
                    <a:lnTo>
                      <a:pt x="729" y="235"/>
                    </a:lnTo>
                    <a:lnTo>
                      <a:pt x="729" y="246"/>
                    </a:lnTo>
                    <a:lnTo>
                      <a:pt x="740" y="257"/>
                    </a:lnTo>
                    <a:lnTo>
                      <a:pt x="752" y="292"/>
                    </a:lnTo>
                    <a:lnTo>
                      <a:pt x="762" y="325"/>
                    </a:lnTo>
                    <a:lnTo>
                      <a:pt x="774" y="348"/>
                    </a:lnTo>
                    <a:lnTo>
                      <a:pt x="796" y="381"/>
                    </a:lnTo>
                    <a:lnTo>
                      <a:pt x="807" y="415"/>
                    </a:lnTo>
                    <a:lnTo>
                      <a:pt x="818" y="437"/>
                    </a:lnTo>
                    <a:lnTo>
                      <a:pt x="841" y="470"/>
                    </a:lnTo>
                    <a:lnTo>
                      <a:pt x="851" y="504"/>
                    </a:lnTo>
                    <a:lnTo>
                      <a:pt x="863" y="526"/>
                    </a:lnTo>
                    <a:lnTo>
                      <a:pt x="874" y="559"/>
                    </a:lnTo>
                    <a:lnTo>
                      <a:pt x="897" y="594"/>
                    </a:lnTo>
                    <a:lnTo>
                      <a:pt x="907" y="616"/>
                    </a:lnTo>
                    <a:lnTo>
                      <a:pt x="919" y="650"/>
                    </a:lnTo>
                    <a:lnTo>
                      <a:pt x="930" y="683"/>
                    </a:lnTo>
                    <a:lnTo>
                      <a:pt x="952" y="707"/>
                    </a:lnTo>
                    <a:lnTo>
                      <a:pt x="964" y="740"/>
                    </a:lnTo>
                    <a:lnTo>
                      <a:pt x="952" y="773"/>
                    </a:lnTo>
                    <a:lnTo>
                      <a:pt x="942" y="807"/>
                    </a:lnTo>
                    <a:lnTo>
                      <a:pt x="930" y="852"/>
                    </a:lnTo>
                    <a:lnTo>
                      <a:pt x="907" y="885"/>
                    </a:lnTo>
                    <a:lnTo>
                      <a:pt x="897" y="919"/>
                    </a:lnTo>
                    <a:lnTo>
                      <a:pt x="886" y="953"/>
                    </a:lnTo>
                    <a:lnTo>
                      <a:pt x="863" y="986"/>
                    </a:lnTo>
                    <a:lnTo>
                      <a:pt x="851" y="1019"/>
                    </a:lnTo>
                    <a:lnTo>
                      <a:pt x="830" y="1054"/>
                    </a:lnTo>
                    <a:lnTo>
                      <a:pt x="807" y="1087"/>
                    </a:lnTo>
                    <a:lnTo>
                      <a:pt x="796" y="1121"/>
                    </a:lnTo>
                    <a:lnTo>
                      <a:pt x="774" y="1155"/>
                    </a:lnTo>
                    <a:lnTo>
                      <a:pt x="762" y="1188"/>
                    </a:lnTo>
                    <a:lnTo>
                      <a:pt x="740" y="1222"/>
                    </a:lnTo>
                    <a:lnTo>
                      <a:pt x="717" y="1256"/>
                    </a:lnTo>
                    <a:lnTo>
                      <a:pt x="707" y="1289"/>
                    </a:lnTo>
                    <a:lnTo>
                      <a:pt x="695" y="1311"/>
                    </a:lnTo>
                    <a:lnTo>
                      <a:pt x="672" y="1334"/>
                    </a:lnTo>
                    <a:lnTo>
                      <a:pt x="660" y="1357"/>
                    </a:lnTo>
                    <a:lnTo>
                      <a:pt x="649" y="1378"/>
                    </a:lnTo>
                    <a:lnTo>
                      <a:pt x="639" y="1401"/>
                    </a:lnTo>
                    <a:lnTo>
                      <a:pt x="627" y="1435"/>
                    </a:lnTo>
                    <a:lnTo>
                      <a:pt x="616" y="1456"/>
                    </a:lnTo>
                    <a:lnTo>
                      <a:pt x="604" y="1479"/>
                    </a:lnTo>
                    <a:lnTo>
                      <a:pt x="583" y="1502"/>
                    </a:lnTo>
                    <a:lnTo>
                      <a:pt x="571" y="1524"/>
                    </a:lnTo>
                    <a:lnTo>
                      <a:pt x="560" y="1547"/>
                    </a:lnTo>
                    <a:lnTo>
                      <a:pt x="549" y="1569"/>
                    </a:lnTo>
                    <a:lnTo>
                      <a:pt x="538" y="1592"/>
                    </a:lnTo>
                    <a:lnTo>
                      <a:pt x="515" y="1614"/>
                    </a:lnTo>
                    <a:lnTo>
                      <a:pt x="505" y="1648"/>
                    </a:lnTo>
                    <a:lnTo>
                      <a:pt x="493" y="1670"/>
                    </a:lnTo>
                    <a:lnTo>
                      <a:pt x="459" y="1670"/>
                    </a:lnTo>
                    <a:lnTo>
                      <a:pt x="426" y="1614"/>
                    </a:lnTo>
                    <a:lnTo>
                      <a:pt x="404" y="1559"/>
                    </a:lnTo>
                    <a:lnTo>
                      <a:pt x="370" y="1512"/>
                    </a:lnTo>
                    <a:lnTo>
                      <a:pt x="348" y="1456"/>
                    </a:lnTo>
                    <a:lnTo>
                      <a:pt x="325" y="1412"/>
                    </a:lnTo>
                    <a:lnTo>
                      <a:pt x="292" y="1357"/>
                    </a:lnTo>
                    <a:lnTo>
                      <a:pt x="268" y="1301"/>
                    </a:lnTo>
                    <a:lnTo>
                      <a:pt x="235" y="1256"/>
                    </a:lnTo>
                    <a:lnTo>
                      <a:pt x="202" y="1200"/>
                    </a:lnTo>
                    <a:lnTo>
                      <a:pt x="179" y="1155"/>
                    </a:lnTo>
                    <a:lnTo>
                      <a:pt x="145" y="1098"/>
                    </a:lnTo>
                    <a:lnTo>
                      <a:pt x="123" y="1054"/>
                    </a:lnTo>
                    <a:lnTo>
                      <a:pt x="89" y="997"/>
                    </a:lnTo>
                    <a:lnTo>
                      <a:pt x="56" y="953"/>
                    </a:lnTo>
                    <a:lnTo>
                      <a:pt x="33" y="897"/>
                    </a:lnTo>
                    <a:lnTo>
                      <a:pt x="0" y="852"/>
                    </a:lnTo>
                    <a:lnTo>
                      <a:pt x="0" y="818"/>
                    </a:lnTo>
                    <a:lnTo>
                      <a:pt x="0" y="773"/>
                    </a:lnTo>
                    <a:lnTo>
                      <a:pt x="0" y="740"/>
                    </a:lnTo>
                    <a:lnTo>
                      <a:pt x="12" y="707"/>
                    </a:lnTo>
                    <a:lnTo>
                      <a:pt x="12" y="672"/>
                    </a:lnTo>
                    <a:lnTo>
                      <a:pt x="12" y="627"/>
                    </a:lnTo>
                    <a:lnTo>
                      <a:pt x="12" y="594"/>
                    </a:lnTo>
                    <a:lnTo>
                      <a:pt x="12" y="559"/>
                    </a:lnTo>
                    <a:lnTo>
                      <a:pt x="22" y="526"/>
                    </a:lnTo>
                    <a:lnTo>
                      <a:pt x="22" y="482"/>
                    </a:lnTo>
                    <a:lnTo>
                      <a:pt x="22" y="448"/>
                    </a:lnTo>
                    <a:lnTo>
                      <a:pt x="22" y="415"/>
                    </a:lnTo>
                    <a:lnTo>
                      <a:pt x="22" y="369"/>
                    </a:lnTo>
                    <a:lnTo>
                      <a:pt x="22" y="336"/>
                    </a:lnTo>
                    <a:lnTo>
                      <a:pt x="22" y="303"/>
                    </a:lnTo>
                    <a:lnTo>
                      <a:pt x="33" y="268"/>
                    </a:lnTo>
                    <a:lnTo>
                      <a:pt x="33" y="257"/>
                    </a:lnTo>
                    <a:lnTo>
                      <a:pt x="45" y="257"/>
                    </a:lnTo>
                    <a:lnTo>
                      <a:pt x="56" y="246"/>
                    </a:lnTo>
                    <a:lnTo>
                      <a:pt x="67" y="246"/>
                    </a:lnTo>
                    <a:lnTo>
                      <a:pt x="78" y="246"/>
                    </a:lnTo>
                    <a:lnTo>
                      <a:pt x="89" y="246"/>
                    </a:lnTo>
                    <a:lnTo>
                      <a:pt x="101" y="235"/>
                    </a:lnTo>
                    <a:lnTo>
                      <a:pt x="111" y="235"/>
                    </a:lnTo>
                    <a:lnTo>
                      <a:pt x="123" y="235"/>
                    </a:lnTo>
                    <a:lnTo>
                      <a:pt x="157" y="223"/>
                    </a:lnTo>
                    <a:lnTo>
                      <a:pt x="190" y="201"/>
                    </a:lnTo>
                    <a:lnTo>
                      <a:pt x="223" y="190"/>
                    </a:lnTo>
                    <a:lnTo>
                      <a:pt x="257" y="178"/>
                    </a:lnTo>
                    <a:lnTo>
                      <a:pt x="280" y="167"/>
                    </a:lnTo>
                    <a:lnTo>
                      <a:pt x="315" y="157"/>
                    </a:lnTo>
                    <a:lnTo>
                      <a:pt x="348" y="134"/>
                    </a:lnTo>
                    <a:lnTo>
                      <a:pt x="381" y="122"/>
                    </a:lnTo>
                    <a:lnTo>
                      <a:pt x="414" y="112"/>
                    </a:lnTo>
                    <a:lnTo>
                      <a:pt x="449" y="89"/>
                    </a:lnTo>
                    <a:lnTo>
                      <a:pt x="470" y="78"/>
                    </a:lnTo>
                    <a:lnTo>
                      <a:pt x="505" y="66"/>
                    </a:lnTo>
                    <a:lnTo>
                      <a:pt x="538" y="45"/>
                    </a:lnTo>
                    <a:lnTo>
                      <a:pt x="571" y="33"/>
                    </a:lnTo>
                    <a:lnTo>
                      <a:pt x="604" y="22"/>
                    </a:lnTo>
                    <a:lnTo>
                      <a:pt x="627" y="0"/>
                    </a:lnTo>
                    <a:lnTo>
                      <a:pt x="639" y="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7225560" y="3629520"/>
                <a:ext cx="39600" cy="79200"/>
              </a:xfrm>
              <a:custGeom>
                <a:avLst/>
                <a:gdLst/>
                <a:ahLst/>
                <a:rect l="l" t="t" r="r" b="b"/>
                <a:pathLst>
                  <a:path w="101" h="201">
                    <a:moveTo>
                      <a:pt x="0" y="0"/>
                    </a:moveTo>
                    <a:lnTo>
                      <a:pt x="10" y="10"/>
                    </a:lnTo>
                    <a:lnTo>
                      <a:pt x="10" y="33"/>
                    </a:lnTo>
                    <a:lnTo>
                      <a:pt x="21" y="45"/>
                    </a:lnTo>
                    <a:lnTo>
                      <a:pt x="21" y="56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44" y="89"/>
                    </a:lnTo>
                    <a:lnTo>
                      <a:pt x="44" y="101"/>
                    </a:lnTo>
                    <a:lnTo>
                      <a:pt x="56" y="111"/>
                    </a:lnTo>
                    <a:lnTo>
                      <a:pt x="68" y="134"/>
                    </a:lnTo>
                    <a:lnTo>
                      <a:pt x="68" y="145"/>
                    </a:lnTo>
                    <a:lnTo>
                      <a:pt x="78" y="157"/>
                    </a:lnTo>
                    <a:lnTo>
                      <a:pt x="78" y="167"/>
                    </a:lnTo>
                    <a:lnTo>
                      <a:pt x="90" y="179"/>
                    </a:lnTo>
                    <a:lnTo>
                      <a:pt x="90" y="190"/>
                    </a:lnTo>
                    <a:lnTo>
                      <a:pt x="101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7265160" y="3709080"/>
                <a:ext cx="86040" cy="189000"/>
              </a:xfrm>
              <a:custGeom>
                <a:avLst/>
                <a:gdLst/>
                <a:ahLst/>
                <a:rect l="l" t="t" r="r" b="b"/>
                <a:pathLst>
                  <a:path w="224" h="483">
                    <a:moveTo>
                      <a:pt x="0" y="0"/>
                    </a:moveTo>
                    <a:lnTo>
                      <a:pt x="12" y="35"/>
                    </a:lnTo>
                    <a:lnTo>
                      <a:pt x="22" y="68"/>
                    </a:lnTo>
                    <a:lnTo>
                      <a:pt x="34" y="91"/>
                    </a:lnTo>
                    <a:lnTo>
                      <a:pt x="56" y="124"/>
                    </a:lnTo>
                    <a:lnTo>
                      <a:pt x="67" y="158"/>
                    </a:lnTo>
                    <a:lnTo>
                      <a:pt x="78" y="180"/>
                    </a:lnTo>
                    <a:lnTo>
                      <a:pt x="101" y="213"/>
                    </a:lnTo>
                    <a:lnTo>
                      <a:pt x="111" y="247"/>
                    </a:lnTo>
                    <a:lnTo>
                      <a:pt x="123" y="269"/>
                    </a:lnTo>
                    <a:lnTo>
                      <a:pt x="134" y="302"/>
                    </a:lnTo>
                    <a:lnTo>
                      <a:pt x="157" y="337"/>
                    </a:lnTo>
                    <a:lnTo>
                      <a:pt x="167" y="359"/>
                    </a:lnTo>
                    <a:lnTo>
                      <a:pt x="179" y="393"/>
                    </a:lnTo>
                    <a:lnTo>
                      <a:pt x="190" y="426"/>
                    </a:lnTo>
                    <a:lnTo>
                      <a:pt x="212" y="450"/>
                    </a:lnTo>
                    <a:lnTo>
                      <a:pt x="224" y="4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7251480" y="3898080"/>
                <a:ext cx="99720" cy="212040"/>
              </a:xfrm>
              <a:custGeom>
                <a:avLst/>
                <a:gdLst/>
                <a:ahLst/>
                <a:rect l="l" t="t" r="r" b="b"/>
                <a:pathLst>
                  <a:path w="257" h="549">
                    <a:moveTo>
                      <a:pt x="257" y="0"/>
                    </a:moveTo>
                    <a:lnTo>
                      <a:pt x="245" y="33"/>
                    </a:lnTo>
                    <a:lnTo>
                      <a:pt x="235" y="67"/>
                    </a:lnTo>
                    <a:lnTo>
                      <a:pt x="223" y="112"/>
                    </a:lnTo>
                    <a:lnTo>
                      <a:pt x="200" y="145"/>
                    </a:lnTo>
                    <a:lnTo>
                      <a:pt x="190" y="179"/>
                    </a:lnTo>
                    <a:lnTo>
                      <a:pt x="179" y="213"/>
                    </a:lnTo>
                    <a:lnTo>
                      <a:pt x="156" y="246"/>
                    </a:lnTo>
                    <a:lnTo>
                      <a:pt x="144" y="279"/>
                    </a:lnTo>
                    <a:lnTo>
                      <a:pt x="123" y="314"/>
                    </a:lnTo>
                    <a:lnTo>
                      <a:pt x="100" y="347"/>
                    </a:lnTo>
                    <a:lnTo>
                      <a:pt x="89" y="381"/>
                    </a:lnTo>
                    <a:lnTo>
                      <a:pt x="67" y="415"/>
                    </a:lnTo>
                    <a:lnTo>
                      <a:pt x="55" y="448"/>
                    </a:lnTo>
                    <a:lnTo>
                      <a:pt x="33" y="482"/>
                    </a:lnTo>
                    <a:lnTo>
                      <a:pt x="10" y="516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7170120" y="4110120"/>
                <a:ext cx="81360" cy="149040"/>
              </a:xfrm>
              <a:custGeom>
                <a:avLst/>
                <a:gdLst/>
                <a:ahLst/>
                <a:rect l="l" t="t" r="r" b="b"/>
                <a:pathLst>
                  <a:path w="214" h="381">
                    <a:moveTo>
                      <a:pt x="214" y="0"/>
                    </a:moveTo>
                    <a:lnTo>
                      <a:pt x="202" y="22"/>
                    </a:lnTo>
                    <a:lnTo>
                      <a:pt x="179" y="45"/>
                    </a:lnTo>
                    <a:lnTo>
                      <a:pt x="167" y="68"/>
                    </a:lnTo>
                    <a:lnTo>
                      <a:pt x="156" y="89"/>
                    </a:lnTo>
                    <a:lnTo>
                      <a:pt x="146" y="112"/>
                    </a:lnTo>
                    <a:lnTo>
                      <a:pt x="134" y="146"/>
                    </a:lnTo>
                    <a:lnTo>
                      <a:pt x="123" y="167"/>
                    </a:lnTo>
                    <a:lnTo>
                      <a:pt x="111" y="190"/>
                    </a:lnTo>
                    <a:lnTo>
                      <a:pt x="90" y="213"/>
                    </a:lnTo>
                    <a:lnTo>
                      <a:pt x="78" y="235"/>
                    </a:lnTo>
                    <a:lnTo>
                      <a:pt x="67" y="258"/>
                    </a:lnTo>
                    <a:lnTo>
                      <a:pt x="56" y="280"/>
                    </a:lnTo>
                    <a:lnTo>
                      <a:pt x="45" y="303"/>
                    </a:lnTo>
                    <a:lnTo>
                      <a:pt x="22" y="325"/>
                    </a:lnTo>
                    <a:lnTo>
                      <a:pt x="12" y="359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6976440" y="3939840"/>
                <a:ext cx="179280" cy="319680"/>
              </a:xfrm>
              <a:custGeom>
                <a:avLst/>
                <a:gdLst/>
                <a:ahLst/>
                <a:rect l="l" t="t" r="r" b="b"/>
                <a:pathLst>
                  <a:path w="459" h="818">
                    <a:moveTo>
                      <a:pt x="459" y="818"/>
                    </a:moveTo>
                    <a:lnTo>
                      <a:pt x="426" y="762"/>
                    </a:lnTo>
                    <a:lnTo>
                      <a:pt x="404" y="707"/>
                    </a:lnTo>
                    <a:lnTo>
                      <a:pt x="370" y="660"/>
                    </a:lnTo>
                    <a:lnTo>
                      <a:pt x="348" y="604"/>
                    </a:lnTo>
                    <a:lnTo>
                      <a:pt x="325" y="560"/>
                    </a:lnTo>
                    <a:lnTo>
                      <a:pt x="292" y="505"/>
                    </a:lnTo>
                    <a:lnTo>
                      <a:pt x="268" y="449"/>
                    </a:lnTo>
                    <a:lnTo>
                      <a:pt x="235" y="404"/>
                    </a:lnTo>
                    <a:lnTo>
                      <a:pt x="202" y="348"/>
                    </a:lnTo>
                    <a:lnTo>
                      <a:pt x="179" y="303"/>
                    </a:lnTo>
                    <a:lnTo>
                      <a:pt x="145" y="246"/>
                    </a:lnTo>
                    <a:lnTo>
                      <a:pt x="123" y="202"/>
                    </a:lnTo>
                    <a:lnTo>
                      <a:pt x="89" y="145"/>
                    </a:lnTo>
                    <a:lnTo>
                      <a:pt x="56" y="101"/>
                    </a:lnTo>
                    <a:lnTo>
                      <a:pt x="33" y="4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6976440" y="3713040"/>
                <a:ext cx="13680" cy="226440"/>
              </a:xfrm>
              <a:custGeom>
                <a:avLst/>
                <a:gdLst/>
                <a:ahLst/>
                <a:rect l="l" t="t" r="r" b="b"/>
                <a:pathLst>
                  <a:path w="33" h="584">
                    <a:moveTo>
                      <a:pt x="0" y="584"/>
                    </a:moveTo>
                    <a:lnTo>
                      <a:pt x="0" y="550"/>
                    </a:lnTo>
                    <a:lnTo>
                      <a:pt x="0" y="505"/>
                    </a:lnTo>
                    <a:lnTo>
                      <a:pt x="0" y="472"/>
                    </a:lnTo>
                    <a:lnTo>
                      <a:pt x="12" y="439"/>
                    </a:lnTo>
                    <a:lnTo>
                      <a:pt x="12" y="404"/>
                    </a:lnTo>
                    <a:lnTo>
                      <a:pt x="12" y="359"/>
                    </a:lnTo>
                    <a:lnTo>
                      <a:pt x="12" y="326"/>
                    </a:lnTo>
                    <a:lnTo>
                      <a:pt x="12" y="291"/>
                    </a:lnTo>
                    <a:lnTo>
                      <a:pt x="22" y="258"/>
                    </a:lnTo>
                    <a:lnTo>
                      <a:pt x="22" y="214"/>
                    </a:lnTo>
                    <a:lnTo>
                      <a:pt x="22" y="180"/>
                    </a:lnTo>
                    <a:lnTo>
                      <a:pt x="22" y="147"/>
                    </a:lnTo>
                    <a:lnTo>
                      <a:pt x="22" y="101"/>
                    </a:lnTo>
                    <a:lnTo>
                      <a:pt x="22" y="68"/>
                    </a:lnTo>
                    <a:lnTo>
                      <a:pt x="22" y="35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7025040" y="3608280"/>
                <a:ext cx="196200" cy="90720"/>
              </a:xfrm>
              <a:custGeom>
                <a:avLst/>
                <a:gdLst/>
                <a:ahLst/>
                <a:rect l="l" t="t" r="r" b="b"/>
                <a:pathLst>
                  <a:path w="504" h="235">
                    <a:moveTo>
                      <a:pt x="0" y="235"/>
                    </a:moveTo>
                    <a:lnTo>
                      <a:pt x="34" y="223"/>
                    </a:lnTo>
                    <a:lnTo>
                      <a:pt x="67" y="201"/>
                    </a:lnTo>
                    <a:lnTo>
                      <a:pt x="100" y="190"/>
                    </a:lnTo>
                    <a:lnTo>
                      <a:pt x="134" y="178"/>
                    </a:lnTo>
                    <a:lnTo>
                      <a:pt x="157" y="167"/>
                    </a:lnTo>
                    <a:lnTo>
                      <a:pt x="192" y="157"/>
                    </a:lnTo>
                    <a:lnTo>
                      <a:pt x="225" y="134"/>
                    </a:lnTo>
                    <a:lnTo>
                      <a:pt x="258" y="122"/>
                    </a:lnTo>
                    <a:lnTo>
                      <a:pt x="291" y="112"/>
                    </a:lnTo>
                    <a:lnTo>
                      <a:pt x="326" y="89"/>
                    </a:lnTo>
                    <a:lnTo>
                      <a:pt x="347" y="78"/>
                    </a:lnTo>
                    <a:lnTo>
                      <a:pt x="382" y="66"/>
                    </a:lnTo>
                    <a:lnTo>
                      <a:pt x="415" y="45"/>
                    </a:lnTo>
                    <a:lnTo>
                      <a:pt x="448" y="33"/>
                    </a:lnTo>
                    <a:lnTo>
                      <a:pt x="481" y="22"/>
                    </a:lnTo>
                    <a:lnTo>
                      <a:pt x="5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6999840" y="3629520"/>
                <a:ext cx="338040" cy="601920"/>
              </a:xfrm>
              <a:custGeom>
                <a:avLst/>
                <a:gdLst/>
                <a:ahLst/>
                <a:rect l="l" t="t" r="r" b="b"/>
                <a:pathLst>
                  <a:path w="874" h="1548">
                    <a:moveTo>
                      <a:pt x="874" y="707"/>
                    </a:moveTo>
                    <a:lnTo>
                      <a:pt x="863" y="729"/>
                    </a:lnTo>
                    <a:lnTo>
                      <a:pt x="851" y="762"/>
                    </a:lnTo>
                    <a:lnTo>
                      <a:pt x="841" y="796"/>
                    </a:lnTo>
                    <a:lnTo>
                      <a:pt x="830" y="818"/>
                    </a:lnTo>
                    <a:lnTo>
                      <a:pt x="807" y="852"/>
                    </a:lnTo>
                    <a:lnTo>
                      <a:pt x="795" y="885"/>
                    </a:lnTo>
                    <a:lnTo>
                      <a:pt x="785" y="907"/>
                    </a:lnTo>
                    <a:lnTo>
                      <a:pt x="762" y="941"/>
                    </a:lnTo>
                    <a:lnTo>
                      <a:pt x="751" y="963"/>
                    </a:lnTo>
                    <a:lnTo>
                      <a:pt x="740" y="998"/>
                    </a:lnTo>
                    <a:lnTo>
                      <a:pt x="718" y="1019"/>
                    </a:lnTo>
                    <a:lnTo>
                      <a:pt x="706" y="1054"/>
                    </a:lnTo>
                    <a:lnTo>
                      <a:pt x="696" y="1076"/>
                    </a:lnTo>
                    <a:lnTo>
                      <a:pt x="673" y="1111"/>
                    </a:lnTo>
                    <a:lnTo>
                      <a:pt x="661" y="1132"/>
                    </a:lnTo>
                    <a:lnTo>
                      <a:pt x="651" y="1166"/>
                    </a:lnTo>
                    <a:lnTo>
                      <a:pt x="639" y="1189"/>
                    </a:lnTo>
                    <a:lnTo>
                      <a:pt x="627" y="1210"/>
                    </a:lnTo>
                    <a:lnTo>
                      <a:pt x="604" y="1233"/>
                    </a:lnTo>
                    <a:lnTo>
                      <a:pt x="593" y="1266"/>
                    </a:lnTo>
                    <a:lnTo>
                      <a:pt x="583" y="1289"/>
                    </a:lnTo>
                    <a:lnTo>
                      <a:pt x="571" y="1311"/>
                    </a:lnTo>
                    <a:lnTo>
                      <a:pt x="560" y="1334"/>
                    </a:lnTo>
                    <a:lnTo>
                      <a:pt x="538" y="1356"/>
                    </a:lnTo>
                    <a:lnTo>
                      <a:pt x="527" y="1379"/>
                    </a:lnTo>
                    <a:lnTo>
                      <a:pt x="515" y="1400"/>
                    </a:lnTo>
                    <a:lnTo>
                      <a:pt x="504" y="1423"/>
                    </a:lnTo>
                    <a:lnTo>
                      <a:pt x="482" y="1446"/>
                    </a:lnTo>
                    <a:lnTo>
                      <a:pt x="470" y="1480"/>
                    </a:lnTo>
                    <a:lnTo>
                      <a:pt x="459" y="1503"/>
                    </a:lnTo>
                    <a:lnTo>
                      <a:pt x="449" y="1525"/>
                    </a:lnTo>
                    <a:lnTo>
                      <a:pt x="437" y="1548"/>
                    </a:lnTo>
                    <a:lnTo>
                      <a:pt x="426" y="1536"/>
                    </a:lnTo>
                    <a:lnTo>
                      <a:pt x="414" y="1513"/>
                    </a:lnTo>
                    <a:lnTo>
                      <a:pt x="403" y="1503"/>
                    </a:lnTo>
                    <a:lnTo>
                      <a:pt x="393" y="1491"/>
                    </a:lnTo>
                    <a:lnTo>
                      <a:pt x="393" y="1468"/>
                    </a:lnTo>
                    <a:lnTo>
                      <a:pt x="381" y="1456"/>
                    </a:lnTo>
                    <a:lnTo>
                      <a:pt x="370" y="1446"/>
                    </a:lnTo>
                    <a:lnTo>
                      <a:pt x="370" y="1423"/>
                    </a:lnTo>
                    <a:lnTo>
                      <a:pt x="358" y="1412"/>
                    </a:lnTo>
                    <a:lnTo>
                      <a:pt x="348" y="1390"/>
                    </a:lnTo>
                    <a:lnTo>
                      <a:pt x="337" y="1379"/>
                    </a:lnTo>
                    <a:lnTo>
                      <a:pt x="325" y="1356"/>
                    </a:lnTo>
                    <a:lnTo>
                      <a:pt x="325" y="1345"/>
                    </a:lnTo>
                    <a:lnTo>
                      <a:pt x="314" y="1334"/>
                    </a:lnTo>
                    <a:lnTo>
                      <a:pt x="302" y="1322"/>
                    </a:lnTo>
                    <a:lnTo>
                      <a:pt x="292" y="1301"/>
                    </a:lnTo>
                    <a:lnTo>
                      <a:pt x="280" y="1278"/>
                    </a:lnTo>
                    <a:lnTo>
                      <a:pt x="259" y="1255"/>
                    </a:lnTo>
                    <a:lnTo>
                      <a:pt x="247" y="1222"/>
                    </a:lnTo>
                    <a:lnTo>
                      <a:pt x="236" y="1200"/>
                    </a:lnTo>
                    <a:lnTo>
                      <a:pt x="212" y="1166"/>
                    </a:lnTo>
                    <a:lnTo>
                      <a:pt x="201" y="1144"/>
                    </a:lnTo>
                    <a:lnTo>
                      <a:pt x="190" y="1111"/>
                    </a:lnTo>
                    <a:lnTo>
                      <a:pt x="179" y="1088"/>
                    </a:lnTo>
                    <a:lnTo>
                      <a:pt x="167" y="1054"/>
                    </a:lnTo>
                    <a:lnTo>
                      <a:pt x="146" y="1031"/>
                    </a:lnTo>
                    <a:lnTo>
                      <a:pt x="134" y="998"/>
                    </a:lnTo>
                    <a:lnTo>
                      <a:pt x="123" y="975"/>
                    </a:lnTo>
                    <a:lnTo>
                      <a:pt x="101" y="941"/>
                    </a:lnTo>
                    <a:lnTo>
                      <a:pt x="89" y="919"/>
                    </a:lnTo>
                    <a:lnTo>
                      <a:pt x="67" y="897"/>
                    </a:lnTo>
                    <a:lnTo>
                      <a:pt x="55" y="863"/>
                    </a:lnTo>
                    <a:lnTo>
                      <a:pt x="45" y="852"/>
                    </a:lnTo>
                    <a:lnTo>
                      <a:pt x="33" y="829"/>
                    </a:lnTo>
                    <a:lnTo>
                      <a:pt x="33" y="818"/>
                    </a:lnTo>
                    <a:lnTo>
                      <a:pt x="22" y="796"/>
                    </a:lnTo>
                    <a:lnTo>
                      <a:pt x="22" y="785"/>
                    </a:lnTo>
                    <a:lnTo>
                      <a:pt x="22" y="762"/>
                    </a:lnTo>
                    <a:lnTo>
                      <a:pt x="22" y="740"/>
                    </a:lnTo>
                    <a:lnTo>
                      <a:pt x="22" y="717"/>
                    </a:lnTo>
                    <a:lnTo>
                      <a:pt x="22" y="707"/>
                    </a:lnTo>
                    <a:lnTo>
                      <a:pt x="22" y="684"/>
                    </a:lnTo>
                    <a:lnTo>
                      <a:pt x="22" y="661"/>
                    </a:lnTo>
                    <a:lnTo>
                      <a:pt x="22" y="639"/>
                    </a:lnTo>
                    <a:lnTo>
                      <a:pt x="22" y="627"/>
                    </a:lnTo>
                    <a:lnTo>
                      <a:pt x="22" y="604"/>
                    </a:lnTo>
                    <a:lnTo>
                      <a:pt x="22" y="582"/>
                    </a:lnTo>
                    <a:lnTo>
                      <a:pt x="22" y="560"/>
                    </a:lnTo>
                    <a:lnTo>
                      <a:pt x="11" y="549"/>
                    </a:lnTo>
                    <a:lnTo>
                      <a:pt x="11" y="538"/>
                    </a:lnTo>
                    <a:lnTo>
                      <a:pt x="11" y="526"/>
                    </a:lnTo>
                    <a:lnTo>
                      <a:pt x="11" y="515"/>
                    </a:lnTo>
                    <a:lnTo>
                      <a:pt x="11" y="503"/>
                    </a:lnTo>
                    <a:lnTo>
                      <a:pt x="11" y="493"/>
                    </a:lnTo>
                    <a:lnTo>
                      <a:pt x="11" y="470"/>
                    </a:lnTo>
                    <a:lnTo>
                      <a:pt x="11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11" y="414"/>
                    </a:lnTo>
                    <a:lnTo>
                      <a:pt x="11" y="404"/>
                    </a:lnTo>
                    <a:lnTo>
                      <a:pt x="11" y="392"/>
                    </a:lnTo>
                    <a:lnTo>
                      <a:pt x="11" y="381"/>
                    </a:lnTo>
                    <a:lnTo>
                      <a:pt x="0" y="370"/>
                    </a:lnTo>
                    <a:lnTo>
                      <a:pt x="0" y="359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0" y="325"/>
                    </a:lnTo>
                    <a:lnTo>
                      <a:pt x="0" y="313"/>
                    </a:lnTo>
                    <a:lnTo>
                      <a:pt x="0" y="303"/>
                    </a:lnTo>
                    <a:lnTo>
                      <a:pt x="0" y="292"/>
                    </a:lnTo>
                    <a:lnTo>
                      <a:pt x="0" y="280"/>
                    </a:lnTo>
                    <a:lnTo>
                      <a:pt x="0" y="269"/>
                    </a:lnTo>
                    <a:lnTo>
                      <a:pt x="0" y="258"/>
                    </a:lnTo>
                    <a:lnTo>
                      <a:pt x="0" y="247"/>
                    </a:lnTo>
                    <a:lnTo>
                      <a:pt x="11" y="236"/>
                    </a:lnTo>
                    <a:lnTo>
                      <a:pt x="33" y="236"/>
                    </a:lnTo>
                    <a:lnTo>
                      <a:pt x="45" y="224"/>
                    </a:lnTo>
                    <a:lnTo>
                      <a:pt x="55" y="224"/>
                    </a:lnTo>
                    <a:lnTo>
                      <a:pt x="67" y="212"/>
                    </a:lnTo>
                    <a:lnTo>
                      <a:pt x="78" y="212"/>
                    </a:lnTo>
                    <a:lnTo>
                      <a:pt x="89" y="212"/>
                    </a:lnTo>
                    <a:lnTo>
                      <a:pt x="101" y="201"/>
                    </a:lnTo>
                    <a:lnTo>
                      <a:pt x="111" y="201"/>
                    </a:lnTo>
                    <a:lnTo>
                      <a:pt x="123" y="190"/>
                    </a:lnTo>
                    <a:lnTo>
                      <a:pt x="134" y="190"/>
                    </a:lnTo>
                    <a:lnTo>
                      <a:pt x="156" y="179"/>
                    </a:lnTo>
                    <a:lnTo>
                      <a:pt x="167" y="179"/>
                    </a:lnTo>
                    <a:lnTo>
                      <a:pt x="179" y="179"/>
                    </a:lnTo>
                    <a:lnTo>
                      <a:pt x="190" y="167"/>
                    </a:lnTo>
                    <a:lnTo>
                      <a:pt x="201" y="157"/>
                    </a:lnTo>
                    <a:lnTo>
                      <a:pt x="224" y="157"/>
                    </a:lnTo>
                    <a:lnTo>
                      <a:pt x="247" y="145"/>
                    </a:lnTo>
                    <a:lnTo>
                      <a:pt x="269" y="134"/>
                    </a:lnTo>
                    <a:lnTo>
                      <a:pt x="292" y="134"/>
                    </a:lnTo>
                    <a:lnTo>
                      <a:pt x="314" y="122"/>
                    </a:lnTo>
                    <a:lnTo>
                      <a:pt x="337" y="111"/>
                    </a:lnTo>
                    <a:lnTo>
                      <a:pt x="358" y="101"/>
                    </a:lnTo>
                    <a:lnTo>
                      <a:pt x="381" y="89"/>
                    </a:lnTo>
                    <a:lnTo>
                      <a:pt x="403" y="78"/>
                    </a:lnTo>
                    <a:lnTo>
                      <a:pt x="426" y="66"/>
                    </a:lnTo>
                    <a:lnTo>
                      <a:pt x="449" y="56"/>
                    </a:lnTo>
                    <a:lnTo>
                      <a:pt x="470" y="45"/>
                    </a:lnTo>
                    <a:lnTo>
                      <a:pt x="493" y="33"/>
                    </a:lnTo>
                    <a:lnTo>
                      <a:pt x="504" y="22"/>
                    </a:lnTo>
                    <a:lnTo>
                      <a:pt x="527" y="10"/>
                    </a:lnTo>
                    <a:lnTo>
                      <a:pt x="548" y="0"/>
                    </a:lnTo>
                    <a:lnTo>
                      <a:pt x="571" y="45"/>
                    </a:lnTo>
                    <a:lnTo>
                      <a:pt x="593" y="89"/>
                    </a:lnTo>
                    <a:lnTo>
                      <a:pt x="604" y="134"/>
                    </a:lnTo>
                    <a:lnTo>
                      <a:pt x="627" y="179"/>
                    </a:lnTo>
                    <a:lnTo>
                      <a:pt x="651" y="224"/>
                    </a:lnTo>
                    <a:lnTo>
                      <a:pt x="661" y="269"/>
                    </a:lnTo>
                    <a:lnTo>
                      <a:pt x="684" y="313"/>
                    </a:lnTo>
                    <a:lnTo>
                      <a:pt x="706" y="359"/>
                    </a:lnTo>
                    <a:lnTo>
                      <a:pt x="729" y="404"/>
                    </a:lnTo>
                    <a:lnTo>
                      <a:pt x="751" y="448"/>
                    </a:lnTo>
                    <a:lnTo>
                      <a:pt x="762" y="493"/>
                    </a:lnTo>
                    <a:lnTo>
                      <a:pt x="785" y="526"/>
                    </a:lnTo>
                    <a:lnTo>
                      <a:pt x="807" y="571"/>
                    </a:lnTo>
                    <a:lnTo>
                      <a:pt x="830" y="616"/>
                    </a:lnTo>
                    <a:lnTo>
                      <a:pt x="851" y="661"/>
                    </a:lnTo>
                    <a:lnTo>
                      <a:pt x="874" y="707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7251480" y="3904920"/>
                <a:ext cx="86040" cy="180000"/>
              </a:xfrm>
              <a:custGeom>
                <a:avLst/>
                <a:gdLst/>
                <a:ahLst/>
                <a:rect l="l" t="t" r="r" b="b"/>
                <a:pathLst>
                  <a:path w="223" h="459">
                    <a:moveTo>
                      <a:pt x="223" y="0"/>
                    </a:moveTo>
                    <a:lnTo>
                      <a:pt x="212" y="22"/>
                    </a:lnTo>
                    <a:lnTo>
                      <a:pt x="200" y="55"/>
                    </a:lnTo>
                    <a:lnTo>
                      <a:pt x="190" y="89"/>
                    </a:lnTo>
                    <a:lnTo>
                      <a:pt x="179" y="111"/>
                    </a:lnTo>
                    <a:lnTo>
                      <a:pt x="156" y="145"/>
                    </a:lnTo>
                    <a:lnTo>
                      <a:pt x="144" y="178"/>
                    </a:lnTo>
                    <a:lnTo>
                      <a:pt x="134" y="200"/>
                    </a:lnTo>
                    <a:lnTo>
                      <a:pt x="111" y="234"/>
                    </a:lnTo>
                    <a:lnTo>
                      <a:pt x="100" y="256"/>
                    </a:lnTo>
                    <a:lnTo>
                      <a:pt x="89" y="291"/>
                    </a:lnTo>
                    <a:lnTo>
                      <a:pt x="67" y="312"/>
                    </a:lnTo>
                    <a:lnTo>
                      <a:pt x="55" y="347"/>
                    </a:lnTo>
                    <a:lnTo>
                      <a:pt x="45" y="369"/>
                    </a:lnTo>
                    <a:lnTo>
                      <a:pt x="22" y="404"/>
                    </a:lnTo>
                    <a:lnTo>
                      <a:pt x="10" y="425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7170120" y="4084920"/>
                <a:ext cx="81360" cy="14652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14" y="0"/>
                    </a:moveTo>
                    <a:lnTo>
                      <a:pt x="202" y="23"/>
                    </a:lnTo>
                    <a:lnTo>
                      <a:pt x="190" y="44"/>
                    </a:lnTo>
                    <a:lnTo>
                      <a:pt x="167" y="67"/>
                    </a:lnTo>
                    <a:lnTo>
                      <a:pt x="156" y="100"/>
                    </a:lnTo>
                    <a:lnTo>
                      <a:pt x="146" y="123"/>
                    </a:lnTo>
                    <a:lnTo>
                      <a:pt x="134" y="145"/>
                    </a:lnTo>
                    <a:lnTo>
                      <a:pt x="123" y="168"/>
                    </a:lnTo>
                    <a:lnTo>
                      <a:pt x="101" y="190"/>
                    </a:lnTo>
                    <a:lnTo>
                      <a:pt x="90" y="213"/>
                    </a:lnTo>
                    <a:lnTo>
                      <a:pt x="78" y="234"/>
                    </a:lnTo>
                    <a:lnTo>
                      <a:pt x="67" y="257"/>
                    </a:lnTo>
                    <a:lnTo>
                      <a:pt x="45" y="280"/>
                    </a:lnTo>
                    <a:lnTo>
                      <a:pt x="33" y="314"/>
                    </a:lnTo>
                    <a:lnTo>
                      <a:pt x="22" y="337"/>
                    </a:lnTo>
                    <a:lnTo>
                      <a:pt x="12" y="359"/>
                    </a:lnTo>
                    <a:lnTo>
                      <a:pt x="0" y="38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111440" y="413604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145" h="247">
                    <a:moveTo>
                      <a:pt x="145" y="247"/>
                    </a:moveTo>
                    <a:lnTo>
                      <a:pt x="134" y="235"/>
                    </a:lnTo>
                    <a:lnTo>
                      <a:pt x="122" y="212"/>
                    </a:lnTo>
                    <a:lnTo>
                      <a:pt x="111" y="202"/>
                    </a:lnTo>
                    <a:lnTo>
                      <a:pt x="101" y="190"/>
                    </a:lnTo>
                    <a:lnTo>
                      <a:pt x="101" y="167"/>
                    </a:lnTo>
                    <a:lnTo>
                      <a:pt x="89" y="155"/>
                    </a:lnTo>
                    <a:lnTo>
                      <a:pt x="78" y="145"/>
                    </a:lnTo>
                    <a:lnTo>
                      <a:pt x="78" y="122"/>
                    </a:lnTo>
                    <a:lnTo>
                      <a:pt x="66" y="111"/>
                    </a:lnTo>
                    <a:lnTo>
                      <a:pt x="56" y="89"/>
                    </a:lnTo>
                    <a:lnTo>
                      <a:pt x="45" y="78"/>
                    </a:lnTo>
                    <a:lnTo>
                      <a:pt x="33" y="55"/>
                    </a:lnTo>
                    <a:lnTo>
                      <a:pt x="33" y="44"/>
                    </a:lnTo>
                    <a:lnTo>
                      <a:pt x="22" y="33"/>
                    </a:lnTo>
                    <a:lnTo>
                      <a:pt x="1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7020360" y="3965760"/>
                <a:ext cx="90720" cy="170280"/>
              </a:xfrm>
              <a:custGeom>
                <a:avLst/>
                <a:gdLst/>
                <a:ahLst/>
                <a:rect l="l" t="t" r="r" b="b"/>
                <a:pathLst>
                  <a:path w="237" h="438">
                    <a:moveTo>
                      <a:pt x="237" y="438"/>
                    </a:moveTo>
                    <a:lnTo>
                      <a:pt x="225" y="415"/>
                    </a:lnTo>
                    <a:lnTo>
                      <a:pt x="204" y="392"/>
                    </a:lnTo>
                    <a:lnTo>
                      <a:pt x="192" y="359"/>
                    </a:lnTo>
                    <a:lnTo>
                      <a:pt x="181" y="337"/>
                    </a:lnTo>
                    <a:lnTo>
                      <a:pt x="157" y="303"/>
                    </a:lnTo>
                    <a:lnTo>
                      <a:pt x="146" y="281"/>
                    </a:lnTo>
                    <a:lnTo>
                      <a:pt x="135" y="248"/>
                    </a:lnTo>
                    <a:lnTo>
                      <a:pt x="124" y="225"/>
                    </a:lnTo>
                    <a:lnTo>
                      <a:pt x="112" y="191"/>
                    </a:lnTo>
                    <a:lnTo>
                      <a:pt x="91" y="168"/>
                    </a:lnTo>
                    <a:lnTo>
                      <a:pt x="79" y="135"/>
                    </a:lnTo>
                    <a:lnTo>
                      <a:pt x="68" y="112"/>
                    </a:lnTo>
                    <a:lnTo>
                      <a:pt x="46" y="78"/>
                    </a:lnTo>
                    <a:lnTo>
                      <a:pt x="34" y="56"/>
                    </a:lnTo>
                    <a:lnTo>
                      <a:pt x="12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7008840" y="3848760"/>
                <a:ext cx="11520" cy="117000"/>
              </a:xfrm>
              <a:custGeom>
                <a:avLst/>
                <a:gdLst/>
                <a:ahLst/>
                <a:rect l="l" t="t" r="r" b="b"/>
                <a:pathLst>
                  <a:path w="33" h="303">
                    <a:moveTo>
                      <a:pt x="33" y="303"/>
                    </a:moveTo>
                    <a:lnTo>
                      <a:pt x="23" y="292"/>
                    </a:lnTo>
                    <a:lnTo>
                      <a:pt x="11" y="269"/>
                    </a:lnTo>
                    <a:lnTo>
                      <a:pt x="11" y="258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0" y="202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0" y="147"/>
                    </a:lnTo>
                    <a:lnTo>
                      <a:pt x="0" y="124"/>
                    </a:lnTo>
                    <a:lnTo>
                      <a:pt x="0" y="101"/>
                    </a:lnTo>
                    <a:lnTo>
                      <a:pt x="0" y="79"/>
                    </a:lnTo>
                    <a:lnTo>
                      <a:pt x="0" y="67"/>
                    </a:ln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6999840" y="3769200"/>
                <a:ext cx="8640" cy="79200"/>
              </a:xfrm>
              <a:custGeom>
                <a:avLst/>
                <a:gdLst/>
                <a:ahLst/>
                <a:rect l="l" t="t" r="r" b="b"/>
                <a:pathLst>
                  <a:path w="22" h="201">
                    <a:moveTo>
                      <a:pt x="22" y="201"/>
                    </a:moveTo>
                    <a:lnTo>
                      <a:pt x="11" y="190"/>
                    </a:lnTo>
                    <a:lnTo>
                      <a:pt x="11" y="179"/>
                    </a:lnTo>
                    <a:lnTo>
                      <a:pt x="11" y="167"/>
                    </a:lnTo>
                    <a:lnTo>
                      <a:pt x="11" y="156"/>
                    </a:lnTo>
                    <a:lnTo>
                      <a:pt x="11" y="144"/>
                    </a:lnTo>
                    <a:lnTo>
                      <a:pt x="11" y="134"/>
                    </a:lnTo>
                    <a:lnTo>
                      <a:pt x="11" y="111"/>
                    </a:lnTo>
                    <a:lnTo>
                      <a:pt x="11" y="101"/>
                    </a:lnTo>
                    <a:lnTo>
                      <a:pt x="11" y="89"/>
                    </a:lnTo>
                    <a:lnTo>
                      <a:pt x="11" y="78"/>
                    </a:lnTo>
                    <a:lnTo>
                      <a:pt x="11" y="55"/>
                    </a:lnTo>
                    <a:lnTo>
                      <a:pt x="11" y="45"/>
                    </a:lnTo>
                    <a:lnTo>
                      <a:pt x="11" y="33"/>
                    </a:lnTo>
                    <a:lnTo>
                      <a:pt x="11" y="22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076520" y="3629520"/>
                <a:ext cx="135360" cy="63000"/>
              </a:xfrm>
              <a:custGeom>
                <a:avLst/>
                <a:gdLst/>
                <a:ahLst/>
                <a:rect l="l" t="t" r="r" b="b"/>
                <a:pathLst>
                  <a:path w="347" h="157">
                    <a:moveTo>
                      <a:pt x="0" y="157"/>
                    </a:moveTo>
                    <a:lnTo>
                      <a:pt x="23" y="157"/>
                    </a:lnTo>
                    <a:lnTo>
                      <a:pt x="46" y="145"/>
                    </a:lnTo>
                    <a:lnTo>
                      <a:pt x="68" y="134"/>
                    </a:lnTo>
                    <a:lnTo>
                      <a:pt x="91" y="134"/>
                    </a:lnTo>
                    <a:lnTo>
                      <a:pt x="113" y="122"/>
                    </a:lnTo>
                    <a:lnTo>
                      <a:pt x="136" y="111"/>
                    </a:lnTo>
                    <a:lnTo>
                      <a:pt x="157" y="101"/>
                    </a:lnTo>
                    <a:lnTo>
                      <a:pt x="180" y="89"/>
                    </a:lnTo>
                    <a:lnTo>
                      <a:pt x="202" y="78"/>
                    </a:lnTo>
                    <a:lnTo>
                      <a:pt x="225" y="66"/>
                    </a:lnTo>
                    <a:lnTo>
                      <a:pt x="248" y="56"/>
                    </a:lnTo>
                    <a:lnTo>
                      <a:pt x="269" y="45"/>
                    </a:lnTo>
                    <a:lnTo>
                      <a:pt x="292" y="33"/>
                    </a:lnTo>
                    <a:lnTo>
                      <a:pt x="303" y="22"/>
                    </a:lnTo>
                    <a:lnTo>
                      <a:pt x="326" y="10"/>
                    </a:lnTo>
                    <a:lnTo>
                      <a:pt x="34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7211880" y="3629520"/>
                <a:ext cx="125640" cy="275040"/>
              </a:xfrm>
              <a:custGeom>
                <a:avLst/>
                <a:gdLst/>
                <a:ahLst/>
                <a:rect l="l" t="t" r="r" b="b"/>
                <a:pathLst>
                  <a:path w="326" h="707">
                    <a:moveTo>
                      <a:pt x="0" y="0"/>
                    </a:moveTo>
                    <a:lnTo>
                      <a:pt x="23" y="45"/>
                    </a:lnTo>
                    <a:lnTo>
                      <a:pt x="45" y="89"/>
                    </a:lnTo>
                    <a:lnTo>
                      <a:pt x="56" y="134"/>
                    </a:lnTo>
                    <a:lnTo>
                      <a:pt x="79" y="179"/>
                    </a:lnTo>
                    <a:lnTo>
                      <a:pt x="103" y="224"/>
                    </a:lnTo>
                    <a:lnTo>
                      <a:pt x="113" y="269"/>
                    </a:lnTo>
                    <a:lnTo>
                      <a:pt x="136" y="313"/>
                    </a:lnTo>
                    <a:lnTo>
                      <a:pt x="158" y="359"/>
                    </a:lnTo>
                    <a:lnTo>
                      <a:pt x="181" y="404"/>
                    </a:lnTo>
                    <a:lnTo>
                      <a:pt x="203" y="448"/>
                    </a:lnTo>
                    <a:lnTo>
                      <a:pt x="214" y="493"/>
                    </a:lnTo>
                    <a:lnTo>
                      <a:pt x="237" y="526"/>
                    </a:lnTo>
                    <a:lnTo>
                      <a:pt x="259" y="571"/>
                    </a:lnTo>
                    <a:lnTo>
                      <a:pt x="282" y="616"/>
                    </a:lnTo>
                    <a:lnTo>
                      <a:pt x="303" y="661"/>
                    </a:lnTo>
                    <a:lnTo>
                      <a:pt x="326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6624000" y="3633840"/>
                <a:ext cx="230400" cy="371520"/>
              </a:xfrm>
              <a:custGeom>
                <a:avLst/>
                <a:gdLst/>
                <a:ahLst/>
                <a:rect l="l" t="t" r="r" b="b"/>
                <a:pathLst>
                  <a:path w="594" h="953">
                    <a:moveTo>
                      <a:pt x="582" y="35"/>
                    </a:moveTo>
                    <a:lnTo>
                      <a:pt x="594" y="35"/>
                    </a:lnTo>
                    <a:lnTo>
                      <a:pt x="594" y="46"/>
                    </a:lnTo>
                    <a:lnTo>
                      <a:pt x="594" y="56"/>
                    </a:lnTo>
                    <a:lnTo>
                      <a:pt x="594" y="68"/>
                    </a:lnTo>
                    <a:lnTo>
                      <a:pt x="594" y="79"/>
                    </a:lnTo>
                    <a:lnTo>
                      <a:pt x="582" y="91"/>
                    </a:lnTo>
                    <a:lnTo>
                      <a:pt x="582" y="101"/>
                    </a:lnTo>
                    <a:lnTo>
                      <a:pt x="582" y="147"/>
                    </a:lnTo>
                    <a:lnTo>
                      <a:pt x="582" y="191"/>
                    </a:lnTo>
                    <a:lnTo>
                      <a:pt x="582" y="226"/>
                    </a:lnTo>
                    <a:lnTo>
                      <a:pt x="572" y="270"/>
                    </a:lnTo>
                    <a:lnTo>
                      <a:pt x="572" y="315"/>
                    </a:lnTo>
                    <a:lnTo>
                      <a:pt x="572" y="360"/>
                    </a:lnTo>
                    <a:lnTo>
                      <a:pt x="582" y="404"/>
                    </a:lnTo>
                    <a:lnTo>
                      <a:pt x="582" y="450"/>
                    </a:lnTo>
                    <a:lnTo>
                      <a:pt x="582" y="493"/>
                    </a:lnTo>
                    <a:lnTo>
                      <a:pt x="582" y="539"/>
                    </a:lnTo>
                    <a:lnTo>
                      <a:pt x="582" y="584"/>
                    </a:lnTo>
                    <a:lnTo>
                      <a:pt x="582" y="629"/>
                    </a:lnTo>
                    <a:lnTo>
                      <a:pt x="582" y="674"/>
                    </a:lnTo>
                    <a:lnTo>
                      <a:pt x="594" y="719"/>
                    </a:lnTo>
                    <a:lnTo>
                      <a:pt x="594" y="763"/>
                    </a:lnTo>
                    <a:lnTo>
                      <a:pt x="582" y="808"/>
                    </a:lnTo>
                    <a:lnTo>
                      <a:pt x="582" y="819"/>
                    </a:lnTo>
                    <a:lnTo>
                      <a:pt x="594" y="831"/>
                    </a:lnTo>
                    <a:lnTo>
                      <a:pt x="594" y="842"/>
                    </a:lnTo>
                    <a:lnTo>
                      <a:pt x="594" y="853"/>
                    </a:lnTo>
                    <a:lnTo>
                      <a:pt x="594" y="864"/>
                    </a:lnTo>
                    <a:lnTo>
                      <a:pt x="594" y="875"/>
                    </a:lnTo>
                    <a:lnTo>
                      <a:pt x="582" y="875"/>
                    </a:lnTo>
                    <a:lnTo>
                      <a:pt x="572" y="887"/>
                    </a:lnTo>
                    <a:lnTo>
                      <a:pt x="560" y="887"/>
                    </a:lnTo>
                    <a:lnTo>
                      <a:pt x="538" y="897"/>
                    </a:lnTo>
                    <a:lnTo>
                      <a:pt x="526" y="897"/>
                    </a:lnTo>
                    <a:lnTo>
                      <a:pt x="504" y="909"/>
                    </a:lnTo>
                    <a:lnTo>
                      <a:pt x="493" y="909"/>
                    </a:lnTo>
                    <a:lnTo>
                      <a:pt x="481" y="909"/>
                    </a:lnTo>
                    <a:lnTo>
                      <a:pt x="460" y="920"/>
                    </a:lnTo>
                    <a:lnTo>
                      <a:pt x="448" y="920"/>
                    </a:lnTo>
                    <a:lnTo>
                      <a:pt x="425" y="920"/>
                    </a:lnTo>
                    <a:lnTo>
                      <a:pt x="415" y="931"/>
                    </a:lnTo>
                    <a:lnTo>
                      <a:pt x="392" y="931"/>
                    </a:lnTo>
                    <a:lnTo>
                      <a:pt x="381" y="943"/>
                    </a:lnTo>
                    <a:lnTo>
                      <a:pt x="370" y="943"/>
                    </a:lnTo>
                    <a:lnTo>
                      <a:pt x="347" y="943"/>
                    </a:lnTo>
                    <a:lnTo>
                      <a:pt x="336" y="953"/>
                    </a:lnTo>
                    <a:lnTo>
                      <a:pt x="324" y="953"/>
                    </a:lnTo>
                    <a:lnTo>
                      <a:pt x="313" y="953"/>
                    </a:lnTo>
                    <a:lnTo>
                      <a:pt x="302" y="953"/>
                    </a:lnTo>
                    <a:lnTo>
                      <a:pt x="290" y="953"/>
                    </a:lnTo>
                    <a:lnTo>
                      <a:pt x="279" y="953"/>
                    </a:lnTo>
                    <a:lnTo>
                      <a:pt x="269" y="953"/>
                    </a:lnTo>
                    <a:lnTo>
                      <a:pt x="257" y="943"/>
                    </a:lnTo>
                    <a:lnTo>
                      <a:pt x="246" y="943"/>
                    </a:lnTo>
                    <a:lnTo>
                      <a:pt x="234" y="931"/>
                    </a:lnTo>
                    <a:lnTo>
                      <a:pt x="246" y="897"/>
                    </a:lnTo>
                    <a:lnTo>
                      <a:pt x="234" y="864"/>
                    </a:lnTo>
                    <a:lnTo>
                      <a:pt x="234" y="831"/>
                    </a:lnTo>
                    <a:lnTo>
                      <a:pt x="223" y="798"/>
                    </a:lnTo>
                    <a:lnTo>
                      <a:pt x="223" y="763"/>
                    </a:lnTo>
                    <a:lnTo>
                      <a:pt x="213" y="730"/>
                    </a:lnTo>
                    <a:lnTo>
                      <a:pt x="213" y="697"/>
                    </a:lnTo>
                    <a:lnTo>
                      <a:pt x="201" y="663"/>
                    </a:lnTo>
                    <a:lnTo>
                      <a:pt x="201" y="629"/>
                    </a:lnTo>
                    <a:lnTo>
                      <a:pt x="190" y="594"/>
                    </a:lnTo>
                    <a:lnTo>
                      <a:pt x="190" y="561"/>
                    </a:lnTo>
                    <a:lnTo>
                      <a:pt x="178" y="528"/>
                    </a:lnTo>
                    <a:lnTo>
                      <a:pt x="168" y="493"/>
                    </a:lnTo>
                    <a:lnTo>
                      <a:pt x="157" y="460"/>
                    </a:lnTo>
                    <a:lnTo>
                      <a:pt x="145" y="427"/>
                    </a:lnTo>
                    <a:lnTo>
                      <a:pt x="134" y="394"/>
                    </a:lnTo>
                    <a:lnTo>
                      <a:pt x="123" y="371"/>
                    </a:lnTo>
                    <a:lnTo>
                      <a:pt x="0" y="101"/>
                    </a:lnTo>
                    <a:lnTo>
                      <a:pt x="0" y="91"/>
                    </a:lnTo>
                    <a:lnTo>
                      <a:pt x="0" y="79"/>
                    </a:lnTo>
                    <a:lnTo>
                      <a:pt x="11" y="79"/>
                    </a:lnTo>
                    <a:lnTo>
                      <a:pt x="23" y="68"/>
                    </a:lnTo>
                    <a:lnTo>
                      <a:pt x="33" y="68"/>
                    </a:lnTo>
                    <a:lnTo>
                      <a:pt x="44" y="68"/>
                    </a:lnTo>
                    <a:lnTo>
                      <a:pt x="79" y="46"/>
                    </a:lnTo>
                    <a:lnTo>
                      <a:pt x="112" y="46"/>
                    </a:lnTo>
                    <a:lnTo>
                      <a:pt x="145" y="35"/>
                    </a:lnTo>
                    <a:lnTo>
                      <a:pt x="178" y="23"/>
                    </a:lnTo>
                    <a:lnTo>
                      <a:pt x="213" y="12"/>
                    </a:lnTo>
                    <a:lnTo>
                      <a:pt x="246" y="12"/>
                    </a:lnTo>
                    <a:lnTo>
                      <a:pt x="279" y="0"/>
                    </a:lnTo>
                    <a:lnTo>
                      <a:pt x="313" y="0"/>
                    </a:lnTo>
                    <a:lnTo>
                      <a:pt x="359" y="0"/>
                    </a:lnTo>
                    <a:lnTo>
                      <a:pt x="392" y="0"/>
                    </a:lnTo>
                    <a:lnTo>
                      <a:pt x="425" y="0"/>
                    </a:lnTo>
                    <a:lnTo>
                      <a:pt x="460" y="0"/>
                    </a:lnTo>
                    <a:lnTo>
                      <a:pt x="493" y="12"/>
                    </a:lnTo>
                    <a:lnTo>
                      <a:pt x="526" y="12"/>
                    </a:lnTo>
                    <a:lnTo>
                      <a:pt x="560" y="23"/>
                    </a:lnTo>
                    <a:lnTo>
                      <a:pt x="582" y="3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6845760" y="3673440"/>
                <a:ext cx="8640" cy="275760"/>
              </a:xfrm>
              <a:custGeom>
                <a:avLst/>
                <a:gdLst/>
                <a:ahLst/>
                <a:rect l="l" t="t" r="r" b="b"/>
                <a:pathLst>
                  <a:path w="22" h="707">
                    <a:moveTo>
                      <a:pt x="10" y="0"/>
                    </a:moveTo>
                    <a:lnTo>
                      <a:pt x="10" y="46"/>
                    </a:lnTo>
                    <a:lnTo>
                      <a:pt x="10" y="90"/>
                    </a:lnTo>
                    <a:lnTo>
                      <a:pt x="10" y="125"/>
                    </a:lnTo>
                    <a:lnTo>
                      <a:pt x="0" y="169"/>
                    </a:lnTo>
                    <a:lnTo>
                      <a:pt x="0" y="214"/>
                    </a:lnTo>
                    <a:lnTo>
                      <a:pt x="0" y="259"/>
                    </a:lnTo>
                    <a:lnTo>
                      <a:pt x="10" y="303"/>
                    </a:lnTo>
                    <a:lnTo>
                      <a:pt x="10" y="349"/>
                    </a:lnTo>
                    <a:lnTo>
                      <a:pt x="10" y="392"/>
                    </a:lnTo>
                    <a:lnTo>
                      <a:pt x="10" y="438"/>
                    </a:lnTo>
                    <a:lnTo>
                      <a:pt x="10" y="483"/>
                    </a:lnTo>
                    <a:lnTo>
                      <a:pt x="10" y="528"/>
                    </a:lnTo>
                    <a:lnTo>
                      <a:pt x="10" y="573"/>
                    </a:lnTo>
                    <a:lnTo>
                      <a:pt x="22" y="618"/>
                    </a:lnTo>
                    <a:lnTo>
                      <a:pt x="22" y="662"/>
                    </a:lnTo>
                    <a:lnTo>
                      <a:pt x="10" y="7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6672600" y="3778920"/>
                <a:ext cx="46440" cy="205200"/>
              </a:xfrm>
              <a:custGeom>
                <a:avLst/>
                <a:gdLst/>
                <a:ahLst/>
                <a:rect l="l" t="t" r="r" b="b"/>
                <a:pathLst>
                  <a:path w="123" h="526">
                    <a:moveTo>
                      <a:pt x="123" y="526"/>
                    </a:moveTo>
                    <a:lnTo>
                      <a:pt x="111" y="493"/>
                    </a:lnTo>
                    <a:lnTo>
                      <a:pt x="111" y="460"/>
                    </a:lnTo>
                    <a:lnTo>
                      <a:pt x="100" y="427"/>
                    </a:lnTo>
                    <a:lnTo>
                      <a:pt x="100" y="392"/>
                    </a:lnTo>
                    <a:lnTo>
                      <a:pt x="90" y="359"/>
                    </a:lnTo>
                    <a:lnTo>
                      <a:pt x="90" y="326"/>
                    </a:lnTo>
                    <a:lnTo>
                      <a:pt x="78" y="292"/>
                    </a:lnTo>
                    <a:lnTo>
                      <a:pt x="78" y="258"/>
                    </a:lnTo>
                    <a:lnTo>
                      <a:pt x="67" y="223"/>
                    </a:lnTo>
                    <a:lnTo>
                      <a:pt x="67" y="190"/>
                    </a:lnTo>
                    <a:lnTo>
                      <a:pt x="55" y="157"/>
                    </a:lnTo>
                    <a:lnTo>
                      <a:pt x="45" y="122"/>
                    </a:lnTo>
                    <a:lnTo>
                      <a:pt x="34" y="89"/>
                    </a:lnTo>
                    <a:lnTo>
                      <a:pt x="22" y="56"/>
                    </a:lnTo>
                    <a:lnTo>
                      <a:pt x="11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 flipV="1">
                <a:off x="6623640" y="3673440"/>
                <a:ext cx="48600" cy="10512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6642360" y="3648240"/>
                <a:ext cx="198360" cy="342720"/>
              </a:xfrm>
              <a:custGeom>
                <a:avLst/>
                <a:gdLst/>
                <a:ahLst/>
                <a:rect l="l" t="t" r="r" b="b"/>
                <a:pathLst>
                  <a:path w="516" h="885">
                    <a:moveTo>
                      <a:pt x="482" y="21"/>
                    </a:moveTo>
                    <a:lnTo>
                      <a:pt x="482" y="11"/>
                    </a:lnTo>
                    <a:lnTo>
                      <a:pt x="494" y="11"/>
                    </a:lnTo>
                    <a:lnTo>
                      <a:pt x="494" y="21"/>
                    </a:lnTo>
                    <a:lnTo>
                      <a:pt x="505" y="21"/>
                    </a:lnTo>
                    <a:lnTo>
                      <a:pt x="516" y="21"/>
                    </a:lnTo>
                    <a:lnTo>
                      <a:pt x="516" y="33"/>
                    </a:lnTo>
                    <a:lnTo>
                      <a:pt x="505" y="77"/>
                    </a:lnTo>
                    <a:lnTo>
                      <a:pt x="494" y="122"/>
                    </a:lnTo>
                    <a:lnTo>
                      <a:pt x="494" y="167"/>
                    </a:lnTo>
                    <a:lnTo>
                      <a:pt x="482" y="224"/>
                    </a:lnTo>
                    <a:lnTo>
                      <a:pt x="482" y="268"/>
                    </a:lnTo>
                    <a:lnTo>
                      <a:pt x="482" y="325"/>
                    </a:lnTo>
                    <a:lnTo>
                      <a:pt x="482" y="369"/>
                    </a:lnTo>
                    <a:lnTo>
                      <a:pt x="494" y="425"/>
                    </a:lnTo>
                    <a:lnTo>
                      <a:pt x="494" y="470"/>
                    </a:lnTo>
                    <a:lnTo>
                      <a:pt x="494" y="526"/>
                    </a:lnTo>
                    <a:lnTo>
                      <a:pt x="494" y="582"/>
                    </a:lnTo>
                    <a:lnTo>
                      <a:pt x="505" y="628"/>
                    </a:lnTo>
                    <a:lnTo>
                      <a:pt x="505" y="684"/>
                    </a:lnTo>
                    <a:lnTo>
                      <a:pt x="505" y="728"/>
                    </a:lnTo>
                    <a:lnTo>
                      <a:pt x="505" y="784"/>
                    </a:lnTo>
                    <a:lnTo>
                      <a:pt x="505" y="829"/>
                    </a:lnTo>
                    <a:lnTo>
                      <a:pt x="494" y="829"/>
                    </a:lnTo>
                    <a:lnTo>
                      <a:pt x="472" y="840"/>
                    </a:lnTo>
                    <a:lnTo>
                      <a:pt x="460" y="840"/>
                    </a:lnTo>
                    <a:lnTo>
                      <a:pt x="437" y="852"/>
                    </a:lnTo>
                    <a:lnTo>
                      <a:pt x="427" y="852"/>
                    </a:lnTo>
                    <a:lnTo>
                      <a:pt x="404" y="852"/>
                    </a:lnTo>
                    <a:lnTo>
                      <a:pt x="393" y="862"/>
                    </a:lnTo>
                    <a:lnTo>
                      <a:pt x="381" y="862"/>
                    </a:lnTo>
                    <a:lnTo>
                      <a:pt x="360" y="874"/>
                    </a:lnTo>
                    <a:lnTo>
                      <a:pt x="348" y="874"/>
                    </a:lnTo>
                    <a:lnTo>
                      <a:pt x="326" y="874"/>
                    </a:lnTo>
                    <a:lnTo>
                      <a:pt x="315" y="874"/>
                    </a:lnTo>
                    <a:lnTo>
                      <a:pt x="292" y="885"/>
                    </a:lnTo>
                    <a:lnTo>
                      <a:pt x="280" y="885"/>
                    </a:lnTo>
                    <a:lnTo>
                      <a:pt x="258" y="885"/>
                    </a:lnTo>
                    <a:lnTo>
                      <a:pt x="235" y="874"/>
                    </a:lnTo>
                    <a:lnTo>
                      <a:pt x="235" y="818"/>
                    </a:lnTo>
                    <a:lnTo>
                      <a:pt x="235" y="773"/>
                    </a:lnTo>
                    <a:lnTo>
                      <a:pt x="225" y="717"/>
                    </a:lnTo>
                    <a:lnTo>
                      <a:pt x="213" y="662"/>
                    </a:lnTo>
                    <a:lnTo>
                      <a:pt x="213" y="606"/>
                    </a:lnTo>
                    <a:lnTo>
                      <a:pt x="202" y="559"/>
                    </a:lnTo>
                    <a:lnTo>
                      <a:pt x="190" y="504"/>
                    </a:lnTo>
                    <a:lnTo>
                      <a:pt x="179" y="448"/>
                    </a:lnTo>
                    <a:lnTo>
                      <a:pt x="157" y="403"/>
                    </a:lnTo>
                    <a:lnTo>
                      <a:pt x="146" y="347"/>
                    </a:lnTo>
                    <a:lnTo>
                      <a:pt x="124" y="303"/>
                    </a:lnTo>
                    <a:lnTo>
                      <a:pt x="101" y="258"/>
                    </a:lnTo>
                    <a:lnTo>
                      <a:pt x="79" y="202"/>
                    </a:lnTo>
                    <a:lnTo>
                      <a:pt x="56" y="156"/>
                    </a:lnTo>
                    <a:lnTo>
                      <a:pt x="23" y="112"/>
                    </a:lnTo>
                    <a:lnTo>
                      <a:pt x="0" y="66"/>
                    </a:lnTo>
                    <a:lnTo>
                      <a:pt x="23" y="56"/>
                    </a:lnTo>
                    <a:lnTo>
                      <a:pt x="45" y="44"/>
                    </a:lnTo>
                    <a:lnTo>
                      <a:pt x="79" y="33"/>
                    </a:lnTo>
                    <a:lnTo>
                      <a:pt x="101" y="21"/>
                    </a:lnTo>
                    <a:lnTo>
                      <a:pt x="134" y="11"/>
                    </a:lnTo>
                    <a:lnTo>
                      <a:pt x="169" y="11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58" y="0"/>
                    </a:lnTo>
                    <a:lnTo>
                      <a:pt x="292" y="0"/>
                    </a:lnTo>
                    <a:lnTo>
                      <a:pt x="326" y="0"/>
                    </a:lnTo>
                    <a:lnTo>
                      <a:pt x="360" y="0"/>
                    </a:lnTo>
                    <a:lnTo>
                      <a:pt x="381" y="0"/>
                    </a:lnTo>
                    <a:lnTo>
                      <a:pt x="416" y="11"/>
                    </a:lnTo>
                    <a:lnTo>
                      <a:pt x="449" y="11"/>
                    </a:lnTo>
                    <a:lnTo>
                      <a:pt x="482" y="21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6829200" y="3661920"/>
                <a:ext cx="11520" cy="307800"/>
              </a:xfrm>
              <a:custGeom>
                <a:avLst/>
                <a:gdLst/>
                <a:ahLst/>
                <a:rect l="l" t="t" r="r" b="b"/>
                <a:pathLst>
                  <a:path w="34" h="796">
                    <a:moveTo>
                      <a:pt x="34" y="0"/>
                    </a:moveTo>
                    <a:lnTo>
                      <a:pt x="23" y="44"/>
                    </a:lnTo>
                    <a:lnTo>
                      <a:pt x="12" y="89"/>
                    </a:lnTo>
                    <a:lnTo>
                      <a:pt x="12" y="134"/>
                    </a:lnTo>
                    <a:lnTo>
                      <a:pt x="0" y="191"/>
                    </a:lnTo>
                    <a:lnTo>
                      <a:pt x="0" y="235"/>
                    </a:lnTo>
                    <a:lnTo>
                      <a:pt x="0" y="292"/>
                    </a:lnTo>
                    <a:lnTo>
                      <a:pt x="0" y="336"/>
                    </a:lnTo>
                    <a:lnTo>
                      <a:pt x="12" y="392"/>
                    </a:lnTo>
                    <a:lnTo>
                      <a:pt x="12" y="437"/>
                    </a:lnTo>
                    <a:lnTo>
                      <a:pt x="12" y="493"/>
                    </a:lnTo>
                    <a:lnTo>
                      <a:pt x="12" y="549"/>
                    </a:lnTo>
                    <a:lnTo>
                      <a:pt x="23" y="595"/>
                    </a:lnTo>
                    <a:lnTo>
                      <a:pt x="23" y="651"/>
                    </a:lnTo>
                    <a:lnTo>
                      <a:pt x="23" y="695"/>
                    </a:lnTo>
                    <a:lnTo>
                      <a:pt x="23" y="751"/>
                    </a:lnTo>
                    <a:lnTo>
                      <a:pt x="2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6642360" y="3673440"/>
                <a:ext cx="90720" cy="315360"/>
              </a:xfrm>
              <a:custGeom>
                <a:avLst/>
                <a:gdLst/>
                <a:ahLst/>
                <a:rect l="l" t="t" r="r" b="b"/>
                <a:pathLst>
                  <a:path w="235" h="808">
                    <a:moveTo>
                      <a:pt x="235" y="808"/>
                    </a:moveTo>
                    <a:lnTo>
                      <a:pt x="235" y="752"/>
                    </a:lnTo>
                    <a:lnTo>
                      <a:pt x="235" y="707"/>
                    </a:lnTo>
                    <a:lnTo>
                      <a:pt x="225" y="651"/>
                    </a:lnTo>
                    <a:lnTo>
                      <a:pt x="213" y="596"/>
                    </a:lnTo>
                    <a:lnTo>
                      <a:pt x="213" y="540"/>
                    </a:lnTo>
                    <a:lnTo>
                      <a:pt x="202" y="493"/>
                    </a:lnTo>
                    <a:lnTo>
                      <a:pt x="190" y="438"/>
                    </a:lnTo>
                    <a:lnTo>
                      <a:pt x="179" y="382"/>
                    </a:lnTo>
                    <a:lnTo>
                      <a:pt x="157" y="337"/>
                    </a:lnTo>
                    <a:lnTo>
                      <a:pt x="146" y="281"/>
                    </a:lnTo>
                    <a:lnTo>
                      <a:pt x="124" y="237"/>
                    </a:lnTo>
                    <a:lnTo>
                      <a:pt x="101" y="192"/>
                    </a:lnTo>
                    <a:lnTo>
                      <a:pt x="79" y="136"/>
                    </a:lnTo>
                    <a:lnTo>
                      <a:pt x="56" y="90"/>
                    </a:lnTo>
                    <a:lnTo>
                      <a:pt x="23" y="4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6414120" y="3699360"/>
                <a:ext cx="293400" cy="359280"/>
              </a:xfrm>
              <a:custGeom>
                <a:avLst/>
                <a:gdLst/>
                <a:ahLst/>
                <a:rect l="l" t="t" r="r" b="b"/>
                <a:pathLst>
                  <a:path w="752" h="920">
                    <a:moveTo>
                      <a:pt x="684" y="370"/>
                    </a:moveTo>
                    <a:lnTo>
                      <a:pt x="696" y="392"/>
                    </a:lnTo>
                    <a:lnTo>
                      <a:pt x="707" y="415"/>
                    </a:lnTo>
                    <a:lnTo>
                      <a:pt x="707" y="437"/>
                    </a:lnTo>
                    <a:lnTo>
                      <a:pt x="717" y="460"/>
                    </a:lnTo>
                    <a:lnTo>
                      <a:pt x="717" y="494"/>
                    </a:lnTo>
                    <a:lnTo>
                      <a:pt x="729" y="516"/>
                    </a:lnTo>
                    <a:lnTo>
                      <a:pt x="729" y="538"/>
                    </a:lnTo>
                    <a:lnTo>
                      <a:pt x="729" y="572"/>
                    </a:lnTo>
                    <a:lnTo>
                      <a:pt x="740" y="594"/>
                    </a:lnTo>
                    <a:lnTo>
                      <a:pt x="740" y="617"/>
                    </a:lnTo>
                    <a:lnTo>
                      <a:pt x="740" y="650"/>
                    </a:lnTo>
                    <a:lnTo>
                      <a:pt x="740" y="673"/>
                    </a:lnTo>
                    <a:lnTo>
                      <a:pt x="740" y="695"/>
                    </a:lnTo>
                    <a:lnTo>
                      <a:pt x="740" y="728"/>
                    </a:lnTo>
                    <a:lnTo>
                      <a:pt x="740" y="751"/>
                    </a:lnTo>
                    <a:lnTo>
                      <a:pt x="752" y="774"/>
                    </a:lnTo>
                    <a:lnTo>
                      <a:pt x="729" y="784"/>
                    </a:lnTo>
                    <a:lnTo>
                      <a:pt x="717" y="796"/>
                    </a:lnTo>
                    <a:lnTo>
                      <a:pt x="707" y="807"/>
                    </a:lnTo>
                    <a:lnTo>
                      <a:pt x="696" y="807"/>
                    </a:lnTo>
                    <a:lnTo>
                      <a:pt x="673" y="819"/>
                    </a:lnTo>
                    <a:lnTo>
                      <a:pt x="662" y="829"/>
                    </a:lnTo>
                    <a:lnTo>
                      <a:pt x="651" y="829"/>
                    </a:lnTo>
                    <a:lnTo>
                      <a:pt x="639" y="840"/>
                    </a:lnTo>
                    <a:lnTo>
                      <a:pt x="618" y="840"/>
                    </a:lnTo>
                    <a:lnTo>
                      <a:pt x="606" y="852"/>
                    </a:lnTo>
                    <a:lnTo>
                      <a:pt x="595" y="863"/>
                    </a:lnTo>
                    <a:lnTo>
                      <a:pt x="583" y="863"/>
                    </a:lnTo>
                    <a:lnTo>
                      <a:pt x="562" y="875"/>
                    </a:lnTo>
                    <a:lnTo>
                      <a:pt x="550" y="875"/>
                    </a:lnTo>
                    <a:lnTo>
                      <a:pt x="539" y="886"/>
                    </a:lnTo>
                    <a:lnTo>
                      <a:pt x="527" y="897"/>
                    </a:lnTo>
                    <a:lnTo>
                      <a:pt x="506" y="897"/>
                    </a:lnTo>
                    <a:lnTo>
                      <a:pt x="483" y="909"/>
                    </a:lnTo>
                    <a:lnTo>
                      <a:pt x="471" y="909"/>
                    </a:lnTo>
                    <a:lnTo>
                      <a:pt x="449" y="909"/>
                    </a:lnTo>
                    <a:lnTo>
                      <a:pt x="437" y="909"/>
                    </a:lnTo>
                    <a:lnTo>
                      <a:pt x="414" y="920"/>
                    </a:lnTo>
                    <a:lnTo>
                      <a:pt x="404" y="920"/>
                    </a:lnTo>
                    <a:lnTo>
                      <a:pt x="381" y="920"/>
                    </a:lnTo>
                    <a:lnTo>
                      <a:pt x="359" y="920"/>
                    </a:lnTo>
                    <a:lnTo>
                      <a:pt x="348" y="920"/>
                    </a:lnTo>
                    <a:lnTo>
                      <a:pt x="325" y="909"/>
                    </a:lnTo>
                    <a:lnTo>
                      <a:pt x="315" y="909"/>
                    </a:lnTo>
                    <a:lnTo>
                      <a:pt x="292" y="909"/>
                    </a:lnTo>
                    <a:lnTo>
                      <a:pt x="280" y="909"/>
                    </a:lnTo>
                    <a:lnTo>
                      <a:pt x="259" y="897"/>
                    </a:lnTo>
                    <a:lnTo>
                      <a:pt x="236" y="897"/>
                    </a:lnTo>
                    <a:lnTo>
                      <a:pt x="236" y="886"/>
                    </a:lnTo>
                    <a:lnTo>
                      <a:pt x="224" y="875"/>
                    </a:lnTo>
                    <a:lnTo>
                      <a:pt x="214" y="875"/>
                    </a:lnTo>
                    <a:lnTo>
                      <a:pt x="214" y="863"/>
                    </a:lnTo>
                    <a:lnTo>
                      <a:pt x="202" y="852"/>
                    </a:lnTo>
                    <a:lnTo>
                      <a:pt x="202" y="840"/>
                    </a:lnTo>
                    <a:lnTo>
                      <a:pt x="191" y="840"/>
                    </a:lnTo>
                    <a:lnTo>
                      <a:pt x="191" y="829"/>
                    </a:lnTo>
                    <a:lnTo>
                      <a:pt x="191" y="819"/>
                    </a:lnTo>
                    <a:lnTo>
                      <a:pt x="180" y="807"/>
                    </a:lnTo>
                    <a:lnTo>
                      <a:pt x="180" y="796"/>
                    </a:lnTo>
                    <a:lnTo>
                      <a:pt x="169" y="784"/>
                    </a:lnTo>
                    <a:lnTo>
                      <a:pt x="158" y="774"/>
                    </a:lnTo>
                    <a:lnTo>
                      <a:pt x="158" y="762"/>
                    </a:lnTo>
                    <a:lnTo>
                      <a:pt x="146" y="751"/>
                    </a:lnTo>
                    <a:lnTo>
                      <a:pt x="135" y="740"/>
                    </a:lnTo>
                    <a:lnTo>
                      <a:pt x="135" y="728"/>
                    </a:lnTo>
                    <a:lnTo>
                      <a:pt x="125" y="718"/>
                    </a:lnTo>
                    <a:lnTo>
                      <a:pt x="113" y="706"/>
                    </a:lnTo>
                    <a:lnTo>
                      <a:pt x="102" y="695"/>
                    </a:lnTo>
                    <a:lnTo>
                      <a:pt x="102" y="684"/>
                    </a:lnTo>
                    <a:lnTo>
                      <a:pt x="90" y="673"/>
                    </a:lnTo>
                    <a:lnTo>
                      <a:pt x="79" y="662"/>
                    </a:lnTo>
                    <a:lnTo>
                      <a:pt x="69" y="650"/>
                    </a:lnTo>
                    <a:lnTo>
                      <a:pt x="57" y="629"/>
                    </a:lnTo>
                    <a:lnTo>
                      <a:pt x="57" y="617"/>
                    </a:lnTo>
                    <a:lnTo>
                      <a:pt x="46" y="606"/>
                    </a:lnTo>
                    <a:lnTo>
                      <a:pt x="34" y="594"/>
                    </a:lnTo>
                    <a:lnTo>
                      <a:pt x="22" y="583"/>
                    </a:lnTo>
                    <a:lnTo>
                      <a:pt x="12" y="572"/>
                    </a:lnTo>
                    <a:lnTo>
                      <a:pt x="0" y="561"/>
                    </a:lnTo>
                    <a:lnTo>
                      <a:pt x="0" y="550"/>
                    </a:lnTo>
                    <a:lnTo>
                      <a:pt x="0" y="538"/>
                    </a:lnTo>
                    <a:lnTo>
                      <a:pt x="0" y="528"/>
                    </a:lnTo>
                    <a:lnTo>
                      <a:pt x="12" y="528"/>
                    </a:lnTo>
                    <a:lnTo>
                      <a:pt x="12" y="516"/>
                    </a:lnTo>
                    <a:lnTo>
                      <a:pt x="12" y="505"/>
                    </a:lnTo>
                    <a:lnTo>
                      <a:pt x="22" y="505"/>
                    </a:lnTo>
                    <a:lnTo>
                      <a:pt x="22" y="494"/>
                    </a:lnTo>
                    <a:lnTo>
                      <a:pt x="34" y="494"/>
                    </a:lnTo>
                    <a:lnTo>
                      <a:pt x="34" y="482"/>
                    </a:lnTo>
                    <a:lnTo>
                      <a:pt x="46" y="482"/>
                    </a:lnTo>
                    <a:lnTo>
                      <a:pt x="69" y="460"/>
                    </a:lnTo>
                    <a:lnTo>
                      <a:pt x="102" y="425"/>
                    </a:lnTo>
                    <a:lnTo>
                      <a:pt x="125" y="403"/>
                    </a:lnTo>
                    <a:lnTo>
                      <a:pt x="158" y="381"/>
                    </a:lnTo>
                    <a:lnTo>
                      <a:pt x="180" y="347"/>
                    </a:lnTo>
                    <a:lnTo>
                      <a:pt x="214" y="324"/>
                    </a:lnTo>
                    <a:lnTo>
                      <a:pt x="236" y="303"/>
                    </a:lnTo>
                    <a:lnTo>
                      <a:pt x="270" y="269"/>
                    </a:lnTo>
                    <a:lnTo>
                      <a:pt x="292" y="247"/>
                    </a:lnTo>
                    <a:lnTo>
                      <a:pt x="325" y="213"/>
                    </a:lnTo>
                    <a:lnTo>
                      <a:pt x="348" y="191"/>
                    </a:lnTo>
                    <a:lnTo>
                      <a:pt x="370" y="157"/>
                    </a:lnTo>
                    <a:lnTo>
                      <a:pt x="392" y="134"/>
                    </a:lnTo>
                    <a:lnTo>
                      <a:pt x="426" y="101"/>
                    </a:lnTo>
                    <a:lnTo>
                      <a:pt x="449" y="68"/>
                    </a:lnTo>
                    <a:lnTo>
                      <a:pt x="471" y="45"/>
                    </a:lnTo>
                    <a:lnTo>
                      <a:pt x="471" y="33"/>
                    </a:lnTo>
                    <a:lnTo>
                      <a:pt x="471" y="22"/>
                    </a:lnTo>
                    <a:lnTo>
                      <a:pt x="471" y="11"/>
                    </a:lnTo>
                    <a:lnTo>
                      <a:pt x="483" y="11"/>
                    </a:lnTo>
                    <a:lnTo>
                      <a:pt x="483" y="0"/>
                    </a:lnTo>
                    <a:lnTo>
                      <a:pt x="494" y="0"/>
                    </a:lnTo>
                    <a:lnTo>
                      <a:pt x="517" y="11"/>
                    </a:lnTo>
                    <a:lnTo>
                      <a:pt x="527" y="33"/>
                    </a:lnTo>
                    <a:lnTo>
                      <a:pt x="550" y="57"/>
                    </a:lnTo>
                    <a:lnTo>
                      <a:pt x="572" y="79"/>
                    </a:lnTo>
                    <a:lnTo>
                      <a:pt x="583" y="101"/>
                    </a:lnTo>
                    <a:lnTo>
                      <a:pt x="595" y="124"/>
                    </a:lnTo>
                    <a:lnTo>
                      <a:pt x="606" y="146"/>
                    </a:lnTo>
                    <a:lnTo>
                      <a:pt x="618" y="169"/>
                    </a:lnTo>
                    <a:lnTo>
                      <a:pt x="628" y="191"/>
                    </a:lnTo>
                    <a:lnTo>
                      <a:pt x="639" y="213"/>
                    </a:lnTo>
                    <a:lnTo>
                      <a:pt x="639" y="247"/>
                    </a:lnTo>
                    <a:lnTo>
                      <a:pt x="651" y="269"/>
                    </a:lnTo>
                    <a:lnTo>
                      <a:pt x="662" y="291"/>
                    </a:lnTo>
                    <a:lnTo>
                      <a:pt x="662" y="314"/>
                    </a:lnTo>
                    <a:lnTo>
                      <a:pt x="673" y="347"/>
                    </a:lnTo>
                    <a:lnTo>
                      <a:pt x="684" y="37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6679440" y="3844080"/>
                <a:ext cx="27720" cy="156600"/>
              </a:xfrm>
              <a:custGeom>
                <a:avLst/>
                <a:gdLst/>
                <a:ahLst/>
                <a:rect l="l" t="t" r="r" b="b"/>
                <a:pathLst>
                  <a:path w="68" h="404">
                    <a:moveTo>
                      <a:pt x="0" y="0"/>
                    </a:moveTo>
                    <a:lnTo>
                      <a:pt x="12" y="22"/>
                    </a:lnTo>
                    <a:lnTo>
                      <a:pt x="23" y="45"/>
                    </a:lnTo>
                    <a:lnTo>
                      <a:pt x="23" y="67"/>
                    </a:lnTo>
                    <a:lnTo>
                      <a:pt x="33" y="90"/>
                    </a:lnTo>
                    <a:lnTo>
                      <a:pt x="33" y="124"/>
                    </a:lnTo>
                    <a:lnTo>
                      <a:pt x="45" y="146"/>
                    </a:lnTo>
                    <a:lnTo>
                      <a:pt x="45" y="168"/>
                    </a:lnTo>
                    <a:lnTo>
                      <a:pt x="45" y="202"/>
                    </a:lnTo>
                    <a:lnTo>
                      <a:pt x="56" y="224"/>
                    </a:lnTo>
                    <a:lnTo>
                      <a:pt x="56" y="247"/>
                    </a:lnTo>
                    <a:lnTo>
                      <a:pt x="56" y="280"/>
                    </a:lnTo>
                    <a:lnTo>
                      <a:pt x="56" y="303"/>
                    </a:lnTo>
                    <a:lnTo>
                      <a:pt x="56" y="325"/>
                    </a:lnTo>
                    <a:lnTo>
                      <a:pt x="56" y="358"/>
                    </a:lnTo>
                    <a:lnTo>
                      <a:pt x="56" y="381"/>
                    </a:lnTo>
                    <a:lnTo>
                      <a:pt x="68" y="4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6414120" y="3918600"/>
                <a:ext cx="57960" cy="72360"/>
              </a:xfrm>
              <a:custGeom>
                <a:avLst/>
                <a:gdLst/>
                <a:ahLst/>
                <a:rect l="l" t="t" r="r" b="b"/>
                <a:pathLst>
                  <a:path w="146" h="190">
                    <a:moveTo>
                      <a:pt x="146" y="190"/>
                    </a:moveTo>
                    <a:lnTo>
                      <a:pt x="135" y="179"/>
                    </a:lnTo>
                    <a:lnTo>
                      <a:pt x="135" y="167"/>
                    </a:lnTo>
                    <a:lnTo>
                      <a:pt x="125" y="157"/>
                    </a:lnTo>
                    <a:lnTo>
                      <a:pt x="113" y="145"/>
                    </a:lnTo>
                    <a:lnTo>
                      <a:pt x="102" y="134"/>
                    </a:lnTo>
                    <a:lnTo>
                      <a:pt x="102" y="123"/>
                    </a:lnTo>
                    <a:lnTo>
                      <a:pt x="90" y="112"/>
                    </a:lnTo>
                    <a:lnTo>
                      <a:pt x="79" y="101"/>
                    </a:lnTo>
                    <a:lnTo>
                      <a:pt x="69" y="89"/>
                    </a:lnTo>
                    <a:lnTo>
                      <a:pt x="57" y="68"/>
                    </a:lnTo>
                    <a:lnTo>
                      <a:pt x="57" y="56"/>
                    </a:lnTo>
                    <a:lnTo>
                      <a:pt x="46" y="45"/>
                    </a:lnTo>
                    <a:lnTo>
                      <a:pt x="34" y="33"/>
                    </a:lnTo>
                    <a:lnTo>
                      <a:pt x="22" y="22"/>
                    </a:lnTo>
                    <a:lnTo>
                      <a:pt x="12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6432480" y="3718080"/>
                <a:ext cx="165600" cy="170280"/>
              </a:xfrm>
              <a:custGeom>
                <a:avLst/>
                <a:gdLst/>
                <a:ahLst/>
                <a:rect l="l" t="t" r="r" b="b"/>
                <a:pathLst>
                  <a:path w="425" h="437">
                    <a:moveTo>
                      <a:pt x="0" y="437"/>
                    </a:moveTo>
                    <a:lnTo>
                      <a:pt x="23" y="415"/>
                    </a:lnTo>
                    <a:lnTo>
                      <a:pt x="56" y="380"/>
                    </a:lnTo>
                    <a:lnTo>
                      <a:pt x="79" y="358"/>
                    </a:lnTo>
                    <a:lnTo>
                      <a:pt x="112" y="336"/>
                    </a:lnTo>
                    <a:lnTo>
                      <a:pt x="134" y="302"/>
                    </a:lnTo>
                    <a:lnTo>
                      <a:pt x="168" y="279"/>
                    </a:lnTo>
                    <a:lnTo>
                      <a:pt x="190" y="258"/>
                    </a:lnTo>
                    <a:lnTo>
                      <a:pt x="224" y="224"/>
                    </a:lnTo>
                    <a:lnTo>
                      <a:pt x="246" y="202"/>
                    </a:lnTo>
                    <a:lnTo>
                      <a:pt x="279" y="168"/>
                    </a:lnTo>
                    <a:lnTo>
                      <a:pt x="302" y="146"/>
                    </a:lnTo>
                    <a:lnTo>
                      <a:pt x="324" y="112"/>
                    </a:lnTo>
                    <a:lnTo>
                      <a:pt x="346" y="89"/>
                    </a:lnTo>
                    <a:lnTo>
                      <a:pt x="380" y="56"/>
                    </a:lnTo>
                    <a:lnTo>
                      <a:pt x="403" y="23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6607440" y="3699360"/>
                <a:ext cx="71640" cy="144360"/>
              </a:xfrm>
              <a:custGeom>
                <a:avLst/>
                <a:gdLst/>
                <a:ahLst/>
                <a:rect l="l" t="t" r="r" b="b"/>
                <a:pathLst>
                  <a:path w="190" h="370">
                    <a:moveTo>
                      <a:pt x="0" y="0"/>
                    </a:moveTo>
                    <a:lnTo>
                      <a:pt x="23" y="11"/>
                    </a:lnTo>
                    <a:lnTo>
                      <a:pt x="33" y="33"/>
                    </a:lnTo>
                    <a:lnTo>
                      <a:pt x="56" y="57"/>
                    </a:lnTo>
                    <a:lnTo>
                      <a:pt x="78" y="79"/>
                    </a:lnTo>
                    <a:lnTo>
                      <a:pt x="89" y="101"/>
                    </a:lnTo>
                    <a:lnTo>
                      <a:pt x="101" y="124"/>
                    </a:lnTo>
                    <a:lnTo>
                      <a:pt x="112" y="146"/>
                    </a:lnTo>
                    <a:lnTo>
                      <a:pt x="124" y="169"/>
                    </a:lnTo>
                    <a:lnTo>
                      <a:pt x="134" y="191"/>
                    </a:lnTo>
                    <a:lnTo>
                      <a:pt x="145" y="213"/>
                    </a:lnTo>
                    <a:lnTo>
                      <a:pt x="145" y="247"/>
                    </a:lnTo>
                    <a:lnTo>
                      <a:pt x="157" y="269"/>
                    </a:lnTo>
                    <a:lnTo>
                      <a:pt x="168" y="291"/>
                    </a:lnTo>
                    <a:lnTo>
                      <a:pt x="168" y="314"/>
                    </a:lnTo>
                    <a:lnTo>
                      <a:pt x="179" y="347"/>
                    </a:lnTo>
                    <a:lnTo>
                      <a:pt x="190" y="3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6432480" y="3727440"/>
                <a:ext cx="251640" cy="303120"/>
              </a:xfrm>
              <a:custGeom>
                <a:avLst/>
                <a:gdLst/>
                <a:ahLst/>
                <a:rect l="l" t="t" r="r" b="b"/>
                <a:pathLst>
                  <a:path w="650" h="784">
                    <a:moveTo>
                      <a:pt x="593" y="324"/>
                    </a:moveTo>
                    <a:lnTo>
                      <a:pt x="593" y="347"/>
                    </a:lnTo>
                    <a:lnTo>
                      <a:pt x="605" y="369"/>
                    </a:lnTo>
                    <a:lnTo>
                      <a:pt x="605" y="392"/>
                    </a:lnTo>
                    <a:lnTo>
                      <a:pt x="616" y="414"/>
                    </a:lnTo>
                    <a:lnTo>
                      <a:pt x="616" y="437"/>
                    </a:lnTo>
                    <a:lnTo>
                      <a:pt x="627" y="460"/>
                    </a:lnTo>
                    <a:lnTo>
                      <a:pt x="627" y="482"/>
                    </a:lnTo>
                    <a:lnTo>
                      <a:pt x="638" y="504"/>
                    </a:lnTo>
                    <a:lnTo>
                      <a:pt x="638" y="526"/>
                    </a:lnTo>
                    <a:lnTo>
                      <a:pt x="650" y="549"/>
                    </a:lnTo>
                    <a:lnTo>
                      <a:pt x="650" y="571"/>
                    </a:lnTo>
                    <a:lnTo>
                      <a:pt x="650" y="594"/>
                    </a:lnTo>
                    <a:lnTo>
                      <a:pt x="650" y="616"/>
                    </a:lnTo>
                    <a:lnTo>
                      <a:pt x="650" y="638"/>
                    </a:lnTo>
                    <a:lnTo>
                      <a:pt x="650" y="660"/>
                    </a:lnTo>
                    <a:lnTo>
                      <a:pt x="650" y="683"/>
                    </a:lnTo>
                    <a:lnTo>
                      <a:pt x="627" y="694"/>
                    </a:lnTo>
                    <a:lnTo>
                      <a:pt x="605" y="706"/>
                    </a:lnTo>
                    <a:lnTo>
                      <a:pt x="582" y="716"/>
                    </a:lnTo>
                    <a:lnTo>
                      <a:pt x="549" y="728"/>
                    </a:lnTo>
                    <a:lnTo>
                      <a:pt x="526" y="739"/>
                    </a:lnTo>
                    <a:lnTo>
                      <a:pt x="493" y="751"/>
                    </a:lnTo>
                    <a:lnTo>
                      <a:pt x="471" y="761"/>
                    </a:lnTo>
                    <a:lnTo>
                      <a:pt x="448" y="772"/>
                    </a:lnTo>
                    <a:lnTo>
                      <a:pt x="415" y="772"/>
                    </a:lnTo>
                    <a:lnTo>
                      <a:pt x="391" y="784"/>
                    </a:lnTo>
                    <a:lnTo>
                      <a:pt x="358" y="784"/>
                    </a:lnTo>
                    <a:lnTo>
                      <a:pt x="335" y="784"/>
                    </a:lnTo>
                    <a:lnTo>
                      <a:pt x="302" y="784"/>
                    </a:lnTo>
                    <a:lnTo>
                      <a:pt x="279" y="784"/>
                    </a:lnTo>
                    <a:lnTo>
                      <a:pt x="257" y="772"/>
                    </a:lnTo>
                    <a:lnTo>
                      <a:pt x="224" y="761"/>
                    </a:lnTo>
                    <a:lnTo>
                      <a:pt x="213" y="739"/>
                    </a:lnTo>
                    <a:lnTo>
                      <a:pt x="201" y="728"/>
                    </a:lnTo>
                    <a:lnTo>
                      <a:pt x="190" y="706"/>
                    </a:lnTo>
                    <a:lnTo>
                      <a:pt x="178" y="683"/>
                    </a:lnTo>
                    <a:lnTo>
                      <a:pt x="168" y="660"/>
                    </a:lnTo>
                    <a:lnTo>
                      <a:pt x="156" y="650"/>
                    </a:lnTo>
                    <a:lnTo>
                      <a:pt x="134" y="627"/>
                    </a:lnTo>
                    <a:lnTo>
                      <a:pt x="123" y="605"/>
                    </a:lnTo>
                    <a:lnTo>
                      <a:pt x="112" y="582"/>
                    </a:lnTo>
                    <a:lnTo>
                      <a:pt x="100" y="571"/>
                    </a:lnTo>
                    <a:lnTo>
                      <a:pt x="89" y="549"/>
                    </a:lnTo>
                    <a:lnTo>
                      <a:pt x="67" y="526"/>
                    </a:lnTo>
                    <a:lnTo>
                      <a:pt x="56" y="515"/>
                    </a:lnTo>
                    <a:lnTo>
                      <a:pt x="33" y="493"/>
                    </a:lnTo>
                    <a:lnTo>
                      <a:pt x="23" y="482"/>
                    </a:lnTo>
                    <a:lnTo>
                      <a:pt x="0" y="470"/>
                    </a:lnTo>
                    <a:lnTo>
                      <a:pt x="0" y="460"/>
                    </a:lnTo>
                    <a:lnTo>
                      <a:pt x="11" y="448"/>
                    </a:lnTo>
                    <a:lnTo>
                      <a:pt x="11" y="437"/>
                    </a:lnTo>
                    <a:lnTo>
                      <a:pt x="23" y="437"/>
                    </a:lnTo>
                    <a:lnTo>
                      <a:pt x="23" y="426"/>
                    </a:lnTo>
                    <a:lnTo>
                      <a:pt x="33" y="426"/>
                    </a:lnTo>
                    <a:lnTo>
                      <a:pt x="33" y="414"/>
                    </a:lnTo>
                    <a:lnTo>
                      <a:pt x="44" y="414"/>
                    </a:lnTo>
                    <a:lnTo>
                      <a:pt x="79" y="380"/>
                    </a:lnTo>
                    <a:lnTo>
                      <a:pt x="100" y="357"/>
                    </a:lnTo>
                    <a:lnTo>
                      <a:pt x="123" y="335"/>
                    </a:lnTo>
                    <a:lnTo>
                      <a:pt x="145" y="313"/>
                    </a:lnTo>
                    <a:lnTo>
                      <a:pt x="178" y="291"/>
                    </a:lnTo>
                    <a:lnTo>
                      <a:pt x="201" y="268"/>
                    </a:lnTo>
                    <a:lnTo>
                      <a:pt x="234" y="235"/>
                    </a:lnTo>
                    <a:lnTo>
                      <a:pt x="257" y="213"/>
                    </a:lnTo>
                    <a:lnTo>
                      <a:pt x="279" y="190"/>
                    </a:lnTo>
                    <a:lnTo>
                      <a:pt x="302" y="157"/>
                    </a:lnTo>
                    <a:lnTo>
                      <a:pt x="335" y="134"/>
                    </a:lnTo>
                    <a:lnTo>
                      <a:pt x="358" y="112"/>
                    </a:lnTo>
                    <a:lnTo>
                      <a:pt x="380" y="78"/>
                    </a:lnTo>
                    <a:lnTo>
                      <a:pt x="403" y="56"/>
                    </a:lnTo>
                    <a:lnTo>
                      <a:pt x="425" y="22"/>
                    </a:lnTo>
                    <a:lnTo>
                      <a:pt x="437" y="0"/>
                    </a:lnTo>
                    <a:lnTo>
                      <a:pt x="460" y="11"/>
                    </a:lnTo>
                    <a:lnTo>
                      <a:pt x="471" y="33"/>
                    </a:lnTo>
                    <a:lnTo>
                      <a:pt x="481" y="45"/>
                    </a:lnTo>
                    <a:lnTo>
                      <a:pt x="493" y="66"/>
                    </a:lnTo>
                    <a:lnTo>
                      <a:pt x="504" y="89"/>
                    </a:lnTo>
                    <a:lnTo>
                      <a:pt x="516" y="112"/>
                    </a:lnTo>
                    <a:lnTo>
                      <a:pt x="526" y="134"/>
                    </a:lnTo>
                    <a:lnTo>
                      <a:pt x="526" y="145"/>
                    </a:lnTo>
                    <a:lnTo>
                      <a:pt x="537" y="167"/>
                    </a:lnTo>
                    <a:lnTo>
                      <a:pt x="549" y="190"/>
                    </a:lnTo>
                    <a:lnTo>
                      <a:pt x="549" y="213"/>
                    </a:lnTo>
                    <a:lnTo>
                      <a:pt x="560" y="235"/>
                    </a:lnTo>
                    <a:lnTo>
                      <a:pt x="572" y="256"/>
                    </a:lnTo>
                    <a:lnTo>
                      <a:pt x="572" y="279"/>
                    </a:lnTo>
                    <a:lnTo>
                      <a:pt x="582" y="302"/>
                    </a:lnTo>
                    <a:lnTo>
                      <a:pt x="593" y="32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6663600" y="3853440"/>
                <a:ext cx="20520" cy="137520"/>
              </a:xfrm>
              <a:custGeom>
                <a:avLst/>
                <a:gdLst/>
                <a:ahLst/>
                <a:rect l="l" t="t" r="r" b="b"/>
                <a:pathLst>
                  <a:path w="57" h="359">
                    <a:moveTo>
                      <a:pt x="0" y="0"/>
                    </a:moveTo>
                    <a:lnTo>
                      <a:pt x="0" y="23"/>
                    </a:lnTo>
                    <a:lnTo>
                      <a:pt x="12" y="45"/>
                    </a:lnTo>
                    <a:lnTo>
                      <a:pt x="12" y="68"/>
                    </a:lnTo>
                    <a:lnTo>
                      <a:pt x="23" y="90"/>
                    </a:lnTo>
                    <a:lnTo>
                      <a:pt x="23" y="113"/>
                    </a:lnTo>
                    <a:lnTo>
                      <a:pt x="34" y="136"/>
                    </a:lnTo>
                    <a:lnTo>
                      <a:pt x="34" y="158"/>
                    </a:lnTo>
                    <a:lnTo>
                      <a:pt x="45" y="180"/>
                    </a:lnTo>
                    <a:lnTo>
                      <a:pt x="45" y="202"/>
                    </a:lnTo>
                    <a:lnTo>
                      <a:pt x="57" y="225"/>
                    </a:lnTo>
                    <a:lnTo>
                      <a:pt x="57" y="247"/>
                    </a:lnTo>
                    <a:lnTo>
                      <a:pt x="57" y="270"/>
                    </a:lnTo>
                    <a:lnTo>
                      <a:pt x="57" y="292"/>
                    </a:lnTo>
                    <a:lnTo>
                      <a:pt x="57" y="314"/>
                    </a:lnTo>
                    <a:lnTo>
                      <a:pt x="57" y="336"/>
                    </a:lnTo>
                    <a:lnTo>
                      <a:pt x="57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6432480" y="390960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224" y="291"/>
                    </a:moveTo>
                    <a:lnTo>
                      <a:pt x="213" y="269"/>
                    </a:lnTo>
                    <a:lnTo>
                      <a:pt x="201" y="258"/>
                    </a:lnTo>
                    <a:lnTo>
                      <a:pt x="190" y="236"/>
                    </a:lnTo>
                    <a:lnTo>
                      <a:pt x="178" y="213"/>
                    </a:lnTo>
                    <a:lnTo>
                      <a:pt x="168" y="190"/>
                    </a:lnTo>
                    <a:lnTo>
                      <a:pt x="156" y="180"/>
                    </a:lnTo>
                    <a:lnTo>
                      <a:pt x="134" y="157"/>
                    </a:lnTo>
                    <a:lnTo>
                      <a:pt x="123" y="135"/>
                    </a:lnTo>
                    <a:lnTo>
                      <a:pt x="112" y="112"/>
                    </a:lnTo>
                    <a:lnTo>
                      <a:pt x="100" y="101"/>
                    </a:lnTo>
                    <a:lnTo>
                      <a:pt x="89" y="79"/>
                    </a:lnTo>
                    <a:lnTo>
                      <a:pt x="67" y="56"/>
                    </a:lnTo>
                    <a:lnTo>
                      <a:pt x="56" y="45"/>
                    </a:lnTo>
                    <a:lnTo>
                      <a:pt x="33" y="23"/>
                    </a:lnTo>
                    <a:lnTo>
                      <a:pt x="23" y="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6449040" y="3727440"/>
                <a:ext cx="153720" cy="160920"/>
              </a:xfrm>
              <a:custGeom>
                <a:avLst/>
                <a:gdLst/>
                <a:ahLst/>
                <a:rect l="l" t="t" r="r" b="b"/>
                <a:pathLst>
                  <a:path w="393" h="414">
                    <a:moveTo>
                      <a:pt x="0" y="414"/>
                    </a:moveTo>
                    <a:lnTo>
                      <a:pt x="35" y="380"/>
                    </a:lnTo>
                    <a:lnTo>
                      <a:pt x="56" y="357"/>
                    </a:lnTo>
                    <a:lnTo>
                      <a:pt x="79" y="335"/>
                    </a:lnTo>
                    <a:lnTo>
                      <a:pt x="101" y="313"/>
                    </a:lnTo>
                    <a:lnTo>
                      <a:pt x="134" y="291"/>
                    </a:lnTo>
                    <a:lnTo>
                      <a:pt x="157" y="268"/>
                    </a:lnTo>
                    <a:lnTo>
                      <a:pt x="190" y="235"/>
                    </a:lnTo>
                    <a:lnTo>
                      <a:pt x="213" y="213"/>
                    </a:lnTo>
                    <a:lnTo>
                      <a:pt x="235" y="190"/>
                    </a:lnTo>
                    <a:lnTo>
                      <a:pt x="258" y="157"/>
                    </a:lnTo>
                    <a:lnTo>
                      <a:pt x="291" y="134"/>
                    </a:lnTo>
                    <a:lnTo>
                      <a:pt x="314" y="112"/>
                    </a:lnTo>
                    <a:lnTo>
                      <a:pt x="336" y="78"/>
                    </a:lnTo>
                    <a:lnTo>
                      <a:pt x="359" y="56"/>
                    </a:lnTo>
                    <a:lnTo>
                      <a:pt x="381" y="22"/>
                    </a:lnTo>
                    <a:lnTo>
                      <a:pt x="39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6602760" y="3727440"/>
                <a:ext cx="60840" cy="126000"/>
              </a:xfrm>
              <a:custGeom>
                <a:avLst/>
                <a:gdLst/>
                <a:ahLst/>
                <a:rect l="l" t="t" r="r" b="b"/>
                <a:pathLst>
                  <a:path w="156" h="324">
                    <a:moveTo>
                      <a:pt x="0" y="0"/>
                    </a:moveTo>
                    <a:lnTo>
                      <a:pt x="23" y="11"/>
                    </a:lnTo>
                    <a:lnTo>
                      <a:pt x="34" y="33"/>
                    </a:lnTo>
                    <a:lnTo>
                      <a:pt x="44" y="45"/>
                    </a:lnTo>
                    <a:lnTo>
                      <a:pt x="56" y="66"/>
                    </a:lnTo>
                    <a:lnTo>
                      <a:pt x="67" y="89"/>
                    </a:lnTo>
                    <a:lnTo>
                      <a:pt x="79" y="112"/>
                    </a:lnTo>
                    <a:lnTo>
                      <a:pt x="89" y="134"/>
                    </a:lnTo>
                    <a:lnTo>
                      <a:pt x="89" y="145"/>
                    </a:lnTo>
                    <a:lnTo>
                      <a:pt x="100" y="167"/>
                    </a:lnTo>
                    <a:lnTo>
                      <a:pt x="112" y="190"/>
                    </a:lnTo>
                    <a:lnTo>
                      <a:pt x="112" y="213"/>
                    </a:lnTo>
                    <a:lnTo>
                      <a:pt x="123" y="235"/>
                    </a:lnTo>
                    <a:lnTo>
                      <a:pt x="135" y="256"/>
                    </a:lnTo>
                    <a:lnTo>
                      <a:pt x="135" y="279"/>
                    </a:lnTo>
                    <a:lnTo>
                      <a:pt x="145" y="302"/>
                    </a:lnTo>
                    <a:lnTo>
                      <a:pt x="156" y="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7025040" y="3930840"/>
                <a:ext cx="610920" cy="1292760"/>
              </a:xfrm>
              <a:custGeom>
                <a:avLst/>
                <a:gdLst/>
                <a:ahLst/>
                <a:rect l="l" t="t" r="r" b="b"/>
                <a:pathLst>
                  <a:path w="1569" h="3319">
                    <a:moveTo>
                      <a:pt x="998" y="124"/>
                    </a:moveTo>
                    <a:lnTo>
                      <a:pt x="1009" y="146"/>
                    </a:lnTo>
                    <a:lnTo>
                      <a:pt x="1021" y="168"/>
                    </a:lnTo>
                    <a:lnTo>
                      <a:pt x="1031" y="202"/>
                    </a:lnTo>
                    <a:lnTo>
                      <a:pt x="1054" y="225"/>
                    </a:lnTo>
                    <a:lnTo>
                      <a:pt x="1066" y="246"/>
                    </a:lnTo>
                    <a:lnTo>
                      <a:pt x="1088" y="281"/>
                    </a:lnTo>
                    <a:lnTo>
                      <a:pt x="1099" y="303"/>
                    </a:lnTo>
                    <a:lnTo>
                      <a:pt x="1110" y="326"/>
                    </a:lnTo>
                    <a:lnTo>
                      <a:pt x="1132" y="359"/>
                    </a:lnTo>
                    <a:lnTo>
                      <a:pt x="1144" y="381"/>
                    </a:lnTo>
                    <a:lnTo>
                      <a:pt x="1166" y="404"/>
                    </a:lnTo>
                    <a:lnTo>
                      <a:pt x="1177" y="427"/>
                    </a:lnTo>
                    <a:lnTo>
                      <a:pt x="1200" y="460"/>
                    </a:lnTo>
                    <a:lnTo>
                      <a:pt x="1211" y="482"/>
                    </a:lnTo>
                    <a:lnTo>
                      <a:pt x="1221" y="505"/>
                    </a:lnTo>
                    <a:lnTo>
                      <a:pt x="1244" y="538"/>
                    </a:lnTo>
                    <a:lnTo>
                      <a:pt x="1256" y="561"/>
                    </a:lnTo>
                    <a:lnTo>
                      <a:pt x="1278" y="594"/>
                    </a:lnTo>
                    <a:lnTo>
                      <a:pt x="1300" y="617"/>
                    </a:lnTo>
                    <a:lnTo>
                      <a:pt x="1322" y="650"/>
                    </a:lnTo>
                    <a:lnTo>
                      <a:pt x="1345" y="683"/>
                    </a:lnTo>
                    <a:lnTo>
                      <a:pt x="1356" y="707"/>
                    </a:lnTo>
                    <a:lnTo>
                      <a:pt x="1378" y="740"/>
                    </a:lnTo>
                    <a:lnTo>
                      <a:pt x="1401" y="775"/>
                    </a:lnTo>
                    <a:lnTo>
                      <a:pt x="1423" y="797"/>
                    </a:lnTo>
                    <a:lnTo>
                      <a:pt x="1435" y="831"/>
                    </a:lnTo>
                    <a:lnTo>
                      <a:pt x="1458" y="853"/>
                    </a:lnTo>
                    <a:lnTo>
                      <a:pt x="1480" y="886"/>
                    </a:lnTo>
                    <a:lnTo>
                      <a:pt x="1503" y="920"/>
                    </a:lnTo>
                    <a:lnTo>
                      <a:pt x="1526" y="942"/>
                    </a:lnTo>
                    <a:lnTo>
                      <a:pt x="1547" y="975"/>
                    </a:lnTo>
                    <a:lnTo>
                      <a:pt x="1559" y="1009"/>
                    </a:lnTo>
                    <a:lnTo>
                      <a:pt x="1569" y="1009"/>
                    </a:lnTo>
                    <a:lnTo>
                      <a:pt x="1569" y="1021"/>
                    </a:lnTo>
                    <a:lnTo>
                      <a:pt x="1569" y="1031"/>
                    </a:lnTo>
                    <a:lnTo>
                      <a:pt x="1569" y="1043"/>
                    </a:lnTo>
                    <a:lnTo>
                      <a:pt x="1559" y="1054"/>
                    </a:lnTo>
                    <a:lnTo>
                      <a:pt x="1559" y="1065"/>
                    </a:lnTo>
                    <a:lnTo>
                      <a:pt x="1547" y="1065"/>
                    </a:lnTo>
                    <a:lnTo>
                      <a:pt x="1547" y="1076"/>
                    </a:lnTo>
                    <a:lnTo>
                      <a:pt x="1536" y="1076"/>
                    </a:lnTo>
                    <a:lnTo>
                      <a:pt x="1526" y="1076"/>
                    </a:lnTo>
                    <a:lnTo>
                      <a:pt x="1514" y="1087"/>
                    </a:lnTo>
                    <a:lnTo>
                      <a:pt x="1503" y="1087"/>
                    </a:lnTo>
                    <a:lnTo>
                      <a:pt x="1491" y="1087"/>
                    </a:lnTo>
                    <a:lnTo>
                      <a:pt x="1480" y="1099"/>
                    </a:lnTo>
                    <a:lnTo>
                      <a:pt x="1470" y="1099"/>
                    </a:lnTo>
                    <a:lnTo>
                      <a:pt x="1458" y="1110"/>
                    </a:lnTo>
                    <a:lnTo>
                      <a:pt x="1447" y="1110"/>
                    </a:lnTo>
                    <a:lnTo>
                      <a:pt x="1435" y="1120"/>
                    </a:lnTo>
                    <a:lnTo>
                      <a:pt x="1423" y="1120"/>
                    </a:lnTo>
                    <a:lnTo>
                      <a:pt x="1413" y="1132"/>
                    </a:lnTo>
                    <a:lnTo>
                      <a:pt x="1401" y="1144"/>
                    </a:lnTo>
                    <a:lnTo>
                      <a:pt x="1390" y="1144"/>
                    </a:lnTo>
                    <a:lnTo>
                      <a:pt x="1378" y="1155"/>
                    </a:lnTo>
                    <a:lnTo>
                      <a:pt x="1368" y="1155"/>
                    </a:lnTo>
                    <a:lnTo>
                      <a:pt x="1356" y="1167"/>
                    </a:lnTo>
                    <a:lnTo>
                      <a:pt x="1300" y="1200"/>
                    </a:lnTo>
                    <a:lnTo>
                      <a:pt x="1233" y="1234"/>
                    </a:lnTo>
                    <a:lnTo>
                      <a:pt x="1177" y="1268"/>
                    </a:lnTo>
                    <a:lnTo>
                      <a:pt x="1110" y="1301"/>
                    </a:lnTo>
                    <a:lnTo>
                      <a:pt x="1043" y="1346"/>
                    </a:lnTo>
                    <a:lnTo>
                      <a:pt x="986" y="1379"/>
                    </a:lnTo>
                    <a:lnTo>
                      <a:pt x="918" y="1413"/>
                    </a:lnTo>
                    <a:lnTo>
                      <a:pt x="863" y="1446"/>
                    </a:lnTo>
                    <a:lnTo>
                      <a:pt x="796" y="1480"/>
                    </a:lnTo>
                    <a:lnTo>
                      <a:pt x="728" y="1514"/>
                    </a:lnTo>
                    <a:lnTo>
                      <a:pt x="673" y="1547"/>
                    </a:lnTo>
                    <a:lnTo>
                      <a:pt x="606" y="1581"/>
                    </a:lnTo>
                    <a:lnTo>
                      <a:pt x="549" y="1616"/>
                    </a:lnTo>
                    <a:lnTo>
                      <a:pt x="481" y="1649"/>
                    </a:lnTo>
                    <a:lnTo>
                      <a:pt x="415" y="1682"/>
                    </a:lnTo>
                    <a:lnTo>
                      <a:pt x="359" y="1716"/>
                    </a:lnTo>
                    <a:lnTo>
                      <a:pt x="359" y="1728"/>
                    </a:lnTo>
                    <a:lnTo>
                      <a:pt x="347" y="1728"/>
                    </a:lnTo>
                    <a:lnTo>
                      <a:pt x="347" y="1738"/>
                    </a:lnTo>
                    <a:lnTo>
                      <a:pt x="359" y="1738"/>
                    </a:lnTo>
                    <a:lnTo>
                      <a:pt x="359" y="1750"/>
                    </a:lnTo>
                    <a:lnTo>
                      <a:pt x="359" y="1761"/>
                    </a:lnTo>
                    <a:lnTo>
                      <a:pt x="359" y="1771"/>
                    </a:lnTo>
                    <a:lnTo>
                      <a:pt x="370" y="1771"/>
                    </a:lnTo>
                    <a:lnTo>
                      <a:pt x="370" y="1783"/>
                    </a:lnTo>
                    <a:lnTo>
                      <a:pt x="382" y="1783"/>
                    </a:lnTo>
                    <a:lnTo>
                      <a:pt x="382" y="1794"/>
                    </a:lnTo>
                    <a:lnTo>
                      <a:pt x="426" y="1872"/>
                    </a:lnTo>
                    <a:lnTo>
                      <a:pt x="471" y="1951"/>
                    </a:lnTo>
                    <a:lnTo>
                      <a:pt x="516" y="2030"/>
                    </a:lnTo>
                    <a:lnTo>
                      <a:pt x="560" y="2097"/>
                    </a:lnTo>
                    <a:lnTo>
                      <a:pt x="606" y="2175"/>
                    </a:lnTo>
                    <a:lnTo>
                      <a:pt x="651" y="2254"/>
                    </a:lnTo>
                    <a:lnTo>
                      <a:pt x="695" y="2332"/>
                    </a:lnTo>
                    <a:lnTo>
                      <a:pt x="740" y="2411"/>
                    </a:lnTo>
                    <a:lnTo>
                      <a:pt x="784" y="2490"/>
                    </a:lnTo>
                    <a:lnTo>
                      <a:pt x="819" y="2569"/>
                    </a:lnTo>
                    <a:lnTo>
                      <a:pt x="863" y="2646"/>
                    </a:lnTo>
                    <a:lnTo>
                      <a:pt x="897" y="2724"/>
                    </a:lnTo>
                    <a:lnTo>
                      <a:pt x="941" y="2803"/>
                    </a:lnTo>
                    <a:lnTo>
                      <a:pt x="974" y="2882"/>
                    </a:lnTo>
                    <a:lnTo>
                      <a:pt x="1021" y="2961"/>
                    </a:lnTo>
                    <a:lnTo>
                      <a:pt x="1054" y="3050"/>
                    </a:lnTo>
                    <a:lnTo>
                      <a:pt x="1054" y="3062"/>
                    </a:lnTo>
                    <a:lnTo>
                      <a:pt x="1054" y="3072"/>
                    </a:lnTo>
                    <a:lnTo>
                      <a:pt x="1054" y="3083"/>
                    </a:lnTo>
                    <a:lnTo>
                      <a:pt x="1066" y="3095"/>
                    </a:lnTo>
                    <a:lnTo>
                      <a:pt x="1066" y="3106"/>
                    </a:lnTo>
                    <a:lnTo>
                      <a:pt x="1066" y="3117"/>
                    </a:lnTo>
                    <a:lnTo>
                      <a:pt x="1076" y="3128"/>
                    </a:lnTo>
                    <a:lnTo>
                      <a:pt x="1076" y="3140"/>
                    </a:lnTo>
                    <a:lnTo>
                      <a:pt x="1076" y="3151"/>
                    </a:lnTo>
                    <a:lnTo>
                      <a:pt x="1076" y="3161"/>
                    </a:lnTo>
                    <a:lnTo>
                      <a:pt x="1088" y="3173"/>
                    </a:lnTo>
                    <a:lnTo>
                      <a:pt x="1088" y="3184"/>
                    </a:lnTo>
                    <a:lnTo>
                      <a:pt x="1088" y="3196"/>
                    </a:lnTo>
                    <a:lnTo>
                      <a:pt x="1088" y="3207"/>
                    </a:lnTo>
                    <a:lnTo>
                      <a:pt x="1099" y="3229"/>
                    </a:lnTo>
                    <a:lnTo>
                      <a:pt x="1099" y="3240"/>
                    </a:lnTo>
                    <a:lnTo>
                      <a:pt x="1088" y="3240"/>
                    </a:lnTo>
                    <a:lnTo>
                      <a:pt x="1088" y="3252"/>
                    </a:lnTo>
                    <a:lnTo>
                      <a:pt x="1088" y="3264"/>
                    </a:lnTo>
                    <a:lnTo>
                      <a:pt x="1088" y="3274"/>
                    </a:lnTo>
                    <a:lnTo>
                      <a:pt x="1076" y="3286"/>
                    </a:lnTo>
                    <a:lnTo>
                      <a:pt x="1076" y="3297"/>
                    </a:lnTo>
                    <a:lnTo>
                      <a:pt x="1066" y="3309"/>
                    </a:lnTo>
                    <a:lnTo>
                      <a:pt x="1054" y="3309"/>
                    </a:lnTo>
                    <a:lnTo>
                      <a:pt x="998" y="3309"/>
                    </a:lnTo>
                    <a:lnTo>
                      <a:pt x="941" y="3309"/>
                    </a:lnTo>
                    <a:lnTo>
                      <a:pt x="885" y="3309"/>
                    </a:lnTo>
                    <a:lnTo>
                      <a:pt x="829" y="3309"/>
                    </a:lnTo>
                    <a:lnTo>
                      <a:pt x="774" y="3309"/>
                    </a:lnTo>
                    <a:lnTo>
                      <a:pt x="718" y="3319"/>
                    </a:lnTo>
                    <a:lnTo>
                      <a:pt x="662" y="3319"/>
                    </a:lnTo>
                    <a:lnTo>
                      <a:pt x="617" y="3319"/>
                    </a:lnTo>
                    <a:lnTo>
                      <a:pt x="560" y="3319"/>
                    </a:lnTo>
                    <a:lnTo>
                      <a:pt x="504" y="3319"/>
                    </a:lnTo>
                    <a:lnTo>
                      <a:pt x="448" y="3319"/>
                    </a:lnTo>
                    <a:lnTo>
                      <a:pt x="392" y="3319"/>
                    </a:lnTo>
                    <a:lnTo>
                      <a:pt x="336" y="3309"/>
                    </a:lnTo>
                    <a:lnTo>
                      <a:pt x="281" y="3309"/>
                    </a:lnTo>
                    <a:lnTo>
                      <a:pt x="235" y="3297"/>
                    </a:lnTo>
                    <a:lnTo>
                      <a:pt x="180" y="3297"/>
                    </a:lnTo>
                    <a:lnTo>
                      <a:pt x="169" y="3286"/>
                    </a:lnTo>
                    <a:lnTo>
                      <a:pt x="169" y="3274"/>
                    </a:lnTo>
                    <a:lnTo>
                      <a:pt x="169" y="3264"/>
                    </a:lnTo>
                    <a:lnTo>
                      <a:pt x="169" y="3252"/>
                    </a:lnTo>
                    <a:lnTo>
                      <a:pt x="169" y="3240"/>
                    </a:lnTo>
                    <a:lnTo>
                      <a:pt x="157" y="3151"/>
                    </a:lnTo>
                    <a:lnTo>
                      <a:pt x="145" y="3062"/>
                    </a:lnTo>
                    <a:lnTo>
                      <a:pt x="145" y="2971"/>
                    </a:lnTo>
                    <a:lnTo>
                      <a:pt x="134" y="2882"/>
                    </a:lnTo>
                    <a:lnTo>
                      <a:pt x="134" y="2792"/>
                    </a:lnTo>
                    <a:lnTo>
                      <a:pt x="123" y="2691"/>
                    </a:lnTo>
                    <a:lnTo>
                      <a:pt x="112" y="2602"/>
                    </a:lnTo>
                    <a:lnTo>
                      <a:pt x="112" y="2512"/>
                    </a:lnTo>
                    <a:lnTo>
                      <a:pt x="100" y="2422"/>
                    </a:lnTo>
                    <a:lnTo>
                      <a:pt x="89" y="2332"/>
                    </a:lnTo>
                    <a:lnTo>
                      <a:pt x="79" y="2243"/>
                    </a:lnTo>
                    <a:lnTo>
                      <a:pt x="67" y="2153"/>
                    </a:lnTo>
                    <a:lnTo>
                      <a:pt x="56" y="2064"/>
                    </a:lnTo>
                    <a:lnTo>
                      <a:pt x="34" y="1973"/>
                    </a:lnTo>
                    <a:lnTo>
                      <a:pt x="22" y="1895"/>
                    </a:lnTo>
                    <a:lnTo>
                      <a:pt x="0" y="1806"/>
                    </a:lnTo>
                    <a:lnTo>
                      <a:pt x="0" y="1750"/>
                    </a:lnTo>
                    <a:lnTo>
                      <a:pt x="22" y="1705"/>
                    </a:lnTo>
                    <a:lnTo>
                      <a:pt x="44" y="1649"/>
                    </a:lnTo>
                    <a:lnTo>
                      <a:pt x="79" y="1604"/>
                    </a:lnTo>
                    <a:lnTo>
                      <a:pt x="100" y="1547"/>
                    </a:lnTo>
                    <a:lnTo>
                      <a:pt x="134" y="1502"/>
                    </a:lnTo>
                    <a:lnTo>
                      <a:pt x="157" y="1446"/>
                    </a:lnTo>
                    <a:lnTo>
                      <a:pt x="180" y="1402"/>
                    </a:lnTo>
                    <a:lnTo>
                      <a:pt x="213" y="1346"/>
                    </a:lnTo>
                    <a:lnTo>
                      <a:pt x="235" y="1290"/>
                    </a:lnTo>
                    <a:lnTo>
                      <a:pt x="258" y="1245"/>
                    </a:lnTo>
                    <a:lnTo>
                      <a:pt x="291" y="1189"/>
                    </a:lnTo>
                    <a:lnTo>
                      <a:pt x="314" y="1144"/>
                    </a:lnTo>
                    <a:lnTo>
                      <a:pt x="347" y="1087"/>
                    </a:lnTo>
                    <a:lnTo>
                      <a:pt x="370" y="1043"/>
                    </a:lnTo>
                    <a:lnTo>
                      <a:pt x="403" y="987"/>
                    </a:lnTo>
                    <a:lnTo>
                      <a:pt x="437" y="942"/>
                    </a:lnTo>
                    <a:lnTo>
                      <a:pt x="460" y="886"/>
                    </a:lnTo>
                    <a:lnTo>
                      <a:pt x="493" y="831"/>
                    </a:lnTo>
                    <a:lnTo>
                      <a:pt x="516" y="763"/>
                    </a:lnTo>
                    <a:lnTo>
                      <a:pt x="549" y="707"/>
                    </a:lnTo>
                    <a:lnTo>
                      <a:pt x="572" y="650"/>
                    </a:lnTo>
                    <a:lnTo>
                      <a:pt x="594" y="583"/>
                    </a:lnTo>
                    <a:lnTo>
                      <a:pt x="629" y="528"/>
                    </a:lnTo>
                    <a:lnTo>
                      <a:pt x="651" y="472"/>
                    </a:lnTo>
                    <a:lnTo>
                      <a:pt x="684" y="404"/>
                    </a:lnTo>
                    <a:lnTo>
                      <a:pt x="707" y="348"/>
                    </a:lnTo>
                    <a:lnTo>
                      <a:pt x="728" y="292"/>
                    </a:lnTo>
                    <a:lnTo>
                      <a:pt x="763" y="235"/>
                    </a:lnTo>
                    <a:lnTo>
                      <a:pt x="796" y="168"/>
                    </a:lnTo>
                    <a:lnTo>
                      <a:pt x="819" y="112"/>
                    </a:lnTo>
                    <a:lnTo>
                      <a:pt x="852" y="56"/>
                    </a:lnTo>
                    <a:lnTo>
                      <a:pt x="885" y="0"/>
                    </a:lnTo>
                    <a:lnTo>
                      <a:pt x="897" y="0"/>
                    </a:lnTo>
                    <a:lnTo>
                      <a:pt x="908" y="0"/>
                    </a:lnTo>
                    <a:lnTo>
                      <a:pt x="918" y="12"/>
                    </a:lnTo>
                    <a:lnTo>
                      <a:pt x="930" y="23"/>
                    </a:lnTo>
                    <a:lnTo>
                      <a:pt x="941" y="35"/>
                    </a:lnTo>
                    <a:lnTo>
                      <a:pt x="953" y="45"/>
                    </a:lnTo>
                    <a:lnTo>
                      <a:pt x="953" y="56"/>
                    </a:lnTo>
                    <a:lnTo>
                      <a:pt x="964" y="68"/>
                    </a:lnTo>
                    <a:lnTo>
                      <a:pt x="964" y="79"/>
                    </a:lnTo>
                    <a:lnTo>
                      <a:pt x="974" y="90"/>
                    </a:lnTo>
                    <a:lnTo>
                      <a:pt x="986" y="101"/>
                    </a:lnTo>
                    <a:lnTo>
                      <a:pt x="986" y="112"/>
                    </a:lnTo>
                    <a:lnTo>
                      <a:pt x="998" y="1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412400" y="3979440"/>
                <a:ext cx="95760" cy="160920"/>
              </a:xfrm>
              <a:custGeom>
                <a:avLst/>
                <a:gdLst/>
                <a:ahLst/>
                <a:rect l="l" t="t" r="r" b="b"/>
                <a:pathLst>
                  <a:path w="246" h="414">
                    <a:moveTo>
                      <a:pt x="0" y="0"/>
                    </a:moveTo>
                    <a:lnTo>
                      <a:pt x="11" y="22"/>
                    </a:lnTo>
                    <a:lnTo>
                      <a:pt x="23" y="44"/>
                    </a:lnTo>
                    <a:lnTo>
                      <a:pt x="33" y="78"/>
                    </a:lnTo>
                    <a:lnTo>
                      <a:pt x="56" y="101"/>
                    </a:lnTo>
                    <a:lnTo>
                      <a:pt x="68" y="122"/>
                    </a:lnTo>
                    <a:lnTo>
                      <a:pt x="90" y="157"/>
                    </a:lnTo>
                    <a:lnTo>
                      <a:pt x="101" y="179"/>
                    </a:lnTo>
                    <a:lnTo>
                      <a:pt x="112" y="202"/>
                    </a:lnTo>
                    <a:lnTo>
                      <a:pt x="134" y="235"/>
                    </a:lnTo>
                    <a:lnTo>
                      <a:pt x="146" y="257"/>
                    </a:lnTo>
                    <a:lnTo>
                      <a:pt x="168" y="280"/>
                    </a:lnTo>
                    <a:lnTo>
                      <a:pt x="179" y="303"/>
                    </a:lnTo>
                    <a:lnTo>
                      <a:pt x="202" y="336"/>
                    </a:lnTo>
                    <a:lnTo>
                      <a:pt x="213" y="358"/>
                    </a:lnTo>
                    <a:lnTo>
                      <a:pt x="223" y="381"/>
                    </a:lnTo>
                    <a:lnTo>
                      <a:pt x="246" y="41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7508160" y="4140360"/>
                <a:ext cx="123480" cy="181800"/>
              </a:xfrm>
              <a:custGeom>
                <a:avLst/>
                <a:gdLst/>
                <a:ahLst/>
                <a:rect l="l" t="t" r="r" b="b"/>
                <a:pathLst>
                  <a:path w="315" h="471">
                    <a:moveTo>
                      <a:pt x="0" y="0"/>
                    </a:moveTo>
                    <a:lnTo>
                      <a:pt x="12" y="23"/>
                    </a:lnTo>
                    <a:lnTo>
                      <a:pt x="34" y="56"/>
                    </a:lnTo>
                    <a:lnTo>
                      <a:pt x="56" y="79"/>
                    </a:lnTo>
                    <a:lnTo>
                      <a:pt x="78" y="112"/>
                    </a:lnTo>
                    <a:lnTo>
                      <a:pt x="101" y="145"/>
                    </a:lnTo>
                    <a:lnTo>
                      <a:pt x="112" y="169"/>
                    </a:lnTo>
                    <a:lnTo>
                      <a:pt x="134" y="202"/>
                    </a:lnTo>
                    <a:lnTo>
                      <a:pt x="157" y="237"/>
                    </a:lnTo>
                    <a:lnTo>
                      <a:pt x="179" y="259"/>
                    </a:lnTo>
                    <a:lnTo>
                      <a:pt x="191" y="293"/>
                    </a:lnTo>
                    <a:lnTo>
                      <a:pt x="214" y="315"/>
                    </a:lnTo>
                    <a:lnTo>
                      <a:pt x="236" y="348"/>
                    </a:lnTo>
                    <a:lnTo>
                      <a:pt x="259" y="382"/>
                    </a:lnTo>
                    <a:lnTo>
                      <a:pt x="282" y="404"/>
                    </a:lnTo>
                    <a:lnTo>
                      <a:pt x="303" y="437"/>
                    </a:lnTo>
                    <a:lnTo>
                      <a:pt x="315" y="47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7165440" y="4385520"/>
                <a:ext cx="387000" cy="212760"/>
              </a:xfrm>
              <a:custGeom>
                <a:avLst/>
                <a:gdLst/>
                <a:ahLst/>
                <a:rect l="l" t="t" r="r" b="b"/>
                <a:pathLst>
                  <a:path w="997" h="549">
                    <a:moveTo>
                      <a:pt x="997" y="0"/>
                    </a:moveTo>
                    <a:lnTo>
                      <a:pt x="941" y="33"/>
                    </a:lnTo>
                    <a:lnTo>
                      <a:pt x="874" y="67"/>
                    </a:lnTo>
                    <a:lnTo>
                      <a:pt x="818" y="101"/>
                    </a:lnTo>
                    <a:lnTo>
                      <a:pt x="751" y="134"/>
                    </a:lnTo>
                    <a:lnTo>
                      <a:pt x="684" y="179"/>
                    </a:lnTo>
                    <a:lnTo>
                      <a:pt x="627" y="212"/>
                    </a:lnTo>
                    <a:lnTo>
                      <a:pt x="559" y="246"/>
                    </a:lnTo>
                    <a:lnTo>
                      <a:pt x="504" y="279"/>
                    </a:lnTo>
                    <a:lnTo>
                      <a:pt x="437" y="313"/>
                    </a:lnTo>
                    <a:lnTo>
                      <a:pt x="369" y="347"/>
                    </a:lnTo>
                    <a:lnTo>
                      <a:pt x="314" y="380"/>
                    </a:lnTo>
                    <a:lnTo>
                      <a:pt x="247" y="414"/>
                    </a:lnTo>
                    <a:lnTo>
                      <a:pt x="190" y="449"/>
                    </a:lnTo>
                    <a:lnTo>
                      <a:pt x="122" y="482"/>
                    </a:lnTo>
                    <a:lnTo>
                      <a:pt x="56" y="515"/>
                    </a:lnTo>
                    <a:lnTo>
                      <a:pt x="0" y="54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7174440" y="4628520"/>
                <a:ext cx="261360" cy="489960"/>
              </a:xfrm>
              <a:custGeom>
                <a:avLst/>
                <a:gdLst/>
                <a:ahLst/>
                <a:rect l="l" t="t" r="r" b="b"/>
                <a:pathLst>
                  <a:path w="672" h="1256">
                    <a:moveTo>
                      <a:pt x="0" y="0"/>
                    </a:moveTo>
                    <a:lnTo>
                      <a:pt x="44" y="78"/>
                    </a:lnTo>
                    <a:lnTo>
                      <a:pt x="89" y="157"/>
                    </a:lnTo>
                    <a:lnTo>
                      <a:pt x="134" y="236"/>
                    </a:lnTo>
                    <a:lnTo>
                      <a:pt x="178" y="303"/>
                    </a:lnTo>
                    <a:lnTo>
                      <a:pt x="224" y="381"/>
                    </a:lnTo>
                    <a:lnTo>
                      <a:pt x="269" y="460"/>
                    </a:lnTo>
                    <a:lnTo>
                      <a:pt x="313" y="538"/>
                    </a:lnTo>
                    <a:lnTo>
                      <a:pt x="358" y="617"/>
                    </a:lnTo>
                    <a:lnTo>
                      <a:pt x="402" y="696"/>
                    </a:lnTo>
                    <a:lnTo>
                      <a:pt x="437" y="775"/>
                    </a:lnTo>
                    <a:lnTo>
                      <a:pt x="481" y="852"/>
                    </a:lnTo>
                    <a:lnTo>
                      <a:pt x="515" y="930"/>
                    </a:lnTo>
                    <a:lnTo>
                      <a:pt x="559" y="1009"/>
                    </a:lnTo>
                    <a:lnTo>
                      <a:pt x="592" y="1088"/>
                    </a:lnTo>
                    <a:lnTo>
                      <a:pt x="639" y="1167"/>
                    </a:lnTo>
                    <a:lnTo>
                      <a:pt x="672" y="125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7435800" y="5118840"/>
                <a:ext cx="16200" cy="72360"/>
              </a:xfrm>
              <a:custGeom>
                <a:avLst/>
                <a:gdLst/>
                <a:ahLst/>
                <a:rect l="l" t="t" r="r" b="b"/>
                <a:pathLst>
                  <a:path w="45" h="190">
                    <a:moveTo>
                      <a:pt x="0" y="0"/>
                    </a:moveTo>
                    <a:lnTo>
                      <a:pt x="0" y="12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2" y="45"/>
                    </a:lnTo>
                    <a:lnTo>
                      <a:pt x="12" y="56"/>
                    </a:lnTo>
                    <a:lnTo>
                      <a:pt x="12" y="67"/>
                    </a:lnTo>
                    <a:lnTo>
                      <a:pt x="22" y="78"/>
                    </a:lnTo>
                    <a:lnTo>
                      <a:pt x="22" y="90"/>
                    </a:lnTo>
                    <a:lnTo>
                      <a:pt x="22" y="101"/>
                    </a:lnTo>
                    <a:lnTo>
                      <a:pt x="22" y="111"/>
                    </a:lnTo>
                    <a:lnTo>
                      <a:pt x="34" y="123"/>
                    </a:lnTo>
                    <a:lnTo>
                      <a:pt x="34" y="134"/>
                    </a:lnTo>
                    <a:lnTo>
                      <a:pt x="34" y="146"/>
                    </a:lnTo>
                    <a:lnTo>
                      <a:pt x="34" y="157"/>
                    </a:lnTo>
                    <a:lnTo>
                      <a:pt x="45" y="179"/>
                    </a:lnTo>
                    <a:lnTo>
                      <a:pt x="45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7025040" y="4633200"/>
                <a:ext cx="65520" cy="558000"/>
              </a:xfrm>
              <a:custGeom>
                <a:avLst/>
                <a:gdLst/>
                <a:ahLst/>
                <a:rect l="l" t="t" r="r" b="b"/>
                <a:pathLst>
                  <a:path w="169" h="1434">
                    <a:moveTo>
                      <a:pt x="169" y="1434"/>
                    </a:moveTo>
                    <a:lnTo>
                      <a:pt x="157" y="1345"/>
                    </a:lnTo>
                    <a:lnTo>
                      <a:pt x="145" y="1256"/>
                    </a:lnTo>
                    <a:lnTo>
                      <a:pt x="145" y="1165"/>
                    </a:lnTo>
                    <a:lnTo>
                      <a:pt x="134" y="1076"/>
                    </a:lnTo>
                    <a:lnTo>
                      <a:pt x="134" y="986"/>
                    </a:lnTo>
                    <a:lnTo>
                      <a:pt x="123" y="885"/>
                    </a:lnTo>
                    <a:lnTo>
                      <a:pt x="112" y="796"/>
                    </a:lnTo>
                    <a:lnTo>
                      <a:pt x="112" y="706"/>
                    </a:lnTo>
                    <a:lnTo>
                      <a:pt x="100" y="616"/>
                    </a:lnTo>
                    <a:lnTo>
                      <a:pt x="89" y="526"/>
                    </a:lnTo>
                    <a:lnTo>
                      <a:pt x="79" y="437"/>
                    </a:lnTo>
                    <a:lnTo>
                      <a:pt x="67" y="347"/>
                    </a:lnTo>
                    <a:lnTo>
                      <a:pt x="56" y="258"/>
                    </a:lnTo>
                    <a:lnTo>
                      <a:pt x="34" y="167"/>
                    </a:lnTo>
                    <a:lnTo>
                      <a:pt x="22" y="8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7025040" y="4296960"/>
                <a:ext cx="170280" cy="315000"/>
              </a:xfrm>
              <a:custGeom>
                <a:avLst/>
                <a:gdLst/>
                <a:ahLst/>
                <a:rect l="l" t="t" r="r" b="b"/>
                <a:pathLst>
                  <a:path w="437" h="808">
                    <a:moveTo>
                      <a:pt x="0" y="808"/>
                    </a:moveTo>
                    <a:lnTo>
                      <a:pt x="22" y="763"/>
                    </a:lnTo>
                    <a:lnTo>
                      <a:pt x="44" y="707"/>
                    </a:lnTo>
                    <a:lnTo>
                      <a:pt x="79" y="662"/>
                    </a:lnTo>
                    <a:lnTo>
                      <a:pt x="100" y="605"/>
                    </a:lnTo>
                    <a:lnTo>
                      <a:pt x="134" y="560"/>
                    </a:lnTo>
                    <a:lnTo>
                      <a:pt x="157" y="504"/>
                    </a:lnTo>
                    <a:lnTo>
                      <a:pt x="180" y="460"/>
                    </a:lnTo>
                    <a:lnTo>
                      <a:pt x="213" y="404"/>
                    </a:lnTo>
                    <a:lnTo>
                      <a:pt x="235" y="348"/>
                    </a:lnTo>
                    <a:lnTo>
                      <a:pt x="258" y="303"/>
                    </a:lnTo>
                    <a:lnTo>
                      <a:pt x="291" y="247"/>
                    </a:lnTo>
                    <a:lnTo>
                      <a:pt x="314" y="202"/>
                    </a:lnTo>
                    <a:lnTo>
                      <a:pt x="347" y="145"/>
                    </a:lnTo>
                    <a:lnTo>
                      <a:pt x="370" y="101"/>
                    </a:lnTo>
                    <a:lnTo>
                      <a:pt x="403" y="45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7195320" y="3930840"/>
                <a:ext cx="174960" cy="366120"/>
              </a:xfrm>
              <a:custGeom>
                <a:avLst/>
                <a:gdLst/>
                <a:ahLst/>
                <a:rect l="l" t="t" r="r" b="b"/>
                <a:pathLst>
                  <a:path w="448" h="942">
                    <a:moveTo>
                      <a:pt x="0" y="942"/>
                    </a:moveTo>
                    <a:lnTo>
                      <a:pt x="23" y="886"/>
                    </a:lnTo>
                    <a:lnTo>
                      <a:pt x="56" y="831"/>
                    </a:lnTo>
                    <a:lnTo>
                      <a:pt x="79" y="763"/>
                    </a:lnTo>
                    <a:lnTo>
                      <a:pt x="112" y="707"/>
                    </a:lnTo>
                    <a:lnTo>
                      <a:pt x="135" y="650"/>
                    </a:lnTo>
                    <a:lnTo>
                      <a:pt x="157" y="583"/>
                    </a:lnTo>
                    <a:lnTo>
                      <a:pt x="192" y="528"/>
                    </a:lnTo>
                    <a:lnTo>
                      <a:pt x="214" y="472"/>
                    </a:lnTo>
                    <a:lnTo>
                      <a:pt x="247" y="404"/>
                    </a:lnTo>
                    <a:lnTo>
                      <a:pt x="270" y="348"/>
                    </a:lnTo>
                    <a:lnTo>
                      <a:pt x="291" y="292"/>
                    </a:lnTo>
                    <a:lnTo>
                      <a:pt x="326" y="235"/>
                    </a:lnTo>
                    <a:lnTo>
                      <a:pt x="359" y="168"/>
                    </a:lnTo>
                    <a:lnTo>
                      <a:pt x="382" y="112"/>
                    </a:lnTo>
                    <a:lnTo>
                      <a:pt x="415" y="56"/>
                    </a:lnTo>
                    <a:lnTo>
                      <a:pt x="4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7039440" y="3954240"/>
                <a:ext cx="561600" cy="1245960"/>
              </a:xfrm>
              <a:custGeom>
                <a:avLst/>
                <a:gdLst/>
                <a:ahLst/>
                <a:rect l="l" t="t" r="r" b="b"/>
                <a:pathLst>
                  <a:path w="1446" h="3208">
                    <a:moveTo>
                      <a:pt x="952" y="190"/>
                    </a:moveTo>
                    <a:lnTo>
                      <a:pt x="975" y="236"/>
                    </a:lnTo>
                    <a:lnTo>
                      <a:pt x="1009" y="282"/>
                    </a:lnTo>
                    <a:lnTo>
                      <a:pt x="1032" y="337"/>
                    </a:lnTo>
                    <a:lnTo>
                      <a:pt x="1065" y="381"/>
                    </a:lnTo>
                    <a:lnTo>
                      <a:pt x="1098" y="426"/>
                    </a:lnTo>
                    <a:lnTo>
                      <a:pt x="1121" y="482"/>
                    </a:lnTo>
                    <a:lnTo>
                      <a:pt x="1154" y="527"/>
                    </a:lnTo>
                    <a:lnTo>
                      <a:pt x="1187" y="571"/>
                    </a:lnTo>
                    <a:lnTo>
                      <a:pt x="1222" y="617"/>
                    </a:lnTo>
                    <a:lnTo>
                      <a:pt x="1244" y="674"/>
                    </a:lnTo>
                    <a:lnTo>
                      <a:pt x="1278" y="719"/>
                    </a:lnTo>
                    <a:lnTo>
                      <a:pt x="1311" y="763"/>
                    </a:lnTo>
                    <a:lnTo>
                      <a:pt x="1344" y="808"/>
                    </a:lnTo>
                    <a:lnTo>
                      <a:pt x="1379" y="853"/>
                    </a:lnTo>
                    <a:lnTo>
                      <a:pt x="1413" y="909"/>
                    </a:lnTo>
                    <a:lnTo>
                      <a:pt x="1446" y="953"/>
                    </a:lnTo>
                    <a:lnTo>
                      <a:pt x="1446" y="965"/>
                    </a:lnTo>
                    <a:lnTo>
                      <a:pt x="1446" y="975"/>
                    </a:lnTo>
                    <a:lnTo>
                      <a:pt x="1436" y="975"/>
                    </a:lnTo>
                    <a:lnTo>
                      <a:pt x="1436" y="987"/>
                    </a:lnTo>
                    <a:lnTo>
                      <a:pt x="1436" y="998"/>
                    </a:lnTo>
                    <a:lnTo>
                      <a:pt x="1424" y="998"/>
                    </a:lnTo>
                    <a:lnTo>
                      <a:pt x="1413" y="998"/>
                    </a:lnTo>
                    <a:lnTo>
                      <a:pt x="1413" y="1009"/>
                    </a:lnTo>
                    <a:lnTo>
                      <a:pt x="1401" y="1009"/>
                    </a:lnTo>
                    <a:lnTo>
                      <a:pt x="1389" y="1020"/>
                    </a:lnTo>
                    <a:lnTo>
                      <a:pt x="1379" y="1020"/>
                    </a:lnTo>
                    <a:lnTo>
                      <a:pt x="1367" y="1031"/>
                    </a:lnTo>
                    <a:lnTo>
                      <a:pt x="1356" y="1043"/>
                    </a:lnTo>
                    <a:lnTo>
                      <a:pt x="1311" y="1064"/>
                    </a:lnTo>
                    <a:lnTo>
                      <a:pt x="1278" y="1088"/>
                    </a:lnTo>
                    <a:lnTo>
                      <a:pt x="1233" y="1111"/>
                    </a:lnTo>
                    <a:lnTo>
                      <a:pt x="1199" y="1133"/>
                    </a:lnTo>
                    <a:lnTo>
                      <a:pt x="1154" y="1156"/>
                    </a:lnTo>
                    <a:lnTo>
                      <a:pt x="1110" y="1178"/>
                    </a:lnTo>
                    <a:lnTo>
                      <a:pt x="1076" y="1200"/>
                    </a:lnTo>
                    <a:lnTo>
                      <a:pt x="1032" y="1222"/>
                    </a:lnTo>
                    <a:lnTo>
                      <a:pt x="997" y="1245"/>
                    </a:lnTo>
                    <a:lnTo>
                      <a:pt x="952" y="1268"/>
                    </a:lnTo>
                    <a:lnTo>
                      <a:pt x="907" y="1290"/>
                    </a:lnTo>
                    <a:lnTo>
                      <a:pt x="874" y="1313"/>
                    </a:lnTo>
                    <a:lnTo>
                      <a:pt x="829" y="1334"/>
                    </a:lnTo>
                    <a:lnTo>
                      <a:pt x="795" y="1357"/>
                    </a:lnTo>
                    <a:lnTo>
                      <a:pt x="750" y="1379"/>
                    </a:lnTo>
                    <a:lnTo>
                      <a:pt x="706" y="1402"/>
                    </a:lnTo>
                    <a:lnTo>
                      <a:pt x="684" y="1424"/>
                    </a:lnTo>
                    <a:lnTo>
                      <a:pt x="650" y="1435"/>
                    </a:lnTo>
                    <a:lnTo>
                      <a:pt x="628" y="1458"/>
                    </a:lnTo>
                    <a:lnTo>
                      <a:pt x="595" y="1468"/>
                    </a:lnTo>
                    <a:lnTo>
                      <a:pt x="572" y="1480"/>
                    </a:lnTo>
                    <a:lnTo>
                      <a:pt x="538" y="1503"/>
                    </a:lnTo>
                    <a:lnTo>
                      <a:pt x="503" y="1513"/>
                    </a:lnTo>
                    <a:lnTo>
                      <a:pt x="482" y="1525"/>
                    </a:lnTo>
                    <a:lnTo>
                      <a:pt x="447" y="1548"/>
                    </a:lnTo>
                    <a:lnTo>
                      <a:pt x="426" y="1560"/>
                    </a:lnTo>
                    <a:lnTo>
                      <a:pt x="392" y="1571"/>
                    </a:lnTo>
                    <a:lnTo>
                      <a:pt x="369" y="1593"/>
                    </a:lnTo>
                    <a:lnTo>
                      <a:pt x="336" y="1604"/>
                    </a:lnTo>
                    <a:lnTo>
                      <a:pt x="313" y="1616"/>
                    </a:lnTo>
                    <a:lnTo>
                      <a:pt x="280" y="1637"/>
                    </a:lnTo>
                    <a:lnTo>
                      <a:pt x="247" y="1649"/>
                    </a:lnTo>
                    <a:lnTo>
                      <a:pt x="269" y="1694"/>
                    </a:lnTo>
                    <a:lnTo>
                      <a:pt x="292" y="1738"/>
                    </a:lnTo>
                    <a:lnTo>
                      <a:pt x="325" y="1783"/>
                    </a:lnTo>
                    <a:lnTo>
                      <a:pt x="348" y="1827"/>
                    </a:lnTo>
                    <a:lnTo>
                      <a:pt x="369" y="1862"/>
                    </a:lnTo>
                    <a:lnTo>
                      <a:pt x="392" y="1906"/>
                    </a:lnTo>
                    <a:lnTo>
                      <a:pt x="426" y="1952"/>
                    </a:lnTo>
                    <a:lnTo>
                      <a:pt x="447" y="1997"/>
                    </a:lnTo>
                    <a:lnTo>
                      <a:pt x="470" y="2030"/>
                    </a:lnTo>
                    <a:lnTo>
                      <a:pt x="492" y="2074"/>
                    </a:lnTo>
                    <a:lnTo>
                      <a:pt x="526" y="2119"/>
                    </a:lnTo>
                    <a:lnTo>
                      <a:pt x="550" y="2165"/>
                    </a:lnTo>
                    <a:lnTo>
                      <a:pt x="572" y="2208"/>
                    </a:lnTo>
                    <a:lnTo>
                      <a:pt x="595" y="2254"/>
                    </a:lnTo>
                    <a:lnTo>
                      <a:pt x="617" y="2299"/>
                    </a:lnTo>
                    <a:lnTo>
                      <a:pt x="628" y="2332"/>
                    </a:lnTo>
                    <a:lnTo>
                      <a:pt x="661" y="2389"/>
                    </a:lnTo>
                    <a:lnTo>
                      <a:pt x="684" y="2445"/>
                    </a:lnTo>
                    <a:lnTo>
                      <a:pt x="717" y="2490"/>
                    </a:lnTo>
                    <a:lnTo>
                      <a:pt x="740" y="2546"/>
                    </a:lnTo>
                    <a:lnTo>
                      <a:pt x="773" y="2590"/>
                    </a:lnTo>
                    <a:lnTo>
                      <a:pt x="795" y="2646"/>
                    </a:lnTo>
                    <a:lnTo>
                      <a:pt x="829" y="2691"/>
                    </a:lnTo>
                    <a:lnTo>
                      <a:pt x="851" y="2747"/>
                    </a:lnTo>
                    <a:lnTo>
                      <a:pt x="884" y="2804"/>
                    </a:lnTo>
                    <a:lnTo>
                      <a:pt x="907" y="2849"/>
                    </a:lnTo>
                    <a:lnTo>
                      <a:pt x="930" y="2905"/>
                    </a:lnTo>
                    <a:lnTo>
                      <a:pt x="952" y="2960"/>
                    </a:lnTo>
                    <a:lnTo>
                      <a:pt x="964" y="3016"/>
                    </a:lnTo>
                    <a:lnTo>
                      <a:pt x="987" y="3072"/>
                    </a:lnTo>
                    <a:lnTo>
                      <a:pt x="997" y="3128"/>
                    </a:lnTo>
                    <a:lnTo>
                      <a:pt x="1009" y="3184"/>
                    </a:lnTo>
                    <a:lnTo>
                      <a:pt x="964" y="3196"/>
                    </a:lnTo>
                    <a:lnTo>
                      <a:pt x="907" y="3196"/>
                    </a:lnTo>
                    <a:lnTo>
                      <a:pt x="851" y="3208"/>
                    </a:lnTo>
                    <a:lnTo>
                      <a:pt x="795" y="3208"/>
                    </a:lnTo>
                    <a:lnTo>
                      <a:pt x="740" y="3208"/>
                    </a:lnTo>
                    <a:lnTo>
                      <a:pt x="694" y="3208"/>
                    </a:lnTo>
                    <a:lnTo>
                      <a:pt x="639" y="3208"/>
                    </a:lnTo>
                    <a:lnTo>
                      <a:pt x="583" y="3208"/>
                    </a:lnTo>
                    <a:lnTo>
                      <a:pt x="526" y="3208"/>
                    </a:lnTo>
                    <a:lnTo>
                      <a:pt x="482" y="3196"/>
                    </a:lnTo>
                    <a:lnTo>
                      <a:pt x="426" y="3196"/>
                    </a:lnTo>
                    <a:lnTo>
                      <a:pt x="369" y="3196"/>
                    </a:lnTo>
                    <a:lnTo>
                      <a:pt x="313" y="3196"/>
                    </a:lnTo>
                    <a:lnTo>
                      <a:pt x="269" y="3184"/>
                    </a:lnTo>
                    <a:lnTo>
                      <a:pt x="213" y="3184"/>
                    </a:lnTo>
                    <a:lnTo>
                      <a:pt x="158" y="3184"/>
                    </a:lnTo>
                    <a:lnTo>
                      <a:pt x="158" y="3117"/>
                    </a:lnTo>
                    <a:lnTo>
                      <a:pt x="158" y="3050"/>
                    </a:lnTo>
                    <a:lnTo>
                      <a:pt x="146" y="2983"/>
                    </a:lnTo>
                    <a:lnTo>
                      <a:pt x="146" y="2915"/>
                    </a:lnTo>
                    <a:lnTo>
                      <a:pt x="135" y="2849"/>
                    </a:lnTo>
                    <a:lnTo>
                      <a:pt x="135" y="2781"/>
                    </a:lnTo>
                    <a:lnTo>
                      <a:pt x="135" y="2713"/>
                    </a:lnTo>
                    <a:lnTo>
                      <a:pt x="123" y="2646"/>
                    </a:lnTo>
                    <a:lnTo>
                      <a:pt x="123" y="2579"/>
                    </a:lnTo>
                    <a:lnTo>
                      <a:pt x="111" y="2513"/>
                    </a:lnTo>
                    <a:lnTo>
                      <a:pt x="111" y="2445"/>
                    </a:lnTo>
                    <a:lnTo>
                      <a:pt x="100" y="2378"/>
                    </a:lnTo>
                    <a:lnTo>
                      <a:pt x="100" y="2309"/>
                    </a:lnTo>
                    <a:lnTo>
                      <a:pt x="89" y="2243"/>
                    </a:lnTo>
                    <a:lnTo>
                      <a:pt x="89" y="2175"/>
                    </a:lnTo>
                    <a:lnTo>
                      <a:pt x="78" y="2109"/>
                    </a:lnTo>
                    <a:lnTo>
                      <a:pt x="78" y="2086"/>
                    </a:lnTo>
                    <a:lnTo>
                      <a:pt x="66" y="2053"/>
                    </a:lnTo>
                    <a:lnTo>
                      <a:pt x="66" y="2030"/>
                    </a:lnTo>
                    <a:lnTo>
                      <a:pt x="55" y="2008"/>
                    </a:lnTo>
                    <a:lnTo>
                      <a:pt x="55" y="1985"/>
                    </a:lnTo>
                    <a:lnTo>
                      <a:pt x="45" y="1952"/>
                    </a:lnTo>
                    <a:lnTo>
                      <a:pt x="45" y="1928"/>
                    </a:lnTo>
                    <a:lnTo>
                      <a:pt x="33" y="1906"/>
                    </a:lnTo>
                    <a:lnTo>
                      <a:pt x="33" y="1883"/>
                    </a:lnTo>
                    <a:lnTo>
                      <a:pt x="22" y="1850"/>
                    </a:lnTo>
                    <a:lnTo>
                      <a:pt x="22" y="1827"/>
                    </a:lnTo>
                    <a:lnTo>
                      <a:pt x="10" y="1806"/>
                    </a:lnTo>
                    <a:lnTo>
                      <a:pt x="10" y="1783"/>
                    </a:lnTo>
                    <a:lnTo>
                      <a:pt x="10" y="1750"/>
                    </a:lnTo>
                    <a:lnTo>
                      <a:pt x="0" y="1727"/>
                    </a:lnTo>
                    <a:lnTo>
                      <a:pt x="0" y="1705"/>
                    </a:lnTo>
                    <a:lnTo>
                      <a:pt x="10" y="1694"/>
                    </a:lnTo>
                    <a:lnTo>
                      <a:pt x="22" y="1694"/>
                    </a:lnTo>
                    <a:lnTo>
                      <a:pt x="22" y="1682"/>
                    </a:lnTo>
                    <a:lnTo>
                      <a:pt x="33" y="1672"/>
                    </a:lnTo>
                    <a:lnTo>
                      <a:pt x="33" y="1660"/>
                    </a:lnTo>
                    <a:lnTo>
                      <a:pt x="45" y="1649"/>
                    </a:lnTo>
                    <a:lnTo>
                      <a:pt x="45" y="1637"/>
                    </a:lnTo>
                    <a:lnTo>
                      <a:pt x="45" y="1626"/>
                    </a:lnTo>
                    <a:lnTo>
                      <a:pt x="45" y="1616"/>
                    </a:lnTo>
                    <a:lnTo>
                      <a:pt x="45" y="1604"/>
                    </a:lnTo>
                    <a:lnTo>
                      <a:pt x="55" y="1593"/>
                    </a:lnTo>
                    <a:lnTo>
                      <a:pt x="66" y="1581"/>
                    </a:lnTo>
                    <a:lnTo>
                      <a:pt x="66" y="1571"/>
                    </a:lnTo>
                    <a:lnTo>
                      <a:pt x="78" y="1571"/>
                    </a:lnTo>
                    <a:lnTo>
                      <a:pt x="78" y="1560"/>
                    </a:lnTo>
                    <a:lnTo>
                      <a:pt x="78" y="1548"/>
                    </a:lnTo>
                    <a:lnTo>
                      <a:pt x="89" y="1537"/>
                    </a:lnTo>
                    <a:lnTo>
                      <a:pt x="100" y="1525"/>
                    </a:lnTo>
                    <a:lnTo>
                      <a:pt x="100" y="1513"/>
                    </a:lnTo>
                    <a:lnTo>
                      <a:pt x="111" y="1503"/>
                    </a:lnTo>
                    <a:lnTo>
                      <a:pt x="111" y="1491"/>
                    </a:lnTo>
                    <a:lnTo>
                      <a:pt x="111" y="1480"/>
                    </a:lnTo>
                    <a:lnTo>
                      <a:pt x="123" y="1480"/>
                    </a:lnTo>
                    <a:lnTo>
                      <a:pt x="123" y="1468"/>
                    </a:lnTo>
                    <a:lnTo>
                      <a:pt x="135" y="1458"/>
                    </a:lnTo>
                    <a:lnTo>
                      <a:pt x="135" y="1446"/>
                    </a:lnTo>
                    <a:lnTo>
                      <a:pt x="146" y="1446"/>
                    </a:lnTo>
                    <a:lnTo>
                      <a:pt x="146" y="1435"/>
                    </a:lnTo>
                    <a:lnTo>
                      <a:pt x="146" y="1424"/>
                    </a:lnTo>
                    <a:lnTo>
                      <a:pt x="158" y="1424"/>
                    </a:lnTo>
                    <a:lnTo>
                      <a:pt x="158" y="1413"/>
                    </a:lnTo>
                    <a:lnTo>
                      <a:pt x="168" y="1413"/>
                    </a:lnTo>
                    <a:lnTo>
                      <a:pt x="168" y="1402"/>
                    </a:lnTo>
                    <a:lnTo>
                      <a:pt x="168" y="1390"/>
                    </a:lnTo>
                    <a:lnTo>
                      <a:pt x="179" y="1390"/>
                    </a:lnTo>
                    <a:lnTo>
                      <a:pt x="179" y="1379"/>
                    </a:lnTo>
                    <a:lnTo>
                      <a:pt x="179" y="1369"/>
                    </a:lnTo>
                    <a:lnTo>
                      <a:pt x="191" y="1369"/>
                    </a:lnTo>
                    <a:lnTo>
                      <a:pt x="191" y="1357"/>
                    </a:lnTo>
                    <a:lnTo>
                      <a:pt x="201" y="1346"/>
                    </a:lnTo>
                    <a:lnTo>
                      <a:pt x="213" y="1323"/>
                    </a:lnTo>
                    <a:lnTo>
                      <a:pt x="224" y="1313"/>
                    </a:lnTo>
                    <a:lnTo>
                      <a:pt x="224" y="1290"/>
                    </a:lnTo>
                    <a:lnTo>
                      <a:pt x="236" y="1268"/>
                    </a:lnTo>
                    <a:lnTo>
                      <a:pt x="247" y="1256"/>
                    </a:lnTo>
                    <a:lnTo>
                      <a:pt x="257" y="1234"/>
                    </a:lnTo>
                    <a:lnTo>
                      <a:pt x="269" y="1222"/>
                    </a:lnTo>
                    <a:lnTo>
                      <a:pt x="280" y="1200"/>
                    </a:lnTo>
                    <a:lnTo>
                      <a:pt x="292" y="1178"/>
                    </a:lnTo>
                    <a:lnTo>
                      <a:pt x="292" y="1167"/>
                    </a:lnTo>
                    <a:lnTo>
                      <a:pt x="302" y="1144"/>
                    </a:lnTo>
                    <a:lnTo>
                      <a:pt x="313" y="1123"/>
                    </a:lnTo>
                    <a:lnTo>
                      <a:pt x="325" y="1111"/>
                    </a:lnTo>
                    <a:lnTo>
                      <a:pt x="336" y="1088"/>
                    </a:lnTo>
                    <a:lnTo>
                      <a:pt x="348" y="1076"/>
                    </a:lnTo>
                    <a:lnTo>
                      <a:pt x="358" y="1054"/>
                    </a:lnTo>
                    <a:lnTo>
                      <a:pt x="369" y="1031"/>
                    </a:lnTo>
                    <a:lnTo>
                      <a:pt x="381" y="1020"/>
                    </a:lnTo>
                    <a:lnTo>
                      <a:pt x="392" y="998"/>
                    </a:lnTo>
                    <a:lnTo>
                      <a:pt x="403" y="975"/>
                    </a:lnTo>
                    <a:lnTo>
                      <a:pt x="414" y="965"/>
                    </a:lnTo>
                    <a:lnTo>
                      <a:pt x="414" y="942"/>
                    </a:lnTo>
                    <a:lnTo>
                      <a:pt x="426" y="919"/>
                    </a:lnTo>
                    <a:lnTo>
                      <a:pt x="437" y="909"/>
                    </a:lnTo>
                    <a:lnTo>
                      <a:pt x="447" y="886"/>
                    </a:lnTo>
                    <a:lnTo>
                      <a:pt x="459" y="864"/>
                    </a:lnTo>
                    <a:lnTo>
                      <a:pt x="470" y="853"/>
                    </a:lnTo>
                    <a:lnTo>
                      <a:pt x="482" y="830"/>
                    </a:lnTo>
                    <a:lnTo>
                      <a:pt x="492" y="808"/>
                    </a:lnTo>
                    <a:lnTo>
                      <a:pt x="503" y="797"/>
                    </a:lnTo>
                    <a:lnTo>
                      <a:pt x="515" y="775"/>
                    </a:lnTo>
                    <a:lnTo>
                      <a:pt x="526" y="763"/>
                    </a:lnTo>
                    <a:lnTo>
                      <a:pt x="538" y="719"/>
                    </a:lnTo>
                    <a:lnTo>
                      <a:pt x="550" y="684"/>
                    </a:lnTo>
                    <a:lnTo>
                      <a:pt x="572" y="651"/>
                    </a:lnTo>
                    <a:lnTo>
                      <a:pt x="583" y="617"/>
                    </a:lnTo>
                    <a:lnTo>
                      <a:pt x="605" y="583"/>
                    </a:lnTo>
                    <a:lnTo>
                      <a:pt x="617" y="550"/>
                    </a:lnTo>
                    <a:lnTo>
                      <a:pt x="639" y="516"/>
                    </a:lnTo>
                    <a:lnTo>
                      <a:pt x="650" y="482"/>
                    </a:lnTo>
                    <a:lnTo>
                      <a:pt x="661" y="437"/>
                    </a:lnTo>
                    <a:lnTo>
                      <a:pt x="684" y="404"/>
                    </a:lnTo>
                    <a:lnTo>
                      <a:pt x="694" y="371"/>
                    </a:lnTo>
                    <a:lnTo>
                      <a:pt x="717" y="337"/>
                    </a:lnTo>
                    <a:lnTo>
                      <a:pt x="729" y="303"/>
                    </a:lnTo>
                    <a:lnTo>
                      <a:pt x="750" y="270"/>
                    </a:lnTo>
                    <a:lnTo>
                      <a:pt x="762" y="236"/>
                    </a:lnTo>
                    <a:lnTo>
                      <a:pt x="785" y="202"/>
                    </a:lnTo>
                    <a:lnTo>
                      <a:pt x="785" y="157"/>
                    </a:lnTo>
                    <a:lnTo>
                      <a:pt x="807" y="124"/>
                    </a:lnTo>
                    <a:lnTo>
                      <a:pt x="818" y="78"/>
                    </a:lnTo>
                    <a:lnTo>
                      <a:pt x="829" y="45"/>
                    </a:lnTo>
                    <a:lnTo>
                      <a:pt x="851" y="12"/>
                    </a:lnTo>
                    <a:lnTo>
                      <a:pt x="851" y="0"/>
                    </a:lnTo>
                    <a:lnTo>
                      <a:pt x="874" y="34"/>
                    </a:lnTo>
                    <a:lnTo>
                      <a:pt x="884" y="68"/>
                    </a:lnTo>
                    <a:lnTo>
                      <a:pt x="907" y="101"/>
                    </a:lnTo>
                    <a:lnTo>
                      <a:pt x="919" y="146"/>
                    </a:lnTo>
                    <a:lnTo>
                      <a:pt x="940" y="179"/>
                    </a:lnTo>
                    <a:lnTo>
                      <a:pt x="952" y="190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7407720" y="4026240"/>
                <a:ext cx="193320" cy="296280"/>
              </a:xfrm>
              <a:custGeom>
                <a:avLst/>
                <a:gdLst/>
                <a:ahLst/>
                <a:rect l="l" t="t" r="r" b="b"/>
                <a:pathLst>
                  <a:path w="494" h="763">
                    <a:moveTo>
                      <a:pt x="0" y="0"/>
                    </a:moveTo>
                    <a:lnTo>
                      <a:pt x="23" y="46"/>
                    </a:lnTo>
                    <a:lnTo>
                      <a:pt x="57" y="92"/>
                    </a:lnTo>
                    <a:lnTo>
                      <a:pt x="80" y="147"/>
                    </a:lnTo>
                    <a:lnTo>
                      <a:pt x="113" y="191"/>
                    </a:lnTo>
                    <a:lnTo>
                      <a:pt x="146" y="236"/>
                    </a:lnTo>
                    <a:lnTo>
                      <a:pt x="169" y="292"/>
                    </a:lnTo>
                    <a:lnTo>
                      <a:pt x="202" y="337"/>
                    </a:lnTo>
                    <a:lnTo>
                      <a:pt x="235" y="381"/>
                    </a:lnTo>
                    <a:lnTo>
                      <a:pt x="270" y="427"/>
                    </a:lnTo>
                    <a:lnTo>
                      <a:pt x="292" y="484"/>
                    </a:lnTo>
                    <a:lnTo>
                      <a:pt x="326" y="529"/>
                    </a:lnTo>
                    <a:lnTo>
                      <a:pt x="359" y="573"/>
                    </a:lnTo>
                    <a:lnTo>
                      <a:pt x="392" y="618"/>
                    </a:lnTo>
                    <a:lnTo>
                      <a:pt x="427" y="663"/>
                    </a:lnTo>
                    <a:lnTo>
                      <a:pt x="461" y="719"/>
                    </a:lnTo>
                    <a:lnTo>
                      <a:pt x="494" y="76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7312320" y="4359960"/>
                <a:ext cx="253800" cy="137520"/>
              </a:xfrm>
              <a:custGeom>
                <a:avLst/>
                <a:gdLst/>
                <a:ahLst/>
                <a:rect l="l" t="t" r="r" b="b"/>
                <a:pathLst>
                  <a:path w="650" h="359">
                    <a:moveTo>
                      <a:pt x="650" y="0"/>
                    </a:moveTo>
                    <a:lnTo>
                      <a:pt x="605" y="21"/>
                    </a:lnTo>
                    <a:lnTo>
                      <a:pt x="572" y="45"/>
                    </a:lnTo>
                    <a:lnTo>
                      <a:pt x="527" y="68"/>
                    </a:lnTo>
                    <a:lnTo>
                      <a:pt x="493" y="90"/>
                    </a:lnTo>
                    <a:lnTo>
                      <a:pt x="448" y="113"/>
                    </a:lnTo>
                    <a:lnTo>
                      <a:pt x="404" y="135"/>
                    </a:lnTo>
                    <a:lnTo>
                      <a:pt x="370" y="157"/>
                    </a:lnTo>
                    <a:lnTo>
                      <a:pt x="326" y="179"/>
                    </a:lnTo>
                    <a:lnTo>
                      <a:pt x="291" y="202"/>
                    </a:lnTo>
                    <a:lnTo>
                      <a:pt x="246" y="225"/>
                    </a:lnTo>
                    <a:lnTo>
                      <a:pt x="201" y="247"/>
                    </a:lnTo>
                    <a:lnTo>
                      <a:pt x="168" y="270"/>
                    </a:lnTo>
                    <a:lnTo>
                      <a:pt x="123" y="291"/>
                    </a:lnTo>
                    <a:lnTo>
                      <a:pt x="89" y="314"/>
                    </a:lnTo>
                    <a:lnTo>
                      <a:pt x="44" y="336"/>
                    </a:lnTo>
                    <a:lnTo>
                      <a:pt x="0" y="3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7134480" y="4497840"/>
                <a:ext cx="177480" cy="95760"/>
              </a:xfrm>
              <a:custGeom>
                <a:avLst/>
                <a:gdLst/>
                <a:ahLst/>
                <a:rect l="l" t="t" r="r" b="b"/>
                <a:pathLst>
                  <a:path w="459" h="247">
                    <a:moveTo>
                      <a:pt x="459" y="0"/>
                    </a:moveTo>
                    <a:lnTo>
                      <a:pt x="437" y="22"/>
                    </a:lnTo>
                    <a:lnTo>
                      <a:pt x="403" y="33"/>
                    </a:lnTo>
                    <a:lnTo>
                      <a:pt x="381" y="56"/>
                    </a:lnTo>
                    <a:lnTo>
                      <a:pt x="348" y="66"/>
                    </a:lnTo>
                    <a:lnTo>
                      <a:pt x="325" y="78"/>
                    </a:lnTo>
                    <a:lnTo>
                      <a:pt x="291" y="101"/>
                    </a:lnTo>
                    <a:lnTo>
                      <a:pt x="256" y="111"/>
                    </a:lnTo>
                    <a:lnTo>
                      <a:pt x="235" y="123"/>
                    </a:lnTo>
                    <a:lnTo>
                      <a:pt x="200" y="146"/>
                    </a:lnTo>
                    <a:lnTo>
                      <a:pt x="179" y="158"/>
                    </a:lnTo>
                    <a:lnTo>
                      <a:pt x="145" y="169"/>
                    </a:lnTo>
                    <a:lnTo>
                      <a:pt x="122" y="191"/>
                    </a:lnTo>
                    <a:lnTo>
                      <a:pt x="89" y="202"/>
                    </a:lnTo>
                    <a:lnTo>
                      <a:pt x="66" y="214"/>
                    </a:lnTo>
                    <a:lnTo>
                      <a:pt x="33" y="235"/>
                    </a:lnTo>
                    <a:lnTo>
                      <a:pt x="0" y="2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134480" y="4593600"/>
                <a:ext cx="146880" cy="266040"/>
              </a:xfrm>
              <a:custGeom>
                <a:avLst/>
                <a:gdLst/>
                <a:ahLst/>
                <a:rect l="l" t="t" r="r" b="b"/>
                <a:pathLst>
                  <a:path w="381" h="683">
                    <a:moveTo>
                      <a:pt x="0" y="0"/>
                    </a:moveTo>
                    <a:lnTo>
                      <a:pt x="22" y="45"/>
                    </a:lnTo>
                    <a:lnTo>
                      <a:pt x="45" y="89"/>
                    </a:lnTo>
                    <a:lnTo>
                      <a:pt x="78" y="134"/>
                    </a:lnTo>
                    <a:lnTo>
                      <a:pt x="101" y="178"/>
                    </a:lnTo>
                    <a:lnTo>
                      <a:pt x="122" y="213"/>
                    </a:lnTo>
                    <a:lnTo>
                      <a:pt x="145" y="257"/>
                    </a:lnTo>
                    <a:lnTo>
                      <a:pt x="179" y="303"/>
                    </a:lnTo>
                    <a:lnTo>
                      <a:pt x="200" y="348"/>
                    </a:lnTo>
                    <a:lnTo>
                      <a:pt x="223" y="381"/>
                    </a:lnTo>
                    <a:lnTo>
                      <a:pt x="245" y="425"/>
                    </a:lnTo>
                    <a:lnTo>
                      <a:pt x="279" y="470"/>
                    </a:lnTo>
                    <a:lnTo>
                      <a:pt x="303" y="516"/>
                    </a:lnTo>
                    <a:lnTo>
                      <a:pt x="325" y="559"/>
                    </a:lnTo>
                    <a:lnTo>
                      <a:pt x="348" y="605"/>
                    </a:lnTo>
                    <a:lnTo>
                      <a:pt x="370" y="650"/>
                    </a:lnTo>
                    <a:lnTo>
                      <a:pt x="381" y="68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7281720" y="4860000"/>
                <a:ext cx="149040" cy="331200"/>
              </a:xfrm>
              <a:custGeom>
                <a:avLst/>
                <a:gdLst/>
                <a:ahLst/>
                <a:rect l="l" t="t" r="r" b="b"/>
                <a:pathLst>
                  <a:path w="381" h="852">
                    <a:moveTo>
                      <a:pt x="0" y="0"/>
                    </a:moveTo>
                    <a:lnTo>
                      <a:pt x="33" y="57"/>
                    </a:lnTo>
                    <a:lnTo>
                      <a:pt x="56" y="113"/>
                    </a:lnTo>
                    <a:lnTo>
                      <a:pt x="89" y="158"/>
                    </a:lnTo>
                    <a:lnTo>
                      <a:pt x="112" y="214"/>
                    </a:lnTo>
                    <a:lnTo>
                      <a:pt x="145" y="258"/>
                    </a:lnTo>
                    <a:lnTo>
                      <a:pt x="167" y="314"/>
                    </a:lnTo>
                    <a:lnTo>
                      <a:pt x="201" y="359"/>
                    </a:lnTo>
                    <a:lnTo>
                      <a:pt x="223" y="415"/>
                    </a:lnTo>
                    <a:lnTo>
                      <a:pt x="256" y="472"/>
                    </a:lnTo>
                    <a:lnTo>
                      <a:pt x="279" y="517"/>
                    </a:lnTo>
                    <a:lnTo>
                      <a:pt x="302" y="573"/>
                    </a:lnTo>
                    <a:lnTo>
                      <a:pt x="324" y="628"/>
                    </a:lnTo>
                    <a:lnTo>
                      <a:pt x="336" y="684"/>
                    </a:lnTo>
                    <a:lnTo>
                      <a:pt x="359" y="740"/>
                    </a:lnTo>
                    <a:lnTo>
                      <a:pt x="369" y="796"/>
                    </a:lnTo>
                    <a:lnTo>
                      <a:pt x="381" y="8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7069680" y="4773240"/>
                <a:ext cx="29880" cy="417960"/>
              </a:xfrm>
              <a:custGeom>
                <a:avLst/>
                <a:gdLst/>
                <a:ahLst/>
                <a:rect l="l" t="t" r="r" b="b"/>
                <a:pathLst>
                  <a:path w="80" h="1075">
                    <a:moveTo>
                      <a:pt x="80" y="1075"/>
                    </a:moveTo>
                    <a:lnTo>
                      <a:pt x="80" y="1008"/>
                    </a:lnTo>
                    <a:lnTo>
                      <a:pt x="80" y="941"/>
                    </a:lnTo>
                    <a:lnTo>
                      <a:pt x="68" y="874"/>
                    </a:lnTo>
                    <a:lnTo>
                      <a:pt x="68" y="806"/>
                    </a:lnTo>
                    <a:lnTo>
                      <a:pt x="57" y="740"/>
                    </a:lnTo>
                    <a:lnTo>
                      <a:pt x="57" y="672"/>
                    </a:lnTo>
                    <a:lnTo>
                      <a:pt x="57" y="604"/>
                    </a:lnTo>
                    <a:lnTo>
                      <a:pt x="45" y="537"/>
                    </a:lnTo>
                    <a:lnTo>
                      <a:pt x="45" y="470"/>
                    </a:lnTo>
                    <a:lnTo>
                      <a:pt x="33" y="404"/>
                    </a:lnTo>
                    <a:lnTo>
                      <a:pt x="33" y="336"/>
                    </a:lnTo>
                    <a:lnTo>
                      <a:pt x="22" y="269"/>
                    </a:lnTo>
                    <a:lnTo>
                      <a:pt x="22" y="200"/>
                    </a:lnTo>
                    <a:lnTo>
                      <a:pt x="11" y="134"/>
                    </a:lnTo>
                    <a:lnTo>
                      <a:pt x="11" y="6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7039440" y="461700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78" h="404">
                    <a:moveTo>
                      <a:pt x="78" y="404"/>
                    </a:moveTo>
                    <a:lnTo>
                      <a:pt x="78" y="381"/>
                    </a:lnTo>
                    <a:lnTo>
                      <a:pt x="66" y="348"/>
                    </a:lnTo>
                    <a:lnTo>
                      <a:pt x="66" y="325"/>
                    </a:lnTo>
                    <a:lnTo>
                      <a:pt x="55" y="303"/>
                    </a:lnTo>
                    <a:lnTo>
                      <a:pt x="55" y="280"/>
                    </a:lnTo>
                    <a:lnTo>
                      <a:pt x="45" y="247"/>
                    </a:lnTo>
                    <a:lnTo>
                      <a:pt x="45" y="223"/>
                    </a:lnTo>
                    <a:lnTo>
                      <a:pt x="33" y="201"/>
                    </a:lnTo>
                    <a:lnTo>
                      <a:pt x="33" y="178"/>
                    </a:lnTo>
                    <a:lnTo>
                      <a:pt x="22" y="145"/>
                    </a:lnTo>
                    <a:lnTo>
                      <a:pt x="22" y="122"/>
                    </a:lnTo>
                    <a:lnTo>
                      <a:pt x="10" y="101"/>
                    </a:lnTo>
                    <a:lnTo>
                      <a:pt x="10" y="78"/>
                    </a:lnTo>
                    <a:lnTo>
                      <a:pt x="10" y="45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7116120" y="4362120"/>
                <a:ext cx="60840" cy="114120"/>
              </a:xfrm>
              <a:custGeom>
                <a:avLst/>
                <a:gdLst/>
                <a:ahLst/>
                <a:rect l="l" t="t" r="r" b="b"/>
                <a:pathLst>
                  <a:path w="157" h="292">
                    <a:moveTo>
                      <a:pt x="0" y="292"/>
                    </a:moveTo>
                    <a:lnTo>
                      <a:pt x="12" y="269"/>
                    </a:lnTo>
                    <a:lnTo>
                      <a:pt x="23" y="259"/>
                    </a:lnTo>
                    <a:lnTo>
                      <a:pt x="23" y="236"/>
                    </a:lnTo>
                    <a:lnTo>
                      <a:pt x="35" y="214"/>
                    </a:lnTo>
                    <a:lnTo>
                      <a:pt x="46" y="202"/>
                    </a:lnTo>
                    <a:lnTo>
                      <a:pt x="56" y="180"/>
                    </a:lnTo>
                    <a:lnTo>
                      <a:pt x="68" y="168"/>
                    </a:lnTo>
                    <a:lnTo>
                      <a:pt x="79" y="146"/>
                    </a:lnTo>
                    <a:lnTo>
                      <a:pt x="91" y="124"/>
                    </a:lnTo>
                    <a:lnTo>
                      <a:pt x="91" y="113"/>
                    </a:lnTo>
                    <a:lnTo>
                      <a:pt x="101" y="90"/>
                    </a:lnTo>
                    <a:lnTo>
                      <a:pt x="112" y="69"/>
                    </a:lnTo>
                    <a:lnTo>
                      <a:pt x="124" y="57"/>
                    </a:lnTo>
                    <a:lnTo>
                      <a:pt x="135" y="34"/>
                    </a:lnTo>
                    <a:lnTo>
                      <a:pt x="147" y="22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7176960" y="425052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168" h="291">
                    <a:moveTo>
                      <a:pt x="0" y="291"/>
                    </a:moveTo>
                    <a:lnTo>
                      <a:pt x="11" y="268"/>
                    </a:lnTo>
                    <a:lnTo>
                      <a:pt x="23" y="257"/>
                    </a:lnTo>
                    <a:lnTo>
                      <a:pt x="34" y="235"/>
                    </a:lnTo>
                    <a:lnTo>
                      <a:pt x="45" y="212"/>
                    </a:lnTo>
                    <a:lnTo>
                      <a:pt x="56" y="202"/>
                    </a:lnTo>
                    <a:lnTo>
                      <a:pt x="56" y="179"/>
                    </a:lnTo>
                    <a:lnTo>
                      <a:pt x="68" y="156"/>
                    </a:lnTo>
                    <a:lnTo>
                      <a:pt x="79" y="146"/>
                    </a:lnTo>
                    <a:lnTo>
                      <a:pt x="89" y="123"/>
                    </a:lnTo>
                    <a:lnTo>
                      <a:pt x="101" y="101"/>
                    </a:lnTo>
                    <a:lnTo>
                      <a:pt x="112" y="90"/>
                    </a:lnTo>
                    <a:lnTo>
                      <a:pt x="124" y="67"/>
                    </a:lnTo>
                    <a:lnTo>
                      <a:pt x="134" y="45"/>
                    </a:lnTo>
                    <a:lnTo>
                      <a:pt x="145" y="34"/>
                    </a:lnTo>
                    <a:lnTo>
                      <a:pt x="157" y="12"/>
                    </a:lnTo>
                    <a:lnTo>
                      <a:pt x="16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7242120" y="4030920"/>
                <a:ext cx="100440" cy="219600"/>
              </a:xfrm>
              <a:custGeom>
                <a:avLst/>
                <a:gdLst/>
                <a:ahLst/>
                <a:rect l="l" t="t" r="r" b="b"/>
                <a:pathLst>
                  <a:path w="259" h="561">
                    <a:moveTo>
                      <a:pt x="0" y="561"/>
                    </a:moveTo>
                    <a:lnTo>
                      <a:pt x="12" y="517"/>
                    </a:lnTo>
                    <a:lnTo>
                      <a:pt x="24" y="482"/>
                    </a:lnTo>
                    <a:lnTo>
                      <a:pt x="46" y="449"/>
                    </a:lnTo>
                    <a:lnTo>
                      <a:pt x="57" y="415"/>
                    </a:lnTo>
                    <a:lnTo>
                      <a:pt x="79" y="381"/>
                    </a:lnTo>
                    <a:lnTo>
                      <a:pt x="91" y="348"/>
                    </a:lnTo>
                    <a:lnTo>
                      <a:pt x="113" y="314"/>
                    </a:lnTo>
                    <a:lnTo>
                      <a:pt x="124" y="280"/>
                    </a:lnTo>
                    <a:lnTo>
                      <a:pt x="135" y="235"/>
                    </a:lnTo>
                    <a:lnTo>
                      <a:pt x="158" y="202"/>
                    </a:lnTo>
                    <a:lnTo>
                      <a:pt x="168" y="169"/>
                    </a:lnTo>
                    <a:lnTo>
                      <a:pt x="191" y="135"/>
                    </a:lnTo>
                    <a:lnTo>
                      <a:pt x="203" y="101"/>
                    </a:lnTo>
                    <a:lnTo>
                      <a:pt x="224" y="68"/>
                    </a:lnTo>
                    <a:lnTo>
                      <a:pt x="236" y="34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7342560" y="3954240"/>
                <a:ext cx="27720" cy="76680"/>
              </a:xfrm>
              <a:custGeom>
                <a:avLst/>
                <a:gdLst/>
                <a:ahLst/>
                <a:rect l="l" t="t" r="r" b="b"/>
                <a:pathLst>
                  <a:path w="66" h="202">
                    <a:moveTo>
                      <a:pt x="0" y="202"/>
                    </a:move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10" y="146"/>
                    </a:lnTo>
                    <a:lnTo>
                      <a:pt x="10" y="134"/>
                    </a:lnTo>
                    <a:lnTo>
                      <a:pt x="22" y="124"/>
                    </a:lnTo>
                    <a:lnTo>
                      <a:pt x="22" y="101"/>
                    </a:lnTo>
                    <a:lnTo>
                      <a:pt x="33" y="90"/>
                    </a:lnTo>
                    <a:lnTo>
                      <a:pt x="33" y="78"/>
                    </a:lnTo>
                    <a:lnTo>
                      <a:pt x="33" y="68"/>
                    </a:lnTo>
                    <a:lnTo>
                      <a:pt x="44" y="56"/>
                    </a:lnTo>
                    <a:lnTo>
                      <a:pt x="44" y="45"/>
                    </a:lnTo>
                    <a:lnTo>
                      <a:pt x="56" y="34"/>
                    </a:lnTo>
                    <a:lnTo>
                      <a:pt x="56" y="23"/>
                    </a:lnTo>
                    <a:lnTo>
                      <a:pt x="66" y="12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370640" y="3954240"/>
                <a:ext cx="36720" cy="72000"/>
              </a:xfrm>
              <a:custGeom>
                <a:avLst/>
                <a:gdLst/>
                <a:ahLst/>
                <a:rect l="l" t="t" r="r" b="b"/>
                <a:pathLst>
                  <a:path w="101" h="190">
                    <a:moveTo>
                      <a:pt x="0" y="0"/>
                    </a:moveTo>
                    <a:lnTo>
                      <a:pt x="12" y="12"/>
                    </a:lnTo>
                    <a:lnTo>
                      <a:pt x="23" y="23"/>
                    </a:lnTo>
                    <a:lnTo>
                      <a:pt x="23" y="34"/>
                    </a:lnTo>
                    <a:lnTo>
                      <a:pt x="33" y="45"/>
                    </a:lnTo>
                    <a:lnTo>
                      <a:pt x="33" y="56"/>
                    </a:lnTo>
                    <a:lnTo>
                      <a:pt x="33" y="68"/>
                    </a:lnTo>
                    <a:lnTo>
                      <a:pt x="45" y="78"/>
                    </a:lnTo>
                    <a:lnTo>
                      <a:pt x="45" y="90"/>
                    </a:lnTo>
                    <a:lnTo>
                      <a:pt x="56" y="101"/>
                    </a:lnTo>
                    <a:lnTo>
                      <a:pt x="56" y="124"/>
                    </a:lnTo>
                    <a:lnTo>
                      <a:pt x="68" y="134"/>
                    </a:lnTo>
                    <a:lnTo>
                      <a:pt x="68" y="146"/>
                    </a:lnTo>
                    <a:lnTo>
                      <a:pt x="79" y="157"/>
                    </a:lnTo>
                    <a:lnTo>
                      <a:pt x="79" y="169"/>
                    </a:lnTo>
                    <a:lnTo>
                      <a:pt x="89" y="179"/>
                    </a:lnTo>
                    <a:lnTo>
                      <a:pt x="101" y="19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6427800" y="4000680"/>
                <a:ext cx="426960" cy="1033920"/>
              </a:xfrm>
              <a:custGeom>
                <a:avLst/>
                <a:gdLst/>
                <a:ahLst/>
                <a:rect l="l" t="t" r="r" b="b"/>
                <a:pathLst>
                  <a:path w="1099" h="2657">
                    <a:moveTo>
                      <a:pt x="1087" y="179"/>
                    </a:moveTo>
                    <a:lnTo>
                      <a:pt x="1087" y="213"/>
                    </a:lnTo>
                    <a:lnTo>
                      <a:pt x="1087" y="247"/>
                    </a:lnTo>
                    <a:lnTo>
                      <a:pt x="1087" y="269"/>
                    </a:lnTo>
                    <a:lnTo>
                      <a:pt x="1087" y="302"/>
                    </a:lnTo>
                    <a:lnTo>
                      <a:pt x="1087" y="336"/>
                    </a:lnTo>
                    <a:lnTo>
                      <a:pt x="1077" y="369"/>
                    </a:lnTo>
                    <a:lnTo>
                      <a:pt x="1077" y="403"/>
                    </a:lnTo>
                    <a:lnTo>
                      <a:pt x="1077" y="437"/>
                    </a:lnTo>
                    <a:lnTo>
                      <a:pt x="1077" y="470"/>
                    </a:lnTo>
                    <a:lnTo>
                      <a:pt x="1077" y="493"/>
                    </a:lnTo>
                    <a:lnTo>
                      <a:pt x="1077" y="527"/>
                    </a:lnTo>
                    <a:lnTo>
                      <a:pt x="1077" y="560"/>
                    </a:lnTo>
                    <a:lnTo>
                      <a:pt x="1077" y="595"/>
                    </a:lnTo>
                    <a:lnTo>
                      <a:pt x="1077" y="628"/>
                    </a:lnTo>
                    <a:lnTo>
                      <a:pt x="1077" y="651"/>
                    </a:lnTo>
                    <a:lnTo>
                      <a:pt x="1077" y="684"/>
                    </a:lnTo>
                    <a:lnTo>
                      <a:pt x="1054" y="695"/>
                    </a:lnTo>
                    <a:lnTo>
                      <a:pt x="1043" y="717"/>
                    </a:lnTo>
                    <a:lnTo>
                      <a:pt x="1021" y="729"/>
                    </a:lnTo>
                    <a:lnTo>
                      <a:pt x="1009" y="740"/>
                    </a:lnTo>
                    <a:lnTo>
                      <a:pt x="986" y="762"/>
                    </a:lnTo>
                    <a:lnTo>
                      <a:pt x="976" y="773"/>
                    </a:lnTo>
                    <a:lnTo>
                      <a:pt x="953" y="785"/>
                    </a:lnTo>
                    <a:lnTo>
                      <a:pt x="930" y="795"/>
                    </a:lnTo>
                    <a:lnTo>
                      <a:pt x="920" y="807"/>
                    </a:lnTo>
                    <a:lnTo>
                      <a:pt x="897" y="818"/>
                    </a:lnTo>
                    <a:lnTo>
                      <a:pt x="875" y="841"/>
                    </a:lnTo>
                    <a:lnTo>
                      <a:pt x="864" y="851"/>
                    </a:lnTo>
                    <a:lnTo>
                      <a:pt x="841" y="863"/>
                    </a:lnTo>
                    <a:lnTo>
                      <a:pt x="818" y="874"/>
                    </a:lnTo>
                    <a:lnTo>
                      <a:pt x="807" y="885"/>
                    </a:lnTo>
                    <a:lnTo>
                      <a:pt x="784" y="896"/>
                    </a:lnTo>
                    <a:lnTo>
                      <a:pt x="774" y="907"/>
                    </a:lnTo>
                    <a:lnTo>
                      <a:pt x="762" y="919"/>
                    </a:lnTo>
                    <a:lnTo>
                      <a:pt x="751" y="919"/>
                    </a:lnTo>
                    <a:lnTo>
                      <a:pt x="751" y="930"/>
                    </a:lnTo>
                    <a:lnTo>
                      <a:pt x="739" y="930"/>
                    </a:lnTo>
                    <a:lnTo>
                      <a:pt x="728" y="930"/>
                    </a:lnTo>
                    <a:lnTo>
                      <a:pt x="728" y="940"/>
                    </a:lnTo>
                    <a:lnTo>
                      <a:pt x="718" y="940"/>
                    </a:lnTo>
                    <a:lnTo>
                      <a:pt x="718" y="952"/>
                    </a:lnTo>
                    <a:lnTo>
                      <a:pt x="706" y="952"/>
                    </a:lnTo>
                    <a:lnTo>
                      <a:pt x="695" y="952"/>
                    </a:lnTo>
                    <a:lnTo>
                      <a:pt x="695" y="964"/>
                    </a:lnTo>
                    <a:lnTo>
                      <a:pt x="683" y="964"/>
                    </a:lnTo>
                    <a:lnTo>
                      <a:pt x="683" y="975"/>
                    </a:lnTo>
                    <a:lnTo>
                      <a:pt x="673" y="987"/>
                    </a:lnTo>
                    <a:lnTo>
                      <a:pt x="673" y="1032"/>
                    </a:lnTo>
                    <a:lnTo>
                      <a:pt x="673" y="1065"/>
                    </a:lnTo>
                    <a:lnTo>
                      <a:pt x="683" y="1110"/>
                    </a:lnTo>
                    <a:lnTo>
                      <a:pt x="683" y="1144"/>
                    </a:lnTo>
                    <a:lnTo>
                      <a:pt x="695" y="1177"/>
                    </a:lnTo>
                    <a:lnTo>
                      <a:pt x="695" y="1222"/>
                    </a:lnTo>
                    <a:lnTo>
                      <a:pt x="706" y="1255"/>
                    </a:lnTo>
                    <a:lnTo>
                      <a:pt x="706" y="1289"/>
                    </a:lnTo>
                    <a:lnTo>
                      <a:pt x="718" y="1322"/>
                    </a:lnTo>
                    <a:lnTo>
                      <a:pt x="718" y="1367"/>
                    </a:lnTo>
                    <a:lnTo>
                      <a:pt x="728" y="1401"/>
                    </a:lnTo>
                    <a:lnTo>
                      <a:pt x="739" y="1436"/>
                    </a:lnTo>
                    <a:lnTo>
                      <a:pt x="751" y="1469"/>
                    </a:lnTo>
                    <a:lnTo>
                      <a:pt x="762" y="1502"/>
                    </a:lnTo>
                    <a:lnTo>
                      <a:pt x="774" y="1536"/>
                    </a:lnTo>
                    <a:lnTo>
                      <a:pt x="784" y="1581"/>
                    </a:lnTo>
                    <a:lnTo>
                      <a:pt x="774" y="1603"/>
                    </a:lnTo>
                    <a:lnTo>
                      <a:pt x="774" y="1637"/>
                    </a:lnTo>
                    <a:lnTo>
                      <a:pt x="774" y="1670"/>
                    </a:lnTo>
                    <a:lnTo>
                      <a:pt x="774" y="1692"/>
                    </a:lnTo>
                    <a:lnTo>
                      <a:pt x="762" y="1726"/>
                    </a:lnTo>
                    <a:lnTo>
                      <a:pt x="762" y="1759"/>
                    </a:lnTo>
                    <a:lnTo>
                      <a:pt x="762" y="1793"/>
                    </a:lnTo>
                    <a:lnTo>
                      <a:pt x="762" y="1828"/>
                    </a:lnTo>
                    <a:lnTo>
                      <a:pt x="762" y="1850"/>
                    </a:lnTo>
                    <a:lnTo>
                      <a:pt x="762" y="1884"/>
                    </a:lnTo>
                    <a:lnTo>
                      <a:pt x="762" y="1917"/>
                    </a:lnTo>
                    <a:lnTo>
                      <a:pt x="762" y="1950"/>
                    </a:lnTo>
                    <a:lnTo>
                      <a:pt x="762" y="1985"/>
                    </a:lnTo>
                    <a:lnTo>
                      <a:pt x="762" y="2018"/>
                    </a:lnTo>
                    <a:lnTo>
                      <a:pt x="762" y="2051"/>
                    </a:lnTo>
                    <a:lnTo>
                      <a:pt x="762" y="2084"/>
                    </a:lnTo>
                    <a:lnTo>
                      <a:pt x="762" y="2096"/>
                    </a:lnTo>
                    <a:lnTo>
                      <a:pt x="762" y="2107"/>
                    </a:lnTo>
                    <a:lnTo>
                      <a:pt x="762" y="2119"/>
                    </a:lnTo>
                    <a:lnTo>
                      <a:pt x="762" y="2130"/>
                    </a:lnTo>
                    <a:lnTo>
                      <a:pt x="762" y="2140"/>
                    </a:lnTo>
                    <a:lnTo>
                      <a:pt x="762" y="2152"/>
                    </a:lnTo>
                    <a:lnTo>
                      <a:pt x="762" y="2163"/>
                    </a:lnTo>
                    <a:lnTo>
                      <a:pt x="762" y="2175"/>
                    </a:lnTo>
                    <a:lnTo>
                      <a:pt x="762" y="2185"/>
                    </a:lnTo>
                    <a:lnTo>
                      <a:pt x="762" y="2197"/>
                    </a:lnTo>
                    <a:lnTo>
                      <a:pt x="762" y="2208"/>
                    </a:lnTo>
                    <a:lnTo>
                      <a:pt x="762" y="2219"/>
                    </a:lnTo>
                    <a:lnTo>
                      <a:pt x="762" y="2231"/>
                    </a:lnTo>
                    <a:lnTo>
                      <a:pt x="762" y="2242"/>
                    </a:lnTo>
                    <a:lnTo>
                      <a:pt x="762" y="2254"/>
                    </a:lnTo>
                    <a:lnTo>
                      <a:pt x="762" y="2265"/>
                    </a:lnTo>
                    <a:lnTo>
                      <a:pt x="762" y="2276"/>
                    </a:lnTo>
                    <a:lnTo>
                      <a:pt x="762" y="2288"/>
                    </a:lnTo>
                    <a:lnTo>
                      <a:pt x="751" y="2288"/>
                    </a:lnTo>
                    <a:lnTo>
                      <a:pt x="751" y="2298"/>
                    </a:lnTo>
                    <a:lnTo>
                      <a:pt x="751" y="2310"/>
                    </a:lnTo>
                    <a:lnTo>
                      <a:pt x="751" y="2332"/>
                    </a:lnTo>
                    <a:lnTo>
                      <a:pt x="751" y="2343"/>
                    </a:lnTo>
                    <a:lnTo>
                      <a:pt x="762" y="2366"/>
                    </a:lnTo>
                    <a:lnTo>
                      <a:pt x="762" y="2389"/>
                    </a:lnTo>
                    <a:lnTo>
                      <a:pt x="762" y="2399"/>
                    </a:lnTo>
                    <a:lnTo>
                      <a:pt x="762" y="2422"/>
                    </a:lnTo>
                    <a:lnTo>
                      <a:pt x="762" y="2444"/>
                    </a:lnTo>
                    <a:lnTo>
                      <a:pt x="762" y="2466"/>
                    </a:lnTo>
                    <a:lnTo>
                      <a:pt x="762" y="2488"/>
                    </a:lnTo>
                    <a:lnTo>
                      <a:pt x="762" y="2500"/>
                    </a:lnTo>
                    <a:lnTo>
                      <a:pt x="751" y="2522"/>
                    </a:lnTo>
                    <a:lnTo>
                      <a:pt x="751" y="2544"/>
                    </a:lnTo>
                    <a:lnTo>
                      <a:pt x="751" y="2567"/>
                    </a:lnTo>
                    <a:lnTo>
                      <a:pt x="751" y="2589"/>
                    </a:lnTo>
                    <a:lnTo>
                      <a:pt x="751" y="2600"/>
                    </a:lnTo>
                    <a:lnTo>
                      <a:pt x="751" y="2623"/>
                    </a:lnTo>
                    <a:lnTo>
                      <a:pt x="739" y="2623"/>
                    </a:lnTo>
                    <a:lnTo>
                      <a:pt x="728" y="2623"/>
                    </a:lnTo>
                    <a:lnTo>
                      <a:pt x="718" y="2623"/>
                    </a:lnTo>
                    <a:lnTo>
                      <a:pt x="706" y="2623"/>
                    </a:lnTo>
                    <a:lnTo>
                      <a:pt x="695" y="2623"/>
                    </a:lnTo>
                    <a:lnTo>
                      <a:pt x="683" y="2623"/>
                    </a:lnTo>
                    <a:lnTo>
                      <a:pt x="673" y="2623"/>
                    </a:lnTo>
                    <a:lnTo>
                      <a:pt x="662" y="2623"/>
                    </a:lnTo>
                    <a:lnTo>
                      <a:pt x="650" y="2623"/>
                    </a:lnTo>
                    <a:lnTo>
                      <a:pt x="639" y="2623"/>
                    </a:lnTo>
                    <a:lnTo>
                      <a:pt x="628" y="2623"/>
                    </a:lnTo>
                    <a:lnTo>
                      <a:pt x="617" y="2623"/>
                    </a:lnTo>
                    <a:lnTo>
                      <a:pt x="605" y="2623"/>
                    </a:lnTo>
                    <a:lnTo>
                      <a:pt x="594" y="2623"/>
                    </a:lnTo>
                    <a:lnTo>
                      <a:pt x="584" y="2635"/>
                    </a:lnTo>
                    <a:lnTo>
                      <a:pt x="572" y="2635"/>
                    </a:lnTo>
                    <a:lnTo>
                      <a:pt x="561" y="2635"/>
                    </a:lnTo>
                    <a:lnTo>
                      <a:pt x="549" y="2645"/>
                    </a:lnTo>
                    <a:lnTo>
                      <a:pt x="538" y="2645"/>
                    </a:lnTo>
                    <a:lnTo>
                      <a:pt x="528" y="2645"/>
                    </a:lnTo>
                    <a:lnTo>
                      <a:pt x="516" y="2645"/>
                    </a:lnTo>
                    <a:lnTo>
                      <a:pt x="505" y="2645"/>
                    </a:lnTo>
                    <a:lnTo>
                      <a:pt x="493" y="2645"/>
                    </a:lnTo>
                    <a:lnTo>
                      <a:pt x="472" y="2645"/>
                    </a:lnTo>
                    <a:lnTo>
                      <a:pt x="449" y="2635"/>
                    </a:lnTo>
                    <a:lnTo>
                      <a:pt x="427" y="2635"/>
                    </a:lnTo>
                    <a:lnTo>
                      <a:pt x="403" y="2635"/>
                    </a:lnTo>
                    <a:lnTo>
                      <a:pt x="380" y="2645"/>
                    </a:lnTo>
                    <a:lnTo>
                      <a:pt x="358" y="2645"/>
                    </a:lnTo>
                    <a:lnTo>
                      <a:pt x="336" y="2645"/>
                    </a:lnTo>
                    <a:lnTo>
                      <a:pt x="314" y="2645"/>
                    </a:lnTo>
                    <a:lnTo>
                      <a:pt x="291" y="2657"/>
                    </a:lnTo>
                    <a:lnTo>
                      <a:pt x="269" y="2657"/>
                    </a:lnTo>
                    <a:lnTo>
                      <a:pt x="246" y="2657"/>
                    </a:lnTo>
                    <a:lnTo>
                      <a:pt x="225" y="2657"/>
                    </a:lnTo>
                    <a:lnTo>
                      <a:pt x="202" y="2657"/>
                    </a:lnTo>
                    <a:lnTo>
                      <a:pt x="180" y="2657"/>
                    </a:lnTo>
                    <a:lnTo>
                      <a:pt x="168" y="2657"/>
                    </a:lnTo>
                    <a:lnTo>
                      <a:pt x="146" y="2645"/>
                    </a:lnTo>
                    <a:lnTo>
                      <a:pt x="124" y="2635"/>
                    </a:lnTo>
                    <a:lnTo>
                      <a:pt x="112" y="2623"/>
                    </a:lnTo>
                    <a:lnTo>
                      <a:pt x="101" y="2612"/>
                    </a:lnTo>
                    <a:lnTo>
                      <a:pt x="91" y="2589"/>
                    </a:lnTo>
                    <a:lnTo>
                      <a:pt x="91" y="2579"/>
                    </a:lnTo>
                    <a:lnTo>
                      <a:pt x="79" y="2556"/>
                    </a:lnTo>
                    <a:lnTo>
                      <a:pt x="79" y="2544"/>
                    </a:lnTo>
                    <a:lnTo>
                      <a:pt x="68" y="2522"/>
                    </a:lnTo>
                    <a:lnTo>
                      <a:pt x="68" y="2511"/>
                    </a:lnTo>
                    <a:lnTo>
                      <a:pt x="68" y="2488"/>
                    </a:lnTo>
                    <a:lnTo>
                      <a:pt x="56" y="2466"/>
                    </a:lnTo>
                    <a:lnTo>
                      <a:pt x="56" y="2455"/>
                    </a:lnTo>
                    <a:lnTo>
                      <a:pt x="56" y="2433"/>
                    </a:lnTo>
                    <a:lnTo>
                      <a:pt x="45" y="2410"/>
                    </a:lnTo>
                    <a:lnTo>
                      <a:pt x="45" y="2399"/>
                    </a:lnTo>
                    <a:lnTo>
                      <a:pt x="35" y="2377"/>
                    </a:lnTo>
                    <a:lnTo>
                      <a:pt x="23" y="2276"/>
                    </a:lnTo>
                    <a:lnTo>
                      <a:pt x="12" y="2163"/>
                    </a:lnTo>
                    <a:lnTo>
                      <a:pt x="0" y="2051"/>
                    </a:lnTo>
                    <a:lnTo>
                      <a:pt x="0" y="1950"/>
                    </a:lnTo>
                    <a:lnTo>
                      <a:pt x="0" y="1839"/>
                    </a:lnTo>
                    <a:lnTo>
                      <a:pt x="12" y="1738"/>
                    </a:lnTo>
                    <a:lnTo>
                      <a:pt x="23" y="1626"/>
                    </a:lnTo>
                    <a:lnTo>
                      <a:pt x="35" y="1525"/>
                    </a:lnTo>
                    <a:lnTo>
                      <a:pt x="56" y="1424"/>
                    </a:lnTo>
                    <a:lnTo>
                      <a:pt x="79" y="1311"/>
                    </a:lnTo>
                    <a:lnTo>
                      <a:pt x="101" y="1210"/>
                    </a:lnTo>
                    <a:lnTo>
                      <a:pt x="135" y="1110"/>
                    </a:lnTo>
                    <a:lnTo>
                      <a:pt x="168" y="1020"/>
                    </a:lnTo>
                    <a:lnTo>
                      <a:pt x="202" y="919"/>
                    </a:lnTo>
                    <a:lnTo>
                      <a:pt x="246" y="829"/>
                    </a:lnTo>
                    <a:lnTo>
                      <a:pt x="291" y="740"/>
                    </a:lnTo>
                    <a:lnTo>
                      <a:pt x="314" y="695"/>
                    </a:lnTo>
                    <a:lnTo>
                      <a:pt x="336" y="661"/>
                    </a:lnTo>
                    <a:lnTo>
                      <a:pt x="347" y="628"/>
                    </a:lnTo>
                    <a:lnTo>
                      <a:pt x="370" y="583"/>
                    </a:lnTo>
                    <a:lnTo>
                      <a:pt x="392" y="550"/>
                    </a:lnTo>
                    <a:lnTo>
                      <a:pt x="415" y="503"/>
                    </a:lnTo>
                    <a:lnTo>
                      <a:pt x="437" y="470"/>
                    </a:lnTo>
                    <a:lnTo>
                      <a:pt x="460" y="426"/>
                    </a:lnTo>
                    <a:lnTo>
                      <a:pt x="483" y="392"/>
                    </a:lnTo>
                    <a:lnTo>
                      <a:pt x="493" y="358"/>
                    </a:lnTo>
                    <a:lnTo>
                      <a:pt x="516" y="313"/>
                    </a:lnTo>
                    <a:lnTo>
                      <a:pt x="538" y="280"/>
                    </a:lnTo>
                    <a:lnTo>
                      <a:pt x="561" y="236"/>
                    </a:lnTo>
                    <a:lnTo>
                      <a:pt x="584" y="201"/>
                    </a:lnTo>
                    <a:lnTo>
                      <a:pt x="605" y="168"/>
                    </a:lnTo>
                    <a:lnTo>
                      <a:pt x="639" y="123"/>
                    </a:lnTo>
                    <a:lnTo>
                      <a:pt x="662" y="123"/>
                    </a:lnTo>
                    <a:lnTo>
                      <a:pt x="683" y="112"/>
                    </a:lnTo>
                    <a:lnTo>
                      <a:pt x="706" y="101"/>
                    </a:lnTo>
                    <a:lnTo>
                      <a:pt x="739" y="89"/>
                    </a:lnTo>
                    <a:lnTo>
                      <a:pt x="762" y="78"/>
                    </a:lnTo>
                    <a:lnTo>
                      <a:pt x="784" y="66"/>
                    </a:lnTo>
                    <a:lnTo>
                      <a:pt x="818" y="66"/>
                    </a:lnTo>
                    <a:lnTo>
                      <a:pt x="841" y="55"/>
                    </a:lnTo>
                    <a:lnTo>
                      <a:pt x="864" y="45"/>
                    </a:lnTo>
                    <a:lnTo>
                      <a:pt x="897" y="45"/>
                    </a:lnTo>
                    <a:lnTo>
                      <a:pt x="920" y="33"/>
                    </a:lnTo>
                    <a:lnTo>
                      <a:pt x="953" y="22"/>
                    </a:lnTo>
                    <a:lnTo>
                      <a:pt x="976" y="22"/>
                    </a:lnTo>
                    <a:lnTo>
                      <a:pt x="998" y="10"/>
                    </a:lnTo>
                    <a:lnTo>
                      <a:pt x="1031" y="10"/>
                    </a:lnTo>
                    <a:lnTo>
                      <a:pt x="1054" y="0"/>
                    </a:lnTo>
                    <a:lnTo>
                      <a:pt x="1087" y="22"/>
                    </a:lnTo>
                    <a:lnTo>
                      <a:pt x="1099" y="55"/>
                    </a:lnTo>
                    <a:lnTo>
                      <a:pt x="1099" y="89"/>
                    </a:lnTo>
                    <a:lnTo>
                      <a:pt x="1099" y="135"/>
                    </a:lnTo>
                    <a:lnTo>
                      <a:pt x="1087" y="168"/>
                    </a:lnTo>
                    <a:lnTo>
                      <a:pt x="1087" y="17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6845760" y="4070520"/>
                <a:ext cx="3960" cy="196200"/>
              </a:xfrm>
              <a:custGeom>
                <a:avLst/>
                <a:gdLst/>
                <a:ahLst/>
                <a:rect l="l" t="t" r="r" b="b"/>
                <a:pathLst>
                  <a:path w="10" h="505">
                    <a:moveTo>
                      <a:pt x="10" y="0"/>
                    </a:moveTo>
                    <a:lnTo>
                      <a:pt x="10" y="34"/>
                    </a:lnTo>
                    <a:lnTo>
                      <a:pt x="10" y="68"/>
                    </a:lnTo>
                    <a:lnTo>
                      <a:pt x="10" y="90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0" y="190"/>
                    </a:lnTo>
                    <a:lnTo>
                      <a:pt x="0" y="224"/>
                    </a:lnTo>
                    <a:lnTo>
                      <a:pt x="0" y="258"/>
                    </a:lnTo>
                    <a:lnTo>
                      <a:pt x="0" y="29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1"/>
                    </a:lnTo>
                    <a:lnTo>
                      <a:pt x="0" y="416"/>
                    </a:lnTo>
                    <a:lnTo>
                      <a:pt x="0" y="449"/>
                    </a:lnTo>
                    <a:lnTo>
                      <a:pt x="0" y="472"/>
                    </a:lnTo>
                    <a:lnTo>
                      <a:pt x="0" y="5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6733440" y="4267080"/>
                <a:ext cx="111960" cy="83520"/>
              </a:xfrm>
              <a:custGeom>
                <a:avLst/>
                <a:gdLst/>
                <a:ahLst/>
                <a:rect l="l" t="t" r="r" b="b"/>
                <a:pathLst>
                  <a:path w="293" h="212">
                    <a:moveTo>
                      <a:pt x="293" y="0"/>
                    </a:moveTo>
                    <a:lnTo>
                      <a:pt x="270" y="11"/>
                    </a:lnTo>
                    <a:lnTo>
                      <a:pt x="259" y="33"/>
                    </a:lnTo>
                    <a:lnTo>
                      <a:pt x="237" y="45"/>
                    </a:lnTo>
                    <a:lnTo>
                      <a:pt x="225" y="56"/>
                    </a:lnTo>
                    <a:lnTo>
                      <a:pt x="202" y="78"/>
                    </a:lnTo>
                    <a:lnTo>
                      <a:pt x="192" y="89"/>
                    </a:lnTo>
                    <a:lnTo>
                      <a:pt x="169" y="101"/>
                    </a:lnTo>
                    <a:lnTo>
                      <a:pt x="146" y="111"/>
                    </a:lnTo>
                    <a:lnTo>
                      <a:pt x="136" y="123"/>
                    </a:lnTo>
                    <a:lnTo>
                      <a:pt x="113" y="134"/>
                    </a:lnTo>
                    <a:lnTo>
                      <a:pt x="91" y="157"/>
                    </a:lnTo>
                    <a:lnTo>
                      <a:pt x="80" y="167"/>
                    </a:lnTo>
                    <a:lnTo>
                      <a:pt x="57" y="179"/>
                    </a:lnTo>
                    <a:lnTo>
                      <a:pt x="34" y="190"/>
                    </a:lnTo>
                    <a:lnTo>
                      <a:pt x="23" y="201"/>
                    </a:lnTo>
                    <a:lnTo>
                      <a:pt x="0" y="2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6689160" y="4385520"/>
                <a:ext cx="44280" cy="231120"/>
              </a:xfrm>
              <a:custGeom>
                <a:avLst/>
                <a:gdLst/>
                <a:ahLst/>
                <a:rect l="l" t="t" r="r" b="b"/>
                <a:pathLst>
                  <a:path w="111" h="594">
                    <a:moveTo>
                      <a:pt x="0" y="0"/>
                    </a:moveTo>
                    <a:lnTo>
                      <a:pt x="0" y="45"/>
                    </a:lnTo>
                    <a:lnTo>
                      <a:pt x="0" y="78"/>
                    </a:lnTo>
                    <a:lnTo>
                      <a:pt x="10" y="123"/>
                    </a:lnTo>
                    <a:lnTo>
                      <a:pt x="10" y="157"/>
                    </a:lnTo>
                    <a:lnTo>
                      <a:pt x="22" y="190"/>
                    </a:lnTo>
                    <a:lnTo>
                      <a:pt x="22" y="235"/>
                    </a:lnTo>
                    <a:lnTo>
                      <a:pt x="33" y="268"/>
                    </a:lnTo>
                    <a:lnTo>
                      <a:pt x="33" y="302"/>
                    </a:lnTo>
                    <a:lnTo>
                      <a:pt x="45" y="335"/>
                    </a:lnTo>
                    <a:lnTo>
                      <a:pt x="45" y="380"/>
                    </a:lnTo>
                    <a:lnTo>
                      <a:pt x="55" y="414"/>
                    </a:lnTo>
                    <a:lnTo>
                      <a:pt x="66" y="449"/>
                    </a:lnTo>
                    <a:lnTo>
                      <a:pt x="78" y="482"/>
                    </a:lnTo>
                    <a:lnTo>
                      <a:pt x="89" y="515"/>
                    </a:lnTo>
                    <a:lnTo>
                      <a:pt x="101" y="549"/>
                    </a:lnTo>
                    <a:lnTo>
                      <a:pt x="111" y="5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6724080" y="4617000"/>
                <a:ext cx="9360" cy="195840"/>
              </a:xfrm>
              <a:custGeom>
                <a:avLst/>
                <a:gdLst/>
                <a:ahLst/>
                <a:rect l="l" t="t" r="r" b="b"/>
                <a:pathLst>
                  <a:path w="22" h="503">
                    <a:moveTo>
                      <a:pt x="22" y="0"/>
                    </a:moveTo>
                    <a:lnTo>
                      <a:pt x="12" y="22"/>
                    </a:lnTo>
                    <a:lnTo>
                      <a:pt x="12" y="56"/>
                    </a:lnTo>
                    <a:lnTo>
                      <a:pt x="12" y="89"/>
                    </a:lnTo>
                    <a:lnTo>
                      <a:pt x="12" y="111"/>
                    </a:lnTo>
                    <a:lnTo>
                      <a:pt x="0" y="145"/>
                    </a:lnTo>
                    <a:lnTo>
                      <a:pt x="0" y="178"/>
                    </a:lnTo>
                    <a:lnTo>
                      <a:pt x="0" y="212"/>
                    </a:lnTo>
                    <a:lnTo>
                      <a:pt x="0" y="247"/>
                    </a:lnTo>
                    <a:lnTo>
                      <a:pt x="0" y="269"/>
                    </a:lnTo>
                    <a:lnTo>
                      <a:pt x="0" y="303"/>
                    </a:lnTo>
                    <a:lnTo>
                      <a:pt x="0" y="336"/>
                    </a:lnTo>
                    <a:lnTo>
                      <a:pt x="0" y="369"/>
                    </a:lnTo>
                    <a:lnTo>
                      <a:pt x="0" y="404"/>
                    </a:lnTo>
                    <a:lnTo>
                      <a:pt x="0" y="437"/>
                    </a:lnTo>
                    <a:lnTo>
                      <a:pt x="0" y="470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6719400" y="4838760"/>
                <a:ext cx="4680" cy="608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11" y="0"/>
                    </a:moveTo>
                    <a:lnTo>
                      <a:pt x="11" y="11"/>
                    </a:lnTo>
                    <a:lnTo>
                      <a:pt x="11" y="23"/>
                    </a:lnTo>
                    <a:lnTo>
                      <a:pt x="11" y="33"/>
                    </a:lnTo>
                    <a:lnTo>
                      <a:pt x="11" y="45"/>
                    </a:lnTo>
                    <a:lnTo>
                      <a:pt x="11" y="56"/>
                    </a:lnTo>
                    <a:lnTo>
                      <a:pt x="11" y="67"/>
                    </a:lnTo>
                    <a:lnTo>
                      <a:pt x="11" y="79"/>
                    </a:lnTo>
                    <a:lnTo>
                      <a:pt x="11" y="90"/>
                    </a:lnTo>
                    <a:lnTo>
                      <a:pt x="11" y="102"/>
                    </a:lnTo>
                    <a:lnTo>
                      <a:pt x="11" y="113"/>
                    </a:lnTo>
                    <a:lnTo>
                      <a:pt x="11" y="124"/>
                    </a:lnTo>
                    <a:lnTo>
                      <a:pt x="11" y="136"/>
                    </a:lnTo>
                    <a:lnTo>
                      <a:pt x="0" y="136"/>
                    </a:lnTo>
                    <a:lnTo>
                      <a:pt x="0" y="146"/>
                    </a:lnTo>
                    <a:lnTo>
                      <a:pt x="0" y="15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6719400" y="4899600"/>
                <a:ext cx="4680" cy="120960"/>
              </a:xfrm>
              <a:custGeom>
                <a:avLst/>
                <a:gdLst/>
                <a:ahLst/>
                <a:rect l="l" t="t" r="r" b="b"/>
                <a:pathLst>
                  <a:path w="11" h="313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6"/>
                    </a:lnTo>
                    <a:lnTo>
                      <a:pt x="11" y="79"/>
                    </a:lnTo>
                    <a:lnTo>
                      <a:pt x="11" y="89"/>
                    </a:lnTo>
                    <a:lnTo>
                      <a:pt x="11" y="112"/>
                    </a:lnTo>
                    <a:lnTo>
                      <a:pt x="11" y="134"/>
                    </a:lnTo>
                    <a:lnTo>
                      <a:pt x="11" y="156"/>
                    </a:lnTo>
                    <a:lnTo>
                      <a:pt x="11" y="178"/>
                    </a:lnTo>
                    <a:lnTo>
                      <a:pt x="11" y="190"/>
                    </a:lnTo>
                    <a:lnTo>
                      <a:pt x="0" y="212"/>
                    </a:lnTo>
                    <a:lnTo>
                      <a:pt x="0" y="234"/>
                    </a:lnTo>
                    <a:lnTo>
                      <a:pt x="0" y="257"/>
                    </a:lnTo>
                    <a:lnTo>
                      <a:pt x="0" y="279"/>
                    </a:lnTo>
                    <a:lnTo>
                      <a:pt x="0" y="290"/>
                    </a:lnTo>
                    <a:lnTo>
                      <a:pt x="0" y="3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6441840" y="4925160"/>
                <a:ext cx="41760" cy="104760"/>
              </a:xfrm>
              <a:custGeom>
                <a:avLst/>
                <a:gdLst/>
                <a:ahLst/>
                <a:rect l="l" t="t" r="r" b="b"/>
                <a:pathLst>
                  <a:path w="111" h="268">
                    <a:moveTo>
                      <a:pt x="111" y="268"/>
                    </a:moveTo>
                    <a:lnTo>
                      <a:pt x="89" y="258"/>
                    </a:lnTo>
                    <a:lnTo>
                      <a:pt x="77" y="246"/>
                    </a:lnTo>
                    <a:lnTo>
                      <a:pt x="66" y="235"/>
                    </a:lnTo>
                    <a:lnTo>
                      <a:pt x="56" y="212"/>
                    </a:lnTo>
                    <a:lnTo>
                      <a:pt x="56" y="202"/>
                    </a:lnTo>
                    <a:lnTo>
                      <a:pt x="44" y="179"/>
                    </a:lnTo>
                    <a:lnTo>
                      <a:pt x="44" y="167"/>
                    </a:lnTo>
                    <a:lnTo>
                      <a:pt x="33" y="145"/>
                    </a:lnTo>
                    <a:lnTo>
                      <a:pt x="33" y="134"/>
                    </a:lnTo>
                    <a:lnTo>
                      <a:pt x="33" y="111"/>
                    </a:lnTo>
                    <a:lnTo>
                      <a:pt x="21" y="89"/>
                    </a:lnTo>
                    <a:lnTo>
                      <a:pt x="21" y="78"/>
                    </a:lnTo>
                    <a:lnTo>
                      <a:pt x="21" y="56"/>
                    </a:lnTo>
                    <a:lnTo>
                      <a:pt x="10" y="33"/>
                    </a:lnTo>
                    <a:lnTo>
                      <a:pt x="10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6427800" y="4290120"/>
                <a:ext cx="114120" cy="634680"/>
              </a:xfrm>
              <a:custGeom>
                <a:avLst/>
                <a:gdLst/>
                <a:ahLst/>
                <a:rect l="l" t="t" r="r" b="b"/>
                <a:pathLst>
                  <a:path w="291" h="1637">
                    <a:moveTo>
                      <a:pt x="35" y="1637"/>
                    </a:moveTo>
                    <a:lnTo>
                      <a:pt x="23" y="1536"/>
                    </a:lnTo>
                    <a:lnTo>
                      <a:pt x="12" y="1423"/>
                    </a:lnTo>
                    <a:lnTo>
                      <a:pt x="0" y="1311"/>
                    </a:lnTo>
                    <a:lnTo>
                      <a:pt x="0" y="1210"/>
                    </a:lnTo>
                    <a:lnTo>
                      <a:pt x="0" y="1099"/>
                    </a:lnTo>
                    <a:lnTo>
                      <a:pt x="12" y="998"/>
                    </a:lnTo>
                    <a:lnTo>
                      <a:pt x="23" y="886"/>
                    </a:lnTo>
                    <a:lnTo>
                      <a:pt x="35" y="785"/>
                    </a:lnTo>
                    <a:lnTo>
                      <a:pt x="56" y="684"/>
                    </a:lnTo>
                    <a:lnTo>
                      <a:pt x="79" y="571"/>
                    </a:lnTo>
                    <a:lnTo>
                      <a:pt x="101" y="470"/>
                    </a:lnTo>
                    <a:lnTo>
                      <a:pt x="135" y="370"/>
                    </a:lnTo>
                    <a:lnTo>
                      <a:pt x="168" y="280"/>
                    </a:lnTo>
                    <a:lnTo>
                      <a:pt x="202" y="179"/>
                    </a:lnTo>
                    <a:lnTo>
                      <a:pt x="246" y="89"/>
                    </a:lnTo>
                    <a:lnTo>
                      <a:pt x="29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6541920" y="4049280"/>
                <a:ext cx="135360" cy="240840"/>
              </a:xfrm>
              <a:custGeom>
                <a:avLst/>
                <a:gdLst/>
                <a:ahLst/>
                <a:rect l="l" t="t" r="r" b="b"/>
                <a:pathLst>
                  <a:path w="348" h="617">
                    <a:moveTo>
                      <a:pt x="0" y="617"/>
                    </a:moveTo>
                    <a:lnTo>
                      <a:pt x="23" y="572"/>
                    </a:lnTo>
                    <a:lnTo>
                      <a:pt x="45" y="538"/>
                    </a:lnTo>
                    <a:lnTo>
                      <a:pt x="56" y="505"/>
                    </a:lnTo>
                    <a:lnTo>
                      <a:pt x="79" y="460"/>
                    </a:lnTo>
                    <a:lnTo>
                      <a:pt x="101" y="427"/>
                    </a:lnTo>
                    <a:lnTo>
                      <a:pt x="124" y="380"/>
                    </a:lnTo>
                    <a:lnTo>
                      <a:pt x="146" y="347"/>
                    </a:lnTo>
                    <a:lnTo>
                      <a:pt x="169" y="303"/>
                    </a:lnTo>
                    <a:lnTo>
                      <a:pt x="192" y="269"/>
                    </a:lnTo>
                    <a:lnTo>
                      <a:pt x="202" y="235"/>
                    </a:lnTo>
                    <a:lnTo>
                      <a:pt x="225" y="190"/>
                    </a:lnTo>
                    <a:lnTo>
                      <a:pt x="247" y="157"/>
                    </a:lnTo>
                    <a:lnTo>
                      <a:pt x="270" y="113"/>
                    </a:lnTo>
                    <a:lnTo>
                      <a:pt x="293" y="78"/>
                    </a:lnTo>
                    <a:lnTo>
                      <a:pt x="314" y="45"/>
                    </a:lnTo>
                    <a:lnTo>
                      <a:pt x="3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6838200" y="4000680"/>
                <a:ext cx="16200" cy="6984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0" y="0"/>
                    </a:moveTo>
                    <a:lnTo>
                      <a:pt x="11" y="10"/>
                    </a:lnTo>
                    <a:lnTo>
                      <a:pt x="23" y="10"/>
                    </a:lnTo>
                    <a:lnTo>
                      <a:pt x="33" y="22"/>
                    </a:lnTo>
                    <a:lnTo>
                      <a:pt x="33" y="33"/>
                    </a:lnTo>
                    <a:lnTo>
                      <a:pt x="45" y="45"/>
                    </a:lnTo>
                    <a:lnTo>
                      <a:pt x="45" y="55"/>
                    </a:lnTo>
                    <a:lnTo>
                      <a:pt x="45" y="66"/>
                    </a:lnTo>
                    <a:lnTo>
                      <a:pt x="45" y="78"/>
                    </a:lnTo>
                    <a:lnTo>
                      <a:pt x="45" y="8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35"/>
                    </a:lnTo>
                    <a:lnTo>
                      <a:pt x="33" y="146"/>
                    </a:lnTo>
                    <a:lnTo>
                      <a:pt x="33" y="158"/>
                    </a:lnTo>
                    <a:lnTo>
                      <a:pt x="33" y="168"/>
                    </a:lnTo>
                    <a:lnTo>
                      <a:pt x="33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6453720" y="4024080"/>
                <a:ext cx="384480" cy="980280"/>
              </a:xfrm>
              <a:custGeom>
                <a:avLst/>
                <a:gdLst/>
                <a:ahLst/>
                <a:rect l="l" t="t" r="r" b="b"/>
                <a:pathLst>
                  <a:path w="986" h="2524">
                    <a:moveTo>
                      <a:pt x="986" y="0"/>
                    </a:moveTo>
                    <a:lnTo>
                      <a:pt x="986" y="34"/>
                    </a:lnTo>
                    <a:lnTo>
                      <a:pt x="975" y="68"/>
                    </a:lnTo>
                    <a:lnTo>
                      <a:pt x="975" y="113"/>
                    </a:lnTo>
                    <a:lnTo>
                      <a:pt x="975" y="146"/>
                    </a:lnTo>
                    <a:lnTo>
                      <a:pt x="975" y="181"/>
                    </a:lnTo>
                    <a:lnTo>
                      <a:pt x="975" y="214"/>
                    </a:lnTo>
                    <a:lnTo>
                      <a:pt x="975" y="247"/>
                    </a:lnTo>
                    <a:lnTo>
                      <a:pt x="963" y="281"/>
                    </a:lnTo>
                    <a:lnTo>
                      <a:pt x="963" y="314"/>
                    </a:lnTo>
                    <a:lnTo>
                      <a:pt x="963" y="348"/>
                    </a:lnTo>
                    <a:lnTo>
                      <a:pt x="963" y="382"/>
                    </a:lnTo>
                    <a:lnTo>
                      <a:pt x="963" y="415"/>
                    </a:lnTo>
                    <a:lnTo>
                      <a:pt x="963" y="448"/>
                    </a:lnTo>
                    <a:lnTo>
                      <a:pt x="963" y="495"/>
                    </a:lnTo>
                    <a:lnTo>
                      <a:pt x="963" y="528"/>
                    </a:lnTo>
                    <a:lnTo>
                      <a:pt x="963" y="562"/>
                    </a:lnTo>
                    <a:lnTo>
                      <a:pt x="963" y="573"/>
                    </a:lnTo>
                    <a:lnTo>
                      <a:pt x="963" y="584"/>
                    </a:lnTo>
                    <a:lnTo>
                      <a:pt x="963" y="596"/>
                    </a:lnTo>
                    <a:lnTo>
                      <a:pt x="963" y="606"/>
                    </a:lnTo>
                    <a:lnTo>
                      <a:pt x="963" y="618"/>
                    </a:lnTo>
                    <a:lnTo>
                      <a:pt x="963" y="629"/>
                    </a:lnTo>
                    <a:lnTo>
                      <a:pt x="941" y="651"/>
                    </a:lnTo>
                    <a:lnTo>
                      <a:pt x="908" y="674"/>
                    </a:lnTo>
                    <a:lnTo>
                      <a:pt x="885" y="695"/>
                    </a:lnTo>
                    <a:lnTo>
                      <a:pt x="862" y="707"/>
                    </a:lnTo>
                    <a:lnTo>
                      <a:pt x="841" y="730"/>
                    </a:lnTo>
                    <a:lnTo>
                      <a:pt x="807" y="740"/>
                    </a:lnTo>
                    <a:lnTo>
                      <a:pt x="784" y="763"/>
                    </a:lnTo>
                    <a:lnTo>
                      <a:pt x="761" y="774"/>
                    </a:lnTo>
                    <a:lnTo>
                      <a:pt x="739" y="796"/>
                    </a:lnTo>
                    <a:lnTo>
                      <a:pt x="706" y="808"/>
                    </a:lnTo>
                    <a:lnTo>
                      <a:pt x="683" y="830"/>
                    </a:lnTo>
                    <a:lnTo>
                      <a:pt x="660" y="852"/>
                    </a:lnTo>
                    <a:lnTo>
                      <a:pt x="638" y="864"/>
                    </a:lnTo>
                    <a:lnTo>
                      <a:pt x="615" y="885"/>
                    </a:lnTo>
                    <a:lnTo>
                      <a:pt x="594" y="909"/>
                    </a:lnTo>
                    <a:lnTo>
                      <a:pt x="571" y="932"/>
                    </a:lnTo>
                    <a:lnTo>
                      <a:pt x="571" y="954"/>
                    </a:lnTo>
                    <a:lnTo>
                      <a:pt x="571" y="965"/>
                    </a:lnTo>
                    <a:lnTo>
                      <a:pt x="571" y="977"/>
                    </a:lnTo>
                    <a:lnTo>
                      <a:pt x="571" y="999"/>
                    </a:lnTo>
                    <a:lnTo>
                      <a:pt x="571" y="1010"/>
                    </a:lnTo>
                    <a:lnTo>
                      <a:pt x="571" y="1021"/>
                    </a:lnTo>
                    <a:lnTo>
                      <a:pt x="571" y="1043"/>
                    </a:lnTo>
                    <a:lnTo>
                      <a:pt x="571" y="1055"/>
                    </a:lnTo>
                    <a:lnTo>
                      <a:pt x="571" y="1066"/>
                    </a:lnTo>
                    <a:lnTo>
                      <a:pt x="571" y="1089"/>
                    </a:lnTo>
                    <a:lnTo>
                      <a:pt x="582" y="1099"/>
                    </a:lnTo>
                    <a:lnTo>
                      <a:pt x="582" y="1111"/>
                    </a:lnTo>
                    <a:lnTo>
                      <a:pt x="582" y="1134"/>
                    </a:lnTo>
                    <a:lnTo>
                      <a:pt x="582" y="1144"/>
                    </a:lnTo>
                    <a:lnTo>
                      <a:pt x="582" y="1167"/>
                    </a:lnTo>
                    <a:lnTo>
                      <a:pt x="594" y="1178"/>
                    </a:lnTo>
                    <a:lnTo>
                      <a:pt x="594" y="1200"/>
                    </a:lnTo>
                    <a:lnTo>
                      <a:pt x="594" y="1223"/>
                    </a:lnTo>
                    <a:lnTo>
                      <a:pt x="605" y="1245"/>
                    </a:lnTo>
                    <a:lnTo>
                      <a:pt x="605" y="1279"/>
                    </a:lnTo>
                    <a:lnTo>
                      <a:pt x="605" y="1301"/>
                    </a:lnTo>
                    <a:lnTo>
                      <a:pt x="615" y="1324"/>
                    </a:lnTo>
                    <a:lnTo>
                      <a:pt x="615" y="1346"/>
                    </a:lnTo>
                    <a:lnTo>
                      <a:pt x="627" y="1369"/>
                    </a:lnTo>
                    <a:lnTo>
                      <a:pt x="627" y="1392"/>
                    </a:lnTo>
                    <a:lnTo>
                      <a:pt x="638" y="1414"/>
                    </a:lnTo>
                    <a:lnTo>
                      <a:pt x="638" y="1437"/>
                    </a:lnTo>
                    <a:lnTo>
                      <a:pt x="650" y="1470"/>
                    </a:lnTo>
                    <a:lnTo>
                      <a:pt x="660" y="1493"/>
                    </a:lnTo>
                    <a:lnTo>
                      <a:pt x="660" y="1515"/>
                    </a:lnTo>
                    <a:lnTo>
                      <a:pt x="671" y="1536"/>
                    </a:lnTo>
                    <a:lnTo>
                      <a:pt x="671" y="1559"/>
                    </a:lnTo>
                    <a:lnTo>
                      <a:pt x="671" y="1615"/>
                    </a:lnTo>
                    <a:lnTo>
                      <a:pt x="660" y="1671"/>
                    </a:lnTo>
                    <a:lnTo>
                      <a:pt x="650" y="1727"/>
                    </a:lnTo>
                    <a:lnTo>
                      <a:pt x="650" y="1784"/>
                    </a:lnTo>
                    <a:lnTo>
                      <a:pt x="650" y="1839"/>
                    </a:lnTo>
                    <a:lnTo>
                      <a:pt x="638" y="1895"/>
                    </a:lnTo>
                    <a:lnTo>
                      <a:pt x="638" y="1963"/>
                    </a:lnTo>
                    <a:lnTo>
                      <a:pt x="638" y="2019"/>
                    </a:lnTo>
                    <a:lnTo>
                      <a:pt x="638" y="2075"/>
                    </a:lnTo>
                    <a:lnTo>
                      <a:pt x="638" y="2130"/>
                    </a:lnTo>
                    <a:lnTo>
                      <a:pt x="638" y="2187"/>
                    </a:lnTo>
                    <a:lnTo>
                      <a:pt x="638" y="2255"/>
                    </a:lnTo>
                    <a:lnTo>
                      <a:pt x="638" y="2311"/>
                    </a:lnTo>
                    <a:lnTo>
                      <a:pt x="638" y="2367"/>
                    </a:lnTo>
                    <a:lnTo>
                      <a:pt x="638" y="2423"/>
                    </a:lnTo>
                    <a:lnTo>
                      <a:pt x="638" y="2489"/>
                    </a:lnTo>
                    <a:lnTo>
                      <a:pt x="627" y="2489"/>
                    </a:lnTo>
                    <a:lnTo>
                      <a:pt x="615" y="2489"/>
                    </a:lnTo>
                    <a:lnTo>
                      <a:pt x="605" y="2489"/>
                    </a:lnTo>
                    <a:lnTo>
                      <a:pt x="594" y="2489"/>
                    </a:lnTo>
                    <a:lnTo>
                      <a:pt x="582" y="2489"/>
                    </a:lnTo>
                    <a:lnTo>
                      <a:pt x="571" y="2489"/>
                    </a:lnTo>
                    <a:lnTo>
                      <a:pt x="560" y="2479"/>
                    </a:lnTo>
                    <a:lnTo>
                      <a:pt x="549" y="2489"/>
                    </a:lnTo>
                    <a:lnTo>
                      <a:pt x="516" y="2489"/>
                    </a:lnTo>
                    <a:lnTo>
                      <a:pt x="481" y="2489"/>
                    </a:lnTo>
                    <a:lnTo>
                      <a:pt x="460" y="2489"/>
                    </a:lnTo>
                    <a:lnTo>
                      <a:pt x="425" y="2501"/>
                    </a:lnTo>
                    <a:lnTo>
                      <a:pt x="404" y="2501"/>
                    </a:lnTo>
                    <a:lnTo>
                      <a:pt x="369" y="2501"/>
                    </a:lnTo>
                    <a:lnTo>
                      <a:pt x="335" y="2501"/>
                    </a:lnTo>
                    <a:lnTo>
                      <a:pt x="312" y="2512"/>
                    </a:lnTo>
                    <a:lnTo>
                      <a:pt x="279" y="2512"/>
                    </a:lnTo>
                    <a:lnTo>
                      <a:pt x="246" y="2512"/>
                    </a:lnTo>
                    <a:lnTo>
                      <a:pt x="223" y="2512"/>
                    </a:lnTo>
                    <a:lnTo>
                      <a:pt x="190" y="2512"/>
                    </a:lnTo>
                    <a:lnTo>
                      <a:pt x="168" y="2524"/>
                    </a:lnTo>
                    <a:lnTo>
                      <a:pt x="134" y="2524"/>
                    </a:lnTo>
                    <a:lnTo>
                      <a:pt x="100" y="2524"/>
                    </a:lnTo>
                    <a:lnTo>
                      <a:pt x="78" y="2524"/>
                    </a:lnTo>
                    <a:lnTo>
                      <a:pt x="67" y="2501"/>
                    </a:lnTo>
                    <a:lnTo>
                      <a:pt x="56" y="2479"/>
                    </a:lnTo>
                    <a:lnTo>
                      <a:pt x="56" y="2456"/>
                    </a:lnTo>
                    <a:lnTo>
                      <a:pt x="44" y="2433"/>
                    </a:lnTo>
                    <a:lnTo>
                      <a:pt x="44" y="2423"/>
                    </a:lnTo>
                    <a:lnTo>
                      <a:pt x="33" y="2400"/>
                    </a:lnTo>
                    <a:lnTo>
                      <a:pt x="33" y="2378"/>
                    </a:lnTo>
                    <a:lnTo>
                      <a:pt x="33" y="2355"/>
                    </a:lnTo>
                    <a:lnTo>
                      <a:pt x="33" y="2334"/>
                    </a:lnTo>
                    <a:lnTo>
                      <a:pt x="23" y="2311"/>
                    </a:lnTo>
                    <a:lnTo>
                      <a:pt x="23" y="2288"/>
                    </a:lnTo>
                    <a:lnTo>
                      <a:pt x="23" y="2266"/>
                    </a:lnTo>
                    <a:lnTo>
                      <a:pt x="23" y="2243"/>
                    </a:lnTo>
                    <a:lnTo>
                      <a:pt x="11" y="2221"/>
                    </a:lnTo>
                    <a:lnTo>
                      <a:pt x="11" y="2210"/>
                    </a:lnTo>
                    <a:lnTo>
                      <a:pt x="11" y="2187"/>
                    </a:lnTo>
                    <a:lnTo>
                      <a:pt x="0" y="2120"/>
                    </a:lnTo>
                    <a:lnTo>
                      <a:pt x="0" y="2052"/>
                    </a:lnTo>
                    <a:lnTo>
                      <a:pt x="0" y="1986"/>
                    </a:lnTo>
                    <a:lnTo>
                      <a:pt x="0" y="1918"/>
                    </a:lnTo>
                    <a:lnTo>
                      <a:pt x="0" y="1851"/>
                    </a:lnTo>
                    <a:lnTo>
                      <a:pt x="0" y="1784"/>
                    </a:lnTo>
                    <a:lnTo>
                      <a:pt x="0" y="1727"/>
                    </a:lnTo>
                    <a:lnTo>
                      <a:pt x="11" y="1660"/>
                    </a:lnTo>
                    <a:lnTo>
                      <a:pt x="11" y="1592"/>
                    </a:lnTo>
                    <a:lnTo>
                      <a:pt x="23" y="1526"/>
                    </a:lnTo>
                    <a:lnTo>
                      <a:pt x="33" y="1458"/>
                    </a:lnTo>
                    <a:lnTo>
                      <a:pt x="44" y="1402"/>
                    </a:lnTo>
                    <a:lnTo>
                      <a:pt x="56" y="1334"/>
                    </a:lnTo>
                    <a:lnTo>
                      <a:pt x="67" y="1267"/>
                    </a:lnTo>
                    <a:lnTo>
                      <a:pt x="89" y="1211"/>
                    </a:lnTo>
                    <a:lnTo>
                      <a:pt x="112" y="1144"/>
                    </a:lnTo>
                    <a:lnTo>
                      <a:pt x="112" y="1134"/>
                    </a:lnTo>
                    <a:lnTo>
                      <a:pt x="122" y="1111"/>
                    </a:lnTo>
                    <a:lnTo>
                      <a:pt x="122" y="1099"/>
                    </a:lnTo>
                    <a:lnTo>
                      <a:pt x="134" y="1089"/>
                    </a:lnTo>
                    <a:lnTo>
                      <a:pt x="134" y="1066"/>
                    </a:lnTo>
                    <a:lnTo>
                      <a:pt x="145" y="1055"/>
                    </a:lnTo>
                    <a:lnTo>
                      <a:pt x="145" y="1033"/>
                    </a:lnTo>
                    <a:lnTo>
                      <a:pt x="157" y="1021"/>
                    </a:lnTo>
                    <a:lnTo>
                      <a:pt x="157" y="999"/>
                    </a:lnTo>
                    <a:lnTo>
                      <a:pt x="168" y="988"/>
                    </a:lnTo>
                    <a:lnTo>
                      <a:pt x="168" y="965"/>
                    </a:lnTo>
                    <a:lnTo>
                      <a:pt x="178" y="954"/>
                    </a:lnTo>
                    <a:lnTo>
                      <a:pt x="178" y="932"/>
                    </a:lnTo>
                    <a:lnTo>
                      <a:pt x="190" y="920"/>
                    </a:lnTo>
                    <a:lnTo>
                      <a:pt x="190" y="897"/>
                    </a:lnTo>
                    <a:lnTo>
                      <a:pt x="201" y="885"/>
                    </a:lnTo>
                    <a:lnTo>
                      <a:pt x="223" y="830"/>
                    </a:lnTo>
                    <a:lnTo>
                      <a:pt x="246" y="786"/>
                    </a:lnTo>
                    <a:lnTo>
                      <a:pt x="268" y="740"/>
                    </a:lnTo>
                    <a:lnTo>
                      <a:pt x="290" y="695"/>
                    </a:lnTo>
                    <a:lnTo>
                      <a:pt x="324" y="640"/>
                    </a:lnTo>
                    <a:lnTo>
                      <a:pt x="347" y="596"/>
                    </a:lnTo>
                    <a:lnTo>
                      <a:pt x="369" y="550"/>
                    </a:lnTo>
                    <a:lnTo>
                      <a:pt x="404" y="505"/>
                    </a:lnTo>
                    <a:lnTo>
                      <a:pt x="425" y="448"/>
                    </a:lnTo>
                    <a:lnTo>
                      <a:pt x="448" y="404"/>
                    </a:lnTo>
                    <a:lnTo>
                      <a:pt x="481" y="359"/>
                    </a:lnTo>
                    <a:lnTo>
                      <a:pt x="504" y="314"/>
                    </a:lnTo>
                    <a:lnTo>
                      <a:pt x="526" y="258"/>
                    </a:lnTo>
                    <a:lnTo>
                      <a:pt x="549" y="214"/>
                    </a:lnTo>
                    <a:lnTo>
                      <a:pt x="582" y="169"/>
                    </a:lnTo>
                    <a:lnTo>
                      <a:pt x="605" y="113"/>
                    </a:lnTo>
                    <a:lnTo>
                      <a:pt x="627" y="103"/>
                    </a:lnTo>
                    <a:lnTo>
                      <a:pt x="650" y="91"/>
                    </a:lnTo>
                    <a:lnTo>
                      <a:pt x="671" y="91"/>
                    </a:lnTo>
                    <a:lnTo>
                      <a:pt x="694" y="80"/>
                    </a:lnTo>
                    <a:lnTo>
                      <a:pt x="716" y="68"/>
                    </a:lnTo>
                    <a:lnTo>
                      <a:pt x="739" y="57"/>
                    </a:lnTo>
                    <a:lnTo>
                      <a:pt x="761" y="57"/>
                    </a:lnTo>
                    <a:lnTo>
                      <a:pt x="784" y="46"/>
                    </a:lnTo>
                    <a:lnTo>
                      <a:pt x="807" y="34"/>
                    </a:lnTo>
                    <a:lnTo>
                      <a:pt x="829" y="34"/>
                    </a:lnTo>
                    <a:lnTo>
                      <a:pt x="852" y="23"/>
                    </a:lnTo>
                    <a:lnTo>
                      <a:pt x="885" y="23"/>
                    </a:lnTo>
                    <a:lnTo>
                      <a:pt x="908" y="11"/>
                    </a:lnTo>
                    <a:lnTo>
                      <a:pt x="930" y="11"/>
                    </a:lnTo>
                    <a:lnTo>
                      <a:pt x="953" y="11"/>
                    </a:lnTo>
                    <a:lnTo>
                      <a:pt x="975" y="0"/>
                    </a:lnTo>
                    <a:lnTo>
                      <a:pt x="986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6829200" y="4024080"/>
                <a:ext cx="8640" cy="216720"/>
              </a:xfrm>
              <a:custGeom>
                <a:avLst/>
                <a:gdLst/>
                <a:ahLst/>
                <a:rect l="l" t="t" r="r" b="b"/>
                <a:pathLst>
                  <a:path w="23" h="562">
                    <a:moveTo>
                      <a:pt x="23" y="0"/>
                    </a:moveTo>
                    <a:lnTo>
                      <a:pt x="23" y="34"/>
                    </a:lnTo>
                    <a:lnTo>
                      <a:pt x="12" y="68"/>
                    </a:lnTo>
                    <a:lnTo>
                      <a:pt x="12" y="113"/>
                    </a:lnTo>
                    <a:lnTo>
                      <a:pt x="12" y="146"/>
                    </a:lnTo>
                    <a:lnTo>
                      <a:pt x="12" y="181"/>
                    </a:lnTo>
                    <a:lnTo>
                      <a:pt x="12" y="214"/>
                    </a:lnTo>
                    <a:lnTo>
                      <a:pt x="12" y="247"/>
                    </a:lnTo>
                    <a:lnTo>
                      <a:pt x="0" y="281"/>
                    </a:lnTo>
                    <a:lnTo>
                      <a:pt x="0" y="314"/>
                    </a:lnTo>
                    <a:lnTo>
                      <a:pt x="0" y="348"/>
                    </a:lnTo>
                    <a:lnTo>
                      <a:pt x="0" y="382"/>
                    </a:lnTo>
                    <a:lnTo>
                      <a:pt x="0" y="415"/>
                    </a:lnTo>
                    <a:lnTo>
                      <a:pt x="0" y="448"/>
                    </a:lnTo>
                    <a:lnTo>
                      <a:pt x="0" y="495"/>
                    </a:lnTo>
                    <a:lnTo>
                      <a:pt x="0" y="528"/>
                    </a:lnTo>
                    <a:lnTo>
                      <a:pt x="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6677280" y="4267080"/>
                <a:ext cx="151560" cy="118440"/>
              </a:xfrm>
              <a:custGeom>
                <a:avLst/>
                <a:gdLst/>
                <a:ahLst/>
                <a:rect l="l" t="t" r="r" b="b"/>
                <a:pathLst>
                  <a:path w="392" h="303">
                    <a:moveTo>
                      <a:pt x="392" y="0"/>
                    </a:moveTo>
                    <a:lnTo>
                      <a:pt x="370" y="22"/>
                    </a:lnTo>
                    <a:lnTo>
                      <a:pt x="337" y="45"/>
                    </a:lnTo>
                    <a:lnTo>
                      <a:pt x="314" y="66"/>
                    </a:lnTo>
                    <a:lnTo>
                      <a:pt x="291" y="78"/>
                    </a:lnTo>
                    <a:lnTo>
                      <a:pt x="270" y="101"/>
                    </a:lnTo>
                    <a:lnTo>
                      <a:pt x="236" y="111"/>
                    </a:lnTo>
                    <a:lnTo>
                      <a:pt x="213" y="134"/>
                    </a:lnTo>
                    <a:lnTo>
                      <a:pt x="190" y="145"/>
                    </a:lnTo>
                    <a:lnTo>
                      <a:pt x="168" y="167"/>
                    </a:lnTo>
                    <a:lnTo>
                      <a:pt x="135" y="179"/>
                    </a:lnTo>
                    <a:lnTo>
                      <a:pt x="112" y="201"/>
                    </a:lnTo>
                    <a:lnTo>
                      <a:pt x="89" y="223"/>
                    </a:lnTo>
                    <a:lnTo>
                      <a:pt x="67" y="235"/>
                    </a:lnTo>
                    <a:lnTo>
                      <a:pt x="44" y="256"/>
                    </a:lnTo>
                    <a:lnTo>
                      <a:pt x="23" y="280"/>
                    </a:lnTo>
                    <a:lnTo>
                      <a:pt x="0" y="3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6677280" y="4385520"/>
                <a:ext cx="6840" cy="95760"/>
              </a:xfrm>
              <a:custGeom>
                <a:avLst/>
                <a:gdLst/>
                <a:ahLst/>
                <a:rect l="l" t="t" r="r" b="b"/>
                <a:pathLst>
                  <a:path w="23" h="246">
                    <a:moveTo>
                      <a:pt x="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0" y="67"/>
                    </a:lnTo>
                    <a:lnTo>
                      <a:pt x="0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0" y="123"/>
                    </a:lnTo>
                    <a:lnTo>
                      <a:pt x="0" y="134"/>
                    </a:lnTo>
                    <a:lnTo>
                      <a:pt x="0" y="157"/>
                    </a:lnTo>
                    <a:lnTo>
                      <a:pt x="11" y="167"/>
                    </a:lnTo>
                    <a:lnTo>
                      <a:pt x="11" y="179"/>
                    </a:lnTo>
                    <a:lnTo>
                      <a:pt x="11" y="202"/>
                    </a:lnTo>
                    <a:lnTo>
                      <a:pt x="11" y="212"/>
                    </a:lnTo>
                    <a:lnTo>
                      <a:pt x="11" y="235"/>
                    </a:lnTo>
                    <a:lnTo>
                      <a:pt x="23" y="24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6684480" y="4481280"/>
                <a:ext cx="30600" cy="146880"/>
              </a:xfrm>
              <a:custGeom>
                <a:avLst/>
                <a:gdLst/>
                <a:ahLst/>
                <a:rect l="l" t="t" r="r" b="b"/>
                <a:pathLst>
                  <a:path w="77" h="381">
                    <a:moveTo>
                      <a:pt x="0" y="0"/>
                    </a:moveTo>
                    <a:lnTo>
                      <a:pt x="0" y="22"/>
                    </a:lnTo>
                    <a:lnTo>
                      <a:pt x="0" y="45"/>
                    </a:lnTo>
                    <a:lnTo>
                      <a:pt x="11" y="67"/>
                    </a:lnTo>
                    <a:lnTo>
                      <a:pt x="11" y="101"/>
                    </a:lnTo>
                    <a:lnTo>
                      <a:pt x="11" y="123"/>
                    </a:lnTo>
                    <a:lnTo>
                      <a:pt x="21" y="146"/>
                    </a:lnTo>
                    <a:lnTo>
                      <a:pt x="21" y="168"/>
                    </a:lnTo>
                    <a:lnTo>
                      <a:pt x="33" y="191"/>
                    </a:lnTo>
                    <a:lnTo>
                      <a:pt x="33" y="214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56" y="292"/>
                    </a:lnTo>
                    <a:lnTo>
                      <a:pt x="66" y="315"/>
                    </a:lnTo>
                    <a:lnTo>
                      <a:pt x="66" y="337"/>
                    </a:lnTo>
                    <a:lnTo>
                      <a:pt x="77" y="358"/>
                    </a:lnTo>
                    <a:lnTo>
                      <a:pt x="77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6703560" y="4628520"/>
                <a:ext cx="11520" cy="361800"/>
              </a:xfrm>
              <a:custGeom>
                <a:avLst/>
                <a:gdLst/>
                <a:ahLst/>
                <a:rect l="l" t="t" r="r" b="b"/>
                <a:pathLst>
                  <a:path w="33" h="930">
                    <a:moveTo>
                      <a:pt x="33" y="0"/>
                    </a:moveTo>
                    <a:lnTo>
                      <a:pt x="33" y="56"/>
                    </a:lnTo>
                    <a:lnTo>
                      <a:pt x="22" y="112"/>
                    </a:lnTo>
                    <a:lnTo>
                      <a:pt x="12" y="168"/>
                    </a:lnTo>
                    <a:lnTo>
                      <a:pt x="12" y="225"/>
                    </a:lnTo>
                    <a:lnTo>
                      <a:pt x="12" y="280"/>
                    </a:lnTo>
                    <a:lnTo>
                      <a:pt x="0" y="336"/>
                    </a:lnTo>
                    <a:lnTo>
                      <a:pt x="0" y="404"/>
                    </a:lnTo>
                    <a:lnTo>
                      <a:pt x="0" y="460"/>
                    </a:lnTo>
                    <a:lnTo>
                      <a:pt x="0" y="516"/>
                    </a:lnTo>
                    <a:lnTo>
                      <a:pt x="0" y="571"/>
                    </a:lnTo>
                    <a:lnTo>
                      <a:pt x="0" y="628"/>
                    </a:lnTo>
                    <a:lnTo>
                      <a:pt x="0" y="696"/>
                    </a:lnTo>
                    <a:lnTo>
                      <a:pt x="0" y="752"/>
                    </a:lnTo>
                    <a:lnTo>
                      <a:pt x="0" y="808"/>
                    </a:lnTo>
                    <a:lnTo>
                      <a:pt x="0" y="864"/>
                    </a:lnTo>
                    <a:lnTo>
                      <a:pt x="0" y="93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6458400" y="4873680"/>
                <a:ext cx="25200" cy="130680"/>
              </a:xfrm>
              <a:custGeom>
                <a:avLst/>
                <a:gdLst/>
                <a:ahLst/>
                <a:rect l="l" t="t" r="r" b="b"/>
                <a:pathLst>
                  <a:path w="67" h="337">
                    <a:moveTo>
                      <a:pt x="67" y="337"/>
                    </a:moveTo>
                    <a:lnTo>
                      <a:pt x="56" y="314"/>
                    </a:lnTo>
                    <a:lnTo>
                      <a:pt x="45" y="292"/>
                    </a:lnTo>
                    <a:lnTo>
                      <a:pt x="45" y="269"/>
                    </a:lnTo>
                    <a:lnTo>
                      <a:pt x="33" y="246"/>
                    </a:lnTo>
                    <a:lnTo>
                      <a:pt x="33" y="236"/>
                    </a:lnTo>
                    <a:lnTo>
                      <a:pt x="22" y="213"/>
                    </a:lnTo>
                    <a:lnTo>
                      <a:pt x="22" y="191"/>
                    </a:lnTo>
                    <a:lnTo>
                      <a:pt x="22" y="168"/>
                    </a:lnTo>
                    <a:lnTo>
                      <a:pt x="22" y="147"/>
                    </a:lnTo>
                    <a:lnTo>
                      <a:pt x="12" y="124"/>
                    </a:lnTo>
                    <a:lnTo>
                      <a:pt x="12" y="101"/>
                    </a:lnTo>
                    <a:lnTo>
                      <a:pt x="12" y="79"/>
                    </a:lnTo>
                    <a:lnTo>
                      <a:pt x="12" y="5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6453720" y="4467600"/>
                <a:ext cx="44280" cy="405720"/>
              </a:xfrm>
              <a:custGeom>
                <a:avLst/>
                <a:gdLst/>
                <a:ahLst/>
                <a:rect l="l" t="t" r="r" b="b"/>
                <a:pathLst>
                  <a:path w="112" h="1043">
                    <a:moveTo>
                      <a:pt x="11" y="1043"/>
                    </a:moveTo>
                    <a:lnTo>
                      <a:pt x="0" y="976"/>
                    </a:lnTo>
                    <a:lnTo>
                      <a:pt x="0" y="908"/>
                    </a:lnTo>
                    <a:lnTo>
                      <a:pt x="0" y="842"/>
                    </a:lnTo>
                    <a:lnTo>
                      <a:pt x="0" y="774"/>
                    </a:lnTo>
                    <a:lnTo>
                      <a:pt x="0" y="707"/>
                    </a:lnTo>
                    <a:lnTo>
                      <a:pt x="0" y="640"/>
                    </a:lnTo>
                    <a:lnTo>
                      <a:pt x="0" y="583"/>
                    </a:lnTo>
                    <a:lnTo>
                      <a:pt x="11" y="516"/>
                    </a:lnTo>
                    <a:lnTo>
                      <a:pt x="11" y="448"/>
                    </a:lnTo>
                    <a:lnTo>
                      <a:pt x="23" y="382"/>
                    </a:lnTo>
                    <a:lnTo>
                      <a:pt x="33" y="314"/>
                    </a:lnTo>
                    <a:lnTo>
                      <a:pt x="44" y="258"/>
                    </a:lnTo>
                    <a:lnTo>
                      <a:pt x="56" y="190"/>
                    </a:lnTo>
                    <a:lnTo>
                      <a:pt x="67" y="123"/>
                    </a:lnTo>
                    <a:lnTo>
                      <a:pt x="89" y="67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6498000" y="4367160"/>
                <a:ext cx="34920" cy="100440"/>
              </a:xfrm>
              <a:custGeom>
                <a:avLst/>
                <a:gdLst/>
                <a:ahLst/>
                <a:rect l="l" t="t" r="r" b="b"/>
                <a:pathLst>
                  <a:path w="89" h="259">
                    <a:moveTo>
                      <a:pt x="0" y="259"/>
                    </a:moveTo>
                    <a:lnTo>
                      <a:pt x="0" y="249"/>
                    </a:lnTo>
                    <a:lnTo>
                      <a:pt x="10" y="226"/>
                    </a:lnTo>
                    <a:lnTo>
                      <a:pt x="10" y="214"/>
                    </a:lnTo>
                    <a:lnTo>
                      <a:pt x="22" y="204"/>
                    </a:lnTo>
                    <a:lnTo>
                      <a:pt x="22" y="181"/>
                    </a:lnTo>
                    <a:lnTo>
                      <a:pt x="33" y="170"/>
                    </a:lnTo>
                    <a:lnTo>
                      <a:pt x="33" y="148"/>
                    </a:lnTo>
                    <a:lnTo>
                      <a:pt x="45" y="136"/>
                    </a:lnTo>
                    <a:lnTo>
                      <a:pt x="45" y="114"/>
                    </a:lnTo>
                    <a:lnTo>
                      <a:pt x="56" y="103"/>
                    </a:lnTo>
                    <a:lnTo>
                      <a:pt x="56" y="80"/>
                    </a:lnTo>
                    <a:lnTo>
                      <a:pt x="66" y="69"/>
                    </a:lnTo>
                    <a:lnTo>
                      <a:pt x="66" y="47"/>
                    </a:lnTo>
                    <a:lnTo>
                      <a:pt x="78" y="35"/>
                    </a:lnTo>
                    <a:lnTo>
                      <a:pt x="78" y="12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6532920" y="4065840"/>
                <a:ext cx="155880" cy="300960"/>
              </a:xfrm>
              <a:custGeom>
                <a:avLst/>
                <a:gdLst/>
                <a:ahLst/>
                <a:rect l="l" t="t" r="r" b="b"/>
                <a:pathLst>
                  <a:path w="404" h="772">
                    <a:moveTo>
                      <a:pt x="0" y="772"/>
                    </a:moveTo>
                    <a:lnTo>
                      <a:pt x="22" y="717"/>
                    </a:lnTo>
                    <a:lnTo>
                      <a:pt x="45" y="673"/>
                    </a:lnTo>
                    <a:lnTo>
                      <a:pt x="67" y="627"/>
                    </a:lnTo>
                    <a:lnTo>
                      <a:pt x="89" y="582"/>
                    </a:lnTo>
                    <a:lnTo>
                      <a:pt x="123" y="527"/>
                    </a:lnTo>
                    <a:lnTo>
                      <a:pt x="146" y="483"/>
                    </a:lnTo>
                    <a:lnTo>
                      <a:pt x="168" y="437"/>
                    </a:lnTo>
                    <a:lnTo>
                      <a:pt x="203" y="392"/>
                    </a:lnTo>
                    <a:lnTo>
                      <a:pt x="224" y="335"/>
                    </a:lnTo>
                    <a:lnTo>
                      <a:pt x="247" y="291"/>
                    </a:lnTo>
                    <a:lnTo>
                      <a:pt x="280" y="246"/>
                    </a:lnTo>
                    <a:lnTo>
                      <a:pt x="303" y="201"/>
                    </a:lnTo>
                    <a:lnTo>
                      <a:pt x="325" y="145"/>
                    </a:lnTo>
                    <a:lnTo>
                      <a:pt x="348" y="101"/>
                    </a:lnTo>
                    <a:lnTo>
                      <a:pt x="381" y="56"/>
                    </a:lnTo>
                    <a:lnTo>
                      <a:pt x="4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6733440" y="4271040"/>
                <a:ext cx="410400" cy="924840"/>
              </a:xfrm>
              <a:custGeom>
                <a:avLst/>
                <a:gdLst/>
                <a:ahLst/>
                <a:rect l="l" t="t" r="r" b="b"/>
                <a:pathLst>
                  <a:path w="1055" h="2377">
                    <a:moveTo>
                      <a:pt x="1043" y="78"/>
                    </a:moveTo>
                    <a:lnTo>
                      <a:pt x="1033" y="100"/>
                    </a:lnTo>
                    <a:lnTo>
                      <a:pt x="1033" y="123"/>
                    </a:lnTo>
                    <a:lnTo>
                      <a:pt x="1022" y="146"/>
                    </a:lnTo>
                    <a:lnTo>
                      <a:pt x="1022" y="168"/>
                    </a:lnTo>
                    <a:lnTo>
                      <a:pt x="1010" y="190"/>
                    </a:lnTo>
                    <a:lnTo>
                      <a:pt x="999" y="212"/>
                    </a:lnTo>
                    <a:lnTo>
                      <a:pt x="999" y="235"/>
                    </a:lnTo>
                    <a:lnTo>
                      <a:pt x="987" y="257"/>
                    </a:lnTo>
                    <a:lnTo>
                      <a:pt x="987" y="280"/>
                    </a:lnTo>
                    <a:lnTo>
                      <a:pt x="977" y="304"/>
                    </a:lnTo>
                    <a:lnTo>
                      <a:pt x="965" y="314"/>
                    </a:lnTo>
                    <a:lnTo>
                      <a:pt x="965" y="337"/>
                    </a:lnTo>
                    <a:lnTo>
                      <a:pt x="954" y="359"/>
                    </a:lnTo>
                    <a:lnTo>
                      <a:pt x="944" y="381"/>
                    </a:lnTo>
                    <a:lnTo>
                      <a:pt x="932" y="403"/>
                    </a:lnTo>
                    <a:lnTo>
                      <a:pt x="921" y="426"/>
                    </a:lnTo>
                    <a:lnTo>
                      <a:pt x="897" y="459"/>
                    </a:lnTo>
                    <a:lnTo>
                      <a:pt x="886" y="482"/>
                    </a:lnTo>
                    <a:lnTo>
                      <a:pt x="875" y="515"/>
                    </a:lnTo>
                    <a:lnTo>
                      <a:pt x="852" y="550"/>
                    </a:lnTo>
                    <a:lnTo>
                      <a:pt x="841" y="583"/>
                    </a:lnTo>
                    <a:lnTo>
                      <a:pt x="819" y="605"/>
                    </a:lnTo>
                    <a:lnTo>
                      <a:pt x="808" y="639"/>
                    </a:lnTo>
                    <a:lnTo>
                      <a:pt x="796" y="672"/>
                    </a:lnTo>
                    <a:lnTo>
                      <a:pt x="774" y="706"/>
                    </a:lnTo>
                    <a:lnTo>
                      <a:pt x="763" y="729"/>
                    </a:lnTo>
                    <a:lnTo>
                      <a:pt x="740" y="762"/>
                    </a:lnTo>
                    <a:lnTo>
                      <a:pt x="730" y="797"/>
                    </a:lnTo>
                    <a:lnTo>
                      <a:pt x="718" y="830"/>
                    </a:lnTo>
                    <a:lnTo>
                      <a:pt x="696" y="863"/>
                    </a:lnTo>
                    <a:lnTo>
                      <a:pt x="685" y="886"/>
                    </a:lnTo>
                    <a:lnTo>
                      <a:pt x="674" y="919"/>
                    </a:lnTo>
                    <a:lnTo>
                      <a:pt x="674" y="952"/>
                    </a:lnTo>
                    <a:lnTo>
                      <a:pt x="674" y="987"/>
                    </a:lnTo>
                    <a:lnTo>
                      <a:pt x="674" y="1008"/>
                    </a:lnTo>
                    <a:lnTo>
                      <a:pt x="674" y="1043"/>
                    </a:lnTo>
                    <a:lnTo>
                      <a:pt x="685" y="1064"/>
                    </a:lnTo>
                    <a:lnTo>
                      <a:pt x="685" y="1098"/>
                    </a:lnTo>
                    <a:lnTo>
                      <a:pt x="685" y="1133"/>
                    </a:lnTo>
                    <a:lnTo>
                      <a:pt x="696" y="1155"/>
                    </a:lnTo>
                    <a:lnTo>
                      <a:pt x="696" y="1189"/>
                    </a:lnTo>
                    <a:lnTo>
                      <a:pt x="707" y="1211"/>
                    </a:lnTo>
                    <a:lnTo>
                      <a:pt x="707" y="1245"/>
                    </a:lnTo>
                    <a:lnTo>
                      <a:pt x="707" y="1278"/>
                    </a:lnTo>
                    <a:lnTo>
                      <a:pt x="718" y="1300"/>
                    </a:lnTo>
                    <a:lnTo>
                      <a:pt x="718" y="1334"/>
                    </a:lnTo>
                    <a:lnTo>
                      <a:pt x="718" y="1368"/>
                    </a:lnTo>
                    <a:lnTo>
                      <a:pt x="718" y="1389"/>
                    </a:lnTo>
                    <a:lnTo>
                      <a:pt x="730" y="1445"/>
                    </a:lnTo>
                    <a:lnTo>
                      <a:pt x="740" y="1502"/>
                    </a:lnTo>
                    <a:lnTo>
                      <a:pt x="740" y="1559"/>
                    </a:lnTo>
                    <a:lnTo>
                      <a:pt x="752" y="1615"/>
                    </a:lnTo>
                    <a:lnTo>
                      <a:pt x="752" y="1671"/>
                    </a:lnTo>
                    <a:lnTo>
                      <a:pt x="763" y="1727"/>
                    </a:lnTo>
                    <a:lnTo>
                      <a:pt x="763" y="1783"/>
                    </a:lnTo>
                    <a:lnTo>
                      <a:pt x="774" y="1839"/>
                    </a:lnTo>
                    <a:lnTo>
                      <a:pt x="774" y="1894"/>
                    </a:lnTo>
                    <a:lnTo>
                      <a:pt x="786" y="1950"/>
                    </a:lnTo>
                    <a:lnTo>
                      <a:pt x="786" y="2007"/>
                    </a:lnTo>
                    <a:lnTo>
                      <a:pt x="796" y="2063"/>
                    </a:lnTo>
                    <a:lnTo>
                      <a:pt x="808" y="2119"/>
                    </a:lnTo>
                    <a:lnTo>
                      <a:pt x="808" y="2175"/>
                    </a:lnTo>
                    <a:lnTo>
                      <a:pt x="819" y="2231"/>
                    </a:lnTo>
                    <a:lnTo>
                      <a:pt x="831" y="2286"/>
                    </a:lnTo>
                    <a:lnTo>
                      <a:pt x="831" y="2298"/>
                    </a:lnTo>
                    <a:lnTo>
                      <a:pt x="831" y="2309"/>
                    </a:lnTo>
                    <a:lnTo>
                      <a:pt x="831" y="2321"/>
                    </a:lnTo>
                    <a:lnTo>
                      <a:pt x="831" y="2332"/>
                    </a:lnTo>
                    <a:lnTo>
                      <a:pt x="831" y="2342"/>
                    </a:lnTo>
                    <a:lnTo>
                      <a:pt x="831" y="2354"/>
                    </a:lnTo>
                    <a:lnTo>
                      <a:pt x="831" y="2365"/>
                    </a:lnTo>
                    <a:lnTo>
                      <a:pt x="819" y="2377"/>
                    </a:lnTo>
                    <a:lnTo>
                      <a:pt x="808" y="2377"/>
                    </a:lnTo>
                    <a:lnTo>
                      <a:pt x="796" y="2377"/>
                    </a:lnTo>
                    <a:lnTo>
                      <a:pt x="786" y="2377"/>
                    </a:lnTo>
                    <a:lnTo>
                      <a:pt x="774" y="2377"/>
                    </a:lnTo>
                    <a:lnTo>
                      <a:pt x="763" y="2377"/>
                    </a:lnTo>
                    <a:lnTo>
                      <a:pt x="752" y="2377"/>
                    </a:lnTo>
                    <a:lnTo>
                      <a:pt x="740" y="2377"/>
                    </a:lnTo>
                    <a:lnTo>
                      <a:pt x="730" y="2365"/>
                    </a:lnTo>
                    <a:lnTo>
                      <a:pt x="718" y="2365"/>
                    </a:lnTo>
                    <a:lnTo>
                      <a:pt x="707" y="2365"/>
                    </a:lnTo>
                    <a:lnTo>
                      <a:pt x="696" y="2365"/>
                    </a:lnTo>
                    <a:lnTo>
                      <a:pt x="685" y="2354"/>
                    </a:lnTo>
                    <a:lnTo>
                      <a:pt x="674" y="2354"/>
                    </a:lnTo>
                    <a:lnTo>
                      <a:pt x="662" y="2354"/>
                    </a:lnTo>
                    <a:lnTo>
                      <a:pt x="651" y="2354"/>
                    </a:lnTo>
                    <a:lnTo>
                      <a:pt x="606" y="2342"/>
                    </a:lnTo>
                    <a:lnTo>
                      <a:pt x="562" y="2342"/>
                    </a:lnTo>
                    <a:lnTo>
                      <a:pt x="528" y="2332"/>
                    </a:lnTo>
                    <a:lnTo>
                      <a:pt x="494" y="2321"/>
                    </a:lnTo>
                    <a:lnTo>
                      <a:pt x="449" y="2298"/>
                    </a:lnTo>
                    <a:lnTo>
                      <a:pt x="415" y="2286"/>
                    </a:lnTo>
                    <a:lnTo>
                      <a:pt x="382" y="2276"/>
                    </a:lnTo>
                    <a:lnTo>
                      <a:pt x="348" y="2253"/>
                    </a:lnTo>
                    <a:lnTo>
                      <a:pt x="315" y="2231"/>
                    </a:lnTo>
                    <a:lnTo>
                      <a:pt x="281" y="2208"/>
                    </a:lnTo>
                    <a:lnTo>
                      <a:pt x="247" y="2187"/>
                    </a:lnTo>
                    <a:lnTo>
                      <a:pt x="214" y="2164"/>
                    </a:lnTo>
                    <a:lnTo>
                      <a:pt x="181" y="2141"/>
                    </a:lnTo>
                    <a:lnTo>
                      <a:pt x="146" y="2119"/>
                    </a:lnTo>
                    <a:lnTo>
                      <a:pt x="113" y="2096"/>
                    </a:lnTo>
                    <a:lnTo>
                      <a:pt x="91" y="2075"/>
                    </a:lnTo>
                    <a:lnTo>
                      <a:pt x="34" y="2018"/>
                    </a:lnTo>
                    <a:lnTo>
                      <a:pt x="23" y="1962"/>
                    </a:lnTo>
                    <a:lnTo>
                      <a:pt x="23" y="1905"/>
                    </a:lnTo>
                    <a:lnTo>
                      <a:pt x="23" y="1849"/>
                    </a:lnTo>
                    <a:lnTo>
                      <a:pt x="23" y="1793"/>
                    </a:lnTo>
                    <a:lnTo>
                      <a:pt x="11" y="1738"/>
                    </a:lnTo>
                    <a:lnTo>
                      <a:pt x="11" y="1694"/>
                    </a:lnTo>
                    <a:lnTo>
                      <a:pt x="11" y="1637"/>
                    </a:lnTo>
                    <a:lnTo>
                      <a:pt x="11" y="1581"/>
                    </a:lnTo>
                    <a:lnTo>
                      <a:pt x="11" y="1524"/>
                    </a:lnTo>
                    <a:lnTo>
                      <a:pt x="0" y="1468"/>
                    </a:lnTo>
                    <a:lnTo>
                      <a:pt x="0" y="1424"/>
                    </a:lnTo>
                    <a:lnTo>
                      <a:pt x="0" y="1368"/>
                    </a:lnTo>
                    <a:lnTo>
                      <a:pt x="0" y="1312"/>
                    </a:lnTo>
                    <a:lnTo>
                      <a:pt x="0" y="1255"/>
                    </a:lnTo>
                    <a:lnTo>
                      <a:pt x="0" y="1211"/>
                    </a:lnTo>
                    <a:lnTo>
                      <a:pt x="11" y="1155"/>
                    </a:lnTo>
                    <a:lnTo>
                      <a:pt x="23" y="1087"/>
                    </a:lnTo>
                    <a:lnTo>
                      <a:pt x="45" y="1043"/>
                    </a:lnTo>
                    <a:lnTo>
                      <a:pt x="57" y="1008"/>
                    </a:lnTo>
                    <a:lnTo>
                      <a:pt x="80" y="975"/>
                    </a:lnTo>
                    <a:lnTo>
                      <a:pt x="91" y="942"/>
                    </a:lnTo>
                    <a:lnTo>
                      <a:pt x="102" y="908"/>
                    </a:lnTo>
                    <a:lnTo>
                      <a:pt x="125" y="863"/>
                    </a:lnTo>
                    <a:lnTo>
                      <a:pt x="136" y="830"/>
                    </a:lnTo>
                    <a:lnTo>
                      <a:pt x="146" y="797"/>
                    </a:lnTo>
                    <a:lnTo>
                      <a:pt x="158" y="762"/>
                    </a:lnTo>
                    <a:lnTo>
                      <a:pt x="181" y="718"/>
                    </a:lnTo>
                    <a:lnTo>
                      <a:pt x="192" y="684"/>
                    </a:lnTo>
                    <a:lnTo>
                      <a:pt x="202" y="649"/>
                    </a:lnTo>
                    <a:lnTo>
                      <a:pt x="214" y="605"/>
                    </a:lnTo>
                    <a:lnTo>
                      <a:pt x="225" y="571"/>
                    </a:lnTo>
                    <a:lnTo>
                      <a:pt x="237" y="527"/>
                    </a:lnTo>
                    <a:lnTo>
                      <a:pt x="237" y="494"/>
                    </a:lnTo>
                    <a:lnTo>
                      <a:pt x="293" y="459"/>
                    </a:lnTo>
                    <a:lnTo>
                      <a:pt x="336" y="437"/>
                    </a:lnTo>
                    <a:lnTo>
                      <a:pt x="382" y="403"/>
                    </a:lnTo>
                    <a:lnTo>
                      <a:pt x="437" y="370"/>
                    </a:lnTo>
                    <a:lnTo>
                      <a:pt x="483" y="348"/>
                    </a:lnTo>
                    <a:lnTo>
                      <a:pt x="540" y="314"/>
                    </a:lnTo>
                    <a:lnTo>
                      <a:pt x="584" y="280"/>
                    </a:lnTo>
                    <a:lnTo>
                      <a:pt x="641" y="257"/>
                    </a:lnTo>
                    <a:lnTo>
                      <a:pt x="685" y="224"/>
                    </a:lnTo>
                    <a:lnTo>
                      <a:pt x="730" y="201"/>
                    </a:lnTo>
                    <a:lnTo>
                      <a:pt x="786" y="168"/>
                    </a:lnTo>
                    <a:lnTo>
                      <a:pt x="831" y="134"/>
                    </a:lnTo>
                    <a:lnTo>
                      <a:pt x="886" y="100"/>
                    </a:lnTo>
                    <a:lnTo>
                      <a:pt x="932" y="67"/>
                    </a:lnTo>
                    <a:lnTo>
                      <a:pt x="977" y="34"/>
                    </a:lnTo>
                    <a:lnTo>
                      <a:pt x="1033" y="0"/>
                    </a:lnTo>
                    <a:lnTo>
                      <a:pt x="1043" y="11"/>
                    </a:lnTo>
                    <a:lnTo>
                      <a:pt x="1043" y="22"/>
                    </a:lnTo>
                    <a:lnTo>
                      <a:pt x="1055" y="22"/>
                    </a:lnTo>
                    <a:lnTo>
                      <a:pt x="1043" y="34"/>
                    </a:lnTo>
                    <a:lnTo>
                      <a:pt x="1043" y="45"/>
                    </a:lnTo>
                    <a:lnTo>
                      <a:pt x="1043" y="55"/>
                    </a:lnTo>
                    <a:lnTo>
                      <a:pt x="1043" y="67"/>
                    </a:lnTo>
                    <a:lnTo>
                      <a:pt x="1043" y="7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090560" y="4302000"/>
                <a:ext cx="48600" cy="135000"/>
              </a:xfrm>
              <a:custGeom>
                <a:avLst/>
                <a:gdLst/>
                <a:ahLst/>
                <a:rect l="l" t="t" r="r" b="b"/>
                <a:pathLst>
                  <a:path w="122" h="348">
                    <a:moveTo>
                      <a:pt x="122" y="0"/>
                    </a:moveTo>
                    <a:lnTo>
                      <a:pt x="112" y="22"/>
                    </a:lnTo>
                    <a:lnTo>
                      <a:pt x="112" y="45"/>
                    </a:lnTo>
                    <a:lnTo>
                      <a:pt x="101" y="68"/>
                    </a:lnTo>
                    <a:lnTo>
                      <a:pt x="101" y="90"/>
                    </a:lnTo>
                    <a:lnTo>
                      <a:pt x="89" y="112"/>
                    </a:lnTo>
                    <a:lnTo>
                      <a:pt x="78" y="134"/>
                    </a:lnTo>
                    <a:lnTo>
                      <a:pt x="78" y="157"/>
                    </a:lnTo>
                    <a:lnTo>
                      <a:pt x="66" y="179"/>
                    </a:lnTo>
                    <a:lnTo>
                      <a:pt x="66" y="202"/>
                    </a:lnTo>
                    <a:lnTo>
                      <a:pt x="56" y="226"/>
                    </a:lnTo>
                    <a:lnTo>
                      <a:pt x="44" y="236"/>
                    </a:lnTo>
                    <a:lnTo>
                      <a:pt x="44" y="259"/>
                    </a:lnTo>
                    <a:lnTo>
                      <a:pt x="33" y="281"/>
                    </a:lnTo>
                    <a:lnTo>
                      <a:pt x="23" y="303"/>
                    </a:lnTo>
                    <a:lnTo>
                      <a:pt x="11" y="325"/>
                    </a:lnTo>
                    <a:lnTo>
                      <a:pt x="0" y="3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6994800" y="4437000"/>
                <a:ext cx="95760" cy="191520"/>
              </a:xfrm>
              <a:custGeom>
                <a:avLst/>
                <a:gdLst/>
                <a:ahLst/>
                <a:rect l="l" t="t" r="r" b="b"/>
                <a:pathLst>
                  <a:path w="247" h="493">
                    <a:moveTo>
                      <a:pt x="247" y="0"/>
                    </a:moveTo>
                    <a:lnTo>
                      <a:pt x="223" y="33"/>
                    </a:lnTo>
                    <a:lnTo>
                      <a:pt x="212" y="56"/>
                    </a:lnTo>
                    <a:lnTo>
                      <a:pt x="201" y="89"/>
                    </a:lnTo>
                    <a:lnTo>
                      <a:pt x="178" y="124"/>
                    </a:lnTo>
                    <a:lnTo>
                      <a:pt x="167" y="157"/>
                    </a:lnTo>
                    <a:lnTo>
                      <a:pt x="145" y="179"/>
                    </a:lnTo>
                    <a:lnTo>
                      <a:pt x="134" y="213"/>
                    </a:lnTo>
                    <a:lnTo>
                      <a:pt x="122" y="246"/>
                    </a:lnTo>
                    <a:lnTo>
                      <a:pt x="100" y="280"/>
                    </a:lnTo>
                    <a:lnTo>
                      <a:pt x="89" y="303"/>
                    </a:lnTo>
                    <a:lnTo>
                      <a:pt x="66" y="336"/>
                    </a:lnTo>
                    <a:lnTo>
                      <a:pt x="56" y="371"/>
                    </a:lnTo>
                    <a:lnTo>
                      <a:pt x="44" y="404"/>
                    </a:lnTo>
                    <a:lnTo>
                      <a:pt x="22" y="437"/>
                    </a:lnTo>
                    <a:lnTo>
                      <a:pt x="11" y="460"/>
                    </a:lnTo>
                    <a:lnTo>
                      <a:pt x="0" y="49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6994800" y="4628520"/>
                <a:ext cx="16200" cy="183960"/>
              </a:xfrm>
              <a:custGeom>
                <a:avLst/>
                <a:gdLst/>
                <a:ahLst/>
                <a:rect l="l" t="t" r="r" b="b"/>
                <a:pathLst>
                  <a:path w="44" h="470">
                    <a:moveTo>
                      <a:pt x="0" y="0"/>
                    </a:moveTo>
                    <a:lnTo>
                      <a:pt x="0" y="33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24"/>
                    </a:lnTo>
                    <a:lnTo>
                      <a:pt x="11" y="145"/>
                    </a:lnTo>
                    <a:lnTo>
                      <a:pt x="11" y="179"/>
                    </a:lnTo>
                    <a:lnTo>
                      <a:pt x="11" y="214"/>
                    </a:lnTo>
                    <a:lnTo>
                      <a:pt x="22" y="236"/>
                    </a:lnTo>
                    <a:lnTo>
                      <a:pt x="22" y="270"/>
                    </a:lnTo>
                    <a:lnTo>
                      <a:pt x="33" y="292"/>
                    </a:lnTo>
                    <a:lnTo>
                      <a:pt x="33" y="326"/>
                    </a:lnTo>
                    <a:lnTo>
                      <a:pt x="33" y="359"/>
                    </a:lnTo>
                    <a:lnTo>
                      <a:pt x="44" y="381"/>
                    </a:lnTo>
                    <a:lnTo>
                      <a:pt x="44" y="415"/>
                    </a:lnTo>
                    <a:lnTo>
                      <a:pt x="44" y="449"/>
                    </a:lnTo>
                    <a:lnTo>
                      <a:pt x="44" y="4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7011360" y="4812840"/>
                <a:ext cx="43560" cy="347760"/>
              </a:xfrm>
              <a:custGeom>
                <a:avLst/>
                <a:gdLst/>
                <a:ahLst/>
                <a:rect l="l" t="t" r="r" b="b"/>
                <a:pathLst>
                  <a:path w="113" h="897">
                    <a:moveTo>
                      <a:pt x="0" y="0"/>
                    </a:moveTo>
                    <a:lnTo>
                      <a:pt x="12" y="56"/>
                    </a:lnTo>
                    <a:lnTo>
                      <a:pt x="22" y="113"/>
                    </a:lnTo>
                    <a:lnTo>
                      <a:pt x="22" y="170"/>
                    </a:lnTo>
                    <a:lnTo>
                      <a:pt x="34" y="226"/>
                    </a:lnTo>
                    <a:lnTo>
                      <a:pt x="34" y="282"/>
                    </a:lnTo>
                    <a:lnTo>
                      <a:pt x="45" y="338"/>
                    </a:lnTo>
                    <a:lnTo>
                      <a:pt x="45" y="394"/>
                    </a:lnTo>
                    <a:lnTo>
                      <a:pt x="56" y="450"/>
                    </a:lnTo>
                    <a:lnTo>
                      <a:pt x="56" y="505"/>
                    </a:lnTo>
                    <a:lnTo>
                      <a:pt x="68" y="561"/>
                    </a:lnTo>
                    <a:lnTo>
                      <a:pt x="68" y="618"/>
                    </a:lnTo>
                    <a:lnTo>
                      <a:pt x="78" y="674"/>
                    </a:lnTo>
                    <a:lnTo>
                      <a:pt x="90" y="730"/>
                    </a:lnTo>
                    <a:lnTo>
                      <a:pt x="90" y="786"/>
                    </a:lnTo>
                    <a:lnTo>
                      <a:pt x="101" y="842"/>
                    </a:lnTo>
                    <a:lnTo>
                      <a:pt x="113" y="8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6768360" y="5079240"/>
                <a:ext cx="216720" cy="109440"/>
              </a:xfrm>
              <a:custGeom>
                <a:avLst/>
                <a:gdLst/>
                <a:ahLst/>
                <a:rect l="l" t="t" r="r" b="b"/>
                <a:pathLst>
                  <a:path w="560" h="279">
                    <a:moveTo>
                      <a:pt x="560" y="279"/>
                    </a:moveTo>
                    <a:lnTo>
                      <a:pt x="515" y="267"/>
                    </a:lnTo>
                    <a:lnTo>
                      <a:pt x="471" y="267"/>
                    </a:lnTo>
                    <a:lnTo>
                      <a:pt x="437" y="257"/>
                    </a:lnTo>
                    <a:lnTo>
                      <a:pt x="403" y="246"/>
                    </a:lnTo>
                    <a:lnTo>
                      <a:pt x="358" y="223"/>
                    </a:lnTo>
                    <a:lnTo>
                      <a:pt x="324" y="211"/>
                    </a:lnTo>
                    <a:lnTo>
                      <a:pt x="291" y="201"/>
                    </a:lnTo>
                    <a:lnTo>
                      <a:pt x="257" y="178"/>
                    </a:lnTo>
                    <a:lnTo>
                      <a:pt x="224" y="156"/>
                    </a:lnTo>
                    <a:lnTo>
                      <a:pt x="190" y="133"/>
                    </a:lnTo>
                    <a:lnTo>
                      <a:pt x="156" y="112"/>
                    </a:lnTo>
                    <a:lnTo>
                      <a:pt x="123" y="89"/>
                    </a:lnTo>
                    <a:lnTo>
                      <a:pt x="90" y="66"/>
                    </a:lnTo>
                    <a:lnTo>
                      <a:pt x="55" y="44"/>
                    </a:lnTo>
                    <a:lnTo>
                      <a:pt x="22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6733440" y="4721760"/>
                <a:ext cx="11520" cy="333720"/>
              </a:xfrm>
              <a:custGeom>
                <a:avLst/>
                <a:gdLst/>
                <a:ahLst/>
                <a:rect l="l" t="t" r="r" b="b"/>
                <a:pathLst>
                  <a:path w="34" h="863">
                    <a:moveTo>
                      <a:pt x="34" y="863"/>
                    </a:moveTo>
                    <a:lnTo>
                      <a:pt x="23" y="807"/>
                    </a:lnTo>
                    <a:lnTo>
                      <a:pt x="23" y="750"/>
                    </a:lnTo>
                    <a:lnTo>
                      <a:pt x="23" y="694"/>
                    </a:lnTo>
                    <a:lnTo>
                      <a:pt x="23" y="638"/>
                    </a:lnTo>
                    <a:lnTo>
                      <a:pt x="11" y="583"/>
                    </a:lnTo>
                    <a:lnTo>
                      <a:pt x="11" y="539"/>
                    </a:lnTo>
                    <a:lnTo>
                      <a:pt x="11" y="482"/>
                    </a:lnTo>
                    <a:lnTo>
                      <a:pt x="11" y="426"/>
                    </a:lnTo>
                    <a:lnTo>
                      <a:pt x="11" y="369"/>
                    </a:lnTo>
                    <a:lnTo>
                      <a:pt x="0" y="313"/>
                    </a:lnTo>
                    <a:lnTo>
                      <a:pt x="0" y="269"/>
                    </a:lnTo>
                    <a:lnTo>
                      <a:pt x="0" y="213"/>
                    </a:lnTo>
                    <a:lnTo>
                      <a:pt x="0" y="157"/>
                    </a:lnTo>
                    <a:lnTo>
                      <a:pt x="0" y="100"/>
                    </a:lnTo>
                    <a:lnTo>
                      <a:pt x="0" y="56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6740280" y="4462920"/>
                <a:ext cx="83880" cy="230760"/>
              </a:xfrm>
              <a:custGeom>
                <a:avLst/>
                <a:gdLst/>
                <a:ahLst/>
                <a:rect l="l" t="t" r="r" b="b"/>
                <a:pathLst>
                  <a:path w="214" h="593">
                    <a:moveTo>
                      <a:pt x="0" y="593"/>
                    </a:moveTo>
                    <a:lnTo>
                      <a:pt x="22" y="549"/>
                    </a:lnTo>
                    <a:lnTo>
                      <a:pt x="34" y="514"/>
                    </a:lnTo>
                    <a:lnTo>
                      <a:pt x="57" y="481"/>
                    </a:lnTo>
                    <a:lnTo>
                      <a:pt x="68" y="448"/>
                    </a:lnTo>
                    <a:lnTo>
                      <a:pt x="79" y="414"/>
                    </a:lnTo>
                    <a:lnTo>
                      <a:pt x="102" y="369"/>
                    </a:lnTo>
                    <a:lnTo>
                      <a:pt x="113" y="336"/>
                    </a:lnTo>
                    <a:lnTo>
                      <a:pt x="123" y="303"/>
                    </a:lnTo>
                    <a:lnTo>
                      <a:pt x="135" y="268"/>
                    </a:lnTo>
                    <a:lnTo>
                      <a:pt x="158" y="224"/>
                    </a:lnTo>
                    <a:lnTo>
                      <a:pt x="169" y="190"/>
                    </a:lnTo>
                    <a:lnTo>
                      <a:pt x="179" y="155"/>
                    </a:lnTo>
                    <a:lnTo>
                      <a:pt x="191" y="111"/>
                    </a:lnTo>
                    <a:lnTo>
                      <a:pt x="202" y="77"/>
                    </a:lnTo>
                    <a:lnTo>
                      <a:pt x="214" y="33"/>
                    </a:lnTo>
                    <a:lnTo>
                      <a:pt x="2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824520" y="4271040"/>
                <a:ext cx="309960" cy="191520"/>
              </a:xfrm>
              <a:custGeom>
                <a:avLst/>
                <a:gdLst/>
                <a:ahLst/>
                <a:rect l="l" t="t" r="r" b="b"/>
                <a:pathLst>
                  <a:path w="796" h="494">
                    <a:moveTo>
                      <a:pt x="0" y="494"/>
                    </a:moveTo>
                    <a:lnTo>
                      <a:pt x="56" y="459"/>
                    </a:lnTo>
                    <a:lnTo>
                      <a:pt x="99" y="437"/>
                    </a:lnTo>
                    <a:lnTo>
                      <a:pt x="145" y="403"/>
                    </a:lnTo>
                    <a:lnTo>
                      <a:pt x="200" y="370"/>
                    </a:lnTo>
                    <a:lnTo>
                      <a:pt x="246" y="348"/>
                    </a:lnTo>
                    <a:lnTo>
                      <a:pt x="303" y="314"/>
                    </a:lnTo>
                    <a:lnTo>
                      <a:pt x="347" y="280"/>
                    </a:lnTo>
                    <a:lnTo>
                      <a:pt x="404" y="257"/>
                    </a:lnTo>
                    <a:lnTo>
                      <a:pt x="448" y="224"/>
                    </a:lnTo>
                    <a:lnTo>
                      <a:pt x="493" y="201"/>
                    </a:lnTo>
                    <a:lnTo>
                      <a:pt x="549" y="168"/>
                    </a:lnTo>
                    <a:lnTo>
                      <a:pt x="594" y="134"/>
                    </a:lnTo>
                    <a:lnTo>
                      <a:pt x="649" y="100"/>
                    </a:lnTo>
                    <a:lnTo>
                      <a:pt x="695" y="67"/>
                    </a:lnTo>
                    <a:lnTo>
                      <a:pt x="740" y="34"/>
                    </a:lnTo>
                    <a:lnTo>
                      <a:pt x="7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750000" y="4305960"/>
                <a:ext cx="366120" cy="873360"/>
              </a:xfrm>
              <a:custGeom>
                <a:avLst/>
                <a:gdLst/>
                <a:ahLst/>
                <a:rect l="l" t="t" r="r" b="b"/>
                <a:pathLst>
                  <a:path w="942" h="2242">
                    <a:moveTo>
                      <a:pt x="942" y="0"/>
                    </a:moveTo>
                    <a:lnTo>
                      <a:pt x="909" y="56"/>
                    </a:lnTo>
                    <a:lnTo>
                      <a:pt x="887" y="111"/>
                    </a:lnTo>
                    <a:lnTo>
                      <a:pt x="864" y="167"/>
                    </a:lnTo>
                    <a:lnTo>
                      <a:pt x="830" y="214"/>
                    </a:lnTo>
                    <a:lnTo>
                      <a:pt x="807" y="269"/>
                    </a:lnTo>
                    <a:lnTo>
                      <a:pt x="786" y="325"/>
                    </a:lnTo>
                    <a:lnTo>
                      <a:pt x="763" y="369"/>
                    </a:lnTo>
                    <a:lnTo>
                      <a:pt x="729" y="425"/>
                    </a:lnTo>
                    <a:lnTo>
                      <a:pt x="707" y="481"/>
                    </a:lnTo>
                    <a:lnTo>
                      <a:pt x="685" y="537"/>
                    </a:lnTo>
                    <a:lnTo>
                      <a:pt x="662" y="582"/>
                    </a:lnTo>
                    <a:lnTo>
                      <a:pt x="640" y="639"/>
                    </a:lnTo>
                    <a:lnTo>
                      <a:pt x="617" y="695"/>
                    </a:lnTo>
                    <a:lnTo>
                      <a:pt x="596" y="751"/>
                    </a:lnTo>
                    <a:lnTo>
                      <a:pt x="573" y="806"/>
                    </a:lnTo>
                    <a:lnTo>
                      <a:pt x="561" y="862"/>
                    </a:lnTo>
                    <a:lnTo>
                      <a:pt x="573" y="953"/>
                    </a:lnTo>
                    <a:lnTo>
                      <a:pt x="584" y="1031"/>
                    </a:lnTo>
                    <a:lnTo>
                      <a:pt x="596" y="1121"/>
                    </a:lnTo>
                    <a:lnTo>
                      <a:pt x="606" y="1210"/>
                    </a:lnTo>
                    <a:lnTo>
                      <a:pt x="617" y="1289"/>
                    </a:lnTo>
                    <a:lnTo>
                      <a:pt x="629" y="1378"/>
                    </a:lnTo>
                    <a:lnTo>
                      <a:pt x="640" y="1457"/>
                    </a:lnTo>
                    <a:lnTo>
                      <a:pt x="651" y="1547"/>
                    </a:lnTo>
                    <a:lnTo>
                      <a:pt x="673" y="1637"/>
                    </a:lnTo>
                    <a:lnTo>
                      <a:pt x="685" y="1715"/>
                    </a:lnTo>
                    <a:lnTo>
                      <a:pt x="695" y="1804"/>
                    </a:lnTo>
                    <a:lnTo>
                      <a:pt x="707" y="1884"/>
                    </a:lnTo>
                    <a:lnTo>
                      <a:pt x="718" y="1973"/>
                    </a:lnTo>
                    <a:lnTo>
                      <a:pt x="729" y="2062"/>
                    </a:lnTo>
                    <a:lnTo>
                      <a:pt x="741" y="2141"/>
                    </a:lnTo>
                    <a:lnTo>
                      <a:pt x="751" y="2231"/>
                    </a:lnTo>
                    <a:lnTo>
                      <a:pt x="741" y="2231"/>
                    </a:lnTo>
                    <a:lnTo>
                      <a:pt x="741" y="2242"/>
                    </a:lnTo>
                    <a:lnTo>
                      <a:pt x="729" y="2242"/>
                    </a:lnTo>
                    <a:lnTo>
                      <a:pt x="729" y="2231"/>
                    </a:lnTo>
                    <a:lnTo>
                      <a:pt x="718" y="2231"/>
                    </a:lnTo>
                    <a:lnTo>
                      <a:pt x="707" y="2231"/>
                    </a:lnTo>
                    <a:lnTo>
                      <a:pt x="662" y="2219"/>
                    </a:lnTo>
                    <a:lnTo>
                      <a:pt x="617" y="2219"/>
                    </a:lnTo>
                    <a:lnTo>
                      <a:pt x="584" y="2208"/>
                    </a:lnTo>
                    <a:lnTo>
                      <a:pt x="539" y="2196"/>
                    </a:lnTo>
                    <a:lnTo>
                      <a:pt x="495" y="2175"/>
                    </a:lnTo>
                    <a:lnTo>
                      <a:pt x="449" y="2163"/>
                    </a:lnTo>
                    <a:lnTo>
                      <a:pt x="415" y="2141"/>
                    </a:lnTo>
                    <a:lnTo>
                      <a:pt x="370" y="2130"/>
                    </a:lnTo>
                    <a:lnTo>
                      <a:pt x="337" y="2107"/>
                    </a:lnTo>
                    <a:lnTo>
                      <a:pt x="291" y="2085"/>
                    </a:lnTo>
                    <a:lnTo>
                      <a:pt x="258" y="2062"/>
                    </a:lnTo>
                    <a:lnTo>
                      <a:pt x="214" y="2041"/>
                    </a:lnTo>
                    <a:lnTo>
                      <a:pt x="180" y="2018"/>
                    </a:lnTo>
                    <a:lnTo>
                      <a:pt x="147" y="1985"/>
                    </a:lnTo>
                    <a:lnTo>
                      <a:pt x="101" y="1962"/>
                    </a:lnTo>
                    <a:lnTo>
                      <a:pt x="68" y="1928"/>
                    </a:lnTo>
                    <a:lnTo>
                      <a:pt x="57" y="1928"/>
                    </a:lnTo>
                    <a:lnTo>
                      <a:pt x="46" y="1917"/>
                    </a:lnTo>
                    <a:lnTo>
                      <a:pt x="46" y="1907"/>
                    </a:lnTo>
                    <a:lnTo>
                      <a:pt x="35" y="1895"/>
                    </a:lnTo>
                    <a:lnTo>
                      <a:pt x="35" y="1884"/>
                    </a:lnTo>
                    <a:lnTo>
                      <a:pt x="23" y="1872"/>
                    </a:lnTo>
                    <a:lnTo>
                      <a:pt x="23" y="1860"/>
                    </a:lnTo>
                    <a:lnTo>
                      <a:pt x="23" y="1850"/>
                    </a:lnTo>
                    <a:lnTo>
                      <a:pt x="23" y="1838"/>
                    </a:lnTo>
                    <a:lnTo>
                      <a:pt x="23" y="1827"/>
                    </a:lnTo>
                    <a:lnTo>
                      <a:pt x="23" y="1815"/>
                    </a:lnTo>
                    <a:lnTo>
                      <a:pt x="23" y="1794"/>
                    </a:lnTo>
                    <a:lnTo>
                      <a:pt x="23" y="1782"/>
                    </a:lnTo>
                    <a:lnTo>
                      <a:pt x="23" y="1771"/>
                    </a:lnTo>
                    <a:lnTo>
                      <a:pt x="23" y="1759"/>
                    </a:lnTo>
                    <a:lnTo>
                      <a:pt x="23" y="1749"/>
                    </a:lnTo>
                    <a:lnTo>
                      <a:pt x="23" y="1737"/>
                    </a:lnTo>
                    <a:lnTo>
                      <a:pt x="23" y="1726"/>
                    </a:lnTo>
                    <a:lnTo>
                      <a:pt x="23" y="1715"/>
                    </a:lnTo>
                    <a:lnTo>
                      <a:pt x="23" y="1703"/>
                    </a:lnTo>
                    <a:lnTo>
                      <a:pt x="23" y="1693"/>
                    </a:lnTo>
                    <a:lnTo>
                      <a:pt x="23" y="1681"/>
                    </a:lnTo>
                    <a:lnTo>
                      <a:pt x="23" y="1637"/>
                    </a:lnTo>
                    <a:lnTo>
                      <a:pt x="12" y="1604"/>
                    </a:lnTo>
                    <a:lnTo>
                      <a:pt x="12" y="1558"/>
                    </a:lnTo>
                    <a:lnTo>
                      <a:pt x="12" y="1525"/>
                    </a:lnTo>
                    <a:lnTo>
                      <a:pt x="12" y="1480"/>
                    </a:lnTo>
                    <a:lnTo>
                      <a:pt x="0" y="1446"/>
                    </a:lnTo>
                    <a:lnTo>
                      <a:pt x="0" y="1400"/>
                    </a:lnTo>
                    <a:lnTo>
                      <a:pt x="0" y="1355"/>
                    </a:lnTo>
                    <a:lnTo>
                      <a:pt x="0" y="1322"/>
                    </a:lnTo>
                    <a:lnTo>
                      <a:pt x="12" y="1278"/>
                    </a:lnTo>
                    <a:lnTo>
                      <a:pt x="12" y="1244"/>
                    </a:lnTo>
                    <a:lnTo>
                      <a:pt x="12" y="1200"/>
                    </a:lnTo>
                    <a:lnTo>
                      <a:pt x="12" y="1165"/>
                    </a:lnTo>
                    <a:lnTo>
                      <a:pt x="12" y="1121"/>
                    </a:lnTo>
                    <a:lnTo>
                      <a:pt x="12" y="1088"/>
                    </a:lnTo>
                    <a:lnTo>
                      <a:pt x="12" y="1043"/>
                    </a:lnTo>
                    <a:lnTo>
                      <a:pt x="23" y="1031"/>
                    </a:lnTo>
                    <a:lnTo>
                      <a:pt x="35" y="1008"/>
                    </a:lnTo>
                    <a:lnTo>
                      <a:pt x="35" y="986"/>
                    </a:lnTo>
                    <a:lnTo>
                      <a:pt x="46" y="974"/>
                    </a:lnTo>
                    <a:lnTo>
                      <a:pt x="57" y="953"/>
                    </a:lnTo>
                    <a:lnTo>
                      <a:pt x="57" y="930"/>
                    </a:lnTo>
                    <a:lnTo>
                      <a:pt x="68" y="918"/>
                    </a:lnTo>
                    <a:lnTo>
                      <a:pt x="80" y="897"/>
                    </a:lnTo>
                    <a:lnTo>
                      <a:pt x="80" y="885"/>
                    </a:lnTo>
                    <a:lnTo>
                      <a:pt x="91" y="862"/>
                    </a:lnTo>
                    <a:lnTo>
                      <a:pt x="91" y="841"/>
                    </a:lnTo>
                    <a:lnTo>
                      <a:pt x="101" y="829"/>
                    </a:lnTo>
                    <a:lnTo>
                      <a:pt x="113" y="806"/>
                    </a:lnTo>
                    <a:lnTo>
                      <a:pt x="113" y="785"/>
                    </a:lnTo>
                    <a:lnTo>
                      <a:pt x="124" y="773"/>
                    </a:lnTo>
                    <a:lnTo>
                      <a:pt x="136" y="751"/>
                    </a:lnTo>
                    <a:lnTo>
                      <a:pt x="147" y="728"/>
                    </a:lnTo>
                    <a:lnTo>
                      <a:pt x="147" y="707"/>
                    </a:lnTo>
                    <a:lnTo>
                      <a:pt x="157" y="684"/>
                    </a:lnTo>
                    <a:lnTo>
                      <a:pt x="169" y="662"/>
                    </a:lnTo>
                    <a:lnTo>
                      <a:pt x="169" y="651"/>
                    </a:lnTo>
                    <a:lnTo>
                      <a:pt x="180" y="628"/>
                    </a:lnTo>
                    <a:lnTo>
                      <a:pt x="180" y="604"/>
                    </a:lnTo>
                    <a:lnTo>
                      <a:pt x="192" y="582"/>
                    </a:lnTo>
                    <a:lnTo>
                      <a:pt x="192" y="559"/>
                    </a:lnTo>
                    <a:lnTo>
                      <a:pt x="202" y="537"/>
                    </a:lnTo>
                    <a:lnTo>
                      <a:pt x="214" y="515"/>
                    </a:lnTo>
                    <a:lnTo>
                      <a:pt x="225" y="493"/>
                    </a:lnTo>
                    <a:lnTo>
                      <a:pt x="236" y="470"/>
                    </a:lnTo>
                    <a:lnTo>
                      <a:pt x="248" y="448"/>
                    </a:lnTo>
                    <a:lnTo>
                      <a:pt x="258" y="437"/>
                    </a:lnTo>
                    <a:lnTo>
                      <a:pt x="281" y="414"/>
                    </a:lnTo>
                    <a:lnTo>
                      <a:pt x="303" y="404"/>
                    </a:lnTo>
                    <a:lnTo>
                      <a:pt x="337" y="381"/>
                    </a:lnTo>
                    <a:lnTo>
                      <a:pt x="359" y="369"/>
                    </a:lnTo>
                    <a:lnTo>
                      <a:pt x="382" y="347"/>
                    </a:lnTo>
                    <a:lnTo>
                      <a:pt x="415" y="336"/>
                    </a:lnTo>
                    <a:lnTo>
                      <a:pt x="438" y="325"/>
                    </a:lnTo>
                    <a:lnTo>
                      <a:pt x="472" y="303"/>
                    </a:lnTo>
                    <a:lnTo>
                      <a:pt x="495" y="291"/>
                    </a:lnTo>
                    <a:lnTo>
                      <a:pt x="528" y="280"/>
                    </a:lnTo>
                    <a:lnTo>
                      <a:pt x="550" y="258"/>
                    </a:lnTo>
                    <a:lnTo>
                      <a:pt x="573" y="247"/>
                    </a:lnTo>
                    <a:lnTo>
                      <a:pt x="606" y="235"/>
                    </a:lnTo>
                    <a:lnTo>
                      <a:pt x="629" y="214"/>
                    </a:lnTo>
                    <a:lnTo>
                      <a:pt x="662" y="202"/>
                    </a:lnTo>
                    <a:lnTo>
                      <a:pt x="685" y="179"/>
                    </a:lnTo>
                    <a:lnTo>
                      <a:pt x="718" y="167"/>
                    </a:lnTo>
                    <a:lnTo>
                      <a:pt x="718" y="155"/>
                    </a:lnTo>
                    <a:lnTo>
                      <a:pt x="729" y="145"/>
                    </a:lnTo>
                    <a:lnTo>
                      <a:pt x="741" y="134"/>
                    </a:lnTo>
                    <a:lnTo>
                      <a:pt x="751" y="134"/>
                    </a:lnTo>
                    <a:lnTo>
                      <a:pt x="763" y="122"/>
                    </a:lnTo>
                    <a:lnTo>
                      <a:pt x="774" y="111"/>
                    </a:lnTo>
                    <a:lnTo>
                      <a:pt x="786" y="100"/>
                    </a:lnTo>
                    <a:lnTo>
                      <a:pt x="796" y="100"/>
                    </a:lnTo>
                    <a:lnTo>
                      <a:pt x="807" y="89"/>
                    </a:lnTo>
                    <a:lnTo>
                      <a:pt x="819" y="89"/>
                    </a:lnTo>
                    <a:lnTo>
                      <a:pt x="830" y="78"/>
                    </a:lnTo>
                    <a:lnTo>
                      <a:pt x="841" y="78"/>
                    </a:lnTo>
                    <a:lnTo>
                      <a:pt x="852" y="66"/>
                    </a:lnTo>
                    <a:lnTo>
                      <a:pt x="864" y="56"/>
                    </a:lnTo>
                    <a:lnTo>
                      <a:pt x="876" y="44"/>
                    </a:lnTo>
                    <a:lnTo>
                      <a:pt x="887" y="33"/>
                    </a:lnTo>
                    <a:lnTo>
                      <a:pt x="899" y="33"/>
                    </a:lnTo>
                    <a:lnTo>
                      <a:pt x="899" y="22"/>
                    </a:lnTo>
                    <a:lnTo>
                      <a:pt x="909" y="22"/>
                    </a:lnTo>
                    <a:lnTo>
                      <a:pt x="920" y="22"/>
                    </a:lnTo>
                    <a:lnTo>
                      <a:pt x="920" y="10"/>
                    </a:lnTo>
                    <a:lnTo>
                      <a:pt x="932" y="10"/>
                    </a:lnTo>
                    <a:lnTo>
                      <a:pt x="942" y="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968880" y="4305960"/>
                <a:ext cx="146880" cy="335880"/>
              </a:xfrm>
              <a:custGeom>
                <a:avLst/>
                <a:gdLst/>
                <a:ahLst/>
                <a:rect l="l" t="t" r="r" b="b"/>
                <a:pathLst>
                  <a:path w="381" h="862">
                    <a:moveTo>
                      <a:pt x="381" y="0"/>
                    </a:moveTo>
                    <a:lnTo>
                      <a:pt x="348" y="56"/>
                    </a:lnTo>
                    <a:lnTo>
                      <a:pt x="326" y="111"/>
                    </a:lnTo>
                    <a:lnTo>
                      <a:pt x="303" y="167"/>
                    </a:lnTo>
                    <a:lnTo>
                      <a:pt x="269" y="214"/>
                    </a:lnTo>
                    <a:lnTo>
                      <a:pt x="246" y="269"/>
                    </a:lnTo>
                    <a:lnTo>
                      <a:pt x="225" y="325"/>
                    </a:lnTo>
                    <a:lnTo>
                      <a:pt x="202" y="369"/>
                    </a:lnTo>
                    <a:lnTo>
                      <a:pt x="168" y="425"/>
                    </a:lnTo>
                    <a:lnTo>
                      <a:pt x="146" y="481"/>
                    </a:lnTo>
                    <a:lnTo>
                      <a:pt x="124" y="537"/>
                    </a:lnTo>
                    <a:lnTo>
                      <a:pt x="101" y="582"/>
                    </a:lnTo>
                    <a:lnTo>
                      <a:pt x="79" y="639"/>
                    </a:lnTo>
                    <a:lnTo>
                      <a:pt x="56" y="695"/>
                    </a:lnTo>
                    <a:lnTo>
                      <a:pt x="35" y="751"/>
                    </a:lnTo>
                    <a:lnTo>
                      <a:pt x="12" y="806"/>
                    </a:lnTo>
                    <a:lnTo>
                      <a:pt x="0" y="8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968880" y="4642200"/>
                <a:ext cx="72360" cy="532440"/>
              </a:xfrm>
              <a:custGeom>
                <a:avLst/>
                <a:gdLst/>
                <a:ahLst/>
                <a:rect l="l" t="t" r="r" b="b"/>
                <a:pathLst>
                  <a:path w="190" h="1369">
                    <a:moveTo>
                      <a:pt x="0" y="0"/>
                    </a:moveTo>
                    <a:lnTo>
                      <a:pt x="12" y="91"/>
                    </a:lnTo>
                    <a:lnTo>
                      <a:pt x="23" y="169"/>
                    </a:lnTo>
                    <a:lnTo>
                      <a:pt x="35" y="259"/>
                    </a:lnTo>
                    <a:lnTo>
                      <a:pt x="45" y="348"/>
                    </a:lnTo>
                    <a:lnTo>
                      <a:pt x="56" y="427"/>
                    </a:lnTo>
                    <a:lnTo>
                      <a:pt x="68" y="516"/>
                    </a:lnTo>
                    <a:lnTo>
                      <a:pt x="79" y="595"/>
                    </a:lnTo>
                    <a:lnTo>
                      <a:pt x="90" y="685"/>
                    </a:lnTo>
                    <a:lnTo>
                      <a:pt x="112" y="775"/>
                    </a:lnTo>
                    <a:lnTo>
                      <a:pt x="124" y="853"/>
                    </a:lnTo>
                    <a:lnTo>
                      <a:pt x="134" y="942"/>
                    </a:lnTo>
                    <a:lnTo>
                      <a:pt x="146" y="1022"/>
                    </a:lnTo>
                    <a:lnTo>
                      <a:pt x="157" y="1111"/>
                    </a:lnTo>
                    <a:lnTo>
                      <a:pt x="168" y="1200"/>
                    </a:lnTo>
                    <a:lnTo>
                      <a:pt x="180" y="1279"/>
                    </a:lnTo>
                    <a:lnTo>
                      <a:pt x="190" y="136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6778080" y="5055840"/>
                <a:ext cx="246960" cy="118800"/>
              </a:xfrm>
              <a:custGeom>
                <a:avLst/>
                <a:gdLst/>
                <a:ahLst/>
                <a:rect l="l" t="t" r="r" b="b"/>
                <a:pathLst>
                  <a:path w="639" h="303">
                    <a:moveTo>
                      <a:pt x="639" y="303"/>
                    </a:moveTo>
                    <a:lnTo>
                      <a:pt x="594" y="291"/>
                    </a:lnTo>
                    <a:lnTo>
                      <a:pt x="549" y="291"/>
                    </a:lnTo>
                    <a:lnTo>
                      <a:pt x="516" y="280"/>
                    </a:lnTo>
                    <a:lnTo>
                      <a:pt x="471" y="268"/>
                    </a:lnTo>
                    <a:lnTo>
                      <a:pt x="427" y="247"/>
                    </a:lnTo>
                    <a:lnTo>
                      <a:pt x="381" y="235"/>
                    </a:lnTo>
                    <a:lnTo>
                      <a:pt x="347" y="213"/>
                    </a:lnTo>
                    <a:lnTo>
                      <a:pt x="302" y="202"/>
                    </a:lnTo>
                    <a:lnTo>
                      <a:pt x="269" y="179"/>
                    </a:lnTo>
                    <a:lnTo>
                      <a:pt x="223" y="157"/>
                    </a:lnTo>
                    <a:lnTo>
                      <a:pt x="190" y="134"/>
                    </a:lnTo>
                    <a:lnTo>
                      <a:pt x="146" y="113"/>
                    </a:lnTo>
                    <a:lnTo>
                      <a:pt x="112" y="90"/>
                    </a:lnTo>
                    <a:lnTo>
                      <a:pt x="79" y="57"/>
                    </a:lnTo>
                    <a:lnTo>
                      <a:pt x="33" y="3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6759000" y="4988160"/>
                <a:ext cx="18720" cy="676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45" y="179"/>
                    </a:moveTo>
                    <a:lnTo>
                      <a:pt x="34" y="179"/>
                    </a:lnTo>
                    <a:lnTo>
                      <a:pt x="23" y="168"/>
                    </a:lnTo>
                    <a:lnTo>
                      <a:pt x="23" y="158"/>
                    </a:lnTo>
                    <a:lnTo>
                      <a:pt x="12" y="146"/>
                    </a:lnTo>
                    <a:lnTo>
                      <a:pt x="12" y="135"/>
                    </a:lnTo>
                    <a:lnTo>
                      <a:pt x="0" y="123"/>
                    </a:lnTo>
                    <a:lnTo>
                      <a:pt x="0" y="111"/>
                    </a:lnTo>
                    <a:lnTo>
                      <a:pt x="0" y="101"/>
                    </a:lnTo>
                    <a:lnTo>
                      <a:pt x="0" y="89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45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750000" y="4712760"/>
                <a:ext cx="8640" cy="246960"/>
              </a:xfrm>
              <a:custGeom>
                <a:avLst/>
                <a:gdLst/>
                <a:ahLst/>
                <a:rect l="l" t="t" r="r" b="b"/>
                <a:pathLst>
                  <a:path w="23" h="638">
                    <a:moveTo>
                      <a:pt x="23" y="638"/>
                    </a:moveTo>
                    <a:lnTo>
                      <a:pt x="23" y="594"/>
                    </a:lnTo>
                    <a:lnTo>
                      <a:pt x="12" y="561"/>
                    </a:lnTo>
                    <a:lnTo>
                      <a:pt x="12" y="515"/>
                    </a:lnTo>
                    <a:lnTo>
                      <a:pt x="12" y="482"/>
                    </a:lnTo>
                    <a:lnTo>
                      <a:pt x="12" y="437"/>
                    </a:lnTo>
                    <a:lnTo>
                      <a:pt x="0" y="403"/>
                    </a:lnTo>
                    <a:lnTo>
                      <a:pt x="0" y="357"/>
                    </a:lnTo>
                    <a:lnTo>
                      <a:pt x="0" y="312"/>
                    </a:lnTo>
                    <a:lnTo>
                      <a:pt x="0" y="279"/>
                    </a:lnTo>
                    <a:lnTo>
                      <a:pt x="12" y="235"/>
                    </a:lnTo>
                    <a:lnTo>
                      <a:pt x="12" y="201"/>
                    </a:lnTo>
                    <a:lnTo>
                      <a:pt x="12" y="157"/>
                    </a:lnTo>
                    <a:lnTo>
                      <a:pt x="12" y="122"/>
                    </a:lnTo>
                    <a:lnTo>
                      <a:pt x="12" y="78"/>
                    </a:lnTo>
                    <a:lnTo>
                      <a:pt x="12" y="4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754680" y="4598280"/>
                <a:ext cx="48600" cy="114120"/>
              </a:xfrm>
              <a:custGeom>
                <a:avLst/>
                <a:gdLst/>
                <a:ahLst/>
                <a:rect l="l" t="t" r="r" b="b"/>
                <a:pathLst>
                  <a:path w="124" h="292">
                    <a:moveTo>
                      <a:pt x="0" y="292"/>
                    </a:moveTo>
                    <a:lnTo>
                      <a:pt x="11" y="280"/>
                    </a:lnTo>
                    <a:lnTo>
                      <a:pt x="23" y="257"/>
                    </a:lnTo>
                    <a:lnTo>
                      <a:pt x="23" y="235"/>
                    </a:lnTo>
                    <a:lnTo>
                      <a:pt x="34" y="223"/>
                    </a:lnTo>
                    <a:lnTo>
                      <a:pt x="45" y="202"/>
                    </a:lnTo>
                    <a:lnTo>
                      <a:pt x="45" y="179"/>
                    </a:lnTo>
                    <a:lnTo>
                      <a:pt x="56" y="167"/>
                    </a:lnTo>
                    <a:lnTo>
                      <a:pt x="68" y="146"/>
                    </a:lnTo>
                    <a:lnTo>
                      <a:pt x="68" y="134"/>
                    </a:lnTo>
                    <a:lnTo>
                      <a:pt x="79" y="111"/>
                    </a:lnTo>
                    <a:lnTo>
                      <a:pt x="79" y="90"/>
                    </a:lnTo>
                    <a:lnTo>
                      <a:pt x="89" y="78"/>
                    </a:lnTo>
                    <a:lnTo>
                      <a:pt x="101" y="55"/>
                    </a:lnTo>
                    <a:lnTo>
                      <a:pt x="101" y="34"/>
                    </a:lnTo>
                    <a:lnTo>
                      <a:pt x="112" y="22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803280" y="4467600"/>
                <a:ext cx="55800" cy="130680"/>
              </a:xfrm>
              <a:custGeom>
                <a:avLst/>
                <a:gdLst/>
                <a:ahLst/>
                <a:rect l="l" t="t" r="r" b="b"/>
                <a:pathLst>
                  <a:path w="145" h="337">
                    <a:moveTo>
                      <a:pt x="0" y="337"/>
                    </a:moveTo>
                    <a:lnTo>
                      <a:pt x="11" y="314"/>
                    </a:lnTo>
                    <a:lnTo>
                      <a:pt x="11" y="293"/>
                    </a:lnTo>
                    <a:lnTo>
                      <a:pt x="21" y="270"/>
                    </a:lnTo>
                    <a:lnTo>
                      <a:pt x="33" y="248"/>
                    </a:lnTo>
                    <a:lnTo>
                      <a:pt x="33" y="237"/>
                    </a:lnTo>
                    <a:lnTo>
                      <a:pt x="44" y="214"/>
                    </a:lnTo>
                    <a:lnTo>
                      <a:pt x="44" y="190"/>
                    </a:lnTo>
                    <a:lnTo>
                      <a:pt x="56" y="168"/>
                    </a:lnTo>
                    <a:lnTo>
                      <a:pt x="56" y="145"/>
                    </a:lnTo>
                    <a:lnTo>
                      <a:pt x="66" y="123"/>
                    </a:lnTo>
                    <a:lnTo>
                      <a:pt x="78" y="101"/>
                    </a:lnTo>
                    <a:lnTo>
                      <a:pt x="89" y="79"/>
                    </a:lnTo>
                    <a:lnTo>
                      <a:pt x="100" y="56"/>
                    </a:lnTo>
                    <a:lnTo>
                      <a:pt x="112" y="34"/>
                    </a:lnTo>
                    <a:lnTo>
                      <a:pt x="122" y="23"/>
                    </a:lnTo>
                    <a:lnTo>
                      <a:pt x="14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859440" y="4371840"/>
                <a:ext cx="170280" cy="95760"/>
              </a:xfrm>
              <a:custGeom>
                <a:avLst/>
                <a:gdLst/>
                <a:ahLst/>
                <a:rect l="l" t="t" r="r" b="b"/>
                <a:pathLst>
                  <a:path w="437" h="247">
                    <a:moveTo>
                      <a:pt x="0" y="247"/>
                    </a:moveTo>
                    <a:lnTo>
                      <a:pt x="22" y="237"/>
                    </a:lnTo>
                    <a:lnTo>
                      <a:pt x="56" y="214"/>
                    </a:lnTo>
                    <a:lnTo>
                      <a:pt x="78" y="202"/>
                    </a:lnTo>
                    <a:lnTo>
                      <a:pt x="101" y="180"/>
                    </a:lnTo>
                    <a:lnTo>
                      <a:pt x="134" y="169"/>
                    </a:lnTo>
                    <a:lnTo>
                      <a:pt x="157" y="158"/>
                    </a:lnTo>
                    <a:lnTo>
                      <a:pt x="191" y="136"/>
                    </a:lnTo>
                    <a:lnTo>
                      <a:pt x="214" y="124"/>
                    </a:lnTo>
                    <a:lnTo>
                      <a:pt x="247" y="113"/>
                    </a:lnTo>
                    <a:lnTo>
                      <a:pt x="269" y="91"/>
                    </a:lnTo>
                    <a:lnTo>
                      <a:pt x="292" y="80"/>
                    </a:lnTo>
                    <a:lnTo>
                      <a:pt x="325" y="68"/>
                    </a:lnTo>
                    <a:lnTo>
                      <a:pt x="348" y="47"/>
                    </a:lnTo>
                    <a:lnTo>
                      <a:pt x="381" y="35"/>
                    </a:lnTo>
                    <a:lnTo>
                      <a:pt x="404" y="12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7403040" y="4345920"/>
                <a:ext cx="349920" cy="763200"/>
              </a:xfrm>
              <a:custGeom>
                <a:avLst/>
                <a:gdLst/>
                <a:ahLst/>
                <a:rect l="l" t="t" r="r" b="b"/>
                <a:pathLst>
                  <a:path w="898" h="1962">
                    <a:moveTo>
                      <a:pt x="742" y="90"/>
                    </a:moveTo>
                    <a:lnTo>
                      <a:pt x="752" y="90"/>
                    </a:lnTo>
                    <a:lnTo>
                      <a:pt x="752" y="102"/>
                    </a:lnTo>
                    <a:lnTo>
                      <a:pt x="763" y="102"/>
                    </a:lnTo>
                    <a:lnTo>
                      <a:pt x="775" y="114"/>
                    </a:lnTo>
                    <a:lnTo>
                      <a:pt x="786" y="114"/>
                    </a:lnTo>
                    <a:lnTo>
                      <a:pt x="786" y="124"/>
                    </a:lnTo>
                    <a:lnTo>
                      <a:pt x="797" y="124"/>
                    </a:lnTo>
                    <a:lnTo>
                      <a:pt x="808" y="124"/>
                    </a:lnTo>
                    <a:lnTo>
                      <a:pt x="819" y="135"/>
                    </a:lnTo>
                    <a:lnTo>
                      <a:pt x="831" y="147"/>
                    </a:lnTo>
                    <a:lnTo>
                      <a:pt x="831" y="158"/>
                    </a:lnTo>
                    <a:lnTo>
                      <a:pt x="841" y="158"/>
                    </a:lnTo>
                    <a:lnTo>
                      <a:pt x="841" y="169"/>
                    </a:lnTo>
                    <a:lnTo>
                      <a:pt x="841" y="180"/>
                    </a:lnTo>
                    <a:lnTo>
                      <a:pt x="853" y="191"/>
                    </a:lnTo>
                    <a:lnTo>
                      <a:pt x="841" y="213"/>
                    </a:lnTo>
                    <a:lnTo>
                      <a:pt x="841" y="236"/>
                    </a:lnTo>
                    <a:lnTo>
                      <a:pt x="841" y="269"/>
                    </a:lnTo>
                    <a:lnTo>
                      <a:pt x="831" y="292"/>
                    </a:lnTo>
                    <a:lnTo>
                      <a:pt x="831" y="314"/>
                    </a:lnTo>
                    <a:lnTo>
                      <a:pt x="831" y="348"/>
                    </a:lnTo>
                    <a:lnTo>
                      <a:pt x="831" y="370"/>
                    </a:lnTo>
                    <a:lnTo>
                      <a:pt x="819" y="404"/>
                    </a:lnTo>
                    <a:lnTo>
                      <a:pt x="819" y="426"/>
                    </a:lnTo>
                    <a:lnTo>
                      <a:pt x="819" y="459"/>
                    </a:lnTo>
                    <a:lnTo>
                      <a:pt x="819" y="482"/>
                    </a:lnTo>
                    <a:lnTo>
                      <a:pt x="819" y="516"/>
                    </a:lnTo>
                    <a:lnTo>
                      <a:pt x="819" y="539"/>
                    </a:lnTo>
                    <a:lnTo>
                      <a:pt x="831" y="562"/>
                    </a:lnTo>
                    <a:lnTo>
                      <a:pt x="831" y="595"/>
                    </a:lnTo>
                    <a:lnTo>
                      <a:pt x="831" y="617"/>
                    </a:lnTo>
                    <a:lnTo>
                      <a:pt x="831" y="706"/>
                    </a:lnTo>
                    <a:lnTo>
                      <a:pt x="831" y="785"/>
                    </a:lnTo>
                    <a:lnTo>
                      <a:pt x="831" y="863"/>
                    </a:lnTo>
                    <a:lnTo>
                      <a:pt x="831" y="954"/>
                    </a:lnTo>
                    <a:lnTo>
                      <a:pt x="831" y="1032"/>
                    </a:lnTo>
                    <a:lnTo>
                      <a:pt x="831" y="1122"/>
                    </a:lnTo>
                    <a:lnTo>
                      <a:pt x="831" y="1199"/>
                    </a:lnTo>
                    <a:lnTo>
                      <a:pt x="841" y="1278"/>
                    </a:lnTo>
                    <a:lnTo>
                      <a:pt x="841" y="1369"/>
                    </a:lnTo>
                    <a:lnTo>
                      <a:pt x="853" y="1447"/>
                    </a:lnTo>
                    <a:lnTo>
                      <a:pt x="853" y="1537"/>
                    </a:lnTo>
                    <a:lnTo>
                      <a:pt x="865" y="1615"/>
                    </a:lnTo>
                    <a:lnTo>
                      <a:pt x="865" y="1694"/>
                    </a:lnTo>
                    <a:lnTo>
                      <a:pt x="876" y="1784"/>
                    </a:lnTo>
                    <a:lnTo>
                      <a:pt x="888" y="1862"/>
                    </a:lnTo>
                    <a:lnTo>
                      <a:pt x="888" y="1941"/>
                    </a:lnTo>
                    <a:lnTo>
                      <a:pt x="898" y="1951"/>
                    </a:lnTo>
                    <a:lnTo>
                      <a:pt x="888" y="1962"/>
                    </a:lnTo>
                    <a:lnTo>
                      <a:pt x="876" y="1962"/>
                    </a:lnTo>
                    <a:lnTo>
                      <a:pt x="865" y="1962"/>
                    </a:lnTo>
                    <a:lnTo>
                      <a:pt x="865" y="1951"/>
                    </a:lnTo>
                    <a:lnTo>
                      <a:pt x="853" y="1951"/>
                    </a:lnTo>
                    <a:lnTo>
                      <a:pt x="853" y="1941"/>
                    </a:lnTo>
                    <a:lnTo>
                      <a:pt x="841" y="1941"/>
                    </a:lnTo>
                    <a:lnTo>
                      <a:pt x="841" y="1929"/>
                    </a:lnTo>
                    <a:lnTo>
                      <a:pt x="786" y="1828"/>
                    </a:lnTo>
                    <a:lnTo>
                      <a:pt x="730" y="1738"/>
                    </a:lnTo>
                    <a:lnTo>
                      <a:pt x="686" y="1637"/>
                    </a:lnTo>
                    <a:lnTo>
                      <a:pt x="629" y="1537"/>
                    </a:lnTo>
                    <a:lnTo>
                      <a:pt x="573" y="1447"/>
                    </a:lnTo>
                    <a:lnTo>
                      <a:pt x="517" y="1346"/>
                    </a:lnTo>
                    <a:lnTo>
                      <a:pt x="473" y="1245"/>
                    </a:lnTo>
                    <a:lnTo>
                      <a:pt x="416" y="1156"/>
                    </a:lnTo>
                    <a:lnTo>
                      <a:pt x="360" y="1055"/>
                    </a:lnTo>
                    <a:lnTo>
                      <a:pt x="304" y="954"/>
                    </a:lnTo>
                    <a:lnTo>
                      <a:pt x="259" y="863"/>
                    </a:lnTo>
                    <a:lnTo>
                      <a:pt x="203" y="762"/>
                    </a:lnTo>
                    <a:lnTo>
                      <a:pt x="148" y="663"/>
                    </a:lnTo>
                    <a:lnTo>
                      <a:pt x="102" y="562"/>
                    </a:lnTo>
                    <a:lnTo>
                      <a:pt x="47" y="471"/>
                    </a:lnTo>
                    <a:lnTo>
                      <a:pt x="0" y="370"/>
                    </a:lnTo>
                    <a:lnTo>
                      <a:pt x="0" y="360"/>
                    </a:lnTo>
                    <a:lnTo>
                      <a:pt x="0" y="348"/>
                    </a:lnTo>
                    <a:lnTo>
                      <a:pt x="35" y="325"/>
                    </a:lnTo>
                    <a:lnTo>
                      <a:pt x="69" y="314"/>
                    </a:lnTo>
                    <a:lnTo>
                      <a:pt x="102" y="292"/>
                    </a:lnTo>
                    <a:lnTo>
                      <a:pt x="136" y="281"/>
                    </a:lnTo>
                    <a:lnTo>
                      <a:pt x="170" y="259"/>
                    </a:lnTo>
                    <a:lnTo>
                      <a:pt x="203" y="236"/>
                    </a:lnTo>
                    <a:lnTo>
                      <a:pt x="237" y="225"/>
                    </a:lnTo>
                    <a:lnTo>
                      <a:pt x="270" y="203"/>
                    </a:lnTo>
                    <a:lnTo>
                      <a:pt x="304" y="180"/>
                    </a:lnTo>
                    <a:lnTo>
                      <a:pt x="338" y="169"/>
                    </a:lnTo>
                    <a:lnTo>
                      <a:pt x="371" y="147"/>
                    </a:lnTo>
                    <a:lnTo>
                      <a:pt x="404" y="124"/>
                    </a:lnTo>
                    <a:lnTo>
                      <a:pt x="439" y="102"/>
                    </a:lnTo>
                    <a:lnTo>
                      <a:pt x="461" y="90"/>
                    </a:lnTo>
                    <a:lnTo>
                      <a:pt x="496" y="67"/>
                    </a:lnTo>
                    <a:lnTo>
                      <a:pt x="529" y="45"/>
                    </a:lnTo>
                    <a:lnTo>
                      <a:pt x="540" y="45"/>
                    </a:lnTo>
                    <a:lnTo>
                      <a:pt x="552" y="34"/>
                    </a:lnTo>
                    <a:lnTo>
                      <a:pt x="562" y="34"/>
                    </a:lnTo>
                    <a:lnTo>
                      <a:pt x="573" y="22"/>
                    </a:lnTo>
                    <a:lnTo>
                      <a:pt x="585" y="22"/>
                    </a:lnTo>
                    <a:lnTo>
                      <a:pt x="595" y="22"/>
                    </a:lnTo>
                    <a:lnTo>
                      <a:pt x="595" y="11"/>
                    </a:lnTo>
                    <a:lnTo>
                      <a:pt x="607" y="11"/>
                    </a:lnTo>
                    <a:lnTo>
                      <a:pt x="618" y="11"/>
                    </a:lnTo>
                    <a:lnTo>
                      <a:pt x="629" y="0"/>
                    </a:lnTo>
                    <a:lnTo>
                      <a:pt x="641" y="0"/>
                    </a:lnTo>
                    <a:lnTo>
                      <a:pt x="742" y="9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7723080" y="4421160"/>
                <a:ext cx="13680" cy="165600"/>
              </a:xfrm>
              <a:custGeom>
                <a:avLst/>
                <a:gdLst/>
                <a:ahLst/>
                <a:rect l="l" t="t" r="r" b="b"/>
                <a:pathLst>
                  <a:path w="34" h="426">
                    <a:moveTo>
                      <a:pt x="34" y="0"/>
                    </a:moveTo>
                    <a:lnTo>
                      <a:pt x="22" y="22"/>
                    </a:lnTo>
                    <a:lnTo>
                      <a:pt x="22" y="45"/>
                    </a:lnTo>
                    <a:lnTo>
                      <a:pt x="22" y="78"/>
                    </a:lnTo>
                    <a:lnTo>
                      <a:pt x="12" y="101"/>
                    </a:lnTo>
                    <a:lnTo>
                      <a:pt x="12" y="123"/>
                    </a:lnTo>
                    <a:lnTo>
                      <a:pt x="12" y="157"/>
                    </a:lnTo>
                    <a:lnTo>
                      <a:pt x="12" y="179"/>
                    </a:lnTo>
                    <a:lnTo>
                      <a:pt x="0" y="213"/>
                    </a:lnTo>
                    <a:lnTo>
                      <a:pt x="0" y="235"/>
                    </a:lnTo>
                    <a:lnTo>
                      <a:pt x="0" y="268"/>
                    </a:lnTo>
                    <a:lnTo>
                      <a:pt x="0" y="291"/>
                    </a:lnTo>
                    <a:lnTo>
                      <a:pt x="0" y="325"/>
                    </a:lnTo>
                    <a:lnTo>
                      <a:pt x="0" y="348"/>
                    </a:lnTo>
                    <a:lnTo>
                      <a:pt x="12" y="371"/>
                    </a:lnTo>
                    <a:lnTo>
                      <a:pt x="12" y="404"/>
                    </a:lnTo>
                    <a:lnTo>
                      <a:pt x="12" y="42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7727400" y="4586760"/>
                <a:ext cx="20880" cy="513360"/>
              </a:xfrm>
              <a:custGeom>
                <a:avLst/>
                <a:gdLst/>
                <a:ahLst/>
                <a:rect l="l" t="t" r="r" b="b"/>
                <a:pathLst>
                  <a:path w="57" h="1324">
                    <a:moveTo>
                      <a:pt x="0" y="0"/>
                    </a:moveTo>
                    <a:lnTo>
                      <a:pt x="0" y="89"/>
                    </a:lnTo>
                    <a:lnTo>
                      <a:pt x="0" y="168"/>
                    </a:lnTo>
                    <a:lnTo>
                      <a:pt x="0" y="246"/>
                    </a:lnTo>
                    <a:lnTo>
                      <a:pt x="0" y="337"/>
                    </a:lnTo>
                    <a:lnTo>
                      <a:pt x="0" y="415"/>
                    </a:lnTo>
                    <a:lnTo>
                      <a:pt x="0" y="505"/>
                    </a:lnTo>
                    <a:lnTo>
                      <a:pt x="0" y="582"/>
                    </a:lnTo>
                    <a:lnTo>
                      <a:pt x="10" y="661"/>
                    </a:lnTo>
                    <a:lnTo>
                      <a:pt x="10" y="752"/>
                    </a:lnTo>
                    <a:lnTo>
                      <a:pt x="22" y="830"/>
                    </a:lnTo>
                    <a:lnTo>
                      <a:pt x="22" y="920"/>
                    </a:lnTo>
                    <a:lnTo>
                      <a:pt x="34" y="998"/>
                    </a:lnTo>
                    <a:lnTo>
                      <a:pt x="34" y="1077"/>
                    </a:lnTo>
                    <a:lnTo>
                      <a:pt x="45" y="1167"/>
                    </a:lnTo>
                    <a:lnTo>
                      <a:pt x="57" y="1245"/>
                    </a:lnTo>
                    <a:lnTo>
                      <a:pt x="57" y="13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7403040" y="4491000"/>
                <a:ext cx="329040" cy="604440"/>
              </a:xfrm>
              <a:custGeom>
                <a:avLst/>
                <a:gdLst/>
                <a:ahLst/>
                <a:rect l="l" t="t" r="r" b="b"/>
                <a:pathLst>
                  <a:path w="841" h="1559">
                    <a:moveTo>
                      <a:pt x="841" y="1559"/>
                    </a:moveTo>
                    <a:lnTo>
                      <a:pt x="786" y="1458"/>
                    </a:lnTo>
                    <a:lnTo>
                      <a:pt x="730" y="1368"/>
                    </a:lnTo>
                    <a:lnTo>
                      <a:pt x="686" y="1267"/>
                    </a:lnTo>
                    <a:lnTo>
                      <a:pt x="629" y="1167"/>
                    </a:lnTo>
                    <a:lnTo>
                      <a:pt x="573" y="1077"/>
                    </a:lnTo>
                    <a:lnTo>
                      <a:pt x="517" y="976"/>
                    </a:lnTo>
                    <a:lnTo>
                      <a:pt x="473" y="875"/>
                    </a:lnTo>
                    <a:lnTo>
                      <a:pt x="416" y="786"/>
                    </a:lnTo>
                    <a:lnTo>
                      <a:pt x="360" y="685"/>
                    </a:lnTo>
                    <a:lnTo>
                      <a:pt x="304" y="584"/>
                    </a:lnTo>
                    <a:lnTo>
                      <a:pt x="259" y="493"/>
                    </a:lnTo>
                    <a:lnTo>
                      <a:pt x="203" y="392"/>
                    </a:lnTo>
                    <a:lnTo>
                      <a:pt x="148" y="293"/>
                    </a:lnTo>
                    <a:lnTo>
                      <a:pt x="102" y="192"/>
                    </a:lnTo>
                    <a:lnTo>
                      <a:pt x="47" y="10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7403040" y="4362120"/>
                <a:ext cx="205560" cy="118800"/>
              </a:xfrm>
              <a:custGeom>
                <a:avLst/>
                <a:gdLst/>
                <a:ahLst/>
                <a:rect l="l" t="t" r="r" b="b"/>
                <a:pathLst>
                  <a:path w="529" h="303">
                    <a:moveTo>
                      <a:pt x="0" y="303"/>
                    </a:moveTo>
                    <a:lnTo>
                      <a:pt x="35" y="280"/>
                    </a:lnTo>
                    <a:lnTo>
                      <a:pt x="69" y="269"/>
                    </a:lnTo>
                    <a:lnTo>
                      <a:pt x="102" y="247"/>
                    </a:lnTo>
                    <a:lnTo>
                      <a:pt x="136" y="236"/>
                    </a:lnTo>
                    <a:lnTo>
                      <a:pt x="170" y="214"/>
                    </a:lnTo>
                    <a:lnTo>
                      <a:pt x="203" y="191"/>
                    </a:lnTo>
                    <a:lnTo>
                      <a:pt x="237" y="180"/>
                    </a:lnTo>
                    <a:lnTo>
                      <a:pt x="270" y="158"/>
                    </a:lnTo>
                    <a:lnTo>
                      <a:pt x="304" y="135"/>
                    </a:lnTo>
                    <a:lnTo>
                      <a:pt x="338" y="124"/>
                    </a:lnTo>
                    <a:lnTo>
                      <a:pt x="371" y="102"/>
                    </a:lnTo>
                    <a:lnTo>
                      <a:pt x="404" y="79"/>
                    </a:lnTo>
                    <a:lnTo>
                      <a:pt x="439" y="57"/>
                    </a:lnTo>
                    <a:lnTo>
                      <a:pt x="461" y="45"/>
                    </a:lnTo>
                    <a:lnTo>
                      <a:pt x="496" y="22"/>
                    </a:lnTo>
                    <a:lnTo>
                      <a:pt x="52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7426800" y="4367160"/>
                <a:ext cx="309960" cy="702360"/>
              </a:xfrm>
              <a:custGeom>
                <a:avLst/>
                <a:gdLst/>
                <a:ahLst/>
                <a:rect l="l" t="t" r="r" b="b"/>
                <a:pathLst>
                  <a:path w="796" h="1807">
                    <a:moveTo>
                      <a:pt x="650" y="80"/>
                    </a:moveTo>
                    <a:lnTo>
                      <a:pt x="650" y="92"/>
                    </a:lnTo>
                    <a:lnTo>
                      <a:pt x="662" y="92"/>
                    </a:lnTo>
                    <a:lnTo>
                      <a:pt x="673" y="103"/>
                    </a:lnTo>
                    <a:lnTo>
                      <a:pt x="685" y="103"/>
                    </a:lnTo>
                    <a:lnTo>
                      <a:pt x="695" y="114"/>
                    </a:lnTo>
                    <a:lnTo>
                      <a:pt x="706" y="114"/>
                    </a:lnTo>
                    <a:lnTo>
                      <a:pt x="718" y="125"/>
                    </a:lnTo>
                    <a:lnTo>
                      <a:pt x="729" y="125"/>
                    </a:lnTo>
                    <a:lnTo>
                      <a:pt x="729" y="136"/>
                    </a:lnTo>
                    <a:lnTo>
                      <a:pt x="740" y="136"/>
                    </a:lnTo>
                    <a:lnTo>
                      <a:pt x="740" y="148"/>
                    </a:lnTo>
                    <a:lnTo>
                      <a:pt x="740" y="214"/>
                    </a:lnTo>
                    <a:lnTo>
                      <a:pt x="729" y="270"/>
                    </a:lnTo>
                    <a:lnTo>
                      <a:pt x="729" y="338"/>
                    </a:lnTo>
                    <a:lnTo>
                      <a:pt x="729" y="404"/>
                    </a:lnTo>
                    <a:lnTo>
                      <a:pt x="729" y="473"/>
                    </a:lnTo>
                    <a:lnTo>
                      <a:pt x="729" y="540"/>
                    </a:lnTo>
                    <a:lnTo>
                      <a:pt x="729" y="608"/>
                    </a:lnTo>
                    <a:lnTo>
                      <a:pt x="729" y="674"/>
                    </a:lnTo>
                    <a:lnTo>
                      <a:pt x="729" y="742"/>
                    </a:lnTo>
                    <a:lnTo>
                      <a:pt x="740" y="808"/>
                    </a:lnTo>
                    <a:lnTo>
                      <a:pt x="740" y="876"/>
                    </a:lnTo>
                    <a:lnTo>
                      <a:pt x="740" y="944"/>
                    </a:lnTo>
                    <a:lnTo>
                      <a:pt x="740" y="1010"/>
                    </a:lnTo>
                    <a:lnTo>
                      <a:pt x="740" y="1078"/>
                    </a:lnTo>
                    <a:lnTo>
                      <a:pt x="740" y="1144"/>
                    </a:lnTo>
                    <a:lnTo>
                      <a:pt x="740" y="1212"/>
                    </a:lnTo>
                    <a:lnTo>
                      <a:pt x="796" y="1807"/>
                    </a:lnTo>
                    <a:lnTo>
                      <a:pt x="774" y="1752"/>
                    </a:lnTo>
                    <a:lnTo>
                      <a:pt x="740" y="1705"/>
                    </a:lnTo>
                    <a:lnTo>
                      <a:pt x="718" y="1660"/>
                    </a:lnTo>
                    <a:lnTo>
                      <a:pt x="695" y="1616"/>
                    </a:lnTo>
                    <a:lnTo>
                      <a:pt x="662" y="1560"/>
                    </a:lnTo>
                    <a:lnTo>
                      <a:pt x="639" y="1515"/>
                    </a:lnTo>
                    <a:lnTo>
                      <a:pt x="617" y="1470"/>
                    </a:lnTo>
                    <a:lnTo>
                      <a:pt x="584" y="1426"/>
                    </a:lnTo>
                    <a:lnTo>
                      <a:pt x="561" y="1370"/>
                    </a:lnTo>
                    <a:lnTo>
                      <a:pt x="538" y="1325"/>
                    </a:lnTo>
                    <a:lnTo>
                      <a:pt x="505" y="1279"/>
                    </a:lnTo>
                    <a:lnTo>
                      <a:pt x="483" y="1235"/>
                    </a:lnTo>
                    <a:lnTo>
                      <a:pt x="460" y="1179"/>
                    </a:lnTo>
                    <a:lnTo>
                      <a:pt x="427" y="1134"/>
                    </a:lnTo>
                    <a:lnTo>
                      <a:pt x="404" y="1089"/>
                    </a:lnTo>
                    <a:lnTo>
                      <a:pt x="382" y="1033"/>
                    </a:lnTo>
                    <a:lnTo>
                      <a:pt x="370" y="1010"/>
                    </a:lnTo>
                    <a:lnTo>
                      <a:pt x="347" y="989"/>
                    </a:lnTo>
                    <a:lnTo>
                      <a:pt x="337" y="966"/>
                    </a:lnTo>
                    <a:lnTo>
                      <a:pt x="325" y="944"/>
                    </a:lnTo>
                    <a:lnTo>
                      <a:pt x="314" y="910"/>
                    </a:lnTo>
                    <a:lnTo>
                      <a:pt x="303" y="888"/>
                    </a:lnTo>
                    <a:lnTo>
                      <a:pt x="291" y="864"/>
                    </a:lnTo>
                    <a:lnTo>
                      <a:pt x="269" y="842"/>
                    </a:lnTo>
                    <a:lnTo>
                      <a:pt x="258" y="819"/>
                    </a:lnTo>
                    <a:lnTo>
                      <a:pt x="247" y="798"/>
                    </a:lnTo>
                    <a:lnTo>
                      <a:pt x="236" y="775"/>
                    </a:lnTo>
                    <a:lnTo>
                      <a:pt x="225" y="742"/>
                    </a:lnTo>
                    <a:lnTo>
                      <a:pt x="213" y="719"/>
                    </a:lnTo>
                    <a:lnTo>
                      <a:pt x="202" y="697"/>
                    </a:lnTo>
                    <a:lnTo>
                      <a:pt x="190" y="674"/>
                    </a:lnTo>
                    <a:lnTo>
                      <a:pt x="180" y="651"/>
                    </a:lnTo>
                    <a:lnTo>
                      <a:pt x="169" y="630"/>
                    </a:lnTo>
                    <a:lnTo>
                      <a:pt x="157" y="608"/>
                    </a:lnTo>
                    <a:lnTo>
                      <a:pt x="146" y="585"/>
                    </a:lnTo>
                    <a:lnTo>
                      <a:pt x="135" y="573"/>
                    </a:lnTo>
                    <a:lnTo>
                      <a:pt x="124" y="552"/>
                    </a:lnTo>
                    <a:lnTo>
                      <a:pt x="113" y="529"/>
                    </a:lnTo>
                    <a:lnTo>
                      <a:pt x="101" y="507"/>
                    </a:lnTo>
                    <a:lnTo>
                      <a:pt x="91" y="484"/>
                    </a:lnTo>
                    <a:lnTo>
                      <a:pt x="79" y="473"/>
                    </a:lnTo>
                    <a:lnTo>
                      <a:pt x="68" y="449"/>
                    </a:lnTo>
                    <a:lnTo>
                      <a:pt x="57" y="427"/>
                    </a:lnTo>
                    <a:lnTo>
                      <a:pt x="45" y="404"/>
                    </a:lnTo>
                    <a:lnTo>
                      <a:pt x="35" y="394"/>
                    </a:lnTo>
                    <a:lnTo>
                      <a:pt x="23" y="371"/>
                    </a:lnTo>
                    <a:lnTo>
                      <a:pt x="12" y="349"/>
                    </a:lnTo>
                    <a:lnTo>
                      <a:pt x="0" y="326"/>
                    </a:lnTo>
                    <a:lnTo>
                      <a:pt x="0" y="315"/>
                    </a:lnTo>
                    <a:lnTo>
                      <a:pt x="12" y="315"/>
                    </a:lnTo>
                    <a:lnTo>
                      <a:pt x="23" y="305"/>
                    </a:lnTo>
                    <a:lnTo>
                      <a:pt x="23" y="293"/>
                    </a:lnTo>
                    <a:lnTo>
                      <a:pt x="35" y="293"/>
                    </a:lnTo>
                    <a:lnTo>
                      <a:pt x="45" y="282"/>
                    </a:lnTo>
                    <a:lnTo>
                      <a:pt x="57" y="282"/>
                    </a:lnTo>
                    <a:lnTo>
                      <a:pt x="68" y="270"/>
                    </a:lnTo>
                    <a:lnTo>
                      <a:pt x="79" y="270"/>
                    </a:lnTo>
                    <a:lnTo>
                      <a:pt x="91" y="259"/>
                    </a:lnTo>
                    <a:lnTo>
                      <a:pt x="101" y="259"/>
                    </a:lnTo>
                    <a:lnTo>
                      <a:pt x="113" y="259"/>
                    </a:lnTo>
                    <a:lnTo>
                      <a:pt x="124" y="249"/>
                    </a:lnTo>
                    <a:lnTo>
                      <a:pt x="135" y="249"/>
                    </a:lnTo>
                    <a:lnTo>
                      <a:pt x="135" y="237"/>
                    </a:lnTo>
                    <a:lnTo>
                      <a:pt x="146" y="226"/>
                    </a:lnTo>
                    <a:lnTo>
                      <a:pt x="169" y="214"/>
                    </a:lnTo>
                    <a:lnTo>
                      <a:pt x="202" y="204"/>
                    </a:lnTo>
                    <a:lnTo>
                      <a:pt x="225" y="192"/>
                    </a:lnTo>
                    <a:lnTo>
                      <a:pt x="247" y="170"/>
                    </a:lnTo>
                    <a:lnTo>
                      <a:pt x="269" y="158"/>
                    </a:lnTo>
                    <a:lnTo>
                      <a:pt x="291" y="148"/>
                    </a:lnTo>
                    <a:lnTo>
                      <a:pt x="314" y="136"/>
                    </a:lnTo>
                    <a:lnTo>
                      <a:pt x="337" y="114"/>
                    </a:lnTo>
                    <a:lnTo>
                      <a:pt x="370" y="103"/>
                    </a:lnTo>
                    <a:lnTo>
                      <a:pt x="392" y="92"/>
                    </a:lnTo>
                    <a:lnTo>
                      <a:pt x="416" y="80"/>
                    </a:lnTo>
                    <a:lnTo>
                      <a:pt x="439" y="59"/>
                    </a:lnTo>
                    <a:lnTo>
                      <a:pt x="460" y="47"/>
                    </a:lnTo>
                    <a:lnTo>
                      <a:pt x="483" y="35"/>
                    </a:lnTo>
                    <a:lnTo>
                      <a:pt x="516" y="24"/>
                    </a:lnTo>
                    <a:lnTo>
                      <a:pt x="538" y="0"/>
                    </a:lnTo>
                    <a:lnTo>
                      <a:pt x="550" y="12"/>
                    </a:lnTo>
                    <a:lnTo>
                      <a:pt x="561" y="12"/>
                    </a:lnTo>
                    <a:lnTo>
                      <a:pt x="572" y="12"/>
                    </a:lnTo>
                    <a:lnTo>
                      <a:pt x="572" y="24"/>
                    </a:lnTo>
                    <a:lnTo>
                      <a:pt x="584" y="24"/>
                    </a:lnTo>
                    <a:lnTo>
                      <a:pt x="584" y="35"/>
                    </a:lnTo>
                    <a:lnTo>
                      <a:pt x="594" y="35"/>
                    </a:lnTo>
                    <a:lnTo>
                      <a:pt x="594" y="47"/>
                    </a:lnTo>
                    <a:lnTo>
                      <a:pt x="606" y="59"/>
                    </a:lnTo>
                    <a:lnTo>
                      <a:pt x="617" y="59"/>
                    </a:lnTo>
                    <a:lnTo>
                      <a:pt x="617" y="69"/>
                    </a:lnTo>
                    <a:lnTo>
                      <a:pt x="629" y="69"/>
                    </a:lnTo>
                    <a:lnTo>
                      <a:pt x="629" y="80"/>
                    </a:lnTo>
                    <a:lnTo>
                      <a:pt x="639" y="80"/>
                    </a:lnTo>
                    <a:lnTo>
                      <a:pt x="650" y="80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7708680" y="4425120"/>
                <a:ext cx="4680" cy="413280"/>
              </a:xfrm>
              <a:custGeom>
                <a:avLst/>
                <a:gdLst/>
                <a:ahLst/>
                <a:rect l="l" t="t" r="r" b="b"/>
                <a:pathLst>
                  <a:path w="11" h="1064">
                    <a:moveTo>
                      <a:pt x="11" y="0"/>
                    </a:moveTo>
                    <a:lnTo>
                      <a:pt x="11" y="66"/>
                    </a:lnTo>
                    <a:lnTo>
                      <a:pt x="0" y="122"/>
                    </a:lnTo>
                    <a:lnTo>
                      <a:pt x="0" y="190"/>
                    </a:lnTo>
                    <a:lnTo>
                      <a:pt x="0" y="256"/>
                    </a:lnTo>
                    <a:lnTo>
                      <a:pt x="0" y="325"/>
                    </a:lnTo>
                    <a:lnTo>
                      <a:pt x="0" y="392"/>
                    </a:lnTo>
                    <a:lnTo>
                      <a:pt x="0" y="460"/>
                    </a:lnTo>
                    <a:lnTo>
                      <a:pt x="0" y="526"/>
                    </a:lnTo>
                    <a:lnTo>
                      <a:pt x="0" y="594"/>
                    </a:lnTo>
                    <a:lnTo>
                      <a:pt x="11" y="660"/>
                    </a:lnTo>
                    <a:lnTo>
                      <a:pt x="11" y="728"/>
                    </a:lnTo>
                    <a:lnTo>
                      <a:pt x="11" y="796"/>
                    </a:lnTo>
                    <a:lnTo>
                      <a:pt x="11" y="862"/>
                    </a:lnTo>
                    <a:lnTo>
                      <a:pt x="11" y="930"/>
                    </a:lnTo>
                    <a:lnTo>
                      <a:pt x="11" y="996"/>
                    </a:lnTo>
                    <a:lnTo>
                      <a:pt x="11" y="10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7713360" y="4838760"/>
                <a:ext cx="23040" cy="2307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7573320" y="4768920"/>
                <a:ext cx="163440" cy="300600"/>
              </a:xfrm>
              <a:custGeom>
                <a:avLst/>
                <a:gdLst/>
                <a:ahLst/>
                <a:rect l="l" t="t" r="r" b="b"/>
                <a:pathLst>
                  <a:path w="414" h="774">
                    <a:moveTo>
                      <a:pt x="414" y="774"/>
                    </a:moveTo>
                    <a:lnTo>
                      <a:pt x="392" y="719"/>
                    </a:lnTo>
                    <a:lnTo>
                      <a:pt x="358" y="672"/>
                    </a:lnTo>
                    <a:lnTo>
                      <a:pt x="336" y="627"/>
                    </a:lnTo>
                    <a:lnTo>
                      <a:pt x="313" y="583"/>
                    </a:lnTo>
                    <a:lnTo>
                      <a:pt x="280" y="527"/>
                    </a:lnTo>
                    <a:lnTo>
                      <a:pt x="257" y="482"/>
                    </a:lnTo>
                    <a:lnTo>
                      <a:pt x="235" y="437"/>
                    </a:lnTo>
                    <a:lnTo>
                      <a:pt x="202" y="393"/>
                    </a:lnTo>
                    <a:lnTo>
                      <a:pt x="179" y="337"/>
                    </a:lnTo>
                    <a:lnTo>
                      <a:pt x="156" y="292"/>
                    </a:lnTo>
                    <a:lnTo>
                      <a:pt x="123" y="246"/>
                    </a:lnTo>
                    <a:lnTo>
                      <a:pt x="101" y="202"/>
                    </a:lnTo>
                    <a:lnTo>
                      <a:pt x="78" y="146"/>
                    </a:lnTo>
                    <a:lnTo>
                      <a:pt x="45" y="101"/>
                    </a:lnTo>
                    <a:lnTo>
                      <a:pt x="22" y="5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7496640" y="4621680"/>
                <a:ext cx="76680" cy="146880"/>
              </a:xfrm>
              <a:custGeom>
                <a:avLst/>
                <a:gdLst/>
                <a:ahLst/>
                <a:rect l="l" t="t" r="r" b="b"/>
                <a:pathLst>
                  <a:path w="202" h="382">
                    <a:moveTo>
                      <a:pt x="202" y="382"/>
                    </a:moveTo>
                    <a:lnTo>
                      <a:pt x="190" y="359"/>
                    </a:lnTo>
                    <a:lnTo>
                      <a:pt x="167" y="338"/>
                    </a:lnTo>
                    <a:lnTo>
                      <a:pt x="157" y="315"/>
                    </a:lnTo>
                    <a:lnTo>
                      <a:pt x="145" y="293"/>
                    </a:lnTo>
                    <a:lnTo>
                      <a:pt x="134" y="259"/>
                    </a:lnTo>
                    <a:lnTo>
                      <a:pt x="123" y="237"/>
                    </a:lnTo>
                    <a:lnTo>
                      <a:pt x="111" y="213"/>
                    </a:lnTo>
                    <a:lnTo>
                      <a:pt x="89" y="191"/>
                    </a:lnTo>
                    <a:lnTo>
                      <a:pt x="78" y="168"/>
                    </a:lnTo>
                    <a:lnTo>
                      <a:pt x="67" y="147"/>
                    </a:lnTo>
                    <a:lnTo>
                      <a:pt x="56" y="124"/>
                    </a:lnTo>
                    <a:lnTo>
                      <a:pt x="45" y="91"/>
                    </a:lnTo>
                    <a:lnTo>
                      <a:pt x="33" y="68"/>
                    </a:lnTo>
                    <a:lnTo>
                      <a:pt x="22" y="46"/>
                    </a:lnTo>
                    <a:lnTo>
                      <a:pt x="10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7426800" y="4493160"/>
                <a:ext cx="69840" cy="128520"/>
              </a:xfrm>
              <a:custGeom>
                <a:avLst/>
                <a:gdLst/>
                <a:ahLst/>
                <a:rect l="l" t="t" r="r" b="b"/>
                <a:pathLst>
                  <a:path w="180" h="325">
                    <a:moveTo>
                      <a:pt x="180" y="325"/>
                    </a:moveTo>
                    <a:lnTo>
                      <a:pt x="169" y="304"/>
                    </a:lnTo>
                    <a:lnTo>
                      <a:pt x="157" y="282"/>
                    </a:lnTo>
                    <a:lnTo>
                      <a:pt x="146" y="259"/>
                    </a:lnTo>
                    <a:lnTo>
                      <a:pt x="135" y="247"/>
                    </a:lnTo>
                    <a:lnTo>
                      <a:pt x="124" y="226"/>
                    </a:lnTo>
                    <a:lnTo>
                      <a:pt x="113" y="203"/>
                    </a:lnTo>
                    <a:lnTo>
                      <a:pt x="101" y="181"/>
                    </a:lnTo>
                    <a:lnTo>
                      <a:pt x="91" y="158"/>
                    </a:lnTo>
                    <a:lnTo>
                      <a:pt x="79" y="147"/>
                    </a:lnTo>
                    <a:lnTo>
                      <a:pt x="68" y="123"/>
                    </a:lnTo>
                    <a:lnTo>
                      <a:pt x="57" y="101"/>
                    </a:lnTo>
                    <a:lnTo>
                      <a:pt x="45" y="78"/>
                    </a:lnTo>
                    <a:lnTo>
                      <a:pt x="35" y="68"/>
                    </a:lnTo>
                    <a:lnTo>
                      <a:pt x="23" y="45"/>
                    </a:lnTo>
                    <a:lnTo>
                      <a:pt x="12" y="2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7482240" y="436716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392" h="226">
                    <a:moveTo>
                      <a:pt x="0" y="226"/>
                    </a:moveTo>
                    <a:lnTo>
                      <a:pt x="23" y="214"/>
                    </a:lnTo>
                    <a:lnTo>
                      <a:pt x="56" y="204"/>
                    </a:lnTo>
                    <a:lnTo>
                      <a:pt x="79" y="192"/>
                    </a:lnTo>
                    <a:lnTo>
                      <a:pt x="101" y="170"/>
                    </a:lnTo>
                    <a:lnTo>
                      <a:pt x="123" y="158"/>
                    </a:lnTo>
                    <a:lnTo>
                      <a:pt x="145" y="148"/>
                    </a:lnTo>
                    <a:lnTo>
                      <a:pt x="168" y="136"/>
                    </a:lnTo>
                    <a:lnTo>
                      <a:pt x="191" y="114"/>
                    </a:lnTo>
                    <a:lnTo>
                      <a:pt x="224" y="103"/>
                    </a:lnTo>
                    <a:lnTo>
                      <a:pt x="246" y="92"/>
                    </a:lnTo>
                    <a:lnTo>
                      <a:pt x="270" y="80"/>
                    </a:lnTo>
                    <a:lnTo>
                      <a:pt x="293" y="59"/>
                    </a:lnTo>
                    <a:lnTo>
                      <a:pt x="314" y="47"/>
                    </a:lnTo>
                    <a:lnTo>
                      <a:pt x="337" y="35"/>
                    </a:lnTo>
                    <a:lnTo>
                      <a:pt x="370" y="24"/>
                    </a:lnTo>
                    <a:lnTo>
                      <a:pt x="39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6248520" y="5034600"/>
                <a:ext cx="461880" cy="184680"/>
              </a:xfrm>
              <a:custGeom>
                <a:avLst/>
                <a:gdLst/>
                <a:ahLst/>
                <a:rect l="l" t="t" r="r" b="b"/>
                <a:pathLst>
                  <a:path w="1189" h="472">
                    <a:moveTo>
                      <a:pt x="1189" y="23"/>
                    </a:moveTo>
                    <a:lnTo>
                      <a:pt x="1134" y="45"/>
                    </a:lnTo>
                    <a:lnTo>
                      <a:pt x="1089" y="79"/>
                    </a:lnTo>
                    <a:lnTo>
                      <a:pt x="1045" y="101"/>
                    </a:lnTo>
                    <a:lnTo>
                      <a:pt x="989" y="124"/>
                    </a:lnTo>
                    <a:lnTo>
                      <a:pt x="944" y="146"/>
                    </a:lnTo>
                    <a:lnTo>
                      <a:pt x="888" y="169"/>
                    </a:lnTo>
                    <a:lnTo>
                      <a:pt x="841" y="190"/>
                    </a:lnTo>
                    <a:lnTo>
                      <a:pt x="797" y="213"/>
                    </a:lnTo>
                    <a:lnTo>
                      <a:pt x="742" y="235"/>
                    </a:lnTo>
                    <a:lnTo>
                      <a:pt x="697" y="258"/>
                    </a:lnTo>
                    <a:lnTo>
                      <a:pt x="651" y="291"/>
                    </a:lnTo>
                    <a:lnTo>
                      <a:pt x="596" y="314"/>
                    </a:lnTo>
                    <a:lnTo>
                      <a:pt x="552" y="347"/>
                    </a:lnTo>
                    <a:lnTo>
                      <a:pt x="506" y="380"/>
                    </a:lnTo>
                    <a:lnTo>
                      <a:pt x="473" y="415"/>
                    </a:lnTo>
                    <a:lnTo>
                      <a:pt x="427" y="460"/>
                    </a:lnTo>
                    <a:lnTo>
                      <a:pt x="404" y="460"/>
                    </a:lnTo>
                    <a:lnTo>
                      <a:pt x="382" y="460"/>
                    </a:lnTo>
                    <a:lnTo>
                      <a:pt x="360" y="460"/>
                    </a:lnTo>
                    <a:lnTo>
                      <a:pt x="338" y="460"/>
                    </a:lnTo>
                    <a:lnTo>
                      <a:pt x="326" y="460"/>
                    </a:lnTo>
                    <a:lnTo>
                      <a:pt x="305" y="460"/>
                    </a:lnTo>
                    <a:lnTo>
                      <a:pt x="282" y="460"/>
                    </a:lnTo>
                    <a:lnTo>
                      <a:pt x="259" y="460"/>
                    </a:lnTo>
                    <a:lnTo>
                      <a:pt x="237" y="460"/>
                    </a:lnTo>
                    <a:lnTo>
                      <a:pt x="214" y="460"/>
                    </a:lnTo>
                    <a:lnTo>
                      <a:pt x="192" y="460"/>
                    </a:lnTo>
                    <a:lnTo>
                      <a:pt x="170" y="460"/>
                    </a:lnTo>
                    <a:lnTo>
                      <a:pt x="148" y="460"/>
                    </a:lnTo>
                    <a:lnTo>
                      <a:pt x="125" y="460"/>
                    </a:lnTo>
                    <a:lnTo>
                      <a:pt x="103" y="472"/>
                    </a:lnTo>
                    <a:lnTo>
                      <a:pt x="80" y="472"/>
                    </a:lnTo>
                    <a:lnTo>
                      <a:pt x="69" y="472"/>
                    </a:lnTo>
                    <a:lnTo>
                      <a:pt x="57" y="472"/>
                    </a:lnTo>
                    <a:lnTo>
                      <a:pt x="47" y="472"/>
                    </a:lnTo>
                    <a:lnTo>
                      <a:pt x="47" y="460"/>
                    </a:lnTo>
                    <a:lnTo>
                      <a:pt x="35" y="460"/>
                    </a:lnTo>
                    <a:lnTo>
                      <a:pt x="23" y="460"/>
                    </a:lnTo>
                    <a:lnTo>
                      <a:pt x="23" y="449"/>
                    </a:lnTo>
                    <a:lnTo>
                      <a:pt x="12" y="449"/>
                    </a:lnTo>
                    <a:lnTo>
                      <a:pt x="12" y="437"/>
                    </a:lnTo>
                    <a:lnTo>
                      <a:pt x="0" y="437"/>
                    </a:lnTo>
                    <a:lnTo>
                      <a:pt x="0" y="415"/>
                    </a:lnTo>
                    <a:lnTo>
                      <a:pt x="47" y="392"/>
                    </a:lnTo>
                    <a:lnTo>
                      <a:pt x="80" y="370"/>
                    </a:lnTo>
                    <a:lnTo>
                      <a:pt x="125" y="347"/>
                    </a:lnTo>
                    <a:lnTo>
                      <a:pt x="170" y="324"/>
                    </a:lnTo>
                    <a:lnTo>
                      <a:pt x="204" y="291"/>
                    </a:lnTo>
                    <a:lnTo>
                      <a:pt x="247" y="269"/>
                    </a:lnTo>
                    <a:lnTo>
                      <a:pt x="282" y="246"/>
                    </a:lnTo>
                    <a:lnTo>
                      <a:pt x="326" y="225"/>
                    </a:lnTo>
                    <a:lnTo>
                      <a:pt x="371" y="202"/>
                    </a:lnTo>
                    <a:lnTo>
                      <a:pt x="404" y="179"/>
                    </a:lnTo>
                    <a:lnTo>
                      <a:pt x="449" y="157"/>
                    </a:lnTo>
                    <a:lnTo>
                      <a:pt x="484" y="134"/>
                    </a:lnTo>
                    <a:lnTo>
                      <a:pt x="529" y="113"/>
                    </a:lnTo>
                    <a:lnTo>
                      <a:pt x="573" y="90"/>
                    </a:lnTo>
                    <a:lnTo>
                      <a:pt x="607" y="68"/>
                    </a:lnTo>
                    <a:lnTo>
                      <a:pt x="651" y="45"/>
                    </a:lnTo>
                    <a:lnTo>
                      <a:pt x="674" y="35"/>
                    </a:lnTo>
                    <a:lnTo>
                      <a:pt x="686" y="35"/>
                    </a:lnTo>
                    <a:lnTo>
                      <a:pt x="707" y="35"/>
                    </a:lnTo>
                    <a:lnTo>
                      <a:pt x="730" y="35"/>
                    </a:lnTo>
                    <a:lnTo>
                      <a:pt x="752" y="35"/>
                    </a:lnTo>
                    <a:lnTo>
                      <a:pt x="775" y="35"/>
                    </a:lnTo>
                    <a:lnTo>
                      <a:pt x="797" y="35"/>
                    </a:lnTo>
                    <a:lnTo>
                      <a:pt x="819" y="35"/>
                    </a:lnTo>
                    <a:lnTo>
                      <a:pt x="841" y="35"/>
                    </a:lnTo>
                    <a:lnTo>
                      <a:pt x="864" y="35"/>
                    </a:lnTo>
                    <a:lnTo>
                      <a:pt x="888" y="35"/>
                    </a:lnTo>
                    <a:lnTo>
                      <a:pt x="910" y="35"/>
                    </a:lnTo>
                    <a:lnTo>
                      <a:pt x="933" y="35"/>
                    </a:lnTo>
                    <a:lnTo>
                      <a:pt x="954" y="35"/>
                    </a:lnTo>
                    <a:lnTo>
                      <a:pt x="977" y="35"/>
                    </a:lnTo>
                    <a:lnTo>
                      <a:pt x="999" y="23"/>
                    </a:lnTo>
                    <a:lnTo>
                      <a:pt x="1010" y="23"/>
                    </a:lnTo>
                    <a:lnTo>
                      <a:pt x="1022" y="23"/>
                    </a:lnTo>
                    <a:lnTo>
                      <a:pt x="1033" y="12"/>
                    </a:lnTo>
                    <a:lnTo>
                      <a:pt x="1045" y="12"/>
                    </a:lnTo>
                    <a:lnTo>
                      <a:pt x="1055" y="12"/>
                    </a:lnTo>
                    <a:lnTo>
                      <a:pt x="1066" y="12"/>
                    </a:lnTo>
                    <a:lnTo>
                      <a:pt x="1078" y="12"/>
                    </a:lnTo>
                    <a:lnTo>
                      <a:pt x="1089" y="12"/>
                    </a:lnTo>
                    <a:lnTo>
                      <a:pt x="1100" y="12"/>
                    </a:lnTo>
                    <a:lnTo>
                      <a:pt x="1111" y="12"/>
                    </a:lnTo>
                    <a:lnTo>
                      <a:pt x="1123" y="12"/>
                    </a:lnTo>
                    <a:lnTo>
                      <a:pt x="1134" y="12"/>
                    </a:lnTo>
                    <a:lnTo>
                      <a:pt x="1144" y="12"/>
                    </a:lnTo>
                    <a:lnTo>
                      <a:pt x="1156" y="12"/>
                    </a:lnTo>
                    <a:lnTo>
                      <a:pt x="1167" y="0"/>
                    </a:lnTo>
                    <a:lnTo>
                      <a:pt x="1189" y="0"/>
                    </a:lnTo>
                    <a:lnTo>
                      <a:pt x="1189" y="2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6414120" y="5044320"/>
                <a:ext cx="296280" cy="170280"/>
              </a:xfrm>
              <a:custGeom>
                <a:avLst/>
                <a:gdLst/>
                <a:ahLst/>
                <a:rect l="l" t="t" r="r" b="b"/>
                <a:pathLst>
                  <a:path w="762" h="437">
                    <a:moveTo>
                      <a:pt x="762" y="0"/>
                    </a:moveTo>
                    <a:lnTo>
                      <a:pt x="707" y="22"/>
                    </a:lnTo>
                    <a:lnTo>
                      <a:pt x="662" y="56"/>
                    </a:lnTo>
                    <a:lnTo>
                      <a:pt x="618" y="78"/>
                    </a:lnTo>
                    <a:lnTo>
                      <a:pt x="562" y="101"/>
                    </a:lnTo>
                    <a:lnTo>
                      <a:pt x="517" y="123"/>
                    </a:lnTo>
                    <a:lnTo>
                      <a:pt x="461" y="146"/>
                    </a:lnTo>
                    <a:lnTo>
                      <a:pt x="414" y="167"/>
                    </a:lnTo>
                    <a:lnTo>
                      <a:pt x="370" y="190"/>
                    </a:lnTo>
                    <a:lnTo>
                      <a:pt x="315" y="212"/>
                    </a:lnTo>
                    <a:lnTo>
                      <a:pt x="270" y="235"/>
                    </a:lnTo>
                    <a:lnTo>
                      <a:pt x="224" y="268"/>
                    </a:lnTo>
                    <a:lnTo>
                      <a:pt x="169" y="291"/>
                    </a:lnTo>
                    <a:lnTo>
                      <a:pt x="125" y="324"/>
                    </a:lnTo>
                    <a:lnTo>
                      <a:pt x="79" y="357"/>
                    </a:lnTo>
                    <a:lnTo>
                      <a:pt x="46" y="392"/>
                    </a:lnTo>
                    <a:lnTo>
                      <a:pt x="0" y="4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6248520" y="5053680"/>
                <a:ext cx="253800" cy="142200"/>
              </a:xfrm>
              <a:custGeom>
                <a:avLst/>
                <a:gdLst/>
                <a:ahLst/>
                <a:rect l="l" t="t" r="r" b="b"/>
                <a:pathLst>
                  <a:path w="651" h="370">
                    <a:moveTo>
                      <a:pt x="0" y="370"/>
                    </a:moveTo>
                    <a:lnTo>
                      <a:pt x="47" y="347"/>
                    </a:lnTo>
                    <a:lnTo>
                      <a:pt x="80" y="325"/>
                    </a:lnTo>
                    <a:lnTo>
                      <a:pt x="125" y="302"/>
                    </a:lnTo>
                    <a:lnTo>
                      <a:pt x="170" y="279"/>
                    </a:lnTo>
                    <a:lnTo>
                      <a:pt x="204" y="246"/>
                    </a:lnTo>
                    <a:lnTo>
                      <a:pt x="247" y="224"/>
                    </a:lnTo>
                    <a:lnTo>
                      <a:pt x="282" y="201"/>
                    </a:lnTo>
                    <a:lnTo>
                      <a:pt x="326" y="180"/>
                    </a:lnTo>
                    <a:lnTo>
                      <a:pt x="371" y="157"/>
                    </a:lnTo>
                    <a:lnTo>
                      <a:pt x="404" y="134"/>
                    </a:lnTo>
                    <a:lnTo>
                      <a:pt x="449" y="112"/>
                    </a:lnTo>
                    <a:lnTo>
                      <a:pt x="484" y="89"/>
                    </a:lnTo>
                    <a:lnTo>
                      <a:pt x="529" y="68"/>
                    </a:lnTo>
                    <a:lnTo>
                      <a:pt x="573" y="45"/>
                    </a:lnTo>
                    <a:lnTo>
                      <a:pt x="607" y="23"/>
                    </a:lnTo>
                    <a:lnTo>
                      <a:pt x="6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6271560" y="5055840"/>
                <a:ext cx="382320" cy="149040"/>
              </a:xfrm>
              <a:custGeom>
                <a:avLst/>
                <a:gdLst/>
                <a:ahLst/>
                <a:rect l="l" t="t" r="r" b="b"/>
                <a:pathLst>
                  <a:path w="988" h="381">
                    <a:moveTo>
                      <a:pt x="988" y="0"/>
                    </a:moveTo>
                    <a:lnTo>
                      <a:pt x="953" y="12"/>
                    </a:lnTo>
                    <a:lnTo>
                      <a:pt x="909" y="34"/>
                    </a:lnTo>
                    <a:lnTo>
                      <a:pt x="864" y="57"/>
                    </a:lnTo>
                    <a:lnTo>
                      <a:pt x="819" y="68"/>
                    </a:lnTo>
                    <a:lnTo>
                      <a:pt x="774" y="90"/>
                    </a:lnTo>
                    <a:lnTo>
                      <a:pt x="740" y="113"/>
                    </a:lnTo>
                    <a:lnTo>
                      <a:pt x="695" y="134"/>
                    </a:lnTo>
                    <a:lnTo>
                      <a:pt x="650" y="157"/>
                    </a:lnTo>
                    <a:lnTo>
                      <a:pt x="606" y="179"/>
                    </a:lnTo>
                    <a:lnTo>
                      <a:pt x="572" y="202"/>
                    </a:lnTo>
                    <a:lnTo>
                      <a:pt x="528" y="235"/>
                    </a:lnTo>
                    <a:lnTo>
                      <a:pt x="495" y="258"/>
                    </a:lnTo>
                    <a:lnTo>
                      <a:pt x="449" y="291"/>
                    </a:lnTo>
                    <a:lnTo>
                      <a:pt x="416" y="314"/>
                    </a:lnTo>
                    <a:lnTo>
                      <a:pt x="370" y="347"/>
                    </a:lnTo>
                    <a:lnTo>
                      <a:pt x="337" y="381"/>
                    </a:lnTo>
                    <a:lnTo>
                      <a:pt x="314" y="381"/>
                    </a:lnTo>
                    <a:lnTo>
                      <a:pt x="291" y="381"/>
                    </a:lnTo>
                    <a:lnTo>
                      <a:pt x="269" y="381"/>
                    </a:lnTo>
                    <a:lnTo>
                      <a:pt x="248" y="381"/>
                    </a:lnTo>
                    <a:lnTo>
                      <a:pt x="236" y="381"/>
                    </a:lnTo>
                    <a:lnTo>
                      <a:pt x="213" y="381"/>
                    </a:lnTo>
                    <a:lnTo>
                      <a:pt x="190" y="381"/>
                    </a:lnTo>
                    <a:lnTo>
                      <a:pt x="169" y="381"/>
                    </a:lnTo>
                    <a:lnTo>
                      <a:pt x="147" y="381"/>
                    </a:lnTo>
                    <a:lnTo>
                      <a:pt x="124" y="381"/>
                    </a:lnTo>
                    <a:lnTo>
                      <a:pt x="101" y="381"/>
                    </a:lnTo>
                    <a:lnTo>
                      <a:pt x="79" y="381"/>
                    </a:lnTo>
                    <a:lnTo>
                      <a:pt x="57" y="381"/>
                    </a:lnTo>
                    <a:lnTo>
                      <a:pt x="46" y="381"/>
                    </a:lnTo>
                    <a:lnTo>
                      <a:pt x="23" y="381"/>
                    </a:lnTo>
                    <a:lnTo>
                      <a:pt x="0" y="381"/>
                    </a:lnTo>
                    <a:lnTo>
                      <a:pt x="0" y="371"/>
                    </a:lnTo>
                    <a:lnTo>
                      <a:pt x="35" y="347"/>
                    </a:lnTo>
                    <a:lnTo>
                      <a:pt x="68" y="324"/>
                    </a:lnTo>
                    <a:lnTo>
                      <a:pt x="113" y="303"/>
                    </a:lnTo>
                    <a:lnTo>
                      <a:pt x="147" y="280"/>
                    </a:lnTo>
                    <a:lnTo>
                      <a:pt x="190" y="258"/>
                    </a:lnTo>
                    <a:lnTo>
                      <a:pt x="225" y="235"/>
                    </a:lnTo>
                    <a:lnTo>
                      <a:pt x="269" y="213"/>
                    </a:lnTo>
                    <a:lnTo>
                      <a:pt x="303" y="190"/>
                    </a:lnTo>
                    <a:lnTo>
                      <a:pt x="347" y="169"/>
                    </a:lnTo>
                    <a:lnTo>
                      <a:pt x="382" y="146"/>
                    </a:lnTo>
                    <a:lnTo>
                      <a:pt x="427" y="123"/>
                    </a:lnTo>
                    <a:lnTo>
                      <a:pt x="460" y="101"/>
                    </a:lnTo>
                    <a:lnTo>
                      <a:pt x="505" y="78"/>
                    </a:lnTo>
                    <a:lnTo>
                      <a:pt x="539" y="57"/>
                    </a:lnTo>
                    <a:lnTo>
                      <a:pt x="584" y="34"/>
                    </a:lnTo>
                    <a:lnTo>
                      <a:pt x="617" y="12"/>
                    </a:lnTo>
                    <a:lnTo>
                      <a:pt x="650" y="12"/>
                    </a:lnTo>
                    <a:lnTo>
                      <a:pt x="673" y="12"/>
                    </a:lnTo>
                    <a:lnTo>
                      <a:pt x="695" y="12"/>
                    </a:lnTo>
                    <a:lnTo>
                      <a:pt x="718" y="12"/>
                    </a:lnTo>
                    <a:lnTo>
                      <a:pt x="740" y="12"/>
                    </a:lnTo>
                    <a:lnTo>
                      <a:pt x="762" y="12"/>
                    </a:lnTo>
                    <a:lnTo>
                      <a:pt x="784" y="12"/>
                    </a:lnTo>
                    <a:lnTo>
                      <a:pt x="807" y="12"/>
                    </a:lnTo>
                    <a:lnTo>
                      <a:pt x="831" y="12"/>
                    </a:lnTo>
                    <a:lnTo>
                      <a:pt x="853" y="12"/>
                    </a:lnTo>
                    <a:lnTo>
                      <a:pt x="876" y="12"/>
                    </a:lnTo>
                    <a:lnTo>
                      <a:pt x="897" y="12"/>
                    </a:lnTo>
                    <a:lnTo>
                      <a:pt x="920" y="12"/>
                    </a:lnTo>
                    <a:lnTo>
                      <a:pt x="942" y="0"/>
                    </a:lnTo>
                    <a:lnTo>
                      <a:pt x="965" y="0"/>
                    </a:lnTo>
                    <a:lnTo>
                      <a:pt x="988" y="0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6402240" y="5055840"/>
                <a:ext cx="251640" cy="149040"/>
              </a:xfrm>
              <a:custGeom>
                <a:avLst/>
                <a:gdLst/>
                <a:ahLst/>
                <a:rect l="l" t="t" r="r" b="b"/>
                <a:pathLst>
                  <a:path w="651" h="381">
                    <a:moveTo>
                      <a:pt x="651" y="0"/>
                    </a:moveTo>
                    <a:lnTo>
                      <a:pt x="616" y="12"/>
                    </a:lnTo>
                    <a:lnTo>
                      <a:pt x="572" y="34"/>
                    </a:lnTo>
                    <a:lnTo>
                      <a:pt x="527" y="57"/>
                    </a:lnTo>
                    <a:lnTo>
                      <a:pt x="482" y="68"/>
                    </a:lnTo>
                    <a:lnTo>
                      <a:pt x="437" y="90"/>
                    </a:lnTo>
                    <a:lnTo>
                      <a:pt x="403" y="113"/>
                    </a:lnTo>
                    <a:lnTo>
                      <a:pt x="358" y="134"/>
                    </a:lnTo>
                    <a:lnTo>
                      <a:pt x="313" y="157"/>
                    </a:lnTo>
                    <a:lnTo>
                      <a:pt x="269" y="179"/>
                    </a:lnTo>
                    <a:lnTo>
                      <a:pt x="235" y="202"/>
                    </a:lnTo>
                    <a:lnTo>
                      <a:pt x="191" y="235"/>
                    </a:lnTo>
                    <a:lnTo>
                      <a:pt x="158" y="258"/>
                    </a:lnTo>
                    <a:lnTo>
                      <a:pt x="112" y="291"/>
                    </a:lnTo>
                    <a:lnTo>
                      <a:pt x="79" y="314"/>
                    </a:lnTo>
                    <a:lnTo>
                      <a:pt x="33" y="347"/>
                    </a:lnTo>
                    <a:lnTo>
                      <a:pt x="0" y="3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6271560" y="5060520"/>
                <a:ext cx="237960" cy="139680"/>
              </a:xfrm>
              <a:custGeom>
                <a:avLst/>
                <a:gdLst/>
                <a:ahLst/>
                <a:rect l="l" t="t" r="r" b="b"/>
                <a:pathLst>
                  <a:path w="617" h="359">
                    <a:moveTo>
                      <a:pt x="0" y="359"/>
                    </a:moveTo>
                    <a:lnTo>
                      <a:pt x="35" y="335"/>
                    </a:lnTo>
                    <a:lnTo>
                      <a:pt x="68" y="312"/>
                    </a:lnTo>
                    <a:lnTo>
                      <a:pt x="113" y="291"/>
                    </a:lnTo>
                    <a:lnTo>
                      <a:pt x="147" y="268"/>
                    </a:lnTo>
                    <a:lnTo>
                      <a:pt x="190" y="246"/>
                    </a:lnTo>
                    <a:lnTo>
                      <a:pt x="225" y="223"/>
                    </a:lnTo>
                    <a:lnTo>
                      <a:pt x="269" y="201"/>
                    </a:lnTo>
                    <a:lnTo>
                      <a:pt x="303" y="178"/>
                    </a:lnTo>
                    <a:lnTo>
                      <a:pt x="347" y="157"/>
                    </a:lnTo>
                    <a:lnTo>
                      <a:pt x="382" y="134"/>
                    </a:lnTo>
                    <a:lnTo>
                      <a:pt x="427" y="111"/>
                    </a:lnTo>
                    <a:lnTo>
                      <a:pt x="460" y="89"/>
                    </a:lnTo>
                    <a:lnTo>
                      <a:pt x="505" y="66"/>
                    </a:lnTo>
                    <a:lnTo>
                      <a:pt x="539" y="45"/>
                    </a:lnTo>
                    <a:lnTo>
                      <a:pt x="584" y="22"/>
                    </a:lnTo>
                    <a:lnTo>
                      <a:pt x="6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6427800" y="5060520"/>
                <a:ext cx="532080" cy="183960"/>
              </a:xfrm>
              <a:custGeom>
                <a:avLst/>
                <a:gdLst/>
                <a:ahLst/>
                <a:rect l="l" t="t" r="r" b="b"/>
                <a:pathLst>
                  <a:path w="1368" h="470">
                    <a:moveTo>
                      <a:pt x="784" y="0"/>
                    </a:moveTo>
                    <a:lnTo>
                      <a:pt x="818" y="33"/>
                    </a:lnTo>
                    <a:lnTo>
                      <a:pt x="852" y="56"/>
                    </a:lnTo>
                    <a:lnTo>
                      <a:pt x="875" y="89"/>
                    </a:lnTo>
                    <a:lnTo>
                      <a:pt x="909" y="111"/>
                    </a:lnTo>
                    <a:lnTo>
                      <a:pt x="942" y="134"/>
                    </a:lnTo>
                    <a:lnTo>
                      <a:pt x="976" y="157"/>
                    </a:lnTo>
                    <a:lnTo>
                      <a:pt x="1009" y="178"/>
                    </a:lnTo>
                    <a:lnTo>
                      <a:pt x="1043" y="201"/>
                    </a:lnTo>
                    <a:lnTo>
                      <a:pt x="1077" y="223"/>
                    </a:lnTo>
                    <a:lnTo>
                      <a:pt x="1110" y="246"/>
                    </a:lnTo>
                    <a:lnTo>
                      <a:pt x="1155" y="268"/>
                    </a:lnTo>
                    <a:lnTo>
                      <a:pt x="1188" y="279"/>
                    </a:lnTo>
                    <a:lnTo>
                      <a:pt x="1221" y="302"/>
                    </a:lnTo>
                    <a:lnTo>
                      <a:pt x="1256" y="312"/>
                    </a:lnTo>
                    <a:lnTo>
                      <a:pt x="1301" y="324"/>
                    </a:lnTo>
                    <a:lnTo>
                      <a:pt x="1334" y="347"/>
                    </a:lnTo>
                    <a:lnTo>
                      <a:pt x="1346" y="359"/>
                    </a:lnTo>
                    <a:lnTo>
                      <a:pt x="1346" y="369"/>
                    </a:lnTo>
                    <a:lnTo>
                      <a:pt x="1357" y="369"/>
                    </a:lnTo>
                    <a:lnTo>
                      <a:pt x="1357" y="381"/>
                    </a:lnTo>
                    <a:lnTo>
                      <a:pt x="1368" y="381"/>
                    </a:lnTo>
                    <a:lnTo>
                      <a:pt x="1368" y="392"/>
                    </a:lnTo>
                    <a:lnTo>
                      <a:pt x="1368" y="404"/>
                    </a:lnTo>
                    <a:lnTo>
                      <a:pt x="1357" y="404"/>
                    </a:lnTo>
                    <a:lnTo>
                      <a:pt x="1346" y="414"/>
                    </a:lnTo>
                    <a:lnTo>
                      <a:pt x="1301" y="414"/>
                    </a:lnTo>
                    <a:lnTo>
                      <a:pt x="1256" y="426"/>
                    </a:lnTo>
                    <a:lnTo>
                      <a:pt x="1211" y="426"/>
                    </a:lnTo>
                    <a:lnTo>
                      <a:pt x="1176" y="426"/>
                    </a:lnTo>
                    <a:lnTo>
                      <a:pt x="1132" y="426"/>
                    </a:lnTo>
                    <a:lnTo>
                      <a:pt x="1087" y="426"/>
                    </a:lnTo>
                    <a:lnTo>
                      <a:pt x="1054" y="426"/>
                    </a:lnTo>
                    <a:lnTo>
                      <a:pt x="1009" y="426"/>
                    </a:lnTo>
                    <a:lnTo>
                      <a:pt x="976" y="426"/>
                    </a:lnTo>
                    <a:lnTo>
                      <a:pt x="930" y="426"/>
                    </a:lnTo>
                    <a:lnTo>
                      <a:pt x="886" y="437"/>
                    </a:lnTo>
                    <a:lnTo>
                      <a:pt x="852" y="437"/>
                    </a:lnTo>
                    <a:lnTo>
                      <a:pt x="807" y="437"/>
                    </a:lnTo>
                    <a:lnTo>
                      <a:pt x="762" y="437"/>
                    </a:lnTo>
                    <a:lnTo>
                      <a:pt x="718" y="437"/>
                    </a:lnTo>
                    <a:lnTo>
                      <a:pt x="673" y="448"/>
                    </a:lnTo>
                    <a:lnTo>
                      <a:pt x="662" y="437"/>
                    </a:lnTo>
                    <a:lnTo>
                      <a:pt x="650" y="437"/>
                    </a:lnTo>
                    <a:lnTo>
                      <a:pt x="628" y="437"/>
                    </a:lnTo>
                    <a:lnTo>
                      <a:pt x="617" y="437"/>
                    </a:lnTo>
                    <a:lnTo>
                      <a:pt x="605" y="437"/>
                    </a:lnTo>
                    <a:lnTo>
                      <a:pt x="584" y="437"/>
                    </a:lnTo>
                    <a:lnTo>
                      <a:pt x="572" y="437"/>
                    </a:lnTo>
                    <a:lnTo>
                      <a:pt x="561" y="437"/>
                    </a:lnTo>
                    <a:lnTo>
                      <a:pt x="549" y="437"/>
                    </a:lnTo>
                    <a:lnTo>
                      <a:pt x="528" y="437"/>
                    </a:lnTo>
                    <a:lnTo>
                      <a:pt x="516" y="448"/>
                    </a:lnTo>
                    <a:lnTo>
                      <a:pt x="505" y="448"/>
                    </a:lnTo>
                    <a:lnTo>
                      <a:pt x="483" y="448"/>
                    </a:lnTo>
                    <a:lnTo>
                      <a:pt x="472" y="437"/>
                    </a:lnTo>
                    <a:lnTo>
                      <a:pt x="460" y="437"/>
                    </a:lnTo>
                    <a:lnTo>
                      <a:pt x="449" y="437"/>
                    </a:lnTo>
                    <a:lnTo>
                      <a:pt x="415" y="437"/>
                    </a:lnTo>
                    <a:lnTo>
                      <a:pt x="392" y="437"/>
                    </a:lnTo>
                    <a:lnTo>
                      <a:pt x="358" y="437"/>
                    </a:lnTo>
                    <a:lnTo>
                      <a:pt x="336" y="437"/>
                    </a:lnTo>
                    <a:lnTo>
                      <a:pt x="314" y="437"/>
                    </a:lnTo>
                    <a:lnTo>
                      <a:pt x="281" y="448"/>
                    </a:lnTo>
                    <a:lnTo>
                      <a:pt x="258" y="448"/>
                    </a:lnTo>
                    <a:lnTo>
                      <a:pt x="236" y="448"/>
                    </a:lnTo>
                    <a:lnTo>
                      <a:pt x="202" y="448"/>
                    </a:lnTo>
                    <a:lnTo>
                      <a:pt x="180" y="460"/>
                    </a:lnTo>
                    <a:lnTo>
                      <a:pt x="157" y="460"/>
                    </a:lnTo>
                    <a:lnTo>
                      <a:pt x="135" y="460"/>
                    </a:lnTo>
                    <a:lnTo>
                      <a:pt x="101" y="460"/>
                    </a:lnTo>
                    <a:lnTo>
                      <a:pt x="79" y="470"/>
                    </a:lnTo>
                    <a:lnTo>
                      <a:pt x="56" y="470"/>
                    </a:lnTo>
                    <a:lnTo>
                      <a:pt x="23" y="470"/>
                    </a:lnTo>
                    <a:lnTo>
                      <a:pt x="23" y="460"/>
                    </a:lnTo>
                    <a:lnTo>
                      <a:pt x="12" y="460"/>
                    </a:lnTo>
                    <a:lnTo>
                      <a:pt x="12" y="448"/>
                    </a:lnTo>
                    <a:lnTo>
                      <a:pt x="0" y="448"/>
                    </a:lnTo>
                    <a:lnTo>
                      <a:pt x="0" y="437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4"/>
                    </a:lnTo>
                    <a:lnTo>
                      <a:pt x="135" y="302"/>
                    </a:lnTo>
                    <a:lnTo>
                      <a:pt x="146" y="302"/>
                    </a:lnTo>
                    <a:lnTo>
                      <a:pt x="168" y="302"/>
                    </a:lnTo>
                    <a:lnTo>
                      <a:pt x="180" y="291"/>
                    </a:lnTo>
                    <a:lnTo>
                      <a:pt x="202" y="279"/>
                    </a:lnTo>
                    <a:lnTo>
                      <a:pt x="213" y="279"/>
                    </a:lnTo>
                    <a:lnTo>
                      <a:pt x="236" y="268"/>
                    </a:lnTo>
                    <a:lnTo>
                      <a:pt x="246" y="256"/>
                    </a:lnTo>
                    <a:lnTo>
                      <a:pt x="269" y="246"/>
                    </a:lnTo>
                    <a:lnTo>
                      <a:pt x="281" y="235"/>
                    </a:lnTo>
                    <a:lnTo>
                      <a:pt x="302" y="223"/>
                    </a:lnTo>
                    <a:lnTo>
                      <a:pt x="314" y="212"/>
                    </a:lnTo>
                    <a:lnTo>
                      <a:pt x="336" y="212"/>
                    </a:lnTo>
                    <a:lnTo>
                      <a:pt x="347" y="201"/>
                    </a:lnTo>
                    <a:lnTo>
                      <a:pt x="370" y="190"/>
                    </a:lnTo>
                    <a:lnTo>
                      <a:pt x="380" y="178"/>
                    </a:lnTo>
                    <a:lnTo>
                      <a:pt x="403" y="178"/>
                    </a:lnTo>
                    <a:lnTo>
                      <a:pt x="762" y="0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6733440" y="5060520"/>
                <a:ext cx="212040" cy="135360"/>
              </a:xfrm>
              <a:custGeom>
                <a:avLst/>
                <a:gdLst/>
                <a:ahLst/>
                <a:rect l="l" t="t" r="r" b="b"/>
                <a:pathLst>
                  <a:path w="550" h="347">
                    <a:moveTo>
                      <a:pt x="0" y="0"/>
                    </a:moveTo>
                    <a:lnTo>
                      <a:pt x="34" y="33"/>
                    </a:lnTo>
                    <a:lnTo>
                      <a:pt x="68" y="56"/>
                    </a:lnTo>
                    <a:lnTo>
                      <a:pt x="91" y="89"/>
                    </a:lnTo>
                    <a:lnTo>
                      <a:pt x="125" y="111"/>
                    </a:lnTo>
                    <a:lnTo>
                      <a:pt x="158" y="134"/>
                    </a:lnTo>
                    <a:lnTo>
                      <a:pt x="192" y="157"/>
                    </a:lnTo>
                    <a:lnTo>
                      <a:pt x="225" y="178"/>
                    </a:lnTo>
                    <a:lnTo>
                      <a:pt x="259" y="201"/>
                    </a:lnTo>
                    <a:lnTo>
                      <a:pt x="293" y="223"/>
                    </a:lnTo>
                    <a:lnTo>
                      <a:pt x="326" y="246"/>
                    </a:lnTo>
                    <a:lnTo>
                      <a:pt x="371" y="268"/>
                    </a:lnTo>
                    <a:lnTo>
                      <a:pt x="404" y="279"/>
                    </a:lnTo>
                    <a:lnTo>
                      <a:pt x="437" y="302"/>
                    </a:lnTo>
                    <a:lnTo>
                      <a:pt x="472" y="312"/>
                    </a:lnTo>
                    <a:lnTo>
                      <a:pt x="517" y="324"/>
                    </a:lnTo>
                    <a:lnTo>
                      <a:pt x="550" y="34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6584400" y="5060520"/>
                <a:ext cx="149040" cy="69840"/>
              </a:xfrm>
              <a:custGeom>
                <a:avLst/>
                <a:gdLst/>
                <a:ahLst/>
                <a:rect l="l" t="t" r="r" b="b"/>
                <a:pathLst>
                  <a:path w="381" h="178">
                    <a:moveTo>
                      <a:pt x="0" y="178"/>
                    </a:moveTo>
                    <a:lnTo>
                      <a:pt x="359" y="0"/>
                    </a:lnTo>
                    <a:lnTo>
                      <a:pt x="38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6467400" y="5083920"/>
                <a:ext cx="443160" cy="139680"/>
              </a:xfrm>
              <a:custGeom>
                <a:avLst/>
                <a:gdLst/>
                <a:ahLst/>
                <a:rect l="l" t="t" r="r" b="b"/>
                <a:pathLst>
                  <a:path w="1143" h="358">
                    <a:moveTo>
                      <a:pt x="740" y="78"/>
                    </a:moveTo>
                    <a:lnTo>
                      <a:pt x="751" y="89"/>
                    </a:lnTo>
                    <a:lnTo>
                      <a:pt x="774" y="101"/>
                    </a:lnTo>
                    <a:lnTo>
                      <a:pt x="785" y="111"/>
                    </a:lnTo>
                    <a:lnTo>
                      <a:pt x="796" y="122"/>
                    </a:lnTo>
                    <a:lnTo>
                      <a:pt x="819" y="134"/>
                    </a:lnTo>
                    <a:lnTo>
                      <a:pt x="829" y="145"/>
                    </a:lnTo>
                    <a:lnTo>
                      <a:pt x="852" y="156"/>
                    </a:lnTo>
                    <a:lnTo>
                      <a:pt x="864" y="167"/>
                    </a:lnTo>
                    <a:lnTo>
                      <a:pt x="885" y="179"/>
                    </a:lnTo>
                    <a:lnTo>
                      <a:pt x="897" y="190"/>
                    </a:lnTo>
                    <a:lnTo>
                      <a:pt x="920" y="200"/>
                    </a:lnTo>
                    <a:lnTo>
                      <a:pt x="930" y="212"/>
                    </a:lnTo>
                    <a:lnTo>
                      <a:pt x="953" y="223"/>
                    </a:lnTo>
                    <a:lnTo>
                      <a:pt x="964" y="235"/>
                    </a:lnTo>
                    <a:lnTo>
                      <a:pt x="986" y="246"/>
                    </a:lnTo>
                    <a:lnTo>
                      <a:pt x="998" y="246"/>
                    </a:lnTo>
                    <a:lnTo>
                      <a:pt x="1009" y="256"/>
                    </a:lnTo>
                    <a:lnTo>
                      <a:pt x="1019" y="256"/>
                    </a:lnTo>
                    <a:lnTo>
                      <a:pt x="1019" y="268"/>
                    </a:lnTo>
                    <a:lnTo>
                      <a:pt x="1031" y="268"/>
                    </a:lnTo>
                    <a:lnTo>
                      <a:pt x="1042" y="268"/>
                    </a:lnTo>
                    <a:lnTo>
                      <a:pt x="1054" y="279"/>
                    </a:lnTo>
                    <a:lnTo>
                      <a:pt x="1065" y="279"/>
                    </a:lnTo>
                    <a:lnTo>
                      <a:pt x="1075" y="279"/>
                    </a:lnTo>
                    <a:lnTo>
                      <a:pt x="1087" y="291"/>
                    </a:lnTo>
                    <a:lnTo>
                      <a:pt x="1098" y="291"/>
                    </a:lnTo>
                    <a:lnTo>
                      <a:pt x="1110" y="291"/>
                    </a:lnTo>
                    <a:lnTo>
                      <a:pt x="1120" y="303"/>
                    </a:lnTo>
                    <a:lnTo>
                      <a:pt x="1132" y="313"/>
                    </a:lnTo>
                    <a:lnTo>
                      <a:pt x="1143" y="313"/>
                    </a:lnTo>
                    <a:lnTo>
                      <a:pt x="1075" y="325"/>
                    </a:lnTo>
                    <a:lnTo>
                      <a:pt x="998" y="325"/>
                    </a:lnTo>
                    <a:lnTo>
                      <a:pt x="930" y="325"/>
                    </a:lnTo>
                    <a:lnTo>
                      <a:pt x="864" y="336"/>
                    </a:lnTo>
                    <a:lnTo>
                      <a:pt x="785" y="336"/>
                    </a:lnTo>
                    <a:lnTo>
                      <a:pt x="717" y="336"/>
                    </a:lnTo>
                    <a:lnTo>
                      <a:pt x="638" y="336"/>
                    </a:lnTo>
                    <a:lnTo>
                      <a:pt x="572" y="348"/>
                    </a:lnTo>
                    <a:lnTo>
                      <a:pt x="504" y="348"/>
                    </a:lnTo>
                    <a:lnTo>
                      <a:pt x="427" y="348"/>
                    </a:lnTo>
                    <a:lnTo>
                      <a:pt x="359" y="348"/>
                    </a:lnTo>
                    <a:lnTo>
                      <a:pt x="279" y="348"/>
                    </a:lnTo>
                    <a:lnTo>
                      <a:pt x="213" y="358"/>
                    </a:lnTo>
                    <a:lnTo>
                      <a:pt x="145" y="358"/>
                    </a:lnTo>
                    <a:lnTo>
                      <a:pt x="79" y="358"/>
                    </a:lnTo>
                    <a:lnTo>
                      <a:pt x="11" y="358"/>
                    </a:lnTo>
                    <a:lnTo>
                      <a:pt x="0" y="348"/>
                    </a:lnTo>
                    <a:lnTo>
                      <a:pt x="0" y="336"/>
                    </a:lnTo>
                    <a:lnTo>
                      <a:pt x="11" y="336"/>
                    </a:lnTo>
                    <a:lnTo>
                      <a:pt x="11" y="325"/>
                    </a:lnTo>
                    <a:lnTo>
                      <a:pt x="23" y="325"/>
                    </a:lnTo>
                    <a:lnTo>
                      <a:pt x="34" y="325"/>
                    </a:lnTo>
                    <a:lnTo>
                      <a:pt x="34" y="313"/>
                    </a:lnTo>
                    <a:lnTo>
                      <a:pt x="45" y="313"/>
                    </a:lnTo>
                    <a:lnTo>
                      <a:pt x="56" y="313"/>
                    </a:lnTo>
                    <a:lnTo>
                      <a:pt x="56" y="303"/>
                    </a:lnTo>
                    <a:lnTo>
                      <a:pt x="67" y="303"/>
                    </a:lnTo>
                    <a:lnTo>
                      <a:pt x="67" y="291"/>
                    </a:lnTo>
                    <a:lnTo>
                      <a:pt x="79" y="291"/>
                    </a:lnTo>
                    <a:lnTo>
                      <a:pt x="89" y="279"/>
                    </a:lnTo>
                    <a:lnTo>
                      <a:pt x="101" y="279"/>
                    </a:lnTo>
                    <a:lnTo>
                      <a:pt x="112" y="268"/>
                    </a:lnTo>
                    <a:lnTo>
                      <a:pt x="124" y="268"/>
                    </a:lnTo>
                    <a:lnTo>
                      <a:pt x="135" y="268"/>
                    </a:lnTo>
                    <a:lnTo>
                      <a:pt x="135" y="256"/>
                    </a:lnTo>
                    <a:lnTo>
                      <a:pt x="145" y="256"/>
                    </a:lnTo>
                    <a:lnTo>
                      <a:pt x="180" y="235"/>
                    </a:lnTo>
                    <a:lnTo>
                      <a:pt x="213" y="223"/>
                    </a:lnTo>
                    <a:lnTo>
                      <a:pt x="246" y="200"/>
                    </a:lnTo>
                    <a:lnTo>
                      <a:pt x="279" y="190"/>
                    </a:lnTo>
                    <a:lnTo>
                      <a:pt x="302" y="167"/>
                    </a:lnTo>
                    <a:lnTo>
                      <a:pt x="336" y="156"/>
                    </a:lnTo>
                    <a:lnTo>
                      <a:pt x="371" y="134"/>
                    </a:lnTo>
                    <a:lnTo>
                      <a:pt x="404" y="122"/>
                    </a:lnTo>
                    <a:lnTo>
                      <a:pt x="437" y="101"/>
                    </a:lnTo>
                    <a:lnTo>
                      <a:pt x="471" y="89"/>
                    </a:lnTo>
                    <a:lnTo>
                      <a:pt x="504" y="66"/>
                    </a:lnTo>
                    <a:lnTo>
                      <a:pt x="538" y="55"/>
                    </a:lnTo>
                    <a:lnTo>
                      <a:pt x="561" y="33"/>
                    </a:lnTo>
                    <a:lnTo>
                      <a:pt x="594" y="22"/>
                    </a:lnTo>
                    <a:lnTo>
                      <a:pt x="627" y="10"/>
                    </a:lnTo>
                    <a:lnTo>
                      <a:pt x="661" y="0"/>
                    </a:lnTo>
                    <a:lnTo>
                      <a:pt x="673" y="0"/>
                    </a:lnTo>
                    <a:lnTo>
                      <a:pt x="683" y="10"/>
                    </a:lnTo>
                    <a:lnTo>
                      <a:pt x="683" y="22"/>
                    </a:lnTo>
                    <a:lnTo>
                      <a:pt x="694" y="22"/>
                    </a:lnTo>
                    <a:lnTo>
                      <a:pt x="694" y="33"/>
                    </a:lnTo>
                    <a:lnTo>
                      <a:pt x="706" y="33"/>
                    </a:lnTo>
                    <a:lnTo>
                      <a:pt x="706" y="45"/>
                    </a:lnTo>
                    <a:lnTo>
                      <a:pt x="717" y="55"/>
                    </a:lnTo>
                    <a:lnTo>
                      <a:pt x="728" y="66"/>
                    </a:lnTo>
                    <a:lnTo>
                      <a:pt x="740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6754680" y="5114160"/>
                <a:ext cx="99720" cy="65520"/>
              </a:xfrm>
              <a:custGeom>
                <a:avLst/>
                <a:gdLst/>
                <a:ahLst/>
                <a:rect l="l" t="t" r="r" b="b"/>
                <a:pathLst>
                  <a:path w="258" h="168">
                    <a:moveTo>
                      <a:pt x="0" y="0"/>
                    </a:moveTo>
                    <a:lnTo>
                      <a:pt x="11" y="11"/>
                    </a:lnTo>
                    <a:lnTo>
                      <a:pt x="34" y="23"/>
                    </a:lnTo>
                    <a:lnTo>
                      <a:pt x="45" y="33"/>
                    </a:lnTo>
                    <a:lnTo>
                      <a:pt x="56" y="44"/>
                    </a:lnTo>
                    <a:lnTo>
                      <a:pt x="79" y="56"/>
                    </a:lnTo>
                    <a:lnTo>
                      <a:pt x="89" y="67"/>
                    </a:lnTo>
                    <a:lnTo>
                      <a:pt x="112" y="78"/>
                    </a:lnTo>
                    <a:lnTo>
                      <a:pt x="124" y="89"/>
                    </a:lnTo>
                    <a:lnTo>
                      <a:pt x="145" y="101"/>
                    </a:lnTo>
                    <a:lnTo>
                      <a:pt x="157" y="112"/>
                    </a:lnTo>
                    <a:lnTo>
                      <a:pt x="180" y="122"/>
                    </a:lnTo>
                    <a:lnTo>
                      <a:pt x="190" y="134"/>
                    </a:lnTo>
                    <a:lnTo>
                      <a:pt x="213" y="145"/>
                    </a:lnTo>
                    <a:lnTo>
                      <a:pt x="224" y="157"/>
                    </a:lnTo>
                    <a:lnTo>
                      <a:pt x="246" y="168"/>
                    </a:lnTo>
                    <a:lnTo>
                      <a:pt x="258" y="1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6523560" y="5083920"/>
                <a:ext cx="200520" cy="100440"/>
              </a:xfrm>
              <a:custGeom>
                <a:avLst/>
                <a:gdLst/>
                <a:ahLst/>
                <a:rect l="l" t="t" r="r" b="b"/>
                <a:pathLst>
                  <a:path w="516" h="256">
                    <a:moveTo>
                      <a:pt x="0" y="256"/>
                    </a:moveTo>
                    <a:lnTo>
                      <a:pt x="35" y="235"/>
                    </a:lnTo>
                    <a:lnTo>
                      <a:pt x="68" y="223"/>
                    </a:lnTo>
                    <a:lnTo>
                      <a:pt x="101" y="200"/>
                    </a:lnTo>
                    <a:lnTo>
                      <a:pt x="134" y="190"/>
                    </a:lnTo>
                    <a:lnTo>
                      <a:pt x="157" y="167"/>
                    </a:lnTo>
                    <a:lnTo>
                      <a:pt x="191" y="156"/>
                    </a:lnTo>
                    <a:lnTo>
                      <a:pt x="226" y="134"/>
                    </a:lnTo>
                    <a:lnTo>
                      <a:pt x="259" y="122"/>
                    </a:lnTo>
                    <a:lnTo>
                      <a:pt x="292" y="101"/>
                    </a:lnTo>
                    <a:lnTo>
                      <a:pt x="326" y="89"/>
                    </a:lnTo>
                    <a:lnTo>
                      <a:pt x="359" y="66"/>
                    </a:lnTo>
                    <a:lnTo>
                      <a:pt x="393" y="55"/>
                    </a:lnTo>
                    <a:lnTo>
                      <a:pt x="416" y="33"/>
                    </a:lnTo>
                    <a:lnTo>
                      <a:pt x="449" y="22"/>
                    </a:lnTo>
                    <a:lnTo>
                      <a:pt x="482" y="10"/>
                    </a:lnTo>
                    <a:lnTo>
                      <a:pt x="5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6808320" y="5228280"/>
                <a:ext cx="582840" cy="86040"/>
              </a:xfrm>
              <a:custGeom>
                <a:avLst/>
                <a:gdLst/>
                <a:ahLst/>
                <a:rect l="l" t="t" r="r" b="b"/>
                <a:pathLst>
                  <a:path w="1501" h="224">
                    <a:moveTo>
                      <a:pt x="1478" y="44"/>
                    </a:moveTo>
                    <a:lnTo>
                      <a:pt x="1490" y="56"/>
                    </a:lnTo>
                    <a:lnTo>
                      <a:pt x="1490" y="67"/>
                    </a:lnTo>
                    <a:lnTo>
                      <a:pt x="1490" y="78"/>
                    </a:lnTo>
                    <a:lnTo>
                      <a:pt x="1490" y="89"/>
                    </a:lnTo>
                    <a:lnTo>
                      <a:pt x="1501" y="100"/>
                    </a:lnTo>
                    <a:lnTo>
                      <a:pt x="1501" y="112"/>
                    </a:lnTo>
                    <a:lnTo>
                      <a:pt x="1490" y="123"/>
                    </a:lnTo>
                    <a:lnTo>
                      <a:pt x="1490" y="133"/>
                    </a:lnTo>
                    <a:lnTo>
                      <a:pt x="1490" y="145"/>
                    </a:lnTo>
                    <a:lnTo>
                      <a:pt x="1490" y="156"/>
                    </a:lnTo>
                    <a:lnTo>
                      <a:pt x="1490" y="168"/>
                    </a:lnTo>
                    <a:lnTo>
                      <a:pt x="1490" y="179"/>
                    </a:lnTo>
                    <a:lnTo>
                      <a:pt x="1478" y="179"/>
                    </a:lnTo>
                    <a:lnTo>
                      <a:pt x="1478" y="190"/>
                    </a:lnTo>
                    <a:lnTo>
                      <a:pt x="1468" y="201"/>
                    </a:lnTo>
                    <a:lnTo>
                      <a:pt x="1457" y="201"/>
                    </a:lnTo>
                    <a:lnTo>
                      <a:pt x="1457" y="212"/>
                    </a:lnTo>
                    <a:lnTo>
                      <a:pt x="1445" y="212"/>
                    </a:lnTo>
                    <a:lnTo>
                      <a:pt x="1435" y="212"/>
                    </a:lnTo>
                    <a:lnTo>
                      <a:pt x="1435" y="224"/>
                    </a:lnTo>
                    <a:lnTo>
                      <a:pt x="1423" y="224"/>
                    </a:lnTo>
                    <a:lnTo>
                      <a:pt x="1344" y="224"/>
                    </a:lnTo>
                    <a:lnTo>
                      <a:pt x="1267" y="212"/>
                    </a:lnTo>
                    <a:lnTo>
                      <a:pt x="1177" y="212"/>
                    </a:lnTo>
                    <a:lnTo>
                      <a:pt x="1097" y="201"/>
                    </a:lnTo>
                    <a:lnTo>
                      <a:pt x="1020" y="201"/>
                    </a:lnTo>
                    <a:lnTo>
                      <a:pt x="942" y="201"/>
                    </a:lnTo>
                    <a:lnTo>
                      <a:pt x="863" y="190"/>
                    </a:lnTo>
                    <a:lnTo>
                      <a:pt x="785" y="190"/>
                    </a:lnTo>
                    <a:lnTo>
                      <a:pt x="694" y="190"/>
                    </a:lnTo>
                    <a:lnTo>
                      <a:pt x="616" y="190"/>
                    </a:lnTo>
                    <a:lnTo>
                      <a:pt x="538" y="190"/>
                    </a:lnTo>
                    <a:lnTo>
                      <a:pt x="459" y="190"/>
                    </a:lnTo>
                    <a:lnTo>
                      <a:pt x="381" y="190"/>
                    </a:lnTo>
                    <a:lnTo>
                      <a:pt x="302" y="201"/>
                    </a:lnTo>
                    <a:lnTo>
                      <a:pt x="223" y="201"/>
                    </a:lnTo>
                    <a:lnTo>
                      <a:pt x="144" y="201"/>
                    </a:lnTo>
                    <a:lnTo>
                      <a:pt x="134" y="212"/>
                    </a:lnTo>
                    <a:lnTo>
                      <a:pt x="123" y="212"/>
                    </a:lnTo>
                    <a:lnTo>
                      <a:pt x="111" y="212"/>
                    </a:lnTo>
                    <a:lnTo>
                      <a:pt x="101" y="212"/>
                    </a:lnTo>
                    <a:lnTo>
                      <a:pt x="89" y="212"/>
                    </a:lnTo>
                    <a:lnTo>
                      <a:pt x="78" y="212"/>
                    </a:lnTo>
                    <a:lnTo>
                      <a:pt x="67" y="212"/>
                    </a:lnTo>
                    <a:lnTo>
                      <a:pt x="55" y="212"/>
                    </a:lnTo>
                    <a:lnTo>
                      <a:pt x="45" y="212"/>
                    </a:lnTo>
                    <a:lnTo>
                      <a:pt x="33" y="212"/>
                    </a:lnTo>
                    <a:lnTo>
                      <a:pt x="22" y="201"/>
                    </a:lnTo>
                    <a:lnTo>
                      <a:pt x="10" y="201"/>
                    </a:lnTo>
                    <a:lnTo>
                      <a:pt x="10" y="190"/>
                    </a:lnTo>
                    <a:lnTo>
                      <a:pt x="0" y="190"/>
                    </a:lnTo>
                    <a:lnTo>
                      <a:pt x="0" y="179"/>
                    </a:lnTo>
                    <a:lnTo>
                      <a:pt x="0" y="168"/>
                    </a:lnTo>
                    <a:lnTo>
                      <a:pt x="33" y="156"/>
                    </a:lnTo>
                    <a:lnTo>
                      <a:pt x="67" y="145"/>
                    </a:lnTo>
                    <a:lnTo>
                      <a:pt x="101" y="133"/>
                    </a:lnTo>
                    <a:lnTo>
                      <a:pt x="134" y="123"/>
                    </a:lnTo>
                    <a:lnTo>
                      <a:pt x="167" y="112"/>
                    </a:lnTo>
                    <a:lnTo>
                      <a:pt x="200" y="112"/>
                    </a:lnTo>
                    <a:lnTo>
                      <a:pt x="235" y="100"/>
                    </a:lnTo>
                    <a:lnTo>
                      <a:pt x="268" y="89"/>
                    </a:lnTo>
                    <a:lnTo>
                      <a:pt x="302" y="78"/>
                    </a:lnTo>
                    <a:lnTo>
                      <a:pt x="336" y="78"/>
                    </a:lnTo>
                    <a:lnTo>
                      <a:pt x="370" y="67"/>
                    </a:lnTo>
                    <a:lnTo>
                      <a:pt x="403" y="56"/>
                    </a:lnTo>
                    <a:lnTo>
                      <a:pt x="437" y="56"/>
                    </a:lnTo>
                    <a:lnTo>
                      <a:pt x="470" y="44"/>
                    </a:lnTo>
                    <a:lnTo>
                      <a:pt x="504" y="44"/>
                    </a:lnTo>
                    <a:lnTo>
                      <a:pt x="538" y="34"/>
                    </a:lnTo>
                    <a:lnTo>
                      <a:pt x="594" y="34"/>
                    </a:lnTo>
                    <a:lnTo>
                      <a:pt x="649" y="34"/>
                    </a:lnTo>
                    <a:lnTo>
                      <a:pt x="694" y="34"/>
                    </a:lnTo>
                    <a:lnTo>
                      <a:pt x="752" y="22"/>
                    </a:lnTo>
                    <a:lnTo>
                      <a:pt x="807" y="22"/>
                    </a:lnTo>
                    <a:lnTo>
                      <a:pt x="863" y="22"/>
                    </a:lnTo>
                    <a:lnTo>
                      <a:pt x="919" y="22"/>
                    </a:lnTo>
                    <a:lnTo>
                      <a:pt x="975" y="11"/>
                    </a:lnTo>
                    <a:lnTo>
                      <a:pt x="1031" y="11"/>
                    </a:lnTo>
                    <a:lnTo>
                      <a:pt x="1076" y="11"/>
                    </a:lnTo>
                    <a:lnTo>
                      <a:pt x="1132" y="11"/>
                    </a:lnTo>
                    <a:lnTo>
                      <a:pt x="1189" y="11"/>
                    </a:lnTo>
                    <a:lnTo>
                      <a:pt x="1244" y="11"/>
                    </a:lnTo>
                    <a:lnTo>
                      <a:pt x="1300" y="11"/>
                    </a:lnTo>
                    <a:lnTo>
                      <a:pt x="1356" y="11"/>
                    </a:lnTo>
                    <a:lnTo>
                      <a:pt x="1401" y="11"/>
                    </a:lnTo>
                    <a:lnTo>
                      <a:pt x="1412" y="0"/>
                    </a:lnTo>
                    <a:lnTo>
                      <a:pt x="1423" y="0"/>
                    </a:lnTo>
                    <a:lnTo>
                      <a:pt x="1435" y="0"/>
                    </a:lnTo>
                    <a:lnTo>
                      <a:pt x="1445" y="0"/>
                    </a:lnTo>
                    <a:lnTo>
                      <a:pt x="1457" y="11"/>
                    </a:lnTo>
                    <a:lnTo>
                      <a:pt x="1457" y="22"/>
                    </a:lnTo>
                    <a:lnTo>
                      <a:pt x="1468" y="22"/>
                    </a:lnTo>
                    <a:lnTo>
                      <a:pt x="1478" y="34"/>
                    </a:lnTo>
                    <a:lnTo>
                      <a:pt x="1478" y="4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6859440" y="5240160"/>
                <a:ext cx="510840" cy="60840"/>
              </a:xfrm>
              <a:custGeom>
                <a:avLst/>
                <a:gdLst/>
                <a:ahLst/>
                <a:rect l="l" t="t" r="r" b="b"/>
                <a:pathLst>
                  <a:path w="1311" h="156">
                    <a:moveTo>
                      <a:pt x="1311" y="78"/>
                    </a:moveTo>
                    <a:lnTo>
                      <a:pt x="1311" y="89"/>
                    </a:lnTo>
                    <a:lnTo>
                      <a:pt x="1311" y="99"/>
                    </a:lnTo>
                    <a:lnTo>
                      <a:pt x="1311" y="111"/>
                    </a:lnTo>
                    <a:lnTo>
                      <a:pt x="1311" y="122"/>
                    </a:lnTo>
                    <a:lnTo>
                      <a:pt x="1301" y="122"/>
                    </a:lnTo>
                    <a:lnTo>
                      <a:pt x="1301" y="134"/>
                    </a:lnTo>
                    <a:lnTo>
                      <a:pt x="1289" y="145"/>
                    </a:lnTo>
                    <a:lnTo>
                      <a:pt x="1278" y="145"/>
                    </a:lnTo>
                    <a:lnTo>
                      <a:pt x="1245" y="145"/>
                    </a:lnTo>
                    <a:lnTo>
                      <a:pt x="1222" y="156"/>
                    </a:lnTo>
                    <a:lnTo>
                      <a:pt x="1189" y="156"/>
                    </a:lnTo>
                    <a:lnTo>
                      <a:pt x="1154" y="156"/>
                    </a:lnTo>
                    <a:lnTo>
                      <a:pt x="1133" y="156"/>
                    </a:lnTo>
                    <a:lnTo>
                      <a:pt x="1099" y="156"/>
                    </a:lnTo>
                    <a:lnTo>
                      <a:pt x="1077" y="156"/>
                    </a:lnTo>
                    <a:lnTo>
                      <a:pt x="1043" y="156"/>
                    </a:lnTo>
                    <a:lnTo>
                      <a:pt x="1010" y="145"/>
                    </a:lnTo>
                    <a:lnTo>
                      <a:pt x="986" y="145"/>
                    </a:lnTo>
                    <a:lnTo>
                      <a:pt x="952" y="145"/>
                    </a:lnTo>
                    <a:lnTo>
                      <a:pt x="919" y="145"/>
                    </a:lnTo>
                    <a:lnTo>
                      <a:pt x="897" y="145"/>
                    </a:lnTo>
                    <a:lnTo>
                      <a:pt x="863" y="145"/>
                    </a:lnTo>
                    <a:lnTo>
                      <a:pt x="841" y="145"/>
                    </a:lnTo>
                    <a:lnTo>
                      <a:pt x="808" y="145"/>
                    </a:lnTo>
                    <a:lnTo>
                      <a:pt x="752" y="145"/>
                    </a:lnTo>
                    <a:lnTo>
                      <a:pt x="707" y="134"/>
                    </a:lnTo>
                    <a:lnTo>
                      <a:pt x="651" y="134"/>
                    </a:lnTo>
                    <a:lnTo>
                      <a:pt x="606" y="134"/>
                    </a:lnTo>
                    <a:lnTo>
                      <a:pt x="549" y="134"/>
                    </a:lnTo>
                    <a:lnTo>
                      <a:pt x="505" y="134"/>
                    </a:lnTo>
                    <a:lnTo>
                      <a:pt x="448" y="134"/>
                    </a:lnTo>
                    <a:lnTo>
                      <a:pt x="404" y="134"/>
                    </a:lnTo>
                    <a:lnTo>
                      <a:pt x="359" y="134"/>
                    </a:lnTo>
                    <a:lnTo>
                      <a:pt x="303" y="134"/>
                    </a:lnTo>
                    <a:lnTo>
                      <a:pt x="258" y="134"/>
                    </a:lnTo>
                    <a:lnTo>
                      <a:pt x="202" y="134"/>
                    </a:lnTo>
                    <a:lnTo>
                      <a:pt x="157" y="134"/>
                    </a:lnTo>
                    <a:lnTo>
                      <a:pt x="101" y="134"/>
                    </a:lnTo>
                    <a:lnTo>
                      <a:pt x="56" y="134"/>
                    </a:lnTo>
                    <a:lnTo>
                      <a:pt x="0" y="145"/>
                    </a:lnTo>
                    <a:lnTo>
                      <a:pt x="33" y="122"/>
                    </a:lnTo>
                    <a:lnTo>
                      <a:pt x="66" y="111"/>
                    </a:lnTo>
                    <a:lnTo>
                      <a:pt x="111" y="99"/>
                    </a:lnTo>
                    <a:lnTo>
                      <a:pt x="146" y="89"/>
                    </a:lnTo>
                    <a:lnTo>
                      <a:pt x="180" y="89"/>
                    </a:lnTo>
                    <a:lnTo>
                      <a:pt x="214" y="78"/>
                    </a:lnTo>
                    <a:lnTo>
                      <a:pt x="247" y="66"/>
                    </a:lnTo>
                    <a:lnTo>
                      <a:pt x="280" y="66"/>
                    </a:lnTo>
                    <a:lnTo>
                      <a:pt x="325" y="55"/>
                    </a:lnTo>
                    <a:lnTo>
                      <a:pt x="359" y="55"/>
                    </a:lnTo>
                    <a:lnTo>
                      <a:pt x="392" y="55"/>
                    </a:lnTo>
                    <a:lnTo>
                      <a:pt x="426" y="44"/>
                    </a:lnTo>
                    <a:lnTo>
                      <a:pt x="470" y="44"/>
                    </a:lnTo>
                    <a:lnTo>
                      <a:pt x="505" y="44"/>
                    </a:lnTo>
                    <a:lnTo>
                      <a:pt x="538" y="33"/>
                    </a:lnTo>
                    <a:lnTo>
                      <a:pt x="583" y="33"/>
                    </a:lnTo>
                    <a:lnTo>
                      <a:pt x="618" y="33"/>
                    </a:lnTo>
                    <a:lnTo>
                      <a:pt x="661" y="33"/>
                    </a:lnTo>
                    <a:lnTo>
                      <a:pt x="707" y="33"/>
                    </a:lnTo>
                    <a:lnTo>
                      <a:pt x="752" y="33"/>
                    </a:lnTo>
                    <a:lnTo>
                      <a:pt x="785" y="33"/>
                    </a:lnTo>
                    <a:lnTo>
                      <a:pt x="829" y="33"/>
                    </a:lnTo>
                    <a:lnTo>
                      <a:pt x="874" y="33"/>
                    </a:lnTo>
                    <a:lnTo>
                      <a:pt x="919" y="33"/>
                    </a:lnTo>
                    <a:lnTo>
                      <a:pt x="963" y="22"/>
                    </a:lnTo>
                    <a:lnTo>
                      <a:pt x="1010" y="22"/>
                    </a:lnTo>
                    <a:lnTo>
                      <a:pt x="1055" y="22"/>
                    </a:lnTo>
                    <a:lnTo>
                      <a:pt x="1099" y="22"/>
                    </a:lnTo>
                    <a:lnTo>
                      <a:pt x="1133" y="22"/>
                    </a:lnTo>
                    <a:lnTo>
                      <a:pt x="1177" y="10"/>
                    </a:lnTo>
                    <a:lnTo>
                      <a:pt x="1222" y="10"/>
                    </a:lnTo>
                    <a:lnTo>
                      <a:pt x="1255" y="10"/>
                    </a:lnTo>
                    <a:lnTo>
                      <a:pt x="1267" y="0"/>
                    </a:lnTo>
                    <a:lnTo>
                      <a:pt x="1278" y="0"/>
                    </a:lnTo>
                    <a:lnTo>
                      <a:pt x="1289" y="0"/>
                    </a:lnTo>
                    <a:lnTo>
                      <a:pt x="1289" y="10"/>
                    </a:lnTo>
                    <a:lnTo>
                      <a:pt x="1301" y="10"/>
                    </a:lnTo>
                    <a:lnTo>
                      <a:pt x="1301" y="22"/>
                    </a:lnTo>
                    <a:lnTo>
                      <a:pt x="1301" y="33"/>
                    </a:lnTo>
                    <a:lnTo>
                      <a:pt x="1301" y="44"/>
                    </a:lnTo>
                    <a:lnTo>
                      <a:pt x="1311" y="44"/>
                    </a:lnTo>
                    <a:lnTo>
                      <a:pt x="1311" y="55"/>
                    </a:lnTo>
                    <a:lnTo>
                      <a:pt x="1311" y="66"/>
                    </a:lnTo>
                    <a:lnTo>
                      <a:pt x="1311" y="7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7" name=""/>
            <p:cNvGrpSpPr/>
            <p:nvPr/>
          </p:nvGrpSpPr>
          <p:grpSpPr>
            <a:xfrm>
              <a:off x="990720" y="2163600"/>
              <a:ext cx="1774440" cy="3146400"/>
              <a:chOff x="990720" y="2163600"/>
              <a:chExt cx="1774440" cy="3146400"/>
            </a:xfrm>
          </p:grpSpPr>
          <p:sp>
            <p:nvSpPr>
              <p:cNvPr id="7178" name=""/>
              <p:cNvSpPr/>
              <p:nvPr/>
            </p:nvSpPr>
            <p:spPr>
              <a:xfrm>
                <a:off x="1480680" y="2163600"/>
                <a:ext cx="801000" cy="623160"/>
              </a:xfrm>
              <a:custGeom>
                <a:avLst/>
                <a:gdLst/>
                <a:ahLst/>
                <a:rect l="l" t="t" r="r" b="b"/>
                <a:pathLst>
                  <a:path w="2058" h="1601">
                    <a:moveTo>
                      <a:pt x="1410" y="32"/>
                    </a:moveTo>
                    <a:lnTo>
                      <a:pt x="1422" y="53"/>
                    </a:lnTo>
                    <a:lnTo>
                      <a:pt x="1444" y="75"/>
                    </a:lnTo>
                    <a:lnTo>
                      <a:pt x="1464" y="96"/>
                    </a:lnTo>
                    <a:lnTo>
                      <a:pt x="1475" y="107"/>
                    </a:lnTo>
                    <a:lnTo>
                      <a:pt x="1496" y="127"/>
                    </a:lnTo>
                    <a:lnTo>
                      <a:pt x="1516" y="148"/>
                    </a:lnTo>
                    <a:lnTo>
                      <a:pt x="1538" y="160"/>
                    </a:lnTo>
                    <a:lnTo>
                      <a:pt x="1549" y="180"/>
                    </a:lnTo>
                    <a:lnTo>
                      <a:pt x="1571" y="202"/>
                    </a:lnTo>
                    <a:lnTo>
                      <a:pt x="1591" y="212"/>
                    </a:lnTo>
                    <a:lnTo>
                      <a:pt x="1612" y="234"/>
                    </a:lnTo>
                    <a:lnTo>
                      <a:pt x="1634" y="254"/>
                    </a:lnTo>
                    <a:lnTo>
                      <a:pt x="1655" y="275"/>
                    </a:lnTo>
                    <a:lnTo>
                      <a:pt x="1666" y="287"/>
                    </a:lnTo>
                    <a:lnTo>
                      <a:pt x="1687" y="307"/>
                    </a:lnTo>
                    <a:lnTo>
                      <a:pt x="1709" y="329"/>
                    </a:lnTo>
                    <a:lnTo>
                      <a:pt x="1709" y="339"/>
                    </a:lnTo>
                    <a:lnTo>
                      <a:pt x="1709" y="350"/>
                    </a:lnTo>
                    <a:lnTo>
                      <a:pt x="1709" y="361"/>
                    </a:lnTo>
                    <a:lnTo>
                      <a:pt x="1709" y="381"/>
                    </a:lnTo>
                    <a:lnTo>
                      <a:pt x="1709" y="393"/>
                    </a:lnTo>
                    <a:lnTo>
                      <a:pt x="1698" y="402"/>
                    </a:lnTo>
                    <a:lnTo>
                      <a:pt x="1698" y="414"/>
                    </a:lnTo>
                    <a:lnTo>
                      <a:pt x="1698" y="424"/>
                    </a:lnTo>
                    <a:lnTo>
                      <a:pt x="1687" y="434"/>
                    </a:lnTo>
                    <a:lnTo>
                      <a:pt x="1687" y="445"/>
                    </a:lnTo>
                    <a:lnTo>
                      <a:pt x="1677" y="467"/>
                    </a:lnTo>
                    <a:lnTo>
                      <a:pt x="1666" y="477"/>
                    </a:lnTo>
                    <a:lnTo>
                      <a:pt x="1655" y="488"/>
                    </a:lnTo>
                    <a:lnTo>
                      <a:pt x="1655" y="499"/>
                    </a:lnTo>
                    <a:lnTo>
                      <a:pt x="1644" y="509"/>
                    </a:lnTo>
                    <a:lnTo>
                      <a:pt x="1623" y="509"/>
                    </a:lnTo>
                    <a:lnTo>
                      <a:pt x="1602" y="509"/>
                    </a:lnTo>
                    <a:lnTo>
                      <a:pt x="1580" y="509"/>
                    </a:lnTo>
                    <a:lnTo>
                      <a:pt x="1559" y="509"/>
                    </a:lnTo>
                    <a:lnTo>
                      <a:pt x="1549" y="509"/>
                    </a:lnTo>
                    <a:lnTo>
                      <a:pt x="1528" y="509"/>
                    </a:lnTo>
                    <a:lnTo>
                      <a:pt x="1507" y="509"/>
                    </a:lnTo>
                    <a:lnTo>
                      <a:pt x="1496" y="499"/>
                    </a:lnTo>
                    <a:lnTo>
                      <a:pt x="1475" y="499"/>
                    </a:lnTo>
                    <a:lnTo>
                      <a:pt x="1453" y="488"/>
                    </a:lnTo>
                    <a:lnTo>
                      <a:pt x="1444" y="477"/>
                    </a:lnTo>
                    <a:lnTo>
                      <a:pt x="1422" y="477"/>
                    </a:lnTo>
                    <a:lnTo>
                      <a:pt x="1410" y="467"/>
                    </a:lnTo>
                    <a:lnTo>
                      <a:pt x="1390" y="467"/>
                    </a:lnTo>
                    <a:lnTo>
                      <a:pt x="1369" y="467"/>
                    </a:lnTo>
                    <a:lnTo>
                      <a:pt x="1358" y="456"/>
                    </a:lnTo>
                    <a:lnTo>
                      <a:pt x="1347" y="456"/>
                    </a:lnTo>
                    <a:lnTo>
                      <a:pt x="1337" y="456"/>
                    </a:lnTo>
                    <a:lnTo>
                      <a:pt x="1337" y="445"/>
                    </a:lnTo>
                    <a:lnTo>
                      <a:pt x="1326" y="456"/>
                    </a:lnTo>
                    <a:lnTo>
                      <a:pt x="1337" y="477"/>
                    </a:lnTo>
                    <a:lnTo>
                      <a:pt x="1347" y="488"/>
                    </a:lnTo>
                    <a:lnTo>
                      <a:pt x="1369" y="509"/>
                    </a:lnTo>
                    <a:lnTo>
                      <a:pt x="1380" y="520"/>
                    </a:lnTo>
                    <a:lnTo>
                      <a:pt x="1401" y="520"/>
                    </a:lnTo>
                    <a:lnTo>
                      <a:pt x="1422" y="531"/>
                    </a:lnTo>
                    <a:lnTo>
                      <a:pt x="1444" y="531"/>
                    </a:lnTo>
                    <a:lnTo>
                      <a:pt x="1453" y="541"/>
                    </a:lnTo>
                    <a:lnTo>
                      <a:pt x="1475" y="541"/>
                    </a:lnTo>
                    <a:lnTo>
                      <a:pt x="1496" y="541"/>
                    </a:lnTo>
                    <a:lnTo>
                      <a:pt x="1516" y="541"/>
                    </a:lnTo>
                    <a:lnTo>
                      <a:pt x="1549" y="541"/>
                    </a:lnTo>
                    <a:lnTo>
                      <a:pt x="1559" y="541"/>
                    </a:lnTo>
                    <a:lnTo>
                      <a:pt x="1580" y="541"/>
                    </a:lnTo>
                    <a:lnTo>
                      <a:pt x="1602" y="552"/>
                    </a:lnTo>
                    <a:lnTo>
                      <a:pt x="1623" y="552"/>
                    </a:lnTo>
                    <a:lnTo>
                      <a:pt x="1634" y="552"/>
                    </a:lnTo>
                    <a:lnTo>
                      <a:pt x="1634" y="541"/>
                    </a:lnTo>
                    <a:lnTo>
                      <a:pt x="1644" y="541"/>
                    </a:lnTo>
                    <a:lnTo>
                      <a:pt x="1644" y="531"/>
                    </a:lnTo>
                    <a:lnTo>
                      <a:pt x="1655" y="531"/>
                    </a:lnTo>
                    <a:lnTo>
                      <a:pt x="1666" y="531"/>
                    </a:lnTo>
                    <a:lnTo>
                      <a:pt x="1677" y="531"/>
                    </a:lnTo>
                    <a:lnTo>
                      <a:pt x="1677" y="520"/>
                    </a:lnTo>
                    <a:lnTo>
                      <a:pt x="1687" y="520"/>
                    </a:lnTo>
                    <a:lnTo>
                      <a:pt x="1698" y="520"/>
                    </a:lnTo>
                    <a:lnTo>
                      <a:pt x="1718" y="541"/>
                    </a:lnTo>
                    <a:lnTo>
                      <a:pt x="1730" y="573"/>
                    </a:lnTo>
                    <a:lnTo>
                      <a:pt x="1750" y="594"/>
                    </a:lnTo>
                    <a:lnTo>
                      <a:pt x="1761" y="615"/>
                    </a:lnTo>
                    <a:lnTo>
                      <a:pt x="1772" y="647"/>
                    </a:lnTo>
                    <a:lnTo>
                      <a:pt x="1782" y="669"/>
                    </a:lnTo>
                    <a:lnTo>
                      <a:pt x="1793" y="701"/>
                    </a:lnTo>
                    <a:lnTo>
                      <a:pt x="1804" y="722"/>
                    </a:lnTo>
                    <a:lnTo>
                      <a:pt x="1825" y="753"/>
                    </a:lnTo>
                    <a:lnTo>
                      <a:pt x="1836" y="774"/>
                    </a:lnTo>
                    <a:lnTo>
                      <a:pt x="1845" y="806"/>
                    </a:lnTo>
                    <a:lnTo>
                      <a:pt x="1857" y="828"/>
                    </a:lnTo>
                    <a:lnTo>
                      <a:pt x="1878" y="849"/>
                    </a:lnTo>
                    <a:lnTo>
                      <a:pt x="1899" y="869"/>
                    </a:lnTo>
                    <a:lnTo>
                      <a:pt x="1920" y="891"/>
                    </a:lnTo>
                    <a:lnTo>
                      <a:pt x="1941" y="912"/>
                    </a:lnTo>
                    <a:lnTo>
                      <a:pt x="1951" y="922"/>
                    </a:lnTo>
                    <a:lnTo>
                      <a:pt x="1963" y="933"/>
                    </a:lnTo>
                    <a:lnTo>
                      <a:pt x="1972" y="933"/>
                    </a:lnTo>
                    <a:lnTo>
                      <a:pt x="1984" y="943"/>
                    </a:lnTo>
                    <a:lnTo>
                      <a:pt x="1984" y="955"/>
                    </a:lnTo>
                    <a:lnTo>
                      <a:pt x="1994" y="955"/>
                    </a:lnTo>
                    <a:lnTo>
                      <a:pt x="2006" y="964"/>
                    </a:lnTo>
                    <a:lnTo>
                      <a:pt x="2015" y="964"/>
                    </a:lnTo>
                    <a:lnTo>
                      <a:pt x="2015" y="976"/>
                    </a:lnTo>
                    <a:lnTo>
                      <a:pt x="2026" y="986"/>
                    </a:lnTo>
                    <a:lnTo>
                      <a:pt x="2036" y="986"/>
                    </a:lnTo>
                    <a:lnTo>
                      <a:pt x="2036" y="996"/>
                    </a:lnTo>
                    <a:lnTo>
                      <a:pt x="2047" y="1007"/>
                    </a:lnTo>
                    <a:lnTo>
                      <a:pt x="2047" y="1018"/>
                    </a:lnTo>
                    <a:lnTo>
                      <a:pt x="2058" y="1028"/>
                    </a:lnTo>
                    <a:lnTo>
                      <a:pt x="2058" y="1039"/>
                    </a:lnTo>
                    <a:lnTo>
                      <a:pt x="2058" y="1061"/>
                    </a:lnTo>
                    <a:lnTo>
                      <a:pt x="2047" y="1082"/>
                    </a:lnTo>
                    <a:lnTo>
                      <a:pt x="2047" y="1103"/>
                    </a:lnTo>
                    <a:lnTo>
                      <a:pt x="2036" y="1114"/>
                    </a:lnTo>
                    <a:lnTo>
                      <a:pt x="2026" y="1135"/>
                    </a:lnTo>
                    <a:lnTo>
                      <a:pt x="2015" y="1145"/>
                    </a:lnTo>
                    <a:lnTo>
                      <a:pt x="2006" y="1166"/>
                    </a:lnTo>
                    <a:lnTo>
                      <a:pt x="1994" y="1188"/>
                    </a:lnTo>
                    <a:lnTo>
                      <a:pt x="1984" y="1198"/>
                    </a:lnTo>
                    <a:lnTo>
                      <a:pt x="1972" y="1209"/>
                    </a:lnTo>
                    <a:lnTo>
                      <a:pt x="1963" y="1230"/>
                    </a:lnTo>
                    <a:lnTo>
                      <a:pt x="1951" y="1241"/>
                    </a:lnTo>
                    <a:lnTo>
                      <a:pt x="1931" y="1263"/>
                    </a:lnTo>
                    <a:lnTo>
                      <a:pt x="1920" y="1272"/>
                    </a:lnTo>
                    <a:lnTo>
                      <a:pt x="1909" y="1293"/>
                    </a:lnTo>
                    <a:lnTo>
                      <a:pt x="1899" y="1304"/>
                    </a:lnTo>
                    <a:lnTo>
                      <a:pt x="1878" y="1325"/>
                    </a:lnTo>
                    <a:lnTo>
                      <a:pt x="1857" y="1336"/>
                    </a:lnTo>
                    <a:lnTo>
                      <a:pt x="1836" y="1358"/>
                    </a:lnTo>
                    <a:lnTo>
                      <a:pt x="1825" y="1368"/>
                    </a:lnTo>
                    <a:lnTo>
                      <a:pt x="1804" y="1390"/>
                    </a:lnTo>
                    <a:lnTo>
                      <a:pt x="1782" y="1399"/>
                    </a:lnTo>
                    <a:lnTo>
                      <a:pt x="1761" y="1411"/>
                    </a:lnTo>
                    <a:lnTo>
                      <a:pt x="1739" y="1431"/>
                    </a:lnTo>
                    <a:lnTo>
                      <a:pt x="1718" y="1442"/>
                    </a:lnTo>
                    <a:lnTo>
                      <a:pt x="1709" y="1453"/>
                    </a:lnTo>
                    <a:lnTo>
                      <a:pt x="1687" y="1474"/>
                    </a:lnTo>
                    <a:lnTo>
                      <a:pt x="1666" y="1483"/>
                    </a:lnTo>
                    <a:lnTo>
                      <a:pt x="1644" y="1495"/>
                    </a:lnTo>
                    <a:lnTo>
                      <a:pt x="1623" y="1505"/>
                    </a:lnTo>
                    <a:lnTo>
                      <a:pt x="1602" y="1517"/>
                    </a:lnTo>
                    <a:lnTo>
                      <a:pt x="1591" y="1517"/>
                    </a:lnTo>
                    <a:lnTo>
                      <a:pt x="1591" y="1526"/>
                    </a:lnTo>
                    <a:lnTo>
                      <a:pt x="1580" y="1526"/>
                    </a:lnTo>
                    <a:lnTo>
                      <a:pt x="1571" y="1526"/>
                    </a:lnTo>
                    <a:lnTo>
                      <a:pt x="1571" y="1538"/>
                    </a:lnTo>
                    <a:lnTo>
                      <a:pt x="1559" y="1538"/>
                    </a:lnTo>
                    <a:lnTo>
                      <a:pt x="1549" y="1548"/>
                    </a:lnTo>
                    <a:lnTo>
                      <a:pt x="1538" y="1548"/>
                    </a:lnTo>
                    <a:lnTo>
                      <a:pt x="1528" y="1548"/>
                    </a:lnTo>
                    <a:lnTo>
                      <a:pt x="1516" y="1558"/>
                    </a:lnTo>
                    <a:lnTo>
                      <a:pt x="1507" y="1558"/>
                    </a:lnTo>
                    <a:lnTo>
                      <a:pt x="1496" y="1558"/>
                    </a:lnTo>
                    <a:lnTo>
                      <a:pt x="1485" y="1569"/>
                    </a:lnTo>
                    <a:lnTo>
                      <a:pt x="1475" y="1569"/>
                    </a:lnTo>
                    <a:lnTo>
                      <a:pt x="1464" y="1569"/>
                    </a:lnTo>
                    <a:lnTo>
                      <a:pt x="1453" y="1569"/>
                    </a:lnTo>
                    <a:lnTo>
                      <a:pt x="1444" y="1580"/>
                    </a:lnTo>
                    <a:lnTo>
                      <a:pt x="1432" y="1580"/>
                    </a:lnTo>
                    <a:lnTo>
                      <a:pt x="1422" y="1590"/>
                    </a:lnTo>
                    <a:lnTo>
                      <a:pt x="1410" y="1590"/>
                    </a:lnTo>
                    <a:lnTo>
                      <a:pt x="1401" y="1590"/>
                    </a:lnTo>
                    <a:lnTo>
                      <a:pt x="1390" y="1601"/>
                    </a:lnTo>
                    <a:lnTo>
                      <a:pt x="1380" y="1601"/>
                    </a:lnTo>
                    <a:lnTo>
                      <a:pt x="1369" y="1601"/>
                    </a:lnTo>
                    <a:lnTo>
                      <a:pt x="1358" y="1601"/>
                    </a:lnTo>
                    <a:lnTo>
                      <a:pt x="1347" y="1601"/>
                    </a:lnTo>
                    <a:lnTo>
                      <a:pt x="1337" y="1601"/>
                    </a:lnTo>
                    <a:lnTo>
                      <a:pt x="1326" y="1601"/>
                    </a:lnTo>
                    <a:lnTo>
                      <a:pt x="1317" y="1601"/>
                    </a:lnTo>
                    <a:lnTo>
                      <a:pt x="1305" y="1601"/>
                    </a:lnTo>
                    <a:lnTo>
                      <a:pt x="1295" y="1590"/>
                    </a:lnTo>
                    <a:lnTo>
                      <a:pt x="1283" y="1580"/>
                    </a:lnTo>
                    <a:lnTo>
                      <a:pt x="1274" y="1580"/>
                    </a:lnTo>
                    <a:lnTo>
                      <a:pt x="1274" y="1569"/>
                    </a:lnTo>
                    <a:lnTo>
                      <a:pt x="1263" y="1558"/>
                    </a:lnTo>
                    <a:lnTo>
                      <a:pt x="1263" y="1548"/>
                    </a:lnTo>
                    <a:lnTo>
                      <a:pt x="1252" y="1538"/>
                    </a:lnTo>
                    <a:lnTo>
                      <a:pt x="1242" y="1526"/>
                    </a:lnTo>
                    <a:lnTo>
                      <a:pt x="1242" y="1517"/>
                    </a:lnTo>
                    <a:lnTo>
                      <a:pt x="1231" y="1505"/>
                    </a:lnTo>
                    <a:lnTo>
                      <a:pt x="1220" y="1495"/>
                    </a:lnTo>
                    <a:lnTo>
                      <a:pt x="1210" y="1483"/>
                    </a:lnTo>
                    <a:lnTo>
                      <a:pt x="1188" y="1483"/>
                    </a:lnTo>
                    <a:lnTo>
                      <a:pt x="1178" y="1483"/>
                    </a:lnTo>
                    <a:lnTo>
                      <a:pt x="1156" y="1474"/>
                    </a:lnTo>
                    <a:lnTo>
                      <a:pt x="1136" y="1474"/>
                    </a:lnTo>
                    <a:lnTo>
                      <a:pt x="1115" y="1474"/>
                    </a:lnTo>
                    <a:lnTo>
                      <a:pt x="1093" y="1474"/>
                    </a:lnTo>
                    <a:lnTo>
                      <a:pt x="1072" y="1463"/>
                    </a:lnTo>
                    <a:lnTo>
                      <a:pt x="1051" y="1463"/>
                    </a:lnTo>
                    <a:lnTo>
                      <a:pt x="1029" y="1463"/>
                    </a:lnTo>
                    <a:lnTo>
                      <a:pt x="1009" y="1453"/>
                    </a:lnTo>
                    <a:lnTo>
                      <a:pt x="988" y="1453"/>
                    </a:lnTo>
                    <a:lnTo>
                      <a:pt x="966" y="1442"/>
                    </a:lnTo>
                    <a:lnTo>
                      <a:pt x="945" y="1442"/>
                    </a:lnTo>
                    <a:lnTo>
                      <a:pt x="934" y="1431"/>
                    </a:lnTo>
                    <a:lnTo>
                      <a:pt x="913" y="1431"/>
                    </a:lnTo>
                    <a:lnTo>
                      <a:pt x="891" y="1421"/>
                    </a:lnTo>
                    <a:lnTo>
                      <a:pt x="870" y="1411"/>
                    </a:lnTo>
                    <a:lnTo>
                      <a:pt x="849" y="1399"/>
                    </a:lnTo>
                    <a:lnTo>
                      <a:pt x="839" y="1358"/>
                    </a:lnTo>
                    <a:lnTo>
                      <a:pt x="870" y="1304"/>
                    </a:lnTo>
                    <a:lnTo>
                      <a:pt x="902" y="1251"/>
                    </a:lnTo>
                    <a:lnTo>
                      <a:pt x="923" y="1198"/>
                    </a:lnTo>
                    <a:lnTo>
                      <a:pt x="955" y="1135"/>
                    </a:lnTo>
                    <a:lnTo>
                      <a:pt x="976" y="1082"/>
                    </a:lnTo>
                    <a:lnTo>
                      <a:pt x="1009" y="1028"/>
                    </a:lnTo>
                    <a:lnTo>
                      <a:pt x="1029" y="964"/>
                    </a:lnTo>
                    <a:lnTo>
                      <a:pt x="1061" y="912"/>
                    </a:lnTo>
                    <a:lnTo>
                      <a:pt x="1083" y="859"/>
                    </a:lnTo>
                    <a:lnTo>
                      <a:pt x="1115" y="796"/>
                    </a:lnTo>
                    <a:lnTo>
                      <a:pt x="1136" y="742"/>
                    </a:lnTo>
                    <a:lnTo>
                      <a:pt x="1167" y="689"/>
                    </a:lnTo>
                    <a:lnTo>
                      <a:pt x="1199" y="636"/>
                    </a:lnTo>
                    <a:lnTo>
                      <a:pt x="1231" y="573"/>
                    </a:lnTo>
                    <a:lnTo>
                      <a:pt x="1263" y="520"/>
                    </a:lnTo>
                    <a:lnTo>
                      <a:pt x="1295" y="467"/>
                    </a:lnTo>
                    <a:lnTo>
                      <a:pt x="1305" y="467"/>
                    </a:lnTo>
                    <a:lnTo>
                      <a:pt x="1305" y="456"/>
                    </a:lnTo>
                    <a:lnTo>
                      <a:pt x="1274" y="477"/>
                    </a:lnTo>
                    <a:lnTo>
                      <a:pt x="1242" y="499"/>
                    </a:lnTo>
                    <a:lnTo>
                      <a:pt x="1210" y="531"/>
                    </a:lnTo>
                    <a:lnTo>
                      <a:pt x="1188" y="562"/>
                    </a:lnTo>
                    <a:lnTo>
                      <a:pt x="1167" y="604"/>
                    </a:lnTo>
                    <a:lnTo>
                      <a:pt x="1156" y="615"/>
                    </a:lnTo>
                    <a:lnTo>
                      <a:pt x="1115" y="710"/>
                    </a:lnTo>
                    <a:lnTo>
                      <a:pt x="1061" y="806"/>
                    </a:lnTo>
                    <a:lnTo>
                      <a:pt x="1009" y="901"/>
                    </a:lnTo>
                    <a:lnTo>
                      <a:pt x="955" y="986"/>
                    </a:lnTo>
                    <a:lnTo>
                      <a:pt x="902" y="1082"/>
                    </a:lnTo>
                    <a:lnTo>
                      <a:pt x="882" y="1114"/>
                    </a:lnTo>
                    <a:lnTo>
                      <a:pt x="849" y="1166"/>
                    </a:lnTo>
                    <a:lnTo>
                      <a:pt x="818" y="1220"/>
                    </a:lnTo>
                    <a:lnTo>
                      <a:pt x="786" y="1263"/>
                    </a:lnTo>
                    <a:lnTo>
                      <a:pt x="743" y="1315"/>
                    </a:lnTo>
                    <a:lnTo>
                      <a:pt x="712" y="1368"/>
                    </a:lnTo>
                    <a:lnTo>
                      <a:pt x="701" y="1378"/>
                    </a:lnTo>
                    <a:lnTo>
                      <a:pt x="680" y="1378"/>
                    </a:lnTo>
                    <a:lnTo>
                      <a:pt x="669" y="1368"/>
                    </a:lnTo>
                    <a:lnTo>
                      <a:pt x="648" y="1368"/>
                    </a:lnTo>
                    <a:lnTo>
                      <a:pt x="637" y="1358"/>
                    </a:lnTo>
                    <a:lnTo>
                      <a:pt x="616" y="1347"/>
                    </a:lnTo>
                    <a:lnTo>
                      <a:pt x="616" y="1336"/>
                    </a:lnTo>
                    <a:lnTo>
                      <a:pt x="499" y="1230"/>
                    </a:lnTo>
                    <a:lnTo>
                      <a:pt x="383" y="1124"/>
                    </a:lnTo>
                    <a:lnTo>
                      <a:pt x="277" y="996"/>
                    </a:lnTo>
                    <a:lnTo>
                      <a:pt x="160" y="880"/>
                    </a:lnTo>
                    <a:lnTo>
                      <a:pt x="54" y="753"/>
                    </a:lnTo>
                    <a:lnTo>
                      <a:pt x="22" y="722"/>
                    </a:lnTo>
                    <a:lnTo>
                      <a:pt x="22" y="701"/>
                    </a:lnTo>
                    <a:lnTo>
                      <a:pt x="12" y="689"/>
                    </a:lnTo>
                    <a:lnTo>
                      <a:pt x="0" y="679"/>
                    </a:lnTo>
                    <a:lnTo>
                      <a:pt x="0" y="658"/>
                    </a:lnTo>
                    <a:lnTo>
                      <a:pt x="12" y="647"/>
                    </a:lnTo>
                    <a:lnTo>
                      <a:pt x="22" y="647"/>
                    </a:lnTo>
                    <a:lnTo>
                      <a:pt x="224" y="509"/>
                    </a:lnTo>
                    <a:lnTo>
                      <a:pt x="426" y="381"/>
                    </a:lnTo>
                    <a:lnTo>
                      <a:pt x="626" y="266"/>
                    </a:lnTo>
                    <a:lnTo>
                      <a:pt x="839" y="170"/>
                    </a:lnTo>
                    <a:lnTo>
                      <a:pt x="1061" y="75"/>
                    </a:lnTo>
                    <a:lnTo>
                      <a:pt x="1136" y="53"/>
                    </a:lnTo>
                    <a:lnTo>
                      <a:pt x="1188" y="32"/>
                    </a:lnTo>
                    <a:lnTo>
                      <a:pt x="1242" y="21"/>
                    </a:lnTo>
                    <a:lnTo>
                      <a:pt x="1295" y="10"/>
                    </a:lnTo>
                    <a:lnTo>
                      <a:pt x="1337" y="0"/>
                    </a:lnTo>
                    <a:lnTo>
                      <a:pt x="1390" y="21"/>
                    </a:lnTo>
                    <a:lnTo>
                      <a:pt x="1410" y="3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029680" y="2175120"/>
                <a:ext cx="116280" cy="114120"/>
              </a:xfrm>
              <a:custGeom>
                <a:avLst/>
                <a:gdLst/>
                <a:ahLst/>
                <a:rect l="l" t="t" r="r" b="b"/>
                <a:pathLst>
                  <a:path w="299" h="297">
                    <a:moveTo>
                      <a:pt x="0" y="0"/>
                    </a:moveTo>
                    <a:lnTo>
                      <a:pt x="12" y="21"/>
                    </a:lnTo>
                    <a:lnTo>
                      <a:pt x="34" y="43"/>
                    </a:lnTo>
                    <a:lnTo>
                      <a:pt x="54" y="64"/>
                    </a:lnTo>
                    <a:lnTo>
                      <a:pt x="65" y="75"/>
                    </a:lnTo>
                    <a:lnTo>
                      <a:pt x="86" y="95"/>
                    </a:lnTo>
                    <a:lnTo>
                      <a:pt x="106" y="116"/>
                    </a:lnTo>
                    <a:lnTo>
                      <a:pt x="128" y="128"/>
                    </a:lnTo>
                    <a:lnTo>
                      <a:pt x="139" y="148"/>
                    </a:lnTo>
                    <a:lnTo>
                      <a:pt x="161" y="170"/>
                    </a:lnTo>
                    <a:lnTo>
                      <a:pt x="181" y="180"/>
                    </a:lnTo>
                    <a:lnTo>
                      <a:pt x="202" y="202"/>
                    </a:lnTo>
                    <a:lnTo>
                      <a:pt x="224" y="222"/>
                    </a:lnTo>
                    <a:lnTo>
                      <a:pt x="245" y="243"/>
                    </a:lnTo>
                    <a:lnTo>
                      <a:pt x="256" y="255"/>
                    </a:lnTo>
                    <a:lnTo>
                      <a:pt x="277" y="275"/>
                    </a:lnTo>
                    <a:lnTo>
                      <a:pt x="299" y="29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120760" y="2289240"/>
                <a:ext cx="25200" cy="72360"/>
              </a:xfrm>
              <a:custGeom>
                <a:avLst/>
                <a:gdLst/>
                <a:ahLst/>
                <a:rect l="l" t="t" r="r" b="b"/>
                <a:pathLst>
                  <a:path w="65" h="180">
                    <a:moveTo>
                      <a:pt x="65" y="0"/>
                    </a:moveTo>
                    <a:lnTo>
                      <a:pt x="65" y="10"/>
                    </a:lnTo>
                    <a:lnTo>
                      <a:pt x="65" y="21"/>
                    </a:lnTo>
                    <a:lnTo>
                      <a:pt x="65" y="32"/>
                    </a:lnTo>
                    <a:lnTo>
                      <a:pt x="65" y="52"/>
                    </a:lnTo>
                    <a:lnTo>
                      <a:pt x="65" y="64"/>
                    </a:lnTo>
                    <a:lnTo>
                      <a:pt x="54" y="73"/>
                    </a:lnTo>
                    <a:lnTo>
                      <a:pt x="54" y="85"/>
                    </a:lnTo>
                    <a:lnTo>
                      <a:pt x="54" y="95"/>
                    </a:lnTo>
                    <a:lnTo>
                      <a:pt x="43" y="105"/>
                    </a:lnTo>
                    <a:lnTo>
                      <a:pt x="43" y="116"/>
                    </a:lnTo>
                    <a:lnTo>
                      <a:pt x="33" y="138"/>
                    </a:lnTo>
                    <a:lnTo>
                      <a:pt x="22" y="148"/>
                    </a:lnTo>
                    <a:lnTo>
                      <a:pt x="11" y="159"/>
                    </a:lnTo>
                    <a:lnTo>
                      <a:pt x="11" y="170"/>
                    </a:lnTo>
                    <a:lnTo>
                      <a:pt x="0" y="18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2141640" y="2364480"/>
                <a:ext cx="95760" cy="153720"/>
              </a:xfrm>
              <a:custGeom>
                <a:avLst/>
                <a:gdLst/>
                <a:ahLst/>
                <a:rect l="l" t="t" r="r" b="b"/>
                <a:pathLst>
                  <a:path w="243" h="392">
                    <a:moveTo>
                      <a:pt x="0" y="0"/>
                    </a:moveTo>
                    <a:lnTo>
                      <a:pt x="20" y="21"/>
                    </a:lnTo>
                    <a:lnTo>
                      <a:pt x="32" y="53"/>
                    </a:lnTo>
                    <a:lnTo>
                      <a:pt x="52" y="74"/>
                    </a:lnTo>
                    <a:lnTo>
                      <a:pt x="63" y="95"/>
                    </a:lnTo>
                    <a:lnTo>
                      <a:pt x="74" y="127"/>
                    </a:lnTo>
                    <a:lnTo>
                      <a:pt x="84" y="149"/>
                    </a:lnTo>
                    <a:lnTo>
                      <a:pt x="95" y="181"/>
                    </a:lnTo>
                    <a:lnTo>
                      <a:pt x="106" y="202"/>
                    </a:lnTo>
                    <a:lnTo>
                      <a:pt x="127" y="233"/>
                    </a:lnTo>
                    <a:lnTo>
                      <a:pt x="138" y="254"/>
                    </a:lnTo>
                    <a:lnTo>
                      <a:pt x="147" y="286"/>
                    </a:lnTo>
                    <a:lnTo>
                      <a:pt x="159" y="308"/>
                    </a:lnTo>
                    <a:lnTo>
                      <a:pt x="180" y="329"/>
                    </a:lnTo>
                    <a:lnTo>
                      <a:pt x="201" y="349"/>
                    </a:lnTo>
                    <a:lnTo>
                      <a:pt x="222" y="371"/>
                    </a:lnTo>
                    <a:lnTo>
                      <a:pt x="243" y="3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2223720" y="2562480"/>
                <a:ext cx="57960" cy="102600"/>
              </a:xfrm>
              <a:custGeom>
                <a:avLst/>
                <a:gdLst/>
                <a:ahLst/>
                <a:rect l="l" t="t" r="r" b="b"/>
                <a:pathLst>
                  <a:path w="149" h="265">
                    <a:moveTo>
                      <a:pt x="149" y="0"/>
                    </a:moveTo>
                    <a:lnTo>
                      <a:pt x="149" y="11"/>
                    </a:lnTo>
                    <a:lnTo>
                      <a:pt x="149" y="33"/>
                    </a:lnTo>
                    <a:lnTo>
                      <a:pt x="138" y="54"/>
                    </a:lnTo>
                    <a:lnTo>
                      <a:pt x="138" y="75"/>
                    </a:lnTo>
                    <a:lnTo>
                      <a:pt x="127" y="86"/>
                    </a:lnTo>
                    <a:lnTo>
                      <a:pt x="117" y="107"/>
                    </a:lnTo>
                    <a:lnTo>
                      <a:pt x="106" y="117"/>
                    </a:lnTo>
                    <a:lnTo>
                      <a:pt x="97" y="138"/>
                    </a:lnTo>
                    <a:lnTo>
                      <a:pt x="85" y="160"/>
                    </a:lnTo>
                    <a:lnTo>
                      <a:pt x="75" y="170"/>
                    </a:lnTo>
                    <a:lnTo>
                      <a:pt x="63" y="181"/>
                    </a:lnTo>
                    <a:lnTo>
                      <a:pt x="54" y="202"/>
                    </a:lnTo>
                    <a:lnTo>
                      <a:pt x="42" y="213"/>
                    </a:lnTo>
                    <a:lnTo>
                      <a:pt x="22" y="235"/>
                    </a:lnTo>
                    <a:lnTo>
                      <a:pt x="11" y="244"/>
                    </a:lnTo>
                    <a:lnTo>
                      <a:pt x="0" y="2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104560" y="2665080"/>
                <a:ext cx="118800" cy="86760"/>
              </a:xfrm>
              <a:custGeom>
                <a:avLst/>
                <a:gdLst/>
                <a:ahLst/>
                <a:rect l="l" t="t" r="r" b="b"/>
                <a:pathLst>
                  <a:path w="307" h="224">
                    <a:moveTo>
                      <a:pt x="307" y="0"/>
                    </a:moveTo>
                    <a:lnTo>
                      <a:pt x="297" y="11"/>
                    </a:lnTo>
                    <a:lnTo>
                      <a:pt x="276" y="32"/>
                    </a:lnTo>
                    <a:lnTo>
                      <a:pt x="255" y="43"/>
                    </a:lnTo>
                    <a:lnTo>
                      <a:pt x="234" y="65"/>
                    </a:lnTo>
                    <a:lnTo>
                      <a:pt x="223" y="75"/>
                    </a:lnTo>
                    <a:lnTo>
                      <a:pt x="202" y="97"/>
                    </a:lnTo>
                    <a:lnTo>
                      <a:pt x="180" y="106"/>
                    </a:lnTo>
                    <a:lnTo>
                      <a:pt x="159" y="118"/>
                    </a:lnTo>
                    <a:lnTo>
                      <a:pt x="137" y="138"/>
                    </a:lnTo>
                    <a:lnTo>
                      <a:pt x="116" y="149"/>
                    </a:lnTo>
                    <a:lnTo>
                      <a:pt x="107" y="160"/>
                    </a:lnTo>
                    <a:lnTo>
                      <a:pt x="85" y="181"/>
                    </a:lnTo>
                    <a:lnTo>
                      <a:pt x="64" y="190"/>
                    </a:lnTo>
                    <a:lnTo>
                      <a:pt x="42" y="202"/>
                    </a:lnTo>
                    <a:lnTo>
                      <a:pt x="21" y="212"/>
                    </a:lnTo>
                    <a:lnTo>
                      <a:pt x="0" y="22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1807920" y="2343240"/>
                <a:ext cx="177120" cy="347400"/>
              </a:xfrm>
              <a:custGeom>
                <a:avLst/>
                <a:gdLst/>
                <a:ahLst/>
                <a:rect l="l" t="t" r="r" b="b"/>
                <a:pathLst>
                  <a:path w="456" h="891">
                    <a:moveTo>
                      <a:pt x="0" y="891"/>
                    </a:moveTo>
                    <a:lnTo>
                      <a:pt x="31" y="837"/>
                    </a:lnTo>
                    <a:lnTo>
                      <a:pt x="63" y="784"/>
                    </a:lnTo>
                    <a:lnTo>
                      <a:pt x="84" y="731"/>
                    </a:lnTo>
                    <a:lnTo>
                      <a:pt x="116" y="668"/>
                    </a:lnTo>
                    <a:lnTo>
                      <a:pt x="137" y="615"/>
                    </a:lnTo>
                    <a:lnTo>
                      <a:pt x="170" y="561"/>
                    </a:lnTo>
                    <a:lnTo>
                      <a:pt x="190" y="497"/>
                    </a:lnTo>
                    <a:lnTo>
                      <a:pt x="222" y="445"/>
                    </a:lnTo>
                    <a:lnTo>
                      <a:pt x="244" y="392"/>
                    </a:lnTo>
                    <a:lnTo>
                      <a:pt x="276" y="329"/>
                    </a:lnTo>
                    <a:lnTo>
                      <a:pt x="297" y="275"/>
                    </a:lnTo>
                    <a:lnTo>
                      <a:pt x="328" y="222"/>
                    </a:lnTo>
                    <a:lnTo>
                      <a:pt x="360" y="169"/>
                    </a:lnTo>
                    <a:lnTo>
                      <a:pt x="392" y="106"/>
                    </a:lnTo>
                    <a:lnTo>
                      <a:pt x="424" y="53"/>
                    </a:lnTo>
                    <a:lnTo>
                      <a:pt x="45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1931760" y="2340720"/>
                <a:ext cx="57960" cy="60840"/>
              </a:xfrm>
              <a:custGeom>
                <a:avLst/>
                <a:gdLst/>
                <a:ahLst/>
                <a:rect l="l" t="t" r="r" b="b"/>
                <a:pathLst>
                  <a:path w="149" h="159">
                    <a:moveTo>
                      <a:pt x="149" y="0"/>
                    </a:moveTo>
                    <a:lnTo>
                      <a:pt x="139" y="11"/>
                    </a:lnTo>
                    <a:lnTo>
                      <a:pt x="127" y="11"/>
                    </a:lnTo>
                    <a:lnTo>
                      <a:pt x="118" y="21"/>
                    </a:lnTo>
                    <a:lnTo>
                      <a:pt x="107" y="21"/>
                    </a:lnTo>
                    <a:lnTo>
                      <a:pt x="96" y="32"/>
                    </a:lnTo>
                    <a:lnTo>
                      <a:pt x="86" y="43"/>
                    </a:lnTo>
                    <a:lnTo>
                      <a:pt x="75" y="53"/>
                    </a:lnTo>
                    <a:lnTo>
                      <a:pt x="64" y="64"/>
                    </a:lnTo>
                    <a:lnTo>
                      <a:pt x="54" y="75"/>
                    </a:lnTo>
                    <a:lnTo>
                      <a:pt x="43" y="85"/>
                    </a:lnTo>
                    <a:lnTo>
                      <a:pt x="43" y="96"/>
                    </a:lnTo>
                    <a:lnTo>
                      <a:pt x="32" y="106"/>
                    </a:lnTo>
                    <a:lnTo>
                      <a:pt x="22" y="127"/>
                    </a:lnTo>
                    <a:lnTo>
                      <a:pt x="22" y="138"/>
                    </a:lnTo>
                    <a:lnTo>
                      <a:pt x="11" y="148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1824480" y="2401560"/>
                <a:ext cx="107280" cy="193680"/>
              </a:xfrm>
              <a:custGeom>
                <a:avLst/>
                <a:gdLst/>
                <a:ahLst/>
                <a:rect l="l" t="t" r="r" b="b"/>
                <a:pathLst>
                  <a:path w="274" h="499">
                    <a:moveTo>
                      <a:pt x="274" y="0"/>
                    </a:moveTo>
                    <a:lnTo>
                      <a:pt x="264" y="32"/>
                    </a:lnTo>
                    <a:lnTo>
                      <a:pt x="242" y="64"/>
                    </a:lnTo>
                    <a:lnTo>
                      <a:pt x="233" y="95"/>
                    </a:lnTo>
                    <a:lnTo>
                      <a:pt x="211" y="127"/>
                    </a:lnTo>
                    <a:lnTo>
                      <a:pt x="201" y="159"/>
                    </a:lnTo>
                    <a:lnTo>
                      <a:pt x="179" y="191"/>
                    </a:lnTo>
                    <a:lnTo>
                      <a:pt x="158" y="222"/>
                    </a:lnTo>
                    <a:lnTo>
                      <a:pt x="147" y="254"/>
                    </a:lnTo>
                    <a:lnTo>
                      <a:pt x="127" y="286"/>
                    </a:lnTo>
                    <a:lnTo>
                      <a:pt x="106" y="318"/>
                    </a:lnTo>
                    <a:lnTo>
                      <a:pt x="84" y="340"/>
                    </a:lnTo>
                    <a:lnTo>
                      <a:pt x="73" y="371"/>
                    </a:lnTo>
                    <a:lnTo>
                      <a:pt x="52" y="403"/>
                    </a:lnTo>
                    <a:lnTo>
                      <a:pt x="31" y="435"/>
                    </a:lnTo>
                    <a:lnTo>
                      <a:pt x="20" y="467"/>
                    </a:lnTo>
                    <a:lnTo>
                      <a:pt x="0" y="49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753920" y="2595240"/>
                <a:ext cx="70200" cy="102600"/>
              </a:xfrm>
              <a:custGeom>
                <a:avLst/>
                <a:gdLst/>
                <a:ahLst/>
                <a:rect l="l" t="t" r="r" b="b"/>
                <a:pathLst>
                  <a:path w="181" h="264">
                    <a:moveTo>
                      <a:pt x="181" y="0"/>
                    </a:moveTo>
                    <a:lnTo>
                      <a:pt x="169" y="21"/>
                    </a:lnTo>
                    <a:lnTo>
                      <a:pt x="159" y="31"/>
                    </a:lnTo>
                    <a:lnTo>
                      <a:pt x="148" y="52"/>
                    </a:lnTo>
                    <a:lnTo>
                      <a:pt x="138" y="63"/>
                    </a:lnTo>
                    <a:lnTo>
                      <a:pt x="127" y="84"/>
                    </a:lnTo>
                    <a:lnTo>
                      <a:pt x="117" y="106"/>
                    </a:lnTo>
                    <a:lnTo>
                      <a:pt x="106" y="116"/>
                    </a:lnTo>
                    <a:lnTo>
                      <a:pt x="95" y="137"/>
                    </a:lnTo>
                    <a:lnTo>
                      <a:pt x="85" y="149"/>
                    </a:lnTo>
                    <a:lnTo>
                      <a:pt x="74" y="170"/>
                    </a:lnTo>
                    <a:lnTo>
                      <a:pt x="63" y="190"/>
                    </a:lnTo>
                    <a:lnTo>
                      <a:pt x="42" y="201"/>
                    </a:lnTo>
                    <a:lnTo>
                      <a:pt x="32" y="222"/>
                    </a:lnTo>
                    <a:lnTo>
                      <a:pt x="20" y="233"/>
                    </a:lnTo>
                    <a:lnTo>
                      <a:pt x="11" y="254"/>
                    </a:lnTo>
                    <a:lnTo>
                      <a:pt x="0" y="26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1490400" y="2444040"/>
                <a:ext cx="231120" cy="237600"/>
              </a:xfrm>
              <a:custGeom>
                <a:avLst/>
                <a:gdLst/>
                <a:ahLst/>
                <a:rect l="l" t="t" r="r" b="b"/>
                <a:pathLst>
                  <a:path w="594" h="614">
                    <a:moveTo>
                      <a:pt x="594" y="614"/>
                    </a:moveTo>
                    <a:lnTo>
                      <a:pt x="552" y="582"/>
                    </a:lnTo>
                    <a:lnTo>
                      <a:pt x="519" y="550"/>
                    </a:lnTo>
                    <a:lnTo>
                      <a:pt x="477" y="508"/>
                    </a:lnTo>
                    <a:lnTo>
                      <a:pt x="435" y="476"/>
                    </a:lnTo>
                    <a:lnTo>
                      <a:pt x="404" y="435"/>
                    </a:lnTo>
                    <a:lnTo>
                      <a:pt x="361" y="402"/>
                    </a:lnTo>
                    <a:lnTo>
                      <a:pt x="329" y="360"/>
                    </a:lnTo>
                    <a:lnTo>
                      <a:pt x="286" y="317"/>
                    </a:lnTo>
                    <a:lnTo>
                      <a:pt x="255" y="274"/>
                    </a:lnTo>
                    <a:lnTo>
                      <a:pt x="212" y="242"/>
                    </a:lnTo>
                    <a:lnTo>
                      <a:pt x="180" y="200"/>
                    </a:lnTo>
                    <a:lnTo>
                      <a:pt x="138" y="158"/>
                    </a:lnTo>
                    <a:lnTo>
                      <a:pt x="107" y="115"/>
                    </a:lnTo>
                    <a:lnTo>
                      <a:pt x="75" y="74"/>
                    </a:lnTo>
                    <a:lnTo>
                      <a:pt x="32" y="3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1490400" y="2184480"/>
                <a:ext cx="433800" cy="231120"/>
              </a:xfrm>
              <a:custGeom>
                <a:avLst/>
                <a:gdLst/>
                <a:ahLst/>
                <a:rect l="l" t="t" r="r" b="b"/>
                <a:pathLst>
                  <a:path w="1114" h="594">
                    <a:moveTo>
                      <a:pt x="0" y="594"/>
                    </a:moveTo>
                    <a:lnTo>
                      <a:pt x="64" y="541"/>
                    </a:lnTo>
                    <a:lnTo>
                      <a:pt x="128" y="499"/>
                    </a:lnTo>
                    <a:lnTo>
                      <a:pt x="202" y="456"/>
                    </a:lnTo>
                    <a:lnTo>
                      <a:pt x="265" y="414"/>
                    </a:lnTo>
                    <a:lnTo>
                      <a:pt x="329" y="371"/>
                    </a:lnTo>
                    <a:lnTo>
                      <a:pt x="404" y="328"/>
                    </a:lnTo>
                    <a:lnTo>
                      <a:pt x="467" y="286"/>
                    </a:lnTo>
                    <a:lnTo>
                      <a:pt x="540" y="254"/>
                    </a:lnTo>
                    <a:lnTo>
                      <a:pt x="604" y="213"/>
                    </a:lnTo>
                    <a:lnTo>
                      <a:pt x="679" y="181"/>
                    </a:lnTo>
                    <a:lnTo>
                      <a:pt x="753" y="149"/>
                    </a:lnTo>
                    <a:lnTo>
                      <a:pt x="817" y="117"/>
                    </a:lnTo>
                    <a:lnTo>
                      <a:pt x="891" y="86"/>
                    </a:lnTo>
                    <a:lnTo>
                      <a:pt x="966" y="54"/>
                    </a:lnTo>
                    <a:lnTo>
                      <a:pt x="1039" y="22"/>
                    </a:lnTo>
                    <a:lnTo>
                      <a:pt x="11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1497240" y="2179800"/>
                <a:ext cx="632520" cy="489960"/>
              </a:xfrm>
              <a:custGeom>
                <a:avLst/>
                <a:gdLst/>
                <a:ahLst/>
                <a:rect l="l" t="t" r="r" b="b"/>
                <a:pathLst>
                  <a:path w="1623" h="1262">
                    <a:moveTo>
                      <a:pt x="1421" y="138"/>
                    </a:moveTo>
                    <a:lnTo>
                      <a:pt x="1432" y="160"/>
                    </a:lnTo>
                    <a:lnTo>
                      <a:pt x="1442" y="170"/>
                    </a:lnTo>
                    <a:lnTo>
                      <a:pt x="1464" y="181"/>
                    </a:lnTo>
                    <a:lnTo>
                      <a:pt x="1473" y="192"/>
                    </a:lnTo>
                    <a:lnTo>
                      <a:pt x="1485" y="202"/>
                    </a:lnTo>
                    <a:lnTo>
                      <a:pt x="1495" y="212"/>
                    </a:lnTo>
                    <a:lnTo>
                      <a:pt x="1516" y="224"/>
                    </a:lnTo>
                    <a:lnTo>
                      <a:pt x="1528" y="233"/>
                    </a:lnTo>
                    <a:lnTo>
                      <a:pt x="1537" y="245"/>
                    </a:lnTo>
                    <a:lnTo>
                      <a:pt x="1548" y="255"/>
                    </a:lnTo>
                    <a:lnTo>
                      <a:pt x="1559" y="265"/>
                    </a:lnTo>
                    <a:lnTo>
                      <a:pt x="1580" y="276"/>
                    </a:lnTo>
                    <a:lnTo>
                      <a:pt x="1591" y="297"/>
                    </a:lnTo>
                    <a:lnTo>
                      <a:pt x="1601" y="308"/>
                    </a:lnTo>
                    <a:lnTo>
                      <a:pt x="1612" y="319"/>
                    </a:lnTo>
                    <a:lnTo>
                      <a:pt x="1623" y="339"/>
                    </a:lnTo>
                    <a:lnTo>
                      <a:pt x="1623" y="351"/>
                    </a:lnTo>
                    <a:lnTo>
                      <a:pt x="1623" y="360"/>
                    </a:lnTo>
                    <a:lnTo>
                      <a:pt x="1612" y="372"/>
                    </a:lnTo>
                    <a:lnTo>
                      <a:pt x="1612" y="382"/>
                    </a:lnTo>
                    <a:lnTo>
                      <a:pt x="1612" y="392"/>
                    </a:lnTo>
                    <a:lnTo>
                      <a:pt x="1601" y="403"/>
                    </a:lnTo>
                    <a:lnTo>
                      <a:pt x="1601" y="414"/>
                    </a:lnTo>
                    <a:lnTo>
                      <a:pt x="1580" y="414"/>
                    </a:lnTo>
                    <a:lnTo>
                      <a:pt x="1559" y="414"/>
                    </a:lnTo>
                    <a:lnTo>
                      <a:pt x="1537" y="414"/>
                    </a:lnTo>
                    <a:lnTo>
                      <a:pt x="1516" y="414"/>
                    </a:lnTo>
                    <a:lnTo>
                      <a:pt x="1495" y="403"/>
                    </a:lnTo>
                    <a:lnTo>
                      <a:pt x="1473" y="392"/>
                    </a:lnTo>
                    <a:lnTo>
                      <a:pt x="1453" y="392"/>
                    </a:lnTo>
                    <a:lnTo>
                      <a:pt x="1432" y="382"/>
                    </a:lnTo>
                    <a:lnTo>
                      <a:pt x="1410" y="372"/>
                    </a:lnTo>
                    <a:lnTo>
                      <a:pt x="1389" y="360"/>
                    </a:lnTo>
                    <a:lnTo>
                      <a:pt x="1367" y="360"/>
                    </a:lnTo>
                    <a:lnTo>
                      <a:pt x="1347" y="351"/>
                    </a:lnTo>
                    <a:lnTo>
                      <a:pt x="1326" y="351"/>
                    </a:lnTo>
                    <a:lnTo>
                      <a:pt x="1304" y="351"/>
                    </a:lnTo>
                    <a:lnTo>
                      <a:pt x="1283" y="360"/>
                    </a:lnTo>
                    <a:lnTo>
                      <a:pt x="1252" y="360"/>
                    </a:lnTo>
                    <a:lnTo>
                      <a:pt x="1220" y="382"/>
                    </a:lnTo>
                    <a:lnTo>
                      <a:pt x="1188" y="414"/>
                    </a:lnTo>
                    <a:lnTo>
                      <a:pt x="1167" y="435"/>
                    </a:lnTo>
                    <a:lnTo>
                      <a:pt x="1145" y="467"/>
                    </a:lnTo>
                    <a:lnTo>
                      <a:pt x="1124" y="499"/>
                    </a:lnTo>
                    <a:lnTo>
                      <a:pt x="1103" y="531"/>
                    </a:lnTo>
                    <a:lnTo>
                      <a:pt x="1093" y="562"/>
                    </a:lnTo>
                    <a:lnTo>
                      <a:pt x="1072" y="594"/>
                    </a:lnTo>
                    <a:lnTo>
                      <a:pt x="1061" y="627"/>
                    </a:lnTo>
                    <a:lnTo>
                      <a:pt x="1040" y="659"/>
                    </a:lnTo>
                    <a:lnTo>
                      <a:pt x="1029" y="700"/>
                    </a:lnTo>
                    <a:lnTo>
                      <a:pt x="1008" y="732"/>
                    </a:lnTo>
                    <a:lnTo>
                      <a:pt x="997" y="764"/>
                    </a:lnTo>
                    <a:lnTo>
                      <a:pt x="975" y="795"/>
                    </a:lnTo>
                    <a:lnTo>
                      <a:pt x="954" y="827"/>
                    </a:lnTo>
                    <a:lnTo>
                      <a:pt x="933" y="849"/>
                    </a:lnTo>
                    <a:lnTo>
                      <a:pt x="912" y="880"/>
                    </a:lnTo>
                    <a:lnTo>
                      <a:pt x="902" y="913"/>
                    </a:lnTo>
                    <a:lnTo>
                      <a:pt x="880" y="934"/>
                    </a:lnTo>
                    <a:lnTo>
                      <a:pt x="870" y="965"/>
                    </a:lnTo>
                    <a:lnTo>
                      <a:pt x="848" y="986"/>
                    </a:lnTo>
                    <a:lnTo>
                      <a:pt x="839" y="1008"/>
                    </a:lnTo>
                    <a:lnTo>
                      <a:pt x="817" y="1040"/>
                    </a:lnTo>
                    <a:lnTo>
                      <a:pt x="806" y="1061"/>
                    </a:lnTo>
                    <a:lnTo>
                      <a:pt x="785" y="1093"/>
                    </a:lnTo>
                    <a:lnTo>
                      <a:pt x="764" y="1115"/>
                    </a:lnTo>
                    <a:lnTo>
                      <a:pt x="753" y="1146"/>
                    </a:lnTo>
                    <a:lnTo>
                      <a:pt x="732" y="1167"/>
                    </a:lnTo>
                    <a:lnTo>
                      <a:pt x="712" y="1188"/>
                    </a:lnTo>
                    <a:lnTo>
                      <a:pt x="690" y="1209"/>
                    </a:lnTo>
                    <a:lnTo>
                      <a:pt x="669" y="1242"/>
                    </a:lnTo>
                    <a:lnTo>
                      <a:pt x="648" y="1262"/>
                    </a:lnTo>
                    <a:lnTo>
                      <a:pt x="637" y="1262"/>
                    </a:lnTo>
                    <a:lnTo>
                      <a:pt x="637" y="1251"/>
                    </a:lnTo>
                    <a:lnTo>
                      <a:pt x="626" y="1251"/>
                    </a:lnTo>
                    <a:lnTo>
                      <a:pt x="626" y="1242"/>
                    </a:lnTo>
                    <a:lnTo>
                      <a:pt x="616" y="1242"/>
                    </a:lnTo>
                    <a:lnTo>
                      <a:pt x="605" y="1230"/>
                    </a:lnTo>
                    <a:lnTo>
                      <a:pt x="594" y="1221"/>
                    </a:lnTo>
                    <a:lnTo>
                      <a:pt x="583" y="1209"/>
                    </a:lnTo>
                    <a:lnTo>
                      <a:pt x="551" y="1178"/>
                    </a:lnTo>
                    <a:lnTo>
                      <a:pt x="510" y="1146"/>
                    </a:lnTo>
                    <a:lnTo>
                      <a:pt x="478" y="1115"/>
                    </a:lnTo>
                    <a:lnTo>
                      <a:pt x="435" y="1072"/>
                    </a:lnTo>
                    <a:lnTo>
                      <a:pt x="404" y="1040"/>
                    </a:lnTo>
                    <a:lnTo>
                      <a:pt x="361" y="997"/>
                    </a:lnTo>
                    <a:lnTo>
                      <a:pt x="329" y="965"/>
                    </a:lnTo>
                    <a:lnTo>
                      <a:pt x="286" y="922"/>
                    </a:lnTo>
                    <a:lnTo>
                      <a:pt x="256" y="891"/>
                    </a:lnTo>
                    <a:lnTo>
                      <a:pt x="224" y="849"/>
                    </a:lnTo>
                    <a:lnTo>
                      <a:pt x="181" y="817"/>
                    </a:lnTo>
                    <a:lnTo>
                      <a:pt x="150" y="774"/>
                    </a:lnTo>
                    <a:lnTo>
                      <a:pt x="107" y="743"/>
                    </a:lnTo>
                    <a:lnTo>
                      <a:pt x="75" y="700"/>
                    </a:lnTo>
                    <a:lnTo>
                      <a:pt x="43" y="659"/>
                    </a:lnTo>
                    <a:lnTo>
                      <a:pt x="0" y="627"/>
                    </a:lnTo>
                    <a:lnTo>
                      <a:pt x="54" y="594"/>
                    </a:lnTo>
                    <a:lnTo>
                      <a:pt x="96" y="562"/>
                    </a:lnTo>
                    <a:lnTo>
                      <a:pt x="150" y="531"/>
                    </a:lnTo>
                    <a:lnTo>
                      <a:pt x="191" y="499"/>
                    </a:lnTo>
                    <a:lnTo>
                      <a:pt x="234" y="467"/>
                    </a:lnTo>
                    <a:lnTo>
                      <a:pt x="286" y="435"/>
                    </a:lnTo>
                    <a:lnTo>
                      <a:pt x="329" y="403"/>
                    </a:lnTo>
                    <a:lnTo>
                      <a:pt x="383" y="372"/>
                    </a:lnTo>
                    <a:lnTo>
                      <a:pt x="424" y="351"/>
                    </a:lnTo>
                    <a:lnTo>
                      <a:pt x="478" y="319"/>
                    </a:lnTo>
                    <a:lnTo>
                      <a:pt x="519" y="297"/>
                    </a:lnTo>
                    <a:lnTo>
                      <a:pt x="573" y="265"/>
                    </a:lnTo>
                    <a:lnTo>
                      <a:pt x="616" y="245"/>
                    </a:lnTo>
                    <a:lnTo>
                      <a:pt x="669" y="212"/>
                    </a:lnTo>
                    <a:lnTo>
                      <a:pt x="721" y="192"/>
                    </a:lnTo>
                    <a:lnTo>
                      <a:pt x="775" y="170"/>
                    </a:lnTo>
                    <a:lnTo>
                      <a:pt x="806" y="160"/>
                    </a:lnTo>
                    <a:lnTo>
                      <a:pt x="827" y="149"/>
                    </a:lnTo>
                    <a:lnTo>
                      <a:pt x="859" y="138"/>
                    </a:lnTo>
                    <a:lnTo>
                      <a:pt x="891" y="128"/>
                    </a:lnTo>
                    <a:lnTo>
                      <a:pt x="923" y="118"/>
                    </a:lnTo>
                    <a:lnTo>
                      <a:pt x="954" y="97"/>
                    </a:lnTo>
                    <a:lnTo>
                      <a:pt x="986" y="85"/>
                    </a:lnTo>
                    <a:lnTo>
                      <a:pt x="1018" y="75"/>
                    </a:lnTo>
                    <a:lnTo>
                      <a:pt x="1050" y="65"/>
                    </a:lnTo>
                    <a:lnTo>
                      <a:pt x="1072" y="54"/>
                    </a:lnTo>
                    <a:lnTo>
                      <a:pt x="1103" y="43"/>
                    </a:lnTo>
                    <a:lnTo>
                      <a:pt x="1135" y="33"/>
                    </a:lnTo>
                    <a:lnTo>
                      <a:pt x="1167" y="22"/>
                    </a:lnTo>
                    <a:lnTo>
                      <a:pt x="1199" y="11"/>
                    </a:lnTo>
                    <a:lnTo>
                      <a:pt x="1231" y="0"/>
                    </a:lnTo>
                    <a:lnTo>
                      <a:pt x="1274" y="0"/>
                    </a:lnTo>
                    <a:lnTo>
                      <a:pt x="1283" y="0"/>
                    </a:lnTo>
                    <a:lnTo>
                      <a:pt x="1294" y="11"/>
                    </a:lnTo>
                    <a:lnTo>
                      <a:pt x="1304" y="11"/>
                    </a:lnTo>
                    <a:lnTo>
                      <a:pt x="1315" y="22"/>
                    </a:lnTo>
                    <a:lnTo>
                      <a:pt x="1326" y="33"/>
                    </a:lnTo>
                    <a:lnTo>
                      <a:pt x="1326" y="43"/>
                    </a:lnTo>
                    <a:lnTo>
                      <a:pt x="1337" y="54"/>
                    </a:lnTo>
                    <a:lnTo>
                      <a:pt x="1347" y="65"/>
                    </a:lnTo>
                    <a:lnTo>
                      <a:pt x="1358" y="75"/>
                    </a:lnTo>
                    <a:lnTo>
                      <a:pt x="1367" y="85"/>
                    </a:lnTo>
                    <a:lnTo>
                      <a:pt x="1379" y="97"/>
                    </a:lnTo>
                    <a:lnTo>
                      <a:pt x="1389" y="106"/>
                    </a:lnTo>
                    <a:lnTo>
                      <a:pt x="1389" y="118"/>
                    </a:lnTo>
                    <a:lnTo>
                      <a:pt x="1401" y="128"/>
                    </a:lnTo>
                    <a:lnTo>
                      <a:pt x="1410" y="138"/>
                    </a:lnTo>
                    <a:lnTo>
                      <a:pt x="1421" y="138"/>
                    </a:lnTo>
                    <a:close/>
                  </a:path>
                </a:pathLst>
              </a:custGeom>
              <a:solidFill>
                <a:srgbClr val="5e3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2050560" y="2233800"/>
                <a:ext cx="79200" cy="7668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0" y="0"/>
                    </a:moveTo>
                    <a:lnTo>
                      <a:pt x="11" y="22"/>
                    </a:lnTo>
                    <a:lnTo>
                      <a:pt x="21" y="32"/>
                    </a:lnTo>
                    <a:lnTo>
                      <a:pt x="43" y="43"/>
                    </a:lnTo>
                    <a:lnTo>
                      <a:pt x="52" y="54"/>
                    </a:lnTo>
                    <a:lnTo>
                      <a:pt x="64" y="64"/>
                    </a:lnTo>
                    <a:lnTo>
                      <a:pt x="74" y="74"/>
                    </a:lnTo>
                    <a:lnTo>
                      <a:pt x="95" y="86"/>
                    </a:lnTo>
                    <a:lnTo>
                      <a:pt x="107" y="95"/>
                    </a:lnTo>
                    <a:lnTo>
                      <a:pt x="116" y="107"/>
                    </a:lnTo>
                    <a:lnTo>
                      <a:pt x="127" y="117"/>
                    </a:lnTo>
                    <a:lnTo>
                      <a:pt x="138" y="127"/>
                    </a:lnTo>
                    <a:lnTo>
                      <a:pt x="159" y="138"/>
                    </a:lnTo>
                    <a:lnTo>
                      <a:pt x="170" y="159"/>
                    </a:lnTo>
                    <a:lnTo>
                      <a:pt x="180" y="170"/>
                    </a:lnTo>
                    <a:lnTo>
                      <a:pt x="191" y="181"/>
                    </a:lnTo>
                    <a:lnTo>
                      <a:pt x="202" y="20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1861560" y="2320200"/>
                <a:ext cx="123840" cy="188640"/>
              </a:xfrm>
              <a:custGeom>
                <a:avLst/>
                <a:gdLst/>
                <a:ahLst/>
                <a:rect l="l" t="t" r="r" b="b"/>
                <a:pathLst>
                  <a:path w="319" h="489">
                    <a:moveTo>
                      <a:pt x="319" y="0"/>
                    </a:moveTo>
                    <a:lnTo>
                      <a:pt x="287" y="22"/>
                    </a:lnTo>
                    <a:lnTo>
                      <a:pt x="255" y="54"/>
                    </a:lnTo>
                    <a:lnTo>
                      <a:pt x="234" y="75"/>
                    </a:lnTo>
                    <a:lnTo>
                      <a:pt x="212" y="107"/>
                    </a:lnTo>
                    <a:lnTo>
                      <a:pt x="191" y="139"/>
                    </a:lnTo>
                    <a:lnTo>
                      <a:pt x="170" y="171"/>
                    </a:lnTo>
                    <a:lnTo>
                      <a:pt x="160" y="202"/>
                    </a:lnTo>
                    <a:lnTo>
                      <a:pt x="139" y="234"/>
                    </a:lnTo>
                    <a:lnTo>
                      <a:pt x="128" y="267"/>
                    </a:lnTo>
                    <a:lnTo>
                      <a:pt x="107" y="299"/>
                    </a:lnTo>
                    <a:lnTo>
                      <a:pt x="96" y="340"/>
                    </a:lnTo>
                    <a:lnTo>
                      <a:pt x="75" y="372"/>
                    </a:lnTo>
                    <a:lnTo>
                      <a:pt x="64" y="404"/>
                    </a:lnTo>
                    <a:lnTo>
                      <a:pt x="42" y="435"/>
                    </a:lnTo>
                    <a:lnTo>
                      <a:pt x="21" y="467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749600" y="2509200"/>
                <a:ext cx="111600" cy="160560"/>
              </a:xfrm>
              <a:custGeom>
                <a:avLst/>
                <a:gdLst/>
                <a:ahLst/>
                <a:rect l="l" t="t" r="r" b="b"/>
                <a:pathLst>
                  <a:path w="285" h="413">
                    <a:moveTo>
                      <a:pt x="285" y="0"/>
                    </a:moveTo>
                    <a:lnTo>
                      <a:pt x="264" y="31"/>
                    </a:lnTo>
                    <a:lnTo>
                      <a:pt x="254" y="64"/>
                    </a:lnTo>
                    <a:lnTo>
                      <a:pt x="232" y="85"/>
                    </a:lnTo>
                    <a:lnTo>
                      <a:pt x="222" y="116"/>
                    </a:lnTo>
                    <a:lnTo>
                      <a:pt x="200" y="137"/>
                    </a:lnTo>
                    <a:lnTo>
                      <a:pt x="191" y="159"/>
                    </a:lnTo>
                    <a:lnTo>
                      <a:pt x="169" y="191"/>
                    </a:lnTo>
                    <a:lnTo>
                      <a:pt x="158" y="212"/>
                    </a:lnTo>
                    <a:lnTo>
                      <a:pt x="137" y="244"/>
                    </a:lnTo>
                    <a:lnTo>
                      <a:pt x="116" y="266"/>
                    </a:lnTo>
                    <a:lnTo>
                      <a:pt x="105" y="297"/>
                    </a:lnTo>
                    <a:lnTo>
                      <a:pt x="84" y="318"/>
                    </a:lnTo>
                    <a:lnTo>
                      <a:pt x="64" y="339"/>
                    </a:lnTo>
                    <a:lnTo>
                      <a:pt x="42" y="360"/>
                    </a:lnTo>
                    <a:lnTo>
                      <a:pt x="21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497240" y="2422800"/>
                <a:ext cx="228600" cy="226440"/>
              </a:xfrm>
              <a:custGeom>
                <a:avLst/>
                <a:gdLst/>
                <a:ahLst/>
                <a:rect l="l" t="t" r="r" b="b"/>
                <a:pathLst>
                  <a:path w="583" h="582">
                    <a:moveTo>
                      <a:pt x="583" y="582"/>
                    </a:moveTo>
                    <a:lnTo>
                      <a:pt x="551" y="551"/>
                    </a:lnTo>
                    <a:lnTo>
                      <a:pt x="510" y="519"/>
                    </a:lnTo>
                    <a:lnTo>
                      <a:pt x="478" y="488"/>
                    </a:lnTo>
                    <a:lnTo>
                      <a:pt x="435" y="445"/>
                    </a:lnTo>
                    <a:lnTo>
                      <a:pt x="404" y="413"/>
                    </a:lnTo>
                    <a:lnTo>
                      <a:pt x="361" y="370"/>
                    </a:lnTo>
                    <a:lnTo>
                      <a:pt x="329" y="338"/>
                    </a:lnTo>
                    <a:lnTo>
                      <a:pt x="286" y="295"/>
                    </a:lnTo>
                    <a:lnTo>
                      <a:pt x="256" y="264"/>
                    </a:lnTo>
                    <a:lnTo>
                      <a:pt x="224" y="222"/>
                    </a:lnTo>
                    <a:lnTo>
                      <a:pt x="181" y="190"/>
                    </a:lnTo>
                    <a:lnTo>
                      <a:pt x="150" y="147"/>
                    </a:lnTo>
                    <a:lnTo>
                      <a:pt x="107" y="116"/>
                    </a:lnTo>
                    <a:lnTo>
                      <a:pt x="75" y="73"/>
                    </a:lnTo>
                    <a:lnTo>
                      <a:pt x="43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1497240" y="2245320"/>
                <a:ext cx="300960" cy="177120"/>
              </a:xfrm>
              <a:custGeom>
                <a:avLst/>
                <a:gdLst/>
                <a:ahLst/>
                <a:rect l="l" t="t" r="r" b="b"/>
                <a:pathLst>
                  <a:path w="775" h="457">
                    <a:moveTo>
                      <a:pt x="0" y="457"/>
                    </a:moveTo>
                    <a:lnTo>
                      <a:pt x="54" y="424"/>
                    </a:lnTo>
                    <a:lnTo>
                      <a:pt x="96" y="392"/>
                    </a:lnTo>
                    <a:lnTo>
                      <a:pt x="150" y="361"/>
                    </a:lnTo>
                    <a:lnTo>
                      <a:pt x="191" y="329"/>
                    </a:lnTo>
                    <a:lnTo>
                      <a:pt x="234" y="297"/>
                    </a:lnTo>
                    <a:lnTo>
                      <a:pt x="286" y="265"/>
                    </a:lnTo>
                    <a:lnTo>
                      <a:pt x="329" y="233"/>
                    </a:lnTo>
                    <a:lnTo>
                      <a:pt x="383" y="202"/>
                    </a:lnTo>
                    <a:lnTo>
                      <a:pt x="424" y="181"/>
                    </a:lnTo>
                    <a:lnTo>
                      <a:pt x="478" y="149"/>
                    </a:lnTo>
                    <a:lnTo>
                      <a:pt x="519" y="127"/>
                    </a:lnTo>
                    <a:lnTo>
                      <a:pt x="573" y="95"/>
                    </a:lnTo>
                    <a:lnTo>
                      <a:pt x="616" y="75"/>
                    </a:lnTo>
                    <a:lnTo>
                      <a:pt x="669" y="42"/>
                    </a:lnTo>
                    <a:lnTo>
                      <a:pt x="721" y="22"/>
                    </a:lnTo>
                    <a:lnTo>
                      <a:pt x="7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1798560" y="2179800"/>
                <a:ext cx="196200" cy="65520"/>
              </a:xfrm>
              <a:custGeom>
                <a:avLst/>
                <a:gdLst/>
                <a:ahLst/>
                <a:rect l="l" t="t" r="r" b="b"/>
                <a:pathLst>
                  <a:path w="499" h="170">
                    <a:moveTo>
                      <a:pt x="0" y="170"/>
                    </a:moveTo>
                    <a:lnTo>
                      <a:pt x="31" y="160"/>
                    </a:lnTo>
                    <a:lnTo>
                      <a:pt x="52" y="149"/>
                    </a:lnTo>
                    <a:lnTo>
                      <a:pt x="84" y="138"/>
                    </a:lnTo>
                    <a:lnTo>
                      <a:pt x="116" y="128"/>
                    </a:lnTo>
                    <a:lnTo>
                      <a:pt x="148" y="118"/>
                    </a:lnTo>
                    <a:lnTo>
                      <a:pt x="179" y="97"/>
                    </a:lnTo>
                    <a:lnTo>
                      <a:pt x="211" y="85"/>
                    </a:lnTo>
                    <a:lnTo>
                      <a:pt x="243" y="75"/>
                    </a:lnTo>
                    <a:lnTo>
                      <a:pt x="275" y="65"/>
                    </a:lnTo>
                    <a:lnTo>
                      <a:pt x="297" y="54"/>
                    </a:lnTo>
                    <a:lnTo>
                      <a:pt x="328" y="43"/>
                    </a:lnTo>
                    <a:lnTo>
                      <a:pt x="360" y="33"/>
                    </a:lnTo>
                    <a:lnTo>
                      <a:pt x="392" y="22"/>
                    </a:lnTo>
                    <a:lnTo>
                      <a:pt x="424" y="11"/>
                    </a:lnTo>
                    <a:lnTo>
                      <a:pt x="456" y="0"/>
                    </a:lnTo>
                    <a:lnTo>
                      <a:pt x="49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1833480" y="2368800"/>
                <a:ext cx="426960" cy="398880"/>
              </a:xfrm>
              <a:custGeom>
                <a:avLst/>
                <a:gdLst/>
                <a:ahLst/>
                <a:rect l="l" t="t" r="r" b="b"/>
                <a:pathLst>
                  <a:path w="1104" h="1027">
                    <a:moveTo>
                      <a:pt x="742" y="63"/>
                    </a:moveTo>
                    <a:lnTo>
                      <a:pt x="742" y="52"/>
                    </a:lnTo>
                    <a:lnTo>
                      <a:pt x="753" y="52"/>
                    </a:lnTo>
                    <a:lnTo>
                      <a:pt x="764" y="52"/>
                    </a:lnTo>
                    <a:lnTo>
                      <a:pt x="775" y="52"/>
                    </a:lnTo>
                    <a:lnTo>
                      <a:pt x="785" y="84"/>
                    </a:lnTo>
                    <a:lnTo>
                      <a:pt x="796" y="116"/>
                    </a:lnTo>
                    <a:lnTo>
                      <a:pt x="807" y="148"/>
                    </a:lnTo>
                    <a:lnTo>
                      <a:pt x="828" y="179"/>
                    </a:lnTo>
                    <a:lnTo>
                      <a:pt x="837" y="222"/>
                    </a:lnTo>
                    <a:lnTo>
                      <a:pt x="848" y="254"/>
                    </a:lnTo>
                    <a:lnTo>
                      <a:pt x="870" y="285"/>
                    </a:lnTo>
                    <a:lnTo>
                      <a:pt x="880" y="318"/>
                    </a:lnTo>
                    <a:lnTo>
                      <a:pt x="902" y="349"/>
                    </a:lnTo>
                    <a:lnTo>
                      <a:pt x="923" y="381"/>
                    </a:lnTo>
                    <a:lnTo>
                      <a:pt x="943" y="402"/>
                    </a:lnTo>
                    <a:lnTo>
                      <a:pt x="965" y="433"/>
                    </a:lnTo>
                    <a:lnTo>
                      <a:pt x="997" y="455"/>
                    </a:lnTo>
                    <a:lnTo>
                      <a:pt x="1029" y="476"/>
                    </a:lnTo>
                    <a:lnTo>
                      <a:pt x="1061" y="487"/>
                    </a:lnTo>
                    <a:lnTo>
                      <a:pt x="1092" y="497"/>
                    </a:lnTo>
                    <a:lnTo>
                      <a:pt x="1104" y="508"/>
                    </a:lnTo>
                    <a:lnTo>
                      <a:pt x="1104" y="519"/>
                    </a:lnTo>
                    <a:lnTo>
                      <a:pt x="1104" y="530"/>
                    </a:lnTo>
                    <a:lnTo>
                      <a:pt x="1104" y="540"/>
                    </a:lnTo>
                    <a:lnTo>
                      <a:pt x="1092" y="551"/>
                    </a:lnTo>
                    <a:lnTo>
                      <a:pt x="1092" y="562"/>
                    </a:lnTo>
                    <a:lnTo>
                      <a:pt x="1092" y="572"/>
                    </a:lnTo>
                    <a:lnTo>
                      <a:pt x="1061" y="604"/>
                    </a:lnTo>
                    <a:lnTo>
                      <a:pt x="1029" y="646"/>
                    </a:lnTo>
                    <a:lnTo>
                      <a:pt x="997" y="689"/>
                    </a:lnTo>
                    <a:lnTo>
                      <a:pt x="965" y="732"/>
                    </a:lnTo>
                    <a:lnTo>
                      <a:pt x="923" y="762"/>
                    </a:lnTo>
                    <a:lnTo>
                      <a:pt x="891" y="805"/>
                    </a:lnTo>
                    <a:lnTo>
                      <a:pt x="848" y="837"/>
                    </a:lnTo>
                    <a:lnTo>
                      <a:pt x="807" y="868"/>
                    </a:lnTo>
                    <a:lnTo>
                      <a:pt x="764" y="900"/>
                    </a:lnTo>
                    <a:lnTo>
                      <a:pt x="721" y="922"/>
                    </a:lnTo>
                    <a:lnTo>
                      <a:pt x="678" y="952"/>
                    </a:lnTo>
                    <a:lnTo>
                      <a:pt x="636" y="974"/>
                    </a:lnTo>
                    <a:lnTo>
                      <a:pt x="583" y="995"/>
                    </a:lnTo>
                    <a:lnTo>
                      <a:pt x="542" y="1007"/>
                    </a:lnTo>
                    <a:lnTo>
                      <a:pt x="488" y="1017"/>
                    </a:lnTo>
                    <a:lnTo>
                      <a:pt x="435" y="1027"/>
                    </a:lnTo>
                    <a:lnTo>
                      <a:pt x="424" y="995"/>
                    </a:lnTo>
                    <a:lnTo>
                      <a:pt x="403" y="974"/>
                    </a:lnTo>
                    <a:lnTo>
                      <a:pt x="381" y="952"/>
                    </a:lnTo>
                    <a:lnTo>
                      <a:pt x="361" y="932"/>
                    </a:lnTo>
                    <a:lnTo>
                      <a:pt x="340" y="922"/>
                    </a:lnTo>
                    <a:lnTo>
                      <a:pt x="308" y="911"/>
                    </a:lnTo>
                    <a:lnTo>
                      <a:pt x="276" y="900"/>
                    </a:lnTo>
                    <a:lnTo>
                      <a:pt x="244" y="890"/>
                    </a:lnTo>
                    <a:lnTo>
                      <a:pt x="213" y="890"/>
                    </a:lnTo>
                    <a:lnTo>
                      <a:pt x="191" y="880"/>
                    </a:lnTo>
                    <a:lnTo>
                      <a:pt x="159" y="880"/>
                    </a:lnTo>
                    <a:lnTo>
                      <a:pt x="127" y="880"/>
                    </a:lnTo>
                    <a:lnTo>
                      <a:pt x="95" y="868"/>
                    </a:lnTo>
                    <a:lnTo>
                      <a:pt x="64" y="859"/>
                    </a:lnTo>
                    <a:lnTo>
                      <a:pt x="32" y="859"/>
                    </a:lnTo>
                    <a:lnTo>
                      <a:pt x="0" y="837"/>
                    </a:lnTo>
                    <a:lnTo>
                      <a:pt x="11" y="827"/>
                    </a:lnTo>
                    <a:lnTo>
                      <a:pt x="11" y="816"/>
                    </a:lnTo>
                    <a:lnTo>
                      <a:pt x="11" y="805"/>
                    </a:lnTo>
                    <a:lnTo>
                      <a:pt x="21" y="805"/>
                    </a:lnTo>
                    <a:lnTo>
                      <a:pt x="21" y="794"/>
                    </a:lnTo>
                    <a:lnTo>
                      <a:pt x="21" y="784"/>
                    </a:lnTo>
                    <a:lnTo>
                      <a:pt x="32" y="784"/>
                    </a:lnTo>
                    <a:lnTo>
                      <a:pt x="32" y="773"/>
                    </a:lnTo>
                    <a:lnTo>
                      <a:pt x="43" y="773"/>
                    </a:lnTo>
                    <a:lnTo>
                      <a:pt x="43" y="762"/>
                    </a:lnTo>
                    <a:lnTo>
                      <a:pt x="43" y="753"/>
                    </a:lnTo>
                    <a:lnTo>
                      <a:pt x="53" y="753"/>
                    </a:lnTo>
                    <a:lnTo>
                      <a:pt x="53" y="741"/>
                    </a:lnTo>
                    <a:lnTo>
                      <a:pt x="74" y="699"/>
                    </a:lnTo>
                    <a:lnTo>
                      <a:pt x="86" y="667"/>
                    </a:lnTo>
                    <a:lnTo>
                      <a:pt x="107" y="635"/>
                    </a:lnTo>
                    <a:lnTo>
                      <a:pt x="116" y="604"/>
                    </a:lnTo>
                    <a:lnTo>
                      <a:pt x="138" y="572"/>
                    </a:lnTo>
                    <a:lnTo>
                      <a:pt x="149" y="540"/>
                    </a:lnTo>
                    <a:lnTo>
                      <a:pt x="170" y="508"/>
                    </a:lnTo>
                    <a:lnTo>
                      <a:pt x="181" y="476"/>
                    </a:lnTo>
                    <a:lnTo>
                      <a:pt x="202" y="445"/>
                    </a:lnTo>
                    <a:lnTo>
                      <a:pt x="213" y="412"/>
                    </a:lnTo>
                    <a:lnTo>
                      <a:pt x="234" y="381"/>
                    </a:lnTo>
                    <a:lnTo>
                      <a:pt x="244" y="349"/>
                    </a:lnTo>
                    <a:lnTo>
                      <a:pt x="265" y="318"/>
                    </a:lnTo>
                    <a:lnTo>
                      <a:pt x="276" y="285"/>
                    </a:lnTo>
                    <a:lnTo>
                      <a:pt x="286" y="254"/>
                    </a:lnTo>
                    <a:lnTo>
                      <a:pt x="308" y="222"/>
                    </a:lnTo>
                    <a:lnTo>
                      <a:pt x="308" y="200"/>
                    </a:lnTo>
                    <a:lnTo>
                      <a:pt x="318" y="191"/>
                    </a:lnTo>
                    <a:lnTo>
                      <a:pt x="329" y="179"/>
                    </a:lnTo>
                    <a:lnTo>
                      <a:pt x="329" y="170"/>
                    </a:lnTo>
                    <a:lnTo>
                      <a:pt x="340" y="148"/>
                    </a:lnTo>
                    <a:lnTo>
                      <a:pt x="340" y="138"/>
                    </a:lnTo>
                    <a:lnTo>
                      <a:pt x="350" y="127"/>
                    </a:lnTo>
                    <a:lnTo>
                      <a:pt x="350" y="105"/>
                    </a:lnTo>
                    <a:lnTo>
                      <a:pt x="361" y="95"/>
                    </a:lnTo>
                    <a:lnTo>
                      <a:pt x="361" y="84"/>
                    </a:lnTo>
                    <a:lnTo>
                      <a:pt x="372" y="63"/>
                    </a:lnTo>
                    <a:lnTo>
                      <a:pt x="372" y="52"/>
                    </a:lnTo>
                    <a:lnTo>
                      <a:pt x="381" y="42"/>
                    </a:lnTo>
                    <a:lnTo>
                      <a:pt x="381" y="31"/>
                    </a:lnTo>
                    <a:lnTo>
                      <a:pt x="393" y="10"/>
                    </a:lnTo>
                    <a:lnTo>
                      <a:pt x="403" y="0"/>
                    </a:lnTo>
                    <a:lnTo>
                      <a:pt x="415" y="21"/>
                    </a:lnTo>
                    <a:lnTo>
                      <a:pt x="435" y="31"/>
                    </a:lnTo>
                    <a:lnTo>
                      <a:pt x="456" y="42"/>
                    </a:lnTo>
                    <a:lnTo>
                      <a:pt x="478" y="52"/>
                    </a:lnTo>
                    <a:lnTo>
                      <a:pt x="488" y="63"/>
                    </a:lnTo>
                    <a:lnTo>
                      <a:pt x="520" y="73"/>
                    </a:lnTo>
                    <a:lnTo>
                      <a:pt x="542" y="73"/>
                    </a:lnTo>
                    <a:lnTo>
                      <a:pt x="562" y="73"/>
                    </a:lnTo>
                    <a:lnTo>
                      <a:pt x="583" y="73"/>
                    </a:lnTo>
                    <a:lnTo>
                      <a:pt x="605" y="73"/>
                    </a:lnTo>
                    <a:lnTo>
                      <a:pt x="626" y="73"/>
                    </a:lnTo>
                    <a:lnTo>
                      <a:pt x="647" y="73"/>
                    </a:lnTo>
                    <a:lnTo>
                      <a:pt x="678" y="73"/>
                    </a:lnTo>
                    <a:lnTo>
                      <a:pt x="700" y="63"/>
                    </a:lnTo>
                    <a:lnTo>
                      <a:pt x="721" y="63"/>
                    </a:lnTo>
                    <a:lnTo>
                      <a:pt x="742" y="63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2134800" y="2390040"/>
                <a:ext cx="120960" cy="172440"/>
              </a:xfrm>
              <a:custGeom>
                <a:avLst/>
                <a:gdLst/>
                <a:ahLst/>
                <a:rect l="l" t="t" r="r" b="b"/>
                <a:pathLst>
                  <a:path w="317" h="445">
                    <a:moveTo>
                      <a:pt x="0" y="0"/>
                    </a:moveTo>
                    <a:lnTo>
                      <a:pt x="10" y="32"/>
                    </a:lnTo>
                    <a:lnTo>
                      <a:pt x="21" y="64"/>
                    </a:lnTo>
                    <a:lnTo>
                      <a:pt x="32" y="96"/>
                    </a:lnTo>
                    <a:lnTo>
                      <a:pt x="53" y="127"/>
                    </a:lnTo>
                    <a:lnTo>
                      <a:pt x="62" y="170"/>
                    </a:lnTo>
                    <a:lnTo>
                      <a:pt x="73" y="202"/>
                    </a:lnTo>
                    <a:lnTo>
                      <a:pt x="95" y="233"/>
                    </a:lnTo>
                    <a:lnTo>
                      <a:pt x="105" y="266"/>
                    </a:lnTo>
                    <a:lnTo>
                      <a:pt x="127" y="297"/>
                    </a:lnTo>
                    <a:lnTo>
                      <a:pt x="148" y="329"/>
                    </a:lnTo>
                    <a:lnTo>
                      <a:pt x="168" y="350"/>
                    </a:lnTo>
                    <a:lnTo>
                      <a:pt x="190" y="381"/>
                    </a:lnTo>
                    <a:lnTo>
                      <a:pt x="222" y="403"/>
                    </a:lnTo>
                    <a:lnTo>
                      <a:pt x="254" y="424"/>
                    </a:lnTo>
                    <a:lnTo>
                      <a:pt x="286" y="435"/>
                    </a:lnTo>
                    <a:lnTo>
                      <a:pt x="317" y="4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2001600" y="2593080"/>
                <a:ext cx="253800" cy="174600"/>
              </a:xfrm>
              <a:custGeom>
                <a:avLst/>
                <a:gdLst/>
                <a:ahLst/>
                <a:rect l="l" t="t" r="r" b="b"/>
                <a:pathLst>
                  <a:path w="657" h="455">
                    <a:moveTo>
                      <a:pt x="657" y="0"/>
                    </a:moveTo>
                    <a:lnTo>
                      <a:pt x="626" y="32"/>
                    </a:lnTo>
                    <a:lnTo>
                      <a:pt x="594" y="74"/>
                    </a:lnTo>
                    <a:lnTo>
                      <a:pt x="562" y="117"/>
                    </a:lnTo>
                    <a:lnTo>
                      <a:pt x="530" y="160"/>
                    </a:lnTo>
                    <a:lnTo>
                      <a:pt x="488" y="190"/>
                    </a:lnTo>
                    <a:lnTo>
                      <a:pt x="456" y="233"/>
                    </a:lnTo>
                    <a:lnTo>
                      <a:pt x="413" y="265"/>
                    </a:lnTo>
                    <a:lnTo>
                      <a:pt x="372" y="296"/>
                    </a:lnTo>
                    <a:lnTo>
                      <a:pt x="329" y="328"/>
                    </a:lnTo>
                    <a:lnTo>
                      <a:pt x="286" y="350"/>
                    </a:lnTo>
                    <a:lnTo>
                      <a:pt x="243" y="380"/>
                    </a:lnTo>
                    <a:lnTo>
                      <a:pt x="201" y="402"/>
                    </a:lnTo>
                    <a:lnTo>
                      <a:pt x="148" y="423"/>
                    </a:lnTo>
                    <a:lnTo>
                      <a:pt x="107" y="435"/>
                    </a:lnTo>
                    <a:lnTo>
                      <a:pt x="53" y="445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1833480" y="2696040"/>
                <a:ext cx="168120" cy="71640"/>
              </a:xfrm>
              <a:custGeom>
                <a:avLst/>
                <a:gdLst/>
                <a:ahLst/>
                <a:rect l="l" t="t" r="r" b="b"/>
                <a:pathLst>
                  <a:path w="435" h="190">
                    <a:moveTo>
                      <a:pt x="435" y="190"/>
                    </a:moveTo>
                    <a:lnTo>
                      <a:pt x="424" y="158"/>
                    </a:lnTo>
                    <a:lnTo>
                      <a:pt x="403" y="137"/>
                    </a:lnTo>
                    <a:lnTo>
                      <a:pt x="381" y="115"/>
                    </a:lnTo>
                    <a:lnTo>
                      <a:pt x="361" y="95"/>
                    </a:lnTo>
                    <a:lnTo>
                      <a:pt x="340" y="85"/>
                    </a:lnTo>
                    <a:lnTo>
                      <a:pt x="308" y="74"/>
                    </a:lnTo>
                    <a:lnTo>
                      <a:pt x="276" y="63"/>
                    </a:lnTo>
                    <a:lnTo>
                      <a:pt x="244" y="53"/>
                    </a:lnTo>
                    <a:lnTo>
                      <a:pt x="213" y="53"/>
                    </a:lnTo>
                    <a:lnTo>
                      <a:pt x="191" y="43"/>
                    </a:lnTo>
                    <a:lnTo>
                      <a:pt x="159" y="43"/>
                    </a:lnTo>
                    <a:lnTo>
                      <a:pt x="127" y="43"/>
                    </a:lnTo>
                    <a:lnTo>
                      <a:pt x="95" y="31"/>
                    </a:lnTo>
                    <a:lnTo>
                      <a:pt x="64" y="22"/>
                    </a:lnTo>
                    <a:lnTo>
                      <a:pt x="32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1852560" y="2455560"/>
                <a:ext cx="99720" cy="202680"/>
              </a:xfrm>
              <a:custGeom>
                <a:avLst/>
                <a:gdLst/>
                <a:ahLst/>
                <a:rect l="l" t="t" r="r" b="b"/>
                <a:pathLst>
                  <a:path w="255" h="519">
                    <a:moveTo>
                      <a:pt x="0" y="519"/>
                    </a:moveTo>
                    <a:lnTo>
                      <a:pt x="21" y="477"/>
                    </a:lnTo>
                    <a:lnTo>
                      <a:pt x="33" y="445"/>
                    </a:lnTo>
                    <a:lnTo>
                      <a:pt x="54" y="413"/>
                    </a:lnTo>
                    <a:lnTo>
                      <a:pt x="63" y="382"/>
                    </a:lnTo>
                    <a:lnTo>
                      <a:pt x="85" y="350"/>
                    </a:lnTo>
                    <a:lnTo>
                      <a:pt x="96" y="318"/>
                    </a:lnTo>
                    <a:lnTo>
                      <a:pt x="117" y="286"/>
                    </a:lnTo>
                    <a:lnTo>
                      <a:pt x="128" y="254"/>
                    </a:lnTo>
                    <a:lnTo>
                      <a:pt x="149" y="223"/>
                    </a:lnTo>
                    <a:lnTo>
                      <a:pt x="160" y="190"/>
                    </a:lnTo>
                    <a:lnTo>
                      <a:pt x="181" y="159"/>
                    </a:lnTo>
                    <a:lnTo>
                      <a:pt x="191" y="127"/>
                    </a:lnTo>
                    <a:lnTo>
                      <a:pt x="212" y="96"/>
                    </a:lnTo>
                    <a:lnTo>
                      <a:pt x="223" y="63"/>
                    </a:lnTo>
                    <a:lnTo>
                      <a:pt x="233" y="32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1952640" y="2368800"/>
                <a:ext cx="37440" cy="86760"/>
              </a:xfrm>
              <a:custGeom>
                <a:avLst/>
                <a:gdLst/>
                <a:ahLst/>
                <a:rect l="l" t="t" r="r" b="b"/>
                <a:pathLst>
                  <a:path w="95" h="222">
                    <a:moveTo>
                      <a:pt x="0" y="222"/>
                    </a:moveTo>
                    <a:lnTo>
                      <a:pt x="0" y="200"/>
                    </a:lnTo>
                    <a:lnTo>
                      <a:pt x="10" y="191"/>
                    </a:lnTo>
                    <a:lnTo>
                      <a:pt x="21" y="179"/>
                    </a:lnTo>
                    <a:lnTo>
                      <a:pt x="21" y="170"/>
                    </a:lnTo>
                    <a:lnTo>
                      <a:pt x="32" y="148"/>
                    </a:lnTo>
                    <a:lnTo>
                      <a:pt x="32" y="138"/>
                    </a:lnTo>
                    <a:lnTo>
                      <a:pt x="42" y="127"/>
                    </a:lnTo>
                    <a:lnTo>
                      <a:pt x="42" y="105"/>
                    </a:lnTo>
                    <a:lnTo>
                      <a:pt x="53" y="95"/>
                    </a:lnTo>
                    <a:lnTo>
                      <a:pt x="53" y="84"/>
                    </a:lnTo>
                    <a:lnTo>
                      <a:pt x="64" y="63"/>
                    </a:lnTo>
                    <a:lnTo>
                      <a:pt x="64" y="52"/>
                    </a:lnTo>
                    <a:lnTo>
                      <a:pt x="73" y="42"/>
                    </a:lnTo>
                    <a:lnTo>
                      <a:pt x="73" y="31"/>
                    </a:lnTo>
                    <a:lnTo>
                      <a:pt x="85" y="10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990720" y="2378160"/>
                <a:ext cx="350280" cy="662400"/>
              </a:xfrm>
              <a:custGeom>
                <a:avLst/>
                <a:gdLst/>
                <a:ahLst/>
                <a:rect l="l" t="t" r="r" b="b"/>
                <a:pathLst>
                  <a:path w="900" h="1707">
                    <a:moveTo>
                      <a:pt x="752" y="149"/>
                    </a:moveTo>
                    <a:lnTo>
                      <a:pt x="763" y="149"/>
                    </a:lnTo>
                    <a:lnTo>
                      <a:pt x="763" y="158"/>
                    </a:lnTo>
                    <a:lnTo>
                      <a:pt x="773" y="158"/>
                    </a:lnTo>
                    <a:lnTo>
                      <a:pt x="784" y="158"/>
                    </a:lnTo>
                    <a:lnTo>
                      <a:pt x="795" y="170"/>
                    </a:lnTo>
                    <a:lnTo>
                      <a:pt x="805" y="170"/>
                    </a:lnTo>
                    <a:lnTo>
                      <a:pt x="816" y="179"/>
                    </a:lnTo>
                    <a:lnTo>
                      <a:pt x="827" y="179"/>
                    </a:lnTo>
                    <a:lnTo>
                      <a:pt x="838" y="190"/>
                    </a:lnTo>
                    <a:lnTo>
                      <a:pt x="838" y="201"/>
                    </a:lnTo>
                    <a:lnTo>
                      <a:pt x="848" y="201"/>
                    </a:lnTo>
                    <a:lnTo>
                      <a:pt x="858" y="212"/>
                    </a:lnTo>
                    <a:lnTo>
                      <a:pt x="870" y="222"/>
                    </a:lnTo>
                    <a:lnTo>
                      <a:pt x="870" y="233"/>
                    </a:lnTo>
                    <a:lnTo>
                      <a:pt x="879" y="244"/>
                    </a:lnTo>
                    <a:lnTo>
                      <a:pt x="879" y="254"/>
                    </a:lnTo>
                    <a:lnTo>
                      <a:pt x="879" y="264"/>
                    </a:lnTo>
                    <a:lnTo>
                      <a:pt x="879" y="276"/>
                    </a:lnTo>
                    <a:lnTo>
                      <a:pt x="891" y="285"/>
                    </a:lnTo>
                    <a:lnTo>
                      <a:pt x="891" y="297"/>
                    </a:lnTo>
                    <a:lnTo>
                      <a:pt x="891" y="307"/>
                    </a:lnTo>
                    <a:lnTo>
                      <a:pt x="891" y="317"/>
                    </a:lnTo>
                    <a:lnTo>
                      <a:pt x="900" y="328"/>
                    </a:lnTo>
                    <a:lnTo>
                      <a:pt x="900" y="339"/>
                    </a:lnTo>
                    <a:lnTo>
                      <a:pt x="900" y="349"/>
                    </a:lnTo>
                    <a:lnTo>
                      <a:pt x="900" y="360"/>
                    </a:lnTo>
                    <a:lnTo>
                      <a:pt x="900" y="370"/>
                    </a:lnTo>
                    <a:lnTo>
                      <a:pt x="900" y="381"/>
                    </a:lnTo>
                    <a:lnTo>
                      <a:pt x="900" y="391"/>
                    </a:lnTo>
                    <a:lnTo>
                      <a:pt x="891" y="391"/>
                    </a:lnTo>
                    <a:lnTo>
                      <a:pt x="879" y="391"/>
                    </a:lnTo>
                    <a:lnTo>
                      <a:pt x="879" y="403"/>
                    </a:lnTo>
                    <a:lnTo>
                      <a:pt x="870" y="403"/>
                    </a:lnTo>
                    <a:lnTo>
                      <a:pt x="858" y="403"/>
                    </a:lnTo>
                    <a:lnTo>
                      <a:pt x="848" y="403"/>
                    </a:lnTo>
                    <a:lnTo>
                      <a:pt x="838" y="403"/>
                    </a:lnTo>
                    <a:lnTo>
                      <a:pt x="827" y="403"/>
                    </a:lnTo>
                    <a:lnTo>
                      <a:pt x="827" y="391"/>
                    </a:lnTo>
                    <a:lnTo>
                      <a:pt x="816" y="391"/>
                    </a:lnTo>
                    <a:lnTo>
                      <a:pt x="805" y="391"/>
                    </a:lnTo>
                    <a:lnTo>
                      <a:pt x="795" y="391"/>
                    </a:lnTo>
                    <a:lnTo>
                      <a:pt x="784" y="391"/>
                    </a:lnTo>
                    <a:lnTo>
                      <a:pt x="773" y="391"/>
                    </a:lnTo>
                    <a:lnTo>
                      <a:pt x="763" y="403"/>
                    </a:lnTo>
                    <a:lnTo>
                      <a:pt x="752" y="403"/>
                    </a:lnTo>
                    <a:lnTo>
                      <a:pt x="741" y="403"/>
                    </a:lnTo>
                    <a:lnTo>
                      <a:pt x="731" y="403"/>
                    </a:lnTo>
                    <a:lnTo>
                      <a:pt x="720" y="403"/>
                    </a:lnTo>
                    <a:lnTo>
                      <a:pt x="710" y="403"/>
                    </a:lnTo>
                    <a:lnTo>
                      <a:pt x="699" y="412"/>
                    </a:lnTo>
                    <a:lnTo>
                      <a:pt x="689" y="424"/>
                    </a:lnTo>
                    <a:lnTo>
                      <a:pt x="689" y="434"/>
                    </a:lnTo>
                    <a:lnTo>
                      <a:pt x="677" y="509"/>
                    </a:lnTo>
                    <a:lnTo>
                      <a:pt x="677" y="583"/>
                    </a:lnTo>
                    <a:lnTo>
                      <a:pt x="668" y="657"/>
                    </a:lnTo>
                    <a:lnTo>
                      <a:pt x="657" y="732"/>
                    </a:lnTo>
                    <a:lnTo>
                      <a:pt x="657" y="806"/>
                    </a:lnTo>
                    <a:lnTo>
                      <a:pt x="646" y="879"/>
                    </a:lnTo>
                    <a:lnTo>
                      <a:pt x="646" y="953"/>
                    </a:lnTo>
                    <a:lnTo>
                      <a:pt x="646" y="1028"/>
                    </a:lnTo>
                    <a:lnTo>
                      <a:pt x="636" y="1103"/>
                    </a:lnTo>
                    <a:lnTo>
                      <a:pt x="636" y="1176"/>
                    </a:lnTo>
                    <a:lnTo>
                      <a:pt x="636" y="1251"/>
                    </a:lnTo>
                    <a:lnTo>
                      <a:pt x="636" y="1325"/>
                    </a:lnTo>
                    <a:lnTo>
                      <a:pt x="636" y="1400"/>
                    </a:lnTo>
                    <a:lnTo>
                      <a:pt x="636" y="1473"/>
                    </a:lnTo>
                    <a:lnTo>
                      <a:pt x="636" y="1548"/>
                    </a:lnTo>
                    <a:lnTo>
                      <a:pt x="636" y="1611"/>
                    </a:lnTo>
                    <a:lnTo>
                      <a:pt x="636" y="1622"/>
                    </a:lnTo>
                    <a:lnTo>
                      <a:pt x="646" y="1632"/>
                    </a:lnTo>
                    <a:lnTo>
                      <a:pt x="646" y="1643"/>
                    </a:lnTo>
                    <a:lnTo>
                      <a:pt x="646" y="1654"/>
                    </a:lnTo>
                    <a:lnTo>
                      <a:pt x="646" y="1664"/>
                    </a:lnTo>
                    <a:lnTo>
                      <a:pt x="636" y="1675"/>
                    </a:lnTo>
                    <a:lnTo>
                      <a:pt x="636" y="1686"/>
                    </a:lnTo>
                    <a:lnTo>
                      <a:pt x="636" y="1695"/>
                    </a:lnTo>
                    <a:lnTo>
                      <a:pt x="625" y="1695"/>
                    </a:lnTo>
                    <a:lnTo>
                      <a:pt x="625" y="1707"/>
                    </a:lnTo>
                    <a:lnTo>
                      <a:pt x="614" y="1707"/>
                    </a:lnTo>
                    <a:lnTo>
                      <a:pt x="604" y="1707"/>
                    </a:lnTo>
                    <a:lnTo>
                      <a:pt x="593" y="1707"/>
                    </a:lnTo>
                    <a:lnTo>
                      <a:pt x="593" y="1695"/>
                    </a:lnTo>
                    <a:lnTo>
                      <a:pt x="583" y="1695"/>
                    </a:lnTo>
                    <a:lnTo>
                      <a:pt x="583" y="1686"/>
                    </a:lnTo>
                    <a:lnTo>
                      <a:pt x="571" y="1686"/>
                    </a:lnTo>
                    <a:lnTo>
                      <a:pt x="571" y="1675"/>
                    </a:lnTo>
                    <a:lnTo>
                      <a:pt x="562" y="1664"/>
                    </a:lnTo>
                    <a:lnTo>
                      <a:pt x="562" y="1654"/>
                    </a:lnTo>
                    <a:lnTo>
                      <a:pt x="550" y="1643"/>
                    </a:lnTo>
                    <a:lnTo>
                      <a:pt x="530" y="1590"/>
                    </a:lnTo>
                    <a:lnTo>
                      <a:pt x="498" y="1548"/>
                    </a:lnTo>
                    <a:lnTo>
                      <a:pt x="476" y="1493"/>
                    </a:lnTo>
                    <a:lnTo>
                      <a:pt x="456" y="1441"/>
                    </a:lnTo>
                    <a:lnTo>
                      <a:pt x="423" y="1400"/>
                    </a:lnTo>
                    <a:lnTo>
                      <a:pt x="403" y="1346"/>
                    </a:lnTo>
                    <a:lnTo>
                      <a:pt x="371" y="1303"/>
                    </a:lnTo>
                    <a:lnTo>
                      <a:pt x="339" y="1251"/>
                    </a:lnTo>
                    <a:lnTo>
                      <a:pt x="308" y="1208"/>
                    </a:lnTo>
                    <a:lnTo>
                      <a:pt x="276" y="1155"/>
                    </a:lnTo>
                    <a:lnTo>
                      <a:pt x="244" y="1113"/>
                    </a:lnTo>
                    <a:lnTo>
                      <a:pt x="212" y="1070"/>
                    </a:lnTo>
                    <a:lnTo>
                      <a:pt x="169" y="1028"/>
                    </a:lnTo>
                    <a:lnTo>
                      <a:pt x="127" y="986"/>
                    </a:lnTo>
                    <a:lnTo>
                      <a:pt x="84" y="943"/>
                    </a:lnTo>
                    <a:lnTo>
                      <a:pt x="42" y="911"/>
                    </a:lnTo>
                    <a:lnTo>
                      <a:pt x="0" y="847"/>
                    </a:lnTo>
                    <a:lnTo>
                      <a:pt x="0" y="795"/>
                    </a:lnTo>
                    <a:lnTo>
                      <a:pt x="0" y="741"/>
                    </a:lnTo>
                    <a:lnTo>
                      <a:pt x="0" y="699"/>
                    </a:lnTo>
                    <a:lnTo>
                      <a:pt x="10" y="646"/>
                    </a:lnTo>
                    <a:lnTo>
                      <a:pt x="10" y="593"/>
                    </a:lnTo>
                    <a:lnTo>
                      <a:pt x="10" y="541"/>
                    </a:lnTo>
                    <a:lnTo>
                      <a:pt x="21" y="487"/>
                    </a:lnTo>
                    <a:lnTo>
                      <a:pt x="21" y="444"/>
                    </a:lnTo>
                    <a:lnTo>
                      <a:pt x="21" y="391"/>
                    </a:lnTo>
                    <a:lnTo>
                      <a:pt x="31" y="339"/>
                    </a:lnTo>
                    <a:lnTo>
                      <a:pt x="31" y="285"/>
                    </a:lnTo>
                    <a:lnTo>
                      <a:pt x="42" y="233"/>
                    </a:lnTo>
                    <a:lnTo>
                      <a:pt x="52" y="190"/>
                    </a:lnTo>
                    <a:lnTo>
                      <a:pt x="52" y="137"/>
                    </a:lnTo>
                    <a:lnTo>
                      <a:pt x="63" y="84"/>
                    </a:lnTo>
                    <a:lnTo>
                      <a:pt x="74" y="42"/>
                    </a:lnTo>
                    <a:lnTo>
                      <a:pt x="74" y="31"/>
                    </a:lnTo>
                    <a:lnTo>
                      <a:pt x="74" y="21"/>
                    </a:lnTo>
                    <a:lnTo>
                      <a:pt x="74" y="10"/>
                    </a:lnTo>
                    <a:lnTo>
                      <a:pt x="84" y="1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37" y="10"/>
                    </a:lnTo>
                    <a:lnTo>
                      <a:pt x="169" y="10"/>
                    </a:lnTo>
                    <a:lnTo>
                      <a:pt x="212" y="21"/>
                    </a:lnTo>
                    <a:lnTo>
                      <a:pt x="254" y="31"/>
                    </a:lnTo>
                    <a:lnTo>
                      <a:pt x="296" y="42"/>
                    </a:lnTo>
                    <a:lnTo>
                      <a:pt x="339" y="42"/>
                    </a:lnTo>
                    <a:lnTo>
                      <a:pt x="381" y="52"/>
                    </a:lnTo>
                    <a:lnTo>
                      <a:pt x="423" y="63"/>
                    </a:lnTo>
                    <a:lnTo>
                      <a:pt x="466" y="74"/>
                    </a:lnTo>
                    <a:lnTo>
                      <a:pt x="508" y="84"/>
                    </a:lnTo>
                    <a:lnTo>
                      <a:pt x="550" y="95"/>
                    </a:lnTo>
                    <a:lnTo>
                      <a:pt x="583" y="106"/>
                    </a:lnTo>
                    <a:lnTo>
                      <a:pt x="625" y="106"/>
                    </a:lnTo>
                    <a:lnTo>
                      <a:pt x="668" y="127"/>
                    </a:lnTo>
                    <a:lnTo>
                      <a:pt x="710" y="137"/>
                    </a:lnTo>
                    <a:lnTo>
                      <a:pt x="752" y="14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1238400" y="2546640"/>
                <a:ext cx="20880" cy="457200"/>
              </a:xfrm>
              <a:custGeom>
                <a:avLst/>
                <a:gdLst/>
                <a:ahLst/>
                <a:rect l="l" t="t" r="r" b="b"/>
                <a:pathLst>
                  <a:path w="53" h="1177">
                    <a:moveTo>
                      <a:pt x="53" y="0"/>
                    </a:moveTo>
                    <a:lnTo>
                      <a:pt x="41" y="75"/>
                    </a:lnTo>
                    <a:lnTo>
                      <a:pt x="41" y="149"/>
                    </a:lnTo>
                    <a:lnTo>
                      <a:pt x="32" y="223"/>
                    </a:lnTo>
                    <a:lnTo>
                      <a:pt x="21" y="298"/>
                    </a:lnTo>
                    <a:lnTo>
                      <a:pt x="21" y="372"/>
                    </a:lnTo>
                    <a:lnTo>
                      <a:pt x="10" y="445"/>
                    </a:lnTo>
                    <a:lnTo>
                      <a:pt x="10" y="519"/>
                    </a:lnTo>
                    <a:lnTo>
                      <a:pt x="10" y="594"/>
                    </a:lnTo>
                    <a:lnTo>
                      <a:pt x="0" y="669"/>
                    </a:lnTo>
                    <a:lnTo>
                      <a:pt x="0" y="742"/>
                    </a:lnTo>
                    <a:lnTo>
                      <a:pt x="0" y="817"/>
                    </a:lnTo>
                    <a:lnTo>
                      <a:pt x="0" y="891"/>
                    </a:lnTo>
                    <a:lnTo>
                      <a:pt x="0" y="966"/>
                    </a:lnTo>
                    <a:lnTo>
                      <a:pt x="0" y="1039"/>
                    </a:lnTo>
                    <a:lnTo>
                      <a:pt x="0" y="1114"/>
                    </a:lnTo>
                    <a:lnTo>
                      <a:pt x="0" y="117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1006920" y="2732760"/>
                <a:ext cx="198360" cy="284400"/>
              </a:xfrm>
              <a:custGeom>
                <a:avLst/>
                <a:gdLst/>
                <a:ahLst/>
                <a:rect l="l" t="t" r="r" b="b"/>
                <a:pathLst>
                  <a:path w="508" h="732">
                    <a:moveTo>
                      <a:pt x="508" y="732"/>
                    </a:moveTo>
                    <a:lnTo>
                      <a:pt x="488" y="679"/>
                    </a:lnTo>
                    <a:lnTo>
                      <a:pt x="456" y="637"/>
                    </a:lnTo>
                    <a:lnTo>
                      <a:pt x="434" y="582"/>
                    </a:lnTo>
                    <a:lnTo>
                      <a:pt x="414" y="530"/>
                    </a:lnTo>
                    <a:lnTo>
                      <a:pt x="381" y="489"/>
                    </a:lnTo>
                    <a:lnTo>
                      <a:pt x="361" y="435"/>
                    </a:lnTo>
                    <a:lnTo>
                      <a:pt x="329" y="392"/>
                    </a:lnTo>
                    <a:lnTo>
                      <a:pt x="297" y="340"/>
                    </a:lnTo>
                    <a:lnTo>
                      <a:pt x="266" y="297"/>
                    </a:lnTo>
                    <a:lnTo>
                      <a:pt x="234" y="244"/>
                    </a:lnTo>
                    <a:lnTo>
                      <a:pt x="202" y="202"/>
                    </a:lnTo>
                    <a:lnTo>
                      <a:pt x="170" y="159"/>
                    </a:lnTo>
                    <a:lnTo>
                      <a:pt x="127" y="117"/>
                    </a:lnTo>
                    <a:lnTo>
                      <a:pt x="85" y="75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990720" y="2394720"/>
                <a:ext cx="27720" cy="312480"/>
              </a:xfrm>
              <a:custGeom>
                <a:avLst/>
                <a:gdLst/>
                <a:ahLst/>
                <a:rect l="l" t="t" r="r" b="b"/>
                <a:pathLst>
                  <a:path w="74" h="805">
                    <a:moveTo>
                      <a:pt x="0" y="805"/>
                    </a:moveTo>
                    <a:lnTo>
                      <a:pt x="0" y="753"/>
                    </a:lnTo>
                    <a:lnTo>
                      <a:pt x="0" y="699"/>
                    </a:lnTo>
                    <a:lnTo>
                      <a:pt x="0" y="657"/>
                    </a:lnTo>
                    <a:lnTo>
                      <a:pt x="10" y="604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21" y="445"/>
                    </a:lnTo>
                    <a:lnTo>
                      <a:pt x="21" y="402"/>
                    </a:lnTo>
                    <a:lnTo>
                      <a:pt x="21" y="349"/>
                    </a:lnTo>
                    <a:lnTo>
                      <a:pt x="31" y="297"/>
                    </a:lnTo>
                    <a:lnTo>
                      <a:pt x="31" y="243"/>
                    </a:lnTo>
                    <a:lnTo>
                      <a:pt x="42" y="191"/>
                    </a:lnTo>
                    <a:lnTo>
                      <a:pt x="52" y="148"/>
                    </a:lnTo>
                    <a:lnTo>
                      <a:pt x="52" y="95"/>
                    </a:lnTo>
                    <a:lnTo>
                      <a:pt x="63" y="42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1011600" y="2396880"/>
                <a:ext cx="310680" cy="595440"/>
              </a:xfrm>
              <a:custGeom>
                <a:avLst/>
                <a:gdLst/>
                <a:ahLst/>
                <a:rect l="l" t="t" r="r" b="b"/>
                <a:pathLst>
                  <a:path w="796" h="1527">
                    <a:moveTo>
                      <a:pt x="753" y="192"/>
                    </a:moveTo>
                    <a:lnTo>
                      <a:pt x="764" y="202"/>
                    </a:lnTo>
                    <a:lnTo>
                      <a:pt x="775" y="212"/>
                    </a:lnTo>
                    <a:lnTo>
                      <a:pt x="786" y="224"/>
                    </a:lnTo>
                    <a:lnTo>
                      <a:pt x="786" y="233"/>
                    </a:lnTo>
                    <a:lnTo>
                      <a:pt x="786" y="245"/>
                    </a:lnTo>
                    <a:lnTo>
                      <a:pt x="786" y="255"/>
                    </a:lnTo>
                    <a:lnTo>
                      <a:pt x="786" y="265"/>
                    </a:lnTo>
                    <a:lnTo>
                      <a:pt x="796" y="276"/>
                    </a:lnTo>
                    <a:lnTo>
                      <a:pt x="796" y="287"/>
                    </a:lnTo>
                    <a:lnTo>
                      <a:pt x="796" y="297"/>
                    </a:lnTo>
                    <a:lnTo>
                      <a:pt x="796" y="308"/>
                    </a:lnTo>
                    <a:lnTo>
                      <a:pt x="786" y="297"/>
                    </a:lnTo>
                    <a:lnTo>
                      <a:pt x="775" y="297"/>
                    </a:lnTo>
                    <a:lnTo>
                      <a:pt x="764" y="297"/>
                    </a:lnTo>
                    <a:lnTo>
                      <a:pt x="753" y="297"/>
                    </a:lnTo>
                    <a:lnTo>
                      <a:pt x="743" y="297"/>
                    </a:lnTo>
                    <a:lnTo>
                      <a:pt x="732" y="297"/>
                    </a:lnTo>
                    <a:lnTo>
                      <a:pt x="721" y="297"/>
                    </a:lnTo>
                    <a:lnTo>
                      <a:pt x="711" y="308"/>
                    </a:lnTo>
                    <a:lnTo>
                      <a:pt x="700" y="308"/>
                    </a:lnTo>
                    <a:lnTo>
                      <a:pt x="689" y="308"/>
                    </a:lnTo>
                    <a:lnTo>
                      <a:pt x="679" y="308"/>
                    </a:lnTo>
                    <a:lnTo>
                      <a:pt x="668" y="308"/>
                    </a:lnTo>
                    <a:lnTo>
                      <a:pt x="658" y="318"/>
                    </a:lnTo>
                    <a:lnTo>
                      <a:pt x="647" y="318"/>
                    </a:lnTo>
                    <a:lnTo>
                      <a:pt x="637" y="318"/>
                    </a:lnTo>
                    <a:lnTo>
                      <a:pt x="637" y="308"/>
                    </a:lnTo>
                    <a:lnTo>
                      <a:pt x="625" y="308"/>
                    </a:lnTo>
                    <a:lnTo>
                      <a:pt x="625" y="318"/>
                    </a:lnTo>
                    <a:lnTo>
                      <a:pt x="616" y="318"/>
                    </a:lnTo>
                    <a:lnTo>
                      <a:pt x="616" y="329"/>
                    </a:lnTo>
                    <a:lnTo>
                      <a:pt x="605" y="329"/>
                    </a:lnTo>
                    <a:lnTo>
                      <a:pt x="605" y="339"/>
                    </a:lnTo>
                    <a:lnTo>
                      <a:pt x="594" y="339"/>
                    </a:lnTo>
                    <a:lnTo>
                      <a:pt x="594" y="351"/>
                    </a:lnTo>
                    <a:lnTo>
                      <a:pt x="594" y="424"/>
                    </a:lnTo>
                    <a:lnTo>
                      <a:pt x="584" y="499"/>
                    </a:lnTo>
                    <a:lnTo>
                      <a:pt x="584" y="573"/>
                    </a:lnTo>
                    <a:lnTo>
                      <a:pt x="573" y="647"/>
                    </a:lnTo>
                    <a:lnTo>
                      <a:pt x="573" y="721"/>
                    </a:lnTo>
                    <a:lnTo>
                      <a:pt x="562" y="795"/>
                    </a:lnTo>
                    <a:lnTo>
                      <a:pt x="562" y="870"/>
                    </a:lnTo>
                    <a:lnTo>
                      <a:pt x="552" y="944"/>
                    </a:lnTo>
                    <a:lnTo>
                      <a:pt x="552" y="1008"/>
                    </a:lnTo>
                    <a:lnTo>
                      <a:pt x="541" y="1081"/>
                    </a:lnTo>
                    <a:lnTo>
                      <a:pt x="541" y="1156"/>
                    </a:lnTo>
                    <a:lnTo>
                      <a:pt x="541" y="1230"/>
                    </a:lnTo>
                    <a:lnTo>
                      <a:pt x="531" y="1305"/>
                    </a:lnTo>
                    <a:lnTo>
                      <a:pt x="531" y="1378"/>
                    </a:lnTo>
                    <a:lnTo>
                      <a:pt x="531" y="1453"/>
                    </a:lnTo>
                    <a:lnTo>
                      <a:pt x="541" y="1516"/>
                    </a:lnTo>
                    <a:lnTo>
                      <a:pt x="541" y="1527"/>
                    </a:lnTo>
                    <a:lnTo>
                      <a:pt x="531" y="1527"/>
                    </a:lnTo>
                    <a:lnTo>
                      <a:pt x="531" y="1516"/>
                    </a:lnTo>
                    <a:lnTo>
                      <a:pt x="498" y="1475"/>
                    </a:lnTo>
                    <a:lnTo>
                      <a:pt x="478" y="1421"/>
                    </a:lnTo>
                    <a:lnTo>
                      <a:pt x="456" y="1378"/>
                    </a:lnTo>
                    <a:lnTo>
                      <a:pt x="435" y="1326"/>
                    </a:lnTo>
                    <a:lnTo>
                      <a:pt x="404" y="1283"/>
                    </a:lnTo>
                    <a:lnTo>
                      <a:pt x="383" y="1242"/>
                    </a:lnTo>
                    <a:lnTo>
                      <a:pt x="361" y="1188"/>
                    </a:lnTo>
                    <a:lnTo>
                      <a:pt x="329" y="1146"/>
                    </a:lnTo>
                    <a:lnTo>
                      <a:pt x="298" y="1103"/>
                    </a:lnTo>
                    <a:lnTo>
                      <a:pt x="265" y="1051"/>
                    </a:lnTo>
                    <a:lnTo>
                      <a:pt x="234" y="1008"/>
                    </a:lnTo>
                    <a:lnTo>
                      <a:pt x="202" y="965"/>
                    </a:lnTo>
                    <a:lnTo>
                      <a:pt x="170" y="934"/>
                    </a:lnTo>
                    <a:lnTo>
                      <a:pt x="127" y="891"/>
                    </a:lnTo>
                    <a:lnTo>
                      <a:pt x="85" y="849"/>
                    </a:lnTo>
                    <a:lnTo>
                      <a:pt x="43" y="817"/>
                    </a:lnTo>
                    <a:lnTo>
                      <a:pt x="32" y="807"/>
                    </a:lnTo>
                    <a:lnTo>
                      <a:pt x="22" y="795"/>
                    </a:lnTo>
                    <a:lnTo>
                      <a:pt x="22" y="786"/>
                    </a:lnTo>
                    <a:lnTo>
                      <a:pt x="11" y="786"/>
                    </a:lnTo>
                    <a:lnTo>
                      <a:pt x="11" y="774"/>
                    </a:lnTo>
                    <a:lnTo>
                      <a:pt x="11" y="764"/>
                    </a:lnTo>
                    <a:lnTo>
                      <a:pt x="0" y="754"/>
                    </a:lnTo>
                    <a:lnTo>
                      <a:pt x="0" y="743"/>
                    </a:lnTo>
                    <a:lnTo>
                      <a:pt x="0" y="732"/>
                    </a:lnTo>
                    <a:lnTo>
                      <a:pt x="0" y="721"/>
                    </a:lnTo>
                    <a:lnTo>
                      <a:pt x="11" y="721"/>
                    </a:lnTo>
                    <a:lnTo>
                      <a:pt x="11" y="711"/>
                    </a:lnTo>
                    <a:lnTo>
                      <a:pt x="11" y="668"/>
                    </a:lnTo>
                    <a:lnTo>
                      <a:pt x="11" y="626"/>
                    </a:lnTo>
                    <a:lnTo>
                      <a:pt x="11" y="584"/>
                    </a:lnTo>
                    <a:lnTo>
                      <a:pt x="11" y="541"/>
                    </a:lnTo>
                    <a:lnTo>
                      <a:pt x="22" y="510"/>
                    </a:lnTo>
                    <a:lnTo>
                      <a:pt x="22" y="467"/>
                    </a:lnTo>
                    <a:lnTo>
                      <a:pt x="22" y="424"/>
                    </a:lnTo>
                    <a:lnTo>
                      <a:pt x="22" y="382"/>
                    </a:lnTo>
                    <a:lnTo>
                      <a:pt x="22" y="339"/>
                    </a:lnTo>
                    <a:lnTo>
                      <a:pt x="32" y="297"/>
                    </a:lnTo>
                    <a:lnTo>
                      <a:pt x="32" y="255"/>
                    </a:lnTo>
                    <a:lnTo>
                      <a:pt x="32" y="224"/>
                    </a:lnTo>
                    <a:lnTo>
                      <a:pt x="43" y="181"/>
                    </a:lnTo>
                    <a:lnTo>
                      <a:pt x="43" y="138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54" y="54"/>
                    </a:lnTo>
                    <a:lnTo>
                      <a:pt x="54" y="43"/>
                    </a:lnTo>
                    <a:lnTo>
                      <a:pt x="54" y="32"/>
                    </a:lnTo>
                    <a:lnTo>
                      <a:pt x="54" y="22"/>
                    </a:lnTo>
                    <a:lnTo>
                      <a:pt x="54" y="11"/>
                    </a:lnTo>
                    <a:lnTo>
                      <a:pt x="63" y="0"/>
                    </a:lnTo>
                    <a:lnTo>
                      <a:pt x="106" y="11"/>
                    </a:lnTo>
                    <a:lnTo>
                      <a:pt x="149" y="22"/>
                    </a:lnTo>
                    <a:lnTo>
                      <a:pt x="192" y="32"/>
                    </a:lnTo>
                    <a:lnTo>
                      <a:pt x="244" y="32"/>
                    </a:lnTo>
                    <a:lnTo>
                      <a:pt x="287" y="43"/>
                    </a:lnTo>
                    <a:lnTo>
                      <a:pt x="329" y="54"/>
                    </a:lnTo>
                    <a:lnTo>
                      <a:pt x="371" y="65"/>
                    </a:lnTo>
                    <a:lnTo>
                      <a:pt x="414" y="75"/>
                    </a:lnTo>
                    <a:lnTo>
                      <a:pt x="456" y="85"/>
                    </a:lnTo>
                    <a:lnTo>
                      <a:pt x="510" y="97"/>
                    </a:lnTo>
                    <a:lnTo>
                      <a:pt x="552" y="106"/>
                    </a:lnTo>
                    <a:lnTo>
                      <a:pt x="594" y="127"/>
                    </a:lnTo>
                    <a:lnTo>
                      <a:pt x="637" y="138"/>
                    </a:lnTo>
                    <a:lnTo>
                      <a:pt x="668" y="160"/>
                    </a:lnTo>
                    <a:lnTo>
                      <a:pt x="711" y="170"/>
                    </a:lnTo>
                    <a:lnTo>
                      <a:pt x="753" y="19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1217160" y="2534400"/>
                <a:ext cx="25920" cy="452880"/>
              </a:xfrm>
              <a:custGeom>
                <a:avLst/>
                <a:gdLst/>
                <a:ahLst/>
                <a:rect l="l" t="t" r="r" b="b"/>
                <a:pathLst>
                  <a:path w="63" h="1165">
                    <a:moveTo>
                      <a:pt x="63" y="0"/>
                    </a:moveTo>
                    <a:lnTo>
                      <a:pt x="63" y="73"/>
                    </a:lnTo>
                    <a:lnTo>
                      <a:pt x="53" y="148"/>
                    </a:lnTo>
                    <a:lnTo>
                      <a:pt x="53" y="222"/>
                    </a:lnTo>
                    <a:lnTo>
                      <a:pt x="42" y="296"/>
                    </a:lnTo>
                    <a:lnTo>
                      <a:pt x="42" y="370"/>
                    </a:lnTo>
                    <a:lnTo>
                      <a:pt x="31" y="444"/>
                    </a:lnTo>
                    <a:lnTo>
                      <a:pt x="31" y="519"/>
                    </a:lnTo>
                    <a:lnTo>
                      <a:pt x="21" y="593"/>
                    </a:lnTo>
                    <a:lnTo>
                      <a:pt x="21" y="657"/>
                    </a:lnTo>
                    <a:lnTo>
                      <a:pt x="10" y="730"/>
                    </a:lnTo>
                    <a:lnTo>
                      <a:pt x="10" y="805"/>
                    </a:lnTo>
                    <a:lnTo>
                      <a:pt x="10" y="879"/>
                    </a:lnTo>
                    <a:lnTo>
                      <a:pt x="0" y="954"/>
                    </a:lnTo>
                    <a:lnTo>
                      <a:pt x="0" y="1027"/>
                    </a:lnTo>
                    <a:lnTo>
                      <a:pt x="0" y="1102"/>
                    </a:lnTo>
                    <a:lnTo>
                      <a:pt x="10" y="11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1028160" y="2714400"/>
                <a:ext cx="189000" cy="272880"/>
              </a:xfrm>
              <a:custGeom>
                <a:avLst/>
                <a:gdLst/>
                <a:ahLst/>
                <a:rect l="l" t="t" r="r" b="b"/>
                <a:pathLst>
                  <a:path w="488" h="699">
                    <a:moveTo>
                      <a:pt x="488" y="699"/>
                    </a:moveTo>
                    <a:lnTo>
                      <a:pt x="455" y="658"/>
                    </a:lnTo>
                    <a:lnTo>
                      <a:pt x="435" y="604"/>
                    </a:lnTo>
                    <a:lnTo>
                      <a:pt x="413" y="561"/>
                    </a:lnTo>
                    <a:lnTo>
                      <a:pt x="392" y="509"/>
                    </a:lnTo>
                    <a:lnTo>
                      <a:pt x="361" y="466"/>
                    </a:lnTo>
                    <a:lnTo>
                      <a:pt x="340" y="425"/>
                    </a:lnTo>
                    <a:lnTo>
                      <a:pt x="318" y="371"/>
                    </a:lnTo>
                    <a:lnTo>
                      <a:pt x="286" y="329"/>
                    </a:lnTo>
                    <a:lnTo>
                      <a:pt x="255" y="286"/>
                    </a:lnTo>
                    <a:lnTo>
                      <a:pt x="222" y="234"/>
                    </a:lnTo>
                    <a:lnTo>
                      <a:pt x="191" y="191"/>
                    </a:lnTo>
                    <a:lnTo>
                      <a:pt x="159" y="148"/>
                    </a:lnTo>
                    <a:lnTo>
                      <a:pt x="127" y="117"/>
                    </a:lnTo>
                    <a:lnTo>
                      <a:pt x="84" y="74"/>
                    </a:lnTo>
                    <a:lnTo>
                      <a:pt x="42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1016640" y="2418120"/>
                <a:ext cx="11520" cy="256680"/>
              </a:xfrm>
              <a:custGeom>
                <a:avLst/>
                <a:gdLst/>
                <a:ahLst/>
                <a:rect l="l" t="t" r="r" b="b"/>
                <a:pathLst>
                  <a:path w="32" h="657">
                    <a:moveTo>
                      <a:pt x="0" y="657"/>
                    </a:moveTo>
                    <a:lnTo>
                      <a:pt x="0" y="614"/>
                    </a:lnTo>
                    <a:lnTo>
                      <a:pt x="0" y="572"/>
                    </a:lnTo>
                    <a:lnTo>
                      <a:pt x="0" y="530"/>
                    </a:lnTo>
                    <a:lnTo>
                      <a:pt x="0" y="487"/>
                    </a:lnTo>
                    <a:lnTo>
                      <a:pt x="11" y="456"/>
                    </a:lnTo>
                    <a:lnTo>
                      <a:pt x="11" y="413"/>
                    </a:lnTo>
                    <a:lnTo>
                      <a:pt x="11" y="370"/>
                    </a:lnTo>
                    <a:lnTo>
                      <a:pt x="11" y="328"/>
                    </a:lnTo>
                    <a:lnTo>
                      <a:pt x="11" y="285"/>
                    </a:lnTo>
                    <a:lnTo>
                      <a:pt x="21" y="243"/>
                    </a:lnTo>
                    <a:lnTo>
                      <a:pt x="21" y="201"/>
                    </a:lnTo>
                    <a:lnTo>
                      <a:pt x="21" y="170"/>
                    </a:lnTo>
                    <a:lnTo>
                      <a:pt x="32" y="127"/>
                    </a:lnTo>
                    <a:lnTo>
                      <a:pt x="32" y="84"/>
                    </a:lnTo>
                    <a:lnTo>
                      <a:pt x="32" y="43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1035000" y="2396880"/>
                <a:ext cx="268200" cy="74520"/>
              </a:xfrm>
              <a:custGeom>
                <a:avLst/>
                <a:gdLst/>
                <a:ahLst/>
                <a:rect l="l" t="t" r="r" b="b"/>
                <a:pathLst>
                  <a:path w="690" h="192">
                    <a:moveTo>
                      <a:pt x="0" y="0"/>
                    </a:moveTo>
                    <a:lnTo>
                      <a:pt x="43" y="11"/>
                    </a:lnTo>
                    <a:lnTo>
                      <a:pt x="86" y="22"/>
                    </a:lnTo>
                    <a:lnTo>
                      <a:pt x="129" y="32"/>
                    </a:lnTo>
                    <a:lnTo>
                      <a:pt x="181" y="32"/>
                    </a:lnTo>
                    <a:lnTo>
                      <a:pt x="224" y="43"/>
                    </a:lnTo>
                    <a:lnTo>
                      <a:pt x="266" y="54"/>
                    </a:lnTo>
                    <a:lnTo>
                      <a:pt x="308" y="65"/>
                    </a:lnTo>
                    <a:lnTo>
                      <a:pt x="351" y="75"/>
                    </a:lnTo>
                    <a:lnTo>
                      <a:pt x="393" y="85"/>
                    </a:lnTo>
                    <a:lnTo>
                      <a:pt x="447" y="97"/>
                    </a:lnTo>
                    <a:lnTo>
                      <a:pt x="489" y="106"/>
                    </a:lnTo>
                    <a:lnTo>
                      <a:pt x="531" y="127"/>
                    </a:lnTo>
                    <a:lnTo>
                      <a:pt x="574" y="138"/>
                    </a:lnTo>
                    <a:lnTo>
                      <a:pt x="605" y="160"/>
                    </a:lnTo>
                    <a:lnTo>
                      <a:pt x="648" y="170"/>
                    </a:lnTo>
                    <a:lnTo>
                      <a:pt x="690" y="19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1259640" y="2546640"/>
                <a:ext cx="307800" cy="538560"/>
              </a:xfrm>
              <a:custGeom>
                <a:avLst/>
                <a:gdLst/>
                <a:ahLst/>
                <a:rect l="l" t="t" r="r" b="b"/>
                <a:pathLst>
                  <a:path w="795" h="1388">
                    <a:moveTo>
                      <a:pt x="84" y="0"/>
                    </a:moveTo>
                    <a:lnTo>
                      <a:pt x="116" y="42"/>
                    </a:lnTo>
                    <a:lnTo>
                      <a:pt x="159" y="85"/>
                    </a:lnTo>
                    <a:lnTo>
                      <a:pt x="190" y="128"/>
                    </a:lnTo>
                    <a:lnTo>
                      <a:pt x="233" y="171"/>
                    </a:lnTo>
                    <a:lnTo>
                      <a:pt x="265" y="212"/>
                    </a:lnTo>
                    <a:lnTo>
                      <a:pt x="308" y="244"/>
                    </a:lnTo>
                    <a:lnTo>
                      <a:pt x="349" y="286"/>
                    </a:lnTo>
                    <a:lnTo>
                      <a:pt x="392" y="329"/>
                    </a:lnTo>
                    <a:lnTo>
                      <a:pt x="435" y="361"/>
                    </a:lnTo>
                    <a:lnTo>
                      <a:pt x="476" y="392"/>
                    </a:lnTo>
                    <a:lnTo>
                      <a:pt x="519" y="435"/>
                    </a:lnTo>
                    <a:lnTo>
                      <a:pt x="562" y="467"/>
                    </a:lnTo>
                    <a:lnTo>
                      <a:pt x="603" y="497"/>
                    </a:lnTo>
                    <a:lnTo>
                      <a:pt x="646" y="519"/>
                    </a:lnTo>
                    <a:lnTo>
                      <a:pt x="700" y="552"/>
                    </a:lnTo>
                    <a:lnTo>
                      <a:pt x="742" y="572"/>
                    </a:lnTo>
                    <a:lnTo>
                      <a:pt x="752" y="583"/>
                    </a:lnTo>
                    <a:lnTo>
                      <a:pt x="764" y="594"/>
                    </a:lnTo>
                    <a:lnTo>
                      <a:pt x="773" y="604"/>
                    </a:lnTo>
                    <a:lnTo>
                      <a:pt x="773" y="615"/>
                    </a:lnTo>
                    <a:lnTo>
                      <a:pt x="784" y="626"/>
                    </a:lnTo>
                    <a:lnTo>
                      <a:pt x="784" y="636"/>
                    </a:lnTo>
                    <a:lnTo>
                      <a:pt x="795" y="647"/>
                    </a:lnTo>
                    <a:lnTo>
                      <a:pt x="795" y="658"/>
                    </a:lnTo>
                    <a:lnTo>
                      <a:pt x="795" y="669"/>
                    </a:lnTo>
                    <a:lnTo>
                      <a:pt x="784" y="679"/>
                    </a:lnTo>
                    <a:lnTo>
                      <a:pt x="784" y="690"/>
                    </a:lnTo>
                    <a:lnTo>
                      <a:pt x="764" y="721"/>
                    </a:lnTo>
                    <a:lnTo>
                      <a:pt x="752" y="753"/>
                    </a:lnTo>
                    <a:lnTo>
                      <a:pt x="731" y="785"/>
                    </a:lnTo>
                    <a:lnTo>
                      <a:pt x="710" y="817"/>
                    </a:lnTo>
                    <a:lnTo>
                      <a:pt x="689" y="848"/>
                    </a:lnTo>
                    <a:lnTo>
                      <a:pt x="678" y="880"/>
                    </a:lnTo>
                    <a:lnTo>
                      <a:pt x="657" y="912"/>
                    </a:lnTo>
                    <a:lnTo>
                      <a:pt x="636" y="944"/>
                    </a:lnTo>
                    <a:lnTo>
                      <a:pt x="625" y="975"/>
                    </a:lnTo>
                    <a:lnTo>
                      <a:pt x="603" y="1018"/>
                    </a:lnTo>
                    <a:lnTo>
                      <a:pt x="593" y="1050"/>
                    </a:lnTo>
                    <a:lnTo>
                      <a:pt x="571" y="1081"/>
                    </a:lnTo>
                    <a:lnTo>
                      <a:pt x="562" y="1114"/>
                    </a:lnTo>
                    <a:lnTo>
                      <a:pt x="550" y="1156"/>
                    </a:lnTo>
                    <a:lnTo>
                      <a:pt x="541" y="1188"/>
                    </a:lnTo>
                    <a:lnTo>
                      <a:pt x="530" y="1230"/>
                    </a:lnTo>
                    <a:lnTo>
                      <a:pt x="519" y="1241"/>
                    </a:lnTo>
                    <a:lnTo>
                      <a:pt x="519" y="1252"/>
                    </a:lnTo>
                    <a:lnTo>
                      <a:pt x="508" y="1261"/>
                    </a:lnTo>
                    <a:lnTo>
                      <a:pt x="508" y="1273"/>
                    </a:lnTo>
                    <a:lnTo>
                      <a:pt x="508" y="1283"/>
                    </a:lnTo>
                    <a:lnTo>
                      <a:pt x="498" y="1283"/>
                    </a:lnTo>
                    <a:lnTo>
                      <a:pt x="498" y="1295"/>
                    </a:lnTo>
                    <a:lnTo>
                      <a:pt x="487" y="1304"/>
                    </a:lnTo>
                    <a:lnTo>
                      <a:pt x="476" y="1315"/>
                    </a:lnTo>
                    <a:lnTo>
                      <a:pt x="466" y="1326"/>
                    </a:lnTo>
                    <a:lnTo>
                      <a:pt x="456" y="1326"/>
                    </a:lnTo>
                    <a:lnTo>
                      <a:pt x="444" y="1326"/>
                    </a:lnTo>
                    <a:lnTo>
                      <a:pt x="435" y="1336"/>
                    </a:lnTo>
                    <a:lnTo>
                      <a:pt x="423" y="1336"/>
                    </a:lnTo>
                    <a:lnTo>
                      <a:pt x="413" y="1347"/>
                    </a:lnTo>
                    <a:lnTo>
                      <a:pt x="403" y="1347"/>
                    </a:lnTo>
                    <a:lnTo>
                      <a:pt x="392" y="1347"/>
                    </a:lnTo>
                    <a:lnTo>
                      <a:pt x="381" y="1347"/>
                    </a:lnTo>
                    <a:lnTo>
                      <a:pt x="371" y="1358"/>
                    </a:lnTo>
                    <a:lnTo>
                      <a:pt x="360" y="1358"/>
                    </a:lnTo>
                    <a:lnTo>
                      <a:pt x="349" y="1358"/>
                    </a:lnTo>
                    <a:lnTo>
                      <a:pt x="339" y="1358"/>
                    </a:lnTo>
                    <a:lnTo>
                      <a:pt x="329" y="1367"/>
                    </a:lnTo>
                    <a:lnTo>
                      <a:pt x="317" y="1367"/>
                    </a:lnTo>
                    <a:lnTo>
                      <a:pt x="308" y="1367"/>
                    </a:lnTo>
                    <a:lnTo>
                      <a:pt x="296" y="1367"/>
                    </a:lnTo>
                    <a:lnTo>
                      <a:pt x="276" y="1379"/>
                    </a:lnTo>
                    <a:lnTo>
                      <a:pt x="286" y="1379"/>
                    </a:lnTo>
                    <a:lnTo>
                      <a:pt x="265" y="1379"/>
                    </a:lnTo>
                    <a:lnTo>
                      <a:pt x="244" y="1379"/>
                    </a:lnTo>
                    <a:lnTo>
                      <a:pt x="233" y="1379"/>
                    </a:lnTo>
                    <a:lnTo>
                      <a:pt x="222" y="1379"/>
                    </a:lnTo>
                    <a:lnTo>
                      <a:pt x="202" y="1388"/>
                    </a:lnTo>
                    <a:lnTo>
                      <a:pt x="190" y="1388"/>
                    </a:lnTo>
                    <a:lnTo>
                      <a:pt x="169" y="1388"/>
                    </a:lnTo>
                    <a:lnTo>
                      <a:pt x="159" y="1388"/>
                    </a:lnTo>
                    <a:lnTo>
                      <a:pt x="138" y="1388"/>
                    </a:lnTo>
                    <a:lnTo>
                      <a:pt x="127" y="1388"/>
                    </a:lnTo>
                    <a:lnTo>
                      <a:pt x="116" y="1388"/>
                    </a:lnTo>
                    <a:lnTo>
                      <a:pt x="95" y="1388"/>
                    </a:lnTo>
                    <a:lnTo>
                      <a:pt x="84" y="1388"/>
                    </a:lnTo>
                    <a:lnTo>
                      <a:pt x="63" y="1388"/>
                    </a:lnTo>
                    <a:lnTo>
                      <a:pt x="52" y="1388"/>
                    </a:lnTo>
                    <a:lnTo>
                      <a:pt x="42" y="1388"/>
                    </a:lnTo>
                    <a:lnTo>
                      <a:pt x="21" y="1358"/>
                    </a:lnTo>
                    <a:lnTo>
                      <a:pt x="21" y="1304"/>
                    </a:lnTo>
                    <a:lnTo>
                      <a:pt x="21" y="1252"/>
                    </a:lnTo>
                    <a:lnTo>
                      <a:pt x="10" y="1198"/>
                    </a:lnTo>
                    <a:lnTo>
                      <a:pt x="10" y="1145"/>
                    </a:lnTo>
                    <a:lnTo>
                      <a:pt x="10" y="1093"/>
                    </a:lnTo>
                    <a:lnTo>
                      <a:pt x="10" y="1039"/>
                    </a:lnTo>
                    <a:lnTo>
                      <a:pt x="10" y="987"/>
                    </a:lnTo>
                    <a:lnTo>
                      <a:pt x="10" y="932"/>
                    </a:lnTo>
                    <a:lnTo>
                      <a:pt x="10" y="869"/>
                    </a:lnTo>
                    <a:lnTo>
                      <a:pt x="10" y="817"/>
                    </a:lnTo>
                    <a:lnTo>
                      <a:pt x="0" y="764"/>
                    </a:lnTo>
                    <a:lnTo>
                      <a:pt x="0" y="711"/>
                    </a:lnTo>
                    <a:lnTo>
                      <a:pt x="0" y="647"/>
                    </a:lnTo>
                    <a:lnTo>
                      <a:pt x="0" y="594"/>
                    </a:lnTo>
                    <a:lnTo>
                      <a:pt x="0" y="540"/>
                    </a:lnTo>
                    <a:lnTo>
                      <a:pt x="10" y="488"/>
                    </a:lnTo>
                    <a:lnTo>
                      <a:pt x="10" y="456"/>
                    </a:lnTo>
                    <a:lnTo>
                      <a:pt x="10" y="435"/>
                    </a:lnTo>
                    <a:lnTo>
                      <a:pt x="10" y="404"/>
                    </a:lnTo>
                    <a:lnTo>
                      <a:pt x="10" y="372"/>
                    </a:lnTo>
                    <a:lnTo>
                      <a:pt x="21" y="339"/>
                    </a:lnTo>
                    <a:lnTo>
                      <a:pt x="21" y="307"/>
                    </a:lnTo>
                    <a:lnTo>
                      <a:pt x="21" y="286"/>
                    </a:lnTo>
                    <a:lnTo>
                      <a:pt x="21" y="255"/>
                    </a:lnTo>
                    <a:lnTo>
                      <a:pt x="21" y="223"/>
                    </a:lnTo>
                    <a:lnTo>
                      <a:pt x="21" y="191"/>
                    </a:lnTo>
                    <a:lnTo>
                      <a:pt x="21" y="159"/>
                    </a:lnTo>
                    <a:lnTo>
                      <a:pt x="21" y="138"/>
                    </a:lnTo>
                    <a:lnTo>
                      <a:pt x="31" y="107"/>
                    </a:lnTo>
                    <a:lnTo>
                      <a:pt x="31" y="75"/>
                    </a:lnTo>
                    <a:lnTo>
                      <a:pt x="31" y="5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52" y="10"/>
                    </a:lnTo>
                    <a:lnTo>
                      <a:pt x="63" y="10"/>
                    </a:lnTo>
                    <a:lnTo>
                      <a:pt x="63" y="0"/>
                    </a:lnTo>
                    <a:lnTo>
                      <a:pt x="7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1291680" y="2546640"/>
                <a:ext cx="256680" cy="221040"/>
              </a:xfrm>
              <a:custGeom>
                <a:avLst/>
                <a:gdLst/>
                <a:ahLst/>
                <a:rect l="l" t="t" r="r" b="b"/>
                <a:pathLst>
                  <a:path w="658" h="572">
                    <a:moveTo>
                      <a:pt x="0" y="0"/>
                    </a:moveTo>
                    <a:lnTo>
                      <a:pt x="32" y="42"/>
                    </a:lnTo>
                    <a:lnTo>
                      <a:pt x="75" y="85"/>
                    </a:lnTo>
                    <a:lnTo>
                      <a:pt x="106" y="128"/>
                    </a:lnTo>
                    <a:lnTo>
                      <a:pt x="149" y="171"/>
                    </a:lnTo>
                    <a:lnTo>
                      <a:pt x="181" y="212"/>
                    </a:lnTo>
                    <a:lnTo>
                      <a:pt x="224" y="244"/>
                    </a:lnTo>
                    <a:lnTo>
                      <a:pt x="265" y="286"/>
                    </a:lnTo>
                    <a:lnTo>
                      <a:pt x="308" y="329"/>
                    </a:lnTo>
                    <a:lnTo>
                      <a:pt x="351" y="361"/>
                    </a:lnTo>
                    <a:lnTo>
                      <a:pt x="392" y="392"/>
                    </a:lnTo>
                    <a:lnTo>
                      <a:pt x="435" y="435"/>
                    </a:lnTo>
                    <a:lnTo>
                      <a:pt x="478" y="467"/>
                    </a:lnTo>
                    <a:lnTo>
                      <a:pt x="519" y="497"/>
                    </a:lnTo>
                    <a:lnTo>
                      <a:pt x="562" y="519"/>
                    </a:lnTo>
                    <a:lnTo>
                      <a:pt x="616" y="552"/>
                    </a:lnTo>
                    <a:lnTo>
                      <a:pt x="658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1464840" y="2814840"/>
                <a:ext cx="99720" cy="2098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254" y="0"/>
                    </a:moveTo>
                    <a:lnTo>
                      <a:pt x="234" y="31"/>
                    </a:lnTo>
                    <a:lnTo>
                      <a:pt x="222" y="63"/>
                    </a:lnTo>
                    <a:lnTo>
                      <a:pt x="201" y="95"/>
                    </a:lnTo>
                    <a:lnTo>
                      <a:pt x="180" y="127"/>
                    </a:lnTo>
                    <a:lnTo>
                      <a:pt x="159" y="158"/>
                    </a:lnTo>
                    <a:lnTo>
                      <a:pt x="148" y="190"/>
                    </a:lnTo>
                    <a:lnTo>
                      <a:pt x="127" y="222"/>
                    </a:lnTo>
                    <a:lnTo>
                      <a:pt x="106" y="254"/>
                    </a:lnTo>
                    <a:lnTo>
                      <a:pt x="95" y="285"/>
                    </a:lnTo>
                    <a:lnTo>
                      <a:pt x="73" y="328"/>
                    </a:lnTo>
                    <a:lnTo>
                      <a:pt x="63" y="360"/>
                    </a:lnTo>
                    <a:lnTo>
                      <a:pt x="41" y="391"/>
                    </a:lnTo>
                    <a:lnTo>
                      <a:pt x="32" y="424"/>
                    </a:lnTo>
                    <a:lnTo>
                      <a:pt x="20" y="466"/>
                    </a:lnTo>
                    <a:lnTo>
                      <a:pt x="11" y="498"/>
                    </a:lnTo>
                    <a:lnTo>
                      <a:pt x="0" y="54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1259640" y="2735640"/>
                <a:ext cx="9000" cy="338040"/>
              </a:xfrm>
              <a:custGeom>
                <a:avLst/>
                <a:gdLst/>
                <a:ahLst/>
                <a:rect l="l" t="t" r="r" b="b"/>
                <a:pathLst>
                  <a:path w="21" h="870">
                    <a:moveTo>
                      <a:pt x="21" y="870"/>
                    </a:moveTo>
                    <a:lnTo>
                      <a:pt x="21" y="816"/>
                    </a:lnTo>
                    <a:lnTo>
                      <a:pt x="21" y="764"/>
                    </a:lnTo>
                    <a:lnTo>
                      <a:pt x="10" y="710"/>
                    </a:lnTo>
                    <a:lnTo>
                      <a:pt x="10" y="657"/>
                    </a:lnTo>
                    <a:lnTo>
                      <a:pt x="10" y="605"/>
                    </a:lnTo>
                    <a:lnTo>
                      <a:pt x="10" y="551"/>
                    </a:lnTo>
                    <a:lnTo>
                      <a:pt x="10" y="499"/>
                    </a:lnTo>
                    <a:lnTo>
                      <a:pt x="10" y="444"/>
                    </a:lnTo>
                    <a:lnTo>
                      <a:pt x="10" y="381"/>
                    </a:lnTo>
                    <a:lnTo>
                      <a:pt x="10" y="329"/>
                    </a:lnTo>
                    <a:lnTo>
                      <a:pt x="0" y="276"/>
                    </a:lnTo>
                    <a:lnTo>
                      <a:pt x="0" y="223"/>
                    </a:lnTo>
                    <a:lnTo>
                      <a:pt x="0" y="159"/>
                    </a:lnTo>
                    <a:lnTo>
                      <a:pt x="0" y="106"/>
                    </a:lnTo>
                    <a:lnTo>
                      <a:pt x="0" y="5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1263600" y="2555640"/>
                <a:ext cx="11520" cy="179640"/>
              </a:xfrm>
              <a:custGeom>
                <a:avLst/>
                <a:gdLst/>
                <a:ahLst/>
                <a:rect l="l" t="t" r="r" b="b"/>
                <a:pathLst>
                  <a:path w="32" h="467">
                    <a:moveTo>
                      <a:pt x="0" y="467"/>
                    </a:moveTo>
                    <a:lnTo>
                      <a:pt x="0" y="435"/>
                    </a:lnTo>
                    <a:lnTo>
                      <a:pt x="0" y="414"/>
                    </a:lnTo>
                    <a:lnTo>
                      <a:pt x="0" y="383"/>
                    </a:lnTo>
                    <a:lnTo>
                      <a:pt x="0" y="351"/>
                    </a:lnTo>
                    <a:lnTo>
                      <a:pt x="11" y="318"/>
                    </a:lnTo>
                    <a:lnTo>
                      <a:pt x="11" y="286"/>
                    </a:lnTo>
                    <a:lnTo>
                      <a:pt x="11" y="265"/>
                    </a:lnTo>
                    <a:lnTo>
                      <a:pt x="11" y="234"/>
                    </a:lnTo>
                    <a:lnTo>
                      <a:pt x="11" y="202"/>
                    </a:lnTo>
                    <a:lnTo>
                      <a:pt x="11" y="170"/>
                    </a:lnTo>
                    <a:lnTo>
                      <a:pt x="11" y="138"/>
                    </a:lnTo>
                    <a:lnTo>
                      <a:pt x="11" y="117"/>
                    </a:lnTo>
                    <a:lnTo>
                      <a:pt x="21" y="86"/>
                    </a:lnTo>
                    <a:lnTo>
                      <a:pt x="21" y="54"/>
                    </a:lnTo>
                    <a:lnTo>
                      <a:pt x="21" y="32"/>
                    </a:lnTo>
                    <a:lnTo>
                      <a:pt x="3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1280160" y="2574000"/>
                <a:ext cx="263880" cy="499320"/>
              </a:xfrm>
              <a:custGeom>
                <a:avLst/>
                <a:gdLst/>
                <a:ahLst/>
                <a:rect l="l" t="t" r="r" b="b"/>
                <a:pathLst>
                  <a:path w="679" h="1283">
                    <a:moveTo>
                      <a:pt x="297" y="307"/>
                    </a:moveTo>
                    <a:lnTo>
                      <a:pt x="319" y="329"/>
                    </a:lnTo>
                    <a:lnTo>
                      <a:pt x="340" y="350"/>
                    </a:lnTo>
                    <a:lnTo>
                      <a:pt x="361" y="370"/>
                    </a:lnTo>
                    <a:lnTo>
                      <a:pt x="383" y="392"/>
                    </a:lnTo>
                    <a:lnTo>
                      <a:pt x="404" y="402"/>
                    </a:lnTo>
                    <a:lnTo>
                      <a:pt x="424" y="422"/>
                    </a:lnTo>
                    <a:lnTo>
                      <a:pt x="446" y="434"/>
                    </a:lnTo>
                    <a:lnTo>
                      <a:pt x="467" y="456"/>
                    </a:lnTo>
                    <a:lnTo>
                      <a:pt x="489" y="465"/>
                    </a:lnTo>
                    <a:lnTo>
                      <a:pt x="510" y="487"/>
                    </a:lnTo>
                    <a:lnTo>
                      <a:pt x="531" y="497"/>
                    </a:lnTo>
                    <a:lnTo>
                      <a:pt x="551" y="508"/>
                    </a:lnTo>
                    <a:lnTo>
                      <a:pt x="573" y="519"/>
                    </a:lnTo>
                    <a:lnTo>
                      <a:pt x="594" y="540"/>
                    </a:lnTo>
                    <a:lnTo>
                      <a:pt x="616" y="551"/>
                    </a:lnTo>
                    <a:lnTo>
                      <a:pt x="648" y="561"/>
                    </a:lnTo>
                    <a:lnTo>
                      <a:pt x="658" y="561"/>
                    </a:lnTo>
                    <a:lnTo>
                      <a:pt x="669" y="561"/>
                    </a:lnTo>
                    <a:lnTo>
                      <a:pt x="669" y="572"/>
                    </a:lnTo>
                    <a:lnTo>
                      <a:pt x="679" y="572"/>
                    </a:lnTo>
                    <a:lnTo>
                      <a:pt x="679" y="583"/>
                    </a:lnTo>
                    <a:lnTo>
                      <a:pt x="658" y="615"/>
                    </a:lnTo>
                    <a:lnTo>
                      <a:pt x="648" y="658"/>
                    </a:lnTo>
                    <a:lnTo>
                      <a:pt x="626" y="699"/>
                    </a:lnTo>
                    <a:lnTo>
                      <a:pt x="605" y="731"/>
                    </a:lnTo>
                    <a:lnTo>
                      <a:pt x="584" y="773"/>
                    </a:lnTo>
                    <a:lnTo>
                      <a:pt x="573" y="805"/>
                    </a:lnTo>
                    <a:lnTo>
                      <a:pt x="551" y="848"/>
                    </a:lnTo>
                    <a:lnTo>
                      <a:pt x="531" y="879"/>
                    </a:lnTo>
                    <a:lnTo>
                      <a:pt x="510" y="921"/>
                    </a:lnTo>
                    <a:lnTo>
                      <a:pt x="489" y="954"/>
                    </a:lnTo>
                    <a:lnTo>
                      <a:pt x="478" y="996"/>
                    </a:lnTo>
                    <a:lnTo>
                      <a:pt x="456" y="1039"/>
                    </a:lnTo>
                    <a:lnTo>
                      <a:pt x="446" y="1070"/>
                    </a:lnTo>
                    <a:lnTo>
                      <a:pt x="424" y="1113"/>
                    </a:lnTo>
                    <a:lnTo>
                      <a:pt x="414" y="1155"/>
                    </a:lnTo>
                    <a:lnTo>
                      <a:pt x="404" y="1198"/>
                    </a:lnTo>
                    <a:lnTo>
                      <a:pt x="392" y="1198"/>
                    </a:lnTo>
                    <a:lnTo>
                      <a:pt x="383" y="1208"/>
                    </a:lnTo>
                    <a:lnTo>
                      <a:pt x="361" y="1220"/>
                    </a:lnTo>
                    <a:lnTo>
                      <a:pt x="351" y="1220"/>
                    </a:lnTo>
                    <a:lnTo>
                      <a:pt x="340" y="1229"/>
                    </a:lnTo>
                    <a:lnTo>
                      <a:pt x="329" y="1240"/>
                    </a:lnTo>
                    <a:lnTo>
                      <a:pt x="319" y="1240"/>
                    </a:lnTo>
                    <a:lnTo>
                      <a:pt x="308" y="1240"/>
                    </a:lnTo>
                    <a:lnTo>
                      <a:pt x="287" y="1251"/>
                    </a:lnTo>
                    <a:lnTo>
                      <a:pt x="277" y="1251"/>
                    </a:lnTo>
                    <a:lnTo>
                      <a:pt x="265" y="1251"/>
                    </a:lnTo>
                    <a:lnTo>
                      <a:pt x="244" y="1261"/>
                    </a:lnTo>
                    <a:lnTo>
                      <a:pt x="234" y="1261"/>
                    </a:lnTo>
                    <a:lnTo>
                      <a:pt x="224" y="1261"/>
                    </a:lnTo>
                    <a:lnTo>
                      <a:pt x="213" y="1272"/>
                    </a:lnTo>
                    <a:lnTo>
                      <a:pt x="192" y="1272"/>
                    </a:lnTo>
                    <a:lnTo>
                      <a:pt x="181" y="1272"/>
                    </a:lnTo>
                    <a:lnTo>
                      <a:pt x="170" y="1272"/>
                    </a:lnTo>
                    <a:lnTo>
                      <a:pt x="159" y="1272"/>
                    </a:lnTo>
                    <a:lnTo>
                      <a:pt x="150" y="1272"/>
                    </a:lnTo>
                    <a:lnTo>
                      <a:pt x="138" y="1272"/>
                    </a:lnTo>
                    <a:lnTo>
                      <a:pt x="129" y="1272"/>
                    </a:lnTo>
                    <a:lnTo>
                      <a:pt x="117" y="1272"/>
                    </a:lnTo>
                    <a:lnTo>
                      <a:pt x="107" y="1283"/>
                    </a:lnTo>
                    <a:lnTo>
                      <a:pt x="97" y="1283"/>
                    </a:lnTo>
                    <a:lnTo>
                      <a:pt x="86" y="1283"/>
                    </a:lnTo>
                    <a:lnTo>
                      <a:pt x="75" y="1283"/>
                    </a:lnTo>
                    <a:lnTo>
                      <a:pt x="64" y="1283"/>
                    </a:lnTo>
                    <a:lnTo>
                      <a:pt x="54" y="1272"/>
                    </a:lnTo>
                    <a:lnTo>
                      <a:pt x="43" y="1272"/>
                    </a:lnTo>
                    <a:lnTo>
                      <a:pt x="32" y="1272"/>
                    </a:lnTo>
                    <a:lnTo>
                      <a:pt x="22" y="1272"/>
                    </a:lnTo>
                    <a:lnTo>
                      <a:pt x="0" y="1208"/>
                    </a:lnTo>
                    <a:lnTo>
                      <a:pt x="0" y="1134"/>
                    </a:lnTo>
                    <a:lnTo>
                      <a:pt x="0" y="1059"/>
                    </a:lnTo>
                    <a:lnTo>
                      <a:pt x="0" y="984"/>
                    </a:lnTo>
                    <a:lnTo>
                      <a:pt x="0" y="921"/>
                    </a:lnTo>
                    <a:lnTo>
                      <a:pt x="0" y="848"/>
                    </a:lnTo>
                    <a:lnTo>
                      <a:pt x="0" y="773"/>
                    </a:lnTo>
                    <a:lnTo>
                      <a:pt x="0" y="699"/>
                    </a:lnTo>
                    <a:lnTo>
                      <a:pt x="0" y="624"/>
                    </a:lnTo>
                    <a:lnTo>
                      <a:pt x="0" y="561"/>
                    </a:lnTo>
                    <a:lnTo>
                      <a:pt x="0" y="487"/>
                    </a:lnTo>
                    <a:lnTo>
                      <a:pt x="0" y="413"/>
                    </a:lnTo>
                    <a:lnTo>
                      <a:pt x="0" y="350"/>
                    </a:lnTo>
                    <a:lnTo>
                      <a:pt x="0" y="275"/>
                    </a:lnTo>
                    <a:lnTo>
                      <a:pt x="0" y="202"/>
                    </a:lnTo>
                    <a:lnTo>
                      <a:pt x="11" y="137"/>
                    </a:lnTo>
                    <a:lnTo>
                      <a:pt x="11" y="63"/>
                    </a:lnTo>
                    <a:lnTo>
                      <a:pt x="32" y="0"/>
                    </a:lnTo>
                    <a:lnTo>
                      <a:pt x="43" y="21"/>
                    </a:lnTo>
                    <a:lnTo>
                      <a:pt x="64" y="42"/>
                    </a:lnTo>
                    <a:lnTo>
                      <a:pt x="75" y="63"/>
                    </a:lnTo>
                    <a:lnTo>
                      <a:pt x="97" y="84"/>
                    </a:lnTo>
                    <a:lnTo>
                      <a:pt x="107" y="105"/>
                    </a:lnTo>
                    <a:lnTo>
                      <a:pt x="129" y="116"/>
                    </a:lnTo>
                    <a:lnTo>
                      <a:pt x="138" y="137"/>
                    </a:lnTo>
                    <a:lnTo>
                      <a:pt x="159" y="159"/>
                    </a:lnTo>
                    <a:lnTo>
                      <a:pt x="170" y="180"/>
                    </a:lnTo>
                    <a:lnTo>
                      <a:pt x="192" y="202"/>
                    </a:lnTo>
                    <a:lnTo>
                      <a:pt x="202" y="223"/>
                    </a:lnTo>
                    <a:lnTo>
                      <a:pt x="224" y="243"/>
                    </a:lnTo>
                    <a:lnTo>
                      <a:pt x="234" y="264"/>
                    </a:lnTo>
                    <a:lnTo>
                      <a:pt x="256" y="275"/>
                    </a:lnTo>
                    <a:lnTo>
                      <a:pt x="277" y="297"/>
                    </a:lnTo>
                    <a:lnTo>
                      <a:pt x="297" y="307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1394640" y="2696040"/>
                <a:ext cx="137520" cy="97560"/>
              </a:xfrm>
              <a:custGeom>
                <a:avLst/>
                <a:gdLst/>
                <a:ahLst/>
                <a:rect l="l" t="t" r="r" b="b"/>
                <a:pathLst>
                  <a:path w="351" h="254">
                    <a:moveTo>
                      <a:pt x="0" y="0"/>
                    </a:moveTo>
                    <a:lnTo>
                      <a:pt x="22" y="22"/>
                    </a:lnTo>
                    <a:lnTo>
                      <a:pt x="43" y="43"/>
                    </a:lnTo>
                    <a:lnTo>
                      <a:pt x="64" y="63"/>
                    </a:lnTo>
                    <a:lnTo>
                      <a:pt x="86" y="85"/>
                    </a:lnTo>
                    <a:lnTo>
                      <a:pt x="107" y="95"/>
                    </a:lnTo>
                    <a:lnTo>
                      <a:pt x="127" y="115"/>
                    </a:lnTo>
                    <a:lnTo>
                      <a:pt x="149" y="127"/>
                    </a:lnTo>
                    <a:lnTo>
                      <a:pt x="170" y="149"/>
                    </a:lnTo>
                    <a:lnTo>
                      <a:pt x="192" y="158"/>
                    </a:lnTo>
                    <a:lnTo>
                      <a:pt x="213" y="180"/>
                    </a:lnTo>
                    <a:lnTo>
                      <a:pt x="234" y="190"/>
                    </a:lnTo>
                    <a:lnTo>
                      <a:pt x="254" y="201"/>
                    </a:lnTo>
                    <a:lnTo>
                      <a:pt x="276" y="212"/>
                    </a:lnTo>
                    <a:lnTo>
                      <a:pt x="297" y="233"/>
                    </a:lnTo>
                    <a:lnTo>
                      <a:pt x="319" y="244"/>
                    </a:lnTo>
                    <a:lnTo>
                      <a:pt x="351" y="25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1436760" y="2803320"/>
                <a:ext cx="107280" cy="237600"/>
              </a:xfrm>
              <a:custGeom>
                <a:avLst/>
                <a:gdLst/>
                <a:ahLst/>
                <a:rect l="l" t="t" r="r" b="b"/>
                <a:pathLst>
                  <a:path w="275" h="615">
                    <a:moveTo>
                      <a:pt x="275" y="0"/>
                    </a:moveTo>
                    <a:lnTo>
                      <a:pt x="254" y="32"/>
                    </a:lnTo>
                    <a:lnTo>
                      <a:pt x="244" y="75"/>
                    </a:lnTo>
                    <a:lnTo>
                      <a:pt x="222" y="116"/>
                    </a:lnTo>
                    <a:lnTo>
                      <a:pt x="201" y="148"/>
                    </a:lnTo>
                    <a:lnTo>
                      <a:pt x="180" y="190"/>
                    </a:lnTo>
                    <a:lnTo>
                      <a:pt x="169" y="222"/>
                    </a:lnTo>
                    <a:lnTo>
                      <a:pt x="147" y="265"/>
                    </a:lnTo>
                    <a:lnTo>
                      <a:pt x="127" y="296"/>
                    </a:lnTo>
                    <a:lnTo>
                      <a:pt x="106" y="338"/>
                    </a:lnTo>
                    <a:lnTo>
                      <a:pt x="85" y="371"/>
                    </a:lnTo>
                    <a:lnTo>
                      <a:pt x="74" y="413"/>
                    </a:lnTo>
                    <a:lnTo>
                      <a:pt x="52" y="456"/>
                    </a:lnTo>
                    <a:lnTo>
                      <a:pt x="42" y="487"/>
                    </a:lnTo>
                    <a:lnTo>
                      <a:pt x="20" y="530"/>
                    </a:lnTo>
                    <a:lnTo>
                      <a:pt x="10" y="572"/>
                    </a:lnTo>
                    <a:lnTo>
                      <a:pt x="0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1280160" y="2599920"/>
                <a:ext cx="4680" cy="445320"/>
              </a:xfrm>
              <a:custGeom>
                <a:avLst/>
                <a:gdLst/>
                <a:ahLst/>
                <a:rect l="l" t="t" r="r" b="b"/>
                <a:pathLst>
                  <a:path w="11" h="1145">
                    <a:moveTo>
                      <a:pt x="0" y="1145"/>
                    </a:moveTo>
                    <a:lnTo>
                      <a:pt x="0" y="1071"/>
                    </a:lnTo>
                    <a:lnTo>
                      <a:pt x="0" y="996"/>
                    </a:lnTo>
                    <a:lnTo>
                      <a:pt x="0" y="921"/>
                    </a:lnTo>
                    <a:lnTo>
                      <a:pt x="0" y="858"/>
                    </a:lnTo>
                    <a:lnTo>
                      <a:pt x="0" y="785"/>
                    </a:lnTo>
                    <a:lnTo>
                      <a:pt x="0" y="710"/>
                    </a:lnTo>
                    <a:lnTo>
                      <a:pt x="0" y="636"/>
                    </a:lnTo>
                    <a:lnTo>
                      <a:pt x="0" y="561"/>
                    </a:lnTo>
                    <a:lnTo>
                      <a:pt x="0" y="498"/>
                    </a:lnTo>
                    <a:lnTo>
                      <a:pt x="0" y="424"/>
                    </a:lnTo>
                    <a:lnTo>
                      <a:pt x="0" y="350"/>
                    </a:lnTo>
                    <a:lnTo>
                      <a:pt x="0" y="287"/>
                    </a:lnTo>
                    <a:lnTo>
                      <a:pt x="0" y="212"/>
                    </a:lnTo>
                    <a:lnTo>
                      <a:pt x="0" y="139"/>
                    </a:lnTo>
                    <a:lnTo>
                      <a:pt x="11" y="74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1291680" y="2574000"/>
                <a:ext cx="102600" cy="121680"/>
              </a:xfrm>
              <a:custGeom>
                <a:avLst/>
                <a:gdLst/>
                <a:ahLst/>
                <a:rect l="l" t="t" r="r" b="b"/>
                <a:pathLst>
                  <a:path w="265" h="307">
                    <a:moveTo>
                      <a:pt x="0" y="0"/>
                    </a:moveTo>
                    <a:lnTo>
                      <a:pt x="11" y="21"/>
                    </a:lnTo>
                    <a:lnTo>
                      <a:pt x="32" y="42"/>
                    </a:lnTo>
                    <a:lnTo>
                      <a:pt x="43" y="63"/>
                    </a:lnTo>
                    <a:lnTo>
                      <a:pt x="65" y="84"/>
                    </a:lnTo>
                    <a:lnTo>
                      <a:pt x="75" y="105"/>
                    </a:lnTo>
                    <a:lnTo>
                      <a:pt x="97" y="116"/>
                    </a:lnTo>
                    <a:lnTo>
                      <a:pt x="106" y="137"/>
                    </a:lnTo>
                    <a:lnTo>
                      <a:pt x="127" y="159"/>
                    </a:lnTo>
                    <a:lnTo>
                      <a:pt x="138" y="180"/>
                    </a:lnTo>
                    <a:lnTo>
                      <a:pt x="160" y="202"/>
                    </a:lnTo>
                    <a:lnTo>
                      <a:pt x="170" y="223"/>
                    </a:lnTo>
                    <a:lnTo>
                      <a:pt x="192" y="243"/>
                    </a:lnTo>
                    <a:lnTo>
                      <a:pt x="202" y="264"/>
                    </a:lnTo>
                    <a:lnTo>
                      <a:pt x="224" y="275"/>
                    </a:lnTo>
                    <a:lnTo>
                      <a:pt x="245" y="297"/>
                    </a:lnTo>
                    <a:lnTo>
                      <a:pt x="265" y="30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1205640" y="2681640"/>
                <a:ext cx="779760" cy="1386720"/>
              </a:xfrm>
              <a:custGeom>
                <a:avLst/>
                <a:gdLst/>
                <a:ahLst/>
                <a:rect l="l" t="t" r="r" b="b"/>
                <a:pathLst>
                  <a:path w="2005" h="3563">
                    <a:moveTo>
                      <a:pt x="1251" y="11"/>
                    </a:moveTo>
                    <a:lnTo>
                      <a:pt x="1272" y="22"/>
                    </a:lnTo>
                    <a:lnTo>
                      <a:pt x="1284" y="32"/>
                    </a:lnTo>
                    <a:lnTo>
                      <a:pt x="1294" y="42"/>
                    </a:lnTo>
                    <a:lnTo>
                      <a:pt x="1315" y="63"/>
                    </a:lnTo>
                    <a:lnTo>
                      <a:pt x="1326" y="75"/>
                    </a:lnTo>
                    <a:lnTo>
                      <a:pt x="1336" y="95"/>
                    </a:lnTo>
                    <a:lnTo>
                      <a:pt x="1347" y="106"/>
                    </a:lnTo>
                    <a:lnTo>
                      <a:pt x="1369" y="127"/>
                    </a:lnTo>
                    <a:lnTo>
                      <a:pt x="1379" y="138"/>
                    </a:lnTo>
                    <a:lnTo>
                      <a:pt x="1390" y="147"/>
                    </a:lnTo>
                    <a:lnTo>
                      <a:pt x="1411" y="159"/>
                    </a:lnTo>
                    <a:lnTo>
                      <a:pt x="1422" y="169"/>
                    </a:lnTo>
                    <a:lnTo>
                      <a:pt x="1443" y="169"/>
                    </a:lnTo>
                    <a:lnTo>
                      <a:pt x="1465" y="169"/>
                    </a:lnTo>
                    <a:lnTo>
                      <a:pt x="1485" y="169"/>
                    </a:lnTo>
                    <a:lnTo>
                      <a:pt x="1506" y="159"/>
                    </a:lnTo>
                    <a:lnTo>
                      <a:pt x="1528" y="159"/>
                    </a:lnTo>
                    <a:lnTo>
                      <a:pt x="1549" y="169"/>
                    </a:lnTo>
                    <a:lnTo>
                      <a:pt x="1580" y="169"/>
                    </a:lnTo>
                    <a:lnTo>
                      <a:pt x="1601" y="169"/>
                    </a:lnTo>
                    <a:lnTo>
                      <a:pt x="1623" y="181"/>
                    </a:lnTo>
                    <a:lnTo>
                      <a:pt x="1655" y="181"/>
                    </a:lnTo>
                    <a:lnTo>
                      <a:pt x="1676" y="181"/>
                    </a:lnTo>
                    <a:lnTo>
                      <a:pt x="1698" y="181"/>
                    </a:lnTo>
                    <a:lnTo>
                      <a:pt x="1728" y="181"/>
                    </a:lnTo>
                    <a:lnTo>
                      <a:pt x="1750" y="181"/>
                    </a:lnTo>
                    <a:lnTo>
                      <a:pt x="1771" y="181"/>
                    </a:lnTo>
                    <a:lnTo>
                      <a:pt x="1803" y="181"/>
                    </a:lnTo>
                    <a:lnTo>
                      <a:pt x="1825" y="181"/>
                    </a:lnTo>
                    <a:lnTo>
                      <a:pt x="1846" y="190"/>
                    </a:lnTo>
                    <a:lnTo>
                      <a:pt x="1877" y="190"/>
                    </a:lnTo>
                    <a:lnTo>
                      <a:pt x="1898" y="202"/>
                    </a:lnTo>
                    <a:lnTo>
                      <a:pt x="1909" y="233"/>
                    </a:lnTo>
                    <a:lnTo>
                      <a:pt x="1930" y="265"/>
                    </a:lnTo>
                    <a:lnTo>
                      <a:pt x="1941" y="308"/>
                    </a:lnTo>
                    <a:lnTo>
                      <a:pt x="1962" y="340"/>
                    </a:lnTo>
                    <a:lnTo>
                      <a:pt x="1973" y="371"/>
                    </a:lnTo>
                    <a:lnTo>
                      <a:pt x="1984" y="414"/>
                    </a:lnTo>
                    <a:lnTo>
                      <a:pt x="1993" y="456"/>
                    </a:lnTo>
                    <a:lnTo>
                      <a:pt x="1993" y="488"/>
                    </a:lnTo>
                    <a:lnTo>
                      <a:pt x="2005" y="530"/>
                    </a:lnTo>
                    <a:lnTo>
                      <a:pt x="2005" y="573"/>
                    </a:lnTo>
                    <a:lnTo>
                      <a:pt x="2005" y="604"/>
                    </a:lnTo>
                    <a:lnTo>
                      <a:pt x="2005" y="646"/>
                    </a:lnTo>
                    <a:lnTo>
                      <a:pt x="2005" y="689"/>
                    </a:lnTo>
                    <a:lnTo>
                      <a:pt x="2005" y="721"/>
                    </a:lnTo>
                    <a:lnTo>
                      <a:pt x="1993" y="764"/>
                    </a:lnTo>
                    <a:lnTo>
                      <a:pt x="1993" y="806"/>
                    </a:lnTo>
                    <a:lnTo>
                      <a:pt x="1962" y="848"/>
                    </a:lnTo>
                    <a:lnTo>
                      <a:pt x="1941" y="848"/>
                    </a:lnTo>
                    <a:lnTo>
                      <a:pt x="1930" y="848"/>
                    </a:lnTo>
                    <a:lnTo>
                      <a:pt x="1909" y="838"/>
                    </a:lnTo>
                    <a:lnTo>
                      <a:pt x="1888" y="838"/>
                    </a:lnTo>
                    <a:lnTo>
                      <a:pt x="1877" y="827"/>
                    </a:lnTo>
                    <a:lnTo>
                      <a:pt x="1856" y="827"/>
                    </a:lnTo>
                    <a:lnTo>
                      <a:pt x="1846" y="816"/>
                    </a:lnTo>
                    <a:lnTo>
                      <a:pt x="1825" y="806"/>
                    </a:lnTo>
                    <a:lnTo>
                      <a:pt x="1814" y="806"/>
                    </a:lnTo>
                    <a:lnTo>
                      <a:pt x="1793" y="795"/>
                    </a:lnTo>
                    <a:lnTo>
                      <a:pt x="1782" y="784"/>
                    </a:lnTo>
                    <a:lnTo>
                      <a:pt x="1761" y="774"/>
                    </a:lnTo>
                    <a:lnTo>
                      <a:pt x="1750" y="764"/>
                    </a:lnTo>
                    <a:lnTo>
                      <a:pt x="1728" y="764"/>
                    </a:lnTo>
                    <a:lnTo>
                      <a:pt x="1719" y="752"/>
                    </a:lnTo>
                    <a:lnTo>
                      <a:pt x="1698" y="743"/>
                    </a:lnTo>
                    <a:lnTo>
                      <a:pt x="1686" y="743"/>
                    </a:lnTo>
                    <a:lnTo>
                      <a:pt x="1676" y="731"/>
                    </a:lnTo>
                    <a:lnTo>
                      <a:pt x="1665" y="721"/>
                    </a:lnTo>
                    <a:lnTo>
                      <a:pt x="1655" y="709"/>
                    </a:lnTo>
                    <a:lnTo>
                      <a:pt x="1644" y="700"/>
                    </a:lnTo>
                    <a:lnTo>
                      <a:pt x="1633" y="700"/>
                    </a:lnTo>
                    <a:lnTo>
                      <a:pt x="1623" y="689"/>
                    </a:lnTo>
                    <a:lnTo>
                      <a:pt x="1612" y="679"/>
                    </a:lnTo>
                    <a:lnTo>
                      <a:pt x="1592" y="668"/>
                    </a:lnTo>
                    <a:lnTo>
                      <a:pt x="1580" y="668"/>
                    </a:lnTo>
                    <a:lnTo>
                      <a:pt x="1570" y="657"/>
                    </a:lnTo>
                    <a:lnTo>
                      <a:pt x="1559" y="646"/>
                    </a:lnTo>
                    <a:lnTo>
                      <a:pt x="1549" y="637"/>
                    </a:lnTo>
                    <a:lnTo>
                      <a:pt x="1538" y="625"/>
                    </a:lnTo>
                    <a:lnTo>
                      <a:pt x="1528" y="616"/>
                    </a:lnTo>
                    <a:lnTo>
                      <a:pt x="1517" y="604"/>
                    </a:lnTo>
                    <a:lnTo>
                      <a:pt x="1485" y="625"/>
                    </a:lnTo>
                    <a:lnTo>
                      <a:pt x="1453" y="646"/>
                    </a:lnTo>
                    <a:lnTo>
                      <a:pt x="1431" y="679"/>
                    </a:lnTo>
                    <a:lnTo>
                      <a:pt x="1401" y="700"/>
                    </a:lnTo>
                    <a:lnTo>
                      <a:pt x="1369" y="721"/>
                    </a:lnTo>
                    <a:lnTo>
                      <a:pt x="1347" y="752"/>
                    </a:lnTo>
                    <a:lnTo>
                      <a:pt x="1315" y="774"/>
                    </a:lnTo>
                    <a:lnTo>
                      <a:pt x="1284" y="806"/>
                    </a:lnTo>
                    <a:lnTo>
                      <a:pt x="1263" y="827"/>
                    </a:lnTo>
                    <a:lnTo>
                      <a:pt x="1231" y="859"/>
                    </a:lnTo>
                    <a:lnTo>
                      <a:pt x="1209" y="891"/>
                    </a:lnTo>
                    <a:lnTo>
                      <a:pt x="1177" y="911"/>
                    </a:lnTo>
                    <a:lnTo>
                      <a:pt x="1145" y="945"/>
                    </a:lnTo>
                    <a:lnTo>
                      <a:pt x="1124" y="965"/>
                    </a:lnTo>
                    <a:lnTo>
                      <a:pt x="1093" y="997"/>
                    </a:lnTo>
                    <a:lnTo>
                      <a:pt x="1061" y="1017"/>
                    </a:lnTo>
                    <a:lnTo>
                      <a:pt x="1030" y="1060"/>
                    </a:lnTo>
                    <a:lnTo>
                      <a:pt x="1009" y="1103"/>
                    </a:lnTo>
                    <a:lnTo>
                      <a:pt x="977" y="1135"/>
                    </a:lnTo>
                    <a:lnTo>
                      <a:pt x="944" y="1177"/>
                    </a:lnTo>
                    <a:lnTo>
                      <a:pt x="912" y="1208"/>
                    </a:lnTo>
                    <a:lnTo>
                      <a:pt x="881" y="1251"/>
                    </a:lnTo>
                    <a:lnTo>
                      <a:pt x="849" y="1283"/>
                    </a:lnTo>
                    <a:lnTo>
                      <a:pt x="828" y="1314"/>
                    </a:lnTo>
                    <a:lnTo>
                      <a:pt x="796" y="1357"/>
                    </a:lnTo>
                    <a:lnTo>
                      <a:pt x="764" y="1400"/>
                    </a:lnTo>
                    <a:lnTo>
                      <a:pt x="742" y="1432"/>
                    </a:lnTo>
                    <a:lnTo>
                      <a:pt x="710" y="1473"/>
                    </a:lnTo>
                    <a:lnTo>
                      <a:pt x="689" y="1516"/>
                    </a:lnTo>
                    <a:lnTo>
                      <a:pt x="669" y="1548"/>
                    </a:lnTo>
                    <a:lnTo>
                      <a:pt x="658" y="1591"/>
                    </a:lnTo>
                    <a:lnTo>
                      <a:pt x="637" y="1634"/>
                    </a:lnTo>
                    <a:lnTo>
                      <a:pt x="647" y="1675"/>
                    </a:lnTo>
                    <a:lnTo>
                      <a:pt x="658" y="1718"/>
                    </a:lnTo>
                    <a:lnTo>
                      <a:pt x="680" y="1761"/>
                    </a:lnTo>
                    <a:lnTo>
                      <a:pt x="689" y="1792"/>
                    </a:lnTo>
                    <a:lnTo>
                      <a:pt x="722" y="1833"/>
                    </a:lnTo>
                    <a:lnTo>
                      <a:pt x="742" y="1867"/>
                    </a:lnTo>
                    <a:lnTo>
                      <a:pt x="775" y="1897"/>
                    </a:lnTo>
                    <a:lnTo>
                      <a:pt x="807" y="1919"/>
                    </a:lnTo>
                    <a:lnTo>
                      <a:pt x="839" y="1951"/>
                    </a:lnTo>
                    <a:lnTo>
                      <a:pt x="870" y="1972"/>
                    </a:lnTo>
                    <a:lnTo>
                      <a:pt x="903" y="2004"/>
                    </a:lnTo>
                    <a:lnTo>
                      <a:pt x="934" y="2026"/>
                    </a:lnTo>
                    <a:lnTo>
                      <a:pt x="977" y="2047"/>
                    </a:lnTo>
                    <a:lnTo>
                      <a:pt x="1009" y="2068"/>
                    </a:lnTo>
                    <a:lnTo>
                      <a:pt x="1050" y="2089"/>
                    </a:lnTo>
                    <a:lnTo>
                      <a:pt x="1093" y="2099"/>
                    </a:lnTo>
                    <a:lnTo>
                      <a:pt x="1093" y="2110"/>
                    </a:lnTo>
                    <a:lnTo>
                      <a:pt x="1104" y="2110"/>
                    </a:lnTo>
                    <a:lnTo>
                      <a:pt x="1114" y="2110"/>
                    </a:lnTo>
                    <a:lnTo>
                      <a:pt x="1114" y="2121"/>
                    </a:lnTo>
                    <a:lnTo>
                      <a:pt x="1124" y="2121"/>
                    </a:lnTo>
                    <a:lnTo>
                      <a:pt x="1136" y="2121"/>
                    </a:lnTo>
                    <a:lnTo>
                      <a:pt x="1145" y="2131"/>
                    </a:lnTo>
                    <a:lnTo>
                      <a:pt x="1157" y="2131"/>
                    </a:lnTo>
                    <a:lnTo>
                      <a:pt x="1157" y="2141"/>
                    </a:lnTo>
                    <a:lnTo>
                      <a:pt x="1167" y="2141"/>
                    </a:lnTo>
                    <a:lnTo>
                      <a:pt x="1167" y="2153"/>
                    </a:lnTo>
                    <a:lnTo>
                      <a:pt x="1167" y="2162"/>
                    </a:lnTo>
                    <a:lnTo>
                      <a:pt x="1157" y="2174"/>
                    </a:lnTo>
                    <a:lnTo>
                      <a:pt x="1145" y="2196"/>
                    </a:lnTo>
                    <a:lnTo>
                      <a:pt x="1136" y="2205"/>
                    </a:lnTo>
                    <a:lnTo>
                      <a:pt x="1124" y="2226"/>
                    </a:lnTo>
                    <a:lnTo>
                      <a:pt x="1114" y="2237"/>
                    </a:lnTo>
                    <a:lnTo>
                      <a:pt x="1104" y="2259"/>
                    </a:lnTo>
                    <a:lnTo>
                      <a:pt x="1093" y="2268"/>
                    </a:lnTo>
                    <a:lnTo>
                      <a:pt x="1082" y="2280"/>
                    </a:lnTo>
                    <a:lnTo>
                      <a:pt x="1072" y="2301"/>
                    </a:lnTo>
                    <a:lnTo>
                      <a:pt x="1061" y="2311"/>
                    </a:lnTo>
                    <a:lnTo>
                      <a:pt x="1039" y="2332"/>
                    </a:lnTo>
                    <a:lnTo>
                      <a:pt x="1030" y="2343"/>
                    </a:lnTo>
                    <a:lnTo>
                      <a:pt x="1018" y="2364"/>
                    </a:lnTo>
                    <a:lnTo>
                      <a:pt x="1009" y="2375"/>
                    </a:lnTo>
                    <a:lnTo>
                      <a:pt x="997" y="2395"/>
                    </a:lnTo>
                    <a:lnTo>
                      <a:pt x="987" y="2407"/>
                    </a:lnTo>
                    <a:lnTo>
                      <a:pt x="977" y="2417"/>
                    </a:lnTo>
                    <a:lnTo>
                      <a:pt x="966" y="2428"/>
                    </a:lnTo>
                    <a:lnTo>
                      <a:pt x="966" y="2449"/>
                    </a:lnTo>
                    <a:lnTo>
                      <a:pt x="955" y="2459"/>
                    </a:lnTo>
                    <a:lnTo>
                      <a:pt x="944" y="2470"/>
                    </a:lnTo>
                    <a:lnTo>
                      <a:pt x="934" y="2481"/>
                    </a:lnTo>
                    <a:lnTo>
                      <a:pt x="923" y="2491"/>
                    </a:lnTo>
                    <a:lnTo>
                      <a:pt x="912" y="2502"/>
                    </a:lnTo>
                    <a:lnTo>
                      <a:pt x="903" y="2513"/>
                    </a:lnTo>
                    <a:lnTo>
                      <a:pt x="891" y="2523"/>
                    </a:lnTo>
                    <a:lnTo>
                      <a:pt x="881" y="2534"/>
                    </a:lnTo>
                    <a:lnTo>
                      <a:pt x="870" y="2545"/>
                    </a:lnTo>
                    <a:lnTo>
                      <a:pt x="870" y="2556"/>
                    </a:lnTo>
                    <a:lnTo>
                      <a:pt x="860" y="2566"/>
                    </a:lnTo>
                    <a:lnTo>
                      <a:pt x="849" y="2576"/>
                    </a:lnTo>
                    <a:lnTo>
                      <a:pt x="839" y="2588"/>
                    </a:lnTo>
                    <a:lnTo>
                      <a:pt x="828" y="2630"/>
                    </a:lnTo>
                    <a:lnTo>
                      <a:pt x="807" y="2661"/>
                    </a:lnTo>
                    <a:lnTo>
                      <a:pt x="775" y="2693"/>
                    </a:lnTo>
                    <a:lnTo>
                      <a:pt x="753" y="2724"/>
                    </a:lnTo>
                    <a:lnTo>
                      <a:pt x="732" y="2758"/>
                    </a:lnTo>
                    <a:lnTo>
                      <a:pt x="701" y="2788"/>
                    </a:lnTo>
                    <a:lnTo>
                      <a:pt x="680" y="2820"/>
                    </a:lnTo>
                    <a:lnTo>
                      <a:pt x="647" y="2851"/>
                    </a:lnTo>
                    <a:lnTo>
                      <a:pt x="626" y="2883"/>
                    </a:lnTo>
                    <a:lnTo>
                      <a:pt x="605" y="2905"/>
                    </a:lnTo>
                    <a:lnTo>
                      <a:pt x="574" y="2937"/>
                    </a:lnTo>
                    <a:lnTo>
                      <a:pt x="552" y="2969"/>
                    </a:lnTo>
                    <a:lnTo>
                      <a:pt x="531" y="3011"/>
                    </a:lnTo>
                    <a:lnTo>
                      <a:pt x="510" y="3043"/>
                    </a:lnTo>
                    <a:lnTo>
                      <a:pt x="488" y="3075"/>
                    </a:lnTo>
                    <a:lnTo>
                      <a:pt x="468" y="3107"/>
                    </a:lnTo>
                    <a:lnTo>
                      <a:pt x="447" y="3138"/>
                    </a:lnTo>
                    <a:lnTo>
                      <a:pt x="425" y="3171"/>
                    </a:lnTo>
                    <a:lnTo>
                      <a:pt x="393" y="3192"/>
                    </a:lnTo>
                    <a:lnTo>
                      <a:pt x="372" y="3223"/>
                    </a:lnTo>
                    <a:lnTo>
                      <a:pt x="350" y="3245"/>
                    </a:lnTo>
                    <a:lnTo>
                      <a:pt x="329" y="3277"/>
                    </a:lnTo>
                    <a:lnTo>
                      <a:pt x="308" y="3298"/>
                    </a:lnTo>
                    <a:lnTo>
                      <a:pt x="288" y="3329"/>
                    </a:lnTo>
                    <a:lnTo>
                      <a:pt x="266" y="3350"/>
                    </a:lnTo>
                    <a:lnTo>
                      <a:pt x="245" y="3382"/>
                    </a:lnTo>
                    <a:lnTo>
                      <a:pt x="223" y="3404"/>
                    </a:lnTo>
                    <a:lnTo>
                      <a:pt x="191" y="3435"/>
                    </a:lnTo>
                    <a:lnTo>
                      <a:pt x="170" y="3456"/>
                    </a:lnTo>
                    <a:lnTo>
                      <a:pt x="149" y="3488"/>
                    </a:lnTo>
                    <a:lnTo>
                      <a:pt x="127" y="3510"/>
                    </a:lnTo>
                    <a:lnTo>
                      <a:pt x="107" y="3542"/>
                    </a:lnTo>
                    <a:lnTo>
                      <a:pt x="96" y="3542"/>
                    </a:lnTo>
                    <a:lnTo>
                      <a:pt x="86" y="3552"/>
                    </a:lnTo>
                    <a:lnTo>
                      <a:pt x="75" y="3563"/>
                    </a:lnTo>
                    <a:lnTo>
                      <a:pt x="64" y="3563"/>
                    </a:lnTo>
                    <a:lnTo>
                      <a:pt x="54" y="3563"/>
                    </a:lnTo>
                    <a:lnTo>
                      <a:pt x="43" y="3552"/>
                    </a:lnTo>
                    <a:lnTo>
                      <a:pt x="0" y="3510"/>
                    </a:lnTo>
                    <a:lnTo>
                      <a:pt x="33" y="2226"/>
                    </a:lnTo>
                    <a:lnTo>
                      <a:pt x="33" y="2014"/>
                    </a:lnTo>
                    <a:lnTo>
                      <a:pt x="75" y="1951"/>
                    </a:lnTo>
                    <a:lnTo>
                      <a:pt x="118" y="1887"/>
                    </a:lnTo>
                    <a:lnTo>
                      <a:pt x="160" y="1824"/>
                    </a:lnTo>
                    <a:lnTo>
                      <a:pt x="202" y="1749"/>
                    </a:lnTo>
                    <a:lnTo>
                      <a:pt x="245" y="1686"/>
                    </a:lnTo>
                    <a:lnTo>
                      <a:pt x="277" y="1622"/>
                    </a:lnTo>
                    <a:lnTo>
                      <a:pt x="320" y="1548"/>
                    </a:lnTo>
                    <a:lnTo>
                      <a:pt x="361" y="1485"/>
                    </a:lnTo>
                    <a:lnTo>
                      <a:pt x="393" y="1410"/>
                    </a:lnTo>
                    <a:lnTo>
                      <a:pt x="435" y="1346"/>
                    </a:lnTo>
                    <a:lnTo>
                      <a:pt x="468" y="1283"/>
                    </a:lnTo>
                    <a:lnTo>
                      <a:pt x="499" y="1208"/>
                    </a:lnTo>
                    <a:lnTo>
                      <a:pt x="542" y="1144"/>
                    </a:lnTo>
                    <a:lnTo>
                      <a:pt x="574" y="1072"/>
                    </a:lnTo>
                    <a:lnTo>
                      <a:pt x="615" y="1008"/>
                    </a:lnTo>
                    <a:lnTo>
                      <a:pt x="647" y="933"/>
                    </a:lnTo>
                    <a:lnTo>
                      <a:pt x="742" y="774"/>
                    </a:lnTo>
                    <a:lnTo>
                      <a:pt x="839" y="604"/>
                    </a:lnTo>
                    <a:lnTo>
                      <a:pt x="934" y="446"/>
                    </a:lnTo>
                    <a:lnTo>
                      <a:pt x="1030" y="286"/>
                    </a:lnTo>
                    <a:lnTo>
                      <a:pt x="1124" y="117"/>
                    </a:lnTo>
                    <a:lnTo>
                      <a:pt x="1157" y="63"/>
                    </a:lnTo>
                    <a:lnTo>
                      <a:pt x="1167" y="54"/>
                    </a:lnTo>
                    <a:lnTo>
                      <a:pt x="1167" y="42"/>
                    </a:lnTo>
                    <a:lnTo>
                      <a:pt x="1177" y="32"/>
                    </a:lnTo>
                    <a:lnTo>
                      <a:pt x="1188" y="22"/>
                    </a:lnTo>
                    <a:lnTo>
                      <a:pt x="1199" y="11"/>
                    </a:lnTo>
                    <a:lnTo>
                      <a:pt x="1209" y="11"/>
                    </a:lnTo>
                    <a:lnTo>
                      <a:pt x="1220" y="11"/>
                    </a:lnTo>
                    <a:lnTo>
                      <a:pt x="1231" y="0"/>
                    </a:lnTo>
                    <a:lnTo>
                      <a:pt x="1241" y="0"/>
                    </a:lnTo>
                    <a:lnTo>
                      <a:pt x="1251" y="0"/>
                    </a:lnTo>
                    <a:lnTo>
                      <a:pt x="1251" y="1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1690920" y="2686320"/>
                <a:ext cx="100440" cy="60840"/>
              </a:xfrm>
              <a:custGeom>
                <a:avLst/>
                <a:gdLst/>
                <a:ahLst/>
                <a:rect l="l" t="t" r="r" b="b"/>
                <a:pathLst>
                  <a:path w="255" h="158">
                    <a:moveTo>
                      <a:pt x="0" y="0"/>
                    </a:moveTo>
                    <a:lnTo>
                      <a:pt x="21" y="11"/>
                    </a:lnTo>
                    <a:lnTo>
                      <a:pt x="33" y="21"/>
                    </a:lnTo>
                    <a:lnTo>
                      <a:pt x="43" y="31"/>
                    </a:lnTo>
                    <a:lnTo>
                      <a:pt x="64" y="52"/>
                    </a:lnTo>
                    <a:lnTo>
                      <a:pt x="75" y="64"/>
                    </a:lnTo>
                    <a:lnTo>
                      <a:pt x="85" y="84"/>
                    </a:lnTo>
                    <a:lnTo>
                      <a:pt x="96" y="95"/>
                    </a:lnTo>
                    <a:lnTo>
                      <a:pt x="118" y="116"/>
                    </a:lnTo>
                    <a:lnTo>
                      <a:pt x="128" y="127"/>
                    </a:lnTo>
                    <a:lnTo>
                      <a:pt x="139" y="136"/>
                    </a:lnTo>
                    <a:lnTo>
                      <a:pt x="160" y="148"/>
                    </a:lnTo>
                    <a:lnTo>
                      <a:pt x="171" y="158"/>
                    </a:lnTo>
                    <a:lnTo>
                      <a:pt x="192" y="158"/>
                    </a:lnTo>
                    <a:lnTo>
                      <a:pt x="214" y="158"/>
                    </a:lnTo>
                    <a:lnTo>
                      <a:pt x="234" y="158"/>
                    </a:lnTo>
                    <a:lnTo>
                      <a:pt x="255" y="14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1943640" y="2760840"/>
                <a:ext cx="41760" cy="235800"/>
              </a:xfrm>
              <a:custGeom>
                <a:avLst/>
                <a:gdLst/>
                <a:ahLst/>
                <a:rect l="l" t="t" r="r" b="b"/>
                <a:pathLst>
                  <a:path w="107" h="604">
                    <a:moveTo>
                      <a:pt x="0" y="0"/>
                    </a:moveTo>
                    <a:lnTo>
                      <a:pt x="11" y="31"/>
                    </a:lnTo>
                    <a:lnTo>
                      <a:pt x="32" y="63"/>
                    </a:lnTo>
                    <a:lnTo>
                      <a:pt x="43" y="106"/>
                    </a:lnTo>
                    <a:lnTo>
                      <a:pt x="64" y="138"/>
                    </a:lnTo>
                    <a:lnTo>
                      <a:pt x="75" y="169"/>
                    </a:lnTo>
                    <a:lnTo>
                      <a:pt x="86" y="212"/>
                    </a:lnTo>
                    <a:lnTo>
                      <a:pt x="95" y="254"/>
                    </a:lnTo>
                    <a:lnTo>
                      <a:pt x="95" y="286"/>
                    </a:lnTo>
                    <a:lnTo>
                      <a:pt x="107" y="328"/>
                    </a:lnTo>
                    <a:lnTo>
                      <a:pt x="107" y="371"/>
                    </a:lnTo>
                    <a:lnTo>
                      <a:pt x="107" y="402"/>
                    </a:lnTo>
                    <a:lnTo>
                      <a:pt x="107" y="444"/>
                    </a:lnTo>
                    <a:lnTo>
                      <a:pt x="107" y="487"/>
                    </a:lnTo>
                    <a:lnTo>
                      <a:pt x="107" y="519"/>
                    </a:lnTo>
                    <a:lnTo>
                      <a:pt x="95" y="562"/>
                    </a:lnTo>
                    <a:lnTo>
                      <a:pt x="95" y="60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1618920" y="2917800"/>
                <a:ext cx="177120" cy="160560"/>
              </a:xfrm>
              <a:custGeom>
                <a:avLst/>
                <a:gdLst/>
                <a:ahLst/>
                <a:rect l="l" t="t" r="r" b="b"/>
                <a:pathLst>
                  <a:path w="456" h="413">
                    <a:moveTo>
                      <a:pt x="456" y="0"/>
                    </a:moveTo>
                    <a:lnTo>
                      <a:pt x="424" y="21"/>
                    </a:lnTo>
                    <a:lnTo>
                      <a:pt x="392" y="42"/>
                    </a:lnTo>
                    <a:lnTo>
                      <a:pt x="370" y="75"/>
                    </a:lnTo>
                    <a:lnTo>
                      <a:pt x="340" y="96"/>
                    </a:lnTo>
                    <a:lnTo>
                      <a:pt x="308" y="117"/>
                    </a:lnTo>
                    <a:lnTo>
                      <a:pt x="286" y="148"/>
                    </a:lnTo>
                    <a:lnTo>
                      <a:pt x="254" y="170"/>
                    </a:lnTo>
                    <a:lnTo>
                      <a:pt x="223" y="202"/>
                    </a:lnTo>
                    <a:lnTo>
                      <a:pt x="202" y="223"/>
                    </a:lnTo>
                    <a:lnTo>
                      <a:pt x="170" y="255"/>
                    </a:lnTo>
                    <a:lnTo>
                      <a:pt x="148" y="287"/>
                    </a:lnTo>
                    <a:lnTo>
                      <a:pt x="116" y="307"/>
                    </a:lnTo>
                    <a:lnTo>
                      <a:pt x="84" y="341"/>
                    </a:lnTo>
                    <a:lnTo>
                      <a:pt x="63" y="361"/>
                    </a:lnTo>
                    <a:lnTo>
                      <a:pt x="32" y="393"/>
                    </a:lnTo>
                    <a:lnTo>
                      <a:pt x="0" y="4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1453320" y="3078720"/>
                <a:ext cx="165600" cy="240120"/>
              </a:xfrm>
              <a:custGeom>
                <a:avLst/>
                <a:gdLst/>
                <a:ahLst/>
                <a:rect l="l" t="t" r="r" b="b"/>
                <a:pathLst>
                  <a:path w="424" h="617">
                    <a:moveTo>
                      <a:pt x="424" y="0"/>
                    </a:moveTo>
                    <a:lnTo>
                      <a:pt x="393" y="43"/>
                    </a:lnTo>
                    <a:lnTo>
                      <a:pt x="372" y="86"/>
                    </a:lnTo>
                    <a:lnTo>
                      <a:pt x="340" y="118"/>
                    </a:lnTo>
                    <a:lnTo>
                      <a:pt x="307" y="160"/>
                    </a:lnTo>
                    <a:lnTo>
                      <a:pt x="275" y="191"/>
                    </a:lnTo>
                    <a:lnTo>
                      <a:pt x="244" y="234"/>
                    </a:lnTo>
                    <a:lnTo>
                      <a:pt x="212" y="266"/>
                    </a:lnTo>
                    <a:lnTo>
                      <a:pt x="191" y="297"/>
                    </a:lnTo>
                    <a:lnTo>
                      <a:pt x="159" y="340"/>
                    </a:lnTo>
                    <a:lnTo>
                      <a:pt x="127" y="383"/>
                    </a:lnTo>
                    <a:lnTo>
                      <a:pt x="105" y="415"/>
                    </a:lnTo>
                    <a:lnTo>
                      <a:pt x="73" y="456"/>
                    </a:lnTo>
                    <a:lnTo>
                      <a:pt x="52" y="499"/>
                    </a:lnTo>
                    <a:lnTo>
                      <a:pt x="32" y="531"/>
                    </a:lnTo>
                    <a:lnTo>
                      <a:pt x="21" y="574"/>
                    </a:lnTo>
                    <a:lnTo>
                      <a:pt x="0" y="61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1453320" y="331884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456" h="465">
                    <a:moveTo>
                      <a:pt x="0" y="0"/>
                    </a:moveTo>
                    <a:lnTo>
                      <a:pt x="10" y="41"/>
                    </a:lnTo>
                    <a:lnTo>
                      <a:pt x="21" y="84"/>
                    </a:lnTo>
                    <a:lnTo>
                      <a:pt x="43" y="127"/>
                    </a:lnTo>
                    <a:lnTo>
                      <a:pt x="52" y="158"/>
                    </a:lnTo>
                    <a:lnTo>
                      <a:pt x="85" y="199"/>
                    </a:lnTo>
                    <a:lnTo>
                      <a:pt x="105" y="233"/>
                    </a:lnTo>
                    <a:lnTo>
                      <a:pt x="138" y="263"/>
                    </a:lnTo>
                    <a:lnTo>
                      <a:pt x="170" y="285"/>
                    </a:lnTo>
                    <a:lnTo>
                      <a:pt x="202" y="317"/>
                    </a:lnTo>
                    <a:lnTo>
                      <a:pt x="233" y="338"/>
                    </a:lnTo>
                    <a:lnTo>
                      <a:pt x="266" y="370"/>
                    </a:lnTo>
                    <a:lnTo>
                      <a:pt x="297" y="392"/>
                    </a:lnTo>
                    <a:lnTo>
                      <a:pt x="340" y="413"/>
                    </a:lnTo>
                    <a:lnTo>
                      <a:pt x="372" y="434"/>
                    </a:lnTo>
                    <a:lnTo>
                      <a:pt x="413" y="455"/>
                    </a:lnTo>
                    <a:lnTo>
                      <a:pt x="456" y="46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1588320" y="3524040"/>
                <a:ext cx="70200" cy="95760"/>
              </a:xfrm>
              <a:custGeom>
                <a:avLst/>
                <a:gdLst/>
                <a:ahLst/>
                <a:rect l="l" t="t" r="r" b="b"/>
                <a:pathLst>
                  <a:path w="180" h="245">
                    <a:moveTo>
                      <a:pt x="180" y="0"/>
                    </a:moveTo>
                    <a:lnTo>
                      <a:pt x="170" y="12"/>
                    </a:lnTo>
                    <a:lnTo>
                      <a:pt x="158" y="34"/>
                    </a:lnTo>
                    <a:lnTo>
                      <a:pt x="149" y="43"/>
                    </a:lnTo>
                    <a:lnTo>
                      <a:pt x="137" y="64"/>
                    </a:lnTo>
                    <a:lnTo>
                      <a:pt x="127" y="75"/>
                    </a:lnTo>
                    <a:lnTo>
                      <a:pt x="117" y="97"/>
                    </a:lnTo>
                    <a:lnTo>
                      <a:pt x="106" y="106"/>
                    </a:lnTo>
                    <a:lnTo>
                      <a:pt x="95" y="118"/>
                    </a:lnTo>
                    <a:lnTo>
                      <a:pt x="85" y="139"/>
                    </a:lnTo>
                    <a:lnTo>
                      <a:pt x="74" y="149"/>
                    </a:lnTo>
                    <a:lnTo>
                      <a:pt x="52" y="170"/>
                    </a:lnTo>
                    <a:lnTo>
                      <a:pt x="43" y="181"/>
                    </a:lnTo>
                    <a:lnTo>
                      <a:pt x="31" y="202"/>
                    </a:lnTo>
                    <a:lnTo>
                      <a:pt x="22" y="213"/>
                    </a:lnTo>
                    <a:lnTo>
                      <a:pt x="10" y="233"/>
                    </a:lnTo>
                    <a:lnTo>
                      <a:pt x="0" y="24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1532160" y="362016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148" h="181">
                    <a:moveTo>
                      <a:pt x="148" y="0"/>
                    </a:moveTo>
                    <a:lnTo>
                      <a:pt x="138" y="10"/>
                    </a:lnTo>
                    <a:lnTo>
                      <a:pt x="127" y="21"/>
                    </a:lnTo>
                    <a:lnTo>
                      <a:pt x="127" y="42"/>
                    </a:lnTo>
                    <a:lnTo>
                      <a:pt x="116" y="52"/>
                    </a:lnTo>
                    <a:lnTo>
                      <a:pt x="105" y="63"/>
                    </a:lnTo>
                    <a:lnTo>
                      <a:pt x="95" y="74"/>
                    </a:lnTo>
                    <a:lnTo>
                      <a:pt x="84" y="84"/>
                    </a:lnTo>
                    <a:lnTo>
                      <a:pt x="73" y="95"/>
                    </a:lnTo>
                    <a:lnTo>
                      <a:pt x="64" y="106"/>
                    </a:lnTo>
                    <a:lnTo>
                      <a:pt x="52" y="116"/>
                    </a:lnTo>
                    <a:lnTo>
                      <a:pt x="42" y="127"/>
                    </a:lnTo>
                    <a:lnTo>
                      <a:pt x="31" y="138"/>
                    </a:lnTo>
                    <a:lnTo>
                      <a:pt x="31" y="149"/>
                    </a:lnTo>
                    <a:lnTo>
                      <a:pt x="21" y="159"/>
                    </a:lnTo>
                    <a:lnTo>
                      <a:pt x="10" y="169"/>
                    </a:lnTo>
                    <a:lnTo>
                      <a:pt x="0" y="18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1387440" y="3690000"/>
                <a:ext cx="144360" cy="200880"/>
              </a:xfrm>
              <a:custGeom>
                <a:avLst/>
                <a:gdLst/>
                <a:ahLst/>
                <a:rect l="l" t="t" r="r" b="b"/>
                <a:pathLst>
                  <a:path w="371" h="519">
                    <a:moveTo>
                      <a:pt x="371" y="0"/>
                    </a:moveTo>
                    <a:lnTo>
                      <a:pt x="360" y="42"/>
                    </a:lnTo>
                    <a:lnTo>
                      <a:pt x="339" y="73"/>
                    </a:lnTo>
                    <a:lnTo>
                      <a:pt x="307" y="105"/>
                    </a:lnTo>
                    <a:lnTo>
                      <a:pt x="285" y="136"/>
                    </a:lnTo>
                    <a:lnTo>
                      <a:pt x="264" y="170"/>
                    </a:lnTo>
                    <a:lnTo>
                      <a:pt x="233" y="200"/>
                    </a:lnTo>
                    <a:lnTo>
                      <a:pt x="212" y="232"/>
                    </a:lnTo>
                    <a:lnTo>
                      <a:pt x="179" y="263"/>
                    </a:lnTo>
                    <a:lnTo>
                      <a:pt x="158" y="295"/>
                    </a:lnTo>
                    <a:lnTo>
                      <a:pt x="137" y="317"/>
                    </a:lnTo>
                    <a:lnTo>
                      <a:pt x="106" y="349"/>
                    </a:lnTo>
                    <a:lnTo>
                      <a:pt x="84" y="381"/>
                    </a:lnTo>
                    <a:lnTo>
                      <a:pt x="63" y="423"/>
                    </a:lnTo>
                    <a:lnTo>
                      <a:pt x="42" y="455"/>
                    </a:lnTo>
                    <a:lnTo>
                      <a:pt x="20" y="487"/>
                    </a:lnTo>
                    <a:lnTo>
                      <a:pt x="0" y="51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1247400" y="3890880"/>
                <a:ext cx="140040" cy="169560"/>
              </a:xfrm>
              <a:custGeom>
                <a:avLst/>
                <a:gdLst/>
                <a:ahLst/>
                <a:rect l="l" t="t" r="r" b="b"/>
                <a:pathLst>
                  <a:path w="361" h="435">
                    <a:moveTo>
                      <a:pt x="361" y="0"/>
                    </a:moveTo>
                    <a:lnTo>
                      <a:pt x="340" y="31"/>
                    </a:lnTo>
                    <a:lnTo>
                      <a:pt x="318" y="64"/>
                    </a:lnTo>
                    <a:lnTo>
                      <a:pt x="286" y="85"/>
                    </a:lnTo>
                    <a:lnTo>
                      <a:pt x="265" y="116"/>
                    </a:lnTo>
                    <a:lnTo>
                      <a:pt x="243" y="138"/>
                    </a:lnTo>
                    <a:lnTo>
                      <a:pt x="222" y="170"/>
                    </a:lnTo>
                    <a:lnTo>
                      <a:pt x="201" y="191"/>
                    </a:lnTo>
                    <a:lnTo>
                      <a:pt x="181" y="222"/>
                    </a:lnTo>
                    <a:lnTo>
                      <a:pt x="159" y="243"/>
                    </a:lnTo>
                    <a:lnTo>
                      <a:pt x="138" y="275"/>
                    </a:lnTo>
                    <a:lnTo>
                      <a:pt x="116" y="297"/>
                    </a:lnTo>
                    <a:lnTo>
                      <a:pt x="84" y="328"/>
                    </a:lnTo>
                    <a:lnTo>
                      <a:pt x="63" y="349"/>
                    </a:lnTo>
                    <a:lnTo>
                      <a:pt x="42" y="381"/>
                    </a:lnTo>
                    <a:lnTo>
                      <a:pt x="20" y="403"/>
                    </a:lnTo>
                    <a:lnTo>
                      <a:pt x="0" y="43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1205640" y="3466080"/>
                <a:ext cx="16200" cy="597240"/>
              </a:xfrm>
              <a:custGeom>
                <a:avLst/>
                <a:gdLst/>
                <a:ahLst/>
                <a:rect l="l" t="t" r="r" b="b"/>
                <a:pathLst>
                  <a:path w="43" h="1538">
                    <a:moveTo>
                      <a:pt x="43" y="1538"/>
                    </a:moveTo>
                    <a:lnTo>
                      <a:pt x="0" y="1496"/>
                    </a:lnTo>
                    <a:lnTo>
                      <a:pt x="33" y="212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1217160" y="3045600"/>
                <a:ext cx="240120" cy="420120"/>
              </a:xfrm>
              <a:custGeom>
                <a:avLst/>
                <a:gdLst/>
                <a:ahLst/>
                <a:rect l="l" t="t" r="r" b="b"/>
                <a:pathLst>
                  <a:path w="614" h="1081">
                    <a:moveTo>
                      <a:pt x="0" y="1081"/>
                    </a:moveTo>
                    <a:lnTo>
                      <a:pt x="42" y="1018"/>
                    </a:lnTo>
                    <a:lnTo>
                      <a:pt x="85" y="954"/>
                    </a:lnTo>
                    <a:lnTo>
                      <a:pt x="127" y="891"/>
                    </a:lnTo>
                    <a:lnTo>
                      <a:pt x="169" y="816"/>
                    </a:lnTo>
                    <a:lnTo>
                      <a:pt x="212" y="753"/>
                    </a:lnTo>
                    <a:lnTo>
                      <a:pt x="244" y="689"/>
                    </a:lnTo>
                    <a:lnTo>
                      <a:pt x="287" y="615"/>
                    </a:lnTo>
                    <a:lnTo>
                      <a:pt x="328" y="552"/>
                    </a:lnTo>
                    <a:lnTo>
                      <a:pt x="360" y="477"/>
                    </a:lnTo>
                    <a:lnTo>
                      <a:pt x="402" y="413"/>
                    </a:lnTo>
                    <a:lnTo>
                      <a:pt x="435" y="350"/>
                    </a:lnTo>
                    <a:lnTo>
                      <a:pt x="466" y="275"/>
                    </a:lnTo>
                    <a:lnTo>
                      <a:pt x="509" y="211"/>
                    </a:lnTo>
                    <a:lnTo>
                      <a:pt x="541" y="139"/>
                    </a:lnTo>
                    <a:lnTo>
                      <a:pt x="582" y="75"/>
                    </a:lnTo>
                    <a:lnTo>
                      <a:pt x="61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1457640" y="2707560"/>
                <a:ext cx="198360" cy="338040"/>
              </a:xfrm>
              <a:custGeom>
                <a:avLst/>
                <a:gdLst/>
                <a:ahLst/>
                <a:rect l="l" t="t" r="r" b="b"/>
                <a:pathLst>
                  <a:path w="510" h="870">
                    <a:moveTo>
                      <a:pt x="0" y="870"/>
                    </a:moveTo>
                    <a:lnTo>
                      <a:pt x="33" y="817"/>
                    </a:lnTo>
                    <a:lnTo>
                      <a:pt x="63" y="764"/>
                    </a:lnTo>
                    <a:lnTo>
                      <a:pt x="95" y="711"/>
                    </a:lnTo>
                    <a:lnTo>
                      <a:pt x="128" y="658"/>
                    </a:lnTo>
                    <a:lnTo>
                      <a:pt x="160" y="605"/>
                    </a:lnTo>
                    <a:lnTo>
                      <a:pt x="192" y="541"/>
                    </a:lnTo>
                    <a:lnTo>
                      <a:pt x="223" y="488"/>
                    </a:lnTo>
                    <a:lnTo>
                      <a:pt x="256" y="435"/>
                    </a:lnTo>
                    <a:lnTo>
                      <a:pt x="287" y="383"/>
                    </a:lnTo>
                    <a:lnTo>
                      <a:pt x="319" y="329"/>
                    </a:lnTo>
                    <a:lnTo>
                      <a:pt x="350" y="277"/>
                    </a:lnTo>
                    <a:lnTo>
                      <a:pt x="383" y="223"/>
                    </a:lnTo>
                    <a:lnTo>
                      <a:pt x="414" y="159"/>
                    </a:lnTo>
                    <a:lnTo>
                      <a:pt x="446" y="106"/>
                    </a:lnTo>
                    <a:lnTo>
                      <a:pt x="477" y="54"/>
                    </a:lnTo>
                    <a:lnTo>
                      <a:pt x="5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1231560" y="2702880"/>
                <a:ext cx="737280" cy="1339560"/>
              </a:xfrm>
              <a:custGeom>
                <a:avLst/>
                <a:gdLst/>
                <a:ahLst/>
                <a:rect l="l" t="t" r="r" b="b"/>
                <a:pathLst>
                  <a:path w="1898" h="3445">
                    <a:moveTo>
                      <a:pt x="1315" y="168"/>
                    </a:moveTo>
                    <a:lnTo>
                      <a:pt x="1326" y="168"/>
                    </a:lnTo>
                    <a:lnTo>
                      <a:pt x="1337" y="168"/>
                    </a:lnTo>
                    <a:lnTo>
                      <a:pt x="1347" y="168"/>
                    </a:lnTo>
                    <a:lnTo>
                      <a:pt x="1358" y="168"/>
                    </a:lnTo>
                    <a:lnTo>
                      <a:pt x="1367" y="168"/>
                    </a:lnTo>
                    <a:lnTo>
                      <a:pt x="1379" y="168"/>
                    </a:lnTo>
                    <a:lnTo>
                      <a:pt x="1389" y="158"/>
                    </a:lnTo>
                    <a:lnTo>
                      <a:pt x="1401" y="158"/>
                    </a:lnTo>
                    <a:lnTo>
                      <a:pt x="1410" y="158"/>
                    </a:lnTo>
                    <a:lnTo>
                      <a:pt x="1421" y="158"/>
                    </a:lnTo>
                    <a:lnTo>
                      <a:pt x="1432" y="158"/>
                    </a:lnTo>
                    <a:lnTo>
                      <a:pt x="1442" y="158"/>
                    </a:lnTo>
                    <a:lnTo>
                      <a:pt x="1464" y="158"/>
                    </a:lnTo>
                    <a:lnTo>
                      <a:pt x="1485" y="158"/>
                    </a:lnTo>
                    <a:lnTo>
                      <a:pt x="1506" y="158"/>
                    </a:lnTo>
                    <a:lnTo>
                      <a:pt x="1528" y="168"/>
                    </a:lnTo>
                    <a:lnTo>
                      <a:pt x="1548" y="168"/>
                    </a:lnTo>
                    <a:lnTo>
                      <a:pt x="1569" y="168"/>
                    </a:lnTo>
                    <a:lnTo>
                      <a:pt x="1591" y="168"/>
                    </a:lnTo>
                    <a:lnTo>
                      <a:pt x="1612" y="168"/>
                    </a:lnTo>
                    <a:lnTo>
                      <a:pt x="1634" y="168"/>
                    </a:lnTo>
                    <a:lnTo>
                      <a:pt x="1655" y="168"/>
                    </a:lnTo>
                    <a:lnTo>
                      <a:pt x="1675" y="168"/>
                    </a:lnTo>
                    <a:lnTo>
                      <a:pt x="1697" y="179"/>
                    </a:lnTo>
                    <a:lnTo>
                      <a:pt x="1718" y="179"/>
                    </a:lnTo>
                    <a:lnTo>
                      <a:pt x="1739" y="179"/>
                    </a:lnTo>
                    <a:lnTo>
                      <a:pt x="1761" y="179"/>
                    </a:lnTo>
                    <a:lnTo>
                      <a:pt x="1782" y="179"/>
                    </a:lnTo>
                    <a:lnTo>
                      <a:pt x="1802" y="211"/>
                    </a:lnTo>
                    <a:lnTo>
                      <a:pt x="1813" y="243"/>
                    </a:lnTo>
                    <a:lnTo>
                      <a:pt x="1824" y="275"/>
                    </a:lnTo>
                    <a:lnTo>
                      <a:pt x="1834" y="317"/>
                    </a:lnTo>
                    <a:lnTo>
                      <a:pt x="1845" y="349"/>
                    </a:lnTo>
                    <a:lnTo>
                      <a:pt x="1856" y="381"/>
                    </a:lnTo>
                    <a:lnTo>
                      <a:pt x="1866" y="413"/>
                    </a:lnTo>
                    <a:lnTo>
                      <a:pt x="1877" y="456"/>
                    </a:lnTo>
                    <a:lnTo>
                      <a:pt x="1888" y="487"/>
                    </a:lnTo>
                    <a:lnTo>
                      <a:pt x="1888" y="519"/>
                    </a:lnTo>
                    <a:lnTo>
                      <a:pt x="1898" y="562"/>
                    </a:lnTo>
                    <a:lnTo>
                      <a:pt x="1898" y="592"/>
                    </a:lnTo>
                    <a:lnTo>
                      <a:pt x="1898" y="635"/>
                    </a:lnTo>
                    <a:lnTo>
                      <a:pt x="1898" y="667"/>
                    </a:lnTo>
                    <a:lnTo>
                      <a:pt x="1888" y="710"/>
                    </a:lnTo>
                    <a:lnTo>
                      <a:pt x="1888" y="741"/>
                    </a:lnTo>
                    <a:lnTo>
                      <a:pt x="1856" y="730"/>
                    </a:lnTo>
                    <a:lnTo>
                      <a:pt x="1824" y="720"/>
                    </a:lnTo>
                    <a:lnTo>
                      <a:pt x="1802" y="710"/>
                    </a:lnTo>
                    <a:lnTo>
                      <a:pt x="1770" y="698"/>
                    </a:lnTo>
                    <a:lnTo>
                      <a:pt x="1750" y="677"/>
                    </a:lnTo>
                    <a:lnTo>
                      <a:pt x="1718" y="667"/>
                    </a:lnTo>
                    <a:lnTo>
                      <a:pt x="1697" y="655"/>
                    </a:lnTo>
                    <a:lnTo>
                      <a:pt x="1664" y="635"/>
                    </a:lnTo>
                    <a:lnTo>
                      <a:pt x="1643" y="625"/>
                    </a:lnTo>
                    <a:lnTo>
                      <a:pt x="1612" y="603"/>
                    </a:lnTo>
                    <a:lnTo>
                      <a:pt x="1591" y="583"/>
                    </a:lnTo>
                    <a:lnTo>
                      <a:pt x="1569" y="571"/>
                    </a:lnTo>
                    <a:lnTo>
                      <a:pt x="1537" y="550"/>
                    </a:lnTo>
                    <a:lnTo>
                      <a:pt x="1516" y="540"/>
                    </a:lnTo>
                    <a:lnTo>
                      <a:pt x="1485" y="519"/>
                    </a:lnTo>
                    <a:lnTo>
                      <a:pt x="1464" y="497"/>
                    </a:lnTo>
                    <a:lnTo>
                      <a:pt x="1379" y="550"/>
                    </a:lnTo>
                    <a:lnTo>
                      <a:pt x="1315" y="603"/>
                    </a:lnTo>
                    <a:lnTo>
                      <a:pt x="1251" y="655"/>
                    </a:lnTo>
                    <a:lnTo>
                      <a:pt x="1187" y="720"/>
                    </a:lnTo>
                    <a:lnTo>
                      <a:pt x="1135" y="773"/>
                    </a:lnTo>
                    <a:lnTo>
                      <a:pt x="1072" y="837"/>
                    </a:lnTo>
                    <a:lnTo>
                      <a:pt x="1018" y="891"/>
                    </a:lnTo>
                    <a:lnTo>
                      <a:pt x="954" y="954"/>
                    </a:lnTo>
                    <a:lnTo>
                      <a:pt x="902" y="1018"/>
                    </a:lnTo>
                    <a:lnTo>
                      <a:pt x="848" y="1081"/>
                    </a:lnTo>
                    <a:lnTo>
                      <a:pt x="796" y="1145"/>
                    </a:lnTo>
                    <a:lnTo>
                      <a:pt x="743" y="1208"/>
                    </a:lnTo>
                    <a:lnTo>
                      <a:pt x="689" y="1272"/>
                    </a:lnTo>
                    <a:lnTo>
                      <a:pt x="646" y="1346"/>
                    </a:lnTo>
                    <a:lnTo>
                      <a:pt x="605" y="1410"/>
                    </a:lnTo>
                    <a:lnTo>
                      <a:pt x="562" y="1473"/>
                    </a:lnTo>
                    <a:lnTo>
                      <a:pt x="519" y="1546"/>
                    </a:lnTo>
                    <a:lnTo>
                      <a:pt x="519" y="1589"/>
                    </a:lnTo>
                    <a:lnTo>
                      <a:pt x="531" y="1632"/>
                    </a:lnTo>
                    <a:lnTo>
                      <a:pt x="541" y="1664"/>
                    </a:lnTo>
                    <a:lnTo>
                      <a:pt x="551" y="1707"/>
                    </a:lnTo>
                    <a:lnTo>
                      <a:pt x="573" y="1748"/>
                    </a:lnTo>
                    <a:lnTo>
                      <a:pt x="594" y="1779"/>
                    </a:lnTo>
                    <a:lnTo>
                      <a:pt x="625" y="1813"/>
                    </a:lnTo>
                    <a:lnTo>
                      <a:pt x="646" y="1843"/>
                    </a:lnTo>
                    <a:lnTo>
                      <a:pt x="678" y="1875"/>
                    </a:lnTo>
                    <a:lnTo>
                      <a:pt x="711" y="1908"/>
                    </a:lnTo>
                    <a:lnTo>
                      <a:pt x="743" y="1940"/>
                    </a:lnTo>
                    <a:lnTo>
                      <a:pt x="775" y="1960"/>
                    </a:lnTo>
                    <a:lnTo>
                      <a:pt x="817" y="1981"/>
                    </a:lnTo>
                    <a:lnTo>
                      <a:pt x="848" y="2003"/>
                    </a:lnTo>
                    <a:lnTo>
                      <a:pt x="880" y="2024"/>
                    </a:lnTo>
                    <a:lnTo>
                      <a:pt x="923" y="2035"/>
                    </a:lnTo>
                    <a:lnTo>
                      <a:pt x="933" y="2045"/>
                    </a:lnTo>
                    <a:lnTo>
                      <a:pt x="945" y="2045"/>
                    </a:lnTo>
                    <a:lnTo>
                      <a:pt x="954" y="2045"/>
                    </a:lnTo>
                    <a:lnTo>
                      <a:pt x="966" y="2056"/>
                    </a:lnTo>
                    <a:lnTo>
                      <a:pt x="975" y="2056"/>
                    </a:lnTo>
                    <a:lnTo>
                      <a:pt x="986" y="2067"/>
                    </a:lnTo>
                    <a:lnTo>
                      <a:pt x="997" y="2067"/>
                    </a:lnTo>
                    <a:lnTo>
                      <a:pt x="1008" y="2077"/>
                    </a:lnTo>
                    <a:lnTo>
                      <a:pt x="1018" y="2077"/>
                    </a:lnTo>
                    <a:lnTo>
                      <a:pt x="1029" y="2087"/>
                    </a:lnTo>
                    <a:lnTo>
                      <a:pt x="1040" y="2099"/>
                    </a:lnTo>
                    <a:lnTo>
                      <a:pt x="1050" y="2099"/>
                    </a:lnTo>
                    <a:lnTo>
                      <a:pt x="1060" y="2108"/>
                    </a:lnTo>
                    <a:lnTo>
                      <a:pt x="997" y="2194"/>
                    </a:lnTo>
                    <a:lnTo>
                      <a:pt x="933" y="2269"/>
                    </a:lnTo>
                    <a:lnTo>
                      <a:pt x="870" y="2353"/>
                    </a:lnTo>
                    <a:lnTo>
                      <a:pt x="806" y="2437"/>
                    </a:lnTo>
                    <a:lnTo>
                      <a:pt x="743" y="2522"/>
                    </a:lnTo>
                    <a:lnTo>
                      <a:pt x="678" y="2607"/>
                    </a:lnTo>
                    <a:lnTo>
                      <a:pt x="616" y="2704"/>
                    </a:lnTo>
                    <a:lnTo>
                      <a:pt x="551" y="2788"/>
                    </a:lnTo>
                    <a:lnTo>
                      <a:pt x="488" y="2872"/>
                    </a:lnTo>
                    <a:lnTo>
                      <a:pt x="424" y="2957"/>
                    </a:lnTo>
                    <a:lnTo>
                      <a:pt x="351" y="3031"/>
                    </a:lnTo>
                    <a:lnTo>
                      <a:pt x="286" y="3117"/>
                    </a:lnTo>
                    <a:lnTo>
                      <a:pt x="224" y="3201"/>
                    </a:lnTo>
                    <a:lnTo>
                      <a:pt x="149" y="3286"/>
                    </a:lnTo>
                    <a:lnTo>
                      <a:pt x="75" y="3359"/>
                    </a:lnTo>
                    <a:lnTo>
                      <a:pt x="11" y="3445"/>
                    </a:lnTo>
                    <a:lnTo>
                      <a:pt x="0" y="3445"/>
                    </a:lnTo>
                    <a:lnTo>
                      <a:pt x="0" y="3423"/>
                    </a:lnTo>
                    <a:lnTo>
                      <a:pt x="0" y="3391"/>
                    </a:lnTo>
                    <a:lnTo>
                      <a:pt x="0" y="3350"/>
                    </a:lnTo>
                    <a:lnTo>
                      <a:pt x="0" y="3318"/>
                    </a:lnTo>
                    <a:lnTo>
                      <a:pt x="0" y="3275"/>
                    </a:lnTo>
                    <a:lnTo>
                      <a:pt x="0" y="3244"/>
                    </a:lnTo>
                    <a:lnTo>
                      <a:pt x="11" y="3211"/>
                    </a:lnTo>
                    <a:lnTo>
                      <a:pt x="11" y="3180"/>
                    </a:lnTo>
                    <a:lnTo>
                      <a:pt x="11" y="3138"/>
                    </a:lnTo>
                    <a:lnTo>
                      <a:pt x="11" y="3105"/>
                    </a:lnTo>
                    <a:lnTo>
                      <a:pt x="11" y="3074"/>
                    </a:lnTo>
                    <a:lnTo>
                      <a:pt x="11" y="3031"/>
                    </a:lnTo>
                    <a:lnTo>
                      <a:pt x="11" y="2999"/>
                    </a:lnTo>
                    <a:lnTo>
                      <a:pt x="11" y="2967"/>
                    </a:lnTo>
                    <a:lnTo>
                      <a:pt x="22" y="2924"/>
                    </a:lnTo>
                    <a:lnTo>
                      <a:pt x="22" y="2894"/>
                    </a:lnTo>
                    <a:lnTo>
                      <a:pt x="22" y="2851"/>
                    </a:lnTo>
                    <a:lnTo>
                      <a:pt x="11" y="2840"/>
                    </a:lnTo>
                    <a:lnTo>
                      <a:pt x="11" y="2829"/>
                    </a:lnTo>
                    <a:lnTo>
                      <a:pt x="11" y="2819"/>
                    </a:lnTo>
                    <a:lnTo>
                      <a:pt x="11" y="2809"/>
                    </a:lnTo>
                    <a:lnTo>
                      <a:pt x="11" y="2797"/>
                    </a:lnTo>
                    <a:lnTo>
                      <a:pt x="11" y="2788"/>
                    </a:lnTo>
                    <a:lnTo>
                      <a:pt x="11" y="2776"/>
                    </a:lnTo>
                    <a:lnTo>
                      <a:pt x="11" y="2766"/>
                    </a:lnTo>
                    <a:lnTo>
                      <a:pt x="11" y="2756"/>
                    </a:lnTo>
                    <a:lnTo>
                      <a:pt x="11" y="2745"/>
                    </a:lnTo>
                    <a:lnTo>
                      <a:pt x="22" y="2734"/>
                    </a:lnTo>
                    <a:lnTo>
                      <a:pt x="22" y="2682"/>
                    </a:lnTo>
                    <a:lnTo>
                      <a:pt x="22" y="2639"/>
                    </a:lnTo>
                    <a:lnTo>
                      <a:pt x="22" y="2597"/>
                    </a:lnTo>
                    <a:lnTo>
                      <a:pt x="22" y="2555"/>
                    </a:lnTo>
                    <a:lnTo>
                      <a:pt x="32" y="2512"/>
                    </a:lnTo>
                    <a:lnTo>
                      <a:pt x="32" y="2469"/>
                    </a:lnTo>
                    <a:lnTo>
                      <a:pt x="32" y="2427"/>
                    </a:lnTo>
                    <a:lnTo>
                      <a:pt x="32" y="2374"/>
                    </a:lnTo>
                    <a:lnTo>
                      <a:pt x="32" y="2332"/>
                    </a:lnTo>
                    <a:lnTo>
                      <a:pt x="22" y="2289"/>
                    </a:lnTo>
                    <a:lnTo>
                      <a:pt x="22" y="2247"/>
                    </a:lnTo>
                    <a:lnTo>
                      <a:pt x="22" y="2205"/>
                    </a:lnTo>
                    <a:lnTo>
                      <a:pt x="22" y="2151"/>
                    </a:lnTo>
                    <a:lnTo>
                      <a:pt x="22" y="2108"/>
                    </a:lnTo>
                    <a:lnTo>
                      <a:pt x="11" y="2067"/>
                    </a:lnTo>
                    <a:lnTo>
                      <a:pt x="11" y="2024"/>
                    </a:lnTo>
                    <a:lnTo>
                      <a:pt x="11" y="2003"/>
                    </a:lnTo>
                    <a:lnTo>
                      <a:pt x="11" y="1993"/>
                    </a:lnTo>
                    <a:lnTo>
                      <a:pt x="11" y="1981"/>
                    </a:lnTo>
                    <a:lnTo>
                      <a:pt x="22" y="1972"/>
                    </a:lnTo>
                    <a:lnTo>
                      <a:pt x="22" y="1960"/>
                    </a:lnTo>
                    <a:lnTo>
                      <a:pt x="32" y="1950"/>
                    </a:lnTo>
                    <a:lnTo>
                      <a:pt x="43" y="1940"/>
                    </a:lnTo>
                    <a:lnTo>
                      <a:pt x="54" y="1929"/>
                    </a:lnTo>
                    <a:lnTo>
                      <a:pt x="63" y="1918"/>
                    </a:lnTo>
                    <a:lnTo>
                      <a:pt x="63" y="1908"/>
                    </a:lnTo>
                    <a:lnTo>
                      <a:pt x="75" y="1897"/>
                    </a:lnTo>
                    <a:lnTo>
                      <a:pt x="85" y="1886"/>
                    </a:lnTo>
                    <a:lnTo>
                      <a:pt x="85" y="1875"/>
                    </a:lnTo>
                    <a:lnTo>
                      <a:pt x="96" y="1865"/>
                    </a:lnTo>
                    <a:lnTo>
                      <a:pt x="96" y="1854"/>
                    </a:lnTo>
                    <a:lnTo>
                      <a:pt x="106" y="1843"/>
                    </a:lnTo>
                    <a:lnTo>
                      <a:pt x="117" y="1833"/>
                    </a:lnTo>
                    <a:lnTo>
                      <a:pt x="127" y="1822"/>
                    </a:lnTo>
                    <a:lnTo>
                      <a:pt x="127" y="1813"/>
                    </a:lnTo>
                    <a:lnTo>
                      <a:pt x="138" y="1801"/>
                    </a:lnTo>
                    <a:lnTo>
                      <a:pt x="149" y="1791"/>
                    </a:lnTo>
                    <a:lnTo>
                      <a:pt x="159" y="1770"/>
                    </a:lnTo>
                    <a:lnTo>
                      <a:pt x="159" y="1759"/>
                    </a:lnTo>
                    <a:lnTo>
                      <a:pt x="170" y="1748"/>
                    </a:lnTo>
                    <a:lnTo>
                      <a:pt x="181" y="1738"/>
                    </a:lnTo>
                    <a:lnTo>
                      <a:pt x="181" y="1727"/>
                    </a:lnTo>
                    <a:lnTo>
                      <a:pt x="191" y="1716"/>
                    </a:lnTo>
                    <a:lnTo>
                      <a:pt x="202" y="1707"/>
                    </a:lnTo>
                    <a:lnTo>
                      <a:pt x="202" y="1695"/>
                    </a:lnTo>
                    <a:lnTo>
                      <a:pt x="213" y="1685"/>
                    </a:lnTo>
                    <a:lnTo>
                      <a:pt x="213" y="1664"/>
                    </a:lnTo>
                    <a:lnTo>
                      <a:pt x="244" y="1621"/>
                    </a:lnTo>
                    <a:lnTo>
                      <a:pt x="265" y="1589"/>
                    </a:lnTo>
                    <a:lnTo>
                      <a:pt x="297" y="1546"/>
                    </a:lnTo>
                    <a:lnTo>
                      <a:pt x="319" y="1505"/>
                    </a:lnTo>
                    <a:lnTo>
                      <a:pt x="340" y="1462"/>
                    </a:lnTo>
                    <a:lnTo>
                      <a:pt x="371" y="1419"/>
                    </a:lnTo>
                    <a:lnTo>
                      <a:pt x="392" y="1378"/>
                    </a:lnTo>
                    <a:lnTo>
                      <a:pt x="414" y="1335"/>
                    </a:lnTo>
                    <a:lnTo>
                      <a:pt x="435" y="1292"/>
                    </a:lnTo>
                    <a:lnTo>
                      <a:pt x="456" y="1251"/>
                    </a:lnTo>
                    <a:lnTo>
                      <a:pt x="478" y="1208"/>
                    </a:lnTo>
                    <a:lnTo>
                      <a:pt x="498" y="1165"/>
                    </a:lnTo>
                    <a:lnTo>
                      <a:pt x="519" y="1112"/>
                    </a:lnTo>
                    <a:lnTo>
                      <a:pt x="541" y="1070"/>
                    </a:lnTo>
                    <a:lnTo>
                      <a:pt x="562" y="1027"/>
                    </a:lnTo>
                    <a:lnTo>
                      <a:pt x="583" y="984"/>
                    </a:lnTo>
                    <a:lnTo>
                      <a:pt x="594" y="963"/>
                    </a:lnTo>
                    <a:lnTo>
                      <a:pt x="594" y="954"/>
                    </a:lnTo>
                    <a:lnTo>
                      <a:pt x="605" y="932"/>
                    </a:lnTo>
                    <a:lnTo>
                      <a:pt x="616" y="911"/>
                    </a:lnTo>
                    <a:lnTo>
                      <a:pt x="625" y="891"/>
                    </a:lnTo>
                    <a:lnTo>
                      <a:pt x="637" y="869"/>
                    </a:lnTo>
                    <a:lnTo>
                      <a:pt x="646" y="857"/>
                    </a:lnTo>
                    <a:lnTo>
                      <a:pt x="658" y="837"/>
                    </a:lnTo>
                    <a:lnTo>
                      <a:pt x="668" y="816"/>
                    </a:lnTo>
                    <a:lnTo>
                      <a:pt x="678" y="794"/>
                    </a:lnTo>
                    <a:lnTo>
                      <a:pt x="689" y="773"/>
                    </a:lnTo>
                    <a:lnTo>
                      <a:pt x="700" y="762"/>
                    </a:lnTo>
                    <a:lnTo>
                      <a:pt x="711" y="741"/>
                    </a:lnTo>
                    <a:lnTo>
                      <a:pt x="721" y="720"/>
                    </a:lnTo>
                    <a:lnTo>
                      <a:pt x="732" y="698"/>
                    </a:lnTo>
                    <a:lnTo>
                      <a:pt x="743" y="677"/>
                    </a:lnTo>
                    <a:lnTo>
                      <a:pt x="785" y="603"/>
                    </a:lnTo>
                    <a:lnTo>
                      <a:pt x="839" y="528"/>
                    </a:lnTo>
                    <a:lnTo>
                      <a:pt x="880" y="444"/>
                    </a:lnTo>
                    <a:lnTo>
                      <a:pt x="923" y="370"/>
                    </a:lnTo>
                    <a:lnTo>
                      <a:pt x="975" y="286"/>
                    </a:lnTo>
                    <a:lnTo>
                      <a:pt x="986" y="265"/>
                    </a:lnTo>
                    <a:lnTo>
                      <a:pt x="1008" y="243"/>
                    </a:lnTo>
                    <a:lnTo>
                      <a:pt x="1018" y="211"/>
                    </a:lnTo>
                    <a:lnTo>
                      <a:pt x="1029" y="190"/>
                    </a:lnTo>
                    <a:lnTo>
                      <a:pt x="1040" y="168"/>
                    </a:lnTo>
                    <a:lnTo>
                      <a:pt x="1060" y="136"/>
                    </a:lnTo>
                    <a:lnTo>
                      <a:pt x="1081" y="105"/>
                    </a:lnTo>
                    <a:lnTo>
                      <a:pt x="1093" y="73"/>
                    </a:lnTo>
                    <a:lnTo>
                      <a:pt x="1103" y="52"/>
                    </a:lnTo>
                    <a:lnTo>
                      <a:pt x="1124" y="31"/>
                    </a:lnTo>
                    <a:lnTo>
                      <a:pt x="1145" y="9"/>
                    </a:lnTo>
                    <a:lnTo>
                      <a:pt x="1156" y="0"/>
                    </a:lnTo>
                    <a:lnTo>
                      <a:pt x="1315" y="168"/>
                    </a:lnTo>
                    <a:close/>
                  </a:path>
                </a:pathLst>
              </a:custGeom>
              <a:solidFill>
                <a:srgbClr val="027a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1924560" y="2772720"/>
                <a:ext cx="44280" cy="219600"/>
              </a:xfrm>
              <a:custGeom>
                <a:avLst/>
                <a:gdLst/>
                <a:ahLst/>
                <a:rect l="l" t="t" r="r" b="b"/>
                <a:pathLst>
                  <a:path w="116" h="562">
                    <a:moveTo>
                      <a:pt x="0" y="0"/>
                    </a:moveTo>
                    <a:lnTo>
                      <a:pt x="20" y="32"/>
                    </a:lnTo>
                    <a:lnTo>
                      <a:pt x="31" y="64"/>
                    </a:lnTo>
                    <a:lnTo>
                      <a:pt x="42" y="96"/>
                    </a:lnTo>
                    <a:lnTo>
                      <a:pt x="52" y="138"/>
                    </a:lnTo>
                    <a:lnTo>
                      <a:pt x="63" y="170"/>
                    </a:lnTo>
                    <a:lnTo>
                      <a:pt x="74" y="202"/>
                    </a:lnTo>
                    <a:lnTo>
                      <a:pt x="84" y="234"/>
                    </a:lnTo>
                    <a:lnTo>
                      <a:pt x="95" y="277"/>
                    </a:lnTo>
                    <a:lnTo>
                      <a:pt x="106" y="308"/>
                    </a:lnTo>
                    <a:lnTo>
                      <a:pt x="106" y="340"/>
                    </a:lnTo>
                    <a:lnTo>
                      <a:pt x="116" y="383"/>
                    </a:lnTo>
                    <a:lnTo>
                      <a:pt x="116" y="413"/>
                    </a:lnTo>
                    <a:lnTo>
                      <a:pt x="116" y="456"/>
                    </a:lnTo>
                    <a:lnTo>
                      <a:pt x="116" y="488"/>
                    </a:lnTo>
                    <a:lnTo>
                      <a:pt x="106" y="531"/>
                    </a:lnTo>
                    <a:lnTo>
                      <a:pt x="106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1798560" y="2896560"/>
                <a:ext cx="165600" cy="95760"/>
              </a:xfrm>
              <a:custGeom>
                <a:avLst/>
                <a:gdLst/>
                <a:ahLst/>
                <a:rect l="l" t="t" r="r" b="b"/>
                <a:pathLst>
                  <a:path w="424" h="244">
                    <a:moveTo>
                      <a:pt x="424" y="244"/>
                    </a:moveTo>
                    <a:lnTo>
                      <a:pt x="392" y="233"/>
                    </a:lnTo>
                    <a:lnTo>
                      <a:pt x="360" y="223"/>
                    </a:lnTo>
                    <a:lnTo>
                      <a:pt x="338" y="213"/>
                    </a:lnTo>
                    <a:lnTo>
                      <a:pt x="306" y="201"/>
                    </a:lnTo>
                    <a:lnTo>
                      <a:pt x="286" y="180"/>
                    </a:lnTo>
                    <a:lnTo>
                      <a:pt x="254" y="170"/>
                    </a:lnTo>
                    <a:lnTo>
                      <a:pt x="233" y="158"/>
                    </a:lnTo>
                    <a:lnTo>
                      <a:pt x="200" y="138"/>
                    </a:lnTo>
                    <a:lnTo>
                      <a:pt x="179" y="128"/>
                    </a:lnTo>
                    <a:lnTo>
                      <a:pt x="148" y="106"/>
                    </a:lnTo>
                    <a:lnTo>
                      <a:pt x="127" y="86"/>
                    </a:lnTo>
                    <a:lnTo>
                      <a:pt x="105" y="74"/>
                    </a:lnTo>
                    <a:lnTo>
                      <a:pt x="73" y="53"/>
                    </a:lnTo>
                    <a:lnTo>
                      <a:pt x="52" y="43"/>
                    </a:lnTo>
                    <a:lnTo>
                      <a:pt x="2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1432080" y="2917800"/>
                <a:ext cx="333360" cy="387360"/>
              </a:xfrm>
              <a:custGeom>
                <a:avLst/>
                <a:gdLst/>
                <a:ahLst/>
                <a:rect l="l" t="t" r="r" b="b"/>
                <a:pathLst>
                  <a:path w="860" h="996">
                    <a:moveTo>
                      <a:pt x="860" y="0"/>
                    </a:moveTo>
                    <a:lnTo>
                      <a:pt x="796" y="53"/>
                    </a:lnTo>
                    <a:lnTo>
                      <a:pt x="732" y="105"/>
                    </a:lnTo>
                    <a:lnTo>
                      <a:pt x="668" y="170"/>
                    </a:lnTo>
                    <a:lnTo>
                      <a:pt x="616" y="223"/>
                    </a:lnTo>
                    <a:lnTo>
                      <a:pt x="553" y="287"/>
                    </a:lnTo>
                    <a:lnTo>
                      <a:pt x="499" y="341"/>
                    </a:lnTo>
                    <a:lnTo>
                      <a:pt x="435" y="404"/>
                    </a:lnTo>
                    <a:lnTo>
                      <a:pt x="383" y="468"/>
                    </a:lnTo>
                    <a:lnTo>
                      <a:pt x="329" y="531"/>
                    </a:lnTo>
                    <a:lnTo>
                      <a:pt x="277" y="595"/>
                    </a:lnTo>
                    <a:lnTo>
                      <a:pt x="224" y="658"/>
                    </a:lnTo>
                    <a:lnTo>
                      <a:pt x="170" y="722"/>
                    </a:lnTo>
                    <a:lnTo>
                      <a:pt x="127" y="796"/>
                    </a:lnTo>
                    <a:lnTo>
                      <a:pt x="86" y="860"/>
                    </a:lnTo>
                    <a:lnTo>
                      <a:pt x="43" y="923"/>
                    </a:lnTo>
                    <a:lnTo>
                      <a:pt x="0" y="9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1432080" y="3305160"/>
                <a:ext cx="155880" cy="188640"/>
              </a:xfrm>
              <a:custGeom>
                <a:avLst/>
                <a:gdLst/>
                <a:ahLst/>
                <a:rect l="l" t="t" r="r" b="b"/>
                <a:pathLst>
                  <a:path w="404" h="489">
                    <a:moveTo>
                      <a:pt x="0" y="0"/>
                    </a:moveTo>
                    <a:lnTo>
                      <a:pt x="0" y="43"/>
                    </a:lnTo>
                    <a:lnTo>
                      <a:pt x="12" y="86"/>
                    </a:lnTo>
                    <a:lnTo>
                      <a:pt x="22" y="118"/>
                    </a:lnTo>
                    <a:lnTo>
                      <a:pt x="32" y="161"/>
                    </a:lnTo>
                    <a:lnTo>
                      <a:pt x="54" y="202"/>
                    </a:lnTo>
                    <a:lnTo>
                      <a:pt x="75" y="233"/>
                    </a:lnTo>
                    <a:lnTo>
                      <a:pt x="106" y="267"/>
                    </a:lnTo>
                    <a:lnTo>
                      <a:pt x="127" y="297"/>
                    </a:lnTo>
                    <a:lnTo>
                      <a:pt x="159" y="329"/>
                    </a:lnTo>
                    <a:lnTo>
                      <a:pt x="192" y="362"/>
                    </a:lnTo>
                    <a:lnTo>
                      <a:pt x="224" y="394"/>
                    </a:lnTo>
                    <a:lnTo>
                      <a:pt x="256" y="414"/>
                    </a:lnTo>
                    <a:lnTo>
                      <a:pt x="298" y="435"/>
                    </a:lnTo>
                    <a:lnTo>
                      <a:pt x="329" y="457"/>
                    </a:lnTo>
                    <a:lnTo>
                      <a:pt x="361" y="478"/>
                    </a:lnTo>
                    <a:lnTo>
                      <a:pt x="404" y="48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1233720" y="3524040"/>
                <a:ext cx="408600" cy="518040"/>
              </a:xfrm>
              <a:custGeom>
                <a:avLst/>
                <a:gdLst/>
                <a:ahLst/>
                <a:rect l="l" t="t" r="r" b="b"/>
                <a:pathLst>
                  <a:path w="1049" h="1337">
                    <a:moveTo>
                      <a:pt x="1049" y="0"/>
                    </a:moveTo>
                    <a:lnTo>
                      <a:pt x="986" y="86"/>
                    </a:lnTo>
                    <a:lnTo>
                      <a:pt x="922" y="161"/>
                    </a:lnTo>
                    <a:lnTo>
                      <a:pt x="859" y="245"/>
                    </a:lnTo>
                    <a:lnTo>
                      <a:pt x="795" y="329"/>
                    </a:lnTo>
                    <a:lnTo>
                      <a:pt x="732" y="414"/>
                    </a:lnTo>
                    <a:lnTo>
                      <a:pt x="667" y="499"/>
                    </a:lnTo>
                    <a:lnTo>
                      <a:pt x="605" y="596"/>
                    </a:lnTo>
                    <a:lnTo>
                      <a:pt x="540" y="680"/>
                    </a:lnTo>
                    <a:lnTo>
                      <a:pt x="477" y="764"/>
                    </a:lnTo>
                    <a:lnTo>
                      <a:pt x="413" y="849"/>
                    </a:lnTo>
                    <a:lnTo>
                      <a:pt x="340" y="923"/>
                    </a:lnTo>
                    <a:lnTo>
                      <a:pt x="275" y="1009"/>
                    </a:lnTo>
                    <a:lnTo>
                      <a:pt x="213" y="1093"/>
                    </a:lnTo>
                    <a:lnTo>
                      <a:pt x="138" y="1178"/>
                    </a:lnTo>
                    <a:lnTo>
                      <a:pt x="64" y="1251"/>
                    </a:lnTo>
                    <a:lnTo>
                      <a:pt x="0" y="133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1231560" y="3811680"/>
                <a:ext cx="6840" cy="223560"/>
              </a:xfrm>
              <a:custGeom>
                <a:avLst/>
                <a:gdLst/>
                <a:ahLst/>
                <a:rect l="l" t="t" r="r" b="b"/>
                <a:pathLst>
                  <a:path w="22" h="572">
                    <a:moveTo>
                      <a:pt x="0" y="572"/>
                    </a:moveTo>
                    <a:lnTo>
                      <a:pt x="0" y="540"/>
                    </a:lnTo>
                    <a:lnTo>
                      <a:pt x="0" y="499"/>
                    </a:lnTo>
                    <a:lnTo>
                      <a:pt x="0" y="467"/>
                    </a:lnTo>
                    <a:lnTo>
                      <a:pt x="0" y="424"/>
                    </a:lnTo>
                    <a:lnTo>
                      <a:pt x="0" y="393"/>
                    </a:lnTo>
                    <a:lnTo>
                      <a:pt x="11" y="360"/>
                    </a:lnTo>
                    <a:lnTo>
                      <a:pt x="11" y="329"/>
                    </a:lnTo>
                    <a:lnTo>
                      <a:pt x="11" y="287"/>
                    </a:lnTo>
                    <a:lnTo>
                      <a:pt x="11" y="254"/>
                    </a:lnTo>
                    <a:lnTo>
                      <a:pt x="11" y="223"/>
                    </a:lnTo>
                    <a:lnTo>
                      <a:pt x="11" y="180"/>
                    </a:lnTo>
                    <a:lnTo>
                      <a:pt x="11" y="148"/>
                    </a:lnTo>
                    <a:lnTo>
                      <a:pt x="11" y="116"/>
                    </a:lnTo>
                    <a:lnTo>
                      <a:pt x="22" y="73"/>
                    </a:lnTo>
                    <a:lnTo>
                      <a:pt x="22" y="4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1233720" y="3491280"/>
                <a:ext cx="9360" cy="275400"/>
              </a:xfrm>
              <a:custGeom>
                <a:avLst/>
                <a:gdLst/>
                <a:ahLst/>
                <a:rect l="l" t="t" r="r" b="b"/>
                <a:pathLst>
                  <a:path w="21" h="710">
                    <a:moveTo>
                      <a:pt x="11" y="710"/>
                    </a:moveTo>
                    <a:lnTo>
                      <a:pt x="11" y="658"/>
                    </a:ln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1"/>
                    </a:lnTo>
                    <a:lnTo>
                      <a:pt x="21" y="488"/>
                    </a:lnTo>
                    <a:lnTo>
                      <a:pt x="21" y="445"/>
                    </a:lnTo>
                    <a:lnTo>
                      <a:pt x="21" y="403"/>
                    </a:lnTo>
                    <a:lnTo>
                      <a:pt x="21" y="350"/>
                    </a:lnTo>
                    <a:lnTo>
                      <a:pt x="21" y="308"/>
                    </a:lnTo>
                    <a:lnTo>
                      <a:pt x="11" y="265"/>
                    </a:lnTo>
                    <a:lnTo>
                      <a:pt x="11" y="223"/>
                    </a:lnTo>
                    <a:lnTo>
                      <a:pt x="11" y="181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233720" y="3424320"/>
                <a:ext cx="34920" cy="669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0" y="170"/>
                    </a:moveTo>
                    <a:lnTo>
                      <a:pt x="0" y="149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11" y="118"/>
                    </a:lnTo>
                    <a:lnTo>
                      <a:pt x="11" y="106"/>
                    </a:lnTo>
                    <a:lnTo>
                      <a:pt x="21" y="96"/>
                    </a:lnTo>
                    <a:lnTo>
                      <a:pt x="32" y="86"/>
                    </a:lnTo>
                    <a:lnTo>
                      <a:pt x="43" y="75"/>
                    </a:lnTo>
                    <a:lnTo>
                      <a:pt x="52" y="64"/>
                    </a:lnTo>
                    <a:lnTo>
                      <a:pt x="52" y="54"/>
                    </a:lnTo>
                    <a:lnTo>
                      <a:pt x="64" y="43"/>
                    </a:lnTo>
                    <a:lnTo>
                      <a:pt x="74" y="32"/>
                    </a:lnTo>
                    <a:lnTo>
                      <a:pt x="74" y="21"/>
                    </a:lnTo>
                    <a:lnTo>
                      <a:pt x="85" y="11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1268640" y="3351600"/>
                <a:ext cx="44280" cy="72360"/>
              </a:xfrm>
              <a:custGeom>
                <a:avLst/>
                <a:gdLst/>
                <a:ahLst/>
                <a:rect l="l" t="t" r="r" b="b"/>
                <a:pathLst>
                  <a:path w="117" h="190">
                    <a:moveTo>
                      <a:pt x="0" y="190"/>
                    </a:moveTo>
                    <a:lnTo>
                      <a:pt x="10" y="179"/>
                    </a:lnTo>
                    <a:lnTo>
                      <a:pt x="21" y="169"/>
                    </a:lnTo>
                    <a:lnTo>
                      <a:pt x="31" y="158"/>
                    </a:lnTo>
                    <a:lnTo>
                      <a:pt x="31" y="149"/>
                    </a:lnTo>
                    <a:lnTo>
                      <a:pt x="42" y="137"/>
                    </a:lnTo>
                    <a:lnTo>
                      <a:pt x="53" y="127"/>
                    </a:lnTo>
                    <a:lnTo>
                      <a:pt x="63" y="106"/>
                    </a:lnTo>
                    <a:lnTo>
                      <a:pt x="63" y="95"/>
                    </a:lnTo>
                    <a:lnTo>
                      <a:pt x="74" y="84"/>
                    </a:lnTo>
                    <a:lnTo>
                      <a:pt x="85" y="74"/>
                    </a:lnTo>
                    <a:lnTo>
                      <a:pt x="85" y="63"/>
                    </a:lnTo>
                    <a:lnTo>
                      <a:pt x="95" y="52"/>
                    </a:lnTo>
                    <a:lnTo>
                      <a:pt x="106" y="43"/>
                    </a:lnTo>
                    <a:lnTo>
                      <a:pt x="106" y="31"/>
                    </a:lnTo>
                    <a:lnTo>
                      <a:pt x="117" y="21"/>
                    </a:lnTo>
                    <a:lnTo>
                      <a:pt x="117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312920" y="3085560"/>
                <a:ext cx="144360" cy="266040"/>
              </a:xfrm>
              <a:custGeom>
                <a:avLst/>
                <a:gdLst/>
                <a:ahLst/>
                <a:rect l="l" t="t" r="r" b="b"/>
                <a:pathLst>
                  <a:path w="370" h="680">
                    <a:moveTo>
                      <a:pt x="0" y="680"/>
                    </a:moveTo>
                    <a:lnTo>
                      <a:pt x="31" y="637"/>
                    </a:lnTo>
                    <a:lnTo>
                      <a:pt x="52" y="605"/>
                    </a:lnTo>
                    <a:lnTo>
                      <a:pt x="84" y="562"/>
                    </a:lnTo>
                    <a:lnTo>
                      <a:pt x="106" y="521"/>
                    </a:lnTo>
                    <a:lnTo>
                      <a:pt x="127" y="478"/>
                    </a:lnTo>
                    <a:lnTo>
                      <a:pt x="158" y="435"/>
                    </a:lnTo>
                    <a:lnTo>
                      <a:pt x="179" y="394"/>
                    </a:lnTo>
                    <a:lnTo>
                      <a:pt x="201" y="351"/>
                    </a:lnTo>
                    <a:lnTo>
                      <a:pt x="222" y="308"/>
                    </a:lnTo>
                    <a:lnTo>
                      <a:pt x="243" y="267"/>
                    </a:lnTo>
                    <a:lnTo>
                      <a:pt x="265" y="224"/>
                    </a:lnTo>
                    <a:lnTo>
                      <a:pt x="285" y="181"/>
                    </a:lnTo>
                    <a:lnTo>
                      <a:pt x="306" y="128"/>
                    </a:lnTo>
                    <a:lnTo>
                      <a:pt x="328" y="86"/>
                    </a:lnTo>
                    <a:lnTo>
                      <a:pt x="349" y="43"/>
                    </a:lnTo>
                    <a:lnTo>
                      <a:pt x="3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1457640" y="2966400"/>
                <a:ext cx="60840" cy="118800"/>
              </a:xfrm>
              <a:custGeom>
                <a:avLst/>
                <a:gdLst/>
                <a:ahLst/>
                <a:rect l="l" t="t" r="r" b="b"/>
                <a:pathLst>
                  <a:path w="160" h="307">
                    <a:moveTo>
                      <a:pt x="0" y="307"/>
                    </a:moveTo>
                    <a:lnTo>
                      <a:pt x="11" y="286"/>
                    </a:lnTo>
                    <a:lnTo>
                      <a:pt x="11" y="277"/>
                    </a:lnTo>
                    <a:lnTo>
                      <a:pt x="22" y="255"/>
                    </a:lnTo>
                    <a:lnTo>
                      <a:pt x="33" y="234"/>
                    </a:lnTo>
                    <a:lnTo>
                      <a:pt x="42" y="214"/>
                    </a:lnTo>
                    <a:lnTo>
                      <a:pt x="54" y="192"/>
                    </a:lnTo>
                    <a:lnTo>
                      <a:pt x="63" y="180"/>
                    </a:lnTo>
                    <a:lnTo>
                      <a:pt x="75" y="160"/>
                    </a:lnTo>
                    <a:lnTo>
                      <a:pt x="85" y="139"/>
                    </a:lnTo>
                    <a:lnTo>
                      <a:pt x="95" y="117"/>
                    </a:lnTo>
                    <a:lnTo>
                      <a:pt x="106" y="96"/>
                    </a:lnTo>
                    <a:lnTo>
                      <a:pt x="117" y="85"/>
                    </a:lnTo>
                    <a:lnTo>
                      <a:pt x="128" y="64"/>
                    </a:lnTo>
                    <a:lnTo>
                      <a:pt x="138" y="43"/>
                    </a:lnTo>
                    <a:lnTo>
                      <a:pt x="149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1518480" y="2805480"/>
                <a:ext cx="95760" cy="160560"/>
              </a:xfrm>
              <a:custGeom>
                <a:avLst/>
                <a:gdLst/>
                <a:ahLst/>
                <a:rect l="l" t="t" r="r" b="b"/>
                <a:pathLst>
                  <a:path w="243" h="412">
                    <a:moveTo>
                      <a:pt x="0" y="412"/>
                    </a:moveTo>
                    <a:lnTo>
                      <a:pt x="10" y="390"/>
                    </a:lnTo>
                    <a:lnTo>
                      <a:pt x="32" y="370"/>
                    </a:lnTo>
                    <a:lnTo>
                      <a:pt x="42" y="338"/>
                    </a:lnTo>
                    <a:lnTo>
                      <a:pt x="63" y="318"/>
                    </a:lnTo>
                    <a:lnTo>
                      <a:pt x="74" y="285"/>
                    </a:lnTo>
                    <a:lnTo>
                      <a:pt x="96" y="263"/>
                    </a:lnTo>
                    <a:lnTo>
                      <a:pt x="105" y="232"/>
                    </a:lnTo>
                    <a:lnTo>
                      <a:pt x="127" y="211"/>
                    </a:lnTo>
                    <a:lnTo>
                      <a:pt x="137" y="179"/>
                    </a:lnTo>
                    <a:lnTo>
                      <a:pt x="148" y="158"/>
                    </a:lnTo>
                    <a:lnTo>
                      <a:pt x="170" y="127"/>
                    </a:lnTo>
                    <a:lnTo>
                      <a:pt x="180" y="105"/>
                    </a:lnTo>
                    <a:lnTo>
                      <a:pt x="202" y="73"/>
                    </a:lnTo>
                    <a:lnTo>
                      <a:pt x="211" y="52"/>
                    </a:lnTo>
                    <a:lnTo>
                      <a:pt x="232" y="21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1679400" y="2702880"/>
                <a:ext cx="63000" cy="6480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1478520" y="2945880"/>
                <a:ext cx="522720" cy="557640"/>
              </a:xfrm>
              <a:custGeom>
                <a:avLst/>
                <a:gdLst/>
                <a:ahLst/>
                <a:rect l="l" t="t" r="r" b="b"/>
                <a:pathLst>
                  <a:path w="1346" h="1431">
                    <a:moveTo>
                      <a:pt x="1113" y="148"/>
                    </a:moveTo>
                    <a:lnTo>
                      <a:pt x="1124" y="148"/>
                    </a:lnTo>
                    <a:lnTo>
                      <a:pt x="1133" y="148"/>
                    </a:lnTo>
                    <a:lnTo>
                      <a:pt x="1155" y="159"/>
                    </a:lnTo>
                    <a:lnTo>
                      <a:pt x="1165" y="159"/>
                    </a:lnTo>
                    <a:lnTo>
                      <a:pt x="1176" y="169"/>
                    </a:lnTo>
                    <a:lnTo>
                      <a:pt x="1187" y="169"/>
                    </a:lnTo>
                    <a:lnTo>
                      <a:pt x="1197" y="180"/>
                    </a:lnTo>
                    <a:lnTo>
                      <a:pt x="1208" y="191"/>
                    </a:lnTo>
                    <a:lnTo>
                      <a:pt x="1229" y="191"/>
                    </a:lnTo>
                    <a:lnTo>
                      <a:pt x="1240" y="201"/>
                    </a:lnTo>
                    <a:lnTo>
                      <a:pt x="1251" y="201"/>
                    </a:lnTo>
                    <a:lnTo>
                      <a:pt x="1261" y="212"/>
                    </a:lnTo>
                    <a:lnTo>
                      <a:pt x="1272" y="223"/>
                    </a:lnTo>
                    <a:lnTo>
                      <a:pt x="1292" y="223"/>
                    </a:lnTo>
                    <a:lnTo>
                      <a:pt x="1304" y="223"/>
                    </a:lnTo>
                    <a:lnTo>
                      <a:pt x="1314" y="232"/>
                    </a:lnTo>
                    <a:lnTo>
                      <a:pt x="1326" y="244"/>
                    </a:lnTo>
                    <a:lnTo>
                      <a:pt x="1335" y="254"/>
                    </a:lnTo>
                    <a:lnTo>
                      <a:pt x="1335" y="266"/>
                    </a:lnTo>
                    <a:lnTo>
                      <a:pt x="1346" y="275"/>
                    </a:lnTo>
                    <a:lnTo>
                      <a:pt x="1346" y="286"/>
                    </a:lnTo>
                    <a:lnTo>
                      <a:pt x="1346" y="297"/>
                    </a:lnTo>
                    <a:lnTo>
                      <a:pt x="1346" y="307"/>
                    </a:lnTo>
                    <a:lnTo>
                      <a:pt x="1346" y="318"/>
                    </a:lnTo>
                    <a:lnTo>
                      <a:pt x="1346" y="329"/>
                    </a:lnTo>
                    <a:lnTo>
                      <a:pt x="1346" y="338"/>
                    </a:lnTo>
                    <a:lnTo>
                      <a:pt x="1346" y="350"/>
                    </a:lnTo>
                    <a:lnTo>
                      <a:pt x="1346" y="359"/>
                    </a:lnTo>
                    <a:lnTo>
                      <a:pt x="1346" y="371"/>
                    </a:lnTo>
                    <a:lnTo>
                      <a:pt x="1335" y="381"/>
                    </a:lnTo>
                    <a:lnTo>
                      <a:pt x="1335" y="393"/>
                    </a:lnTo>
                    <a:lnTo>
                      <a:pt x="1335" y="402"/>
                    </a:lnTo>
                    <a:lnTo>
                      <a:pt x="1335" y="413"/>
                    </a:lnTo>
                    <a:lnTo>
                      <a:pt x="1335" y="424"/>
                    </a:lnTo>
                    <a:lnTo>
                      <a:pt x="1326" y="424"/>
                    </a:lnTo>
                    <a:lnTo>
                      <a:pt x="1314" y="424"/>
                    </a:lnTo>
                    <a:lnTo>
                      <a:pt x="1304" y="424"/>
                    </a:lnTo>
                    <a:lnTo>
                      <a:pt x="1292" y="424"/>
                    </a:lnTo>
                    <a:lnTo>
                      <a:pt x="1283" y="424"/>
                    </a:lnTo>
                    <a:lnTo>
                      <a:pt x="1272" y="424"/>
                    </a:lnTo>
                    <a:lnTo>
                      <a:pt x="1261" y="424"/>
                    </a:lnTo>
                    <a:lnTo>
                      <a:pt x="1251" y="413"/>
                    </a:lnTo>
                    <a:lnTo>
                      <a:pt x="1240" y="413"/>
                    </a:lnTo>
                    <a:lnTo>
                      <a:pt x="1229" y="413"/>
                    </a:lnTo>
                    <a:lnTo>
                      <a:pt x="1219" y="413"/>
                    </a:lnTo>
                    <a:lnTo>
                      <a:pt x="1208" y="413"/>
                    </a:lnTo>
                    <a:lnTo>
                      <a:pt x="1197" y="413"/>
                    </a:lnTo>
                    <a:lnTo>
                      <a:pt x="1187" y="402"/>
                    </a:lnTo>
                    <a:lnTo>
                      <a:pt x="1176" y="402"/>
                    </a:lnTo>
                    <a:lnTo>
                      <a:pt x="1165" y="402"/>
                    </a:lnTo>
                    <a:lnTo>
                      <a:pt x="1155" y="402"/>
                    </a:lnTo>
                    <a:lnTo>
                      <a:pt x="1145" y="402"/>
                    </a:lnTo>
                    <a:lnTo>
                      <a:pt x="1133" y="402"/>
                    </a:lnTo>
                    <a:lnTo>
                      <a:pt x="1124" y="402"/>
                    </a:lnTo>
                    <a:lnTo>
                      <a:pt x="1113" y="413"/>
                    </a:lnTo>
                    <a:lnTo>
                      <a:pt x="1102" y="413"/>
                    </a:lnTo>
                    <a:lnTo>
                      <a:pt x="1081" y="424"/>
                    </a:lnTo>
                    <a:lnTo>
                      <a:pt x="1060" y="445"/>
                    </a:lnTo>
                    <a:lnTo>
                      <a:pt x="1038" y="456"/>
                    </a:lnTo>
                    <a:lnTo>
                      <a:pt x="1018" y="477"/>
                    </a:lnTo>
                    <a:lnTo>
                      <a:pt x="1006" y="498"/>
                    </a:lnTo>
                    <a:lnTo>
                      <a:pt x="997" y="520"/>
                    </a:lnTo>
                    <a:lnTo>
                      <a:pt x="975" y="540"/>
                    </a:lnTo>
                    <a:lnTo>
                      <a:pt x="964" y="561"/>
                    </a:lnTo>
                    <a:lnTo>
                      <a:pt x="954" y="592"/>
                    </a:lnTo>
                    <a:lnTo>
                      <a:pt x="943" y="614"/>
                    </a:lnTo>
                    <a:lnTo>
                      <a:pt x="932" y="635"/>
                    </a:lnTo>
                    <a:lnTo>
                      <a:pt x="922" y="667"/>
                    </a:lnTo>
                    <a:lnTo>
                      <a:pt x="922" y="689"/>
                    </a:lnTo>
                    <a:lnTo>
                      <a:pt x="911" y="710"/>
                    </a:lnTo>
                    <a:lnTo>
                      <a:pt x="900" y="731"/>
                    </a:lnTo>
                    <a:lnTo>
                      <a:pt x="891" y="763"/>
                    </a:lnTo>
                    <a:lnTo>
                      <a:pt x="869" y="794"/>
                    </a:lnTo>
                    <a:lnTo>
                      <a:pt x="858" y="828"/>
                    </a:lnTo>
                    <a:lnTo>
                      <a:pt x="837" y="869"/>
                    </a:lnTo>
                    <a:lnTo>
                      <a:pt x="827" y="900"/>
                    </a:lnTo>
                    <a:lnTo>
                      <a:pt x="805" y="933"/>
                    </a:lnTo>
                    <a:lnTo>
                      <a:pt x="795" y="975"/>
                    </a:lnTo>
                    <a:lnTo>
                      <a:pt x="784" y="1007"/>
                    </a:lnTo>
                    <a:lnTo>
                      <a:pt x="764" y="1049"/>
                    </a:lnTo>
                    <a:lnTo>
                      <a:pt x="752" y="1082"/>
                    </a:lnTo>
                    <a:lnTo>
                      <a:pt x="742" y="1123"/>
                    </a:lnTo>
                    <a:lnTo>
                      <a:pt x="721" y="1154"/>
                    </a:lnTo>
                    <a:lnTo>
                      <a:pt x="710" y="1188"/>
                    </a:lnTo>
                    <a:lnTo>
                      <a:pt x="700" y="1229"/>
                    </a:lnTo>
                    <a:lnTo>
                      <a:pt x="678" y="1261"/>
                    </a:lnTo>
                    <a:lnTo>
                      <a:pt x="668" y="1304"/>
                    </a:lnTo>
                    <a:lnTo>
                      <a:pt x="657" y="1335"/>
                    </a:lnTo>
                    <a:lnTo>
                      <a:pt x="646" y="1347"/>
                    </a:lnTo>
                    <a:lnTo>
                      <a:pt x="635" y="1356"/>
                    </a:lnTo>
                    <a:lnTo>
                      <a:pt x="635" y="1368"/>
                    </a:lnTo>
                    <a:lnTo>
                      <a:pt x="625" y="1368"/>
                    </a:lnTo>
                    <a:lnTo>
                      <a:pt x="625" y="1378"/>
                    </a:lnTo>
                    <a:lnTo>
                      <a:pt x="614" y="1389"/>
                    </a:lnTo>
                    <a:lnTo>
                      <a:pt x="603" y="1399"/>
                    </a:lnTo>
                    <a:lnTo>
                      <a:pt x="593" y="1410"/>
                    </a:lnTo>
                    <a:lnTo>
                      <a:pt x="593" y="1420"/>
                    </a:lnTo>
                    <a:lnTo>
                      <a:pt x="583" y="1420"/>
                    </a:lnTo>
                    <a:lnTo>
                      <a:pt x="583" y="1431"/>
                    </a:lnTo>
                    <a:lnTo>
                      <a:pt x="571" y="1431"/>
                    </a:lnTo>
                    <a:lnTo>
                      <a:pt x="562" y="1431"/>
                    </a:lnTo>
                    <a:lnTo>
                      <a:pt x="550" y="1431"/>
                    </a:lnTo>
                    <a:lnTo>
                      <a:pt x="530" y="1431"/>
                    </a:lnTo>
                    <a:lnTo>
                      <a:pt x="519" y="1431"/>
                    </a:lnTo>
                    <a:lnTo>
                      <a:pt x="498" y="1431"/>
                    </a:lnTo>
                    <a:lnTo>
                      <a:pt x="487" y="1431"/>
                    </a:lnTo>
                    <a:lnTo>
                      <a:pt x="476" y="1420"/>
                    </a:lnTo>
                    <a:lnTo>
                      <a:pt x="466" y="1420"/>
                    </a:lnTo>
                    <a:lnTo>
                      <a:pt x="444" y="1410"/>
                    </a:lnTo>
                    <a:lnTo>
                      <a:pt x="435" y="1399"/>
                    </a:lnTo>
                    <a:lnTo>
                      <a:pt x="423" y="1399"/>
                    </a:lnTo>
                    <a:lnTo>
                      <a:pt x="413" y="1389"/>
                    </a:lnTo>
                    <a:lnTo>
                      <a:pt x="392" y="1378"/>
                    </a:lnTo>
                    <a:lnTo>
                      <a:pt x="381" y="1378"/>
                    </a:lnTo>
                    <a:lnTo>
                      <a:pt x="371" y="1368"/>
                    </a:lnTo>
                    <a:lnTo>
                      <a:pt x="360" y="1356"/>
                    </a:lnTo>
                    <a:lnTo>
                      <a:pt x="349" y="1356"/>
                    </a:lnTo>
                    <a:lnTo>
                      <a:pt x="317" y="1335"/>
                    </a:lnTo>
                    <a:lnTo>
                      <a:pt x="286" y="1315"/>
                    </a:lnTo>
                    <a:lnTo>
                      <a:pt x="265" y="1304"/>
                    </a:lnTo>
                    <a:lnTo>
                      <a:pt x="233" y="1283"/>
                    </a:lnTo>
                    <a:lnTo>
                      <a:pt x="202" y="1261"/>
                    </a:lnTo>
                    <a:lnTo>
                      <a:pt x="180" y="1240"/>
                    </a:lnTo>
                    <a:lnTo>
                      <a:pt x="148" y="1218"/>
                    </a:lnTo>
                    <a:lnTo>
                      <a:pt x="116" y="1197"/>
                    </a:lnTo>
                    <a:lnTo>
                      <a:pt x="95" y="1176"/>
                    </a:lnTo>
                    <a:lnTo>
                      <a:pt x="74" y="1145"/>
                    </a:lnTo>
                    <a:lnTo>
                      <a:pt x="52" y="1123"/>
                    </a:lnTo>
                    <a:lnTo>
                      <a:pt x="31" y="1091"/>
                    </a:lnTo>
                    <a:lnTo>
                      <a:pt x="21" y="1060"/>
                    </a:lnTo>
                    <a:lnTo>
                      <a:pt x="9" y="1027"/>
                    </a:lnTo>
                    <a:lnTo>
                      <a:pt x="0" y="996"/>
                    </a:lnTo>
                    <a:lnTo>
                      <a:pt x="0" y="964"/>
                    </a:lnTo>
                    <a:lnTo>
                      <a:pt x="0" y="943"/>
                    </a:lnTo>
                    <a:lnTo>
                      <a:pt x="0" y="921"/>
                    </a:lnTo>
                    <a:lnTo>
                      <a:pt x="9" y="900"/>
                    </a:lnTo>
                    <a:lnTo>
                      <a:pt x="9" y="891"/>
                    </a:lnTo>
                    <a:lnTo>
                      <a:pt x="21" y="869"/>
                    </a:lnTo>
                    <a:lnTo>
                      <a:pt x="31" y="848"/>
                    </a:lnTo>
                    <a:lnTo>
                      <a:pt x="41" y="837"/>
                    </a:lnTo>
                    <a:lnTo>
                      <a:pt x="52" y="816"/>
                    </a:lnTo>
                    <a:lnTo>
                      <a:pt x="63" y="806"/>
                    </a:lnTo>
                    <a:lnTo>
                      <a:pt x="74" y="785"/>
                    </a:lnTo>
                    <a:lnTo>
                      <a:pt x="84" y="773"/>
                    </a:lnTo>
                    <a:lnTo>
                      <a:pt x="106" y="753"/>
                    </a:lnTo>
                    <a:lnTo>
                      <a:pt x="116" y="742"/>
                    </a:lnTo>
                    <a:lnTo>
                      <a:pt x="127" y="721"/>
                    </a:lnTo>
                    <a:lnTo>
                      <a:pt x="138" y="710"/>
                    </a:lnTo>
                    <a:lnTo>
                      <a:pt x="159" y="699"/>
                    </a:lnTo>
                    <a:lnTo>
                      <a:pt x="190" y="656"/>
                    </a:lnTo>
                    <a:lnTo>
                      <a:pt x="233" y="614"/>
                    </a:lnTo>
                    <a:lnTo>
                      <a:pt x="276" y="561"/>
                    </a:lnTo>
                    <a:lnTo>
                      <a:pt x="317" y="520"/>
                    </a:lnTo>
                    <a:lnTo>
                      <a:pt x="360" y="477"/>
                    </a:lnTo>
                    <a:lnTo>
                      <a:pt x="392" y="434"/>
                    </a:lnTo>
                    <a:lnTo>
                      <a:pt x="435" y="393"/>
                    </a:lnTo>
                    <a:lnTo>
                      <a:pt x="476" y="338"/>
                    </a:lnTo>
                    <a:lnTo>
                      <a:pt x="519" y="297"/>
                    </a:lnTo>
                    <a:lnTo>
                      <a:pt x="550" y="254"/>
                    </a:lnTo>
                    <a:lnTo>
                      <a:pt x="593" y="212"/>
                    </a:lnTo>
                    <a:lnTo>
                      <a:pt x="635" y="169"/>
                    </a:lnTo>
                    <a:lnTo>
                      <a:pt x="678" y="127"/>
                    </a:lnTo>
                    <a:lnTo>
                      <a:pt x="721" y="85"/>
                    </a:lnTo>
                    <a:lnTo>
                      <a:pt x="764" y="42"/>
                    </a:lnTo>
                    <a:lnTo>
                      <a:pt x="805" y="0"/>
                    </a:lnTo>
                    <a:lnTo>
                      <a:pt x="827" y="10"/>
                    </a:lnTo>
                    <a:lnTo>
                      <a:pt x="837" y="21"/>
                    </a:lnTo>
                    <a:lnTo>
                      <a:pt x="858" y="30"/>
                    </a:lnTo>
                    <a:lnTo>
                      <a:pt x="879" y="30"/>
                    </a:lnTo>
                    <a:lnTo>
                      <a:pt x="900" y="42"/>
                    </a:lnTo>
                    <a:lnTo>
                      <a:pt x="922" y="52"/>
                    </a:lnTo>
                    <a:lnTo>
                      <a:pt x="932" y="64"/>
                    </a:lnTo>
                    <a:lnTo>
                      <a:pt x="954" y="73"/>
                    </a:lnTo>
                    <a:lnTo>
                      <a:pt x="975" y="85"/>
                    </a:lnTo>
                    <a:lnTo>
                      <a:pt x="997" y="95"/>
                    </a:lnTo>
                    <a:lnTo>
                      <a:pt x="1018" y="105"/>
                    </a:lnTo>
                    <a:lnTo>
                      <a:pt x="1027" y="116"/>
                    </a:lnTo>
                    <a:lnTo>
                      <a:pt x="1049" y="116"/>
                    </a:lnTo>
                    <a:lnTo>
                      <a:pt x="1070" y="127"/>
                    </a:lnTo>
                    <a:lnTo>
                      <a:pt x="1092" y="137"/>
                    </a:lnTo>
                    <a:lnTo>
                      <a:pt x="1113" y="1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1990080" y="3036600"/>
                <a:ext cx="11520" cy="626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0" y="0"/>
                    </a:moveTo>
                    <a:lnTo>
                      <a:pt x="12" y="12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32" y="65"/>
                    </a:lnTo>
                    <a:lnTo>
                      <a:pt x="32" y="75"/>
                    </a:lnTo>
                    <a:lnTo>
                      <a:pt x="32" y="86"/>
                    </a:lnTo>
                    <a:lnTo>
                      <a:pt x="32" y="97"/>
                    </a:lnTo>
                    <a:lnTo>
                      <a:pt x="32" y="106"/>
                    </a:lnTo>
                    <a:lnTo>
                      <a:pt x="32" y="118"/>
                    </a:lnTo>
                    <a:lnTo>
                      <a:pt x="32" y="127"/>
                    </a:lnTo>
                    <a:lnTo>
                      <a:pt x="32" y="139"/>
                    </a:lnTo>
                    <a:lnTo>
                      <a:pt x="21" y="149"/>
                    </a:lnTo>
                    <a:lnTo>
                      <a:pt x="21" y="16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1824480" y="3106440"/>
                <a:ext cx="81360" cy="137520"/>
              </a:xfrm>
              <a:custGeom>
                <a:avLst/>
                <a:gdLst/>
                <a:ahLst/>
                <a:rect l="l" t="t" r="r" b="b"/>
                <a:pathLst>
                  <a:path w="211" h="350">
                    <a:moveTo>
                      <a:pt x="211" y="0"/>
                    </a:moveTo>
                    <a:lnTo>
                      <a:pt x="190" y="11"/>
                    </a:lnTo>
                    <a:lnTo>
                      <a:pt x="169" y="32"/>
                    </a:lnTo>
                    <a:lnTo>
                      <a:pt x="147" y="43"/>
                    </a:lnTo>
                    <a:lnTo>
                      <a:pt x="127" y="64"/>
                    </a:lnTo>
                    <a:lnTo>
                      <a:pt x="115" y="85"/>
                    </a:lnTo>
                    <a:lnTo>
                      <a:pt x="106" y="107"/>
                    </a:lnTo>
                    <a:lnTo>
                      <a:pt x="84" y="127"/>
                    </a:lnTo>
                    <a:lnTo>
                      <a:pt x="73" y="148"/>
                    </a:lnTo>
                    <a:lnTo>
                      <a:pt x="63" y="179"/>
                    </a:lnTo>
                    <a:lnTo>
                      <a:pt x="52" y="201"/>
                    </a:lnTo>
                    <a:lnTo>
                      <a:pt x="41" y="222"/>
                    </a:lnTo>
                    <a:lnTo>
                      <a:pt x="31" y="254"/>
                    </a:lnTo>
                    <a:lnTo>
                      <a:pt x="31" y="276"/>
                    </a:lnTo>
                    <a:lnTo>
                      <a:pt x="20" y="297"/>
                    </a:lnTo>
                    <a:lnTo>
                      <a:pt x="9" y="318"/>
                    </a:lnTo>
                    <a:lnTo>
                      <a:pt x="0" y="35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1733400" y="3244320"/>
                <a:ext cx="90720" cy="221760"/>
              </a:xfrm>
              <a:custGeom>
                <a:avLst/>
                <a:gdLst/>
                <a:ahLst/>
                <a:rect l="l" t="t" r="r" b="b"/>
                <a:pathLst>
                  <a:path w="234" h="572">
                    <a:moveTo>
                      <a:pt x="234" y="0"/>
                    </a:moveTo>
                    <a:lnTo>
                      <a:pt x="212" y="31"/>
                    </a:lnTo>
                    <a:lnTo>
                      <a:pt x="201" y="65"/>
                    </a:lnTo>
                    <a:lnTo>
                      <a:pt x="180" y="106"/>
                    </a:lnTo>
                    <a:lnTo>
                      <a:pt x="170" y="137"/>
                    </a:lnTo>
                    <a:lnTo>
                      <a:pt x="148" y="170"/>
                    </a:lnTo>
                    <a:lnTo>
                      <a:pt x="138" y="212"/>
                    </a:lnTo>
                    <a:lnTo>
                      <a:pt x="127" y="244"/>
                    </a:lnTo>
                    <a:lnTo>
                      <a:pt x="107" y="286"/>
                    </a:lnTo>
                    <a:lnTo>
                      <a:pt x="95" y="319"/>
                    </a:lnTo>
                    <a:lnTo>
                      <a:pt x="85" y="360"/>
                    </a:lnTo>
                    <a:lnTo>
                      <a:pt x="64" y="391"/>
                    </a:lnTo>
                    <a:lnTo>
                      <a:pt x="53" y="425"/>
                    </a:lnTo>
                    <a:lnTo>
                      <a:pt x="43" y="466"/>
                    </a:lnTo>
                    <a:lnTo>
                      <a:pt x="21" y="498"/>
                    </a:lnTo>
                    <a:lnTo>
                      <a:pt x="11" y="541"/>
                    </a:lnTo>
                    <a:lnTo>
                      <a:pt x="0" y="57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1478520" y="3321360"/>
                <a:ext cx="135360" cy="153720"/>
              </a:xfrm>
              <a:custGeom>
                <a:avLst/>
                <a:gdLst/>
                <a:ahLst/>
                <a:rect l="l" t="t" r="r" b="b"/>
                <a:pathLst>
                  <a:path w="349" h="392">
                    <a:moveTo>
                      <a:pt x="349" y="392"/>
                    </a:moveTo>
                    <a:lnTo>
                      <a:pt x="317" y="371"/>
                    </a:lnTo>
                    <a:lnTo>
                      <a:pt x="286" y="351"/>
                    </a:lnTo>
                    <a:lnTo>
                      <a:pt x="265" y="340"/>
                    </a:lnTo>
                    <a:lnTo>
                      <a:pt x="233" y="319"/>
                    </a:lnTo>
                    <a:lnTo>
                      <a:pt x="202" y="297"/>
                    </a:lnTo>
                    <a:lnTo>
                      <a:pt x="180" y="276"/>
                    </a:lnTo>
                    <a:lnTo>
                      <a:pt x="148" y="254"/>
                    </a:lnTo>
                    <a:lnTo>
                      <a:pt x="116" y="233"/>
                    </a:lnTo>
                    <a:lnTo>
                      <a:pt x="95" y="212"/>
                    </a:lnTo>
                    <a:lnTo>
                      <a:pt x="74" y="181"/>
                    </a:lnTo>
                    <a:lnTo>
                      <a:pt x="52" y="159"/>
                    </a:lnTo>
                    <a:lnTo>
                      <a:pt x="31" y="127"/>
                    </a:lnTo>
                    <a:lnTo>
                      <a:pt x="21" y="96"/>
                    </a:lnTo>
                    <a:lnTo>
                      <a:pt x="9" y="6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1478520" y="3218760"/>
                <a:ext cx="60840" cy="102600"/>
              </a:xfrm>
              <a:custGeom>
                <a:avLst/>
                <a:gdLst/>
                <a:ahLst/>
                <a:rect l="l" t="t" r="r" b="b"/>
                <a:pathLst>
                  <a:path w="159" h="265">
                    <a:moveTo>
                      <a:pt x="0" y="265"/>
                    </a:moveTo>
                    <a:lnTo>
                      <a:pt x="0" y="244"/>
                    </a:lnTo>
                    <a:lnTo>
                      <a:pt x="0" y="222"/>
                    </a:lnTo>
                    <a:lnTo>
                      <a:pt x="9" y="201"/>
                    </a:lnTo>
                    <a:lnTo>
                      <a:pt x="9" y="192"/>
                    </a:lnTo>
                    <a:lnTo>
                      <a:pt x="21" y="170"/>
                    </a:lnTo>
                    <a:lnTo>
                      <a:pt x="31" y="149"/>
                    </a:lnTo>
                    <a:lnTo>
                      <a:pt x="41" y="138"/>
                    </a:lnTo>
                    <a:lnTo>
                      <a:pt x="52" y="117"/>
                    </a:lnTo>
                    <a:lnTo>
                      <a:pt x="63" y="107"/>
                    </a:lnTo>
                    <a:lnTo>
                      <a:pt x="74" y="86"/>
                    </a:lnTo>
                    <a:lnTo>
                      <a:pt x="84" y="74"/>
                    </a:lnTo>
                    <a:lnTo>
                      <a:pt x="106" y="54"/>
                    </a:lnTo>
                    <a:lnTo>
                      <a:pt x="116" y="43"/>
                    </a:lnTo>
                    <a:lnTo>
                      <a:pt x="127" y="22"/>
                    </a:lnTo>
                    <a:lnTo>
                      <a:pt x="138" y="11"/>
                    </a:lnTo>
                    <a:lnTo>
                      <a:pt x="159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1539720" y="2945880"/>
                <a:ext cx="252000" cy="272880"/>
              </a:xfrm>
              <a:custGeom>
                <a:avLst/>
                <a:gdLst/>
                <a:ahLst/>
                <a:rect l="l" t="t" r="r" b="b"/>
                <a:pathLst>
                  <a:path w="646" h="699">
                    <a:moveTo>
                      <a:pt x="0" y="699"/>
                    </a:moveTo>
                    <a:lnTo>
                      <a:pt x="31" y="656"/>
                    </a:lnTo>
                    <a:lnTo>
                      <a:pt x="74" y="614"/>
                    </a:lnTo>
                    <a:lnTo>
                      <a:pt x="117" y="561"/>
                    </a:lnTo>
                    <a:lnTo>
                      <a:pt x="158" y="520"/>
                    </a:lnTo>
                    <a:lnTo>
                      <a:pt x="201" y="477"/>
                    </a:lnTo>
                    <a:lnTo>
                      <a:pt x="233" y="434"/>
                    </a:lnTo>
                    <a:lnTo>
                      <a:pt x="276" y="393"/>
                    </a:lnTo>
                    <a:lnTo>
                      <a:pt x="317" y="338"/>
                    </a:lnTo>
                    <a:lnTo>
                      <a:pt x="360" y="297"/>
                    </a:lnTo>
                    <a:lnTo>
                      <a:pt x="391" y="254"/>
                    </a:lnTo>
                    <a:lnTo>
                      <a:pt x="434" y="212"/>
                    </a:lnTo>
                    <a:lnTo>
                      <a:pt x="476" y="169"/>
                    </a:lnTo>
                    <a:lnTo>
                      <a:pt x="519" y="127"/>
                    </a:lnTo>
                    <a:lnTo>
                      <a:pt x="562" y="85"/>
                    </a:lnTo>
                    <a:lnTo>
                      <a:pt x="605" y="42"/>
                    </a:lnTo>
                    <a:lnTo>
                      <a:pt x="64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1497240" y="2964240"/>
                <a:ext cx="487800" cy="511200"/>
              </a:xfrm>
              <a:custGeom>
                <a:avLst/>
                <a:gdLst/>
                <a:ahLst/>
                <a:rect l="l" t="t" r="r" b="b"/>
                <a:pathLst>
                  <a:path w="1252" h="1314">
                    <a:moveTo>
                      <a:pt x="1081" y="170"/>
                    </a:moveTo>
                    <a:lnTo>
                      <a:pt x="1093" y="181"/>
                    </a:lnTo>
                    <a:lnTo>
                      <a:pt x="1103" y="190"/>
                    </a:lnTo>
                    <a:lnTo>
                      <a:pt x="1113" y="190"/>
                    </a:lnTo>
                    <a:lnTo>
                      <a:pt x="1124" y="190"/>
                    </a:lnTo>
                    <a:lnTo>
                      <a:pt x="1135" y="202"/>
                    </a:lnTo>
                    <a:lnTo>
                      <a:pt x="1156" y="202"/>
                    </a:lnTo>
                    <a:lnTo>
                      <a:pt x="1167" y="212"/>
                    </a:lnTo>
                    <a:lnTo>
                      <a:pt x="1177" y="212"/>
                    </a:lnTo>
                    <a:lnTo>
                      <a:pt x="1188" y="212"/>
                    </a:lnTo>
                    <a:lnTo>
                      <a:pt x="1199" y="224"/>
                    </a:lnTo>
                    <a:lnTo>
                      <a:pt x="1209" y="224"/>
                    </a:lnTo>
                    <a:lnTo>
                      <a:pt x="1220" y="233"/>
                    </a:lnTo>
                    <a:lnTo>
                      <a:pt x="1231" y="244"/>
                    </a:lnTo>
                    <a:lnTo>
                      <a:pt x="1240" y="255"/>
                    </a:lnTo>
                    <a:lnTo>
                      <a:pt x="1252" y="265"/>
                    </a:lnTo>
                    <a:lnTo>
                      <a:pt x="1252" y="276"/>
                    </a:lnTo>
                    <a:lnTo>
                      <a:pt x="1252" y="287"/>
                    </a:lnTo>
                    <a:lnTo>
                      <a:pt x="1252" y="296"/>
                    </a:lnTo>
                    <a:lnTo>
                      <a:pt x="1252" y="308"/>
                    </a:lnTo>
                    <a:lnTo>
                      <a:pt x="1240" y="317"/>
                    </a:lnTo>
                    <a:lnTo>
                      <a:pt x="1240" y="329"/>
                    </a:lnTo>
                    <a:lnTo>
                      <a:pt x="1231" y="317"/>
                    </a:lnTo>
                    <a:lnTo>
                      <a:pt x="1209" y="317"/>
                    </a:lnTo>
                    <a:lnTo>
                      <a:pt x="1199" y="308"/>
                    </a:lnTo>
                    <a:lnTo>
                      <a:pt x="1177" y="308"/>
                    </a:lnTo>
                    <a:lnTo>
                      <a:pt x="1167" y="308"/>
                    </a:lnTo>
                    <a:lnTo>
                      <a:pt x="1145" y="308"/>
                    </a:lnTo>
                    <a:lnTo>
                      <a:pt x="1135" y="308"/>
                    </a:lnTo>
                    <a:lnTo>
                      <a:pt x="1113" y="308"/>
                    </a:lnTo>
                    <a:lnTo>
                      <a:pt x="1103" y="308"/>
                    </a:lnTo>
                    <a:lnTo>
                      <a:pt x="1081" y="308"/>
                    </a:lnTo>
                    <a:lnTo>
                      <a:pt x="1072" y="317"/>
                    </a:lnTo>
                    <a:lnTo>
                      <a:pt x="1050" y="317"/>
                    </a:lnTo>
                    <a:lnTo>
                      <a:pt x="1040" y="329"/>
                    </a:lnTo>
                    <a:lnTo>
                      <a:pt x="1029" y="329"/>
                    </a:lnTo>
                    <a:lnTo>
                      <a:pt x="1018" y="339"/>
                    </a:lnTo>
                    <a:lnTo>
                      <a:pt x="1008" y="351"/>
                    </a:lnTo>
                    <a:lnTo>
                      <a:pt x="975" y="371"/>
                    </a:lnTo>
                    <a:lnTo>
                      <a:pt x="954" y="403"/>
                    </a:lnTo>
                    <a:lnTo>
                      <a:pt x="933" y="423"/>
                    </a:lnTo>
                    <a:lnTo>
                      <a:pt x="923" y="456"/>
                    </a:lnTo>
                    <a:lnTo>
                      <a:pt x="902" y="478"/>
                    </a:lnTo>
                    <a:lnTo>
                      <a:pt x="891" y="509"/>
                    </a:lnTo>
                    <a:lnTo>
                      <a:pt x="870" y="541"/>
                    </a:lnTo>
                    <a:lnTo>
                      <a:pt x="859" y="562"/>
                    </a:lnTo>
                    <a:lnTo>
                      <a:pt x="848" y="593"/>
                    </a:lnTo>
                    <a:lnTo>
                      <a:pt x="839" y="625"/>
                    </a:lnTo>
                    <a:lnTo>
                      <a:pt x="827" y="657"/>
                    </a:lnTo>
                    <a:lnTo>
                      <a:pt x="817" y="689"/>
                    </a:lnTo>
                    <a:lnTo>
                      <a:pt x="806" y="721"/>
                    </a:lnTo>
                    <a:lnTo>
                      <a:pt x="796" y="743"/>
                    </a:lnTo>
                    <a:lnTo>
                      <a:pt x="775" y="774"/>
                    </a:lnTo>
                    <a:lnTo>
                      <a:pt x="764" y="806"/>
                    </a:lnTo>
                    <a:lnTo>
                      <a:pt x="753" y="827"/>
                    </a:lnTo>
                    <a:lnTo>
                      <a:pt x="732" y="858"/>
                    </a:lnTo>
                    <a:lnTo>
                      <a:pt x="721" y="891"/>
                    </a:lnTo>
                    <a:lnTo>
                      <a:pt x="712" y="922"/>
                    </a:lnTo>
                    <a:lnTo>
                      <a:pt x="700" y="954"/>
                    </a:lnTo>
                    <a:lnTo>
                      <a:pt x="678" y="976"/>
                    </a:lnTo>
                    <a:lnTo>
                      <a:pt x="669" y="1007"/>
                    </a:lnTo>
                    <a:lnTo>
                      <a:pt x="658" y="1040"/>
                    </a:lnTo>
                    <a:lnTo>
                      <a:pt x="648" y="1071"/>
                    </a:lnTo>
                    <a:lnTo>
                      <a:pt x="626" y="1103"/>
                    </a:lnTo>
                    <a:lnTo>
                      <a:pt x="616" y="1124"/>
                    </a:lnTo>
                    <a:lnTo>
                      <a:pt x="605" y="1155"/>
                    </a:lnTo>
                    <a:lnTo>
                      <a:pt x="583" y="1187"/>
                    </a:lnTo>
                    <a:lnTo>
                      <a:pt x="573" y="1219"/>
                    </a:lnTo>
                    <a:lnTo>
                      <a:pt x="562" y="1241"/>
                    </a:lnTo>
                    <a:lnTo>
                      <a:pt x="541" y="1273"/>
                    </a:lnTo>
                    <a:lnTo>
                      <a:pt x="531" y="1283"/>
                    </a:lnTo>
                    <a:lnTo>
                      <a:pt x="519" y="1293"/>
                    </a:lnTo>
                    <a:lnTo>
                      <a:pt x="510" y="1293"/>
                    </a:lnTo>
                    <a:lnTo>
                      <a:pt x="510" y="1305"/>
                    </a:lnTo>
                    <a:lnTo>
                      <a:pt x="498" y="1305"/>
                    </a:lnTo>
                    <a:lnTo>
                      <a:pt x="488" y="1305"/>
                    </a:lnTo>
                    <a:lnTo>
                      <a:pt x="478" y="1305"/>
                    </a:lnTo>
                    <a:lnTo>
                      <a:pt x="478" y="1314"/>
                    </a:lnTo>
                    <a:lnTo>
                      <a:pt x="467" y="1314"/>
                    </a:lnTo>
                    <a:lnTo>
                      <a:pt x="456" y="1314"/>
                    </a:lnTo>
                    <a:lnTo>
                      <a:pt x="456" y="1305"/>
                    </a:lnTo>
                    <a:lnTo>
                      <a:pt x="446" y="1305"/>
                    </a:lnTo>
                    <a:lnTo>
                      <a:pt x="435" y="1305"/>
                    </a:lnTo>
                    <a:lnTo>
                      <a:pt x="435" y="1293"/>
                    </a:lnTo>
                    <a:lnTo>
                      <a:pt x="404" y="1283"/>
                    </a:lnTo>
                    <a:lnTo>
                      <a:pt x="371" y="1262"/>
                    </a:lnTo>
                    <a:lnTo>
                      <a:pt x="340" y="1251"/>
                    </a:lnTo>
                    <a:lnTo>
                      <a:pt x="297" y="1230"/>
                    </a:lnTo>
                    <a:lnTo>
                      <a:pt x="265" y="1208"/>
                    </a:lnTo>
                    <a:lnTo>
                      <a:pt x="234" y="1187"/>
                    </a:lnTo>
                    <a:lnTo>
                      <a:pt x="202" y="1166"/>
                    </a:lnTo>
                    <a:lnTo>
                      <a:pt x="170" y="1146"/>
                    </a:lnTo>
                    <a:lnTo>
                      <a:pt x="138" y="1124"/>
                    </a:lnTo>
                    <a:lnTo>
                      <a:pt x="107" y="1092"/>
                    </a:lnTo>
                    <a:lnTo>
                      <a:pt x="86" y="1071"/>
                    </a:lnTo>
                    <a:lnTo>
                      <a:pt x="64" y="1040"/>
                    </a:lnTo>
                    <a:lnTo>
                      <a:pt x="43" y="1007"/>
                    </a:lnTo>
                    <a:lnTo>
                      <a:pt x="22" y="976"/>
                    </a:lnTo>
                    <a:lnTo>
                      <a:pt x="11" y="933"/>
                    </a:lnTo>
                    <a:lnTo>
                      <a:pt x="0" y="901"/>
                    </a:lnTo>
                    <a:lnTo>
                      <a:pt x="11" y="879"/>
                    </a:lnTo>
                    <a:lnTo>
                      <a:pt x="11" y="870"/>
                    </a:lnTo>
                    <a:lnTo>
                      <a:pt x="22" y="849"/>
                    </a:lnTo>
                    <a:lnTo>
                      <a:pt x="22" y="838"/>
                    </a:lnTo>
                    <a:lnTo>
                      <a:pt x="32" y="827"/>
                    </a:lnTo>
                    <a:lnTo>
                      <a:pt x="32" y="806"/>
                    </a:lnTo>
                    <a:lnTo>
                      <a:pt x="43" y="795"/>
                    </a:lnTo>
                    <a:lnTo>
                      <a:pt x="54" y="786"/>
                    </a:lnTo>
                    <a:lnTo>
                      <a:pt x="64" y="764"/>
                    </a:lnTo>
                    <a:lnTo>
                      <a:pt x="75" y="752"/>
                    </a:lnTo>
                    <a:lnTo>
                      <a:pt x="75" y="743"/>
                    </a:lnTo>
                    <a:lnTo>
                      <a:pt x="86" y="731"/>
                    </a:lnTo>
                    <a:lnTo>
                      <a:pt x="96" y="721"/>
                    </a:lnTo>
                    <a:lnTo>
                      <a:pt x="107" y="700"/>
                    </a:lnTo>
                    <a:lnTo>
                      <a:pt x="117" y="689"/>
                    </a:lnTo>
                    <a:lnTo>
                      <a:pt x="138" y="679"/>
                    </a:lnTo>
                    <a:lnTo>
                      <a:pt x="150" y="668"/>
                    </a:lnTo>
                    <a:lnTo>
                      <a:pt x="159" y="657"/>
                    </a:lnTo>
                    <a:lnTo>
                      <a:pt x="181" y="636"/>
                    </a:lnTo>
                    <a:lnTo>
                      <a:pt x="191" y="625"/>
                    </a:lnTo>
                    <a:lnTo>
                      <a:pt x="202" y="614"/>
                    </a:lnTo>
                    <a:lnTo>
                      <a:pt x="213" y="593"/>
                    </a:lnTo>
                    <a:lnTo>
                      <a:pt x="224" y="584"/>
                    </a:lnTo>
                    <a:lnTo>
                      <a:pt x="244" y="572"/>
                    </a:lnTo>
                    <a:lnTo>
                      <a:pt x="256" y="550"/>
                    </a:lnTo>
                    <a:lnTo>
                      <a:pt x="265" y="541"/>
                    </a:lnTo>
                    <a:lnTo>
                      <a:pt x="277" y="519"/>
                    </a:lnTo>
                    <a:lnTo>
                      <a:pt x="286" y="509"/>
                    </a:lnTo>
                    <a:lnTo>
                      <a:pt x="308" y="498"/>
                    </a:lnTo>
                    <a:lnTo>
                      <a:pt x="319" y="487"/>
                    </a:lnTo>
                    <a:lnTo>
                      <a:pt x="329" y="466"/>
                    </a:lnTo>
                    <a:lnTo>
                      <a:pt x="340" y="456"/>
                    </a:lnTo>
                    <a:lnTo>
                      <a:pt x="361" y="423"/>
                    </a:lnTo>
                    <a:lnTo>
                      <a:pt x="392" y="403"/>
                    </a:lnTo>
                    <a:lnTo>
                      <a:pt x="414" y="371"/>
                    </a:lnTo>
                    <a:lnTo>
                      <a:pt x="435" y="339"/>
                    </a:lnTo>
                    <a:lnTo>
                      <a:pt x="467" y="308"/>
                    </a:lnTo>
                    <a:lnTo>
                      <a:pt x="488" y="287"/>
                    </a:lnTo>
                    <a:lnTo>
                      <a:pt x="510" y="255"/>
                    </a:lnTo>
                    <a:lnTo>
                      <a:pt x="541" y="224"/>
                    </a:lnTo>
                    <a:lnTo>
                      <a:pt x="562" y="190"/>
                    </a:lnTo>
                    <a:lnTo>
                      <a:pt x="594" y="170"/>
                    </a:lnTo>
                    <a:lnTo>
                      <a:pt x="616" y="138"/>
                    </a:lnTo>
                    <a:lnTo>
                      <a:pt x="648" y="106"/>
                    </a:lnTo>
                    <a:lnTo>
                      <a:pt x="669" y="85"/>
                    </a:lnTo>
                    <a:lnTo>
                      <a:pt x="700" y="53"/>
                    </a:lnTo>
                    <a:lnTo>
                      <a:pt x="721" y="22"/>
                    </a:lnTo>
                    <a:lnTo>
                      <a:pt x="743" y="0"/>
                    </a:lnTo>
                    <a:lnTo>
                      <a:pt x="764" y="10"/>
                    </a:lnTo>
                    <a:lnTo>
                      <a:pt x="785" y="31"/>
                    </a:lnTo>
                    <a:lnTo>
                      <a:pt x="806" y="43"/>
                    </a:lnTo>
                    <a:lnTo>
                      <a:pt x="827" y="53"/>
                    </a:lnTo>
                    <a:lnTo>
                      <a:pt x="848" y="63"/>
                    </a:lnTo>
                    <a:lnTo>
                      <a:pt x="870" y="74"/>
                    </a:lnTo>
                    <a:lnTo>
                      <a:pt x="891" y="85"/>
                    </a:lnTo>
                    <a:lnTo>
                      <a:pt x="912" y="95"/>
                    </a:lnTo>
                    <a:lnTo>
                      <a:pt x="933" y="106"/>
                    </a:lnTo>
                    <a:lnTo>
                      <a:pt x="954" y="117"/>
                    </a:lnTo>
                    <a:lnTo>
                      <a:pt x="975" y="127"/>
                    </a:lnTo>
                    <a:lnTo>
                      <a:pt x="997" y="138"/>
                    </a:lnTo>
                    <a:lnTo>
                      <a:pt x="1018" y="149"/>
                    </a:lnTo>
                    <a:lnTo>
                      <a:pt x="1040" y="159"/>
                    </a:lnTo>
                    <a:lnTo>
                      <a:pt x="1061" y="159"/>
                    </a:lnTo>
                    <a:lnTo>
                      <a:pt x="1081" y="170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1796400" y="3099600"/>
                <a:ext cx="92880" cy="177120"/>
              </a:xfrm>
              <a:custGeom>
                <a:avLst/>
                <a:gdLst/>
                <a:ahLst/>
                <a:rect l="l" t="t" r="r" b="b"/>
                <a:pathLst>
                  <a:path w="244" h="455">
                    <a:moveTo>
                      <a:pt x="244" y="0"/>
                    </a:moveTo>
                    <a:lnTo>
                      <a:pt x="211" y="20"/>
                    </a:lnTo>
                    <a:lnTo>
                      <a:pt x="190" y="52"/>
                    </a:lnTo>
                    <a:lnTo>
                      <a:pt x="169" y="72"/>
                    </a:lnTo>
                    <a:lnTo>
                      <a:pt x="159" y="105"/>
                    </a:lnTo>
                    <a:lnTo>
                      <a:pt x="138" y="127"/>
                    </a:lnTo>
                    <a:lnTo>
                      <a:pt x="127" y="158"/>
                    </a:lnTo>
                    <a:lnTo>
                      <a:pt x="106" y="190"/>
                    </a:lnTo>
                    <a:lnTo>
                      <a:pt x="95" y="211"/>
                    </a:lnTo>
                    <a:lnTo>
                      <a:pt x="84" y="242"/>
                    </a:lnTo>
                    <a:lnTo>
                      <a:pt x="75" y="274"/>
                    </a:lnTo>
                    <a:lnTo>
                      <a:pt x="63" y="306"/>
                    </a:lnTo>
                    <a:lnTo>
                      <a:pt x="53" y="338"/>
                    </a:lnTo>
                    <a:lnTo>
                      <a:pt x="42" y="370"/>
                    </a:lnTo>
                    <a:lnTo>
                      <a:pt x="32" y="392"/>
                    </a:lnTo>
                    <a:lnTo>
                      <a:pt x="11" y="423"/>
                    </a:lnTo>
                    <a:lnTo>
                      <a:pt x="0" y="45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1707480" y="3277080"/>
                <a:ext cx="88920" cy="181800"/>
              </a:xfrm>
              <a:custGeom>
                <a:avLst/>
                <a:gdLst/>
                <a:ahLst/>
                <a:rect l="l" t="t" r="r" b="b"/>
                <a:pathLst>
                  <a:path w="223" h="467">
                    <a:moveTo>
                      <a:pt x="223" y="0"/>
                    </a:moveTo>
                    <a:lnTo>
                      <a:pt x="212" y="21"/>
                    </a:lnTo>
                    <a:lnTo>
                      <a:pt x="191" y="52"/>
                    </a:lnTo>
                    <a:lnTo>
                      <a:pt x="180" y="85"/>
                    </a:lnTo>
                    <a:lnTo>
                      <a:pt x="171" y="116"/>
                    </a:lnTo>
                    <a:lnTo>
                      <a:pt x="159" y="148"/>
                    </a:lnTo>
                    <a:lnTo>
                      <a:pt x="137" y="170"/>
                    </a:lnTo>
                    <a:lnTo>
                      <a:pt x="128" y="201"/>
                    </a:lnTo>
                    <a:lnTo>
                      <a:pt x="117" y="234"/>
                    </a:lnTo>
                    <a:lnTo>
                      <a:pt x="107" y="265"/>
                    </a:lnTo>
                    <a:lnTo>
                      <a:pt x="85" y="297"/>
                    </a:lnTo>
                    <a:lnTo>
                      <a:pt x="75" y="318"/>
                    </a:lnTo>
                    <a:lnTo>
                      <a:pt x="64" y="349"/>
                    </a:lnTo>
                    <a:lnTo>
                      <a:pt x="42" y="381"/>
                    </a:lnTo>
                    <a:lnTo>
                      <a:pt x="32" y="413"/>
                    </a:lnTo>
                    <a:lnTo>
                      <a:pt x="21" y="435"/>
                    </a:lnTo>
                    <a:lnTo>
                      <a:pt x="0" y="467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1497240" y="3314160"/>
                <a:ext cx="170280" cy="151560"/>
              </a:xfrm>
              <a:custGeom>
                <a:avLst/>
                <a:gdLst/>
                <a:ahLst/>
                <a:rect l="l" t="t" r="r" b="b"/>
                <a:pathLst>
                  <a:path w="435" h="392">
                    <a:moveTo>
                      <a:pt x="435" y="392"/>
                    </a:moveTo>
                    <a:lnTo>
                      <a:pt x="404" y="382"/>
                    </a:lnTo>
                    <a:lnTo>
                      <a:pt x="371" y="361"/>
                    </a:lnTo>
                    <a:lnTo>
                      <a:pt x="340" y="350"/>
                    </a:lnTo>
                    <a:lnTo>
                      <a:pt x="297" y="329"/>
                    </a:lnTo>
                    <a:lnTo>
                      <a:pt x="265" y="307"/>
                    </a:lnTo>
                    <a:lnTo>
                      <a:pt x="234" y="286"/>
                    </a:lnTo>
                    <a:lnTo>
                      <a:pt x="202" y="265"/>
                    </a:lnTo>
                    <a:lnTo>
                      <a:pt x="170" y="245"/>
                    </a:lnTo>
                    <a:lnTo>
                      <a:pt x="138" y="223"/>
                    </a:lnTo>
                    <a:lnTo>
                      <a:pt x="107" y="191"/>
                    </a:lnTo>
                    <a:lnTo>
                      <a:pt x="86" y="170"/>
                    </a:lnTo>
                    <a:lnTo>
                      <a:pt x="64" y="139"/>
                    </a:lnTo>
                    <a:lnTo>
                      <a:pt x="43" y="106"/>
                    </a:lnTo>
                    <a:lnTo>
                      <a:pt x="22" y="75"/>
                    </a:lnTo>
                    <a:lnTo>
                      <a:pt x="1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1497240" y="3227760"/>
                <a:ext cx="54000" cy="86040"/>
              </a:xfrm>
              <a:custGeom>
                <a:avLst/>
                <a:gdLst/>
                <a:ahLst/>
                <a:rect l="l" t="t" r="r" b="b"/>
                <a:pathLst>
                  <a:path w="138" h="222">
                    <a:moveTo>
                      <a:pt x="0" y="222"/>
                    </a:moveTo>
                    <a:lnTo>
                      <a:pt x="11" y="200"/>
                    </a:lnTo>
                    <a:lnTo>
                      <a:pt x="11" y="191"/>
                    </a:lnTo>
                    <a:lnTo>
                      <a:pt x="22" y="170"/>
                    </a:lnTo>
                    <a:lnTo>
                      <a:pt x="22" y="159"/>
                    </a:lnTo>
                    <a:lnTo>
                      <a:pt x="32" y="148"/>
                    </a:lnTo>
                    <a:lnTo>
                      <a:pt x="32" y="127"/>
                    </a:lnTo>
                    <a:lnTo>
                      <a:pt x="43" y="116"/>
                    </a:lnTo>
                    <a:lnTo>
                      <a:pt x="54" y="107"/>
                    </a:lnTo>
                    <a:lnTo>
                      <a:pt x="64" y="85"/>
                    </a:lnTo>
                    <a:lnTo>
                      <a:pt x="75" y="73"/>
                    </a:lnTo>
                    <a:lnTo>
                      <a:pt x="75" y="64"/>
                    </a:lnTo>
                    <a:lnTo>
                      <a:pt x="86" y="52"/>
                    </a:lnTo>
                    <a:lnTo>
                      <a:pt x="96" y="42"/>
                    </a:lnTo>
                    <a:lnTo>
                      <a:pt x="107" y="21"/>
                    </a:lnTo>
                    <a:lnTo>
                      <a:pt x="117" y="10"/>
                    </a:lnTo>
                    <a:lnTo>
                      <a:pt x="13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1551240" y="3141360"/>
                <a:ext cx="79200" cy="86040"/>
              </a:xfrm>
              <a:custGeom>
                <a:avLst/>
                <a:gdLst/>
                <a:ahLst/>
                <a:rect l="l" t="t" r="r" b="b"/>
                <a:pathLst>
                  <a:path w="202" h="223">
                    <a:moveTo>
                      <a:pt x="0" y="223"/>
                    </a:moveTo>
                    <a:lnTo>
                      <a:pt x="12" y="212"/>
                    </a:lnTo>
                    <a:lnTo>
                      <a:pt x="21" y="201"/>
                    </a:lnTo>
                    <a:lnTo>
                      <a:pt x="43" y="180"/>
                    </a:lnTo>
                    <a:lnTo>
                      <a:pt x="53" y="169"/>
                    </a:lnTo>
                    <a:lnTo>
                      <a:pt x="64" y="158"/>
                    </a:lnTo>
                    <a:lnTo>
                      <a:pt x="75" y="137"/>
                    </a:lnTo>
                    <a:lnTo>
                      <a:pt x="86" y="128"/>
                    </a:lnTo>
                    <a:lnTo>
                      <a:pt x="106" y="116"/>
                    </a:lnTo>
                    <a:lnTo>
                      <a:pt x="118" y="94"/>
                    </a:lnTo>
                    <a:lnTo>
                      <a:pt x="127" y="85"/>
                    </a:lnTo>
                    <a:lnTo>
                      <a:pt x="139" y="63"/>
                    </a:lnTo>
                    <a:lnTo>
                      <a:pt x="148" y="53"/>
                    </a:lnTo>
                    <a:lnTo>
                      <a:pt x="170" y="42"/>
                    </a:lnTo>
                    <a:lnTo>
                      <a:pt x="181" y="31"/>
                    </a:lnTo>
                    <a:lnTo>
                      <a:pt x="191" y="1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1630440" y="296424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403" h="456">
                    <a:moveTo>
                      <a:pt x="0" y="456"/>
                    </a:moveTo>
                    <a:lnTo>
                      <a:pt x="21" y="423"/>
                    </a:lnTo>
                    <a:lnTo>
                      <a:pt x="52" y="403"/>
                    </a:lnTo>
                    <a:lnTo>
                      <a:pt x="74" y="371"/>
                    </a:lnTo>
                    <a:lnTo>
                      <a:pt x="95" y="339"/>
                    </a:lnTo>
                    <a:lnTo>
                      <a:pt x="127" y="308"/>
                    </a:lnTo>
                    <a:lnTo>
                      <a:pt x="148" y="287"/>
                    </a:lnTo>
                    <a:lnTo>
                      <a:pt x="170" y="255"/>
                    </a:lnTo>
                    <a:lnTo>
                      <a:pt x="201" y="224"/>
                    </a:lnTo>
                    <a:lnTo>
                      <a:pt x="222" y="190"/>
                    </a:lnTo>
                    <a:lnTo>
                      <a:pt x="254" y="170"/>
                    </a:lnTo>
                    <a:lnTo>
                      <a:pt x="276" y="138"/>
                    </a:lnTo>
                    <a:lnTo>
                      <a:pt x="308" y="106"/>
                    </a:lnTo>
                    <a:lnTo>
                      <a:pt x="329" y="85"/>
                    </a:lnTo>
                    <a:lnTo>
                      <a:pt x="360" y="53"/>
                    </a:lnTo>
                    <a:lnTo>
                      <a:pt x="381" y="22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1786680" y="29642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338" h="170">
                    <a:moveTo>
                      <a:pt x="0" y="0"/>
                    </a:moveTo>
                    <a:lnTo>
                      <a:pt x="21" y="10"/>
                    </a:lnTo>
                    <a:lnTo>
                      <a:pt x="42" y="31"/>
                    </a:lnTo>
                    <a:lnTo>
                      <a:pt x="63" y="43"/>
                    </a:lnTo>
                    <a:lnTo>
                      <a:pt x="84" y="53"/>
                    </a:lnTo>
                    <a:lnTo>
                      <a:pt x="105" y="63"/>
                    </a:lnTo>
                    <a:lnTo>
                      <a:pt x="127" y="74"/>
                    </a:lnTo>
                    <a:lnTo>
                      <a:pt x="148" y="85"/>
                    </a:lnTo>
                    <a:lnTo>
                      <a:pt x="169" y="95"/>
                    </a:lnTo>
                    <a:lnTo>
                      <a:pt x="190" y="106"/>
                    </a:lnTo>
                    <a:lnTo>
                      <a:pt x="211" y="117"/>
                    </a:lnTo>
                    <a:lnTo>
                      <a:pt x="232" y="127"/>
                    </a:lnTo>
                    <a:lnTo>
                      <a:pt x="254" y="138"/>
                    </a:lnTo>
                    <a:lnTo>
                      <a:pt x="275" y="149"/>
                    </a:lnTo>
                    <a:lnTo>
                      <a:pt x="297" y="159"/>
                    </a:lnTo>
                    <a:lnTo>
                      <a:pt x="318" y="159"/>
                    </a:lnTo>
                    <a:lnTo>
                      <a:pt x="338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1200600" y="3078720"/>
                <a:ext cx="193680" cy="342720"/>
              </a:xfrm>
              <a:custGeom>
                <a:avLst/>
                <a:gdLst/>
                <a:ahLst/>
                <a:rect l="l" t="t" r="r" b="b"/>
                <a:pathLst>
                  <a:path w="497" h="880">
                    <a:moveTo>
                      <a:pt x="222" y="86"/>
                    </a:moveTo>
                    <a:lnTo>
                      <a:pt x="243" y="86"/>
                    </a:lnTo>
                    <a:lnTo>
                      <a:pt x="254" y="86"/>
                    </a:lnTo>
                    <a:lnTo>
                      <a:pt x="275" y="75"/>
                    </a:lnTo>
                    <a:lnTo>
                      <a:pt x="286" y="75"/>
                    </a:lnTo>
                    <a:lnTo>
                      <a:pt x="307" y="64"/>
                    </a:lnTo>
                    <a:lnTo>
                      <a:pt x="317" y="64"/>
                    </a:lnTo>
                    <a:lnTo>
                      <a:pt x="338" y="64"/>
                    </a:lnTo>
                    <a:lnTo>
                      <a:pt x="359" y="55"/>
                    </a:lnTo>
                    <a:lnTo>
                      <a:pt x="370" y="55"/>
                    </a:lnTo>
                    <a:lnTo>
                      <a:pt x="392" y="55"/>
                    </a:lnTo>
                    <a:lnTo>
                      <a:pt x="402" y="55"/>
                    </a:lnTo>
                    <a:lnTo>
                      <a:pt x="424" y="55"/>
                    </a:lnTo>
                    <a:lnTo>
                      <a:pt x="434" y="55"/>
                    </a:lnTo>
                    <a:lnTo>
                      <a:pt x="456" y="55"/>
                    </a:lnTo>
                    <a:lnTo>
                      <a:pt x="465" y="55"/>
                    </a:lnTo>
                    <a:lnTo>
                      <a:pt x="487" y="64"/>
                    </a:lnTo>
                    <a:lnTo>
                      <a:pt x="497" y="64"/>
                    </a:lnTo>
                    <a:lnTo>
                      <a:pt x="497" y="75"/>
                    </a:lnTo>
                    <a:lnTo>
                      <a:pt x="497" y="86"/>
                    </a:lnTo>
                    <a:lnTo>
                      <a:pt x="497" y="96"/>
                    </a:lnTo>
                    <a:lnTo>
                      <a:pt x="497" y="107"/>
                    </a:lnTo>
                    <a:lnTo>
                      <a:pt x="497" y="118"/>
                    </a:lnTo>
                    <a:lnTo>
                      <a:pt x="497" y="127"/>
                    </a:lnTo>
                    <a:lnTo>
                      <a:pt x="465" y="170"/>
                    </a:lnTo>
                    <a:lnTo>
                      <a:pt x="434" y="213"/>
                    </a:lnTo>
                    <a:lnTo>
                      <a:pt x="413" y="254"/>
                    </a:lnTo>
                    <a:lnTo>
                      <a:pt x="381" y="297"/>
                    </a:lnTo>
                    <a:lnTo>
                      <a:pt x="350" y="351"/>
                    </a:lnTo>
                    <a:lnTo>
                      <a:pt x="329" y="393"/>
                    </a:lnTo>
                    <a:lnTo>
                      <a:pt x="297" y="435"/>
                    </a:lnTo>
                    <a:lnTo>
                      <a:pt x="275" y="478"/>
                    </a:lnTo>
                    <a:lnTo>
                      <a:pt x="254" y="520"/>
                    </a:lnTo>
                    <a:lnTo>
                      <a:pt x="222" y="562"/>
                    </a:lnTo>
                    <a:lnTo>
                      <a:pt x="200" y="605"/>
                    </a:lnTo>
                    <a:lnTo>
                      <a:pt x="179" y="658"/>
                    </a:lnTo>
                    <a:lnTo>
                      <a:pt x="148" y="701"/>
                    </a:lnTo>
                    <a:lnTo>
                      <a:pt x="127" y="744"/>
                    </a:lnTo>
                    <a:lnTo>
                      <a:pt x="105" y="796"/>
                    </a:lnTo>
                    <a:lnTo>
                      <a:pt x="84" y="838"/>
                    </a:lnTo>
                    <a:lnTo>
                      <a:pt x="84" y="850"/>
                    </a:lnTo>
                    <a:lnTo>
                      <a:pt x="73" y="850"/>
                    </a:lnTo>
                    <a:lnTo>
                      <a:pt x="73" y="859"/>
                    </a:lnTo>
                    <a:lnTo>
                      <a:pt x="63" y="859"/>
                    </a:lnTo>
                    <a:lnTo>
                      <a:pt x="63" y="870"/>
                    </a:lnTo>
                    <a:lnTo>
                      <a:pt x="52" y="870"/>
                    </a:lnTo>
                    <a:lnTo>
                      <a:pt x="52" y="880"/>
                    </a:lnTo>
                    <a:lnTo>
                      <a:pt x="42" y="880"/>
                    </a:lnTo>
                    <a:lnTo>
                      <a:pt x="30" y="880"/>
                    </a:lnTo>
                    <a:lnTo>
                      <a:pt x="21" y="880"/>
                    </a:lnTo>
                    <a:lnTo>
                      <a:pt x="21" y="870"/>
                    </a:lnTo>
                    <a:lnTo>
                      <a:pt x="9" y="870"/>
                    </a:lnTo>
                    <a:lnTo>
                      <a:pt x="9" y="859"/>
                    </a:lnTo>
                    <a:lnTo>
                      <a:pt x="0" y="859"/>
                    </a:lnTo>
                    <a:lnTo>
                      <a:pt x="0" y="850"/>
                    </a:lnTo>
                    <a:lnTo>
                      <a:pt x="0" y="838"/>
                    </a:lnTo>
                    <a:lnTo>
                      <a:pt x="0" y="828"/>
                    </a:lnTo>
                    <a:lnTo>
                      <a:pt x="0" y="816"/>
                    </a:lnTo>
                    <a:lnTo>
                      <a:pt x="0" y="764"/>
                    </a:lnTo>
                    <a:lnTo>
                      <a:pt x="0" y="722"/>
                    </a:lnTo>
                    <a:lnTo>
                      <a:pt x="0" y="669"/>
                    </a:lnTo>
                    <a:lnTo>
                      <a:pt x="0" y="626"/>
                    </a:lnTo>
                    <a:lnTo>
                      <a:pt x="0" y="574"/>
                    </a:lnTo>
                    <a:lnTo>
                      <a:pt x="0" y="520"/>
                    </a:lnTo>
                    <a:lnTo>
                      <a:pt x="0" y="468"/>
                    </a:lnTo>
                    <a:lnTo>
                      <a:pt x="9" y="425"/>
                    </a:lnTo>
                    <a:lnTo>
                      <a:pt x="9" y="372"/>
                    </a:lnTo>
                    <a:lnTo>
                      <a:pt x="9" y="318"/>
                    </a:lnTo>
                    <a:lnTo>
                      <a:pt x="9" y="266"/>
                    </a:lnTo>
                    <a:lnTo>
                      <a:pt x="9" y="223"/>
                    </a:lnTo>
                    <a:lnTo>
                      <a:pt x="9" y="170"/>
                    </a:lnTo>
                    <a:lnTo>
                      <a:pt x="9" y="127"/>
                    </a:lnTo>
                    <a:lnTo>
                      <a:pt x="0" y="75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5" y="12"/>
                    </a:lnTo>
                    <a:lnTo>
                      <a:pt x="105" y="12"/>
                    </a:lnTo>
                    <a:lnTo>
                      <a:pt x="127" y="12"/>
                    </a:lnTo>
                    <a:lnTo>
                      <a:pt x="136" y="21"/>
                    </a:lnTo>
                    <a:lnTo>
                      <a:pt x="148" y="33"/>
                    </a:lnTo>
                    <a:lnTo>
                      <a:pt x="158" y="33"/>
                    </a:lnTo>
                    <a:lnTo>
                      <a:pt x="169" y="43"/>
                    </a:lnTo>
                    <a:lnTo>
                      <a:pt x="179" y="55"/>
                    </a:lnTo>
                    <a:lnTo>
                      <a:pt x="190" y="55"/>
                    </a:lnTo>
                    <a:lnTo>
                      <a:pt x="200" y="64"/>
                    </a:lnTo>
                    <a:lnTo>
                      <a:pt x="211" y="75"/>
                    </a:lnTo>
                    <a:lnTo>
                      <a:pt x="222" y="8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1233720" y="3127680"/>
                <a:ext cx="160920" cy="275040"/>
              </a:xfrm>
              <a:custGeom>
                <a:avLst/>
                <a:gdLst/>
                <a:ahLst/>
                <a:rect l="l" t="t" r="r" b="b"/>
                <a:pathLst>
                  <a:path w="413" h="711">
                    <a:moveTo>
                      <a:pt x="413" y="0"/>
                    </a:moveTo>
                    <a:lnTo>
                      <a:pt x="381" y="43"/>
                    </a:lnTo>
                    <a:lnTo>
                      <a:pt x="350" y="86"/>
                    </a:lnTo>
                    <a:lnTo>
                      <a:pt x="329" y="127"/>
                    </a:lnTo>
                    <a:lnTo>
                      <a:pt x="297" y="170"/>
                    </a:lnTo>
                    <a:lnTo>
                      <a:pt x="266" y="224"/>
                    </a:lnTo>
                    <a:lnTo>
                      <a:pt x="245" y="266"/>
                    </a:lnTo>
                    <a:lnTo>
                      <a:pt x="213" y="308"/>
                    </a:lnTo>
                    <a:lnTo>
                      <a:pt x="191" y="351"/>
                    </a:lnTo>
                    <a:lnTo>
                      <a:pt x="170" y="393"/>
                    </a:lnTo>
                    <a:lnTo>
                      <a:pt x="138" y="435"/>
                    </a:lnTo>
                    <a:lnTo>
                      <a:pt x="116" y="478"/>
                    </a:lnTo>
                    <a:lnTo>
                      <a:pt x="95" y="531"/>
                    </a:lnTo>
                    <a:lnTo>
                      <a:pt x="64" y="574"/>
                    </a:lnTo>
                    <a:lnTo>
                      <a:pt x="43" y="617"/>
                    </a:lnTo>
                    <a:lnTo>
                      <a:pt x="21" y="66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1200600" y="3090240"/>
                <a:ext cx="4680" cy="305640"/>
              </a:xfrm>
              <a:custGeom>
                <a:avLst/>
                <a:gdLst/>
                <a:ahLst/>
                <a:rect l="l" t="t" r="r" b="b"/>
                <a:pathLst>
                  <a:path w="9" h="783">
                    <a:moveTo>
                      <a:pt x="0" y="783"/>
                    </a:moveTo>
                    <a:lnTo>
                      <a:pt x="0" y="731"/>
                    </a:lnTo>
                    <a:lnTo>
                      <a:pt x="0" y="689"/>
                    </a:lnTo>
                    <a:lnTo>
                      <a:pt x="0" y="636"/>
                    </a:lnTo>
                    <a:lnTo>
                      <a:pt x="0" y="593"/>
                    </a:lnTo>
                    <a:lnTo>
                      <a:pt x="0" y="541"/>
                    </a:lnTo>
                    <a:lnTo>
                      <a:pt x="0" y="487"/>
                    </a:lnTo>
                    <a:lnTo>
                      <a:pt x="0" y="435"/>
                    </a:lnTo>
                    <a:lnTo>
                      <a:pt x="9" y="392"/>
                    </a:lnTo>
                    <a:lnTo>
                      <a:pt x="9" y="339"/>
                    </a:lnTo>
                    <a:lnTo>
                      <a:pt x="9" y="285"/>
                    </a:lnTo>
                    <a:lnTo>
                      <a:pt x="9" y="233"/>
                    </a:lnTo>
                    <a:lnTo>
                      <a:pt x="9" y="190"/>
                    </a:lnTo>
                    <a:lnTo>
                      <a:pt x="9" y="137"/>
                    </a:lnTo>
                    <a:lnTo>
                      <a:pt x="9" y="9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1221840" y="3099600"/>
                <a:ext cx="151920" cy="275040"/>
              </a:xfrm>
              <a:custGeom>
                <a:avLst/>
                <a:gdLst/>
                <a:ahLst/>
                <a:rect l="l" t="t" r="r" b="b"/>
                <a:pathLst>
                  <a:path w="392" h="709">
                    <a:moveTo>
                      <a:pt x="159" y="105"/>
                    </a:moveTo>
                    <a:lnTo>
                      <a:pt x="170" y="94"/>
                    </a:lnTo>
                    <a:lnTo>
                      <a:pt x="180" y="94"/>
                    </a:lnTo>
                    <a:lnTo>
                      <a:pt x="191" y="94"/>
                    </a:lnTo>
                    <a:lnTo>
                      <a:pt x="202" y="84"/>
                    </a:lnTo>
                    <a:lnTo>
                      <a:pt x="212" y="84"/>
                    </a:lnTo>
                    <a:lnTo>
                      <a:pt x="223" y="84"/>
                    </a:lnTo>
                    <a:lnTo>
                      <a:pt x="234" y="72"/>
                    </a:lnTo>
                    <a:lnTo>
                      <a:pt x="255" y="72"/>
                    </a:lnTo>
                    <a:lnTo>
                      <a:pt x="265" y="72"/>
                    </a:lnTo>
                    <a:lnTo>
                      <a:pt x="277" y="72"/>
                    </a:lnTo>
                    <a:lnTo>
                      <a:pt x="286" y="63"/>
                    </a:lnTo>
                    <a:lnTo>
                      <a:pt x="298" y="63"/>
                    </a:lnTo>
                    <a:lnTo>
                      <a:pt x="307" y="63"/>
                    </a:lnTo>
                    <a:lnTo>
                      <a:pt x="318" y="63"/>
                    </a:lnTo>
                    <a:lnTo>
                      <a:pt x="329" y="63"/>
                    </a:lnTo>
                    <a:lnTo>
                      <a:pt x="350" y="63"/>
                    </a:lnTo>
                    <a:lnTo>
                      <a:pt x="392" y="63"/>
                    </a:lnTo>
                    <a:lnTo>
                      <a:pt x="392" y="84"/>
                    </a:lnTo>
                    <a:lnTo>
                      <a:pt x="372" y="127"/>
                    </a:lnTo>
                    <a:lnTo>
                      <a:pt x="340" y="158"/>
                    </a:lnTo>
                    <a:lnTo>
                      <a:pt x="318" y="199"/>
                    </a:lnTo>
                    <a:lnTo>
                      <a:pt x="298" y="242"/>
                    </a:lnTo>
                    <a:lnTo>
                      <a:pt x="277" y="274"/>
                    </a:lnTo>
                    <a:lnTo>
                      <a:pt x="245" y="317"/>
                    </a:lnTo>
                    <a:lnTo>
                      <a:pt x="223" y="360"/>
                    </a:lnTo>
                    <a:lnTo>
                      <a:pt x="202" y="392"/>
                    </a:lnTo>
                    <a:lnTo>
                      <a:pt x="180" y="435"/>
                    </a:lnTo>
                    <a:lnTo>
                      <a:pt x="159" y="476"/>
                    </a:lnTo>
                    <a:lnTo>
                      <a:pt x="127" y="507"/>
                    </a:lnTo>
                    <a:lnTo>
                      <a:pt x="106" y="550"/>
                    </a:lnTo>
                    <a:lnTo>
                      <a:pt x="84" y="593"/>
                    </a:lnTo>
                    <a:lnTo>
                      <a:pt x="64" y="625"/>
                    </a:lnTo>
                    <a:lnTo>
                      <a:pt x="43" y="667"/>
                    </a:lnTo>
                    <a:lnTo>
                      <a:pt x="21" y="709"/>
                    </a:lnTo>
                    <a:lnTo>
                      <a:pt x="11" y="709"/>
                    </a:lnTo>
                    <a:lnTo>
                      <a:pt x="11" y="698"/>
                    </a:lnTo>
                    <a:lnTo>
                      <a:pt x="11" y="689"/>
                    </a:ln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9"/>
                    </a:lnTo>
                    <a:lnTo>
                      <a:pt x="43" y="9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5" y="31"/>
                    </a:lnTo>
                    <a:lnTo>
                      <a:pt x="84" y="41"/>
                    </a:lnTo>
                    <a:lnTo>
                      <a:pt x="96" y="52"/>
                    </a:lnTo>
                    <a:lnTo>
                      <a:pt x="106" y="52"/>
                    </a:lnTo>
                    <a:lnTo>
                      <a:pt x="106" y="63"/>
                    </a:lnTo>
                    <a:lnTo>
                      <a:pt x="117" y="72"/>
                    </a:lnTo>
                    <a:lnTo>
                      <a:pt x="127" y="84"/>
                    </a:lnTo>
                    <a:lnTo>
                      <a:pt x="138" y="84"/>
                    </a:lnTo>
                    <a:lnTo>
                      <a:pt x="148" y="94"/>
                    </a:lnTo>
                    <a:lnTo>
                      <a:pt x="159" y="105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1231560" y="3132000"/>
                <a:ext cx="142200" cy="242640"/>
              </a:xfrm>
              <a:custGeom>
                <a:avLst/>
                <a:gdLst/>
                <a:ahLst/>
                <a:rect l="l" t="t" r="r" b="b"/>
                <a:pathLst>
                  <a:path w="371" h="625">
                    <a:moveTo>
                      <a:pt x="371" y="0"/>
                    </a:moveTo>
                    <a:lnTo>
                      <a:pt x="351" y="43"/>
                    </a:lnTo>
                    <a:lnTo>
                      <a:pt x="319" y="74"/>
                    </a:lnTo>
                    <a:lnTo>
                      <a:pt x="297" y="115"/>
                    </a:lnTo>
                    <a:lnTo>
                      <a:pt x="277" y="158"/>
                    </a:lnTo>
                    <a:lnTo>
                      <a:pt x="256" y="190"/>
                    </a:lnTo>
                    <a:lnTo>
                      <a:pt x="224" y="233"/>
                    </a:lnTo>
                    <a:lnTo>
                      <a:pt x="202" y="276"/>
                    </a:lnTo>
                    <a:lnTo>
                      <a:pt x="181" y="308"/>
                    </a:lnTo>
                    <a:lnTo>
                      <a:pt x="159" y="351"/>
                    </a:lnTo>
                    <a:lnTo>
                      <a:pt x="138" y="392"/>
                    </a:lnTo>
                    <a:lnTo>
                      <a:pt x="106" y="423"/>
                    </a:lnTo>
                    <a:lnTo>
                      <a:pt x="85" y="466"/>
                    </a:lnTo>
                    <a:lnTo>
                      <a:pt x="63" y="509"/>
                    </a:lnTo>
                    <a:lnTo>
                      <a:pt x="43" y="541"/>
                    </a:lnTo>
                    <a:lnTo>
                      <a:pt x="22" y="583"/>
                    </a:lnTo>
                    <a:lnTo>
                      <a:pt x="0" y="6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1221840" y="3099600"/>
                <a:ext cx="9360" cy="268200"/>
              </a:xfrm>
              <a:custGeom>
                <a:avLst/>
                <a:gdLst/>
                <a:ahLst/>
                <a:rect l="l" t="t" r="r" b="b"/>
                <a:pathLst>
                  <a:path w="21" h="689">
                    <a:moveTo>
                      <a:pt x="11" y="689"/>
                    </a:moveTo>
                    <a:lnTo>
                      <a:pt x="11" y="646"/>
                    </a:lnTo>
                    <a:lnTo>
                      <a:pt x="11" y="603"/>
                    </a:lnTo>
                    <a:lnTo>
                      <a:pt x="11" y="562"/>
                    </a:lnTo>
                    <a:lnTo>
                      <a:pt x="21" y="519"/>
                    </a:lnTo>
                    <a:lnTo>
                      <a:pt x="21" y="476"/>
                    </a:lnTo>
                    <a:lnTo>
                      <a:pt x="21" y="423"/>
                    </a:lnTo>
                    <a:lnTo>
                      <a:pt x="21" y="380"/>
                    </a:lnTo>
                    <a:lnTo>
                      <a:pt x="21" y="338"/>
                    </a:lnTo>
                    <a:lnTo>
                      <a:pt x="21" y="296"/>
                    </a:lnTo>
                    <a:lnTo>
                      <a:pt x="21" y="254"/>
                    </a:lnTo>
                    <a:lnTo>
                      <a:pt x="21" y="211"/>
                    </a:lnTo>
                    <a:lnTo>
                      <a:pt x="21" y="168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11" y="4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782000" y="3111480"/>
                <a:ext cx="438840" cy="401040"/>
              </a:xfrm>
              <a:custGeom>
                <a:avLst/>
                <a:gdLst/>
                <a:ahLst/>
                <a:rect l="l" t="t" r="r" b="b"/>
                <a:pathLst>
                  <a:path w="1124" h="1028">
                    <a:moveTo>
                      <a:pt x="520" y="53"/>
                    </a:moveTo>
                    <a:lnTo>
                      <a:pt x="551" y="53"/>
                    </a:lnTo>
                    <a:lnTo>
                      <a:pt x="583" y="53"/>
                    </a:lnTo>
                    <a:lnTo>
                      <a:pt x="605" y="53"/>
                    </a:lnTo>
                    <a:lnTo>
                      <a:pt x="635" y="63"/>
                    </a:lnTo>
                    <a:lnTo>
                      <a:pt x="669" y="63"/>
                    </a:lnTo>
                    <a:lnTo>
                      <a:pt x="700" y="74"/>
                    </a:lnTo>
                    <a:lnTo>
                      <a:pt x="721" y="84"/>
                    </a:lnTo>
                    <a:lnTo>
                      <a:pt x="753" y="84"/>
                    </a:lnTo>
                    <a:lnTo>
                      <a:pt x="774" y="96"/>
                    </a:lnTo>
                    <a:lnTo>
                      <a:pt x="805" y="105"/>
                    </a:lnTo>
                    <a:lnTo>
                      <a:pt x="837" y="116"/>
                    </a:lnTo>
                    <a:lnTo>
                      <a:pt x="859" y="127"/>
                    </a:lnTo>
                    <a:lnTo>
                      <a:pt x="891" y="137"/>
                    </a:lnTo>
                    <a:lnTo>
                      <a:pt x="923" y="148"/>
                    </a:lnTo>
                    <a:lnTo>
                      <a:pt x="943" y="159"/>
                    </a:lnTo>
                    <a:lnTo>
                      <a:pt x="975" y="168"/>
                    </a:lnTo>
                    <a:lnTo>
                      <a:pt x="986" y="180"/>
                    </a:lnTo>
                    <a:lnTo>
                      <a:pt x="1007" y="190"/>
                    </a:lnTo>
                    <a:lnTo>
                      <a:pt x="1018" y="202"/>
                    </a:lnTo>
                    <a:lnTo>
                      <a:pt x="1029" y="211"/>
                    </a:lnTo>
                    <a:lnTo>
                      <a:pt x="1029" y="232"/>
                    </a:lnTo>
                    <a:lnTo>
                      <a:pt x="1039" y="243"/>
                    </a:lnTo>
                    <a:lnTo>
                      <a:pt x="1050" y="254"/>
                    </a:lnTo>
                    <a:lnTo>
                      <a:pt x="1061" y="275"/>
                    </a:lnTo>
                    <a:lnTo>
                      <a:pt x="1061" y="286"/>
                    </a:lnTo>
                    <a:lnTo>
                      <a:pt x="1070" y="307"/>
                    </a:lnTo>
                    <a:lnTo>
                      <a:pt x="1070" y="318"/>
                    </a:lnTo>
                    <a:lnTo>
                      <a:pt x="1082" y="339"/>
                    </a:lnTo>
                    <a:lnTo>
                      <a:pt x="1092" y="349"/>
                    </a:lnTo>
                    <a:lnTo>
                      <a:pt x="1092" y="370"/>
                    </a:lnTo>
                    <a:lnTo>
                      <a:pt x="1103" y="382"/>
                    </a:lnTo>
                    <a:lnTo>
                      <a:pt x="1113" y="404"/>
                    </a:lnTo>
                    <a:lnTo>
                      <a:pt x="1113" y="413"/>
                    </a:lnTo>
                    <a:lnTo>
                      <a:pt x="1113" y="424"/>
                    </a:lnTo>
                    <a:lnTo>
                      <a:pt x="1124" y="434"/>
                    </a:lnTo>
                    <a:lnTo>
                      <a:pt x="1124" y="445"/>
                    </a:lnTo>
                    <a:lnTo>
                      <a:pt x="1124" y="456"/>
                    </a:lnTo>
                    <a:lnTo>
                      <a:pt x="1124" y="476"/>
                    </a:lnTo>
                    <a:lnTo>
                      <a:pt x="1124" y="488"/>
                    </a:lnTo>
                    <a:lnTo>
                      <a:pt x="1124" y="497"/>
                    </a:lnTo>
                    <a:lnTo>
                      <a:pt x="1124" y="509"/>
                    </a:lnTo>
                    <a:lnTo>
                      <a:pt x="1124" y="519"/>
                    </a:lnTo>
                    <a:lnTo>
                      <a:pt x="1113" y="531"/>
                    </a:lnTo>
                    <a:lnTo>
                      <a:pt x="1113" y="540"/>
                    </a:lnTo>
                    <a:lnTo>
                      <a:pt x="1113" y="551"/>
                    </a:lnTo>
                    <a:lnTo>
                      <a:pt x="1103" y="562"/>
                    </a:lnTo>
                    <a:lnTo>
                      <a:pt x="1103" y="572"/>
                    </a:lnTo>
                    <a:lnTo>
                      <a:pt x="1092" y="583"/>
                    </a:lnTo>
                    <a:lnTo>
                      <a:pt x="1061" y="615"/>
                    </a:lnTo>
                    <a:lnTo>
                      <a:pt x="1029" y="646"/>
                    </a:lnTo>
                    <a:lnTo>
                      <a:pt x="997" y="667"/>
                    </a:lnTo>
                    <a:lnTo>
                      <a:pt x="964" y="699"/>
                    </a:lnTo>
                    <a:lnTo>
                      <a:pt x="934" y="721"/>
                    </a:lnTo>
                    <a:lnTo>
                      <a:pt x="902" y="742"/>
                    </a:lnTo>
                    <a:lnTo>
                      <a:pt x="869" y="773"/>
                    </a:lnTo>
                    <a:lnTo>
                      <a:pt x="837" y="794"/>
                    </a:lnTo>
                    <a:lnTo>
                      <a:pt x="796" y="816"/>
                    </a:lnTo>
                    <a:lnTo>
                      <a:pt x="763" y="837"/>
                    </a:lnTo>
                    <a:lnTo>
                      <a:pt x="732" y="859"/>
                    </a:lnTo>
                    <a:lnTo>
                      <a:pt x="689" y="891"/>
                    </a:lnTo>
                    <a:lnTo>
                      <a:pt x="657" y="911"/>
                    </a:lnTo>
                    <a:lnTo>
                      <a:pt x="626" y="932"/>
                    </a:lnTo>
                    <a:lnTo>
                      <a:pt x="594" y="965"/>
                    </a:lnTo>
                    <a:lnTo>
                      <a:pt x="562" y="986"/>
                    </a:lnTo>
                    <a:lnTo>
                      <a:pt x="542" y="996"/>
                    </a:lnTo>
                    <a:lnTo>
                      <a:pt x="530" y="996"/>
                    </a:lnTo>
                    <a:lnTo>
                      <a:pt x="520" y="1007"/>
                    </a:lnTo>
                    <a:lnTo>
                      <a:pt x="499" y="1007"/>
                    </a:lnTo>
                    <a:lnTo>
                      <a:pt x="488" y="1018"/>
                    </a:lnTo>
                    <a:lnTo>
                      <a:pt x="477" y="1018"/>
                    </a:lnTo>
                    <a:lnTo>
                      <a:pt x="456" y="1028"/>
                    </a:lnTo>
                    <a:lnTo>
                      <a:pt x="445" y="1028"/>
                    </a:lnTo>
                    <a:lnTo>
                      <a:pt x="424" y="1028"/>
                    </a:lnTo>
                    <a:lnTo>
                      <a:pt x="413" y="1028"/>
                    </a:lnTo>
                    <a:lnTo>
                      <a:pt x="403" y="1028"/>
                    </a:lnTo>
                    <a:lnTo>
                      <a:pt x="381" y="1028"/>
                    </a:lnTo>
                    <a:lnTo>
                      <a:pt x="371" y="1028"/>
                    </a:lnTo>
                    <a:lnTo>
                      <a:pt x="349" y="1028"/>
                    </a:lnTo>
                    <a:lnTo>
                      <a:pt x="340" y="1028"/>
                    </a:lnTo>
                    <a:lnTo>
                      <a:pt x="318" y="1028"/>
                    </a:lnTo>
                    <a:lnTo>
                      <a:pt x="308" y="1018"/>
                    </a:lnTo>
                    <a:lnTo>
                      <a:pt x="286" y="1007"/>
                    </a:lnTo>
                    <a:lnTo>
                      <a:pt x="276" y="1007"/>
                    </a:lnTo>
                    <a:lnTo>
                      <a:pt x="254" y="1007"/>
                    </a:lnTo>
                    <a:lnTo>
                      <a:pt x="243" y="996"/>
                    </a:lnTo>
                    <a:lnTo>
                      <a:pt x="222" y="996"/>
                    </a:lnTo>
                    <a:lnTo>
                      <a:pt x="213" y="996"/>
                    </a:lnTo>
                    <a:lnTo>
                      <a:pt x="191" y="986"/>
                    </a:lnTo>
                    <a:lnTo>
                      <a:pt x="180" y="986"/>
                    </a:lnTo>
                    <a:lnTo>
                      <a:pt x="159" y="986"/>
                    </a:lnTo>
                    <a:lnTo>
                      <a:pt x="148" y="986"/>
                    </a:lnTo>
                    <a:lnTo>
                      <a:pt x="127" y="975"/>
                    </a:lnTo>
                    <a:lnTo>
                      <a:pt x="116" y="975"/>
                    </a:lnTo>
                    <a:lnTo>
                      <a:pt x="95" y="965"/>
                    </a:lnTo>
                    <a:lnTo>
                      <a:pt x="85" y="965"/>
                    </a:lnTo>
                    <a:lnTo>
                      <a:pt x="74" y="954"/>
                    </a:lnTo>
                    <a:lnTo>
                      <a:pt x="64" y="954"/>
                    </a:lnTo>
                    <a:lnTo>
                      <a:pt x="53" y="954"/>
                    </a:lnTo>
                    <a:lnTo>
                      <a:pt x="43" y="944"/>
                    </a:lnTo>
                    <a:lnTo>
                      <a:pt x="32" y="944"/>
                    </a:lnTo>
                    <a:lnTo>
                      <a:pt x="32" y="932"/>
                    </a:lnTo>
                    <a:lnTo>
                      <a:pt x="21" y="932"/>
                    </a:lnTo>
                    <a:lnTo>
                      <a:pt x="11" y="923"/>
                    </a:lnTo>
                    <a:lnTo>
                      <a:pt x="11" y="911"/>
                    </a:lnTo>
                    <a:lnTo>
                      <a:pt x="0" y="901"/>
                    </a:lnTo>
                    <a:lnTo>
                      <a:pt x="0" y="891"/>
                    </a:lnTo>
                    <a:lnTo>
                      <a:pt x="0" y="880"/>
                    </a:lnTo>
                    <a:lnTo>
                      <a:pt x="0" y="869"/>
                    </a:lnTo>
                    <a:lnTo>
                      <a:pt x="0" y="826"/>
                    </a:lnTo>
                    <a:lnTo>
                      <a:pt x="0" y="773"/>
                    </a:lnTo>
                    <a:lnTo>
                      <a:pt x="11" y="730"/>
                    </a:lnTo>
                    <a:lnTo>
                      <a:pt x="11" y="678"/>
                    </a:lnTo>
                    <a:lnTo>
                      <a:pt x="21" y="636"/>
                    </a:lnTo>
                    <a:lnTo>
                      <a:pt x="32" y="594"/>
                    </a:lnTo>
                    <a:lnTo>
                      <a:pt x="43" y="551"/>
                    </a:lnTo>
                    <a:lnTo>
                      <a:pt x="64" y="497"/>
                    </a:lnTo>
                    <a:lnTo>
                      <a:pt x="74" y="456"/>
                    </a:lnTo>
                    <a:lnTo>
                      <a:pt x="95" y="413"/>
                    </a:lnTo>
                    <a:lnTo>
                      <a:pt x="107" y="370"/>
                    </a:lnTo>
                    <a:lnTo>
                      <a:pt x="127" y="329"/>
                    </a:lnTo>
                    <a:lnTo>
                      <a:pt x="148" y="286"/>
                    </a:lnTo>
                    <a:lnTo>
                      <a:pt x="170" y="254"/>
                    </a:lnTo>
                    <a:lnTo>
                      <a:pt x="191" y="211"/>
                    </a:lnTo>
                    <a:lnTo>
                      <a:pt x="213" y="168"/>
                    </a:lnTo>
                    <a:lnTo>
                      <a:pt x="222" y="159"/>
                    </a:lnTo>
                    <a:lnTo>
                      <a:pt x="222" y="148"/>
                    </a:lnTo>
                    <a:lnTo>
                      <a:pt x="234" y="137"/>
                    </a:lnTo>
                    <a:lnTo>
                      <a:pt x="243" y="116"/>
                    </a:lnTo>
                    <a:lnTo>
                      <a:pt x="254" y="105"/>
                    </a:lnTo>
                    <a:lnTo>
                      <a:pt x="254" y="96"/>
                    </a:lnTo>
                    <a:lnTo>
                      <a:pt x="265" y="84"/>
                    </a:lnTo>
                    <a:lnTo>
                      <a:pt x="276" y="74"/>
                    </a:lnTo>
                    <a:lnTo>
                      <a:pt x="286" y="63"/>
                    </a:lnTo>
                    <a:lnTo>
                      <a:pt x="297" y="53"/>
                    </a:lnTo>
                    <a:lnTo>
                      <a:pt x="308" y="41"/>
                    </a:lnTo>
                    <a:lnTo>
                      <a:pt x="318" y="32"/>
                    </a:lnTo>
                    <a:lnTo>
                      <a:pt x="329" y="21"/>
                    </a:lnTo>
                    <a:lnTo>
                      <a:pt x="340" y="21"/>
                    </a:lnTo>
                    <a:lnTo>
                      <a:pt x="349" y="10"/>
                    </a:lnTo>
                    <a:lnTo>
                      <a:pt x="361" y="0"/>
                    </a:lnTo>
                    <a:lnTo>
                      <a:pt x="371" y="10"/>
                    </a:lnTo>
                    <a:lnTo>
                      <a:pt x="381" y="10"/>
                    </a:lnTo>
                    <a:lnTo>
                      <a:pt x="392" y="10"/>
                    </a:lnTo>
                    <a:lnTo>
                      <a:pt x="403" y="10"/>
                    </a:lnTo>
                    <a:lnTo>
                      <a:pt x="413" y="21"/>
                    </a:lnTo>
                    <a:lnTo>
                      <a:pt x="424" y="21"/>
                    </a:lnTo>
                    <a:lnTo>
                      <a:pt x="435" y="21"/>
                    </a:lnTo>
                    <a:lnTo>
                      <a:pt x="445" y="21"/>
                    </a:lnTo>
                    <a:lnTo>
                      <a:pt x="456" y="21"/>
                    </a:lnTo>
                    <a:lnTo>
                      <a:pt x="467" y="21"/>
                    </a:lnTo>
                    <a:lnTo>
                      <a:pt x="477" y="32"/>
                    </a:lnTo>
                    <a:lnTo>
                      <a:pt x="488" y="32"/>
                    </a:lnTo>
                    <a:lnTo>
                      <a:pt x="499" y="41"/>
                    </a:lnTo>
                    <a:lnTo>
                      <a:pt x="508" y="41"/>
                    </a:lnTo>
                    <a:lnTo>
                      <a:pt x="520" y="5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162520" y="3176640"/>
                <a:ext cx="54000" cy="90720"/>
              </a:xfrm>
              <a:custGeom>
                <a:avLst/>
                <a:gdLst/>
                <a:ahLst/>
                <a:rect l="l" t="t" r="r" b="b"/>
                <a:pathLst>
                  <a:path w="138" h="236">
                    <a:moveTo>
                      <a:pt x="0" y="0"/>
                    </a:moveTo>
                    <a:lnTo>
                      <a:pt x="11" y="12"/>
                    </a:lnTo>
                    <a:lnTo>
                      <a:pt x="32" y="22"/>
                    </a:lnTo>
                    <a:lnTo>
                      <a:pt x="43" y="34"/>
                    </a:lnTo>
                    <a:lnTo>
                      <a:pt x="54" y="43"/>
                    </a:lnTo>
                    <a:lnTo>
                      <a:pt x="54" y="64"/>
                    </a:lnTo>
                    <a:lnTo>
                      <a:pt x="64" y="75"/>
                    </a:lnTo>
                    <a:lnTo>
                      <a:pt x="75" y="86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95" y="139"/>
                    </a:lnTo>
                    <a:lnTo>
                      <a:pt x="95" y="150"/>
                    </a:lnTo>
                    <a:lnTo>
                      <a:pt x="107" y="171"/>
                    </a:lnTo>
                    <a:lnTo>
                      <a:pt x="117" y="181"/>
                    </a:lnTo>
                    <a:lnTo>
                      <a:pt x="117" y="202"/>
                    </a:lnTo>
                    <a:lnTo>
                      <a:pt x="128" y="214"/>
                    </a:lnTo>
                    <a:lnTo>
                      <a:pt x="138" y="23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207160" y="3267360"/>
                <a:ext cx="13680" cy="69840"/>
              </a:xfrm>
              <a:custGeom>
                <a:avLst/>
                <a:gdLst/>
                <a:ahLst/>
                <a:rect l="l" t="t" r="r" b="b"/>
                <a:pathLst>
                  <a:path w="32" h="179">
                    <a:moveTo>
                      <a:pt x="21" y="0"/>
                    </a:moveTo>
                    <a:lnTo>
                      <a:pt x="21" y="9"/>
                    </a:lnTo>
                    <a:lnTo>
                      <a:pt x="21" y="20"/>
                    </a:lnTo>
                    <a:lnTo>
                      <a:pt x="32" y="30"/>
                    </a:lnTo>
                    <a:lnTo>
                      <a:pt x="32" y="41"/>
                    </a:lnTo>
                    <a:lnTo>
                      <a:pt x="32" y="52"/>
                    </a:lnTo>
                    <a:lnTo>
                      <a:pt x="32" y="72"/>
                    </a:lnTo>
                    <a:lnTo>
                      <a:pt x="32" y="84"/>
                    </a:lnTo>
                    <a:lnTo>
                      <a:pt x="32" y="93"/>
                    </a:lnTo>
                    <a:lnTo>
                      <a:pt x="32" y="105"/>
                    </a:lnTo>
                    <a:lnTo>
                      <a:pt x="32" y="115"/>
                    </a:lnTo>
                    <a:lnTo>
                      <a:pt x="21" y="127"/>
                    </a:lnTo>
                    <a:lnTo>
                      <a:pt x="21" y="136"/>
                    </a:lnTo>
                    <a:lnTo>
                      <a:pt x="21" y="147"/>
                    </a:lnTo>
                    <a:lnTo>
                      <a:pt x="11" y="158"/>
                    </a:lnTo>
                    <a:lnTo>
                      <a:pt x="11" y="168"/>
                    </a:lnTo>
                    <a:lnTo>
                      <a:pt x="0" y="17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001600" y="3337200"/>
                <a:ext cx="205200" cy="156600"/>
              </a:xfrm>
              <a:custGeom>
                <a:avLst/>
                <a:gdLst/>
                <a:ahLst/>
                <a:rect l="l" t="t" r="r" b="b"/>
                <a:pathLst>
                  <a:path w="530" h="403">
                    <a:moveTo>
                      <a:pt x="530" y="0"/>
                    </a:moveTo>
                    <a:lnTo>
                      <a:pt x="499" y="32"/>
                    </a:lnTo>
                    <a:lnTo>
                      <a:pt x="467" y="63"/>
                    </a:lnTo>
                    <a:lnTo>
                      <a:pt x="435" y="84"/>
                    </a:lnTo>
                    <a:lnTo>
                      <a:pt x="402" y="116"/>
                    </a:lnTo>
                    <a:lnTo>
                      <a:pt x="372" y="138"/>
                    </a:lnTo>
                    <a:lnTo>
                      <a:pt x="340" y="159"/>
                    </a:lnTo>
                    <a:lnTo>
                      <a:pt x="307" y="190"/>
                    </a:lnTo>
                    <a:lnTo>
                      <a:pt x="275" y="211"/>
                    </a:lnTo>
                    <a:lnTo>
                      <a:pt x="234" y="233"/>
                    </a:lnTo>
                    <a:lnTo>
                      <a:pt x="201" y="254"/>
                    </a:lnTo>
                    <a:lnTo>
                      <a:pt x="170" y="276"/>
                    </a:lnTo>
                    <a:lnTo>
                      <a:pt x="127" y="308"/>
                    </a:lnTo>
                    <a:lnTo>
                      <a:pt x="95" y="328"/>
                    </a:lnTo>
                    <a:lnTo>
                      <a:pt x="64" y="349"/>
                    </a:lnTo>
                    <a:lnTo>
                      <a:pt x="32" y="382"/>
                    </a:lnTo>
                    <a:lnTo>
                      <a:pt x="0" y="40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1782000" y="3176640"/>
                <a:ext cx="83880" cy="272880"/>
              </a:xfrm>
              <a:custGeom>
                <a:avLst/>
                <a:gdLst/>
                <a:ahLst/>
                <a:rect l="l" t="t" r="r" b="b"/>
                <a:pathLst>
                  <a:path w="213" h="701">
                    <a:moveTo>
                      <a:pt x="0" y="701"/>
                    </a:moveTo>
                    <a:lnTo>
                      <a:pt x="0" y="658"/>
                    </a:lnTo>
                    <a:lnTo>
                      <a:pt x="0" y="605"/>
                    </a:lnTo>
                    <a:lnTo>
                      <a:pt x="11" y="562"/>
                    </a:lnTo>
                    <a:lnTo>
                      <a:pt x="11" y="510"/>
                    </a:lnTo>
                    <a:lnTo>
                      <a:pt x="21" y="468"/>
                    </a:lnTo>
                    <a:lnTo>
                      <a:pt x="32" y="426"/>
                    </a:lnTo>
                    <a:lnTo>
                      <a:pt x="43" y="383"/>
                    </a:lnTo>
                    <a:lnTo>
                      <a:pt x="64" y="329"/>
                    </a:lnTo>
                    <a:lnTo>
                      <a:pt x="74" y="288"/>
                    </a:lnTo>
                    <a:lnTo>
                      <a:pt x="95" y="245"/>
                    </a:lnTo>
                    <a:lnTo>
                      <a:pt x="107" y="202"/>
                    </a:lnTo>
                    <a:lnTo>
                      <a:pt x="127" y="161"/>
                    </a:lnTo>
                    <a:lnTo>
                      <a:pt x="148" y="118"/>
                    </a:lnTo>
                    <a:lnTo>
                      <a:pt x="170" y="86"/>
                    </a:lnTo>
                    <a:lnTo>
                      <a:pt x="191" y="43"/>
                    </a:lnTo>
                    <a:lnTo>
                      <a:pt x="2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1866240" y="3111480"/>
                <a:ext cx="57960" cy="64800"/>
              </a:xfrm>
              <a:custGeom>
                <a:avLst/>
                <a:gdLst/>
                <a:ahLst/>
                <a:rect l="l" t="t" r="r" b="b"/>
                <a:pathLst>
                  <a:path w="148" h="168">
                    <a:moveTo>
                      <a:pt x="0" y="168"/>
                    </a:moveTo>
                    <a:lnTo>
                      <a:pt x="9" y="159"/>
                    </a:lnTo>
                    <a:lnTo>
                      <a:pt x="9" y="148"/>
                    </a:lnTo>
                    <a:lnTo>
                      <a:pt x="21" y="137"/>
                    </a:lnTo>
                    <a:lnTo>
                      <a:pt x="30" y="116"/>
                    </a:lnTo>
                    <a:lnTo>
                      <a:pt x="41" y="105"/>
                    </a:lnTo>
                    <a:lnTo>
                      <a:pt x="41" y="96"/>
                    </a:lnTo>
                    <a:lnTo>
                      <a:pt x="52" y="84"/>
                    </a:lnTo>
                    <a:lnTo>
                      <a:pt x="63" y="74"/>
                    </a:lnTo>
                    <a:lnTo>
                      <a:pt x="73" y="63"/>
                    </a:lnTo>
                    <a:lnTo>
                      <a:pt x="84" y="53"/>
                    </a:lnTo>
                    <a:lnTo>
                      <a:pt x="95" y="41"/>
                    </a:lnTo>
                    <a:lnTo>
                      <a:pt x="105" y="32"/>
                    </a:lnTo>
                    <a:lnTo>
                      <a:pt x="116" y="21"/>
                    </a:lnTo>
                    <a:lnTo>
                      <a:pt x="127" y="21"/>
                    </a:lnTo>
                    <a:lnTo>
                      <a:pt x="136" y="10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1803240" y="3136680"/>
                <a:ext cx="392040" cy="361800"/>
              </a:xfrm>
              <a:custGeom>
                <a:avLst/>
                <a:gdLst/>
                <a:ahLst/>
                <a:rect l="l" t="t" r="r" b="b"/>
                <a:pathLst>
                  <a:path w="1008" h="933">
                    <a:moveTo>
                      <a:pt x="552" y="74"/>
                    </a:moveTo>
                    <a:lnTo>
                      <a:pt x="573" y="85"/>
                    </a:lnTo>
                    <a:lnTo>
                      <a:pt x="594" y="85"/>
                    </a:lnTo>
                    <a:lnTo>
                      <a:pt x="625" y="85"/>
                    </a:lnTo>
                    <a:lnTo>
                      <a:pt x="647" y="96"/>
                    </a:lnTo>
                    <a:lnTo>
                      <a:pt x="668" y="96"/>
                    </a:lnTo>
                    <a:lnTo>
                      <a:pt x="688" y="105"/>
                    </a:lnTo>
                    <a:lnTo>
                      <a:pt x="710" y="105"/>
                    </a:lnTo>
                    <a:lnTo>
                      <a:pt x="731" y="117"/>
                    </a:lnTo>
                    <a:lnTo>
                      <a:pt x="752" y="117"/>
                    </a:lnTo>
                    <a:lnTo>
                      <a:pt x="784" y="127"/>
                    </a:lnTo>
                    <a:lnTo>
                      <a:pt x="806" y="139"/>
                    </a:lnTo>
                    <a:lnTo>
                      <a:pt x="827" y="139"/>
                    </a:lnTo>
                    <a:lnTo>
                      <a:pt x="849" y="148"/>
                    </a:lnTo>
                    <a:lnTo>
                      <a:pt x="870" y="160"/>
                    </a:lnTo>
                    <a:lnTo>
                      <a:pt x="890" y="169"/>
                    </a:lnTo>
                    <a:lnTo>
                      <a:pt x="911" y="180"/>
                    </a:lnTo>
                    <a:lnTo>
                      <a:pt x="922" y="191"/>
                    </a:lnTo>
                    <a:lnTo>
                      <a:pt x="922" y="202"/>
                    </a:lnTo>
                    <a:lnTo>
                      <a:pt x="933" y="212"/>
                    </a:lnTo>
                    <a:lnTo>
                      <a:pt x="944" y="234"/>
                    </a:lnTo>
                    <a:lnTo>
                      <a:pt x="944" y="244"/>
                    </a:lnTo>
                    <a:lnTo>
                      <a:pt x="944" y="255"/>
                    </a:lnTo>
                    <a:lnTo>
                      <a:pt x="954" y="276"/>
                    </a:lnTo>
                    <a:lnTo>
                      <a:pt x="954" y="286"/>
                    </a:lnTo>
                    <a:lnTo>
                      <a:pt x="965" y="298"/>
                    </a:lnTo>
                    <a:lnTo>
                      <a:pt x="965" y="319"/>
                    </a:lnTo>
                    <a:lnTo>
                      <a:pt x="965" y="329"/>
                    </a:lnTo>
                    <a:lnTo>
                      <a:pt x="976" y="341"/>
                    </a:lnTo>
                    <a:lnTo>
                      <a:pt x="986" y="361"/>
                    </a:lnTo>
                    <a:lnTo>
                      <a:pt x="986" y="371"/>
                    </a:lnTo>
                    <a:lnTo>
                      <a:pt x="997" y="382"/>
                    </a:lnTo>
                    <a:lnTo>
                      <a:pt x="1008" y="393"/>
                    </a:lnTo>
                    <a:lnTo>
                      <a:pt x="1008" y="404"/>
                    </a:lnTo>
                    <a:lnTo>
                      <a:pt x="1008" y="425"/>
                    </a:lnTo>
                    <a:lnTo>
                      <a:pt x="1008" y="434"/>
                    </a:lnTo>
                    <a:lnTo>
                      <a:pt x="1008" y="446"/>
                    </a:lnTo>
                    <a:lnTo>
                      <a:pt x="997" y="456"/>
                    </a:lnTo>
                    <a:lnTo>
                      <a:pt x="997" y="468"/>
                    </a:lnTo>
                    <a:lnTo>
                      <a:pt x="986" y="477"/>
                    </a:lnTo>
                    <a:lnTo>
                      <a:pt x="986" y="488"/>
                    </a:lnTo>
                    <a:lnTo>
                      <a:pt x="976" y="499"/>
                    </a:lnTo>
                    <a:lnTo>
                      <a:pt x="965" y="499"/>
                    </a:lnTo>
                    <a:lnTo>
                      <a:pt x="954" y="509"/>
                    </a:lnTo>
                    <a:lnTo>
                      <a:pt x="954" y="520"/>
                    </a:lnTo>
                    <a:lnTo>
                      <a:pt x="944" y="531"/>
                    </a:lnTo>
                    <a:lnTo>
                      <a:pt x="933" y="531"/>
                    </a:lnTo>
                    <a:lnTo>
                      <a:pt x="922" y="540"/>
                    </a:lnTo>
                    <a:lnTo>
                      <a:pt x="902" y="573"/>
                    </a:lnTo>
                    <a:lnTo>
                      <a:pt x="870" y="595"/>
                    </a:lnTo>
                    <a:lnTo>
                      <a:pt x="838" y="615"/>
                    </a:lnTo>
                    <a:lnTo>
                      <a:pt x="816" y="647"/>
                    </a:lnTo>
                    <a:lnTo>
                      <a:pt x="784" y="667"/>
                    </a:lnTo>
                    <a:lnTo>
                      <a:pt x="752" y="689"/>
                    </a:lnTo>
                    <a:lnTo>
                      <a:pt x="721" y="710"/>
                    </a:lnTo>
                    <a:lnTo>
                      <a:pt x="688" y="731"/>
                    </a:lnTo>
                    <a:lnTo>
                      <a:pt x="668" y="753"/>
                    </a:lnTo>
                    <a:lnTo>
                      <a:pt x="636" y="774"/>
                    </a:lnTo>
                    <a:lnTo>
                      <a:pt x="604" y="796"/>
                    </a:lnTo>
                    <a:lnTo>
                      <a:pt x="573" y="817"/>
                    </a:lnTo>
                    <a:lnTo>
                      <a:pt x="541" y="838"/>
                    </a:lnTo>
                    <a:lnTo>
                      <a:pt x="509" y="860"/>
                    </a:lnTo>
                    <a:lnTo>
                      <a:pt x="477" y="881"/>
                    </a:lnTo>
                    <a:lnTo>
                      <a:pt x="455" y="902"/>
                    </a:lnTo>
                    <a:lnTo>
                      <a:pt x="424" y="912"/>
                    </a:lnTo>
                    <a:lnTo>
                      <a:pt x="403" y="923"/>
                    </a:lnTo>
                    <a:lnTo>
                      <a:pt x="382" y="933"/>
                    </a:lnTo>
                    <a:lnTo>
                      <a:pt x="360" y="933"/>
                    </a:lnTo>
                    <a:lnTo>
                      <a:pt x="328" y="933"/>
                    </a:lnTo>
                    <a:lnTo>
                      <a:pt x="308" y="933"/>
                    </a:lnTo>
                    <a:lnTo>
                      <a:pt x="287" y="923"/>
                    </a:lnTo>
                    <a:lnTo>
                      <a:pt x="255" y="923"/>
                    </a:lnTo>
                    <a:lnTo>
                      <a:pt x="233" y="912"/>
                    </a:lnTo>
                    <a:lnTo>
                      <a:pt x="212" y="902"/>
                    </a:lnTo>
                    <a:lnTo>
                      <a:pt x="181" y="902"/>
                    </a:lnTo>
                    <a:lnTo>
                      <a:pt x="160" y="891"/>
                    </a:lnTo>
                    <a:lnTo>
                      <a:pt x="127" y="881"/>
                    </a:lnTo>
                    <a:lnTo>
                      <a:pt x="106" y="881"/>
                    </a:lnTo>
                    <a:lnTo>
                      <a:pt x="85" y="881"/>
                    </a:lnTo>
                    <a:lnTo>
                      <a:pt x="54" y="881"/>
                    </a:lnTo>
                    <a:lnTo>
                      <a:pt x="42" y="869"/>
                    </a:lnTo>
                    <a:lnTo>
                      <a:pt x="32" y="869"/>
                    </a:lnTo>
                    <a:lnTo>
                      <a:pt x="21" y="860"/>
                    </a:lnTo>
                    <a:lnTo>
                      <a:pt x="21" y="848"/>
                    </a:lnTo>
                    <a:lnTo>
                      <a:pt x="11" y="838"/>
                    </a:lnTo>
                    <a:lnTo>
                      <a:pt x="11" y="828"/>
                    </a:lnTo>
                    <a:lnTo>
                      <a:pt x="11" y="817"/>
                    </a:lnTo>
                    <a:lnTo>
                      <a:pt x="11" y="806"/>
                    </a:lnTo>
                    <a:lnTo>
                      <a:pt x="11" y="796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11" y="763"/>
                    </a:lnTo>
                    <a:lnTo>
                      <a:pt x="11" y="753"/>
                    </a:lnTo>
                    <a:lnTo>
                      <a:pt x="11" y="731"/>
                    </a:lnTo>
                    <a:lnTo>
                      <a:pt x="11" y="721"/>
                    </a:lnTo>
                    <a:lnTo>
                      <a:pt x="0" y="710"/>
                    </a:lnTo>
                    <a:lnTo>
                      <a:pt x="11" y="679"/>
                    </a:lnTo>
                    <a:lnTo>
                      <a:pt x="11" y="647"/>
                    </a:lnTo>
                    <a:lnTo>
                      <a:pt x="11" y="615"/>
                    </a:lnTo>
                    <a:lnTo>
                      <a:pt x="21" y="583"/>
                    </a:lnTo>
                    <a:lnTo>
                      <a:pt x="21" y="552"/>
                    </a:lnTo>
                    <a:lnTo>
                      <a:pt x="32" y="520"/>
                    </a:lnTo>
                    <a:lnTo>
                      <a:pt x="42" y="488"/>
                    </a:lnTo>
                    <a:lnTo>
                      <a:pt x="54" y="456"/>
                    </a:lnTo>
                    <a:lnTo>
                      <a:pt x="63" y="434"/>
                    </a:lnTo>
                    <a:lnTo>
                      <a:pt x="74" y="404"/>
                    </a:lnTo>
                    <a:lnTo>
                      <a:pt x="85" y="371"/>
                    </a:lnTo>
                    <a:lnTo>
                      <a:pt x="95" y="341"/>
                    </a:lnTo>
                    <a:lnTo>
                      <a:pt x="117" y="319"/>
                    </a:lnTo>
                    <a:lnTo>
                      <a:pt x="127" y="286"/>
                    </a:lnTo>
                    <a:lnTo>
                      <a:pt x="138" y="255"/>
                    </a:lnTo>
                    <a:lnTo>
                      <a:pt x="160" y="234"/>
                    </a:lnTo>
                    <a:lnTo>
                      <a:pt x="160" y="212"/>
                    </a:lnTo>
                    <a:lnTo>
                      <a:pt x="169" y="202"/>
                    </a:lnTo>
                    <a:lnTo>
                      <a:pt x="169" y="180"/>
                    </a:lnTo>
                    <a:lnTo>
                      <a:pt x="181" y="169"/>
                    </a:lnTo>
                    <a:lnTo>
                      <a:pt x="190" y="148"/>
                    </a:lnTo>
                    <a:lnTo>
                      <a:pt x="201" y="139"/>
                    </a:lnTo>
                    <a:lnTo>
                      <a:pt x="201" y="117"/>
                    </a:lnTo>
                    <a:lnTo>
                      <a:pt x="212" y="105"/>
                    </a:lnTo>
                    <a:lnTo>
                      <a:pt x="223" y="96"/>
                    </a:lnTo>
                    <a:lnTo>
                      <a:pt x="233" y="74"/>
                    </a:lnTo>
                    <a:lnTo>
                      <a:pt x="244" y="64"/>
                    </a:lnTo>
                    <a:lnTo>
                      <a:pt x="255" y="53"/>
                    </a:lnTo>
                    <a:lnTo>
                      <a:pt x="265" y="42"/>
                    </a:lnTo>
                    <a:lnTo>
                      <a:pt x="276" y="21"/>
                    </a:lnTo>
                    <a:lnTo>
                      <a:pt x="287" y="11"/>
                    </a:lnTo>
                    <a:lnTo>
                      <a:pt x="308" y="0"/>
                    </a:lnTo>
                    <a:lnTo>
                      <a:pt x="318" y="11"/>
                    </a:lnTo>
                    <a:lnTo>
                      <a:pt x="339" y="11"/>
                    </a:lnTo>
                    <a:lnTo>
                      <a:pt x="350" y="21"/>
                    </a:lnTo>
                    <a:lnTo>
                      <a:pt x="371" y="21"/>
                    </a:lnTo>
                    <a:lnTo>
                      <a:pt x="382" y="33"/>
                    </a:lnTo>
                    <a:lnTo>
                      <a:pt x="392" y="33"/>
                    </a:lnTo>
                    <a:lnTo>
                      <a:pt x="414" y="42"/>
                    </a:lnTo>
                    <a:lnTo>
                      <a:pt x="424" y="53"/>
                    </a:lnTo>
                    <a:lnTo>
                      <a:pt x="435" y="53"/>
                    </a:lnTo>
                    <a:lnTo>
                      <a:pt x="455" y="64"/>
                    </a:lnTo>
                    <a:lnTo>
                      <a:pt x="467" y="64"/>
                    </a:lnTo>
                    <a:lnTo>
                      <a:pt x="489" y="74"/>
                    </a:lnTo>
                    <a:lnTo>
                      <a:pt x="498" y="74"/>
                    </a:lnTo>
                    <a:lnTo>
                      <a:pt x="519" y="74"/>
                    </a:lnTo>
                    <a:lnTo>
                      <a:pt x="530" y="74"/>
                    </a:lnTo>
                    <a:lnTo>
                      <a:pt x="552" y="74"/>
                    </a:lnTo>
                    <a:close/>
                  </a:path>
                </a:pathLst>
              </a:custGeom>
              <a:solidFill>
                <a:srgbClr val="b48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157840" y="3206520"/>
                <a:ext cx="37440" cy="81720"/>
              </a:xfrm>
              <a:custGeom>
                <a:avLst/>
                <a:gdLst/>
                <a:ahLst/>
                <a:rect l="l" t="t" r="r" b="b"/>
                <a:pathLst>
                  <a:path w="97" h="213">
                    <a:moveTo>
                      <a:pt x="0" y="0"/>
                    </a:moveTo>
                    <a:lnTo>
                      <a:pt x="11" y="11"/>
                    </a:lnTo>
                    <a:lnTo>
                      <a:pt x="11" y="22"/>
                    </a:lnTo>
                    <a:lnTo>
                      <a:pt x="22" y="32"/>
                    </a:lnTo>
                    <a:lnTo>
                      <a:pt x="33" y="54"/>
                    </a:lnTo>
                    <a:lnTo>
                      <a:pt x="33" y="64"/>
                    </a:lnTo>
                    <a:lnTo>
                      <a:pt x="33" y="75"/>
                    </a:lnTo>
                    <a:lnTo>
                      <a:pt x="43" y="96"/>
                    </a:lnTo>
                    <a:lnTo>
                      <a:pt x="43" y="106"/>
                    </a:lnTo>
                    <a:lnTo>
                      <a:pt x="54" y="118"/>
                    </a:lnTo>
                    <a:lnTo>
                      <a:pt x="54" y="139"/>
                    </a:lnTo>
                    <a:lnTo>
                      <a:pt x="54" y="149"/>
                    </a:lnTo>
                    <a:lnTo>
                      <a:pt x="65" y="161"/>
                    </a:lnTo>
                    <a:lnTo>
                      <a:pt x="75" y="181"/>
                    </a:lnTo>
                    <a:lnTo>
                      <a:pt x="75" y="191"/>
                    </a:lnTo>
                    <a:lnTo>
                      <a:pt x="86" y="202"/>
                    </a:lnTo>
                    <a:lnTo>
                      <a:pt x="97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1980720" y="3346920"/>
                <a:ext cx="181800" cy="140040"/>
              </a:xfrm>
              <a:custGeom>
                <a:avLst/>
                <a:gdLst/>
                <a:ahLst/>
                <a:rect l="l" t="t" r="r" b="b"/>
                <a:pathLst>
                  <a:path w="467" h="362">
                    <a:moveTo>
                      <a:pt x="467" y="0"/>
                    </a:moveTo>
                    <a:lnTo>
                      <a:pt x="447" y="33"/>
                    </a:lnTo>
                    <a:lnTo>
                      <a:pt x="415" y="55"/>
                    </a:lnTo>
                    <a:lnTo>
                      <a:pt x="383" y="75"/>
                    </a:lnTo>
                    <a:lnTo>
                      <a:pt x="361" y="107"/>
                    </a:lnTo>
                    <a:lnTo>
                      <a:pt x="329" y="127"/>
                    </a:lnTo>
                    <a:lnTo>
                      <a:pt x="297" y="149"/>
                    </a:lnTo>
                    <a:lnTo>
                      <a:pt x="266" y="170"/>
                    </a:lnTo>
                    <a:lnTo>
                      <a:pt x="233" y="191"/>
                    </a:lnTo>
                    <a:lnTo>
                      <a:pt x="213" y="213"/>
                    </a:lnTo>
                    <a:lnTo>
                      <a:pt x="181" y="234"/>
                    </a:lnTo>
                    <a:lnTo>
                      <a:pt x="149" y="256"/>
                    </a:lnTo>
                    <a:lnTo>
                      <a:pt x="118" y="277"/>
                    </a:lnTo>
                    <a:lnTo>
                      <a:pt x="86" y="298"/>
                    </a:lnTo>
                    <a:lnTo>
                      <a:pt x="54" y="320"/>
                    </a:lnTo>
                    <a:lnTo>
                      <a:pt x="22" y="341"/>
                    </a:lnTo>
                    <a:lnTo>
                      <a:pt x="0" y="3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1803240" y="3412440"/>
                <a:ext cx="20880" cy="6696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171"/>
                    </a:moveTo>
                    <a:lnTo>
                      <a:pt x="42" y="159"/>
                    </a:lnTo>
                    <a:lnTo>
                      <a:pt x="32" y="159"/>
                    </a:lnTo>
                    <a:lnTo>
                      <a:pt x="21" y="150"/>
                    </a:lnTo>
                    <a:lnTo>
                      <a:pt x="21" y="138"/>
                    </a:lnTo>
                    <a:lnTo>
                      <a:pt x="11" y="128"/>
                    </a:lnTo>
                    <a:lnTo>
                      <a:pt x="11" y="118"/>
                    </a:lnTo>
                    <a:lnTo>
                      <a:pt x="11" y="107"/>
                    </a:lnTo>
                    <a:lnTo>
                      <a:pt x="11" y="96"/>
                    </a:lnTo>
                    <a:lnTo>
                      <a:pt x="11" y="86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11" y="53"/>
                    </a:lnTo>
                    <a:lnTo>
                      <a:pt x="11" y="43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803240" y="3227760"/>
                <a:ext cx="63000" cy="1846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0" y="476"/>
                    </a:move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81"/>
                    </a:lnTo>
                    <a:lnTo>
                      <a:pt x="21" y="349"/>
                    </a:lnTo>
                    <a:lnTo>
                      <a:pt x="21" y="318"/>
                    </a:lnTo>
                    <a:lnTo>
                      <a:pt x="32" y="286"/>
                    </a:lnTo>
                    <a:lnTo>
                      <a:pt x="42" y="254"/>
                    </a:lnTo>
                    <a:lnTo>
                      <a:pt x="54" y="222"/>
                    </a:lnTo>
                    <a:lnTo>
                      <a:pt x="63" y="200"/>
                    </a:lnTo>
                    <a:lnTo>
                      <a:pt x="74" y="170"/>
                    </a:lnTo>
                    <a:lnTo>
                      <a:pt x="85" y="137"/>
                    </a:lnTo>
                    <a:lnTo>
                      <a:pt x="95" y="107"/>
                    </a:lnTo>
                    <a:lnTo>
                      <a:pt x="117" y="85"/>
                    </a:lnTo>
                    <a:lnTo>
                      <a:pt x="127" y="52"/>
                    </a:lnTo>
                    <a:lnTo>
                      <a:pt x="138" y="21"/>
                    </a:lnTo>
                    <a:lnTo>
                      <a:pt x="16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866240" y="3136680"/>
                <a:ext cx="57960" cy="907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0" y="234"/>
                    </a:moveTo>
                    <a:lnTo>
                      <a:pt x="0" y="212"/>
                    </a:lnTo>
                    <a:lnTo>
                      <a:pt x="9" y="202"/>
                    </a:lnTo>
                    <a:lnTo>
                      <a:pt x="9" y="180"/>
                    </a:lnTo>
                    <a:lnTo>
                      <a:pt x="21" y="169"/>
                    </a:lnTo>
                    <a:lnTo>
                      <a:pt x="30" y="148"/>
                    </a:lnTo>
                    <a:lnTo>
                      <a:pt x="41" y="139"/>
                    </a:lnTo>
                    <a:lnTo>
                      <a:pt x="41" y="117"/>
                    </a:lnTo>
                    <a:lnTo>
                      <a:pt x="52" y="105"/>
                    </a:lnTo>
                    <a:lnTo>
                      <a:pt x="63" y="96"/>
                    </a:lnTo>
                    <a:lnTo>
                      <a:pt x="73" y="74"/>
                    </a:lnTo>
                    <a:lnTo>
                      <a:pt x="84" y="64"/>
                    </a:lnTo>
                    <a:lnTo>
                      <a:pt x="95" y="53"/>
                    </a:lnTo>
                    <a:lnTo>
                      <a:pt x="105" y="42"/>
                    </a:lnTo>
                    <a:lnTo>
                      <a:pt x="116" y="21"/>
                    </a:lnTo>
                    <a:lnTo>
                      <a:pt x="127" y="11"/>
                    </a:lnTo>
                    <a:lnTo>
                      <a:pt x="14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1205640" y="3487320"/>
                <a:ext cx="1559520" cy="1822680"/>
              </a:xfrm>
              <a:custGeom>
                <a:avLst/>
                <a:gdLst/>
                <a:ahLst/>
                <a:rect l="l" t="t" r="r" b="b"/>
                <a:pathLst>
                  <a:path w="4008" h="4686">
                    <a:moveTo>
                      <a:pt x="1761" y="94"/>
                    </a:moveTo>
                    <a:lnTo>
                      <a:pt x="1771" y="106"/>
                    </a:lnTo>
                    <a:lnTo>
                      <a:pt x="1782" y="116"/>
                    </a:lnTo>
                    <a:lnTo>
                      <a:pt x="1793" y="128"/>
                    </a:lnTo>
                    <a:lnTo>
                      <a:pt x="1793" y="137"/>
                    </a:lnTo>
                    <a:lnTo>
                      <a:pt x="1803" y="148"/>
                    </a:lnTo>
                    <a:lnTo>
                      <a:pt x="1803" y="158"/>
                    </a:lnTo>
                    <a:lnTo>
                      <a:pt x="1803" y="169"/>
                    </a:lnTo>
                    <a:lnTo>
                      <a:pt x="1793" y="180"/>
                    </a:lnTo>
                    <a:lnTo>
                      <a:pt x="1793" y="191"/>
                    </a:lnTo>
                    <a:lnTo>
                      <a:pt x="1782" y="212"/>
                    </a:lnTo>
                    <a:lnTo>
                      <a:pt x="1782" y="255"/>
                    </a:lnTo>
                    <a:lnTo>
                      <a:pt x="1782" y="307"/>
                    </a:lnTo>
                    <a:lnTo>
                      <a:pt x="1771" y="349"/>
                    </a:lnTo>
                    <a:lnTo>
                      <a:pt x="1771" y="391"/>
                    </a:lnTo>
                    <a:lnTo>
                      <a:pt x="1771" y="445"/>
                    </a:lnTo>
                    <a:lnTo>
                      <a:pt x="1761" y="488"/>
                    </a:lnTo>
                    <a:lnTo>
                      <a:pt x="1761" y="529"/>
                    </a:lnTo>
                    <a:lnTo>
                      <a:pt x="1761" y="583"/>
                    </a:lnTo>
                    <a:lnTo>
                      <a:pt x="1750" y="625"/>
                    </a:lnTo>
                    <a:lnTo>
                      <a:pt x="1750" y="678"/>
                    </a:lnTo>
                    <a:lnTo>
                      <a:pt x="1739" y="720"/>
                    </a:lnTo>
                    <a:lnTo>
                      <a:pt x="1728" y="774"/>
                    </a:lnTo>
                    <a:lnTo>
                      <a:pt x="1728" y="815"/>
                    </a:lnTo>
                    <a:lnTo>
                      <a:pt x="1719" y="858"/>
                    </a:lnTo>
                    <a:lnTo>
                      <a:pt x="1719" y="910"/>
                    </a:lnTo>
                    <a:lnTo>
                      <a:pt x="1707" y="953"/>
                    </a:lnTo>
                    <a:lnTo>
                      <a:pt x="1719" y="1039"/>
                    </a:lnTo>
                    <a:lnTo>
                      <a:pt x="1719" y="1124"/>
                    </a:lnTo>
                    <a:lnTo>
                      <a:pt x="1719" y="1209"/>
                    </a:lnTo>
                    <a:lnTo>
                      <a:pt x="1719" y="1293"/>
                    </a:lnTo>
                    <a:lnTo>
                      <a:pt x="1707" y="1377"/>
                    </a:lnTo>
                    <a:lnTo>
                      <a:pt x="1707" y="1463"/>
                    </a:lnTo>
                    <a:lnTo>
                      <a:pt x="1707" y="1547"/>
                    </a:lnTo>
                    <a:lnTo>
                      <a:pt x="1698" y="1643"/>
                    </a:lnTo>
                    <a:lnTo>
                      <a:pt x="1698" y="1728"/>
                    </a:lnTo>
                    <a:lnTo>
                      <a:pt x="1686" y="1812"/>
                    </a:lnTo>
                    <a:lnTo>
                      <a:pt x="1686" y="1898"/>
                    </a:lnTo>
                    <a:lnTo>
                      <a:pt x="1676" y="1982"/>
                    </a:lnTo>
                    <a:lnTo>
                      <a:pt x="1676" y="2066"/>
                    </a:lnTo>
                    <a:lnTo>
                      <a:pt x="1676" y="2152"/>
                    </a:lnTo>
                    <a:lnTo>
                      <a:pt x="1676" y="2236"/>
                    </a:lnTo>
                    <a:lnTo>
                      <a:pt x="1676" y="2321"/>
                    </a:lnTo>
                    <a:lnTo>
                      <a:pt x="1676" y="2333"/>
                    </a:lnTo>
                    <a:lnTo>
                      <a:pt x="1676" y="2342"/>
                    </a:lnTo>
                    <a:lnTo>
                      <a:pt x="1676" y="2354"/>
                    </a:lnTo>
                    <a:lnTo>
                      <a:pt x="1676" y="2363"/>
                    </a:lnTo>
                    <a:lnTo>
                      <a:pt x="1676" y="2374"/>
                    </a:lnTo>
                    <a:lnTo>
                      <a:pt x="1665" y="2385"/>
                    </a:lnTo>
                    <a:lnTo>
                      <a:pt x="1665" y="2395"/>
                    </a:lnTo>
                    <a:lnTo>
                      <a:pt x="1665" y="2406"/>
                    </a:lnTo>
                    <a:lnTo>
                      <a:pt x="1665" y="2417"/>
                    </a:lnTo>
                    <a:lnTo>
                      <a:pt x="1665" y="2428"/>
                    </a:lnTo>
                    <a:lnTo>
                      <a:pt x="1665" y="2438"/>
                    </a:lnTo>
                    <a:lnTo>
                      <a:pt x="1665" y="2448"/>
                    </a:lnTo>
                    <a:lnTo>
                      <a:pt x="1665" y="2460"/>
                    </a:lnTo>
                    <a:lnTo>
                      <a:pt x="1665" y="2469"/>
                    </a:lnTo>
                    <a:lnTo>
                      <a:pt x="1698" y="2533"/>
                    </a:lnTo>
                    <a:lnTo>
                      <a:pt x="1719" y="2597"/>
                    </a:lnTo>
                    <a:lnTo>
                      <a:pt x="1739" y="2662"/>
                    </a:lnTo>
                    <a:lnTo>
                      <a:pt x="1771" y="2725"/>
                    </a:lnTo>
                    <a:lnTo>
                      <a:pt x="1793" y="2798"/>
                    </a:lnTo>
                    <a:lnTo>
                      <a:pt x="1825" y="2862"/>
                    </a:lnTo>
                    <a:lnTo>
                      <a:pt x="1846" y="2925"/>
                    </a:lnTo>
                    <a:lnTo>
                      <a:pt x="1877" y="2989"/>
                    </a:lnTo>
                    <a:lnTo>
                      <a:pt x="1898" y="3052"/>
                    </a:lnTo>
                    <a:lnTo>
                      <a:pt x="1930" y="3117"/>
                    </a:lnTo>
                    <a:lnTo>
                      <a:pt x="1952" y="3181"/>
                    </a:lnTo>
                    <a:lnTo>
                      <a:pt x="1984" y="3244"/>
                    </a:lnTo>
                    <a:lnTo>
                      <a:pt x="2015" y="3308"/>
                    </a:lnTo>
                    <a:lnTo>
                      <a:pt x="2036" y="3371"/>
                    </a:lnTo>
                    <a:lnTo>
                      <a:pt x="2068" y="3435"/>
                    </a:lnTo>
                    <a:lnTo>
                      <a:pt x="2100" y="3498"/>
                    </a:lnTo>
                    <a:lnTo>
                      <a:pt x="2120" y="3550"/>
                    </a:lnTo>
                    <a:lnTo>
                      <a:pt x="2142" y="3605"/>
                    </a:lnTo>
                    <a:lnTo>
                      <a:pt x="2163" y="3657"/>
                    </a:lnTo>
                    <a:lnTo>
                      <a:pt x="2185" y="3711"/>
                    </a:lnTo>
                    <a:lnTo>
                      <a:pt x="2206" y="3752"/>
                    </a:lnTo>
                    <a:lnTo>
                      <a:pt x="2238" y="3806"/>
                    </a:lnTo>
                    <a:lnTo>
                      <a:pt x="2259" y="3859"/>
                    </a:lnTo>
                    <a:lnTo>
                      <a:pt x="2281" y="3913"/>
                    </a:lnTo>
                    <a:lnTo>
                      <a:pt x="2301" y="3954"/>
                    </a:lnTo>
                    <a:lnTo>
                      <a:pt x="2333" y="4006"/>
                    </a:lnTo>
                    <a:lnTo>
                      <a:pt x="2354" y="4060"/>
                    </a:lnTo>
                    <a:lnTo>
                      <a:pt x="2387" y="4103"/>
                    </a:lnTo>
                    <a:lnTo>
                      <a:pt x="2408" y="4155"/>
                    </a:lnTo>
                    <a:lnTo>
                      <a:pt x="2440" y="4208"/>
                    </a:lnTo>
                    <a:lnTo>
                      <a:pt x="2471" y="4251"/>
                    </a:lnTo>
                    <a:lnTo>
                      <a:pt x="2503" y="4294"/>
                    </a:lnTo>
                    <a:lnTo>
                      <a:pt x="2546" y="4283"/>
                    </a:lnTo>
                    <a:lnTo>
                      <a:pt x="2577" y="4273"/>
                    </a:lnTo>
                    <a:lnTo>
                      <a:pt x="2619" y="4262"/>
                    </a:lnTo>
                    <a:lnTo>
                      <a:pt x="2651" y="4251"/>
                    </a:lnTo>
                    <a:lnTo>
                      <a:pt x="2682" y="4240"/>
                    </a:lnTo>
                    <a:lnTo>
                      <a:pt x="2725" y="4219"/>
                    </a:lnTo>
                    <a:lnTo>
                      <a:pt x="2757" y="4208"/>
                    </a:lnTo>
                    <a:lnTo>
                      <a:pt x="2800" y="4198"/>
                    </a:lnTo>
                    <a:lnTo>
                      <a:pt x="2831" y="4187"/>
                    </a:lnTo>
                    <a:lnTo>
                      <a:pt x="2863" y="4167"/>
                    </a:lnTo>
                    <a:lnTo>
                      <a:pt x="2906" y="4155"/>
                    </a:lnTo>
                    <a:lnTo>
                      <a:pt x="2938" y="4145"/>
                    </a:lnTo>
                    <a:lnTo>
                      <a:pt x="2980" y="4134"/>
                    </a:lnTo>
                    <a:lnTo>
                      <a:pt x="3011" y="4112"/>
                    </a:lnTo>
                    <a:lnTo>
                      <a:pt x="3043" y="4103"/>
                    </a:lnTo>
                    <a:lnTo>
                      <a:pt x="3086" y="4092"/>
                    </a:lnTo>
                    <a:lnTo>
                      <a:pt x="3108" y="4092"/>
                    </a:lnTo>
                    <a:lnTo>
                      <a:pt x="3129" y="4092"/>
                    </a:lnTo>
                    <a:lnTo>
                      <a:pt x="3160" y="4103"/>
                    </a:lnTo>
                    <a:lnTo>
                      <a:pt x="3181" y="4112"/>
                    </a:lnTo>
                    <a:lnTo>
                      <a:pt x="3203" y="4124"/>
                    </a:lnTo>
                    <a:lnTo>
                      <a:pt x="3223" y="4134"/>
                    </a:lnTo>
                    <a:lnTo>
                      <a:pt x="3244" y="4145"/>
                    </a:lnTo>
                    <a:lnTo>
                      <a:pt x="3277" y="4155"/>
                    </a:lnTo>
                    <a:lnTo>
                      <a:pt x="3298" y="4167"/>
                    </a:lnTo>
                    <a:lnTo>
                      <a:pt x="3319" y="4176"/>
                    </a:lnTo>
                    <a:lnTo>
                      <a:pt x="3340" y="4198"/>
                    </a:lnTo>
                    <a:lnTo>
                      <a:pt x="3362" y="4208"/>
                    </a:lnTo>
                    <a:lnTo>
                      <a:pt x="3383" y="4219"/>
                    </a:lnTo>
                    <a:lnTo>
                      <a:pt x="3405" y="4230"/>
                    </a:lnTo>
                    <a:lnTo>
                      <a:pt x="3425" y="4251"/>
                    </a:lnTo>
                    <a:lnTo>
                      <a:pt x="3446" y="4262"/>
                    </a:lnTo>
                    <a:lnTo>
                      <a:pt x="3489" y="4273"/>
                    </a:lnTo>
                    <a:lnTo>
                      <a:pt x="3521" y="4294"/>
                    </a:lnTo>
                    <a:lnTo>
                      <a:pt x="3552" y="4314"/>
                    </a:lnTo>
                    <a:lnTo>
                      <a:pt x="3595" y="4335"/>
                    </a:lnTo>
                    <a:lnTo>
                      <a:pt x="3627" y="4357"/>
                    </a:lnTo>
                    <a:lnTo>
                      <a:pt x="3658" y="4368"/>
                    </a:lnTo>
                    <a:lnTo>
                      <a:pt x="3700" y="4389"/>
                    </a:lnTo>
                    <a:lnTo>
                      <a:pt x="3732" y="4410"/>
                    </a:lnTo>
                    <a:lnTo>
                      <a:pt x="3764" y="4432"/>
                    </a:lnTo>
                    <a:lnTo>
                      <a:pt x="3797" y="4453"/>
                    </a:lnTo>
                    <a:lnTo>
                      <a:pt x="3839" y="4474"/>
                    </a:lnTo>
                    <a:lnTo>
                      <a:pt x="3870" y="4495"/>
                    </a:lnTo>
                    <a:lnTo>
                      <a:pt x="3902" y="4505"/>
                    </a:lnTo>
                    <a:lnTo>
                      <a:pt x="3945" y="4527"/>
                    </a:lnTo>
                    <a:lnTo>
                      <a:pt x="3976" y="4547"/>
                    </a:lnTo>
                    <a:lnTo>
                      <a:pt x="4008" y="4568"/>
                    </a:lnTo>
                    <a:lnTo>
                      <a:pt x="4008" y="4580"/>
                    </a:lnTo>
                    <a:lnTo>
                      <a:pt x="4008" y="4590"/>
                    </a:lnTo>
                    <a:lnTo>
                      <a:pt x="4008" y="4602"/>
                    </a:lnTo>
                    <a:lnTo>
                      <a:pt x="3997" y="4602"/>
                    </a:lnTo>
                    <a:lnTo>
                      <a:pt x="3987" y="4602"/>
                    </a:lnTo>
                    <a:lnTo>
                      <a:pt x="3976" y="4602"/>
                    </a:lnTo>
                    <a:lnTo>
                      <a:pt x="3966" y="4611"/>
                    </a:lnTo>
                    <a:lnTo>
                      <a:pt x="3955" y="4611"/>
                    </a:lnTo>
                    <a:lnTo>
                      <a:pt x="3945" y="4611"/>
                    </a:lnTo>
                    <a:lnTo>
                      <a:pt x="3933" y="4611"/>
                    </a:lnTo>
                    <a:lnTo>
                      <a:pt x="3924" y="4622"/>
                    </a:lnTo>
                    <a:lnTo>
                      <a:pt x="3912" y="4622"/>
                    </a:lnTo>
                    <a:lnTo>
                      <a:pt x="3902" y="4622"/>
                    </a:lnTo>
                    <a:lnTo>
                      <a:pt x="3892" y="4622"/>
                    </a:lnTo>
                    <a:lnTo>
                      <a:pt x="3881" y="4622"/>
                    </a:lnTo>
                    <a:lnTo>
                      <a:pt x="3870" y="4622"/>
                    </a:lnTo>
                    <a:lnTo>
                      <a:pt x="3860" y="4622"/>
                    </a:lnTo>
                    <a:lnTo>
                      <a:pt x="3849" y="4622"/>
                    </a:lnTo>
                    <a:lnTo>
                      <a:pt x="3839" y="4622"/>
                    </a:lnTo>
                    <a:lnTo>
                      <a:pt x="3827" y="4622"/>
                    </a:lnTo>
                    <a:lnTo>
                      <a:pt x="3818" y="4622"/>
                    </a:lnTo>
                    <a:lnTo>
                      <a:pt x="3754" y="4611"/>
                    </a:lnTo>
                    <a:lnTo>
                      <a:pt x="3691" y="4611"/>
                    </a:lnTo>
                    <a:lnTo>
                      <a:pt x="3627" y="4611"/>
                    </a:lnTo>
                    <a:lnTo>
                      <a:pt x="3564" y="4611"/>
                    </a:lnTo>
                    <a:lnTo>
                      <a:pt x="3500" y="4602"/>
                    </a:lnTo>
                    <a:lnTo>
                      <a:pt x="3435" y="4602"/>
                    </a:lnTo>
                    <a:lnTo>
                      <a:pt x="3371" y="4602"/>
                    </a:lnTo>
                    <a:lnTo>
                      <a:pt x="3308" y="4602"/>
                    </a:lnTo>
                    <a:lnTo>
                      <a:pt x="3244" y="4602"/>
                    </a:lnTo>
                    <a:lnTo>
                      <a:pt x="3181" y="4602"/>
                    </a:lnTo>
                    <a:lnTo>
                      <a:pt x="3117" y="4602"/>
                    </a:lnTo>
                    <a:lnTo>
                      <a:pt x="3054" y="4590"/>
                    </a:lnTo>
                    <a:lnTo>
                      <a:pt x="2990" y="4590"/>
                    </a:lnTo>
                    <a:lnTo>
                      <a:pt x="2938" y="4590"/>
                    </a:lnTo>
                    <a:lnTo>
                      <a:pt x="2874" y="4580"/>
                    </a:lnTo>
                    <a:lnTo>
                      <a:pt x="2821" y="4580"/>
                    </a:lnTo>
                    <a:lnTo>
                      <a:pt x="2779" y="4580"/>
                    </a:lnTo>
                    <a:lnTo>
                      <a:pt x="2736" y="4580"/>
                    </a:lnTo>
                    <a:lnTo>
                      <a:pt x="2704" y="4590"/>
                    </a:lnTo>
                    <a:lnTo>
                      <a:pt x="2661" y="4590"/>
                    </a:lnTo>
                    <a:lnTo>
                      <a:pt x="2630" y="4590"/>
                    </a:lnTo>
                    <a:lnTo>
                      <a:pt x="2588" y="4590"/>
                    </a:lnTo>
                    <a:lnTo>
                      <a:pt x="2555" y="4590"/>
                    </a:lnTo>
                    <a:lnTo>
                      <a:pt x="2514" y="4590"/>
                    </a:lnTo>
                    <a:lnTo>
                      <a:pt x="2482" y="4590"/>
                    </a:lnTo>
                    <a:lnTo>
                      <a:pt x="2440" y="4580"/>
                    </a:lnTo>
                    <a:lnTo>
                      <a:pt x="2408" y="4580"/>
                    </a:lnTo>
                    <a:lnTo>
                      <a:pt x="2365" y="4580"/>
                    </a:lnTo>
                    <a:lnTo>
                      <a:pt x="2333" y="4580"/>
                    </a:lnTo>
                    <a:lnTo>
                      <a:pt x="2290" y="4590"/>
                    </a:lnTo>
                    <a:lnTo>
                      <a:pt x="2248" y="4590"/>
                    </a:lnTo>
                    <a:lnTo>
                      <a:pt x="2217" y="4590"/>
                    </a:lnTo>
                    <a:lnTo>
                      <a:pt x="2163" y="4547"/>
                    </a:lnTo>
                    <a:lnTo>
                      <a:pt x="2120" y="4505"/>
                    </a:lnTo>
                    <a:lnTo>
                      <a:pt x="2068" y="4474"/>
                    </a:lnTo>
                    <a:lnTo>
                      <a:pt x="2027" y="4432"/>
                    </a:lnTo>
                    <a:lnTo>
                      <a:pt x="1973" y="4389"/>
                    </a:lnTo>
                    <a:lnTo>
                      <a:pt x="1930" y="4357"/>
                    </a:lnTo>
                    <a:lnTo>
                      <a:pt x="1877" y="4314"/>
                    </a:lnTo>
                    <a:lnTo>
                      <a:pt x="1834" y="4273"/>
                    </a:lnTo>
                    <a:lnTo>
                      <a:pt x="1782" y="4230"/>
                    </a:lnTo>
                    <a:lnTo>
                      <a:pt x="1739" y="4187"/>
                    </a:lnTo>
                    <a:lnTo>
                      <a:pt x="1686" y="4145"/>
                    </a:lnTo>
                    <a:lnTo>
                      <a:pt x="1644" y="4103"/>
                    </a:lnTo>
                    <a:lnTo>
                      <a:pt x="1592" y="4060"/>
                    </a:lnTo>
                    <a:lnTo>
                      <a:pt x="1549" y="4018"/>
                    </a:lnTo>
                    <a:lnTo>
                      <a:pt x="1506" y="3976"/>
                    </a:lnTo>
                    <a:lnTo>
                      <a:pt x="1453" y="3933"/>
                    </a:lnTo>
                    <a:lnTo>
                      <a:pt x="1443" y="3933"/>
                    </a:lnTo>
                    <a:lnTo>
                      <a:pt x="1431" y="3933"/>
                    </a:lnTo>
                    <a:lnTo>
                      <a:pt x="1422" y="3933"/>
                    </a:lnTo>
                    <a:lnTo>
                      <a:pt x="1411" y="3943"/>
                    </a:lnTo>
                    <a:lnTo>
                      <a:pt x="1411" y="3954"/>
                    </a:lnTo>
                    <a:lnTo>
                      <a:pt x="1401" y="3965"/>
                    </a:lnTo>
                    <a:lnTo>
                      <a:pt x="1401" y="3976"/>
                    </a:lnTo>
                    <a:lnTo>
                      <a:pt x="1401" y="3985"/>
                    </a:lnTo>
                    <a:lnTo>
                      <a:pt x="1401" y="3997"/>
                    </a:lnTo>
                    <a:lnTo>
                      <a:pt x="1401" y="4018"/>
                    </a:lnTo>
                    <a:lnTo>
                      <a:pt x="1401" y="4028"/>
                    </a:lnTo>
                    <a:lnTo>
                      <a:pt x="1390" y="4049"/>
                    </a:lnTo>
                    <a:lnTo>
                      <a:pt x="1379" y="4060"/>
                    </a:lnTo>
                    <a:lnTo>
                      <a:pt x="1369" y="4060"/>
                    </a:lnTo>
                    <a:lnTo>
                      <a:pt x="1315" y="4060"/>
                    </a:lnTo>
                    <a:lnTo>
                      <a:pt x="1263" y="4071"/>
                    </a:lnTo>
                    <a:lnTo>
                      <a:pt x="1209" y="4071"/>
                    </a:lnTo>
                    <a:lnTo>
                      <a:pt x="1157" y="4081"/>
                    </a:lnTo>
                    <a:lnTo>
                      <a:pt x="1104" y="4103"/>
                    </a:lnTo>
                    <a:lnTo>
                      <a:pt x="1093" y="4103"/>
                    </a:lnTo>
                    <a:lnTo>
                      <a:pt x="1030" y="4112"/>
                    </a:lnTo>
                    <a:lnTo>
                      <a:pt x="966" y="4134"/>
                    </a:lnTo>
                    <a:lnTo>
                      <a:pt x="903" y="4145"/>
                    </a:lnTo>
                    <a:lnTo>
                      <a:pt x="839" y="4155"/>
                    </a:lnTo>
                    <a:lnTo>
                      <a:pt x="785" y="4176"/>
                    </a:lnTo>
                    <a:lnTo>
                      <a:pt x="764" y="4187"/>
                    </a:lnTo>
                    <a:lnTo>
                      <a:pt x="753" y="4187"/>
                    </a:lnTo>
                    <a:lnTo>
                      <a:pt x="742" y="4187"/>
                    </a:lnTo>
                    <a:lnTo>
                      <a:pt x="732" y="4187"/>
                    </a:lnTo>
                    <a:lnTo>
                      <a:pt x="732" y="4198"/>
                    </a:lnTo>
                    <a:lnTo>
                      <a:pt x="722" y="4208"/>
                    </a:lnTo>
                    <a:lnTo>
                      <a:pt x="710" y="4208"/>
                    </a:lnTo>
                    <a:lnTo>
                      <a:pt x="404" y="4305"/>
                    </a:lnTo>
                    <a:lnTo>
                      <a:pt x="393" y="4305"/>
                    </a:lnTo>
                    <a:lnTo>
                      <a:pt x="383" y="4305"/>
                    </a:lnTo>
                    <a:lnTo>
                      <a:pt x="372" y="4305"/>
                    </a:lnTo>
                    <a:lnTo>
                      <a:pt x="361" y="4305"/>
                    </a:lnTo>
                    <a:lnTo>
                      <a:pt x="361" y="4294"/>
                    </a:lnTo>
                    <a:lnTo>
                      <a:pt x="350" y="4294"/>
                    </a:lnTo>
                    <a:lnTo>
                      <a:pt x="341" y="4273"/>
                    </a:lnTo>
                    <a:lnTo>
                      <a:pt x="341" y="4262"/>
                    </a:lnTo>
                    <a:lnTo>
                      <a:pt x="341" y="4240"/>
                    </a:lnTo>
                    <a:lnTo>
                      <a:pt x="341" y="4219"/>
                    </a:lnTo>
                    <a:lnTo>
                      <a:pt x="350" y="4198"/>
                    </a:lnTo>
                    <a:lnTo>
                      <a:pt x="350" y="4187"/>
                    </a:lnTo>
                    <a:lnTo>
                      <a:pt x="425" y="4006"/>
                    </a:lnTo>
                    <a:lnTo>
                      <a:pt x="499" y="3827"/>
                    </a:lnTo>
                    <a:lnTo>
                      <a:pt x="583" y="3636"/>
                    </a:lnTo>
                    <a:lnTo>
                      <a:pt x="658" y="3456"/>
                    </a:lnTo>
                    <a:lnTo>
                      <a:pt x="742" y="3276"/>
                    </a:lnTo>
                    <a:lnTo>
                      <a:pt x="775" y="3224"/>
                    </a:lnTo>
                    <a:lnTo>
                      <a:pt x="764" y="3212"/>
                    </a:lnTo>
                    <a:lnTo>
                      <a:pt x="764" y="3202"/>
                    </a:lnTo>
                    <a:lnTo>
                      <a:pt x="753" y="3202"/>
                    </a:lnTo>
                    <a:lnTo>
                      <a:pt x="753" y="3190"/>
                    </a:lnTo>
                    <a:lnTo>
                      <a:pt x="742" y="3181"/>
                    </a:lnTo>
                    <a:lnTo>
                      <a:pt x="669" y="3276"/>
                    </a:lnTo>
                    <a:lnTo>
                      <a:pt x="595" y="3382"/>
                    </a:lnTo>
                    <a:lnTo>
                      <a:pt x="520" y="3466"/>
                    </a:lnTo>
                    <a:lnTo>
                      <a:pt x="447" y="3562"/>
                    </a:lnTo>
                    <a:lnTo>
                      <a:pt x="361" y="3657"/>
                    </a:lnTo>
                    <a:lnTo>
                      <a:pt x="329" y="3689"/>
                    </a:lnTo>
                    <a:lnTo>
                      <a:pt x="255" y="3785"/>
                    </a:lnTo>
                    <a:lnTo>
                      <a:pt x="223" y="3891"/>
                    </a:lnTo>
                    <a:lnTo>
                      <a:pt x="234" y="4018"/>
                    </a:lnTo>
                    <a:lnTo>
                      <a:pt x="245" y="4145"/>
                    </a:lnTo>
                    <a:lnTo>
                      <a:pt x="255" y="4262"/>
                    </a:lnTo>
                    <a:lnTo>
                      <a:pt x="245" y="4294"/>
                    </a:lnTo>
                    <a:lnTo>
                      <a:pt x="255" y="4314"/>
                    </a:lnTo>
                    <a:lnTo>
                      <a:pt x="255" y="4347"/>
                    </a:lnTo>
                    <a:lnTo>
                      <a:pt x="245" y="4368"/>
                    </a:lnTo>
                    <a:lnTo>
                      <a:pt x="255" y="4389"/>
                    </a:lnTo>
                    <a:lnTo>
                      <a:pt x="277" y="4400"/>
                    </a:lnTo>
                    <a:lnTo>
                      <a:pt x="288" y="4400"/>
                    </a:lnTo>
                    <a:lnTo>
                      <a:pt x="415" y="4441"/>
                    </a:lnTo>
                    <a:lnTo>
                      <a:pt x="542" y="4484"/>
                    </a:lnTo>
                    <a:lnTo>
                      <a:pt x="680" y="4505"/>
                    </a:lnTo>
                    <a:lnTo>
                      <a:pt x="817" y="4537"/>
                    </a:lnTo>
                    <a:lnTo>
                      <a:pt x="944" y="4580"/>
                    </a:lnTo>
                    <a:lnTo>
                      <a:pt x="987" y="4602"/>
                    </a:lnTo>
                    <a:lnTo>
                      <a:pt x="1009" y="4611"/>
                    </a:lnTo>
                    <a:lnTo>
                      <a:pt x="1009" y="4622"/>
                    </a:lnTo>
                    <a:lnTo>
                      <a:pt x="1018" y="4632"/>
                    </a:lnTo>
                    <a:lnTo>
                      <a:pt x="1018" y="4654"/>
                    </a:lnTo>
                    <a:lnTo>
                      <a:pt x="1018" y="4665"/>
                    </a:lnTo>
                    <a:lnTo>
                      <a:pt x="1018" y="4674"/>
                    </a:lnTo>
                    <a:lnTo>
                      <a:pt x="1009" y="4686"/>
                    </a:lnTo>
                    <a:lnTo>
                      <a:pt x="997" y="4686"/>
                    </a:lnTo>
                    <a:lnTo>
                      <a:pt x="977" y="4686"/>
                    </a:lnTo>
                    <a:lnTo>
                      <a:pt x="966" y="4674"/>
                    </a:lnTo>
                    <a:lnTo>
                      <a:pt x="944" y="4674"/>
                    </a:lnTo>
                    <a:lnTo>
                      <a:pt x="860" y="4665"/>
                    </a:lnTo>
                    <a:lnTo>
                      <a:pt x="775" y="4665"/>
                    </a:lnTo>
                    <a:lnTo>
                      <a:pt x="701" y="4665"/>
                    </a:lnTo>
                    <a:lnTo>
                      <a:pt x="615" y="4665"/>
                    </a:lnTo>
                    <a:lnTo>
                      <a:pt x="531" y="4665"/>
                    </a:lnTo>
                    <a:lnTo>
                      <a:pt x="510" y="4665"/>
                    </a:lnTo>
                    <a:lnTo>
                      <a:pt x="425" y="4665"/>
                    </a:lnTo>
                    <a:lnTo>
                      <a:pt x="341" y="4665"/>
                    </a:lnTo>
                    <a:lnTo>
                      <a:pt x="255" y="4674"/>
                    </a:lnTo>
                    <a:lnTo>
                      <a:pt x="170" y="4674"/>
                    </a:lnTo>
                    <a:lnTo>
                      <a:pt x="86" y="4686"/>
                    </a:lnTo>
                    <a:lnTo>
                      <a:pt x="54" y="4686"/>
                    </a:lnTo>
                    <a:lnTo>
                      <a:pt x="43" y="4686"/>
                    </a:lnTo>
                    <a:lnTo>
                      <a:pt x="21" y="4686"/>
                    </a:lnTo>
                    <a:lnTo>
                      <a:pt x="12" y="4674"/>
                    </a:lnTo>
                    <a:lnTo>
                      <a:pt x="0" y="4665"/>
                    </a:lnTo>
                    <a:lnTo>
                      <a:pt x="0" y="4654"/>
                    </a:lnTo>
                    <a:lnTo>
                      <a:pt x="0" y="4643"/>
                    </a:lnTo>
                    <a:lnTo>
                      <a:pt x="0" y="4622"/>
                    </a:lnTo>
                    <a:lnTo>
                      <a:pt x="0" y="4602"/>
                    </a:lnTo>
                    <a:lnTo>
                      <a:pt x="0" y="4568"/>
                    </a:lnTo>
                    <a:lnTo>
                      <a:pt x="0" y="4547"/>
                    </a:lnTo>
                    <a:lnTo>
                      <a:pt x="12" y="4527"/>
                    </a:lnTo>
                    <a:lnTo>
                      <a:pt x="12" y="4389"/>
                    </a:lnTo>
                    <a:lnTo>
                      <a:pt x="21" y="4251"/>
                    </a:lnTo>
                    <a:lnTo>
                      <a:pt x="21" y="4124"/>
                    </a:lnTo>
                    <a:lnTo>
                      <a:pt x="33" y="3985"/>
                    </a:lnTo>
                    <a:lnTo>
                      <a:pt x="33" y="3848"/>
                    </a:lnTo>
                    <a:lnTo>
                      <a:pt x="43" y="3806"/>
                    </a:lnTo>
                    <a:lnTo>
                      <a:pt x="54" y="2809"/>
                    </a:lnTo>
                    <a:lnTo>
                      <a:pt x="54" y="2798"/>
                    </a:lnTo>
                    <a:lnTo>
                      <a:pt x="54" y="2682"/>
                    </a:lnTo>
                    <a:lnTo>
                      <a:pt x="54" y="2565"/>
                    </a:lnTo>
                    <a:lnTo>
                      <a:pt x="54" y="2438"/>
                    </a:lnTo>
                    <a:lnTo>
                      <a:pt x="54" y="2321"/>
                    </a:lnTo>
                    <a:lnTo>
                      <a:pt x="43" y="2194"/>
                    </a:lnTo>
                    <a:lnTo>
                      <a:pt x="43" y="2152"/>
                    </a:lnTo>
                    <a:lnTo>
                      <a:pt x="54" y="2046"/>
                    </a:lnTo>
                    <a:lnTo>
                      <a:pt x="54" y="1929"/>
                    </a:lnTo>
                    <a:lnTo>
                      <a:pt x="64" y="1812"/>
                    </a:lnTo>
                    <a:lnTo>
                      <a:pt x="86" y="1696"/>
                    </a:lnTo>
                    <a:lnTo>
                      <a:pt x="107" y="1590"/>
                    </a:lnTo>
                    <a:lnTo>
                      <a:pt x="118" y="1547"/>
                    </a:lnTo>
                    <a:lnTo>
                      <a:pt x="223" y="1420"/>
                    </a:lnTo>
                    <a:lnTo>
                      <a:pt x="341" y="1282"/>
                    </a:lnTo>
                    <a:lnTo>
                      <a:pt x="456" y="1145"/>
                    </a:lnTo>
                    <a:lnTo>
                      <a:pt x="574" y="1007"/>
                    </a:lnTo>
                    <a:lnTo>
                      <a:pt x="689" y="869"/>
                    </a:lnTo>
                    <a:lnTo>
                      <a:pt x="722" y="826"/>
                    </a:lnTo>
                    <a:lnTo>
                      <a:pt x="1369" y="42"/>
                    </a:lnTo>
                    <a:lnTo>
                      <a:pt x="1411" y="0"/>
                    </a:lnTo>
                    <a:lnTo>
                      <a:pt x="1761" y="9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1868400" y="3568680"/>
                <a:ext cx="30600" cy="289440"/>
              </a:xfrm>
              <a:custGeom>
                <a:avLst/>
                <a:gdLst/>
                <a:ahLst/>
                <a:rect l="l" t="t" r="r" b="b"/>
                <a:pathLst>
                  <a:path w="75" h="741">
                    <a:moveTo>
                      <a:pt x="75" y="0"/>
                    </a:moveTo>
                    <a:lnTo>
                      <a:pt x="75" y="43"/>
                    </a:lnTo>
                    <a:lnTo>
                      <a:pt x="75" y="95"/>
                    </a:lnTo>
                    <a:lnTo>
                      <a:pt x="64" y="137"/>
                    </a:lnTo>
                    <a:lnTo>
                      <a:pt x="64" y="179"/>
                    </a:lnTo>
                    <a:lnTo>
                      <a:pt x="64" y="233"/>
                    </a:lnTo>
                    <a:lnTo>
                      <a:pt x="54" y="276"/>
                    </a:lnTo>
                    <a:lnTo>
                      <a:pt x="54" y="317"/>
                    </a:lnTo>
                    <a:lnTo>
                      <a:pt x="54" y="371"/>
                    </a:lnTo>
                    <a:lnTo>
                      <a:pt x="43" y="413"/>
                    </a:lnTo>
                    <a:lnTo>
                      <a:pt x="43" y="466"/>
                    </a:lnTo>
                    <a:lnTo>
                      <a:pt x="32" y="508"/>
                    </a:lnTo>
                    <a:lnTo>
                      <a:pt x="21" y="562"/>
                    </a:lnTo>
                    <a:lnTo>
                      <a:pt x="21" y="603"/>
                    </a:lnTo>
                    <a:lnTo>
                      <a:pt x="12" y="646"/>
                    </a:lnTo>
                    <a:lnTo>
                      <a:pt x="12" y="698"/>
                    </a:lnTo>
                    <a:lnTo>
                      <a:pt x="0" y="741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1856520" y="3858120"/>
                <a:ext cx="16200" cy="531720"/>
              </a:xfrm>
              <a:custGeom>
                <a:avLst/>
                <a:gdLst/>
                <a:ahLst/>
                <a:rect l="l" t="t" r="r" b="b"/>
                <a:pathLst>
                  <a:path w="43" h="1368">
                    <a:moveTo>
                      <a:pt x="31" y="0"/>
                    </a:moveTo>
                    <a:lnTo>
                      <a:pt x="43" y="86"/>
                    </a:lnTo>
                    <a:lnTo>
                      <a:pt x="43" y="171"/>
                    </a:lnTo>
                    <a:lnTo>
                      <a:pt x="43" y="256"/>
                    </a:lnTo>
                    <a:lnTo>
                      <a:pt x="43" y="340"/>
                    </a:lnTo>
                    <a:lnTo>
                      <a:pt x="31" y="424"/>
                    </a:lnTo>
                    <a:lnTo>
                      <a:pt x="31" y="510"/>
                    </a:lnTo>
                    <a:lnTo>
                      <a:pt x="31" y="594"/>
                    </a:lnTo>
                    <a:lnTo>
                      <a:pt x="22" y="690"/>
                    </a:lnTo>
                    <a:lnTo>
                      <a:pt x="22" y="775"/>
                    </a:lnTo>
                    <a:lnTo>
                      <a:pt x="10" y="859"/>
                    </a:lnTo>
                    <a:lnTo>
                      <a:pt x="10" y="945"/>
                    </a:lnTo>
                    <a:lnTo>
                      <a:pt x="0" y="1029"/>
                    </a:lnTo>
                    <a:lnTo>
                      <a:pt x="0" y="1113"/>
                    </a:lnTo>
                    <a:lnTo>
                      <a:pt x="0" y="1199"/>
                    </a:lnTo>
                    <a:lnTo>
                      <a:pt x="0" y="1283"/>
                    </a:lnTo>
                    <a:lnTo>
                      <a:pt x="0" y="136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1852560" y="4448160"/>
                <a:ext cx="170280" cy="399600"/>
              </a:xfrm>
              <a:custGeom>
                <a:avLst/>
                <a:gdLst/>
                <a:ahLst/>
                <a:rect l="l" t="t" r="r" b="b"/>
                <a:pathLst>
                  <a:path w="435" h="1029">
                    <a:moveTo>
                      <a:pt x="0" y="0"/>
                    </a:moveTo>
                    <a:lnTo>
                      <a:pt x="33" y="64"/>
                    </a:lnTo>
                    <a:lnTo>
                      <a:pt x="54" y="128"/>
                    </a:lnTo>
                    <a:lnTo>
                      <a:pt x="74" y="193"/>
                    </a:lnTo>
                    <a:lnTo>
                      <a:pt x="106" y="256"/>
                    </a:lnTo>
                    <a:lnTo>
                      <a:pt x="128" y="329"/>
                    </a:lnTo>
                    <a:lnTo>
                      <a:pt x="160" y="393"/>
                    </a:lnTo>
                    <a:lnTo>
                      <a:pt x="181" y="456"/>
                    </a:lnTo>
                    <a:lnTo>
                      <a:pt x="212" y="520"/>
                    </a:lnTo>
                    <a:lnTo>
                      <a:pt x="233" y="583"/>
                    </a:lnTo>
                    <a:lnTo>
                      <a:pt x="265" y="648"/>
                    </a:lnTo>
                    <a:lnTo>
                      <a:pt x="287" y="712"/>
                    </a:lnTo>
                    <a:lnTo>
                      <a:pt x="319" y="775"/>
                    </a:lnTo>
                    <a:lnTo>
                      <a:pt x="350" y="839"/>
                    </a:lnTo>
                    <a:lnTo>
                      <a:pt x="371" y="902"/>
                    </a:lnTo>
                    <a:lnTo>
                      <a:pt x="403" y="966"/>
                    </a:lnTo>
                    <a:lnTo>
                      <a:pt x="435" y="102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022840" y="4848120"/>
                <a:ext cx="155880" cy="309960"/>
              </a:xfrm>
              <a:custGeom>
                <a:avLst/>
                <a:gdLst/>
                <a:ahLst/>
                <a:rect l="l" t="t" r="r" b="b"/>
                <a:pathLst>
                  <a:path w="403" h="796">
                    <a:moveTo>
                      <a:pt x="0" y="0"/>
                    </a:moveTo>
                    <a:lnTo>
                      <a:pt x="20" y="52"/>
                    </a:lnTo>
                    <a:lnTo>
                      <a:pt x="42" y="107"/>
                    </a:lnTo>
                    <a:lnTo>
                      <a:pt x="63" y="159"/>
                    </a:lnTo>
                    <a:lnTo>
                      <a:pt x="85" y="213"/>
                    </a:lnTo>
                    <a:lnTo>
                      <a:pt x="106" y="254"/>
                    </a:lnTo>
                    <a:lnTo>
                      <a:pt x="138" y="308"/>
                    </a:lnTo>
                    <a:lnTo>
                      <a:pt x="159" y="361"/>
                    </a:lnTo>
                    <a:lnTo>
                      <a:pt x="181" y="415"/>
                    </a:lnTo>
                    <a:lnTo>
                      <a:pt x="201" y="456"/>
                    </a:lnTo>
                    <a:lnTo>
                      <a:pt x="233" y="508"/>
                    </a:lnTo>
                    <a:lnTo>
                      <a:pt x="254" y="562"/>
                    </a:lnTo>
                    <a:lnTo>
                      <a:pt x="287" y="605"/>
                    </a:lnTo>
                    <a:lnTo>
                      <a:pt x="308" y="657"/>
                    </a:lnTo>
                    <a:lnTo>
                      <a:pt x="340" y="710"/>
                    </a:lnTo>
                    <a:lnTo>
                      <a:pt x="371" y="753"/>
                    </a:lnTo>
                    <a:lnTo>
                      <a:pt x="403" y="79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179080" y="5078880"/>
                <a:ext cx="226440" cy="79200"/>
              </a:xfrm>
              <a:custGeom>
                <a:avLst/>
                <a:gdLst/>
                <a:ahLst/>
                <a:rect l="l" t="t" r="r" b="b"/>
                <a:pathLst>
                  <a:path w="583" h="202">
                    <a:moveTo>
                      <a:pt x="0" y="202"/>
                    </a:moveTo>
                    <a:lnTo>
                      <a:pt x="43" y="191"/>
                    </a:lnTo>
                    <a:lnTo>
                      <a:pt x="74" y="181"/>
                    </a:lnTo>
                    <a:lnTo>
                      <a:pt x="116" y="170"/>
                    </a:lnTo>
                    <a:lnTo>
                      <a:pt x="148" y="159"/>
                    </a:lnTo>
                    <a:lnTo>
                      <a:pt x="179" y="148"/>
                    </a:lnTo>
                    <a:lnTo>
                      <a:pt x="222" y="127"/>
                    </a:lnTo>
                    <a:lnTo>
                      <a:pt x="254" y="116"/>
                    </a:lnTo>
                    <a:lnTo>
                      <a:pt x="297" y="106"/>
                    </a:lnTo>
                    <a:lnTo>
                      <a:pt x="328" y="95"/>
                    </a:lnTo>
                    <a:lnTo>
                      <a:pt x="360" y="75"/>
                    </a:lnTo>
                    <a:lnTo>
                      <a:pt x="403" y="63"/>
                    </a:lnTo>
                    <a:lnTo>
                      <a:pt x="435" y="53"/>
                    </a:lnTo>
                    <a:lnTo>
                      <a:pt x="477" y="42"/>
                    </a:lnTo>
                    <a:lnTo>
                      <a:pt x="508" y="20"/>
                    </a:lnTo>
                    <a:lnTo>
                      <a:pt x="540" y="11"/>
                    </a:lnTo>
                    <a:lnTo>
                      <a:pt x="58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405520" y="5078880"/>
                <a:ext cx="139680" cy="65520"/>
              </a:xfrm>
              <a:custGeom>
                <a:avLst/>
                <a:gdLst/>
                <a:ahLst/>
                <a:rect l="l" t="t" r="r" b="b"/>
                <a:pathLst>
                  <a:path w="360" h="170">
                    <a:moveTo>
                      <a:pt x="0" y="0"/>
                    </a:moveTo>
                    <a:lnTo>
                      <a:pt x="22" y="0"/>
                    </a:lnTo>
                    <a:lnTo>
                      <a:pt x="43" y="0"/>
                    </a:lnTo>
                    <a:lnTo>
                      <a:pt x="74" y="11"/>
                    </a:lnTo>
                    <a:lnTo>
                      <a:pt x="95" y="20"/>
                    </a:lnTo>
                    <a:lnTo>
                      <a:pt x="117" y="32"/>
                    </a:lnTo>
                    <a:lnTo>
                      <a:pt x="137" y="42"/>
                    </a:lnTo>
                    <a:lnTo>
                      <a:pt x="158" y="53"/>
                    </a:lnTo>
                    <a:lnTo>
                      <a:pt x="191" y="63"/>
                    </a:lnTo>
                    <a:lnTo>
                      <a:pt x="212" y="75"/>
                    </a:lnTo>
                    <a:lnTo>
                      <a:pt x="233" y="84"/>
                    </a:lnTo>
                    <a:lnTo>
                      <a:pt x="254" y="106"/>
                    </a:lnTo>
                    <a:lnTo>
                      <a:pt x="276" y="116"/>
                    </a:lnTo>
                    <a:lnTo>
                      <a:pt x="297" y="127"/>
                    </a:lnTo>
                    <a:lnTo>
                      <a:pt x="319" y="138"/>
                    </a:lnTo>
                    <a:lnTo>
                      <a:pt x="339" y="159"/>
                    </a:lnTo>
                    <a:lnTo>
                      <a:pt x="360" y="17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545560" y="5144400"/>
                <a:ext cx="219600" cy="118440"/>
              </a:xfrm>
              <a:custGeom>
                <a:avLst/>
                <a:gdLst/>
                <a:ahLst/>
                <a:rect l="l" t="t" r="r" b="b"/>
                <a:pathLst>
                  <a:path w="562" h="306">
                    <a:moveTo>
                      <a:pt x="0" y="0"/>
                    </a:moveTo>
                    <a:lnTo>
                      <a:pt x="43" y="11"/>
                    </a:lnTo>
                    <a:lnTo>
                      <a:pt x="75" y="32"/>
                    </a:lnTo>
                    <a:lnTo>
                      <a:pt x="106" y="52"/>
                    </a:lnTo>
                    <a:lnTo>
                      <a:pt x="149" y="73"/>
                    </a:lnTo>
                    <a:lnTo>
                      <a:pt x="181" y="95"/>
                    </a:lnTo>
                    <a:lnTo>
                      <a:pt x="212" y="106"/>
                    </a:lnTo>
                    <a:lnTo>
                      <a:pt x="254" y="127"/>
                    </a:lnTo>
                    <a:lnTo>
                      <a:pt x="286" y="148"/>
                    </a:lnTo>
                    <a:lnTo>
                      <a:pt x="318" y="170"/>
                    </a:lnTo>
                    <a:lnTo>
                      <a:pt x="351" y="191"/>
                    </a:lnTo>
                    <a:lnTo>
                      <a:pt x="393" y="212"/>
                    </a:lnTo>
                    <a:lnTo>
                      <a:pt x="424" y="233"/>
                    </a:lnTo>
                    <a:lnTo>
                      <a:pt x="456" y="243"/>
                    </a:lnTo>
                    <a:lnTo>
                      <a:pt x="499" y="265"/>
                    </a:lnTo>
                    <a:lnTo>
                      <a:pt x="530" y="285"/>
                    </a:lnTo>
                    <a:lnTo>
                      <a:pt x="562" y="30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1770480" y="5015880"/>
                <a:ext cx="296280" cy="256680"/>
              </a:xfrm>
              <a:custGeom>
                <a:avLst/>
                <a:gdLst/>
                <a:ahLst/>
                <a:rect l="l" t="t" r="r" b="b"/>
                <a:pathLst>
                  <a:path w="764" h="657">
                    <a:moveTo>
                      <a:pt x="764" y="657"/>
                    </a:moveTo>
                    <a:lnTo>
                      <a:pt x="710" y="614"/>
                    </a:lnTo>
                    <a:lnTo>
                      <a:pt x="667" y="572"/>
                    </a:lnTo>
                    <a:lnTo>
                      <a:pt x="615" y="541"/>
                    </a:lnTo>
                    <a:lnTo>
                      <a:pt x="574" y="499"/>
                    </a:lnTo>
                    <a:lnTo>
                      <a:pt x="520" y="456"/>
                    </a:lnTo>
                    <a:lnTo>
                      <a:pt x="477" y="424"/>
                    </a:lnTo>
                    <a:lnTo>
                      <a:pt x="424" y="381"/>
                    </a:lnTo>
                    <a:lnTo>
                      <a:pt x="381" y="340"/>
                    </a:lnTo>
                    <a:lnTo>
                      <a:pt x="329" y="297"/>
                    </a:lnTo>
                    <a:lnTo>
                      <a:pt x="286" y="254"/>
                    </a:lnTo>
                    <a:lnTo>
                      <a:pt x="233" y="212"/>
                    </a:lnTo>
                    <a:lnTo>
                      <a:pt x="191" y="170"/>
                    </a:lnTo>
                    <a:lnTo>
                      <a:pt x="139" y="127"/>
                    </a:lnTo>
                    <a:lnTo>
                      <a:pt x="96" y="85"/>
                    </a:lnTo>
                    <a:lnTo>
                      <a:pt x="53" y="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1341000" y="4740480"/>
                <a:ext cx="165600" cy="375480"/>
              </a:xfrm>
              <a:custGeom>
                <a:avLst/>
                <a:gdLst/>
                <a:ahLst/>
                <a:rect l="l" t="t" r="r" b="b"/>
                <a:pathLst>
                  <a:path w="425" h="963">
                    <a:moveTo>
                      <a:pt x="0" y="963"/>
                    </a:moveTo>
                    <a:lnTo>
                      <a:pt x="22" y="900"/>
                    </a:lnTo>
                    <a:lnTo>
                      <a:pt x="54" y="847"/>
                    </a:lnTo>
                    <a:lnTo>
                      <a:pt x="75" y="782"/>
                    </a:lnTo>
                    <a:lnTo>
                      <a:pt x="106" y="719"/>
                    </a:lnTo>
                    <a:lnTo>
                      <a:pt x="128" y="655"/>
                    </a:lnTo>
                    <a:lnTo>
                      <a:pt x="149" y="603"/>
                    </a:lnTo>
                    <a:lnTo>
                      <a:pt x="181" y="540"/>
                    </a:lnTo>
                    <a:lnTo>
                      <a:pt x="202" y="476"/>
                    </a:lnTo>
                    <a:lnTo>
                      <a:pt x="233" y="412"/>
                    </a:lnTo>
                    <a:lnTo>
                      <a:pt x="255" y="359"/>
                    </a:lnTo>
                    <a:lnTo>
                      <a:pt x="287" y="295"/>
                    </a:lnTo>
                    <a:lnTo>
                      <a:pt x="308" y="232"/>
                    </a:lnTo>
                    <a:lnTo>
                      <a:pt x="339" y="179"/>
                    </a:lnTo>
                    <a:lnTo>
                      <a:pt x="360" y="115"/>
                    </a:lnTo>
                    <a:lnTo>
                      <a:pt x="392" y="52"/>
                    </a:lnTo>
                    <a:lnTo>
                      <a:pt x="42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1334160" y="4723920"/>
                <a:ext cx="160920" cy="198360"/>
              </a:xfrm>
              <a:custGeom>
                <a:avLst/>
                <a:gdLst/>
                <a:ahLst/>
                <a:rect l="l" t="t" r="r" b="b"/>
                <a:pathLst>
                  <a:path w="413" h="508">
                    <a:moveTo>
                      <a:pt x="413" y="0"/>
                    </a:moveTo>
                    <a:lnTo>
                      <a:pt x="393" y="31"/>
                    </a:lnTo>
                    <a:lnTo>
                      <a:pt x="360" y="63"/>
                    </a:lnTo>
                    <a:lnTo>
                      <a:pt x="340" y="95"/>
                    </a:lnTo>
                    <a:lnTo>
                      <a:pt x="318" y="127"/>
                    </a:lnTo>
                    <a:lnTo>
                      <a:pt x="297" y="170"/>
                    </a:lnTo>
                    <a:lnTo>
                      <a:pt x="266" y="201"/>
                    </a:lnTo>
                    <a:lnTo>
                      <a:pt x="245" y="233"/>
                    </a:lnTo>
                    <a:lnTo>
                      <a:pt x="213" y="254"/>
                    </a:lnTo>
                    <a:lnTo>
                      <a:pt x="191" y="285"/>
                    </a:lnTo>
                    <a:lnTo>
                      <a:pt x="170" y="317"/>
                    </a:lnTo>
                    <a:lnTo>
                      <a:pt x="139" y="349"/>
                    </a:lnTo>
                    <a:lnTo>
                      <a:pt x="118" y="381"/>
                    </a:lnTo>
                    <a:lnTo>
                      <a:pt x="86" y="412"/>
                    </a:lnTo>
                    <a:lnTo>
                      <a:pt x="54" y="444"/>
                    </a:lnTo>
                    <a:lnTo>
                      <a:pt x="32" y="476"/>
                    </a:lnTo>
                    <a:lnTo>
                      <a:pt x="0" y="50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1291680" y="4922640"/>
                <a:ext cx="42120" cy="235440"/>
              </a:xfrm>
              <a:custGeom>
                <a:avLst/>
                <a:gdLst/>
                <a:ahLst/>
                <a:rect l="l" t="t" r="r" b="b"/>
                <a:pathLst>
                  <a:path w="106" h="605">
                    <a:moveTo>
                      <a:pt x="106" y="0"/>
                    </a:moveTo>
                    <a:lnTo>
                      <a:pt x="75" y="32"/>
                    </a:lnTo>
                    <a:lnTo>
                      <a:pt x="43" y="63"/>
                    </a:lnTo>
                    <a:lnTo>
                      <a:pt x="32" y="96"/>
                    </a:lnTo>
                    <a:lnTo>
                      <a:pt x="11" y="127"/>
                    </a:lnTo>
                    <a:lnTo>
                      <a:pt x="11" y="170"/>
                    </a:lnTo>
                    <a:lnTo>
                      <a:pt x="0" y="202"/>
                    </a:lnTo>
                    <a:lnTo>
                      <a:pt x="0" y="244"/>
                    </a:lnTo>
                    <a:lnTo>
                      <a:pt x="0" y="287"/>
                    </a:lnTo>
                    <a:lnTo>
                      <a:pt x="11" y="329"/>
                    </a:lnTo>
                    <a:lnTo>
                      <a:pt x="11" y="371"/>
                    </a:lnTo>
                    <a:lnTo>
                      <a:pt x="22" y="414"/>
                    </a:lnTo>
                    <a:lnTo>
                      <a:pt x="22" y="456"/>
                    </a:lnTo>
                    <a:lnTo>
                      <a:pt x="32" y="487"/>
                    </a:lnTo>
                    <a:lnTo>
                      <a:pt x="32" y="530"/>
                    </a:lnTo>
                    <a:lnTo>
                      <a:pt x="32" y="573"/>
                    </a:lnTo>
                    <a:lnTo>
                      <a:pt x="22" y="60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1317600" y="5197680"/>
                <a:ext cx="270360" cy="79200"/>
              </a:xfrm>
              <a:custGeom>
                <a:avLst/>
                <a:gdLst/>
                <a:ahLst/>
                <a:rect l="l" t="t" r="r" b="b"/>
                <a:pathLst>
                  <a:path w="699" h="202">
                    <a:moveTo>
                      <a:pt x="0" y="0"/>
                    </a:moveTo>
                    <a:lnTo>
                      <a:pt x="41" y="20"/>
                    </a:lnTo>
                    <a:lnTo>
                      <a:pt x="84" y="32"/>
                    </a:lnTo>
                    <a:lnTo>
                      <a:pt x="127" y="41"/>
                    </a:lnTo>
                    <a:lnTo>
                      <a:pt x="168" y="53"/>
                    </a:lnTo>
                    <a:lnTo>
                      <a:pt x="211" y="63"/>
                    </a:lnTo>
                    <a:lnTo>
                      <a:pt x="254" y="84"/>
                    </a:lnTo>
                    <a:lnTo>
                      <a:pt x="307" y="84"/>
                    </a:lnTo>
                    <a:lnTo>
                      <a:pt x="349" y="95"/>
                    </a:lnTo>
                    <a:lnTo>
                      <a:pt x="392" y="105"/>
                    </a:lnTo>
                    <a:lnTo>
                      <a:pt x="444" y="116"/>
                    </a:lnTo>
                    <a:lnTo>
                      <a:pt x="487" y="127"/>
                    </a:lnTo>
                    <a:lnTo>
                      <a:pt x="529" y="137"/>
                    </a:lnTo>
                    <a:lnTo>
                      <a:pt x="572" y="159"/>
                    </a:lnTo>
                    <a:lnTo>
                      <a:pt x="615" y="168"/>
                    </a:lnTo>
                    <a:lnTo>
                      <a:pt x="656" y="180"/>
                    </a:lnTo>
                    <a:lnTo>
                      <a:pt x="699" y="20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1210320" y="4966560"/>
                <a:ext cx="11520" cy="280440"/>
              </a:xfrm>
              <a:custGeom>
                <a:avLst/>
                <a:gdLst/>
                <a:ahLst/>
                <a:rect l="l" t="t" r="r" b="b"/>
                <a:pathLst>
                  <a:path w="31" h="721">
                    <a:moveTo>
                      <a:pt x="0" y="721"/>
                    </a:moveTo>
                    <a:lnTo>
                      <a:pt x="0" y="668"/>
                    </a:lnTo>
                    <a:lnTo>
                      <a:pt x="0" y="626"/>
                    </a:lnTo>
                    <a:lnTo>
                      <a:pt x="0" y="583"/>
                    </a:lnTo>
                    <a:lnTo>
                      <a:pt x="0" y="541"/>
                    </a:lnTo>
                    <a:lnTo>
                      <a:pt x="0" y="499"/>
                    </a:lnTo>
                    <a:lnTo>
                      <a:pt x="9" y="445"/>
                    </a:lnTo>
                    <a:lnTo>
                      <a:pt x="9" y="402"/>
                    </a:lnTo>
                    <a:lnTo>
                      <a:pt x="9" y="361"/>
                    </a:lnTo>
                    <a:lnTo>
                      <a:pt x="9" y="318"/>
                    </a:lnTo>
                    <a:lnTo>
                      <a:pt x="21" y="265"/>
                    </a:lnTo>
                    <a:lnTo>
                      <a:pt x="21" y="222"/>
                    </a:lnTo>
                    <a:lnTo>
                      <a:pt x="21" y="179"/>
                    </a:lnTo>
                    <a:lnTo>
                      <a:pt x="21" y="137"/>
                    </a:lnTo>
                    <a:lnTo>
                      <a:pt x="21" y="85"/>
                    </a:lnTo>
                    <a:lnTo>
                      <a:pt x="21" y="4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V="1">
                <a:off x="1221840" y="4579200"/>
                <a:ext cx="4680" cy="38736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1221840" y="4325040"/>
                <a:ext cx="4680" cy="249480"/>
              </a:xfrm>
              <a:custGeom>
                <a:avLst/>
                <a:gdLst/>
                <a:ahLst/>
                <a:rect l="l" t="t" r="r" b="b"/>
                <a:pathLst>
                  <a:path w="11" h="646">
                    <a:moveTo>
                      <a:pt x="11" y="646"/>
                    </a:moveTo>
                    <a:lnTo>
                      <a:pt x="11" y="615"/>
                    </a:lnTo>
                    <a:lnTo>
                      <a:pt x="11" y="573"/>
                    </a:lnTo>
                    <a:lnTo>
                      <a:pt x="11" y="530"/>
                    </a:lnTo>
                    <a:lnTo>
                      <a:pt x="11" y="488"/>
                    </a:lnTo>
                    <a:lnTo>
                      <a:pt x="11" y="445"/>
                    </a:lnTo>
                    <a:lnTo>
                      <a:pt x="11" y="413"/>
                    </a:lnTo>
                    <a:lnTo>
                      <a:pt x="11" y="371"/>
                    </a:lnTo>
                    <a:lnTo>
                      <a:pt x="11" y="329"/>
                    </a:lnTo>
                    <a:lnTo>
                      <a:pt x="11" y="286"/>
                    </a:lnTo>
                    <a:lnTo>
                      <a:pt x="11" y="243"/>
                    </a:lnTo>
                    <a:lnTo>
                      <a:pt x="11" y="202"/>
                    </a:lnTo>
                    <a:lnTo>
                      <a:pt x="11" y="169"/>
                    </a:lnTo>
                    <a:lnTo>
                      <a:pt x="11" y="127"/>
                    </a:lnTo>
                    <a:lnTo>
                      <a:pt x="11" y="84"/>
                    </a:lnTo>
                    <a:lnTo>
                      <a:pt x="0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1221840" y="4088880"/>
                <a:ext cx="27720" cy="235800"/>
              </a:xfrm>
              <a:custGeom>
                <a:avLst/>
                <a:gdLst/>
                <a:ahLst/>
                <a:rect l="l" t="t" r="r" b="b"/>
                <a:pathLst>
                  <a:path w="75" h="605">
                    <a:moveTo>
                      <a:pt x="0" y="605"/>
                    </a:moveTo>
                    <a:lnTo>
                      <a:pt x="0" y="573"/>
                    </a:lnTo>
                    <a:lnTo>
                      <a:pt x="0" y="531"/>
                    </a:lnTo>
                    <a:lnTo>
                      <a:pt x="11" y="499"/>
                    </a:lnTo>
                    <a:lnTo>
                      <a:pt x="11" y="456"/>
                    </a:lnTo>
                    <a:lnTo>
                      <a:pt x="11" y="414"/>
                    </a:lnTo>
                    <a:lnTo>
                      <a:pt x="11" y="382"/>
                    </a:lnTo>
                    <a:lnTo>
                      <a:pt x="21" y="339"/>
                    </a:lnTo>
                    <a:lnTo>
                      <a:pt x="21" y="308"/>
                    </a:lnTo>
                    <a:lnTo>
                      <a:pt x="21" y="265"/>
                    </a:lnTo>
                    <a:lnTo>
                      <a:pt x="32" y="224"/>
                    </a:lnTo>
                    <a:lnTo>
                      <a:pt x="32" y="192"/>
                    </a:lnTo>
                    <a:lnTo>
                      <a:pt x="43" y="149"/>
                    </a:lnTo>
                    <a:lnTo>
                      <a:pt x="43" y="118"/>
                    </a:lnTo>
                    <a:lnTo>
                      <a:pt x="53" y="75"/>
                    </a:lnTo>
                    <a:lnTo>
                      <a:pt x="64" y="43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1249920" y="3808800"/>
                <a:ext cx="235440" cy="279720"/>
              </a:xfrm>
              <a:custGeom>
                <a:avLst/>
                <a:gdLst/>
                <a:ahLst/>
                <a:rect l="l" t="t" r="r" b="b"/>
                <a:pathLst>
                  <a:path w="604" h="721">
                    <a:moveTo>
                      <a:pt x="0" y="721"/>
                    </a:moveTo>
                    <a:lnTo>
                      <a:pt x="31" y="678"/>
                    </a:lnTo>
                    <a:lnTo>
                      <a:pt x="73" y="637"/>
                    </a:lnTo>
                    <a:lnTo>
                      <a:pt x="105" y="594"/>
                    </a:lnTo>
                    <a:lnTo>
                      <a:pt x="148" y="541"/>
                    </a:lnTo>
                    <a:lnTo>
                      <a:pt x="190" y="498"/>
                    </a:lnTo>
                    <a:lnTo>
                      <a:pt x="223" y="456"/>
                    </a:lnTo>
                    <a:lnTo>
                      <a:pt x="265" y="414"/>
                    </a:lnTo>
                    <a:lnTo>
                      <a:pt x="307" y="361"/>
                    </a:lnTo>
                    <a:lnTo>
                      <a:pt x="338" y="319"/>
                    </a:lnTo>
                    <a:lnTo>
                      <a:pt x="381" y="277"/>
                    </a:lnTo>
                    <a:lnTo>
                      <a:pt x="413" y="223"/>
                    </a:lnTo>
                    <a:lnTo>
                      <a:pt x="456" y="181"/>
                    </a:lnTo>
                    <a:lnTo>
                      <a:pt x="487" y="138"/>
                    </a:lnTo>
                    <a:lnTo>
                      <a:pt x="529" y="84"/>
                    </a:lnTo>
                    <a:lnTo>
                      <a:pt x="571" y="43"/>
                    </a:lnTo>
                    <a:lnTo>
                      <a:pt x="60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1485720" y="3487320"/>
                <a:ext cx="403920" cy="321480"/>
              </a:xfrm>
              <a:custGeom>
                <a:avLst/>
                <a:gdLst/>
                <a:ahLst/>
                <a:rect l="l" t="t" r="r" b="b"/>
                <a:pathLst>
                  <a:path w="1039" h="826">
                    <a:moveTo>
                      <a:pt x="0" y="826"/>
                    </a:moveTo>
                    <a:lnTo>
                      <a:pt x="647" y="42"/>
                    </a:lnTo>
                    <a:lnTo>
                      <a:pt x="689" y="0"/>
                    </a:lnTo>
                    <a:lnTo>
                      <a:pt x="1039" y="94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1217160" y="3531240"/>
                <a:ext cx="1517040" cy="1757520"/>
              </a:xfrm>
              <a:custGeom>
                <a:avLst/>
                <a:gdLst/>
                <a:ahLst/>
                <a:rect l="l" t="t" r="r" b="b"/>
                <a:pathLst>
                  <a:path w="3900" h="4516">
                    <a:moveTo>
                      <a:pt x="1695" y="75"/>
                    </a:moveTo>
                    <a:lnTo>
                      <a:pt x="1695" y="127"/>
                    </a:lnTo>
                    <a:lnTo>
                      <a:pt x="1695" y="170"/>
                    </a:lnTo>
                    <a:lnTo>
                      <a:pt x="1686" y="223"/>
                    </a:lnTo>
                    <a:lnTo>
                      <a:pt x="1686" y="265"/>
                    </a:lnTo>
                    <a:lnTo>
                      <a:pt x="1686" y="318"/>
                    </a:lnTo>
                    <a:lnTo>
                      <a:pt x="1674" y="361"/>
                    </a:lnTo>
                    <a:lnTo>
                      <a:pt x="1674" y="413"/>
                    </a:lnTo>
                    <a:lnTo>
                      <a:pt x="1674" y="456"/>
                    </a:lnTo>
                    <a:lnTo>
                      <a:pt x="1665" y="499"/>
                    </a:lnTo>
                    <a:lnTo>
                      <a:pt x="1665" y="552"/>
                    </a:lnTo>
                    <a:lnTo>
                      <a:pt x="1653" y="594"/>
                    </a:lnTo>
                    <a:lnTo>
                      <a:pt x="1653" y="646"/>
                    </a:lnTo>
                    <a:lnTo>
                      <a:pt x="1643" y="689"/>
                    </a:lnTo>
                    <a:lnTo>
                      <a:pt x="1632" y="732"/>
                    </a:lnTo>
                    <a:lnTo>
                      <a:pt x="1632" y="785"/>
                    </a:lnTo>
                    <a:lnTo>
                      <a:pt x="1622" y="827"/>
                    </a:lnTo>
                    <a:lnTo>
                      <a:pt x="1622" y="923"/>
                    </a:lnTo>
                    <a:lnTo>
                      <a:pt x="1632" y="1008"/>
                    </a:lnTo>
                    <a:lnTo>
                      <a:pt x="1632" y="1102"/>
                    </a:lnTo>
                    <a:lnTo>
                      <a:pt x="1622" y="1198"/>
                    </a:lnTo>
                    <a:lnTo>
                      <a:pt x="1622" y="1283"/>
                    </a:lnTo>
                    <a:lnTo>
                      <a:pt x="1622" y="1379"/>
                    </a:lnTo>
                    <a:lnTo>
                      <a:pt x="1611" y="1463"/>
                    </a:lnTo>
                    <a:lnTo>
                      <a:pt x="1611" y="1558"/>
                    </a:lnTo>
                    <a:lnTo>
                      <a:pt x="1600" y="1655"/>
                    </a:lnTo>
                    <a:lnTo>
                      <a:pt x="1600" y="1750"/>
                    </a:lnTo>
                    <a:lnTo>
                      <a:pt x="1590" y="1834"/>
                    </a:lnTo>
                    <a:lnTo>
                      <a:pt x="1579" y="1930"/>
                    </a:lnTo>
                    <a:lnTo>
                      <a:pt x="1579" y="2025"/>
                    </a:lnTo>
                    <a:lnTo>
                      <a:pt x="1579" y="2120"/>
                    </a:lnTo>
                    <a:lnTo>
                      <a:pt x="1579" y="2217"/>
                    </a:lnTo>
                    <a:lnTo>
                      <a:pt x="1579" y="2312"/>
                    </a:lnTo>
                    <a:lnTo>
                      <a:pt x="1611" y="2428"/>
                    </a:lnTo>
                    <a:lnTo>
                      <a:pt x="1653" y="2546"/>
                    </a:lnTo>
                    <a:lnTo>
                      <a:pt x="1695" y="2661"/>
                    </a:lnTo>
                    <a:lnTo>
                      <a:pt x="1738" y="2778"/>
                    </a:lnTo>
                    <a:lnTo>
                      <a:pt x="1781" y="2894"/>
                    </a:lnTo>
                    <a:lnTo>
                      <a:pt x="1823" y="3011"/>
                    </a:lnTo>
                    <a:lnTo>
                      <a:pt x="1876" y="3117"/>
                    </a:lnTo>
                    <a:lnTo>
                      <a:pt x="1929" y="3235"/>
                    </a:lnTo>
                    <a:lnTo>
                      <a:pt x="1982" y="3350"/>
                    </a:lnTo>
                    <a:lnTo>
                      <a:pt x="2035" y="3456"/>
                    </a:lnTo>
                    <a:lnTo>
                      <a:pt x="2087" y="3573"/>
                    </a:lnTo>
                    <a:lnTo>
                      <a:pt x="2141" y="3679"/>
                    </a:lnTo>
                    <a:lnTo>
                      <a:pt x="2193" y="3797"/>
                    </a:lnTo>
                    <a:lnTo>
                      <a:pt x="2257" y="3902"/>
                    </a:lnTo>
                    <a:lnTo>
                      <a:pt x="2311" y="4018"/>
                    </a:lnTo>
                    <a:lnTo>
                      <a:pt x="2364" y="4124"/>
                    </a:lnTo>
                    <a:lnTo>
                      <a:pt x="2375" y="4135"/>
                    </a:lnTo>
                    <a:lnTo>
                      <a:pt x="2375" y="4146"/>
                    </a:lnTo>
                    <a:lnTo>
                      <a:pt x="2386" y="4146"/>
                    </a:lnTo>
                    <a:lnTo>
                      <a:pt x="2386" y="4157"/>
                    </a:lnTo>
                    <a:lnTo>
                      <a:pt x="2395" y="4167"/>
                    </a:lnTo>
                    <a:lnTo>
                      <a:pt x="2395" y="4178"/>
                    </a:lnTo>
                    <a:lnTo>
                      <a:pt x="2407" y="4178"/>
                    </a:lnTo>
                    <a:lnTo>
                      <a:pt x="2416" y="4189"/>
                    </a:lnTo>
                    <a:lnTo>
                      <a:pt x="2416" y="4198"/>
                    </a:lnTo>
                    <a:lnTo>
                      <a:pt x="2427" y="4198"/>
                    </a:lnTo>
                    <a:lnTo>
                      <a:pt x="2427" y="4210"/>
                    </a:lnTo>
                    <a:lnTo>
                      <a:pt x="2438" y="4219"/>
                    </a:lnTo>
                    <a:lnTo>
                      <a:pt x="2449" y="4219"/>
                    </a:lnTo>
                    <a:lnTo>
                      <a:pt x="2459" y="4219"/>
                    </a:lnTo>
                    <a:lnTo>
                      <a:pt x="2459" y="4231"/>
                    </a:lnTo>
                    <a:lnTo>
                      <a:pt x="2470" y="4231"/>
                    </a:lnTo>
                    <a:lnTo>
                      <a:pt x="2513" y="4219"/>
                    </a:lnTo>
                    <a:lnTo>
                      <a:pt x="2544" y="4210"/>
                    </a:lnTo>
                    <a:lnTo>
                      <a:pt x="2576" y="4189"/>
                    </a:lnTo>
                    <a:lnTo>
                      <a:pt x="2608" y="4178"/>
                    </a:lnTo>
                    <a:lnTo>
                      <a:pt x="2640" y="4167"/>
                    </a:lnTo>
                    <a:lnTo>
                      <a:pt x="2683" y="4157"/>
                    </a:lnTo>
                    <a:lnTo>
                      <a:pt x="2713" y="4146"/>
                    </a:lnTo>
                    <a:lnTo>
                      <a:pt x="2746" y="4124"/>
                    </a:lnTo>
                    <a:lnTo>
                      <a:pt x="2776" y="4114"/>
                    </a:lnTo>
                    <a:lnTo>
                      <a:pt x="2810" y="4103"/>
                    </a:lnTo>
                    <a:lnTo>
                      <a:pt x="2851" y="4092"/>
                    </a:lnTo>
                    <a:lnTo>
                      <a:pt x="2883" y="4071"/>
                    </a:lnTo>
                    <a:lnTo>
                      <a:pt x="2915" y="4060"/>
                    </a:lnTo>
                    <a:lnTo>
                      <a:pt x="2947" y="4051"/>
                    </a:lnTo>
                    <a:lnTo>
                      <a:pt x="2978" y="4039"/>
                    </a:lnTo>
                    <a:lnTo>
                      <a:pt x="3021" y="4029"/>
                    </a:lnTo>
                    <a:lnTo>
                      <a:pt x="3021" y="4018"/>
                    </a:lnTo>
                    <a:lnTo>
                      <a:pt x="3032" y="4018"/>
                    </a:lnTo>
                    <a:lnTo>
                      <a:pt x="3043" y="4018"/>
                    </a:lnTo>
                    <a:lnTo>
                      <a:pt x="3053" y="4018"/>
                    </a:lnTo>
                    <a:lnTo>
                      <a:pt x="3064" y="4018"/>
                    </a:lnTo>
                    <a:lnTo>
                      <a:pt x="3075" y="4029"/>
                    </a:lnTo>
                    <a:lnTo>
                      <a:pt x="3084" y="4029"/>
                    </a:lnTo>
                    <a:lnTo>
                      <a:pt x="3096" y="4029"/>
                    </a:lnTo>
                    <a:lnTo>
                      <a:pt x="3105" y="4029"/>
                    </a:lnTo>
                    <a:lnTo>
                      <a:pt x="3105" y="4039"/>
                    </a:lnTo>
                    <a:lnTo>
                      <a:pt x="3159" y="4060"/>
                    </a:lnTo>
                    <a:lnTo>
                      <a:pt x="3202" y="4082"/>
                    </a:lnTo>
                    <a:lnTo>
                      <a:pt x="3254" y="4114"/>
                    </a:lnTo>
                    <a:lnTo>
                      <a:pt x="3307" y="4135"/>
                    </a:lnTo>
                    <a:lnTo>
                      <a:pt x="3360" y="4167"/>
                    </a:lnTo>
                    <a:lnTo>
                      <a:pt x="3402" y="4189"/>
                    </a:lnTo>
                    <a:lnTo>
                      <a:pt x="3456" y="4219"/>
                    </a:lnTo>
                    <a:lnTo>
                      <a:pt x="3499" y="4252"/>
                    </a:lnTo>
                    <a:lnTo>
                      <a:pt x="3552" y="4273"/>
                    </a:lnTo>
                    <a:lnTo>
                      <a:pt x="3604" y="4304"/>
                    </a:lnTo>
                    <a:lnTo>
                      <a:pt x="3646" y="4325"/>
                    </a:lnTo>
                    <a:lnTo>
                      <a:pt x="3699" y="4358"/>
                    </a:lnTo>
                    <a:lnTo>
                      <a:pt x="3752" y="4379"/>
                    </a:lnTo>
                    <a:lnTo>
                      <a:pt x="3794" y="4411"/>
                    </a:lnTo>
                    <a:lnTo>
                      <a:pt x="3848" y="4431"/>
                    </a:lnTo>
                    <a:lnTo>
                      <a:pt x="3900" y="4464"/>
                    </a:lnTo>
                    <a:lnTo>
                      <a:pt x="3869" y="4464"/>
                    </a:lnTo>
                    <a:lnTo>
                      <a:pt x="3848" y="4474"/>
                    </a:lnTo>
                    <a:lnTo>
                      <a:pt x="3827" y="4474"/>
                    </a:lnTo>
                    <a:lnTo>
                      <a:pt x="3794" y="4474"/>
                    </a:lnTo>
                    <a:lnTo>
                      <a:pt x="3773" y="4474"/>
                    </a:lnTo>
                    <a:lnTo>
                      <a:pt x="3752" y="4474"/>
                    </a:lnTo>
                    <a:lnTo>
                      <a:pt x="3731" y="4474"/>
                    </a:lnTo>
                    <a:lnTo>
                      <a:pt x="3710" y="4474"/>
                    </a:lnTo>
                    <a:lnTo>
                      <a:pt x="3679" y="4464"/>
                    </a:lnTo>
                    <a:lnTo>
                      <a:pt x="3658" y="4464"/>
                    </a:lnTo>
                    <a:lnTo>
                      <a:pt x="3636" y="4464"/>
                    </a:lnTo>
                    <a:lnTo>
                      <a:pt x="3615" y="4464"/>
                    </a:lnTo>
                    <a:lnTo>
                      <a:pt x="3583" y="4464"/>
                    </a:lnTo>
                    <a:lnTo>
                      <a:pt x="3562" y="4464"/>
                    </a:lnTo>
                    <a:lnTo>
                      <a:pt x="3540" y="4464"/>
                    </a:lnTo>
                    <a:lnTo>
                      <a:pt x="3509" y="4464"/>
                    </a:lnTo>
                    <a:lnTo>
                      <a:pt x="3467" y="4464"/>
                    </a:lnTo>
                    <a:lnTo>
                      <a:pt x="3424" y="4464"/>
                    </a:lnTo>
                    <a:lnTo>
                      <a:pt x="3381" y="4464"/>
                    </a:lnTo>
                    <a:lnTo>
                      <a:pt x="3338" y="4464"/>
                    </a:lnTo>
                    <a:lnTo>
                      <a:pt x="3297" y="4464"/>
                    </a:lnTo>
                    <a:lnTo>
                      <a:pt x="3254" y="4464"/>
                    </a:lnTo>
                    <a:lnTo>
                      <a:pt x="3211" y="4464"/>
                    </a:lnTo>
                    <a:lnTo>
                      <a:pt x="3170" y="4464"/>
                    </a:lnTo>
                    <a:lnTo>
                      <a:pt x="3127" y="4464"/>
                    </a:lnTo>
                    <a:lnTo>
                      <a:pt x="3084" y="4452"/>
                    </a:lnTo>
                    <a:lnTo>
                      <a:pt x="3043" y="4452"/>
                    </a:lnTo>
                    <a:lnTo>
                      <a:pt x="3000" y="4452"/>
                    </a:lnTo>
                    <a:lnTo>
                      <a:pt x="2957" y="4452"/>
                    </a:lnTo>
                    <a:lnTo>
                      <a:pt x="2915" y="4452"/>
                    </a:lnTo>
                    <a:lnTo>
                      <a:pt x="2873" y="4452"/>
                    </a:lnTo>
                    <a:lnTo>
                      <a:pt x="2830" y="4452"/>
                    </a:lnTo>
                    <a:lnTo>
                      <a:pt x="2311" y="4443"/>
                    </a:lnTo>
                    <a:lnTo>
                      <a:pt x="2300" y="4443"/>
                    </a:lnTo>
                    <a:lnTo>
                      <a:pt x="2289" y="4443"/>
                    </a:lnTo>
                    <a:lnTo>
                      <a:pt x="2279" y="4443"/>
                    </a:lnTo>
                    <a:lnTo>
                      <a:pt x="2268" y="4443"/>
                    </a:lnTo>
                    <a:lnTo>
                      <a:pt x="2257" y="4443"/>
                    </a:lnTo>
                    <a:lnTo>
                      <a:pt x="2248" y="4443"/>
                    </a:lnTo>
                    <a:lnTo>
                      <a:pt x="2236" y="4443"/>
                    </a:lnTo>
                    <a:lnTo>
                      <a:pt x="2226" y="4431"/>
                    </a:lnTo>
                    <a:lnTo>
                      <a:pt x="2205" y="4411"/>
                    </a:lnTo>
                    <a:lnTo>
                      <a:pt x="2184" y="4400"/>
                    </a:lnTo>
                    <a:lnTo>
                      <a:pt x="2162" y="4389"/>
                    </a:lnTo>
                    <a:lnTo>
                      <a:pt x="2152" y="4368"/>
                    </a:lnTo>
                    <a:lnTo>
                      <a:pt x="2130" y="4358"/>
                    </a:lnTo>
                    <a:lnTo>
                      <a:pt x="2109" y="4337"/>
                    </a:lnTo>
                    <a:lnTo>
                      <a:pt x="2087" y="4325"/>
                    </a:lnTo>
                    <a:lnTo>
                      <a:pt x="2067" y="4316"/>
                    </a:lnTo>
                    <a:lnTo>
                      <a:pt x="2057" y="4294"/>
                    </a:lnTo>
                    <a:lnTo>
                      <a:pt x="2035" y="4284"/>
                    </a:lnTo>
                    <a:lnTo>
                      <a:pt x="2014" y="4262"/>
                    </a:lnTo>
                    <a:lnTo>
                      <a:pt x="1994" y="4252"/>
                    </a:lnTo>
                    <a:lnTo>
                      <a:pt x="1982" y="4231"/>
                    </a:lnTo>
                    <a:lnTo>
                      <a:pt x="1960" y="4219"/>
                    </a:lnTo>
                    <a:lnTo>
                      <a:pt x="1940" y="4198"/>
                    </a:lnTo>
                    <a:lnTo>
                      <a:pt x="1919" y="4178"/>
                    </a:lnTo>
                    <a:lnTo>
                      <a:pt x="1887" y="4157"/>
                    </a:lnTo>
                    <a:lnTo>
                      <a:pt x="1855" y="4135"/>
                    </a:lnTo>
                    <a:lnTo>
                      <a:pt x="1833" y="4114"/>
                    </a:lnTo>
                    <a:lnTo>
                      <a:pt x="1801" y="4082"/>
                    </a:lnTo>
                    <a:lnTo>
                      <a:pt x="1781" y="4060"/>
                    </a:lnTo>
                    <a:lnTo>
                      <a:pt x="1749" y="4039"/>
                    </a:lnTo>
                    <a:lnTo>
                      <a:pt x="1728" y="4018"/>
                    </a:lnTo>
                    <a:lnTo>
                      <a:pt x="1695" y="3987"/>
                    </a:lnTo>
                    <a:lnTo>
                      <a:pt x="1674" y="3965"/>
                    </a:lnTo>
                    <a:lnTo>
                      <a:pt x="1643" y="3944"/>
                    </a:lnTo>
                    <a:lnTo>
                      <a:pt x="1622" y="3912"/>
                    </a:lnTo>
                    <a:lnTo>
                      <a:pt x="1590" y="3890"/>
                    </a:lnTo>
                    <a:lnTo>
                      <a:pt x="1568" y="3860"/>
                    </a:lnTo>
                    <a:lnTo>
                      <a:pt x="1537" y="3838"/>
                    </a:lnTo>
                    <a:lnTo>
                      <a:pt x="1516" y="3817"/>
                    </a:lnTo>
                    <a:lnTo>
                      <a:pt x="1495" y="3785"/>
                    </a:lnTo>
                    <a:lnTo>
                      <a:pt x="1473" y="3763"/>
                    </a:lnTo>
                    <a:lnTo>
                      <a:pt x="1452" y="3743"/>
                    </a:lnTo>
                    <a:lnTo>
                      <a:pt x="1420" y="3711"/>
                    </a:lnTo>
                    <a:lnTo>
                      <a:pt x="1398" y="3690"/>
                    </a:lnTo>
                    <a:lnTo>
                      <a:pt x="1378" y="3669"/>
                    </a:lnTo>
                    <a:lnTo>
                      <a:pt x="1357" y="3636"/>
                    </a:lnTo>
                    <a:lnTo>
                      <a:pt x="1336" y="3616"/>
                    </a:lnTo>
                    <a:lnTo>
                      <a:pt x="1303" y="3595"/>
                    </a:lnTo>
                    <a:lnTo>
                      <a:pt x="1282" y="3563"/>
                    </a:lnTo>
                    <a:lnTo>
                      <a:pt x="1261" y="3541"/>
                    </a:lnTo>
                    <a:lnTo>
                      <a:pt x="1239" y="3520"/>
                    </a:lnTo>
                    <a:lnTo>
                      <a:pt x="1218" y="3489"/>
                    </a:lnTo>
                    <a:lnTo>
                      <a:pt x="1198" y="3467"/>
                    </a:lnTo>
                    <a:lnTo>
                      <a:pt x="1176" y="3434"/>
                    </a:lnTo>
                    <a:lnTo>
                      <a:pt x="1155" y="3414"/>
                    </a:lnTo>
                    <a:lnTo>
                      <a:pt x="997" y="3255"/>
                    </a:lnTo>
                    <a:lnTo>
                      <a:pt x="985" y="3244"/>
                    </a:lnTo>
                    <a:lnTo>
                      <a:pt x="964" y="3223"/>
                    </a:lnTo>
                    <a:lnTo>
                      <a:pt x="954" y="3213"/>
                    </a:lnTo>
                    <a:lnTo>
                      <a:pt x="933" y="3192"/>
                    </a:lnTo>
                    <a:lnTo>
                      <a:pt x="922" y="3181"/>
                    </a:lnTo>
                    <a:lnTo>
                      <a:pt x="901" y="3160"/>
                    </a:lnTo>
                    <a:lnTo>
                      <a:pt x="879" y="3149"/>
                    </a:lnTo>
                    <a:lnTo>
                      <a:pt x="870" y="3138"/>
                    </a:lnTo>
                    <a:lnTo>
                      <a:pt x="848" y="3117"/>
                    </a:lnTo>
                    <a:lnTo>
                      <a:pt x="827" y="3108"/>
                    </a:lnTo>
                    <a:lnTo>
                      <a:pt x="806" y="3096"/>
                    </a:lnTo>
                    <a:lnTo>
                      <a:pt x="795" y="3074"/>
                    </a:lnTo>
                    <a:lnTo>
                      <a:pt x="774" y="3065"/>
                    </a:lnTo>
                    <a:lnTo>
                      <a:pt x="763" y="3043"/>
                    </a:lnTo>
                    <a:lnTo>
                      <a:pt x="742" y="3033"/>
                    </a:lnTo>
                    <a:lnTo>
                      <a:pt x="731" y="3011"/>
                    </a:lnTo>
                    <a:lnTo>
                      <a:pt x="699" y="3011"/>
                    </a:lnTo>
                    <a:lnTo>
                      <a:pt x="699" y="3001"/>
                    </a:lnTo>
                    <a:lnTo>
                      <a:pt x="656" y="3043"/>
                    </a:lnTo>
                    <a:lnTo>
                      <a:pt x="625" y="3086"/>
                    </a:lnTo>
                    <a:lnTo>
                      <a:pt x="593" y="3128"/>
                    </a:lnTo>
                    <a:lnTo>
                      <a:pt x="550" y="3170"/>
                    </a:lnTo>
                    <a:lnTo>
                      <a:pt x="519" y="3213"/>
                    </a:lnTo>
                    <a:lnTo>
                      <a:pt x="477" y="3255"/>
                    </a:lnTo>
                    <a:lnTo>
                      <a:pt x="445" y="3298"/>
                    </a:lnTo>
                    <a:lnTo>
                      <a:pt x="402" y="3340"/>
                    </a:lnTo>
                    <a:lnTo>
                      <a:pt x="371" y="3382"/>
                    </a:lnTo>
                    <a:lnTo>
                      <a:pt x="328" y="3425"/>
                    </a:lnTo>
                    <a:lnTo>
                      <a:pt x="296" y="3467"/>
                    </a:lnTo>
                    <a:lnTo>
                      <a:pt x="255" y="3509"/>
                    </a:lnTo>
                    <a:lnTo>
                      <a:pt x="222" y="3552"/>
                    </a:lnTo>
                    <a:lnTo>
                      <a:pt x="190" y="3595"/>
                    </a:lnTo>
                    <a:lnTo>
                      <a:pt x="158" y="3636"/>
                    </a:lnTo>
                    <a:lnTo>
                      <a:pt x="116" y="3679"/>
                    </a:lnTo>
                    <a:lnTo>
                      <a:pt x="127" y="3797"/>
                    </a:lnTo>
                    <a:lnTo>
                      <a:pt x="137" y="3912"/>
                    </a:lnTo>
                    <a:lnTo>
                      <a:pt x="137" y="4039"/>
                    </a:lnTo>
                    <a:lnTo>
                      <a:pt x="148" y="4146"/>
                    </a:lnTo>
                    <a:lnTo>
                      <a:pt x="148" y="4262"/>
                    </a:lnTo>
                    <a:lnTo>
                      <a:pt x="148" y="4294"/>
                    </a:lnTo>
                    <a:lnTo>
                      <a:pt x="169" y="4316"/>
                    </a:lnTo>
                    <a:lnTo>
                      <a:pt x="190" y="4325"/>
                    </a:lnTo>
                    <a:lnTo>
                      <a:pt x="222" y="4337"/>
                    </a:lnTo>
                    <a:lnTo>
                      <a:pt x="244" y="4337"/>
                    </a:lnTo>
                    <a:lnTo>
                      <a:pt x="265" y="4347"/>
                    </a:lnTo>
                    <a:lnTo>
                      <a:pt x="275" y="4347"/>
                    </a:lnTo>
                    <a:lnTo>
                      <a:pt x="371" y="4379"/>
                    </a:lnTo>
                    <a:lnTo>
                      <a:pt x="477" y="4411"/>
                    </a:lnTo>
                    <a:lnTo>
                      <a:pt x="572" y="4431"/>
                    </a:lnTo>
                    <a:lnTo>
                      <a:pt x="668" y="4452"/>
                    </a:lnTo>
                    <a:lnTo>
                      <a:pt x="763" y="4486"/>
                    </a:lnTo>
                    <a:lnTo>
                      <a:pt x="795" y="4495"/>
                    </a:lnTo>
                    <a:lnTo>
                      <a:pt x="784" y="4506"/>
                    </a:lnTo>
                    <a:lnTo>
                      <a:pt x="647" y="4506"/>
                    </a:lnTo>
                    <a:lnTo>
                      <a:pt x="509" y="4506"/>
                    </a:lnTo>
                    <a:lnTo>
                      <a:pt x="382" y="4506"/>
                    </a:lnTo>
                    <a:lnTo>
                      <a:pt x="233" y="4506"/>
                    </a:lnTo>
                    <a:lnTo>
                      <a:pt x="94" y="4516"/>
                    </a:lnTo>
                    <a:lnTo>
                      <a:pt x="53" y="4516"/>
                    </a:lnTo>
                    <a:lnTo>
                      <a:pt x="31" y="4506"/>
                    </a:lnTo>
                    <a:lnTo>
                      <a:pt x="21" y="4486"/>
                    </a:lnTo>
                    <a:lnTo>
                      <a:pt x="10" y="4464"/>
                    </a:lnTo>
                    <a:lnTo>
                      <a:pt x="10" y="4431"/>
                    </a:lnTo>
                    <a:lnTo>
                      <a:pt x="10" y="4411"/>
                    </a:lnTo>
                    <a:lnTo>
                      <a:pt x="0" y="4411"/>
                    </a:lnTo>
                    <a:lnTo>
                      <a:pt x="0" y="4262"/>
                    </a:lnTo>
                    <a:lnTo>
                      <a:pt x="10" y="4124"/>
                    </a:lnTo>
                    <a:lnTo>
                      <a:pt x="21" y="3976"/>
                    </a:lnTo>
                    <a:lnTo>
                      <a:pt x="31" y="3838"/>
                    </a:lnTo>
                    <a:lnTo>
                      <a:pt x="31" y="3690"/>
                    </a:lnTo>
                    <a:lnTo>
                      <a:pt x="42" y="3648"/>
                    </a:lnTo>
                    <a:lnTo>
                      <a:pt x="42" y="3425"/>
                    </a:lnTo>
                    <a:lnTo>
                      <a:pt x="53" y="3192"/>
                    </a:lnTo>
                    <a:lnTo>
                      <a:pt x="63" y="2969"/>
                    </a:lnTo>
                    <a:lnTo>
                      <a:pt x="63" y="2736"/>
                    </a:lnTo>
                    <a:lnTo>
                      <a:pt x="63" y="2503"/>
                    </a:lnTo>
                    <a:lnTo>
                      <a:pt x="63" y="2428"/>
                    </a:lnTo>
                    <a:lnTo>
                      <a:pt x="74" y="2344"/>
                    </a:lnTo>
                    <a:lnTo>
                      <a:pt x="63" y="2258"/>
                    </a:lnTo>
                    <a:lnTo>
                      <a:pt x="63" y="2184"/>
                    </a:lnTo>
                    <a:lnTo>
                      <a:pt x="53" y="2099"/>
                    </a:lnTo>
                    <a:lnTo>
                      <a:pt x="53" y="2015"/>
                    </a:lnTo>
                    <a:lnTo>
                      <a:pt x="63" y="1993"/>
                    </a:lnTo>
                    <a:lnTo>
                      <a:pt x="63" y="1920"/>
                    </a:lnTo>
                    <a:lnTo>
                      <a:pt x="63" y="1845"/>
                    </a:lnTo>
                    <a:lnTo>
                      <a:pt x="74" y="1760"/>
                    </a:lnTo>
                    <a:lnTo>
                      <a:pt x="74" y="1685"/>
                    </a:lnTo>
                    <a:lnTo>
                      <a:pt x="94" y="1612"/>
                    </a:lnTo>
                    <a:lnTo>
                      <a:pt x="94" y="1590"/>
                    </a:lnTo>
                    <a:lnTo>
                      <a:pt x="106" y="1549"/>
                    </a:lnTo>
                    <a:lnTo>
                      <a:pt x="116" y="1506"/>
                    </a:lnTo>
                    <a:lnTo>
                      <a:pt x="127" y="1463"/>
                    </a:lnTo>
                    <a:lnTo>
                      <a:pt x="148" y="1421"/>
                    </a:lnTo>
                    <a:lnTo>
                      <a:pt x="180" y="1379"/>
                    </a:lnTo>
                    <a:lnTo>
                      <a:pt x="190" y="1368"/>
                    </a:lnTo>
                    <a:lnTo>
                      <a:pt x="382" y="1145"/>
                    </a:lnTo>
                    <a:lnTo>
                      <a:pt x="572" y="923"/>
                    </a:lnTo>
                    <a:lnTo>
                      <a:pt x="763" y="699"/>
                    </a:lnTo>
                    <a:lnTo>
                      <a:pt x="944" y="477"/>
                    </a:lnTo>
                    <a:lnTo>
                      <a:pt x="1134" y="254"/>
                    </a:lnTo>
                    <a:lnTo>
                      <a:pt x="1198" y="180"/>
                    </a:lnTo>
                    <a:lnTo>
                      <a:pt x="1239" y="127"/>
                    </a:lnTo>
                    <a:lnTo>
                      <a:pt x="1282" y="96"/>
                    </a:lnTo>
                    <a:lnTo>
                      <a:pt x="1336" y="53"/>
                    </a:lnTo>
                    <a:lnTo>
                      <a:pt x="1389" y="21"/>
                    </a:lnTo>
                    <a:lnTo>
                      <a:pt x="1441" y="0"/>
                    </a:lnTo>
                    <a:lnTo>
                      <a:pt x="1463" y="0"/>
                    </a:lnTo>
                    <a:lnTo>
                      <a:pt x="1505" y="12"/>
                    </a:lnTo>
                    <a:lnTo>
                      <a:pt x="1559" y="21"/>
                    </a:lnTo>
                    <a:lnTo>
                      <a:pt x="1600" y="32"/>
                    </a:lnTo>
                    <a:lnTo>
                      <a:pt x="1643" y="53"/>
                    </a:lnTo>
                    <a:lnTo>
                      <a:pt x="1686" y="75"/>
                    </a:lnTo>
                    <a:lnTo>
                      <a:pt x="1695" y="75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1849680" y="3561840"/>
                <a:ext cx="27720" cy="291600"/>
              </a:xfrm>
              <a:custGeom>
                <a:avLst/>
                <a:gdLst/>
                <a:ahLst/>
                <a:rect l="l" t="t" r="r" b="b"/>
                <a:pathLst>
                  <a:path w="73" h="752">
                    <a:moveTo>
                      <a:pt x="73" y="0"/>
                    </a:moveTo>
                    <a:lnTo>
                      <a:pt x="73" y="52"/>
                    </a:lnTo>
                    <a:lnTo>
                      <a:pt x="73" y="95"/>
                    </a:lnTo>
                    <a:lnTo>
                      <a:pt x="64" y="148"/>
                    </a:lnTo>
                    <a:lnTo>
                      <a:pt x="64" y="190"/>
                    </a:lnTo>
                    <a:lnTo>
                      <a:pt x="64" y="243"/>
                    </a:lnTo>
                    <a:lnTo>
                      <a:pt x="52" y="286"/>
                    </a:lnTo>
                    <a:lnTo>
                      <a:pt x="52" y="338"/>
                    </a:lnTo>
                    <a:lnTo>
                      <a:pt x="52" y="381"/>
                    </a:lnTo>
                    <a:lnTo>
                      <a:pt x="43" y="424"/>
                    </a:lnTo>
                    <a:lnTo>
                      <a:pt x="43" y="477"/>
                    </a:lnTo>
                    <a:lnTo>
                      <a:pt x="31" y="519"/>
                    </a:lnTo>
                    <a:lnTo>
                      <a:pt x="31" y="571"/>
                    </a:lnTo>
                    <a:lnTo>
                      <a:pt x="21" y="614"/>
                    </a:lnTo>
                    <a:lnTo>
                      <a:pt x="10" y="657"/>
                    </a:lnTo>
                    <a:lnTo>
                      <a:pt x="10" y="710"/>
                    </a:lnTo>
                    <a:lnTo>
                      <a:pt x="0" y="75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1833480" y="3853440"/>
                <a:ext cx="18720" cy="578880"/>
              </a:xfrm>
              <a:custGeom>
                <a:avLst/>
                <a:gdLst/>
                <a:ahLst/>
                <a:rect l="l" t="t" r="r" b="b"/>
                <a:pathLst>
                  <a:path w="53" h="1485">
                    <a:moveTo>
                      <a:pt x="43" y="0"/>
                    </a:moveTo>
                    <a:lnTo>
                      <a:pt x="43" y="96"/>
                    </a:lnTo>
                    <a:lnTo>
                      <a:pt x="53" y="181"/>
                    </a:lnTo>
                    <a:lnTo>
                      <a:pt x="53" y="275"/>
                    </a:lnTo>
                    <a:lnTo>
                      <a:pt x="43" y="371"/>
                    </a:lnTo>
                    <a:lnTo>
                      <a:pt x="43" y="456"/>
                    </a:lnTo>
                    <a:lnTo>
                      <a:pt x="43" y="552"/>
                    </a:lnTo>
                    <a:lnTo>
                      <a:pt x="32" y="636"/>
                    </a:lnTo>
                    <a:lnTo>
                      <a:pt x="32" y="731"/>
                    </a:lnTo>
                    <a:lnTo>
                      <a:pt x="21" y="828"/>
                    </a:lnTo>
                    <a:lnTo>
                      <a:pt x="21" y="923"/>
                    </a:lnTo>
                    <a:lnTo>
                      <a:pt x="11" y="1007"/>
                    </a:lnTo>
                    <a:lnTo>
                      <a:pt x="0" y="1103"/>
                    </a:lnTo>
                    <a:lnTo>
                      <a:pt x="0" y="1198"/>
                    </a:lnTo>
                    <a:lnTo>
                      <a:pt x="0" y="1293"/>
                    </a:lnTo>
                    <a:lnTo>
                      <a:pt x="0" y="1390"/>
                    </a:lnTo>
                    <a:lnTo>
                      <a:pt x="0" y="148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1833480" y="4432320"/>
                <a:ext cx="303840" cy="704160"/>
              </a:xfrm>
              <a:custGeom>
                <a:avLst/>
                <a:gdLst/>
                <a:ahLst/>
                <a:rect l="l" t="t" r="r" b="b"/>
                <a:pathLst>
                  <a:path w="785" h="1812">
                    <a:moveTo>
                      <a:pt x="0" y="0"/>
                    </a:moveTo>
                    <a:lnTo>
                      <a:pt x="32" y="116"/>
                    </a:lnTo>
                    <a:lnTo>
                      <a:pt x="74" y="234"/>
                    </a:lnTo>
                    <a:lnTo>
                      <a:pt x="116" y="349"/>
                    </a:lnTo>
                    <a:lnTo>
                      <a:pt x="159" y="466"/>
                    </a:lnTo>
                    <a:lnTo>
                      <a:pt x="202" y="582"/>
                    </a:lnTo>
                    <a:lnTo>
                      <a:pt x="244" y="699"/>
                    </a:lnTo>
                    <a:lnTo>
                      <a:pt x="297" y="805"/>
                    </a:lnTo>
                    <a:lnTo>
                      <a:pt x="350" y="923"/>
                    </a:lnTo>
                    <a:lnTo>
                      <a:pt x="403" y="1038"/>
                    </a:lnTo>
                    <a:lnTo>
                      <a:pt x="456" y="1144"/>
                    </a:lnTo>
                    <a:lnTo>
                      <a:pt x="508" y="1261"/>
                    </a:lnTo>
                    <a:lnTo>
                      <a:pt x="562" y="1367"/>
                    </a:lnTo>
                    <a:lnTo>
                      <a:pt x="614" y="1485"/>
                    </a:lnTo>
                    <a:lnTo>
                      <a:pt x="678" y="1590"/>
                    </a:lnTo>
                    <a:lnTo>
                      <a:pt x="732" y="1706"/>
                    </a:lnTo>
                    <a:lnTo>
                      <a:pt x="785" y="181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179080" y="5099760"/>
                <a:ext cx="214920" cy="79200"/>
              </a:xfrm>
              <a:custGeom>
                <a:avLst/>
                <a:gdLst/>
                <a:ahLst/>
                <a:rect l="l" t="t" r="r" b="b"/>
                <a:pathLst>
                  <a:path w="551" h="202">
                    <a:moveTo>
                      <a:pt x="0" y="202"/>
                    </a:moveTo>
                    <a:lnTo>
                      <a:pt x="43" y="190"/>
                    </a:lnTo>
                    <a:lnTo>
                      <a:pt x="74" y="181"/>
                    </a:lnTo>
                    <a:lnTo>
                      <a:pt x="106" y="160"/>
                    </a:lnTo>
                    <a:lnTo>
                      <a:pt x="138" y="149"/>
                    </a:lnTo>
                    <a:lnTo>
                      <a:pt x="170" y="138"/>
                    </a:lnTo>
                    <a:lnTo>
                      <a:pt x="213" y="128"/>
                    </a:lnTo>
                    <a:lnTo>
                      <a:pt x="243" y="117"/>
                    </a:lnTo>
                    <a:lnTo>
                      <a:pt x="276" y="95"/>
                    </a:lnTo>
                    <a:lnTo>
                      <a:pt x="306" y="85"/>
                    </a:lnTo>
                    <a:lnTo>
                      <a:pt x="340" y="74"/>
                    </a:lnTo>
                    <a:lnTo>
                      <a:pt x="381" y="63"/>
                    </a:lnTo>
                    <a:lnTo>
                      <a:pt x="413" y="42"/>
                    </a:lnTo>
                    <a:lnTo>
                      <a:pt x="445" y="31"/>
                    </a:lnTo>
                    <a:lnTo>
                      <a:pt x="477" y="22"/>
                    </a:lnTo>
                    <a:lnTo>
                      <a:pt x="508" y="10"/>
                    </a:lnTo>
                    <a:lnTo>
                      <a:pt x="55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426400" y="5101920"/>
                <a:ext cx="307800" cy="165600"/>
              </a:xfrm>
              <a:custGeom>
                <a:avLst/>
                <a:gdLst/>
                <a:ahLst/>
                <a:rect l="l" t="t" r="r" b="b"/>
                <a:pathLst>
                  <a:path w="795" h="425">
                    <a:moveTo>
                      <a:pt x="0" y="0"/>
                    </a:moveTo>
                    <a:lnTo>
                      <a:pt x="54" y="21"/>
                    </a:lnTo>
                    <a:lnTo>
                      <a:pt x="97" y="43"/>
                    </a:lnTo>
                    <a:lnTo>
                      <a:pt x="149" y="75"/>
                    </a:lnTo>
                    <a:lnTo>
                      <a:pt x="202" y="96"/>
                    </a:lnTo>
                    <a:lnTo>
                      <a:pt x="255" y="128"/>
                    </a:lnTo>
                    <a:lnTo>
                      <a:pt x="297" y="150"/>
                    </a:lnTo>
                    <a:lnTo>
                      <a:pt x="351" y="180"/>
                    </a:lnTo>
                    <a:lnTo>
                      <a:pt x="394" y="213"/>
                    </a:lnTo>
                    <a:lnTo>
                      <a:pt x="447" y="234"/>
                    </a:lnTo>
                    <a:lnTo>
                      <a:pt x="499" y="265"/>
                    </a:lnTo>
                    <a:lnTo>
                      <a:pt x="541" y="286"/>
                    </a:lnTo>
                    <a:lnTo>
                      <a:pt x="594" y="319"/>
                    </a:lnTo>
                    <a:lnTo>
                      <a:pt x="647" y="340"/>
                    </a:lnTo>
                    <a:lnTo>
                      <a:pt x="689" y="372"/>
                    </a:lnTo>
                    <a:lnTo>
                      <a:pt x="743" y="392"/>
                    </a:lnTo>
                    <a:lnTo>
                      <a:pt x="795" y="42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1973520" y="5164920"/>
                <a:ext cx="114120" cy="95760"/>
              </a:xfrm>
              <a:custGeom>
                <a:avLst/>
                <a:gdLst/>
                <a:ahLst/>
                <a:rect l="l" t="t" r="r" b="b"/>
                <a:pathLst>
                  <a:path w="296" h="245">
                    <a:moveTo>
                      <a:pt x="296" y="245"/>
                    </a:moveTo>
                    <a:lnTo>
                      <a:pt x="286" y="233"/>
                    </a:lnTo>
                    <a:lnTo>
                      <a:pt x="265" y="213"/>
                    </a:lnTo>
                    <a:lnTo>
                      <a:pt x="244" y="202"/>
                    </a:lnTo>
                    <a:lnTo>
                      <a:pt x="222" y="191"/>
                    </a:lnTo>
                    <a:lnTo>
                      <a:pt x="212" y="170"/>
                    </a:lnTo>
                    <a:lnTo>
                      <a:pt x="190" y="160"/>
                    </a:lnTo>
                    <a:lnTo>
                      <a:pt x="169" y="139"/>
                    </a:lnTo>
                    <a:lnTo>
                      <a:pt x="147" y="127"/>
                    </a:lnTo>
                    <a:lnTo>
                      <a:pt x="127" y="118"/>
                    </a:lnTo>
                    <a:lnTo>
                      <a:pt x="117" y="96"/>
                    </a:lnTo>
                    <a:lnTo>
                      <a:pt x="95" y="86"/>
                    </a:lnTo>
                    <a:lnTo>
                      <a:pt x="74" y="64"/>
                    </a:lnTo>
                    <a:lnTo>
                      <a:pt x="54" y="54"/>
                    </a:lnTo>
                    <a:lnTo>
                      <a:pt x="42" y="33"/>
                    </a:lnTo>
                    <a:lnTo>
                      <a:pt x="20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1807920" y="5015880"/>
                <a:ext cx="165600" cy="149040"/>
              </a:xfrm>
              <a:custGeom>
                <a:avLst/>
                <a:gdLst/>
                <a:ahLst/>
                <a:rect l="l" t="t" r="r" b="b"/>
                <a:pathLst>
                  <a:path w="424" h="381">
                    <a:moveTo>
                      <a:pt x="424" y="381"/>
                    </a:moveTo>
                    <a:lnTo>
                      <a:pt x="403" y="361"/>
                    </a:lnTo>
                    <a:lnTo>
                      <a:pt x="371" y="340"/>
                    </a:lnTo>
                    <a:lnTo>
                      <a:pt x="339" y="318"/>
                    </a:lnTo>
                    <a:lnTo>
                      <a:pt x="317" y="297"/>
                    </a:lnTo>
                    <a:lnTo>
                      <a:pt x="285" y="265"/>
                    </a:lnTo>
                    <a:lnTo>
                      <a:pt x="265" y="243"/>
                    </a:lnTo>
                    <a:lnTo>
                      <a:pt x="233" y="222"/>
                    </a:lnTo>
                    <a:lnTo>
                      <a:pt x="212" y="201"/>
                    </a:lnTo>
                    <a:lnTo>
                      <a:pt x="179" y="170"/>
                    </a:lnTo>
                    <a:lnTo>
                      <a:pt x="158" y="148"/>
                    </a:lnTo>
                    <a:lnTo>
                      <a:pt x="127" y="127"/>
                    </a:lnTo>
                    <a:lnTo>
                      <a:pt x="106" y="95"/>
                    </a:lnTo>
                    <a:lnTo>
                      <a:pt x="74" y="73"/>
                    </a:lnTo>
                    <a:lnTo>
                      <a:pt x="52" y="43"/>
                    </a:lnTo>
                    <a:lnTo>
                      <a:pt x="21" y="2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667520" y="4859640"/>
                <a:ext cx="140040" cy="155880"/>
              </a:xfrm>
              <a:custGeom>
                <a:avLst/>
                <a:gdLst/>
                <a:ahLst/>
                <a:rect l="l" t="t" r="r" b="b"/>
                <a:pathLst>
                  <a:path w="361" h="403">
                    <a:moveTo>
                      <a:pt x="361" y="403"/>
                    </a:moveTo>
                    <a:lnTo>
                      <a:pt x="340" y="371"/>
                    </a:lnTo>
                    <a:lnTo>
                      <a:pt x="318" y="349"/>
                    </a:lnTo>
                    <a:lnTo>
                      <a:pt x="297" y="329"/>
                    </a:lnTo>
                    <a:lnTo>
                      <a:pt x="265" y="297"/>
                    </a:lnTo>
                    <a:lnTo>
                      <a:pt x="243" y="276"/>
                    </a:lnTo>
                    <a:lnTo>
                      <a:pt x="223" y="255"/>
                    </a:lnTo>
                    <a:lnTo>
                      <a:pt x="202" y="222"/>
                    </a:lnTo>
                    <a:lnTo>
                      <a:pt x="181" y="202"/>
                    </a:lnTo>
                    <a:lnTo>
                      <a:pt x="148" y="181"/>
                    </a:lnTo>
                    <a:lnTo>
                      <a:pt x="127" y="149"/>
                    </a:lnTo>
                    <a:lnTo>
                      <a:pt x="106" y="127"/>
                    </a:lnTo>
                    <a:lnTo>
                      <a:pt x="84" y="106"/>
                    </a:lnTo>
                    <a:lnTo>
                      <a:pt x="63" y="75"/>
                    </a:lnTo>
                    <a:lnTo>
                      <a:pt x="43" y="53"/>
                    </a:lnTo>
                    <a:lnTo>
                      <a:pt x="21" y="2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 flipV="1">
                <a:off x="1604160" y="4798440"/>
                <a:ext cx="63000" cy="6084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1501920" y="4703040"/>
                <a:ext cx="102600" cy="95760"/>
              </a:xfrm>
              <a:custGeom>
                <a:avLst/>
                <a:gdLst/>
                <a:ahLst/>
                <a:rect l="l" t="t" r="r" b="b"/>
                <a:pathLst>
                  <a:path w="266" h="244">
                    <a:moveTo>
                      <a:pt x="266" y="244"/>
                    </a:moveTo>
                    <a:lnTo>
                      <a:pt x="254" y="233"/>
                    </a:lnTo>
                    <a:lnTo>
                      <a:pt x="233" y="212"/>
                    </a:lnTo>
                    <a:lnTo>
                      <a:pt x="223" y="202"/>
                    </a:lnTo>
                    <a:lnTo>
                      <a:pt x="202" y="181"/>
                    </a:lnTo>
                    <a:lnTo>
                      <a:pt x="191" y="170"/>
                    </a:lnTo>
                    <a:lnTo>
                      <a:pt x="170" y="149"/>
                    </a:lnTo>
                    <a:lnTo>
                      <a:pt x="148" y="138"/>
                    </a:lnTo>
                    <a:lnTo>
                      <a:pt x="139" y="127"/>
                    </a:lnTo>
                    <a:lnTo>
                      <a:pt x="117" y="106"/>
                    </a:lnTo>
                    <a:lnTo>
                      <a:pt x="96" y="97"/>
                    </a:lnTo>
                    <a:lnTo>
                      <a:pt x="75" y="85"/>
                    </a:lnTo>
                    <a:lnTo>
                      <a:pt x="64" y="63"/>
                    </a:lnTo>
                    <a:lnTo>
                      <a:pt x="43" y="54"/>
                    </a:lnTo>
                    <a:lnTo>
                      <a:pt x="32" y="32"/>
                    </a:lnTo>
                    <a:lnTo>
                      <a:pt x="11" y="2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1263600" y="4698000"/>
                <a:ext cx="226440" cy="263880"/>
              </a:xfrm>
              <a:custGeom>
                <a:avLst/>
                <a:gdLst/>
                <a:ahLst/>
                <a:rect l="l" t="t" r="r" b="b"/>
                <a:pathLst>
                  <a:path w="583" h="678">
                    <a:moveTo>
                      <a:pt x="583" y="0"/>
                    </a:moveTo>
                    <a:lnTo>
                      <a:pt x="540" y="42"/>
                    </a:lnTo>
                    <a:lnTo>
                      <a:pt x="509" y="85"/>
                    </a:lnTo>
                    <a:lnTo>
                      <a:pt x="477" y="127"/>
                    </a:lnTo>
                    <a:lnTo>
                      <a:pt x="434" y="169"/>
                    </a:lnTo>
                    <a:lnTo>
                      <a:pt x="403" y="212"/>
                    </a:lnTo>
                    <a:lnTo>
                      <a:pt x="361" y="254"/>
                    </a:lnTo>
                    <a:lnTo>
                      <a:pt x="329" y="297"/>
                    </a:lnTo>
                    <a:lnTo>
                      <a:pt x="286" y="339"/>
                    </a:lnTo>
                    <a:lnTo>
                      <a:pt x="255" y="381"/>
                    </a:lnTo>
                    <a:lnTo>
                      <a:pt x="212" y="424"/>
                    </a:lnTo>
                    <a:lnTo>
                      <a:pt x="180" y="466"/>
                    </a:lnTo>
                    <a:lnTo>
                      <a:pt x="139" y="508"/>
                    </a:lnTo>
                    <a:lnTo>
                      <a:pt x="106" y="551"/>
                    </a:lnTo>
                    <a:lnTo>
                      <a:pt x="74" y="594"/>
                    </a:lnTo>
                    <a:lnTo>
                      <a:pt x="42" y="635"/>
                    </a:lnTo>
                    <a:lnTo>
                      <a:pt x="0" y="678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1263600" y="4962240"/>
                <a:ext cx="11520" cy="240120"/>
              </a:xfrm>
              <a:custGeom>
                <a:avLst/>
                <a:gdLst/>
                <a:ahLst/>
                <a:rect l="l" t="t" r="r" b="b"/>
                <a:pathLst>
                  <a:path w="32" h="615">
                    <a:moveTo>
                      <a:pt x="0" y="0"/>
                    </a:moveTo>
                    <a:lnTo>
                      <a:pt x="0" y="32"/>
                    </a:lnTo>
                    <a:lnTo>
                      <a:pt x="11" y="75"/>
                    </a:lnTo>
                    <a:lnTo>
                      <a:pt x="11" y="118"/>
                    </a:lnTo>
                    <a:lnTo>
                      <a:pt x="11" y="159"/>
                    </a:lnTo>
                    <a:lnTo>
                      <a:pt x="11" y="190"/>
                    </a:lnTo>
                    <a:lnTo>
                      <a:pt x="21" y="233"/>
                    </a:lnTo>
                    <a:lnTo>
                      <a:pt x="21" y="276"/>
                    </a:lnTo>
                    <a:lnTo>
                      <a:pt x="21" y="317"/>
                    </a:lnTo>
                    <a:lnTo>
                      <a:pt x="21" y="360"/>
                    </a:lnTo>
                    <a:lnTo>
                      <a:pt x="32" y="392"/>
                    </a:lnTo>
                    <a:lnTo>
                      <a:pt x="32" y="435"/>
                    </a:lnTo>
                    <a:lnTo>
                      <a:pt x="32" y="467"/>
                    </a:lnTo>
                    <a:lnTo>
                      <a:pt x="32" y="510"/>
                    </a:lnTo>
                    <a:lnTo>
                      <a:pt x="32" y="540"/>
                    </a:lnTo>
                    <a:lnTo>
                      <a:pt x="32" y="583"/>
                    </a:lnTo>
                    <a:lnTo>
                      <a:pt x="32" y="61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1217160" y="4950720"/>
                <a:ext cx="16200" cy="296280"/>
              </a:xfrm>
              <a:custGeom>
                <a:avLst/>
                <a:gdLst/>
                <a:ahLst/>
                <a:rect l="l" t="t" r="r" b="b"/>
                <a:pathLst>
                  <a:path w="42" h="763">
                    <a:moveTo>
                      <a:pt x="0" y="763"/>
                    </a:moveTo>
                    <a:lnTo>
                      <a:pt x="0" y="710"/>
                    </a:lnTo>
                    <a:lnTo>
                      <a:pt x="0" y="668"/>
                    </a:lnTo>
                    <a:lnTo>
                      <a:pt x="0" y="614"/>
                    </a:lnTo>
                    <a:lnTo>
                      <a:pt x="0" y="571"/>
                    </a:lnTo>
                    <a:lnTo>
                      <a:pt x="0" y="519"/>
                    </a:lnTo>
                    <a:lnTo>
                      <a:pt x="10" y="476"/>
                    </a:lnTo>
                    <a:lnTo>
                      <a:pt x="10" y="423"/>
                    </a:lnTo>
                    <a:lnTo>
                      <a:pt x="10" y="381"/>
                    </a:lnTo>
                    <a:lnTo>
                      <a:pt x="21" y="328"/>
                    </a:lnTo>
                    <a:lnTo>
                      <a:pt x="21" y="285"/>
                    </a:lnTo>
                    <a:lnTo>
                      <a:pt x="21" y="233"/>
                    </a:lnTo>
                    <a:lnTo>
                      <a:pt x="31" y="190"/>
                    </a:lnTo>
                    <a:lnTo>
                      <a:pt x="31" y="137"/>
                    </a:lnTo>
                    <a:lnTo>
                      <a:pt x="31" y="95"/>
                    </a:lnTo>
                    <a:lnTo>
                      <a:pt x="31" y="42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1233720" y="4476240"/>
                <a:ext cx="9360" cy="474120"/>
              </a:xfrm>
              <a:custGeom>
                <a:avLst/>
                <a:gdLst/>
                <a:ahLst/>
                <a:rect l="l" t="t" r="r" b="b"/>
                <a:pathLst>
                  <a:path w="21" h="1220">
                    <a:moveTo>
                      <a:pt x="0" y="1220"/>
                    </a:moveTo>
                    <a:lnTo>
                      <a:pt x="0" y="1145"/>
                    </a:lnTo>
                    <a:lnTo>
                      <a:pt x="0" y="1070"/>
                    </a:lnTo>
                    <a:lnTo>
                      <a:pt x="0" y="997"/>
                    </a:lnTo>
                    <a:lnTo>
                      <a:pt x="11" y="922"/>
                    </a:lnTo>
                    <a:lnTo>
                      <a:pt x="11" y="848"/>
                    </a:lnTo>
                    <a:lnTo>
                      <a:pt x="11" y="764"/>
                    </a:lnTo>
                    <a:lnTo>
                      <a:pt x="11" y="689"/>
                    </a:lnTo>
                    <a:lnTo>
                      <a:pt x="21" y="615"/>
                    </a:lnTo>
                    <a:lnTo>
                      <a:pt x="21" y="541"/>
                    </a:lnTo>
                    <a:lnTo>
                      <a:pt x="21" y="456"/>
                    </a:lnTo>
                    <a:lnTo>
                      <a:pt x="21" y="381"/>
                    </a:lnTo>
                    <a:lnTo>
                      <a:pt x="21" y="308"/>
                    </a:lnTo>
                    <a:lnTo>
                      <a:pt x="21" y="223"/>
                    </a:lnTo>
                    <a:lnTo>
                      <a:pt x="21" y="148"/>
                    </a:lnTo>
                    <a:lnTo>
                      <a:pt x="21" y="75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1238400" y="4308480"/>
                <a:ext cx="9000" cy="167760"/>
              </a:xfrm>
              <a:custGeom>
                <a:avLst/>
                <a:gdLst/>
                <a:ahLst/>
                <a:rect l="l" t="t" r="r" b="b"/>
                <a:pathLst>
                  <a:path w="21" h="435">
                    <a:moveTo>
                      <a:pt x="10" y="435"/>
                    </a:moveTo>
                    <a:lnTo>
                      <a:pt x="10" y="403"/>
                    </a:lnTo>
                    <a:lnTo>
                      <a:pt x="10" y="372"/>
                    </a:lnTo>
                    <a:lnTo>
                      <a:pt x="21" y="351"/>
                    </a:lnTo>
                    <a:lnTo>
                      <a:pt x="21" y="319"/>
                    </a:lnTo>
                    <a:lnTo>
                      <a:pt x="10" y="297"/>
                    </a:lnTo>
                    <a:lnTo>
                      <a:pt x="10" y="265"/>
                    </a:lnTo>
                    <a:lnTo>
                      <a:pt x="10" y="245"/>
                    </a:lnTo>
                    <a:lnTo>
                      <a:pt x="10" y="212"/>
                    </a:lnTo>
                    <a:lnTo>
                      <a:pt x="10" y="191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0" y="106"/>
                    </a:lnTo>
                    <a:lnTo>
                      <a:pt x="0" y="85"/>
                    </a:lnTo>
                    <a:lnTo>
                      <a:pt x="0" y="54"/>
                    </a:lnTo>
                    <a:lnTo>
                      <a:pt x="0" y="2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1243080" y="4149720"/>
                <a:ext cx="11520" cy="158760"/>
              </a:xfrm>
              <a:custGeom>
                <a:avLst/>
                <a:gdLst/>
                <a:ahLst/>
                <a:rect l="l" t="t" r="r" b="b"/>
                <a:pathLst>
                  <a:path w="31" h="403">
                    <a:moveTo>
                      <a:pt x="0" y="403"/>
                    </a:moveTo>
                    <a:lnTo>
                      <a:pt x="0" y="372"/>
                    </a:lnTo>
                    <a:lnTo>
                      <a:pt x="0" y="351"/>
                    </a:lnTo>
                    <a:lnTo>
                      <a:pt x="0" y="330"/>
                    </a:lnTo>
                    <a:lnTo>
                      <a:pt x="0" y="297"/>
                    </a:lnTo>
                    <a:lnTo>
                      <a:pt x="0" y="276"/>
                    </a:lnTo>
                    <a:lnTo>
                      <a:pt x="0" y="255"/>
                    </a:lnTo>
                    <a:lnTo>
                      <a:pt x="11" y="223"/>
                    </a:lnTo>
                    <a:lnTo>
                      <a:pt x="11" y="201"/>
                    </a:lnTo>
                    <a:lnTo>
                      <a:pt x="11" y="170"/>
                    </a:lnTo>
                    <a:lnTo>
                      <a:pt x="11" y="149"/>
                    </a:lnTo>
                    <a:lnTo>
                      <a:pt x="11" y="128"/>
                    </a:lnTo>
                    <a:lnTo>
                      <a:pt x="11" y="95"/>
                    </a:lnTo>
                    <a:lnTo>
                      <a:pt x="22" y="74"/>
                    </a:lnTo>
                    <a:lnTo>
                      <a:pt x="22" y="53"/>
                    </a:lnTo>
                    <a:lnTo>
                      <a:pt x="31" y="22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1254600" y="4063680"/>
                <a:ext cx="36720" cy="86040"/>
              </a:xfrm>
              <a:custGeom>
                <a:avLst/>
                <a:gdLst/>
                <a:ahLst/>
                <a:rect l="l" t="t" r="r" b="b"/>
                <a:pathLst>
                  <a:path w="96" h="222">
                    <a:moveTo>
                      <a:pt x="0" y="222"/>
                    </a:moveTo>
                    <a:lnTo>
                      <a:pt x="0" y="212"/>
                    </a:lnTo>
                    <a:lnTo>
                      <a:pt x="12" y="190"/>
                    </a:lnTo>
                    <a:lnTo>
                      <a:pt x="12" y="181"/>
                    </a:lnTo>
                    <a:lnTo>
                      <a:pt x="12" y="159"/>
                    </a:lnTo>
                    <a:lnTo>
                      <a:pt x="12" y="148"/>
                    </a:lnTo>
                    <a:lnTo>
                      <a:pt x="22" y="138"/>
                    </a:lnTo>
                    <a:lnTo>
                      <a:pt x="22" y="117"/>
                    </a:lnTo>
                    <a:lnTo>
                      <a:pt x="22" y="106"/>
                    </a:lnTo>
                    <a:lnTo>
                      <a:pt x="33" y="95"/>
                    </a:lnTo>
                    <a:lnTo>
                      <a:pt x="33" y="74"/>
                    </a:lnTo>
                    <a:lnTo>
                      <a:pt x="43" y="63"/>
                    </a:lnTo>
                    <a:lnTo>
                      <a:pt x="54" y="53"/>
                    </a:lnTo>
                    <a:lnTo>
                      <a:pt x="64" y="42"/>
                    </a:lnTo>
                    <a:lnTo>
                      <a:pt x="64" y="32"/>
                    </a:lnTo>
                    <a:lnTo>
                      <a:pt x="86" y="11"/>
                    </a:lnTo>
                    <a:lnTo>
                      <a:pt x="9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1291680" y="3601440"/>
                <a:ext cx="392040" cy="461880"/>
              </a:xfrm>
              <a:custGeom>
                <a:avLst/>
                <a:gdLst/>
                <a:ahLst/>
                <a:rect l="l" t="t" r="r" b="b"/>
                <a:pathLst>
                  <a:path w="1008" h="1188">
                    <a:moveTo>
                      <a:pt x="0" y="1188"/>
                    </a:moveTo>
                    <a:lnTo>
                      <a:pt x="65" y="1113"/>
                    </a:lnTo>
                    <a:lnTo>
                      <a:pt x="127" y="1040"/>
                    </a:lnTo>
                    <a:lnTo>
                      <a:pt x="192" y="965"/>
                    </a:lnTo>
                    <a:lnTo>
                      <a:pt x="255" y="891"/>
                    </a:lnTo>
                    <a:lnTo>
                      <a:pt x="319" y="816"/>
                    </a:lnTo>
                    <a:lnTo>
                      <a:pt x="382" y="743"/>
                    </a:lnTo>
                    <a:lnTo>
                      <a:pt x="446" y="668"/>
                    </a:lnTo>
                    <a:lnTo>
                      <a:pt x="509" y="593"/>
                    </a:lnTo>
                    <a:lnTo>
                      <a:pt x="573" y="519"/>
                    </a:lnTo>
                    <a:lnTo>
                      <a:pt x="637" y="446"/>
                    </a:lnTo>
                    <a:lnTo>
                      <a:pt x="700" y="372"/>
                    </a:lnTo>
                    <a:lnTo>
                      <a:pt x="754" y="297"/>
                    </a:lnTo>
                    <a:lnTo>
                      <a:pt x="816" y="224"/>
                    </a:lnTo>
                    <a:lnTo>
                      <a:pt x="881" y="149"/>
                    </a:lnTo>
                    <a:lnTo>
                      <a:pt x="944" y="74"/>
                    </a:lnTo>
                    <a:lnTo>
                      <a:pt x="100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1684080" y="3531240"/>
                <a:ext cx="102600" cy="70200"/>
              </a:xfrm>
              <a:custGeom>
                <a:avLst/>
                <a:gdLst/>
                <a:ahLst/>
                <a:rect l="l" t="t" r="r" b="b"/>
                <a:pathLst>
                  <a:path w="265" h="180">
                    <a:moveTo>
                      <a:pt x="0" y="180"/>
                    </a:moveTo>
                    <a:lnTo>
                      <a:pt x="10" y="159"/>
                    </a:lnTo>
                    <a:lnTo>
                      <a:pt x="32" y="148"/>
                    </a:lnTo>
                    <a:lnTo>
                      <a:pt x="41" y="127"/>
                    </a:lnTo>
                    <a:lnTo>
                      <a:pt x="63" y="117"/>
                    </a:lnTo>
                    <a:lnTo>
                      <a:pt x="73" y="105"/>
                    </a:lnTo>
                    <a:lnTo>
                      <a:pt x="84" y="96"/>
                    </a:lnTo>
                    <a:lnTo>
                      <a:pt x="105" y="75"/>
                    </a:lnTo>
                    <a:lnTo>
                      <a:pt x="127" y="64"/>
                    </a:lnTo>
                    <a:lnTo>
                      <a:pt x="138" y="53"/>
                    </a:lnTo>
                    <a:lnTo>
                      <a:pt x="159" y="42"/>
                    </a:lnTo>
                    <a:lnTo>
                      <a:pt x="170" y="32"/>
                    </a:lnTo>
                    <a:lnTo>
                      <a:pt x="191" y="21"/>
                    </a:lnTo>
                    <a:lnTo>
                      <a:pt x="212" y="21"/>
                    </a:lnTo>
                    <a:lnTo>
                      <a:pt x="234" y="12"/>
                    </a:lnTo>
                    <a:lnTo>
                      <a:pt x="243" y="0"/>
                    </a:lnTo>
                    <a:lnTo>
                      <a:pt x="265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1560240" y="3778920"/>
                <a:ext cx="193680" cy="546120"/>
              </a:xfrm>
              <a:custGeom>
                <a:avLst/>
                <a:gdLst/>
                <a:ahLst/>
                <a:rect l="l" t="t" r="r" b="b"/>
                <a:pathLst>
                  <a:path w="499" h="1400">
                    <a:moveTo>
                      <a:pt x="478" y="31"/>
                    </a:moveTo>
                    <a:lnTo>
                      <a:pt x="478" y="106"/>
                    </a:lnTo>
                    <a:lnTo>
                      <a:pt x="478" y="191"/>
                    </a:lnTo>
                    <a:lnTo>
                      <a:pt x="478" y="276"/>
                    </a:lnTo>
                    <a:lnTo>
                      <a:pt x="478" y="351"/>
                    </a:lnTo>
                    <a:lnTo>
                      <a:pt x="478" y="435"/>
                    </a:lnTo>
                    <a:lnTo>
                      <a:pt x="478" y="520"/>
                    </a:lnTo>
                    <a:lnTo>
                      <a:pt x="478" y="593"/>
                    </a:lnTo>
                    <a:lnTo>
                      <a:pt x="478" y="679"/>
                    </a:lnTo>
                    <a:lnTo>
                      <a:pt x="478" y="752"/>
                    </a:lnTo>
                    <a:lnTo>
                      <a:pt x="478" y="838"/>
                    </a:lnTo>
                    <a:lnTo>
                      <a:pt x="489" y="922"/>
                    </a:lnTo>
                    <a:lnTo>
                      <a:pt x="489" y="997"/>
                    </a:lnTo>
                    <a:lnTo>
                      <a:pt x="489" y="1082"/>
                    </a:lnTo>
                    <a:lnTo>
                      <a:pt x="489" y="1167"/>
                    </a:lnTo>
                    <a:lnTo>
                      <a:pt x="489" y="1251"/>
                    </a:lnTo>
                    <a:lnTo>
                      <a:pt x="499" y="1326"/>
                    </a:lnTo>
                    <a:lnTo>
                      <a:pt x="489" y="1336"/>
                    </a:lnTo>
                    <a:lnTo>
                      <a:pt x="489" y="1348"/>
                    </a:lnTo>
                    <a:lnTo>
                      <a:pt x="489" y="1357"/>
                    </a:lnTo>
                    <a:lnTo>
                      <a:pt x="489" y="1368"/>
                    </a:lnTo>
                    <a:lnTo>
                      <a:pt x="478" y="1368"/>
                    </a:lnTo>
                    <a:lnTo>
                      <a:pt x="478" y="1379"/>
                    </a:lnTo>
                    <a:lnTo>
                      <a:pt x="478" y="1389"/>
                    </a:lnTo>
                    <a:lnTo>
                      <a:pt x="467" y="1389"/>
                    </a:lnTo>
                    <a:lnTo>
                      <a:pt x="467" y="1400"/>
                    </a:lnTo>
                    <a:lnTo>
                      <a:pt x="457" y="1400"/>
                    </a:lnTo>
                    <a:lnTo>
                      <a:pt x="424" y="1368"/>
                    </a:lnTo>
                    <a:lnTo>
                      <a:pt x="392" y="1336"/>
                    </a:lnTo>
                    <a:lnTo>
                      <a:pt x="360" y="1294"/>
                    </a:lnTo>
                    <a:lnTo>
                      <a:pt x="339" y="1262"/>
                    </a:lnTo>
                    <a:lnTo>
                      <a:pt x="308" y="1219"/>
                    </a:lnTo>
                    <a:lnTo>
                      <a:pt x="287" y="1177"/>
                    </a:lnTo>
                    <a:lnTo>
                      <a:pt x="255" y="1146"/>
                    </a:lnTo>
                    <a:lnTo>
                      <a:pt x="233" y="1103"/>
                    </a:lnTo>
                    <a:lnTo>
                      <a:pt x="202" y="1071"/>
                    </a:lnTo>
                    <a:lnTo>
                      <a:pt x="181" y="1028"/>
                    </a:lnTo>
                    <a:lnTo>
                      <a:pt x="160" y="987"/>
                    </a:lnTo>
                    <a:lnTo>
                      <a:pt x="127" y="954"/>
                    </a:lnTo>
                    <a:lnTo>
                      <a:pt x="106" y="913"/>
                    </a:lnTo>
                    <a:lnTo>
                      <a:pt x="75" y="880"/>
                    </a:lnTo>
                    <a:lnTo>
                      <a:pt x="43" y="838"/>
                    </a:lnTo>
                    <a:lnTo>
                      <a:pt x="22" y="806"/>
                    </a:lnTo>
                    <a:lnTo>
                      <a:pt x="11" y="795"/>
                    </a:lnTo>
                    <a:lnTo>
                      <a:pt x="11" y="785"/>
                    </a:lnTo>
                    <a:lnTo>
                      <a:pt x="11" y="774"/>
                    </a:lnTo>
                    <a:lnTo>
                      <a:pt x="0" y="774"/>
                    </a:lnTo>
                    <a:lnTo>
                      <a:pt x="0" y="764"/>
                    </a:lnTo>
                    <a:lnTo>
                      <a:pt x="0" y="752"/>
                    </a:lnTo>
                    <a:lnTo>
                      <a:pt x="11" y="752"/>
                    </a:lnTo>
                    <a:lnTo>
                      <a:pt x="11" y="743"/>
                    </a:lnTo>
                    <a:lnTo>
                      <a:pt x="22" y="743"/>
                    </a:lnTo>
                    <a:lnTo>
                      <a:pt x="43" y="690"/>
                    </a:lnTo>
                    <a:lnTo>
                      <a:pt x="65" y="647"/>
                    </a:lnTo>
                    <a:lnTo>
                      <a:pt x="97" y="605"/>
                    </a:lnTo>
                    <a:lnTo>
                      <a:pt x="118" y="552"/>
                    </a:lnTo>
                    <a:lnTo>
                      <a:pt x="149" y="509"/>
                    </a:lnTo>
                    <a:lnTo>
                      <a:pt x="170" y="466"/>
                    </a:lnTo>
                    <a:lnTo>
                      <a:pt x="202" y="425"/>
                    </a:lnTo>
                    <a:lnTo>
                      <a:pt x="224" y="372"/>
                    </a:lnTo>
                    <a:lnTo>
                      <a:pt x="255" y="330"/>
                    </a:lnTo>
                    <a:lnTo>
                      <a:pt x="287" y="287"/>
                    </a:lnTo>
                    <a:lnTo>
                      <a:pt x="308" y="244"/>
                    </a:lnTo>
                    <a:lnTo>
                      <a:pt x="339" y="191"/>
                    </a:lnTo>
                    <a:lnTo>
                      <a:pt x="360" y="149"/>
                    </a:lnTo>
                    <a:lnTo>
                      <a:pt x="392" y="106"/>
                    </a:lnTo>
                    <a:lnTo>
                      <a:pt x="414" y="53"/>
                    </a:lnTo>
                    <a:lnTo>
                      <a:pt x="435" y="10"/>
                    </a:lnTo>
                    <a:lnTo>
                      <a:pt x="435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67" y="0"/>
                    </a:lnTo>
                    <a:lnTo>
                      <a:pt x="478" y="0"/>
                    </a:lnTo>
                    <a:lnTo>
                      <a:pt x="478" y="10"/>
                    </a:lnTo>
                    <a:lnTo>
                      <a:pt x="478" y="22"/>
                    </a:lnTo>
                    <a:lnTo>
                      <a:pt x="478" y="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1744920" y="3792600"/>
                <a:ext cx="9000" cy="501480"/>
              </a:xfrm>
              <a:custGeom>
                <a:avLst/>
                <a:gdLst/>
                <a:ahLst/>
                <a:rect l="l" t="t" r="r" b="b"/>
                <a:pathLst>
                  <a:path w="21" h="1295">
                    <a:moveTo>
                      <a:pt x="0" y="0"/>
                    </a:moveTo>
                    <a:lnTo>
                      <a:pt x="0" y="75"/>
                    </a:lnTo>
                    <a:lnTo>
                      <a:pt x="0" y="160"/>
                    </a:lnTo>
                    <a:lnTo>
                      <a:pt x="0" y="245"/>
                    </a:lnTo>
                    <a:lnTo>
                      <a:pt x="0" y="320"/>
                    </a:lnTo>
                    <a:lnTo>
                      <a:pt x="0" y="404"/>
                    </a:lnTo>
                    <a:lnTo>
                      <a:pt x="0" y="489"/>
                    </a:lnTo>
                    <a:lnTo>
                      <a:pt x="0" y="562"/>
                    </a:lnTo>
                    <a:lnTo>
                      <a:pt x="0" y="648"/>
                    </a:lnTo>
                    <a:lnTo>
                      <a:pt x="0" y="721"/>
                    </a:lnTo>
                    <a:lnTo>
                      <a:pt x="0" y="807"/>
                    </a:lnTo>
                    <a:lnTo>
                      <a:pt x="11" y="891"/>
                    </a:lnTo>
                    <a:lnTo>
                      <a:pt x="11" y="966"/>
                    </a:lnTo>
                    <a:lnTo>
                      <a:pt x="11" y="1051"/>
                    </a:lnTo>
                    <a:lnTo>
                      <a:pt x="11" y="1136"/>
                    </a:lnTo>
                    <a:lnTo>
                      <a:pt x="11" y="1220"/>
                    </a:lnTo>
                    <a:lnTo>
                      <a:pt x="21" y="1295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1567440" y="4093560"/>
                <a:ext cx="170280" cy="231120"/>
              </a:xfrm>
              <a:custGeom>
                <a:avLst/>
                <a:gdLst/>
                <a:ahLst/>
                <a:rect l="l" t="t" r="r" b="b"/>
                <a:pathLst>
                  <a:path w="435" h="594">
                    <a:moveTo>
                      <a:pt x="435" y="594"/>
                    </a:moveTo>
                    <a:lnTo>
                      <a:pt x="402" y="562"/>
                    </a:lnTo>
                    <a:lnTo>
                      <a:pt x="370" y="530"/>
                    </a:lnTo>
                    <a:lnTo>
                      <a:pt x="338" y="488"/>
                    </a:lnTo>
                    <a:lnTo>
                      <a:pt x="317" y="456"/>
                    </a:lnTo>
                    <a:lnTo>
                      <a:pt x="286" y="413"/>
                    </a:lnTo>
                    <a:lnTo>
                      <a:pt x="265" y="371"/>
                    </a:lnTo>
                    <a:lnTo>
                      <a:pt x="233" y="340"/>
                    </a:lnTo>
                    <a:lnTo>
                      <a:pt x="211" y="297"/>
                    </a:lnTo>
                    <a:lnTo>
                      <a:pt x="180" y="265"/>
                    </a:lnTo>
                    <a:lnTo>
                      <a:pt x="159" y="222"/>
                    </a:lnTo>
                    <a:lnTo>
                      <a:pt x="138" y="181"/>
                    </a:lnTo>
                    <a:lnTo>
                      <a:pt x="105" y="148"/>
                    </a:lnTo>
                    <a:lnTo>
                      <a:pt x="84" y="107"/>
                    </a:lnTo>
                    <a:lnTo>
                      <a:pt x="53" y="74"/>
                    </a:lnTo>
                    <a:lnTo>
                      <a:pt x="21" y="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1567440" y="3783600"/>
                <a:ext cx="160920" cy="284400"/>
              </a:xfrm>
              <a:custGeom>
                <a:avLst/>
                <a:gdLst/>
                <a:ahLst/>
                <a:rect l="l" t="t" r="r" b="b"/>
                <a:pathLst>
                  <a:path w="413" h="733">
                    <a:moveTo>
                      <a:pt x="0" y="733"/>
                    </a:moveTo>
                    <a:lnTo>
                      <a:pt x="21" y="680"/>
                    </a:lnTo>
                    <a:lnTo>
                      <a:pt x="43" y="637"/>
                    </a:lnTo>
                    <a:lnTo>
                      <a:pt x="75" y="595"/>
                    </a:lnTo>
                    <a:lnTo>
                      <a:pt x="96" y="542"/>
                    </a:lnTo>
                    <a:lnTo>
                      <a:pt x="127" y="499"/>
                    </a:lnTo>
                    <a:lnTo>
                      <a:pt x="148" y="456"/>
                    </a:lnTo>
                    <a:lnTo>
                      <a:pt x="180" y="415"/>
                    </a:lnTo>
                    <a:lnTo>
                      <a:pt x="202" y="362"/>
                    </a:lnTo>
                    <a:lnTo>
                      <a:pt x="233" y="320"/>
                    </a:lnTo>
                    <a:lnTo>
                      <a:pt x="265" y="277"/>
                    </a:lnTo>
                    <a:lnTo>
                      <a:pt x="286" y="234"/>
                    </a:lnTo>
                    <a:lnTo>
                      <a:pt x="317" y="181"/>
                    </a:lnTo>
                    <a:lnTo>
                      <a:pt x="338" y="139"/>
                    </a:lnTo>
                    <a:lnTo>
                      <a:pt x="370" y="96"/>
                    </a:lnTo>
                    <a:lnTo>
                      <a:pt x="392" y="43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1576440" y="3808800"/>
                <a:ext cx="161280" cy="485280"/>
              </a:xfrm>
              <a:custGeom>
                <a:avLst/>
                <a:gdLst/>
                <a:ahLst/>
                <a:rect l="l" t="t" r="r" b="b"/>
                <a:pathLst>
                  <a:path w="414" h="1252">
                    <a:moveTo>
                      <a:pt x="403" y="966"/>
                    </a:moveTo>
                    <a:lnTo>
                      <a:pt x="403" y="975"/>
                    </a:lnTo>
                    <a:lnTo>
                      <a:pt x="414" y="997"/>
                    </a:lnTo>
                    <a:lnTo>
                      <a:pt x="414" y="1018"/>
                    </a:lnTo>
                    <a:lnTo>
                      <a:pt x="414" y="1029"/>
                    </a:lnTo>
                    <a:lnTo>
                      <a:pt x="414" y="1050"/>
                    </a:lnTo>
                    <a:lnTo>
                      <a:pt x="414" y="1072"/>
                    </a:lnTo>
                    <a:lnTo>
                      <a:pt x="414" y="1081"/>
                    </a:lnTo>
                    <a:lnTo>
                      <a:pt x="414" y="1103"/>
                    </a:lnTo>
                    <a:lnTo>
                      <a:pt x="414" y="1124"/>
                    </a:lnTo>
                    <a:lnTo>
                      <a:pt x="414" y="1145"/>
                    </a:lnTo>
                    <a:lnTo>
                      <a:pt x="414" y="1156"/>
                    </a:lnTo>
                    <a:lnTo>
                      <a:pt x="414" y="1177"/>
                    </a:lnTo>
                    <a:lnTo>
                      <a:pt x="414" y="1199"/>
                    </a:lnTo>
                    <a:lnTo>
                      <a:pt x="414" y="1220"/>
                    </a:lnTo>
                    <a:lnTo>
                      <a:pt x="414" y="1231"/>
                    </a:lnTo>
                    <a:lnTo>
                      <a:pt x="414" y="1252"/>
                    </a:lnTo>
                    <a:lnTo>
                      <a:pt x="392" y="1220"/>
                    </a:lnTo>
                    <a:lnTo>
                      <a:pt x="360" y="1177"/>
                    </a:lnTo>
                    <a:lnTo>
                      <a:pt x="339" y="1145"/>
                    </a:lnTo>
                    <a:lnTo>
                      <a:pt x="317" y="1103"/>
                    </a:lnTo>
                    <a:lnTo>
                      <a:pt x="286" y="1072"/>
                    </a:lnTo>
                    <a:lnTo>
                      <a:pt x="265" y="1029"/>
                    </a:lnTo>
                    <a:lnTo>
                      <a:pt x="233" y="997"/>
                    </a:lnTo>
                    <a:lnTo>
                      <a:pt x="212" y="954"/>
                    </a:lnTo>
                    <a:lnTo>
                      <a:pt x="190" y="923"/>
                    </a:lnTo>
                    <a:lnTo>
                      <a:pt x="159" y="891"/>
                    </a:lnTo>
                    <a:lnTo>
                      <a:pt x="138" y="848"/>
                    </a:lnTo>
                    <a:lnTo>
                      <a:pt x="106" y="817"/>
                    </a:lnTo>
                    <a:lnTo>
                      <a:pt x="84" y="775"/>
                    </a:lnTo>
                    <a:lnTo>
                      <a:pt x="54" y="743"/>
                    </a:lnTo>
                    <a:lnTo>
                      <a:pt x="32" y="711"/>
                    </a:lnTo>
                    <a:lnTo>
                      <a:pt x="0" y="669"/>
                    </a:ln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  <a:lnTo>
                      <a:pt x="403" y="9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1733400" y="4184640"/>
                <a:ext cx="4680" cy="109440"/>
              </a:xfrm>
              <a:custGeom>
                <a:avLst/>
                <a:gdLst/>
                <a:ahLst/>
                <a:rect l="l" t="t" r="r" b="b"/>
                <a:pathLst>
                  <a:path w="11" h="286">
                    <a:moveTo>
                      <a:pt x="0" y="0"/>
                    </a:moveTo>
                    <a:lnTo>
                      <a:pt x="0" y="9"/>
                    </a:lnTo>
                    <a:lnTo>
                      <a:pt x="11" y="31"/>
                    </a:lnTo>
                    <a:lnTo>
                      <a:pt x="11" y="52"/>
                    </a:lnTo>
                    <a:lnTo>
                      <a:pt x="11" y="63"/>
                    </a:lnTo>
                    <a:lnTo>
                      <a:pt x="11" y="84"/>
                    </a:lnTo>
                    <a:lnTo>
                      <a:pt x="11" y="106"/>
                    </a:lnTo>
                    <a:lnTo>
                      <a:pt x="11" y="115"/>
                    </a:lnTo>
                    <a:lnTo>
                      <a:pt x="11" y="137"/>
                    </a:lnTo>
                    <a:lnTo>
                      <a:pt x="11" y="158"/>
                    </a:lnTo>
                    <a:lnTo>
                      <a:pt x="11" y="179"/>
                    </a:lnTo>
                    <a:lnTo>
                      <a:pt x="11" y="190"/>
                    </a:lnTo>
                    <a:lnTo>
                      <a:pt x="11" y="211"/>
                    </a:lnTo>
                    <a:lnTo>
                      <a:pt x="11" y="233"/>
                    </a:lnTo>
                    <a:lnTo>
                      <a:pt x="11" y="254"/>
                    </a:lnTo>
                    <a:lnTo>
                      <a:pt x="11" y="265"/>
                    </a:lnTo>
                    <a:lnTo>
                      <a:pt x="11" y="286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1576440" y="4068360"/>
                <a:ext cx="161280" cy="225720"/>
              </a:xfrm>
              <a:custGeom>
                <a:avLst/>
                <a:gdLst/>
                <a:ahLst/>
                <a:rect l="l" t="t" r="r" b="b"/>
                <a:pathLst>
                  <a:path w="414" h="583">
                    <a:moveTo>
                      <a:pt x="414" y="583"/>
                    </a:moveTo>
                    <a:lnTo>
                      <a:pt x="392" y="551"/>
                    </a:lnTo>
                    <a:lnTo>
                      <a:pt x="360" y="508"/>
                    </a:lnTo>
                    <a:lnTo>
                      <a:pt x="339" y="476"/>
                    </a:lnTo>
                    <a:lnTo>
                      <a:pt x="317" y="434"/>
                    </a:lnTo>
                    <a:lnTo>
                      <a:pt x="286" y="403"/>
                    </a:lnTo>
                    <a:lnTo>
                      <a:pt x="265" y="360"/>
                    </a:lnTo>
                    <a:lnTo>
                      <a:pt x="233" y="328"/>
                    </a:lnTo>
                    <a:lnTo>
                      <a:pt x="212" y="285"/>
                    </a:lnTo>
                    <a:lnTo>
                      <a:pt x="190" y="254"/>
                    </a:lnTo>
                    <a:lnTo>
                      <a:pt x="159" y="222"/>
                    </a:lnTo>
                    <a:lnTo>
                      <a:pt x="138" y="179"/>
                    </a:lnTo>
                    <a:lnTo>
                      <a:pt x="106" y="148"/>
                    </a:lnTo>
                    <a:lnTo>
                      <a:pt x="84" y="106"/>
                    </a:lnTo>
                    <a:lnTo>
                      <a:pt x="54" y="74"/>
                    </a:lnTo>
                    <a:lnTo>
                      <a:pt x="32" y="4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1576440" y="3808800"/>
                <a:ext cx="156600" cy="259200"/>
              </a:xfrm>
              <a:custGeom>
                <a:avLst/>
                <a:gdLst/>
                <a:ahLst/>
                <a:rect l="l" t="t" r="r" b="b"/>
                <a:pathLst>
                  <a:path w="403" h="669">
                    <a:moveTo>
                      <a:pt x="0" y="669"/>
                    </a:moveTo>
                    <a:lnTo>
                      <a:pt x="22" y="626"/>
                    </a:lnTo>
                    <a:lnTo>
                      <a:pt x="42" y="583"/>
                    </a:lnTo>
                    <a:lnTo>
                      <a:pt x="63" y="541"/>
                    </a:lnTo>
                    <a:lnTo>
                      <a:pt x="95" y="498"/>
                    </a:lnTo>
                    <a:lnTo>
                      <a:pt x="117" y="456"/>
                    </a:lnTo>
                    <a:lnTo>
                      <a:pt x="138" y="414"/>
                    </a:lnTo>
                    <a:lnTo>
                      <a:pt x="169" y="371"/>
                    </a:lnTo>
                    <a:lnTo>
                      <a:pt x="190" y="329"/>
                    </a:lnTo>
                    <a:lnTo>
                      <a:pt x="222" y="286"/>
                    </a:lnTo>
                    <a:lnTo>
                      <a:pt x="244" y="256"/>
                    </a:lnTo>
                    <a:lnTo>
                      <a:pt x="276" y="213"/>
                    </a:lnTo>
                    <a:lnTo>
                      <a:pt x="296" y="170"/>
                    </a:lnTo>
                    <a:lnTo>
                      <a:pt x="329" y="127"/>
                    </a:lnTo>
                    <a:lnTo>
                      <a:pt x="349" y="84"/>
                    </a:lnTo>
                    <a:lnTo>
                      <a:pt x="381" y="43"/>
                    </a:lnTo>
                    <a:lnTo>
                      <a:pt x="403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1733400" y="3808800"/>
                <a:ext cx="1800" cy="375480"/>
              </a:xfrm>
              <a:prstGeom prst="line">
                <a:avLst/>
              </a:prstGeom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1373760" y="4770720"/>
                <a:ext cx="368280" cy="366120"/>
              </a:xfrm>
              <a:custGeom>
                <a:avLst/>
                <a:gdLst/>
                <a:ahLst/>
                <a:rect l="l" t="t" r="r" b="b"/>
                <a:pathLst>
                  <a:path w="944" h="943">
                    <a:moveTo>
                      <a:pt x="934" y="562"/>
                    </a:moveTo>
                    <a:lnTo>
                      <a:pt x="934" y="573"/>
                    </a:lnTo>
                    <a:lnTo>
                      <a:pt x="944" y="573"/>
                    </a:lnTo>
                    <a:lnTo>
                      <a:pt x="944" y="582"/>
                    </a:lnTo>
                    <a:lnTo>
                      <a:pt x="944" y="594"/>
                    </a:lnTo>
                    <a:lnTo>
                      <a:pt x="944" y="604"/>
                    </a:lnTo>
                    <a:lnTo>
                      <a:pt x="944" y="616"/>
                    </a:lnTo>
                    <a:lnTo>
                      <a:pt x="944" y="625"/>
                    </a:lnTo>
                    <a:lnTo>
                      <a:pt x="944" y="636"/>
                    </a:lnTo>
                    <a:lnTo>
                      <a:pt x="934" y="646"/>
                    </a:lnTo>
                    <a:lnTo>
                      <a:pt x="934" y="657"/>
                    </a:lnTo>
                    <a:lnTo>
                      <a:pt x="934" y="668"/>
                    </a:lnTo>
                    <a:lnTo>
                      <a:pt x="934" y="679"/>
                    </a:lnTo>
                    <a:lnTo>
                      <a:pt x="934" y="688"/>
                    </a:lnTo>
                    <a:lnTo>
                      <a:pt x="934" y="700"/>
                    </a:lnTo>
                    <a:lnTo>
                      <a:pt x="934" y="709"/>
                    </a:lnTo>
                    <a:lnTo>
                      <a:pt x="934" y="721"/>
                    </a:lnTo>
                    <a:lnTo>
                      <a:pt x="912" y="731"/>
                    </a:lnTo>
                    <a:lnTo>
                      <a:pt x="901" y="731"/>
                    </a:lnTo>
                    <a:lnTo>
                      <a:pt x="880" y="731"/>
                    </a:lnTo>
                    <a:lnTo>
                      <a:pt x="859" y="743"/>
                    </a:lnTo>
                    <a:lnTo>
                      <a:pt x="837" y="743"/>
                    </a:lnTo>
                    <a:lnTo>
                      <a:pt x="816" y="743"/>
                    </a:lnTo>
                    <a:lnTo>
                      <a:pt x="806" y="743"/>
                    </a:lnTo>
                    <a:lnTo>
                      <a:pt x="785" y="743"/>
                    </a:lnTo>
                    <a:lnTo>
                      <a:pt x="764" y="752"/>
                    </a:lnTo>
                    <a:lnTo>
                      <a:pt x="742" y="752"/>
                    </a:lnTo>
                    <a:lnTo>
                      <a:pt x="722" y="752"/>
                    </a:lnTo>
                    <a:lnTo>
                      <a:pt x="710" y="752"/>
                    </a:lnTo>
                    <a:lnTo>
                      <a:pt x="689" y="763"/>
                    </a:lnTo>
                    <a:lnTo>
                      <a:pt x="669" y="763"/>
                    </a:lnTo>
                    <a:lnTo>
                      <a:pt x="658" y="774"/>
                    </a:lnTo>
                    <a:lnTo>
                      <a:pt x="637" y="784"/>
                    </a:lnTo>
                    <a:lnTo>
                      <a:pt x="595" y="784"/>
                    </a:lnTo>
                    <a:lnTo>
                      <a:pt x="552" y="795"/>
                    </a:lnTo>
                    <a:lnTo>
                      <a:pt x="509" y="806"/>
                    </a:lnTo>
                    <a:lnTo>
                      <a:pt x="477" y="806"/>
                    </a:lnTo>
                    <a:lnTo>
                      <a:pt x="435" y="815"/>
                    </a:lnTo>
                    <a:lnTo>
                      <a:pt x="393" y="837"/>
                    </a:lnTo>
                    <a:lnTo>
                      <a:pt x="361" y="848"/>
                    </a:lnTo>
                    <a:lnTo>
                      <a:pt x="318" y="858"/>
                    </a:lnTo>
                    <a:lnTo>
                      <a:pt x="275" y="870"/>
                    </a:lnTo>
                    <a:lnTo>
                      <a:pt x="245" y="879"/>
                    </a:lnTo>
                    <a:lnTo>
                      <a:pt x="202" y="890"/>
                    </a:lnTo>
                    <a:lnTo>
                      <a:pt x="160" y="901"/>
                    </a:lnTo>
                    <a:lnTo>
                      <a:pt x="127" y="911"/>
                    </a:lnTo>
                    <a:lnTo>
                      <a:pt x="85" y="922"/>
                    </a:lnTo>
                    <a:lnTo>
                      <a:pt x="43" y="933"/>
                    </a:lnTo>
                    <a:lnTo>
                      <a:pt x="0" y="943"/>
                    </a:lnTo>
                    <a:lnTo>
                      <a:pt x="0" y="933"/>
                    </a:lnTo>
                    <a:lnTo>
                      <a:pt x="0" y="922"/>
                    </a:lnTo>
                    <a:lnTo>
                      <a:pt x="0" y="911"/>
                    </a:lnTo>
                    <a:lnTo>
                      <a:pt x="0" y="901"/>
                    </a:lnTo>
                    <a:lnTo>
                      <a:pt x="0" y="890"/>
                    </a:lnTo>
                    <a:lnTo>
                      <a:pt x="12" y="890"/>
                    </a:lnTo>
                    <a:lnTo>
                      <a:pt x="12" y="879"/>
                    </a:lnTo>
                    <a:lnTo>
                      <a:pt x="12" y="870"/>
                    </a:lnTo>
                    <a:lnTo>
                      <a:pt x="21" y="858"/>
                    </a:lnTo>
                    <a:lnTo>
                      <a:pt x="21" y="848"/>
                    </a:lnTo>
                    <a:lnTo>
                      <a:pt x="21" y="837"/>
                    </a:lnTo>
                    <a:lnTo>
                      <a:pt x="33" y="837"/>
                    </a:lnTo>
                    <a:lnTo>
                      <a:pt x="21" y="827"/>
                    </a:lnTo>
                    <a:lnTo>
                      <a:pt x="33" y="815"/>
                    </a:lnTo>
                    <a:lnTo>
                      <a:pt x="33" y="806"/>
                    </a:lnTo>
                    <a:lnTo>
                      <a:pt x="33" y="795"/>
                    </a:lnTo>
                    <a:lnTo>
                      <a:pt x="43" y="784"/>
                    </a:lnTo>
                    <a:lnTo>
                      <a:pt x="43" y="774"/>
                    </a:lnTo>
                    <a:lnTo>
                      <a:pt x="53" y="763"/>
                    </a:lnTo>
                    <a:lnTo>
                      <a:pt x="53" y="752"/>
                    </a:lnTo>
                    <a:lnTo>
                      <a:pt x="64" y="752"/>
                    </a:lnTo>
                    <a:lnTo>
                      <a:pt x="64" y="731"/>
                    </a:lnTo>
                    <a:lnTo>
                      <a:pt x="75" y="709"/>
                    </a:lnTo>
                    <a:lnTo>
                      <a:pt x="85" y="700"/>
                    </a:lnTo>
                    <a:lnTo>
                      <a:pt x="85" y="679"/>
                    </a:lnTo>
                    <a:lnTo>
                      <a:pt x="96" y="668"/>
                    </a:lnTo>
                    <a:lnTo>
                      <a:pt x="107" y="646"/>
                    </a:lnTo>
                    <a:lnTo>
                      <a:pt x="107" y="625"/>
                    </a:lnTo>
                    <a:lnTo>
                      <a:pt x="117" y="616"/>
                    </a:lnTo>
                    <a:lnTo>
                      <a:pt x="117" y="594"/>
                    </a:lnTo>
                    <a:lnTo>
                      <a:pt x="127" y="582"/>
                    </a:lnTo>
                    <a:lnTo>
                      <a:pt x="139" y="562"/>
                    </a:lnTo>
                    <a:lnTo>
                      <a:pt x="139" y="551"/>
                    </a:lnTo>
                    <a:lnTo>
                      <a:pt x="148" y="530"/>
                    </a:lnTo>
                    <a:lnTo>
                      <a:pt x="160" y="519"/>
                    </a:lnTo>
                    <a:lnTo>
                      <a:pt x="170" y="498"/>
                    </a:lnTo>
                    <a:lnTo>
                      <a:pt x="180" y="488"/>
                    </a:lnTo>
                    <a:lnTo>
                      <a:pt x="180" y="477"/>
                    </a:lnTo>
                    <a:lnTo>
                      <a:pt x="180" y="467"/>
                    </a:lnTo>
                    <a:lnTo>
                      <a:pt x="180" y="446"/>
                    </a:lnTo>
                    <a:lnTo>
                      <a:pt x="191" y="435"/>
                    </a:lnTo>
                    <a:lnTo>
                      <a:pt x="191" y="424"/>
                    </a:lnTo>
                    <a:lnTo>
                      <a:pt x="202" y="414"/>
                    </a:lnTo>
                    <a:lnTo>
                      <a:pt x="202" y="403"/>
                    </a:lnTo>
                    <a:lnTo>
                      <a:pt x="202" y="392"/>
                    </a:lnTo>
                    <a:lnTo>
                      <a:pt x="212" y="382"/>
                    </a:lnTo>
                    <a:lnTo>
                      <a:pt x="212" y="371"/>
                    </a:lnTo>
                    <a:lnTo>
                      <a:pt x="223" y="360"/>
                    </a:lnTo>
                    <a:lnTo>
                      <a:pt x="223" y="349"/>
                    </a:lnTo>
                    <a:lnTo>
                      <a:pt x="223" y="339"/>
                    </a:lnTo>
                    <a:lnTo>
                      <a:pt x="234" y="328"/>
                    </a:lnTo>
                    <a:lnTo>
                      <a:pt x="234" y="317"/>
                    </a:lnTo>
                    <a:lnTo>
                      <a:pt x="234" y="308"/>
                    </a:lnTo>
                    <a:lnTo>
                      <a:pt x="245" y="286"/>
                    </a:lnTo>
                    <a:lnTo>
                      <a:pt x="254" y="265"/>
                    </a:lnTo>
                    <a:lnTo>
                      <a:pt x="266" y="244"/>
                    </a:lnTo>
                    <a:lnTo>
                      <a:pt x="266" y="222"/>
                    </a:lnTo>
                    <a:lnTo>
                      <a:pt x="275" y="201"/>
                    </a:lnTo>
                    <a:lnTo>
                      <a:pt x="287" y="181"/>
                    </a:lnTo>
                    <a:lnTo>
                      <a:pt x="297" y="159"/>
                    </a:lnTo>
                    <a:lnTo>
                      <a:pt x="297" y="138"/>
                    </a:lnTo>
                    <a:lnTo>
                      <a:pt x="307" y="117"/>
                    </a:lnTo>
                    <a:lnTo>
                      <a:pt x="318" y="95"/>
                    </a:lnTo>
                    <a:lnTo>
                      <a:pt x="329" y="74"/>
                    </a:lnTo>
                    <a:lnTo>
                      <a:pt x="340" y="63"/>
                    </a:lnTo>
                    <a:lnTo>
                      <a:pt x="350" y="42"/>
                    </a:lnTo>
                    <a:lnTo>
                      <a:pt x="361" y="32"/>
                    </a:lnTo>
                    <a:lnTo>
                      <a:pt x="382" y="11"/>
                    </a:lnTo>
                    <a:lnTo>
                      <a:pt x="404" y="0"/>
                    </a:lnTo>
                    <a:lnTo>
                      <a:pt x="435" y="32"/>
                    </a:lnTo>
                    <a:lnTo>
                      <a:pt x="468" y="63"/>
                    </a:lnTo>
                    <a:lnTo>
                      <a:pt x="499" y="106"/>
                    </a:lnTo>
                    <a:lnTo>
                      <a:pt x="531" y="138"/>
                    </a:lnTo>
                    <a:lnTo>
                      <a:pt x="562" y="169"/>
                    </a:lnTo>
                    <a:lnTo>
                      <a:pt x="595" y="201"/>
                    </a:lnTo>
                    <a:lnTo>
                      <a:pt x="626" y="244"/>
                    </a:lnTo>
                    <a:lnTo>
                      <a:pt x="669" y="275"/>
                    </a:lnTo>
                    <a:lnTo>
                      <a:pt x="701" y="308"/>
                    </a:lnTo>
                    <a:lnTo>
                      <a:pt x="732" y="349"/>
                    </a:lnTo>
                    <a:lnTo>
                      <a:pt x="764" y="382"/>
                    </a:lnTo>
                    <a:lnTo>
                      <a:pt x="796" y="414"/>
                    </a:lnTo>
                    <a:lnTo>
                      <a:pt x="837" y="455"/>
                    </a:lnTo>
                    <a:lnTo>
                      <a:pt x="869" y="488"/>
                    </a:lnTo>
                    <a:lnTo>
                      <a:pt x="901" y="519"/>
                    </a:lnTo>
                    <a:lnTo>
                      <a:pt x="934" y="562"/>
                    </a:lnTo>
                    <a:close/>
                  </a:path>
                </a:pathLst>
              </a:custGeom>
              <a:solidFill>
                <a:srgbClr val="2b2c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1738080" y="4987800"/>
                <a:ext cx="3960" cy="62640"/>
              </a:xfrm>
              <a:custGeom>
                <a:avLst/>
                <a:gdLst/>
                <a:ahLst/>
                <a:rect l="l" t="t" r="r" b="b"/>
                <a:pathLst>
                  <a:path w="10" h="159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20"/>
                    </a:lnTo>
                    <a:lnTo>
                      <a:pt x="10" y="32"/>
                    </a:lnTo>
                    <a:lnTo>
                      <a:pt x="10" y="42"/>
                    </a:lnTo>
                    <a:lnTo>
                      <a:pt x="10" y="54"/>
                    </a:lnTo>
                    <a:lnTo>
                      <a:pt x="10" y="63"/>
                    </a:lnTo>
                    <a:lnTo>
                      <a:pt x="10" y="74"/>
                    </a:lnTo>
                    <a:lnTo>
                      <a:pt x="0" y="84"/>
                    </a:lnTo>
                    <a:lnTo>
                      <a:pt x="0" y="95"/>
                    </a:lnTo>
                    <a:lnTo>
                      <a:pt x="0" y="106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47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373760" y="5073840"/>
                <a:ext cx="246960" cy="62640"/>
              </a:xfrm>
              <a:custGeom>
                <a:avLst/>
                <a:gdLst/>
                <a:ahLst/>
                <a:rect l="l" t="t" r="r" b="b"/>
                <a:pathLst>
                  <a:path w="637" h="159">
                    <a:moveTo>
                      <a:pt x="637" y="0"/>
                    </a:moveTo>
                    <a:lnTo>
                      <a:pt x="595" y="0"/>
                    </a:lnTo>
                    <a:lnTo>
                      <a:pt x="552" y="11"/>
                    </a:lnTo>
                    <a:lnTo>
                      <a:pt x="509" y="22"/>
                    </a:lnTo>
                    <a:lnTo>
                      <a:pt x="477" y="22"/>
                    </a:lnTo>
                    <a:lnTo>
                      <a:pt x="435" y="31"/>
                    </a:lnTo>
                    <a:lnTo>
                      <a:pt x="393" y="53"/>
                    </a:lnTo>
                    <a:lnTo>
                      <a:pt x="361" y="64"/>
                    </a:lnTo>
                    <a:lnTo>
                      <a:pt x="318" y="74"/>
                    </a:lnTo>
                    <a:lnTo>
                      <a:pt x="275" y="86"/>
                    </a:lnTo>
                    <a:lnTo>
                      <a:pt x="245" y="95"/>
                    </a:lnTo>
                    <a:lnTo>
                      <a:pt x="202" y="106"/>
                    </a:lnTo>
                    <a:lnTo>
                      <a:pt x="160" y="117"/>
                    </a:lnTo>
                    <a:lnTo>
                      <a:pt x="127" y="127"/>
                    </a:lnTo>
                    <a:lnTo>
                      <a:pt x="85" y="138"/>
                    </a:lnTo>
                    <a:lnTo>
                      <a:pt x="43" y="14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1399320" y="4959720"/>
                <a:ext cx="44280" cy="102600"/>
              </a:xfrm>
              <a:custGeom>
                <a:avLst/>
                <a:gdLst/>
                <a:ahLst/>
                <a:rect l="l" t="t" r="r" b="b"/>
                <a:pathLst>
                  <a:path w="116" h="264">
                    <a:moveTo>
                      <a:pt x="0" y="264"/>
                    </a:moveTo>
                    <a:lnTo>
                      <a:pt x="0" y="243"/>
                    </a:lnTo>
                    <a:lnTo>
                      <a:pt x="11" y="221"/>
                    </a:lnTo>
                    <a:lnTo>
                      <a:pt x="21" y="212"/>
                    </a:lnTo>
                    <a:lnTo>
                      <a:pt x="21" y="191"/>
                    </a:lnTo>
                    <a:lnTo>
                      <a:pt x="32" y="180"/>
                    </a:lnTo>
                    <a:lnTo>
                      <a:pt x="43" y="158"/>
                    </a:lnTo>
                    <a:lnTo>
                      <a:pt x="43" y="137"/>
                    </a:lnTo>
                    <a:lnTo>
                      <a:pt x="53" y="128"/>
                    </a:lnTo>
                    <a:lnTo>
                      <a:pt x="53" y="106"/>
                    </a:lnTo>
                    <a:lnTo>
                      <a:pt x="63" y="94"/>
                    </a:lnTo>
                    <a:lnTo>
                      <a:pt x="75" y="74"/>
                    </a:lnTo>
                    <a:lnTo>
                      <a:pt x="75" y="63"/>
                    </a:lnTo>
                    <a:lnTo>
                      <a:pt x="84" y="42"/>
                    </a:lnTo>
                    <a:lnTo>
                      <a:pt x="96" y="31"/>
                    </a:lnTo>
                    <a:lnTo>
                      <a:pt x="106" y="10"/>
                    </a:lnTo>
                    <a:lnTo>
                      <a:pt x="116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1443600" y="4889880"/>
                <a:ext cx="20880" cy="69840"/>
              </a:xfrm>
              <a:custGeom>
                <a:avLst/>
                <a:gdLst/>
                <a:ahLst/>
                <a:rect l="l" t="t" r="r" b="b"/>
                <a:pathLst>
                  <a:path w="54" h="180">
                    <a:moveTo>
                      <a:pt x="0" y="180"/>
                    </a:moveTo>
                    <a:lnTo>
                      <a:pt x="0" y="169"/>
                    </a:lnTo>
                    <a:lnTo>
                      <a:pt x="0" y="159"/>
                    </a:lnTo>
                    <a:lnTo>
                      <a:pt x="0" y="138"/>
                    </a:lnTo>
                    <a:lnTo>
                      <a:pt x="11" y="127"/>
                    </a:lnTo>
                    <a:lnTo>
                      <a:pt x="11" y="116"/>
                    </a:lnTo>
                    <a:lnTo>
                      <a:pt x="22" y="106"/>
                    </a:lnTo>
                    <a:lnTo>
                      <a:pt x="22" y="95"/>
                    </a:lnTo>
                    <a:lnTo>
                      <a:pt x="22" y="84"/>
                    </a:lnTo>
                    <a:lnTo>
                      <a:pt x="32" y="74"/>
                    </a:lnTo>
                    <a:lnTo>
                      <a:pt x="32" y="63"/>
                    </a:lnTo>
                    <a:lnTo>
                      <a:pt x="43" y="52"/>
                    </a:lnTo>
                    <a:lnTo>
                      <a:pt x="43" y="41"/>
                    </a:lnTo>
                    <a:lnTo>
                      <a:pt x="43" y="31"/>
                    </a:lnTo>
                    <a:lnTo>
                      <a:pt x="54" y="20"/>
                    </a:lnTo>
                    <a:lnTo>
                      <a:pt x="54" y="9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1464840" y="4770720"/>
                <a:ext cx="66960" cy="118800"/>
              </a:xfrm>
              <a:custGeom>
                <a:avLst/>
                <a:gdLst/>
                <a:ahLst/>
                <a:rect l="l" t="t" r="r" b="b"/>
                <a:pathLst>
                  <a:path w="170" h="308">
                    <a:moveTo>
                      <a:pt x="0" y="308"/>
                    </a:moveTo>
                    <a:lnTo>
                      <a:pt x="11" y="286"/>
                    </a:lnTo>
                    <a:lnTo>
                      <a:pt x="20" y="265"/>
                    </a:lnTo>
                    <a:lnTo>
                      <a:pt x="32" y="244"/>
                    </a:lnTo>
                    <a:lnTo>
                      <a:pt x="32" y="222"/>
                    </a:lnTo>
                    <a:lnTo>
                      <a:pt x="41" y="201"/>
                    </a:lnTo>
                    <a:lnTo>
                      <a:pt x="53" y="181"/>
                    </a:lnTo>
                    <a:lnTo>
                      <a:pt x="63" y="159"/>
                    </a:lnTo>
                    <a:lnTo>
                      <a:pt x="63" y="138"/>
                    </a:lnTo>
                    <a:lnTo>
                      <a:pt x="73" y="117"/>
                    </a:lnTo>
                    <a:lnTo>
                      <a:pt x="84" y="95"/>
                    </a:lnTo>
                    <a:lnTo>
                      <a:pt x="95" y="74"/>
                    </a:lnTo>
                    <a:lnTo>
                      <a:pt x="106" y="63"/>
                    </a:lnTo>
                    <a:lnTo>
                      <a:pt x="116" y="42"/>
                    </a:lnTo>
                    <a:lnTo>
                      <a:pt x="127" y="32"/>
                    </a:lnTo>
                    <a:lnTo>
                      <a:pt x="148" y="11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1532160" y="4770720"/>
                <a:ext cx="205920" cy="216720"/>
              </a:xfrm>
              <a:custGeom>
                <a:avLst/>
                <a:gdLst/>
                <a:ahLst/>
                <a:rect l="l" t="t" r="r" b="b"/>
                <a:pathLst>
                  <a:path w="530" h="562">
                    <a:moveTo>
                      <a:pt x="0" y="0"/>
                    </a:moveTo>
                    <a:lnTo>
                      <a:pt x="31" y="32"/>
                    </a:lnTo>
                    <a:lnTo>
                      <a:pt x="64" y="63"/>
                    </a:lnTo>
                    <a:lnTo>
                      <a:pt x="95" y="106"/>
                    </a:lnTo>
                    <a:lnTo>
                      <a:pt x="127" y="138"/>
                    </a:lnTo>
                    <a:lnTo>
                      <a:pt x="158" y="169"/>
                    </a:lnTo>
                    <a:lnTo>
                      <a:pt x="191" y="201"/>
                    </a:lnTo>
                    <a:lnTo>
                      <a:pt x="222" y="244"/>
                    </a:lnTo>
                    <a:lnTo>
                      <a:pt x="265" y="275"/>
                    </a:lnTo>
                    <a:lnTo>
                      <a:pt x="297" y="308"/>
                    </a:lnTo>
                    <a:lnTo>
                      <a:pt x="328" y="349"/>
                    </a:lnTo>
                    <a:lnTo>
                      <a:pt x="360" y="382"/>
                    </a:lnTo>
                    <a:lnTo>
                      <a:pt x="392" y="414"/>
                    </a:lnTo>
                    <a:lnTo>
                      <a:pt x="433" y="455"/>
                    </a:lnTo>
                    <a:lnTo>
                      <a:pt x="465" y="488"/>
                    </a:lnTo>
                    <a:lnTo>
                      <a:pt x="497" y="519"/>
                    </a:lnTo>
                    <a:lnTo>
                      <a:pt x="530" y="562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1389600" y="5078880"/>
                <a:ext cx="549000" cy="135360"/>
              </a:xfrm>
              <a:custGeom>
                <a:avLst/>
                <a:gdLst/>
                <a:ahLst/>
                <a:rect l="l" t="t" r="r" b="b"/>
                <a:pathLst>
                  <a:path w="1410" h="349">
                    <a:moveTo>
                      <a:pt x="1315" y="213"/>
                    </a:moveTo>
                    <a:lnTo>
                      <a:pt x="1325" y="222"/>
                    </a:lnTo>
                    <a:lnTo>
                      <a:pt x="1336" y="222"/>
                    </a:lnTo>
                    <a:lnTo>
                      <a:pt x="1347" y="234"/>
                    </a:lnTo>
                    <a:lnTo>
                      <a:pt x="1356" y="243"/>
                    </a:lnTo>
                    <a:lnTo>
                      <a:pt x="1368" y="243"/>
                    </a:lnTo>
                    <a:lnTo>
                      <a:pt x="1378" y="243"/>
                    </a:lnTo>
                    <a:lnTo>
                      <a:pt x="1378" y="255"/>
                    </a:lnTo>
                    <a:lnTo>
                      <a:pt x="1388" y="255"/>
                    </a:lnTo>
                    <a:lnTo>
                      <a:pt x="1399" y="265"/>
                    </a:lnTo>
                    <a:lnTo>
                      <a:pt x="1399" y="276"/>
                    </a:lnTo>
                    <a:lnTo>
                      <a:pt x="1410" y="276"/>
                    </a:lnTo>
                    <a:lnTo>
                      <a:pt x="1410" y="286"/>
                    </a:lnTo>
                    <a:lnTo>
                      <a:pt x="1410" y="297"/>
                    </a:lnTo>
                    <a:lnTo>
                      <a:pt x="1410" y="308"/>
                    </a:lnTo>
                    <a:lnTo>
                      <a:pt x="1399" y="308"/>
                    </a:lnTo>
                    <a:lnTo>
                      <a:pt x="1399" y="318"/>
                    </a:lnTo>
                    <a:lnTo>
                      <a:pt x="1388" y="318"/>
                    </a:lnTo>
                    <a:lnTo>
                      <a:pt x="1388" y="328"/>
                    </a:lnTo>
                    <a:lnTo>
                      <a:pt x="1356" y="318"/>
                    </a:lnTo>
                    <a:lnTo>
                      <a:pt x="1336" y="308"/>
                    </a:lnTo>
                    <a:lnTo>
                      <a:pt x="1315" y="297"/>
                    </a:lnTo>
                    <a:lnTo>
                      <a:pt x="1283" y="297"/>
                    </a:lnTo>
                    <a:lnTo>
                      <a:pt x="1261" y="297"/>
                    </a:lnTo>
                    <a:lnTo>
                      <a:pt x="1229" y="297"/>
                    </a:lnTo>
                    <a:lnTo>
                      <a:pt x="1208" y="297"/>
                    </a:lnTo>
                    <a:lnTo>
                      <a:pt x="1177" y="297"/>
                    </a:lnTo>
                    <a:lnTo>
                      <a:pt x="1155" y="308"/>
                    </a:lnTo>
                    <a:lnTo>
                      <a:pt x="1134" y="308"/>
                    </a:lnTo>
                    <a:lnTo>
                      <a:pt x="1102" y="308"/>
                    </a:lnTo>
                    <a:lnTo>
                      <a:pt x="1071" y="318"/>
                    </a:lnTo>
                    <a:lnTo>
                      <a:pt x="1050" y="318"/>
                    </a:lnTo>
                    <a:lnTo>
                      <a:pt x="1018" y="328"/>
                    </a:lnTo>
                    <a:lnTo>
                      <a:pt x="996" y="328"/>
                    </a:lnTo>
                    <a:lnTo>
                      <a:pt x="965" y="328"/>
                    </a:lnTo>
                    <a:lnTo>
                      <a:pt x="923" y="340"/>
                    </a:lnTo>
                    <a:lnTo>
                      <a:pt x="869" y="340"/>
                    </a:lnTo>
                    <a:lnTo>
                      <a:pt x="826" y="349"/>
                    </a:lnTo>
                    <a:lnTo>
                      <a:pt x="773" y="349"/>
                    </a:lnTo>
                    <a:lnTo>
                      <a:pt x="721" y="349"/>
                    </a:lnTo>
                    <a:lnTo>
                      <a:pt x="679" y="349"/>
                    </a:lnTo>
                    <a:lnTo>
                      <a:pt x="626" y="349"/>
                    </a:lnTo>
                    <a:lnTo>
                      <a:pt x="583" y="349"/>
                    </a:lnTo>
                    <a:lnTo>
                      <a:pt x="531" y="349"/>
                    </a:lnTo>
                    <a:lnTo>
                      <a:pt x="477" y="349"/>
                    </a:lnTo>
                    <a:lnTo>
                      <a:pt x="434" y="349"/>
                    </a:lnTo>
                    <a:lnTo>
                      <a:pt x="382" y="349"/>
                    </a:lnTo>
                    <a:lnTo>
                      <a:pt x="329" y="349"/>
                    </a:lnTo>
                    <a:lnTo>
                      <a:pt x="286" y="349"/>
                    </a:lnTo>
                    <a:lnTo>
                      <a:pt x="232" y="349"/>
                    </a:lnTo>
                    <a:lnTo>
                      <a:pt x="180" y="349"/>
                    </a:lnTo>
                    <a:lnTo>
                      <a:pt x="169" y="349"/>
                    </a:lnTo>
                    <a:lnTo>
                      <a:pt x="159" y="349"/>
                    </a:lnTo>
                    <a:lnTo>
                      <a:pt x="148" y="349"/>
                    </a:lnTo>
                    <a:lnTo>
                      <a:pt x="137" y="349"/>
                    </a:lnTo>
                    <a:lnTo>
                      <a:pt x="127" y="349"/>
                    </a:lnTo>
                    <a:lnTo>
                      <a:pt x="117" y="349"/>
                    </a:lnTo>
                    <a:lnTo>
                      <a:pt x="105" y="349"/>
                    </a:lnTo>
                    <a:lnTo>
                      <a:pt x="96" y="349"/>
                    </a:lnTo>
                    <a:lnTo>
                      <a:pt x="84" y="349"/>
                    </a:lnTo>
                    <a:lnTo>
                      <a:pt x="74" y="349"/>
                    </a:lnTo>
                    <a:lnTo>
                      <a:pt x="64" y="349"/>
                    </a:lnTo>
                    <a:lnTo>
                      <a:pt x="53" y="349"/>
                    </a:lnTo>
                    <a:lnTo>
                      <a:pt x="53" y="340"/>
                    </a:lnTo>
                    <a:lnTo>
                      <a:pt x="42" y="340"/>
                    </a:lnTo>
                    <a:lnTo>
                      <a:pt x="32" y="328"/>
                    </a:lnTo>
                    <a:lnTo>
                      <a:pt x="32" y="318"/>
                    </a:lnTo>
                    <a:lnTo>
                      <a:pt x="32" y="308"/>
                    </a:lnTo>
                    <a:lnTo>
                      <a:pt x="21" y="297"/>
                    </a:lnTo>
                    <a:lnTo>
                      <a:pt x="21" y="286"/>
                    </a:lnTo>
                    <a:lnTo>
                      <a:pt x="10" y="286"/>
                    </a:lnTo>
                    <a:lnTo>
                      <a:pt x="10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10" y="234"/>
                    </a:lnTo>
                    <a:lnTo>
                      <a:pt x="32" y="222"/>
                    </a:lnTo>
                    <a:lnTo>
                      <a:pt x="42" y="213"/>
                    </a:lnTo>
                    <a:lnTo>
                      <a:pt x="53" y="213"/>
                    </a:lnTo>
                    <a:lnTo>
                      <a:pt x="64" y="213"/>
                    </a:lnTo>
                    <a:lnTo>
                      <a:pt x="84" y="202"/>
                    </a:lnTo>
                    <a:lnTo>
                      <a:pt x="96" y="202"/>
                    </a:lnTo>
                    <a:lnTo>
                      <a:pt x="105" y="191"/>
                    </a:lnTo>
                    <a:lnTo>
                      <a:pt x="127" y="191"/>
                    </a:lnTo>
                    <a:lnTo>
                      <a:pt x="137" y="191"/>
                    </a:lnTo>
                    <a:lnTo>
                      <a:pt x="148" y="181"/>
                    </a:lnTo>
                    <a:lnTo>
                      <a:pt x="169" y="181"/>
                    </a:lnTo>
                    <a:lnTo>
                      <a:pt x="180" y="181"/>
                    </a:lnTo>
                    <a:lnTo>
                      <a:pt x="191" y="170"/>
                    </a:lnTo>
                    <a:lnTo>
                      <a:pt x="211" y="170"/>
                    </a:lnTo>
                    <a:lnTo>
                      <a:pt x="223" y="170"/>
                    </a:lnTo>
                    <a:lnTo>
                      <a:pt x="264" y="159"/>
                    </a:lnTo>
                    <a:lnTo>
                      <a:pt x="307" y="148"/>
                    </a:lnTo>
                    <a:lnTo>
                      <a:pt x="350" y="138"/>
                    </a:lnTo>
                    <a:lnTo>
                      <a:pt x="392" y="116"/>
                    </a:lnTo>
                    <a:lnTo>
                      <a:pt x="434" y="106"/>
                    </a:lnTo>
                    <a:lnTo>
                      <a:pt x="477" y="95"/>
                    </a:lnTo>
                    <a:lnTo>
                      <a:pt x="509" y="84"/>
                    </a:lnTo>
                    <a:lnTo>
                      <a:pt x="552" y="75"/>
                    </a:lnTo>
                    <a:lnTo>
                      <a:pt x="594" y="53"/>
                    </a:lnTo>
                    <a:lnTo>
                      <a:pt x="636" y="42"/>
                    </a:lnTo>
                    <a:lnTo>
                      <a:pt x="679" y="32"/>
                    </a:lnTo>
                    <a:lnTo>
                      <a:pt x="721" y="20"/>
                    </a:lnTo>
                    <a:lnTo>
                      <a:pt x="763" y="11"/>
                    </a:lnTo>
                    <a:lnTo>
                      <a:pt x="806" y="11"/>
                    </a:lnTo>
                    <a:lnTo>
                      <a:pt x="848" y="0"/>
                    </a:lnTo>
                    <a:lnTo>
                      <a:pt x="901" y="0"/>
                    </a:lnTo>
                    <a:lnTo>
                      <a:pt x="923" y="11"/>
                    </a:lnTo>
                    <a:lnTo>
                      <a:pt x="944" y="20"/>
                    </a:lnTo>
                    <a:lnTo>
                      <a:pt x="975" y="42"/>
                    </a:lnTo>
                    <a:lnTo>
                      <a:pt x="996" y="53"/>
                    </a:lnTo>
                    <a:lnTo>
                      <a:pt x="1028" y="75"/>
                    </a:lnTo>
                    <a:lnTo>
                      <a:pt x="1050" y="84"/>
                    </a:lnTo>
                    <a:lnTo>
                      <a:pt x="1071" y="106"/>
                    </a:lnTo>
                    <a:lnTo>
                      <a:pt x="1102" y="116"/>
                    </a:lnTo>
                    <a:lnTo>
                      <a:pt x="1123" y="127"/>
                    </a:lnTo>
                    <a:lnTo>
                      <a:pt x="1155" y="148"/>
                    </a:lnTo>
                    <a:lnTo>
                      <a:pt x="1177" y="159"/>
                    </a:lnTo>
                    <a:lnTo>
                      <a:pt x="1198" y="170"/>
                    </a:lnTo>
                    <a:lnTo>
                      <a:pt x="1229" y="181"/>
                    </a:lnTo>
                    <a:lnTo>
                      <a:pt x="1261" y="191"/>
                    </a:lnTo>
                    <a:lnTo>
                      <a:pt x="1283" y="202"/>
                    </a:lnTo>
                    <a:lnTo>
                      <a:pt x="1315" y="21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1478520" y="5078880"/>
                <a:ext cx="263520" cy="65520"/>
              </a:xfrm>
              <a:custGeom>
                <a:avLst/>
                <a:gdLst/>
                <a:ahLst/>
                <a:rect l="l" t="t" r="r" b="b"/>
                <a:pathLst>
                  <a:path w="678" h="170">
                    <a:moveTo>
                      <a:pt x="0" y="170"/>
                    </a:moveTo>
                    <a:lnTo>
                      <a:pt x="41" y="159"/>
                    </a:lnTo>
                    <a:lnTo>
                      <a:pt x="84" y="148"/>
                    </a:lnTo>
                    <a:lnTo>
                      <a:pt x="127" y="138"/>
                    </a:lnTo>
                    <a:lnTo>
                      <a:pt x="169" y="116"/>
                    </a:lnTo>
                    <a:lnTo>
                      <a:pt x="211" y="106"/>
                    </a:lnTo>
                    <a:lnTo>
                      <a:pt x="254" y="95"/>
                    </a:lnTo>
                    <a:lnTo>
                      <a:pt x="286" y="84"/>
                    </a:lnTo>
                    <a:lnTo>
                      <a:pt x="329" y="75"/>
                    </a:lnTo>
                    <a:lnTo>
                      <a:pt x="371" y="53"/>
                    </a:lnTo>
                    <a:lnTo>
                      <a:pt x="413" y="42"/>
                    </a:lnTo>
                    <a:lnTo>
                      <a:pt x="456" y="32"/>
                    </a:lnTo>
                    <a:lnTo>
                      <a:pt x="498" y="20"/>
                    </a:lnTo>
                    <a:lnTo>
                      <a:pt x="540" y="11"/>
                    </a:lnTo>
                    <a:lnTo>
                      <a:pt x="583" y="11"/>
                    </a:lnTo>
                    <a:lnTo>
                      <a:pt x="625" y="0"/>
                    </a:lnTo>
                    <a:lnTo>
                      <a:pt x="678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1742400" y="5078880"/>
                <a:ext cx="161280" cy="81360"/>
              </a:xfrm>
              <a:custGeom>
                <a:avLst/>
                <a:gdLst/>
                <a:ahLst/>
                <a:rect l="l" t="t" r="r" b="b"/>
                <a:pathLst>
                  <a:path w="414" h="213">
                    <a:moveTo>
                      <a:pt x="0" y="0"/>
                    </a:moveTo>
                    <a:lnTo>
                      <a:pt x="22" y="11"/>
                    </a:lnTo>
                    <a:lnTo>
                      <a:pt x="43" y="20"/>
                    </a:lnTo>
                    <a:lnTo>
                      <a:pt x="74" y="42"/>
                    </a:lnTo>
                    <a:lnTo>
                      <a:pt x="95" y="53"/>
                    </a:lnTo>
                    <a:lnTo>
                      <a:pt x="127" y="75"/>
                    </a:lnTo>
                    <a:lnTo>
                      <a:pt x="149" y="84"/>
                    </a:lnTo>
                    <a:lnTo>
                      <a:pt x="170" y="106"/>
                    </a:lnTo>
                    <a:lnTo>
                      <a:pt x="201" y="116"/>
                    </a:lnTo>
                    <a:lnTo>
                      <a:pt x="222" y="127"/>
                    </a:lnTo>
                    <a:lnTo>
                      <a:pt x="254" y="148"/>
                    </a:lnTo>
                    <a:lnTo>
                      <a:pt x="276" y="159"/>
                    </a:lnTo>
                    <a:lnTo>
                      <a:pt x="297" y="170"/>
                    </a:lnTo>
                    <a:lnTo>
                      <a:pt x="328" y="181"/>
                    </a:lnTo>
                    <a:lnTo>
                      <a:pt x="360" y="191"/>
                    </a:lnTo>
                    <a:lnTo>
                      <a:pt x="382" y="202"/>
                    </a:lnTo>
                    <a:lnTo>
                      <a:pt x="414" y="213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1410840" y="5099760"/>
                <a:ext cx="478440" cy="102600"/>
              </a:xfrm>
              <a:custGeom>
                <a:avLst/>
                <a:gdLst/>
                <a:ahLst/>
                <a:rect l="l" t="t" r="r" b="b"/>
                <a:pathLst>
                  <a:path w="1230" h="265">
                    <a:moveTo>
                      <a:pt x="1039" y="128"/>
                    </a:moveTo>
                    <a:lnTo>
                      <a:pt x="1049" y="128"/>
                    </a:lnTo>
                    <a:lnTo>
                      <a:pt x="1061" y="138"/>
                    </a:lnTo>
                    <a:lnTo>
                      <a:pt x="1070" y="149"/>
                    </a:lnTo>
                    <a:lnTo>
                      <a:pt x="1081" y="149"/>
                    </a:lnTo>
                    <a:lnTo>
                      <a:pt x="1092" y="160"/>
                    </a:lnTo>
                    <a:lnTo>
                      <a:pt x="1113" y="160"/>
                    </a:lnTo>
                    <a:lnTo>
                      <a:pt x="1124" y="169"/>
                    </a:lnTo>
                    <a:lnTo>
                      <a:pt x="1134" y="169"/>
                    </a:lnTo>
                    <a:lnTo>
                      <a:pt x="1145" y="169"/>
                    </a:lnTo>
                    <a:lnTo>
                      <a:pt x="1155" y="181"/>
                    </a:lnTo>
                    <a:lnTo>
                      <a:pt x="1167" y="181"/>
                    </a:lnTo>
                    <a:lnTo>
                      <a:pt x="1188" y="190"/>
                    </a:lnTo>
                    <a:lnTo>
                      <a:pt x="1197" y="190"/>
                    </a:lnTo>
                    <a:lnTo>
                      <a:pt x="1208" y="202"/>
                    </a:lnTo>
                    <a:lnTo>
                      <a:pt x="1219" y="202"/>
                    </a:lnTo>
                    <a:lnTo>
                      <a:pt x="1230" y="212"/>
                    </a:lnTo>
                    <a:lnTo>
                      <a:pt x="1167" y="223"/>
                    </a:lnTo>
                    <a:lnTo>
                      <a:pt x="1092" y="233"/>
                    </a:lnTo>
                    <a:lnTo>
                      <a:pt x="1018" y="244"/>
                    </a:lnTo>
                    <a:lnTo>
                      <a:pt x="943" y="255"/>
                    </a:lnTo>
                    <a:lnTo>
                      <a:pt x="870" y="255"/>
                    </a:lnTo>
                    <a:lnTo>
                      <a:pt x="795" y="265"/>
                    </a:lnTo>
                    <a:lnTo>
                      <a:pt x="720" y="265"/>
                    </a:lnTo>
                    <a:lnTo>
                      <a:pt x="646" y="265"/>
                    </a:lnTo>
                    <a:lnTo>
                      <a:pt x="562" y="265"/>
                    </a:lnTo>
                    <a:lnTo>
                      <a:pt x="487" y="265"/>
                    </a:lnTo>
                    <a:lnTo>
                      <a:pt x="413" y="265"/>
                    </a:lnTo>
                    <a:lnTo>
                      <a:pt x="339" y="265"/>
                    </a:lnTo>
                    <a:lnTo>
                      <a:pt x="254" y="265"/>
                    </a:lnTo>
                    <a:lnTo>
                      <a:pt x="179" y="255"/>
                    </a:lnTo>
                    <a:lnTo>
                      <a:pt x="106" y="255"/>
                    </a:lnTo>
                    <a:lnTo>
                      <a:pt x="31" y="255"/>
                    </a:lnTo>
                    <a:lnTo>
                      <a:pt x="31" y="244"/>
                    </a:lnTo>
                    <a:lnTo>
                      <a:pt x="31" y="233"/>
                    </a:lnTo>
                    <a:lnTo>
                      <a:pt x="21" y="233"/>
                    </a:lnTo>
                    <a:lnTo>
                      <a:pt x="21" y="223"/>
                    </a:lnTo>
                    <a:lnTo>
                      <a:pt x="11" y="223"/>
                    </a:lnTo>
                    <a:lnTo>
                      <a:pt x="11" y="212"/>
                    </a:lnTo>
                    <a:lnTo>
                      <a:pt x="0" y="202"/>
                    </a:lnTo>
                    <a:lnTo>
                      <a:pt x="0" y="190"/>
                    </a:ln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  <a:lnTo>
                      <a:pt x="720" y="0"/>
                    </a:lnTo>
                    <a:lnTo>
                      <a:pt x="732" y="0"/>
                    </a:lnTo>
                    <a:lnTo>
                      <a:pt x="741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3" y="0"/>
                    </a:lnTo>
                    <a:lnTo>
                      <a:pt x="784" y="0"/>
                    </a:lnTo>
                    <a:lnTo>
                      <a:pt x="795" y="0"/>
                    </a:lnTo>
                    <a:lnTo>
                      <a:pt x="805" y="0"/>
                    </a:lnTo>
                    <a:lnTo>
                      <a:pt x="816" y="0"/>
                    </a:lnTo>
                    <a:lnTo>
                      <a:pt x="827" y="0"/>
                    </a:lnTo>
                    <a:lnTo>
                      <a:pt x="838" y="0"/>
                    </a:lnTo>
                    <a:lnTo>
                      <a:pt x="848" y="10"/>
                    </a:lnTo>
                    <a:lnTo>
                      <a:pt x="859" y="22"/>
                    </a:lnTo>
                    <a:lnTo>
                      <a:pt x="870" y="31"/>
                    </a:lnTo>
                    <a:lnTo>
                      <a:pt x="880" y="31"/>
                    </a:lnTo>
                    <a:lnTo>
                      <a:pt x="891" y="42"/>
                    </a:lnTo>
                    <a:lnTo>
                      <a:pt x="912" y="53"/>
                    </a:lnTo>
                    <a:lnTo>
                      <a:pt x="922" y="63"/>
                    </a:lnTo>
                    <a:lnTo>
                      <a:pt x="934" y="63"/>
                    </a:lnTo>
                    <a:lnTo>
                      <a:pt x="943" y="74"/>
                    </a:lnTo>
                    <a:lnTo>
                      <a:pt x="954" y="85"/>
                    </a:lnTo>
                    <a:lnTo>
                      <a:pt x="975" y="85"/>
                    </a:lnTo>
                    <a:lnTo>
                      <a:pt x="986" y="95"/>
                    </a:lnTo>
                    <a:lnTo>
                      <a:pt x="997" y="106"/>
                    </a:lnTo>
                    <a:lnTo>
                      <a:pt x="1007" y="106"/>
                    </a:lnTo>
                    <a:lnTo>
                      <a:pt x="1018" y="117"/>
                    </a:lnTo>
                    <a:lnTo>
                      <a:pt x="1039" y="128"/>
                    </a:lnTo>
                    <a:close/>
                  </a:path>
                </a:pathLst>
              </a:custGeom>
              <a:solidFill>
                <a:srgbClr val="aa2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1410840" y="5099760"/>
                <a:ext cx="277920" cy="74520"/>
              </a:xfrm>
              <a:custGeom>
                <a:avLst/>
                <a:gdLst/>
                <a:ahLst/>
                <a:rect l="l" t="t" r="r" b="b"/>
                <a:pathLst>
                  <a:path w="710" h="190">
                    <a:moveTo>
                      <a:pt x="0" y="190"/>
                    </a:moveTo>
                    <a:lnTo>
                      <a:pt x="43" y="181"/>
                    </a:lnTo>
                    <a:lnTo>
                      <a:pt x="84" y="169"/>
                    </a:lnTo>
                    <a:lnTo>
                      <a:pt x="138" y="160"/>
                    </a:lnTo>
                    <a:lnTo>
                      <a:pt x="179" y="149"/>
                    </a:lnTo>
                    <a:lnTo>
                      <a:pt x="222" y="138"/>
                    </a:lnTo>
                    <a:lnTo>
                      <a:pt x="265" y="117"/>
                    </a:lnTo>
                    <a:lnTo>
                      <a:pt x="308" y="106"/>
                    </a:lnTo>
                    <a:lnTo>
                      <a:pt x="360" y="95"/>
                    </a:lnTo>
                    <a:lnTo>
                      <a:pt x="403" y="85"/>
                    </a:lnTo>
                    <a:lnTo>
                      <a:pt x="446" y="74"/>
                    </a:lnTo>
                    <a:lnTo>
                      <a:pt x="487" y="63"/>
                    </a:lnTo>
                    <a:lnTo>
                      <a:pt x="530" y="42"/>
                    </a:lnTo>
                    <a:lnTo>
                      <a:pt x="573" y="31"/>
                    </a:lnTo>
                    <a:lnTo>
                      <a:pt x="626" y="22"/>
                    </a:lnTo>
                    <a:lnTo>
                      <a:pt x="668" y="10"/>
                    </a:lnTo>
                    <a:lnTo>
                      <a:pt x="710" y="0"/>
                    </a:lnTo>
                  </a:path>
                </a:pathLst>
              </a:cu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2" name=""/>
          <p:cNvSpPr/>
          <p:nvPr/>
        </p:nvSpPr>
        <p:spPr>
          <a:xfrm>
            <a:off x="2896200" y="941400"/>
            <a:ext cx="3665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LEARN TO 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2187720" y="2516040"/>
            <a:ext cx="505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1f1a17"/>
                </a:solidFill>
                <a:latin typeface="Geometr231 Hv BT"/>
              </a:rPr>
              <a:t>BEFORE MARRIAGE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2818080" y="1600200"/>
            <a:ext cx="388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02444"/>
                </a:solidFill>
                <a:latin typeface="Geometr231 Hv BT"/>
              </a:rPr>
              <a:t>NO TO SE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5" name=""/>
          <p:cNvGrpSpPr/>
          <p:nvPr/>
        </p:nvGrpSpPr>
        <p:grpSpPr>
          <a:xfrm>
            <a:off x="2684520" y="3327480"/>
            <a:ext cx="3773520" cy="2457360"/>
            <a:chOff x="2684520" y="3327480"/>
            <a:chExt cx="3773520" cy="2457360"/>
          </a:xfrm>
        </p:grpSpPr>
        <p:sp>
          <p:nvSpPr>
            <p:cNvPr id="7346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684520" y="3327480"/>
              <a:ext cx="3773520" cy="2457360"/>
            </a:xfrm>
            <a:custGeom>
              <a:avLst/>
              <a:gdLst/>
              <a:ahLst/>
              <a:rect l="l" t="t" r="r" b="b"/>
              <a:pathLst>
                <a:path w="14258" h="9282">
                  <a:moveTo>
                    <a:pt x="14086" y="2517"/>
                  </a:moveTo>
                  <a:lnTo>
                    <a:pt x="12454" y="3340"/>
                  </a:lnTo>
                  <a:lnTo>
                    <a:pt x="14258" y="3766"/>
                  </a:lnTo>
                  <a:lnTo>
                    <a:pt x="12315" y="4183"/>
                  </a:lnTo>
                  <a:lnTo>
                    <a:pt x="13588" y="4857"/>
                  </a:lnTo>
                  <a:lnTo>
                    <a:pt x="11448" y="5120"/>
                  </a:lnTo>
                  <a:lnTo>
                    <a:pt x="12750" y="6091"/>
                  </a:lnTo>
                  <a:lnTo>
                    <a:pt x="10552" y="6085"/>
                  </a:lnTo>
                  <a:lnTo>
                    <a:pt x="11626" y="7199"/>
                  </a:lnTo>
                  <a:lnTo>
                    <a:pt x="9688" y="7027"/>
                  </a:lnTo>
                  <a:lnTo>
                    <a:pt x="9878" y="8156"/>
                  </a:lnTo>
                  <a:lnTo>
                    <a:pt x="8612" y="7479"/>
                  </a:lnTo>
                  <a:lnTo>
                    <a:pt x="8379" y="8705"/>
                  </a:lnTo>
                  <a:lnTo>
                    <a:pt x="7494" y="7821"/>
                  </a:lnTo>
                  <a:lnTo>
                    <a:pt x="6823" y="9090"/>
                  </a:lnTo>
                  <a:lnTo>
                    <a:pt x="6292" y="8065"/>
                  </a:lnTo>
                  <a:lnTo>
                    <a:pt x="4811" y="9282"/>
                  </a:lnTo>
                  <a:lnTo>
                    <a:pt x="5048" y="7768"/>
                  </a:lnTo>
                  <a:lnTo>
                    <a:pt x="3237" y="8999"/>
                  </a:lnTo>
                  <a:lnTo>
                    <a:pt x="3801" y="7458"/>
                  </a:lnTo>
                  <a:lnTo>
                    <a:pt x="1903" y="8429"/>
                  </a:lnTo>
                  <a:lnTo>
                    <a:pt x="2580" y="7157"/>
                  </a:lnTo>
                  <a:lnTo>
                    <a:pt x="736" y="7899"/>
                  </a:lnTo>
                  <a:lnTo>
                    <a:pt x="1936" y="6554"/>
                  </a:lnTo>
                  <a:lnTo>
                    <a:pt x="180" y="6768"/>
                  </a:lnTo>
                  <a:lnTo>
                    <a:pt x="1752" y="5951"/>
                  </a:lnTo>
                  <a:lnTo>
                    <a:pt x="0" y="5491"/>
                  </a:lnTo>
                  <a:lnTo>
                    <a:pt x="1944" y="5079"/>
                  </a:lnTo>
                  <a:lnTo>
                    <a:pt x="675" y="4415"/>
                  </a:lnTo>
                  <a:lnTo>
                    <a:pt x="2792" y="4160"/>
                  </a:lnTo>
                  <a:lnTo>
                    <a:pt x="1463" y="3197"/>
                  </a:lnTo>
                  <a:lnTo>
                    <a:pt x="3659" y="3222"/>
                  </a:lnTo>
                  <a:lnTo>
                    <a:pt x="2609" y="2083"/>
                  </a:lnTo>
                  <a:lnTo>
                    <a:pt x="4517" y="2264"/>
                  </a:lnTo>
                  <a:lnTo>
                    <a:pt x="4389" y="1130"/>
                  </a:lnTo>
                  <a:lnTo>
                    <a:pt x="5656" y="1811"/>
                  </a:lnTo>
                  <a:lnTo>
                    <a:pt x="5896" y="583"/>
                  </a:lnTo>
                  <a:lnTo>
                    <a:pt x="6774" y="1469"/>
                  </a:lnTo>
                  <a:lnTo>
                    <a:pt x="7443" y="196"/>
                  </a:lnTo>
                  <a:lnTo>
                    <a:pt x="7914" y="1225"/>
                  </a:lnTo>
                  <a:lnTo>
                    <a:pt x="9423" y="0"/>
                  </a:lnTo>
                  <a:lnTo>
                    <a:pt x="9163" y="1540"/>
                  </a:lnTo>
                  <a:lnTo>
                    <a:pt x="10976" y="290"/>
                  </a:lnTo>
                  <a:lnTo>
                    <a:pt x="10440" y="1822"/>
                  </a:lnTo>
                  <a:lnTo>
                    <a:pt x="12361" y="844"/>
                  </a:lnTo>
                  <a:lnTo>
                    <a:pt x="11679" y="2103"/>
                  </a:lnTo>
                  <a:lnTo>
                    <a:pt x="13522" y="1358"/>
                  </a:lnTo>
                  <a:lnTo>
                    <a:pt x="12270" y="2736"/>
                  </a:lnTo>
                  <a:lnTo>
                    <a:pt x="14086" y="2517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>
              <a:off x="3598920" y="3886200"/>
              <a:ext cx="2011320" cy="1324080"/>
            </a:xfrm>
            <a:custGeom>
              <a:avLst/>
              <a:gdLst/>
              <a:ahLst/>
              <a:rect l="l" t="t" r="r" b="b"/>
              <a:pathLst>
                <a:path w="7602" h="5009">
                  <a:moveTo>
                    <a:pt x="904" y="5009"/>
                  </a:moveTo>
                  <a:lnTo>
                    <a:pt x="848" y="4823"/>
                  </a:lnTo>
                  <a:lnTo>
                    <a:pt x="791" y="4639"/>
                  </a:lnTo>
                  <a:lnTo>
                    <a:pt x="735" y="4454"/>
                  </a:lnTo>
                  <a:lnTo>
                    <a:pt x="678" y="4268"/>
                  </a:lnTo>
                  <a:lnTo>
                    <a:pt x="622" y="4084"/>
                  </a:lnTo>
                  <a:lnTo>
                    <a:pt x="565" y="3898"/>
                  </a:lnTo>
                  <a:lnTo>
                    <a:pt x="509" y="3713"/>
                  </a:lnTo>
                  <a:lnTo>
                    <a:pt x="453" y="3528"/>
                  </a:lnTo>
                  <a:lnTo>
                    <a:pt x="396" y="3342"/>
                  </a:lnTo>
                  <a:lnTo>
                    <a:pt x="340" y="3158"/>
                  </a:lnTo>
                  <a:lnTo>
                    <a:pt x="283" y="2973"/>
                  </a:lnTo>
                  <a:lnTo>
                    <a:pt x="226" y="2787"/>
                  </a:lnTo>
                  <a:lnTo>
                    <a:pt x="169" y="2602"/>
                  </a:lnTo>
                  <a:lnTo>
                    <a:pt x="113" y="2416"/>
                  </a:lnTo>
                  <a:lnTo>
                    <a:pt x="56" y="2232"/>
                  </a:lnTo>
                  <a:lnTo>
                    <a:pt x="0" y="2047"/>
                  </a:lnTo>
                  <a:lnTo>
                    <a:pt x="41" y="2034"/>
                  </a:lnTo>
                  <a:lnTo>
                    <a:pt x="84" y="2021"/>
                  </a:lnTo>
                  <a:lnTo>
                    <a:pt x="125" y="2009"/>
                  </a:lnTo>
                  <a:lnTo>
                    <a:pt x="168" y="1995"/>
                  </a:lnTo>
                  <a:lnTo>
                    <a:pt x="209" y="1982"/>
                  </a:lnTo>
                  <a:lnTo>
                    <a:pt x="251" y="1969"/>
                  </a:lnTo>
                  <a:lnTo>
                    <a:pt x="294" y="1957"/>
                  </a:lnTo>
                  <a:lnTo>
                    <a:pt x="335" y="1944"/>
                  </a:lnTo>
                  <a:lnTo>
                    <a:pt x="430" y="2004"/>
                  </a:lnTo>
                  <a:lnTo>
                    <a:pt x="523" y="2064"/>
                  </a:lnTo>
                  <a:lnTo>
                    <a:pt x="616" y="2124"/>
                  </a:lnTo>
                  <a:lnTo>
                    <a:pt x="709" y="2184"/>
                  </a:lnTo>
                  <a:lnTo>
                    <a:pt x="804" y="2245"/>
                  </a:lnTo>
                  <a:lnTo>
                    <a:pt x="897" y="2305"/>
                  </a:lnTo>
                  <a:lnTo>
                    <a:pt x="991" y="2364"/>
                  </a:lnTo>
                  <a:lnTo>
                    <a:pt x="1084" y="2424"/>
                  </a:lnTo>
                  <a:lnTo>
                    <a:pt x="1178" y="2484"/>
                  </a:lnTo>
                  <a:lnTo>
                    <a:pt x="1272" y="2544"/>
                  </a:lnTo>
                  <a:lnTo>
                    <a:pt x="1365" y="2604"/>
                  </a:lnTo>
                  <a:lnTo>
                    <a:pt x="1459" y="2664"/>
                  </a:lnTo>
                  <a:lnTo>
                    <a:pt x="1553" y="2724"/>
                  </a:lnTo>
                  <a:lnTo>
                    <a:pt x="1647" y="2784"/>
                  </a:lnTo>
                  <a:lnTo>
                    <a:pt x="1740" y="2844"/>
                  </a:lnTo>
                  <a:lnTo>
                    <a:pt x="1835" y="2903"/>
                  </a:lnTo>
                  <a:lnTo>
                    <a:pt x="1810" y="2823"/>
                  </a:lnTo>
                  <a:lnTo>
                    <a:pt x="1785" y="2741"/>
                  </a:lnTo>
                  <a:lnTo>
                    <a:pt x="1760" y="2660"/>
                  </a:lnTo>
                  <a:lnTo>
                    <a:pt x="1736" y="2580"/>
                  </a:lnTo>
                  <a:lnTo>
                    <a:pt x="1711" y="2498"/>
                  </a:lnTo>
                  <a:lnTo>
                    <a:pt x="1686" y="2417"/>
                  </a:lnTo>
                  <a:lnTo>
                    <a:pt x="1662" y="2337"/>
                  </a:lnTo>
                  <a:lnTo>
                    <a:pt x="1637" y="2255"/>
                  </a:lnTo>
                  <a:lnTo>
                    <a:pt x="1613" y="2174"/>
                  </a:lnTo>
                  <a:lnTo>
                    <a:pt x="1587" y="2093"/>
                  </a:lnTo>
                  <a:lnTo>
                    <a:pt x="1563" y="2012"/>
                  </a:lnTo>
                  <a:lnTo>
                    <a:pt x="1538" y="1931"/>
                  </a:lnTo>
                  <a:lnTo>
                    <a:pt x="1514" y="1850"/>
                  </a:lnTo>
                  <a:lnTo>
                    <a:pt x="1488" y="1769"/>
                  </a:lnTo>
                  <a:lnTo>
                    <a:pt x="1464" y="1687"/>
                  </a:lnTo>
                  <a:lnTo>
                    <a:pt x="1439" y="1607"/>
                  </a:lnTo>
                  <a:lnTo>
                    <a:pt x="1534" y="1578"/>
                  </a:lnTo>
                  <a:lnTo>
                    <a:pt x="1630" y="1549"/>
                  </a:lnTo>
                  <a:lnTo>
                    <a:pt x="1724" y="1519"/>
                  </a:lnTo>
                  <a:lnTo>
                    <a:pt x="1820" y="1490"/>
                  </a:lnTo>
                  <a:lnTo>
                    <a:pt x="1916" y="1462"/>
                  </a:lnTo>
                  <a:lnTo>
                    <a:pt x="2011" y="1432"/>
                  </a:lnTo>
                  <a:lnTo>
                    <a:pt x="2107" y="1403"/>
                  </a:lnTo>
                  <a:lnTo>
                    <a:pt x="2204" y="1373"/>
                  </a:lnTo>
                  <a:lnTo>
                    <a:pt x="2260" y="1558"/>
                  </a:lnTo>
                  <a:lnTo>
                    <a:pt x="2316" y="1744"/>
                  </a:lnTo>
                  <a:lnTo>
                    <a:pt x="2373" y="1929"/>
                  </a:lnTo>
                  <a:lnTo>
                    <a:pt x="2429" y="2113"/>
                  </a:lnTo>
                  <a:lnTo>
                    <a:pt x="2486" y="2299"/>
                  </a:lnTo>
                  <a:lnTo>
                    <a:pt x="2542" y="2484"/>
                  </a:lnTo>
                  <a:lnTo>
                    <a:pt x="2599" y="2670"/>
                  </a:lnTo>
                  <a:lnTo>
                    <a:pt x="2655" y="2854"/>
                  </a:lnTo>
                  <a:lnTo>
                    <a:pt x="2712" y="3039"/>
                  </a:lnTo>
                  <a:lnTo>
                    <a:pt x="2768" y="3225"/>
                  </a:lnTo>
                  <a:lnTo>
                    <a:pt x="2825" y="3410"/>
                  </a:lnTo>
                  <a:lnTo>
                    <a:pt x="2881" y="3594"/>
                  </a:lnTo>
                  <a:lnTo>
                    <a:pt x="2937" y="3780"/>
                  </a:lnTo>
                  <a:lnTo>
                    <a:pt x="2994" y="3965"/>
                  </a:lnTo>
                  <a:lnTo>
                    <a:pt x="3050" y="4150"/>
                  </a:lnTo>
                  <a:lnTo>
                    <a:pt x="3108" y="4335"/>
                  </a:lnTo>
                  <a:lnTo>
                    <a:pt x="3064" y="4349"/>
                  </a:lnTo>
                  <a:lnTo>
                    <a:pt x="3020" y="4361"/>
                  </a:lnTo>
                  <a:lnTo>
                    <a:pt x="2977" y="4375"/>
                  </a:lnTo>
                  <a:lnTo>
                    <a:pt x="2933" y="4388"/>
                  </a:lnTo>
                  <a:lnTo>
                    <a:pt x="2889" y="4402"/>
                  </a:lnTo>
                  <a:lnTo>
                    <a:pt x="2846" y="4414"/>
                  </a:lnTo>
                  <a:lnTo>
                    <a:pt x="2803" y="4428"/>
                  </a:lnTo>
                  <a:lnTo>
                    <a:pt x="2759" y="4441"/>
                  </a:lnTo>
                  <a:lnTo>
                    <a:pt x="2667" y="4382"/>
                  </a:lnTo>
                  <a:lnTo>
                    <a:pt x="2573" y="4322"/>
                  </a:lnTo>
                  <a:lnTo>
                    <a:pt x="2481" y="4264"/>
                  </a:lnTo>
                  <a:lnTo>
                    <a:pt x="2389" y="4204"/>
                  </a:lnTo>
                  <a:lnTo>
                    <a:pt x="2297" y="4145"/>
                  </a:lnTo>
                  <a:lnTo>
                    <a:pt x="2204" y="4085"/>
                  </a:lnTo>
                  <a:lnTo>
                    <a:pt x="2111" y="4025"/>
                  </a:lnTo>
                  <a:lnTo>
                    <a:pt x="2019" y="3966"/>
                  </a:lnTo>
                  <a:lnTo>
                    <a:pt x="1926" y="3907"/>
                  </a:lnTo>
                  <a:lnTo>
                    <a:pt x="1834" y="3848"/>
                  </a:lnTo>
                  <a:lnTo>
                    <a:pt x="1742" y="3788"/>
                  </a:lnTo>
                  <a:lnTo>
                    <a:pt x="1648" y="3728"/>
                  </a:lnTo>
                  <a:lnTo>
                    <a:pt x="1556" y="3668"/>
                  </a:lnTo>
                  <a:lnTo>
                    <a:pt x="1463" y="3609"/>
                  </a:lnTo>
                  <a:lnTo>
                    <a:pt x="1371" y="3550"/>
                  </a:lnTo>
                  <a:lnTo>
                    <a:pt x="1279" y="3490"/>
                  </a:lnTo>
                  <a:lnTo>
                    <a:pt x="1303" y="3570"/>
                  </a:lnTo>
                  <a:lnTo>
                    <a:pt x="1327" y="3651"/>
                  </a:lnTo>
                  <a:lnTo>
                    <a:pt x="1352" y="3731"/>
                  </a:lnTo>
                  <a:lnTo>
                    <a:pt x="1376" y="3811"/>
                  </a:lnTo>
                  <a:lnTo>
                    <a:pt x="1401" y="3892"/>
                  </a:lnTo>
                  <a:lnTo>
                    <a:pt x="1426" y="3972"/>
                  </a:lnTo>
                  <a:lnTo>
                    <a:pt x="1450" y="4053"/>
                  </a:lnTo>
                  <a:lnTo>
                    <a:pt x="1474" y="4132"/>
                  </a:lnTo>
                  <a:lnTo>
                    <a:pt x="1499" y="4213"/>
                  </a:lnTo>
                  <a:lnTo>
                    <a:pt x="1524" y="4293"/>
                  </a:lnTo>
                  <a:lnTo>
                    <a:pt x="1548" y="4373"/>
                  </a:lnTo>
                  <a:lnTo>
                    <a:pt x="1572" y="4454"/>
                  </a:lnTo>
                  <a:lnTo>
                    <a:pt x="1596" y="4534"/>
                  </a:lnTo>
                  <a:lnTo>
                    <a:pt x="1621" y="4614"/>
                  </a:lnTo>
                  <a:lnTo>
                    <a:pt x="1646" y="4694"/>
                  </a:lnTo>
                  <a:lnTo>
                    <a:pt x="1670" y="4775"/>
                  </a:lnTo>
                  <a:lnTo>
                    <a:pt x="1575" y="4804"/>
                  </a:lnTo>
                  <a:lnTo>
                    <a:pt x="1478" y="4834"/>
                  </a:lnTo>
                  <a:lnTo>
                    <a:pt x="1382" y="4862"/>
                  </a:lnTo>
                  <a:lnTo>
                    <a:pt x="1287" y="4891"/>
                  </a:lnTo>
                  <a:lnTo>
                    <a:pt x="1191" y="4921"/>
                  </a:lnTo>
                  <a:lnTo>
                    <a:pt x="1095" y="4950"/>
                  </a:lnTo>
                  <a:lnTo>
                    <a:pt x="1000" y="4980"/>
                  </a:lnTo>
                  <a:lnTo>
                    <a:pt x="904" y="5009"/>
                  </a:lnTo>
                  <a:close/>
                  <a:moveTo>
                    <a:pt x="4297" y="1548"/>
                  </a:moveTo>
                  <a:lnTo>
                    <a:pt x="4260" y="1559"/>
                  </a:lnTo>
                  <a:lnTo>
                    <a:pt x="4224" y="1573"/>
                  </a:lnTo>
                  <a:lnTo>
                    <a:pt x="4190" y="1588"/>
                  </a:lnTo>
                  <a:lnTo>
                    <a:pt x="4156" y="1604"/>
                  </a:lnTo>
                  <a:lnTo>
                    <a:pt x="4125" y="1623"/>
                  </a:lnTo>
                  <a:lnTo>
                    <a:pt x="4094" y="1641"/>
                  </a:lnTo>
                  <a:lnTo>
                    <a:pt x="4065" y="1662"/>
                  </a:lnTo>
                  <a:lnTo>
                    <a:pt x="4038" y="1684"/>
                  </a:lnTo>
                  <a:lnTo>
                    <a:pt x="4011" y="1708"/>
                  </a:lnTo>
                  <a:lnTo>
                    <a:pt x="3985" y="1732"/>
                  </a:lnTo>
                  <a:lnTo>
                    <a:pt x="3960" y="1759"/>
                  </a:lnTo>
                  <a:lnTo>
                    <a:pt x="3939" y="1786"/>
                  </a:lnTo>
                  <a:lnTo>
                    <a:pt x="3917" y="1816"/>
                  </a:lnTo>
                  <a:lnTo>
                    <a:pt x="3896" y="1846"/>
                  </a:lnTo>
                  <a:lnTo>
                    <a:pt x="3876" y="1878"/>
                  </a:lnTo>
                  <a:lnTo>
                    <a:pt x="3859" y="1912"/>
                  </a:lnTo>
                  <a:lnTo>
                    <a:pt x="3843" y="1946"/>
                  </a:lnTo>
                  <a:lnTo>
                    <a:pt x="3828" y="1981"/>
                  </a:lnTo>
                  <a:lnTo>
                    <a:pt x="3815" y="2016"/>
                  </a:lnTo>
                  <a:lnTo>
                    <a:pt x="3805" y="2051"/>
                  </a:lnTo>
                  <a:lnTo>
                    <a:pt x="3796" y="2087"/>
                  </a:lnTo>
                  <a:lnTo>
                    <a:pt x="3789" y="2123"/>
                  </a:lnTo>
                  <a:lnTo>
                    <a:pt x="3783" y="2158"/>
                  </a:lnTo>
                  <a:lnTo>
                    <a:pt x="3780" y="2195"/>
                  </a:lnTo>
                  <a:lnTo>
                    <a:pt x="3778" y="2232"/>
                  </a:lnTo>
                  <a:lnTo>
                    <a:pt x="3778" y="2269"/>
                  </a:lnTo>
                  <a:lnTo>
                    <a:pt x="3781" y="2306"/>
                  </a:lnTo>
                  <a:lnTo>
                    <a:pt x="3784" y="2344"/>
                  </a:lnTo>
                  <a:lnTo>
                    <a:pt x="3790" y="2381"/>
                  </a:lnTo>
                  <a:lnTo>
                    <a:pt x="3797" y="2420"/>
                  </a:lnTo>
                  <a:lnTo>
                    <a:pt x="3806" y="2458"/>
                  </a:lnTo>
                  <a:lnTo>
                    <a:pt x="3818" y="2496"/>
                  </a:lnTo>
                  <a:lnTo>
                    <a:pt x="3829" y="2535"/>
                  </a:lnTo>
                  <a:lnTo>
                    <a:pt x="3844" y="2572"/>
                  </a:lnTo>
                  <a:lnTo>
                    <a:pt x="3859" y="2607"/>
                  </a:lnTo>
                  <a:lnTo>
                    <a:pt x="3875" y="2642"/>
                  </a:lnTo>
                  <a:lnTo>
                    <a:pt x="3894" y="2675"/>
                  </a:lnTo>
                  <a:lnTo>
                    <a:pt x="3913" y="2708"/>
                  </a:lnTo>
                  <a:lnTo>
                    <a:pt x="3933" y="2738"/>
                  </a:lnTo>
                  <a:lnTo>
                    <a:pt x="3955" y="2768"/>
                  </a:lnTo>
                  <a:lnTo>
                    <a:pt x="3979" y="2795"/>
                  </a:lnTo>
                  <a:lnTo>
                    <a:pt x="4003" y="2822"/>
                  </a:lnTo>
                  <a:lnTo>
                    <a:pt x="4028" y="2848"/>
                  </a:lnTo>
                  <a:lnTo>
                    <a:pt x="4056" y="2872"/>
                  </a:lnTo>
                  <a:lnTo>
                    <a:pt x="4085" y="2895"/>
                  </a:lnTo>
                  <a:lnTo>
                    <a:pt x="4115" y="2917"/>
                  </a:lnTo>
                  <a:lnTo>
                    <a:pt x="4146" y="2937"/>
                  </a:lnTo>
                  <a:lnTo>
                    <a:pt x="4178" y="2956"/>
                  </a:lnTo>
                  <a:lnTo>
                    <a:pt x="4212" y="2974"/>
                  </a:lnTo>
                  <a:lnTo>
                    <a:pt x="4245" y="2990"/>
                  </a:lnTo>
                  <a:lnTo>
                    <a:pt x="4278" y="3004"/>
                  </a:lnTo>
                  <a:lnTo>
                    <a:pt x="4313" y="3016"/>
                  </a:lnTo>
                  <a:lnTo>
                    <a:pt x="4347" y="3026"/>
                  </a:lnTo>
                  <a:lnTo>
                    <a:pt x="4382" y="3035"/>
                  </a:lnTo>
                  <a:lnTo>
                    <a:pt x="4417" y="3040"/>
                  </a:lnTo>
                  <a:lnTo>
                    <a:pt x="4452" y="3045"/>
                  </a:lnTo>
                  <a:lnTo>
                    <a:pt x="4488" y="3047"/>
                  </a:lnTo>
                  <a:lnTo>
                    <a:pt x="4524" y="3049"/>
                  </a:lnTo>
                  <a:lnTo>
                    <a:pt x="4559" y="3047"/>
                  </a:lnTo>
                  <a:lnTo>
                    <a:pt x="4596" y="3044"/>
                  </a:lnTo>
                  <a:lnTo>
                    <a:pt x="4633" y="3039"/>
                  </a:lnTo>
                  <a:lnTo>
                    <a:pt x="4670" y="3032"/>
                  </a:lnTo>
                  <a:lnTo>
                    <a:pt x="4707" y="3024"/>
                  </a:lnTo>
                  <a:lnTo>
                    <a:pt x="4745" y="3013"/>
                  </a:lnTo>
                  <a:lnTo>
                    <a:pt x="4782" y="3001"/>
                  </a:lnTo>
                  <a:lnTo>
                    <a:pt x="4817" y="2988"/>
                  </a:lnTo>
                  <a:lnTo>
                    <a:pt x="4851" y="2973"/>
                  </a:lnTo>
                  <a:lnTo>
                    <a:pt x="4884" y="2956"/>
                  </a:lnTo>
                  <a:lnTo>
                    <a:pt x="4917" y="2938"/>
                  </a:lnTo>
                  <a:lnTo>
                    <a:pt x="4947" y="2920"/>
                  </a:lnTo>
                  <a:lnTo>
                    <a:pt x="4976" y="2899"/>
                  </a:lnTo>
                  <a:lnTo>
                    <a:pt x="5004" y="2877"/>
                  </a:lnTo>
                  <a:lnTo>
                    <a:pt x="5031" y="2853"/>
                  </a:lnTo>
                  <a:lnTo>
                    <a:pt x="5057" y="2829"/>
                  </a:lnTo>
                  <a:lnTo>
                    <a:pt x="5081" y="2802"/>
                  </a:lnTo>
                  <a:lnTo>
                    <a:pt x="5104" y="2774"/>
                  </a:lnTo>
                  <a:lnTo>
                    <a:pt x="5126" y="2745"/>
                  </a:lnTo>
                  <a:lnTo>
                    <a:pt x="5147" y="2715"/>
                  </a:lnTo>
                  <a:lnTo>
                    <a:pt x="5165" y="2682"/>
                  </a:lnTo>
                  <a:lnTo>
                    <a:pt x="5184" y="2649"/>
                  </a:lnTo>
                  <a:lnTo>
                    <a:pt x="5200" y="2614"/>
                  </a:lnTo>
                  <a:lnTo>
                    <a:pt x="5214" y="2580"/>
                  </a:lnTo>
                  <a:lnTo>
                    <a:pt x="5226" y="2545"/>
                  </a:lnTo>
                  <a:lnTo>
                    <a:pt x="5238" y="2511"/>
                  </a:lnTo>
                  <a:lnTo>
                    <a:pt x="5246" y="2475"/>
                  </a:lnTo>
                  <a:lnTo>
                    <a:pt x="5254" y="2439"/>
                  </a:lnTo>
                  <a:lnTo>
                    <a:pt x="5259" y="2404"/>
                  </a:lnTo>
                  <a:lnTo>
                    <a:pt x="5262" y="2367"/>
                  </a:lnTo>
                  <a:lnTo>
                    <a:pt x="5264" y="2330"/>
                  </a:lnTo>
                  <a:lnTo>
                    <a:pt x="5264" y="2293"/>
                  </a:lnTo>
                  <a:lnTo>
                    <a:pt x="5262" y="2256"/>
                  </a:lnTo>
                  <a:lnTo>
                    <a:pt x="5259" y="2218"/>
                  </a:lnTo>
                  <a:lnTo>
                    <a:pt x="5253" y="2180"/>
                  </a:lnTo>
                  <a:lnTo>
                    <a:pt x="5246" y="2142"/>
                  </a:lnTo>
                  <a:lnTo>
                    <a:pt x="5237" y="2104"/>
                  </a:lnTo>
                  <a:lnTo>
                    <a:pt x="5225" y="2066"/>
                  </a:lnTo>
                  <a:lnTo>
                    <a:pt x="5214" y="2028"/>
                  </a:lnTo>
                  <a:lnTo>
                    <a:pt x="5200" y="1991"/>
                  </a:lnTo>
                  <a:lnTo>
                    <a:pt x="5184" y="1956"/>
                  </a:lnTo>
                  <a:lnTo>
                    <a:pt x="5168" y="1921"/>
                  </a:lnTo>
                  <a:lnTo>
                    <a:pt x="5149" y="1889"/>
                  </a:lnTo>
                  <a:lnTo>
                    <a:pt x="5131" y="1857"/>
                  </a:lnTo>
                  <a:lnTo>
                    <a:pt x="5110" y="1826"/>
                  </a:lnTo>
                  <a:lnTo>
                    <a:pt x="5088" y="1797"/>
                  </a:lnTo>
                  <a:lnTo>
                    <a:pt x="5064" y="1769"/>
                  </a:lnTo>
                  <a:lnTo>
                    <a:pt x="5040" y="1741"/>
                  </a:lnTo>
                  <a:lnTo>
                    <a:pt x="5014" y="1716"/>
                  </a:lnTo>
                  <a:lnTo>
                    <a:pt x="4987" y="1692"/>
                  </a:lnTo>
                  <a:lnTo>
                    <a:pt x="4958" y="1669"/>
                  </a:lnTo>
                  <a:lnTo>
                    <a:pt x="4928" y="1647"/>
                  </a:lnTo>
                  <a:lnTo>
                    <a:pt x="4897" y="1626"/>
                  </a:lnTo>
                  <a:lnTo>
                    <a:pt x="4864" y="1607"/>
                  </a:lnTo>
                  <a:lnTo>
                    <a:pt x="4830" y="1589"/>
                  </a:lnTo>
                  <a:lnTo>
                    <a:pt x="4797" y="1573"/>
                  </a:lnTo>
                  <a:lnTo>
                    <a:pt x="4762" y="1558"/>
                  </a:lnTo>
                  <a:lnTo>
                    <a:pt x="4728" y="1547"/>
                  </a:lnTo>
                  <a:lnTo>
                    <a:pt x="4693" y="1536"/>
                  </a:lnTo>
                  <a:lnTo>
                    <a:pt x="4659" y="1528"/>
                  </a:lnTo>
                  <a:lnTo>
                    <a:pt x="4624" y="1521"/>
                  </a:lnTo>
                  <a:lnTo>
                    <a:pt x="4588" y="1517"/>
                  </a:lnTo>
                  <a:lnTo>
                    <a:pt x="4553" y="1515"/>
                  </a:lnTo>
                  <a:lnTo>
                    <a:pt x="4517" y="1513"/>
                  </a:lnTo>
                  <a:lnTo>
                    <a:pt x="4480" y="1515"/>
                  </a:lnTo>
                  <a:lnTo>
                    <a:pt x="4444" y="1517"/>
                  </a:lnTo>
                  <a:lnTo>
                    <a:pt x="4407" y="1521"/>
                  </a:lnTo>
                  <a:lnTo>
                    <a:pt x="4371" y="1528"/>
                  </a:lnTo>
                  <a:lnTo>
                    <a:pt x="4334" y="1538"/>
                  </a:lnTo>
                  <a:lnTo>
                    <a:pt x="4297" y="1548"/>
                  </a:lnTo>
                  <a:close/>
                  <a:moveTo>
                    <a:pt x="4040" y="726"/>
                  </a:moveTo>
                  <a:lnTo>
                    <a:pt x="4076" y="715"/>
                  </a:lnTo>
                  <a:lnTo>
                    <a:pt x="4110" y="705"/>
                  </a:lnTo>
                  <a:lnTo>
                    <a:pt x="4146" y="697"/>
                  </a:lnTo>
                  <a:lnTo>
                    <a:pt x="4180" y="689"/>
                  </a:lnTo>
                  <a:lnTo>
                    <a:pt x="4216" y="682"/>
                  </a:lnTo>
                  <a:lnTo>
                    <a:pt x="4252" y="676"/>
                  </a:lnTo>
                  <a:lnTo>
                    <a:pt x="4286" y="670"/>
                  </a:lnTo>
                  <a:lnTo>
                    <a:pt x="4322" y="666"/>
                  </a:lnTo>
                  <a:lnTo>
                    <a:pt x="4357" y="662"/>
                  </a:lnTo>
                  <a:lnTo>
                    <a:pt x="4392" y="659"/>
                  </a:lnTo>
                  <a:lnTo>
                    <a:pt x="4427" y="657"/>
                  </a:lnTo>
                  <a:lnTo>
                    <a:pt x="4463" y="655"/>
                  </a:lnTo>
                  <a:lnTo>
                    <a:pt x="4497" y="655"/>
                  </a:lnTo>
                  <a:lnTo>
                    <a:pt x="4533" y="655"/>
                  </a:lnTo>
                  <a:lnTo>
                    <a:pt x="4569" y="657"/>
                  </a:lnTo>
                  <a:lnTo>
                    <a:pt x="4603" y="658"/>
                  </a:lnTo>
                  <a:lnTo>
                    <a:pt x="4639" y="660"/>
                  </a:lnTo>
                  <a:lnTo>
                    <a:pt x="4673" y="664"/>
                  </a:lnTo>
                  <a:lnTo>
                    <a:pt x="4708" y="668"/>
                  </a:lnTo>
                  <a:lnTo>
                    <a:pt x="4743" y="673"/>
                  </a:lnTo>
                  <a:lnTo>
                    <a:pt x="4776" y="680"/>
                  </a:lnTo>
                  <a:lnTo>
                    <a:pt x="4809" y="685"/>
                  </a:lnTo>
                  <a:lnTo>
                    <a:pt x="4843" y="693"/>
                  </a:lnTo>
                  <a:lnTo>
                    <a:pt x="4876" y="702"/>
                  </a:lnTo>
                  <a:lnTo>
                    <a:pt x="4910" y="711"/>
                  </a:lnTo>
                  <a:lnTo>
                    <a:pt x="4942" y="720"/>
                  </a:lnTo>
                  <a:lnTo>
                    <a:pt x="4974" y="730"/>
                  </a:lnTo>
                  <a:lnTo>
                    <a:pt x="5006" y="742"/>
                  </a:lnTo>
                  <a:lnTo>
                    <a:pt x="5038" y="754"/>
                  </a:lnTo>
                  <a:lnTo>
                    <a:pt x="5069" y="767"/>
                  </a:lnTo>
                  <a:lnTo>
                    <a:pt x="5100" y="781"/>
                  </a:lnTo>
                  <a:lnTo>
                    <a:pt x="5131" y="795"/>
                  </a:lnTo>
                  <a:lnTo>
                    <a:pt x="5171" y="816"/>
                  </a:lnTo>
                  <a:lnTo>
                    <a:pt x="5210" y="836"/>
                  </a:lnTo>
                  <a:lnTo>
                    <a:pt x="5249" y="858"/>
                  </a:lnTo>
                  <a:lnTo>
                    <a:pt x="5287" y="880"/>
                  </a:lnTo>
                  <a:lnTo>
                    <a:pt x="5324" y="904"/>
                  </a:lnTo>
                  <a:lnTo>
                    <a:pt x="5361" y="927"/>
                  </a:lnTo>
                  <a:lnTo>
                    <a:pt x="5397" y="953"/>
                  </a:lnTo>
                  <a:lnTo>
                    <a:pt x="5433" y="978"/>
                  </a:lnTo>
                  <a:lnTo>
                    <a:pt x="5466" y="1006"/>
                  </a:lnTo>
                  <a:lnTo>
                    <a:pt x="5501" y="1032"/>
                  </a:lnTo>
                  <a:lnTo>
                    <a:pt x="5533" y="1061"/>
                  </a:lnTo>
                  <a:lnTo>
                    <a:pt x="5565" y="1090"/>
                  </a:lnTo>
                  <a:lnTo>
                    <a:pt x="5597" y="1121"/>
                  </a:lnTo>
                  <a:lnTo>
                    <a:pt x="5627" y="1151"/>
                  </a:lnTo>
                  <a:lnTo>
                    <a:pt x="5657" y="1183"/>
                  </a:lnTo>
                  <a:lnTo>
                    <a:pt x="5686" y="1216"/>
                  </a:lnTo>
                  <a:lnTo>
                    <a:pt x="5715" y="1250"/>
                  </a:lnTo>
                  <a:lnTo>
                    <a:pt x="5743" y="1283"/>
                  </a:lnTo>
                  <a:lnTo>
                    <a:pt x="5768" y="1319"/>
                  </a:lnTo>
                  <a:lnTo>
                    <a:pt x="5793" y="1353"/>
                  </a:lnTo>
                  <a:lnTo>
                    <a:pt x="5817" y="1390"/>
                  </a:lnTo>
                  <a:lnTo>
                    <a:pt x="5842" y="1426"/>
                  </a:lnTo>
                  <a:lnTo>
                    <a:pt x="5863" y="1463"/>
                  </a:lnTo>
                  <a:lnTo>
                    <a:pt x="5885" y="1501"/>
                  </a:lnTo>
                  <a:lnTo>
                    <a:pt x="5905" y="1539"/>
                  </a:lnTo>
                  <a:lnTo>
                    <a:pt x="5925" y="1578"/>
                  </a:lnTo>
                  <a:lnTo>
                    <a:pt x="5943" y="1617"/>
                  </a:lnTo>
                  <a:lnTo>
                    <a:pt x="5960" y="1657"/>
                  </a:lnTo>
                  <a:lnTo>
                    <a:pt x="5978" y="1698"/>
                  </a:lnTo>
                  <a:lnTo>
                    <a:pt x="5993" y="1739"/>
                  </a:lnTo>
                  <a:lnTo>
                    <a:pt x="6007" y="1782"/>
                  </a:lnTo>
                  <a:lnTo>
                    <a:pt x="6021" y="1823"/>
                  </a:lnTo>
                  <a:lnTo>
                    <a:pt x="6033" y="1866"/>
                  </a:lnTo>
                  <a:lnTo>
                    <a:pt x="6044" y="1910"/>
                  </a:lnTo>
                  <a:lnTo>
                    <a:pt x="6055" y="1952"/>
                  </a:lnTo>
                  <a:lnTo>
                    <a:pt x="6064" y="1995"/>
                  </a:lnTo>
                  <a:lnTo>
                    <a:pt x="6072" y="2039"/>
                  </a:lnTo>
                  <a:lnTo>
                    <a:pt x="6079" y="2081"/>
                  </a:lnTo>
                  <a:lnTo>
                    <a:pt x="6084" y="2125"/>
                  </a:lnTo>
                  <a:lnTo>
                    <a:pt x="6088" y="2168"/>
                  </a:lnTo>
                  <a:lnTo>
                    <a:pt x="6092" y="2211"/>
                  </a:lnTo>
                  <a:lnTo>
                    <a:pt x="6094" y="2254"/>
                  </a:lnTo>
                  <a:lnTo>
                    <a:pt x="6095" y="2298"/>
                  </a:lnTo>
                  <a:lnTo>
                    <a:pt x="6095" y="2341"/>
                  </a:lnTo>
                  <a:lnTo>
                    <a:pt x="6094" y="2385"/>
                  </a:lnTo>
                  <a:lnTo>
                    <a:pt x="6092" y="2429"/>
                  </a:lnTo>
                  <a:lnTo>
                    <a:pt x="6088" y="2473"/>
                  </a:lnTo>
                  <a:lnTo>
                    <a:pt x="6084" y="2515"/>
                  </a:lnTo>
                  <a:lnTo>
                    <a:pt x="6078" y="2560"/>
                  </a:lnTo>
                  <a:lnTo>
                    <a:pt x="6071" y="2603"/>
                  </a:lnTo>
                  <a:lnTo>
                    <a:pt x="6063" y="2647"/>
                  </a:lnTo>
                  <a:lnTo>
                    <a:pt x="6054" y="2689"/>
                  </a:lnTo>
                  <a:lnTo>
                    <a:pt x="6043" y="2732"/>
                  </a:lnTo>
                  <a:lnTo>
                    <a:pt x="6033" y="2773"/>
                  </a:lnTo>
                  <a:lnTo>
                    <a:pt x="6020" y="2816"/>
                  </a:lnTo>
                  <a:lnTo>
                    <a:pt x="6006" y="2857"/>
                  </a:lnTo>
                  <a:lnTo>
                    <a:pt x="5993" y="2898"/>
                  </a:lnTo>
                  <a:lnTo>
                    <a:pt x="5976" y="2939"/>
                  </a:lnTo>
                  <a:lnTo>
                    <a:pt x="5960" y="2979"/>
                  </a:lnTo>
                  <a:lnTo>
                    <a:pt x="5942" y="3020"/>
                  </a:lnTo>
                  <a:lnTo>
                    <a:pt x="5923" y="3059"/>
                  </a:lnTo>
                  <a:lnTo>
                    <a:pt x="5904" y="3099"/>
                  </a:lnTo>
                  <a:lnTo>
                    <a:pt x="5883" y="3138"/>
                  </a:lnTo>
                  <a:lnTo>
                    <a:pt x="5860" y="3176"/>
                  </a:lnTo>
                  <a:lnTo>
                    <a:pt x="5843" y="3206"/>
                  </a:lnTo>
                  <a:lnTo>
                    <a:pt x="5824" y="3235"/>
                  </a:lnTo>
                  <a:lnTo>
                    <a:pt x="5805" y="3264"/>
                  </a:lnTo>
                  <a:lnTo>
                    <a:pt x="5785" y="3292"/>
                  </a:lnTo>
                  <a:lnTo>
                    <a:pt x="5766" y="3319"/>
                  </a:lnTo>
                  <a:lnTo>
                    <a:pt x="5744" y="3346"/>
                  </a:lnTo>
                  <a:lnTo>
                    <a:pt x="5722" y="3372"/>
                  </a:lnTo>
                  <a:lnTo>
                    <a:pt x="5700" y="3397"/>
                  </a:lnTo>
                  <a:lnTo>
                    <a:pt x="5677" y="3424"/>
                  </a:lnTo>
                  <a:lnTo>
                    <a:pt x="5653" y="3448"/>
                  </a:lnTo>
                  <a:lnTo>
                    <a:pt x="5628" y="3472"/>
                  </a:lnTo>
                  <a:lnTo>
                    <a:pt x="5603" y="3497"/>
                  </a:lnTo>
                  <a:lnTo>
                    <a:pt x="5578" y="3520"/>
                  </a:lnTo>
                  <a:lnTo>
                    <a:pt x="5551" y="3543"/>
                  </a:lnTo>
                  <a:lnTo>
                    <a:pt x="5525" y="3564"/>
                  </a:lnTo>
                  <a:lnTo>
                    <a:pt x="5497" y="3586"/>
                  </a:lnTo>
                  <a:lnTo>
                    <a:pt x="5468" y="3607"/>
                  </a:lnTo>
                  <a:lnTo>
                    <a:pt x="5441" y="3628"/>
                  </a:lnTo>
                  <a:lnTo>
                    <a:pt x="5412" y="3647"/>
                  </a:lnTo>
                  <a:lnTo>
                    <a:pt x="5382" y="3667"/>
                  </a:lnTo>
                  <a:lnTo>
                    <a:pt x="5352" y="3685"/>
                  </a:lnTo>
                  <a:lnTo>
                    <a:pt x="5322" y="3703"/>
                  </a:lnTo>
                  <a:lnTo>
                    <a:pt x="5291" y="3720"/>
                  </a:lnTo>
                  <a:lnTo>
                    <a:pt x="5260" y="3737"/>
                  </a:lnTo>
                  <a:lnTo>
                    <a:pt x="5229" y="3752"/>
                  </a:lnTo>
                  <a:lnTo>
                    <a:pt x="5196" y="3767"/>
                  </a:lnTo>
                  <a:lnTo>
                    <a:pt x="5164" y="3782"/>
                  </a:lnTo>
                  <a:lnTo>
                    <a:pt x="5131" y="3796"/>
                  </a:lnTo>
                  <a:lnTo>
                    <a:pt x="5097" y="3809"/>
                  </a:lnTo>
                  <a:lnTo>
                    <a:pt x="5064" y="3821"/>
                  </a:lnTo>
                  <a:lnTo>
                    <a:pt x="5029" y="3833"/>
                  </a:lnTo>
                  <a:lnTo>
                    <a:pt x="4994" y="3844"/>
                  </a:lnTo>
                  <a:lnTo>
                    <a:pt x="4959" y="3855"/>
                  </a:lnTo>
                  <a:lnTo>
                    <a:pt x="4925" y="3864"/>
                  </a:lnTo>
                  <a:lnTo>
                    <a:pt x="4890" y="3873"/>
                  </a:lnTo>
                  <a:lnTo>
                    <a:pt x="4854" y="3880"/>
                  </a:lnTo>
                  <a:lnTo>
                    <a:pt x="4820" y="3887"/>
                  </a:lnTo>
                  <a:lnTo>
                    <a:pt x="4785" y="3894"/>
                  </a:lnTo>
                  <a:lnTo>
                    <a:pt x="4751" y="3898"/>
                  </a:lnTo>
                  <a:lnTo>
                    <a:pt x="4715" y="3903"/>
                  </a:lnTo>
                  <a:lnTo>
                    <a:pt x="4680" y="3907"/>
                  </a:lnTo>
                  <a:lnTo>
                    <a:pt x="4646" y="3910"/>
                  </a:lnTo>
                  <a:lnTo>
                    <a:pt x="4611" y="3912"/>
                  </a:lnTo>
                  <a:lnTo>
                    <a:pt x="4577" y="3913"/>
                  </a:lnTo>
                  <a:lnTo>
                    <a:pt x="4541" y="3913"/>
                  </a:lnTo>
                  <a:lnTo>
                    <a:pt x="4506" y="3913"/>
                  </a:lnTo>
                  <a:lnTo>
                    <a:pt x="4472" y="3912"/>
                  </a:lnTo>
                  <a:lnTo>
                    <a:pt x="4437" y="3910"/>
                  </a:lnTo>
                  <a:lnTo>
                    <a:pt x="4403" y="3908"/>
                  </a:lnTo>
                  <a:lnTo>
                    <a:pt x="4368" y="3904"/>
                  </a:lnTo>
                  <a:lnTo>
                    <a:pt x="4334" y="3900"/>
                  </a:lnTo>
                  <a:lnTo>
                    <a:pt x="4299" y="3895"/>
                  </a:lnTo>
                  <a:lnTo>
                    <a:pt x="4266" y="3889"/>
                  </a:lnTo>
                  <a:lnTo>
                    <a:pt x="4232" y="3882"/>
                  </a:lnTo>
                  <a:lnTo>
                    <a:pt x="4199" y="3875"/>
                  </a:lnTo>
                  <a:lnTo>
                    <a:pt x="4165" y="3867"/>
                  </a:lnTo>
                  <a:lnTo>
                    <a:pt x="4132" y="3858"/>
                  </a:lnTo>
                  <a:lnTo>
                    <a:pt x="4100" y="3849"/>
                  </a:lnTo>
                  <a:lnTo>
                    <a:pt x="4066" y="3839"/>
                  </a:lnTo>
                  <a:lnTo>
                    <a:pt x="4034" y="3827"/>
                  </a:lnTo>
                  <a:lnTo>
                    <a:pt x="4002" y="3816"/>
                  </a:lnTo>
                  <a:lnTo>
                    <a:pt x="3971" y="3802"/>
                  </a:lnTo>
                  <a:lnTo>
                    <a:pt x="3939" y="3788"/>
                  </a:lnTo>
                  <a:lnTo>
                    <a:pt x="3907" y="3774"/>
                  </a:lnTo>
                  <a:lnTo>
                    <a:pt x="3867" y="3755"/>
                  </a:lnTo>
                  <a:lnTo>
                    <a:pt x="3828" y="3734"/>
                  </a:lnTo>
                  <a:lnTo>
                    <a:pt x="3790" y="3713"/>
                  </a:lnTo>
                  <a:lnTo>
                    <a:pt x="3752" y="3690"/>
                  </a:lnTo>
                  <a:lnTo>
                    <a:pt x="3715" y="3667"/>
                  </a:lnTo>
                  <a:lnTo>
                    <a:pt x="3679" y="3643"/>
                  </a:lnTo>
                  <a:lnTo>
                    <a:pt x="3644" y="3619"/>
                  </a:lnTo>
                  <a:lnTo>
                    <a:pt x="3608" y="3592"/>
                  </a:lnTo>
                  <a:lnTo>
                    <a:pt x="3574" y="3566"/>
                  </a:lnTo>
                  <a:lnTo>
                    <a:pt x="3541" y="3538"/>
                  </a:lnTo>
                  <a:lnTo>
                    <a:pt x="3508" y="3509"/>
                  </a:lnTo>
                  <a:lnTo>
                    <a:pt x="3475" y="3479"/>
                  </a:lnTo>
                  <a:lnTo>
                    <a:pt x="3444" y="3449"/>
                  </a:lnTo>
                  <a:lnTo>
                    <a:pt x="3414" y="3418"/>
                  </a:lnTo>
                  <a:lnTo>
                    <a:pt x="3384" y="3386"/>
                  </a:lnTo>
                  <a:lnTo>
                    <a:pt x="3356" y="3353"/>
                  </a:lnTo>
                  <a:lnTo>
                    <a:pt x="3327" y="3319"/>
                  </a:lnTo>
                  <a:lnTo>
                    <a:pt x="3299" y="3285"/>
                  </a:lnTo>
                  <a:lnTo>
                    <a:pt x="3273" y="3249"/>
                  </a:lnTo>
                  <a:lnTo>
                    <a:pt x="3247" y="3213"/>
                  </a:lnTo>
                  <a:lnTo>
                    <a:pt x="3223" y="3178"/>
                  </a:lnTo>
                  <a:lnTo>
                    <a:pt x="3200" y="3141"/>
                  </a:lnTo>
                  <a:lnTo>
                    <a:pt x="3177" y="3104"/>
                  </a:lnTo>
                  <a:lnTo>
                    <a:pt x="3156" y="3066"/>
                  </a:lnTo>
                  <a:lnTo>
                    <a:pt x="3136" y="3027"/>
                  </a:lnTo>
                  <a:lnTo>
                    <a:pt x="3116" y="2988"/>
                  </a:lnTo>
                  <a:lnTo>
                    <a:pt x="3098" y="2948"/>
                  </a:lnTo>
                  <a:lnTo>
                    <a:pt x="3080" y="2908"/>
                  </a:lnTo>
                  <a:lnTo>
                    <a:pt x="3063" y="2868"/>
                  </a:lnTo>
                  <a:lnTo>
                    <a:pt x="3048" y="2825"/>
                  </a:lnTo>
                  <a:lnTo>
                    <a:pt x="3033" y="2784"/>
                  </a:lnTo>
                  <a:lnTo>
                    <a:pt x="3019" y="2741"/>
                  </a:lnTo>
                  <a:lnTo>
                    <a:pt x="3007" y="2697"/>
                  </a:lnTo>
                  <a:lnTo>
                    <a:pt x="2996" y="2655"/>
                  </a:lnTo>
                  <a:lnTo>
                    <a:pt x="2986" y="2612"/>
                  </a:lnTo>
                  <a:lnTo>
                    <a:pt x="2977" y="2568"/>
                  </a:lnTo>
                  <a:lnTo>
                    <a:pt x="2969" y="2526"/>
                  </a:lnTo>
                  <a:lnTo>
                    <a:pt x="2962" y="2482"/>
                  </a:lnTo>
                  <a:lnTo>
                    <a:pt x="2956" y="2439"/>
                  </a:lnTo>
                  <a:lnTo>
                    <a:pt x="2951" y="2396"/>
                  </a:lnTo>
                  <a:lnTo>
                    <a:pt x="2948" y="2352"/>
                  </a:lnTo>
                  <a:lnTo>
                    <a:pt x="2945" y="2309"/>
                  </a:lnTo>
                  <a:lnTo>
                    <a:pt x="2944" y="2265"/>
                  </a:lnTo>
                  <a:lnTo>
                    <a:pt x="2944" y="2222"/>
                  </a:lnTo>
                  <a:lnTo>
                    <a:pt x="2945" y="2179"/>
                  </a:lnTo>
                  <a:lnTo>
                    <a:pt x="2948" y="2135"/>
                  </a:lnTo>
                  <a:lnTo>
                    <a:pt x="2951" y="2092"/>
                  </a:lnTo>
                  <a:lnTo>
                    <a:pt x="2956" y="2048"/>
                  </a:lnTo>
                  <a:lnTo>
                    <a:pt x="2960" y="2004"/>
                  </a:lnTo>
                  <a:lnTo>
                    <a:pt x="2967" y="1961"/>
                  </a:lnTo>
                  <a:lnTo>
                    <a:pt x="2975" y="1919"/>
                  </a:lnTo>
                  <a:lnTo>
                    <a:pt x="2985" y="1876"/>
                  </a:lnTo>
                  <a:lnTo>
                    <a:pt x="2995" y="1834"/>
                  </a:lnTo>
                  <a:lnTo>
                    <a:pt x="3007" y="1792"/>
                  </a:lnTo>
                  <a:lnTo>
                    <a:pt x="3018" y="1751"/>
                  </a:lnTo>
                  <a:lnTo>
                    <a:pt x="3032" y="1709"/>
                  </a:lnTo>
                  <a:lnTo>
                    <a:pt x="3047" y="1669"/>
                  </a:lnTo>
                  <a:lnTo>
                    <a:pt x="3062" y="1629"/>
                  </a:lnTo>
                  <a:lnTo>
                    <a:pt x="3079" y="1588"/>
                  </a:lnTo>
                  <a:lnTo>
                    <a:pt x="3096" y="1548"/>
                  </a:lnTo>
                  <a:lnTo>
                    <a:pt x="3116" y="1509"/>
                  </a:lnTo>
                  <a:lnTo>
                    <a:pt x="3136" y="1470"/>
                  </a:lnTo>
                  <a:lnTo>
                    <a:pt x="3156" y="1430"/>
                  </a:lnTo>
                  <a:lnTo>
                    <a:pt x="3179" y="1391"/>
                  </a:lnTo>
                  <a:lnTo>
                    <a:pt x="3197" y="1361"/>
                  </a:lnTo>
                  <a:lnTo>
                    <a:pt x="3215" y="1333"/>
                  </a:lnTo>
                  <a:lnTo>
                    <a:pt x="3235" y="1304"/>
                  </a:lnTo>
                  <a:lnTo>
                    <a:pt x="3254" y="1276"/>
                  </a:lnTo>
                  <a:lnTo>
                    <a:pt x="3275" y="1249"/>
                  </a:lnTo>
                  <a:lnTo>
                    <a:pt x="3296" y="1221"/>
                  </a:lnTo>
                  <a:lnTo>
                    <a:pt x="3318" y="1196"/>
                  </a:lnTo>
                  <a:lnTo>
                    <a:pt x="3339" y="1169"/>
                  </a:lnTo>
                  <a:lnTo>
                    <a:pt x="3363" y="1144"/>
                  </a:lnTo>
                  <a:lnTo>
                    <a:pt x="3387" y="1118"/>
                  </a:lnTo>
                  <a:lnTo>
                    <a:pt x="3411" y="1094"/>
                  </a:lnTo>
                  <a:lnTo>
                    <a:pt x="3435" y="1071"/>
                  </a:lnTo>
                  <a:lnTo>
                    <a:pt x="3460" y="1047"/>
                  </a:lnTo>
                  <a:lnTo>
                    <a:pt x="3487" y="1025"/>
                  </a:lnTo>
                  <a:lnTo>
                    <a:pt x="3513" y="1002"/>
                  </a:lnTo>
                  <a:lnTo>
                    <a:pt x="3541" y="981"/>
                  </a:lnTo>
                  <a:lnTo>
                    <a:pt x="3569" y="961"/>
                  </a:lnTo>
                  <a:lnTo>
                    <a:pt x="3596" y="940"/>
                  </a:lnTo>
                  <a:lnTo>
                    <a:pt x="3625" y="920"/>
                  </a:lnTo>
                  <a:lnTo>
                    <a:pt x="3654" y="901"/>
                  </a:lnTo>
                  <a:lnTo>
                    <a:pt x="3684" y="882"/>
                  </a:lnTo>
                  <a:lnTo>
                    <a:pt x="3714" y="865"/>
                  </a:lnTo>
                  <a:lnTo>
                    <a:pt x="3745" y="848"/>
                  </a:lnTo>
                  <a:lnTo>
                    <a:pt x="3776" y="832"/>
                  </a:lnTo>
                  <a:lnTo>
                    <a:pt x="3807" y="817"/>
                  </a:lnTo>
                  <a:lnTo>
                    <a:pt x="3839" y="802"/>
                  </a:lnTo>
                  <a:lnTo>
                    <a:pt x="3872" y="787"/>
                  </a:lnTo>
                  <a:lnTo>
                    <a:pt x="3904" y="773"/>
                  </a:lnTo>
                  <a:lnTo>
                    <a:pt x="3937" y="760"/>
                  </a:lnTo>
                  <a:lnTo>
                    <a:pt x="3972" y="748"/>
                  </a:lnTo>
                  <a:lnTo>
                    <a:pt x="4005" y="736"/>
                  </a:lnTo>
                  <a:lnTo>
                    <a:pt x="4040" y="726"/>
                  </a:lnTo>
                  <a:close/>
                  <a:moveTo>
                    <a:pt x="6895" y="3178"/>
                  </a:moveTo>
                  <a:lnTo>
                    <a:pt x="6865" y="3082"/>
                  </a:lnTo>
                  <a:lnTo>
                    <a:pt x="6836" y="2988"/>
                  </a:lnTo>
                  <a:lnTo>
                    <a:pt x="6807" y="2893"/>
                  </a:lnTo>
                  <a:lnTo>
                    <a:pt x="6778" y="2797"/>
                  </a:lnTo>
                  <a:lnTo>
                    <a:pt x="6749" y="2703"/>
                  </a:lnTo>
                  <a:lnTo>
                    <a:pt x="6719" y="2609"/>
                  </a:lnTo>
                  <a:lnTo>
                    <a:pt x="6691" y="2513"/>
                  </a:lnTo>
                  <a:lnTo>
                    <a:pt x="6662" y="2419"/>
                  </a:lnTo>
                  <a:lnTo>
                    <a:pt x="6751" y="2391"/>
                  </a:lnTo>
                  <a:lnTo>
                    <a:pt x="6838" y="2364"/>
                  </a:lnTo>
                  <a:lnTo>
                    <a:pt x="6927" y="2337"/>
                  </a:lnTo>
                  <a:lnTo>
                    <a:pt x="7015" y="2310"/>
                  </a:lnTo>
                  <a:lnTo>
                    <a:pt x="7104" y="2283"/>
                  </a:lnTo>
                  <a:lnTo>
                    <a:pt x="7193" y="2256"/>
                  </a:lnTo>
                  <a:lnTo>
                    <a:pt x="7280" y="2229"/>
                  </a:lnTo>
                  <a:lnTo>
                    <a:pt x="7369" y="2202"/>
                  </a:lnTo>
                  <a:lnTo>
                    <a:pt x="7399" y="2297"/>
                  </a:lnTo>
                  <a:lnTo>
                    <a:pt x="7428" y="2392"/>
                  </a:lnTo>
                  <a:lnTo>
                    <a:pt x="7457" y="2487"/>
                  </a:lnTo>
                  <a:lnTo>
                    <a:pt x="7486" y="2581"/>
                  </a:lnTo>
                  <a:lnTo>
                    <a:pt x="7514" y="2677"/>
                  </a:lnTo>
                  <a:lnTo>
                    <a:pt x="7544" y="2771"/>
                  </a:lnTo>
                  <a:lnTo>
                    <a:pt x="7573" y="2867"/>
                  </a:lnTo>
                  <a:lnTo>
                    <a:pt x="7602" y="2961"/>
                  </a:lnTo>
                  <a:lnTo>
                    <a:pt x="7513" y="2988"/>
                  </a:lnTo>
                  <a:lnTo>
                    <a:pt x="7424" y="3015"/>
                  </a:lnTo>
                  <a:lnTo>
                    <a:pt x="7336" y="3042"/>
                  </a:lnTo>
                  <a:lnTo>
                    <a:pt x="7247" y="3069"/>
                  </a:lnTo>
                  <a:lnTo>
                    <a:pt x="7159" y="3096"/>
                  </a:lnTo>
                  <a:lnTo>
                    <a:pt x="7071" y="3123"/>
                  </a:lnTo>
                  <a:lnTo>
                    <a:pt x="6982" y="3150"/>
                  </a:lnTo>
                  <a:lnTo>
                    <a:pt x="6895" y="3178"/>
                  </a:lnTo>
                  <a:close/>
                  <a:moveTo>
                    <a:pt x="6608" y="2245"/>
                  </a:moveTo>
                  <a:lnTo>
                    <a:pt x="6570" y="2118"/>
                  </a:lnTo>
                  <a:lnTo>
                    <a:pt x="6531" y="1991"/>
                  </a:lnTo>
                  <a:lnTo>
                    <a:pt x="6491" y="1865"/>
                  </a:lnTo>
                  <a:lnTo>
                    <a:pt x="6453" y="1738"/>
                  </a:lnTo>
                  <a:lnTo>
                    <a:pt x="6414" y="1611"/>
                  </a:lnTo>
                  <a:lnTo>
                    <a:pt x="6376" y="1485"/>
                  </a:lnTo>
                  <a:lnTo>
                    <a:pt x="6337" y="1358"/>
                  </a:lnTo>
                  <a:lnTo>
                    <a:pt x="6298" y="1231"/>
                  </a:lnTo>
                  <a:lnTo>
                    <a:pt x="6260" y="1105"/>
                  </a:lnTo>
                  <a:lnTo>
                    <a:pt x="6221" y="978"/>
                  </a:lnTo>
                  <a:lnTo>
                    <a:pt x="6181" y="851"/>
                  </a:lnTo>
                  <a:lnTo>
                    <a:pt x="6142" y="725"/>
                  </a:lnTo>
                  <a:lnTo>
                    <a:pt x="6104" y="598"/>
                  </a:lnTo>
                  <a:lnTo>
                    <a:pt x="6065" y="471"/>
                  </a:lnTo>
                  <a:lnTo>
                    <a:pt x="6026" y="344"/>
                  </a:lnTo>
                  <a:lnTo>
                    <a:pt x="5987" y="217"/>
                  </a:lnTo>
                  <a:lnTo>
                    <a:pt x="6075" y="190"/>
                  </a:lnTo>
                  <a:lnTo>
                    <a:pt x="6164" y="164"/>
                  </a:lnTo>
                  <a:lnTo>
                    <a:pt x="6253" y="136"/>
                  </a:lnTo>
                  <a:lnTo>
                    <a:pt x="6342" y="110"/>
                  </a:lnTo>
                  <a:lnTo>
                    <a:pt x="6430" y="82"/>
                  </a:lnTo>
                  <a:lnTo>
                    <a:pt x="6519" y="54"/>
                  </a:lnTo>
                  <a:lnTo>
                    <a:pt x="6608" y="28"/>
                  </a:lnTo>
                  <a:lnTo>
                    <a:pt x="6696" y="0"/>
                  </a:lnTo>
                  <a:lnTo>
                    <a:pt x="6736" y="128"/>
                  </a:lnTo>
                  <a:lnTo>
                    <a:pt x="6774" y="255"/>
                  </a:lnTo>
                  <a:lnTo>
                    <a:pt x="6813" y="381"/>
                  </a:lnTo>
                  <a:lnTo>
                    <a:pt x="6852" y="508"/>
                  </a:lnTo>
                  <a:lnTo>
                    <a:pt x="6890" y="635"/>
                  </a:lnTo>
                  <a:lnTo>
                    <a:pt x="6929" y="761"/>
                  </a:lnTo>
                  <a:lnTo>
                    <a:pt x="6968" y="888"/>
                  </a:lnTo>
                  <a:lnTo>
                    <a:pt x="7006" y="1015"/>
                  </a:lnTo>
                  <a:lnTo>
                    <a:pt x="7045" y="1141"/>
                  </a:lnTo>
                  <a:lnTo>
                    <a:pt x="7085" y="1268"/>
                  </a:lnTo>
                  <a:lnTo>
                    <a:pt x="7123" y="1395"/>
                  </a:lnTo>
                  <a:lnTo>
                    <a:pt x="7162" y="1521"/>
                  </a:lnTo>
                  <a:lnTo>
                    <a:pt x="7200" y="1648"/>
                  </a:lnTo>
                  <a:lnTo>
                    <a:pt x="7239" y="1775"/>
                  </a:lnTo>
                  <a:lnTo>
                    <a:pt x="7278" y="1902"/>
                  </a:lnTo>
                  <a:lnTo>
                    <a:pt x="7316" y="2028"/>
                  </a:lnTo>
                  <a:lnTo>
                    <a:pt x="7227" y="2056"/>
                  </a:lnTo>
                  <a:lnTo>
                    <a:pt x="7139" y="2082"/>
                  </a:lnTo>
                  <a:lnTo>
                    <a:pt x="7051" y="2110"/>
                  </a:lnTo>
                  <a:lnTo>
                    <a:pt x="6963" y="2136"/>
                  </a:lnTo>
                  <a:lnTo>
                    <a:pt x="6874" y="2164"/>
                  </a:lnTo>
                  <a:lnTo>
                    <a:pt x="6785" y="2191"/>
                  </a:lnTo>
                  <a:lnTo>
                    <a:pt x="6696" y="2217"/>
                  </a:lnTo>
                  <a:lnTo>
                    <a:pt x="6608" y="2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9" name=""/>
            <p:cNvSpPr/>
            <p:nvPr/>
          </p:nvSpPr>
          <p:spPr>
            <a:xfrm>
              <a:off x="3598920" y="4248000"/>
              <a:ext cx="822240" cy="962280"/>
            </a:xfrm>
            <a:custGeom>
              <a:avLst/>
              <a:gdLst/>
              <a:ahLst/>
              <a:rect l="l" t="t" r="r" b="b"/>
              <a:pathLst>
                <a:path w="3108" h="3636">
                  <a:moveTo>
                    <a:pt x="904" y="3636"/>
                  </a:moveTo>
                  <a:lnTo>
                    <a:pt x="848" y="3450"/>
                  </a:lnTo>
                  <a:lnTo>
                    <a:pt x="791" y="3266"/>
                  </a:lnTo>
                  <a:lnTo>
                    <a:pt x="735" y="3081"/>
                  </a:lnTo>
                  <a:lnTo>
                    <a:pt x="678" y="2895"/>
                  </a:lnTo>
                  <a:lnTo>
                    <a:pt x="622" y="2711"/>
                  </a:lnTo>
                  <a:lnTo>
                    <a:pt x="565" y="2525"/>
                  </a:lnTo>
                  <a:lnTo>
                    <a:pt x="509" y="2340"/>
                  </a:lnTo>
                  <a:lnTo>
                    <a:pt x="453" y="2155"/>
                  </a:lnTo>
                  <a:lnTo>
                    <a:pt x="396" y="1969"/>
                  </a:lnTo>
                  <a:lnTo>
                    <a:pt x="340" y="1785"/>
                  </a:lnTo>
                  <a:lnTo>
                    <a:pt x="283" y="1600"/>
                  </a:lnTo>
                  <a:lnTo>
                    <a:pt x="226" y="1414"/>
                  </a:lnTo>
                  <a:lnTo>
                    <a:pt x="169" y="1229"/>
                  </a:lnTo>
                  <a:lnTo>
                    <a:pt x="113" y="1043"/>
                  </a:lnTo>
                  <a:lnTo>
                    <a:pt x="56" y="859"/>
                  </a:lnTo>
                  <a:lnTo>
                    <a:pt x="0" y="674"/>
                  </a:lnTo>
                  <a:lnTo>
                    <a:pt x="41" y="661"/>
                  </a:lnTo>
                  <a:lnTo>
                    <a:pt x="84" y="648"/>
                  </a:lnTo>
                  <a:lnTo>
                    <a:pt x="125" y="636"/>
                  </a:lnTo>
                  <a:lnTo>
                    <a:pt x="168" y="622"/>
                  </a:lnTo>
                  <a:lnTo>
                    <a:pt x="209" y="609"/>
                  </a:lnTo>
                  <a:lnTo>
                    <a:pt x="251" y="596"/>
                  </a:lnTo>
                  <a:lnTo>
                    <a:pt x="294" y="584"/>
                  </a:lnTo>
                  <a:lnTo>
                    <a:pt x="335" y="571"/>
                  </a:lnTo>
                  <a:lnTo>
                    <a:pt x="430" y="631"/>
                  </a:lnTo>
                  <a:lnTo>
                    <a:pt x="523" y="691"/>
                  </a:lnTo>
                  <a:lnTo>
                    <a:pt x="616" y="751"/>
                  </a:lnTo>
                  <a:lnTo>
                    <a:pt x="709" y="811"/>
                  </a:lnTo>
                  <a:lnTo>
                    <a:pt x="804" y="872"/>
                  </a:lnTo>
                  <a:lnTo>
                    <a:pt x="897" y="932"/>
                  </a:lnTo>
                  <a:lnTo>
                    <a:pt x="991" y="991"/>
                  </a:lnTo>
                  <a:lnTo>
                    <a:pt x="1084" y="1051"/>
                  </a:lnTo>
                  <a:lnTo>
                    <a:pt x="1178" y="1111"/>
                  </a:lnTo>
                  <a:lnTo>
                    <a:pt x="1272" y="1171"/>
                  </a:lnTo>
                  <a:lnTo>
                    <a:pt x="1365" y="1231"/>
                  </a:lnTo>
                  <a:lnTo>
                    <a:pt x="1459" y="1291"/>
                  </a:lnTo>
                  <a:lnTo>
                    <a:pt x="1553" y="1351"/>
                  </a:lnTo>
                  <a:lnTo>
                    <a:pt x="1647" y="1411"/>
                  </a:lnTo>
                  <a:lnTo>
                    <a:pt x="1740" y="1471"/>
                  </a:lnTo>
                  <a:lnTo>
                    <a:pt x="1835" y="1530"/>
                  </a:lnTo>
                  <a:lnTo>
                    <a:pt x="1810" y="1450"/>
                  </a:lnTo>
                  <a:lnTo>
                    <a:pt x="1785" y="1368"/>
                  </a:lnTo>
                  <a:lnTo>
                    <a:pt x="1760" y="1287"/>
                  </a:lnTo>
                  <a:lnTo>
                    <a:pt x="1736" y="1207"/>
                  </a:lnTo>
                  <a:lnTo>
                    <a:pt x="1711" y="1125"/>
                  </a:lnTo>
                  <a:lnTo>
                    <a:pt x="1686" y="1044"/>
                  </a:lnTo>
                  <a:lnTo>
                    <a:pt x="1662" y="964"/>
                  </a:lnTo>
                  <a:lnTo>
                    <a:pt x="1637" y="882"/>
                  </a:lnTo>
                  <a:lnTo>
                    <a:pt x="1613" y="801"/>
                  </a:lnTo>
                  <a:lnTo>
                    <a:pt x="1587" y="720"/>
                  </a:lnTo>
                  <a:lnTo>
                    <a:pt x="1563" y="639"/>
                  </a:lnTo>
                  <a:lnTo>
                    <a:pt x="1538" y="558"/>
                  </a:lnTo>
                  <a:lnTo>
                    <a:pt x="1514" y="477"/>
                  </a:lnTo>
                  <a:lnTo>
                    <a:pt x="1488" y="396"/>
                  </a:lnTo>
                  <a:lnTo>
                    <a:pt x="1464" y="314"/>
                  </a:lnTo>
                  <a:lnTo>
                    <a:pt x="1439" y="234"/>
                  </a:lnTo>
                  <a:lnTo>
                    <a:pt x="1534" y="205"/>
                  </a:lnTo>
                  <a:lnTo>
                    <a:pt x="1630" y="176"/>
                  </a:lnTo>
                  <a:lnTo>
                    <a:pt x="1724" y="146"/>
                  </a:lnTo>
                  <a:lnTo>
                    <a:pt x="1820" y="117"/>
                  </a:lnTo>
                  <a:lnTo>
                    <a:pt x="1916" y="89"/>
                  </a:lnTo>
                  <a:lnTo>
                    <a:pt x="2011" y="59"/>
                  </a:lnTo>
                  <a:lnTo>
                    <a:pt x="2107" y="30"/>
                  </a:lnTo>
                  <a:lnTo>
                    <a:pt x="2204" y="0"/>
                  </a:lnTo>
                  <a:lnTo>
                    <a:pt x="2260" y="185"/>
                  </a:lnTo>
                  <a:lnTo>
                    <a:pt x="2316" y="371"/>
                  </a:lnTo>
                  <a:lnTo>
                    <a:pt x="2373" y="556"/>
                  </a:lnTo>
                  <a:lnTo>
                    <a:pt x="2429" y="740"/>
                  </a:lnTo>
                  <a:lnTo>
                    <a:pt x="2486" y="926"/>
                  </a:lnTo>
                  <a:lnTo>
                    <a:pt x="2542" y="1111"/>
                  </a:lnTo>
                  <a:lnTo>
                    <a:pt x="2599" y="1297"/>
                  </a:lnTo>
                  <a:lnTo>
                    <a:pt x="2655" y="1481"/>
                  </a:lnTo>
                  <a:lnTo>
                    <a:pt x="2712" y="1666"/>
                  </a:lnTo>
                  <a:lnTo>
                    <a:pt x="2768" y="1852"/>
                  </a:lnTo>
                  <a:lnTo>
                    <a:pt x="2825" y="2037"/>
                  </a:lnTo>
                  <a:lnTo>
                    <a:pt x="2881" y="2221"/>
                  </a:lnTo>
                  <a:lnTo>
                    <a:pt x="2937" y="2407"/>
                  </a:lnTo>
                  <a:lnTo>
                    <a:pt x="2994" y="2592"/>
                  </a:lnTo>
                  <a:lnTo>
                    <a:pt x="3050" y="2777"/>
                  </a:lnTo>
                  <a:lnTo>
                    <a:pt x="3108" y="2962"/>
                  </a:lnTo>
                  <a:lnTo>
                    <a:pt x="3064" y="2976"/>
                  </a:lnTo>
                  <a:lnTo>
                    <a:pt x="3020" y="2988"/>
                  </a:lnTo>
                  <a:lnTo>
                    <a:pt x="2977" y="3002"/>
                  </a:lnTo>
                  <a:lnTo>
                    <a:pt x="2933" y="3015"/>
                  </a:lnTo>
                  <a:lnTo>
                    <a:pt x="2889" y="3029"/>
                  </a:lnTo>
                  <a:lnTo>
                    <a:pt x="2846" y="3041"/>
                  </a:lnTo>
                  <a:lnTo>
                    <a:pt x="2803" y="3055"/>
                  </a:lnTo>
                  <a:lnTo>
                    <a:pt x="2759" y="3068"/>
                  </a:lnTo>
                  <a:lnTo>
                    <a:pt x="2667" y="3009"/>
                  </a:lnTo>
                  <a:lnTo>
                    <a:pt x="2573" y="2949"/>
                  </a:lnTo>
                  <a:lnTo>
                    <a:pt x="2481" y="2891"/>
                  </a:lnTo>
                  <a:lnTo>
                    <a:pt x="2389" y="2831"/>
                  </a:lnTo>
                  <a:lnTo>
                    <a:pt x="2297" y="2772"/>
                  </a:lnTo>
                  <a:lnTo>
                    <a:pt x="2204" y="2712"/>
                  </a:lnTo>
                  <a:lnTo>
                    <a:pt x="2111" y="2652"/>
                  </a:lnTo>
                  <a:lnTo>
                    <a:pt x="2019" y="2593"/>
                  </a:lnTo>
                  <a:lnTo>
                    <a:pt x="1926" y="2534"/>
                  </a:lnTo>
                  <a:lnTo>
                    <a:pt x="1834" y="2475"/>
                  </a:lnTo>
                  <a:lnTo>
                    <a:pt x="1742" y="2415"/>
                  </a:lnTo>
                  <a:lnTo>
                    <a:pt x="1648" y="2355"/>
                  </a:lnTo>
                  <a:lnTo>
                    <a:pt x="1556" y="2295"/>
                  </a:lnTo>
                  <a:lnTo>
                    <a:pt x="1463" y="2236"/>
                  </a:lnTo>
                  <a:lnTo>
                    <a:pt x="1371" y="2177"/>
                  </a:lnTo>
                  <a:lnTo>
                    <a:pt x="1279" y="2117"/>
                  </a:lnTo>
                  <a:lnTo>
                    <a:pt x="1303" y="2197"/>
                  </a:lnTo>
                  <a:lnTo>
                    <a:pt x="1327" y="2278"/>
                  </a:lnTo>
                  <a:lnTo>
                    <a:pt x="1352" y="2358"/>
                  </a:lnTo>
                  <a:lnTo>
                    <a:pt x="1376" y="2438"/>
                  </a:lnTo>
                  <a:lnTo>
                    <a:pt x="1401" y="2519"/>
                  </a:lnTo>
                  <a:lnTo>
                    <a:pt x="1426" y="2599"/>
                  </a:lnTo>
                  <a:lnTo>
                    <a:pt x="1450" y="2680"/>
                  </a:lnTo>
                  <a:lnTo>
                    <a:pt x="1474" y="2759"/>
                  </a:lnTo>
                  <a:lnTo>
                    <a:pt x="1499" y="2840"/>
                  </a:lnTo>
                  <a:lnTo>
                    <a:pt x="1524" y="2920"/>
                  </a:lnTo>
                  <a:lnTo>
                    <a:pt x="1548" y="3000"/>
                  </a:lnTo>
                  <a:lnTo>
                    <a:pt x="1572" y="3081"/>
                  </a:lnTo>
                  <a:lnTo>
                    <a:pt x="1596" y="3161"/>
                  </a:lnTo>
                  <a:lnTo>
                    <a:pt x="1621" y="3241"/>
                  </a:lnTo>
                  <a:lnTo>
                    <a:pt x="1646" y="3321"/>
                  </a:lnTo>
                  <a:lnTo>
                    <a:pt x="1670" y="3402"/>
                  </a:lnTo>
                  <a:lnTo>
                    <a:pt x="1575" y="3431"/>
                  </a:lnTo>
                  <a:lnTo>
                    <a:pt x="1478" y="3461"/>
                  </a:lnTo>
                  <a:lnTo>
                    <a:pt x="1382" y="3489"/>
                  </a:lnTo>
                  <a:lnTo>
                    <a:pt x="1287" y="3518"/>
                  </a:lnTo>
                  <a:lnTo>
                    <a:pt x="1191" y="3548"/>
                  </a:lnTo>
                  <a:lnTo>
                    <a:pt x="1095" y="3577"/>
                  </a:lnTo>
                  <a:lnTo>
                    <a:pt x="1000" y="3607"/>
                  </a:lnTo>
                  <a:lnTo>
                    <a:pt x="904" y="363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4599000" y="4286160"/>
              <a:ext cx="393840" cy="406440"/>
            </a:xfrm>
            <a:custGeom>
              <a:avLst/>
              <a:gdLst/>
              <a:ahLst/>
              <a:rect l="l" t="t" r="r" b="b"/>
              <a:pathLst>
                <a:path w="1486" h="1536">
                  <a:moveTo>
                    <a:pt x="519" y="35"/>
                  </a:moveTo>
                  <a:lnTo>
                    <a:pt x="482" y="46"/>
                  </a:lnTo>
                  <a:lnTo>
                    <a:pt x="446" y="60"/>
                  </a:lnTo>
                  <a:lnTo>
                    <a:pt x="412" y="75"/>
                  </a:lnTo>
                  <a:lnTo>
                    <a:pt x="378" y="91"/>
                  </a:lnTo>
                  <a:lnTo>
                    <a:pt x="347" y="110"/>
                  </a:lnTo>
                  <a:lnTo>
                    <a:pt x="316" y="128"/>
                  </a:lnTo>
                  <a:lnTo>
                    <a:pt x="287" y="149"/>
                  </a:lnTo>
                  <a:lnTo>
                    <a:pt x="260" y="171"/>
                  </a:lnTo>
                  <a:lnTo>
                    <a:pt x="233" y="195"/>
                  </a:lnTo>
                  <a:lnTo>
                    <a:pt x="207" y="219"/>
                  </a:lnTo>
                  <a:lnTo>
                    <a:pt x="182" y="246"/>
                  </a:lnTo>
                  <a:lnTo>
                    <a:pt x="161" y="273"/>
                  </a:lnTo>
                  <a:lnTo>
                    <a:pt x="139" y="303"/>
                  </a:lnTo>
                  <a:lnTo>
                    <a:pt x="118" y="333"/>
                  </a:lnTo>
                  <a:lnTo>
                    <a:pt x="98" y="365"/>
                  </a:lnTo>
                  <a:lnTo>
                    <a:pt x="81" y="399"/>
                  </a:lnTo>
                  <a:lnTo>
                    <a:pt x="65" y="433"/>
                  </a:lnTo>
                  <a:lnTo>
                    <a:pt x="50" y="468"/>
                  </a:lnTo>
                  <a:lnTo>
                    <a:pt x="37" y="503"/>
                  </a:lnTo>
                  <a:lnTo>
                    <a:pt x="27" y="538"/>
                  </a:lnTo>
                  <a:lnTo>
                    <a:pt x="18" y="574"/>
                  </a:lnTo>
                  <a:lnTo>
                    <a:pt x="11" y="610"/>
                  </a:lnTo>
                  <a:lnTo>
                    <a:pt x="5" y="645"/>
                  </a:lnTo>
                  <a:lnTo>
                    <a:pt x="2" y="682"/>
                  </a:lnTo>
                  <a:lnTo>
                    <a:pt x="0" y="719"/>
                  </a:lnTo>
                  <a:lnTo>
                    <a:pt x="0" y="756"/>
                  </a:lnTo>
                  <a:lnTo>
                    <a:pt x="3" y="793"/>
                  </a:lnTo>
                  <a:lnTo>
                    <a:pt x="6" y="831"/>
                  </a:lnTo>
                  <a:lnTo>
                    <a:pt x="12" y="868"/>
                  </a:lnTo>
                  <a:lnTo>
                    <a:pt x="19" y="907"/>
                  </a:lnTo>
                  <a:lnTo>
                    <a:pt x="28" y="945"/>
                  </a:lnTo>
                  <a:lnTo>
                    <a:pt x="40" y="983"/>
                  </a:lnTo>
                  <a:lnTo>
                    <a:pt x="51" y="1022"/>
                  </a:lnTo>
                  <a:lnTo>
                    <a:pt x="66" y="1059"/>
                  </a:lnTo>
                  <a:lnTo>
                    <a:pt x="81" y="1094"/>
                  </a:lnTo>
                  <a:lnTo>
                    <a:pt x="97" y="1129"/>
                  </a:lnTo>
                  <a:lnTo>
                    <a:pt x="116" y="1162"/>
                  </a:lnTo>
                  <a:lnTo>
                    <a:pt x="135" y="1195"/>
                  </a:lnTo>
                  <a:lnTo>
                    <a:pt x="155" y="1225"/>
                  </a:lnTo>
                  <a:lnTo>
                    <a:pt x="177" y="1255"/>
                  </a:lnTo>
                  <a:lnTo>
                    <a:pt x="201" y="1282"/>
                  </a:lnTo>
                  <a:lnTo>
                    <a:pt x="225" y="1309"/>
                  </a:lnTo>
                  <a:lnTo>
                    <a:pt x="250" y="1335"/>
                  </a:lnTo>
                  <a:lnTo>
                    <a:pt x="278" y="1359"/>
                  </a:lnTo>
                  <a:lnTo>
                    <a:pt x="307" y="1382"/>
                  </a:lnTo>
                  <a:lnTo>
                    <a:pt x="337" y="1404"/>
                  </a:lnTo>
                  <a:lnTo>
                    <a:pt x="368" y="1424"/>
                  </a:lnTo>
                  <a:lnTo>
                    <a:pt x="400" y="1443"/>
                  </a:lnTo>
                  <a:lnTo>
                    <a:pt x="434" y="1461"/>
                  </a:lnTo>
                  <a:lnTo>
                    <a:pt x="467" y="1477"/>
                  </a:lnTo>
                  <a:lnTo>
                    <a:pt x="500" y="1491"/>
                  </a:lnTo>
                  <a:lnTo>
                    <a:pt x="535" y="1503"/>
                  </a:lnTo>
                  <a:lnTo>
                    <a:pt x="569" y="1513"/>
                  </a:lnTo>
                  <a:lnTo>
                    <a:pt x="604" y="1522"/>
                  </a:lnTo>
                  <a:lnTo>
                    <a:pt x="639" y="1527"/>
                  </a:lnTo>
                  <a:lnTo>
                    <a:pt x="674" y="1532"/>
                  </a:lnTo>
                  <a:lnTo>
                    <a:pt x="710" y="1534"/>
                  </a:lnTo>
                  <a:lnTo>
                    <a:pt x="746" y="1536"/>
                  </a:lnTo>
                  <a:lnTo>
                    <a:pt x="781" y="1534"/>
                  </a:lnTo>
                  <a:lnTo>
                    <a:pt x="818" y="1531"/>
                  </a:lnTo>
                  <a:lnTo>
                    <a:pt x="855" y="1526"/>
                  </a:lnTo>
                  <a:lnTo>
                    <a:pt x="892" y="1519"/>
                  </a:lnTo>
                  <a:lnTo>
                    <a:pt x="929" y="1511"/>
                  </a:lnTo>
                  <a:lnTo>
                    <a:pt x="967" y="1500"/>
                  </a:lnTo>
                  <a:lnTo>
                    <a:pt x="1004" y="1488"/>
                  </a:lnTo>
                  <a:lnTo>
                    <a:pt x="1039" y="1475"/>
                  </a:lnTo>
                  <a:lnTo>
                    <a:pt x="1073" y="1460"/>
                  </a:lnTo>
                  <a:lnTo>
                    <a:pt x="1106" y="1443"/>
                  </a:lnTo>
                  <a:lnTo>
                    <a:pt x="1139" y="1425"/>
                  </a:lnTo>
                  <a:lnTo>
                    <a:pt x="1169" y="1407"/>
                  </a:lnTo>
                  <a:lnTo>
                    <a:pt x="1198" y="1386"/>
                  </a:lnTo>
                  <a:lnTo>
                    <a:pt x="1226" y="1364"/>
                  </a:lnTo>
                  <a:lnTo>
                    <a:pt x="1253" y="1340"/>
                  </a:lnTo>
                  <a:lnTo>
                    <a:pt x="1279" y="1316"/>
                  </a:lnTo>
                  <a:lnTo>
                    <a:pt x="1303" y="1289"/>
                  </a:lnTo>
                  <a:lnTo>
                    <a:pt x="1326" y="1261"/>
                  </a:lnTo>
                  <a:lnTo>
                    <a:pt x="1348" y="1232"/>
                  </a:lnTo>
                  <a:lnTo>
                    <a:pt x="1369" y="1202"/>
                  </a:lnTo>
                  <a:lnTo>
                    <a:pt x="1387" y="1169"/>
                  </a:lnTo>
                  <a:lnTo>
                    <a:pt x="1406" y="1136"/>
                  </a:lnTo>
                  <a:lnTo>
                    <a:pt x="1422" y="1101"/>
                  </a:lnTo>
                  <a:lnTo>
                    <a:pt x="1436" y="1067"/>
                  </a:lnTo>
                  <a:lnTo>
                    <a:pt x="1448" y="1032"/>
                  </a:lnTo>
                  <a:lnTo>
                    <a:pt x="1460" y="998"/>
                  </a:lnTo>
                  <a:lnTo>
                    <a:pt x="1468" y="962"/>
                  </a:lnTo>
                  <a:lnTo>
                    <a:pt x="1476" y="926"/>
                  </a:lnTo>
                  <a:lnTo>
                    <a:pt x="1481" y="891"/>
                  </a:lnTo>
                  <a:lnTo>
                    <a:pt x="1484" y="854"/>
                  </a:lnTo>
                  <a:lnTo>
                    <a:pt x="1486" y="817"/>
                  </a:lnTo>
                  <a:lnTo>
                    <a:pt x="1486" y="780"/>
                  </a:lnTo>
                  <a:lnTo>
                    <a:pt x="1484" y="743"/>
                  </a:lnTo>
                  <a:lnTo>
                    <a:pt x="1481" y="705"/>
                  </a:lnTo>
                  <a:lnTo>
                    <a:pt x="1475" y="667"/>
                  </a:lnTo>
                  <a:lnTo>
                    <a:pt x="1468" y="629"/>
                  </a:lnTo>
                  <a:lnTo>
                    <a:pt x="1459" y="591"/>
                  </a:lnTo>
                  <a:lnTo>
                    <a:pt x="1447" y="553"/>
                  </a:lnTo>
                  <a:lnTo>
                    <a:pt x="1436" y="515"/>
                  </a:lnTo>
                  <a:lnTo>
                    <a:pt x="1422" y="478"/>
                  </a:lnTo>
                  <a:lnTo>
                    <a:pt x="1406" y="443"/>
                  </a:lnTo>
                  <a:lnTo>
                    <a:pt x="1390" y="408"/>
                  </a:lnTo>
                  <a:lnTo>
                    <a:pt x="1371" y="376"/>
                  </a:lnTo>
                  <a:lnTo>
                    <a:pt x="1353" y="344"/>
                  </a:lnTo>
                  <a:lnTo>
                    <a:pt x="1332" y="313"/>
                  </a:lnTo>
                  <a:lnTo>
                    <a:pt x="1310" y="284"/>
                  </a:lnTo>
                  <a:lnTo>
                    <a:pt x="1286" y="256"/>
                  </a:lnTo>
                  <a:lnTo>
                    <a:pt x="1262" y="228"/>
                  </a:lnTo>
                  <a:lnTo>
                    <a:pt x="1236" y="203"/>
                  </a:lnTo>
                  <a:lnTo>
                    <a:pt x="1209" y="179"/>
                  </a:lnTo>
                  <a:lnTo>
                    <a:pt x="1180" y="156"/>
                  </a:lnTo>
                  <a:lnTo>
                    <a:pt x="1150" y="134"/>
                  </a:lnTo>
                  <a:lnTo>
                    <a:pt x="1119" y="113"/>
                  </a:lnTo>
                  <a:lnTo>
                    <a:pt x="1086" y="94"/>
                  </a:lnTo>
                  <a:lnTo>
                    <a:pt x="1052" y="76"/>
                  </a:lnTo>
                  <a:lnTo>
                    <a:pt x="1019" y="60"/>
                  </a:lnTo>
                  <a:lnTo>
                    <a:pt x="984" y="45"/>
                  </a:lnTo>
                  <a:lnTo>
                    <a:pt x="950" y="34"/>
                  </a:lnTo>
                  <a:lnTo>
                    <a:pt x="915" y="23"/>
                  </a:lnTo>
                  <a:lnTo>
                    <a:pt x="881" y="15"/>
                  </a:lnTo>
                  <a:lnTo>
                    <a:pt x="846" y="8"/>
                  </a:lnTo>
                  <a:lnTo>
                    <a:pt x="810" y="4"/>
                  </a:lnTo>
                  <a:lnTo>
                    <a:pt x="775" y="2"/>
                  </a:lnTo>
                  <a:lnTo>
                    <a:pt x="739" y="0"/>
                  </a:lnTo>
                  <a:lnTo>
                    <a:pt x="702" y="2"/>
                  </a:lnTo>
                  <a:lnTo>
                    <a:pt x="666" y="4"/>
                  </a:lnTo>
                  <a:lnTo>
                    <a:pt x="629" y="8"/>
                  </a:lnTo>
                  <a:lnTo>
                    <a:pt x="593" y="15"/>
                  </a:lnTo>
                  <a:lnTo>
                    <a:pt x="556" y="25"/>
                  </a:lnTo>
                  <a:lnTo>
                    <a:pt x="519" y="3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4378320" y="4059360"/>
              <a:ext cx="833400" cy="861840"/>
            </a:xfrm>
            <a:custGeom>
              <a:avLst/>
              <a:gdLst/>
              <a:ahLst/>
              <a:rect l="l" t="t" r="r" b="b"/>
              <a:pathLst>
                <a:path w="3151" h="3258">
                  <a:moveTo>
                    <a:pt x="1096" y="71"/>
                  </a:moveTo>
                  <a:lnTo>
                    <a:pt x="1132" y="60"/>
                  </a:lnTo>
                  <a:lnTo>
                    <a:pt x="1166" y="50"/>
                  </a:lnTo>
                  <a:lnTo>
                    <a:pt x="1202" y="42"/>
                  </a:lnTo>
                  <a:lnTo>
                    <a:pt x="1236" y="34"/>
                  </a:lnTo>
                  <a:lnTo>
                    <a:pt x="1272" y="27"/>
                  </a:lnTo>
                  <a:lnTo>
                    <a:pt x="1308" y="21"/>
                  </a:lnTo>
                  <a:lnTo>
                    <a:pt x="1342" y="15"/>
                  </a:lnTo>
                  <a:lnTo>
                    <a:pt x="1378" y="11"/>
                  </a:lnTo>
                  <a:lnTo>
                    <a:pt x="1413" y="7"/>
                  </a:lnTo>
                  <a:lnTo>
                    <a:pt x="1448" y="4"/>
                  </a:lnTo>
                  <a:lnTo>
                    <a:pt x="1483" y="2"/>
                  </a:lnTo>
                  <a:lnTo>
                    <a:pt x="1519" y="0"/>
                  </a:lnTo>
                  <a:lnTo>
                    <a:pt x="1553" y="0"/>
                  </a:lnTo>
                  <a:lnTo>
                    <a:pt x="1589" y="0"/>
                  </a:lnTo>
                  <a:lnTo>
                    <a:pt x="1625" y="2"/>
                  </a:lnTo>
                  <a:lnTo>
                    <a:pt x="1659" y="3"/>
                  </a:lnTo>
                  <a:lnTo>
                    <a:pt x="1695" y="5"/>
                  </a:lnTo>
                  <a:lnTo>
                    <a:pt x="1729" y="9"/>
                  </a:lnTo>
                  <a:lnTo>
                    <a:pt x="1764" y="13"/>
                  </a:lnTo>
                  <a:lnTo>
                    <a:pt x="1799" y="18"/>
                  </a:lnTo>
                  <a:lnTo>
                    <a:pt x="1832" y="25"/>
                  </a:lnTo>
                  <a:lnTo>
                    <a:pt x="1865" y="30"/>
                  </a:lnTo>
                  <a:lnTo>
                    <a:pt x="1899" y="38"/>
                  </a:lnTo>
                  <a:lnTo>
                    <a:pt x="1932" y="47"/>
                  </a:lnTo>
                  <a:lnTo>
                    <a:pt x="1966" y="56"/>
                  </a:lnTo>
                  <a:lnTo>
                    <a:pt x="1998" y="65"/>
                  </a:lnTo>
                  <a:lnTo>
                    <a:pt x="2030" y="75"/>
                  </a:lnTo>
                  <a:lnTo>
                    <a:pt x="2062" y="87"/>
                  </a:lnTo>
                  <a:lnTo>
                    <a:pt x="2094" y="99"/>
                  </a:lnTo>
                  <a:lnTo>
                    <a:pt x="2125" y="112"/>
                  </a:lnTo>
                  <a:lnTo>
                    <a:pt x="2156" y="126"/>
                  </a:lnTo>
                  <a:lnTo>
                    <a:pt x="2187" y="140"/>
                  </a:lnTo>
                  <a:lnTo>
                    <a:pt x="2227" y="161"/>
                  </a:lnTo>
                  <a:lnTo>
                    <a:pt x="2266" y="181"/>
                  </a:lnTo>
                  <a:lnTo>
                    <a:pt x="2305" y="203"/>
                  </a:lnTo>
                  <a:lnTo>
                    <a:pt x="2343" y="225"/>
                  </a:lnTo>
                  <a:lnTo>
                    <a:pt x="2380" y="249"/>
                  </a:lnTo>
                  <a:lnTo>
                    <a:pt x="2417" y="272"/>
                  </a:lnTo>
                  <a:lnTo>
                    <a:pt x="2453" y="298"/>
                  </a:lnTo>
                  <a:lnTo>
                    <a:pt x="2489" y="323"/>
                  </a:lnTo>
                  <a:lnTo>
                    <a:pt x="2522" y="351"/>
                  </a:lnTo>
                  <a:lnTo>
                    <a:pt x="2557" y="377"/>
                  </a:lnTo>
                  <a:lnTo>
                    <a:pt x="2589" y="406"/>
                  </a:lnTo>
                  <a:lnTo>
                    <a:pt x="2621" y="435"/>
                  </a:lnTo>
                  <a:lnTo>
                    <a:pt x="2653" y="466"/>
                  </a:lnTo>
                  <a:lnTo>
                    <a:pt x="2683" y="496"/>
                  </a:lnTo>
                  <a:lnTo>
                    <a:pt x="2713" y="528"/>
                  </a:lnTo>
                  <a:lnTo>
                    <a:pt x="2742" y="561"/>
                  </a:lnTo>
                  <a:lnTo>
                    <a:pt x="2771" y="595"/>
                  </a:lnTo>
                  <a:lnTo>
                    <a:pt x="2799" y="628"/>
                  </a:lnTo>
                  <a:lnTo>
                    <a:pt x="2824" y="664"/>
                  </a:lnTo>
                  <a:lnTo>
                    <a:pt x="2849" y="698"/>
                  </a:lnTo>
                  <a:lnTo>
                    <a:pt x="2873" y="735"/>
                  </a:lnTo>
                  <a:lnTo>
                    <a:pt x="2898" y="771"/>
                  </a:lnTo>
                  <a:lnTo>
                    <a:pt x="2919" y="808"/>
                  </a:lnTo>
                  <a:lnTo>
                    <a:pt x="2941" y="846"/>
                  </a:lnTo>
                  <a:lnTo>
                    <a:pt x="2961" y="884"/>
                  </a:lnTo>
                  <a:lnTo>
                    <a:pt x="2981" y="923"/>
                  </a:lnTo>
                  <a:lnTo>
                    <a:pt x="2999" y="962"/>
                  </a:lnTo>
                  <a:lnTo>
                    <a:pt x="3016" y="1002"/>
                  </a:lnTo>
                  <a:lnTo>
                    <a:pt x="3034" y="1043"/>
                  </a:lnTo>
                  <a:lnTo>
                    <a:pt x="3049" y="1084"/>
                  </a:lnTo>
                  <a:lnTo>
                    <a:pt x="3063" y="1127"/>
                  </a:lnTo>
                  <a:lnTo>
                    <a:pt x="3077" y="1168"/>
                  </a:lnTo>
                  <a:lnTo>
                    <a:pt x="3089" y="1211"/>
                  </a:lnTo>
                  <a:lnTo>
                    <a:pt x="3100" y="1255"/>
                  </a:lnTo>
                  <a:lnTo>
                    <a:pt x="3111" y="1297"/>
                  </a:lnTo>
                  <a:lnTo>
                    <a:pt x="3120" y="1340"/>
                  </a:lnTo>
                  <a:lnTo>
                    <a:pt x="3128" y="1384"/>
                  </a:lnTo>
                  <a:lnTo>
                    <a:pt x="3135" y="1426"/>
                  </a:lnTo>
                  <a:lnTo>
                    <a:pt x="3140" y="1470"/>
                  </a:lnTo>
                  <a:lnTo>
                    <a:pt x="3144" y="1513"/>
                  </a:lnTo>
                  <a:lnTo>
                    <a:pt x="3148" y="1556"/>
                  </a:lnTo>
                  <a:lnTo>
                    <a:pt x="3150" y="1599"/>
                  </a:lnTo>
                  <a:lnTo>
                    <a:pt x="3151" y="1643"/>
                  </a:lnTo>
                  <a:lnTo>
                    <a:pt x="3151" y="1686"/>
                  </a:lnTo>
                  <a:lnTo>
                    <a:pt x="3150" y="1730"/>
                  </a:lnTo>
                  <a:lnTo>
                    <a:pt x="3148" y="1774"/>
                  </a:lnTo>
                  <a:lnTo>
                    <a:pt x="3144" y="1818"/>
                  </a:lnTo>
                  <a:lnTo>
                    <a:pt x="3140" y="1860"/>
                  </a:lnTo>
                  <a:lnTo>
                    <a:pt x="3134" y="1905"/>
                  </a:lnTo>
                  <a:lnTo>
                    <a:pt x="3127" y="1948"/>
                  </a:lnTo>
                  <a:lnTo>
                    <a:pt x="3119" y="1992"/>
                  </a:lnTo>
                  <a:lnTo>
                    <a:pt x="3110" y="2034"/>
                  </a:lnTo>
                  <a:lnTo>
                    <a:pt x="3099" y="2077"/>
                  </a:lnTo>
                  <a:lnTo>
                    <a:pt x="3089" y="2118"/>
                  </a:lnTo>
                  <a:lnTo>
                    <a:pt x="3076" y="2161"/>
                  </a:lnTo>
                  <a:lnTo>
                    <a:pt x="3062" y="2202"/>
                  </a:lnTo>
                  <a:lnTo>
                    <a:pt x="3049" y="2243"/>
                  </a:lnTo>
                  <a:lnTo>
                    <a:pt x="3032" y="2284"/>
                  </a:lnTo>
                  <a:lnTo>
                    <a:pt x="3016" y="2324"/>
                  </a:lnTo>
                  <a:lnTo>
                    <a:pt x="2998" y="2365"/>
                  </a:lnTo>
                  <a:lnTo>
                    <a:pt x="2979" y="2404"/>
                  </a:lnTo>
                  <a:lnTo>
                    <a:pt x="2960" y="2444"/>
                  </a:lnTo>
                  <a:lnTo>
                    <a:pt x="2939" y="2483"/>
                  </a:lnTo>
                  <a:lnTo>
                    <a:pt x="2916" y="2521"/>
                  </a:lnTo>
                  <a:lnTo>
                    <a:pt x="2899" y="2551"/>
                  </a:lnTo>
                  <a:lnTo>
                    <a:pt x="2880" y="2580"/>
                  </a:lnTo>
                  <a:lnTo>
                    <a:pt x="2861" y="2609"/>
                  </a:lnTo>
                  <a:lnTo>
                    <a:pt x="2841" y="2637"/>
                  </a:lnTo>
                  <a:lnTo>
                    <a:pt x="2822" y="2664"/>
                  </a:lnTo>
                  <a:lnTo>
                    <a:pt x="2800" y="2691"/>
                  </a:lnTo>
                  <a:lnTo>
                    <a:pt x="2778" y="2717"/>
                  </a:lnTo>
                  <a:lnTo>
                    <a:pt x="2756" y="2742"/>
                  </a:lnTo>
                  <a:lnTo>
                    <a:pt x="2733" y="2769"/>
                  </a:lnTo>
                  <a:lnTo>
                    <a:pt x="2709" y="2793"/>
                  </a:lnTo>
                  <a:lnTo>
                    <a:pt x="2684" y="2817"/>
                  </a:lnTo>
                  <a:lnTo>
                    <a:pt x="2659" y="2842"/>
                  </a:lnTo>
                  <a:lnTo>
                    <a:pt x="2634" y="2865"/>
                  </a:lnTo>
                  <a:lnTo>
                    <a:pt x="2607" y="2888"/>
                  </a:lnTo>
                  <a:lnTo>
                    <a:pt x="2581" y="2909"/>
                  </a:lnTo>
                  <a:lnTo>
                    <a:pt x="2553" y="2931"/>
                  </a:lnTo>
                  <a:lnTo>
                    <a:pt x="2524" y="2952"/>
                  </a:lnTo>
                  <a:lnTo>
                    <a:pt x="2497" y="2973"/>
                  </a:lnTo>
                  <a:lnTo>
                    <a:pt x="2468" y="2992"/>
                  </a:lnTo>
                  <a:lnTo>
                    <a:pt x="2438" y="3012"/>
                  </a:lnTo>
                  <a:lnTo>
                    <a:pt x="2408" y="3030"/>
                  </a:lnTo>
                  <a:lnTo>
                    <a:pt x="2378" y="3048"/>
                  </a:lnTo>
                  <a:lnTo>
                    <a:pt x="2347" y="3065"/>
                  </a:lnTo>
                  <a:lnTo>
                    <a:pt x="2316" y="3082"/>
                  </a:lnTo>
                  <a:lnTo>
                    <a:pt x="2285" y="3097"/>
                  </a:lnTo>
                  <a:lnTo>
                    <a:pt x="2252" y="3112"/>
                  </a:lnTo>
                  <a:lnTo>
                    <a:pt x="2220" y="3127"/>
                  </a:lnTo>
                  <a:lnTo>
                    <a:pt x="2187" y="3141"/>
                  </a:lnTo>
                  <a:lnTo>
                    <a:pt x="2153" y="3154"/>
                  </a:lnTo>
                  <a:lnTo>
                    <a:pt x="2120" y="3166"/>
                  </a:lnTo>
                  <a:lnTo>
                    <a:pt x="2085" y="3178"/>
                  </a:lnTo>
                  <a:lnTo>
                    <a:pt x="2050" y="3189"/>
                  </a:lnTo>
                  <a:lnTo>
                    <a:pt x="2015" y="3200"/>
                  </a:lnTo>
                  <a:lnTo>
                    <a:pt x="1981" y="3209"/>
                  </a:lnTo>
                  <a:lnTo>
                    <a:pt x="1946" y="3218"/>
                  </a:lnTo>
                  <a:lnTo>
                    <a:pt x="1910" y="3225"/>
                  </a:lnTo>
                  <a:lnTo>
                    <a:pt x="1876" y="3232"/>
                  </a:lnTo>
                  <a:lnTo>
                    <a:pt x="1841" y="3239"/>
                  </a:lnTo>
                  <a:lnTo>
                    <a:pt x="1807" y="3243"/>
                  </a:lnTo>
                  <a:lnTo>
                    <a:pt x="1771" y="3248"/>
                  </a:lnTo>
                  <a:lnTo>
                    <a:pt x="1736" y="3252"/>
                  </a:lnTo>
                  <a:lnTo>
                    <a:pt x="1702" y="3255"/>
                  </a:lnTo>
                  <a:lnTo>
                    <a:pt x="1667" y="3257"/>
                  </a:lnTo>
                  <a:lnTo>
                    <a:pt x="1633" y="3258"/>
                  </a:lnTo>
                  <a:lnTo>
                    <a:pt x="1597" y="3258"/>
                  </a:lnTo>
                  <a:lnTo>
                    <a:pt x="1562" y="3258"/>
                  </a:lnTo>
                  <a:lnTo>
                    <a:pt x="1528" y="3257"/>
                  </a:lnTo>
                  <a:lnTo>
                    <a:pt x="1493" y="3255"/>
                  </a:lnTo>
                  <a:lnTo>
                    <a:pt x="1459" y="3253"/>
                  </a:lnTo>
                  <a:lnTo>
                    <a:pt x="1424" y="3249"/>
                  </a:lnTo>
                  <a:lnTo>
                    <a:pt x="1390" y="3245"/>
                  </a:lnTo>
                  <a:lnTo>
                    <a:pt x="1355" y="3240"/>
                  </a:lnTo>
                  <a:lnTo>
                    <a:pt x="1322" y="3234"/>
                  </a:lnTo>
                  <a:lnTo>
                    <a:pt x="1288" y="3227"/>
                  </a:lnTo>
                  <a:lnTo>
                    <a:pt x="1255" y="3220"/>
                  </a:lnTo>
                  <a:lnTo>
                    <a:pt x="1221" y="3212"/>
                  </a:lnTo>
                  <a:lnTo>
                    <a:pt x="1188" y="3203"/>
                  </a:lnTo>
                  <a:lnTo>
                    <a:pt x="1156" y="3194"/>
                  </a:lnTo>
                  <a:lnTo>
                    <a:pt x="1122" y="3184"/>
                  </a:lnTo>
                  <a:lnTo>
                    <a:pt x="1090" y="3172"/>
                  </a:lnTo>
                  <a:lnTo>
                    <a:pt x="1058" y="3161"/>
                  </a:lnTo>
                  <a:lnTo>
                    <a:pt x="1027" y="3147"/>
                  </a:lnTo>
                  <a:lnTo>
                    <a:pt x="995" y="3133"/>
                  </a:lnTo>
                  <a:lnTo>
                    <a:pt x="963" y="3119"/>
                  </a:lnTo>
                  <a:lnTo>
                    <a:pt x="923" y="3100"/>
                  </a:lnTo>
                  <a:lnTo>
                    <a:pt x="884" y="3079"/>
                  </a:lnTo>
                  <a:lnTo>
                    <a:pt x="846" y="3058"/>
                  </a:lnTo>
                  <a:lnTo>
                    <a:pt x="808" y="3035"/>
                  </a:lnTo>
                  <a:lnTo>
                    <a:pt x="771" y="3012"/>
                  </a:lnTo>
                  <a:lnTo>
                    <a:pt x="735" y="2988"/>
                  </a:lnTo>
                  <a:lnTo>
                    <a:pt x="700" y="2964"/>
                  </a:lnTo>
                  <a:lnTo>
                    <a:pt x="664" y="2937"/>
                  </a:lnTo>
                  <a:lnTo>
                    <a:pt x="630" y="2911"/>
                  </a:lnTo>
                  <a:lnTo>
                    <a:pt x="597" y="2883"/>
                  </a:lnTo>
                  <a:lnTo>
                    <a:pt x="564" y="2854"/>
                  </a:lnTo>
                  <a:lnTo>
                    <a:pt x="531" y="2824"/>
                  </a:lnTo>
                  <a:lnTo>
                    <a:pt x="500" y="2794"/>
                  </a:lnTo>
                  <a:lnTo>
                    <a:pt x="470" y="2763"/>
                  </a:lnTo>
                  <a:lnTo>
                    <a:pt x="440" y="2731"/>
                  </a:lnTo>
                  <a:lnTo>
                    <a:pt x="412" y="2698"/>
                  </a:lnTo>
                  <a:lnTo>
                    <a:pt x="383" y="2664"/>
                  </a:lnTo>
                  <a:lnTo>
                    <a:pt x="355" y="2630"/>
                  </a:lnTo>
                  <a:lnTo>
                    <a:pt x="329" y="2594"/>
                  </a:lnTo>
                  <a:lnTo>
                    <a:pt x="303" y="2558"/>
                  </a:lnTo>
                  <a:lnTo>
                    <a:pt x="279" y="2523"/>
                  </a:lnTo>
                  <a:lnTo>
                    <a:pt x="256" y="2486"/>
                  </a:lnTo>
                  <a:lnTo>
                    <a:pt x="233" y="2449"/>
                  </a:lnTo>
                  <a:lnTo>
                    <a:pt x="212" y="2411"/>
                  </a:lnTo>
                  <a:lnTo>
                    <a:pt x="192" y="2372"/>
                  </a:lnTo>
                  <a:lnTo>
                    <a:pt x="172" y="2333"/>
                  </a:lnTo>
                  <a:lnTo>
                    <a:pt x="154" y="2293"/>
                  </a:lnTo>
                  <a:lnTo>
                    <a:pt x="136" y="2253"/>
                  </a:lnTo>
                  <a:lnTo>
                    <a:pt x="119" y="2213"/>
                  </a:lnTo>
                  <a:lnTo>
                    <a:pt x="104" y="2170"/>
                  </a:lnTo>
                  <a:lnTo>
                    <a:pt x="89" y="2129"/>
                  </a:lnTo>
                  <a:lnTo>
                    <a:pt x="75" y="2086"/>
                  </a:lnTo>
                  <a:lnTo>
                    <a:pt x="63" y="2042"/>
                  </a:lnTo>
                  <a:lnTo>
                    <a:pt x="52" y="2000"/>
                  </a:lnTo>
                  <a:lnTo>
                    <a:pt x="42" y="1957"/>
                  </a:lnTo>
                  <a:lnTo>
                    <a:pt x="33" y="1913"/>
                  </a:lnTo>
                  <a:lnTo>
                    <a:pt x="25" y="1871"/>
                  </a:lnTo>
                  <a:lnTo>
                    <a:pt x="18" y="1827"/>
                  </a:lnTo>
                  <a:lnTo>
                    <a:pt x="12" y="1784"/>
                  </a:lnTo>
                  <a:lnTo>
                    <a:pt x="7" y="1741"/>
                  </a:lnTo>
                  <a:lnTo>
                    <a:pt x="4" y="1697"/>
                  </a:lnTo>
                  <a:lnTo>
                    <a:pt x="1" y="1654"/>
                  </a:lnTo>
                  <a:lnTo>
                    <a:pt x="0" y="1610"/>
                  </a:lnTo>
                  <a:lnTo>
                    <a:pt x="0" y="1567"/>
                  </a:lnTo>
                  <a:lnTo>
                    <a:pt x="1" y="1524"/>
                  </a:lnTo>
                  <a:lnTo>
                    <a:pt x="4" y="1480"/>
                  </a:lnTo>
                  <a:lnTo>
                    <a:pt x="7" y="1437"/>
                  </a:lnTo>
                  <a:lnTo>
                    <a:pt x="12" y="1393"/>
                  </a:lnTo>
                  <a:lnTo>
                    <a:pt x="16" y="1349"/>
                  </a:lnTo>
                  <a:lnTo>
                    <a:pt x="23" y="1306"/>
                  </a:lnTo>
                  <a:lnTo>
                    <a:pt x="31" y="1264"/>
                  </a:lnTo>
                  <a:lnTo>
                    <a:pt x="41" y="1221"/>
                  </a:lnTo>
                  <a:lnTo>
                    <a:pt x="51" y="1179"/>
                  </a:lnTo>
                  <a:lnTo>
                    <a:pt x="63" y="1137"/>
                  </a:lnTo>
                  <a:lnTo>
                    <a:pt x="74" y="1096"/>
                  </a:lnTo>
                  <a:lnTo>
                    <a:pt x="88" y="1054"/>
                  </a:lnTo>
                  <a:lnTo>
                    <a:pt x="103" y="1014"/>
                  </a:lnTo>
                  <a:lnTo>
                    <a:pt x="118" y="974"/>
                  </a:lnTo>
                  <a:lnTo>
                    <a:pt x="135" y="933"/>
                  </a:lnTo>
                  <a:lnTo>
                    <a:pt x="152" y="893"/>
                  </a:lnTo>
                  <a:lnTo>
                    <a:pt x="172" y="854"/>
                  </a:lnTo>
                  <a:lnTo>
                    <a:pt x="192" y="815"/>
                  </a:lnTo>
                  <a:lnTo>
                    <a:pt x="212" y="775"/>
                  </a:lnTo>
                  <a:lnTo>
                    <a:pt x="235" y="736"/>
                  </a:lnTo>
                  <a:lnTo>
                    <a:pt x="253" y="706"/>
                  </a:lnTo>
                  <a:lnTo>
                    <a:pt x="271" y="678"/>
                  </a:lnTo>
                  <a:lnTo>
                    <a:pt x="291" y="649"/>
                  </a:lnTo>
                  <a:lnTo>
                    <a:pt x="310" y="621"/>
                  </a:lnTo>
                  <a:lnTo>
                    <a:pt x="331" y="594"/>
                  </a:lnTo>
                  <a:lnTo>
                    <a:pt x="352" y="566"/>
                  </a:lnTo>
                  <a:lnTo>
                    <a:pt x="374" y="541"/>
                  </a:lnTo>
                  <a:lnTo>
                    <a:pt x="395" y="514"/>
                  </a:lnTo>
                  <a:lnTo>
                    <a:pt x="419" y="489"/>
                  </a:lnTo>
                  <a:lnTo>
                    <a:pt x="443" y="463"/>
                  </a:lnTo>
                  <a:lnTo>
                    <a:pt x="467" y="439"/>
                  </a:lnTo>
                  <a:lnTo>
                    <a:pt x="491" y="416"/>
                  </a:lnTo>
                  <a:lnTo>
                    <a:pt x="516" y="392"/>
                  </a:lnTo>
                  <a:lnTo>
                    <a:pt x="543" y="370"/>
                  </a:lnTo>
                  <a:lnTo>
                    <a:pt x="569" y="347"/>
                  </a:lnTo>
                  <a:lnTo>
                    <a:pt x="597" y="326"/>
                  </a:lnTo>
                  <a:lnTo>
                    <a:pt x="625" y="306"/>
                  </a:lnTo>
                  <a:lnTo>
                    <a:pt x="652" y="285"/>
                  </a:lnTo>
                  <a:lnTo>
                    <a:pt x="681" y="265"/>
                  </a:lnTo>
                  <a:lnTo>
                    <a:pt x="710" y="246"/>
                  </a:lnTo>
                  <a:lnTo>
                    <a:pt x="740" y="227"/>
                  </a:lnTo>
                  <a:lnTo>
                    <a:pt x="770" y="210"/>
                  </a:lnTo>
                  <a:lnTo>
                    <a:pt x="801" y="193"/>
                  </a:lnTo>
                  <a:lnTo>
                    <a:pt x="832" y="177"/>
                  </a:lnTo>
                  <a:lnTo>
                    <a:pt x="863" y="162"/>
                  </a:lnTo>
                  <a:lnTo>
                    <a:pt x="895" y="147"/>
                  </a:lnTo>
                  <a:lnTo>
                    <a:pt x="928" y="132"/>
                  </a:lnTo>
                  <a:lnTo>
                    <a:pt x="960" y="118"/>
                  </a:lnTo>
                  <a:lnTo>
                    <a:pt x="993" y="105"/>
                  </a:lnTo>
                  <a:lnTo>
                    <a:pt x="1028" y="93"/>
                  </a:lnTo>
                  <a:lnTo>
                    <a:pt x="1061" y="81"/>
                  </a:lnTo>
                  <a:lnTo>
                    <a:pt x="1096" y="71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5361120" y="4468680"/>
              <a:ext cx="249120" cy="257400"/>
            </a:xfrm>
            <a:custGeom>
              <a:avLst/>
              <a:gdLst/>
              <a:ahLst/>
              <a:rect l="l" t="t" r="r" b="b"/>
              <a:pathLst>
                <a:path w="940" h="976">
                  <a:moveTo>
                    <a:pt x="233" y="976"/>
                  </a:moveTo>
                  <a:lnTo>
                    <a:pt x="203" y="880"/>
                  </a:lnTo>
                  <a:lnTo>
                    <a:pt x="174" y="786"/>
                  </a:lnTo>
                  <a:lnTo>
                    <a:pt x="145" y="691"/>
                  </a:lnTo>
                  <a:lnTo>
                    <a:pt x="116" y="595"/>
                  </a:lnTo>
                  <a:lnTo>
                    <a:pt x="87" y="501"/>
                  </a:lnTo>
                  <a:lnTo>
                    <a:pt x="57" y="407"/>
                  </a:lnTo>
                  <a:lnTo>
                    <a:pt x="29" y="311"/>
                  </a:lnTo>
                  <a:lnTo>
                    <a:pt x="0" y="217"/>
                  </a:lnTo>
                  <a:lnTo>
                    <a:pt x="89" y="189"/>
                  </a:lnTo>
                  <a:lnTo>
                    <a:pt x="176" y="162"/>
                  </a:lnTo>
                  <a:lnTo>
                    <a:pt x="265" y="135"/>
                  </a:lnTo>
                  <a:lnTo>
                    <a:pt x="353" y="108"/>
                  </a:lnTo>
                  <a:lnTo>
                    <a:pt x="442" y="81"/>
                  </a:lnTo>
                  <a:lnTo>
                    <a:pt x="531" y="54"/>
                  </a:lnTo>
                  <a:lnTo>
                    <a:pt x="618" y="27"/>
                  </a:lnTo>
                  <a:lnTo>
                    <a:pt x="707" y="0"/>
                  </a:lnTo>
                  <a:lnTo>
                    <a:pt x="737" y="95"/>
                  </a:lnTo>
                  <a:lnTo>
                    <a:pt x="766" y="190"/>
                  </a:lnTo>
                  <a:lnTo>
                    <a:pt x="795" y="285"/>
                  </a:lnTo>
                  <a:lnTo>
                    <a:pt x="824" y="379"/>
                  </a:lnTo>
                  <a:lnTo>
                    <a:pt x="852" y="475"/>
                  </a:lnTo>
                  <a:lnTo>
                    <a:pt x="882" y="569"/>
                  </a:lnTo>
                  <a:lnTo>
                    <a:pt x="911" y="665"/>
                  </a:lnTo>
                  <a:lnTo>
                    <a:pt x="940" y="759"/>
                  </a:lnTo>
                  <a:lnTo>
                    <a:pt x="851" y="786"/>
                  </a:lnTo>
                  <a:lnTo>
                    <a:pt x="762" y="813"/>
                  </a:lnTo>
                  <a:lnTo>
                    <a:pt x="674" y="840"/>
                  </a:lnTo>
                  <a:lnTo>
                    <a:pt x="585" y="867"/>
                  </a:lnTo>
                  <a:lnTo>
                    <a:pt x="497" y="894"/>
                  </a:lnTo>
                  <a:lnTo>
                    <a:pt x="409" y="921"/>
                  </a:lnTo>
                  <a:lnTo>
                    <a:pt x="320" y="948"/>
                  </a:lnTo>
                  <a:lnTo>
                    <a:pt x="233" y="976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5183280" y="3886200"/>
              <a:ext cx="352440" cy="593640"/>
            </a:xfrm>
            <a:custGeom>
              <a:avLst/>
              <a:gdLst/>
              <a:ahLst/>
              <a:rect l="l" t="t" r="r" b="b"/>
              <a:pathLst>
                <a:path w="1329" h="2245">
                  <a:moveTo>
                    <a:pt x="621" y="2245"/>
                  </a:moveTo>
                  <a:lnTo>
                    <a:pt x="583" y="2118"/>
                  </a:lnTo>
                  <a:lnTo>
                    <a:pt x="544" y="1991"/>
                  </a:lnTo>
                  <a:lnTo>
                    <a:pt x="504" y="1865"/>
                  </a:lnTo>
                  <a:lnTo>
                    <a:pt x="466" y="1738"/>
                  </a:lnTo>
                  <a:lnTo>
                    <a:pt x="427" y="1611"/>
                  </a:lnTo>
                  <a:lnTo>
                    <a:pt x="389" y="1485"/>
                  </a:lnTo>
                  <a:lnTo>
                    <a:pt x="350" y="1358"/>
                  </a:lnTo>
                  <a:lnTo>
                    <a:pt x="311" y="1231"/>
                  </a:lnTo>
                  <a:lnTo>
                    <a:pt x="273" y="1105"/>
                  </a:lnTo>
                  <a:lnTo>
                    <a:pt x="234" y="978"/>
                  </a:lnTo>
                  <a:lnTo>
                    <a:pt x="194" y="851"/>
                  </a:lnTo>
                  <a:lnTo>
                    <a:pt x="155" y="725"/>
                  </a:lnTo>
                  <a:lnTo>
                    <a:pt x="117" y="598"/>
                  </a:lnTo>
                  <a:lnTo>
                    <a:pt x="78" y="471"/>
                  </a:lnTo>
                  <a:lnTo>
                    <a:pt x="39" y="344"/>
                  </a:lnTo>
                  <a:lnTo>
                    <a:pt x="0" y="217"/>
                  </a:lnTo>
                  <a:lnTo>
                    <a:pt x="88" y="190"/>
                  </a:lnTo>
                  <a:lnTo>
                    <a:pt x="177" y="164"/>
                  </a:lnTo>
                  <a:lnTo>
                    <a:pt x="266" y="136"/>
                  </a:lnTo>
                  <a:lnTo>
                    <a:pt x="355" y="110"/>
                  </a:lnTo>
                  <a:lnTo>
                    <a:pt x="443" y="82"/>
                  </a:lnTo>
                  <a:lnTo>
                    <a:pt x="532" y="54"/>
                  </a:lnTo>
                  <a:lnTo>
                    <a:pt x="621" y="28"/>
                  </a:lnTo>
                  <a:lnTo>
                    <a:pt x="709" y="0"/>
                  </a:lnTo>
                  <a:lnTo>
                    <a:pt x="749" y="128"/>
                  </a:lnTo>
                  <a:lnTo>
                    <a:pt x="787" y="255"/>
                  </a:lnTo>
                  <a:lnTo>
                    <a:pt x="826" y="381"/>
                  </a:lnTo>
                  <a:lnTo>
                    <a:pt x="865" y="508"/>
                  </a:lnTo>
                  <a:lnTo>
                    <a:pt x="903" y="635"/>
                  </a:lnTo>
                  <a:lnTo>
                    <a:pt x="942" y="761"/>
                  </a:lnTo>
                  <a:lnTo>
                    <a:pt x="981" y="888"/>
                  </a:lnTo>
                  <a:lnTo>
                    <a:pt x="1019" y="1015"/>
                  </a:lnTo>
                  <a:lnTo>
                    <a:pt x="1058" y="1141"/>
                  </a:lnTo>
                  <a:lnTo>
                    <a:pt x="1098" y="1268"/>
                  </a:lnTo>
                  <a:lnTo>
                    <a:pt x="1136" y="1395"/>
                  </a:lnTo>
                  <a:lnTo>
                    <a:pt x="1175" y="1521"/>
                  </a:lnTo>
                  <a:lnTo>
                    <a:pt x="1213" y="1648"/>
                  </a:lnTo>
                  <a:lnTo>
                    <a:pt x="1252" y="1775"/>
                  </a:lnTo>
                  <a:lnTo>
                    <a:pt x="1291" y="1902"/>
                  </a:lnTo>
                  <a:lnTo>
                    <a:pt x="1329" y="2028"/>
                  </a:lnTo>
                  <a:lnTo>
                    <a:pt x="1240" y="2056"/>
                  </a:lnTo>
                  <a:lnTo>
                    <a:pt x="1152" y="2082"/>
                  </a:lnTo>
                  <a:lnTo>
                    <a:pt x="1064" y="2110"/>
                  </a:lnTo>
                  <a:lnTo>
                    <a:pt x="976" y="2136"/>
                  </a:lnTo>
                  <a:lnTo>
                    <a:pt x="887" y="2164"/>
                  </a:lnTo>
                  <a:lnTo>
                    <a:pt x="798" y="2191"/>
                  </a:lnTo>
                  <a:lnTo>
                    <a:pt x="709" y="2217"/>
                  </a:lnTo>
                  <a:lnTo>
                    <a:pt x="621" y="2245"/>
                  </a:lnTo>
                </a:path>
              </a:pathLst>
            </a:custGeom>
            <a:noFill/>
            <a:ln w="111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4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7355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9" name=""/>
          <p:cNvSpPr/>
          <p:nvPr/>
        </p:nvSpPr>
        <p:spPr>
          <a:xfrm>
            <a:off x="918360" y="1752480"/>
            <a:ext cx="73645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f1a17"/>
                </a:solidFill>
                <a:latin typeface="Geometr231 Hv BT"/>
              </a:rPr>
              <a:t>TREAT EARLY DON’T WA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2511360" y="22129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1" name=""/>
          <p:cNvGrpSpPr/>
          <p:nvPr/>
        </p:nvGrpSpPr>
        <p:grpSpPr>
          <a:xfrm>
            <a:off x="2347920" y="2590920"/>
            <a:ext cx="4316400" cy="3351240"/>
            <a:chOff x="2347920" y="2590920"/>
            <a:chExt cx="4316400" cy="3351240"/>
          </a:xfrm>
        </p:grpSpPr>
        <p:sp>
          <p:nvSpPr>
            <p:cNvPr id="7592" name=""/>
            <p:cNvSpPr/>
            <p:nvPr/>
          </p:nvSpPr>
          <p:spPr>
            <a:xfrm>
              <a:off x="6329520" y="4543560"/>
              <a:ext cx="4572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6321600" y="453564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19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19"/>
                  </a:lnTo>
                  <a:lnTo>
                    <a:pt x="20" y="0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6329520" y="4535640"/>
              <a:ext cx="5364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136" y="19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15" y="40"/>
                  </a:lnTo>
                  <a:lnTo>
                    <a:pt x="136" y="19"/>
                  </a:lnTo>
                  <a:lnTo>
                    <a:pt x="115" y="40"/>
                  </a:lnTo>
                  <a:lnTo>
                    <a:pt x="121" y="40"/>
                  </a:lnTo>
                  <a:lnTo>
                    <a:pt x="125" y="38"/>
                  </a:lnTo>
                  <a:lnTo>
                    <a:pt x="128" y="36"/>
                  </a:lnTo>
                  <a:lnTo>
                    <a:pt x="130" y="33"/>
                  </a:lnTo>
                  <a:lnTo>
                    <a:pt x="134" y="30"/>
                  </a:lnTo>
                  <a:lnTo>
                    <a:pt x="135" y="27"/>
                  </a:lnTo>
                  <a:lnTo>
                    <a:pt x="136" y="23"/>
                  </a:lnTo>
                  <a:lnTo>
                    <a:pt x="136" y="19"/>
                  </a:lnTo>
                  <a:lnTo>
                    <a:pt x="136" y="16"/>
                  </a:lnTo>
                  <a:lnTo>
                    <a:pt x="135" y="13"/>
                  </a:lnTo>
                  <a:lnTo>
                    <a:pt x="134" y="8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6367320" y="4543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19" y="2705"/>
                  </a:moveTo>
                  <a:lnTo>
                    <a:pt x="40" y="268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6"/>
                  </a:lnTo>
                  <a:lnTo>
                    <a:pt x="19" y="2705"/>
                  </a:lnTo>
                  <a:lnTo>
                    <a:pt x="0" y="2686"/>
                  </a:lnTo>
                  <a:lnTo>
                    <a:pt x="0" y="2690"/>
                  </a:lnTo>
                  <a:lnTo>
                    <a:pt x="1" y="2695"/>
                  </a:lnTo>
                  <a:lnTo>
                    <a:pt x="3" y="2698"/>
                  </a:lnTo>
                  <a:lnTo>
                    <a:pt x="6" y="2701"/>
                  </a:lnTo>
                  <a:lnTo>
                    <a:pt x="8" y="2703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19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0" y="2703"/>
                  </a:lnTo>
                  <a:lnTo>
                    <a:pt x="33" y="2701"/>
                  </a:lnTo>
                  <a:lnTo>
                    <a:pt x="37" y="2698"/>
                  </a:lnTo>
                  <a:lnTo>
                    <a:pt x="39" y="2695"/>
                  </a:lnTo>
                  <a:lnTo>
                    <a:pt x="40" y="2690"/>
                  </a:lnTo>
                  <a:lnTo>
                    <a:pt x="40" y="2686"/>
                  </a:lnTo>
                  <a:lnTo>
                    <a:pt x="19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6321600" y="560232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21"/>
                  </a:moveTo>
                  <a:lnTo>
                    <a:pt x="20" y="40"/>
                  </a:lnTo>
                  <a:lnTo>
                    <a:pt x="135" y="40"/>
                  </a:lnTo>
                  <a:lnTo>
                    <a:pt x="135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3125880" y="3108600"/>
              <a:ext cx="142920" cy="160200"/>
            </a:xfrm>
            <a:custGeom>
              <a:avLst/>
              <a:gdLst/>
              <a:ahLst/>
              <a:rect l="l" t="t" r="r" b="b"/>
              <a:pathLst>
                <a:path w="359" h="402">
                  <a:moveTo>
                    <a:pt x="0" y="295"/>
                  </a:moveTo>
                  <a:lnTo>
                    <a:pt x="160" y="0"/>
                  </a:lnTo>
                  <a:lnTo>
                    <a:pt x="359" y="64"/>
                  </a:lnTo>
                  <a:lnTo>
                    <a:pt x="266" y="402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3119400" y="3100680"/>
              <a:ext cx="77760" cy="128520"/>
            </a:xfrm>
            <a:custGeom>
              <a:avLst/>
              <a:gdLst/>
              <a:ahLst/>
              <a:rect l="l" t="t" r="r" b="b"/>
              <a:pathLst>
                <a:path w="197" h="325">
                  <a:moveTo>
                    <a:pt x="183" y="1"/>
                  </a:moveTo>
                  <a:lnTo>
                    <a:pt x="160" y="10"/>
                  </a:lnTo>
                  <a:lnTo>
                    <a:pt x="0" y="305"/>
                  </a:lnTo>
                  <a:lnTo>
                    <a:pt x="36" y="325"/>
                  </a:lnTo>
                  <a:lnTo>
                    <a:pt x="195" y="30"/>
                  </a:lnTo>
                  <a:lnTo>
                    <a:pt x="183" y="1"/>
                  </a:lnTo>
                  <a:lnTo>
                    <a:pt x="195" y="30"/>
                  </a:lnTo>
                  <a:lnTo>
                    <a:pt x="196" y="26"/>
                  </a:lnTo>
                  <a:lnTo>
                    <a:pt x="197" y="21"/>
                  </a:lnTo>
                  <a:lnTo>
                    <a:pt x="197" y="18"/>
                  </a:lnTo>
                  <a:lnTo>
                    <a:pt x="196" y="14"/>
                  </a:lnTo>
                  <a:lnTo>
                    <a:pt x="195" y="10"/>
                  </a:lnTo>
                  <a:lnTo>
                    <a:pt x="193" y="7"/>
                  </a:lnTo>
                  <a:lnTo>
                    <a:pt x="190" y="5"/>
                  </a:lnTo>
                  <a:lnTo>
                    <a:pt x="187" y="3"/>
                  </a:lnTo>
                  <a:lnTo>
                    <a:pt x="183" y="1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4"/>
                  </a:lnTo>
                  <a:lnTo>
                    <a:pt x="162" y="7"/>
                  </a:lnTo>
                  <a:lnTo>
                    <a:pt x="160" y="10"/>
                  </a:lnTo>
                  <a:lnTo>
                    <a:pt x="183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3186000" y="3100680"/>
              <a:ext cx="90720" cy="41040"/>
            </a:xfrm>
            <a:custGeom>
              <a:avLst/>
              <a:gdLst/>
              <a:ahLst/>
              <a:rect l="l" t="t" r="r" b="b"/>
              <a:pathLst>
                <a:path w="226" h="103">
                  <a:moveTo>
                    <a:pt x="225" y="88"/>
                  </a:moveTo>
                  <a:lnTo>
                    <a:pt x="212" y="63"/>
                  </a:lnTo>
                  <a:lnTo>
                    <a:pt x="13" y="0"/>
                  </a:lnTo>
                  <a:lnTo>
                    <a:pt x="0" y="39"/>
                  </a:lnTo>
                  <a:lnTo>
                    <a:pt x="199" y="102"/>
                  </a:lnTo>
                  <a:lnTo>
                    <a:pt x="225" y="88"/>
                  </a:lnTo>
                  <a:lnTo>
                    <a:pt x="199" y="102"/>
                  </a:lnTo>
                  <a:lnTo>
                    <a:pt x="205" y="103"/>
                  </a:lnTo>
                  <a:lnTo>
                    <a:pt x="209" y="103"/>
                  </a:lnTo>
                  <a:lnTo>
                    <a:pt x="212" y="102"/>
                  </a:lnTo>
                  <a:lnTo>
                    <a:pt x="215" y="101"/>
                  </a:lnTo>
                  <a:lnTo>
                    <a:pt x="219" y="99"/>
                  </a:lnTo>
                  <a:lnTo>
                    <a:pt x="222" y="96"/>
                  </a:lnTo>
                  <a:lnTo>
                    <a:pt x="223" y="93"/>
                  </a:lnTo>
                  <a:lnTo>
                    <a:pt x="225" y="89"/>
                  </a:lnTo>
                  <a:lnTo>
                    <a:pt x="226" y="85"/>
                  </a:lnTo>
                  <a:lnTo>
                    <a:pt x="226" y="82"/>
                  </a:lnTo>
                  <a:lnTo>
                    <a:pt x="225" y="79"/>
                  </a:lnTo>
                  <a:lnTo>
                    <a:pt x="224" y="74"/>
                  </a:lnTo>
                  <a:lnTo>
                    <a:pt x="223" y="71"/>
                  </a:lnTo>
                  <a:lnTo>
                    <a:pt x="220" y="68"/>
                  </a:lnTo>
                  <a:lnTo>
                    <a:pt x="216" y="66"/>
                  </a:lnTo>
                  <a:lnTo>
                    <a:pt x="212" y="63"/>
                  </a:lnTo>
                  <a:lnTo>
                    <a:pt x="225" y="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3224160" y="3132360"/>
              <a:ext cx="52560" cy="144360"/>
            </a:xfrm>
            <a:custGeom>
              <a:avLst/>
              <a:gdLst/>
              <a:ahLst/>
              <a:rect l="l" t="t" r="r" b="b"/>
              <a:pathLst>
                <a:path w="132" h="362">
                  <a:moveTo>
                    <a:pt x="12" y="361"/>
                  </a:moveTo>
                  <a:lnTo>
                    <a:pt x="39" y="347"/>
                  </a:lnTo>
                  <a:lnTo>
                    <a:pt x="132" y="10"/>
                  </a:lnTo>
                  <a:lnTo>
                    <a:pt x="93" y="0"/>
                  </a:lnTo>
                  <a:lnTo>
                    <a:pt x="0" y="338"/>
                  </a:lnTo>
                  <a:lnTo>
                    <a:pt x="12" y="361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1" y="349"/>
                  </a:lnTo>
                  <a:lnTo>
                    <a:pt x="3" y="354"/>
                  </a:lnTo>
                  <a:lnTo>
                    <a:pt x="5" y="356"/>
                  </a:lnTo>
                  <a:lnTo>
                    <a:pt x="8" y="359"/>
                  </a:lnTo>
                  <a:lnTo>
                    <a:pt x="11" y="360"/>
                  </a:lnTo>
                  <a:lnTo>
                    <a:pt x="14" y="362"/>
                  </a:lnTo>
                  <a:lnTo>
                    <a:pt x="19" y="362"/>
                  </a:lnTo>
                  <a:lnTo>
                    <a:pt x="22" y="362"/>
                  </a:lnTo>
                  <a:lnTo>
                    <a:pt x="26" y="362"/>
                  </a:lnTo>
                  <a:lnTo>
                    <a:pt x="30" y="360"/>
                  </a:lnTo>
                  <a:lnTo>
                    <a:pt x="33" y="358"/>
                  </a:lnTo>
                  <a:lnTo>
                    <a:pt x="36" y="356"/>
                  </a:lnTo>
                  <a:lnTo>
                    <a:pt x="38" y="353"/>
                  </a:lnTo>
                  <a:lnTo>
                    <a:pt x="39" y="347"/>
                  </a:lnTo>
                  <a:lnTo>
                    <a:pt x="12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>
              <a:off x="3117960" y="3218040"/>
              <a:ext cx="115920" cy="57240"/>
            </a:xfrm>
            <a:custGeom>
              <a:avLst/>
              <a:gdLst/>
              <a:ahLst/>
              <a:rect l="l" t="t" r="r" b="b"/>
              <a:pathLst>
                <a:path w="293" h="145">
                  <a:moveTo>
                    <a:pt x="3" y="10"/>
                  </a:moveTo>
                  <a:lnTo>
                    <a:pt x="13" y="39"/>
                  </a:lnTo>
                  <a:lnTo>
                    <a:pt x="278" y="145"/>
                  </a:lnTo>
                  <a:lnTo>
                    <a:pt x="293" y="108"/>
                  </a:lnTo>
                  <a:lnTo>
                    <a:pt x="28" y="2"/>
                  </a:lnTo>
                  <a:lnTo>
                    <a:pt x="3" y="10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3" y="39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6191280" y="4206960"/>
              <a:ext cx="414360" cy="382680"/>
            </a:xfrm>
            <a:custGeom>
              <a:avLst/>
              <a:gdLst/>
              <a:ahLst/>
              <a:rect l="l" t="t" r="r" b="b"/>
              <a:pathLst>
                <a:path w="1043" h="967">
                  <a:moveTo>
                    <a:pt x="81" y="943"/>
                  </a:moveTo>
                  <a:lnTo>
                    <a:pt x="400" y="967"/>
                  </a:lnTo>
                  <a:lnTo>
                    <a:pt x="1043" y="174"/>
                  </a:lnTo>
                  <a:lnTo>
                    <a:pt x="867" y="0"/>
                  </a:lnTo>
                  <a:lnTo>
                    <a:pt x="0" y="641"/>
                  </a:lnTo>
                  <a:lnTo>
                    <a:pt x="81" y="943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3" name=""/>
            <p:cNvSpPr/>
            <p:nvPr/>
          </p:nvSpPr>
          <p:spPr>
            <a:xfrm>
              <a:off x="6222960" y="4572000"/>
              <a:ext cx="135000" cy="25560"/>
            </a:xfrm>
            <a:custGeom>
              <a:avLst/>
              <a:gdLst/>
              <a:ahLst/>
              <a:rect l="l" t="t" r="r" b="b"/>
              <a:pathLst>
                <a:path w="339" h="64">
                  <a:moveTo>
                    <a:pt x="335" y="57"/>
                  </a:moveTo>
                  <a:lnTo>
                    <a:pt x="321" y="24"/>
                  </a:lnTo>
                  <a:lnTo>
                    <a:pt x="2" y="0"/>
                  </a:lnTo>
                  <a:lnTo>
                    <a:pt x="0" y="41"/>
                  </a:lnTo>
                  <a:lnTo>
                    <a:pt x="317" y="64"/>
                  </a:lnTo>
                  <a:lnTo>
                    <a:pt x="335" y="57"/>
                  </a:lnTo>
                  <a:lnTo>
                    <a:pt x="317" y="64"/>
                  </a:lnTo>
                  <a:lnTo>
                    <a:pt x="323" y="64"/>
                  </a:lnTo>
                  <a:lnTo>
                    <a:pt x="326" y="63"/>
                  </a:lnTo>
                  <a:lnTo>
                    <a:pt x="330" y="62"/>
                  </a:lnTo>
                  <a:lnTo>
                    <a:pt x="334" y="59"/>
                  </a:lnTo>
                  <a:lnTo>
                    <a:pt x="336" y="57"/>
                  </a:lnTo>
                  <a:lnTo>
                    <a:pt x="338" y="53"/>
                  </a:lnTo>
                  <a:lnTo>
                    <a:pt x="339" y="49"/>
                  </a:lnTo>
                  <a:lnTo>
                    <a:pt x="339" y="46"/>
                  </a:lnTo>
                  <a:lnTo>
                    <a:pt x="339" y="41"/>
                  </a:lnTo>
                  <a:lnTo>
                    <a:pt x="338" y="38"/>
                  </a:lnTo>
                  <a:lnTo>
                    <a:pt x="337" y="35"/>
                  </a:lnTo>
                  <a:lnTo>
                    <a:pt x="335" y="32"/>
                  </a:lnTo>
                  <a:lnTo>
                    <a:pt x="333" y="28"/>
                  </a:lnTo>
                  <a:lnTo>
                    <a:pt x="329" y="26"/>
                  </a:lnTo>
                  <a:lnTo>
                    <a:pt x="325" y="25"/>
                  </a:lnTo>
                  <a:lnTo>
                    <a:pt x="321" y="24"/>
                  </a:lnTo>
                  <a:lnTo>
                    <a:pt x="335" y="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6343560" y="4267440"/>
              <a:ext cx="270000" cy="326880"/>
            </a:xfrm>
            <a:custGeom>
              <a:avLst/>
              <a:gdLst/>
              <a:ahLst/>
              <a:rect l="l" t="t" r="r" b="b"/>
              <a:pathLst>
                <a:path w="681" h="826">
                  <a:moveTo>
                    <a:pt x="674" y="7"/>
                  </a:moveTo>
                  <a:lnTo>
                    <a:pt x="644" y="8"/>
                  </a:lnTo>
                  <a:lnTo>
                    <a:pt x="0" y="801"/>
                  </a:lnTo>
                  <a:lnTo>
                    <a:pt x="32" y="826"/>
                  </a:lnTo>
                  <a:lnTo>
                    <a:pt x="675" y="34"/>
                  </a:lnTo>
                  <a:lnTo>
                    <a:pt x="674" y="7"/>
                  </a:lnTo>
                  <a:lnTo>
                    <a:pt x="675" y="34"/>
                  </a:lnTo>
                  <a:lnTo>
                    <a:pt x="679" y="30"/>
                  </a:lnTo>
                  <a:lnTo>
                    <a:pt x="680" y="25"/>
                  </a:lnTo>
                  <a:lnTo>
                    <a:pt x="681" y="22"/>
                  </a:lnTo>
                  <a:lnTo>
                    <a:pt x="680" y="18"/>
                  </a:lnTo>
                  <a:lnTo>
                    <a:pt x="679" y="14"/>
                  </a:lnTo>
                  <a:lnTo>
                    <a:pt x="677" y="11"/>
                  </a:lnTo>
                  <a:lnTo>
                    <a:pt x="675" y="8"/>
                  </a:lnTo>
                  <a:lnTo>
                    <a:pt x="672" y="5"/>
                  </a:lnTo>
                  <a:lnTo>
                    <a:pt x="669" y="4"/>
                  </a:lnTo>
                  <a:lnTo>
                    <a:pt x="666" y="2"/>
                  </a:lnTo>
                  <a:lnTo>
                    <a:pt x="662" y="0"/>
                  </a:lnTo>
                  <a:lnTo>
                    <a:pt x="658" y="0"/>
                  </a:lnTo>
                  <a:lnTo>
                    <a:pt x="655" y="2"/>
                  </a:lnTo>
                  <a:lnTo>
                    <a:pt x="652" y="3"/>
                  </a:lnTo>
                  <a:lnTo>
                    <a:pt x="647" y="5"/>
                  </a:lnTo>
                  <a:lnTo>
                    <a:pt x="644" y="8"/>
                  </a:lnTo>
                  <a:lnTo>
                    <a:pt x="67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6527880" y="4199040"/>
              <a:ext cx="82440" cy="82440"/>
            </a:xfrm>
            <a:custGeom>
              <a:avLst/>
              <a:gdLst/>
              <a:ahLst/>
              <a:rect l="l" t="t" r="r" b="b"/>
              <a:pathLst>
                <a:path w="210" h="208">
                  <a:moveTo>
                    <a:pt x="8" y="4"/>
                  </a:moveTo>
                  <a:lnTo>
                    <a:pt x="6" y="35"/>
                  </a:lnTo>
                  <a:lnTo>
                    <a:pt x="181" y="208"/>
                  </a:lnTo>
                  <a:lnTo>
                    <a:pt x="210" y="180"/>
                  </a:lnTo>
                  <a:lnTo>
                    <a:pt x="34" y="6"/>
                  </a:lnTo>
                  <a:lnTo>
                    <a:pt x="8" y="4"/>
                  </a:lnTo>
                  <a:lnTo>
                    <a:pt x="34" y="6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6183360" y="4200840"/>
              <a:ext cx="357120" cy="268200"/>
            </a:xfrm>
            <a:custGeom>
              <a:avLst/>
              <a:gdLst/>
              <a:ahLst/>
              <a:rect l="l" t="t" r="r" b="b"/>
              <a:pathLst>
                <a:path w="899" h="677">
                  <a:moveTo>
                    <a:pt x="1" y="662"/>
                  </a:moveTo>
                  <a:lnTo>
                    <a:pt x="32" y="673"/>
                  </a:lnTo>
                  <a:lnTo>
                    <a:pt x="899" y="32"/>
                  </a:lnTo>
                  <a:lnTo>
                    <a:pt x="875" y="0"/>
                  </a:lnTo>
                  <a:lnTo>
                    <a:pt x="8" y="640"/>
                  </a:lnTo>
                  <a:lnTo>
                    <a:pt x="1" y="662"/>
                  </a:lnTo>
                  <a:lnTo>
                    <a:pt x="8" y="640"/>
                  </a:lnTo>
                  <a:lnTo>
                    <a:pt x="5" y="644"/>
                  </a:lnTo>
                  <a:lnTo>
                    <a:pt x="2" y="647"/>
                  </a:lnTo>
                  <a:lnTo>
                    <a:pt x="1" y="650"/>
                  </a:lnTo>
                  <a:lnTo>
                    <a:pt x="0" y="654"/>
                  </a:lnTo>
                  <a:lnTo>
                    <a:pt x="0" y="658"/>
                  </a:lnTo>
                  <a:lnTo>
                    <a:pt x="1" y="662"/>
                  </a:lnTo>
                  <a:lnTo>
                    <a:pt x="2" y="665"/>
                  </a:lnTo>
                  <a:lnTo>
                    <a:pt x="4" y="668"/>
                  </a:lnTo>
                  <a:lnTo>
                    <a:pt x="6" y="672"/>
                  </a:lnTo>
                  <a:lnTo>
                    <a:pt x="9" y="674"/>
                  </a:lnTo>
                  <a:lnTo>
                    <a:pt x="13" y="675"/>
                  </a:lnTo>
                  <a:lnTo>
                    <a:pt x="16" y="677"/>
                  </a:lnTo>
                  <a:lnTo>
                    <a:pt x="20" y="677"/>
                  </a:lnTo>
                  <a:lnTo>
                    <a:pt x="24" y="677"/>
                  </a:lnTo>
                  <a:lnTo>
                    <a:pt x="28" y="675"/>
                  </a:lnTo>
                  <a:lnTo>
                    <a:pt x="32" y="673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6183360" y="4459320"/>
              <a:ext cx="47520" cy="130320"/>
            </a:xfrm>
            <a:custGeom>
              <a:avLst/>
              <a:gdLst/>
              <a:ahLst/>
              <a:rect l="l" t="t" r="r" b="b"/>
              <a:pathLst>
                <a:path w="121" h="328">
                  <a:moveTo>
                    <a:pt x="99" y="328"/>
                  </a:moveTo>
                  <a:lnTo>
                    <a:pt x="120" y="303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81" y="313"/>
                  </a:lnTo>
                  <a:lnTo>
                    <a:pt x="99" y="328"/>
                  </a:lnTo>
                  <a:lnTo>
                    <a:pt x="81" y="313"/>
                  </a:lnTo>
                  <a:lnTo>
                    <a:pt x="82" y="318"/>
                  </a:lnTo>
                  <a:lnTo>
                    <a:pt x="85" y="321"/>
                  </a:lnTo>
                  <a:lnTo>
                    <a:pt x="87" y="324"/>
                  </a:lnTo>
                  <a:lnTo>
                    <a:pt x="90" y="326"/>
                  </a:lnTo>
                  <a:lnTo>
                    <a:pt x="94" y="327"/>
                  </a:lnTo>
                  <a:lnTo>
                    <a:pt x="98" y="328"/>
                  </a:lnTo>
                  <a:lnTo>
                    <a:pt x="101" y="328"/>
                  </a:lnTo>
                  <a:lnTo>
                    <a:pt x="105" y="327"/>
                  </a:lnTo>
                  <a:lnTo>
                    <a:pt x="109" y="326"/>
                  </a:lnTo>
                  <a:lnTo>
                    <a:pt x="112" y="324"/>
                  </a:lnTo>
                  <a:lnTo>
                    <a:pt x="115" y="322"/>
                  </a:lnTo>
                  <a:lnTo>
                    <a:pt x="117" y="319"/>
                  </a:lnTo>
                  <a:lnTo>
                    <a:pt x="120" y="315"/>
                  </a:lnTo>
                  <a:lnTo>
                    <a:pt x="121" y="312"/>
                  </a:lnTo>
                  <a:lnTo>
                    <a:pt x="121" y="308"/>
                  </a:lnTo>
                  <a:lnTo>
                    <a:pt x="120" y="303"/>
                  </a:lnTo>
                  <a:lnTo>
                    <a:pt x="99" y="3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8" name=""/>
            <p:cNvSpPr/>
            <p:nvPr/>
          </p:nvSpPr>
          <p:spPr>
            <a:xfrm>
              <a:off x="3392640" y="3988080"/>
              <a:ext cx="2984400" cy="879480"/>
            </a:xfrm>
            <a:custGeom>
              <a:avLst/>
              <a:gdLst/>
              <a:ahLst/>
              <a:rect l="l" t="t" r="r" b="b"/>
              <a:pathLst>
                <a:path w="7522" h="2218">
                  <a:moveTo>
                    <a:pt x="0" y="1307"/>
                  </a:moveTo>
                  <a:lnTo>
                    <a:pt x="7193" y="2218"/>
                  </a:lnTo>
                  <a:lnTo>
                    <a:pt x="7522" y="1378"/>
                  </a:lnTo>
                  <a:lnTo>
                    <a:pt x="1240" y="0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3390840" y="4497480"/>
              <a:ext cx="2863800" cy="378000"/>
            </a:xfrm>
            <a:custGeom>
              <a:avLst/>
              <a:gdLst/>
              <a:ahLst/>
              <a:rect l="l" t="t" r="r" b="b"/>
              <a:pathLst>
                <a:path w="7216" h="952">
                  <a:moveTo>
                    <a:pt x="7215" y="939"/>
                  </a:moveTo>
                  <a:lnTo>
                    <a:pt x="7199" y="912"/>
                  </a:lnTo>
                  <a:lnTo>
                    <a:pt x="4" y="0"/>
                  </a:lnTo>
                  <a:lnTo>
                    <a:pt x="0" y="40"/>
                  </a:lnTo>
                  <a:lnTo>
                    <a:pt x="7193" y="952"/>
                  </a:lnTo>
                  <a:lnTo>
                    <a:pt x="7215" y="939"/>
                  </a:lnTo>
                  <a:lnTo>
                    <a:pt x="7193" y="952"/>
                  </a:lnTo>
                  <a:lnTo>
                    <a:pt x="7198" y="952"/>
                  </a:lnTo>
                  <a:lnTo>
                    <a:pt x="7202" y="951"/>
                  </a:lnTo>
                  <a:lnTo>
                    <a:pt x="7206" y="950"/>
                  </a:lnTo>
                  <a:lnTo>
                    <a:pt x="7210" y="948"/>
                  </a:lnTo>
                  <a:lnTo>
                    <a:pt x="7212" y="944"/>
                  </a:lnTo>
                  <a:lnTo>
                    <a:pt x="7214" y="941"/>
                  </a:lnTo>
                  <a:lnTo>
                    <a:pt x="7215" y="938"/>
                  </a:lnTo>
                  <a:lnTo>
                    <a:pt x="7216" y="935"/>
                  </a:lnTo>
                  <a:lnTo>
                    <a:pt x="7216" y="930"/>
                  </a:lnTo>
                  <a:lnTo>
                    <a:pt x="7216" y="927"/>
                  </a:lnTo>
                  <a:lnTo>
                    <a:pt x="7215" y="923"/>
                  </a:lnTo>
                  <a:lnTo>
                    <a:pt x="7213" y="920"/>
                  </a:lnTo>
                  <a:lnTo>
                    <a:pt x="7211" y="917"/>
                  </a:lnTo>
                  <a:lnTo>
                    <a:pt x="7207" y="914"/>
                  </a:lnTo>
                  <a:lnTo>
                    <a:pt x="7203" y="913"/>
                  </a:lnTo>
                  <a:lnTo>
                    <a:pt x="7199" y="912"/>
                  </a:lnTo>
                  <a:lnTo>
                    <a:pt x="7215" y="9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>
              <a:off x="6240600" y="4526280"/>
              <a:ext cx="144360" cy="344160"/>
            </a:xfrm>
            <a:custGeom>
              <a:avLst/>
              <a:gdLst/>
              <a:ahLst/>
              <a:rect l="l" t="t" r="r" b="b"/>
              <a:pathLst>
                <a:path w="367" h="868">
                  <a:moveTo>
                    <a:pt x="351" y="1"/>
                  </a:moveTo>
                  <a:lnTo>
                    <a:pt x="327" y="13"/>
                  </a:lnTo>
                  <a:lnTo>
                    <a:pt x="0" y="854"/>
                  </a:lnTo>
                  <a:lnTo>
                    <a:pt x="38" y="868"/>
                  </a:lnTo>
                  <a:lnTo>
                    <a:pt x="365" y="28"/>
                  </a:lnTo>
                  <a:lnTo>
                    <a:pt x="351" y="1"/>
                  </a:lnTo>
                  <a:lnTo>
                    <a:pt x="365" y="28"/>
                  </a:lnTo>
                  <a:lnTo>
                    <a:pt x="366" y="23"/>
                  </a:lnTo>
                  <a:lnTo>
                    <a:pt x="367" y="19"/>
                  </a:lnTo>
                  <a:lnTo>
                    <a:pt x="366" y="15"/>
                  </a:lnTo>
                  <a:lnTo>
                    <a:pt x="365" y="12"/>
                  </a:lnTo>
                  <a:lnTo>
                    <a:pt x="363" y="8"/>
                  </a:lnTo>
                  <a:lnTo>
                    <a:pt x="360" y="5"/>
                  </a:lnTo>
                  <a:lnTo>
                    <a:pt x="358" y="3"/>
                  </a:lnTo>
                  <a:lnTo>
                    <a:pt x="353" y="2"/>
                  </a:lnTo>
                  <a:lnTo>
                    <a:pt x="350" y="1"/>
                  </a:lnTo>
                  <a:lnTo>
                    <a:pt x="347" y="0"/>
                  </a:lnTo>
                  <a:lnTo>
                    <a:pt x="342" y="1"/>
                  </a:lnTo>
                  <a:lnTo>
                    <a:pt x="339" y="2"/>
                  </a:lnTo>
                  <a:lnTo>
                    <a:pt x="336" y="3"/>
                  </a:lnTo>
                  <a:lnTo>
                    <a:pt x="333" y="5"/>
                  </a:lnTo>
                  <a:lnTo>
                    <a:pt x="329" y="9"/>
                  </a:lnTo>
                  <a:lnTo>
                    <a:pt x="327" y="13"/>
                  </a:lnTo>
                  <a:lnTo>
                    <a:pt x="35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3876840" y="3978360"/>
              <a:ext cx="2501640" cy="563760"/>
            </a:xfrm>
            <a:custGeom>
              <a:avLst/>
              <a:gdLst/>
              <a:ahLst/>
              <a:rect l="l" t="t" r="r" b="b"/>
              <a:pathLst>
                <a:path w="6305" h="1419">
                  <a:moveTo>
                    <a:pt x="5" y="6"/>
                  </a:moveTo>
                  <a:lnTo>
                    <a:pt x="16" y="40"/>
                  </a:lnTo>
                  <a:lnTo>
                    <a:pt x="6296" y="1419"/>
                  </a:lnTo>
                  <a:lnTo>
                    <a:pt x="6305" y="1379"/>
                  </a:lnTo>
                  <a:lnTo>
                    <a:pt x="24" y="1"/>
                  </a:lnTo>
                  <a:lnTo>
                    <a:pt x="5" y="6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6" y="4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3384720" y="3981600"/>
              <a:ext cx="506160" cy="531720"/>
            </a:xfrm>
            <a:custGeom>
              <a:avLst/>
              <a:gdLst/>
              <a:ahLst/>
              <a:rect l="l" t="t" r="r" b="b"/>
              <a:pathLst>
                <a:path w="1277" h="1341">
                  <a:moveTo>
                    <a:pt x="19" y="1341"/>
                  </a:moveTo>
                  <a:lnTo>
                    <a:pt x="36" y="1335"/>
                  </a:lnTo>
                  <a:lnTo>
                    <a:pt x="1277" y="28"/>
                  </a:lnTo>
                  <a:lnTo>
                    <a:pt x="1247" y="0"/>
                  </a:lnTo>
                  <a:lnTo>
                    <a:pt x="7" y="1307"/>
                  </a:lnTo>
                  <a:lnTo>
                    <a:pt x="19" y="1341"/>
                  </a:lnTo>
                  <a:lnTo>
                    <a:pt x="7" y="1307"/>
                  </a:lnTo>
                  <a:lnTo>
                    <a:pt x="3" y="1311"/>
                  </a:lnTo>
                  <a:lnTo>
                    <a:pt x="1" y="1314"/>
                  </a:lnTo>
                  <a:lnTo>
                    <a:pt x="0" y="1319"/>
                  </a:lnTo>
                  <a:lnTo>
                    <a:pt x="0" y="1322"/>
                  </a:lnTo>
                  <a:lnTo>
                    <a:pt x="1" y="1326"/>
                  </a:lnTo>
                  <a:lnTo>
                    <a:pt x="2" y="1330"/>
                  </a:lnTo>
                  <a:lnTo>
                    <a:pt x="5" y="1333"/>
                  </a:lnTo>
                  <a:lnTo>
                    <a:pt x="7" y="1336"/>
                  </a:lnTo>
                  <a:lnTo>
                    <a:pt x="10" y="1338"/>
                  </a:lnTo>
                  <a:lnTo>
                    <a:pt x="13" y="1340"/>
                  </a:lnTo>
                  <a:lnTo>
                    <a:pt x="16" y="1341"/>
                  </a:lnTo>
                  <a:lnTo>
                    <a:pt x="21" y="1341"/>
                  </a:lnTo>
                  <a:lnTo>
                    <a:pt x="24" y="1341"/>
                  </a:lnTo>
                  <a:lnTo>
                    <a:pt x="28" y="1340"/>
                  </a:lnTo>
                  <a:lnTo>
                    <a:pt x="32" y="1338"/>
                  </a:lnTo>
                  <a:lnTo>
                    <a:pt x="36" y="1335"/>
                  </a:lnTo>
                  <a:lnTo>
                    <a:pt x="19" y="13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2503440" y="5348520"/>
              <a:ext cx="14760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9"/>
                  </a:lnTo>
                  <a:lnTo>
                    <a:pt x="340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2494080" y="5353200"/>
              <a:ext cx="15840" cy="128520"/>
            </a:xfrm>
            <a:custGeom>
              <a:avLst/>
              <a:gdLst/>
              <a:ahLst/>
              <a:rect l="l" t="t" r="r" b="b"/>
              <a:pathLst>
                <a:path w="40" h="326">
                  <a:moveTo>
                    <a:pt x="18" y="326"/>
                  </a:moveTo>
                  <a:lnTo>
                    <a:pt x="40" y="307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18" y="326"/>
                  </a:lnTo>
                  <a:lnTo>
                    <a:pt x="0" y="307"/>
                  </a:lnTo>
                  <a:lnTo>
                    <a:pt x="0" y="311"/>
                  </a:lnTo>
                  <a:lnTo>
                    <a:pt x="1" y="315"/>
                  </a:lnTo>
                  <a:lnTo>
                    <a:pt x="3" y="319"/>
                  </a:lnTo>
                  <a:lnTo>
                    <a:pt x="6" y="322"/>
                  </a:lnTo>
                  <a:lnTo>
                    <a:pt x="8" y="324"/>
                  </a:lnTo>
                  <a:lnTo>
                    <a:pt x="13" y="325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3" y="326"/>
                  </a:lnTo>
                  <a:lnTo>
                    <a:pt x="27" y="325"/>
                  </a:lnTo>
                  <a:lnTo>
                    <a:pt x="31" y="324"/>
                  </a:lnTo>
                  <a:lnTo>
                    <a:pt x="33" y="322"/>
                  </a:lnTo>
                  <a:lnTo>
                    <a:pt x="36" y="319"/>
                  </a:lnTo>
                  <a:lnTo>
                    <a:pt x="38" y="315"/>
                  </a:lnTo>
                  <a:lnTo>
                    <a:pt x="40" y="311"/>
                  </a:lnTo>
                  <a:lnTo>
                    <a:pt x="40" y="307"/>
                  </a:lnTo>
                  <a:lnTo>
                    <a:pt x="18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2502000" y="5465880"/>
              <a:ext cx="144360" cy="2556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6"/>
                  </a:moveTo>
                  <a:lnTo>
                    <a:pt x="344" y="23"/>
                  </a:lnTo>
                  <a:lnTo>
                    <a:pt x="3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6"/>
                  </a:lnTo>
                  <a:lnTo>
                    <a:pt x="341" y="64"/>
                  </a:lnTo>
                  <a:lnTo>
                    <a:pt x="347" y="64"/>
                  </a:lnTo>
                  <a:lnTo>
                    <a:pt x="350" y="63"/>
                  </a:lnTo>
                  <a:lnTo>
                    <a:pt x="354" y="61"/>
                  </a:lnTo>
                  <a:lnTo>
                    <a:pt x="357" y="59"/>
                  </a:lnTo>
                  <a:lnTo>
                    <a:pt x="360" y="55"/>
                  </a:lnTo>
                  <a:lnTo>
                    <a:pt x="361" y="52"/>
                  </a:lnTo>
                  <a:lnTo>
                    <a:pt x="363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1" y="34"/>
                  </a:lnTo>
                  <a:lnTo>
                    <a:pt x="358" y="30"/>
                  </a:lnTo>
                  <a:lnTo>
                    <a:pt x="356" y="28"/>
                  </a:lnTo>
                  <a:lnTo>
                    <a:pt x="353" y="26"/>
                  </a:lnTo>
                  <a:lnTo>
                    <a:pt x="349" y="24"/>
                  </a:lnTo>
                  <a:lnTo>
                    <a:pt x="344" y="23"/>
                  </a:lnTo>
                  <a:lnTo>
                    <a:pt x="363" y="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2630520" y="5340600"/>
              <a:ext cx="28440" cy="144360"/>
            </a:xfrm>
            <a:custGeom>
              <a:avLst/>
              <a:gdLst/>
              <a:ahLst/>
              <a:rect l="l" t="t" r="r" b="b"/>
              <a:pathLst>
                <a:path w="74" h="364">
                  <a:moveTo>
                    <a:pt x="54" y="0"/>
                  </a:moveTo>
                  <a:lnTo>
                    <a:pt x="34" y="18"/>
                  </a:lnTo>
                  <a:lnTo>
                    <a:pt x="0" y="359"/>
                  </a:lnTo>
                  <a:lnTo>
                    <a:pt x="40" y="364"/>
                  </a:lnTo>
                  <a:lnTo>
                    <a:pt x="74" y="22"/>
                  </a:lnTo>
                  <a:lnTo>
                    <a:pt x="54" y="0"/>
                  </a:lnTo>
                  <a:lnTo>
                    <a:pt x="74" y="22"/>
                  </a:lnTo>
                  <a:lnTo>
                    <a:pt x="74" y="18"/>
                  </a:lnTo>
                  <a:lnTo>
                    <a:pt x="73" y="14"/>
                  </a:lnTo>
                  <a:lnTo>
                    <a:pt x="72" y="9"/>
                  </a:lnTo>
                  <a:lnTo>
                    <a:pt x="70" y="6"/>
                  </a:lnTo>
                  <a:lnTo>
                    <a:pt x="67" y="4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7" y="9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2494080" y="5340600"/>
              <a:ext cx="156960" cy="20520"/>
            </a:xfrm>
            <a:custGeom>
              <a:avLst/>
              <a:gdLst/>
              <a:ahLst/>
              <a:rect l="l" t="t" r="r" b="b"/>
              <a:pathLst>
                <a:path w="396" h="53">
                  <a:moveTo>
                    <a:pt x="0" y="32"/>
                  </a:moveTo>
                  <a:lnTo>
                    <a:pt x="20" y="53"/>
                  </a:lnTo>
                  <a:lnTo>
                    <a:pt x="396" y="41"/>
                  </a:lnTo>
                  <a:lnTo>
                    <a:pt x="395" y="0"/>
                  </a:lnTo>
                  <a:lnTo>
                    <a:pt x="19" y="11"/>
                  </a:lnTo>
                  <a:lnTo>
                    <a:pt x="0" y="32"/>
                  </a:lnTo>
                  <a:lnTo>
                    <a:pt x="19" y="11"/>
                  </a:lnTo>
                  <a:lnTo>
                    <a:pt x="15" y="13"/>
                  </a:lnTo>
                  <a:lnTo>
                    <a:pt x="10" y="14"/>
                  </a:lnTo>
                  <a:lnTo>
                    <a:pt x="7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5" y="46"/>
                  </a:lnTo>
                  <a:lnTo>
                    <a:pt x="8" y="48"/>
                  </a:lnTo>
                  <a:lnTo>
                    <a:pt x="11" y="50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2614680" y="5362560"/>
              <a:ext cx="149040" cy="135000"/>
            </a:xfrm>
            <a:custGeom>
              <a:avLst/>
              <a:gdLst/>
              <a:ahLst/>
              <a:rect l="l" t="t" r="r" b="b"/>
              <a:pathLst>
                <a:path w="376" h="341">
                  <a:moveTo>
                    <a:pt x="0" y="12"/>
                  </a:moveTo>
                  <a:lnTo>
                    <a:pt x="0" y="318"/>
                  </a:lnTo>
                  <a:lnTo>
                    <a:pt x="341" y="341"/>
                  </a:lnTo>
                  <a:lnTo>
                    <a:pt x="37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2606760" y="5367600"/>
              <a:ext cx="15840" cy="128520"/>
            </a:xfrm>
            <a:custGeom>
              <a:avLst/>
              <a:gdLst/>
              <a:ahLst/>
              <a:rect l="l" t="t" r="r" b="b"/>
              <a:pathLst>
                <a:path w="41" h="326">
                  <a:moveTo>
                    <a:pt x="20" y="326"/>
                  </a:moveTo>
                  <a:lnTo>
                    <a:pt x="41" y="30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20" y="326"/>
                  </a:lnTo>
                  <a:lnTo>
                    <a:pt x="0" y="306"/>
                  </a:lnTo>
                  <a:lnTo>
                    <a:pt x="1" y="311"/>
                  </a:lnTo>
                  <a:lnTo>
                    <a:pt x="2" y="315"/>
                  </a:lnTo>
                  <a:lnTo>
                    <a:pt x="5" y="318"/>
                  </a:lnTo>
                  <a:lnTo>
                    <a:pt x="7" y="322"/>
                  </a:lnTo>
                  <a:lnTo>
                    <a:pt x="10" y="324"/>
                  </a:lnTo>
                  <a:lnTo>
                    <a:pt x="13" y="325"/>
                  </a:lnTo>
                  <a:lnTo>
                    <a:pt x="18" y="326"/>
                  </a:lnTo>
                  <a:lnTo>
                    <a:pt x="21" y="326"/>
                  </a:lnTo>
                  <a:lnTo>
                    <a:pt x="25" y="326"/>
                  </a:lnTo>
                  <a:lnTo>
                    <a:pt x="28" y="325"/>
                  </a:lnTo>
                  <a:lnTo>
                    <a:pt x="32" y="324"/>
                  </a:lnTo>
                  <a:lnTo>
                    <a:pt x="35" y="322"/>
                  </a:lnTo>
                  <a:lnTo>
                    <a:pt x="37" y="318"/>
                  </a:lnTo>
                  <a:lnTo>
                    <a:pt x="39" y="315"/>
                  </a:lnTo>
                  <a:lnTo>
                    <a:pt x="40" y="311"/>
                  </a:lnTo>
                  <a:lnTo>
                    <a:pt x="41" y="306"/>
                  </a:lnTo>
                  <a:lnTo>
                    <a:pt x="20" y="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2612880" y="5480280"/>
              <a:ext cx="144720" cy="25200"/>
            </a:xfrm>
            <a:custGeom>
              <a:avLst/>
              <a:gdLst/>
              <a:ahLst/>
              <a:rect l="l" t="t" r="r" b="b"/>
              <a:pathLst>
                <a:path w="363" h="64">
                  <a:moveTo>
                    <a:pt x="363" y="45"/>
                  </a:moveTo>
                  <a:lnTo>
                    <a:pt x="343" y="23"/>
                  </a:lnTo>
                  <a:lnTo>
                    <a:pt x="2" y="0"/>
                  </a:lnTo>
                  <a:lnTo>
                    <a:pt x="0" y="40"/>
                  </a:lnTo>
                  <a:lnTo>
                    <a:pt x="341" y="64"/>
                  </a:lnTo>
                  <a:lnTo>
                    <a:pt x="363" y="45"/>
                  </a:lnTo>
                  <a:lnTo>
                    <a:pt x="341" y="64"/>
                  </a:lnTo>
                  <a:lnTo>
                    <a:pt x="345" y="64"/>
                  </a:lnTo>
                  <a:lnTo>
                    <a:pt x="350" y="63"/>
                  </a:lnTo>
                  <a:lnTo>
                    <a:pt x="353" y="60"/>
                  </a:lnTo>
                  <a:lnTo>
                    <a:pt x="356" y="58"/>
                  </a:lnTo>
                  <a:lnTo>
                    <a:pt x="358" y="55"/>
                  </a:lnTo>
                  <a:lnTo>
                    <a:pt x="360" y="52"/>
                  </a:lnTo>
                  <a:lnTo>
                    <a:pt x="362" y="49"/>
                  </a:lnTo>
                  <a:lnTo>
                    <a:pt x="363" y="44"/>
                  </a:lnTo>
                  <a:lnTo>
                    <a:pt x="363" y="41"/>
                  </a:lnTo>
                  <a:lnTo>
                    <a:pt x="362" y="37"/>
                  </a:lnTo>
                  <a:lnTo>
                    <a:pt x="360" y="33"/>
                  </a:lnTo>
                  <a:lnTo>
                    <a:pt x="358" y="30"/>
                  </a:lnTo>
                  <a:lnTo>
                    <a:pt x="355" y="28"/>
                  </a:lnTo>
                  <a:lnTo>
                    <a:pt x="352" y="25"/>
                  </a:lnTo>
                  <a:lnTo>
                    <a:pt x="349" y="24"/>
                  </a:lnTo>
                  <a:lnTo>
                    <a:pt x="343" y="23"/>
                  </a:lnTo>
                  <a:lnTo>
                    <a:pt x="363" y="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2741760" y="5354640"/>
              <a:ext cx="29880" cy="144720"/>
            </a:xfrm>
            <a:custGeom>
              <a:avLst/>
              <a:gdLst/>
              <a:ahLst/>
              <a:rect l="l" t="t" r="r" b="b"/>
              <a:pathLst>
                <a:path w="75" h="364">
                  <a:moveTo>
                    <a:pt x="55" y="0"/>
                  </a:moveTo>
                  <a:lnTo>
                    <a:pt x="35" y="19"/>
                  </a:lnTo>
                  <a:lnTo>
                    <a:pt x="0" y="360"/>
                  </a:lnTo>
                  <a:lnTo>
                    <a:pt x="41" y="364"/>
                  </a:lnTo>
                  <a:lnTo>
                    <a:pt x="75" y="23"/>
                  </a:lnTo>
                  <a:lnTo>
                    <a:pt x="55" y="0"/>
                  </a:lnTo>
                  <a:lnTo>
                    <a:pt x="75" y="23"/>
                  </a:lnTo>
                  <a:lnTo>
                    <a:pt x="75" y="19"/>
                  </a:lnTo>
                  <a:lnTo>
                    <a:pt x="74" y="14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7" y="10"/>
                  </a:lnTo>
                  <a:lnTo>
                    <a:pt x="35" y="14"/>
                  </a:lnTo>
                  <a:lnTo>
                    <a:pt x="35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2606760" y="5354640"/>
              <a:ext cx="156960" cy="20880"/>
            </a:xfrm>
            <a:custGeom>
              <a:avLst/>
              <a:gdLst/>
              <a:ahLst/>
              <a:rect l="l" t="t" r="r" b="b"/>
              <a:pathLst>
                <a:path w="398" h="52">
                  <a:moveTo>
                    <a:pt x="0" y="33"/>
                  </a:moveTo>
                  <a:lnTo>
                    <a:pt x="22" y="52"/>
                  </a:lnTo>
                  <a:lnTo>
                    <a:pt x="398" y="41"/>
                  </a:lnTo>
                  <a:lnTo>
                    <a:pt x="397" y="0"/>
                  </a:lnTo>
                  <a:lnTo>
                    <a:pt x="21" y="12"/>
                  </a:lnTo>
                  <a:lnTo>
                    <a:pt x="0" y="33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7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2460600" y="5408640"/>
              <a:ext cx="471600" cy="206640"/>
            </a:xfrm>
            <a:custGeom>
              <a:avLst/>
              <a:gdLst/>
              <a:ahLst/>
              <a:rect l="l" t="t" r="r" b="b"/>
              <a:pathLst>
                <a:path w="1188" h="521">
                  <a:moveTo>
                    <a:pt x="58" y="0"/>
                  </a:moveTo>
                  <a:lnTo>
                    <a:pt x="554" y="72"/>
                  </a:lnTo>
                  <a:lnTo>
                    <a:pt x="1164" y="344"/>
                  </a:lnTo>
                  <a:lnTo>
                    <a:pt x="1188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2482920" y="5400720"/>
              <a:ext cx="204840" cy="44640"/>
            </a:xfrm>
            <a:custGeom>
              <a:avLst/>
              <a:gdLst/>
              <a:ahLst/>
              <a:rect l="l" t="t" r="r" b="b"/>
              <a:pathLst>
                <a:path w="519" h="111">
                  <a:moveTo>
                    <a:pt x="507" y="72"/>
                  </a:moveTo>
                  <a:lnTo>
                    <a:pt x="501" y="71"/>
                  </a:lnTo>
                  <a:lnTo>
                    <a:pt x="7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5" y="110"/>
                  </a:lnTo>
                  <a:lnTo>
                    <a:pt x="509" y="109"/>
                  </a:lnTo>
                  <a:lnTo>
                    <a:pt x="512" y="107"/>
                  </a:lnTo>
                  <a:lnTo>
                    <a:pt x="514" y="104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9" y="94"/>
                  </a:lnTo>
                  <a:lnTo>
                    <a:pt x="519" y="90"/>
                  </a:lnTo>
                  <a:lnTo>
                    <a:pt x="519" y="86"/>
                  </a:lnTo>
                  <a:lnTo>
                    <a:pt x="517" y="83"/>
                  </a:lnTo>
                  <a:lnTo>
                    <a:pt x="515" y="79"/>
                  </a:lnTo>
                  <a:lnTo>
                    <a:pt x="513" y="77"/>
                  </a:lnTo>
                  <a:lnTo>
                    <a:pt x="510" y="73"/>
                  </a:lnTo>
                  <a:lnTo>
                    <a:pt x="507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2676600" y="5429520"/>
              <a:ext cx="25380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40" y="288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2" y="309"/>
                  </a:lnTo>
                  <a:lnTo>
                    <a:pt x="640" y="288"/>
                  </a:lnTo>
                  <a:lnTo>
                    <a:pt x="612" y="309"/>
                  </a:lnTo>
                  <a:lnTo>
                    <a:pt x="616" y="310"/>
                  </a:lnTo>
                  <a:lnTo>
                    <a:pt x="620" y="311"/>
                  </a:lnTo>
                  <a:lnTo>
                    <a:pt x="625" y="310"/>
                  </a:lnTo>
                  <a:lnTo>
                    <a:pt x="628" y="309"/>
                  </a:lnTo>
                  <a:lnTo>
                    <a:pt x="631" y="308"/>
                  </a:lnTo>
                  <a:lnTo>
                    <a:pt x="634" y="305"/>
                  </a:lnTo>
                  <a:lnTo>
                    <a:pt x="637" y="303"/>
                  </a:lnTo>
                  <a:lnTo>
                    <a:pt x="638" y="298"/>
                  </a:lnTo>
                  <a:lnTo>
                    <a:pt x="640" y="295"/>
                  </a:lnTo>
                  <a:lnTo>
                    <a:pt x="640" y="292"/>
                  </a:lnTo>
                  <a:lnTo>
                    <a:pt x="640" y="288"/>
                  </a:lnTo>
                  <a:lnTo>
                    <a:pt x="639" y="284"/>
                  </a:lnTo>
                  <a:lnTo>
                    <a:pt x="638" y="281"/>
                  </a:lnTo>
                  <a:lnTo>
                    <a:pt x="635" y="278"/>
                  </a:lnTo>
                  <a:lnTo>
                    <a:pt x="632" y="275"/>
                  </a:lnTo>
                  <a:lnTo>
                    <a:pt x="628" y="272"/>
                  </a:lnTo>
                  <a:lnTo>
                    <a:pt x="640" y="2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2914560" y="5543640"/>
              <a:ext cx="25560" cy="7956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42" y="200"/>
                  </a:moveTo>
                  <a:lnTo>
                    <a:pt x="62" y="178"/>
                  </a:lnTo>
                  <a:lnTo>
                    <a:pt x="40" y="0"/>
                  </a:lnTo>
                  <a:lnTo>
                    <a:pt x="0" y="5"/>
                  </a:lnTo>
                  <a:lnTo>
                    <a:pt x="22" y="182"/>
                  </a:lnTo>
                  <a:lnTo>
                    <a:pt x="42" y="200"/>
                  </a:lnTo>
                  <a:lnTo>
                    <a:pt x="22" y="182"/>
                  </a:lnTo>
                  <a:lnTo>
                    <a:pt x="24" y="188"/>
                  </a:lnTo>
                  <a:lnTo>
                    <a:pt x="26" y="191"/>
                  </a:lnTo>
                  <a:lnTo>
                    <a:pt x="28" y="194"/>
                  </a:lnTo>
                  <a:lnTo>
                    <a:pt x="31" y="197"/>
                  </a:lnTo>
                  <a:lnTo>
                    <a:pt x="34" y="198"/>
                  </a:lnTo>
                  <a:lnTo>
                    <a:pt x="38" y="199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9" y="199"/>
                  </a:lnTo>
                  <a:lnTo>
                    <a:pt x="53" y="198"/>
                  </a:lnTo>
                  <a:lnTo>
                    <a:pt x="56" y="196"/>
                  </a:lnTo>
                  <a:lnTo>
                    <a:pt x="58" y="193"/>
                  </a:lnTo>
                  <a:lnTo>
                    <a:pt x="60" y="190"/>
                  </a:lnTo>
                  <a:lnTo>
                    <a:pt x="62" y="186"/>
                  </a:lnTo>
                  <a:lnTo>
                    <a:pt x="62" y="182"/>
                  </a:lnTo>
                  <a:lnTo>
                    <a:pt x="62" y="178"/>
                  </a:lnTo>
                  <a:lnTo>
                    <a:pt x="42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2452680" y="5592960"/>
              <a:ext cx="479520" cy="30240"/>
            </a:xfrm>
            <a:custGeom>
              <a:avLst/>
              <a:gdLst/>
              <a:ahLst/>
              <a:rect l="l" t="t" r="r" b="b"/>
              <a:pathLst>
                <a:path w="1207" h="77">
                  <a:moveTo>
                    <a:pt x="0" y="18"/>
                  </a:moveTo>
                  <a:lnTo>
                    <a:pt x="19" y="41"/>
                  </a:lnTo>
                  <a:lnTo>
                    <a:pt x="1206" y="77"/>
                  </a:lnTo>
                  <a:lnTo>
                    <a:pt x="1207" y="36"/>
                  </a:lnTo>
                  <a:lnTo>
                    <a:pt x="20" y="0"/>
                  </a:lnTo>
                  <a:lnTo>
                    <a:pt x="0" y="18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2452680" y="5400720"/>
              <a:ext cx="39600" cy="20016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1" y="1"/>
                  </a:moveTo>
                  <a:lnTo>
                    <a:pt x="57" y="18"/>
                  </a:lnTo>
                  <a:lnTo>
                    <a:pt x="0" y="502"/>
                  </a:lnTo>
                  <a:lnTo>
                    <a:pt x="40" y="506"/>
                  </a:lnTo>
                  <a:lnTo>
                    <a:pt x="98" y="23"/>
                  </a:lnTo>
                  <a:lnTo>
                    <a:pt x="81" y="1"/>
                  </a:lnTo>
                  <a:lnTo>
                    <a:pt x="98" y="23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5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3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9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8" y="14"/>
                  </a:lnTo>
                  <a:lnTo>
                    <a:pt x="57" y="18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2571840" y="5423040"/>
              <a:ext cx="471240" cy="206280"/>
            </a:xfrm>
            <a:custGeom>
              <a:avLst/>
              <a:gdLst/>
              <a:ahLst/>
              <a:rect l="l" t="t" r="r" b="b"/>
              <a:pathLst>
                <a:path w="1187" h="521">
                  <a:moveTo>
                    <a:pt x="58" y="0"/>
                  </a:moveTo>
                  <a:lnTo>
                    <a:pt x="553" y="71"/>
                  </a:lnTo>
                  <a:lnTo>
                    <a:pt x="1164" y="344"/>
                  </a:lnTo>
                  <a:lnTo>
                    <a:pt x="1187" y="521"/>
                  </a:lnTo>
                  <a:lnTo>
                    <a:pt x="0" y="48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c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2593800" y="5415120"/>
              <a:ext cx="206640" cy="44280"/>
            </a:xfrm>
            <a:custGeom>
              <a:avLst/>
              <a:gdLst/>
              <a:ahLst/>
              <a:rect l="l" t="t" r="r" b="b"/>
              <a:pathLst>
                <a:path w="518" h="111">
                  <a:moveTo>
                    <a:pt x="507" y="72"/>
                  </a:moveTo>
                  <a:lnTo>
                    <a:pt x="501" y="71"/>
                  </a:lnTo>
                  <a:lnTo>
                    <a:pt x="5" y="0"/>
                  </a:lnTo>
                  <a:lnTo>
                    <a:pt x="0" y="40"/>
                  </a:lnTo>
                  <a:lnTo>
                    <a:pt x="496" y="111"/>
                  </a:lnTo>
                  <a:lnTo>
                    <a:pt x="507" y="72"/>
                  </a:lnTo>
                  <a:lnTo>
                    <a:pt x="496" y="111"/>
                  </a:lnTo>
                  <a:lnTo>
                    <a:pt x="500" y="111"/>
                  </a:lnTo>
                  <a:lnTo>
                    <a:pt x="504" y="110"/>
                  </a:lnTo>
                  <a:lnTo>
                    <a:pt x="508" y="109"/>
                  </a:lnTo>
                  <a:lnTo>
                    <a:pt x="511" y="107"/>
                  </a:lnTo>
                  <a:lnTo>
                    <a:pt x="514" y="103"/>
                  </a:lnTo>
                  <a:lnTo>
                    <a:pt x="516" y="100"/>
                  </a:lnTo>
                  <a:lnTo>
                    <a:pt x="517" y="97"/>
                  </a:lnTo>
                  <a:lnTo>
                    <a:pt x="518" y="94"/>
                  </a:lnTo>
                  <a:lnTo>
                    <a:pt x="518" y="89"/>
                  </a:lnTo>
                  <a:lnTo>
                    <a:pt x="517" y="86"/>
                  </a:lnTo>
                  <a:lnTo>
                    <a:pt x="516" y="82"/>
                  </a:lnTo>
                  <a:lnTo>
                    <a:pt x="515" y="79"/>
                  </a:lnTo>
                  <a:lnTo>
                    <a:pt x="513" y="76"/>
                  </a:lnTo>
                  <a:lnTo>
                    <a:pt x="510" y="73"/>
                  </a:lnTo>
                  <a:lnTo>
                    <a:pt x="505" y="72"/>
                  </a:lnTo>
                  <a:lnTo>
                    <a:pt x="501" y="71"/>
                  </a:lnTo>
                  <a:lnTo>
                    <a:pt x="507" y="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2789280" y="5443560"/>
              <a:ext cx="252360" cy="123840"/>
            </a:xfrm>
            <a:custGeom>
              <a:avLst/>
              <a:gdLst/>
              <a:ahLst/>
              <a:rect l="l" t="t" r="r" b="b"/>
              <a:pathLst>
                <a:path w="640" h="311">
                  <a:moveTo>
                    <a:pt x="639" y="287"/>
                  </a:moveTo>
                  <a:lnTo>
                    <a:pt x="628" y="272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10" y="309"/>
                  </a:lnTo>
                  <a:lnTo>
                    <a:pt x="639" y="287"/>
                  </a:lnTo>
                  <a:lnTo>
                    <a:pt x="610" y="309"/>
                  </a:lnTo>
                  <a:lnTo>
                    <a:pt x="615" y="310"/>
                  </a:lnTo>
                  <a:lnTo>
                    <a:pt x="619" y="311"/>
                  </a:lnTo>
                  <a:lnTo>
                    <a:pt x="623" y="310"/>
                  </a:lnTo>
                  <a:lnTo>
                    <a:pt x="627" y="309"/>
                  </a:lnTo>
                  <a:lnTo>
                    <a:pt x="630" y="307"/>
                  </a:lnTo>
                  <a:lnTo>
                    <a:pt x="633" y="305"/>
                  </a:lnTo>
                  <a:lnTo>
                    <a:pt x="635" y="301"/>
                  </a:lnTo>
                  <a:lnTo>
                    <a:pt x="637" y="298"/>
                  </a:lnTo>
                  <a:lnTo>
                    <a:pt x="639" y="295"/>
                  </a:lnTo>
                  <a:lnTo>
                    <a:pt x="640" y="292"/>
                  </a:lnTo>
                  <a:lnTo>
                    <a:pt x="640" y="287"/>
                  </a:lnTo>
                  <a:lnTo>
                    <a:pt x="639" y="284"/>
                  </a:lnTo>
                  <a:lnTo>
                    <a:pt x="637" y="280"/>
                  </a:lnTo>
                  <a:lnTo>
                    <a:pt x="634" y="277"/>
                  </a:lnTo>
                  <a:lnTo>
                    <a:pt x="631" y="274"/>
                  </a:lnTo>
                  <a:lnTo>
                    <a:pt x="628" y="272"/>
                  </a:lnTo>
                  <a:lnTo>
                    <a:pt x="639" y="2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3025800" y="5558040"/>
              <a:ext cx="25200" cy="79200"/>
            </a:xfrm>
            <a:custGeom>
              <a:avLst/>
              <a:gdLst/>
              <a:ahLst/>
              <a:rect l="l" t="t" r="r" b="b"/>
              <a:pathLst>
                <a:path w="63" h="201">
                  <a:moveTo>
                    <a:pt x="43" y="201"/>
                  </a:moveTo>
                  <a:lnTo>
                    <a:pt x="63" y="179"/>
                  </a:lnTo>
                  <a:lnTo>
                    <a:pt x="40" y="0"/>
                  </a:lnTo>
                  <a:lnTo>
                    <a:pt x="0" y="6"/>
                  </a:lnTo>
                  <a:lnTo>
                    <a:pt x="23" y="183"/>
                  </a:lnTo>
                  <a:lnTo>
                    <a:pt x="43" y="201"/>
                  </a:lnTo>
                  <a:lnTo>
                    <a:pt x="23" y="183"/>
                  </a:lnTo>
                  <a:lnTo>
                    <a:pt x="24" y="188"/>
                  </a:lnTo>
                  <a:lnTo>
                    <a:pt x="25" y="191"/>
                  </a:lnTo>
                  <a:lnTo>
                    <a:pt x="29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8" y="200"/>
                  </a:lnTo>
                  <a:lnTo>
                    <a:pt x="42" y="201"/>
                  </a:lnTo>
                  <a:lnTo>
                    <a:pt x="46" y="200"/>
                  </a:lnTo>
                  <a:lnTo>
                    <a:pt x="49" y="200"/>
                  </a:lnTo>
                  <a:lnTo>
                    <a:pt x="52" y="198"/>
                  </a:lnTo>
                  <a:lnTo>
                    <a:pt x="56" y="197"/>
                  </a:lnTo>
                  <a:lnTo>
                    <a:pt x="59" y="194"/>
                  </a:lnTo>
                  <a:lnTo>
                    <a:pt x="61" y="190"/>
                  </a:lnTo>
                  <a:lnTo>
                    <a:pt x="62" y="187"/>
                  </a:lnTo>
                  <a:lnTo>
                    <a:pt x="63" y="183"/>
                  </a:lnTo>
                  <a:lnTo>
                    <a:pt x="63" y="179"/>
                  </a:lnTo>
                  <a:lnTo>
                    <a:pt x="4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2563920" y="5607360"/>
              <a:ext cx="479160" cy="29880"/>
            </a:xfrm>
            <a:custGeom>
              <a:avLst/>
              <a:gdLst/>
              <a:ahLst/>
              <a:rect l="l" t="t" r="r" b="b"/>
              <a:pathLst>
                <a:path w="1208" h="78">
                  <a:moveTo>
                    <a:pt x="0" y="19"/>
                  </a:moveTo>
                  <a:lnTo>
                    <a:pt x="19" y="41"/>
                  </a:lnTo>
                  <a:lnTo>
                    <a:pt x="1207" y="78"/>
                  </a:lnTo>
                  <a:lnTo>
                    <a:pt x="1208" y="37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2563920" y="5415120"/>
              <a:ext cx="39600" cy="201600"/>
            </a:xfrm>
            <a:custGeom>
              <a:avLst/>
              <a:gdLst/>
              <a:ahLst/>
              <a:rect l="l" t="t" r="r" b="b"/>
              <a:pathLst>
                <a:path w="98" h="506">
                  <a:moveTo>
                    <a:pt x="80" y="1"/>
                  </a:moveTo>
                  <a:lnTo>
                    <a:pt x="58" y="18"/>
                  </a:lnTo>
                  <a:lnTo>
                    <a:pt x="0" y="502"/>
                  </a:lnTo>
                  <a:lnTo>
                    <a:pt x="41" y="506"/>
                  </a:lnTo>
                  <a:lnTo>
                    <a:pt x="98" y="22"/>
                  </a:lnTo>
                  <a:lnTo>
                    <a:pt x="80" y="1"/>
                  </a:lnTo>
                  <a:lnTo>
                    <a:pt x="98" y="22"/>
                  </a:lnTo>
                  <a:lnTo>
                    <a:pt x="98" y="18"/>
                  </a:lnTo>
                  <a:lnTo>
                    <a:pt x="97" y="14"/>
                  </a:lnTo>
                  <a:lnTo>
                    <a:pt x="96" y="10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2440080" y="4302360"/>
              <a:ext cx="636480" cy="1069920"/>
            </a:xfrm>
            <a:custGeom>
              <a:avLst/>
              <a:gdLst/>
              <a:ahLst/>
              <a:rect l="l" t="t" r="r" b="b"/>
              <a:pathLst>
                <a:path w="1601" h="2695">
                  <a:moveTo>
                    <a:pt x="71" y="0"/>
                  </a:moveTo>
                  <a:lnTo>
                    <a:pt x="0" y="2649"/>
                  </a:lnTo>
                  <a:lnTo>
                    <a:pt x="1530" y="2695"/>
                  </a:lnTo>
                  <a:lnTo>
                    <a:pt x="1601" y="14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ac61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2432160" y="4302360"/>
              <a:ext cx="44280" cy="1058760"/>
            </a:xfrm>
            <a:custGeom>
              <a:avLst/>
              <a:gdLst/>
              <a:ahLst/>
              <a:rect l="l" t="t" r="r" b="b"/>
              <a:pathLst>
                <a:path w="112" h="2669">
                  <a:moveTo>
                    <a:pt x="19" y="2669"/>
                  </a:moveTo>
                  <a:lnTo>
                    <a:pt x="41" y="2649"/>
                  </a:lnTo>
                  <a:lnTo>
                    <a:pt x="112" y="1"/>
                  </a:lnTo>
                  <a:lnTo>
                    <a:pt x="71" y="0"/>
                  </a:lnTo>
                  <a:lnTo>
                    <a:pt x="0" y="2648"/>
                  </a:lnTo>
                  <a:lnTo>
                    <a:pt x="19" y="2669"/>
                  </a:lnTo>
                  <a:lnTo>
                    <a:pt x="0" y="2648"/>
                  </a:lnTo>
                  <a:lnTo>
                    <a:pt x="1" y="2653"/>
                  </a:lnTo>
                  <a:lnTo>
                    <a:pt x="2" y="2657"/>
                  </a:lnTo>
                  <a:lnTo>
                    <a:pt x="3" y="2661"/>
                  </a:lnTo>
                  <a:lnTo>
                    <a:pt x="6" y="2663"/>
                  </a:lnTo>
                  <a:lnTo>
                    <a:pt x="10" y="2665"/>
                  </a:lnTo>
                  <a:lnTo>
                    <a:pt x="13" y="2668"/>
                  </a:lnTo>
                  <a:lnTo>
                    <a:pt x="16" y="2669"/>
                  </a:lnTo>
                  <a:lnTo>
                    <a:pt x="21" y="2669"/>
                  </a:lnTo>
                  <a:lnTo>
                    <a:pt x="24" y="2669"/>
                  </a:lnTo>
                  <a:lnTo>
                    <a:pt x="27" y="2668"/>
                  </a:lnTo>
                  <a:lnTo>
                    <a:pt x="31" y="2666"/>
                  </a:lnTo>
                  <a:lnTo>
                    <a:pt x="35" y="2664"/>
                  </a:lnTo>
                  <a:lnTo>
                    <a:pt x="37" y="2661"/>
                  </a:lnTo>
                  <a:lnTo>
                    <a:pt x="39" y="2658"/>
                  </a:lnTo>
                  <a:lnTo>
                    <a:pt x="40" y="2653"/>
                  </a:lnTo>
                  <a:lnTo>
                    <a:pt x="41" y="2649"/>
                  </a:lnTo>
                  <a:lnTo>
                    <a:pt x="19" y="26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2440080" y="5345280"/>
              <a:ext cx="615960" cy="34920"/>
            </a:xfrm>
            <a:custGeom>
              <a:avLst/>
              <a:gdLst/>
              <a:ahLst/>
              <a:rect l="l" t="t" r="r" b="b"/>
              <a:pathLst>
                <a:path w="1552" h="86">
                  <a:moveTo>
                    <a:pt x="1552" y="67"/>
                  </a:moveTo>
                  <a:lnTo>
                    <a:pt x="1533" y="46"/>
                  </a:lnTo>
                  <a:lnTo>
                    <a:pt x="3" y="0"/>
                  </a:lnTo>
                  <a:lnTo>
                    <a:pt x="0" y="40"/>
                  </a:lnTo>
                  <a:lnTo>
                    <a:pt x="1532" y="86"/>
                  </a:lnTo>
                  <a:lnTo>
                    <a:pt x="1552" y="67"/>
                  </a:lnTo>
                  <a:lnTo>
                    <a:pt x="1532" y="86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3" y="83"/>
                  </a:lnTo>
                  <a:lnTo>
                    <a:pt x="1547" y="81"/>
                  </a:lnTo>
                  <a:lnTo>
                    <a:pt x="1549" y="77"/>
                  </a:lnTo>
                  <a:lnTo>
                    <a:pt x="1550" y="74"/>
                  </a:lnTo>
                  <a:lnTo>
                    <a:pt x="1551" y="70"/>
                  </a:lnTo>
                  <a:lnTo>
                    <a:pt x="1552" y="67"/>
                  </a:lnTo>
                  <a:lnTo>
                    <a:pt x="1551" y="63"/>
                  </a:lnTo>
                  <a:lnTo>
                    <a:pt x="1551" y="59"/>
                  </a:lnTo>
                  <a:lnTo>
                    <a:pt x="1549" y="56"/>
                  </a:lnTo>
                  <a:lnTo>
                    <a:pt x="1547" y="53"/>
                  </a:lnTo>
                  <a:lnTo>
                    <a:pt x="1545" y="50"/>
                  </a:lnTo>
                  <a:lnTo>
                    <a:pt x="1541" y="48"/>
                  </a:lnTo>
                  <a:lnTo>
                    <a:pt x="1537" y="46"/>
                  </a:lnTo>
                  <a:lnTo>
                    <a:pt x="1533" y="46"/>
                  </a:lnTo>
                  <a:lnTo>
                    <a:pt x="1552" y="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3040200" y="4351320"/>
              <a:ext cx="44280" cy="1020960"/>
            </a:xfrm>
            <a:custGeom>
              <a:avLst/>
              <a:gdLst/>
              <a:ahLst/>
              <a:rect l="l" t="t" r="r" b="b"/>
              <a:pathLst>
                <a:path w="112" h="2573">
                  <a:moveTo>
                    <a:pt x="94" y="0"/>
                  </a:moveTo>
                  <a:lnTo>
                    <a:pt x="71" y="19"/>
                  </a:lnTo>
                  <a:lnTo>
                    <a:pt x="0" y="2572"/>
                  </a:lnTo>
                  <a:lnTo>
                    <a:pt x="41" y="2573"/>
                  </a:lnTo>
                  <a:lnTo>
                    <a:pt x="112" y="21"/>
                  </a:lnTo>
                  <a:lnTo>
                    <a:pt x="94" y="0"/>
                  </a:lnTo>
                  <a:lnTo>
                    <a:pt x="112" y="21"/>
                  </a:lnTo>
                  <a:lnTo>
                    <a:pt x="111" y="16"/>
                  </a:lnTo>
                  <a:lnTo>
                    <a:pt x="110" y="12"/>
                  </a:lnTo>
                  <a:lnTo>
                    <a:pt x="109" y="9"/>
                  </a:lnTo>
                  <a:lnTo>
                    <a:pt x="106" y="5"/>
                  </a:lnTo>
                  <a:lnTo>
                    <a:pt x="104" y="3"/>
                  </a:lnTo>
                  <a:lnTo>
                    <a:pt x="99" y="1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9" y="4"/>
                  </a:lnTo>
                  <a:lnTo>
                    <a:pt x="76" y="8"/>
                  </a:lnTo>
                  <a:lnTo>
                    <a:pt x="74" y="11"/>
                  </a:lnTo>
                  <a:lnTo>
                    <a:pt x="72" y="15"/>
                  </a:lnTo>
                  <a:lnTo>
                    <a:pt x="71" y="1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2460600" y="4294440"/>
              <a:ext cx="615960" cy="73080"/>
            </a:xfrm>
            <a:custGeom>
              <a:avLst/>
              <a:gdLst/>
              <a:ahLst/>
              <a:rect l="l" t="t" r="r" b="b"/>
              <a:pathLst>
                <a:path w="1553" h="183">
                  <a:moveTo>
                    <a:pt x="0" y="20"/>
                  </a:moveTo>
                  <a:lnTo>
                    <a:pt x="19" y="40"/>
                  </a:lnTo>
                  <a:lnTo>
                    <a:pt x="1549" y="183"/>
                  </a:lnTo>
                  <a:lnTo>
                    <a:pt x="1553" y="143"/>
                  </a:lnTo>
                  <a:lnTo>
                    <a:pt x="23" y="0"/>
                  </a:lnTo>
                  <a:lnTo>
                    <a:pt x="0" y="2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39"/>
                  </a:lnTo>
                  <a:lnTo>
                    <a:pt x="19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3164040" y="3233880"/>
              <a:ext cx="855360" cy="585720"/>
            </a:xfrm>
            <a:custGeom>
              <a:avLst/>
              <a:gdLst/>
              <a:ahLst/>
              <a:rect l="l" t="t" r="r" b="b"/>
              <a:pathLst>
                <a:path w="2157" h="1476">
                  <a:moveTo>
                    <a:pt x="2157" y="990"/>
                  </a:moveTo>
                  <a:lnTo>
                    <a:pt x="2086" y="1050"/>
                  </a:lnTo>
                  <a:lnTo>
                    <a:pt x="2017" y="1111"/>
                  </a:lnTo>
                  <a:lnTo>
                    <a:pt x="1948" y="1171"/>
                  </a:lnTo>
                  <a:lnTo>
                    <a:pt x="1879" y="1233"/>
                  </a:lnTo>
                  <a:lnTo>
                    <a:pt x="1809" y="1293"/>
                  </a:lnTo>
                  <a:lnTo>
                    <a:pt x="1740" y="1354"/>
                  </a:lnTo>
                  <a:lnTo>
                    <a:pt x="1671" y="1414"/>
                  </a:lnTo>
                  <a:lnTo>
                    <a:pt x="1602" y="1476"/>
                  </a:lnTo>
                  <a:lnTo>
                    <a:pt x="1552" y="1443"/>
                  </a:lnTo>
                  <a:lnTo>
                    <a:pt x="1502" y="1410"/>
                  </a:lnTo>
                  <a:lnTo>
                    <a:pt x="1451" y="1376"/>
                  </a:lnTo>
                  <a:lnTo>
                    <a:pt x="1402" y="1342"/>
                  </a:lnTo>
                  <a:lnTo>
                    <a:pt x="1352" y="1306"/>
                  </a:lnTo>
                  <a:lnTo>
                    <a:pt x="1302" y="1271"/>
                  </a:lnTo>
                  <a:lnTo>
                    <a:pt x="1253" y="1234"/>
                  </a:lnTo>
                  <a:lnTo>
                    <a:pt x="1203" y="1196"/>
                  </a:lnTo>
                  <a:lnTo>
                    <a:pt x="1103" y="1119"/>
                  </a:lnTo>
                  <a:lnTo>
                    <a:pt x="1002" y="1041"/>
                  </a:lnTo>
                  <a:lnTo>
                    <a:pt x="903" y="960"/>
                  </a:lnTo>
                  <a:lnTo>
                    <a:pt x="802" y="876"/>
                  </a:lnTo>
                  <a:lnTo>
                    <a:pt x="702" y="792"/>
                  </a:lnTo>
                  <a:lnTo>
                    <a:pt x="602" y="706"/>
                  </a:lnTo>
                  <a:lnTo>
                    <a:pt x="501" y="618"/>
                  </a:lnTo>
                  <a:lnTo>
                    <a:pt x="402" y="530"/>
                  </a:lnTo>
                  <a:lnTo>
                    <a:pt x="201" y="351"/>
                  </a:lnTo>
                  <a:lnTo>
                    <a:pt x="0" y="172"/>
                  </a:lnTo>
                  <a:lnTo>
                    <a:pt x="9" y="152"/>
                  </a:lnTo>
                  <a:lnTo>
                    <a:pt x="19" y="130"/>
                  </a:lnTo>
                  <a:lnTo>
                    <a:pt x="28" y="108"/>
                  </a:lnTo>
                  <a:lnTo>
                    <a:pt x="37" y="87"/>
                  </a:lnTo>
                  <a:lnTo>
                    <a:pt x="47" y="65"/>
                  </a:lnTo>
                  <a:lnTo>
                    <a:pt x="56" y="44"/>
                  </a:lnTo>
                  <a:lnTo>
                    <a:pt x="65" y="22"/>
                  </a:lnTo>
                  <a:lnTo>
                    <a:pt x="75" y="0"/>
                  </a:lnTo>
                  <a:lnTo>
                    <a:pt x="352" y="117"/>
                  </a:lnTo>
                  <a:lnTo>
                    <a:pt x="629" y="235"/>
                  </a:lnTo>
                  <a:lnTo>
                    <a:pt x="765" y="294"/>
                  </a:lnTo>
                  <a:lnTo>
                    <a:pt x="901" y="354"/>
                  </a:lnTo>
                  <a:lnTo>
                    <a:pt x="1036" y="413"/>
                  </a:lnTo>
                  <a:lnTo>
                    <a:pt x="1169" y="475"/>
                  </a:lnTo>
                  <a:lnTo>
                    <a:pt x="1300" y="535"/>
                  </a:lnTo>
                  <a:lnTo>
                    <a:pt x="1430" y="598"/>
                  </a:lnTo>
                  <a:lnTo>
                    <a:pt x="1557" y="660"/>
                  </a:lnTo>
                  <a:lnTo>
                    <a:pt x="1683" y="724"/>
                  </a:lnTo>
                  <a:lnTo>
                    <a:pt x="1744" y="756"/>
                  </a:lnTo>
                  <a:lnTo>
                    <a:pt x="1806" y="789"/>
                  </a:lnTo>
                  <a:lnTo>
                    <a:pt x="1866" y="821"/>
                  </a:lnTo>
                  <a:lnTo>
                    <a:pt x="1925" y="855"/>
                  </a:lnTo>
                  <a:lnTo>
                    <a:pt x="1985" y="888"/>
                  </a:lnTo>
                  <a:lnTo>
                    <a:pt x="2042" y="922"/>
                  </a:lnTo>
                  <a:lnTo>
                    <a:pt x="2099" y="955"/>
                  </a:lnTo>
                  <a:lnTo>
                    <a:pt x="2157" y="990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3790800" y="3619800"/>
              <a:ext cx="233640" cy="207720"/>
            </a:xfrm>
            <a:custGeom>
              <a:avLst/>
              <a:gdLst/>
              <a:ahLst/>
              <a:rect l="l" t="t" r="r" b="b"/>
              <a:pathLst>
                <a:path w="589" h="520">
                  <a:moveTo>
                    <a:pt x="10" y="517"/>
                  </a:moveTo>
                  <a:lnTo>
                    <a:pt x="34" y="516"/>
                  </a:lnTo>
                  <a:lnTo>
                    <a:pt x="103" y="454"/>
                  </a:lnTo>
                  <a:lnTo>
                    <a:pt x="172" y="394"/>
                  </a:lnTo>
                  <a:lnTo>
                    <a:pt x="242" y="333"/>
                  </a:lnTo>
                  <a:lnTo>
                    <a:pt x="311" y="273"/>
                  </a:lnTo>
                  <a:lnTo>
                    <a:pt x="380" y="211"/>
                  </a:lnTo>
                  <a:lnTo>
                    <a:pt x="449" y="151"/>
                  </a:lnTo>
                  <a:lnTo>
                    <a:pt x="519" y="90"/>
                  </a:lnTo>
                  <a:lnTo>
                    <a:pt x="589" y="30"/>
                  </a:lnTo>
                  <a:lnTo>
                    <a:pt x="562" y="0"/>
                  </a:lnTo>
                  <a:lnTo>
                    <a:pt x="492" y="60"/>
                  </a:lnTo>
                  <a:lnTo>
                    <a:pt x="423" y="121"/>
                  </a:lnTo>
                  <a:lnTo>
                    <a:pt x="354" y="181"/>
                  </a:lnTo>
                  <a:lnTo>
                    <a:pt x="284" y="243"/>
                  </a:lnTo>
                  <a:lnTo>
                    <a:pt x="215" y="303"/>
                  </a:lnTo>
                  <a:lnTo>
                    <a:pt x="146" y="364"/>
                  </a:lnTo>
                  <a:lnTo>
                    <a:pt x="77" y="424"/>
                  </a:lnTo>
                  <a:lnTo>
                    <a:pt x="7" y="485"/>
                  </a:lnTo>
                  <a:lnTo>
                    <a:pt x="31" y="483"/>
                  </a:lnTo>
                  <a:lnTo>
                    <a:pt x="7" y="485"/>
                  </a:lnTo>
                  <a:lnTo>
                    <a:pt x="3" y="489"/>
                  </a:lnTo>
                  <a:lnTo>
                    <a:pt x="1" y="492"/>
                  </a:lnTo>
                  <a:lnTo>
                    <a:pt x="0" y="496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7"/>
                  </a:lnTo>
                  <a:lnTo>
                    <a:pt x="2" y="510"/>
                  </a:lnTo>
                  <a:lnTo>
                    <a:pt x="5" y="514"/>
                  </a:lnTo>
                  <a:lnTo>
                    <a:pt x="8" y="516"/>
                  </a:lnTo>
                  <a:lnTo>
                    <a:pt x="11" y="518"/>
                  </a:lnTo>
                  <a:lnTo>
                    <a:pt x="14" y="520"/>
                  </a:lnTo>
                  <a:lnTo>
                    <a:pt x="18" y="520"/>
                  </a:lnTo>
                  <a:lnTo>
                    <a:pt x="22" y="520"/>
                  </a:lnTo>
                  <a:lnTo>
                    <a:pt x="26" y="520"/>
                  </a:lnTo>
                  <a:lnTo>
                    <a:pt x="29" y="518"/>
                  </a:lnTo>
                  <a:lnTo>
                    <a:pt x="34" y="516"/>
                  </a:lnTo>
                  <a:lnTo>
                    <a:pt x="10" y="5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3154320" y="3294360"/>
              <a:ext cx="649440" cy="531720"/>
            </a:xfrm>
            <a:custGeom>
              <a:avLst/>
              <a:gdLst/>
              <a:ahLst/>
              <a:rect l="l" t="t" r="r" b="b"/>
              <a:pathLst>
                <a:path w="1633" h="1340">
                  <a:moveTo>
                    <a:pt x="2" y="12"/>
                  </a:moveTo>
                  <a:lnTo>
                    <a:pt x="7" y="35"/>
                  </a:lnTo>
                  <a:lnTo>
                    <a:pt x="208" y="215"/>
                  </a:lnTo>
                  <a:lnTo>
                    <a:pt x="409" y="393"/>
                  </a:lnTo>
                  <a:lnTo>
                    <a:pt x="509" y="481"/>
                  </a:lnTo>
                  <a:lnTo>
                    <a:pt x="610" y="569"/>
                  </a:lnTo>
                  <a:lnTo>
                    <a:pt x="710" y="655"/>
                  </a:lnTo>
                  <a:lnTo>
                    <a:pt x="811" y="739"/>
                  </a:lnTo>
                  <a:lnTo>
                    <a:pt x="911" y="823"/>
                  </a:lnTo>
                  <a:lnTo>
                    <a:pt x="1011" y="905"/>
                  </a:lnTo>
                  <a:lnTo>
                    <a:pt x="1112" y="984"/>
                  </a:lnTo>
                  <a:lnTo>
                    <a:pt x="1211" y="1060"/>
                  </a:lnTo>
                  <a:lnTo>
                    <a:pt x="1262" y="1098"/>
                  </a:lnTo>
                  <a:lnTo>
                    <a:pt x="1312" y="1135"/>
                  </a:lnTo>
                  <a:lnTo>
                    <a:pt x="1361" y="1171"/>
                  </a:lnTo>
                  <a:lnTo>
                    <a:pt x="1412" y="1206"/>
                  </a:lnTo>
                  <a:lnTo>
                    <a:pt x="1462" y="1242"/>
                  </a:lnTo>
                  <a:lnTo>
                    <a:pt x="1511" y="1275"/>
                  </a:lnTo>
                  <a:lnTo>
                    <a:pt x="1561" y="1308"/>
                  </a:lnTo>
                  <a:lnTo>
                    <a:pt x="1612" y="1340"/>
                  </a:lnTo>
                  <a:lnTo>
                    <a:pt x="1633" y="1306"/>
                  </a:lnTo>
                  <a:lnTo>
                    <a:pt x="1584" y="1274"/>
                  </a:lnTo>
                  <a:lnTo>
                    <a:pt x="1534" y="1242"/>
                  </a:lnTo>
                  <a:lnTo>
                    <a:pt x="1484" y="1208"/>
                  </a:lnTo>
                  <a:lnTo>
                    <a:pt x="1435" y="1174"/>
                  </a:lnTo>
                  <a:lnTo>
                    <a:pt x="1385" y="1138"/>
                  </a:lnTo>
                  <a:lnTo>
                    <a:pt x="1335" y="1102"/>
                  </a:lnTo>
                  <a:lnTo>
                    <a:pt x="1286" y="1066"/>
                  </a:lnTo>
                  <a:lnTo>
                    <a:pt x="1236" y="1029"/>
                  </a:lnTo>
                  <a:lnTo>
                    <a:pt x="1137" y="952"/>
                  </a:lnTo>
                  <a:lnTo>
                    <a:pt x="1036" y="873"/>
                  </a:lnTo>
                  <a:lnTo>
                    <a:pt x="937" y="792"/>
                  </a:lnTo>
                  <a:lnTo>
                    <a:pt x="836" y="709"/>
                  </a:lnTo>
                  <a:lnTo>
                    <a:pt x="736" y="624"/>
                  </a:lnTo>
                  <a:lnTo>
                    <a:pt x="637" y="539"/>
                  </a:lnTo>
                  <a:lnTo>
                    <a:pt x="536" y="451"/>
                  </a:lnTo>
                  <a:lnTo>
                    <a:pt x="436" y="363"/>
                  </a:lnTo>
                  <a:lnTo>
                    <a:pt x="235" y="184"/>
                  </a:lnTo>
                  <a:lnTo>
                    <a:pt x="34" y="5"/>
                  </a:lnTo>
                  <a:lnTo>
                    <a:pt x="40" y="29"/>
                  </a:lnTo>
                  <a:lnTo>
                    <a:pt x="34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3156120" y="3225960"/>
              <a:ext cx="45720" cy="7920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01" y="2"/>
                  </a:moveTo>
                  <a:lnTo>
                    <a:pt x="75" y="13"/>
                  </a:lnTo>
                  <a:lnTo>
                    <a:pt x="66" y="35"/>
                  </a:lnTo>
                  <a:lnTo>
                    <a:pt x="57" y="56"/>
                  </a:lnTo>
                  <a:lnTo>
                    <a:pt x="47" y="78"/>
                  </a:lnTo>
                  <a:lnTo>
                    <a:pt x="38" y="99"/>
                  </a:lnTo>
                  <a:lnTo>
                    <a:pt x="28" y="121"/>
                  </a:lnTo>
                  <a:lnTo>
                    <a:pt x="19" y="141"/>
                  </a:lnTo>
                  <a:lnTo>
                    <a:pt x="9" y="163"/>
                  </a:lnTo>
                  <a:lnTo>
                    <a:pt x="0" y="184"/>
                  </a:lnTo>
                  <a:lnTo>
                    <a:pt x="38" y="201"/>
                  </a:lnTo>
                  <a:lnTo>
                    <a:pt x="46" y="179"/>
                  </a:lnTo>
                  <a:lnTo>
                    <a:pt x="56" y="158"/>
                  </a:lnTo>
                  <a:lnTo>
                    <a:pt x="66" y="137"/>
                  </a:lnTo>
                  <a:lnTo>
                    <a:pt x="74" y="116"/>
                  </a:lnTo>
                  <a:lnTo>
                    <a:pt x="84" y="94"/>
                  </a:lnTo>
                  <a:lnTo>
                    <a:pt x="94" y="72"/>
                  </a:lnTo>
                  <a:lnTo>
                    <a:pt x="103" y="51"/>
                  </a:lnTo>
                  <a:lnTo>
                    <a:pt x="112" y="29"/>
                  </a:lnTo>
                  <a:lnTo>
                    <a:pt x="86" y="39"/>
                  </a:lnTo>
                  <a:lnTo>
                    <a:pt x="112" y="29"/>
                  </a:lnTo>
                  <a:lnTo>
                    <a:pt x="114" y="24"/>
                  </a:lnTo>
                  <a:lnTo>
                    <a:pt x="114" y="19"/>
                  </a:lnTo>
                  <a:lnTo>
                    <a:pt x="114" y="16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08" y="6"/>
                  </a:lnTo>
                  <a:lnTo>
                    <a:pt x="106" y="4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0" y="1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81" y="5"/>
                  </a:lnTo>
                  <a:lnTo>
                    <a:pt x="77" y="9"/>
                  </a:lnTo>
                  <a:lnTo>
                    <a:pt x="75" y="13"/>
                  </a:lnTo>
                  <a:lnTo>
                    <a:pt x="10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3191040" y="3225960"/>
              <a:ext cx="836280" cy="407880"/>
            </a:xfrm>
            <a:custGeom>
              <a:avLst/>
              <a:gdLst/>
              <a:ahLst/>
              <a:rect l="l" t="t" r="r" b="b"/>
              <a:pathLst>
                <a:path w="2110" h="1028">
                  <a:moveTo>
                    <a:pt x="2103" y="1023"/>
                  </a:moveTo>
                  <a:lnTo>
                    <a:pt x="2099" y="990"/>
                  </a:lnTo>
                  <a:lnTo>
                    <a:pt x="2043" y="956"/>
                  </a:lnTo>
                  <a:lnTo>
                    <a:pt x="1986" y="922"/>
                  </a:lnTo>
                  <a:lnTo>
                    <a:pt x="1928" y="888"/>
                  </a:lnTo>
                  <a:lnTo>
                    <a:pt x="1868" y="855"/>
                  </a:lnTo>
                  <a:lnTo>
                    <a:pt x="1809" y="822"/>
                  </a:lnTo>
                  <a:lnTo>
                    <a:pt x="1748" y="790"/>
                  </a:lnTo>
                  <a:lnTo>
                    <a:pt x="1687" y="756"/>
                  </a:lnTo>
                  <a:lnTo>
                    <a:pt x="1625" y="724"/>
                  </a:lnTo>
                  <a:lnTo>
                    <a:pt x="1500" y="660"/>
                  </a:lnTo>
                  <a:lnTo>
                    <a:pt x="1371" y="597"/>
                  </a:lnTo>
                  <a:lnTo>
                    <a:pt x="1242" y="535"/>
                  </a:lnTo>
                  <a:lnTo>
                    <a:pt x="1110" y="474"/>
                  </a:lnTo>
                  <a:lnTo>
                    <a:pt x="977" y="413"/>
                  </a:lnTo>
                  <a:lnTo>
                    <a:pt x="842" y="353"/>
                  </a:lnTo>
                  <a:lnTo>
                    <a:pt x="706" y="293"/>
                  </a:lnTo>
                  <a:lnTo>
                    <a:pt x="569" y="234"/>
                  </a:lnTo>
                  <a:lnTo>
                    <a:pt x="293" y="117"/>
                  </a:lnTo>
                  <a:lnTo>
                    <a:pt x="15" y="0"/>
                  </a:lnTo>
                  <a:lnTo>
                    <a:pt x="0" y="37"/>
                  </a:lnTo>
                  <a:lnTo>
                    <a:pt x="278" y="153"/>
                  </a:lnTo>
                  <a:lnTo>
                    <a:pt x="553" y="271"/>
                  </a:lnTo>
                  <a:lnTo>
                    <a:pt x="690" y="331"/>
                  </a:lnTo>
                  <a:lnTo>
                    <a:pt x="826" y="390"/>
                  </a:lnTo>
                  <a:lnTo>
                    <a:pt x="960" y="449"/>
                  </a:lnTo>
                  <a:lnTo>
                    <a:pt x="1094" y="511"/>
                  </a:lnTo>
                  <a:lnTo>
                    <a:pt x="1225" y="571"/>
                  </a:lnTo>
                  <a:lnTo>
                    <a:pt x="1354" y="634"/>
                  </a:lnTo>
                  <a:lnTo>
                    <a:pt x="1482" y="697"/>
                  </a:lnTo>
                  <a:lnTo>
                    <a:pt x="1607" y="760"/>
                  </a:lnTo>
                  <a:lnTo>
                    <a:pt x="1668" y="792"/>
                  </a:lnTo>
                  <a:lnTo>
                    <a:pt x="1729" y="824"/>
                  </a:lnTo>
                  <a:lnTo>
                    <a:pt x="1789" y="858"/>
                  </a:lnTo>
                  <a:lnTo>
                    <a:pt x="1849" y="890"/>
                  </a:lnTo>
                  <a:lnTo>
                    <a:pt x="1907" y="924"/>
                  </a:lnTo>
                  <a:lnTo>
                    <a:pt x="1965" y="957"/>
                  </a:lnTo>
                  <a:lnTo>
                    <a:pt x="2023" y="990"/>
                  </a:lnTo>
                  <a:lnTo>
                    <a:pt x="2079" y="1025"/>
                  </a:lnTo>
                  <a:lnTo>
                    <a:pt x="2076" y="993"/>
                  </a:lnTo>
                  <a:lnTo>
                    <a:pt x="2079" y="1025"/>
                  </a:lnTo>
                  <a:lnTo>
                    <a:pt x="2083" y="1027"/>
                  </a:lnTo>
                  <a:lnTo>
                    <a:pt x="2087" y="1028"/>
                  </a:lnTo>
                  <a:lnTo>
                    <a:pt x="2091" y="1028"/>
                  </a:lnTo>
                  <a:lnTo>
                    <a:pt x="2095" y="1027"/>
                  </a:lnTo>
                  <a:lnTo>
                    <a:pt x="2098" y="1026"/>
                  </a:lnTo>
                  <a:lnTo>
                    <a:pt x="2101" y="1024"/>
                  </a:lnTo>
                  <a:lnTo>
                    <a:pt x="2104" y="1021"/>
                  </a:lnTo>
                  <a:lnTo>
                    <a:pt x="2107" y="1017"/>
                  </a:lnTo>
                  <a:lnTo>
                    <a:pt x="2108" y="1014"/>
                  </a:lnTo>
                  <a:lnTo>
                    <a:pt x="2109" y="1011"/>
                  </a:lnTo>
                  <a:lnTo>
                    <a:pt x="2110" y="1008"/>
                  </a:lnTo>
                  <a:lnTo>
                    <a:pt x="2109" y="1003"/>
                  </a:lnTo>
                  <a:lnTo>
                    <a:pt x="2108" y="1000"/>
                  </a:lnTo>
                  <a:lnTo>
                    <a:pt x="2106" y="996"/>
                  </a:lnTo>
                  <a:lnTo>
                    <a:pt x="2104" y="993"/>
                  </a:lnTo>
                  <a:lnTo>
                    <a:pt x="2099" y="990"/>
                  </a:lnTo>
                  <a:lnTo>
                    <a:pt x="2103" y="1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2355840" y="3205440"/>
              <a:ext cx="906480" cy="1312560"/>
            </a:xfrm>
            <a:custGeom>
              <a:avLst/>
              <a:gdLst/>
              <a:ahLst/>
              <a:rect l="l" t="t" r="r" b="b"/>
              <a:pathLst>
                <a:path w="2282" h="3308">
                  <a:moveTo>
                    <a:pt x="2282" y="147"/>
                  </a:moveTo>
                  <a:lnTo>
                    <a:pt x="1896" y="0"/>
                  </a:lnTo>
                  <a:lnTo>
                    <a:pt x="0" y="2670"/>
                  </a:lnTo>
                  <a:lnTo>
                    <a:pt x="2071" y="3308"/>
                  </a:lnTo>
                  <a:lnTo>
                    <a:pt x="2282" y="147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3100320" y="3197520"/>
              <a:ext cx="165240" cy="72720"/>
            </a:xfrm>
            <a:custGeom>
              <a:avLst/>
              <a:gdLst/>
              <a:ahLst/>
              <a:rect l="l" t="t" r="r" b="b"/>
              <a:pathLst>
                <a:path w="412" h="185">
                  <a:moveTo>
                    <a:pt x="4" y="8"/>
                  </a:moveTo>
                  <a:lnTo>
                    <a:pt x="12" y="40"/>
                  </a:lnTo>
                  <a:lnTo>
                    <a:pt x="398" y="185"/>
                  </a:lnTo>
                  <a:lnTo>
                    <a:pt x="412" y="148"/>
                  </a:lnTo>
                  <a:lnTo>
                    <a:pt x="27" y="2"/>
                  </a:lnTo>
                  <a:lnTo>
                    <a:pt x="4" y="8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2347920" y="3200400"/>
              <a:ext cx="768240" cy="1073160"/>
            </a:xfrm>
            <a:custGeom>
              <a:avLst/>
              <a:gdLst/>
              <a:ahLst/>
              <a:rect l="l" t="t" r="r" b="b"/>
              <a:pathLst>
                <a:path w="1933" h="2702">
                  <a:moveTo>
                    <a:pt x="14" y="2701"/>
                  </a:moveTo>
                  <a:lnTo>
                    <a:pt x="37" y="2694"/>
                  </a:lnTo>
                  <a:lnTo>
                    <a:pt x="1933" y="24"/>
                  </a:lnTo>
                  <a:lnTo>
                    <a:pt x="1901" y="0"/>
                  </a:lnTo>
                  <a:lnTo>
                    <a:pt x="4" y="2670"/>
                  </a:lnTo>
                  <a:lnTo>
                    <a:pt x="14" y="2701"/>
                  </a:lnTo>
                  <a:lnTo>
                    <a:pt x="4" y="2670"/>
                  </a:lnTo>
                  <a:lnTo>
                    <a:pt x="1" y="2674"/>
                  </a:lnTo>
                  <a:lnTo>
                    <a:pt x="0" y="2679"/>
                  </a:lnTo>
                  <a:lnTo>
                    <a:pt x="0" y="2682"/>
                  </a:lnTo>
                  <a:lnTo>
                    <a:pt x="0" y="2686"/>
                  </a:lnTo>
                  <a:lnTo>
                    <a:pt x="1" y="2690"/>
                  </a:lnTo>
                  <a:lnTo>
                    <a:pt x="4" y="2693"/>
                  </a:lnTo>
                  <a:lnTo>
                    <a:pt x="6" y="2696"/>
                  </a:lnTo>
                  <a:lnTo>
                    <a:pt x="9" y="2698"/>
                  </a:lnTo>
                  <a:lnTo>
                    <a:pt x="12" y="2700"/>
                  </a:lnTo>
                  <a:lnTo>
                    <a:pt x="15" y="2701"/>
                  </a:lnTo>
                  <a:lnTo>
                    <a:pt x="20" y="2702"/>
                  </a:lnTo>
                  <a:lnTo>
                    <a:pt x="23" y="2702"/>
                  </a:lnTo>
                  <a:lnTo>
                    <a:pt x="26" y="2701"/>
                  </a:lnTo>
                  <a:lnTo>
                    <a:pt x="31" y="2700"/>
                  </a:lnTo>
                  <a:lnTo>
                    <a:pt x="34" y="2697"/>
                  </a:lnTo>
                  <a:lnTo>
                    <a:pt x="37" y="2694"/>
                  </a:lnTo>
                  <a:lnTo>
                    <a:pt x="14" y="2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2354400" y="4257720"/>
              <a:ext cx="831600" cy="268560"/>
            </a:xfrm>
            <a:custGeom>
              <a:avLst/>
              <a:gdLst/>
              <a:ahLst/>
              <a:rect l="l" t="t" r="r" b="b"/>
              <a:pathLst>
                <a:path w="2098" h="677">
                  <a:moveTo>
                    <a:pt x="2098" y="658"/>
                  </a:moveTo>
                  <a:lnTo>
                    <a:pt x="2084" y="638"/>
                  </a:lnTo>
                  <a:lnTo>
                    <a:pt x="12" y="0"/>
                  </a:lnTo>
                  <a:lnTo>
                    <a:pt x="0" y="38"/>
                  </a:lnTo>
                  <a:lnTo>
                    <a:pt x="2073" y="677"/>
                  </a:lnTo>
                  <a:lnTo>
                    <a:pt x="2098" y="658"/>
                  </a:lnTo>
                  <a:lnTo>
                    <a:pt x="2073" y="677"/>
                  </a:lnTo>
                  <a:lnTo>
                    <a:pt x="2077" y="677"/>
                  </a:lnTo>
                  <a:lnTo>
                    <a:pt x="2081" y="677"/>
                  </a:lnTo>
                  <a:lnTo>
                    <a:pt x="2086" y="677"/>
                  </a:lnTo>
                  <a:lnTo>
                    <a:pt x="2089" y="675"/>
                  </a:lnTo>
                  <a:lnTo>
                    <a:pt x="2092" y="672"/>
                  </a:lnTo>
                  <a:lnTo>
                    <a:pt x="2094" y="669"/>
                  </a:lnTo>
                  <a:lnTo>
                    <a:pt x="2096" y="666"/>
                  </a:lnTo>
                  <a:lnTo>
                    <a:pt x="2097" y="663"/>
                  </a:lnTo>
                  <a:lnTo>
                    <a:pt x="2098" y="659"/>
                  </a:lnTo>
                  <a:lnTo>
                    <a:pt x="2098" y="655"/>
                  </a:lnTo>
                  <a:lnTo>
                    <a:pt x="2097" y="652"/>
                  </a:lnTo>
                  <a:lnTo>
                    <a:pt x="2096" y="649"/>
                  </a:lnTo>
                  <a:lnTo>
                    <a:pt x="2095" y="645"/>
                  </a:lnTo>
                  <a:lnTo>
                    <a:pt x="2092" y="642"/>
                  </a:lnTo>
                  <a:lnTo>
                    <a:pt x="2089" y="640"/>
                  </a:lnTo>
                  <a:lnTo>
                    <a:pt x="2084" y="638"/>
                  </a:lnTo>
                  <a:lnTo>
                    <a:pt x="2098" y="6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3170160" y="3256200"/>
              <a:ext cx="100080" cy="1261800"/>
            </a:xfrm>
            <a:custGeom>
              <a:avLst/>
              <a:gdLst/>
              <a:ahLst/>
              <a:rect l="l" t="t" r="r" b="b"/>
              <a:pathLst>
                <a:path w="249" h="3182">
                  <a:moveTo>
                    <a:pt x="236" y="1"/>
                  </a:moveTo>
                  <a:lnTo>
                    <a:pt x="209" y="19"/>
                  </a:lnTo>
                  <a:lnTo>
                    <a:pt x="0" y="3180"/>
                  </a:lnTo>
                  <a:lnTo>
                    <a:pt x="39" y="3182"/>
                  </a:lnTo>
                  <a:lnTo>
                    <a:pt x="249" y="21"/>
                  </a:lnTo>
                  <a:lnTo>
                    <a:pt x="236" y="1"/>
                  </a:lnTo>
                  <a:lnTo>
                    <a:pt x="249" y="21"/>
                  </a:lnTo>
                  <a:lnTo>
                    <a:pt x="249" y="17"/>
                  </a:lnTo>
                  <a:lnTo>
                    <a:pt x="248" y="13"/>
                  </a:lnTo>
                  <a:lnTo>
                    <a:pt x="247" y="8"/>
                  </a:lnTo>
                  <a:lnTo>
                    <a:pt x="244" y="6"/>
                  </a:lnTo>
                  <a:lnTo>
                    <a:pt x="241" y="3"/>
                  </a:lnTo>
                  <a:lnTo>
                    <a:pt x="238" y="2"/>
                  </a:lnTo>
                  <a:lnTo>
                    <a:pt x="234" y="1"/>
                  </a:lnTo>
                  <a:lnTo>
                    <a:pt x="231" y="0"/>
                  </a:lnTo>
                  <a:lnTo>
                    <a:pt x="226" y="0"/>
                  </a:lnTo>
                  <a:lnTo>
                    <a:pt x="223" y="1"/>
                  </a:lnTo>
                  <a:lnTo>
                    <a:pt x="220" y="2"/>
                  </a:lnTo>
                  <a:lnTo>
                    <a:pt x="217" y="4"/>
                  </a:lnTo>
                  <a:lnTo>
                    <a:pt x="213" y="6"/>
                  </a:lnTo>
                  <a:lnTo>
                    <a:pt x="211" y="10"/>
                  </a:lnTo>
                  <a:lnTo>
                    <a:pt x="210" y="14"/>
                  </a:lnTo>
                  <a:lnTo>
                    <a:pt x="209" y="19"/>
                  </a:lnTo>
                  <a:lnTo>
                    <a:pt x="23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6189840" y="4869000"/>
              <a:ext cx="45720" cy="106524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181560" y="4861080"/>
              <a:ext cx="1620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1" y="0"/>
                  </a:lnTo>
                  <a:lnTo>
                    <a:pt x="40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189840" y="4861080"/>
              <a:ext cx="53640" cy="158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5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5"/>
                  </a:lnTo>
                  <a:lnTo>
                    <a:pt x="135" y="21"/>
                  </a:lnTo>
                  <a:lnTo>
                    <a:pt x="135" y="17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7"/>
                  </a:lnTo>
                  <a:lnTo>
                    <a:pt x="127" y="4"/>
                  </a:lnTo>
                  <a:lnTo>
                    <a:pt x="124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227640" y="4869000"/>
              <a:ext cx="15840" cy="10731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0" y="2705"/>
                  </a:lnTo>
                  <a:lnTo>
                    <a:pt x="0" y="2684"/>
                  </a:lnTo>
                  <a:lnTo>
                    <a:pt x="0" y="2690"/>
                  </a:lnTo>
                  <a:lnTo>
                    <a:pt x="1" y="2693"/>
                  </a:lnTo>
                  <a:lnTo>
                    <a:pt x="3" y="2697"/>
                  </a:lnTo>
                  <a:lnTo>
                    <a:pt x="6" y="2700"/>
                  </a:lnTo>
                  <a:lnTo>
                    <a:pt x="10" y="2702"/>
                  </a:lnTo>
                  <a:lnTo>
                    <a:pt x="13" y="2704"/>
                  </a:lnTo>
                  <a:lnTo>
                    <a:pt x="16" y="2705"/>
                  </a:lnTo>
                  <a:lnTo>
                    <a:pt x="20" y="2705"/>
                  </a:lnTo>
                  <a:lnTo>
                    <a:pt x="24" y="2705"/>
                  </a:lnTo>
                  <a:lnTo>
                    <a:pt x="27" y="2704"/>
                  </a:lnTo>
                  <a:lnTo>
                    <a:pt x="31" y="2702"/>
                  </a:lnTo>
                  <a:lnTo>
                    <a:pt x="33" y="2700"/>
                  </a:lnTo>
                  <a:lnTo>
                    <a:pt x="37" y="2697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0" y="2684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181560" y="5926320"/>
              <a:ext cx="54000" cy="15840"/>
            </a:xfrm>
            <a:custGeom>
              <a:avLst/>
              <a:gdLst/>
              <a:ahLst/>
              <a:rect l="l" t="t" r="r" b="b"/>
              <a:pathLst>
                <a:path w="136" h="40">
                  <a:moveTo>
                    <a:pt x="0" y="19"/>
                  </a:moveTo>
                  <a:lnTo>
                    <a:pt x="21" y="40"/>
                  </a:lnTo>
                  <a:lnTo>
                    <a:pt x="136" y="40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40"/>
                  </a:lnTo>
                  <a:lnTo>
                    <a:pt x="21" y="4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5" name=""/>
            <p:cNvSpPr/>
            <p:nvPr/>
          </p:nvSpPr>
          <p:spPr>
            <a:xfrm>
              <a:off x="3298680" y="4524480"/>
              <a:ext cx="44640" cy="10666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3289320" y="4516560"/>
              <a:ext cx="15840" cy="107460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0" y="0"/>
                  </a:moveTo>
                  <a:lnTo>
                    <a:pt x="0" y="21"/>
                  </a:lnTo>
                  <a:lnTo>
                    <a:pt x="0" y="2705"/>
                  </a:lnTo>
                  <a:lnTo>
                    <a:pt x="40" y="2705"/>
                  </a:lnTo>
                  <a:lnTo>
                    <a:pt x="40" y="21"/>
                  </a:lnTo>
                  <a:lnTo>
                    <a:pt x="20" y="0"/>
                  </a:lnTo>
                  <a:lnTo>
                    <a:pt x="40" y="21"/>
                  </a:lnTo>
                  <a:lnTo>
                    <a:pt x="40" y="15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3298680" y="4516560"/>
              <a:ext cx="52560" cy="17640"/>
            </a:xfrm>
            <a:custGeom>
              <a:avLst/>
              <a:gdLst/>
              <a:ahLst/>
              <a:rect l="l" t="t" r="r" b="b"/>
              <a:pathLst>
                <a:path w="135" h="41">
                  <a:moveTo>
                    <a:pt x="135" y="21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6" y="41"/>
                  </a:lnTo>
                  <a:lnTo>
                    <a:pt x="135" y="21"/>
                  </a:lnTo>
                  <a:lnTo>
                    <a:pt x="116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8" y="37"/>
                  </a:lnTo>
                  <a:lnTo>
                    <a:pt x="131" y="35"/>
                  </a:lnTo>
                  <a:lnTo>
                    <a:pt x="133" y="31"/>
                  </a:lnTo>
                  <a:lnTo>
                    <a:pt x="134" y="28"/>
                  </a:lnTo>
                  <a:lnTo>
                    <a:pt x="135" y="24"/>
                  </a:lnTo>
                  <a:lnTo>
                    <a:pt x="135" y="21"/>
                  </a:lnTo>
                  <a:lnTo>
                    <a:pt x="135" y="16"/>
                  </a:lnTo>
                  <a:lnTo>
                    <a:pt x="134" y="13"/>
                  </a:lnTo>
                  <a:lnTo>
                    <a:pt x="133" y="10"/>
                  </a:lnTo>
                  <a:lnTo>
                    <a:pt x="131" y="6"/>
                  </a:lnTo>
                  <a:lnTo>
                    <a:pt x="128" y="4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3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3335400" y="4524480"/>
              <a:ext cx="15840" cy="1074960"/>
            </a:xfrm>
            <a:custGeom>
              <a:avLst/>
              <a:gdLst/>
              <a:ahLst/>
              <a:rect l="l" t="t" r="r" b="b"/>
              <a:pathLst>
                <a:path w="40" h="2705">
                  <a:moveTo>
                    <a:pt x="21" y="2705"/>
                  </a:moveTo>
                  <a:lnTo>
                    <a:pt x="40" y="2684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684"/>
                  </a:lnTo>
                  <a:lnTo>
                    <a:pt x="21" y="2705"/>
                  </a:lnTo>
                  <a:lnTo>
                    <a:pt x="0" y="2684"/>
                  </a:lnTo>
                  <a:lnTo>
                    <a:pt x="0" y="2689"/>
                  </a:lnTo>
                  <a:lnTo>
                    <a:pt x="2" y="2693"/>
                  </a:lnTo>
                  <a:lnTo>
                    <a:pt x="3" y="2696"/>
                  </a:lnTo>
                  <a:lnTo>
                    <a:pt x="7" y="2700"/>
                  </a:lnTo>
                  <a:lnTo>
                    <a:pt x="10" y="2702"/>
                  </a:lnTo>
                  <a:lnTo>
                    <a:pt x="13" y="2703"/>
                  </a:lnTo>
                  <a:lnTo>
                    <a:pt x="16" y="2704"/>
                  </a:lnTo>
                  <a:lnTo>
                    <a:pt x="21" y="2705"/>
                  </a:lnTo>
                  <a:lnTo>
                    <a:pt x="24" y="2704"/>
                  </a:lnTo>
                  <a:lnTo>
                    <a:pt x="28" y="2703"/>
                  </a:lnTo>
                  <a:lnTo>
                    <a:pt x="32" y="2702"/>
                  </a:lnTo>
                  <a:lnTo>
                    <a:pt x="35" y="2700"/>
                  </a:lnTo>
                  <a:lnTo>
                    <a:pt x="37" y="2696"/>
                  </a:lnTo>
                  <a:lnTo>
                    <a:pt x="39" y="2693"/>
                  </a:lnTo>
                  <a:lnTo>
                    <a:pt x="40" y="2689"/>
                  </a:lnTo>
                  <a:lnTo>
                    <a:pt x="40" y="2684"/>
                  </a:lnTo>
                  <a:lnTo>
                    <a:pt x="21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>
              <a:off x="3289320" y="5581800"/>
              <a:ext cx="54000" cy="1764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0"/>
                  </a:moveTo>
                  <a:lnTo>
                    <a:pt x="20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1" y="39"/>
                  </a:lnTo>
                  <a:lnTo>
                    <a:pt x="15" y="40"/>
                  </a:lnTo>
                  <a:lnTo>
                    <a:pt x="20" y="4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3521160" y="4200840"/>
              <a:ext cx="46080" cy="1064880"/>
            </a:xfrm>
            <a:prstGeom prst="rect">
              <a:avLst/>
            </a:pr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3513240" y="4192560"/>
              <a:ext cx="15840" cy="1073160"/>
            </a:xfrm>
            <a:custGeom>
              <a:avLst/>
              <a:gdLst/>
              <a:ahLst/>
              <a:rect l="l" t="t" r="r" b="b"/>
              <a:pathLst>
                <a:path w="41" h="2706">
                  <a:moveTo>
                    <a:pt x="21" y="0"/>
                  </a:moveTo>
                  <a:lnTo>
                    <a:pt x="0" y="21"/>
                  </a:lnTo>
                  <a:lnTo>
                    <a:pt x="0" y="2706"/>
                  </a:lnTo>
                  <a:lnTo>
                    <a:pt x="41" y="2706"/>
                  </a:lnTo>
                  <a:lnTo>
                    <a:pt x="41" y="21"/>
                  </a:lnTo>
                  <a:lnTo>
                    <a:pt x="21" y="0"/>
                  </a:lnTo>
                  <a:lnTo>
                    <a:pt x="41" y="21"/>
                  </a:lnTo>
                  <a:lnTo>
                    <a:pt x="40" y="17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3521160" y="419256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136" y="21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15" y="41"/>
                  </a:lnTo>
                  <a:lnTo>
                    <a:pt x="136" y="21"/>
                  </a:lnTo>
                  <a:lnTo>
                    <a:pt x="115" y="41"/>
                  </a:lnTo>
                  <a:lnTo>
                    <a:pt x="120" y="40"/>
                  </a:lnTo>
                  <a:lnTo>
                    <a:pt x="124" y="39"/>
                  </a:lnTo>
                  <a:lnTo>
                    <a:pt x="127" y="37"/>
                  </a:lnTo>
                  <a:lnTo>
                    <a:pt x="130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5" y="25"/>
                  </a:lnTo>
                  <a:lnTo>
                    <a:pt x="136" y="21"/>
                  </a:lnTo>
                  <a:lnTo>
                    <a:pt x="135" y="18"/>
                  </a:lnTo>
                  <a:lnTo>
                    <a:pt x="135" y="13"/>
                  </a:lnTo>
                  <a:lnTo>
                    <a:pt x="132" y="10"/>
                  </a:lnTo>
                  <a:lnTo>
                    <a:pt x="130" y="7"/>
                  </a:lnTo>
                  <a:lnTo>
                    <a:pt x="127" y="5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5" y="0"/>
                  </a:lnTo>
                  <a:lnTo>
                    <a:pt x="13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3557520" y="4200840"/>
              <a:ext cx="17640" cy="1073160"/>
            </a:xfrm>
            <a:custGeom>
              <a:avLst/>
              <a:gdLst/>
              <a:ahLst/>
              <a:rect l="l" t="t" r="r" b="b"/>
              <a:pathLst>
                <a:path w="41" h="2705">
                  <a:moveTo>
                    <a:pt x="20" y="2705"/>
                  </a:moveTo>
                  <a:lnTo>
                    <a:pt x="41" y="2685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685"/>
                  </a:lnTo>
                  <a:lnTo>
                    <a:pt x="20" y="2705"/>
                  </a:lnTo>
                  <a:lnTo>
                    <a:pt x="0" y="2685"/>
                  </a:lnTo>
                  <a:lnTo>
                    <a:pt x="1" y="2690"/>
                  </a:lnTo>
                  <a:lnTo>
                    <a:pt x="2" y="2693"/>
                  </a:lnTo>
                  <a:lnTo>
                    <a:pt x="4" y="2698"/>
                  </a:lnTo>
                  <a:lnTo>
                    <a:pt x="6" y="2700"/>
                  </a:lnTo>
                  <a:lnTo>
                    <a:pt x="9" y="2702"/>
                  </a:lnTo>
                  <a:lnTo>
                    <a:pt x="13" y="2704"/>
                  </a:lnTo>
                  <a:lnTo>
                    <a:pt x="17" y="2705"/>
                  </a:lnTo>
                  <a:lnTo>
                    <a:pt x="20" y="2705"/>
                  </a:lnTo>
                  <a:lnTo>
                    <a:pt x="25" y="2705"/>
                  </a:lnTo>
                  <a:lnTo>
                    <a:pt x="28" y="2704"/>
                  </a:lnTo>
                  <a:lnTo>
                    <a:pt x="31" y="2702"/>
                  </a:lnTo>
                  <a:lnTo>
                    <a:pt x="34" y="2700"/>
                  </a:lnTo>
                  <a:lnTo>
                    <a:pt x="36" y="2698"/>
                  </a:lnTo>
                  <a:lnTo>
                    <a:pt x="39" y="2693"/>
                  </a:lnTo>
                  <a:lnTo>
                    <a:pt x="40" y="2690"/>
                  </a:lnTo>
                  <a:lnTo>
                    <a:pt x="41" y="2685"/>
                  </a:lnTo>
                  <a:lnTo>
                    <a:pt x="20" y="27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513240" y="5257800"/>
              <a:ext cx="54000" cy="16200"/>
            </a:xfrm>
            <a:custGeom>
              <a:avLst/>
              <a:gdLst/>
              <a:ahLst/>
              <a:rect l="l" t="t" r="r" b="b"/>
              <a:pathLst>
                <a:path w="136" h="41">
                  <a:moveTo>
                    <a:pt x="0" y="21"/>
                  </a:moveTo>
                  <a:lnTo>
                    <a:pt x="21" y="41"/>
                  </a:lnTo>
                  <a:lnTo>
                    <a:pt x="136" y="41"/>
                  </a:lnTo>
                  <a:lnTo>
                    <a:pt x="136" y="0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6" y="41"/>
                  </a:lnTo>
                  <a:lnTo>
                    <a:pt x="21" y="4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3270240" y="3884760"/>
              <a:ext cx="706320" cy="750960"/>
            </a:xfrm>
            <a:custGeom>
              <a:avLst/>
              <a:gdLst/>
              <a:ahLst/>
              <a:rect l="l" t="t" r="r" b="b"/>
              <a:pathLst>
                <a:path w="1781" h="1893">
                  <a:moveTo>
                    <a:pt x="796" y="1893"/>
                  </a:moveTo>
                  <a:lnTo>
                    <a:pt x="0" y="1473"/>
                  </a:lnTo>
                  <a:lnTo>
                    <a:pt x="1289" y="0"/>
                  </a:lnTo>
                  <a:lnTo>
                    <a:pt x="1781" y="235"/>
                  </a:lnTo>
                  <a:lnTo>
                    <a:pt x="796" y="1893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262320" y="4461120"/>
              <a:ext cx="326880" cy="182520"/>
            </a:xfrm>
            <a:custGeom>
              <a:avLst/>
              <a:gdLst/>
              <a:ahLst/>
              <a:rect l="l" t="t" r="r" b="b"/>
              <a:pathLst>
                <a:path w="825" h="458">
                  <a:moveTo>
                    <a:pt x="6" y="6"/>
                  </a:moveTo>
                  <a:lnTo>
                    <a:pt x="11" y="37"/>
                  </a:lnTo>
                  <a:lnTo>
                    <a:pt x="807" y="458"/>
                  </a:lnTo>
                  <a:lnTo>
                    <a:pt x="825" y="422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263760" y="3876840"/>
              <a:ext cx="525600" cy="598320"/>
            </a:xfrm>
            <a:custGeom>
              <a:avLst/>
              <a:gdLst/>
              <a:ahLst/>
              <a:rect l="l" t="t" r="r" b="b"/>
              <a:pathLst>
                <a:path w="1324" h="1507">
                  <a:moveTo>
                    <a:pt x="1313" y="3"/>
                  </a:moveTo>
                  <a:lnTo>
                    <a:pt x="1288" y="8"/>
                  </a:lnTo>
                  <a:lnTo>
                    <a:pt x="0" y="1480"/>
                  </a:lnTo>
                  <a:lnTo>
                    <a:pt x="30" y="1507"/>
                  </a:lnTo>
                  <a:lnTo>
                    <a:pt x="1319" y="34"/>
                  </a:lnTo>
                  <a:lnTo>
                    <a:pt x="1313" y="3"/>
                  </a:lnTo>
                  <a:lnTo>
                    <a:pt x="1319" y="34"/>
                  </a:lnTo>
                  <a:lnTo>
                    <a:pt x="1322" y="31"/>
                  </a:lnTo>
                  <a:lnTo>
                    <a:pt x="1324" y="26"/>
                  </a:lnTo>
                  <a:lnTo>
                    <a:pt x="1324" y="22"/>
                  </a:lnTo>
                  <a:lnTo>
                    <a:pt x="1324" y="19"/>
                  </a:lnTo>
                  <a:lnTo>
                    <a:pt x="1324" y="16"/>
                  </a:lnTo>
                  <a:lnTo>
                    <a:pt x="1322" y="11"/>
                  </a:lnTo>
                  <a:lnTo>
                    <a:pt x="1319" y="8"/>
                  </a:lnTo>
                  <a:lnTo>
                    <a:pt x="1317" y="6"/>
                  </a:lnTo>
                  <a:lnTo>
                    <a:pt x="1314" y="4"/>
                  </a:lnTo>
                  <a:lnTo>
                    <a:pt x="1311" y="2"/>
                  </a:lnTo>
                  <a:lnTo>
                    <a:pt x="1308" y="0"/>
                  </a:lnTo>
                  <a:lnTo>
                    <a:pt x="1303" y="0"/>
                  </a:lnTo>
                  <a:lnTo>
                    <a:pt x="1300" y="0"/>
                  </a:lnTo>
                  <a:lnTo>
                    <a:pt x="1296" y="3"/>
                  </a:lnTo>
                  <a:lnTo>
                    <a:pt x="1292" y="5"/>
                  </a:lnTo>
                  <a:lnTo>
                    <a:pt x="1288" y="8"/>
                  </a:lnTo>
                  <a:lnTo>
                    <a:pt x="13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778200" y="3876840"/>
              <a:ext cx="206280" cy="109440"/>
            </a:xfrm>
            <a:custGeom>
              <a:avLst/>
              <a:gdLst/>
              <a:ahLst/>
              <a:rect l="l" t="t" r="r" b="b"/>
              <a:pathLst>
                <a:path w="520" h="274">
                  <a:moveTo>
                    <a:pt x="518" y="263"/>
                  </a:moveTo>
                  <a:lnTo>
                    <a:pt x="509" y="23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492" y="272"/>
                  </a:lnTo>
                  <a:lnTo>
                    <a:pt x="518" y="263"/>
                  </a:lnTo>
                  <a:lnTo>
                    <a:pt x="492" y="272"/>
                  </a:lnTo>
                  <a:lnTo>
                    <a:pt x="496" y="273"/>
                  </a:lnTo>
                  <a:lnTo>
                    <a:pt x="501" y="274"/>
                  </a:lnTo>
                  <a:lnTo>
                    <a:pt x="504" y="273"/>
                  </a:lnTo>
                  <a:lnTo>
                    <a:pt x="508" y="272"/>
                  </a:lnTo>
                  <a:lnTo>
                    <a:pt x="511" y="271"/>
                  </a:lnTo>
                  <a:lnTo>
                    <a:pt x="514" y="267"/>
                  </a:lnTo>
                  <a:lnTo>
                    <a:pt x="517" y="265"/>
                  </a:lnTo>
                  <a:lnTo>
                    <a:pt x="518" y="262"/>
                  </a:lnTo>
                  <a:lnTo>
                    <a:pt x="520" y="259"/>
                  </a:lnTo>
                  <a:lnTo>
                    <a:pt x="520" y="255"/>
                  </a:lnTo>
                  <a:lnTo>
                    <a:pt x="520" y="251"/>
                  </a:lnTo>
                  <a:lnTo>
                    <a:pt x="520" y="247"/>
                  </a:lnTo>
                  <a:lnTo>
                    <a:pt x="518" y="244"/>
                  </a:lnTo>
                  <a:lnTo>
                    <a:pt x="516" y="240"/>
                  </a:lnTo>
                  <a:lnTo>
                    <a:pt x="512" y="237"/>
                  </a:lnTo>
                  <a:lnTo>
                    <a:pt x="509" y="235"/>
                  </a:lnTo>
                  <a:lnTo>
                    <a:pt x="518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578400" y="3973680"/>
              <a:ext cx="404640" cy="669960"/>
            </a:xfrm>
            <a:custGeom>
              <a:avLst/>
              <a:gdLst/>
              <a:ahLst/>
              <a:rect l="l" t="t" r="r" b="b"/>
              <a:pathLst>
                <a:path w="1023" h="1689">
                  <a:moveTo>
                    <a:pt x="11" y="1686"/>
                  </a:moveTo>
                  <a:lnTo>
                    <a:pt x="38" y="1678"/>
                  </a:lnTo>
                  <a:lnTo>
                    <a:pt x="1023" y="20"/>
                  </a:lnTo>
                  <a:lnTo>
                    <a:pt x="988" y="0"/>
                  </a:lnTo>
                  <a:lnTo>
                    <a:pt x="4" y="1657"/>
                  </a:lnTo>
                  <a:lnTo>
                    <a:pt x="11" y="1686"/>
                  </a:lnTo>
                  <a:lnTo>
                    <a:pt x="4" y="1657"/>
                  </a:lnTo>
                  <a:lnTo>
                    <a:pt x="1" y="1662"/>
                  </a:lnTo>
                  <a:lnTo>
                    <a:pt x="0" y="1666"/>
                  </a:lnTo>
                  <a:lnTo>
                    <a:pt x="0" y="1670"/>
                  </a:lnTo>
                  <a:lnTo>
                    <a:pt x="0" y="1674"/>
                  </a:lnTo>
                  <a:lnTo>
                    <a:pt x="2" y="1677"/>
                  </a:lnTo>
                  <a:lnTo>
                    <a:pt x="5" y="1680"/>
                  </a:lnTo>
                  <a:lnTo>
                    <a:pt x="7" y="1683"/>
                  </a:lnTo>
                  <a:lnTo>
                    <a:pt x="10" y="1686"/>
                  </a:lnTo>
                  <a:lnTo>
                    <a:pt x="13" y="1687"/>
                  </a:lnTo>
                  <a:lnTo>
                    <a:pt x="18" y="1688"/>
                  </a:lnTo>
                  <a:lnTo>
                    <a:pt x="21" y="1689"/>
                  </a:lnTo>
                  <a:lnTo>
                    <a:pt x="25" y="1688"/>
                  </a:lnTo>
                  <a:lnTo>
                    <a:pt x="28" y="1687"/>
                  </a:lnTo>
                  <a:lnTo>
                    <a:pt x="32" y="1684"/>
                  </a:lnTo>
                  <a:lnTo>
                    <a:pt x="35" y="1682"/>
                  </a:lnTo>
                  <a:lnTo>
                    <a:pt x="38" y="1678"/>
                  </a:lnTo>
                  <a:lnTo>
                    <a:pt x="11" y="168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260880" y="4472280"/>
              <a:ext cx="2985840" cy="433080"/>
            </a:xfrm>
            <a:custGeom>
              <a:avLst/>
              <a:gdLst/>
              <a:ahLst/>
              <a:rect l="l" t="t" r="r" b="b"/>
              <a:pathLst>
                <a:path w="7524" h="1089">
                  <a:moveTo>
                    <a:pt x="42" y="0"/>
                  </a:moveTo>
                  <a:lnTo>
                    <a:pt x="393" y="186"/>
                  </a:lnTo>
                  <a:lnTo>
                    <a:pt x="0" y="134"/>
                  </a:lnTo>
                  <a:lnTo>
                    <a:pt x="42" y="0"/>
                  </a:lnTo>
                  <a:close/>
                  <a:moveTo>
                    <a:pt x="914" y="255"/>
                  </a:moveTo>
                  <a:lnTo>
                    <a:pt x="995" y="117"/>
                  </a:lnTo>
                  <a:lnTo>
                    <a:pt x="7524" y="974"/>
                  </a:lnTo>
                  <a:lnTo>
                    <a:pt x="7489" y="1089"/>
                  </a:lnTo>
                  <a:lnTo>
                    <a:pt x="914" y="255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1" name=""/>
            <p:cNvSpPr/>
            <p:nvPr/>
          </p:nvSpPr>
          <p:spPr>
            <a:xfrm>
              <a:off x="3273480" y="4465800"/>
              <a:ext cx="150840" cy="88920"/>
            </a:xfrm>
            <a:custGeom>
              <a:avLst/>
              <a:gdLst/>
              <a:ahLst/>
              <a:rect l="l" t="t" r="r" b="b"/>
              <a:pathLst>
                <a:path w="380" h="224">
                  <a:moveTo>
                    <a:pt x="357" y="223"/>
                  </a:moveTo>
                  <a:lnTo>
                    <a:pt x="369" y="185"/>
                  </a:lnTo>
                  <a:lnTo>
                    <a:pt x="18" y="0"/>
                  </a:lnTo>
                  <a:lnTo>
                    <a:pt x="0" y="36"/>
                  </a:lnTo>
                  <a:lnTo>
                    <a:pt x="351" y="221"/>
                  </a:lnTo>
                  <a:lnTo>
                    <a:pt x="357" y="223"/>
                  </a:lnTo>
                  <a:lnTo>
                    <a:pt x="351" y="221"/>
                  </a:lnTo>
                  <a:lnTo>
                    <a:pt x="355" y="223"/>
                  </a:lnTo>
                  <a:lnTo>
                    <a:pt x="359" y="224"/>
                  </a:lnTo>
                  <a:lnTo>
                    <a:pt x="363" y="224"/>
                  </a:lnTo>
                  <a:lnTo>
                    <a:pt x="367" y="223"/>
                  </a:lnTo>
                  <a:lnTo>
                    <a:pt x="370" y="221"/>
                  </a:lnTo>
                  <a:lnTo>
                    <a:pt x="373" y="219"/>
                  </a:lnTo>
                  <a:lnTo>
                    <a:pt x="375" y="215"/>
                  </a:lnTo>
                  <a:lnTo>
                    <a:pt x="378" y="212"/>
                  </a:lnTo>
                  <a:lnTo>
                    <a:pt x="379" y="209"/>
                  </a:lnTo>
                  <a:lnTo>
                    <a:pt x="380" y="206"/>
                  </a:lnTo>
                  <a:lnTo>
                    <a:pt x="380" y="201"/>
                  </a:lnTo>
                  <a:lnTo>
                    <a:pt x="380" y="198"/>
                  </a:lnTo>
                  <a:lnTo>
                    <a:pt x="378" y="195"/>
                  </a:lnTo>
                  <a:lnTo>
                    <a:pt x="375" y="191"/>
                  </a:lnTo>
                  <a:lnTo>
                    <a:pt x="373" y="188"/>
                  </a:lnTo>
                  <a:lnTo>
                    <a:pt x="369" y="185"/>
                  </a:lnTo>
                  <a:lnTo>
                    <a:pt x="357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252960" y="4518000"/>
              <a:ext cx="164880" cy="36720"/>
            </a:xfrm>
            <a:custGeom>
              <a:avLst/>
              <a:gdLst/>
              <a:ahLst/>
              <a:rect l="l" t="t" r="r" b="b"/>
              <a:pathLst>
                <a:path w="417" h="92">
                  <a:moveTo>
                    <a:pt x="1" y="14"/>
                  </a:moveTo>
                  <a:lnTo>
                    <a:pt x="18" y="40"/>
                  </a:lnTo>
                  <a:lnTo>
                    <a:pt x="411" y="92"/>
                  </a:lnTo>
                  <a:lnTo>
                    <a:pt x="417" y="52"/>
                  </a:lnTo>
                  <a:lnTo>
                    <a:pt x="23" y="0"/>
                  </a:lnTo>
                  <a:lnTo>
                    <a:pt x="1" y="14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8" y="40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3252960" y="4465800"/>
              <a:ext cx="31680" cy="61920"/>
            </a:xfrm>
            <a:custGeom>
              <a:avLst/>
              <a:gdLst/>
              <a:ahLst/>
              <a:rect l="l" t="t" r="r" b="b"/>
              <a:pathLst>
                <a:path w="82" h="159">
                  <a:moveTo>
                    <a:pt x="71" y="2"/>
                  </a:moveTo>
                  <a:lnTo>
                    <a:pt x="43" y="14"/>
                  </a:lnTo>
                  <a:lnTo>
                    <a:pt x="0" y="147"/>
                  </a:lnTo>
                  <a:lnTo>
                    <a:pt x="39" y="159"/>
                  </a:lnTo>
                  <a:lnTo>
                    <a:pt x="81" y="26"/>
                  </a:lnTo>
                  <a:lnTo>
                    <a:pt x="71" y="2"/>
                  </a:lnTo>
                  <a:lnTo>
                    <a:pt x="81" y="26"/>
                  </a:lnTo>
                  <a:lnTo>
                    <a:pt x="82" y="22"/>
                  </a:lnTo>
                  <a:lnTo>
                    <a:pt x="82" y="18"/>
                  </a:lnTo>
                  <a:lnTo>
                    <a:pt x="81" y="13"/>
                  </a:lnTo>
                  <a:lnTo>
                    <a:pt x="80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1" y="2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4"/>
                  </a:lnTo>
                  <a:lnTo>
                    <a:pt x="47" y="7"/>
                  </a:lnTo>
                  <a:lnTo>
                    <a:pt x="44" y="10"/>
                  </a:lnTo>
                  <a:lnTo>
                    <a:pt x="43" y="14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3616200" y="4511880"/>
              <a:ext cx="47880" cy="66600"/>
            </a:xfrm>
            <a:custGeom>
              <a:avLst/>
              <a:gdLst/>
              <a:ahLst/>
              <a:rect l="l" t="t" r="r" b="b"/>
              <a:pathLst>
                <a:path w="119" h="168">
                  <a:moveTo>
                    <a:pt x="101" y="1"/>
                  </a:moveTo>
                  <a:lnTo>
                    <a:pt x="81" y="11"/>
                  </a:lnTo>
                  <a:lnTo>
                    <a:pt x="0" y="148"/>
                  </a:lnTo>
                  <a:lnTo>
                    <a:pt x="35" y="168"/>
                  </a:lnTo>
                  <a:lnTo>
                    <a:pt x="116" y="31"/>
                  </a:lnTo>
                  <a:lnTo>
                    <a:pt x="101" y="1"/>
                  </a:lnTo>
                  <a:lnTo>
                    <a:pt x="116" y="31"/>
                  </a:lnTo>
                  <a:lnTo>
                    <a:pt x="118" y="27"/>
                  </a:lnTo>
                  <a:lnTo>
                    <a:pt x="119" y="23"/>
                  </a:lnTo>
                  <a:lnTo>
                    <a:pt x="119" y="18"/>
                  </a:lnTo>
                  <a:lnTo>
                    <a:pt x="118" y="15"/>
                  </a:lnTo>
                  <a:lnTo>
                    <a:pt x="117" y="12"/>
                  </a:lnTo>
                  <a:lnTo>
                    <a:pt x="115" y="9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91" y="2"/>
                  </a:lnTo>
                  <a:lnTo>
                    <a:pt x="88" y="4"/>
                  </a:lnTo>
                  <a:lnTo>
                    <a:pt x="85" y="6"/>
                  </a:lnTo>
                  <a:lnTo>
                    <a:pt x="81" y="11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3654360" y="4511880"/>
              <a:ext cx="2600280" cy="355680"/>
            </a:xfrm>
            <a:custGeom>
              <a:avLst/>
              <a:gdLst/>
              <a:ahLst/>
              <a:rect l="l" t="t" r="r" b="b"/>
              <a:pathLst>
                <a:path w="6551" h="895">
                  <a:moveTo>
                    <a:pt x="6551" y="881"/>
                  </a:moveTo>
                  <a:lnTo>
                    <a:pt x="6534" y="85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6528" y="895"/>
                  </a:lnTo>
                  <a:lnTo>
                    <a:pt x="6551" y="881"/>
                  </a:lnTo>
                  <a:lnTo>
                    <a:pt x="6528" y="895"/>
                  </a:lnTo>
                  <a:lnTo>
                    <a:pt x="6534" y="895"/>
                  </a:lnTo>
                  <a:lnTo>
                    <a:pt x="6537" y="895"/>
                  </a:lnTo>
                  <a:lnTo>
                    <a:pt x="6541" y="893"/>
                  </a:lnTo>
                  <a:lnTo>
                    <a:pt x="6544" y="891"/>
                  </a:lnTo>
                  <a:lnTo>
                    <a:pt x="6547" y="889"/>
                  </a:lnTo>
                  <a:lnTo>
                    <a:pt x="6549" y="886"/>
                  </a:lnTo>
                  <a:lnTo>
                    <a:pt x="6550" y="882"/>
                  </a:lnTo>
                  <a:lnTo>
                    <a:pt x="6551" y="878"/>
                  </a:lnTo>
                  <a:lnTo>
                    <a:pt x="6551" y="875"/>
                  </a:lnTo>
                  <a:lnTo>
                    <a:pt x="6551" y="871"/>
                  </a:lnTo>
                  <a:lnTo>
                    <a:pt x="6550" y="867"/>
                  </a:lnTo>
                  <a:lnTo>
                    <a:pt x="6548" y="864"/>
                  </a:lnTo>
                  <a:lnTo>
                    <a:pt x="6545" y="861"/>
                  </a:lnTo>
                  <a:lnTo>
                    <a:pt x="6542" y="859"/>
                  </a:lnTo>
                  <a:lnTo>
                    <a:pt x="6538" y="856"/>
                  </a:lnTo>
                  <a:lnTo>
                    <a:pt x="6534" y="855"/>
                  </a:lnTo>
                  <a:lnTo>
                    <a:pt x="6551" y="8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6224760" y="4856400"/>
              <a:ext cx="29880" cy="57240"/>
            </a:xfrm>
            <a:custGeom>
              <a:avLst/>
              <a:gdLst/>
              <a:ahLst/>
              <a:rect l="l" t="t" r="r" b="b"/>
              <a:pathLst>
                <a:path w="75" h="143">
                  <a:moveTo>
                    <a:pt x="18" y="142"/>
                  </a:moveTo>
                  <a:lnTo>
                    <a:pt x="39" y="128"/>
                  </a:lnTo>
                  <a:lnTo>
                    <a:pt x="75" y="12"/>
                  </a:lnTo>
                  <a:lnTo>
                    <a:pt x="36" y="0"/>
                  </a:lnTo>
                  <a:lnTo>
                    <a:pt x="1" y="116"/>
                  </a:lnTo>
                  <a:lnTo>
                    <a:pt x="18" y="142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29"/>
                  </a:lnTo>
                  <a:lnTo>
                    <a:pt x="2" y="133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1" y="140"/>
                  </a:lnTo>
                  <a:lnTo>
                    <a:pt x="14" y="142"/>
                  </a:lnTo>
                  <a:lnTo>
                    <a:pt x="19" y="142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8" y="132"/>
                  </a:lnTo>
                  <a:lnTo>
                    <a:pt x="39" y="128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3614760" y="4565880"/>
              <a:ext cx="2619360" cy="347760"/>
            </a:xfrm>
            <a:custGeom>
              <a:avLst/>
              <a:gdLst/>
              <a:ahLst/>
              <a:rect l="l" t="t" r="r" b="b"/>
              <a:pathLst>
                <a:path w="6599" h="875">
                  <a:moveTo>
                    <a:pt x="3" y="11"/>
                  </a:moveTo>
                  <a:lnTo>
                    <a:pt x="19" y="41"/>
                  </a:lnTo>
                  <a:lnTo>
                    <a:pt x="6594" y="875"/>
                  </a:lnTo>
                  <a:lnTo>
                    <a:pt x="6599" y="835"/>
                  </a:lnTo>
                  <a:lnTo>
                    <a:pt x="23" y="1"/>
                  </a:lnTo>
                  <a:lnTo>
                    <a:pt x="3" y="1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5" y="33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9" y="4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5962680" y="4381560"/>
              <a:ext cx="325440" cy="171360"/>
            </a:xfrm>
            <a:custGeom>
              <a:avLst/>
              <a:gdLst/>
              <a:ahLst/>
              <a:rect l="l" t="t" r="r" b="b"/>
              <a:pathLst>
                <a:path w="822" h="432">
                  <a:moveTo>
                    <a:pt x="24" y="432"/>
                  </a:moveTo>
                  <a:lnTo>
                    <a:pt x="822" y="408"/>
                  </a:lnTo>
                  <a:lnTo>
                    <a:pt x="705" y="58"/>
                  </a:lnTo>
                  <a:lnTo>
                    <a:pt x="0" y="0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5972040" y="4535640"/>
              <a:ext cx="324000" cy="25560"/>
            </a:xfrm>
            <a:custGeom>
              <a:avLst/>
              <a:gdLst/>
              <a:ahLst/>
              <a:rect l="l" t="t" r="r" b="b"/>
              <a:pathLst>
                <a:path w="819" h="63">
                  <a:moveTo>
                    <a:pt x="818" y="13"/>
                  </a:moveTo>
                  <a:lnTo>
                    <a:pt x="798" y="0"/>
                  </a:lnTo>
                  <a:lnTo>
                    <a:pt x="0" y="22"/>
                  </a:lnTo>
                  <a:lnTo>
                    <a:pt x="1" y="63"/>
                  </a:lnTo>
                  <a:lnTo>
                    <a:pt x="799" y="40"/>
                  </a:lnTo>
                  <a:lnTo>
                    <a:pt x="818" y="13"/>
                  </a:lnTo>
                  <a:lnTo>
                    <a:pt x="799" y="40"/>
                  </a:lnTo>
                  <a:lnTo>
                    <a:pt x="805" y="40"/>
                  </a:lnTo>
                  <a:lnTo>
                    <a:pt x="808" y="37"/>
                  </a:lnTo>
                  <a:lnTo>
                    <a:pt x="812" y="35"/>
                  </a:lnTo>
                  <a:lnTo>
                    <a:pt x="814" y="33"/>
                  </a:lnTo>
                  <a:lnTo>
                    <a:pt x="816" y="30"/>
                  </a:lnTo>
                  <a:lnTo>
                    <a:pt x="818" y="27"/>
                  </a:lnTo>
                  <a:lnTo>
                    <a:pt x="819" y="22"/>
                  </a:lnTo>
                  <a:lnTo>
                    <a:pt x="819" y="19"/>
                  </a:lnTo>
                  <a:lnTo>
                    <a:pt x="819" y="15"/>
                  </a:lnTo>
                  <a:lnTo>
                    <a:pt x="818" y="11"/>
                  </a:lnTo>
                  <a:lnTo>
                    <a:pt x="815" y="8"/>
                  </a:lnTo>
                  <a:lnTo>
                    <a:pt x="813" y="5"/>
                  </a:lnTo>
                  <a:lnTo>
                    <a:pt x="811" y="3"/>
                  </a:lnTo>
                  <a:lnTo>
                    <a:pt x="807" y="1"/>
                  </a:lnTo>
                  <a:lnTo>
                    <a:pt x="804" y="0"/>
                  </a:lnTo>
                  <a:lnTo>
                    <a:pt x="798" y="0"/>
                  </a:lnTo>
                  <a:lnTo>
                    <a:pt x="81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234120" y="4397400"/>
              <a:ext cx="61920" cy="149400"/>
            </a:xfrm>
            <a:custGeom>
              <a:avLst/>
              <a:gdLst/>
              <a:ahLst/>
              <a:rect l="l" t="t" r="r" b="b"/>
              <a:pathLst>
                <a:path w="157" h="377">
                  <a:moveTo>
                    <a:pt x="22" y="0"/>
                  </a:moveTo>
                  <a:lnTo>
                    <a:pt x="1" y="27"/>
                  </a:lnTo>
                  <a:lnTo>
                    <a:pt x="119" y="377"/>
                  </a:lnTo>
                  <a:lnTo>
                    <a:pt x="157" y="364"/>
                  </a:lnTo>
                  <a:lnTo>
                    <a:pt x="40" y="14"/>
                  </a:lnTo>
                  <a:lnTo>
                    <a:pt x="22" y="0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954760" y="4373640"/>
              <a:ext cx="287280" cy="39600"/>
            </a:xfrm>
            <a:custGeom>
              <a:avLst/>
              <a:gdLst/>
              <a:ahLst/>
              <a:rect l="l" t="t" r="r" b="b"/>
              <a:pathLst>
                <a:path w="725" h="99">
                  <a:moveTo>
                    <a:pt x="0" y="22"/>
                  </a:moveTo>
                  <a:lnTo>
                    <a:pt x="18" y="41"/>
                  </a:lnTo>
                  <a:lnTo>
                    <a:pt x="721" y="99"/>
                  </a:lnTo>
                  <a:lnTo>
                    <a:pt x="725" y="59"/>
                  </a:lnTo>
                  <a:lnTo>
                    <a:pt x="22" y="0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5954760" y="4381560"/>
              <a:ext cx="25200" cy="179640"/>
            </a:xfrm>
            <a:custGeom>
              <a:avLst/>
              <a:gdLst/>
              <a:ahLst/>
              <a:rect l="l" t="t" r="r" b="b"/>
              <a:pathLst>
                <a:path w="64" h="453">
                  <a:moveTo>
                    <a:pt x="43" y="453"/>
                  </a:moveTo>
                  <a:lnTo>
                    <a:pt x="64" y="43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3" y="434"/>
                  </a:lnTo>
                  <a:lnTo>
                    <a:pt x="43" y="453"/>
                  </a:lnTo>
                  <a:lnTo>
                    <a:pt x="23" y="434"/>
                  </a:lnTo>
                  <a:lnTo>
                    <a:pt x="24" y="438"/>
                  </a:lnTo>
                  <a:lnTo>
                    <a:pt x="25" y="443"/>
                  </a:lnTo>
                  <a:lnTo>
                    <a:pt x="27" y="446"/>
                  </a:lnTo>
                  <a:lnTo>
                    <a:pt x="30" y="448"/>
                  </a:lnTo>
                  <a:lnTo>
                    <a:pt x="34" y="450"/>
                  </a:lnTo>
                  <a:lnTo>
                    <a:pt x="37" y="452"/>
                  </a:lnTo>
                  <a:lnTo>
                    <a:pt x="40" y="452"/>
                  </a:lnTo>
                  <a:lnTo>
                    <a:pt x="44" y="453"/>
                  </a:lnTo>
                  <a:lnTo>
                    <a:pt x="48" y="452"/>
                  </a:lnTo>
                  <a:lnTo>
                    <a:pt x="52" y="451"/>
                  </a:lnTo>
                  <a:lnTo>
                    <a:pt x="55" y="449"/>
                  </a:lnTo>
                  <a:lnTo>
                    <a:pt x="57" y="447"/>
                  </a:lnTo>
                  <a:lnTo>
                    <a:pt x="61" y="444"/>
                  </a:lnTo>
                  <a:lnTo>
                    <a:pt x="62" y="440"/>
                  </a:lnTo>
                  <a:lnTo>
                    <a:pt x="63" y="436"/>
                  </a:lnTo>
                  <a:lnTo>
                    <a:pt x="64" y="432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5934240" y="4434120"/>
              <a:ext cx="325440" cy="169920"/>
            </a:xfrm>
            <a:custGeom>
              <a:avLst/>
              <a:gdLst/>
              <a:ahLst/>
              <a:rect l="l" t="t" r="r" b="b"/>
              <a:pathLst>
                <a:path w="822" h="431">
                  <a:moveTo>
                    <a:pt x="24" y="431"/>
                  </a:moveTo>
                  <a:lnTo>
                    <a:pt x="822" y="409"/>
                  </a:lnTo>
                  <a:lnTo>
                    <a:pt x="751" y="58"/>
                  </a:lnTo>
                  <a:lnTo>
                    <a:pt x="0" y="0"/>
                  </a:lnTo>
                  <a:lnTo>
                    <a:pt x="24" y="431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5943600" y="4588200"/>
              <a:ext cx="324000" cy="23760"/>
            </a:xfrm>
            <a:custGeom>
              <a:avLst/>
              <a:gdLst/>
              <a:ahLst/>
              <a:rect l="l" t="t" r="r" b="b"/>
              <a:pathLst>
                <a:path w="818" h="64">
                  <a:moveTo>
                    <a:pt x="818" y="16"/>
                  </a:moveTo>
                  <a:lnTo>
                    <a:pt x="798" y="0"/>
                  </a:lnTo>
                  <a:lnTo>
                    <a:pt x="0" y="24"/>
                  </a:lnTo>
                  <a:lnTo>
                    <a:pt x="1" y="64"/>
                  </a:lnTo>
                  <a:lnTo>
                    <a:pt x="799" y="41"/>
                  </a:lnTo>
                  <a:lnTo>
                    <a:pt x="818" y="16"/>
                  </a:lnTo>
                  <a:lnTo>
                    <a:pt x="799" y="41"/>
                  </a:lnTo>
                  <a:lnTo>
                    <a:pt x="804" y="40"/>
                  </a:lnTo>
                  <a:lnTo>
                    <a:pt x="808" y="39"/>
                  </a:lnTo>
                  <a:lnTo>
                    <a:pt x="811" y="37"/>
                  </a:lnTo>
                  <a:lnTo>
                    <a:pt x="814" y="34"/>
                  </a:lnTo>
                  <a:lnTo>
                    <a:pt x="816" y="31"/>
                  </a:lnTo>
                  <a:lnTo>
                    <a:pt x="817" y="27"/>
                  </a:lnTo>
                  <a:lnTo>
                    <a:pt x="818" y="24"/>
                  </a:lnTo>
                  <a:lnTo>
                    <a:pt x="818" y="20"/>
                  </a:lnTo>
                  <a:lnTo>
                    <a:pt x="818" y="16"/>
                  </a:lnTo>
                  <a:lnTo>
                    <a:pt x="817" y="13"/>
                  </a:lnTo>
                  <a:lnTo>
                    <a:pt x="815" y="10"/>
                  </a:lnTo>
                  <a:lnTo>
                    <a:pt x="813" y="7"/>
                  </a:lnTo>
                  <a:lnTo>
                    <a:pt x="811" y="3"/>
                  </a:lnTo>
                  <a:lnTo>
                    <a:pt x="807" y="2"/>
                  </a:lnTo>
                  <a:lnTo>
                    <a:pt x="803" y="1"/>
                  </a:lnTo>
                  <a:lnTo>
                    <a:pt x="798" y="0"/>
                  </a:lnTo>
                  <a:lnTo>
                    <a:pt x="818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6224760" y="4448160"/>
              <a:ext cx="42840" cy="149400"/>
            </a:xfrm>
            <a:custGeom>
              <a:avLst/>
              <a:gdLst/>
              <a:ahLst/>
              <a:rect l="l" t="t" r="r" b="b"/>
              <a:pathLst>
                <a:path w="111" h="376">
                  <a:moveTo>
                    <a:pt x="22" y="1"/>
                  </a:moveTo>
                  <a:lnTo>
                    <a:pt x="0" y="25"/>
                  </a:lnTo>
                  <a:lnTo>
                    <a:pt x="71" y="376"/>
                  </a:lnTo>
                  <a:lnTo>
                    <a:pt x="111" y="367"/>
                  </a:lnTo>
                  <a:lnTo>
                    <a:pt x="40" y="16"/>
                  </a:lnTo>
                  <a:lnTo>
                    <a:pt x="22" y="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5925960" y="4424400"/>
              <a:ext cx="306720" cy="39960"/>
            </a:xfrm>
            <a:custGeom>
              <a:avLst/>
              <a:gdLst/>
              <a:ahLst/>
              <a:rect l="l" t="t" r="r" b="b"/>
              <a:pathLst>
                <a:path w="771" h="98">
                  <a:moveTo>
                    <a:pt x="0" y="21"/>
                  </a:moveTo>
                  <a:lnTo>
                    <a:pt x="18" y="40"/>
                  </a:lnTo>
                  <a:lnTo>
                    <a:pt x="768" y="98"/>
                  </a:lnTo>
                  <a:lnTo>
                    <a:pt x="771" y="58"/>
                  </a:lnTo>
                  <a:lnTo>
                    <a:pt x="21" y="0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9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5925960" y="4432320"/>
              <a:ext cx="25560" cy="179640"/>
            </a:xfrm>
            <a:custGeom>
              <a:avLst/>
              <a:gdLst/>
              <a:ahLst/>
              <a:rect l="l" t="t" r="r" b="b"/>
              <a:pathLst>
                <a:path w="63" h="453">
                  <a:moveTo>
                    <a:pt x="43" y="453"/>
                  </a:moveTo>
                  <a:lnTo>
                    <a:pt x="63" y="431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2" y="433"/>
                  </a:lnTo>
                  <a:lnTo>
                    <a:pt x="43" y="453"/>
                  </a:lnTo>
                  <a:lnTo>
                    <a:pt x="22" y="433"/>
                  </a:lnTo>
                  <a:lnTo>
                    <a:pt x="24" y="439"/>
                  </a:lnTo>
                  <a:lnTo>
                    <a:pt x="25" y="442"/>
                  </a:lnTo>
                  <a:lnTo>
                    <a:pt x="27" y="446"/>
                  </a:lnTo>
                  <a:lnTo>
                    <a:pt x="30" y="449"/>
                  </a:lnTo>
                  <a:lnTo>
                    <a:pt x="33" y="451"/>
                  </a:lnTo>
                  <a:lnTo>
                    <a:pt x="36" y="452"/>
                  </a:lnTo>
                  <a:lnTo>
                    <a:pt x="40" y="453"/>
                  </a:lnTo>
                  <a:lnTo>
                    <a:pt x="44" y="453"/>
                  </a:lnTo>
                  <a:lnTo>
                    <a:pt x="47" y="453"/>
                  </a:lnTo>
                  <a:lnTo>
                    <a:pt x="52" y="452"/>
                  </a:lnTo>
                  <a:lnTo>
                    <a:pt x="55" y="450"/>
                  </a:lnTo>
                  <a:lnTo>
                    <a:pt x="57" y="447"/>
                  </a:lnTo>
                  <a:lnTo>
                    <a:pt x="60" y="444"/>
                  </a:lnTo>
                  <a:lnTo>
                    <a:pt x="61" y="441"/>
                  </a:lnTo>
                  <a:lnTo>
                    <a:pt x="62" y="437"/>
                  </a:lnTo>
                  <a:lnTo>
                    <a:pt x="63" y="431"/>
                  </a:lnTo>
                  <a:lnTo>
                    <a:pt x="43" y="4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6226200" y="4219560"/>
              <a:ext cx="428760" cy="389160"/>
            </a:xfrm>
            <a:custGeom>
              <a:avLst/>
              <a:gdLst/>
              <a:ahLst/>
              <a:rect l="l" t="t" r="r" b="b"/>
              <a:pathLst>
                <a:path w="1081" h="978">
                  <a:moveTo>
                    <a:pt x="66" y="955"/>
                  </a:moveTo>
                  <a:lnTo>
                    <a:pt x="437" y="978"/>
                  </a:lnTo>
                  <a:lnTo>
                    <a:pt x="1081" y="186"/>
                  </a:lnTo>
                  <a:lnTo>
                    <a:pt x="964" y="0"/>
                  </a:lnTo>
                  <a:lnTo>
                    <a:pt x="0" y="609"/>
                  </a:lnTo>
                  <a:lnTo>
                    <a:pt x="66" y="95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6251400" y="4591080"/>
              <a:ext cx="157320" cy="25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89" y="56"/>
                  </a:moveTo>
                  <a:lnTo>
                    <a:pt x="374" y="24"/>
                  </a:lnTo>
                  <a:lnTo>
                    <a:pt x="3" y="0"/>
                  </a:lnTo>
                  <a:lnTo>
                    <a:pt x="0" y="41"/>
                  </a:lnTo>
                  <a:lnTo>
                    <a:pt x="372" y="64"/>
                  </a:lnTo>
                  <a:lnTo>
                    <a:pt x="389" y="56"/>
                  </a:lnTo>
                  <a:lnTo>
                    <a:pt x="372" y="64"/>
                  </a:lnTo>
                  <a:lnTo>
                    <a:pt x="377" y="64"/>
                  </a:lnTo>
                  <a:lnTo>
                    <a:pt x="381" y="62"/>
                  </a:lnTo>
                  <a:lnTo>
                    <a:pt x="385" y="60"/>
                  </a:lnTo>
                  <a:lnTo>
                    <a:pt x="388" y="58"/>
                  </a:lnTo>
                  <a:lnTo>
                    <a:pt x="390" y="55"/>
                  </a:lnTo>
                  <a:lnTo>
                    <a:pt x="391" y="52"/>
                  </a:lnTo>
                  <a:lnTo>
                    <a:pt x="392" y="48"/>
                  </a:lnTo>
                  <a:lnTo>
                    <a:pt x="393" y="44"/>
                  </a:lnTo>
                  <a:lnTo>
                    <a:pt x="393" y="41"/>
                  </a:lnTo>
                  <a:lnTo>
                    <a:pt x="392" y="38"/>
                  </a:lnTo>
                  <a:lnTo>
                    <a:pt x="391" y="33"/>
                  </a:lnTo>
                  <a:lnTo>
                    <a:pt x="389" y="30"/>
                  </a:lnTo>
                  <a:lnTo>
                    <a:pt x="387" y="28"/>
                  </a:lnTo>
                  <a:lnTo>
                    <a:pt x="383" y="26"/>
                  </a:lnTo>
                  <a:lnTo>
                    <a:pt x="379" y="24"/>
                  </a:lnTo>
                  <a:lnTo>
                    <a:pt x="374" y="24"/>
                  </a:lnTo>
                  <a:lnTo>
                    <a:pt x="389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0" name=""/>
            <p:cNvSpPr/>
            <p:nvPr/>
          </p:nvSpPr>
          <p:spPr>
            <a:xfrm>
              <a:off x="6394320" y="4286520"/>
              <a:ext cx="270000" cy="326880"/>
            </a:xfrm>
            <a:custGeom>
              <a:avLst/>
              <a:gdLst/>
              <a:ahLst/>
              <a:rect l="l" t="t" r="r" b="b"/>
              <a:pathLst>
                <a:path w="679" h="825">
                  <a:moveTo>
                    <a:pt x="676" y="10"/>
                  </a:moveTo>
                  <a:lnTo>
                    <a:pt x="643" y="7"/>
                  </a:lnTo>
                  <a:lnTo>
                    <a:pt x="0" y="800"/>
                  </a:lnTo>
                  <a:lnTo>
                    <a:pt x="31" y="825"/>
                  </a:lnTo>
                  <a:lnTo>
                    <a:pt x="675" y="33"/>
                  </a:lnTo>
                  <a:lnTo>
                    <a:pt x="676" y="10"/>
                  </a:lnTo>
                  <a:lnTo>
                    <a:pt x="675" y="33"/>
                  </a:lnTo>
                  <a:lnTo>
                    <a:pt x="677" y="29"/>
                  </a:lnTo>
                  <a:lnTo>
                    <a:pt x="679" y="25"/>
                  </a:lnTo>
                  <a:lnTo>
                    <a:pt x="679" y="21"/>
                  </a:lnTo>
                  <a:lnTo>
                    <a:pt x="679" y="17"/>
                  </a:lnTo>
                  <a:lnTo>
                    <a:pt x="678" y="14"/>
                  </a:lnTo>
                  <a:lnTo>
                    <a:pt x="677" y="11"/>
                  </a:lnTo>
                  <a:lnTo>
                    <a:pt x="675" y="7"/>
                  </a:lnTo>
                  <a:lnTo>
                    <a:pt x="672" y="4"/>
                  </a:lnTo>
                  <a:lnTo>
                    <a:pt x="668" y="2"/>
                  </a:lnTo>
                  <a:lnTo>
                    <a:pt x="665" y="1"/>
                  </a:lnTo>
                  <a:lnTo>
                    <a:pt x="662" y="0"/>
                  </a:lnTo>
                  <a:lnTo>
                    <a:pt x="657" y="0"/>
                  </a:lnTo>
                  <a:lnTo>
                    <a:pt x="654" y="0"/>
                  </a:lnTo>
                  <a:lnTo>
                    <a:pt x="650" y="2"/>
                  </a:lnTo>
                  <a:lnTo>
                    <a:pt x="647" y="4"/>
                  </a:lnTo>
                  <a:lnTo>
                    <a:pt x="643" y="7"/>
                  </a:lnTo>
                  <a:lnTo>
                    <a:pt x="676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6600960" y="4211640"/>
              <a:ext cx="61920" cy="8748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10" y="3"/>
                  </a:moveTo>
                  <a:lnTo>
                    <a:pt x="4" y="31"/>
                  </a:lnTo>
                  <a:lnTo>
                    <a:pt x="121" y="218"/>
                  </a:lnTo>
                  <a:lnTo>
                    <a:pt x="155" y="197"/>
                  </a:lnTo>
                  <a:lnTo>
                    <a:pt x="37" y="10"/>
                  </a:lnTo>
                  <a:lnTo>
                    <a:pt x="10" y="3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6218280" y="4213440"/>
              <a:ext cx="395280" cy="257040"/>
            </a:xfrm>
            <a:custGeom>
              <a:avLst/>
              <a:gdLst/>
              <a:ahLst/>
              <a:rect l="l" t="t" r="r" b="b"/>
              <a:pathLst>
                <a:path w="995" h="647">
                  <a:moveTo>
                    <a:pt x="1" y="630"/>
                  </a:moveTo>
                  <a:lnTo>
                    <a:pt x="31" y="643"/>
                  </a:lnTo>
                  <a:lnTo>
                    <a:pt x="995" y="35"/>
                  </a:lnTo>
                  <a:lnTo>
                    <a:pt x="974" y="0"/>
                  </a:lnTo>
                  <a:lnTo>
                    <a:pt x="10" y="609"/>
                  </a:lnTo>
                  <a:lnTo>
                    <a:pt x="1" y="630"/>
                  </a:lnTo>
                  <a:lnTo>
                    <a:pt x="10" y="609"/>
                  </a:lnTo>
                  <a:lnTo>
                    <a:pt x="7" y="613"/>
                  </a:lnTo>
                  <a:lnTo>
                    <a:pt x="3" y="616"/>
                  </a:lnTo>
                  <a:lnTo>
                    <a:pt x="1" y="619"/>
                  </a:lnTo>
                  <a:lnTo>
                    <a:pt x="0" y="622"/>
                  </a:lnTo>
                  <a:lnTo>
                    <a:pt x="0" y="627"/>
                  </a:lnTo>
                  <a:lnTo>
                    <a:pt x="1" y="630"/>
                  </a:lnTo>
                  <a:lnTo>
                    <a:pt x="2" y="634"/>
                  </a:lnTo>
                  <a:lnTo>
                    <a:pt x="3" y="637"/>
                  </a:lnTo>
                  <a:lnTo>
                    <a:pt x="6" y="640"/>
                  </a:lnTo>
                  <a:lnTo>
                    <a:pt x="9" y="643"/>
                  </a:lnTo>
                  <a:lnTo>
                    <a:pt x="12" y="645"/>
                  </a:lnTo>
                  <a:lnTo>
                    <a:pt x="15" y="646"/>
                  </a:lnTo>
                  <a:lnTo>
                    <a:pt x="20" y="647"/>
                  </a:lnTo>
                  <a:lnTo>
                    <a:pt x="23" y="646"/>
                  </a:lnTo>
                  <a:lnTo>
                    <a:pt x="27" y="645"/>
                  </a:lnTo>
                  <a:lnTo>
                    <a:pt x="31" y="643"/>
                  </a:lnTo>
                  <a:lnTo>
                    <a:pt x="1" y="6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6218280" y="4459320"/>
              <a:ext cx="42840" cy="147600"/>
            </a:xfrm>
            <a:custGeom>
              <a:avLst/>
              <a:gdLst/>
              <a:ahLst/>
              <a:rect l="l" t="t" r="r" b="b"/>
              <a:pathLst>
                <a:path w="106" h="372">
                  <a:moveTo>
                    <a:pt x="84" y="372"/>
                  </a:moveTo>
                  <a:lnTo>
                    <a:pt x="105" y="347"/>
                  </a:lnTo>
                  <a:lnTo>
                    <a:pt x="40" y="0"/>
                  </a:lnTo>
                  <a:lnTo>
                    <a:pt x="0" y="8"/>
                  </a:lnTo>
                  <a:lnTo>
                    <a:pt x="65" y="355"/>
                  </a:lnTo>
                  <a:lnTo>
                    <a:pt x="84" y="372"/>
                  </a:lnTo>
                  <a:lnTo>
                    <a:pt x="65" y="355"/>
                  </a:lnTo>
                  <a:lnTo>
                    <a:pt x="67" y="360"/>
                  </a:lnTo>
                  <a:lnTo>
                    <a:pt x="69" y="363"/>
                  </a:lnTo>
                  <a:lnTo>
                    <a:pt x="71" y="366"/>
                  </a:lnTo>
                  <a:lnTo>
                    <a:pt x="75" y="369"/>
                  </a:lnTo>
                  <a:lnTo>
                    <a:pt x="78" y="371"/>
                  </a:lnTo>
                  <a:lnTo>
                    <a:pt x="81" y="371"/>
                  </a:lnTo>
                  <a:lnTo>
                    <a:pt x="86" y="372"/>
                  </a:lnTo>
                  <a:lnTo>
                    <a:pt x="89" y="371"/>
                  </a:lnTo>
                  <a:lnTo>
                    <a:pt x="93" y="370"/>
                  </a:lnTo>
                  <a:lnTo>
                    <a:pt x="96" y="369"/>
                  </a:lnTo>
                  <a:lnTo>
                    <a:pt x="100" y="366"/>
                  </a:lnTo>
                  <a:lnTo>
                    <a:pt x="102" y="363"/>
                  </a:lnTo>
                  <a:lnTo>
                    <a:pt x="104" y="360"/>
                  </a:lnTo>
                  <a:lnTo>
                    <a:pt x="105" y="357"/>
                  </a:lnTo>
                  <a:lnTo>
                    <a:pt x="106" y="352"/>
                  </a:lnTo>
                  <a:lnTo>
                    <a:pt x="105" y="347"/>
                  </a:lnTo>
                  <a:lnTo>
                    <a:pt x="84" y="3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949560" y="4057920"/>
              <a:ext cx="855720" cy="87120"/>
            </a:xfrm>
            <a:custGeom>
              <a:avLst/>
              <a:gdLst/>
              <a:ahLst/>
              <a:rect l="l" t="t" r="r" b="b"/>
              <a:pathLst>
                <a:path w="2156" h="223">
                  <a:moveTo>
                    <a:pt x="0" y="0"/>
                  </a:moveTo>
                  <a:lnTo>
                    <a:pt x="2156" y="167"/>
                  </a:lnTo>
                  <a:lnTo>
                    <a:pt x="23" y="2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949560" y="4050000"/>
              <a:ext cx="863640" cy="81000"/>
            </a:xfrm>
            <a:custGeom>
              <a:avLst/>
              <a:gdLst/>
              <a:ahLst/>
              <a:rect l="l" t="t" r="r" b="b"/>
              <a:pathLst>
                <a:path w="2178" h="205">
                  <a:moveTo>
                    <a:pt x="2159" y="205"/>
                  </a:moveTo>
                  <a:lnTo>
                    <a:pt x="2160" y="165"/>
                  </a:lnTo>
                  <a:lnTo>
                    <a:pt x="4" y="0"/>
                  </a:lnTo>
                  <a:lnTo>
                    <a:pt x="0" y="40"/>
                  </a:lnTo>
                  <a:lnTo>
                    <a:pt x="2157" y="205"/>
                  </a:lnTo>
                  <a:lnTo>
                    <a:pt x="2159" y="205"/>
                  </a:lnTo>
                  <a:lnTo>
                    <a:pt x="2157" y="205"/>
                  </a:lnTo>
                  <a:lnTo>
                    <a:pt x="2161" y="205"/>
                  </a:lnTo>
                  <a:lnTo>
                    <a:pt x="2166" y="204"/>
                  </a:lnTo>
                  <a:lnTo>
                    <a:pt x="2169" y="203"/>
                  </a:lnTo>
                  <a:lnTo>
                    <a:pt x="2172" y="201"/>
                  </a:lnTo>
                  <a:lnTo>
                    <a:pt x="2175" y="197"/>
                  </a:lnTo>
                  <a:lnTo>
                    <a:pt x="2176" y="194"/>
                  </a:lnTo>
                  <a:lnTo>
                    <a:pt x="2177" y="191"/>
                  </a:lnTo>
                  <a:lnTo>
                    <a:pt x="2178" y="187"/>
                  </a:lnTo>
                  <a:lnTo>
                    <a:pt x="2178" y="183"/>
                  </a:lnTo>
                  <a:lnTo>
                    <a:pt x="2177" y="179"/>
                  </a:lnTo>
                  <a:lnTo>
                    <a:pt x="2176" y="176"/>
                  </a:lnTo>
                  <a:lnTo>
                    <a:pt x="2174" y="173"/>
                  </a:lnTo>
                  <a:lnTo>
                    <a:pt x="2172" y="169"/>
                  </a:lnTo>
                  <a:lnTo>
                    <a:pt x="2169" y="167"/>
                  </a:lnTo>
                  <a:lnTo>
                    <a:pt x="2164" y="166"/>
                  </a:lnTo>
                  <a:lnTo>
                    <a:pt x="2160" y="165"/>
                  </a:lnTo>
                  <a:lnTo>
                    <a:pt x="2159" y="2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951360" y="4114800"/>
              <a:ext cx="853920" cy="38160"/>
            </a:xfrm>
            <a:custGeom>
              <a:avLst/>
              <a:gdLst/>
              <a:ahLst/>
              <a:rect l="l" t="t" r="r" b="b"/>
              <a:pathLst>
                <a:path w="2154" h="96">
                  <a:moveTo>
                    <a:pt x="0" y="78"/>
                  </a:moveTo>
                  <a:lnTo>
                    <a:pt x="20" y="96"/>
                  </a:lnTo>
                  <a:lnTo>
                    <a:pt x="2154" y="40"/>
                  </a:lnTo>
                  <a:lnTo>
                    <a:pt x="2153" y="0"/>
                  </a:lnTo>
                  <a:lnTo>
                    <a:pt x="19" y="56"/>
                  </a:lnTo>
                  <a:lnTo>
                    <a:pt x="0" y="78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1" y="58"/>
                  </a:lnTo>
                  <a:lnTo>
                    <a:pt x="7" y="61"/>
                  </a:lnTo>
                  <a:lnTo>
                    <a:pt x="4" y="63"/>
                  </a:lnTo>
                  <a:lnTo>
                    <a:pt x="2" y="66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6" y="96"/>
                  </a:lnTo>
                  <a:lnTo>
                    <a:pt x="20" y="9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41640" y="4050000"/>
              <a:ext cx="25560" cy="96840"/>
            </a:xfrm>
            <a:custGeom>
              <a:avLst/>
              <a:gdLst/>
              <a:ahLst/>
              <a:rect l="l" t="t" r="r" b="b"/>
              <a:pathLst>
                <a:path w="63" h="243">
                  <a:moveTo>
                    <a:pt x="22" y="0"/>
                  </a:moveTo>
                  <a:lnTo>
                    <a:pt x="0" y="21"/>
                  </a:lnTo>
                  <a:lnTo>
                    <a:pt x="23" y="243"/>
                  </a:lnTo>
                  <a:lnTo>
                    <a:pt x="63" y="240"/>
                  </a:lnTo>
                  <a:lnTo>
                    <a:pt x="40" y="17"/>
                  </a:lnTo>
                  <a:lnTo>
                    <a:pt x="22" y="0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78200" y="4084920"/>
              <a:ext cx="1096920" cy="591840"/>
            </a:xfrm>
            <a:custGeom>
              <a:avLst/>
              <a:gdLst/>
              <a:ahLst/>
              <a:rect l="l" t="t" r="r" b="b"/>
              <a:pathLst>
                <a:path w="2762" h="1494">
                  <a:moveTo>
                    <a:pt x="0" y="351"/>
                  </a:moveTo>
                  <a:lnTo>
                    <a:pt x="2386" y="1494"/>
                  </a:lnTo>
                  <a:lnTo>
                    <a:pt x="2762" y="0"/>
                  </a:lnTo>
                  <a:lnTo>
                    <a:pt x="370" y="92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4216680"/>
              <a:ext cx="959040" cy="468360"/>
            </a:xfrm>
            <a:custGeom>
              <a:avLst/>
              <a:gdLst/>
              <a:ahLst/>
              <a:rect l="l" t="t" r="r" b="b"/>
              <a:pathLst>
                <a:path w="2415" h="1181">
                  <a:moveTo>
                    <a:pt x="2415" y="1165"/>
                  </a:moveTo>
                  <a:lnTo>
                    <a:pt x="2404" y="1143"/>
                  </a:lnTo>
                  <a:lnTo>
                    <a:pt x="17" y="0"/>
                  </a:lnTo>
                  <a:lnTo>
                    <a:pt x="0" y="36"/>
                  </a:lnTo>
                  <a:lnTo>
                    <a:pt x="2387" y="1179"/>
                  </a:lnTo>
                  <a:lnTo>
                    <a:pt x="2415" y="1165"/>
                  </a:lnTo>
                  <a:lnTo>
                    <a:pt x="2387" y="1179"/>
                  </a:lnTo>
                  <a:lnTo>
                    <a:pt x="2391" y="1180"/>
                  </a:lnTo>
                  <a:lnTo>
                    <a:pt x="2395" y="1181"/>
                  </a:lnTo>
                  <a:lnTo>
                    <a:pt x="2398" y="1181"/>
                  </a:lnTo>
                  <a:lnTo>
                    <a:pt x="2403" y="1180"/>
                  </a:lnTo>
                  <a:lnTo>
                    <a:pt x="2406" y="1178"/>
                  </a:lnTo>
                  <a:lnTo>
                    <a:pt x="2408" y="1176"/>
                  </a:lnTo>
                  <a:lnTo>
                    <a:pt x="2411" y="1173"/>
                  </a:lnTo>
                  <a:lnTo>
                    <a:pt x="2412" y="1170"/>
                  </a:lnTo>
                  <a:lnTo>
                    <a:pt x="2415" y="1166"/>
                  </a:lnTo>
                  <a:lnTo>
                    <a:pt x="2415" y="1162"/>
                  </a:lnTo>
                  <a:lnTo>
                    <a:pt x="2415" y="1159"/>
                  </a:lnTo>
                  <a:lnTo>
                    <a:pt x="2415" y="1154"/>
                  </a:lnTo>
                  <a:lnTo>
                    <a:pt x="2412" y="1151"/>
                  </a:lnTo>
                  <a:lnTo>
                    <a:pt x="2410" y="1148"/>
                  </a:lnTo>
                  <a:lnTo>
                    <a:pt x="2407" y="1145"/>
                  </a:lnTo>
                  <a:lnTo>
                    <a:pt x="2404" y="1143"/>
                  </a:lnTo>
                  <a:lnTo>
                    <a:pt x="2415" y="11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718160" y="4077000"/>
              <a:ext cx="164880" cy="601560"/>
            </a:xfrm>
            <a:custGeom>
              <a:avLst/>
              <a:gdLst/>
              <a:ahLst/>
              <a:rect l="l" t="t" r="r" b="b"/>
              <a:pathLst>
                <a:path w="415" h="1518">
                  <a:moveTo>
                    <a:pt x="395" y="0"/>
                  </a:moveTo>
                  <a:lnTo>
                    <a:pt x="375" y="15"/>
                  </a:lnTo>
                  <a:lnTo>
                    <a:pt x="0" y="1509"/>
                  </a:lnTo>
                  <a:lnTo>
                    <a:pt x="40" y="1518"/>
                  </a:lnTo>
                  <a:lnTo>
                    <a:pt x="415" y="25"/>
                  </a:lnTo>
                  <a:lnTo>
                    <a:pt x="395" y="0"/>
                  </a:lnTo>
                  <a:lnTo>
                    <a:pt x="415" y="25"/>
                  </a:lnTo>
                  <a:lnTo>
                    <a:pt x="415" y="20"/>
                  </a:lnTo>
                  <a:lnTo>
                    <a:pt x="415" y="16"/>
                  </a:lnTo>
                  <a:lnTo>
                    <a:pt x="414" y="12"/>
                  </a:lnTo>
                  <a:lnTo>
                    <a:pt x="413" y="8"/>
                  </a:lnTo>
                  <a:lnTo>
                    <a:pt x="410" y="6"/>
                  </a:lnTo>
                  <a:lnTo>
                    <a:pt x="408" y="3"/>
                  </a:lnTo>
                  <a:lnTo>
                    <a:pt x="404" y="2"/>
                  </a:lnTo>
                  <a:lnTo>
                    <a:pt x="400" y="1"/>
                  </a:lnTo>
                  <a:lnTo>
                    <a:pt x="397" y="0"/>
                  </a:lnTo>
                  <a:lnTo>
                    <a:pt x="393" y="0"/>
                  </a:lnTo>
                  <a:lnTo>
                    <a:pt x="389" y="1"/>
                  </a:lnTo>
                  <a:lnTo>
                    <a:pt x="386" y="2"/>
                  </a:lnTo>
                  <a:lnTo>
                    <a:pt x="383" y="4"/>
                  </a:lnTo>
                  <a:lnTo>
                    <a:pt x="380" y="7"/>
                  </a:lnTo>
                  <a:lnTo>
                    <a:pt x="378" y="11"/>
                  </a:lnTo>
                  <a:lnTo>
                    <a:pt x="375" y="15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917880" y="4077000"/>
              <a:ext cx="957240" cy="52200"/>
            </a:xfrm>
            <a:custGeom>
              <a:avLst/>
              <a:gdLst/>
              <a:ahLst/>
              <a:rect l="l" t="t" r="r" b="b"/>
              <a:pathLst>
                <a:path w="2412" h="133">
                  <a:moveTo>
                    <a:pt x="8" y="96"/>
                  </a:moveTo>
                  <a:lnTo>
                    <a:pt x="21" y="133"/>
                  </a:lnTo>
                  <a:lnTo>
                    <a:pt x="2412" y="40"/>
                  </a:lnTo>
                  <a:lnTo>
                    <a:pt x="2411" y="0"/>
                  </a:lnTo>
                  <a:lnTo>
                    <a:pt x="19" y="93"/>
                  </a:lnTo>
                  <a:lnTo>
                    <a:pt x="8" y="96"/>
                  </a:lnTo>
                  <a:lnTo>
                    <a:pt x="19" y="93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7" y="97"/>
                  </a:lnTo>
                  <a:lnTo>
                    <a:pt x="4" y="99"/>
                  </a:lnTo>
                  <a:lnTo>
                    <a:pt x="2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4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6" y="133"/>
                  </a:lnTo>
                  <a:lnTo>
                    <a:pt x="21" y="133"/>
                  </a:lnTo>
                  <a:lnTo>
                    <a:pt x="8" y="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770280" y="4114800"/>
              <a:ext cx="160200" cy="117720"/>
            </a:xfrm>
            <a:custGeom>
              <a:avLst/>
              <a:gdLst/>
              <a:ahLst/>
              <a:rect l="l" t="t" r="r" b="b"/>
              <a:pathLst>
                <a:path w="403" h="296">
                  <a:moveTo>
                    <a:pt x="12" y="293"/>
                  </a:moveTo>
                  <a:lnTo>
                    <a:pt x="33" y="291"/>
                  </a:lnTo>
                  <a:lnTo>
                    <a:pt x="403" y="33"/>
                  </a:lnTo>
                  <a:lnTo>
                    <a:pt x="379" y="0"/>
                  </a:lnTo>
                  <a:lnTo>
                    <a:pt x="10" y="258"/>
                  </a:lnTo>
                  <a:lnTo>
                    <a:pt x="12" y="293"/>
                  </a:lnTo>
                  <a:lnTo>
                    <a:pt x="10" y="258"/>
                  </a:lnTo>
                  <a:lnTo>
                    <a:pt x="6" y="261"/>
                  </a:lnTo>
                  <a:lnTo>
                    <a:pt x="4" y="264"/>
                  </a:lnTo>
                  <a:lnTo>
                    <a:pt x="1" y="269"/>
                  </a:lnTo>
                  <a:lnTo>
                    <a:pt x="0" y="272"/>
                  </a:lnTo>
                  <a:lnTo>
                    <a:pt x="0" y="276"/>
                  </a:lnTo>
                  <a:lnTo>
                    <a:pt x="1" y="280"/>
                  </a:lnTo>
                  <a:lnTo>
                    <a:pt x="2" y="283"/>
                  </a:lnTo>
                  <a:lnTo>
                    <a:pt x="5" y="286"/>
                  </a:lnTo>
                  <a:lnTo>
                    <a:pt x="7" y="289"/>
                  </a:lnTo>
                  <a:lnTo>
                    <a:pt x="10" y="291"/>
                  </a:lnTo>
                  <a:lnTo>
                    <a:pt x="13" y="294"/>
                  </a:lnTo>
                  <a:lnTo>
                    <a:pt x="16" y="295"/>
                  </a:lnTo>
                  <a:lnTo>
                    <a:pt x="21" y="296"/>
                  </a:lnTo>
                  <a:lnTo>
                    <a:pt x="24" y="295"/>
                  </a:lnTo>
                  <a:lnTo>
                    <a:pt x="28" y="294"/>
                  </a:lnTo>
                  <a:lnTo>
                    <a:pt x="33" y="291"/>
                  </a:lnTo>
                  <a:lnTo>
                    <a:pt x="12" y="2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710160" y="4224600"/>
              <a:ext cx="855360" cy="439560"/>
            </a:xfrm>
            <a:custGeom>
              <a:avLst/>
              <a:gdLst/>
              <a:ahLst/>
              <a:rect l="l" t="t" r="r" b="b"/>
              <a:pathLst>
                <a:path w="2158" h="1108">
                  <a:moveTo>
                    <a:pt x="194" y="0"/>
                  </a:moveTo>
                  <a:lnTo>
                    <a:pt x="177" y="12"/>
                  </a:lnTo>
                  <a:lnTo>
                    <a:pt x="160" y="25"/>
                  </a:lnTo>
                  <a:lnTo>
                    <a:pt x="145" y="38"/>
                  </a:lnTo>
                  <a:lnTo>
                    <a:pt x="129" y="51"/>
                  </a:lnTo>
                  <a:lnTo>
                    <a:pt x="115" y="65"/>
                  </a:lnTo>
                  <a:lnTo>
                    <a:pt x="101" y="78"/>
                  </a:lnTo>
                  <a:lnTo>
                    <a:pt x="89" y="92"/>
                  </a:lnTo>
                  <a:lnTo>
                    <a:pt x="78" y="106"/>
                  </a:lnTo>
                  <a:lnTo>
                    <a:pt x="67" y="120"/>
                  </a:lnTo>
                  <a:lnTo>
                    <a:pt x="57" y="134"/>
                  </a:lnTo>
                  <a:lnTo>
                    <a:pt x="47" y="149"/>
                  </a:lnTo>
                  <a:lnTo>
                    <a:pt x="39" y="164"/>
                  </a:lnTo>
                  <a:lnTo>
                    <a:pt x="31" y="180"/>
                  </a:lnTo>
                  <a:lnTo>
                    <a:pt x="25" y="195"/>
                  </a:lnTo>
                  <a:lnTo>
                    <a:pt x="18" y="210"/>
                  </a:lnTo>
                  <a:lnTo>
                    <a:pt x="14" y="225"/>
                  </a:lnTo>
                  <a:lnTo>
                    <a:pt x="9" y="241"/>
                  </a:lnTo>
                  <a:lnTo>
                    <a:pt x="5" y="257"/>
                  </a:lnTo>
                  <a:lnTo>
                    <a:pt x="3" y="274"/>
                  </a:lnTo>
                  <a:lnTo>
                    <a:pt x="1" y="290"/>
                  </a:lnTo>
                  <a:lnTo>
                    <a:pt x="0" y="306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2" y="357"/>
                  </a:lnTo>
                  <a:lnTo>
                    <a:pt x="4" y="374"/>
                  </a:lnTo>
                  <a:lnTo>
                    <a:pt x="6" y="391"/>
                  </a:lnTo>
                  <a:lnTo>
                    <a:pt x="11" y="410"/>
                  </a:lnTo>
                  <a:lnTo>
                    <a:pt x="15" y="427"/>
                  </a:lnTo>
                  <a:lnTo>
                    <a:pt x="20" y="445"/>
                  </a:lnTo>
                  <a:lnTo>
                    <a:pt x="27" y="464"/>
                  </a:lnTo>
                  <a:lnTo>
                    <a:pt x="34" y="482"/>
                  </a:lnTo>
                  <a:lnTo>
                    <a:pt x="42" y="501"/>
                  </a:lnTo>
                  <a:lnTo>
                    <a:pt x="166" y="529"/>
                  </a:lnTo>
                  <a:lnTo>
                    <a:pt x="289" y="559"/>
                  </a:lnTo>
                  <a:lnTo>
                    <a:pt x="411" y="589"/>
                  </a:lnTo>
                  <a:lnTo>
                    <a:pt x="533" y="620"/>
                  </a:lnTo>
                  <a:lnTo>
                    <a:pt x="654" y="653"/>
                  </a:lnTo>
                  <a:lnTo>
                    <a:pt x="774" y="686"/>
                  </a:lnTo>
                  <a:lnTo>
                    <a:pt x="893" y="722"/>
                  </a:lnTo>
                  <a:lnTo>
                    <a:pt x="1012" y="757"/>
                  </a:lnTo>
                  <a:lnTo>
                    <a:pt x="1128" y="795"/>
                  </a:lnTo>
                  <a:lnTo>
                    <a:pt x="1245" y="835"/>
                  </a:lnTo>
                  <a:lnTo>
                    <a:pt x="1359" y="876"/>
                  </a:lnTo>
                  <a:lnTo>
                    <a:pt x="1474" y="918"/>
                  </a:lnTo>
                  <a:lnTo>
                    <a:pt x="1586" y="964"/>
                  </a:lnTo>
                  <a:lnTo>
                    <a:pt x="1697" y="1010"/>
                  </a:lnTo>
                  <a:lnTo>
                    <a:pt x="1753" y="1034"/>
                  </a:lnTo>
                  <a:lnTo>
                    <a:pt x="1809" y="1058"/>
                  </a:lnTo>
                  <a:lnTo>
                    <a:pt x="1863" y="1082"/>
                  </a:lnTo>
                  <a:lnTo>
                    <a:pt x="1918" y="1108"/>
                  </a:lnTo>
                  <a:lnTo>
                    <a:pt x="1924" y="1071"/>
                  </a:lnTo>
                  <a:lnTo>
                    <a:pt x="1930" y="1035"/>
                  </a:lnTo>
                  <a:lnTo>
                    <a:pt x="1932" y="1003"/>
                  </a:lnTo>
                  <a:lnTo>
                    <a:pt x="1934" y="972"/>
                  </a:lnTo>
                  <a:lnTo>
                    <a:pt x="1936" y="943"/>
                  </a:lnTo>
                  <a:lnTo>
                    <a:pt x="1938" y="915"/>
                  </a:lnTo>
                  <a:lnTo>
                    <a:pt x="1941" y="888"/>
                  </a:lnTo>
                  <a:lnTo>
                    <a:pt x="1947" y="862"/>
                  </a:lnTo>
                  <a:lnTo>
                    <a:pt x="1951" y="849"/>
                  </a:lnTo>
                  <a:lnTo>
                    <a:pt x="1955" y="835"/>
                  </a:lnTo>
                  <a:lnTo>
                    <a:pt x="1961" y="822"/>
                  </a:lnTo>
                  <a:lnTo>
                    <a:pt x="1967" y="809"/>
                  </a:lnTo>
                  <a:lnTo>
                    <a:pt x="1976" y="795"/>
                  </a:lnTo>
                  <a:lnTo>
                    <a:pt x="1985" y="781"/>
                  </a:lnTo>
                  <a:lnTo>
                    <a:pt x="1994" y="767"/>
                  </a:lnTo>
                  <a:lnTo>
                    <a:pt x="2006" y="753"/>
                  </a:lnTo>
                  <a:lnTo>
                    <a:pt x="2019" y="738"/>
                  </a:lnTo>
                  <a:lnTo>
                    <a:pt x="2033" y="723"/>
                  </a:lnTo>
                  <a:lnTo>
                    <a:pt x="2049" y="707"/>
                  </a:lnTo>
                  <a:lnTo>
                    <a:pt x="2067" y="690"/>
                  </a:lnTo>
                  <a:lnTo>
                    <a:pt x="2087" y="673"/>
                  </a:lnTo>
                  <a:lnTo>
                    <a:pt x="2109" y="656"/>
                  </a:lnTo>
                  <a:lnTo>
                    <a:pt x="2133" y="637"/>
                  </a:lnTo>
                  <a:lnTo>
                    <a:pt x="2158" y="619"/>
                  </a:lnTo>
                  <a:lnTo>
                    <a:pt x="2095" y="603"/>
                  </a:lnTo>
                  <a:lnTo>
                    <a:pt x="2031" y="587"/>
                  </a:lnTo>
                  <a:lnTo>
                    <a:pt x="1968" y="571"/>
                  </a:lnTo>
                  <a:lnTo>
                    <a:pt x="1906" y="552"/>
                  </a:lnTo>
                  <a:lnTo>
                    <a:pt x="1844" y="535"/>
                  </a:lnTo>
                  <a:lnTo>
                    <a:pt x="1783" y="515"/>
                  </a:lnTo>
                  <a:lnTo>
                    <a:pt x="1721" y="496"/>
                  </a:lnTo>
                  <a:lnTo>
                    <a:pt x="1660" y="477"/>
                  </a:lnTo>
                  <a:lnTo>
                    <a:pt x="1538" y="436"/>
                  </a:lnTo>
                  <a:lnTo>
                    <a:pt x="1417" y="394"/>
                  </a:lnTo>
                  <a:lnTo>
                    <a:pt x="1296" y="351"/>
                  </a:lnTo>
                  <a:lnTo>
                    <a:pt x="1176" y="308"/>
                  </a:lnTo>
                  <a:lnTo>
                    <a:pt x="1055" y="266"/>
                  </a:lnTo>
                  <a:lnTo>
                    <a:pt x="934" y="223"/>
                  </a:lnTo>
                  <a:lnTo>
                    <a:pt x="813" y="182"/>
                  </a:lnTo>
                  <a:lnTo>
                    <a:pt x="692" y="141"/>
                  </a:lnTo>
                  <a:lnTo>
                    <a:pt x="630" y="121"/>
                  </a:lnTo>
                  <a:lnTo>
                    <a:pt x="569" y="102"/>
                  </a:lnTo>
                  <a:lnTo>
                    <a:pt x="507" y="83"/>
                  </a:lnTo>
                  <a:lnTo>
                    <a:pt x="446" y="65"/>
                  </a:lnTo>
                  <a:lnTo>
                    <a:pt x="383" y="48"/>
                  </a:lnTo>
                  <a:lnTo>
                    <a:pt x="321" y="32"/>
                  </a:lnTo>
                  <a:lnTo>
                    <a:pt x="258" y="15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701880" y="4216680"/>
              <a:ext cx="88920" cy="214200"/>
            </a:xfrm>
            <a:custGeom>
              <a:avLst/>
              <a:gdLst/>
              <a:ahLst/>
              <a:rect l="l" t="t" r="r" b="b"/>
              <a:pathLst>
                <a:path w="227" h="538">
                  <a:moveTo>
                    <a:pt x="67" y="498"/>
                  </a:moveTo>
                  <a:lnTo>
                    <a:pt x="81" y="510"/>
                  </a:lnTo>
                  <a:lnTo>
                    <a:pt x="74" y="491"/>
                  </a:lnTo>
                  <a:lnTo>
                    <a:pt x="67" y="474"/>
                  </a:lnTo>
                  <a:lnTo>
                    <a:pt x="61" y="457"/>
                  </a:lnTo>
                  <a:lnTo>
                    <a:pt x="55" y="438"/>
                  </a:lnTo>
                  <a:lnTo>
                    <a:pt x="51" y="422"/>
                  </a:lnTo>
                  <a:lnTo>
                    <a:pt x="48" y="405"/>
                  </a:lnTo>
                  <a:lnTo>
                    <a:pt x="45" y="389"/>
                  </a:lnTo>
                  <a:lnTo>
                    <a:pt x="42" y="372"/>
                  </a:lnTo>
                  <a:lnTo>
                    <a:pt x="41" y="355"/>
                  </a:lnTo>
                  <a:lnTo>
                    <a:pt x="41" y="339"/>
                  </a:lnTo>
                  <a:lnTo>
                    <a:pt x="41" y="324"/>
                  </a:lnTo>
                  <a:lnTo>
                    <a:pt x="42" y="308"/>
                  </a:lnTo>
                  <a:lnTo>
                    <a:pt x="44" y="293"/>
                  </a:lnTo>
                  <a:lnTo>
                    <a:pt x="47" y="278"/>
                  </a:lnTo>
                  <a:lnTo>
                    <a:pt x="50" y="262"/>
                  </a:lnTo>
                  <a:lnTo>
                    <a:pt x="53" y="248"/>
                  </a:lnTo>
                  <a:lnTo>
                    <a:pt x="59" y="233"/>
                  </a:lnTo>
                  <a:lnTo>
                    <a:pt x="64" y="219"/>
                  </a:lnTo>
                  <a:lnTo>
                    <a:pt x="71" y="205"/>
                  </a:lnTo>
                  <a:lnTo>
                    <a:pt x="78" y="190"/>
                  </a:lnTo>
                  <a:lnTo>
                    <a:pt x="86" y="177"/>
                  </a:lnTo>
                  <a:lnTo>
                    <a:pt x="94" y="163"/>
                  </a:lnTo>
                  <a:lnTo>
                    <a:pt x="104" y="149"/>
                  </a:lnTo>
                  <a:lnTo>
                    <a:pt x="114" y="136"/>
                  </a:lnTo>
                  <a:lnTo>
                    <a:pt x="126" y="122"/>
                  </a:lnTo>
                  <a:lnTo>
                    <a:pt x="137" y="109"/>
                  </a:lnTo>
                  <a:lnTo>
                    <a:pt x="150" y="96"/>
                  </a:lnTo>
                  <a:lnTo>
                    <a:pt x="163" y="83"/>
                  </a:lnTo>
                  <a:lnTo>
                    <a:pt x="179" y="70"/>
                  </a:lnTo>
                  <a:lnTo>
                    <a:pt x="194" y="58"/>
                  </a:lnTo>
                  <a:lnTo>
                    <a:pt x="210" y="45"/>
                  </a:lnTo>
                  <a:lnTo>
                    <a:pt x="227" y="33"/>
                  </a:lnTo>
                  <a:lnTo>
                    <a:pt x="203" y="0"/>
                  </a:lnTo>
                  <a:lnTo>
                    <a:pt x="186" y="13"/>
                  </a:lnTo>
                  <a:lnTo>
                    <a:pt x="169" y="26"/>
                  </a:lnTo>
                  <a:lnTo>
                    <a:pt x="153" y="40"/>
                  </a:lnTo>
                  <a:lnTo>
                    <a:pt x="136" y="53"/>
                  </a:lnTo>
                  <a:lnTo>
                    <a:pt x="122" y="67"/>
                  </a:lnTo>
                  <a:lnTo>
                    <a:pt x="108" y="81"/>
                  </a:lnTo>
                  <a:lnTo>
                    <a:pt x="95" y="96"/>
                  </a:lnTo>
                  <a:lnTo>
                    <a:pt x="82" y="110"/>
                  </a:lnTo>
                  <a:lnTo>
                    <a:pt x="72" y="125"/>
                  </a:lnTo>
                  <a:lnTo>
                    <a:pt x="61" y="140"/>
                  </a:lnTo>
                  <a:lnTo>
                    <a:pt x="51" y="156"/>
                  </a:lnTo>
                  <a:lnTo>
                    <a:pt x="42" y="172"/>
                  </a:lnTo>
                  <a:lnTo>
                    <a:pt x="34" y="187"/>
                  </a:lnTo>
                  <a:lnTo>
                    <a:pt x="27" y="203"/>
                  </a:lnTo>
                  <a:lnTo>
                    <a:pt x="21" y="220"/>
                  </a:lnTo>
                  <a:lnTo>
                    <a:pt x="15" y="237"/>
                  </a:lnTo>
                  <a:lnTo>
                    <a:pt x="10" y="253"/>
                  </a:lnTo>
                  <a:lnTo>
                    <a:pt x="7" y="270"/>
                  </a:lnTo>
                  <a:lnTo>
                    <a:pt x="4" y="287"/>
                  </a:lnTo>
                  <a:lnTo>
                    <a:pt x="1" y="305"/>
                  </a:lnTo>
                  <a:lnTo>
                    <a:pt x="0" y="322"/>
                  </a:lnTo>
                  <a:lnTo>
                    <a:pt x="0" y="340"/>
                  </a:lnTo>
                  <a:lnTo>
                    <a:pt x="1" y="357"/>
                  </a:lnTo>
                  <a:lnTo>
                    <a:pt x="3" y="376"/>
                  </a:lnTo>
                  <a:lnTo>
                    <a:pt x="5" y="394"/>
                  </a:lnTo>
                  <a:lnTo>
                    <a:pt x="8" y="413"/>
                  </a:lnTo>
                  <a:lnTo>
                    <a:pt x="12" y="431"/>
                  </a:lnTo>
                  <a:lnTo>
                    <a:pt x="17" y="450"/>
                  </a:lnTo>
                  <a:lnTo>
                    <a:pt x="23" y="469"/>
                  </a:lnTo>
                  <a:lnTo>
                    <a:pt x="30" y="488"/>
                  </a:lnTo>
                  <a:lnTo>
                    <a:pt x="36" y="507"/>
                  </a:lnTo>
                  <a:lnTo>
                    <a:pt x="45" y="526"/>
                  </a:lnTo>
                  <a:lnTo>
                    <a:pt x="59" y="538"/>
                  </a:lnTo>
                  <a:lnTo>
                    <a:pt x="45" y="526"/>
                  </a:lnTo>
                  <a:lnTo>
                    <a:pt x="47" y="530"/>
                  </a:lnTo>
                  <a:lnTo>
                    <a:pt x="50" y="534"/>
                  </a:lnTo>
                  <a:lnTo>
                    <a:pt x="53" y="536"/>
                  </a:lnTo>
                  <a:lnTo>
                    <a:pt x="56" y="538"/>
                  </a:lnTo>
                  <a:lnTo>
                    <a:pt x="60" y="538"/>
                  </a:lnTo>
                  <a:lnTo>
                    <a:pt x="64" y="538"/>
                  </a:lnTo>
                  <a:lnTo>
                    <a:pt x="67" y="538"/>
                  </a:lnTo>
                  <a:lnTo>
                    <a:pt x="72" y="537"/>
                  </a:lnTo>
                  <a:lnTo>
                    <a:pt x="75" y="535"/>
                  </a:lnTo>
                  <a:lnTo>
                    <a:pt x="77" y="532"/>
                  </a:lnTo>
                  <a:lnTo>
                    <a:pt x="80" y="529"/>
                  </a:lnTo>
                  <a:lnTo>
                    <a:pt x="81" y="526"/>
                  </a:lnTo>
                  <a:lnTo>
                    <a:pt x="83" y="523"/>
                  </a:lnTo>
                  <a:lnTo>
                    <a:pt x="83" y="518"/>
                  </a:lnTo>
                  <a:lnTo>
                    <a:pt x="83" y="514"/>
                  </a:lnTo>
                  <a:lnTo>
                    <a:pt x="81" y="510"/>
                  </a:lnTo>
                  <a:lnTo>
                    <a:pt x="67" y="49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724200" y="4415040"/>
              <a:ext cx="754200" cy="257040"/>
            </a:xfrm>
            <a:custGeom>
              <a:avLst/>
              <a:gdLst/>
              <a:ahLst/>
              <a:rect l="l" t="t" r="r" b="b"/>
              <a:pathLst>
                <a:path w="1899" h="648">
                  <a:moveTo>
                    <a:pt x="1859" y="623"/>
                  </a:moveTo>
                  <a:lnTo>
                    <a:pt x="1888" y="609"/>
                  </a:lnTo>
                  <a:lnTo>
                    <a:pt x="1833" y="583"/>
                  </a:lnTo>
                  <a:lnTo>
                    <a:pt x="1778" y="558"/>
                  </a:lnTo>
                  <a:lnTo>
                    <a:pt x="1723" y="534"/>
                  </a:lnTo>
                  <a:lnTo>
                    <a:pt x="1668" y="510"/>
                  </a:lnTo>
                  <a:lnTo>
                    <a:pt x="1556" y="463"/>
                  </a:lnTo>
                  <a:lnTo>
                    <a:pt x="1442" y="419"/>
                  </a:lnTo>
                  <a:lnTo>
                    <a:pt x="1329" y="376"/>
                  </a:lnTo>
                  <a:lnTo>
                    <a:pt x="1213" y="335"/>
                  </a:lnTo>
                  <a:lnTo>
                    <a:pt x="1097" y="296"/>
                  </a:lnTo>
                  <a:lnTo>
                    <a:pt x="979" y="257"/>
                  </a:lnTo>
                  <a:lnTo>
                    <a:pt x="861" y="221"/>
                  </a:lnTo>
                  <a:lnTo>
                    <a:pt x="741" y="186"/>
                  </a:lnTo>
                  <a:lnTo>
                    <a:pt x="622" y="152"/>
                  </a:lnTo>
                  <a:lnTo>
                    <a:pt x="501" y="120"/>
                  </a:lnTo>
                  <a:lnTo>
                    <a:pt x="379" y="88"/>
                  </a:lnTo>
                  <a:lnTo>
                    <a:pt x="256" y="58"/>
                  </a:lnTo>
                  <a:lnTo>
                    <a:pt x="132" y="29"/>
                  </a:lnTo>
                  <a:lnTo>
                    <a:pt x="8" y="0"/>
                  </a:lnTo>
                  <a:lnTo>
                    <a:pt x="0" y="40"/>
                  </a:lnTo>
                  <a:lnTo>
                    <a:pt x="124" y="68"/>
                  </a:lnTo>
                  <a:lnTo>
                    <a:pt x="247" y="97"/>
                  </a:lnTo>
                  <a:lnTo>
                    <a:pt x="369" y="127"/>
                  </a:lnTo>
                  <a:lnTo>
                    <a:pt x="490" y="159"/>
                  </a:lnTo>
                  <a:lnTo>
                    <a:pt x="611" y="191"/>
                  </a:lnTo>
                  <a:lnTo>
                    <a:pt x="731" y="225"/>
                  </a:lnTo>
                  <a:lnTo>
                    <a:pt x="849" y="259"/>
                  </a:lnTo>
                  <a:lnTo>
                    <a:pt x="967" y="296"/>
                  </a:lnTo>
                  <a:lnTo>
                    <a:pt x="1084" y="334"/>
                  </a:lnTo>
                  <a:lnTo>
                    <a:pt x="1200" y="372"/>
                  </a:lnTo>
                  <a:lnTo>
                    <a:pt x="1315" y="414"/>
                  </a:lnTo>
                  <a:lnTo>
                    <a:pt x="1428" y="457"/>
                  </a:lnTo>
                  <a:lnTo>
                    <a:pt x="1541" y="501"/>
                  </a:lnTo>
                  <a:lnTo>
                    <a:pt x="1652" y="547"/>
                  </a:lnTo>
                  <a:lnTo>
                    <a:pt x="1707" y="571"/>
                  </a:lnTo>
                  <a:lnTo>
                    <a:pt x="1762" y="595"/>
                  </a:lnTo>
                  <a:lnTo>
                    <a:pt x="1816" y="620"/>
                  </a:lnTo>
                  <a:lnTo>
                    <a:pt x="1871" y="646"/>
                  </a:lnTo>
                  <a:lnTo>
                    <a:pt x="1899" y="632"/>
                  </a:lnTo>
                  <a:lnTo>
                    <a:pt x="1871" y="646"/>
                  </a:lnTo>
                  <a:lnTo>
                    <a:pt x="1875" y="647"/>
                  </a:lnTo>
                  <a:lnTo>
                    <a:pt x="1880" y="648"/>
                  </a:lnTo>
                  <a:lnTo>
                    <a:pt x="1883" y="647"/>
                  </a:lnTo>
                  <a:lnTo>
                    <a:pt x="1887" y="646"/>
                  </a:lnTo>
                  <a:lnTo>
                    <a:pt x="1890" y="645"/>
                  </a:lnTo>
                  <a:lnTo>
                    <a:pt x="1893" y="642"/>
                  </a:lnTo>
                  <a:lnTo>
                    <a:pt x="1896" y="639"/>
                  </a:lnTo>
                  <a:lnTo>
                    <a:pt x="1897" y="636"/>
                  </a:lnTo>
                  <a:lnTo>
                    <a:pt x="1899" y="633"/>
                  </a:lnTo>
                  <a:lnTo>
                    <a:pt x="1899" y="628"/>
                  </a:lnTo>
                  <a:lnTo>
                    <a:pt x="1899" y="625"/>
                  </a:lnTo>
                  <a:lnTo>
                    <a:pt x="1899" y="621"/>
                  </a:lnTo>
                  <a:lnTo>
                    <a:pt x="1897" y="618"/>
                  </a:lnTo>
                  <a:lnTo>
                    <a:pt x="1895" y="614"/>
                  </a:lnTo>
                  <a:lnTo>
                    <a:pt x="1892" y="611"/>
                  </a:lnTo>
                  <a:lnTo>
                    <a:pt x="1888" y="609"/>
                  </a:lnTo>
                  <a:lnTo>
                    <a:pt x="1859" y="6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4462560" y="4461120"/>
              <a:ext cx="110880" cy="204840"/>
            </a:xfrm>
            <a:custGeom>
              <a:avLst/>
              <a:gdLst/>
              <a:ahLst/>
              <a:rect l="l" t="t" r="r" b="b"/>
              <a:pathLst>
                <a:path w="281" h="514">
                  <a:moveTo>
                    <a:pt x="256" y="40"/>
                  </a:moveTo>
                  <a:lnTo>
                    <a:pt x="250" y="3"/>
                  </a:lnTo>
                  <a:lnTo>
                    <a:pt x="224" y="22"/>
                  </a:lnTo>
                  <a:lnTo>
                    <a:pt x="199" y="41"/>
                  </a:lnTo>
                  <a:lnTo>
                    <a:pt x="177" y="59"/>
                  </a:lnTo>
                  <a:lnTo>
                    <a:pt x="157" y="76"/>
                  </a:lnTo>
                  <a:lnTo>
                    <a:pt x="138" y="92"/>
                  </a:lnTo>
                  <a:lnTo>
                    <a:pt x="122" y="109"/>
                  </a:lnTo>
                  <a:lnTo>
                    <a:pt x="107" y="125"/>
                  </a:lnTo>
                  <a:lnTo>
                    <a:pt x="93" y="141"/>
                  </a:lnTo>
                  <a:lnTo>
                    <a:pt x="81" y="156"/>
                  </a:lnTo>
                  <a:lnTo>
                    <a:pt x="70" y="171"/>
                  </a:lnTo>
                  <a:lnTo>
                    <a:pt x="61" y="185"/>
                  </a:lnTo>
                  <a:lnTo>
                    <a:pt x="53" y="200"/>
                  </a:lnTo>
                  <a:lnTo>
                    <a:pt x="45" y="215"/>
                  </a:lnTo>
                  <a:lnTo>
                    <a:pt x="40" y="230"/>
                  </a:lnTo>
                  <a:lnTo>
                    <a:pt x="35" y="244"/>
                  </a:lnTo>
                  <a:lnTo>
                    <a:pt x="30" y="259"/>
                  </a:lnTo>
                  <a:lnTo>
                    <a:pt x="25" y="286"/>
                  </a:lnTo>
                  <a:lnTo>
                    <a:pt x="21" y="314"/>
                  </a:lnTo>
                  <a:lnTo>
                    <a:pt x="18" y="343"/>
                  </a:lnTo>
                  <a:lnTo>
                    <a:pt x="16" y="372"/>
                  </a:lnTo>
                  <a:lnTo>
                    <a:pt x="15" y="402"/>
                  </a:lnTo>
                  <a:lnTo>
                    <a:pt x="12" y="434"/>
                  </a:lnTo>
                  <a:lnTo>
                    <a:pt x="8" y="468"/>
                  </a:lnTo>
                  <a:lnTo>
                    <a:pt x="0" y="505"/>
                  </a:lnTo>
                  <a:lnTo>
                    <a:pt x="40" y="514"/>
                  </a:lnTo>
                  <a:lnTo>
                    <a:pt x="48" y="475"/>
                  </a:lnTo>
                  <a:lnTo>
                    <a:pt x="52" y="438"/>
                  </a:lnTo>
                  <a:lnTo>
                    <a:pt x="55" y="406"/>
                  </a:lnTo>
                  <a:lnTo>
                    <a:pt x="57" y="374"/>
                  </a:lnTo>
                  <a:lnTo>
                    <a:pt x="58" y="345"/>
                  </a:lnTo>
                  <a:lnTo>
                    <a:pt x="61" y="318"/>
                  </a:lnTo>
                  <a:lnTo>
                    <a:pt x="65" y="293"/>
                  </a:lnTo>
                  <a:lnTo>
                    <a:pt x="70" y="267"/>
                  </a:lnTo>
                  <a:lnTo>
                    <a:pt x="74" y="256"/>
                  </a:lnTo>
                  <a:lnTo>
                    <a:pt x="78" y="244"/>
                  </a:lnTo>
                  <a:lnTo>
                    <a:pt x="82" y="232"/>
                  </a:lnTo>
                  <a:lnTo>
                    <a:pt x="89" y="219"/>
                  </a:lnTo>
                  <a:lnTo>
                    <a:pt x="96" y="207"/>
                  </a:lnTo>
                  <a:lnTo>
                    <a:pt x="104" y="194"/>
                  </a:lnTo>
                  <a:lnTo>
                    <a:pt x="113" y="180"/>
                  </a:lnTo>
                  <a:lnTo>
                    <a:pt x="124" y="166"/>
                  </a:lnTo>
                  <a:lnTo>
                    <a:pt x="136" y="152"/>
                  </a:lnTo>
                  <a:lnTo>
                    <a:pt x="150" y="138"/>
                  </a:lnTo>
                  <a:lnTo>
                    <a:pt x="166" y="123"/>
                  </a:lnTo>
                  <a:lnTo>
                    <a:pt x="184" y="107"/>
                  </a:lnTo>
                  <a:lnTo>
                    <a:pt x="203" y="90"/>
                  </a:lnTo>
                  <a:lnTo>
                    <a:pt x="224" y="73"/>
                  </a:lnTo>
                  <a:lnTo>
                    <a:pt x="247" y="55"/>
                  </a:lnTo>
                  <a:lnTo>
                    <a:pt x="273" y="36"/>
                  </a:lnTo>
                  <a:lnTo>
                    <a:pt x="266" y="0"/>
                  </a:lnTo>
                  <a:lnTo>
                    <a:pt x="273" y="36"/>
                  </a:lnTo>
                  <a:lnTo>
                    <a:pt x="277" y="33"/>
                  </a:lnTo>
                  <a:lnTo>
                    <a:pt x="279" y="30"/>
                  </a:lnTo>
                  <a:lnTo>
                    <a:pt x="281" y="26"/>
                  </a:lnTo>
                  <a:lnTo>
                    <a:pt x="281" y="22"/>
                  </a:lnTo>
                  <a:lnTo>
                    <a:pt x="281" y="18"/>
                  </a:lnTo>
                  <a:lnTo>
                    <a:pt x="281" y="15"/>
                  </a:lnTo>
                  <a:lnTo>
                    <a:pt x="280" y="11"/>
                  </a:lnTo>
                  <a:lnTo>
                    <a:pt x="278" y="8"/>
                  </a:lnTo>
                  <a:lnTo>
                    <a:pt x="275" y="5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4" y="1"/>
                  </a:lnTo>
                  <a:lnTo>
                    <a:pt x="250" y="3"/>
                  </a:lnTo>
                  <a:lnTo>
                    <a:pt x="256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778200" y="4214880"/>
              <a:ext cx="789120" cy="262080"/>
            </a:xfrm>
            <a:custGeom>
              <a:avLst/>
              <a:gdLst/>
              <a:ahLst/>
              <a:rect l="l" t="t" r="r" b="b"/>
              <a:pathLst>
                <a:path w="1989" h="659">
                  <a:moveTo>
                    <a:pt x="32" y="36"/>
                  </a:moveTo>
                  <a:lnTo>
                    <a:pt x="16" y="40"/>
                  </a:lnTo>
                  <a:lnTo>
                    <a:pt x="79" y="55"/>
                  </a:lnTo>
                  <a:lnTo>
                    <a:pt x="141" y="71"/>
                  </a:lnTo>
                  <a:lnTo>
                    <a:pt x="204" y="87"/>
                  </a:lnTo>
                  <a:lnTo>
                    <a:pt x="266" y="105"/>
                  </a:lnTo>
                  <a:lnTo>
                    <a:pt x="328" y="123"/>
                  </a:lnTo>
                  <a:lnTo>
                    <a:pt x="390" y="141"/>
                  </a:lnTo>
                  <a:lnTo>
                    <a:pt x="450" y="161"/>
                  </a:lnTo>
                  <a:lnTo>
                    <a:pt x="512" y="180"/>
                  </a:lnTo>
                  <a:lnTo>
                    <a:pt x="632" y="220"/>
                  </a:lnTo>
                  <a:lnTo>
                    <a:pt x="753" y="262"/>
                  </a:lnTo>
                  <a:lnTo>
                    <a:pt x="874" y="304"/>
                  </a:lnTo>
                  <a:lnTo>
                    <a:pt x="994" y="348"/>
                  </a:lnTo>
                  <a:lnTo>
                    <a:pt x="1115" y="391"/>
                  </a:lnTo>
                  <a:lnTo>
                    <a:pt x="1236" y="433"/>
                  </a:lnTo>
                  <a:lnTo>
                    <a:pt x="1357" y="475"/>
                  </a:lnTo>
                  <a:lnTo>
                    <a:pt x="1479" y="516"/>
                  </a:lnTo>
                  <a:lnTo>
                    <a:pt x="1541" y="535"/>
                  </a:lnTo>
                  <a:lnTo>
                    <a:pt x="1602" y="555"/>
                  </a:lnTo>
                  <a:lnTo>
                    <a:pt x="1665" y="573"/>
                  </a:lnTo>
                  <a:lnTo>
                    <a:pt x="1726" y="592"/>
                  </a:lnTo>
                  <a:lnTo>
                    <a:pt x="1789" y="610"/>
                  </a:lnTo>
                  <a:lnTo>
                    <a:pt x="1853" y="626"/>
                  </a:lnTo>
                  <a:lnTo>
                    <a:pt x="1915" y="642"/>
                  </a:lnTo>
                  <a:lnTo>
                    <a:pt x="1979" y="659"/>
                  </a:lnTo>
                  <a:lnTo>
                    <a:pt x="1989" y="619"/>
                  </a:lnTo>
                  <a:lnTo>
                    <a:pt x="1925" y="603"/>
                  </a:lnTo>
                  <a:lnTo>
                    <a:pt x="1862" y="587"/>
                  </a:lnTo>
                  <a:lnTo>
                    <a:pt x="1800" y="571"/>
                  </a:lnTo>
                  <a:lnTo>
                    <a:pt x="1737" y="553"/>
                  </a:lnTo>
                  <a:lnTo>
                    <a:pt x="1676" y="535"/>
                  </a:lnTo>
                  <a:lnTo>
                    <a:pt x="1614" y="516"/>
                  </a:lnTo>
                  <a:lnTo>
                    <a:pt x="1552" y="498"/>
                  </a:lnTo>
                  <a:lnTo>
                    <a:pt x="1492" y="477"/>
                  </a:lnTo>
                  <a:lnTo>
                    <a:pt x="1370" y="437"/>
                  </a:lnTo>
                  <a:lnTo>
                    <a:pt x="1249" y="395"/>
                  </a:lnTo>
                  <a:lnTo>
                    <a:pt x="1128" y="353"/>
                  </a:lnTo>
                  <a:lnTo>
                    <a:pt x="1008" y="310"/>
                  </a:lnTo>
                  <a:lnTo>
                    <a:pt x="887" y="267"/>
                  </a:lnTo>
                  <a:lnTo>
                    <a:pt x="767" y="224"/>
                  </a:lnTo>
                  <a:lnTo>
                    <a:pt x="645" y="182"/>
                  </a:lnTo>
                  <a:lnTo>
                    <a:pt x="523" y="141"/>
                  </a:lnTo>
                  <a:lnTo>
                    <a:pt x="463" y="122"/>
                  </a:lnTo>
                  <a:lnTo>
                    <a:pt x="401" y="102"/>
                  </a:lnTo>
                  <a:lnTo>
                    <a:pt x="339" y="84"/>
                  </a:lnTo>
                  <a:lnTo>
                    <a:pt x="277" y="66"/>
                  </a:lnTo>
                  <a:lnTo>
                    <a:pt x="215" y="48"/>
                  </a:lnTo>
                  <a:lnTo>
                    <a:pt x="152" y="31"/>
                  </a:lnTo>
                  <a:lnTo>
                    <a:pt x="88" y="16"/>
                  </a:lnTo>
                  <a:lnTo>
                    <a:pt x="25" y="0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2" y="38"/>
                  </a:lnTo>
                  <a:lnTo>
                    <a:pt x="16" y="40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79720" y="3651480"/>
              <a:ext cx="270000" cy="384120"/>
            </a:xfrm>
            <a:custGeom>
              <a:avLst/>
              <a:gdLst/>
              <a:ahLst/>
              <a:rect l="l" t="t" r="r" b="b"/>
              <a:pathLst>
                <a:path w="683" h="967">
                  <a:moveTo>
                    <a:pt x="0" y="257"/>
                  </a:moveTo>
                  <a:lnTo>
                    <a:pt x="195" y="563"/>
                  </a:lnTo>
                  <a:lnTo>
                    <a:pt x="97" y="804"/>
                  </a:lnTo>
                  <a:lnTo>
                    <a:pt x="452" y="967"/>
                  </a:lnTo>
                  <a:lnTo>
                    <a:pt x="683" y="534"/>
                  </a:lnTo>
                  <a:lnTo>
                    <a:pt x="268" y="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71800" y="3749760"/>
              <a:ext cx="92160" cy="133560"/>
            </a:xfrm>
            <a:custGeom>
              <a:avLst/>
              <a:gdLst/>
              <a:ahLst/>
              <a:rect l="l" t="t" r="r" b="b"/>
              <a:pathLst>
                <a:path w="232" h="338">
                  <a:moveTo>
                    <a:pt x="231" y="325"/>
                  </a:moveTo>
                  <a:lnTo>
                    <a:pt x="229" y="307"/>
                  </a:lnTo>
                  <a:lnTo>
                    <a:pt x="35" y="0"/>
                  </a:lnTo>
                  <a:lnTo>
                    <a:pt x="0" y="21"/>
                  </a:lnTo>
                  <a:lnTo>
                    <a:pt x="195" y="328"/>
                  </a:lnTo>
                  <a:lnTo>
                    <a:pt x="231" y="325"/>
                  </a:lnTo>
                  <a:lnTo>
                    <a:pt x="195" y="328"/>
                  </a:lnTo>
                  <a:lnTo>
                    <a:pt x="198" y="331"/>
                  </a:lnTo>
                  <a:lnTo>
                    <a:pt x="201" y="335"/>
                  </a:lnTo>
                  <a:lnTo>
                    <a:pt x="204" y="336"/>
                  </a:lnTo>
                  <a:lnTo>
                    <a:pt x="209" y="337"/>
                  </a:lnTo>
                  <a:lnTo>
                    <a:pt x="212" y="338"/>
                  </a:lnTo>
                  <a:lnTo>
                    <a:pt x="216" y="337"/>
                  </a:lnTo>
                  <a:lnTo>
                    <a:pt x="219" y="336"/>
                  </a:lnTo>
                  <a:lnTo>
                    <a:pt x="223" y="334"/>
                  </a:lnTo>
                  <a:lnTo>
                    <a:pt x="226" y="331"/>
                  </a:lnTo>
                  <a:lnTo>
                    <a:pt x="228" y="329"/>
                  </a:lnTo>
                  <a:lnTo>
                    <a:pt x="230" y="326"/>
                  </a:lnTo>
                  <a:lnTo>
                    <a:pt x="232" y="323"/>
                  </a:lnTo>
                  <a:lnTo>
                    <a:pt x="232" y="318"/>
                  </a:lnTo>
                  <a:lnTo>
                    <a:pt x="232" y="314"/>
                  </a:lnTo>
                  <a:lnTo>
                    <a:pt x="231" y="310"/>
                  </a:lnTo>
                  <a:lnTo>
                    <a:pt x="229" y="307"/>
                  </a:lnTo>
                  <a:lnTo>
                    <a:pt x="231" y="3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909960" y="3872160"/>
              <a:ext cx="54000" cy="108000"/>
            </a:xfrm>
            <a:custGeom>
              <a:avLst/>
              <a:gdLst/>
              <a:ahLst/>
              <a:rect l="l" t="t" r="r" b="b"/>
              <a:pathLst>
                <a:path w="138" h="269">
                  <a:moveTo>
                    <a:pt x="12" y="267"/>
                  </a:moveTo>
                  <a:lnTo>
                    <a:pt x="40" y="256"/>
                  </a:lnTo>
                  <a:lnTo>
                    <a:pt x="138" y="15"/>
                  </a:lnTo>
                  <a:lnTo>
                    <a:pt x="100" y="0"/>
                  </a:lnTo>
                  <a:lnTo>
                    <a:pt x="2" y="241"/>
                  </a:lnTo>
                  <a:lnTo>
                    <a:pt x="12" y="267"/>
                  </a:lnTo>
                  <a:lnTo>
                    <a:pt x="2" y="241"/>
                  </a:lnTo>
                  <a:lnTo>
                    <a:pt x="1" y="245"/>
                  </a:lnTo>
                  <a:lnTo>
                    <a:pt x="0" y="249"/>
                  </a:lnTo>
                  <a:lnTo>
                    <a:pt x="1" y="254"/>
                  </a:lnTo>
                  <a:lnTo>
                    <a:pt x="2" y="257"/>
                  </a:lnTo>
                  <a:lnTo>
                    <a:pt x="4" y="260"/>
                  </a:lnTo>
                  <a:lnTo>
                    <a:pt x="7" y="262"/>
                  </a:lnTo>
                  <a:lnTo>
                    <a:pt x="10" y="264"/>
                  </a:lnTo>
                  <a:lnTo>
                    <a:pt x="13" y="267"/>
                  </a:lnTo>
                  <a:lnTo>
                    <a:pt x="17" y="268"/>
                  </a:lnTo>
                  <a:lnTo>
                    <a:pt x="21" y="269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1" y="265"/>
                  </a:lnTo>
                  <a:lnTo>
                    <a:pt x="35" y="263"/>
                  </a:lnTo>
                  <a:lnTo>
                    <a:pt x="38" y="260"/>
                  </a:lnTo>
                  <a:lnTo>
                    <a:pt x="40" y="256"/>
                  </a:lnTo>
                  <a:lnTo>
                    <a:pt x="1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913200" y="3963960"/>
              <a:ext cx="152280" cy="79560"/>
            </a:xfrm>
            <a:custGeom>
              <a:avLst/>
              <a:gdLst/>
              <a:ahLst/>
              <a:rect l="l" t="t" r="r" b="b"/>
              <a:pathLst>
                <a:path w="383" h="202">
                  <a:moveTo>
                    <a:pt x="381" y="191"/>
                  </a:moveTo>
                  <a:lnTo>
                    <a:pt x="371" y="16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55" y="200"/>
                  </a:lnTo>
                  <a:lnTo>
                    <a:pt x="381" y="191"/>
                  </a:lnTo>
                  <a:lnTo>
                    <a:pt x="355" y="200"/>
                  </a:lnTo>
                  <a:lnTo>
                    <a:pt x="360" y="202"/>
                  </a:lnTo>
                  <a:lnTo>
                    <a:pt x="364" y="202"/>
                  </a:lnTo>
                  <a:lnTo>
                    <a:pt x="368" y="202"/>
                  </a:lnTo>
                  <a:lnTo>
                    <a:pt x="371" y="201"/>
                  </a:lnTo>
                  <a:lnTo>
                    <a:pt x="375" y="199"/>
                  </a:lnTo>
                  <a:lnTo>
                    <a:pt x="378" y="196"/>
                  </a:lnTo>
                  <a:lnTo>
                    <a:pt x="380" y="193"/>
                  </a:lnTo>
                  <a:lnTo>
                    <a:pt x="382" y="190"/>
                  </a:lnTo>
                  <a:lnTo>
                    <a:pt x="383" y="187"/>
                  </a:lnTo>
                  <a:lnTo>
                    <a:pt x="383" y="182"/>
                  </a:lnTo>
                  <a:lnTo>
                    <a:pt x="383" y="179"/>
                  </a:lnTo>
                  <a:lnTo>
                    <a:pt x="383" y="176"/>
                  </a:lnTo>
                  <a:lnTo>
                    <a:pt x="381" y="172"/>
                  </a:lnTo>
                  <a:lnTo>
                    <a:pt x="379" y="168"/>
                  </a:lnTo>
                  <a:lnTo>
                    <a:pt x="376" y="166"/>
                  </a:lnTo>
                  <a:lnTo>
                    <a:pt x="371" y="163"/>
                  </a:lnTo>
                  <a:lnTo>
                    <a:pt x="381" y="1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4051440" y="3856320"/>
              <a:ext cx="106200" cy="183960"/>
            </a:xfrm>
            <a:custGeom>
              <a:avLst/>
              <a:gdLst/>
              <a:ahLst/>
              <a:rect l="l" t="t" r="r" b="b"/>
              <a:pathLst>
                <a:path w="270" h="463">
                  <a:moveTo>
                    <a:pt x="266" y="7"/>
                  </a:moveTo>
                  <a:lnTo>
                    <a:pt x="232" y="10"/>
                  </a:lnTo>
                  <a:lnTo>
                    <a:pt x="0" y="445"/>
                  </a:lnTo>
                  <a:lnTo>
                    <a:pt x="36" y="463"/>
                  </a:lnTo>
                  <a:lnTo>
                    <a:pt x="267" y="30"/>
                  </a:lnTo>
                  <a:lnTo>
                    <a:pt x="266" y="7"/>
                  </a:lnTo>
                  <a:lnTo>
                    <a:pt x="267" y="30"/>
                  </a:lnTo>
                  <a:lnTo>
                    <a:pt x="269" y="26"/>
                  </a:lnTo>
                  <a:lnTo>
                    <a:pt x="270" y="21"/>
                  </a:lnTo>
                  <a:lnTo>
                    <a:pt x="270" y="17"/>
                  </a:lnTo>
                  <a:lnTo>
                    <a:pt x="269" y="13"/>
                  </a:lnTo>
                  <a:lnTo>
                    <a:pt x="267" y="9"/>
                  </a:lnTo>
                  <a:lnTo>
                    <a:pt x="265" y="7"/>
                  </a:lnTo>
                  <a:lnTo>
                    <a:pt x="262" y="4"/>
                  </a:lnTo>
                  <a:lnTo>
                    <a:pt x="260" y="2"/>
                  </a:lnTo>
                  <a:lnTo>
                    <a:pt x="255" y="1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1" y="2"/>
                  </a:lnTo>
                  <a:lnTo>
                    <a:pt x="238" y="4"/>
                  </a:lnTo>
                  <a:lnTo>
                    <a:pt x="235" y="6"/>
                  </a:lnTo>
                  <a:lnTo>
                    <a:pt x="232" y="10"/>
                  </a:lnTo>
                  <a:lnTo>
                    <a:pt x="266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976560" y="3645000"/>
              <a:ext cx="179640" cy="223920"/>
            </a:xfrm>
            <a:custGeom>
              <a:avLst/>
              <a:gdLst/>
              <a:ahLst/>
              <a:rect l="l" t="t" r="r" b="b"/>
              <a:pathLst>
                <a:path w="451" h="566">
                  <a:moveTo>
                    <a:pt x="6" y="6"/>
                  </a:moveTo>
                  <a:lnTo>
                    <a:pt x="4" y="33"/>
                  </a:lnTo>
                  <a:lnTo>
                    <a:pt x="419" y="566"/>
                  </a:lnTo>
                  <a:lnTo>
                    <a:pt x="451" y="541"/>
                  </a:lnTo>
                  <a:lnTo>
                    <a:pt x="36" y="8"/>
                  </a:lnTo>
                  <a:lnTo>
                    <a:pt x="6" y="6"/>
                  </a:lnTo>
                  <a:lnTo>
                    <a:pt x="36" y="8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70360" y="3646800"/>
              <a:ext cx="120600" cy="115560"/>
            </a:xfrm>
            <a:custGeom>
              <a:avLst/>
              <a:gdLst/>
              <a:ahLst/>
              <a:rect l="l" t="t" r="r" b="b"/>
              <a:pathLst>
                <a:path w="302" h="291">
                  <a:moveTo>
                    <a:pt x="3" y="281"/>
                  </a:moveTo>
                  <a:lnTo>
                    <a:pt x="35" y="285"/>
                  </a:lnTo>
                  <a:lnTo>
                    <a:pt x="302" y="29"/>
                  </a:lnTo>
                  <a:lnTo>
                    <a:pt x="274" y="0"/>
                  </a:lnTo>
                  <a:lnTo>
                    <a:pt x="6" y="255"/>
                  </a:lnTo>
                  <a:lnTo>
                    <a:pt x="3" y="281"/>
                  </a:lnTo>
                  <a:lnTo>
                    <a:pt x="6" y="255"/>
                  </a:lnTo>
                  <a:lnTo>
                    <a:pt x="3" y="260"/>
                  </a:lnTo>
                  <a:lnTo>
                    <a:pt x="1" y="263"/>
                  </a:lnTo>
                  <a:lnTo>
                    <a:pt x="0" y="267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2" y="278"/>
                  </a:lnTo>
                  <a:lnTo>
                    <a:pt x="3" y="281"/>
                  </a:lnTo>
                  <a:lnTo>
                    <a:pt x="6" y="285"/>
                  </a:lnTo>
                  <a:lnTo>
                    <a:pt x="9" y="287"/>
                  </a:lnTo>
                  <a:lnTo>
                    <a:pt x="12" y="289"/>
                  </a:lnTo>
                  <a:lnTo>
                    <a:pt x="15" y="290"/>
                  </a:lnTo>
                  <a:lnTo>
                    <a:pt x="19" y="291"/>
                  </a:lnTo>
                  <a:lnTo>
                    <a:pt x="23" y="291"/>
                  </a:lnTo>
                  <a:lnTo>
                    <a:pt x="27" y="290"/>
                  </a:lnTo>
                  <a:lnTo>
                    <a:pt x="30" y="288"/>
                  </a:lnTo>
                  <a:lnTo>
                    <a:pt x="35" y="285"/>
                  </a:lnTo>
                  <a:lnTo>
                    <a:pt x="3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975120" y="3864240"/>
              <a:ext cx="7920" cy="15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0" y="0"/>
                  </a:moveTo>
                  <a:lnTo>
                    <a:pt x="15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2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1" y="4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983040" y="3859200"/>
              <a:ext cx="158760" cy="20880"/>
            </a:xfrm>
            <a:custGeom>
              <a:avLst/>
              <a:gdLst/>
              <a:ahLst/>
              <a:rect l="l" t="t" r="r" b="b"/>
              <a:pathLst>
                <a:path w="400" h="54">
                  <a:moveTo>
                    <a:pt x="399" y="0"/>
                  </a:moveTo>
                  <a:lnTo>
                    <a:pt x="0" y="14"/>
                  </a:lnTo>
                  <a:lnTo>
                    <a:pt x="1" y="54"/>
                  </a:lnTo>
                  <a:lnTo>
                    <a:pt x="400" y="4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4141800" y="3859200"/>
              <a:ext cx="7920" cy="162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1" y="41"/>
                  </a:moveTo>
                  <a:lnTo>
                    <a:pt x="6" y="40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30"/>
                  </a:lnTo>
                  <a:lnTo>
                    <a:pt x="20" y="27"/>
                  </a:lnTo>
                  <a:lnTo>
                    <a:pt x="21" y="24"/>
                  </a:lnTo>
                  <a:lnTo>
                    <a:pt x="21" y="20"/>
                  </a:lnTo>
                  <a:lnTo>
                    <a:pt x="20" y="16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027240" y="3319560"/>
              <a:ext cx="498600" cy="1062000"/>
            </a:xfrm>
            <a:custGeom>
              <a:avLst/>
              <a:gdLst/>
              <a:ahLst/>
              <a:rect l="l" t="t" r="r" b="b"/>
              <a:pathLst>
                <a:path w="1256" h="2674">
                  <a:moveTo>
                    <a:pt x="634" y="2674"/>
                  </a:moveTo>
                  <a:lnTo>
                    <a:pt x="709" y="2596"/>
                  </a:lnTo>
                  <a:lnTo>
                    <a:pt x="786" y="2516"/>
                  </a:lnTo>
                  <a:lnTo>
                    <a:pt x="865" y="2435"/>
                  </a:lnTo>
                  <a:lnTo>
                    <a:pt x="945" y="2354"/>
                  </a:lnTo>
                  <a:lnTo>
                    <a:pt x="1023" y="2272"/>
                  </a:lnTo>
                  <a:lnTo>
                    <a:pt x="1102" y="2191"/>
                  </a:lnTo>
                  <a:lnTo>
                    <a:pt x="1180" y="2111"/>
                  </a:lnTo>
                  <a:lnTo>
                    <a:pt x="1256" y="2032"/>
                  </a:lnTo>
                  <a:lnTo>
                    <a:pt x="1133" y="1779"/>
                  </a:lnTo>
                  <a:lnTo>
                    <a:pt x="1006" y="1526"/>
                  </a:lnTo>
                  <a:lnTo>
                    <a:pt x="878" y="1272"/>
                  </a:lnTo>
                  <a:lnTo>
                    <a:pt x="748" y="1017"/>
                  </a:lnTo>
                  <a:lnTo>
                    <a:pt x="620" y="762"/>
                  </a:lnTo>
                  <a:lnTo>
                    <a:pt x="491" y="508"/>
                  </a:lnTo>
                  <a:lnTo>
                    <a:pt x="427" y="381"/>
                  </a:lnTo>
                  <a:lnTo>
                    <a:pt x="365" y="253"/>
                  </a:lnTo>
                  <a:lnTo>
                    <a:pt x="302" y="127"/>
                  </a:lnTo>
                  <a:lnTo>
                    <a:pt x="241" y="1"/>
                  </a:lnTo>
                  <a:lnTo>
                    <a:pt x="222" y="0"/>
                  </a:lnTo>
                  <a:lnTo>
                    <a:pt x="205" y="1"/>
                  </a:lnTo>
                  <a:lnTo>
                    <a:pt x="188" y="2"/>
                  </a:lnTo>
                  <a:lnTo>
                    <a:pt x="171" y="4"/>
                  </a:lnTo>
                  <a:lnTo>
                    <a:pt x="156" y="7"/>
                  </a:lnTo>
                  <a:lnTo>
                    <a:pt x="141" y="11"/>
                  </a:lnTo>
                  <a:lnTo>
                    <a:pt x="127" y="17"/>
                  </a:lnTo>
                  <a:lnTo>
                    <a:pt x="114" y="22"/>
                  </a:lnTo>
                  <a:lnTo>
                    <a:pt x="101" y="30"/>
                  </a:lnTo>
                  <a:lnTo>
                    <a:pt x="89" y="37"/>
                  </a:lnTo>
                  <a:lnTo>
                    <a:pt x="79" y="46"/>
                  </a:lnTo>
                  <a:lnTo>
                    <a:pt x="68" y="56"/>
                  </a:lnTo>
                  <a:lnTo>
                    <a:pt x="59" y="67"/>
                  </a:lnTo>
                  <a:lnTo>
                    <a:pt x="49" y="77"/>
                  </a:lnTo>
                  <a:lnTo>
                    <a:pt x="42" y="90"/>
                  </a:lnTo>
                  <a:lnTo>
                    <a:pt x="34" y="103"/>
                  </a:lnTo>
                  <a:lnTo>
                    <a:pt x="28" y="117"/>
                  </a:lnTo>
                  <a:lnTo>
                    <a:pt x="21" y="132"/>
                  </a:lnTo>
                  <a:lnTo>
                    <a:pt x="16" y="149"/>
                  </a:lnTo>
                  <a:lnTo>
                    <a:pt x="12" y="166"/>
                  </a:lnTo>
                  <a:lnTo>
                    <a:pt x="8" y="183"/>
                  </a:lnTo>
                  <a:lnTo>
                    <a:pt x="5" y="202"/>
                  </a:lnTo>
                  <a:lnTo>
                    <a:pt x="3" y="222"/>
                  </a:lnTo>
                  <a:lnTo>
                    <a:pt x="1" y="243"/>
                  </a:lnTo>
                  <a:lnTo>
                    <a:pt x="0" y="264"/>
                  </a:lnTo>
                  <a:lnTo>
                    <a:pt x="0" y="286"/>
                  </a:lnTo>
                  <a:lnTo>
                    <a:pt x="0" y="310"/>
                  </a:lnTo>
                  <a:lnTo>
                    <a:pt x="1" y="333"/>
                  </a:lnTo>
                  <a:lnTo>
                    <a:pt x="3" y="359"/>
                  </a:lnTo>
                  <a:lnTo>
                    <a:pt x="6" y="385"/>
                  </a:lnTo>
                  <a:lnTo>
                    <a:pt x="10" y="412"/>
                  </a:lnTo>
                  <a:lnTo>
                    <a:pt x="13" y="440"/>
                  </a:lnTo>
                  <a:lnTo>
                    <a:pt x="39" y="532"/>
                  </a:lnTo>
                  <a:lnTo>
                    <a:pt x="107" y="777"/>
                  </a:lnTo>
                  <a:lnTo>
                    <a:pt x="204" y="1124"/>
                  </a:lnTo>
                  <a:lnTo>
                    <a:pt x="315" y="1525"/>
                  </a:lnTo>
                  <a:lnTo>
                    <a:pt x="427" y="1930"/>
                  </a:lnTo>
                  <a:lnTo>
                    <a:pt x="527" y="2288"/>
                  </a:lnTo>
                  <a:lnTo>
                    <a:pt x="600" y="2553"/>
                  </a:lnTo>
                  <a:lnTo>
                    <a:pt x="634" y="2674"/>
                  </a:lnTo>
                  <a:close/>
                </a:path>
              </a:pathLst>
            </a:custGeom>
            <a:solidFill>
              <a:srgbClr val="7d5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273480" y="4118040"/>
              <a:ext cx="260280" cy="268200"/>
            </a:xfrm>
            <a:custGeom>
              <a:avLst/>
              <a:gdLst/>
              <a:ahLst/>
              <a:rect l="l" t="t" r="r" b="b"/>
              <a:pathLst>
                <a:path w="657" h="676">
                  <a:moveTo>
                    <a:pt x="619" y="29"/>
                  </a:moveTo>
                  <a:lnTo>
                    <a:pt x="623" y="6"/>
                  </a:lnTo>
                  <a:lnTo>
                    <a:pt x="547" y="85"/>
                  </a:lnTo>
                  <a:lnTo>
                    <a:pt x="469" y="165"/>
                  </a:lnTo>
                  <a:lnTo>
                    <a:pt x="390" y="246"/>
                  </a:lnTo>
                  <a:lnTo>
                    <a:pt x="311" y="328"/>
                  </a:lnTo>
                  <a:lnTo>
                    <a:pt x="232" y="409"/>
                  </a:lnTo>
                  <a:lnTo>
                    <a:pt x="153" y="490"/>
                  </a:lnTo>
                  <a:lnTo>
                    <a:pt x="75" y="570"/>
                  </a:lnTo>
                  <a:lnTo>
                    <a:pt x="0" y="648"/>
                  </a:lnTo>
                  <a:lnTo>
                    <a:pt x="30" y="676"/>
                  </a:lnTo>
                  <a:lnTo>
                    <a:pt x="104" y="598"/>
                  </a:lnTo>
                  <a:lnTo>
                    <a:pt x="181" y="518"/>
                  </a:lnTo>
                  <a:lnTo>
                    <a:pt x="260" y="437"/>
                  </a:lnTo>
                  <a:lnTo>
                    <a:pt x="340" y="356"/>
                  </a:lnTo>
                  <a:lnTo>
                    <a:pt x="420" y="274"/>
                  </a:lnTo>
                  <a:lnTo>
                    <a:pt x="498" y="193"/>
                  </a:lnTo>
                  <a:lnTo>
                    <a:pt x="576" y="113"/>
                  </a:lnTo>
                  <a:lnTo>
                    <a:pt x="652" y="34"/>
                  </a:lnTo>
                  <a:lnTo>
                    <a:pt x="655" y="11"/>
                  </a:lnTo>
                  <a:lnTo>
                    <a:pt x="652" y="34"/>
                  </a:lnTo>
                  <a:lnTo>
                    <a:pt x="655" y="30"/>
                  </a:lnTo>
                  <a:lnTo>
                    <a:pt x="656" y="27"/>
                  </a:lnTo>
                  <a:lnTo>
                    <a:pt x="657" y="22"/>
                  </a:lnTo>
                  <a:lnTo>
                    <a:pt x="657" y="19"/>
                  </a:lnTo>
                  <a:lnTo>
                    <a:pt x="657" y="15"/>
                  </a:lnTo>
                  <a:lnTo>
                    <a:pt x="656" y="11"/>
                  </a:lnTo>
                  <a:lnTo>
                    <a:pt x="654" y="8"/>
                  </a:lnTo>
                  <a:lnTo>
                    <a:pt x="651" y="5"/>
                  </a:lnTo>
                  <a:lnTo>
                    <a:pt x="648" y="3"/>
                  </a:lnTo>
                  <a:lnTo>
                    <a:pt x="645" y="2"/>
                  </a:lnTo>
                  <a:lnTo>
                    <a:pt x="641" y="0"/>
                  </a:lnTo>
                  <a:lnTo>
                    <a:pt x="638" y="0"/>
                  </a:lnTo>
                  <a:lnTo>
                    <a:pt x="633" y="0"/>
                  </a:lnTo>
                  <a:lnTo>
                    <a:pt x="630" y="1"/>
                  </a:lnTo>
                  <a:lnTo>
                    <a:pt x="626" y="3"/>
                  </a:lnTo>
                  <a:lnTo>
                    <a:pt x="623" y="6"/>
                  </a:lnTo>
                  <a:lnTo>
                    <a:pt x="619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114720" y="3311640"/>
              <a:ext cx="417600" cy="817560"/>
            </a:xfrm>
            <a:custGeom>
              <a:avLst/>
              <a:gdLst/>
              <a:ahLst/>
              <a:rect l="l" t="t" r="r" b="b"/>
              <a:pathLst>
                <a:path w="1054" h="2061">
                  <a:moveTo>
                    <a:pt x="20" y="41"/>
                  </a:moveTo>
                  <a:lnTo>
                    <a:pt x="2" y="29"/>
                  </a:lnTo>
                  <a:lnTo>
                    <a:pt x="64" y="156"/>
                  </a:lnTo>
                  <a:lnTo>
                    <a:pt x="126" y="283"/>
                  </a:lnTo>
                  <a:lnTo>
                    <a:pt x="189" y="409"/>
                  </a:lnTo>
                  <a:lnTo>
                    <a:pt x="253" y="537"/>
                  </a:lnTo>
                  <a:lnTo>
                    <a:pt x="381" y="792"/>
                  </a:lnTo>
                  <a:lnTo>
                    <a:pt x="511" y="1047"/>
                  </a:lnTo>
                  <a:lnTo>
                    <a:pt x="639" y="1300"/>
                  </a:lnTo>
                  <a:lnTo>
                    <a:pt x="768" y="1554"/>
                  </a:lnTo>
                  <a:lnTo>
                    <a:pt x="894" y="1808"/>
                  </a:lnTo>
                  <a:lnTo>
                    <a:pt x="1018" y="2061"/>
                  </a:lnTo>
                  <a:lnTo>
                    <a:pt x="1054" y="2043"/>
                  </a:lnTo>
                  <a:lnTo>
                    <a:pt x="931" y="1791"/>
                  </a:lnTo>
                  <a:lnTo>
                    <a:pt x="803" y="1537"/>
                  </a:lnTo>
                  <a:lnTo>
                    <a:pt x="676" y="1282"/>
                  </a:lnTo>
                  <a:lnTo>
                    <a:pt x="546" y="1028"/>
                  </a:lnTo>
                  <a:lnTo>
                    <a:pt x="417" y="773"/>
                  </a:lnTo>
                  <a:lnTo>
                    <a:pt x="288" y="519"/>
                  </a:lnTo>
                  <a:lnTo>
                    <a:pt x="226" y="392"/>
                  </a:lnTo>
                  <a:lnTo>
                    <a:pt x="162" y="265"/>
                  </a:lnTo>
                  <a:lnTo>
                    <a:pt x="100" y="138"/>
                  </a:lnTo>
                  <a:lnTo>
                    <a:pt x="39" y="12"/>
                  </a:lnTo>
                  <a:lnTo>
                    <a:pt x="22" y="0"/>
                  </a:lnTo>
                  <a:lnTo>
                    <a:pt x="39" y="12"/>
                  </a:lnTo>
                  <a:lnTo>
                    <a:pt x="36" y="8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0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>
              <a:off x="3019320" y="3311640"/>
              <a:ext cx="103320" cy="190440"/>
            </a:xfrm>
            <a:custGeom>
              <a:avLst/>
              <a:gdLst/>
              <a:ahLst/>
              <a:rect l="l" t="t" r="r" b="b"/>
              <a:pathLst>
                <a:path w="263" h="481">
                  <a:moveTo>
                    <a:pt x="53" y="455"/>
                  </a:moveTo>
                  <a:lnTo>
                    <a:pt x="54" y="457"/>
                  </a:lnTo>
                  <a:lnTo>
                    <a:pt x="50" y="430"/>
                  </a:lnTo>
                  <a:lnTo>
                    <a:pt x="47" y="403"/>
                  </a:lnTo>
                  <a:lnTo>
                    <a:pt x="45" y="377"/>
                  </a:lnTo>
                  <a:lnTo>
                    <a:pt x="42" y="352"/>
                  </a:lnTo>
                  <a:lnTo>
                    <a:pt x="41" y="328"/>
                  </a:lnTo>
                  <a:lnTo>
                    <a:pt x="41" y="306"/>
                  </a:lnTo>
                  <a:lnTo>
                    <a:pt x="41" y="284"/>
                  </a:lnTo>
                  <a:lnTo>
                    <a:pt x="42" y="264"/>
                  </a:lnTo>
                  <a:lnTo>
                    <a:pt x="43" y="244"/>
                  </a:lnTo>
                  <a:lnTo>
                    <a:pt x="46" y="225"/>
                  </a:lnTo>
                  <a:lnTo>
                    <a:pt x="49" y="207"/>
                  </a:lnTo>
                  <a:lnTo>
                    <a:pt x="52" y="190"/>
                  </a:lnTo>
                  <a:lnTo>
                    <a:pt x="56" y="174"/>
                  </a:lnTo>
                  <a:lnTo>
                    <a:pt x="62" y="159"/>
                  </a:lnTo>
                  <a:lnTo>
                    <a:pt x="67" y="145"/>
                  </a:lnTo>
                  <a:lnTo>
                    <a:pt x="74" y="132"/>
                  </a:lnTo>
                  <a:lnTo>
                    <a:pt x="80" y="120"/>
                  </a:lnTo>
                  <a:lnTo>
                    <a:pt x="88" y="109"/>
                  </a:lnTo>
                  <a:lnTo>
                    <a:pt x="95" y="99"/>
                  </a:lnTo>
                  <a:lnTo>
                    <a:pt x="104" y="90"/>
                  </a:lnTo>
                  <a:lnTo>
                    <a:pt x="113" y="81"/>
                  </a:lnTo>
                  <a:lnTo>
                    <a:pt x="122" y="74"/>
                  </a:lnTo>
                  <a:lnTo>
                    <a:pt x="133" y="67"/>
                  </a:lnTo>
                  <a:lnTo>
                    <a:pt x="144" y="61"/>
                  </a:lnTo>
                  <a:lnTo>
                    <a:pt x="156" y="55"/>
                  </a:lnTo>
                  <a:lnTo>
                    <a:pt x="169" y="51"/>
                  </a:lnTo>
                  <a:lnTo>
                    <a:pt x="182" y="47"/>
                  </a:lnTo>
                  <a:lnTo>
                    <a:pt x="196" y="44"/>
                  </a:lnTo>
                  <a:lnTo>
                    <a:pt x="211" y="42"/>
                  </a:lnTo>
                  <a:lnTo>
                    <a:pt x="226" y="41"/>
                  </a:lnTo>
                  <a:lnTo>
                    <a:pt x="243" y="40"/>
                  </a:lnTo>
                  <a:lnTo>
                    <a:pt x="261" y="41"/>
                  </a:lnTo>
                  <a:lnTo>
                    <a:pt x="263" y="0"/>
                  </a:lnTo>
                  <a:lnTo>
                    <a:pt x="243" y="0"/>
                  </a:lnTo>
                  <a:lnTo>
                    <a:pt x="225" y="0"/>
                  </a:lnTo>
                  <a:lnTo>
                    <a:pt x="207" y="2"/>
                  </a:lnTo>
                  <a:lnTo>
                    <a:pt x="189" y="4"/>
                  </a:lnTo>
                  <a:lnTo>
                    <a:pt x="172" y="8"/>
                  </a:lnTo>
                  <a:lnTo>
                    <a:pt x="156" y="12"/>
                  </a:lnTo>
                  <a:lnTo>
                    <a:pt x="141" y="17"/>
                  </a:lnTo>
                  <a:lnTo>
                    <a:pt x="126" y="25"/>
                  </a:lnTo>
                  <a:lnTo>
                    <a:pt x="111" y="33"/>
                  </a:lnTo>
                  <a:lnTo>
                    <a:pt x="99" y="41"/>
                  </a:lnTo>
                  <a:lnTo>
                    <a:pt x="87" y="51"/>
                  </a:lnTo>
                  <a:lnTo>
                    <a:pt x="75" y="62"/>
                  </a:lnTo>
                  <a:lnTo>
                    <a:pt x="64" y="74"/>
                  </a:lnTo>
                  <a:lnTo>
                    <a:pt x="54" y="85"/>
                  </a:lnTo>
                  <a:lnTo>
                    <a:pt x="46" y="99"/>
                  </a:lnTo>
                  <a:lnTo>
                    <a:pt x="37" y="114"/>
                  </a:lnTo>
                  <a:lnTo>
                    <a:pt x="31" y="130"/>
                  </a:lnTo>
                  <a:lnTo>
                    <a:pt x="24" y="146"/>
                  </a:lnTo>
                  <a:lnTo>
                    <a:pt x="18" y="163"/>
                  </a:lnTo>
                  <a:lnTo>
                    <a:pt x="13" y="180"/>
                  </a:lnTo>
                  <a:lnTo>
                    <a:pt x="9" y="200"/>
                  </a:lnTo>
                  <a:lnTo>
                    <a:pt x="6" y="219"/>
                  </a:lnTo>
                  <a:lnTo>
                    <a:pt x="4" y="240"/>
                  </a:lnTo>
                  <a:lnTo>
                    <a:pt x="1" y="261"/>
                  </a:lnTo>
                  <a:lnTo>
                    <a:pt x="1" y="283"/>
                  </a:lnTo>
                  <a:lnTo>
                    <a:pt x="0" y="306"/>
                  </a:lnTo>
                  <a:lnTo>
                    <a:pt x="1" y="331"/>
                  </a:lnTo>
                  <a:lnTo>
                    <a:pt x="2" y="355"/>
                  </a:lnTo>
                  <a:lnTo>
                    <a:pt x="5" y="380"/>
                  </a:lnTo>
                  <a:lnTo>
                    <a:pt x="7" y="407"/>
                  </a:lnTo>
                  <a:lnTo>
                    <a:pt x="10" y="434"/>
                  </a:lnTo>
                  <a:lnTo>
                    <a:pt x="14" y="463"/>
                  </a:lnTo>
                  <a:lnTo>
                    <a:pt x="14" y="466"/>
                  </a:lnTo>
                  <a:lnTo>
                    <a:pt x="14" y="463"/>
                  </a:lnTo>
                  <a:lnTo>
                    <a:pt x="15" y="468"/>
                  </a:lnTo>
                  <a:lnTo>
                    <a:pt x="18" y="471"/>
                  </a:lnTo>
                  <a:lnTo>
                    <a:pt x="20" y="474"/>
                  </a:lnTo>
                  <a:lnTo>
                    <a:pt x="23" y="477"/>
                  </a:lnTo>
                  <a:lnTo>
                    <a:pt x="26" y="479"/>
                  </a:lnTo>
                  <a:lnTo>
                    <a:pt x="29" y="480"/>
                  </a:lnTo>
                  <a:lnTo>
                    <a:pt x="34" y="481"/>
                  </a:lnTo>
                  <a:lnTo>
                    <a:pt x="37" y="480"/>
                  </a:lnTo>
                  <a:lnTo>
                    <a:pt x="41" y="479"/>
                  </a:lnTo>
                  <a:lnTo>
                    <a:pt x="45" y="477"/>
                  </a:lnTo>
                  <a:lnTo>
                    <a:pt x="48" y="475"/>
                  </a:lnTo>
                  <a:lnTo>
                    <a:pt x="50" y="473"/>
                  </a:lnTo>
                  <a:lnTo>
                    <a:pt x="52" y="470"/>
                  </a:lnTo>
                  <a:lnTo>
                    <a:pt x="53" y="466"/>
                  </a:lnTo>
                  <a:lnTo>
                    <a:pt x="54" y="461"/>
                  </a:lnTo>
                  <a:lnTo>
                    <a:pt x="54" y="457"/>
                  </a:lnTo>
                  <a:lnTo>
                    <a:pt x="53" y="4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2" name=""/>
            <p:cNvSpPr/>
            <p:nvPr/>
          </p:nvSpPr>
          <p:spPr>
            <a:xfrm>
              <a:off x="3024360" y="3492720"/>
              <a:ext cx="263520" cy="896760"/>
            </a:xfrm>
            <a:custGeom>
              <a:avLst/>
              <a:gdLst/>
              <a:ahLst/>
              <a:rect l="l" t="t" r="r" b="b"/>
              <a:pathLst>
                <a:path w="661" h="2259">
                  <a:moveTo>
                    <a:pt x="626" y="2225"/>
                  </a:moveTo>
                  <a:lnTo>
                    <a:pt x="660" y="2234"/>
                  </a:lnTo>
                  <a:lnTo>
                    <a:pt x="627" y="2112"/>
                  </a:lnTo>
                  <a:lnTo>
                    <a:pt x="553" y="1848"/>
                  </a:lnTo>
                  <a:lnTo>
                    <a:pt x="454" y="1489"/>
                  </a:lnTo>
                  <a:lnTo>
                    <a:pt x="342" y="1084"/>
                  </a:lnTo>
                  <a:lnTo>
                    <a:pt x="230" y="683"/>
                  </a:lnTo>
                  <a:lnTo>
                    <a:pt x="133" y="337"/>
                  </a:lnTo>
                  <a:lnTo>
                    <a:pt x="65" y="92"/>
                  </a:lnTo>
                  <a:lnTo>
                    <a:pt x="39" y="0"/>
                  </a:lnTo>
                  <a:lnTo>
                    <a:pt x="0" y="11"/>
                  </a:lnTo>
                  <a:lnTo>
                    <a:pt x="26" y="102"/>
                  </a:lnTo>
                  <a:lnTo>
                    <a:pt x="94" y="348"/>
                  </a:lnTo>
                  <a:lnTo>
                    <a:pt x="191" y="694"/>
                  </a:lnTo>
                  <a:lnTo>
                    <a:pt x="303" y="1095"/>
                  </a:lnTo>
                  <a:lnTo>
                    <a:pt x="415" y="1499"/>
                  </a:lnTo>
                  <a:lnTo>
                    <a:pt x="514" y="1858"/>
                  </a:lnTo>
                  <a:lnTo>
                    <a:pt x="588" y="2123"/>
                  </a:lnTo>
                  <a:lnTo>
                    <a:pt x="621" y="2244"/>
                  </a:lnTo>
                  <a:lnTo>
                    <a:pt x="656" y="2253"/>
                  </a:lnTo>
                  <a:lnTo>
                    <a:pt x="621" y="2244"/>
                  </a:lnTo>
                  <a:lnTo>
                    <a:pt x="622" y="2248"/>
                  </a:lnTo>
                  <a:lnTo>
                    <a:pt x="626" y="2253"/>
                  </a:lnTo>
                  <a:lnTo>
                    <a:pt x="628" y="2255"/>
                  </a:lnTo>
                  <a:lnTo>
                    <a:pt x="631" y="2257"/>
                  </a:lnTo>
                  <a:lnTo>
                    <a:pt x="634" y="2258"/>
                  </a:lnTo>
                  <a:lnTo>
                    <a:pt x="638" y="2259"/>
                  </a:lnTo>
                  <a:lnTo>
                    <a:pt x="642" y="2259"/>
                  </a:lnTo>
                  <a:lnTo>
                    <a:pt x="646" y="2258"/>
                  </a:lnTo>
                  <a:lnTo>
                    <a:pt x="649" y="2257"/>
                  </a:lnTo>
                  <a:lnTo>
                    <a:pt x="653" y="2255"/>
                  </a:lnTo>
                  <a:lnTo>
                    <a:pt x="656" y="2253"/>
                  </a:lnTo>
                  <a:lnTo>
                    <a:pt x="658" y="2251"/>
                  </a:lnTo>
                  <a:lnTo>
                    <a:pt x="660" y="2246"/>
                  </a:lnTo>
                  <a:lnTo>
                    <a:pt x="661" y="2243"/>
                  </a:lnTo>
                  <a:lnTo>
                    <a:pt x="661" y="2239"/>
                  </a:lnTo>
                  <a:lnTo>
                    <a:pt x="660" y="2234"/>
                  </a:lnTo>
                  <a:lnTo>
                    <a:pt x="626" y="22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405240" y="4141800"/>
              <a:ext cx="377640" cy="247680"/>
            </a:xfrm>
            <a:custGeom>
              <a:avLst/>
              <a:gdLst/>
              <a:ahLst/>
              <a:rect l="l" t="t" r="r" b="b"/>
              <a:pathLst>
                <a:path w="955" h="623">
                  <a:moveTo>
                    <a:pt x="0" y="263"/>
                  </a:moveTo>
                  <a:lnTo>
                    <a:pt x="444" y="623"/>
                  </a:lnTo>
                  <a:lnTo>
                    <a:pt x="955" y="548"/>
                  </a:lnTo>
                  <a:lnTo>
                    <a:pt x="955" y="188"/>
                  </a:lnTo>
                  <a:lnTo>
                    <a:pt x="571" y="159"/>
                  </a:lnTo>
                  <a:lnTo>
                    <a:pt x="242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400560" y="4240440"/>
              <a:ext cx="188640" cy="156960"/>
            </a:xfrm>
            <a:custGeom>
              <a:avLst/>
              <a:gdLst/>
              <a:ahLst/>
              <a:rect l="l" t="t" r="r" b="b"/>
              <a:pathLst>
                <a:path w="476" h="397">
                  <a:moveTo>
                    <a:pt x="459" y="396"/>
                  </a:moveTo>
                  <a:lnTo>
                    <a:pt x="469" y="360"/>
                  </a:lnTo>
                  <a:lnTo>
                    <a:pt x="25" y="0"/>
                  </a:lnTo>
                  <a:lnTo>
                    <a:pt x="0" y="32"/>
                  </a:lnTo>
                  <a:lnTo>
                    <a:pt x="443" y="391"/>
                  </a:lnTo>
                  <a:lnTo>
                    <a:pt x="459" y="396"/>
                  </a:lnTo>
                  <a:lnTo>
                    <a:pt x="443" y="391"/>
                  </a:lnTo>
                  <a:lnTo>
                    <a:pt x="447" y="395"/>
                  </a:lnTo>
                  <a:lnTo>
                    <a:pt x="452" y="396"/>
                  </a:lnTo>
                  <a:lnTo>
                    <a:pt x="455" y="397"/>
                  </a:lnTo>
                  <a:lnTo>
                    <a:pt x="459" y="397"/>
                  </a:lnTo>
                  <a:lnTo>
                    <a:pt x="462" y="396"/>
                  </a:lnTo>
                  <a:lnTo>
                    <a:pt x="466" y="394"/>
                  </a:lnTo>
                  <a:lnTo>
                    <a:pt x="469" y="391"/>
                  </a:lnTo>
                  <a:lnTo>
                    <a:pt x="471" y="389"/>
                  </a:lnTo>
                  <a:lnTo>
                    <a:pt x="473" y="386"/>
                  </a:lnTo>
                  <a:lnTo>
                    <a:pt x="475" y="383"/>
                  </a:lnTo>
                  <a:lnTo>
                    <a:pt x="476" y="378"/>
                  </a:lnTo>
                  <a:lnTo>
                    <a:pt x="476" y="375"/>
                  </a:lnTo>
                  <a:lnTo>
                    <a:pt x="475" y="371"/>
                  </a:lnTo>
                  <a:lnTo>
                    <a:pt x="474" y="368"/>
                  </a:lnTo>
                  <a:lnTo>
                    <a:pt x="472" y="364"/>
                  </a:lnTo>
                  <a:lnTo>
                    <a:pt x="469" y="360"/>
                  </a:lnTo>
                  <a:lnTo>
                    <a:pt x="459" y="3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579840" y="4351320"/>
              <a:ext cx="212760" cy="46080"/>
            </a:xfrm>
            <a:custGeom>
              <a:avLst/>
              <a:gdLst/>
              <a:ahLst/>
              <a:rect l="l" t="t" r="r" b="b"/>
              <a:pathLst>
                <a:path w="534" h="115">
                  <a:moveTo>
                    <a:pt x="534" y="20"/>
                  </a:moveTo>
                  <a:lnTo>
                    <a:pt x="510" y="0"/>
                  </a:lnTo>
                  <a:lnTo>
                    <a:pt x="0" y="75"/>
                  </a:lnTo>
                  <a:lnTo>
                    <a:pt x="6" y="115"/>
                  </a:lnTo>
                  <a:lnTo>
                    <a:pt x="517" y="40"/>
                  </a:lnTo>
                  <a:lnTo>
                    <a:pt x="534" y="20"/>
                  </a:lnTo>
                  <a:lnTo>
                    <a:pt x="517" y="40"/>
                  </a:lnTo>
                  <a:lnTo>
                    <a:pt x="521" y="39"/>
                  </a:lnTo>
                  <a:lnTo>
                    <a:pt x="524" y="37"/>
                  </a:lnTo>
                  <a:lnTo>
                    <a:pt x="528" y="35"/>
                  </a:lnTo>
                  <a:lnTo>
                    <a:pt x="531" y="32"/>
                  </a:lnTo>
                  <a:lnTo>
                    <a:pt x="532" y="28"/>
                  </a:lnTo>
                  <a:lnTo>
                    <a:pt x="533" y="25"/>
                  </a:lnTo>
                  <a:lnTo>
                    <a:pt x="534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1" y="10"/>
                  </a:lnTo>
                  <a:lnTo>
                    <a:pt x="529" y="7"/>
                  </a:lnTo>
                  <a:lnTo>
                    <a:pt x="527" y="5"/>
                  </a:lnTo>
                  <a:lnTo>
                    <a:pt x="523" y="2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0" y="0"/>
                  </a:lnTo>
                  <a:lnTo>
                    <a:pt x="534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774960" y="4208760"/>
              <a:ext cx="17640" cy="150840"/>
            </a:xfrm>
            <a:custGeom>
              <a:avLst/>
              <a:gdLst/>
              <a:ahLst/>
              <a:rect l="l" t="t" r="r" b="b"/>
              <a:pathLst>
                <a:path w="41" h="381">
                  <a:moveTo>
                    <a:pt x="22" y="0"/>
                  </a:moveTo>
                  <a:lnTo>
                    <a:pt x="0" y="21"/>
                  </a:lnTo>
                  <a:lnTo>
                    <a:pt x="0" y="381"/>
                  </a:lnTo>
                  <a:lnTo>
                    <a:pt x="41" y="381"/>
                  </a:lnTo>
                  <a:lnTo>
                    <a:pt x="41" y="21"/>
                  </a:lnTo>
                  <a:lnTo>
                    <a:pt x="22" y="0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622680" y="4197600"/>
              <a:ext cx="162000" cy="27000"/>
            </a:xfrm>
            <a:custGeom>
              <a:avLst/>
              <a:gdLst/>
              <a:ahLst/>
              <a:rect l="l" t="t" r="r" b="b"/>
              <a:pathLst>
                <a:path w="405" h="69">
                  <a:moveTo>
                    <a:pt x="12" y="39"/>
                  </a:moveTo>
                  <a:lnTo>
                    <a:pt x="18" y="40"/>
                  </a:lnTo>
                  <a:lnTo>
                    <a:pt x="403" y="69"/>
                  </a:lnTo>
                  <a:lnTo>
                    <a:pt x="405" y="29"/>
                  </a:lnTo>
                  <a:lnTo>
                    <a:pt x="21" y="0"/>
                  </a:lnTo>
                  <a:lnTo>
                    <a:pt x="12" y="39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8" y="40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492360" y="4133880"/>
              <a:ext cx="142920" cy="79560"/>
            </a:xfrm>
            <a:custGeom>
              <a:avLst/>
              <a:gdLst/>
              <a:ahLst/>
              <a:rect l="l" t="t" r="r" b="b"/>
              <a:pathLst>
                <a:path w="359" h="196">
                  <a:moveTo>
                    <a:pt x="6" y="6"/>
                  </a:moveTo>
                  <a:lnTo>
                    <a:pt x="12" y="37"/>
                  </a:lnTo>
                  <a:lnTo>
                    <a:pt x="342" y="196"/>
                  </a:lnTo>
                  <a:lnTo>
                    <a:pt x="359" y="159"/>
                  </a:lnTo>
                  <a:lnTo>
                    <a:pt x="30" y="2"/>
                  </a:lnTo>
                  <a:lnTo>
                    <a:pt x="6" y="6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4" y="7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397320" y="4137120"/>
              <a:ext cx="109440" cy="117360"/>
            </a:xfrm>
            <a:custGeom>
              <a:avLst/>
              <a:gdLst/>
              <a:ahLst/>
              <a:rect l="l" t="t" r="r" b="b"/>
              <a:pathLst>
                <a:path w="275" h="296">
                  <a:moveTo>
                    <a:pt x="7" y="292"/>
                  </a:moveTo>
                  <a:lnTo>
                    <a:pt x="34" y="290"/>
                  </a:lnTo>
                  <a:lnTo>
                    <a:pt x="275" y="27"/>
                  </a:lnTo>
                  <a:lnTo>
                    <a:pt x="246" y="0"/>
                  </a:lnTo>
                  <a:lnTo>
                    <a:pt x="5" y="261"/>
                  </a:lnTo>
                  <a:lnTo>
                    <a:pt x="7" y="292"/>
                  </a:lnTo>
                  <a:lnTo>
                    <a:pt x="5" y="261"/>
                  </a:lnTo>
                  <a:lnTo>
                    <a:pt x="2" y="266"/>
                  </a:lnTo>
                  <a:lnTo>
                    <a:pt x="0" y="270"/>
                  </a:lnTo>
                  <a:lnTo>
                    <a:pt x="0" y="273"/>
                  </a:lnTo>
                  <a:lnTo>
                    <a:pt x="0" y="278"/>
                  </a:lnTo>
                  <a:lnTo>
                    <a:pt x="0" y="281"/>
                  </a:lnTo>
                  <a:lnTo>
                    <a:pt x="2" y="284"/>
                  </a:lnTo>
                  <a:lnTo>
                    <a:pt x="3" y="287"/>
                  </a:lnTo>
                  <a:lnTo>
                    <a:pt x="6" y="291"/>
                  </a:lnTo>
                  <a:lnTo>
                    <a:pt x="9" y="293"/>
                  </a:lnTo>
                  <a:lnTo>
                    <a:pt x="13" y="295"/>
                  </a:lnTo>
                  <a:lnTo>
                    <a:pt x="16" y="296"/>
                  </a:lnTo>
                  <a:lnTo>
                    <a:pt x="19" y="296"/>
                  </a:lnTo>
                  <a:lnTo>
                    <a:pt x="23" y="296"/>
                  </a:lnTo>
                  <a:lnTo>
                    <a:pt x="28" y="295"/>
                  </a:lnTo>
                  <a:lnTo>
                    <a:pt x="31" y="293"/>
                  </a:lnTo>
                  <a:lnTo>
                    <a:pt x="34" y="290"/>
                  </a:lnTo>
                  <a:lnTo>
                    <a:pt x="7" y="2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627360" y="4230720"/>
              <a:ext cx="15840" cy="1116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6" y="30"/>
                  </a:moveTo>
                  <a:lnTo>
                    <a:pt x="37" y="24"/>
                  </a:lnTo>
                  <a:lnTo>
                    <a:pt x="38" y="20"/>
                  </a:lnTo>
                  <a:lnTo>
                    <a:pt x="38" y="17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576600" y="4235760"/>
              <a:ext cx="65160" cy="11268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37" y="285"/>
                  </a:moveTo>
                  <a:lnTo>
                    <a:pt x="164" y="18"/>
                  </a:lnTo>
                  <a:lnTo>
                    <a:pt x="128" y="0"/>
                  </a:lnTo>
                  <a:lnTo>
                    <a:pt x="0" y="268"/>
                  </a:lnTo>
                  <a:lnTo>
                    <a:pt x="37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575160" y="4341960"/>
              <a:ext cx="1584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2" y="0"/>
                  </a:moveTo>
                  <a:lnTo>
                    <a:pt x="1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3" y="24"/>
                  </a:lnTo>
                  <a:lnTo>
                    <a:pt x="37" y="21"/>
                  </a:lnTo>
                  <a:lnTo>
                    <a:pt x="39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449520" y="3865680"/>
              <a:ext cx="517680" cy="338040"/>
            </a:xfrm>
            <a:custGeom>
              <a:avLst/>
              <a:gdLst/>
              <a:ahLst/>
              <a:rect l="l" t="t" r="r" b="b"/>
              <a:pathLst>
                <a:path w="1306" h="856">
                  <a:moveTo>
                    <a:pt x="18" y="163"/>
                  </a:moveTo>
                  <a:lnTo>
                    <a:pt x="26" y="147"/>
                  </a:lnTo>
                  <a:lnTo>
                    <a:pt x="36" y="131"/>
                  </a:lnTo>
                  <a:lnTo>
                    <a:pt x="47" y="116"/>
                  </a:lnTo>
                  <a:lnTo>
                    <a:pt x="60" y="102"/>
                  </a:lnTo>
                  <a:lnTo>
                    <a:pt x="74" y="89"/>
                  </a:lnTo>
                  <a:lnTo>
                    <a:pt x="88" y="77"/>
                  </a:lnTo>
                  <a:lnTo>
                    <a:pt x="105" y="65"/>
                  </a:lnTo>
                  <a:lnTo>
                    <a:pt x="122" y="54"/>
                  </a:lnTo>
                  <a:lnTo>
                    <a:pt x="141" y="45"/>
                  </a:lnTo>
                  <a:lnTo>
                    <a:pt x="160" y="36"/>
                  </a:lnTo>
                  <a:lnTo>
                    <a:pt x="181" y="28"/>
                  </a:lnTo>
                  <a:lnTo>
                    <a:pt x="202" y="22"/>
                  </a:lnTo>
                  <a:lnTo>
                    <a:pt x="225" y="15"/>
                  </a:lnTo>
                  <a:lnTo>
                    <a:pt x="249" y="11"/>
                  </a:lnTo>
                  <a:lnTo>
                    <a:pt x="273" y="7"/>
                  </a:lnTo>
                  <a:lnTo>
                    <a:pt x="297" y="4"/>
                  </a:lnTo>
                  <a:lnTo>
                    <a:pt x="323" y="1"/>
                  </a:lnTo>
                  <a:lnTo>
                    <a:pt x="349" y="0"/>
                  </a:lnTo>
                  <a:lnTo>
                    <a:pt x="376" y="0"/>
                  </a:lnTo>
                  <a:lnTo>
                    <a:pt x="404" y="1"/>
                  </a:lnTo>
                  <a:lnTo>
                    <a:pt x="432" y="4"/>
                  </a:lnTo>
                  <a:lnTo>
                    <a:pt x="460" y="6"/>
                  </a:lnTo>
                  <a:lnTo>
                    <a:pt x="490" y="10"/>
                  </a:lnTo>
                  <a:lnTo>
                    <a:pt x="520" y="14"/>
                  </a:lnTo>
                  <a:lnTo>
                    <a:pt x="549" y="20"/>
                  </a:lnTo>
                  <a:lnTo>
                    <a:pt x="579" y="27"/>
                  </a:lnTo>
                  <a:lnTo>
                    <a:pt x="609" y="35"/>
                  </a:lnTo>
                  <a:lnTo>
                    <a:pt x="641" y="44"/>
                  </a:lnTo>
                  <a:lnTo>
                    <a:pt x="671" y="53"/>
                  </a:lnTo>
                  <a:lnTo>
                    <a:pt x="701" y="64"/>
                  </a:lnTo>
                  <a:lnTo>
                    <a:pt x="733" y="76"/>
                  </a:lnTo>
                  <a:lnTo>
                    <a:pt x="764" y="89"/>
                  </a:lnTo>
                  <a:lnTo>
                    <a:pt x="794" y="103"/>
                  </a:lnTo>
                  <a:lnTo>
                    <a:pt x="825" y="117"/>
                  </a:lnTo>
                  <a:lnTo>
                    <a:pt x="856" y="133"/>
                  </a:lnTo>
                  <a:lnTo>
                    <a:pt x="885" y="149"/>
                  </a:lnTo>
                  <a:lnTo>
                    <a:pt x="914" y="166"/>
                  </a:lnTo>
                  <a:lnTo>
                    <a:pt x="942" y="183"/>
                  </a:lnTo>
                  <a:lnTo>
                    <a:pt x="970" y="201"/>
                  </a:lnTo>
                  <a:lnTo>
                    <a:pt x="997" y="220"/>
                  </a:lnTo>
                  <a:lnTo>
                    <a:pt x="1024" y="239"/>
                  </a:lnTo>
                  <a:lnTo>
                    <a:pt x="1049" y="257"/>
                  </a:lnTo>
                  <a:lnTo>
                    <a:pt x="1074" y="278"/>
                  </a:lnTo>
                  <a:lnTo>
                    <a:pt x="1098" y="297"/>
                  </a:lnTo>
                  <a:lnTo>
                    <a:pt x="1120" y="318"/>
                  </a:lnTo>
                  <a:lnTo>
                    <a:pt x="1142" y="338"/>
                  </a:lnTo>
                  <a:lnTo>
                    <a:pt x="1162" y="360"/>
                  </a:lnTo>
                  <a:lnTo>
                    <a:pt x="1182" y="380"/>
                  </a:lnTo>
                  <a:lnTo>
                    <a:pt x="1200" y="402"/>
                  </a:lnTo>
                  <a:lnTo>
                    <a:pt x="1217" y="423"/>
                  </a:lnTo>
                  <a:lnTo>
                    <a:pt x="1234" y="444"/>
                  </a:lnTo>
                  <a:lnTo>
                    <a:pt x="1248" y="465"/>
                  </a:lnTo>
                  <a:lnTo>
                    <a:pt x="1261" y="486"/>
                  </a:lnTo>
                  <a:lnTo>
                    <a:pt x="1271" y="507"/>
                  </a:lnTo>
                  <a:lnTo>
                    <a:pt x="1281" y="528"/>
                  </a:lnTo>
                  <a:lnTo>
                    <a:pt x="1290" y="549"/>
                  </a:lnTo>
                  <a:lnTo>
                    <a:pt x="1296" y="569"/>
                  </a:lnTo>
                  <a:lnTo>
                    <a:pt x="1302" y="589"/>
                  </a:lnTo>
                  <a:lnTo>
                    <a:pt x="1305" y="609"/>
                  </a:lnTo>
                  <a:lnTo>
                    <a:pt x="1306" y="629"/>
                  </a:lnTo>
                  <a:lnTo>
                    <a:pt x="1305" y="647"/>
                  </a:lnTo>
                  <a:lnTo>
                    <a:pt x="1303" y="666"/>
                  </a:lnTo>
                  <a:lnTo>
                    <a:pt x="1298" y="684"/>
                  </a:lnTo>
                  <a:lnTo>
                    <a:pt x="1292" y="701"/>
                  </a:lnTo>
                  <a:lnTo>
                    <a:pt x="1283" y="719"/>
                  </a:lnTo>
                  <a:lnTo>
                    <a:pt x="1272" y="734"/>
                  </a:lnTo>
                  <a:lnTo>
                    <a:pt x="1261" y="749"/>
                  </a:lnTo>
                  <a:lnTo>
                    <a:pt x="1247" y="763"/>
                  </a:lnTo>
                  <a:lnTo>
                    <a:pt x="1231" y="776"/>
                  </a:lnTo>
                  <a:lnTo>
                    <a:pt x="1214" y="788"/>
                  </a:lnTo>
                  <a:lnTo>
                    <a:pt x="1196" y="798"/>
                  </a:lnTo>
                  <a:lnTo>
                    <a:pt x="1175" y="808"/>
                  </a:lnTo>
                  <a:lnTo>
                    <a:pt x="1155" y="817"/>
                  </a:lnTo>
                  <a:lnTo>
                    <a:pt x="1132" y="825"/>
                  </a:lnTo>
                  <a:lnTo>
                    <a:pt x="1108" y="832"/>
                  </a:lnTo>
                  <a:lnTo>
                    <a:pt x="1083" y="838"/>
                  </a:lnTo>
                  <a:lnTo>
                    <a:pt x="1058" y="844"/>
                  </a:lnTo>
                  <a:lnTo>
                    <a:pt x="1032" y="848"/>
                  </a:lnTo>
                  <a:lnTo>
                    <a:pt x="1004" y="851"/>
                  </a:lnTo>
                  <a:lnTo>
                    <a:pt x="975" y="854"/>
                  </a:lnTo>
                  <a:lnTo>
                    <a:pt x="946" y="856"/>
                  </a:lnTo>
                  <a:lnTo>
                    <a:pt x="916" y="856"/>
                  </a:lnTo>
                  <a:lnTo>
                    <a:pt x="886" y="856"/>
                  </a:lnTo>
                  <a:lnTo>
                    <a:pt x="855" y="854"/>
                  </a:lnTo>
                  <a:lnTo>
                    <a:pt x="823" y="851"/>
                  </a:lnTo>
                  <a:lnTo>
                    <a:pt x="792" y="848"/>
                  </a:lnTo>
                  <a:lnTo>
                    <a:pt x="760" y="844"/>
                  </a:lnTo>
                  <a:lnTo>
                    <a:pt x="727" y="838"/>
                  </a:lnTo>
                  <a:lnTo>
                    <a:pt x="695" y="833"/>
                  </a:lnTo>
                  <a:lnTo>
                    <a:pt x="662" y="825"/>
                  </a:lnTo>
                  <a:lnTo>
                    <a:pt x="630" y="818"/>
                  </a:lnTo>
                  <a:lnTo>
                    <a:pt x="598" y="808"/>
                  </a:lnTo>
                  <a:lnTo>
                    <a:pt x="565" y="798"/>
                  </a:lnTo>
                  <a:lnTo>
                    <a:pt x="534" y="788"/>
                  </a:lnTo>
                  <a:lnTo>
                    <a:pt x="501" y="776"/>
                  </a:lnTo>
                  <a:lnTo>
                    <a:pt x="470" y="763"/>
                  </a:lnTo>
                  <a:lnTo>
                    <a:pt x="440" y="749"/>
                  </a:lnTo>
                  <a:lnTo>
                    <a:pt x="411" y="735"/>
                  </a:lnTo>
                  <a:lnTo>
                    <a:pt x="382" y="720"/>
                  </a:lnTo>
                  <a:lnTo>
                    <a:pt x="354" y="703"/>
                  </a:lnTo>
                  <a:lnTo>
                    <a:pt x="327" y="687"/>
                  </a:lnTo>
                  <a:lnTo>
                    <a:pt x="300" y="670"/>
                  </a:lnTo>
                  <a:lnTo>
                    <a:pt x="275" y="653"/>
                  </a:lnTo>
                  <a:lnTo>
                    <a:pt x="250" y="634"/>
                  </a:lnTo>
                  <a:lnTo>
                    <a:pt x="226" y="617"/>
                  </a:lnTo>
                  <a:lnTo>
                    <a:pt x="203" y="598"/>
                  </a:lnTo>
                  <a:lnTo>
                    <a:pt x="182" y="579"/>
                  </a:lnTo>
                  <a:lnTo>
                    <a:pt x="161" y="560"/>
                  </a:lnTo>
                  <a:lnTo>
                    <a:pt x="142" y="539"/>
                  </a:lnTo>
                  <a:lnTo>
                    <a:pt x="124" y="520"/>
                  </a:lnTo>
                  <a:lnTo>
                    <a:pt x="107" y="499"/>
                  </a:lnTo>
                  <a:lnTo>
                    <a:pt x="91" y="480"/>
                  </a:lnTo>
                  <a:lnTo>
                    <a:pt x="76" y="459"/>
                  </a:lnTo>
                  <a:lnTo>
                    <a:pt x="63" y="439"/>
                  </a:lnTo>
                  <a:lnTo>
                    <a:pt x="50" y="418"/>
                  </a:lnTo>
                  <a:lnTo>
                    <a:pt x="39" y="398"/>
                  </a:lnTo>
                  <a:lnTo>
                    <a:pt x="30" y="377"/>
                  </a:lnTo>
                  <a:lnTo>
                    <a:pt x="21" y="357"/>
                  </a:lnTo>
                  <a:lnTo>
                    <a:pt x="14" y="336"/>
                  </a:lnTo>
                  <a:lnTo>
                    <a:pt x="9" y="316"/>
                  </a:lnTo>
                  <a:lnTo>
                    <a:pt x="5" y="296"/>
                  </a:lnTo>
                  <a:lnTo>
                    <a:pt x="1" y="276"/>
                  </a:lnTo>
                  <a:lnTo>
                    <a:pt x="0" y="256"/>
                  </a:lnTo>
                  <a:lnTo>
                    <a:pt x="1" y="237"/>
                  </a:lnTo>
                  <a:lnTo>
                    <a:pt x="3" y="218"/>
                  </a:lnTo>
                  <a:lnTo>
                    <a:pt x="6" y="200"/>
                  </a:lnTo>
                  <a:lnTo>
                    <a:pt x="11" y="182"/>
                  </a:lnTo>
                  <a:lnTo>
                    <a:pt x="18" y="163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449520" y="3856320"/>
              <a:ext cx="311400" cy="77760"/>
            </a:xfrm>
            <a:custGeom>
              <a:avLst/>
              <a:gdLst/>
              <a:ahLst/>
              <a:rect l="l" t="t" r="r" b="b"/>
              <a:pathLst>
                <a:path w="784" h="192">
                  <a:moveTo>
                    <a:pt x="772" y="91"/>
                  </a:moveTo>
                  <a:lnTo>
                    <a:pt x="772" y="91"/>
                  </a:lnTo>
                  <a:lnTo>
                    <a:pt x="741" y="76"/>
                  </a:lnTo>
                  <a:lnTo>
                    <a:pt x="710" y="65"/>
                  </a:lnTo>
                  <a:lnTo>
                    <a:pt x="678" y="54"/>
                  </a:lnTo>
                  <a:lnTo>
                    <a:pt x="647" y="44"/>
                  </a:lnTo>
                  <a:lnTo>
                    <a:pt x="616" y="35"/>
                  </a:lnTo>
                  <a:lnTo>
                    <a:pt x="585" y="27"/>
                  </a:lnTo>
                  <a:lnTo>
                    <a:pt x="554" y="20"/>
                  </a:lnTo>
                  <a:lnTo>
                    <a:pt x="524" y="15"/>
                  </a:lnTo>
                  <a:lnTo>
                    <a:pt x="494" y="10"/>
                  </a:lnTo>
                  <a:lnTo>
                    <a:pt x="464" y="6"/>
                  </a:lnTo>
                  <a:lnTo>
                    <a:pt x="434" y="3"/>
                  </a:lnTo>
                  <a:lnTo>
                    <a:pt x="406" y="1"/>
                  </a:lnTo>
                  <a:lnTo>
                    <a:pt x="377" y="0"/>
                  </a:lnTo>
                  <a:lnTo>
                    <a:pt x="350" y="1"/>
                  </a:lnTo>
                  <a:lnTo>
                    <a:pt x="323" y="2"/>
                  </a:lnTo>
                  <a:lnTo>
                    <a:pt x="296" y="4"/>
                  </a:lnTo>
                  <a:lnTo>
                    <a:pt x="270" y="7"/>
                  </a:lnTo>
                  <a:lnTo>
                    <a:pt x="245" y="12"/>
                  </a:lnTo>
                  <a:lnTo>
                    <a:pt x="222" y="16"/>
                  </a:lnTo>
                  <a:lnTo>
                    <a:pt x="198" y="22"/>
                  </a:lnTo>
                  <a:lnTo>
                    <a:pt x="175" y="30"/>
                  </a:lnTo>
                  <a:lnTo>
                    <a:pt x="154" y="38"/>
                  </a:lnTo>
                  <a:lnTo>
                    <a:pt x="133" y="47"/>
                  </a:lnTo>
                  <a:lnTo>
                    <a:pt x="114" y="57"/>
                  </a:lnTo>
                  <a:lnTo>
                    <a:pt x="94" y="68"/>
                  </a:lnTo>
                  <a:lnTo>
                    <a:pt x="77" y="81"/>
                  </a:lnTo>
                  <a:lnTo>
                    <a:pt x="61" y="94"/>
                  </a:lnTo>
                  <a:lnTo>
                    <a:pt x="46" y="108"/>
                  </a:lnTo>
                  <a:lnTo>
                    <a:pt x="33" y="123"/>
                  </a:lnTo>
                  <a:lnTo>
                    <a:pt x="20" y="140"/>
                  </a:lnTo>
                  <a:lnTo>
                    <a:pt x="9" y="157"/>
                  </a:lnTo>
                  <a:lnTo>
                    <a:pt x="0" y="176"/>
                  </a:lnTo>
                  <a:lnTo>
                    <a:pt x="37" y="192"/>
                  </a:lnTo>
                  <a:lnTo>
                    <a:pt x="45" y="177"/>
                  </a:lnTo>
                  <a:lnTo>
                    <a:pt x="53" y="163"/>
                  </a:lnTo>
                  <a:lnTo>
                    <a:pt x="64" y="149"/>
                  </a:lnTo>
                  <a:lnTo>
                    <a:pt x="75" y="136"/>
                  </a:lnTo>
                  <a:lnTo>
                    <a:pt x="88" y="124"/>
                  </a:lnTo>
                  <a:lnTo>
                    <a:pt x="102" y="113"/>
                  </a:lnTo>
                  <a:lnTo>
                    <a:pt x="117" y="102"/>
                  </a:lnTo>
                  <a:lnTo>
                    <a:pt x="133" y="93"/>
                  </a:lnTo>
                  <a:lnTo>
                    <a:pt x="150" y="83"/>
                  </a:lnTo>
                  <a:lnTo>
                    <a:pt x="169" y="75"/>
                  </a:lnTo>
                  <a:lnTo>
                    <a:pt x="188" y="68"/>
                  </a:lnTo>
                  <a:lnTo>
                    <a:pt x="209" y="61"/>
                  </a:lnTo>
                  <a:lnTo>
                    <a:pt x="230" y="56"/>
                  </a:lnTo>
                  <a:lnTo>
                    <a:pt x="253" y="51"/>
                  </a:lnTo>
                  <a:lnTo>
                    <a:pt x="277" y="47"/>
                  </a:lnTo>
                  <a:lnTo>
                    <a:pt x="301" y="44"/>
                  </a:lnTo>
                  <a:lnTo>
                    <a:pt x="325" y="42"/>
                  </a:lnTo>
                  <a:lnTo>
                    <a:pt x="351" y="41"/>
                  </a:lnTo>
                  <a:lnTo>
                    <a:pt x="377" y="41"/>
                  </a:lnTo>
                  <a:lnTo>
                    <a:pt x="404" y="42"/>
                  </a:lnTo>
                  <a:lnTo>
                    <a:pt x="431" y="43"/>
                  </a:lnTo>
                  <a:lnTo>
                    <a:pt x="459" y="46"/>
                  </a:lnTo>
                  <a:lnTo>
                    <a:pt x="488" y="49"/>
                  </a:lnTo>
                  <a:lnTo>
                    <a:pt x="516" y="54"/>
                  </a:lnTo>
                  <a:lnTo>
                    <a:pt x="546" y="60"/>
                  </a:lnTo>
                  <a:lnTo>
                    <a:pt x="576" y="67"/>
                  </a:lnTo>
                  <a:lnTo>
                    <a:pt x="605" y="74"/>
                  </a:lnTo>
                  <a:lnTo>
                    <a:pt x="635" y="83"/>
                  </a:lnTo>
                  <a:lnTo>
                    <a:pt x="666" y="93"/>
                  </a:lnTo>
                  <a:lnTo>
                    <a:pt x="696" y="102"/>
                  </a:lnTo>
                  <a:lnTo>
                    <a:pt x="726" y="114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56" y="127"/>
                  </a:lnTo>
                  <a:lnTo>
                    <a:pt x="762" y="128"/>
                  </a:lnTo>
                  <a:lnTo>
                    <a:pt x="765" y="129"/>
                  </a:lnTo>
                  <a:lnTo>
                    <a:pt x="769" y="128"/>
                  </a:lnTo>
                  <a:lnTo>
                    <a:pt x="772" y="127"/>
                  </a:lnTo>
                  <a:lnTo>
                    <a:pt x="776" y="125"/>
                  </a:lnTo>
                  <a:lnTo>
                    <a:pt x="779" y="123"/>
                  </a:lnTo>
                  <a:lnTo>
                    <a:pt x="781" y="120"/>
                  </a:lnTo>
                  <a:lnTo>
                    <a:pt x="783" y="116"/>
                  </a:lnTo>
                  <a:lnTo>
                    <a:pt x="784" y="113"/>
                  </a:lnTo>
                  <a:lnTo>
                    <a:pt x="784" y="109"/>
                  </a:lnTo>
                  <a:lnTo>
                    <a:pt x="784" y="106"/>
                  </a:lnTo>
                  <a:lnTo>
                    <a:pt x="784" y="101"/>
                  </a:lnTo>
                  <a:lnTo>
                    <a:pt x="782" y="98"/>
                  </a:lnTo>
                  <a:lnTo>
                    <a:pt x="780" y="95"/>
                  </a:lnTo>
                  <a:lnTo>
                    <a:pt x="777" y="93"/>
                  </a:lnTo>
                  <a:lnTo>
                    <a:pt x="772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749760" y="3892680"/>
              <a:ext cx="225360" cy="258840"/>
            </a:xfrm>
            <a:custGeom>
              <a:avLst/>
              <a:gdLst/>
              <a:ahLst/>
              <a:rect l="l" t="t" r="r" b="b"/>
              <a:pathLst>
                <a:path w="571" h="651">
                  <a:moveTo>
                    <a:pt x="555" y="639"/>
                  </a:moveTo>
                  <a:lnTo>
                    <a:pt x="555" y="639"/>
                  </a:lnTo>
                  <a:lnTo>
                    <a:pt x="563" y="619"/>
                  </a:lnTo>
                  <a:lnTo>
                    <a:pt x="567" y="599"/>
                  </a:lnTo>
                  <a:lnTo>
                    <a:pt x="570" y="578"/>
                  </a:lnTo>
                  <a:lnTo>
                    <a:pt x="571" y="557"/>
                  </a:lnTo>
                  <a:lnTo>
                    <a:pt x="569" y="536"/>
                  </a:lnTo>
                  <a:lnTo>
                    <a:pt x="566" y="515"/>
                  </a:lnTo>
                  <a:lnTo>
                    <a:pt x="561" y="493"/>
                  </a:lnTo>
                  <a:lnTo>
                    <a:pt x="554" y="470"/>
                  </a:lnTo>
                  <a:lnTo>
                    <a:pt x="546" y="449"/>
                  </a:lnTo>
                  <a:lnTo>
                    <a:pt x="535" y="427"/>
                  </a:lnTo>
                  <a:lnTo>
                    <a:pt x="523" y="406"/>
                  </a:lnTo>
                  <a:lnTo>
                    <a:pt x="510" y="383"/>
                  </a:lnTo>
                  <a:lnTo>
                    <a:pt x="495" y="361"/>
                  </a:lnTo>
                  <a:lnTo>
                    <a:pt x="479" y="340"/>
                  </a:lnTo>
                  <a:lnTo>
                    <a:pt x="461" y="318"/>
                  </a:lnTo>
                  <a:lnTo>
                    <a:pt x="442" y="297"/>
                  </a:lnTo>
                  <a:lnTo>
                    <a:pt x="422" y="275"/>
                  </a:lnTo>
                  <a:lnTo>
                    <a:pt x="401" y="253"/>
                  </a:lnTo>
                  <a:lnTo>
                    <a:pt x="379" y="232"/>
                  </a:lnTo>
                  <a:lnTo>
                    <a:pt x="355" y="211"/>
                  </a:lnTo>
                  <a:lnTo>
                    <a:pt x="332" y="191"/>
                  </a:lnTo>
                  <a:lnTo>
                    <a:pt x="307" y="171"/>
                  </a:lnTo>
                  <a:lnTo>
                    <a:pt x="281" y="152"/>
                  </a:lnTo>
                  <a:lnTo>
                    <a:pt x="254" y="132"/>
                  </a:lnTo>
                  <a:lnTo>
                    <a:pt x="226" y="113"/>
                  </a:lnTo>
                  <a:lnTo>
                    <a:pt x="198" y="95"/>
                  </a:lnTo>
                  <a:lnTo>
                    <a:pt x="169" y="77"/>
                  </a:lnTo>
                  <a:lnTo>
                    <a:pt x="140" y="60"/>
                  </a:lnTo>
                  <a:lnTo>
                    <a:pt x="109" y="44"/>
                  </a:lnTo>
                  <a:lnTo>
                    <a:pt x="79" y="28"/>
                  </a:lnTo>
                  <a:lnTo>
                    <a:pt x="48" y="14"/>
                  </a:lnTo>
                  <a:lnTo>
                    <a:pt x="16" y="0"/>
                  </a:lnTo>
                  <a:lnTo>
                    <a:pt x="0" y="36"/>
                  </a:lnTo>
                  <a:lnTo>
                    <a:pt x="30" y="50"/>
                  </a:lnTo>
                  <a:lnTo>
                    <a:pt x="61" y="64"/>
                  </a:lnTo>
                  <a:lnTo>
                    <a:pt x="91" y="79"/>
                  </a:lnTo>
                  <a:lnTo>
                    <a:pt x="120" y="96"/>
                  </a:lnTo>
                  <a:lnTo>
                    <a:pt x="148" y="112"/>
                  </a:lnTo>
                  <a:lnTo>
                    <a:pt x="176" y="129"/>
                  </a:lnTo>
                  <a:lnTo>
                    <a:pt x="204" y="146"/>
                  </a:lnTo>
                  <a:lnTo>
                    <a:pt x="230" y="165"/>
                  </a:lnTo>
                  <a:lnTo>
                    <a:pt x="256" y="184"/>
                  </a:lnTo>
                  <a:lnTo>
                    <a:pt x="282" y="203"/>
                  </a:lnTo>
                  <a:lnTo>
                    <a:pt x="306" y="222"/>
                  </a:lnTo>
                  <a:lnTo>
                    <a:pt x="330" y="243"/>
                  </a:lnTo>
                  <a:lnTo>
                    <a:pt x="352" y="262"/>
                  </a:lnTo>
                  <a:lnTo>
                    <a:pt x="373" y="282"/>
                  </a:lnTo>
                  <a:lnTo>
                    <a:pt x="393" y="303"/>
                  </a:lnTo>
                  <a:lnTo>
                    <a:pt x="413" y="324"/>
                  </a:lnTo>
                  <a:lnTo>
                    <a:pt x="430" y="344"/>
                  </a:lnTo>
                  <a:lnTo>
                    <a:pt x="446" y="365"/>
                  </a:lnTo>
                  <a:lnTo>
                    <a:pt x="461" y="385"/>
                  </a:lnTo>
                  <a:lnTo>
                    <a:pt x="475" y="406"/>
                  </a:lnTo>
                  <a:lnTo>
                    <a:pt x="488" y="425"/>
                  </a:lnTo>
                  <a:lnTo>
                    <a:pt x="499" y="446"/>
                  </a:lnTo>
                  <a:lnTo>
                    <a:pt x="508" y="465"/>
                  </a:lnTo>
                  <a:lnTo>
                    <a:pt x="516" y="484"/>
                  </a:lnTo>
                  <a:lnTo>
                    <a:pt x="522" y="504"/>
                  </a:lnTo>
                  <a:lnTo>
                    <a:pt x="526" y="522"/>
                  </a:lnTo>
                  <a:lnTo>
                    <a:pt x="529" y="541"/>
                  </a:lnTo>
                  <a:lnTo>
                    <a:pt x="530" y="558"/>
                  </a:lnTo>
                  <a:lnTo>
                    <a:pt x="530" y="575"/>
                  </a:lnTo>
                  <a:lnTo>
                    <a:pt x="528" y="591"/>
                  </a:lnTo>
                  <a:lnTo>
                    <a:pt x="524" y="606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9" y="623"/>
                  </a:lnTo>
                  <a:lnTo>
                    <a:pt x="516" y="627"/>
                  </a:lnTo>
                  <a:lnTo>
                    <a:pt x="516" y="631"/>
                  </a:lnTo>
                  <a:lnTo>
                    <a:pt x="516" y="636"/>
                  </a:lnTo>
                  <a:lnTo>
                    <a:pt x="517" y="639"/>
                  </a:lnTo>
                  <a:lnTo>
                    <a:pt x="520" y="642"/>
                  </a:lnTo>
                  <a:lnTo>
                    <a:pt x="522" y="645"/>
                  </a:lnTo>
                  <a:lnTo>
                    <a:pt x="525" y="648"/>
                  </a:lnTo>
                  <a:lnTo>
                    <a:pt x="528" y="649"/>
                  </a:lnTo>
                  <a:lnTo>
                    <a:pt x="533" y="650"/>
                  </a:lnTo>
                  <a:lnTo>
                    <a:pt x="536" y="651"/>
                  </a:lnTo>
                  <a:lnTo>
                    <a:pt x="539" y="651"/>
                  </a:lnTo>
                  <a:lnTo>
                    <a:pt x="543" y="650"/>
                  </a:lnTo>
                  <a:lnTo>
                    <a:pt x="547" y="649"/>
                  </a:lnTo>
                  <a:lnTo>
                    <a:pt x="550" y="646"/>
                  </a:lnTo>
                  <a:lnTo>
                    <a:pt x="553" y="643"/>
                  </a:lnTo>
                  <a:lnTo>
                    <a:pt x="555" y="6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627360" y="4140360"/>
              <a:ext cx="341280" cy="73080"/>
            </a:xfrm>
            <a:custGeom>
              <a:avLst/>
              <a:gdLst/>
              <a:ahLst/>
              <a:rect l="l" t="t" r="r" b="b"/>
              <a:pathLst>
                <a:path w="859" h="182">
                  <a:moveTo>
                    <a:pt x="12" y="87"/>
                  </a:moveTo>
                  <a:lnTo>
                    <a:pt x="12" y="88"/>
                  </a:lnTo>
                  <a:lnTo>
                    <a:pt x="44" y="101"/>
                  </a:lnTo>
                  <a:lnTo>
                    <a:pt x="76" y="113"/>
                  </a:lnTo>
                  <a:lnTo>
                    <a:pt x="109" y="124"/>
                  </a:lnTo>
                  <a:lnTo>
                    <a:pt x="141" y="134"/>
                  </a:lnTo>
                  <a:lnTo>
                    <a:pt x="174" y="143"/>
                  </a:lnTo>
                  <a:lnTo>
                    <a:pt x="207" y="151"/>
                  </a:lnTo>
                  <a:lnTo>
                    <a:pt x="239" y="158"/>
                  </a:lnTo>
                  <a:lnTo>
                    <a:pt x="273" y="165"/>
                  </a:lnTo>
                  <a:lnTo>
                    <a:pt x="305" y="170"/>
                  </a:lnTo>
                  <a:lnTo>
                    <a:pt x="339" y="175"/>
                  </a:lnTo>
                  <a:lnTo>
                    <a:pt x="370" y="178"/>
                  </a:lnTo>
                  <a:lnTo>
                    <a:pt x="402" y="180"/>
                  </a:lnTo>
                  <a:lnTo>
                    <a:pt x="434" y="181"/>
                  </a:lnTo>
                  <a:lnTo>
                    <a:pt x="465" y="182"/>
                  </a:lnTo>
                  <a:lnTo>
                    <a:pt x="495" y="181"/>
                  </a:lnTo>
                  <a:lnTo>
                    <a:pt x="526" y="180"/>
                  </a:lnTo>
                  <a:lnTo>
                    <a:pt x="555" y="178"/>
                  </a:lnTo>
                  <a:lnTo>
                    <a:pt x="583" y="174"/>
                  </a:lnTo>
                  <a:lnTo>
                    <a:pt x="611" y="169"/>
                  </a:lnTo>
                  <a:lnTo>
                    <a:pt x="637" y="164"/>
                  </a:lnTo>
                  <a:lnTo>
                    <a:pt x="663" y="157"/>
                  </a:lnTo>
                  <a:lnTo>
                    <a:pt x="688" y="151"/>
                  </a:lnTo>
                  <a:lnTo>
                    <a:pt x="711" y="142"/>
                  </a:lnTo>
                  <a:lnTo>
                    <a:pt x="733" y="133"/>
                  </a:lnTo>
                  <a:lnTo>
                    <a:pt x="754" y="122"/>
                  </a:lnTo>
                  <a:lnTo>
                    <a:pt x="774" y="110"/>
                  </a:lnTo>
                  <a:lnTo>
                    <a:pt x="792" y="97"/>
                  </a:lnTo>
                  <a:lnTo>
                    <a:pt x="810" y="84"/>
                  </a:lnTo>
                  <a:lnTo>
                    <a:pt x="825" y="69"/>
                  </a:lnTo>
                  <a:lnTo>
                    <a:pt x="838" y="52"/>
                  </a:lnTo>
                  <a:lnTo>
                    <a:pt x="850" y="34"/>
                  </a:lnTo>
                  <a:lnTo>
                    <a:pt x="859" y="16"/>
                  </a:lnTo>
                  <a:lnTo>
                    <a:pt x="823" y="0"/>
                  </a:lnTo>
                  <a:lnTo>
                    <a:pt x="815" y="14"/>
                  </a:lnTo>
                  <a:lnTo>
                    <a:pt x="805" y="28"/>
                  </a:lnTo>
                  <a:lnTo>
                    <a:pt x="794" y="41"/>
                  </a:lnTo>
                  <a:lnTo>
                    <a:pt x="783" y="54"/>
                  </a:lnTo>
                  <a:lnTo>
                    <a:pt x="767" y="66"/>
                  </a:lnTo>
                  <a:lnTo>
                    <a:pt x="752" y="76"/>
                  </a:lnTo>
                  <a:lnTo>
                    <a:pt x="735" y="86"/>
                  </a:lnTo>
                  <a:lnTo>
                    <a:pt x="717" y="96"/>
                  </a:lnTo>
                  <a:lnTo>
                    <a:pt x="696" y="104"/>
                  </a:lnTo>
                  <a:lnTo>
                    <a:pt x="675" y="112"/>
                  </a:lnTo>
                  <a:lnTo>
                    <a:pt x="652" y="118"/>
                  </a:lnTo>
                  <a:lnTo>
                    <a:pt x="628" y="125"/>
                  </a:lnTo>
                  <a:lnTo>
                    <a:pt x="603" y="130"/>
                  </a:lnTo>
                  <a:lnTo>
                    <a:pt x="577" y="134"/>
                  </a:lnTo>
                  <a:lnTo>
                    <a:pt x="550" y="137"/>
                  </a:lnTo>
                  <a:lnTo>
                    <a:pt x="522" y="140"/>
                  </a:lnTo>
                  <a:lnTo>
                    <a:pt x="494" y="141"/>
                  </a:lnTo>
                  <a:lnTo>
                    <a:pt x="465" y="141"/>
                  </a:lnTo>
                  <a:lnTo>
                    <a:pt x="435" y="141"/>
                  </a:lnTo>
                  <a:lnTo>
                    <a:pt x="405" y="140"/>
                  </a:lnTo>
                  <a:lnTo>
                    <a:pt x="374" y="137"/>
                  </a:lnTo>
                  <a:lnTo>
                    <a:pt x="343" y="134"/>
                  </a:lnTo>
                  <a:lnTo>
                    <a:pt x="312" y="130"/>
                  </a:lnTo>
                  <a:lnTo>
                    <a:pt x="279" y="125"/>
                  </a:lnTo>
                  <a:lnTo>
                    <a:pt x="248" y="118"/>
                  </a:lnTo>
                  <a:lnTo>
                    <a:pt x="216" y="112"/>
                  </a:lnTo>
                  <a:lnTo>
                    <a:pt x="184" y="103"/>
                  </a:lnTo>
                  <a:lnTo>
                    <a:pt x="152" y="95"/>
                  </a:lnTo>
                  <a:lnTo>
                    <a:pt x="121" y="85"/>
                  </a:lnTo>
                  <a:lnTo>
                    <a:pt x="89" y="74"/>
                  </a:lnTo>
                  <a:lnTo>
                    <a:pt x="58" y="6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3" y="49"/>
                  </a:lnTo>
                  <a:lnTo>
                    <a:pt x="19" y="48"/>
                  </a:lnTo>
                  <a:lnTo>
                    <a:pt x="15" y="49"/>
                  </a:lnTo>
                  <a:lnTo>
                    <a:pt x="12" y="50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2" y="88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441600" y="3921120"/>
              <a:ext cx="196920" cy="254160"/>
            </a:xfrm>
            <a:custGeom>
              <a:avLst/>
              <a:gdLst/>
              <a:ahLst/>
              <a:rect l="l" t="t" r="r" b="b"/>
              <a:pathLst>
                <a:path w="498" h="637">
                  <a:moveTo>
                    <a:pt x="18" y="12"/>
                  </a:moveTo>
                  <a:lnTo>
                    <a:pt x="18" y="12"/>
                  </a:lnTo>
                  <a:lnTo>
                    <a:pt x="11" y="31"/>
                  </a:lnTo>
                  <a:lnTo>
                    <a:pt x="5" y="51"/>
                  </a:lnTo>
                  <a:lnTo>
                    <a:pt x="2" y="71"/>
                  </a:lnTo>
                  <a:lnTo>
                    <a:pt x="0" y="92"/>
                  </a:lnTo>
                  <a:lnTo>
                    <a:pt x="0" y="113"/>
                  </a:lnTo>
                  <a:lnTo>
                    <a:pt x="1" y="134"/>
                  </a:lnTo>
                  <a:lnTo>
                    <a:pt x="3" y="155"/>
                  </a:lnTo>
                  <a:lnTo>
                    <a:pt x="9" y="177"/>
                  </a:lnTo>
                  <a:lnTo>
                    <a:pt x="14" y="198"/>
                  </a:lnTo>
                  <a:lnTo>
                    <a:pt x="22" y="219"/>
                  </a:lnTo>
                  <a:lnTo>
                    <a:pt x="30" y="241"/>
                  </a:lnTo>
                  <a:lnTo>
                    <a:pt x="40" y="262"/>
                  </a:lnTo>
                  <a:lnTo>
                    <a:pt x="52" y="284"/>
                  </a:lnTo>
                  <a:lnTo>
                    <a:pt x="65" y="306"/>
                  </a:lnTo>
                  <a:lnTo>
                    <a:pt x="79" y="326"/>
                  </a:lnTo>
                  <a:lnTo>
                    <a:pt x="94" y="348"/>
                  </a:lnTo>
                  <a:lnTo>
                    <a:pt x="110" y="368"/>
                  </a:lnTo>
                  <a:lnTo>
                    <a:pt x="128" y="389"/>
                  </a:lnTo>
                  <a:lnTo>
                    <a:pt x="147" y="409"/>
                  </a:lnTo>
                  <a:lnTo>
                    <a:pt x="166" y="430"/>
                  </a:lnTo>
                  <a:lnTo>
                    <a:pt x="188" y="449"/>
                  </a:lnTo>
                  <a:lnTo>
                    <a:pt x="209" y="469"/>
                  </a:lnTo>
                  <a:lnTo>
                    <a:pt x="232" y="488"/>
                  </a:lnTo>
                  <a:lnTo>
                    <a:pt x="257" y="506"/>
                  </a:lnTo>
                  <a:lnTo>
                    <a:pt x="282" y="525"/>
                  </a:lnTo>
                  <a:lnTo>
                    <a:pt x="308" y="543"/>
                  </a:lnTo>
                  <a:lnTo>
                    <a:pt x="335" y="560"/>
                  </a:lnTo>
                  <a:lnTo>
                    <a:pt x="362" y="577"/>
                  </a:lnTo>
                  <a:lnTo>
                    <a:pt x="391" y="593"/>
                  </a:lnTo>
                  <a:lnTo>
                    <a:pt x="420" y="609"/>
                  </a:lnTo>
                  <a:lnTo>
                    <a:pt x="450" y="623"/>
                  </a:lnTo>
                  <a:lnTo>
                    <a:pt x="482" y="637"/>
                  </a:lnTo>
                  <a:lnTo>
                    <a:pt x="498" y="600"/>
                  </a:lnTo>
                  <a:lnTo>
                    <a:pt x="468" y="587"/>
                  </a:lnTo>
                  <a:lnTo>
                    <a:pt x="438" y="572"/>
                  </a:lnTo>
                  <a:lnTo>
                    <a:pt x="410" y="557"/>
                  </a:lnTo>
                  <a:lnTo>
                    <a:pt x="382" y="542"/>
                  </a:lnTo>
                  <a:lnTo>
                    <a:pt x="355" y="526"/>
                  </a:lnTo>
                  <a:lnTo>
                    <a:pt x="329" y="510"/>
                  </a:lnTo>
                  <a:lnTo>
                    <a:pt x="304" y="492"/>
                  </a:lnTo>
                  <a:lnTo>
                    <a:pt x="281" y="475"/>
                  </a:lnTo>
                  <a:lnTo>
                    <a:pt x="258" y="457"/>
                  </a:lnTo>
                  <a:lnTo>
                    <a:pt x="235" y="438"/>
                  </a:lnTo>
                  <a:lnTo>
                    <a:pt x="215" y="420"/>
                  </a:lnTo>
                  <a:lnTo>
                    <a:pt x="194" y="401"/>
                  </a:lnTo>
                  <a:lnTo>
                    <a:pt x="176" y="381"/>
                  </a:lnTo>
                  <a:lnTo>
                    <a:pt x="158" y="363"/>
                  </a:lnTo>
                  <a:lnTo>
                    <a:pt x="141" y="342"/>
                  </a:lnTo>
                  <a:lnTo>
                    <a:pt x="126" y="323"/>
                  </a:lnTo>
                  <a:lnTo>
                    <a:pt x="112" y="303"/>
                  </a:lnTo>
                  <a:lnTo>
                    <a:pt x="98" y="284"/>
                  </a:lnTo>
                  <a:lnTo>
                    <a:pt x="87" y="263"/>
                  </a:lnTo>
                  <a:lnTo>
                    <a:pt x="77" y="244"/>
                  </a:lnTo>
                  <a:lnTo>
                    <a:pt x="67" y="225"/>
                  </a:lnTo>
                  <a:lnTo>
                    <a:pt x="59" y="205"/>
                  </a:lnTo>
                  <a:lnTo>
                    <a:pt x="53" y="186"/>
                  </a:lnTo>
                  <a:lnTo>
                    <a:pt x="47" y="167"/>
                  </a:lnTo>
                  <a:lnTo>
                    <a:pt x="43" y="149"/>
                  </a:lnTo>
                  <a:lnTo>
                    <a:pt x="41" y="131"/>
                  </a:lnTo>
                  <a:lnTo>
                    <a:pt x="40" y="112"/>
                  </a:lnTo>
                  <a:lnTo>
                    <a:pt x="40" y="94"/>
                  </a:lnTo>
                  <a:lnTo>
                    <a:pt x="42" y="77"/>
                  </a:lnTo>
                  <a:lnTo>
                    <a:pt x="45" y="60"/>
                  </a:lnTo>
                  <a:lnTo>
                    <a:pt x="50" y="43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7" y="23"/>
                  </a:lnTo>
                  <a:lnTo>
                    <a:pt x="57" y="18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7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387600" y="3807000"/>
              <a:ext cx="349200" cy="477720"/>
            </a:xfrm>
            <a:custGeom>
              <a:avLst/>
              <a:gdLst/>
              <a:ahLst/>
              <a:rect l="l" t="t" r="r" b="b"/>
              <a:pathLst>
                <a:path w="879" h="1202">
                  <a:moveTo>
                    <a:pt x="493" y="142"/>
                  </a:moveTo>
                  <a:lnTo>
                    <a:pt x="464" y="143"/>
                  </a:lnTo>
                  <a:lnTo>
                    <a:pt x="436" y="145"/>
                  </a:lnTo>
                  <a:lnTo>
                    <a:pt x="409" y="150"/>
                  </a:lnTo>
                  <a:lnTo>
                    <a:pt x="383" y="154"/>
                  </a:lnTo>
                  <a:lnTo>
                    <a:pt x="358" y="161"/>
                  </a:lnTo>
                  <a:lnTo>
                    <a:pt x="335" y="168"/>
                  </a:lnTo>
                  <a:lnTo>
                    <a:pt x="312" y="177"/>
                  </a:lnTo>
                  <a:lnTo>
                    <a:pt x="290" y="186"/>
                  </a:lnTo>
                  <a:lnTo>
                    <a:pt x="271" y="197"/>
                  </a:lnTo>
                  <a:lnTo>
                    <a:pt x="252" y="209"/>
                  </a:lnTo>
                  <a:lnTo>
                    <a:pt x="234" y="222"/>
                  </a:lnTo>
                  <a:lnTo>
                    <a:pt x="219" y="237"/>
                  </a:lnTo>
                  <a:lnTo>
                    <a:pt x="204" y="252"/>
                  </a:lnTo>
                  <a:lnTo>
                    <a:pt x="192" y="269"/>
                  </a:lnTo>
                  <a:lnTo>
                    <a:pt x="181" y="287"/>
                  </a:lnTo>
                  <a:lnTo>
                    <a:pt x="172" y="306"/>
                  </a:lnTo>
                  <a:lnTo>
                    <a:pt x="165" y="324"/>
                  </a:lnTo>
                  <a:lnTo>
                    <a:pt x="160" y="342"/>
                  </a:lnTo>
                  <a:lnTo>
                    <a:pt x="157" y="360"/>
                  </a:lnTo>
                  <a:lnTo>
                    <a:pt x="154" y="379"/>
                  </a:lnTo>
                  <a:lnTo>
                    <a:pt x="154" y="398"/>
                  </a:lnTo>
                  <a:lnTo>
                    <a:pt x="155" y="418"/>
                  </a:lnTo>
                  <a:lnTo>
                    <a:pt x="158" y="437"/>
                  </a:lnTo>
                  <a:lnTo>
                    <a:pt x="162" y="458"/>
                  </a:lnTo>
                  <a:lnTo>
                    <a:pt x="167" y="477"/>
                  </a:lnTo>
                  <a:lnTo>
                    <a:pt x="175" y="497"/>
                  </a:lnTo>
                  <a:lnTo>
                    <a:pt x="182" y="518"/>
                  </a:lnTo>
                  <a:lnTo>
                    <a:pt x="192" y="539"/>
                  </a:lnTo>
                  <a:lnTo>
                    <a:pt x="203" y="559"/>
                  </a:lnTo>
                  <a:lnTo>
                    <a:pt x="216" y="580"/>
                  </a:lnTo>
                  <a:lnTo>
                    <a:pt x="229" y="600"/>
                  </a:lnTo>
                  <a:lnTo>
                    <a:pt x="244" y="621"/>
                  </a:lnTo>
                  <a:lnTo>
                    <a:pt x="260" y="641"/>
                  </a:lnTo>
                  <a:lnTo>
                    <a:pt x="278" y="661"/>
                  </a:lnTo>
                  <a:lnTo>
                    <a:pt x="295" y="681"/>
                  </a:lnTo>
                  <a:lnTo>
                    <a:pt x="314" y="701"/>
                  </a:lnTo>
                  <a:lnTo>
                    <a:pt x="335" y="720"/>
                  </a:lnTo>
                  <a:lnTo>
                    <a:pt x="356" y="738"/>
                  </a:lnTo>
                  <a:lnTo>
                    <a:pt x="379" y="758"/>
                  </a:lnTo>
                  <a:lnTo>
                    <a:pt x="403" y="776"/>
                  </a:lnTo>
                  <a:lnTo>
                    <a:pt x="428" y="793"/>
                  </a:lnTo>
                  <a:lnTo>
                    <a:pt x="452" y="811"/>
                  </a:lnTo>
                  <a:lnTo>
                    <a:pt x="478" y="828"/>
                  </a:lnTo>
                  <a:lnTo>
                    <a:pt x="506" y="844"/>
                  </a:lnTo>
                  <a:lnTo>
                    <a:pt x="533" y="860"/>
                  </a:lnTo>
                  <a:lnTo>
                    <a:pt x="563" y="875"/>
                  </a:lnTo>
                  <a:lnTo>
                    <a:pt x="593" y="890"/>
                  </a:lnTo>
                  <a:lnTo>
                    <a:pt x="623" y="904"/>
                  </a:lnTo>
                  <a:lnTo>
                    <a:pt x="653" y="917"/>
                  </a:lnTo>
                  <a:lnTo>
                    <a:pt x="677" y="926"/>
                  </a:lnTo>
                  <a:lnTo>
                    <a:pt x="696" y="933"/>
                  </a:lnTo>
                  <a:lnTo>
                    <a:pt x="715" y="938"/>
                  </a:lnTo>
                  <a:lnTo>
                    <a:pt x="733" y="941"/>
                  </a:lnTo>
                  <a:lnTo>
                    <a:pt x="754" y="945"/>
                  </a:lnTo>
                  <a:lnTo>
                    <a:pt x="779" y="949"/>
                  </a:lnTo>
                  <a:lnTo>
                    <a:pt x="810" y="953"/>
                  </a:lnTo>
                  <a:lnTo>
                    <a:pt x="829" y="973"/>
                  </a:lnTo>
                  <a:lnTo>
                    <a:pt x="847" y="991"/>
                  </a:lnTo>
                  <a:lnTo>
                    <a:pt x="853" y="1000"/>
                  </a:lnTo>
                  <a:lnTo>
                    <a:pt x="860" y="1009"/>
                  </a:lnTo>
                  <a:lnTo>
                    <a:pt x="865" y="1018"/>
                  </a:lnTo>
                  <a:lnTo>
                    <a:pt x="869" y="1027"/>
                  </a:lnTo>
                  <a:lnTo>
                    <a:pt x="874" y="1035"/>
                  </a:lnTo>
                  <a:lnTo>
                    <a:pt x="876" y="1044"/>
                  </a:lnTo>
                  <a:lnTo>
                    <a:pt x="878" y="1052"/>
                  </a:lnTo>
                  <a:lnTo>
                    <a:pt x="879" y="1060"/>
                  </a:lnTo>
                  <a:lnTo>
                    <a:pt x="879" y="1069"/>
                  </a:lnTo>
                  <a:lnTo>
                    <a:pt x="879" y="1076"/>
                  </a:lnTo>
                  <a:lnTo>
                    <a:pt x="877" y="1084"/>
                  </a:lnTo>
                  <a:lnTo>
                    <a:pt x="875" y="1093"/>
                  </a:lnTo>
                  <a:lnTo>
                    <a:pt x="871" y="1100"/>
                  </a:lnTo>
                  <a:lnTo>
                    <a:pt x="867" y="1108"/>
                  </a:lnTo>
                  <a:lnTo>
                    <a:pt x="862" y="1115"/>
                  </a:lnTo>
                  <a:lnTo>
                    <a:pt x="856" y="1123"/>
                  </a:lnTo>
                  <a:lnTo>
                    <a:pt x="849" y="1129"/>
                  </a:lnTo>
                  <a:lnTo>
                    <a:pt x="841" y="1137"/>
                  </a:lnTo>
                  <a:lnTo>
                    <a:pt x="833" y="1143"/>
                  </a:lnTo>
                  <a:lnTo>
                    <a:pt x="823" y="1151"/>
                  </a:lnTo>
                  <a:lnTo>
                    <a:pt x="812" y="1157"/>
                  </a:lnTo>
                  <a:lnTo>
                    <a:pt x="800" y="1164"/>
                  </a:lnTo>
                  <a:lnTo>
                    <a:pt x="788" y="1171"/>
                  </a:lnTo>
                  <a:lnTo>
                    <a:pt x="774" y="1177"/>
                  </a:lnTo>
                  <a:lnTo>
                    <a:pt x="745" y="1190"/>
                  </a:lnTo>
                  <a:lnTo>
                    <a:pt x="712" y="1202"/>
                  </a:lnTo>
                  <a:lnTo>
                    <a:pt x="689" y="1189"/>
                  </a:lnTo>
                  <a:lnTo>
                    <a:pt x="667" y="1176"/>
                  </a:lnTo>
                  <a:lnTo>
                    <a:pt x="645" y="1164"/>
                  </a:lnTo>
                  <a:lnTo>
                    <a:pt x="623" y="1152"/>
                  </a:lnTo>
                  <a:lnTo>
                    <a:pt x="579" y="1130"/>
                  </a:lnTo>
                  <a:lnTo>
                    <a:pt x="535" y="1110"/>
                  </a:lnTo>
                  <a:lnTo>
                    <a:pt x="490" y="1089"/>
                  </a:lnTo>
                  <a:lnTo>
                    <a:pt x="446" y="1069"/>
                  </a:lnTo>
                  <a:lnTo>
                    <a:pt x="403" y="1047"/>
                  </a:lnTo>
                  <a:lnTo>
                    <a:pt x="358" y="1025"/>
                  </a:lnTo>
                  <a:lnTo>
                    <a:pt x="337" y="1012"/>
                  </a:lnTo>
                  <a:lnTo>
                    <a:pt x="314" y="999"/>
                  </a:lnTo>
                  <a:lnTo>
                    <a:pt x="293" y="985"/>
                  </a:lnTo>
                  <a:lnTo>
                    <a:pt x="270" y="971"/>
                  </a:lnTo>
                  <a:lnTo>
                    <a:pt x="248" y="954"/>
                  </a:lnTo>
                  <a:lnTo>
                    <a:pt x="227" y="937"/>
                  </a:lnTo>
                  <a:lnTo>
                    <a:pt x="204" y="919"/>
                  </a:lnTo>
                  <a:lnTo>
                    <a:pt x="182" y="900"/>
                  </a:lnTo>
                  <a:lnTo>
                    <a:pt x="160" y="879"/>
                  </a:lnTo>
                  <a:lnTo>
                    <a:pt x="138" y="857"/>
                  </a:lnTo>
                  <a:lnTo>
                    <a:pt x="116" y="833"/>
                  </a:lnTo>
                  <a:lnTo>
                    <a:pt x="93" y="809"/>
                  </a:lnTo>
                  <a:lnTo>
                    <a:pt x="71" y="782"/>
                  </a:lnTo>
                  <a:lnTo>
                    <a:pt x="49" y="752"/>
                  </a:lnTo>
                  <a:lnTo>
                    <a:pt x="27" y="722"/>
                  </a:lnTo>
                  <a:lnTo>
                    <a:pt x="4" y="690"/>
                  </a:lnTo>
                  <a:lnTo>
                    <a:pt x="2" y="594"/>
                  </a:lnTo>
                  <a:lnTo>
                    <a:pt x="0" y="489"/>
                  </a:lnTo>
                  <a:lnTo>
                    <a:pt x="1" y="435"/>
                  </a:lnTo>
                  <a:lnTo>
                    <a:pt x="3" y="381"/>
                  </a:lnTo>
                  <a:lnTo>
                    <a:pt x="6" y="355"/>
                  </a:lnTo>
                  <a:lnTo>
                    <a:pt x="10" y="328"/>
                  </a:lnTo>
                  <a:lnTo>
                    <a:pt x="13" y="302"/>
                  </a:lnTo>
                  <a:lnTo>
                    <a:pt x="18" y="276"/>
                  </a:lnTo>
                  <a:lnTo>
                    <a:pt x="25" y="251"/>
                  </a:lnTo>
                  <a:lnTo>
                    <a:pt x="32" y="226"/>
                  </a:lnTo>
                  <a:lnTo>
                    <a:pt x="41" y="203"/>
                  </a:lnTo>
                  <a:lnTo>
                    <a:pt x="51" y="180"/>
                  </a:lnTo>
                  <a:lnTo>
                    <a:pt x="62" y="158"/>
                  </a:lnTo>
                  <a:lnTo>
                    <a:pt x="75" y="137"/>
                  </a:lnTo>
                  <a:lnTo>
                    <a:pt x="89" y="117"/>
                  </a:lnTo>
                  <a:lnTo>
                    <a:pt x="105" y="98"/>
                  </a:lnTo>
                  <a:lnTo>
                    <a:pt x="123" y="81"/>
                  </a:lnTo>
                  <a:lnTo>
                    <a:pt x="143" y="64"/>
                  </a:lnTo>
                  <a:lnTo>
                    <a:pt x="164" y="49"/>
                  </a:lnTo>
                  <a:lnTo>
                    <a:pt x="188" y="35"/>
                  </a:lnTo>
                  <a:lnTo>
                    <a:pt x="214" y="24"/>
                  </a:lnTo>
                  <a:lnTo>
                    <a:pt x="242" y="14"/>
                  </a:lnTo>
                  <a:lnTo>
                    <a:pt x="272" y="6"/>
                  </a:lnTo>
                  <a:lnTo>
                    <a:pt x="305" y="0"/>
                  </a:lnTo>
                  <a:lnTo>
                    <a:pt x="326" y="3"/>
                  </a:lnTo>
                  <a:lnTo>
                    <a:pt x="346" y="8"/>
                  </a:lnTo>
                  <a:lnTo>
                    <a:pt x="364" y="14"/>
                  </a:lnTo>
                  <a:lnTo>
                    <a:pt x="382" y="19"/>
                  </a:lnTo>
                  <a:lnTo>
                    <a:pt x="398" y="26"/>
                  </a:lnTo>
                  <a:lnTo>
                    <a:pt x="414" y="33"/>
                  </a:lnTo>
                  <a:lnTo>
                    <a:pt x="427" y="41"/>
                  </a:lnTo>
                  <a:lnTo>
                    <a:pt x="439" y="49"/>
                  </a:lnTo>
                  <a:lnTo>
                    <a:pt x="451" y="59"/>
                  </a:lnTo>
                  <a:lnTo>
                    <a:pt x="461" y="69"/>
                  </a:lnTo>
                  <a:lnTo>
                    <a:pt x="470" y="80"/>
                  </a:lnTo>
                  <a:lnTo>
                    <a:pt x="477" y="90"/>
                  </a:lnTo>
                  <a:lnTo>
                    <a:pt x="483" y="102"/>
                  </a:lnTo>
                  <a:lnTo>
                    <a:pt x="488" y="115"/>
                  </a:lnTo>
                  <a:lnTo>
                    <a:pt x="491" y="128"/>
                  </a:lnTo>
                  <a:lnTo>
                    <a:pt x="49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448080" y="3856320"/>
              <a:ext cx="136440" cy="81000"/>
            </a:xfrm>
            <a:custGeom>
              <a:avLst/>
              <a:gdLst/>
              <a:ahLst/>
              <a:rect l="l" t="t" r="r" b="b"/>
              <a:pathLst>
                <a:path w="344" h="204">
                  <a:moveTo>
                    <a:pt x="39" y="192"/>
                  </a:moveTo>
                  <a:lnTo>
                    <a:pt x="39" y="192"/>
                  </a:lnTo>
                  <a:lnTo>
                    <a:pt x="48" y="175"/>
                  </a:lnTo>
                  <a:lnTo>
                    <a:pt x="57" y="158"/>
                  </a:lnTo>
                  <a:lnTo>
                    <a:pt x="69" y="143"/>
                  </a:lnTo>
                  <a:lnTo>
                    <a:pt x="82" y="129"/>
                  </a:lnTo>
                  <a:lnTo>
                    <a:pt x="96" y="116"/>
                  </a:lnTo>
                  <a:lnTo>
                    <a:pt x="112" y="103"/>
                  </a:lnTo>
                  <a:lnTo>
                    <a:pt x="130" y="93"/>
                  </a:lnTo>
                  <a:lnTo>
                    <a:pt x="149" y="83"/>
                  </a:lnTo>
                  <a:lnTo>
                    <a:pt x="169" y="73"/>
                  </a:lnTo>
                  <a:lnTo>
                    <a:pt x="190" y="66"/>
                  </a:lnTo>
                  <a:lnTo>
                    <a:pt x="213" y="58"/>
                  </a:lnTo>
                  <a:lnTo>
                    <a:pt x="237" y="53"/>
                  </a:lnTo>
                  <a:lnTo>
                    <a:pt x="261" y="47"/>
                  </a:lnTo>
                  <a:lnTo>
                    <a:pt x="288" y="44"/>
                  </a:lnTo>
                  <a:lnTo>
                    <a:pt x="315" y="42"/>
                  </a:lnTo>
                  <a:lnTo>
                    <a:pt x="344" y="40"/>
                  </a:lnTo>
                  <a:lnTo>
                    <a:pt x="342" y="0"/>
                  </a:lnTo>
                  <a:lnTo>
                    <a:pt x="312" y="1"/>
                  </a:lnTo>
                  <a:lnTo>
                    <a:pt x="283" y="4"/>
                  </a:lnTo>
                  <a:lnTo>
                    <a:pt x="255" y="7"/>
                  </a:lnTo>
                  <a:lnTo>
                    <a:pt x="228" y="13"/>
                  </a:lnTo>
                  <a:lnTo>
                    <a:pt x="202" y="19"/>
                  </a:lnTo>
                  <a:lnTo>
                    <a:pt x="177" y="27"/>
                  </a:lnTo>
                  <a:lnTo>
                    <a:pt x="154" y="36"/>
                  </a:lnTo>
                  <a:lnTo>
                    <a:pt x="131" y="46"/>
                  </a:lnTo>
                  <a:lnTo>
                    <a:pt x="109" y="58"/>
                  </a:lnTo>
                  <a:lnTo>
                    <a:pt x="90" y="71"/>
                  </a:lnTo>
                  <a:lnTo>
                    <a:pt x="70" y="85"/>
                  </a:lnTo>
                  <a:lnTo>
                    <a:pt x="53" y="100"/>
                  </a:lnTo>
                  <a:lnTo>
                    <a:pt x="38" y="117"/>
                  </a:lnTo>
                  <a:lnTo>
                    <a:pt x="24" y="136"/>
                  </a:lnTo>
                  <a:lnTo>
                    <a:pt x="12" y="15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2"/>
                  </a:lnTo>
                  <a:lnTo>
                    <a:pt x="4" y="195"/>
                  </a:lnTo>
                  <a:lnTo>
                    <a:pt x="7" y="198"/>
                  </a:lnTo>
                  <a:lnTo>
                    <a:pt x="10" y="201"/>
                  </a:lnTo>
                  <a:lnTo>
                    <a:pt x="13" y="203"/>
                  </a:lnTo>
                  <a:lnTo>
                    <a:pt x="16" y="204"/>
                  </a:lnTo>
                  <a:lnTo>
                    <a:pt x="21" y="204"/>
                  </a:lnTo>
                  <a:lnTo>
                    <a:pt x="24" y="204"/>
                  </a:lnTo>
                  <a:lnTo>
                    <a:pt x="27" y="203"/>
                  </a:lnTo>
                  <a:lnTo>
                    <a:pt x="31" y="202"/>
                  </a:lnTo>
                  <a:lnTo>
                    <a:pt x="35" y="199"/>
                  </a:lnTo>
                  <a:lnTo>
                    <a:pt x="37" y="196"/>
                  </a:lnTo>
                  <a:lnTo>
                    <a:pt x="39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441600" y="3926160"/>
              <a:ext cx="201600" cy="249120"/>
            </a:xfrm>
            <a:custGeom>
              <a:avLst/>
              <a:gdLst/>
              <a:ahLst/>
              <a:rect l="l" t="t" r="r" b="b"/>
              <a:pathLst>
                <a:path w="508" h="626">
                  <a:moveTo>
                    <a:pt x="497" y="587"/>
                  </a:moveTo>
                  <a:lnTo>
                    <a:pt x="497" y="587"/>
                  </a:lnTo>
                  <a:lnTo>
                    <a:pt x="466" y="573"/>
                  </a:lnTo>
                  <a:lnTo>
                    <a:pt x="438" y="559"/>
                  </a:lnTo>
                  <a:lnTo>
                    <a:pt x="409" y="544"/>
                  </a:lnTo>
                  <a:lnTo>
                    <a:pt x="382" y="529"/>
                  </a:lnTo>
                  <a:lnTo>
                    <a:pt x="355" y="513"/>
                  </a:lnTo>
                  <a:lnTo>
                    <a:pt x="329" y="496"/>
                  </a:lnTo>
                  <a:lnTo>
                    <a:pt x="304" y="479"/>
                  </a:lnTo>
                  <a:lnTo>
                    <a:pt x="281" y="462"/>
                  </a:lnTo>
                  <a:lnTo>
                    <a:pt x="258" y="444"/>
                  </a:lnTo>
                  <a:lnTo>
                    <a:pt x="235" y="425"/>
                  </a:lnTo>
                  <a:lnTo>
                    <a:pt x="215" y="407"/>
                  </a:lnTo>
                  <a:lnTo>
                    <a:pt x="195" y="388"/>
                  </a:lnTo>
                  <a:lnTo>
                    <a:pt x="176" y="369"/>
                  </a:lnTo>
                  <a:lnTo>
                    <a:pt x="159" y="350"/>
                  </a:lnTo>
                  <a:lnTo>
                    <a:pt x="141" y="330"/>
                  </a:lnTo>
                  <a:lnTo>
                    <a:pt x="126" y="311"/>
                  </a:lnTo>
                  <a:lnTo>
                    <a:pt x="112" y="290"/>
                  </a:lnTo>
                  <a:lnTo>
                    <a:pt x="99" y="271"/>
                  </a:lnTo>
                  <a:lnTo>
                    <a:pt x="87" y="251"/>
                  </a:lnTo>
                  <a:lnTo>
                    <a:pt x="77" y="232"/>
                  </a:lnTo>
                  <a:lnTo>
                    <a:pt x="67" y="212"/>
                  </a:lnTo>
                  <a:lnTo>
                    <a:pt x="59" y="193"/>
                  </a:lnTo>
                  <a:lnTo>
                    <a:pt x="53" y="174"/>
                  </a:lnTo>
                  <a:lnTo>
                    <a:pt x="47" y="154"/>
                  </a:lnTo>
                  <a:lnTo>
                    <a:pt x="44" y="136"/>
                  </a:lnTo>
                  <a:lnTo>
                    <a:pt x="41" y="117"/>
                  </a:lnTo>
                  <a:lnTo>
                    <a:pt x="40" y="99"/>
                  </a:lnTo>
                  <a:lnTo>
                    <a:pt x="41" y="82"/>
                  </a:lnTo>
                  <a:lnTo>
                    <a:pt x="42" y="64"/>
                  </a:lnTo>
                  <a:lnTo>
                    <a:pt x="45" y="48"/>
                  </a:lnTo>
                  <a:lnTo>
                    <a:pt x="51" y="32"/>
                  </a:lnTo>
                  <a:lnTo>
                    <a:pt x="56" y="16"/>
                  </a:lnTo>
                  <a:lnTo>
                    <a:pt x="19" y="0"/>
                  </a:lnTo>
                  <a:lnTo>
                    <a:pt x="12" y="19"/>
                  </a:lnTo>
                  <a:lnTo>
                    <a:pt x="6" y="39"/>
                  </a:lnTo>
                  <a:lnTo>
                    <a:pt x="2" y="59"/>
                  </a:lnTo>
                  <a:lnTo>
                    <a:pt x="0" y="80"/>
                  </a:lnTo>
                  <a:lnTo>
                    <a:pt x="0" y="100"/>
                  </a:lnTo>
                  <a:lnTo>
                    <a:pt x="1" y="122"/>
                  </a:lnTo>
                  <a:lnTo>
                    <a:pt x="4" y="142"/>
                  </a:lnTo>
                  <a:lnTo>
                    <a:pt x="9" y="164"/>
                  </a:lnTo>
                  <a:lnTo>
                    <a:pt x="14" y="185"/>
                  </a:lnTo>
                  <a:lnTo>
                    <a:pt x="21" y="207"/>
                  </a:lnTo>
                  <a:lnTo>
                    <a:pt x="30" y="229"/>
                  </a:lnTo>
                  <a:lnTo>
                    <a:pt x="41" y="249"/>
                  </a:lnTo>
                  <a:lnTo>
                    <a:pt x="52" y="271"/>
                  </a:lnTo>
                  <a:lnTo>
                    <a:pt x="65" y="292"/>
                  </a:lnTo>
                  <a:lnTo>
                    <a:pt x="79" y="314"/>
                  </a:lnTo>
                  <a:lnTo>
                    <a:pt x="94" y="334"/>
                  </a:lnTo>
                  <a:lnTo>
                    <a:pt x="110" y="355"/>
                  </a:lnTo>
                  <a:lnTo>
                    <a:pt x="128" y="377"/>
                  </a:lnTo>
                  <a:lnTo>
                    <a:pt x="147" y="397"/>
                  </a:lnTo>
                  <a:lnTo>
                    <a:pt x="166" y="417"/>
                  </a:lnTo>
                  <a:lnTo>
                    <a:pt x="188" y="437"/>
                  </a:lnTo>
                  <a:lnTo>
                    <a:pt x="209" y="457"/>
                  </a:lnTo>
                  <a:lnTo>
                    <a:pt x="232" y="475"/>
                  </a:lnTo>
                  <a:lnTo>
                    <a:pt x="257" y="494"/>
                  </a:lnTo>
                  <a:lnTo>
                    <a:pt x="282" y="512"/>
                  </a:lnTo>
                  <a:lnTo>
                    <a:pt x="308" y="530"/>
                  </a:lnTo>
                  <a:lnTo>
                    <a:pt x="335" y="547"/>
                  </a:lnTo>
                  <a:lnTo>
                    <a:pt x="362" y="563"/>
                  </a:lnTo>
                  <a:lnTo>
                    <a:pt x="391" y="580"/>
                  </a:lnTo>
                  <a:lnTo>
                    <a:pt x="420" y="595"/>
                  </a:lnTo>
                  <a:lnTo>
                    <a:pt x="450" y="610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0" y="624"/>
                  </a:lnTo>
                  <a:lnTo>
                    <a:pt x="485" y="625"/>
                  </a:lnTo>
                  <a:lnTo>
                    <a:pt x="489" y="626"/>
                  </a:lnTo>
                  <a:lnTo>
                    <a:pt x="493" y="625"/>
                  </a:lnTo>
                  <a:lnTo>
                    <a:pt x="497" y="624"/>
                  </a:lnTo>
                  <a:lnTo>
                    <a:pt x="500" y="622"/>
                  </a:lnTo>
                  <a:lnTo>
                    <a:pt x="503" y="620"/>
                  </a:lnTo>
                  <a:lnTo>
                    <a:pt x="505" y="616"/>
                  </a:lnTo>
                  <a:lnTo>
                    <a:pt x="507" y="613"/>
                  </a:lnTo>
                  <a:lnTo>
                    <a:pt x="508" y="610"/>
                  </a:lnTo>
                  <a:lnTo>
                    <a:pt x="508" y="606"/>
                  </a:lnTo>
                  <a:lnTo>
                    <a:pt x="508" y="602"/>
                  </a:lnTo>
                  <a:lnTo>
                    <a:pt x="508" y="599"/>
                  </a:lnTo>
                  <a:lnTo>
                    <a:pt x="506" y="595"/>
                  </a:lnTo>
                  <a:lnTo>
                    <a:pt x="504" y="592"/>
                  </a:lnTo>
                  <a:lnTo>
                    <a:pt x="501" y="589"/>
                  </a:lnTo>
                  <a:lnTo>
                    <a:pt x="497" y="5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632040" y="4159440"/>
              <a:ext cx="86040" cy="3492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209" y="53"/>
                  </a:moveTo>
                  <a:lnTo>
                    <a:pt x="199" y="49"/>
                  </a:lnTo>
                  <a:lnTo>
                    <a:pt x="167" y="43"/>
                  </a:lnTo>
                  <a:lnTo>
                    <a:pt x="142" y="40"/>
                  </a:lnTo>
                  <a:lnTo>
                    <a:pt x="122" y="37"/>
                  </a:lnTo>
                  <a:lnTo>
                    <a:pt x="105" y="33"/>
                  </a:lnTo>
                  <a:lnTo>
                    <a:pt x="89" y="28"/>
                  </a:lnTo>
                  <a:lnTo>
                    <a:pt x="70" y="22"/>
                  </a:lnTo>
                  <a:lnTo>
                    <a:pt x="47" y="13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31" y="50"/>
                  </a:lnTo>
                  <a:lnTo>
                    <a:pt x="55" y="60"/>
                  </a:lnTo>
                  <a:lnTo>
                    <a:pt x="77" y="67"/>
                  </a:lnTo>
                  <a:lnTo>
                    <a:pt x="97" y="73"/>
                  </a:lnTo>
                  <a:lnTo>
                    <a:pt x="115" y="76"/>
                  </a:lnTo>
                  <a:lnTo>
                    <a:pt x="136" y="80"/>
                  </a:lnTo>
                  <a:lnTo>
                    <a:pt x="161" y="83"/>
                  </a:lnTo>
                  <a:lnTo>
                    <a:pt x="193" y="89"/>
                  </a:lnTo>
                  <a:lnTo>
                    <a:pt x="182" y="83"/>
                  </a:lnTo>
                  <a:lnTo>
                    <a:pt x="193" y="89"/>
                  </a:lnTo>
                  <a:lnTo>
                    <a:pt x="197" y="89"/>
                  </a:lnTo>
                  <a:lnTo>
                    <a:pt x="201" y="88"/>
                  </a:lnTo>
                  <a:lnTo>
                    <a:pt x="206" y="87"/>
                  </a:lnTo>
                  <a:lnTo>
                    <a:pt x="209" y="84"/>
                  </a:lnTo>
                  <a:lnTo>
                    <a:pt x="211" y="82"/>
                  </a:lnTo>
                  <a:lnTo>
                    <a:pt x="213" y="79"/>
                  </a:lnTo>
                  <a:lnTo>
                    <a:pt x="214" y="76"/>
                  </a:lnTo>
                  <a:lnTo>
                    <a:pt x="215" y="71"/>
                  </a:lnTo>
                  <a:lnTo>
                    <a:pt x="215" y="68"/>
                  </a:lnTo>
                  <a:lnTo>
                    <a:pt x="215" y="64"/>
                  </a:lnTo>
                  <a:lnTo>
                    <a:pt x="214" y="61"/>
                  </a:lnTo>
                  <a:lnTo>
                    <a:pt x="213" y="57"/>
                  </a:lnTo>
                  <a:lnTo>
                    <a:pt x="210" y="54"/>
                  </a:lnTo>
                  <a:lnTo>
                    <a:pt x="208" y="52"/>
                  </a:lnTo>
                  <a:lnTo>
                    <a:pt x="203" y="50"/>
                  </a:lnTo>
                  <a:lnTo>
                    <a:pt x="199" y="49"/>
                  </a:lnTo>
                  <a:lnTo>
                    <a:pt x="209" y="5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662280" y="4179960"/>
              <a:ext cx="82800" cy="112680"/>
            </a:xfrm>
            <a:custGeom>
              <a:avLst/>
              <a:gdLst/>
              <a:ahLst/>
              <a:rect l="l" t="t" r="r" b="b"/>
              <a:pathLst>
                <a:path w="208" h="284">
                  <a:moveTo>
                    <a:pt x="10" y="281"/>
                  </a:moveTo>
                  <a:lnTo>
                    <a:pt x="27" y="283"/>
                  </a:lnTo>
                  <a:lnTo>
                    <a:pt x="62" y="271"/>
                  </a:lnTo>
                  <a:lnTo>
                    <a:pt x="92" y="258"/>
                  </a:lnTo>
                  <a:lnTo>
                    <a:pt x="106" y="251"/>
                  </a:lnTo>
                  <a:lnTo>
                    <a:pt x="119" y="244"/>
                  </a:lnTo>
                  <a:lnTo>
                    <a:pt x="132" y="237"/>
                  </a:lnTo>
                  <a:lnTo>
                    <a:pt x="143" y="229"/>
                  </a:lnTo>
                  <a:lnTo>
                    <a:pt x="153" y="222"/>
                  </a:lnTo>
                  <a:lnTo>
                    <a:pt x="163" y="214"/>
                  </a:lnTo>
                  <a:lnTo>
                    <a:pt x="172" y="206"/>
                  </a:lnTo>
                  <a:lnTo>
                    <a:pt x="180" y="198"/>
                  </a:lnTo>
                  <a:lnTo>
                    <a:pt x="187" y="189"/>
                  </a:lnTo>
                  <a:lnTo>
                    <a:pt x="193" y="180"/>
                  </a:lnTo>
                  <a:lnTo>
                    <a:pt x="199" y="171"/>
                  </a:lnTo>
                  <a:lnTo>
                    <a:pt x="203" y="161"/>
                  </a:lnTo>
                  <a:lnTo>
                    <a:pt x="205" y="151"/>
                  </a:lnTo>
                  <a:lnTo>
                    <a:pt x="207" y="142"/>
                  </a:lnTo>
                  <a:lnTo>
                    <a:pt x="208" y="131"/>
                  </a:lnTo>
                  <a:lnTo>
                    <a:pt x="208" y="121"/>
                  </a:lnTo>
                  <a:lnTo>
                    <a:pt x="207" y="110"/>
                  </a:lnTo>
                  <a:lnTo>
                    <a:pt x="204" y="101"/>
                  </a:lnTo>
                  <a:lnTo>
                    <a:pt x="201" y="90"/>
                  </a:lnTo>
                  <a:lnTo>
                    <a:pt x="197" y="80"/>
                  </a:lnTo>
                  <a:lnTo>
                    <a:pt x="191" y="69"/>
                  </a:lnTo>
                  <a:lnTo>
                    <a:pt x="186" y="60"/>
                  </a:lnTo>
                  <a:lnTo>
                    <a:pt x="178" y="50"/>
                  </a:lnTo>
                  <a:lnTo>
                    <a:pt x="171" y="40"/>
                  </a:lnTo>
                  <a:lnTo>
                    <a:pt x="153" y="21"/>
                  </a:lnTo>
                  <a:lnTo>
                    <a:pt x="132" y="0"/>
                  </a:lnTo>
                  <a:lnTo>
                    <a:pt x="105" y="30"/>
                  </a:lnTo>
                  <a:lnTo>
                    <a:pt x="124" y="49"/>
                  </a:lnTo>
                  <a:lnTo>
                    <a:pt x="140" y="66"/>
                  </a:lnTo>
                  <a:lnTo>
                    <a:pt x="146" y="74"/>
                  </a:lnTo>
                  <a:lnTo>
                    <a:pt x="151" y="82"/>
                  </a:lnTo>
                  <a:lnTo>
                    <a:pt x="157" y="90"/>
                  </a:lnTo>
                  <a:lnTo>
                    <a:pt x="160" y="97"/>
                  </a:lnTo>
                  <a:lnTo>
                    <a:pt x="163" y="104"/>
                  </a:lnTo>
                  <a:lnTo>
                    <a:pt x="165" y="111"/>
                  </a:lnTo>
                  <a:lnTo>
                    <a:pt x="167" y="118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67" y="136"/>
                  </a:lnTo>
                  <a:lnTo>
                    <a:pt x="166" y="142"/>
                  </a:lnTo>
                  <a:lnTo>
                    <a:pt x="165" y="147"/>
                  </a:lnTo>
                  <a:lnTo>
                    <a:pt x="162" y="153"/>
                  </a:lnTo>
                  <a:lnTo>
                    <a:pt x="159" y="159"/>
                  </a:lnTo>
                  <a:lnTo>
                    <a:pt x="154" y="165"/>
                  </a:lnTo>
                  <a:lnTo>
                    <a:pt x="150" y="171"/>
                  </a:lnTo>
                  <a:lnTo>
                    <a:pt x="144" y="177"/>
                  </a:lnTo>
                  <a:lnTo>
                    <a:pt x="137" y="184"/>
                  </a:lnTo>
                  <a:lnTo>
                    <a:pt x="130" y="190"/>
                  </a:lnTo>
                  <a:lnTo>
                    <a:pt x="120" y="196"/>
                  </a:lnTo>
                  <a:lnTo>
                    <a:pt x="110" y="202"/>
                  </a:lnTo>
                  <a:lnTo>
                    <a:pt x="99" y="209"/>
                  </a:lnTo>
                  <a:lnTo>
                    <a:pt x="88" y="215"/>
                  </a:lnTo>
                  <a:lnTo>
                    <a:pt x="76" y="220"/>
                  </a:lnTo>
                  <a:lnTo>
                    <a:pt x="47" y="233"/>
                  </a:lnTo>
                  <a:lnTo>
                    <a:pt x="14" y="245"/>
                  </a:lnTo>
                  <a:lnTo>
                    <a:pt x="31" y="247"/>
                  </a:lnTo>
                  <a:lnTo>
                    <a:pt x="14" y="245"/>
                  </a:lnTo>
                  <a:lnTo>
                    <a:pt x="10" y="246"/>
                  </a:lnTo>
                  <a:lnTo>
                    <a:pt x="7" y="250"/>
                  </a:lnTo>
                  <a:lnTo>
                    <a:pt x="3" y="253"/>
                  </a:lnTo>
                  <a:lnTo>
                    <a:pt x="1" y="256"/>
                  </a:lnTo>
                  <a:lnTo>
                    <a:pt x="0" y="259"/>
                  </a:lnTo>
                  <a:lnTo>
                    <a:pt x="0" y="263"/>
                  </a:lnTo>
                  <a:lnTo>
                    <a:pt x="0" y="267"/>
                  </a:lnTo>
                  <a:lnTo>
                    <a:pt x="1" y="270"/>
                  </a:lnTo>
                  <a:lnTo>
                    <a:pt x="2" y="274"/>
                  </a:lnTo>
                  <a:lnTo>
                    <a:pt x="4" y="277"/>
                  </a:lnTo>
                  <a:lnTo>
                    <a:pt x="8" y="280"/>
                  </a:lnTo>
                  <a:lnTo>
                    <a:pt x="11" y="282"/>
                  </a:lnTo>
                  <a:lnTo>
                    <a:pt x="14" y="283"/>
                  </a:lnTo>
                  <a:lnTo>
                    <a:pt x="17" y="284"/>
                  </a:lnTo>
                  <a:lnTo>
                    <a:pt x="22" y="284"/>
                  </a:lnTo>
                  <a:lnTo>
                    <a:pt x="27" y="283"/>
                  </a:lnTo>
                  <a:lnTo>
                    <a:pt x="10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381480" y="4073760"/>
              <a:ext cx="293760" cy="217440"/>
            </a:xfrm>
            <a:custGeom>
              <a:avLst/>
              <a:gdLst/>
              <a:ahLst/>
              <a:rect l="l" t="t" r="r" b="b"/>
              <a:pathLst>
                <a:path w="738" h="550">
                  <a:moveTo>
                    <a:pt x="0" y="21"/>
                  </a:moveTo>
                  <a:lnTo>
                    <a:pt x="3" y="32"/>
                  </a:lnTo>
                  <a:lnTo>
                    <a:pt x="26" y="65"/>
                  </a:lnTo>
                  <a:lnTo>
                    <a:pt x="48" y="95"/>
                  </a:lnTo>
                  <a:lnTo>
                    <a:pt x="71" y="125"/>
                  </a:lnTo>
                  <a:lnTo>
                    <a:pt x="94" y="152"/>
                  </a:lnTo>
                  <a:lnTo>
                    <a:pt x="116" y="178"/>
                  </a:lnTo>
                  <a:lnTo>
                    <a:pt x="139" y="202"/>
                  </a:lnTo>
                  <a:lnTo>
                    <a:pt x="162" y="225"/>
                  </a:lnTo>
                  <a:lnTo>
                    <a:pt x="184" y="245"/>
                  </a:lnTo>
                  <a:lnTo>
                    <a:pt x="207" y="266"/>
                  </a:lnTo>
                  <a:lnTo>
                    <a:pt x="230" y="284"/>
                  </a:lnTo>
                  <a:lnTo>
                    <a:pt x="252" y="302"/>
                  </a:lnTo>
                  <a:lnTo>
                    <a:pt x="275" y="318"/>
                  </a:lnTo>
                  <a:lnTo>
                    <a:pt x="298" y="333"/>
                  </a:lnTo>
                  <a:lnTo>
                    <a:pt x="319" y="347"/>
                  </a:lnTo>
                  <a:lnTo>
                    <a:pt x="342" y="361"/>
                  </a:lnTo>
                  <a:lnTo>
                    <a:pt x="365" y="373"/>
                  </a:lnTo>
                  <a:lnTo>
                    <a:pt x="409" y="397"/>
                  </a:lnTo>
                  <a:lnTo>
                    <a:pt x="453" y="418"/>
                  </a:lnTo>
                  <a:lnTo>
                    <a:pt x="498" y="439"/>
                  </a:lnTo>
                  <a:lnTo>
                    <a:pt x="542" y="459"/>
                  </a:lnTo>
                  <a:lnTo>
                    <a:pt x="586" y="480"/>
                  </a:lnTo>
                  <a:lnTo>
                    <a:pt x="629" y="501"/>
                  </a:lnTo>
                  <a:lnTo>
                    <a:pt x="651" y="512"/>
                  </a:lnTo>
                  <a:lnTo>
                    <a:pt x="674" y="524"/>
                  </a:lnTo>
                  <a:lnTo>
                    <a:pt x="695" y="537"/>
                  </a:lnTo>
                  <a:lnTo>
                    <a:pt x="717" y="550"/>
                  </a:lnTo>
                  <a:lnTo>
                    <a:pt x="738" y="516"/>
                  </a:lnTo>
                  <a:lnTo>
                    <a:pt x="716" y="502"/>
                  </a:lnTo>
                  <a:lnTo>
                    <a:pt x="693" y="489"/>
                  </a:lnTo>
                  <a:lnTo>
                    <a:pt x="670" y="476"/>
                  </a:lnTo>
                  <a:lnTo>
                    <a:pt x="648" y="465"/>
                  </a:lnTo>
                  <a:lnTo>
                    <a:pt x="603" y="443"/>
                  </a:lnTo>
                  <a:lnTo>
                    <a:pt x="559" y="422"/>
                  </a:lnTo>
                  <a:lnTo>
                    <a:pt x="515" y="402"/>
                  </a:lnTo>
                  <a:lnTo>
                    <a:pt x="471" y="381"/>
                  </a:lnTo>
                  <a:lnTo>
                    <a:pt x="427" y="361"/>
                  </a:lnTo>
                  <a:lnTo>
                    <a:pt x="384" y="338"/>
                  </a:lnTo>
                  <a:lnTo>
                    <a:pt x="363" y="325"/>
                  </a:lnTo>
                  <a:lnTo>
                    <a:pt x="341" y="312"/>
                  </a:lnTo>
                  <a:lnTo>
                    <a:pt x="319" y="299"/>
                  </a:lnTo>
                  <a:lnTo>
                    <a:pt x="298" y="284"/>
                  </a:lnTo>
                  <a:lnTo>
                    <a:pt x="276" y="269"/>
                  </a:lnTo>
                  <a:lnTo>
                    <a:pt x="255" y="253"/>
                  </a:lnTo>
                  <a:lnTo>
                    <a:pt x="233" y="235"/>
                  </a:lnTo>
                  <a:lnTo>
                    <a:pt x="211" y="216"/>
                  </a:lnTo>
                  <a:lnTo>
                    <a:pt x="190" y="196"/>
                  </a:lnTo>
                  <a:lnTo>
                    <a:pt x="168" y="174"/>
                  </a:lnTo>
                  <a:lnTo>
                    <a:pt x="147" y="151"/>
                  </a:lnTo>
                  <a:lnTo>
                    <a:pt x="125" y="127"/>
                  </a:lnTo>
                  <a:lnTo>
                    <a:pt x="102" y="100"/>
                  </a:lnTo>
                  <a:lnTo>
                    <a:pt x="81" y="71"/>
                  </a:lnTo>
                  <a:lnTo>
                    <a:pt x="59" y="41"/>
                  </a:lnTo>
                  <a:lnTo>
                    <a:pt x="37" y="9"/>
                  </a:lnTo>
                  <a:lnTo>
                    <a:pt x="41" y="21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379680" y="3799080"/>
              <a:ext cx="138240" cy="282600"/>
            </a:xfrm>
            <a:custGeom>
              <a:avLst/>
              <a:gdLst/>
              <a:ahLst/>
              <a:rect l="l" t="t" r="r" b="b"/>
              <a:pathLst>
                <a:path w="346" h="711">
                  <a:moveTo>
                    <a:pt x="329" y="0"/>
                  </a:moveTo>
                  <a:lnTo>
                    <a:pt x="322" y="0"/>
                  </a:lnTo>
                  <a:lnTo>
                    <a:pt x="305" y="3"/>
                  </a:lnTo>
                  <a:lnTo>
                    <a:pt x="289" y="7"/>
                  </a:lnTo>
                  <a:lnTo>
                    <a:pt x="273" y="11"/>
                  </a:lnTo>
                  <a:lnTo>
                    <a:pt x="256" y="15"/>
                  </a:lnTo>
                  <a:lnTo>
                    <a:pt x="241" y="21"/>
                  </a:lnTo>
                  <a:lnTo>
                    <a:pt x="227" y="26"/>
                  </a:lnTo>
                  <a:lnTo>
                    <a:pt x="213" y="32"/>
                  </a:lnTo>
                  <a:lnTo>
                    <a:pt x="199" y="39"/>
                  </a:lnTo>
                  <a:lnTo>
                    <a:pt x="187" y="45"/>
                  </a:lnTo>
                  <a:lnTo>
                    <a:pt x="174" y="53"/>
                  </a:lnTo>
                  <a:lnTo>
                    <a:pt x="162" y="61"/>
                  </a:lnTo>
                  <a:lnTo>
                    <a:pt x="152" y="69"/>
                  </a:lnTo>
                  <a:lnTo>
                    <a:pt x="141" y="78"/>
                  </a:lnTo>
                  <a:lnTo>
                    <a:pt x="130" y="86"/>
                  </a:lnTo>
                  <a:lnTo>
                    <a:pt x="120" y="95"/>
                  </a:lnTo>
                  <a:lnTo>
                    <a:pt x="111" y="106"/>
                  </a:lnTo>
                  <a:lnTo>
                    <a:pt x="94" y="125"/>
                  </a:lnTo>
                  <a:lnTo>
                    <a:pt x="78" y="147"/>
                  </a:lnTo>
                  <a:lnTo>
                    <a:pt x="65" y="170"/>
                  </a:lnTo>
                  <a:lnTo>
                    <a:pt x="53" y="192"/>
                  </a:lnTo>
                  <a:lnTo>
                    <a:pt x="43" y="217"/>
                  </a:lnTo>
                  <a:lnTo>
                    <a:pt x="34" y="242"/>
                  </a:lnTo>
                  <a:lnTo>
                    <a:pt x="26" y="267"/>
                  </a:lnTo>
                  <a:lnTo>
                    <a:pt x="20" y="293"/>
                  </a:lnTo>
                  <a:lnTo>
                    <a:pt x="15" y="320"/>
                  </a:lnTo>
                  <a:lnTo>
                    <a:pt x="10" y="347"/>
                  </a:lnTo>
                  <a:lnTo>
                    <a:pt x="7" y="374"/>
                  </a:lnTo>
                  <a:lnTo>
                    <a:pt x="5" y="401"/>
                  </a:lnTo>
                  <a:lnTo>
                    <a:pt x="2" y="456"/>
                  </a:lnTo>
                  <a:lnTo>
                    <a:pt x="0" y="510"/>
                  </a:lnTo>
                  <a:lnTo>
                    <a:pt x="3" y="615"/>
                  </a:lnTo>
                  <a:lnTo>
                    <a:pt x="5" y="711"/>
                  </a:lnTo>
                  <a:lnTo>
                    <a:pt x="46" y="711"/>
                  </a:lnTo>
                  <a:lnTo>
                    <a:pt x="44" y="615"/>
                  </a:lnTo>
                  <a:lnTo>
                    <a:pt x="42" y="510"/>
                  </a:lnTo>
                  <a:lnTo>
                    <a:pt x="42" y="457"/>
                  </a:lnTo>
                  <a:lnTo>
                    <a:pt x="45" y="404"/>
                  </a:lnTo>
                  <a:lnTo>
                    <a:pt x="47" y="378"/>
                  </a:lnTo>
                  <a:lnTo>
                    <a:pt x="50" y="352"/>
                  </a:lnTo>
                  <a:lnTo>
                    <a:pt x="54" y="326"/>
                  </a:lnTo>
                  <a:lnTo>
                    <a:pt x="59" y="301"/>
                  </a:lnTo>
                  <a:lnTo>
                    <a:pt x="65" y="278"/>
                  </a:lnTo>
                  <a:lnTo>
                    <a:pt x="72" y="254"/>
                  </a:lnTo>
                  <a:lnTo>
                    <a:pt x="80" y="231"/>
                  </a:lnTo>
                  <a:lnTo>
                    <a:pt x="90" y="210"/>
                  </a:lnTo>
                  <a:lnTo>
                    <a:pt x="100" y="189"/>
                  </a:lnTo>
                  <a:lnTo>
                    <a:pt x="113" y="169"/>
                  </a:lnTo>
                  <a:lnTo>
                    <a:pt x="126" y="150"/>
                  </a:lnTo>
                  <a:lnTo>
                    <a:pt x="141" y="132"/>
                  </a:lnTo>
                  <a:lnTo>
                    <a:pt x="148" y="124"/>
                  </a:lnTo>
                  <a:lnTo>
                    <a:pt x="157" y="117"/>
                  </a:lnTo>
                  <a:lnTo>
                    <a:pt x="166" y="108"/>
                  </a:lnTo>
                  <a:lnTo>
                    <a:pt x="175" y="102"/>
                  </a:lnTo>
                  <a:lnTo>
                    <a:pt x="185" y="94"/>
                  </a:lnTo>
                  <a:lnTo>
                    <a:pt x="196" y="88"/>
                  </a:lnTo>
                  <a:lnTo>
                    <a:pt x="207" y="81"/>
                  </a:lnTo>
                  <a:lnTo>
                    <a:pt x="218" y="75"/>
                  </a:lnTo>
                  <a:lnTo>
                    <a:pt x="229" y="69"/>
                  </a:lnTo>
                  <a:lnTo>
                    <a:pt x="242" y="64"/>
                  </a:lnTo>
                  <a:lnTo>
                    <a:pt x="255" y="58"/>
                  </a:lnTo>
                  <a:lnTo>
                    <a:pt x="268" y="54"/>
                  </a:lnTo>
                  <a:lnTo>
                    <a:pt x="282" y="50"/>
                  </a:lnTo>
                  <a:lnTo>
                    <a:pt x="297" y="47"/>
                  </a:lnTo>
                  <a:lnTo>
                    <a:pt x="313" y="43"/>
                  </a:lnTo>
                  <a:lnTo>
                    <a:pt x="329" y="40"/>
                  </a:lnTo>
                  <a:lnTo>
                    <a:pt x="322" y="40"/>
                  </a:lnTo>
                  <a:lnTo>
                    <a:pt x="329" y="40"/>
                  </a:lnTo>
                  <a:lnTo>
                    <a:pt x="333" y="39"/>
                  </a:lnTo>
                  <a:lnTo>
                    <a:pt x="337" y="37"/>
                  </a:lnTo>
                  <a:lnTo>
                    <a:pt x="341" y="35"/>
                  </a:lnTo>
                  <a:lnTo>
                    <a:pt x="343" y="31"/>
                  </a:lnTo>
                  <a:lnTo>
                    <a:pt x="345" y="28"/>
                  </a:lnTo>
                  <a:lnTo>
                    <a:pt x="346" y="25"/>
                  </a:lnTo>
                  <a:lnTo>
                    <a:pt x="346" y="21"/>
                  </a:lnTo>
                  <a:lnTo>
                    <a:pt x="346" y="17"/>
                  </a:lnTo>
                  <a:lnTo>
                    <a:pt x="345" y="13"/>
                  </a:lnTo>
                  <a:lnTo>
                    <a:pt x="343" y="10"/>
                  </a:lnTo>
                  <a:lnTo>
                    <a:pt x="341" y="7"/>
                  </a:lnTo>
                  <a:lnTo>
                    <a:pt x="338" y="4"/>
                  </a:lnTo>
                  <a:lnTo>
                    <a:pt x="335" y="2"/>
                  </a:lnTo>
                  <a:lnTo>
                    <a:pt x="332" y="1"/>
                  </a:lnTo>
                  <a:lnTo>
                    <a:pt x="328" y="0"/>
                  </a:lnTo>
                  <a:lnTo>
                    <a:pt x="322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508200" y="3799080"/>
              <a:ext cx="84240" cy="73080"/>
            </a:xfrm>
            <a:custGeom>
              <a:avLst/>
              <a:gdLst/>
              <a:ahLst/>
              <a:rect l="l" t="t" r="r" b="b"/>
              <a:pathLst>
                <a:path w="213" h="183">
                  <a:moveTo>
                    <a:pt x="194" y="183"/>
                  </a:moveTo>
                  <a:lnTo>
                    <a:pt x="213" y="161"/>
                  </a:lnTo>
                  <a:lnTo>
                    <a:pt x="210" y="145"/>
                  </a:lnTo>
                  <a:lnTo>
                    <a:pt x="207" y="130"/>
                  </a:lnTo>
                  <a:lnTo>
                    <a:pt x="201" y="116"/>
                  </a:lnTo>
                  <a:lnTo>
                    <a:pt x="194" y="102"/>
                  </a:lnTo>
                  <a:lnTo>
                    <a:pt x="185" y="89"/>
                  </a:lnTo>
                  <a:lnTo>
                    <a:pt x="175" y="77"/>
                  </a:lnTo>
                  <a:lnTo>
                    <a:pt x="163" y="65"/>
                  </a:lnTo>
                  <a:lnTo>
                    <a:pt x="150" y="54"/>
                  </a:lnTo>
                  <a:lnTo>
                    <a:pt x="136" y="45"/>
                  </a:lnTo>
                  <a:lnTo>
                    <a:pt x="121" y="36"/>
                  </a:lnTo>
                  <a:lnTo>
                    <a:pt x="105" y="28"/>
                  </a:lnTo>
                  <a:lnTo>
                    <a:pt x="88" y="22"/>
                  </a:lnTo>
                  <a:lnTo>
                    <a:pt x="69" y="15"/>
                  </a:lnTo>
                  <a:lnTo>
                    <a:pt x="50" y="10"/>
                  </a:lnTo>
                  <a:lnTo>
                    <a:pt x="29" y="4"/>
                  </a:lnTo>
                  <a:lnTo>
                    <a:pt x="7" y="0"/>
                  </a:lnTo>
                  <a:lnTo>
                    <a:pt x="0" y="40"/>
                  </a:lnTo>
                  <a:lnTo>
                    <a:pt x="21" y="44"/>
                  </a:lnTo>
                  <a:lnTo>
                    <a:pt x="40" y="49"/>
                  </a:lnTo>
                  <a:lnTo>
                    <a:pt x="57" y="53"/>
                  </a:lnTo>
                  <a:lnTo>
                    <a:pt x="74" y="59"/>
                  </a:lnTo>
                  <a:lnTo>
                    <a:pt x="89" y="65"/>
                  </a:lnTo>
                  <a:lnTo>
                    <a:pt x="103" y="72"/>
                  </a:lnTo>
                  <a:lnTo>
                    <a:pt x="116" y="79"/>
                  </a:lnTo>
                  <a:lnTo>
                    <a:pt x="127" y="86"/>
                  </a:lnTo>
                  <a:lnTo>
                    <a:pt x="136" y="95"/>
                  </a:lnTo>
                  <a:lnTo>
                    <a:pt x="145" y="104"/>
                  </a:lnTo>
                  <a:lnTo>
                    <a:pt x="153" y="112"/>
                  </a:lnTo>
                  <a:lnTo>
                    <a:pt x="159" y="122"/>
                  </a:lnTo>
                  <a:lnTo>
                    <a:pt x="163" y="132"/>
                  </a:lnTo>
                  <a:lnTo>
                    <a:pt x="168" y="143"/>
                  </a:lnTo>
                  <a:lnTo>
                    <a:pt x="171" y="153"/>
                  </a:lnTo>
                  <a:lnTo>
                    <a:pt x="173" y="165"/>
                  </a:lnTo>
                  <a:lnTo>
                    <a:pt x="192" y="143"/>
                  </a:lnTo>
                  <a:lnTo>
                    <a:pt x="173" y="165"/>
                  </a:lnTo>
                  <a:lnTo>
                    <a:pt x="173" y="170"/>
                  </a:lnTo>
                  <a:lnTo>
                    <a:pt x="175" y="174"/>
                  </a:lnTo>
                  <a:lnTo>
                    <a:pt x="177" y="177"/>
                  </a:lnTo>
                  <a:lnTo>
                    <a:pt x="181" y="179"/>
                  </a:lnTo>
                  <a:lnTo>
                    <a:pt x="184" y="182"/>
                  </a:lnTo>
                  <a:lnTo>
                    <a:pt x="187" y="183"/>
                  </a:lnTo>
                  <a:lnTo>
                    <a:pt x="190" y="183"/>
                  </a:lnTo>
                  <a:lnTo>
                    <a:pt x="195" y="183"/>
                  </a:lnTo>
                  <a:lnTo>
                    <a:pt x="198" y="183"/>
                  </a:lnTo>
                  <a:lnTo>
                    <a:pt x="202" y="182"/>
                  </a:lnTo>
                  <a:lnTo>
                    <a:pt x="205" y="179"/>
                  </a:lnTo>
                  <a:lnTo>
                    <a:pt x="208" y="176"/>
                  </a:lnTo>
                  <a:lnTo>
                    <a:pt x="210" y="174"/>
                  </a:lnTo>
                  <a:lnTo>
                    <a:pt x="212" y="170"/>
                  </a:lnTo>
                  <a:lnTo>
                    <a:pt x="213" y="165"/>
                  </a:lnTo>
                  <a:lnTo>
                    <a:pt x="213" y="161"/>
                  </a:lnTo>
                  <a:lnTo>
                    <a:pt x="194" y="1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541680" y="3932280"/>
              <a:ext cx="295200" cy="142920"/>
            </a:xfrm>
            <a:custGeom>
              <a:avLst/>
              <a:gdLst/>
              <a:ahLst/>
              <a:rect l="l" t="t" r="r" b="b"/>
              <a:pathLst>
                <a:path w="744" h="360">
                  <a:moveTo>
                    <a:pt x="0" y="52"/>
                  </a:moveTo>
                  <a:lnTo>
                    <a:pt x="684" y="360"/>
                  </a:lnTo>
                  <a:lnTo>
                    <a:pt x="744" y="150"/>
                  </a:lnTo>
                  <a:lnTo>
                    <a:pt x="639" y="74"/>
                  </a:lnTo>
                  <a:lnTo>
                    <a:pt x="601" y="209"/>
                  </a:lnTo>
                  <a:lnTo>
                    <a:pt x="8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538440" y="3945240"/>
              <a:ext cx="282600" cy="137880"/>
            </a:xfrm>
            <a:custGeom>
              <a:avLst/>
              <a:gdLst/>
              <a:ahLst/>
              <a:rect l="l" t="t" r="r" b="b"/>
              <a:pathLst>
                <a:path w="713" h="347">
                  <a:moveTo>
                    <a:pt x="713" y="333"/>
                  </a:moveTo>
                  <a:lnTo>
                    <a:pt x="701" y="308"/>
                  </a:lnTo>
                  <a:lnTo>
                    <a:pt x="17" y="0"/>
                  </a:lnTo>
                  <a:lnTo>
                    <a:pt x="0" y="37"/>
                  </a:lnTo>
                  <a:lnTo>
                    <a:pt x="685" y="345"/>
                  </a:lnTo>
                  <a:lnTo>
                    <a:pt x="713" y="333"/>
                  </a:lnTo>
                  <a:lnTo>
                    <a:pt x="685" y="345"/>
                  </a:lnTo>
                  <a:lnTo>
                    <a:pt x="689" y="347"/>
                  </a:lnTo>
                  <a:lnTo>
                    <a:pt x="693" y="347"/>
                  </a:lnTo>
                  <a:lnTo>
                    <a:pt x="698" y="347"/>
                  </a:lnTo>
                  <a:lnTo>
                    <a:pt x="701" y="346"/>
                  </a:lnTo>
                  <a:lnTo>
                    <a:pt x="704" y="344"/>
                  </a:lnTo>
                  <a:lnTo>
                    <a:pt x="707" y="342"/>
                  </a:lnTo>
                  <a:lnTo>
                    <a:pt x="709" y="338"/>
                  </a:lnTo>
                  <a:lnTo>
                    <a:pt x="712" y="335"/>
                  </a:lnTo>
                  <a:lnTo>
                    <a:pt x="713" y="332"/>
                  </a:lnTo>
                  <a:lnTo>
                    <a:pt x="713" y="328"/>
                  </a:lnTo>
                  <a:lnTo>
                    <a:pt x="713" y="324"/>
                  </a:lnTo>
                  <a:lnTo>
                    <a:pt x="713" y="320"/>
                  </a:lnTo>
                  <a:lnTo>
                    <a:pt x="711" y="317"/>
                  </a:lnTo>
                  <a:lnTo>
                    <a:pt x="708" y="314"/>
                  </a:lnTo>
                  <a:lnTo>
                    <a:pt x="705" y="311"/>
                  </a:lnTo>
                  <a:lnTo>
                    <a:pt x="701" y="308"/>
                  </a:lnTo>
                  <a:lnTo>
                    <a:pt x="713" y="3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05200" y="3983040"/>
              <a:ext cx="39600" cy="95400"/>
            </a:xfrm>
            <a:custGeom>
              <a:avLst/>
              <a:gdLst/>
              <a:ahLst/>
              <a:rect l="l" t="t" r="r" b="b"/>
              <a:pathLst>
                <a:path w="99" h="237">
                  <a:moveTo>
                    <a:pt x="91" y="5"/>
                  </a:moveTo>
                  <a:lnTo>
                    <a:pt x="59" y="16"/>
                  </a:lnTo>
                  <a:lnTo>
                    <a:pt x="0" y="225"/>
                  </a:lnTo>
                  <a:lnTo>
                    <a:pt x="39" y="237"/>
                  </a:lnTo>
                  <a:lnTo>
                    <a:pt x="98" y="26"/>
                  </a:lnTo>
                  <a:lnTo>
                    <a:pt x="91" y="5"/>
                  </a:lnTo>
                  <a:lnTo>
                    <a:pt x="98" y="26"/>
                  </a:lnTo>
                  <a:lnTo>
                    <a:pt x="99" y="22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10"/>
                  </a:lnTo>
                  <a:lnTo>
                    <a:pt x="94" y="7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4" y="2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2"/>
                  </a:lnTo>
                  <a:lnTo>
                    <a:pt x="69" y="3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60" y="11"/>
                  </a:lnTo>
                  <a:lnTo>
                    <a:pt x="59" y="16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787920" y="39531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2">
                  <a:moveTo>
                    <a:pt x="0" y="15"/>
                  </a:moveTo>
                  <a:lnTo>
                    <a:pt x="9" y="37"/>
                  </a:lnTo>
                  <a:lnTo>
                    <a:pt x="113" y="112"/>
                  </a:lnTo>
                  <a:lnTo>
                    <a:pt x="137" y="80"/>
                  </a:lnTo>
                  <a:lnTo>
                    <a:pt x="32" y="4"/>
                  </a:lnTo>
                  <a:lnTo>
                    <a:pt x="0" y="15"/>
                  </a:lnTo>
                  <a:lnTo>
                    <a:pt x="32" y="4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9" y="3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772080" y="3959280"/>
              <a:ext cx="31680" cy="63720"/>
            </a:xfrm>
            <a:custGeom>
              <a:avLst/>
              <a:gdLst/>
              <a:ahLst/>
              <a:rect l="l" t="t" r="r" b="b"/>
              <a:pathLst>
                <a:path w="77" h="161">
                  <a:moveTo>
                    <a:pt x="13" y="160"/>
                  </a:moveTo>
                  <a:lnTo>
                    <a:pt x="40" y="146"/>
                  </a:lnTo>
                  <a:lnTo>
                    <a:pt x="77" y="11"/>
                  </a:lnTo>
                  <a:lnTo>
                    <a:pt x="38" y="0"/>
                  </a:lnTo>
                  <a:lnTo>
                    <a:pt x="1" y="135"/>
                  </a:lnTo>
                  <a:lnTo>
                    <a:pt x="13" y="160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10" y="159"/>
                  </a:lnTo>
                  <a:lnTo>
                    <a:pt x="15" y="160"/>
                  </a:lnTo>
                  <a:lnTo>
                    <a:pt x="18" y="161"/>
                  </a:lnTo>
                  <a:lnTo>
                    <a:pt x="22" y="161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2" y="157"/>
                  </a:lnTo>
                  <a:lnTo>
                    <a:pt x="35" y="154"/>
                  </a:lnTo>
                  <a:lnTo>
                    <a:pt x="37" y="150"/>
                  </a:lnTo>
                  <a:lnTo>
                    <a:pt x="40" y="146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567240" y="3924360"/>
              <a:ext cx="215640" cy="98640"/>
            </a:xfrm>
            <a:custGeom>
              <a:avLst/>
              <a:gdLst/>
              <a:ahLst/>
              <a:rect l="l" t="t" r="r" b="b"/>
              <a:pathLst>
                <a:path w="547" h="250">
                  <a:moveTo>
                    <a:pt x="10" y="4"/>
                  </a:moveTo>
                  <a:lnTo>
                    <a:pt x="13" y="39"/>
                  </a:lnTo>
                  <a:lnTo>
                    <a:pt x="532" y="250"/>
                  </a:lnTo>
                  <a:lnTo>
                    <a:pt x="547" y="212"/>
                  </a:lnTo>
                  <a:lnTo>
                    <a:pt x="28" y="1"/>
                  </a:lnTo>
                  <a:lnTo>
                    <a:pt x="10" y="4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533760" y="3926160"/>
              <a:ext cx="46080" cy="3492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12" y="87"/>
                  </a:moveTo>
                  <a:lnTo>
                    <a:pt x="31" y="86"/>
                  </a:lnTo>
                  <a:lnTo>
                    <a:pt x="115" y="33"/>
                  </a:lnTo>
                  <a:lnTo>
                    <a:pt x="93" y="0"/>
                  </a:lnTo>
                  <a:lnTo>
                    <a:pt x="10" y="51"/>
                  </a:lnTo>
                  <a:lnTo>
                    <a:pt x="12" y="87"/>
                  </a:lnTo>
                  <a:lnTo>
                    <a:pt x="10" y="51"/>
                  </a:lnTo>
                  <a:lnTo>
                    <a:pt x="7" y="55"/>
                  </a:lnTo>
                  <a:lnTo>
                    <a:pt x="3" y="58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9" y="85"/>
                  </a:lnTo>
                  <a:lnTo>
                    <a:pt x="12" y="87"/>
                  </a:lnTo>
                  <a:lnTo>
                    <a:pt x="15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12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583080" y="4079880"/>
              <a:ext cx="11160" cy="1440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11" y="0"/>
                  </a:moveTo>
                  <a:lnTo>
                    <a:pt x="8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16" y="39"/>
                  </a:lnTo>
                  <a:lnTo>
                    <a:pt x="20" y="39"/>
                  </a:lnTo>
                  <a:lnTo>
                    <a:pt x="24" y="39"/>
                  </a:lnTo>
                  <a:lnTo>
                    <a:pt x="28" y="3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586320" y="4030920"/>
              <a:ext cx="50760" cy="63360"/>
            </a:xfrm>
            <a:custGeom>
              <a:avLst/>
              <a:gdLst/>
              <a:ahLst/>
              <a:rect l="l" t="t" r="r" b="b"/>
              <a:pathLst>
                <a:path w="125" h="161">
                  <a:moveTo>
                    <a:pt x="85" y="0"/>
                  </a:moveTo>
                  <a:lnTo>
                    <a:pt x="84" y="15"/>
                  </a:lnTo>
                  <a:lnTo>
                    <a:pt x="82" y="29"/>
                  </a:lnTo>
                  <a:lnTo>
                    <a:pt x="78" y="42"/>
                  </a:lnTo>
                  <a:lnTo>
                    <a:pt x="72" y="54"/>
                  </a:lnTo>
                  <a:lnTo>
                    <a:pt x="66" y="65"/>
                  </a:lnTo>
                  <a:lnTo>
                    <a:pt x="58" y="76"/>
                  </a:lnTo>
                  <a:lnTo>
                    <a:pt x="51" y="85"/>
                  </a:lnTo>
                  <a:lnTo>
                    <a:pt x="43" y="93"/>
                  </a:lnTo>
                  <a:lnTo>
                    <a:pt x="27" y="107"/>
                  </a:lnTo>
                  <a:lnTo>
                    <a:pt x="13" y="117"/>
                  </a:lnTo>
                  <a:lnTo>
                    <a:pt x="3" y="123"/>
                  </a:lnTo>
                  <a:lnTo>
                    <a:pt x="0" y="124"/>
                  </a:lnTo>
                  <a:lnTo>
                    <a:pt x="17" y="161"/>
                  </a:lnTo>
                  <a:lnTo>
                    <a:pt x="24" y="158"/>
                  </a:lnTo>
                  <a:lnTo>
                    <a:pt x="36" y="151"/>
                  </a:lnTo>
                  <a:lnTo>
                    <a:pt x="52" y="139"/>
                  </a:lnTo>
                  <a:lnTo>
                    <a:pt x="71" y="122"/>
                  </a:lnTo>
                  <a:lnTo>
                    <a:pt x="81" y="111"/>
                  </a:lnTo>
                  <a:lnTo>
                    <a:pt x="91" y="99"/>
                  </a:lnTo>
                  <a:lnTo>
                    <a:pt x="100" y="87"/>
                  </a:lnTo>
                  <a:lnTo>
                    <a:pt x="108" y="72"/>
                  </a:lnTo>
                  <a:lnTo>
                    <a:pt x="115" y="56"/>
                  </a:lnTo>
                  <a:lnTo>
                    <a:pt x="121" y="39"/>
                  </a:lnTo>
                  <a:lnTo>
                    <a:pt x="124" y="21"/>
                  </a:lnTo>
                  <a:lnTo>
                    <a:pt x="12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621240" y="4021200"/>
              <a:ext cx="15840" cy="972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20"/>
                  </a:moveTo>
                  <a:lnTo>
                    <a:pt x="40" y="16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662280" y="3940200"/>
              <a:ext cx="12960" cy="158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11" y="0"/>
                  </a:moveTo>
                  <a:lnTo>
                    <a:pt x="7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2" y="38"/>
                  </a:lnTo>
                  <a:lnTo>
                    <a:pt x="26" y="37"/>
                  </a:lnTo>
                  <a:lnTo>
                    <a:pt x="30" y="3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666960" y="3902400"/>
              <a:ext cx="34920" cy="5220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48" y="0"/>
                  </a:moveTo>
                  <a:lnTo>
                    <a:pt x="48" y="13"/>
                  </a:lnTo>
                  <a:lnTo>
                    <a:pt x="46" y="25"/>
                  </a:lnTo>
                  <a:lnTo>
                    <a:pt x="44" y="35"/>
                  </a:lnTo>
                  <a:lnTo>
                    <a:pt x="41" y="45"/>
                  </a:lnTo>
                  <a:lnTo>
                    <a:pt x="37" y="53"/>
                  </a:lnTo>
                  <a:lnTo>
                    <a:pt x="32" y="62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14" y="85"/>
                  </a:lnTo>
                  <a:lnTo>
                    <a:pt x="6" y="92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19" y="132"/>
                  </a:lnTo>
                  <a:lnTo>
                    <a:pt x="24" y="129"/>
                  </a:lnTo>
                  <a:lnTo>
                    <a:pt x="31" y="123"/>
                  </a:lnTo>
                  <a:lnTo>
                    <a:pt x="42" y="114"/>
                  </a:lnTo>
                  <a:lnTo>
                    <a:pt x="55" y="101"/>
                  </a:lnTo>
                  <a:lnTo>
                    <a:pt x="61" y="92"/>
                  </a:lnTo>
                  <a:lnTo>
                    <a:pt x="68" y="82"/>
                  </a:lnTo>
                  <a:lnTo>
                    <a:pt x="73" y="72"/>
                  </a:lnTo>
                  <a:lnTo>
                    <a:pt x="79" y="60"/>
                  </a:lnTo>
                  <a:lnTo>
                    <a:pt x="83" y="47"/>
                  </a:lnTo>
                  <a:lnTo>
                    <a:pt x="86" y="33"/>
                  </a:lnTo>
                  <a:lnTo>
                    <a:pt x="88" y="16"/>
                  </a:lnTo>
                  <a:lnTo>
                    <a:pt x="9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686040" y="3894120"/>
              <a:ext cx="15840" cy="82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42" y="20"/>
                  </a:moveTo>
                  <a:lnTo>
                    <a:pt x="40" y="16"/>
                  </a:lnTo>
                  <a:lnTo>
                    <a:pt x="39" y="12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852720" y="4000680"/>
              <a:ext cx="61920" cy="155520"/>
            </a:xfrm>
            <a:custGeom>
              <a:avLst/>
              <a:gdLst/>
              <a:ahLst/>
              <a:rect l="l" t="t" r="r" b="b"/>
              <a:pathLst>
                <a:path w="157" h="390">
                  <a:moveTo>
                    <a:pt x="51" y="390"/>
                  </a:moveTo>
                  <a:lnTo>
                    <a:pt x="45" y="372"/>
                  </a:lnTo>
                  <a:lnTo>
                    <a:pt x="38" y="356"/>
                  </a:lnTo>
                  <a:lnTo>
                    <a:pt x="32" y="340"/>
                  </a:lnTo>
                  <a:lnTo>
                    <a:pt x="25" y="323"/>
                  </a:lnTo>
                  <a:lnTo>
                    <a:pt x="19" y="305"/>
                  </a:lnTo>
                  <a:lnTo>
                    <a:pt x="12" y="289"/>
                  </a:lnTo>
                  <a:lnTo>
                    <a:pt x="6" y="272"/>
                  </a:lnTo>
                  <a:lnTo>
                    <a:pt x="0" y="255"/>
                  </a:lnTo>
                  <a:lnTo>
                    <a:pt x="12" y="244"/>
                  </a:lnTo>
                  <a:lnTo>
                    <a:pt x="23" y="233"/>
                  </a:lnTo>
                  <a:lnTo>
                    <a:pt x="33" y="222"/>
                  </a:lnTo>
                  <a:lnTo>
                    <a:pt x="42" y="211"/>
                  </a:lnTo>
                  <a:lnTo>
                    <a:pt x="48" y="201"/>
                  </a:lnTo>
                  <a:lnTo>
                    <a:pt x="52" y="190"/>
                  </a:lnTo>
                  <a:lnTo>
                    <a:pt x="56" y="179"/>
                  </a:lnTo>
                  <a:lnTo>
                    <a:pt x="57" y="168"/>
                  </a:lnTo>
                  <a:lnTo>
                    <a:pt x="56" y="157"/>
                  </a:lnTo>
                  <a:lnTo>
                    <a:pt x="54" y="145"/>
                  </a:lnTo>
                  <a:lnTo>
                    <a:pt x="50" y="135"/>
                  </a:lnTo>
                  <a:lnTo>
                    <a:pt x="45" y="124"/>
                  </a:lnTo>
                  <a:lnTo>
                    <a:pt x="37" y="113"/>
                  </a:lnTo>
                  <a:lnTo>
                    <a:pt x="29" y="102"/>
                  </a:lnTo>
                  <a:lnTo>
                    <a:pt x="19" y="91"/>
                  </a:lnTo>
                  <a:lnTo>
                    <a:pt x="7" y="81"/>
                  </a:lnTo>
                  <a:lnTo>
                    <a:pt x="20" y="71"/>
                  </a:lnTo>
                  <a:lnTo>
                    <a:pt x="33" y="60"/>
                  </a:lnTo>
                  <a:lnTo>
                    <a:pt x="46" y="50"/>
                  </a:lnTo>
                  <a:lnTo>
                    <a:pt x="59" y="41"/>
                  </a:lnTo>
                  <a:lnTo>
                    <a:pt x="72" y="30"/>
                  </a:lnTo>
                  <a:lnTo>
                    <a:pt x="85" y="20"/>
                  </a:lnTo>
                  <a:lnTo>
                    <a:pt x="98" y="10"/>
                  </a:lnTo>
                  <a:lnTo>
                    <a:pt x="111" y="0"/>
                  </a:lnTo>
                  <a:lnTo>
                    <a:pt x="125" y="32"/>
                  </a:lnTo>
                  <a:lnTo>
                    <a:pt x="136" y="62"/>
                  </a:lnTo>
                  <a:lnTo>
                    <a:pt x="144" y="91"/>
                  </a:lnTo>
                  <a:lnTo>
                    <a:pt x="152" y="121"/>
                  </a:lnTo>
                  <a:lnTo>
                    <a:pt x="154" y="135"/>
                  </a:lnTo>
                  <a:lnTo>
                    <a:pt x="156" y="149"/>
                  </a:lnTo>
                  <a:lnTo>
                    <a:pt x="157" y="162"/>
                  </a:lnTo>
                  <a:lnTo>
                    <a:pt x="157" y="175"/>
                  </a:lnTo>
                  <a:lnTo>
                    <a:pt x="157" y="189"/>
                  </a:lnTo>
                  <a:lnTo>
                    <a:pt x="157" y="201"/>
                  </a:lnTo>
                  <a:lnTo>
                    <a:pt x="156" y="214"/>
                  </a:lnTo>
                  <a:lnTo>
                    <a:pt x="155" y="225"/>
                  </a:lnTo>
                  <a:lnTo>
                    <a:pt x="153" y="237"/>
                  </a:lnTo>
                  <a:lnTo>
                    <a:pt x="150" y="249"/>
                  </a:lnTo>
                  <a:lnTo>
                    <a:pt x="146" y="261"/>
                  </a:lnTo>
                  <a:lnTo>
                    <a:pt x="142" y="273"/>
                  </a:lnTo>
                  <a:lnTo>
                    <a:pt x="138" y="284"/>
                  </a:lnTo>
                  <a:lnTo>
                    <a:pt x="133" y="295"/>
                  </a:lnTo>
                  <a:lnTo>
                    <a:pt x="127" y="305"/>
                  </a:lnTo>
                  <a:lnTo>
                    <a:pt x="122" y="315"/>
                  </a:lnTo>
                  <a:lnTo>
                    <a:pt x="114" y="326"/>
                  </a:lnTo>
                  <a:lnTo>
                    <a:pt x="108" y="336"/>
                  </a:lnTo>
                  <a:lnTo>
                    <a:pt x="99" y="345"/>
                  </a:lnTo>
                  <a:lnTo>
                    <a:pt x="90" y="354"/>
                  </a:lnTo>
                  <a:lnTo>
                    <a:pt x="82" y="364"/>
                  </a:lnTo>
                  <a:lnTo>
                    <a:pt x="72" y="372"/>
                  </a:lnTo>
                  <a:lnTo>
                    <a:pt x="62" y="381"/>
                  </a:lnTo>
                  <a:lnTo>
                    <a:pt x="51" y="39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844800" y="4094280"/>
              <a:ext cx="34920" cy="6516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8" y="4"/>
                  </a:moveTo>
                  <a:lnTo>
                    <a:pt x="1" y="27"/>
                  </a:lnTo>
                  <a:lnTo>
                    <a:pt x="8" y="44"/>
                  </a:lnTo>
                  <a:lnTo>
                    <a:pt x="14" y="62"/>
                  </a:lnTo>
                  <a:lnTo>
                    <a:pt x="21" y="79"/>
                  </a:lnTo>
                  <a:lnTo>
                    <a:pt x="27" y="96"/>
                  </a:lnTo>
                  <a:lnTo>
                    <a:pt x="33" y="112"/>
                  </a:lnTo>
                  <a:lnTo>
                    <a:pt x="40" y="130"/>
                  </a:lnTo>
                  <a:lnTo>
                    <a:pt x="46" y="146"/>
                  </a:lnTo>
                  <a:lnTo>
                    <a:pt x="53" y="163"/>
                  </a:lnTo>
                  <a:lnTo>
                    <a:pt x="91" y="148"/>
                  </a:lnTo>
                  <a:lnTo>
                    <a:pt x="84" y="132"/>
                  </a:lnTo>
                  <a:lnTo>
                    <a:pt x="78" y="115"/>
                  </a:lnTo>
                  <a:lnTo>
                    <a:pt x="71" y="98"/>
                  </a:lnTo>
                  <a:lnTo>
                    <a:pt x="65" y="81"/>
                  </a:lnTo>
                  <a:lnTo>
                    <a:pt x="58" y="65"/>
                  </a:lnTo>
                  <a:lnTo>
                    <a:pt x="52" y="48"/>
                  </a:lnTo>
                  <a:lnTo>
                    <a:pt x="45" y="30"/>
                  </a:lnTo>
                  <a:lnTo>
                    <a:pt x="39" y="13"/>
                  </a:lnTo>
                  <a:lnTo>
                    <a:pt x="32" y="3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848040" y="4024440"/>
              <a:ext cx="34920" cy="8424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7" y="4"/>
                  </a:moveTo>
                  <a:lnTo>
                    <a:pt x="7" y="36"/>
                  </a:lnTo>
                  <a:lnTo>
                    <a:pt x="18" y="47"/>
                  </a:lnTo>
                  <a:lnTo>
                    <a:pt x="27" y="56"/>
                  </a:lnTo>
                  <a:lnTo>
                    <a:pt x="34" y="65"/>
                  </a:lnTo>
                  <a:lnTo>
                    <a:pt x="41" y="75"/>
                  </a:lnTo>
                  <a:lnTo>
                    <a:pt x="44" y="83"/>
                  </a:lnTo>
                  <a:lnTo>
                    <a:pt x="47" y="91"/>
                  </a:lnTo>
                  <a:lnTo>
                    <a:pt x="49" y="100"/>
                  </a:lnTo>
                  <a:lnTo>
                    <a:pt x="49" y="107"/>
                  </a:lnTo>
                  <a:lnTo>
                    <a:pt x="48" y="115"/>
                  </a:lnTo>
                  <a:lnTo>
                    <a:pt x="46" y="123"/>
                  </a:lnTo>
                  <a:lnTo>
                    <a:pt x="43" y="131"/>
                  </a:lnTo>
                  <a:lnTo>
                    <a:pt x="37" y="139"/>
                  </a:lnTo>
                  <a:lnTo>
                    <a:pt x="31" y="149"/>
                  </a:lnTo>
                  <a:lnTo>
                    <a:pt x="22" y="159"/>
                  </a:lnTo>
                  <a:lnTo>
                    <a:pt x="11" y="169"/>
                  </a:lnTo>
                  <a:lnTo>
                    <a:pt x="0" y="178"/>
                  </a:lnTo>
                  <a:lnTo>
                    <a:pt x="24" y="211"/>
                  </a:lnTo>
                  <a:lnTo>
                    <a:pt x="38" y="199"/>
                  </a:lnTo>
                  <a:lnTo>
                    <a:pt x="51" y="187"/>
                  </a:lnTo>
                  <a:lnTo>
                    <a:pt x="62" y="175"/>
                  </a:lnTo>
                  <a:lnTo>
                    <a:pt x="71" y="162"/>
                  </a:lnTo>
                  <a:lnTo>
                    <a:pt x="78" y="149"/>
                  </a:lnTo>
                  <a:lnTo>
                    <a:pt x="85" y="136"/>
                  </a:lnTo>
                  <a:lnTo>
                    <a:pt x="88" y="122"/>
                  </a:lnTo>
                  <a:lnTo>
                    <a:pt x="89" y="108"/>
                  </a:lnTo>
                  <a:lnTo>
                    <a:pt x="89" y="94"/>
                  </a:lnTo>
                  <a:lnTo>
                    <a:pt x="86" y="81"/>
                  </a:lnTo>
                  <a:lnTo>
                    <a:pt x="82" y="67"/>
                  </a:lnTo>
                  <a:lnTo>
                    <a:pt x="75" y="54"/>
                  </a:lnTo>
                  <a:lnTo>
                    <a:pt x="67" y="41"/>
                  </a:lnTo>
                  <a:lnTo>
                    <a:pt x="57" y="29"/>
                  </a:lnTo>
                  <a:lnTo>
                    <a:pt x="46" y="17"/>
                  </a:lnTo>
                  <a:lnTo>
                    <a:pt x="33" y="6"/>
                  </a:lnTo>
                  <a:lnTo>
                    <a:pt x="32" y="37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851280" y="3992760"/>
              <a:ext cx="54000" cy="46080"/>
            </a:xfrm>
            <a:custGeom>
              <a:avLst/>
              <a:gdLst/>
              <a:ahLst/>
              <a:rect l="l" t="t" r="r" b="b"/>
              <a:pathLst>
                <a:path w="137" h="118">
                  <a:moveTo>
                    <a:pt x="135" y="12"/>
                  </a:moveTo>
                  <a:lnTo>
                    <a:pt x="105" y="4"/>
                  </a:lnTo>
                  <a:lnTo>
                    <a:pt x="91" y="15"/>
                  </a:lnTo>
                  <a:lnTo>
                    <a:pt x="78" y="25"/>
                  </a:lnTo>
                  <a:lnTo>
                    <a:pt x="65" y="36"/>
                  </a:lnTo>
                  <a:lnTo>
                    <a:pt x="52" y="46"/>
                  </a:lnTo>
                  <a:lnTo>
                    <a:pt x="39" y="55"/>
                  </a:lnTo>
                  <a:lnTo>
                    <a:pt x="26" y="6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25" y="118"/>
                  </a:lnTo>
                  <a:lnTo>
                    <a:pt x="38" y="108"/>
                  </a:lnTo>
                  <a:lnTo>
                    <a:pt x="51" y="97"/>
                  </a:lnTo>
                  <a:lnTo>
                    <a:pt x="64" y="88"/>
                  </a:lnTo>
                  <a:lnTo>
                    <a:pt x="77" y="78"/>
                  </a:lnTo>
                  <a:lnTo>
                    <a:pt x="90" y="67"/>
                  </a:lnTo>
                  <a:lnTo>
                    <a:pt x="103" y="57"/>
                  </a:lnTo>
                  <a:lnTo>
                    <a:pt x="116" y="47"/>
                  </a:lnTo>
                  <a:lnTo>
                    <a:pt x="130" y="37"/>
                  </a:lnTo>
                  <a:lnTo>
                    <a:pt x="98" y="29"/>
                  </a:lnTo>
                  <a:lnTo>
                    <a:pt x="130" y="37"/>
                  </a:lnTo>
                  <a:lnTo>
                    <a:pt x="133" y="34"/>
                  </a:lnTo>
                  <a:lnTo>
                    <a:pt x="135" y="30"/>
                  </a:lnTo>
                  <a:lnTo>
                    <a:pt x="136" y="26"/>
                  </a:lnTo>
                  <a:lnTo>
                    <a:pt x="137" y="23"/>
                  </a:lnTo>
                  <a:lnTo>
                    <a:pt x="137" y="19"/>
                  </a:lnTo>
                  <a:lnTo>
                    <a:pt x="136" y="15"/>
                  </a:lnTo>
                  <a:lnTo>
                    <a:pt x="135" y="12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8" y="3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5" y="4"/>
                  </a:lnTo>
                  <a:lnTo>
                    <a:pt x="13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865680" y="3997440"/>
              <a:ext cx="56880" cy="16668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1" y="406"/>
                  </a:moveTo>
                  <a:lnTo>
                    <a:pt x="32" y="415"/>
                  </a:lnTo>
                  <a:lnTo>
                    <a:pt x="44" y="405"/>
                  </a:lnTo>
                  <a:lnTo>
                    <a:pt x="55" y="396"/>
                  </a:lnTo>
                  <a:lnTo>
                    <a:pt x="65" y="387"/>
                  </a:lnTo>
                  <a:lnTo>
                    <a:pt x="74" y="377"/>
                  </a:lnTo>
                  <a:lnTo>
                    <a:pt x="83" y="367"/>
                  </a:lnTo>
                  <a:lnTo>
                    <a:pt x="92" y="356"/>
                  </a:lnTo>
                  <a:lnTo>
                    <a:pt x="100" y="346"/>
                  </a:lnTo>
                  <a:lnTo>
                    <a:pt x="107" y="335"/>
                  </a:lnTo>
                  <a:lnTo>
                    <a:pt x="114" y="324"/>
                  </a:lnTo>
                  <a:lnTo>
                    <a:pt x="120" y="312"/>
                  </a:lnTo>
                  <a:lnTo>
                    <a:pt x="125" y="300"/>
                  </a:lnTo>
                  <a:lnTo>
                    <a:pt x="130" y="288"/>
                  </a:lnTo>
                  <a:lnTo>
                    <a:pt x="135" y="277"/>
                  </a:lnTo>
                  <a:lnTo>
                    <a:pt x="138" y="264"/>
                  </a:lnTo>
                  <a:lnTo>
                    <a:pt x="141" y="251"/>
                  </a:lnTo>
                  <a:lnTo>
                    <a:pt x="143" y="238"/>
                  </a:lnTo>
                  <a:lnTo>
                    <a:pt x="146" y="225"/>
                  </a:lnTo>
                  <a:lnTo>
                    <a:pt x="147" y="211"/>
                  </a:lnTo>
                  <a:lnTo>
                    <a:pt x="147" y="198"/>
                  </a:lnTo>
                  <a:lnTo>
                    <a:pt x="147" y="184"/>
                  </a:lnTo>
                  <a:lnTo>
                    <a:pt x="146" y="170"/>
                  </a:lnTo>
                  <a:lnTo>
                    <a:pt x="145" y="156"/>
                  </a:lnTo>
                  <a:lnTo>
                    <a:pt x="142" y="140"/>
                  </a:lnTo>
                  <a:lnTo>
                    <a:pt x="140" y="125"/>
                  </a:lnTo>
                  <a:lnTo>
                    <a:pt x="133" y="96"/>
                  </a:lnTo>
                  <a:lnTo>
                    <a:pt x="124" y="65"/>
                  </a:lnTo>
                  <a:lnTo>
                    <a:pt x="112" y="34"/>
                  </a:lnTo>
                  <a:lnTo>
                    <a:pt x="98" y="0"/>
                  </a:lnTo>
                  <a:lnTo>
                    <a:pt x="61" y="17"/>
                  </a:lnTo>
                  <a:lnTo>
                    <a:pt x="74" y="49"/>
                  </a:lnTo>
                  <a:lnTo>
                    <a:pt x="85" y="78"/>
                  </a:lnTo>
                  <a:lnTo>
                    <a:pt x="94" y="106"/>
                  </a:lnTo>
                  <a:lnTo>
                    <a:pt x="100" y="134"/>
                  </a:lnTo>
                  <a:lnTo>
                    <a:pt x="102" y="147"/>
                  </a:lnTo>
                  <a:lnTo>
                    <a:pt x="105" y="160"/>
                  </a:lnTo>
                  <a:lnTo>
                    <a:pt x="106" y="173"/>
                  </a:lnTo>
                  <a:lnTo>
                    <a:pt x="107" y="185"/>
                  </a:lnTo>
                  <a:lnTo>
                    <a:pt x="107" y="197"/>
                  </a:lnTo>
                  <a:lnTo>
                    <a:pt x="106" y="208"/>
                  </a:lnTo>
                  <a:lnTo>
                    <a:pt x="106" y="220"/>
                  </a:lnTo>
                  <a:lnTo>
                    <a:pt x="103" y="231"/>
                  </a:lnTo>
                  <a:lnTo>
                    <a:pt x="101" y="243"/>
                  </a:lnTo>
                  <a:lnTo>
                    <a:pt x="99" y="254"/>
                  </a:lnTo>
                  <a:lnTo>
                    <a:pt x="96" y="264"/>
                  </a:lnTo>
                  <a:lnTo>
                    <a:pt x="93" y="274"/>
                  </a:lnTo>
                  <a:lnTo>
                    <a:pt x="88" y="284"/>
                  </a:lnTo>
                  <a:lnTo>
                    <a:pt x="84" y="294"/>
                  </a:lnTo>
                  <a:lnTo>
                    <a:pt x="79" y="304"/>
                  </a:lnTo>
                  <a:lnTo>
                    <a:pt x="73" y="313"/>
                  </a:lnTo>
                  <a:lnTo>
                    <a:pt x="67" y="323"/>
                  </a:lnTo>
                  <a:lnTo>
                    <a:pt x="60" y="332"/>
                  </a:lnTo>
                  <a:lnTo>
                    <a:pt x="53" y="340"/>
                  </a:lnTo>
                  <a:lnTo>
                    <a:pt x="45" y="349"/>
                  </a:lnTo>
                  <a:lnTo>
                    <a:pt x="37" y="358"/>
                  </a:lnTo>
                  <a:lnTo>
                    <a:pt x="28" y="366"/>
                  </a:lnTo>
                  <a:lnTo>
                    <a:pt x="18" y="374"/>
                  </a:lnTo>
                  <a:lnTo>
                    <a:pt x="7" y="382"/>
                  </a:lnTo>
                  <a:lnTo>
                    <a:pt x="39" y="391"/>
                  </a:lnTo>
                  <a:lnTo>
                    <a:pt x="7" y="382"/>
                  </a:lnTo>
                  <a:lnTo>
                    <a:pt x="4" y="386"/>
                  </a:lnTo>
                  <a:lnTo>
                    <a:pt x="2" y="389"/>
                  </a:lnTo>
                  <a:lnTo>
                    <a:pt x="0" y="392"/>
                  </a:lnTo>
                  <a:lnTo>
                    <a:pt x="0" y="396"/>
                  </a:lnTo>
                  <a:lnTo>
                    <a:pt x="0" y="400"/>
                  </a:lnTo>
                  <a:lnTo>
                    <a:pt x="1" y="404"/>
                  </a:lnTo>
                  <a:lnTo>
                    <a:pt x="2" y="407"/>
                  </a:lnTo>
                  <a:lnTo>
                    <a:pt x="4" y="410"/>
                  </a:lnTo>
                  <a:lnTo>
                    <a:pt x="6" y="414"/>
                  </a:lnTo>
                  <a:lnTo>
                    <a:pt x="10" y="416"/>
                  </a:lnTo>
                  <a:lnTo>
                    <a:pt x="13" y="417"/>
                  </a:lnTo>
                  <a:lnTo>
                    <a:pt x="16" y="418"/>
                  </a:lnTo>
                  <a:lnTo>
                    <a:pt x="20" y="419"/>
                  </a:lnTo>
                  <a:lnTo>
                    <a:pt x="24" y="418"/>
                  </a:lnTo>
                  <a:lnTo>
                    <a:pt x="28" y="417"/>
                  </a:lnTo>
                  <a:lnTo>
                    <a:pt x="32" y="415"/>
                  </a:lnTo>
                  <a:lnTo>
                    <a:pt x="1" y="4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886200" y="4003920"/>
              <a:ext cx="15840" cy="93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1" y="19"/>
                  </a:moveTo>
                  <a:lnTo>
                    <a:pt x="40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865680" y="4011840"/>
              <a:ext cx="36360" cy="144360"/>
            </a:xfrm>
            <a:custGeom>
              <a:avLst/>
              <a:gdLst/>
              <a:ahLst/>
              <a:rect l="l" t="t" r="r" b="b"/>
              <a:pathLst>
                <a:path w="95" h="363">
                  <a:moveTo>
                    <a:pt x="25" y="363"/>
                  </a:moveTo>
                  <a:lnTo>
                    <a:pt x="34" y="354"/>
                  </a:lnTo>
                  <a:lnTo>
                    <a:pt x="43" y="344"/>
                  </a:lnTo>
                  <a:lnTo>
                    <a:pt x="50" y="333"/>
                  </a:lnTo>
                  <a:lnTo>
                    <a:pt x="57" y="322"/>
                  </a:lnTo>
                  <a:lnTo>
                    <a:pt x="62" y="310"/>
                  </a:lnTo>
                  <a:lnTo>
                    <a:pt x="68" y="297"/>
                  </a:lnTo>
                  <a:lnTo>
                    <a:pt x="72" y="284"/>
                  </a:lnTo>
                  <a:lnTo>
                    <a:pt x="77" y="270"/>
                  </a:lnTo>
                  <a:lnTo>
                    <a:pt x="83" y="241"/>
                  </a:lnTo>
                  <a:lnTo>
                    <a:pt x="87" y="211"/>
                  </a:lnTo>
                  <a:lnTo>
                    <a:pt x="92" y="180"/>
                  </a:lnTo>
                  <a:lnTo>
                    <a:pt x="94" y="150"/>
                  </a:lnTo>
                  <a:lnTo>
                    <a:pt x="95" y="121"/>
                  </a:lnTo>
                  <a:lnTo>
                    <a:pt x="95" y="94"/>
                  </a:lnTo>
                  <a:lnTo>
                    <a:pt x="95" y="68"/>
                  </a:lnTo>
                  <a:lnTo>
                    <a:pt x="95" y="46"/>
                  </a:lnTo>
                  <a:lnTo>
                    <a:pt x="93" y="13"/>
                  </a:lnTo>
                  <a:lnTo>
                    <a:pt x="93" y="0"/>
                  </a:lnTo>
                  <a:lnTo>
                    <a:pt x="52" y="4"/>
                  </a:lnTo>
                  <a:lnTo>
                    <a:pt x="53" y="15"/>
                  </a:lnTo>
                  <a:lnTo>
                    <a:pt x="54" y="47"/>
                  </a:lnTo>
                  <a:lnTo>
                    <a:pt x="55" y="69"/>
                  </a:lnTo>
                  <a:lnTo>
                    <a:pt x="55" y="94"/>
                  </a:lnTo>
                  <a:lnTo>
                    <a:pt x="55" y="120"/>
                  </a:lnTo>
                  <a:lnTo>
                    <a:pt x="53" y="148"/>
                  </a:lnTo>
                  <a:lnTo>
                    <a:pt x="51" y="177"/>
                  </a:lnTo>
                  <a:lnTo>
                    <a:pt x="47" y="205"/>
                  </a:lnTo>
                  <a:lnTo>
                    <a:pt x="43" y="233"/>
                  </a:lnTo>
                  <a:lnTo>
                    <a:pt x="37" y="260"/>
                  </a:lnTo>
                  <a:lnTo>
                    <a:pt x="33" y="272"/>
                  </a:lnTo>
                  <a:lnTo>
                    <a:pt x="30" y="283"/>
                  </a:lnTo>
                  <a:lnTo>
                    <a:pt x="26" y="293"/>
                  </a:lnTo>
                  <a:lnTo>
                    <a:pt x="20" y="303"/>
                  </a:lnTo>
                  <a:lnTo>
                    <a:pt x="16" y="312"/>
                  </a:lnTo>
                  <a:lnTo>
                    <a:pt x="11" y="319"/>
                  </a:lnTo>
                  <a:lnTo>
                    <a:pt x="5" y="326"/>
                  </a:lnTo>
                  <a:lnTo>
                    <a:pt x="0" y="331"/>
                  </a:lnTo>
                  <a:lnTo>
                    <a:pt x="25" y="3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862440" y="4143600"/>
              <a:ext cx="12600" cy="14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8" y="0"/>
                  </a:move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1" y="37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2441520" y="5292720"/>
              <a:ext cx="609480" cy="90720"/>
            </a:xfrm>
            <a:custGeom>
              <a:avLst/>
              <a:gdLst/>
              <a:ahLst/>
              <a:rect l="l" t="t" r="r" b="b"/>
              <a:pathLst>
                <a:path w="1535" h="226">
                  <a:moveTo>
                    <a:pt x="5" y="0"/>
                  </a:moveTo>
                  <a:lnTo>
                    <a:pt x="0" y="152"/>
                  </a:lnTo>
                  <a:lnTo>
                    <a:pt x="95" y="165"/>
                  </a:lnTo>
                  <a:lnTo>
                    <a:pt x="190" y="177"/>
                  </a:lnTo>
                  <a:lnTo>
                    <a:pt x="286" y="187"/>
                  </a:lnTo>
                  <a:lnTo>
                    <a:pt x="381" y="196"/>
                  </a:lnTo>
                  <a:lnTo>
                    <a:pt x="477" y="205"/>
                  </a:lnTo>
                  <a:lnTo>
                    <a:pt x="572" y="212"/>
                  </a:lnTo>
                  <a:lnTo>
                    <a:pt x="667" y="218"/>
                  </a:lnTo>
                  <a:lnTo>
                    <a:pt x="763" y="222"/>
                  </a:lnTo>
                  <a:lnTo>
                    <a:pt x="858" y="225"/>
                  </a:lnTo>
                  <a:lnTo>
                    <a:pt x="954" y="226"/>
                  </a:lnTo>
                  <a:lnTo>
                    <a:pt x="1050" y="226"/>
                  </a:lnTo>
                  <a:lnTo>
                    <a:pt x="1145" y="223"/>
                  </a:lnTo>
                  <a:lnTo>
                    <a:pt x="1241" y="220"/>
                  </a:lnTo>
                  <a:lnTo>
                    <a:pt x="1338" y="215"/>
                  </a:lnTo>
                  <a:lnTo>
                    <a:pt x="1434" y="207"/>
                  </a:lnTo>
                  <a:lnTo>
                    <a:pt x="1530" y="198"/>
                  </a:lnTo>
                  <a:lnTo>
                    <a:pt x="1535" y="0"/>
                  </a:lnTo>
                  <a:lnTo>
                    <a:pt x="1439" y="5"/>
                  </a:lnTo>
                  <a:lnTo>
                    <a:pt x="1344" y="11"/>
                  </a:lnTo>
                  <a:lnTo>
                    <a:pt x="1248" y="15"/>
                  </a:lnTo>
                  <a:lnTo>
                    <a:pt x="1152" y="18"/>
                  </a:lnTo>
                  <a:lnTo>
                    <a:pt x="1056" y="20"/>
                  </a:lnTo>
                  <a:lnTo>
                    <a:pt x="961" y="21"/>
                  </a:lnTo>
                  <a:lnTo>
                    <a:pt x="865" y="23"/>
                  </a:lnTo>
                  <a:lnTo>
                    <a:pt x="769" y="23"/>
                  </a:lnTo>
                  <a:lnTo>
                    <a:pt x="673" y="21"/>
                  </a:lnTo>
                  <a:lnTo>
                    <a:pt x="577" y="20"/>
                  </a:lnTo>
                  <a:lnTo>
                    <a:pt x="482" y="18"/>
                  </a:lnTo>
                  <a:lnTo>
                    <a:pt x="386" y="16"/>
                  </a:lnTo>
                  <a:lnTo>
                    <a:pt x="19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8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2433600" y="5292720"/>
              <a:ext cx="17640" cy="68400"/>
            </a:xfrm>
            <a:custGeom>
              <a:avLst/>
              <a:gdLst/>
              <a:ahLst/>
              <a:rect l="l" t="t" r="r" b="b"/>
              <a:pathLst>
                <a:path w="47" h="173">
                  <a:moveTo>
                    <a:pt x="17" y="173"/>
                  </a:moveTo>
                  <a:lnTo>
                    <a:pt x="40" y="153"/>
                  </a:lnTo>
                  <a:lnTo>
                    <a:pt x="47" y="1"/>
                  </a:lnTo>
                  <a:lnTo>
                    <a:pt x="6" y="0"/>
                  </a:lnTo>
                  <a:lnTo>
                    <a:pt x="0" y="152"/>
                  </a:lnTo>
                  <a:lnTo>
                    <a:pt x="17" y="17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2" y="172"/>
                  </a:lnTo>
                  <a:lnTo>
                    <a:pt x="16" y="173"/>
                  </a:lnTo>
                  <a:lnTo>
                    <a:pt x="20" y="173"/>
                  </a:lnTo>
                  <a:lnTo>
                    <a:pt x="24" y="173"/>
                  </a:lnTo>
                  <a:lnTo>
                    <a:pt x="27" y="172"/>
                  </a:lnTo>
                  <a:lnTo>
                    <a:pt x="30" y="170"/>
                  </a:lnTo>
                  <a:lnTo>
                    <a:pt x="34" y="168"/>
                  </a:lnTo>
                  <a:lnTo>
                    <a:pt x="37" y="166"/>
                  </a:lnTo>
                  <a:lnTo>
                    <a:pt x="39" y="162"/>
                  </a:lnTo>
                  <a:lnTo>
                    <a:pt x="40" y="159"/>
                  </a:lnTo>
                  <a:lnTo>
                    <a:pt x="40" y="153"/>
                  </a:lnTo>
                  <a:lnTo>
                    <a:pt x="17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2440080" y="5345280"/>
              <a:ext cx="615960" cy="46080"/>
            </a:xfrm>
            <a:custGeom>
              <a:avLst/>
              <a:gdLst/>
              <a:ahLst/>
              <a:rect l="l" t="t" r="r" b="b"/>
              <a:pathLst>
                <a:path w="1553" h="114">
                  <a:moveTo>
                    <a:pt x="1513" y="66"/>
                  </a:moveTo>
                  <a:lnTo>
                    <a:pt x="1532" y="46"/>
                  </a:lnTo>
                  <a:lnTo>
                    <a:pt x="1436" y="55"/>
                  </a:lnTo>
                  <a:lnTo>
                    <a:pt x="1340" y="62"/>
                  </a:lnTo>
                  <a:lnTo>
                    <a:pt x="1244" y="68"/>
                  </a:lnTo>
                  <a:lnTo>
                    <a:pt x="1149" y="71"/>
                  </a:lnTo>
                  <a:lnTo>
                    <a:pt x="1053" y="73"/>
                  </a:lnTo>
                  <a:lnTo>
                    <a:pt x="958" y="74"/>
                  </a:lnTo>
                  <a:lnTo>
                    <a:pt x="863" y="72"/>
                  </a:lnTo>
                  <a:lnTo>
                    <a:pt x="768" y="70"/>
                  </a:lnTo>
                  <a:lnTo>
                    <a:pt x="672" y="66"/>
                  </a:lnTo>
                  <a:lnTo>
                    <a:pt x="577" y="60"/>
                  </a:lnTo>
                  <a:lnTo>
                    <a:pt x="482" y="53"/>
                  </a:lnTo>
                  <a:lnTo>
                    <a:pt x="387" y="45"/>
                  </a:lnTo>
                  <a:lnTo>
                    <a:pt x="292" y="35"/>
                  </a:lnTo>
                  <a:lnTo>
                    <a:pt x="197" y="24"/>
                  </a:lnTo>
                  <a:lnTo>
                    <a:pt x="101" y="13"/>
                  </a:lnTo>
                  <a:lnTo>
                    <a:pt x="6" y="0"/>
                  </a:lnTo>
                  <a:lnTo>
                    <a:pt x="0" y="40"/>
                  </a:lnTo>
                  <a:lnTo>
                    <a:pt x="97" y="53"/>
                  </a:lnTo>
                  <a:lnTo>
                    <a:pt x="192" y="64"/>
                  </a:lnTo>
                  <a:lnTo>
                    <a:pt x="288" y="75"/>
                  </a:lnTo>
                  <a:lnTo>
                    <a:pt x="384" y="85"/>
                  </a:lnTo>
                  <a:lnTo>
                    <a:pt x="479" y="94"/>
                  </a:lnTo>
                  <a:lnTo>
                    <a:pt x="575" y="100"/>
                  </a:lnTo>
                  <a:lnTo>
                    <a:pt x="671" y="105"/>
                  </a:lnTo>
                  <a:lnTo>
                    <a:pt x="766" y="110"/>
                  </a:lnTo>
                  <a:lnTo>
                    <a:pt x="862" y="113"/>
                  </a:lnTo>
                  <a:lnTo>
                    <a:pt x="958" y="114"/>
                  </a:lnTo>
                  <a:lnTo>
                    <a:pt x="1054" y="114"/>
                  </a:lnTo>
                  <a:lnTo>
                    <a:pt x="1150" y="112"/>
                  </a:lnTo>
                  <a:lnTo>
                    <a:pt x="1247" y="108"/>
                  </a:lnTo>
                  <a:lnTo>
                    <a:pt x="1343" y="102"/>
                  </a:lnTo>
                  <a:lnTo>
                    <a:pt x="1439" y="96"/>
                  </a:lnTo>
                  <a:lnTo>
                    <a:pt x="1536" y="86"/>
                  </a:lnTo>
                  <a:lnTo>
                    <a:pt x="1553" y="67"/>
                  </a:lnTo>
                  <a:lnTo>
                    <a:pt x="1536" y="86"/>
                  </a:lnTo>
                  <a:lnTo>
                    <a:pt x="1540" y="85"/>
                  </a:lnTo>
                  <a:lnTo>
                    <a:pt x="1545" y="84"/>
                  </a:lnTo>
                  <a:lnTo>
                    <a:pt x="1548" y="82"/>
                  </a:lnTo>
                  <a:lnTo>
                    <a:pt x="1550" y="78"/>
                  </a:lnTo>
                  <a:lnTo>
                    <a:pt x="1552" y="75"/>
                  </a:lnTo>
                  <a:lnTo>
                    <a:pt x="1553" y="72"/>
                  </a:lnTo>
                  <a:lnTo>
                    <a:pt x="1553" y="68"/>
                  </a:lnTo>
                  <a:lnTo>
                    <a:pt x="1553" y="64"/>
                  </a:lnTo>
                  <a:lnTo>
                    <a:pt x="1553" y="60"/>
                  </a:lnTo>
                  <a:lnTo>
                    <a:pt x="1552" y="57"/>
                  </a:lnTo>
                  <a:lnTo>
                    <a:pt x="1550" y="54"/>
                  </a:lnTo>
                  <a:lnTo>
                    <a:pt x="1547" y="50"/>
                  </a:lnTo>
                  <a:lnTo>
                    <a:pt x="1545" y="48"/>
                  </a:lnTo>
                  <a:lnTo>
                    <a:pt x="1540" y="47"/>
                  </a:lnTo>
                  <a:lnTo>
                    <a:pt x="1536" y="46"/>
                  </a:lnTo>
                  <a:lnTo>
                    <a:pt x="1532" y="46"/>
                  </a:lnTo>
                  <a:lnTo>
                    <a:pt x="1513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040200" y="5284800"/>
              <a:ext cx="19080" cy="87480"/>
            </a:xfrm>
            <a:custGeom>
              <a:avLst/>
              <a:gdLst/>
              <a:ahLst/>
              <a:rect l="l" t="t" r="r" b="b"/>
              <a:pathLst>
                <a:path w="47" h="220">
                  <a:moveTo>
                    <a:pt x="25" y="0"/>
                  </a:moveTo>
                  <a:lnTo>
                    <a:pt x="7" y="20"/>
                  </a:lnTo>
                  <a:lnTo>
                    <a:pt x="0" y="219"/>
                  </a:lnTo>
                  <a:lnTo>
                    <a:pt x="40" y="220"/>
                  </a:lnTo>
                  <a:lnTo>
                    <a:pt x="47" y="21"/>
                  </a:lnTo>
                  <a:lnTo>
                    <a:pt x="25" y="0"/>
                  </a:lnTo>
                  <a:lnTo>
                    <a:pt x="47" y="21"/>
                  </a:lnTo>
                  <a:lnTo>
                    <a:pt x="47" y="17"/>
                  </a:lnTo>
                  <a:lnTo>
                    <a:pt x="45" y="12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2435400" y="5284800"/>
              <a:ext cx="615600" cy="25560"/>
            </a:xfrm>
            <a:custGeom>
              <a:avLst/>
              <a:gdLst/>
              <a:ahLst/>
              <a:rect l="l" t="t" r="r" b="b"/>
              <a:pathLst>
                <a:path w="1551" h="64">
                  <a:moveTo>
                    <a:pt x="41" y="21"/>
                  </a:moveTo>
                  <a:lnTo>
                    <a:pt x="19" y="40"/>
                  </a:lnTo>
                  <a:lnTo>
                    <a:pt x="210" y="50"/>
                  </a:lnTo>
                  <a:lnTo>
                    <a:pt x="400" y="57"/>
                  </a:lnTo>
                  <a:lnTo>
                    <a:pt x="496" y="60"/>
                  </a:lnTo>
                  <a:lnTo>
                    <a:pt x="592" y="62"/>
                  </a:lnTo>
                  <a:lnTo>
                    <a:pt x="688" y="63"/>
                  </a:lnTo>
                  <a:lnTo>
                    <a:pt x="784" y="64"/>
                  </a:lnTo>
                  <a:lnTo>
                    <a:pt x="880" y="64"/>
                  </a:lnTo>
                  <a:lnTo>
                    <a:pt x="976" y="63"/>
                  </a:lnTo>
                  <a:lnTo>
                    <a:pt x="1072" y="62"/>
                  </a:lnTo>
                  <a:lnTo>
                    <a:pt x="1168" y="59"/>
                  </a:lnTo>
                  <a:lnTo>
                    <a:pt x="1264" y="55"/>
                  </a:lnTo>
                  <a:lnTo>
                    <a:pt x="1360" y="52"/>
                  </a:lnTo>
                  <a:lnTo>
                    <a:pt x="1456" y="47"/>
                  </a:lnTo>
                  <a:lnTo>
                    <a:pt x="1551" y="40"/>
                  </a:lnTo>
                  <a:lnTo>
                    <a:pt x="1549" y="0"/>
                  </a:lnTo>
                  <a:lnTo>
                    <a:pt x="1453" y="7"/>
                  </a:lnTo>
                  <a:lnTo>
                    <a:pt x="1358" y="11"/>
                  </a:lnTo>
                  <a:lnTo>
                    <a:pt x="1262" y="15"/>
                  </a:lnTo>
                  <a:lnTo>
                    <a:pt x="1167" y="19"/>
                  </a:lnTo>
                  <a:lnTo>
                    <a:pt x="1071" y="21"/>
                  </a:lnTo>
                  <a:lnTo>
                    <a:pt x="976" y="23"/>
                  </a:lnTo>
                  <a:lnTo>
                    <a:pt x="880" y="23"/>
                  </a:lnTo>
                  <a:lnTo>
                    <a:pt x="784" y="23"/>
                  </a:lnTo>
                  <a:lnTo>
                    <a:pt x="688" y="23"/>
                  </a:lnTo>
                  <a:lnTo>
                    <a:pt x="592" y="21"/>
                  </a:lnTo>
                  <a:lnTo>
                    <a:pt x="497" y="20"/>
                  </a:lnTo>
                  <a:lnTo>
                    <a:pt x="402" y="17"/>
                  </a:lnTo>
                  <a:lnTo>
                    <a:pt x="211" y="9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5" y="40"/>
                  </a:lnTo>
                  <a:lnTo>
                    <a:pt x="19" y="40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138480" y="2697480"/>
              <a:ext cx="420840" cy="474480"/>
            </a:xfrm>
            <a:custGeom>
              <a:avLst/>
              <a:gdLst/>
              <a:ahLst/>
              <a:rect l="l" t="t" r="r" b="b"/>
              <a:pathLst>
                <a:path w="1062" h="1196">
                  <a:moveTo>
                    <a:pt x="860" y="4"/>
                  </a:moveTo>
                  <a:lnTo>
                    <a:pt x="887" y="21"/>
                  </a:lnTo>
                  <a:lnTo>
                    <a:pt x="912" y="39"/>
                  </a:lnTo>
                  <a:lnTo>
                    <a:pt x="935" y="59"/>
                  </a:lnTo>
                  <a:lnTo>
                    <a:pt x="955" y="78"/>
                  </a:lnTo>
                  <a:lnTo>
                    <a:pt x="973" y="99"/>
                  </a:lnTo>
                  <a:lnTo>
                    <a:pt x="991" y="119"/>
                  </a:lnTo>
                  <a:lnTo>
                    <a:pt x="1006" y="141"/>
                  </a:lnTo>
                  <a:lnTo>
                    <a:pt x="1019" y="162"/>
                  </a:lnTo>
                  <a:lnTo>
                    <a:pt x="1030" y="184"/>
                  </a:lnTo>
                  <a:lnTo>
                    <a:pt x="1039" y="207"/>
                  </a:lnTo>
                  <a:lnTo>
                    <a:pt x="1047" y="229"/>
                  </a:lnTo>
                  <a:lnTo>
                    <a:pt x="1053" y="253"/>
                  </a:lnTo>
                  <a:lnTo>
                    <a:pt x="1058" y="277"/>
                  </a:lnTo>
                  <a:lnTo>
                    <a:pt x="1061" y="301"/>
                  </a:lnTo>
                  <a:lnTo>
                    <a:pt x="1062" y="326"/>
                  </a:lnTo>
                  <a:lnTo>
                    <a:pt x="1062" y="350"/>
                  </a:lnTo>
                  <a:lnTo>
                    <a:pt x="1061" y="375"/>
                  </a:lnTo>
                  <a:lnTo>
                    <a:pt x="1059" y="401"/>
                  </a:lnTo>
                  <a:lnTo>
                    <a:pt x="1054" y="427"/>
                  </a:lnTo>
                  <a:lnTo>
                    <a:pt x="1049" y="454"/>
                  </a:lnTo>
                  <a:lnTo>
                    <a:pt x="1042" y="480"/>
                  </a:lnTo>
                  <a:lnTo>
                    <a:pt x="1035" y="507"/>
                  </a:lnTo>
                  <a:lnTo>
                    <a:pt x="1027" y="534"/>
                  </a:lnTo>
                  <a:lnTo>
                    <a:pt x="1018" y="562"/>
                  </a:lnTo>
                  <a:lnTo>
                    <a:pt x="1007" y="589"/>
                  </a:lnTo>
                  <a:lnTo>
                    <a:pt x="995" y="617"/>
                  </a:lnTo>
                  <a:lnTo>
                    <a:pt x="983" y="645"/>
                  </a:lnTo>
                  <a:lnTo>
                    <a:pt x="970" y="674"/>
                  </a:lnTo>
                  <a:lnTo>
                    <a:pt x="941" y="732"/>
                  </a:lnTo>
                  <a:lnTo>
                    <a:pt x="910" y="790"/>
                  </a:lnTo>
                  <a:lnTo>
                    <a:pt x="887" y="829"/>
                  </a:lnTo>
                  <a:lnTo>
                    <a:pt x="863" y="866"/>
                  </a:lnTo>
                  <a:lnTo>
                    <a:pt x="838" y="900"/>
                  </a:lnTo>
                  <a:lnTo>
                    <a:pt x="812" y="933"/>
                  </a:lnTo>
                  <a:lnTo>
                    <a:pt x="785" y="962"/>
                  </a:lnTo>
                  <a:lnTo>
                    <a:pt x="757" y="990"/>
                  </a:lnTo>
                  <a:lnTo>
                    <a:pt x="728" y="1015"/>
                  </a:lnTo>
                  <a:lnTo>
                    <a:pt x="699" y="1038"/>
                  </a:lnTo>
                  <a:lnTo>
                    <a:pt x="670" y="1060"/>
                  </a:lnTo>
                  <a:lnTo>
                    <a:pt x="640" y="1079"/>
                  </a:lnTo>
                  <a:lnTo>
                    <a:pt x="609" y="1098"/>
                  </a:lnTo>
                  <a:lnTo>
                    <a:pt x="579" y="1113"/>
                  </a:lnTo>
                  <a:lnTo>
                    <a:pt x="549" y="1128"/>
                  </a:lnTo>
                  <a:lnTo>
                    <a:pt x="519" y="1141"/>
                  </a:lnTo>
                  <a:lnTo>
                    <a:pt x="489" y="1152"/>
                  </a:lnTo>
                  <a:lnTo>
                    <a:pt x="459" y="1161"/>
                  </a:lnTo>
                  <a:lnTo>
                    <a:pt x="430" y="1170"/>
                  </a:lnTo>
                  <a:lnTo>
                    <a:pt x="402" y="1177"/>
                  </a:lnTo>
                  <a:lnTo>
                    <a:pt x="374" y="1183"/>
                  </a:lnTo>
                  <a:lnTo>
                    <a:pt x="347" y="1187"/>
                  </a:lnTo>
                  <a:lnTo>
                    <a:pt x="321" y="1191"/>
                  </a:lnTo>
                  <a:lnTo>
                    <a:pt x="295" y="1194"/>
                  </a:lnTo>
                  <a:lnTo>
                    <a:pt x="271" y="1195"/>
                  </a:lnTo>
                  <a:lnTo>
                    <a:pt x="249" y="1196"/>
                  </a:lnTo>
                  <a:lnTo>
                    <a:pt x="228" y="1196"/>
                  </a:lnTo>
                  <a:lnTo>
                    <a:pt x="209" y="1195"/>
                  </a:lnTo>
                  <a:lnTo>
                    <a:pt x="191" y="1194"/>
                  </a:lnTo>
                  <a:lnTo>
                    <a:pt x="174" y="1192"/>
                  </a:lnTo>
                  <a:lnTo>
                    <a:pt x="160" y="1190"/>
                  </a:lnTo>
                  <a:lnTo>
                    <a:pt x="147" y="1186"/>
                  </a:lnTo>
                  <a:lnTo>
                    <a:pt x="138" y="1183"/>
                  </a:lnTo>
                  <a:lnTo>
                    <a:pt x="129" y="1179"/>
                  </a:lnTo>
                  <a:lnTo>
                    <a:pt x="120" y="1172"/>
                  </a:lnTo>
                  <a:lnTo>
                    <a:pt x="112" y="1164"/>
                  </a:lnTo>
                  <a:lnTo>
                    <a:pt x="102" y="1153"/>
                  </a:lnTo>
                  <a:lnTo>
                    <a:pt x="93" y="1141"/>
                  </a:lnTo>
                  <a:lnTo>
                    <a:pt x="84" y="1127"/>
                  </a:lnTo>
                  <a:lnTo>
                    <a:pt x="74" y="1111"/>
                  </a:lnTo>
                  <a:lnTo>
                    <a:pt x="65" y="1093"/>
                  </a:lnTo>
                  <a:lnTo>
                    <a:pt x="56" y="1075"/>
                  </a:lnTo>
                  <a:lnTo>
                    <a:pt x="47" y="1055"/>
                  </a:lnTo>
                  <a:lnTo>
                    <a:pt x="39" y="1033"/>
                  </a:lnTo>
                  <a:lnTo>
                    <a:pt x="31" y="1010"/>
                  </a:lnTo>
                  <a:lnTo>
                    <a:pt x="24" y="985"/>
                  </a:lnTo>
                  <a:lnTo>
                    <a:pt x="18" y="961"/>
                  </a:lnTo>
                  <a:lnTo>
                    <a:pt x="12" y="934"/>
                  </a:lnTo>
                  <a:lnTo>
                    <a:pt x="8" y="907"/>
                  </a:lnTo>
                  <a:lnTo>
                    <a:pt x="4" y="877"/>
                  </a:lnTo>
                  <a:lnTo>
                    <a:pt x="2" y="848"/>
                  </a:lnTo>
                  <a:lnTo>
                    <a:pt x="0" y="818"/>
                  </a:lnTo>
                  <a:lnTo>
                    <a:pt x="0" y="787"/>
                  </a:lnTo>
                  <a:lnTo>
                    <a:pt x="2" y="755"/>
                  </a:lnTo>
                  <a:lnTo>
                    <a:pt x="5" y="723"/>
                  </a:lnTo>
                  <a:lnTo>
                    <a:pt x="9" y="691"/>
                  </a:lnTo>
                  <a:lnTo>
                    <a:pt x="16" y="657"/>
                  </a:lnTo>
                  <a:lnTo>
                    <a:pt x="24" y="624"/>
                  </a:lnTo>
                  <a:lnTo>
                    <a:pt x="34" y="589"/>
                  </a:lnTo>
                  <a:lnTo>
                    <a:pt x="46" y="555"/>
                  </a:lnTo>
                  <a:lnTo>
                    <a:pt x="60" y="520"/>
                  </a:lnTo>
                  <a:lnTo>
                    <a:pt x="76" y="485"/>
                  </a:lnTo>
                  <a:lnTo>
                    <a:pt x="94" y="451"/>
                  </a:lnTo>
                  <a:lnTo>
                    <a:pt x="115" y="416"/>
                  </a:lnTo>
                  <a:lnTo>
                    <a:pt x="138" y="381"/>
                  </a:lnTo>
                  <a:lnTo>
                    <a:pt x="164" y="346"/>
                  </a:lnTo>
                  <a:lnTo>
                    <a:pt x="182" y="319"/>
                  </a:lnTo>
                  <a:lnTo>
                    <a:pt x="201" y="292"/>
                  </a:lnTo>
                  <a:lnTo>
                    <a:pt x="222" y="267"/>
                  </a:lnTo>
                  <a:lnTo>
                    <a:pt x="242" y="243"/>
                  </a:lnTo>
                  <a:lnTo>
                    <a:pt x="264" y="221"/>
                  </a:lnTo>
                  <a:lnTo>
                    <a:pt x="286" y="200"/>
                  </a:lnTo>
                  <a:lnTo>
                    <a:pt x="308" y="181"/>
                  </a:lnTo>
                  <a:lnTo>
                    <a:pt x="331" y="161"/>
                  </a:lnTo>
                  <a:lnTo>
                    <a:pt x="355" y="144"/>
                  </a:lnTo>
                  <a:lnTo>
                    <a:pt x="378" y="128"/>
                  </a:lnTo>
                  <a:lnTo>
                    <a:pt x="402" y="114"/>
                  </a:lnTo>
                  <a:lnTo>
                    <a:pt x="427" y="100"/>
                  </a:lnTo>
                  <a:lnTo>
                    <a:pt x="451" y="87"/>
                  </a:lnTo>
                  <a:lnTo>
                    <a:pt x="476" y="75"/>
                  </a:lnTo>
                  <a:lnTo>
                    <a:pt x="500" y="64"/>
                  </a:lnTo>
                  <a:lnTo>
                    <a:pt x="525" y="54"/>
                  </a:lnTo>
                  <a:lnTo>
                    <a:pt x="549" y="46"/>
                  </a:lnTo>
                  <a:lnTo>
                    <a:pt x="574" y="37"/>
                  </a:lnTo>
                  <a:lnTo>
                    <a:pt x="598" y="31"/>
                  </a:lnTo>
                  <a:lnTo>
                    <a:pt x="621" y="24"/>
                  </a:lnTo>
                  <a:lnTo>
                    <a:pt x="644" y="19"/>
                  </a:lnTo>
                  <a:lnTo>
                    <a:pt x="668" y="13"/>
                  </a:lnTo>
                  <a:lnTo>
                    <a:pt x="689" y="10"/>
                  </a:lnTo>
                  <a:lnTo>
                    <a:pt x="712" y="7"/>
                  </a:lnTo>
                  <a:lnTo>
                    <a:pt x="734" y="5"/>
                  </a:lnTo>
                  <a:lnTo>
                    <a:pt x="754" y="3"/>
                  </a:lnTo>
                  <a:lnTo>
                    <a:pt x="774" y="2"/>
                  </a:lnTo>
                  <a:lnTo>
                    <a:pt x="793" y="0"/>
                  </a:lnTo>
                  <a:lnTo>
                    <a:pt x="828" y="2"/>
                  </a:lnTo>
                  <a:lnTo>
                    <a:pt x="860" y="4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475080" y="2692440"/>
              <a:ext cx="92160" cy="327240"/>
            </a:xfrm>
            <a:custGeom>
              <a:avLst/>
              <a:gdLst/>
              <a:ahLst/>
              <a:rect l="l" t="t" r="r" b="b"/>
              <a:pathLst>
                <a:path w="233" h="824">
                  <a:moveTo>
                    <a:pt x="78" y="814"/>
                  </a:moveTo>
                  <a:lnTo>
                    <a:pt x="78" y="814"/>
                  </a:lnTo>
                  <a:lnTo>
                    <a:pt x="110" y="755"/>
                  </a:lnTo>
                  <a:lnTo>
                    <a:pt x="138" y="697"/>
                  </a:lnTo>
                  <a:lnTo>
                    <a:pt x="152" y="668"/>
                  </a:lnTo>
                  <a:lnTo>
                    <a:pt x="164" y="640"/>
                  </a:lnTo>
                  <a:lnTo>
                    <a:pt x="176" y="611"/>
                  </a:lnTo>
                  <a:lnTo>
                    <a:pt x="187" y="583"/>
                  </a:lnTo>
                  <a:lnTo>
                    <a:pt x="197" y="554"/>
                  </a:lnTo>
                  <a:lnTo>
                    <a:pt x="205" y="526"/>
                  </a:lnTo>
                  <a:lnTo>
                    <a:pt x="213" y="499"/>
                  </a:lnTo>
                  <a:lnTo>
                    <a:pt x="220" y="471"/>
                  </a:lnTo>
                  <a:lnTo>
                    <a:pt x="226" y="444"/>
                  </a:lnTo>
                  <a:lnTo>
                    <a:pt x="229" y="417"/>
                  </a:lnTo>
                  <a:lnTo>
                    <a:pt x="232" y="391"/>
                  </a:lnTo>
                  <a:lnTo>
                    <a:pt x="233" y="364"/>
                  </a:lnTo>
                  <a:lnTo>
                    <a:pt x="233" y="338"/>
                  </a:lnTo>
                  <a:lnTo>
                    <a:pt x="232" y="313"/>
                  </a:lnTo>
                  <a:lnTo>
                    <a:pt x="229" y="288"/>
                  </a:lnTo>
                  <a:lnTo>
                    <a:pt x="224" y="263"/>
                  </a:lnTo>
                  <a:lnTo>
                    <a:pt x="217" y="238"/>
                  </a:lnTo>
                  <a:lnTo>
                    <a:pt x="210" y="213"/>
                  </a:lnTo>
                  <a:lnTo>
                    <a:pt x="199" y="189"/>
                  </a:lnTo>
                  <a:lnTo>
                    <a:pt x="187" y="166"/>
                  </a:lnTo>
                  <a:lnTo>
                    <a:pt x="173" y="143"/>
                  </a:lnTo>
                  <a:lnTo>
                    <a:pt x="158" y="121"/>
                  </a:lnTo>
                  <a:lnTo>
                    <a:pt x="141" y="100"/>
                  </a:lnTo>
                  <a:lnTo>
                    <a:pt x="120" y="78"/>
                  </a:lnTo>
                  <a:lnTo>
                    <a:pt x="98" y="58"/>
                  </a:lnTo>
                  <a:lnTo>
                    <a:pt x="75" y="38"/>
                  </a:lnTo>
                  <a:lnTo>
                    <a:pt x="49" y="19"/>
                  </a:lnTo>
                  <a:lnTo>
                    <a:pt x="22" y="0"/>
                  </a:lnTo>
                  <a:lnTo>
                    <a:pt x="0" y="34"/>
                  </a:lnTo>
                  <a:lnTo>
                    <a:pt x="26" y="52"/>
                  </a:lnTo>
                  <a:lnTo>
                    <a:pt x="50" y="70"/>
                  </a:lnTo>
                  <a:lnTo>
                    <a:pt x="73" y="88"/>
                  </a:lnTo>
                  <a:lnTo>
                    <a:pt x="92" y="106"/>
                  </a:lnTo>
                  <a:lnTo>
                    <a:pt x="109" y="126"/>
                  </a:lnTo>
                  <a:lnTo>
                    <a:pt x="125" y="145"/>
                  </a:lnTo>
                  <a:lnTo>
                    <a:pt x="139" y="166"/>
                  </a:lnTo>
                  <a:lnTo>
                    <a:pt x="152" y="186"/>
                  </a:lnTo>
                  <a:lnTo>
                    <a:pt x="162" y="207"/>
                  </a:lnTo>
                  <a:lnTo>
                    <a:pt x="172" y="227"/>
                  </a:lnTo>
                  <a:lnTo>
                    <a:pt x="178" y="249"/>
                  </a:lnTo>
                  <a:lnTo>
                    <a:pt x="185" y="272"/>
                  </a:lnTo>
                  <a:lnTo>
                    <a:pt x="189" y="294"/>
                  </a:lnTo>
                  <a:lnTo>
                    <a:pt x="191" y="317"/>
                  </a:lnTo>
                  <a:lnTo>
                    <a:pt x="193" y="340"/>
                  </a:lnTo>
                  <a:lnTo>
                    <a:pt x="193" y="363"/>
                  </a:lnTo>
                  <a:lnTo>
                    <a:pt x="192" y="388"/>
                  </a:lnTo>
                  <a:lnTo>
                    <a:pt x="189" y="413"/>
                  </a:lnTo>
                  <a:lnTo>
                    <a:pt x="186" y="438"/>
                  </a:lnTo>
                  <a:lnTo>
                    <a:pt x="181" y="464"/>
                  </a:lnTo>
                  <a:lnTo>
                    <a:pt x="174" y="489"/>
                  </a:lnTo>
                  <a:lnTo>
                    <a:pt x="168" y="516"/>
                  </a:lnTo>
                  <a:lnTo>
                    <a:pt x="159" y="542"/>
                  </a:lnTo>
                  <a:lnTo>
                    <a:pt x="149" y="569"/>
                  </a:lnTo>
                  <a:lnTo>
                    <a:pt x="138" y="596"/>
                  </a:lnTo>
                  <a:lnTo>
                    <a:pt x="128" y="624"/>
                  </a:lnTo>
                  <a:lnTo>
                    <a:pt x="116" y="652"/>
                  </a:lnTo>
                  <a:lnTo>
                    <a:pt x="103" y="680"/>
                  </a:lnTo>
                  <a:lnTo>
                    <a:pt x="74" y="736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3" y="794"/>
                  </a:lnTo>
                  <a:lnTo>
                    <a:pt x="41" y="799"/>
                  </a:lnTo>
                  <a:lnTo>
                    <a:pt x="40" y="803"/>
                  </a:lnTo>
                  <a:lnTo>
                    <a:pt x="40" y="806"/>
                  </a:lnTo>
                  <a:lnTo>
                    <a:pt x="41" y="810"/>
                  </a:lnTo>
                  <a:lnTo>
                    <a:pt x="42" y="814"/>
                  </a:lnTo>
                  <a:lnTo>
                    <a:pt x="44" y="817"/>
                  </a:lnTo>
                  <a:lnTo>
                    <a:pt x="48" y="819"/>
                  </a:lnTo>
                  <a:lnTo>
                    <a:pt x="51" y="821"/>
                  </a:lnTo>
                  <a:lnTo>
                    <a:pt x="54" y="823"/>
                  </a:lnTo>
                  <a:lnTo>
                    <a:pt x="57" y="823"/>
                  </a:lnTo>
                  <a:lnTo>
                    <a:pt x="62" y="824"/>
                  </a:lnTo>
                  <a:lnTo>
                    <a:pt x="65" y="823"/>
                  </a:lnTo>
                  <a:lnTo>
                    <a:pt x="69" y="822"/>
                  </a:lnTo>
                  <a:lnTo>
                    <a:pt x="73" y="820"/>
                  </a:lnTo>
                  <a:lnTo>
                    <a:pt x="76" y="818"/>
                  </a:lnTo>
                  <a:lnTo>
                    <a:pt x="78" y="8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181320" y="3006720"/>
              <a:ext cx="324000" cy="173160"/>
            </a:xfrm>
            <a:custGeom>
              <a:avLst/>
              <a:gdLst/>
              <a:ahLst/>
              <a:rect l="l" t="t" r="r" b="b"/>
              <a:pathLst>
                <a:path w="819" h="437">
                  <a:moveTo>
                    <a:pt x="10" y="416"/>
                  </a:moveTo>
                  <a:lnTo>
                    <a:pt x="11" y="417"/>
                  </a:lnTo>
                  <a:lnTo>
                    <a:pt x="22" y="421"/>
                  </a:lnTo>
                  <a:lnTo>
                    <a:pt x="34" y="426"/>
                  </a:lnTo>
                  <a:lnTo>
                    <a:pt x="48" y="429"/>
                  </a:lnTo>
                  <a:lnTo>
                    <a:pt x="63" y="432"/>
                  </a:lnTo>
                  <a:lnTo>
                    <a:pt x="80" y="434"/>
                  </a:lnTo>
                  <a:lnTo>
                    <a:pt x="99" y="435"/>
                  </a:lnTo>
                  <a:lnTo>
                    <a:pt x="119" y="437"/>
                  </a:lnTo>
                  <a:lnTo>
                    <a:pt x="142" y="437"/>
                  </a:lnTo>
                  <a:lnTo>
                    <a:pt x="165" y="435"/>
                  </a:lnTo>
                  <a:lnTo>
                    <a:pt x="189" y="434"/>
                  </a:lnTo>
                  <a:lnTo>
                    <a:pt x="215" y="431"/>
                  </a:lnTo>
                  <a:lnTo>
                    <a:pt x="242" y="428"/>
                  </a:lnTo>
                  <a:lnTo>
                    <a:pt x="269" y="423"/>
                  </a:lnTo>
                  <a:lnTo>
                    <a:pt x="298" y="417"/>
                  </a:lnTo>
                  <a:lnTo>
                    <a:pt x="328" y="410"/>
                  </a:lnTo>
                  <a:lnTo>
                    <a:pt x="358" y="401"/>
                  </a:lnTo>
                  <a:lnTo>
                    <a:pt x="388" y="391"/>
                  </a:lnTo>
                  <a:lnTo>
                    <a:pt x="418" y="379"/>
                  </a:lnTo>
                  <a:lnTo>
                    <a:pt x="450" y="366"/>
                  </a:lnTo>
                  <a:lnTo>
                    <a:pt x="481" y="351"/>
                  </a:lnTo>
                  <a:lnTo>
                    <a:pt x="511" y="335"/>
                  </a:lnTo>
                  <a:lnTo>
                    <a:pt x="543" y="317"/>
                  </a:lnTo>
                  <a:lnTo>
                    <a:pt x="574" y="296"/>
                  </a:lnTo>
                  <a:lnTo>
                    <a:pt x="604" y="275"/>
                  </a:lnTo>
                  <a:lnTo>
                    <a:pt x="634" y="251"/>
                  </a:lnTo>
                  <a:lnTo>
                    <a:pt x="663" y="224"/>
                  </a:lnTo>
                  <a:lnTo>
                    <a:pt x="692" y="196"/>
                  </a:lnTo>
                  <a:lnTo>
                    <a:pt x="720" y="165"/>
                  </a:lnTo>
                  <a:lnTo>
                    <a:pt x="733" y="149"/>
                  </a:lnTo>
                  <a:lnTo>
                    <a:pt x="747" y="132"/>
                  </a:lnTo>
                  <a:lnTo>
                    <a:pt x="760" y="115"/>
                  </a:lnTo>
                  <a:lnTo>
                    <a:pt x="771" y="97"/>
                  </a:lnTo>
                  <a:lnTo>
                    <a:pt x="784" y="79"/>
                  </a:lnTo>
                  <a:lnTo>
                    <a:pt x="796" y="60"/>
                  </a:lnTo>
                  <a:lnTo>
                    <a:pt x="808" y="40"/>
                  </a:lnTo>
                  <a:lnTo>
                    <a:pt x="819" y="20"/>
                  </a:lnTo>
                  <a:lnTo>
                    <a:pt x="784" y="0"/>
                  </a:lnTo>
                  <a:lnTo>
                    <a:pt x="774" y="20"/>
                  </a:lnTo>
                  <a:lnTo>
                    <a:pt x="762" y="38"/>
                  </a:lnTo>
                  <a:lnTo>
                    <a:pt x="751" y="56"/>
                  </a:lnTo>
                  <a:lnTo>
                    <a:pt x="739" y="75"/>
                  </a:lnTo>
                  <a:lnTo>
                    <a:pt x="726" y="91"/>
                  </a:lnTo>
                  <a:lnTo>
                    <a:pt x="714" y="108"/>
                  </a:lnTo>
                  <a:lnTo>
                    <a:pt x="701" y="123"/>
                  </a:lnTo>
                  <a:lnTo>
                    <a:pt x="689" y="138"/>
                  </a:lnTo>
                  <a:lnTo>
                    <a:pt x="662" y="168"/>
                  </a:lnTo>
                  <a:lnTo>
                    <a:pt x="635" y="195"/>
                  </a:lnTo>
                  <a:lnTo>
                    <a:pt x="607" y="219"/>
                  </a:lnTo>
                  <a:lnTo>
                    <a:pt x="579" y="242"/>
                  </a:lnTo>
                  <a:lnTo>
                    <a:pt x="550" y="264"/>
                  </a:lnTo>
                  <a:lnTo>
                    <a:pt x="521" y="282"/>
                  </a:lnTo>
                  <a:lnTo>
                    <a:pt x="492" y="299"/>
                  </a:lnTo>
                  <a:lnTo>
                    <a:pt x="463" y="316"/>
                  </a:lnTo>
                  <a:lnTo>
                    <a:pt x="433" y="330"/>
                  </a:lnTo>
                  <a:lnTo>
                    <a:pt x="403" y="342"/>
                  </a:lnTo>
                  <a:lnTo>
                    <a:pt x="374" y="352"/>
                  </a:lnTo>
                  <a:lnTo>
                    <a:pt x="346" y="362"/>
                  </a:lnTo>
                  <a:lnTo>
                    <a:pt x="317" y="371"/>
                  </a:lnTo>
                  <a:lnTo>
                    <a:pt x="289" y="377"/>
                  </a:lnTo>
                  <a:lnTo>
                    <a:pt x="262" y="383"/>
                  </a:lnTo>
                  <a:lnTo>
                    <a:pt x="236" y="388"/>
                  </a:lnTo>
                  <a:lnTo>
                    <a:pt x="210" y="391"/>
                  </a:lnTo>
                  <a:lnTo>
                    <a:pt x="186" y="393"/>
                  </a:lnTo>
                  <a:lnTo>
                    <a:pt x="162" y="396"/>
                  </a:lnTo>
                  <a:lnTo>
                    <a:pt x="141" y="396"/>
                  </a:lnTo>
                  <a:lnTo>
                    <a:pt x="120" y="396"/>
                  </a:lnTo>
                  <a:lnTo>
                    <a:pt x="102" y="396"/>
                  </a:lnTo>
                  <a:lnTo>
                    <a:pt x="85" y="393"/>
                  </a:lnTo>
                  <a:lnTo>
                    <a:pt x="70" y="392"/>
                  </a:lnTo>
                  <a:lnTo>
                    <a:pt x="56" y="389"/>
                  </a:lnTo>
                  <a:lnTo>
                    <a:pt x="45" y="387"/>
                  </a:lnTo>
                  <a:lnTo>
                    <a:pt x="36" y="384"/>
                  </a:lnTo>
                  <a:lnTo>
                    <a:pt x="31" y="381"/>
                  </a:lnTo>
                  <a:lnTo>
                    <a:pt x="33" y="383"/>
                  </a:lnTo>
                  <a:lnTo>
                    <a:pt x="31" y="381"/>
                  </a:lnTo>
                  <a:lnTo>
                    <a:pt x="26" y="379"/>
                  </a:lnTo>
                  <a:lnTo>
                    <a:pt x="22" y="378"/>
                  </a:lnTo>
                  <a:lnTo>
                    <a:pt x="19" y="378"/>
                  </a:lnTo>
                  <a:lnTo>
                    <a:pt x="14" y="379"/>
                  </a:lnTo>
                  <a:lnTo>
                    <a:pt x="11" y="381"/>
                  </a:lnTo>
                  <a:lnTo>
                    <a:pt x="8" y="384"/>
                  </a:lnTo>
                  <a:lnTo>
                    <a:pt x="6" y="386"/>
                  </a:lnTo>
                  <a:lnTo>
                    <a:pt x="4" y="389"/>
                  </a:lnTo>
                  <a:lnTo>
                    <a:pt x="2" y="393"/>
                  </a:lnTo>
                  <a:lnTo>
                    <a:pt x="2" y="397"/>
                  </a:lnTo>
                  <a:lnTo>
                    <a:pt x="0" y="400"/>
                  </a:lnTo>
                  <a:lnTo>
                    <a:pt x="2" y="404"/>
                  </a:lnTo>
                  <a:lnTo>
                    <a:pt x="3" y="407"/>
                  </a:lnTo>
                  <a:lnTo>
                    <a:pt x="5" y="411"/>
                  </a:lnTo>
                  <a:lnTo>
                    <a:pt x="8" y="414"/>
                  </a:lnTo>
                  <a:lnTo>
                    <a:pt x="11" y="417"/>
                  </a:lnTo>
                  <a:lnTo>
                    <a:pt x="10" y="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130560" y="2827440"/>
              <a:ext cx="81000" cy="344520"/>
            </a:xfrm>
            <a:custGeom>
              <a:avLst/>
              <a:gdLst/>
              <a:ahLst/>
              <a:rect l="l" t="t" r="r" b="b"/>
              <a:pathLst>
                <a:path w="204" h="870">
                  <a:moveTo>
                    <a:pt x="167" y="9"/>
                  </a:moveTo>
                  <a:lnTo>
                    <a:pt x="168" y="8"/>
                  </a:lnTo>
                  <a:lnTo>
                    <a:pt x="154" y="25"/>
                  </a:lnTo>
                  <a:lnTo>
                    <a:pt x="141" y="44"/>
                  </a:lnTo>
                  <a:lnTo>
                    <a:pt x="130" y="61"/>
                  </a:lnTo>
                  <a:lnTo>
                    <a:pt x="118" y="79"/>
                  </a:lnTo>
                  <a:lnTo>
                    <a:pt x="96" y="115"/>
                  </a:lnTo>
                  <a:lnTo>
                    <a:pt x="78" y="151"/>
                  </a:lnTo>
                  <a:lnTo>
                    <a:pt x="61" y="186"/>
                  </a:lnTo>
                  <a:lnTo>
                    <a:pt x="46" y="222"/>
                  </a:lnTo>
                  <a:lnTo>
                    <a:pt x="34" y="257"/>
                  </a:lnTo>
                  <a:lnTo>
                    <a:pt x="24" y="292"/>
                  </a:lnTo>
                  <a:lnTo>
                    <a:pt x="16" y="327"/>
                  </a:lnTo>
                  <a:lnTo>
                    <a:pt x="10" y="361"/>
                  </a:lnTo>
                  <a:lnTo>
                    <a:pt x="5" y="395"/>
                  </a:lnTo>
                  <a:lnTo>
                    <a:pt x="2" y="428"/>
                  </a:lnTo>
                  <a:lnTo>
                    <a:pt x="0" y="461"/>
                  </a:lnTo>
                  <a:lnTo>
                    <a:pt x="0" y="492"/>
                  </a:lnTo>
                  <a:lnTo>
                    <a:pt x="1" y="523"/>
                  </a:lnTo>
                  <a:lnTo>
                    <a:pt x="4" y="554"/>
                  </a:lnTo>
                  <a:lnTo>
                    <a:pt x="8" y="583"/>
                  </a:lnTo>
                  <a:lnTo>
                    <a:pt x="13" y="612"/>
                  </a:lnTo>
                  <a:lnTo>
                    <a:pt x="18" y="639"/>
                  </a:lnTo>
                  <a:lnTo>
                    <a:pt x="25" y="665"/>
                  </a:lnTo>
                  <a:lnTo>
                    <a:pt x="32" y="690"/>
                  </a:lnTo>
                  <a:lnTo>
                    <a:pt x="40" y="713"/>
                  </a:lnTo>
                  <a:lnTo>
                    <a:pt x="49" y="736"/>
                  </a:lnTo>
                  <a:lnTo>
                    <a:pt x="57" y="757"/>
                  </a:lnTo>
                  <a:lnTo>
                    <a:pt x="67" y="777"/>
                  </a:lnTo>
                  <a:lnTo>
                    <a:pt x="77" y="794"/>
                  </a:lnTo>
                  <a:lnTo>
                    <a:pt x="86" y="812"/>
                  </a:lnTo>
                  <a:lnTo>
                    <a:pt x="96" y="827"/>
                  </a:lnTo>
                  <a:lnTo>
                    <a:pt x="107" y="840"/>
                  </a:lnTo>
                  <a:lnTo>
                    <a:pt x="117" y="852"/>
                  </a:lnTo>
                  <a:lnTo>
                    <a:pt x="127" y="861"/>
                  </a:lnTo>
                  <a:lnTo>
                    <a:pt x="138" y="870"/>
                  </a:lnTo>
                  <a:lnTo>
                    <a:pt x="161" y="837"/>
                  </a:lnTo>
                  <a:lnTo>
                    <a:pt x="153" y="831"/>
                  </a:lnTo>
                  <a:lnTo>
                    <a:pt x="146" y="824"/>
                  </a:lnTo>
                  <a:lnTo>
                    <a:pt x="138" y="814"/>
                  </a:lnTo>
                  <a:lnTo>
                    <a:pt x="130" y="803"/>
                  </a:lnTo>
                  <a:lnTo>
                    <a:pt x="121" y="790"/>
                  </a:lnTo>
                  <a:lnTo>
                    <a:pt x="111" y="775"/>
                  </a:lnTo>
                  <a:lnTo>
                    <a:pt x="103" y="759"/>
                  </a:lnTo>
                  <a:lnTo>
                    <a:pt x="94" y="740"/>
                  </a:lnTo>
                  <a:lnTo>
                    <a:pt x="86" y="721"/>
                  </a:lnTo>
                  <a:lnTo>
                    <a:pt x="78" y="700"/>
                  </a:lnTo>
                  <a:lnTo>
                    <a:pt x="70" y="678"/>
                  </a:lnTo>
                  <a:lnTo>
                    <a:pt x="64" y="654"/>
                  </a:lnTo>
                  <a:lnTo>
                    <a:pt x="57" y="630"/>
                  </a:lnTo>
                  <a:lnTo>
                    <a:pt x="52" y="604"/>
                  </a:lnTo>
                  <a:lnTo>
                    <a:pt x="47" y="577"/>
                  </a:lnTo>
                  <a:lnTo>
                    <a:pt x="44" y="549"/>
                  </a:lnTo>
                  <a:lnTo>
                    <a:pt x="42" y="521"/>
                  </a:lnTo>
                  <a:lnTo>
                    <a:pt x="41" y="492"/>
                  </a:lnTo>
                  <a:lnTo>
                    <a:pt x="41" y="462"/>
                  </a:lnTo>
                  <a:lnTo>
                    <a:pt x="42" y="430"/>
                  </a:lnTo>
                  <a:lnTo>
                    <a:pt x="45" y="399"/>
                  </a:lnTo>
                  <a:lnTo>
                    <a:pt x="50" y="368"/>
                  </a:lnTo>
                  <a:lnTo>
                    <a:pt x="55" y="335"/>
                  </a:lnTo>
                  <a:lnTo>
                    <a:pt x="64" y="302"/>
                  </a:lnTo>
                  <a:lnTo>
                    <a:pt x="73" y="270"/>
                  </a:lnTo>
                  <a:lnTo>
                    <a:pt x="84" y="236"/>
                  </a:lnTo>
                  <a:lnTo>
                    <a:pt x="98" y="203"/>
                  </a:lnTo>
                  <a:lnTo>
                    <a:pt x="113" y="168"/>
                  </a:lnTo>
                  <a:lnTo>
                    <a:pt x="132" y="135"/>
                  </a:lnTo>
                  <a:lnTo>
                    <a:pt x="152" y="100"/>
                  </a:lnTo>
                  <a:lnTo>
                    <a:pt x="163" y="84"/>
                  </a:lnTo>
                  <a:lnTo>
                    <a:pt x="175" y="67"/>
                  </a:lnTo>
                  <a:lnTo>
                    <a:pt x="187" y="49"/>
                  </a:lnTo>
                  <a:lnTo>
                    <a:pt x="200" y="33"/>
                  </a:lnTo>
                  <a:lnTo>
                    <a:pt x="201" y="31"/>
                  </a:lnTo>
                  <a:lnTo>
                    <a:pt x="200" y="33"/>
                  </a:lnTo>
                  <a:lnTo>
                    <a:pt x="202" y="29"/>
                  </a:lnTo>
                  <a:lnTo>
                    <a:pt x="204" y="24"/>
                  </a:lnTo>
                  <a:lnTo>
                    <a:pt x="204" y="21"/>
                  </a:lnTo>
                  <a:lnTo>
                    <a:pt x="204" y="17"/>
                  </a:lnTo>
                  <a:lnTo>
                    <a:pt x="203" y="14"/>
                  </a:lnTo>
                  <a:lnTo>
                    <a:pt x="202" y="10"/>
                  </a:lnTo>
                  <a:lnTo>
                    <a:pt x="199" y="7"/>
                  </a:lnTo>
                  <a:lnTo>
                    <a:pt x="196" y="5"/>
                  </a:lnTo>
                  <a:lnTo>
                    <a:pt x="193" y="3"/>
                  </a:lnTo>
                  <a:lnTo>
                    <a:pt x="190" y="1"/>
                  </a:ln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5" y="2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7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197160" y="2689200"/>
              <a:ext cx="290520" cy="149400"/>
            </a:xfrm>
            <a:custGeom>
              <a:avLst/>
              <a:gdLst/>
              <a:ahLst/>
              <a:rect l="l" t="t" r="r" b="b"/>
              <a:pathLst>
                <a:path w="732" h="377">
                  <a:moveTo>
                    <a:pt x="724" y="6"/>
                  </a:moveTo>
                  <a:lnTo>
                    <a:pt x="715" y="3"/>
                  </a:lnTo>
                  <a:lnTo>
                    <a:pt x="682" y="1"/>
                  </a:lnTo>
                  <a:lnTo>
                    <a:pt x="646" y="0"/>
                  </a:lnTo>
                  <a:lnTo>
                    <a:pt x="626" y="1"/>
                  </a:lnTo>
                  <a:lnTo>
                    <a:pt x="605" y="2"/>
                  </a:lnTo>
                  <a:lnTo>
                    <a:pt x="584" y="4"/>
                  </a:lnTo>
                  <a:lnTo>
                    <a:pt x="562" y="6"/>
                  </a:lnTo>
                  <a:lnTo>
                    <a:pt x="540" y="10"/>
                  </a:lnTo>
                  <a:lnTo>
                    <a:pt x="516" y="14"/>
                  </a:lnTo>
                  <a:lnTo>
                    <a:pt x="493" y="18"/>
                  </a:lnTo>
                  <a:lnTo>
                    <a:pt x="469" y="25"/>
                  </a:lnTo>
                  <a:lnTo>
                    <a:pt x="445" y="31"/>
                  </a:lnTo>
                  <a:lnTo>
                    <a:pt x="420" y="38"/>
                  </a:lnTo>
                  <a:lnTo>
                    <a:pt x="396" y="46"/>
                  </a:lnTo>
                  <a:lnTo>
                    <a:pt x="371" y="55"/>
                  </a:lnTo>
                  <a:lnTo>
                    <a:pt x="346" y="66"/>
                  </a:lnTo>
                  <a:lnTo>
                    <a:pt x="320" y="77"/>
                  </a:lnTo>
                  <a:lnTo>
                    <a:pt x="295" y="89"/>
                  </a:lnTo>
                  <a:lnTo>
                    <a:pt x="270" y="101"/>
                  </a:lnTo>
                  <a:lnTo>
                    <a:pt x="245" y="117"/>
                  </a:lnTo>
                  <a:lnTo>
                    <a:pt x="221" y="132"/>
                  </a:lnTo>
                  <a:lnTo>
                    <a:pt x="196" y="148"/>
                  </a:lnTo>
                  <a:lnTo>
                    <a:pt x="172" y="166"/>
                  </a:lnTo>
                  <a:lnTo>
                    <a:pt x="148" y="185"/>
                  </a:lnTo>
                  <a:lnTo>
                    <a:pt x="124" y="205"/>
                  </a:lnTo>
                  <a:lnTo>
                    <a:pt x="102" y="227"/>
                  </a:lnTo>
                  <a:lnTo>
                    <a:pt x="80" y="249"/>
                  </a:lnTo>
                  <a:lnTo>
                    <a:pt x="59" y="274"/>
                  </a:lnTo>
                  <a:lnTo>
                    <a:pt x="38" y="300"/>
                  </a:lnTo>
                  <a:lnTo>
                    <a:pt x="19" y="327"/>
                  </a:lnTo>
                  <a:lnTo>
                    <a:pt x="0" y="355"/>
                  </a:lnTo>
                  <a:lnTo>
                    <a:pt x="34" y="377"/>
                  </a:lnTo>
                  <a:lnTo>
                    <a:pt x="52" y="350"/>
                  </a:lnTo>
                  <a:lnTo>
                    <a:pt x="71" y="324"/>
                  </a:lnTo>
                  <a:lnTo>
                    <a:pt x="90" y="300"/>
                  </a:lnTo>
                  <a:lnTo>
                    <a:pt x="110" y="278"/>
                  </a:lnTo>
                  <a:lnTo>
                    <a:pt x="131" y="256"/>
                  </a:lnTo>
                  <a:lnTo>
                    <a:pt x="153" y="235"/>
                  </a:lnTo>
                  <a:lnTo>
                    <a:pt x="174" y="216"/>
                  </a:lnTo>
                  <a:lnTo>
                    <a:pt x="197" y="198"/>
                  </a:lnTo>
                  <a:lnTo>
                    <a:pt x="220" y="181"/>
                  </a:lnTo>
                  <a:lnTo>
                    <a:pt x="242" y="165"/>
                  </a:lnTo>
                  <a:lnTo>
                    <a:pt x="266" y="151"/>
                  </a:lnTo>
                  <a:lnTo>
                    <a:pt x="290" y="137"/>
                  </a:lnTo>
                  <a:lnTo>
                    <a:pt x="313" y="124"/>
                  </a:lnTo>
                  <a:lnTo>
                    <a:pt x="337" y="113"/>
                  </a:lnTo>
                  <a:lnTo>
                    <a:pt x="361" y="103"/>
                  </a:lnTo>
                  <a:lnTo>
                    <a:pt x="385" y="93"/>
                  </a:lnTo>
                  <a:lnTo>
                    <a:pt x="408" y="84"/>
                  </a:lnTo>
                  <a:lnTo>
                    <a:pt x="432" y="77"/>
                  </a:lnTo>
                  <a:lnTo>
                    <a:pt x="456" y="70"/>
                  </a:lnTo>
                  <a:lnTo>
                    <a:pt x="479" y="64"/>
                  </a:lnTo>
                  <a:lnTo>
                    <a:pt x="501" y="58"/>
                  </a:lnTo>
                  <a:lnTo>
                    <a:pt x="524" y="54"/>
                  </a:lnTo>
                  <a:lnTo>
                    <a:pt x="546" y="50"/>
                  </a:lnTo>
                  <a:lnTo>
                    <a:pt x="567" y="46"/>
                  </a:lnTo>
                  <a:lnTo>
                    <a:pt x="588" y="44"/>
                  </a:lnTo>
                  <a:lnTo>
                    <a:pt x="608" y="43"/>
                  </a:lnTo>
                  <a:lnTo>
                    <a:pt x="628" y="41"/>
                  </a:lnTo>
                  <a:lnTo>
                    <a:pt x="646" y="41"/>
                  </a:lnTo>
                  <a:lnTo>
                    <a:pt x="681" y="41"/>
                  </a:lnTo>
                  <a:lnTo>
                    <a:pt x="711" y="43"/>
                  </a:lnTo>
                  <a:lnTo>
                    <a:pt x="702" y="40"/>
                  </a:lnTo>
                  <a:lnTo>
                    <a:pt x="711" y="43"/>
                  </a:lnTo>
                  <a:lnTo>
                    <a:pt x="715" y="43"/>
                  </a:lnTo>
                  <a:lnTo>
                    <a:pt x="719" y="43"/>
                  </a:lnTo>
                  <a:lnTo>
                    <a:pt x="723" y="41"/>
                  </a:lnTo>
                  <a:lnTo>
                    <a:pt x="726" y="39"/>
                  </a:lnTo>
                  <a:lnTo>
                    <a:pt x="728" y="36"/>
                  </a:lnTo>
                  <a:lnTo>
                    <a:pt x="730" y="32"/>
                  </a:lnTo>
                  <a:lnTo>
                    <a:pt x="732" y="29"/>
                  </a:lnTo>
                  <a:lnTo>
                    <a:pt x="732" y="26"/>
                  </a:lnTo>
                  <a:lnTo>
                    <a:pt x="732" y="22"/>
                  </a:lnTo>
                  <a:lnTo>
                    <a:pt x="732" y="18"/>
                  </a:lnTo>
                  <a:lnTo>
                    <a:pt x="731" y="14"/>
                  </a:lnTo>
                  <a:lnTo>
                    <a:pt x="729" y="11"/>
                  </a:lnTo>
                  <a:lnTo>
                    <a:pt x="727" y="9"/>
                  </a:lnTo>
                  <a:lnTo>
                    <a:pt x="724" y="6"/>
                  </a:lnTo>
                  <a:lnTo>
                    <a:pt x="719" y="4"/>
                  </a:lnTo>
                  <a:lnTo>
                    <a:pt x="715" y="3"/>
                  </a:lnTo>
                  <a:lnTo>
                    <a:pt x="7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273480" y="2679840"/>
              <a:ext cx="234720" cy="382680"/>
            </a:xfrm>
            <a:custGeom>
              <a:avLst/>
              <a:gdLst/>
              <a:ahLst/>
              <a:rect l="l" t="t" r="r" b="b"/>
              <a:pathLst>
                <a:path w="592" h="963">
                  <a:moveTo>
                    <a:pt x="555" y="0"/>
                  </a:moveTo>
                  <a:lnTo>
                    <a:pt x="0" y="874"/>
                  </a:lnTo>
                  <a:lnTo>
                    <a:pt x="198" y="963"/>
                  </a:lnTo>
                  <a:lnTo>
                    <a:pt x="288" y="872"/>
                  </a:lnTo>
                  <a:lnTo>
                    <a:pt x="161" y="813"/>
                  </a:lnTo>
                  <a:lnTo>
                    <a:pt x="592" y="89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265560" y="2675160"/>
              <a:ext cx="234720" cy="360360"/>
            </a:xfrm>
            <a:custGeom>
              <a:avLst/>
              <a:gdLst/>
              <a:ahLst/>
              <a:rect l="l" t="t" r="r" b="b"/>
              <a:pathLst>
                <a:path w="593" h="905">
                  <a:moveTo>
                    <a:pt x="12" y="903"/>
                  </a:moveTo>
                  <a:lnTo>
                    <a:pt x="38" y="896"/>
                  </a:lnTo>
                  <a:lnTo>
                    <a:pt x="593" y="22"/>
                  </a:lnTo>
                  <a:lnTo>
                    <a:pt x="558" y="0"/>
                  </a:lnTo>
                  <a:lnTo>
                    <a:pt x="3" y="874"/>
                  </a:lnTo>
                  <a:lnTo>
                    <a:pt x="12" y="903"/>
                  </a:lnTo>
                  <a:lnTo>
                    <a:pt x="3" y="874"/>
                  </a:lnTo>
                  <a:lnTo>
                    <a:pt x="1" y="877"/>
                  </a:lnTo>
                  <a:lnTo>
                    <a:pt x="0" y="882"/>
                  </a:lnTo>
                  <a:lnTo>
                    <a:pt x="0" y="886"/>
                  </a:lnTo>
                  <a:lnTo>
                    <a:pt x="0" y="889"/>
                  </a:lnTo>
                  <a:lnTo>
                    <a:pt x="2" y="893"/>
                  </a:lnTo>
                  <a:lnTo>
                    <a:pt x="4" y="897"/>
                  </a:lnTo>
                  <a:lnTo>
                    <a:pt x="6" y="899"/>
                  </a:lnTo>
                  <a:lnTo>
                    <a:pt x="10" y="901"/>
                  </a:lnTo>
                  <a:lnTo>
                    <a:pt x="13" y="903"/>
                  </a:lnTo>
                  <a:lnTo>
                    <a:pt x="16" y="904"/>
                  </a:lnTo>
                  <a:lnTo>
                    <a:pt x="21" y="905"/>
                  </a:lnTo>
                  <a:lnTo>
                    <a:pt x="24" y="904"/>
                  </a:lnTo>
                  <a:lnTo>
                    <a:pt x="28" y="903"/>
                  </a:lnTo>
                  <a:lnTo>
                    <a:pt x="31" y="902"/>
                  </a:lnTo>
                  <a:lnTo>
                    <a:pt x="35" y="899"/>
                  </a:lnTo>
                  <a:lnTo>
                    <a:pt x="38" y="896"/>
                  </a:lnTo>
                  <a:lnTo>
                    <a:pt x="12" y="9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268800" y="3019680"/>
              <a:ext cx="90360" cy="50760"/>
            </a:xfrm>
            <a:custGeom>
              <a:avLst/>
              <a:gdLst/>
              <a:ahLst/>
              <a:rect l="l" t="t" r="r" b="b"/>
              <a:pathLst>
                <a:path w="227" h="129">
                  <a:moveTo>
                    <a:pt x="221" y="124"/>
                  </a:moveTo>
                  <a:lnTo>
                    <a:pt x="215" y="90"/>
                  </a:lnTo>
                  <a:lnTo>
                    <a:pt x="16" y="0"/>
                  </a:lnTo>
                  <a:lnTo>
                    <a:pt x="0" y="37"/>
                  </a:lnTo>
                  <a:lnTo>
                    <a:pt x="199" y="127"/>
                  </a:lnTo>
                  <a:lnTo>
                    <a:pt x="221" y="124"/>
                  </a:lnTo>
                  <a:lnTo>
                    <a:pt x="199" y="127"/>
                  </a:lnTo>
                  <a:lnTo>
                    <a:pt x="203" y="129"/>
                  </a:lnTo>
                  <a:lnTo>
                    <a:pt x="207" y="129"/>
                  </a:lnTo>
                  <a:lnTo>
                    <a:pt x="212" y="129"/>
                  </a:lnTo>
                  <a:lnTo>
                    <a:pt x="215" y="128"/>
                  </a:lnTo>
                  <a:lnTo>
                    <a:pt x="218" y="126"/>
                  </a:lnTo>
                  <a:lnTo>
                    <a:pt x="221" y="124"/>
                  </a:lnTo>
                  <a:lnTo>
                    <a:pt x="223" y="120"/>
                  </a:lnTo>
                  <a:lnTo>
                    <a:pt x="226" y="117"/>
                  </a:lnTo>
                  <a:lnTo>
                    <a:pt x="227" y="114"/>
                  </a:lnTo>
                  <a:lnTo>
                    <a:pt x="227" y="110"/>
                  </a:lnTo>
                  <a:lnTo>
                    <a:pt x="227" y="106"/>
                  </a:lnTo>
                  <a:lnTo>
                    <a:pt x="227" y="103"/>
                  </a:lnTo>
                  <a:lnTo>
                    <a:pt x="224" y="99"/>
                  </a:lnTo>
                  <a:lnTo>
                    <a:pt x="222" y="96"/>
                  </a:lnTo>
                  <a:lnTo>
                    <a:pt x="219" y="93"/>
                  </a:lnTo>
                  <a:lnTo>
                    <a:pt x="215" y="90"/>
                  </a:lnTo>
                  <a:lnTo>
                    <a:pt x="221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346560" y="3017880"/>
              <a:ext cx="48960" cy="50760"/>
            </a:xfrm>
            <a:custGeom>
              <a:avLst/>
              <a:gdLst/>
              <a:ahLst/>
              <a:rect l="l" t="t" r="r" b="b"/>
              <a:pathLst>
                <a:path w="125" h="128">
                  <a:moveTo>
                    <a:pt x="113" y="2"/>
                  </a:moveTo>
                  <a:lnTo>
                    <a:pt x="91" y="7"/>
                  </a:lnTo>
                  <a:lnTo>
                    <a:pt x="0" y="98"/>
                  </a:lnTo>
                  <a:lnTo>
                    <a:pt x="29" y="128"/>
                  </a:lnTo>
                  <a:lnTo>
                    <a:pt x="120" y="35"/>
                  </a:lnTo>
                  <a:lnTo>
                    <a:pt x="113" y="2"/>
                  </a:lnTo>
                  <a:lnTo>
                    <a:pt x="120" y="35"/>
                  </a:lnTo>
                  <a:lnTo>
                    <a:pt x="123" y="30"/>
                  </a:lnTo>
                  <a:lnTo>
                    <a:pt x="124" y="27"/>
                  </a:lnTo>
                  <a:lnTo>
                    <a:pt x="125" y="23"/>
                  </a:lnTo>
                  <a:lnTo>
                    <a:pt x="125" y="20"/>
                  </a:lnTo>
                  <a:lnTo>
                    <a:pt x="125" y="15"/>
                  </a:lnTo>
                  <a:lnTo>
                    <a:pt x="124" y="12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7" y="3"/>
                  </a:lnTo>
                  <a:lnTo>
                    <a:pt x="113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3" y="0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91" y="7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328920" y="2994120"/>
              <a:ext cx="61920" cy="3960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3" y="11"/>
                  </a:moveTo>
                  <a:lnTo>
                    <a:pt x="12" y="39"/>
                  </a:lnTo>
                  <a:lnTo>
                    <a:pt x="139" y="97"/>
                  </a:lnTo>
                  <a:lnTo>
                    <a:pt x="155" y="60"/>
                  </a:lnTo>
                  <a:lnTo>
                    <a:pt x="28" y="2"/>
                  </a:lnTo>
                  <a:lnTo>
                    <a:pt x="3" y="11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330720" y="2706840"/>
              <a:ext cx="185760" cy="299880"/>
            </a:xfrm>
            <a:custGeom>
              <a:avLst/>
              <a:gdLst/>
              <a:ahLst/>
              <a:rect l="l" t="t" r="r" b="b"/>
              <a:pathLst>
                <a:path w="469" h="756">
                  <a:moveTo>
                    <a:pt x="468" y="13"/>
                  </a:moveTo>
                  <a:lnTo>
                    <a:pt x="431" y="11"/>
                  </a:lnTo>
                  <a:lnTo>
                    <a:pt x="0" y="736"/>
                  </a:lnTo>
                  <a:lnTo>
                    <a:pt x="35" y="756"/>
                  </a:lnTo>
                  <a:lnTo>
                    <a:pt x="466" y="31"/>
                  </a:lnTo>
                  <a:lnTo>
                    <a:pt x="468" y="13"/>
                  </a:lnTo>
                  <a:lnTo>
                    <a:pt x="466" y="31"/>
                  </a:lnTo>
                  <a:lnTo>
                    <a:pt x="468" y="27"/>
                  </a:lnTo>
                  <a:lnTo>
                    <a:pt x="469" y="23"/>
                  </a:lnTo>
                  <a:lnTo>
                    <a:pt x="469" y="19"/>
                  </a:lnTo>
                  <a:lnTo>
                    <a:pt x="469" y="15"/>
                  </a:lnTo>
                  <a:lnTo>
                    <a:pt x="467" y="12"/>
                  </a:lnTo>
                  <a:lnTo>
                    <a:pt x="465" y="9"/>
                  </a:lnTo>
                  <a:lnTo>
                    <a:pt x="462" y="6"/>
                  </a:lnTo>
                  <a:lnTo>
                    <a:pt x="459" y="3"/>
                  </a:lnTo>
                  <a:lnTo>
                    <a:pt x="456" y="2"/>
                  </a:lnTo>
                  <a:lnTo>
                    <a:pt x="453" y="1"/>
                  </a:lnTo>
                  <a:lnTo>
                    <a:pt x="448" y="0"/>
                  </a:lnTo>
                  <a:lnTo>
                    <a:pt x="445" y="1"/>
                  </a:lnTo>
                  <a:lnTo>
                    <a:pt x="441" y="2"/>
                  </a:lnTo>
                  <a:lnTo>
                    <a:pt x="438" y="3"/>
                  </a:lnTo>
                  <a:lnTo>
                    <a:pt x="434" y="7"/>
                  </a:lnTo>
                  <a:lnTo>
                    <a:pt x="431" y="11"/>
                  </a:lnTo>
                  <a:lnTo>
                    <a:pt x="468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484440" y="2671920"/>
              <a:ext cx="32040" cy="46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3" y="9"/>
                  </a:moveTo>
                  <a:lnTo>
                    <a:pt x="2" y="29"/>
                  </a:lnTo>
                  <a:lnTo>
                    <a:pt x="40" y="117"/>
                  </a:lnTo>
                  <a:lnTo>
                    <a:pt x="78" y="101"/>
                  </a:lnTo>
                  <a:lnTo>
                    <a:pt x="39" y="13"/>
                  </a:lnTo>
                  <a:lnTo>
                    <a:pt x="3" y="9"/>
                  </a:lnTo>
                  <a:lnTo>
                    <a:pt x="39" y="13"/>
                  </a:lnTo>
                  <a:lnTo>
                    <a:pt x="37" y="8"/>
                  </a:lnTo>
                  <a:lnTo>
                    <a:pt x="34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181320" y="3049560"/>
              <a:ext cx="142920" cy="92160"/>
            </a:xfrm>
            <a:custGeom>
              <a:avLst/>
              <a:gdLst/>
              <a:ahLst/>
              <a:rect l="l" t="t" r="r" b="b"/>
              <a:pathLst>
                <a:path w="360" h="234">
                  <a:moveTo>
                    <a:pt x="0" y="0"/>
                  </a:moveTo>
                  <a:lnTo>
                    <a:pt x="10" y="11"/>
                  </a:lnTo>
                  <a:lnTo>
                    <a:pt x="21" y="18"/>
                  </a:lnTo>
                  <a:lnTo>
                    <a:pt x="31" y="24"/>
                  </a:lnTo>
                  <a:lnTo>
                    <a:pt x="41" y="28"/>
                  </a:lnTo>
                  <a:lnTo>
                    <a:pt x="49" y="29"/>
                  </a:lnTo>
                  <a:lnTo>
                    <a:pt x="58" y="29"/>
                  </a:lnTo>
                  <a:lnTo>
                    <a:pt x="68" y="28"/>
                  </a:lnTo>
                  <a:lnTo>
                    <a:pt x="76" y="26"/>
                  </a:lnTo>
                  <a:lnTo>
                    <a:pt x="92" y="21"/>
                  </a:lnTo>
                  <a:lnTo>
                    <a:pt x="110" y="14"/>
                  </a:lnTo>
                  <a:lnTo>
                    <a:pt x="118" y="11"/>
                  </a:lnTo>
                  <a:lnTo>
                    <a:pt x="127" y="9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0" y="25"/>
                  </a:lnTo>
                  <a:lnTo>
                    <a:pt x="155" y="39"/>
                  </a:lnTo>
                  <a:lnTo>
                    <a:pt x="160" y="53"/>
                  </a:lnTo>
                  <a:lnTo>
                    <a:pt x="168" y="64"/>
                  </a:lnTo>
                  <a:lnTo>
                    <a:pt x="174" y="75"/>
                  </a:lnTo>
                  <a:lnTo>
                    <a:pt x="183" y="83"/>
                  </a:lnTo>
                  <a:lnTo>
                    <a:pt x="192" y="90"/>
                  </a:lnTo>
                  <a:lnTo>
                    <a:pt x="201" y="95"/>
                  </a:lnTo>
                  <a:lnTo>
                    <a:pt x="211" y="99"/>
                  </a:lnTo>
                  <a:lnTo>
                    <a:pt x="223" y="102"/>
                  </a:lnTo>
                  <a:lnTo>
                    <a:pt x="234" y="103"/>
                  </a:lnTo>
                  <a:lnTo>
                    <a:pt x="246" y="102"/>
                  </a:lnTo>
                  <a:lnTo>
                    <a:pt x="259" y="99"/>
                  </a:lnTo>
                  <a:lnTo>
                    <a:pt x="272" y="95"/>
                  </a:lnTo>
                  <a:lnTo>
                    <a:pt x="286" y="90"/>
                  </a:lnTo>
                  <a:lnTo>
                    <a:pt x="301" y="83"/>
                  </a:lnTo>
                  <a:lnTo>
                    <a:pt x="304" y="99"/>
                  </a:lnTo>
                  <a:lnTo>
                    <a:pt x="306" y="116"/>
                  </a:lnTo>
                  <a:lnTo>
                    <a:pt x="307" y="131"/>
                  </a:lnTo>
                  <a:lnTo>
                    <a:pt x="311" y="145"/>
                  </a:lnTo>
                  <a:lnTo>
                    <a:pt x="314" y="151"/>
                  </a:lnTo>
                  <a:lnTo>
                    <a:pt x="317" y="158"/>
                  </a:lnTo>
                  <a:lnTo>
                    <a:pt x="320" y="162"/>
                  </a:lnTo>
                  <a:lnTo>
                    <a:pt x="326" y="167"/>
                  </a:lnTo>
                  <a:lnTo>
                    <a:pt x="332" y="172"/>
                  </a:lnTo>
                  <a:lnTo>
                    <a:pt x="340" y="175"/>
                  </a:lnTo>
                  <a:lnTo>
                    <a:pt x="349" y="177"/>
                  </a:lnTo>
                  <a:lnTo>
                    <a:pt x="360" y="179"/>
                  </a:lnTo>
                  <a:lnTo>
                    <a:pt x="336" y="191"/>
                  </a:lnTo>
                  <a:lnTo>
                    <a:pt x="313" y="201"/>
                  </a:lnTo>
                  <a:lnTo>
                    <a:pt x="291" y="210"/>
                  </a:lnTo>
                  <a:lnTo>
                    <a:pt x="269" y="217"/>
                  </a:lnTo>
                  <a:lnTo>
                    <a:pt x="249" y="223"/>
                  </a:lnTo>
                  <a:lnTo>
                    <a:pt x="230" y="228"/>
                  </a:lnTo>
                  <a:lnTo>
                    <a:pt x="211" y="231"/>
                  </a:lnTo>
                  <a:lnTo>
                    <a:pt x="194" y="233"/>
                  </a:lnTo>
                  <a:lnTo>
                    <a:pt x="178" y="234"/>
                  </a:lnTo>
                  <a:lnTo>
                    <a:pt x="161" y="234"/>
                  </a:lnTo>
                  <a:lnTo>
                    <a:pt x="146" y="232"/>
                  </a:lnTo>
                  <a:lnTo>
                    <a:pt x="132" y="230"/>
                  </a:lnTo>
                  <a:lnTo>
                    <a:pt x="119" y="227"/>
                  </a:lnTo>
                  <a:lnTo>
                    <a:pt x="108" y="221"/>
                  </a:lnTo>
                  <a:lnTo>
                    <a:pt x="96" y="216"/>
                  </a:lnTo>
                  <a:lnTo>
                    <a:pt x="85" y="210"/>
                  </a:lnTo>
                  <a:lnTo>
                    <a:pt x="75" y="202"/>
                  </a:lnTo>
                  <a:lnTo>
                    <a:pt x="65" y="193"/>
                  </a:lnTo>
                  <a:lnTo>
                    <a:pt x="57" y="185"/>
                  </a:lnTo>
                  <a:lnTo>
                    <a:pt x="48" y="174"/>
                  </a:lnTo>
                  <a:lnTo>
                    <a:pt x="42" y="163"/>
                  </a:lnTo>
                  <a:lnTo>
                    <a:pt x="34" y="152"/>
                  </a:lnTo>
                  <a:lnTo>
                    <a:pt x="29" y="139"/>
                  </a:lnTo>
                  <a:lnTo>
                    <a:pt x="23" y="126"/>
                  </a:lnTo>
                  <a:lnTo>
                    <a:pt x="18" y="112"/>
                  </a:lnTo>
                  <a:lnTo>
                    <a:pt x="15" y="98"/>
                  </a:lnTo>
                  <a:lnTo>
                    <a:pt x="10" y="83"/>
                  </a:lnTo>
                  <a:lnTo>
                    <a:pt x="7" y="67"/>
                  </a:lnTo>
                  <a:lnTo>
                    <a:pt x="5" y="51"/>
                  </a:lnTo>
                  <a:lnTo>
                    <a:pt x="3" y="35"/>
                  </a:lnTo>
                  <a:lnTo>
                    <a:pt x="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176640" y="3043440"/>
              <a:ext cx="69840" cy="25200"/>
            </a:xfrm>
            <a:custGeom>
              <a:avLst/>
              <a:gdLst/>
              <a:ahLst/>
              <a:rect l="l" t="t" r="r" b="b"/>
              <a:pathLst>
                <a:path w="180" h="64">
                  <a:moveTo>
                    <a:pt x="179" y="17"/>
                  </a:moveTo>
                  <a:lnTo>
                    <a:pt x="161" y="2"/>
                  </a:lnTo>
                  <a:lnTo>
                    <a:pt x="150" y="2"/>
                  </a:lnTo>
                  <a:lnTo>
                    <a:pt x="138" y="3"/>
                  </a:lnTo>
                  <a:lnTo>
                    <a:pt x="128" y="5"/>
                  </a:lnTo>
                  <a:lnTo>
                    <a:pt x="118" y="9"/>
                  </a:lnTo>
                  <a:lnTo>
                    <a:pt x="101" y="15"/>
                  </a:lnTo>
                  <a:lnTo>
                    <a:pt x="85" y="22"/>
                  </a:lnTo>
                  <a:lnTo>
                    <a:pt x="78" y="23"/>
                  </a:lnTo>
                  <a:lnTo>
                    <a:pt x="73" y="24"/>
                  </a:lnTo>
                  <a:lnTo>
                    <a:pt x="66" y="24"/>
                  </a:lnTo>
                  <a:lnTo>
                    <a:pt x="61" y="23"/>
                  </a:lnTo>
                  <a:lnTo>
                    <a:pt x="54" y="19"/>
                  </a:lnTo>
                  <a:lnTo>
                    <a:pt x="47" y="16"/>
                  </a:lnTo>
                  <a:lnTo>
                    <a:pt x="39" y="10"/>
                  </a:lnTo>
                  <a:lnTo>
                    <a:pt x="30" y="0"/>
                  </a:lnTo>
                  <a:lnTo>
                    <a:pt x="0" y="28"/>
                  </a:lnTo>
                  <a:lnTo>
                    <a:pt x="12" y="40"/>
                  </a:lnTo>
                  <a:lnTo>
                    <a:pt x="24" y="50"/>
                  </a:lnTo>
                  <a:lnTo>
                    <a:pt x="37" y="56"/>
                  </a:lnTo>
                  <a:lnTo>
                    <a:pt x="50" y="62"/>
                  </a:lnTo>
                  <a:lnTo>
                    <a:pt x="62" y="64"/>
                  </a:lnTo>
                  <a:lnTo>
                    <a:pt x="74" y="64"/>
                  </a:lnTo>
                  <a:lnTo>
                    <a:pt x="86" y="63"/>
                  </a:lnTo>
                  <a:lnTo>
                    <a:pt x="97" y="59"/>
                  </a:lnTo>
                  <a:lnTo>
                    <a:pt x="115" y="53"/>
                  </a:lnTo>
                  <a:lnTo>
                    <a:pt x="131" y="46"/>
                  </a:lnTo>
                  <a:lnTo>
                    <a:pt x="139" y="44"/>
                  </a:lnTo>
                  <a:lnTo>
                    <a:pt x="145" y="43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40" y="27"/>
                  </a:lnTo>
                  <a:lnTo>
                    <a:pt x="158" y="42"/>
                  </a:lnTo>
                  <a:lnTo>
                    <a:pt x="162" y="42"/>
                  </a:lnTo>
                  <a:lnTo>
                    <a:pt x="167" y="41"/>
                  </a:lnTo>
                  <a:lnTo>
                    <a:pt x="170" y="39"/>
                  </a:lnTo>
                  <a:lnTo>
                    <a:pt x="173" y="37"/>
                  </a:lnTo>
                  <a:lnTo>
                    <a:pt x="175" y="34"/>
                  </a:lnTo>
                  <a:lnTo>
                    <a:pt x="178" y="30"/>
                  </a:lnTo>
                  <a:lnTo>
                    <a:pt x="179" y="27"/>
                  </a:lnTo>
                  <a:lnTo>
                    <a:pt x="180" y="24"/>
                  </a:lnTo>
                  <a:lnTo>
                    <a:pt x="180" y="19"/>
                  </a:lnTo>
                  <a:lnTo>
                    <a:pt x="179" y="16"/>
                  </a:lnTo>
                  <a:lnTo>
                    <a:pt x="178" y="12"/>
                  </a:lnTo>
                  <a:lnTo>
                    <a:pt x="175" y="9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2"/>
                  </a:lnTo>
                  <a:lnTo>
                    <a:pt x="161" y="2"/>
                  </a:lnTo>
                  <a:lnTo>
                    <a:pt x="179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230640" y="3051360"/>
              <a:ext cx="79200" cy="46080"/>
            </a:xfrm>
            <a:custGeom>
              <a:avLst/>
              <a:gdLst/>
              <a:ahLst/>
              <a:rect l="l" t="t" r="r" b="b"/>
              <a:pathLst>
                <a:path w="196" h="119">
                  <a:moveTo>
                    <a:pt x="195" y="75"/>
                  </a:moveTo>
                  <a:lnTo>
                    <a:pt x="166" y="62"/>
                  </a:lnTo>
                  <a:lnTo>
                    <a:pt x="153" y="68"/>
                  </a:lnTo>
                  <a:lnTo>
                    <a:pt x="140" y="73"/>
                  </a:lnTo>
                  <a:lnTo>
                    <a:pt x="129" y="76"/>
                  </a:lnTo>
                  <a:lnTo>
                    <a:pt x="119" y="78"/>
                  </a:lnTo>
                  <a:lnTo>
                    <a:pt x="109" y="79"/>
                  </a:lnTo>
                  <a:lnTo>
                    <a:pt x="100" y="78"/>
                  </a:lnTo>
                  <a:lnTo>
                    <a:pt x="93" y="77"/>
                  </a:lnTo>
                  <a:lnTo>
                    <a:pt x="85" y="74"/>
                  </a:lnTo>
                  <a:lnTo>
                    <a:pt x="79" y="71"/>
                  </a:lnTo>
                  <a:lnTo>
                    <a:pt x="72" y="65"/>
                  </a:lnTo>
                  <a:lnTo>
                    <a:pt x="66" y="59"/>
                  </a:lnTo>
                  <a:lnTo>
                    <a:pt x="59" y="50"/>
                  </a:lnTo>
                  <a:lnTo>
                    <a:pt x="54" y="40"/>
                  </a:lnTo>
                  <a:lnTo>
                    <a:pt x="48" y="28"/>
                  </a:lnTo>
                  <a:lnTo>
                    <a:pt x="43" y="15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5" y="27"/>
                  </a:lnTo>
                  <a:lnTo>
                    <a:pt x="11" y="44"/>
                  </a:lnTo>
                  <a:lnTo>
                    <a:pt x="18" y="59"/>
                  </a:lnTo>
                  <a:lnTo>
                    <a:pt x="26" y="73"/>
                  </a:lnTo>
                  <a:lnTo>
                    <a:pt x="34" y="85"/>
                  </a:lnTo>
                  <a:lnTo>
                    <a:pt x="44" y="95"/>
                  </a:lnTo>
                  <a:lnTo>
                    <a:pt x="56" y="104"/>
                  </a:lnTo>
                  <a:lnTo>
                    <a:pt x="68" y="110"/>
                  </a:lnTo>
                  <a:lnTo>
                    <a:pt x="81" y="116"/>
                  </a:lnTo>
                  <a:lnTo>
                    <a:pt x="95" y="118"/>
                  </a:lnTo>
                  <a:lnTo>
                    <a:pt x="109" y="119"/>
                  </a:lnTo>
                  <a:lnTo>
                    <a:pt x="124" y="118"/>
                  </a:lnTo>
                  <a:lnTo>
                    <a:pt x="138" y="116"/>
                  </a:lnTo>
                  <a:lnTo>
                    <a:pt x="153" y="112"/>
                  </a:lnTo>
                  <a:lnTo>
                    <a:pt x="169" y="105"/>
                  </a:lnTo>
                  <a:lnTo>
                    <a:pt x="184" y="98"/>
                  </a:lnTo>
                  <a:lnTo>
                    <a:pt x="156" y="85"/>
                  </a:lnTo>
                  <a:lnTo>
                    <a:pt x="184" y="98"/>
                  </a:lnTo>
                  <a:lnTo>
                    <a:pt x="189" y="95"/>
                  </a:lnTo>
                  <a:lnTo>
                    <a:pt x="192" y="92"/>
                  </a:lnTo>
                  <a:lnTo>
                    <a:pt x="194" y="89"/>
                  </a:lnTo>
                  <a:lnTo>
                    <a:pt x="195" y="86"/>
                  </a:lnTo>
                  <a:lnTo>
                    <a:pt x="196" y="81"/>
                  </a:lnTo>
                  <a:lnTo>
                    <a:pt x="195" y="78"/>
                  </a:lnTo>
                  <a:lnTo>
                    <a:pt x="195" y="75"/>
                  </a:lnTo>
                  <a:lnTo>
                    <a:pt x="193" y="71"/>
                  </a:lnTo>
                  <a:lnTo>
                    <a:pt x="192" y="67"/>
                  </a:lnTo>
                  <a:lnTo>
                    <a:pt x="189" y="65"/>
                  </a:lnTo>
                  <a:lnTo>
                    <a:pt x="186" y="63"/>
                  </a:lnTo>
                  <a:lnTo>
                    <a:pt x="182" y="61"/>
                  </a:lnTo>
                  <a:lnTo>
                    <a:pt x="179" y="60"/>
                  </a:lnTo>
                  <a:lnTo>
                    <a:pt x="175" y="60"/>
                  </a:lnTo>
                  <a:lnTo>
                    <a:pt x="170" y="61"/>
                  </a:lnTo>
                  <a:lnTo>
                    <a:pt x="166" y="62"/>
                  </a:lnTo>
                  <a:lnTo>
                    <a:pt x="195" y="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294000" y="3079800"/>
              <a:ext cx="38160" cy="49320"/>
            </a:xfrm>
            <a:custGeom>
              <a:avLst/>
              <a:gdLst/>
              <a:ahLst/>
              <a:rect l="l" t="t" r="r" b="b"/>
              <a:pathLst>
                <a:path w="100" h="122">
                  <a:moveTo>
                    <a:pt x="88" y="120"/>
                  </a:moveTo>
                  <a:lnTo>
                    <a:pt x="81" y="81"/>
                  </a:lnTo>
                  <a:lnTo>
                    <a:pt x="73" y="80"/>
                  </a:lnTo>
                  <a:lnTo>
                    <a:pt x="65" y="78"/>
                  </a:lnTo>
                  <a:lnTo>
                    <a:pt x="61" y="75"/>
                  </a:lnTo>
                  <a:lnTo>
                    <a:pt x="57" y="73"/>
                  </a:lnTo>
                  <a:lnTo>
                    <a:pt x="54" y="71"/>
                  </a:lnTo>
                  <a:lnTo>
                    <a:pt x="52" y="68"/>
                  </a:lnTo>
                  <a:lnTo>
                    <a:pt x="51" y="65"/>
                  </a:lnTo>
                  <a:lnTo>
                    <a:pt x="49" y="61"/>
                  </a:lnTo>
                  <a:lnTo>
                    <a:pt x="47" y="50"/>
                  </a:lnTo>
                  <a:lnTo>
                    <a:pt x="45" y="35"/>
                  </a:lnTo>
                  <a:lnTo>
                    <a:pt x="42" y="18"/>
                  </a:lnTo>
                  <a:lnTo>
                    <a:pt x="39" y="0"/>
                  </a:lnTo>
                  <a:lnTo>
                    <a:pt x="0" y="1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6"/>
                  </a:lnTo>
                  <a:lnTo>
                    <a:pt x="10" y="72"/>
                  </a:lnTo>
                  <a:lnTo>
                    <a:pt x="14" y="82"/>
                  </a:lnTo>
                  <a:lnTo>
                    <a:pt x="19" y="91"/>
                  </a:lnTo>
                  <a:lnTo>
                    <a:pt x="25" y="98"/>
                  </a:lnTo>
                  <a:lnTo>
                    <a:pt x="33" y="106"/>
                  </a:lnTo>
                  <a:lnTo>
                    <a:pt x="41" y="111"/>
                  </a:lnTo>
                  <a:lnTo>
                    <a:pt x="52" y="115"/>
                  </a:lnTo>
                  <a:lnTo>
                    <a:pt x="64" y="120"/>
                  </a:lnTo>
                  <a:lnTo>
                    <a:pt x="77" y="122"/>
                  </a:lnTo>
                  <a:lnTo>
                    <a:pt x="71" y="83"/>
                  </a:lnTo>
                  <a:lnTo>
                    <a:pt x="77" y="122"/>
                  </a:lnTo>
                  <a:lnTo>
                    <a:pt x="81" y="122"/>
                  </a:lnTo>
                  <a:lnTo>
                    <a:pt x="86" y="121"/>
                  </a:lnTo>
                  <a:lnTo>
                    <a:pt x="90" y="120"/>
                  </a:lnTo>
                  <a:lnTo>
                    <a:pt x="93" y="116"/>
                  </a:lnTo>
                  <a:lnTo>
                    <a:pt x="95" y="114"/>
                  </a:lnTo>
                  <a:lnTo>
                    <a:pt x="98" y="111"/>
                  </a:lnTo>
                  <a:lnTo>
                    <a:pt x="99" y="108"/>
                  </a:lnTo>
                  <a:lnTo>
                    <a:pt x="100" y="104"/>
                  </a:lnTo>
                  <a:lnTo>
                    <a:pt x="100" y="100"/>
                  </a:lnTo>
                  <a:lnTo>
                    <a:pt x="99" y="96"/>
                  </a:lnTo>
                  <a:lnTo>
                    <a:pt x="98" y="93"/>
                  </a:lnTo>
                  <a:lnTo>
                    <a:pt x="96" y="89"/>
                  </a:lnTo>
                  <a:lnTo>
                    <a:pt x="93" y="86"/>
                  </a:lnTo>
                  <a:lnTo>
                    <a:pt x="90" y="84"/>
                  </a:lnTo>
                  <a:lnTo>
                    <a:pt x="87" y="82"/>
                  </a:lnTo>
                  <a:lnTo>
                    <a:pt x="81" y="81"/>
                  </a:lnTo>
                  <a:lnTo>
                    <a:pt x="88" y="1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173400" y="3041640"/>
              <a:ext cx="154080" cy="108000"/>
            </a:xfrm>
            <a:custGeom>
              <a:avLst/>
              <a:gdLst/>
              <a:ahLst/>
              <a:rect l="l" t="t" r="r" b="b"/>
              <a:pathLst>
                <a:path w="389" h="274">
                  <a:moveTo>
                    <a:pt x="35" y="6"/>
                  </a:moveTo>
                  <a:lnTo>
                    <a:pt x="0" y="21"/>
                  </a:lnTo>
                  <a:lnTo>
                    <a:pt x="1" y="40"/>
                  </a:lnTo>
                  <a:lnTo>
                    <a:pt x="2" y="57"/>
                  </a:lnTo>
                  <a:lnTo>
                    <a:pt x="4" y="74"/>
                  </a:lnTo>
                  <a:lnTo>
                    <a:pt x="8" y="91"/>
                  </a:lnTo>
                  <a:lnTo>
                    <a:pt x="11" y="108"/>
                  </a:lnTo>
                  <a:lnTo>
                    <a:pt x="14" y="124"/>
                  </a:lnTo>
                  <a:lnTo>
                    <a:pt x="20" y="139"/>
                  </a:lnTo>
                  <a:lnTo>
                    <a:pt x="24" y="153"/>
                  </a:lnTo>
                  <a:lnTo>
                    <a:pt x="30" y="168"/>
                  </a:lnTo>
                  <a:lnTo>
                    <a:pt x="37" y="181"/>
                  </a:lnTo>
                  <a:lnTo>
                    <a:pt x="44" y="194"/>
                  </a:lnTo>
                  <a:lnTo>
                    <a:pt x="52" y="206"/>
                  </a:lnTo>
                  <a:lnTo>
                    <a:pt x="62" y="218"/>
                  </a:lnTo>
                  <a:lnTo>
                    <a:pt x="71" y="229"/>
                  </a:lnTo>
                  <a:lnTo>
                    <a:pt x="82" y="238"/>
                  </a:lnTo>
                  <a:lnTo>
                    <a:pt x="93" y="247"/>
                  </a:lnTo>
                  <a:lnTo>
                    <a:pt x="106" y="254"/>
                  </a:lnTo>
                  <a:lnTo>
                    <a:pt x="119" y="261"/>
                  </a:lnTo>
                  <a:lnTo>
                    <a:pt x="134" y="265"/>
                  </a:lnTo>
                  <a:lnTo>
                    <a:pt x="148" y="270"/>
                  </a:lnTo>
                  <a:lnTo>
                    <a:pt x="164" y="273"/>
                  </a:lnTo>
                  <a:lnTo>
                    <a:pt x="180" y="274"/>
                  </a:lnTo>
                  <a:lnTo>
                    <a:pt x="198" y="274"/>
                  </a:lnTo>
                  <a:lnTo>
                    <a:pt x="216" y="274"/>
                  </a:lnTo>
                  <a:lnTo>
                    <a:pt x="234" y="271"/>
                  </a:lnTo>
                  <a:lnTo>
                    <a:pt x="254" y="267"/>
                  </a:lnTo>
                  <a:lnTo>
                    <a:pt x="274" y="263"/>
                  </a:lnTo>
                  <a:lnTo>
                    <a:pt x="296" y="257"/>
                  </a:lnTo>
                  <a:lnTo>
                    <a:pt x="318" y="249"/>
                  </a:lnTo>
                  <a:lnTo>
                    <a:pt x="340" y="239"/>
                  </a:lnTo>
                  <a:lnTo>
                    <a:pt x="364" y="230"/>
                  </a:lnTo>
                  <a:lnTo>
                    <a:pt x="389" y="218"/>
                  </a:lnTo>
                  <a:lnTo>
                    <a:pt x="372" y="181"/>
                  </a:lnTo>
                  <a:lnTo>
                    <a:pt x="348" y="193"/>
                  </a:lnTo>
                  <a:lnTo>
                    <a:pt x="325" y="203"/>
                  </a:lnTo>
                  <a:lnTo>
                    <a:pt x="304" y="211"/>
                  </a:lnTo>
                  <a:lnTo>
                    <a:pt x="283" y="218"/>
                  </a:lnTo>
                  <a:lnTo>
                    <a:pt x="264" y="223"/>
                  </a:lnTo>
                  <a:lnTo>
                    <a:pt x="245" y="227"/>
                  </a:lnTo>
                  <a:lnTo>
                    <a:pt x="228" y="231"/>
                  </a:lnTo>
                  <a:lnTo>
                    <a:pt x="212" y="233"/>
                  </a:lnTo>
                  <a:lnTo>
                    <a:pt x="197" y="234"/>
                  </a:lnTo>
                  <a:lnTo>
                    <a:pt x="183" y="234"/>
                  </a:lnTo>
                  <a:lnTo>
                    <a:pt x="170" y="233"/>
                  </a:lnTo>
                  <a:lnTo>
                    <a:pt x="157" y="231"/>
                  </a:lnTo>
                  <a:lnTo>
                    <a:pt x="146" y="227"/>
                  </a:lnTo>
                  <a:lnTo>
                    <a:pt x="135" y="223"/>
                  </a:lnTo>
                  <a:lnTo>
                    <a:pt x="125" y="219"/>
                  </a:lnTo>
                  <a:lnTo>
                    <a:pt x="116" y="213"/>
                  </a:lnTo>
                  <a:lnTo>
                    <a:pt x="107" y="207"/>
                  </a:lnTo>
                  <a:lnTo>
                    <a:pt x="99" y="199"/>
                  </a:lnTo>
                  <a:lnTo>
                    <a:pt x="92" y="192"/>
                  </a:lnTo>
                  <a:lnTo>
                    <a:pt x="85" y="182"/>
                  </a:lnTo>
                  <a:lnTo>
                    <a:pt x="79" y="173"/>
                  </a:lnTo>
                  <a:lnTo>
                    <a:pt x="72" y="163"/>
                  </a:lnTo>
                  <a:lnTo>
                    <a:pt x="67" y="151"/>
                  </a:lnTo>
                  <a:lnTo>
                    <a:pt x="62" y="139"/>
                  </a:lnTo>
                  <a:lnTo>
                    <a:pt x="57" y="126"/>
                  </a:lnTo>
                  <a:lnTo>
                    <a:pt x="54" y="113"/>
                  </a:lnTo>
                  <a:lnTo>
                    <a:pt x="50" y="99"/>
                  </a:lnTo>
                  <a:lnTo>
                    <a:pt x="48" y="84"/>
                  </a:lnTo>
                  <a:lnTo>
                    <a:pt x="44" y="69"/>
                  </a:lnTo>
                  <a:lnTo>
                    <a:pt x="42" y="52"/>
                  </a:lnTo>
                  <a:lnTo>
                    <a:pt x="41" y="36"/>
                  </a:lnTo>
                  <a:lnTo>
                    <a:pt x="40" y="19"/>
                  </a:lnTo>
                  <a:lnTo>
                    <a:pt x="5" y="34"/>
                  </a:lnTo>
                  <a:lnTo>
                    <a:pt x="40" y="19"/>
                  </a:lnTo>
                  <a:lnTo>
                    <a:pt x="39" y="15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9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297240" y="3117960"/>
              <a:ext cx="14400" cy="1116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9" y="12"/>
                  </a:moveTo>
                  <a:lnTo>
                    <a:pt x="37" y="7"/>
                  </a:lnTo>
                  <a:lnTo>
                    <a:pt x="33" y="4"/>
                  </a:lnTo>
                  <a:lnTo>
                    <a:pt x="30" y="2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181320" y="3054600"/>
              <a:ext cx="130320" cy="81000"/>
            </a:xfrm>
            <a:custGeom>
              <a:avLst/>
              <a:gdLst/>
              <a:ahLst/>
              <a:rect l="l" t="t" r="r" b="b"/>
              <a:pathLst>
                <a:path w="332" h="202">
                  <a:moveTo>
                    <a:pt x="0" y="18"/>
                  </a:moveTo>
                  <a:lnTo>
                    <a:pt x="7" y="30"/>
                  </a:lnTo>
                  <a:lnTo>
                    <a:pt x="14" y="41"/>
                  </a:lnTo>
                  <a:lnTo>
                    <a:pt x="23" y="52"/>
                  </a:lnTo>
                  <a:lnTo>
                    <a:pt x="33" y="63"/>
                  </a:lnTo>
                  <a:lnTo>
                    <a:pt x="44" y="72"/>
                  </a:lnTo>
                  <a:lnTo>
                    <a:pt x="54" y="82"/>
                  </a:lnTo>
                  <a:lnTo>
                    <a:pt x="65" y="92"/>
                  </a:lnTo>
                  <a:lnTo>
                    <a:pt x="78" y="101"/>
                  </a:lnTo>
                  <a:lnTo>
                    <a:pt x="103" y="118"/>
                  </a:lnTo>
                  <a:lnTo>
                    <a:pt x="129" y="134"/>
                  </a:lnTo>
                  <a:lnTo>
                    <a:pt x="155" y="148"/>
                  </a:lnTo>
                  <a:lnTo>
                    <a:pt x="182" y="161"/>
                  </a:lnTo>
                  <a:lnTo>
                    <a:pt x="208" y="172"/>
                  </a:lnTo>
                  <a:lnTo>
                    <a:pt x="231" y="182"/>
                  </a:lnTo>
                  <a:lnTo>
                    <a:pt x="254" y="190"/>
                  </a:lnTo>
                  <a:lnTo>
                    <a:pt x="274" y="196"/>
                  </a:lnTo>
                  <a:lnTo>
                    <a:pt x="290" y="200"/>
                  </a:lnTo>
                  <a:lnTo>
                    <a:pt x="303" y="202"/>
                  </a:lnTo>
                  <a:lnTo>
                    <a:pt x="310" y="202"/>
                  </a:lnTo>
                  <a:lnTo>
                    <a:pt x="320" y="200"/>
                  </a:lnTo>
                  <a:lnTo>
                    <a:pt x="332" y="188"/>
                  </a:lnTo>
                  <a:lnTo>
                    <a:pt x="332" y="171"/>
                  </a:lnTo>
                  <a:lnTo>
                    <a:pt x="295" y="187"/>
                  </a:lnTo>
                  <a:lnTo>
                    <a:pt x="294" y="173"/>
                  </a:lnTo>
                  <a:lnTo>
                    <a:pt x="305" y="163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298" y="161"/>
                  </a:lnTo>
                  <a:lnTo>
                    <a:pt x="284" y="157"/>
                  </a:lnTo>
                  <a:lnTo>
                    <a:pt x="267" y="151"/>
                  </a:lnTo>
                  <a:lnTo>
                    <a:pt x="247" y="144"/>
                  </a:lnTo>
                  <a:lnTo>
                    <a:pt x="223" y="135"/>
                  </a:lnTo>
                  <a:lnTo>
                    <a:pt x="199" y="124"/>
                  </a:lnTo>
                  <a:lnTo>
                    <a:pt x="174" y="112"/>
                  </a:lnTo>
                  <a:lnTo>
                    <a:pt x="148" y="98"/>
                  </a:lnTo>
                  <a:lnTo>
                    <a:pt x="125" y="83"/>
                  </a:lnTo>
                  <a:lnTo>
                    <a:pt x="101" y="68"/>
                  </a:lnTo>
                  <a:lnTo>
                    <a:pt x="90" y="60"/>
                  </a:lnTo>
                  <a:lnTo>
                    <a:pt x="80" y="52"/>
                  </a:lnTo>
                  <a:lnTo>
                    <a:pt x="71" y="43"/>
                  </a:lnTo>
                  <a:lnTo>
                    <a:pt x="62" y="35"/>
                  </a:lnTo>
                  <a:lnTo>
                    <a:pt x="54" y="26"/>
                  </a:lnTo>
                  <a:lnTo>
                    <a:pt x="47" y="17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179880" y="3051360"/>
              <a:ext cx="14040" cy="11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11"/>
                  </a:moveTo>
                  <a:lnTo>
                    <a:pt x="36" y="7"/>
                  </a:lnTo>
                  <a:lnTo>
                    <a:pt x="33" y="4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067200" y="2600640"/>
              <a:ext cx="512640" cy="344160"/>
            </a:xfrm>
            <a:custGeom>
              <a:avLst/>
              <a:gdLst/>
              <a:ahLst/>
              <a:rect l="l" t="t" r="r" b="b"/>
              <a:pathLst>
                <a:path w="1291" h="870">
                  <a:moveTo>
                    <a:pt x="1244" y="600"/>
                  </a:moveTo>
                  <a:lnTo>
                    <a:pt x="1244" y="586"/>
                  </a:lnTo>
                  <a:lnTo>
                    <a:pt x="1244" y="571"/>
                  </a:lnTo>
                  <a:lnTo>
                    <a:pt x="1244" y="557"/>
                  </a:lnTo>
                  <a:lnTo>
                    <a:pt x="1243" y="543"/>
                  </a:lnTo>
                  <a:lnTo>
                    <a:pt x="1241" y="529"/>
                  </a:lnTo>
                  <a:lnTo>
                    <a:pt x="1238" y="516"/>
                  </a:lnTo>
                  <a:lnTo>
                    <a:pt x="1235" y="502"/>
                  </a:lnTo>
                  <a:lnTo>
                    <a:pt x="1231" y="489"/>
                  </a:lnTo>
                  <a:lnTo>
                    <a:pt x="1222" y="463"/>
                  </a:lnTo>
                  <a:lnTo>
                    <a:pt x="1210" y="439"/>
                  </a:lnTo>
                  <a:lnTo>
                    <a:pt x="1197" y="414"/>
                  </a:lnTo>
                  <a:lnTo>
                    <a:pt x="1183" y="390"/>
                  </a:lnTo>
                  <a:lnTo>
                    <a:pt x="1166" y="368"/>
                  </a:lnTo>
                  <a:lnTo>
                    <a:pt x="1150" y="347"/>
                  </a:lnTo>
                  <a:lnTo>
                    <a:pt x="1133" y="327"/>
                  </a:lnTo>
                  <a:lnTo>
                    <a:pt x="1115" y="309"/>
                  </a:lnTo>
                  <a:lnTo>
                    <a:pt x="1096" y="292"/>
                  </a:lnTo>
                  <a:lnTo>
                    <a:pt x="1079" y="277"/>
                  </a:lnTo>
                  <a:lnTo>
                    <a:pt x="1061" y="264"/>
                  </a:lnTo>
                  <a:lnTo>
                    <a:pt x="1043" y="252"/>
                  </a:lnTo>
                  <a:lnTo>
                    <a:pt x="1025" y="251"/>
                  </a:lnTo>
                  <a:lnTo>
                    <a:pt x="1006" y="250"/>
                  </a:lnTo>
                  <a:lnTo>
                    <a:pt x="986" y="249"/>
                  </a:lnTo>
                  <a:lnTo>
                    <a:pt x="966" y="249"/>
                  </a:lnTo>
                  <a:lnTo>
                    <a:pt x="944" y="250"/>
                  </a:lnTo>
                  <a:lnTo>
                    <a:pt x="922" y="251"/>
                  </a:lnTo>
                  <a:lnTo>
                    <a:pt x="900" y="253"/>
                  </a:lnTo>
                  <a:lnTo>
                    <a:pt x="877" y="256"/>
                  </a:lnTo>
                  <a:lnTo>
                    <a:pt x="853" y="260"/>
                  </a:lnTo>
                  <a:lnTo>
                    <a:pt x="830" y="265"/>
                  </a:lnTo>
                  <a:lnTo>
                    <a:pt x="806" y="269"/>
                  </a:lnTo>
                  <a:lnTo>
                    <a:pt x="781" y="276"/>
                  </a:lnTo>
                  <a:lnTo>
                    <a:pt x="757" y="282"/>
                  </a:lnTo>
                  <a:lnTo>
                    <a:pt x="732" y="291"/>
                  </a:lnTo>
                  <a:lnTo>
                    <a:pt x="709" y="299"/>
                  </a:lnTo>
                  <a:lnTo>
                    <a:pt x="684" y="309"/>
                  </a:lnTo>
                  <a:lnTo>
                    <a:pt x="660" y="319"/>
                  </a:lnTo>
                  <a:lnTo>
                    <a:pt x="636" y="331"/>
                  </a:lnTo>
                  <a:lnTo>
                    <a:pt x="613" y="344"/>
                  </a:lnTo>
                  <a:lnTo>
                    <a:pt x="589" y="358"/>
                  </a:lnTo>
                  <a:lnTo>
                    <a:pt x="566" y="372"/>
                  </a:lnTo>
                  <a:lnTo>
                    <a:pt x="545" y="388"/>
                  </a:lnTo>
                  <a:lnTo>
                    <a:pt x="522" y="404"/>
                  </a:lnTo>
                  <a:lnTo>
                    <a:pt x="501" y="422"/>
                  </a:lnTo>
                  <a:lnTo>
                    <a:pt x="481" y="442"/>
                  </a:lnTo>
                  <a:lnTo>
                    <a:pt x="461" y="462"/>
                  </a:lnTo>
                  <a:lnTo>
                    <a:pt x="443" y="484"/>
                  </a:lnTo>
                  <a:lnTo>
                    <a:pt x="425" y="507"/>
                  </a:lnTo>
                  <a:lnTo>
                    <a:pt x="408" y="530"/>
                  </a:lnTo>
                  <a:lnTo>
                    <a:pt x="392" y="556"/>
                  </a:lnTo>
                  <a:lnTo>
                    <a:pt x="378" y="582"/>
                  </a:lnTo>
                  <a:lnTo>
                    <a:pt x="365" y="610"/>
                  </a:lnTo>
                  <a:lnTo>
                    <a:pt x="352" y="628"/>
                  </a:lnTo>
                  <a:lnTo>
                    <a:pt x="340" y="645"/>
                  </a:lnTo>
                  <a:lnTo>
                    <a:pt x="330" y="661"/>
                  </a:lnTo>
                  <a:lnTo>
                    <a:pt x="319" y="678"/>
                  </a:lnTo>
                  <a:lnTo>
                    <a:pt x="300" y="711"/>
                  </a:lnTo>
                  <a:lnTo>
                    <a:pt x="284" y="743"/>
                  </a:lnTo>
                  <a:lnTo>
                    <a:pt x="270" y="776"/>
                  </a:lnTo>
                  <a:lnTo>
                    <a:pt x="258" y="807"/>
                  </a:lnTo>
                  <a:lnTo>
                    <a:pt x="248" y="838"/>
                  </a:lnTo>
                  <a:lnTo>
                    <a:pt x="238" y="870"/>
                  </a:lnTo>
                  <a:lnTo>
                    <a:pt x="214" y="870"/>
                  </a:lnTo>
                  <a:lnTo>
                    <a:pt x="192" y="868"/>
                  </a:lnTo>
                  <a:lnTo>
                    <a:pt x="182" y="867"/>
                  </a:lnTo>
                  <a:lnTo>
                    <a:pt x="171" y="865"/>
                  </a:lnTo>
                  <a:lnTo>
                    <a:pt x="161" y="863"/>
                  </a:lnTo>
                  <a:lnTo>
                    <a:pt x="151" y="860"/>
                  </a:lnTo>
                  <a:lnTo>
                    <a:pt x="142" y="857"/>
                  </a:lnTo>
                  <a:lnTo>
                    <a:pt x="132" y="852"/>
                  </a:lnTo>
                  <a:lnTo>
                    <a:pt x="123" y="848"/>
                  </a:lnTo>
                  <a:lnTo>
                    <a:pt x="115" y="844"/>
                  </a:lnTo>
                  <a:lnTo>
                    <a:pt x="106" y="838"/>
                  </a:lnTo>
                  <a:lnTo>
                    <a:pt x="97" y="832"/>
                  </a:lnTo>
                  <a:lnTo>
                    <a:pt x="90" y="825"/>
                  </a:lnTo>
                  <a:lnTo>
                    <a:pt x="82" y="819"/>
                  </a:lnTo>
                  <a:lnTo>
                    <a:pt x="75" y="811"/>
                  </a:lnTo>
                  <a:lnTo>
                    <a:pt x="68" y="804"/>
                  </a:lnTo>
                  <a:lnTo>
                    <a:pt x="62" y="795"/>
                  </a:lnTo>
                  <a:lnTo>
                    <a:pt x="55" y="786"/>
                  </a:lnTo>
                  <a:lnTo>
                    <a:pt x="42" y="767"/>
                  </a:lnTo>
                  <a:lnTo>
                    <a:pt x="32" y="745"/>
                  </a:lnTo>
                  <a:lnTo>
                    <a:pt x="23" y="722"/>
                  </a:lnTo>
                  <a:lnTo>
                    <a:pt x="14" y="697"/>
                  </a:lnTo>
                  <a:lnTo>
                    <a:pt x="7" y="669"/>
                  </a:lnTo>
                  <a:lnTo>
                    <a:pt x="0" y="640"/>
                  </a:lnTo>
                  <a:lnTo>
                    <a:pt x="60" y="546"/>
                  </a:lnTo>
                  <a:lnTo>
                    <a:pt x="123" y="445"/>
                  </a:lnTo>
                  <a:lnTo>
                    <a:pt x="158" y="393"/>
                  </a:lnTo>
                  <a:lnTo>
                    <a:pt x="195" y="344"/>
                  </a:lnTo>
                  <a:lnTo>
                    <a:pt x="214" y="319"/>
                  </a:lnTo>
                  <a:lnTo>
                    <a:pt x="232" y="294"/>
                  </a:lnTo>
                  <a:lnTo>
                    <a:pt x="253" y="270"/>
                  </a:lnTo>
                  <a:lnTo>
                    <a:pt x="273" y="246"/>
                  </a:lnTo>
                  <a:lnTo>
                    <a:pt x="294" y="224"/>
                  </a:lnTo>
                  <a:lnTo>
                    <a:pt x="316" y="202"/>
                  </a:lnTo>
                  <a:lnTo>
                    <a:pt x="337" y="182"/>
                  </a:lnTo>
                  <a:lnTo>
                    <a:pt x="360" y="161"/>
                  </a:lnTo>
                  <a:lnTo>
                    <a:pt x="384" y="143"/>
                  </a:lnTo>
                  <a:lnTo>
                    <a:pt x="407" y="124"/>
                  </a:lnTo>
                  <a:lnTo>
                    <a:pt x="432" y="108"/>
                  </a:lnTo>
                  <a:lnTo>
                    <a:pt x="457" y="92"/>
                  </a:lnTo>
                  <a:lnTo>
                    <a:pt x="483" y="79"/>
                  </a:lnTo>
                  <a:lnTo>
                    <a:pt x="509" y="66"/>
                  </a:lnTo>
                  <a:lnTo>
                    <a:pt x="536" y="55"/>
                  </a:lnTo>
                  <a:lnTo>
                    <a:pt x="564" y="47"/>
                  </a:lnTo>
                  <a:lnTo>
                    <a:pt x="593" y="39"/>
                  </a:lnTo>
                  <a:lnTo>
                    <a:pt x="622" y="34"/>
                  </a:lnTo>
                  <a:lnTo>
                    <a:pt x="653" y="30"/>
                  </a:lnTo>
                  <a:lnTo>
                    <a:pt x="683" y="28"/>
                  </a:lnTo>
                  <a:lnTo>
                    <a:pt x="709" y="21"/>
                  </a:lnTo>
                  <a:lnTo>
                    <a:pt x="741" y="13"/>
                  </a:lnTo>
                  <a:lnTo>
                    <a:pt x="759" y="9"/>
                  </a:lnTo>
                  <a:lnTo>
                    <a:pt x="778" y="7"/>
                  </a:lnTo>
                  <a:lnTo>
                    <a:pt x="798" y="3"/>
                  </a:lnTo>
                  <a:lnTo>
                    <a:pt x="819" y="1"/>
                  </a:lnTo>
                  <a:lnTo>
                    <a:pt x="841" y="0"/>
                  </a:lnTo>
                  <a:lnTo>
                    <a:pt x="863" y="0"/>
                  </a:lnTo>
                  <a:lnTo>
                    <a:pt x="887" y="0"/>
                  </a:lnTo>
                  <a:lnTo>
                    <a:pt x="909" y="2"/>
                  </a:lnTo>
                  <a:lnTo>
                    <a:pt x="933" y="4"/>
                  </a:lnTo>
                  <a:lnTo>
                    <a:pt x="957" y="8"/>
                  </a:lnTo>
                  <a:lnTo>
                    <a:pt x="981" y="13"/>
                  </a:lnTo>
                  <a:lnTo>
                    <a:pt x="1005" y="20"/>
                  </a:lnTo>
                  <a:lnTo>
                    <a:pt x="1028" y="27"/>
                  </a:lnTo>
                  <a:lnTo>
                    <a:pt x="1052" y="36"/>
                  </a:lnTo>
                  <a:lnTo>
                    <a:pt x="1075" y="47"/>
                  </a:lnTo>
                  <a:lnTo>
                    <a:pt x="1096" y="60"/>
                  </a:lnTo>
                  <a:lnTo>
                    <a:pt x="1118" y="74"/>
                  </a:lnTo>
                  <a:lnTo>
                    <a:pt x="1138" y="90"/>
                  </a:lnTo>
                  <a:lnTo>
                    <a:pt x="1159" y="108"/>
                  </a:lnTo>
                  <a:lnTo>
                    <a:pt x="1177" y="129"/>
                  </a:lnTo>
                  <a:lnTo>
                    <a:pt x="1195" y="151"/>
                  </a:lnTo>
                  <a:lnTo>
                    <a:pt x="1211" y="176"/>
                  </a:lnTo>
                  <a:lnTo>
                    <a:pt x="1226" y="204"/>
                  </a:lnTo>
                  <a:lnTo>
                    <a:pt x="1239" y="233"/>
                  </a:lnTo>
                  <a:lnTo>
                    <a:pt x="1251" y="266"/>
                  </a:lnTo>
                  <a:lnTo>
                    <a:pt x="1260" y="301"/>
                  </a:lnTo>
                  <a:lnTo>
                    <a:pt x="1269" y="339"/>
                  </a:lnTo>
                  <a:lnTo>
                    <a:pt x="1274" y="379"/>
                  </a:lnTo>
                  <a:lnTo>
                    <a:pt x="1279" y="397"/>
                  </a:lnTo>
                  <a:lnTo>
                    <a:pt x="1283" y="414"/>
                  </a:lnTo>
                  <a:lnTo>
                    <a:pt x="1286" y="431"/>
                  </a:lnTo>
                  <a:lnTo>
                    <a:pt x="1289" y="446"/>
                  </a:lnTo>
                  <a:lnTo>
                    <a:pt x="1291" y="462"/>
                  </a:lnTo>
                  <a:lnTo>
                    <a:pt x="1291" y="478"/>
                  </a:lnTo>
                  <a:lnTo>
                    <a:pt x="1291" y="492"/>
                  </a:lnTo>
                  <a:lnTo>
                    <a:pt x="1290" y="506"/>
                  </a:lnTo>
                  <a:lnTo>
                    <a:pt x="1287" y="520"/>
                  </a:lnTo>
                  <a:lnTo>
                    <a:pt x="1284" y="533"/>
                  </a:lnTo>
                  <a:lnTo>
                    <a:pt x="1280" y="546"/>
                  </a:lnTo>
                  <a:lnTo>
                    <a:pt x="1276" y="557"/>
                  </a:lnTo>
                  <a:lnTo>
                    <a:pt x="1269" y="568"/>
                  </a:lnTo>
                  <a:lnTo>
                    <a:pt x="1262" y="579"/>
                  </a:lnTo>
                  <a:lnTo>
                    <a:pt x="1253" y="590"/>
                  </a:lnTo>
                  <a:lnTo>
                    <a:pt x="1244" y="6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473280" y="2692440"/>
              <a:ext cx="95400" cy="146160"/>
            </a:xfrm>
            <a:custGeom>
              <a:avLst/>
              <a:gdLst/>
              <a:ahLst/>
              <a:rect l="l" t="t" r="r" b="b"/>
              <a:pathLst>
                <a:path w="242" h="369">
                  <a:moveTo>
                    <a:pt x="18" y="40"/>
                  </a:moveTo>
                  <a:lnTo>
                    <a:pt x="10" y="37"/>
                  </a:lnTo>
                  <a:lnTo>
                    <a:pt x="26" y="48"/>
                  </a:lnTo>
                  <a:lnTo>
                    <a:pt x="43" y="61"/>
                  </a:lnTo>
                  <a:lnTo>
                    <a:pt x="60" y="75"/>
                  </a:lnTo>
                  <a:lnTo>
                    <a:pt x="78" y="91"/>
                  </a:lnTo>
                  <a:lnTo>
                    <a:pt x="95" y="109"/>
                  </a:lnTo>
                  <a:lnTo>
                    <a:pt x="111" y="128"/>
                  </a:lnTo>
                  <a:lnTo>
                    <a:pt x="127" y="148"/>
                  </a:lnTo>
                  <a:lnTo>
                    <a:pt x="142" y="170"/>
                  </a:lnTo>
                  <a:lnTo>
                    <a:pt x="156" y="192"/>
                  </a:lnTo>
                  <a:lnTo>
                    <a:pt x="169" y="215"/>
                  </a:lnTo>
                  <a:lnTo>
                    <a:pt x="180" y="239"/>
                  </a:lnTo>
                  <a:lnTo>
                    <a:pt x="189" y="264"/>
                  </a:lnTo>
                  <a:lnTo>
                    <a:pt x="192" y="276"/>
                  </a:lnTo>
                  <a:lnTo>
                    <a:pt x="195" y="289"/>
                  </a:lnTo>
                  <a:lnTo>
                    <a:pt x="197" y="302"/>
                  </a:lnTo>
                  <a:lnTo>
                    <a:pt x="200" y="314"/>
                  </a:lnTo>
                  <a:lnTo>
                    <a:pt x="201" y="327"/>
                  </a:lnTo>
                  <a:lnTo>
                    <a:pt x="202" y="339"/>
                  </a:lnTo>
                  <a:lnTo>
                    <a:pt x="202" y="352"/>
                  </a:lnTo>
                  <a:lnTo>
                    <a:pt x="201" y="365"/>
                  </a:lnTo>
                  <a:lnTo>
                    <a:pt x="241" y="369"/>
                  </a:lnTo>
                  <a:lnTo>
                    <a:pt x="242" y="354"/>
                  </a:lnTo>
                  <a:lnTo>
                    <a:pt x="242" y="338"/>
                  </a:lnTo>
                  <a:lnTo>
                    <a:pt x="242" y="324"/>
                  </a:lnTo>
                  <a:lnTo>
                    <a:pt x="240" y="309"/>
                  </a:lnTo>
                  <a:lnTo>
                    <a:pt x="237" y="294"/>
                  </a:lnTo>
                  <a:lnTo>
                    <a:pt x="235" y="280"/>
                  </a:lnTo>
                  <a:lnTo>
                    <a:pt x="231" y="266"/>
                  </a:lnTo>
                  <a:lnTo>
                    <a:pt x="227" y="251"/>
                  </a:lnTo>
                  <a:lnTo>
                    <a:pt x="217" y="224"/>
                  </a:lnTo>
                  <a:lnTo>
                    <a:pt x="205" y="197"/>
                  </a:lnTo>
                  <a:lnTo>
                    <a:pt x="192" y="172"/>
                  </a:lnTo>
                  <a:lnTo>
                    <a:pt x="176" y="147"/>
                  </a:lnTo>
                  <a:lnTo>
                    <a:pt x="160" y="123"/>
                  </a:lnTo>
                  <a:lnTo>
                    <a:pt x="142" y="102"/>
                  </a:lnTo>
                  <a:lnTo>
                    <a:pt x="124" y="81"/>
                  </a:lnTo>
                  <a:lnTo>
                    <a:pt x="106" y="63"/>
                  </a:lnTo>
                  <a:lnTo>
                    <a:pt x="87" y="45"/>
                  </a:lnTo>
                  <a:lnTo>
                    <a:pt x="68" y="30"/>
                  </a:lnTo>
                  <a:lnTo>
                    <a:pt x="50" y="1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10" y="37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203640" y="2691000"/>
              <a:ext cx="279360" cy="158760"/>
            </a:xfrm>
            <a:custGeom>
              <a:avLst/>
              <a:gdLst/>
              <a:ahLst/>
              <a:rect l="l" t="t" r="r" b="b"/>
              <a:pathLst>
                <a:path w="701" h="402">
                  <a:moveTo>
                    <a:pt x="36" y="394"/>
                  </a:moveTo>
                  <a:lnTo>
                    <a:pt x="39" y="390"/>
                  </a:lnTo>
                  <a:lnTo>
                    <a:pt x="52" y="363"/>
                  </a:lnTo>
                  <a:lnTo>
                    <a:pt x="66" y="337"/>
                  </a:lnTo>
                  <a:lnTo>
                    <a:pt x="81" y="312"/>
                  </a:lnTo>
                  <a:lnTo>
                    <a:pt x="97" y="290"/>
                  </a:lnTo>
                  <a:lnTo>
                    <a:pt x="113" y="268"/>
                  </a:lnTo>
                  <a:lnTo>
                    <a:pt x="131" y="246"/>
                  </a:lnTo>
                  <a:lnTo>
                    <a:pt x="150" y="227"/>
                  </a:lnTo>
                  <a:lnTo>
                    <a:pt x="170" y="209"/>
                  </a:lnTo>
                  <a:lnTo>
                    <a:pt x="190" y="191"/>
                  </a:lnTo>
                  <a:lnTo>
                    <a:pt x="211" y="175"/>
                  </a:lnTo>
                  <a:lnTo>
                    <a:pt x="233" y="160"/>
                  </a:lnTo>
                  <a:lnTo>
                    <a:pt x="255" y="145"/>
                  </a:lnTo>
                  <a:lnTo>
                    <a:pt x="277" y="132"/>
                  </a:lnTo>
                  <a:lnTo>
                    <a:pt x="300" y="120"/>
                  </a:lnTo>
                  <a:lnTo>
                    <a:pt x="324" y="108"/>
                  </a:lnTo>
                  <a:lnTo>
                    <a:pt x="346" y="98"/>
                  </a:lnTo>
                  <a:lnTo>
                    <a:pt x="370" y="89"/>
                  </a:lnTo>
                  <a:lnTo>
                    <a:pt x="394" y="80"/>
                  </a:lnTo>
                  <a:lnTo>
                    <a:pt x="418" y="72"/>
                  </a:lnTo>
                  <a:lnTo>
                    <a:pt x="441" y="66"/>
                  </a:lnTo>
                  <a:lnTo>
                    <a:pt x="465" y="61"/>
                  </a:lnTo>
                  <a:lnTo>
                    <a:pt x="489" y="55"/>
                  </a:lnTo>
                  <a:lnTo>
                    <a:pt x="512" y="51"/>
                  </a:lnTo>
                  <a:lnTo>
                    <a:pt x="534" y="48"/>
                  </a:lnTo>
                  <a:lnTo>
                    <a:pt x="557" y="44"/>
                  </a:lnTo>
                  <a:lnTo>
                    <a:pt x="579" y="42"/>
                  </a:lnTo>
                  <a:lnTo>
                    <a:pt x="600" y="41"/>
                  </a:lnTo>
                  <a:lnTo>
                    <a:pt x="621" y="40"/>
                  </a:lnTo>
                  <a:lnTo>
                    <a:pt x="641" y="40"/>
                  </a:lnTo>
                  <a:lnTo>
                    <a:pt x="661" y="41"/>
                  </a:lnTo>
                  <a:lnTo>
                    <a:pt x="679" y="42"/>
                  </a:lnTo>
                  <a:lnTo>
                    <a:pt x="696" y="43"/>
                  </a:lnTo>
                  <a:lnTo>
                    <a:pt x="701" y="3"/>
                  </a:lnTo>
                  <a:lnTo>
                    <a:pt x="682" y="1"/>
                  </a:lnTo>
                  <a:lnTo>
                    <a:pt x="662" y="0"/>
                  </a:lnTo>
                  <a:lnTo>
                    <a:pt x="641" y="0"/>
                  </a:lnTo>
                  <a:lnTo>
                    <a:pt x="621" y="0"/>
                  </a:lnTo>
                  <a:lnTo>
                    <a:pt x="598" y="0"/>
                  </a:lnTo>
                  <a:lnTo>
                    <a:pt x="575" y="2"/>
                  </a:lnTo>
                  <a:lnTo>
                    <a:pt x="553" y="4"/>
                  </a:lnTo>
                  <a:lnTo>
                    <a:pt x="529" y="8"/>
                  </a:lnTo>
                  <a:lnTo>
                    <a:pt x="505" y="11"/>
                  </a:lnTo>
                  <a:lnTo>
                    <a:pt x="480" y="15"/>
                  </a:lnTo>
                  <a:lnTo>
                    <a:pt x="455" y="21"/>
                  </a:lnTo>
                  <a:lnTo>
                    <a:pt x="431" y="27"/>
                  </a:lnTo>
                  <a:lnTo>
                    <a:pt x="406" y="35"/>
                  </a:lnTo>
                  <a:lnTo>
                    <a:pt x="381" y="42"/>
                  </a:lnTo>
                  <a:lnTo>
                    <a:pt x="356" y="51"/>
                  </a:lnTo>
                  <a:lnTo>
                    <a:pt x="331" y="61"/>
                  </a:lnTo>
                  <a:lnTo>
                    <a:pt x="306" y="72"/>
                  </a:lnTo>
                  <a:lnTo>
                    <a:pt x="282" y="84"/>
                  </a:lnTo>
                  <a:lnTo>
                    <a:pt x="258" y="97"/>
                  </a:lnTo>
                  <a:lnTo>
                    <a:pt x="233" y="111"/>
                  </a:lnTo>
                  <a:lnTo>
                    <a:pt x="210" y="126"/>
                  </a:lnTo>
                  <a:lnTo>
                    <a:pt x="187" y="143"/>
                  </a:lnTo>
                  <a:lnTo>
                    <a:pt x="165" y="160"/>
                  </a:lnTo>
                  <a:lnTo>
                    <a:pt x="142" y="178"/>
                  </a:lnTo>
                  <a:lnTo>
                    <a:pt x="122" y="199"/>
                  </a:lnTo>
                  <a:lnTo>
                    <a:pt x="101" y="219"/>
                  </a:lnTo>
                  <a:lnTo>
                    <a:pt x="82" y="242"/>
                  </a:lnTo>
                  <a:lnTo>
                    <a:pt x="63" y="266"/>
                  </a:lnTo>
                  <a:lnTo>
                    <a:pt x="46" y="291"/>
                  </a:lnTo>
                  <a:lnTo>
                    <a:pt x="30" y="317"/>
                  </a:lnTo>
                  <a:lnTo>
                    <a:pt x="15" y="345"/>
                  </a:lnTo>
                  <a:lnTo>
                    <a:pt x="2" y="374"/>
                  </a:lnTo>
                  <a:lnTo>
                    <a:pt x="4" y="369"/>
                  </a:lnTo>
                  <a:lnTo>
                    <a:pt x="2" y="374"/>
                  </a:lnTo>
                  <a:lnTo>
                    <a:pt x="0" y="378"/>
                  </a:lnTo>
                  <a:lnTo>
                    <a:pt x="0" y="382"/>
                  </a:lnTo>
                  <a:lnTo>
                    <a:pt x="0" y="387"/>
                  </a:lnTo>
                  <a:lnTo>
                    <a:pt x="1" y="390"/>
                  </a:lnTo>
                  <a:lnTo>
                    <a:pt x="3" y="393"/>
                  </a:lnTo>
                  <a:lnTo>
                    <a:pt x="5" y="396"/>
                  </a:lnTo>
                  <a:lnTo>
                    <a:pt x="8" y="399"/>
                  </a:lnTo>
                  <a:lnTo>
                    <a:pt x="12" y="401"/>
                  </a:lnTo>
                  <a:lnTo>
                    <a:pt x="16" y="402"/>
                  </a:lnTo>
                  <a:lnTo>
                    <a:pt x="19" y="402"/>
                  </a:lnTo>
                  <a:lnTo>
                    <a:pt x="22" y="402"/>
                  </a:lnTo>
                  <a:lnTo>
                    <a:pt x="27" y="401"/>
                  </a:lnTo>
                  <a:lnTo>
                    <a:pt x="30" y="400"/>
                  </a:lnTo>
                  <a:lnTo>
                    <a:pt x="33" y="398"/>
                  </a:lnTo>
                  <a:lnTo>
                    <a:pt x="36" y="394"/>
                  </a:lnTo>
                  <a:lnTo>
                    <a:pt x="39" y="390"/>
                  </a:lnTo>
                  <a:lnTo>
                    <a:pt x="36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154320" y="2837160"/>
              <a:ext cx="65160" cy="115560"/>
            </a:xfrm>
            <a:custGeom>
              <a:avLst/>
              <a:gdLst/>
              <a:ahLst/>
              <a:rect l="l" t="t" r="r" b="b"/>
              <a:pathLst>
                <a:path w="164" h="291">
                  <a:moveTo>
                    <a:pt x="22" y="291"/>
                  </a:moveTo>
                  <a:lnTo>
                    <a:pt x="40" y="277"/>
                  </a:lnTo>
                  <a:lnTo>
                    <a:pt x="50" y="247"/>
                  </a:lnTo>
                  <a:lnTo>
                    <a:pt x="61" y="216"/>
                  </a:lnTo>
                  <a:lnTo>
                    <a:pt x="73" y="185"/>
                  </a:lnTo>
                  <a:lnTo>
                    <a:pt x="86" y="154"/>
                  </a:lnTo>
                  <a:lnTo>
                    <a:pt x="102" y="123"/>
                  </a:lnTo>
                  <a:lnTo>
                    <a:pt x="120" y="90"/>
                  </a:lnTo>
                  <a:lnTo>
                    <a:pt x="130" y="74"/>
                  </a:lnTo>
                  <a:lnTo>
                    <a:pt x="141" y="58"/>
                  </a:lnTo>
                  <a:lnTo>
                    <a:pt x="152" y="42"/>
                  </a:lnTo>
                  <a:lnTo>
                    <a:pt x="164" y="25"/>
                  </a:lnTo>
                  <a:lnTo>
                    <a:pt x="132" y="0"/>
                  </a:lnTo>
                  <a:lnTo>
                    <a:pt x="119" y="18"/>
                  </a:lnTo>
                  <a:lnTo>
                    <a:pt x="107" y="35"/>
                  </a:lnTo>
                  <a:lnTo>
                    <a:pt x="95" y="52"/>
                  </a:lnTo>
                  <a:lnTo>
                    <a:pt x="85" y="70"/>
                  </a:lnTo>
                  <a:lnTo>
                    <a:pt x="66" y="103"/>
                  </a:lnTo>
                  <a:lnTo>
                    <a:pt x="49" y="137"/>
                  </a:lnTo>
                  <a:lnTo>
                    <a:pt x="35" y="170"/>
                  </a:lnTo>
                  <a:lnTo>
                    <a:pt x="23" y="202"/>
                  </a:lnTo>
                  <a:lnTo>
                    <a:pt x="11" y="234"/>
                  </a:lnTo>
                  <a:lnTo>
                    <a:pt x="1" y="265"/>
                  </a:lnTo>
                  <a:lnTo>
                    <a:pt x="20" y="251"/>
                  </a:lnTo>
                  <a:lnTo>
                    <a:pt x="1" y="265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81"/>
                  </a:lnTo>
                  <a:lnTo>
                    <a:pt x="6" y="285"/>
                  </a:lnTo>
                  <a:lnTo>
                    <a:pt x="8" y="287"/>
                  </a:lnTo>
                  <a:lnTo>
                    <a:pt x="11" y="289"/>
                  </a:lnTo>
                  <a:lnTo>
                    <a:pt x="14" y="290"/>
                  </a:lnTo>
                  <a:lnTo>
                    <a:pt x="19" y="291"/>
                  </a:lnTo>
                  <a:lnTo>
                    <a:pt x="22" y="291"/>
                  </a:lnTo>
                  <a:lnTo>
                    <a:pt x="26" y="291"/>
                  </a:lnTo>
                  <a:lnTo>
                    <a:pt x="29" y="290"/>
                  </a:lnTo>
                  <a:lnTo>
                    <a:pt x="33" y="288"/>
                  </a:lnTo>
                  <a:lnTo>
                    <a:pt x="36" y="285"/>
                  </a:lnTo>
                  <a:lnTo>
                    <a:pt x="38" y="281"/>
                  </a:lnTo>
                  <a:lnTo>
                    <a:pt x="40" y="277"/>
                  </a:lnTo>
                  <a:lnTo>
                    <a:pt x="22" y="2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059280" y="2845080"/>
              <a:ext cx="102960" cy="107640"/>
            </a:xfrm>
            <a:custGeom>
              <a:avLst/>
              <a:gdLst/>
              <a:ahLst/>
              <a:rect l="l" t="t" r="r" b="b"/>
              <a:pathLst>
                <a:path w="258" h="271">
                  <a:moveTo>
                    <a:pt x="3" y="10"/>
                  </a:moveTo>
                  <a:lnTo>
                    <a:pt x="0" y="24"/>
                  </a:lnTo>
                  <a:lnTo>
                    <a:pt x="6" y="55"/>
                  </a:lnTo>
                  <a:lnTo>
                    <a:pt x="14" y="83"/>
                  </a:lnTo>
                  <a:lnTo>
                    <a:pt x="23" y="110"/>
                  </a:lnTo>
                  <a:lnTo>
                    <a:pt x="32" y="135"/>
                  </a:lnTo>
                  <a:lnTo>
                    <a:pt x="44" y="158"/>
                  </a:lnTo>
                  <a:lnTo>
                    <a:pt x="57" y="178"/>
                  </a:lnTo>
                  <a:lnTo>
                    <a:pt x="65" y="188"/>
                  </a:lnTo>
                  <a:lnTo>
                    <a:pt x="71" y="198"/>
                  </a:lnTo>
                  <a:lnTo>
                    <a:pt x="80" y="206"/>
                  </a:lnTo>
                  <a:lnTo>
                    <a:pt x="87" y="214"/>
                  </a:lnTo>
                  <a:lnTo>
                    <a:pt x="96" y="222"/>
                  </a:lnTo>
                  <a:lnTo>
                    <a:pt x="105" y="229"/>
                  </a:lnTo>
                  <a:lnTo>
                    <a:pt x="113" y="235"/>
                  </a:lnTo>
                  <a:lnTo>
                    <a:pt x="123" y="242"/>
                  </a:lnTo>
                  <a:lnTo>
                    <a:pt x="133" y="247"/>
                  </a:lnTo>
                  <a:lnTo>
                    <a:pt x="143" y="253"/>
                  </a:lnTo>
                  <a:lnTo>
                    <a:pt x="153" y="257"/>
                  </a:lnTo>
                  <a:lnTo>
                    <a:pt x="164" y="260"/>
                  </a:lnTo>
                  <a:lnTo>
                    <a:pt x="175" y="264"/>
                  </a:lnTo>
                  <a:lnTo>
                    <a:pt x="186" y="266"/>
                  </a:lnTo>
                  <a:lnTo>
                    <a:pt x="197" y="268"/>
                  </a:lnTo>
                  <a:lnTo>
                    <a:pt x="209" y="270"/>
                  </a:lnTo>
                  <a:lnTo>
                    <a:pt x="233" y="271"/>
                  </a:lnTo>
                  <a:lnTo>
                    <a:pt x="258" y="270"/>
                  </a:lnTo>
                  <a:lnTo>
                    <a:pt x="256" y="230"/>
                  </a:lnTo>
                  <a:lnTo>
                    <a:pt x="234" y="231"/>
                  </a:lnTo>
                  <a:lnTo>
                    <a:pt x="213" y="229"/>
                  </a:lnTo>
                  <a:lnTo>
                    <a:pt x="204" y="228"/>
                  </a:lnTo>
                  <a:lnTo>
                    <a:pt x="194" y="227"/>
                  </a:lnTo>
                  <a:lnTo>
                    <a:pt x="186" y="225"/>
                  </a:lnTo>
                  <a:lnTo>
                    <a:pt x="176" y="221"/>
                  </a:lnTo>
                  <a:lnTo>
                    <a:pt x="168" y="219"/>
                  </a:lnTo>
                  <a:lnTo>
                    <a:pt x="160" y="215"/>
                  </a:lnTo>
                  <a:lnTo>
                    <a:pt x="152" y="212"/>
                  </a:lnTo>
                  <a:lnTo>
                    <a:pt x="143" y="207"/>
                  </a:lnTo>
                  <a:lnTo>
                    <a:pt x="136" y="202"/>
                  </a:lnTo>
                  <a:lnTo>
                    <a:pt x="129" y="198"/>
                  </a:lnTo>
                  <a:lnTo>
                    <a:pt x="122" y="191"/>
                  </a:lnTo>
                  <a:lnTo>
                    <a:pt x="115" y="185"/>
                  </a:lnTo>
                  <a:lnTo>
                    <a:pt x="109" y="178"/>
                  </a:lnTo>
                  <a:lnTo>
                    <a:pt x="102" y="172"/>
                  </a:lnTo>
                  <a:lnTo>
                    <a:pt x="96" y="164"/>
                  </a:lnTo>
                  <a:lnTo>
                    <a:pt x="91" y="156"/>
                  </a:lnTo>
                  <a:lnTo>
                    <a:pt x="80" y="138"/>
                  </a:lnTo>
                  <a:lnTo>
                    <a:pt x="69" y="118"/>
                  </a:lnTo>
                  <a:lnTo>
                    <a:pt x="60" y="96"/>
                  </a:lnTo>
                  <a:lnTo>
                    <a:pt x="53" y="71"/>
                  </a:lnTo>
                  <a:lnTo>
                    <a:pt x="45" y="45"/>
                  </a:lnTo>
                  <a:lnTo>
                    <a:pt x="40" y="17"/>
                  </a:lnTo>
                  <a:lnTo>
                    <a:pt x="37" y="3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6" y="5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060720" y="2603520"/>
              <a:ext cx="285840" cy="254160"/>
            </a:xfrm>
            <a:custGeom>
              <a:avLst/>
              <a:gdLst/>
              <a:ahLst/>
              <a:rect l="l" t="t" r="r" b="b"/>
              <a:pathLst>
                <a:path w="719" h="641">
                  <a:moveTo>
                    <a:pt x="692" y="1"/>
                  </a:moveTo>
                  <a:lnTo>
                    <a:pt x="699" y="0"/>
                  </a:lnTo>
                  <a:lnTo>
                    <a:pt x="666" y="1"/>
                  </a:lnTo>
                  <a:lnTo>
                    <a:pt x="635" y="4"/>
                  </a:lnTo>
                  <a:lnTo>
                    <a:pt x="605" y="11"/>
                  </a:lnTo>
                  <a:lnTo>
                    <a:pt x="575" y="18"/>
                  </a:lnTo>
                  <a:lnTo>
                    <a:pt x="545" y="28"/>
                  </a:lnTo>
                  <a:lnTo>
                    <a:pt x="517" y="39"/>
                  </a:lnTo>
                  <a:lnTo>
                    <a:pt x="489" y="52"/>
                  </a:lnTo>
                  <a:lnTo>
                    <a:pt x="463" y="66"/>
                  </a:lnTo>
                  <a:lnTo>
                    <a:pt x="436" y="82"/>
                  </a:lnTo>
                  <a:lnTo>
                    <a:pt x="412" y="99"/>
                  </a:lnTo>
                  <a:lnTo>
                    <a:pt x="387" y="118"/>
                  </a:lnTo>
                  <a:lnTo>
                    <a:pt x="363" y="137"/>
                  </a:lnTo>
                  <a:lnTo>
                    <a:pt x="340" y="157"/>
                  </a:lnTo>
                  <a:lnTo>
                    <a:pt x="318" y="179"/>
                  </a:lnTo>
                  <a:lnTo>
                    <a:pt x="296" y="201"/>
                  </a:lnTo>
                  <a:lnTo>
                    <a:pt x="274" y="224"/>
                  </a:lnTo>
                  <a:lnTo>
                    <a:pt x="254" y="248"/>
                  </a:lnTo>
                  <a:lnTo>
                    <a:pt x="233" y="272"/>
                  </a:lnTo>
                  <a:lnTo>
                    <a:pt x="214" y="297"/>
                  </a:lnTo>
                  <a:lnTo>
                    <a:pt x="194" y="323"/>
                  </a:lnTo>
                  <a:lnTo>
                    <a:pt x="158" y="373"/>
                  </a:lnTo>
                  <a:lnTo>
                    <a:pt x="123" y="425"/>
                  </a:lnTo>
                  <a:lnTo>
                    <a:pt x="58" y="526"/>
                  </a:lnTo>
                  <a:lnTo>
                    <a:pt x="0" y="620"/>
                  </a:lnTo>
                  <a:lnTo>
                    <a:pt x="34" y="641"/>
                  </a:lnTo>
                  <a:lnTo>
                    <a:pt x="93" y="547"/>
                  </a:lnTo>
                  <a:lnTo>
                    <a:pt x="157" y="447"/>
                  </a:lnTo>
                  <a:lnTo>
                    <a:pt x="191" y="396"/>
                  </a:lnTo>
                  <a:lnTo>
                    <a:pt x="227" y="346"/>
                  </a:lnTo>
                  <a:lnTo>
                    <a:pt x="245" y="322"/>
                  </a:lnTo>
                  <a:lnTo>
                    <a:pt x="265" y="298"/>
                  </a:lnTo>
                  <a:lnTo>
                    <a:pt x="284" y="274"/>
                  </a:lnTo>
                  <a:lnTo>
                    <a:pt x="305" y="251"/>
                  </a:lnTo>
                  <a:lnTo>
                    <a:pt x="325" y="229"/>
                  </a:lnTo>
                  <a:lnTo>
                    <a:pt x="346" y="207"/>
                  </a:lnTo>
                  <a:lnTo>
                    <a:pt x="367" y="187"/>
                  </a:lnTo>
                  <a:lnTo>
                    <a:pt x="389" y="167"/>
                  </a:lnTo>
                  <a:lnTo>
                    <a:pt x="412" y="149"/>
                  </a:lnTo>
                  <a:lnTo>
                    <a:pt x="435" y="132"/>
                  </a:lnTo>
                  <a:lnTo>
                    <a:pt x="459" y="115"/>
                  </a:lnTo>
                  <a:lnTo>
                    <a:pt x="483" y="101"/>
                  </a:lnTo>
                  <a:lnTo>
                    <a:pt x="508" y="87"/>
                  </a:lnTo>
                  <a:lnTo>
                    <a:pt x="534" y="75"/>
                  </a:lnTo>
                  <a:lnTo>
                    <a:pt x="559" y="66"/>
                  </a:lnTo>
                  <a:lnTo>
                    <a:pt x="585" y="57"/>
                  </a:lnTo>
                  <a:lnTo>
                    <a:pt x="613" y="49"/>
                  </a:lnTo>
                  <a:lnTo>
                    <a:pt x="640" y="44"/>
                  </a:lnTo>
                  <a:lnTo>
                    <a:pt x="670" y="41"/>
                  </a:lnTo>
                  <a:lnTo>
                    <a:pt x="699" y="40"/>
                  </a:lnTo>
                  <a:lnTo>
                    <a:pt x="706" y="39"/>
                  </a:lnTo>
                  <a:lnTo>
                    <a:pt x="699" y="40"/>
                  </a:lnTo>
                  <a:lnTo>
                    <a:pt x="704" y="40"/>
                  </a:lnTo>
                  <a:lnTo>
                    <a:pt x="708" y="38"/>
                  </a:lnTo>
                  <a:lnTo>
                    <a:pt x="712" y="37"/>
                  </a:lnTo>
                  <a:lnTo>
                    <a:pt x="714" y="33"/>
                  </a:lnTo>
                  <a:lnTo>
                    <a:pt x="716" y="30"/>
                  </a:lnTo>
                  <a:lnTo>
                    <a:pt x="718" y="27"/>
                  </a:lnTo>
                  <a:lnTo>
                    <a:pt x="719" y="24"/>
                  </a:lnTo>
                  <a:lnTo>
                    <a:pt x="719" y="19"/>
                  </a:lnTo>
                  <a:lnTo>
                    <a:pt x="719" y="16"/>
                  </a:lnTo>
                  <a:lnTo>
                    <a:pt x="718" y="12"/>
                  </a:lnTo>
                  <a:lnTo>
                    <a:pt x="716" y="8"/>
                  </a:lnTo>
                  <a:lnTo>
                    <a:pt x="714" y="5"/>
                  </a:lnTo>
                  <a:lnTo>
                    <a:pt x="711" y="3"/>
                  </a:lnTo>
                  <a:lnTo>
                    <a:pt x="707" y="1"/>
                  </a:lnTo>
                  <a:lnTo>
                    <a:pt x="703" y="0"/>
                  </a:lnTo>
                  <a:lnTo>
                    <a:pt x="699" y="0"/>
                  </a:lnTo>
                  <a:lnTo>
                    <a:pt x="692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335400" y="2590920"/>
              <a:ext cx="245880" cy="166680"/>
            </a:xfrm>
            <a:custGeom>
              <a:avLst/>
              <a:gdLst/>
              <a:ahLst/>
              <a:rect l="l" t="t" r="r" b="b"/>
              <a:pathLst>
                <a:path w="619" h="420">
                  <a:moveTo>
                    <a:pt x="618" y="394"/>
                  </a:moveTo>
                  <a:lnTo>
                    <a:pt x="619" y="397"/>
                  </a:lnTo>
                  <a:lnTo>
                    <a:pt x="616" y="375"/>
                  </a:lnTo>
                  <a:lnTo>
                    <a:pt x="613" y="355"/>
                  </a:lnTo>
                  <a:lnTo>
                    <a:pt x="608" y="336"/>
                  </a:lnTo>
                  <a:lnTo>
                    <a:pt x="604" y="316"/>
                  </a:lnTo>
                  <a:lnTo>
                    <a:pt x="600" y="298"/>
                  </a:lnTo>
                  <a:lnTo>
                    <a:pt x="594" y="280"/>
                  </a:lnTo>
                  <a:lnTo>
                    <a:pt x="588" y="263"/>
                  </a:lnTo>
                  <a:lnTo>
                    <a:pt x="582" y="246"/>
                  </a:lnTo>
                  <a:lnTo>
                    <a:pt x="575" y="231"/>
                  </a:lnTo>
                  <a:lnTo>
                    <a:pt x="568" y="215"/>
                  </a:lnTo>
                  <a:lnTo>
                    <a:pt x="561" y="201"/>
                  </a:lnTo>
                  <a:lnTo>
                    <a:pt x="552" y="186"/>
                  </a:lnTo>
                  <a:lnTo>
                    <a:pt x="544" y="172"/>
                  </a:lnTo>
                  <a:lnTo>
                    <a:pt x="535" y="159"/>
                  </a:lnTo>
                  <a:lnTo>
                    <a:pt x="526" y="148"/>
                  </a:lnTo>
                  <a:lnTo>
                    <a:pt x="516" y="136"/>
                  </a:lnTo>
                  <a:lnTo>
                    <a:pt x="507" y="125"/>
                  </a:lnTo>
                  <a:lnTo>
                    <a:pt x="497" y="114"/>
                  </a:lnTo>
                  <a:lnTo>
                    <a:pt x="486" y="104"/>
                  </a:lnTo>
                  <a:lnTo>
                    <a:pt x="475" y="95"/>
                  </a:lnTo>
                  <a:lnTo>
                    <a:pt x="454" y="77"/>
                  </a:lnTo>
                  <a:lnTo>
                    <a:pt x="431" y="62"/>
                  </a:lnTo>
                  <a:lnTo>
                    <a:pt x="407" y="49"/>
                  </a:lnTo>
                  <a:lnTo>
                    <a:pt x="384" y="37"/>
                  </a:lnTo>
                  <a:lnTo>
                    <a:pt x="359" y="28"/>
                  </a:lnTo>
                  <a:lnTo>
                    <a:pt x="335" y="20"/>
                  </a:lnTo>
                  <a:lnTo>
                    <a:pt x="309" y="13"/>
                  </a:lnTo>
                  <a:lnTo>
                    <a:pt x="284" y="8"/>
                  </a:lnTo>
                  <a:lnTo>
                    <a:pt x="259" y="4"/>
                  </a:lnTo>
                  <a:lnTo>
                    <a:pt x="236" y="2"/>
                  </a:lnTo>
                  <a:lnTo>
                    <a:pt x="211" y="1"/>
                  </a:lnTo>
                  <a:lnTo>
                    <a:pt x="187" y="0"/>
                  </a:lnTo>
                  <a:lnTo>
                    <a:pt x="164" y="1"/>
                  </a:lnTo>
                  <a:lnTo>
                    <a:pt x="142" y="2"/>
                  </a:lnTo>
                  <a:lnTo>
                    <a:pt x="120" y="4"/>
                  </a:lnTo>
                  <a:lnTo>
                    <a:pt x="100" y="6"/>
                  </a:lnTo>
                  <a:lnTo>
                    <a:pt x="79" y="9"/>
                  </a:lnTo>
                  <a:lnTo>
                    <a:pt x="61" y="13"/>
                  </a:lnTo>
                  <a:lnTo>
                    <a:pt x="27" y="21"/>
                  </a:lnTo>
                  <a:lnTo>
                    <a:pt x="0" y="30"/>
                  </a:lnTo>
                  <a:lnTo>
                    <a:pt x="14" y="68"/>
                  </a:lnTo>
                  <a:lnTo>
                    <a:pt x="38" y="60"/>
                  </a:lnTo>
                  <a:lnTo>
                    <a:pt x="69" y="53"/>
                  </a:lnTo>
                  <a:lnTo>
                    <a:pt x="87" y="49"/>
                  </a:lnTo>
                  <a:lnTo>
                    <a:pt x="105" y="46"/>
                  </a:lnTo>
                  <a:lnTo>
                    <a:pt x="124" y="44"/>
                  </a:lnTo>
                  <a:lnTo>
                    <a:pt x="145" y="42"/>
                  </a:lnTo>
                  <a:lnTo>
                    <a:pt x="165" y="41"/>
                  </a:lnTo>
                  <a:lnTo>
                    <a:pt x="187" y="41"/>
                  </a:lnTo>
                  <a:lnTo>
                    <a:pt x="210" y="41"/>
                  </a:lnTo>
                  <a:lnTo>
                    <a:pt x="232" y="42"/>
                  </a:lnTo>
                  <a:lnTo>
                    <a:pt x="255" y="44"/>
                  </a:lnTo>
                  <a:lnTo>
                    <a:pt x="278" y="48"/>
                  </a:lnTo>
                  <a:lnTo>
                    <a:pt x="300" y="53"/>
                  </a:lnTo>
                  <a:lnTo>
                    <a:pt x="323" y="58"/>
                  </a:lnTo>
                  <a:lnTo>
                    <a:pt x="346" y="66"/>
                  </a:lnTo>
                  <a:lnTo>
                    <a:pt x="367" y="74"/>
                  </a:lnTo>
                  <a:lnTo>
                    <a:pt x="389" y="85"/>
                  </a:lnTo>
                  <a:lnTo>
                    <a:pt x="410" y="97"/>
                  </a:lnTo>
                  <a:lnTo>
                    <a:pt x="430" y="110"/>
                  </a:lnTo>
                  <a:lnTo>
                    <a:pt x="449" y="126"/>
                  </a:lnTo>
                  <a:lnTo>
                    <a:pt x="459" y="134"/>
                  </a:lnTo>
                  <a:lnTo>
                    <a:pt x="468" y="143"/>
                  </a:lnTo>
                  <a:lnTo>
                    <a:pt x="478" y="152"/>
                  </a:lnTo>
                  <a:lnTo>
                    <a:pt x="486" y="162"/>
                  </a:lnTo>
                  <a:lnTo>
                    <a:pt x="494" y="172"/>
                  </a:lnTo>
                  <a:lnTo>
                    <a:pt x="502" y="183"/>
                  </a:lnTo>
                  <a:lnTo>
                    <a:pt x="510" y="195"/>
                  </a:lnTo>
                  <a:lnTo>
                    <a:pt x="517" y="207"/>
                  </a:lnTo>
                  <a:lnTo>
                    <a:pt x="525" y="220"/>
                  </a:lnTo>
                  <a:lnTo>
                    <a:pt x="532" y="233"/>
                  </a:lnTo>
                  <a:lnTo>
                    <a:pt x="538" y="247"/>
                  </a:lnTo>
                  <a:lnTo>
                    <a:pt x="544" y="261"/>
                  </a:lnTo>
                  <a:lnTo>
                    <a:pt x="550" y="276"/>
                  </a:lnTo>
                  <a:lnTo>
                    <a:pt x="555" y="292"/>
                  </a:lnTo>
                  <a:lnTo>
                    <a:pt x="561" y="309"/>
                  </a:lnTo>
                  <a:lnTo>
                    <a:pt x="565" y="326"/>
                  </a:lnTo>
                  <a:lnTo>
                    <a:pt x="569" y="344"/>
                  </a:lnTo>
                  <a:lnTo>
                    <a:pt x="573" y="363"/>
                  </a:lnTo>
                  <a:lnTo>
                    <a:pt x="576" y="382"/>
                  </a:lnTo>
                  <a:lnTo>
                    <a:pt x="579" y="401"/>
                  </a:lnTo>
                  <a:lnTo>
                    <a:pt x="579" y="405"/>
                  </a:lnTo>
                  <a:lnTo>
                    <a:pt x="579" y="401"/>
                  </a:lnTo>
                  <a:lnTo>
                    <a:pt x="579" y="407"/>
                  </a:lnTo>
                  <a:lnTo>
                    <a:pt x="581" y="410"/>
                  </a:lnTo>
                  <a:lnTo>
                    <a:pt x="583" y="413"/>
                  </a:lnTo>
                  <a:lnTo>
                    <a:pt x="587" y="417"/>
                  </a:lnTo>
                  <a:lnTo>
                    <a:pt x="590" y="418"/>
                  </a:lnTo>
                  <a:lnTo>
                    <a:pt x="593" y="419"/>
                  </a:lnTo>
                  <a:lnTo>
                    <a:pt x="597" y="420"/>
                  </a:lnTo>
                  <a:lnTo>
                    <a:pt x="601" y="420"/>
                  </a:lnTo>
                  <a:lnTo>
                    <a:pt x="605" y="419"/>
                  </a:lnTo>
                  <a:lnTo>
                    <a:pt x="608" y="418"/>
                  </a:lnTo>
                  <a:lnTo>
                    <a:pt x="611" y="415"/>
                  </a:lnTo>
                  <a:lnTo>
                    <a:pt x="614" y="413"/>
                  </a:lnTo>
                  <a:lnTo>
                    <a:pt x="617" y="410"/>
                  </a:lnTo>
                  <a:lnTo>
                    <a:pt x="618" y="406"/>
                  </a:lnTo>
                  <a:lnTo>
                    <a:pt x="619" y="402"/>
                  </a:lnTo>
                  <a:lnTo>
                    <a:pt x="619" y="397"/>
                  </a:lnTo>
                  <a:lnTo>
                    <a:pt x="618" y="3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552840" y="2748240"/>
              <a:ext cx="34920" cy="98280"/>
            </a:xfrm>
            <a:custGeom>
              <a:avLst/>
              <a:gdLst/>
              <a:ahLst/>
              <a:rect l="l" t="t" r="r" b="b"/>
              <a:pathLst>
                <a:path w="87" h="246">
                  <a:moveTo>
                    <a:pt x="0" y="223"/>
                  </a:moveTo>
                  <a:lnTo>
                    <a:pt x="33" y="240"/>
                  </a:lnTo>
                  <a:lnTo>
                    <a:pt x="44" y="229"/>
                  </a:lnTo>
                  <a:lnTo>
                    <a:pt x="54" y="217"/>
                  </a:lnTo>
                  <a:lnTo>
                    <a:pt x="62" y="205"/>
                  </a:lnTo>
                  <a:lnTo>
                    <a:pt x="69" y="192"/>
                  </a:lnTo>
                  <a:lnTo>
                    <a:pt x="75" y="178"/>
                  </a:lnTo>
                  <a:lnTo>
                    <a:pt x="80" y="164"/>
                  </a:lnTo>
                  <a:lnTo>
                    <a:pt x="83" y="150"/>
                  </a:lnTo>
                  <a:lnTo>
                    <a:pt x="86" y="135"/>
                  </a:lnTo>
                  <a:lnTo>
                    <a:pt x="87" y="119"/>
                  </a:lnTo>
                  <a:lnTo>
                    <a:pt x="87" y="104"/>
                  </a:lnTo>
                  <a:lnTo>
                    <a:pt x="86" y="87"/>
                  </a:lnTo>
                  <a:lnTo>
                    <a:pt x="85" y="70"/>
                  </a:lnTo>
                  <a:lnTo>
                    <a:pt x="82" y="53"/>
                  </a:lnTo>
                  <a:lnTo>
                    <a:pt x="79" y="35"/>
                  </a:lnTo>
                  <a:lnTo>
                    <a:pt x="75" y="18"/>
                  </a:lnTo>
                  <a:lnTo>
                    <a:pt x="70" y="0"/>
                  </a:lnTo>
                  <a:lnTo>
                    <a:pt x="31" y="11"/>
                  </a:lnTo>
                  <a:lnTo>
                    <a:pt x="35" y="28"/>
                  </a:lnTo>
                  <a:lnTo>
                    <a:pt x="40" y="44"/>
                  </a:lnTo>
                  <a:lnTo>
                    <a:pt x="43" y="60"/>
                  </a:lnTo>
                  <a:lnTo>
                    <a:pt x="45" y="75"/>
                  </a:lnTo>
                  <a:lnTo>
                    <a:pt x="46" y="89"/>
                  </a:lnTo>
                  <a:lnTo>
                    <a:pt x="46" y="104"/>
                  </a:lnTo>
                  <a:lnTo>
                    <a:pt x="46" y="116"/>
                  </a:lnTo>
                  <a:lnTo>
                    <a:pt x="45" y="129"/>
                  </a:lnTo>
                  <a:lnTo>
                    <a:pt x="44" y="141"/>
                  </a:lnTo>
                  <a:lnTo>
                    <a:pt x="41" y="153"/>
                  </a:lnTo>
                  <a:lnTo>
                    <a:pt x="38" y="164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1" y="193"/>
                  </a:lnTo>
                  <a:lnTo>
                    <a:pt x="14" y="202"/>
                  </a:lnTo>
                  <a:lnTo>
                    <a:pt x="6" y="210"/>
                  </a:lnTo>
                  <a:lnTo>
                    <a:pt x="40" y="227"/>
                  </a:lnTo>
                  <a:lnTo>
                    <a:pt x="6" y="210"/>
                  </a:lnTo>
                  <a:lnTo>
                    <a:pt x="3" y="214"/>
                  </a:lnTo>
                  <a:lnTo>
                    <a:pt x="1" y="218"/>
                  </a:lnTo>
                  <a:lnTo>
                    <a:pt x="0" y="221"/>
                  </a:lnTo>
                  <a:lnTo>
                    <a:pt x="0" y="226"/>
                  </a:lnTo>
                  <a:lnTo>
                    <a:pt x="0" y="229"/>
                  </a:lnTo>
                  <a:lnTo>
                    <a:pt x="1" y="233"/>
                  </a:lnTo>
                  <a:lnTo>
                    <a:pt x="3" y="236"/>
                  </a:lnTo>
                  <a:lnTo>
                    <a:pt x="5" y="239"/>
                  </a:lnTo>
                  <a:lnTo>
                    <a:pt x="7" y="242"/>
                  </a:lnTo>
                  <a:lnTo>
                    <a:pt x="11" y="244"/>
                  </a:lnTo>
                  <a:lnTo>
                    <a:pt x="15" y="245"/>
                  </a:lnTo>
                  <a:lnTo>
                    <a:pt x="18" y="246"/>
                  </a:lnTo>
                  <a:lnTo>
                    <a:pt x="22" y="246"/>
                  </a:lnTo>
                  <a:lnTo>
                    <a:pt x="26" y="245"/>
                  </a:lnTo>
                  <a:lnTo>
                    <a:pt x="30" y="243"/>
                  </a:lnTo>
                  <a:lnTo>
                    <a:pt x="33" y="24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284640" y="2773440"/>
              <a:ext cx="82440" cy="52560"/>
            </a:xfrm>
            <a:custGeom>
              <a:avLst/>
              <a:gdLst/>
              <a:ahLst/>
              <a:rect l="l" t="t" r="r" b="b"/>
              <a:pathLst>
                <a:path w="209" h="129">
                  <a:moveTo>
                    <a:pt x="0" y="11"/>
                  </a:moveTo>
                  <a:lnTo>
                    <a:pt x="17" y="5"/>
                  </a:lnTo>
                  <a:lnTo>
                    <a:pt x="34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3" y="1"/>
                  </a:lnTo>
                  <a:lnTo>
                    <a:pt x="98" y="4"/>
                  </a:lnTo>
                  <a:lnTo>
                    <a:pt x="112" y="8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3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3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09" y="126"/>
                  </a:lnTo>
                  <a:lnTo>
                    <a:pt x="192" y="128"/>
                  </a:lnTo>
                  <a:lnTo>
                    <a:pt x="174" y="129"/>
                  </a:lnTo>
                  <a:lnTo>
                    <a:pt x="157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3"/>
                  </a:lnTo>
                  <a:lnTo>
                    <a:pt x="69" y="106"/>
                  </a:lnTo>
                  <a:lnTo>
                    <a:pt x="56" y="97"/>
                  </a:lnTo>
                  <a:lnTo>
                    <a:pt x="45" y="86"/>
                  </a:lnTo>
                  <a:lnTo>
                    <a:pt x="34" y="74"/>
                  </a:lnTo>
                  <a:lnTo>
                    <a:pt x="23" y="61"/>
                  </a:lnTo>
                  <a:lnTo>
                    <a:pt x="15" y="46"/>
                  </a:lnTo>
                  <a:lnTo>
                    <a:pt x="6" y="3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281400" y="2765520"/>
              <a:ext cx="93600" cy="66600"/>
            </a:xfrm>
            <a:custGeom>
              <a:avLst/>
              <a:gdLst/>
              <a:ahLst/>
              <a:rect l="l" t="t" r="r" b="b"/>
              <a:pathLst>
                <a:path w="237" h="168">
                  <a:moveTo>
                    <a:pt x="219" y="168"/>
                  </a:moveTo>
                  <a:lnTo>
                    <a:pt x="236" y="141"/>
                  </a:lnTo>
                  <a:lnTo>
                    <a:pt x="227" y="120"/>
                  </a:lnTo>
                  <a:lnTo>
                    <a:pt x="217" y="101"/>
                  </a:lnTo>
                  <a:lnTo>
                    <a:pt x="208" y="82"/>
                  </a:lnTo>
                  <a:lnTo>
                    <a:pt x="197" y="66"/>
                  </a:lnTo>
                  <a:lnTo>
                    <a:pt x="184" y="52"/>
                  </a:lnTo>
                  <a:lnTo>
                    <a:pt x="171" y="39"/>
                  </a:lnTo>
                  <a:lnTo>
                    <a:pt x="158" y="28"/>
                  </a:lnTo>
                  <a:lnTo>
                    <a:pt x="143" y="19"/>
                  </a:lnTo>
                  <a:lnTo>
                    <a:pt x="127" y="11"/>
                  </a:lnTo>
                  <a:lnTo>
                    <a:pt x="110" y="6"/>
                  </a:lnTo>
                  <a:lnTo>
                    <a:pt x="93" y="2"/>
                  </a:lnTo>
                  <a:lnTo>
                    <a:pt x="76" y="0"/>
                  </a:lnTo>
                  <a:lnTo>
                    <a:pt x="57" y="1"/>
                  </a:lnTo>
                  <a:lnTo>
                    <a:pt x="38" y="3"/>
                  </a:lnTo>
                  <a:lnTo>
                    <a:pt x="20" y="7"/>
                  </a:lnTo>
                  <a:lnTo>
                    <a:pt x="0" y="13"/>
                  </a:lnTo>
                  <a:lnTo>
                    <a:pt x="12" y="51"/>
                  </a:lnTo>
                  <a:lnTo>
                    <a:pt x="29" y="47"/>
                  </a:lnTo>
                  <a:lnTo>
                    <a:pt x="44" y="42"/>
                  </a:lnTo>
                  <a:lnTo>
                    <a:pt x="60" y="41"/>
                  </a:lnTo>
                  <a:lnTo>
                    <a:pt x="74" y="41"/>
                  </a:lnTo>
                  <a:lnTo>
                    <a:pt x="88" y="42"/>
                  </a:lnTo>
                  <a:lnTo>
                    <a:pt x="100" y="44"/>
                  </a:lnTo>
                  <a:lnTo>
                    <a:pt x="111" y="49"/>
                  </a:lnTo>
                  <a:lnTo>
                    <a:pt x="123" y="54"/>
                  </a:lnTo>
                  <a:lnTo>
                    <a:pt x="134" y="61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64" y="91"/>
                  </a:lnTo>
                  <a:lnTo>
                    <a:pt x="173" y="104"/>
                  </a:lnTo>
                  <a:lnTo>
                    <a:pt x="182" y="119"/>
                  </a:lnTo>
                  <a:lnTo>
                    <a:pt x="190" y="136"/>
                  </a:lnTo>
                  <a:lnTo>
                    <a:pt x="197" y="155"/>
                  </a:lnTo>
                  <a:lnTo>
                    <a:pt x="213" y="128"/>
                  </a:lnTo>
                  <a:lnTo>
                    <a:pt x="197" y="155"/>
                  </a:lnTo>
                  <a:lnTo>
                    <a:pt x="199" y="159"/>
                  </a:lnTo>
                  <a:lnTo>
                    <a:pt x="202" y="162"/>
                  </a:lnTo>
                  <a:lnTo>
                    <a:pt x="205" y="164"/>
                  </a:lnTo>
                  <a:lnTo>
                    <a:pt x="209" y="167"/>
                  </a:lnTo>
                  <a:lnTo>
                    <a:pt x="212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7" y="164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5" y="157"/>
                  </a:lnTo>
                  <a:lnTo>
                    <a:pt x="236" y="154"/>
                  </a:lnTo>
                  <a:lnTo>
                    <a:pt x="237" y="149"/>
                  </a:lnTo>
                  <a:lnTo>
                    <a:pt x="237" y="145"/>
                  </a:lnTo>
                  <a:lnTo>
                    <a:pt x="236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276720" y="2770200"/>
              <a:ext cx="91800" cy="63720"/>
            </a:xfrm>
            <a:custGeom>
              <a:avLst/>
              <a:gdLst/>
              <a:ahLst/>
              <a:rect l="l" t="t" r="r" b="b"/>
              <a:pathLst>
                <a:path w="233" h="160">
                  <a:moveTo>
                    <a:pt x="14" y="2"/>
                  </a:moveTo>
                  <a:lnTo>
                    <a:pt x="1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8" y="82"/>
                  </a:lnTo>
                  <a:lnTo>
                    <a:pt x="39" y="97"/>
                  </a:lnTo>
                  <a:lnTo>
                    <a:pt x="52" y="111"/>
                  </a:lnTo>
                  <a:lnTo>
                    <a:pt x="65" y="122"/>
                  </a:lnTo>
                  <a:lnTo>
                    <a:pt x="79" y="133"/>
                  </a:lnTo>
                  <a:lnTo>
                    <a:pt x="94" y="140"/>
                  </a:lnTo>
                  <a:lnTo>
                    <a:pt x="109" y="148"/>
                  </a:lnTo>
                  <a:lnTo>
                    <a:pt x="125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7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3" y="157"/>
                  </a:lnTo>
                  <a:lnTo>
                    <a:pt x="227" y="117"/>
                  </a:lnTo>
                  <a:lnTo>
                    <a:pt x="211" y="119"/>
                  </a:lnTo>
                  <a:lnTo>
                    <a:pt x="195" y="120"/>
                  </a:lnTo>
                  <a:lnTo>
                    <a:pt x="178" y="120"/>
                  </a:lnTo>
                  <a:lnTo>
                    <a:pt x="164" y="119"/>
                  </a:lnTo>
                  <a:lnTo>
                    <a:pt x="149" y="117"/>
                  </a:lnTo>
                  <a:lnTo>
                    <a:pt x="136" y="113"/>
                  </a:lnTo>
                  <a:lnTo>
                    <a:pt x="123" y="110"/>
                  </a:lnTo>
                  <a:lnTo>
                    <a:pt x="111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0" y="72"/>
                  </a:lnTo>
                  <a:lnTo>
                    <a:pt x="62" y="60"/>
                  </a:lnTo>
                  <a:lnTo>
                    <a:pt x="53" y="46"/>
                  </a:lnTo>
                  <a:lnTo>
                    <a:pt x="46" y="31"/>
                  </a:lnTo>
                  <a:lnTo>
                    <a:pt x="39" y="14"/>
                  </a:lnTo>
                  <a:lnTo>
                    <a:pt x="26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6"/>
                  </a:lnTo>
                  <a:lnTo>
                    <a:pt x="31" y="4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436920" y="2872080"/>
              <a:ext cx="82440" cy="5076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0" y="11"/>
                  </a:moveTo>
                  <a:lnTo>
                    <a:pt x="17" y="5"/>
                  </a:lnTo>
                  <a:lnTo>
                    <a:pt x="36" y="2"/>
                  </a:lnTo>
                  <a:lnTo>
                    <a:pt x="52" y="0"/>
                  </a:lnTo>
                  <a:lnTo>
                    <a:pt x="68" y="0"/>
                  </a:lnTo>
                  <a:lnTo>
                    <a:pt x="84" y="1"/>
                  </a:lnTo>
                  <a:lnTo>
                    <a:pt x="98" y="4"/>
                  </a:lnTo>
                  <a:lnTo>
                    <a:pt x="112" y="9"/>
                  </a:lnTo>
                  <a:lnTo>
                    <a:pt x="126" y="15"/>
                  </a:lnTo>
                  <a:lnTo>
                    <a:pt x="139" y="23"/>
                  </a:lnTo>
                  <a:lnTo>
                    <a:pt x="151" y="32"/>
                  </a:lnTo>
                  <a:lnTo>
                    <a:pt x="163" y="44"/>
                  </a:lnTo>
                  <a:lnTo>
                    <a:pt x="174" y="57"/>
                  </a:lnTo>
                  <a:lnTo>
                    <a:pt x="184" y="72"/>
                  </a:lnTo>
                  <a:lnTo>
                    <a:pt x="193" y="88"/>
                  </a:lnTo>
                  <a:lnTo>
                    <a:pt x="202" y="107"/>
                  </a:lnTo>
                  <a:lnTo>
                    <a:pt x="210" y="126"/>
                  </a:lnTo>
                  <a:lnTo>
                    <a:pt x="192" y="128"/>
                  </a:lnTo>
                  <a:lnTo>
                    <a:pt x="175" y="129"/>
                  </a:lnTo>
                  <a:lnTo>
                    <a:pt x="158" y="129"/>
                  </a:lnTo>
                  <a:lnTo>
                    <a:pt x="141" y="128"/>
                  </a:lnTo>
                  <a:lnTo>
                    <a:pt x="125" y="126"/>
                  </a:lnTo>
                  <a:lnTo>
                    <a:pt x="110" y="123"/>
                  </a:lnTo>
                  <a:lnTo>
                    <a:pt x="96" y="119"/>
                  </a:lnTo>
                  <a:lnTo>
                    <a:pt x="82" y="112"/>
                  </a:lnTo>
                  <a:lnTo>
                    <a:pt x="69" y="106"/>
                  </a:lnTo>
                  <a:lnTo>
                    <a:pt x="57" y="96"/>
                  </a:lnTo>
                  <a:lnTo>
                    <a:pt x="45" y="86"/>
                  </a:lnTo>
                  <a:lnTo>
                    <a:pt x="35" y="74"/>
                  </a:lnTo>
                  <a:lnTo>
                    <a:pt x="25" y="61"/>
                  </a:lnTo>
                  <a:lnTo>
                    <a:pt x="15" y="46"/>
                  </a:lnTo>
                  <a:lnTo>
                    <a:pt x="6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3433680" y="2864160"/>
              <a:ext cx="93600" cy="64800"/>
            </a:xfrm>
            <a:custGeom>
              <a:avLst/>
              <a:gdLst/>
              <a:ahLst/>
              <a:rect l="l" t="t" r="r" b="b"/>
              <a:pathLst>
                <a:path w="236" h="168">
                  <a:moveTo>
                    <a:pt x="219" y="168"/>
                  </a:moveTo>
                  <a:lnTo>
                    <a:pt x="235" y="141"/>
                  </a:lnTo>
                  <a:lnTo>
                    <a:pt x="226" y="119"/>
                  </a:lnTo>
                  <a:lnTo>
                    <a:pt x="217" y="100"/>
                  </a:lnTo>
                  <a:lnTo>
                    <a:pt x="207" y="82"/>
                  </a:lnTo>
                  <a:lnTo>
                    <a:pt x="196" y="66"/>
                  </a:lnTo>
                  <a:lnTo>
                    <a:pt x="184" y="51"/>
                  </a:lnTo>
                  <a:lnTo>
                    <a:pt x="171" y="39"/>
                  </a:lnTo>
                  <a:lnTo>
                    <a:pt x="157" y="27"/>
                  </a:lnTo>
                  <a:lnTo>
                    <a:pt x="142" y="19"/>
                  </a:lnTo>
                  <a:lnTo>
                    <a:pt x="126" y="11"/>
                  </a:lnTo>
                  <a:lnTo>
                    <a:pt x="110" y="6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7" y="0"/>
                  </a:lnTo>
                  <a:lnTo>
                    <a:pt x="38" y="3"/>
                  </a:lnTo>
                  <a:lnTo>
                    <a:pt x="19" y="7"/>
                  </a:lnTo>
                  <a:lnTo>
                    <a:pt x="0" y="12"/>
                  </a:lnTo>
                  <a:lnTo>
                    <a:pt x="12" y="51"/>
                  </a:lnTo>
                  <a:lnTo>
                    <a:pt x="29" y="46"/>
                  </a:lnTo>
                  <a:lnTo>
                    <a:pt x="45" y="42"/>
                  </a:lnTo>
                  <a:lnTo>
                    <a:pt x="59" y="41"/>
                  </a:lnTo>
                  <a:lnTo>
                    <a:pt x="74" y="40"/>
                  </a:lnTo>
                  <a:lnTo>
                    <a:pt x="87" y="41"/>
                  </a:lnTo>
                  <a:lnTo>
                    <a:pt x="99" y="45"/>
                  </a:lnTo>
                  <a:lnTo>
                    <a:pt x="112" y="48"/>
                  </a:lnTo>
                  <a:lnTo>
                    <a:pt x="123" y="53"/>
                  </a:lnTo>
                  <a:lnTo>
                    <a:pt x="133" y="61"/>
                  </a:lnTo>
                  <a:lnTo>
                    <a:pt x="144" y="68"/>
                  </a:lnTo>
                  <a:lnTo>
                    <a:pt x="154" y="79"/>
                  </a:lnTo>
                  <a:lnTo>
                    <a:pt x="164" y="90"/>
                  </a:lnTo>
                  <a:lnTo>
                    <a:pt x="172" y="104"/>
                  </a:lnTo>
                  <a:lnTo>
                    <a:pt x="181" y="119"/>
                  </a:lnTo>
                  <a:lnTo>
                    <a:pt x="190" y="135"/>
                  </a:lnTo>
                  <a:lnTo>
                    <a:pt x="197" y="154"/>
                  </a:lnTo>
                  <a:lnTo>
                    <a:pt x="213" y="127"/>
                  </a:lnTo>
                  <a:lnTo>
                    <a:pt x="197" y="154"/>
                  </a:lnTo>
                  <a:lnTo>
                    <a:pt x="199" y="158"/>
                  </a:lnTo>
                  <a:lnTo>
                    <a:pt x="201" y="162"/>
                  </a:lnTo>
                  <a:lnTo>
                    <a:pt x="205" y="165"/>
                  </a:lnTo>
                  <a:lnTo>
                    <a:pt x="208" y="167"/>
                  </a:lnTo>
                  <a:lnTo>
                    <a:pt x="211" y="168"/>
                  </a:lnTo>
                  <a:lnTo>
                    <a:pt x="216" y="168"/>
                  </a:lnTo>
                  <a:lnTo>
                    <a:pt x="219" y="168"/>
                  </a:lnTo>
                  <a:lnTo>
                    <a:pt x="223" y="167"/>
                  </a:lnTo>
                  <a:lnTo>
                    <a:pt x="226" y="165"/>
                  </a:lnTo>
                  <a:lnTo>
                    <a:pt x="230" y="162"/>
                  </a:lnTo>
                  <a:lnTo>
                    <a:pt x="232" y="160"/>
                  </a:lnTo>
                  <a:lnTo>
                    <a:pt x="234" y="157"/>
                  </a:lnTo>
                  <a:lnTo>
                    <a:pt x="235" y="153"/>
                  </a:lnTo>
                  <a:lnTo>
                    <a:pt x="236" y="149"/>
                  </a:lnTo>
                  <a:lnTo>
                    <a:pt x="236" y="145"/>
                  </a:lnTo>
                  <a:lnTo>
                    <a:pt x="235" y="141"/>
                  </a:lnTo>
                  <a:lnTo>
                    <a:pt x="219" y="1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429000" y="2867040"/>
              <a:ext cx="92160" cy="63720"/>
            </a:xfrm>
            <a:custGeom>
              <a:avLst/>
              <a:gdLst/>
              <a:ahLst/>
              <a:rect l="l" t="t" r="r" b="b"/>
              <a:pathLst>
                <a:path w="234" h="160">
                  <a:moveTo>
                    <a:pt x="15" y="1"/>
                  </a:moveTo>
                  <a:lnTo>
                    <a:pt x="2" y="27"/>
                  </a:lnTo>
                  <a:lnTo>
                    <a:pt x="9" y="48"/>
                  </a:lnTo>
                  <a:lnTo>
                    <a:pt x="19" y="66"/>
                  </a:lnTo>
                  <a:lnTo>
                    <a:pt x="29" y="82"/>
                  </a:lnTo>
                  <a:lnTo>
                    <a:pt x="39" y="97"/>
                  </a:lnTo>
                  <a:lnTo>
                    <a:pt x="52" y="110"/>
                  </a:lnTo>
                  <a:lnTo>
                    <a:pt x="65" y="122"/>
                  </a:lnTo>
                  <a:lnTo>
                    <a:pt x="79" y="132"/>
                  </a:lnTo>
                  <a:lnTo>
                    <a:pt x="94" y="141"/>
                  </a:lnTo>
                  <a:lnTo>
                    <a:pt x="110" y="147"/>
                  </a:lnTo>
                  <a:lnTo>
                    <a:pt x="127" y="152"/>
                  </a:lnTo>
                  <a:lnTo>
                    <a:pt x="143" y="157"/>
                  </a:lnTo>
                  <a:lnTo>
                    <a:pt x="160" y="159"/>
                  </a:lnTo>
                  <a:lnTo>
                    <a:pt x="178" y="160"/>
                  </a:lnTo>
                  <a:lnTo>
                    <a:pt x="196" y="160"/>
                  </a:lnTo>
                  <a:lnTo>
                    <a:pt x="214" y="159"/>
                  </a:lnTo>
                  <a:lnTo>
                    <a:pt x="234" y="157"/>
                  </a:lnTo>
                  <a:lnTo>
                    <a:pt x="228" y="116"/>
                  </a:lnTo>
                  <a:lnTo>
                    <a:pt x="211" y="118"/>
                  </a:lnTo>
                  <a:lnTo>
                    <a:pt x="195" y="119"/>
                  </a:lnTo>
                  <a:lnTo>
                    <a:pt x="180" y="119"/>
                  </a:lnTo>
                  <a:lnTo>
                    <a:pt x="165" y="119"/>
                  </a:lnTo>
                  <a:lnTo>
                    <a:pt x="151" y="117"/>
                  </a:lnTo>
                  <a:lnTo>
                    <a:pt x="137" y="114"/>
                  </a:lnTo>
                  <a:lnTo>
                    <a:pt x="124" y="109"/>
                  </a:lnTo>
                  <a:lnTo>
                    <a:pt x="112" y="105"/>
                  </a:lnTo>
                  <a:lnTo>
                    <a:pt x="101" y="98"/>
                  </a:lnTo>
                  <a:lnTo>
                    <a:pt x="90" y="91"/>
                  </a:lnTo>
                  <a:lnTo>
                    <a:pt x="80" y="82"/>
                  </a:lnTo>
                  <a:lnTo>
                    <a:pt x="71" y="71"/>
                  </a:lnTo>
                  <a:lnTo>
                    <a:pt x="62" y="60"/>
                  </a:lnTo>
                  <a:lnTo>
                    <a:pt x="53" y="47"/>
                  </a:lnTo>
                  <a:lnTo>
                    <a:pt x="47" y="31"/>
                  </a:lnTo>
                  <a:lnTo>
                    <a:pt x="39" y="14"/>
                  </a:lnTo>
                  <a:lnTo>
                    <a:pt x="27" y="40"/>
                  </a:lnTo>
                  <a:lnTo>
                    <a:pt x="39" y="14"/>
                  </a:lnTo>
                  <a:lnTo>
                    <a:pt x="37" y="10"/>
                  </a:lnTo>
                  <a:lnTo>
                    <a:pt x="35" y="7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317760" y="2803680"/>
              <a:ext cx="30240" cy="2232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1" y="40"/>
                  </a:moveTo>
                  <a:lnTo>
                    <a:pt x="10" y="44"/>
                  </a:lnTo>
                  <a:lnTo>
                    <a:pt x="17" y="47"/>
                  </a:lnTo>
                  <a:lnTo>
                    <a:pt x="26" y="50"/>
                  </a:lnTo>
                  <a:lnTo>
                    <a:pt x="35" y="52"/>
                  </a:lnTo>
                  <a:lnTo>
                    <a:pt x="44" y="53"/>
                  </a:lnTo>
                  <a:lnTo>
                    <a:pt x="54" y="54"/>
                  </a:lnTo>
                  <a:lnTo>
                    <a:pt x="62" y="55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3"/>
                  </a:lnTo>
                  <a:lnTo>
                    <a:pt x="76" y="47"/>
                  </a:lnTo>
                  <a:lnTo>
                    <a:pt x="78" y="39"/>
                  </a:lnTo>
                  <a:lnTo>
                    <a:pt x="76" y="33"/>
                  </a:lnTo>
                  <a:lnTo>
                    <a:pt x="74" y="25"/>
                  </a:lnTo>
                  <a:lnTo>
                    <a:pt x="71" y="19"/>
                  </a:lnTo>
                  <a:lnTo>
                    <a:pt x="67" y="13"/>
                  </a:lnTo>
                  <a:lnTo>
                    <a:pt x="60" y="8"/>
                  </a:lnTo>
                  <a:lnTo>
                    <a:pt x="53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1"/>
                  </a:lnTo>
                  <a:lnTo>
                    <a:pt x="8" y="17"/>
                  </a:lnTo>
                  <a:lnTo>
                    <a:pt x="5" y="23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314880" y="2813040"/>
              <a:ext cx="39600" cy="208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61" y="33"/>
                  </a:moveTo>
                  <a:lnTo>
                    <a:pt x="81" y="13"/>
                  </a:lnTo>
                  <a:lnTo>
                    <a:pt x="73" y="13"/>
                  </a:lnTo>
                  <a:lnTo>
                    <a:pt x="64" y="13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40" y="9"/>
                  </a:lnTo>
                  <a:lnTo>
                    <a:pt x="34" y="6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0" y="36"/>
                  </a:lnTo>
                  <a:lnTo>
                    <a:pt x="10" y="40"/>
                  </a:lnTo>
                  <a:lnTo>
                    <a:pt x="20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1" y="52"/>
                  </a:lnTo>
                  <a:lnTo>
                    <a:pt x="61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2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90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1" y="41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9"/>
                  </a:lnTo>
                  <a:lnTo>
                    <a:pt x="101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5"/>
                  </a:lnTo>
                  <a:lnTo>
                    <a:pt x="85" y="14"/>
                  </a:lnTo>
                  <a:lnTo>
                    <a:pt x="81" y="13"/>
                  </a:lnTo>
                  <a:lnTo>
                    <a:pt x="61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338640" y="2816280"/>
              <a:ext cx="1584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3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8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4" y="42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34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2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330720" y="2797200"/>
              <a:ext cx="25200" cy="320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3" y="39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2" y="46"/>
                  </a:lnTo>
                  <a:lnTo>
                    <a:pt x="24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5" y="59"/>
                  </a:lnTo>
                  <a:lnTo>
                    <a:pt x="24" y="63"/>
                  </a:lnTo>
                  <a:lnTo>
                    <a:pt x="61" y="79"/>
                  </a:lnTo>
                  <a:lnTo>
                    <a:pt x="64" y="68"/>
                  </a:lnTo>
                  <a:lnTo>
                    <a:pt x="65" y="56"/>
                  </a:lnTo>
                  <a:lnTo>
                    <a:pt x="64" y="45"/>
                  </a:lnTo>
                  <a:lnTo>
                    <a:pt x="61" y="35"/>
                  </a:lnTo>
                  <a:lnTo>
                    <a:pt x="56" y="25"/>
                  </a:lnTo>
                  <a:lnTo>
                    <a:pt x="49" y="16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5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311640" y="2795760"/>
              <a:ext cx="29880" cy="2520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38" y="51"/>
                  </a:moveTo>
                  <a:lnTo>
                    <a:pt x="39" y="50"/>
                  </a:lnTo>
                  <a:lnTo>
                    <a:pt x="40" y="47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7" y="4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60" y="41"/>
                  </a:lnTo>
                  <a:lnTo>
                    <a:pt x="75" y="3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2" y="9"/>
                  </a:lnTo>
                  <a:lnTo>
                    <a:pt x="14" y="16"/>
                  </a:lnTo>
                  <a:lnTo>
                    <a:pt x="7" y="24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8" y="58"/>
                  </a:lnTo>
                  <a:lnTo>
                    <a:pt x="12" y="60"/>
                  </a:lnTo>
                  <a:lnTo>
                    <a:pt x="15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7" y="61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5" y="54"/>
                  </a:lnTo>
                  <a:lnTo>
                    <a:pt x="39" y="50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309840" y="2810160"/>
              <a:ext cx="15840" cy="1728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1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7" y="0"/>
                  </a:lnTo>
                  <a:lnTo>
                    <a:pt x="5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45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19" y="48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30" y="45"/>
                  </a:lnTo>
                  <a:lnTo>
                    <a:pt x="33" y="43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470400" y="2900520"/>
              <a:ext cx="29880" cy="22320"/>
            </a:xfrm>
            <a:custGeom>
              <a:avLst/>
              <a:gdLst/>
              <a:ahLst/>
              <a:rect l="l" t="t" r="r" b="b"/>
              <a:pathLst>
                <a:path w="77" h="55">
                  <a:moveTo>
                    <a:pt x="1" y="40"/>
                  </a:moveTo>
                  <a:lnTo>
                    <a:pt x="9" y="44"/>
                  </a:lnTo>
                  <a:lnTo>
                    <a:pt x="18" y="47"/>
                  </a:lnTo>
                  <a:lnTo>
                    <a:pt x="26" y="50"/>
                  </a:lnTo>
                  <a:lnTo>
                    <a:pt x="36" y="52"/>
                  </a:lnTo>
                  <a:lnTo>
                    <a:pt x="45" y="53"/>
                  </a:lnTo>
                  <a:lnTo>
                    <a:pt x="54" y="54"/>
                  </a:lnTo>
                  <a:lnTo>
                    <a:pt x="63" y="55"/>
                  </a:lnTo>
                  <a:lnTo>
                    <a:pt x="73" y="55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53"/>
                  </a:lnTo>
                  <a:lnTo>
                    <a:pt x="77" y="47"/>
                  </a:lnTo>
                  <a:lnTo>
                    <a:pt x="77" y="39"/>
                  </a:lnTo>
                  <a:lnTo>
                    <a:pt x="77" y="33"/>
                  </a:lnTo>
                  <a:lnTo>
                    <a:pt x="75" y="25"/>
                  </a:lnTo>
                  <a:lnTo>
                    <a:pt x="72" y="19"/>
                  </a:lnTo>
                  <a:lnTo>
                    <a:pt x="67" y="12"/>
                  </a:lnTo>
                  <a:lnTo>
                    <a:pt x="61" y="8"/>
                  </a:lnTo>
                  <a:lnTo>
                    <a:pt x="53" y="4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5" y="4"/>
                  </a:lnTo>
                  <a:lnTo>
                    <a:pt x="19" y="7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467160" y="2908440"/>
              <a:ext cx="39600" cy="2232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60" y="33"/>
                  </a:moveTo>
                  <a:lnTo>
                    <a:pt x="81" y="13"/>
                  </a:lnTo>
                  <a:lnTo>
                    <a:pt x="72" y="13"/>
                  </a:lnTo>
                  <a:lnTo>
                    <a:pt x="63" y="12"/>
                  </a:lnTo>
                  <a:lnTo>
                    <a:pt x="56" y="12"/>
                  </a:lnTo>
                  <a:lnTo>
                    <a:pt x="47" y="10"/>
                  </a:lnTo>
                  <a:lnTo>
                    <a:pt x="40" y="9"/>
                  </a:lnTo>
                  <a:lnTo>
                    <a:pt x="32" y="6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0" y="36"/>
                  </a:lnTo>
                  <a:lnTo>
                    <a:pt x="9" y="40"/>
                  </a:lnTo>
                  <a:lnTo>
                    <a:pt x="19" y="44"/>
                  </a:lnTo>
                  <a:lnTo>
                    <a:pt x="30" y="47"/>
                  </a:lnTo>
                  <a:lnTo>
                    <a:pt x="40" y="50"/>
                  </a:lnTo>
                  <a:lnTo>
                    <a:pt x="50" y="52"/>
                  </a:lnTo>
                  <a:lnTo>
                    <a:pt x="60" y="53"/>
                  </a:lnTo>
                  <a:lnTo>
                    <a:pt x="71" y="53"/>
                  </a:lnTo>
                  <a:lnTo>
                    <a:pt x="81" y="54"/>
                  </a:lnTo>
                  <a:lnTo>
                    <a:pt x="101" y="33"/>
                  </a:lnTo>
                  <a:lnTo>
                    <a:pt x="81" y="54"/>
                  </a:lnTo>
                  <a:lnTo>
                    <a:pt x="85" y="53"/>
                  </a:lnTo>
                  <a:lnTo>
                    <a:pt x="89" y="52"/>
                  </a:lnTo>
                  <a:lnTo>
                    <a:pt x="93" y="50"/>
                  </a:lnTo>
                  <a:lnTo>
                    <a:pt x="96" y="47"/>
                  </a:lnTo>
                  <a:lnTo>
                    <a:pt x="98" y="44"/>
                  </a:lnTo>
                  <a:lnTo>
                    <a:pt x="100" y="41"/>
                  </a:lnTo>
                  <a:lnTo>
                    <a:pt x="100" y="37"/>
                  </a:lnTo>
                  <a:lnTo>
                    <a:pt x="101" y="33"/>
                  </a:lnTo>
                  <a:lnTo>
                    <a:pt x="100" y="29"/>
                  </a:lnTo>
                  <a:lnTo>
                    <a:pt x="100" y="26"/>
                  </a:lnTo>
                  <a:lnTo>
                    <a:pt x="98" y="23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89" y="15"/>
                  </a:lnTo>
                  <a:lnTo>
                    <a:pt x="85" y="13"/>
                  </a:lnTo>
                  <a:lnTo>
                    <a:pt x="81" y="13"/>
                  </a:lnTo>
                  <a:lnTo>
                    <a:pt x="60" y="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490920" y="2913120"/>
              <a:ext cx="17280" cy="176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" y="12"/>
                  </a:moveTo>
                  <a:lnTo>
                    <a:pt x="2" y="20"/>
                  </a:lnTo>
                  <a:lnTo>
                    <a:pt x="3" y="14"/>
                  </a:lnTo>
                  <a:lnTo>
                    <a:pt x="10" y="5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9" y="5"/>
                  </a:lnTo>
                  <a:lnTo>
                    <a:pt x="1" y="15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0" y="28"/>
                  </a:lnTo>
                  <a:lnTo>
                    <a:pt x="33" y="38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25" y="41"/>
                  </a:lnTo>
                  <a:lnTo>
                    <a:pt x="35" y="38"/>
                  </a:lnTo>
                  <a:lnTo>
                    <a:pt x="41" y="28"/>
                  </a:lnTo>
                  <a:lnTo>
                    <a:pt x="43" y="20"/>
                  </a:lnTo>
                  <a:lnTo>
                    <a:pt x="41" y="29"/>
                  </a:lnTo>
                  <a:lnTo>
                    <a:pt x="43" y="20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8"/>
                  </a:lnTo>
                  <a:lnTo>
                    <a:pt x="37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483000" y="2894040"/>
              <a:ext cx="25200" cy="30240"/>
            </a:xfrm>
            <a:custGeom>
              <a:avLst/>
              <a:gdLst/>
              <a:ahLst/>
              <a:rect l="l" t="t" r="r" b="b"/>
              <a:pathLst>
                <a:path w="65" h="79">
                  <a:moveTo>
                    <a:pt x="13" y="39"/>
                  </a:moveTo>
                  <a:lnTo>
                    <a:pt x="12" y="39"/>
                  </a:lnTo>
                  <a:lnTo>
                    <a:pt x="16" y="41"/>
                  </a:lnTo>
                  <a:lnTo>
                    <a:pt x="19" y="43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5" y="53"/>
                  </a:lnTo>
                  <a:lnTo>
                    <a:pt x="25" y="56"/>
                  </a:lnTo>
                  <a:lnTo>
                    <a:pt x="23" y="59"/>
                  </a:lnTo>
                  <a:lnTo>
                    <a:pt x="23" y="62"/>
                  </a:lnTo>
                  <a:lnTo>
                    <a:pt x="60" y="79"/>
                  </a:lnTo>
                  <a:lnTo>
                    <a:pt x="63" y="68"/>
                  </a:lnTo>
                  <a:lnTo>
                    <a:pt x="65" y="56"/>
                  </a:lnTo>
                  <a:lnTo>
                    <a:pt x="63" y="45"/>
                  </a:lnTo>
                  <a:lnTo>
                    <a:pt x="60" y="35"/>
                  </a:lnTo>
                  <a:lnTo>
                    <a:pt x="56" y="25"/>
                  </a:lnTo>
                  <a:lnTo>
                    <a:pt x="48" y="15"/>
                  </a:lnTo>
                  <a:lnTo>
                    <a:pt x="40" y="8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2" y="39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463920" y="2892600"/>
              <a:ext cx="30240" cy="2520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38" y="52"/>
                  </a:moveTo>
                  <a:lnTo>
                    <a:pt x="39" y="51"/>
                  </a:lnTo>
                  <a:lnTo>
                    <a:pt x="40" y="48"/>
                  </a:lnTo>
                  <a:lnTo>
                    <a:pt x="42" y="45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41"/>
                  </a:lnTo>
                  <a:lnTo>
                    <a:pt x="54" y="41"/>
                  </a:lnTo>
                  <a:lnTo>
                    <a:pt x="57" y="41"/>
                  </a:lnTo>
                  <a:lnTo>
                    <a:pt x="61" y="42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3" y="0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3" y="10"/>
                  </a:lnTo>
                  <a:lnTo>
                    <a:pt x="14" y="16"/>
                  </a:lnTo>
                  <a:lnTo>
                    <a:pt x="7" y="25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1"/>
                  </a:lnTo>
                  <a:lnTo>
                    <a:pt x="15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7" y="61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6" y="55"/>
                  </a:lnTo>
                  <a:lnTo>
                    <a:pt x="39" y="51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462480" y="2905200"/>
              <a:ext cx="17280" cy="190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30" y="9"/>
                  </a:moveTo>
                  <a:lnTo>
                    <a:pt x="39" y="18"/>
                  </a:lnTo>
                  <a:lnTo>
                    <a:pt x="40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9"/>
                  </a:lnTo>
                  <a:lnTo>
                    <a:pt x="6" y="0"/>
                  </a:lnTo>
                  <a:lnTo>
                    <a:pt x="4" y="4"/>
                  </a:lnTo>
                  <a:lnTo>
                    <a:pt x="3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11" y="45"/>
                  </a:lnTo>
                  <a:lnTo>
                    <a:pt x="2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1" y="46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40" y="34"/>
                  </a:lnTo>
                  <a:lnTo>
                    <a:pt x="41" y="31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289320" y="2765520"/>
              <a:ext cx="79200" cy="61920"/>
            </a:xfrm>
            <a:custGeom>
              <a:avLst/>
              <a:gdLst/>
              <a:ahLst/>
              <a:rect l="l" t="t" r="r" b="b"/>
              <a:pathLst>
                <a:path w="203" h="154">
                  <a:moveTo>
                    <a:pt x="0" y="32"/>
                  </a:moveTo>
                  <a:lnTo>
                    <a:pt x="17" y="25"/>
                  </a:lnTo>
                  <a:lnTo>
                    <a:pt x="32" y="19"/>
                  </a:lnTo>
                  <a:lnTo>
                    <a:pt x="47" y="14"/>
                  </a:lnTo>
                  <a:lnTo>
                    <a:pt x="60" y="10"/>
                  </a:lnTo>
                  <a:lnTo>
                    <a:pt x="73" y="6"/>
                  </a:lnTo>
                  <a:lnTo>
                    <a:pt x="86" y="3"/>
                  </a:lnTo>
                  <a:lnTo>
                    <a:pt x="97" y="1"/>
                  </a:lnTo>
                  <a:lnTo>
                    <a:pt x="107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7" y="2"/>
                  </a:lnTo>
                  <a:lnTo>
                    <a:pt x="144" y="5"/>
                  </a:lnTo>
                  <a:lnTo>
                    <a:pt x="152" y="7"/>
                  </a:lnTo>
                  <a:lnTo>
                    <a:pt x="159" y="10"/>
                  </a:lnTo>
                  <a:lnTo>
                    <a:pt x="166" y="13"/>
                  </a:lnTo>
                  <a:lnTo>
                    <a:pt x="171" y="19"/>
                  </a:lnTo>
                  <a:lnTo>
                    <a:pt x="176" y="23"/>
                  </a:lnTo>
                  <a:lnTo>
                    <a:pt x="181" y="28"/>
                  </a:lnTo>
                  <a:lnTo>
                    <a:pt x="185" y="35"/>
                  </a:lnTo>
                  <a:lnTo>
                    <a:pt x="189" y="41"/>
                  </a:lnTo>
                  <a:lnTo>
                    <a:pt x="193" y="49"/>
                  </a:lnTo>
                  <a:lnTo>
                    <a:pt x="195" y="56"/>
                  </a:lnTo>
                  <a:lnTo>
                    <a:pt x="197" y="64"/>
                  </a:lnTo>
                  <a:lnTo>
                    <a:pt x="199" y="73"/>
                  </a:lnTo>
                  <a:lnTo>
                    <a:pt x="202" y="91"/>
                  </a:lnTo>
                  <a:lnTo>
                    <a:pt x="203" y="110"/>
                  </a:lnTo>
                  <a:lnTo>
                    <a:pt x="202" y="131"/>
                  </a:lnTo>
                  <a:lnTo>
                    <a:pt x="201" y="154"/>
                  </a:lnTo>
                  <a:lnTo>
                    <a:pt x="195" y="136"/>
                  </a:lnTo>
                  <a:lnTo>
                    <a:pt x="187" y="119"/>
                  </a:lnTo>
                  <a:lnTo>
                    <a:pt x="180" y="105"/>
                  </a:lnTo>
                  <a:lnTo>
                    <a:pt x="171" y="91"/>
                  </a:lnTo>
                  <a:lnTo>
                    <a:pt x="160" y="78"/>
                  </a:lnTo>
                  <a:lnTo>
                    <a:pt x="151" y="67"/>
                  </a:lnTo>
                  <a:lnTo>
                    <a:pt x="139" y="57"/>
                  </a:lnTo>
                  <a:lnTo>
                    <a:pt x="126" y="49"/>
                  </a:lnTo>
                  <a:lnTo>
                    <a:pt x="113" y="41"/>
                  </a:lnTo>
                  <a:lnTo>
                    <a:pt x="99" y="36"/>
                  </a:lnTo>
                  <a:lnTo>
                    <a:pt x="85" y="32"/>
                  </a:lnTo>
                  <a:lnTo>
                    <a:pt x="70" y="28"/>
                  </a:lnTo>
                  <a:lnTo>
                    <a:pt x="53" y="27"/>
                  </a:lnTo>
                  <a:lnTo>
                    <a:pt x="36" y="27"/>
                  </a:lnTo>
                  <a:lnTo>
                    <a:pt x="19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286080" y="2757600"/>
              <a:ext cx="90360" cy="77760"/>
            </a:xfrm>
            <a:custGeom>
              <a:avLst/>
              <a:gdLst/>
              <a:ahLst/>
              <a:rect l="l" t="t" r="r" b="b"/>
              <a:pathLst>
                <a:path w="230" h="193">
                  <a:moveTo>
                    <a:pt x="189" y="179"/>
                  </a:moveTo>
                  <a:lnTo>
                    <a:pt x="228" y="175"/>
                  </a:lnTo>
                  <a:lnTo>
                    <a:pt x="230" y="152"/>
                  </a:lnTo>
                  <a:lnTo>
                    <a:pt x="230" y="130"/>
                  </a:lnTo>
                  <a:lnTo>
                    <a:pt x="229" y="109"/>
                  </a:lnTo>
                  <a:lnTo>
                    <a:pt x="227" y="89"/>
                  </a:lnTo>
                  <a:lnTo>
                    <a:pt x="223" y="80"/>
                  </a:lnTo>
                  <a:lnTo>
                    <a:pt x="221" y="70"/>
                  </a:lnTo>
                  <a:lnTo>
                    <a:pt x="218" y="61"/>
                  </a:lnTo>
                  <a:lnTo>
                    <a:pt x="214" y="53"/>
                  </a:lnTo>
                  <a:lnTo>
                    <a:pt x="209" y="44"/>
                  </a:lnTo>
                  <a:lnTo>
                    <a:pt x="204" y="36"/>
                  </a:lnTo>
                  <a:lnTo>
                    <a:pt x="198" y="29"/>
                  </a:lnTo>
                  <a:lnTo>
                    <a:pt x="191" y="22"/>
                  </a:lnTo>
                  <a:lnTo>
                    <a:pt x="183" y="17"/>
                  </a:lnTo>
                  <a:lnTo>
                    <a:pt x="175" y="12"/>
                  </a:lnTo>
                  <a:lnTo>
                    <a:pt x="166" y="8"/>
                  </a:lnTo>
                  <a:lnTo>
                    <a:pt x="156" y="5"/>
                  </a:lnTo>
                  <a:lnTo>
                    <a:pt x="147" y="2"/>
                  </a:lnTo>
                  <a:lnTo>
                    <a:pt x="136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76" y="6"/>
                  </a:lnTo>
                  <a:lnTo>
                    <a:pt x="61" y="10"/>
                  </a:lnTo>
                  <a:lnTo>
                    <a:pt x="47" y="15"/>
                  </a:lnTo>
                  <a:lnTo>
                    <a:pt x="32" y="20"/>
                  </a:lnTo>
                  <a:lnTo>
                    <a:pt x="16" y="27"/>
                  </a:lnTo>
                  <a:lnTo>
                    <a:pt x="0" y="33"/>
                  </a:lnTo>
                  <a:lnTo>
                    <a:pt x="16" y="70"/>
                  </a:lnTo>
                  <a:lnTo>
                    <a:pt x="31" y="63"/>
                  </a:lnTo>
                  <a:lnTo>
                    <a:pt x="46" y="58"/>
                  </a:lnTo>
                  <a:lnTo>
                    <a:pt x="59" y="53"/>
                  </a:lnTo>
                  <a:lnTo>
                    <a:pt x="72" y="49"/>
                  </a:lnTo>
                  <a:lnTo>
                    <a:pt x="85" y="46"/>
                  </a:lnTo>
                  <a:lnTo>
                    <a:pt x="96" y="43"/>
                  </a:lnTo>
                  <a:lnTo>
                    <a:pt x="106" y="42"/>
                  </a:lnTo>
                  <a:lnTo>
                    <a:pt x="115" y="41"/>
                  </a:lnTo>
                  <a:lnTo>
                    <a:pt x="124" y="41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6" y="44"/>
                  </a:lnTo>
                  <a:lnTo>
                    <a:pt x="151" y="45"/>
                  </a:lnTo>
                  <a:lnTo>
                    <a:pt x="156" y="47"/>
                  </a:lnTo>
                  <a:lnTo>
                    <a:pt x="161" y="50"/>
                  </a:lnTo>
                  <a:lnTo>
                    <a:pt x="165" y="54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0" y="76"/>
                  </a:lnTo>
                  <a:lnTo>
                    <a:pt x="182" y="83"/>
                  </a:lnTo>
                  <a:lnTo>
                    <a:pt x="185" y="89"/>
                  </a:lnTo>
                  <a:lnTo>
                    <a:pt x="187" y="96"/>
                  </a:lnTo>
                  <a:lnTo>
                    <a:pt x="189" y="113"/>
                  </a:lnTo>
                  <a:lnTo>
                    <a:pt x="190" y="130"/>
                  </a:lnTo>
                  <a:lnTo>
                    <a:pt x="190" y="151"/>
                  </a:lnTo>
                  <a:lnTo>
                    <a:pt x="188" y="171"/>
                  </a:lnTo>
                  <a:lnTo>
                    <a:pt x="228" y="167"/>
                  </a:lnTo>
                  <a:lnTo>
                    <a:pt x="188" y="171"/>
                  </a:lnTo>
                  <a:lnTo>
                    <a:pt x="188" y="176"/>
                  </a:lnTo>
                  <a:lnTo>
                    <a:pt x="189" y="180"/>
                  </a:lnTo>
                  <a:lnTo>
                    <a:pt x="191" y="184"/>
                  </a:lnTo>
                  <a:lnTo>
                    <a:pt x="193" y="187"/>
                  </a:lnTo>
                  <a:lnTo>
                    <a:pt x="195" y="190"/>
                  </a:lnTo>
                  <a:lnTo>
                    <a:pt x="199" y="192"/>
                  </a:lnTo>
                  <a:lnTo>
                    <a:pt x="203" y="193"/>
                  </a:lnTo>
                  <a:lnTo>
                    <a:pt x="206" y="193"/>
                  </a:lnTo>
                  <a:lnTo>
                    <a:pt x="210" y="193"/>
                  </a:lnTo>
                  <a:lnTo>
                    <a:pt x="214" y="193"/>
                  </a:lnTo>
                  <a:lnTo>
                    <a:pt x="217" y="192"/>
                  </a:lnTo>
                  <a:lnTo>
                    <a:pt x="220" y="190"/>
                  </a:lnTo>
                  <a:lnTo>
                    <a:pt x="223" y="187"/>
                  </a:lnTo>
                  <a:lnTo>
                    <a:pt x="226" y="183"/>
                  </a:lnTo>
                  <a:lnTo>
                    <a:pt x="228" y="180"/>
                  </a:lnTo>
                  <a:lnTo>
                    <a:pt x="228" y="175"/>
                  </a:lnTo>
                  <a:lnTo>
                    <a:pt x="189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279600" y="2768760"/>
              <a:ext cx="96840" cy="60480"/>
            </a:xfrm>
            <a:custGeom>
              <a:avLst/>
              <a:gdLst/>
              <a:ahLst/>
              <a:rect l="l" t="t" r="r" b="b"/>
              <a:pathLst>
                <a:path w="241" h="152">
                  <a:moveTo>
                    <a:pt x="13" y="6"/>
                  </a:moveTo>
                  <a:lnTo>
                    <a:pt x="25" y="45"/>
                  </a:lnTo>
                  <a:lnTo>
                    <a:pt x="41" y="42"/>
                  </a:lnTo>
                  <a:lnTo>
                    <a:pt x="57" y="40"/>
                  </a:lnTo>
                  <a:lnTo>
                    <a:pt x="72" y="40"/>
                  </a:lnTo>
                  <a:lnTo>
                    <a:pt x="86" y="42"/>
                  </a:lnTo>
                  <a:lnTo>
                    <a:pt x="100" y="44"/>
                  </a:lnTo>
                  <a:lnTo>
                    <a:pt x="112" y="47"/>
                  </a:lnTo>
                  <a:lnTo>
                    <a:pt x="124" y="53"/>
                  </a:lnTo>
                  <a:lnTo>
                    <a:pt x="136" y="59"/>
                  </a:lnTo>
                  <a:lnTo>
                    <a:pt x="146" y="66"/>
                  </a:lnTo>
                  <a:lnTo>
                    <a:pt x="157" y="74"/>
                  </a:lnTo>
                  <a:lnTo>
                    <a:pt x="165" y="84"/>
                  </a:lnTo>
                  <a:lnTo>
                    <a:pt x="174" y="96"/>
                  </a:lnTo>
                  <a:lnTo>
                    <a:pt x="182" y="108"/>
                  </a:lnTo>
                  <a:lnTo>
                    <a:pt x="190" y="122"/>
                  </a:lnTo>
                  <a:lnTo>
                    <a:pt x="196" y="136"/>
                  </a:lnTo>
                  <a:lnTo>
                    <a:pt x="202" y="152"/>
                  </a:lnTo>
                  <a:lnTo>
                    <a:pt x="241" y="140"/>
                  </a:lnTo>
                  <a:lnTo>
                    <a:pt x="233" y="122"/>
                  </a:lnTo>
                  <a:lnTo>
                    <a:pt x="226" y="103"/>
                  </a:lnTo>
                  <a:lnTo>
                    <a:pt x="217" y="87"/>
                  </a:lnTo>
                  <a:lnTo>
                    <a:pt x="207" y="72"/>
                  </a:lnTo>
                  <a:lnTo>
                    <a:pt x="196" y="58"/>
                  </a:lnTo>
                  <a:lnTo>
                    <a:pt x="184" y="45"/>
                  </a:lnTo>
                  <a:lnTo>
                    <a:pt x="171" y="34"/>
                  </a:lnTo>
                  <a:lnTo>
                    <a:pt x="157" y="25"/>
                  </a:lnTo>
                  <a:lnTo>
                    <a:pt x="141" y="16"/>
                  </a:lnTo>
                  <a:lnTo>
                    <a:pt x="126" y="9"/>
                  </a:lnTo>
                  <a:lnTo>
                    <a:pt x="109" y="5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36" y="2"/>
                  </a:lnTo>
                  <a:lnTo>
                    <a:pt x="16" y="5"/>
                  </a:lnTo>
                  <a:lnTo>
                    <a:pt x="29" y="4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6" y="45"/>
                  </a:lnTo>
                  <a:lnTo>
                    <a:pt x="20" y="45"/>
                  </a:lnTo>
                  <a:lnTo>
                    <a:pt x="25" y="45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440160" y="2860920"/>
              <a:ext cx="81000" cy="63360"/>
            </a:xfrm>
            <a:custGeom>
              <a:avLst/>
              <a:gdLst/>
              <a:ahLst/>
              <a:rect l="l" t="t" r="r" b="b"/>
              <a:pathLst>
                <a:path w="201" h="160">
                  <a:moveTo>
                    <a:pt x="0" y="39"/>
                  </a:moveTo>
                  <a:lnTo>
                    <a:pt x="15" y="31"/>
                  </a:lnTo>
                  <a:lnTo>
                    <a:pt x="29" y="24"/>
                  </a:lnTo>
                  <a:lnTo>
                    <a:pt x="42" y="17"/>
                  </a:lnTo>
                  <a:lnTo>
                    <a:pt x="55" y="13"/>
                  </a:lnTo>
                  <a:lnTo>
                    <a:pt x="67" y="8"/>
                  </a:lnTo>
                  <a:lnTo>
                    <a:pt x="79" y="5"/>
                  </a:lnTo>
                  <a:lnTo>
                    <a:pt x="89" y="2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7"/>
                  </a:lnTo>
                  <a:lnTo>
                    <a:pt x="154" y="11"/>
                  </a:lnTo>
                  <a:lnTo>
                    <a:pt x="160" y="16"/>
                  </a:lnTo>
                  <a:lnTo>
                    <a:pt x="165" y="20"/>
                  </a:lnTo>
                  <a:lnTo>
                    <a:pt x="169" y="26"/>
                  </a:lnTo>
                  <a:lnTo>
                    <a:pt x="174" y="32"/>
                  </a:lnTo>
                  <a:lnTo>
                    <a:pt x="178" y="40"/>
                  </a:lnTo>
                  <a:lnTo>
                    <a:pt x="186" y="55"/>
                  </a:lnTo>
                  <a:lnTo>
                    <a:pt x="191" y="72"/>
                  </a:lnTo>
                  <a:lnTo>
                    <a:pt x="194" y="92"/>
                  </a:lnTo>
                  <a:lnTo>
                    <a:pt x="197" y="113"/>
                  </a:lnTo>
                  <a:lnTo>
                    <a:pt x="200" y="136"/>
                  </a:lnTo>
                  <a:lnTo>
                    <a:pt x="201" y="160"/>
                  </a:lnTo>
                  <a:lnTo>
                    <a:pt x="194" y="143"/>
                  </a:lnTo>
                  <a:lnTo>
                    <a:pt x="187" y="128"/>
                  </a:lnTo>
                  <a:lnTo>
                    <a:pt x="179" y="113"/>
                  </a:lnTo>
                  <a:lnTo>
                    <a:pt x="169" y="99"/>
                  </a:lnTo>
                  <a:lnTo>
                    <a:pt x="161" y="87"/>
                  </a:lnTo>
                  <a:lnTo>
                    <a:pt x="150" y="75"/>
                  </a:lnTo>
                  <a:lnTo>
                    <a:pt x="138" y="66"/>
                  </a:lnTo>
                  <a:lnTo>
                    <a:pt x="126" y="57"/>
                  </a:lnTo>
                  <a:lnTo>
                    <a:pt x="113" y="49"/>
                  </a:lnTo>
                  <a:lnTo>
                    <a:pt x="100" y="43"/>
                  </a:lnTo>
                  <a:lnTo>
                    <a:pt x="85" y="39"/>
                  </a:lnTo>
                  <a:lnTo>
                    <a:pt x="70" y="35"/>
                  </a:lnTo>
                  <a:lnTo>
                    <a:pt x="54" y="33"/>
                  </a:lnTo>
                  <a:lnTo>
                    <a:pt x="37" y="33"/>
                  </a:lnTo>
                  <a:lnTo>
                    <a:pt x="19" y="3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436920" y="2853000"/>
              <a:ext cx="92160" cy="79200"/>
            </a:xfrm>
            <a:custGeom>
              <a:avLst/>
              <a:gdLst/>
              <a:ahLst/>
              <a:rect l="l" t="t" r="r" b="b"/>
              <a:pathLst>
                <a:path w="231" h="201">
                  <a:moveTo>
                    <a:pt x="191" y="188"/>
                  </a:moveTo>
                  <a:lnTo>
                    <a:pt x="231" y="181"/>
                  </a:lnTo>
                  <a:lnTo>
                    <a:pt x="230" y="156"/>
                  </a:lnTo>
                  <a:lnTo>
                    <a:pt x="228" y="132"/>
                  </a:lnTo>
                  <a:lnTo>
                    <a:pt x="225" y="109"/>
                  </a:lnTo>
                  <a:lnTo>
                    <a:pt x="220" y="88"/>
                  </a:lnTo>
                  <a:lnTo>
                    <a:pt x="214" y="68"/>
                  </a:lnTo>
                  <a:lnTo>
                    <a:pt x="206" y="51"/>
                  </a:lnTo>
                  <a:lnTo>
                    <a:pt x="201" y="42"/>
                  </a:lnTo>
                  <a:lnTo>
                    <a:pt x="196" y="35"/>
                  </a:lnTo>
                  <a:lnTo>
                    <a:pt x="189" y="27"/>
                  </a:lnTo>
                  <a:lnTo>
                    <a:pt x="183" y="21"/>
                  </a:lnTo>
                  <a:lnTo>
                    <a:pt x="175" y="15"/>
                  </a:lnTo>
                  <a:lnTo>
                    <a:pt x="167" y="10"/>
                  </a:lnTo>
                  <a:lnTo>
                    <a:pt x="158" y="7"/>
                  </a:lnTo>
                  <a:lnTo>
                    <a:pt x="149" y="4"/>
                  </a:lnTo>
                  <a:lnTo>
                    <a:pt x="138" y="1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07" y="1"/>
                  </a:lnTo>
                  <a:lnTo>
                    <a:pt x="95" y="4"/>
                  </a:lnTo>
                  <a:lnTo>
                    <a:pt x="83" y="7"/>
                  </a:lnTo>
                  <a:lnTo>
                    <a:pt x="71" y="10"/>
                  </a:lnTo>
                  <a:lnTo>
                    <a:pt x="58" y="14"/>
                  </a:lnTo>
                  <a:lnTo>
                    <a:pt x="44" y="20"/>
                  </a:lnTo>
                  <a:lnTo>
                    <a:pt x="30" y="26"/>
                  </a:lnTo>
                  <a:lnTo>
                    <a:pt x="15" y="34"/>
                  </a:lnTo>
                  <a:lnTo>
                    <a:pt x="0" y="42"/>
                  </a:lnTo>
                  <a:lnTo>
                    <a:pt x="21" y="77"/>
                  </a:lnTo>
                  <a:lnTo>
                    <a:pt x="35" y="69"/>
                  </a:lnTo>
                  <a:lnTo>
                    <a:pt x="48" y="63"/>
                  </a:lnTo>
                  <a:lnTo>
                    <a:pt x="61" y="58"/>
                  </a:lnTo>
                  <a:lnTo>
                    <a:pt x="72" y="52"/>
                  </a:lnTo>
                  <a:lnTo>
                    <a:pt x="83" y="49"/>
                  </a:lnTo>
                  <a:lnTo>
                    <a:pt x="94" y="46"/>
                  </a:lnTo>
                  <a:lnTo>
                    <a:pt x="103" y="43"/>
                  </a:lnTo>
                  <a:lnTo>
                    <a:pt x="111" y="41"/>
                  </a:lnTo>
                  <a:lnTo>
                    <a:pt x="120" y="41"/>
                  </a:lnTo>
                  <a:lnTo>
                    <a:pt x="126" y="41"/>
                  </a:lnTo>
                  <a:lnTo>
                    <a:pt x="133" y="41"/>
                  </a:lnTo>
                  <a:lnTo>
                    <a:pt x="138" y="42"/>
                  </a:lnTo>
                  <a:lnTo>
                    <a:pt x="144" y="45"/>
                  </a:lnTo>
                  <a:lnTo>
                    <a:pt x="148" y="47"/>
                  </a:lnTo>
                  <a:lnTo>
                    <a:pt x="152" y="49"/>
                  </a:lnTo>
                  <a:lnTo>
                    <a:pt x="157" y="52"/>
                  </a:lnTo>
                  <a:lnTo>
                    <a:pt x="160" y="55"/>
                  </a:lnTo>
                  <a:lnTo>
                    <a:pt x="164" y="60"/>
                  </a:lnTo>
                  <a:lnTo>
                    <a:pt x="167" y="64"/>
                  </a:lnTo>
                  <a:lnTo>
                    <a:pt x="170" y="69"/>
                  </a:lnTo>
                  <a:lnTo>
                    <a:pt x="176" y="82"/>
                  </a:lnTo>
                  <a:lnTo>
                    <a:pt x="180" y="99"/>
                  </a:lnTo>
                  <a:lnTo>
                    <a:pt x="185" y="116"/>
                  </a:lnTo>
                  <a:lnTo>
                    <a:pt x="188" y="136"/>
                  </a:lnTo>
                  <a:lnTo>
                    <a:pt x="189" y="158"/>
                  </a:lnTo>
                  <a:lnTo>
                    <a:pt x="190" y="182"/>
                  </a:lnTo>
                  <a:lnTo>
                    <a:pt x="230" y="174"/>
                  </a:lnTo>
                  <a:lnTo>
                    <a:pt x="190" y="182"/>
                  </a:lnTo>
                  <a:lnTo>
                    <a:pt x="191" y="186"/>
                  </a:lnTo>
                  <a:lnTo>
                    <a:pt x="192" y="190"/>
                  </a:lnTo>
                  <a:lnTo>
                    <a:pt x="194" y="194"/>
                  </a:lnTo>
                  <a:lnTo>
                    <a:pt x="198" y="197"/>
                  </a:lnTo>
                  <a:lnTo>
                    <a:pt x="200" y="199"/>
                  </a:lnTo>
                  <a:lnTo>
                    <a:pt x="204" y="200"/>
                  </a:lnTo>
                  <a:lnTo>
                    <a:pt x="207" y="201"/>
                  </a:lnTo>
                  <a:lnTo>
                    <a:pt x="211" y="201"/>
                  </a:lnTo>
                  <a:lnTo>
                    <a:pt x="215" y="201"/>
                  </a:lnTo>
                  <a:lnTo>
                    <a:pt x="218" y="200"/>
                  </a:lnTo>
                  <a:lnTo>
                    <a:pt x="221" y="198"/>
                  </a:lnTo>
                  <a:lnTo>
                    <a:pt x="225" y="196"/>
                  </a:lnTo>
                  <a:lnTo>
                    <a:pt x="227" y="193"/>
                  </a:lnTo>
                  <a:lnTo>
                    <a:pt x="229" y="189"/>
                  </a:lnTo>
                  <a:lnTo>
                    <a:pt x="230" y="185"/>
                  </a:lnTo>
                  <a:lnTo>
                    <a:pt x="231" y="181"/>
                  </a:lnTo>
                  <a:lnTo>
                    <a:pt x="191" y="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433680" y="2865600"/>
              <a:ext cx="95400" cy="6192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10" y="7"/>
                  </a:moveTo>
                  <a:lnTo>
                    <a:pt x="24" y="44"/>
                  </a:lnTo>
                  <a:lnTo>
                    <a:pt x="41" y="41"/>
                  </a:lnTo>
                  <a:lnTo>
                    <a:pt x="58" y="40"/>
                  </a:lnTo>
                  <a:lnTo>
                    <a:pt x="73" y="40"/>
                  </a:lnTo>
                  <a:lnTo>
                    <a:pt x="87" y="41"/>
                  </a:lnTo>
                  <a:lnTo>
                    <a:pt x="100" y="44"/>
                  </a:lnTo>
                  <a:lnTo>
                    <a:pt x="113" y="47"/>
                  </a:lnTo>
                  <a:lnTo>
                    <a:pt x="125" y="53"/>
                  </a:lnTo>
                  <a:lnTo>
                    <a:pt x="135" y="59"/>
                  </a:lnTo>
                  <a:lnTo>
                    <a:pt x="146" y="67"/>
                  </a:lnTo>
                  <a:lnTo>
                    <a:pt x="156" y="77"/>
                  </a:lnTo>
                  <a:lnTo>
                    <a:pt x="165" y="86"/>
                  </a:lnTo>
                  <a:lnTo>
                    <a:pt x="173" y="97"/>
                  </a:lnTo>
                  <a:lnTo>
                    <a:pt x="182" y="110"/>
                  </a:lnTo>
                  <a:lnTo>
                    <a:pt x="188" y="123"/>
                  </a:lnTo>
                  <a:lnTo>
                    <a:pt x="196" y="137"/>
                  </a:lnTo>
                  <a:lnTo>
                    <a:pt x="201" y="153"/>
                  </a:lnTo>
                  <a:lnTo>
                    <a:pt x="240" y="139"/>
                  </a:lnTo>
                  <a:lnTo>
                    <a:pt x="233" y="122"/>
                  </a:lnTo>
                  <a:lnTo>
                    <a:pt x="225" y="105"/>
                  </a:lnTo>
                  <a:lnTo>
                    <a:pt x="216" y="88"/>
                  </a:lnTo>
                  <a:lnTo>
                    <a:pt x="207" y="74"/>
                  </a:lnTo>
                  <a:lnTo>
                    <a:pt x="196" y="60"/>
                  </a:lnTo>
                  <a:lnTo>
                    <a:pt x="184" y="47"/>
                  </a:lnTo>
                  <a:lnTo>
                    <a:pt x="171" y="35"/>
                  </a:lnTo>
                  <a:lnTo>
                    <a:pt x="158" y="26"/>
                  </a:lnTo>
                  <a:lnTo>
                    <a:pt x="143" y="17"/>
                  </a:lnTo>
                  <a:lnTo>
                    <a:pt x="127" y="11"/>
                  </a:lnTo>
                  <a:lnTo>
                    <a:pt x="111" y="5"/>
                  </a:lnTo>
                  <a:lnTo>
                    <a:pt x="93" y="1"/>
                  </a:lnTo>
                  <a:lnTo>
                    <a:pt x="75" y="0"/>
                  </a:lnTo>
                  <a:lnTo>
                    <a:pt x="55" y="0"/>
                  </a:lnTo>
                  <a:lnTo>
                    <a:pt x="36" y="1"/>
                  </a:lnTo>
                  <a:lnTo>
                    <a:pt x="15" y="5"/>
                  </a:lnTo>
                  <a:lnTo>
                    <a:pt x="31" y="42"/>
                  </a:lnTo>
                  <a:lnTo>
                    <a:pt x="15" y="5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4" y="35"/>
                  </a:lnTo>
                  <a:lnTo>
                    <a:pt x="6" y="39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4729320" y="4121280"/>
              <a:ext cx="1228680" cy="514440"/>
            </a:xfrm>
            <a:custGeom>
              <a:avLst/>
              <a:gdLst/>
              <a:ahLst/>
              <a:rect l="l" t="t" r="r" b="b"/>
              <a:pathLst>
                <a:path w="3095" h="1298">
                  <a:moveTo>
                    <a:pt x="0" y="1298"/>
                  </a:moveTo>
                  <a:lnTo>
                    <a:pt x="3095" y="1298"/>
                  </a:lnTo>
                  <a:lnTo>
                    <a:pt x="3095" y="668"/>
                  </a:lnTo>
                  <a:lnTo>
                    <a:pt x="341" y="0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4729320" y="4627800"/>
              <a:ext cx="1236600" cy="15840"/>
            </a:xfrm>
            <a:custGeom>
              <a:avLst/>
              <a:gdLst/>
              <a:ahLst/>
              <a:rect l="l" t="t" r="r" b="b"/>
              <a:pathLst>
                <a:path w="3115" h="40">
                  <a:moveTo>
                    <a:pt x="3115" y="20"/>
                  </a:moveTo>
                  <a:lnTo>
                    <a:pt x="3095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095" y="40"/>
                  </a:lnTo>
                  <a:lnTo>
                    <a:pt x="3115" y="20"/>
                  </a:lnTo>
                  <a:lnTo>
                    <a:pt x="3095" y="40"/>
                  </a:lnTo>
                  <a:lnTo>
                    <a:pt x="3099" y="40"/>
                  </a:lnTo>
                  <a:lnTo>
                    <a:pt x="3103" y="39"/>
                  </a:lnTo>
                  <a:lnTo>
                    <a:pt x="3106" y="36"/>
                  </a:lnTo>
                  <a:lnTo>
                    <a:pt x="3110" y="33"/>
                  </a:lnTo>
                  <a:lnTo>
                    <a:pt x="3112" y="31"/>
                  </a:lnTo>
                  <a:lnTo>
                    <a:pt x="3114" y="27"/>
                  </a:lnTo>
                  <a:lnTo>
                    <a:pt x="3114" y="23"/>
                  </a:lnTo>
                  <a:lnTo>
                    <a:pt x="3115" y="20"/>
                  </a:lnTo>
                  <a:lnTo>
                    <a:pt x="3114" y="16"/>
                  </a:lnTo>
                  <a:lnTo>
                    <a:pt x="3114" y="13"/>
                  </a:lnTo>
                  <a:lnTo>
                    <a:pt x="3112" y="9"/>
                  </a:lnTo>
                  <a:lnTo>
                    <a:pt x="3110" y="6"/>
                  </a:lnTo>
                  <a:lnTo>
                    <a:pt x="3106" y="3"/>
                  </a:lnTo>
                  <a:lnTo>
                    <a:pt x="3103" y="1"/>
                  </a:lnTo>
                  <a:lnTo>
                    <a:pt x="3099" y="0"/>
                  </a:lnTo>
                  <a:lnTo>
                    <a:pt x="3095" y="0"/>
                  </a:lnTo>
                  <a:lnTo>
                    <a:pt x="3115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5950080" y="4378320"/>
              <a:ext cx="15840" cy="257400"/>
            </a:xfrm>
            <a:custGeom>
              <a:avLst/>
              <a:gdLst/>
              <a:ahLst/>
              <a:rect l="l" t="t" r="r" b="b"/>
              <a:pathLst>
                <a:path w="41" h="651">
                  <a:moveTo>
                    <a:pt x="25" y="1"/>
                  </a:moveTo>
                  <a:lnTo>
                    <a:pt x="0" y="21"/>
                  </a:lnTo>
                  <a:lnTo>
                    <a:pt x="0" y="651"/>
                  </a:lnTo>
                  <a:lnTo>
                    <a:pt x="41" y="651"/>
                  </a:lnTo>
                  <a:lnTo>
                    <a:pt x="41" y="21"/>
                  </a:lnTo>
                  <a:lnTo>
                    <a:pt x="25" y="1"/>
                  </a:lnTo>
                  <a:lnTo>
                    <a:pt x="41" y="21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5" y="5"/>
                  </a:lnTo>
                  <a:lnTo>
                    <a:pt x="31" y="3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5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4856040" y="4113360"/>
              <a:ext cx="1103400" cy="279360"/>
            </a:xfrm>
            <a:custGeom>
              <a:avLst/>
              <a:gdLst/>
              <a:ahLst/>
              <a:rect l="l" t="t" r="r" b="b"/>
              <a:pathLst>
                <a:path w="2779" h="706">
                  <a:moveTo>
                    <a:pt x="2" y="15"/>
                  </a:moveTo>
                  <a:lnTo>
                    <a:pt x="16" y="40"/>
                  </a:lnTo>
                  <a:lnTo>
                    <a:pt x="2770" y="706"/>
                  </a:lnTo>
                  <a:lnTo>
                    <a:pt x="2779" y="667"/>
                  </a:lnTo>
                  <a:lnTo>
                    <a:pt x="25" y="0"/>
                  </a:lnTo>
                  <a:lnTo>
                    <a:pt x="2" y="1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8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1" y="37"/>
                  </a:lnTo>
                  <a:lnTo>
                    <a:pt x="16" y="4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721400" y="4119840"/>
              <a:ext cx="150480" cy="523800"/>
            </a:xfrm>
            <a:custGeom>
              <a:avLst/>
              <a:gdLst/>
              <a:ahLst/>
              <a:rect l="l" t="t" r="r" b="b"/>
              <a:pathLst>
                <a:path w="381" h="1322">
                  <a:moveTo>
                    <a:pt x="21" y="1322"/>
                  </a:moveTo>
                  <a:lnTo>
                    <a:pt x="40" y="1307"/>
                  </a:lnTo>
                  <a:lnTo>
                    <a:pt x="381" y="9"/>
                  </a:lnTo>
                  <a:lnTo>
                    <a:pt x="343" y="0"/>
                  </a:lnTo>
                  <a:lnTo>
                    <a:pt x="1" y="1297"/>
                  </a:lnTo>
                  <a:lnTo>
                    <a:pt x="21" y="1322"/>
                  </a:lnTo>
                  <a:lnTo>
                    <a:pt x="1" y="1297"/>
                  </a:lnTo>
                  <a:lnTo>
                    <a:pt x="0" y="1301"/>
                  </a:lnTo>
                  <a:lnTo>
                    <a:pt x="0" y="1305"/>
                  </a:lnTo>
                  <a:lnTo>
                    <a:pt x="1" y="1310"/>
                  </a:lnTo>
                  <a:lnTo>
                    <a:pt x="3" y="1313"/>
                  </a:lnTo>
                  <a:lnTo>
                    <a:pt x="6" y="1316"/>
                  </a:lnTo>
                  <a:lnTo>
                    <a:pt x="9" y="1318"/>
                  </a:lnTo>
                  <a:lnTo>
                    <a:pt x="12" y="1321"/>
                  </a:lnTo>
                  <a:lnTo>
                    <a:pt x="15" y="1322"/>
                  </a:lnTo>
                  <a:lnTo>
                    <a:pt x="19" y="1322"/>
                  </a:lnTo>
                  <a:lnTo>
                    <a:pt x="23" y="1322"/>
                  </a:lnTo>
                  <a:lnTo>
                    <a:pt x="26" y="1322"/>
                  </a:lnTo>
                  <a:lnTo>
                    <a:pt x="30" y="1320"/>
                  </a:lnTo>
                  <a:lnTo>
                    <a:pt x="34" y="1317"/>
                  </a:lnTo>
                  <a:lnTo>
                    <a:pt x="36" y="1315"/>
                  </a:lnTo>
                  <a:lnTo>
                    <a:pt x="38" y="1311"/>
                  </a:lnTo>
                  <a:lnTo>
                    <a:pt x="40" y="1307"/>
                  </a:lnTo>
                  <a:lnTo>
                    <a:pt x="21" y="13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460760" y="4505400"/>
              <a:ext cx="436680" cy="176400"/>
            </a:xfrm>
            <a:custGeom>
              <a:avLst/>
              <a:gdLst/>
              <a:ahLst/>
              <a:rect l="l" t="t" r="r" b="b"/>
              <a:pathLst>
                <a:path w="1100" h="446">
                  <a:moveTo>
                    <a:pt x="115" y="51"/>
                  </a:moveTo>
                  <a:lnTo>
                    <a:pt x="128" y="44"/>
                  </a:lnTo>
                  <a:lnTo>
                    <a:pt x="140" y="38"/>
                  </a:lnTo>
                  <a:lnTo>
                    <a:pt x="153" y="32"/>
                  </a:lnTo>
                  <a:lnTo>
                    <a:pt x="165" y="27"/>
                  </a:lnTo>
                  <a:lnTo>
                    <a:pt x="191" y="18"/>
                  </a:lnTo>
                  <a:lnTo>
                    <a:pt x="216" y="12"/>
                  </a:lnTo>
                  <a:lnTo>
                    <a:pt x="242" y="6"/>
                  </a:lnTo>
                  <a:lnTo>
                    <a:pt x="268" y="3"/>
                  </a:lnTo>
                  <a:lnTo>
                    <a:pt x="293" y="1"/>
                  </a:lnTo>
                  <a:lnTo>
                    <a:pt x="318" y="0"/>
                  </a:lnTo>
                  <a:lnTo>
                    <a:pt x="344" y="0"/>
                  </a:lnTo>
                  <a:lnTo>
                    <a:pt x="369" y="1"/>
                  </a:lnTo>
                  <a:lnTo>
                    <a:pt x="393" y="2"/>
                  </a:lnTo>
                  <a:lnTo>
                    <a:pt x="417" y="4"/>
                  </a:lnTo>
                  <a:lnTo>
                    <a:pt x="462" y="8"/>
                  </a:lnTo>
                  <a:lnTo>
                    <a:pt x="503" y="14"/>
                  </a:lnTo>
                  <a:lnTo>
                    <a:pt x="509" y="22"/>
                  </a:lnTo>
                  <a:lnTo>
                    <a:pt x="514" y="30"/>
                  </a:lnTo>
                  <a:lnTo>
                    <a:pt x="518" y="38"/>
                  </a:lnTo>
                  <a:lnTo>
                    <a:pt x="520" y="44"/>
                  </a:lnTo>
                  <a:lnTo>
                    <a:pt x="521" y="51"/>
                  </a:lnTo>
                  <a:lnTo>
                    <a:pt x="522" y="56"/>
                  </a:lnTo>
                  <a:lnTo>
                    <a:pt x="521" y="61"/>
                  </a:lnTo>
                  <a:lnTo>
                    <a:pt x="520" y="67"/>
                  </a:lnTo>
                  <a:lnTo>
                    <a:pt x="517" y="71"/>
                  </a:lnTo>
                  <a:lnTo>
                    <a:pt x="514" y="75"/>
                  </a:lnTo>
                  <a:lnTo>
                    <a:pt x="510" y="80"/>
                  </a:lnTo>
                  <a:lnTo>
                    <a:pt x="505" y="84"/>
                  </a:lnTo>
                  <a:lnTo>
                    <a:pt x="494" y="90"/>
                  </a:lnTo>
                  <a:lnTo>
                    <a:pt x="482" y="96"/>
                  </a:lnTo>
                  <a:lnTo>
                    <a:pt x="453" y="107"/>
                  </a:lnTo>
                  <a:lnTo>
                    <a:pt x="422" y="117"/>
                  </a:lnTo>
                  <a:lnTo>
                    <a:pt x="408" y="123"/>
                  </a:lnTo>
                  <a:lnTo>
                    <a:pt x="395" y="128"/>
                  </a:lnTo>
                  <a:lnTo>
                    <a:pt x="383" y="135"/>
                  </a:lnTo>
                  <a:lnTo>
                    <a:pt x="374" y="142"/>
                  </a:lnTo>
                  <a:lnTo>
                    <a:pt x="404" y="146"/>
                  </a:lnTo>
                  <a:lnTo>
                    <a:pt x="432" y="148"/>
                  </a:lnTo>
                  <a:lnTo>
                    <a:pt x="460" y="152"/>
                  </a:lnTo>
                  <a:lnTo>
                    <a:pt x="487" y="155"/>
                  </a:lnTo>
                  <a:lnTo>
                    <a:pt x="514" y="161"/>
                  </a:lnTo>
                  <a:lnTo>
                    <a:pt x="541" y="166"/>
                  </a:lnTo>
                  <a:lnTo>
                    <a:pt x="567" y="171"/>
                  </a:lnTo>
                  <a:lnTo>
                    <a:pt x="593" y="178"/>
                  </a:lnTo>
                  <a:lnTo>
                    <a:pt x="617" y="184"/>
                  </a:lnTo>
                  <a:lnTo>
                    <a:pt x="641" y="192"/>
                  </a:lnTo>
                  <a:lnTo>
                    <a:pt x="666" y="200"/>
                  </a:lnTo>
                  <a:lnTo>
                    <a:pt x="690" y="208"/>
                  </a:lnTo>
                  <a:lnTo>
                    <a:pt x="736" y="227"/>
                  </a:lnTo>
                  <a:lnTo>
                    <a:pt x="780" y="246"/>
                  </a:lnTo>
                  <a:lnTo>
                    <a:pt x="824" y="267"/>
                  </a:lnTo>
                  <a:lnTo>
                    <a:pt x="866" y="289"/>
                  </a:lnTo>
                  <a:lnTo>
                    <a:pt x="907" y="313"/>
                  </a:lnTo>
                  <a:lnTo>
                    <a:pt x="948" y="338"/>
                  </a:lnTo>
                  <a:lnTo>
                    <a:pt x="987" y="364"/>
                  </a:lnTo>
                  <a:lnTo>
                    <a:pt x="1026" y="390"/>
                  </a:lnTo>
                  <a:lnTo>
                    <a:pt x="1063" y="418"/>
                  </a:lnTo>
                  <a:lnTo>
                    <a:pt x="1100" y="446"/>
                  </a:lnTo>
                  <a:lnTo>
                    <a:pt x="967" y="435"/>
                  </a:lnTo>
                  <a:lnTo>
                    <a:pt x="830" y="423"/>
                  </a:lnTo>
                  <a:lnTo>
                    <a:pt x="691" y="411"/>
                  </a:lnTo>
                  <a:lnTo>
                    <a:pt x="549" y="399"/>
                  </a:lnTo>
                  <a:lnTo>
                    <a:pt x="409" y="387"/>
                  </a:lnTo>
                  <a:lnTo>
                    <a:pt x="270" y="375"/>
                  </a:lnTo>
                  <a:lnTo>
                    <a:pt x="133" y="364"/>
                  </a:lnTo>
                  <a:lnTo>
                    <a:pt x="0" y="353"/>
                  </a:lnTo>
                  <a:lnTo>
                    <a:pt x="14" y="315"/>
                  </a:lnTo>
                  <a:lnTo>
                    <a:pt x="29" y="277"/>
                  </a:lnTo>
                  <a:lnTo>
                    <a:pt x="44" y="240"/>
                  </a:lnTo>
                  <a:lnTo>
                    <a:pt x="59" y="201"/>
                  </a:lnTo>
                  <a:lnTo>
                    <a:pt x="73" y="163"/>
                  </a:lnTo>
                  <a:lnTo>
                    <a:pt x="88" y="124"/>
                  </a:lnTo>
                  <a:lnTo>
                    <a:pt x="102" y="87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4502160" y="4497480"/>
              <a:ext cx="166680" cy="34920"/>
            </a:xfrm>
            <a:custGeom>
              <a:avLst/>
              <a:gdLst/>
              <a:ahLst/>
              <a:rect l="l" t="t" r="r" b="b"/>
              <a:pathLst>
                <a:path w="417" h="89">
                  <a:moveTo>
                    <a:pt x="413" y="22"/>
                  </a:moveTo>
                  <a:lnTo>
                    <a:pt x="399" y="14"/>
                  </a:lnTo>
                  <a:lnTo>
                    <a:pt x="358" y="10"/>
                  </a:lnTo>
                  <a:lnTo>
                    <a:pt x="313" y="5"/>
                  </a:lnTo>
                  <a:lnTo>
                    <a:pt x="289" y="2"/>
                  </a:lnTo>
                  <a:lnTo>
                    <a:pt x="264" y="1"/>
                  </a:lnTo>
                  <a:lnTo>
                    <a:pt x="238" y="0"/>
                  </a:lnTo>
                  <a:lnTo>
                    <a:pt x="212" y="0"/>
                  </a:lnTo>
                  <a:lnTo>
                    <a:pt x="186" y="1"/>
                  </a:lnTo>
                  <a:lnTo>
                    <a:pt x="159" y="3"/>
                  </a:lnTo>
                  <a:lnTo>
                    <a:pt x="132" y="8"/>
                  </a:lnTo>
                  <a:lnTo>
                    <a:pt x="105" y="12"/>
                  </a:lnTo>
                  <a:lnTo>
                    <a:pt x="78" y="20"/>
                  </a:lnTo>
                  <a:lnTo>
                    <a:pt x="52" y="28"/>
                  </a:lnTo>
                  <a:lnTo>
                    <a:pt x="38" y="34"/>
                  </a:lnTo>
                  <a:lnTo>
                    <a:pt x="25" y="40"/>
                  </a:lnTo>
                  <a:lnTo>
                    <a:pt x="12" y="47"/>
                  </a:lnTo>
                  <a:lnTo>
                    <a:pt x="0" y="54"/>
                  </a:lnTo>
                  <a:lnTo>
                    <a:pt x="20" y="89"/>
                  </a:lnTo>
                  <a:lnTo>
                    <a:pt x="31" y="82"/>
                  </a:lnTo>
                  <a:lnTo>
                    <a:pt x="43" y="77"/>
                  </a:lnTo>
                  <a:lnTo>
                    <a:pt x="55" y="72"/>
                  </a:lnTo>
                  <a:lnTo>
                    <a:pt x="66" y="67"/>
                  </a:lnTo>
                  <a:lnTo>
                    <a:pt x="90" y="59"/>
                  </a:lnTo>
                  <a:lnTo>
                    <a:pt x="115" y="52"/>
                  </a:lnTo>
                  <a:lnTo>
                    <a:pt x="139" y="47"/>
                  </a:lnTo>
                  <a:lnTo>
                    <a:pt x="164" y="43"/>
                  </a:lnTo>
                  <a:lnTo>
                    <a:pt x="188" y="41"/>
                  </a:lnTo>
                  <a:lnTo>
                    <a:pt x="213" y="40"/>
                  </a:lnTo>
                  <a:lnTo>
                    <a:pt x="238" y="40"/>
                  </a:lnTo>
                  <a:lnTo>
                    <a:pt x="262" y="41"/>
                  </a:lnTo>
                  <a:lnTo>
                    <a:pt x="286" y="43"/>
                  </a:lnTo>
                  <a:lnTo>
                    <a:pt x="308" y="45"/>
                  </a:lnTo>
                  <a:lnTo>
                    <a:pt x="354" y="50"/>
                  </a:lnTo>
                  <a:lnTo>
                    <a:pt x="395" y="54"/>
                  </a:lnTo>
                  <a:lnTo>
                    <a:pt x="382" y="47"/>
                  </a:lnTo>
                  <a:lnTo>
                    <a:pt x="395" y="54"/>
                  </a:lnTo>
                  <a:lnTo>
                    <a:pt x="399" y="55"/>
                  </a:lnTo>
                  <a:lnTo>
                    <a:pt x="403" y="54"/>
                  </a:lnTo>
                  <a:lnTo>
                    <a:pt x="408" y="52"/>
                  </a:lnTo>
                  <a:lnTo>
                    <a:pt x="411" y="50"/>
                  </a:lnTo>
                  <a:lnTo>
                    <a:pt x="413" y="48"/>
                  </a:lnTo>
                  <a:lnTo>
                    <a:pt x="415" y="45"/>
                  </a:lnTo>
                  <a:lnTo>
                    <a:pt x="416" y="40"/>
                  </a:lnTo>
                  <a:lnTo>
                    <a:pt x="417" y="37"/>
                  </a:lnTo>
                  <a:lnTo>
                    <a:pt x="417" y="33"/>
                  </a:lnTo>
                  <a:lnTo>
                    <a:pt x="416" y="29"/>
                  </a:lnTo>
                  <a:lnTo>
                    <a:pt x="415" y="26"/>
                  </a:lnTo>
                  <a:lnTo>
                    <a:pt x="414" y="23"/>
                  </a:lnTo>
                  <a:lnTo>
                    <a:pt x="411" y="20"/>
                  </a:lnTo>
                  <a:lnTo>
                    <a:pt x="408" y="18"/>
                  </a:lnTo>
                  <a:lnTo>
                    <a:pt x="404" y="15"/>
                  </a:lnTo>
                  <a:lnTo>
                    <a:pt x="399" y="14"/>
                  </a:lnTo>
                  <a:lnTo>
                    <a:pt x="413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600440" y="4505400"/>
              <a:ext cx="74880" cy="63720"/>
            </a:xfrm>
            <a:custGeom>
              <a:avLst/>
              <a:gdLst/>
              <a:ahLst/>
              <a:rect l="l" t="t" r="r" b="b"/>
              <a:pathLst>
                <a:path w="188" h="162">
                  <a:moveTo>
                    <a:pt x="21" y="122"/>
                  </a:moveTo>
                  <a:lnTo>
                    <a:pt x="34" y="155"/>
                  </a:lnTo>
                  <a:lnTo>
                    <a:pt x="41" y="151"/>
                  </a:lnTo>
                  <a:lnTo>
                    <a:pt x="50" y="146"/>
                  </a:lnTo>
                  <a:lnTo>
                    <a:pt x="61" y="140"/>
                  </a:lnTo>
                  <a:lnTo>
                    <a:pt x="74" y="135"/>
                  </a:lnTo>
                  <a:lnTo>
                    <a:pt x="106" y="125"/>
                  </a:lnTo>
                  <a:lnTo>
                    <a:pt x="135" y="114"/>
                  </a:lnTo>
                  <a:lnTo>
                    <a:pt x="150" y="107"/>
                  </a:lnTo>
                  <a:lnTo>
                    <a:pt x="163" y="99"/>
                  </a:lnTo>
                  <a:lnTo>
                    <a:pt x="169" y="94"/>
                  </a:lnTo>
                  <a:lnTo>
                    <a:pt x="176" y="87"/>
                  </a:lnTo>
                  <a:lnTo>
                    <a:pt x="180" y="81"/>
                  </a:lnTo>
                  <a:lnTo>
                    <a:pt x="185" y="73"/>
                  </a:lnTo>
                  <a:lnTo>
                    <a:pt x="187" y="65"/>
                  </a:lnTo>
                  <a:lnTo>
                    <a:pt x="188" y="56"/>
                  </a:lnTo>
                  <a:lnTo>
                    <a:pt x="188" y="46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9"/>
                  </a:lnTo>
                  <a:lnTo>
                    <a:pt x="172" y="10"/>
                  </a:lnTo>
                  <a:lnTo>
                    <a:pt x="165" y="0"/>
                  </a:lnTo>
                  <a:lnTo>
                    <a:pt x="134" y="25"/>
                  </a:lnTo>
                  <a:lnTo>
                    <a:pt x="138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8" y="52"/>
                  </a:lnTo>
                  <a:lnTo>
                    <a:pt x="148" y="55"/>
                  </a:lnTo>
                  <a:lnTo>
                    <a:pt x="148" y="56"/>
                  </a:lnTo>
                  <a:lnTo>
                    <a:pt x="147" y="58"/>
                  </a:lnTo>
                  <a:lnTo>
                    <a:pt x="146" y="59"/>
                  </a:lnTo>
                  <a:lnTo>
                    <a:pt x="145" y="61"/>
                  </a:lnTo>
                  <a:lnTo>
                    <a:pt x="142" y="64"/>
                  </a:lnTo>
                  <a:lnTo>
                    <a:pt x="140" y="66"/>
                  </a:lnTo>
                  <a:lnTo>
                    <a:pt x="131" y="71"/>
                  </a:lnTo>
                  <a:lnTo>
                    <a:pt x="121" y="77"/>
                  </a:lnTo>
                  <a:lnTo>
                    <a:pt x="92" y="87"/>
                  </a:lnTo>
                  <a:lnTo>
                    <a:pt x="61" y="97"/>
                  </a:lnTo>
                  <a:lnTo>
                    <a:pt x="46" y="102"/>
                  </a:lnTo>
                  <a:lnTo>
                    <a:pt x="31" y="109"/>
                  </a:lnTo>
                  <a:lnTo>
                    <a:pt x="17" y="118"/>
                  </a:lnTo>
                  <a:lnTo>
                    <a:pt x="5" y="128"/>
                  </a:lnTo>
                  <a:lnTo>
                    <a:pt x="18" y="162"/>
                  </a:lnTo>
                  <a:lnTo>
                    <a:pt x="5" y="128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2" y="150"/>
                  </a:lnTo>
                  <a:lnTo>
                    <a:pt x="3" y="153"/>
                  </a:lnTo>
                  <a:lnTo>
                    <a:pt x="6" y="156"/>
                  </a:lnTo>
                  <a:lnTo>
                    <a:pt x="9" y="159"/>
                  </a:lnTo>
                  <a:lnTo>
                    <a:pt x="12" y="161"/>
                  </a:lnTo>
                  <a:lnTo>
                    <a:pt x="16" y="162"/>
                  </a:lnTo>
                  <a:lnTo>
                    <a:pt x="19" y="162"/>
                  </a:lnTo>
                  <a:lnTo>
                    <a:pt x="24" y="162"/>
                  </a:lnTo>
                  <a:lnTo>
                    <a:pt x="27" y="161"/>
                  </a:lnTo>
                  <a:lnTo>
                    <a:pt x="31" y="159"/>
                  </a:lnTo>
                  <a:lnTo>
                    <a:pt x="34" y="155"/>
                  </a:lnTo>
                  <a:lnTo>
                    <a:pt x="21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4608360" y="4552920"/>
              <a:ext cx="297000" cy="136800"/>
            </a:xfrm>
            <a:custGeom>
              <a:avLst/>
              <a:gdLst/>
              <a:ahLst/>
              <a:rect l="l" t="t" r="r" b="b"/>
              <a:pathLst>
                <a:path w="749" h="343">
                  <a:moveTo>
                    <a:pt x="727" y="342"/>
                  </a:moveTo>
                  <a:lnTo>
                    <a:pt x="741" y="307"/>
                  </a:lnTo>
                  <a:lnTo>
                    <a:pt x="703" y="279"/>
                  </a:lnTo>
                  <a:lnTo>
                    <a:pt x="664" y="250"/>
                  </a:lnTo>
                  <a:lnTo>
                    <a:pt x="625" y="223"/>
                  </a:lnTo>
                  <a:lnTo>
                    <a:pt x="587" y="198"/>
                  </a:lnTo>
                  <a:lnTo>
                    <a:pt x="546" y="173"/>
                  </a:lnTo>
                  <a:lnTo>
                    <a:pt x="505" y="149"/>
                  </a:lnTo>
                  <a:lnTo>
                    <a:pt x="461" y="126"/>
                  </a:lnTo>
                  <a:lnTo>
                    <a:pt x="417" y="105"/>
                  </a:lnTo>
                  <a:lnTo>
                    <a:pt x="372" y="84"/>
                  </a:lnTo>
                  <a:lnTo>
                    <a:pt x="324" y="67"/>
                  </a:lnTo>
                  <a:lnTo>
                    <a:pt x="300" y="58"/>
                  </a:lnTo>
                  <a:lnTo>
                    <a:pt x="276" y="50"/>
                  </a:lnTo>
                  <a:lnTo>
                    <a:pt x="251" y="42"/>
                  </a:lnTo>
                  <a:lnTo>
                    <a:pt x="225" y="36"/>
                  </a:lnTo>
                  <a:lnTo>
                    <a:pt x="199" y="29"/>
                  </a:lnTo>
                  <a:lnTo>
                    <a:pt x="173" y="23"/>
                  </a:lnTo>
                  <a:lnTo>
                    <a:pt x="146" y="17"/>
                  </a:lnTo>
                  <a:lnTo>
                    <a:pt x="118" y="13"/>
                  </a:lnTo>
                  <a:lnTo>
                    <a:pt x="91" y="9"/>
                  </a:lnTo>
                  <a:lnTo>
                    <a:pt x="62" y="5"/>
                  </a:lnTo>
                  <a:lnTo>
                    <a:pt x="33" y="2"/>
                  </a:lnTo>
                  <a:lnTo>
                    <a:pt x="3" y="0"/>
                  </a:lnTo>
                  <a:lnTo>
                    <a:pt x="0" y="40"/>
                  </a:lnTo>
                  <a:lnTo>
                    <a:pt x="29" y="42"/>
                  </a:lnTo>
                  <a:lnTo>
                    <a:pt x="57" y="45"/>
                  </a:lnTo>
                  <a:lnTo>
                    <a:pt x="84" y="48"/>
                  </a:lnTo>
                  <a:lnTo>
                    <a:pt x="111" y="53"/>
                  </a:lnTo>
                  <a:lnTo>
                    <a:pt x="138" y="57"/>
                  </a:lnTo>
                  <a:lnTo>
                    <a:pt x="164" y="63"/>
                  </a:lnTo>
                  <a:lnTo>
                    <a:pt x="190" y="68"/>
                  </a:lnTo>
                  <a:lnTo>
                    <a:pt x="215" y="74"/>
                  </a:lnTo>
                  <a:lnTo>
                    <a:pt x="240" y="81"/>
                  </a:lnTo>
                  <a:lnTo>
                    <a:pt x="264" y="88"/>
                  </a:lnTo>
                  <a:lnTo>
                    <a:pt x="287" y="96"/>
                  </a:lnTo>
                  <a:lnTo>
                    <a:pt x="310" y="105"/>
                  </a:lnTo>
                  <a:lnTo>
                    <a:pt x="357" y="122"/>
                  </a:lnTo>
                  <a:lnTo>
                    <a:pt x="400" y="141"/>
                  </a:lnTo>
                  <a:lnTo>
                    <a:pt x="443" y="162"/>
                  </a:lnTo>
                  <a:lnTo>
                    <a:pt x="484" y="183"/>
                  </a:lnTo>
                  <a:lnTo>
                    <a:pt x="525" y="207"/>
                  </a:lnTo>
                  <a:lnTo>
                    <a:pt x="565" y="232"/>
                  </a:lnTo>
                  <a:lnTo>
                    <a:pt x="603" y="257"/>
                  </a:lnTo>
                  <a:lnTo>
                    <a:pt x="642" y="284"/>
                  </a:lnTo>
                  <a:lnTo>
                    <a:pt x="679" y="311"/>
                  </a:lnTo>
                  <a:lnTo>
                    <a:pt x="716" y="339"/>
                  </a:lnTo>
                  <a:lnTo>
                    <a:pt x="730" y="302"/>
                  </a:lnTo>
                  <a:lnTo>
                    <a:pt x="716" y="339"/>
                  </a:lnTo>
                  <a:lnTo>
                    <a:pt x="720" y="341"/>
                  </a:lnTo>
                  <a:lnTo>
                    <a:pt x="725" y="342"/>
                  </a:lnTo>
                  <a:lnTo>
                    <a:pt x="728" y="343"/>
                  </a:lnTo>
                  <a:lnTo>
                    <a:pt x="732" y="342"/>
                  </a:lnTo>
                  <a:lnTo>
                    <a:pt x="736" y="341"/>
                  </a:lnTo>
                  <a:lnTo>
                    <a:pt x="739" y="340"/>
                  </a:lnTo>
                  <a:lnTo>
                    <a:pt x="742" y="338"/>
                  </a:lnTo>
                  <a:lnTo>
                    <a:pt x="744" y="335"/>
                  </a:lnTo>
                  <a:lnTo>
                    <a:pt x="746" y="331"/>
                  </a:lnTo>
                  <a:lnTo>
                    <a:pt x="749" y="328"/>
                  </a:lnTo>
                  <a:lnTo>
                    <a:pt x="749" y="324"/>
                  </a:lnTo>
                  <a:lnTo>
                    <a:pt x="749" y="321"/>
                  </a:lnTo>
                  <a:lnTo>
                    <a:pt x="749" y="316"/>
                  </a:lnTo>
                  <a:lnTo>
                    <a:pt x="746" y="313"/>
                  </a:lnTo>
                  <a:lnTo>
                    <a:pt x="744" y="310"/>
                  </a:lnTo>
                  <a:lnTo>
                    <a:pt x="741" y="307"/>
                  </a:lnTo>
                  <a:lnTo>
                    <a:pt x="727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4452840" y="4637160"/>
              <a:ext cx="444600" cy="52560"/>
            </a:xfrm>
            <a:custGeom>
              <a:avLst/>
              <a:gdLst/>
              <a:ahLst/>
              <a:rect l="l" t="t" r="r" b="b"/>
              <a:pathLst>
                <a:path w="1122" h="133">
                  <a:moveTo>
                    <a:pt x="1" y="13"/>
                  </a:moveTo>
                  <a:lnTo>
                    <a:pt x="19" y="41"/>
                  </a:lnTo>
                  <a:lnTo>
                    <a:pt x="151" y="52"/>
                  </a:lnTo>
                  <a:lnTo>
                    <a:pt x="288" y="63"/>
                  </a:lnTo>
                  <a:lnTo>
                    <a:pt x="427" y="75"/>
                  </a:lnTo>
                  <a:lnTo>
                    <a:pt x="568" y="88"/>
                  </a:lnTo>
                  <a:lnTo>
                    <a:pt x="709" y="100"/>
                  </a:lnTo>
                  <a:lnTo>
                    <a:pt x="849" y="112"/>
                  </a:lnTo>
                  <a:lnTo>
                    <a:pt x="986" y="124"/>
                  </a:lnTo>
                  <a:lnTo>
                    <a:pt x="1119" y="133"/>
                  </a:lnTo>
                  <a:lnTo>
                    <a:pt x="1122" y="93"/>
                  </a:lnTo>
                  <a:lnTo>
                    <a:pt x="989" y="82"/>
                  </a:lnTo>
                  <a:lnTo>
                    <a:pt x="852" y="72"/>
                  </a:lnTo>
                  <a:lnTo>
                    <a:pt x="712" y="60"/>
                  </a:lnTo>
                  <a:lnTo>
                    <a:pt x="571" y="47"/>
                  </a:lnTo>
                  <a:lnTo>
                    <a:pt x="430" y="35"/>
                  </a:lnTo>
                  <a:lnTo>
                    <a:pt x="291" y="23"/>
                  </a:lnTo>
                  <a:lnTo>
                    <a:pt x="155" y="11"/>
                  </a:lnTo>
                  <a:lnTo>
                    <a:pt x="22" y="0"/>
                  </a:lnTo>
                  <a:lnTo>
                    <a:pt x="39" y="28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8"/>
                  </a:lnTo>
                  <a:lnTo>
                    <a:pt x="14" y="40"/>
                  </a:lnTo>
                  <a:lnTo>
                    <a:pt x="19" y="41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52840" y="4516560"/>
              <a:ext cx="61920" cy="131760"/>
            </a:xfrm>
            <a:custGeom>
              <a:avLst/>
              <a:gdLst/>
              <a:ahLst/>
              <a:rect l="l" t="t" r="r" b="b"/>
              <a:pathLst>
                <a:path w="155" h="330">
                  <a:moveTo>
                    <a:pt x="125" y="3"/>
                  </a:moveTo>
                  <a:lnTo>
                    <a:pt x="116" y="14"/>
                  </a:lnTo>
                  <a:lnTo>
                    <a:pt x="102" y="50"/>
                  </a:lnTo>
                  <a:lnTo>
                    <a:pt x="88" y="87"/>
                  </a:lnTo>
                  <a:lnTo>
                    <a:pt x="74" y="125"/>
                  </a:lnTo>
                  <a:lnTo>
                    <a:pt x="59" y="164"/>
                  </a:lnTo>
                  <a:lnTo>
                    <a:pt x="44" y="202"/>
                  </a:lnTo>
                  <a:lnTo>
                    <a:pt x="28" y="241"/>
                  </a:lnTo>
                  <a:lnTo>
                    <a:pt x="14" y="279"/>
                  </a:lnTo>
                  <a:lnTo>
                    <a:pt x="0" y="315"/>
                  </a:lnTo>
                  <a:lnTo>
                    <a:pt x="38" y="330"/>
                  </a:lnTo>
                  <a:lnTo>
                    <a:pt x="52" y="293"/>
                  </a:lnTo>
                  <a:lnTo>
                    <a:pt x="66" y="255"/>
                  </a:lnTo>
                  <a:lnTo>
                    <a:pt x="81" y="217"/>
                  </a:lnTo>
                  <a:lnTo>
                    <a:pt x="96" y="178"/>
                  </a:lnTo>
                  <a:lnTo>
                    <a:pt x="112" y="139"/>
                  </a:lnTo>
                  <a:lnTo>
                    <a:pt x="126" y="102"/>
                  </a:lnTo>
                  <a:lnTo>
                    <a:pt x="140" y="64"/>
                  </a:lnTo>
                  <a:lnTo>
                    <a:pt x="154" y="27"/>
                  </a:lnTo>
                  <a:lnTo>
                    <a:pt x="145" y="38"/>
                  </a:lnTo>
                  <a:lnTo>
                    <a:pt x="154" y="27"/>
                  </a:lnTo>
                  <a:lnTo>
                    <a:pt x="155" y="23"/>
                  </a:lnTo>
                  <a:lnTo>
                    <a:pt x="155" y="18"/>
                  </a:lnTo>
                  <a:lnTo>
                    <a:pt x="155" y="14"/>
                  </a:lnTo>
                  <a:lnTo>
                    <a:pt x="153" y="11"/>
                  </a:lnTo>
                  <a:lnTo>
                    <a:pt x="150" y="8"/>
                  </a:lnTo>
                  <a:lnTo>
                    <a:pt x="148" y="5"/>
                  </a:lnTo>
                  <a:lnTo>
                    <a:pt x="145" y="3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7" y="1"/>
                  </a:lnTo>
                  <a:lnTo>
                    <a:pt x="123" y="3"/>
                  </a:lnTo>
                  <a:lnTo>
                    <a:pt x="120" y="5"/>
                  </a:lnTo>
                  <a:lnTo>
                    <a:pt x="118" y="10"/>
                  </a:lnTo>
                  <a:lnTo>
                    <a:pt x="116" y="14"/>
                  </a:lnTo>
                  <a:lnTo>
                    <a:pt x="125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"/>
          <p:cNvSpPr/>
          <p:nvPr/>
        </p:nvSpPr>
        <p:spPr>
          <a:xfrm>
            <a:off x="1954800" y="719280"/>
            <a:ext cx="5490000" cy="5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df177a"/>
                </a:solidFill>
                <a:latin typeface="Geometr231 Hv BT"/>
              </a:rPr>
              <a:t>STD &amp; HIV PREVALENC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>
            <a:off x="1620000" y="1600200"/>
            <a:ext cx="59076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st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22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2nd STD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41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6-9 STD episode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65% you will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c2b19"/>
                </a:solidFill>
                <a:latin typeface="Geometr231 Hv BT"/>
              </a:rPr>
              <a:t>10 or more episodes of STD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1a17"/>
                </a:solidFill>
                <a:latin typeface="Geometr231 Hv BT"/>
              </a:rPr>
              <a:t>79% you will also have 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4405680" y="226224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4480560" y="315432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3819240" y="4046400"/>
            <a:ext cx="317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2972520" y="5411880"/>
            <a:ext cx="55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3139200" y="5730840"/>
            <a:ext cx="294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f1a17"/>
                </a:solidFill>
                <a:latin typeface="Geometr231 Hv BT"/>
              </a:rPr>
              <a:t>ICASA Conference, Lusaka, Zamb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8120" y="3352680"/>
            <a:ext cx="4724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.T.D.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00200" y="1905120"/>
            <a:ext cx="6717600" cy="3609360"/>
            <a:chOff x="1600200" y="1905120"/>
            <a:chExt cx="6717600" cy="3609360"/>
          </a:xfrm>
        </p:grpSpPr>
        <p:sp>
          <p:nvSpPr>
            <p:cNvPr id="112" name=""/>
            <p:cNvSpPr/>
            <p:nvPr/>
          </p:nvSpPr>
          <p:spPr>
            <a:xfrm>
              <a:off x="1630080" y="2503440"/>
              <a:ext cx="274680" cy="136440"/>
            </a:xfrm>
            <a:custGeom>
              <a:avLst/>
              <a:gdLst/>
              <a:ahLst/>
              <a:rect l="l" t="t" r="r" b="b"/>
              <a:pathLst>
                <a:path w="863" h="430">
                  <a:moveTo>
                    <a:pt x="0" y="0"/>
                  </a:moveTo>
                  <a:lnTo>
                    <a:pt x="863" y="0"/>
                  </a:lnTo>
                  <a:lnTo>
                    <a:pt x="859" y="22"/>
                  </a:lnTo>
                  <a:lnTo>
                    <a:pt x="855" y="43"/>
                  </a:lnTo>
                  <a:lnTo>
                    <a:pt x="848" y="63"/>
                  </a:lnTo>
                  <a:lnTo>
                    <a:pt x="842" y="83"/>
                  </a:lnTo>
                  <a:lnTo>
                    <a:pt x="835" y="103"/>
                  </a:lnTo>
                  <a:lnTo>
                    <a:pt x="827" y="122"/>
                  </a:lnTo>
                  <a:lnTo>
                    <a:pt x="818" y="141"/>
                  </a:lnTo>
                  <a:lnTo>
                    <a:pt x="808" y="159"/>
                  </a:lnTo>
                  <a:lnTo>
                    <a:pt x="798" y="177"/>
                  </a:lnTo>
                  <a:lnTo>
                    <a:pt x="787" y="194"/>
                  </a:lnTo>
                  <a:lnTo>
                    <a:pt x="776" y="210"/>
                  </a:lnTo>
                  <a:lnTo>
                    <a:pt x="762" y="226"/>
                  </a:lnTo>
                  <a:lnTo>
                    <a:pt x="750" y="242"/>
                  </a:lnTo>
                  <a:lnTo>
                    <a:pt x="735" y="258"/>
                  </a:lnTo>
                  <a:lnTo>
                    <a:pt x="720" y="272"/>
                  </a:lnTo>
                  <a:lnTo>
                    <a:pt x="704" y="286"/>
                  </a:lnTo>
                  <a:lnTo>
                    <a:pt x="682" y="304"/>
                  </a:lnTo>
                  <a:lnTo>
                    <a:pt x="660" y="320"/>
                  </a:lnTo>
                  <a:lnTo>
                    <a:pt x="636" y="335"/>
                  </a:lnTo>
                  <a:lnTo>
                    <a:pt x="612" y="349"/>
                  </a:lnTo>
                  <a:lnTo>
                    <a:pt x="587" y="362"/>
                  </a:lnTo>
                  <a:lnTo>
                    <a:pt x="559" y="374"/>
                  </a:lnTo>
                  <a:lnTo>
                    <a:pt x="532" y="385"/>
                  </a:lnTo>
                  <a:lnTo>
                    <a:pt x="504" y="394"/>
                  </a:lnTo>
                  <a:lnTo>
                    <a:pt x="473" y="402"/>
                  </a:lnTo>
                  <a:lnTo>
                    <a:pt x="443" y="410"/>
                  </a:lnTo>
                  <a:lnTo>
                    <a:pt x="411" y="416"/>
                  </a:lnTo>
                  <a:lnTo>
                    <a:pt x="379" y="421"/>
                  </a:lnTo>
                  <a:lnTo>
                    <a:pt x="345" y="426"/>
                  </a:lnTo>
                  <a:lnTo>
                    <a:pt x="310" y="428"/>
                  </a:lnTo>
                  <a:lnTo>
                    <a:pt x="274" y="430"/>
                  </a:lnTo>
                  <a:lnTo>
                    <a:pt x="237" y="430"/>
                  </a:lnTo>
                  <a:lnTo>
                    <a:pt x="222" y="430"/>
                  </a:lnTo>
                  <a:lnTo>
                    <a:pt x="208" y="430"/>
                  </a:lnTo>
                  <a:lnTo>
                    <a:pt x="192" y="429"/>
                  </a:lnTo>
                  <a:lnTo>
                    <a:pt x="177" y="428"/>
                  </a:lnTo>
                  <a:lnTo>
                    <a:pt x="163" y="428"/>
                  </a:lnTo>
                  <a:lnTo>
                    <a:pt x="148" y="427"/>
                  </a:lnTo>
                  <a:lnTo>
                    <a:pt x="134" y="426"/>
                  </a:lnTo>
                  <a:lnTo>
                    <a:pt x="120" y="423"/>
                  </a:lnTo>
                  <a:lnTo>
                    <a:pt x="106" y="422"/>
                  </a:lnTo>
                  <a:lnTo>
                    <a:pt x="91" y="421"/>
                  </a:lnTo>
                  <a:lnTo>
                    <a:pt x="78" y="419"/>
                  </a:lnTo>
                  <a:lnTo>
                    <a:pt x="64" y="417"/>
                  </a:lnTo>
                  <a:lnTo>
                    <a:pt x="50" y="415"/>
                  </a:lnTo>
                  <a:lnTo>
                    <a:pt x="37" y="413"/>
                  </a:lnTo>
                  <a:lnTo>
                    <a:pt x="23" y="411"/>
                  </a:lnTo>
                  <a:lnTo>
                    <a:pt x="1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080" y="242100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7">
                  <a:moveTo>
                    <a:pt x="730" y="527"/>
                  </a:moveTo>
                  <a:lnTo>
                    <a:pt x="7" y="527"/>
                  </a:lnTo>
                  <a:lnTo>
                    <a:pt x="0" y="206"/>
                  </a:lnTo>
                  <a:lnTo>
                    <a:pt x="11" y="211"/>
                  </a:lnTo>
                  <a:lnTo>
                    <a:pt x="24" y="215"/>
                  </a:lnTo>
                  <a:lnTo>
                    <a:pt x="37" y="219"/>
                  </a:lnTo>
                  <a:lnTo>
                    <a:pt x="48" y="223"/>
                  </a:lnTo>
                  <a:lnTo>
                    <a:pt x="60" y="228"/>
                  </a:lnTo>
                  <a:lnTo>
                    <a:pt x="71" y="231"/>
                  </a:lnTo>
                  <a:lnTo>
                    <a:pt x="83" y="234"/>
                  </a:lnTo>
                  <a:lnTo>
                    <a:pt x="94" y="237"/>
                  </a:lnTo>
                  <a:lnTo>
                    <a:pt x="106" y="240"/>
                  </a:lnTo>
                  <a:lnTo>
                    <a:pt x="116" y="242"/>
                  </a:lnTo>
                  <a:lnTo>
                    <a:pt x="127" y="244"/>
                  </a:lnTo>
                  <a:lnTo>
                    <a:pt x="138" y="245"/>
                  </a:lnTo>
                  <a:lnTo>
                    <a:pt x="149" y="247"/>
                  </a:lnTo>
                  <a:lnTo>
                    <a:pt x="159" y="248"/>
                  </a:lnTo>
                  <a:lnTo>
                    <a:pt x="170" y="248"/>
                  </a:lnTo>
                  <a:lnTo>
                    <a:pt x="179" y="249"/>
                  </a:lnTo>
                  <a:lnTo>
                    <a:pt x="197" y="248"/>
                  </a:lnTo>
                  <a:lnTo>
                    <a:pt x="215" y="245"/>
                  </a:lnTo>
                  <a:lnTo>
                    <a:pt x="231" y="242"/>
                  </a:lnTo>
                  <a:lnTo>
                    <a:pt x="247" y="239"/>
                  </a:lnTo>
                  <a:lnTo>
                    <a:pt x="260" y="233"/>
                  </a:lnTo>
                  <a:lnTo>
                    <a:pt x="274" y="227"/>
                  </a:lnTo>
                  <a:lnTo>
                    <a:pt x="287" y="219"/>
                  </a:lnTo>
                  <a:lnTo>
                    <a:pt x="299" y="210"/>
                  </a:lnTo>
                  <a:lnTo>
                    <a:pt x="310" y="200"/>
                  </a:lnTo>
                  <a:lnTo>
                    <a:pt x="319" y="190"/>
                  </a:lnTo>
                  <a:lnTo>
                    <a:pt x="327" y="179"/>
                  </a:lnTo>
                  <a:lnTo>
                    <a:pt x="334" y="168"/>
                  </a:lnTo>
                  <a:lnTo>
                    <a:pt x="339" y="155"/>
                  </a:lnTo>
                  <a:lnTo>
                    <a:pt x="342" y="143"/>
                  </a:lnTo>
                  <a:lnTo>
                    <a:pt x="344" y="129"/>
                  </a:lnTo>
                  <a:lnTo>
                    <a:pt x="345" y="115"/>
                  </a:lnTo>
                  <a:lnTo>
                    <a:pt x="344" y="103"/>
                  </a:lnTo>
                  <a:lnTo>
                    <a:pt x="342" y="90"/>
                  </a:lnTo>
                  <a:lnTo>
                    <a:pt x="338" y="76"/>
                  </a:lnTo>
                  <a:lnTo>
                    <a:pt x="332" y="62"/>
                  </a:lnTo>
                  <a:lnTo>
                    <a:pt x="324" y="47"/>
                  </a:lnTo>
                  <a:lnTo>
                    <a:pt x="315" y="32"/>
                  </a:lnTo>
                  <a:lnTo>
                    <a:pt x="304" y="17"/>
                  </a:lnTo>
                  <a:lnTo>
                    <a:pt x="292" y="0"/>
                  </a:lnTo>
                  <a:lnTo>
                    <a:pt x="853" y="0"/>
                  </a:lnTo>
                  <a:lnTo>
                    <a:pt x="859" y="19"/>
                  </a:lnTo>
                  <a:lnTo>
                    <a:pt x="862" y="37"/>
                  </a:lnTo>
                  <a:lnTo>
                    <a:pt x="866" y="55"/>
                  </a:lnTo>
                  <a:lnTo>
                    <a:pt x="868" y="74"/>
                  </a:lnTo>
                  <a:lnTo>
                    <a:pt x="870" y="93"/>
                  </a:lnTo>
                  <a:lnTo>
                    <a:pt x="872" y="112"/>
                  </a:lnTo>
                  <a:lnTo>
                    <a:pt x="873" y="132"/>
                  </a:lnTo>
                  <a:lnTo>
                    <a:pt x="873" y="151"/>
                  </a:lnTo>
                  <a:lnTo>
                    <a:pt x="873" y="180"/>
                  </a:lnTo>
                  <a:lnTo>
                    <a:pt x="871" y="208"/>
                  </a:lnTo>
                  <a:lnTo>
                    <a:pt x="868" y="236"/>
                  </a:lnTo>
                  <a:lnTo>
                    <a:pt x="865" y="262"/>
                  </a:lnTo>
                  <a:lnTo>
                    <a:pt x="860" y="289"/>
                  </a:lnTo>
                  <a:lnTo>
                    <a:pt x="853" y="314"/>
                  </a:lnTo>
                  <a:lnTo>
                    <a:pt x="846" y="338"/>
                  </a:lnTo>
                  <a:lnTo>
                    <a:pt x="838" y="362"/>
                  </a:lnTo>
                  <a:lnTo>
                    <a:pt x="828" y="385"/>
                  </a:lnTo>
                  <a:lnTo>
                    <a:pt x="818" y="407"/>
                  </a:lnTo>
                  <a:lnTo>
                    <a:pt x="805" y="429"/>
                  </a:lnTo>
                  <a:lnTo>
                    <a:pt x="793" y="450"/>
                  </a:lnTo>
                  <a:lnTo>
                    <a:pt x="779" y="470"/>
                  </a:lnTo>
                  <a:lnTo>
                    <a:pt x="763" y="490"/>
                  </a:lnTo>
                  <a:lnTo>
                    <a:pt x="747" y="508"/>
                  </a:lnTo>
                  <a:lnTo>
                    <a:pt x="730" y="527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080" y="2336760"/>
              <a:ext cx="277920" cy="166680"/>
            </a:xfrm>
            <a:custGeom>
              <a:avLst/>
              <a:gdLst/>
              <a:ahLst/>
              <a:rect l="l" t="t" r="r" b="b"/>
              <a:pathLst>
                <a:path w="873" h="526">
                  <a:moveTo>
                    <a:pt x="864" y="526"/>
                  </a:moveTo>
                  <a:lnTo>
                    <a:pt x="1" y="526"/>
                  </a:lnTo>
                  <a:lnTo>
                    <a:pt x="0" y="469"/>
                  </a:lnTo>
                  <a:lnTo>
                    <a:pt x="11" y="474"/>
                  </a:lnTo>
                  <a:lnTo>
                    <a:pt x="24" y="478"/>
                  </a:lnTo>
                  <a:lnTo>
                    <a:pt x="37" y="482"/>
                  </a:lnTo>
                  <a:lnTo>
                    <a:pt x="48" y="486"/>
                  </a:lnTo>
                  <a:lnTo>
                    <a:pt x="60" y="491"/>
                  </a:lnTo>
                  <a:lnTo>
                    <a:pt x="71" y="494"/>
                  </a:lnTo>
                  <a:lnTo>
                    <a:pt x="83" y="497"/>
                  </a:lnTo>
                  <a:lnTo>
                    <a:pt x="94" y="500"/>
                  </a:lnTo>
                  <a:lnTo>
                    <a:pt x="106" y="503"/>
                  </a:lnTo>
                  <a:lnTo>
                    <a:pt x="116" y="505"/>
                  </a:lnTo>
                  <a:lnTo>
                    <a:pt x="127" y="507"/>
                  </a:lnTo>
                  <a:lnTo>
                    <a:pt x="138" y="508"/>
                  </a:lnTo>
                  <a:lnTo>
                    <a:pt x="149" y="510"/>
                  </a:lnTo>
                  <a:lnTo>
                    <a:pt x="159" y="511"/>
                  </a:lnTo>
                  <a:lnTo>
                    <a:pt x="170" y="511"/>
                  </a:lnTo>
                  <a:lnTo>
                    <a:pt x="179" y="512"/>
                  </a:lnTo>
                  <a:lnTo>
                    <a:pt x="197" y="511"/>
                  </a:lnTo>
                  <a:lnTo>
                    <a:pt x="215" y="508"/>
                  </a:lnTo>
                  <a:lnTo>
                    <a:pt x="231" y="505"/>
                  </a:lnTo>
                  <a:lnTo>
                    <a:pt x="247" y="502"/>
                  </a:lnTo>
                  <a:lnTo>
                    <a:pt x="260" y="496"/>
                  </a:lnTo>
                  <a:lnTo>
                    <a:pt x="274" y="490"/>
                  </a:lnTo>
                  <a:lnTo>
                    <a:pt x="287" y="482"/>
                  </a:lnTo>
                  <a:lnTo>
                    <a:pt x="299" y="473"/>
                  </a:lnTo>
                  <a:lnTo>
                    <a:pt x="310" y="463"/>
                  </a:lnTo>
                  <a:lnTo>
                    <a:pt x="319" y="453"/>
                  </a:lnTo>
                  <a:lnTo>
                    <a:pt x="327" y="442"/>
                  </a:lnTo>
                  <a:lnTo>
                    <a:pt x="334" y="431"/>
                  </a:lnTo>
                  <a:lnTo>
                    <a:pt x="339" y="418"/>
                  </a:lnTo>
                  <a:lnTo>
                    <a:pt x="342" y="406"/>
                  </a:lnTo>
                  <a:lnTo>
                    <a:pt x="344" y="392"/>
                  </a:lnTo>
                  <a:lnTo>
                    <a:pt x="345" y="378"/>
                  </a:lnTo>
                  <a:lnTo>
                    <a:pt x="344" y="369"/>
                  </a:lnTo>
                  <a:lnTo>
                    <a:pt x="343" y="358"/>
                  </a:lnTo>
                  <a:lnTo>
                    <a:pt x="341" y="349"/>
                  </a:lnTo>
                  <a:lnTo>
                    <a:pt x="337" y="338"/>
                  </a:lnTo>
                  <a:lnTo>
                    <a:pt x="333" y="327"/>
                  </a:lnTo>
                  <a:lnTo>
                    <a:pt x="327" y="316"/>
                  </a:lnTo>
                  <a:lnTo>
                    <a:pt x="321" y="305"/>
                  </a:lnTo>
                  <a:lnTo>
                    <a:pt x="314" y="293"/>
                  </a:lnTo>
                  <a:lnTo>
                    <a:pt x="305" y="281"/>
                  </a:lnTo>
                  <a:lnTo>
                    <a:pt x="296" y="268"/>
                  </a:lnTo>
                  <a:lnTo>
                    <a:pt x="285" y="255"/>
                  </a:lnTo>
                  <a:lnTo>
                    <a:pt x="274" y="243"/>
                  </a:lnTo>
                  <a:lnTo>
                    <a:pt x="249" y="216"/>
                  </a:lnTo>
                  <a:lnTo>
                    <a:pt x="219" y="187"/>
                  </a:lnTo>
                  <a:lnTo>
                    <a:pt x="209" y="178"/>
                  </a:lnTo>
                  <a:lnTo>
                    <a:pt x="199" y="169"/>
                  </a:lnTo>
                  <a:lnTo>
                    <a:pt x="190" y="161"/>
                  </a:lnTo>
                  <a:lnTo>
                    <a:pt x="181" y="153"/>
                  </a:lnTo>
                  <a:lnTo>
                    <a:pt x="173" y="145"/>
                  </a:lnTo>
                  <a:lnTo>
                    <a:pt x="166" y="138"/>
                  </a:lnTo>
                  <a:lnTo>
                    <a:pt x="159" y="132"/>
                  </a:lnTo>
                  <a:lnTo>
                    <a:pt x="153" y="125"/>
                  </a:lnTo>
                  <a:lnTo>
                    <a:pt x="138" y="109"/>
                  </a:lnTo>
                  <a:lnTo>
                    <a:pt x="125" y="95"/>
                  </a:lnTo>
                  <a:lnTo>
                    <a:pt x="111" y="79"/>
                  </a:lnTo>
                  <a:lnTo>
                    <a:pt x="98" y="63"/>
                  </a:lnTo>
                  <a:lnTo>
                    <a:pt x="86" y="48"/>
                  </a:lnTo>
                  <a:lnTo>
                    <a:pt x="74" y="32"/>
                  </a:lnTo>
                  <a:lnTo>
                    <a:pt x="64" y="16"/>
                  </a:lnTo>
                  <a:lnTo>
                    <a:pt x="53" y="0"/>
                  </a:lnTo>
                  <a:lnTo>
                    <a:pt x="694" y="0"/>
                  </a:lnTo>
                  <a:lnTo>
                    <a:pt x="714" y="20"/>
                  </a:lnTo>
                  <a:lnTo>
                    <a:pt x="733" y="40"/>
                  </a:lnTo>
                  <a:lnTo>
                    <a:pt x="751" y="62"/>
                  </a:lnTo>
                  <a:lnTo>
                    <a:pt x="767" y="83"/>
                  </a:lnTo>
                  <a:lnTo>
                    <a:pt x="783" y="106"/>
                  </a:lnTo>
                  <a:lnTo>
                    <a:pt x="797" y="129"/>
                  </a:lnTo>
                  <a:lnTo>
                    <a:pt x="810" y="153"/>
                  </a:lnTo>
                  <a:lnTo>
                    <a:pt x="822" y="178"/>
                  </a:lnTo>
                  <a:lnTo>
                    <a:pt x="835" y="205"/>
                  </a:lnTo>
                  <a:lnTo>
                    <a:pt x="845" y="233"/>
                  </a:lnTo>
                  <a:lnTo>
                    <a:pt x="853" y="263"/>
                  </a:lnTo>
                  <a:lnTo>
                    <a:pt x="861" y="292"/>
                  </a:lnTo>
                  <a:lnTo>
                    <a:pt x="866" y="322"/>
                  </a:lnTo>
                  <a:lnTo>
                    <a:pt x="870" y="352"/>
                  </a:lnTo>
                  <a:lnTo>
                    <a:pt x="872" y="382"/>
                  </a:lnTo>
                  <a:lnTo>
                    <a:pt x="873" y="414"/>
                  </a:lnTo>
                  <a:lnTo>
                    <a:pt x="873" y="429"/>
                  </a:lnTo>
                  <a:lnTo>
                    <a:pt x="873" y="443"/>
                  </a:lnTo>
                  <a:lnTo>
                    <a:pt x="872" y="458"/>
                  </a:lnTo>
                  <a:lnTo>
                    <a:pt x="871" y="472"/>
                  </a:lnTo>
                  <a:lnTo>
                    <a:pt x="870" y="485"/>
                  </a:lnTo>
                  <a:lnTo>
                    <a:pt x="868" y="499"/>
                  </a:lnTo>
                  <a:lnTo>
                    <a:pt x="866" y="513"/>
                  </a:lnTo>
                  <a:lnTo>
                    <a:pt x="864" y="52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3960" y="2254320"/>
              <a:ext cx="277560" cy="166680"/>
            </a:xfrm>
            <a:custGeom>
              <a:avLst/>
              <a:gdLst/>
              <a:ahLst/>
              <a:rect l="l" t="t" r="r" b="b"/>
              <a:pathLst>
                <a:path w="874" h="526">
                  <a:moveTo>
                    <a:pt x="874" y="526"/>
                  </a:moveTo>
                  <a:lnTo>
                    <a:pt x="313" y="526"/>
                  </a:lnTo>
                  <a:lnTo>
                    <a:pt x="305" y="517"/>
                  </a:lnTo>
                  <a:lnTo>
                    <a:pt x="298" y="508"/>
                  </a:lnTo>
                  <a:lnTo>
                    <a:pt x="290" y="500"/>
                  </a:lnTo>
                  <a:lnTo>
                    <a:pt x="280" y="490"/>
                  </a:lnTo>
                  <a:lnTo>
                    <a:pt x="271" y="481"/>
                  </a:lnTo>
                  <a:lnTo>
                    <a:pt x="261" y="470"/>
                  </a:lnTo>
                  <a:lnTo>
                    <a:pt x="251" y="461"/>
                  </a:lnTo>
                  <a:lnTo>
                    <a:pt x="240" y="450"/>
                  </a:lnTo>
                  <a:lnTo>
                    <a:pt x="230" y="441"/>
                  </a:lnTo>
                  <a:lnTo>
                    <a:pt x="220" y="432"/>
                  </a:lnTo>
                  <a:lnTo>
                    <a:pt x="211" y="424"/>
                  </a:lnTo>
                  <a:lnTo>
                    <a:pt x="202" y="416"/>
                  </a:lnTo>
                  <a:lnTo>
                    <a:pt x="194" y="408"/>
                  </a:lnTo>
                  <a:lnTo>
                    <a:pt x="187" y="401"/>
                  </a:lnTo>
                  <a:lnTo>
                    <a:pt x="180" y="395"/>
                  </a:lnTo>
                  <a:lnTo>
                    <a:pt x="174" y="388"/>
                  </a:lnTo>
                  <a:lnTo>
                    <a:pt x="153" y="365"/>
                  </a:lnTo>
                  <a:lnTo>
                    <a:pt x="132" y="343"/>
                  </a:lnTo>
                  <a:lnTo>
                    <a:pt x="114" y="320"/>
                  </a:lnTo>
                  <a:lnTo>
                    <a:pt x="96" y="297"/>
                  </a:lnTo>
                  <a:lnTo>
                    <a:pt x="81" y="273"/>
                  </a:lnTo>
                  <a:lnTo>
                    <a:pt x="67" y="250"/>
                  </a:lnTo>
                  <a:lnTo>
                    <a:pt x="53" y="225"/>
                  </a:lnTo>
                  <a:lnTo>
                    <a:pt x="42" y="202"/>
                  </a:lnTo>
                  <a:lnTo>
                    <a:pt x="32" y="178"/>
                  </a:lnTo>
                  <a:lnTo>
                    <a:pt x="24" y="154"/>
                  </a:lnTo>
                  <a:lnTo>
                    <a:pt x="17" y="130"/>
                  </a:lnTo>
                  <a:lnTo>
                    <a:pt x="10" y="105"/>
                  </a:lnTo>
                  <a:lnTo>
                    <a:pt x="6" y="80"/>
                  </a:lnTo>
                  <a:lnTo>
                    <a:pt x="3" y="53"/>
                  </a:lnTo>
                  <a:lnTo>
                    <a:pt x="1" y="27"/>
                  </a:lnTo>
                  <a:lnTo>
                    <a:pt x="0" y="0"/>
                  </a:lnTo>
                  <a:lnTo>
                    <a:pt x="497" y="0"/>
                  </a:lnTo>
                  <a:lnTo>
                    <a:pt x="497" y="2"/>
                  </a:lnTo>
                  <a:lnTo>
                    <a:pt x="497" y="4"/>
                  </a:lnTo>
                  <a:lnTo>
                    <a:pt x="496" y="5"/>
                  </a:lnTo>
                  <a:lnTo>
                    <a:pt x="496" y="7"/>
                  </a:lnTo>
                  <a:lnTo>
                    <a:pt x="496" y="8"/>
                  </a:lnTo>
                  <a:lnTo>
                    <a:pt x="496" y="10"/>
                  </a:lnTo>
                  <a:lnTo>
                    <a:pt x="496" y="12"/>
                  </a:lnTo>
                  <a:lnTo>
                    <a:pt x="496" y="13"/>
                  </a:lnTo>
                  <a:lnTo>
                    <a:pt x="497" y="23"/>
                  </a:lnTo>
                  <a:lnTo>
                    <a:pt x="499" y="32"/>
                  </a:lnTo>
                  <a:lnTo>
                    <a:pt x="501" y="42"/>
                  </a:lnTo>
                  <a:lnTo>
                    <a:pt x="505" y="51"/>
                  </a:lnTo>
                  <a:lnTo>
                    <a:pt x="509" y="61"/>
                  </a:lnTo>
                  <a:lnTo>
                    <a:pt x="514" y="71"/>
                  </a:lnTo>
                  <a:lnTo>
                    <a:pt x="520" y="81"/>
                  </a:lnTo>
                  <a:lnTo>
                    <a:pt x="527" y="91"/>
                  </a:lnTo>
                  <a:lnTo>
                    <a:pt x="535" y="102"/>
                  </a:lnTo>
                  <a:lnTo>
                    <a:pt x="545" y="113"/>
                  </a:lnTo>
                  <a:lnTo>
                    <a:pt x="554" y="124"/>
                  </a:lnTo>
                  <a:lnTo>
                    <a:pt x="565" y="135"/>
                  </a:lnTo>
                  <a:lnTo>
                    <a:pt x="590" y="157"/>
                  </a:lnTo>
                  <a:lnTo>
                    <a:pt x="618" y="181"/>
                  </a:lnTo>
                  <a:lnTo>
                    <a:pt x="630" y="191"/>
                  </a:lnTo>
                  <a:lnTo>
                    <a:pt x="641" y="200"/>
                  </a:lnTo>
                  <a:lnTo>
                    <a:pt x="652" y="209"/>
                  </a:lnTo>
                  <a:lnTo>
                    <a:pt x="661" y="217"/>
                  </a:lnTo>
                  <a:lnTo>
                    <a:pt x="670" y="224"/>
                  </a:lnTo>
                  <a:lnTo>
                    <a:pt x="678" y="232"/>
                  </a:lnTo>
                  <a:lnTo>
                    <a:pt x="686" y="238"/>
                  </a:lnTo>
                  <a:lnTo>
                    <a:pt x="693" y="243"/>
                  </a:lnTo>
                  <a:lnTo>
                    <a:pt x="717" y="265"/>
                  </a:lnTo>
                  <a:lnTo>
                    <a:pt x="739" y="288"/>
                  </a:lnTo>
                  <a:lnTo>
                    <a:pt x="760" y="312"/>
                  </a:lnTo>
                  <a:lnTo>
                    <a:pt x="780" y="336"/>
                  </a:lnTo>
                  <a:lnTo>
                    <a:pt x="798" y="361"/>
                  </a:lnTo>
                  <a:lnTo>
                    <a:pt x="815" y="386"/>
                  </a:lnTo>
                  <a:lnTo>
                    <a:pt x="829" y="413"/>
                  </a:lnTo>
                  <a:lnTo>
                    <a:pt x="843" y="441"/>
                  </a:lnTo>
                  <a:lnTo>
                    <a:pt x="848" y="451"/>
                  </a:lnTo>
                  <a:lnTo>
                    <a:pt x="852" y="462"/>
                  </a:lnTo>
                  <a:lnTo>
                    <a:pt x="857" y="472"/>
                  </a:lnTo>
                  <a:lnTo>
                    <a:pt x="861" y="483"/>
                  </a:lnTo>
                  <a:lnTo>
                    <a:pt x="865" y="493"/>
                  </a:lnTo>
                  <a:lnTo>
                    <a:pt x="868" y="505"/>
                  </a:lnTo>
                  <a:lnTo>
                    <a:pt x="871" y="515"/>
                  </a:lnTo>
                  <a:lnTo>
                    <a:pt x="874" y="52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70080"/>
              <a:ext cx="271440" cy="1666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715" y="526"/>
                  </a:moveTo>
                  <a:lnTo>
                    <a:pt x="74" y="526"/>
                  </a:lnTo>
                  <a:lnTo>
                    <a:pt x="70" y="519"/>
                  </a:lnTo>
                  <a:lnTo>
                    <a:pt x="66" y="511"/>
                  </a:lnTo>
                  <a:lnTo>
                    <a:pt x="62" y="503"/>
                  </a:lnTo>
                  <a:lnTo>
                    <a:pt x="58" y="496"/>
                  </a:lnTo>
                  <a:lnTo>
                    <a:pt x="53" y="488"/>
                  </a:lnTo>
                  <a:lnTo>
                    <a:pt x="49" y="480"/>
                  </a:lnTo>
                  <a:lnTo>
                    <a:pt x="46" y="473"/>
                  </a:lnTo>
                  <a:lnTo>
                    <a:pt x="42" y="465"/>
                  </a:lnTo>
                  <a:lnTo>
                    <a:pt x="32" y="441"/>
                  </a:lnTo>
                  <a:lnTo>
                    <a:pt x="24" y="416"/>
                  </a:lnTo>
                  <a:lnTo>
                    <a:pt x="17" y="391"/>
                  </a:lnTo>
                  <a:lnTo>
                    <a:pt x="10" y="366"/>
                  </a:lnTo>
                  <a:lnTo>
                    <a:pt x="5" y="339"/>
                  </a:lnTo>
                  <a:lnTo>
                    <a:pt x="2" y="313"/>
                  </a:lnTo>
                  <a:lnTo>
                    <a:pt x="0" y="286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1" y="223"/>
                  </a:lnTo>
                  <a:lnTo>
                    <a:pt x="2" y="205"/>
                  </a:lnTo>
                  <a:lnTo>
                    <a:pt x="4" y="187"/>
                  </a:lnTo>
                  <a:lnTo>
                    <a:pt x="6" y="170"/>
                  </a:lnTo>
                  <a:lnTo>
                    <a:pt x="9" y="154"/>
                  </a:lnTo>
                  <a:lnTo>
                    <a:pt x="12" y="137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5" y="89"/>
                  </a:lnTo>
                  <a:lnTo>
                    <a:pt x="30" y="74"/>
                  </a:lnTo>
                  <a:lnTo>
                    <a:pt x="37" y="58"/>
                  </a:lnTo>
                  <a:lnTo>
                    <a:pt x="43" y="43"/>
                  </a:lnTo>
                  <a:lnTo>
                    <a:pt x="49" y="29"/>
                  </a:lnTo>
                  <a:lnTo>
                    <a:pt x="56" y="14"/>
                  </a:lnTo>
                  <a:lnTo>
                    <a:pt x="65" y="0"/>
                  </a:lnTo>
                  <a:lnTo>
                    <a:pt x="857" y="0"/>
                  </a:lnTo>
                  <a:lnTo>
                    <a:pt x="857" y="200"/>
                  </a:lnTo>
                  <a:lnTo>
                    <a:pt x="843" y="192"/>
                  </a:lnTo>
                  <a:lnTo>
                    <a:pt x="829" y="186"/>
                  </a:lnTo>
                  <a:lnTo>
                    <a:pt x="816" y="181"/>
                  </a:lnTo>
                  <a:lnTo>
                    <a:pt x="803" y="176"/>
                  </a:lnTo>
                  <a:lnTo>
                    <a:pt x="790" y="170"/>
                  </a:lnTo>
                  <a:lnTo>
                    <a:pt x="778" y="165"/>
                  </a:lnTo>
                  <a:lnTo>
                    <a:pt x="765" y="161"/>
                  </a:lnTo>
                  <a:lnTo>
                    <a:pt x="754" y="158"/>
                  </a:lnTo>
                  <a:lnTo>
                    <a:pt x="742" y="155"/>
                  </a:lnTo>
                  <a:lnTo>
                    <a:pt x="731" y="151"/>
                  </a:lnTo>
                  <a:lnTo>
                    <a:pt x="719" y="149"/>
                  </a:lnTo>
                  <a:lnTo>
                    <a:pt x="709" y="147"/>
                  </a:lnTo>
                  <a:lnTo>
                    <a:pt x="698" y="146"/>
                  </a:lnTo>
                  <a:lnTo>
                    <a:pt x="689" y="145"/>
                  </a:lnTo>
                  <a:lnTo>
                    <a:pt x="678" y="144"/>
                  </a:lnTo>
                  <a:lnTo>
                    <a:pt x="669" y="144"/>
                  </a:lnTo>
                  <a:lnTo>
                    <a:pt x="649" y="144"/>
                  </a:lnTo>
                  <a:lnTo>
                    <a:pt x="630" y="146"/>
                  </a:lnTo>
                  <a:lnTo>
                    <a:pt x="612" y="148"/>
                  </a:lnTo>
                  <a:lnTo>
                    <a:pt x="595" y="152"/>
                  </a:lnTo>
                  <a:lnTo>
                    <a:pt x="580" y="158"/>
                  </a:lnTo>
                  <a:lnTo>
                    <a:pt x="566" y="163"/>
                  </a:lnTo>
                  <a:lnTo>
                    <a:pt x="553" y="170"/>
                  </a:lnTo>
                  <a:lnTo>
                    <a:pt x="542" y="179"/>
                  </a:lnTo>
                  <a:lnTo>
                    <a:pt x="531" y="187"/>
                  </a:lnTo>
                  <a:lnTo>
                    <a:pt x="522" y="198"/>
                  </a:lnTo>
                  <a:lnTo>
                    <a:pt x="514" y="208"/>
                  </a:lnTo>
                  <a:lnTo>
                    <a:pt x="508" y="221"/>
                  </a:lnTo>
                  <a:lnTo>
                    <a:pt x="503" y="233"/>
                  </a:lnTo>
                  <a:lnTo>
                    <a:pt x="500" y="247"/>
                  </a:lnTo>
                  <a:lnTo>
                    <a:pt x="497" y="262"/>
                  </a:lnTo>
                  <a:lnTo>
                    <a:pt x="496" y="276"/>
                  </a:lnTo>
                  <a:lnTo>
                    <a:pt x="497" y="286"/>
                  </a:lnTo>
                  <a:lnTo>
                    <a:pt x="499" y="295"/>
                  </a:lnTo>
                  <a:lnTo>
                    <a:pt x="501" y="305"/>
                  </a:lnTo>
                  <a:lnTo>
                    <a:pt x="505" y="314"/>
                  </a:lnTo>
                  <a:lnTo>
                    <a:pt x="509" y="324"/>
                  </a:lnTo>
                  <a:lnTo>
                    <a:pt x="514" y="334"/>
                  </a:lnTo>
                  <a:lnTo>
                    <a:pt x="520" y="344"/>
                  </a:lnTo>
                  <a:lnTo>
                    <a:pt x="527" y="354"/>
                  </a:lnTo>
                  <a:lnTo>
                    <a:pt x="535" y="365"/>
                  </a:lnTo>
                  <a:lnTo>
                    <a:pt x="545" y="376"/>
                  </a:lnTo>
                  <a:lnTo>
                    <a:pt x="554" y="387"/>
                  </a:lnTo>
                  <a:lnTo>
                    <a:pt x="565" y="398"/>
                  </a:lnTo>
                  <a:lnTo>
                    <a:pt x="590" y="420"/>
                  </a:lnTo>
                  <a:lnTo>
                    <a:pt x="618" y="444"/>
                  </a:lnTo>
                  <a:lnTo>
                    <a:pt x="630" y="454"/>
                  </a:lnTo>
                  <a:lnTo>
                    <a:pt x="641" y="463"/>
                  </a:lnTo>
                  <a:lnTo>
                    <a:pt x="652" y="472"/>
                  </a:lnTo>
                  <a:lnTo>
                    <a:pt x="661" y="480"/>
                  </a:lnTo>
                  <a:lnTo>
                    <a:pt x="670" y="487"/>
                  </a:lnTo>
                  <a:lnTo>
                    <a:pt x="678" y="495"/>
                  </a:lnTo>
                  <a:lnTo>
                    <a:pt x="686" y="501"/>
                  </a:lnTo>
                  <a:lnTo>
                    <a:pt x="693" y="506"/>
                  </a:lnTo>
                  <a:lnTo>
                    <a:pt x="696" y="509"/>
                  </a:lnTo>
                  <a:lnTo>
                    <a:pt x="699" y="512"/>
                  </a:lnTo>
                  <a:lnTo>
                    <a:pt x="701" y="514"/>
                  </a:lnTo>
                  <a:lnTo>
                    <a:pt x="704" y="517"/>
                  </a:lnTo>
                  <a:lnTo>
                    <a:pt x="706" y="519"/>
                  </a:lnTo>
                  <a:lnTo>
                    <a:pt x="710" y="521"/>
                  </a:lnTo>
                  <a:lnTo>
                    <a:pt x="712" y="524"/>
                  </a:lnTo>
                  <a:lnTo>
                    <a:pt x="715" y="526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23960" y="2085840"/>
              <a:ext cx="271440" cy="168480"/>
            </a:xfrm>
            <a:custGeom>
              <a:avLst/>
              <a:gdLst/>
              <a:ahLst/>
              <a:rect l="l" t="t" r="r" b="b"/>
              <a:pathLst>
                <a:path w="857" h="526">
                  <a:moveTo>
                    <a:pt x="497" y="526"/>
                  </a:moveTo>
                  <a:lnTo>
                    <a:pt x="0" y="526"/>
                  </a:lnTo>
                  <a:lnTo>
                    <a:pt x="0" y="526"/>
                  </a:lnTo>
                  <a:lnTo>
                    <a:pt x="0" y="525"/>
                  </a:lnTo>
                  <a:lnTo>
                    <a:pt x="0" y="525"/>
                  </a:lnTo>
                  <a:lnTo>
                    <a:pt x="0" y="524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70"/>
                  </a:lnTo>
                  <a:lnTo>
                    <a:pt x="292" y="57"/>
                  </a:lnTo>
                  <a:lnTo>
                    <a:pt x="316" y="47"/>
                  </a:lnTo>
                  <a:lnTo>
                    <a:pt x="341" y="36"/>
                  </a:lnTo>
                  <a:lnTo>
                    <a:pt x="367" y="28"/>
                  </a:lnTo>
                  <a:lnTo>
                    <a:pt x="395" y="21"/>
                  </a:lnTo>
                  <a:lnTo>
                    <a:pt x="422" y="14"/>
                  </a:lnTo>
                  <a:lnTo>
                    <a:pt x="450" y="9"/>
                  </a:lnTo>
                  <a:lnTo>
                    <a:pt x="480" y="5"/>
                  </a:lnTo>
                  <a:lnTo>
                    <a:pt x="509" y="3"/>
                  </a:lnTo>
                  <a:lnTo>
                    <a:pt x="539" y="1"/>
                  </a:lnTo>
                  <a:lnTo>
                    <a:pt x="570" y="0"/>
                  </a:lnTo>
                  <a:lnTo>
                    <a:pt x="573" y="0"/>
                  </a:lnTo>
                  <a:lnTo>
                    <a:pt x="593" y="0"/>
                  </a:lnTo>
                  <a:lnTo>
                    <a:pt x="612" y="1"/>
                  </a:lnTo>
                  <a:lnTo>
                    <a:pt x="631" y="2"/>
                  </a:lnTo>
                  <a:lnTo>
                    <a:pt x="650" y="3"/>
                  </a:lnTo>
                  <a:lnTo>
                    <a:pt x="669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2" y="449"/>
                  </a:lnTo>
                  <a:lnTo>
                    <a:pt x="524" y="459"/>
                  </a:lnTo>
                  <a:lnTo>
                    <a:pt x="516" y="468"/>
                  </a:lnTo>
                  <a:lnTo>
                    <a:pt x="510" y="478"/>
                  </a:lnTo>
                  <a:lnTo>
                    <a:pt x="506" y="489"/>
                  </a:lnTo>
                  <a:lnTo>
                    <a:pt x="502" y="501"/>
                  </a:lnTo>
                  <a:lnTo>
                    <a:pt x="499" y="513"/>
                  </a:lnTo>
                  <a:lnTo>
                    <a:pt x="497" y="52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4480" y="2085840"/>
              <a:ext cx="250920" cy="84240"/>
            </a:xfrm>
            <a:custGeom>
              <a:avLst/>
              <a:gdLst/>
              <a:ahLst/>
              <a:rect l="l" t="t" r="r" b="b"/>
              <a:pathLst>
                <a:path w="792" h="263">
                  <a:moveTo>
                    <a:pt x="792" y="263"/>
                  </a:moveTo>
                  <a:lnTo>
                    <a:pt x="0" y="263"/>
                  </a:lnTo>
                  <a:lnTo>
                    <a:pt x="9" y="247"/>
                  </a:lnTo>
                  <a:lnTo>
                    <a:pt x="20" y="232"/>
                  </a:lnTo>
                  <a:lnTo>
                    <a:pt x="30" y="217"/>
                  </a:lnTo>
                  <a:lnTo>
                    <a:pt x="42" y="202"/>
                  </a:lnTo>
                  <a:lnTo>
                    <a:pt x="53" y="188"/>
                  </a:lnTo>
                  <a:lnTo>
                    <a:pt x="67" y="174"/>
                  </a:lnTo>
                  <a:lnTo>
                    <a:pt x="80" y="160"/>
                  </a:lnTo>
                  <a:lnTo>
                    <a:pt x="94" y="147"/>
                  </a:lnTo>
                  <a:lnTo>
                    <a:pt x="114" y="129"/>
                  </a:lnTo>
                  <a:lnTo>
                    <a:pt x="135" y="112"/>
                  </a:lnTo>
                  <a:lnTo>
                    <a:pt x="157" y="97"/>
                  </a:lnTo>
                  <a:lnTo>
                    <a:pt x="179" y="83"/>
                  </a:lnTo>
                  <a:lnTo>
                    <a:pt x="203" y="69"/>
                  </a:lnTo>
                  <a:lnTo>
                    <a:pt x="227" y="57"/>
                  </a:lnTo>
                  <a:lnTo>
                    <a:pt x="252" y="47"/>
                  </a:lnTo>
                  <a:lnTo>
                    <a:pt x="277" y="36"/>
                  </a:lnTo>
                  <a:lnTo>
                    <a:pt x="303" y="28"/>
                  </a:lnTo>
                  <a:lnTo>
                    <a:pt x="331" y="21"/>
                  </a:lnTo>
                  <a:lnTo>
                    <a:pt x="358" y="14"/>
                  </a:lnTo>
                  <a:lnTo>
                    <a:pt x="386" y="9"/>
                  </a:lnTo>
                  <a:lnTo>
                    <a:pt x="415" y="5"/>
                  </a:lnTo>
                  <a:lnTo>
                    <a:pt x="445" y="2"/>
                  </a:lnTo>
                  <a:lnTo>
                    <a:pt x="476" y="1"/>
                  </a:lnTo>
                  <a:lnTo>
                    <a:pt x="507" y="0"/>
                  </a:lnTo>
                  <a:lnTo>
                    <a:pt x="527" y="0"/>
                  </a:lnTo>
                  <a:lnTo>
                    <a:pt x="546" y="1"/>
                  </a:lnTo>
                  <a:lnTo>
                    <a:pt x="565" y="2"/>
                  </a:lnTo>
                  <a:lnTo>
                    <a:pt x="584" y="3"/>
                  </a:lnTo>
                  <a:lnTo>
                    <a:pt x="603" y="4"/>
                  </a:lnTo>
                  <a:lnTo>
                    <a:pt x="621" y="6"/>
                  </a:lnTo>
                  <a:lnTo>
                    <a:pt x="639" y="8"/>
                  </a:lnTo>
                  <a:lnTo>
                    <a:pt x="656" y="10"/>
                  </a:lnTo>
                  <a:lnTo>
                    <a:pt x="674" y="13"/>
                  </a:lnTo>
                  <a:lnTo>
                    <a:pt x="691" y="16"/>
                  </a:lnTo>
                  <a:lnTo>
                    <a:pt x="709" y="20"/>
                  </a:lnTo>
                  <a:lnTo>
                    <a:pt x="725" y="24"/>
                  </a:lnTo>
                  <a:lnTo>
                    <a:pt x="742" y="28"/>
                  </a:lnTo>
                  <a:lnTo>
                    <a:pt x="759" y="32"/>
                  </a:lnTo>
                  <a:lnTo>
                    <a:pt x="775" y="37"/>
                  </a:lnTo>
                  <a:lnTo>
                    <a:pt x="792" y="43"/>
                  </a:lnTo>
                  <a:lnTo>
                    <a:pt x="792" y="263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04680" y="2085840"/>
              <a:ext cx="18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3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9640" y="3422520"/>
              <a:ext cx="139680" cy="11592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9640" y="3340080"/>
              <a:ext cx="139680" cy="16668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09640" y="3255840"/>
              <a:ext cx="139680" cy="16668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9640" y="3171960"/>
              <a:ext cx="139680" cy="1681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0200" y="308916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6">
                  <a:moveTo>
                    <a:pt x="784" y="526"/>
                  </a:moveTo>
                  <a:lnTo>
                    <a:pt x="344" y="526"/>
                  </a:lnTo>
                  <a:lnTo>
                    <a:pt x="344" y="150"/>
                  </a:lnTo>
                  <a:lnTo>
                    <a:pt x="0" y="150"/>
                  </a:lnTo>
                  <a:lnTo>
                    <a:pt x="16" y="0"/>
                  </a:lnTo>
                  <a:lnTo>
                    <a:pt x="1110" y="0"/>
                  </a:lnTo>
                  <a:lnTo>
                    <a:pt x="1127" y="150"/>
                  </a:lnTo>
                  <a:lnTo>
                    <a:pt x="784" y="150"/>
                  </a:lnTo>
                  <a:lnTo>
                    <a:pt x="784" y="526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3005280"/>
              <a:ext cx="358560" cy="166680"/>
            </a:xfrm>
            <a:custGeom>
              <a:avLst/>
              <a:gdLst/>
              <a:ahLst/>
              <a:rect l="l" t="t" r="r" b="b"/>
              <a:pathLst>
                <a:path w="1127" h="527">
                  <a:moveTo>
                    <a:pt x="784" y="527"/>
                  </a:moveTo>
                  <a:lnTo>
                    <a:pt x="344" y="527"/>
                  </a:lnTo>
                  <a:lnTo>
                    <a:pt x="344" y="414"/>
                  </a:lnTo>
                  <a:lnTo>
                    <a:pt x="0" y="414"/>
                  </a:lnTo>
                  <a:lnTo>
                    <a:pt x="43" y="0"/>
                  </a:lnTo>
                  <a:lnTo>
                    <a:pt x="1081" y="0"/>
                  </a:lnTo>
                  <a:lnTo>
                    <a:pt x="1127" y="414"/>
                  </a:lnTo>
                  <a:lnTo>
                    <a:pt x="784" y="414"/>
                  </a:lnTo>
                  <a:lnTo>
                    <a:pt x="784" y="527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6320" y="3000240"/>
              <a:ext cx="346320" cy="88920"/>
            </a:xfrm>
            <a:custGeom>
              <a:avLst/>
              <a:gdLst/>
              <a:ahLst/>
              <a:rect l="l" t="t" r="r" b="b"/>
              <a:pathLst>
                <a:path w="1094" h="277">
                  <a:moveTo>
                    <a:pt x="1094" y="277"/>
                  </a:moveTo>
                  <a:lnTo>
                    <a:pt x="0" y="277"/>
                  </a:lnTo>
                  <a:lnTo>
                    <a:pt x="30" y="0"/>
                  </a:lnTo>
                  <a:lnTo>
                    <a:pt x="1064" y="0"/>
                  </a:lnTo>
                  <a:lnTo>
                    <a:pt x="1094" y="277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4240" y="3000240"/>
              <a:ext cx="330480" cy="5040"/>
            </a:xfrm>
            <a:custGeom>
              <a:avLst/>
              <a:gdLst/>
              <a:ahLst/>
              <a:rect l="l" t="t" r="r" b="b"/>
              <a:pathLst>
                <a:path w="1038" h="13">
                  <a:moveTo>
                    <a:pt x="1038" y="13"/>
                  </a:moveTo>
                  <a:lnTo>
                    <a:pt x="0" y="13"/>
                  </a:lnTo>
                  <a:lnTo>
                    <a:pt x="3" y="0"/>
                  </a:lnTo>
                  <a:lnTo>
                    <a:pt x="1037" y="0"/>
                  </a:lnTo>
                  <a:lnTo>
                    <a:pt x="1038" y="13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3040" y="4341960"/>
              <a:ext cx="345960" cy="101520"/>
            </a:xfrm>
            <a:custGeom>
              <a:avLst/>
              <a:gdLst/>
              <a:ahLst/>
              <a:rect l="l" t="t" r="r" b="b"/>
              <a:pathLst>
                <a:path w="1088" h="322">
                  <a:moveTo>
                    <a:pt x="0" y="322"/>
                  </a:moveTo>
                  <a:lnTo>
                    <a:pt x="0" y="0"/>
                  </a:lnTo>
                  <a:lnTo>
                    <a:pt x="1088" y="0"/>
                  </a:lnTo>
                  <a:lnTo>
                    <a:pt x="1064" y="26"/>
                  </a:lnTo>
                  <a:lnTo>
                    <a:pt x="1041" y="51"/>
                  </a:lnTo>
                  <a:lnTo>
                    <a:pt x="1016" y="77"/>
                  </a:lnTo>
                  <a:lnTo>
                    <a:pt x="989" y="100"/>
                  </a:lnTo>
                  <a:lnTo>
                    <a:pt x="962" y="123"/>
                  </a:lnTo>
                  <a:lnTo>
                    <a:pt x="933" y="144"/>
                  </a:lnTo>
                  <a:lnTo>
                    <a:pt x="903" y="165"/>
                  </a:lnTo>
                  <a:lnTo>
                    <a:pt x="871" y="185"/>
                  </a:lnTo>
                  <a:lnTo>
                    <a:pt x="842" y="203"/>
                  </a:lnTo>
                  <a:lnTo>
                    <a:pt x="810" y="218"/>
                  </a:lnTo>
                  <a:lnTo>
                    <a:pt x="779" y="233"/>
                  </a:lnTo>
                  <a:lnTo>
                    <a:pt x="746" y="247"/>
                  </a:lnTo>
                  <a:lnTo>
                    <a:pt x="713" y="259"/>
                  </a:lnTo>
                  <a:lnTo>
                    <a:pt x="678" y="271"/>
                  </a:lnTo>
                  <a:lnTo>
                    <a:pt x="642" y="281"/>
                  </a:lnTo>
                  <a:lnTo>
                    <a:pt x="606" y="290"/>
                  </a:lnTo>
                  <a:lnTo>
                    <a:pt x="568" y="297"/>
                  </a:lnTo>
                  <a:lnTo>
                    <a:pt x="528" y="304"/>
                  </a:lnTo>
                  <a:lnTo>
                    <a:pt x="487" y="310"/>
                  </a:lnTo>
                  <a:lnTo>
                    <a:pt x="444" y="314"/>
                  </a:lnTo>
                  <a:lnTo>
                    <a:pt x="400" y="318"/>
                  </a:lnTo>
                  <a:lnTo>
                    <a:pt x="354" y="320"/>
                  </a:lnTo>
                  <a:lnTo>
                    <a:pt x="305" y="322"/>
                  </a:lnTo>
                  <a:lnTo>
                    <a:pt x="255" y="322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040" y="4257720"/>
              <a:ext cx="392040" cy="166680"/>
            </a:xfrm>
            <a:custGeom>
              <a:avLst/>
              <a:gdLst/>
              <a:ahLst/>
              <a:rect l="l" t="t" r="r" b="b"/>
              <a:pathLst>
                <a:path w="1231" h="526">
                  <a:moveTo>
                    <a:pt x="703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135"/>
                  </a:lnTo>
                  <a:lnTo>
                    <a:pt x="459" y="132"/>
                  </a:lnTo>
                  <a:lnTo>
                    <a:pt x="480" y="128"/>
                  </a:lnTo>
                  <a:lnTo>
                    <a:pt x="500" y="124"/>
                  </a:lnTo>
                  <a:lnTo>
                    <a:pt x="518" y="120"/>
                  </a:lnTo>
                  <a:lnTo>
                    <a:pt x="537" y="115"/>
                  </a:lnTo>
                  <a:lnTo>
                    <a:pt x="556" y="109"/>
                  </a:lnTo>
                  <a:lnTo>
                    <a:pt x="574" y="101"/>
                  </a:lnTo>
                  <a:lnTo>
                    <a:pt x="591" y="94"/>
                  </a:lnTo>
                  <a:lnTo>
                    <a:pt x="608" y="85"/>
                  </a:lnTo>
                  <a:lnTo>
                    <a:pt x="623" y="77"/>
                  </a:lnTo>
                  <a:lnTo>
                    <a:pt x="639" y="68"/>
                  </a:lnTo>
                  <a:lnTo>
                    <a:pt x="655" y="57"/>
                  </a:lnTo>
                  <a:lnTo>
                    <a:pt x="670" y="46"/>
                  </a:lnTo>
                  <a:lnTo>
                    <a:pt x="683" y="34"/>
                  </a:lnTo>
                  <a:lnTo>
                    <a:pt x="697" y="21"/>
                  </a:lnTo>
                  <a:lnTo>
                    <a:pt x="710" y="9"/>
                  </a:lnTo>
                  <a:lnTo>
                    <a:pt x="711" y="8"/>
                  </a:lnTo>
                  <a:lnTo>
                    <a:pt x="712" y="7"/>
                  </a:lnTo>
                  <a:lnTo>
                    <a:pt x="713" y="6"/>
                  </a:lnTo>
                  <a:lnTo>
                    <a:pt x="714" y="5"/>
                  </a:lnTo>
                  <a:lnTo>
                    <a:pt x="715" y="4"/>
                  </a:lnTo>
                  <a:lnTo>
                    <a:pt x="715" y="2"/>
                  </a:lnTo>
                  <a:lnTo>
                    <a:pt x="716" y="1"/>
                  </a:lnTo>
                  <a:lnTo>
                    <a:pt x="717" y="0"/>
                  </a:lnTo>
                  <a:lnTo>
                    <a:pt x="1231" y="0"/>
                  </a:lnTo>
                  <a:lnTo>
                    <a:pt x="1225" y="20"/>
                  </a:lnTo>
                  <a:lnTo>
                    <a:pt x="1218" y="39"/>
                  </a:lnTo>
                  <a:lnTo>
                    <a:pt x="1210" y="58"/>
                  </a:lnTo>
                  <a:lnTo>
                    <a:pt x="1203" y="77"/>
                  </a:lnTo>
                  <a:lnTo>
                    <a:pt x="1194" y="96"/>
                  </a:lnTo>
                  <a:lnTo>
                    <a:pt x="1185" y="115"/>
                  </a:lnTo>
                  <a:lnTo>
                    <a:pt x="1176" y="133"/>
                  </a:lnTo>
                  <a:lnTo>
                    <a:pt x="1165" y="152"/>
                  </a:lnTo>
                  <a:lnTo>
                    <a:pt x="1152" y="174"/>
                  </a:lnTo>
                  <a:lnTo>
                    <a:pt x="1138" y="196"/>
                  </a:lnTo>
                  <a:lnTo>
                    <a:pt x="1123" y="218"/>
                  </a:lnTo>
                  <a:lnTo>
                    <a:pt x="1108" y="238"/>
                  </a:lnTo>
                  <a:lnTo>
                    <a:pt x="1092" y="259"/>
                  </a:lnTo>
                  <a:lnTo>
                    <a:pt x="1075" y="279"/>
                  </a:lnTo>
                  <a:lnTo>
                    <a:pt x="1058" y="298"/>
                  </a:lnTo>
                  <a:lnTo>
                    <a:pt x="1039" y="316"/>
                  </a:lnTo>
                  <a:lnTo>
                    <a:pt x="1021" y="335"/>
                  </a:lnTo>
                  <a:lnTo>
                    <a:pt x="1001" y="353"/>
                  </a:lnTo>
                  <a:lnTo>
                    <a:pt x="982" y="370"/>
                  </a:lnTo>
                  <a:lnTo>
                    <a:pt x="962" y="387"/>
                  </a:lnTo>
                  <a:lnTo>
                    <a:pt x="940" y="404"/>
                  </a:lnTo>
                  <a:lnTo>
                    <a:pt x="917" y="419"/>
                  </a:lnTo>
                  <a:lnTo>
                    <a:pt x="895" y="434"/>
                  </a:lnTo>
                  <a:lnTo>
                    <a:pt x="871" y="449"/>
                  </a:lnTo>
                  <a:lnTo>
                    <a:pt x="852" y="460"/>
                  </a:lnTo>
                  <a:lnTo>
                    <a:pt x="832" y="472"/>
                  </a:lnTo>
                  <a:lnTo>
                    <a:pt x="811" y="482"/>
                  </a:lnTo>
                  <a:lnTo>
                    <a:pt x="790" y="492"/>
                  </a:lnTo>
                  <a:lnTo>
                    <a:pt x="769" y="501"/>
                  </a:lnTo>
                  <a:lnTo>
                    <a:pt x="747" y="511"/>
                  </a:lnTo>
                  <a:lnTo>
                    <a:pt x="725" y="519"/>
                  </a:lnTo>
                  <a:lnTo>
                    <a:pt x="703" y="526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3040" y="417528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08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397"/>
                  </a:lnTo>
                  <a:lnTo>
                    <a:pt x="459" y="394"/>
                  </a:lnTo>
                  <a:lnTo>
                    <a:pt x="480" y="390"/>
                  </a:lnTo>
                  <a:lnTo>
                    <a:pt x="500" y="386"/>
                  </a:lnTo>
                  <a:lnTo>
                    <a:pt x="518" y="382"/>
                  </a:lnTo>
                  <a:lnTo>
                    <a:pt x="537" y="377"/>
                  </a:lnTo>
                  <a:lnTo>
                    <a:pt x="556" y="371"/>
                  </a:lnTo>
                  <a:lnTo>
                    <a:pt x="574" y="363"/>
                  </a:lnTo>
                  <a:lnTo>
                    <a:pt x="591" y="356"/>
                  </a:lnTo>
                  <a:lnTo>
                    <a:pt x="608" y="347"/>
                  </a:lnTo>
                  <a:lnTo>
                    <a:pt x="623" y="339"/>
                  </a:lnTo>
                  <a:lnTo>
                    <a:pt x="639" y="330"/>
                  </a:lnTo>
                  <a:lnTo>
                    <a:pt x="655" y="319"/>
                  </a:lnTo>
                  <a:lnTo>
                    <a:pt x="670" y="308"/>
                  </a:lnTo>
                  <a:lnTo>
                    <a:pt x="683" y="296"/>
                  </a:lnTo>
                  <a:lnTo>
                    <a:pt x="697" y="283"/>
                  </a:lnTo>
                  <a:lnTo>
                    <a:pt x="710" y="271"/>
                  </a:lnTo>
                  <a:lnTo>
                    <a:pt x="722" y="257"/>
                  </a:lnTo>
                  <a:lnTo>
                    <a:pt x="734" y="242"/>
                  </a:lnTo>
                  <a:lnTo>
                    <a:pt x="744" y="228"/>
                  </a:lnTo>
                  <a:lnTo>
                    <a:pt x="755" y="213"/>
                  </a:lnTo>
                  <a:lnTo>
                    <a:pt x="763" y="197"/>
                  </a:lnTo>
                  <a:lnTo>
                    <a:pt x="772" y="182"/>
                  </a:lnTo>
                  <a:lnTo>
                    <a:pt x="779" y="165"/>
                  </a:lnTo>
                  <a:lnTo>
                    <a:pt x="786" y="149"/>
                  </a:lnTo>
                  <a:lnTo>
                    <a:pt x="793" y="131"/>
                  </a:lnTo>
                  <a:lnTo>
                    <a:pt x="797" y="113"/>
                  </a:lnTo>
                  <a:lnTo>
                    <a:pt x="802" y="95"/>
                  </a:lnTo>
                  <a:lnTo>
                    <a:pt x="805" y="78"/>
                  </a:lnTo>
                  <a:lnTo>
                    <a:pt x="808" y="59"/>
                  </a:lnTo>
                  <a:lnTo>
                    <a:pt x="810" y="40"/>
                  </a:lnTo>
                  <a:lnTo>
                    <a:pt x="811" y="20"/>
                  </a:lnTo>
                  <a:lnTo>
                    <a:pt x="811" y="0"/>
                  </a:lnTo>
                  <a:lnTo>
                    <a:pt x="1269" y="0"/>
                  </a:lnTo>
                  <a:lnTo>
                    <a:pt x="1269" y="1"/>
                  </a:lnTo>
                  <a:lnTo>
                    <a:pt x="1269" y="3"/>
                  </a:lnTo>
                  <a:lnTo>
                    <a:pt x="1269" y="4"/>
                  </a:lnTo>
                  <a:lnTo>
                    <a:pt x="1269" y="6"/>
                  </a:lnTo>
                  <a:lnTo>
                    <a:pt x="1269" y="8"/>
                  </a:lnTo>
                  <a:lnTo>
                    <a:pt x="1269" y="9"/>
                  </a:lnTo>
                  <a:lnTo>
                    <a:pt x="1269" y="11"/>
                  </a:lnTo>
                  <a:lnTo>
                    <a:pt x="1269" y="12"/>
                  </a:lnTo>
                  <a:lnTo>
                    <a:pt x="1269" y="40"/>
                  </a:lnTo>
                  <a:lnTo>
                    <a:pt x="1268" y="67"/>
                  </a:lnTo>
                  <a:lnTo>
                    <a:pt x="1266" y="93"/>
                  </a:lnTo>
                  <a:lnTo>
                    <a:pt x="1263" y="120"/>
                  </a:lnTo>
                  <a:lnTo>
                    <a:pt x="1259" y="146"/>
                  </a:lnTo>
                  <a:lnTo>
                    <a:pt x="1255" y="171"/>
                  </a:lnTo>
                  <a:lnTo>
                    <a:pt x="1249" y="197"/>
                  </a:lnTo>
                  <a:lnTo>
                    <a:pt x="1243" y="222"/>
                  </a:lnTo>
                  <a:lnTo>
                    <a:pt x="1237" y="247"/>
                  </a:lnTo>
                  <a:lnTo>
                    <a:pt x="1228" y="272"/>
                  </a:lnTo>
                  <a:lnTo>
                    <a:pt x="1220" y="296"/>
                  </a:lnTo>
                  <a:lnTo>
                    <a:pt x="1210" y="320"/>
                  </a:lnTo>
                  <a:lnTo>
                    <a:pt x="1201" y="343"/>
                  </a:lnTo>
                  <a:lnTo>
                    <a:pt x="1189" y="367"/>
                  </a:lnTo>
                  <a:lnTo>
                    <a:pt x="1178" y="390"/>
                  </a:lnTo>
                  <a:lnTo>
                    <a:pt x="1165" y="414"/>
                  </a:lnTo>
                  <a:lnTo>
                    <a:pt x="1157" y="428"/>
                  </a:lnTo>
                  <a:lnTo>
                    <a:pt x="1147" y="443"/>
                  </a:lnTo>
                  <a:lnTo>
                    <a:pt x="1138" y="457"/>
                  </a:lnTo>
                  <a:lnTo>
                    <a:pt x="1129" y="471"/>
                  </a:lnTo>
                  <a:lnTo>
                    <a:pt x="1119" y="485"/>
                  </a:lnTo>
                  <a:lnTo>
                    <a:pt x="1109" y="499"/>
                  </a:lnTo>
                  <a:lnTo>
                    <a:pt x="1098" y="512"/>
                  </a:lnTo>
                  <a:lnTo>
                    <a:pt x="1088" y="526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3040" y="409104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31" y="526"/>
                  </a:moveTo>
                  <a:lnTo>
                    <a:pt x="717" y="526"/>
                  </a:lnTo>
                  <a:lnTo>
                    <a:pt x="728" y="513"/>
                  </a:lnTo>
                  <a:lnTo>
                    <a:pt x="739" y="499"/>
                  </a:lnTo>
                  <a:lnTo>
                    <a:pt x="749" y="484"/>
                  </a:lnTo>
                  <a:lnTo>
                    <a:pt x="759" y="470"/>
                  </a:lnTo>
                  <a:lnTo>
                    <a:pt x="767" y="455"/>
                  </a:lnTo>
                  <a:lnTo>
                    <a:pt x="775" y="439"/>
                  </a:lnTo>
                  <a:lnTo>
                    <a:pt x="782" y="423"/>
                  </a:lnTo>
                  <a:lnTo>
                    <a:pt x="788" y="408"/>
                  </a:lnTo>
                  <a:lnTo>
                    <a:pt x="794" y="391"/>
                  </a:lnTo>
                  <a:lnTo>
                    <a:pt x="799" y="373"/>
                  </a:lnTo>
                  <a:lnTo>
                    <a:pt x="802" y="356"/>
                  </a:lnTo>
                  <a:lnTo>
                    <a:pt x="806" y="338"/>
                  </a:lnTo>
                  <a:lnTo>
                    <a:pt x="808" y="320"/>
                  </a:lnTo>
                  <a:lnTo>
                    <a:pt x="810" y="301"/>
                  </a:lnTo>
                  <a:lnTo>
                    <a:pt x="811" y="282"/>
                  </a:lnTo>
                  <a:lnTo>
                    <a:pt x="811" y="263"/>
                  </a:lnTo>
                  <a:lnTo>
                    <a:pt x="811" y="243"/>
                  </a:lnTo>
                  <a:lnTo>
                    <a:pt x="810" y="224"/>
                  </a:lnTo>
                  <a:lnTo>
                    <a:pt x="809" y="206"/>
                  </a:lnTo>
                  <a:lnTo>
                    <a:pt x="806" y="187"/>
                  </a:lnTo>
                  <a:lnTo>
                    <a:pt x="804" y="170"/>
                  </a:lnTo>
                  <a:lnTo>
                    <a:pt x="800" y="153"/>
                  </a:lnTo>
                  <a:lnTo>
                    <a:pt x="796" y="136"/>
                  </a:lnTo>
                  <a:lnTo>
                    <a:pt x="791" y="119"/>
                  </a:lnTo>
                  <a:lnTo>
                    <a:pt x="786" y="103"/>
                  </a:lnTo>
                  <a:lnTo>
                    <a:pt x="780" y="87"/>
                  </a:lnTo>
                  <a:lnTo>
                    <a:pt x="774" y="72"/>
                  </a:lnTo>
                  <a:lnTo>
                    <a:pt x="766" y="57"/>
                  </a:lnTo>
                  <a:lnTo>
                    <a:pt x="758" y="42"/>
                  </a:lnTo>
                  <a:lnTo>
                    <a:pt x="749" y="28"/>
                  </a:lnTo>
                  <a:lnTo>
                    <a:pt x="740" y="14"/>
                  </a:lnTo>
                  <a:lnTo>
                    <a:pt x="731" y="0"/>
                  </a:lnTo>
                  <a:lnTo>
                    <a:pt x="1234" y="0"/>
                  </a:lnTo>
                  <a:lnTo>
                    <a:pt x="1242" y="33"/>
                  </a:lnTo>
                  <a:lnTo>
                    <a:pt x="1249" y="65"/>
                  </a:lnTo>
                  <a:lnTo>
                    <a:pt x="1256" y="99"/>
                  </a:lnTo>
                  <a:lnTo>
                    <a:pt x="1261" y="133"/>
                  </a:lnTo>
                  <a:lnTo>
                    <a:pt x="1264" y="168"/>
                  </a:lnTo>
                  <a:lnTo>
                    <a:pt x="1267" y="204"/>
                  </a:lnTo>
                  <a:lnTo>
                    <a:pt x="1269" y="240"/>
                  </a:lnTo>
                  <a:lnTo>
                    <a:pt x="1269" y="276"/>
                  </a:lnTo>
                  <a:lnTo>
                    <a:pt x="1269" y="309"/>
                  </a:lnTo>
                  <a:lnTo>
                    <a:pt x="1267" y="342"/>
                  </a:lnTo>
                  <a:lnTo>
                    <a:pt x="1264" y="373"/>
                  </a:lnTo>
                  <a:lnTo>
                    <a:pt x="1260" y="405"/>
                  </a:lnTo>
                  <a:lnTo>
                    <a:pt x="1255" y="436"/>
                  </a:lnTo>
                  <a:lnTo>
                    <a:pt x="1248" y="467"/>
                  </a:lnTo>
                  <a:lnTo>
                    <a:pt x="1241" y="497"/>
                  </a:lnTo>
                  <a:lnTo>
                    <a:pt x="1231" y="526"/>
                  </a:lnTo>
                  <a:close/>
                  <a:moveTo>
                    <a:pt x="438" y="526"/>
                  </a:moveTo>
                  <a:lnTo>
                    <a:pt x="0" y="526"/>
                  </a:lnTo>
                  <a:lnTo>
                    <a:pt x="0" y="0"/>
                  </a:lnTo>
                  <a:lnTo>
                    <a:pt x="438" y="0"/>
                  </a:lnTo>
                  <a:lnTo>
                    <a:pt x="438" y="526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040" y="4008600"/>
              <a:ext cx="403200" cy="166680"/>
            </a:xfrm>
            <a:custGeom>
              <a:avLst/>
              <a:gdLst/>
              <a:ahLst/>
              <a:rect l="l" t="t" r="r" b="b"/>
              <a:pathLst>
                <a:path w="1269" h="526">
                  <a:moveTo>
                    <a:pt x="1269" y="526"/>
                  </a:moveTo>
                  <a:lnTo>
                    <a:pt x="811" y="526"/>
                  </a:lnTo>
                  <a:lnTo>
                    <a:pt x="811" y="526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25"/>
                  </a:lnTo>
                  <a:lnTo>
                    <a:pt x="811" y="503"/>
                  </a:lnTo>
                  <a:lnTo>
                    <a:pt x="810" y="482"/>
                  </a:lnTo>
                  <a:lnTo>
                    <a:pt x="808" y="461"/>
                  </a:lnTo>
                  <a:lnTo>
                    <a:pt x="805" y="441"/>
                  </a:lnTo>
                  <a:lnTo>
                    <a:pt x="802" y="421"/>
                  </a:lnTo>
                  <a:lnTo>
                    <a:pt x="797" y="402"/>
                  </a:lnTo>
                  <a:lnTo>
                    <a:pt x="791" y="383"/>
                  </a:lnTo>
                  <a:lnTo>
                    <a:pt x="786" y="364"/>
                  </a:lnTo>
                  <a:lnTo>
                    <a:pt x="779" y="347"/>
                  </a:lnTo>
                  <a:lnTo>
                    <a:pt x="772" y="330"/>
                  </a:lnTo>
                  <a:lnTo>
                    <a:pt x="763" y="313"/>
                  </a:lnTo>
                  <a:lnTo>
                    <a:pt x="754" y="297"/>
                  </a:lnTo>
                  <a:lnTo>
                    <a:pt x="743" y="280"/>
                  </a:lnTo>
                  <a:lnTo>
                    <a:pt x="733" y="265"/>
                  </a:lnTo>
                  <a:lnTo>
                    <a:pt x="721" y="251"/>
                  </a:lnTo>
                  <a:lnTo>
                    <a:pt x="709" y="236"/>
                  </a:lnTo>
                  <a:lnTo>
                    <a:pt x="695" y="222"/>
                  </a:lnTo>
                  <a:lnTo>
                    <a:pt x="681" y="210"/>
                  </a:lnTo>
                  <a:lnTo>
                    <a:pt x="668" y="198"/>
                  </a:lnTo>
                  <a:lnTo>
                    <a:pt x="653" y="187"/>
                  </a:lnTo>
                  <a:lnTo>
                    <a:pt x="637" y="176"/>
                  </a:lnTo>
                  <a:lnTo>
                    <a:pt x="621" y="167"/>
                  </a:lnTo>
                  <a:lnTo>
                    <a:pt x="606" y="158"/>
                  </a:lnTo>
                  <a:lnTo>
                    <a:pt x="589" y="151"/>
                  </a:lnTo>
                  <a:lnTo>
                    <a:pt x="572" y="144"/>
                  </a:lnTo>
                  <a:lnTo>
                    <a:pt x="554" y="138"/>
                  </a:lnTo>
                  <a:lnTo>
                    <a:pt x="536" y="133"/>
                  </a:lnTo>
                  <a:lnTo>
                    <a:pt x="517" y="129"/>
                  </a:lnTo>
                  <a:lnTo>
                    <a:pt x="499" y="125"/>
                  </a:lnTo>
                  <a:lnTo>
                    <a:pt x="479" y="123"/>
                  </a:lnTo>
                  <a:lnTo>
                    <a:pt x="459" y="121"/>
                  </a:lnTo>
                  <a:lnTo>
                    <a:pt x="438" y="121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1105" y="0"/>
                  </a:lnTo>
                  <a:lnTo>
                    <a:pt x="1115" y="12"/>
                  </a:lnTo>
                  <a:lnTo>
                    <a:pt x="1124" y="26"/>
                  </a:lnTo>
                  <a:lnTo>
                    <a:pt x="1134" y="40"/>
                  </a:lnTo>
                  <a:lnTo>
                    <a:pt x="1142" y="53"/>
                  </a:lnTo>
                  <a:lnTo>
                    <a:pt x="1151" y="68"/>
                  </a:lnTo>
                  <a:lnTo>
                    <a:pt x="1159" y="82"/>
                  </a:lnTo>
                  <a:lnTo>
                    <a:pt x="1167" y="96"/>
                  </a:lnTo>
                  <a:lnTo>
                    <a:pt x="1175" y="111"/>
                  </a:lnTo>
                  <a:lnTo>
                    <a:pt x="1186" y="134"/>
                  </a:lnTo>
                  <a:lnTo>
                    <a:pt x="1197" y="157"/>
                  </a:lnTo>
                  <a:lnTo>
                    <a:pt x="1206" y="180"/>
                  </a:lnTo>
                  <a:lnTo>
                    <a:pt x="1216" y="205"/>
                  </a:lnTo>
                  <a:lnTo>
                    <a:pt x="1224" y="229"/>
                  </a:lnTo>
                  <a:lnTo>
                    <a:pt x="1231" y="254"/>
                  </a:lnTo>
                  <a:lnTo>
                    <a:pt x="1238" y="279"/>
                  </a:lnTo>
                  <a:lnTo>
                    <a:pt x="1244" y="304"/>
                  </a:lnTo>
                  <a:lnTo>
                    <a:pt x="1250" y="331"/>
                  </a:lnTo>
                  <a:lnTo>
                    <a:pt x="1255" y="358"/>
                  </a:lnTo>
                  <a:lnTo>
                    <a:pt x="1259" y="384"/>
                  </a:lnTo>
                  <a:lnTo>
                    <a:pt x="1263" y="411"/>
                  </a:lnTo>
                  <a:lnTo>
                    <a:pt x="1265" y="440"/>
                  </a:lnTo>
                  <a:lnTo>
                    <a:pt x="1267" y="468"/>
                  </a:lnTo>
                  <a:lnTo>
                    <a:pt x="1268" y="496"/>
                  </a:lnTo>
                  <a:lnTo>
                    <a:pt x="1269" y="526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3040" y="3924360"/>
              <a:ext cx="392040" cy="166680"/>
            </a:xfrm>
            <a:custGeom>
              <a:avLst/>
              <a:gdLst/>
              <a:ahLst/>
              <a:rect l="l" t="t" r="r" b="b"/>
              <a:pathLst>
                <a:path w="1234" h="526">
                  <a:moveTo>
                    <a:pt x="1234" y="526"/>
                  </a:moveTo>
                  <a:lnTo>
                    <a:pt x="731" y="526"/>
                  </a:lnTo>
                  <a:lnTo>
                    <a:pt x="727" y="523"/>
                  </a:lnTo>
                  <a:lnTo>
                    <a:pt x="725" y="520"/>
                  </a:lnTo>
                  <a:lnTo>
                    <a:pt x="722" y="517"/>
                  </a:lnTo>
                  <a:lnTo>
                    <a:pt x="720" y="513"/>
                  </a:lnTo>
                  <a:lnTo>
                    <a:pt x="717" y="510"/>
                  </a:lnTo>
                  <a:lnTo>
                    <a:pt x="714" y="506"/>
                  </a:lnTo>
                  <a:lnTo>
                    <a:pt x="712" y="503"/>
                  </a:lnTo>
                  <a:lnTo>
                    <a:pt x="709" y="500"/>
                  </a:lnTo>
                  <a:lnTo>
                    <a:pt x="695" y="486"/>
                  </a:lnTo>
                  <a:lnTo>
                    <a:pt x="681" y="474"/>
                  </a:lnTo>
                  <a:lnTo>
                    <a:pt x="668" y="462"/>
                  </a:lnTo>
                  <a:lnTo>
                    <a:pt x="653" y="451"/>
                  </a:lnTo>
                  <a:lnTo>
                    <a:pt x="637" y="440"/>
                  </a:lnTo>
                  <a:lnTo>
                    <a:pt x="621" y="431"/>
                  </a:lnTo>
                  <a:lnTo>
                    <a:pt x="606" y="422"/>
                  </a:lnTo>
                  <a:lnTo>
                    <a:pt x="589" y="415"/>
                  </a:lnTo>
                  <a:lnTo>
                    <a:pt x="572" y="408"/>
                  </a:lnTo>
                  <a:lnTo>
                    <a:pt x="554" y="402"/>
                  </a:lnTo>
                  <a:lnTo>
                    <a:pt x="536" y="397"/>
                  </a:lnTo>
                  <a:lnTo>
                    <a:pt x="517" y="393"/>
                  </a:lnTo>
                  <a:lnTo>
                    <a:pt x="499" y="389"/>
                  </a:lnTo>
                  <a:lnTo>
                    <a:pt x="479" y="387"/>
                  </a:lnTo>
                  <a:lnTo>
                    <a:pt x="459" y="385"/>
                  </a:lnTo>
                  <a:lnTo>
                    <a:pt x="438" y="385"/>
                  </a:lnTo>
                  <a:lnTo>
                    <a:pt x="438" y="526"/>
                  </a:lnTo>
                  <a:lnTo>
                    <a:pt x="0" y="526"/>
                  </a:lnTo>
                  <a:lnTo>
                    <a:pt x="0" y="0"/>
                  </a:lnTo>
                  <a:lnTo>
                    <a:pt x="730" y="0"/>
                  </a:lnTo>
                  <a:lnTo>
                    <a:pt x="753" y="8"/>
                  </a:lnTo>
                  <a:lnTo>
                    <a:pt x="775" y="16"/>
                  </a:lnTo>
                  <a:lnTo>
                    <a:pt x="797" y="25"/>
                  </a:lnTo>
                  <a:lnTo>
                    <a:pt x="818" y="35"/>
                  </a:lnTo>
                  <a:lnTo>
                    <a:pt x="839" y="44"/>
                  </a:lnTo>
                  <a:lnTo>
                    <a:pt x="860" y="55"/>
                  </a:lnTo>
                  <a:lnTo>
                    <a:pt x="880" y="66"/>
                  </a:lnTo>
                  <a:lnTo>
                    <a:pt x="900" y="78"/>
                  </a:lnTo>
                  <a:lnTo>
                    <a:pt x="922" y="93"/>
                  </a:lnTo>
                  <a:lnTo>
                    <a:pt x="944" y="107"/>
                  </a:lnTo>
                  <a:lnTo>
                    <a:pt x="965" y="123"/>
                  </a:lnTo>
                  <a:lnTo>
                    <a:pt x="985" y="139"/>
                  </a:lnTo>
                  <a:lnTo>
                    <a:pt x="1005" y="156"/>
                  </a:lnTo>
                  <a:lnTo>
                    <a:pt x="1024" y="172"/>
                  </a:lnTo>
                  <a:lnTo>
                    <a:pt x="1041" y="190"/>
                  </a:lnTo>
                  <a:lnTo>
                    <a:pt x="1059" y="209"/>
                  </a:lnTo>
                  <a:lnTo>
                    <a:pt x="1076" y="228"/>
                  </a:lnTo>
                  <a:lnTo>
                    <a:pt x="1092" y="247"/>
                  </a:lnTo>
                  <a:lnTo>
                    <a:pt x="1108" y="267"/>
                  </a:lnTo>
                  <a:lnTo>
                    <a:pt x="1122" y="288"/>
                  </a:lnTo>
                  <a:lnTo>
                    <a:pt x="1137" y="309"/>
                  </a:lnTo>
                  <a:lnTo>
                    <a:pt x="1151" y="330"/>
                  </a:lnTo>
                  <a:lnTo>
                    <a:pt x="1163" y="353"/>
                  </a:lnTo>
                  <a:lnTo>
                    <a:pt x="1175" y="375"/>
                  </a:lnTo>
                  <a:lnTo>
                    <a:pt x="1184" y="393"/>
                  </a:lnTo>
                  <a:lnTo>
                    <a:pt x="1193" y="412"/>
                  </a:lnTo>
                  <a:lnTo>
                    <a:pt x="1200" y="430"/>
                  </a:lnTo>
                  <a:lnTo>
                    <a:pt x="1208" y="449"/>
                  </a:lnTo>
                  <a:lnTo>
                    <a:pt x="1215" y="468"/>
                  </a:lnTo>
                  <a:lnTo>
                    <a:pt x="1222" y="487"/>
                  </a:lnTo>
                  <a:lnTo>
                    <a:pt x="1228" y="506"/>
                  </a:lnTo>
                  <a:lnTo>
                    <a:pt x="1234" y="526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3040" y="3906720"/>
              <a:ext cx="350640" cy="101880"/>
            </a:xfrm>
            <a:custGeom>
              <a:avLst/>
              <a:gdLst/>
              <a:ahLst/>
              <a:rect l="l" t="t" r="r" b="b"/>
              <a:pathLst>
                <a:path w="1105" h="318">
                  <a:moveTo>
                    <a:pt x="1105" y="318"/>
                  </a:moveTo>
                  <a:lnTo>
                    <a:pt x="0" y="318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9" y="152"/>
                  </a:lnTo>
                  <a:lnTo>
                    <a:pt x="958" y="172"/>
                  </a:lnTo>
                  <a:lnTo>
                    <a:pt x="986" y="194"/>
                  </a:lnTo>
                  <a:lnTo>
                    <a:pt x="1012" y="216"/>
                  </a:lnTo>
                  <a:lnTo>
                    <a:pt x="1037" y="240"/>
                  </a:lnTo>
                  <a:lnTo>
                    <a:pt x="1061" y="265"/>
                  </a:lnTo>
                  <a:lnTo>
                    <a:pt x="1083" y="291"/>
                  </a:lnTo>
                  <a:lnTo>
                    <a:pt x="1105" y="318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040" y="3906720"/>
              <a:ext cx="231840" cy="17640"/>
            </a:xfrm>
            <a:custGeom>
              <a:avLst/>
              <a:gdLst/>
              <a:ahLst/>
              <a:rect l="l" t="t" r="r" b="b"/>
              <a:pathLst>
                <a:path w="730" h="54">
                  <a:moveTo>
                    <a:pt x="730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52" y="33"/>
                  </a:lnTo>
                  <a:lnTo>
                    <a:pt x="663" y="36"/>
                  </a:lnTo>
                  <a:lnTo>
                    <a:pt x="675" y="39"/>
                  </a:lnTo>
                  <a:lnTo>
                    <a:pt x="686" y="42"/>
                  </a:lnTo>
                  <a:lnTo>
                    <a:pt x="697" y="45"/>
                  </a:lnTo>
                  <a:lnTo>
                    <a:pt x="709" y="48"/>
                  </a:lnTo>
                  <a:lnTo>
                    <a:pt x="719" y="51"/>
                  </a:lnTo>
                  <a:lnTo>
                    <a:pt x="730" y="5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90360" y="1905120"/>
              <a:ext cx="2472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exually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7000" y="2811600"/>
              <a:ext cx="38746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ransmitted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5440" y="3716280"/>
              <a:ext cx="6642360" cy="17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iseases are serious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900" spc="-1" strike="noStrike">
                  <a:solidFill>
                    <a:srgbClr val="1f1a17"/>
                  </a:solidFill>
                  <a:latin typeface="Geometr231 Hv BT"/>
                </a:rPr>
                <a:t>and often for life 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3960" y="2085840"/>
              <a:ext cx="284040" cy="554040"/>
            </a:xfrm>
            <a:custGeom>
              <a:avLst/>
              <a:gdLst/>
              <a:ahLst/>
              <a:rect l="l" t="t" r="r" b="b"/>
              <a:pathLst>
                <a:path w="894" h="1745">
                  <a:moveTo>
                    <a:pt x="32" y="1724"/>
                  </a:moveTo>
                  <a:lnTo>
                    <a:pt x="21" y="1258"/>
                  </a:lnTo>
                  <a:lnTo>
                    <a:pt x="32" y="1263"/>
                  </a:lnTo>
                  <a:lnTo>
                    <a:pt x="45" y="1267"/>
                  </a:lnTo>
                  <a:lnTo>
                    <a:pt x="58" y="1271"/>
                  </a:lnTo>
                  <a:lnTo>
                    <a:pt x="69" y="1275"/>
                  </a:lnTo>
                  <a:lnTo>
                    <a:pt x="81" y="1280"/>
                  </a:lnTo>
                  <a:lnTo>
                    <a:pt x="92" y="1283"/>
                  </a:lnTo>
                  <a:lnTo>
                    <a:pt x="104" y="1286"/>
                  </a:lnTo>
                  <a:lnTo>
                    <a:pt x="115" y="1289"/>
                  </a:lnTo>
                  <a:lnTo>
                    <a:pt x="127" y="1292"/>
                  </a:lnTo>
                  <a:lnTo>
                    <a:pt x="137" y="1294"/>
                  </a:lnTo>
                  <a:lnTo>
                    <a:pt x="148" y="1296"/>
                  </a:lnTo>
                  <a:lnTo>
                    <a:pt x="159" y="1297"/>
                  </a:lnTo>
                  <a:lnTo>
                    <a:pt x="170" y="1299"/>
                  </a:lnTo>
                  <a:lnTo>
                    <a:pt x="180" y="1300"/>
                  </a:lnTo>
                  <a:lnTo>
                    <a:pt x="191" y="1300"/>
                  </a:lnTo>
                  <a:lnTo>
                    <a:pt x="200" y="1301"/>
                  </a:lnTo>
                  <a:lnTo>
                    <a:pt x="218" y="1300"/>
                  </a:lnTo>
                  <a:lnTo>
                    <a:pt x="236" y="1297"/>
                  </a:lnTo>
                  <a:lnTo>
                    <a:pt x="252" y="1294"/>
                  </a:lnTo>
                  <a:lnTo>
                    <a:pt x="268" y="1291"/>
                  </a:lnTo>
                  <a:lnTo>
                    <a:pt x="281" y="1285"/>
                  </a:lnTo>
                  <a:lnTo>
                    <a:pt x="295" y="1279"/>
                  </a:lnTo>
                  <a:lnTo>
                    <a:pt x="308" y="1271"/>
                  </a:lnTo>
                  <a:lnTo>
                    <a:pt x="320" y="1262"/>
                  </a:lnTo>
                  <a:lnTo>
                    <a:pt x="331" y="1252"/>
                  </a:lnTo>
                  <a:lnTo>
                    <a:pt x="340" y="1242"/>
                  </a:lnTo>
                  <a:lnTo>
                    <a:pt x="348" y="1231"/>
                  </a:lnTo>
                  <a:lnTo>
                    <a:pt x="355" y="1220"/>
                  </a:lnTo>
                  <a:lnTo>
                    <a:pt x="360" y="1207"/>
                  </a:lnTo>
                  <a:lnTo>
                    <a:pt x="363" y="1195"/>
                  </a:lnTo>
                  <a:lnTo>
                    <a:pt x="365" y="1181"/>
                  </a:lnTo>
                  <a:lnTo>
                    <a:pt x="366" y="1167"/>
                  </a:lnTo>
                  <a:lnTo>
                    <a:pt x="365" y="1158"/>
                  </a:lnTo>
                  <a:lnTo>
                    <a:pt x="364" y="1147"/>
                  </a:lnTo>
                  <a:lnTo>
                    <a:pt x="362" y="1138"/>
                  </a:lnTo>
                  <a:lnTo>
                    <a:pt x="358" y="1127"/>
                  </a:lnTo>
                  <a:lnTo>
                    <a:pt x="354" y="1116"/>
                  </a:lnTo>
                  <a:lnTo>
                    <a:pt x="348" y="1105"/>
                  </a:lnTo>
                  <a:lnTo>
                    <a:pt x="342" y="1094"/>
                  </a:lnTo>
                  <a:lnTo>
                    <a:pt x="335" y="1082"/>
                  </a:lnTo>
                  <a:lnTo>
                    <a:pt x="326" y="1070"/>
                  </a:lnTo>
                  <a:lnTo>
                    <a:pt x="317" y="1057"/>
                  </a:lnTo>
                  <a:lnTo>
                    <a:pt x="306" y="1044"/>
                  </a:lnTo>
                  <a:lnTo>
                    <a:pt x="295" y="1032"/>
                  </a:lnTo>
                  <a:lnTo>
                    <a:pt x="270" y="1005"/>
                  </a:lnTo>
                  <a:lnTo>
                    <a:pt x="240" y="976"/>
                  </a:lnTo>
                  <a:lnTo>
                    <a:pt x="230" y="967"/>
                  </a:lnTo>
                  <a:lnTo>
                    <a:pt x="220" y="958"/>
                  </a:lnTo>
                  <a:lnTo>
                    <a:pt x="211" y="950"/>
                  </a:lnTo>
                  <a:lnTo>
                    <a:pt x="202" y="942"/>
                  </a:lnTo>
                  <a:lnTo>
                    <a:pt x="194" y="934"/>
                  </a:lnTo>
                  <a:lnTo>
                    <a:pt x="187" y="927"/>
                  </a:lnTo>
                  <a:lnTo>
                    <a:pt x="180" y="921"/>
                  </a:lnTo>
                  <a:lnTo>
                    <a:pt x="174" y="914"/>
                  </a:lnTo>
                  <a:lnTo>
                    <a:pt x="153" y="891"/>
                  </a:lnTo>
                  <a:lnTo>
                    <a:pt x="132" y="869"/>
                  </a:lnTo>
                  <a:lnTo>
                    <a:pt x="114" y="846"/>
                  </a:lnTo>
                  <a:lnTo>
                    <a:pt x="96" y="823"/>
                  </a:lnTo>
                  <a:lnTo>
                    <a:pt x="81" y="799"/>
                  </a:lnTo>
                  <a:lnTo>
                    <a:pt x="67" y="776"/>
                  </a:lnTo>
                  <a:lnTo>
                    <a:pt x="53" y="751"/>
                  </a:lnTo>
                  <a:lnTo>
                    <a:pt x="42" y="728"/>
                  </a:lnTo>
                  <a:lnTo>
                    <a:pt x="32" y="704"/>
                  </a:lnTo>
                  <a:lnTo>
                    <a:pt x="24" y="679"/>
                  </a:lnTo>
                  <a:lnTo>
                    <a:pt x="17" y="654"/>
                  </a:lnTo>
                  <a:lnTo>
                    <a:pt x="10" y="629"/>
                  </a:lnTo>
                  <a:lnTo>
                    <a:pt x="5" y="602"/>
                  </a:lnTo>
                  <a:lnTo>
                    <a:pt x="2" y="576"/>
                  </a:lnTo>
                  <a:lnTo>
                    <a:pt x="0" y="549"/>
                  </a:lnTo>
                  <a:lnTo>
                    <a:pt x="0" y="522"/>
                  </a:lnTo>
                  <a:lnTo>
                    <a:pt x="0" y="493"/>
                  </a:lnTo>
                  <a:lnTo>
                    <a:pt x="2" y="466"/>
                  </a:lnTo>
                  <a:lnTo>
                    <a:pt x="5" y="439"/>
                  </a:lnTo>
                  <a:lnTo>
                    <a:pt x="9" y="412"/>
                  </a:lnTo>
                  <a:lnTo>
                    <a:pt x="16" y="387"/>
                  </a:lnTo>
                  <a:lnTo>
                    <a:pt x="22" y="362"/>
                  </a:lnTo>
                  <a:lnTo>
                    <a:pt x="30" y="338"/>
                  </a:lnTo>
                  <a:lnTo>
                    <a:pt x="40" y="314"/>
                  </a:lnTo>
                  <a:lnTo>
                    <a:pt x="50" y="291"/>
                  </a:lnTo>
                  <a:lnTo>
                    <a:pt x="62" y="268"/>
                  </a:lnTo>
                  <a:lnTo>
                    <a:pt x="75" y="246"/>
                  </a:lnTo>
                  <a:lnTo>
                    <a:pt x="89" y="225"/>
                  </a:lnTo>
                  <a:lnTo>
                    <a:pt x="105" y="204"/>
                  </a:lnTo>
                  <a:lnTo>
                    <a:pt x="122" y="184"/>
                  </a:lnTo>
                  <a:lnTo>
                    <a:pt x="139" y="166"/>
                  </a:lnTo>
                  <a:lnTo>
                    <a:pt x="159" y="147"/>
                  </a:lnTo>
                  <a:lnTo>
                    <a:pt x="179" y="129"/>
                  </a:lnTo>
                  <a:lnTo>
                    <a:pt x="200" y="112"/>
                  </a:lnTo>
                  <a:lnTo>
                    <a:pt x="222" y="97"/>
                  </a:lnTo>
                  <a:lnTo>
                    <a:pt x="244" y="83"/>
                  </a:lnTo>
                  <a:lnTo>
                    <a:pt x="268" y="69"/>
                  </a:lnTo>
                  <a:lnTo>
                    <a:pt x="292" y="57"/>
                  </a:lnTo>
                  <a:lnTo>
                    <a:pt x="317" y="47"/>
                  </a:lnTo>
                  <a:lnTo>
                    <a:pt x="342" y="36"/>
                  </a:lnTo>
                  <a:lnTo>
                    <a:pt x="368" y="28"/>
                  </a:lnTo>
                  <a:lnTo>
                    <a:pt x="396" y="21"/>
                  </a:lnTo>
                  <a:lnTo>
                    <a:pt x="423" y="14"/>
                  </a:lnTo>
                  <a:lnTo>
                    <a:pt x="451" y="9"/>
                  </a:lnTo>
                  <a:lnTo>
                    <a:pt x="480" y="5"/>
                  </a:lnTo>
                  <a:lnTo>
                    <a:pt x="510" y="2"/>
                  </a:lnTo>
                  <a:lnTo>
                    <a:pt x="541" y="1"/>
                  </a:lnTo>
                  <a:lnTo>
                    <a:pt x="572" y="0"/>
                  </a:lnTo>
                  <a:lnTo>
                    <a:pt x="592" y="0"/>
                  </a:lnTo>
                  <a:lnTo>
                    <a:pt x="611" y="1"/>
                  </a:lnTo>
                  <a:lnTo>
                    <a:pt x="630" y="2"/>
                  </a:lnTo>
                  <a:lnTo>
                    <a:pt x="649" y="3"/>
                  </a:lnTo>
                  <a:lnTo>
                    <a:pt x="668" y="4"/>
                  </a:lnTo>
                  <a:lnTo>
                    <a:pt x="686" y="6"/>
                  </a:lnTo>
                  <a:lnTo>
                    <a:pt x="704" y="8"/>
                  </a:lnTo>
                  <a:lnTo>
                    <a:pt x="721" y="10"/>
                  </a:lnTo>
                  <a:lnTo>
                    <a:pt x="739" y="13"/>
                  </a:lnTo>
                  <a:lnTo>
                    <a:pt x="756" y="16"/>
                  </a:lnTo>
                  <a:lnTo>
                    <a:pt x="774" y="20"/>
                  </a:lnTo>
                  <a:lnTo>
                    <a:pt x="790" y="24"/>
                  </a:lnTo>
                  <a:lnTo>
                    <a:pt x="807" y="28"/>
                  </a:lnTo>
                  <a:lnTo>
                    <a:pt x="824" y="32"/>
                  </a:lnTo>
                  <a:lnTo>
                    <a:pt x="840" y="37"/>
                  </a:lnTo>
                  <a:lnTo>
                    <a:pt x="857" y="43"/>
                  </a:lnTo>
                  <a:lnTo>
                    <a:pt x="857" y="463"/>
                  </a:lnTo>
                  <a:lnTo>
                    <a:pt x="843" y="455"/>
                  </a:lnTo>
                  <a:lnTo>
                    <a:pt x="829" y="449"/>
                  </a:lnTo>
                  <a:lnTo>
                    <a:pt x="816" y="444"/>
                  </a:lnTo>
                  <a:lnTo>
                    <a:pt x="803" y="439"/>
                  </a:lnTo>
                  <a:lnTo>
                    <a:pt x="790" y="433"/>
                  </a:lnTo>
                  <a:lnTo>
                    <a:pt x="778" y="428"/>
                  </a:lnTo>
                  <a:lnTo>
                    <a:pt x="765" y="424"/>
                  </a:lnTo>
                  <a:lnTo>
                    <a:pt x="754" y="421"/>
                  </a:lnTo>
                  <a:lnTo>
                    <a:pt x="742" y="418"/>
                  </a:lnTo>
                  <a:lnTo>
                    <a:pt x="731" y="414"/>
                  </a:lnTo>
                  <a:lnTo>
                    <a:pt x="719" y="412"/>
                  </a:lnTo>
                  <a:lnTo>
                    <a:pt x="709" y="410"/>
                  </a:lnTo>
                  <a:lnTo>
                    <a:pt x="698" y="409"/>
                  </a:lnTo>
                  <a:lnTo>
                    <a:pt x="689" y="408"/>
                  </a:lnTo>
                  <a:lnTo>
                    <a:pt x="678" y="407"/>
                  </a:lnTo>
                  <a:lnTo>
                    <a:pt x="669" y="407"/>
                  </a:lnTo>
                  <a:lnTo>
                    <a:pt x="649" y="407"/>
                  </a:lnTo>
                  <a:lnTo>
                    <a:pt x="630" y="409"/>
                  </a:lnTo>
                  <a:lnTo>
                    <a:pt x="612" y="411"/>
                  </a:lnTo>
                  <a:lnTo>
                    <a:pt x="595" y="415"/>
                  </a:lnTo>
                  <a:lnTo>
                    <a:pt x="580" y="421"/>
                  </a:lnTo>
                  <a:lnTo>
                    <a:pt x="566" y="426"/>
                  </a:lnTo>
                  <a:lnTo>
                    <a:pt x="553" y="433"/>
                  </a:lnTo>
                  <a:lnTo>
                    <a:pt x="542" y="442"/>
                  </a:lnTo>
                  <a:lnTo>
                    <a:pt x="531" y="450"/>
                  </a:lnTo>
                  <a:lnTo>
                    <a:pt x="522" y="461"/>
                  </a:lnTo>
                  <a:lnTo>
                    <a:pt x="514" y="471"/>
                  </a:lnTo>
                  <a:lnTo>
                    <a:pt x="508" y="484"/>
                  </a:lnTo>
                  <a:lnTo>
                    <a:pt x="503" y="496"/>
                  </a:lnTo>
                  <a:lnTo>
                    <a:pt x="500" y="510"/>
                  </a:lnTo>
                  <a:lnTo>
                    <a:pt x="497" y="525"/>
                  </a:lnTo>
                  <a:lnTo>
                    <a:pt x="496" y="539"/>
                  </a:lnTo>
                  <a:lnTo>
                    <a:pt x="497" y="549"/>
                  </a:lnTo>
                  <a:lnTo>
                    <a:pt x="499" y="558"/>
                  </a:lnTo>
                  <a:lnTo>
                    <a:pt x="501" y="568"/>
                  </a:lnTo>
                  <a:lnTo>
                    <a:pt x="505" y="577"/>
                  </a:lnTo>
                  <a:lnTo>
                    <a:pt x="509" y="587"/>
                  </a:lnTo>
                  <a:lnTo>
                    <a:pt x="514" y="597"/>
                  </a:lnTo>
                  <a:lnTo>
                    <a:pt x="520" y="607"/>
                  </a:lnTo>
                  <a:lnTo>
                    <a:pt x="527" y="617"/>
                  </a:lnTo>
                  <a:lnTo>
                    <a:pt x="535" y="628"/>
                  </a:lnTo>
                  <a:lnTo>
                    <a:pt x="545" y="639"/>
                  </a:lnTo>
                  <a:lnTo>
                    <a:pt x="554" y="650"/>
                  </a:lnTo>
                  <a:lnTo>
                    <a:pt x="565" y="661"/>
                  </a:lnTo>
                  <a:lnTo>
                    <a:pt x="590" y="683"/>
                  </a:lnTo>
                  <a:lnTo>
                    <a:pt x="618" y="707"/>
                  </a:lnTo>
                  <a:lnTo>
                    <a:pt x="630" y="717"/>
                  </a:lnTo>
                  <a:lnTo>
                    <a:pt x="641" y="726"/>
                  </a:lnTo>
                  <a:lnTo>
                    <a:pt x="652" y="735"/>
                  </a:lnTo>
                  <a:lnTo>
                    <a:pt x="661" y="743"/>
                  </a:lnTo>
                  <a:lnTo>
                    <a:pt x="670" y="750"/>
                  </a:lnTo>
                  <a:lnTo>
                    <a:pt x="678" y="758"/>
                  </a:lnTo>
                  <a:lnTo>
                    <a:pt x="686" y="764"/>
                  </a:lnTo>
                  <a:lnTo>
                    <a:pt x="693" y="769"/>
                  </a:lnTo>
                  <a:lnTo>
                    <a:pt x="717" y="791"/>
                  </a:lnTo>
                  <a:lnTo>
                    <a:pt x="739" y="814"/>
                  </a:lnTo>
                  <a:lnTo>
                    <a:pt x="760" y="838"/>
                  </a:lnTo>
                  <a:lnTo>
                    <a:pt x="780" y="862"/>
                  </a:lnTo>
                  <a:lnTo>
                    <a:pt x="798" y="887"/>
                  </a:lnTo>
                  <a:lnTo>
                    <a:pt x="815" y="912"/>
                  </a:lnTo>
                  <a:lnTo>
                    <a:pt x="829" y="939"/>
                  </a:lnTo>
                  <a:lnTo>
                    <a:pt x="843" y="967"/>
                  </a:lnTo>
                  <a:lnTo>
                    <a:pt x="856" y="994"/>
                  </a:lnTo>
                  <a:lnTo>
                    <a:pt x="866" y="1022"/>
                  </a:lnTo>
                  <a:lnTo>
                    <a:pt x="874" y="1052"/>
                  </a:lnTo>
                  <a:lnTo>
                    <a:pt x="882" y="1081"/>
                  </a:lnTo>
                  <a:lnTo>
                    <a:pt x="887" y="1111"/>
                  </a:lnTo>
                  <a:lnTo>
                    <a:pt x="891" y="1141"/>
                  </a:lnTo>
                  <a:lnTo>
                    <a:pt x="893" y="1171"/>
                  </a:lnTo>
                  <a:lnTo>
                    <a:pt x="894" y="1203"/>
                  </a:lnTo>
                  <a:lnTo>
                    <a:pt x="893" y="1234"/>
                  </a:lnTo>
                  <a:lnTo>
                    <a:pt x="892" y="1265"/>
                  </a:lnTo>
                  <a:lnTo>
                    <a:pt x="888" y="1294"/>
                  </a:lnTo>
                  <a:lnTo>
                    <a:pt x="884" y="1323"/>
                  </a:lnTo>
                  <a:lnTo>
                    <a:pt x="878" y="1351"/>
                  </a:lnTo>
                  <a:lnTo>
                    <a:pt x="871" y="1377"/>
                  </a:lnTo>
                  <a:lnTo>
                    <a:pt x="862" y="1404"/>
                  </a:lnTo>
                  <a:lnTo>
                    <a:pt x="852" y="1429"/>
                  </a:lnTo>
                  <a:lnTo>
                    <a:pt x="841" y="1454"/>
                  </a:lnTo>
                  <a:lnTo>
                    <a:pt x="829" y="1477"/>
                  </a:lnTo>
                  <a:lnTo>
                    <a:pt x="815" y="1500"/>
                  </a:lnTo>
                  <a:lnTo>
                    <a:pt x="800" y="1522"/>
                  </a:lnTo>
                  <a:lnTo>
                    <a:pt x="783" y="1543"/>
                  </a:lnTo>
                  <a:lnTo>
                    <a:pt x="765" y="1563"/>
                  </a:lnTo>
                  <a:lnTo>
                    <a:pt x="746" y="1582"/>
                  </a:lnTo>
                  <a:lnTo>
                    <a:pt x="726" y="1601"/>
                  </a:lnTo>
                  <a:lnTo>
                    <a:pt x="704" y="1619"/>
                  </a:lnTo>
                  <a:lnTo>
                    <a:pt x="682" y="1635"/>
                  </a:lnTo>
                  <a:lnTo>
                    <a:pt x="658" y="1650"/>
                  </a:lnTo>
                  <a:lnTo>
                    <a:pt x="634" y="1664"/>
                  </a:lnTo>
                  <a:lnTo>
                    <a:pt x="609" y="1677"/>
                  </a:lnTo>
                  <a:lnTo>
                    <a:pt x="581" y="1689"/>
                  </a:lnTo>
                  <a:lnTo>
                    <a:pt x="554" y="1700"/>
                  </a:lnTo>
                  <a:lnTo>
                    <a:pt x="526" y="1709"/>
                  </a:lnTo>
                  <a:lnTo>
                    <a:pt x="495" y="1717"/>
                  </a:lnTo>
                  <a:lnTo>
                    <a:pt x="465" y="1725"/>
                  </a:lnTo>
                  <a:lnTo>
                    <a:pt x="433" y="1731"/>
                  </a:lnTo>
                  <a:lnTo>
                    <a:pt x="401" y="1736"/>
                  </a:lnTo>
                  <a:lnTo>
                    <a:pt x="367" y="1741"/>
                  </a:lnTo>
                  <a:lnTo>
                    <a:pt x="332" y="1743"/>
                  </a:lnTo>
                  <a:lnTo>
                    <a:pt x="296" y="1745"/>
                  </a:lnTo>
                  <a:lnTo>
                    <a:pt x="259" y="1745"/>
                  </a:lnTo>
                  <a:lnTo>
                    <a:pt x="244" y="1745"/>
                  </a:lnTo>
                  <a:lnTo>
                    <a:pt x="230" y="1745"/>
                  </a:lnTo>
                  <a:lnTo>
                    <a:pt x="214" y="1744"/>
                  </a:lnTo>
                  <a:lnTo>
                    <a:pt x="199" y="1743"/>
                  </a:lnTo>
                  <a:lnTo>
                    <a:pt x="185" y="1743"/>
                  </a:lnTo>
                  <a:lnTo>
                    <a:pt x="170" y="1742"/>
                  </a:lnTo>
                  <a:lnTo>
                    <a:pt x="156" y="1741"/>
                  </a:lnTo>
                  <a:lnTo>
                    <a:pt x="142" y="1738"/>
                  </a:lnTo>
                  <a:lnTo>
                    <a:pt x="128" y="1737"/>
                  </a:lnTo>
                  <a:lnTo>
                    <a:pt x="113" y="1736"/>
                  </a:lnTo>
                  <a:lnTo>
                    <a:pt x="100" y="1734"/>
                  </a:lnTo>
                  <a:lnTo>
                    <a:pt x="86" y="1732"/>
                  </a:lnTo>
                  <a:lnTo>
                    <a:pt x="72" y="1730"/>
                  </a:lnTo>
                  <a:lnTo>
                    <a:pt x="59" y="1728"/>
                  </a:lnTo>
                  <a:lnTo>
                    <a:pt x="45" y="1726"/>
                  </a:lnTo>
                  <a:lnTo>
                    <a:pt x="32" y="172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0200" y="3000240"/>
              <a:ext cx="358560" cy="538200"/>
            </a:xfrm>
            <a:custGeom>
              <a:avLst/>
              <a:gdLst/>
              <a:ahLst/>
              <a:rect l="l" t="t" r="r" b="b"/>
              <a:pathLst>
                <a:path w="1127" h="1692">
                  <a:moveTo>
                    <a:pt x="784" y="427"/>
                  </a:moveTo>
                  <a:lnTo>
                    <a:pt x="784" y="1692"/>
                  </a:lnTo>
                  <a:lnTo>
                    <a:pt x="344" y="1692"/>
                  </a:lnTo>
                  <a:lnTo>
                    <a:pt x="344" y="427"/>
                  </a:lnTo>
                  <a:lnTo>
                    <a:pt x="0" y="427"/>
                  </a:lnTo>
                  <a:lnTo>
                    <a:pt x="46" y="0"/>
                  </a:lnTo>
                  <a:lnTo>
                    <a:pt x="1080" y="0"/>
                  </a:lnTo>
                  <a:lnTo>
                    <a:pt x="1127" y="427"/>
                  </a:lnTo>
                  <a:lnTo>
                    <a:pt x="784" y="427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2720" y="4046400"/>
              <a:ext cx="118800" cy="254160"/>
            </a:xfrm>
            <a:custGeom>
              <a:avLst/>
              <a:gdLst/>
              <a:ahLst/>
              <a:rect l="l" t="t" r="r" b="b"/>
              <a:pathLst>
                <a:path w="373" h="802">
                  <a:moveTo>
                    <a:pt x="0" y="802"/>
                  </a:moveTo>
                  <a:lnTo>
                    <a:pt x="21" y="799"/>
                  </a:lnTo>
                  <a:lnTo>
                    <a:pt x="42" y="795"/>
                  </a:lnTo>
                  <a:lnTo>
                    <a:pt x="62" y="791"/>
                  </a:lnTo>
                  <a:lnTo>
                    <a:pt x="80" y="787"/>
                  </a:lnTo>
                  <a:lnTo>
                    <a:pt x="99" y="782"/>
                  </a:lnTo>
                  <a:lnTo>
                    <a:pt x="118" y="776"/>
                  </a:lnTo>
                  <a:lnTo>
                    <a:pt x="136" y="768"/>
                  </a:lnTo>
                  <a:lnTo>
                    <a:pt x="153" y="761"/>
                  </a:lnTo>
                  <a:lnTo>
                    <a:pt x="170" y="752"/>
                  </a:lnTo>
                  <a:lnTo>
                    <a:pt x="185" y="744"/>
                  </a:lnTo>
                  <a:lnTo>
                    <a:pt x="201" y="735"/>
                  </a:lnTo>
                  <a:lnTo>
                    <a:pt x="217" y="724"/>
                  </a:lnTo>
                  <a:lnTo>
                    <a:pt x="232" y="713"/>
                  </a:lnTo>
                  <a:lnTo>
                    <a:pt x="245" y="701"/>
                  </a:lnTo>
                  <a:lnTo>
                    <a:pt x="259" y="688"/>
                  </a:lnTo>
                  <a:lnTo>
                    <a:pt x="272" y="676"/>
                  </a:lnTo>
                  <a:lnTo>
                    <a:pt x="284" y="661"/>
                  </a:lnTo>
                  <a:lnTo>
                    <a:pt x="296" y="647"/>
                  </a:lnTo>
                  <a:lnTo>
                    <a:pt x="306" y="633"/>
                  </a:lnTo>
                  <a:lnTo>
                    <a:pt x="317" y="618"/>
                  </a:lnTo>
                  <a:lnTo>
                    <a:pt x="325" y="602"/>
                  </a:lnTo>
                  <a:lnTo>
                    <a:pt x="334" y="587"/>
                  </a:lnTo>
                  <a:lnTo>
                    <a:pt x="342" y="570"/>
                  </a:lnTo>
                  <a:lnTo>
                    <a:pt x="348" y="553"/>
                  </a:lnTo>
                  <a:lnTo>
                    <a:pt x="355" y="536"/>
                  </a:lnTo>
                  <a:lnTo>
                    <a:pt x="360" y="518"/>
                  </a:lnTo>
                  <a:lnTo>
                    <a:pt x="364" y="500"/>
                  </a:lnTo>
                  <a:lnTo>
                    <a:pt x="367" y="482"/>
                  </a:lnTo>
                  <a:lnTo>
                    <a:pt x="370" y="463"/>
                  </a:lnTo>
                  <a:lnTo>
                    <a:pt x="372" y="444"/>
                  </a:lnTo>
                  <a:lnTo>
                    <a:pt x="373" y="424"/>
                  </a:lnTo>
                  <a:lnTo>
                    <a:pt x="373" y="404"/>
                  </a:lnTo>
                  <a:lnTo>
                    <a:pt x="373" y="382"/>
                  </a:lnTo>
                  <a:lnTo>
                    <a:pt x="372" y="361"/>
                  </a:lnTo>
                  <a:lnTo>
                    <a:pt x="370" y="340"/>
                  </a:lnTo>
                  <a:lnTo>
                    <a:pt x="367" y="320"/>
                  </a:lnTo>
                  <a:lnTo>
                    <a:pt x="364" y="300"/>
                  </a:lnTo>
                  <a:lnTo>
                    <a:pt x="359" y="281"/>
                  </a:lnTo>
                  <a:lnTo>
                    <a:pt x="353" y="262"/>
                  </a:lnTo>
                  <a:lnTo>
                    <a:pt x="348" y="243"/>
                  </a:lnTo>
                  <a:lnTo>
                    <a:pt x="341" y="226"/>
                  </a:lnTo>
                  <a:lnTo>
                    <a:pt x="334" y="209"/>
                  </a:lnTo>
                  <a:lnTo>
                    <a:pt x="325" y="192"/>
                  </a:lnTo>
                  <a:lnTo>
                    <a:pt x="316" y="176"/>
                  </a:lnTo>
                  <a:lnTo>
                    <a:pt x="305" y="159"/>
                  </a:lnTo>
                  <a:lnTo>
                    <a:pt x="295" y="144"/>
                  </a:lnTo>
                  <a:lnTo>
                    <a:pt x="283" y="130"/>
                  </a:lnTo>
                  <a:lnTo>
                    <a:pt x="271" y="115"/>
                  </a:lnTo>
                  <a:lnTo>
                    <a:pt x="257" y="101"/>
                  </a:lnTo>
                  <a:lnTo>
                    <a:pt x="243" y="89"/>
                  </a:lnTo>
                  <a:lnTo>
                    <a:pt x="230" y="77"/>
                  </a:lnTo>
                  <a:lnTo>
                    <a:pt x="215" y="66"/>
                  </a:lnTo>
                  <a:lnTo>
                    <a:pt x="199" y="55"/>
                  </a:lnTo>
                  <a:lnTo>
                    <a:pt x="183" y="46"/>
                  </a:lnTo>
                  <a:lnTo>
                    <a:pt x="168" y="37"/>
                  </a:lnTo>
                  <a:lnTo>
                    <a:pt x="151" y="30"/>
                  </a:lnTo>
                  <a:lnTo>
                    <a:pt x="134" y="23"/>
                  </a:lnTo>
                  <a:lnTo>
                    <a:pt x="116" y="17"/>
                  </a:lnTo>
                  <a:lnTo>
                    <a:pt x="98" y="12"/>
                  </a:lnTo>
                  <a:lnTo>
                    <a:pt x="79" y="8"/>
                  </a:lnTo>
                  <a:lnTo>
                    <a:pt x="61" y="4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802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43040" y="3906720"/>
              <a:ext cx="403200" cy="536760"/>
            </a:xfrm>
            <a:custGeom>
              <a:avLst/>
              <a:gdLst/>
              <a:ahLst/>
              <a:rect l="l" t="t" r="r" b="b"/>
              <a:pathLst>
                <a:path w="1269" h="1692">
                  <a:moveTo>
                    <a:pt x="255" y="0"/>
                  </a:moveTo>
                  <a:lnTo>
                    <a:pt x="315" y="1"/>
                  </a:lnTo>
                  <a:lnTo>
                    <a:pt x="370" y="2"/>
                  </a:lnTo>
                  <a:lnTo>
                    <a:pt x="423" y="5"/>
                  </a:lnTo>
                  <a:lnTo>
                    <a:pt x="472" y="8"/>
                  </a:lnTo>
                  <a:lnTo>
                    <a:pt x="520" y="12"/>
                  </a:lnTo>
                  <a:lnTo>
                    <a:pt x="563" y="18"/>
                  </a:lnTo>
                  <a:lnTo>
                    <a:pt x="604" y="24"/>
                  </a:lnTo>
                  <a:lnTo>
                    <a:pt x="641" y="31"/>
                  </a:lnTo>
                  <a:lnTo>
                    <a:pt x="676" y="40"/>
                  </a:lnTo>
                  <a:lnTo>
                    <a:pt x="711" y="49"/>
                  </a:lnTo>
                  <a:lnTo>
                    <a:pt x="745" y="60"/>
                  </a:lnTo>
                  <a:lnTo>
                    <a:pt x="778" y="71"/>
                  </a:lnTo>
                  <a:lnTo>
                    <a:pt x="809" y="85"/>
                  </a:lnTo>
                  <a:lnTo>
                    <a:pt x="841" y="99"/>
                  </a:lnTo>
                  <a:lnTo>
                    <a:pt x="870" y="115"/>
                  </a:lnTo>
                  <a:lnTo>
                    <a:pt x="900" y="132"/>
                  </a:lnTo>
                  <a:lnTo>
                    <a:pt x="922" y="147"/>
                  </a:lnTo>
                  <a:lnTo>
                    <a:pt x="944" y="161"/>
                  </a:lnTo>
                  <a:lnTo>
                    <a:pt x="965" y="177"/>
                  </a:lnTo>
                  <a:lnTo>
                    <a:pt x="985" y="193"/>
                  </a:lnTo>
                  <a:lnTo>
                    <a:pt x="1005" y="210"/>
                  </a:lnTo>
                  <a:lnTo>
                    <a:pt x="1024" y="226"/>
                  </a:lnTo>
                  <a:lnTo>
                    <a:pt x="1041" y="244"/>
                  </a:lnTo>
                  <a:lnTo>
                    <a:pt x="1059" y="263"/>
                  </a:lnTo>
                  <a:lnTo>
                    <a:pt x="1076" y="282"/>
                  </a:lnTo>
                  <a:lnTo>
                    <a:pt x="1092" y="301"/>
                  </a:lnTo>
                  <a:lnTo>
                    <a:pt x="1108" y="321"/>
                  </a:lnTo>
                  <a:lnTo>
                    <a:pt x="1122" y="342"/>
                  </a:lnTo>
                  <a:lnTo>
                    <a:pt x="1137" y="363"/>
                  </a:lnTo>
                  <a:lnTo>
                    <a:pt x="1151" y="384"/>
                  </a:lnTo>
                  <a:lnTo>
                    <a:pt x="1163" y="407"/>
                  </a:lnTo>
                  <a:lnTo>
                    <a:pt x="1175" y="429"/>
                  </a:lnTo>
                  <a:lnTo>
                    <a:pt x="1186" y="452"/>
                  </a:lnTo>
                  <a:lnTo>
                    <a:pt x="1197" y="476"/>
                  </a:lnTo>
                  <a:lnTo>
                    <a:pt x="1207" y="501"/>
                  </a:lnTo>
                  <a:lnTo>
                    <a:pt x="1217" y="526"/>
                  </a:lnTo>
                  <a:lnTo>
                    <a:pt x="1225" y="551"/>
                  </a:lnTo>
                  <a:lnTo>
                    <a:pt x="1232" y="576"/>
                  </a:lnTo>
                  <a:lnTo>
                    <a:pt x="1240" y="602"/>
                  </a:lnTo>
                  <a:lnTo>
                    <a:pt x="1246" y="629"/>
                  </a:lnTo>
                  <a:lnTo>
                    <a:pt x="1251" y="656"/>
                  </a:lnTo>
                  <a:lnTo>
                    <a:pt x="1257" y="683"/>
                  </a:lnTo>
                  <a:lnTo>
                    <a:pt x="1260" y="711"/>
                  </a:lnTo>
                  <a:lnTo>
                    <a:pt x="1264" y="739"/>
                  </a:lnTo>
                  <a:lnTo>
                    <a:pt x="1266" y="768"/>
                  </a:lnTo>
                  <a:lnTo>
                    <a:pt x="1268" y="797"/>
                  </a:lnTo>
                  <a:lnTo>
                    <a:pt x="1269" y="827"/>
                  </a:lnTo>
                  <a:lnTo>
                    <a:pt x="1269" y="856"/>
                  </a:lnTo>
                  <a:lnTo>
                    <a:pt x="1269" y="884"/>
                  </a:lnTo>
                  <a:lnTo>
                    <a:pt x="1268" y="911"/>
                  </a:lnTo>
                  <a:lnTo>
                    <a:pt x="1266" y="937"/>
                  </a:lnTo>
                  <a:lnTo>
                    <a:pt x="1263" y="964"/>
                  </a:lnTo>
                  <a:lnTo>
                    <a:pt x="1259" y="990"/>
                  </a:lnTo>
                  <a:lnTo>
                    <a:pt x="1255" y="1015"/>
                  </a:lnTo>
                  <a:lnTo>
                    <a:pt x="1249" y="1041"/>
                  </a:lnTo>
                  <a:lnTo>
                    <a:pt x="1243" y="1066"/>
                  </a:lnTo>
                  <a:lnTo>
                    <a:pt x="1237" y="1091"/>
                  </a:lnTo>
                  <a:lnTo>
                    <a:pt x="1228" y="1116"/>
                  </a:lnTo>
                  <a:lnTo>
                    <a:pt x="1220" y="1140"/>
                  </a:lnTo>
                  <a:lnTo>
                    <a:pt x="1210" y="1164"/>
                  </a:lnTo>
                  <a:lnTo>
                    <a:pt x="1201" y="1187"/>
                  </a:lnTo>
                  <a:lnTo>
                    <a:pt x="1189" y="1211"/>
                  </a:lnTo>
                  <a:lnTo>
                    <a:pt x="1178" y="1234"/>
                  </a:lnTo>
                  <a:lnTo>
                    <a:pt x="1165" y="1258"/>
                  </a:lnTo>
                  <a:lnTo>
                    <a:pt x="1152" y="1280"/>
                  </a:lnTo>
                  <a:lnTo>
                    <a:pt x="1138" y="1302"/>
                  </a:lnTo>
                  <a:lnTo>
                    <a:pt x="1123" y="1324"/>
                  </a:lnTo>
                  <a:lnTo>
                    <a:pt x="1108" y="1344"/>
                  </a:lnTo>
                  <a:lnTo>
                    <a:pt x="1092" y="1365"/>
                  </a:lnTo>
                  <a:lnTo>
                    <a:pt x="1075" y="1385"/>
                  </a:lnTo>
                  <a:lnTo>
                    <a:pt x="1058" y="1404"/>
                  </a:lnTo>
                  <a:lnTo>
                    <a:pt x="1039" y="1422"/>
                  </a:lnTo>
                  <a:lnTo>
                    <a:pt x="1021" y="1441"/>
                  </a:lnTo>
                  <a:lnTo>
                    <a:pt x="1001" y="1459"/>
                  </a:lnTo>
                  <a:lnTo>
                    <a:pt x="982" y="1476"/>
                  </a:lnTo>
                  <a:lnTo>
                    <a:pt x="962" y="1493"/>
                  </a:lnTo>
                  <a:lnTo>
                    <a:pt x="940" y="1510"/>
                  </a:lnTo>
                  <a:lnTo>
                    <a:pt x="917" y="1525"/>
                  </a:lnTo>
                  <a:lnTo>
                    <a:pt x="895" y="1540"/>
                  </a:lnTo>
                  <a:lnTo>
                    <a:pt x="871" y="1555"/>
                  </a:lnTo>
                  <a:lnTo>
                    <a:pt x="842" y="1573"/>
                  </a:lnTo>
                  <a:lnTo>
                    <a:pt x="810" y="1588"/>
                  </a:lnTo>
                  <a:lnTo>
                    <a:pt x="779" y="1603"/>
                  </a:lnTo>
                  <a:lnTo>
                    <a:pt x="746" y="1617"/>
                  </a:lnTo>
                  <a:lnTo>
                    <a:pt x="713" y="1629"/>
                  </a:lnTo>
                  <a:lnTo>
                    <a:pt x="678" y="1641"/>
                  </a:lnTo>
                  <a:lnTo>
                    <a:pt x="642" y="1651"/>
                  </a:lnTo>
                  <a:lnTo>
                    <a:pt x="606" y="1660"/>
                  </a:lnTo>
                  <a:lnTo>
                    <a:pt x="568" y="1667"/>
                  </a:lnTo>
                  <a:lnTo>
                    <a:pt x="528" y="1674"/>
                  </a:lnTo>
                  <a:lnTo>
                    <a:pt x="487" y="1680"/>
                  </a:lnTo>
                  <a:lnTo>
                    <a:pt x="444" y="1684"/>
                  </a:lnTo>
                  <a:lnTo>
                    <a:pt x="400" y="1688"/>
                  </a:lnTo>
                  <a:lnTo>
                    <a:pt x="354" y="1690"/>
                  </a:lnTo>
                  <a:lnTo>
                    <a:pt x="305" y="1692"/>
                  </a:lnTo>
                  <a:lnTo>
                    <a:pt x="255" y="1692"/>
                  </a:lnTo>
                  <a:lnTo>
                    <a:pt x="0" y="1692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9434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03600" y="1211400"/>
            <a:ext cx="14148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61040" y="1211400"/>
            <a:ext cx="141120" cy="468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147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2476440" y="914400"/>
            <a:ext cx="4191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779480" y="838080"/>
            <a:ext cx="5602320" cy="246240"/>
            <a:chOff x="1779480" y="838080"/>
            <a:chExt cx="5602320" cy="246240"/>
          </a:xfrm>
        </p:grpSpPr>
        <p:sp>
          <p:nvSpPr>
            <p:cNvPr id="383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158" y="285"/>
                  </a:moveTo>
                  <a:lnTo>
                    <a:pt x="173" y="285"/>
                  </a:lnTo>
                  <a:lnTo>
                    <a:pt x="183" y="285"/>
                  </a:lnTo>
                  <a:lnTo>
                    <a:pt x="192" y="284"/>
                  </a:lnTo>
                  <a:lnTo>
                    <a:pt x="202" y="283"/>
                  </a:lnTo>
                  <a:lnTo>
                    <a:pt x="210" y="281"/>
                  </a:lnTo>
                  <a:lnTo>
                    <a:pt x="218" y="278"/>
                  </a:lnTo>
                  <a:lnTo>
                    <a:pt x="225" y="275"/>
                  </a:lnTo>
                  <a:lnTo>
                    <a:pt x="231" y="270"/>
                  </a:lnTo>
                  <a:lnTo>
                    <a:pt x="238" y="266"/>
                  </a:lnTo>
                  <a:lnTo>
                    <a:pt x="242" y="262"/>
                  </a:lnTo>
                  <a:lnTo>
                    <a:pt x="248" y="255"/>
                  </a:lnTo>
                  <a:lnTo>
                    <a:pt x="251" y="250"/>
                  </a:lnTo>
                  <a:lnTo>
                    <a:pt x="254" y="242"/>
                  </a:lnTo>
                  <a:lnTo>
                    <a:pt x="256" y="236"/>
                  </a:lnTo>
                  <a:lnTo>
                    <a:pt x="258" y="227"/>
                  </a:lnTo>
                  <a:lnTo>
                    <a:pt x="259" y="220"/>
                  </a:lnTo>
                  <a:lnTo>
                    <a:pt x="259" y="210"/>
                  </a:lnTo>
                  <a:lnTo>
                    <a:pt x="259" y="201"/>
                  </a:lnTo>
                  <a:lnTo>
                    <a:pt x="258" y="193"/>
                  </a:lnTo>
                  <a:lnTo>
                    <a:pt x="256" y="185"/>
                  </a:lnTo>
                  <a:lnTo>
                    <a:pt x="254" y="177"/>
                  </a:lnTo>
                  <a:lnTo>
                    <a:pt x="251" y="171"/>
                  </a:lnTo>
                  <a:lnTo>
                    <a:pt x="248" y="164"/>
                  </a:lnTo>
                  <a:lnTo>
                    <a:pt x="243" y="158"/>
                  </a:lnTo>
                  <a:lnTo>
                    <a:pt x="238" y="154"/>
                  </a:lnTo>
                  <a:lnTo>
                    <a:pt x="232" y="148"/>
                  </a:lnTo>
                  <a:lnTo>
                    <a:pt x="226" y="145"/>
                  </a:lnTo>
                  <a:lnTo>
                    <a:pt x="219" y="141"/>
                  </a:lnTo>
                  <a:lnTo>
                    <a:pt x="212" y="139"/>
                  </a:lnTo>
                  <a:lnTo>
                    <a:pt x="204" y="136"/>
                  </a:lnTo>
                  <a:lnTo>
                    <a:pt x="196" y="134"/>
                  </a:lnTo>
                  <a:lnTo>
                    <a:pt x="187" y="134"/>
                  </a:lnTo>
                  <a:lnTo>
                    <a:pt x="177" y="133"/>
                  </a:lnTo>
                  <a:lnTo>
                    <a:pt x="158" y="133"/>
                  </a:lnTo>
                  <a:lnTo>
                    <a:pt x="158" y="285"/>
                  </a:lnTo>
                  <a:close/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133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1" y="127"/>
                  </a:lnTo>
                  <a:lnTo>
                    <a:pt x="259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6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7" y="116"/>
                  </a:lnTo>
                  <a:lnTo>
                    <a:pt x="234" y="115"/>
                  </a:lnTo>
                  <a:lnTo>
                    <a:pt x="231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20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4" y="118"/>
                  </a:lnTo>
                  <a:lnTo>
                    <a:pt x="186" y="122"/>
                  </a:lnTo>
                  <a:lnTo>
                    <a:pt x="179" y="125"/>
                  </a:lnTo>
                  <a:lnTo>
                    <a:pt x="171" y="130"/>
                  </a:lnTo>
                  <a:lnTo>
                    <a:pt x="164" y="136"/>
                  </a:lnTo>
                  <a:lnTo>
                    <a:pt x="157" y="142"/>
                  </a:lnTo>
                  <a:lnTo>
                    <a:pt x="151" y="149"/>
                  </a:lnTo>
                  <a:lnTo>
                    <a:pt x="145" y="156"/>
                  </a:lnTo>
                  <a:lnTo>
                    <a:pt x="141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145"/>
                  </a:moveTo>
                  <a:lnTo>
                    <a:pt x="215" y="146"/>
                  </a:lnTo>
                  <a:lnTo>
                    <a:pt x="207" y="147"/>
                  </a:lnTo>
                  <a:lnTo>
                    <a:pt x="201" y="148"/>
                  </a:lnTo>
                  <a:lnTo>
                    <a:pt x="193" y="152"/>
                  </a:lnTo>
                  <a:lnTo>
                    <a:pt x="186" y="155"/>
                  </a:lnTo>
                  <a:lnTo>
                    <a:pt x="181" y="158"/>
                  </a:lnTo>
                  <a:lnTo>
                    <a:pt x="175" y="163"/>
                  </a:lnTo>
                  <a:lnTo>
                    <a:pt x="169" y="169"/>
                  </a:lnTo>
                  <a:lnTo>
                    <a:pt x="164" y="175"/>
                  </a:lnTo>
                  <a:lnTo>
                    <a:pt x="159" y="181"/>
                  </a:lnTo>
                  <a:lnTo>
                    <a:pt x="156" y="188"/>
                  </a:lnTo>
                  <a:lnTo>
                    <a:pt x="153" y="195"/>
                  </a:lnTo>
                  <a:lnTo>
                    <a:pt x="151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0" y="250"/>
                  </a:lnTo>
                  <a:lnTo>
                    <a:pt x="153" y="257"/>
                  </a:lnTo>
                  <a:lnTo>
                    <a:pt x="156" y="264"/>
                  </a:lnTo>
                  <a:lnTo>
                    <a:pt x="159" y="270"/>
                  </a:lnTo>
                  <a:lnTo>
                    <a:pt x="164" y="277"/>
                  </a:lnTo>
                  <a:lnTo>
                    <a:pt x="169" y="283"/>
                  </a:lnTo>
                  <a:lnTo>
                    <a:pt x="175" y="289"/>
                  </a:lnTo>
                  <a:lnTo>
                    <a:pt x="180" y="293"/>
                  </a:lnTo>
                  <a:lnTo>
                    <a:pt x="186" y="297"/>
                  </a:lnTo>
                  <a:lnTo>
                    <a:pt x="193" y="301"/>
                  </a:lnTo>
                  <a:lnTo>
                    <a:pt x="199" y="303"/>
                  </a:lnTo>
                  <a:lnTo>
                    <a:pt x="207" y="305"/>
                  </a:lnTo>
                  <a:lnTo>
                    <a:pt x="215" y="306"/>
                  </a:lnTo>
                  <a:lnTo>
                    <a:pt x="222" y="306"/>
                  </a:lnTo>
                  <a:lnTo>
                    <a:pt x="230" y="306"/>
                  </a:lnTo>
                  <a:lnTo>
                    <a:pt x="237" y="305"/>
                  </a:lnTo>
                  <a:lnTo>
                    <a:pt x="244" y="303"/>
                  </a:lnTo>
                  <a:lnTo>
                    <a:pt x="251" y="300"/>
                  </a:lnTo>
                  <a:lnTo>
                    <a:pt x="257" y="296"/>
                  </a:lnTo>
                  <a:lnTo>
                    <a:pt x="263" y="293"/>
                  </a:lnTo>
                  <a:lnTo>
                    <a:pt x="270" y="288"/>
                  </a:lnTo>
                  <a:lnTo>
                    <a:pt x="275" y="282"/>
                  </a:lnTo>
                  <a:lnTo>
                    <a:pt x="280" y="277"/>
                  </a:lnTo>
                  <a:lnTo>
                    <a:pt x="285" y="270"/>
                  </a:lnTo>
                  <a:lnTo>
                    <a:pt x="288" y="264"/>
                  </a:lnTo>
                  <a:lnTo>
                    <a:pt x="291" y="256"/>
                  </a:lnTo>
                  <a:lnTo>
                    <a:pt x="293" y="250"/>
                  </a:lnTo>
                  <a:lnTo>
                    <a:pt x="296" y="242"/>
                  </a:lnTo>
                  <a:lnTo>
                    <a:pt x="297" y="235"/>
                  </a:lnTo>
                  <a:lnTo>
                    <a:pt x="297" y="226"/>
                  </a:lnTo>
                  <a:lnTo>
                    <a:pt x="297" y="219"/>
                  </a:lnTo>
                  <a:lnTo>
                    <a:pt x="296" y="210"/>
                  </a:lnTo>
                  <a:lnTo>
                    <a:pt x="293" y="202"/>
                  </a:lnTo>
                  <a:lnTo>
                    <a:pt x="291" y="196"/>
                  </a:lnTo>
                  <a:lnTo>
                    <a:pt x="288" y="188"/>
                  </a:lnTo>
                  <a:lnTo>
                    <a:pt x="285" y="182"/>
                  </a:lnTo>
                  <a:lnTo>
                    <a:pt x="280" y="175"/>
                  </a:lnTo>
                  <a:lnTo>
                    <a:pt x="275" y="169"/>
                  </a:lnTo>
                  <a:lnTo>
                    <a:pt x="270" y="163"/>
                  </a:lnTo>
                  <a:lnTo>
                    <a:pt x="263" y="159"/>
                  </a:lnTo>
                  <a:lnTo>
                    <a:pt x="257" y="155"/>
                  </a:lnTo>
                  <a:lnTo>
                    <a:pt x="251" y="152"/>
                  </a:lnTo>
                  <a:lnTo>
                    <a:pt x="244" y="148"/>
                  </a:lnTo>
                  <a:lnTo>
                    <a:pt x="237" y="147"/>
                  </a:lnTo>
                  <a:lnTo>
                    <a:pt x="230" y="146"/>
                  </a:lnTo>
                  <a:lnTo>
                    <a:pt x="222" y="145"/>
                  </a:lnTo>
                  <a:close/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1" y="332"/>
                  </a:lnTo>
                  <a:lnTo>
                    <a:pt x="195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7" y="325"/>
                  </a:lnTo>
                  <a:lnTo>
                    <a:pt x="212" y="323"/>
                  </a:lnTo>
                  <a:lnTo>
                    <a:pt x="215" y="319"/>
                  </a:lnTo>
                  <a:lnTo>
                    <a:pt x="218" y="316"/>
                  </a:lnTo>
                  <a:lnTo>
                    <a:pt x="220" y="312"/>
                  </a:lnTo>
                  <a:lnTo>
                    <a:pt x="222" y="309"/>
                  </a:lnTo>
                  <a:lnTo>
                    <a:pt x="225" y="304"/>
                  </a:lnTo>
                  <a:lnTo>
                    <a:pt x="227" y="300"/>
                  </a:lnTo>
                  <a:lnTo>
                    <a:pt x="228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8" y="278"/>
                  </a:lnTo>
                  <a:lnTo>
                    <a:pt x="227" y="274"/>
                  </a:lnTo>
                  <a:lnTo>
                    <a:pt x="225" y="270"/>
                  </a:lnTo>
                  <a:lnTo>
                    <a:pt x="222" y="265"/>
                  </a:lnTo>
                  <a:lnTo>
                    <a:pt x="220" y="261"/>
                  </a:lnTo>
                  <a:lnTo>
                    <a:pt x="218" y="258"/>
                  </a:lnTo>
                  <a:lnTo>
                    <a:pt x="215" y="255"/>
                  </a:lnTo>
                  <a:lnTo>
                    <a:pt x="212" y="251"/>
                  </a:lnTo>
                  <a:lnTo>
                    <a:pt x="207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5" y="243"/>
                  </a:lnTo>
                  <a:lnTo>
                    <a:pt x="191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4" y="242"/>
                  </a:lnTo>
                  <a:lnTo>
                    <a:pt x="170" y="243"/>
                  </a:lnTo>
                  <a:lnTo>
                    <a:pt x="165" y="244"/>
                  </a:lnTo>
                  <a:lnTo>
                    <a:pt x="162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8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0" y="270"/>
                  </a:lnTo>
                  <a:lnTo>
                    <a:pt x="139" y="273"/>
                  </a:lnTo>
                  <a:lnTo>
                    <a:pt x="138" y="277"/>
                  </a:lnTo>
                  <a:lnTo>
                    <a:pt x="138" y="283"/>
                  </a:lnTo>
                  <a:lnTo>
                    <a:pt x="137" y="287"/>
                  </a:lnTo>
                  <a:lnTo>
                    <a:pt x="138" y="291"/>
                  </a:lnTo>
                  <a:lnTo>
                    <a:pt x="138" y="297"/>
                  </a:lnTo>
                  <a:lnTo>
                    <a:pt x="139" y="301"/>
                  </a:lnTo>
                  <a:lnTo>
                    <a:pt x="140" y="305"/>
                  </a:lnTo>
                  <a:lnTo>
                    <a:pt x="143" y="309"/>
                  </a:lnTo>
                  <a:lnTo>
                    <a:pt x="145" y="313"/>
                  </a:lnTo>
                  <a:lnTo>
                    <a:pt x="148" y="316"/>
                  </a:lnTo>
                  <a:lnTo>
                    <a:pt x="150" y="319"/>
                  </a:lnTo>
                  <a:lnTo>
                    <a:pt x="154" y="323"/>
                  </a:lnTo>
                  <a:lnTo>
                    <a:pt x="158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70" y="331"/>
                  </a:lnTo>
                  <a:lnTo>
                    <a:pt x="174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133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6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8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40" y="117"/>
                  </a:lnTo>
                  <a:lnTo>
                    <a:pt x="236" y="116"/>
                  </a:lnTo>
                  <a:lnTo>
                    <a:pt x="233" y="115"/>
                  </a:lnTo>
                  <a:lnTo>
                    <a:pt x="230" y="115"/>
                  </a:lnTo>
                  <a:lnTo>
                    <a:pt x="227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1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8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7" y="171"/>
                  </a:lnTo>
                  <a:lnTo>
                    <a:pt x="134" y="180"/>
                  </a:lnTo>
                  <a:lnTo>
                    <a:pt x="132" y="187"/>
                  </a:lnTo>
                  <a:lnTo>
                    <a:pt x="131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1" y="212"/>
                  </a:lnTo>
                  <a:lnTo>
                    <a:pt x="131" y="213"/>
                  </a:lnTo>
                  <a:lnTo>
                    <a:pt x="131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2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3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3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0" y="121"/>
                  </a:lnTo>
                  <a:lnTo>
                    <a:pt x="247" y="119"/>
                  </a:lnTo>
                  <a:lnTo>
                    <a:pt x="244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6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3" y="115"/>
                  </a:lnTo>
                  <a:lnTo>
                    <a:pt x="218" y="115"/>
                  </a:lnTo>
                  <a:lnTo>
                    <a:pt x="210" y="115"/>
                  </a:lnTo>
                  <a:lnTo>
                    <a:pt x="201" y="116"/>
                  </a:lnTo>
                  <a:lnTo>
                    <a:pt x="193" y="118"/>
                  </a:lnTo>
                  <a:lnTo>
                    <a:pt x="185" y="122"/>
                  </a:lnTo>
                  <a:lnTo>
                    <a:pt x="177" y="125"/>
                  </a:lnTo>
                  <a:lnTo>
                    <a:pt x="170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39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1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1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132" y="227"/>
                  </a:moveTo>
                  <a:lnTo>
                    <a:pt x="265" y="131"/>
                  </a:lnTo>
                  <a:lnTo>
                    <a:pt x="262" y="129"/>
                  </a:lnTo>
                  <a:lnTo>
                    <a:pt x="260" y="127"/>
                  </a:lnTo>
                  <a:lnTo>
                    <a:pt x="258" y="125"/>
                  </a:lnTo>
                  <a:lnTo>
                    <a:pt x="255" y="124"/>
                  </a:lnTo>
                  <a:lnTo>
                    <a:pt x="253" y="123"/>
                  </a:lnTo>
                  <a:lnTo>
                    <a:pt x="251" y="121"/>
                  </a:lnTo>
                  <a:lnTo>
                    <a:pt x="247" y="119"/>
                  </a:lnTo>
                  <a:lnTo>
                    <a:pt x="245" y="118"/>
                  </a:lnTo>
                  <a:lnTo>
                    <a:pt x="242" y="117"/>
                  </a:lnTo>
                  <a:lnTo>
                    <a:pt x="239" y="117"/>
                  </a:lnTo>
                  <a:lnTo>
                    <a:pt x="235" y="116"/>
                  </a:lnTo>
                  <a:lnTo>
                    <a:pt x="232" y="115"/>
                  </a:lnTo>
                  <a:lnTo>
                    <a:pt x="229" y="115"/>
                  </a:lnTo>
                  <a:lnTo>
                    <a:pt x="226" y="115"/>
                  </a:lnTo>
                  <a:lnTo>
                    <a:pt x="222" y="115"/>
                  </a:lnTo>
                  <a:lnTo>
                    <a:pt x="219" y="115"/>
                  </a:lnTo>
                  <a:lnTo>
                    <a:pt x="210" y="115"/>
                  </a:lnTo>
                  <a:lnTo>
                    <a:pt x="202" y="116"/>
                  </a:lnTo>
                  <a:lnTo>
                    <a:pt x="193" y="118"/>
                  </a:lnTo>
                  <a:lnTo>
                    <a:pt x="186" y="122"/>
                  </a:lnTo>
                  <a:lnTo>
                    <a:pt x="177" y="125"/>
                  </a:lnTo>
                  <a:lnTo>
                    <a:pt x="171" y="130"/>
                  </a:lnTo>
                  <a:lnTo>
                    <a:pt x="163" y="136"/>
                  </a:lnTo>
                  <a:lnTo>
                    <a:pt x="157" y="142"/>
                  </a:lnTo>
                  <a:lnTo>
                    <a:pt x="150" y="149"/>
                  </a:lnTo>
                  <a:lnTo>
                    <a:pt x="145" y="156"/>
                  </a:lnTo>
                  <a:lnTo>
                    <a:pt x="140" y="164"/>
                  </a:lnTo>
                  <a:lnTo>
                    <a:pt x="136" y="171"/>
                  </a:lnTo>
                  <a:lnTo>
                    <a:pt x="133" y="180"/>
                  </a:lnTo>
                  <a:lnTo>
                    <a:pt x="132" y="187"/>
                  </a:lnTo>
                  <a:lnTo>
                    <a:pt x="130" y="196"/>
                  </a:lnTo>
                  <a:lnTo>
                    <a:pt x="130" y="206"/>
                  </a:lnTo>
                  <a:lnTo>
                    <a:pt x="130" y="207"/>
                  </a:lnTo>
                  <a:lnTo>
                    <a:pt x="130" y="208"/>
                  </a:lnTo>
                  <a:lnTo>
                    <a:pt x="130" y="209"/>
                  </a:lnTo>
                  <a:lnTo>
                    <a:pt x="130" y="210"/>
                  </a:lnTo>
                  <a:lnTo>
                    <a:pt x="130" y="212"/>
                  </a:lnTo>
                  <a:lnTo>
                    <a:pt x="130" y="213"/>
                  </a:lnTo>
                  <a:lnTo>
                    <a:pt x="130" y="214"/>
                  </a:lnTo>
                  <a:lnTo>
                    <a:pt x="131" y="216"/>
                  </a:lnTo>
                  <a:lnTo>
                    <a:pt x="131" y="218"/>
                  </a:lnTo>
                  <a:lnTo>
                    <a:pt x="131" y="219"/>
                  </a:lnTo>
                  <a:lnTo>
                    <a:pt x="131" y="220"/>
                  </a:lnTo>
                  <a:lnTo>
                    <a:pt x="131" y="221"/>
                  </a:lnTo>
                  <a:lnTo>
                    <a:pt x="132" y="223"/>
                  </a:lnTo>
                  <a:lnTo>
                    <a:pt x="132" y="224"/>
                  </a:lnTo>
                  <a:lnTo>
                    <a:pt x="132" y="225"/>
                  </a:lnTo>
                  <a:lnTo>
                    <a:pt x="132" y="227"/>
                  </a:lnTo>
                  <a:close/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227" y="311"/>
                  </a:moveTo>
                  <a:lnTo>
                    <a:pt x="219" y="312"/>
                  </a:lnTo>
                  <a:lnTo>
                    <a:pt x="211" y="314"/>
                  </a:lnTo>
                  <a:lnTo>
                    <a:pt x="203" y="315"/>
                  </a:lnTo>
                  <a:lnTo>
                    <a:pt x="197" y="318"/>
                  </a:lnTo>
                  <a:lnTo>
                    <a:pt x="189" y="321"/>
                  </a:lnTo>
                  <a:lnTo>
                    <a:pt x="183" y="324"/>
                  </a:lnTo>
                  <a:lnTo>
                    <a:pt x="177" y="329"/>
                  </a:lnTo>
                  <a:lnTo>
                    <a:pt x="171" y="334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7" y="352"/>
                  </a:lnTo>
                  <a:lnTo>
                    <a:pt x="153" y="359"/>
                  </a:lnTo>
                  <a:lnTo>
                    <a:pt x="151" y="366"/>
                  </a:lnTo>
                  <a:lnTo>
                    <a:pt x="149" y="374"/>
                  </a:lnTo>
                  <a:lnTo>
                    <a:pt x="148" y="382"/>
                  </a:lnTo>
                  <a:lnTo>
                    <a:pt x="148" y="389"/>
                  </a:lnTo>
                  <a:lnTo>
                    <a:pt x="148" y="397"/>
                  </a:lnTo>
                  <a:lnTo>
                    <a:pt x="149" y="405"/>
                  </a:lnTo>
                  <a:lnTo>
                    <a:pt x="151" y="412"/>
                  </a:lnTo>
                  <a:lnTo>
                    <a:pt x="153" y="419"/>
                  </a:lnTo>
                  <a:lnTo>
                    <a:pt x="157" y="426"/>
                  </a:lnTo>
                  <a:lnTo>
                    <a:pt x="161" y="432"/>
                  </a:lnTo>
                  <a:lnTo>
                    <a:pt x="165" y="439"/>
                  </a:lnTo>
                  <a:lnTo>
                    <a:pt x="171" y="444"/>
                  </a:lnTo>
                  <a:lnTo>
                    <a:pt x="177" y="450"/>
                  </a:lnTo>
                  <a:lnTo>
                    <a:pt x="183" y="454"/>
                  </a:lnTo>
                  <a:lnTo>
                    <a:pt x="189" y="458"/>
                  </a:lnTo>
                  <a:lnTo>
                    <a:pt x="197" y="461"/>
                  </a:lnTo>
                  <a:lnTo>
                    <a:pt x="203" y="464"/>
                  </a:lnTo>
                  <a:lnTo>
                    <a:pt x="211" y="466"/>
                  </a:lnTo>
                  <a:lnTo>
                    <a:pt x="219" y="467"/>
                  </a:lnTo>
                  <a:lnTo>
                    <a:pt x="227" y="467"/>
                  </a:lnTo>
                  <a:lnTo>
                    <a:pt x="234" y="467"/>
                  </a:lnTo>
                  <a:lnTo>
                    <a:pt x="243" y="466"/>
                  </a:lnTo>
                  <a:lnTo>
                    <a:pt x="250" y="464"/>
                  </a:lnTo>
                  <a:lnTo>
                    <a:pt x="257" y="461"/>
                  </a:lnTo>
                  <a:lnTo>
                    <a:pt x="264" y="458"/>
                  </a:lnTo>
                  <a:lnTo>
                    <a:pt x="270" y="455"/>
                  </a:lnTo>
                  <a:lnTo>
                    <a:pt x="277" y="450"/>
                  </a:lnTo>
                  <a:lnTo>
                    <a:pt x="283" y="444"/>
                  </a:lnTo>
                  <a:lnTo>
                    <a:pt x="288" y="439"/>
                  </a:lnTo>
                  <a:lnTo>
                    <a:pt x="293" y="432"/>
                  </a:lnTo>
                  <a:lnTo>
                    <a:pt x="297" y="426"/>
                  </a:lnTo>
                  <a:lnTo>
                    <a:pt x="300" y="419"/>
                  </a:lnTo>
                  <a:lnTo>
                    <a:pt x="302" y="413"/>
                  </a:lnTo>
                  <a:lnTo>
                    <a:pt x="305" y="405"/>
                  </a:lnTo>
                  <a:lnTo>
                    <a:pt x="306" y="398"/>
                  </a:lnTo>
                  <a:lnTo>
                    <a:pt x="306" y="389"/>
                  </a:lnTo>
                  <a:lnTo>
                    <a:pt x="306" y="382"/>
                  </a:lnTo>
                  <a:lnTo>
                    <a:pt x="305" y="374"/>
                  </a:lnTo>
                  <a:lnTo>
                    <a:pt x="302" y="366"/>
                  </a:lnTo>
                  <a:lnTo>
                    <a:pt x="300" y="359"/>
                  </a:lnTo>
                  <a:lnTo>
                    <a:pt x="297" y="352"/>
                  </a:lnTo>
                  <a:lnTo>
                    <a:pt x="293" y="346"/>
                  </a:lnTo>
                  <a:lnTo>
                    <a:pt x="288" y="339"/>
                  </a:lnTo>
                  <a:lnTo>
                    <a:pt x="283" y="334"/>
                  </a:lnTo>
                  <a:lnTo>
                    <a:pt x="277" y="329"/>
                  </a:lnTo>
                  <a:lnTo>
                    <a:pt x="271" y="324"/>
                  </a:lnTo>
                  <a:lnTo>
                    <a:pt x="265" y="320"/>
                  </a:lnTo>
                  <a:lnTo>
                    <a:pt x="257" y="318"/>
                  </a:lnTo>
                  <a:lnTo>
                    <a:pt x="251" y="315"/>
                  </a:lnTo>
                  <a:lnTo>
                    <a:pt x="243" y="314"/>
                  </a:lnTo>
                  <a:lnTo>
                    <a:pt x="235" y="312"/>
                  </a:lnTo>
                  <a:lnTo>
                    <a:pt x="227" y="311"/>
                  </a:lnTo>
                  <a:close/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183" y="332"/>
                  </a:moveTo>
                  <a:lnTo>
                    <a:pt x="187" y="332"/>
                  </a:lnTo>
                  <a:lnTo>
                    <a:pt x="192" y="332"/>
                  </a:lnTo>
                  <a:lnTo>
                    <a:pt x="196" y="331"/>
                  </a:lnTo>
                  <a:lnTo>
                    <a:pt x="200" y="329"/>
                  </a:lnTo>
                  <a:lnTo>
                    <a:pt x="204" y="328"/>
                  </a:lnTo>
                  <a:lnTo>
                    <a:pt x="208" y="325"/>
                  </a:lnTo>
                  <a:lnTo>
                    <a:pt x="211" y="323"/>
                  </a:lnTo>
                  <a:lnTo>
                    <a:pt x="214" y="319"/>
                  </a:lnTo>
                  <a:lnTo>
                    <a:pt x="218" y="316"/>
                  </a:lnTo>
                  <a:lnTo>
                    <a:pt x="221" y="312"/>
                  </a:lnTo>
                  <a:lnTo>
                    <a:pt x="223" y="309"/>
                  </a:lnTo>
                  <a:lnTo>
                    <a:pt x="225" y="304"/>
                  </a:lnTo>
                  <a:lnTo>
                    <a:pt x="226" y="300"/>
                  </a:lnTo>
                  <a:lnTo>
                    <a:pt x="227" y="296"/>
                  </a:lnTo>
                  <a:lnTo>
                    <a:pt x="228" y="291"/>
                  </a:lnTo>
                  <a:lnTo>
                    <a:pt x="228" y="287"/>
                  </a:lnTo>
                  <a:lnTo>
                    <a:pt x="228" y="283"/>
                  </a:lnTo>
                  <a:lnTo>
                    <a:pt x="227" y="278"/>
                  </a:lnTo>
                  <a:lnTo>
                    <a:pt x="226" y="274"/>
                  </a:lnTo>
                  <a:lnTo>
                    <a:pt x="225" y="270"/>
                  </a:lnTo>
                  <a:lnTo>
                    <a:pt x="223" y="265"/>
                  </a:lnTo>
                  <a:lnTo>
                    <a:pt x="221" y="261"/>
                  </a:lnTo>
                  <a:lnTo>
                    <a:pt x="218" y="258"/>
                  </a:lnTo>
                  <a:lnTo>
                    <a:pt x="214" y="255"/>
                  </a:lnTo>
                  <a:lnTo>
                    <a:pt x="211" y="251"/>
                  </a:lnTo>
                  <a:lnTo>
                    <a:pt x="208" y="248"/>
                  </a:lnTo>
                  <a:lnTo>
                    <a:pt x="204" y="246"/>
                  </a:lnTo>
                  <a:lnTo>
                    <a:pt x="200" y="244"/>
                  </a:lnTo>
                  <a:lnTo>
                    <a:pt x="196" y="243"/>
                  </a:lnTo>
                  <a:lnTo>
                    <a:pt x="192" y="242"/>
                  </a:lnTo>
                  <a:lnTo>
                    <a:pt x="187" y="241"/>
                  </a:lnTo>
                  <a:lnTo>
                    <a:pt x="183" y="241"/>
                  </a:lnTo>
                  <a:lnTo>
                    <a:pt x="178" y="241"/>
                  </a:lnTo>
                  <a:lnTo>
                    <a:pt x="173" y="242"/>
                  </a:lnTo>
                  <a:lnTo>
                    <a:pt x="170" y="243"/>
                  </a:lnTo>
                  <a:lnTo>
                    <a:pt x="166" y="244"/>
                  </a:lnTo>
                  <a:lnTo>
                    <a:pt x="161" y="246"/>
                  </a:lnTo>
                  <a:lnTo>
                    <a:pt x="158" y="248"/>
                  </a:lnTo>
                  <a:lnTo>
                    <a:pt x="154" y="251"/>
                  </a:lnTo>
                  <a:lnTo>
                    <a:pt x="151" y="255"/>
                  </a:lnTo>
                  <a:lnTo>
                    <a:pt x="147" y="258"/>
                  </a:lnTo>
                  <a:lnTo>
                    <a:pt x="145" y="261"/>
                  </a:lnTo>
                  <a:lnTo>
                    <a:pt x="143" y="265"/>
                  </a:lnTo>
                  <a:lnTo>
                    <a:pt x="141" y="270"/>
                  </a:lnTo>
                  <a:lnTo>
                    <a:pt x="140" y="273"/>
                  </a:lnTo>
                  <a:lnTo>
                    <a:pt x="139" y="277"/>
                  </a:lnTo>
                  <a:lnTo>
                    <a:pt x="138" y="283"/>
                  </a:lnTo>
                  <a:lnTo>
                    <a:pt x="138" y="287"/>
                  </a:lnTo>
                  <a:lnTo>
                    <a:pt x="138" y="291"/>
                  </a:lnTo>
                  <a:lnTo>
                    <a:pt x="139" y="297"/>
                  </a:lnTo>
                  <a:lnTo>
                    <a:pt x="139" y="301"/>
                  </a:lnTo>
                  <a:lnTo>
                    <a:pt x="141" y="305"/>
                  </a:lnTo>
                  <a:lnTo>
                    <a:pt x="142" y="309"/>
                  </a:lnTo>
                  <a:lnTo>
                    <a:pt x="145" y="313"/>
                  </a:lnTo>
                  <a:lnTo>
                    <a:pt x="147" y="316"/>
                  </a:lnTo>
                  <a:lnTo>
                    <a:pt x="151" y="319"/>
                  </a:lnTo>
                  <a:lnTo>
                    <a:pt x="154" y="323"/>
                  </a:lnTo>
                  <a:lnTo>
                    <a:pt x="157" y="326"/>
                  </a:lnTo>
                  <a:lnTo>
                    <a:pt x="161" y="328"/>
                  </a:lnTo>
                  <a:lnTo>
                    <a:pt x="165" y="329"/>
                  </a:lnTo>
                  <a:lnTo>
                    <a:pt x="169" y="331"/>
                  </a:lnTo>
                  <a:lnTo>
                    <a:pt x="173" y="332"/>
                  </a:lnTo>
                  <a:lnTo>
                    <a:pt x="178" y="332"/>
                  </a:lnTo>
                  <a:lnTo>
                    <a:pt x="183" y="332"/>
                  </a:lnTo>
                  <a:close/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51600" y="839520"/>
              <a:ext cx="57240" cy="2415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0" y="607"/>
                  </a:moveTo>
                  <a:lnTo>
                    <a:pt x="0" y="171"/>
                  </a:lnTo>
                  <a:lnTo>
                    <a:pt x="144" y="171"/>
                  </a:lnTo>
                  <a:lnTo>
                    <a:pt x="144" y="607"/>
                  </a:lnTo>
                  <a:lnTo>
                    <a:pt x="0" y="607"/>
                  </a:lnTo>
                  <a:close/>
                  <a:moveTo>
                    <a:pt x="0" y="133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145"/>
                  </a:moveTo>
                  <a:lnTo>
                    <a:pt x="215" y="146"/>
                  </a:lnTo>
                  <a:lnTo>
                    <a:pt x="209" y="147"/>
                  </a:lnTo>
                  <a:lnTo>
                    <a:pt x="201" y="148"/>
                  </a:lnTo>
                  <a:lnTo>
                    <a:pt x="195" y="152"/>
                  </a:lnTo>
                  <a:lnTo>
                    <a:pt x="188" y="155"/>
                  </a:lnTo>
                  <a:lnTo>
                    <a:pt x="182" y="158"/>
                  </a:lnTo>
                  <a:lnTo>
                    <a:pt x="175" y="163"/>
                  </a:lnTo>
                  <a:lnTo>
                    <a:pt x="170" y="169"/>
                  </a:lnTo>
                  <a:lnTo>
                    <a:pt x="166" y="175"/>
                  </a:lnTo>
                  <a:lnTo>
                    <a:pt x="160" y="181"/>
                  </a:lnTo>
                  <a:lnTo>
                    <a:pt x="157" y="188"/>
                  </a:lnTo>
                  <a:lnTo>
                    <a:pt x="154" y="195"/>
                  </a:lnTo>
                  <a:lnTo>
                    <a:pt x="152" y="202"/>
                  </a:lnTo>
                  <a:lnTo>
                    <a:pt x="149" y="210"/>
                  </a:lnTo>
                  <a:lnTo>
                    <a:pt x="148" y="217"/>
                  </a:lnTo>
                  <a:lnTo>
                    <a:pt x="148" y="226"/>
                  </a:lnTo>
                  <a:lnTo>
                    <a:pt x="148" y="235"/>
                  </a:lnTo>
                  <a:lnTo>
                    <a:pt x="149" y="242"/>
                  </a:lnTo>
                  <a:lnTo>
                    <a:pt x="152" y="250"/>
                  </a:lnTo>
                  <a:lnTo>
                    <a:pt x="154" y="257"/>
                  </a:lnTo>
                  <a:lnTo>
                    <a:pt x="157" y="264"/>
                  </a:lnTo>
                  <a:lnTo>
                    <a:pt x="160" y="270"/>
                  </a:lnTo>
                  <a:lnTo>
                    <a:pt x="165" y="277"/>
                  </a:lnTo>
                  <a:lnTo>
                    <a:pt x="170" y="283"/>
                  </a:lnTo>
                  <a:lnTo>
                    <a:pt x="175" y="289"/>
                  </a:lnTo>
                  <a:lnTo>
                    <a:pt x="182" y="293"/>
                  </a:lnTo>
                  <a:lnTo>
                    <a:pt x="187" y="297"/>
                  </a:lnTo>
                  <a:lnTo>
                    <a:pt x="194" y="301"/>
                  </a:lnTo>
                  <a:lnTo>
                    <a:pt x="201" y="303"/>
                  </a:lnTo>
                  <a:lnTo>
                    <a:pt x="208" y="305"/>
                  </a:lnTo>
                  <a:lnTo>
                    <a:pt x="215" y="306"/>
                  </a:lnTo>
                  <a:lnTo>
                    <a:pt x="223" y="306"/>
                  </a:lnTo>
                  <a:lnTo>
                    <a:pt x="231" y="306"/>
                  </a:lnTo>
                  <a:lnTo>
                    <a:pt x="238" y="305"/>
                  </a:lnTo>
                  <a:lnTo>
                    <a:pt x="246" y="303"/>
                  </a:lnTo>
                  <a:lnTo>
                    <a:pt x="252" y="300"/>
                  </a:lnTo>
                  <a:lnTo>
                    <a:pt x="259" y="296"/>
                  </a:lnTo>
                  <a:lnTo>
                    <a:pt x="265" y="293"/>
                  </a:lnTo>
                  <a:lnTo>
                    <a:pt x="270" y="288"/>
                  </a:lnTo>
                  <a:lnTo>
                    <a:pt x="276" y="282"/>
                  </a:lnTo>
                  <a:lnTo>
                    <a:pt x="281" y="277"/>
                  </a:lnTo>
                  <a:lnTo>
                    <a:pt x="286" y="270"/>
                  </a:lnTo>
                  <a:lnTo>
                    <a:pt x="290" y="264"/>
                  </a:lnTo>
                  <a:lnTo>
                    <a:pt x="292" y="256"/>
                  </a:lnTo>
                  <a:lnTo>
                    <a:pt x="295" y="250"/>
                  </a:lnTo>
                  <a:lnTo>
                    <a:pt x="296" y="242"/>
                  </a:lnTo>
                  <a:lnTo>
                    <a:pt x="298" y="235"/>
                  </a:lnTo>
                  <a:lnTo>
                    <a:pt x="299" y="226"/>
                  </a:lnTo>
                  <a:lnTo>
                    <a:pt x="298" y="219"/>
                  </a:lnTo>
                  <a:lnTo>
                    <a:pt x="296" y="210"/>
                  </a:lnTo>
                  <a:lnTo>
                    <a:pt x="295" y="202"/>
                  </a:lnTo>
                  <a:lnTo>
                    <a:pt x="292" y="196"/>
                  </a:lnTo>
                  <a:lnTo>
                    <a:pt x="290" y="188"/>
                  </a:lnTo>
                  <a:lnTo>
                    <a:pt x="286" y="182"/>
                  </a:lnTo>
                  <a:lnTo>
                    <a:pt x="281" y="175"/>
                  </a:lnTo>
                  <a:lnTo>
                    <a:pt x="276" y="169"/>
                  </a:lnTo>
                  <a:lnTo>
                    <a:pt x="270" y="163"/>
                  </a:lnTo>
                  <a:lnTo>
                    <a:pt x="265" y="159"/>
                  </a:lnTo>
                  <a:lnTo>
                    <a:pt x="259" y="155"/>
                  </a:lnTo>
                  <a:lnTo>
                    <a:pt x="252" y="152"/>
                  </a:lnTo>
                  <a:lnTo>
                    <a:pt x="246" y="148"/>
                  </a:lnTo>
                  <a:lnTo>
                    <a:pt x="238" y="147"/>
                  </a:lnTo>
                  <a:lnTo>
                    <a:pt x="231" y="146"/>
                  </a:lnTo>
                  <a:lnTo>
                    <a:pt x="223" y="145"/>
                  </a:lnTo>
                  <a:close/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9480" y="839520"/>
              <a:ext cx="141480" cy="241560"/>
            </a:xfrm>
            <a:custGeom>
              <a:avLst/>
              <a:gdLst/>
              <a:ahLst/>
              <a:rect l="l" t="t" r="r" b="b"/>
              <a:pathLst>
                <a:path w="358" h="607">
                  <a:moveTo>
                    <a:pt x="0" y="607"/>
                  </a:moveTo>
                  <a:lnTo>
                    <a:pt x="0" y="0"/>
                  </a:lnTo>
                  <a:lnTo>
                    <a:pt x="333" y="0"/>
                  </a:lnTo>
                  <a:lnTo>
                    <a:pt x="358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83" y="224"/>
                  </a:lnTo>
                  <a:lnTo>
                    <a:pt x="283" y="384"/>
                  </a:lnTo>
                  <a:lnTo>
                    <a:pt x="157" y="384"/>
                  </a:lnTo>
                  <a:lnTo>
                    <a:pt x="157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907920"/>
              <a:ext cx="149400" cy="174600"/>
            </a:xfrm>
            <a:custGeom>
              <a:avLst/>
              <a:gdLst/>
              <a:ahLst/>
              <a:rect l="l" t="t" r="r" b="b"/>
              <a:pathLst>
                <a:path w="376" h="443">
                  <a:moveTo>
                    <a:pt x="376" y="0"/>
                  </a:moveTo>
                  <a:lnTo>
                    <a:pt x="376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29" y="401"/>
                  </a:lnTo>
                  <a:lnTo>
                    <a:pt x="224" y="406"/>
                  </a:lnTo>
                  <a:lnTo>
                    <a:pt x="218" y="411"/>
                  </a:lnTo>
                  <a:lnTo>
                    <a:pt x="213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5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4" y="436"/>
                  </a:lnTo>
                  <a:lnTo>
                    <a:pt x="167" y="438"/>
                  </a:lnTo>
                  <a:lnTo>
                    <a:pt x="159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5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7" y="441"/>
                  </a:lnTo>
                  <a:lnTo>
                    <a:pt x="84" y="437"/>
                  </a:lnTo>
                  <a:lnTo>
                    <a:pt x="73" y="433"/>
                  </a:lnTo>
                  <a:lnTo>
                    <a:pt x="61" y="429"/>
                  </a:lnTo>
                  <a:lnTo>
                    <a:pt x="51" y="422"/>
                  </a:lnTo>
                  <a:lnTo>
                    <a:pt x="41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9" y="360"/>
                  </a:lnTo>
                  <a:lnTo>
                    <a:pt x="6" y="344"/>
                  </a:lnTo>
                  <a:lnTo>
                    <a:pt x="2" y="329"/>
                  </a:lnTo>
                  <a:lnTo>
                    <a:pt x="1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5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8" y="269"/>
                  </a:lnTo>
                  <a:lnTo>
                    <a:pt x="149" y="274"/>
                  </a:lnTo>
                  <a:lnTo>
                    <a:pt x="151" y="280"/>
                  </a:lnTo>
                  <a:lnTo>
                    <a:pt x="154" y="283"/>
                  </a:lnTo>
                  <a:lnTo>
                    <a:pt x="156" y="286"/>
                  </a:lnTo>
                  <a:lnTo>
                    <a:pt x="159" y="289"/>
                  </a:lnTo>
                  <a:lnTo>
                    <a:pt x="162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80" y="298"/>
                  </a:lnTo>
                  <a:lnTo>
                    <a:pt x="185" y="298"/>
                  </a:lnTo>
                  <a:lnTo>
                    <a:pt x="190" y="298"/>
                  </a:lnTo>
                  <a:lnTo>
                    <a:pt x="196" y="297"/>
                  </a:lnTo>
                  <a:lnTo>
                    <a:pt x="201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4" y="288"/>
                  </a:lnTo>
                  <a:lnTo>
                    <a:pt x="217" y="285"/>
                  </a:lnTo>
                  <a:lnTo>
                    <a:pt x="221" y="282"/>
                  </a:lnTo>
                  <a:lnTo>
                    <a:pt x="223" y="276"/>
                  </a:lnTo>
                  <a:lnTo>
                    <a:pt x="226" y="272"/>
                  </a:lnTo>
                  <a:lnTo>
                    <a:pt x="227" y="267"/>
                  </a:lnTo>
                  <a:lnTo>
                    <a:pt x="229" y="260"/>
                  </a:lnTo>
                  <a:lnTo>
                    <a:pt x="230" y="254"/>
                  </a:lnTo>
                  <a:lnTo>
                    <a:pt x="231" y="246"/>
                  </a:lnTo>
                  <a:lnTo>
                    <a:pt x="233" y="239"/>
                  </a:lnTo>
                  <a:lnTo>
                    <a:pt x="233" y="231"/>
                  </a:lnTo>
                  <a:lnTo>
                    <a:pt x="233" y="0"/>
                  </a:ln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140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2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7" y="23"/>
                  </a:lnTo>
                  <a:lnTo>
                    <a:pt x="172" y="20"/>
                  </a:lnTo>
                  <a:lnTo>
                    <a:pt x="177" y="16"/>
                  </a:lnTo>
                  <a:lnTo>
                    <a:pt x="183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9" y="4"/>
                  </a:lnTo>
                  <a:lnTo>
                    <a:pt x="216" y="2"/>
                  </a:lnTo>
                  <a:lnTo>
                    <a:pt x="224" y="1"/>
                  </a:lnTo>
                  <a:lnTo>
                    <a:pt x="231" y="1"/>
                  </a:lnTo>
                  <a:lnTo>
                    <a:pt x="240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4" y="151"/>
                  </a:lnTo>
                  <a:lnTo>
                    <a:pt x="205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60" y="177"/>
                  </a:lnTo>
                  <a:lnTo>
                    <a:pt x="156" y="183"/>
                  </a:lnTo>
                  <a:lnTo>
                    <a:pt x="152" y="190"/>
                  </a:lnTo>
                  <a:lnTo>
                    <a:pt x="149" y="197"/>
                  </a:lnTo>
                  <a:lnTo>
                    <a:pt x="147" y="205"/>
                  </a:lnTo>
                  <a:lnTo>
                    <a:pt x="145" y="213"/>
                  </a:lnTo>
                  <a:lnTo>
                    <a:pt x="145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24080" y="855720"/>
              <a:ext cx="954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8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5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4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6" y="567"/>
                  </a:lnTo>
                  <a:lnTo>
                    <a:pt x="93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5" y="541"/>
                  </a:lnTo>
                  <a:lnTo>
                    <a:pt x="49" y="533"/>
                  </a:lnTo>
                  <a:lnTo>
                    <a:pt x="44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2" y="0"/>
                  </a:lnTo>
                  <a:lnTo>
                    <a:pt x="172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2" y="260"/>
                  </a:lnTo>
                  <a:lnTo>
                    <a:pt x="172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3" y="382"/>
                  </a:lnTo>
                  <a:lnTo>
                    <a:pt x="174" y="388"/>
                  </a:lnTo>
                  <a:lnTo>
                    <a:pt x="175" y="393"/>
                  </a:lnTo>
                  <a:lnTo>
                    <a:pt x="177" y="398"/>
                  </a:lnTo>
                  <a:lnTo>
                    <a:pt x="179" y="402"/>
                  </a:lnTo>
                  <a:lnTo>
                    <a:pt x="180" y="405"/>
                  </a:lnTo>
                  <a:lnTo>
                    <a:pt x="183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6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1440" y="839520"/>
              <a:ext cx="147600" cy="241560"/>
            </a:xfrm>
            <a:custGeom>
              <a:avLst/>
              <a:gdLst/>
              <a:ahLst/>
              <a:rect l="l" t="t" r="r" b="b"/>
              <a:pathLst>
                <a:path w="375" h="607">
                  <a:moveTo>
                    <a:pt x="0" y="607"/>
                  </a:moveTo>
                  <a:lnTo>
                    <a:pt x="0" y="0"/>
                  </a:lnTo>
                  <a:lnTo>
                    <a:pt x="143" y="0"/>
                  </a:lnTo>
                  <a:lnTo>
                    <a:pt x="143" y="210"/>
                  </a:lnTo>
                  <a:lnTo>
                    <a:pt x="148" y="204"/>
                  </a:lnTo>
                  <a:lnTo>
                    <a:pt x="154" y="200"/>
                  </a:lnTo>
                  <a:lnTo>
                    <a:pt x="158" y="195"/>
                  </a:lnTo>
                  <a:lnTo>
                    <a:pt x="165" y="190"/>
                  </a:lnTo>
                  <a:lnTo>
                    <a:pt x="170" y="186"/>
                  </a:lnTo>
                  <a:lnTo>
                    <a:pt x="176" y="183"/>
                  </a:lnTo>
                  <a:lnTo>
                    <a:pt x="183" y="180"/>
                  </a:lnTo>
                  <a:lnTo>
                    <a:pt x="189" y="176"/>
                  </a:lnTo>
                  <a:lnTo>
                    <a:pt x="196" y="173"/>
                  </a:lnTo>
                  <a:lnTo>
                    <a:pt x="203" y="171"/>
                  </a:lnTo>
                  <a:lnTo>
                    <a:pt x="210" y="169"/>
                  </a:lnTo>
                  <a:lnTo>
                    <a:pt x="217" y="167"/>
                  </a:lnTo>
                  <a:lnTo>
                    <a:pt x="225" y="166"/>
                  </a:lnTo>
                  <a:lnTo>
                    <a:pt x="234" y="164"/>
                  </a:lnTo>
                  <a:lnTo>
                    <a:pt x="241" y="164"/>
                  </a:lnTo>
                  <a:lnTo>
                    <a:pt x="250" y="164"/>
                  </a:lnTo>
                  <a:lnTo>
                    <a:pt x="264" y="164"/>
                  </a:lnTo>
                  <a:lnTo>
                    <a:pt x="278" y="167"/>
                  </a:lnTo>
                  <a:lnTo>
                    <a:pt x="292" y="170"/>
                  </a:lnTo>
                  <a:lnTo>
                    <a:pt x="304" y="173"/>
                  </a:lnTo>
                  <a:lnTo>
                    <a:pt x="315" y="179"/>
                  </a:lnTo>
                  <a:lnTo>
                    <a:pt x="326" y="185"/>
                  </a:lnTo>
                  <a:lnTo>
                    <a:pt x="334" y="193"/>
                  </a:lnTo>
                  <a:lnTo>
                    <a:pt x="343" y="202"/>
                  </a:lnTo>
                  <a:lnTo>
                    <a:pt x="350" y="212"/>
                  </a:lnTo>
                  <a:lnTo>
                    <a:pt x="357" y="223"/>
                  </a:lnTo>
                  <a:lnTo>
                    <a:pt x="362" y="235"/>
                  </a:lnTo>
                  <a:lnTo>
                    <a:pt x="367" y="249"/>
                  </a:lnTo>
                  <a:lnTo>
                    <a:pt x="371" y="263"/>
                  </a:lnTo>
                  <a:lnTo>
                    <a:pt x="373" y="278"/>
                  </a:lnTo>
                  <a:lnTo>
                    <a:pt x="374" y="295"/>
                  </a:lnTo>
                  <a:lnTo>
                    <a:pt x="375" y="312"/>
                  </a:lnTo>
                  <a:lnTo>
                    <a:pt x="375" y="607"/>
                  </a:lnTo>
                  <a:lnTo>
                    <a:pt x="232" y="607"/>
                  </a:lnTo>
                  <a:lnTo>
                    <a:pt x="232" y="375"/>
                  </a:lnTo>
                  <a:lnTo>
                    <a:pt x="232" y="366"/>
                  </a:lnTo>
                  <a:lnTo>
                    <a:pt x="230" y="358"/>
                  </a:lnTo>
                  <a:lnTo>
                    <a:pt x="230" y="350"/>
                  </a:lnTo>
                  <a:lnTo>
                    <a:pt x="229" y="344"/>
                  </a:lnTo>
                  <a:lnTo>
                    <a:pt x="228" y="337"/>
                  </a:lnTo>
                  <a:lnTo>
                    <a:pt x="226" y="332"/>
                  </a:lnTo>
                  <a:lnTo>
                    <a:pt x="224" y="328"/>
                  </a:lnTo>
                  <a:lnTo>
                    <a:pt x="222" y="323"/>
                  </a:lnTo>
                  <a:lnTo>
                    <a:pt x="220" y="320"/>
                  </a:lnTo>
                  <a:lnTo>
                    <a:pt x="216" y="318"/>
                  </a:lnTo>
                  <a:lnTo>
                    <a:pt x="213" y="315"/>
                  </a:lnTo>
                  <a:lnTo>
                    <a:pt x="210" y="312"/>
                  </a:lnTo>
                  <a:lnTo>
                    <a:pt x="206" y="311"/>
                  </a:lnTo>
                  <a:lnTo>
                    <a:pt x="200" y="310"/>
                  </a:lnTo>
                  <a:lnTo>
                    <a:pt x="196" y="309"/>
                  </a:lnTo>
                  <a:lnTo>
                    <a:pt x="190" y="309"/>
                  </a:lnTo>
                  <a:lnTo>
                    <a:pt x="185" y="309"/>
                  </a:lnTo>
                  <a:lnTo>
                    <a:pt x="180" y="310"/>
                  </a:lnTo>
                  <a:lnTo>
                    <a:pt x="174" y="311"/>
                  </a:lnTo>
                  <a:lnTo>
                    <a:pt x="170" y="314"/>
                  </a:lnTo>
                  <a:lnTo>
                    <a:pt x="166" y="316"/>
                  </a:lnTo>
                  <a:lnTo>
                    <a:pt x="162" y="319"/>
                  </a:lnTo>
                  <a:lnTo>
                    <a:pt x="158" y="322"/>
                  </a:lnTo>
                  <a:lnTo>
                    <a:pt x="156" y="326"/>
                  </a:lnTo>
                  <a:lnTo>
                    <a:pt x="153" y="331"/>
                  </a:lnTo>
                  <a:lnTo>
                    <a:pt x="150" y="336"/>
                  </a:lnTo>
                  <a:lnTo>
                    <a:pt x="148" y="342"/>
                  </a:lnTo>
                  <a:lnTo>
                    <a:pt x="146" y="347"/>
                  </a:lnTo>
                  <a:lnTo>
                    <a:pt x="145" y="353"/>
                  </a:lnTo>
                  <a:lnTo>
                    <a:pt x="144" y="361"/>
                  </a:lnTo>
                  <a:lnTo>
                    <a:pt x="144" y="369"/>
                  </a:lnTo>
                  <a:lnTo>
                    <a:pt x="143" y="376"/>
                  </a:lnTo>
                  <a:lnTo>
                    <a:pt x="143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6392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1136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7" y="399"/>
                  </a:moveTo>
                  <a:lnTo>
                    <a:pt x="387" y="405"/>
                  </a:lnTo>
                  <a:lnTo>
                    <a:pt x="378" y="411"/>
                  </a:lnTo>
                  <a:lnTo>
                    <a:pt x="367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7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6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2" y="252"/>
                  </a:lnTo>
                  <a:lnTo>
                    <a:pt x="0" y="229"/>
                  </a:lnTo>
                  <a:lnTo>
                    <a:pt x="2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90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0360" y="906480"/>
              <a:ext cx="9540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7" y="43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1" y="13"/>
                  </a:lnTo>
                  <a:lnTo>
                    <a:pt x="188" y="10"/>
                  </a:lnTo>
                  <a:lnTo>
                    <a:pt x="194" y="7"/>
                  </a:lnTo>
                  <a:lnTo>
                    <a:pt x="201" y="5"/>
                  </a:lnTo>
                  <a:lnTo>
                    <a:pt x="207" y="4"/>
                  </a:lnTo>
                  <a:lnTo>
                    <a:pt x="215" y="2"/>
                  </a:lnTo>
                  <a:lnTo>
                    <a:pt x="222" y="1"/>
                  </a:lnTo>
                  <a:lnTo>
                    <a:pt x="230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2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8" y="155"/>
                  </a:lnTo>
                  <a:lnTo>
                    <a:pt x="181" y="158"/>
                  </a:lnTo>
                  <a:lnTo>
                    <a:pt x="175" y="162"/>
                  </a:lnTo>
                  <a:lnTo>
                    <a:pt x="168" y="166"/>
                  </a:lnTo>
                  <a:lnTo>
                    <a:pt x="163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51" y="190"/>
                  </a:lnTo>
                  <a:lnTo>
                    <a:pt x="148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82960" y="892080"/>
              <a:ext cx="39600" cy="60480"/>
            </a:xfrm>
            <a:custGeom>
              <a:avLst/>
              <a:gdLst/>
              <a:ahLst/>
              <a:rect l="l" t="t" r="r" b="b"/>
              <a:pathLst>
                <a:path w="101" h="152">
                  <a:moveTo>
                    <a:pt x="0" y="152"/>
                  </a:moveTo>
                  <a:lnTo>
                    <a:pt x="15" y="152"/>
                  </a:lnTo>
                  <a:lnTo>
                    <a:pt x="25" y="152"/>
                  </a:lnTo>
                  <a:lnTo>
                    <a:pt x="34" y="151"/>
                  </a:lnTo>
                  <a:lnTo>
                    <a:pt x="44" y="150"/>
                  </a:lnTo>
                  <a:lnTo>
                    <a:pt x="52" y="148"/>
                  </a:lnTo>
                  <a:lnTo>
                    <a:pt x="60" y="145"/>
                  </a:lnTo>
                  <a:lnTo>
                    <a:pt x="67" y="142"/>
                  </a:lnTo>
                  <a:lnTo>
                    <a:pt x="73" y="137"/>
                  </a:lnTo>
                  <a:lnTo>
                    <a:pt x="80" y="133"/>
                  </a:lnTo>
                  <a:lnTo>
                    <a:pt x="84" y="129"/>
                  </a:lnTo>
                  <a:lnTo>
                    <a:pt x="90" y="122"/>
                  </a:lnTo>
                  <a:lnTo>
                    <a:pt x="93" y="117"/>
                  </a:lnTo>
                  <a:lnTo>
                    <a:pt x="96" y="109"/>
                  </a:lnTo>
                  <a:lnTo>
                    <a:pt x="98" y="103"/>
                  </a:lnTo>
                  <a:lnTo>
                    <a:pt x="100" y="94"/>
                  </a:lnTo>
                  <a:lnTo>
                    <a:pt x="101" y="87"/>
                  </a:lnTo>
                  <a:lnTo>
                    <a:pt x="101" y="77"/>
                  </a:lnTo>
                  <a:lnTo>
                    <a:pt x="101" y="68"/>
                  </a:lnTo>
                  <a:lnTo>
                    <a:pt x="100" y="60"/>
                  </a:lnTo>
                  <a:lnTo>
                    <a:pt x="98" y="52"/>
                  </a:lnTo>
                  <a:lnTo>
                    <a:pt x="96" y="44"/>
                  </a:lnTo>
                  <a:lnTo>
                    <a:pt x="93" y="38"/>
                  </a:lnTo>
                  <a:lnTo>
                    <a:pt x="90" y="31"/>
                  </a:lnTo>
                  <a:lnTo>
                    <a:pt x="85" y="25"/>
                  </a:lnTo>
                  <a:lnTo>
                    <a:pt x="80" y="21"/>
                  </a:lnTo>
                  <a:lnTo>
                    <a:pt x="74" y="15"/>
                  </a:lnTo>
                  <a:lnTo>
                    <a:pt x="68" y="12"/>
                  </a:lnTo>
                  <a:lnTo>
                    <a:pt x="61" y="8"/>
                  </a:lnTo>
                  <a:lnTo>
                    <a:pt x="54" y="6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21040" y="839520"/>
              <a:ext cx="181080" cy="241560"/>
            </a:xfrm>
            <a:custGeom>
              <a:avLst/>
              <a:gdLst/>
              <a:ahLst/>
              <a:rect l="l" t="t" r="r" b="b"/>
              <a:pathLst>
                <a:path w="456" h="607">
                  <a:moveTo>
                    <a:pt x="0" y="607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201" y="1"/>
                  </a:lnTo>
                  <a:lnTo>
                    <a:pt x="228" y="4"/>
                  </a:lnTo>
                  <a:lnTo>
                    <a:pt x="254" y="8"/>
                  </a:lnTo>
                  <a:lnTo>
                    <a:pt x="278" y="13"/>
                  </a:lnTo>
                  <a:lnTo>
                    <a:pt x="299" y="20"/>
                  </a:lnTo>
                  <a:lnTo>
                    <a:pt x="320" y="28"/>
                  </a:lnTo>
                  <a:lnTo>
                    <a:pt x="330" y="33"/>
                  </a:lnTo>
                  <a:lnTo>
                    <a:pt x="338" y="38"/>
                  </a:lnTo>
                  <a:lnTo>
                    <a:pt x="347" y="44"/>
                  </a:lnTo>
                  <a:lnTo>
                    <a:pt x="356" y="50"/>
                  </a:lnTo>
                  <a:lnTo>
                    <a:pt x="363" y="56"/>
                  </a:lnTo>
                  <a:lnTo>
                    <a:pt x="370" y="63"/>
                  </a:lnTo>
                  <a:lnTo>
                    <a:pt x="376" y="69"/>
                  </a:lnTo>
                  <a:lnTo>
                    <a:pt x="383" y="77"/>
                  </a:lnTo>
                  <a:lnTo>
                    <a:pt x="388" y="85"/>
                  </a:lnTo>
                  <a:lnTo>
                    <a:pt x="393" y="93"/>
                  </a:lnTo>
                  <a:lnTo>
                    <a:pt x="399" y="101"/>
                  </a:lnTo>
                  <a:lnTo>
                    <a:pt x="402" y="109"/>
                  </a:lnTo>
                  <a:lnTo>
                    <a:pt x="406" y="119"/>
                  </a:lnTo>
                  <a:lnTo>
                    <a:pt x="410" y="129"/>
                  </a:lnTo>
                  <a:lnTo>
                    <a:pt x="412" y="139"/>
                  </a:lnTo>
                  <a:lnTo>
                    <a:pt x="414" y="148"/>
                  </a:lnTo>
                  <a:lnTo>
                    <a:pt x="417" y="170"/>
                  </a:lnTo>
                  <a:lnTo>
                    <a:pt x="418" y="193"/>
                  </a:lnTo>
                  <a:lnTo>
                    <a:pt x="418" y="206"/>
                  </a:lnTo>
                  <a:lnTo>
                    <a:pt x="417" y="218"/>
                  </a:lnTo>
                  <a:lnTo>
                    <a:pt x="415" y="230"/>
                  </a:lnTo>
                  <a:lnTo>
                    <a:pt x="412" y="242"/>
                  </a:lnTo>
                  <a:lnTo>
                    <a:pt x="409" y="254"/>
                  </a:lnTo>
                  <a:lnTo>
                    <a:pt x="404" y="265"/>
                  </a:lnTo>
                  <a:lnTo>
                    <a:pt x="399" y="276"/>
                  </a:lnTo>
                  <a:lnTo>
                    <a:pt x="392" y="285"/>
                  </a:lnTo>
                  <a:lnTo>
                    <a:pt x="386" y="295"/>
                  </a:lnTo>
                  <a:lnTo>
                    <a:pt x="378" y="304"/>
                  </a:lnTo>
                  <a:lnTo>
                    <a:pt x="371" y="312"/>
                  </a:lnTo>
                  <a:lnTo>
                    <a:pt x="362" y="319"/>
                  </a:lnTo>
                  <a:lnTo>
                    <a:pt x="353" y="325"/>
                  </a:lnTo>
                  <a:lnTo>
                    <a:pt x="344" y="332"/>
                  </a:lnTo>
                  <a:lnTo>
                    <a:pt x="333" y="336"/>
                  </a:lnTo>
                  <a:lnTo>
                    <a:pt x="322" y="341"/>
                  </a:lnTo>
                  <a:lnTo>
                    <a:pt x="456" y="607"/>
                  </a:lnTo>
                  <a:lnTo>
                    <a:pt x="283" y="607"/>
                  </a:lnTo>
                  <a:lnTo>
                    <a:pt x="158" y="347"/>
                  </a:lnTo>
                  <a:lnTo>
                    <a:pt x="158" y="607"/>
                  </a:lnTo>
                  <a:lnTo>
                    <a:pt x="0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590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1" y="12"/>
                  </a:lnTo>
                  <a:lnTo>
                    <a:pt x="129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824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3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8" y="416"/>
                  </a:lnTo>
                  <a:lnTo>
                    <a:pt x="357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6" y="433"/>
                  </a:lnTo>
                  <a:lnTo>
                    <a:pt x="315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1" y="446"/>
                  </a:lnTo>
                  <a:lnTo>
                    <a:pt x="259" y="447"/>
                  </a:lnTo>
                  <a:lnTo>
                    <a:pt x="248" y="448"/>
                  </a:lnTo>
                  <a:lnTo>
                    <a:pt x="236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4" y="429"/>
                  </a:lnTo>
                  <a:lnTo>
                    <a:pt x="114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7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8" y="371"/>
                  </a:lnTo>
                  <a:lnTo>
                    <a:pt x="41" y="364"/>
                  </a:lnTo>
                  <a:lnTo>
                    <a:pt x="35" y="355"/>
                  </a:lnTo>
                  <a:lnTo>
                    <a:pt x="30" y="345"/>
                  </a:lnTo>
                  <a:lnTo>
                    <a:pt x="24" y="337"/>
                  </a:lnTo>
                  <a:lnTo>
                    <a:pt x="20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7" y="286"/>
                  </a:lnTo>
                  <a:lnTo>
                    <a:pt x="5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82"/>
                  </a:lnTo>
                  <a:lnTo>
                    <a:pt x="7" y="171"/>
                  </a:lnTo>
                  <a:lnTo>
                    <a:pt x="9" y="160"/>
                  </a:lnTo>
                  <a:lnTo>
                    <a:pt x="13" y="150"/>
                  </a:lnTo>
                  <a:lnTo>
                    <a:pt x="17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4" y="91"/>
                  </a:lnTo>
                  <a:lnTo>
                    <a:pt x="50" y="83"/>
                  </a:lnTo>
                  <a:lnTo>
                    <a:pt x="58" y="74"/>
                  </a:lnTo>
                  <a:lnTo>
                    <a:pt x="65" y="65"/>
                  </a:lnTo>
                  <a:lnTo>
                    <a:pt x="74" y="58"/>
                  </a:lnTo>
                  <a:lnTo>
                    <a:pt x="81" y="50"/>
                  </a:lnTo>
                  <a:lnTo>
                    <a:pt x="91" y="43"/>
                  </a:lnTo>
                  <a:lnTo>
                    <a:pt x="100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8" y="20"/>
                  </a:lnTo>
                  <a:lnTo>
                    <a:pt x="138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9" y="6"/>
                  </a:lnTo>
                  <a:lnTo>
                    <a:pt x="180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9" y="2"/>
                  </a:lnTo>
                  <a:lnTo>
                    <a:pt x="275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2" y="72"/>
                  </a:lnTo>
                  <a:lnTo>
                    <a:pt x="392" y="86"/>
                  </a:lnTo>
                  <a:lnTo>
                    <a:pt x="400" y="100"/>
                  </a:lnTo>
                  <a:lnTo>
                    <a:pt x="409" y="115"/>
                  </a:lnTo>
                  <a:lnTo>
                    <a:pt x="416" y="131"/>
                  </a:lnTo>
                  <a:lnTo>
                    <a:pt x="423" y="149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5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4" y="317"/>
                  </a:lnTo>
                  <a:lnTo>
                    <a:pt x="207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9" y="320"/>
                  </a:lnTo>
                  <a:lnTo>
                    <a:pt x="222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2" y="321"/>
                  </a:lnTo>
                  <a:lnTo>
                    <a:pt x="236" y="321"/>
                  </a:lnTo>
                  <a:lnTo>
                    <a:pt x="239" y="321"/>
                  </a:lnTo>
                  <a:lnTo>
                    <a:pt x="248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5" y="317"/>
                  </a:lnTo>
                  <a:lnTo>
                    <a:pt x="285" y="315"/>
                  </a:lnTo>
                  <a:lnTo>
                    <a:pt x="293" y="313"/>
                  </a:lnTo>
                  <a:lnTo>
                    <a:pt x="303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40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8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932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5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19" y="303"/>
                  </a:lnTo>
                  <a:lnTo>
                    <a:pt x="22" y="304"/>
                  </a:lnTo>
                  <a:lnTo>
                    <a:pt x="25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5" y="309"/>
                  </a:lnTo>
                  <a:lnTo>
                    <a:pt x="38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2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79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6" y="293"/>
                  </a:lnTo>
                  <a:lnTo>
                    <a:pt x="87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79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2" y="231"/>
                  </a:lnTo>
                  <a:lnTo>
                    <a:pt x="50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8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5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5" y="189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5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0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1" y="76"/>
                  </a:lnTo>
                  <a:lnTo>
                    <a:pt x="17" y="64"/>
                  </a:lnTo>
                  <a:lnTo>
                    <a:pt x="24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0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1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1" y="1"/>
                  </a:lnTo>
                  <a:lnTo>
                    <a:pt x="195" y="1"/>
                  </a:lnTo>
                  <a:lnTo>
                    <a:pt x="199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2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4" y="6"/>
                  </a:lnTo>
                  <a:lnTo>
                    <a:pt x="234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6" y="127"/>
                  </a:lnTo>
                  <a:lnTo>
                    <a:pt x="213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0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2" y="123"/>
                  </a:lnTo>
                  <a:lnTo>
                    <a:pt x="190" y="123"/>
                  </a:lnTo>
                  <a:lnTo>
                    <a:pt x="186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2" y="125"/>
                  </a:lnTo>
                  <a:lnTo>
                    <a:pt x="169" y="126"/>
                  </a:lnTo>
                  <a:lnTo>
                    <a:pt x="166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59" y="131"/>
                  </a:lnTo>
                  <a:lnTo>
                    <a:pt x="157" y="134"/>
                  </a:lnTo>
                  <a:lnTo>
                    <a:pt x="155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2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2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3" y="183"/>
                  </a:lnTo>
                  <a:lnTo>
                    <a:pt x="177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4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8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7" y="270"/>
                  </a:lnTo>
                  <a:lnTo>
                    <a:pt x="239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5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39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0" y="442"/>
                  </a:lnTo>
                  <a:lnTo>
                    <a:pt x="92" y="444"/>
                  </a:lnTo>
                  <a:lnTo>
                    <a:pt x="89" y="444"/>
                  </a:lnTo>
                  <a:lnTo>
                    <a:pt x="85" y="444"/>
                  </a:lnTo>
                  <a:lnTo>
                    <a:pt x="82" y="444"/>
                  </a:lnTo>
                  <a:lnTo>
                    <a:pt x="77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5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1" y="441"/>
                  </a:lnTo>
                  <a:lnTo>
                    <a:pt x="46" y="440"/>
                  </a:lnTo>
                  <a:lnTo>
                    <a:pt x="39" y="440"/>
                  </a:lnTo>
                  <a:lnTo>
                    <a:pt x="33" y="439"/>
                  </a:lnTo>
                  <a:lnTo>
                    <a:pt x="25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084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7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60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2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4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4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87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200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6" y="567"/>
                  </a:lnTo>
                  <a:lnTo>
                    <a:pt x="203" y="567"/>
                  </a:lnTo>
                  <a:lnTo>
                    <a:pt x="199" y="568"/>
                  </a:lnTo>
                  <a:lnTo>
                    <a:pt x="195" y="568"/>
                  </a:lnTo>
                  <a:lnTo>
                    <a:pt x="191" y="568"/>
                  </a:lnTo>
                  <a:lnTo>
                    <a:pt x="187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6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2" y="571"/>
                  </a:lnTo>
                  <a:lnTo>
                    <a:pt x="159" y="571"/>
                  </a:lnTo>
                  <a:lnTo>
                    <a:pt x="156" y="572"/>
                  </a:lnTo>
                  <a:lnTo>
                    <a:pt x="152" y="572"/>
                  </a:lnTo>
                  <a:lnTo>
                    <a:pt x="135" y="571"/>
                  </a:lnTo>
                  <a:lnTo>
                    <a:pt x="119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0" y="560"/>
                  </a:lnTo>
                  <a:lnTo>
                    <a:pt x="70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8" y="533"/>
                  </a:lnTo>
                  <a:lnTo>
                    <a:pt x="42" y="523"/>
                  </a:lnTo>
                  <a:lnTo>
                    <a:pt x="38" y="510"/>
                  </a:lnTo>
                  <a:lnTo>
                    <a:pt x="34" y="496"/>
                  </a:lnTo>
                  <a:lnTo>
                    <a:pt x="31" y="479"/>
                  </a:lnTo>
                  <a:lnTo>
                    <a:pt x="29" y="460"/>
                  </a:lnTo>
                  <a:lnTo>
                    <a:pt x="28" y="440"/>
                  </a:lnTo>
                  <a:lnTo>
                    <a:pt x="27" y="418"/>
                  </a:lnTo>
                  <a:lnTo>
                    <a:pt x="27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27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5" y="13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1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6" y="398"/>
                  </a:lnTo>
                  <a:lnTo>
                    <a:pt x="177" y="402"/>
                  </a:lnTo>
                  <a:lnTo>
                    <a:pt x="179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1" y="414"/>
                  </a:lnTo>
                  <a:lnTo>
                    <a:pt x="196" y="415"/>
                  </a:lnTo>
                  <a:lnTo>
                    <a:pt x="201" y="416"/>
                  </a:lnTo>
                  <a:lnTo>
                    <a:pt x="205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6" y="417"/>
                  </a:lnTo>
                  <a:lnTo>
                    <a:pt x="218" y="417"/>
                  </a:lnTo>
                  <a:lnTo>
                    <a:pt x="219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6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0" y="416"/>
                  </a:lnTo>
                  <a:lnTo>
                    <a:pt x="232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6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80000" y="906480"/>
              <a:ext cx="98280" cy="176040"/>
            </a:xfrm>
            <a:custGeom>
              <a:avLst/>
              <a:gdLst/>
              <a:ahLst/>
              <a:rect l="l" t="t" r="r" b="b"/>
              <a:pathLst>
                <a:path w="246" h="444">
                  <a:moveTo>
                    <a:pt x="10" y="436"/>
                  </a:moveTo>
                  <a:lnTo>
                    <a:pt x="10" y="299"/>
                  </a:lnTo>
                  <a:lnTo>
                    <a:pt x="14" y="301"/>
                  </a:lnTo>
                  <a:lnTo>
                    <a:pt x="17" y="302"/>
                  </a:lnTo>
                  <a:lnTo>
                    <a:pt x="20" y="303"/>
                  </a:lnTo>
                  <a:lnTo>
                    <a:pt x="22" y="304"/>
                  </a:lnTo>
                  <a:lnTo>
                    <a:pt x="26" y="305"/>
                  </a:lnTo>
                  <a:lnTo>
                    <a:pt x="28" y="306"/>
                  </a:lnTo>
                  <a:lnTo>
                    <a:pt x="31" y="307"/>
                  </a:lnTo>
                  <a:lnTo>
                    <a:pt x="33" y="307"/>
                  </a:lnTo>
                  <a:lnTo>
                    <a:pt x="36" y="309"/>
                  </a:lnTo>
                  <a:lnTo>
                    <a:pt x="39" y="309"/>
                  </a:lnTo>
                  <a:lnTo>
                    <a:pt x="41" y="310"/>
                  </a:lnTo>
                  <a:lnTo>
                    <a:pt x="43" y="310"/>
                  </a:lnTo>
                  <a:lnTo>
                    <a:pt x="46" y="311"/>
                  </a:lnTo>
                  <a:lnTo>
                    <a:pt x="48" y="311"/>
                  </a:lnTo>
                  <a:lnTo>
                    <a:pt x="50" y="311"/>
                  </a:lnTo>
                  <a:lnTo>
                    <a:pt x="53" y="311"/>
                  </a:lnTo>
                  <a:lnTo>
                    <a:pt x="57" y="311"/>
                  </a:lnTo>
                  <a:lnTo>
                    <a:pt x="60" y="310"/>
                  </a:lnTo>
                  <a:lnTo>
                    <a:pt x="64" y="310"/>
                  </a:lnTo>
                  <a:lnTo>
                    <a:pt x="68" y="309"/>
                  </a:lnTo>
                  <a:lnTo>
                    <a:pt x="71" y="307"/>
                  </a:lnTo>
                  <a:lnTo>
                    <a:pt x="74" y="306"/>
                  </a:lnTo>
                  <a:lnTo>
                    <a:pt x="76" y="304"/>
                  </a:lnTo>
                  <a:lnTo>
                    <a:pt x="80" y="302"/>
                  </a:lnTo>
                  <a:lnTo>
                    <a:pt x="82" y="300"/>
                  </a:lnTo>
                  <a:lnTo>
                    <a:pt x="84" y="298"/>
                  </a:lnTo>
                  <a:lnTo>
                    <a:pt x="85" y="296"/>
                  </a:lnTo>
                  <a:lnTo>
                    <a:pt x="87" y="293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9" y="285"/>
                  </a:lnTo>
                  <a:lnTo>
                    <a:pt x="89" y="282"/>
                  </a:lnTo>
                  <a:lnTo>
                    <a:pt x="88" y="277"/>
                  </a:lnTo>
                  <a:lnTo>
                    <a:pt x="87" y="272"/>
                  </a:lnTo>
                  <a:lnTo>
                    <a:pt x="84" y="266"/>
                  </a:lnTo>
                  <a:lnTo>
                    <a:pt x="81" y="261"/>
                  </a:lnTo>
                  <a:lnTo>
                    <a:pt x="75" y="253"/>
                  </a:lnTo>
                  <a:lnTo>
                    <a:pt x="69" y="247"/>
                  </a:lnTo>
                  <a:lnTo>
                    <a:pt x="61" y="239"/>
                  </a:lnTo>
                  <a:lnTo>
                    <a:pt x="54" y="231"/>
                  </a:lnTo>
                  <a:lnTo>
                    <a:pt x="52" y="230"/>
                  </a:lnTo>
                  <a:lnTo>
                    <a:pt x="49" y="228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4" y="223"/>
                  </a:lnTo>
                  <a:lnTo>
                    <a:pt x="42" y="221"/>
                  </a:lnTo>
                  <a:lnTo>
                    <a:pt x="41" y="220"/>
                  </a:lnTo>
                  <a:lnTo>
                    <a:pt x="39" y="219"/>
                  </a:lnTo>
                  <a:lnTo>
                    <a:pt x="34" y="213"/>
                  </a:lnTo>
                  <a:lnTo>
                    <a:pt x="30" y="209"/>
                  </a:lnTo>
                  <a:lnTo>
                    <a:pt x="26" y="204"/>
                  </a:lnTo>
                  <a:lnTo>
                    <a:pt x="22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3" y="183"/>
                  </a:lnTo>
                  <a:lnTo>
                    <a:pt x="9" y="178"/>
                  </a:lnTo>
                  <a:lnTo>
                    <a:pt x="7" y="172"/>
                  </a:lnTo>
                  <a:lnTo>
                    <a:pt x="6" y="167"/>
                  </a:lnTo>
                  <a:lnTo>
                    <a:pt x="4" y="162"/>
                  </a:lnTo>
                  <a:lnTo>
                    <a:pt x="3" y="155"/>
                  </a:lnTo>
                  <a:lnTo>
                    <a:pt x="2" y="150"/>
                  </a:lnTo>
                  <a:lnTo>
                    <a:pt x="1" y="143"/>
                  </a:lnTo>
                  <a:lnTo>
                    <a:pt x="1" y="138"/>
                  </a:lnTo>
                  <a:lnTo>
                    <a:pt x="0" y="131"/>
                  </a:lnTo>
                  <a:lnTo>
                    <a:pt x="1" y="116"/>
                  </a:lnTo>
                  <a:lnTo>
                    <a:pt x="3" y="102"/>
                  </a:lnTo>
                  <a:lnTo>
                    <a:pt x="6" y="89"/>
                  </a:lnTo>
                  <a:lnTo>
                    <a:pt x="12" y="76"/>
                  </a:lnTo>
                  <a:lnTo>
                    <a:pt x="18" y="64"/>
                  </a:lnTo>
                  <a:lnTo>
                    <a:pt x="26" y="54"/>
                  </a:lnTo>
                  <a:lnTo>
                    <a:pt x="34" y="44"/>
                  </a:lnTo>
                  <a:lnTo>
                    <a:pt x="45" y="35"/>
                  </a:lnTo>
                  <a:lnTo>
                    <a:pt x="56" y="27"/>
                  </a:lnTo>
                  <a:lnTo>
                    <a:pt x="69" y="19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4" y="5"/>
                  </a:lnTo>
                  <a:lnTo>
                    <a:pt x="131" y="2"/>
                  </a:lnTo>
                  <a:lnTo>
                    <a:pt x="149" y="1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1"/>
                  </a:lnTo>
                  <a:lnTo>
                    <a:pt x="195" y="1"/>
                  </a:lnTo>
                  <a:lnTo>
                    <a:pt x="200" y="2"/>
                  </a:lnTo>
                  <a:lnTo>
                    <a:pt x="204" y="2"/>
                  </a:lnTo>
                  <a:lnTo>
                    <a:pt x="208" y="3"/>
                  </a:lnTo>
                  <a:lnTo>
                    <a:pt x="213" y="3"/>
                  </a:lnTo>
                  <a:lnTo>
                    <a:pt x="217" y="4"/>
                  </a:lnTo>
                  <a:lnTo>
                    <a:pt x="221" y="4"/>
                  </a:lnTo>
                  <a:lnTo>
                    <a:pt x="225" y="5"/>
                  </a:lnTo>
                  <a:lnTo>
                    <a:pt x="230" y="6"/>
                  </a:lnTo>
                  <a:lnTo>
                    <a:pt x="235" y="6"/>
                  </a:lnTo>
                  <a:lnTo>
                    <a:pt x="235" y="135"/>
                  </a:lnTo>
                  <a:lnTo>
                    <a:pt x="232" y="134"/>
                  </a:lnTo>
                  <a:lnTo>
                    <a:pt x="229" y="132"/>
                  </a:lnTo>
                  <a:lnTo>
                    <a:pt x="225" y="130"/>
                  </a:lnTo>
                  <a:lnTo>
                    <a:pt x="222" y="129"/>
                  </a:lnTo>
                  <a:lnTo>
                    <a:pt x="219" y="128"/>
                  </a:lnTo>
                  <a:lnTo>
                    <a:pt x="217" y="127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7" y="125"/>
                  </a:lnTo>
                  <a:lnTo>
                    <a:pt x="204" y="125"/>
                  </a:lnTo>
                  <a:lnTo>
                    <a:pt x="202" y="124"/>
                  </a:lnTo>
                  <a:lnTo>
                    <a:pt x="198" y="124"/>
                  </a:lnTo>
                  <a:lnTo>
                    <a:pt x="195" y="123"/>
                  </a:lnTo>
                  <a:lnTo>
                    <a:pt x="193" y="123"/>
                  </a:lnTo>
                  <a:lnTo>
                    <a:pt x="190" y="123"/>
                  </a:lnTo>
                  <a:lnTo>
                    <a:pt x="187" y="123"/>
                  </a:lnTo>
                  <a:lnTo>
                    <a:pt x="183" y="123"/>
                  </a:lnTo>
                  <a:lnTo>
                    <a:pt x="179" y="123"/>
                  </a:lnTo>
                  <a:lnTo>
                    <a:pt x="176" y="124"/>
                  </a:lnTo>
                  <a:lnTo>
                    <a:pt x="173" y="125"/>
                  </a:lnTo>
                  <a:lnTo>
                    <a:pt x="169" y="126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2" y="129"/>
                  </a:lnTo>
                  <a:lnTo>
                    <a:pt x="160" y="131"/>
                  </a:lnTo>
                  <a:lnTo>
                    <a:pt x="157" y="134"/>
                  </a:lnTo>
                  <a:lnTo>
                    <a:pt x="156" y="136"/>
                  </a:lnTo>
                  <a:lnTo>
                    <a:pt x="154" y="138"/>
                  </a:lnTo>
                  <a:lnTo>
                    <a:pt x="153" y="140"/>
                  </a:lnTo>
                  <a:lnTo>
                    <a:pt x="153" y="142"/>
                  </a:lnTo>
                  <a:lnTo>
                    <a:pt x="152" y="145"/>
                  </a:lnTo>
                  <a:lnTo>
                    <a:pt x="152" y="148"/>
                  </a:lnTo>
                  <a:lnTo>
                    <a:pt x="152" y="150"/>
                  </a:lnTo>
                  <a:lnTo>
                    <a:pt x="153" y="152"/>
                  </a:lnTo>
                  <a:lnTo>
                    <a:pt x="153" y="154"/>
                  </a:lnTo>
                  <a:lnTo>
                    <a:pt x="153" y="155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6" y="162"/>
                  </a:lnTo>
                  <a:lnTo>
                    <a:pt x="157" y="164"/>
                  </a:lnTo>
                  <a:lnTo>
                    <a:pt x="158" y="166"/>
                  </a:lnTo>
                  <a:lnTo>
                    <a:pt x="161" y="168"/>
                  </a:lnTo>
                  <a:lnTo>
                    <a:pt x="163" y="170"/>
                  </a:lnTo>
                  <a:lnTo>
                    <a:pt x="165" y="174"/>
                  </a:lnTo>
                  <a:lnTo>
                    <a:pt x="167" y="177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8" y="188"/>
                  </a:lnTo>
                  <a:lnTo>
                    <a:pt x="188" y="197"/>
                  </a:lnTo>
                  <a:lnTo>
                    <a:pt x="196" y="207"/>
                  </a:lnTo>
                  <a:lnTo>
                    <a:pt x="205" y="216"/>
                  </a:lnTo>
                  <a:lnTo>
                    <a:pt x="211" y="224"/>
                  </a:lnTo>
                  <a:lnTo>
                    <a:pt x="218" y="233"/>
                  </a:lnTo>
                  <a:lnTo>
                    <a:pt x="223" y="240"/>
                  </a:lnTo>
                  <a:lnTo>
                    <a:pt x="229" y="248"/>
                  </a:lnTo>
                  <a:lnTo>
                    <a:pt x="232" y="256"/>
                  </a:lnTo>
                  <a:lnTo>
                    <a:pt x="235" y="262"/>
                  </a:lnTo>
                  <a:lnTo>
                    <a:pt x="238" y="270"/>
                  </a:lnTo>
                  <a:lnTo>
                    <a:pt x="241" y="277"/>
                  </a:lnTo>
                  <a:lnTo>
                    <a:pt x="242" y="285"/>
                  </a:lnTo>
                  <a:lnTo>
                    <a:pt x="244" y="292"/>
                  </a:lnTo>
                  <a:lnTo>
                    <a:pt x="245" y="300"/>
                  </a:lnTo>
                  <a:lnTo>
                    <a:pt x="245" y="309"/>
                  </a:lnTo>
                  <a:lnTo>
                    <a:pt x="246" y="316"/>
                  </a:lnTo>
                  <a:lnTo>
                    <a:pt x="245" y="331"/>
                  </a:lnTo>
                  <a:lnTo>
                    <a:pt x="243" y="345"/>
                  </a:lnTo>
                  <a:lnTo>
                    <a:pt x="240" y="358"/>
                  </a:lnTo>
                  <a:lnTo>
                    <a:pt x="235" y="370"/>
                  </a:lnTo>
                  <a:lnTo>
                    <a:pt x="230" y="381"/>
                  </a:lnTo>
                  <a:lnTo>
                    <a:pt x="223" y="392"/>
                  </a:lnTo>
                  <a:lnTo>
                    <a:pt x="215" y="401"/>
                  </a:lnTo>
                  <a:lnTo>
                    <a:pt x="205" y="410"/>
                  </a:lnTo>
                  <a:lnTo>
                    <a:pt x="195" y="418"/>
                  </a:lnTo>
                  <a:lnTo>
                    <a:pt x="183" y="425"/>
                  </a:lnTo>
                  <a:lnTo>
                    <a:pt x="170" y="431"/>
                  </a:lnTo>
                  <a:lnTo>
                    <a:pt x="157" y="435"/>
                  </a:lnTo>
                  <a:lnTo>
                    <a:pt x="142" y="439"/>
                  </a:lnTo>
                  <a:lnTo>
                    <a:pt x="127" y="441"/>
                  </a:lnTo>
                  <a:lnTo>
                    <a:pt x="111" y="442"/>
                  </a:lnTo>
                  <a:lnTo>
                    <a:pt x="93" y="444"/>
                  </a:lnTo>
                  <a:lnTo>
                    <a:pt x="89" y="444"/>
                  </a:lnTo>
                  <a:lnTo>
                    <a:pt x="86" y="444"/>
                  </a:lnTo>
                  <a:lnTo>
                    <a:pt x="82" y="444"/>
                  </a:lnTo>
                  <a:lnTo>
                    <a:pt x="79" y="444"/>
                  </a:lnTo>
                  <a:lnTo>
                    <a:pt x="74" y="442"/>
                  </a:lnTo>
                  <a:lnTo>
                    <a:pt x="70" y="442"/>
                  </a:lnTo>
                  <a:lnTo>
                    <a:pt x="66" y="442"/>
                  </a:lnTo>
                  <a:lnTo>
                    <a:pt x="61" y="442"/>
                  </a:lnTo>
                  <a:lnTo>
                    <a:pt x="57" y="441"/>
                  </a:lnTo>
                  <a:lnTo>
                    <a:pt x="52" y="441"/>
                  </a:lnTo>
                  <a:lnTo>
                    <a:pt x="46" y="440"/>
                  </a:lnTo>
                  <a:lnTo>
                    <a:pt x="40" y="440"/>
                  </a:lnTo>
                  <a:lnTo>
                    <a:pt x="33" y="439"/>
                  </a:lnTo>
                  <a:lnTo>
                    <a:pt x="26" y="438"/>
                  </a:lnTo>
                  <a:lnTo>
                    <a:pt x="18" y="437"/>
                  </a:lnTo>
                  <a:lnTo>
                    <a:pt x="10" y="43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46400" y="961920"/>
              <a:ext cx="59040" cy="6336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74" y="0"/>
                  </a:moveTo>
                  <a:lnTo>
                    <a:pt x="67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5" y="112"/>
                  </a:lnTo>
                  <a:lnTo>
                    <a:pt x="8" y="119"/>
                  </a:lnTo>
                  <a:lnTo>
                    <a:pt x="11" y="125"/>
                  </a:lnTo>
                  <a:lnTo>
                    <a:pt x="16" y="132"/>
                  </a:lnTo>
                  <a:lnTo>
                    <a:pt x="21" y="138"/>
                  </a:lnTo>
                  <a:lnTo>
                    <a:pt x="27" y="144"/>
                  </a:lnTo>
                  <a:lnTo>
                    <a:pt x="32" y="148"/>
                  </a:lnTo>
                  <a:lnTo>
                    <a:pt x="38" y="152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59" y="160"/>
                  </a:lnTo>
                  <a:lnTo>
                    <a:pt x="67" y="161"/>
                  </a:lnTo>
                  <a:lnTo>
                    <a:pt x="74" y="161"/>
                  </a:lnTo>
                  <a:lnTo>
                    <a:pt x="82" y="161"/>
                  </a:lnTo>
                  <a:lnTo>
                    <a:pt x="89" y="160"/>
                  </a:lnTo>
                  <a:lnTo>
                    <a:pt x="96" y="158"/>
                  </a:lnTo>
                  <a:lnTo>
                    <a:pt x="103" y="155"/>
                  </a:lnTo>
                  <a:lnTo>
                    <a:pt x="109" y="151"/>
                  </a:lnTo>
                  <a:lnTo>
                    <a:pt x="115" y="148"/>
                  </a:lnTo>
                  <a:lnTo>
                    <a:pt x="122" y="143"/>
                  </a:lnTo>
                  <a:lnTo>
                    <a:pt x="127" y="137"/>
                  </a:lnTo>
                  <a:lnTo>
                    <a:pt x="132" y="132"/>
                  </a:lnTo>
                  <a:lnTo>
                    <a:pt x="137" y="125"/>
                  </a:lnTo>
                  <a:lnTo>
                    <a:pt x="140" y="119"/>
                  </a:lnTo>
                  <a:lnTo>
                    <a:pt x="143" y="111"/>
                  </a:lnTo>
                  <a:lnTo>
                    <a:pt x="145" y="105"/>
                  </a:lnTo>
                  <a:lnTo>
                    <a:pt x="148" y="97"/>
                  </a:lnTo>
                  <a:lnTo>
                    <a:pt x="149" y="90"/>
                  </a:lnTo>
                  <a:lnTo>
                    <a:pt x="149" y="81"/>
                  </a:lnTo>
                  <a:lnTo>
                    <a:pt x="149" y="74"/>
                  </a:lnTo>
                  <a:lnTo>
                    <a:pt x="148" y="65"/>
                  </a:lnTo>
                  <a:lnTo>
                    <a:pt x="145" y="57"/>
                  </a:lnTo>
                  <a:lnTo>
                    <a:pt x="143" y="51"/>
                  </a:lnTo>
                  <a:lnTo>
                    <a:pt x="140" y="43"/>
                  </a:lnTo>
                  <a:lnTo>
                    <a:pt x="137" y="37"/>
                  </a:lnTo>
                  <a:lnTo>
                    <a:pt x="132" y="30"/>
                  </a:lnTo>
                  <a:lnTo>
                    <a:pt x="127" y="24"/>
                  </a:lnTo>
                  <a:lnTo>
                    <a:pt x="122" y="18"/>
                  </a:lnTo>
                  <a:lnTo>
                    <a:pt x="115" y="14"/>
                  </a:lnTo>
                  <a:lnTo>
                    <a:pt x="109" y="10"/>
                  </a:lnTo>
                  <a:lnTo>
                    <a:pt x="103" y="7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2" y="1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772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5" h="452">
                  <a:moveTo>
                    <a:pt x="222" y="0"/>
                  </a:moveTo>
                  <a:lnTo>
                    <a:pt x="245" y="1"/>
                  </a:lnTo>
                  <a:lnTo>
                    <a:pt x="266" y="5"/>
                  </a:lnTo>
                  <a:lnTo>
                    <a:pt x="277" y="7"/>
                  </a:lnTo>
                  <a:lnTo>
                    <a:pt x="287" y="10"/>
                  </a:lnTo>
                  <a:lnTo>
                    <a:pt x="298" y="13"/>
                  </a:lnTo>
                  <a:lnTo>
                    <a:pt x="308" y="17"/>
                  </a:lnTo>
                  <a:lnTo>
                    <a:pt x="317" y="21"/>
                  </a:lnTo>
                  <a:lnTo>
                    <a:pt x="327" y="26"/>
                  </a:lnTo>
                  <a:lnTo>
                    <a:pt x="336" y="32"/>
                  </a:lnTo>
                  <a:lnTo>
                    <a:pt x="345" y="37"/>
                  </a:lnTo>
                  <a:lnTo>
                    <a:pt x="363" y="51"/>
                  </a:lnTo>
                  <a:lnTo>
                    <a:pt x="380" y="66"/>
                  </a:lnTo>
                  <a:lnTo>
                    <a:pt x="395" y="84"/>
                  </a:lnTo>
                  <a:lnTo>
                    <a:pt x="408" y="102"/>
                  </a:lnTo>
                  <a:lnTo>
                    <a:pt x="413" y="111"/>
                  </a:lnTo>
                  <a:lnTo>
                    <a:pt x="419" y="120"/>
                  </a:lnTo>
                  <a:lnTo>
                    <a:pt x="424" y="130"/>
                  </a:lnTo>
                  <a:lnTo>
                    <a:pt x="429" y="140"/>
                  </a:lnTo>
                  <a:lnTo>
                    <a:pt x="432" y="149"/>
                  </a:lnTo>
                  <a:lnTo>
                    <a:pt x="435" y="160"/>
                  </a:lnTo>
                  <a:lnTo>
                    <a:pt x="438" y="171"/>
                  </a:lnTo>
                  <a:lnTo>
                    <a:pt x="440" y="181"/>
                  </a:lnTo>
                  <a:lnTo>
                    <a:pt x="444" y="203"/>
                  </a:lnTo>
                  <a:lnTo>
                    <a:pt x="445" y="226"/>
                  </a:lnTo>
                  <a:lnTo>
                    <a:pt x="444" y="249"/>
                  </a:lnTo>
                  <a:lnTo>
                    <a:pt x="440" y="271"/>
                  </a:lnTo>
                  <a:lnTo>
                    <a:pt x="438" y="282"/>
                  </a:lnTo>
                  <a:lnTo>
                    <a:pt x="435" y="293"/>
                  </a:lnTo>
                  <a:lnTo>
                    <a:pt x="432" y="303"/>
                  </a:lnTo>
                  <a:lnTo>
                    <a:pt x="429" y="313"/>
                  </a:lnTo>
                  <a:lnTo>
                    <a:pt x="424" y="323"/>
                  </a:lnTo>
                  <a:lnTo>
                    <a:pt x="419" y="332"/>
                  </a:lnTo>
                  <a:lnTo>
                    <a:pt x="414" y="342"/>
                  </a:lnTo>
                  <a:lnTo>
                    <a:pt x="408" y="351"/>
                  </a:lnTo>
                  <a:lnTo>
                    <a:pt x="395" y="369"/>
                  </a:lnTo>
                  <a:lnTo>
                    <a:pt x="380" y="386"/>
                  </a:lnTo>
                  <a:lnTo>
                    <a:pt x="364" y="401"/>
                  </a:lnTo>
                  <a:lnTo>
                    <a:pt x="345" y="415"/>
                  </a:lnTo>
                  <a:lnTo>
                    <a:pt x="337" y="421"/>
                  </a:lnTo>
                  <a:lnTo>
                    <a:pt x="327" y="426"/>
                  </a:lnTo>
                  <a:lnTo>
                    <a:pt x="318" y="431"/>
                  </a:lnTo>
                  <a:lnTo>
                    <a:pt x="309" y="436"/>
                  </a:lnTo>
                  <a:lnTo>
                    <a:pt x="298" y="439"/>
                  </a:lnTo>
                  <a:lnTo>
                    <a:pt x="288" y="442"/>
                  </a:lnTo>
                  <a:lnTo>
                    <a:pt x="277" y="445"/>
                  </a:lnTo>
                  <a:lnTo>
                    <a:pt x="266" y="448"/>
                  </a:lnTo>
                  <a:lnTo>
                    <a:pt x="245" y="451"/>
                  </a:lnTo>
                  <a:lnTo>
                    <a:pt x="222" y="452"/>
                  </a:lnTo>
                  <a:lnTo>
                    <a:pt x="199" y="451"/>
                  </a:lnTo>
                  <a:lnTo>
                    <a:pt x="178" y="448"/>
                  </a:lnTo>
                  <a:lnTo>
                    <a:pt x="167" y="445"/>
                  </a:lnTo>
                  <a:lnTo>
                    <a:pt x="156" y="442"/>
                  </a:lnTo>
                  <a:lnTo>
                    <a:pt x="147" y="439"/>
                  </a:lnTo>
                  <a:lnTo>
                    <a:pt x="137" y="436"/>
                  </a:lnTo>
                  <a:lnTo>
                    <a:pt x="127" y="431"/>
                  </a:lnTo>
                  <a:lnTo>
                    <a:pt x="117" y="426"/>
                  </a:lnTo>
                  <a:lnTo>
                    <a:pt x="108" y="421"/>
                  </a:lnTo>
                  <a:lnTo>
                    <a:pt x="99" y="415"/>
                  </a:lnTo>
                  <a:lnTo>
                    <a:pt x="90" y="409"/>
                  </a:lnTo>
                  <a:lnTo>
                    <a:pt x="82" y="401"/>
                  </a:lnTo>
                  <a:lnTo>
                    <a:pt x="73" y="394"/>
                  </a:lnTo>
                  <a:lnTo>
                    <a:pt x="64" y="386"/>
                  </a:lnTo>
                  <a:lnTo>
                    <a:pt x="49" y="369"/>
                  </a:lnTo>
                  <a:lnTo>
                    <a:pt x="36" y="351"/>
                  </a:lnTo>
                  <a:lnTo>
                    <a:pt x="30" y="342"/>
                  </a:lnTo>
                  <a:lnTo>
                    <a:pt x="25" y="332"/>
                  </a:lnTo>
                  <a:lnTo>
                    <a:pt x="20" y="323"/>
                  </a:lnTo>
                  <a:lnTo>
                    <a:pt x="16" y="313"/>
                  </a:lnTo>
                  <a:lnTo>
                    <a:pt x="13" y="303"/>
                  </a:lnTo>
                  <a:lnTo>
                    <a:pt x="9" y="293"/>
                  </a:lnTo>
                  <a:lnTo>
                    <a:pt x="6" y="282"/>
                  </a:lnTo>
                  <a:lnTo>
                    <a:pt x="4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4" y="181"/>
                  </a:lnTo>
                  <a:lnTo>
                    <a:pt x="6" y="170"/>
                  </a:lnTo>
                  <a:lnTo>
                    <a:pt x="9" y="160"/>
                  </a:lnTo>
                  <a:lnTo>
                    <a:pt x="13" y="149"/>
                  </a:lnTo>
                  <a:lnTo>
                    <a:pt x="16" y="140"/>
                  </a:lnTo>
                  <a:lnTo>
                    <a:pt x="20" y="130"/>
                  </a:lnTo>
                  <a:lnTo>
                    <a:pt x="25" y="120"/>
                  </a:lnTo>
                  <a:lnTo>
                    <a:pt x="30" y="111"/>
                  </a:lnTo>
                  <a:lnTo>
                    <a:pt x="36" y="101"/>
                  </a:lnTo>
                  <a:lnTo>
                    <a:pt x="49" y="84"/>
                  </a:lnTo>
                  <a:lnTo>
                    <a:pt x="64" y="66"/>
                  </a:lnTo>
                  <a:lnTo>
                    <a:pt x="82" y="51"/>
                  </a:lnTo>
                  <a:lnTo>
                    <a:pt x="99" y="37"/>
                  </a:lnTo>
                  <a:lnTo>
                    <a:pt x="108" y="32"/>
                  </a:lnTo>
                  <a:lnTo>
                    <a:pt x="117" y="26"/>
                  </a:lnTo>
                  <a:lnTo>
                    <a:pt x="127" y="21"/>
                  </a:lnTo>
                  <a:lnTo>
                    <a:pt x="137" y="17"/>
                  </a:lnTo>
                  <a:lnTo>
                    <a:pt x="147" y="13"/>
                  </a:lnTo>
                  <a:lnTo>
                    <a:pt x="156" y="10"/>
                  </a:lnTo>
                  <a:lnTo>
                    <a:pt x="167" y="7"/>
                  </a:lnTo>
                  <a:lnTo>
                    <a:pt x="178" y="5"/>
                  </a:lnTo>
                  <a:lnTo>
                    <a:pt x="199" y="1"/>
                  </a:ln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9960" y="838080"/>
              <a:ext cx="96840" cy="243000"/>
            </a:xfrm>
            <a:custGeom>
              <a:avLst/>
              <a:gdLst/>
              <a:ahLst/>
              <a:rect l="l" t="t" r="r" b="b"/>
              <a:pathLst>
                <a:path w="241" h="611">
                  <a:moveTo>
                    <a:pt x="241" y="2"/>
                  </a:moveTo>
                  <a:lnTo>
                    <a:pt x="241" y="138"/>
                  </a:lnTo>
                  <a:lnTo>
                    <a:pt x="240" y="138"/>
                  </a:lnTo>
                  <a:lnTo>
                    <a:pt x="239" y="138"/>
                  </a:lnTo>
                  <a:lnTo>
                    <a:pt x="236" y="138"/>
                  </a:lnTo>
                  <a:lnTo>
                    <a:pt x="235" y="138"/>
                  </a:lnTo>
                  <a:lnTo>
                    <a:pt x="234" y="138"/>
                  </a:lnTo>
                  <a:lnTo>
                    <a:pt x="232" y="138"/>
                  </a:lnTo>
                  <a:lnTo>
                    <a:pt x="231" y="138"/>
                  </a:lnTo>
                  <a:lnTo>
                    <a:pt x="230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6" y="138"/>
                  </a:lnTo>
                  <a:lnTo>
                    <a:pt x="225" y="138"/>
                  </a:lnTo>
                  <a:lnTo>
                    <a:pt x="223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0" y="138"/>
                  </a:lnTo>
                  <a:lnTo>
                    <a:pt x="206" y="139"/>
                  </a:lnTo>
                  <a:lnTo>
                    <a:pt x="202" y="139"/>
                  </a:lnTo>
                  <a:lnTo>
                    <a:pt x="198" y="140"/>
                  </a:lnTo>
                  <a:lnTo>
                    <a:pt x="194" y="143"/>
                  </a:lnTo>
                  <a:lnTo>
                    <a:pt x="191" y="144"/>
                  </a:lnTo>
                  <a:lnTo>
                    <a:pt x="188" y="146"/>
                  </a:lnTo>
                  <a:lnTo>
                    <a:pt x="186" y="148"/>
                  </a:lnTo>
                  <a:lnTo>
                    <a:pt x="183" y="150"/>
                  </a:lnTo>
                  <a:lnTo>
                    <a:pt x="181" y="153"/>
                  </a:lnTo>
                  <a:lnTo>
                    <a:pt x="180" y="157"/>
                  </a:lnTo>
                  <a:lnTo>
                    <a:pt x="179" y="160"/>
                  </a:lnTo>
                  <a:lnTo>
                    <a:pt x="178" y="164"/>
                  </a:lnTo>
                  <a:lnTo>
                    <a:pt x="178" y="167"/>
                  </a:lnTo>
                  <a:lnTo>
                    <a:pt x="178" y="173"/>
                  </a:lnTo>
                  <a:lnTo>
                    <a:pt x="178" y="175"/>
                  </a:lnTo>
                  <a:lnTo>
                    <a:pt x="241" y="175"/>
                  </a:lnTo>
                  <a:lnTo>
                    <a:pt x="241" y="305"/>
                  </a:lnTo>
                  <a:lnTo>
                    <a:pt x="178" y="305"/>
                  </a:lnTo>
                  <a:lnTo>
                    <a:pt x="178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4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5" y="92"/>
                  </a:lnTo>
                  <a:lnTo>
                    <a:pt x="51" y="78"/>
                  </a:lnTo>
                  <a:lnTo>
                    <a:pt x="58" y="64"/>
                  </a:lnTo>
                  <a:lnTo>
                    <a:pt x="67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0" y="23"/>
                  </a:lnTo>
                  <a:lnTo>
                    <a:pt x="114" y="16"/>
                  </a:lnTo>
                  <a:lnTo>
                    <a:pt x="131" y="11"/>
                  </a:lnTo>
                  <a:lnTo>
                    <a:pt x="147" y="5"/>
                  </a:lnTo>
                  <a:lnTo>
                    <a:pt x="164" y="2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5" y="1"/>
                  </a:lnTo>
                  <a:lnTo>
                    <a:pt x="236" y="1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70400" y="839520"/>
              <a:ext cx="204840" cy="241560"/>
            </a:xfrm>
            <a:custGeom>
              <a:avLst/>
              <a:gdLst/>
              <a:ahLst/>
              <a:rect l="l" t="t" r="r" b="b"/>
              <a:pathLst>
                <a:path w="513" h="607">
                  <a:moveTo>
                    <a:pt x="167" y="607"/>
                  </a:moveTo>
                  <a:lnTo>
                    <a:pt x="0" y="0"/>
                  </a:lnTo>
                  <a:lnTo>
                    <a:pt x="166" y="0"/>
                  </a:lnTo>
                  <a:lnTo>
                    <a:pt x="266" y="417"/>
                  </a:lnTo>
                  <a:lnTo>
                    <a:pt x="356" y="0"/>
                  </a:lnTo>
                  <a:lnTo>
                    <a:pt x="513" y="0"/>
                  </a:lnTo>
                  <a:lnTo>
                    <a:pt x="359" y="607"/>
                  </a:lnTo>
                  <a:lnTo>
                    <a:pt x="167" y="60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134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46" y="91"/>
                  </a:moveTo>
                  <a:lnTo>
                    <a:pt x="50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3" y="88"/>
                  </a:lnTo>
                  <a:lnTo>
                    <a:pt x="67" y="87"/>
                  </a:lnTo>
                  <a:lnTo>
                    <a:pt x="70" y="84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81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8" y="63"/>
                  </a:lnTo>
                  <a:lnTo>
                    <a:pt x="90" y="59"/>
                  </a:lnTo>
                  <a:lnTo>
                    <a:pt x="91" y="55"/>
                  </a:lnTo>
                  <a:lnTo>
                    <a:pt x="91" y="50"/>
                  </a:lnTo>
                  <a:lnTo>
                    <a:pt x="91" y="46"/>
                  </a:lnTo>
                  <a:lnTo>
                    <a:pt x="91" y="42"/>
                  </a:lnTo>
                  <a:lnTo>
                    <a:pt x="91" y="37"/>
                  </a:lnTo>
                  <a:lnTo>
                    <a:pt x="90" y="33"/>
                  </a:lnTo>
                  <a:lnTo>
                    <a:pt x="88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7"/>
                  </a:lnTo>
                  <a:lnTo>
                    <a:pt x="78" y="14"/>
                  </a:lnTo>
                  <a:lnTo>
                    <a:pt x="75" y="10"/>
                  </a:lnTo>
                  <a:lnTo>
                    <a:pt x="70" y="7"/>
                  </a:lnTo>
                  <a:lnTo>
                    <a:pt x="67" y="5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7" y="10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3" y="78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8"/>
                  </a:lnTo>
                  <a:lnTo>
                    <a:pt x="33" y="90"/>
                  </a:lnTo>
                  <a:lnTo>
                    <a:pt x="37" y="91"/>
                  </a:lnTo>
                  <a:lnTo>
                    <a:pt x="41" y="91"/>
                  </a:lnTo>
                  <a:lnTo>
                    <a:pt x="46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59400" y="906480"/>
              <a:ext cx="14112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7" y="421"/>
                  </a:lnTo>
                  <a:lnTo>
                    <a:pt x="212" y="424"/>
                  </a:lnTo>
                  <a:lnTo>
                    <a:pt x="206" y="429"/>
                  </a:lnTo>
                  <a:lnTo>
                    <a:pt x="201" y="431"/>
                  </a:lnTo>
                  <a:lnTo>
                    <a:pt x="195" y="434"/>
                  </a:lnTo>
                  <a:lnTo>
                    <a:pt x="190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2" y="443"/>
                  </a:lnTo>
                  <a:lnTo>
                    <a:pt x="165" y="444"/>
                  </a:lnTo>
                  <a:lnTo>
                    <a:pt x="159" y="445"/>
                  </a:lnTo>
                  <a:lnTo>
                    <a:pt x="152" y="445"/>
                  </a:lnTo>
                  <a:lnTo>
                    <a:pt x="146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6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59" y="422"/>
                  </a:lnTo>
                  <a:lnTo>
                    <a:pt x="49" y="415"/>
                  </a:lnTo>
                  <a:lnTo>
                    <a:pt x="39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5" y="370"/>
                  </a:lnTo>
                  <a:lnTo>
                    <a:pt x="10" y="356"/>
                  </a:lnTo>
                  <a:lnTo>
                    <a:pt x="5" y="343"/>
                  </a:lnTo>
                  <a:lnTo>
                    <a:pt x="3" y="328"/>
                  </a:lnTo>
                  <a:lnTo>
                    <a:pt x="1" y="313"/>
                  </a:lnTo>
                  <a:lnTo>
                    <a:pt x="0" y="297"/>
                  </a:lnTo>
                  <a:lnTo>
                    <a:pt x="1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2" y="199"/>
                  </a:lnTo>
                  <a:lnTo>
                    <a:pt x="43" y="188"/>
                  </a:lnTo>
                  <a:lnTo>
                    <a:pt x="54" y="178"/>
                  </a:lnTo>
                  <a:lnTo>
                    <a:pt x="66" y="169"/>
                  </a:lnTo>
                  <a:lnTo>
                    <a:pt x="79" y="162"/>
                  </a:lnTo>
                  <a:lnTo>
                    <a:pt x="92" y="156"/>
                  </a:lnTo>
                  <a:lnTo>
                    <a:pt x="107" y="152"/>
                  </a:lnTo>
                  <a:lnTo>
                    <a:pt x="122" y="149"/>
                  </a:lnTo>
                  <a:lnTo>
                    <a:pt x="138" y="147"/>
                  </a:lnTo>
                  <a:lnTo>
                    <a:pt x="156" y="146"/>
                  </a:lnTo>
                  <a:lnTo>
                    <a:pt x="160" y="147"/>
                  </a:lnTo>
                  <a:lnTo>
                    <a:pt x="163" y="147"/>
                  </a:lnTo>
                  <a:lnTo>
                    <a:pt x="167" y="147"/>
                  </a:lnTo>
                  <a:lnTo>
                    <a:pt x="172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4" y="150"/>
                  </a:lnTo>
                  <a:lnTo>
                    <a:pt x="188" y="151"/>
                  </a:lnTo>
                  <a:lnTo>
                    <a:pt x="191" y="152"/>
                  </a:lnTo>
                  <a:lnTo>
                    <a:pt x="195" y="153"/>
                  </a:lnTo>
                  <a:lnTo>
                    <a:pt x="200" y="154"/>
                  </a:lnTo>
                  <a:lnTo>
                    <a:pt x="204" y="156"/>
                  </a:lnTo>
                  <a:lnTo>
                    <a:pt x="207" y="159"/>
                  </a:lnTo>
                  <a:lnTo>
                    <a:pt x="212" y="160"/>
                  </a:lnTo>
                  <a:lnTo>
                    <a:pt x="216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0" y="161"/>
                  </a:lnTo>
                  <a:lnTo>
                    <a:pt x="220" y="160"/>
                  </a:lnTo>
                  <a:lnTo>
                    <a:pt x="220" y="160"/>
                  </a:lnTo>
                  <a:lnTo>
                    <a:pt x="220" y="159"/>
                  </a:lnTo>
                  <a:lnTo>
                    <a:pt x="220" y="157"/>
                  </a:lnTo>
                  <a:lnTo>
                    <a:pt x="220" y="156"/>
                  </a:lnTo>
                  <a:lnTo>
                    <a:pt x="220" y="156"/>
                  </a:lnTo>
                  <a:lnTo>
                    <a:pt x="220" y="155"/>
                  </a:lnTo>
                  <a:lnTo>
                    <a:pt x="220" y="154"/>
                  </a:lnTo>
                  <a:lnTo>
                    <a:pt x="220" y="153"/>
                  </a:lnTo>
                  <a:lnTo>
                    <a:pt x="220" y="151"/>
                  </a:lnTo>
                  <a:lnTo>
                    <a:pt x="220" y="145"/>
                  </a:lnTo>
                  <a:lnTo>
                    <a:pt x="219" y="139"/>
                  </a:lnTo>
                  <a:lnTo>
                    <a:pt x="218" y="134"/>
                  </a:lnTo>
                  <a:lnTo>
                    <a:pt x="216" y="128"/>
                  </a:lnTo>
                  <a:lnTo>
                    <a:pt x="214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3" y="113"/>
                  </a:lnTo>
                  <a:lnTo>
                    <a:pt x="199" y="111"/>
                  </a:lnTo>
                  <a:lnTo>
                    <a:pt x="192" y="109"/>
                  </a:lnTo>
                  <a:lnTo>
                    <a:pt x="186" y="107"/>
                  </a:lnTo>
                  <a:lnTo>
                    <a:pt x="178" y="106"/>
                  </a:lnTo>
                  <a:lnTo>
                    <a:pt x="170" y="105"/>
                  </a:lnTo>
                  <a:lnTo>
                    <a:pt x="161" y="103"/>
                  </a:lnTo>
                  <a:lnTo>
                    <a:pt x="150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99" y="103"/>
                  </a:lnTo>
                  <a:lnTo>
                    <a:pt x="94" y="105"/>
                  </a:lnTo>
                  <a:lnTo>
                    <a:pt x="87" y="105"/>
                  </a:lnTo>
                  <a:lnTo>
                    <a:pt x="82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7" y="109"/>
                  </a:lnTo>
                  <a:lnTo>
                    <a:pt x="42" y="110"/>
                  </a:lnTo>
                  <a:lnTo>
                    <a:pt x="59" y="8"/>
                  </a:lnTo>
                  <a:lnTo>
                    <a:pt x="68" y="7"/>
                  </a:lnTo>
                  <a:lnTo>
                    <a:pt x="76" y="6"/>
                  </a:lnTo>
                  <a:lnTo>
                    <a:pt x="83" y="6"/>
                  </a:lnTo>
                  <a:lnTo>
                    <a:pt x="91" y="5"/>
                  </a:lnTo>
                  <a:lnTo>
                    <a:pt x="98" y="4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0" y="1"/>
                  </a:lnTo>
                  <a:lnTo>
                    <a:pt x="147" y="1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2" y="5"/>
                  </a:lnTo>
                  <a:lnTo>
                    <a:pt x="261" y="8"/>
                  </a:lnTo>
                  <a:lnTo>
                    <a:pt x="278" y="13"/>
                  </a:lnTo>
                  <a:lnTo>
                    <a:pt x="293" y="18"/>
                  </a:lnTo>
                  <a:lnTo>
                    <a:pt x="306" y="26"/>
                  </a:lnTo>
                  <a:lnTo>
                    <a:pt x="315" y="33"/>
                  </a:lnTo>
                  <a:lnTo>
                    <a:pt x="325" y="42"/>
                  </a:lnTo>
                  <a:lnTo>
                    <a:pt x="333" y="53"/>
                  </a:lnTo>
                  <a:lnTo>
                    <a:pt x="339" y="66"/>
                  </a:lnTo>
                  <a:lnTo>
                    <a:pt x="345" y="80"/>
                  </a:lnTo>
                  <a:lnTo>
                    <a:pt x="349" y="97"/>
                  </a:lnTo>
                  <a:lnTo>
                    <a:pt x="352" y="114"/>
                  </a:lnTo>
                  <a:lnTo>
                    <a:pt x="353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30760" y="839520"/>
              <a:ext cx="57240" cy="241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8240" y="907920"/>
              <a:ext cx="14904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5" y="436"/>
                  </a:lnTo>
                  <a:lnTo>
                    <a:pt x="235" y="395"/>
                  </a:lnTo>
                  <a:lnTo>
                    <a:pt x="230" y="401"/>
                  </a:lnTo>
                  <a:lnTo>
                    <a:pt x="224" y="406"/>
                  </a:lnTo>
                  <a:lnTo>
                    <a:pt x="219" y="411"/>
                  </a:lnTo>
                  <a:lnTo>
                    <a:pt x="212" y="416"/>
                  </a:lnTo>
                  <a:lnTo>
                    <a:pt x="207" y="420"/>
                  </a:lnTo>
                  <a:lnTo>
                    <a:pt x="200" y="424"/>
                  </a:lnTo>
                  <a:lnTo>
                    <a:pt x="194" y="428"/>
                  </a:lnTo>
                  <a:lnTo>
                    <a:pt x="187" y="431"/>
                  </a:lnTo>
                  <a:lnTo>
                    <a:pt x="181" y="434"/>
                  </a:lnTo>
                  <a:lnTo>
                    <a:pt x="173" y="436"/>
                  </a:lnTo>
                  <a:lnTo>
                    <a:pt x="166" y="438"/>
                  </a:lnTo>
                  <a:lnTo>
                    <a:pt x="158" y="440"/>
                  </a:lnTo>
                  <a:lnTo>
                    <a:pt x="151" y="442"/>
                  </a:lnTo>
                  <a:lnTo>
                    <a:pt x="143" y="442"/>
                  </a:lnTo>
                  <a:lnTo>
                    <a:pt x="136" y="443"/>
                  </a:lnTo>
                  <a:lnTo>
                    <a:pt x="127" y="443"/>
                  </a:lnTo>
                  <a:lnTo>
                    <a:pt x="112" y="443"/>
                  </a:lnTo>
                  <a:lnTo>
                    <a:pt x="98" y="441"/>
                  </a:lnTo>
                  <a:lnTo>
                    <a:pt x="85" y="437"/>
                  </a:lnTo>
                  <a:lnTo>
                    <a:pt x="72" y="433"/>
                  </a:lnTo>
                  <a:lnTo>
                    <a:pt x="61" y="429"/>
                  </a:lnTo>
                  <a:lnTo>
                    <a:pt x="50" y="422"/>
                  </a:lnTo>
                  <a:lnTo>
                    <a:pt x="40" y="415"/>
                  </a:lnTo>
                  <a:lnTo>
                    <a:pt x="33" y="405"/>
                  </a:lnTo>
                  <a:lnTo>
                    <a:pt x="25" y="395"/>
                  </a:lnTo>
                  <a:lnTo>
                    <a:pt x="19" y="384"/>
                  </a:lnTo>
                  <a:lnTo>
                    <a:pt x="13" y="373"/>
                  </a:lnTo>
                  <a:lnTo>
                    <a:pt x="8" y="360"/>
                  </a:lnTo>
                  <a:lnTo>
                    <a:pt x="5" y="344"/>
                  </a:lnTo>
                  <a:lnTo>
                    <a:pt x="3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31"/>
                  </a:lnTo>
                  <a:lnTo>
                    <a:pt x="144" y="241"/>
                  </a:lnTo>
                  <a:lnTo>
                    <a:pt x="144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50" y="274"/>
                  </a:lnTo>
                  <a:lnTo>
                    <a:pt x="151" y="280"/>
                  </a:lnTo>
                  <a:lnTo>
                    <a:pt x="153" y="283"/>
                  </a:lnTo>
                  <a:lnTo>
                    <a:pt x="156" y="286"/>
                  </a:lnTo>
                  <a:lnTo>
                    <a:pt x="158" y="289"/>
                  </a:lnTo>
                  <a:lnTo>
                    <a:pt x="161" y="293"/>
                  </a:lnTo>
                  <a:lnTo>
                    <a:pt x="166" y="294"/>
                  </a:lnTo>
                  <a:lnTo>
                    <a:pt x="170" y="296"/>
                  </a:lnTo>
                  <a:lnTo>
                    <a:pt x="174" y="297"/>
                  </a:lnTo>
                  <a:lnTo>
                    <a:pt x="179" y="298"/>
                  </a:lnTo>
                  <a:lnTo>
                    <a:pt x="184" y="298"/>
                  </a:lnTo>
                  <a:lnTo>
                    <a:pt x="191" y="298"/>
                  </a:lnTo>
                  <a:lnTo>
                    <a:pt x="196" y="297"/>
                  </a:lnTo>
                  <a:lnTo>
                    <a:pt x="200" y="296"/>
                  </a:lnTo>
                  <a:lnTo>
                    <a:pt x="206" y="294"/>
                  </a:lnTo>
                  <a:lnTo>
                    <a:pt x="210" y="292"/>
                  </a:lnTo>
                  <a:lnTo>
                    <a:pt x="213" y="288"/>
                  </a:lnTo>
                  <a:lnTo>
                    <a:pt x="218" y="285"/>
                  </a:lnTo>
                  <a:lnTo>
                    <a:pt x="220" y="282"/>
                  </a:lnTo>
                  <a:lnTo>
                    <a:pt x="223" y="276"/>
                  </a:lnTo>
                  <a:lnTo>
                    <a:pt x="225" y="272"/>
                  </a:lnTo>
                  <a:lnTo>
                    <a:pt x="227" y="267"/>
                  </a:lnTo>
                  <a:lnTo>
                    <a:pt x="230" y="260"/>
                  </a:lnTo>
                  <a:lnTo>
                    <a:pt x="231" y="254"/>
                  </a:lnTo>
                  <a:lnTo>
                    <a:pt x="232" y="246"/>
                  </a:lnTo>
                  <a:lnTo>
                    <a:pt x="232" y="239"/>
                  </a:lnTo>
                  <a:lnTo>
                    <a:pt x="232" y="231"/>
                  </a:lnTo>
                  <a:lnTo>
                    <a:pt x="232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4180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3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6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8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10" y="2"/>
                  </a:lnTo>
                  <a:lnTo>
                    <a:pt x="106" y="1"/>
                  </a:lnTo>
                  <a:lnTo>
                    <a:pt x="103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7" y="56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1" y="98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3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89600" y="904680"/>
              <a:ext cx="168120" cy="179640"/>
            </a:xfrm>
            <a:custGeom>
              <a:avLst/>
              <a:gdLst/>
              <a:ahLst/>
              <a:rect l="l" t="t" r="r" b="b"/>
              <a:pathLst>
                <a:path w="422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7" y="416"/>
                  </a:lnTo>
                  <a:lnTo>
                    <a:pt x="356" y="421"/>
                  </a:lnTo>
                  <a:lnTo>
                    <a:pt x="347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3" y="439"/>
                  </a:lnTo>
                  <a:lnTo>
                    <a:pt x="293" y="441"/>
                  </a:lnTo>
                  <a:lnTo>
                    <a:pt x="282" y="443"/>
                  </a:lnTo>
                  <a:lnTo>
                    <a:pt x="270" y="446"/>
                  </a:lnTo>
                  <a:lnTo>
                    <a:pt x="259" y="447"/>
                  </a:lnTo>
                  <a:lnTo>
                    <a:pt x="247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5" y="442"/>
                  </a:lnTo>
                  <a:lnTo>
                    <a:pt x="154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5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70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5" y="337"/>
                  </a:lnTo>
                  <a:lnTo>
                    <a:pt x="19" y="327"/>
                  </a:lnTo>
                  <a:lnTo>
                    <a:pt x="16" y="317"/>
                  </a:lnTo>
                  <a:lnTo>
                    <a:pt x="12" y="306"/>
                  </a:lnTo>
                  <a:lnTo>
                    <a:pt x="8" y="297"/>
                  </a:lnTo>
                  <a:lnTo>
                    <a:pt x="6" y="286"/>
                  </a:lnTo>
                  <a:lnTo>
                    <a:pt x="4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10" y="160"/>
                  </a:lnTo>
                  <a:lnTo>
                    <a:pt x="13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2" y="50"/>
                  </a:lnTo>
                  <a:lnTo>
                    <a:pt x="91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8" y="6"/>
                  </a:lnTo>
                  <a:lnTo>
                    <a:pt x="179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2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7" y="38"/>
                  </a:lnTo>
                  <a:lnTo>
                    <a:pt x="359" y="49"/>
                  </a:lnTo>
                  <a:lnTo>
                    <a:pt x="370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1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2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8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6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5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7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4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2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9" y="278"/>
                  </a:lnTo>
                  <a:lnTo>
                    <a:pt x="367" y="272"/>
                  </a:lnTo>
                  <a:lnTo>
                    <a:pt x="377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76800" y="966600"/>
              <a:ext cx="84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84800" y="838080"/>
              <a:ext cx="93600" cy="243000"/>
            </a:xfrm>
            <a:custGeom>
              <a:avLst/>
              <a:gdLst/>
              <a:ahLst/>
              <a:rect l="l" t="t" r="r" b="b"/>
              <a:pathLst>
                <a:path w="240" h="611">
                  <a:moveTo>
                    <a:pt x="240" y="2"/>
                  </a:moveTo>
                  <a:lnTo>
                    <a:pt x="240" y="138"/>
                  </a:lnTo>
                  <a:lnTo>
                    <a:pt x="239" y="138"/>
                  </a:lnTo>
                  <a:lnTo>
                    <a:pt x="238" y="138"/>
                  </a:lnTo>
                  <a:lnTo>
                    <a:pt x="237" y="138"/>
                  </a:lnTo>
                  <a:lnTo>
                    <a:pt x="234" y="138"/>
                  </a:lnTo>
                  <a:lnTo>
                    <a:pt x="233" y="138"/>
                  </a:lnTo>
                  <a:lnTo>
                    <a:pt x="232" y="138"/>
                  </a:lnTo>
                  <a:lnTo>
                    <a:pt x="230" y="138"/>
                  </a:lnTo>
                  <a:lnTo>
                    <a:pt x="229" y="138"/>
                  </a:lnTo>
                  <a:lnTo>
                    <a:pt x="228" y="138"/>
                  </a:lnTo>
                  <a:lnTo>
                    <a:pt x="227" y="138"/>
                  </a:lnTo>
                  <a:lnTo>
                    <a:pt x="225" y="138"/>
                  </a:lnTo>
                  <a:lnTo>
                    <a:pt x="225" y="138"/>
                  </a:lnTo>
                  <a:lnTo>
                    <a:pt x="224" y="138"/>
                  </a:lnTo>
                  <a:lnTo>
                    <a:pt x="223" y="137"/>
                  </a:lnTo>
                  <a:lnTo>
                    <a:pt x="222" y="137"/>
                  </a:lnTo>
                  <a:lnTo>
                    <a:pt x="222" y="137"/>
                  </a:lnTo>
                  <a:lnTo>
                    <a:pt x="216" y="138"/>
                  </a:lnTo>
                  <a:lnTo>
                    <a:pt x="211" y="138"/>
                  </a:lnTo>
                  <a:lnTo>
                    <a:pt x="205" y="139"/>
                  </a:lnTo>
                  <a:lnTo>
                    <a:pt x="201" y="139"/>
                  </a:lnTo>
                  <a:lnTo>
                    <a:pt x="197" y="140"/>
                  </a:lnTo>
                  <a:lnTo>
                    <a:pt x="193" y="143"/>
                  </a:lnTo>
                  <a:lnTo>
                    <a:pt x="190" y="144"/>
                  </a:lnTo>
                  <a:lnTo>
                    <a:pt x="188" y="146"/>
                  </a:lnTo>
                  <a:lnTo>
                    <a:pt x="185" y="148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79" y="157"/>
                  </a:lnTo>
                  <a:lnTo>
                    <a:pt x="178" y="160"/>
                  </a:lnTo>
                  <a:lnTo>
                    <a:pt x="178" y="164"/>
                  </a:lnTo>
                  <a:lnTo>
                    <a:pt x="177" y="167"/>
                  </a:lnTo>
                  <a:lnTo>
                    <a:pt x="177" y="173"/>
                  </a:lnTo>
                  <a:lnTo>
                    <a:pt x="177" y="175"/>
                  </a:lnTo>
                  <a:lnTo>
                    <a:pt x="240" y="175"/>
                  </a:lnTo>
                  <a:lnTo>
                    <a:pt x="240" y="305"/>
                  </a:lnTo>
                  <a:lnTo>
                    <a:pt x="177" y="305"/>
                  </a:lnTo>
                  <a:lnTo>
                    <a:pt x="177" y="611"/>
                  </a:lnTo>
                  <a:lnTo>
                    <a:pt x="34" y="611"/>
                  </a:lnTo>
                  <a:lnTo>
                    <a:pt x="34" y="305"/>
                  </a:lnTo>
                  <a:lnTo>
                    <a:pt x="0" y="305"/>
                  </a:lnTo>
                  <a:lnTo>
                    <a:pt x="0" y="175"/>
                  </a:lnTo>
                  <a:lnTo>
                    <a:pt x="34" y="175"/>
                  </a:lnTo>
                  <a:lnTo>
                    <a:pt x="34" y="163"/>
                  </a:lnTo>
                  <a:lnTo>
                    <a:pt x="35" y="144"/>
                  </a:lnTo>
                  <a:lnTo>
                    <a:pt x="37" y="125"/>
                  </a:lnTo>
                  <a:lnTo>
                    <a:pt x="40" y="108"/>
                  </a:lnTo>
                  <a:lnTo>
                    <a:pt x="44" y="92"/>
                  </a:lnTo>
                  <a:lnTo>
                    <a:pt x="51" y="78"/>
                  </a:lnTo>
                  <a:lnTo>
                    <a:pt x="57" y="64"/>
                  </a:lnTo>
                  <a:lnTo>
                    <a:pt x="66" y="52"/>
                  </a:lnTo>
                  <a:lnTo>
                    <a:pt x="77" y="41"/>
                  </a:lnTo>
                  <a:lnTo>
                    <a:pt x="88" y="31"/>
                  </a:lnTo>
                  <a:lnTo>
                    <a:pt x="101" y="23"/>
                  </a:lnTo>
                  <a:lnTo>
                    <a:pt x="115" y="16"/>
                  </a:lnTo>
                  <a:lnTo>
                    <a:pt x="130" y="11"/>
                  </a:lnTo>
                  <a:lnTo>
                    <a:pt x="146" y="5"/>
                  </a:lnTo>
                  <a:lnTo>
                    <a:pt x="164" y="2"/>
                  </a:lnTo>
                  <a:lnTo>
                    <a:pt x="184" y="1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2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3" y="1"/>
                  </a:lnTo>
                  <a:lnTo>
                    <a:pt x="228" y="1"/>
                  </a:lnTo>
                  <a:lnTo>
                    <a:pt x="232" y="1"/>
                  </a:lnTo>
                  <a:lnTo>
                    <a:pt x="233" y="1"/>
                  </a:lnTo>
                  <a:lnTo>
                    <a:pt x="234" y="1"/>
                  </a:lnTo>
                  <a:lnTo>
                    <a:pt x="236" y="1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0" y="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6040" y="906480"/>
              <a:ext cx="95040" cy="174600"/>
            </a:xfrm>
            <a:custGeom>
              <a:avLst/>
              <a:gdLst/>
              <a:ahLst/>
              <a:rect l="l" t="t" r="r" b="b"/>
              <a:pathLst>
                <a:path w="240" h="440">
                  <a:moveTo>
                    <a:pt x="0" y="440"/>
                  </a:moveTo>
                  <a:lnTo>
                    <a:pt x="0" y="4"/>
                  </a:lnTo>
                  <a:lnTo>
                    <a:pt x="144" y="4"/>
                  </a:lnTo>
                  <a:lnTo>
                    <a:pt x="144" y="49"/>
                  </a:lnTo>
                  <a:lnTo>
                    <a:pt x="148" y="43"/>
                  </a:lnTo>
                  <a:lnTo>
                    <a:pt x="151" y="37"/>
                  </a:lnTo>
                  <a:lnTo>
                    <a:pt x="157" y="33"/>
                  </a:lnTo>
                  <a:lnTo>
                    <a:pt x="161" y="28"/>
                  </a:lnTo>
                  <a:lnTo>
                    <a:pt x="165" y="23"/>
                  </a:lnTo>
                  <a:lnTo>
                    <a:pt x="171" y="20"/>
                  </a:lnTo>
                  <a:lnTo>
                    <a:pt x="176" y="16"/>
                  </a:lnTo>
                  <a:lnTo>
                    <a:pt x="182" y="13"/>
                  </a:lnTo>
                  <a:lnTo>
                    <a:pt x="188" y="10"/>
                  </a:lnTo>
                  <a:lnTo>
                    <a:pt x="195" y="7"/>
                  </a:lnTo>
                  <a:lnTo>
                    <a:pt x="201" y="5"/>
                  </a:lnTo>
                  <a:lnTo>
                    <a:pt x="208" y="4"/>
                  </a:lnTo>
                  <a:lnTo>
                    <a:pt x="215" y="2"/>
                  </a:lnTo>
                  <a:lnTo>
                    <a:pt x="223" y="1"/>
                  </a:lnTo>
                  <a:lnTo>
                    <a:pt x="231" y="1"/>
                  </a:lnTo>
                  <a:lnTo>
                    <a:pt x="239" y="0"/>
                  </a:lnTo>
                  <a:lnTo>
                    <a:pt x="240" y="150"/>
                  </a:lnTo>
                  <a:lnTo>
                    <a:pt x="223" y="150"/>
                  </a:lnTo>
                  <a:lnTo>
                    <a:pt x="213" y="151"/>
                  </a:lnTo>
                  <a:lnTo>
                    <a:pt x="204" y="152"/>
                  </a:lnTo>
                  <a:lnTo>
                    <a:pt x="197" y="153"/>
                  </a:lnTo>
                  <a:lnTo>
                    <a:pt x="189" y="155"/>
                  </a:lnTo>
                  <a:lnTo>
                    <a:pt x="182" y="158"/>
                  </a:lnTo>
                  <a:lnTo>
                    <a:pt x="175" y="162"/>
                  </a:lnTo>
                  <a:lnTo>
                    <a:pt x="170" y="166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5" y="183"/>
                  </a:lnTo>
                  <a:lnTo>
                    <a:pt x="151" y="190"/>
                  </a:lnTo>
                  <a:lnTo>
                    <a:pt x="149" y="197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2"/>
                  </a:lnTo>
                  <a:lnTo>
                    <a:pt x="144" y="232"/>
                  </a:lnTo>
                  <a:lnTo>
                    <a:pt x="144" y="440"/>
                  </a:lnTo>
                  <a:lnTo>
                    <a:pt x="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59480" y="950760"/>
              <a:ext cx="522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3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0" y="6"/>
                  </a:lnTo>
                  <a:lnTo>
                    <a:pt x="117" y="4"/>
                  </a:lnTo>
                  <a:lnTo>
                    <a:pt x="114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6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1"/>
                  </a:lnTo>
                  <a:lnTo>
                    <a:pt x="63" y="3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1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6920" y="904680"/>
              <a:ext cx="1684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7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7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2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4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5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3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5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2" y="387"/>
                  </a:lnTo>
                  <a:lnTo>
                    <a:pt x="54" y="380"/>
                  </a:lnTo>
                  <a:lnTo>
                    <a:pt x="46" y="371"/>
                  </a:lnTo>
                  <a:lnTo>
                    <a:pt x="40" y="364"/>
                  </a:lnTo>
                  <a:lnTo>
                    <a:pt x="35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3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1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6" y="100"/>
                  </a:lnTo>
                  <a:lnTo>
                    <a:pt x="42" y="91"/>
                  </a:lnTo>
                  <a:lnTo>
                    <a:pt x="50" y="83"/>
                  </a:lnTo>
                  <a:lnTo>
                    <a:pt x="56" y="74"/>
                  </a:lnTo>
                  <a:lnTo>
                    <a:pt x="65" y="65"/>
                  </a:lnTo>
                  <a:lnTo>
                    <a:pt x="72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8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3" y="5"/>
                  </a:lnTo>
                  <a:lnTo>
                    <a:pt x="290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5" y="131"/>
                  </a:lnTo>
                  <a:lnTo>
                    <a:pt x="421" y="149"/>
                  </a:lnTo>
                  <a:lnTo>
                    <a:pt x="188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9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5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1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0" y="295"/>
                  </a:lnTo>
                  <a:lnTo>
                    <a:pt x="339" y="290"/>
                  </a:lnTo>
                  <a:lnTo>
                    <a:pt x="348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5" y="257"/>
                  </a:lnTo>
                  <a:lnTo>
                    <a:pt x="397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8760" y="950760"/>
              <a:ext cx="54000" cy="446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2" y="112"/>
                  </a:moveTo>
                  <a:lnTo>
                    <a:pt x="135" y="16"/>
                  </a:lnTo>
                  <a:lnTo>
                    <a:pt x="132" y="14"/>
                  </a:lnTo>
                  <a:lnTo>
                    <a:pt x="130" y="12"/>
                  </a:lnTo>
                  <a:lnTo>
                    <a:pt x="128" y="10"/>
                  </a:lnTo>
                  <a:lnTo>
                    <a:pt x="125" y="9"/>
                  </a:lnTo>
                  <a:lnTo>
                    <a:pt x="123" y="8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5" y="3"/>
                  </a:lnTo>
                  <a:lnTo>
                    <a:pt x="112" y="2"/>
                  </a:lnTo>
                  <a:lnTo>
                    <a:pt x="109" y="2"/>
                  </a:lnTo>
                  <a:lnTo>
                    <a:pt x="105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3"/>
                  </a:lnTo>
                  <a:lnTo>
                    <a:pt x="56" y="7"/>
                  </a:lnTo>
                  <a:lnTo>
                    <a:pt x="47" y="10"/>
                  </a:lnTo>
                  <a:lnTo>
                    <a:pt x="41" y="15"/>
                  </a:lnTo>
                  <a:lnTo>
                    <a:pt x="33" y="21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5" y="41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0" y="81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1" y="106"/>
                  </a:lnTo>
                  <a:lnTo>
                    <a:pt x="2" y="108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88000" y="904680"/>
              <a:ext cx="166680" cy="179640"/>
            </a:xfrm>
            <a:custGeom>
              <a:avLst/>
              <a:gdLst/>
              <a:ahLst/>
              <a:rect l="l" t="t" r="r" b="b"/>
              <a:pathLst>
                <a:path w="421" h="449">
                  <a:moveTo>
                    <a:pt x="396" y="399"/>
                  </a:moveTo>
                  <a:lnTo>
                    <a:pt x="387" y="405"/>
                  </a:lnTo>
                  <a:lnTo>
                    <a:pt x="377" y="411"/>
                  </a:lnTo>
                  <a:lnTo>
                    <a:pt x="366" y="416"/>
                  </a:lnTo>
                  <a:lnTo>
                    <a:pt x="356" y="421"/>
                  </a:lnTo>
                  <a:lnTo>
                    <a:pt x="346" y="425"/>
                  </a:lnTo>
                  <a:lnTo>
                    <a:pt x="336" y="429"/>
                  </a:lnTo>
                  <a:lnTo>
                    <a:pt x="325" y="433"/>
                  </a:lnTo>
                  <a:lnTo>
                    <a:pt x="314" y="436"/>
                  </a:lnTo>
                  <a:lnTo>
                    <a:pt x="304" y="439"/>
                  </a:lnTo>
                  <a:lnTo>
                    <a:pt x="293" y="441"/>
                  </a:lnTo>
                  <a:lnTo>
                    <a:pt x="281" y="443"/>
                  </a:lnTo>
                  <a:lnTo>
                    <a:pt x="270" y="446"/>
                  </a:lnTo>
                  <a:lnTo>
                    <a:pt x="258" y="447"/>
                  </a:lnTo>
                  <a:lnTo>
                    <a:pt x="246" y="448"/>
                  </a:lnTo>
                  <a:lnTo>
                    <a:pt x="235" y="449"/>
                  </a:lnTo>
                  <a:lnTo>
                    <a:pt x="224" y="449"/>
                  </a:lnTo>
                  <a:lnTo>
                    <a:pt x="199" y="448"/>
                  </a:lnTo>
                  <a:lnTo>
                    <a:pt x="176" y="445"/>
                  </a:lnTo>
                  <a:lnTo>
                    <a:pt x="164" y="442"/>
                  </a:lnTo>
                  <a:lnTo>
                    <a:pt x="153" y="440"/>
                  </a:lnTo>
                  <a:lnTo>
                    <a:pt x="144" y="437"/>
                  </a:lnTo>
                  <a:lnTo>
                    <a:pt x="133" y="434"/>
                  </a:lnTo>
                  <a:lnTo>
                    <a:pt x="123" y="429"/>
                  </a:lnTo>
                  <a:lnTo>
                    <a:pt x="113" y="425"/>
                  </a:lnTo>
                  <a:lnTo>
                    <a:pt x="104" y="420"/>
                  </a:lnTo>
                  <a:lnTo>
                    <a:pt x="95" y="414"/>
                  </a:lnTo>
                  <a:lnTo>
                    <a:pt x="86" y="408"/>
                  </a:lnTo>
                  <a:lnTo>
                    <a:pt x="78" y="401"/>
                  </a:lnTo>
                  <a:lnTo>
                    <a:pt x="69" y="395"/>
                  </a:lnTo>
                  <a:lnTo>
                    <a:pt x="61" y="387"/>
                  </a:lnTo>
                  <a:lnTo>
                    <a:pt x="54" y="380"/>
                  </a:lnTo>
                  <a:lnTo>
                    <a:pt x="47" y="371"/>
                  </a:lnTo>
                  <a:lnTo>
                    <a:pt x="41" y="364"/>
                  </a:lnTo>
                  <a:lnTo>
                    <a:pt x="34" y="355"/>
                  </a:lnTo>
                  <a:lnTo>
                    <a:pt x="29" y="345"/>
                  </a:lnTo>
                  <a:lnTo>
                    <a:pt x="24" y="337"/>
                  </a:lnTo>
                  <a:lnTo>
                    <a:pt x="19" y="327"/>
                  </a:lnTo>
                  <a:lnTo>
                    <a:pt x="15" y="317"/>
                  </a:lnTo>
                  <a:lnTo>
                    <a:pt x="12" y="306"/>
                  </a:lnTo>
                  <a:lnTo>
                    <a:pt x="9" y="297"/>
                  </a:lnTo>
                  <a:lnTo>
                    <a:pt x="5" y="286"/>
                  </a:lnTo>
                  <a:lnTo>
                    <a:pt x="3" y="275"/>
                  </a:lnTo>
                  <a:lnTo>
                    <a:pt x="1" y="252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4" y="182"/>
                  </a:lnTo>
                  <a:lnTo>
                    <a:pt x="6" y="171"/>
                  </a:lnTo>
                  <a:lnTo>
                    <a:pt x="9" y="160"/>
                  </a:lnTo>
                  <a:lnTo>
                    <a:pt x="12" y="150"/>
                  </a:lnTo>
                  <a:lnTo>
                    <a:pt x="16" y="139"/>
                  </a:lnTo>
                  <a:lnTo>
                    <a:pt x="20" y="129"/>
                  </a:lnTo>
                  <a:lnTo>
                    <a:pt x="25" y="119"/>
                  </a:lnTo>
                  <a:lnTo>
                    <a:pt x="30" y="110"/>
                  </a:lnTo>
                  <a:lnTo>
                    <a:pt x="37" y="100"/>
                  </a:lnTo>
                  <a:lnTo>
                    <a:pt x="43" y="91"/>
                  </a:lnTo>
                  <a:lnTo>
                    <a:pt x="50" y="83"/>
                  </a:lnTo>
                  <a:lnTo>
                    <a:pt x="57" y="74"/>
                  </a:lnTo>
                  <a:lnTo>
                    <a:pt x="65" y="65"/>
                  </a:lnTo>
                  <a:lnTo>
                    <a:pt x="73" y="58"/>
                  </a:lnTo>
                  <a:lnTo>
                    <a:pt x="81" y="50"/>
                  </a:lnTo>
                  <a:lnTo>
                    <a:pt x="90" y="43"/>
                  </a:lnTo>
                  <a:lnTo>
                    <a:pt x="99" y="36"/>
                  </a:lnTo>
                  <a:lnTo>
                    <a:pt x="108" y="31"/>
                  </a:lnTo>
                  <a:lnTo>
                    <a:pt x="118" y="25"/>
                  </a:lnTo>
                  <a:lnTo>
                    <a:pt x="127" y="20"/>
                  </a:lnTo>
                  <a:lnTo>
                    <a:pt x="137" y="16"/>
                  </a:lnTo>
                  <a:lnTo>
                    <a:pt x="147" y="11"/>
                  </a:lnTo>
                  <a:lnTo>
                    <a:pt x="158" y="8"/>
                  </a:lnTo>
                  <a:lnTo>
                    <a:pt x="167" y="6"/>
                  </a:lnTo>
                  <a:lnTo>
                    <a:pt x="178" y="3"/>
                  </a:lnTo>
                  <a:lnTo>
                    <a:pt x="201" y="0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8" y="2"/>
                  </a:lnTo>
                  <a:lnTo>
                    <a:pt x="274" y="5"/>
                  </a:lnTo>
                  <a:lnTo>
                    <a:pt x="289" y="9"/>
                  </a:lnTo>
                  <a:lnTo>
                    <a:pt x="305" y="15"/>
                  </a:lnTo>
                  <a:lnTo>
                    <a:pt x="319" y="21"/>
                  </a:lnTo>
                  <a:lnTo>
                    <a:pt x="333" y="29"/>
                  </a:lnTo>
                  <a:lnTo>
                    <a:pt x="346" y="38"/>
                  </a:lnTo>
                  <a:lnTo>
                    <a:pt x="359" y="49"/>
                  </a:lnTo>
                  <a:lnTo>
                    <a:pt x="371" y="60"/>
                  </a:lnTo>
                  <a:lnTo>
                    <a:pt x="381" y="72"/>
                  </a:lnTo>
                  <a:lnTo>
                    <a:pt x="391" y="86"/>
                  </a:lnTo>
                  <a:lnTo>
                    <a:pt x="400" y="100"/>
                  </a:lnTo>
                  <a:lnTo>
                    <a:pt x="408" y="115"/>
                  </a:lnTo>
                  <a:lnTo>
                    <a:pt x="416" y="131"/>
                  </a:lnTo>
                  <a:lnTo>
                    <a:pt x="421" y="149"/>
                  </a:lnTo>
                  <a:lnTo>
                    <a:pt x="189" y="313"/>
                  </a:lnTo>
                  <a:lnTo>
                    <a:pt x="191" y="314"/>
                  </a:lnTo>
                  <a:lnTo>
                    <a:pt x="194" y="315"/>
                  </a:lnTo>
                  <a:lnTo>
                    <a:pt x="197" y="316"/>
                  </a:lnTo>
                  <a:lnTo>
                    <a:pt x="200" y="316"/>
                  </a:lnTo>
                  <a:lnTo>
                    <a:pt x="203" y="317"/>
                  </a:lnTo>
                  <a:lnTo>
                    <a:pt x="205" y="318"/>
                  </a:lnTo>
                  <a:lnTo>
                    <a:pt x="208" y="318"/>
                  </a:lnTo>
                  <a:lnTo>
                    <a:pt x="212" y="319"/>
                  </a:lnTo>
                  <a:lnTo>
                    <a:pt x="215" y="320"/>
                  </a:lnTo>
                  <a:lnTo>
                    <a:pt x="218" y="320"/>
                  </a:lnTo>
                  <a:lnTo>
                    <a:pt x="221" y="320"/>
                  </a:lnTo>
                  <a:lnTo>
                    <a:pt x="225" y="321"/>
                  </a:lnTo>
                  <a:lnTo>
                    <a:pt x="228" y="321"/>
                  </a:lnTo>
                  <a:lnTo>
                    <a:pt x="231" y="321"/>
                  </a:lnTo>
                  <a:lnTo>
                    <a:pt x="234" y="321"/>
                  </a:lnTo>
                  <a:lnTo>
                    <a:pt x="239" y="321"/>
                  </a:lnTo>
                  <a:lnTo>
                    <a:pt x="247" y="321"/>
                  </a:lnTo>
                  <a:lnTo>
                    <a:pt x="256" y="320"/>
                  </a:lnTo>
                  <a:lnTo>
                    <a:pt x="266" y="319"/>
                  </a:lnTo>
                  <a:lnTo>
                    <a:pt x="274" y="317"/>
                  </a:lnTo>
                  <a:lnTo>
                    <a:pt x="283" y="315"/>
                  </a:lnTo>
                  <a:lnTo>
                    <a:pt x="293" y="313"/>
                  </a:lnTo>
                  <a:lnTo>
                    <a:pt x="302" y="308"/>
                  </a:lnTo>
                  <a:lnTo>
                    <a:pt x="311" y="305"/>
                  </a:lnTo>
                  <a:lnTo>
                    <a:pt x="321" y="301"/>
                  </a:lnTo>
                  <a:lnTo>
                    <a:pt x="331" y="295"/>
                  </a:lnTo>
                  <a:lnTo>
                    <a:pt x="339" y="290"/>
                  </a:lnTo>
                  <a:lnTo>
                    <a:pt x="349" y="285"/>
                  </a:lnTo>
                  <a:lnTo>
                    <a:pt x="358" y="278"/>
                  </a:lnTo>
                  <a:lnTo>
                    <a:pt x="367" y="272"/>
                  </a:lnTo>
                  <a:lnTo>
                    <a:pt x="376" y="264"/>
                  </a:lnTo>
                  <a:lnTo>
                    <a:pt x="386" y="257"/>
                  </a:lnTo>
                  <a:lnTo>
                    <a:pt x="396" y="399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77080" y="839520"/>
              <a:ext cx="150840" cy="241560"/>
            </a:xfrm>
            <a:custGeom>
              <a:avLst/>
              <a:gdLst/>
              <a:ahLst/>
              <a:rect l="l" t="t" r="r" b="b"/>
              <a:pathLst>
                <a:path w="380" h="607">
                  <a:moveTo>
                    <a:pt x="380" y="440"/>
                  </a:moveTo>
                  <a:lnTo>
                    <a:pt x="337" y="607"/>
                  </a:lnTo>
                  <a:lnTo>
                    <a:pt x="0" y="607"/>
                  </a:lnTo>
                  <a:lnTo>
                    <a:pt x="0" y="0"/>
                  </a:lnTo>
                  <a:lnTo>
                    <a:pt x="335" y="0"/>
                  </a:lnTo>
                  <a:lnTo>
                    <a:pt x="362" y="162"/>
                  </a:lnTo>
                  <a:lnTo>
                    <a:pt x="157" y="162"/>
                  </a:lnTo>
                  <a:lnTo>
                    <a:pt x="157" y="224"/>
                  </a:lnTo>
                  <a:lnTo>
                    <a:pt x="294" y="224"/>
                  </a:lnTo>
                  <a:lnTo>
                    <a:pt x="294" y="384"/>
                  </a:lnTo>
                  <a:lnTo>
                    <a:pt x="157" y="384"/>
                  </a:lnTo>
                  <a:lnTo>
                    <a:pt x="157" y="440"/>
                  </a:lnTo>
                  <a:lnTo>
                    <a:pt x="380" y="44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99200" y="963360"/>
              <a:ext cx="63360" cy="6192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9" y="0"/>
                  </a:moveTo>
                  <a:lnTo>
                    <a:pt x="71" y="1"/>
                  </a:lnTo>
                  <a:lnTo>
                    <a:pt x="63" y="3"/>
                  </a:lnTo>
                  <a:lnTo>
                    <a:pt x="55" y="4"/>
                  </a:lnTo>
                  <a:lnTo>
                    <a:pt x="49" y="7"/>
                  </a:lnTo>
                  <a:lnTo>
                    <a:pt x="41" y="10"/>
                  </a:lnTo>
                  <a:lnTo>
                    <a:pt x="35" y="13"/>
                  </a:lnTo>
                  <a:lnTo>
                    <a:pt x="29" y="18"/>
                  </a:lnTo>
                  <a:lnTo>
                    <a:pt x="23" y="23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7" y="128"/>
                  </a:lnTo>
                  <a:lnTo>
                    <a:pt x="23" y="133"/>
                  </a:lnTo>
                  <a:lnTo>
                    <a:pt x="29" y="139"/>
                  </a:lnTo>
                  <a:lnTo>
                    <a:pt x="35" y="143"/>
                  </a:lnTo>
                  <a:lnTo>
                    <a:pt x="41" y="147"/>
                  </a:lnTo>
                  <a:lnTo>
                    <a:pt x="49" y="150"/>
                  </a:lnTo>
                  <a:lnTo>
                    <a:pt x="55" y="153"/>
                  </a:lnTo>
                  <a:lnTo>
                    <a:pt x="63" y="155"/>
                  </a:lnTo>
                  <a:lnTo>
                    <a:pt x="71" y="156"/>
                  </a:lnTo>
                  <a:lnTo>
                    <a:pt x="79" y="156"/>
                  </a:lnTo>
                  <a:lnTo>
                    <a:pt x="86" y="156"/>
                  </a:lnTo>
                  <a:lnTo>
                    <a:pt x="95" y="155"/>
                  </a:lnTo>
                  <a:lnTo>
                    <a:pt x="102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2" y="144"/>
                  </a:lnTo>
                  <a:lnTo>
                    <a:pt x="129" y="139"/>
                  </a:lnTo>
                  <a:lnTo>
                    <a:pt x="135" y="133"/>
                  </a:lnTo>
                  <a:lnTo>
                    <a:pt x="140" y="128"/>
                  </a:lnTo>
                  <a:lnTo>
                    <a:pt x="145" y="121"/>
                  </a:lnTo>
                  <a:lnTo>
                    <a:pt x="149" y="115"/>
                  </a:lnTo>
                  <a:lnTo>
                    <a:pt x="152" y="108"/>
                  </a:lnTo>
                  <a:lnTo>
                    <a:pt x="154" y="102"/>
                  </a:lnTo>
                  <a:lnTo>
                    <a:pt x="157" y="94"/>
                  </a:lnTo>
                  <a:lnTo>
                    <a:pt x="158" y="87"/>
                  </a:lnTo>
                  <a:lnTo>
                    <a:pt x="158" y="78"/>
                  </a:lnTo>
                  <a:lnTo>
                    <a:pt x="158" y="71"/>
                  </a:lnTo>
                  <a:lnTo>
                    <a:pt x="157" y="63"/>
                  </a:lnTo>
                  <a:lnTo>
                    <a:pt x="154" y="55"/>
                  </a:lnTo>
                  <a:lnTo>
                    <a:pt x="152" y="48"/>
                  </a:lnTo>
                  <a:lnTo>
                    <a:pt x="149" y="41"/>
                  </a:lnTo>
                  <a:lnTo>
                    <a:pt x="145" y="35"/>
                  </a:lnTo>
                  <a:lnTo>
                    <a:pt x="140" y="28"/>
                  </a:lnTo>
                  <a:lnTo>
                    <a:pt x="135" y="23"/>
                  </a:lnTo>
                  <a:lnTo>
                    <a:pt x="129" y="18"/>
                  </a:lnTo>
                  <a:lnTo>
                    <a:pt x="123" y="13"/>
                  </a:lnTo>
                  <a:lnTo>
                    <a:pt x="117" y="9"/>
                  </a:lnTo>
                  <a:lnTo>
                    <a:pt x="109" y="7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7" y="1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40520" y="839520"/>
              <a:ext cx="181080" cy="243000"/>
            </a:xfrm>
            <a:custGeom>
              <a:avLst/>
              <a:gdLst/>
              <a:ahLst/>
              <a:rect l="l" t="t" r="r" b="b"/>
              <a:pathLst>
                <a:path w="456" h="613">
                  <a:moveTo>
                    <a:pt x="315" y="567"/>
                  </a:moveTo>
                  <a:lnTo>
                    <a:pt x="309" y="573"/>
                  </a:lnTo>
                  <a:lnTo>
                    <a:pt x="302" y="578"/>
                  </a:lnTo>
                  <a:lnTo>
                    <a:pt x="296" y="584"/>
                  </a:lnTo>
                  <a:lnTo>
                    <a:pt x="290" y="588"/>
                  </a:lnTo>
                  <a:lnTo>
                    <a:pt x="282" y="592"/>
                  </a:lnTo>
                  <a:lnTo>
                    <a:pt x="275" y="595"/>
                  </a:lnTo>
                  <a:lnTo>
                    <a:pt x="269" y="599"/>
                  </a:lnTo>
                  <a:lnTo>
                    <a:pt x="261" y="602"/>
                  </a:lnTo>
                  <a:lnTo>
                    <a:pt x="255" y="605"/>
                  </a:lnTo>
                  <a:lnTo>
                    <a:pt x="247" y="607"/>
                  </a:lnTo>
                  <a:lnTo>
                    <a:pt x="240" y="608"/>
                  </a:lnTo>
                  <a:lnTo>
                    <a:pt x="232" y="611"/>
                  </a:lnTo>
                  <a:lnTo>
                    <a:pt x="224" y="612"/>
                  </a:lnTo>
                  <a:lnTo>
                    <a:pt x="216" y="613"/>
                  </a:lnTo>
                  <a:lnTo>
                    <a:pt x="207" y="613"/>
                  </a:lnTo>
                  <a:lnTo>
                    <a:pt x="200" y="613"/>
                  </a:lnTo>
                  <a:lnTo>
                    <a:pt x="179" y="612"/>
                  </a:lnTo>
                  <a:lnTo>
                    <a:pt x="160" y="609"/>
                  </a:lnTo>
                  <a:lnTo>
                    <a:pt x="150" y="606"/>
                  </a:lnTo>
                  <a:lnTo>
                    <a:pt x="140" y="604"/>
                  </a:lnTo>
                  <a:lnTo>
                    <a:pt x="132" y="601"/>
                  </a:lnTo>
                  <a:lnTo>
                    <a:pt x="123" y="596"/>
                  </a:lnTo>
                  <a:lnTo>
                    <a:pt x="106" y="588"/>
                  </a:lnTo>
                  <a:lnTo>
                    <a:pt x="89" y="577"/>
                  </a:lnTo>
                  <a:lnTo>
                    <a:pt x="73" y="564"/>
                  </a:lnTo>
                  <a:lnTo>
                    <a:pt x="58" y="549"/>
                  </a:lnTo>
                  <a:lnTo>
                    <a:pt x="44" y="532"/>
                  </a:lnTo>
                  <a:lnTo>
                    <a:pt x="32" y="514"/>
                  </a:lnTo>
                  <a:lnTo>
                    <a:pt x="23" y="496"/>
                  </a:lnTo>
                  <a:lnTo>
                    <a:pt x="15" y="477"/>
                  </a:lnTo>
                  <a:lnTo>
                    <a:pt x="9" y="457"/>
                  </a:lnTo>
                  <a:lnTo>
                    <a:pt x="3" y="436"/>
                  </a:lnTo>
                  <a:lnTo>
                    <a:pt x="1" y="414"/>
                  </a:lnTo>
                  <a:lnTo>
                    <a:pt x="0" y="391"/>
                  </a:lnTo>
                  <a:lnTo>
                    <a:pt x="1" y="366"/>
                  </a:lnTo>
                  <a:lnTo>
                    <a:pt x="4" y="344"/>
                  </a:lnTo>
                  <a:lnTo>
                    <a:pt x="9" y="322"/>
                  </a:lnTo>
                  <a:lnTo>
                    <a:pt x="15" y="302"/>
                  </a:lnTo>
                  <a:lnTo>
                    <a:pt x="19" y="291"/>
                  </a:lnTo>
                  <a:lnTo>
                    <a:pt x="24" y="281"/>
                  </a:lnTo>
                  <a:lnTo>
                    <a:pt x="29" y="272"/>
                  </a:lnTo>
                  <a:lnTo>
                    <a:pt x="35" y="263"/>
                  </a:lnTo>
                  <a:lnTo>
                    <a:pt x="40" y="254"/>
                  </a:lnTo>
                  <a:lnTo>
                    <a:pt x="46" y="245"/>
                  </a:lnTo>
                  <a:lnTo>
                    <a:pt x="53" y="237"/>
                  </a:lnTo>
                  <a:lnTo>
                    <a:pt x="60" y="229"/>
                  </a:lnTo>
                  <a:lnTo>
                    <a:pt x="77" y="214"/>
                  </a:lnTo>
                  <a:lnTo>
                    <a:pt x="93" y="201"/>
                  </a:lnTo>
                  <a:lnTo>
                    <a:pt x="101" y="195"/>
                  </a:lnTo>
                  <a:lnTo>
                    <a:pt x="110" y="190"/>
                  </a:lnTo>
                  <a:lnTo>
                    <a:pt x="120" y="185"/>
                  </a:lnTo>
                  <a:lnTo>
                    <a:pt x="130" y="181"/>
                  </a:lnTo>
                  <a:lnTo>
                    <a:pt x="139" y="177"/>
                  </a:lnTo>
                  <a:lnTo>
                    <a:pt x="149" y="174"/>
                  </a:lnTo>
                  <a:lnTo>
                    <a:pt x="159" y="171"/>
                  </a:lnTo>
                  <a:lnTo>
                    <a:pt x="170" y="169"/>
                  </a:lnTo>
                  <a:lnTo>
                    <a:pt x="191" y="166"/>
                  </a:lnTo>
                  <a:lnTo>
                    <a:pt x="213" y="166"/>
                  </a:lnTo>
                  <a:lnTo>
                    <a:pt x="220" y="166"/>
                  </a:lnTo>
                  <a:lnTo>
                    <a:pt x="228" y="166"/>
                  </a:lnTo>
                  <a:lnTo>
                    <a:pt x="234" y="166"/>
                  </a:lnTo>
                  <a:lnTo>
                    <a:pt x="242" y="167"/>
                  </a:lnTo>
                  <a:lnTo>
                    <a:pt x="248" y="168"/>
                  </a:lnTo>
                  <a:lnTo>
                    <a:pt x="255" y="169"/>
                  </a:lnTo>
                  <a:lnTo>
                    <a:pt x="261" y="170"/>
                  </a:lnTo>
                  <a:lnTo>
                    <a:pt x="268" y="172"/>
                  </a:lnTo>
                  <a:lnTo>
                    <a:pt x="273" y="174"/>
                  </a:lnTo>
                  <a:lnTo>
                    <a:pt x="280" y="175"/>
                  </a:lnTo>
                  <a:lnTo>
                    <a:pt x="285" y="179"/>
                  </a:lnTo>
                  <a:lnTo>
                    <a:pt x="291" y="181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9"/>
                  </a:lnTo>
                  <a:lnTo>
                    <a:pt x="312" y="194"/>
                  </a:lnTo>
                  <a:lnTo>
                    <a:pt x="312" y="0"/>
                  </a:lnTo>
                  <a:lnTo>
                    <a:pt x="456" y="0"/>
                  </a:lnTo>
                  <a:lnTo>
                    <a:pt x="456" y="607"/>
                  </a:lnTo>
                  <a:lnTo>
                    <a:pt x="315" y="607"/>
                  </a:lnTo>
                  <a:lnTo>
                    <a:pt x="315" y="567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3280" y="907920"/>
              <a:ext cx="147600" cy="1746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375" y="0"/>
                  </a:moveTo>
                  <a:lnTo>
                    <a:pt x="375" y="436"/>
                  </a:lnTo>
                  <a:lnTo>
                    <a:pt x="233" y="436"/>
                  </a:lnTo>
                  <a:lnTo>
                    <a:pt x="233" y="395"/>
                  </a:lnTo>
                  <a:lnTo>
                    <a:pt x="229" y="401"/>
                  </a:lnTo>
                  <a:lnTo>
                    <a:pt x="223" y="406"/>
                  </a:lnTo>
                  <a:lnTo>
                    <a:pt x="217" y="411"/>
                  </a:lnTo>
                  <a:lnTo>
                    <a:pt x="211" y="416"/>
                  </a:lnTo>
                  <a:lnTo>
                    <a:pt x="205" y="420"/>
                  </a:lnTo>
                  <a:lnTo>
                    <a:pt x="200" y="424"/>
                  </a:lnTo>
                  <a:lnTo>
                    <a:pt x="193" y="428"/>
                  </a:lnTo>
                  <a:lnTo>
                    <a:pt x="187" y="431"/>
                  </a:lnTo>
                  <a:lnTo>
                    <a:pt x="179" y="434"/>
                  </a:lnTo>
                  <a:lnTo>
                    <a:pt x="173" y="436"/>
                  </a:lnTo>
                  <a:lnTo>
                    <a:pt x="165" y="438"/>
                  </a:lnTo>
                  <a:lnTo>
                    <a:pt x="157" y="440"/>
                  </a:lnTo>
                  <a:lnTo>
                    <a:pt x="150" y="442"/>
                  </a:lnTo>
                  <a:lnTo>
                    <a:pt x="142" y="442"/>
                  </a:lnTo>
                  <a:lnTo>
                    <a:pt x="134" y="443"/>
                  </a:lnTo>
                  <a:lnTo>
                    <a:pt x="126" y="443"/>
                  </a:lnTo>
                  <a:lnTo>
                    <a:pt x="111" y="443"/>
                  </a:lnTo>
                  <a:lnTo>
                    <a:pt x="96" y="441"/>
                  </a:lnTo>
                  <a:lnTo>
                    <a:pt x="83" y="437"/>
                  </a:lnTo>
                  <a:lnTo>
                    <a:pt x="71" y="433"/>
                  </a:lnTo>
                  <a:lnTo>
                    <a:pt x="59" y="429"/>
                  </a:lnTo>
                  <a:lnTo>
                    <a:pt x="49" y="422"/>
                  </a:lnTo>
                  <a:lnTo>
                    <a:pt x="40" y="415"/>
                  </a:lnTo>
                  <a:lnTo>
                    <a:pt x="31" y="405"/>
                  </a:lnTo>
                  <a:lnTo>
                    <a:pt x="23" y="395"/>
                  </a:lnTo>
                  <a:lnTo>
                    <a:pt x="17" y="384"/>
                  </a:lnTo>
                  <a:lnTo>
                    <a:pt x="12" y="373"/>
                  </a:lnTo>
                  <a:lnTo>
                    <a:pt x="7" y="360"/>
                  </a:lnTo>
                  <a:lnTo>
                    <a:pt x="4" y="344"/>
                  </a:lnTo>
                  <a:lnTo>
                    <a:pt x="1" y="329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231"/>
                  </a:lnTo>
                  <a:lnTo>
                    <a:pt x="143" y="241"/>
                  </a:lnTo>
                  <a:lnTo>
                    <a:pt x="143" y="248"/>
                  </a:lnTo>
                  <a:lnTo>
                    <a:pt x="145" y="256"/>
                  </a:lnTo>
                  <a:lnTo>
                    <a:pt x="146" y="262"/>
                  </a:lnTo>
                  <a:lnTo>
                    <a:pt x="147" y="269"/>
                  </a:lnTo>
                  <a:lnTo>
                    <a:pt x="148" y="274"/>
                  </a:lnTo>
                  <a:lnTo>
                    <a:pt x="150" y="280"/>
                  </a:lnTo>
                  <a:lnTo>
                    <a:pt x="152" y="283"/>
                  </a:lnTo>
                  <a:lnTo>
                    <a:pt x="154" y="286"/>
                  </a:lnTo>
                  <a:lnTo>
                    <a:pt x="157" y="289"/>
                  </a:lnTo>
                  <a:lnTo>
                    <a:pt x="161" y="293"/>
                  </a:lnTo>
                  <a:lnTo>
                    <a:pt x="165" y="294"/>
                  </a:lnTo>
                  <a:lnTo>
                    <a:pt x="168" y="296"/>
                  </a:lnTo>
                  <a:lnTo>
                    <a:pt x="173" y="297"/>
                  </a:lnTo>
                  <a:lnTo>
                    <a:pt x="178" y="298"/>
                  </a:lnTo>
                  <a:lnTo>
                    <a:pt x="183" y="298"/>
                  </a:lnTo>
                  <a:lnTo>
                    <a:pt x="189" y="298"/>
                  </a:lnTo>
                  <a:lnTo>
                    <a:pt x="194" y="297"/>
                  </a:lnTo>
                  <a:lnTo>
                    <a:pt x="200" y="296"/>
                  </a:lnTo>
                  <a:lnTo>
                    <a:pt x="204" y="294"/>
                  </a:lnTo>
                  <a:lnTo>
                    <a:pt x="208" y="292"/>
                  </a:lnTo>
                  <a:lnTo>
                    <a:pt x="213" y="288"/>
                  </a:lnTo>
                  <a:lnTo>
                    <a:pt x="216" y="285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4" y="272"/>
                  </a:lnTo>
                  <a:lnTo>
                    <a:pt x="227" y="267"/>
                  </a:lnTo>
                  <a:lnTo>
                    <a:pt x="228" y="260"/>
                  </a:lnTo>
                  <a:lnTo>
                    <a:pt x="229" y="254"/>
                  </a:lnTo>
                  <a:lnTo>
                    <a:pt x="230" y="246"/>
                  </a:lnTo>
                  <a:lnTo>
                    <a:pt x="231" y="239"/>
                  </a:lnTo>
                  <a:lnTo>
                    <a:pt x="231" y="231"/>
                  </a:lnTo>
                  <a:lnTo>
                    <a:pt x="231" y="0"/>
                  </a:lnTo>
                  <a:lnTo>
                    <a:pt x="3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27880" y="904680"/>
              <a:ext cx="119160" cy="177840"/>
            </a:xfrm>
            <a:custGeom>
              <a:avLst/>
              <a:gdLst/>
              <a:ahLst/>
              <a:rect l="l" t="t" r="r" b="b"/>
              <a:pathLst>
                <a:path w="298" h="448">
                  <a:moveTo>
                    <a:pt x="298" y="438"/>
                  </a:moveTo>
                  <a:lnTo>
                    <a:pt x="294" y="439"/>
                  </a:lnTo>
                  <a:lnTo>
                    <a:pt x="288" y="440"/>
                  </a:lnTo>
                  <a:lnTo>
                    <a:pt x="283" y="441"/>
                  </a:lnTo>
                  <a:lnTo>
                    <a:pt x="278" y="442"/>
                  </a:lnTo>
                  <a:lnTo>
                    <a:pt x="273" y="443"/>
                  </a:lnTo>
                  <a:lnTo>
                    <a:pt x="268" y="445"/>
                  </a:lnTo>
                  <a:lnTo>
                    <a:pt x="263" y="445"/>
                  </a:lnTo>
                  <a:lnTo>
                    <a:pt x="258" y="446"/>
                  </a:lnTo>
                  <a:lnTo>
                    <a:pt x="252" y="446"/>
                  </a:lnTo>
                  <a:lnTo>
                    <a:pt x="248" y="447"/>
                  </a:lnTo>
                  <a:lnTo>
                    <a:pt x="243" y="447"/>
                  </a:lnTo>
                  <a:lnTo>
                    <a:pt x="237" y="448"/>
                  </a:lnTo>
                  <a:lnTo>
                    <a:pt x="232" y="448"/>
                  </a:lnTo>
                  <a:lnTo>
                    <a:pt x="228" y="448"/>
                  </a:lnTo>
                  <a:lnTo>
                    <a:pt x="222" y="448"/>
                  </a:lnTo>
                  <a:lnTo>
                    <a:pt x="217" y="448"/>
                  </a:lnTo>
                  <a:lnTo>
                    <a:pt x="193" y="447"/>
                  </a:lnTo>
                  <a:lnTo>
                    <a:pt x="171" y="443"/>
                  </a:lnTo>
                  <a:lnTo>
                    <a:pt x="161" y="441"/>
                  </a:lnTo>
                  <a:lnTo>
                    <a:pt x="150" y="439"/>
                  </a:lnTo>
                  <a:lnTo>
                    <a:pt x="139" y="436"/>
                  </a:lnTo>
                  <a:lnTo>
                    <a:pt x="129" y="432"/>
                  </a:lnTo>
                  <a:lnTo>
                    <a:pt x="120" y="428"/>
                  </a:lnTo>
                  <a:lnTo>
                    <a:pt x="110" y="423"/>
                  </a:lnTo>
                  <a:lnTo>
                    <a:pt x="101" y="418"/>
                  </a:lnTo>
                  <a:lnTo>
                    <a:pt x="93" y="412"/>
                  </a:lnTo>
                  <a:lnTo>
                    <a:pt x="84" y="406"/>
                  </a:lnTo>
                  <a:lnTo>
                    <a:pt x="75" y="399"/>
                  </a:lnTo>
                  <a:lnTo>
                    <a:pt x="68" y="393"/>
                  </a:lnTo>
                  <a:lnTo>
                    <a:pt x="60" y="384"/>
                  </a:lnTo>
                  <a:lnTo>
                    <a:pt x="53" y="376"/>
                  </a:lnTo>
                  <a:lnTo>
                    <a:pt x="46" y="368"/>
                  </a:lnTo>
                  <a:lnTo>
                    <a:pt x="40" y="359"/>
                  </a:lnTo>
                  <a:lnTo>
                    <a:pt x="34" y="351"/>
                  </a:lnTo>
                  <a:lnTo>
                    <a:pt x="28" y="341"/>
                  </a:lnTo>
                  <a:lnTo>
                    <a:pt x="23" y="331"/>
                  </a:lnTo>
                  <a:lnTo>
                    <a:pt x="19" y="321"/>
                  </a:lnTo>
                  <a:lnTo>
                    <a:pt x="15" y="312"/>
                  </a:lnTo>
                  <a:lnTo>
                    <a:pt x="8" y="290"/>
                  </a:lnTo>
                  <a:lnTo>
                    <a:pt x="4" y="267"/>
                  </a:lnTo>
                  <a:lnTo>
                    <a:pt x="1" y="244"/>
                  </a:lnTo>
                  <a:lnTo>
                    <a:pt x="0" y="219"/>
                  </a:lnTo>
                  <a:lnTo>
                    <a:pt x="1" y="195"/>
                  </a:lnTo>
                  <a:lnTo>
                    <a:pt x="4" y="172"/>
                  </a:lnTo>
                  <a:lnTo>
                    <a:pt x="6" y="162"/>
                  </a:lnTo>
                  <a:lnTo>
                    <a:pt x="8" y="151"/>
                  </a:lnTo>
                  <a:lnTo>
                    <a:pt x="12" y="141"/>
                  </a:lnTo>
                  <a:lnTo>
                    <a:pt x="16" y="130"/>
                  </a:lnTo>
                  <a:lnTo>
                    <a:pt x="20" y="121"/>
                  </a:lnTo>
                  <a:lnTo>
                    <a:pt x="25" y="111"/>
                  </a:lnTo>
                  <a:lnTo>
                    <a:pt x="30" y="102"/>
                  </a:lnTo>
                  <a:lnTo>
                    <a:pt x="35" y="94"/>
                  </a:lnTo>
                  <a:lnTo>
                    <a:pt x="42" y="85"/>
                  </a:lnTo>
                  <a:lnTo>
                    <a:pt x="48" y="76"/>
                  </a:lnTo>
                  <a:lnTo>
                    <a:pt x="56" y="69"/>
                  </a:lnTo>
                  <a:lnTo>
                    <a:pt x="63" y="60"/>
                  </a:lnTo>
                  <a:lnTo>
                    <a:pt x="71" y="54"/>
                  </a:lnTo>
                  <a:lnTo>
                    <a:pt x="80" y="46"/>
                  </a:lnTo>
                  <a:lnTo>
                    <a:pt x="88" y="40"/>
                  </a:lnTo>
                  <a:lnTo>
                    <a:pt x="97" y="34"/>
                  </a:lnTo>
                  <a:lnTo>
                    <a:pt x="107" y="29"/>
                  </a:lnTo>
                  <a:lnTo>
                    <a:pt x="116" y="23"/>
                  </a:lnTo>
                  <a:lnTo>
                    <a:pt x="126" y="19"/>
                  </a:lnTo>
                  <a:lnTo>
                    <a:pt x="136" y="15"/>
                  </a:lnTo>
                  <a:lnTo>
                    <a:pt x="157" y="8"/>
                  </a:lnTo>
                  <a:lnTo>
                    <a:pt x="180" y="4"/>
                  </a:lnTo>
                  <a:lnTo>
                    <a:pt x="204" y="1"/>
                  </a:lnTo>
                  <a:lnTo>
                    <a:pt x="229" y="0"/>
                  </a:lnTo>
                  <a:lnTo>
                    <a:pt x="233" y="0"/>
                  </a:lnTo>
                  <a:lnTo>
                    <a:pt x="237" y="0"/>
                  </a:lnTo>
                  <a:lnTo>
                    <a:pt x="242" y="1"/>
                  </a:lnTo>
                  <a:lnTo>
                    <a:pt x="246" y="1"/>
                  </a:lnTo>
                  <a:lnTo>
                    <a:pt x="250" y="1"/>
                  </a:lnTo>
                  <a:lnTo>
                    <a:pt x="255" y="2"/>
                  </a:lnTo>
                  <a:lnTo>
                    <a:pt x="259" y="2"/>
                  </a:lnTo>
                  <a:lnTo>
                    <a:pt x="264" y="3"/>
                  </a:lnTo>
                  <a:lnTo>
                    <a:pt x="269" y="3"/>
                  </a:lnTo>
                  <a:lnTo>
                    <a:pt x="273" y="4"/>
                  </a:lnTo>
                  <a:lnTo>
                    <a:pt x="277" y="5"/>
                  </a:lnTo>
                  <a:lnTo>
                    <a:pt x="282" y="6"/>
                  </a:lnTo>
                  <a:lnTo>
                    <a:pt x="285" y="7"/>
                  </a:lnTo>
                  <a:lnTo>
                    <a:pt x="289" y="8"/>
                  </a:lnTo>
                  <a:lnTo>
                    <a:pt x="294" y="9"/>
                  </a:lnTo>
                  <a:lnTo>
                    <a:pt x="298" y="10"/>
                  </a:lnTo>
                  <a:lnTo>
                    <a:pt x="298" y="153"/>
                  </a:lnTo>
                  <a:lnTo>
                    <a:pt x="294" y="152"/>
                  </a:lnTo>
                  <a:lnTo>
                    <a:pt x="288" y="151"/>
                  </a:lnTo>
                  <a:lnTo>
                    <a:pt x="284" y="150"/>
                  </a:lnTo>
                  <a:lnTo>
                    <a:pt x="280" y="149"/>
                  </a:lnTo>
                  <a:lnTo>
                    <a:pt x="275" y="148"/>
                  </a:lnTo>
                  <a:lnTo>
                    <a:pt x="271" y="146"/>
                  </a:lnTo>
                  <a:lnTo>
                    <a:pt x="267" y="145"/>
                  </a:lnTo>
                  <a:lnTo>
                    <a:pt x="263" y="145"/>
                  </a:lnTo>
                  <a:lnTo>
                    <a:pt x="259" y="144"/>
                  </a:lnTo>
                  <a:lnTo>
                    <a:pt x="256" y="144"/>
                  </a:lnTo>
                  <a:lnTo>
                    <a:pt x="252" y="143"/>
                  </a:lnTo>
                  <a:lnTo>
                    <a:pt x="249" y="143"/>
                  </a:lnTo>
                  <a:lnTo>
                    <a:pt x="246" y="143"/>
                  </a:lnTo>
                  <a:lnTo>
                    <a:pt x="243" y="142"/>
                  </a:lnTo>
                  <a:lnTo>
                    <a:pt x="241" y="142"/>
                  </a:lnTo>
                  <a:lnTo>
                    <a:pt x="237" y="142"/>
                  </a:lnTo>
                  <a:lnTo>
                    <a:pt x="227" y="143"/>
                  </a:lnTo>
                  <a:lnTo>
                    <a:pt x="217" y="144"/>
                  </a:lnTo>
                  <a:lnTo>
                    <a:pt x="207" y="145"/>
                  </a:lnTo>
                  <a:lnTo>
                    <a:pt x="198" y="148"/>
                  </a:lnTo>
                  <a:lnTo>
                    <a:pt x="191" y="151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70" y="164"/>
                  </a:lnTo>
                  <a:lnTo>
                    <a:pt x="165" y="169"/>
                  </a:lnTo>
                  <a:lnTo>
                    <a:pt x="160" y="176"/>
                  </a:lnTo>
                  <a:lnTo>
                    <a:pt x="156" y="182"/>
                  </a:lnTo>
                  <a:lnTo>
                    <a:pt x="152" y="189"/>
                  </a:lnTo>
                  <a:lnTo>
                    <a:pt x="150" y="196"/>
                  </a:lnTo>
                  <a:lnTo>
                    <a:pt x="148" y="205"/>
                  </a:lnTo>
                  <a:lnTo>
                    <a:pt x="147" y="213"/>
                  </a:lnTo>
                  <a:lnTo>
                    <a:pt x="147" y="222"/>
                  </a:lnTo>
                  <a:lnTo>
                    <a:pt x="147" y="232"/>
                  </a:lnTo>
                  <a:lnTo>
                    <a:pt x="148" y="239"/>
                  </a:lnTo>
                  <a:lnTo>
                    <a:pt x="150" y="248"/>
                  </a:lnTo>
                  <a:lnTo>
                    <a:pt x="153" y="256"/>
                  </a:lnTo>
                  <a:lnTo>
                    <a:pt x="156" y="262"/>
                  </a:lnTo>
                  <a:lnTo>
                    <a:pt x="161" y="270"/>
                  </a:lnTo>
                  <a:lnTo>
                    <a:pt x="166" y="275"/>
                  </a:lnTo>
                  <a:lnTo>
                    <a:pt x="171" y="281"/>
                  </a:lnTo>
                  <a:lnTo>
                    <a:pt x="178" y="287"/>
                  </a:lnTo>
                  <a:lnTo>
                    <a:pt x="186" y="291"/>
                  </a:lnTo>
                  <a:lnTo>
                    <a:pt x="193" y="294"/>
                  </a:lnTo>
                  <a:lnTo>
                    <a:pt x="201" y="298"/>
                  </a:lnTo>
                  <a:lnTo>
                    <a:pt x="209" y="301"/>
                  </a:lnTo>
                  <a:lnTo>
                    <a:pt x="218" y="302"/>
                  </a:lnTo>
                  <a:lnTo>
                    <a:pt x="228" y="303"/>
                  </a:lnTo>
                  <a:lnTo>
                    <a:pt x="238" y="304"/>
                  </a:lnTo>
                  <a:lnTo>
                    <a:pt x="241" y="303"/>
                  </a:lnTo>
                  <a:lnTo>
                    <a:pt x="244" y="303"/>
                  </a:lnTo>
                  <a:lnTo>
                    <a:pt x="247" y="303"/>
                  </a:lnTo>
                  <a:lnTo>
                    <a:pt x="250" y="303"/>
                  </a:lnTo>
                  <a:lnTo>
                    <a:pt x="254" y="303"/>
                  </a:lnTo>
                  <a:lnTo>
                    <a:pt x="257" y="303"/>
                  </a:lnTo>
                  <a:lnTo>
                    <a:pt x="260" y="302"/>
                  </a:lnTo>
                  <a:lnTo>
                    <a:pt x="264" y="302"/>
                  </a:lnTo>
                  <a:lnTo>
                    <a:pt x="268" y="302"/>
                  </a:lnTo>
                  <a:lnTo>
                    <a:pt x="272" y="301"/>
                  </a:lnTo>
                  <a:lnTo>
                    <a:pt x="275" y="301"/>
                  </a:lnTo>
                  <a:lnTo>
                    <a:pt x="280" y="300"/>
                  </a:lnTo>
                  <a:lnTo>
                    <a:pt x="284" y="299"/>
                  </a:lnTo>
                  <a:lnTo>
                    <a:pt x="288" y="299"/>
                  </a:lnTo>
                  <a:lnTo>
                    <a:pt x="294" y="298"/>
                  </a:lnTo>
                  <a:lnTo>
                    <a:pt x="298" y="297"/>
                  </a:lnTo>
                  <a:lnTo>
                    <a:pt x="298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24800" y="1001520"/>
              <a:ext cx="36360" cy="3672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45" y="91"/>
                  </a:moveTo>
                  <a:lnTo>
                    <a:pt x="49" y="91"/>
                  </a:lnTo>
                  <a:lnTo>
                    <a:pt x="54" y="91"/>
                  </a:lnTo>
                  <a:lnTo>
                    <a:pt x="58" y="90"/>
                  </a:lnTo>
                  <a:lnTo>
                    <a:pt x="62" y="88"/>
                  </a:lnTo>
                  <a:lnTo>
                    <a:pt x="66" y="87"/>
                  </a:lnTo>
                  <a:lnTo>
                    <a:pt x="70" y="84"/>
                  </a:lnTo>
                  <a:lnTo>
                    <a:pt x="73" y="82"/>
                  </a:lnTo>
                  <a:lnTo>
                    <a:pt x="76" y="78"/>
                  </a:lnTo>
                  <a:lnTo>
                    <a:pt x="80" y="75"/>
                  </a:lnTo>
                  <a:lnTo>
                    <a:pt x="83" y="71"/>
                  </a:lnTo>
                  <a:lnTo>
                    <a:pt x="85" y="68"/>
                  </a:lnTo>
                  <a:lnTo>
                    <a:pt x="87" y="63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90" y="50"/>
                  </a:lnTo>
                  <a:lnTo>
                    <a:pt x="90" y="46"/>
                  </a:lnTo>
                  <a:lnTo>
                    <a:pt x="90" y="42"/>
                  </a:lnTo>
                  <a:lnTo>
                    <a:pt x="89" y="37"/>
                  </a:lnTo>
                  <a:lnTo>
                    <a:pt x="88" y="33"/>
                  </a:lnTo>
                  <a:lnTo>
                    <a:pt x="87" y="29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0" y="17"/>
                  </a:lnTo>
                  <a:lnTo>
                    <a:pt x="76" y="14"/>
                  </a:lnTo>
                  <a:lnTo>
                    <a:pt x="73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2"/>
                  </a:lnTo>
                  <a:lnTo>
                    <a:pt x="19" y="85"/>
                  </a:lnTo>
                  <a:lnTo>
                    <a:pt x="23" y="87"/>
                  </a:lnTo>
                  <a:lnTo>
                    <a:pt x="27" y="88"/>
                  </a:lnTo>
                  <a:lnTo>
                    <a:pt x="31" y="90"/>
                  </a:lnTo>
                  <a:lnTo>
                    <a:pt x="35" y="91"/>
                  </a:lnTo>
                  <a:lnTo>
                    <a:pt x="40" y="91"/>
                  </a:lnTo>
                  <a:lnTo>
                    <a:pt x="45" y="9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70800" y="906480"/>
              <a:ext cx="139680" cy="17784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232" y="438"/>
                  </a:moveTo>
                  <a:lnTo>
                    <a:pt x="232" y="408"/>
                  </a:lnTo>
                  <a:lnTo>
                    <a:pt x="227" y="413"/>
                  </a:lnTo>
                  <a:lnTo>
                    <a:pt x="222" y="417"/>
                  </a:lnTo>
                  <a:lnTo>
                    <a:pt x="218" y="421"/>
                  </a:lnTo>
                  <a:lnTo>
                    <a:pt x="212" y="424"/>
                  </a:lnTo>
                  <a:lnTo>
                    <a:pt x="207" y="429"/>
                  </a:lnTo>
                  <a:lnTo>
                    <a:pt x="201" y="431"/>
                  </a:lnTo>
                  <a:lnTo>
                    <a:pt x="196" y="434"/>
                  </a:lnTo>
                  <a:lnTo>
                    <a:pt x="189" y="436"/>
                  </a:lnTo>
                  <a:lnTo>
                    <a:pt x="184" y="438"/>
                  </a:lnTo>
                  <a:lnTo>
                    <a:pt x="178" y="440"/>
                  </a:lnTo>
                  <a:lnTo>
                    <a:pt x="171" y="443"/>
                  </a:lnTo>
                  <a:lnTo>
                    <a:pt x="166" y="444"/>
                  </a:lnTo>
                  <a:lnTo>
                    <a:pt x="159" y="445"/>
                  </a:lnTo>
                  <a:lnTo>
                    <a:pt x="153" y="445"/>
                  </a:lnTo>
                  <a:lnTo>
                    <a:pt x="145" y="446"/>
                  </a:lnTo>
                  <a:lnTo>
                    <a:pt x="139" y="446"/>
                  </a:lnTo>
                  <a:lnTo>
                    <a:pt x="124" y="445"/>
                  </a:lnTo>
                  <a:lnTo>
                    <a:pt x="110" y="443"/>
                  </a:lnTo>
                  <a:lnTo>
                    <a:pt x="95" y="439"/>
                  </a:lnTo>
                  <a:lnTo>
                    <a:pt x="83" y="435"/>
                  </a:lnTo>
                  <a:lnTo>
                    <a:pt x="71" y="430"/>
                  </a:lnTo>
                  <a:lnTo>
                    <a:pt x="60" y="422"/>
                  </a:lnTo>
                  <a:lnTo>
                    <a:pt x="49" y="415"/>
                  </a:lnTo>
                  <a:lnTo>
                    <a:pt x="38" y="405"/>
                  </a:lnTo>
                  <a:lnTo>
                    <a:pt x="30" y="394"/>
                  </a:lnTo>
                  <a:lnTo>
                    <a:pt x="22" y="382"/>
                  </a:lnTo>
                  <a:lnTo>
                    <a:pt x="16" y="370"/>
                  </a:lnTo>
                  <a:lnTo>
                    <a:pt x="10" y="356"/>
                  </a:lnTo>
                  <a:lnTo>
                    <a:pt x="6" y="343"/>
                  </a:lnTo>
                  <a:lnTo>
                    <a:pt x="3" y="328"/>
                  </a:lnTo>
                  <a:lnTo>
                    <a:pt x="0" y="313"/>
                  </a:lnTo>
                  <a:lnTo>
                    <a:pt x="0" y="297"/>
                  </a:lnTo>
                  <a:lnTo>
                    <a:pt x="0" y="280"/>
                  </a:lnTo>
                  <a:lnTo>
                    <a:pt x="3" y="264"/>
                  </a:lnTo>
                  <a:lnTo>
                    <a:pt x="6" y="249"/>
                  </a:lnTo>
                  <a:lnTo>
                    <a:pt x="11" y="235"/>
                  </a:lnTo>
                  <a:lnTo>
                    <a:pt x="17" y="222"/>
                  </a:lnTo>
                  <a:lnTo>
                    <a:pt x="24" y="209"/>
                  </a:lnTo>
                  <a:lnTo>
                    <a:pt x="33" y="199"/>
                  </a:lnTo>
                  <a:lnTo>
                    <a:pt x="43" y="188"/>
                  </a:lnTo>
                  <a:lnTo>
                    <a:pt x="53" y="178"/>
                  </a:lnTo>
                  <a:lnTo>
                    <a:pt x="65" y="169"/>
                  </a:lnTo>
                  <a:lnTo>
                    <a:pt x="78" y="162"/>
                  </a:lnTo>
                  <a:lnTo>
                    <a:pt x="92" y="156"/>
                  </a:lnTo>
                  <a:lnTo>
                    <a:pt x="106" y="152"/>
                  </a:lnTo>
                  <a:lnTo>
                    <a:pt x="121" y="149"/>
                  </a:lnTo>
                  <a:lnTo>
                    <a:pt x="138" y="147"/>
                  </a:lnTo>
                  <a:lnTo>
                    <a:pt x="155" y="146"/>
                  </a:lnTo>
                  <a:lnTo>
                    <a:pt x="159" y="147"/>
                  </a:lnTo>
                  <a:lnTo>
                    <a:pt x="164" y="147"/>
                  </a:lnTo>
                  <a:lnTo>
                    <a:pt x="167" y="147"/>
                  </a:lnTo>
                  <a:lnTo>
                    <a:pt x="171" y="148"/>
                  </a:lnTo>
                  <a:lnTo>
                    <a:pt x="175" y="148"/>
                  </a:lnTo>
                  <a:lnTo>
                    <a:pt x="179" y="149"/>
                  </a:lnTo>
                  <a:lnTo>
                    <a:pt x="183" y="150"/>
                  </a:lnTo>
                  <a:lnTo>
                    <a:pt x="187" y="151"/>
                  </a:lnTo>
                  <a:lnTo>
                    <a:pt x="192" y="152"/>
                  </a:lnTo>
                  <a:lnTo>
                    <a:pt x="196" y="153"/>
                  </a:lnTo>
                  <a:lnTo>
                    <a:pt x="199" y="154"/>
                  </a:lnTo>
                  <a:lnTo>
                    <a:pt x="204" y="156"/>
                  </a:lnTo>
                  <a:lnTo>
                    <a:pt x="208" y="159"/>
                  </a:lnTo>
                  <a:lnTo>
                    <a:pt x="212" y="160"/>
                  </a:lnTo>
                  <a:lnTo>
                    <a:pt x="215" y="162"/>
                  </a:lnTo>
                  <a:lnTo>
                    <a:pt x="220" y="164"/>
                  </a:lnTo>
                  <a:lnTo>
                    <a:pt x="220" y="163"/>
                  </a:lnTo>
                  <a:lnTo>
                    <a:pt x="220" y="163"/>
                  </a:lnTo>
                  <a:lnTo>
                    <a:pt x="220" y="162"/>
                  </a:lnTo>
                  <a:lnTo>
                    <a:pt x="220" y="162"/>
                  </a:lnTo>
                  <a:lnTo>
                    <a:pt x="220" y="161"/>
                  </a:lnTo>
                  <a:lnTo>
                    <a:pt x="221" y="161"/>
                  </a:lnTo>
                  <a:lnTo>
                    <a:pt x="221" y="160"/>
                  </a:lnTo>
                  <a:lnTo>
                    <a:pt x="221" y="160"/>
                  </a:lnTo>
                  <a:lnTo>
                    <a:pt x="221" y="159"/>
                  </a:lnTo>
                  <a:lnTo>
                    <a:pt x="221" y="157"/>
                  </a:lnTo>
                  <a:lnTo>
                    <a:pt x="221" y="156"/>
                  </a:lnTo>
                  <a:lnTo>
                    <a:pt x="221" y="156"/>
                  </a:lnTo>
                  <a:lnTo>
                    <a:pt x="221" y="155"/>
                  </a:lnTo>
                  <a:lnTo>
                    <a:pt x="221" y="154"/>
                  </a:lnTo>
                  <a:lnTo>
                    <a:pt x="221" y="153"/>
                  </a:lnTo>
                  <a:lnTo>
                    <a:pt x="221" y="151"/>
                  </a:lnTo>
                  <a:lnTo>
                    <a:pt x="221" y="145"/>
                  </a:lnTo>
                  <a:lnTo>
                    <a:pt x="220" y="139"/>
                  </a:lnTo>
                  <a:lnTo>
                    <a:pt x="219" y="134"/>
                  </a:lnTo>
                  <a:lnTo>
                    <a:pt x="216" y="128"/>
                  </a:lnTo>
                  <a:lnTo>
                    <a:pt x="213" y="124"/>
                  </a:lnTo>
                  <a:lnTo>
                    <a:pt x="211" y="120"/>
                  </a:lnTo>
                  <a:lnTo>
                    <a:pt x="207" y="116"/>
                  </a:lnTo>
                  <a:lnTo>
                    <a:pt x="204" y="113"/>
                  </a:lnTo>
                  <a:lnTo>
                    <a:pt x="198" y="111"/>
                  </a:lnTo>
                  <a:lnTo>
                    <a:pt x="193" y="109"/>
                  </a:lnTo>
                  <a:lnTo>
                    <a:pt x="186" y="107"/>
                  </a:lnTo>
                  <a:lnTo>
                    <a:pt x="179" y="106"/>
                  </a:lnTo>
                  <a:lnTo>
                    <a:pt x="170" y="105"/>
                  </a:lnTo>
                  <a:lnTo>
                    <a:pt x="160" y="103"/>
                  </a:lnTo>
                  <a:lnTo>
                    <a:pt x="151" y="103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6" y="103"/>
                  </a:lnTo>
                  <a:lnTo>
                    <a:pt x="119" y="103"/>
                  </a:lnTo>
                  <a:lnTo>
                    <a:pt x="112" y="103"/>
                  </a:lnTo>
                  <a:lnTo>
                    <a:pt x="106" y="103"/>
                  </a:lnTo>
                  <a:lnTo>
                    <a:pt x="100" y="103"/>
                  </a:lnTo>
                  <a:lnTo>
                    <a:pt x="93" y="105"/>
                  </a:lnTo>
                  <a:lnTo>
                    <a:pt x="88" y="105"/>
                  </a:lnTo>
                  <a:lnTo>
                    <a:pt x="81" y="106"/>
                  </a:lnTo>
                  <a:lnTo>
                    <a:pt x="76" y="106"/>
                  </a:lnTo>
                  <a:lnTo>
                    <a:pt x="70" y="106"/>
                  </a:lnTo>
                  <a:lnTo>
                    <a:pt x="64" y="107"/>
                  </a:lnTo>
                  <a:lnTo>
                    <a:pt x="59" y="108"/>
                  </a:lnTo>
                  <a:lnTo>
                    <a:pt x="53" y="108"/>
                  </a:lnTo>
                  <a:lnTo>
                    <a:pt x="48" y="109"/>
                  </a:lnTo>
                  <a:lnTo>
                    <a:pt x="43" y="110"/>
                  </a:lnTo>
                  <a:lnTo>
                    <a:pt x="60" y="8"/>
                  </a:lnTo>
                  <a:lnTo>
                    <a:pt x="67" y="7"/>
                  </a:lnTo>
                  <a:lnTo>
                    <a:pt x="75" y="6"/>
                  </a:lnTo>
                  <a:lnTo>
                    <a:pt x="83" y="6"/>
                  </a:lnTo>
                  <a:lnTo>
                    <a:pt x="90" y="5"/>
                  </a:lnTo>
                  <a:lnTo>
                    <a:pt x="98" y="4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47" y="1"/>
                  </a:lnTo>
                  <a:lnTo>
                    <a:pt x="154" y="1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98" y="1"/>
                  </a:lnTo>
                  <a:lnTo>
                    <a:pt x="221" y="2"/>
                  </a:lnTo>
                  <a:lnTo>
                    <a:pt x="241" y="5"/>
                  </a:lnTo>
                  <a:lnTo>
                    <a:pt x="261" y="8"/>
                  </a:lnTo>
                  <a:lnTo>
                    <a:pt x="277" y="13"/>
                  </a:lnTo>
                  <a:lnTo>
                    <a:pt x="292" y="18"/>
                  </a:lnTo>
                  <a:lnTo>
                    <a:pt x="305" y="26"/>
                  </a:lnTo>
                  <a:lnTo>
                    <a:pt x="316" y="33"/>
                  </a:lnTo>
                  <a:lnTo>
                    <a:pt x="325" y="42"/>
                  </a:lnTo>
                  <a:lnTo>
                    <a:pt x="332" y="53"/>
                  </a:lnTo>
                  <a:lnTo>
                    <a:pt x="339" y="66"/>
                  </a:lnTo>
                  <a:lnTo>
                    <a:pt x="344" y="80"/>
                  </a:lnTo>
                  <a:lnTo>
                    <a:pt x="348" y="97"/>
                  </a:lnTo>
                  <a:lnTo>
                    <a:pt x="352" y="114"/>
                  </a:lnTo>
                  <a:lnTo>
                    <a:pt x="354" y="135"/>
                  </a:lnTo>
                  <a:lnTo>
                    <a:pt x="354" y="156"/>
                  </a:lnTo>
                  <a:lnTo>
                    <a:pt x="354" y="438"/>
                  </a:lnTo>
                  <a:lnTo>
                    <a:pt x="232" y="43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35680" y="855720"/>
              <a:ext cx="93600" cy="226800"/>
            </a:xfrm>
            <a:custGeom>
              <a:avLst/>
              <a:gdLst/>
              <a:ahLst/>
              <a:rect l="l" t="t" r="r" b="b"/>
              <a:pathLst>
                <a:path w="238" h="572">
                  <a:moveTo>
                    <a:pt x="211" y="566"/>
                  </a:moveTo>
                  <a:lnTo>
                    <a:pt x="207" y="567"/>
                  </a:lnTo>
                  <a:lnTo>
                    <a:pt x="204" y="567"/>
                  </a:lnTo>
                  <a:lnTo>
                    <a:pt x="199" y="568"/>
                  </a:lnTo>
                  <a:lnTo>
                    <a:pt x="196" y="568"/>
                  </a:lnTo>
                  <a:lnTo>
                    <a:pt x="192" y="568"/>
                  </a:lnTo>
                  <a:lnTo>
                    <a:pt x="188" y="570"/>
                  </a:lnTo>
                  <a:lnTo>
                    <a:pt x="184" y="570"/>
                  </a:lnTo>
                  <a:lnTo>
                    <a:pt x="181" y="570"/>
                  </a:lnTo>
                  <a:lnTo>
                    <a:pt x="178" y="571"/>
                  </a:lnTo>
                  <a:lnTo>
                    <a:pt x="173" y="571"/>
                  </a:lnTo>
                  <a:lnTo>
                    <a:pt x="170" y="571"/>
                  </a:lnTo>
                  <a:lnTo>
                    <a:pt x="167" y="571"/>
                  </a:lnTo>
                  <a:lnTo>
                    <a:pt x="164" y="571"/>
                  </a:lnTo>
                  <a:lnTo>
                    <a:pt x="160" y="571"/>
                  </a:lnTo>
                  <a:lnTo>
                    <a:pt x="156" y="572"/>
                  </a:lnTo>
                  <a:lnTo>
                    <a:pt x="153" y="572"/>
                  </a:lnTo>
                  <a:lnTo>
                    <a:pt x="135" y="571"/>
                  </a:lnTo>
                  <a:lnTo>
                    <a:pt x="120" y="570"/>
                  </a:lnTo>
                  <a:lnTo>
                    <a:pt x="105" y="567"/>
                  </a:lnTo>
                  <a:lnTo>
                    <a:pt x="92" y="564"/>
                  </a:lnTo>
                  <a:lnTo>
                    <a:pt x="81" y="560"/>
                  </a:lnTo>
                  <a:lnTo>
                    <a:pt x="71" y="554"/>
                  </a:lnTo>
                  <a:lnTo>
                    <a:pt x="62" y="548"/>
                  </a:lnTo>
                  <a:lnTo>
                    <a:pt x="54" y="541"/>
                  </a:lnTo>
                  <a:lnTo>
                    <a:pt x="49" y="533"/>
                  </a:lnTo>
                  <a:lnTo>
                    <a:pt x="43" y="523"/>
                  </a:lnTo>
                  <a:lnTo>
                    <a:pt x="38" y="510"/>
                  </a:lnTo>
                  <a:lnTo>
                    <a:pt x="35" y="496"/>
                  </a:lnTo>
                  <a:lnTo>
                    <a:pt x="32" y="479"/>
                  </a:lnTo>
                  <a:lnTo>
                    <a:pt x="30" y="460"/>
                  </a:lnTo>
                  <a:lnTo>
                    <a:pt x="28" y="440"/>
                  </a:lnTo>
                  <a:lnTo>
                    <a:pt x="28" y="418"/>
                  </a:lnTo>
                  <a:lnTo>
                    <a:pt x="28" y="260"/>
                  </a:lnTo>
                  <a:lnTo>
                    <a:pt x="0" y="260"/>
                  </a:lnTo>
                  <a:lnTo>
                    <a:pt x="0" y="130"/>
                  </a:lnTo>
                  <a:lnTo>
                    <a:pt x="28" y="130"/>
                  </a:lnTo>
                  <a:lnTo>
                    <a:pt x="28" y="84"/>
                  </a:lnTo>
                  <a:lnTo>
                    <a:pt x="171" y="0"/>
                  </a:lnTo>
                  <a:lnTo>
                    <a:pt x="171" y="130"/>
                  </a:lnTo>
                  <a:lnTo>
                    <a:pt x="226" y="130"/>
                  </a:lnTo>
                  <a:lnTo>
                    <a:pt x="226" y="260"/>
                  </a:lnTo>
                  <a:lnTo>
                    <a:pt x="171" y="260"/>
                  </a:lnTo>
                  <a:lnTo>
                    <a:pt x="171" y="358"/>
                  </a:lnTo>
                  <a:lnTo>
                    <a:pt x="172" y="366"/>
                  </a:lnTo>
                  <a:lnTo>
                    <a:pt x="172" y="374"/>
                  </a:lnTo>
                  <a:lnTo>
                    <a:pt x="172" y="382"/>
                  </a:lnTo>
                  <a:lnTo>
                    <a:pt x="173" y="388"/>
                  </a:lnTo>
                  <a:lnTo>
                    <a:pt x="174" y="393"/>
                  </a:lnTo>
                  <a:lnTo>
                    <a:pt x="177" y="398"/>
                  </a:lnTo>
                  <a:lnTo>
                    <a:pt x="178" y="402"/>
                  </a:lnTo>
                  <a:lnTo>
                    <a:pt x="180" y="405"/>
                  </a:lnTo>
                  <a:lnTo>
                    <a:pt x="182" y="409"/>
                  </a:lnTo>
                  <a:lnTo>
                    <a:pt x="185" y="411"/>
                  </a:lnTo>
                  <a:lnTo>
                    <a:pt x="188" y="413"/>
                  </a:lnTo>
                  <a:lnTo>
                    <a:pt x="193" y="414"/>
                  </a:lnTo>
                  <a:lnTo>
                    <a:pt x="197" y="415"/>
                  </a:lnTo>
                  <a:lnTo>
                    <a:pt x="201" y="416"/>
                  </a:lnTo>
                  <a:lnTo>
                    <a:pt x="207" y="417"/>
                  </a:lnTo>
                  <a:lnTo>
                    <a:pt x="212" y="417"/>
                  </a:lnTo>
                  <a:lnTo>
                    <a:pt x="214" y="417"/>
                  </a:lnTo>
                  <a:lnTo>
                    <a:pt x="217" y="417"/>
                  </a:lnTo>
                  <a:lnTo>
                    <a:pt x="219" y="417"/>
                  </a:lnTo>
                  <a:lnTo>
                    <a:pt x="221" y="417"/>
                  </a:lnTo>
                  <a:lnTo>
                    <a:pt x="222" y="417"/>
                  </a:lnTo>
                  <a:lnTo>
                    <a:pt x="224" y="417"/>
                  </a:lnTo>
                  <a:lnTo>
                    <a:pt x="225" y="416"/>
                  </a:lnTo>
                  <a:lnTo>
                    <a:pt x="227" y="416"/>
                  </a:lnTo>
                  <a:lnTo>
                    <a:pt x="228" y="416"/>
                  </a:lnTo>
                  <a:lnTo>
                    <a:pt x="229" y="416"/>
                  </a:lnTo>
                  <a:lnTo>
                    <a:pt x="232" y="416"/>
                  </a:lnTo>
                  <a:lnTo>
                    <a:pt x="233" y="416"/>
                  </a:lnTo>
                  <a:lnTo>
                    <a:pt x="234" y="416"/>
                  </a:lnTo>
                  <a:lnTo>
                    <a:pt x="235" y="415"/>
                  </a:lnTo>
                  <a:lnTo>
                    <a:pt x="237" y="415"/>
                  </a:lnTo>
                  <a:lnTo>
                    <a:pt x="238" y="415"/>
                  </a:lnTo>
                  <a:lnTo>
                    <a:pt x="211" y="566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51600" y="907920"/>
              <a:ext cx="57240" cy="1731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51600" y="839520"/>
              <a:ext cx="57240" cy="52560"/>
            </a:xfrm>
            <a:prstGeom prst="rect">
              <a:avLst/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1280" y="961920"/>
              <a:ext cx="58680" cy="63360"/>
            </a:xfrm>
            <a:custGeom>
              <a:avLst/>
              <a:gdLst/>
              <a:ahLst/>
              <a:rect l="l" t="t" r="r" b="b"/>
              <a:pathLst>
                <a:path w="151" h="161">
                  <a:moveTo>
                    <a:pt x="75" y="0"/>
                  </a:moveTo>
                  <a:lnTo>
                    <a:pt x="67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2" y="36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4" y="105"/>
                  </a:lnTo>
                  <a:lnTo>
                    <a:pt x="6" y="112"/>
                  </a:lnTo>
                  <a:lnTo>
                    <a:pt x="9" y="119"/>
                  </a:lnTo>
                  <a:lnTo>
                    <a:pt x="12" y="125"/>
                  </a:lnTo>
                  <a:lnTo>
                    <a:pt x="17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4" y="148"/>
                  </a:lnTo>
                  <a:lnTo>
                    <a:pt x="39" y="152"/>
                  </a:lnTo>
                  <a:lnTo>
                    <a:pt x="46" y="156"/>
                  </a:lnTo>
                  <a:lnTo>
                    <a:pt x="53" y="158"/>
                  </a:lnTo>
                  <a:lnTo>
                    <a:pt x="60" y="160"/>
                  </a:lnTo>
                  <a:lnTo>
                    <a:pt x="67" y="161"/>
                  </a:lnTo>
                  <a:lnTo>
                    <a:pt x="75" y="161"/>
                  </a:lnTo>
                  <a:lnTo>
                    <a:pt x="83" y="161"/>
                  </a:lnTo>
                  <a:lnTo>
                    <a:pt x="90" y="160"/>
                  </a:lnTo>
                  <a:lnTo>
                    <a:pt x="98" y="158"/>
                  </a:lnTo>
                  <a:lnTo>
                    <a:pt x="104" y="155"/>
                  </a:lnTo>
                  <a:lnTo>
                    <a:pt x="111" y="151"/>
                  </a:lnTo>
                  <a:lnTo>
                    <a:pt x="117" y="148"/>
                  </a:lnTo>
                  <a:lnTo>
                    <a:pt x="122" y="143"/>
                  </a:lnTo>
                  <a:lnTo>
                    <a:pt x="128" y="137"/>
                  </a:lnTo>
                  <a:lnTo>
                    <a:pt x="133" y="132"/>
                  </a:lnTo>
                  <a:lnTo>
                    <a:pt x="138" y="125"/>
                  </a:lnTo>
                  <a:lnTo>
                    <a:pt x="142" y="119"/>
                  </a:lnTo>
                  <a:lnTo>
                    <a:pt x="144" y="111"/>
                  </a:lnTo>
                  <a:lnTo>
                    <a:pt x="147" y="105"/>
                  </a:lnTo>
                  <a:lnTo>
                    <a:pt x="148" y="97"/>
                  </a:lnTo>
                  <a:lnTo>
                    <a:pt x="150" y="90"/>
                  </a:lnTo>
                  <a:lnTo>
                    <a:pt x="151" y="81"/>
                  </a:lnTo>
                  <a:lnTo>
                    <a:pt x="150" y="74"/>
                  </a:lnTo>
                  <a:lnTo>
                    <a:pt x="148" y="65"/>
                  </a:lnTo>
                  <a:lnTo>
                    <a:pt x="147" y="57"/>
                  </a:lnTo>
                  <a:lnTo>
                    <a:pt x="144" y="51"/>
                  </a:lnTo>
                  <a:lnTo>
                    <a:pt x="142" y="43"/>
                  </a:lnTo>
                  <a:lnTo>
                    <a:pt x="138" y="37"/>
                  </a:lnTo>
                  <a:lnTo>
                    <a:pt x="133" y="30"/>
                  </a:lnTo>
                  <a:lnTo>
                    <a:pt x="128" y="24"/>
                  </a:lnTo>
                  <a:lnTo>
                    <a:pt x="122" y="18"/>
                  </a:lnTo>
                  <a:lnTo>
                    <a:pt x="117" y="14"/>
                  </a:lnTo>
                  <a:lnTo>
                    <a:pt x="111" y="10"/>
                  </a:lnTo>
                  <a:lnTo>
                    <a:pt x="104" y="7"/>
                  </a:lnTo>
                  <a:lnTo>
                    <a:pt x="98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32600" y="904680"/>
              <a:ext cx="176400" cy="179640"/>
            </a:xfrm>
            <a:custGeom>
              <a:avLst/>
              <a:gdLst/>
              <a:ahLst/>
              <a:rect l="l" t="t" r="r" b="b"/>
              <a:pathLst>
                <a:path w="446" h="452">
                  <a:moveTo>
                    <a:pt x="223" y="0"/>
                  </a:moveTo>
                  <a:lnTo>
                    <a:pt x="246" y="1"/>
                  </a:lnTo>
                  <a:lnTo>
                    <a:pt x="267" y="5"/>
                  </a:lnTo>
                  <a:lnTo>
                    <a:pt x="278" y="7"/>
                  </a:lnTo>
                  <a:lnTo>
                    <a:pt x="289" y="10"/>
                  </a:lnTo>
                  <a:lnTo>
                    <a:pt x="299" y="13"/>
                  </a:lnTo>
                  <a:lnTo>
                    <a:pt x="308" y="17"/>
                  </a:lnTo>
                  <a:lnTo>
                    <a:pt x="318" y="21"/>
                  </a:lnTo>
                  <a:lnTo>
                    <a:pt x="328" y="26"/>
                  </a:lnTo>
                  <a:lnTo>
                    <a:pt x="337" y="32"/>
                  </a:lnTo>
                  <a:lnTo>
                    <a:pt x="346" y="37"/>
                  </a:lnTo>
                  <a:lnTo>
                    <a:pt x="363" y="51"/>
                  </a:lnTo>
                  <a:lnTo>
                    <a:pt x="381" y="66"/>
                  </a:lnTo>
                  <a:lnTo>
                    <a:pt x="396" y="84"/>
                  </a:lnTo>
                  <a:lnTo>
                    <a:pt x="409" y="102"/>
                  </a:lnTo>
                  <a:lnTo>
                    <a:pt x="415" y="111"/>
                  </a:lnTo>
                  <a:lnTo>
                    <a:pt x="421" y="120"/>
                  </a:lnTo>
                  <a:lnTo>
                    <a:pt x="425" y="130"/>
                  </a:lnTo>
                  <a:lnTo>
                    <a:pt x="429" y="140"/>
                  </a:lnTo>
                  <a:lnTo>
                    <a:pt x="434" y="149"/>
                  </a:lnTo>
                  <a:lnTo>
                    <a:pt x="437" y="160"/>
                  </a:lnTo>
                  <a:lnTo>
                    <a:pt x="439" y="171"/>
                  </a:lnTo>
                  <a:lnTo>
                    <a:pt x="441" y="181"/>
                  </a:lnTo>
                  <a:lnTo>
                    <a:pt x="444" y="203"/>
                  </a:lnTo>
                  <a:lnTo>
                    <a:pt x="446" y="226"/>
                  </a:lnTo>
                  <a:lnTo>
                    <a:pt x="444" y="249"/>
                  </a:lnTo>
                  <a:lnTo>
                    <a:pt x="441" y="271"/>
                  </a:lnTo>
                  <a:lnTo>
                    <a:pt x="439" y="282"/>
                  </a:lnTo>
                  <a:lnTo>
                    <a:pt x="437" y="293"/>
                  </a:lnTo>
                  <a:lnTo>
                    <a:pt x="434" y="303"/>
                  </a:lnTo>
                  <a:lnTo>
                    <a:pt x="429" y="313"/>
                  </a:lnTo>
                  <a:lnTo>
                    <a:pt x="425" y="323"/>
                  </a:lnTo>
                  <a:lnTo>
                    <a:pt x="421" y="332"/>
                  </a:lnTo>
                  <a:lnTo>
                    <a:pt x="415" y="342"/>
                  </a:lnTo>
                  <a:lnTo>
                    <a:pt x="409" y="351"/>
                  </a:lnTo>
                  <a:lnTo>
                    <a:pt x="396" y="369"/>
                  </a:lnTo>
                  <a:lnTo>
                    <a:pt x="381" y="386"/>
                  </a:lnTo>
                  <a:lnTo>
                    <a:pt x="365" y="401"/>
                  </a:lnTo>
                  <a:lnTo>
                    <a:pt x="347" y="415"/>
                  </a:lnTo>
                  <a:lnTo>
                    <a:pt x="337" y="421"/>
                  </a:lnTo>
                  <a:lnTo>
                    <a:pt x="329" y="426"/>
                  </a:lnTo>
                  <a:lnTo>
                    <a:pt x="319" y="431"/>
                  </a:lnTo>
                  <a:lnTo>
                    <a:pt x="309" y="436"/>
                  </a:lnTo>
                  <a:lnTo>
                    <a:pt x="300" y="439"/>
                  </a:lnTo>
                  <a:lnTo>
                    <a:pt x="289" y="442"/>
                  </a:lnTo>
                  <a:lnTo>
                    <a:pt x="279" y="445"/>
                  </a:lnTo>
                  <a:lnTo>
                    <a:pt x="268" y="448"/>
                  </a:lnTo>
                  <a:lnTo>
                    <a:pt x="246" y="451"/>
                  </a:lnTo>
                  <a:lnTo>
                    <a:pt x="223" y="452"/>
                  </a:lnTo>
                  <a:lnTo>
                    <a:pt x="200" y="451"/>
                  </a:lnTo>
                  <a:lnTo>
                    <a:pt x="179" y="448"/>
                  </a:lnTo>
                  <a:lnTo>
                    <a:pt x="168" y="445"/>
                  </a:lnTo>
                  <a:lnTo>
                    <a:pt x="158" y="442"/>
                  </a:lnTo>
                  <a:lnTo>
                    <a:pt x="147" y="439"/>
                  </a:lnTo>
                  <a:lnTo>
                    <a:pt x="138" y="436"/>
                  </a:lnTo>
                  <a:lnTo>
                    <a:pt x="128" y="431"/>
                  </a:lnTo>
                  <a:lnTo>
                    <a:pt x="118" y="426"/>
                  </a:lnTo>
                  <a:lnTo>
                    <a:pt x="108" y="421"/>
                  </a:lnTo>
                  <a:lnTo>
                    <a:pt x="100" y="415"/>
                  </a:lnTo>
                  <a:lnTo>
                    <a:pt x="91" y="409"/>
                  </a:lnTo>
                  <a:lnTo>
                    <a:pt x="82" y="401"/>
                  </a:lnTo>
                  <a:lnTo>
                    <a:pt x="74" y="394"/>
                  </a:lnTo>
                  <a:lnTo>
                    <a:pt x="65" y="386"/>
                  </a:lnTo>
                  <a:lnTo>
                    <a:pt x="50" y="369"/>
                  </a:lnTo>
                  <a:lnTo>
                    <a:pt x="37" y="351"/>
                  </a:lnTo>
                  <a:lnTo>
                    <a:pt x="32" y="342"/>
                  </a:lnTo>
                  <a:lnTo>
                    <a:pt x="26" y="332"/>
                  </a:lnTo>
                  <a:lnTo>
                    <a:pt x="21" y="323"/>
                  </a:lnTo>
                  <a:lnTo>
                    <a:pt x="17" y="313"/>
                  </a:lnTo>
                  <a:lnTo>
                    <a:pt x="13" y="303"/>
                  </a:lnTo>
                  <a:lnTo>
                    <a:pt x="10" y="293"/>
                  </a:lnTo>
                  <a:lnTo>
                    <a:pt x="7" y="282"/>
                  </a:lnTo>
                  <a:lnTo>
                    <a:pt x="5" y="271"/>
                  </a:lnTo>
                  <a:lnTo>
                    <a:pt x="1" y="249"/>
                  </a:lnTo>
                  <a:lnTo>
                    <a:pt x="0" y="226"/>
                  </a:lnTo>
                  <a:lnTo>
                    <a:pt x="1" y="203"/>
                  </a:lnTo>
                  <a:lnTo>
                    <a:pt x="5" y="181"/>
                  </a:lnTo>
                  <a:lnTo>
                    <a:pt x="7" y="170"/>
                  </a:lnTo>
                  <a:lnTo>
                    <a:pt x="10" y="160"/>
                  </a:lnTo>
                  <a:lnTo>
                    <a:pt x="13" y="149"/>
                  </a:lnTo>
                  <a:lnTo>
                    <a:pt x="17" y="140"/>
                  </a:lnTo>
                  <a:lnTo>
                    <a:pt x="21" y="130"/>
                  </a:lnTo>
                  <a:lnTo>
                    <a:pt x="26" y="120"/>
                  </a:lnTo>
                  <a:lnTo>
                    <a:pt x="32" y="111"/>
                  </a:lnTo>
                  <a:lnTo>
                    <a:pt x="37" y="101"/>
                  </a:lnTo>
                  <a:lnTo>
                    <a:pt x="50" y="84"/>
                  </a:lnTo>
                  <a:lnTo>
                    <a:pt x="66" y="66"/>
                  </a:lnTo>
                  <a:lnTo>
                    <a:pt x="82" y="51"/>
                  </a:lnTo>
                  <a:lnTo>
                    <a:pt x="100" y="37"/>
                  </a:lnTo>
                  <a:lnTo>
                    <a:pt x="109" y="32"/>
                  </a:lnTo>
                  <a:lnTo>
                    <a:pt x="118" y="26"/>
                  </a:lnTo>
                  <a:lnTo>
                    <a:pt x="128" y="21"/>
                  </a:lnTo>
                  <a:lnTo>
                    <a:pt x="138" y="17"/>
                  </a:lnTo>
                  <a:lnTo>
                    <a:pt x="147" y="13"/>
                  </a:lnTo>
                  <a:lnTo>
                    <a:pt x="158" y="10"/>
                  </a:lnTo>
                  <a:lnTo>
                    <a:pt x="168" y="7"/>
                  </a:lnTo>
                  <a:lnTo>
                    <a:pt x="179" y="5"/>
                  </a:lnTo>
                  <a:lnTo>
                    <a:pt x="200" y="1"/>
                  </a:lnTo>
                  <a:lnTo>
                    <a:pt x="223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32760" y="904680"/>
              <a:ext cx="149040" cy="176400"/>
            </a:xfrm>
            <a:custGeom>
              <a:avLst/>
              <a:gdLst/>
              <a:ahLst/>
              <a:rect l="l" t="t" r="r" b="b"/>
              <a:pathLst>
                <a:path w="375" h="443">
                  <a:moveTo>
                    <a:pt x="0" y="443"/>
                  </a:moveTo>
                  <a:lnTo>
                    <a:pt x="0" y="7"/>
                  </a:lnTo>
                  <a:lnTo>
                    <a:pt x="141" y="7"/>
                  </a:lnTo>
                  <a:lnTo>
                    <a:pt x="141" y="49"/>
                  </a:lnTo>
                  <a:lnTo>
                    <a:pt x="146" y="43"/>
                  </a:lnTo>
                  <a:lnTo>
                    <a:pt x="151" y="37"/>
                  </a:lnTo>
                  <a:lnTo>
                    <a:pt x="157" y="32"/>
                  </a:lnTo>
                  <a:lnTo>
                    <a:pt x="162" y="27"/>
                  </a:lnTo>
                  <a:lnTo>
                    <a:pt x="169" y="23"/>
                  </a:lnTo>
                  <a:lnTo>
                    <a:pt x="175" y="19"/>
                  </a:lnTo>
                  <a:lnTo>
                    <a:pt x="181" y="16"/>
                  </a:lnTo>
                  <a:lnTo>
                    <a:pt x="188" y="12"/>
                  </a:lnTo>
                  <a:lnTo>
                    <a:pt x="195" y="9"/>
                  </a:lnTo>
                  <a:lnTo>
                    <a:pt x="201" y="7"/>
                  </a:lnTo>
                  <a:lnTo>
                    <a:pt x="209" y="5"/>
                  </a:lnTo>
                  <a:lnTo>
                    <a:pt x="216" y="4"/>
                  </a:lnTo>
                  <a:lnTo>
                    <a:pt x="224" y="2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64" y="0"/>
                  </a:lnTo>
                  <a:lnTo>
                    <a:pt x="278" y="3"/>
                  </a:lnTo>
                  <a:lnTo>
                    <a:pt x="291" y="6"/>
                  </a:lnTo>
                  <a:lnTo>
                    <a:pt x="304" y="9"/>
                  </a:lnTo>
                  <a:lnTo>
                    <a:pt x="314" y="15"/>
                  </a:lnTo>
                  <a:lnTo>
                    <a:pt x="325" y="21"/>
                  </a:lnTo>
                  <a:lnTo>
                    <a:pt x="334" y="29"/>
                  </a:lnTo>
                  <a:lnTo>
                    <a:pt x="343" y="38"/>
                  </a:lnTo>
                  <a:lnTo>
                    <a:pt x="350" y="48"/>
                  </a:lnTo>
                  <a:lnTo>
                    <a:pt x="357" y="59"/>
                  </a:lnTo>
                  <a:lnTo>
                    <a:pt x="362" y="71"/>
                  </a:lnTo>
                  <a:lnTo>
                    <a:pt x="367" y="85"/>
                  </a:lnTo>
                  <a:lnTo>
                    <a:pt x="371" y="99"/>
                  </a:lnTo>
                  <a:lnTo>
                    <a:pt x="373" y="114"/>
                  </a:lnTo>
                  <a:lnTo>
                    <a:pt x="375" y="131"/>
                  </a:lnTo>
                  <a:lnTo>
                    <a:pt x="375" y="148"/>
                  </a:lnTo>
                  <a:lnTo>
                    <a:pt x="375" y="443"/>
                  </a:lnTo>
                  <a:lnTo>
                    <a:pt x="231" y="443"/>
                  </a:lnTo>
                  <a:lnTo>
                    <a:pt x="231" y="211"/>
                  </a:lnTo>
                  <a:lnTo>
                    <a:pt x="231" y="202"/>
                  </a:lnTo>
                  <a:lnTo>
                    <a:pt x="231" y="194"/>
                  </a:lnTo>
                  <a:lnTo>
                    <a:pt x="230" y="186"/>
                  </a:lnTo>
                  <a:lnTo>
                    <a:pt x="229" y="180"/>
                  </a:lnTo>
                  <a:lnTo>
                    <a:pt x="228" y="173"/>
                  </a:lnTo>
                  <a:lnTo>
                    <a:pt x="226" y="168"/>
                  </a:lnTo>
                  <a:lnTo>
                    <a:pt x="225" y="164"/>
                  </a:lnTo>
                  <a:lnTo>
                    <a:pt x="223" y="159"/>
                  </a:lnTo>
                  <a:lnTo>
                    <a:pt x="219" y="156"/>
                  </a:lnTo>
                  <a:lnTo>
                    <a:pt x="216" y="154"/>
                  </a:lnTo>
                  <a:lnTo>
                    <a:pt x="213" y="151"/>
                  </a:lnTo>
                  <a:lnTo>
                    <a:pt x="210" y="148"/>
                  </a:lnTo>
                  <a:lnTo>
                    <a:pt x="205" y="147"/>
                  </a:lnTo>
                  <a:lnTo>
                    <a:pt x="201" y="146"/>
                  </a:lnTo>
                  <a:lnTo>
                    <a:pt x="196" y="145"/>
                  </a:lnTo>
                  <a:lnTo>
                    <a:pt x="190" y="145"/>
                  </a:lnTo>
                  <a:lnTo>
                    <a:pt x="185" y="145"/>
                  </a:lnTo>
                  <a:lnTo>
                    <a:pt x="179" y="146"/>
                  </a:lnTo>
                  <a:lnTo>
                    <a:pt x="174" y="147"/>
                  </a:lnTo>
                  <a:lnTo>
                    <a:pt x="170" y="150"/>
                  </a:lnTo>
                  <a:lnTo>
                    <a:pt x="165" y="152"/>
                  </a:lnTo>
                  <a:lnTo>
                    <a:pt x="162" y="155"/>
                  </a:lnTo>
                  <a:lnTo>
                    <a:pt x="159" y="158"/>
                  </a:lnTo>
                  <a:lnTo>
                    <a:pt x="156" y="162"/>
                  </a:lnTo>
                  <a:lnTo>
                    <a:pt x="152" y="167"/>
                  </a:lnTo>
                  <a:lnTo>
                    <a:pt x="150" y="172"/>
                  </a:lnTo>
                  <a:lnTo>
                    <a:pt x="148" y="178"/>
                  </a:lnTo>
                  <a:lnTo>
                    <a:pt x="146" y="183"/>
                  </a:lnTo>
                  <a:lnTo>
                    <a:pt x="145" y="189"/>
                  </a:lnTo>
                  <a:lnTo>
                    <a:pt x="144" y="197"/>
                  </a:lnTo>
                  <a:lnTo>
                    <a:pt x="144" y="205"/>
                  </a:lnTo>
                  <a:lnTo>
                    <a:pt x="144" y="212"/>
                  </a:lnTo>
                  <a:lnTo>
                    <a:pt x="144" y="443"/>
                  </a:lnTo>
                  <a:lnTo>
                    <a:pt x="0" y="44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56280" y="1328760"/>
            <a:ext cx="797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1a17"/>
                </a:solidFill>
                <a:latin typeface="Geometr231 Hv BT"/>
              </a:rPr>
              <a:t>87% of world's diseases are sexually transmitted (ST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73360" y="4648320"/>
            <a:ext cx="3759120" cy="752400"/>
            <a:chOff x="2673360" y="4648320"/>
            <a:chExt cx="3759120" cy="752400"/>
          </a:xfrm>
        </p:grpSpPr>
        <p:sp>
          <p:nvSpPr>
            <p:cNvPr id="467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73360" y="467208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2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2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2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2"/>
                  </a:lnTo>
                  <a:lnTo>
                    <a:pt x="1" y="338"/>
                  </a:lnTo>
                  <a:lnTo>
                    <a:pt x="2" y="316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5"/>
                  </a:lnTo>
                  <a:lnTo>
                    <a:pt x="15" y="222"/>
                  </a:lnTo>
                  <a:lnTo>
                    <a:pt x="19" y="199"/>
                  </a:lnTo>
                  <a:lnTo>
                    <a:pt x="26" y="175"/>
                  </a:lnTo>
                  <a:lnTo>
                    <a:pt x="32" y="152"/>
                  </a:lnTo>
                  <a:lnTo>
                    <a:pt x="40" y="130"/>
                  </a:lnTo>
                  <a:lnTo>
                    <a:pt x="47" y="107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73360" y="5159520"/>
              <a:ext cx="287280" cy="217440"/>
            </a:xfrm>
            <a:custGeom>
              <a:avLst/>
              <a:gdLst/>
              <a:ahLst/>
              <a:rect l="l" t="t" r="r" b="b"/>
              <a:pathLst>
                <a:path w="723" h="549">
                  <a:moveTo>
                    <a:pt x="723" y="361"/>
                  </a:moveTo>
                  <a:lnTo>
                    <a:pt x="25" y="549"/>
                  </a:lnTo>
                  <a:lnTo>
                    <a:pt x="20" y="525"/>
                  </a:lnTo>
                  <a:lnTo>
                    <a:pt x="15" y="501"/>
                  </a:lnTo>
                  <a:lnTo>
                    <a:pt x="11" y="479"/>
                  </a:lnTo>
                  <a:lnTo>
                    <a:pt x="7" y="455"/>
                  </a:lnTo>
                  <a:lnTo>
                    <a:pt x="4" y="431"/>
                  </a:lnTo>
                  <a:lnTo>
                    <a:pt x="2" y="408"/>
                  </a:lnTo>
                  <a:lnTo>
                    <a:pt x="1" y="385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4" y="292"/>
                  </a:lnTo>
                  <a:lnTo>
                    <a:pt x="6" y="268"/>
                  </a:lnTo>
                  <a:lnTo>
                    <a:pt x="11" y="244"/>
                  </a:lnTo>
                  <a:lnTo>
                    <a:pt x="15" y="222"/>
                  </a:lnTo>
                  <a:lnTo>
                    <a:pt x="19" y="198"/>
                  </a:lnTo>
                  <a:lnTo>
                    <a:pt x="26" y="175"/>
                  </a:lnTo>
                  <a:lnTo>
                    <a:pt x="32" y="151"/>
                  </a:lnTo>
                  <a:lnTo>
                    <a:pt x="40" y="129"/>
                  </a:lnTo>
                  <a:lnTo>
                    <a:pt x="47" y="106"/>
                  </a:lnTo>
                  <a:lnTo>
                    <a:pt x="56" y="84"/>
                  </a:lnTo>
                  <a:lnTo>
                    <a:pt x="65" y="63"/>
                  </a:lnTo>
                  <a:lnTo>
                    <a:pt x="74" y="41"/>
                  </a:lnTo>
                  <a:lnTo>
                    <a:pt x="85" y="21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2600" y="4648320"/>
              <a:ext cx="317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Sexually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24160" y="5126040"/>
              <a:ext cx="292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f1a17"/>
                  </a:solidFill>
                  <a:latin typeface="Swis721 Hv BT"/>
                </a:rPr>
                <a:t>Other transmitted dise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92440" y="4651560"/>
              <a:ext cx="287280" cy="218880"/>
            </a:xfrm>
            <a:custGeom>
              <a:avLst/>
              <a:gdLst/>
              <a:ahLst/>
              <a:rect l="l" t="t" r="r" b="b"/>
              <a:pathLst>
                <a:path w="723" h="548">
                  <a:moveTo>
                    <a:pt x="723" y="361"/>
                  </a:moveTo>
                  <a:lnTo>
                    <a:pt x="25" y="548"/>
                  </a:lnTo>
                  <a:lnTo>
                    <a:pt x="21" y="524"/>
                  </a:lnTo>
                  <a:lnTo>
                    <a:pt x="15" y="502"/>
                  </a:lnTo>
                  <a:lnTo>
                    <a:pt x="11" y="478"/>
                  </a:lnTo>
                  <a:lnTo>
                    <a:pt x="8" y="454"/>
                  </a:lnTo>
                  <a:lnTo>
                    <a:pt x="5" y="432"/>
                  </a:lnTo>
                  <a:lnTo>
                    <a:pt x="2" y="408"/>
                  </a:lnTo>
                  <a:lnTo>
                    <a:pt x="1" y="384"/>
                  </a:lnTo>
                  <a:lnTo>
                    <a:pt x="0" y="361"/>
                  </a:lnTo>
                  <a:lnTo>
                    <a:pt x="1" y="338"/>
                  </a:lnTo>
                  <a:lnTo>
                    <a:pt x="2" y="315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5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5"/>
                  </a:lnTo>
                  <a:lnTo>
                    <a:pt x="33" y="152"/>
                  </a:lnTo>
                  <a:lnTo>
                    <a:pt x="40" y="129"/>
                  </a:lnTo>
                  <a:lnTo>
                    <a:pt x="48" y="106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92440" y="5138640"/>
              <a:ext cx="287280" cy="217800"/>
            </a:xfrm>
            <a:custGeom>
              <a:avLst/>
              <a:gdLst/>
              <a:ahLst/>
              <a:rect l="l" t="t" r="r" b="b"/>
              <a:pathLst>
                <a:path w="723" h="547">
                  <a:moveTo>
                    <a:pt x="723" y="360"/>
                  </a:moveTo>
                  <a:lnTo>
                    <a:pt x="25" y="547"/>
                  </a:lnTo>
                  <a:lnTo>
                    <a:pt x="21" y="524"/>
                  </a:lnTo>
                  <a:lnTo>
                    <a:pt x="15" y="501"/>
                  </a:lnTo>
                  <a:lnTo>
                    <a:pt x="11" y="477"/>
                  </a:lnTo>
                  <a:lnTo>
                    <a:pt x="8" y="454"/>
                  </a:lnTo>
                  <a:lnTo>
                    <a:pt x="5" y="430"/>
                  </a:lnTo>
                  <a:lnTo>
                    <a:pt x="2" y="407"/>
                  </a:lnTo>
                  <a:lnTo>
                    <a:pt x="1" y="384"/>
                  </a:lnTo>
                  <a:lnTo>
                    <a:pt x="0" y="360"/>
                  </a:lnTo>
                  <a:lnTo>
                    <a:pt x="1" y="338"/>
                  </a:lnTo>
                  <a:lnTo>
                    <a:pt x="2" y="314"/>
                  </a:lnTo>
                  <a:lnTo>
                    <a:pt x="5" y="291"/>
                  </a:lnTo>
                  <a:lnTo>
                    <a:pt x="7" y="267"/>
                  </a:lnTo>
                  <a:lnTo>
                    <a:pt x="11" y="244"/>
                  </a:lnTo>
                  <a:lnTo>
                    <a:pt x="15" y="221"/>
                  </a:lnTo>
                  <a:lnTo>
                    <a:pt x="21" y="197"/>
                  </a:lnTo>
                  <a:lnTo>
                    <a:pt x="26" y="174"/>
                  </a:lnTo>
                  <a:lnTo>
                    <a:pt x="33" y="151"/>
                  </a:lnTo>
                  <a:lnTo>
                    <a:pt x="40" y="128"/>
                  </a:lnTo>
                  <a:lnTo>
                    <a:pt x="48" y="105"/>
                  </a:lnTo>
                  <a:lnTo>
                    <a:pt x="57" y="84"/>
                  </a:lnTo>
                  <a:lnTo>
                    <a:pt x="65" y="62"/>
                  </a:lnTo>
                  <a:lnTo>
                    <a:pt x="75" y="41"/>
                  </a:lnTo>
                  <a:lnTo>
                    <a:pt x="86" y="20"/>
                  </a:lnTo>
                  <a:lnTo>
                    <a:pt x="96" y="0"/>
                  </a:lnTo>
                  <a:lnTo>
                    <a:pt x="723" y="36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716200" y="1981080"/>
            <a:ext cx="3727440" cy="2419560"/>
            <a:chOff x="2716200" y="1981080"/>
            <a:chExt cx="3727440" cy="2419560"/>
          </a:xfrm>
        </p:grpSpPr>
        <p:grpSp>
          <p:nvGrpSpPr>
            <p:cNvPr id="478" name=""/>
            <p:cNvGrpSpPr/>
            <p:nvPr/>
          </p:nvGrpSpPr>
          <p:grpSpPr>
            <a:xfrm>
              <a:off x="3532320" y="2367000"/>
              <a:ext cx="2906640" cy="2033640"/>
              <a:chOff x="3532320" y="2367000"/>
              <a:chExt cx="2906640" cy="2033640"/>
            </a:xfrm>
          </p:grpSpPr>
          <p:sp>
            <p:nvSpPr>
              <p:cNvPr id="479" name=""/>
              <p:cNvSpPr/>
              <p:nvPr/>
            </p:nvSpPr>
            <p:spPr>
              <a:xfrm>
                <a:off x="6424560" y="3009960"/>
                <a:ext cx="14400" cy="463320"/>
              </a:xfrm>
              <a:custGeom>
                <a:avLst/>
                <a:gdLst/>
                <a:ahLst/>
                <a:rect l="l" t="t" r="r" b="b"/>
                <a:pathLst>
                  <a:path w="37" h="1165">
                    <a:moveTo>
                      <a:pt x="37" y="0"/>
                    </a:moveTo>
                    <a:lnTo>
                      <a:pt x="37" y="941"/>
                    </a:lnTo>
                    <a:lnTo>
                      <a:pt x="13" y="941"/>
                    </a:lnTo>
                    <a:lnTo>
                      <a:pt x="13" y="941"/>
                    </a:lnTo>
                    <a:lnTo>
                      <a:pt x="14" y="941"/>
                    </a:lnTo>
                    <a:lnTo>
                      <a:pt x="15" y="941"/>
                    </a:lnTo>
                    <a:lnTo>
                      <a:pt x="15" y="941"/>
                    </a:lnTo>
                    <a:lnTo>
                      <a:pt x="16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41"/>
                    </a:lnTo>
                    <a:lnTo>
                      <a:pt x="17" y="970"/>
                    </a:lnTo>
                    <a:lnTo>
                      <a:pt x="16" y="998"/>
                    </a:lnTo>
                    <a:lnTo>
                      <a:pt x="15" y="1026"/>
                    </a:lnTo>
                    <a:lnTo>
                      <a:pt x="13" y="1054"/>
                    </a:lnTo>
                    <a:lnTo>
                      <a:pt x="11" y="1082"/>
                    </a:lnTo>
                    <a:lnTo>
                      <a:pt x="8" y="1110"/>
                    </a:lnTo>
                    <a:lnTo>
                      <a:pt x="3" y="1137"/>
                    </a:lnTo>
                    <a:lnTo>
                      <a:pt x="0" y="1165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8720" y="3009960"/>
                <a:ext cx="30240" cy="528480"/>
              </a:xfrm>
              <a:custGeom>
                <a:avLst/>
                <a:gdLst/>
                <a:ahLst/>
                <a:rect l="l" t="t" r="r" b="b"/>
                <a:pathLst>
                  <a:path w="74" h="1333">
                    <a:moveTo>
                      <a:pt x="74" y="0"/>
                    </a:moveTo>
                    <a:lnTo>
                      <a:pt x="74" y="941"/>
                    </a:lnTo>
                    <a:lnTo>
                      <a:pt x="50" y="941"/>
                    </a:lnTo>
                    <a:lnTo>
                      <a:pt x="50" y="941"/>
                    </a:lnTo>
                    <a:lnTo>
                      <a:pt x="51" y="941"/>
                    </a:lnTo>
                    <a:lnTo>
                      <a:pt x="52" y="941"/>
                    </a:lnTo>
                    <a:lnTo>
                      <a:pt x="52" y="941"/>
                    </a:lnTo>
                    <a:lnTo>
                      <a:pt x="53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41"/>
                    </a:lnTo>
                    <a:lnTo>
                      <a:pt x="54" y="992"/>
                    </a:lnTo>
                    <a:lnTo>
                      <a:pt x="51" y="1041"/>
                    </a:lnTo>
                    <a:lnTo>
                      <a:pt x="47" y="1090"/>
                    </a:lnTo>
                    <a:lnTo>
                      <a:pt x="41" y="1139"/>
                    </a:lnTo>
                    <a:lnTo>
                      <a:pt x="33" y="1188"/>
                    </a:lnTo>
                    <a:lnTo>
                      <a:pt x="24" y="1237"/>
                    </a:lnTo>
                    <a:lnTo>
                      <a:pt x="12" y="1285"/>
                    </a:lnTo>
                    <a:lnTo>
                      <a:pt x="0" y="1333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4320" y="3009960"/>
                <a:ext cx="30240" cy="574560"/>
              </a:xfrm>
              <a:custGeom>
                <a:avLst/>
                <a:gdLst/>
                <a:ahLst/>
                <a:rect l="l" t="t" r="r" b="b"/>
                <a:pathLst>
                  <a:path w="73" h="1445">
                    <a:moveTo>
                      <a:pt x="73" y="0"/>
                    </a:moveTo>
                    <a:lnTo>
                      <a:pt x="73" y="1165"/>
                    </a:lnTo>
                    <a:lnTo>
                      <a:pt x="67" y="1201"/>
                    </a:lnTo>
                    <a:lnTo>
                      <a:pt x="60" y="1237"/>
                    </a:lnTo>
                    <a:lnTo>
                      <a:pt x="51" y="1271"/>
                    </a:lnTo>
                    <a:lnTo>
                      <a:pt x="43" y="1307"/>
                    </a:lnTo>
                    <a:lnTo>
                      <a:pt x="33" y="1341"/>
                    </a:lnTo>
                    <a:lnTo>
                      <a:pt x="23" y="1376"/>
                    </a:lnTo>
                    <a:lnTo>
                      <a:pt x="11" y="1412"/>
                    </a:lnTo>
                    <a:lnTo>
                      <a:pt x="0" y="144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80280" y="3009960"/>
                <a:ext cx="28440" cy="609480"/>
              </a:xfrm>
              <a:custGeom>
                <a:avLst/>
                <a:gdLst/>
                <a:ahLst/>
                <a:rect l="l" t="t" r="r" b="b"/>
                <a:pathLst>
                  <a:path w="73" h="1537">
                    <a:moveTo>
                      <a:pt x="73" y="0"/>
                    </a:moveTo>
                    <a:lnTo>
                      <a:pt x="73" y="1333"/>
                    </a:lnTo>
                    <a:lnTo>
                      <a:pt x="66" y="1359"/>
                    </a:lnTo>
                    <a:lnTo>
                      <a:pt x="57" y="1385"/>
                    </a:lnTo>
                    <a:lnTo>
                      <a:pt x="50" y="1411"/>
                    </a:lnTo>
                    <a:lnTo>
                      <a:pt x="40" y="1435"/>
                    </a:lnTo>
                    <a:lnTo>
                      <a:pt x="31" y="1461"/>
                    </a:lnTo>
                    <a:lnTo>
                      <a:pt x="20" y="1486"/>
                    </a:lnTo>
                    <a:lnTo>
                      <a:pt x="11" y="1511"/>
                    </a:lnTo>
                    <a:lnTo>
                      <a:pt x="0" y="1537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5880" y="3009960"/>
                <a:ext cx="28440" cy="641160"/>
              </a:xfrm>
              <a:custGeom>
                <a:avLst/>
                <a:gdLst/>
                <a:ahLst/>
                <a:rect l="l" t="t" r="r" b="b"/>
                <a:pathLst>
                  <a:path w="74" h="1615">
                    <a:moveTo>
                      <a:pt x="74" y="0"/>
                    </a:moveTo>
                    <a:lnTo>
                      <a:pt x="74" y="1445"/>
                    </a:lnTo>
                    <a:lnTo>
                      <a:pt x="65" y="1467"/>
                    </a:lnTo>
                    <a:lnTo>
                      <a:pt x="57" y="1488"/>
                    </a:lnTo>
                    <a:lnTo>
                      <a:pt x="49" y="1510"/>
                    </a:lnTo>
                    <a:lnTo>
                      <a:pt x="39" y="1530"/>
                    </a:lnTo>
                    <a:lnTo>
                      <a:pt x="30" y="1552"/>
                    </a:lnTo>
                    <a:lnTo>
                      <a:pt x="21" y="1573"/>
                    </a:lnTo>
                    <a:lnTo>
                      <a:pt x="11" y="1594"/>
                    </a:lnTo>
                    <a:lnTo>
                      <a:pt x="0" y="161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51480" y="3009960"/>
                <a:ext cx="28800" cy="668160"/>
              </a:xfrm>
              <a:custGeom>
                <a:avLst/>
                <a:gdLst/>
                <a:ahLst/>
                <a:rect l="l" t="t" r="r" b="b"/>
                <a:pathLst>
                  <a:path w="74" h="1685">
                    <a:moveTo>
                      <a:pt x="74" y="0"/>
                    </a:moveTo>
                    <a:lnTo>
                      <a:pt x="74" y="1537"/>
                    </a:lnTo>
                    <a:lnTo>
                      <a:pt x="65" y="1555"/>
                    </a:lnTo>
                    <a:lnTo>
                      <a:pt x="57" y="1574"/>
                    </a:lnTo>
                    <a:lnTo>
                      <a:pt x="48" y="1592"/>
                    </a:lnTo>
                    <a:lnTo>
                      <a:pt x="39" y="1610"/>
                    </a:lnTo>
                    <a:lnTo>
                      <a:pt x="30" y="1630"/>
                    </a:lnTo>
                    <a:lnTo>
                      <a:pt x="20" y="1648"/>
                    </a:lnTo>
                    <a:lnTo>
                      <a:pt x="10" y="1667"/>
                    </a:lnTo>
                    <a:lnTo>
                      <a:pt x="0" y="1685"/>
                    </a:lnTo>
                    <a:lnTo>
                      <a:pt x="0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35640" y="3009960"/>
                <a:ext cx="30240" cy="693720"/>
              </a:xfrm>
              <a:custGeom>
                <a:avLst/>
                <a:gdLst/>
                <a:ahLst/>
                <a:rect l="l" t="t" r="r" b="b"/>
                <a:pathLst>
                  <a:path w="73" h="1748">
                    <a:moveTo>
                      <a:pt x="73" y="0"/>
                    </a:moveTo>
                    <a:lnTo>
                      <a:pt x="73" y="1615"/>
                    </a:lnTo>
                    <a:lnTo>
                      <a:pt x="64" y="1632"/>
                    </a:lnTo>
                    <a:lnTo>
                      <a:pt x="56" y="1648"/>
                    </a:lnTo>
                    <a:lnTo>
                      <a:pt x="47" y="1664"/>
                    </a:lnTo>
                    <a:lnTo>
                      <a:pt x="39" y="1682"/>
                    </a:lnTo>
                    <a:lnTo>
                      <a:pt x="29" y="1698"/>
                    </a:lnTo>
                    <a:lnTo>
                      <a:pt x="19" y="1714"/>
                    </a:lnTo>
                    <a:lnTo>
                      <a:pt x="9" y="1731"/>
                    </a:lnTo>
                    <a:lnTo>
                      <a:pt x="0" y="1748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21600" y="3009960"/>
                <a:ext cx="29880" cy="715680"/>
              </a:xfrm>
              <a:custGeom>
                <a:avLst/>
                <a:gdLst/>
                <a:ahLst/>
                <a:rect l="l" t="t" r="r" b="b"/>
                <a:pathLst>
                  <a:path w="73" h="1805">
                    <a:moveTo>
                      <a:pt x="73" y="0"/>
                    </a:moveTo>
                    <a:lnTo>
                      <a:pt x="73" y="1685"/>
                    </a:lnTo>
                    <a:lnTo>
                      <a:pt x="65" y="1700"/>
                    </a:lnTo>
                    <a:lnTo>
                      <a:pt x="56" y="1715"/>
                    </a:lnTo>
                    <a:lnTo>
                      <a:pt x="47" y="1730"/>
                    </a:lnTo>
                    <a:lnTo>
                      <a:pt x="39" y="1745"/>
                    </a:lnTo>
                    <a:lnTo>
                      <a:pt x="29" y="1760"/>
                    </a:lnTo>
                    <a:lnTo>
                      <a:pt x="19" y="1776"/>
                    </a:lnTo>
                    <a:lnTo>
                      <a:pt x="10" y="1791"/>
                    </a:lnTo>
                    <a:lnTo>
                      <a:pt x="0" y="1805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07200" y="3009960"/>
                <a:ext cx="28440" cy="738000"/>
              </a:xfrm>
              <a:custGeom>
                <a:avLst/>
                <a:gdLst/>
                <a:ahLst/>
                <a:rect l="l" t="t" r="r" b="b"/>
                <a:pathLst>
                  <a:path w="73" h="1859">
                    <a:moveTo>
                      <a:pt x="73" y="0"/>
                    </a:moveTo>
                    <a:lnTo>
                      <a:pt x="73" y="1748"/>
                    </a:lnTo>
                    <a:lnTo>
                      <a:pt x="64" y="1762"/>
                    </a:lnTo>
                    <a:lnTo>
                      <a:pt x="55" y="1776"/>
                    </a:lnTo>
                    <a:lnTo>
                      <a:pt x="47" y="1790"/>
                    </a:lnTo>
                    <a:lnTo>
                      <a:pt x="37" y="1804"/>
                    </a:lnTo>
                    <a:lnTo>
                      <a:pt x="28" y="1818"/>
                    </a:lnTo>
                    <a:lnTo>
                      <a:pt x="19" y="1832"/>
                    </a:lnTo>
                    <a:lnTo>
                      <a:pt x="9" y="1845"/>
                    </a:lnTo>
                    <a:lnTo>
                      <a:pt x="0" y="1859"/>
                    </a:lnTo>
                    <a:lnTo>
                      <a:pt x="0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92800" y="3002040"/>
                <a:ext cx="28800" cy="766800"/>
              </a:xfrm>
              <a:custGeom>
                <a:avLst/>
                <a:gdLst/>
                <a:ahLst/>
                <a:rect l="l" t="t" r="r" b="b"/>
                <a:pathLst>
                  <a:path w="72" h="1930">
                    <a:moveTo>
                      <a:pt x="72" y="20"/>
                    </a:moveTo>
                    <a:lnTo>
                      <a:pt x="72" y="1825"/>
                    </a:lnTo>
                    <a:lnTo>
                      <a:pt x="63" y="1839"/>
                    </a:lnTo>
                    <a:lnTo>
                      <a:pt x="55" y="1852"/>
                    </a:lnTo>
                    <a:lnTo>
                      <a:pt x="46" y="1865"/>
                    </a:lnTo>
                    <a:lnTo>
                      <a:pt x="36" y="1878"/>
                    </a:lnTo>
                    <a:lnTo>
                      <a:pt x="28" y="1891"/>
                    </a:lnTo>
                    <a:lnTo>
                      <a:pt x="18" y="1904"/>
                    </a:lnTo>
                    <a:lnTo>
                      <a:pt x="9" y="1917"/>
                    </a:lnTo>
                    <a:lnTo>
                      <a:pt x="0" y="193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9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5" y="20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8400" y="2982960"/>
                <a:ext cx="28800" cy="804600"/>
              </a:xfrm>
              <a:custGeom>
                <a:avLst/>
                <a:gdLst/>
                <a:ahLst/>
                <a:rect l="l" t="t" r="r" b="b"/>
                <a:pathLst>
                  <a:path w="73" h="2025">
                    <a:moveTo>
                      <a:pt x="73" y="68"/>
                    </a:moveTo>
                    <a:lnTo>
                      <a:pt x="73" y="1927"/>
                    </a:lnTo>
                    <a:lnTo>
                      <a:pt x="64" y="1940"/>
                    </a:lnTo>
                    <a:lnTo>
                      <a:pt x="55" y="1952"/>
                    </a:lnTo>
                    <a:lnTo>
                      <a:pt x="46" y="1963"/>
                    </a:lnTo>
                    <a:lnTo>
                      <a:pt x="37" y="1976"/>
                    </a:lnTo>
                    <a:lnTo>
                      <a:pt x="28" y="1988"/>
                    </a:lnTo>
                    <a:lnTo>
                      <a:pt x="18" y="2000"/>
                    </a:lnTo>
                    <a:lnTo>
                      <a:pt x="10" y="2013"/>
                    </a:lnTo>
                    <a:lnTo>
                      <a:pt x="0" y="2025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6" y="34"/>
                    </a:lnTo>
                    <a:lnTo>
                      <a:pt x="32" y="42"/>
                    </a:lnTo>
                    <a:lnTo>
                      <a:pt x="39" y="51"/>
                    </a:lnTo>
                    <a:lnTo>
                      <a:pt x="45" y="59"/>
                    </a:lnTo>
                    <a:lnTo>
                      <a:pt x="52" y="68"/>
                    </a:lnTo>
                    <a:lnTo>
                      <a:pt x="73" y="68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4360" y="2965320"/>
                <a:ext cx="28440" cy="839880"/>
              </a:xfrm>
              <a:custGeom>
                <a:avLst/>
                <a:gdLst/>
                <a:ahLst/>
                <a:rect l="l" t="t" r="r" b="b"/>
                <a:pathLst>
                  <a:path w="74" h="2115">
                    <a:moveTo>
                      <a:pt x="74" y="93"/>
                    </a:moveTo>
                    <a:lnTo>
                      <a:pt x="74" y="2023"/>
                    </a:lnTo>
                    <a:lnTo>
                      <a:pt x="64" y="2034"/>
                    </a:lnTo>
                    <a:lnTo>
                      <a:pt x="55" y="2046"/>
                    </a:lnTo>
                    <a:lnTo>
                      <a:pt x="47" y="2057"/>
                    </a:lnTo>
                    <a:lnTo>
                      <a:pt x="38" y="2069"/>
                    </a:lnTo>
                    <a:lnTo>
                      <a:pt x="28" y="2081"/>
                    </a:lnTo>
                    <a:lnTo>
                      <a:pt x="18" y="2092"/>
                    </a:lnTo>
                    <a:lnTo>
                      <a:pt x="10" y="2104"/>
                    </a:lnTo>
                    <a:lnTo>
                      <a:pt x="0" y="2115"/>
                    </a:lnTo>
                    <a:lnTo>
                      <a:pt x="0" y="0"/>
                    </a:lnTo>
                    <a:lnTo>
                      <a:pt x="10" y="12"/>
                    </a:lnTo>
                    <a:lnTo>
                      <a:pt x="18" y="23"/>
                    </a:lnTo>
                    <a:lnTo>
                      <a:pt x="28" y="34"/>
                    </a:lnTo>
                    <a:lnTo>
                      <a:pt x="37" y="46"/>
                    </a:lnTo>
                    <a:lnTo>
                      <a:pt x="47" y="58"/>
                    </a:lnTo>
                    <a:lnTo>
                      <a:pt x="55" y="69"/>
                    </a:lnTo>
                    <a:lnTo>
                      <a:pt x="64" y="81"/>
                    </a:lnTo>
                    <a:lnTo>
                      <a:pt x="74" y="9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49960" y="2948040"/>
                <a:ext cx="28440" cy="873000"/>
              </a:xfrm>
              <a:custGeom>
                <a:avLst/>
                <a:gdLst/>
                <a:ahLst/>
                <a:rect l="l" t="t" r="r" b="b"/>
                <a:pathLst>
                  <a:path w="74" h="2200">
                    <a:moveTo>
                      <a:pt x="74" y="87"/>
                    </a:moveTo>
                    <a:lnTo>
                      <a:pt x="74" y="2112"/>
                    </a:lnTo>
                    <a:lnTo>
                      <a:pt x="65" y="2123"/>
                    </a:lnTo>
                    <a:lnTo>
                      <a:pt x="55" y="2134"/>
                    </a:lnTo>
                    <a:lnTo>
                      <a:pt x="47" y="2146"/>
                    </a:lnTo>
                    <a:lnTo>
                      <a:pt x="38" y="2156"/>
                    </a:lnTo>
                    <a:lnTo>
                      <a:pt x="28" y="2167"/>
                    </a:lnTo>
                    <a:lnTo>
                      <a:pt x="19" y="2178"/>
                    </a:lnTo>
                    <a:lnTo>
                      <a:pt x="10" y="2189"/>
                    </a:lnTo>
                    <a:lnTo>
                      <a:pt x="0" y="2200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19" y="21"/>
                    </a:lnTo>
                    <a:lnTo>
                      <a:pt x="28" y="32"/>
                    </a:lnTo>
                    <a:lnTo>
                      <a:pt x="38" y="43"/>
                    </a:lnTo>
                    <a:lnTo>
                      <a:pt x="47" y="54"/>
                    </a:lnTo>
                    <a:lnTo>
                      <a:pt x="55" y="65"/>
                    </a:lnTo>
                    <a:lnTo>
                      <a:pt x="65" y="76"/>
                    </a:lnTo>
                    <a:lnTo>
                      <a:pt x="74" y="87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34120" y="2932200"/>
                <a:ext cx="30240" cy="906480"/>
              </a:xfrm>
              <a:custGeom>
                <a:avLst/>
                <a:gdLst/>
                <a:ahLst/>
                <a:rect l="l" t="t" r="r" b="b"/>
                <a:pathLst>
                  <a:path w="73" h="2282">
                    <a:moveTo>
                      <a:pt x="73" y="83"/>
                    </a:moveTo>
                    <a:lnTo>
                      <a:pt x="73" y="2198"/>
                    </a:lnTo>
                    <a:lnTo>
                      <a:pt x="64" y="2209"/>
                    </a:lnTo>
                    <a:lnTo>
                      <a:pt x="55" y="2219"/>
                    </a:lnTo>
                    <a:lnTo>
                      <a:pt x="46" y="2230"/>
                    </a:lnTo>
                    <a:lnTo>
                      <a:pt x="37" y="2241"/>
                    </a:lnTo>
                    <a:lnTo>
                      <a:pt x="28" y="2250"/>
                    </a:lnTo>
                    <a:lnTo>
                      <a:pt x="18" y="2261"/>
                    </a:lnTo>
                    <a:lnTo>
                      <a:pt x="9" y="2271"/>
                    </a:lnTo>
                    <a:lnTo>
                      <a:pt x="0" y="2282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9" y="20"/>
                    </a:lnTo>
                    <a:lnTo>
                      <a:pt x="28" y="31"/>
                    </a:lnTo>
                    <a:lnTo>
                      <a:pt x="37" y="41"/>
                    </a:lnTo>
                    <a:lnTo>
                      <a:pt x="46" y="51"/>
                    </a:lnTo>
                    <a:lnTo>
                      <a:pt x="55" y="62"/>
                    </a:lnTo>
                    <a:lnTo>
                      <a:pt x="64" y="73"/>
                    </a:lnTo>
                    <a:lnTo>
                      <a:pt x="73" y="83"/>
                    </a:lnTo>
                    <a:close/>
                  </a:path>
                </a:pathLst>
              </a:custGeom>
              <a:solidFill>
                <a:srgbClr val="91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19720" y="2916360"/>
                <a:ext cx="30240" cy="936360"/>
              </a:xfrm>
              <a:custGeom>
                <a:avLst/>
                <a:gdLst/>
                <a:ahLst/>
                <a:rect l="l" t="t" r="r" b="b"/>
                <a:pathLst>
                  <a:path w="73" h="2359">
                    <a:moveTo>
                      <a:pt x="73" y="80"/>
                    </a:moveTo>
                    <a:lnTo>
                      <a:pt x="73" y="2280"/>
                    </a:lnTo>
                    <a:lnTo>
                      <a:pt x="65" y="2290"/>
                    </a:lnTo>
                    <a:lnTo>
                      <a:pt x="55" y="2300"/>
                    </a:lnTo>
                    <a:lnTo>
                      <a:pt x="46" y="2310"/>
                    </a:lnTo>
                    <a:lnTo>
                      <a:pt x="38" y="2321"/>
                    </a:lnTo>
                    <a:lnTo>
                      <a:pt x="28" y="2330"/>
                    </a:lnTo>
                    <a:lnTo>
                      <a:pt x="19" y="2340"/>
                    </a:lnTo>
                    <a:lnTo>
                      <a:pt x="10" y="2350"/>
                    </a:lnTo>
                    <a:lnTo>
                      <a:pt x="0" y="2359"/>
                    </a:lnTo>
                    <a:lnTo>
                      <a:pt x="0" y="0"/>
                    </a:lnTo>
                    <a:lnTo>
                      <a:pt x="10" y="9"/>
                    </a:lnTo>
                    <a:lnTo>
                      <a:pt x="19" y="19"/>
                    </a:lnTo>
                    <a:lnTo>
                      <a:pt x="28" y="29"/>
                    </a:lnTo>
                    <a:lnTo>
                      <a:pt x="38" y="39"/>
                    </a:lnTo>
                    <a:lnTo>
                      <a:pt x="46" y="49"/>
                    </a:lnTo>
                    <a:lnTo>
                      <a:pt x="55" y="59"/>
                    </a:lnTo>
                    <a:lnTo>
                      <a:pt x="65" y="69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05680" y="2901960"/>
                <a:ext cx="28440" cy="966600"/>
              </a:xfrm>
              <a:custGeom>
                <a:avLst/>
                <a:gdLst/>
                <a:ahLst/>
                <a:rect l="l" t="t" r="r" b="b"/>
                <a:pathLst>
                  <a:path w="74" h="2435">
                    <a:moveTo>
                      <a:pt x="74" y="77"/>
                    </a:moveTo>
                    <a:lnTo>
                      <a:pt x="74" y="2359"/>
                    </a:lnTo>
                    <a:lnTo>
                      <a:pt x="65" y="2368"/>
                    </a:lnTo>
                    <a:lnTo>
                      <a:pt x="56" y="2378"/>
                    </a:lnTo>
                    <a:lnTo>
                      <a:pt x="47" y="2388"/>
                    </a:lnTo>
                    <a:lnTo>
                      <a:pt x="38" y="2397"/>
                    </a:lnTo>
                    <a:lnTo>
                      <a:pt x="28" y="2407"/>
                    </a:lnTo>
                    <a:lnTo>
                      <a:pt x="20" y="2417"/>
                    </a:lnTo>
                    <a:lnTo>
                      <a:pt x="10" y="2426"/>
                    </a:lnTo>
                    <a:lnTo>
                      <a:pt x="0" y="2435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8"/>
                    </a:lnTo>
                    <a:lnTo>
                      <a:pt x="47" y="47"/>
                    </a:lnTo>
                    <a:lnTo>
                      <a:pt x="56" y="57"/>
                    </a:lnTo>
                    <a:lnTo>
                      <a:pt x="65" y="67"/>
                    </a:lnTo>
                    <a:lnTo>
                      <a:pt x="74" y="77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91280" y="2887560"/>
                <a:ext cx="28440" cy="995400"/>
              </a:xfrm>
              <a:custGeom>
                <a:avLst/>
                <a:gdLst/>
                <a:ahLst/>
                <a:rect l="l" t="t" r="r" b="b"/>
                <a:pathLst>
                  <a:path w="74" h="2508">
                    <a:moveTo>
                      <a:pt x="74" y="75"/>
                    </a:moveTo>
                    <a:lnTo>
                      <a:pt x="74" y="2434"/>
                    </a:lnTo>
                    <a:lnTo>
                      <a:pt x="65" y="2444"/>
                    </a:lnTo>
                    <a:lnTo>
                      <a:pt x="57" y="2453"/>
                    </a:lnTo>
                    <a:lnTo>
                      <a:pt x="47" y="2463"/>
                    </a:lnTo>
                    <a:lnTo>
                      <a:pt x="38" y="2472"/>
                    </a:lnTo>
                    <a:lnTo>
                      <a:pt x="28" y="2481"/>
                    </a:lnTo>
                    <a:lnTo>
                      <a:pt x="20" y="2491"/>
                    </a:lnTo>
                    <a:lnTo>
                      <a:pt x="10" y="2499"/>
                    </a:lnTo>
                    <a:lnTo>
                      <a:pt x="0" y="2508"/>
                    </a:lnTo>
                    <a:lnTo>
                      <a:pt x="0" y="0"/>
                    </a:lnTo>
                    <a:lnTo>
                      <a:pt x="10" y="10"/>
                    </a:lnTo>
                    <a:lnTo>
                      <a:pt x="20" y="18"/>
                    </a:lnTo>
                    <a:lnTo>
                      <a:pt x="28" y="28"/>
                    </a:lnTo>
                    <a:lnTo>
                      <a:pt x="38" y="37"/>
                    </a:lnTo>
                    <a:lnTo>
                      <a:pt x="47" y="47"/>
                    </a:lnTo>
                    <a:lnTo>
                      <a:pt x="57" y="55"/>
                    </a:lnTo>
                    <a:lnTo>
                      <a:pt x="65" y="65"/>
                    </a:lnTo>
                    <a:lnTo>
                      <a:pt x="74" y="75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76880" y="2873160"/>
                <a:ext cx="28800" cy="1024200"/>
              </a:xfrm>
              <a:custGeom>
                <a:avLst/>
                <a:gdLst/>
                <a:ahLst/>
                <a:rect l="l" t="t" r="r" b="b"/>
                <a:pathLst>
                  <a:path w="72" h="2578">
                    <a:moveTo>
                      <a:pt x="72" y="71"/>
                    </a:moveTo>
                    <a:lnTo>
                      <a:pt x="72" y="2506"/>
                    </a:lnTo>
                    <a:lnTo>
                      <a:pt x="63" y="2516"/>
                    </a:lnTo>
                    <a:lnTo>
                      <a:pt x="55" y="2525"/>
                    </a:lnTo>
                    <a:lnTo>
                      <a:pt x="45" y="2533"/>
                    </a:lnTo>
                    <a:lnTo>
                      <a:pt x="36" y="2542"/>
                    </a:lnTo>
                    <a:lnTo>
                      <a:pt x="27" y="2551"/>
                    </a:lnTo>
                    <a:lnTo>
                      <a:pt x="18" y="2559"/>
                    </a:lnTo>
                    <a:lnTo>
                      <a:pt x="8" y="2569"/>
                    </a:lnTo>
                    <a:lnTo>
                      <a:pt x="0" y="257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6" y="35"/>
                    </a:lnTo>
                    <a:lnTo>
                      <a:pt x="45" y="44"/>
                    </a:lnTo>
                    <a:lnTo>
                      <a:pt x="55" y="52"/>
                    </a:lnTo>
                    <a:lnTo>
                      <a:pt x="63" y="62"/>
                    </a:lnTo>
                    <a:lnTo>
                      <a:pt x="72" y="71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62840" y="2860560"/>
                <a:ext cx="28440" cy="1049400"/>
              </a:xfrm>
              <a:custGeom>
                <a:avLst/>
                <a:gdLst/>
                <a:ahLst/>
                <a:rect l="l" t="t" r="r" b="b"/>
                <a:pathLst>
                  <a:path w="72" h="2645">
                    <a:moveTo>
                      <a:pt x="72" y="68"/>
                    </a:moveTo>
                    <a:lnTo>
                      <a:pt x="72" y="2576"/>
                    </a:lnTo>
                    <a:lnTo>
                      <a:pt x="64" y="2585"/>
                    </a:lnTo>
                    <a:lnTo>
                      <a:pt x="55" y="2593"/>
                    </a:lnTo>
                    <a:lnTo>
                      <a:pt x="45" y="2602"/>
                    </a:lnTo>
                    <a:lnTo>
                      <a:pt x="37" y="2610"/>
                    </a:lnTo>
                    <a:lnTo>
                      <a:pt x="27" y="2619"/>
                    </a:lnTo>
                    <a:lnTo>
                      <a:pt x="18" y="2628"/>
                    </a:lnTo>
                    <a:lnTo>
                      <a:pt x="9" y="2636"/>
                    </a:lnTo>
                    <a:lnTo>
                      <a:pt x="0" y="2645"/>
                    </a:lnTo>
                    <a:lnTo>
                      <a:pt x="0" y="0"/>
                    </a:lnTo>
                    <a:lnTo>
                      <a:pt x="9" y="9"/>
                    </a:lnTo>
                    <a:lnTo>
                      <a:pt x="18" y="17"/>
                    </a:lnTo>
                    <a:lnTo>
                      <a:pt x="27" y="25"/>
                    </a:lnTo>
                    <a:lnTo>
                      <a:pt x="37" y="34"/>
                    </a:lnTo>
                    <a:lnTo>
                      <a:pt x="45" y="42"/>
                    </a:lnTo>
                    <a:lnTo>
                      <a:pt x="55" y="51"/>
                    </a:lnTo>
                    <a:lnTo>
                      <a:pt x="64" y="59"/>
                    </a:lnTo>
                    <a:lnTo>
                      <a:pt x="72" y="68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48440" y="2847960"/>
                <a:ext cx="28440" cy="1074600"/>
              </a:xfrm>
              <a:custGeom>
                <a:avLst/>
                <a:gdLst/>
                <a:ahLst/>
                <a:rect l="l" t="t" r="r" b="b"/>
                <a:pathLst>
                  <a:path w="74" h="2709">
                    <a:moveTo>
                      <a:pt x="74" y="66"/>
                    </a:moveTo>
                    <a:lnTo>
                      <a:pt x="74" y="2644"/>
                    </a:lnTo>
                    <a:lnTo>
                      <a:pt x="64" y="2651"/>
                    </a:lnTo>
                    <a:lnTo>
                      <a:pt x="55" y="2660"/>
                    </a:lnTo>
                    <a:lnTo>
                      <a:pt x="47" y="2668"/>
                    </a:lnTo>
                    <a:lnTo>
                      <a:pt x="37" y="2676"/>
                    </a:lnTo>
                    <a:lnTo>
                      <a:pt x="28" y="2685"/>
                    </a:lnTo>
                    <a:lnTo>
                      <a:pt x="19" y="2693"/>
                    </a:lnTo>
                    <a:lnTo>
                      <a:pt x="9" y="2701"/>
                    </a:lnTo>
                    <a:lnTo>
                      <a:pt x="0" y="2709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6"/>
                    </a:lnTo>
                    <a:lnTo>
                      <a:pt x="28" y="25"/>
                    </a:lnTo>
                    <a:lnTo>
                      <a:pt x="37" y="32"/>
                    </a:lnTo>
                    <a:lnTo>
                      <a:pt x="47" y="41"/>
                    </a:lnTo>
                    <a:lnTo>
                      <a:pt x="55" y="49"/>
                    </a:lnTo>
                    <a:lnTo>
                      <a:pt x="64" y="57"/>
                    </a:lnTo>
                    <a:lnTo>
                      <a:pt x="74" y="66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2600" y="2835360"/>
                <a:ext cx="30240" cy="1100160"/>
              </a:xfrm>
              <a:custGeom>
                <a:avLst/>
                <a:gdLst/>
                <a:ahLst/>
                <a:rect l="l" t="t" r="r" b="b"/>
                <a:pathLst>
                  <a:path w="74" h="2773">
                    <a:moveTo>
                      <a:pt x="74" y="64"/>
                    </a:moveTo>
                    <a:lnTo>
                      <a:pt x="74" y="2709"/>
                    </a:lnTo>
                    <a:lnTo>
                      <a:pt x="64" y="2717"/>
                    </a:lnTo>
                    <a:lnTo>
                      <a:pt x="56" y="2725"/>
                    </a:lnTo>
                    <a:lnTo>
                      <a:pt x="47" y="2733"/>
                    </a:lnTo>
                    <a:lnTo>
                      <a:pt x="37" y="2741"/>
                    </a:lnTo>
                    <a:lnTo>
                      <a:pt x="29" y="2749"/>
                    </a:lnTo>
                    <a:lnTo>
                      <a:pt x="19" y="2757"/>
                    </a:lnTo>
                    <a:lnTo>
                      <a:pt x="10" y="2765"/>
                    </a:lnTo>
                    <a:lnTo>
                      <a:pt x="0" y="2773"/>
                    </a:lnTo>
                    <a:lnTo>
                      <a:pt x="0" y="0"/>
                    </a:lnTo>
                    <a:lnTo>
                      <a:pt x="10" y="8"/>
                    </a:lnTo>
                    <a:lnTo>
                      <a:pt x="19" y="15"/>
                    </a:lnTo>
                    <a:lnTo>
                      <a:pt x="29" y="24"/>
                    </a:lnTo>
                    <a:lnTo>
                      <a:pt x="37" y="32"/>
                    </a:lnTo>
                    <a:lnTo>
                      <a:pt x="47" y="39"/>
                    </a:lnTo>
                    <a:lnTo>
                      <a:pt x="56" y="48"/>
                    </a:lnTo>
                    <a:lnTo>
                      <a:pt x="64" y="55"/>
                    </a:lnTo>
                    <a:lnTo>
                      <a:pt x="74" y="64"/>
                    </a:lnTo>
                    <a:close/>
                  </a:path>
                </a:pathLst>
              </a:custGeom>
              <a:solidFill>
                <a:srgbClr val="9255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18200" y="2822400"/>
                <a:ext cx="30240" cy="1123920"/>
              </a:xfrm>
              <a:custGeom>
                <a:avLst/>
                <a:gdLst/>
                <a:ahLst/>
                <a:rect l="l" t="t" r="r" b="b"/>
                <a:pathLst>
                  <a:path w="73" h="2834">
                    <a:moveTo>
                      <a:pt x="73" y="63"/>
                    </a:moveTo>
                    <a:lnTo>
                      <a:pt x="73" y="2772"/>
                    </a:lnTo>
                    <a:lnTo>
                      <a:pt x="63" y="2780"/>
                    </a:lnTo>
                    <a:lnTo>
                      <a:pt x="55" y="2788"/>
                    </a:lnTo>
                    <a:lnTo>
                      <a:pt x="46" y="2795"/>
                    </a:lnTo>
                    <a:lnTo>
                      <a:pt x="36" y="2804"/>
                    </a:lnTo>
                    <a:lnTo>
                      <a:pt x="28" y="2811"/>
                    </a:lnTo>
                    <a:lnTo>
                      <a:pt x="18" y="2819"/>
                    </a:lnTo>
                    <a:lnTo>
                      <a:pt x="9" y="2826"/>
                    </a:lnTo>
                    <a:lnTo>
                      <a:pt x="0" y="2834"/>
                    </a:lnTo>
                    <a:lnTo>
                      <a:pt x="0" y="0"/>
                    </a:lnTo>
                    <a:lnTo>
                      <a:pt x="9" y="8"/>
                    </a:lnTo>
                    <a:lnTo>
                      <a:pt x="18" y="16"/>
                    </a:lnTo>
                    <a:lnTo>
                      <a:pt x="28" y="24"/>
                    </a:lnTo>
                    <a:lnTo>
                      <a:pt x="36" y="31"/>
                    </a:lnTo>
                    <a:lnTo>
                      <a:pt x="46" y="39"/>
                    </a:lnTo>
                    <a:lnTo>
                      <a:pt x="55" y="46"/>
                    </a:lnTo>
                    <a:lnTo>
                      <a:pt x="63" y="55"/>
                    </a:lnTo>
                    <a:lnTo>
                      <a:pt x="73" y="6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03800" y="2811240"/>
                <a:ext cx="28800" cy="1148040"/>
              </a:xfrm>
              <a:custGeom>
                <a:avLst/>
                <a:gdLst/>
                <a:ahLst/>
                <a:rect l="l" t="t" r="r" b="b"/>
                <a:pathLst>
                  <a:path w="73" h="2892">
                    <a:moveTo>
                      <a:pt x="73" y="60"/>
                    </a:moveTo>
                    <a:lnTo>
                      <a:pt x="73" y="2833"/>
                    </a:lnTo>
                    <a:lnTo>
                      <a:pt x="65" y="2840"/>
                    </a:lnTo>
                    <a:lnTo>
                      <a:pt x="55" y="2848"/>
                    </a:lnTo>
                    <a:lnTo>
                      <a:pt x="46" y="2855"/>
                    </a:lnTo>
                    <a:lnTo>
                      <a:pt x="37" y="2863"/>
                    </a:lnTo>
                    <a:lnTo>
                      <a:pt x="28" y="2871"/>
                    </a:lnTo>
                    <a:lnTo>
                      <a:pt x="18" y="2878"/>
                    </a:lnTo>
                    <a:lnTo>
                      <a:pt x="10" y="2886"/>
                    </a:lnTo>
                    <a:lnTo>
                      <a:pt x="0" y="2892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8" y="15"/>
                    </a:lnTo>
                    <a:lnTo>
                      <a:pt x="28" y="23"/>
                    </a:lnTo>
                    <a:lnTo>
                      <a:pt x="37" y="30"/>
                    </a:lnTo>
                    <a:lnTo>
                      <a:pt x="46" y="38"/>
                    </a:lnTo>
                    <a:lnTo>
                      <a:pt x="55" y="45"/>
                    </a:lnTo>
                    <a:lnTo>
                      <a:pt x="65" y="53"/>
                    </a:lnTo>
                    <a:lnTo>
                      <a:pt x="73" y="60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89760" y="2798640"/>
                <a:ext cx="28440" cy="1171800"/>
              </a:xfrm>
              <a:custGeom>
                <a:avLst/>
                <a:gdLst/>
                <a:ahLst/>
                <a:rect l="l" t="t" r="r" b="b"/>
                <a:pathLst>
                  <a:path w="74" h="2950">
                    <a:moveTo>
                      <a:pt x="74" y="58"/>
                    </a:moveTo>
                    <a:lnTo>
                      <a:pt x="74" y="2892"/>
                    </a:lnTo>
                    <a:lnTo>
                      <a:pt x="65" y="2900"/>
                    </a:lnTo>
                    <a:lnTo>
                      <a:pt x="55" y="2907"/>
                    </a:lnTo>
                    <a:lnTo>
                      <a:pt x="47" y="2915"/>
                    </a:lnTo>
                    <a:lnTo>
                      <a:pt x="37" y="2921"/>
                    </a:lnTo>
                    <a:lnTo>
                      <a:pt x="28" y="2929"/>
                    </a:lnTo>
                    <a:lnTo>
                      <a:pt x="19" y="2936"/>
                    </a:lnTo>
                    <a:lnTo>
                      <a:pt x="10" y="2943"/>
                    </a:lnTo>
                    <a:lnTo>
                      <a:pt x="0" y="295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5"/>
                    </a:lnTo>
                    <a:lnTo>
                      <a:pt x="28" y="21"/>
                    </a:lnTo>
                    <a:lnTo>
                      <a:pt x="37" y="29"/>
                    </a:lnTo>
                    <a:lnTo>
                      <a:pt x="47" y="36"/>
                    </a:lnTo>
                    <a:lnTo>
                      <a:pt x="55" y="44"/>
                    </a:lnTo>
                    <a:lnTo>
                      <a:pt x="65" y="52"/>
                    </a:lnTo>
                    <a:lnTo>
                      <a:pt x="74" y="58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75360" y="2787480"/>
                <a:ext cx="28440" cy="1193760"/>
              </a:xfrm>
              <a:custGeom>
                <a:avLst/>
                <a:gdLst/>
                <a:ahLst/>
                <a:rect l="l" t="t" r="r" b="b"/>
                <a:pathLst>
                  <a:path w="73" h="3006">
                    <a:moveTo>
                      <a:pt x="73" y="57"/>
                    </a:moveTo>
                    <a:lnTo>
                      <a:pt x="73" y="2949"/>
                    </a:lnTo>
                    <a:lnTo>
                      <a:pt x="64" y="2957"/>
                    </a:lnTo>
                    <a:lnTo>
                      <a:pt x="55" y="2964"/>
                    </a:lnTo>
                    <a:lnTo>
                      <a:pt x="46" y="2971"/>
                    </a:lnTo>
                    <a:lnTo>
                      <a:pt x="37" y="2978"/>
                    </a:lnTo>
                    <a:lnTo>
                      <a:pt x="28" y="2985"/>
                    </a:lnTo>
                    <a:lnTo>
                      <a:pt x="19" y="2992"/>
                    </a:lnTo>
                    <a:lnTo>
                      <a:pt x="9" y="2999"/>
                    </a:lnTo>
                    <a:lnTo>
                      <a:pt x="0" y="3006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9" y="14"/>
                    </a:lnTo>
                    <a:lnTo>
                      <a:pt x="28" y="21"/>
                    </a:lnTo>
                    <a:lnTo>
                      <a:pt x="37" y="28"/>
                    </a:lnTo>
                    <a:lnTo>
                      <a:pt x="46" y="35"/>
                    </a:lnTo>
                    <a:lnTo>
                      <a:pt x="55" y="43"/>
                    </a:lnTo>
                    <a:lnTo>
                      <a:pt x="64" y="49"/>
                    </a:lnTo>
                    <a:lnTo>
                      <a:pt x="73" y="57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59520" y="2778120"/>
                <a:ext cx="30240" cy="1214280"/>
              </a:xfrm>
              <a:custGeom>
                <a:avLst/>
                <a:gdLst/>
                <a:ahLst/>
                <a:rect l="l" t="t" r="r" b="b"/>
                <a:pathLst>
                  <a:path w="73" h="3060">
                    <a:moveTo>
                      <a:pt x="73" y="55"/>
                    </a:moveTo>
                    <a:lnTo>
                      <a:pt x="73" y="3005"/>
                    </a:lnTo>
                    <a:lnTo>
                      <a:pt x="65" y="3013"/>
                    </a:lnTo>
                    <a:lnTo>
                      <a:pt x="56" y="3019"/>
                    </a:lnTo>
                    <a:lnTo>
                      <a:pt x="46" y="3026"/>
                    </a:lnTo>
                    <a:lnTo>
                      <a:pt x="38" y="3033"/>
                    </a:lnTo>
                    <a:lnTo>
                      <a:pt x="28" y="3040"/>
                    </a:lnTo>
                    <a:lnTo>
                      <a:pt x="19" y="3046"/>
                    </a:lnTo>
                    <a:lnTo>
                      <a:pt x="10" y="3054"/>
                    </a:lnTo>
                    <a:lnTo>
                      <a:pt x="0" y="3060"/>
                    </a:lnTo>
                    <a:lnTo>
                      <a:pt x="0" y="0"/>
                    </a:lnTo>
                    <a:lnTo>
                      <a:pt x="10" y="7"/>
                    </a:lnTo>
                    <a:lnTo>
                      <a:pt x="19" y="14"/>
                    </a:lnTo>
                    <a:lnTo>
                      <a:pt x="28" y="20"/>
                    </a:lnTo>
                    <a:lnTo>
                      <a:pt x="38" y="28"/>
                    </a:lnTo>
                    <a:lnTo>
                      <a:pt x="46" y="34"/>
                    </a:lnTo>
                    <a:lnTo>
                      <a:pt x="56" y="41"/>
                    </a:lnTo>
                    <a:lnTo>
                      <a:pt x="65" y="48"/>
                    </a:lnTo>
                    <a:lnTo>
                      <a:pt x="73" y="55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46920" y="2766960"/>
                <a:ext cx="28440" cy="1235160"/>
              </a:xfrm>
              <a:custGeom>
                <a:avLst/>
                <a:gdLst/>
                <a:ahLst/>
                <a:rect l="l" t="t" r="r" b="b"/>
                <a:pathLst>
                  <a:path w="73" h="3112">
                    <a:moveTo>
                      <a:pt x="73" y="53"/>
                    </a:moveTo>
                    <a:lnTo>
                      <a:pt x="73" y="3059"/>
                    </a:lnTo>
                    <a:lnTo>
                      <a:pt x="64" y="3066"/>
                    </a:lnTo>
                    <a:lnTo>
                      <a:pt x="55" y="3072"/>
                    </a:lnTo>
                    <a:lnTo>
                      <a:pt x="46" y="3079"/>
                    </a:lnTo>
                    <a:lnTo>
                      <a:pt x="37" y="3086"/>
                    </a:lnTo>
                    <a:lnTo>
                      <a:pt x="27" y="3093"/>
                    </a:lnTo>
                    <a:lnTo>
                      <a:pt x="18" y="3099"/>
                    </a:lnTo>
                    <a:lnTo>
                      <a:pt x="9" y="3106"/>
                    </a:lnTo>
                    <a:lnTo>
                      <a:pt x="0" y="3112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3"/>
                    </a:lnTo>
                    <a:lnTo>
                      <a:pt x="55" y="40"/>
                    </a:lnTo>
                    <a:lnTo>
                      <a:pt x="64" y="46"/>
                    </a:lnTo>
                    <a:lnTo>
                      <a:pt x="73" y="53"/>
                    </a:lnTo>
                    <a:close/>
                  </a:path>
                </a:pathLst>
              </a:custGeom>
              <a:solidFill>
                <a:srgbClr val="95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31080" y="2757600"/>
                <a:ext cx="28440" cy="1255680"/>
              </a:xfrm>
              <a:custGeom>
                <a:avLst/>
                <a:gdLst/>
                <a:ahLst/>
                <a:rect l="l" t="t" r="r" b="b"/>
                <a:pathLst>
                  <a:path w="73" h="3164">
                    <a:moveTo>
                      <a:pt x="73" y="52"/>
                    </a:moveTo>
                    <a:lnTo>
                      <a:pt x="73" y="3112"/>
                    </a:lnTo>
                    <a:lnTo>
                      <a:pt x="64" y="3119"/>
                    </a:lnTo>
                    <a:lnTo>
                      <a:pt x="55" y="3125"/>
                    </a:lnTo>
                    <a:lnTo>
                      <a:pt x="46" y="3132"/>
                    </a:lnTo>
                    <a:lnTo>
                      <a:pt x="37" y="3138"/>
                    </a:lnTo>
                    <a:lnTo>
                      <a:pt x="27" y="3145"/>
                    </a:lnTo>
                    <a:lnTo>
                      <a:pt x="19" y="3151"/>
                    </a:lnTo>
                    <a:lnTo>
                      <a:pt x="9" y="3158"/>
                    </a:lnTo>
                    <a:lnTo>
                      <a:pt x="0" y="3164"/>
                    </a:lnTo>
                    <a:lnTo>
                      <a:pt x="0" y="0"/>
                    </a:lnTo>
                    <a:lnTo>
                      <a:pt x="9" y="6"/>
                    </a:lnTo>
                    <a:lnTo>
                      <a:pt x="19" y="13"/>
                    </a:lnTo>
                    <a:lnTo>
                      <a:pt x="27" y="19"/>
                    </a:lnTo>
                    <a:lnTo>
                      <a:pt x="37" y="26"/>
                    </a:lnTo>
                    <a:lnTo>
                      <a:pt x="46" y="32"/>
                    </a:lnTo>
                    <a:lnTo>
                      <a:pt x="55" y="39"/>
                    </a:lnTo>
                    <a:lnTo>
                      <a:pt x="64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6680" y="2746440"/>
                <a:ext cx="30240" cy="1276200"/>
              </a:xfrm>
              <a:custGeom>
                <a:avLst/>
                <a:gdLst/>
                <a:ahLst/>
                <a:rect l="l" t="t" r="r" b="b"/>
                <a:pathLst>
                  <a:path w="73" h="3215">
                    <a:moveTo>
                      <a:pt x="73" y="52"/>
                    </a:moveTo>
                    <a:lnTo>
                      <a:pt x="73" y="3164"/>
                    </a:lnTo>
                    <a:lnTo>
                      <a:pt x="63" y="3171"/>
                    </a:lnTo>
                    <a:lnTo>
                      <a:pt x="55" y="3177"/>
                    </a:lnTo>
                    <a:lnTo>
                      <a:pt x="45" y="3184"/>
                    </a:lnTo>
                    <a:lnTo>
                      <a:pt x="36" y="3190"/>
                    </a:lnTo>
                    <a:lnTo>
                      <a:pt x="27" y="3197"/>
                    </a:lnTo>
                    <a:lnTo>
                      <a:pt x="18" y="3203"/>
                    </a:lnTo>
                    <a:lnTo>
                      <a:pt x="8" y="3209"/>
                    </a:lnTo>
                    <a:lnTo>
                      <a:pt x="0" y="321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8" y="13"/>
                    </a:lnTo>
                    <a:lnTo>
                      <a:pt x="27" y="19"/>
                    </a:lnTo>
                    <a:lnTo>
                      <a:pt x="36" y="26"/>
                    </a:lnTo>
                    <a:lnTo>
                      <a:pt x="45" y="32"/>
                    </a:lnTo>
                    <a:lnTo>
                      <a:pt x="55" y="39"/>
                    </a:lnTo>
                    <a:lnTo>
                      <a:pt x="63" y="45"/>
                    </a:lnTo>
                    <a:lnTo>
                      <a:pt x="73" y="52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02280" y="2736720"/>
                <a:ext cx="28800" cy="1295640"/>
              </a:xfrm>
              <a:custGeom>
                <a:avLst/>
                <a:gdLst/>
                <a:ahLst/>
                <a:rect l="l" t="t" r="r" b="b"/>
                <a:pathLst>
                  <a:path w="73" h="3264">
                    <a:moveTo>
                      <a:pt x="73" y="50"/>
                    </a:moveTo>
                    <a:lnTo>
                      <a:pt x="73" y="3214"/>
                    </a:lnTo>
                    <a:lnTo>
                      <a:pt x="64" y="3221"/>
                    </a:lnTo>
                    <a:lnTo>
                      <a:pt x="55" y="3227"/>
                    </a:lnTo>
                    <a:lnTo>
                      <a:pt x="46" y="3234"/>
                    </a:lnTo>
                    <a:lnTo>
                      <a:pt x="37" y="3239"/>
                    </a:lnTo>
                    <a:lnTo>
                      <a:pt x="28" y="3246"/>
                    </a:lnTo>
                    <a:lnTo>
                      <a:pt x="18" y="3252"/>
                    </a:lnTo>
                    <a:lnTo>
                      <a:pt x="10" y="3257"/>
                    </a:lnTo>
                    <a:lnTo>
                      <a:pt x="0" y="3264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5"/>
                    </a:lnTo>
                    <a:lnTo>
                      <a:pt x="46" y="30"/>
                    </a:lnTo>
                    <a:lnTo>
                      <a:pt x="55" y="37"/>
                    </a:lnTo>
                    <a:lnTo>
                      <a:pt x="64" y="43"/>
                    </a:lnTo>
                    <a:lnTo>
                      <a:pt x="73" y="50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987880" y="2727360"/>
                <a:ext cx="28800" cy="1314360"/>
              </a:xfrm>
              <a:custGeom>
                <a:avLst/>
                <a:gdLst/>
                <a:ahLst/>
                <a:rect l="l" t="t" r="r" b="b"/>
                <a:pathLst>
                  <a:path w="74" h="3312">
                    <a:moveTo>
                      <a:pt x="74" y="48"/>
                    </a:moveTo>
                    <a:lnTo>
                      <a:pt x="74" y="3263"/>
                    </a:lnTo>
                    <a:lnTo>
                      <a:pt x="64" y="3270"/>
                    </a:lnTo>
                    <a:lnTo>
                      <a:pt x="55" y="3276"/>
                    </a:lnTo>
                    <a:lnTo>
                      <a:pt x="47" y="3281"/>
                    </a:lnTo>
                    <a:lnTo>
                      <a:pt x="37" y="3288"/>
                    </a:lnTo>
                    <a:lnTo>
                      <a:pt x="28" y="3293"/>
                    </a:lnTo>
                    <a:lnTo>
                      <a:pt x="19" y="3300"/>
                    </a:lnTo>
                    <a:lnTo>
                      <a:pt x="10" y="3305"/>
                    </a:lnTo>
                    <a:lnTo>
                      <a:pt x="0" y="3312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2"/>
                    </a:lnTo>
                    <a:lnTo>
                      <a:pt x="28" y="18"/>
                    </a:lnTo>
                    <a:lnTo>
                      <a:pt x="37" y="24"/>
                    </a:lnTo>
                    <a:lnTo>
                      <a:pt x="47" y="31"/>
                    </a:lnTo>
                    <a:lnTo>
                      <a:pt x="55" y="36"/>
                    </a:lnTo>
                    <a:lnTo>
                      <a:pt x="64" y="42"/>
                    </a:lnTo>
                    <a:lnTo>
                      <a:pt x="74" y="48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73840" y="2717640"/>
                <a:ext cx="28440" cy="1333440"/>
              </a:xfrm>
              <a:custGeom>
                <a:avLst/>
                <a:gdLst/>
                <a:ahLst/>
                <a:rect l="l" t="t" r="r" b="b"/>
                <a:pathLst>
                  <a:path w="74" h="3358">
                    <a:moveTo>
                      <a:pt x="74" y="47"/>
                    </a:moveTo>
                    <a:lnTo>
                      <a:pt x="74" y="3311"/>
                    </a:lnTo>
                    <a:lnTo>
                      <a:pt x="65" y="3317"/>
                    </a:lnTo>
                    <a:lnTo>
                      <a:pt x="56" y="3323"/>
                    </a:lnTo>
                    <a:lnTo>
                      <a:pt x="47" y="3328"/>
                    </a:lnTo>
                    <a:lnTo>
                      <a:pt x="37" y="3335"/>
                    </a:lnTo>
                    <a:lnTo>
                      <a:pt x="29" y="3340"/>
                    </a:lnTo>
                    <a:lnTo>
                      <a:pt x="19" y="3347"/>
                    </a:lnTo>
                    <a:lnTo>
                      <a:pt x="10" y="3352"/>
                    </a:lnTo>
                    <a:lnTo>
                      <a:pt x="0" y="3358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11"/>
                    </a:lnTo>
                    <a:lnTo>
                      <a:pt x="29" y="17"/>
                    </a:lnTo>
                    <a:lnTo>
                      <a:pt x="37" y="23"/>
                    </a:lnTo>
                    <a:lnTo>
                      <a:pt x="47" y="29"/>
                    </a:lnTo>
                    <a:lnTo>
                      <a:pt x="56" y="35"/>
                    </a:lnTo>
                    <a:lnTo>
                      <a:pt x="65" y="41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958000" y="2709720"/>
                <a:ext cx="29880" cy="1351080"/>
              </a:xfrm>
              <a:custGeom>
                <a:avLst/>
                <a:gdLst/>
                <a:ahLst/>
                <a:rect l="l" t="t" r="r" b="b"/>
                <a:pathLst>
                  <a:path w="73" h="3403">
                    <a:moveTo>
                      <a:pt x="73" y="46"/>
                    </a:moveTo>
                    <a:lnTo>
                      <a:pt x="73" y="3358"/>
                    </a:lnTo>
                    <a:lnTo>
                      <a:pt x="65" y="3363"/>
                    </a:lnTo>
                    <a:lnTo>
                      <a:pt x="55" y="3370"/>
                    </a:lnTo>
                    <a:lnTo>
                      <a:pt x="46" y="3375"/>
                    </a:lnTo>
                    <a:lnTo>
                      <a:pt x="36" y="3380"/>
                    </a:lnTo>
                    <a:lnTo>
                      <a:pt x="28" y="3387"/>
                    </a:lnTo>
                    <a:lnTo>
                      <a:pt x="18" y="3392"/>
                    </a:lnTo>
                    <a:lnTo>
                      <a:pt x="9" y="3398"/>
                    </a:lnTo>
                    <a:lnTo>
                      <a:pt x="0" y="3403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65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943600" y="2700360"/>
                <a:ext cx="30240" cy="1368360"/>
              </a:xfrm>
              <a:custGeom>
                <a:avLst/>
                <a:gdLst/>
                <a:ahLst/>
                <a:rect l="l" t="t" r="r" b="b"/>
                <a:pathLst>
                  <a:path w="73" h="3449">
                    <a:moveTo>
                      <a:pt x="73" y="46"/>
                    </a:moveTo>
                    <a:lnTo>
                      <a:pt x="73" y="3404"/>
                    </a:lnTo>
                    <a:lnTo>
                      <a:pt x="65" y="3410"/>
                    </a:lnTo>
                    <a:lnTo>
                      <a:pt x="55" y="3415"/>
                    </a:lnTo>
                    <a:lnTo>
                      <a:pt x="46" y="3421"/>
                    </a:lnTo>
                    <a:lnTo>
                      <a:pt x="37" y="3426"/>
                    </a:lnTo>
                    <a:lnTo>
                      <a:pt x="28" y="3432"/>
                    </a:lnTo>
                    <a:lnTo>
                      <a:pt x="18" y="3438"/>
                    </a:lnTo>
                    <a:lnTo>
                      <a:pt x="10" y="3443"/>
                    </a:lnTo>
                    <a:lnTo>
                      <a:pt x="0" y="3449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8" y="12"/>
                    </a:lnTo>
                    <a:lnTo>
                      <a:pt x="28" y="18"/>
                    </a:lnTo>
                    <a:lnTo>
                      <a:pt x="37" y="23"/>
                    </a:lnTo>
                    <a:lnTo>
                      <a:pt x="46" y="28"/>
                    </a:lnTo>
                    <a:lnTo>
                      <a:pt x="55" y="34"/>
                    </a:lnTo>
                    <a:lnTo>
                      <a:pt x="65" y="4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929200" y="2692440"/>
                <a:ext cx="28800" cy="1385640"/>
              </a:xfrm>
              <a:custGeom>
                <a:avLst/>
                <a:gdLst/>
                <a:ahLst/>
                <a:rect l="l" t="t" r="r" b="b"/>
                <a:pathLst>
                  <a:path w="74" h="3491">
                    <a:moveTo>
                      <a:pt x="74" y="44"/>
                    </a:moveTo>
                    <a:lnTo>
                      <a:pt x="74" y="3447"/>
                    </a:lnTo>
                    <a:lnTo>
                      <a:pt x="65" y="3453"/>
                    </a:lnTo>
                    <a:lnTo>
                      <a:pt x="55" y="3459"/>
                    </a:lnTo>
                    <a:lnTo>
                      <a:pt x="47" y="3464"/>
                    </a:lnTo>
                    <a:lnTo>
                      <a:pt x="38" y="3470"/>
                    </a:lnTo>
                    <a:lnTo>
                      <a:pt x="28" y="3475"/>
                    </a:lnTo>
                    <a:lnTo>
                      <a:pt x="20" y="3480"/>
                    </a:lnTo>
                    <a:lnTo>
                      <a:pt x="10" y="3486"/>
                    </a:lnTo>
                    <a:lnTo>
                      <a:pt x="0" y="349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20" y="10"/>
                    </a:lnTo>
                    <a:lnTo>
                      <a:pt x="28" y="16"/>
                    </a:lnTo>
                    <a:lnTo>
                      <a:pt x="38" y="21"/>
                    </a:lnTo>
                    <a:lnTo>
                      <a:pt x="47" y="27"/>
                    </a:lnTo>
                    <a:lnTo>
                      <a:pt x="55" y="33"/>
                    </a:lnTo>
                    <a:lnTo>
                      <a:pt x="65" y="39"/>
                    </a:lnTo>
                    <a:lnTo>
                      <a:pt x="74" y="44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915160" y="2682720"/>
                <a:ext cx="28440" cy="1403280"/>
              </a:xfrm>
              <a:custGeom>
                <a:avLst/>
                <a:gdLst/>
                <a:ahLst/>
                <a:rect l="l" t="t" r="r" b="b"/>
                <a:pathLst>
                  <a:path w="72" h="3535">
                    <a:moveTo>
                      <a:pt x="72" y="43"/>
                    </a:moveTo>
                    <a:lnTo>
                      <a:pt x="72" y="3492"/>
                    </a:lnTo>
                    <a:lnTo>
                      <a:pt x="63" y="3497"/>
                    </a:lnTo>
                    <a:lnTo>
                      <a:pt x="55" y="3502"/>
                    </a:lnTo>
                    <a:lnTo>
                      <a:pt x="45" y="3508"/>
                    </a:lnTo>
                    <a:lnTo>
                      <a:pt x="36" y="3513"/>
                    </a:lnTo>
                    <a:lnTo>
                      <a:pt x="27" y="3519"/>
                    </a:lnTo>
                    <a:lnTo>
                      <a:pt x="18" y="3524"/>
                    </a:lnTo>
                    <a:lnTo>
                      <a:pt x="8" y="3529"/>
                    </a:lnTo>
                    <a:lnTo>
                      <a:pt x="0" y="353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1"/>
                    </a:lnTo>
                    <a:lnTo>
                      <a:pt x="27" y="16"/>
                    </a:lnTo>
                    <a:lnTo>
                      <a:pt x="36" y="22"/>
                    </a:lnTo>
                    <a:lnTo>
                      <a:pt x="45" y="27"/>
                    </a:lnTo>
                    <a:lnTo>
                      <a:pt x="55" y="32"/>
                    </a:lnTo>
                    <a:lnTo>
                      <a:pt x="63" y="38"/>
                    </a:lnTo>
                    <a:lnTo>
                      <a:pt x="72" y="43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900760" y="2674800"/>
                <a:ext cx="28440" cy="1419480"/>
              </a:xfrm>
              <a:custGeom>
                <a:avLst/>
                <a:gdLst/>
                <a:ahLst/>
                <a:rect l="l" t="t" r="r" b="b"/>
                <a:pathLst>
                  <a:path w="72" h="3575">
                    <a:moveTo>
                      <a:pt x="72" y="42"/>
                    </a:moveTo>
                    <a:lnTo>
                      <a:pt x="72" y="3533"/>
                    </a:lnTo>
                    <a:lnTo>
                      <a:pt x="64" y="3539"/>
                    </a:lnTo>
                    <a:lnTo>
                      <a:pt x="55" y="3544"/>
                    </a:lnTo>
                    <a:lnTo>
                      <a:pt x="45" y="3549"/>
                    </a:lnTo>
                    <a:lnTo>
                      <a:pt x="37" y="3555"/>
                    </a:lnTo>
                    <a:lnTo>
                      <a:pt x="27" y="3559"/>
                    </a:lnTo>
                    <a:lnTo>
                      <a:pt x="18" y="3565"/>
                    </a:lnTo>
                    <a:lnTo>
                      <a:pt x="8" y="3570"/>
                    </a:lnTo>
                    <a:lnTo>
                      <a:pt x="0" y="3575"/>
                    </a:lnTo>
                    <a:lnTo>
                      <a:pt x="0" y="0"/>
                    </a:lnTo>
                    <a:lnTo>
                      <a:pt x="8" y="5"/>
                    </a:lnTo>
                    <a:lnTo>
                      <a:pt x="18" y="10"/>
                    </a:lnTo>
                    <a:lnTo>
                      <a:pt x="27" y="16"/>
                    </a:lnTo>
                    <a:lnTo>
                      <a:pt x="37" y="20"/>
                    </a:lnTo>
                    <a:lnTo>
                      <a:pt x="45" y="25"/>
                    </a:lnTo>
                    <a:lnTo>
                      <a:pt x="55" y="31"/>
                    </a:lnTo>
                    <a:lnTo>
                      <a:pt x="64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86360" y="2666880"/>
                <a:ext cx="28800" cy="1435320"/>
              </a:xfrm>
              <a:custGeom>
                <a:avLst/>
                <a:gdLst/>
                <a:ahLst/>
                <a:rect l="l" t="t" r="r" b="b"/>
                <a:pathLst>
                  <a:path w="74" h="3617">
                    <a:moveTo>
                      <a:pt x="74" y="41"/>
                    </a:moveTo>
                    <a:lnTo>
                      <a:pt x="74" y="3576"/>
                    </a:lnTo>
                    <a:lnTo>
                      <a:pt x="64" y="3581"/>
                    </a:lnTo>
                    <a:lnTo>
                      <a:pt x="55" y="3586"/>
                    </a:lnTo>
                    <a:lnTo>
                      <a:pt x="45" y="3591"/>
                    </a:lnTo>
                    <a:lnTo>
                      <a:pt x="37" y="3596"/>
                    </a:lnTo>
                    <a:lnTo>
                      <a:pt x="27" y="3602"/>
                    </a:lnTo>
                    <a:lnTo>
                      <a:pt x="18" y="3606"/>
                    </a:lnTo>
                    <a:lnTo>
                      <a:pt x="9" y="3612"/>
                    </a:lnTo>
                    <a:lnTo>
                      <a:pt x="0" y="3617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11"/>
                    </a:lnTo>
                    <a:lnTo>
                      <a:pt x="27" y="15"/>
                    </a:lnTo>
                    <a:lnTo>
                      <a:pt x="37" y="21"/>
                    </a:lnTo>
                    <a:lnTo>
                      <a:pt x="45" y="26"/>
                    </a:lnTo>
                    <a:lnTo>
                      <a:pt x="55" y="31"/>
                    </a:lnTo>
                    <a:lnTo>
                      <a:pt x="64" y="37"/>
                    </a:lnTo>
                    <a:lnTo>
                      <a:pt x="74" y="41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72320" y="2658960"/>
                <a:ext cx="28440" cy="1451160"/>
              </a:xfrm>
              <a:custGeom>
                <a:avLst/>
                <a:gdLst/>
                <a:ahLst/>
                <a:rect l="l" t="t" r="r" b="b"/>
                <a:pathLst>
                  <a:path w="74" h="3655">
                    <a:moveTo>
                      <a:pt x="74" y="40"/>
                    </a:moveTo>
                    <a:lnTo>
                      <a:pt x="74" y="3615"/>
                    </a:lnTo>
                    <a:lnTo>
                      <a:pt x="64" y="3621"/>
                    </a:lnTo>
                    <a:lnTo>
                      <a:pt x="55" y="3625"/>
                    </a:lnTo>
                    <a:lnTo>
                      <a:pt x="46" y="3631"/>
                    </a:lnTo>
                    <a:lnTo>
                      <a:pt x="37" y="3636"/>
                    </a:lnTo>
                    <a:lnTo>
                      <a:pt x="28" y="3640"/>
                    </a:lnTo>
                    <a:lnTo>
                      <a:pt x="19" y="3646"/>
                    </a:lnTo>
                    <a:lnTo>
                      <a:pt x="9" y="3650"/>
                    </a:lnTo>
                    <a:lnTo>
                      <a:pt x="0" y="365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8" y="15"/>
                    </a:lnTo>
                    <a:lnTo>
                      <a:pt x="37" y="19"/>
                    </a:lnTo>
                    <a:lnTo>
                      <a:pt x="46" y="24"/>
                    </a:lnTo>
                    <a:lnTo>
                      <a:pt x="55" y="30"/>
                    </a:lnTo>
                    <a:lnTo>
                      <a:pt x="64" y="34"/>
                    </a:lnTo>
                    <a:lnTo>
                      <a:pt x="74" y="40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56120" y="2651040"/>
                <a:ext cx="30240" cy="1467000"/>
              </a:xfrm>
              <a:custGeom>
                <a:avLst/>
                <a:gdLst/>
                <a:ahLst/>
                <a:rect l="l" t="t" r="r" b="b"/>
                <a:pathLst>
                  <a:path w="73" h="3695">
                    <a:moveTo>
                      <a:pt x="73" y="39"/>
                    </a:moveTo>
                    <a:lnTo>
                      <a:pt x="73" y="3656"/>
                    </a:lnTo>
                    <a:lnTo>
                      <a:pt x="63" y="3661"/>
                    </a:lnTo>
                    <a:lnTo>
                      <a:pt x="55" y="3666"/>
                    </a:lnTo>
                    <a:lnTo>
                      <a:pt x="46" y="3671"/>
                    </a:lnTo>
                    <a:lnTo>
                      <a:pt x="36" y="3675"/>
                    </a:lnTo>
                    <a:lnTo>
                      <a:pt x="28" y="3681"/>
                    </a:lnTo>
                    <a:lnTo>
                      <a:pt x="18" y="3685"/>
                    </a:lnTo>
                    <a:lnTo>
                      <a:pt x="9" y="3690"/>
                    </a:lnTo>
                    <a:lnTo>
                      <a:pt x="0" y="3695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10"/>
                    </a:lnTo>
                    <a:lnTo>
                      <a:pt x="28" y="14"/>
                    </a:lnTo>
                    <a:lnTo>
                      <a:pt x="36" y="20"/>
                    </a:lnTo>
                    <a:lnTo>
                      <a:pt x="46" y="24"/>
                    </a:lnTo>
                    <a:lnTo>
                      <a:pt x="55" y="29"/>
                    </a:lnTo>
                    <a:lnTo>
                      <a:pt x="63" y="35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8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2080" y="2643120"/>
                <a:ext cx="30240" cy="1482840"/>
              </a:xfrm>
              <a:custGeom>
                <a:avLst/>
                <a:gdLst/>
                <a:ahLst/>
                <a:rect l="l" t="t" r="r" b="b"/>
                <a:pathLst>
                  <a:path w="73" h="3733">
                    <a:moveTo>
                      <a:pt x="73" y="39"/>
                    </a:moveTo>
                    <a:lnTo>
                      <a:pt x="73" y="3694"/>
                    </a:lnTo>
                    <a:lnTo>
                      <a:pt x="65" y="3700"/>
                    </a:lnTo>
                    <a:lnTo>
                      <a:pt x="55" y="3704"/>
                    </a:lnTo>
                    <a:lnTo>
                      <a:pt x="46" y="3708"/>
                    </a:lnTo>
                    <a:lnTo>
                      <a:pt x="37" y="3714"/>
                    </a:lnTo>
                    <a:lnTo>
                      <a:pt x="28" y="3718"/>
                    </a:lnTo>
                    <a:lnTo>
                      <a:pt x="18" y="3724"/>
                    </a:lnTo>
                    <a:lnTo>
                      <a:pt x="10" y="3728"/>
                    </a:lnTo>
                    <a:lnTo>
                      <a:pt x="0" y="3733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6" y="23"/>
                    </a:lnTo>
                    <a:lnTo>
                      <a:pt x="55" y="29"/>
                    </a:lnTo>
                    <a:lnTo>
                      <a:pt x="65" y="33"/>
                    </a:lnTo>
                    <a:lnTo>
                      <a:pt x="73" y="39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27680" y="2636640"/>
                <a:ext cx="28440" cy="1495440"/>
              </a:xfrm>
              <a:custGeom>
                <a:avLst/>
                <a:gdLst/>
                <a:ahLst/>
                <a:rect l="l" t="t" r="r" b="b"/>
                <a:pathLst>
                  <a:path w="74" h="3771">
                    <a:moveTo>
                      <a:pt x="74" y="38"/>
                    </a:moveTo>
                    <a:lnTo>
                      <a:pt x="74" y="3733"/>
                    </a:lnTo>
                    <a:lnTo>
                      <a:pt x="65" y="3738"/>
                    </a:lnTo>
                    <a:lnTo>
                      <a:pt x="55" y="3743"/>
                    </a:lnTo>
                    <a:lnTo>
                      <a:pt x="47" y="3747"/>
                    </a:lnTo>
                    <a:lnTo>
                      <a:pt x="37" y="3752"/>
                    </a:lnTo>
                    <a:lnTo>
                      <a:pt x="28" y="3757"/>
                    </a:lnTo>
                    <a:lnTo>
                      <a:pt x="19" y="3761"/>
                    </a:lnTo>
                    <a:lnTo>
                      <a:pt x="10" y="3766"/>
                    </a:lnTo>
                    <a:lnTo>
                      <a:pt x="0" y="377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9"/>
                    </a:lnTo>
                    <a:lnTo>
                      <a:pt x="47" y="24"/>
                    </a:lnTo>
                    <a:lnTo>
                      <a:pt x="55" y="28"/>
                    </a:lnTo>
                    <a:lnTo>
                      <a:pt x="65" y="33"/>
                    </a:lnTo>
                    <a:lnTo>
                      <a:pt x="74" y="38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3280" y="2628720"/>
                <a:ext cx="28800" cy="1511280"/>
              </a:xfrm>
              <a:custGeom>
                <a:avLst/>
                <a:gdLst/>
                <a:ahLst/>
                <a:rect l="l" t="t" r="r" b="b"/>
                <a:pathLst>
                  <a:path w="74" h="3807">
                    <a:moveTo>
                      <a:pt x="74" y="37"/>
                    </a:moveTo>
                    <a:lnTo>
                      <a:pt x="74" y="3770"/>
                    </a:lnTo>
                    <a:lnTo>
                      <a:pt x="65" y="3775"/>
                    </a:lnTo>
                    <a:lnTo>
                      <a:pt x="56" y="3779"/>
                    </a:lnTo>
                    <a:lnTo>
                      <a:pt x="47" y="3783"/>
                    </a:lnTo>
                    <a:lnTo>
                      <a:pt x="37" y="3789"/>
                    </a:lnTo>
                    <a:lnTo>
                      <a:pt x="28" y="3793"/>
                    </a:lnTo>
                    <a:lnTo>
                      <a:pt x="19" y="3797"/>
                    </a:lnTo>
                    <a:lnTo>
                      <a:pt x="10" y="3802"/>
                    </a:lnTo>
                    <a:lnTo>
                      <a:pt x="0" y="3807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9" y="9"/>
                    </a:lnTo>
                    <a:lnTo>
                      <a:pt x="28" y="14"/>
                    </a:lnTo>
                    <a:lnTo>
                      <a:pt x="37" y="18"/>
                    </a:lnTo>
                    <a:lnTo>
                      <a:pt x="47" y="23"/>
                    </a:lnTo>
                    <a:lnTo>
                      <a:pt x="56" y="27"/>
                    </a:lnTo>
                    <a:lnTo>
                      <a:pt x="65" y="32"/>
                    </a:lnTo>
                    <a:lnTo>
                      <a:pt x="74" y="37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9240" y="2622600"/>
                <a:ext cx="28440" cy="1523880"/>
              </a:xfrm>
              <a:custGeom>
                <a:avLst/>
                <a:gdLst/>
                <a:ahLst/>
                <a:rect l="l" t="t" r="r" b="b"/>
                <a:pathLst>
                  <a:path w="72" h="3842">
                    <a:moveTo>
                      <a:pt x="72" y="36"/>
                    </a:moveTo>
                    <a:lnTo>
                      <a:pt x="72" y="3807"/>
                    </a:lnTo>
                    <a:lnTo>
                      <a:pt x="63" y="3811"/>
                    </a:lnTo>
                    <a:lnTo>
                      <a:pt x="54" y="3815"/>
                    </a:lnTo>
                    <a:lnTo>
                      <a:pt x="45" y="3820"/>
                    </a:lnTo>
                    <a:lnTo>
                      <a:pt x="36" y="3825"/>
                    </a:lnTo>
                    <a:lnTo>
                      <a:pt x="27" y="3829"/>
                    </a:lnTo>
                    <a:lnTo>
                      <a:pt x="18" y="3834"/>
                    </a:lnTo>
                    <a:lnTo>
                      <a:pt x="8" y="3838"/>
                    </a:lnTo>
                    <a:lnTo>
                      <a:pt x="0" y="384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9"/>
                    </a:lnTo>
                    <a:lnTo>
                      <a:pt x="27" y="14"/>
                    </a:lnTo>
                    <a:lnTo>
                      <a:pt x="36" y="18"/>
                    </a:lnTo>
                    <a:lnTo>
                      <a:pt x="45" y="22"/>
                    </a:lnTo>
                    <a:lnTo>
                      <a:pt x="54" y="27"/>
                    </a:lnTo>
                    <a:lnTo>
                      <a:pt x="63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84840" y="2614680"/>
                <a:ext cx="28440" cy="1539720"/>
              </a:xfrm>
              <a:custGeom>
                <a:avLst/>
                <a:gdLst/>
                <a:ahLst/>
                <a:rect l="l" t="t" r="r" b="b"/>
                <a:pathLst>
                  <a:path w="72" h="3878">
                    <a:moveTo>
                      <a:pt x="72" y="36"/>
                    </a:moveTo>
                    <a:lnTo>
                      <a:pt x="72" y="3843"/>
                    </a:lnTo>
                    <a:lnTo>
                      <a:pt x="64" y="3847"/>
                    </a:lnTo>
                    <a:lnTo>
                      <a:pt x="55" y="3852"/>
                    </a:lnTo>
                    <a:lnTo>
                      <a:pt x="45" y="3856"/>
                    </a:lnTo>
                    <a:lnTo>
                      <a:pt x="37" y="3860"/>
                    </a:lnTo>
                    <a:lnTo>
                      <a:pt x="27" y="3865"/>
                    </a:lnTo>
                    <a:lnTo>
                      <a:pt x="18" y="3869"/>
                    </a:lnTo>
                    <a:lnTo>
                      <a:pt x="9" y="3873"/>
                    </a:lnTo>
                    <a:lnTo>
                      <a:pt x="0" y="3878"/>
                    </a:lnTo>
                    <a:lnTo>
                      <a:pt x="0" y="0"/>
                    </a:lnTo>
                    <a:lnTo>
                      <a:pt x="9" y="5"/>
                    </a:lnTo>
                    <a:lnTo>
                      <a:pt x="18" y="9"/>
                    </a:lnTo>
                    <a:lnTo>
                      <a:pt x="27" y="13"/>
                    </a:lnTo>
                    <a:lnTo>
                      <a:pt x="37" y="18"/>
                    </a:lnTo>
                    <a:lnTo>
                      <a:pt x="45" y="22"/>
                    </a:lnTo>
                    <a:lnTo>
                      <a:pt x="55" y="26"/>
                    </a:lnTo>
                    <a:lnTo>
                      <a:pt x="64" y="32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70440" y="2608200"/>
                <a:ext cx="28800" cy="1552680"/>
              </a:xfrm>
              <a:custGeom>
                <a:avLst/>
                <a:gdLst/>
                <a:ahLst/>
                <a:rect l="l" t="t" r="r" b="b"/>
                <a:pathLst>
                  <a:path w="74" h="3912">
                    <a:moveTo>
                      <a:pt x="74" y="35"/>
                    </a:moveTo>
                    <a:lnTo>
                      <a:pt x="74" y="3877"/>
                    </a:lnTo>
                    <a:lnTo>
                      <a:pt x="64" y="3882"/>
                    </a:lnTo>
                    <a:lnTo>
                      <a:pt x="55" y="3886"/>
                    </a:lnTo>
                    <a:lnTo>
                      <a:pt x="46" y="3890"/>
                    </a:lnTo>
                    <a:lnTo>
                      <a:pt x="37" y="3895"/>
                    </a:lnTo>
                    <a:lnTo>
                      <a:pt x="27" y="3899"/>
                    </a:lnTo>
                    <a:lnTo>
                      <a:pt x="19" y="3903"/>
                    </a:lnTo>
                    <a:lnTo>
                      <a:pt x="9" y="3907"/>
                    </a:lnTo>
                    <a:lnTo>
                      <a:pt x="0" y="3912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9"/>
                    </a:lnTo>
                    <a:lnTo>
                      <a:pt x="27" y="13"/>
                    </a:lnTo>
                    <a:lnTo>
                      <a:pt x="37" y="17"/>
                    </a:lnTo>
                    <a:lnTo>
                      <a:pt x="46" y="22"/>
                    </a:lnTo>
                    <a:lnTo>
                      <a:pt x="55" y="26"/>
                    </a:lnTo>
                    <a:lnTo>
                      <a:pt x="64" y="30"/>
                    </a:lnTo>
                    <a:lnTo>
                      <a:pt x="74" y="35"/>
                    </a:lnTo>
                    <a:close/>
                  </a:path>
                </a:pathLst>
              </a:custGeom>
              <a:solidFill>
                <a:srgbClr val="9954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54600" y="2601720"/>
                <a:ext cx="30240" cy="1565280"/>
              </a:xfrm>
              <a:custGeom>
                <a:avLst/>
                <a:gdLst/>
                <a:ahLst/>
                <a:rect l="l" t="t" r="r" b="b"/>
                <a:pathLst>
                  <a:path w="73" h="3946">
                    <a:moveTo>
                      <a:pt x="73" y="34"/>
                    </a:moveTo>
                    <a:lnTo>
                      <a:pt x="73" y="3912"/>
                    </a:lnTo>
                    <a:lnTo>
                      <a:pt x="63" y="3916"/>
                    </a:lnTo>
                    <a:lnTo>
                      <a:pt x="55" y="3920"/>
                    </a:lnTo>
                    <a:lnTo>
                      <a:pt x="45" y="3924"/>
                    </a:lnTo>
                    <a:lnTo>
                      <a:pt x="36" y="3929"/>
                    </a:lnTo>
                    <a:lnTo>
                      <a:pt x="27" y="3933"/>
                    </a:lnTo>
                    <a:lnTo>
                      <a:pt x="18" y="3937"/>
                    </a:lnTo>
                    <a:lnTo>
                      <a:pt x="8" y="3942"/>
                    </a:lnTo>
                    <a:lnTo>
                      <a:pt x="0" y="3946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7" y="13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6"/>
                    </a:lnTo>
                    <a:lnTo>
                      <a:pt x="63" y="30"/>
                    </a:lnTo>
                    <a:lnTo>
                      <a:pt x="73" y="34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40560" y="2595600"/>
                <a:ext cx="29880" cy="1577880"/>
              </a:xfrm>
              <a:custGeom>
                <a:avLst/>
                <a:gdLst/>
                <a:ahLst/>
                <a:rect l="l" t="t" r="r" b="b"/>
                <a:pathLst>
                  <a:path w="73" h="3978">
                    <a:moveTo>
                      <a:pt x="73" y="33"/>
                    </a:moveTo>
                    <a:lnTo>
                      <a:pt x="73" y="3945"/>
                    </a:lnTo>
                    <a:lnTo>
                      <a:pt x="64" y="3949"/>
                    </a:lnTo>
                    <a:lnTo>
                      <a:pt x="55" y="3953"/>
                    </a:lnTo>
                    <a:lnTo>
                      <a:pt x="45" y="3958"/>
                    </a:lnTo>
                    <a:lnTo>
                      <a:pt x="37" y="3962"/>
                    </a:lnTo>
                    <a:lnTo>
                      <a:pt x="28" y="3965"/>
                    </a:lnTo>
                    <a:lnTo>
                      <a:pt x="18" y="3970"/>
                    </a:lnTo>
                    <a:lnTo>
                      <a:pt x="8" y="3974"/>
                    </a:lnTo>
                    <a:lnTo>
                      <a:pt x="0" y="3978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8" y="8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5" y="20"/>
                    </a:lnTo>
                    <a:lnTo>
                      <a:pt x="55" y="24"/>
                    </a:lnTo>
                    <a:lnTo>
                      <a:pt x="64" y="29"/>
                    </a:lnTo>
                    <a:lnTo>
                      <a:pt x="73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26160" y="2589120"/>
                <a:ext cx="28440" cy="1590840"/>
              </a:xfrm>
              <a:custGeom>
                <a:avLst/>
                <a:gdLst/>
                <a:ahLst/>
                <a:rect l="l" t="t" r="r" b="b"/>
                <a:pathLst>
                  <a:path w="74" h="4011">
                    <a:moveTo>
                      <a:pt x="74" y="33"/>
                    </a:moveTo>
                    <a:lnTo>
                      <a:pt x="74" y="3979"/>
                    </a:lnTo>
                    <a:lnTo>
                      <a:pt x="64" y="3983"/>
                    </a:lnTo>
                    <a:lnTo>
                      <a:pt x="55" y="3987"/>
                    </a:lnTo>
                    <a:lnTo>
                      <a:pt x="47" y="3991"/>
                    </a:lnTo>
                    <a:lnTo>
                      <a:pt x="37" y="3995"/>
                    </a:lnTo>
                    <a:lnTo>
                      <a:pt x="28" y="4000"/>
                    </a:lnTo>
                    <a:lnTo>
                      <a:pt x="18" y="4003"/>
                    </a:lnTo>
                    <a:lnTo>
                      <a:pt x="10" y="4007"/>
                    </a:lnTo>
                    <a:lnTo>
                      <a:pt x="0" y="4011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8" y="9"/>
                    </a:lnTo>
                    <a:lnTo>
                      <a:pt x="28" y="13"/>
                    </a:lnTo>
                    <a:lnTo>
                      <a:pt x="37" y="17"/>
                    </a:lnTo>
                    <a:lnTo>
                      <a:pt x="47" y="21"/>
                    </a:lnTo>
                    <a:lnTo>
                      <a:pt x="55" y="25"/>
                    </a:lnTo>
                    <a:lnTo>
                      <a:pt x="64" y="30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11760" y="2582640"/>
                <a:ext cx="28800" cy="1603440"/>
              </a:xfrm>
              <a:custGeom>
                <a:avLst/>
                <a:gdLst/>
                <a:ahLst/>
                <a:rect l="l" t="t" r="r" b="b"/>
                <a:pathLst>
                  <a:path w="74" h="4042">
                    <a:moveTo>
                      <a:pt x="74" y="32"/>
                    </a:moveTo>
                    <a:lnTo>
                      <a:pt x="74" y="4010"/>
                    </a:lnTo>
                    <a:lnTo>
                      <a:pt x="65" y="4015"/>
                    </a:lnTo>
                    <a:lnTo>
                      <a:pt x="55" y="4018"/>
                    </a:lnTo>
                    <a:lnTo>
                      <a:pt x="47" y="4022"/>
                    </a:lnTo>
                    <a:lnTo>
                      <a:pt x="37" y="4026"/>
                    </a:lnTo>
                    <a:lnTo>
                      <a:pt x="28" y="4030"/>
                    </a:lnTo>
                    <a:lnTo>
                      <a:pt x="19" y="4034"/>
                    </a:lnTo>
                    <a:lnTo>
                      <a:pt x="10" y="4038"/>
                    </a:lnTo>
                    <a:lnTo>
                      <a:pt x="0" y="4042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8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7" y="20"/>
                    </a:lnTo>
                    <a:lnTo>
                      <a:pt x="55" y="24"/>
                    </a:lnTo>
                    <a:lnTo>
                      <a:pt x="65" y="27"/>
                    </a:lnTo>
                    <a:lnTo>
                      <a:pt x="74" y="32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697360" y="2576520"/>
                <a:ext cx="28800" cy="1616040"/>
              </a:xfrm>
              <a:custGeom>
                <a:avLst/>
                <a:gdLst/>
                <a:ahLst/>
                <a:rect l="l" t="t" r="r" b="b"/>
                <a:pathLst>
                  <a:path w="73" h="4074">
                    <a:moveTo>
                      <a:pt x="73" y="31"/>
                    </a:moveTo>
                    <a:lnTo>
                      <a:pt x="73" y="4042"/>
                    </a:lnTo>
                    <a:lnTo>
                      <a:pt x="64" y="4046"/>
                    </a:lnTo>
                    <a:lnTo>
                      <a:pt x="55" y="4050"/>
                    </a:lnTo>
                    <a:lnTo>
                      <a:pt x="46" y="4054"/>
                    </a:lnTo>
                    <a:lnTo>
                      <a:pt x="36" y="4058"/>
                    </a:lnTo>
                    <a:lnTo>
                      <a:pt x="28" y="4062"/>
                    </a:lnTo>
                    <a:lnTo>
                      <a:pt x="18" y="4065"/>
                    </a:lnTo>
                    <a:lnTo>
                      <a:pt x="9" y="4069"/>
                    </a:lnTo>
                    <a:lnTo>
                      <a:pt x="0" y="4074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8"/>
                    </a:lnTo>
                    <a:lnTo>
                      <a:pt x="28" y="12"/>
                    </a:lnTo>
                    <a:lnTo>
                      <a:pt x="36" y="16"/>
                    </a:lnTo>
                    <a:lnTo>
                      <a:pt x="46" y="19"/>
                    </a:lnTo>
                    <a:lnTo>
                      <a:pt x="55" y="24"/>
                    </a:lnTo>
                    <a:lnTo>
                      <a:pt x="64" y="28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81520" y="2570040"/>
                <a:ext cx="30240" cy="1629000"/>
              </a:xfrm>
              <a:custGeom>
                <a:avLst/>
                <a:gdLst/>
                <a:ahLst/>
                <a:rect l="l" t="t" r="r" b="b"/>
                <a:pathLst>
                  <a:path w="73" h="4104">
                    <a:moveTo>
                      <a:pt x="73" y="31"/>
                    </a:moveTo>
                    <a:lnTo>
                      <a:pt x="73" y="4073"/>
                    </a:lnTo>
                    <a:lnTo>
                      <a:pt x="65" y="4077"/>
                    </a:lnTo>
                    <a:lnTo>
                      <a:pt x="55" y="4081"/>
                    </a:lnTo>
                    <a:lnTo>
                      <a:pt x="46" y="4084"/>
                    </a:lnTo>
                    <a:lnTo>
                      <a:pt x="37" y="4089"/>
                    </a:lnTo>
                    <a:lnTo>
                      <a:pt x="28" y="4092"/>
                    </a:lnTo>
                    <a:lnTo>
                      <a:pt x="18" y="4096"/>
                    </a:lnTo>
                    <a:lnTo>
                      <a:pt x="10" y="4100"/>
                    </a:lnTo>
                    <a:lnTo>
                      <a:pt x="0" y="4104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7"/>
                    </a:lnTo>
                    <a:lnTo>
                      <a:pt x="28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5" y="23"/>
                    </a:lnTo>
                    <a:lnTo>
                      <a:pt x="65" y="27"/>
                    </a:lnTo>
                    <a:lnTo>
                      <a:pt x="73" y="31"/>
                    </a:lnTo>
                    <a:close/>
                  </a:path>
                </a:pathLst>
              </a:custGeom>
              <a:solidFill>
                <a:srgbClr val="9b54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68920" y="2563920"/>
                <a:ext cx="28440" cy="1639800"/>
              </a:xfrm>
              <a:custGeom>
                <a:avLst/>
                <a:gdLst/>
                <a:ahLst/>
                <a:rect l="l" t="t" r="r" b="b"/>
                <a:pathLst>
                  <a:path w="73" h="4133">
                    <a:moveTo>
                      <a:pt x="73" y="30"/>
                    </a:moveTo>
                    <a:lnTo>
                      <a:pt x="73" y="4104"/>
                    </a:lnTo>
                    <a:lnTo>
                      <a:pt x="64" y="4107"/>
                    </a:lnTo>
                    <a:lnTo>
                      <a:pt x="54" y="4111"/>
                    </a:lnTo>
                    <a:lnTo>
                      <a:pt x="46" y="4115"/>
                    </a:lnTo>
                    <a:lnTo>
                      <a:pt x="37" y="4119"/>
                    </a:lnTo>
                    <a:lnTo>
                      <a:pt x="27" y="4122"/>
                    </a:lnTo>
                    <a:lnTo>
                      <a:pt x="19" y="4125"/>
                    </a:lnTo>
                    <a:lnTo>
                      <a:pt x="9" y="4130"/>
                    </a:lnTo>
                    <a:lnTo>
                      <a:pt x="0" y="4133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6" y="19"/>
                    </a:lnTo>
                    <a:lnTo>
                      <a:pt x="54" y="22"/>
                    </a:lnTo>
                    <a:lnTo>
                      <a:pt x="64" y="27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53080" y="2558880"/>
                <a:ext cx="28440" cy="1650960"/>
              </a:xfrm>
              <a:custGeom>
                <a:avLst/>
                <a:gdLst/>
                <a:ahLst/>
                <a:rect l="l" t="t" r="r" b="b"/>
                <a:pathLst>
                  <a:path w="73" h="4162">
                    <a:moveTo>
                      <a:pt x="73" y="29"/>
                    </a:moveTo>
                    <a:lnTo>
                      <a:pt x="73" y="4133"/>
                    </a:lnTo>
                    <a:lnTo>
                      <a:pt x="64" y="4136"/>
                    </a:lnTo>
                    <a:lnTo>
                      <a:pt x="56" y="4140"/>
                    </a:lnTo>
                    <a:lnTo>
                      <a:pt x="46" y="4144"/>
                    </a:lnTo>
                    <a:lnTo>
                      <a:pt x="37" y="4147"/>
                    </a:lnTo>
                    <a:lnTo>
                      <a:pt x="27" y="4151"/>
                    </a:lnTo>
                    <a:lnTo>
                      <a:pt x="19" y="4155"/>
                    </a:lnTo>
                    <a:lnTo>
                      <a:pt x="9" y="4159"/>
                    </a:lnTo>
                    <a:lnTo>
                      <a:pt x="0" y="4162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11"/>
                    </a:lnTo>
                    <a:lnTo>
                      <a:pt x="37" y="14"/>
                    </a:lnTo>
                    <a:lnTo>
                      <a:pt x="46" y="18"/>
                    </a:lnTo>
                    <a:lnTo>
                      <a:pt x="56" y="21"/>
                    </a:lnTo>
                    <a:lnTo>
                      <a:pt x="64" y="26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2552760"/>
                <a:ext cx="30240" cy="1663560"/>
              </a:xfrm>
              <a:custGeom>
                <a:avLst/>
                <a:gdLst/>
                <a:ahLst/>
                <a:rect l="l" t="t" r="r" b="b"/>
                <a:pathLst>
                  <a:path w="73" h="4190">
                    <a:moveTo>
                      <a:pt x="73" y="28"/>
                    </a:moveTo>
                    <a:lnTo>
                      <a:pt x="73" y="4161"/>
                    </a:lnTo>
                    <a:lnTo>
                      <a:pt x="63" y="4165"/>
                    </a:lnTo>
                    <a:lnTo>
                      <a:pt x="55" y="4169"/>
                    </a:lnTo>
                    <a:lnTo>
                      <a:pt x="45" y="4172"/>
                    </a:lnTo>
                    <a:lnTo>
                      <a:pt x="36" y="4176"/>
                    </a:lnTo>
                    <a:lnTo>
                      <a:pt x="27" y="4179"/>
                    </a:lnTo>
                    <a:lnTo>
                      <a:pt x="18" y="4183"/>
                    </a:lnTo>
                    <a:lnTo>
                      <a:pt x="8" y="4187"/>
                    </a:lnTo>
                    <a:lnTo>
                      <a:pt x="0" y="4190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11"/>
                    </a:lnTo>
                    <a:lnTo>
                      <a:pt x="36" y="14"/>
                    </a:lnTo>
                    <a:lnTo>
                      <a:pt x="45" y="17"/>
                    </a:lnTo>
                    <a:lnTo>
                      <a:pt x="55" y="21"/>
                    </a:lnTo>
                    <a:lnTo>
                      <a:pt x="63" y="25"/>
                    </a:lnTo>
                    <a:lnTo>
                      <a:pt x="73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24640" y="2546280"/>
                <a:ext cx="28440" cy="1674720"/>
              </a:xfrm>
              <a:custGeom>
                <a:avLst/>
                <a:gdLst/>
                <a:ahLst/>
                <a:rect l="l" t="t" r="r" b="b"/>
                <a:pathLst>
                  <a:path w="73" h="4219">
                    <a:moveTo>
                      <a:pt x="73" y="29"/>
                    </a:moveTo>
                    <a:lnTo>
                      <a:pt x="73" y="4191"/>
                    </a:lnTo>
                    <a:lnTo>
                      <a:pt x="64" y="4194"/>
                    </a:lnTo>
                    <a:lnTo>
                      <a:pt x="55" y="4198"/>
                    </a:lnTo>
                    <a:lnTo>
                      <a:pt x="45" y="4202"/>
                    </a:lnTo>
                    <a:lnTo>
                      <a:pt x="37" y="4205"/>
                    </a:lnTo>
                    <a:lnTo>
                      <a:pt x="27" y="4208"/>
                    </a:lnTo>
                    <a:lnTo>
                      <a:pt x="18" y="4212"/>
                    </a:lnTo>
                    <a:lnTo>
                      <a:pt x="9" y="4216"/>
                    </a:lnTo>
                    <a:lnTo>
                      <a:pt x="0" y="421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7"/>
                    </a:lnTo>
                    <a:lnTo>
                      <a:pt x="27" y="10"/>
                    </a:lnTo>
                    <a:lnTo>
                      <a:pt x="37" y="14"/>
                    </a:lnTo>
                    <a:lnTo>
                      <a:pt x="45" y="18"/>
                    </a:lnTo>
                    <a:lnTo>
                      <a:pt x="55" y="21"/>
                    </a:lnTo>
                    <a:lnTo>
                      <a:pt x="64" y="24"/>
                    </a:lnTo>
                    <a:lnTo>
                      <a:pt x="73" y="29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10240" y="2541600"/>
                <a:ext cx="28440" cy="1685880"/>
              </a:xfrm>
              <a:custGeom>
                <a:avLst/>
                <a:gdLst/>
                <a:ahLst/>
                <a:rect l="l" t="t" r="r" b="b"/>
                <a:pathLst>
                  <a:path w="74" h="4246">
                    <a:moveTo>
                      <a:pt x="74" y="28"/>
                    </a:moveTo>
                    <a:lnTo>
                      <a:pt x="74" y="4218"/>
                    </a:lnTo>
                    <a:lnTo>
                      <a:pt x="64" y="4221"/>
                    </a:lnTo>
                    <a:lnTo>
                      <a:pt x="55" y="4225"/>
                    </a:lnTo>
                    <a:lnTo>
                      <a:pt x="46" y="4229"/>
                    </a:lnTo>
                    <a:lnTo>
                      <a:pt x="37" y="4232"/>
                    </a:lnTo>
                    <a:lnTo>
                      <a:pt x="28" y="4235"/>
                    </a:lnTo>
                    <a:lnTo>
                      <a:pt x="19" y="4239"/>
                    </a:lnTo>
                    <a:lnTo>
                      <a:pt x="10" y="4243"/>
                    </a:lnTo>
                    <a:lnTo>
                      <a:pt x="0" y="424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4"/>
                    </a:lnTo>
                    <a:lnTo>
                      <a:pt x="46" y="17"/>
                    </a:lnTo>
                    <a:lnTo>
                      <a:pt x="55" y="20"/>
                    </a:lnTo>
                    <a:lnTo>
                      <a:pt x="64" y="23"/>
                    </a:lnTo>
                    <a:lnTo>
                      <a:pt x="74" y="28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95840" y="2536920"/>
                <a:ext cx="28800" cy="1695240"/>
              </a:xfrm>
              <a:custGeom>
                <a:avLst/>
                <a:gdLst/>
                <a:ahLst/>
                <a:rect l="l" t="t" r="r" b="b"/>
                <a:pathLst>
                  <a:path w="74" h="4273">
                    <a:moveTo>
                      <a:pt x="74" y="27"/>
                    </a:moveTo>
                    <a:lnTo>
                      <a:pt x="74" y="4246"/>
                    </a:lnTo>
                    <a:lnTo>
                      <a:pt x="64" y="4249"/>
                    </a:lnTo>
                    <a:lnTo>
                      <a:pt x="56" y="4253"/>
                    </a:lnTo>
                    <a:lnTo>
                      <a:pt x="47" y="4256"/>
                    </a:lnTo>
                    <a:lnTo>
                      <a:pt x="37" y="4260"/>
                    </a:lnTo>
                    <a:lnTo>
                      <a:pt x="29" y="4263"/>
                    </a:lnTo>
                    <a:lnTo>
                      <a:pt x="19" y="4267"/>
                    </a:lnTo>
                    <a:lnTo>
                      <a:pt x="10" y="4270"/>
                    </a:lnTo>
                    <a:lnTo>
                      <a:pt x="0" y="427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9" y="10"/>
                    </a:lnTo>
                    <a:lnTo>
                      <a:pt x="37" y="14"/>
                    </a:lnTo>
                    <a:lnTo>
                      <a:pt x="47" y="17"/>
                    </a:lnTo>
                    <a:lnTo>
                      <a:pt x="56" y="20"/>
                    </a:lnTo>
                    <a:lnTo>
                      <a:pt x="64" y="23"/>
                    </a:lnTo>
                    <a:lnTo>
                      <a:pt x="74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580000" y="2530440"/>
                <a:ext cx="30240" cy="1706400"/>
              </a:xfrm>
              <a:custGeom>
                <a:avLst/>
                <a:gdLst/>
                <a:ahLst/>
                <a:rect l="l" t="t" r="r" b="b"/>
                <a:pathLst>
                  <a:path w="73" h="4299">
                    <a:moveTo>
                      <a:pt x="73" y="27"/>
                    </a:moveTo>
                    <a:lnTo>
                      <a:pt x="73" y="4273"/>
                    </a:lnTo>
                    <a:lnTo>
                      <a:pt x="65" y="4276"/>
                    </a:lnTo>
                    <a:lnTo>
                      <a:pt x="55" y="4280"/>
                    </a:lnTo>
                    <a:lnTo>
                      <a:pt x="46" y="4283"/>
                    </a:lnTo>
                    <a:lnTo>
                      <a:pt x="36" y="4286"/>
                    </a:lnTo>
                    <a:lnTo>
                      <a:pt x="28" y="4289"/>
                    </a:lnTo>
                    <a:lnTo>
                      <a:pt x="18" y="4293"/>
                    </a:lnTo>
                    <a:lnTo>
                      <a:pt x="9" y="4296"/>
                    </a:lnTo>
                    <a:lnTo>
                      <a:pt x="0" y="4299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6" y="16"/>
                    </a:lnTo>
                    <a:lnTo>
                      <a:pt x="55" y="20"/>
                    </a:lnTo>
                    <a:lnTo>
                      <a:pt x="65" y="23"/>
                    </a:lnTo>
                    <a:lnTo>
                      <a:pt x="73" y="27"/>
                    </a:lnTo>
                    <a:close/>
                  </a:path>
                </a:pathLst>
              </a:custGeom>
              <a:solidFill>
                <a:srgbClr val="9d53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65600" y="2525760"/>
                <a:ext cx="30240" cy="1717560"/>
              </a:xfrm>
              <a:custGeom>
                <a:avLst/>
                <a:gdLst/>
                <a:ahLst/>
                <a:rect l="l" t="t" r="r" b="b"/>
                <a:pathLst>
                  <a:path w="73" h="4325">
                    <a:moveTo>
                      <a:pt x="73" y="26"/>
                    </a:moveTo>
                    <a:lnTo>
                      <a:pt x="73" y="4299"/>
                    </a:lnTo>
                    <a:lnTo>
                      <a:pt x="65" y="4302"/>
                    </a:lnTo>
                    <a:lnTo>
                      <a:pt x="55" y="4306"/>
                    </a:lnTo>
                    <a:lnTo>
                      <a:pt x="46" y="4309"/>
                    </a:lnTo>
                    <a:lnTo>
                      <a:pt x="37" y="4312"/>
                    </a:lnTo>
                    <a:lnTo>
                      <a:pt x="28" y="4315"/>
                    </a:lnTo>
                    <a:lnTo>
                      <a:pt x="18" y="4319"/>
                    </a:lnTo>
                    <a:lnTo>
                      <a:pt x="10" y="4322"/>
                    </a:lnTo>
                    <a:lnTo>
                      <a:pt x="0" y="4325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6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3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51560" y="2520720"/>
                <a:ext cx="28440" cy="1727280"/>
              </a:xfrm>
              <a:custGeom>
                <a:avLst/>
                <a:gdLst/>
                <a:ahLst/>
                <a:rect l="l" t="t" r="r" b="b"/>
                <a:pathLst>
                  <a:path w="74" h="4351">
                    <a:moveTo>
                      <a:pt x="74" y="26"/>
                    </a:moveTo>
                    <a:lnTo>
                      <a:pt x="74" y="4325"/>
                    </a:lnTo>
                    <a:lnTo>
                      <a:pt x="65" y="4328"/>
                    </a:lnTo>
                    <a:lnTo>
                      <a:pt x="55" y="4332"/>
                    </a:lnTo>
                    <a:lnTo>
                      <a:pt x="47" y="4335"/>
                    </a:lnTo>
                    <a:lnTo>
                      <a:pt x="37" y="4338"/>
                    </a:lnTo>
                    <a:lnTo>
                      <a:pt x="28" y="4341"/>
                    </a:lnTo>
                    <a:lnTo>
                      <a:pt x="19" y="4345"/>
                    </a:lnTo>
                    <a:lnTo>
                      <a:pt x="10" y="4348"/>
                    </a:lnTo>
                    <a:lnTo>
                      <a:pt x="0" y="4351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6"/>
                    </a:lnTo>
                    <a:lnTo>
                      <a:pt x="28" y="9"/>
                    </a:lnTo>
                    <a:lnTo>
                      <a:pt x="37" y="13"/>
                    </a:lnTo>
                    <a:lnTo>
                      <a:pt x="47" y="16"/>
                    </a:lnTo>
                    <a:lnTo>
                      <a:pt x="55" y="19"/>
                    </a:lnTo>
                    <a:lnTo>
                      <a:pt x="65" y="22"/>
                    </a:lnTo>
                    <a:lnTo>
                      <a:pt x="74" y="26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37160" y="2516040"/>
                <a:ext cx="28440" cy="1737000"/>
              </a:xfrm>
              <a:custGeom>
                <a:avLst/>
                <a:gdLst/>
                <a:ahLst/>
                <a:rect l="l" t="t" r="r" b="b"/>
                <a:pathLst>
                  <a:path w="72" h="4375">
                    <a:moveTo>
                      <a:pt x="72" y="25"/>
                    </a:moveTo>
                    <a:lnTo>
                      <a:pt x="72" y="4350"/>
                    </a:lnTo>
                    <a:lnTo>
                      <a:pt x="63" y="4353"/>
                    </a:lnTo>
                    <a:lnTo>
                      <a:pt x="54" y="4357"/>
                    </a:lnTo>
                    <a:lnTo>
                      <a:pt x="45" y="4360"/>
                    </a:lnTo>
                    <a:lnTo>
                      <a:pt x="36" y="4363"/>
                    </a:lnTo>
                    <a:lnTo>
                      <a:pt x="27" y="4366"/>
                    </a:lnTo>
                    <a:lnTo>
                      <a:pt x="18" y="4370"/>
                    </a:lnTo>
                    <a:lnTo>
                      <a:pt x="8" y="4372"/>
                    </a:lnTo>
                    <a:lnTo>
                      <a:pt x="0" y="437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6" y="12"/>
                    </a:lnTo>
                    <a:lnTo>
                      <a:pt x="45" y="15"/>
                    </a:lnTo>
                    <a:lnTo>
                      <a:pt x="54" y="18"/>
                    </a:lnTo>
                    <a:lnTo>
                      <a:pt x="63" y="21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22760" y="2511360"/>
                <a:ext cx="28800" cy="1746360"/>
              </a:xfrm>
              <a:custGeom>
                <a:avLst/>
                <a:gdLst/>
                <a:ahLst/>
                <a:rect l="l" t="t" r="r" b="b"/>
                <a:pathLst>
                  <a:path w="72" h="4399">
                    <a:moveTo>
                      <a:pt x="72" y="24"/>
                    </a:moveTo>
                    <a:lnTo>
                      <a:pt x="72" y="4375"/>
                    </a:lnTo>
                    <a:lnTo>
                      <a:pt x="64" y="4378"/>
                    </a:lnTo>
                    <a:lnTo>
                      <a:pt x="55" y="4380"/>
                    </a:lnTo>
                    <a:lnTo>
                      <a:pt x="45" y="4384"/>
                    </a:lnTo>
                    <a:lnTo>
                      <a:pt x="37" y="4387"/>
                    </a:lnTo>
                    <a:lnTo>
                      <a:pt x="27" y="4390"/>
                    </a:lnTo>
                    <a:lnTo>
                      <a:pt x="18" y="4393"/>
                    </a:lnTo>
                    <a:lnTo>
                      <a:pt x="9" y="4397"/>
                    </a:lnTo>
                    <a:lnTo>
                      <a:pt x="0" y="439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5" y="15"/>
                    </a:lnTo>
                    <a:lnTo>
                      <a:pt x="55" y="18"/>
                    </a:lnTo>
                    <a:lnTo>
                      <a:pt x="64" y="2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508720" y="2506680"/>
                <a:ext cx="28440" cy="1755720"/>
              </a:xfrm>
              <a:custGeom>
                <a:avLst/>
                <a:gdLst/>
                <a:ahLst/>
                <a:rect l="l" t="t" r="r" b="b"/>
                <a:pathLst>
                  <a:path w="74" h="4423">
                    <a:moveTo>
                      <a:pt x="74" y="24"/>
                    </a:moveTo>
                    <a:lnTo>
                      <a:pt x="74" y="4399"/>
                    </a:lnTo>
                    <a:lnTo>
                      <a:pt x="64" y="4402"/>
                    </a:lnTo>
                    <a:lnTo>
                      <a:pt x="55" y="4405"/>
                    </a:lnTo>
                    <a:lnTo>
                      <a:pt x="46" y="4409"/>
                    </a:lnTo>
                    <a:lnTo>
                      <a:pt x="37" y="4411"/>
                    </a:lnTo>
                    <a:lnTo>
                      <a:pt x="27" y="4414"/>
                    </a:lnTo>
                    <a:lnTo>
                      <a:pt x="19" y="4417"/>
                    </a:lnTo>
                    <a:lnTo>
                      <a:pt x="9" y="4421"/>
                    </a:lnTo>
                    <a:lnTo>
                      <a:pt x="0" y="4423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5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94320" y="2502000"/>
                <a:ext cx="28440" cy="1765080"/>
              </a:xfrm>
              <a:custGeom>
                <a:avLst/>
                <a:gdLst/>
                <a:ahLst/>
                <a:rect l="l" t="t" r="r" b="b"/>
                <a:pathLst>
                  <a:path w="74" h="4447">
                    <a:moveTo>
                      <a:pt x="74" y="24"/>
                    </a:moveTo>
                    <a:lnTo>
                      <a:pt x="74" y="4423"/>
                    </a:lnTo>
                    <a:lnTo>
                      <a:pt x="64" y="4426"/>
                    </a:lnTo>
                    <a:lnTo>
                      <a:pt x="56" y="4429"/>
                    </a:lnTo>
                    <a:lnTo>
                      <a:pt x="46" y="4433"/>
                    </a:lnTo>
                    <a:lnTo>
                      <a:pt x="37" y="4435"/>
                    </a:lnTo>
                    <a:lnTo>
                      <a:pt x="27" y="4438"/>
                    </a:lnTo>
                    <a:lnTo>
                      <a:pt x="19" y="4441"/>
                    </a:lnTo>
                    <a:lnTo>
                      <a:pt x="9" y="4443"/>
                    </a:lnTo>
                    <a:lnTo>
                      <a:pt x="0" y="444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6"/>
                    </a:lnTo>
                    <a:lnTo>
                      <a:pt x="27" y="9"/>
                    </a:lnTo>
                    <a:lnTo>
                      <a:pt x="37" y="12"/>
                    </a:lnTo>
                    <a:lnTo>
                      <a:pt x="46" y="14"/>
                    </a:lnTo>
                    <a:lnTo>
                      <a:pt x="56" y="17"/>
                    </a:lnTo>
                    <a:lnTo>
                      <a:pt x="64" y="21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9f53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78480" y="2496960"/>
                <a:ext cx="30240" cy="1774800"/>
              </a:xfrm>
              <a:custGeom>
                <a:avLst/>
                <a:gdLst/>
                <a:ahLst/>
                <a:rect l="l" t="t" r="r" b="b"/>
                <a:pathLst>
                  <a:path w="73" h="4470">
                    <a:moveTo>
                      <a:pt x="73" y="24"/>
                    </a:moveTo>
                    <a:lnTo>
                      <a:pt x="73" y="4447"/>
                    </a:lnTo>
                    <a:lnTo>
                      <a:pt x="63" y="4450"/>
                    </a:lnTo>
                    <a:lnTo>
                      <a:pt x="55" y="4453"/>
                    </a:lnTo>
                    <a:lnTo>
                      <a:pt x="45" y="4455"/>
                    </a:lnTo>
                    <a:lnTo>
                      <a:pt x="36" y="4459"/>
                    </a:lnTo>
                    <a:lnTo>
                      <a:pt x="28" y="4462"/>
                    </a:lnTo>
                    <a:lnTo>
                      <a:pt x="18" y="4464"/>
                    </a:lnTo>
                    <a:lnTo>
                      <a:pt x="9" y="4467"/>
                    </a:lnTo>
                    <a:lnTo>
                      <a:pt x="0" y="4470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8" y="9"/>
                    </a:lnTo>
                    <a:lnTo>
                      <a:pt x="36" y="12"/>
                    </a:lnTo>
                    <a:lnTo>
                      <a:pt x="45" y="14"/>
                    </a:lnTo>
                    <a:lnTo>
                      <a:pt x="55" y="18"/>
                    </a:lnTo>
                    <a:lnTo>
                      <a:pt x="63" y="21"/>
                    </a:lnTo>
                    <a:lnTo>
                      <a:pt x="73" y="24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64080" y="2492280"/>
                <a:ext cx="30240" cy="1782720"/>
              </a:xfrm>
              <a:custGeom>
                <a:avLst/>
                <a:gdLst/>
                <a:ahLst/>
                <a:rect l="l" t="t" r="r" b="b"/>
                <a:pathLst>
                  <a:path w="73" h="4491">
                    <a:moveTo>
                      <a:pt x="73" y="22"/>
                    </a:moveTo>
                    <a:lnTo>
                      <a:pt x="73" y="4469"/>
                    </a:lnTo>
                    <a:lnTo>
                      <a:pt x="64" y="4472"/>
                    </a:lnTo>
                    <a:lnTo>
                      <a:pt x="55" y="4474"/>
                    </a:lnTo>
                    <a:lnTo>
                      <a:pt x="46" y="4477"/>
                    </a:lnTo>
                    <a:lnTo>
                      <a:pt x="37" y="4480"/>
                    </a:lnTo>
                    <a:lnTo>
                      <a:pt x="28" y="4483"/>
                    </a:lnTo>
                    <a:lnTo>
                      <a:pt x="18" y="4486"/>
                    </a:lnTo>
                    <a:lnTo>
                      <a:pt x="10" y="4488"/>
                    </a:lnTo>
                    <a:lnTo>
                      <a:pt x="0" y="449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5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4"/>
                    </a:lnTo>
                    <a:lnTo>
                      <a:pt x="55" y="16"/>
                    </a:lnTo>
                    <a:lnTo>
                      <a:pt x="64" y="19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50040" y="2489040"/>
                <a:ext cx="28440" cy="1790640"/>
              </a:xfrm>
              <a:custGeom>
                <a:avLst/>
                <a:gdLst/>
                <a:ahLst/>
                <a:rect l="l" t="t" r="r" b="b"/>
                <a:pathLst>
                  <a:path w="74" h="4513">
                    <a:moveTo>
                      <a:pt x="74" y="21"/>
                    </a:moveTo>
                    <a:lnTo>
                      <a:pt x="74" y="4491"/>
                    </a:lnTo>
                    <a:lnTo>
                      <a:pt x="65" y="4494"/>
                    </a:lnTo>
                    <a:lnTo>
                      <a:pt x="55" y="4497"/>
                    </a:lnTo>
                    <a:lnTo>
                      <a:pt x="47" y="4499"/>
                    </a:lnTo>
                    <a:lnTo>
                      <a:pt x="37" y="4502"/>
                    </a:lnTo>
                    <a:lnTo>
                      <a:pt x="28" y="4504"/>
                    </a:lnTo>
                    <a:lnTo>
                      <a:pt x="19" y="4508"/>
                    </a:lnTo>
                    <a:lnTo>
                      <a:pt x="10" y="4510"/>
                    </a:lnTo>
                    <a:lnTo>
                      <a:pt x="0" y="4513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8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5" y="16"/>
                    </a:lnTo>
                    <a:lnTo>
                      <a:pt x="65" y="19"/>
                    </a:lnTo>
                    <a:lnTo>
                      <a:pt x="74" y="21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35640" y="2484360"/>
                <a:ext cx="28440" cy="1800360"/>
              </a:xfrm>
              <a:custGeom>
                <a:avLst/>
                <a:gdLst/>
                <a:ahLst/>
                <a:rect l="l" t="t" r="r" b="b"/>
                <a:pathLst>
                  <a:path w="74" h="4535">
                    <a:moveTo>
                      <a:pt x="74" y="22"/>
                    </a:moveTo>
                    <a:lnTo>
                      <a:pt x="74" y="4513"/>
                    </a:lnTo>
                    <a:lnTo>
                      <a:pt x="65" y="4515"/>
                    </a:lnTo>
                    <a:lnTo>
                      <a:pt x="56" y="4519"/>
                    </a:lnTo>
                    <a:lnTo>
                      <a:pt x="47" y="4521"/>
                    </a:lnTo>
                    <a:lnTo>
                      <a:pt x="37" y="4524"/>
                    </a:lnTo>
                    <a:lnTo>
                      <a:pt x="29" y="4526"/>
                    </a:lnTo>
                    <a:lnTo>
                      <a:pt x="19" y="4529"/>
                    </a:lnTo>
                    <a:lnTo>
                      <a:pt x="10" y="4532"/>
                    </a:lnTo>
                    <a:lnTo>
                      <a:pt x="0" y="453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5"/>
                    </a:lnTo>
                    <a:lnTo>
                      <a:pt x="29" y="7"/>
                    </a:lnTo>
                    <a:lnTo>
                      <a:pt x="37" y="11"/>
                    </a:lnTo>
                    <a:lnTo>
                      <a:pt x="47" y="13"/>
                    </a:lnTo>
                    <a:lnTo>
                      <a:pt x="56" y="16"/>
                    </a:lnTo>
                    <a:lnTo>
                      <a:pt x="65" y="18"/>
                    </a:lnTo>
                    <a:lnTo>
                      <a:pt x="74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1240" y="2479680"/>
                <a:ext cx="28800" cy="1808280"/>
              </a:xfrm>
              <a:custGeom>
                <a:avLst/>
                <a:gdLst/>
                <a:ahLst/>
                <a:rect l="l" t="t" r="r" b="b"/>
                <a:pathLst>
                  <a:path w="73" h="4557">
                    <a:moveTo>
                      <a:pt x="73" y="22"/>
                    </a:moveTo>
                    <a:lnTo>
                      <a:pt x="73" y="4535"/>
                    </a:lnTo>
                    <a:lnTo>
                      <a:pt x="65" y="4537"/>
                    </a:lnTo>
                    <a:lnTo>
                      <a:pt x="55" y="4540"/>
                    </a:lnTo>
                    <a:lnTo>
                      <a:pt x="46" y="4543"/>
                    </a:lnTo>
                    <a:lnTo>
                      <a:pt x="36" y="4546"/>
                    </a:lnTo>
                    <a:lnTo>
                      <a:pt x="28" y="4548"/>
                    </a:lnTo>
                    <a:lnTo>
                      <a:pt x="18" y="4551"/>
                    </a:lnTo>
                    <a:lnTo>
                      <a:pt x="9" y="4553"/>
                    </a:lnTo>
                    <a:lnTo>
                      <a:pt x="0" y="455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6" y="11"/>
                    </a:lnTo>
                    <a:lnTo>
                      <a:pt x="46" y="13"/>
                    </a:lnTo>
                    <a:lnTo>
                      <a:pt x="55" y="16"/>
                    </a:lnTo>
                    <a:lnTo>
                      <a:pt x="65" y="18"/>
                    </a:lnTo>
                    <a:lnTo>
                      <a:pt x="73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07200" y="2476440"/>
                <a:ext cx="28440" cy="1816200"/>
              </a:xfrm>
              <a:custGeom>
                <a:avLst/>
                <a:gdLst/>
                <a:ahLst/>
                <a:rect l="l" t="t" r="r" b="b"/>
                <a:pathLst>
                  <a:path w="72" h="4577">
                    <a:moveTo>
                      <a:pt x="72" y="22"/>
                    </a:moveTo>
                    <a:lnTo>
                      <a:pt x="72" y="4557"/>
                    </a:lnTo>
                    <a:lnTo>
                      <a:pt x="64" y="4559"/>
                    </a:lnTo>
                    <a:lnTo>
                      <a:pt x="54" y="4562"/>
                    </a:lnTo>
                    <a:lnTo>
                      <a:pt x="45" y="4564"/>
                    </a:lnTo>
                    <a:lnTo>
                      <a:pt x="37" y="4567"/>
                    </a:lnTo>
                    <a:lnTo>
                      <a:pt x="27" y="4570"/>
                    </a:lnTo>
                    <a:lnTo>
                      <a:pt x="18" y="4572"/>
                    </a:lnTo>
                    <a:lnTo>
                      <a:pt x="9" y="4575"/>
                    </a:lnTo>
                    <a:lnTo>
                      <a:pt x="0" y="457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8" y="6"/>
                    </a:lnTo>
                    <a:lnTo>
                      <a:pt x="27" y="9"/>
                    </a:lnTo>
                    <a:lnTo>
                      <a:pt x="37" y="11"/>
                    </a:lnTo>
                    <a:lnTo>
                      <a:pt x="45" y="13"/>
                    </a:lnTo>
                    <a:lnTo>
                      <a:pt x="54" y="17"/>
                    </a:lnTo>
                    <a:lnTo>
                      <a:pt x="64" y="19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392800" y="2471760"/>
                <a:ext cx="28440" cy="1824120"/>
              </a:xfrm>
              <a:custGeom>
                <a:avLst/>
                <a:gdLst/>
                <a:ahLst/>
                <a:rect l="l" t="t" r="r" b="b"/>
                <a:pathLst>
                  <a:path w="73" h="4596">
                    <a:moveTo>
                      <a:pt x="73" y="20"/>
                    </a:moveTo>
                    <a:lnTo>
                      <a:pt x="73" y="4577"/>
                    </a:lnTo>
                    <a:lnTo>
                      <a:pt x="64" y="4579"/>
                    </a:lnTo>
                    <a:lnTo>
                      <a:pt x="55" y="4581"/>
                    </a:lnTo>
                    <a:lnTo>
                      <a:pt x="46" y="4584"/>
                    </a:lnTo>
                    <a:lnTo>
                      <a:pt x="37" y="4586"/>
                    </a:lnTo>
                    <a:lnTo>
                      <a:pt x="27" y="4589"/>
                    </a:lnTo>
                    <a:lnTo>
                      <a:pt x="19" y="4592"/>
                    </a:lnTo>
                    <a:lnTo>
                      <a:pt x="9" y="4594"/>
                    </a:lnTo>
                    <a:lnTo>
                      <a:pt x="0" y="4596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3"/>
                    </a:lnTo>
                    <a:lnTo>
                      <a:pt x="55" y="15"/>
                    </a:lnTo>
                    <a:lnTo>
                      <a:pt x="64" y="18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0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76960" y="2468520"/>
                <a:ext cx="30240" cy="1832040"/>
              </a:xfrm>
              <a:custGeom>
                <a:avLst/>
                <a:gdLst/>
                <a:ahLst/>
                <a:rect l="l" t="t" r="r" b="b"/>
                <a:pathLst>
                  <a:path w="73" h="4616">
                    <a:moveTo>
                      <a:pt x="73" y="19"/>
                    </a:moveTo>
                    <a:lnTo>
                      <a:pt x="73" y="4596"/>
                    </a:lnTo>
                    <a:lnTo>
                      <a:pt x="63" y="4599"/>
                    </a:lnTo>
                    <a:lnTo>
                      <a:pt x="55" y="4602"/>
                    </a:lnTo>
                    <a:lnTo>
                      <a:pt x="45" y="4604"/>
                    </a:lnTo>
                    <a:lnTo>
                      <a:pt x="36" y="4606"/>
                    </a:lnTo>
                    <a:lnTo>
                      <a:pt x="27" y="4609"/>
                    </a:lnTo>
                    <a:lnTo>
                      <a:pt x="18" y="4611"/>
                    </a:lnTo>
                    <a:lnTo>
                      <a:pt x="8" y="4614"/>
                    </a:lnTo>
                    <a:lnTo>
                      <a:pt x="0" y="461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5"/>
                    </a:lnTo>
                    <a:lnTo>
                      <a:pt x="27" y="7"/>
                    </a:lnTo>
                    <a:lnTo>
                      <a:pt x="36" y="10"/>
                    </a:lnTo>
                    <a:lnTo>
                      <a:pt x="45" y="13"/>
                    </a:lnTo>
                    <a:lnTo>
                      <a:pt x="55" y="15"/>
                    </a:lnTo>
                    <a:lnTo>
                      <a:pt x="63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62560" y="2463840"/>
                <a:ext cx="30240" cy="1839960"/>
              </a:xfrm>
              <a:custGeom>
                <a:avLst/>
                <a:gdLst/>
                <a:ahLst/>
                <a:rect l="l" t="t" r="r" b="b"/>
                <a:pathLst>
                  <a:path w="73" h="4636">
                    <a:moveTo>
                      <a:pt x="73" y="20"/>
                    </a:moveTo>
                    <a:lnTo>
                      <a:pt x="73" y="4616"/>
                    </a:lnTo>
                    <a:lnTo>
                      <a:pt x="64" y="4618"/>
                    </a:lnTo>
                    <a:lnTo>
                      <a:pt x="55" y="4621"/>
                    </a:lnTo>
                    <a:lnTo>
                      <a:pt x="45" y="4624"/>
                    </a:lnTo>
                    <a:lnTo>
                      <a:pt x="37" y="4626"/>
                    </a:lnTo>
                    <a:lnTo>
                      <a:pt x="27" y="4628"/>
                    </a:lnTo>
                    <a:lnTo>
                      <a:pt x="18" y="4631"/>
                    </a:lnTo>
                    <a:lnTo>
                      <a:pt x="8" y="4633"/>
                    </a:lnTo>
                    <a:lnTo>
                      <a:pt x="0" y="463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6"/>
                    </a:lnTo>
                    <a:lnTo>
                      <a:pt x="27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5"/>
                    </a:lnTo>
                    <a:lnTo>
                      <a:pt x="64" y="17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348160" y="2460600"/>
                <a:ext cx="28800" cy="1847880"/>
              </a:xfrm>
              <a:custGeom>
                <a:avLst/>
                <a:gdLst/>
                <a:ahLst/>
                <a:rect l="l" t="t" r="r" b="b"/>
                <a:pathLst>
                  <a:path w="74" h="4655">
                    <a:moveTo>
                      <a:pt x="74" y="20"/>
                    </a:moveTo>
                    <a:lnTo>
                      <a:pt x="74" y="4636"/>
                    </a:lnTo>
                    <a:lnTo>
                      <a:pt x="64" y="4639"/>
                    </a:lnTo>
                    <a:lnTo>
                      <a:pt x="55" y="4641"/>
                    </a:lnTo>
                    <a:lnTo>
                      <a:pt x="45" y="4643"/>
                    </a:lnTo>
                    <a:lnTo>
                      <a:pt x="37" y="4646"/>
                    </a:lnTo>
                    <a:lnTo>
                      <a:pt x="28" y="4648"/>
                    </a:lnTo>
                    <a:lnTo>
                      <a:pt x="18" y="4650"/>
                    </a:lnTo>
                    <a:lnTo>
                      <a:pt x="10" y="4653"/>
                    </a:lnTo>
                    <a:lnTo>
                      <a:pt x="0" y="4655"/>
                    </a:lnTo>
                    <a:lnTo>
                      <a:pt x="0" y="0"/>
                    </a:lnTo>
                    <a:lnTo>
                      <a:pt x="10" y="4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5" y="12"/>
                    </a:lnTo>
                    <a:lnTo>
                      <a:pt x="55" y="16"/>
                    </a:lnTo>
                    <a:lnTo>
                      <a:pt x="64" y="18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34120" y="2457360"/>
                <a:ext cx="28440" cy="1854360"/>
              </a:xfrm>
              <a:custGeom>
                <a:avLst/>
                <a:gdLst/>
                <a:ahLst/>
                <a:rect l="l" t="t" r="r" b="b"/>
                <a:pathLst>
                  <a:path w="74" h="4672">
                    <a:moveTo>
                      <a:pt x="74" y="18"/>
                    </a:moveTo>
                    <a:lnTo>
                      <a:pt x="74" y="4654"/>
                    </a:lnTo>
                    <a:lnTo>
                      <a:pt x="64" y="4656"/>
                    </a:lnTo>
                    <a:lnTo>
                      <a:pt x="55" y="4658"/>
                    </a:lnTo>
                    <a:lnTo>
                      <a:pt x="47" y="4661"/>
                    </a:lnTo>
                    <a:lnTo>
                      <a:pt x="37" y="4663"/>
                    </a:lnTo>
                    <a:lnTo>
                      <a:pt x="28" y="4665"/>
                    </a:lnTo>
                    <a:lnTo>
                      <a:pt x="19" y="4668"/>
                    </a:lnTo>
                    <a:lnTo>
                      <a:pt x="10" y="4670"/>
                    </a:lnTo>
                    <a:lnTo>
                      <a:pt x="0" y="467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7" y="12"/>
                    </a:lnTo>
                    <a:lnTo>
                      <a:pt x="55" y="14"/>
                    </a:lnTo>
                    <a:lnTo>
                      <a:pt x="64" y="16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19720" y="2454120"/>
                <a:ext cx="28440" cy="1860480"/>
              </a:xfrm>
              <a:custGeom>
                <a:avLst/>
                <a:gdLst/>
                <a:ahLst/>
                <a:rect l="l" t="t" r="r" b="b"/>
                <a:pathLst>
                  <a:path w="73" h="4690">
                    <a:moveTo>
                      <a:pt x="73" y="17"/>
                    </a:moveTo>
                    <a:lnTo>
                      <a:pt x="73" y="4672"/>
                    </a:lnTo>
                    <a:lnTo>
                      <a:pt x="64" y="4674"/>
                    </a:lnTo>
                    <a:lnTo>
                      <a:pt x="55" y="4677"/>
                    </a:lnTo>
                    <a:lnTo>
                      <a:pt x="46" y="4679"/>
                    </a:lnTo>
                    <a:lnTo>
                      <a:pt x="36" y="4681"/>
                    </a:lnTo>
                    <a:lnTo>
                      <a:pt x="28" y="4683"/>
                    </a:lnTo>
                    <a:lnTo>
                      <a:pt x="18" y="4685"/>
                    </a:lnTo>
                    <a:lnTo>
                      <a:pt x="9" y="4687"/>
                    </a:lnTo>
                    <a:lnTo>
                      <a:pt x="0" y="469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6" y="11"/>
                    </a:lnTo>
                    <a:lnTo>
                      <a:pt x="55" y="13"/>
                    </a:lnTo>
                    <a:lnTo>
                      <a:pt x="64" y="15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303880" y="2449440"/>
                <a:ext cx="30240" cy="1868400"/>
              </a:xfrm>
              <a:custGeom>
                <a:avLst/>
                <a:gdLst/>
                <a:ahLst/>
                <a:rect l="l" t="t" r="r" b="b"/>
                <a:pathLst>
                  <a:path w="73" h="4709">
                    <a:moveTo>
                      <a:pt x="73" y="19"/>
                    </a:moveTo>
                    <a:lnTo>
                      <a:pt x="73" y="4691"/>
                    </a:lnTo>
                    <a:lnTo>
                      <a:pt x="65" y="4693"/>
                    </a:lnTo>
                    <a:lnTo>
                      <a:pt x="55" y="4695"/>
                    </a:lnTo>
                    <a:lnTo>
                      <a:pt x="46" y="4698"/>
                    </a:lnTo>
                    <a:lnTo>
                      <a:pt x="37" y="4701"/>
                    </a:lnTo>
                    <a:lnTo>
                      <a:pt x="28" y="4703"/>
                    </a:lnTo>
                    <a:lnTo>
                      <a:pt x="18" y="4705"/>
                    </a:lnTo>
                    <a:lnTo>
                      <a:pt x="10" y="4707"/>
                    </a:lnTo>
                    <a:lnTo>
                      <a:pt x="0" y="470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6"/>
                    </a:lnTo>
                    <a:lnTo>
                      <a:pt x="28" y="8"/>
                    </a:lnTo>
                    <a:lnTo>
                      <a:pt x="37" y="10"/>
                    </a:lnTo>
                    <a:lnTo>
                      <a:pt x="46" y="12"/>
                    </a:lnTo>
                    <a:lnTo>
                      <a:pt x="55" y="14"/>
                    </a:lnTo>
                    <a:lnTo>
                      <a:pt x="65" y="17"/>
                    </a:lnTo>
                    <a:lnTo>
                      <a:pt x="73" y="19"/>
                    </a:lnTo>
                    <a:close/>
                  </a:path>
                </a:pathLst>
              </a:custGeom>
              <a:solidFill>
                <a:srgbClr val="a25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289480" y="2446200"/>
                <a:ext cx="30240" cy="1874880"/>
              </a:xfrm>
              <a:custGeom>
                <a:avLst/>
                <a:gdLst/>
                <a:ahLst/>
                <a:rect l="l" t="t" r="r" b="b"/>
                <a:pathLst>
                  <a:path w="74" h="4725">
                    <a:moveTo>
                      <a:pt x="74" y="17"/>
                    </a:moveTo>
                    <a:lnTo>
                      <a:pt x="74" y="4707"/>
                    </a:lnTo>
                    <a:lnTo>
                      <a:pt x="65" y="4710"/>
                    </a:lnTo>
                    <a:lnTo>
                      <a:pt x="55" y="4712"/>
                    </a:lnTo>
                    <a:lnTo>
                      <a:pt x="47" y="4714"/>
                    </a:lnTo>
                    <a:lnTo>
                      <a:pt x="37" y="4716"/>
                    </a:lnTo>
                    <a:lnTo>
                      <a:pt x="28" y="4718"/>
                    </a:lnTo>
                    <a:lnTo>
                      <a:pt x="19" y="4721"/>
                    </a:lnTo>
                    <a:lnTo>
                      <a:pt x="10" y="4723"/>
                    </a:lnTo>
                    <a:lnTo>
                      <a:pt x="0" y="472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9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1"/>
                    </a:lnTo>
                    <a:lnTo>
                      <a:pt x="55" y="13"/>
                    </a:lnTo>
                    <a:lnTo>
                      <a:pt x="65" y="15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75440" y="2442960"/>
                <a:ext cx="28440" cy="1881360"/>
              </a:xfrm>
              <a:custGeom>
                <a:avLst/>
                <a:gdLst/>
                <a:ahLst/>
                <a:rect l="l" t="t" r="r" b="b"/>
                <a:pathLst>
                  <a:path w="73" h="4741">
                    <a:moveTo>
                      <a:pt x="73" y="16"/>
                    </a:moveTo>
                    <a:lnTo>
                      <a:pt x="73" y="4725"/>
                    </a:lnTo>
                    <a:lnTo>
                      <a:pt x="64" y="4727"/>
                    </a:lnTo>
                    <a:lnTo>
                      <a:pt x="55" y="4730"/>
                    </a:lnTo>
                    <a:lnTo>
                      <a:pt x="46" y="4732"/>
                    </a:lnTo>
                    <a:lnTo>
                      <a:pt x="37" y="4733"/>
                    </a:lnTo>
                    <a:lnTo>
                      <a:pt x="27" y="4735"/>
                    </a:lnTo>
                    <a:lnTo>
                      <a:pt x="19" y="4737"/>
                    </a:lnTo>
                    <a:lnTo>
                      <a:pt x="9" y="4739"/>
                    </a:lnTo>
                    <a:lnTo>
                      <a:pt x="0" y="4741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5"/>
                    </a:lnTo>
                    <a:lnTo>
                      <a:pt x="27" y="7"/>
                    </a:lnTo>
                    <a:lnTo>
                      <a:pt x="37" y="9"/>
                    </a:lnTo>
                    <a:lnTo>
                      <a:pt x="46" y="11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61040" y="2440080"/>
                <a:ext cx="28440" cy="1888920"/>
              </a:xfrm>
              <a:custGeom>
                <a:avLst/>
                <a:gdLst/>
                <a:ahLst/>
                <a:rect l="l" t="t" r="r" b="b"/>
                <a:pathLst>
                  <a:path w="72" h="4758">
                    <a:moveTo>
                      <a:pt x="72" y="17"/>
                    </a:moveTo>
                    <a:lnTo>
                      <a:pt x="72" y="4742"/>
                    </a:lnTo>
                    <a:lnTo>
                      <a:pt x="63" y="4743"/>
                    </a:lnTo>
                    <a:lnTo>
                      <a:pt x="55" y="4745"/>
                    </a:lnTo>
                    <a:lnTo>
                      <a:pt x="45" y="4747"/>
                    </a:lnTo>
                    <a:lnTo>
                      <a:pt x="36" y="4749"/>
                    </a:lnTo>
                    <a:lnTo>
                      <a:pt x="27" y="4752"/>
                    </a:lnTo>
                    <a:lnTo>
                      <a:pt x="18" y="4754"/>
                    </a:lnTo>
                    <a:lnTo>
                      <a:pt x="8" y="4756"/>
                    </a:lnTo>
                    <a:lnTo>
                      <a:pt x="0" y="475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6" y="8"/>
                    </a:lnTo>
                    <a:lnTo>
                      <a:pt x="45" y="10"/>
                    </a:lnTo>
                    <a:lnTo>
                      <a:pt x="55" y="13"/>
                    </a:lnTo>
                    <a:lnTo>
                      <a:pt x="63" y="15"/>
                    </a:lnTo>
                    <a:lnTo>
                      <a:pt x="72" y="17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46640" y="2436840"/>
                <a:ext cx="28800" cy="1893960"/>
              </a:xfrm>
              <a:custGeom>
                <a:avLst/>
                <a:gdLst/>
                <a:ahLst/>
                <a:rect l="l" t="t" r="r" b="b"/>
                <a:pathLst>
                  <a:path w="73" h="4774">
                    <a:moveTo>
                      <a:pt x="73" y="16"/>
                    </a:moveTo>
                    <a:lnTo>
                      <a:pt x="73" y="4757"/>
                    </a:lnTo>
                    <a:lnTo>
                      <a:pt x="64" y="4760"/>
                    </a:lnTo>
                    <a:lnTo>
                      <a:pt x="55" y="4762"/>
                    </a:lnTo>
                    <a:lnTo>
                      <a:pt x="45" y="4764"/>
                    </a:lnTo>
                    <a:lnTo>
                      <a:pt x="37" y="4766"/>
                    </a:lnTo>
                    <a:lnTo>
                      <a:pt x="27" y="4768"/>
                    </a:lnTo>
                    <a:lnTo>
                      <a:pt x="18" y="4769"/>
                    </a:lnTo>
                    <a:lnTo>
                      <a:pt x="9" y="4771"/>
                    </a:lnTo>
                    <a:lnTo>
                      <a:pt x="0" y="47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5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5" y="12"/>
                    </a:lnTo>
                    <a:lnTo>
                      <a:pt x="64" y="14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240" y="2433600"/>
                <a:ext cx="28800" cy="1900080"/>
              </a:xfrm>
              <a:custGeom>
                <a:avLst/>
                <a:gdLst/>
                <a:ahLst/>
                <a:rect l="l" t="t" r="r" b="b"/>
                <a:pathLst>
                  <a:path w="74" h="4789">
                    <a:moveTo>
                      <a:pt x="74" y="16"/>
                    </a:moveTo>
                    <a:lnTo>
                      <a:pt x="74" y="4774"/>
                    </a:lnTo>
                    <a:lnTo>
                      <a:pt x="64" y="4776"/>
                    </a:lnTo>
                    <a:lnTo>
                      <a:pt x="55" y="4777"/>
                    </a:lnTo>
                    <a:lnTo>
                      <a:pt x="46" y="4779"/>
                    </a:lnTo>
                    <a:lnTo>
                      <a:pt x="37" y="4782"/>
                    </a:lnTo>
                    <a:lnTo>
                      <a:pt x="27" y="4784"/>
                    </a:lnTo>
                    <a:lnTo>
                      <a:pt x="19" y="4786"/>
                    </a:lnTo>
                    <a:lnTo>
                      <a:pt x="9" y="4787"/>
                    </a:lnTo>
                    <a:lnTo>
                      <a:pt x="0" y="478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8"/>
                    </a:lnTo>
                    <a:lnTo>
                      <a:pt x="46" y="10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18200" y="2430360"/>
                <a:ext cx="28440" cy="1906560"/>
              </a:xfrm>
              <a:custGeom>
                <a:avLst/>
                <a:gdLst/>
                <a:ahLst/>
                <a:rect l="l" t="t" r="r" b="b"/>
                <a:pathLst>
                  <a:path w="73" h="4804">
                    <a:moveTo>
                      <a:pt x="73" y="15"/>
                    </a:moveTo>
                    <a:lnTo>
                      <a:pt x="73" y="4789"/>
                    </a:lnTo>
                    <a:lnTo>
                      <a:pt x="63" y="4791"/>
                    </a:lnTo>
                    <a:lnTo>
                      <a:pt x="55" y="4793"/>
                    </a:lnTo>
                    <a:lnTo>
                      <a:pt x="45" y="4794"/>
                    </a:lnTo>
                    <a:lnTo>
                      <a:pt x="36" y="4796"/>
                    </a:lnTo>
                    <a:lnTo>
                      <a:pt x="28" y="4798"/>
                    </a:lnTo>
                    <a:lnTo>
                      <a:pt x="18" y="4801"/>
                    </a:lnTo>
                    <a:lnTo>
                      <a:pt x="9" y="4803"/>
                    </a:lnTo>
                    <a:lnTo>
                      <a:pt x="0" y="480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6" y="7"/>
                    </a:lnTo>
                    <a:lnTo>
                      <a:pt x="45" y="9"/>
                    </a:lnTo>
                    <a:lnTo>
                      <a:pt x="55" y="11"/>
                    </a:lnTo>
                    <a:lnTo>
                      <a:pt x="63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4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02360" y="2427120"/>
                <a:ext cx="29880" cy="1913040"/>
              </a:xfrm>
              <a:custGeom>
                <a:avLst/>
                <a:gdLst/>
                <a:ahLst/>
                <a:rect l="l" t="t" r="r" b="b"/>
                <a:pathLst>
                  <a:path w="73" h="4819">
                    <a:moveTo>
                      <a:pt x="73" y="15"/>
                    </a:moveTo>
                    <a:lnTo>
                      <a:pt x="73" y="4804"/>
                    </a:lnTo>
                    <a:lnTo>
                      <a:pt x="64" y="4806"/>
                    </a:lnTo>
                    <a:lnTo>
                      <a:pt x="55" y="4809"/>
                    </a:lnTo>
                    <a:lnTo>
                      <a:pt x="46" y="4810"/>
                    </a:lnTo>
                    <a:lnTo>
                      <a:pt x="37" y="4812"/>
                    </a:lnTo>
                    <a:lnTo>
                      <a:pt x="28" y="4814"/>
                    </a:lnTo>
                    <a:lnTo>
                      <a:pt x="18" y="4816"/>
                    </a:lnTo>
                    <a:lnTo>
                      <a:pt x="10" y="4817"/>
                    </a:lnTo>
                    <a:lnTo>
                      <a:pt x="0" y="481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4"/>
                    </a:lnTo>
                    <a:lnTo>
                      <a:pt x="28" y="6"/>
                    </a:lnTo>
                    <a:lnTo>
                      <a:pt x="37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4" y="13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187960" y="2424240"/>
                <a:ext cx="30240" cy="1919160"/>
              </a:xfrm>
              <a:custGeom>
                <a:avLst/>
                <a:gdLst/>
                <a:ahLst/>
                <a:rect l="l" t="t" r="r" b="b"/>
                <a:pathLst>
                  <a:path w="74" h="4834">
                    <a:moveTo>
                      <a:pt x="74" y="15"/>
                    </a:moveTo>
                    <a:lnTo>
                      <a:pt x="74" y="4819"/>
                    </a:lnTo>
                    <a:lnTo>
                      <a:pt x="65" y="4821"/>
                    </a:lnTo>
                    <a:lnTo>
                      <a:pt x="55" y="4823"/>
                    </a:lnTo>
                    <a:lnTo>
                      <a:pt x="47" y="4824"/>
                    </a:lnTo>
                    <a:lnTo>
                      <a:pt x="37" y="4826"/>
                    </a:lnTo>
                    <a:lnTo>
                      <a:pt x="28" y="4828"/>
                    </a:lnTo>
                    <a:lnTo>
                      <a:pt x="18" y="4830"/>
                    </a:lnTo>
                    <a:lnTo>
                      <a:pt x="10" y="4832"/>
                    </a:lnTo>
                    <a:lnTo>
                      <a:pt x="0" y="4834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8" y="3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10"/>
                    </a:lnTo>
                    <a:lnTo>
                      <a:pt x="55" y="11"/>
                    </a:lnTo>
                    <a:lnTo>
                      <a:pt x="65" y="13"/>
                    </a:lnTo>
                    <a:lnTo>
                      <a:pt x="74" y="15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73560" y="2422440"/>
                <a:ext cx="28800" cy="1924200"/>
              </a:xfrm>
              <a:custGeom>
                <a:avLst/>
                <a:gdLst/>
                <a:ahLst/>
                <a:rect l="l" t="t" r="r" b="b"/>
                <a:pathLst>
                  <a:path w="74" h="4847">
                    <a:moveTo>
                      <a:pt x="74" y="14"/>
                    </a:moveTo>
                    <a:lnTo>
                      <a:pt x="74" y="4833"/>
                    </a:lnTo>
                    <a:lnTo>
                      <a:pt x="65" y="4835"/>
                    </a:lnTo>
                    <a:lnTo>
                      <a:pt x="55" y="4837"/>
                    </a:lnTo>
                    <a:lnTo>
                      <a:pt x="47" y="4839"/>
                    </a:lnTo>
                    <a:lnTo>
                      <a:pt x="37" y="4841"/>
                    </a:lnTo>
                    <a:lnTo>
                      <a:pt x="28" y="4842"/>
                    </a:lnTo>
                    <a:lnTo>
                      <a:pt x="19" y="4844"/>
                    </a:lnTo>
                    <a:lnTo>
                      <a:pt x="10" y="4845"/>
                    </a:lnTo>
                    <a:lnTo>
                      <a:pt x="0" y="4847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7" y="9"/>
                    </a:lnTo>
                    <a:lnTo>
                      <a:pt x="55" y="10"/>
                    </a:lnTo>
                    <a:lnTo>
                      <a:pt x="65" y="12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59520" y="2419200"/>
                <a:ext cx="28440" cy="1928880"/>
              </a:xfrm>
              <a:custGeom>
                <a:avLst/>
                <a:gdLst/>
                <a:ahLst/>
                <a:rect l="l" t="t" r="r" b="b"/>
                <a:pathLst>
                  <a:path w="72" h="4861">
                    <a:moveTo>
                      <a:pt x="72" y="14"/>
                    </a:moveTo>
                    <a:lnTo>
                      <a:pt x="72" y="4848"/>
                    </a:lnTo>
                    <a:lnTo>
                      <a:pt x="63" y="4849"/>
                    </a:lnTo>
                    <a:lnTo>
                      <a:pt x="54" y="4851"/>
                    </a:lnTo>
                    <a:lnTo>
                      <a:pt x="45" y="4852"/>
                    </a:lnTo>
                    <a:lnTo>
                      <a:pt x="35" y="4854"/>
                    </a:lnTo>
                    <a:lnTo>
                      <a:pt x="27" y="4857"/>
                    </a:lnTo>
                    <a:lnTo>
                      <a:pt x="18" y="4858"/>
                    </a:lnTo>
                    <a:lnTo>
                      <a:pt x="8" y="4860"/>
                    </a:lnTo>
                    <a:lnTo>
                      <a:pt x="0" y="486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8" y="3"/>
                    </a:lnTo>
                    <a:lnTo>
                      <a:pt x="27" y="5"/>
                    </a:lnTo>
                    <a:lnTo>
                      <a:pt x="35" y="7"/>
                    </a:lnTo>
                    <a:lnTo>
                      <a:pt x="45" y="8"/>
                    </a:lnTo>
                    <a:lnTo>
                      <a:pt x="54" y="11"/>
                    </a:lnTo>
                    <a:lnTo>
                      <a:pt x="63" y="13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5120" y="2415960"/>
                <a:ext cx="28440" cy="1935360"/>
              </a:xfrm>
              <a:custGeom>
                <a:avLst/>
                <a:gdLst/>
                <a:ahLst/>
                <a:rect l="l" t="t" r="r" b="b"/>
                <a:pathLst>
                  <a:path w="72" h="4874">
                    <a:moveTo>
                      <a:pt x="72" y="14"/>
                    </a:moveTo>
                    <a:lnTo>
                      <a:pt x="72" y="4861"/>
                    </a:lnTo>
                    <a:lnTo>
                      <a:pt x="64" y="4864"/>
                    </a:lnTo>
                    <a:lnTo>
                      <a:pt x="55" y="4865"/>
                    </a:lnTo>
                    <a:lnTo>
                      <a:pt x="45" y="4867"/>
                    </a:lnTo>
                    <a:lnTo>
                      <a:pt x="37" y="4868"/>
                    </a:lnTo>
                    <a:lnTo>
                      <a:pt x="27" y="4870"/>
                    </a:lnTo>
                    <a:lnTo>
                      <a:pt x="18" y="4871"/>
                    </a:lnTo>
                    <a:lnTo>
                      <a:pt x="9" y="4873"/>
                    </a:lnTo>
                    <a:lnTo>
                      <a:pt x="0" y="4874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5" y="9"/>
                    </a:lnTo>
                    <a:lnTo>
                      <a:pt x="54" y="10"/>
                    </a:lnTo>
                    <a:lnTo>
                      <a:pt x="64" y="1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130720" y="2414520"/>
                <a:ext cx="28800" cy="1938240"/>
              </a:xfrm>
              <a:custGeom>
                <a:avLst/>
                <a:gdLst/>
                <a:ahLst/>
                <a:rect l="l" t="t" r="r" b="b"/>
                <a:pathLst>
                  <a:path w="74" h="4887">
                    <a:moveTo>
                      <a:pt x="74" y="13"/>
                    </a:moveTo>
                    <a:lnTo>
                      <a:pt x="74" y="4874"/>
                    </a:lnTo>
                    <a:lnTo>
                      <a:pt x="64" y="4876"/>
                    </a:lnTo>
                    <a:lnTo>
                      <a:pt x="55" y="4877"/>
                    </a:lnTo>
                    <a:lnTo>
                      <a:pt x="46" y="4879"/>
                    </a:lnTo>
                    <a:lnTo>
                      <a:pt x="37" y="4880"/>
                    </a:lnTo>
                    <a:lnTo>
                      <a:pt x="27" y="4882"/>
                    </a:lnTo>
                    <a:lnTo>
                      <a:pt x="19" y="4884"/>
                    </a:lnTo>
                    <a:lnTo>
                      <a:pt x="9" y="4886"/>
                    </a:lnTo>
                    <a:lnTo>
                      <a:pt x="0" y="4887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3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8"/>
                    </a:lnTo>
                    <a:lnTo>
                      <a:pt x="55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16680" y="2411280"/>
                <a:ext cx="28440" cy="1944720"/>
              </a:xfrm>
              <a:custGeom>
                <a:avLst/>
                <a:gdLst/>
                <a:ahLst/>
                <a:rect l="l" t="t" r="r" b="b"/>
                <a:pathLst>
                  <a:path w="74" h="4900">
                    <a:moveTo>
                      <a:pt x="74" y="13"/>
                    </a:moveTo>
                    <a:lnTo>
                      <a:pt x="74" y="4887"/>
                    </a:lnTo>
                    <a:lnTo>
                      <a:pt x="64" y="4889"/>
                    </a:lnTo>
                    <a:lnTo>
                      <a:pt x="56" y="4891"/>
                    </a:lnTo>
                    <a:lnTo>
                      <a:pt x="46" y="4893"/>
                    </a:lnTo>
                    <a:lnTo>
                      <a:pt x="37" y="4894"/>
                    </a:lnTo>
                    <a:lnTo>
                      <a:pt x="27" y="4896"/>
                    </a:lnTo>
                    <a:lnTo>
                      <a:pt x="19" y="4897"/>
                    </a:lnTo>
                    <a:lnTo>
                      <a:pt x="9" y="4899"/>
                    </a:lnTo>
                    <a:lnTo>
                      <a:pt x="0" y="4900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9" y="4"/>
                    </a:lnTo>
                    <a:lnTo>
                      <a:pt x="27" y="6"/>
                    </a:lnTo>
                    <a:lnTo>
                      <a:pt x="37" y="7"/>
                    </a:lnTo>
                    <a:lnTo>
                      <a:pt x="46" y="9"/>
                    </a:lnTo>
                    <a:lnTo>
                      <a:pt x="56" y="10"/>
                    </a:lnTo>
                    <a:lnTo>
                      <a:pt x="64" y="12"/>
                    </a:lnTo>
                    <a:lnTo>
                      <a:pt x="74" y="13"/>
                    </a:lnTo>
                    <a:close/>
                  </a:path>
                </a:pathLst>
              </a:custGeom>
              <a:solidFill>
                <a:srgbClr val="a651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00480" y="2409840"/>
                <a:ext cx="30240" cy="1949400"/>
              </a:xfrm>
              <a:custGeom>
                <a:avLst/>
                <a:gdLst/>
                <a:ahLst/>
                <a:rect l="l" t="t" r="r" b="b"/>
                <a:pathLst>
                  <a:path w="73" h="4912">
                    <a:moveTo>
                      <a:pt x="73" y="12"/>
                    </a:moveTo>
                    <a:lnTo>
                      <a:pt x="73" y="4899"/>
                    </a:lnTo>
                    <a:lnTo>
                      <a:pt x="63" y="4901"/>
                    </a:lnTo>
                    <a:lnTo>
                      <a:pt x="55" y="4902"/>
                    </a:lnTo>
                    <a:lnTo>
                      <a:pt x="45" y="4904"/>
                    </a:lnTo>
                    <a:lnTo>
                      <a:pt x="36" y="4905"/>
                    </a:lnTo>
                    <a:lnTo>
                      <a:pt x="27" y="4907"/>
                    </a:lnTo>
                    <a:lnTo>
                      <a:pt x="18" y="4909"/>
                    </a:lnTo>
                    <a:lnTo>
                      <a:pt x="8" y="4910"/>
                    </a:lnTo>
                    <a:lnTo>
                      <a:pt x="0" y="4912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3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7"/>
                    </a:lnTo>
                    <a:lnTo>
                      <a:pt x="55" y="9"/>
                    </a:lnTo>
                    <a:lnTo>
                      <a:pt x="63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86440" y="2406600"/>
                <a:ext cx="30240" cy="1954080"/>
              </a:xfrm>
              <a:custGeom>
                <a:avLst/>
                <a:gdLst/>
                <a:ahLst/>
                <a:rect l="l" t="t" r="r" b="b"/>
                <a:pathLst>
                  <a:path w="73" h="4924">
                    <a:moveTo>
                      <a:pt x="73" y="12"/>
                    </a:moveTo>
                    <a:lnTo>
                      <a:pt x="73" y="4912"/>
                    </a:lnTo>
                    <a:lnTo>
                      <a:pt x="64" y="4914"/>
                    </a:lnTo>
                    <a:lnTo>
                      <a:pt x="55" y="4916"/>
                    </a:lnTo>
                    <a:lnTo>
                      <a:pt x="45" y="4917"/>
                    </a:lnTo>
                    <a:lnTo>
                      <a:pt x="37" y="4919"/>
                    </a:lnTo>
                    <a:lnTo>
                      <a:pt x="28" y="4920"/>
                    </a:lnTo>
                    <a:lnTo>
                      <a:pt x="18" y="4921"/>
                    </a:lnTo>
                    <a:lnTo>
                      <a:pt x="10" y="4923"/>
                    </a:lnTo>
                    <a:lnTo>
                      <a:pt x="0" y="4924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8" y="4"/>
                    </a:lnTo>
                    <a:lnTo>
                      <a:pt x="28" y="5"/>
                    </a:lnTo>
                    <a:lnTo>
                      <a:pt x="37" y="7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4" y="11"/>
                    </a:lnTo>
                    <a:lnTo>
                      <a:pt x="73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7204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5">
                    <a:moveTo>
                      <a:pt x="74" y="12"/>
                    </a:moveTo>
                    <a:lnTo>
                      <a:pt x="74" y="4924"/>
                    </a:lnTo>
                    <a:lnTo>
                      <a:pt x="65" y="4925"/>
                    </a:lnTo>
                    <a:lnTo>
                      <a:pt x="55" y="4926"/>
                    </a:lnTo>
                    <a:lnTo>
                      <a:pt x="47" y="4928"/>
                    </a:lnTo>
                    <a:lnTo>
                      <a:pt x="37" y="4929"/>
                    </a:lnTo>
                    <a:lnTo>
                      <a:pt x="28" y="4930"/>
                    </a:lnTo>
                    <a:lnTo>
                      <a:pt x="19" y="4932"/>
                    </a:lnTo>
                    <a:lnTo>
                      <a:pt x="10" y="4933"/>
                    </a:lnTo>
                    <a:lnTo>
                      <a:pt x="0" y="493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3"/>
                    </a:lnTo>
                    <a:lnTo>
                      <a:pt x="28" y="4"/>
                    </a:lnTo>
                    <a:lnTo>
                      <a:pt x="37" y="5"/>
                    </a:lnTo>
                    <a:lnTo>
                      <a:pt x="47" y="8"/>
                    </a:lnTo>
                    <a:lnTo>
                      <a:pt x="55" y="9"/>
                    </a:lnTo>
                    <a:lnTo>
                      <a:pt x="65" y="1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57640" y="2401920"/>
                <a:ext cx="28800" cy="1963800"/>
              </a:xfrm>
              <a:custGeom>
                <a:avLst/>
                <a:gdLst/>
                <a:ahLst/>
                <a:rect l="l" t="t" r="r" b="b"/>
                <a:pathLst>
                  <a:path w="74" h="4945">
                    <a:moveTo>
                      <a:pt x="74" y="10"/>
                    </a:moveTo>
                    <a:lnTo>
                      <a:pt x="74" y="4934"/>
                    </a:lnTo>
                    <a:lnTo>
                      <a:pt x="65" y="4936"/>
                    </a:lnTo>
                    <a:lnTo>
                      <a:pt x="56" y="4937"/>
                    </a:lnTo>
                    <a:lnTo>
                      <a:pt x="47" y="4938"/>
                    </a:lnTo>
                    <a:lnTo>
                      <a:pt x="37" y="4940"/>
                    </a:lnTo>
                    <a:lnTo>
                      <a:pt x="29" y="4942"/>
                    </a:lnTo>
                    <a:lnTo>
                      <a:pt x="19" y="4943"/>
                    </a:lnTo>
                    <a:lnTo>
                      <a:pt x="10" y="4944"/>
                    </a:lnTo>
                    <a:lnTo>
                      <a:pt x="0" y="4945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9" y="4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6" y="8"/>
                    </a:lnTo>
                    <a:lnTo>
                      <a:pt x="65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43600" y="2400120"/>
                <a:ext cx="28440" cy="1967040"/>
              </a:xfrm>
              <a:custGeom>
                <a:avLst/>
                <a:gdLst/>
                <a:ahLst/>
                <a:rect l="l" t="t" r="r" b="b"/>
                <a:pathLst>
                  <a:path w="73" h="4956">
                    <a:moveTo>
                      <a:pt x="73" y="11"/>
                    </a:moveTo>
                    <a:lnTo>
                      <a:pt x="73" y="4946"/>
                    </a:lnTo>
                    <a:lnTo>
                      <a:pt x="65" y="4948"/>
                    </a:lnTo>
                    <a:lnTo>
                      <a:pt x="55" y="4949"/>
                    </a:lnTo>
                    <a:lnTo>
                      <a:pt x="46" y="4950"/>
                    </a:lnTo>
                    <a:lnTo>
                      <a:pt x="36" y="4952"/>
                    </a:lnTo>
                    <a:lnTo>
                      <a:pt x="28" y="4953"/>
                    </a:lnTo>
                    <a:lnTo>
                      <a:pt x="18" y="4954"/>
                    </a:lnTo>
                    <a:lnTo>
                      <a:pt x="9" y="4955"/>
                    </a:lnTo>
                    <a:lnTo>
                      <a:pt x="0" y="495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2398680"/>
                <a:ext cx="28440" cy="1969920"/>
              </a:xfrm>
              <a:custGeom>
                <a:avLst/>
                <a:gdLst/>
                <a:ahLst/>
                <a:rect l="l" t="t" r="r" b="b"/>
                <a:pathLst>
                  <a:path w="72" h="4967">
                    <a:moveTo>
                      <a:pt x="72" y="11"/>
                    </a:moveTo>
                    <a:lnTo>
                      <a:pt x="72" y="4956"/>
                    </a:lnTo>
                    <a:lnTo>
                      <a:pt x="64" y="4958"/>
                    </a:lnTo>
                    <a:lnTo>
                      <a:pt x="54" y="4959"/>
                    </a:lnTo>
                    <a:lnTo>
                      <a:pt x="45" y="4960"/>
                    </a:lnTo>
                    <a:lnTo>
                      <a:pt x="36" y="4961"/>
                    </a:lnTo>
                    <a:lnTo>
                      <a:pt x="27" y="4964"/>
                    </a:lnTo>
                    <a:lnTo>
                      <a:pt x="18" y="4965"/>
                    </a:lnTo>
                    <a:lnTo>
                      <a:pt x="9" y="4966"/>
                    </a:lnTo>
                    <a:lnTo>
                      <a:pt x="0" y="4967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4"/>
                    </a:lnTo>
                    <a:lnTo>
                      <a:pt x="36" y="5"/>
                    </a:lnTo>
                    <a:lnTo>
                      <a:pt x="45" y="6"/>
                    </a:lnTo>
                    <a:lnTo>
                      <a:pt x="54" y="7"/>
                    </a:lnTo>
                    <a:lnTo>
                      <a:pt x="64" y="10"/>
                    </a:lnTo>
                    <a:lnTo>
                      <a:pt x="72" y="11"/>
                    </a:lnTo>
                    <a:close/>
                  </a:path>
                </a:pathLst>
              </a:custGeom>
              <a:solidFill>
                <a:srgbClr val="a85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14800" y="2395440"/>
                <a:ext cx="28800" cy="1976400"/>
              </a:xfrm>
              <a:custGeom>
                <a:avLst/>
                <a:gdLst/>
                <a:ahLst/>
                <a:rect l="l" t="t" r="r" b="b"/>
                <a:pathLst>
                  <a:path w="73" h="4978">
                    <a:moveTo>
                      <a:pt x="73" y="11"/>
                    </a:moveTo>
                    <a:lnTo>
                      <a:pt x="73" y="4967"/>
                    </a:lnTo>
                    <a:lnTo>
                      <a:pt x="64" y="4970"/>
                    </a:lnTo>
                    <a:lnTo>
                      <a:pt x="55" y="4971"/>
                    </a:lnTo>
                    <a:lnTo>
                      <a:pt x="46" y="4972"/>
                    </a:lnTo>
                    <a:lnTo>
                      <a:pt x="37" y="4973"/>
                    </a:lnTo>
                    <a:lnTo>
                      <a:pt x="27" y="4974"/>
                    </a:lnTo>
                    <a:lnTo>
                      <a:pt x="19" y="4975"/>
                    </a:lnTo>
                    <a:lnTo>
                      <a:pt x="9" y="4977"/>
                    </a:lnTo>
                    <a:lnTo>
                      <a:pt x="0" y="4978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9"/>
                    </a:lnTo>
                    <a:lnTo>
                      <a:pt x="64" y="10"/>
                    </a:lnTo>
                    <a:lnTo>
                      <a:pt x="73" y="11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98960" y="2394000"/>
                <a:ext cx="30240" cy="1979640"/>
              </a:xfrm>
              <a:custGeom>
                <a:avLst/>
                <a:gdLst/>
                <a:ahLst/>
                <a:rect l="l" t="t" r="r" b="b"/>
                <a:pathLst>
                  <a:path w="73" h="4986">
                    <a:moveTo>
                      <a:pt x="73" y="10"/>
                    </a:moveTo>
                    <a:lnTo>
                      <a:pt x="73" y="4977"/>
                    </a:lnTo>
                    <a:lnTo>
                      <a:pt x="63" y="4978"/>
                    </a:lnTo>
                    <a:lnTo>
                      <a:pt x="55" y="4980"/>
                    </a:lnTo>
                    <a:lnTo>
                      <a:pt x="45" y="4981"/>
                    </a:lnTo>
                    <a:lnTo>
                      <a:pt x="36" y="4982"/>
                    </a:lnTo>
                    <a:lnTo>
                      <a:pt x="27" y="4983"/>
                    </a:lnTo>
                    <a:lnTo>
                      <a:pt x="18" y="4984"/>
                    </a:lnTo>
                    <a:lnTo>
                      <a:pt x="8" y="4985"/>
                    </a:lnTo>
                    <a:lnTo>
                      <a:pt x="0" y="498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6" y="4"/>
                    </a:lnTo>
                    <a:lnTo>
                      <a:pt x="45" y="7"/>
                    </a:lnTo>
                    <a:lnTo>
                      <a:pt x="55" y="8"/>
                    </a:lnTo>
                    <a:lnTo>
                      <a:pt x="63" y="9"/>
                    </a:lnTo>
                    <a:lnTo>
                      <a:pt x="73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84920" y="2392200"/>
                <a:ext cx="29880" cy="1982880"/>
              </a:xfrm>
              <a:custGeom>
                <a:avLst/>
                <a:gdLst/>
                <a:ahLst/>
                <a:rect l="l" t="t" r="r" b="b"/>
                <a:pathLst>
                  <a:path w="73" h="4996">
                    <a:moveTo>
                      <a:pt x="73" y="8"/>
                    </a:moveTo>
                    <a:lnTo>
                      <a:pt x="73" y="4986"/>
                    </a:lnTo>
                    <a:lnTo>
                      <a:pt x="64" y="4987"/>
                    </a:lnTo>
                    <a:lnTo>
                      <a:pt x="55" y="4988"/>
                    </a:lnTo>
                    <a:lnTo>
                      <a:pt x="45" y="4989"/>
                    </a:lnTo>
                    <a:lnTo>
                      <a:pt x="37" y="4990"/>
                    </a:lnTo>
                    <a:lnTo>
                      <a:pt x="27" y="4992"/>
                    </a:lnTo>
                    <a:lnTo>
                      <a:pt x="18" y="4993"/>
                    </a:lnTo>
                    <a:lnTo>
                      <a:pt x="9" y="4995"/>
                    </a:lnTo>
                    <a:lnTo>
                      <a:pt x="0" y="4996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6"/>
                    </a:lnTo>
                    <a:lnTo>
                      <a:pt x="64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70520" y="2390760"/>
                <a:ext cx="28440" cy="1985760"/>
              </a:xfrm>
              <a:custGeom>
                <a:avLst/>
                <a:gdLst/>
                <a:ahLst/>
                <a:rect l="l" t="t" r="r" b="b"/>
                <a:pathLst>
                  <a:path w="74" h="5006">
                    <a:moveTo>
                      <a:pt x="74" y="10"/>
                    </a:moveTo>
                    <a:lnTo>
                      <a:pt x="74" y="4996"/>
                    </a:lnTo>
                    <a:lnTo>
                      <a:pt x="64" y="4998"/>
                    </a:lnTo>
                    <a:lnTo>
                      <a:pt x="55" y="4999"/>
                    </a:lnTo>
                    <a:lnTo>
                      <a:pt x="46" y="5001"/>
                    </a:lnTo>
                    <a:lnTo>
                      <a:pt x="37" y="5002"/>
                    </a:lnTo>
                    <a:lnTo>
                      <a:pt x="27" y="5003"/>
                    </a:lnTo>
                    <a:lnTo>
                      <a:pt x="19" y="5004"/>
                    </a:lnTo>
                    <a:lnTo>
                      <a:pt x="9" y="5005"/>
                    </a:lnTo>
                    <a:lnTo>
                      <a:pt x="0" y="5006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9" y="4"/>
                    </a:lnTo>
                    <a:lnTo>
                      <a:pt x="27" y="5"/>
                    </a:lnTo>
                    <a:lnTo>
                      <a:pt x="37" y="6"/>
                    </a:lnTo>
                    <a:lnTo>
                      <a:pt x="46" y="7"/>
                    </a:lnTo>
                    <a:lnTo>
                      <a:pt x="55" y="8"/>
                    </a:lnTo>
                    <a:lnTo>
                      <a:pt x="64" y="9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6120" y="2388960"/>
                <a:ext cx="28800" cy="1989360"/>
              </a:xfrm>
              <a:custGeom>
                <a:avLst/>
                <a:gdLst/>
                <a:ahLst/>
                <a:rect l="l" t="t" r="r" b="b"/>
                <a:pathLst>
                  <a:path w="74" h="5014">
                    <a:moveTo>
                      <a:pt x="74" y="9"/>
                    </a:moveTo>
                    <a:lnTo>
                      <a:pt x="74" y="5005"/>
                    </a:lnTo>
                    <a:lnTo>
                      <a:pt x="64" y="5006"/>
                    </a:lnTo>
                    <a:lnTo>
                      <a:pt x="56" y="5007"/>
                    </a:lnTo>
                    <a:lnTo>
                      <a:pt x="46" y="5008"/>
                    </a:lnTo>
                    <a:lnTo>
                      <a:pt x="37" y="5009"/>
                    </a:lnTo>
                    <a:lnTo>
                      <a:pt x="28" y="5010"/>
                    </a:lnTo>
                    <a:lnTo>
                      <a:pt x="19" y="5011"/>
                    </a:lnTo>
                    <a:lnTo>
                      <a:pt x="10" y="5012"/>
                    </a:lnTo>
                    <a:lnTo>
                      <a:pt x="0" y="5014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6"/>
                    </a:lnTo>
                    <a:lnTo>
                      <a:pt x="56" y="7"/>
                    </a:lnTo>
                    <a:lnTo>
                      <a:pt x="64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1720" y="2387520"/>
                <a:ext cx="28800" cy="1992240"/>
              </a:xfrm>
              <a:custGeom>
                <a:avLst/>
                <a:gdLst/>
                <a:ahLst/>
                <a:rect l="l" t="t" r="r" b="b"/>
                <a:pathLst>
                  <a:path w="73" h="5022">
                    <a:moveTo>
                      <a:pt x="73" y="7"/>
                    </a:moveTo>
                    <a:lnTo>
                      <a:pt x="73" y="5013"/>
                    </a:lnTo>
                    <a:lnTo>
                      <a:pt x="64" y="5014"/>
                    </a:lnTo>
                    <a:lnTo>
                      <a:pt x="55" y="5015"/>
                    </a:lnTo>
                    <a:lnTo>
                      <a:pt x="46" y="5016"/>
                    </a:lnTo>
                    <a:lnTo>
                      <a:pt x="36" y="5018"/>
                    </a:lnTo>
                    <a:lnTo>
                      <a:pt x="28" y="5019"/>
                    </a:lnTo>
                    <a:lnTo>
                      <a:pt x="18" y="5020"/>
                    </a:lnTo>
                    <a:lnTo>
                      <a:pt x="9" y="5021"/>
                    </a:lnTo>
                    <a:lnTo>
                      <a:pt x="0" y="5022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6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a950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25880" y="2386080"/>
                <a:ext cx="30240" cy="1995480"/>
              </a:xfrm>
              <a:custGeom>
                <a:avLst/>
                <a:gdLst/>
                <a:ahLst/>
                <a:rect l="l" t="t" r="r" b="b"/>
                <a:pathLst>
                  <a:path w="73" h="5029">
                    <a:moveTo>
                      <a:pt x="73" y="8"/>
                    </a:moveTo>
                    <a:lnTo>
                      <a:pt x="73" y="5022"/>
                    </a:lnTo>
                    <a:lnTo>
                      <a:pt x="65" y="5023"/>
                    </a:lnTo>
                    <a:lnTo>
                      <a:pt x="55" y="5024"/>
                    </a:lnTo>
                    <a:lnTo>
                      <a:pt x="46" y="5025"/>
                    </a:lnTo>
                    <a:lnTo>
                      <a:pt x="37" y="5025"/>
                    </a:lnTo>
                    <a:lnTo>
                      <a:pt x="28" y="5026"/>
                    </a:lnTo>
                    <a:lnTo>
                      <a:pt x="18" y="5027"/>
                    </a:lnTo>
                    <a:lnTo>
                      <a:pt x="10" y="5028"/>
                    </a:lnTo>
                    <a:lnTo>
                      <a:pt x="0" y="5029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3"/>
                    </a:lnTo>
                    <a:lnTo>
                      <a:pt x="37" y="4"/>
                    </a:lnTo>
                    <a:lnTo>
                      <a:pt x="46" y="5"/>
                    </a:lnTo>
                    <a:lnTo>
                      <a:pt x="55" y="6"/>
                    </a:lnTo>
                    <a:lnTo>
                      <a:pt x="65" y="7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11840" y="2384280"/>
                <a:ext cx="29880" cy="1998720"/>
              </a:xfrm>
              <a:custGeom>
                <a:avLst/>
                <a:gdLst/>
                <a:ahLst/>
                <a:rect l="l" t="t" r="r" b="b"/>
                <a:pathLst>
                  <a:path w="74" h="5038">
                    <a:moveTo>
                      <a:pt x="74" y="9"/>
                    </a:moveTo>
                    <a:lnTo>
                      <a:pt x="74" y="5031"/>
                    </a:lnTo>
                    <a:lnTo>
                      <a:pt x="65" y="5031"/>
                    </a:lnTo>
                    <a:lnTo>
                      <a:pt x="55" y="5032"/>
                    </a:lnTo>
                    <a:lnTo>
                      <a:pt x="47" y="5033"/>
                    </a:lnTo>
                    <a:lnTo>
                      <a:pt x="37" y="5034"/>
                    </a:lnTo>
                    <a:lnTo>
                      <a:pt x="28" y="5035"/>
                    </a:lnTo>
                    <a:lnTo>
                      <a:pt x="19" y="5036"/>
                    </a:lnTo>
                    <a:lnTo>
                      <a:pt x="10" y="5037"/>
                    </a:lnTo>
                    <a:lnTo>
                      <a:pt x="0" y="5038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9" y="2"/>
                    </a:lnTo>
                    <a:lnTo>
                      <a:pt x="28" y="3"/>
                    </a:lnTo>
                    <a:lnTo>
                      <a:pt x="37" y="5"/>
                    </a:lnTo>
                    <a:lnTo>
                      <a:pt x="47" y="6"/>
                    </a:lnTo>
                    <a:lnTo>
                      <a:pt x="55" y="7"/>
                    </a:lnTo>
                    <a:lnTo>
                      <a:pt x="65" y="8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9744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2" h="5045">
                    <a:moveTo>
                      <a:pt x="72" y="8"/>
                    </a:moveTo>
                    <a:lnTo>
                      <a:pt x="72" y="5037"/>
                    </a:lnTo>
                    <a:lnTo>
                      <a:pt x="63" y="5038"/>
                    </a:lnTo>
                    <a:lnTo>
                      <a:pt x="54" y="5039"/>
                    </a:lnTo>
                    <a:lnTo>
                      <a:pt x="45" y="5040"/>
                    </a:lnTo>
                    <a:lnTo>
                      <a:pt x="35" y="5041"/>
                    </a:lnTo>
                    <a:lnTo>
                      <a:pt x="27" y="5042"/>
                    </a:lnTo>
                    <a:lnTo>
                      <a:pt x="18" y="5042"/>
                    </a:lnTo>
                    <a:lnTo>
                      <a:pt x="8" y="5044"/>
                    </a:lnTo>
                    <a:lnTo>
                      <a:pt x="0" y="50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5" y="3"/>
                    </a:lnTo>
                    <a:lnTo>
                      <a:pt x="45" y="4"/>
                    </a:lnTo>
                    <a:lnTo>
                      <a:pt x="54" y="5"/>
                    </a:lnTo>
                    <a:lnTo>
                      <a:pt x="63" y="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83040" y="2381040"/>
                <a:ext cx="28800" cy="2005200"/>
              </a:xfrm>
              <a:custGeom>
                <a:avLst/>
                <a:gdLst/>
                <a:ahLst/>
                <a:rect l="l" t="t" r="r" b="b"/>
                <a:pathLst>
                  <a:path w="72" h="5051">
                    <a:moveTo>
                      <a:pt x="72" y="6"/>
                    </a:moveTo>
                    <a:lnTo>
                      <a:pt x="72" y="5044"/>
                    </a:lnTo>
                    <a:lnTo>
                      <a:pt x="64" y="5045"/>
                    </a:lnTo>
                    <a:lnTo>
                      <a:pt x="55" y="5045"/>
                    </a:lnTo>
                    <a:lnTo>
                      <a:pt x="45" y="5047"/>
                    </a:lnTo>
                    <a:lnTo>
                      <a:pt x="37" y="5048"/>
                    </a:lnTo>
                    <a:lnTo>
                      <a:pt x="27" y="5049"/>
                    </a:lnTo>
                    <a:lnTo>
                      <a:pt x="18" y="5050"/>
                    </a:lnTo>
                    <a:lnTo>
                      <a:pt x="8" y="5050"/>
                    </a:lnTo>
                    <a:lnTo>
                      <a:pt x="0" y="505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5" y="4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869000" y="2379600"/>
                <a:ext cx="28440" cy="2008080"/>
              </a:xfrm>
              <a:custGeom>
                <a:avLst/>
                <a:gdLst/>
                <a:ahLst/>
                <a:rect l="l" t="t" r="r" b="b"/>
                <a:pathLst>
                  <a:path w="74" h="5058">
                    <a:moveTo>
                      <a:pt x="74" y="7"/>
                    </a:moveTo>
                    <a:lnTo>
                      <a:pt x="74" y="5052"/>
                    </a:lnTo>
                    <a:lnTo>
                      <a:pt x="64" y="5053"/>
                    </a:lnTo>
                    <a:lnTo>
                      <a:pt x="55" y="5054"/>
                    </a:lnTo>
                    <a:lnTo>
                      <a:pt x="45" y="5054"/>
                    </a:lnTo>
                    <a:lnTo>
                      <a:pt x="37" y="5055"/>
                    </a:lnTo>
                    <a:lnTo>
                      <a:pt x="27" y="5056"/>
                    </a:lnTo>
                    <a:lnTo>
                      <a:pt x="18" y="5057"/>
                    </a:lnTo>
                    <a:lnTo>
                      <a:pt x="9" y="5058"/>
                    </a:lnTo>
                    <a:lnTo>
                      <a:pt x="0" y="5058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3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54600" y="2379600"/>
                <a:ext cx="28440" cy="2009880"/>
              </a:xfrm>
              <a:custGeom>
                <a:avLst/>
                <a:gdLst/>
                <a:ahLst/>
                <a:rect l="l" t="t" r="r" b="b"/>
                <a:pathLst>
                  <a:path w="74" h="5064">
                    <a:moveTo>
                      <a:pt x="74" y="7"/>
                    </a:moveTo>
                    <a:lnTo>
                      <a:pt x="74" y="5058"/>
                    </a:lnTo>
                    <a:lnTo>
                      <a:pt x="64" y="5059"/>
                    </a:lnTo>
                    <a:lnTo>
                      <a:pt x="55" y="5060"/>
                    </a:lnTo>
                    <a:lnTo>
                      <a:pt x="46" y="5061"/>
                    </a:lnTo>
                    <a:lnTo>
                      <a:pt x="37" y="5061"/>
                    </a:lnTo>
                    <a:lnTo>
                      <a:pt x="27" y="5062"/>
                    </a:lnTo>
                    <a:lnTo>
                      <a:pt x="19" y="5063"/>
                    </a:lnTo>
                    <a:lnTo>
                      <a:pt x="9" y="5064"/>
                    </a:lnTo>
                    <a:lnTo>
                      <a:pt x="0" y="506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27" y="2"/>
                    </a:lnTo>
                    <a:lnTo>
                      <a:pt x="37" y="3"/>
                    </a:lnTo>
                    <a:lnTo>
                      <a:pt x="46" y="5"/>
                    </a:lnTo>
                    <a:lnTo>
                      <a:pt x="55" y="5"/>
                    </a:lnTo>
                    <a:lnTo>
                      <a:pt x="64" y="6"/>
                    </a:lnTo>
                    <a:lnTo>
                      <a:pt x="74" y="7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40200" y="2378160"/>
                <a:ext cx="28800" cy="2011320"/>
              </a:xfrm>
              <a:custGeom>
                <a:avLst/>
                <a:gdLst/>
                <a:ahLst/>
                <a:rect l="l" t="t" r="r" b="b"/>
                <a:pathLst>
                  <a:path w="73" h="5071">
                    <a:moveTo>
                      <a:pt x="73" y="6"/>
                    </a:moveTo>
                    <a:lnTo>
                      <a:pt x="73" y="5064"/>
                    </a:lnTo>
                    <a:lnTo>
                      <a:pt x="63" y="5065"/>
                    </a:lnTo>
                    <a:lnTo>
                      <a:pt x="55" y="5066"/>
                    </a:lnTo>
                    <a:lnTo>
                      <a:pt x="45" y="5066"/>
                    </a:lnTo>
                    <a:lnTo>
                      <a:pt x="36" y="5067"/>
                    </a:lnTo>
                    <a:lnTo>
                      <a:pt x="27" y="5068"/>
                    </a:lnTo>
                    <a:lnTo>
                      <a:pt x="18" y="5070"/>
                    </a:lnTo>
                    <a:lnTo>
                      <a:pt x="8" y="5070"/>
                    </a:lnTo>
                    <a:lnTo>
                      <a:pt x="0" y="5071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3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3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c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24360" y="2376360"/>
                <a:ext cx="30240" cy="2014560"/>
              </a:xfrm>
              <a:custGeom>
                <a:avLst/>
                <a:gdLst/>
                <a:ahLst/>
                <a:rect l="l" t="t" r="r" b="b"/>
                <a:pathLst>
                  <a:path w="73" h="5076">
                    <a:moveTo>
                      <a:pt x="73" y="6"/>
                    </a:moveTo>
                    <a:lnTo>
                      <a:pt x="73" y="5070"/>
                    </a:lnTo>
                    <a:lnTo>
                      <a:pt x="64" y="5071"/>
                    </a:lnTo>
                    <a:lnTo>
                      <a:pt x="55" y="5073"/>
                    </a:lnTo>
                    <a:lnTo>
                      <a:pt x="46" y="5073"/>
                    </a:lnTo>
                    <a:lnTo>
                      <a:pt x="37" y="5074"/>
                    </a:lnTo>
                    <a:lnTo>
                      <a:pt x="28" y="5075"/>
                    </a:lnTo>
                    <a:lnTo>
                      <a:pt x="18" y="5075"/>
                    </a:lnTo>
                    <a:lnTo>
                      <a:pt x="10" y="5076"/>
                    </a:lnTo>
                    <a:lnTo>
                      <a:pt x="0" y="5076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4" y="5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809960" y="2374920"/>
                <a:ext cx="30240" cy="2017800"/>
              </a:xfrm>
              <a:custGeom>
                <a:avLst/>
                <a:gdLst/>
                <a:ahLst/>
                <a:rect l="l" t="t" r="r" b="b"/>
                <a:pathLst>
                  <a:path w="74" h="5081">
                    <a:moveTo>
                      <a:pt x="74" y="5"/>
                    </a:moveTo>
                    <a:lnTo>
                      <a:pt x="74" y="5076"/>
                    </a:lnTo>
                    <a:lnTo>
                      <a:pt x="65" y="5077"/>
                    </a:lnTo>
                    <a:lnTo>
                      <a:pt x="55" y="5077"/>
                    </a:lnTo>
                    <a:lnTo>
                      <a:pt x="47" y="5078"/>
                    </a:lnTo>
                    <a:lnTo>
                      <a:pt x="37" y="5079"/>
                    </a:lnTo>
                    <a:lnTo>
                      <a:pt x="28" y="5079"/>
                    </a:lnTo>
                    <a:lnTo>
                      <a:pt x="18" y="5080"/>
                    </a:lnTo>
                    <a:lnTo>
                      <a:pt x="10" y="5080"/>
                    </a:lnTo>
                    <a:lnTo>
                      <a:pt x="0" y="5081"/>
                    </a:lnTo>
                    <a:lnTo>
                      <a:pt x="0" y="0"/>
                    </a:lnTo>
                    <a:lnTo>
                      <a:pt x="10" y="1"/>
                    </a:lnTo>
                    <a:lnTo>
                      <a:pt x="18" y="1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5" y="4"/>
                    </a:lnTo>
                    <a:lnTo>
                      <a:pt x="65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9592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6">
                    <a:moveTo>
                      <a:pt x="74" y="5"/>
                    </a:moveTo>
                    <a:lnTo>
                      <a:pt x="74" y="5081"/>
                    </a:lnTo>
                    <a:lnTo>
                      <a:pt x="65" y="5082"/>
                    </a:lnTo>
                    <a:lnTo>
                      <a:pt x="55" y="5083"/>
                    </a:lnTo>
                    <a:lnTo>
                      <a:pt x="47" y="5083"/>
                    </a:lnTo>
                    <a:lnTo>
                      <a:pt x="37" y="5084"/>
                    </a:lnTo>
                    <a:lnTo>
                      <a:pt x="28" y="5085"/>
                    </a:lnTo>
                    <a:lnTo>
                      <a:pt x="19" y="5085"/>
                    </a:lnTo>
                    <a:lnTo>
                      <a:pt x="10" y="5086"/>
                    </a:lnTo>
                    <a:lnTo>
                      <a:pt x="0" y="508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8" y="2"/>
                    </a:lnTo>
                    <a:lnTo>
                      <a:pt x="37" y="3"/>
                    </a:lnTo>
                    <a:lnTo>
                      <a:pt x="47" y="4"/>
                    </a:lnTo>
                    <a:lnTo>
                      <a:pt x="55" y="4"/>
                    </a:lnTo>
                    <a:lnTo>
                      <a:pt x="65" y="5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81520" y="2373120"/>
                <a:ext cx="28440" cy="2021040"/>
              </a:xfrm>
              <a:custGeom>
                <a:avLst/>
                <a:gdLst/>
                <a:ahLst/>
                <a:rect l="l" t="t" r="r" b="b"/>
                <a:pathLst>
                  <a:path w="73" h="5090">
                    <a:moveTo>
                      <a:pt x="73" y="5"/>
                    </a:moveTo>
                    <a:lnTo>
                      <a:pt x="73" y="5086"/>
                    </a:lnTo>
                    <a:lnTo>
                      <a:pt x="64" y="5087"/>
                    </a:lnTo>
                    <a:lnTo>
                      <a:pt x="55" y="5087"/>
                    </a:lnTo>
                    <a:lnTo>
                      <a:pt x="46" y="5088"/>
                    </a:lnTo>
                    <a:lnTo>
                      <a:pt x="36" y="5088"/>
                    </a:lnTo>
                    <a:lnTo>
                      <a:pt x="28" y="5089"/>
                    </a:lnTo>
                    <a:lnTo>
                      <a:pt x="18" y="5089"/>
                    </a:lnTo>
                    <a:lnTo>
                      <a:pt x="9" y="5090"/>
                    </a:lnTo>
                    <a:lnTo>
                      <a:pt x="0" y="509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4"/>
                    </a:lnTo>
                    <a:lnTo>
                      <a:pt x="73" y="5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67120" y="2373120"/>
                <a:ext cx="28800" cy="2022480"/>
              </a:xfrm>
              <a:custGeom>
                <a:avLst/>
                <a:gdLst/>
                <a:ahLst/>
                <a:rect l="l" t="t" r="r" b="b"/>
                <a:pathLst>
                  <a:path w="72" h="5096">
                    <a:moveTo>
                      <a:pt x="72" y="4"/>
                    </a:moveTo>
                    <a:lnTo>
                      <a:pt x="72" y="5090"/>
                    </a:lnTo>
                    <a:lnTo>
                      <a:pt x="64" y="5091"/>
                    </a:lnTo>
                    <a:lnTo>
                      <a:pt x="54" y="5091"/>
                    </a:lnTo>
                    <a:lnTo>
                      <a:pt x="45" y="5092"/>
                    </a:lnTo>
                    <a:lnTo>
                      <a:pt x="37" y="5092"/>
                    </a:lnTo>
                    <a:lnTo>
                      <a:pt x="27" y="5093"/>
                    </a:lnTo>
                    <a:lnTo>
                      <a:pt x="18" y="5094"/>
                    </a:lnTo>
                    <a:lnTo>
                      <a:pt x="9" y="5094"/>
                    </a:lnTo>
                    <a:lnTo>
                      <a:pt x="0" y="509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5" y="2"/>
                    </a:lnTo>
                    <a:lnTo>
                      <a:pt x="54" y="3"/>
                    </a:lnTo>
                    <a:lnTo>
                      <a:pt x="64" y="3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530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9">
                    <a:moveTo>
                      <a:pt x="73" y="4"/>
                    </a:moveTo>
                    <a:lnTo>
                      <a:pt x="73" y="5094"/>
                    </a:lnTo>
                    <a:lnTo>
                      <a:pt x="64" y="5095"/>
                    </a:lnTo>
                    <a:lnTo>
                      <a:pt x="55" y="5095"/>
                    </a:lnTo>
                    <a:lnTo>
                      <a:pt x="46" y="5096"/>
                    </a:lnTo>
                    <a:lnTo>
                      <a:pt x="37" y="5096"/>
                    </a:lnTo>
                    <a:lnTo>
                      <a:pt x="27" y="5098"/>
                    </a:lnTo>
                    <a:lnTo>
                      <a:pt x="19" y="5098"/>
                    </a:lnTo>
                    <a:lnTo>
                      <a:pt x="9" y="5099"/>
                    </a:lnTo>
                    <a:lnTo>
                      <a:pt x="0" y="5099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7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d4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3868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4" h="5103">
                    <a:moveTo>
                      <a:pt x="74" y="4"/>
                    </a:moveTo>
                    <a:lnTo>
                      <a:pt x="74" y="5100"/>
                    </a:lnTo>
                    <a:lnTo>
                      <a:pt x="64" y="5100"/>
                    </a:lnTo>
                    <a:lnTo>
                      <a:pt x="56" y="5100"/>
                    </a:lnTo>
                    <a:lnTo>
                      <a:pt x="46" y="5101"/>
                    </a:lnTo>
                    <a:lnTo>
                      <a:pt x="37" y="5101"/>
                    </a:lnTo>
                    <a:lnTo>
                      <a:pt x="28" y="5102"/>
                    </a:lnTo>
                    <a:lnTo>
                      <a:pt x="19" y="5102"/>
                    </a:lnTo>
                    <a:lnTo>
                      <a:pt x="9" y="5103"/>
                    </a:lnTo>
                    <a:lnTo>
                      <a:pt x="0" y="510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1"/>
                    </a:lnTo>
                    <a:lnTo>
                      <a:pt x="28" y="1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3"/>
                    </a:lnTo>
                    <a:lnTo>
                      <a:pt x="64" y="3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228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4"/>
                    </a:moveTo>
                    <a:lnTo>
                      <a:pt x="73" y="5103"/>
                    </a:lnTo>
                    <a:lnTo>
                      <a:pt x="64" y="5104"/>
                    </a:lnTo>
                    <a:lnTo>
                      <a:pt x="55" y="5104"/>
                    </a:lnTo>
                    <a:lnTo>
                      <a:pt x="45" y="5105"/>
                    </a:lnTo>
                    <a:lnTo>
                      <a:pt x="36" y="5105"/>
                    </a:lnTo>
                    <a:lnTo>
                      <a:pt x="27" y="5105"/>
                    </a:lnTo>
                    <a:lnTo>
                      <a:pt x="18" y="5106"/>
                    </a:lnTo>
                    <a:lnTo>
                      <a:pt x="8" y="5106"/>
                    </a:lnTo>
                    <a:lnTo>
                      <a:pt x="0" y="5107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3" y="4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08440" y="2370240"/>
                <a:ext cx="30240" cy="2027160"/>
              </a:xfrm>
              <a:custGeom>
                <a:avLst/>
                <a:gdLst/>
                <a:ahLst/>
                <a:rect l="l" t="t" r="r" b="b"/>
                <a:pathLst>
                  <a:path w="73" h="5109">
                    <a:moveTo>
                      <a:pt x="73" y="3"/>
                    </a:moveTo>
                    <a:lnTo>
                      <a:pt x="73" y="5106"/>
                    </a:lnTo>
                    <a:lnTo>
                      <a:pt x="64" y="5106"/>
                    </a:lnTo>
                    <a:lnTo>
                      <a:pt x="55" y="5107"/>
                    </a:lnTo>
                    <a:lnTo>
                      <a:pt x="45" y="5107"/>
                    </a:lnTo>
                    <a:lnTo>
                      <a:pt x="37" y="5108"/>
                    </a:lnTo>
                    <a:lnTo>
                      <a:pt x="27" y="5108"/>
                    </a:lnTo>
                    <a:lnTo>
                      <a:pt x="18" y="5108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2"/>
                    </a:lnTo>
                    <a:lnTo>
                      <a:pt x="55" y="2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94400" y="2370240"/>
                <a:ext cx="2844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3"/>
                    </a:moveTo>
                    <a:lnTo>
                      <a:pt x="74" y="5110"/>
                    </a:lnTo>
                    <a:lnTo>
                      <a:pt x="64" y="5110"/>
                    </a:lnTo>
                    <a:lnTo>
                      <a:pt x="55" y="5110"/>
                    </a:lnTo>
                    <a:lnTo>
                      <a:pt x="47" y="5111"/>
                    </a:lnTo>
                    <a:lnTo>
                      <a:pt x="37" y="5111"/>
                    </a:lnTo>
                    <a:lnTo>
                      <a:pt x="28" y="5111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2"/>
                    </a:lnTo>
                    <a:lnTo>
                      <a:pt x="37" y="2"/>
                    </a:lnTo>
                    <a:lnTo>
                      <a:pt x="47" y="2"/>
                    </a:lnTo>
                    <a:lnTo>
                      <a:pt x="55" y="3"/>
                    </a:lnTo>
                    <a:lnTo>
                      <a:pt x="64" y="3"/>
                    </a:lnTo>
                    <a:lnTo>
                      <a:pt x="74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8000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4">
                    <a:moveTo>
                      <a:pt x="73" y="3"/>
                    </a:moveTo>
                    <a:lnTo>
                      <a:pt x="73" y="5112"/>
                    </a:lnTo>
                    <a:lnTo>
                      <a:pt x="64" y="5112"/>
                    </a:lnTo>
                    <a:lnTo>
                      <a:pt x="55" y="5113"/>
                    </a:lnTo>
                    <a:lnTo>
                      <a:pt x="46" y="5113"/>
                    </a:lnTo>
                    <a:lnTo>
                      <a:pt x="36" y="5113"/>
                    </a:lnTo>
                    <a:lnTo>
                      <a:pt x="28" y="5114"/>
                    </a:lnTo>
                    <a:lnTo>
                      <a:pt x="18" y="5114"/>
                    </a:lnTo>
                    <a:lnTo>
                      <a:pt x="9" y="5114"/>
                    </a:lnTo>
                    <a:lnTo>
                      <a:pt x="0" y="511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73" y="3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65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2"/>
                    </a:moveTo>
                    <a:lnTo>
                      <a:pt x="73" y="5114"/>
                    </a:lnTo>
                    <a:lnTo>
                      <a:pt x="65" y="5114"/>
                    </a:lnTo>
                    <a:lnTo>
                      <a:pt x="55" y="5115"/>
                    </a:lnTo>
                    <a:lnTo>
                      <a:pt x="46" y="5115"/>
                    </a:lnTo>
                    <a:lnTo>
                      <a:pt x="37" y="5115"/>
                    </a:lnTo>
                    <a:lnTo>
                      <a:pt x="28" y="5116"/>
                    </a:lnTo>
                    <a:lnTo>
                      <a:pt x="18" y="5116"/>
                    </a:lnTo>
                    <a:lnTo>
                      <a:pt x="10" y="5116"/>
                    </a:lnTo>
                    <a:lnTo>
                      <a:pt x="0" y="511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512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8">
                    <a:moveTo>
                      <a:pt x="74" y="2"/>
                    </a:moveTo>
                    <a:lnTo>
                      <a:pt x="74" y="5116"/>
                    </a:lnTo>
                    <a:lnTo>
                      <a:pt x="65" y="5117"/>
                    </a:lnTo>
                    <a:lnTo>
                      <a:pt x="55" y="5117"/>
                    </a:lnTo>
                    <a:lnTo>
                      <a:pt x="47" y="5117"/>
                    </a:lnTo>
                    <a:lnTo>
                      <a:pt x="37" y="5117"/>
                    </a:lnTo>
                    <a:lnTo>
                      <a:pt x="28" y="5118"/>
                    </a:lnTo>
                    <a:lnTo>
                      <a:pt x="18" y="5118"/>
                    </a:lnTo>
                    <a:lnTo>
                      <a:pt x="10" y="5118"/>
                    </a:lnTo>
                    <a:lnTo>
                      <a:pt x="0" y="51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4" y="2"/>
                    </a:lnTo>
                    <a:close/>
                  </a:path>
                </a:pathLst>
              </a:custGeom>
              <a:solidFill>
                <a:srgbClr val="af4e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3716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3" h="5120">
                    <a:moveTo>
                      <a:pt x="73" y="2"/>
                    </a:moveTo>
                    <a:lnTo>
                      <a:pt x="73" y="5118"/>
                    </a:lnTo>
                    <a:lnTo>
                      <a:pt x="64" y="5119"/>
                    </a:lnTo>
                    <a:lnTo>
                      <a:pt x="54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9"/>
                    </a:lnTo>
                    <a:lnTo>
                      <a:pt x="9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21320" y="2368440"/>
                <a:ext cx="29880" cy="2032200"/>
              </a:xfrm>
              <a:custGeom>
                <a:avLst/>
                <a:gdLst/>
                <a:ahLst/>
                <a:rect l="l" t="t" r="r" b="b"/>
                <a:pathLst>
                  <a:path w="72" h="5120">
                    <a:moveTo>
                      <a:pt x="72" y="1"/>
                    </a:moveTo>
                    <a:lnTo>
                      <a:pt x="72" y="5119"/>
                    </a:lnTo>
                    <a:lnTo>
                      <a:pt x="63" y="5119"/>
                    </a:lnTo>
                    <a:lnTo>
                      <a:pt x="55" y="5119"/>
                    </a:lnTo>
                    <a:lnTo>
                      <a:pt x="45" y="5120"/>
                    </a:lnTo>
                    <a:lnTo>
                      <a:pt x="36" y="5120"/>
                    </a:lnTo>
                    <a:lnTo>
                      <a:pt x="27" y="5120"/>
                    </a:lnTo>
                    <a:lnTo>
                      <a:pt x="18" y="5120"/>
                    </a:lnTo>
                    <a:lnTo>
                      <a:pt x="8" y="5120"/>
                    </a:lnTo>
                    <a:lnTo>
                      <a:pt x="0" y="512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3" y="1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0692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1"/>
                    </a:moveTo>
                    <a:lnTo>
                      <a:pt x="73" y="5121"/>
                    </a:lnTo>
                    <a:lnTo>
                      <a:pt x="64" y="5121"/>
                    </a:lnTo>
                    <a:lnTo>
                      <a:pt x="55" y="5121"/>
                    </a:lnTo>
                    <a:lnTo>
                      <a:pt x="45" y="5121"/>
                    </a:lnTo>
                    <a:lnTo>
                      <a:pt x="37" y="5121"/>
                    </a:lnTo>
                    <a:lnTo>
                      <a:pt x="27" y="5121"/>
                    </a:lnTo>
                    <a:lnTo>
                      <a:pt x="18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52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1"/>
                    </a:moveTo>
                    <a:lnTo>
                      <a:pt x="74" y="5121"/>
                    </a:lnTo>
                    <a:lnTo>
                      <a:pt x="64" y="5123"/>
                    </a:lnTo>
                    <a:lnTo>
                      <a:pt x="55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784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4" y="5123"/>
                    </a:lnTo>
                    <a:lnTo>
                      <a:pt x="56" y="5123"/>
                    </a:lnTo>
                    <a:lnTo>
                      <a:pt x="46" y="5123"/>
                    </a:lnTo>
                    <a:lnTo>
                      <a:pt x="37" y="5123"/>
                    </a:lnTo>
                    <a:lnTo>
                      <a:pt x="27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46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6408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68" y="5123"/>
                    </a:lnTo>
                    <a:lnTo>
                      <a:pt x="61" y="5123"/>
                    </a:lnTo>
                    <a:lnTo>
                      <a:pt x="56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9" y="5123"/>
                    </a:lnTo>
                    <a:lnTo>
                      <a:pt x="33" y="5123"/>
                    </a:lnTo>
                    <a:lnTo>
                      <a:pt x="28" y="5123"/>
                    </a:lnTo>
                    <a:lnTo>
                      <a:pt x="23" y="5123"/>
                    </a:lnTo>
                    <a:lnTo>
                      <a:pt x="20" y="5123"/>
                    </a:lnTo>
                    <a:lnTo>
                      <a:pt x="17" y="5123"/>
                    </a:lnTo>
                    <a:lnTo>
                      <a:pt x="14" y="5123"/>
                    </a:lnTo>
                    <a:lnTo>
                      <a:pt x="11" y="5123"/>
                    </a:lnTo>
                    <a:lnTo>
                      <a:pt x="7" y="5123"/>
                    </a:lnTo>
                    <a:lnTo>
                      <a:pt x="3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14d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482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3" h="5123">
                    <a:moveTo>
                      <a:pt x="73" y="0"/>
                    </a:moveTo>
                    <a:lnTo>
                      <a:pt x="73" y="5123"/>
                    </a:lnTo>
                    <a:lnTo>
                      <a:pt x="72" y="5123"/>
                    </a:lnTo>
                    <a:lnTo>
                      <a:pt x="71" y="5123"/>
                    </a:lnTo>
                    <a:lnTo>
                      <a:pt x="70" y="5123"/>
                    </a:lnTo>
                    <a:lnTo>
                      <a:pt x="69" y="5123"/>
                    </a:lnTo>
                    <a:lnTo>
                      <a:pt x="68" y="5123"/>
                    </a:lnTo>
                    <a:lnTo>
                      <a:pt x="67" y="5123"/>
                    </a:lnTo>
                    <a:lnTo>
                      <a:pt x="66" y="5123"/>
                    </a:lnTo>
                    <a:lnTo>
                      <a:pt x="65" y="5123"/>
                    </a:lnTo>
                    <a:lnTo>
                      <a:pt x="56" y="5123"/>
                    </a:lnTo>
                    <a:lnTo>
                      <a:pt x="49" y="5123"/>
                    </a:lnTo>
                    <a:lnTo>
                      <a:pt x="40" y="5123"/>
                    </a:lnTo>
                    <a:lnTo>
                      <a:pt x="32" y="5123"/>
                    </a:lnTo>
                    <a:lnTo>
                      <a:pt x="24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3840" y="2367000"/>
                <a:ext cx="30240" cy="2033640"/>
              </a:xfrm>
              <a:custGeom>
                <a:avLst/>
                <a:gdLst/>
                <a:ahLst/>
                <a:rect l="l" t="t" r="r" b="b"/>
                <a:pathLst>
                  <a:path w="74" h="5123">
                    <a:moveTo>
                      <a:pt x="74" y="0"/>
                    </a:moveTo>
                    <a:lnTo>
                      <a:pt x="74" y="5123"/>
                    </a:lnTo>
                    <a:lnTo>
                      <a:pt x="65" y="5123"/>
                    </a:lnTo>
                    <a:lnTo>
                      <a:pt x="55" y="5123"/>
                    </a:lnTo>
                    <a:lnTo>
                      <a:pt x="47" y="5123"/>
                    </a:lnTo>
                    <a:lnTo>
                      <a:pt x="37" y="5123"/>
                    </a:lnTo>
                    <a:lnTo>
                      <a:pt x="28" y="5123"/>
                    </a:lnTo>
                    <a:lnTo>
                      <a:pt x="19" y="5123"/>
                    </a:lnTo>
                    <a:lnTo>
                      <a:pt x="10" y="5123"/>
                    </a:lnTo>
                    <a:lnTo>
                      <a:pt x="0" y="512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19440" y="2367000"/>
                <a:ext cx="2880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3" y="5123"/>
                    </a:lnTo>
                    <a:lnTo>
                      <a:pt x="54" y="5123"/>
                    </a:lnTo>
                    <a:lnTo>
                      <a:pt x="45" y="5123"/>
                    </a:lnTo>
                    <a:lnTo>
                      <a:pt x="35" y="5123"/>
                    </a:lnTo>
                    <a:lnTo>
                      <a:pt x="27" y="5121"/>
                    </a:lnTo>
                    <a:lnTo>
                      <a:pt x="17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5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05400" y="2367000"/>
                <a:ext cx="28440" cy="2033640"/>
              </a:xfrm>
              <a:custGeom>
                <a:avLst/>
                <a:gdLst/>
                <a:ahLst/>
                <a:rect l="l" t="t" r="r" b="b"/>
                <a:pathLst>
                  <a:path w="72" h="5123">
                    <a:moveTo>
                      <a:pt x="72" y="0"/>
                    </a:moveTo>
                    <a:lnTo>
                      <a:pt x="72" y="5123"/>
                    </a:lnTo>
                    <a:lnTo>
                      <a:pt x="64" y="5121"/>
                    </a:lnTo>
                    <a:lnTo>
                      <a:pt x="54" y="5121"/>
                    </a:lnTo>
                    <a:lnTo>
                      <a:pt x="45" y="5121"/>
                    </a:lnTo>
                    <a:lnTo>
                      <a:pt x="35" y="5121"/>
                    </a:lnTo>
                    <a:lnTo>
                      <a:pt x="27" y="5121"/>
                    </a:lnTo>
                    <a:lnTo>
                      <a:pt x="18" y="5121"/>
                    </a:lnTo>
                    <a:lnTo>
                      <a:pt x="8" y="5121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5" y="1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91000" y="2368440"/>
                <a:ext cx="28440" cy="2032200"/>
              </a:xfrm>
              <a:custGeom>
                <a:avLst/>
                <a:gdLst/>
                <a:ahLst/>
                <a:rect l="l" t="t" r="r" b="b"/>
                <a:pathLst>
                  <a:path w="74" h="5120">
                    <a:moveTo>
                      <a:pt x="74" y="0"/>
                    </a:moveTo>
                    <a:lnTo>
                      <a:pt x="74" y="5120"/>
                    </a:lnTo>
                    <a:lnTo>
                      <a:pt x="64" y="5120"/>
                    </a:lnTo>
                    <a:lnTo>
                      <a:pt x="55" y="5120"/>
                    </a:lnTo>
                    <a:lnTo>
                      <a:pt x="45" y="5120"/>
                    </a:lnTo>
                    <a:lnTo>
                      <a:pt x="37" y="5120"/>
                    </a:lnTo>
                    <a:lnTo>
                      <a:pt x="27" y="5119"/>
                    </a:lnTo>
                    <a:lnTo>
                      <a:pt x="18" y="5119"/>
                    </a:lnTo>
                    <a:lnTo>
                      <a:pt x="9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9" y="1"/>
                    </a:lnTo>
                    <a:lnTo>
                      <a:pt x="18" y="1"/>
                    </a:lnTo>
                    <a:lnTo>
                      <a:pt x="27" y="1"/>
                    </a:lnTo>
                    <a:lnTo>
                      <a:pt x="37" y="0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6600" y="2368440"/>
                <a:ext cx="28800" cy="2030400"/>
              </a:xfrm>
              <a:custGeom>
                <a:avLst/>
                <a:gdLst/>
                <a:ahLst/>
                <a:rect l="l" t="t" r="r" b="b"/>
                <a:pathLst>
                  <a:path w="74" h="5119">
                    <a:moveTo>
                      <a:pt x="74" y="0"/>
                    </a:moveTo>
                    <a:lnTo>
                      <a:pt x="74" y="5119"/>
                    </a:lnTo>
                    <a:lnTo>
                      <a:pt x="64" y="5119"/>
                    </a:lnTo>
                    <a:lnTo>
                      <a:pt x="55" y="5119"/>
                    </a:lnTo>
                    <a:lnTo>
                      <a:pt x="46" y="5119"/>
                    </a:lnTo>
                    <a:lnTo>
                      <a:pt x="37" y="5119"/>
                    </a:lnTo>
                    <a:lnTo>
                      <a:pt x="27" y="5119"/>
                    </a:lnTo>
                    <a:lnTo>
                      <a:pt x="19" y="5118"/>
                    </a:lnTo>
                    <a:lnTo>
                      <a:pt x="9" y="5118"/>
                    </a:lnTo>
                    <a:lnTo>
                      <a:pt x="0" y="5118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19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6" y="1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34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462560" y="2368440"/>
                <a:ext cx="28440" cy="2030400"/>
              </a:xfrm>
              <a:custGeom>
                <a:avLst/>
                <a:gdLst/>
                <a:ahLst/>
                <a:rect l="l" t="t" r="r" b="b"/>
                <a:pathLst>
                  <a:path w="73" h="5118">
                    <a:moveTo>
                      <a:pt x="73" y="0"/>
                    </a:moveTo>
                    <a:lnTo>
                      <a:pt x="73" y="5118"/>
                    </a:lnTo>
                    <a:lnTo>
                      <a:pt x="63" y="5118"/>
                    </a:lnTo>
                    <a:lnTo>
                      <a:pt x="55" y="5117"/>
                    </a:lnTo>
                    <a:lnTo>
                      <a:pt x="45" y="5117"/>
                    </a:lnTo>
                    <a:lnTo>
                      <a:pt x="36" y="5117"/>
                    </a:lnTo>
                    <a:lnTo>
                      <a:pt x="27" y="5117"/>
                    </a:lnTo>
                    <a:lnTo>
                      <a:pt x="18" y="5116"/>
                    </a:lnTo>
                    <a:lnTo>
                      <a:pt x="8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6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446720" y="2368440"/>
                <a:ext cx="29880" cy="2030400"/>
              </a:xfrm>
              <a:custGeom>
                <a:avLst/>
                <a:gdLst/>
                <a:ahLst/>
                <a:rect l="l" t="t" r="r" b="b"/>
                <a:pathLst>
                  <a:path w="73" h="5116">
                    <a:moveTo>
                      <a:pt x="73" y="0"/>
                    </a:moveTo>
                    <a:lnTo>
                      <a:pt x="73" y="5116"/>
                    </a:lnTo>
                    <a:lnTo>
                      <a:pt x="64" y="5116"/>
                    </a:lnTo>
                    <a:lnTo>
                      <a:pt x="55" y="5115"/>
                    </a:lnTo>
                    <a:lnTo>
                      <a:pt x="45" y="5115"/>
                    </a:lnTo>
                    <a:lnTo>
                      <a:pt x="37" y="5115"/>
                    </a:lnTo>
                    <a:lnTo>
                      <a:pt x="27" y="5115"/>
                    </a:lnTo>
                    <a:lnTo>
                      <a:pt x="18" y="5114"/>
                    </a:lnTo>
                    <a:lnTo>
                      <a:pt x="10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10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7" y="1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432320" y="2368440"/>
                <a:ext cx="30240" cy="2030400"/>
              </a:xfrm>
              <a:custGeom>
                <a:avLst/>
                <a:gdLst/>
                <a:ahLst/>
                <a:rect l="l" t="t" r="r" b="b"/>
                <a:pathLst>
                  <a:path w="74" h="5114">
                    <a:moveTo>
                      <a:pt x="74" y="0"/>
                    </a:moveTo>
                    <a:lnTo>
                      <a:pt x="74" y="5114"/>
                    </a:lnTo>
                    <a:lnTo>
                      <a:pt x="64" y="5113"/>
                    </a:lnTo>
                    <a:lnTo>
                      <a:pt x="55" y="5113"/>
                    </a:lnTo>
                    <a:lnTo>
                      <a:pt x="47" y="5113"/>
                    </a:lnTo>
                    <a:lnTo>
                      <a:pt x="37" y="5113"/>
                    </a:lnTo>
                    <a:lnTo>
                      <a:pt x="28" y="5112"/>
                    </a:lnTo>
                    <a:lnTo>
                      <a:pt x="19" y="5112"/>
                    </a:lnTo>
                    <a:lnTo>
                      <a:pt x="10" y="5112"/>
                    </a:lnTo>
                    <a:lnTo>
                      <a:pt x="0" y="5111"/>
                    </a:lnTo>
                    <a:lnTo>
                      <a:pt x="0" y="4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7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17920" y="2370240"/>
                <a:ext cx="28800" cy="2028600"/>
              </a:xfrm>
              <a:custGeom>
                <a:avLst/>
                <a:gdLst/>
                <a:ahLst/>
                <a:rect l="l" t="t" r="r" b="b"/>
                <a:pathLst>
                  <a:path w="74" h="5112">
                    <a:moveTo>
                      <a:pt x="74" y="0"/>
                    </a:moveTo>
                    <a:lnTo>
                      <a:pt x="74" y="5112"/>
                    </a:lnTo>
                    <a:lnTo>
                      <a:pt x="65" y="5111"/>
                    </a:lnTo>
                    <a:lnTo>
                      <a:pt x="56" y="5111"/>
                    </a:lnTo>
                    <a:lnTo>
                      <a:pt x="47" y="5111"/>
                    </a:lnTo>
                    <a:lnTo>
                      <a:pt x="37" y="5110"/>
                    </a:lnTo>
                    <a:lnTo>
                      <a:pt x="29" y="5110"/>
                    </a:lnTo>
                    <a:lnTo>
                      <a:pt x="19" y="5110"/>
                    </a:lnTo>
                    <a:lnTo>
                      <a:pt x="10" y="5109"/>
                    </a:lnTo>
                    <a:lnTo>
                      <a:pt x="0" y="510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6" y="2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038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3" h="5107">
                    <a:moveTo>
                      <a:pt x="73" y="0"/>
                    </a:moveTo>
                    <a:lnTo>
                      <a:pt x="73" y="5107"/>
                    </a:lnTo>
                    <a:lnTo>
                      <a:pt x="65" y="5107"/>
                    </a:lnTo>
                    <a:lnTo>
                      <a:pt x="55" y="5107"/>
                    </a:lnTo>
                    <a:lnTo>
                      <a:pt x="46" y="5106"/>
                    </a:lnTo>
                    <a:lnTo>
                      <a:pt x="36" y="5106"/>
                    </a:lnTo>
                    <a:lnTo>
                      <a:pt x="28" y="5105"/>
                    </a:lnTo>
                    <a:lnTo>
                      <a:pt x="18" y="5105"/>
                    </a:lnTo>
                    <a:lnTo>
                      <a:pt x="9" y="5105"/>
                    </a:lnTo>
                    <a:lnTo>
                      <a:pt x="0" y="5104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6" y="1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89480" y="2370240"/>
                <a:ext cx="28440" cy="2027160"/>
              </a:xfrm>
              <a:custGeom>
                <a:avLst/>
                <a:gdLst/>
                <a:ahLst/>
                <a:rect l="l" t="t" r="r" b="b"/>
                <a:pathLst>
                  <a:path w="72" h="5105">
                    <a:moveTo>
                      <a:pt x="72" y="0"/>
                    </a:moveTo>
                    <a:lnTo>
                      <a:pt x="72" y="5105"/>
                    </a:lnTo>
                    <a:lnTo>
                      <a:pt x="64" y="5104"/>
                    </a:lnTo>
                    <a:lnTo>
                      <a:pt x="54" y="5104"/>
                    </a:lnTo>
                    <a:lnTo>
                      <a:pt x="45" y="5104"/>
                    </a:lnTo>
                    <a:lnTo>
                      <a:pt x="36" y="5103"/>
                    </a:lnTo>
                    <a:lnTo>
                      <a:pt x="27" y="5103"/>
                    </a:lnTo>
                    <a:lnTo>
                      <a:pt x="17" y="5102"/>
                    </a:lnTo>
                    <a:lnTo>
                      <a:pt x="9" y="5102"/>
                    </a:lnTo>
                    <a:lnTo>
                      <a:pt x="0" y="5101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7" y="3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5" y="1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75080" y="2371680"/>
                <a:ext cx="28800" cy="2023920"/>
              </a:xfrm>
              <a:custGeom>
                <a:avLst/>
                <a:gdLst/>
                <a:ahLst/>
                <a:rect l="l" t="t" r="r" b="b"/>
                <a:pathLst>
                  <a:path w="73" h="5101">
                    <a:moveTo>
                      <a:pt x="73" y="0"/>
                    </a:moveTo>
                    <a:lnTo>
                      <a:pt x="73" y="5101"/>
                    </a:lnTo>
                    <a:lnTo>
                      <a:pt x="64" y="5101"/>
                    </a:lnTo>
                    <a:lnTo>
                      <a:pt x="54" y="5100"/>
                    </a:lnTo>
                    <a:lnTo>
                      <a:pt x="46" y="5100"/>
                    </a:lnTo>
                    <a:lnTo>
                      <a:pt x="36" y="5099"/>
                    </a:lnTo>
                    <a:lnTo>
                      <a:pt x="27" y="5099"/>
                    </a:lnTo>
                    <a:lnTo>
                      <a:pt x="19" y="5097"/>
                    </a:lnTo>
                    <a:lnTo>
                      <a:pt x="9" y="5097"/>
                    </a:lnTo>
                    <a:lnTo>
                      <a:pt x="0" y="5096"/>
                    </a:lnTo>
                    <a:lnTo>
                      <a:pt x="0" y="3"/>
                    </a:lnTo>
                    <a:lnTo>
                      <a:pt x="9" y="3"/>
                    </a:lnTo>
                    <a:lnTo>
                      <a:pt x="19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6" y="1"/>
                    </a:lnTo>
                    <a:lnTo>
                      <a:pt x="54" y="1"/>
                    </a:lnTo>
                    <a:lnTo>
                      <a:pt x="64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54b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361040" y="2371680"/>
                <a:ext cx="28440" cy="2023920"/>
              </a:xfrm>
              <a:custGeom>
                <a:avLst/>
                <a:gdLst/>
                <a:ahLst/>
                <a:rect l="l" t="t" r="r" b="b"/>
                <a:pathLst>
                  <a:path w="73" h="5098">
                    <a:moveTo>
                      <a:pt x="73" y="0"/>
                    </a:moveTo>
                    <a:lnTo>
                      <a:pt x="73" y="5098"/>
                    </a:lnTo>
                    <a:lnTo>
                      <a:pt x="63" y="5098"/>
                    </a:lnTo>
                    <a:lnTo>
                      <a:pt x="55" y="5096"/>
                    </a:lnTo>
                    <a:lnTo>
                      <a:pt x="45" y="5096"/>
                    </a:lnTo>
                    <a:lnTo>
                      <a:pt x="36" y="5095"/>
                    </a:lnTo>
                    <a:lnTo>
                      <a:pt x="27" y="5095"/>
                    </a:lnTo>
                    <a:lnTo>
                      <a:pt x="18" y="5094"/>
                    </a:lnTo>
                    <a:lnTo>
                      <a:pt x="8" y="5094"/>
                    </a:lnTo>
                    <a:lnTo>
                      <a:pt x="0" y="5093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6" y="2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344840" y="2373120"/>
                <a:ext cx="30240" cy="2021040"/>
              </a:xfrm>
              <a:custGeom>
                <a:avLst/>
                <a:gdLst/>
                <a:ahLst/>
                <a:rect l="l" t="t" r="r" b="b"/>
                <a:pathLst>
                  <a:path w="73" h="5093">
                    <a:moveTo>
                      <a:pt x="73" y="0"/>
                    </a:moveTo>
                    <a:lnTo>
                      <a:pt x="73" y="5093"/>
                    </a:lnTo>
                    <a:lnTo>
                      <a:pt x="64" y="5093"/>
                    </a:lnTo>
                    <a:lnTo>
                      <a:pt x="55" y="5092"/>
                    </a:lnTo>
                    <a:lnTo>
                      <a:pt x="45" y="5092"/>
                    </a:lnTo>
                    <a:lnTo>
                      <a:pt x="37" y="5091"/>
                    </a:lnTo>
                    <a:lnTo>
                      <a:pt x="27" y="5091"/>
                    </a:lnTo>
                    <a:lnTo>
                      <a:pt x="18" y="5090"/>
                    </a:lnTo>
                    <a:lnTo>
                      <a:pt x="8" y="5090"/>
                    </a:lnTo>
                    <a:lnTo>
                      <a:pt x="0" y="5089"/>
                    </a:lnTo>
                    <a:lnTo>
                      <a:pt x="0" y="6"/>
                    </a:lnTo>
                    <a:lnTo>
                      <a:pt x="8" y="4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330800" y="2374920"/>
                <a:ext cx="30240" cy="2019240"/>
              </a:xfrm>
              <a:custGeom>
                <a:avLst/>
                <a:gdLst/>
                <a:ahLst/>
                <a:rect l="l" t="t" r="r" b="b"/>
                <a:pathLst>
                  <a:path w="74" h="5088">
                    <a:moveTo>
                      <a:pt x="74" y="0"/>
                    </a:moveTo>
                    <a:lnTo>
                      <a:pt x="74" y="5088"/>
                    </a:lnTo>
                    <a:lnTo>
                      <a:pt x="64" y="5088"/>
                    </a:lnTo>
                    <a:lnTo>
                      <a:pt x="55" y="5087"/>
                    </a:lnTo>
                    <a:lnTo>
                      <a:pt x="45" y="5087"/>
                    </a:lnTo>
                    <a:lnTo>
                      <a:pt x="37" y="5086"/>
                    </a:lnTo>
                    <a:lnTo>
                      <a:pt x="27" y="5086"/>
                    </a:lnTo>
                    <a:lnTo>
                      <a:pt x="18" y="5085"/>
                    </a:lnTo>
                    <a:lnTo>
                      <a:pt x="9" y="5084"/>
                    </a:lnTo>
                    <a:lnTo>
                      <a:pt x="0" y="508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5" y="1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316400" y="2374920"/>
                <a:ext cx="28440" cy="2017800"/>
              </a:xfrm>
              <a:custGeom>
                <a:avLst/>
                <a:gdLst/>
                <a:ahLst/>
                <a:rect l="l" t="t" r="r" b="b"/>
                <a:pathLst>
                  <a:path w="74" h="5083">
                    <a:moveTo>
                      <a:pt x="74" y="0"/>
                    </a:moveTo>
                    <a:lnTo>
                      <a:pt x="74" y="5083"/>
                    </a:lnTo>
                    <a:lnTo>
                      <a:pt x="64" y="5083"/>
                    </a:lnTo>
                    <a:lnTo>
                      <a:pt x="55" y="5082"/>
                    </a:lnTo>
                    <a:lnTo>
                      <a:pt x="46" y="5081"/>
                    </a:lnTo>
                    <a:lnTo>
                      <a:pt x="37" y="5081"/>
                    </a:lnTo>
                    <a:lnTo>
                      <a:pt x="27" y="5080"/>
                    </a:lnTo>
                    <a:lnTo>
                      <a:pt x="19" y="5080"/>
                    </a:lnTo>
                    <a:lnTo>
                      <a:pt x="10" y="5079"/>
                    </a:lnTo>
                    <a:lnTo>
                      <a:pt x="0" y="5078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302000" y="2376360"/>
                <a:ext cx="28800" cy="2014560"/>
              </a:xfrm>
              <a:custGeom>
                <a:avLst/>
                <a:gdLst/>
                <a:ahLst/>
                <a:rect l="l" t="t" r="r" b="b"/>
                <a:pathLst>
                  <a:path w="73" h="5079">
                    <a:moveTo>
                      <a:pt x="73" y="0"/>
                    </a:moveTo>
                    <a:lnTo>
                      <a:pt x="73" y="5079"/>
                    </a:lnTo>
                    <a:lnTo>
                      <a:pt x="64" y="5078"/>
                    </a:lnTo>
                    <a:lnTo>
                      <a:pt x="55" y="5078"/>
                    </a:lnTo>
                    <a:lnTo>
                      <a:pt x="46" y="5077"/>
                    </a:lnTo>
                    <a:lnTo>
                      <a:pt x="36" y="5076"/>
                    </a:lnTo>
                    <a:lnTo>
                      <a:pt x="28" y="5076"/>
                    </a:lnTo>
                    <a:lnTo>
                      <a:pt x="18" y="5075"/>
                    </a:lnTo>
                    <a:lnTo>
                      <a:pt x="9" y="5074"/>
                    </a:lnTo>
                    <a:lnTo>
                      <a:pt x="0" y="5074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287960" y="2376360"/>
                <a:ext cx="28440" cy="2014560"/>
              </a:xfrm>
              <a:custGeom>
                <a:avLst/>
                <a:gdLst/>
                <a:ahLst/>
                <a:rect l="l" t="t" r="r" b="b"/>
                <a:pathLst>
                  <a:path w="73" h="5073">
                    <a:moveTo>
                      <a:pt x="73" y="0"/>
                    </a:moveTo>
                    <a:lnTo>
                      <a:pt x="73" y="5073"/>
                    </a:lnTo>
                    <a:lnTo>
                      <a:pt x="65" y="5073"/>
                    </a:lnTo>
                    <a:lnTo>
                      <a:pt x="55" y="5072"/>
                    </a:lnTo>
                    <a:lnTo>
                      <a:pt x="46" y="5071"/>
                    </a:lnTo>
                    <a:lnTo>
                      <a:pt x="37" y="5071"/>
                    </a:lnTo>
                    <a:lnTo>
                      <a:pt x="28" y="5069"/>
                    </a:lnTo>
                    <a:lnTo>
                      <a:pt x="18" y="5068"/>
                    </a:lnTo>
                    <a:lnTo>
                      <a:pt x="10" y="5068"/>
                    </a:lnTo>
                    <a:lnTo>
                      <a:pt x="0" y="5067"/>
                    </a:lnTo>
                    <a:lnTo>
                      <a:pt x="0" y="5"/>
                    </a:lnTo>
                    <a:lnTo>
                      <a:pt x="10" y="4"/>
                    </a:lnTo>
                    <a:lnTo>
                      <a:pt x="18" y="4"/>
                    </a:lnTo>
                    <a:lnTo>
                      <a:pt x="28" y="3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5" y="1"/>
                    </a:lnTo>
                    <a:lnTo>
                      <a:pt x="65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74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73560" y="2378160"/>
                <a:ext cx="28440" cy="2011320"/>
              </a:xfrm>
              <a:custGeom>
                <a:avLst/>
                <a:gdLst/>
                <a:ahLst/>
                <a:rect l="l" t="t" r="r" b="b"/>
                <a:pathLst>
                  <a:path w="74" h="5069">
                    <a:moveTo>
                      <a:pt x="74" y="0"/>
                    </a:moveTo>
                    <a:lnTo>
                      <a:pt x="74" y="5069"/>
                    </a:lnTo>
                    <a:lnTo>
                      <a:pt x="65" y="5067"/>
                    </a:lnTo>
                    <a:lnTo>
                      <a:pt x="55" y="5066"/>
                    </a:lnTo>
                    <a:lnTo>
                      <a:pt x="47" y="5065"/>
                    </a:lnTo>
                    <a:lnTo>
                      <a:pt x="37" y="5065"/>
                    </a:lnTo>
                    <a:lnTo>
                      <a:pt x="28" y="5064"/>
                    </a:lnTo>
                    <a:lnTo>
                      <a:pt x="18" y="5063"/>
                    </a:lnTo>
                    <a:lnTo>
                      <a:pt x="10" y="5063"/>
                    </a:lnTo>
                    <a:lnTo>
                      <a:pt x="0" y="5062"/>
                    </a:lnTo>
                    <a:lnTo>
                      <a:pt x="0" y="7"/>
                    </a:lnTo>
                    <a:lnTo>
                      <a:pt x="10" y="5"/>
                    </a:lnTo>
                    <a:lnTo>
                      <a:pt x="18" y="5"/>
                    </a:lnTo>
                    <a:lnTo>
                      <a:pt x="28" y="4"/>
                    </a:lnTo>
                    <a:lnTo>
                      <a:pt x="37" y="3"/>
                    </a:lnTo>
                    <a:lnTo>
                      <a:pt x="47" y="2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59160" y="2379600"/>
                <a:ext cx="28800" cy="2008080"/>
              </a:xfrm>
              <a:custGeom>
                <a:avLst/>
                <a:gdLst/>
                <a:ahLst/>
                <a:rect l="l" t="t" r="r" b="b"/>
                <a:pathLst>
                  <a:path w="73" h="5062">
                    <a:moveTo>
                      <a:pt x="73" y="0"/>
                    </a:moveTo>
                    <a:lnTo>
                      <a:pt x="73" y="5062"/>
                    </a:lnTo>
                    <a:lnTo>
                      <a:pt x="64" y="5061"/>
                    </a:lnTo>
                    <a:lnTo>
                      <a:pt x="54" y="5060"/>
                    </a:lnTo>
                    <a:lnTo>
                      <a:pt x="46" y="5060"/>
                    </a:lnTo>
                    <a:lnTo>
                      <a:pt x="36" y="5059"/>
                    </a:lnTo>
                    <a:lnTo>
                      <a:pt x="27" y="5058"/>
                    </a:lnTo>
                    <a:lnTo>
                      <a:pt x="18" y="5057"/>
                    </a:lnTo>
                    <a:lnTo>
                      <a:pt x="9" y="5056"/>
                    </a:lnTo>
                    <a:lnTo>
                      <a:pt x="0" y="5056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6"/>
                    </a:lnTo>
                    <a:lnTo>
                      <a:pt x="27" y="5"/>
                    </a:lnTo>
                    <a:lnTo>
                      <a:pt x="36" y="4"/>
                    </a:lnTo>
                    <a:lnTo>
                      <a:pt x="46" y="2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43320" y="2381040"/>
                <a:ext cx="30240" cy="2006640"/>
              </a:xfrm>
              <a:custGeom>
                <a:avLst/>
                <a:gdLst/>
                <a:ahLst/>
                <a:rect l="l" t="t" r="r" b="b"/>
                <a:pathLst>
                  <a:path w="72" h="5055">
                    <a:moveTo>
                      <a:pt x="72" y="0"/>
                    </a:moveTo>
                    <a:lnTo>
                      <a:pt x="72" y="5055"/>
                    </a:lnTo>
                    <a:lnTo>
                      <a:pt x="63" y="5054"/>
                    </a:lnTo>
                    <a:lnTo>
                      <a:pt x="54" y="5053"/>
                    </a:lnTo>
                    <a:lnTo>
                      <a:pt x="45" y="5052"/>
                    </a:lnTo>
                    <a:lnTo>
                      <a:pt x="36" y="5052"/>
                    </a:lnTo>
                    <a:lnTo>
                      <a:pt x="27" y="5051"/>
                    </a:lnTo>
                    <a:lnTo>
                      <a:pt x="18" y="5050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4" y="2"/>
                    </a:lnTo>
                    <a:lnTo>
                      <a:pt x="63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29280" y="2381040"/>
                <a:ext cx="29880" cy="2005200"/>
              </a:xfrm>
              <a:custGeom>
                <a:avLst/>
                <a:gdLst/>
                <a:ahLst/>
                <a:rect l="l" t="t" r="r" b="b"/>
                <a:pathLst>
                  <a:path w="73" h="5049">
                    <a:moveTo>
                      <a:pt x="73" y="0"/>
                    </a:moveTo>
                    <a:lnTo>
                      <a:pt x="73" y="5049"/>
                    </a:lnTo>
                    <a:lnTo>
                      <a:pt x="64" y="5048"/>
                    </a:lnTo>
                    <a:lnTo>
                      <a:pt x="55" y="5047"/>
                    </a:lnTo>
                    <a:lnTo>
                      <a:pt x="45" y="5046"/>
                    </a:lnTo>
                    <a:lnTo>
                      <a:pt x="37" y="5044"/>
                    </a:lnTo>
                    <a:lnTo>
                      <a:pt x="27" y="5044"/>
                    </a:lnTo>
                    <a:lnTo>
                      <a:pt x="18" y="5043"/>
                    </a:lnTo>
                    <a:lnTo>
                      <a:pt x="9" y="5042"/>
                    </a:lnTo>
                    <a:lnTo>
                      <a:pt x="0" y="5041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7" y="4"/>
                    </a:lnTo>
                    <a:lnTo>
                      <a:pt x="45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214880" y="2382840"/>
                <a:ext cx="28440" cy="2001960"/>
              </a:xfrm>
              <a:custGeom>
                <a:avLst/>
                <a:gdLst/>
                <a:ahLst/>
                <a:rect l="l" t="t" r="r" b="b"/>
                <a:pathLst>
                  <a:path w="74" h="5041">
                    <a:moveTo>
                      <a:pt x="74" y="0"/>
                    </a:moveTo>
                    <a:lnTo>
                      <a:pt x="74" y="5041"/>
                    </a:lnTo>
                    <a:lnTo>
                      <a:pt x="64" y="5041"/>
                    </a:lnTo>
                    <a:lnTo>
                      <a:pt x="55" y="5040"/>
                    </a:lnTo>
                    <a:lnTo>
                      <a:pt x="46" y="5039"/>
                    </a:lnTo>
                    <a:lnTo>
                      <a:pt x="37" y="5038"/>
                    </a:lnTo>
                    <a:lnTo>
                      <a:pt x="27" y="5037"/>
                    </a:lnTo>
                    <a:lnTo>
                      <a:pt x="19" y="5036"/>
                    </a:lnTo>
                    <a:lnTo>
                      <a:pt x="9" y="5035"/>
                    </a:lnTo>
                    <a:lnTo>
                      <a:pt x="0" y="5034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00480" y="2384280"/>
                <a:ext cx="28800" cy="1998720"/>
              </a:xfrm>
              <a:custGeom>
                <a:avLst/>
                <a:gdLst/>
                <a:ahLst/>
                <a:rect l="l" t="t" r="r" b="b"/>
                <a:pathLst>
                  <a:path w="74" h="5034">
                    <a:moveTo>
                      <a:pt x="74" y="0"/>
                    </a:moveTo>
                    <a:lnTo>
                      <a:pt x="74" y="5034"/>
                    </a:lnTo>
                    <a:lnTo>
                      <a:pt x="64" y="5033"/>
                    </a:lnTo>
                    <a:lnTo>
                      <a:pt x="56" y="5032"/>
                    </a:lnTo>
                    <a:lnTo>
                      <a:pt x="46" y="5031"/>
                    </a:lnTo>
                    <a:lnTo>
                      <a:pt x="37" y="5030"/>
                    </a:lnTo>
                    <a:lnTo>
                      <a:pt x="28" y="5030"/>
                    </a:lnTo>
                    <a:lnTo>
                      <a:pt x="19" y="5029"/>
                    </a:lnTo>
                    <a:lnTo>
                      <a:pt x="9" y="5028"/>
                    </a:lnTo>
                    <a:lnTo>
                      <a:pt x="0" y="5027"/>
                    </a:lnTo>
                    <a:lnTo>
                      <a:pt x="0" y="8"/>
                    </a:lnTo>
                    <a:lnTo>
                      <a:pt x="9" y="7"/>
                    </a:lnTo>
                    <a:lnTo>
                      <a:pt x="19" y="6"/>
                    </a:lnTo>
                    <a:lnTo>
                      <a:pt x="28" y="5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94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86080" y="2386080"/>
                <a:ext cx="28800" cy="1995480"/>
              </a:xfrm>
              <a:custGeom>
                <a:avLst/>
                <a:gdLst/>
                <a:ahLst/>
                <a:rect l="l" t="t" r="r" b="b"/>
                <a:pathLst>
                  <a:path w="73" h="5025">
                    <a:moveTo>
                      <a:pt x="73" y="0"/>
                    </a:moveTo>
                    <a:lnTo>
                      <a:pt x="73" y="5025"/>
                    </a:lnTo>
                    <a:lnTo>
                      <a:pt x="64" y="5024"/>
                    </a:lnTo>
                    <a:lnTo>
                      <a:pt x="55" y="5024"/>
                    </a:lnTo>
                    <a:lnTo>
                      <a:pt x="45" y="5023"/>
                    </a:lnTo>
                    <a:lnTo>
                      <a:pt x="36" y="5022"/>
                    </a:lnTo>
                    <a:lnTo>
                      <a:pt x="27" y="5021"/>
                    </a:lnTo>
                    <a:lnTo>
                      <a:pt x="18" y="5020"/>
                    </a:lnTo>
                    <a:lnTo>
                      <a:pt x="9" y="5018"/>
                    </a:lnTo>
                    <a:lnTo>
                      <a:pt x="0" y="5017"/>
                    </a:lnTo>
                    <a:lnTo>
                      <a:pt x="0" y="7"/>
                    </a:lnTo>
                    <a:lnTo>
                      <a:pt x="9" y="6"/>
                    </a:lnTo>
                    <a:lnTo>
                      <a:pt x="18" y="5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5" y="2"/>
                    </a:lnTo>
                    <a:lnTo>
                      <a:pt x="55" y="1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72040" y="2387520"/>
                <a:ext cx="28440" cy="1992240"/>
              </a:xfrm>
              <a:custGeom>
                <a:avLst/>
                <a:gdLst/>
                <a:ahLst/>
                <a:rect l="l" t="t" r="r" b="b"/>
                <a:pathLst>
                  <a:path w="73" h="5019">
                    <a:moveTo>
                      <a:pt x="73" y="0"/>
                    </a:moveTo>
                    <a:lnTo>
                      <a:pt x="73" y="5019"/>
                    </a:lnTo>
                    <a:lnTo>
                      <a:pt x="65" y="5018"/>
                    </a:lnTo>
                    <a:lnTo>
                      <a:pt x="55" y="5017"/>
                    </a:lnTo>
                    <a:lnTo>
                      <a:pt x="46" y="5015"/>
                    </a:lnTo>
                    <a:lnTo>
                      <a:pt x="37" y="5014"/>
                    </a:lnTo>
                    <a:lnTo>
                      <a:pt x="28" y="5013"/>
                    </a:lnTo>
                    <a:lnTo>
                      <a:pt x="18" y="5012"/>
                    </a:lnTo>
                    <a:lnTo>
                      <a:pt x="10" y="5011"/>
                    </a:lnTo>
                    <a:lnTo>
                      <a:pt x="0" y="5010"/>
                    </a:lnTo>
                    <a:lnTo>
                      <a:pt x="0" y="9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8" y="5"/>
                    </a:lnTo>
                    <a:lnTo>
                      <a:pt x="37" y="4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56200" y="2388960"/>
                <a:ext cx="29880" cy="1989360"/>
              </a:xfrm>
              <a:custGeom>
                <a:avLst/>
                <a:gdLst/>
                <a:ahLst/>
                <a:rect l="l" t="t" r="r" b="b"/>
                <a:pathLst>
                  <a:path w="74" h="5010">
                    <a:moveTo>
                      <a:pt x="74" y="0"/>
                    </a:moveTo>
                    <a:lnTo>
                      <a:pt x="74" y="5010"/>
                    </a:lnTo>
                    <a:lnTo>
                      <a:pt x="65" y="5009"/>
                    </a:lnTo>
                    <a:lnTo>
                      <a:pt x="55" y="5008"/>
                    </a:lnTo>
                    <a:lnTo>
                      <a:pt x="47" y="5007"/>
                    </a:lnTo>
                    <a:lnTo>
                      <a:pt x="37" y="5006"/>
                    </a:lnTo>
                    <a:lnTo>
                      <a:pt x="28" y="5005"/>
                    </a:lnTo>
                    <a:lnTo>
                      <a:pt x="19" y="5004"/>
                    </a:lnTo>
                    <a:lnTo>
                      <a:pt x="10" y="5003"/>
                    </a:lnTo>
                    <a:lnTo>
                      <a:pt x="0" y="5002"/>
                    </a:lnTo>
                    <a:lnTo>
                      <a:pt x="0" y="9"/>
                    </a:lnTo>
                    <a:lnTo>
                      <a:pt x="10" y="8"/>
                    </a:lnTo>
                    <a:lnTo>
                      <a:pt x="19" y="7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7" y="3"/>
                    </a:lnTo>
                    <a:lnTo>
                      <a:pt x="55" y="2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41800" y="2390760"/>
                <a:ext cx="30240" cy="1985760"/>
              </a:xfrm>
              <a:custGeom>
                <a:avLst/>
                <a:gdLst/>
                <a:ahLst/>
                <a:rect l="l" t="t" r="r" b="b"/>
                <a:pathLst>
                  <a:path w="73" h="5001">
                    <a:moveTo>
                      <a:pt x="73" y="0"/>
                    </a:moveTo>
                    <a:lnTo>
                      <a:pt x="73" y="5001"/>
                    </a:lnTo>
                    <a:lnTo>
                      <a:pt x="64" y="5000"/>
                    </a:lnTo>
                    <a:lnTo>
                      <a:pt x="55" y="4999"/>
                    </a:lnTo>
                    <a:lnTo>
                      <a:pt x="46" y="4997"/>
                    </a:lnTo>
                    <a:lnTo>
                      <a:pt x="36" y="4996"/>
                    </a:lnTo>
                    <a:lnTo>
                      <a:pt x="28" y="4995"/>
                    </a:lnTo>
                    <a:lnTo>
                      <a:pt x="18" y="4993"/>
                    </a:lnTo>
                    <a:lnTo>
                      <a:pt x="9" y="4992"/>
                    </a:lnTo>
                    <a:lnTo>
                      <a:pt x="0" y="4991"/>
                    </a:lnTo>
                    <a:lnTo>
                      <a:pt x="0" y="9"/>
                    </a:lnTo>
                    <a:lnTo>
                      <a:pt x="9" y="8"/>
                    </a:lnTo>
                    <a:lnTo>
                      <a:pt x="18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6" y="3"/>
                    </a:lnTo>
                    <a:lnTo>
                      <a:pt x="55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27400" y="2392200"/>
                <a:ext cx="28800" cy="1982880"/>
              </a:xfrm>
              <a:custGeom>
                <a:avLst/>
                <a:gdLst/>
                <a:ahLst/>
                <a:rect l="l" t="t" r="r" b="b"/>
                <a:pathLst>
                  <a:path w="72" h="4993">
                    <a:moveTo>
                      <a:pt x="72" y="0"/>
                    </a:moveTo>
                    <a:lnTo>
                      <a:pt x="72" y="4993"/>
                    </a:lnTo>
                    <a:lnTo>
                      <a:pt x="64" y="4991"/>
                    </a:lnTo>
                    <a:lnTo>
                      <a:pt x="54" y="4989"/>
                    </a:lnTo>
                    <a:lnTo>
                      <a:pt x="45" y="4988"/>
                    </a:lnTo>
                    <a:lnTo>
                      <a:pt x="36" y="4987"/>
                    </a:lnTo>
                    <a:lnTo>
                      <a:pt x="27" y="4986"/>
                    </a:lnTo>
                    <a:lnTo>
                      <a:pt x="17" y="4985"/>
                    </a:lnTo>
                    <a:lnTo>
                      <a:pt x="9" y="4984"/>
                    </a:lnTo>
                    <a:lnTo>
                      <a:pt x="0" y="498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7" y="7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13360" y="2395440"/>
                <a:ext cx="28440" cy="1976400"/>
              </a:xfrm>
              <a:custGeom>
                <a:avLst/>
                <a:gdLst/>
                <a:ahLst/>
                <a:rect l="l" t="t" r="r" b="b"/>
                <a:pathLst>
                  <a:path w="73" h="4982">
                    <a:moveTo>
                      <a:pt x="73" y="0"/>
                    </a:moveTo>
                    <a:lnTo>
                      <a:pt x="73" y="4982"/>
                    </a:lnTo>
                    <a:lnTo>
                      <a:pt x="64" y="4981"/>
                    </a:lnTo>
                    <a:lnTo>
                      <a:pt x="54" y="4980"/>
                    </a:lnTo>
                    <a:lnTo>
                      <a:pt x="46" y="4979"/>
                    </a:lnTo>
                    <a:lnTo>
                      <a:pt x="37" y="4978"/>
                    </a:lnTo>
                    <a:lnTo>
                      <a:pt x="27" y="4976"/>
                    </a:lnTo>
                    <a:lnTo>
                      <a:pt x="19" y="4975"/>
                    </a:lnTo>
                    <a:lnTo>
                      <a:pt x="9" y="4974"/>
                    </a:lnTo>
                    <a:lnTo>
                      <a:pt x="0" y="4973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8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98960" y="2397240"/>
                <a:ext cx="28440" cy="1973160"/>
              </a:xfrm>
              <a:custGeom>
                <a:avLst/>
                <a:gdLst/>
                <a:ahLst/>
                <a:rect l="l" t="t" r="r" b="b"/>
                <a:pathLst>
                  <a:path w="74" h="4973">
                    <a:moveTo>
                      <a:pt x="74" y="0"/>
                    </a:moveTo>
                    <a:lnTo>
                      <a:pt x="74" y="4973"/>
                    </a:lnTo>
                    <a:lnTo>
                      <a:pt x="64" y="4971"/>
                    </a:lnTo>
                    <a:lnTo>
                      <a:pt x="56" y="4970"/>
                    </a:lnTo>
                    <a:lnTo>
                      <a:pt x="46" y="4969"/>
                    </a:lnTo>
                    <a:lnTo>
                      <a:pt x="37" y="4968"/>
                    </a:lnTo>
                    <a:lnTo>
                      <a:pt x="27" y="4967"/>
                    </a:lnTo>
                    <a:lnTo>
                      <a:pt x="19" y="4964"/>
                    </a:lnTo>
                    <a:lnTo>
                      <a:pt x="9" y="4963"/>
                    </a:lnTo>
                    <a:lnTo>
                      <a:pt x="0" y="4962"/>
                    </a:lnTo>
                    <a:lnTo>
                      <a:pt x="0" y="10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6" y="3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a48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84560" y="2398680"/>
                <a:ext cx="28800" cy="1969920"/>
              </a:xfrm>
              <a:custGeom>
                <a:avLst/>
                <a:gdLst/>
                <a:ahLst/>
                <a:rect l="l" t="t" r="r" b="b"/>
                <a:pathLst>
                  <a:path w="73" h="4963">
                    <a:moveTo>
                      <a:pt x="73" y="0"/>
                    </a:moveTo>
                    <a:lnTo>
                      <a:pt x="73" y="4963"/>
                    </a:lnTo>
                    <a:lnTo>
                      <a:pt x="63" y="4962"/>
                    </a:lnTo>
                    <a:lnTo>
                      <a:pt x="55" y="4960"/>
                    </a:lnTo>
                    <a:lnTo>
                      <a:pt x="45" y="4958"/>
                    </a:lnTo>
                    <a:lnTo>
                      <a:pt x="36" y="4957"/>
                    </a:lnTo>
                    <a:lnTo>
                      <a:pt x="27" y="4956"/>
                    </a:lnTo>
                    <a:lnTo>
                      <a:pt x="18" y="4954"/>
                    </a:lnTo>
                    <a:lnTo>
                      <a:pt x="8" y="4953"/>
                    </a:lnTo>
                    <a:lnTo>
                      <a:pt x="0" y="4952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8" y="8"/>
                    </a:lnTo>
                    <a:lnTo>
                      <a:pt x="27" y="6"/>
                    </a:lnTo>
                    <a:lnTo>
                      <a:pt x="36" y="5"/>
                    </a:lnTo>
                    <a:lnTo>
                      <a:pt x="45" y="4"/>
                    </a:lnTo>
                    <a:lnTo>
                      <a:pt x="55" y="2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68720" y="2401920"/>
                <a:ext cx="30240" cy="1965240"/>
              </a:xfrm>
              <a:custGeom>
                <a:avLst/>
                <a:gdLst/>
                <a:ahLst/>
                <a:rect l="l" t="t" r="r" b="b"/>
                <a:pathLst>
                  <a:path w="73" h="4952">
                    <a:moveTo>
                      <a:pt x="73" y="0"/>
                    </a:moveTo>
                    <a:lnTo>
                      <a:pt x="73" y="4952"/>
                    </a:lnTo>
                    <a:lnTo>
                      <a:pt x="64" y="4951"/>
                    </a:lnTo>
                    <a:lnTo>
                      <a:pt x="55" y="4950"/>
                    </a:lnTo>
                    <a:lnTo>
                      <a:pt x="45" y="4948"/>
                    </a:lnTo>
                    <a:lnTo>
                      <a:pt x="37" y="4947"/>
                    </a:lnTo>
                    <a:lnTo>
                      <a:pt x="27" y="4946"/>
                    </a:lnTo>
                    <a:lnTo>
                      <a:pt x="18" y="4944"/>
                    </a:lnTo>
                    <a:lnTo>
                      <a:pt x="9" y="4942"/>
                    </a:lnTo>
                    <a:lnTo>
                      <a:pt x="0" y="4941"/>
                    </a:lnTo>
                    <a:lnTo>
                      <a:pt x="0" y="11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54320" y="2403360"/>
                <a:ext cx="30240" cy="1960560"/>
              </a:xfrm>
              <a:custGeom>
                <a:avLst/>
                <a:gdLst/>
                <a:ahLst/>
                <a:rect l="l" t="t" r="r" b="b"/>
                <a:pathLst>
                  <a:path w="74" h="4941">
                    <a:moveTo>
                      <a:pt x="74" y="0"/>
                    </a:moveTo>
                    <a:lnTo>
                      <a:pt x="74" y="4941"/>
                    </a:lnTo>
                    <a:lnTo>
                      <a:pt x="64" y="4940"/>
                    </a:lnTo>
                    <a:lnTo>
                      <a:pt x="55" y="4938"/>
                    </a:lnTo>
                    <a:lnTo>
                      <a:pt x="46" y="4936"/>
                    </a:lnTo>
                    <a:lnTo>
                      <a:pt x="37" y="4935"/>
                    </a:lnTo>
                    <a:lnTo>
                      <a:pt x="28" y="4933"/>
                    </a:lnTo>
                    <a:lnTo>
                      <a:pt x="19" y="4932"/>
                    </a:lnTo>
                    <a:lnTo>
                      <a:pt x="10" y="4931"/>
                    </a:lnTo>
                    <a:lnTo>
                      <a:pt x="0" y="4929"/>
                    </a:lnTo>
                    <a:lnTo>
                      <a:pt x="0" y="11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8" y="6"/>
                    </a:lnTo>
                    <a:lnTo>
                      <a:pt x="37" y="5"/>
                    </a:lnTo>
                    <a:lnTo>
                      <a:pt x="46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40280" y="2405160"/>
                <a:ext cx="28440" cy="1957320"/>
              </a:xfrm>
              <a:custGeom>
                <a:avLst/>
                <a:gdLst/>
                <a:ahLst/>
                <a:rect l="l" t="t" r="r" b="b"/>
                <a:pathLst>
                  <a:path w="74" h="4930">
                    <a:moveTo>
                      <a:pt x="74" y="0"/>
                    </a:moveTo>
                    <a:lnTo>
                      <a:pt x="74" y="4930"/>
                    </a:lnTo>
                    <a:lnTo>
                      <a:pt x="65" y="4929"/>
                    </a:lnTo>
                    <a:lnTo>
                      <a:pt x="56" y="4927"/>
                    </a:lnTo>
                    <a:lnTo>
                      <a:pt x="47" y="4926"/>
                    </a:lnTo>
                    <a:lnTo>
                      <a:pt x="37" y="4924"/>
                    </a:lnTo>
                    <a:lnTo>
                      <a:pt x="29" y="4923"/>
                    </a:lnTo>
                    <a:lnTo>
                      <a:pt x="19" y="4922"/>
                    </a:lnTo>
                    <a:lnTo>
                      <a:pt x="10" y="4920"/>
                    </a:lnTo>
                    <a:lnTo>
                      <a:pt x="0" y="4919"/>
                    </a:lnTo>
                    <a:lnTo>
                      <a:pt x="0" y="12"/>
                    </a:lnTo>
                    <a:lnTo>
                      <a:pt x="10" y="11"/>
                    </a:lnTo>
                    <a:lnTo>
                      <a:pt x="19" y="9"/>
                    </a:lnTo>
                    <a:lnTo>
                      <a:pt x="29" y="8"/>
                    </a:lnTo>
                    <a:lnTo>
                      <a:pt x="37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5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025880" y="2408040"/>
                <a:ext cx="28440" cy="1951200"/>
              </a:xfrm>
              <a:custGeom>
                <a:avLst/>
                <a:gdLst/>
                <a:ahLst/>
                <a:rect l="l" t="t" r="r" b="b"/>
                <a:pathLst>
                  <a:path w="73" h="4918">
                    <a:moveTo>
                      <a:pt x="73" y="0"/>
                    </a:moveTo>
                    <a:lnTo>
                      <a:pt x="73" y="4918"/>
                    </a:lnTo>
                    <a:lnTo>
                      <a:pt x="65" y="4917"/>
                    </a:lnTo>
                    <a:lnTo>
                      <a:pt x="55" y="4916"/>
                    </a:lnTo>
                    <a:lnTo>
                      <a:pt x="46" y="4914"/>
                    </a:lnTo>
                    <a:lnTo>
                      <a:pt x="36" y="4913"/>
                    </a:lnTo>
                    <a:lnTo>
                      <a:pt x="28" y="4911"/>
                    </a:lnTo>
                    <a:lnTo>
                      <a:pt x="18" y="4909"/>
                    </a:lnTo>
                    <a:lnTo>
                      <a:pt x="9" y="4908"/>
                    </a:lnTo>
                    <a:lnTo>
                      <a:pt x="0" y="4906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6" y="5"/>
                    </a:lnTo>
                    <a:lnTo>
                      <a:pt x="55" y="3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11480" y="2409840"/>
                <a:ext cx="28800" cy="1947960"/>
              </a:xfrm>
              <a:custGeom>
                <a:avLst/>
                <a:gdLst/>
                <a:ahLst/>
                <a:rect l="l" t="t" r="r" b="b"/>
                <a:pathLst>
                  <a:path w="72" h="4907">
                    <a:moveTo>
                      <a:pt x="72" y="0"/>
                    </a:moveTo>
                    <a:lnTo>
                      <a:pt x="72" y="4907"/>
                    </a:lnTo>
                    <a:lnTo>
                      <a:pt x="64" y="4905"/>
                    </a:lnTo>
                    <a:lnTo>
                      <a:pt x="54" y="4903"/>
                    </a:lnTo>
                    <a:lnTo>
                      <a:pt x="45" y="4902"/>
                    </a:lnTo>
                    <a:lnTo>
                      <a:pt x="36" y="4900"/>
                    </a:lnTo>
                    <a:lnTo>
                      <a:pt x="27" y="4899"/>
                    </a:lnTo>
                    <a:lnTo>
                      <a:pt x="17" y="4897"/>
                    </a:lnTo>
                    <a:lnTo>
                      <a:pt x="9" y="4896"/>
                    </a:lnTo>
                    <a:lnTo>
                      <a:pt x="0" y="4894"/>
                    </a:lnTo>
                    <a:lnTo>
                      <a:pt x="0" y="12"/>
                    </a:lnTo>
                    <a:lnTo>
                      <a:pt x="9" y="11"/>
                    </a:lnTo>
                    <a:lnTo>
                      <a:pt x="17" y="10"/>
                    </a:lnTo>
                    <a:lnTo>
                      <a:pt x="27" y="8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4" y="3"/>
                    </a:lnTo>
                    <a:lnTo>
                      <a:pt x="64" y="1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bd4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97440" y="2413080"/>
                <a:ext cx="28440" cy="1941480"/>
              </a:xfrm>
              <a:custGeom>
                <a:avLst/>
                <a:gdLst/>
                <a:ahLst/>
                <a:rect l="l" t="t" r="r" b="b"/>
                <a:pathLst>
                  <a:path w="73" h="4893">
                    <a:moveTo>
                      <a:pt x="73" y="0"/>
                    </a:moveTo>
                    <a:lnTo>
                      <a:pt x="73" y="4893"/>
                    </a:lnTo>
                    <a:lnTo>
                      <a:pt x="64" y="4892"/>
                    </a:lnTo>
                    <a:lnTo>
                      <a:pt x="54" y="4890"/>
                    </a:lnTo>
                    <a:lnTo>
                      <a:pt x="46" y="4889"/>
                    </a:lnTo>
                    <a:lnTo>
                      <a:pt x="36" y="4887"/>
                    </a:lnTo>
                    <a:lnTo>
                      <a:pt x="27" y="4885"/>
                    </a:lnTo>
                    <a:lnTo>
                      <a:pt x="19" y="4883"/>
                    </a:lnTo>
                    <a:lnTo>
                      <a:pt x="9" y="4882"/>
                    </a:lnTo>
                    <a:lnTo>
                      <a:pt x="0" y="4880"/>
                    </a:lnTo>
                    <a:lnTo>
                      <a:pt x="0" y="13"/>
                    </a:lnTo>
                    <a:lnTo>
                      <a:pt x="9" y="10"/>
                    </a:lnTo>
                    <a:lnTo>
                      <a:pt x="19" y="9"/>
                    </a:lnTo>
                    <a:lnTo>
                      <a:pt x="27" y="7"/>
                    </a:lnTo>
                    <a:lnTo>
                      <a:pt x="36" y="5"/>
                    </a:lnTo>
                    <a:lnTo>
                      <a:pt x="46" y="4"/>
                    </a:lnTo>
                    <a:lnTo>
                      <a:pt x="54" y="2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983040" y="2414520"/>
                <a:ext cx="28440" cy="1938240"/>
              </a:xfrm>
              <a:custGeom>
                <a:avLst/>
                <a:gdLst/>
                <a:ahLst/>
                <a:rect l="l" t="t" r="r" b="b"/>
                <a:pathLst>
                  <a:path w="73" h="4882">
                    <a:moveTo>
                      <a:pt x="73" y="0"/>
                    </a:moveTo>
                    <a:lnTo>
                      <a:pt x="73" y="4882"/>
                    </a:lnTo>
                    <a:lnTo>
                      <a:pt x="63" y="4880"/>
                    </a:lnTo>
                    <a:lnTo>
                      <a:pt x="55" y="4878"/>
                    </a:lnTo>
                    <a:lnTo>
                      <a:pt x="45" y="4877"/>
                    </a:lnTo>
                    <a:lnTo>
                      <a:pt x="36" y="4875"/>
                    </a:lnTo>
                    <a:lnTo>
                      <a:pt x="27" y="4874"/>
                    </a:lnTo>
                    <a:lnTo>
                      <a:pt x="18" y="4872"/>
                    </a:lnTo>
                    <a:lnTo>
                      <a:pt x="8" y="4871"/>
                    </a:lnTo>
                    <a:lnTo>
                      <a:pt x="0" y="4869"/>
                    </a:lnTo>
                    <a:lnTo>
                      <a:pt x="0" y="14"/>
                    </a:lnTo>
                    <a:lnTo>
                      <a:pt x="8" y="12"/>
                    </a:lnTo>
                    <a:lnTo>
                      <a:pt x="18" y="11"/>
                    </a:lnTo>
                    <a:lnTo>
                      <a:pt x="27" y="9"/>
                    </a:lnTo>
                    <a:lnTo>
                      <a:pt x="36" y="6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67200" y="2417760"/>
                <a:ext cx="30240" cy="1931760"/>
              </a:xfrm>
              <a:custGeom>
                <a:avLst/>
                <a:gdLst/>
                <a:ahLst/>
                <a:rect l="l" t="t" r="r" b="b"/>
                <a:pathLst>
                  <a:path w="73" h="4867">
                    <a:moveTo>
                      <a:pt x="73" y="0"/>
                    </a:moveTo>
                    <a:lnTo>
                      <a:pt x="73" y="4867"/>
                    </a:lnTo>
                    <a:lnTo>
                      <a:pt x="64" y="4866"/>
                    </a:lnTo>
                    <a:lnTo>
                      <a:pt x="55" y="4864"/>
                    </a:lnTo>
                    <a:lnTo>
                      <a:pt x="45" y="4863"/>
                    </a:lnTo>
                    <a:lnTo>
                      <a:pt x="37" y="4861"/>
                    </a:lnTo>
                    <a:lnTo>
                      <a:pt x="27" y="4860"/>
                    </a:lnTo>
                    <a:lnTo>
                      <a:pt x="18" y="4857"/>
                    </a:lnTo>
                    <a:lnTo>
                      <a:pt x="8" y="4855"/>
                    </a:lnTo>
                    <a:lnTo>
                      <a:pt x="0" y="4854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8" y="9"/>
                    </a:lnTo>
                    <a:lnTo>
                      <a:pt x="27" y="7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52800" y="2421000"/>
                <a:ext cx="30240" cy="1925640"/>
              </a:xfrm>
              <a:custGeom>
                <a:avLst/>
                <a:gdLst/>
                <a:ahLst/>
                <a:rect l="l" t="t" r="r" b="b"/>
                <a:pathLst>
                  <a:path w="74" h="4855">
                    <a:moveTo>
                      <a:pt x="74" y="0"/>
                    </a:moveTo>
                    <a:lnTo>
                      <a:pt x="74" y="4855"/>
                    </a:lnTo>
                    <a:lnTo>
                      <a:pt x="64" y="4854"/>
                    </a:lnTo>
                    <a:lnTo>
                      <a:pt x="55" y="4851"/>
                    </a:lnTo>
                    <a:lnTo>
                      <a:pt x="45" y="4850"/>
                    </a:lnTo>
                    <a:lnTo>
                      <a:pt x="37" y="4848"/>
                    </a:lnTo>
                    <a:lnTo>
                      <a:pt x="27" y="4846"/>
                    </a:lnTo>
                    <a:lnTo>
                      <a:pt x="18" y="4845"/>
                    </a:lnTo>
                    <a:lnTo>
                      <a:pt x="9" y="4843"/>
                    </a:lnTo>
                    <a:lnTo>
                      <a:pt x="0" y="4841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0"/>
                    </a:lnTo>
                    <a:lnTo>
                      <a:pt x="27" y="9"/>
                    </a:lnTo>
                    <a:lnTo>
                      <a:pt x="37" y="6"/>
                    </a:lnTo>
                    <a:lnTo>
                      <a:pt x="45" y="4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38760" y="2422440"/>
                <a:ext cx="28440" cy="1922400"/>
              </a:xfrm>
              <a:custGeom>
                <a:avLst/>
                <a:gdLst/>
                <a:ahLst/>
                <a:rect l="l" t="t" r="r" b="b"/>
                <a:pathLst>
                  <a:path w="74" h="4842">
                    <a:moveTo>
                      <a:pt x="74" y="0"/>
                    </a:moveTo>
                    <a:lnTo>
                      <a:pt x="74" y="4842"/>
                    </a:lnTo>
                    <a:lnTo>
                      <a:pt x="64" y="4840"/>
                    </a:lnTo>
                    <a:lnTo>
                      <a:pt x="55" y="4839"/>
                    </a:lnTo>
                    <a:lnTo>
                      <a:pt x="46" y="4837"/>
                    </a:lnTo>
                    <a:lnTo>
                      <a:pt x="37" y="4835"/>
                    </a:lnTo>
                    <a:lnTo>
                      <a:pt x="27" y="4833"/>
                    </a:lnTo>
                    <a:lnTo>
                      <a:pt x="19" y="4831"/>
                    </a:lnTo>
                    <a:lnTo>
                      <a:pt x="9" y="4829"/>
                    </a:lnTo>
                    <a:lnTo>
                      <a:pt x="0" y="4828"/>
                    </a:lnTo>
                    <a:lnTo>
                      <a:pt x="0" y="15"/>
                    </a:lnTo>
                    <a:lnTo>
                      <a:pt x="9" y="12"/>
                    </a:lnTo>
                    <a:lnTo>
                      <a:pt x="19" y="11"/>
                    </a:lnTo>
                    <a:lnTo>
                      <a:pt x="27" y="9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24360" y="2425680"/>
                <a:ext cx="28440" cy="1915920"/>
              </a:xfrm>
              <a:custGeom>
                <a:avLst/>
                <a:gdLst/>
                <a:ahLst/>
                <a:rect l="l" t="t" r="r" b="b"/>
                <a:pathLst>
                  <a:path w="73" h="4827">
                    <a:moveTo>
                      <a:pt x="73" y="0"/>
                    </a:moveTo>
                    <a:lnTo>
                      <a:pt x="73" y="4827"/>
                    </a:lnTo>
                    <a:lnTo>
                      <a:pt x="63" y="4825"/>
                    </a:lnTo>
                    <a:lnTo>
                      <a:pt x="55" y="4823"/>
                    </a:lnTo>
                    <a:lnTo>
                      <a:pt x="45" y="4821"/>
                    </a:lnTo>
                    <a:lnTo>
                      <a:pt x="36" y="4820"/>
                    </a:lnTo>
                    <a:lnTo>
                      <a:pt x="28" y="4818"/>
                    </a:lnTo>
                    <a:lnTo>
                      <a:pt x="18" y="4816"/>
                    </a:lnTo>
                    <a:lnTo>
                      <a:pt x="9" y="4814"/>
                    </a:lnTo>
                    <a:lnTo>
                      <a:pt x="0" y="4813"/>
                    </a:lnTo>
                    <a:lnTo>
                      <a:pt x="0" y="14"/>
                    </a:lnTo>
                    <a:lnTo>
                      <a:pt x="9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5"/>
                    </a:lnTo>
                    <a:lnTo>
                      <a:pt x="55" y="3"/>
                    </a:lnTo>
                    <a:lnTo>
                      <a:pt x="63" y="1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909960" y="2428920"/>
                <a:ext cx="28800" cy="1909800"/>
              </a:xfrm>
              <a:custGeom>
                <a:avLst/>
                <a:gdLst/>
                <a:ahLst/>
                <a:rect l="l" t="t" r="r" b="b"/>
                <a:pathLst>
                  <a:path w="73" h="4813">
                    <a:moveTo>
                      <a:pt x="73" y="0"/>
                    </a:moveTo>
                    <a:lnTo>
                      <a:pt x="73" y="4813"/>
                    </a:lnTo>
                    <a:lnTo>
                      <a:pt x="65" y="4811"/>
                    </a:lnTo>
                    <a:lnTo>
                      <a:pt x="55" y="4809"/>
                    </a:lnTo>
                    <a:lnTo>
                      <a:pt x="46" y="4808"/>
                    </a:lnTo>
                    <a:lnTo>
                      <a:pt x="37" y="4806"/>
                    </a:lnTo>
                    <a:lnTo>
                      <a:pt x="28" y="4803"/>
                    </a:lnTo>
                    <a:lnTo>
                      <a:pt x="18" y="4801"/>
                    </a:lnTo>
                    <a:lnTo>
                      <a:pt x="10" y="4799"/>
                    </a:lnTo>
                    <a:lnTo>
                      <a:pt x="0" y="4798"/>
                    </a:lnTo>
                    <a:lnTo>
                      <a:pt x="0" y="15"/>
                    </a:lnTo>
                    <a:lnTo>
                      <a:pt x="10" y="12"/>
                    </a:lnTo>
                    <a:lnTo>
                      <a:pt x="18" y="11"/>
                    </a:lnTo>
                    <a:lnTo>
                      <a:pt x="28" y="9"/>
                    </a:lnTo>
                    <a:lnTo>
                      <a:pt x="37" y="7"/>
                    </a:lnTo>
                    <a:lnTo>
                      <a:pt x="46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e4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95560" y="2432160"/>
                <a:ext cx="28800" cy="1903320"/>
              </a:xfrm>
              <a:custGeom>
                <a:avLst/>
                <a:gdLst/>
                <a:ahLst/>
                <a:rect l="l" t="t" r="r" b="b"/>
                <a:pathLst>
                  <a:path w="74" h="4799">
                    <a:moveTo>
                      <a:pt x="74" y="0"/>
                    </a:moveTo>
                    <a:lnTo>
                      <a:pt x="74" y="4799"/>
                    </a:lnTo>
                    <a:lnTo>
                      <a:pt x="65" y="4796"/>
                    </a:lnTo>
                    <a:lnTo>
                      <a:pt x="55" y="4794"/>
                    </a:lnTo>
                    <a:lnTo>
                      <a:pt x="47" y="4792"/>
                    </a:lnTo>
                    <a:lnTo>
                      <a:pt x="37" y="4791"/>
                    </a:lnTo>
                    <a:lnTo>
                      <a:pt x="28" y="4789"/>
                    </a:lnTo>
                    <a:lnTo>
                      <a:pt x="19" y="4787"/>
                    </a:lnTo>
                    <a:lnTo>
                      <a:pt x="10" y="4784"/>
                    </a:lnTo>
                    <a:lnTo>
                      <a:pt x="0" y="4783"/>
                    </a:lnTo>
                    <a:lnTo>
                      <a:pt x="0" y="15"/>
                    </a:lnTo>
                    <a:lnTo>
                      <a:pt x="10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7" y="8"/>
                    </a:lnTo>
                    <a:lnTo>
                      <a:pt x="47" y="5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1520" y="2435040"/>
                <a:ext cx="28440" cy="1897200"/>
              </a:xfrm>
              <a:custGeom>
                <a:avLst/>
                <a:gdLst/>
                <a:ahLst/>
                <a:rect l="l" t="t" r="r" b="b"/>
                <a:pathLst>
                  <a:path w="73" h="4783">
                    <a:moveTo>
                      <a:pt x="73" y="0"/>
                    </a:moveTo>
                    <a:lnTo>
                      <a:pt x="73" y="4783"/>
                    </a:lnTo>
                    <a:lnTo>
                      <a:pt x="64" y="4781"/>
                    </a:lnTo>
                    <a:lnTo>
                      <a:pt x="55" y="4779"/>
                    </a:lnTo>
                    <a:lnTo>
                      <a:pt x="46" y="4776"/>
                    </a:lnTo>
                    <a:lnTo>
                      <a:pt x="36" y="4774"/>
                    </a:lnTo>
                    <a:lnTo>
                      <a:pt x="28" y="4773"/>
                    </a:lnTo>
                    <a:lnTo>
                      <a:pt x="18" y="4771"/>
                    </a:lnTo>
                    <a:lnTo>
                      <a:pt x="9" y="4769"/>
                    </a:lnTo>
                    <a:lnTo>
                      <a:pt x="0" y="4767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8" y="9"/>
                    </a:lnTo>
                    <a:lnTo>
                      <a:pt x="36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65680" y="2438280"/>
                <a:ext cx="29880" cy="1892520"/>
              </a:xfrm>
              <a:custGeom>
                <a:avLst/>
                <a:gdLst/>
                <a:ahLst/>
                <a:rect l="l" t="t" r="r" b="b"/>
                <a:pathLst>
                  <a:path w="72" h="4768">
                    <a:moveTo>
                      <a:pt x="72" y="0"/>
                    </a:moveTo>
                    <a:lnTo>
                      <a:pt x="72" y="4768"/>
                    </a:lnTo>
                    <a:lnTo>
                      <a:pt x="64" y="4766"/>
                    </a:lnTo>
                    <a:lnTo>
                      <a:pt x="54" y="4764"/>
                    </a:lnTo>
                    <a:lnTo>
                      <a:pt x="45" y="4762"/>
                    </a:lnTo>
                    <a:lnTo>
                      <a:pt x="35" y="4760"/>
                    </a:lnTo>
                    <a:lnTo>
                      <a:pt x="27" y="4758"/>
                    </a:lnTo>
                    <a:lnTo>
                      <a:pt x="18" y="4755"/>
                    </a:lnTo>
                    <a:lnTo>
                      <a:pt x="8" y="4753"/>
                    </a:lnTo>
                    <a:lnTo>
                      <a:pt x="0" y="4751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5" y="9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51280" y="2441520"/>
                <a:ext cx="30240" cy="1884240"/>
              </a:xfrm>
              <a:custGeom>
                <a:avLst/>
                <a:gdLst/>
                <a:ahLst/>
                <a:rect l="l" t="t" r="r" b="b"/>
                <a:pathLst>
                  <a:path w="73" h="4751">
                    <a:moveTo>
                      <a:pt x="73" y="0"/>
                    </a:moveTo>
                    <a:lnTo>
                      <a:pt x="73" y="4751"/>
                    </a:lnTo>
                    <a:lnTo>
                      <a:pt x="64" y="4749"/>
                    </a:lnTo>
                    <a:lnTo>
                      <a:pt x="55" y="4746"/>
                    </a:lnTo>
                    <a:lnTo>
                      <a:pt x="45" y="4744"/>
                    </a:lnTo>
                    <a:lnTo>
                      <a:pt x="37" y="4742"/>
                    </a:lnTo>
                    <a:lnTo>
                      <a:pt x="27" y="4741"/>
                    </a:lnTo>
                    <a:lnTo>
                      <a:pt x="18" y="4739"/>
                    </a:lnTo>
                    <a:lnTo>
                      <a:pt x="9" y="4737"/>
                    </a:lnTo>
                    <a:lnTo>
                      <a:pt x="0" y="4735"/>
                    </a:lnTo>
                    <a:lnTo>
                      <a:pt x="0" y="16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27" y="10"/>
                    </a:lnTo>
                    <a:lnTo>
                      <a:pt x="37" y="7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36880" y="2444760"/>
                <a:ext cx="28800" cy="1878120"/>
              </a:xfrm>
              <a:custGeom>
                <a:avLst/>
                <a:gdLst/>
                <a:ahLst/>
                <a:rect l="l" t="t" r="r" b="b"/>
                <a:pathLst>
                  <a:path w="74" h="4734">
                    <a:moveTo>
                      <a:pt x="74" y="0"/>
                    </a:moveTo>
                    <a:lnTo>
                      <a:pt x="74" y="4734"/>
                    </a:lnTo>
                    <a:lnTo>
                      <a:pt x="64" y="4732"/>
                    </a:lnTo>
                    <a:lnTo>
                      <a:pt x="55" y="4731"/>
                    </a:lnTo>
                    <a:lnTo>
                      <a:pt x="46" y="4729"/>
                    </a:lnTo>
                    <a:lnTo>
                      <a:pt x="37" y="4727"/>
                    </a:lnTo>
                    <a:lnTo>
                      <a:pt x="27" y="4724"/>
                    </a:lnTo>
                    <a:lnTo>
                      <a:pt x="19" y="4722"/>
                    </a:lnTo>
                    <a:lnTo>
                      <a:pt x="9" y="4720"/>
                    </a:lnTo>
                    <a:lnTo>
                      <a:pt x="0" y="4718"/>
                    </a:lnTo>
                    <a:lnTo>
                      <a:pt x="0" y="17"/>
                    </a:lnTo>
                    <a:lnTo>
                      <a:pt x="9" y="15"/>
                    </a:lnTo>
                    <a:lnTo>
                      <a:pt x="19" y="12"/>
                    </a:lnTo>
                    <a:lnTo>
                      <a:pt x="27" y="10"/>
                    </a:lnTo>
                    <a:lnTo>
                      <a:pt x="37" y="8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2448000"/>
                <a:ext cx="28440" cy="1871640"/>
              </a:xfrm>
              <a:custGeom>
                <a:avLst/>
                <a:gdLst/>
                <a:ahLst/>
                <a:rect l="l" t="t" r="r" b="b"/>
                <a:pathLst>
                  <a:path w="73" h="4719">
                    <a:moveTo>
                      <a:pt x="73" y="0"/>
                    </a:moveTo>
                    <a:lnTo>
                      <a:pt x="73" y="4719"/>
                    </a:lnTo>
                    <a:lnTo>
                      <a:pt x="63" y="4716"/>
                    </a:lnTo>
                    <a:lnTo>
                      <a:pt x="55" y="4714"/>
                    </a:lnTo>
                    <a:lnTo>
                      <a:pt x="45" y="4712"/>
                    </a:lnTo>
                    <a:lnTo>
                      <a:pt x="36" y="4710"/>
                    </a:lnTo>
                    <a:lnTo>
                      <a:pt x="27" y="4708"/>
                    </a:lnTo>
                    <a:lnTo>
                      <a:pt x="18" y="4706"/>
                    </a:lnTo>
                    <a:lnTo>
                      <a:pt x="8" y="4703"/>
                    </a:lnTo>
                    <a:lnTo>
                      <a:pt x="0" y="4700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8" y="13"/>
                    </a:lnTo>
                    <a:lnTo>
                      <a:pt x="27" y="11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145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08440" y="2450880"/>
                <a:ext cx="28440" cy="1865520"/>
              </a:xfrm>
              <a:custGeom>
                <a:avLst/>
                <a:gdLst/>
                <a:ahLst/>
                <a:rect l="l" t="t" r="r" b="b"/>
                <a:pathLst>
                  <a:path w="73" h="4701">
                    <a:moveTo>
                      <a:pt x="73" y="0"/>
                    </a:moveTo>
                    <a:lnTo>
                      <a:pt x="73" y="4701"/>
                    </a:lnTo>
                    <a:lnTo>
                      <a:pt x="64" y="4699"/>
                    </a:lnTo>
                    <a:lnTo>
                      <a:pt x="55" y="4697"/>
                    </a:lnTo>
                    <a:lnTo>
                      <a:pt x="45" y="4694"/>
                    </a:lnTo>
                    <a:lnTo>
                      <a:pt x="37" y="4691"/>
                    </a:lnTo>
                    <a:lnTo>
                      <a:pt x="27" y="4689"/>
                    </a:lnTo>
                    <a:lnTo>
                      <a:pt x="18" y="4687"/>
                    </a:lnTo>
                    <a:lnTo>
                      <a:pt x="10" y="4685"/>
                    </a:lnTo>
                    <a:lnTo>
                      <a:pt x="0" y="4683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7" y="8"/>
                    </a:lnTo>
                    <a:lnTo>
                      <a:pt x="45" y="6"/>
                    </a:lnTo>
                    <a:lnTo>
                      <a:pt x="55" y="4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94040" y="2454120"/>
                <a:ext cx="28800" cy="1859040"/>
              </a:xfrm>
              <a:custGeom>
                <a:avLst/>
                <a:gdLst/>
                <a:ahLst/>
                <a:rect l="l" t="t" r="r" b="b"/>
                <a:pathLst>
                  <a:path w="74" h="4683">
                    <a:moveTo>
                      <a:pt x="74" y="0"/>
                    </a:moveTo>
                    <a:lnTo>
                      <a:pt x="74" y="4683"/>
                    </a:lnTo>
                    <a:lnTo>
                      <a:pt x="64" y="4681"/>
                    </a:lnTo>
                    <a:lnTo>
                      <a:pt x="55" y="4679"/>
                    </a:lnTo>
                    <a:lnTo>
                      <a:pt x="45" y="4677"/>
                    </a:lnTo>
                    <a:lnTo>
                      <a:pt x="37" y="4675"/>
                    </a:lnTo>
                    <a:lnTo>
                      <a:pt x="28" y="4672"/>
                    </a:lnTo>
                    <a:lnTo>
                      <a:pt x="18" y="4670"/>
                    </a:lnTo>
                    <a:lnTo>
                      <a:pt x="10" y="4668"/>
                    </a:lnTo>
                    <a:lnTo>
                      <a:pt x="0" y="4665"/>
                    </a:lnTo>
                    <a:lnTo>
                      <a:pt x="0" y="19"/>
                    </a:lnTo>
                    <a:lnTo>
                      <a:pt x="10" y="17"/>
                    </a:lnTo>
                    <a:lnTo>
                      <a:pt x="18" y="14"/>
                    </a:lnTo>
                    <a:lnTo>
                      <a:pt x="28" y="12"/>
                    </a:lnTo>
                    <a:lnTo>
                      <a:pt x="37" y="10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78200" y="2459160"/>
                <a:ext cx="30240" cy="1850760"/>
              </a:xfrm>
              <a:custGeom>
                <a:avLst/>
                <a:gdLst/>
                <a:ahLst/>
                <a:rect l="l" t="t" r="r" b="b"/>
                <a:pathLst>
                  <a:path w="74" h="4665">
                    <a:moveTo>
                      <a:pt x="74" y="0"/>
                    </a:moveTo>
                    <a:lnTo>
                      <a:pt x="74" y="4665"/>
                    </a:lnTo>
                    <a:lnTo>
                      <a:pt x="65" y="4662"/>
                    </a:lnTo>
                    <a:lnTo>
                      <a:pt x="55" y="4660"/>
                    </a:lnTo>
                    <a:lnTo>
                      <a:pt x="47" y="4658"/>
                    </a:lnTo>
                    <a:lnTo>
                      <a:pt x="37" y="4656"/>
                    </a:lnTo>
                    <a:lnTo>
                      <a:pt x="28" y="4653"/>
                    </a:lnTo>
                    <a:lnTo>
                      <a:pt x="19" y="4651"/>
                    </a:lnTo>
                    <a:lnTo>
                      <a:pt x="10" y="4648"/>
                    </a:lnTo>
                    <a:lnTo>
                      <a:pt x="0" y="4646"/>
                    </a:lnTo>
                    <a:lnTo>
                      <a:pt x="0" y="18"/>
                    </a:lnTo>
                    <a:lnTo>
                      <a:pt x="10" y="16"/>
                    </a:lnTo>
                    <a:lnTo>
                      <a:pt x="19" y="14"/>
                    </a:lnTo>
                    <a:lnTo>
                      <a:pt x="28" y="12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63800" y="2462040"/>
                <a:ext cx="30240" cy="1843200"/>
              </a:xfrm>
              <a:custGeom>
                <a:avLst/>
                <a:gdLst/>
                <a:ahLst/>
                <a:rect l="l" t="t" r="r" b="b"/>
                <a:pathLst>
                  <a:path w="73" h="4646">
                    <a:moveTo>
                      <a:pt x="73" y="0"/>
                    </a:moveTo>
                    <a:lnTo>
                      <a:pt x="73" y="4646"/>
                    </a:lnTo>
                    <a:lnTo>
                      <a:pt x="64" y="4644"/>
                    </a:lnTo>
                    <a:lnTo>
                      <a:pt x="55" y="4642"/>
                    </a:lnTo>
                    <a:lnTo>
                      <a:pt x="46" y="4639"/>
                    </a:lnTo>
                    <a:lnTo>
                      <a:pt x="36" y="4637"/>
                    </a:lnTo>
                    <a:lnTo>
                      <a:pt x="28" y="4635"/>
                    </a:lnTo>
                    <a:lnTo>
                      <a:pt x="18" y="4632"/>
                    </a:lnTo>
                    <a:lnTo>
                      <a:pt x="9" y="4630"/>
                    </a:lnTo>
                    <a:lnTo>
                      <a:pt x="0" y="4627"/>
                    </a:lnTo>
                    <a:lnTo>
                      <a:pt x="0" y="19"/>
                    </a:lnTo>
                    <a:lnTo>
                      <a:pt x="9" y="17"/>
                    </a:lnTo>
                    <a:lnTo>
                      <a:pt x="18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6" y="7"/>
                    </a:lnTo>
                    <a:lnTo>
                      <a:pt x="55" y="5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749760" y="2465280"/>
                <a:ext cx="28440" cy="1836720"/>
              </a:xfrm>
              <a:custGeom>
                <a:avLst/>
                <a:gdLst/>
                <a:ahLst/>
                <a:rect l="l" t="t" r="r" b="b"/>
                <a:pathLst>
                  <a:path w="72" h="4628">
                    <a:moveTo>
                      <a:pt x="72" y="0"/>
                    </a:moveTo>
                    <a:lnTo>
                      <a:pt x="72" y="4628"/>
                    </a:lnTo>
                    <a:lnTo>
                      <a:pt x="64" y="4626"/>
                    </a:lnTo>
                    <a:lnTo>
                      <a:pt x="54" y="4623"/>
                    </a:lnTo>
                    <a:lnTo>
                      <a:pt x="45" y="4621"/>
                    </a:lnTo>
                    <a:lnTo>
                      <a:pt x="36" y="4618"/>
                    </a:lnTo>
                    <a:lnTo>
                      <a:pt x="27" y="4616"/>
                    </a:lnTo>
                    <a:lnTo>
                      <a:pt x="17" y="4613"/>
                    </a:lnTo>
                    <a:lnTo>
                      <a:pt x="9" y="4611"/>
                    </a:lnTo>
                    <a:lnTo>
                      <a:pt x="0" y="4609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7" y="16"/>
                    </a:lnTo>
                    <a:lnTo>
                      <a:pt x="27" y="12"/>
                    </a:lnTo>
                    <a:lnTo>
                      <a:pt x="36" y="10"/>
                    </a:lnTo>
                    <a:lnTo>
                      <a:pt x="45" y="8"/>
                    </a:lnTo>
                    <a:lnTo>
                      <a:pt x="54" y="6"/>
                    </a:lnTo>
                    <a:lnTo>
                      <a:pt x="64" y="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35360" y="2469960"/>
                <a:ext cx="28440" cy="1828800"/>
              </a:xfrm>
              <a:custGeom>
                <a:avLst/>
                <a:gdLst/>
                <a:ahLst/>
                <a:rect l="l" t="t" r="r" b="b"/>
                <a:pathLst>
                  <a:path w="73" h="4608">
                    <a:moveTo>
                      <a:pt x="73" y="0"/>
                    </a:moveTo>
                    <a:lnTo>
                      <a:pt x="73" y="4608"/>
                    </a:lnTo>
                    <a:lnTo>
                      <a:pt x="64" y="4606"/>
                    </a:lnTo>
                    <a:lnTo>
                      <a:pt x="54" y="4603"/>
                    </a:lnTo>
                    <a:lnTo>
                      <a:pt x="46" y="4601"/>
                    </a:lnTo>
                    <a:lnTo>
                      <a:pt x="36" y="4599"/>
                    </a:lnTo>
                    <a:lnTo>
                      <a:pt x="27" y="4596"/>
                    </a:lnTo>
                    <a:lnTo>
                      <a:pt x="19" y="4593"/>
                    </a:lnTo>
                    <a:lnTo>
                      <a:pt x="9" y="4591"/>
                    </a:lnTo>
                    <a:lnTo>
                      <a:pt x="0" y="4588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6" y="10"/>
                    </a:lnTo>
                    <a:lnTo>
                      <a:pt x="46" y="8"/>
                    </a:lnTo>
                    <a:lnTo>
                      <a:pt x="54" y="6"/>
                    </a:lnTo>
                    <a:lnTo>
                      <a:pt x="64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24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0960" y="2473200"/>
                <a:ext cx="28800" cy="1820880"/>
              </a:xfrm>
              <a:custGeom>
                <a:avLst/>
                <a:gdLst/>
                <a:ahLst/>
                <a:rect l="l" t="t" r="r" b="b"/>
                <a:pathLst>
                  <a:path w="74" h="4589">
                    <a:moveTo>
                      <a:pt x="74" y="0"/>
                    </a:moveTo>
                    <a:lnTo>
                      <a:pt x="74" y="4589"/>
                    </a:lnTo>
                    <a:lnTo>
                      <a:pt x="64" y="4586"/>
                    </a:lnTo>
                    <a:lnTo>
                      <a:pt x="56" y="4583"/>
                    </a:lnTo>
                    <a:lnTo>
                      <a:pt x="46" y="4581"/>
                    </a:lnTo>
                    <a:lnTo>
                      <a:pt x="37" y="4578"/>
                    </a:lnTo>
                    <a:lnTo>
                      <a:pt x="27" y="4576"/>
                    </a:lnTo>
                    <a:lnTo>
                      <a:pt x="19" y="4574"/>
                    </a:lnTo>
                    <a:lnTo>
                      <a:pt x="9" y="4570"/>
                    </a:lnTo>
                    <a:lnTo>
                      <a:pt x="0" y="4568"/>
                    </a:lnTo>
                    <a:lnTo>
                      <a:pt x="0" y="20"/>
                    </a:lnTo>
                    <a:lnTo>
                      <a:pt x="9" y="18"/>
                    </a:lnTo>
                    <a:lnTo>
                      <a:pt x="19" y="15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6" y="7"/>
                    </a:lnTo>
                    <a:lnTo>
                      <a:pt x="56" y="5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706920" y="2477880"/>
                <a:ext cx="28440" cy="1811520"/>
              </a:xfrm>
              <a:custGeom>
                <a:avLst/>
                <a:gdLst/>
                <a:ahLst/>
                <a:rect l="l" t="t" r="r" b="b"/>
                <a:pathLst>
                  <a:path w="73" h="4567">
                    <a:moveTo>
                      <a:pt x="73" y="0"/>
                    </a:moveTo>
                    <a:lnTo>
                      <a:pt x="73" y="4567"/>
                    </a:lnTo>
                    <a:lnTo>
                      <a:pt x="63" y="4565"/>
                    </a:lnTo>
                    <a:lnTo>
                      <a:pt x="55" y="4563"/>
                    </a:lnTo>
                    <a:lnTo>
                      <a:pt x="45" y="4559"/>
                    </a:lnTo>
                    <a:lnTo>
                      <a:pt x="36" y="4557"/>
                    </a:lnTo>
                    <a:lnTo>
                      <a:pt x="27" y="4554"/>
                    </a:lnTo>
                    <a:lnTo>
                      <a:pt x="18" y="4552"/>
                    </a:lnTo>
                    <a:lnTo>
                      <a:pt x="8" y="4549"/>
                    </a:lnTo>
                    <a:lnTo>
                      <a:pt x="0" y="4546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8" y="15"/>
                    </a:lnTo>
                    <a:lnTo>
                      <a:pt x="27" y="13"/>
                    </a:lnTo>
                    <a:lnTo>
                      <a:pt x="36" y="9"/>
                    </a:lnTo>
                    <a:lnTo>
                      <a:pt x="45" y="7"/>
                    </a:lnTo>
                    <a:lnTo>
                      <a:pt x="55" y="4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91080" y="2481120"/>
                <a:ext cx="29880" cy="1805040"/>
              </a:xfrm>
              <a:custGeom>
                <a:avLst/>
                <a:gdLst/>
                <a:ahLst/>
                <a:rect l="l" t="t" r="r" b="b"/>
                <a:pathLst>
                  <a:path w="73" h="4548">
                    <a:moveTo>
                      <a:pt x="73" y="0"/>
                    </a:moveTo>
                    <a:lnTo>
                      <a:pt x="73" y="4548"/>
                    </a:lnTo>
                    <a:lnTo>
                      <a:pt x="64" y="4545"/>
                    </a:lnTo>
                    <a:lnTo>
                      <a:pt x="55" y="4543"/>
                    </a:lnTo>
                    <a:lnTo>
                      <a:pt x="45" y="4540"/>
                    </a:lnTo>
                    <a:lnTo>
                      <a:pt x="37" y="4537"/>
                    </a:lnTo>
                    <a:lnTo>
                      <a:pt x="27" y="4535"/>
                    </a:lnTo>
                    <a:lnTo>
                      <a:pt x="18" y="4532"/>
                    </a:lnTo>
                    <a:lnTo>
                      <a:pt x="9" y="4530"/>
                    </a:lnTo>
                    <a:lnTo>
                      <a:pt x="0" y="4527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7" y="13"/>
                    </a:lnTo>
                    <a:lnTo>
                      <a:pt x="37" y="11"/>
                    </a:lnTo>
                    <a:lnTo>
                      <a:pt x="45" y="8"/>
                    </a:lnTo>
                    <a:lnTo>
                      <a:pt x="55" y="6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76680" y="2485800"/>
                <a:ext cx="30240" cy="1795680"/>
              </a:xfrm>
              <a:custGeom>
                <a:avLst/>
                <a:gdLst/>
                <a:ahLst/>
                <a:rect l="l" t="t" r="r" b="b"/>
                <a:pathLst>
                  <a:path w="74" h="4526">
                    <a:moveTo>
                      <a:pt x="74" y="0"/>
                    </a:moveTo>
                    <a:lnTo>
                      <a:pt x="74" y="4526"/>
                    </a:lnTo>
                    <a:lnTo>
                      <a:pt x="64" y="4523"/>
                    </a:lnTo>
                    <a:lnTo>
                      <a:pt x="55" y="4521"/>
                    </a:lnTo>
                    <a:lnTo>
                      <a:pt x="46" y="4518"/>
                    </a:lnTo>
                    <a:lnTo>
                      <a:pt x="37" y="4516"/>
                    </a:lnTo>
                    <a:lnTo>
                      <a:pt x="27" y="4512"/>
                    </a:lnTo>
                    <a:lnTo>
                      <a:pt x="19" y="4510"/>
                    </a:lnTo>
                    <a:lnTo>
                      <a:pt x="10" y="4507"/>
                    </a:lnTo>
                    <a:lnTo>
                      <a:pt x="0" y="4505"/>
                    </a:lnTo>
                    <a:lnTo>
                      <a:pt x="0" y="22"/>
                    </a:lnTo>
                    <a:lnTo>
                      <a:pt x="10" y="20"/>
                    </a:lnTo>
                    <a:lnTo>
                      <a:pt x="19" y="16"/>
                    </a:lnTo>
                    <a:lnTo>
                      <a:pt x="27" y="14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5" y="6"/>
                    </a:lnTo>
                    <a:lnTo>
                      <a:pt x="64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62280" y="2489040"/>
                <a:ext cx="28800" cy="1789200"/>
              </a:xfrm>
              <a:custGeom>
                <a:avLst/>
                <a:gdLst/>
                <a:ahLst/>
                <a:rect l="l" t="t" r="r" b="b"/>
                <a:pathLst>
                  <a:path w="73" h="4505">
                    <a:moveTo>
                      <a:pt x="73" y="0"/>
                    </a:moveTo>
                    <a:lnTo>
                      <a:pt x="73" y="4505"/>
                    </a:lnTo>
                    <a:lnTo>
                      <a:pt x="63" y="4502"/>
                    </a:lnTo>
                    <a:lnTo>
                      <a:pt x="55" y="4499"/>
                    </a:lnTo>
                    <a:lnTo>
                      <a:pt x="45" y="4496"/>
                    </a:lnTo>
                    <a:lnTo>
                      <a:pt x="36" y="4494"/>
                    </a:lnTo>
                    <a:lnTo>
                      <a:pt x="28" y="4491"/>
                    </a:lnTo>
                    <a:lnTo>
                      <a:pt x="18" y="4488"/>
                    </a:lnTo>
                    <a:lnTo>
                      <a:pt x="9" y="4485"/>
                    </a:lnTo>
                    <a:lnTo>
                      <a:pt x="0" y="4482"/>
                    </a:lnTo>
                    <a:lnTo>
                      <a:pt x="0" y="23"/>
                    </a:lnTo>
                    <a:lnTo>
                      <a:pt x="9" y="19"/>
                    </a:lnTo>
                    <a:lnTo>
                      <a:pt x="18" y="16"/>
                    </a:lnTo>
                    <a:lnTo>
                      <a:pt x="28" y="14"/>
                    </a:lnTo>
                    <a:lnTo>
                      <a:pt x="36" y="11"/>
                    </a:lnTo>
                    <a:lnTo>
                      <a:pt x="45" y="8"/>
                    </a:lnTo>
                    <a:lnTo>
                      <a:pt x="55" y="5"/>
                    </a:lnTo>
                    <a:lnTo>
                      <a:pt x="63" y="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8240" y="2494080"/>
                <a:ext cx="28440" cy="1779480"/>
              </a:xfrm>
              <a:custGeom>
                <a:avLst/>
                <a:gdLst/>
                <a:ahLst/>
                <a:rect l="l" t="t" r="r" b="b"/>
                <a:pathLst>
                  <a:path w="73" h="4483">
                    <a:moveTo>
                      <a:pt x="73" y="0"/>
                    </a:moveTo>
                    <a:lnTo>
                      <a:pt x="73" y="4483"/>
                    </a:lnTo>
                    <a:lnTo>
                      <a:pt x="65" y="4480"/>
                    </a:lnTo>
                    <a:lnTo>
                      <a:pt x="55" y="4477"/>
                    </a:lnTo>
                    <a:lnTo>
                      <a:pt x="46" y="4474"/>
                    </a:lnTo>
                    <a:lnTo>
                      <a:pt x="37" y="4471"/>
                    </a:lnTo>
                    <a:lnTo>
                      <a:pt x="28" y="4469"/>
                    </a:lnTo>
                    <a:lnTo>
                      <a:pt x="18" y="4466"/>
                    </a:lnTo>
                    <a:lnTo>
                      <a:pt x="9" y="4463"/>
                    </a:lnTo>
                    <a:lnTo>
                      <a:pt x="0" y="4460"/>
                    </a:lnTo>
                    <a:lnTo>
                      <a:pt x="0" y="22"/>
                    </a:lnTo>
                    <a:lnTo>
                      <a:pt x="9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2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33840" y="2498760"/>
                <a:ext cx="28440" cy="1770120"/>
              </a:xfrm>
              <a:custGeom>
                <a:avLst/>
                <a:gdLst/>
                <a:ahLst/>
                <a:rect l="l" t="t" r="r" b="b"/>
                <a:pathLst>
                  <a:path w="74" h="4459">
                    <a:moveTo>
                      <a:pt x="74" y="0"/>
                    </a:moveTo>
                    <a:lnTo>
                      <a:pt x="74" y="4459"/>
                    </a:lnTo>
                    <a:lnTo>
                      <a:pt x="65" y="4457"/>
                    </a:lnTo>
                    <a:lnTo>
                      <a:pt x="55" y="4454"/>
                    </a:lnTo>
                    <a:lnTo>
                      <a:pt x="46" y="4450"/>
                    </a:lnTo>
                    <a:lnTo>
                      <a:pt x="37" y="4448"/>
                    </a:lnTo>
                    <a:lnTo>
                      <a:pt x="28" y="4445"/>
                    </a:lnTo>
                    <a:lnTo>
                      <a:pt x="18" y="4442"/>
                    </a:lnTo>
                    <a:lnTo>
                      <a:pt x="10" y="4440"/>
                    </a:lnTo>
                    <a:lnTo>
                      <a:pt x="0" y="4436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18" y="17"/>
                    </a:lnTo>
                    <a:lnTo>
                      <a:pt x="28" y="14"/>
                    </a:lnTo>
                    <a:lnTo>
                      <a:pt x="37" y="10"/>
                    </a:lnTo>
                    <a:lnTo>
                      <a:pt x="46" y="8"/>
                    </a:lnTo>
                    <a:lnTo>
                      <a:pt x="55" y="5"/>
                    </a:lnTo>
                    <a:lnTo>
                      <a:pt x="65" y="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5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19440" y="2503440"/>
                <a:ext cx="28800" cy="1760400"/>
              </a:xfrm>
              <a:custGeom>
                <a:avLst/>
                <a:gdLst/>
                <a:ahLst/>
                <a:rect l="l" t="t" r="r" b="b"/>
                <a:pathLst>
                  <a:path w="73" h="4438">
                    <a:moveTo>
                      <a:pt x="73" y="0"/>
                    </a:moveTo>
                    <a:lnTo>
                      <a:pt x="73" y="4438"/>
                    </a:lnTo>
                    <a:lnTo>
                      <a:pt x="64" y="4435"/>
                    </a:lnTo>
                    <a:lnTo>
                      <a:pt x="54" y="4432"/>
                    </a:lnTo>
                    <a:lnTo>
                      <a:pt x="46" y="4430"/>
                    </a:lnTo>
                    <a:lnTo>
                      <a:pt x="36" y="4426"/>
                    </a:lnTo>
                    <a:lnTo>
                      <a:pt x="27" y="4423"/>
                    </a:lnTo>
                    <a:lnTo>
                      <a:pt x="18" y="4420"/>
                    </a:lnTo>
                    <a:lnTo>
                      <a:pt x="9" y="4418"/>
                    </a:lnTo>
                    <a:lnTo>
                      <a:pt x="0" y="4414"/>
                    </a:lnTo>
                    <a:lnTo>
                      <a:pt x="0" y="24"/>
                    </a:lnTo>
                    <a:lnTo>
                      <a:pt x="9" y="21"/>
                    </a:lnTo>
                    <a:lnTo>
                      <a:pt x="18" y="18"/>
                    </a:lnTo>
                    <a:lnTo>
                      <a:pt x="27" y="16"/>
                    </a:lnTo>
                    <a:lnTo>
                      <a:pt x="36" y="12"/>
                    </a:lnTo>
                    <a:lnTo>
                      <a:pt x="46" y="9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605040" y="2508120"/>
                <a:ext cx="28800" cy="1751040"/>
              </a:xfrm>
              <a:custGeom>
                <a:avLst/>
                <a:gdLst/>
                <a:ahLst/>
                <a:rect l="l" t="t" r="r" b="b"/>
                <a:pathLst>
                  <a:path w="72" h="4414">
                    <a:moveTo>
                      <a:pt x="72" y="0"/>
                    </a:moveTo>
                    <a:lnTo>
                      <a:pt x="72" y="4414"/>
                    </a:lnTo>
                    <a:lnTo>
                      <a:pt x="63" y="4411"/>
                    </a:lnTo>
                    <a:lnTo>
                      <a:pt x="54" y="4408"/>
                    </a:lnTo>
                    <a:lnTo>
                      <a:pt x="45" y="4406"/>
                    </a:lnTo>
                    <a:lnTo>
                      <a:pt x="35" y="4402"/>
                    </a:lnTo>
                    <a:lnTo>
                      <a:pt x="27" y="4399"/>
                    </a:lnTo>
                    <a:lnTo>
                      <a:pt x="18" y="4396"/>
                    </a:lnTo>
                    <a:lnTo>
                      <a:pt x="8" y="4393"/>
                    </a:lnTo>
                    <a:lnTo>
                      <a:pt x="0" y="4391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5" y="12"/>
                    </a:lnTo>
                    <a:lnTo>
                      <a:pt x="45" y="9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9200" y="2512800"/>
                <a:ext cx="30240" cy="1741680"/>
              </a:xfrm>
              <a:custGeom>
                <a:avLst/>
                <a:gdLst/>
                <a:ahLst/>
                <a:rect l="l" t="t" r="r" b="b"/>
                <a:pathLst>
                  <a:path w="73" h="4390">
                    <a:moveTo>
                      <a:pt x="73" y="0"/>
                    </a:moveTo>
                    <a:lnTo>
                      <a:pt x="73" y="4390"/>
                    </a:lnTo>
                    <a:lnTo>
                      <a:pt x="64" y="4387"/>
                    </a:lnTo>
                    <a:lnTo>
                      <a:pt x="55" y="4384"/>
                    </a:lnTo>
                    <a:lnTo>
                      <a:pt x="45" y="4381"/>
                    </a:lnTo>
                    <a:lnTo>
                      <a:pt x="37" y="4377"/>
                    </a:lnTo>
                    <a:lnTo>
                      <a:pt x="27" y="4375"/>
                    </a:lnTo>
                    <a:lnTo>
                      <a:pt x="18" y="4372"/>
                    </a:lnTo>
                    <a:lnTo>
                      <a:pt x="9" y="4369"/>
                    </a:lnTo>
                    <a:lnTo>
                      <a:pt x="0" y="4366"/>
                    </a:lnTo>
                    <a:lnTo>
                      <a:pt x="0" y="25"/>
                    </a:lnTo>
                    <a:lnTo>
                      <a:pt x="9" y="22"/>
                    </a:lnTo>
                    <a:lnTo>
                      <a:pt x="18" y="19"/>
                    </a:lnTo>
                    <a:lnTo>
                      <a:pt x="27" y="15"/>
                    </a:lnTo>
                    <a:lnTo>
                      <a:pt x="37" y="12"/>
                    </a:lnTo>
                    <a:lnTo>
                      <a:pt x="45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5160" y="2517840"/>
                <a:ext cx="29880" cy="1731960"/>
              </a:xfrm>
              <a:custGeom>
                <a:avLst/>
                <a:gdLst/>
                <a:ahLst/>
                <a:rect l="l" t="t" r="r" b="b"/>
                <a:pathLst>
                  <a:path w="74" h="4367">
                    <a:moveTo>
                      <a:pt x="74" y="0"/>
                    </a:moveTo>
                    <a:lnTo>
                      <a:pt x="74" y="4367"/>
                    </a:lnTo>
                    <a:lnTo>
                      <a:pt x="64" y="4363"/>
                    </a:lnTo>
                    <a:lnTo>
                      <a:pt x="55" y="4360"/>
                    </a:lnTo>
                    <a:lnTo>
                      <a:pt x="46" y="4357"/>
                    </a:lnTo>
                    <a:lnTo>
                      <a:pt x="37" y="4354"/>
                    </a:lnTo>
                    <a:lnTo>
                      <a:pt x="27" y="4350"/>
                    </a:lnTo>
                    <a:lnTo>
                      <a:pt x="19" y="4347"/>
                    </a:lnTo>
                    <a:lnTo>
                      <a:pt x="9" y="4344"/>
                    </a:lnTo>
                    <a:lnTo>
                      <a:pt x="0" y="4341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20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0760" y="2522520"/>
                <a:ext cx="28440" cy="1722240"/>
              </a:xfrm>
              <a:custGeom>
                <a:avLst/>
                <a:gdLst/>
                <a:ahLst/>
                <a:rect l="l" t="t" r="r" b="b"/>
                <a:pathLst>
                  <a:path w="74" h="4341">
                    <a:moveTo>
                      <a:pt x="74" y="0"/>
                    </a:moveTo>
                    <a:lnTo>
                      <a:pt x="74" y="4341"/>
                    </a:lnTo>
                    <a:lnTo>
                      <a:pt x="64" y="4337"/>
                    </a:lnTo>
                    <a:lnTo>
                      <a:pt x="56" y="4334"/>
                    </a:lnTo>
                    <a:lnTo>
                      <a:pt x="46" y="4331"/>
                    </a:lnTo>
                    <a:lnTo>
                      <a:pt x="37" y="4328"/>
                    </a:lnTo>
                    <a:lnTo>
                      <a:pt x="27" y="4324"/>
                    </a:lnTo>
                    <a:lnTo>
                      <a:pt x="19" y="4321"/>
                    </a:lnTo>
                    <a:lnTo>
                      <a:pt x="9" y="4318"/>
                    </a:lnTo>
                    <a:lnTo>
                      <a:pt x="0" y="4315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9" y="19"/>
                    </a:lnTo>
                    <a:lnTo>
                      <a:pt x="27" y="16"/>
                    </a:lnTo>
                    <a:lnTo>
                      <a:pt x="37" y="13"/>
                    </a:lnTo>
                    <a:lnTo>
                      <a:pt x="46" y="10"/>
                    </a:lnTo>
                    <a:lnTo>
                      <a:pt x="56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46360" y="2527200"/>
                <a:ext cx="28800" cy="1712880"/>
              </a:xfrm>
              <a:custGeom>
                <a:avLst/>
                <a:gdLst/>
                <a:ahLst/>
                <a:rect l="l" t="t" r="r" b="b"/>
                <a:pathLst>
                  <a:path w="73" h="4315">
                    <a:moveTo>
                      <a:pt x="73" y="0"/>
                    </a:moveTo>
                    <a:lnTo>
                      <a:pt x="73" y="4315"/>
                    </a:lnTo>
                    <a:lnTo>
                      <a:pt x="63" y="4311"/>
                    </a:lnTo>
                    <a:lnTo>
                      <a:pt x="55" y="4308"/>
                    </a:lnTo>
                    <a:lnTo>
                      <a:pt x="45" y="4305"/>
                    </a:lnTo>
                    <a:lnTo>
                      <a:pt x="36" y="4302"/>
                    </a:lnTo>
                    <a:lnTo>
                      <a:pt x="27" y="4298"/>
                    </a:lnTo>
                    <a:lnTo>
                      <a:pt x="18" y="4295"/>
                    </a:lnTo>
                    <a:lnTo>
                      <a:pt x="9" y="4292"/>
                    </a:lnTo>
                    <a:lnTo>
                      <a:pt x="0" y="4289"/>
                    </a:lnTo>
                    <a:lnTo>
                      <a:pt x="0" y="26"/>
                    </a:lnTo>
                    <a:lnTo>
                      <a:pt x="9" y="23"/>
                    </a:lnTo>
                    <a:lnTo>
                      <a:pt x="18" y="19"/>
                    </a:lnTo>
                    <a:lnTo>
                      <a:pt x="27" y="16"/>
                    </a:lnTo>
                    <a:lnTo>
                      <a:pt x="36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3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74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32320" y="2531880"/>
                <a:ext cx="28440" cy="1703520"/>
              </a:xfrm>
              <a:custGeom>
                <a:avLst/>
                <a:gdLst/>
                <a:ahLst/>
                <a:rect l="l" t="t" r="r" b="b"/>
                <a:pathLst>
                  <a:path w="73" h="4289">
                    <a:moveTo>
                      <a:pt x="73" y="0"/>
                    </a:moveTo>
                    <a:lnTo>
                      <a:pt x="73" y="4289"/>
                    </a:lnTo>
                    <a:lnTo>
                      <a:pt x="65" y="4285"/>
                    </a:lnTo>
                    <a:lnTo>
                      <a:pt x="55" y="4282"/>
                    </a:lnTo>
                    <a:lnTo>
                      <a:pt x="45" y="4279"/>
                    </a:lnTo>
                    <a:lnTo>
                      <a:pt x="37" y="4276"/>
                    </a:lnTo>
                    <a:lnTo>
                      <a:pt x="28" y="4272"/>
                    </a:lnTo>
                    <a:lnTo>
                      <a:pt x="18" y="4269"/>
                    </a:lnTo>
                    <a:lnTo>
                      <a:pt x="10" y="4266"/>
                    </a:lnTo>
                    <a:lnTo>
                      <a:pt x="0" y="4262"/>
                    </a:lnTo>
                    <a:lnTo>
                      <a:pt x="0" y="27"/>
                    </a:lnTo>
                    <a:lnTo>
                      <a:pt x="10" y="23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5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717640" y="2367000"/>
              <a:ext cx="3721320" cy="2033640"/>
              <a:chOff x="2717640" y="2367000"/>
              <a:chExt cx="3721320" cy="2033640"/>
            </a:xfrm>
          </p:grpSpPr>
          <p:sp>
            <p:nvSpPr>
              <p:cNvPr id="680" name=""/>
              <p:cNvSpPr/>
              <p:nvPr/>
            </p:nvSpPr>
            <p:spPr>
              <a:xfrm>
                <a:off x="3517920" y="2538360"/>
                <a:ext cx="28440" cy="1690560"/>
              </a:xfrm>
              <a:custGeom>
                <a:avLst/>
                <a:gdLst/>
                <a:ahLst/>
                <a:rect l="l" t="t" r="r" b="b"/>
                <a:pathLst>
                  <a:path w="74" h="4263">
                    <a:moveTo>
                      <a:pt x="74" y="0"/>
                    </a:moveTo>
                    <a:lnTo>
                      <a:pt x="74" y="4263"/>
                    </a:lnTo>
                    <a:lnTo>
                      <a:pt x="65" y="4259"/>
                    </a:lnTo>
                    <a:lnTo>
                      <a:pt x="55" y="4256"/>
                    </a:lnTo>
                    <a:lnTo>
                      <a:pt x="47" y="4252"/>
                    </a:lnTo>
                    <a:lnTo>
                      <a:pt x="37" y="4249"/>
                    </a:lnTo>
                    <a:lnTo>
                      <a:pt x="28" y="4245"/>
                    </a:lnTo>
                    <a:lnTo>
                      <a:pt x="19" y="4242"/>
                    </a:lnTo>
                    <a:lnTo>
                      <a:pt x="10" y="4239"/>
                    </a:lnTo>
                    <a:lnTo>
                      <a:pt x="0" y="4235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37" y="14"/>
                    </a:lnTo>
                    <a:lnTo>
                      <a:pt x="47" y="10"/>
                    </a:lnTo>
                    <a:lnTo>
                      <a:pt x="55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502080" y="2543040"/>
                <a:ext cx="30240" cy="1681200"/>
              </a:xfrm>
              <a:custGeom>
                <a:avLst/>
                <a:gdLst/>
                <a:ahLst/>
                <a:rect l="l" t="t" r="r" b="b"/>
                <a:pathLst>
                  <a:path w="74" h="4235">
                    <a:moveTo>
                      <a:pt x="74" y="0"/>
                    </a:moveTo>
                    <a:lnTo>
                      <a:pt x="74" y="4235"/>
                    </a:lnTo>
                    <a:lnTo>
                      <a:pt x="65" y="4231"/>
                    </a:lnTo>
                    <a:lnTo>
                      <a:pt x="56" y="4228"/>
                    </a:lnTo>
                    <a:lnTo>
                      <a:pt x="47" y="4225"/>
                    </a:lnTo>
                    <a:lnTo>
                      <a:pt x="37" y="4222"/>
                    </a:lnTo>
                    <a:lnTo>
                      <a:pt x="29" y="4217"/>
                    </a:lnTo>
                    <a:lnTo>
                      <a:pt x="19" y="4214"/>
                    </a:lnTo>
                    <a:lnTo>
                      <a:pt x="10" y="4211"/>
                    </a:lnTo>
                    <a:lnTo>
                      <a:pt x="0" y="4208"/>
                    </a:lnTo>
                    <a:lnTo>
                      <a:pt x="0" y="27"/>
                    </a:lnTo>
                    <a:lnTo>
                      <a:pt x="10" y="24"/>
                    </a:lnTo>
                    <a:lnTo>
                      <a:pt x="19" y="20"/>
                    </a:lnTo>
                    <a:lnTo>
                      <a:pt x="29" y="17"/>
                    </a:lnTo>
                    <a:lnTo>
                      <a:pt x="37" y="13"/>
                    </a:lnTo>
                    <a:lnTo>
                      <a:pt x="47" y="10"/>
                    </a:lnTo>
                    <a:lnTo>
                      <a:pt x="56" y="6"/>
                    </a:lnTo>
                    <a:lnTo>
                      <a:pt x="65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87680" y="2547720"/>
                <a:ext cx="30240" cy="1670040"/>
              </a:xfrm>
              <a:custGeom>
                <a:avLst/>
                <a:gdLst/>
                <a:ahLst/>
                <a:rect l="l" t="t" r="r" b="b"/>
                <a:pathLst>
                  <a:path w="72" h="4208">
                    <a:moveTo>
                      <a:pt x="72" y="0"/>
                    </a:moveTo>
                    <a:lnTo>
                      <a:pt x="72" y="4208"/>
                    </a:lnTo>
                    <a:lnTo>
                      <a:pt x="64" y="4204"/>
                    </a:lnTo>
                    <a:lnTo>
                      <a:pt x="54" y="4201"/>
                    </a:lnTo>
                    <a:lnTo>
                      <a:pt x="45" y="4198"/>
                    </a:lnTo>
                    <a:lnTo>
                      <a:pt x="35" y="4194"/>
                    </a:lnTo>
                    <a:lnTo>
                      <a:pt x="27" y="4190"/>
                    </a:lnTo>
                    <a:lnTo>
                      <a:pt x="17" y="4187"/>
                    </a:lnTo>
                    <a:lnTo>
                      <a:pt x="8" y="4183"/>
                    </a:lnTo>
                    <a:lnTo>
                      <a:pt x="0" y="4180"/>
                    </a:lnTo>
                    <a:lnTo>
                      <a:pt x="0" y="29"/>
                    </a:lnTo>
                    <a:lnTo>
                      <a:pt x="8" y="25"/>
                    </a:lnTo>
                    <a:lnTo>
                      <a:pt x="17" y="22"/>
                    </a:lnTo>
                    <a:lnTo>
                      <a:pt x="27" y="18"/>
                    </a:lnTo>
                    <a:lnTo>
                      <a:pt x="35" y="15"/>
                    </a:lnTo>
                    <a:lnTo>
                      <a:pt x="45" y="11"/>
                    </a:lnTo>
                    <a:lnTo>
                      <a:pt x="54" y="7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73280" y="2554200"/>
                <a:ext cx="28800" cy="1658880"/>
              </a:xfrm>
              <a:custGeom>
                <a:avLst/>
                <a:gdLst/>
                <a:ahLst/>
                <a:rect l="l" t="t" r="r" b="b"/>
                <a:pathLst>
                  <a:path w="72" h="4181">
                    <a:moveTo>
                      <a:pt x="72" y="0"/>
                    </a:moveTo>
                    <a:lnTo>
                      <a:pt x="72" y="4181"/>
                    </a:lnTo>
                    <a:lnTo>
                      <a:pt x="64" y="4176"/>
                    </a:lnTo>
                    <a:lnTo>
                      <a:pt x="54" y="4173"/>
                    </a:lnTo>
                    <a:lnTo>
                      <a:pt x="45" y="4170"/>
                    </a:lnTo>
                    <a:lnTo>
                      <a:pt x="36" y="4166"/>
                    </a:lnTo>
                    <a:lnTo>
                      <a:pt x="27" y="4162"/>
                    </a:lnTo>
                    <a:lnTo>
                      <a:pt x="18" y="4158"/>
                    </a:lnTo>
                    <a:lnTo>
                      <a:pt x="9" y="4155"/>
                    </a:lnTo>
                    <a:lnTo>
                      <a:pt x="0" y="415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8" y="23"/>
                    </a:lnTo>
                    <a:lnTo>
                      <a:pt x="27" y="18"/>
                    </a:lnTo>
                    <a:lnTo>
                      <a:pt x="36" y="15"/>
                    </a:lnTo>
                    <a:lnTo>
                      <a:pt x="45" y="11"/>
                    </a:lnTo>
                    <a:lnTo>
                      <a:pt x="54" y="8"/>
                    </a:lnTo>
                    <a:lnTo>
                      <a:pt x="64" y="4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59240" y="2560680"/>
                <a:ext cx="28440" cy="1646280"/>
              </a:xfrm>
              <a:custGeom>
                <a:avLst/>
                <a:gdLst/>
                <a:ahLst/>
                <a:rect l="l" t="t" r="r" b="b"/>
                <a:pathLst>
                  <a:path w="74" h="4151">
                    <a:moveTo>
                      <a:pt x="74" y="0"/>
                    </a:moveTo>
                    <a:lnTo>
                      <a:pt x="74" y="4151"/>
                    </a:lnTo>
                    <a:lnTo>
                      <a:pt x="64" y="4147"/>
                    </a:lnTo>
                    <a:lnTo>
                      <a:pt x="55" y="4143"/>
                    </a:lnTo>
                    <a:lnTo>
                      <a:pt x="46" y="4140"/>
                    </a:lnTo>
                    <a:lnTo>
                      <a:pt x="37" y="4136"/>
                    </a:lnTo>
                    <a:lnTo>
                      <a:pt x="27" y="4132"/>
                    </a:lnTo>
                    <a:lnTo>
                      <a:pt x="19" y="4129"/>
                    </a:lnTo>
                    <a:lnTo>
                      <a:pt x="9" y="4125"/>
                    </a:lnTo>
                    <a:lnTo>
                      <a:pt x="0" y="4121"/>
                    </a:lnTo>
                    <a:lnTo>
                      <a:pt x="0" y="29"/>
                    </a:lnTo>
                    <a:lnTo>
                      <a:pt x="9" y="26"/>
                    </a:lnTo>
                    <a:lnTo>
                      <a:pt x="19" y="22"/>
                    </a:lnTo>
                    <a:lnTo>
                      <a:pt x="27" y="18"/>
                    </a:lnTo>
                    <a:lnTo>
                      <a:pt x="37" y="14"/>
                    </a:lnTo>
                    <a:lnTo>
                      <a:pt x="46" y="11"/>
                    </a:lnTo>
                    <a:lnTo>
                      <a:pt x="55" y="8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93f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44840" y="2565360"/>
                <a:ext cx="28440" cy="1636560"/>
              </a:xfrm>
              <a:custGeom>
                <a:avLst/>
                <a:gdLst/>
                <a:ahLst/>
                <a:rect l="l" t="t" r="r" b="b"/>
                <a:pathLst>
                  <a:path w="73" h="4122">
                    <a:moveTo>
                      <a:pt x="73" y="0"/>
                    </a:moveTo>
                    <a:lnTo>
                      <a:pt x="73" y="4122"/>
                    </a:lnTo>
                    <a:lnTo>
                      <a:pt x="63" y="4118"/>
                    </a:lnTo>
                    <a:lnTo>
                      <a:pt x="55" y="4115"/>
                    </a:lnTo>
                    <a:lnTo>
                      <a:pt x="45" y="4111"/>
                    </a:lnTo>
                    <a:lnTo>
                      <a:pt x="36" y="4107"/>
                    </a:lnTo>
                    <a:lnTo>
                      <a:pt x="27" y="4103"/>
                    </a:lnTo>
                    <a:lnTo>
                      <a:pt x="18" y="4100"/>
                    </a:lnTo>
                    <a:lnTo>
                      <a:pt x="8" y="4095"/>
                    </a:lnTo>
                    <a:lnTo>
                      <a:pt x="0" y="4092"/>
                    </a:lnTo>
                    <a:lnTo>
                      <a:pt x="0" y="30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6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30440" y="2571840"/>
                <a:ext cx="28800" cy="1623960"/>
              </a:xfrm>
              <a:custGeom>
                <a:avLst/>
                <a:gdLst/>
                <a:ahLst/>
                <a:rect l="l" t="t" r="r" b="b"/>
                <a:pathLst>
                  <a:path w="73" h="4092">
                    <a:moveTo>
                      <a:pt x="73" y="0"/>
                    </a:moveTo>
                    <a:lnTo>
                      <a:pt x="73" y="4092"/>
                    </a:lnTo>
                    <a:lnTo>
                      <a:pt x="64" y="4088"/>
                    </a:lnTo>
                    <a:lnTo>
                      <a:pt x="55" y="4085"/>
                    </a:lnTo>
                    <a:lnTo>
                      <a:pt x="45" y="4080"/>
                    </a:lnTo>
                    <a:lnTo>
                      <a:pt x="37" y="4077"/>
                    </a:lnTo>
                    <a:lnTo>
                      <a:pt x="27" y="4073"/>
                    </a:lnTo>
                    <a:lnTo>
                      <a:pt x="18" y="4069"/>
                    </a:lnTo>
                    <a:lnTo>
                      <a:pt x="8" y="4065"/>
                    </a:lnTo>
                    <a:lnTo>
                      <a:pt x="0" y="4061"/>
                    </a:lnTo>
                    <a:lnTo>
                      <a:pt x="0" y="32"/>
                    </a:lnTo>
                    <a:lnTo>
                      <a:pt x="8" y="27"/>
                    </a:lnTo>
                    <a:lnTo>
                      <a:pt x="18" y="23"/>
                    </a:lnTo>
                    <a:lnTo>
                      <a:pt x="27" y="20"/>
                    </a:lnTo>
                    <a:lnTo>
                      <a:pt x="37" y="15"/>
                    </a:lnTo>
                    <a:lnTo>
                      <a:pt x="45" y="12"/>
                    </a:lnTo>
                    <a:lnTo>
                      <a:pt x="55" y="8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416400" y="2577960"/>
                <a:ext cx="28440" cy="1611360"/>
              </a:xfrm>
              <a:custGeom>
                <a:avLst/>
                <a:gdLst/>
                <a:ahLst/>
                <a:rect l="l" t="t" r="r" b="b"/>
                <a:pathLst>
                  <a:path w="74" h="4062">
                    <a:moveTo>
                      <a:pt x="74" y="0"/>
                    </a:moveTo>
                    <a:lnTo>
                      <a:pt x="74" y="4062"/>
                    </a:lnTo>
                    <a:lnTo>
                      <a:pt x="64" y="4058"/>
                    </a:lnTo>
                    <a:lnTo>
                      <a:pt x="55" y="4054"/>
                    </a:lnTo>
                    <a:lnTo>
                      <a:pt x="45" y="4050"/>
                    </a:lnTo>
                    <a:lnTo>
                      <a:pt x="37" y="4046"/>
                    </a:lnTo>
                    <a:lnTo>
                      <a:pt x="27" y="4042"/>
                    </a:lnTo>
                    <a:lnTo>
                      <a:pt x="18" y="4038"/>
                    </a:lnTo>
                    <a:lnTo>
                      <a:pt x="10" y="4034"/>
                    </a:lnTo>
                    <a:lnTo>
                      <a:pt x="0" y="4030"/>
                    </a:lnTo>
                    <a:lnTo>
                      <a:pt x="0" y="33"/>
                    </a:lnTo>
                    <a:lnTo>
                      <a:pt x="10" y="28"/>
                    </a:lnTo>
                    <a:lnTo>
                      <a:pt x="18" y="24"/>
                    </a:lnTo>
                    <a:lnTo>
                      <a:pt x="27" y="21"/>
                    </a:lnTo>
                    <a:lnTo>
                      <a:pt x="37" y="17"/>
                    </a:lnTo>
                    <a:lnTo>
                      <a:pt x="45" y="12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00560" y="2584440"/>
                <a:ext cx="29880" cy="1598400"/>
              </a:xfrm>
              <a:custGeom>
                <a:avLst/>
                <a:gdLst/>
                <a:ahLst/>
                <a:rect l="l" t="t" r="r" b="b"/>
                <a:pathLst>
                  <a:path w="74" h="4029">
                    <a:moveTo>
                      <a:pt x="74" y="0"/>
                    </a:moveTo>
                    <a:lnTo>
                      <a:pt x="74" y="4029"/>
                    </a:lnTo>
                    <a:lnTo>
                      <a:pt x="64" y="4026"/>
                    </a:lnTo>
                    <a:lnTo>
                      <a:pt x="55" y="4021"/>
                    </a:lnTo>
                    <a:lnTo>
                      <a:pt x="46" y="4017"/>
                    </a:lnTo>
                    <a:lnTo>
                      <a:pt x="37" y="4013"/>
                    </a:lnTo>
                    <a:lnTo>
                      <a:pt x="28" y="4010"/>
                    </a:lnTo>
                    <a:lnTo>
                      <a:pt x="19" y="4005"/>
                    </a:lnTo>
                    <a:lnTo>
                      <a:pt x="10" y="4001"/>
                    </a:lnTo>
                    <a:lnTo>
                      <a:pt x="0" y="3997"/>
                    </a:lnTo>
                    <a:lnTo>
                      <a:pt x="0" y="31"/>
                    </a:lnTo>
                    <a:lnTo>
                      <a:pt x="10" y="28"/>
                    </a:lnTo>
                    <a:lnTo>
                      <a:pt x="19" y="23"/>
                    </a:lnTo>
                    <a:lnTo>
                      <a:pt x="28" y="19"/>
                    </a:lnTo>
                    <a:lnTo>
                      <a:pt x="37" y="15"/>
                    </a:lnTo>
                    <a:lnTo>
                      <a:pt x="46" y="11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86160" y="2590920"/>
                <a:ext cx="30240" cy="1585800"/>
              </a:xfrm>
              <a:custGeom>
                <a:avLst/>
                <a:gdLst/>
                <a:ahLst/>
                <a:rect l="l" t="t" r="r" b="b"/>
                <a:pathLst>
                  <a:path w="73" h="3997">
                    <a:moveTo>
                      <a:pt x="73" y="0"/>
                    </a:moveTo>
                    <a:lnTo>
                      <a:pt x="73" y="3997"/>
                    </a:lnTo>
                    <a:lnTo>
                      <a:pt x="64" y="3994"/>
                    </a:lnTo>
                    <a:lnTo>
                      <a:pt x="55" y="3989"/>
                    </a:lnTo>
                    <a:lnTo>
                      <a:pt x="46" y="3985"/>
                    </a:lnTo>
                    <a:lnTo>
                      <a:pt x="36" y="3981"/>
                    </a:lnTo>
                    <a:lnTo>
                      <a:pt x="28" y="3977"/>
                    </a:lnTo>
                    <a:lnTo>
                      <a:pt x="18" y="3973"/>
                    </a:lnTo>
                    <a:lnTo>
                      <a:pt x="9" y="3969"/>
                    </a:lnTo>
                    <a:lnTo>
                      <a:pt x="0" y="3964"/>
                    </a:lnTo>
                    <a:lnTo>
                      <a:pt x="0" y="32"/>
                    </a:lnTo>
                    <a:lnTo>
                      <a:pt x="9" y="28"/>
                    </a:lnTo>
                    <a:lnTo>
                      <a:pt x="18" y="24"/>
                    </a:lnTo>
                    <a:lnTo>
                      <a:pt x="28" y="19"/>
                    </a:lnTo>
                    <a:lnTo>
                      <a:pt x="36" y="16"/>
                    </a:lnTo>
                    <a:lnTo>
                      <a:pt x="46" y="12"/>
                    </a:lnTo>
                    <a:lnTo>
                      <a:pt x="55" y="7"/>
                    </a:lnTo>
                    <a:lnTo>
                      <a:pt x="64" y="3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71760" y="2597040"/>
                <a:ext cx="28800" cy="1573200"/>
              </a:xfrm>
              <a:custGeom>
                <a:avLst/>
                <a:gdLst/>
                <a:ahLst/>
                <a:rect l="l" t="t" r="r" b="b"/>
                <a:pathLst>
                  <a:path w="73" h="3966">
                    <a:moveTo>
                      <a:pt x="73" y="0"/>
                    </a:moveTo>
                    <a:lnTo>
                      <a:pt x="73" y="3966"/>
                    </a:lnTo>
                    <a:lnTo>
                      <a:pt x="65" y="3962"/>
                    </a:lnTo>
                    <a:lnTo>
                      <a:pt x="55" y="3958"/>
                    </a:lnTo>
                    <a:lnTo>
                      <a:pt x="46" y="3954"/>
                    </a:lnTo>
                    <a:lnTo>
                      <a:pt x="37" y="3949"/>
                    </a:lnTo>
                    <a:lnTo>
                      <a:pt x="28" y="3945"/>
                    </a:lnTo>
                    <a:lnTo>
                      <a:pt x="18" y="3941"/>
                    </a:lnTo>
                    <a:lnTo>
                      <a:pt x="10" y="3936"/>
                    </a:lnTo>
                    <a:lnTo>
                      <a:pt x="0" y="3932"/>
                    </a:lnTo>
                    <a:lnTo>
                      <a:pt x="0" y="34"/>
                    </a:lnTo>
                    <a:lnTo>
                      <a:pt x="10" y="30"/>
                    </a:lnTo>
                    <a:lnTo>
                      <a:pt x="18" y="26"/>
                    </a:lnTo>
                    <a:lnTo>
                      <a:pt x="28" y="21"/>
                    </a:lnTo>
                    <a:lnTo>
                      <a:pt x="37" y="17"/>
                    </a:lnTo>
                    <a:lnTo>
                      <a:pt x="46" y="13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57720" y="2603520"/>
                <a:ext cx="28440" cy="1560600"/>
              </a:xfrm>
              <a:custGeom>
                <a:avLst/>
                <a:gdLst/>
                <a:ahLst/>
                <a:rect l="l" t="t" r="r" b="b"/>
                <a:pathLst>
                  <a:path w="73" h="3932">
                    <a:moveTo>
                      <a:pt x="73" y="0"/>
                    </a:moveTo>
                    <a:lnTo>
                      <a:pt x="73" y="3932"/>
                    </a:lnTo>
                    <a:lnTo>
                      <a:pt x="64" y="3928"/>
                    </a:lnTo>
                    <a:lnTo>
                      <a:pt x="54" y="3924"/>
                    </a:lnTo>
                    <a:lnTo>
                      <a:pt x="46" y="3919"/>
                    </a:lnTo>
                    <a:lnTo>
                      <a:pt x="36" y="3915"/>
                    </a:lnTo>
                    <a:lnTo>
                      <a:pt x="27" y="3911"/>
                    </a:lnTo>
                    <a:lnTo>
                      <a:pt x="18" y="3907"/>
                    </a:lnTo>
                    <a:lnTo>
                      <a:pt x="9" y="3902"/>
                    </a:lnTo>
                    <a:lnTo>
                      <a:pt x="0" y="3898"/>
                    </a:lnTo>
                    <a:lnTo>
                      <a:pt x="0" y="34"/>
                    </a:lnTo>
                    <a:lnTo>
                      <a:pt x="9" y="29"/>
                    </a:lnTo>
                    <a:lnTo>
                      <a:pt x="18" y="25"/>
                    </a:lnTo>
                    <a:lnTo>
                      <a:pt x="27" y="22"/>
                    </a:lnTo>
                    <a:lnTo>
                      <a:pt x="36" y="17"/>
                    </a:lnTo>
                    <a:lnTo>
                      <a:pt x="46" y="13"/>
                    </a:lnTo>
                    <a:lnTo>
                      <a:pt x="54" y="9"/>
                    </a:lnTo>
                    <a:lnTo>
                      <a:pt x="64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c3d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43320" y="2609640"/>
                <a:ext cx="28440" cy="1548000"/>
              </a:xfrm>
              <a:custGeom>
                <a:avLst/>
                <a:gdLst/>
                <a:ahLst/>
                <a:rect l="l" t="t" r="r" b="b"/>
                <a:pathLst>
                  <a:path w="72" h="3898">
                    <a:moveTo>
                      <a:pt x="72" y="0"/>
                    </a:moveTo>
                    <a:lnTo>
                      <a:pt x="72" y="3898"/>
                    </a:lnTo>
                    <a:lnTo>
                      <a:pt x="63" y="3894"/>
                    </a:lnTo>
                    <a:lnTo>
                      <a:pt x="54" y="3890"/>
                    </a:lnTo>
                    <a:lnTo>
                      <a:pt x="45" y="3885"/>
                    </a:lnTo>
                    <a:lnTo>
                      <a:pt x="35" y="3881"/>
                    </a:lnTo>
                    <a:lnTo>
                      <a:pt x="27" y="3877"/>
                    </a:lnTo>
                    <a:lnTo>
                      <a:pt x="18" y="3872"/>
                    </a:lnTo>
                    <a:lnTo>
                      <a:pt x="8" y="3868"/>
                    </a:lnTo>
                    <a:lnTo>
                      <a:pt x="0" y="3864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5" y="18"/>
                    </a:lnTo>
                    <a:lnTo>
                      <a:pt x="45" y="13"/>
                    </a:lnTo>
                    <a:lnTo>
                      <a:pt x="54" y="9"/>
                    </a:lnTo>
                    <a:lnTo>
                      <a:pt x="63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28920" y="2616120"/>
                <a:ext cx="28800" cy="1533600"/>
              </a:xfrm>
              <a:custGeom>
                <a:avLst/>
                <a:gdLst/>
                <a:ahLst/>
                <a:rect l="l" t="t" r="r" b="b"/>
                <a:pathLst>
                  <a:path w="73" h="3864">
                    <a:moveTo>
                      <a:pt x="73" y="0"/>
                    </a:moveTo>
                    <a:lnTo>
                      <a:pt x="73" y="3864"/>
                    </a:lnTo>
                    <a:lnTo>
                      <a:pt x="64" y="3860"/>
                    </a:lnTo>
                    <a:lnTo>
                      <a:pt x="55" y="3855"/>
                    </a:lnTo>
                    <a:lnTo>
                      <a:pt x="45" y="3851"/>
                    </a:lnTo>
                    <a:lnTo>
                      <a:pt x="37" y="3847"/>
                    </a:lnTo>
                    <a:lnTo>
                      <a:pt x="27" y="3842"/>
                    </a:lnTo>
                    <a:lnTo>
                      <a:pt x="18" y="3838"/>
                    </a:lnTo>
                    <a:lnTo>
                      <a:pt x="8" y="3834"/>
                    </a:lnTo>
                    <a:lnTo>
                      <a:pt x="0" y="3829"/>
                    </a:lnTo>
                    <a:lnTo>
                      <a:pt x="0" y="35"/>
                    </a:lnTo>
                    <a:lnTo>
                      <a:pt x="8" y="31"/>
                    </a:lnTo>
                    <a:lnTo>
                      <a:pt x="18" y="27"/>
                    </a:lnTo>
                    <a:lnTo>
                      <a:pt x="27" y="22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14880" y="2624040"/>
                <a:ext cx="28440" cy="1519200"/>
              </a:xfrm>
              <a:custGeom>
                <a:avLst/>
                <a:gdLst/>
                <a:ahLst/>
                <a:rect l="l" t="t" r="r" b="b"/>
                <a:pathLst>
                  <a:path w="74" h="3829">
                    <a:moveTo>
                      <a:pt x="74" y="0"/>
                    </a:moveTo>
                    <a:lnTo>
                      <a:pt x="74" y="3829"/>
                    </a:lnTo>
                    <a:lnTo>
                      <a:pt x="64" y="3824"/>
                    </a:lnTo>
                    <a:lnTo>
                      <a:pt x="55" y="3820"/>
                    </a:lnTo>
                    <a:lnTo>
                      <a:pt x="45" y="3815"/>
                    </a:lnTo>
                    <a:lnTo>
                      <a:pt x="37" y="3810"/>
                    </a:lnTo>
                    <a:lnTo>
                      <a:pt x="27" y="3806"/>
                    </a:lnTo>
                    <a:lnTo>
                      <a:pt x="18" y="3802"/>
                    </a:lnTo>
                    <a:lnTo>
                      <a:pt x="9" y="3797"/>
                    </a:lnTo>
                    <a:lnTo>
                      <a:pt x="0" y="3792"/>
                    </a:lnTo>
                    <a:lnTo>
                      <a:pt x="0" y="37"/>
                    </a:lnTo>
                    <a:lnTo>
                      <a:pt x="9" y="31"/>
                    </a:lnTo>
                    <a:lnTo>
                      <a:pt x="18" y="27"/>
                    </a:lnTo>
                    <a:lnTo>
                      <a:pt x="27" y="23"/>
                    </a:lnTo>
                    <a:lnTo>
                      <a:pt x="37" y="18"/>
                    </a:lnTo>
                    <a:lnTo>
                      <a:pt x="45" y="13"/>
                    </a:lnTo>
                    <a:lnTo>
                      <a:pt x="55" y="9"/>
                    </a:lnTo>
                    <a:lnTo>
                      <a:pt x="64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98680" y="2630520"/>
                <a:ext cx="30240" cy="1506600"/>
              </a:xfrm>
              <a:custGeom>
                <a:avLst/>
                <a:gdLst/>
                <a:ahLst/>
                <a:rect l="l" t="t" r="r" b="b"/>
                <a:pathLst>
                  <a:path w="74" h="3794">
                    <a:moveTo>
                      <a:pt x="74" y="0"/>
                    </a:moveTo>
                    <a:lnTo>
                      <a:pt x="74" y="3794"/>
                    </a:lnTo>
                    <a:lnTo>
                      <a:pt x="64" y="3789"/>
                    </a:lnTo>
                    <a:lnTo>
                      <a:pt x="55" y="3785"/>
                    </a:lnTo>
                    <a:lnTo>
                      <a:pt x="46" y="3780"/>
                    </a:lnTo>
                    <a:lnTo>
                      <a:pt x="37" y="3775"/>
                    </a:lnTo>
                    <a:lnTo>
                      <a:pt x="27" y="3771"/>
                    </a:lnTo>
                    <a:lnTo>
                      <a:pt x="19" y="3766"/>
                    </a:lnTo>
                    <a:lnTo>
                      <a:pt x="9" y="3761"/>
                    </a:lnTo>
                    <a:lnTo>
                      <a:pt x="0" y="3757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9" y="28"/>
                    </a:lnTo>
                    <a:lnTo>
                      <a:pt x="27" y="24"/>
                    </a:lnTo>
                    <a:lnTo>
                      <a:pt x="37" y="20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84640" y="2638440"/>
                <a:ext cx="30240" cy="1490760"/>
              </a:xfrm>
              <a:custGeom>
                <a:avLst/>
                <a:gdLst/>
                <a:ahLst/>
                <a:rect l="l" t="t" r="r" b="b"/>
                <a:pathLst>
                  <a:path w="73" h="3755">
                    <a:moveTo>
                      <a:pt x="73" y="0"/>
                    </a:moveTo>
                    <a:lnTo>
                      <a:pt x="73" y="3755"/>
                    </a:lnTo>
                    <a:lnTo>
                      <a:pt x="63" y="3751"/>
                    </a:lnTo>
                    <a:lnTo>
                      <a:pt x="55" y="3746"/>
                    </a:lnTo>
                    <a:lnTo>
                      <a:pt x="45" y="3741"/>
                    </a:lnTo>
                    <a:lnTo>
                      <a:pt x="36" y="3737"/>
                    </a:lnTo>
                    <a:lnTo>
                      <a:pt x="27" y="3731"/>
                    </a:lnTo>
                    <a:lnTo>
                      <a:pt x="18" y="3727"/>
                    </a:lnTo>
                    <a:lnTo>
                      <a:pt x="9" y="3722"/>
                    </a:lnTo>
                    <a:lnTo>
                      <a:pt x="0" y="3717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18" y="28"/>
                    </a:lnTo>
                    <a:lnTo>
                      <a:pt x="27" y="22"/>
                    </a:lnTo>
                    <a:lnTo>
                      <a:pt x="36" y="18"/>
                    </a:lnTo>
                    <a:lnTo>
                      <a:pt x="45" y="14"/>
                    </a:lnTo>
                    <a:lnTo>
                      <a:pt x="55" y="8"/>
                    </a:lnTo>
                    <a:lnTo>
                      <a:pt x="63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70240" y="2646360"/>
                <a:ext cx="28440" cy="1474560"/>
              </a:xfrm>
              <a:custGeom>
                <a:avLst/>
                <a:gdLst/>
                <a:ahLst/>
                <a:rect l="l" t="t" r="r" b="b"/>
                <a:pathLst>
                  <a:path w="73" h="3719">
                    <a:moveTo>
                      <a:pt x="73" y="0"/>
                    </a:moveTo>
                    <a:lnTo>
                      <a:pt x="73" y="3719"/>
                    </a:lnTo>
                    <a:lnTo>
                      <a:pt x="65" y="3714"/>
                    </a:lnTo>
                    <a:lnTo>
                      <a:pt x="55" y="3709"/>
                    </a:lnTo>
                    <a:lnTo>
                      <a:pt x="45" y="3704"/>
                    </a:lnTo>
                    <a:lnTo>
                      <a:pt x="37" y="3699"/>
                    </a:lnTo>
                    <a:lnTo>
                      <a:pt x="28" y="3695"/>
                    </a:lnTo>
                    <a:lnTo>
                      <a:pt x="18" y="3689"/>
                    </a:lnTo>
                    <a:lnTo>
                      <a:pt x="10" y="3685"/>
                    </a:lnTo>
                    <a:lnTo>
                      <a:pt x="0" y="3680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20"/>
                    </a:lnTo>
                    <a:lnTo>
                      <a:pt x="45" y="14"/>
                    </a:lnTo>
                    <a:lnTo>
                      <a:pt x="55" y="10"/>
                    </a:lnTo>
                    <a:lnTo>
                      <a:pt x="65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e3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55840" y="2654280"/>
                <a:ext cx="28800" cy="1460520"/>
              </a:xfrm>
              <a:custGeom>
                <a:avLst/>
                <a:gdLst/>
                <a:ahLst/>
                <a:rect l="l" t="t" r="r" b="b"/>
                <a:pathLst>
                  <a:path w="74" h="3679">
                    <a:moveTo>
                      <a:pt x="74" y="0"/>
                    </a:moveTo>
                    <a:lnTo>
                      <a:pt x="74" y="3679"/>
                    </a:lnTo>
                    <a:lnTo>
                      <a:pt x="65" y="3675"/>
                    </a:lnTo>
                    <a:lnTo>
                      <a:pt x="55" y="3669"/>
                    </a:lnTo>
                    <a:lnTo>
                      <a:pt x="47" y="3665"/>
                    </a:lnTo>
                    <a:lnTo>
                      <a:pt x="37" y="3660"/>
                    </a:lnTo>
                    <a:lnTo>
                      <a:pt x="28" y="3654"/>
                    </a:lnTo>
                    <a:lnTo>
                      <a:pt x="18" y="3650"/>
                    </a:lnTo>
                    <a:lnTo>
                      <a:pt x="10" y="3645"/>
                    </a:lnTo>
                    <a:lnTo>
                      <a:pt x="0" y="3640"/>
                    </a:lnTo>
                    <a:lnTo>
                      <a:pt x="0" y="38"/>
                    </a:lnTo>
                    <a:lnTo>
                      <a:pt x="10" y="34"/>
                    </a:lnTo>
                    <a:lnTo>
                      <a:pt x="18" y="29"/>
                    </a:lnTo>
                    <a:lnTo>
                      <a:pt x="28" y="24"/>
                    </a:lnTo>
                    <a:lnTo>
                      <a:pt x="37" y="19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5" y="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241800" y="2660760"/>
                <a:ext cx="28440" cy="1446120"/>
              </a:xfrm>
              <a:custGeom>
                <a:avLst/>
                <a:gdLst/>
                <a:ahLst/>
                <a:rect l="l" t="t" r="r" b="b"/>
                <a:pathLst>
                  <a:path w="73" h="3641">
                    <a:moveTo>
                      <a:pt x="73" y="0"/>
                    </a:moveTo>
                    <a:lnTo>
                      <a:pt x="73" y="3641"/>
                    </a:lnTo>
                    <a:lnTo>
                      <a:pt x="64" y="3635"/>
                    </a:lnTo>
                    <a:lnTo>
                      <a:pt x="54" y="3631"/>
                    </a:lnTo>
                    <a:lnTo>
                      <a:pt x="46" y="3626"/>
                    </a:lnTo>
                    <a:lnTo>
                      <a:pt x="36" y="3620"/>
                    </a:lnTo>
                    <a:lnTo>
                      <a:pt x="27" y="3616"/>
                    </a:lnTo>
                    <a:lnTo>
                      <a:pt x="18" y="3610"/>
                    </a:lnTo>
                    <a:lnTo>
                      <a:pt x="9" y="3605"/>
                    </a:lnTo>
                    <a:lnTo>
                      <a:pt x="0" y="3600"/>
                    </a:lnTo>
                    <a:lnTo>
                      <a:pt x="0" y="40"/>
                    </a:lnTo>
                    <a:lnTo>
                      <a:pt x="9" y="36"/>
                    </a:lnTo>
                    <a:lnTo>
                      <a:pt x="18" y="30"/>
                    </a:lnTo>
                    <a:lnTo>
                      <a:pt x="27" y="25"/>
                    </a:lnTo>
                    <a:lnTo>
                      <a:pt x="36" y="20"/>
                    </a:lnTo>
                    <a:lnTo>
                      <a:pt x="46" y="15"/>
                    </a:lnTo>
                    <a:lnTo>
                      <a:pt x="54" y="10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227400" y="2668680"/>
                <a:ext cx="28440" cy="1430280"/>
              </a:xfrm>
              <a:custGeom>
                <a:avLst/>
                <a:gdLst/>
                <a:ahLst/>
                <a:rect l="l" t="t" r="r" b="b"/>
                <a:pathLst>
                  <a:path w="72" h="3602">
                    <a:moveTo>
                      <a:pt x="72" y="0"/>
                    </a:moveTo>
                    <a:lnTo>
                      <a:pt x="72" y="3602"/>
                    </a:lnTo>
                    <a:lnTo>
                      <a:pt x="63" y="3597"/>
                    </a:lnTo>
                    <a:lnTo>
                      <a:pt x="54" y="3591"/>
                    </a:lnTo>
                    <a:lnTo>
                      <a:pt x="45" y="3586"/>
                    </a:lnTo>
                    <a:lnTo>
                      <a:pt x="35" y="3581"/>
                    </a:lnTo>
                    <a:lnTo>
                      <a:pt x="27" y="3576"/>
                    </a:lnTo>
                    <a:lnTo>
                      <a:pt x="17" y="3571"/>
                    </a:lnTo>
                    <a:lnTo>
                      <a:pt x="8" y="3565"/>
                    </a:lnTo>
                    <a:lnTo>
                      <a:pt x="0" y="3560"/>
                    </a:lnTo>
                    <a:lnTo>
                      <a:pt x="0" y="43"/>
                    </a:lnTo>
                    <a:lnTo>
                      <a:pt x="8" y="37"/>
                    </a:lnTo>
                    <a:lnTo>
                      <a:pt x="17" y="32"/>
                    </a:lnTo>
                    <a:lnTo>
                      <a:pt x="27" y="26"/>
                    </a:lnTo>
                    <a:lnTo>
                      <a:pt x="35" y="21"/>
                    </a:lnTo>
                    <a:lnTo>
                      <a:pt x="45" y="17"/>
                    </a:lnTo>
                    <a:lnTo>
                      <a:pt x="54" y="11"/>
                    </a:lnTo>
                    <a:lnTo>
                      <a:pt x="63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11560" y="2676600"/>
                <a:ext cx="30240" cy="1412640"/>
              </a:xfrm>
              <a:custGeom>
                <a:avLst/>
                <a:gdLst/>
                <a:ahLst/>
                <a:rect l="l" t="t" r="r" b="b"/>
                <a:pathLst>
                  <a:path w="73" h="3560">
                    <a:moveTo>
                      <a:pt x="73" y="0"/>
                    </a:moveTo>
                    <a:lnTo>
                      <a:pt x="73" y="3560"/>
                    </a:lnTo>
                    <a:lnTo>
                      <a:pt x="64" y="3555"/>
                    </a:lnTo>
                    <a:lnTo>
                      <a:pt x="54" y="3550"/>
                    </a:lnTo>
                    <a:lnTo>
                      <a:pt x="45" y="3544"/>
                    </a:lnTo>
                    <a:lnTo>
                      <a:pt x="36" y="3539"/>
                    </a:lnTo>
                    <a:lnTo>
                      <a:pt x="27" y="3534"/>
                    </a:lnTo>
                    <a:lnTo>
                      <a:pt x="18" y="3528"/>
                    </a:lnTo>
                    <a:lnTo>
                      <a:pt x="9" y="3523"/>
                    </a:lnTo>
                    <a:lnTo>
                      <a:pt x="0" y="3517"/>
                    </a:lnTo>
                    <a:lnTo>
                      <a:pt x="0" y="43"/>
                    </a:lnTo>
                    <a:lnTo>
                      <a:pt x="9" y="38"/>
                    </a:lnTo>
                    <a:lnTo>
                      <a:pt x="18" y="32"/>
                    </a:lnTo>
                    <a:lnTo>
                      <a:pt x="27" y="27"/>
                    </a:lnTo>
                    <a:lnTo>
                      <a:pt x="36" y="22"/>
                    </a:lnTo>
                    <a:lnTo>
                      <a:pt x="45" y="16"/>
                    </a:lnTo>
                    <a:lnTo>
                      <a:pt x="54" y="11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197160" y="2685960"/>
                <a:ext cx="30240" cy="1395360"/>
              </a:xfrm>
              <a:custGeom>
                <a:avLst/>
                <a:gdLst/>
                <a:ahLst/>
                <a:rect l="l" t="t" r="r" b="b"/>
                <a:pathLst>
                  <a:path w="74" h="3517">
                    <a:moveTo>
                      <a:pt x="74" y="0"/>
                    </a:moveTo>
                    <a:lnTo>
                      <a:pt x="74" y="3517"/>
                    </a:lnTo>
                    <a:lnTo>
                      <a:pt x="64" y="3512"/>
                    </a:lnTo>
                    <a:lnTo>
                      <a:pt x="55" y="3506"/>
                    </a:lnTo>
                    <a:lnTo>
                      <a:pt x="46" y="3501"/>
                    </a:lnTo>
                    <a:lnTo>
                      <a:pt x="37" y="3495"/>
                    </a:lnTo>
                    <a:lnTo>
                      <a:pt x="27" y="3490"/>
                    </a:lnTo>
                    <a:lnTo>
                      <a:pt x="19" y="3485"/>
                    </a:lnTo>
                    <a:lnTo>
                      <a:pt x="9" y="3479"/>
                    </a:lnTo>
                    <a:lnTo>
                      <a:pt x="0" y="3474"/>
                    </a:lnTo>
                    <a:lnTo>
                      <a:pt x="0" y="43"/>
                    </a:lnTo>
                    <a:lnTo>
                      <a:pt x="9" y="37"/>
                    </a:lnTo>
                    <a:lnTo>
                      <a:pt x="19" y="32"/>
                    </a:lnTo>
                    <a:lnTo>
                      <a:pt x="27" y="27"/>
                    </a:lnTo>
                    <a:lnTo>
                      <a:pt x="37" y="21"/>
                    </a:lnTo>
                    <a:lnTo>
                      <a:pt x="46" y="16"/>
                    </a:lnTo>
                    <a:lnTo>
                      <a:pt x="55" y="10"/>
                    </a:lnTo>
                    <a:lnTo>
                      <a:pt x="64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182760" y="2693880"/>
                <a:ext cx="28800" cy="1379520"/>
              </a:xfrm>
              <a:custGeom>
                <a:avLst/>
                <a:gdLst/>
                <a:ahLst/>
                <a:rect l="l" t="t" r="r" b="b"/>
                <a:pathLst>
                  <a:path w="74" h="3474">
                    <a:moveTo>
                      <a:pt x="74" y="0"/>
                    </a:moveTo>
                    <a:lnTo>
                      <a:pt x="74" y="3474"/>
                    </a:lnTo>
                    <a:lnTo>
                      <a:pt x="64" y="3469"/>
                    </a:lnTo>
                    <a:lnTo>
                      <a:pt x="56" y="3464"/>
                    </a:lnTo>
                    <a:lnTo>
                      <a:pt x="46" y="3458"/>
                    </a:lnTo>
                    <a:lnTo>
                      <a:pt x="37" y="3453"/>
                    </a:lnTo>
                    <a:lnTo>
                      <a:pt x="27" y="3447"/>
                    </a:lnTo>
                    <a:lnTo>
                      <a:pt x="19" y="3441"/>
                    </a:lnTo>
                    <a:lnTo>
                      <a:pt x="9" y="3436"/>
                    </a:lnTo>
                    <a:lnTo>
                      <a:pt x="0" y="3430"/>
                    </a:lnTo>
                    <a:lnTo>
                      <a:pt x="0" y="44"/>
                    </a:lnTo>
                    <a:lnTo>
                      <a:pt x="9" y="39"/>
                    </a:lnTo>
                    <a:lnTo>
                      <a:pt x="19" y="33"/>
                    </a:lnTo>
                    <a:lnTo>
                      <a:pt x="27" y="27"/>
                    </a:lnTo>
                    <a:lnTo>
                      <a:pt x="37" y="22"/>
                    </a:lnTo>
                    <a:lnTo>
                      <a:pt x="46" y="16"/>
                    </a:lnTo>
                    <a:lnTo>
                      <a:pt x="56" y="11"/>
                    </a:lnTo>
                    <a:lnTo>
                      <a:pt x="64" y="6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168720" y="2703600"/>
                <a:ext cx="28440" cy="1360440"/>
              </a:xfrm>
              <a:custGeom>
                <a:avLst/>
                <a:gdLst/>
                <a:ahLst/>
                <a:rect l="l" t="t" r="r" b="b"/>
                <a:pathLst>
                  <a:path w="73" h="3431">
                    <a:moveTo>
                      <a:pt x="73" y="0"/>
                    </a:moveTo>
                    <a:lnTo>
                      <a:pt x="73" y="3431"/>
                    </a:lnTo>
                    <a:lnTo>
                      <a:pt x="63" y="3425"/>
                    </a:lnTo>
                    <a:lnTo>
                      <a:pt x="55" y="3420"/>
                    </a:lnTo>
                    <a:lnTo>
                      <a:pt x="45" y="3414"/>
                    </a:lnTo>
                    <a:lnTo>
                      <a:pt x="36" y="3408"/>
                    </a:lnTo>
                    <a:lnTo>
                      <a:pt x="27" y="3403"/>
                    </a:lnTo>
                    <a:lnTo>
                      <a:pt x="18" y="3397"/>
                    </a:lnTo>
                    <a:lnTo>
                      <a:pt x="8" y="3391"/>
                    </a:lnTo>
                    <a:lnTo>
                      <a:pt x="0" y="3386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8" y="33"/>
                    </a:lnTo>
                    <a:lnTo>
                      <a:pt x="27" y="28"/>
                    </a:lnTo>
                    <a:lnTo>
                      <a:pt x="36" y="22"/>
                    </a:lnTo>
                    <a:lnTo>
                      <a:pt x="45" y="17"/>
                    </a:lnTo>
                    <a:lnTo>
                      <a:pt x="55" y="11"/>
                    </a:lnTo>
                    <a:lnTo>
                      <a:pt x="63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039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154320" y="2711520"/>
                <a:ext cx="28440" cy="1344600"/>
              </a:xfrm>
              <a:custGeom>
                <a:avLst/>
                <a:gdLst/>
                <a:ahLst/>
                <a:rect l="l" t="t" r="r" b="b"/>
                <a:pathLst>
                  <a:path w="73" h="3386">
                    <a:moveTo>
                      <a:pt x="73" y="0"/>
                    </a:moveTo>
                    <a:lnTo>
                      <a:pt x="73" y="3386"/>
                    </a:lnTo>
                    <a:lnTo>
                      <a:pt x="64" y="3381"/>
                    </a:lnTo>
                    <a:lnTo>
                      <a:pt x="55" y="3374"/>
                    </a:lnTo>
                    <a:lnTo>
                      <a:pt x="45" y="3369"/>
                    </a:lnTo>
                    <a:lnTo>
                      <a:pt x="37" y="3364"/>
                    </a:lnTo>
                    <a:lnTo>
                      <a:pt x="27" y="3357"/>
                    </a:lnTo>
                    <a:lnTo>
                      <a:pt x="18" y="3352"/>
                    </a:lnTo>
                    <a:lnTo>
                      <a:pt x="10" y="3346"/>
                    </a:lnTo>
                    <a:lnTo>
                      <a:pt x="0" y="3340"/>
                    </a:lnTo>
                    <a:lnTo>
                      <a:pt x="0" y="47"/>
                    </a:lnTo>
                    <a:lnTo>
                      <a:pt x="10" y="40"/>
                    </a:lnTo>
                    <a:lnTo>
                      <a:pt x="18" y="35"/>
                    </a:lnTo>
                    <a:lnTo>
                      <a:pt x="27" y="30"/>
                    </a:lnTo>
                    <a:lnTo>
                      <a:pt x="37" y="23"/>
                    </a:lnTo>
                    <a:lnTo>
                      <a:pt x="45" y="18"/>
                    </a:lnTo>
                    <a:lnTo>
                      <a:pt x="55" y="11"/>
                    </a:lnTo>
                    <a:lnTo>
                      <a:pt x="64" y="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139920" y="2720880"/>
                <a:ext cx="28800" cy="1325520"/>
              </a:xfrm>
              <a:custGeom>
                <a:avLst/>
                <a:gdLst/>
                <a:ahLst/>
                <a:rect l="l" t="t" r="r" b="b"/>
                <a:pathLst>
                  <a:path w="74" h="3341">
                    <a:moveTo>
                      <a:pt x="74" y="0"/>
                    </a:moveTo>
                    <a:lnTo>
                      <a:pt x="74" y="3341"/>
                    </a:lnTo>
                    <a:lnTo>
                      <a:pt x="65" y="3335"/>
                    </a:lnTo>
                    <a:lnTo>
                      <a:pt x="55" y="3329"/>
                    </a:lnTo>
                    <a:lnTo>
                      <a:pt x="46" y="3323"/>
                    </a:lnTo>
                    <a:lnTo>
                      <a:pt x="37" y="3317"/>
                    </a:lnTo>
                    <a:lnTo>
                      <a:pt x="27" y="3311"/>
                    </a:lnTo>
                    <a:lnTo>
                      <a:pt x="19" y="3305"/>
                    </a:lnTo>
                    <a:lnTo>
                      <a:pt x="10" y="3298"/>
                    </a:lnTo>
                    <a:lnTo>
                      <a:pt x="0" y="3293"/>
                    </a:lnTo>
                    <a:lnTo>
                      <a:pt x="0" y="48"/>
                    </a:lnTo>
                    <a:lnTo>
                      <a:pt x="10" y="41"/>
                    </a:lnTo>
                    <a:lnTo>
                      <a:pt x="19" y="36"/>
                    </a:lnTo>
                    <a:lnTo>
                      <a:pt x="27" y="29"/>
                    </a:lnTo>
                    <a:lnTo>
                      <a:pt x="37" y="24"/>
                    </a:lnTo>
                    <a:lnTo>
                      <a:pt x="46" y="17"/>
                    </a:lnTo>
                    <a:lnTo>
                      <a:pt x="55" y="12"/>
                    </a:lnTo>
                    <a:lnTo>
                      <a:pt x="65" y="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24080" y="2730600"/>
                <a:ext cx="30240" cy="1306440"/>
              </a:xfrm>
              <a:custGeom>
                <a:avLst/>
                <a:gdLst/>
                <a:ahLst/>
                <a:rect l="l" t="t" r="r" b="b"/>
                <a:pathLst>
                  <a:path w="73" h="3293">
                    <a:moveTo>
                      <a:pt x="73" y="0"/>
                    </a:moveTo>
                    <a:lnTo>
                      <a:pt x="73" y="3293"/>
                    </a:lnTo>
                    <a:lnTo>
                      <a:pt x="64" y="3286"/>
                    </a:lnTo>
                    <a:lnTo>
                      <a:pt x="55" y="3281"/>
                    </a:lnTo>
                    <a:lnTo>
                      <a:pt x="46" y="3274"/>
                    </a:lnTo>
                    <a:lnTo>
                      <a:pt x="36" y="3269"/>
                    </a:lnTo>
                    <a:lnTo>
                      <a:pt x="28" y="3263"/>
                    </a:lnTo>
                    <a:lnTo>
                      <a:pt x="18" y="3256"/>
                    </a:lnTo>
                    <a:lnTo>
                      <a:pt x="9" y="3251"/>
                    </a:lnTo>
                    <a:lnTo>
                      <a:pt x="0" y="3244"/>
                    </a:lnTo>
                    <a:lnTo>
                      <a:pt x="0" y="48"/>
                    </a:lnTo>
                    <a:lnTo>
                      <a:pt x="9" y="42"/>
                    </a:lnTo>
                    <a:lnTo>
                      <a:pt x="18" y="37"/>
                    </a:lnTo>
                    <a:lnTo>
                      <a:pt x="28" y="30"/>
                    </a:lnTo>
                    <a:lnTo>
                      <a:pt x="36" y="24"/>
                    </a:lnTo>
                    <a:lnTo>
                      <a:pt x="46" y="18"/>
                    </a:lnTo>
                    <a:lnTo>
                      <a:pt x="55" y="12"/>
                    </a:lnTo>
                    <a:lnTo>
                      <a:pt x="64" y="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10040" y="2739960"/>
                <a:ext cx="29880" cy="1287360"/>
              </a:xfrm>
              <a:custGeom>
                <a:avLst/>
                <a:gdLst/>
                <a:ahLst/>
                <a:rect l="l" t="t" r="r" b="b"/>
                <a:pathLst>
                  <a:path w="72" h="3245">
                    <a:moveTo>
                      <a:pt x="72" y="0"/>
                    </a:moveTo>
                    <a:lnTo>
                      <a:pt x="72" y="3245"/>
                    </a:lnTo>
                    <a:lnTo>
                      <a:pt x="64" y="3239"/>
                    </a:lnTo>
                    <a:lnTo>
                      <a:pt x="54" y="3232"/>
                    </a:lnTo>
                    <a:lnTo>
                      <a:pt x="45" y="3227"/>
                    </a:lnTo>
                    <a:lnTo>
                      <a:pt x="36" y="3220"/>
                    </a:lnTo>
                    <a:lnTo>
                      <a:pt x="27" y="3214"/>
                    </a:lnTo>
                    <a:lnTo>
                      <a:pt x="17" y="3207"/>
                    </a:lnTo>
                    <a:lnTo>
                      <a:pt x="8" y="3201"/>
                    </a:lnTo>
                    <a:lnTo>
                      <a:pt x="0" y="3194"/>
                    </a:lnTo>
                    <a:lnTo>
                      <a:pt x="0" y="49"/>
                    </a:lnTo>
                    <a:lnTo>
                      <a:pt x="8" y="44"/>
                    </a:lnTo>
                    <a:lnTo>
                      <a:pt x="17" y="37"/>
                    </a:lnTo>
                    <a:lnTo>
                      <a:pt x="27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3"/>
                    </a:lnTo>
                    <a:lnTo>
                      <a:pt x="64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095640" y="2749320"/>
                <a:ext cx="28440" cy="1268640"/>
              </a:xfrm>
              <a:custGeom>
                <a:avLst/>
                <a:gdLst/>
                <a:ahLst/>
                <a:rect l="l" t="t" r="r" b="b"/>
                <a:pathLst>
                  <a:path w="73" h="3196">
                    <a:moveTo>
                      <a:pt x="73" y="0"/>
                    </a:moveTo>
                    <a:lnTo>
                      <a:pt x="73" y="3196"/>
                    </a:lnTo>
                    <a:lnTo>
                      <a:pt x="64" y="3190"/>
                    </a:lnTo>
                    <a:lnTo>
                      <a:pt x="54" y="3183"/>
                    </a:lnTo>
                    <a:lnTo>
                      <a:pt x="45" y="3177"/>
                    </a:lnTo>
                    <a:lnTo>
                      <a:pt x="36" y="3170"/>
                    </a:lnTo>
                    <a:lnTo>
                      <a:pt x="27" y="3164"/>
                    </a:lnTo>
                    <a:lnTo>
                      <a:pt x="17" y="3157"/>
                    </a:lnTo>
                    <a:lnTo>
                      <a:pt x="9" y="3151"/>
                    </a:lnTo>
                    <a:lnTo>
                      <a:pt x="0" y="3144"/>
                    </a:lnTo>
                    <a:lnTo>
                      <a:pt x="0" y="52"/>
                    </a:lnTo>
                    <a:lnTo>
                      <a:pt x="9" y="46"/>
                    </a:lnTo>
                    <a:lnTo>
                      <a:pt x="17" y="39"/>
                    </a:lnTo>
                    <a:lnTo>
                      <a:pt x="27" y="33"/>
                    </a:lnTo>
                    <a:lnTo>
                      <a:pt x="36" y="26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4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81240" y="2759040"/>
                <a:ext cx="28800" cy="1249200"/>
              </a:xfrm>
              <a:custGeom>
                <a:avLst/>
                <a:gdLst/>
                <a:ahLst/>
                <a:rect l="l" t="t" r="r" b="b"/>
                <a:pathLst>
                  <a:path w="74" h="3145">
                    <a:moveTo>
                      <a:pt x="74" y="0"/>
                    </a:moveTo>
                    <a:lnTo>
                      <a:pt x="74" y="3145"/>
                    </a:lnTo>
                    <a:lnTo>
                      <a:pt x="64" y="3139"/>
                    </a:lnTo>
                    <a:lnTo>
                      <a:pt x="54" y="3132"/>
                    </a:lnTo>
                    <a:lnTo>
                      <a:pt x="46" y="3126"/>
                    </a:lnTo>
                    <a:lnTo>
                      <a:pt x="36" y="3119"/>
                    </a:lnTo>
                    <a:lnTo>
                      <a:pt x="27" y="3113"/>
                    </a:lnTo>
                    <a:lnTo>
                      <a:pt x="19" y="3106"/>
                    </a:lnTo>
                    <a:lnTo>
                      <a:pt x="9" y="3100"/>
                    </a:lnTo>
                    <a:lnTo>
                      <a:pt x="0" y="3093"/>
                    </a:lnTo>
                    <a:lnTo>
                      <a:pt x="0" y="53"/>
                    </a:lnTo>
                    <a:lnTo>
                      <a:pt x="9" y="47"/>
                    </a:lnTo>
                    <a:lnTo>
                      <a:pt x="19" y="40"/>
                    </a:lnTo>
                    <a:lnTo>
                      <a:pt x="27" y="34"/>
                    </a:lnTo>
                    <a:lnTo>
                      <a:pt x="36" y="27"/>
                    </a:lnTo>
                    <a:lnTo>
                      <a:pt x="46" y="21"/>
                    </a:lnTo>
                    <a:lnTo>
                      <a:pt x="54" y="14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237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67200" y="2770200"/>
                <a:ext cx="28440" cy="1227240"/>
              </a:xfrm>
              <a:custGeom>
                <a:avLst/>
                <a:gdLst/>
                <a:ahLst/>
                <a:rect l="l" t="t" r="r" b="b"/>
                <a:pathLst>
                  <a:path w="73" h="3092">
                    <a:moveTo>
                      <a:pt x="73" y="0"/>
                    </a:moveTo>
                    <a:lnTo>
                      <a:pt x="73" y="3092"/>
                    </a:lnTo>
                    <a:lnTo>
                      <a:pt x="63" y="3086"/>
                    </a:lnTo>
                    <a:lnTo>
                      <a:pt x="54" y="3079"/>
                    </a:lnTo>
                    <a:lnTo>
                      <a:pt x="45" y="3073"/>
                    </a:lnTo>
                    <a:lnTo>
                      <a:pt x="35" y="3065"/>
                    </a:lnTo>
                    <a:lnTo>
                      <a:pt x="27" y="3059"/>
                    </a:lnTo>
                    <a:lnTo>
                      <a:pt x="18" y="3052"/>
                    </a:lnTo>
                    <a:lnTo>
                      <a:pt x="8" y="3045"/>
                    </a:lnTo>
                    <a:lnTo>
                      <a:pt x="0" y="3038"/>
                    </a:lnTo>
                    <a:lnTo>
                      <a:pt x="0" y="54"/>
                    </a:lnTo>
                    <a:lnTo>
                      <a:pt x="8" y="47"/>
                    </a:lnTo>
                    <a:lnTo>
                      <a:pt x="18" y="40"/>
                    </a:lnTo>
                    <a:lnTo>
                      <a:pt x="27" y="34"/>
                    </a:lnTo>
                    <a:lnTo>
                      <a:pt x="35" y="27"/>
                    </a:lnTo>
                    <a:lnTo>
                      <a:pt x="45" y="20"/>
                    </a:lnTo>
                    <a:lnTo>
                      <a:pt x="54" y="13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52800" y="2781360"/>
                <a:ext cx="28440" cy="1206360"/>
              </a:xfrm>
              <a:custGeom>
                <a:avLst/>
                <a:gdLst/>
                <a:ahLst/>
                <a:rect l="l" t="t" r="r" b="b"/>
                <a:pathLst>
                  <a:path w="73" h="3040">
                    <a:moveTo>
                      <a:pt x="73" y="0"/>
                    </a:moveTo>
                    <a:lnTo>
                      <a:pt x="73" y="3040"/>
                    </a:lnTo>
                    <a:lnTo>
                      <a:pt x="64" y="3033"/>
                    </a:lnTo>
                    <a:lnTo>
                      <a:pt x="55" y="3026"/>
                    </a:lnTo>
                    <a:lnTo>
                      <a:pt x="45" y="3019"/>
                    </a:lnTo>
                    <a:lnTo>
                      <a:pt x="37" y="3012"/>
                    </a:lnTo>
                    <a:lnTo>
                      <a:pt x="27" y="3005"/>
                    </a:lnTo>
                    <a:lnTo>
                      <a:pt x="18" y="2998"/>
                    </a:lnTo>
                    <a:lnTo>
                      <a:pt x="9" y="2991"/>
                    </a:lnTo>
                    <a:lnTo>
                      <a:pt x="0" y="2984"/>
                    </a:lnTo>
                    <a:lnTo>
                      <a:pt x="0" y="56"/>
                    </a:lnTo>
                    <a:lnTo>
                      <a:pt x="9" y="50"/>
                    </a:lnTo>
                    <a:lnTo>
                      <a:pt x="18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5" y="22"/>
                    </a:lnTo>
                    <a:lnTo>
                      <a:pt x="55" y="14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8400" y="2792520"/>
                <a:ext cx="28800" cy="1184040"/>
              </a:xfrm>
              <a:custGeom>
                <a:avLst/>
                <a:gdLst/>
                <a:ahLst/>
                <a:rect l="l" t="t" r="r" b="b"/>
                <a:pathLst>
                  <a:path w="74" h="2984">
                    <a:moveTo>
                      <a:pt x="74" y="0"/>
                    </a:moveTo>
                    <a:lnTo>
                      <a:pt x="74" y="2984"/>
                    </a:lnTo>
                    <a:lnTo>
                      <a:pt x="64" y="2978"/>
                    </a:lnTo>
                    <a:lnTo>
                      <a:pt x="55" y="2970"/>
                    </a:lnTo>
                    <a:lnTo>
                      <a:pt x="46" y="2963"/>
                    </a:lnTo>
                    <a:lnTo>
                      <a:pt x="37" y="2956"/>
                    </a:lnTo>
                    <a:lnTo>
                      <a:pt x="27" y="2949"/>
                    </a:lnTo>
                    <a:lnTo>
                      <a:pt x="19" y="2941"/>
                    </a:lnTo>
                    <a:lnTo>
                      <a:pt x="9" y="2935"/>
                    </a:lnTo>
                    <a:lnTo>
                      <a:pt x="0" y="2927"/>
                    </a:lnTo>
                    <a:lnTo>
                      <a:pt x="0" y="58"/>
                    </a:lnTo>
                    <a:lnTo>
                      <a:pt x="9" y="50"/>
                    </a:lnTo>
                    <a:lnTo>
                      <a:pt x="19" y="42"/>
                    </a:lnTo>
                    <a:lnTo>
                      <a:pt x="27" y="36"/>
                    </a:lnTo>
                    <a:lnTo>
                      <a:pt x="37" y="28"/>
                    </a:lnTo>
                    <a:lnTo>
                      <a:pt x="46" y="22"/>
                    </a:lnTo>
                    <a:lnTo>
                      <a:pt x="55" y="14"/>
                    </a:lnTo>
                    <a:lnTo>
                      <a:pt x="64" y="7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22560" y="2803320"/>
                <a:ext cx="30240" cy="1162080"/>
              </a:xfrm>
              <a:custGeom>
                <a:avLst/>
                <a:gdLst/>
                <a:ahLst/>
                <a:rect l="l" t="t" r="r" b="b"/>
                <a:pathLst>
                  <a:path w="74" h="2928">
                    <a:moveTo>
                      <a:pt x="74" y="0"/>
                    </a:moveTo>
                    <a:lnTo>
                      <a:pt x="74" y="2928"/>
                    </a:lnTo>
                    <a:lnTo>
                      <a:pt x="64" y="2921"/>
                    </a:lnTo>
                    <a:lnTo>
                      <a:pt x="56" y="2913"/>
                    </a:lnTo>
                    <a:lnTo>
                      <a:pt x="46" y="2907"/>
                    </a:lnTo>
                    <a:lnTo>
                      <a:pt x="37" y="2899"/>
                    </a:lnTo>
                    <a:lnTo>
                      <a:pt x="27" y="2892"/>
                    </a:lnTo>
                    <a:lnTo>
                      <a:pt x="19" y="2884"/>
                    </a:lnTo>
                    <a:lnTo>
                      <a:pt x="10" y="2876"/>
                    </a:lnTo>
                    <a:lnTo>
                      <a:pt x="0" y="2869"/>
                    </a:lnTo>
                    <a:lnTo>
                      <a:pt x="0" y="60"/>
                    </a:lnTo>
                    <a:lnTo>
                      <a:pt x="10" y="52"/>
                    </a:lnTo>
                    <a:lnTo>
                      <a:pt x="19" y="45"/>
                    </a:lnTo>
                    <a:lnTo>
                      <a:pt x="27" y="37"/>
                    </a:lnTo>
                    <a:lnTo>
                      <a:pt x="37" y="30"/>
                    </a:lnTo>
                    <a:lnTo>
                      <a:pt x="46" y="22"/>
                    </a:lnTo>
                    <a:lnTo>
                      <a:pt x="56" y="15"/>
                    </a:lnTo>
                    <a:lnTo>
                      <a:pt x="64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08160" y="2814480"/>
                <a:ext cx="30240" cy="1138320"/>
              </a:xfrm>
              <a:custGeom>
                <a:avLst/>
                <a:gdLst/>
                <a:ahLst/>
                <a:rect l="l" t="t" r="r" b="b"/>
                <a:pathLst>
                  <a:path w="73" h="2869">
                    <a:moveTo>
                      <a:pt x="73" y="0"/>
                    </a:moveTo>
                    <a:lnTo>
                      <a:pt x="73" y="2869"/>
                    </a:lnTo>
                    <a:lnTo>
                      <a:pt x="63" y="2862"/>
                    </a:lnTo>
                    <a:lnTo>
                      <a:pt x="55" y="2854"/>
                    </a:lnTo>
                    <a:lnTo>
                      <a:pt x="45" y="2846"/>
                    </a:lnTo>
                    <a:lnTo>
                      <a:pt x="36" y="2839"/>
                    </a:lnTo>
                    <a:lnTo>
                      <a:pt x="27" y="2831"/>
                    </a:lnTo>
                    <a:lnTo>
                      <a:pt x="18" y="2824"/>
                    </a:lnTo>
                    <a:lnTo>
                      <a:pt x="9" y="2816"/>
                    </a:lnTo>
                    <a:lnTo>
                      <a:pt x="0" y="2809"/>
                    </a:lnTo>
                    <a:lnTo>
                      <a:pt x="0" y="60"/>
                    </a:lnTo>
                    <a:lnTo>
                      <a:pt x="9" y="52"/>
                    </a:lnTo>
                    <a:lnTo>
                      <a:pt x="18" y="45"/>
                    </a:lnTo>
                    <a:lnTo>
                      <a:pt x="27" y="37"/>
                    </a:lnTo>
                    <a:lnTo>
                      <a:pt x="36" y="30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3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94120" y="2825640"/>
                <a:ext cx="28440" cy="1116000"/>
              </a:xfrm>
              <a:custGeom>
                <a:avLst/>
                <a:gdLst/>
                <a:ahLst/>
                <a:rect l="l" t="t" r="r" b="b"/>
                <a:pathLst>
                  <a:path w="73" h="2809">
                    <a:moveTo>
                      <a:pt x="73" y="0"/>
                    </a:moveTo>
                    <a:lnTo>
                      <a:pt x="73" y="2809"/>
                    </a:lnTo>
                    <a:lnTo>
                      <a:pt x="65" y="2801"/>
                    </a:lnTo>
                    <a:lnTo>
                      <a:pt x="55" y="2794"/>
                    </a:lnTo>
                    <a:lnTo>
                      <a:pt x="45" y="2786"/>
                    </a:lnTo>
                    <a:lnTo>
                      <a:pt x="37" y="2778"/>
                    </a:lnTo>
                    <a:lnTo>
                      <a:pt x="28" y="2770"/>
                    </a:lnTo>
                    <a:lnTo>
                      <a:pt x="18" y="2762"/>
                    </a:lnTo>
                    <a:lnTo>
                      <a:pt x="10" y="2754"/>
                    </a:lnTo>
                    <a:lnTo>
                      <a:pt x="0" y="2746"/>
                    </a:lnTo>
                    <a:lnTo>
                      <a:pt x="0" y="62"/>
                    </a:lnTo>
                    <a:lnTo>
                      <a:pt x="10" y="55"/>
                    </a:lnTo>
                    <a:lnTo>
                      <a:pt x="18" y="46"/>
                    </a:lnTo>
                    <a:lnTo>
                      <a:pt x="28" y="39"/>
                    </a:lnTo>
                    <a:lnTo>
                      <a:pt x="37" y="31"/>
                    </a:lnTo>
                    <a:lnTo>
                      <a:pt x="45" y="22"/>
                    </a:lnTo>
                    <a:lnTo>
                      <a:pt x="55" y="15"/>
                    </a:lnTo>
                    <a:lnTo>
                      <a:pt x="65" y="7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434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79720" y="2838240"/>
                <a:ext cx="28440" cy="1090800"/>
              </a:xfrm>
              <a:custGeom>
                <a:avLst/>
                <a:gdLst/>
                <a:ahLst/>
                <a:rect l="l" t="t" r="r" b="b"/>
                <a:pathLst>
                  <a:path w="73" h="2749">
                    <a:moveTo>
                      <a:pt x="73" y="0"/>
                    </a:moveTo>
                    <a:lnTo>
                      <a:pt x="73" y="2749"/>
                    </a:lnTo>
                    <a:lnTo>
                      <a:pt x="64" y="2740"/>
                    </a:lnTo>
                    <a:lnTo>
                      <a:pt x="54" y="2732"/>
                    </a:lnTo>
                    <a:lnTo>
                      <a:pt x="46" y="2724"/>
                    </a:lnTo>
                    <a:lnTo>
                      <a:pt x="36" y="2716"/>
                    </a:lnTo>
                    <a:lnTo>
                      <a:pt x="27" y="2708"/>
                    </a:lnTo>
                    <a:lnTo>
                      <a:pt x="18" y="2700"/>
                    </a:lnTo>
                    <a:lnTo>
                      <a:pt x="9" y="2691"/>
                    </a:lnTo>
                    <a:lnTo>
                      <a:pt x="0" y="2683"/>
                    </a:lnTo>
                    <a:lnTo>
                      <a:pt x="0" y="65"/>
                    </a:lnTo>
                    <a:lnTo>
                      <a:pt x="9" y="57"/>
                    </a:lnTo>
                    <a:lnTo>
                      <a:pt x="18" y="49"/>
                    </a:lnTo>
                    <a:lnTo>
                      <a:pt x="27" y="41"/>
                    </a:lnTo>
                    <a:lnTo>
                      <a:pt x="36" y="32"/>
                    </a:lnTo>
                    <a:lnTo>
                      <a:pt x="46" y="25"/>
                    </a:lnTo>
                    <a:lnTo>
                      <a:pt x="54" y="16"/>
                    </a:lnTo>
                    <a:lnTo>
                      <a:pt x="64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965320" y="2851200"/>
                <a:ext cx="28800" cy="1065240"/>
              </a:xfrm>
              <a:custGeom>
                <a:avLst/>
                <a:gdLst/>
                <a:ahLst/>
                <a:rect l="l" t="t" r="r" b="b"/>
                <a:pathLst>
                  <a:path w="72" h="2684">
                    <a:moveTo>
                      <a:pt x="72" y="0"/>
                    </a:moveTo>
                    <a:lnTo>
                      <a:pt x="72" y="2684"/>
                    </a:lnTo>
                    <a:lnTo>
                      <a:pt x="63" y="2676"/>
                    </a:lnTo>
                    <a:lnTo>
                      <a:pt x="54" y="2668"/>
                    </a:lnTo>
                    <a:lnTo>
                      <a:pt x="45" y="2659"/>
                    </a:lnTo>
                    <a:lnTo>
                      <a:pt x="35" y="2651"/>
                    </a:lnTo>
                    <a:lnTo>
                      <a:pt x="27" y="2642"/>
                    </a:lnTo>
                    <a:lnTo>
                      <a:pt x="17" y="2635"/>
                    </a:lnTo>
                    <a:lnTo>
                      <a:pt x="8" y="2626"/>
                    </a:lnTo>
                    <a:lnTo>
                      <a:pt x="0" y="261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17" y="50"/>
                    </a:lnTo>
                    <a:lnTo>
                      <a:pt x="27" y="41"/>
                    </a:lnTo>
                    <a:lnTo>
                      <a:pt x="35" y="34"/>
                    </a:lnTo>
                    <a:lnTo>
                      <a:pt x="45" y="25"/>
                    </a:lnTo>
                    <a:lnTo>
                      <a:pt x="54" y="17"/>
                    </a:lnTo>
                    <a:lnTo>
                      <a:pt x="63" y="9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51280" y="2863800"/>
                <a:ext cx="28440" cy="1039680"/>
              </a:xfrm>
              <a:custGeom>
                <a:avLst/>
                <a:gdLst/>
                <a:ahLst/>
                <a:rect l="l" t="t" r="r" b="b"/>
                <a:pathLst>
                  <a:path w="73" h="2618">
                    <a:moveTo>
                      <a:pt x="73" y="0"/>
                    </a:moveTo>
                    <a:lnTo>
                      <a:pt x="73" y="2618"/>
                    </a:lnTo>
                    <a:lnTo>
                      <a:pt x="64" y="2609"/>
                    </a:lnTo>
                    <a:lnTo>
                      <a:pt x="54" y="2600"/>
                    </a:lnTo>
                    <a:lnTo>
                      <a:pt x="45" y="2592"/>
                    </a:lnTo>
                    <a:lnTo>
                      <a:pt x="35" y="2583"/>
                    </a:lnTo>
                    <a:lnTo>
                      <a:pt x="27" y="2575"/>
                    </a:lnTo>
                    <a:lnTo>
                      <a:pt x="17" y="2566"/>
                    </a:lnTo>
                    <a:lnTo>
                      <a:pt x="8" y="2557"/>
                    </a:lnTo>
                    <a:lnTo>
                      <a:pt x="0" y="2549"/>
                    </a:lnTo>
                    <a:lnTo>
                      <a:pt x="0" y="70"/>
                    </a:lnTo>
                    <a:lnTo>
                      <a:pt x="8" y="61"/>
                    </a:lnTo>
                    <a:lnTo>
                      <a:pt x="17" y="53"/>
                    </a:lnTo>
                    <a:lnTo>
                      <a:pt x="27" y="44"/>
                    </a:lnTo>
                    <a:lnTo>
                      <a:pt x="35" y="35"/>
                    </a:lnTo>
                    <a:lnTo>
                      <a:pt x="45" y="26"/>
                    </a:lnTo>
                    <a:lnTo>
                      <a:pt x="54" y="17"/>
                    </a:lnTo>
                    <a:lnTo>
                      <a:pt x="64" y="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936880" y="2878200"/>
                <a:ext cx="28440" cy="1011240"/>
              </a:xfrm>
              <a:custGeom>
                <a:avLst/>
                <a:gdLst/>
                <a:ahLst/>
                <a:rect l="l" t="t" r="r" b="b"/>
                <a:pathLst>
                  <a:path w="74" h="2550">
                    <a:moveTo>
                      <a:pt x="74" y="0"/>
                    </a:moveTo>
                    <a:lnTo>
                      <a:pt x="74" y="2550"/>
                    </a:lnTo>
                    <a:lnTo>
                      <a:pt x="64" y="2542"/>
                    </a:lnTo>
                    <a:lnTo>
                      <a:pt x="54" y="2532"/>
                    </a:lnTo>
                    <a:lnTo>
                      <a:pt x="45" y="2523"/>
                    </a:lnTo>
                    <a:lnTo>
                      <a:pt x="36" y="2515"/>
                    </a:lnTo>
                    <a:lnTo>
                      <a:pt x="27" y="2505"/>
                    </a:lnTo>
                    <a:lnTo>
                      <a:pt x="17" y="2496"/>
                    </a:lnTo>
                    <a:lnTo>
                      <a:pt x="9" y="2487"/>
                    </a:lnTo>
                    <a:lnTo>
                      <a:pt x="0" y="2478"/>
                    </a:lnTo>
                    <a:lnTo>
                      <a:pt x="0" y="73"/>
                    </a:lnTo>
                    <a:lnTo>
                      <a:pt x="9" y="63"/>
                    </a:lnTo>
                    <a:lnTo>
                      <a:pt x="17" y="54"/>
                    </a:lnTo>
                    <a:lnTo>
                      <a:pt x="27" y="46"/>
                    </a:lnTo>
                    <a:lnTo>
                      <a:pt x="36" y="36"/>
                    </a:lnTo>
                    <a:lnTo>
                      <a:pt x="45" y="27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040" y="2892240"/>
                <a:ext cx="30240" cy="982800"/>
              </a:xfrm>
              <a:custGeom>
                <a:avLst/>
                <a:gdLst/>
                <a:ahLst/>
                <a:rect l="l" t="t" r="r" b="b"/>
                <a:pathLst>
                  <a:path w="74" h="2479">
                    <a:moveTo>
                      <a:pt x="74" y="0"/>
                    </a:moveTo>
                    <a:lnTo>
                      <a:pt x="74" y="2479"/>
                    </a:lnTo>
                    <a:lnTo>
                      <a:pt x="64" y="2469"/>
                    </a:lnTo>
                    <a:lnTo>
                      <a:pt x="54" y="2460"/>
                    </a:lnTo>
                    <a:lnTo>
                      <a:pt x="46" y="2451"/>
                    </a:lnTo>
                    <a:lnTo>
                      <a:pt x="36" y="2442"/>
                    </a:lnTo>
                    <a:lnTo>
                      <a:pt x="27" y="2432"/>
                    </a:lnTo>
                    <a:lnTo>
                      <a:pt x="19" y="2422"/>
                    </a:lnTo>
                    <a:lnTo>
                      <a:pt x="9" y="2414"/>
                    </a:lnTo>
                    <a:lnTo>
                      <a:pt x="0" y="2404"/>
                    </a:lnTo>
                    <a:lnTo>
                      <a:pt x="0" y="75"/>
                    </a:lnTo>
                    <a:lnTo>
                      <a:pt x="9" y="65"/>
                    </a:lnTo>
                    <a:lnTo>
                      <a:pt x="19" y="56"/>
                    </a:lnTo>
                    <a:lnTo>
                      <a:pt x="27" y="46"/>
                    </a:lnTo>
                    <a:lnTo>
                      <a:pt x="36" y="37"/>
                    </a:lnTo>
                    <a:lnTo>
                      <a:pt x="46" y="28"/>
                    </a:lnTo>
                    <a:lnTo>
                      <a:pt x="54" y="18"/>
                    </a:lnTo>
                    <a:lnTo>
                      <a:pt x="64" y="9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06640" y="2906640"/>
                <a:ext cx="30240" cy="954000"/>
              </a:xfrm>
              <a:custGeom>
                <a:avLst/>
                <a:gdLst/>
                <a:ahLst/>
                <a:rect l="l" t="t" r="r" b="b"/>
                <a:pathLst>
                  <a:path w="73" h="2405">
                    <a:moveTo>
                      <a:pt x="73" y="0"/>
                    </a:moveTo>
                    <a:lnTo>
                      <a:pt x="73" y="2405"/>
                    </a:lnTo>
                    <a:lnTo>
                      <a:pt x="63" y="2395"/>
                    </a:lnTo>
                    <a:lnTo>
                      <a:pt x="55" y="2385"/>
                    </a:lnTo>
                    <a:lnTo>
                      <a:pt x="45" y="2376"/>
                    </a:lnTo>
                    <a:lnTo>
                      <a:pt x="35" y="2366"/>
                    </a:lnTo>
                    <a:lnTo>
                      <a:pt x="27" y="2356"/>
                    </a:lnTo>
                    <a:lnTo>
                      <a:pt x="18" y="2347"/>
                    </a:lnTo>
                    <a:lnTo>
                      <a:pt x="8" y="2337"/>
                    </a:lnTo>
                    <a:lnTo>
                      <a:pt x="0" y="2327"/>
                    </a:lnTo>
                    <a:lnTo>
                      <a:pt x="0" y="77"/>
                    </a:lnTo>
                    <a:lnTo>
                      <a:pt x="8" y="68"/>
                    </a:lnTo>
                    <a:lnTo>
                      <a:pt x="18" y="58"/>
                    </a:lnTo>
                    <a:lnTo>
                      <a:pt x="27" y="48"/>
                    </a:lnTo>
                    <a:lnTo>
                      <a:pt x="35" y="39"/>
                    </a:lnTo>
                    <a:lnTo>
                      <a:pt x="45" y="29"/>
                    </a:lnTo>
                    <a:lnTo>
                      <a:pt x="55" y="19"/>
                    </a:lnTo>
                    <a:lnTo>
                      <a:pt x="63" y="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2600" y="2921040"/>
                <a:ext cx="28440" cy="925560"/>
              </a:xfrm>
              <a:custGeom>
                <a:avLst/>
                <a:gdLst/>
                <a:ahLst/>
                <a:rect l="l" t="t" r="r" b="b"/>
                <a:pathLst>
                  <a:path w="73" h="2329">
                    <a:moveTo>
                      <a:pt x="73" y="0"/>
                    </a:moveTo>
                    <a:lnTo>
                      <a:pt x="73" y="2329"/>
                    </a:lnTo>
                    <a:lnTo>
                      <a:pt x="64" y="2318"/>
                    </a:lnTo>
                    <a:lnTo>
                      <a:pt x="55" y="2309"/>
                    </a:lnTo>
                    <a:lnTo>
                      <a:pt x="45" y="2299"/>
                    </a:lnTo>
                    <a:lnTo>
                      <a:pt x="37" y="2288"/>
                    </a:lnTo>
                    <a:lnTo>
                      <a:pt x="27" y="2277"/>
                    </a:lnTo>
                    <a:lnTo>
                      <a:pt x="18" y="2268"/>
                    </a:lnTo>
                    <a:lnTo>
                      <a:pt x="9" y="2257"/>
                    </a:lnTo>
                    <a:lnTo>
                      <a:pt x="0" y="2247"/>
                    </a:lnTo>
                    <a:lnTo>
                      <a:pt x="0" y="82"/>
                    </a:lnTo>
                    <a:lnTo>
                      <a:pt x="9" y="72"/>
                    </a:lnTo>
                    <a:lnTo>
                      <a:pt x="18" y="61"/>
                    </a:lnTo>
                    <a:lnTo>
                      <a:pt x="27" y="50"/>
                    </a:lnTo>
                    <a:lnTo>
                      <a:pt x="37" y="41"/>
                    </a:lnTo>
                    <a:lnTo>
                      <a:pt x="45" y="30"/>
                    </a:lnTo>
                    <a:lnTo>
                      <a:pt x="55" y="20"/>
                    </a:lnTo>
                    <a:lnTo>
                      <a:pt x="6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53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78200" y="2936880"/>
                <a:ext cx="28440" cy="893880"/>
              </a:xfrm>
              <a:custGeom>
                <a:avLst/>
                <a:gdLst/>
                <a:ahLst/>
                <a:rect l="l" t="t" r="r" b="b"/>
                <a:pathLst>
                  <a:path w="74" h="2250">
                    <a:moveTo>
                      <a:pt x="74" y="0"/>
                    </a:moveTo>
                    <a:lnTo>
                      <a:pt x="74" y="2250"/>
                    </a:lnTo>
                    <a:lnTo>
                      <a:pt x="64" y="2239"/>
                    </a:lnTo>
                    <a:lnTo>
                      <a:pt x="55" y="2229"/>
                    </a:lnTo>
                    <a:lnTo>
                      <a:pt x="46" y="2218"/>
                    </a:lnTo>
                    <a:lnTo>
                      <a:pt x="37" y="2207"/>
                    </a:lnTo>
                    <a:lnTo>
                      <a:pt x="27" y="2196"/>
                    </a:lnTo>
                    <a:lnTo>
                      <a:pt x="18" y="2185"/>
                    </a:lnTo>
                    <a:lnTo>
                      <a:pt x="10" y="2175"/>
                    </a:lnTo>
                    <a:lnTo>
                      <a:pt x="0" y="2164"/>
                    </a:lnTo>
                    <a:lnTo>
                      <a:pt x="0" y="87"/>
                    </a:lnTo>
                    <a:lnTo>
                      <a:pt x="10" y="76"/>
                    </a:lnTo>
                    <a:lnTo>
                      <a:pt x="18" y="65"/>
                    </a:lnTo>
                    <a:lnTo>
                      <a:pt x="27" y="54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863800" y="2954160"/>
                <a:ext cx="28800" cy="858960"/>
              </a:xfrm>
              <a:custGeom>
                <a:avLst/>
                <a:gdLst/>
                <a:ahLst/>
                <a:rect l="l" t="t" r="r" b="b"/>
                <a:pathLst>
                  <a:path w="74" h="2165">
                    <a:moveTo>
                      <a:pt x="74" y="0"/>
                    </a:moveTo>
                    <a:lnTo>
                      <a:pt x="74" y="2165"/>
                    </a:lnTo>
                    <a:lnTo>
                      <a:pt x="64" y="2154"/>
                    </a:lnTo>
                    <a:lnTo>
                      <a:pt x="55" y="2142"/>
                    </a:lnTo>
                    <a:lnTo>
                      <a:pt x="46" y="2132"/>
                    </a:lnTo>
                    <a:lnTo>
                      <a:pt x="37" y="2120"/>
                    </a:lnTo>
                    <a:lnTo>
                      <a:pt x="27" y="2109"/>
                    </a:lnTo>
                    <a:lnTo>
                      <a:pt x="19" y="2098"/>
                    </a:lnTo>
                    <a:lnTo>
                      <a:pt x="10" y="2086"/>
                    </a:lnTo>
                    <a:lnTo>
                      <a:pt x="0" y="2075"/>
                    </a:lnTo>
                    <a:lnTo>
                      <a:pt x="0" y="89"/>
                    </a:lnTo>
                    <a:lnTo>
                      <a:pt x="10" y="78"/>
                    </a:lnTo>
                    <a:lnTo>
                      <a:pt x="19" y="67"/>
                    </a:lnTo>
                    <a:lnTo>
                      <a:pt x="27" y="56"/>
                    </a:lnTo>
                    <a:lnTo>
                      <a:pt x="37" y="44"/>
                    </a:lnTo>
                    <a:lnTo>
                      <a:pt x="46" y="33"/>
                    </a:lnTo>
                    <a:lnTo>
                      <a:pt x="55" y="22"/>
                    </a:lnTo>
                    <a:lnTo>
                      <a:pt x="64" y="1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849400" y="2971800"/>
                <a:ext cx="28800" cy="824040"/>
              </a:xfrm>
              <a:custGeom>
                <a:avLst/>
                <a:gdLst/>
                <a:ahLst/>
                <a:rect l="l" t="t" r="r" b="b"/>
                <a:pathLst>
                  <a:path w="72" h="2077">
                    <a:moveTo>
                      <a:pt x="72" y="0"/>
                    </a:moveTo>
                    <a:lnTo>
                      <a:pt x="72" y="2077"/>
                    </a:lnTo>
                    <a:lnTo>
                      <a:pt x="63" y="2065"/>
                    </a:lnTo>
                    <a:lnTo>
                      <a:pt x="54" y="2053"/>
                    </a:lnTo>
                    <a:lnTo>
                      <a:pt x="44" y="2042"/>
                    </a:lnTo>
                    <a:lnTo>
                      <a:pt x="35" y="2030"/>
                    </a:lnTo>
                    <a:lnTo>
                      <a:pt x="26" y="2018"/>
                    </a:lnTo>
                    <a:lnTo>
                      <a:pt x="17" y="2007"/>
                    </a:lnTo>
                    <a:lnTo>
                      <a:pt x="8" y="1995"/>
                    </a:lnTo>
                    <a:lnTo>
                      <a:pt x="0" y="1982"/>
                    </a:lnTo>
                    <a:lnTo>
                      <a:pt x="0" y="94"/>
                    </a:lnTo>
                    <a:lnTo>
                      <a:pt x="8" y="82"/>
                    </a:lnTo>
                    <a:lnTo>
                      <a:pt x="17" y="70"/>
                    </a:lnTo>
                    <a:lnTo>
                      <a:pt x="26" y="58"/>
                    </a:lnTo>
                    <a:lnTo>
                      <a:pt x="35" y="46"/>
                    </a:lnTo>
                    <a:lnTo>
                      <a:pt x="44" y="34"/>
                    </a:lnTo>
                    <a:lnTo>
                      <a:pt x="54" y="23"/>
                    </a:lnTo>
                    <a:lnTo>
                      <a:pt x="63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33560" y="2989080"/>
                <a:ext cx="30240" cy="789120"/>
              </a:xfrm>
              <a:custGeom>
                <a:avLst/>
                <a:gdLst/>
                <a:ahLst/>
                <a:rect l="l" t="t" r="r" b="b"/>
                <a:pathLst>
                  <a:path w="72" h="1986">
                    <a:moveTo>
                      <a:pt x="72" y="0"/>
                    </a:moveTo>
                    <a:lnTo>
                      <a:pt x="72" y="1986"/>
                    </a:lnTo>
                    <a:lnTo>
                      <a:pt x="64" y="1973"/>
                    </a:lnTo>
                    <a:lnTo>
                      <a:pt x="54" y="1962"/>
                    </a:lnTo>
                    <a:lnTo>
                      <a:pt x="44" y="1949"/>
                    </a:lnTo>
                    <a:lnTo>
                      <a:pt x="36" y="1936"/>
                    </a:lnTo>
                    <a:lnTo>
                      <a:pt x="26" y="1923"/>
                    </a:lnTo>
                    <a:lnTo>
                      <a:pt x="17" y="1911"/>
                    </a:lnTo>
                    <a:lnTo>
                      <a:pt x="9" y="1898"/>
                    </a:lnTo>
                    <a:lnTo>
                      <a:pt x="0" y="1885"/>
                    </a:lnTo>
                    <a:lnTo>
                      <a:pt x="0" y="102"/>
                    </a:lnTo>
                    <a:lnTo>
                      <a:pt x="9" y="89"/>
                    </a:lnTo>
                    <a:lnTo>
                      <a:pt x="17" y="76"/>
                    </a:lnTo>
                    <a:lnTo>
                      <a:pt x="26" y="63"/>
                    </a:lnTo>
                    <a:lnTo>
                      <a:pt x="36" y="51"/>
                    </a:lnTo>
                    <a:lnTo>
                      <a:pt x="44" y="38"/>
                    </a:lnTo>
                    <a:lnTo>
                      <a:pt x="54" y="25"/>
                    </a:lnTo>
                    <a:lnTo>
                      <a:pt x="64" y="13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19520" y="3008160"/>
                <a:ext cx="29880" cy="749520"/>
              </a:xfrm>
              <a:custGeom>
                <a:avLst/>
                <a:gdLst/>
                <a:ahLst/>
                <a:rect l="l" t="t" r="r" b="b"/>
                <a:pathLst>
                  <a:path w="74" h="1888">
                    <a:moveTo>
                      <a:pt x="74" y="0"/>
                    </a:moveTo>
                    <a:lnTo>
                      <a:pt x="74" y="1888"/>
                    </a:lnTo>
                    <a:lnTo>
                      <a:pt x="64" y="1875"/>
                    </a:lnTo>
                    <a:lnTo>
                      <a:pt x="54" y="1862"/>
                    </a:lnTo>
                    <a:lnTo>
                      <a:pt x="45" y="1848"/>
                    </a:lnTo>
                    <a:lnTo>
                      <a:pt x="36" y="1835"/>
                    </a:lnTo>
                    <a:lnTo>
                      <a:pt x="26" y="1821"/>
                    </a:lnTo>
                    <a:lnTo>
                      <a:pt x="18" y="1808"/>
                    </a:lnTo>
                    <a:lnTo>
                      <a:pt x="9" y="1794"/>
                    </a:lnTo>
                    <a:lnTo>
                      <a:pt x="0" y="1780"/>
                    </a:lnTo>
                    <a:lnTo>
                      <a:pt x="0" y="108"/>
                    </a:lnTo>
                    <a:lnTo>
                      <a:pt x="9" y="95"/>
                    </a:lnTo>
                    <a:lnTo>
                      <a:pt x="18" y="81"/>
                    </a:lnTo>
                    <a:lnTo>
                      <a:pt x="26" y="68"/>
                    </a:lnTo>
                    <a:lnTo>
                      <a:pt x="36" y="54"/>
                    </a:lnTo>
                    <a:lnTo>
                      <a:pt x="45" y="41"/>
                    </a:lnTo>
                    <a:lnTo>
                      <a:pt x="54" y="27"/>
                    </a:lnTo>
                    <a:lnTo>
                      <a:pt x="64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805120" y="3030480"/>
                <a:ext cx="28440" cy="706320"/>
              </a:xfrm>
              <a:custGeom>
                <a:avLst/>
                <a:gdLst/>
                <a:ahLst/>
                <a:rect l="l" t="t" r="r" b="b"/>
                <a:pathLst>
                  <a:path w="73" h="1783">
                    <a:moveTo>
                      <a:pt x="73" y="0"/>
                    </a:moveTo>
                    <a:lnTo>
                      <a:pt x="73" y="1783"/>
                    </a:lnTo>
                    <a:lnTo>
                      <a:pt x="63" y="1769"/>
                    </a:lnTo>
                    <a:lnTo>
                      <a:pt x="54" y="1754"/>
                    </a:lnTo>
                    <a:lnTo>
                      <a:pt x="44" y="1740"/>
                    </a:lnTo>
                    <a:lnTo>
                      <a:pt x="35" y="1726"/>
                    </a:lnTo>
                    <a:lnTo>
                      <a:pt x="25" y="1710"/>
                    </a:lnTo>
                    <a:lnTo>
                      <a:pt x="17" y="1696"/>
                    </a:lnTo>
                    <a:lnTo>
                      <a:pt x="8" y="1681"/>
                    </a:lnTo>
                    <a:lnTo>
                      <a:pt x="0" y="1667"/>
                    </a:lnTo>
                    <a:lnTo>
                      <a:pt x="0" y="115"/>
                    </a:lnTo>
                    <a:lnTo>
                      <a:pt x="8" y="101"/>
                    </a:lnTo>
                    <a:lnTo>
                      <a:pt x="17" y="86"/>
                    </a:lnTo>
                    <a:lnTo>
                      <a:pt x="25" y="72"/>
                    </a:lnTo>
                    <a:lnTo>
                      <a:pt x="35" y="57"/>
                    </a:lnTo>
                    <a:lnTo>
                      <a:pt x="44" y="43"/>
                    </a:lnTo>
                    <a:lnTo>
                      <a:pt x="54" y="28"/>
                    </a:lnTo>
                    <a:lnTo>
                      <a:pt x="63" y="1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830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790720" y="3051000"/>
                <a:ext cx="28800" cy="663840"/>
              </a:xfrm>
              <a:custGeom>
                <a:avLst/>
                <a:gdLst/>
                <a:ahLst/>
                <a:rect l="l" t="t" r="r" b="b"/>
                <a:pathLst>
                  <a:path w="73" h="1672">
                    <a:moveTo>
                      <a:pt x="73" y="0"/>
                    </a:moveTo>
                    <a:lnTo>
                      <a:pt x="73" y="1672"/>
                    </a:lnTo>
                    <a:lnTo>
                      <a:pt x="64" y="1657"/>
                    </a:lnTo>
                    <a:lnTo>
                      <a:pt x="54" y="1640"/>
                    </a:lnTo>
                    <a:lnTo>
                      <a:pt x="44" y="1625"/>
                    </a:lnTo>
                    <a:lnTo>
                      <a:pt x="35" y="1609"/>
                    </a:lnTo>
                    <a:lnTo>
                      <a:pt x="26" y="1594"/>
                    </a:lnTo>
                    <a:lnTo>
                      <a:pt x="17" y="1578"/>
                    </a:lnTo>
                    <a:lnTo>
                      <a:pt x="8" y="1562"/>
                    </a:lnTo>
                    <a:lnTo>
                      <a:pt x="0" y="1546"/>
                    </a:lnTo>
                    <a:lnTo>
                      <a:pt x="0" y="126"/>
                    </a:lnTo>
                    <a:lnTo>
                      <a:pt x="8" y="111"/>
                    </a:lnTo>
                    <a:lnTo>
                      <a:pt x="17" y="95"/>
                    </a:lnTo>
                    <a:lnTo>
                      <a:pt x="26" y="79"/>
                    </a:lnTo>
                    <a:lnTo>
                      <a:pt x="35" y="64"/>
                    </a:lnTo>
                    <a:lnTo>
                      <a:pt x="44" y="47"/>
                    </a:lnTo>
                    <a:lnTo>
                      <a:pt x="54" y="31"/>
                    </a:lnTo>
                    <a:lnTo>
                      <a:pt x="64" y="1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776680" y="3076560"/>
                <a:ext cx="28440" cy="615960"/>
              </a:xfrm>
              <a:custGeom>
                <a:avLst/>
                <a:gdLst/>
                <a:ahLst/>
                <a:rect l="l" t="t" r="r" b="b"/>
                <a:pathLst>
                  <a:path w="74" h="1552">
                    <a:moveTo>
                      <a:pt x="74" y="0"/>
                    </a:moveTo>
                    <a:lnTo>
                      <a:pt x="74" y="1552"/>
                    </a:lnTo>
                    <a:lnTo>
                      <a:pt x="64" y="1535"/>
                    </a:lnTo>
                    <a:lnTo>
                      <a:pt x="54" y="1518"/>
                    </a:lnTo>
                    <a:lnTo>
                      <a:pt x="44" y="1500"/>
                    </a:lnTo>
                    <a:lnTo>
                      <a:pt x="35" y="1483"/>
                    </a:lnTo>
                    <a:lnTo>
                      <a:pt x="26" y="1466"/>
                    </a:lnTo>
                    <a:lnTo>
                      <a:pt x="17" y="1448"/>
                    </a:lnTo>
                    <a:lnTo>
                      <a:pt x="9" y="1430"/>
                    </a:lnTo>
                    <a:lnTo>
                      <a:pt x="0" y="1413"/>
                    </a:lnTo>
                    <a:lnTo>
                      <a:pt x="0" y="140"/>
                    </a:lnTo>
                    <a:lnTo>
                      <a:pt x="9" y="122"/>
                    </a:lnTo>
                    <a:lnTo>
                      <a:pt x="17" y="105"/>
                    </a:lnTo>
                    <a:lnTo>
                      <a:pt x="26" y="87"/>
                    </a:lnTo>
                    <a:lnTo>
                      <a:pt x="35" y="69"/>
                    </a:lnTo>
                    <a:lnTo>
                      <a:pt x="44" y="52"/>
                    </a:lnTo>
                    <a:lnTo>
                      <a:pt x="54" y="35"/>
                    </a:lnTo>
                    <a:lnTo>
                      <a:pt x="64" y="1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2280" y="3101760"/>
                <a:ext cx="28440" cy="563760"/>
              </a:xfrm>
              <a:custGeom>
                <a:avLst/>
                <a:gdLst/>
                <a:ahLst/>
                <a:rect l="l" t="t" r="r" b="b"/>
                <a:pathLst>
                  <a:path w="74" h="1420">
                    <a:moveTo>
                      <a:pt x="74" y="0"/>
                    </a:moveTo>
                    <a:lnTo>
                      <a:pt x="74" y="1420"/>
                    </a:lnTo>
                    <a:lnTo>
                      <a:pt x="64" y="1401"/>
                    </a:lnTo>
                    <a:lnTo>
                      <a:pt x="54" y="1380"/>
                    </a:lnTo>
                    <a:lnTo>
                      <a:pt x="45" y="1361"/>
                    </a:lnTo>
                    <a:lnTo>
                      <a:pt x="35" y="1342"/>
                    </a:lnTo>
                    <a:lnTo>
                      <a:pt x="26" y="1322"/>
                    </a:lnTo>
                    <a:lnTo>
                      <a:pt x="18" y="1302"/>
                    </a:lnTo>
                    <a:lnTo>
                      <a:pt x="9" y="1282"/>
                    </a:lnTo>
                    <a:lnTo>
                      <a:pt x="0" y="1263"/>
                    </a:lnTo>
                    <a:lnTo>
                      <a:pt x="0" y="158"/>
                    </a:lnTo>
                    <a:lnTo>
                      <a:pt x="9" y="138"/>
                    </a:lnTo>
                    <a:lnTo>
                      <a:pt x="18" y="119"/>
                    </a:lnTo>
                    <a:lnTo>
                      <a:pt x="26" y="98"/>
                    </a:lnTo>
                    <a:lnTo>
                      <a:pt x="35" y="79"/>
                    </a:lnTo>
                    <a:lnTo>
                      <a:pt x="45" y="60"/>
                    </a:lnTo>
                    <a:lnTo>
                      <a:pt x="54" y="39"/>
                    </a:lnTo>
                    <a:lnTo>
                      <a:pt x="64" y="2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46440" y="3130560"/>
                <a:ext cx="30240" cy="506520"/>
              </a:xfrm>
              <a:custGeom>
                <a:avLst/>
                <a:gdLst/>
                <a:ahLst/>
                <a:rect l="l" t="t" r="r" b="b"/>
                <a:pathLst>
                  <a:path w="73" h="1273">
                    <a:moveTo>
                      <a:pt x="73" y="0"/>
                    </a:moveTo>
                    <a:lnTo>
                      <a:pt x="73" y="1273"/>
                    </a:lnTo>
                    <a:lnTo>
                      <a:pt x="62" y="1250"/>
                    </a:lnTo>
                    <a:lnTo>
                      <a:pt x="53" y="1228"/>
                    </a:lnTo>
                    <a:lnTo>
                      <a:pt x="43" y="1205"/>
                    </a:lnTo>
                    <a:lnTo>
                      <a:pt x="33" y="1181"/>
                    </a:lnTo>
                    <a:lnTo>
                      <a:pt x="24" y="1158"/>
                    </a:lnTo>
                    <a:lnTo>
                      <a:pt x="16" y="1136"/>
                    </a:lnTo>
                    <a:lnTo>
                      <a:pt x="8" y="1112"/>
                    </a:lnTo>
                    <a:lnTo>
                      <a:pt x="0" y="1089"/>
                    </a:lnTo>
                    <a:lnTo>
                      <a:pt x="0" y="183"/>
                    </a:lnTo>
                    <a:lnTo>
                      <a:pt x="8" y="161"/>
                    </a:lnTo>
                    <a:lnTo>
                      <a:pt x="16" y="137"/>
                    </a:lnTo>
                    <a:lnTo>
                      <a:pt x="24" y="114"/>
                    </a:lnTo>
                    <a:lnTo>
                      <a:pt x="33" y="91"/>
                    </a:lnTo>
                    <a:lnTo>
                      <a:pt x="43" y="68"/>
                    </a:lnTo>
                    <a:lnTo>
                      <a:pt x="53" y="45"/>
                    </a:lnTo>
                    <a:lnTo>
                      <a:pt x="62" y="22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732040" y="3163680"/>
                <a:ext cx="30240" cy="439920"/>
              </a:xfrm>
              <a:custGeom>
                <a:avLst/>
                <a:gdLst/>
                <a:ahLst/>
                <a:rect l="l" t="t" r="r" b="b"/>
                <a:pathLst>
                  <a:path w="73" h="1105">
                    <a:moveTo>
                      <a:pt x="73" y="0"/>
                    </a:moveTo>
                    <a:lnTo>
                      <a:pt x="73" y="1105"/>
                    </a:lnTo>
                    <a:lnTo>
                      <a:pt x="62" y="1076"/>
                    </a:lnTo>
                    <a:lnTo>
                      <a:pt x="52" y="1047"/>
                    </a:lnTo>
                    <a:lnTo>
                      <a:pt x="42" y="1018"/>
                    </a:lnTo>
                    <a:lnTo>
                      <a:pt x="32" y="989"/>
                    </a:lnTo>
                    <a:lnTo>
                      <a:pt x="24" y="960"/>
                    </a:lnTo>
                    <a:lnTo>
                      <a:pt x="15" y="931"/>
                    </a:lnTo>
                    <a:lnTo>
                      <a:pt x="7" y="902"/>
                    </a:lnTo>
                    <a:lnTo>
                      <a:pt x="0" y="873"/>
                    </a:lnTo>
                    <a:lnTo>
                      <a:pt x="0" y="232"/>
                    </a:lnTo>
                    <a:lnTo>
                      <a:pt x="7" y="203"/>
                    </a:lnTo>
                    <a:lnTo>
                      <a:pt x="15" y="174"/>
                    </a:lnTo>
                    <a:lnTo>
                      <a:pt x="24" y="145"/>
                    </a:lnTo>
                    <a:lnTo>
                      <a:pt x="32" y="115"/>
                    </a:lnTo>
                    <a:lnTo>
                      <a:pt x="42" y="86"/>
                    </a:lnTo>
                    <a:lnTo>
                      <a:pt x="52" y="57"/>
                    </a:lnTo>
                    <a:lnTo>
                      <a:pt x="62" y="29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17640" y="3203640"/>
                <a:ext cx="28800" cy="360360"/>
              </a:xfrm>
              <a:custGeom>
                <a:avLst/>
                <a:gdLst/>
                <a:ahLst/>
                <a:rect l="l" t="t" r="r" b="b"/>
                <a:pathLst>
                  <a:path w="73" h="906">
                    <a:moveTo>
                      <a:pt x="73" y="0"/>
                    </a:moveTo>
                    <a:lnTo>
                      <a:pt x="73" y="906"/>
                    </a:lnTo>
                    <a:lnTo>
                      <a:pt x="64" y="878"/>
                    </a:lnTo>
                    <a:lnTo>
                      <a:pt x="56" y="850"/>
                    </a:lnTo>
                    <a:lnTo>
                      <a:pt x="49" y="823"/>
                    </a:lnTo>
                    <a:lnTo>
                      <a:pt x="41" y="795"/>
                    </a:lnTo>
                    <a:lnTo>
                      <a:pt x="35" y="767"/>
                    </a:lnTo>
                    <a:lnTo>
                      <a:pt x="28" y="739"/>
                    </a:lnTo>
                    <a:lnTo>
                      <a:pt x="23" y="711"/>
                    </a:lnTo>
                    <a:lnTo>
                      <a:pt x="19" y="683"/>
                    </a:lnTo>
                    <a:lnTo>
                      <a:pt x="14" y="654"/>
                    </a:lnTo>
                    <a:lnTo>
                      <a:pt x="10" y="626"/>
                    </a:lnTo>
                    <a:lnTo>
                      <a:pt x="7" y="597"/>
                    </a:lnTo>
                    <a:lnTo>
                      <a:pt x="4" y="568"/>
                    </a:lnTo>
                    <a:lnTo>
                      <a:pt x="2" y="540"/>
                    </a:lnTo>
                    <a:lnTo>
                      <a:pt x="1" y="511"/>
                    </a:lnTo>
                    <a:lnTo>
                      <a:pt x="0" y="482"/>
                    </a:lnTo>
                    <a:lnTo>
                      <a:pt x="0" y="453"/>
                    </a:lnTo>
                    <a:lnTo>
                      <a:pt x="0" y="425"/>
                    </a:lnTo>
                    <a:lnTo>
                      <a:pt x="1" y="396"/>
                    </a:lnTo>
                    <a:lnTo>
                      <a:pt x="2" y="366"/>
                    </a:lnTo>
                    <a:lnTo>
                      <a:pt x="4" y="338"/>
                    </a:lnTo>
                    <a:lnTo>
                      <a:pt x="7" y="309"/>
                    </a:lnTo>
                    <a:lnTo>
                      <a:pt x="10" y="281"/>
                    </a:lnTo>
                    <a:lnTo>
                      <a:pt x="14" y="253"/>
                    </a:lnTo>
                    <a:lnTo>
                      <a:pt x="19" y="224"/>
                    </a:lnTo>
                    <a:lnTo>
                      <a:pt x="23" y="196"/>
                    </a:lnTo>
                    <a:lnTo>
                      <a:pt x="28" y="168"/>
                    </a:lnTo>
                    <a:lnTo>
                      <a:pt x="35" y="140"/>
                    </a:lnTo>
                    <a:lnTo>
                      <a:pt x="41" y="111"/>
                    </a:lnTo>
                    <a:lnTo>
                      <a:pt x="49" y="83"/>
                    </a:lnTo>
                    <a:lnTo>
                      <a:pt x="56" y="56"/>
                    </a:lnTo>
                    <a:lnTo>
                      <a:pt x="64" y="2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92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17640" y="3257640"/>
                <a:ext cx="14400" cy="253800"/>
              </a:xfrm>
              <a:custGeom>
                <a:avLst/>
                <a:gdLst/>
                <a:ahLst/>
                <a:rect l="l" t="t" r="r" b="b"/>
                <a:pathLst>
                  <a:path w="36" h="641">
                    <a:moveTo>
                      <a:pt x="36" y="0"/>
                    </a:moveTo>
                    <a:lnTo>
                      <a:pt x="36" y="641"/>
                    </a:lnTo>
                    <a:lnTo>
                      <a:pt x="28" y="602"/>
                    </a:lnTo>
                    <a:lnTo>
                      <a:pt x="21" y="562"/>
                    </a:lnTo>
                    <a:lnTo>
                      <a:pt x="14" y="522"/>
                    </a:lnTo>
                    <a:lnTo>
                      <a:pt x="9" y="482"/>
                    </a:lnTo>
                    <a:lnTo>
                      <a:pt x="4" y="442"/>
                    </a:lnTo>
                    <a:lnTo>
                      <a:pt x="2" y="402"/>
                    </a:lnTo>
                    <a:lnTo>
                      <a:pt x="0" y="361"/>
                    </a:lnTo>
                    <a:lnTo>
                      <a:pt x="0" y="320"/>
                    </a:lnTo>
                    <a:lnTo>
                      <a:pt x="0" y="280"/>
                    </a:lnTo>
                    <a:lnTo>
                      <a:pt x="2" y="239"/>
                    </a:lnTo>
                    <a:lnTo>
                      <a:pt x="4" y="199"/>
                    </a:lnTo>
                    <a:lnTo>
                      <a:pt x="9" y="159"/>
                    </a:lnTo>
                    <a:lnTo>
                      <a:pt x="14" y="119"/>
                    </a:lnTo>
                    <a:lnTo>
                      <a:pt x="21" y="79"/>
                    </a:lnTo>
                    <a:lnTo>
                      <a:pt x="28" y="3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c2b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7640" y="2367000"/>
                <a:ext cx="3721320" cy="2033640"/>
              </a:xfrm>
              <a:custGeom>
                <a:avLst/>
                <a:gdLst/>
                <a:ahLst/>
                <a:rect l="l" t="t" r="r" b="b"/>
                <a:pathLst>
                  <a:path w="9374" h="5123">
                    <a:moveTo>
                      <a:pt x="9350" y="2561"/>
                    </a:moveTo>
                    <a:lnTo>
                      <a:pt x="9374" y="2561"/>
                    </a:lnTo>
                    <a:lnTo>
                      <a:pt x="9374" y="1620"/>
                    </a:lnTo>
                    <a:lnTo>
                      <a:pt x="9023" y="1620"/>
                    </a:lnTo>
                    <a:lnTo>
                      <a:pt x="8955" y="1532"/>
                    </a:lnTo>
                    <a:lnTo>
                      <a:pt x="8881" y="1445"/>
                    </a:lnTo>
                    <a:lnTo>
                      <a:pt x="8802" y="1361"/>
                    </a:lnTo>
                    <a:lnTo>
                      <a:pt x="8718" y="1279"/>
                    </a:lnTo>
                    <a:lnTo>
                      <a:pt x="8627" y="1198"/>
                    </a:lnTo>
                    <a:lnTo>
                      <a:pt x="8533" y="1119"/>
                    </a:lnTo>
                    <a:lnTo>
                      <a:pt x="8433" y="1042"/>
                    </a:lnTo>
                    <a:lnTo>
                      <a:pt x="8328" y="968"/>
                    </a:lnTo>
                    <a:lnTo>
                      <a:pt x="8218" y="895"/>
                    </a:lnTo>
                    <a:lnTo>
                      <a:pt x="8104" y="825"/>
                    </a:lnTo>
                    <a:lnTo>
                      <a:pt x="7985" y="757"/>
                    </a:lnTo>
                    <a:lnTo>
                      <a:pt x="7862" y="691"/>
                    </a:lnTo>
                    <a:lnTo>
                      <a:pt x="7735" y="629"/>
                    </a:lnTo>
                    <a:lnTo>
                      <a:pt x="7603" y="568"/>
                    </a:lnTo>
                    <a:lnTo>
                      <a:pt x="7467" y="510"/>
                    </a:lnTo>
                    <a:lnTo>
                      <a:pt x="7327" y="455"/>
                    </a:lnTo>
                    <a:lnTo>
                      <a:pt x="7185" y="403"/>
                    </a:lnTo>
                    <a:lnTo>
                      <a:pt x="7038" y="353"/>
                    </a:lnTo>
                    <a:lnTo>
                      <a:pt x="6888" y="307"/>
                    </a:lnTo>
                    <a:lnTo>
                      <a:pt x="6734" y="263"/>
                    </a:lnTo>
                    <a:lnTo>
                      <a:pt x="6577" y="223"/>
                    </a:lnTo>
                    <a:lnTo>
                      <a:pt x="6417" y="185"/>
                    </a:lnTo>
                    <a:lnTo>
                      <a:pt x="6254" y="150"/>
                    </a:lnTo>
                    <a:lnTo>
                      <a:pt x="6089" y="120"/>
                    </a:lnTo>
                    <a:lnTo>
                      <a:pt x="5920" y="92"/>
                    </a:lnTo>
                    <a:lnTo>
                      <a:pt x="5750" y="68"/>
                    </a:lnTo>
                    <a:lnTo>
                      <a:pt x="5576" y="48"/>
                    </a:lnTo>
                    <a:lnTo>
                      <a:pt x="5401" y="30"/>
                    </a:lnTo>
                    <a:lnTo>
                      <a:pt x="5222" y="17"/>
                    </a:lnTo>
                    <a:lnTo>
                      <a:pt x="5043" y="8"/>
                    </a:lnTo>
                    <a:lnTo>
                      <a:pt x="4860" y="1"/>
                    </a:lnTo>
                    <a:lnTo>
                      <a:pt x="4678" y="0"/>
                    </a:lnTo>
                    <a:lnTo>
                      <a:pt x="4437" y="3"/>
                    </a:lnTo>
                    <a:lnTo>
                      <a:pt x="4200" y="13"/>
                    </a:lnTo>
                    <a:lnTo>
                      <a:pt x="3967" y="29"/>
                    </a:lnTo>
                    <a:lnTo>
                      <a:pt x="3737" y="52"/>
                    </a:lnTo>
                    <a:lnTo>
                      <a:pt x="3511" y="80"/>
                    </a:lnTo>
                    <a:lnTo>
                      <a:pt x="3289" y="115"/>
                    </a:lnTo>
                    <a:lnTo>
                      <a:pt x="3072" y="156"/>
                    </a:lnTo>
                    <a:lnTo>
                      <a:pt x="2859" y="201"/>
                    </a:lnTo>
                    <a:lnTo>
                      <a:pt x="2652" y="253"/>
                    </a:lnTo>
                    <a:lnTo>
                      <a:pt x="2451" y="309"/>
                    </a:lnTo>
                    <a:lnTo>
                      <a:pt x="2255" y="372"/>
                    </a:lnTo>
                    <a:lnTo>
                      <a:pt x="2065" y="437"/>
                    </a:lnTo>
                    <a:lnTo>
                      <a:pt x="1881" y="510"/>
                    </a:lnTo>
                    <a:lnTo>
                      <a:pt x="1705" y="585"/>
                    </a:lnTo>
                    <a:lnTo>
                      <a:pt x="1535" y="666"/>
                    </a:lnTo>
                    <a:lnTo>
                      <a:pt x="1372" y="751"/>
                    </a:lnTo>
                    <a:lnTo>
                      <a:pt x="1217" y="840"/>
                    </a:lnTo>
                    <a:lnTo>
                      <a:pt x="1070" y="933"/>
                    </a:lnTo>
                    <a:lnTo>
                      <a:pt x="931" y="1029"/>
                    </a:lnTo>
                    <a:lnTo>
                      <a:pt x="801" y="1130"/>
                    </a:lnTo>
                    <a:lnTo>
                      <a:pt x="679" y="1235"/>
                    </a:lnTo>
                    <a:lnTo>
                      <a:pt x="565" y="1341"/>
                    </a:lnTo>
                    <a:lnTo>
                      <a:pt x="463" y="1452"/>
                    </a:lnTo>
                    <a:lnTo>
                      <a:pt x="369" y="1565"/>
                    </a:lnTo>
                    <a:lnTo>
                      <a:pt x="284" y="1682"/>
                    </a:lnTo>
                    <a:lnTo>
                      <a:pt x="211" y="1800"/>
                    </a:lnTo>
                    <a:lnTo>
                      <a:pt x="147" y="1921"/>
                    </a:lnTo>
                    <a:lnTo>
                      <a:pt x="95" y="2046"/>
                    </a:lnTo>
                    <a:lnTo>
                      <a:pt x="54" y="2172"/>
                    </a:lnTo>
                    <a:lnTo>
                      <a:pt x="24" y="2299"/>
                    </a:lnTo>
                    <a:lnTo>
                      <a:pt x="6" y="2430"/>
                    </a:lnTo>
                    <a:lnTo>
                      <a:pt x="0" y="2561"/>
                    </a:lnTo>
                    <a:lnTo>
                      <a:pt x="6" y="2693"/>
                    </a:lnTo>
                    <a:lnTo>
                      <a:pt x="24" y="2823"/>
                    </a:lnTo>
                    <a:lnTo>
                      <a:pt x="54" y="2951"/>
                    </a:lnTo>
                    <a:lnTo>
                      <a:pt x="95" y="3077"/>
                    </a:lnTo>
                    <a:lnTo>
                      <a:pt x="147" y="3200"/>
                    </a:lnTo>
                    <a:lnTo>
                      <a:pt x="211" y="3322"/>
                    </a:lnTo>
                    <a:lnTo>
                      <a:pt x="284" y="3441"/>
                    </a:lnTo>
                    <a:lnTo>
                      <a:pt x="369" y="3558"/>
                    </a:lnTo>
                    <a:lnTo>
                      <a:pt x="463" y="3671"/>
                    </a:lnTo>
                    <a:lnTo>
                      <a:pt x="565" y="3781"/>
                    </a:lnTo>
                    <a:lnTo>
                      <a:pt x="679" y="3888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89"/>
                    </a:lnTo>
                    <a:lnTo>
                      <a:pt x="1217" y="4282"/>
                    </a:lnTo>
                    <a:lnTo>
                      <a:pt x="1372" y="4372"/>
                    </a:lnTo>
                    <a:lnTo>
                      <a:pt x="1535" y="4456"/>
                    </a:lnTo>
                    <a:lnTo>
                      <a:pt x="1705" y="4537"/>
                    </a:lnTo>
                    <a:lnTo>
                      <a:pt x="1881" y="4613"/>
                    </a:lnTo>
                    <a:lnTo>
                      <a:pt x="2065" y="4685"/>
                    </a:lnTo>
                    <a:lnTo>
                      <a:pt x="2255" y="4751"/>
                    </a:lnTo>
                    <a:lnTo>
                      <a:pt x="2451" y="4814"/>
                    </a:lnTo>
                    <a:lnTo>
                      <a:pt x="2652" y="4870"/>
                    </a:lnTo>
                    <a:lnTo>
                      <a:pt x="2859" y="4922"/>
                    </a:lnTo>
                    <a:lnTo>
                      <a:pt x="3072" y="4967"/>
                    </a:lnTo>
                    <a:lnTo>
                      <a:pt x="3289" y="5007"/>
                    </a:lnTo>
                    <a:lnTo>
                      <a:pt x="3511" y="5042"/>
                    </a:lnTo>
                    <a:lnTo>
                      <a:pt x="3737" y="5071"/>
                    </a:lnTo>
                    <a:lnTo>
                      <a:pt x="3967" y="5093"/>
                    </a:lnTo>
                    <a:lnTo>
                      <a:pt x="4200" y="5110"/>
                    </a:lnTo>
                    <a:lnTo>
                      <a:pt x="4437" y="5119"/>
                    </a:lnTo>
                    <a:lnTo>
                      <a:pt x="4678" y="5123"/>
                    </a:lnTo>
                    <a:lnTo>
                      <a:pt x="4918" y="5119"/>
                    </a:lnTo>
                    <a:lnTo>
                      <a:pt x="5154" y="5110"/>
                    </a:lnTo>
                    <a:lnTo>
                      <a:pt x="5388" y="5093"/>
                    </a:lnTo>
                    <a:lnTo>
                      <a:pt x="5618" y="5071"/>
                    </a:lnTo>
                    <a:lnTo>
                      <a:pt x="5844" y="5042"/>
                    </a:lnTo>
                    <a:lnTo>
                      <a:pt x="6065" y="5007"/>
                    </a:lnTo>
                    <a:lnTo>
                      <a:pt x="6282" y="4967"/>
                    </a:lnTo>
                    <a:lnTo>
                      <a:pt x="6495" y="4922"/>
                    </a:lnTo>
                    <a:lnTo>
                      <a:pt x="6703" y="4870"/>
                    </a:lnTo>
                    <a:lnTo>
                      <a:pt x="6904" y="4814"/>
                    </a:lnTo>
                    <a:lnTo>
                      <a:pt x="7099" y="4751"/>
                    </a:lnTo>
                    <a:lnTo>
                      <a:pt x="7289" y="4685"/>
                    </a:lnTo>
                    <a:lnTo>
                      <a:pt x="7473" y="4613"/>
                    </a:lnTo>
                    <a:lnTo>
                      <a:pt x="7649" y="4537"/>
                    </a:lnTo>
                    <a:lnTo>
                      <a:pt x="7820" y="4456"/>
                    </a:lnTo>
                    <a:lnTo>
                      <a:pt x="7982" y="4372"/>
                    </a:lnTo>
                    <a:lnTo>
                      <a:pt x="8138" y="4282"/>
                    </a:lnTo>
                    <a:lnTo>
                      <a:pt x="8285" y="4189"/>
                    </a:lnTo>
                    <a:lnTo>
                      <a:pt x="8424" y="4093"/>
                    </a:lnTo>
                    <a:lnTo>
                      <a:pt x="8554" y="3993"/>
                    </a:lnTo>
                    <a:lnTo>
                      <a:pt x="8676" y="3888"/>
                    </a:lnTo>
                    <a:lnTo>
                      <a:pt x="8789" y="3781"/>
                    </a:lnTo>
                    <a:lnTo>
                      <a:pt x="8892" y="3671"/>
                    </a:lnTo>
                    <a:lnTo>
                      <a:pt x="8986" y="3558"/>
                    </a:lnTo>
                    <a:lnTo>
                      <a:pt x="9070" y="3441"/>
                    </a:lnTo>
                    <a:lnTo>
                      <a:pt x="9144" y="3322"/>
                    </a:lnTo>
                    <a:lnTo>
                      <a:pt x="9207" y="3200"/>
                    </a:lnTo>
                    <a:lnTo>
                      <a:pt x="9259" y="3077"/>
                    </a:lnTo>
                    <a:lnTo>
                      <a:pt x="9300" y="2951"/>
                    </a:lnTo>
                    <a:lnTo>
                      <a:pt x="9331" y="2823"/>
                    </a:lnTo>
                    <a:lnTo>
                      <a:pt x="9349" y="2693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4" y="2561"/>
                    </a:lnTo>
                    <a:lnTo>
                      <a:pt x="9353" y="2561"/>
                    </a:lnTo>
                    <a:lnTo>
                      <a:pt x="9352" y="2561"/>
                    </a:lnTo>
                    <a:lnTo>
                      <a:pt x="9352" y="2561"/>
                    </a:lnTo>
                    <a:lnTo>
                      <a:pt x="9351" y="2561"/>
                    </a:lnTo>
                    <a:lnTo>
                      <a:pt x="9350" y="2561"/>
                    </a:lnTo>
                    <a:lnTo>
                      <a:pt x="9350" y="256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27800" y="3002040"/>
                <a:ext cx="6120" cy="380880"/>
              </a:xfrm>
              <a:custGeom>
                <a:avLst/>
                <a:gdLst/>
                <a:ahLst/>
                <a:rect l="l" t="t" r="r" b="b"/>
                <a:pathLst>
                  <a:path w="15" h="960">
                    <a:moveTo>
                      <a:pt x="0" y="960"/>
                    </a:moveTo>
                    <a:lnTo>
                      <a:pt x="0" y="0"/>
                    </a:lnTo>
                    <a:lnTo>
                      <a:pt x="3" y="56"/>
                    </a:lnTo>
                    <a:lnTo>
                      <a:pt x="6" y="113"/>
                    </a:lnTo>
                    <a:lnTo>
                      <a:pt x="10" y="170"/>
                    </a:lnTo>
                    <a:lnTo>
                      <a:pt x="11" y="227"/>
                    </a:lnTo>
                    <a:lnTo>
                      <a:pt x="14" y="345"/>
                    </a:lnTo>
                    <a:lnTo>
                      <a:pt x="15" y="464"/>
                    </a:lnTo>
                    <a:lnTo>
                      <a:pt x="15" y="585"/>
                    </a:lnTo>
                    <a:lnTo>
                      <a:pt x="14" y="709"/>
                    </a:lnTo>
                    <a:lnTo>
                      <a:pt x="13" y="833"/>
                    </a:lnTo>
                    <a:lnTo>
                      <a:pt x="13" y="960"/>
                    </a:lnTo>
                    <a:lnTo>
                      <a:pt x="0" y="960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516640" y="2901960"/>
                <a:ext cx="17280" cy="480960"/>
              </a:xfrm>
              <a:custGeom>
                <a:avLst/>
                <a:gdLst/>
                <a:ahLst/>
                <a:rect l="l" t="t" r="r" b="b"/>
                <a:pathLst>
                  <a:path w="43" h="1214">
                    <a:moveTo>
                      <a:pt x="0" y="1214"/>
                    </a:moveTo>
                    <a:lnTo>
                      <a:pt x="0" y="0"/>
                    </a:lnTo>
                    <a:lnTo>
                      <a:pt x="10" y="69"/>
                    </a:lnTo>
                    <a:lnTo>
                      <a:pt x="17" y="138"/>
                    </a:lnTo>
                    <a:lnTo>
                      <a:pt x="25" y="209"/>
                    </a:lnTo>
                    <a:lnTo>
                      <a:pt x="30" y="281"/>
                    </a:lnTo>
                    <a:lnTo>
                      <a:pt x="34" y="354"/>
                    </a:lnTo>
                    <a:lnTo>
                      <a:pt x="38" y="427"/>
                    </a:lnTo>
                    <a:lnTo>
                      <a:pt x="40" y="502"/>
                    </a:lnTo>
                    <a:lnTo>
                      <a:pt x="41" y="578"/>
                    </a:lnTo>
                    <a:lnTo>
                      <a:pt x="43" y="732"/>
                    </a:lnTo>
                    <a:lnTo>
                      <a:pt x="42" y="890"/>
                    </a:lnTo>
                    <a:lnTo>
                      <a:pt x="41" y="1051"/>
                    </a:lnTo>
                    <a:lnTo>
                      <a:pt x="41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505480" y="2841480"/>
                <a:ext cx="22320" cy="541440"/>
              </a:xfrm>
              <a:custGeom>
                <a:avLst/>
                <a:gdLst/>
                <a:ahLst/>
                <a:rect l="l" t="t" r="r" b="b"/>
                <a:pathLst>
                  <a:path w="56" h="1363">
                    <a:moveTo>
                      <a:pt x="56" y="403"/>
                    </a:moveTo>
                    <a:lnTo>
                      <a:pt x="56" y="1363"/>
                    </a:lnTo>
                    <a:lnTo>
                      <a:pt x="0" y="1363"/>
                    </a:lnTo>
                    <a:lnTo>
                      <a:pt x="0" y="0"/>
                    </a:lnTo>
                    <a:lnTo>
                      <a:pt x="9" y="48"/>
                    </a:lnTo>
                    <a:lnTo>
                      <a:pt x="19" y="97"/>
                    </a:lnTo>
                    <a:lnTo>
                      <a:pt x="27" y="147"/>
                    </a:lnTo>
                    <a:lnTo>
                      <a:pt x="34" y="196"/>
                    </a:lnTo>
                    <a:lnTo>
                      <a:pt x="41" y="247"/>
                    </a:lnTo>
                    <a:lnTo>
                      <a:pt x="46" y="299"/>
                    </a:lnTo>
                    <a:lnTo>
                      <a:pt x="52" y="351"/>
                    </a:lnTo>
                    <a:lnTo>
                      <a:pt x="56" y="403"/>
                    </a:lnTo>
                    <a:close/>
                  </a:path>
                </a:pathLst>
              </a:custGeom>
              <a:solidFill>
                <a:srgbClr val="bfa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494320" y="2798640"/>
                <a:ext cx="22320" cy="584280"/>
              </a:xfrm>
              <a:custGeom>
                <a:avLst/>
                <a:gdLst/>
                <a:ahLst/>
                <a:rect l="l" t="t" r="r" b="b"/>
                <a:pathLst>
                  <a:path w="57" h="1473">
                    <a:moveTo>
                      <a:pt x="57" y="259"/>
                    </a:moveTo>
                    <a:lnTo>
                      <a:pt x="57" y="1473"/>
                    </a:lnTo>
                    <a:lnTo>
                      <a:pt x="0" y="1473"/>
                    </a:lnTo>
                    <a:lnTo>
                      <a:pt x="0" y="0"/>
                    </a:lnTo>
                    <a:lnTo>
                      <a:pt x="8" y="31"/>
                    </a:lnTo>
                    <a:lnTo>
                      <a:pt x="17" y="63"/>
                    </a:lnTo>
                    <a:lnTo>
                      <a:pt x="24" y="95"/>
                    </a:lnTo>
                    <a:lnTo>
                      <a:pt x="32" y="127"/>
                    </a:lnTo>
                    <a:lnTo>
                      <a:pt x="38" y="159"/>
                    </a:lnTo>
                    <a:lnTo>
                      <a:pt x="45" y="193"/>
                    </a:lnTo>
                    <a:lnTo>
                      <a:pt x="51" y="225"/>
                    </a:lnTo>
                    <a:lnTo>
                      <a:pt x="57" y="259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83160" y="2763720"/>
                <a:ext cx="22320" cy="619200"/>
              </a:xfrm>
              <a:custGeom>
                <a:avLst/>
                <a:gdLst/>
                <a:ahLst/>
                <a:rect l="l" t="t" r="r" b="b"/>
                <a:pathLst>
                  <a:path w="58" h="1561">
                    <a:moveTo>
                      <a:pt x="58" y="198"/>
                    </a:moveTo>
                    <a:lnTo>
                      <a:pt x="58" y="1561"/>
                    </a:lnTo>
                    <a:lnTo>
                      <a:pt x="0" y="1561"/>
                    </a:lnTo>
                    <a:lnTo>
                      <a:pt x="0" y="0"/>
                    </a:lnTo>
                    <a:lnTo>
                      <a:pt x="9" y="24"/>
                    </a:lnTo>
                    <a:lnTo>
                      <a:pt x="17" y="49"/>
                    </a:lnTo>
                    <a:lnTo>
                      <a:pt x="24" y="72"/>
                    </a:lnTo>
                    <a:lnTo>
                      <a:pt x="32" y="97"/>
                    </a:lnTo>
                    <a:lnTo>
                      <a:pt x="38" y="122"/>
                    </a:lnTo>
                    <a:lnTo>
                      <a:pt x="45" y="147"/>
                    </a:lnTo>
                    <a:lnTo>
                      <a:pt x="51" y="173"/>
                    </a:lnTo>
                    <a:lnTo>
                      <a:pt x="58" y="198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72000" y="2735280"/>
                <a:ext cx="22320" cy="647640"/>
              </a:xfrm>
              <a:custGeom>
                <a:avLst/>
                <a:gdLst/>
                <a:ahLst/>
                <a:rect l="l" t="t" r="r" b="b"/>
                <a:pathLst>
                  <a:path w="57" h="1634">
                    <a:moveTo>
                      <a:pt x="57" y="161"/>
                    </a:moveTo>
                    <a:lnTo>
                      <a:pt x="57" y="1634"/>
                    </a:lnTo>
                    <a:lnTo>
                      <a:pt x="0" y="1634"/>
                    </a:lnTo>
                    <a:lnTo>
                      <a:pt x="0" y="0"/>
                    </a:lnTo>
                    <a:lnTo>
                      <a:pt x="8" y="19"/>
                    </a:lnTo>
                    <a:lnTo>
                      <a:pt x="15" y="39"/>
                    </a:lnTo>
                    <a:lnTo>
                      <a:pt x="23" y="59"/>
                    </a:lnTo>
                    <a:lnTo>
                      <a:pt x="31" y="78"/>
                    </a:lnTo>
                    <a:lnTo>
                      <a:pt x="37" y="99"/>
                    </a:lnTo>
                    <a:lnTo>
                      <a:pt x="45" y="120"/>
                    </a:lnTo>
                    <a:lnTo>
                      <a:pt x="51" y="140"/>
                    </a:lnTo>
                    <a:lnTo>
                      <a:pt x="57" y="161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60840" y="2709720"/>
                <a:ext cx="22320" cy="673200"/>
              </a:xfrm>
              <a:custGeom>
                <a:avLst/>
                <a:gdLst/>
                <a:ahLst/>
                <a:rect l="l" t="t" r="r" b="b"/>
                <a:pathLst>
                  <a:path w="56" h="1698">
                    <a:moveTo>
                      <a:pt x="56" y="137"/>
                    </a:moveTo>
                    <a:lnTo>
                      <a:pt x="56" y="1698"/>
                    </a:lnTo>
                    <a:lnTo>
                      <a:pt x="0" y="1698"/>
                    </a:lnTo>
                    <a:lnTo>
                      <a:pt x="0" y="0"/>
                    </a:lnTo>
                    <a:lnTo>
                      <a:pt x="8" y="17"/>
                    </a:lnTo>
                    <a:lnTo>
                      <a:pt x="15" y="33"/>
                    </a:lnTo>
                    <a:lnTo>
                      <a:pt x="23" y="51"/>
                    </a:lnTo>
                    <a:lnTo>
                      <a:pt x="29" y="68"/>
                    </a:lnTo>
                    <a:lnTo>
                      <a:pt x="37" y="85"/>
                    </a:lnTo>
                    <a:lnTo>
                      <a:pt x="43" y="103"/>
                    </a:lnTo>
                    <a:lnTo>
                      <a:pt x="50" y="120"/>
                    </a:lnTo>
                    <a:lnTo>
                      <a:pt x="56" y="137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50040" y="2687760"/>
                <a:ext cx="21960" cy="695160"/>
              </a:xfrm>
              <a:custGeom>
                <a:avLst/>
                <a:gdLst/>
                <a:ahLst/>
                <a:rect l="l" t="t" r="r" b="b"/>
                <a:pathLst>
                  <a:path w="57" h="1754">
                    <a:moveTo>
                      <a:pt x="57" y="120"/>
                    </a:moveTo>
                    <a:lnTo>
                      <a:pt x="57" y="1754"/>
                    </a:lnTo>
                    <a:lnTo>
                      <a:pt x="0" y="1754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15" y="29"/>
                    </a:lnTo>
                    <a:lnTo>
                      <a:pt x="23" y="44"/>
                    </a:lnTo>
                    <a:lnTo>
                      <a:pt x="30" y="59"/>
                    </a:lnTo>
                    <a:lnTo>
                      <a:pt x="37" y="74"/>
                    </a:lnTo>
                    <a:lnTo>
                      <a:pt x="44" y="89"/>
                    </a:lnTo>
                    <a:lnTo>
                      <a:pt x="51" y="105"/>
                    </a:lnTo>
                    <a:lnTo>
                      <a:pt x="57" y="120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438880" y="2666880"/>
                <a:ext cx="21960" cy="716040"/>
              </a:xfrm>
              <a:custGeom>
                <a:avLst/>
                <a:gdLst/>
                <a:ahLst/>
                <a:rect l="l" t="t" r="r" b="b"/>
                <a:pathLst>
                  <a:path w="57" h="1804">
                    <a:moveTo>
                      <a:pt x="57" y="106"/>
                    </a:moveTo>
                    <a:lnTo>
                      <a:pt x="57" y="1804"/>
                    </a:lnTo>
                    <a:lnTo>
                      <a:pt x="0" y="1804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15" y="26"/>
                    </a:lnTo>
                    <a:lnTo>
                      <a:pt x="23" y="39"/>
                    </a:lnTo>
                    <a:lnTo>
                      <a:pt x="30" y="53"/>
                    </a:lnTo>
                    <a:lnTo>
                      <a:pt x="37" y="66"/>
                    </a:lnTo>
                    <a:lnTo>
                      <a:pt x="43" y="79"/>
                    </a:lnTo>
                    <a:lnTo>
                      <a:pt x="51" y="93"/>
                    </a:lnTo>
                    <a:lnTo>
                      <a:pt x="57" y="106"/>
                    </a:lnTo>
                    <a:close/>
                  </a:path>
                </a:pathLst>
              </a:custGeom>
              <a:solidFill>
                <a:srgbClr val="bfa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27720" y="2649600"/>
                <a:ext cx="22320" cy="733320"/>
              </a:xfrm>
              <a:custGeom>
                <a:avLst/>
                <a:gdLst/>
                <a:ahLst/>
                <a:rect l="l" t="t" r="r" b="b"/>
                <a:pathLst>
                  <a:path w="56" h="1848">
                    <a:moveTo>
                      <a:pt x="56" y="94"/>
                    </a:moveTo>
                    <a:lnTo>
                      <a:pt x="56" y="1848"/>
                    </a:lnTo>
                    <a:lnTo>
                      <a:pt x="0" y="1848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2"/>
                    </a:lnTo>
                    <a:lnTo>
                      <a:pt x="23" y="34"/>
                    </a:lnTo>
                    <a:lnTo>
                      <a:pt x="29" y="46"/>
                    </a:lnTo>
                    <a:lnTo>
                      <a:pt x="37" y="58"/>
                    </a:lnTo>
                    <a:lnTo>
                      <a:pt x="43" y="70"/>
                    </a:lnTo>
                    <a:lnTo>
                      <a:pt x="50" y="82"/>
                    </a:lnTo>
                    <a:lnTo>
                      <a:pt x="56" y="94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16560" y="2633760"/>
                <a:ext cx="22320" cy="749160"/>
              </a:xfrm>
              <a:custGeom>
                <a:avLst/>
                <a:gdLst/>
                <a:ahLst/>
                <a:rect l="l" t="t" r="r" b="b"/>
                <a:pathLst>
                  <a:path w="56" h="1889">
                    <a:moveTo>
                      <a:pt x="56" y="85"/>
                    </a:moveTo>
                    <a:lnTo>
                      <a:pt x="56" y="1889"/>
                    </a:lnTo>
                    <a:lnTo>
                      <a:pt x="0" y="1889"/>
                    </a:lnTo>
                    <a:lnTo>
                      <a:pt x="0" y="0"/>
                    </a:lnTo>
                    <a:lnTo>
                      <a:pt x="7" y="11"/>
                    </a:lnTo>
                    <a:lnTo>
                      <a:pt x="15" y="20"/>
                    </a:lnTo>
                    <a:lnTo>
                      <a:pt x="21" y="31"/>
                    </a:lnTo>
                    <a:lnTo>
                      <a:pt x="29" y="42"/>
                    </a:lnTo>
                    <a:lnTo>
                      <a:pt x="35" y="53"/>
                    </a:lnTo>
                    <a:lnTo>
                      <a:pt x="43" y="63"/>
                    </a:lnTo>
                    <a:lnTo>
                      <a:pt x="50" y="74"/>
                    </a:lnTo>
                    <a:lnTo>
                      <a:pt x="56" y="85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03960" y="2617560"/>
                <a:ext cx="23760" cy="765360"/>
              </a:xfrm>
              <a:custGeom>
                <a:avLst/>
                <a:gdLst/>
                <a:ahLst/>
                <a:rect l="l" t="t" r="r" b="b"/>
                <a:pathLst>
                  <a:path w="57" h="1927">
                    <a:moveTo>
                      <a:pt x="57" y="79"/>
                    </a:moveTo>
                    <a:lnTo>
                      <a:pt x="57" y="1927"/>
                    </a:lnTo>
                    <a:lnTo>
                      <a:pt x="0" y="1927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9"/>
                    </a:lnTo>
                    <a:lnTo>
                      <a:pt x="30" y="39"/>
                    </a:lnTo>
                    <a:lnTo>
                      <a:pt x="36" y="49"/>
                    </a:lnTo>
                    <a:lnTo>
                      <a:pt x="43" y="58"/>
                    </a:lnTo>
                    <a:lnTo>
                      <a:pt x="50" y="68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392800" y="2604960"/>
                <a:ext cx="23760" cy="777960"/>
              </a:xfrm>
              <a:custGeom>
                <a:avLst/>
                <a:gdLst/>
                <a:ahLst/>
                <a:rect l="l" t="t" r="r" b="b"/>
                <a:pathLst>
                  <a:path w="57" h="1962">
                    <a:moveTo>
                      <a:pt x="57" y="73"/>
                    </a:moveTo>
                    <a:lnTo>
                      <a:pt x="57" y="1962"/>
                    </a:lnTo>
                    <a:lnTo>
                      <a:pt x="0" y="196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9"/>
                    </a:lnTo>
                    <a:lnTo>
                      <a:pt x="22" y="27"/>
                    </a:lnTo>
                    <a:lnTo>
                      <a:pt x="29" y="36"/>
                    </a:lnTo>
                    <a:lnTo>
                      <a:pt x="36" y="46"/>
                    </a:lnTo>
                    <a:lnTo>
                      <a:pt x="43" y="54"/>
                    </a:lnTo>
                    <a:lnTo>
                      <a:pt x="49" y="63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81640" y="2592360"/>
                <a:ext cx="22320" cy="790560"/>
              </a:xfrm>
              <a:custGeom>
                <a:avLst/>
                <a:gdLst/>
                <a:ahLst/>
                <a:rect l="l" t="t" r="r" b="b"/>
                <a:pathLst>
                  <a:path w="57" h="1993">
                    <a:moveTo>
                      <a:pt x="57" y="66"/>
                    </a:moveTo>
                    <a:lnTo>
                      <a:pt x="57" y="1993"/>
                    </a:lnTo>
                    <a:lnTo>
                      <a:pt x="0" y="1993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6" y="16"/>
                    </a:lnTo>
                    <a:lnTo>
                      <a:pt x="22" y="25"/>
                    </a:lnTo>
                    <a:lnTo>
                      <a:pt x="30" y="32"/>
                    </a:lnTo>
                    <a:lnTo>
                      <a:pt x="36" y="41"/>
                    </a:lnTo>
                    <a:lnTo>
                      <a:pt x="44" y="50"/>
                    </a:lnTo>
                    <a:lnTo>
                      <a:pt x="50" y="57"/>
                    </a:lnTo>
                    <a:lnTo>
                      <a:pt x="57" y="66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70480" y="2579760"/>
                <a:ext cx="22320" cy="803160"/>
              </a:xfrm>
              <a:custGeom>
                <a:avLst/>
                <a:gdLst/>
                <a:ahLst/>
                <a:rect l="l" t="t" r="r" b="b"/>
                <a:pathLst>
                  <a:path w="57" h="2023">
                    <a:moveTo>
                      <a:pt x="57" y="61"/>
                    </a:moveTo>
                    <a:lnTo>
                      <a:pt x="57" y="2023"/>
                    </a:lnTo>
                    <a:lnTo>
                      <a:pt x="0" y="2023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4" y="15"/>
                    </a:lnTo>
                    <a:lnTo>
                      <a:pt x="22" y="23"/>
                    </a:lnTo>
                    <a:lnTo>
                      <a:pt x="30" y="31"/>
                    </a:lnTo>
                    <a:lnTo>
                      <a:pt x="36" y="39"/>
                    </a:lnTo>
                    <a:lnTo>
                      <a:pt x="44" y="46"/>
                    </a:lnTo>
                    <a:lnTo>
                      <a:pt x="50" y="54"/>
                    </a:lnTo>
                    <a:lnTo>
                      <a:pt x="57" y="61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59320" y="2568600"/>
                <a:ext cx="22320" cy="814320"/>
              </a:xfrm>
              <a:custGeom>
                <a:avLst/>
                <a:gdLst/>
                <a:ahLst/>
                <a:rect l="l" t="t" r="r" b="b"/>
                <a:pathLst>
                  <a:path w="56" h="2051">
                    <a:moveTo>
                      <a:pt x="56" y="58"/>
                    </a:moveTo>
                    <a:lnTo>
                      <a:pt x="56" y="2051"/>
                    </a:lnTo>
                    <a:lnTo>
                      <a:pt x="0" y="2051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22" y="21"/>
                    </a:lnTo>
                    <a:lnTo>
                      <a:pt x="28" y="29"/>
                    </a:lnTo>
                    <a:lnTo>
                      <a:pt x="36" y="36"/>
                    </a:lnTo>
                    <a:lnTo>
                      <a:pt x="42" y="43"/>
                    </a:lnTo>
                    <a:lnTo>
                      <a:pt x="50" y="51"/>
                    </a:lnTo>
                    <a:lnTo>
                      <a:pt x="56" y="58"/>
                    </a:lnTo>
                    <a:close/>
                  </a:path>
                </a:pathLst>
              </a:custGeom>
              <a:solidFill>
                <a:srgbClr val="c2a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48160" y="2558880"/>
                <a:ext cx="22320" cy="824040"/>
              </a:xfrm>
              <a:custGeom>
                <a:avLst/>
                <a:gdLst/>
                <a:ahLst/>
                <a:rect l="l" t="t" r="r" b="b"/>
                <a:pathLst>
                  <a:path w="57" h="2077">
                    <a:moveTo>
                      <a:pt x="57" y="54"/>
                    </a:moveTo>
                    <a:lnTo>
                      <a:pt x="57" y="2077"/>
                    </a:lnTo>
                    <a:lnTo>
                      <a:pt x="0" y="2077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4"/>
                    </a:lnTo>
                    <a:lnTo>
                      <a:pt x="23" y="20"/>
                    </a:lnTo>
                    <a:lnTo>
                      <a:pt x="29" y="27"/>
                    </a:lnTo>
                    <a:lnTo>
                      <a:pt x="37" y="33"/>
                    </a:lnTo>
                    <a:lnTo>
                      <a:pt x="43" y="41"/>
                    </a:lnTo>
                    <a:lnTo>
                      <a:pt x="51" y="47"/>
                    </a:lnTo>
                    <a:lnTo>
                      <a:pt x="57" y="54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37000" y="2549520"/>
                <a:ext cx="22320" cy="833400"/>
              </a:xfrm>
              <a:custGeom>
                <a:avLst/>
                <a:gdLst/>
                <a:ahLst/>
                <a:rect l="l" t="t" r="r" b="b"/>
                <a:pathLst>
                  <a:path w="57" h="2101">
                    <a:moveTo>
                      <a:pt x="57" y="50"/>
                    </a:moveTo>
                    <a:lnTo>
                      <a:pt x="57" y="2101"/>
                    </a:lnTo>
                    <a:lnTo>
                      <a:pt x="0" y="2101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15" y="12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31"/>
                    </a:lnTo>
                    <a:lnTo>
                      <a:pt x="43" y="37"/>
                    </a:lnTo>
                    <a:lnTo>
                      <a:pt x="50" y="43"/>
                    </a:lnTo>
                    <a:lnTo>
                      <a:pt x="57" y="5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26200" y="2539800"/>
                <a:ext cx="21960" cy="843120"/>
              </a:xfrm>
              <a:custGeom>
                <a:avLst/>
                <a:gdLst/>
                <a:ahLst/>
                <a:rect l="l" t="t" r="r" b="b"/>
                <a:pathLst>
                  <a:path w="56" h="2125">
                    <a:moveTo>
                      <a:pt x="56" y="48"/>
                    </a:moveTo>
                    <a:lnTo>
                      <a:pt x="56" y="2125"/>
                    </a:lnTo>
                    <a:lnTo>
                      <a:pt x="0" y="2125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14" y="12"/>
                    </a:lnTo>
                    <a:lnTo>
                      <a:pt x="22" y="19"/>
                    </a:lnTo>
                    <a:lnTo>
                      <a:pt x="29" y="24"/>
                    </a:lnTo>
                    <a:lnTo>
                      <a:pt x="36" y="31"/>
                    </a:lnTo>
                    <a:lnTo>
                      <a:pt x="43" y="36"/>
                    </a:lnTo>
                    <a:lnTo>
                      <a:pt x="50" y="42"/>
                    </a:ln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5040" y="2531880"/>
                <a:ext cx="21960" cy="851040"/>
              </a:xfrm>
              <a:custGeom>
                <a:avLst/>
                <a:gdLst/>
                <a:ahLst/>
                <a:rect l="l" t="t" r="r" b="b"/>
                <a:pathLst>
                  <a:path w="56" h="2146">
                    <a:moveTo>
                      <a:pt x="56" y="45"/>
                    </a:moveTo>
                    <a:lnTo>
                      <a:pt x="56" y="2146"/>
                    </a:lnTo>
                    <a:lnTo>
                      <a:pt x="0" y="214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4" y="12"/>
                    </a:lnTo>
                    <a:lnTo>
                      <a:pt x="21" y="17"/>
                    </a:lnTo>
                    <a:lnTo>
                      <a:pt x="28" y="22"/>
                    </a:lnTo>
                    <a:lnTo>
                      <a:pt x="35" y="28"/>
                    </a:lnTo>
                    <a:lnTo>
                      <a:pt x="42" y="33"/>
                    </a:lnTo>
                    <a:lnTo>
                      <a:pt x="50" y="40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03880" y="2523960"/>
                <a:ext cx="22320" cy="858960"/>
              </a:xfrm>
              <a:custGeom>
                <a:avLst/>
                <a:gdLst/>
                <a:ahLst/>
                <a:rect l="l" t="t" r="r" b="b"/>
                <a:pathLst>
                  <a:path w="57" h="2167">
                    <a:moveTo>
                      <a:pt x="57" y="42"/>
                    </a:moveTo>
                    <a:lnTo>
                      <a:pt x="57" y="2167"/>
                    </a:lnTo>
                    <a:lnTo>
                      <a:pt x="0" y="2167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5" y="11"/>
                    </a:lnTo>
                    <a:lnTo>
                      <a:pt x="22" y="16"/>
                    </a:lnTo>
                    <a:lnTo>
                      <a:pt x="29" y="22"/>
                    </a:lnTo>
                    <a:lnTo>
                      <a:pt x="36" y="26"/>
                    </a:lnTo>
                    <a:lnTo>
                      <a:pt x="43" y="32"/>
                    </a:lnTo>
                    <a:lnTo>
                      <a:pt x="50" y="37"/>
                    </a:lnTo>
                    <a:lnTo>
                      <a:pt x="57" y="42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92720" y="2516040"/>
                <a:ext cx="22320" cy="866880"/>
              </a:xfrm>
              <a:custGeom>
                <a:avLst/>
                <a:gdLst/>
                <a:ahLst/>
                <a:rect l="l" t="t" r="r" b="b"/>
                <a:pathLst>
                  <a:path w="57" h="2186">
                    <a:moveTo>
                      <a:pt x="57" y="40"/>
                    </a:moveTo>
                    <a:lnTo>
                      <a:pt x="57" y="2186"/>
                    </a:lnTo>
                    <a:lnTo>
                      <a:pt x="0" y="2186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5" y="9"/>
                    </a:lnTo>
                    <a:lnTo>
                      <a:pt x="21" y="15"/>
                    </a:lnTo>
                    <a:lnTo>
                      <a:pt x="29" y="20"/>
                    </a:lnTo>
                    <a:lnTo>
                      <a:pt x="35" y="25"/>
                    </a:lnTo>
                    <a:lnTo>
                      <a:pt x="43" y="30"/>
                    </a:lnTo>
                    <a:lnTo>
                      <a:pt x="49" y="35"/>
                    </a:lnTo>
                    <a:lnTo>
                      <a:pt x="57" y="40"/>
                    </a:lnTo>
                    <a:close/>
                  </a:path>
                </a:pathLst>
              </a:custGeom>
              <a:solidFill>
                <a:srgbClr val="c2a4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81560" y="2508120"/>
                <a:ext cx="22320" cy="874800"/>
              </a:xfrm>
              <a:custGeom>
                <a:avLst/>
                <a:gdLst/>
                <a:ahLst/>
                <a:rect l="l" t="t" r="r" b="b"/>
                <a:pathLst>
                  <a:path w="57" h="2205">
                    <a:moveTo>
                      <a:pt x="57" y="38"/>
                    </a:moveTo>
                    <a:lnTo>
                      <a:pt x="57" y="2205"/>
                    </a:lnTo>
                    <a:lnTo>
                      <a:pt x="0" y="2205"/>
                    </a:lnTo>
                    <a:lnTo>
                      <a:pt x="0" y="0"/>
                    </a:lnTo>
                    <a:lnTo>
                      <a:pt x="8" y="6"/>
                    </a:lnTo>
                    <a:lnTo>
                      <a:pt x="14" y="10"/>
                    </a:lnTo>
                    <a:lnTo>
                      <a:pt x="22" y="14"/>
                    </a:lnTo>
                    <a:lnTo>
                      <a:pt x="30" y="20"/>
                    </a:lnTo>
                    <a:lnTo>
                      <a:pt x="36" y="24"/>
                    </a:lnTo>
                    <a:lnTo>
                      <a:pt x="44" y="30"/>
                    </a:lnTo>
                    <a:lnTo>
                      <a:pt x="50" y="34"/>
                    </a:lnTo>
                    <a:lnTo>
                      <a:pt x="57" y="38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70400" y="2502000"/>
                <a:ext cx="22320" cy="880920"/>
              </a:xfrm>
              <a:custGeom>
                <a:avLst/>
                <a:gdLst/>
                <a:ahLst/>
                <a:rect l="l" t="t" r="r" b="b"/>
                <a:pathLst>
                  <a:path w="57" h="2222">
                    <a:moveTo>
                      <a:pt x="57" y="36"/>
                    </a:moveTo>
                    <a:lnTo>
                      <a:pt x="57" y="2222"/>
                    </a:lnTo>
                    <a:lnTo>
                      <a:pt x="0" y="2222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9"/>
                    </a:lnTo>
                    <a:lnTo>
                      <a:pt x="22" y="13"/>
                    </a:lnTo>
                    <a:lnTo>
                      <a:pt x="28" y="17"/>
                    </a:lnTo>
                    <a:lnTo>
                      <a:pt x="36" y="23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59240" y="2495520"/>
                <a:ext cx="22320" cy="887400"/>
              </a:xfrm>
              <a:custGeom>
                <a:avLst/>
                <a:gdLst/>
                <a:ahLst/>
                <a:rect l="l" t="t" r="r" b="b"/>
                <a:pathLst>
                  <a:path w="56" h="2238">
                    <a:moveTo>
                      <a:pt x="56" y="33"/>
                    </a:moveTo>
                    <a:lnTo>
                      <a:pt x="56" y="2238"/>
                    </a:lnTo>
                    <a:lnTo>
                      <a:pt x="0" y="2238"/>
                    </a:lnTo>
                    <a:lnTo>
                      <a:pt x="0" y="0"/>
                    </a:lnTo>
                    <a:lnTo>
                      <a:pt x="7" y="4"/>
                    </a:lnTo>
                    <a:lnTo>
                      <a:pt x="14" y="9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6" y="20"/>
                    </a:lnTo>
                    <a:lnTo>
                      <a:pt x="42" y="25"/>
                    </a:lnTo>
                    <a:lnTo>
                      <a:pt x="50" y="29"/>
                    </a:lnTo>
                    <a:lnTo>
                      <a:pt x="56" y="33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46640" y="2489040"/>
                <a:ext cx="23760" cy="893880"/>
              </a:xfrm>
              <a:custGeom>
                <a:avLst/>
                <a:gdLst/>
                <a:ahLst/>
                <a:rect l="l" t="t" r="r" b="b"/>
                <a:pathLst>
                  <a:path w="57" h="2254">
                    <a:moveTo>
                      <a:pt x="57" y="32"/>
                    </a:moveTo>
                    <a:lnTo>
                      <a:pt x="57" y="2254"/>
                    </a:lnTo>
                    <a:lnTo>
                      <a:pt x="0" y="2254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5" y="7"/>
                    </a:lnTo>
                    <a:lnTo>
                      <a:pt x="22" y="12"/>
                    </a:lnTo>
                    <a:lnTo>
                      <a:pt x="29" y="16"/>
                    </a:lnTo>
                    <a:lnTo>
                      <a:pt x="36" y="20"/>
                    </a:lnTo>
                    <a:lnTo>
                      <a:pt x="43" y="23"/>
                    </a:lnTo>
                    <a:lnTo>
                      <a:pt x="50" y="28"/>
                    </a:lnTo>
                    <a:lnTo>
                      <a:pt x="57" y="32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235480" y="2482920"/>
                <a:ext cx="23760" cy="900000"/>
              </a:xfrm>
              <a:custGeom>
                <a:avLst/>
                <a:gdLst/>
                <a:ahLst/>
                <a:rect l="l" t="t" r="r" b="b"/>
                <a:pathLst>
                  <a:path w="57" h="2269">
                    <a:moveTo>
                      <a:pt x="57" y="31"/>
                    </a:moveTo>
                    <a:lnTo>
                      <a:pt x="57" y="2269"/>
                    </a:lnTo>
                    <a:lnTo>
                      <a:pt x="0" y="2269"/>
                    </a:lnTo>
                    <a:lnTo>
                      <a:pt x="0" y="0"/>
                    </a:lnTo>
                    <a:lnTo>
                      <a:pt x="8" y="4"/>
                    </a:lnTo>
                    <a:lnTo>
                      <a:pt x="14" y="7"/>
                    </a:lnTo>
                    <a:lnTo>
                      <a:pt x="22" y="11"/>
                    </a:lnTo>
                    <a:lnTo>
                      <a:pt x="29" y="15"/>
                    </a:lnTo>
                    <a:lnTo>
                      <a:pt x="36" y="19"/>
                    </a:lnTo>
                    <a:lnTo>
                      <a:pt x="43" y="23"/>
                    </a:lnTo>
                    <a:lnTo>
                      <a:pt x="50" y="27"/>
                    </a:lnTo>
                    <a:lnTo>
                      <a:pt x="57" y="31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224320" y="2476440"/>
                <a:ext cx="22320" cy="906480"/>
              </a:xfrm>
              <a:custGeom>
                <a:avLst/>
                <a:gdLst/>
                <a:ahLst/>
                <a:rect l="l" t="t" r="r" b="b"/>
                <a:pathLst>
                  <a:path w="56" h="2283">
                    <a:moveTo>
                      <a:pt x="56" y="29"/>
                    </a:moveTo>
                    <a:lnTo>
                      <a:pt x="56" y="2283"/>
                    </a:lnTo>
                    <a:lnTo>
                      <a:pt x="0" y="228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6"/>
                    </a:lnTo>
                    <a:lnTo>
                      <a:pt x="22" y="10"/>
                    </a:lnTo>
                    <a:lnTo>
                      <a:pt x="28" y="14"/>
                    </a:lnTo>
                    <a:lnTo>
                      <a:pt x="36" y="18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c3a5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213520" y="2471760"/>
                <a:ext cx="21960" cy="911160"/>
              </a:xfrm>
              <a:custGeom>
                <a:avLst/>
                <a:gdLst/>
                <a:ahLst/>
                <a:rect l="l" t="t" r="r" b="b"/>
                <a:pathLst>
                  <a:path w="56" h="2297">
                    <a:moveTo>
                      <a:pt x="56" y="28"/>
                    </a:moveTo>
                    <a:lnTo>
                      <a:pt x="56" y="2297"/>
                    </a:lnTo>
                    <a:lnTo>
                      <a:pt x="0" y="22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7"/>
                    </a:lnTo>
                    <a:lnTo>
                      <a:pt x="21" y="10"/>
                    </a:lnTo>
                    <a:lnTo>
                      <a:pt x="28" y="14"/>
                    </a:lnTo>
                    <a:lnTo>
                      <a:pt x="35" y="17"/>
                    </a:lnTo>
                    <a:lnTo>
                      <a:pt x="42" y="21"/>
                    </a:lnTo>
                    <a:lnTo>
                      <a:pt x="50" y="24"/>
                    </a:lnTo>
                    <a:lnTo>
                      <a:pt x="56" y="28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02360" y="2467080"/>
                <a:ext cx="21960" cy="915840"/>
              </a:xfrm>
              <a:custGeom>
                <a:avLst/>
                <a:gdLst/>
                <a:ahLst/>
                <a:rect l="l" t="t" r="r" b="b"/>
                <a:pathLst>
                  <a:path w="57" h="2310">
                    <a:moveTo>
                      <a:pt x="57" y="27"/>
                    </a:moveTo>
                    <a:lnTo>
                      <a:pt x="57" y="2310"/>
                    </a:lnTo>
                    <a:lnTo>
                      <a:pt x="0" y="231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6" y="16"/>
                    </a:lnTo>
                    <a:lnTo>
                      <a:pt x="43" y="19"/>
                    </a:lnTo>
                    <a:lnTo>
                      <a:pt x="49" y="23"/>
                    </a:lnTo>
                    <a:lnTo>
                      <a:pt x="57" y="27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191200" y="2460600"/>
                <a:ext cx="22320" cy="922320"/>
              </a:xfrm>
              <a:custGeom>
                <a:avLst/>
                <a:gdLst/>
                <a:ahLst/>
                <a:rect l="l" t="t" r="r" b="b"/>
                <a:pathLst>
                  <a:path w="57" h="2323">
                    <a:moveTo>
                      <a:pt x="57" y="26"/>
                    </a:moveTo>
                    <a:lnTo>
                      <a:pt x="57" y="2323"/>
                    </a:lnTo>
                    <a:lnTo>
                      <a:pt x="0" y="2323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5" y="6"/>
                    </a:lnTo>
                    <a:lnTo>
                      <a:pt x="21" y="9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3" y="19"/>
                    </a:lnTo>
                    <a:lnTo>
                      <a:pt x="49" y="22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80040" y="2455920"/>
                <a:ext cx="22320" cy="927000"/>
              </a:xfrm>
              <a:custGeom>
                <a:avLst/>
                <a:gdLst/>
                <a:ahLst/>
                <a:rect l="l" t="t" r="r" b="b"/>
                <a:pathLst>
                  <a:path w="57" h="2335">
                    <a:moveTo>
                      <a:pt x="57" y="25"/>
                    </a:moveTo>
                    <a:lnTo>
                      <a:pt x="57" y="2335"/>
                    </a:lnTo>
                    <a:lnTo>
                      <a:pt x="0" y="2335"/>
                    </a:lnTo>
                    <a:lnTo>
                      <a:pt x="0" y="0"/>
                    </a:lnTo>
                    <a:lnTo>
                      <a:pt x="8" y="3"/>
                    </a:lnTo>
                    <a:lnTo>
                      <a:pt x="14" y="6"/>
                    </a:lnTo>
                    <a:lnTo>
                      <a:pt x="22" y="9"/>
                    </a:lnTo>
                    <a:lnTo>
                      <a:pt x="30" y="12"/>
                    </a:lnTo>
                    <a:lnTo>
                      <a:pt x="36" y="15"/>
                    </a:lnTo>
                    <a:lnTo>
                      <a:pt x="44" y="18"/>
                    </a:lnTo>
                    <a:lnTo>
                      <a:pt x="50" y="21"/>
                    </a:lnTo>
                    <a:lnTo>
                      <a:pt x="57" y="25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8880" y="2452680"/>
                <a:ext cx="22320" cy="930240"/>
              </a:xfrm>
              <a:custGeom>
                <a:avLst/>
                <a:gdLst/>
                <a:ahLst/>
                <a:rect l="l" t="t" r="r" b="b"/>
                <a:pathLst>
                  <a:path w="57" h="2346">
                    <a:moveTo>
                      <a:pt x="57" y="23"/>
                    </a:moveTo>
                    <a:lnTo>
                      <a:pt x="57" y="2346"/>
                    </a:lnTo>
                    <a:lnTo>
                      <a:pt x="0" y="2346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4" y="5"/>
                    </a:lnTo>
                    <a:lnTo>
                      <a:pt x="22" y="9"/>
                    </a:lnTo>
                    <a:lnTo>
                      <a:pt x="28" y="12"/>
                    </a:lnTo>
                    <a:lnTo>
                      <a:pt x="36" y="14"/>
                    </a:lnTo>
                    <a:lnTo>
                      <a:pt x="42" y="17"/>
                    </a:lnTo>
                    <a:lnTo>
                      <a:pt x="50" y="20"/>
                    </a:lnTo>
                    <a:lnTo>
                      <a:pt x="57" y="23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57720" y="2448000"/>
                <a:ext cx="22320" cy="934920"/>
              </a:xfrm>
              <a:custGeom>
                <a:avLst/>
                <a:gdLst/>
                <a:ahLst/>
                <a:rect l="l" t="t" r="r" b="b"/>
                <a:pathLst>
                  <a:path w="56" h="2357">
                    <a:moveTo>
                      <a:pt x="56" y="22"/>
                    </a:moveTo>
                    <a:lnTo>
                      <a:pt x="56" y="2357"/>
                    </a:lnTo>
                    <a:lnTo>
                      <a:pt x="0" y="235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1"/>
                    </a:lnTo>
                    <a:lnTo>
                      <a:pt x="36" y="13"/>
                    </a:lnTo>
                    <a:lnTo>
                      <a:pt x="42" y="16"/>
                    </a:lnTo>
                    <a:lnTo>
                      <a:pt x="50" y="20"/>
                    </a:lnTo>
                    <a:lnTo>
                      <a:pt x="56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6560" y="2442960"/>
                <a:ext cx="22320" cy="939960"/>
              </a:xfrm>
              <a:custGeom>
                <a:avLst/>
                <a:gdLst/>
                <a:ahLst/>
                <a:rect l="l" t="t" r="r" b="b"/>
                <a:pathLst>
                  <a:path w="57" h="2368">
                    <a:moveTo>
                      <a:pt x="57" y="22"/>
                    </a:moveTo>
                    <a:lnTo>
                      <a:pt x="57" y="2368"/>
                    </a:lnTo>
                    <a:lnTo>
                      <a:pt x="0" y="2368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6"/>
                    </a:lnTo>
                    <a:lnTo>
                      <a:pt x="22" y="8"/>
                    </a:lnTo>
                    <a:lnTo>
                      <a:pt x="29" y="11"/>
                    </a:lnTo>
                    <a:lnTo>
                      <a:pt x="36" y="13"/>
                    </a:lnTo>
                    <a:lnTo>
                      <a:pt x="43" y="17"/>
                    </a:lnTo>
                    <a:lnTo>
                      <a:pt x="50" y="19"/>
                    </a:lnTo>
                    <a:lnTo>
                      <a:pt x="57" y="22"/>
                    </a:lnTo>
                    <a:close/>
                  </a:path>
                </a:pathLst>
              </a:custGeom>
              <a:solidFill>
                <a:srgbClr val="c3a5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33960" y="2440080"/>
                <a:ext cx="23760" cy="942840"/>
              </a:xfrm>
              <a:custGeom>
                <a:avLst/>
                <a:gdLst/>
                <a:ahLst/>
                <a:rect l="l" t="t" r="r" b="b"/>
                <a:pathLst>
                  <a:path w="57" h="2377">
                    <a:moveTo>
                      <a:pt x="57" y="20"/>
                    </a:moveTo>
                    <a:lnTo>
                      <a:pt x="57" y="2377"/>
                    </a:lnTo>
                    <a:lnTo>
                      <a:pt x="0" y="2377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9" y="9"/>
                    </a:lnTo>
                    <a:lnTo>
                      <a:pt x="36" y="11"/>
                    </a:lnTo>
                    <a:lnTo>
                      <a:pt x="43" y="15"/>
                    </a:lnTo>
                    <a:lnTo>
                      <a:pt x="50" y="17"/>
                    </a:lnTo>
                    <a:lnTo>
                      <a:pt x="57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22800" y="2435040"/>
                <a:ext cx="23760" cy="947880"/>
              </a:xfrm>
              <a:custGeom>
                <a:avLst/>
                <a:gdLst/>
                <a:ahLst/>
                <a:rect l="l" t="t" r="r" b="b"/>
                <a:pathLst>
                  <a:path w="56" h="2387">
                    <a:moveTo>
                      <a:pt x="56" y="19"/>
                    </a:moveTo>
                    <a:lnTo>
                      <a:pt x="56" y="2387"/>
                    </a:lnTo>
                    <a:lnTo>
                      <a:pt x="0" y="238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2"/>
                    </a:lnTo>
                    <a:lnTo>
                      <a:pt x="42" y="14"/>
                    </a:lnTo>
                    <a:lnTo>
                      <a:pt x="50" y="17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111640" y="2432160"/>
                <a:ext cx="22320" cy="950760"/>
              </a:xfrm>
              <a:custGeom>
                <a:avLst/>
                <a:gdLst/>
                <a:ahLst/>
                <a:rect l="l" t="t" r="r" b="b"/>
                <a:pathLst>
                  <a:path w="56" h="2397">
                    <a:moveTo>
                      <a:pt x="56" y="20"/>
                    </a:moveTo>
                    <a:lnTo>
                      <a:pt x="56" y="2397"/>
                    </a:lnTo>
                    <a:lnTo>
                      <a:pt x="0" y="239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8" y="10"/>
                    </a:lnTo>
                    <a:lnTo>
                      <a:pt x="35" y="12"/>
                    </a:lnTo>
                    <a:lnTo>
                      <a:pt x="42" y="14"/>
                    </a:lnTo>
                    <a:lnTo>
                      <a:pt x="50" y="16"/>
                    </a:lnTo>
                    <a:lnTo>
                      <a:pt x="56" y="20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00480" y="2428920"/>
                <a:ext cx="22320" cy="954000"/>
              </a:xfrm>
              <a:custGeom>
                <a:avLst/>
                <a:gdLst/>
                <a:ahLst/>
                <a:rect l="l" t="t" r="r" b="b"/>
                <a:pathLst>
                  <a:path w="57" h="2405">
                    <a:moveTo>
                      <a:pt x="57" y="18"/>
                    </a:moveTo>
                    <a:lnTo>
                      <a:pt x="57" y="2405"/>
                    </a:lnTo>
                    <a:lnTo>
                      <a:pt x="0" y="2405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9" y="8"/>
                    </a:lnTo>
                    <a:lnTo>
                      <a:pt x="35" y="10"/>
                    </a:lnTo>
                    <a:lnTo>
                      <a:pt x="43" y="14"/>
                    </a:lnTo>
                    <a:lnTo>
                      <a:pt x="49" y="16"/>
                    </a:lnTo>
                    <a:lnTo>
                      <a:pt x="57" y="18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89680" y="2425680"/>
                <a:ext cx="21960" cy="957240"/>
              </a:xfrm>
              <a:custGeom>
                <a:avLst/>
                <a:gdLst/>
                <a:ahLst/>
                <a:rect l="l" t="t" r="r" b="b"/>
                <a:pathLst>
                  <a:path w="57" h="2414">
                    <a:moveTo>
                      <a:pt x="57" y="17"/>
                    </a:moveTo>
                    <a:lnTo>
                      <a:pt x="57" y="2414"/>
                    </a:lnTo>
                    <a:lnTo>
                      <a:pt x="0" y="24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6"/>
                    </a:lnTo>
                    <a:lnTo>
                      <a:pt x="29" y="9"/>
                    </a:lnTo>
                    <a:lnTo>
                      <a:pt x="35" y="11"/>
                    </a:lnTo>
                    <a:lnTo>
                      <a:pt x="43" y="13"/>
                    </a:lnTo>
                    <a:lnTo>
                      <a:pt x="49" y="15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78520" y="2422440"/>
                <a:ext cx="21960" cy="960480"/>
              </a:xfrm>
              <a:custGeom>
                <a:avLst/>
                <a:gdLst/>
                <a:ahLst/>
                <a:rect l="l" t="t" r="r" b="b"/>
                <a:pathLst>
                  <a:path w="57" h="2422">
                    <a:moveTo>
                      <a:pt x="57" y="17"/>
                    </a:moveTo>
                    <a:lnTo>
                      <a:pt x="57" y="2422"/>
                    </a:lnTo>
                    <a:lnTo>
                      <a:pt x="0" y="2422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5"/>
                    </a:lnTo>
                    <a:lnTo>
                      <a:pt x="22" y="7"/>
                    </a:lnTo>
                    <a:lnTo>
                      <a:pt x="29" y="8"/>
                    </a:lnTo>
                    <a:lnTo>
                      <a:pt x="36" y="10"/>
                    </a:lnTo>
                    <a:lnTo>
                      <a:pt x="43" y="12"/>
                    </a:lnTo>
                    <a:lnTo>
                      <a:pt x="50" y="14"/>
                    </a:lnTo>
                    <a:lnTo>
                      <a:pt x="57" y="17"/>
                    </a:lnTo>
                    <a:close/>
                  </a:path>
                </a:pathLst>
              </a:custGeom>
              <a:solidFill>
                <a:srgbClr val="c6a6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67360" y="2419200"/>
                <a:ext cx="22320" cy="963720"/>
              </a:xfrm>
              <a:custGeom>
                <a:avLst/>
                <a:gdLst/>
                <a:ahLst/>
                <a:rect l="l" t="t" r="r" b="b"/>
                <a:pathLst>
                  <a:path w="57" h="2429">
                    <a:moveTo>
                      <a:pt x="57" y="15"/>
                    </a:moveTo>
                    <a:lnTo>
                      <a:pt x="57" y="2429"/>
                    </a:lnTo>
                    <a:lnTo>
                      <a:pt x="0" y="2429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8" y="7"/>
                    </a:lnTo>
                    <a:lnTo>
                      <a:pt x="36" y="9"/>
                    </a:lnTo>
                    <a:lnTo>
                      <a:pt x="42" y="12"/>
                    </a:lnTo>
                    <a:lnTo>
                      <a:pt x="50" y="14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56200" y="2415960"/>
                <a:ext cx="22320" cy="966960"/>
              </a:xfrm>
              <a:custGeom>
                <a:avLst/>
                <a:gdLst/>
                <a:ahLst/>
                <a:rect l="l" t="t" r="r" b="b"/>
                <a:pathLst>
                  <a:path w="56" h="2437">
                    <a:moveTo>
                      <a:pt x="56" y="15"/>
                    </a:moveTo>
                    <a:lnTo>
                      <a:pt x="56" y="2437"/>
                    </a:lnTo>
                    <a:lnTo>
                      <a:pt x="0" y="2437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1" y="6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2" y="11"/>
                    </a:lnTo>
                    <a:lnTo>
                      <a:pt x="50" y="13"/>
                    </a:lnTo>
                    <a:lnTo>
                      <a:pt x="56" y="15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45040" y="2413080"/>
                <a:ext cx="22320" cy="1950840"/>
              </a:xfrm>
              <a:custGeom>
                <a:avLst/>
                <a:gdLst/>
                <a:ahLst/>
                <a:rect l="l" t="t" r="r" b="b"/>
                <a:pathLst>
                  <a:path w="57" h="4916">
                    <a:moveTo>
                      <a:pt x="57" y="15"/>
                    </a:moveTo>
                    <a:lnTo>
                      <a:pt x="57" y="2444"/>
                    </a:lnTo>
                    <a:lnTo>
                      <a:pt x="0" y="244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4"/>
                    </a:lnTo>
                    <a:lnTo>
                      <a:pt x="22" y="5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0"/>
                    </a:lnTo>
                    <a:lnTo>
                      <a:pt x="50" y="13"/>
                    </a:lnTo>
                    <a:lnTo>
                      <a:pt x="57" y="15"/>
                    </a:lnTo>
                    <a:close/>
                    <a:moveTo>
                      <a:pt x="0" y="4916"/>
                    </a:moveTo>
                    <a:lnTo>
                      <a:pt x="0" y="3270"/>
                    </a:lnTo>
                    <a:lnTo>
                      <a:pt x="17" y="3270"/>
                    </a:lnTo>
                    <a:lnTo>
                      <a:pt x="17" y="4914"/>
                    </a:lnTo>
                    <a:lnTo>
                      <a:pt x="13" y="4914"/>
                    </a:lnTo>
                    <a:lnTo>
                      <a:pt x="17" y="4914"/>
                    </a:lnTo>
                    <a:lnTo>
                      <a:pt x="15" y="4914"/>
                    </a:lnTo>
                    <a:lnTo>
                      <a:pt x="13" y="4914"/>
                    </a:lnTo>
                    <a:lnTo>
                      <a:pt x="11" y="4914"/>
                    </a:lnTo>
                    <a:lnTo>
                      <a:pt x="9" y="4915"/>
                    </a:lnTo>
                    <a:lnTo>
                      <a:pt x="7" y="4915"/>
                    </a:lnTo>
                    <a:lnTo>
                      <a:pt x="4" y="4915"/>
                    </a:lnTo>
                    <a:lnTo>
                      <a:pt x="2" y="4915"/>
                    </a:lnTo>
                    <a:lnTo>
                      <a:pt x="0" y="491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3880" y="2411280"/>
                <a:ext cx="22320" cy="1954440"/>
              </a:xfrm>
              <a:custGeom>
                <a:avLst/>
                <a:gdLst/>
                <a:ahLst/>
                <a:rect l="l" t="t" r="r" b="b"/>
                <a:pathLst>
                  <a:path w="57" h="4926">
                    <a:moveTo>
                      <a:pt x="57" y="14"/>
                    </a:moveTo>
                    <a:lnTo>
                      <a:pt x="57" y="2451"/>
                    </a:lnTo>
                    <a:lnTo>
                      <a:pt x="0" y="245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3" y="11"/>
                    </a:lnTo>
                    <a:lnTo>
                      <a:pt x="50" y="12"/>
                    </a:lnTo>
                    <a:lnTo>
                      <a:pt x="57" y="14"/>
                    </a:lnTo>
                    <a:close/>
                    <a:moveTo>
                      <a:pt x="0" y="4926"/>
                    </a:moveTo>
                    <a:lnTo>
                      <a:pt x="0" y="3277"/>
                    </a:lnTo>
                    <a:lnTo>
                      <a:pt x="45" y="3277"/>
                    </a:lnTo>
                    <a:lnTo>
                      <a:pt x="45" y="4921"/>
                    </a:lnTo>
                    <a:lnTo>
                      <a:pt x="41" y="4921"/>
                    </a:lnTo>
                    <a:lnTo>
                      <a:pt x="45" y="4921"/>
                    </a:lnTo>
                    <a:lnTo>
                      <a:pt x="40" y="4921"/>
                    </a:lnTo>
                    <a:lnTo>
                      <a:pt x="35" y="4922"/>
                    </a:lnTo>
                    <a:lnTo>
                      <a:pt x="28" y="4923"/>
                    </a:lnTo>
                    <a:lnTo>
                      <a:pt x="23" y="4923"/>
                    </a:lnTo>
                    <a:lnTo>
                      <a:pt x="17" y="4924"/>
                    </a:lnTo>
                    <a:lnTo>
                      <a:pt x="12" y="4925"/>
                    </a:lnTo>
                    <a:lnTo>
                      <a:pt x="5" y="4925"/>
                    </a:lnTo>
                    <a:lnTo>
                      <a:pt x="0" y="4926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22720" y="240804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5">
                    <a:moveTo>
                      <a:pt x="56" y="13"/>
                    </a:moveTo>
                    <a:lnTo>
                      <a:pt x="56" y="2457"/>
                    </a:lnTo>
                    <a:lnTo>
                      <a:pt x="0" y="245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1" y="5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2" y="9"/>
                    </a:lnTo>
                    <a:lnTo>
                      <a:pt x="50" y="12"/>
                    </a:lnTo>
                    <a:lnTo>
                      <a:pt x="56" y="13"/>
                    </a:lnTo>
                    <a:close/>
                    <a:moveTo>
                      <a:pt x="56" y="3283"/>
                    </a:moveTo>
                    <a:lnTo>
                      <a:pt x="56" y="4929"/>
                    </a:lnTo>
                    <a:lnTo>
                      <a:pt x="50" y="4930"/>
                    </a:lnTo>
                    <a:lnTo>
                      <a:pt x="42" y="4930"/>
                    </a:lnTo>
                    <a:lnTo>
                      <a:pt x="36" y="4931"/>
                    </a:lnTo>
                    <a:lnTo>
                      <a:pt x="28" y="4932"/>
                    </a:lnTo>
                    <a:lnTo>
                      <a:pt x="21" y="4933"/>
                    </a:lnTo>
                    <a:lnTo>
                      <a:pt x="14" y="4934"/>
                    </a:lnTo>
                    <a:lnTo>
                      <a:pt x="6" y="4935"/>
                    </a:lnTo>
                    <a:lnTo>
                      <a:pt x="0" y="4935"/>
                    </a:lnTo>
                    <a:lnTo>
                      <a:pt x="0" y="3283"/>
                    </a:lnTo>
                    <a:lnTo>
                      <a:pt x="56" y="3283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011560" y="2405160"/>
                <a:ext cx="22320" cy="1963440"/>
              </a:xfrm>
              <a:custGeom>
                <a:avLst/>
                <a:gdLst/>
                <a:ahLst/>
                <a:rect l="l" t="t" r="r" b="b"/>
                <a:pathLst>
                  <a:path w="56" h="4947">
                    <a:moveTo>
                      <a:pt x="56" y="13"/>
                    </a:moveTo>
                    <a:lnTo>
                      <a:pt x="56" y="2464"/>
                    </a:lnTo>
                    <a:lnTo>
                      <a:pt x="0" y="246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3"/>
                    </a:lnTo>
                    <a:lnTo>
                      <a:pt x="20" y="6"/>
                    </a:lnTo>
                    <a:lnTo>
                      <a:pt x="28" y="7"/>
                    </a:lnTo>
                    <a:lnTo>
                      <a:pt x="35" y="9"/>
                    </a:lnTo>
                    <a:lnTo>
                      <a:pt x="42" y="10"/>
                    </a:lnTo>
                    <a:lnTo>
                      <a:pt x="49" y="12"/>
                    </a:lnTo>
                    <a:lnTo>
                      <a:pt x="56" y="13"/>
                    </a:lnTo>
                    <a:close/>
                    <a:moveTo>
                      <a:pt x="56" y="3290"/>
                    </a:moveTo>
                    <a:lnTo>
                      <a:pt x="56" y="4939"/>
                    </a:lnTo>
                    <a:lnTo>
                      <a:pt x="49" y="4940"/>
                    </a:lnTo>
                    <a:lnTo>
                      <a:pt x="42" y="4941"/>
                    </a:lnTo>
                    <a:lnTo>
                      <a:pt x="34" y="4942"/>
                    </a:lnTo>
                    <a:lnTo>
                      <a:pt x="28" y="4942"/>
                    </a:lnTo>
                    <a:lnTo>
                      <a:pt x="20" y="4943"/>
                    </a:lnTo>
                    <a:lnTo>
                      <a:pt x="14" y="4944"/>
                    </a:lnTo>
                    <a:lnTo>
                      <a:pt x="6" y="4946"/>
                    </a:lnTo>
                    <a:lnTo>
                      <a:pt x="0" y="4947"/>
                    </a:lnTo>
                    <a:lnTo>
                      <a:pt x="0" y="3290"/>
                    </a:lnTo>
                    <a:lnTo>
                      <a:pt x="56" y="3290"/>
                    </a:lnTo>
                    <a:close/>
                  </a:path>
                </a:pathLst>
              </a:custGeom>
              <a:solidFill>
                <a:srgbClr val="c6a6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998960" y="2403360"/>
                <a:ext cx="23760" cy="1967040"/>
              </a:xfrm>
              <a:custGeom>
                <a:avLst/>
                <a:gdLst/>
                <a:ahLst/>
                <a:rect l="l" t="t" r="r" b="b"/>
                <a:pathLst>
                  <a:path w="57" h="4955">
                    <a:moveTo>
                      <a:pt x="57" y="12"/>
                    </a:moveTo>
                    <a:lnTo>
                      <a:pt x="57" y="2469"/>
                    </a:lnTo>
                    <a:lnTo>
                      <a:pt x="0" y="246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3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1"/>
                    </a:lnTo>
                    <a:lnTo>
                      <a:pt x="57" y="12"/>
                    </a:lnTo>
                    <a:close/>
                    <a:moveTo>
                      <a:pt x="57" y="3295"/>
                    </a:moveTo>
                    <a:lnTo>
                      <a:pt x="57" y="4947"/>
                    </a:lnTo>
                    <a:lnTo>
                      <a:pt x="49" y="4948"/>
                    </a:lnTo>
                    <a:lnTo>
                      <a:pt x="43" y="4949"/>
                    </a:lnTo>
                    <a:lnTo>
                      <a:pt x="35" y="4951"/>
                    </a:lnTo>
                    <a:lnTo>
                      <a:pt x="29" y="4952"/>
                    </a:lnTo>
                    <a:lnTo>
                      <a:pt x="21" y="4953"/>
                    </a:lnTo>
                    <a:lnTo>
                      <a:pt x="15" y="4953"/>
                    </a:lnTo>
                    <a:lnTo>
                      <a:pt x="7" y="4954"/>
                    </a:lnTo>
                    <a:lnTo>
                      <a:pt x="0" y="4955"/>
                    </a:lnTo>
                    <a:lnTo>
                      <a:pt x="0" y="3295"/>
                    </a:lnTo>
                    <a:lnTo>
                      <a:pt x="57" y="3295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87800" y="2401920"/>
                <a:ext cx="23760" cy="1969920"/>
              </a:xfrm>
              <a:custGeom>
                <a:avLst/>
                <a:gdLst/>
                <a:ahLst/>
                <a:rect l="l" t="t" r="r" b="b"/>
                <a:pathLst>
                  <a:path w="57" h="4964">
                    <a:moveTo>
                      <a:pt x="57" y="11"/>
                    </a:moveTo>
                    <a:lnTo>
                      <a:pt x="57" y="2475"/>
                    </a:lnTo>
                    <a:lnTo>
                      <a:pt x="0" y="247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5" y="7"/>
                    </a:lnTo>
                    <a:lnTo>
                      <a:pt x="43" y="8"/>
                    </a:lnTo>
                    <a:lnTo>
                      <a:pt x="49" y="10"/>
                    </a:lnTo>
                    <a:lnTo>
                      <a:pt x="57" y="11"/>
                    </a:lnTo>
                    <a:close/>
                    <a:moveTo>
                      <a:pt x="57" y="3301"/>
                    </a:moveTo>
                    <a:lnTo>
                      <a:pt x="57" y="4958"/>
                    </a:lnTo>
                    <a:lnTo>
                      <a:pt x="49" y="4959"/>
                    </a:lnTo>
                    <a:lnTo>
                      <a:pt x="43" y="4959"/>
                    </a:lnTo>
                    <a:lnTo>
                      <a:pt x="35" y="4960"/>
                    </a:lnTo>
                    <a:lnTo>
                      <a:pt x="28" y="4961"/>
                    </a:lnTo>
                    <a:lnTo>
                      <a:pt x="21" y="4962"/>
                    </a:lnTo>
                    <a:lnTo>
                      <a:pt x="14" y="4963"/>
                    </a:lnTo>
                    <a:lnTo>
                      <a:pt x="7" y="4963"/>
                    </a:lnTo>
                    <a:lnTo>
                      <a:pt x="0" y="4964"/>
                    </a:lnTo>
                    <a:lnTo>
                      <a:pt x="0" y="3301"/>
                    </a:lnTo>
                    <a:lnTo>
                      <a:pt x="57" y="330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76640" y="2398680"/>
                <a:ext cx="22320" cy="1973160"/>
              </a:xfrm>
              <a:custGeom>
                <a:avLst/>
                <a:gdLst/>
                <a:ahLst/>
                <a:rect l="l" t="t" r="r" b="b"/>
                <a:pathLst>
                  <a:path w="57" h="4973">
                    <a:moveTo>
                      <a:pt x="57" y="12"/>
                    </a:moveTo>
                    <a:lnTo>
                      <a:pt x="57" y="2481"/>
                    </a:lnTo>
                    <a:lnTo>
                      <a:pt x="0" y="248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0" y="10"/>
                    </a:lnTo>
                    <a:lnTo>
                      <a:pt x="57" y="12"/>
                    </a:lnTo>
                    <a:close/>
                    <a:moveTo>
                      <a:pt x="57" y="3307"/>
                    </a:moveTo>
                    <a:lnTo>
                      <a:pt x="57" y="4967"/>
                    </a:lnTo>
                    <a:lnTo>
                      <a:pt x="50" y="4968"/>
                    </a:lnTo>
                    <a:lnTo>
                      <a:pt x="43" y="4969"/>
                    </a:lnTo>
                    <a:lnTo>
                      <a:pt x="36" y="4969"/>
                    </a:lnTo>
                    <a:lnTo>
                      <a:pt x="29" y="4970"/>
                    </a:lnTo>
                    <a:lnTo>
                      <a:pt x="22" y="4971"/>
                    </a:lnTo>
                    <a:lnTo>
                      <a:pt x="14" y="4972"/>
                    </a:lnTo>
                    <a:lnTo>
                      <a:pt x="8" y="4973"/>
                    </a:lnTo>
                    <a:lnTo>
                      <a:pt x="0" y="4973"/>
                    </a:lnTo>
                    <a:lnTo>
                      <a:pt x="0" y="3307"/>
                    </a:lnTo>
                    <a:lnTo>
                      <a:pt x="57" y="330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65840" y="2397240"/>
                <a:ext cx="21960" cy="1976400"/>
              </a:xfrm>
              <a:custGeom>
                <a:avLst/>
                <a:gdLst/>
                <a:ahLst/>
                <a:rect l="l" t="t" r="r" b="b"/>
                <a:pathLst>
                  <a:path w="57" h="4982">
                    <a:moveTo>
                      <a:pt x="57" y="10"/>
                    </a:moveTo>
                    <a:lnTo>
                      <a:pt x="57" y="2485"/>
                    </a:lnTo>
                    <a:lnTo>
                      <a:pt x="0" y="2485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5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10"/>
                    </a:lnTo>
                    <a:close/>
                    <a:moveTo>
                      <a:pt x="57" y="3311"/>
                    </a:moveTo>
                    <a:lnTo>
                      <a:pt x="57" y="4974"/>
                    </a:lnTo>
                    <a:lnTo>
                      <a:pt x="50" y="4975"/>
                    </a:lnTo>
                    <a:lnTo>
                      <a:pt x="42" y="4976"/>
                    </a:lnTo>
                    <a:lnTo>
                      <a:pt x="36" y="4977"/>
                    </a:lnTo>
                    <a:lnTo>
                      <a:pt x="28" y="4977"/>
                    </a:lnTo>
                    <a:lnTo>
                      <a:pt x="21" y="4978"/>
                    </a:lnTo>
                    <a:lnTo>
                      <a:pt x="14" y="4979"/>
                    </a:lnTo>
                    <a:lnTo>
                      <a:pt x="7" y="4981"/>
                    </a:lnTo>
                    <a:lnTo>
                      <a:pt x="0" y="4982"/>
                    </a:lnTo>
                    <a:lnTo>
                      <a:pt x="0" y="3311"/>
                    </a:lnTo>
                    <a:lnTo>
                      <a:pt x="57" y="3311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2395440"/>
                <a:ext cx="21960" cy="1979640"/>
              </a:xfrm>
              <a:custGeom>
                <a:avLst/>
                <a:gdLst/>
                <a:ahLst/>
                <a:rect l="l" t="t" r="r" b="b"/>
                <a:pathLst>
                  <a:path w="56" h="4991">
                    <a:moveTo>
                      <a:pt x="56" y="10"/>
                    </a:moveTo>
                    <a:lnTo>
                      <a:pt x="56" y="2491"/>
                    </a:lnTo>
                    <a:lnTo>
                      <a:pt x="0" y="2491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42" y="8"/>
                    </a:lnTo>
                    <a:lnTo>
                      <a:pt x="50" y="9"/>
                    </a:lnTo>
                    <a:lnTo>
                      <a:pt x="56" y="10"/>
                    </a:lnTo>
                    <a:close/>
                    <a:moveTo>
                      <a:pt x="56" y="3317"/>
                    </a:moveTo>
                    <a:lnTo>
                      <a:pt x="56" y="4983"/>
                    </a:lnTo>
                    <a:lnTo>
                      <a:pt x="49" y="4984"/>
                    </a:lnTo>
                    <a:lnTo>
                      <a:pt x="42" y="4985"/>
                    </a:lnTo>
                    <a:lnTo>
                      <a:pt x="35" y="4987"/>
                    </a:lnTo>
                    <a:lnTo>
                      <a:pt x="28" y="4988"/>
                    </a:lnTo>
                    <a:lnTo>
                      <a:pt x="21" y="4988"/>
                    </a:lnTo>
                    <a:lnTo>
                      <a:pt x="14" y="4989"/>
                    </a:lnTo>
                    <a:lnTo>
                      <a:pt x="7" y="4990"/>
                    </a:lnTo>
                    <a:lnTo>
                      <a:pt x="0" y="4991"/>
                    </a:lnTo>
                    <a:lnTo>
                      <a:pt x="0" y="3317"/>
                    </a:lnTo>
                    <a:lnTo>
                      <a:pt x="56" y="331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943520" y="239220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11"/>
                    </a:moveTo>
                    <a:lnTo>
                      <a:pt x="57" y="2496"/>
                    </a:lnTo>
                    <a:lnTo>
                      <a:pt x="0" y="2496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5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7"/>
                    </a:lnTo>
                    <a:lnTo>
                      <a:pt x="50" y="8"/>
                    </a:lnTo>
                    <a:lnTo>
                      <a:pt x="57" y="11"/>
                    </a:lnTo>
                    <a:close/>
                    <a:moveTo>
                      <a:pt x="57" y="3322"/>
                    </a:moveTo>
                    <a:lnTo>
                      <a:pt x="57" y="4993"/>
                    </a:lnTo>
                    <a:lnTo>
                      <a:pt x="50" y="4993"/>
                    </a:lnTo>
                    <a:lnTo>
                      <a:pt x="43" y="4994"/>
                    </a:lnTo>
                    <a:lnTo>
                      <a:pt x="36" y="4995"/>
                    </a:lnTo>
                    <a:lnTo>
                      <a:pt x="29" y="4996"/>
                    </a:lnTo>
                    <a:lnTo>
                      <a:pt x="22" y="4996"/>
                    </a:lnTo>
                    <a:lnTo>
                      <a:pt x="14" y="4997"/>
                    </a:lnTo>
                    <a:lnTo>
                      <a:pt x="8" y="4998"/>
                    </a:lnTo>
                    <a:lnTo>
                      <a:pt x="0" y="4999"/>
                    </a:lnTo>
                    <a:lnTo>
                      <a:pt x="0" y="3322"/>
                    </a:lnTo>
                    <a:lnTo>
                      <a:pt x="57" y="3322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32360" y="2390760"/>
                <a:ext cx="22320" cy="1987560"/>
              </a:xfrm>
              <a:custGeom>
                <a:avLst/>
                <a:gdLst/>
                <a:ahLst/>
                <a:rect l="l" t="t" r="r" b="b"/>
                <a:pathLst>
                  <a:path w="57" h="5007">
                    <a:moveTo>
                      <a:pt x="57" y="10"/>
                    </a:moveTo>
                    <a:lnTo>
                      <a:pt x="57" y="2501"/>
                    </a:lnTo>
                    <a:lnTo>
                      <a:pt x="0" y="2501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8" y="6"/>
                    </a:lnTo>
                    <a:lnTo>
                      <a:pt x="36" y="7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7" y="10"/>
                    </a:lnTo>
                    <a:close/>
                    <a:moveTo>
                      <a:pt x="57" y="3327"/>
                    </a:moveTo>
                    <a:lnTo>
                      <a:pt x="57" y="5001"/>
                    </a:lnTo>
                    <a:lnTo>
                      <a:pt x="50" y="5001"/>
                    </a:lnTo>
                    <a:lnTo>
                      <a:pt x="42" y="5002"/>
                    </a:lnTo>
                    <a:lnTo>
                      <a:pt x="36" y="5003"/>
                    </a:lnTo>
                    <a:lnTo>
                      <a:pt x="28" y="5004"/>
                    </a:lnTo>
                    <a:lnTo>
                      <a:pt x="22" y="5004"/>
                    </a:lnTo>
                    <a:lnTo>
                      <a:pt x="14" y="5005"/>
                    </a:lnTo>
                    <a:lnTo>
                      <a:pt x="8" y="5006"/>
                    </a:lnTo>
                    <a:lnTo>
                      <a:pt x="0" y="5007"/>
                    </a:lnTo>
                    <a:lnTo>
                      <a:pt x="0" y="3327"/>
                    </a:lnTo>
                    <a:lnTo>
                      <a:pt x="57" y="3327"/>
                    </a:lnTo>
                    <a:close/>
                  </a:path>
                </a:pathLst>
              </a:custGeom>
              <a:solidFill>
                <a:srgbClr val="c8a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921200" y="2388960"/>
                <a:ext cx="22320" cy="1989360"/>
              </a:xfrm>
              <a:custGeom>
                <a:avLst/>
                <a:gdLst/>
                <a:ahLst/>
                <a:rect l="l" t="t" r="r" b="b"/>
                <a:pathLst>
                  <a:path w="56" h="5014">
                    <a:moveTo>
                      <a:pt x="56" y="9"/>
                    </a:moveTo>
                    <a:lnTo>
                      <a:pt x="56" y="2505"/>
                    </a:lnTo>
                    <a:lnTo>
                      <a:pt x="0" y="250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6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6" y="9"/>
                    </a:lnTo>
                    <a:close/>
                    <a:moveTo>
                      <a:pt x="56" y="3331"/>
                    </a:moveTo>
                    <a:lnTo>
                      <a:pt x="56" y="5008"/>
                    </a:lnTo>
                    <a:lnTo>
                      <a:pt x="50" y="5008"/>
                    </a:lnTo>
                    <a:lnTo>
                      <a:pt x="42" y="5009"/>
                    </a:lnTo>
                    <a:lnTo>
                      <a:pt x="36" y="5010"/>
                    </a:lnTo>
                    <a:lnTo>
                      <a:pt x="28" y="5011"/>
                    </a:lnTo>
                    <a:lnTo>
                      <a:pt x="21" y="5011"/>
                    </a:lnTo>
                    <a:lnTo>
                      <a:pt x="14" y="5012"/>
                    </a:lnTo>
                    <a:lnTo>
                      <a:pt x="6" y="5014"/>
                    </a:lnTo>
                    <a:lnTo>
                      <a:pt x="0" y="5014"/>
                    </a:lnTo>
                    <a:lnTo>
                      <a:pt x="0" y="3331"/>
                    </a:lnTo>
                    <a:lnTo>
                      <a:pt x="56" y="3331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91004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6" h="5021">
                    <a:moveTo>
                      <a:pt x="56" y="8"/>
                    </a:moveTo>
                    <a:lnTo>
                      <a:pt x="56" y="2509"/>
                    </a:lnTo>
                    <a:lnTo>
                      <a:pt x="0" y="2509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8" y="4"/>
                    </a:lnTo>
                    <a:lnTo>
                      <a:pt x="35" y="5"/>
                    </a:lnTo>
                    <a:lnTo>
                      <a:pt x="42" y="6"/>
                    </a:lnTo>
                    <a:lnTo>
                      <a:pt x="49" y="7"/>
                    </a:lnTo>
                    <a:lnTo>
                      <a:pt x="56" y="8"/>
                    </a:lnTo>
                    <a:close/>
                    <a:moveTo>
                      <a:pt x="56" y="3335"/>
                    </a:moveTo>
                    <a:lnTo>
                      <a:pt x="56" y="5015"/>
                    </a:lnTo>
                    <a:lnTo>
                      <a:pt x="49" y="5015"/>
                    </a:lnTo>
                    <a:lnTo>
                      <a:pt x="42" y="5016"/>
                    </a:lnTo>
                    <a:lnTo>
                      <a:pt x="34" y="5018"/>
                    </a:lnTo>
                    <a:lnTo>
                      <a:pt x="28" y="5018"/>
                    </a:lnTo>
                    <a:lnTo>
                      <a:pt x="20" y="5019"/>
                    </a:lnTo>
                    <a:lnTo>
                      <a:pt x="14" y="5020"/>
                    </a:lnTo>
                    <a:lnTo>
                      <a:pt x="6" y="5020"/>
                    </a:lnTo>
                    <a:lnTo>
                      <a:pt x="0" y="5021"/>
                    </a:lnTo>
                    <a:lnTo>
                      <a:pt x="0" y="3335"/>
                    </a:lnTo>
                    <a:lnTo>
                      <a:pt x="56" y="3335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98880" y="2386080"/>
                <a:ext cx="22320" cy="1995480"/>
              </a:xfrm>
              <a:custGeom>
                <a:avLst/>
                <a:gdLst/>
                <a:ahLst/>
                <a:rect l="l" t="t" r="r" b="b"/>
                <a:pathLst>
                  <a:path w="57" h="5027">
                    <a:moveTo>
                      <a:pt x="57" y="7"/>
                    </a:moveTo>
                    <a:lnTo>
                      <a:pt x="57" y="2512"/>
                    </a:lnTo>
                    <a:lnTo>
                      <a:pt x="0" y="2512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3"/>
                    </a:lnTo>
                    <a:lnTo>
                      <a:pt x="29" y="4"/>
                    </a:lnTo>
                    <a:lnTo>
                      <a:pt x="35" y="5"/>
                    </a:lnTo>
                    <a:lnTo>
                      <a:pt x="43" y="5"/>
                    </a:lnTo>
                    <a:lnTo>
                      <a:pt x="49" y="6"/>
                    </a:lnTo>
                    <a:lnTo>
                      <a:pt x="57" y="7"/>
                    </a:lnTo>
                    <a:close/>
                    <a:moveTo>
                      <a:pt x="57" y="3338"/>
                    </a:moveTo>
                    <a:lnTo>
                      <a:pt x="57" y="5021"/>
                    </a:lnTo>
                    <a:lnTo>
                      <a:pt x="49" y="5022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9" y="5024"/>
                    </a:lnTo>
                    <a:lnTo>
                      <a:pt x="21" y="5025"/>
                    </a:lnTo>
                    <a:lnTo>
                      <a:pt x="15" y="5026"/>
                    </a:lnTo>
                    <a:lnTo>
                      <a:pt x="7" y="5026"/>
                    </a:lnTo>
                    <a:lnTo>
                      <a:pt x="0" y="5027"/>
                    </a:lnTo>
                    <a:lnTo>
                      <a:pt x="0" y="3338"/>
                    </a:lnTo>
                    <a:lnTo>
                      <a:pt x="57" y="3338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888080" y="2384280"/>
                <a:ext cx="21960" cy="1998720"/>
              </a:xfrm>
              <a:custGeom>
                <a:avLst/>
                <a:gdLst/>
                <a:ahLst/>
                <a:rect l="l" t="t" r="r" b="b"/>
                <a:pathLst>
                  <a:path w="57" h="5035">
                    <a:moveTo>
                      <a:pt x="57" y="8"/>
                    </a:moveTo>
                    <a:lnTo>
                      <a:pt x="57" y="2517"/>
                    </a:lnTo>
                    <a:lnTo>
                      <a:pt x="0" y="2517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9" y="5"/>
                    </a:lnTo>
                    <a:lnTo>
                      <a:pt x="35" y="6"/>
                    </a:lnTo>
                    <a:lnTo>
                      <a:pt x="43" y="7"/>
                    </a:lnTo>
                    <a:lnTo>
                      <a:pt x="49" y="8"/>
                    </a:lnTo>
                    <a:lnTo>
                      <a:pt x="57" y="8"/>
                    </a:lnTo>
                    <a:close/>
                    <a:moveTo>
                      <a:pt x="57" y="3343"/>
                    </a:moveTo>
                    <a:lnTo>
                      <a:pt x="57" y="5029"/>
                    </a:lnTo>
                    <a:lnTo>
                      <a:pt x="49" y="5030"/>
                    </a:lnTo>
                    <a:lnTo>
                      <a:pt x="43" y="5031"/>
                    </a:lnTo>
                    <a:lnTo>
                      <a:pt x="35" y="5031"/>
                    </a:lnTo>
                    <a:lnTo>
                      <a:pt x="28" y="5032"/>
                    </a:lnTo>
                    <a:lnTo>
                      <a:pt x="21" y="5033"/>
                    </a:lnTo>
                    <a:lnTo>
                      <a:pt x="14" y="5033"/>
                    </a:lnTo>
                    <a:lnTo>
                      <a:pt x="7" y="5034"/>
                    </a:lnTo>
                    <a:lnTo>
                      <a:pt x="0" y="5035"/>
                    </a:lnTo>
                    <a:lnTo>
                      <a:pt x="0" y="3343"/>
                    </a:lnTo>
                    <a:lnTo>
                      <a:pt x="57" y="3343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876920" y="2382840"/>
                <a:ext cx="21960" cy="2000160"/>
              </a:xfrm>
              <a:custGeom>
                <a:avLst/>
                <a:gdLst/>
                <a:ahLst/>
                <a:rect l="l" t="t" r="r" b="b"/>
                <a:pathLst>
                  <a:path w="57" h="5040">
                    <a:moveTo>
                      <a:pt x="57" y="8"/>
                    </a:moveTo>
                    <a:lnTo>
                      <a:pt x="57" y="2520"/>
                    </a:lnTo>
                    <a:lnTo>
                      <a:pt x="0" y="252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7"/>
                    </a:lnTo>
                    <a:lnTo>
                      <a:pt x="57" y="8"/>
                    </a:lnTo>
                    <a:close/>
                    <a:moveTo>
                      <a:pt x="57" y="3346"/>
                    </a:moveTo>
                    <a:lnTo>
                      <a:pt x="57" y="5035"/>
                    </a:lnTo>
                    <a:lnTo>
                      <a:pt x="50" y="5036"/>
                    </a:lnTo>
                    <a:lnTo>
                      <a:pt x="43" y="5036"/>
                    </a:lnTo>
                    <a:lnTo>
                      <a:pt x="36" y="5037"/>
                    </a:lnTo>
                    <a:lnTo>
                      <a:pt x="29" y="5038"/>
                    </a:lnTo>
                    <a:lnTo>
                      <a:pt x="22" y="5038"/>
                    </a:lnTo>
                    <a:lnTo>
                      <a:pt x="14" y="5039"/>
                    </a:lnTo>
                    <a:lnTo>
                      <a:pt x="7" y="5040"/>
                    </a:lnTo>
                    <a:lnTo>
                      <a:pt x="0" y="5040"/>
                    </a:lnTo>
                    <a:lnTo>
                      <a:pt x="0" y="3346"/>
                    </a:lnTo>
                    <a:lnTo>
                      <a:pt x="57" y="3346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576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7">
                    <a:moveTo>
                      <a:pt x="57" y="6"/>
                    </a:moveTo>
                    <a:lnTo>
                      <a:pt x="57" y="2523"/>
                    </a:lnTo>
                    <a:lnTo>
                      <a:pt x="0" y="252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6"/>
                    </a:lnTo>
                    <a:lnTo>
                      <a:pt x="57" y="6"/>
                    </a:lnTo>
                    <a:close/>
                    <a:moveTo>
                      <a:pt x="57" y="3349"/>
                    </a:moveTo>
                    <a:lnTo>
                      <a:pt x="57" y="5041"/>
                    </a:lnTo>
                    <a:lnTo>
                      <a:pt x="50" y="5041"/>
                    </a:lnTo>
                    <a:lnTo>
                      <a:pt x="42" y="5042"/>
                    </a:lnTo>
                    <a:lnTo>
                      <a:pt x="36" y="5043"/>
                    </a:lnTo>
                    <a:lnTo>
                      <a:pt x="28" y="5043"/>
                    </a:lnTo>
                    <a:lnTo>
                      <a:pt x="21" y="5044"/>
                    </a:lnTo>
                    <a:lnTo>
                      <a:pt x="14" y="5044"/>
                    </a:lnTo>
                    <a:lnTo>
                      <a:pt x="7" y="5046"/>
                    </a:lnTo>
                    <a:lnTo>
                      <a:pt x="0" y="5047"/>
                    </a:lnTo>
                    <a:lnTo>
                      <a:pt x="0" y="3349"/>
                    </a:lnTo>
                    <a:lnTo>
                      <a:pt x="57" y="3349"/>
                    </a:lnTo>
                    <a:close/>
                  </a:path>
                </a:pathLst>
              </a:custGeom>
              <a:solidFill>
                <a:srgbClr val="c8a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853160" y="2381040"/>
                <a:ext cx="23760" cy="2005200"/>
              </a:xfrm>
              <a:custGeom>
                <a:avLst/>
                <a:gdLst/>
                <a:ahLst/>
                <a:rect l="l" t="t" r="r" b="b"/>
                <a:pathLst>
                  <a:path w="57" h="5052">
                    <a:moveTo>
                      <a:pt x="57" y="6"/>
                    </a:moveTo>
                    <a:lnTo>
                      <a:pt x="57" y="2526"/>
                    </a:lnTo>
                    <a:lnTo>
                      <a:pt x="0" y="252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3"/>
                    </a:lnTo>
                    <a:lnTo>
                      <a:pt x="36" y="4"/>
                    </a:lnTo>
                    <a:lnTo>
                      <a:pt x="43" y="5"/>
                    </a:lnTo>
                    <a:lnTo>
                      <a:pt x="50" y="5"/>
                    </a:lnTo>
                    <a:lnTo>
                      <a:pt x="57" y="6"/>
                    </a:lnTo>
                    <a:close/>
                    <a:moveTo>
                      <a:pt x="57" y="3352"/>
                    </a:moveTo>
                    <a:lnTo>
                      <a:pt x="57" y="5046"/>
                    </a:lnTo>
                    <a:lnTo>
                      <a:pt x="50" y="5047"/>
                    </a:lnTo>
                    <a:lnTo>
                      <a:pt x="43" y="5047"/>
                    </a:lnTo>
                    <a:lnTo>
                      <a:pt x="36" y="5049"/>
                    </a:lnTo>
                    <a:lnTo>
                      <a:pt x="29" y="5050"/>
                    </a:lnTo>
                    <a:lnTo>
                      <a:pt x="22" y="5050"/>
                    </a:lnTo>
                    <a:lnTo>
                      <a:pt x="15" y="5051"/>
                    </a:lnTo>
                    <a:lnTo>
                      <a:pt x="8" y="5052"/>
                    </a:lnTo>
                    <a:lnTo>
                      <a:pt x="0" y="5052"/>
                    </a:lnTo>
                    <a:lnTo>
                      <a:pt x="0" y="3352"/>
                    </a:lnTo>
                    <a:lnTo>
                      <a:pt x="57" y="3352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42000" y="2379600"/>
                <a:ext cx="23760" cy="2008080"/>
              </a:xfrm>
              <a:custGeom>
                <a:avLst/>
                <a:gdLst/>
                <a:ahLst/>
                <a:rect l="l" t="t" r="r" b="b"/>
                <a:pathLst>
                  <a:path w="57" h="5059">
                    <a:moveTo>
                      <a:pt x="57" y="7"/>
                    </a:moveTo>
                    <a:lnTo>
                      <a:pt x="57" y="2530"/>
                    </a:lnTo>
                    <a:lnTo>
                      <a:pt x="0" y="253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4"/>
                    </a:lnTo>
                    <a:lnTo>
                      <a:pt x="36" y="5"/>
                    </a:lnTo>
                    <a:lnTo>
                      <a:pt x="43" y="5"/>
                    </a:lnTo>
                    <a:lnTo>
                      <a:pt x="50" y="6"/>
                    </a:lnTo>
                    <a:lnTo>
                      <a:pt x="57" y="7"/>
                    </a:lnTo>
                    <a:close/>
                    <a:moveTo>
                      <a:pt x="57" y="3356"/>
                    </a:moveTo>
                    <a:lnTo>
                      <a:pt x="57" y="5054"/>
                    </a:lnTo>
                    <a:lnTo>
                      <a:pt x="50" y="5054"/>
                    </a:lnTo>
                    <a:lnTo>
                      <a:pt x="43" y="5055"/>
                    </a:lnTo>
                    <a:lnTo>
                      <a:pt x="36" y="5056"/>
                    </a:lnTo>
                    <a:lnTo>
                      <a:pt x="29" y="5056"/>
                    </a:lnTo>
                    <a:lnTo>
                      <a:pt x="22" y="5057"/>
                    </a:lnTo>
                    <a:lnTo>
                      <a:pt x="14" y="5057"/>
                    </a:lnTo>
                    <a:lnTo>
                      <a:pt x="8" y="5058"/>
                    </a:lnTo>
                    <a:lnTo>
                      <a:pt x="0" y="5059"/>
                    </a:lnTo>
                    <a:lnTo>
                      <a:pt x="0" y="3356"/>
                    </a:lnTo>
                    <a:lnTo>
                      <a:pt x="57" y="335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830840" y="2378160"/>
                <a:ext cx="22320" cy="2009520"/>
              </a:xfrm>
              <a:custGeom>
                <a:avLst/>
                <a:gdLst/>
                <a:ahLst/>
                <a:rect l="l" t="t" r="r" b="b"/>
                <a:pathLst>
                  <a:path w="56" h="5064">
                    <a:moveTo>
                      <a:pt x="56" y="7"/>
                    </a:moveTo>
                    <a:lnTo>
                      <a:pt x="56" y="2533"/>
                    </a:lnTo>
                    <a:lnTo>
                      <a:pt x="0" y="2533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2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4"/>
                    </a:lnTo>
                    <a:lnTo>
                      <a:pt x="42" y="5"/>
                    </a:lnTo>
                    <a:lnTo>
                      <a:pt x="50" y="5"/>
                    </a:lnTo>
                    <a:lnTo>
                      <a:pt x="56" y="7"/>
                    </a:lnTo>
                    <a:close/>
                    <a:moveTo>
                      <a:pt x="56" y="3359"/>
                    </a:moveTo>
                    <a:lnTo>
                      <a:pt x="56" y="5059"/>
                    </a:lnTo>
                    <a:lnTo>
                      <a:pt x="50" y="5060"/>
                    </a:lnTo>
                    <a:lnTo>
                      <a:pt x="42" y="5060"/>
                    </a:lnTo>
                    <a:lnTo>
                      <a:pt x="36" y="5061"/>
                    </a:lnTo>
                    <a:lnTo>
                      <a:pt x="28" y="5062"/>
                    </a:lnTo>
                    <a:lnTo>
                      <a:pt x="22" y="5062"/>
                    </a:lnTo>
                    <a:lnTo>
                      <a:pt x="14" y="5063"/>
                    </a:lnTo>
                    <a:lnTo>
                      <a:pt x="8" y="5063"/>
                    </a:lnTo>
                    <a:lnTo>
                      <a:pt x="0" y="5064"/>
                    </a:lnTo>
                    <a:lnTo>
                      <a:pt x="0" y="3359"/>
                    </a:lnTo>
                    <a:lnTo>
                      <a:pt x="56" y="335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81968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68">
                    <a:moveTo>
                      <a:pt x="56" y="5"/>
                    </a:moveTo>
                    <a:lnTo>
                      <a:pt x="56" y="2535"/>
                    </a:lnTo>
                    <a:lnTo>
                      <a:pt x="0" y="2535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2" y="4"/>
                    </a:lnTo>
                    <a:lnTo>
                      <a:pt x="50" y="5"/>
                    </a:lnTo>
                    <a:lnTo>
                      <a:pt x="56" y="5"/>
                    </a:lnTo>
                    <a:close/>
                    <a:moveTo>
                      <a:pt x="56" y="3361"/>
                    </a:moveTo>
                    <a:lnTo>
                      <a:pt x="56" y="5064"/>
                    </a:lnTo>
                    <a:lnTo>
                      <a:pt x="50" y="5064"/>
                    </a:lnTo>
                    <a:lnTo>
                      <a:pt x="42" y="5065"/>
                    </a:lnTo>
                    <a:lnTo>
                      <a:pt x="36" y="5065"/>
                    </a:lnTo>
                    <a:lnTo>
                      <a:pt x="28" y="5066"/>
                    </a:lnTo>
                    <a:lnTo>
                      <a:pt x="20" y="5066"/>
                    </a:lnTo>
                    <a:lnTo>
                      <a:pt x="14" y="5067"/>
                    </a:lnTo>
                    <a:lnTo>
                      <a:pt x="6" y="5068"/>
                    </a:lnTo>
                    <a:lnTo>
                      <a:pt x="0" y="5068"/>
                    </a:lnTo>
                    <a:lnTo>
                      <a:pt x="0" y="3361"/>
                    </a:lnTo>
                    <a:lnTo>
                      <a:pt x="56" y="3361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0852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6" h="5073">
                    <a:moveTo>
                      <a:pt x="56" y="4"/>
                    </a:moveTo>
                    <a:lnTo>
                      <a:pt x="56" y="2537"/>
                    </a:lnTo>
                    <a:lnTo>
                      <a:pt x="0" y="253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3"/>
                    </a:lnTo>
                    <a:lnTo>
                      <a:pt x="49" y="4"/>
                    </a:lnTo>
                    <a:lnTo>
                      <a:pt x="56" y="4"/>
                    </a:lnTo>
                    <a:close/>
                    <a:moveTo>
                      <a:pt x="56" y="3363"/>
                    </a:moveTo>
                    <a:lnTo>
                      <a:pt x="56" y="5068"/>
                    </a:lnTo>
                    <a:lnTo>
                      <a:pt x="48" y="5068"/>
                    </a:lnTo>
                    <a:lnTo>
                      <a:pt x="42" y="5069"/>
                    </a:lnTo>
                    <a:lnTo>
                      <a:pt x="34" y="5070"/>
                    </a:lnTo>
                    <a:lnTo>
                      <a:pt x="28" y="5070"/>
                    </a:lnTo>
                    <a:lnTo>
                      <a:pt x="20" y="5071"/>
                    </a:lnTo>
                    <a:lnTo>
                      <a:pt x="14" y="5071"/>
                    </a:lnTo>
                    <a:lnTo>
                      <a:pt x="6" y="5073"/>
                    </a:lnTo>
                    <a:lnTo>
                      <a:pt x="0" y="5073"/>
                    </a:lnTo>
                    <a:lnTo>
                      <a:pt x="0" y="3363"/>
                    </a:lnTo>
                    <a:lnTo>
                      <a:pt x="56" y="3363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79736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78">
                    <a:moveTo>
                      <a:pt x="57" y="5"/>
                    </a:moveTo>
                    <a:lnTo>
                      <a:pt x="57" y="2540"/>
                    </a:lnTo>
                    <a:lnTo>
                      <a:pt x="0" y="254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2"/>
                    </a:lnTo>
                    <a:lnTo>
                      <a:pt x="21" y="2"/>
                    </a:lnTo>
                    <a:lnTo>
                      <a:pt x="29" y="3"/>
                    </a:lnTo>
                    <a:lnTo>
                      <a:pt x="35" y="3"/>
                    </a:lnTo>
                    <a:lnTo>
                      <a:pt x="43" y="4"/>
                    </a:lnTo>
                    <a:lnTo>
                      <a:pt x="49" y="5"/>
                    </a:lnTo>
                    <a:lnTo>
                      <a:pt x="57" y="5"/>
                    </a:lnTo>
                    <a:close/>
                    <a:moveTo>
                      <a:pt x="57" y="3366"/>
                    </a:moveTo>
                    <a:lnTo>
                      <a:pt x="57" y="5073"/>
                    </a:lnTo>
                    <a:lnTo>
                      <a:pt x="49" y="5074"/>
                    </a:lnTo>
                    <a:lnTo>
                      <a:pt x="43" y="5074"/>
                    </a:lnTo>
                    <a:lnTo>
                      <a:pt x="35" y="5076"/>
                    </a:lnTo>
                    <a:lnTo>
                      <a:pt x="29" y="5076"/>
                    </a:lnTo>
                    <a:lnTo>
                      <a:pt x="21" y="5077"/>
                    </a:lnTo>
                    <a:lnTo>
                      <a:pt x="14" y="5077"/>
                    </a:lnTo>
                    <a:lnTo>
                      <a:pt x="7" y="5078"/>
                    </a:lnTo>
                    <a:lnTo>
                      <a:pt x="0" y="5078"/>
                    </a:lnTo>
                    <a:lnTo>
                      <a:pt x="0" y="3366"/>
                    </a:lnTo>
                    <a:lnTo>
                      <a:pt x="57" y="3366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786200" y="2374920"/>
                <a:ext cx="22320" cy="2016000"/>
              </a:xfrm>
              <a:custGeom>
                <a:avLst/>
                <a:gdLst/>
                <a:ahLst/>
                <a:rect l="l" t="t" r="r" b="b"/>
                <a:pathLst>
                  <a:path w="57" h="5083">
                    <a:moveTo>
                      <a:pt x="57" y="6"/>
                    </a:moveTo>
                    <a:lnTo>
                      <a:pt x="57" y="2543"/>
                    </a:lnTo>
                    <a:lnTo>
                      <a:pt x="0" y="2543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3"/>
                    </a:lnTo>
                    <a:lnTo>
                      <a:pt x="28" y="4"/>
                    </a:lnTo>
                    <a:lnTo>
                      <a:pt x="35" y="4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7" y="6"/>
                    </a:lnTo>
                    <a:close/>
                    <a:moveTo>
                      <a:pt x="57" y="3369"/>
                    </a:moveTo>
                    <a:lnTo>
                      <a:pt x="57" y="5079"/>
                    </a:lnTo>
                    <a:lnTo>
                      <a:pt x="49" y="5080"/>
                    </a:lnTo>
                    <a:lnTo>
                      <a:pt x="42" y="5080"/>
                    </a:lnTo>
                    <a:lnTo>
                      <a:pt x="35" y="5081"/>
                    </a:lnTo>
                    <a:lnTo>
                      <a:pt x="28" y="5081"/>
                    </a:lnTo>
                    <a:lnTo>
                      <a:pt x="21" y="5082"/>
                    </a:lnTo>
                    <a:lnTo>
                      <a:pt x="14" y="5082"/>
                    </a:lnTo>
                    <a:lnTo>
                      <a:pt x="7" y="5083"/>
                    </a:lnTo>
                    <a:lnTo>
                      <a:pt x="0" y="5083"/>
                    </a:lnTo>
                    <a:lnTo>
                      <a:pt x="0" y="3369"/>
                    </a:lnTo>
                    <a:lnTo>
                      <a:pt x="57" y="3369"/>
                    </a:lnTo>
                    <a:close/>
                  </a:path>
                </a:pathLst>
              </a:custGeom>
              <a:solidFill>
                <a:srgbClr val="cba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7504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7">
                    <a:moveTo>
                      <a:pt x="57" y="5"/>
                    </a:moveTo>
                    <a:lnTo>
                      <a:pt x="57" y="2545"/>
                    </a:lnTo>
                    <a:lnTo>
                      <a:pt x="0" y="2545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50" y="5"/>
                    </a:lnTo>
                    <a:lnTo>
                      <a:pt x="57" y="5"/>
                    </a:lnTo>
                    <a:close/>
                    <a:moveTo>
                      <a:pt x="57" y="3371"/>
                    </a:moveTo>
                    <a:lnTo>
                      <a:pt x="57" y="5083"/>
                    </a:lnTo>
                    <a:lnTo>
                      <a:pt x="50" y="5084"/>
                    </a:lnTo>
                    <a:lnTo>
                      <a:pt x="43" y="5084"/>
                    </a:lnTo>
                    <a:lnTo>
                      <a:pt x="36" y="5085"/>
                    </a:lnTo>
                    <a:lnTo>
                      <a:pt x="29" y="5085"/>
                    </a:lnTo>
                    <a:lnTo>
                      <a:pt x="22" y="5086"/>
                    </a:lnTo>
                    <a:lnTo>
                      <a:pt x="14" y="5086"/>
                    </a:lnTo>
                    <a:lnTo>
                      <a:pt x="7" y="5087"/>
                    </a:lnTo>
                    <a:lnTo>
                      <a:pt x="0" y="5087"/>
                    </a:lnTo>
                    <a:lnTo>
                      <a:pt x="0" y="3371"/>
                    </a:lnTo>
                    <a:lnTo>
                      <a:pt x="57" y="3371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764240" y="2373120"/>
                <a:ext cx="21960" cy="2019600"/>
              </a:xfrm>
              <a:custGeom>
                <a:avLst/>
                <a:gdLst/>
                <a:ahLst/>
                <a:rect l="l" t="t" r="r" b="b"/>
                <a:pathLst>
                  <a:path w="57" h="5090">
                    <a:moveTo>
                      <a:pt x="57" y="3"/>
                    </a:moveTo>
                    <a:lnTo>
                      <a:pt x="57" y="2546"/>
                    </a:lnTo>
                    <a:lnTo>
                      <a:pt x="0" y="254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2"/>
                    </a:moveTo>
                    <a:lnTo>
                      <a:pt x="57" y="5086"/>
                    </a:lnTo>
                    <a:lnTo>
                      <a:pt x="50" y="5087"/>
                    </a:lnTo>
                    <a:lnTo>
                      <a:pt x="42" y="5087"/>
                    </a:lnTo>
                    <a:lnTo>
                      <a:pt x="35" y="5088"/>
                    </a:lnTo>
                    <a:lnTo>
                      <a:pt x="28" y="5088"/>
                    </a:lnTo>
                    <a:lnTo>
                      <a:pt x="21" y="5089"/>
                    </a:lnTo>
                    <a:lnTo>
                      <a:pt x="14" y="5089"/>
                    </a:lnTo>
                    <a:lnTo>
                      <a:pt x="7" y="5090"/>
                    </a:lnTo>
                    <a:lnTo>
                      <a:pt x="0" y="5090"/>
                    </a:lnTo>
                    <a:lnTo>
                      <a:pt x="0" y="3372"/>
                    </a:lnTo>
                    <a:lnTo>
                      <a:pt x="57" y="3372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53080" y="2371680"/>
                <a:ext cx="21960" cy="2022480"/>
              </a:xfrm>
              <a:custGeom>
                <a:avLst/>
                <a:gdLst/>
                <a:ahLst/>
                <a:rect l="l" t="t" r="r" b="b"/>
                <a:pathLst>
                  <a:path w="57" h="5094">
                    <a:moveTo>
                      <a:pt x="57" y="3"/>
                    </a:moveTo>
                    <a:lnTo>
                      <a:pt x="57" y="2548"/>
                    </a:lnTo>
                    <a:lnTo>
                      <a:pt x="0" y="254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3"/>
                    </a:lnTo>
                    <a:close/>
                    <a:moveTo>
                      <a:pt x="57" y="3374"/>
                    </a:moveTo>
                    <a:lnTo>
                      <a:pt x="57" y="5090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2"/>
                    </a:lnTo>
                    <a:lnTo>
                      <a:pt x="29" y="5092"/>
                    </a:lnTo>
                    <a:lnTo>
                      <a:pt x="22" y="5092"/>
                    </a:lnTo>
                    <a:lnTo>
                      <a:pt x="15" y="5093"/>
                    </a:lnTo>
                    <a:lnTo>
                      <a:pt x="8" y="5093"/>
                    </a:lnTo>
                    <a:lnTo>
                      <a:pt x="0" y="5094"/>
                    </a:lnTo>
                    <a:lnTo>
                      <a:pt x="0" y="3374"/>
                    </a:lnTo>
                    <a:lnTo>
                      <a:pt x="57" y="3374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4192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7" h="5097">
                    <a:moveTo>
                      <a:pt x="57" y="4"/>
                    </a:moveTo>
                    <a:lnTo>
                      <a:pt x="57" y="2550"/>
                    </a:lnTo>
                    <a:lnTo>
                      <a:pt x="0" y="2550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2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7" y="4"/>
                    </a:lnTo>
                    <a:close/>
                    <a:moveTo>
                      <a:pt x="57" y="3376"/>
                    </a:moveTo>
                    <a:lnTo>
                      <a:pt x="57" y="5094"/>
                    </a:lnTo>
                    <a:lnTo>
                      <a:pt x="50" y="5094"/>
                    </a:lnTo>
                    <a:lnTo>
                      <a:pt x="43" y="5095"/>
                    </a:lnTo>
                    <a:lnTo>
                      <a:pt x="36" y="5095"/>
                    </a:lnTo>
                    <a:lnTo>
                      <a:pt x="28" y="5096"/>
                    </a:lnTo>
                    <a:lnTo>
                      <a:pt x="22" y="5096"/>
                    </a:lnTo>
                    <a:lnTo>
                      <a:pt x="14" y="5097"/>
                    </a:lnTo>
                    <a:lnTo>
                      <a:pt x="8" y="5097"/>
                    </a:lnTo>
                    <a:lnTo>
                      <a:pt x="0" y="5097"/>
                    </a:lnTo>
                    <a:lnTo>
                      <a:pt x="0" y="3376"/>
                    </a:lnTo>
                    <a:lnTo>
                      <a:pt x="57" y="3376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2932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1">
                    <a:moveTo>
                      <a:pt x="56" y="3"/>
                    </a:moveTo>
                    <a:lnTo>
                      <a:pt x="56" y="2551"/>
                    </a:lnTo>
                    <a:lnTo>
                      <a:pt x="0" y="255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3"/>
                    </a:lnTo>
                    <a:close/>
                    <a:moveTo>
                      <a:pt x="56" y="3377"/>
                    </a:moveTo>
                    <a:lnTo>
                      <a:pt x="56" y="5097"/>
                    </a:lnTo>
                    <a:lnTo>
                      <a:pt x="50" y="5097"/>
                    </a:lnTo>
                    <a:lnTo>
                      <a:pt x="42" y="5098"/>
                    </a:lnTo>
                    <a:lnTo>
                      <a:pt x="36" y="5098"/>
                    </a:lnTo>
                    <a:lnTo>
                      <a:pt x="28" y="5098"/>
                    </a:lnTo>
                    <a:lnTo>
                      <a:pt x="22" y="5099"/>
                    </a:lnTo>
                    <a:lnTo>
                      <a:pt x="14" y="5099"/>
                    </a:lnTo>
                    <a:lnTo>
                      <a:pt x="8" y="5101"/>
                    </a:lnTo>
                    <a:lnTo>
                      <a:pt x="0" y="5101"/>
                    </a:lnTo>
                    <a:lnTo>
                      <a:pt x="0" y="3373"/>
                    </a:lnTo>
                    <a:lnTo>
                      <a:pt x="2" y="3377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718160" y="2370240"/>
                <a:ext cx="23760" cy="2025360"/>
              </a:xfrm>
              <a:custGeom>
                <a:avLst/>
                <a:gdLst/>
                <a:ahLst/>
                <a:rect l="l" t="t" r="r" b="b"/>
                <a:pathLst>
                  <a:path w="56" h="5103">
                    <a:moveTo>
                      <a:pt x="56" y="2"/>
                    </a:moveTo>
                    <a:lnTo>
                      <a:pt x="56" y="2552"/>
                    </a:lnTo>
                    <a:lnTo>
                      <a:pt x="0" y="255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6" y="2"/>
                    </a:lnTo>
                    <a:close/>
                    <a:moveTo>
                      <a:pt x="56" y="3378"/>
                    </a:moveTo>
                    <a:lnTo>
                      <a:pt x="56" y="5099"/>
                    </a:lnTo>
                    <a:lnTo>
                      <a:pt x="50" y="5100"/>
                    </a:lnTo>
                    <a:lnTo>
                      <a:pt x="42" y="5100"/>
                    </a:lnTo>
                    <a:lnTo>
                      <a:pt x="36" y="5102"/>
                    </a:lnTo>
                    <a:lnTo>
                      <a:pt x="28" y="5102"/>
                    </a:lnTo>
                    <a:lnTo>
                      <a:pt x="20" y="5102"/>
                    </a:lnTo>
                    <a:lnTo>
                      <a:pt x="14" y="5103"/>
                    </a:lnTo>
                    <a:lnTo>
                      <a:pt x="6" y="5103"/>
                    </a:lnTo>
                    <a:lnTo>
                      <a:pt x="0" y="5103"/>
                    </a:lnTo>
                    <a:lnTo>
                      <a:pt x="0" y="3314"/>
                    </a:lnTo>
                    <a:lnTo>
                      <a:pt x="30" y="3378"/>
                    </a:lnTo>
                    <a:lnTo>
                      <a:pt x="56" y="3378"/>
                    </a:lnTo>
                    <a:close/>
                  </a:path>
                </a:pathLst>
              </a:custGeom>
              <a:solidFill>
                <a:srgbClr val="cba9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70700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6" h="5108">
                    <a:moveTo>
                      <a:pt x="56" y="4"/>
                    </a:moveTo>
                    <a:lnTo>
                      <a:pt x="56" y="2555"/>
                    </a:lnTo>
                    <a:lnTo>
                      <a:pt x="0" y="2555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2" y="3"/>
                    </a:lnTo>
                    <a:lnTo>
                      <a:pt x="48" y="4"/>
                    </a:lnTo>
                    <a:lnTo>
                      <a:pt x="56" y="4"/>
                    </a:lnTo>
                    <a:close/>
                    <a:moveTo>
                      <a:pt x="56" y="3377"/>
                    </a:moveTo>
                    <a:lnTo>
                      <a:pt x="56" y="5105"/>
                    </a:lnTo>
                    <a:lnTo>
                      <a:pt x="48" y="5105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6"/>
                    </a:lnTo>
                    <a:lnTo>
                      <a:pt x="20" y="5107"/>
                    </a:lnTo>
                    <a:lnTo>
                      <a:pt x="14" y="5107"/>
                    </a:lnTo>
                    <a:lnTo>
                      <a:pt x="6" y="5107"/>
                    </a:lnTo>
                    <a:lnTo>
                      <a:pt x="0" y="5108"/>
                    </a:lnTo>
                    <a:lnTo>
                      <a:pt x="0" y="3258"/>
                    </a:lnTo>
                    <a:lnTo>
                      <a:pt x="56" y="3377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9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0">
                    <a:moveTo>
                      <a:pt x="57" y="4"/>
                    </a:moveTo>
                    <a:lnTo>
                      <a:pt x="57" y="2556"/>
                    </a:lnTo>
                    <a:lnTo>
                      <a:pt x="0" y="255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3" y="3"/>
                    </a:lnTo>
                    <a:lnTo>
                      <a:pt x="49" y="3"/>
                    </a:lnTo>
                    <a:lnTo>
                      <a:pt x="57" y="4"/>
                    </a:lnTo>
                    <a:close/>
                    <a:moveTo>
                      <a:pt x="57" y="3318"/>
                    </a:moveTo>
                    <a:lnTo>
                      <a:pt x="57" y="5107"/>
                    </a:lnTo>
                    <a:lnTo>
                      <a:pt x="49" y="5108"/>
                    </a:lnTo>
                    <a:lnTo>
                      <a:pt x="43" y="5108"/>
                    </a:lnTo>
                    <a:lnTo>
                      <a:pt x="35" y="5108"/>
                    </a:lnTo>
                    <a:lnTo>
                      <a:pt x="29" y="5109"/>
                    </a:lnTo>
                    <a:lnTo>
                      <a:pt x="21" y="5109"/>
                    </a:lnTo>
                    <a:lnTo>
                      <a:pt x="14" y="5109"/>
                    </a:lnTo>
                    <a:lnTo>
                      <a:pt x="7" y="5110"/>
                    </a:lnTo>
                    <a:lnTo>
                      <a:pt x="0" y="5110"/>
                    </a:lnTo>
                    <a:lnTo>
                      <a:pt x="0" y="3200"/>
                    </a:lnTo>
                    <a:lnTo>
                      <a:pt x="57" y="3318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8468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2">
                    <a:moveTo>
                      <a:pt x="57" y="2"/>
                    </a:moveTo>
                    <a:lnTo>
                      <a:pt x="57" y="2557"/>
                    </a:lnTo>
                    <a:lnTo>
                      <a:pt x="0" y="255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2"/>
                    </a:lnTo>
                    <a:lnTo>
                      <a:pt x="49" y="2"/>
                    </a:lnTo>
                    <a:lnTo>
                      <a:pt x="57" y="2"/>
                    </a:lnTo>
                    <a:close/>
                    <a:moveTo>
                      <a:pt x="57" y="3260"/>
                    </a:moveTo>
                    <a:lnTo>
                      <a:pt x="57" y="5110"/>
                    </a:lnTo>
                    <a:lnTo>
                      <a:pt x="49" y="5110"/>
                    </a:lnTo>
                    <a:lnTo>
                      <a:pt x="42" y="5110"/>
                    </a:lnTo>
                    <a:lnTo>
                      <a:pt x="35" y="5111"/>
                    </a:lnTo>
                    <a:lnTo>
                      <a:pt x="28" y="5111"/>
                    </a:lnTo>
                    <a:lnTo>
                      <a:pt x="21" y="5111"/>
                    </a:lnTo>
                    <a:lnTo>
                      <a:pt x="14" y="5112"/>
                    </a:lnTo>
                    <a:lnTo>
                      <a:pt x="7" y="5112"/>
                    </a:lnTo>
                    <a:lnTo>
                      <a:pt x="0" y="5112"/>
                    </a:lnTo>
                    <a:lnTo>
                      <a:pt x="0" y="3142"/>
                    </a:lnTo>
                    <a:lnTo>
                      <a:pt x="57" y="3260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7352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2"/>
                    </a:moveTo>
                    <a:lnTo>
                      <a:pt x="57" y="2558"/>
                    </a:lnTo>
                    <a:lnTo>
                      <a:pt x="0" y="2558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202"/>
                    </a:moveTo>
                    <a:lnTo>
                      <a:pt x="57" y="5112"/>
                    </a:lnTo>
                    <a:lnTo>
                      <a:pt x="50" y="5112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9" y="5113"/>
                    </a:lnTo>
                    <a:lnTo>
                      <a:pt x="22" y="5114"/>
                    </a:lnTo>
                    <a:lnTo>
                      <a:pt x="14" y="5114"/>
                    </a:lnTo>
                    <a:lnTo>
                      <a:pt x="7" y="5114"/>
                    </a:lnTo>
                    <a:lnTo>
                      <a:pt x="0" y="5114"/>
                    </a:lnTo>
                    <a:lnTo>
                      <a:pt x="0" y="3085"/>
                    </a:lnTo>
                    <a:lnTo>
                      <a:pt x="57" y="3202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623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6">
                    <a:moveTo>
                      <a:pt x="57" y="2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2"/>
                    </a:lnTo>
                    <a:lnTo>
                      <a:pt x="57" y="2"/>
                    </a:lnTo>
                    <a:close/>
                    <a:moveTo>
                      <a:pt x="57" y="3144"/>
                    </a:moveTo>
                    <a:lnTo>
                      <a:pt x="57" y="5114"/>
                    </a:lnTo>
                    <a:lnTo>
                      <a:pt x="50" y="5115"/>
                    </a:lnTo>
                    <a:lnTo>
                      <a:pt x="42" y="5115"/>
                    </a:lnTo>
                    <a:lnTo>
                      <a:pt x="35" y="5115"/>
                    </a:lnTo>
                    <a:lnTo>
                      <a:pt x="28" y="5115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3026"/>
                    </a:lnTo>
                    <a:lnTo>
                      <a:pt x="57" y="3144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5120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7">
                    <a:moveTo>
                      <a:pt x="57" y="1"/>
                    </a:moveTo>
                    <a:lnTo>
                      <a:pt x="57" y="2559"/>
                    </a:lnTo>
                    <a:lnTo>
                      <a:pt x="0" y="255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86"/>
                    </a:moveTo>
                    <a:lnTo>
                      <a:pt x="57" y="5115"/>
                    </a:lnTo>
                    <a:lnTo>
                      <a:pt x="50" y="5116"/>
                    </a:lnTo>
                    <a:lnTo>
                      <a:pt x="43" y="5116"/>
                    </a:lnTo>
                    <a:lnTo>
                      <a:pt x="36" y="5116"/>
                    </a:lnTo>
                    <a:lnTo>
                      <a:pt x="29" y="5116"/>
                    </a:lnTo>
                    <a:lnTo>
                      <a:pt x="22" y="5117"/>
                    </a:lnTo>
                    <a:lnTo>
                      <a:pt x="15" y="5117"/>
                    </a:lnTo>
                    <a:lnTo>
                      <a:pt x="8" y="5117"/>
                    </a:lnTo>
                    <a:lnTo>
                      <a:pt x="0" y="5117"/>
                    </a:lnTo>
                    <a:lnTo>
                      <a:pt x="0" y="2967"/>
                    </a:lnTo>
                    <a:lnTo>
                      <a:pt x="57" y="3086"/>
                    </a:lnTo>
                    <a:close/>
                  </a:path>
                </a:pathLst>
              </a:custGeom>
              <a:solidFill>
                <a:srgbClr val="cdaa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040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7" h="5119">
                    <a:moveTo>
                      <a:pt x="57" y="1"/>
                    </a:moveTo>
                    <a:lnTo>
                      <a:pt x="57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  <a:moveTo>
                      <a:pt x="57" y="3027"/>
                    </a:moveTo>
                    <a:lnTo>
                      <a:pt x="57" y="5117"/>
                    </a:lnTo>
                    <a:lnTo>
                      <a:pt x="50" y="5118"/>
                    </a:lnTo>
                    <a:lnTo>
                      <a:pt x="43" y="5118"/>
                    </a:lnTo>
                    <a:lnTo>
                      <a:pt x="36" y="5118"/>
                    </a:lnTo>
                    <a:lnTo>
                      <a:pt x="28" y="5118"/>
                    </a:lnTo>
                    <a:lnTo>
                      <a:pt x="22" y="5118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19"/>
                    </a:lnTo>
                    <a:lnTo>
                      <a:pt x="0" y="2910"/>
                    </a:lnTo>
                    <a:lnTo>
                      <a:pt x="57" y="3027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9240" y="2367000"/>
                <a:ext cx="21960" cy="2031840"/>
              </a:xfrm>
              <a:custGeom>
                <a:avLst/>
                <a:gdLst/>
                <a:ahLst/>
                <a:rect l="l" t="t" r="r" b="b"/>
                <a:pathLst>
                  <a:path w="56" h="5120">
                    <a:moveTo>
                      <a:pt x="56" y="1"/>
                    </a:moveTo>
                    <a:lnTo>
                      <a:pt x="56" y="2560"/>
                    </a:lnTo>
                    <a:lnTo>
                      <a:pt x="0" y="256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68"/>
                    </a:moveTo>
                    <a:lnTo>
                      <a:pt x="56" y="5118"/>
                    </a:lnTo>
                    <a:lnTo>
                      <a:pt x="50" y="5118"/>
                    </a:lnTo>
                    <a:lnTo>
                      <a:pt x="42" y="5119"/>
                    </a:lnTo>
                    <a:lnTo>
                      <a:pt x="36" y="5119"/>
                    </a:lnTo>
                    <a:lnTo>
                      <a:pt x="28" y="5119"/>
                    </a:lnTo>
                    <a:lnTo>
                      <a:pt x="22" y="5119"/>
                    </a:lnTo>
                    <a:lnTo>
                      <a:pt x="14" y="5119"/>
                    </a:lnTo>
                    <a:lnTo>
                      <a:pt x="8" y="5119"/>
                    </a:lnTo>
                    <a:lnTo>
                      <a:pt x="0" y="5120"/>
                    </a:lnTo>
                    <a:lnTo>
                      <a:pt x="0" y="2850"/>
                    </a:lnTo>
                    <a:lnTo>
                      <a:pt x="56" y="2968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18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1"/>
                    </a:lnTo>
                    <a:close/>
                    <a:moveTo>
                      <a:pt x="56" y="2911"/>
                    </a:moveTo>
                    <a:lnTo>
                      <a:pt x="56" y="5120"/>
                    </a:lnTo>
                    <a:lnTo>
                      <a:pt x="50" y="5120"/>
                    </a:lnTo>
                    <a:lnTo>
                      <a:pt x="42" y="5120"/>
                    </a:lnTo>
                    <a:lnTo>
                      <a:pt x="36" y="5120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2793"/>
                    </a:lnTo>
                    <a:lnTo>
                      <a:pt x="56" y="291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69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1"/>
                    </a:moveTo>
                    <a:lnTo>
                      <a:pt x="56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2" y="1"/>
                    </a:lnTo>
                    <a:lnTo>
                      <a:pt x="48" y="1"/>
                    </a:lnTo>
                    <a:lnTo>
                      <a:pt x="56" y="1"/>
                    </a:lnTo>
                    <a:close/>
                    <a:moveTo>
                      <a:pt x="56" y="2851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2"/>
                    </a:lnTo>
                    <a:lnTo>
                      <a:pt x="0" y="2733"/>
                    </a:lnTo>
                    <a:lnTo>
                      <a:pt x="56" y="285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59432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  <a:moveTo>
                      <a:pt x="57" y="2793"/>
                    </a:moveTo>
                    <a:lnTo>
                      <a:pt x="57" y="5121"/>
                    </a:lnTo>
                    <a:lnTo>
                      <a:pt x="49" y="5121"/>
                    </a:lnTo>
                    <a:lnTo>
                      <a:pt x="43" y="5121"/>
                    </a:lnTo>
                    <a:lnTo>
                      <a:pt x="35" y="5121"/>
                    </a:lnTo>
                    <a:lnTo>
                      <a:pt x="29" y="5122"/>
                    </a:lnTo>
                    <a:lnTo>
                      <a:pt x="21" y="5122"/>
                    </a:lnTo>
                    <a:lnTo>
                      <a:pt x="14" y="5122"/>
                    </a:lnTo>
                    <a:lnTo>
                      <a:pt x="7" y="5122"/>
                    </a:lnTo>
                    <a:lnTo>
                      <a:pt x="0" y="5122"/>
                    </a:lnTo>
                    <a:lnTo>
                      <a:pt x="0" y="2675"/>
                    </a:lnTo>
                    <a:lnTo>
                      <a:pt x="57" y="279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583160" y="2367000"/>
                <a:ext cx="23760" cy="2033640"/>
              </a:xfrm>
              <a:custGeom>
                <a:avLst/>
                <a:gdLst/>
                <a:ahLst/>
                <a:rect l="l" t="t" r="r" b="b"/>
                <a:pathLst>
                  <a:path w="58" h="5122">
                    <a:moveTo>
                      <a:pt x="58" y="0"/>
                    </a:moveTo>
                    <a:lnTo>
                      <a:pt x="58" y="2561"/>
                    </a:lnTo>
                    <a:lnTo>
                      <a:pt x="0" y="25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  <a:moveTo>
                      <a:pt x="58" y="2733"/>
                    </a:moveTo>
                    <a:lnTo>
                      <a:pt x="58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2616"/>
                    </a:lnTo>
                    <a:lnTo>
                      <a:pt x="58" y="2733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3">
                    <a:moveTo>
                      <a:pt x="57" y="1"/>
                    </a:moveTo>
                    <a:lnTo>
                      <a:pt x="57" y="2562"/>
                    </a:lnTo>
                    <a:lnTo>
                      <a:pt x="3" y="2562"/>
                    </a:lnTo>
                    <a:lnTo>
                      <a:pt x="57" y="2676"/>
                    </a:lnTo>
                    <a:lnTo>
                      <a:pt x="57" y="5123"/>
                    </a:lnTo>
                    <a:lnTo>
                      <a:pt x="50" y="5123"/>
                    </a:lnTo>
                    <a:lnTo>
                      <a:pt x="44" y="5123"/>
                    </a:lnTo>
                    <a:lnTo>
                      <a:pt x="36" y="5123"/>
                    </a:lnTo>
                    <a:lnTo>
                      <a:pt x="30" y="5123"/>
                    </a:lnTo>
                    <a:lnTo>
                      <a:pt x="23" y="5123"/>
                    </a:lnTo>
                    <a:lnTo>
                      <a:pt x="16" y="5123"/>
                    </a:lnTo>
                    <a:lnTo>
                      <a:pt x="9" y="5123"/>
                    </a:lnTo>
                    <a:lnTo>
                      <a:pt x="3" y="5123"/>
                    </a:lnTo>
                    <a:lnTo>
                      <a:pt x="3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1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9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30" y="1"/>
                    </a:lnTo>
                    <a:lnTo>
                      <a:pt x="36" y="1"/>
                    </a:lnTo>
                    <a:lnTo>
                      <a:pt x="44" y="1"/>
                    </a:lnTo>
                    <a:lnTo>
                      <a:pt x="50" y="1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cdaa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6084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6" h="5123">
                    <a:moveTo>
                      <a:pt x="56" y="1"/>
                    </a:moveTo>
                    <a:lnTo>
                      <a:pt x="56" y="2562"/>
                    </a:lnTo>
                    <a:lnTo>
                      <a:pt x="31" y="2562"/>
                    </a:lnTo>
                    <a:lnTo>
                      <a:pt x="56" y="2617"/>
                    </a:lnTo>
                    <a:lnTo>
                      <a:pt x="56" y="5123"/>
                    </a:lnTo>
                    <a:lnTo>
                      <a:pt x="53" y="5123"/>
                    </a:lnTo>
                    <a:lnTo>
                      <a:pt x="50" y="5123"/>
                    </a:lnTo>
                    <a:lnTo>
                      <a:pt x="47" y="5123"/>
                    </a:lnTo>
                    <a:lnTo>
                      <a:pt x="44" y="5123"/>
                    </a:lnTo>
                    <a:lnTo>
                      <a:pt x="40" y="5123"/>
                    </a:lnTo>
                    <a:lnTo>
                      <a:pt x="37" y="5123"/>
                    </a:lnTo>
                    <a:lnTo>
                      <a:pt x="34" y="5123"/>
                    </a:lnTo>
                    <a:lnTo>
                      <a:pt x="31" y="5123"/>
                    </a:lnTo>
                    <a:lnTo>
                      <a:pt x="26" y="5123"/>
                    </a:lnTo>
                    <a:lnTo>
                      <a:pt x="23" y="5123"/>
                    </a:lnTo>
                    <a:lnTo>
                      <a:pt x="19" y="5123"/>
                    </a:lnTo>
                    <a:lnTo>
                      <a:pt x="15" y="5123"/>
                    </a:lnTo>
                    <a:lnTo>
                      <a:pt x="11" y="5123"/>
                    </a:lnTo>
                    <a:lnTo>
                      <a:pt x="8" y="5123"/>
                    </a:lnTo>
                    <a:lnTo>
                      <a:pt x="4" y="5123"/>
                    </a:lnTo>
                    <a:lnTo>
                      <a:pt x="0" y="5123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4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6" y="1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4968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9" y="5122"/>
                    </a:lnTo>
                    <a:lnTo>
                      <a:pt x="22" y="5122"/>
                    </a:lnTo>
                    <a:lnTo>
                      <a:pt x="15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38520" y="2367000"/>
                <a:ext cx="22320" cy="2033640"/>
              </a:xfrm>
              <a:custGeom>
                <a:avLst/>
                <a:gdLst/>
                <a:ahLst/>
                <a:rect l="l" t="t" r="r" b="b"/>
                <a:pathLst>
                  <a:path w="57" h="5122">
                    <a:moveTo>
                      <a:pt x="57" y="0"/>
                    </a:moveTo>
                    <a:lnTo>
                      <a:pt x="57" y="5122"/>
                    </a:lnTo>
                    <a:lnTo>
                      <a:pt x="50" y="5122"/>
                    </a:lnTo>
                    <a:lnTo>
                      <a:pt x="43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2"/>
                    </a:lnTo>
                    <a:lnTo>
                      <a:pt x="8" y="5122"/>
                    </a:lnTo>
                    <a:lnTo>
                      <a:pt x="0" y="512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52772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2"/>
                    </a:lnTo>
                    <a:lnTo>
                      <a:pt x="42" y="5122"/>
                    </a:lnTo>
                    <a:lnTo>
                      <a:pt x="36" y="5122"/>
                    </a:lnTo>
                    <a:lnTo>
                      <a:pt x="28" y="5122"/>
                    </a:lnTo>
                    <a:lnTo>
                      <a:pt x="22" y="5122"/>
                    </a:lnTo>
                    <a:lnTo>
                      <a:pt x="14" y="5121"/>
                    </a:lnTo>
                    <a:lnTo>
                      <a:pt x="8" y="5121"/>
                    </a:lnTo>
                    <a:lnTo>
                      <a:pt x="0" y="512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16560" y="2367000"/>
                <a:ext cx="21960" cy="2033640"/>
              </a:xfrm>
              <a:custGeom>
                <a:avLst/>
                <a:gdLst/>
                <a:ahLst/>
                <a:rect l="l" t="t" r="r" b="b"/>
                <a:pathLst>
                  <a:path w="56" h="5122">
                    <a:moveTo>
                      <a:pt x="56" y="0"/>
                    </a:moveTo>
                    <a:lnTo>
                      <a:pt x="56" y="5122"/>
                    </a:lnTo>
                    <a:lnTo>
                      <a:pt x="50" y="5121"/>
                    </a:lnTo>
                    <a:lnTo>
                      <a:pt x="42" y="5121"/>
                    </a:lnTo>
                    <a:lnTo>
                      <a:pt x="36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1"/>
                    </a:lnTo>
                    <a:lnTo>
                      <a:pt x="0" y="5121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50540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6" h="5121">
                    <a:moveTo>
                      <a:pt x="56" y="0"/>
                    </a:moveTo>
                    <a:lnTo>
                      <a:pt x="56" y="5121"/>
                    </a:lnTo>
                    <a:lnTo>
                      <a:pt x="48" y="5121"/>
                    </a:lnTo>
                    <a:lnTo>
                      <a:pt x="42" y="5121"/>
                    </a:lnTo>
                    <a:lnTo>
                      <a:pt x="34" y="5121"/>
                    </a:lnTo>
                    <a:lnTo>
                      <a:pt x="28" y="5121"/>
                    </a:lnTo>
                    <a:lnTo>
                      <a:pt x="20" y="5121"/>
                    </a:lnTo>
                    <a:lnTo>
                      <a:pt x="14" y="5121"/>
                    </a:lnTo>
                    <a:lnTo>
                      <a:pt x="6" y="5120"/>
                    </a:lnTo>
                    <a:lnTo>
                      <a:pt x="0" y="5120"/>
                    </a:lnTo>
                    <a:lnTo>
                      <a:pt x="0" y="1"/>
                    </a:lnTo>
                    <a:lnTo>
                      <a:pt x="6" y="1"/>
                    </a:lnTo>
                    <a:lnTo>
                      <a:pt x="14" y="1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9424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7" h="5120">
                    <a:moveTo>
                      <a:pt x="57" y="0"/>
                    </a:moveTo>
                    <a:lnTo>
                      <a:pt x="57" y="5120"/>
                    </a:lnTo>
                    <a:lnTo>
                      <a:pt x="49" y="5120"/>
                    </a:lnTo>
                    <a:lnTo>
                      <a:pt x="43" y="5120"/>
                    </a:lnTo>
                    <a:lnTo>
                      <a:pt x="35" y="5120"/>
                    </a:lnTo>
                    <a:lnTo>
                      <a:pt x="29" y="5119"/>
                    </a:lnTo>
                    <a:lnTo>
                      <a:pt x="21" y="5119"/>
                    </a:lnTo>
                    <a:lnTo>
                      <a:pt x="14" y="5119"/>
                    </a:lnTo>
                    <a:lnTo>
                      <a:pt x="7" y="5119"/>
                    </a:lnTo>
                    <a:lnTo>
                      <a:pt x="0" y="5119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483080" y="2367000"/>
                <a:ext cx="22320" cy="2031840"/>
              </a:xfrm>
              <a:custGeom>
                <a:avLst/>
                <a:gdLst/>
                <a:ahLst/>
                <a:rect l="l" t="t" r="r" b="b"/>
                <a:pathLst>
                  <a:path w="58" h="5119">
                    <a:moveTo>
                      <a:pt x="58" y="0"/>
                    </a:moveTo>
                    <a:lnTo>
                      <a:pt x="58" y="5119"/>
                    </a:lnTo>
                    <a:lnTo>
                      <a:pt x="50" y="5119"/>
                    </a:lnTo>
                    <a:lnTo>
                      <a:pt x="43" y="5119"/>
                    </a:lnTo>
                    <a:lnTo>
                      <a:pt x="36" y="5119"/>
                    </a:lnTo>
                    <a:lnTo>
                      <a:pt x="29" y="5119"/>
                    </a:lnTo>
                    <a:lnTo>
                      <a:pt x="22" y="5119"/>
                    </a:lnTo>
                    <a:lnTo>
                      <a:pt x="15" y="5119"/>
                    </a:lnTo>
                    <a:lnTo>
                      <a:pt x="8" y="5118"/>
                    </a:lnTo>
                    <a:lnTo>
                      <a:pt x="0" y="5118"/>
                    </a:lnTo>
                    <a:lnTo>
                      <a:pt x="0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47192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7" h="5118">
                    <a:moveTo>
                      <a:pt x="57" y="0"/>
                    </a:moveTo>
                    <a:lnTo>
                      <a:pt x="57" y="5118"/>
                    </a:lnTo>
                    <a:lnTo>
                      <a:pt x="50" y="5118"/>
                    </a:lnTo>
                    <a:lnTo>
                      <a:pt x="43" y="5117"/>
                    </a:lnTo>
                    <a:lnTo>
                      <a:pt x="36" y="5117"/>
                    </a:lnTo>
                    <a:lnTo>
                      <a:pt x="28" y="5117"/>
                    </a:lnTo>
                    <a:lnTo>
                      <a:pt x="21" y="5117"/>
                    </a:lnTo>
                    <a:lnTo>
                      <a:pt x="14" y="5117"/>
                    </a:lnTo>
                    <a:lnTo>
                      <a:pt x="7" y="5117"/>
                    </a:lnTo>
                    <a:lnTo>
                      <a:pt x="0" y="5116"/>
                    </a:lnTo>
                    <a:lnTo>
                      <a:pt x="0" y="1"/>
                    </a:lnTo>
                    <a:lnTo>
                      <a:pt x="7" y="1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60760" y="2368440"/>
                <a:ext cx="22320" cy="2030400"/>
              </a:xfrm>
              <a:custGeom>
                <a:avLst/>
                <a:gdLst/>
                <a:ahLst/>
                <a:rect l="l" t="t" r="r" b="b"/>
                <a:pathLst>
                  <a:path w="56" h="5117">
                    <a:moveTo>
                      <a:pt x="56" y="0"/>
                    </a:moveTo>
                    <a:lnTo>
                      <a:pt x="56" y="5117"/>
                    </a:lnTo>
                    <a:lnTo>
                      <a:pt x="50" y="5117"/>
                    </a:lnTo>
                    <a:lnTo>
                      <a:pt x="42" y="5117"/>
                    </a:lnTo>
                    <a:lnTo>
                      <a:pt x="35" y="5117"/>
                    </a:lnTo>
                    <a:lnTo>
                      <a:pt x="28" y="5116"/>
                    </a:lnTo>
                    <a:lnTo>
                      <a:pt x="21" y="5116"/>
                    </a:lnTo>
                    <a:lnTo>
                      <a:pt x="14" y="5116"/>
                    </a:lnTo>
                    <a:lnTo>
                      <a:pt x="7" y="5116"/>
                    </a:lnTo>
                    <a:lnTo>
                      <a:pt x="0" y="5116"/>
                    </a:lnTo>
                    <a:lnTo>
                      <a:pt x="0" y="2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4816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5">
                    <a:moveTo>
                      <a:pt x="57" y="0"/>
                    </a:moveTo>
                    <a:lnTo>
                      <a:pt x="57" y="5115"/>
                    </a:lnTo>
                    <a:lnTo>
                      <a:pt x="50" y="5115"/>
                    </a:lnTo>
                    <a:lnTo>
                      <a:pt x="43" y="5115"/>
                    </a:lnTo>
                    <a:lnTo>
                      <a:pt x="36" y="5115"/>
                    </a:lnTo>
                    <a:lnTo>
                      <a:pt x="29" y="5115"/>
                    </a:lnTo>
                    <a:lnTo>
                      <a:pt x="22" y="5114"/>
                    </a:lnTo>
                    <a:lnTo>
                      <a:pt x="15" y="5114"/>
                    </a:lnTo>
                    <a:lnTo>
                      <a:pt x="8" y="5114"/>
                    </a:lnTo>
                    <a:lnTo>
                      <a:pt x="0" y="5114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437000" y="2368440"/>
                <a:ext cx="23760" cy="2030400"/>
              </a:xfrm>
              <a:custGeom>
                <a:avLst/>
                <a:gdLst/>
                <a:ahLst/>
                <a:rect l="l" t="t" r="r" b="b"/>
                <a:pathLst>
                  <a:path w="57" h="5114">
                    <a:moveTo>
                      <a:pt x="57" y="0"/>
                    </a:moveTo>
                    <a:lnTo>
                      <a:pt x="57" y="5114"/>
                    </a:lnTo>
                    <a:lnTo>
                      <a:pt x="50" y="5113"/>
                    </a:lnTo>
                    <a:lnTo>
                      <a:pt x="43" y="5113"/>
                    </a:lnTo>
                    <a:lnTo>
                      <a:pt x="36" y="5113"/>
                    </a:lnTo>
                    <a:lnTo>
                      <a:pt x="28" y="5113"/>
                    </a:lnTo>
                    <a:lnTo>
                      <a:pt x="22" y="5112"/>
                    </a:lnTo>
                    <a:lnTo>
                      <a:pt x="14" y="5112"/>
                    </a:lnTo>
                    <a:lnTo>
                      <a:pt x="8" y="5112"/>
                    </a:lnTo>
                    <a:lnTo>
                      <a:pt x="0" y="5112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a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25840" y="2368440"/>
                <a:ext cx="22320" cy="2028960"/>
              </a:xfrm>
              <a:custGeom>
                <a:avLst/>
                <a:gdLst/>
                <a:ahLst/>
                <a:rect l="l" t="t" r="r" b="b"/>
                <a:pathLst>
                  <a:path w="56" h="5112">
                    <a:moveTo>
                      <a:pt x="56" y="0"/>
                    </a:moveTo>
                    <a:lnTo>
                      <a:pt x="56" y="5112"/>
                    </a:lnTo>
                    <a:lnTo>
                      <a:pt x="50" y="5111"/>
                    </a:lnTo>
                    <a:lnTo>
                      <a:pt x="42" y="5111"/>
                    </a:lnTo>
                    <a:lnTo>
                      <a:pt x="36" y="5111"/>
                    </a:lnTo>
                    <a:lnTo>
                      <a:pt x="28" y="5111"/>
                    </a:lnTo>
                    <a:lnTo>
                      <a:pt x="22" y="5110"/>
                    </a:lnTo>
                    <a:lnTo>
                      <a:pt x="14" y="5110"/>
                    </a:lnTo>
                    <a:lnTo>
                      <a:pt x="8" y="5110"/>
                    </a:lnTo>
                    <a:lnTo>
                      <a:pt x="0" y="5110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22" y="1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14680" y="2370240"/>
                <a:ext cx="22320" cy="2027160"/>
              </a:xfrm>
              <a:custGeom>
                <a:avLst/>
                <a:gdLst/>
                <a:ahLst/>
                <a:rect l="l" t="t" r="r" b="b"/>
                <a:pathLst>
                  <a:path w="56" h="5110">
                    <a:moveTo>
                      <a:pt x="56" y="0"/>
                    </a:moveTo>
                    <a:lnTo>
                      <a:pt x="56" y="5110"/>
                    </a:lnTo>
                    <a:lnTo>
                      <a:pt x="50" y="5109"/>
                    </a:lnTo>
                    <a:lnTo>
                      <a:pt x="42" y="5109"/>
                    </a:lnTo>
                    <a:lnTo>
                      <a:pt x="34" y="5109"/>
                    </a:lnTo>
                    <a:lnTo>
                      <a:pt x="28" y="5109"/>
                    </a:lnTo>
                    <a:lnTo>
                      <a:pt x="20" y="5108"/>
                    </a:lnTo>
                    <a:lnTo>
                      <a:pt x="14" y="5108"/>
                    </a:lnTo>
                    <a:lnTo>
                      <a:pt x="6" y="5108"/>
                    </a:lnTo>
                    <a:lnTo>
                      <a:pt x="0" y="5107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03880" y="2370240"/>
                <a:ext cx="21960" cy="2027160"/>
              </a:xfrm>
              <a:custGeom>
                <a:avLst/>
                <a:gdLst/>
                <a:ahLst/>
                <a:rect l="l" t="t" r="r" b="b"/>
                <a:pathLst>
                  <a:path w="56" h="5107">
                    <a:moveTo>
                      <a:pt x="56" y="0"/>
                    </a:moveTo>
                    <a:lnTo>
                      <a:pt x="56" y="5107"/>
                    </a:lnTo>
                    <a:lnTo>
                      <a:pt x="48" y="5106"/>
                    </a:lnTo>
                    <a:lnTo>
                      <a:pt x="42" y="5106"/>
                    </a:lnTo>
                    <a:lnTo>
                      <a:pt x="34" y="5106"/>
                    </a:lnTo>
                    <a:lnTo>
                      <a:pt x="28" y="5105"/>
                    </a:lnTo>
                    <a:lnTo>
                      <a:pt x="20" y="5105"/>
                    </a:lnTo>
                    <a:lnTo>
                      <a:pt x="14" y="5105"/>
                    </a:lnTo>
                    <a:lnTo>
                      <a:pt x="6" y="5104"/>
                    </a:lnTo>
                    <a:lnTo>
                      <a:pt x="0" y="5104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48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92720" y="2370240"/>
                <a:ext cx="21960" cy="2025360"/>
              </a:xfrm>
              <a:custGeom>
                <a:avLst/>
                <a:gdLst/>
                <a:ahLst/>
                <a:rect l="l" t="t" r="r" b="b"/>
                <a:pathLst>
                  <a:path w="57" h="5104">
                    <a:moveTo>
                      <a:pt x="57" y="0"/>
                    </a:moveTo>
                    <a:lnTo>
                      <a:pt x="57" y="5104"/>
                    </a:lnTo>
                    <a:lnTo>
                      <a:pt x="49" y="5104"/>
                    </a:lnTo>
                    <a:lnTo>
                      <a:pt x="43" y="5104"/>
                    </a:lnTo>
                    <a:lnTo>
                      <a:pt x="35" y="5103"/>
                    </a:lnTo>
                    <a:lnTo>
                      <a:pt x="28" y="5103"/>
                    </a:lnTo>
                    <a:lnTo>
                      <a:pt x="21" y="5103"/>
                    </a:lnTo>
                    <a:lnTo>
                      <a:pt x="14" y="5102"/>
                    </a:lnTo>
                    <a:lnTo>
                      <a:pt x="7" y="5102"/>
                    </a:lnTo>
                    <a:lnTo>
                      <a:pt x="0" y="5102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381560" y="2370240"/>
                <a:ext cx="22320" cy="2025360"/>
              </a:xfrm>
              <a:custGeom>
                <a:avLst/>
                <a:gdLst/>
                <a:ahLst/>
                <a:rect l="l" t="t" r="r" b="b"/>
                <a:pathLst>
                  <a:path w="58" h="5102">
                    <a:moveTo>
                      <a:pt x="58" y="0"/>
                    </a:moveTo>
                    <a:lnTo>
                      <a:pt x="58" y="5102"/>
                    </a:lnTo>
                    <a:lnTo>
                      <a:pt x="50" y="5102"/>
                    </a:lnTo>
                    <a:lnTo>
                      <a:pt x="43" y="5101"/>
                    </a:lnTo>
                    <a:lnTo>
                      <a:pt x="36" y="5101"/>
                    </a:lnTo>
                    <a:lnTo>
                      <a:pt x="29" y="5101"/>
                    </a:lnTo>
                    <a:lnTo>
                      <a:pt x="22" y="5099"/>
                    </a:lnTo>
                    <a:lnTo>
                      <a:pt x="15" y="5099"/>
                    </a:lnTo>
                    <a:lnTo>
                      <a:pt x="8" y="5099"/>
                    </a:lnTo>
                    <a:lnTo>
                      <a:pt x="0" y="509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0400" y="2371680"/>
                <a:ext cx="22320" cy="2023920"/>
              </a:xfrm>
              <a:custGeom>
                <a:avLst/>
                <a:gdLst/>
                <a:ahLst/>
                <a:rect l="l" t="t" r="r" b="b"/>
                <a:pathLst>
                  <a:path w="57" h="5099">
                    <a:moveTo>
                      <a:pt x="57" y="0"/>
                    </a:moveTo>
                    <a:lnTo>
                      <a:pt x="57" y="5099"/>
                    </a:lnTo>
                    <a:lnTo>
                      <a:pt x="50" y="5097"/>
                    </a:lnTo>
                    <a:lnTo>
                      <a:pt x="43" y="5097"/>
                    </a:lnTo>
                    <a:lnTo>
                      <a:pt x="36" y="5097"/>
                    </a:lnTo>
                    <a:lnTo>
                      <a:pt x="28" y="5096"/>
                    </a:lnTo>
                    <a:lnTo>
                      <a:pt x="21" y="5096"/>
                    </a:lnTo>
                    <a:lnTo>
                      <a:pt x="14" y="5096"/>
                    </a:lnTo>
                    <a:lnTo>
                      <a:pt x="7" y="5095"/>
                    </a:lnTo>
                    <a:lnTo>
                      <a:pt x="0" y="5095"/>
                    </a:lnTo>
                    <a:lnTo>
                      <a:pt x="0" y="3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1" y="2"/>
                    </a:lnTo>
                    <a:lnTo>
                      <a:pt x="28" y="1"/>
                    </a:lnTo>
                    <a:lnTo>
                      <a:pt x="36" y="1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59240" y="2371680"/>
                <a:ext cx="22320" cy="2022480"/>
              </a:xfrm>
              <a:custGeom>
                <a:avLst/>
                <a:gdLst/>
                <a:ahLst/>
                <a:rect l="l" t="t" r="r" b="b"/>
                <a:pathLst>
                  <a:path w="56" h="5095">
                    <a:moveTo>
                      <a:pt x="56" y="0"/>
                    </a:moveTo>
                    <a:lnTo>
                      <a:pt x="56" y="5095"/>
                    </a:lnTo>
                    <a:lnTo>
                      <a:pt x="49" y="5095"/>
                    </a:lnTo>
                    <a:lnTo>
                      <a:pt x="42" y="5095"/>
                    </a:lnTo>
                    <a:lnTo>
                      <a:pt x="35" y="5094"/>
                    </a:lnTo>
                    <a:lnTo>
                      <a:pt x="28" y="5094"/>
                    </a:lnTo>
                    <a:lnTo>
                      <a:pt x="21" y="5093"/>
                    </a:lnTo>
                    <a:lnTo>
                      <a:pt x="14" y="5093"/>
                    </a:lnTo>
                    <a:lnTo>
                      <a:pt x="7" y="5093"/>
                    </a:lnTo>
                    <a:lnTo>
                      <a:pt x="0" y="5092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348080" y="2373120"/>
                <a:ext cx="22320" cy="2021040"/>
              </a:xfrm>
              <a:custGeom>
                <a:avLst/>
                <a:gdLst/>
                <a:ahLst/>
                <a:rect l="l" t="t" r="r" b="b"/>
                <a:pathLst>
                  <a:path w="57" h="5092">
                    <a:moveTo>
                      <a:pt x="57" y="0"/>
                    </a:moveTo>
                    <a:lnTo>
                      <a:pt x="57" y="5092"/>
                    </a:lnTo>
                    <a:lnTo>
                      <a:pt x="50" y="5091"/>
                    </a:lnTo>
                    <a:lnTo>
                      <a:pt x="43" y="5091"/>
                    </a:lnTo>
                    <a:lnTo>
                      <a:pt x="36" y="5091"/>
                    </a:lnTo>
                    <a:lnTo>
                      <a:pt x="29" y="5090"/>
                    </a:lnTo>
                    <a:lnTo>
                      <a:pt x="22" y="5090"/>
                    </a:lnTo>
                    <a:lnTo>
                      <a:pt x="14" y="5089"/>
                    </a:lnTo>
                    <a:lnTo>
                      <a:pt x="8" y="5089"/>
                    </a:lnTo>
                    <a:lnTo>
                      <a:pt x="0" y="5088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14" y="2"/>
                    </a:lnTo>
                    <a:lnTo>
                      <a:pt x="22" y="2"/>
                    </a:lnTo>
                    <a:lnTo>
                      <a:pt x="29" y="1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336920" y="2373120"/>
                <a:ext cx="22320" cy="2019600"/>
              </a:xfrm>
              <a:custGeom>
                <a:avLst/>
                <a:gdLst/>
                <a:ahLst/>
                <a:rect l="l" t="t" r="r" b="b"/>
                <a:pathLst>
                  <a:path w="57" h="5089">
                    <a:moveTo>
                      <a:pt x="57" y="0"/>
                    </a:moveTo>
                    <a:lnTo>
                      <a:pt x="57" y="5089"/>
                    </a:lnTo>
                    <a:lnTo>
                      <a:pt x="50" y="5089"/>
                    </a:lnTo>
                    <a:lnTo>
                      <a:pt x="42" y="5088"/>
                    </a:lnTo>
                    <a:lnTo>
                      <a:pt x="36" y="5088"/>
                    </a:lnTo>
                    <a:lnTo>
                      <a:pt x="28" y="5088"/>
                    </a:lnTo>
                    <a:lnTo>
                      <a:pt x="22" y="5087"/>
                    </a:lnTo>
                    <a:lnTo>
                      <a:pt x="14" y="5087"/>
                    </a:lnTo>
                    <a:lnTo>
                      <a:pt x="8" y="5086"/>
                    </a:lnTo>
                    <a:lnTo>
                      <a:pt x="0" y="5086"/>
                    </a:lnTo>
                    <a:lnTo>
                      <a:pt x="0" y="5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24320" y="2374920"/>
                <a:ext cx="23760" cy="2017800"/>
              </a:xfrm>
              <a:custGeom>
                <a:avLst/>
                <a:gdLst/>
                <a:ahLst/>
                <a:rect l="l" t="t" r="r" b="b"/>
                <a:pathLst>
                  <a:path w="56" h="5085">
                    <a:moveTo>
                      <a:pt x="56" y="0"/>
                    </a:moveTo>
                    <a:lnTo>
                      <a:pt x="56" y="5085"/>
                    </a:lnTo>
                    <a:lnTo>
                      <a:pt x="50" y="5085"/>
                    </a:lnTo>
                    <a:lnTo>
                      <a:pt x="42" y="5085"/>
                    </a:lnTo>
                    <a:lnTo>
                      <a:pt x="36" y="5084"/>
                    </a:lnTo>
                    <a:lnTo>
                      <a:pt x="28" y="5084"/>
                    </a:lnTo>
                    <a:lnTo>
                      <a:pt x="22" y="5083"/>
                    </a:lnTo>
                    <a:lnTo>
                      <a:pt x="14" y="5083"/>
                    </a:lnTo>
                    <a:lnTo>
                      <a:pt x="6" y="5082"/>
                    </a:lnTo>
                    <a:lnTo>
                      <a:pt x="0" y="5082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13160" y="2374920"/>
                <a:ext cx="23760" cy="2016000"/>
              </a:xfrm>
              <a:custGeom>
                <a:avLst/>
                <a:gdLst/>
                <a:ahLst/>
                <a:rect l="l" t="t" r="r" b="b"/>
                <a:pathLst>
                  <a:path w="56" h="5081">
                    <a:moveTo>
                      <a:pt x="56" y="0"/>
                    </a:moveTo>
                    <a:lnTo>
                      <a:pt x="56" y="5081"/>
                    </a:lnTo>
                    <a:lnTo>
                      <a:pt x="50" y="5080"/>
                    </a:lnTo>
                    <a:lnTo>
                      <a:pt x="42" y="5080"/>
                    </a:lnTo>
                    <a:lnTo>
                      <a:pt x="34" y="5079"/>
                    </a:lnTo>
                    <a:lnTo>
                      <a:pt x="28" y="5079"/>
                    </a:lnTo>
                    <a:lnTo>
                      <a:pt x="20" y="5078"/>
                    </a:lnTo>
                    <a:lnTo>
                      <a:pt x="14" y="5078"/>
                    </a:lnTo>
                    <a:lnTo>
                      <a:pt x="6" y="5077"/>
                    </a:lnTo>
                    <a:lnTo>
                      <a:pt x="0" y="5077"/>
                    </a:lnTo>
                    <a:lnTo>
                      <a:pt x="0" y="4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8" y="2"/>
                    </a:lnTo>
                    <a:lnTo>
                      <a:pt x="34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302000" y="2376360"/>
                <a:ext cx="22320" cy="2014560"/>
              </a:xfrm>
              <a:custGeom>
                <a:avLst/>
                <a:gdLst/>
                <a:ahLst/>
                <a:rect l="l" t="t" r="r" b="b"/>
                <a:pathLst>
                  <a:path w="57" h="5077">
                    <a:moveTo>
                      <a:pt x="57" y="0"/>
                    </a:moveTo>
                    <a:lnTo>
                      <a:pt x="57" y="5077"/>
                    </a:lnTo>
                    <a:lnTo>
                      <a:pt x="49" y="5076"/>
                    </a:lnTo>
                    <a:lnTo>
                      <a:pt x="43" y="5076"/>
                    </a:lnTo>
                    <a:lnTo>
                      <a:pt x="35" y="5075"/>
                    </a:lnTo>
                    <a:lnTo>
                      <a:pt x="29" y="5075"/>
                    </a:lnTo>
                    <a:lnTo>
                      <a:pt x="21" y="5074"/>
                    </a:lnTo>
                    <a:lnTo>
                      <a:pt x="15" y="5074"/>
                    </a:lnTo>
                    <a:lnTo>
                      <a:pt x="7" y="5072"/>
                    </a:lnTo>
                    <a:lnTo>
                      <a:pt x="0" y="5072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5" y="3"/>
                    </a:lnTo>
                    <a:lnTo>
                      <a:pt x="21" y="2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90840" y="2376360"/>
                <a:ext cx="22320" cy="2013120"/>
              </a:xfrm>
              <a:custGeom>
                <a:avLst/>
                <a:gdLst/>
                <a:ahLst/>
                <a:rect l="l" t="t" r="r" b="b"/>
                <a:pathLst>
                  <a:path w="57" h="5073">
                    <a:moveTo>
                      <a:pt x="57" y="0"/>
                    </a:moveTo>
                    <a:lnTo>
                      <a:pt x="57" y="5073"/>
                    </a:lnTo>
                    <a:lnTo>
                      <a:pt x="49" y="5072"/>
                    </a:lnTo>
                    <a:lnTo>
                      <a:pt x="43" y="5072"/>
                    </a:lnTo>
                    <a:lnTo>
                      <a:pt x="35" y="5070"/>
                    </a:lnTo>
                    <a:lnTo>
                      <a:pt x="28" y="5070"/>
                    </a:lnTo>
                    <a:lnTo>
                      <a:pt x="21" y="5069"/>
                    </a:lnTo>
                    <a:lnTo>
                      <a:pt x="14" y="5069"/>
                    </a:lnTo>
                    <a:lnTo>
                      <a:pt x="7" y="5068"/>
                    </a:lnTo>
                    <a:lnTo>
                      <a:pt x="0" y="5068"/>
                    </a:lnTo>
                    <a:lnTo>
                      <a:pt x="0" y="4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5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3a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280040" y="2378160"/>
                <a:ext cx="21960" cy="2011320"/>
              </a:xfrm>
              <a:custGeom>
                <a:avLst/>
                <a:gdLst/>
                <a:ahLst/>
                <a:rect l="l" t="t" r="r" b="b"/>
                <a:pathLst>
                  <a:path w="57" h="5068">
                    <a:moveTo>
                      <a:pt x="57" y="0"/>
                    </a:moveTo>
                    <a:lnTo>
                      <a:pt x="57" y="5068"/>
                    </a:lnTo>
                    <a:lnTo>
                      <a:pt x="50" y="5067"/>
                    </a:lnTo>
                    <a:lnTo>
                      <a:pt x="43" y="5067"/>
                    </a:lnTo>
                    <a:lnTo>
                      <a:pt x="36" y="5066"/>
                    </a:lnTo>
                    <a:lnTo>
                      <a:pt x="29" y="5066"/>
                    </a:lnTo>
                    <a:lnTo>
                      <a:pt x="22" y="5065"/>
                    </a:lnTo>
                    <a:lnTo>
                      <a:pt x="15" y="5064"/>
                    </a:lnTo>
                    <a:lnTo>
                      <a:pt x="8" y="5064"/>
                    </a:lnTo>
                    <a:lnTo>
                      <a:pt x="0" y="5063"/>
                    </a:lnTo>
                    <a:lnTo>
                      <a:pt x="0" y="4"/>
                    </a:lnTo>
                    <a:lnTo>
                      <a:pt x="8" y="4"/>
                    </a:lnTo>
                    <a:lnTo>
                      <a:pt x="15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8880" y="2378160"/>
                <a:ext cx="21960" cy="2009520"/>
              </a:xfrm>
              <a:custGeom>
                <a:avLst/>
                <a:gdLst/>
                <a:ahLst/>
                <a:rect l="l" t="t" r="r" b="b"/>
                <a:pathLst>
                  <a:path w="57" h="5064">
                    <a:moveTo>
                      <a:pt x="57" y="0"/>
                    </a:moveTo>
                    <a:lnTo>
                      <a:pt x="57" y="5064"/>
                    </a:lnTo>
                    <a:lnTo>
                      <a:pt x="50" y="5063"/>
                    </a:lnTo>
                    <a:lnTo>
                      <a:pt x="43" y="5063"/>
                    </a:lnTo>
                    <a:lnTo>
                      <a:pt x="36" y="5062"/>
                    </a:lnTo>
                    <a:lnTo>
                      <a:pt x="28" y="5061"/>
                    </a:lnTo>
                    <a:lnTo>
                      <a:pt x="21" y="5061"/>
                    </a:lnTo>
                    <a:lnTo>
                      <a:pt x="14" y="5060"/>
                    </a:lnTo>
                    <a:lnTo>
                      <a:pt x="7" y="5060"/>
                    </a:lnTo>
                    <a:lnTo>
                      <a:pt x="0" y="5059"/>
                    </a:lnTo>
                    <a:lnTo>
                      <a:pt x="0" y="6"/>
                    </a:lnTo>
                    <a:lnTo>
                      <a:pt x="7" y="4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257720" y="2379600"/>
                <a:ext cx="22320" cy="2008080"/>
              </a:xfrm>
              <a:custGeom>
                <a:avLst/>
                <a:gdLst/>
                <a:ahLst/>
                <a:rect l="l" t="t" r="r" b="b"/>
                <a:pathLst>
                  <a:path w="56" h="5059">
                    <a:moveTo>
                      <a:pt x="56" y="0"/>
                    </a:moveTo>
                    <a:lnTo>
                      <a:pt x="56" y="5059"/>
                    </a:lnTo>
                    <a:lnTo>
                      <a:pt x="49" y="5059"/>
                    </a:lnTo>
                    <a:lnTo>
                      <a:pt x="42" y="5058"/>
                    </a:lnTo>
                    <a:lnTo>
                      <a:pt x="35" y="5058"/>
                    </a:lnTo>
                    <a:lnTo>
                      <a:pt x="28" y="5057"/>
                    </a:lnTo>
                    <a:lnTo>
                      <a:pt x="21" y="5056"/>
                    </a:lnTo>
                    <a:lnTo>
                      <a:pt x="14" y="5056"/>
                    </a:lnTo>
                    <a:lnTo>
                      <a:pt x="7" y="5055"/>
                    </a:lnTo>
                    <a:lnTo>
                      <a:pt x="0" y="5055"/>
                    </a:lnTo>
                    <a:lnTo>
                      <a:pt x="0" y="6"/>
                    </a:lnTo>
                    <a:lnTo>
                      <a:pt x="7" y="5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246560" y="2381040"/>
                <a:ext cx="22320" cy="2005200"/>
              </a:xfrm>
              <a:custGeom>
                <a:avLst/>
                <a:gdLst/>
                <a:ahLst/>
                <a:rect l="l" t="t" r="r" b="b"/>
                <a:pathLst>
                  <a:path w="57" h="5053">
                    <a:moveTo>
                      <a:pt x="57" y="0"/>
                    </a:moveTo>
                    <a:lnTo>
                      <a:pt x="57" y="5053"/>
                    </a:lnTo>
                    <a:lnTo>
                      <a:pt x="50" y="5052"/>
                    </a:lnTo>
                    <a:lnTo>
                      <a:pt x="43" y="5052"/>
                    </a:lnTo>
                    <a:lnTo>
                      <a:pt x="36" y="5051"/>
                    </a:lnTo>
                    <a:lnTo>
                      <a:pt x="29" y="5051"/>
                    </a:lnTo>
                    <a:lnTo>
                      <a:pt x="22" y="5050"/>
                    </a:lnTo>
                    <a:lnTo>
                      <a:pt x="14" y="5049"/>
                    </a:lnTo>
                    <a:lnTo>
                      <a:pt x="8" y="5049"/>
                    </a:lnTo>
                    <a:lnTo>
                      <a:pt x="0" y="5047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9" y="2"/>
                    </a:lnTo>
                    <a:lnTo>
                      <a:pt x="36" y="1"/>
                    </a:lnTo>
                    <a:lnTo>
                      <a:pt x="43" y="1"/>
                    </a:lnTo>
                    <a:lnTo>
                      <a:pt x="5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235400" y="2381040"/>
                <a:ext cx="22320" cy="2003760"/>
              </a:xfrm>
              <a:custGeom>
                <a:avLst/>
                <a:gdLst/>
                <a:ahLst/>
                <a:rect l="l" t="t" r="r" b="b"/>
                <a:pathLst>
                  <a:path w="57" h="5049">
                    <a:moveTo>
                      <a:pt x="57" y="0"/>
                    </a:moveTo>
                    <a:lnTo>
                      <a:pt x="57" y="5049"/>
                    </a:lnTo>
                    <a:lnTo>
                      <a:pt x="50" y="5048"/>
                    </a:lnTo>
                    <a:lnTo>
                      <a:pt x="42" y="5047"/>
                    </a:lnTo>
                    <a:lnTo>
                      <a:pt x="36" y="5047"/>
                    </a:lnTo>
                    <a:lnTo>
                      <a:pt x="28" y="5045"/>
                    </a:lnTo>
                    <a:lnTo>
                      <a:pt x="22" y="5044"/>
                    </a:lnTo>
                    <a:lnTo>
                      <a:pt x="14" y="5044"/>
                    </a:lnTo>
                    <a:lnTo>
                      <a:pt x="8" y="5043"/>
                    </a:lnTo>
                    <a:lnTo>
                      <a:pt x="0" y="5042"/>
                    </a:lnTo>
                    <a:lnTo>
                      <a:pt x="0" y="5"/>
                    </a:lnTo>
                    <a:lnTo>
                      <a:pt x="8" y="4"/>
                    </a:lnTo>
                    <a:lnTo>
                      <a:pt x="14" y="4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224240" y="2382840"/>
                <a:ext cx="22320" cy="2001960"/>
              </a:xfrm>
              <a:custGeom>
                <a:avLst/>
                <a:gdLst/>
                <a:ahLst/>
                <a:rect l="l" t="t" r="r" b="b"/>
                <a:pathLst>
                  <a:path w="56" h="5042">
                    <a:moveTo>
                      <a:pt x="56" y="0"/>
                    </a:moveTo>
                    <a:lnTo>
                      <a:pt x="56" y="5042"/>
                    </a:lnTo>
                    <a:lnTo>
                      <a:pt x="50" y="5042"/>
                    </a:lnTo>
                    <a:lnTo>
                      <a:pt x="42" y="5041"/>
                    </a:lnTo>
                    <a:lnTo>
                      <a:pt x="36" y="5040"/>
                    </a:lnTo>
                    <a:lnTo>
                      <a:pt x="28" y="5039"/>
                    </a:lnTo>
                    <a:lnTo>
                      <a:pt x="22" y="5039"/>
                    </a:lnTo>
                    <a:lnTo>
                      <a:pt x="14" y="5038"/>
                    </a:lnTo>
                    <a:lnTo>
                      <a:pt x="6" y="5037"/>
                    </a:lnTo>
                    <a:lnTo>
                      <a:pt x="0" y="5037"/>
                    </a:lnTo>
                    <a:lnTo>
                      <a:pt x="0" y="5"/>
                    </a:lnTo>
                    <a:lnTo>
                      <a:pt x="6" y="4"/>
                    </a:lnTo>
                    <a:lnTo>
                      <a:pt x="14" y="3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6" y="1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13080" y="2384280"/>
                <a:ext cx="22320" cy="1998720"/>
              </a:xfrm>
              <a:custGeom>
                <a:avLst/>
                <a:gdLst/>
                <a:ahLst/>
                <a:rect l="l" t="t" r="r" b="b"/>
                <a:pathLst>
                  <a:path w="56" h="5037">
                    <a:moveTo>
                      <a:pt x="56" y="0"/>
                    </a:moveTo>
                    <a:lnTo>
                      <a:pt x="56" y="5037"/>
                    </a:lnTo>
                    <a:lnTo>
                      <a:pt x="50" y="5037"/>
                    </a:lnTo>
                    <a:lnTo>
                      <a:pt x="42" y="5036"/>
                    </a:lnTo>
                    <a:lnTo>
                      <a:pt x="34" y="5035"/>
                    </a:lnTo>
                    <a:lnTo>
                      <a:pt x="28" y="5035"/>
                    </a:lnTo>
                    <a:lnTo>
                      <a:pt x="20" y="5034"/>
                    </a:lnTo>
                    <a:lnTo>
                      <a:pt x="14" y="5033"/>
                    </a:lnTo>
                    <a:lnTo>
                      <a:pt x="6" y="5033"/>
                    </a:lnTo>
                    <a:lnTo>
                      <a:pt x="0" y="5032"/>
                    </a:lnTo>
                    <a:lnTo>
                      <a:pt x="0" y="7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20" y="4"/>
                    </a:lnTo>
                    <a:lnTo>
                      <a:pt x="28" y="3"/>
                    </a:lnTo>
                    <a:lnTo>
                      <a:pt x="34" y="2"/>
                    </a:lnTo>
                    <a:lnTo>
                      <a:pt x="42" y="1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00480" y="2384280"/>
                <a:ext cx="23760" cy="1997280"/>
              </a:xfrm>
              <a:custGeom>
                <a:avLst/>
                <a:gdLst/>
                <a:ahLst/>
                <a:rect l="l" t="t" r="r" b="b"/>
                <a:pathLst>
                  <a:path w="57" h="5032">
                    <a:moveTo>
                      <a:pt x="57" y="0"/>
                    </a:moveTo>
                    <a:lnTo>
                      <a:pt x="57" y="5032"/>
                    </a:lnTo>
                    <a:lnTo>
                      <a:pt x="49" y="5031"/>
                    </a:lnTo>
                    <a:lnTo>
                      <a:pt x="43" y="5030"/>
                    </a:lnTo>
                    <a:lnTo>
                      <a:pt x="35" y="5030"/>
                    </a:lnTo>
                    <a:lnTo>
                      <a:pt x="29" y="5029"/>
                    </a:lnTo>
                    <a:lnTo>
                      <a:pt x="21" y="5028"/>
                    </a:lnTo>
                    <a:lnTo>
                      <a:pt x="15" y="5028"/>
                    </a:lnTo>
                    <a:lnTo>
                      <a:pt x="7" y="5027"/>
                    </a:lnTo>
                    <a:lnTo>
                      <a:pt x="0" y="502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89320" y="2386080"/>
                <a:ext cx="23760" cy="1993680"/>
              </a:xfrm>
              <a:custGeom>
                <a:avLst/>
                <a:gdLst/>
                <a:ahLst/>
                <a:rect l="l" t="t" r="r" b="b"/>
                <a:pathLst>
                  <a:path w="57" h="5025">
                    <a:moveTo>
                      <a:pt x="57" y="0"/>
                    </a:moveTo>
                    <a:lnTo>
                      <a:pt x="57" y="5025"/>
                    </a:lnTo>
                    <a:lnTo>
                      <a:pt x="49" y="5024"/>
                    </a:lnTo>
                    <a:lnTo>
                      <a:pt x="43" y="5023"/>
                    </a:lnTo>
                    <a:lnTo>
                      <a:pt x="35" y="5023"/>
                    </a:lnTo>
                    <a:lnTo>
                      <a:pt x="28" y="5022"/>
                    </a:lnTo>
                    <a:lnTo>
                      <a:pt x="21" y="5021"/>
                    </a:lnTo>
                    <a:lnTo>
                      <a:pt x="14" y="5021"/>
                    </a:lnTo>
                    <a:lnTo>
                      <a:pt x="7" y="5019"/>
                    </a:lnTo>
                    <a:lnTo>
                      <a:pt x="0" y="5018"/>
                    </a:lnTo>
                    <a:lnTo>
                      <a:pt x="0" y="5"/>
                    </a:lnTo>
                    <a:lnTo>
                      <a:pt x="7" y="5"/>
                    </a:lnTo>
                    <a:lnTo>
                      <a:pt x="14" y="4"/>
                    </a:lnTo>
                    <a:lnTo>
                      <a:pt x="21" y="3"/>
                    </a:lnTo>
                    <a:lnTo>
                      <a:pt x="28" y="2"/>
                    </a:lnTo>
                    <a:lnTo>
                      <a:pt x="35" y="2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178160" y="2387520"/>
                <a:ext cx="22320" cy="1992240"/>
              </a:xfrm>
              <a:custGeom>
                <a:avLst/>
                <a:gdLst/>
                <a:ahLst/>
                <a:rect l="l" t="t" r="r" b="b"/>
                <a:pathLst>
                  <a:path w="57" h="5020">
                    <a:moveTo>
                      <a:pt x="57" y="0"/>
                    </a:moveTo>
                    <a:lnTo>
                      <a:pt x="57" y="5020"/>
                    </a:lnTo>
                    <a:lnTo>
                      <a:pt x="50" y="5019"/>
                    </a:lnTo>
                    <a:lnTo>
                      <a:pt x="43" y="5019"/>
                    </a:lnTo>
                    <a:lnTo>
                      <a:pt x="36" y="5017"/>
                    </a:lnTo>
                    <a:lnTo>
                      <a:pt x="29" y="5016"/>
                    </a:lnTo>
                    <a:lnTo>
                      <a:pt x="22" y="5015"/>
                    </a:lnTo>
                    <a:lnTo>
                      <a:pt x="15" y="5015"/>
                    </a:lnTo>
                    <a:lnTo>
                      <a:pt x="8" y="5014"/>
                    </a:lnTo>
                    <a:lnTo>
                      <a:pt x="0" y="5013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5" y="5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167360" y="2388960"/>
                <a:ext cx="21960" cy="1989360"/>
              </a:xfrm>
              <a:custGeom>
                <a:avLst/>
                <a:gdLst/>
                <a:ahLst/>
                <a:rect l="l" t="t" r="r" b="b"/>
                <a:pathLst>
                  <a:path w="57" h="5013">
                    <a:moveTo>
                      <a:pt x="57" y="0"/>
                    </a:moveTo>
                    <a:lnTo>
                      <a:pt x="57" y="5013"/>
                    </a:lnTo>
                    <a:lnTo>
                      <a:pt x="50" y="5012"/>
                    </a:lnTo>
                    <a:lnTo>
                      <a:pt x="43" y="5012"/>
                    </a:lnTo>
                    <a:lnTo>
                      <a:pt x="36" y="5011"/>
                    </a:lnTo>
                    <a:lnTo>
                      <a:pt x="28" y="5010"/>
                    </a:lnTo>
                    <a:lnTo>
                      <a:pt x="21" y="5009"/>
                    </a:lnTo>
                    <a:lnTo>
                      <a:pt x="14" y="5008"/>
                    </a:lnTo>
                    <a:lnTo>
                      <a:pt x="7" y="5008"/>
                    </a:lnTo>
                    <a:lnTo>
                      <a:pt x="0" y="5007"/>
                    </a:lnTo>
                    <a:lnTo>
                      <a:pt x="0" y="8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156200" y="2390760"/>
                <a:ext cx="21960" cy="1985760"/>
              </a:xfrm>
              <a:custGeom>
                <a:avLst/>
                <a:gdLst/>
                <a:ahLst/>
                <a:rect l="l" t="t" r="r" b="b"/>
                <a:pathLst>
                  <a:path w="56" h="5006">
                    <a:moveTo>
                      <a:pt x="56" y="0"/>
                    </a:moveTo>
                    <a:lnTo>
                      <a:pt x="56" y="5006"/>
                    </a:lnTo>
                    <a:lnTo>
                      <a:pt x="49" y="5005"/>
                    </a:lnTo>
                    <a:lnTo>
                      <a:pt x="42" y="5004"/>
                    </a:lnTo>
                    <a:lnTo>
                      <a:pt x="35" y="5004"/>
                    </a:lnTo>
                    <a:lnTo>
                      <a:pt x="28" y="5003"/>
                    </a:lnTo>
                    <a:lnTo>
                      <a:pt x="21" y="5002"/>
                    </a:lnTo>
                    <a:lnTo>
                      <a:pt x="14" y="5001"/>
                    </a:lnTo>
                    <a:lnTo>
                      <a:pt x="7" y="5000"/>
                    </a:lnTo>
                    <a:lnTo>
                      <a:pt x="0" y="5000"/>
                    </a:lnTo>
                    <a:lnTo>
                      <a:pt x="0" y="7"/>
                    </a:lnTo>
                    <a:lnTo>
                      <a:pt x="7" y="6"/>
                    </a:lnTo>
                    <a:lnTo>
                      <a:pt x="14" y="5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145040" y="2390760"/>
                <a:ext cx="22320" cy="1984320"/>
              </a:xfrm>
              <a:custGeom>
                <a:avLst/>
                <a:gdLst/>
                <a:ahLst/>
                <a:rect l="l" t="t" r="r" b="b"/>
                <a:pathLst>
                  <a:path w="57" h="4999">
                    <a:moveTo>
                      <a:pt x="57" y="0"/>
                    </a:moveTo>
                    <a:lnTo>
                      <a:pt x="57" y="4999"/>
                    </a:lnTo>
                    <a:lnTo>
                      <a:pt x="50" y="4998"/>
                    </a:lnTo>
                    <a:lnTo>
                      <a:pt x="43" y="4997"/>
                    </a:lnTo>
                    <a:lnTo>
                      <a:pt x="36" y="4996"/>
                    </a:lnTo>
                    <a:lnTo>
                      <a:pt x="29" y="4996"/>
                    </a:lnTo>
                    <a:lnTo>
                      <a:pt x="22" y="4995"/>
                    </a:lnTo>
                    <a:lnTo>
                      <a:pt x="14" y="4993"/>
                    </a:lnTo>
                    <a:lnTo>
                      <a:pt x="8" y="4992"/>
                    </a:lnTo>
                    <a:lnTo>
                      <a:pt x="0" y="4991"/>
                    </a:lnTo>
                    <a:lnTo>
                      <a:pt x="0" y="6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9" y="3"/>
                    </a:lnTo>
                    <a:lnTo>
                      <a:pt x="36" y="2"/>
                    </a:lnTo>
                    <a:lnTo>
                      <a:pt x="43" y="1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6b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133880" y="2392200"/>
                <a:ext cx="22320" cy="1981440"/>
              </a:xfrm>
              <a:custGeom>
                <a:avLst/>
                <a:gdLst/>
                <a:ahLst/>
                <a:rect l="l" t="t" r="r" b="b"/>
                <a:pathLst>
                  <a:path w="57" h="4993">
                    <a:moveTo>
                      <a:pt x="57" y="0"/>
                    </a:moveTo>
                    <a:lnTo>
                      <a:pt x="57" y="4993"/>
                    </a:lnTo>
                    <a:lnTo>
                      <a:pt x="50" y="4992"/>
                    </a:lnTo>
                    <a:lnTo>
                      <a:pt x="42" y="4990"/>
                    </a:lnTo>
                    <a:lnTo>
                      <a:pt x="36" y="4989"/>
                    </a:lnTo>
                    <a:lnTo>
                      <a:pt x="28" y="4988"/>
                    </a:lnTo>
                    <a:lnTo>
                      <a:pt x="22" y="4987"/>
                    </a:lnTo>
                    <a:lnTo>
                      <a:pt x="14" y="4986"/>
                    </a:lnTo>
                    <a:lnTo>
                      <a:pt x="8" y="4986"/>
                    </a:lnTo>
                    <a:lnTo>
                      <a:pt x="0" y="4985"/>
                    </a:lnTo>
                    <a:lnTo>
                      <a:pt x="0" y="7"/>
                    </a:lnTo>
                    <a:lnTo>
                      <a:pt x="8" y="6"/>
                    </a:lnTo>
                    <a:lnTo>
                      <a:pt x="14" y="5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6" y="2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122720" y="2394000"/>
                <a:ext cx="22320" cy="1977840"/>
              </a:xfrm>
              <a:custGeom>
                <a:avLst/>
                <a:gdLst/>
                <a:ahLst/>
                <a:rect l="l" t="t" r="r" b="b"/>
                <a:pathLst>
                  <a:path w="56" h="4985">
                    <a:moveTo>
                      <a:pt x="56" y="0"/>
                    </a:moveTo>
                    <a:lnTo>
                      <a:pt x="56" y="4985"/>
                    </a:lnTo>
                    <a:lnTo>
                      <a:pt x="50" y="4984"/>
                    </a:lnTo>
                    <a:lnTo>
                      <a:pt x="42" y="4983"/>
                    </a:lnTo>
                    <a:lnTo>
                      <a:pt x="36" y="4983"/>
                    </a:lnTo>
                    <a:lnTo>
                      <a:pt x="28" y="4982"/>
                    </a:lnTo>
                    <a:lnTo>
                      <a:pt x="22" y="4981"/>
                    </a:lnTo>
                    <a:lnTo>
                      <a:pt x="14" y="4980"/>
                    </a:lnTo>
                    <a:lnTo>
                      <a:pt x="6" y="4979"/>
                    </a:lnTo>
                    <a:lnTo>
                      <a:pt x="0" y="4978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11560" y="2395440"/>
                <a:ext cx="22320" cy="1976400"/>
              </a:xfrm>
              <a:custGeom>
                <a:avLst/>
                <a:gdLst/>
                <a:ahLst/>
                <a:rect l="l" t="t" r="r" b="b"/>
                <a:pathLst>
                  <a:path w="56" h="4978">
                    <a:moveTo>
                      <a:pt x="56" y="0"/>
                    </a:moveTo>
                    <a:lnTo>
                      <a:pt x="56" y="4978"/>
                    </a:lnTo>
                    <a:lnTo>
                      <a:pt x="50" y="4977"/>
                    </a:lnTo>
                    <a:lnTo>
                      <a:pt x="42" y="4976"/>
                    </a:lnTo>
                    <a:lnTo>
                      <a:pt x="34" y="4975"/>
                    </a:lnTo>
                    <a:lnTo>
                      <a:pt x="28" y="4974"/>
                    </a:lnTo>
                    <a:lnTo>
                      <a:pt x="20" y="4973"/>
                    </a:lnTo>
                    <a:lnTo>
                      <a:pt x="14" y="4972"/>
                    </a:lnTo>
                    <a:lnTo>
                      <a:pt x="6" y="4972"/>
                    </a:lnTo>
                    <a:lnTo>
                      <a:pt x="0" y="4971"/>
                    </a:lnTo>
                    <a:lnTo>
                      <a:pt x="0" y="8"/>
                    </a:lnTo>
                    <a:lnTo>
                      <a:pt x="6" y="7"/>
                    </a:lnTo>
                    <a:lnTo>
                      <a:pt x="14" y="6"/>
                    </a:lnTo>
                    <a:lnTo>
                      <a:pt x="20" y="5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00400" y="2397240"/>
                <a:ext cx="22320" cy="1971360"/>
              </a:xfrm>
              <a:custGeom>
                <a:avLst/>
                <a:gdLst/>
                <a:ahLst/>
                <a:rect l="l" t="t" r="r" b="b"/>
                <a:pathLst>
                  <a:path w="57" h="4970">
                    <a:moveTo>
                      <a:pt x="57" y="0"/>
                    </a:moveTo>
                    <a:lnTo>
                      <a:pt x="57" y="4970"/>
                    </a:lnTo>
                    <a:lnTo>
                      <a:pt x="49" y="4969"/>
                    </a:lnTo>
                    <a:lnTo>
                      <a:pt x="43" y="4968"/>
                    </a:lnTo>
                    <a:lnTo>
                      <a:pt x="35" y="4967"/>
                    </a:lnTo>
                    <a:lnTo>
                      <a:pt x="29" y="4967"/>
                    </a:lnTo>
                    <a:lnTo>
                      <a:pt x="21" y="4965"/>
                    </a:lnTo>
                    <a:lnTo>
                      <a:pt x="15" y="4964"/>
                    </a:lnTo>
                    <a:lnTo>
                      <a:pt x="7" y="4963"/>
                    </a:lnTo>
                    <a:lnTo>
                      <a:pt x="0" y="4962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089240" y="2398680"/>
                <a:ext cx="22320" cy="1969920"/>
              </a:xfrm>
              <a:custGeom>
                <a:avLst/>
                <a:gdLst/>
                <a:ahLst/>
                <a:rect l="l" t="t" r="r" b="b"/>
                <a:pathLst>
                  <a:path w="57" h="4963">
                    <a:moveTo>
                      <a:pt x="57" y="0"/>
                    </a:moveTo>
                    <a:lnTo>
                      <a:pt x="57" y="4963"/>
                    </a:lnTo>
                    <a:lnTo>
                      <a:pt x="49" y="4961"/>
                    </a:lnTo>
                    <a:lnTo>
                      <a:pt x="43" y="4960"/>
                    </a:lnTo>
                    <a:lnTo>
                      <a:pt x="35" y="4959"/>
                    </a:lnTo>
                    <a:lnTo>
                      <a:pt x="28" y="4958"/>
                    </a:lnTo>
                    <a:lnTo>
                      <a:pt x="21" y="4957"/>
                    </a:lnTo>
                    <a:lnTo>
                      <a:pt x="14" y="4956"/>
                    </a:lnTo>
                    <a:lnTo>
                      <a:pt x="7" y="4955"/>
                    </a:lnTo>
                    <a:lnTo>
                      <a:pt x="0" y="4954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78440" y="2400120"/>
                <a:ext cx="21960" cy="1967040"/>
              </a:xfrm>
              <a:custGeom>
                <a:avLst/>
                <a:gdLst/>
                <a:ahLst/>
                <a:rect l="l" t="t" r="r" b="b"/>
                <a:pathLst>
                  <a:path w="57" h="4954">
                    <a:moveTo>
                      <a:pt x="57" y="0"/>
                    </a:moveTo>
                    <a:lnTo>
                      <a:pt x="57" y="4954"/>
                    </a:lnTo>
                    <a:lnTo>
                      <a:pt x="50" y="4953"/>
                    </a:lnTo>
                    <a:lnTo>
                      <a:pt x="43" y="4952"/>
                    </a:lnTo>
                    <a:lnTo>
                      <a:pt x="36" y="4951"/>
                    </a:lnTo>
                    <a:lnTo>
                      <a:pt x="29" y="4950"/>
                    </a:lnTo>
                    <a:lnTo>
                      <a:pt x="22" y="4949"/>
                    </a:lnTo>
                    <a:lnTo>
                      <a:pt x="15" y="4948"/>
                    </a:lnTo>
                    <a:lnTo>
                      <a:pt x="8" y="4947"/>
                    </a:lnTo>
                    <a:lnTo>
                      <a:pt x="0" y="4946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5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67280" y="2401920"/>
                <a:ext cx="21960" cy="1962000"/>
              </a:xfrm>
              <a:custGeom>
                <a:avLst/>
                <a:gdLst/>
                <a:ahLst/>
                <a:rect l="l" t="t" r="r" b="b"/>
                <a:pathLst>
                  <a:path w="57" h="4945">
                    <a:moveTo>
                      <a:pt x="57" y="0"/>
                    </a:moveTo>
                    <a:lnTo>
                      <a:pt x="57" y="4945"/>
                    </a:lnTo>
                    <a:lnTo>
                      <a:pt x="50" y="4944"/>
                    </a:lnTo>
                    <a:lnTo>
                      <a:pt x="43" y="4943"/>
                    </a:lnTo>
                    <a:lnTo>
                      <a:pt x="36" y="4942"/>
                    </a:lnTo>
                    <a:lnTo>
                      <a:pt x="28" y="4941"/>
                    </a:lnTo>
                    <a:lnTo>
                      <a:pt x="21" y="4939"/>
                    </a:lnTo>
                    <a:lnTo>
                      <a:pt x="14" y="4938"/>
                    </a:lnTo>
                    <a:lnTo>
                      <a:pt x="7" y="4937"/>
                    </a:lnTo>
                    <a:lnTo>
                      <a:pt x="0" y="4936"/>
                    </a:lnTo>
                    <a:lnTo>
                      <a:pt x="0" y="8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56120" y="2403360"/>
                <a:ext cx="22320" cy="1959120"/>
              </a:xfrm>
              <a:custGeom>
                <a:avLst/>
                <a:gdLst/>
                <a:ahLst/>
                <a:rect l="l" t="t" r="r" b="b"/>
                <a:pathLst>
                  <a:path w="56" h="4937">
                    <a:moveTo>
                      <a:pt x="56" y="0"/>
                    </a:moveTo>
                    <a:lnTo>
                      <a:pt x="56" y="4937"/>
                    </a:lnTo>
                    <a:lnTo>
                      <a:pt x="49" y="4935"/>
                    </a:lnTo>
                    <a:lnTo>
                      <a:pt x="42" y="4934"/>
                    </a:lnTo>
                    <a:lnTo>
                      <a:pt x="35" y="4933"/>
                    </a:lnTo>
                    <a:lnTo>
                      <a:pt x="28" y="4932"/>
                    </a:lnTo>
                    <a:lnTo>
                      <a:pt x="21" y="4931"/>
                    </a:lnTo>
                    <a:lnTo>
                      <a:pt x="14" y="4930"/>
                    </a:lnTo>
                    <a:lnTo>
                      <a:pt x="7" y="4929"/>
                    </a:lnTo>
                    <a:lnTo>
                      <a:pt x="0" y="4928"/>
                    </a:lnTo>
                    <a:lnTo>
                      <a:pt x="0" y="9"/>
                    </a:lnTo>
                    <a:lnTo>
                      <a:pt x="7" y="7"/>
                    </a:lnTo>
                    <a:lnTo>
                      <a:pt x="14" y="6"/>
                    </a:lnTo>
                    <a:lnTo>
                      <a:pt x="21" y="5"/>
                    </a:lnTo>
                    <a:lnTo>
                      <a:pt x="28" y="4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43520" y="2405160"/>
                <a:ext cx="23760" cy="1955520"/>
              </a:xfrm>
              <a:custGeom>
                <a:avLst/>
                <a:gdLst/>
                <a:ahLst/>
                <a:rect l="l" t="t" r="r" b="b"/>
                <a:pathLst>
                  <a:path w="57" h="4928">
                    <a:moveTo>
                      <a:pt x="57" y="0"/>
                    </a:moveTo>
                    <a:lnTo>
                      <a:pt x="57" y="4928"/>
                    </a:lnTo>
                    <a:lnTo>
                      <a:pt x="50" y="4927"/>
                    </a:lnTo>
                    <a:lnTo>
                      <a:pt x="43" y="4926"/>
                    </a:lnTo>
                    <a:lnTo>
                      <a:pt x="36" y="4925"/>
                    </a:lnTo>
                    <a:lnTo>
                      <a:pt x="29" y="4924"/>
                    </a:lnTo>
                    <a:lnTo>
                      <a:pt x="22" y="4923"/>
                    </a:lnTo>
                    <a:lnTo>
                      <a:pt x="14" y="4922"/>
                    </a:lnTo>
                    <a:lnTo>
                      <a:pt x="8" y="4921"/>
                    </a:lnTo>
                    <a:lnTo>
                      <a:pt x="0" y="4920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9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32360" y="2406600"/>
                <a:ext cx="23760" cy="1952640"/>
              </a:xfrm>
              <a:custGeom>
                <a:avLst/>
                <a:gdLst/>
                <a:ahLst/>
                <a:rect l="l" t="t" r="r" b="b"/>
                <a:pathLst>
                  <a:path w="57" h="4919">
                    <a:moveTo>
                      <a:pt x="57" y="0"/>
                    </a:moveTo>
                    <a:lnTo>
                      <a:pt x="57" y="4919"/>
                    </a:lnTo>
                    <a:lnTo>
                      <a:pt x="50" y="4918"/>
                    </a:lnTo>
                    <a:lnTo>
                      <a:pt x="42" y="4917"/>
                    </a:lnTo>
                    <a:lnTo>
                      <a:pt x="36" y="4916"/>
                    </a:lnTo>
                    <a:lnTo>
                      <a:pt x="28" y="4915"/>
                    </a:lnTo>
                    <a:lnTo>
                      <a:pt x="22" y="4912"/>
                    </a:lnTo>
                    <a:lnTo>
                      <a:pt x="14" y="4911"/>
                    </a:lnTo>
                    <a:lnTo>
                      <a:pt x="8" y="4910"/>
                    </a:lnTo>
                    <a:lnTo>
                      <a:pt x="0" y="490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6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21200" y="2408040"/>
                <a:ext cx="22320" cy="1949760"/>
              </a:xfrm>
              <a:custGeom>
                <a:avLst/>
                <a:gdLst/>
                <a:ahLst/>
                <a:rect l="l" t="t" r="r" b="b"/>
                <a:pathLst>
                  <a:path w="56" h="4911">
                    <a:moveTo>
                      <a:pt x="56" y="0"/>
                    </a:moveTo>
                    <a:lnTo>
                      <a:pt x="56" y="4911"/>
                    </a:lnTo>
                    <a:lnTo>
                      <a:pt x="50" y="4908"/>
                    </a:lnTo>
                    <a:lnTo>
                      <a:pt x="42" y="4907"/>
                    </a:lnTo>
                    <a:lnTo>
                      <a:pt x="36" y="4906"/>
                    </a:lnTo>
                    <a:lnTo>
                      <a:pt x="28" y="4905"/>
                    </a:lnTo>
                    <a:lnTo>
                      <a:pt x="22" y="4904"/>
                    </a:lnTo>
                    <a:lnTo>
                      <a:pt x="14" y="4903"/>
                    </a:lnTo>
                    <a:lnTo>
                      <a:pt x="6" y="4902"/>
                    </a:lnTo>
                    <a:lnTo>
                      <a:pt x="0" y="4901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4" y="7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10040" y="2411280"/>
                <a:ext cx="22320" cy="1944720"/>
              </a:xfrm>
              <a:custGeom>
                <a:avLst/>
                <a:gdLst/>
                <a:ahLst/>
                <a:rect l="l" t="t" r="r" b="b"/>
                <a:pathLst>
                  <a:path w="56" h="4901">
                    <a:moveTo>
                      <a:pt x="56" y="0"/>
                    </a:moveTo>
                    <a:lnTo>
                      <a:pt x="56" y="4901"/>
                    </a:lnTo>
                    <a:lnTo>
                      <a:pt x="50" y="4900"/>
                    </a:lnTo>
                    <a:lnTo>
                      <a:pt x="42" y="4899"/>
                    </a:lnTo>
                    <a:lnTo>
                      <a:pt x="34" y="4898"/>
                    </a:lnTo>
                    <a:lnTo>
                      <a:pt x="28" y="4897"/>
                    </a:lnTo>
                    <a:lnTo>
                      <a:pt x="20" y="4896"/>
                    </a:lnTo>
                    <a:lnTo>
                      <a:pt x="14" y="4895"/>
                    </a:lnTo>
                    <a:lnTo>
                      <a:pt x="6" y="4893"/>
                    </a:lnTo>
                    <a:lnTo>
                      <a:pt x="0" y="4891"/>
                    </a:lnTo>
                    <a:lnTo>
                      <a:pt x="0" y="10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98880" y="2413080"/>
                <a:ext cx="22320" cy="1941480"/>
              </a:xfrm>
              <a:custGeom>
                <a:avLst/>
                <a:gdLst/>
                <a:ahLst/>
                <a:rect l="l" t="t" r="r" b="b"/>
                <a:pathLst>
                  <a:path w="57" h="4891">
                    <a:moveTo>
                      <a:pt x="57" y="0"/>
                    </a:moveTo>
                    <a:lnTo>
                      <a:pt x="57" y="4891"/>
                    </a:lnTo>
                    <a:lnTo>
                      <a:pt x="49" y="4890"/>
                    </a:lnTo>
                    <a:lnTo>
                      <a:pt x="43" y="4889"/>
                    </a:lnTo>
                    <a:lnTo>
                      <a:pt x="35" y="4887"/>
                    </a:lnTo>
                    <a:lnTo>
                      <a:pt x="29" y="4885"/>
                    </a:lnTo>
                    <a:lnTo>
                      <a:pt x="21" y="4884"/>
                    </a:lnTo>
                    <a:lnTo>
                      <a:pt x="15" y="4883"/>
                    </a:lnTo>
                    <a:lnTo>
                      <a:pt x="7" y="4882"/>
                    </a:lnTo>
                    <a:lnTo>
                      <a:pt x="0" y="4881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8b3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87720" y="2414520"/>
                <a:ext cx="22320" cy="1936800"/>
              </a:xfrm>
              <a:custGeom>
                <a:avLst/>
                <a:gdLst/>
                <a:ahLst/>
                <a:rect l="l" t="t" r="r" b="b"/>
                <a:pathLst>
                  <a:path w="57" h="4881">
                    <a:moveTo>
                      <a:pt x="57" y="0"/>
                    </a:moveTo>
                    <a:lnTo>
                      <a:pt x="57" y="4881"/>
                    </a:lnTo>
                    <a:lnTo>
                      <a:pt x="49" y="4880"/>
                    </a:lnTo>
                    <a:lnTo>
                      <a:pt x="43" y="4879"/>
                    </a:lnTo>
                    <a:lnTo>
                      <a:pt x="35" y="4878"/>
                    </a:lnTo>
                    <a:lnTo>
                      <a:pt x="28" y="4877"/>
                    </a:lnTo>
                    <a:lnTo>
                      <a:pt x="21" y="4875"/>
                    </a:lnTo>
                    <a:lnTo>
                      <a:pt x="14" y="4874"/>
                    </a:lnTo>
                    <a:lnTo>
                      <a:pt x="7" y="4873"/>
                    </a:lnTo>
                    <a:lnTo>
                      <a:pt x="0" y="4872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76560" y="2415960"/>
                <a:ext cx="22320" cy="1933560"/>
              </a:xfrm>
              <a:custGeom>
                <a:avLst/>
                <a:gdLst/>
                <a:ahLst/>
                <a:rect l="l" t="t" r="r" b="b"/>
                <a:pathLst>
                  <a:path w="57" h="4872">
                    <a:moveTo>
                      <a:pt x="57" y="0"/>
                    </a:moveTo>
                    <a:lnTo>
                      <a:pt x="57" y="4872"/>
                    </a:lnTo>
                    <a:lnTo>
                      <a:pt x="50" y="4870"/>
                    </a:lnTo>
                    <a:lnTo>
                      <a:pt x="43" y="4869"/>
                    </a:lnTo>
                    <a:lnTo>
                      <a:pt x="36" y="4868"/>
                    </a:lnTo>
                    <a:lnTo>
                      <a:pt x="29" y="4867"/>
                    </a:lnTo>
                    <a:lnTo>
                      <a:pt x="22" y="4866"/>
                    </a:lnTo>
                    <a:lnTo>
                      <a:pt x="15" y="4865"/>
                    </a:lnTo>
                    <a:lnTo>
                      <a:pt x="8" y="4862"/>
                    </a:lnTo>
                    <a:lnTo>
                      <a:pt x="0" y="4861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5" y="8"/>
                    </a:lnTo>
                    <a:lnTo>
                      <a:pt x="22" y="7"/>
                    </a:lnTo>
                    <a:lnTo>
                      <a:pt x="29" y="6"/>
                    </a:lnTo>
                    <a:lnTo>
                      <a:pt x="36" y="4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65400" y="2419200"/>
                <a:ext cx="22320" cy="1928880"/>
              </a:xfrm>
              <a:custGeom>
                <a:avLst/>
                <a:gdLst/>
                <a:ahLst/>
                <a:rect l="l" t="t" r="r" b="b"/>
                <a:pathLst>
                  <a:path w="57" h="4861">
                    <a:moveTo>
                      <a:pt x="57" y="0"/>
                    </a:moveTo>
                    <a:lnTo>
                      <a:pt x="57" y="4861"/>
                    </a:lnTo>
                    <a:lnTo>
                      <a:pt x="50" y="4860"/>
                    </a:lnTo>
                    <a:lnTo>
                      <a:pt x="43" y="4858"/>
                    </a:lnTo>
                    <a:lnTo>
                      <a:pt x="36" y="4856"/>
                    </a:lnTo>
                    <a:lnTo>
                      <a:pt x="28" y="4855"/>
                    </a:lnTo>
                    <a:lnTo>
                      <a:pt x="21" y="4854"/>
                    </a:lnTo>
                    <a:lnTo>
                      <a:pt x="14" y="4853"/>
                    </a:lnTo>
                    <a:lnTo>
                      <a:pt x="7" y="4851"/>
                    </a:lnTo>
                    <a:lnTo>
                      <a:pt x="0" y="4850"/>
                    </a:lnTo>
                    <a:lnTo>
                      <a:pt x="0" y="9"/>
                    </a:lnTo>
                    <a:lnTo>
                      <a:pt x="7" y="8"/>
                    </a:lnTo>
                    <a:lnTo>
                      <a:pt x="14" y="7"/>
                    </a:lnTo>
                    <a:lnTo>
                      <a:pt x="21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3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4600" y="2421000"/>
                <a:ext cx="21960" cy="1925640"/>
              </a:xfrm>
              <a:custGeom>
                <a:avLst/>
                <a:gdLst/>
                <a:ahLst/>
                <a:rect l="l" t="t" r="r" b="b"/>
                <a:pathLst>
                  <a:path w="56" h="4850">
                    <a:moveTo>
                      <a:pt x="56" y="0"/>
                    </a:moveTo>
                    <a:lnTo>
                      <a:pt x="56" y="4850"/>
                    </a:lnTo>
                    <a:lnTo>
                      <a:pt x="49" y="4849"/>
                    </a:lnTo>
                    <a:lnTo>
                      <a:pt x="42" y="4848"/>
                    </a:lnTo>
                    <a:lnTo>
                      <a:pt x="35" y="4846"/>
                    </a:lnTo>
                    <a:lnTo>
                      <a:pt x="28" y="4845"/>
                    </a:lnTo>
                    <a:lnTo>
                      <a:pt x="21" y="4844"/>
                    </a:lnTo>
                    <a:lnTo>
                      <a:pt x="14" y="4843"/>
                    </a:lnTo>
                    <a:lnTo>
                      <a:pt x="7" y="4841"/>
                    </a:lnTo>
                    <a:lnTo>
                      <a:pt x="0" y="4840"/>
                    </a:lnTo>
                    <a:lnTo>
                      <a:pt x="0" y="11"/>
                    </a:lnTo>
                    <a:lnTo>
                      <a:pt x="7" y="9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3"/>
                    </a:lnTo>
                    <a:lnTo>
                      <a:pt x="42" y="2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943440" y="2422440"/>
                <a:ext cx="21960" cy="1920960"/>
              </a:xfrm>
              <a:custGeom>
                <a:avLst/>
                <a:gdLst/>
                <a:ahLst/>
                <a:rect l="l" t="t" r="r" b="b"/>
                <a:pathLst>
                  <a:path w="57" h="4841">
                    <a:moveTo>
                      <a:pt x="57" y="0"/>
                    </a:moveTo>
                    <a:lnTo>
                      <a:pt x="57" y="4841"/>
                    </a:lnTo>
                    <a:lnTo>
                      <a:pt x="50" y="4840"/>
                    </a:lnTo>
                    <a:lnTo>
                      <a:pt x="43" y="4839"/>
                    </a:lnTo>
                    <a:lnTo>
                      <a:pt x="36" y="4837"/>
                    </a:lnTo>
                    <a:lnTo>
                      <a:pt x="28" y="4836"/>
                    </a:lnTo>
                    <a:lnTo>
                      <a:pt x="22" y="4834"/>
                    </a:lnTo>
                    <a:lnTo>
                      <a:pt x="14" y="4832"/>
                    </a:lnTo>
                    <a:lnTo>
                      <a:pt x="8" y="4831"/>
                    </a:lnTo>
                    <a:lnTo>
                      <a:pt x="0" y="4830"/>
                    </a:lnTo>
                    <a:lnTo>
                      <a:pt x="0" y="12"/>
                    </a:lnTo>
                    <a:lnTo>
                      <a:pt x="8" y="10"/>
                    </a:lnTo>
                    <a:lnTo>
                      <a:pt x="14" y="9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2716200" y="2030400"/>
              <a:ext cx="3714840" cy="2370240"/>
              <a:chOff x="2716200" y="2030400"/>
              <a:chExt cx="3714840" cy="2370240"/>
            </a:xfrm>
          </p:grpSpPr>
          <p:sp>
            <p:nvSpPr>
              <p:cNvPr id="881" name=""/>
              <p:cNvSpPr/>
              <p:nvPr/>
            </p:nvSpPr>
            <p:spPr>
              <a:xfrm>
                <a:off x="3932280" y="2425680"/>
                <a:ext cx="22320" cy="1915920"/>
              </a:xfrm>
              <a:custGeom>
                <a:avLst/>
                <a:gdLst/>
                <a:ahLst/>
                <a:rect l="l" t="t" r="r" b="b"/>
                <a:pathLst>
                  <a:path w="57" h="4829">
                    <a:moveTo>
                      <a:pt x="57" y="0"/>
                    </a:moveTo>
                    <a:lnTo>
                      <a:pt x="57" y="4829"/>
                    </a:lnTo>
                    <a:lnTo>
                      <a:pt x="50" y="4827"/>
                    </a:lnTo>
                    <a:lnTo>
                      <a:pt x="42" y="4825"/>
                    </a:lnTo>
                    <a:lnTo>
                      <a:pt x="36" y="4824"/>
                    </a:lnTo>
                    <a:lnTo>
                      <a:pt x="28" y="4823"/>
                    </a:lnTo>
                    <a:lnTo>
                      <a:pt x="22" y="4822"/>
                    </a:lnTo>
                    <a:lnTo>
                      <a:pt x="14" y="4820"/>
                    </a:lnTo>
                    <a:lnTo>
                      <a:pt x="8" y="4819"/>
                    </a:lnTo>
                    <a:lnTo>
                      <a:pt x="0" y="481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14" y="7"/>
                    </a:lnTo>
                    <a:lnTo>
                      <a:pt x="22" y="6"/>
                    </a:lnTo>
                    <a:lnTo>
                      <a:pt x="28" y="5"/>
                    </a:lnTo>
                    <a:lnTo>
                      <a:pt x="36" y="3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919680" y="2427120"/>
                <a:ext cx="23760" cy="1913040"/>
              </a:xfrm>
              <a:custGeom>
                <a:avLst/>
                <a:gdLst/>
                <a:ahLst/>
                <a:rect l="l" t="t" r="r" b="b"/>
                <a:pathLst>
                  <a:path w="56" h="4818">
                    <a:moveTo>
                      <a:pt x="56" y="0"/>
                    </a:moveTo>
                    <a:lnTo>
                      <a:pt x="56" y="4818"/>
                    </a:lnTo>
                    <a:lnTo>
                      <a:pt x="50" y="4817"/>
                    </a:lnTo>
                    <a:lnTo>
                      <a:pt x="42" y="4815"/>
                    </a:lnTo>
                    <a:lnTo>
                      <a:pt x="36" y="4814"/>
                    </a:lnTo>
                    <a:lnTo>
                      <a:pt x="28" y="4813"/>
                    </a:lnTo>
                    <a:lnTo>
                      <a:pt x="20" y="4811"/>
                    </a:lnTo>
                    <a:lnTo>
                      <a:pt x="14" y="4810"/>
                    </a:lnTo>
                    <a:lnTo>
                      <a:pt x="6" y="4808"/>
                    </a:lnTo>
                    <a:lnTo>
                      <a:pt x="0" y="4806"/>
                    </a:lnTo>
                    <a:lnTo>
                      <a:pt x="0" y="11"/>
                    </a:lnTo>
                    <a:lnTo>
                      <a:pt x="6" y="10"/>
                    </a:lnTo>
                    <a:lnTo>
                      <a:pt x="14" y="9"/>
                    </a:lnTo>
                    <a:lnTo>
                      <a:pt x="20" y="7"/>
                    </a:lnTo>
                    <a:lnTo>
                      <a:pt x="28" y="6"/>
                    </a:lnTo>
                    <a:lnTo>
                      <a:pt x="36" y="5"/>
                    </a:lnTo>
                    <a:lnTo>
                      <a:pt x="42" y="2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08520" y="2428920"/>
                <a:ext cx="23760" cy="1908000"/>
              </a:xfrm>
              <a:custGeom>
                <a:avLst/>
                <a:gdLst/>
                <a:ahLst/>
                <a:rect l="l" t="t" r="r" b="b"/>
                <a:pathLst>
                  <a:path w="56" h="4807">
                    <a:moveTo>
                      <a:pt x="56" y="0"/>
                    </a:moveTo>
                    <a:lnTo>
                      <a:pt x="56" y="4807"/>
                    </a:lnTo>
                    <a:lnTo>
                      <a:pt x="50" y="4805"/>
                    </a:lnTo>
                    <a:lnTo>
                      <a:pt x="42" y="4804"/>
                    </a:lnTo>
                    <a:lnTo>
                      <a:pt x="34" y="4802"/>
                    </a:lnTo>
                    <a:lnTo>
                      <a:pt x="28" y="4800"/>
                    </a:lnTo>
                    <a:lnTo>
                      <a:pt x="20" y="4799"/>
                    </a:lnTo>
                    <a:lnTo>
                      <a:pt x="14" y="4797"/>
                    </a:lnTo>
                    <a:lnTo>
                      <a:pt x="6" y="4796"/>
                    </a:lnTo>
                    <a:lnTo>
                      <a:pt x="0" y="4795"/>
                    </a:lnTo>
                    <a:lnTo>
                      <a:pt x="0" y="12"/>
                    </a:lnTo>
                    <a:lnTo>
                      <a:pt x="6" y="9"/>
                    </a:lnTo>
                    <a:lnTo>
                      <a:pt x="14" y="8"/>
                    </a:lnTo>
                    <a:lnTo>
                      <a:pt x="20" y="7"/>
                    </a:lnTo>
                    <a:lnTo>
                      <a:pt x="28" y="5"/>
                    </a:lnTo>
                    <a:lnTo>
                      <a:pt x="34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97360" y="2432160"/>
                <a:ext cx="22320" cy="1903320"/>
              </a:xfrm>
              <a:custGeom>
                <a:avLst/>
                <a:gdLst/>
                <a:ahLst/>
                <a:rect l="l" t="t" r="r" b="b"/>
                <a:pathLst>
                  <a:path w="57" h="4795">
                    <a:moveTo>
                      <a:pt x="57" y="0"/>
                    </a:moveTo>
                    <a:lnTo>
                      <a:pt x="57" y="4795"/>
                    </a:lnTo>
                    <a:lnTo>
                      <a:pt x="49" y="4794"/>
                    </a:lnTo>
                    <a:lnTo>
                      <a:pt x="43" y="4792"/>
                    </a:lnTo>
                    <a:lnTo>
                      <a:pt x="35" y="4791"/>
                    </a:lnTo>
                    <a:lnTo>
                      <a:pt x="29" y="4790"/>
                    </a:lnTo>
                    <a:lnTo>
                      <a:pt x="21" y="4788"/>
                    </a:lnTo>
                    <a:lnTo>
                      <a:pt x="14" y="4787"/>
                    </a:lnTo>
                    <a:lnTo>
                      <a:pt x="7" y="4786"/>
                    </a:lnTo>
                    <a:lnTo>
                      <a:pt x="0" y="4783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3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6200" y="2433600"/>
                <a:ext cx="22320" cy="1898640"/>
              </a:xfrm>
              <a:custGeom>
                <a:avLst/>
                <a:gdLst/>
                <a:ahLst/>
                <a:rect l="l" t="t" r="r" b="b"/>
                <a:pathLst>
                  <a:path w="57" h="4783">
                    <a:moveTo>
                      <a:pt x="57" y="0"/>
                    </a:moveTo>
                    <a:lnTo>
                      <a:pt x="57" y="4783"/>
                    </a:lnTo>
                    <a:lnTo>
                      <a:pt x="49" y="4781"/>
                    </a:lnTo>
                    <a:lnTo>
                      <a:pt x="42" y="4780"/>
                    </a:lnTo>
                    <a:lnTo>
                      <a:pt x="35" y="4779"/>
                    </a:lnTo>
                    <a:lnTo>
                      <a:pt x="28" y="4776"/>
                    </a:lnTo>
                    <a:lnTo>
                      <a:pt x="21" y="4775"/>
                    </a:lnTo>
                    <a:lnTo>
                      <a:pt x="14" y="4773"/>
                    </a:lnTo>
                    <a:lnTo>
                      <a:pt x="7" y="4772"/>
                    </a:lnTo>
                    <a:lnTo>
                      <a:pt x="0" y="4771"/>
                    </a:lnTo>
                    <a:lnTo>
                      <a:pt x="0" y="11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875040" y="2436840"/>
                <a:ext cx="22320" cy="1893960"/>
              </a:xfrm>
              <a:custGeom>
                <a:avLst/>
                <a:gdLst/>
                <a:ahLst/>
                <a:rect l="l" t="t" r="r" b="b"/>
                <a:pathLst>
                  <a:path w="57" h="4771">
                    <a:moveTo>
                      <a:pt x="57" y="0"/>
                    </a:moveTo>
                    <a:lnTo>
                      <a:pt x="57" y="4771"/>
                    </a:lnTo>
                    <a:lnTo>
                      <a:pt x="50" y="4770"/>
                    </a:lnTo>
                    <a:lnTo>
                      <a:pt x="43" y="4768"/>
                    </a:lnTo>
                    <a:lnTo>
                      <a:pt x="36" y="4767"/>
                    </a:lnTo>
                    <a:lnTo>
                      <a:pt x="29" y="4765"/>
                    </a:lnTo>
                    <a:lnTo>
                      <a:pt x="22" y="4764"/>
                    </a:lnTo>
                    <a:lnTo>
                      <a:pt x="14" y="4763"/>
                    </a:lnTo>
                    <a:lnTo>
                      <a:pt x="8" y="4761"/>
                    </a:lnTo>
                    <a:lnTo>
                      <a:pt x="0" y="4760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9" y="6"/>
                    </a:lnTo>
                    <a:lnTo>
                      <a:pt x="36" y="5"/>
                    </a:lnTo>
                    <a:lnTo>
                      <a:pt x="43" y="3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63880" y="2438280"/>
                <a:ext cx="22320" cy="1889280"/>
              </a:xfrm>
              <a:custGeom>
                <a:avLst/>
                <a:gdLst/>
                <a:ahLst/>
                <a:rect l="l" t="t" r="r" b="b"/>
                <a:pathLst>
                  <a:path w="57" h="4760">
                    <a:moveTo>
                      <a:pt x="57" y="0"/>
                    </a:moveTo>
                    <a:lnTo>
                      <a:pt x="57" y="4760"/>
                    </a:lnTo>
                    <a:lnTo>
                      <a:pt x="50" y="4758"/>
                    </a:lnTo>
                    <a:lnTo>
                      <a:pt x="42" y="4757"/>
                    </a:lnTo>
                    <a:lnTo>
                      <a:pt x="35" y="4755"/>
                    </a:lnTo>
                    <a:lnTo>
                      <a:pt x="28" y="4754"/>
                    </a:lnTo>
                    <a:lnTo>
                      <a:pt x="21" y="4751"/>
                    </a:lnTo>
                    <a:lnTo>
                      <a:pt x="14" y="4750"/>
                    </a:lnTo>
                    <a:lnTo>
                      <a:pt x="7" y="4748"/>
                    </a:lnTo>
                    <a:lnTo>
                      <a:pt x="0" y="4747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cb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52720" y="2441520"/>
                <a:ext cx="22320" cy="1884240"/>
              </a:xfrm>
              <a:custGeom>
                <a:avLst/>
                <a:gdLst/>
                <a:ahLst/>
                <a:rect l="l" t="t" r="r" b="b"/>
                <a:pathLst>
                  <a:path w="56" h="4747">
                    <a:moveTo>
                      <a:pt x="56" y="0"/>
                    </a:moveTo>
                    <a:lnTo>
                      <a:pt x="56" y="4747"/>
                    </a:lnTo>
                    <a:lnTo>
                      <a:pt x="49" y="4744"/>
                    </a:lnTo>
                    <a:lnTo>
                      <a:pt x="42" y="4743"/>
                    </a:lnTo>
                    <a:lnTo>
                      <a:pt x="35" y="4741"/>
                    </a:lnTo>
                    <a:lnTo>
                      <a:pt x="28" y="4740"/>
                    </a:lnTo>
                    <a:lnTo>
                      <a:pt x="21" y="4738"/>
                    </a:lnTo>
                    <a:lnTo>
                      <a:pt x="14" y="4737"/>
                    </a:lnTo>
                    <a:lnTo>
                      <a:pt x="7" y="4735"/>
                    </a:lnTo>
                    <a:lnTo>
                      <a:pt x="0" y="4734"/>
                    </a:lnTo>
                    <a:lnTo>
                      <a:pt x="0" y="13"/>
                    </a:lnTo>
                    <a:lnTo>
                      <a:pt x="7" y="11"/>
                    </a:lnTo>
                    <a:lnTo>
                      <a:pt x="14" y="10"/>
                    </a:lnTo>
                    <a:lnTo>
                      <a:pt x="21" y="7"/>
                    </a:lnTo>
                    <a:lnTo>
                      <a:pt x="28" y="6"/>
                    </a:lnTo>
                    <a:lnTo>
                      <a:pt x="35" y="4"/>
                    </a:lnTo>
                    <a:lnTo>
                      <a:pt x="42" y="3"/>
                    </a:lnTo>
                    <a:lnTo>
                      <a:pt x="49" y="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41920" y="2444760"/>
                <a:ext cx="21960" cy="1878120"/>
              </a:xfrm>
              <a:custGeom>
                <a:avLst/>
                <a:gdLst/>
                <a:ahLst/>
                <a:rect l="l" t="t" r="r" b="b"/>
                <a:pathLst>
                  <a:path w="57" h="4734">
                    <a:moveTo>
                      <a:pt x="57" y="0"/>
                    </a:moveTo>
                    <a:lnTo>
                      <a:pt x="57" y="4734"/>
                    </a:lnTo>
                    <a:lnTo>
                      <a:pt x="50" y="4732"/>
                    </a:lnTo>
                    <a:lnTo>
                      <a:pt x="43" y="4731"/>
                    </a:lnTo>
                    <a:lnTo>
                      <a:pt x="36" y="4729"/>
                    </a:lnTo>
                    <a:lnTo>
                      <a:pt x="28" y="4728"/>
                    </a:lnTo>
                    <a:lnTo>
                      <a:pt x="22" y="4725"/>
                    </a:lnTo>
                    <a:lnTo>
                      <a:pt x="14" y="4724"/>
                    </a:lnTo>
                    <a:lnTo>
                      <a:pt x="8" y="4722"/>
                    </a:lnTo>
                    <a:lnTo>
                      <a:pt x="0" y="4721"/>
                    </a:lnTo>
                    <a:lnTo>
                      <a:pt x="0" y="13"/>
                    </a:lnTo>
                    <a:lnTo>
                      <a:pt x="8" y="11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8" y="7"/>
                    </a:lnTo>
                    <a:lnTo>
                      <a:pt x="36" y="5"/>
                    </a:lnTo>
                    <a:lnTo>
                      <a:pt x="43" y="4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30760" y="2446200"/>
                <a:ext cx="21960" cy="1873440"/>
              </a:xfrm>
              <a:custGeom>
                <a:avLst/>
                <a:gdLst/>
                <a:ahLst/>
                <a:rect l="l" t="t" r="r" b="b"/>
                <a:pathLst>
                  <a:path w="57" h="4721">
                    <a:moveTo>
                      <a:pt x="57" y="0"/>
                    </a:moveTo>
                    <a:lnTo>
                      <a:pt x="57" y="4721"/>
                    </a:lnTo>
                    <a:lnTo>
                      <a:pt x="50" y="4718"/>
                    </a:lnTo>
                    <a:lnTo>
                      <a:pt x="42" y="4717"/>
                    </a:lnTo>
                    <a:lnTo>
                      <a:pt x="36" y="4715"/>
                    </a:lnTo>
                    <a:lnTo>
                      <a:pt x="28" y="4714"/>
                    </a:lnTo>
                    <a:lnTo>
                      <a:pt x="22" y="4712"/>
                    </a:lnTo>
                    <a:lnTo>
                      <a:pt x="14" y="4710"/>
                    </a:lnTo>
                    <a:lnTo>
                      <a:pt x="8" y="4709"/>
                    </a:lnTo>
                    <a:lnTo>
                      <a:pt x="0" y="4707"/>
                    </a:lnTo>
                    <a:lnTo>
                      <a:pt x="0" y="13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9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50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19600" y="2449440"/>
                <a:ext cx="22320" cy="1868400"/>
              </a:xfrm>
              <a:custGeom>
                <a:avLst/>
                <a:gdLst/>
                <a:ahLst/>
                <a:rect l="l" t="t" r="r" b="b"/>
                <a:pathLst>
                  <a:path w="56" h="4708">
                    <a:moveTo>
                      <a:pt x="56" y="0"/>
                    </a:moveTo>
                    <a:lnTo>
                      <a:pt x="56" y="4708"/>
                    </a:lnTo>
                    <a:lnTo>
                      <a:pt x="50" y="4706"/>
                    </a:lnTo>
                    <a:lnTo>
                      <a:pt x="42" y="4704"/>
                    </a:lnTo>
                    <a:lnTo>
                      <a:pt x="36" y="4703"/>
                    </a:lnTo>
                    <a:lnTo>
                      <a:pt x="28" y="4701"/>
                    </a:lnTo>
                    <a:lnTo>
                      <a:pt x="20" y="4699"/>
                    </a:lnTo>
                    <a:lnTo>
                      <a:pt x="14" y="4697"/>
                    </a:lnTo>
                    <a:lnTo>
                      <a:pt x="6" y="4696"/>
                    </a:lnTo>
                    <a:lnTo>
                      <a:pt x="0" y="4694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08440" y="2450880"/>
                <a:ext cx="22320" cy="1863720"/>
              </a:xfrm>
              <a:custGeom>
                <a:avLst/>
                <a:gdLst/>
                <a:ahLst/>
                <a:rect l="l" t="t" r="r" b="b"/>
                <a:pathLst>
                  <a:path w="56" h="4694">
                    <a:moveTo>
                      <a:pt x="56" y="0"/>
                    </a:moveTo>
                    <a:lnTo>
                      <a:pt x="56" y="4694"/>
                    </a:lnTo>
                    <a:lnTo>
                      <a:pt x="50" y="4692"/>
                    </a:lnTo>
                    <a:lnTo>
                      <a:pt x="42" y="4690"/>
                    </a:lnTo>
                    <a:lnTo>
                      <a:pt x="34" y="4689"/>
                    </a:lnTo>
                    <a:lnTo>
                      <a:pt x="28" y="4687"/>
                    </a:lnTo>
                    <a:lnTo>
                      <a:pt x="20" y="4685"/>
                    </a:lnTo>
                    <a:lnTo>
                      <a:pt x="14" y="4684"/>
                    </a:lnTo>
                    <a:lnTo>
                      <a:pt x="6" y="4682"/>
                    </a:lnTo>
                    <a:lnTo>
                      <a:pt x="0" y="4681"/>
                    </a:lnTo>
                    <a:lnTo>
                      <a:pt x="0" y="14"/>
                    </a:lnTo>
                    <a:lnTo>
                      <a:pt x="6" y="12"/>
                    </a:lnTo>
                    <a:lnTo>
                      <a:pt x="14" y="11"/>
                    </a:lnTo>
                    <a:lnTo>
                      <a:pt x="20" y="8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3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795840" y="2454120"/>
                <a:ext cx="23760" cy="1857600"/>
              </a:xfrm>
              <a:custGeom>
                <a:avLst/>
                <a:gdLst/>
                <a:ahLst/>
                <a:rect l="l" t="t" r="r" b="b"/>
                <a:pathLst>
                  <a:path w="57" h="4680">
                    <a:moveTo>
                      <a:pt x="57" y="0"/>
                    </a:moveTo>
                    <a:lnTo>
                      <a:pt x="57" y="4680"/>
                    </a:lnTo>
                    <a:lnTo>
                      <a:pt x="49" y="4678"/>
                    </a:lnTo>
                    <a:lnTo>
                      <a:pt x="43" y="4677"/>
                    </a:lnTo>
                    <a:lnTo>
                      <a:pt x="35" y="4675"/>
                    </a:lnTo>
                    <a:lnTo>
                      <a:pt x="29" y="4672"/>
                    </a:lnTo>
                    <a:lnTo>
                      <a:pt x="21" y="4671"/>
                    </a:lnTo>
                    <a:lnTo>
                      <a:pt x="14" y="4669"/>
                    </a:lnTo>
                    <a:lnTo>
                      <a:pt x="7" y="4668"/>
                    </a:lnTo>
                    <a:lnTo>
                      <a:pt x="0" y="4666"/>
                    </a:lnTo>
                    <a:lnTo>
                      <a:pt x="0" y="14"/>
                    </a:lnTo>
                    <a:lnTo>
                      <a:pt x="7" y="12"/>
                    </a:lnTo>
                    <a:lnTo>
                      <a:pt x="14" y="10"/>
                    </a:lnTo>
                    <a:lnTo>
                      <a:pt x="21" y="9"/>
                    </a:lnTo>
                    <a:lnTo>
                      <a:pt x="29" y="7"/>
                    </a:lnTo>
                    <a:lnTo>
                      <a:pt x="35" y="6"/>
                    </a:lnTo>
                    <a:lnTo>
                      <a:pt x="43" y="4"/>
                    </a:lnTo>
                    <a:lnTo>
                      <a:pt x="49" y="1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784680" y="2457360"/>
                <a:ext cx="23760" cy="1852560"/>
              </a:xfrm>
              <a:custGeom>
                <a:avLst/>
                <a:gdLst/>
                <a:ahLst/>
                <a:rect l="l" t="t" r="r" b="b"/>
                <a:pathLst>
                  <a:path w="57" h="4667">
                    <a:moveTo>
                      <a:pt x="57" y="0"/>
                    </a:moveTo>
                    <a:lnTo>
                      <a:pt x="57" y="4667"/>
                    </a:lnTo>
                    <a:lnTo>
                      <a:pt x="49" y="4664"/>
                    </a:lnTo>
                    <a:lnTo>
                      <a:pt x="42" y="4662"/>
                    </a:lnTo>
                    <a:lnTo>
                      <a:pt x="35" y="4661"/>
                    </a:lnTo>
                    <a:lnTo>
                      <a:pt x="28" y="4659"/>
                    </a:lnTo>
                    <a:lnTo>
                      <a:pt x="21" y="4657"/>
                    </a:lnTo>
                    <a:lnTo>
                      <a:pt x="14" y="4656"/>
                    </a:lnTo>
                    <a:lnTo>
                      <a:pt x="7" y="4654"/>
                    </a:lnTo>
                    <a:lnTo>
                      <a:pt x="0" y="4651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1" y="9"/>
                    </a:lnTo>
                    <a:lnTo>
                      <a:pt x="28" y="7"/>
                    </a:lnTo>
                    <a:lnTo>
                      <a:pt x="35" y="5"/>
                    </a:lnTo>
                    <a:lnTo>
                      <a:pt x="42" y="3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773520" y="2460600"/>
                <a:ext cx="22320" cy="1846080"/>
              </a:xfrm>
              <a:custGeom>
                <a:avLst/>
                <a:gdLst/>
                <a:ahLst/>
                <a:rect l="l" t="t" r="r" b="b"/>
                <a:pathLst>
                  <a:path w="57" h="4652">
                    <a:moveTo>
                      <a:pt x="57" y="0"/>
                    </a:moveTo>
                    <a:lnTo>
                      <a:pt x="57" y="4652"/>
                    </a:lnTo>
                    <a:lnTo>
                      <a:pt x="50" y="4650"/>
                    </a:lnTo>
                    <a:lnTo>
                      <a:pt x="43" y="4649"/>
                    </a:lnTo>
                    <a:lnTo>
                      <a:pt x="36" y="4647"/>
                    </a:lnTo>
                    <a:lnTo>
                      <a:pt x="29" y="4644"/>
                    </a:lnTo>
                    <a:lnTo>
                      <a:pt x="22" y="4643"/>
                    </a:lnTo>
                    <a:lnTo>
                      <a:pt x="14" y="4641"/>
                    </a:lnTo>
                    <a:lnTo>
                      <a:pt x="7" y="4639"/>
                    </a:lnTo>
                    <a:lnTo>
                      <a:pt x="0" y="4637"/>
                    </a:lnTo>
                    <a:lnTo>
                      <a:pt x="0" y="14"/>
                    </a:lnTo>
                    <a:lnTo>
                      <a:pt x="7" y="13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9" y="7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62360" y="2462040"/>
                <a:ext cx="22320" cy="1841760"/>
              </a:xfrm>
              <a:custGeom>
                <a:avLst/>
                <a:gdLst/>
                <a:ahLst/>
                <a:rect l="l" t="t" r="r" b="b"/>
                <a:pathLst>
                  <a:path w="57" h="4637">
                    <a:moveTo>
                      <a:pt x="57" y="0"/>
                    </a:moveTo>
                    <a:lnTo>
                      <a:pt x="57" y="4637"/>
                    </a:lnTo>
                    <a:lnTo>
                      <a:pt x="50" y="4635"/>
                    </a:lnTo>
                    <a:lnTo>
                      <a:pt x="42" y="4634"/>
                    </a:lnTo>
                    <a:lnTo>
                      <a:pt x="35" y="4632"/>
                    </a:lnTo>
                    <a:lnTo>
                      <a:pt x="28" y="4630"/>
                    </a:lnTo>
                    <a:lnTo>
                      <a:pt x="21" y="4629"/>
                    </a:lnTo>
                    <a:lnTo>
                      <a:pt x="14" y="4627"/>
                    </a:lnTo>
                    <a:lnTo>
                      <a:pt x="7" y="4624"/>
                    </a:lnTo>
                    <a:lnTo>
                      <a:pt x="0" y="462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51200" y="2465280"/>
                <a:ext cx="22320" cy="1835280"/>
              </a:xfrm>
              <a:custGeom>
                <a:avLst/>
                <a:gdLst/>
                <a:ahLst/>
                <a:rect l="l" t="t" r="r" b="b"/>
                <a:pathLst>
                  <a:path w="56" h="4623">
                    <a:moveTo>
                      <a:pt x="56" y="0"/>
                    </a:moveTo>
                    <a:lnTo>
                      <a:pt x="56" y="4623"/>
                    </a:lnTo>
                    <a:lnTo>
                      <a:pt x="49" y="4622"/>
                    </a:lnTo>
                    <a:lnTo>
                      <a:pt x="42" y="4620"/>
                    </a:lnTo>
                    <a:lnTo>
                      <a:pt x="35" y="4617"/>
                    </a:lnTo>
                    <a:lnTo>
                      <a:pt x="28" y="4615"/>
                    </a:lnTo>
                    <a:lnTo>
                      <a:pt x="21" y="4614"/>
                    </a:lnTo>
                    <a:lnTo>
                      <a:pt x="14" y="4612"/>
                    </a:lnTo>
                    <a:lnTo>
                      <a:pt x="7" y="4610"/>
                    </a:lnTo>
                    <a:lnTo>
                      <a:pt x="0" y="4608"/>
                    </a:lnTo>
                    <a:lnTo>
                      <a:pt x="0" y="16"/>
                    </a:lnTo>
                    <a:lnTo>
                      <a:pt x="7" y="13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8"/>
                    </a:lnTo>
                    <a:lnTo>
                      <a:pt x="35" y="6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40040" y="2468520"/>
                <a:ext cx="22320" cy="1828800"/>
              </a:xfrm>
              <a:custGeom>
                <a:avLst/>
                <a:gdLst/>
                <a:ahLst/>
                <a:rect l="l" t="t" r="r" b="b"/>
                <a:pathLst>
                  <a:path w="57" h="4607">
                    <a:moveTo>
                      <a:pt x="57" y="0"/>
                    </a:moveTo>
                    <a:lnTo>
                      <a:pt x="57" y="4607"/>
                    </a:lnTo>
                    <a:lnTo>
                      <a:pt x="50" y="4606"/>
                    </a:lnTo>
                    <a:lnTo>
                      <a:pt x="43" y="4604"/>
                    </a:lnTo>
                    <a:lnTo>
                      <a:pt x="36" y="4602"/>
                    </a:lnTo>
                    <a:lnTo>
                      <a:pt x="28" y="4600"/>
                    </a:lnTo>
                    <a:lnTo>
                      <a:pt x="22" y="4599"/>
                    </a:lnTo>
                    <a:lnTo>
                      <a:pt x="14" y="4597"/>
                    </a:lnTo>
                    <a:lnTo>
                      <a:pt x="8" y="4594"/>
                    </a:lnTo>
                    <a:lnTo>
                      <a:pt x="0" y="4592"/>
                    </a:lnTo>
                    <a:lnTo>
                      <a:pt x="0" y="15"/>
                    </a:lnTo>
                    <a:lnTo>
                      <a:pt x="8" y="14"/>
                    </a:lnTo>
                    <a:lnTo>
                      <a:pt x="14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6" y="7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28880" y="2471760"/>
                <a:ext cx="22320" cy="1822320"/>
              </a:xfrm>
              <a:custGeom>
                <a:avLst/>
                <a:gdLst/>
                <a:ahLst/>
                <a:rect l="l" t="t" r="r" b="b"/>
                <a:pathLst>
                  <a:path w="57" h="4592">
                    <a:moveTo>
                      <a:pt x="57" y="0"/>
                    </a:moveTo>
                    <a:lnTo>
                      <a:pt x="57" y="4592"/>
                    </a:lnTo>
                    <a:lnTo>
                      <a:pt x="50" y="4591"/>
                    </a:lnTo>
                    <a:lnTo>
                      <a:pt x="42" y="4589"/>
                    </a:lnTo>
                    <a:lnTo>
                      <a:pt x="36" y="4586"/>
                    </a:lnTo>
                    <a:lnTo>
                      <a:pt x="28" y="4584"/>
                    </a:lnTo>
                    <a:lnTo>
                      <a:pt x="22" y="4582"/>
                    </a:lnTo>
                    <a:lnTo>
                      <a:pt x="14" y="4581"/>
                    </a:lnTo>
                    <a:lnTo>
                      <a:pt x="8" y="4579"/>
                    </a:lnTo>
                    <a:lnTo>
                      <a:pt x="0" y="4577"/>
                    </a:lnTo>
                    <a:lnTo>
                      <a:pt x="0" y="16"/>
                    </a:lnTo>
                    <a:lnTo>
                      <a:pt x="8" y="14"/>
                    </a:lnTo>
                    <a:lnTo>
                      <a:pt x="14" y="11"/>
                    </a:lnTo>
                    <a:lnTo>
                      <a:pt x="22" y="9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18080" y="2475000"/>
                <a:ext cx="21960" cy="1815840"/>
              </a:xfrm>
              <a:custGeom>
                <a:avLst/>
                <a:gdLst/>
                <a:ahLst/>
                <a:rect l="l" t="t" r="r" b="b"/>
                <a:pathLst>
                  <a:path w="56" h="4577">
                    <a:moveTo>
                      <a:pt x="56" y="0"/>
                    </a:moveTo>
                    <a:lnTo>
                      <a:pt x="56" y="4577"/>
                    </a:lnTo>
                    <a:lnTo>
                      <a:pt x="50" y="4575"/>
                    </a:lnTo>
                    <a:lnTo>
                      <a:pt x="42" y="4574"/>
                    </a:lnTo>
                    <a:lnTo>
                      <a:pt x="36" y="4572"/>
                    </a:lnTo>
                    <a:lnTo>
                      <a:pt x="28" y="4570"/>
                    </a:lnTo>
                    <a:lnTo>
                      <a:pt x="20" y="4567"/>
                    </a:lnTo>
                    <a:lnTo>
                      <a:pt x="14" y="4565"/>
                    </a:lnTo>
                    <a:lnTo>
                      <a:pt x="6" y="4563"/>
                    </a:lnTo>
                    <a:lnTo>
                      <a:pt x="0" y="4561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0b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06920" y="2477880"/>
                <a:ext cx="21960" cy="1810080"/>
              </a:xfrm>
              <a:custGeom>
                <a:avLst/>
                <a:gdLst/>
                <a:ahLst/>
                <a:rect l="l" t="t" r="r" b="b"/>
                <a:pathLst>
                  <a:path w="56" h="4561">
                    <a:moveTo>
                      <a:pt x="56" y="0"/>
                    </a:moveTo>
                    <a:lnTo>
                      <a:pt x="56" y="4561"/>
                    </a:lnTo>
                    <a:lnTo>
                      <a:pt x="48" y="4558"/>
                    </a:lnTo>
                    <a:lnTo>
                      <a:pt x="42" y="4556"/>
                    </a:lnTo>
                    <a:lnTo>
                      <a:pt x="34" y="4554"/>
                    </a:lnTo>
                    <a:lnTo>
                      <a:pt x="28" y="4552"/>
                    </a:lnTo>
                    <a:lnTo>
                      <a:pt x="20" y="4551"/>
                    </a:lnTo>
                    <a:lnTo>
                      <a:pt x="14" y="4549"/>
                    </a:lnTo>
                    <a:lnTo>
                      <a:pt x="6" y="4547"/>
                    </a:lnTo>
                    <a:lnTo>
                      <a:pt x="0" y="4544"/>
                    </a:lnTo>
                    <a:lnTo>
                      <a:pt x="0" y="16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8" y="7"/>
                    </a:lnTo>
                    <a:lnTo>
                      <a:pt x="34" y="5"/>
                    </a:lnTo>
                    <a:lnTo>
                      <a:pt x="42" y="4"/>
                    </a:lnTo>
                    <a:lnTo>
                      <a:pt x="48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695760" y="2481120"/>
                <a:ext cx="22320" cy="1803600"/>
              </a:xfrm>
              <a:custGeom>
                <a:avLst/>
                <a:gdLst/>
                <a:ahLst/>
                <a:rect l="l" t="t" r="r" b="b"/>
                <a:pathLst>
                  <a:path w="57" h="4545">
                    <a:moveTo>
                      <a:pt x="57" y="0"/>
                    </a:moveTo>
                    <a:lnTo>
                      <a:pt x="57" y="4545"/>
                    </a:lnTo>
                    <a:lnTo>
                      <a:pt x="49" y="4544"/>
                    </a:lnTo>
                    <a:lnTo>
                      <a:pt x="43" y="4542"/>
                    </a:lnTo>
                    <a:lnTo>
                      <a:pt x="35" y="4540"/>
                    </a:lnTo>
                    <a:lnTo>
                      <a:pt x="29" y="4537"/>
                    </a:lnTo>
                    <a:lnTo>
                      <a:pt x="21" y="4535"/>
                    </a:lnTo>
                    <a:lnTo>
                      <a:pt x="14" y="4533"/>
                    </a:lnTo>
                    <a:lnTo>
                      <a:pt x="7" y="4531"/>
                    </a:lnTo>
                    <a:lnTo>
                      <a:pt x="0" y="4529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9" y="9"/>
                    </a:lnTo>
                    <a:lnTo>
                      <a:pt x="35" y="7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684600" y="2484360"/>
                <a:ext cx="22320" cy="1797120"/>
              </a:xfrm>
              <a:custGeom>
                <a:avLst/>
                <a:gdLst/>
                <a:ahLst/>
                <a:rect l="l" t="t" r="r" b="b"/>
                <a:pathLst>
                  <a:path w="57" h="4528">
                    <a:moveTo>
                      <a:pt x="57" y="0"/>
                    </a:moveTo>
                    <a:lnTo>
                      <a:pt x="57" y="4528"/>
                    </a:lnTo>
                    <a:lnTo>
                      <a:pt x="49" y="4526"/>
                    </a:lnTo>
                    <a:lnTo>
                      <a:pt x="42" y="4524"/>
                    </a:lnTo>
                    <a:lnTo>
                      <a:pt x="35" y="4522"/>
                    </a:lnTo>
                    <a:lnTo>
                      <a:pt x="28" y="4520"/>
                    </a:lnTo>
                    <a:lnTo>
                      <a:pt x="21" y="4518"/>
                    </a:lnTo>
                    <a:lnTo>
                      <a:pt x="14" y="4515"/>
                    </a:lnTo>
                    <a:lnTo>
                      <a:pt x="7" y="4513"/>
                    </a:lnTo>
                    <a:lnTo>
                      <a:pt x="0" y="4511"/>
                    </a:lnTo>
                    <a:lnTo>
                      <a:pt x="0" y="16"/>
                    </a:lnTo>
                    <a:lnTo>
                      <a:pt x="7" y="14"/>
                    </a:lnTo>
                    <a:lnTo>
                      <a:pt x="14" y="12"/>
                    </a:lnTo>
                    <a:lnTo>
                      <a:pt x="21" y="10"/>
                    </a:lnTo>
                    <a:lnTo>
                      <a:pt x="28" y="9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673440" y="2487600"/>
                <a:ext cx="22320" cy="1790640"/>
              </a:xfrm>
              <a:custGeom>
                <a:avLst/>
                <a:gdLst/>
                <a:ahLst/>
                <a:rect l="l" t="t" r="r" b="b"/>
                <a:pathLst>
                  <a:path w="57" h="4512">
                    <a:moveTo>
                      <a:pt x="57" y="0"/>
                    </a:moveTo>
                    <a:lnTo>
                      <a:pt x="57" y="4512"/>
                    </a:lnTo>
                    <a:lnTo>
                      <a:pt x="50" y="4510"/>
                    </a:lnTo>
                    <a:lnTo>
                      <a:pt x="43" y="4507"/>
                    </a:lnTo>
                    <a:lnTo>
                      <a:pt x="36" y="4505"/>
                    </a:lnTo>
                    <a:lnTo>
                      <a:pt x="29" y="4503"/>
                    </a:lnTo>
                    <a:lnTo>
                      <a:pt x="22" y="4501"/>
                    </a:lnTo>
                    <a:lnTo>
                      <a:pt x="14" y="4499"/>
                    </a:lnTo>
                    <a:lnTo>
                      <a:pt x="7" y="4497"/>
                    </a:lnTo>
                    <a:lnTo>
                      <a:pt x="0" y="4495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2" y="10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662280" y="2490840"/>
                <a:ext cx="22320" cy="1784160"/>
              </a:xfrm>
              <a:custGeom>
                <a:avLst/>
                <a:gdLst/>
                <a:ahLst/>
                <a:rect l="l" t="t" r="r" b="b"/>
                <a:pathLst>
                  <a:path w="57" h="4495">
                    <a:moveTo>
                      <a:pt x="57" y="0"/>
                    </a:moveTo>
                    <a:lnTo>
                      <a:pt x="57" y="4495"/>
                    </a:lnTo>
                    <a:lnTo>
                      <a:pt x="50" y="4493"/>
                    </a:lnTo>
                    <a:lnTo>
                      <a:pt x="42" y="4491"/>
                    </a:lnTo>
                    <a:lnTo>
                      <a:pt x="35" y="4489"/>
                    </a:lnTo>
                    <a:lnTo>
                      <a:pt x="28" y="4487"/>
                    </a:lnTo>
                    <a:lnTo>
                      <a:pt x="21" y="4484"/>
                    </a:lnTo>
                    <a:lnTo>
                      <a:pt x="14" y="4482"/>
                    </a:lnTo>
                    <a:lnTo>
                      <a:pt x="7" y="4480"/>
                    </a:lnTo>
                    <a:lnTo>
                      <a:pt x="0" y="4478"/>
                    </a:lnTo>
                    <a:lnTo>
                      <a:pt x="0" y="17"/>
                    </a:lnTo>
                    <a:lnTo>
                      <a:pt x="7" y="15"/>
                    </a:lnTo>
                    <a:lnTo>
                      <a:pt x="14" y="13"/>
                    </a:lnTo>
                    <a:lnTo>
                      <a:pt x="21" y="11"/>
                    </a:lnTo>
                    <a:lnTo>
                      <a:pt x="28" y="9"/>
                    </a:lnTo>
                    <a:lnTo>
                      <a:pt x="35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649680" y="2494080"/>
                <a:ext cx="23760" cy="1777680"/>
              </a:xfrm>
              <a:custGeom>
                <a:avLst/>
                <a:gdLst/>
                <a:ahLst/>
                <a:rect l="l" t="t" r="r" b="b"/>
                <a:pathLst>
                  <a:path w="57" h="4478">
                    <a:moveTo>
                      <a:pt x="57" y="0"/>
                    </a:moveTo>
                    <a:lnTo>
                      <a:pt x="57" y="4478"/>
                    </a:lnTo>
                    <a:lnTo>
                      <a:pt x="50" y="4475"/>
                    </a:lnTo>
                    <a:lnTo>
                      <a:pt x="43" y="4473"/>
                    </a:lnTo>
                    <a:lnTo>
                      <a:pt x="36" y="4471"/>
                    </a:lnTo>
                    <a:lnTo>
                      <a:pt x="29" y="4469"/>
                    </a:lnTo>
                    <a:lnTo>
                      <a:pt x="22" y="4467"/>
                    </a:lnTo>
                    <a:lnTo>
                      <a:pt x="15" y="4465"/>
                    </a:lnTo>
                    <a:lnTo>
                      <a:pt x="8" y="4462"/>
                    </a:lnTo>
                    <a:lnTo>
                      <a:pt x="0" y="4460"/>
                    </a:lnTo>
                    <a:lnTo>
                      <a:pt x="0" y="18"/>
                    </a:lnTo>
                    <a:lnTo>
                      <a:pt x="8" y="16"/>
                    </a:lnTo>
                    <a:lnTo>
                      <a:pt x="15" y="13"/>
                    </a:lnTo>
                    <a:lnTo>
                      <a:pt x="22" y="11"/>
                    </a:lnTo>
                    <a:lnTo>
                      <a:pt x="29" y="8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38520" y="2498760"/>
                <a:ext cx="23760" cy="1770120"/>
              </a:xfrm>
              <a:custGeom>
                <a:avLst/>
                <a:gdLst/>
                <a:ahLst/>
                <a:rect l="l" t="t" r="r" b="b"/>
                <a:pathLst>
                  <a:path w="57" h="4461">
                    <a:moveTo>
                      <a:pt x="57" y="0"/>
                    </a:moveTo>
                    <a:lnTo>
                      <a:pt x="57" y="4461"/>
                    </a:lnTo>
                    <a:lnTo>
                      <a:pt x="50" y="4459"/>
                    </a:lnTo>
                    <a:lnTo>
                      <a:pt x="43" y="4457"/>
                    </a:lnTo>
                    <a:lnTo>
                      <a:pt x="36" y="4454"/>
                    </a:lnTo>
                    <a:lnTo>
                      <a:pt x="28" y="4452"/>
                    </a:lnTo>
                    <a:lnTo>
                      <a:pt x="22" y="4450"/>
                    </a:lnTo>
                    <a:lnTo>
                      <a:pt x="14" y="4448"/>
                    </a:lnTo>
                    <a:lnTo>
                      <a:pt x="8" y="4446"/>
                    </a:lnTo>
                    <a:lnTo>
                      <a:pt x="0" y="4444"/>
                    </a:lnTo>
                    <a:lnTo>
                      <a:pt x="0" y="19"/>
                    </a:lnTo>
                    <a:lnTo>
                      <a:pt x="8" y="17"/>
                    </a:lnTo>
                    <a:lnTo>
                      <a:pt x="14" y="15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27360" y="2502000"/>
                <a:ext cx="22320" cy="1763640"/>
              </a:xfrm>
              <a:custGeom>
                <a:avLst/>
                <a:gdLst/>
                <a:ahLst/>
                <a:rect l="l" t="t" r="r" b="b"/>
                <a:pathLst>
                  <a:path w="56" h="4442">
                    <a:moveTo>
                      <a:pt x="56" y="0"/>
                    </a:moveTo>
                    <a:lnTo>
                      <a:pt x="56" y="4442"/>
                    </a:lnTo>
                    <a:lnTo>
                      <a:pt x="50" y="4440"/>
                    </a:lnTo>
                    <a:lnTo>
                      <a:pt x="42" y="4438"/>
                    </a:lnTo>
                    <a:lnTo>
                      <a:pt x="36" y="4436"/>
                    </a:lnTo>
                    <a:lnTo>
                      <a:pt x="28" y="4434"/>
                    </a:lnTo>
                    <a:lnTo>
                      <a:pt x="22" y="4431"/>
                    </a:lnTo>
                    <a:lnTo>
                      <a:pt x="14" y="4429"/>
                    </a:lnTo>
                    <a:lnTo>
                      <a:pt x="8" y="4426"/>
                    </a:lnTo>
                    <a:lnTo>
                      <a:pt x="0" y="4424"/>
                    </a:lnTo>
                    <a:lnTo>
                      <a:pt x="0" y="17"/>
                    </a:lnTo>
                    <a:lnTo>
                      <a:pt x="8" y="15"/>
                    </a:lnTo>
                    <a:lnTo>
                      <a:pt x="14" y="13"/>
                    </a:lnTo>
                    <a:lnTo>
                      <a:pt x="22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5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616200" y="2504880"/>
                <a:ext cx="22320" cy="1756080"/>
              </a:xfrm>
              <a:custGeom>
                <a:avLst/>
                <a:gdLst/>
                <a:ahLst/>
                <a:rect l="l" t="t" r="r" b="b"/>
                <a:pathLst>
                  <a:path w="56" h="4425">
                    <a:moveTo>
                      <a:pt x="56" y="0"/>
                    </a:moveTo>
                    <a:lnTo>
                      <a:pt x="56" y="4425"/>
                    </a:lnTo>
                    <a:lnTo>
                      <a:pt x="50" y="4422"/>
                    </a:lnTo>
                    <a:lnTo>
                      <a:pt x="42" y="4420"/>
                    </a:lnTo>
                    <a:lnTo>
                      <a:pt x="36" y="4417"/>
                    </a:lnTo>
                    <a:lnTo>
                      <a:pt x="28" y="4415"/>
                    </a:lnTo>
                    <a:lnTo>
                      <a:pt x="20" y="4413"/>
                    </a:lnTo>
                    <a:lnTo>
                      <a:pt x="14" y="4411"/>
                    </a:lnTo>
                    <a:lnTo>
                      <a:pt x="6" y="4408"/>
                    </a:lnTo>
                    <a:lnTo>
                      <a:pt x="0" y="4406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605040" y="2508120"/>
                <a:ext cx="22320" cy="1749600"/>
              </a:xfrm>
              <a:custGeom>
                <a:avLst/>
                <a:gdLst/>
                <a:ahLst/>
                <a:rect l="l" t="t" r="r" b="b"/>
                <a:pathLst>
                  <a:path w="56" h="4407">
                    <a:moveTo>
                      <a:pt x="56" y="0"/>
                    </a:moveTo>
                    <a:lnTo>
                      <a:pt x="56" y="4407"/>
                    </a:lnTo>
                    <a:lnTo>
                      <a:pt x="48" y="4405"/>
                    </a:lnTo>
                    <a:lnTo>
                      <a:pt x="42" y="4403"/>
                    </a:lnTo>
                    <a:lnTo>
                      <a:pt x="34" y="4400"/>
                    </a:lnTo>
                    <a:lnTo>
                      <a:pt x="28" y="4398"/>
                    </a:lnTo>
                    <a:lnTo>
                      <a:pt x="20" y="4396"/>
                    </a:lnTo>
                    <a:lnTo>
                      <a:pt x="14" y="4393"/>
                    </a:lnTo>
                    <a:lnTo>
                      <a:pt x="6" y="4391"/>
                    </a:lnTo>
                    <a:lnTo>
                      <a:pt x="0" y="4389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4" y="15"/>
                    </a:lnTo>
                    <a:lnTo>
                      <a:pt x="20" y="12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6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94240" y="2512800"/>
                <a:ext cx="21960" cy="1741680"/>
              </a:xfrm>
              <a:custGeom>
                <a:avLst/>
                <a:gdLst/>
                <a:ahLst/>
                <a:rect l="l" t="t" r="r" b="b"/>
                <a:pathLst>
                  <a:path w="57" h="4388">
                    <a:moveTo>
                      <a:pt x="57" y="0"/>
                    </a:moveTo>
                    <a:lnTo>
                      <a:pt x="57" y="4388"/>
                    </a:lnTo>
                    <a:lnTo>
                      <a:pt x="49" y="4386"/>
                    </a:lnTo>
                    <a:lnTo>
                      <a:pt x="43" y="4383"/>
                    </a:lnTo>
                    <a:lnTo>
                      <a:pt x="35" y="4381"/>
                    </a:lnTo>
                    <a:lnTo>
                      <a:pt x="29" y="4379"/>
                    </a:lnTo>
                    <a:lnTo>
                      <a:pt x="21" y="4376"/>
                    </a:lnTo>
                    <a:lnTo>
                      <a:pt x="14" y="4373"/>
                    </a:lnTo>
                    <a:lnTo>
                      <a:pt x="7" y="4371"/>
                    </a:lnTo>
                    <a:lnTo>
                      <a:pt x="0" y="4369"/>
                    </a:lnTo>
                    <a:lnTo>
                      <a:pt x="0" y="20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3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83080" y="2516040"/>
                <a:ext cx="21960" cy="1733760"/>
              </a:xfrm>
              <a:custGeom>
                <a:avLst/>
                <a:gdLst/>
                <a:ahLst/>
                <a:rect l="l" t="t" r="r" b="b"/>
                <a:pathLst>
                  <a:path w="57" h="4369">
                    <a:moveTo>
                      <a:pt x="57" y="0"/>
                    </a:moveTo>
                    <a:lnTo>
                      <a:pt x="57" y="4369"/>
                    </a:lnTo>
                    <a:lnTo>
                      <a:pt x="49" y="4366"/>
                    </a:lnTo>
                    <a:lnTo>
                      <a:pt x="42" y="4364"/>
                    </a:lnTo>
                    <a:lnTo>
                      <a:pt x="35" y="4361"/>
                    </a:lnTo>
                    <a:lnTo>
                      <a:pt x="28" y="4359"/>
                    </a:lnTo>
                    <a:lnTo>
                      <a:pt x="21" y="4357"/>
                    </a:lnTo>
                    <a:lnTo>
                      <a:pt x="14" y="4354"/>
                    </a:lnTo>
                    <a:lnTo>
                      <a:pt x="7" y="4351"/>
                    </a:lnTo>
                    <a:lnTo>
                      <a:pt x="0" y="4349"/>
                    </a:lnTo>
                    <a:lnTo>
                      <a:pt x="0" y="19"/>
                    </a:lnTo>
                    <a:lnTo>
                      <a:pt x="7" y="16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6"/>
                    </a:lnTo>
                    <a:lnTo>
                      <a:pt x="42" y="4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71920" y="2520720"/>
                <a:ext cx="22320" cy="1725840"/>
              </a:xfrm>
              <a:custGeom>
                <a:avLst/>
                <a:gdLst/>
                <a:ahLst/>
                <a:rect l="l" t="t" r="r" b="b"/>
                <a:pathLst>
                  <a:path w="57" h="4349">
                    <a:moveTo>
                      <a:pt x="57" y="0"/>
                    </a:moveTo>
                    <a:lnTo>
                      <a:pt x="57" y="4349"/>
                    </a:lnTo>
                    <a:lnTo>
                      <a:pt x="50" y="4347"/>
                    </a:lnTo>
                    <a:lnTo>
                      <a:pt x="43" y="4343"/>
                    </a:lnTo>
                    <a:lnTo>
                      <a:pt x="36" y="4341"/>
                    </a:lnTo>
                    <a:lnTo>
                      <a:pt x="29" y="4339"/>
                    </a:lnTo>
                    <a:lnTo>
                      <a:pt x="21" y="4337"/>
                    </a:lnTo>
                    <a:lnTo>
                      <a:pt x="14" y="4334"/>
                    </a:lnTo>
                    <a:lnTo>
                      <a:pt x="7" y="4332"/>
                    </a:lnTo>
                    <a:lnTo>
                      <a:pt x="0" y="4329"/>
                    </a:lnTo>
                    <a:lnTo>
                      <a:pt x="0" y="19"/>
                    </a:lnTo>
                    <a:lnTo>
                      <a:pt x="7" y="17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29" y="9"/>
                    </a:lnTo>
                    <a:lnTo>
                      <a:pt x="36" y="6"/>
                    </a:lnTo>
                    <a:lnTo>
                      <a:pt x="43" y="4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60760" y="2523960"/>
                <a:ext cx="22320" cy="1719360"/>
              </a:xfrm>
              <a:custGeom>
                <a:avLst/>
                <a:gdLst/>
                <a:ahLst/>
                <a:rect l="l" t="t" r="r" b="b"/>
                <a:pathLst>
                  <a:path w="57" h="4330">
                    <a:moveTo>
                      <a:pt x="57" y="0"/>
                    </a:moveTo>
                    <a:lnTo>
                      <a:pt x="57" y="4330"/>
                    </a:lnTo>
                    <a:lnTo>
                      <a:pt x="50" y="4328"/>
                    </a:lnTo>
                    <a:lnTo>
                      <a:pt x="42" y="4325"/>
                    </a:lnTo>
                    <a:lnTo>
                      <a:pt x="35" y="4323"/>
                    </a:lnTo>
                    <a:lnTo>
                      <a:pt x="28" y="4320"/>
                    </a:lnTo>
                    <a:lnTo>
                      <a:pt x="21" y="4317"/>
                    </a:lnTo>
                    <a:lnTo>
                      <a:pt x="14" y="4315"/>
                    </a:lnTo>
                    <a:lnTo>
                      <a:pt x="7" y="4313"/>
                    </a:lnTo>
                    <a:lnTo>
                      <a:pt x="0" y="4310"/>
                    </a:lnTo>
                    <a:lnTo>
                      <a:pt x="0" y="20"/>
                    </a:lnTo>
                    <a:lnTo>
                      <a:pt x="7" y="18"/>
                    </a:lnTo>
                    <a:lnTo>
                      <a:pt x="14" y="15"/>
                    </a:lnTo>
                    <a:lnTo>
                      <a:pt x="21" y="12"/>
                    </a:lnTo>
                    <a:lnTo>
                      <a:pt x="28" y="10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49600" y="2529000"/>
                <a:ext cx="22320" cy="1709640"/>
              </a:xfrm>
              <a:custGeom>
                <a:avLst/>
                <a:gdLst/>
                <a:ahLst/>
                <a:rect l="l" t="t" r="r" b="b"/>
                <a:pathLst>
                  <a:path w="57" h="4310">
                    <a:moveTo>
                      <a:pt x="57" y="0"/>
                    </a:moveTo>
                    <a:lnTo>
                      <a:pt x="57" y="4310"/>
                    </a:lnTo>
                    <a:lnTo>
                      <a:pt x="50" y="4308"/>
                    </a:lnTo>
                    <a:lnTo>
                      <a:pt x="43" y="4305"/>
                    </a:lnTo>
                    <a:lnTo>
                      <a:pt x="36" y="4303"/>
                    </a:lnTo>
                    <a:lnTo>
                      <a:pt x="29" y="4301"/>
                    </a:lnTo>
                    <a:lnTo>
                      <a:pt x="22" y="4297"/>
                    </a:lnTo>
                    <a:lnTo>
                      <a:pt x="15" y="4295"/>
                    </a:lnTo>
                    <a:lnTo>
                      <a:pt x="8" y="4292"/>
                    </a:lnTo>
                    <a:lnTo>
                      <a:pt x="0" y="4290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5" y="15"/>
                    </a:lnTo>
                    <a:lnTo>
                      <a:pt x="22" y="13"/>
                    </a:lnTo>
                    <a:lnTo>
                      <a:pt x="29" y="10"/>
                    </a:lnTo>
                    <a:lnTo>
                      <a:pt x="36" y="8"/>
                    </a:lnTo>
                    <a:lnTo>
                      <a:pt x="43" y="5"/>
                    </a:lnTo>
                    <a:lnTo>
                      <a:pt x="50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38440" y="2531880"/>
                <a:ext cx="22320" cy="1702080"/>
              </a:xfrm>
              <a:custGeom>
                <a:avLst/>
                <a:gdLst/>
                <a:ahLst/>
                <a:rect l="l" t="t" r="r" b="b"/>
                <a:pathLst>
                  <a:path w="57" h="4290">
                    <a:moveTo>
                      <a:pt x="57" y="0"/>
                    </a:moveTo>
                    <a:lnTo>
                      <a:pt x="57" y="4290"/>
                    </a:lnTo>
                    <a:lnTo>
                      <a:pt x="50" y="4287"/>
                    </a:lnTo>
                    <a:lnTo>
                      <a:pt x="43" y="4285"/>
                    </a:lnTo>
                    <a:lnTo>
                      <a:pt x="36" y="4282"/>
                    </a:lnTo>
                    <a:lnTo>
                      <a:pt x="28" y="4280"/>
                    </a:lnTo>
                    <a:lnTo>
                      <a:pt x="22" y="4278"/>
                    </a:lnTo>
                    <a:lnTo>
                      <a:pt x="14" y="4274"/>
                    </a:lnTo>
                    <a:lnTo>
                      <a:pt x="8" y="4272"/>
                    </a:lnTo>
                    <a:lnTo>
                      <a:pt x="0" y="4270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6"/>
                    </a:lnTo>
                    <a:lnTo>
                      <a:pt x="22" y="13"/>
                    </a:lnTo>
                    <a:lnTo>
                      <a:pt x="28" y="11"/>
                    </a:lnTo>
                    <a:lnTo>
                      <a:pt x="36" y="7"/>
                    </a:lnTo>
                    <a:lnTo>
                      <a:pt x="43" y="5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25840" y="2536920"/>
                <a:ext cx="23760" cy="1693800"/>
              </a:xfrm>
              <a:custGeom>
                <a:avLst/>
                <a:gdLst/>
                <a:ahLst/>
                <a:rect l="l" t="t" r="r" b="b"/>
                <a:pathLst>
                  <a:path w="56" h="4269">
                    <a:moveTo>
                      <a:pt x="56" y="0"/>
                    </a:moveTo>
                    <a:lnTo>
                      <a:pt x="56" y="4269"/>
                    </a:lnTo>
                    <a:lnTo>
                      <a:pt x="50" y="4267"/>
                    </a:lnTo>
                    <a:lnTo>
                      <a:pt x="42" y="4263"/>
                    </a:lnTo>
                    <a:lnTo>
                      <a:pt x="36" y="4261"/>
                    </a:lnTo>
                    <a:lnTo>
                      <a:pt x="28" y="4258"/>
                    </a:lnTo>
                    <a:lnTo>
                      <a:pt x="22" y="4256"/>
                    </a:lnTo>
                    <a:lnTo>
                      <a:pt x="14" y="4254"/>
                    </a:lnTo>
                    <a:lnTo>
                      <a:pt x="8" y="4250"/>
                    </a:lnTo>
                    <a:lnTo>
                      <a:pt x="0" y="4248"/>
                    </a:lnTo>
                    <a:lnTo>
                      <a:pt x="0" y="20"/>
                    </a:lnTo>
                    <a:lnTo>
                      <a:pt x="8" y="18"/>
                    </a:lnTo>
                    <a:lnTo>
                      <a:pt x="14" y="15"/>
                    </a:lnTo>
                    <a:lnTo>
                      <a:pt x="22" y="13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14680" y="2539800"/>
                <a:ext cx="23760" cy="1687680"/>
              </a:xfrm>
              <a:custGeom>
                <a:avLst/>
                <a:gdLst/>
                <a:ahLst/>
                <a:rect l="l" t="t" r="r" b="b"/>
                <a:pathLst>
                  <a:path w="56" h="4250">
                    <a:moveTo>
                      <a:pt x="56" y="0"/>
                    </a:moveTo>
                    <a:lnTo>
                      <a:pt x="56" y="4250"/>
                    </a:lnTo>
                    <a:lnTo>
                      <a:pt x="50" y="4247"/>
                    </a:lnTo>
                    <a:lnTo>
                      <a:pt x="42" y="4245"/>
                    </a:lnTo>
                    <a:lnTo>
                      <a:pt x="34" y="4241"/>
                    </a:lnTo>
                    <a:lnTo>
                      <a:pt x="28" y="4239"/>
                    </a:lnTo>
                    <a:lnTo>
                      <a:pt x="20" y="4236"/>
                    </a:lnTo>
                    <a:lnTo>
                      <a:pt x="14" y="4234"/>
                    </a:lnTo>
                    <a:lnTo>
                      <a:pt x="6" y="4231"/>
                    </a:lnTo>
                    <a:lnTo>
                      <a:pt x="0" y="4229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7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503520" y="2544840"/>
                <a:ext cx="22320" cy="1677960"/>
              </a:xfrm>
              <a:custGeom>
                <a:avLst/>
                <a:gdLst/>
                <a:ahLst/>
                <a:rect l="l" t="t" r="r" b="b"/>
                <a:pathLst>
                  <a:path w="56" h="4228">
                    <a:moveTo>
                      <a:pt x="56" y="0"/>
                    </a:moveTo>
                    <a:lnTo>
                      <a:pt x="56" y="4228"/>
                    </a:lnTo>
                    <a:lnTo>
                      <a:pt x="48" y="4225"/>
                    </a:lnTo>
                    <a:lnTo>
                      <a:pt x="42" y="4223"/>
                    </a:lnTo>
                    <a:lnTo>
                      <a:pt x="34" y="4220"/>
                    </a:lnTo>
                    <a:lnTo>
                      <a:pt x="28" y="4218"/>
                    </a:lnTo>
                    <a:lnTo>
                      <a:pt x="20" y="4214"/>
                    </a:lnTo>
                    <a:lnTo>
                      <a:pt x="14" y="4212"/>
                    </a:lnTo>
                    <a:lnTo>
                      <a:pt x="6" y="4209"/>
                    </a:lnTo>
                    <a:lnTo>
                      <a:pt x="0" y="4207"/>
                    </a:lnTo>
                    <a:lnTo>
                      <a:pt x="0" y="22"/>
                    </a:lnTo>
                    <a:lnTo>
                      <a:pt x="6" y="20"/>
                    </a:lnTo>
                    <a:lnTo>
                      <a:pt x="14" y="16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492360" y="2547720"/>
                <a:ext cx="22320" cy="1670040"/>
              </a:xfrm>
              <a:custGeom>
                <a:avLst/>
                <a:gdLst/>
                <a:ahLst/>
                <a:rect l="l" t="t" r="r" b="b"/>
                <a:pathLst>
                  <a:path w="57" h="4207">
                    <a:moveTo>
                      <a:pt x="57" y="0"/>
                    </a:moveTo>
                    <a:lnTo>
                      <a:pt x="57" y="4207"/>
                    </a:lnTo>
                    <a:lnTo>
                      <a:pt x="49" y="4203"/>
                    </a:lnTo>
                    <a:lnTo>
                      <a:pt x="43" y="4201"/>
                    </a:lnTo>
                    <a:lnTo>
                      <a:pt x="35" y="4198"/>
                    </a:lnTo>
                    <a:lnTo>
                      <a:pt x="28" y="4196"/>
                    </a:lnTo>
                    <a:lnTo>
                      <a:pt x="21" y="4192"/>
                    </a:lnTo>
                    <a:lnTo>
                      <a:pt x="14" y="4190"/>
                    </a:lnTo>
                    <a:lnTo>
                      <a:pt x="7" y="4187"/>
                    </a:lnTo>
                    <a:lnTo>
                      <a:pt x="0" y="4184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6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3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481560" y="2552760"/>
                <a:ext cx="21960" cy="1660320"/>
              </a:xfrm>
              <a:custGeom>
                <a:avLst/>
                <a:gdLst/>
                <a:ahLst/>
                <a:rect l="l" t="t" r="r" b="b"/>
                <a:pathLst>
                  <a:path w="57" h="4185">
                    <a:moveTo>
                      <a:pt x="57" y="0"/>
                    </a:moveTo>
                    <a:lnTo>
                      <a:pt x="57" y="4185"/>
                    </a:lnTo>
                    <a:lnTo>
                      <a:pt x="49" y="4181"/>
                    </a:lnTo>
                    <a:lnTo>
                      <a:pt x="42" y="4179"/>
                    </a:lnTo>
                    <a:lnTo>
                      <a:pt x="35" y="4176"/>
                    </a:lnTo>
                    <a:lnTo>
                      <a:pt x="28" y="4173"/>
                    </a:lnTo>
                    <a:lnTo>
                      <a:pt x="21" y="4171"/>
                    </a:lnTo>
                    <a:lnTo>
                      <a:pt x="14" y="4167"/>
                    </a:lnTo>
                    <a:lnTo>
                      <a:pt x="7" y="4165"/>
                    </a:lnTo>
                    <a:lnTo>
                      <a:pt x="0" y="4162"/>
                    </a:lnTo>
                    <a:lnTo>
                      <a:pt x="0" y="22"/>
                    </a:lnTo>
                    <a:lnTo>
                      <a:pt x="7" y="19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470400" y="2557440"/>
                <a:ext cx="21960" cy="1650960"/>
              </a:xfrm>
              <a:custGeom>
                <a:avLst/>
                <a:gdLst/>
                <a:ahLst/>
                <a:rect l="l" t="t" r="r" b="b"/>
                <a:pathLst>
                  <a:path w="57" h="4162">
                    <a:moveTo>
                      <a:pt x="57" y="0"/>
                    </a:moveTo>
                    <a:lnTo>
                      <a:pt x="57" y="4162"/>
                    </a:lnTo>
                    <a:lnTo>
                      <a:pt x="50" y="4160"/>
                    </a:lnTo>
                    <a:lnTo>
                      <a:pt x="43" y="4156"/>
                    </a:lnTo>
                    <a:lnTo>
                      <a:pt x="36" y="4154"/>
                    </a:lnTo>
                    <a:lnTo>
                      <a:pt x="29" y="4151"/>
                    </a:lnTo>
                    <a:lnTo>
                      <a:pt x="21" y="4148"/>
                    </a:lnTo>
                    <a:lnTo>
                      <a:pt x="14" y="4146"/>
                    </a:lnTo>
                    <a:lnTo>
                      <a:pt x="7" y="4142"/>
                    </a:lnTo>
                    <a:lnTo>
                      <a:pt x="0" y="4139"/>
                    </a:lnTo>
                    <a:lnTo>
                      <a:pt x="0" y="22"/>
                    </a:lnTo>
                    <a:lnTo>
                      <a:pt x="7" y="20"/>
                    </a:lnTo>
                    <a:lnTo>
                      <a:pt x="14" y="17"/>
                    </a:lnTo>
                    <a:lnTo>
                      <a:pt x="21" y="14"/>
                    </a:lnTo>
                    <a:lnTo>
                      <a:pt x="29" y="11"/>
                    </a:lnTo>
                    <a:lnTo>
                      <a:pt x="36" y="8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59240" y="2562120"/>
                <a:ext cx="22320" cy="1643040"/>
              </a:xfrm>
              <a:custGeom>
                <a:avLst/>
                <a:gdLst/>
                <a:ahLst/>
                <a:rect l="l" t="t" r="r" b="b"/>
                <a:pathLst>
                  <a:path w="57" h="4140">
                    <a:moveTo>
                      <a:pt x="57" y="0"/>
                    </a:moveTo>
                    <a:lnTo>
                      <a:pt x="57" y="4140"/>
                    </a:lnTo>
                    <a:lnTo>
                      <a:pt x="50" y="4137"/>
                    </a:lnTo>
                    <a:lnTo>
                      <a:pt x="42" y="4135"/>
                    </a:lnTo>
                    <a:lnTo>
                      <a:pt x="35" y="4131"/>
                    </a:lnTo>
                    <a:lnTo>
                      <a:pt x="28" y="4128"/>
                    </a:lnTo>
                    <a:lnTo>
                      <a:pt x="21" y="4126"/>
                    </a:lnTo>
                    <a:lnTo>
                      <a:pt x="14" y="4123"/>
                    </a:lnTo>
                    <a:lnTo>
                      <a:pt x="7" y="4120"/>
                    </a:lnTo>
                    <a:lnTo>
                      <a:pt x="0" y="4117"/>
                    </a:lnTo>
                    <a:lnTo>
                      <a:pt x="0" y="23"/>
                    </a:lnTo>
                    <a:lnTo>
                      <a:pt x="7" y="20"/>
                    </a:lnTo>
                    <a:lnTo>
                      <a:pt x="14" y="18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5" y="9"/>
                    </a:lnTo>
                    <a:lnTo>
                      <a:pt x="42" y="6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48080" y="2566800"/>
                <a:ext cx="22320" cy="1633680"/>
              </a:xfrm>
              <a:custGeom>
                <a:avLst/>
                <a:gdLst/>
                <a:ahLst/>
                <a:rect l="l" t="t" r="r" b="b"/>
                <a:pathLst>
                  <a:path w="57" h="4117">
                    <a:moveTo>
                      <a:pt x="57" y="0"/>
                    </a:moveTo>
                    <a:lnTo>
                      <a:pt x="57" y="4117"/>
                    </a:lnTo>
                    <a:lnTo>
                      <a:pt x="50" y="4115"/>
                    </a:lnTo>
                    <a:lnTo>
                      <a:pt x="43" y="4112"/>
                    </a:lnTo>
                    <a:lnTo>
                      <a:pt x="36" y="4109"/>
                    </a:lnTo>
                    <a:lnTo>
                      <a:pt x="29" y="4106"/>
                    </a:lnTo>
                    <a:lnTo>
                      <a:pt x="22" y="4103"/>
                    </a:lnTo>
                    <a:lnTo>
                      <a:pt x="14" y="4100"/>
                    </a:lnTo>
                    <a:lnTo>
                      <a:pt x="8" y="4097"/>
                    </a:lnTo>
                    <a:lnTo>
                      <a:pt x="0" y="4094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9"/>
                    </a:lnTo>
                    <a:lnTo>
                      <a:pt x="22" y="15"/>
                    </a:lnTo>
                    <a:lnTo>
                      <a:pt x="29" y="12"/>
                    </a:lnTo>
                    <a:lnTo>
                      <a:pt x="36" y="10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36920" y="2571840"/>
                <a:ext cx="22320" cy="1623960"/>
              </a:xfrm>
              <a:custGeom>
                <a:avLst/>
                <a:gdLst/>
                <a:ahLst/>
                <a:rect l="l" t="t" r="r" b="b"/>
                <a:pathLst>
                  <a:path w="57" h="4094">
                    <a:moveTo>
                      <a:pt x="57" y="0"/>
                    </a:moveTo>
                    <a:lnTo>
                      <a:pt x="57" y="4094"/>
                    </a:lnTo>
                    <a:lnTo>
                      <a:pt x="50" y="4091"/>
                    </a:lnTo>
                    <a:lnTo>
                      <a:pt x="42" y="4088"/>
                    </a:lnTo>
                    <a:lnTo>
                      <a:pt x="36" y="4086"/>
                    </a:lnTo>
                    <a:lnTo>
                      <a:pt x="28" y="4082"/>
                    </a:lnTo>
                    <a:lnTo>
                      <a:pt x="22" y="4079"/>
                    </a:lnTo>
                    <a:lnTo>
                      <a:pt x="14" y="4076"/>
                    </a:lnTo>
                    <a:lnTo>
                      <a:pt x="8" y="4073"/>
                    </a:lnTo>
                    <a:lnTo>
                      <a:pt x="0" y="4071"/>
                    </a:lnTo>
                    <a:lnTo>
                      <a:pt x="0" y="24"/>
                    </a:lnTo>
                    <a:lnTo>
                      <a:pt x="8" y="21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5760" y="2574720"/>
                <a:ext cx="22320" cy="1616400"/>
              </a:xfrm>
              <a:custGeom>
                <a:avLst/>
                <a:gdLst/>
                <a:ahLst/>
                <a:rect l="l" t="t" r="r" b="b"/>
                <a:pathLst>
                  <a:path w="56" h="4070">
                    <a:moveTo>
                      <a:pt x="56" y="0"/>
                    </a:moveTo>
                    <a:lnTo>
                      <a:pt x="56" y="4070"/>
                    </a:lnTo>
                    <a:lnTo>
                      <a:pt x="50" y="4067"/>
                    </a:lnTo>
                    <a:lnTo>
                      <a:pt x="42" y="4064"/>
                    </a:lnTo>
                    <a:lnTo>
                      <a:pt x="36" y="4061"/>
                    </a:lnTo>
                    <a:lnTo>
                      <a:pt x="28" y="4059"/>
                    </a:lnTo>
                    <a:lnTo>
                      <a:pt x="22" y="4055"/>
                    </a:lnTo>
                    <a:lnTo>
                      <a:pt x="14" y="4052"/>
                    </a:lnTo>
                    <a:lnTo>
                      <a:pt x="6" y="4049"/>
                    </a:lnTo>
                    <a:lnTo>
                      <a:pt x="0" y="4047"/>
                    </a:lnTo>
                    <a:lnTo>
                      <a:pt x="0" y="24"/>
                    </a:lnTo>
                    <a:lnTo>
                      <a:pt x="8" y="22"/>
                    </a:lnTo>
                    <a:lnTo>
                      <a:pt x="14" y="18"/>
                    </a:lnTo>
                    <a:lnTo>
                      <a:pt x="22" y="15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14600" y="2579760"/>
                <a:ext cx="22320" cy="1606320"/>
              </a:xfrm>
              <a:custGeom>
                <a:avLst/>
                <a:gdLst/>
                <a:ahLst/>
                <a:rect l="l" t="t" r="r" b="b"/>
                <a:pathLst>
                  <a:path w="56" h="4047">
                    <a:moveTo>
                      <a:pt x="56" y="0"/>
                    </a:moveTo>
                    <a:lnTo>
                      <a:pt x="56" y="4047"/>
                    </a:lnTo>
                    <a:lnTo>
                      <a:pt x="50" y="4043"/>
                    </a:lnTo>
                    <a:lnTo>
                      <a:pt x="42" y="4040"/>
                    </a:lnTo>
                    <a:lnTo>
                      <a:pt x="34" y="4037"/>
                    </a:lnTo>
                    <a:lnTo>
                      <a:pt x="28" y="4034"/>
                    </a:lnTo>
                    <a:lnTo>
                      <a:pt x="20" y="4031"/>
                    </a:lnTo>
                    <a:lnTo>
                      <a:pt x="14" y="4028"/>
                    </a:lnTo>
                    <a:lnTo>
                      <a:pt x="6" y="4025"/>
                    </a:lnTo>
                    <a:lnTo>
                      <a:pt x="0" y="4022"/>
                    </a:lnTo>
                    <a:lnTo>
                      <a:pt x="0" y="25"/>
                    </a:lnTo>
                    <a:lnTo>
                      <a:pt x="6" y="21"/>
                    </a:lnTo>
                    <a:lnTo>
                      <a:pt x="14" y="18"/>
                    </a:lnTo>
                    <a:lnTo>
                      <a:pt x="20" y="15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03440" y="2584440"/>
                <a:ext cx="22320" cy="1596960"/>
              </a:xfrm>
              <a:custGeom>
                <a:avLst/>
                <a:gdLst/>
                <a:ahLst/>
                <a:rect l="l" t="t" r="r" b="b"/>
                <a:pathLst>
                  <a:path w="56" h="4023">
                    <a:moveTo>
                      <a:pt x="56" y="0"/>
                    </a:moveTo>
                    <a:lnTo>
                      <a:pt x="56" y="4023"/>
                    </a:lnTo>
                    <a:lnTo>
                      <a:pt x="48" y="4019"/>
                    </a:lnTo>
                    <a:lnTo>
                      <a:pt x="42" y="4016"/>
                    </a:lnTo>
                    <a:lnTo>
                      <a:pt x="34" y="4013"/>
                    </a:lnTo>
                    <a:lnTo>
                      <a:pt x="28" y="4010"/>
                    </a:lnTo>
                    <a:lnTo>
                      <a:pt x="20" y="4007"/>
                    </a:lnTo>
                    <a:lnTo>
                      <a:pt x="14" y="4003"/>
                    </a:lnTo>
                    <a:lnTo>
                      <a:pt x="6" y="4000"/>
                    </a:lnTo>
                    <a:lnTo>
                      <a:pt x="0" y="3997"/>
                    </a:lnTo>
                    <a:lnTo>
                      <a:pt x="0" y="26"/>
                    </a:lnTo>
                    <a:lnTo>
                      <a:pt x="6" y="22"/>
                    </a:lnTo>
                    <a:lnTo>
                      <a:pt x="14" y="19"/>
                    </a:lnTo>
                    <a:lnTo>
                      <a:pt x="20" y="16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2" y="6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390840" y="2590920"/>
                <a:ext cx="23760" cy="1585800"/>
              </a:xfrm>
              <a:custGeom>
                <a:avLst/>
                <a:gdLst/>
                <a:ahLst/>
                <a:rect l="l" t="t" r="r" b="b"/>
                <a:pathLst>
                  <a:path w="57" h="3997">
                    <a:moveTo>
                      <a:pt x="57" y="0"/>
                    </a:moveTo>
                    <a:lnTo>
                      <a:pt x="57" y="3997"/>
                    </a:lnTo>
                    <a:lnTo>
                      <a:pt x="49" y="3994"/>
                    </a:lnTo>
                    <a:lnTo>
                      <a:pt x="43" y="3990"/>
                    </a:lnTo>
                    <a:lnTo>
                      <a:pt x="35" y="3987"/>
                    </a:lnTo>
                    <a:lnTo>
                      <a:pt x="28" y="3984"/>
                    </a:lnTo>
                    <a:lnTo>
                      <a:pt x="21" y="3981"/>
                    </a:lnTo>
                    <a:lnTo>
                      <a:pt x="14" y="3978"/>
                    </a:lnTo>
                    <a:lnTo>
                      <a:pt x="7" y="3975"/>
                    </a:lnTo>
                    <a:lnTo>
                      <a:pt x="0" y="3972"/>
                    </a:lnTo>
                    <a:lnTo>
                      <a:pt x="0" y="25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3"/>
                    </a:lnTo>
                    <a:lnTo>
                      <a:pt x="35" y="9"/>
                    </a:lnTo>
                    <a:lnTo>
                      <a:pt x="43" y="6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379680" y="2595600"/>
                <a:ext cx="23760" cy="1576440"/>
              </a:xfrm>
              <a:custGeom>
                <a:avLst/>
                <a:gdLst/>
                <a:ahLst/>
                <a:rect l="l" t="t" r="r" b="b"/>
                <a:pathLst>
                  <a:path w="57" h="3971">
                    <a:moveTo>
                      <a:pt x="57" y="0"/>
                    </a:moveTo>
                    <a:lnTo>
                      <a:pt x="57" y="3971"/>
                    </a:lnTo>
                    <a:lnTo>
                      <a:pt x="49" y="3968"/>
                    </a:lnTo>
                    <a:lnTo>
                      <a:pt x="42" y="3964"/>
                    </a:lnTo>
                    <a:lnTo>
                      <a:pt x="35" y="3962"/>
                    </a:lnTo>
                    <a:lnTo>
                      <a:pt x="28" y="3959"/>
                    </a:lnTo>
                    <a:lnTo>
                      <a:pt x="21" y="3956"/>
                    </a:lnTo>
                    <a:lnTo>
                      <a:pt x="14" y="3952"/>
                    </a:lnTo>
                    <a:lnTo>
                      <a:pt x="7" y="3949"/>
                    </a:lnTo>
                    <a:lnTo>
                      <a:pt x="0" y="3946"/>
                    </a:lnTo>
                    <a:lnTo>
                      <a:pt x="0" y="24"/>
                    </a:lnTo>
                    <a:lnTo>
                      <a:pt x="7" y="21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2" y="5"/>
                    </a:lnTo>
                    <a:lnTo>
                      <a:pt x="49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368520" y="2600280"/>
                <a:ext cx="22320" cy="1566720"/>
              </a:xfrm>
              <a:custGeom>
                <a:avLst/>
                <a:gdLst/>
                <a:ahLst/>
                <a:rect l="l" t="t" r="r" b="b"/>
                <a:pathLst>
                  <a:path w="57" h="3947">
                    <a:moveTo>
                      <a:pt x="57" y="0"/>
                    </a:moveTo>
                    <a:lnTo>
                      <a:pt x="57" y="3947"/>
                    </a:lnTo>
                    <a:lnTo>
                      <a:pt x="50" y="3944"/>
                    </a:lnTo>
                    <a:lnTo>
                      <a:pt x="43" y="3940"/>
                    </a:lnTo>
                    <a:lnTo>
                      <a:pt x="36" y="3937"/>
                    </a:lnTo>
                    <a:lnTo>
                      <a:pt x="29" y="3934"/>
                    </a:lnTo>
                    <a:lnTo>
                      <a:pt x="21" y="3931"/>
                    </a:lnTo>
                    <a:lnTo>
                      <a:pt x="14" y="3927"/>
                    </a:lnTo>
                    <a:lnTo>
                      <a:pt x="7" y="3923"/>
                    </a:lnTo>
                    <a:lnTo>
                      <a:pt x="0" y="3920"/>
                    </a:lnTo>
                    <a:lnTo>
                      <a:pt x="0" y="27"/>
                    </a:lnTo>
                    <a:lnTo>
                      <a:pt x="7" y="22"/>
                    </a:lnTo>
                    <a:lnTo>
                      <a:pt x="14" y="19"/>
                    </a:lnTo>
                    <a:lnTo>
                      <a:pt x="21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357720" y="2604960"/>
                <a:ext cx="21960" cy="1555920"/>
              </a:xfrm>
              <a:custGeom>
                <a:avLst/>
                <a:gdLst/>
                <a:ahLst/>
                <a:rect l="l" t="t" r="r" b="b"/>
                <a:pathLst>
                  <a:path w="57" h="3922">
                    <a:moveTo>
                      <a:pt x="57" y="0"/>
                    </a:moveTo>
                    <a:lnTo>
                      <a:pt x="57" y="3922"/>
                    </a:lnTo>
                    <a:lnTo>
                      <a:pt x="50" y="3919"/>
                    </a:lnTo>
                    <a:lnTo>
                      <a:pt x="42" y="3914"/>
                    </a:lnTo>
                    <a:lnTo>
                      <a:pt x="35" y="3911"/>
                    </a:lnTo>
                    <a:lnTo>
                      <a:pt x="28" y="3908"/>
                    </a:lnTo>
                    <a:lnTo>
                      <a:pt x="21" y="3905"/>
                    </a:lnTo>
                    <a:lnTo>
                      <a:pt x="14" y="3901"/>
                    </a:lnTo>
                    <a:lnTo>
                      <a:pt x="7" y="3898"/>
                    </a:lnTo>
                    <a:lnTo>
                      <a:pt x="0" y="3895"/>
                    </a:lnTo>
                    <a:lnTo>
                      <a:pt x="0" y="27"/>
                    </a:lnTo>
                    <a:lnTo>
                      <a:pt x="7" y="24"/>
                    </a:lnTo>
                    <a:lnTo>
                      <a:pt x="14" y="21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46560" y="2611440"/>
                <a:ext cx="21960" cy="1544760"/>
              </a:xfrm>
              <a:custGeom>
                <a:avLst/>
                <a:gdLst/>
                <a:ahLst/>
                <a:rect l="l" t="t" r="r" b="b"/>
                <a:pathLst>
                  <a:path w="57" h="3893">
                    <a:moveTo>
                      <a:pt x="57" y="0"/>
                    </a:moveTo>
                    <a:lnTo>
                      <a:pt x="57" y="3893"/>
                    </a:lnTo>
                    <a:lnTo>
                      <a:pt x="50" y="3890"/>
                    </a:lnTo>
                    <a:lnTo>
                      <a:pt x="43" y="3886"/>
                    </a:lnTo>
                    <a:lnTo>
                      <a:pt x="36" y="3883"/>
                    </a:lnTo>
                    <a:lnTo>
                      <a:pt x="29" y="3880"/>
                    </a:lnTo>
                    <a:lnTo>
                      <a:pt x="22" y="3877"/>
                    </a:lnTo>
                    <a:lnTo>
                      <a:pt x="14" y="3873"/>
                    </a:lnTo>
                    <a:lnTo>
                      <a:pt x="8" y="3870"/>
                    </a:lnTo>
                    <a:lnTo>
                      <a:pt x="0" y="386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4" y="19"/>
                    </a:lnTo>
                    <a:lnTo>
                      <a:pt x="22" y="16"/>
                    </a:lnTo>
                    <a:lnTo>
                      <a:pt x="29" y="12"/>
                    </a:lnTo>
                    <a:lnTo>
                      <a:pt x="36" y="9"/>
                    </a:lnTo>
                    <a:lnTo>
                      <a:pt x="43" y="6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35400" y="2616120"/>
                <a:ext cx="22320" cy="1535040"/>
              </a:xfrm>
              <a:custGeom>
                <a:avLst/>
                <a:gdLst/>
                <a:ahLst/>
                <a:rect l="l" t="t" r="r" b="b"/>
                <a:pathLst>
                  <a:path w="57" h="3868">
                    <a:moveTo>
                      <a:pt x="57" y="0"/>
                    </a:moveTo>
                    <a:lnTo>
                      <a:pt x="57" y="3868"/>
                    </a:lnTo>
                    <a:lnTo>
                      <a:pt x="50" y="3865"/>
                    </a:lnTo>
                    <a:lnTo>
                      <a:pt x="42" y="3861"/>
                    </a:lnTo>
                    <a:lnTo>
                      <a:pt x="36" y="3858"/>
                    </a:lnTo>
                    <a:lnTo>
                      <a:pt x="28" y="3854"/>
                    </a:lnTo>
                    <a:lnTo>
                      <a:pt x="22" y="3851"/>
                    </a:lnTo>
                    <a:lnTo>
                      <a:pt x="14" y="3847"/>
                    </a:lnTo>
                    <a:lnTo>
                      <a:pt x="8" y="3844"/>
                    </a:lnTo>
                    <a:lnTo>
                      <a:pt x="0" y="3841"/>
                    </a:lnTo>
                    <a:lnTo>
                      <a:pt x="0" y="27"/>
                    </a:lnTo>
                    <a:lnTo>
                      <a:pt x="8" y="24"/>
                    </a:lnTo>
                    <a:lnTo>
                      <a:pt x="14" y="21"/>
                    </a:lnTo>
                    <a:lnTo>
                      <a:pt x="22" y="18"/>
                    </a:lnTo>
                    <a:lnTo>
                      <a:pt x="28" y="15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324240" y="2620800"/>
                <a:ext cx="22320" cy="1524240"/>
              </a:xfrm>
              <a:custGeom>
                <a:avLst/>
                <a:gdLst/>
                <a:ahLst/>
                <a:rect l="l" t="t" r="r" b="b"/>
                <a:pathLst>
                  <a:path w="56" h="3839">
                    <a:moveTo>
                      <a:pt x="56" y="0"/>
                    </a:moveTo>
                    <a:lnTo>
                      <a:pt x="56" y="3839"/>
                    </a:lnTo>
                    <a:lnTo>
                      <a:pt x="50" y="3836"/>
                    </a:lnTo>
                    <a:lnTo>
                      <a:pt x="42" y="3832"/>
                    </a:lnTo>
                    <a:lnTo>
                      <a:pt x="36" y="3829"/>
                    </a:lnTo>
                    <a:lnTo>
                      <a:pt x="28" y="3826"/>
                    </a:lnTo>
                    <a:lnTo>
                      <a:pt x="22" y="3822"/>
                    </a:lnTo>
                    <a:lnTo>
                      <a:pt x="14" y="3818"/>
                    </a:lnTo>
                    <a:lnTo>
                      <a:pt x="6" y="3815"/>
                    </a:lnTo>
                    <a:lnTo>
                      <a:pt x="0" y="3812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4" y="20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313080" y="2627280"/>
                <a:ext cx="22320" cy="1512720"/>
              </a:xfrm>
              <a:custGeom>
                <a:avLst/>
                <a:gdLst/>
                <a:ahLst/>
                <a:rect l="l" t="t" r="r" b="b"/>
                <a:pathLst>
                  <a:path w="56" h="3814">
                    <a:moveTo>
                      <a:pt x="56" y="0"/>
                    </a:moveTo>
                    <a:lnTo>
                      <a:pt x="56" y="3814"/>
                    </a:lnTo>
                    <a:lnTo>
                      <a:pt x="50" y="3810"/>
                    </a:lnTo>
                    <a:lnTo>
                      <a:pt x="42" y="3806"/>
                    </a:lnTo>
                    <a:lnTo>
                      <a:pt x="34" y="3803"/>
                    </a:lnTo>
                    <a:lnTo>
                      <a:pt x="28" y="3800"/>
                    </a:lnTo>
                    <a:lnTo>
                      <a:pt x="20" y="3796"/>
                    </a:lnTo>
                    <a:lnTo>
                      <a:pt x="14" y="3792"/>
                    </a:lnTo>
                    <a:lnTo>
                      <a:pt x="6" y="3789"/>
                    </a:lnTo>
                    <a:lnTo>
                      <a:pt x="0" y="3785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2"/>
                    </a:lnTo>
                    <a:lnTo>
                      <a:pt x="20" y="19"/>
                    </a:lnTo>
                    <a:lnTo>
                      <a:pt x="28" y="15"/>
                    </a:lnTo>
                    <a:lnTo>
                      <a:pt x="34" y="11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301920" y="2631960"/>
                <a:ext cx="22320" cy="1501920"/>
              </a:xfrm>
              <a:custGeom>
                <a:avLst/>
                <a:gdLst/>
                <a:ahLst/>
                <a:rect l="l" t="t" r="r" b="b"/>
                <a:pathLst>
                  <a:path w="56" h="3785">
                    <a:moveTo>
                      <a:pt x="56" y="0"/>
                    </a:moveTo>
                    <a:lnTo>
                      <a:pt x="56" y="3785"/>
                    </a:lnTo>
                    <a:lnTo>
                      <a:pt x="48" y="3781"/>
                    </a:lnTo>
                    <a:lnTo>
                      <a:pt x="42" y="3777"/>
                    </a:lnTo>
                    <a:lnTo>
                      <a:pt x="34" y="3774"/>
                    </a:lnTo>
                    <a:lnTo>
                      <a:pt x="28" y="3770"/>
                    </a:lnTo>
                    <a:lnTo>
                      <a:pt x="20" y="3767"/>
                    </a:lnTo>
                    <a:lnTo>
                      <a:pt x="14" y="3763"/>
                    </a:lnTo>
                    <a:lnTo>
                      <a:pt x="6" y="3759"/>
                    </a:lnTo>
                    <a:lnTo>
                      <a:pt x="0" y="3756"/>
                    </a:lnTo>
                    <a:lnTo>
                      <a:pt x="0" y="29"/>
                    </a:lnTo>
                    <a:lnTo>
                      <a:pt x="6" y="25"/>
                    </a:lnTo>
                    <a:lnTo>
                      <a:pt x="14" y="21"/>
                    </a:lnTo>
                    <a:lnTo>
                      <a:pt x="20" y="18"/>
                    </a:lnTo>
                    <a:lnTo>
                      <a:pt x="28" y="15"/>
                    </a:lnTo>
                    <a:lnTo>
                      <a:pt x="34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290760" y="2638440"/>
                <a:ext cx="22320" cy="1490760"/>
              </a:xfrm>
              <a:custGeom>
                <a:avLst/>
                <a:gdLst/>
                <a:ahLst/>
                <a:rect l="l" t="t" r="r" b="b"/>
                <a:pathLst>
                  <a:path w="57" h="3756">
                    <a:moveTo>
                      <a:pt x="57" y="0"/>
                    </a:moveTo>
                    <a:lnTo>
                      <a:pt x="57" y="3756"/>
                    </a:lnTo>
                    <a:lnTo>
                      <a:pt x="49" y="3753"/>
                    </a:lnTo>
                    <a:lnTo>
                      <a:pt x="43" y="3749"/>
                    </a:lnTo>
                    <a:lnTo>
                      <a:pt x="35" y="3745"/>
                    </a:lnTo>
                    <a:lnTo>
                      <a:pt x="28" y="3742"/>
                    </a:lnTo>
                    <a:lnTo>
                      <a:pt x="21" y="3739"/>
                    </a:lnTo>
                    <a:lnTo>
                      <a:pt x="14" y="3734"/>
                    </a:lnTo>
                    <a:lnTo>
                      <a:pt x="7" y="3731"/>
                    </a:lnTo>
                    <a:lnTo>
                      <a:pt x="0" y="3728"/>
                    </a:lnTo>
                    <a:lnTo>
                      <a:pt x="0" y="30"/>
                    </a:lnTo>
                    <a:lnTo>
                      <a:pt x="7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279600" y="2643120"/>
                <a:ext cx="22320" cy="1479600"/>
              </a:xfrm>
              <a:custGeom>
                <a:avLst/>
                <a:gdLst/>
                <a:ahLst/>
                <a:rect l="l" t="t" r="r" b="b"/>
                <a:pathLst>
                  <a:path w="57" h="3727">
                    <a:moveTo>
                      <a:pt x="57" y="0"/>
                    </a:moveTo>
                    <a:lnTo>
                      <a:pt x="57" y="3727"/>
                    </a:lnTo>
                    <a:lnTo>
                      <a:pt x="49" y="3724"/>
                    </a:lnTo>
                    <a:lnTo>
                      <a:pt x="42" y="3719"/>
                    </a:lnTo>
                    <a:lnTo>
                      <a:pt x="35" y="3716"/>
                    </a:lnTo>
                    <a:lnTo>
                      <a:pt x="28" y="3712"/>
                    </a:lnTo>
                    <a:lnTo>
                      <a:pt x="21" y="3708"/>
                    </a:lnTo>
                    <a:lnTo>
                      <a:pt x="14" y="3704"/>
                    </a:lnTo>
                    <a:lnTo>
                      <a:pt x="7" y="3701"/>
                    </a:lnTo>
                    <a:lnTo>
                      <a:pt x="0" y="3697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0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2649600"/>
                <a:ext cx="21960" cy="1468440"/>
              </a:xfrm>
              <a:custGeom>
                <a:avLst/>
                <a:gdLst/>
                <a:ahLst/>
                <a:rect l="l" t="t" r="r" b="b"/>
                <a:pathLst>
                  <a:path w="57" h="3698">
                    <a:moveTo>
                      <a:pt x="57" y="0"/>
                    </a:moveTo>
                    <a:lnTo>
                      <a:pt x="57" y="3698"/>
                    </a:lnTo>
                    <a:lnTo>
                      <a:pt x="50" y="3693"/>
                    </a:lnTo>
                    <a:lnTo>
                      <a:pt x="43" y="3690"/>
                    </a:lnTo>
                    <a:lnTo>
                      <a:pt x="36" y="3686"/>
                    </a:lnTo>
                    <a:lnTo>
                      <a:pt x="29" y="3683"/>
                    </a:lnTo>
                    <a:lnTo>
                      <a:pt x="21" y="3678"/>
                    </a:lnTo>
                    <a:lnTo>
                      <a:pt x="14" y="3675"/>
                    </a:lnTo>
                    <a:lnTo>
                      <a:pt x="7" y="3671"/>
                    </a:lnTo>
                    <a:lnTo>
                      <a:pt x="0" y="366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257640" y="2655720"/>
                <a:ext cx="21960" cy="1455840"/>
              </a:xfrm>
              <a:custGeom>
                <a:avLst/>
                <a:gdLst/>
                <a:ahLst/>
                <a:rect l="l" t="t" r="r" b="b"/>
                <a:pathLst>
                  <a:path w="57" h="3667">
                    <a:moveTo>
                      <a:pt x="57" y="0"/>
                    </a:moveTo>
                    <a:lnTo>
                      <a:pt x="57" y="3667"/>
                    </a:lnTo>
                    <a:lnTo>
                      <a:pt x="49" y="3663"/>
                    </a:lnTo>
                    <a:lnTo>
                      <a:pt x="42" y="3659"/>
                    </a:lnTo>
                    <a:lnTo>
                      <a:pt x="35" y="3656"/>
                    </a:lnTo>
                    <a:lnTo>
                      <a:pt x="28" y="3651"/>
                    </a:lnTo>
                    <a:lnTo>
                      <a:pt x="21" y="3648"/>
                    </a:lnTo>
                    <a:lnTo>
                      <a:pt x="14" y="3644"/>
                    </a:lnTo>
                    <a:lnTo>
                      <a:pt x="7" y="3641"/>
                    </a:lnTo>
                    <a:lnTo>
                      <a:pt x="0" y="3636"/>
                    </a:lnTo>
                    <a:lnTo>
                      <a:pt x="0" y="30"/>
                    </a:lnTo>
                    <a:lnTo>
                      <a:pt x="7" y="26"/>
                    </a:lnTo>
                    <a:lnTo>
                      <a:pt x="14" y="23"/>
                    </a:lnTo>
                    <a:lnTo>
                      <a:pt x="21" y="18"/>
                    </a:lnTo>
                    <a:lnTo>
                      <a:pt x="28" y="15"/>
                    </a:lnTo>
                    <a:lnTo>
                      <a:pt x="35" y="11"/>
                    </a:lnTo>
                    <a:lnTo>
                      <a:pt x="42" y="7"/>
                    </a:lnTo>
                    <a:lnTo>
                      <a:pt x="49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44680" y="2662200"/>
                <a:ext cx="24120" cy="1442880"/>
              </a:xfrm>
              <a:custGeom>
                <a:avLst/>
                <a:gdLst/>
                <a:ahLst/>
                <a:rect l="l" t="t" r="r" b="b"/>
                <a:pathLst>
                  <a:path w="57" h="3636">
                    <a:moveTo>
                      <a:pt x="57" y="0"/>
                    </a:moveTo>
                    <a:lnTo>
                      <a:pt x="57" y="3636"/>
                    </a:lnTo>
                    <a:lnTo>
                      <a:pt x="50" y="3633"/>
                    </a:lnTo>
                    <a:lnTo>
                      <a:pt x="43" y="3629"/>
                    </a:lnTo>
                    <a:lnTo>
                      <a:pt x="36" y="3626"/>
                    </a:lnTo>
                    <a:lnTo>
                      <a:pt x="29" y="3621"/>
                    </a:lnTo>
                    <a:lnTo>
                      <a:pt x="22" y="3617"/>
                    </a:lnTo>
                    <a:lnTo>
                      <a:pt x="14" y="3614"/>
                    </a:lnTo>
                    <a:lnTo>
                      <a:pt x="8" y="3609"/>
                    </a:lnTo>
                    <a:lnTo>
                      <a:pt x="0" y="3605"/>
                    </a:lnTo>
                    <a:lnTo>
                      <a:pt x="0" y="31"/>
                    </a:lnTo>
                    <a:lnTo>
                      <a:pt x="8" y="27"/>
                    </a:lnTo>
                    <a:lnTo>
                      <a:pt x="14" y="23"/>
                    </a:lnTo>
                    <a:lnTo>
                      <a:pt x="22" y="19"/>
                    </a:lnTo>
                    <a:lnTo>
                      <a:pt x="29" y="15"/>
                    </a:lnTo>
                    <a:lnTo>
                      <a:pt x="36" y="11"/>
                    </a:lnTo>
                    <a:lnTo>
                      <a:pt x="43" y="8"/>
                    </a:lnTo>
                    <a:lnTo>
                      <a:pt x="50" y="3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233880" y="2668680"/>
                <a:ext cx="23760" cy="1430280"/>
              </a:xfrm>
              <a:custGeom>
                <a:avLst/>
                <a:gdLst/>
                <a:ahLst/>
                <a:rect l="l" t="t" r="r" b="b"/>
                <a:pathLst>
                  <a:path w="57" h="3606">
                    <a:moveTo>
                      <a:pt x="57" y="0"/>
                    </a:moveTo>
                    <a:lnTo>
                      <a:pt x="57" y="3606"/>
                    </a:lnTo>
                    <a:lnTo>
                      <a:pt x="50" y="3603"/>
                    </a:lnTo>
                    <a:lnTo>
                      <a:pt x="42" y="3599"/>
                    </a:lnTo>
                    <a:lnTo>
                      <a:pt x="36" y="3594"/>
                    </a:lnTo>
                    <a:lnTo>
                      <a:pt x="28" y="3590"/>
                    </a:lnTo>
                    <a:lnTo>
                      <a:pt x="22" y="3587"/>
                    </a:lnTo>
                    <a:lnTo>
                      <a:pt x="14" y="3583"/>
                    </a:lnTo>
                    <a:lnTo>
                      <a:pt x="8" y="3578"/>
                    </a:lnTo>
                    <a:lnTo>
                      <a:pt x="0" y="3575"/>
                    </a:lnTo>
                    <a:lnTo>
                      <a:pt x="0" y="33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22" y="20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22720" y="2674800"/>
                <a:ext cx="21960" cy="1417680"/>
              </a:xfrm>
              <a:custGeom>
                <a:avLst/>
                <a:gdLst/>
                <a:ahLst/>
                <a:rect l="l" t="t" r="r" b="b"/>
                <a:pathLst>
                  <a:path w="56" h="3574">
                    <a:moveTo>
                      <a:pt x="56" y="0"/>
                    </a:moveTo>
                    <a:lnTo>
                      <a:pt x="56" y="3574"/>
                    </a:lnTo>
                    <a:lnTo>
                      <a:pt x="50" y="3571"/>
                    </a:lnTo>
                    <a:lnTo>
                      <a:pt x="42" y="3567"/>
                    </a:lnTo>
                    <a:lnTo>
                      <a:pt x="36" y="3562"/>
                    </a:lnTo>
                    <a:lnTo>
                      <a:pt x="28" y="3559"/>
                    </a:lnTo>
                    <a:lnTo>
                      <a:pt x="20" y="3555"/>
                    </a:lnTo>
                    <a:lnTo>
                      <a:pt x="14" y="3550"/>
                    </a:lnTo>
                    <a:lnTo>
                      <a:pt x="6" y="3546"/>
                    </a:lnTo>
                    <a:lnTo>
                      <a:pt x="0" y="3543"/>
                    </a:lnTo>
                    <a:lnTo>
                      <a:pt x="0" y="33"/>
                    </a:lnTo>
                    <a:lnTo>
                      <a:pt x="6" y="28"/>
                    </a:lnTo>
                    <a:lnTo>
                      <a:pt x="14" y="24"/>
                    </a:lnTo>
                    <a:lnTo>
                      <a:pt x="20" y="20"/>
                    </a:lnTo>
                    <a:lnTo>
                      <a:pt x="28" y="17"/>
                    </a:lnTo>
                    <a:lnTo>
                      <a:pt x="36" y="12"/>
                    </a:lnTo>
                    <a:lnTo>
                      <a:pt x="42" y="8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11560" y="2681280"/>
                <a:ext cx="22320" cy="1404720"/>
              </a:xfrm>
              <a:custGeom>
                <a:avLst/>
                <a:gdLst/>
                <a:ahLst/>
                <a:rect l="l" t="t" r="r" b="b"/>
                <a:pathLst>
                  <a:path w="56" h="3542">
                    <a:moveTo>
                      <a:pt x="56" y="0"/>
                    </a:moveTo>
                    <a:lnTo>
                      <a:pt x="56" y="3542"/>
                    </a:lnTo>
                    <a:lnTo>
                      <a:pt x="50" y="3538"/>
                    </a:lnTo>
                    <a:lnTo>
                      <a:pt x="42" y="3533"/>
                    </a:lnTo>
                    <a:lnTo>
                      <a:pt x="34" y="3529"/>
                    </a:lnTo>
                    <a:lnTo>
                      <a:pt x="28" y="3525"/>
                    </a:lnTo>
                    <a:lnTo>
                      <a:pt x="20" y="3521"/>
                    </a:lnTo>
                    <a:lnTo>
                      <a:pt x="14" y="3517"/>
                    </a:lnTo>
                    <a:lnTo>
                      <a:pt x="6" y="3513"/>
                    </a:lnTo>
                    <a:lnTo>
                      <a:pt x="0" y="3508"/>
                    </a:lnTo>
                    <a:lnTo>
                      <a:pt x="0" y="32"/>
                    </a:lnTo>
                    <a:lnTo>
                      <a:pt x="6" y="28"/>
                    </a:lnTo>
                    <a:lnTo>
                      <a:pt x="14" y="23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50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200400" y="2687760"/>
                <a:ext cx="22320" cy="1392120"/>
              </a:xfrm>
              <a:custGeom>
                <a:avLst/>
                <a:gdLst/>
                <a:ahLst/>
                <a:rect l="l" t="t" r="r" b="b"/>
                <a:pathLst>
                  <a:path w="56" h="3510">
                    <a:moveTo>
                      <a:pt x="56" y="0"/>
                    </a:moveTo>
                    <a:lnTo>
                      <a:pt x="56" y="3510"/>
                    </a:lnTo>
                    <a:lnTo>
                      <a:pt x="48" y="3505"/>
                    </a:lnTo>
                    <a:lnTo>
                      <a:pt x="42" y="3501"/>
                    </a:lnTo>
                    <a:lnTo>
                      <a:pt x="34" y="3497"/>
                    </a:lnTo>
                    <a:lnTo>
                      <a:pt x="28" y="3492"/>
                    </a:lnTo>
                    <a:lnTo>
                      <a:pt x="20" y="3488"/>
                    </a:lnTo>
                    <a:lnTo>
                      <a:pt x="13" y="3484"/>
                    </a:lnTo>
                    <a:lnTo>
                      <a:pt x="6" y="3481"/>
                    </a:lnTo>
                    <a:lnTo>
                      <a:pt x="0" y="3476"/>
                    </a:lnTo>
                    <a:lnTo>
                      <a:pt x="0" y="33"/>
                    </a:lnTo>
                    <a:lnTo>
                      <a:pt x="6" y="29"/>
                    </a:lnTo>
                    <a:lnTo>
                      <a:pt x="14" y="25"/>
                    </a:lnTo>
                    <a:lnTo>
                      <a:pt x="20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42" y="7"/>
                    </a:lnTo>
                    <a:lnTo>
                      <a:pt x="48" y="3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89240" y="2693880"/>
                <a:ext cx="22320" cy="1379520"/>
              </a:xfrm>
              <a:custGeom>
                <a:avLst/>
                <a:gdLst/>
                <a:ahLst/>
                <a:rect l="l" t="t" r="r" b="b"/>
                <a:pathLst>
                  <a:path w="57" h="3476">
                    <a:moveTo>
                      <a:pt x="57" y="0"/>
                    </a:moveTo>
                    <a:lnTo>
                      <a:pt x="57" y="3476"/>
                    </a:lnTo>
                    <a:lnTo>
                      <a:pt x="49" y="3472"/>
                    </a:lnTo>
                    <a:lnTo>
                      <a:pt x="43" y="3468"/>
                    </a:lnTo>
                    <a:lnTo>
                      <a:pt x="35" y="3464"/>
                    </a:lnTo>
                    <a:lnTo>
                      <a:pt x="28" y="3459"/>
                    </a:lnTo>
                    <a:lnTo>
                      <a:pt x="21" y="3455"/>
                    </a:lnTo>
                    <a:lnTo>
                      <a:pt x="14" y="3451"/>
                    </a:lnTo>
                    <a:lnTo>
                      <a:pt x="7" y="3446"/>
                    </a:lnTo>
                    <a:lnTo>
                      <a:pt x="0" y="3443"/>
                    </a:lnTo>
                    <a:lnTo>
                      <a:pt x="0" y="35"/>
                    </a:lnTo>
                    <a:lnTo>
                      <a:pt x="7" y="30"/>
                    </a:lnTo>
                    <a:lnTo>
                      <a:pt x="14" y="26"/>
                    </a:lnTo>
                    <a:lnTo>
                      <a:pt x="21" y="22"/>
                    </a:lnTo>
                    <a:lnTo>
                      <a:pt x="28" y="17"/>
                    </a:lnTo>
                    <a:lnTo>
                      <a:pt x="35" y="13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78080" y="2700360"/>
                <a:ext cx="22320" cy="1366920"/>
              </a:xfrm>
              <a:custGeom>
                <a:avLst/>
                <a:gdLst/>
                <a:ahLst/>
                <a:rect l="l" t="t" r="r" b="b"/>
                <a:pathLst>
                  <a:path w="58" h="3443">
                    <a:moveTo>
                      <a:pt x="58" y="0"/>
                    </a:moveTo>
                    <a:lnTo>
                      <a:pt x="58" y="3443"/>
                    </a:lnTo>
                    <a:lnTo>
                      <a:pt x="50" y="3439"/>
                    </a:lnTo>
                    <a:lnTo>
                      <a:pt x="43" y="3435"/>
                    </a:lnTo>
                    <a:lnTo>
                      <a:pt x="36" y="3430"/>
                    </a:lnTo>
                    <a:lnTo>
                      <a:pt x="29" y="3426"/>
                    </a:lnTo>
                    <a:lnTo>
                      <a:pt x="22" y="3422"/>
                    </a:lnTo>
                    <a:lnTo>
                      <a:pt x="15" y="3416"/>
                    </a:lnTo>
                    <a:lnTo>
                      <a:pt x="8" y="3412"/>
                    </a:lnTo>
                    <a:lnTo>
                      <a:pt x="0" y="3408"/>
                    </a:lnTo>
                    <a:lnTo>
                      <a:pt x="0" y="35"/>
                    </a:lnTo>
                    <a:lnTo>
                      <a:pt x="8" y="30"/>
                    </a:lnTo>
                    <a:lnTo>
                      <a:pt x="15" y="26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3"/>
                    </a:lnTo>
                    <a:lnTo>
                      <a:pt x="43" y="9"/>
                    </a:lnTo>
                    <a:lnTo>
                      <a:pt x="50" y="5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6920" y="2706480"/>
                <a:ext cx="22320" cy="1354320"/>
              </a:xfrm>
              <a:custGeom>
                <a:avLst/>
                <a:gdLst/>
                <a:ahLst/>
                <a:rect l="l" t="t" r="r" b="b"/>
                <a:pathLst>
                  <a:path w="57" h="3408">
                    <a:moveTo>
                      <a:pt x="57" y="0"/>
                    </a:moveTo>
                    <a:lnTo>
                      <a:pt x="57" y="3408"/>
                    </a:lnTo>
                    <a:lnTo>
                      <a:pt x="50" y="3403"/>
                    </a:lnTo>
                    <a:lnTo>
                      <a:pt x="43" y="3398"/>
                    </a:lnTo>
                    <a:lnTo>
                      <a:pt x="35" y="3394"/>
                    </a:lnTo>
                    <a:lnTo>
                      <a:pt x="28" y="3390"/>
                    </a:lnTo>
                    <a:lnTo>
                      <a:pt x="21" y="3385"/>
                    </a:lnTo>
                    <a:lnTo>
                      <a:pt x="14" y="3381"/>
                    </a:lnTo>
                    <a:lnTo>
                      <a:pt x="7" y="3377"/>
                    </a:lnTo>
                    <a:lnTo>
                      <a:pt x="0" y="3372"/>
                    </a:lnTo>
                    <a:lnTo>
                      <a:pt x="0" y="34"/>
                    </a:lnTo>
                    <a:lnTo>
                      <a:pt x="7" y="30"/>
                    </a:lnTo>
                    <a:lnTo>
                      <a:pt x="14" y="25"/>
                    </a:lnTo>
                    <a:lnTo>
                      <a:pt x="21" y="21"/>
                    </a:lnTo>
                    <a:lnTo>
                      <a:pt x="28" y="17"/>
                    </a:lnTo>
                    <a:lnTo>
                      <a:pt x="35" y="12"/>
                    </a:lnTo>
                    <a:lnTo>
                      <a:pt x="43" y="8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6120" y="2714400"/>
                <a:ext cx="21960" cy="1338480"/>
              </a:xfrm>
              <a:custGeom>
                <a:avLst/>
                <a:gdLst/>
                <a:ahLst/>
                <a:rect l="l" t="t" r="r" b="b"/>
                <a:pathLst>
                  <a:path w="56" h="3373">
                    <a:moveTo>
                      <a:pt x="56" y="0"/>
                    </a:moveTo>
                    <a:lnTo>
                      <a:pt x="56" y="3373"/>
                    </a:lnTo>
                    <a:lnTo>
                      <a:pt x="49" y="3368"/>
                    </a:lnTo>
                    <a:lnTo>
                      <a:pt x="42" y="3364"/>
                    </a:lnTo>
                    <a:lnTo>
                      <a:pt x="35" y="3360"/>
                    </a:lnTo>
                    <a:lnTo>
                      <a:pt x="28" y="3355"/>
                    </a:lnTo>
                    <a:lnTo>
                      <a:pt x="21" y="3351"/>
                    </a:lnTo>
                    <a:lnTo>
                      <a:pt x="14" y="3346"/>
                    </a:lnTo>
                    <a:lnTo>
                      <a:pt x="7" y="3341"/>
                    </a:lnTo>
                    <a:lnTo>
                      <a:pt x="0" y="3337"/>
                    </a:lnTo>
                    <a:lnTo>
                      <a:pt x="0" y="35"/>
                    </a:lnTo>
                    <a:lnTo>
                      <a:pt x="7" y="31"/>
                    </a:lnTo>
                    <a:lnTo>
                      <a:pt x="14" y="27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3"/>
                    </a:lnTo>
                    <a:lnTo>
                      <a:pt x="42" y="8"/>
                    </a:lnTo>
                    <a:lnTo>
                      <a:pt x="49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44960" y="2720880"/>
                <a:ext cx="21960" cy="1325520"/>
              </a:xfrm>
              <a:custGeom>
                <a:avLst/>
                <a:gdLst/>
                <a:ahLst/>
                <a:rect l="l" t="t" r="r" b="b"/>
                <a:pathLst>
                  <a:path w="57" h="3338">
                    <a:moveTo>
                      <a:pt x="57" y="0"/>
                    </a:moveTo>
                    <a:lnTo>
                      <a:pt x="57" y="3338"/>
                    </a:lnTo>
                    <a:lnTo>
                      <a:pt x="50" y="3334"/>
                    </a:lnTo>
                    <a:lnTo>
                      <a:pt x="43" y="3329"/>
                    </a:lnTo>
                    <a:lnTo>
                      <a:pt x="36" y="3324"/>
                    </a:lnTo>
                    <a:lnTo>
                      <a:pt x="28" y="3320"/>
                    </a:lnTo>
                    <a:lnTo>
                      <a:pt x="22" y="3316"/>
                    </a:lnTo>
                    <a:lnTo>
                      <a:pt x="14" y="3310"/>
                    </a:lnTo>
                    <a:lnTo>
                      <a:pt x="8" y="3306"/>
                    </a:lnTo>
                    <a:lnTo>
                      <a:pt x="0" y="3302"/>
                    </a:lnTo>
                    <a:lnTo>
                      <a:pt x="0" y="38"/>
                    </a:lnTo>
                    <a:lnTo>
                      <a:pt x="8" y="32"/>
                    </a:lnTo>
                    <a:lnTo>
                      <a:pt x="14" y="28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33800" y="2728800"/>
                <a:ext cx="22320" cy="1309680"/>
              </a:xfrm>
              <a:custGeom>
                <a:avLst/>
                <a:gdLst/>
                <a:ahLst/>
                <a:rect l="l" t="t" r="r" b="b"/>
                <a:pathLst>
                  <a:path w="57" h="3302">
                    <a:moveTo>
                      <a:pt x="57" y="0"/>
                    </a:moveTo>
                    <a:lnTo>
                      <a:pt x="57" y="3302"/>
                    </a:lnTo>
                    <a:lnTo>
                      <a:pt x="50" y="3298"/>
                    </a:lnTo>
                    <a:lnTo>
                      <a:pt x="42" y="3292"/>
                    </a:lnTo>
                    <a:lnTo>
                      <a:pt x="36" y="3288"/>
                    </a:lnTo>
                    <a:lnTo>
                      <a:pt x="28" y="3284"/>
                    </a:lnTo>
                    <a:lnTo>
                      <a:pt x="22" y="3278"/>
                    </a:lnTo>
                    <a:lnTo>
                      <a:pt x="14" y="3274"/>
                    </a:lnTo>
                    <a:lnTo>
                      <a:pt x="8" y="3270"/>
                    </a:lnTo>
                    <a:lnTo>
                      <a:pt x="0" y="3264"/>
                    </a:lnTo>
                    <a:lnTo>
                      <a:pt x="0" y="38"/>
                    </a:lnTo>
                    <a:lnTo>
                      <a:pt x="8" y="34"/>
                    </a:lnTo>
                    <a:lnTo>
                      <a:pt x="14" y="29"/>
                    </a:lnTo>
                    <a:lnTo>
                      <a:pt x="22" y="24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21200" y="2735280"/>
                <a:ext cx="23760" cy="1295280"/>
              </a:xfrm>
              <a:custGeom>
                <a:avLst/>
                <a:gdLst/>
                <a:ahLst/>
                <a:rect l="l" t="t" r="r" b="b"/>
                <a:pathLst>
                  <a:path w="56" h="3264">
                    <a:moveTo>
                      <a:pt x="56" y="0"/>
                    </a:moveTo>
                    <a:lnTo>
                      <a:pt x="56" y="3264"/>
                    </a:lnTo>
                    <a:lnTo>
                      <a:pt x="50" y="3259"/>
                    </a:lnTo>
                    <a:lnTo>
                      <a:pt x="42" y="3254"/>
                    </a:lnTo>
                    <a:lnTo>
                      <a:pt x="36" y="3250"/>
                    </a:lnTo>
                    <a:lnTo>
                      <a:pt x="28" y="3244"/>
                    </a:lnTo>
                    <a:lnTo>
                      <a:pt x="20" y="3240"/>
                    </a:lnTo>
                    <a:lnTo>
                      <a:pt x="14" y="3234"/>
                    </a:lnTo>
                    <a:lnTo>
                      <a:pt x="6" y="3230"/>
                    </a:lnTo>
                    <a:lnTo>
                      <a:pt x="0" y="3225"/>
                    </a:lnTo>
                    <a:lnTo>
                      <a:pt x="0" y="38"/>
                    </a:lnTo>
                    <a:lnTo>
                      <a:pt x="6" y="32"/>
                    </a:lnTo>
                    <a:lnTo>
                      <a:pt x="14" y="28"/>
                    </a:lnTo>
                    <a:lnTo>
                      <a:pt x="20" y="24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2" y="9"/>
                    </a:lnTo>
                    <a:lnTo>
                      <a:pt x="50" y="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10040" y="2743200"/>
                <a:ext cx="23760" cy="1281240"/>
              </a:xfrm>
              <a:custGeom>
                <a:avLst/>
                <a:gdLst/>
                <a:ahLst/>
                <a:rect l="l" t="t" r="r" b="b"/>
                <a:pathLst>
                  <a:path w="56" h="3226">
                    <a:moveTo>
                      <a:pt x="56" y="0"/>
                    </a:moveTo>
                    <a:lnTo>
                      <a:pt x="56" y="3226"/>
                    </a:lnTo>
                    <a:lnTo>
                      <a:pt x="50" y="3222"/>
                    </a:lnTo>
                    <a:lnTo>
                      <a:pt x="42" y="3216"/>
                    </a:lnTo>
                    <a:lnTo>
                      <a:pt x="34" y="3212"/>
                    </a:lnTo>
                    <a:lnTo>
                      <a:pt x="28" y="3207"/>
                    </a:lnTo>
                    <a:lnTo>
                      <a:pt x="20" y="3202"/>
                    </a:lnTo>
                    <a:lnTo>
                      <a:pt x="14" y="3197"/>
                    </a:lnTo>
                    <a:lnTo>
                      <a:pt x="6" y="3193"/>
                    </a:lnTo>
                    <a:lnTo>
                      <a:pt x="0" y="3187"/>
                    </a:lnTo>
                    <a:lnTo>
                      <a:pt x="0" y="39"/>
                    </a:lnTo>
                    <a:lnTo>
                      <a:pt x="6" y="34"/>
                    </a:lnTo>
                    <a:lnTo>
                      <a:pt x="14" y="29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4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98880" y="2751120"/>
                <a:ext cx="22320" cy="1265040"/>
              </a:xfrm>
              <a:custGeom>
                <a:avLst/>
                <a:gdLst/>
                <a:ahLst/>
                <a:rect l="l" t="t" r="r" b="b"/>
                <a:pathLst>
                  <a:path w="57" h="3187">
                    <a:moveTo>
                      <a:pt x="57" y="0"/>
                    </a:moveTo>
                    <a:lnTo>
                      <a:pt x="57" y="3187"/>
                    </a:lnTo>
                    <a:lnTo>
                      <a:pt x="49" y="3182"/>
                    </a:lnTo>
                    <a:lnTo>
                      <a:pt x="43" y="3177"/>
                    </a:lnTo>
                    <a:lnTo>
                      <a:pt x="35" y="3173"/>
                    </a:lnTo>
                    <a:lnTo>
                      <a:pt x="29" y="3167"/>
                    </a:lnTo>
                    <a:lnTo>
                      <a:pt x="21" y="3163"/>
                    </a:lnTo>
                    <a:lnTo>
                      <a:pt x="14" y="3158"/>
                    </a:lnTo>
                    <a:lnTo>
                      <a:pt x="7" y="3152"/>
                    </a:lnTo>
                    <a:lnTo>
                      <a:pt x="0" y="3148"/>
                    </a:lnTo>
                    <a:lnTo>
                      <a:pt x="0" y="40"/>
                    </a:lnTo>
                    <a:lnTo>
                      <a:pt x="7" y="34"/>
                    </a:lnTo>
                    <a:lnTo>
                      <a:pt x="14" y="29"/>
                    </a:lnTo>
                    <a:lnTo>
                      <a:pt x="21" y="25"/>
                    </a:lnTo>
                    <a:lnTo>
                      <a:pt x="29" y="19"/>
                    </a:lnTo>
                    <a:lnTo>
                      <a:pt x="35" y="15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087720" y="2759040"/>
                <a:ext cx="22320" cy="1249200"/>
              </a:xfrm>
              <a:custGeom>
                <a:avLst/>
                <a:gdLst/>
                <a:ahLst/>
                <a:rect l="l" t="t" r="r" b="b"/>
                <a:pathLst>
                  <a:path w="57" h="3148">
                    <a:moveTo>
                      <a:pt x="57" y="0"/>
                    </a:moveTo>
                    <a:lnTo>
                      <a:pt x="57" y="3148"/>
                    </a:lnTo>
                    <a:lnTo>
                      <a:pt x="49" y="3144"/>
                    </a:lnTo>
                    <a:lnTo>
                      <a:pt x="42" y="3139"/>
                    </a:lnTo>
                    <a:lnTo>
                      <a:pt x="35" y="3133"/>
                    </a:lnTo>
                    <a:lnTo>
                      <a:pt x="28" y="3129"/>
                    </a:lnTo>
                    <a:lnTo>
                      <a:pt x="21" y="3123"/>
                    </a:lnTo>
                    <a:lnTo>
                      <a:pt x="14" y="3118"/>
                    </a:lnTo>
                    <a:lnTo>
                      <a:pt x="7" y="3114"/>
                    </a:lnTo>
                    <a:lnTo>
                      <a:pt x="0" y="3108"/>
                    </a:lnTo>
                    <a:lnTo>
                      <a:pt x="0" y="41"/>
                    </a:lnTo>
                    <a:lnTo>
                      <a:pt x="7" y="36"/>
                    </a:lnTo>
                    <a:lnTo>
                      <a:pt x="14" y="30"/>
                    </a:lnTo>
                    <a:lnTo>
                      <a:pt x="21" y="25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2" y="10"/>
                    </a:lnTo>
                    <a:lnTo>
                      <a:pt x="49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76560" y="2766960"/>
                <a:ext cx="22320" cy="1233360"/>
              </a:xfrm>
              <a:custGeom>
                <a:avLst/>
                <a:gdLst/>
                <a:ahLst/>
                <a:rect l="l" t="t" r="r" b="b"/>
                <a:pathLst>
                  <a:path w="57" h="3108">
                    <a:moveTo>
                      <a:pt x="57" y="0"/>
                    </a:moveTo>
                    <a:lnTo>
                      <a:pt x="57" y="3108"/>
                    </a:lnTo>
                    <a:lnTo>
                      <a:pt x="50" y="3102"/>
                    </a:lnTo>
                    <a:lnTo>
                      <a:pt x="43" y="3097"/>
                    </a:lnTo>
                    <a:lnTo>
                      <a:pt x="36" y="3092"/>
                    </a:lnTo>
                    <a:lnTo>
                      <a:pt x="29" y="3087"/>
                    </a:lnTo>
                    <a:lnTo>
                      <a:pt x="22" y="3082"/>
                    </a:lnTo>
                    <a:lnTo>
                      <a:pt x="15" y="3077"/>
                    </a:lnTo>
                    <a:lnTo>
                      <a:pt x="8" y="3071"/>
                    </a:lnTo>
                    <a:lnTo>
                      <a:pt x="0" y="3066"/>
                    </a:lnTo>
                    <a:lnTo>
                      <a:pt x="0" y="41"/>
                    </a:lnTo>
                    <a:lnTo>
                      <a:pt x="8" y="35"/>
                    </a:lnTo>
                    <a:lnTo>
                      <a:pt x="15" y="30"/>
                    </a:lnTo>
                    <a:lnTo>
                      <a:pt x="22" y="26"/>
                    </a:lnTo>
                    <a:lnTo>
                      <a:pt x="29" y="20"/>
                    </a:lnTo>
                    <a:lnTo>
                      <a:pt x="36" y="15"/>
                    </a:lnTo>
                    <a:lnTo>
                      <a:pt x="43" y="9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065400" y="2774880"/>
                <a:ext cx="22320" cy="1217520"/>
              </a:xfrm>
              <a:custGeom>
                <a:avLst/>
                <a:gdLst/>
                <a:ahLst/>
                <a:rect l="l" t="t" r="r" b="b"/>
                <a:pathLst>
                  <a:path w="57" h="3067">
                    <a:moveTo>
                      <a:pt x="57" y="0"/>
                    </a:moveTo>
                    <a:lnTo>
                      <a:pt x="57" y="3067"/>
                    </a:lnTo>
                    <a:lnTo>
                      <a:pt x="50" y="3062"/>
                    </a:lnTo>
                    <a:lnTo>
                      <a:pt x="43" y="3057"/>
                    </a:lnTo>
                    <a:lnTo>
                      <a:pt x="35" y="3051"/>
                    </a:lnTo>
                    <a:lnTo>
                      <a:pt x="28" y="3046"/>
                    </a:lnTo>
                    <a:lnTo>
                      <a:pt x="21" y="3041"/>
                    </a:lnTo>
                    <a:lnTo>
                      <a:pt x="14" y="3036"/>
                    </a:lnTo>
                    <a:lnTo>
                      <a:pt x="7" y="3031"/>
                    </a:lnTo>
                    <a:lnTo>
                      <a:pt x="0" y="3025"/>
                    </a:lnTo>
                    <a:lnTo>
                      <a:pt x="0" y="42"/>
                    </a:lnTo>
                    <a:lnTo>
                      <a:pt x="7" y="37"/>
                    </a:lnTo>
                    <a:lnTo>
                      <a:pt x="14" y="31"/>
                    </a:lnTo>
                    <a:lnTo>
                      <a:pt x="21" y="26"/>
                    </a:lnTo>
                    <a:lnTo>
                      <a:pt x="28" y="21"/>
                    </a:lnTo>
                    <a:lnTo>
                      <a:pt x="35" y="15"/>
                    </a:lnTo>
                    <a:lnTo>
                      <a:pt x="43" y="10"/>
                    </a:lnTo>
                    <a:lnTo>
                      <a:pt x="5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54240" y="2782800"/>
                <a:ext cx="22320" cy="1200240"/>
              </a:xfrm>
              <a:custGeom>
                <a:avLst/>
                <a:gdLst/>
                <a:ahLst/>
                <a:rect l="l" t="t" r="r" b="b"/>
                <a:pathLst>
                  <a:path w="56" h="3025">
                    <a:moveTo>
                      <a:pt x="56" y="0"/>
                    </a:moveTo>
                    <a:lnTo>
                      <a:pt x="56" y="3025"/>
                    </a:lnTo>
                    <a:lnTo>
                      <a:pt x="49" y="3019"/>
                    </a:lnTo>
                    <a:lnTo>
                      <a:pt x="42" y="3014"/>
                    </a:lnTo>
                    <a:lnTo>
                      <a:pt x="35" y="3010"/>
                    </a:lnTo>
                    <a:lnTo>
                      <a:pt x="28" y="3004"/>
                    </a:lnTo>
                    <a:lnTo>
                      <a:pt x="21" y="2999"/>
                    </a:lnTo>
                    <a:lnTo>
                      <a:pt x="14" y="2993"/>
                    </a:lnTo>
                    <a:lnTo>
                      <a:pt x="7" y="2988"/>
                    </a:lnTo>
                    <a:lnTo>
                      <a:pt x="0" y="2983"/>
                    </a:lnTo>
                    <a:lnTo>
                      <a:pt x="0" y="43"/>
                    </a:lnTo>
                    <a:lnTo>
                      <a:pt x="7" y="37"/>
                    </a:lnTo>
                    <a:lnTo>
                      <a:pt x="14" y="32"/>
                    </a:lnTo>
                    <a:lnTo>
                      <a:pt x="21" y="27"/>
                    </a:lnTo>
                    <a:lnTo>
                      <a:pt x="28" y="21"/>
                    </a:lnTo>
                    <a:lnTo>
                      <a:pt x="35" y="16"/>
                    </a:lnTo>
                    <a:lnTo>
                      <a:pt x="42" y="10"/>
                    </a:lnTo>
                    <a:lnTo>
                      <a:pt x="49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043080" y="2792520"/>
                <a:ext cx="22320" cy="1182600"/>
              </a:xfrm>
              <a:custGeom>
                <a:avLst/>
                <a:gdLst/>
                <a:ahLst/>
                <a:rect l="l" t="t" r="r" b="b"/>
                <a:pathLst>
                  <a:path w="57" h="2983">
                    <a:moveTo>
                      <a:pt x="57" y="0"/>
                    </a:moveTo>
                    <a:lnTo>
                      <a:pt x="57" y="2983"/>
                    </a:lnTo>
                    <a:lnTo>
                      <a:pt x="50" y="2978"/>
                    </a:lnTo>
                    <a:lnTo>
                      <a:pt x="43" y="2972"/>
                    </a:lnTo>
                    <a:lnTo>
                      <a:pt x="36" y="2966"/>
                    </a:lnTo>
                    <a:lnTo>
                      <a:pt x="28" y="2961"/>
                    </a:lnTo>
                    <a:lnTo>
                      <a:pt x="22" y="2955"/>
                    </a:lnTo>
                    <a:lnTo>
                      <a:pt x="14" y="2950"/>
                    </a:lnTo>
                    <a:lnTo>
                      <a:pt x="8" y="2944"/>
                    </a:lnTo>
                    <a:lnTo>
                      <a:pt x="0" y="2939"/>
                    </a:lnTo>
                    <a:lnTo>
                      <a:pt x="0" y="45"/>
                    </a:lnTo>
                    <a:lnTo>
                      <a:pt x="8" y="39"/>
                    </a:lnTo>
                    <a:lnTo>
                      <a:pt x="14" y="33"/>
                    </a:lnTo>
                    <a:lnTo>
                      <a:pt x="22" y="27"/>
                    </a:lnTo>
                    <a:lnTo>
                      <a:pt x="28" y="22"/>
                    </a:lnTo>
                    <a:lnTo>
                      <a:pt x="36" y="16"/>
                    </a:lnTo>
                    <a:lnTo>
                      <a:pt x="43" y="11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032280" y="2800440"/>
                <a:ext cx="21960" cy="1166760"/>
              </a:xfrm>
              <a:custGeom>
                <a:avLst/>
                <a:gdLst/>
                <a:ahLst/>
                <a:rect l="l" t="t" r="r" b="b"/>
                <a:pathLst>
                  <a:path w="57" h="2940">
                    <a:moveTo>
                      <a:pt x="57" y="0"/>
                    </a:moveTo>
                    <a:lnTo>
                      <a:pt x="57" y="2940"/>
                    </a:lnTo>
                    <a:lnTo>
                      <a:pt x="50" y="2933"/>
                    </a:lnTo>
                    <a:lnTo>
                      <a:pt x="42" y="2928"/>
                    </a:lnTo>
                    <a:lnTo>
                      <a:pt x="36" y="2922"/>
                    </a:lnTo>
                    <a:lnTo>
                      <a:pt x="28" y="2917"/>
                    </a:lnTo>
                    <a:lnTo>
                      <a:pt x="22" y="2912"/>
                    </a:lnTo>
                    <a:lnTo>
                      <a:pt x="14" y="2905"/>
                    </a:lnTo>
                    <a:lnTo>
                      <a:pt x="8" y="2900"/>
                    </a:lnTo>
                    <a:lnTo>
                      <a:pt x="0" y="2894"/>
                    </a:lnTo>
                    <a:lnTo>
                      <a:pt x="0" y="45"/>
                    </a:lnTo>
                    <a:lnTo>
                      <a:pt x="8" y="40"/>
                    </a:lnTo>
                    <a:lnTo>
                      <a:pt x="14" y="33"/>
                    </a:lnTo>
                    <a:lnTo>
                      <a:pt x="22" y="28"/>
                    </a:lnTo>
                    <a:lnTo>
                      <a:pt x="28" y="23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50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021120" y="2809800"/>
                <a:ext cx="21960" cy="1147680"/>
              </a:xfrm>
              <a:custGeom>
                <a:avLst/>
                <a:gdLst/>
                <a:ahLst/>
                <a:rect l="l" t="t" r="r" b="b"/>
                <a:pathLst>
                  <a:path w="56" h="2894">
                    <a:moveTo>
                      <a:pt x="56" y="0"/>
                    </a:moveTo>
                    <a:lnTo>
                      <a:pt x="56" y="2894"/>
                    </a:lnTo>
                    <a:lnTo>
                      <a:pt x="50" y="2889"/>
                    </a:lnTo>
                    <a:lnTo>
                      <a:pt x="42" y="2882"/>
                    </a:lnTo>
                    <a:lnTo>
                      <a:pt x="35" y="2877"/>
                    </a:lnTo>
                    <a:lnTo>
                      <a:pt x="28" y="2871"/>
                    </a:lnTo>
                    <a:lnTo>
                      <a:pt x="20" y="2865"/>
                    </a:lnTo>
                    <a:lnTo>
                      <a:pt x="14" y="2859"/>
                    </a:lnTo>
                    <a:lnTo>
                      <a:pt x="6" y="2853"/>
                    </a:lnTo>
                    <a:lnTo>
                      <a:pt x="0" y="2848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4" y="34"/>
                    </a:lnTo>
                    <a:lnTo>
                      <a:pt x="20" y="28"/>
                    </a:lnTo>
                    <a:lnTo>
                      <a:pt x="28" y="22"/>
                    </a:lnTo>
                    <a:lnTo>
                      <a:pt x="35" y="17"/>
                    </a:lnTo>
                    <a:lnTo>
                      <a:pt x="42" y="10"/>
                    </a:lnTo>
                    <a:lnTo>
                      <a:pt x="50" y="5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009960" y="2817720"/>
                <a:ext cx="22320" cy="1131840"/>
              </a:xfrm>
              <a:custGeom>
                <a:avLst/>
                <a:gdLst/>
                <a:ahLst/>
                <a:rect l="l" t="t" r="r" b="b"/>
                <a:pathLst>
                  <a:path w="56" h="2849">
                    <a:moveTo>
                      <a:pt x="56" y="0"/>
                    </a:moveTo>
                    <a:lnTo>
                      <a:pt x="56" y="2849"/>
                    </a:lnTo>
                    <a:lnTo>
                      <a:pt x="48" y="2843"/>
                    </a:lnTo>
                    <a:lnTo>
                      <a:pt x="42" y="2837"/>
                    </a:lnTo>
                    <a:lnTo>
                      <a:pt x="34" y="2832"/>
                    </a:lnTo>
                    <a:lnTo>
                      <a:pt x="28" y="2826"/>
                    </a:lnTo>
                    <a:lnTo>
                      <a:pt x="20" y="2820"/>
                    </a:lnTo>
                    <a:lnTo>
                      <a:pt x="14" y="2814"/>
                    </a:lnTo>
                    <a:lnTo>
                      <a:pt x="6" y="2808"/>
                    </a:lnTo>
                    <a:lnTo>
                      <a:pt x="0" y="2802"/>
                    </a:lnTo>
                    <a:lnTo>
                      <a:pt x="0" y="48"/>
                    </a:lnTo>
                    <a:lnTo>
                      <a:pt x="6" y="41"/>
                    </a:lnTo>
                    <a:lnTo>
                      <a:pt x="14" y="36"/>
                    </a:lnTo>
                    <a:lnTo>
                      <a:pt x="20" y="29"/>
                    </a:lnTo>
                    <a:lnTo>
                      <a:pt x="28" y="24"/>
                    </a:lnTo>
                    <a:lnTo>
                      <a:pt x="34" y="18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997360" y="2827440"/>
                <a:ext cx="23760" cy="1112760"/>
              </a:xfrm>
              <a:custGeom>
                <a:avLst/>
                <a:gdLst/>
                <a:ahLst/>
                <a:rect l="l" t="t" r="r" b="b"/>
                <a:pathLst>
                  <a:path w="57" h="2802">
                    <a:moveTo>
                      <a:pt x="57" y="0"/>
                    </a:moveTo>
                    <a:lnTo>
                      <a:pt x="57" y="2802"/>
                    </a:lnTo>
                    <a:lnTo>
                      <a:pt x="49" y="2795"/>
                    </a:lnTo>
                    <a:lnTo>
                      <a:pt x="43" y="2790"/>
                    </a:lnTo>
                    <a:lnTo>
                      <a:pt x="35" y="2783"/>
                    </a:lnTo>
                    <a:lnTo>
                      <a:pt x="28" y="2778"/>
                    </a:lnTo>
                    <a:lnTo>
                      <a:pt x="21" y="2771"/>
                    </a:lnTo>
                    <a:lnTo>
                      <a:pt x="14" y="2765"/>
                    </a:lnTo>
                    <a:lnTo>
                      <a:pt x="7" y="2759"/>
                    </a:lnTo>
                    <a:lnTo>
                      <a:pt x="0" y="2753"/>
                    </a:lnTo>
                    <a:lnTo>
                      <a:pt x="0" y="48"/>
                    </a:lnTo>
                    <a:lnTo>
                      <a:pt x="7" y="42"/>
                    </a:lnTo>
                    <a:lnTo>
                      <a:pt x="14" y="36"/>
                    </a:lnTo>
                    <a:lnTo>
                      <a:pt x="21" y="29"/>
                    </a:lnTo>
                    <a:lnTo>
                      <a:pt x="28" y="24"/>
                    </a:lnTo>
                    <a:lnTo>
                      <a:pt x="35" y="17"/>
                    </a:lnTo>
                    <a:lnTo>
                      <a:pt x="43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86200" y="2836800"/>
                <a:ext cx="23760" cy="1093680"/>
              </a:xfrm>
              <a:custGeom>
                <a:avLst/>
                <a:gdLst/>
                <a:ahLst/>
                <a:rect l="l" t="t" r="r" b="b"/>
                <a:pathLst>
                  <a:path w="57" h="2754">
                    <a:moveTo>
                      <a:pt x="57" y="0"/>
                    </a:moveTo>
                    <a:lnTo>
                      <a:pt x="57" y="2754"/>
                    </a:lnTo>
                    <a:lnTo>
                      <a:pt x="49" y="2747"/>
                    </a:lnTo>
                    <a:lnTo>
                      <a:pt x="42" y="2742"/>
                    </a:lnTo>
                    <a:lnTo>
                      <a:pt x="35" y="2735"/>
                    </a:lnTo>
                    <a:lnTo>
                      <a:pt x="28" y="2729"/>
                    </a:lnTo>
                    <a:lnTo>
                      <a:pt x="21" y="2724"/>
                    </a:lnTo>
                    <a:lnTo>
                      <a:pt x="14" y="2717"/>
                    </a:lnTo>
                    <a:lnTo>
                      <a:pt x="7" y="2711"/>
                    </a:lnTo>
                    <a:lnTo>
                      <a:pt x="0" y="2704"/>
                    </a:lnTo>
                    <a:lnTo>
                      <a:pt x="0" y="49"/>
                    </a:lnTo>
                    <a:lnTo>
                      <a:pt x="7" y="43"/>
                    </a:lnTo>
                    <a:lnTo>
                      <a:pt x="14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5" y="18"/>
                    </a:lnTo>
                    <a:lnTo>
                      <a:pt x="42" y="12"/>
                    </a:lnTo>
                    <a:lnTo>
                      <a:pt x="49" y="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975040" y="2846160"/>
                <a:ext cx="22320" cy="1073160"/>
              </a:xfrm>
              <a:custGeom>
                <a:avLst/>
                <a:gdLst/>
                <a:ahLst/>
                <a:rect l="l" t="t" r="r" b="b"/>
                <a:pathLst>
                  <a:path w="57" h="2705">
                    <a:moveTo>
                      <a:pt x="57" y="0"/>
                    </a:moveTo>
                    <a:lnTo>
                      <a:pt x="57" y="2705"/>
                    </a:lnTo>
                    <a:lnTo>
                      <a:pt x="50" y="2698"/>
                    </a:lnTo>
                    <a:lnTo>
                      <a:pt x="43" y="2692"/>
                    </a:lnTo>
                    <a:lnTo>
                      <a:pt x="36" y="2687"/>
                    </a:lnTo>
                    <a:lnTo>
                      <a:pt x="29" y="2680"/>
                    </a:lnTo>
                    <a:lnTo>
                      <a:pt x="21" y="2674"/>
                    </a:lnTo>
                    <a:lnTo>
                      <a:pt x="15" y="2667"/>
                    </a:lnTo>
                    <a:lnTo>
                      <a:pt x="7" y="2661"/>
                    </a:lnTo>
                    <a:lnTo>
                      <a:pt x="0" y="2654"/>
                    </a:lnTo>
                    <a:lnTo>
                      <a:pt x="0" y="51"/>
                    </a:lnTo>
                    <a:lnTo>
                      <a:pt x="7" y="45"/>
                    </a:lnTo>
                    <a:lnTo>
                      <a:pt x="15" y="38"/>
                    </a:lnTo>
                    <a:lnTo>
                      <a:pt x="21" y="32"/>
                    </a:lnTo>
                    <a:lnTo>
                      <a:pt x="29" y="25"/>
                    </a:lnTo>
                    <a:lnTo>
                      <a:pt x="36" y="19"/>
                    </a:lnTo>
                    <a:lnTo>
                      <a:pt x="43" y="12"/>
                    </a:lnTo>
                    <a:lnTo>
                      <a:pt x="50" y="6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963880" y="2857320"/>
                <a:ext cx="22320" cy="1052640"/>
              </a:xfrm>
              <a:custGeom>
                <a:avLst/>
                <a:gdLst/>
                <a:ahLst/>
                <a:rect l="l" t="t" r="r" b="b"/>
                <a:pathLst>
                  <a:path w="57" h="2655">
                    <a:moveTo>
                      <a:pt x="57" y="0"/>
                    </a:moveTo>
                    <a:lnTo>
                      <a:pt x="57" y="2655"/>
                    </a:lnTo>
                    <a:lnTo>
                      <a:pt x="50" y="2649"/>
                    </a:lnTo>
                    <a:lnTo>
                      <a:pt x="43" y="2642"/>
                    </a:lnTo>
                    <a:lnTo>
                      <a:pt x="35" y="2636"/>
                    </a:lnTo>
                    <a:lnTo>
                      <a:pt x="28" y="2629"/>
                    </a:lnTo>
                    <a:lnTo>
                      <a:pt x="21" y="2623"/>
                    </a:lnTo>
                    <a:lnTo>
                      <a:pt x="14" y="2616"/>
                    </a:lnTo>
                    <a:lnTo>
                      <a:pt x="7" y="2610"/>
                    </a:lnTo>
                    <a:lnTo>
                      <a:pt x="0" y="2603"/>
                    </a:lnTo>
                    <a:lnTo>
                      <a:pt x="0" y="52"/>
                    </a:lnTo>
                    <a:lnTo>
                      <a:pt x="7" y="46"/>
                    </a:lnTo>
                    <a:lnTo>
                      <a:pt x="14" y="39"/>
                    </a:lnTo>
                    <a:lnTo>
                      <a:pt x="21" y="33"/>
                    </a:lnTo>
                    <a:lnTo>
                      <a:pt x="28" y="26"/>
                    </a:lnTo>
                    <a:lnTo>
                      <a:pt x="35" y="20"/>
                    </a:lnTo>
                    <a:lnTo>
                      <a:pt x="43" y="13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952720" y="2867040"/>
                <a:ext cx="22320" cy="1033560"/>
              </a:xfrm>
              <a:custGeom>
                <a:avLst/>
                <a:gdLst/>
                <a:ahLst/>
                <a:rect l="l" t="t" r="r" b="b"/>
                <a:pathLst>
                  <a:path w="56" h="2603">
                    <a:moveTo>
                      <a:pt x="56" y="0"/>
                    </a:moveTo>
                    <a:lnTo>
                      <a:pt x="56" y="2603"/>
                    </a:lnTo>
                    <a:lnTo>
                      <a:pt x="49" y="2597"/>
                    </a:lnTo>
                    <a:lnTo>
                      <a:pt x="42" y="2590"/>
                    </a:lnTo>
                    <a:lnTo>
                      <a:pt x="35" y="2583"/>
                    </a:lnTo>
                    <a:lnTo>
                      <a:pt x="28" y="2576"/>
                    </a:lnTo>
                    <a:lnTo>
                      <a:pt x="21" y="2570"/>
                    </a:lnTo>
                    <a:lnTo>
                      <a:pt x="13" y="2563"/>
                    </a:lnTo>
                    <a:lnTo>
                      <a:pt x="7" y="2556"/>
                    </a:lnTo>
                    <a:lnTo>
                      <a:pt x="0" y="2549"/>
                    </a:lnTo>
                    <a:lnTo>
                      <a:pt x="0" y="54"/>
                    </a:lnTo>
                    <a:lnTo>
                      <a:pt x="7" y="47"/>
                    </a:lnTo>
                    <a:lnTo>
                      <a:pt x="13" y="40"/>
                    </a:lnTo>
                    <a:lnTo>
                      <a:pt x="21" y="34"/>
                    </a:lnTo>
                    <a:lnTo>
                      <a:pt x="28" y="27"/>
                    </a:lnTo>
                    <a:lnTo>
                      <a:pt x="35" y="20"/>
                    </a:lnTo>
                    <a:lnTo>
                      <a:pt x="42" y="13"/>
                    </a:lnTo>
                    <a:lnTo>
                      <a:pt x="49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41560" y="2878200"/>
                <a:ext cx="22320" cy="1011240"/>
              </a:xfrm>
              <a:custGeom>
                <a:avLst/>
                <a:gdLst/>
                <a:ahLst/>
                <a:rect l="l" t="t" r="r" b="b"/>
                <a:pathLst>
                  <a:path w="57" h="2551">
                    <a:moveTo>
                      <a:pt x="57" y="0"/>
                    </a:moveTo>
                    <a:lnTo>
                      <a:pt x="57" y="2551"/>
                    </a:lnTo>
                    <a:lnTo>
                      <a:pt x="50" y="2544"/>
                    </a:lnTo>
                    <a:lnTo>
                      <a:pt x="42" y="2537"/>
                    </a:lnTo>
                    <a:lnTo>
                      <a:pt x="36" y="2531"/>
                    </a:lnTo>
                    <a:lnTo>
                      <a:pt x="28" y="2523"/>
                    </a:lnTo>
                    <a:lnTo>
                      <a:pt x="22" y="2517"/>
                    </a:lnTo>
                    <a:lnTo>
                      <a:pt x="14" y="2509"/>
                    </a:lnTo>
                    <a:lnTo>
                      <a:pt x="8" y="2503"/>
                    </a:lnTo>
                    <a:lnTo>
                      <a:pt x="0" y="2496"/>
                    </a:lnTo>
                    <a:lnTo>
                      <a:pt x="0" y="56"/>
                    </a:lnTo>
                    <a:lnTo>
                      <a:pt x="8" y="49"/>
                    </a:lnTo>
                    <a:lnTo>
                      <a:pt x="14" y="42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930400" y="2889360"/>
                <a:ext cx="22320" cy="988920"/>
              </a:xfrm>
              <a:custGeom>
                <a:avLst/>
                <a:gdLst/>
                <a:ahLst/>
                <a:rect l="l" t="t" r="r" b="b"/>
                <a:pathLst>
                  <a:path w="57" h="2495">
                    <a:moveTo>
                      <a:pt x="57" y="0"/>
                    </a:moveTo>
                    <a:lnTo>
                      <a:pt x="57" y="2495"/>
                    </a:lnTo>
                    <a:lnTo>
                      <a:pt x="50" y="2489"/>
                    </a:lnTo>
                    <a:lnTo>
                      <a:pt x="42" y="2481"/>
                    </a:lnTo>
                    <a:lnTo>
                      <a:pt x="36" y="2475"/>
                    </a:lnTo>
                    <a:lnTo>
                      <a:pt x="28" y="2467"/>
                    </a:lnTo>
                    <a:lnTo>
                      <a:pt x="22" y="2460"/>
                    </a:lnTo>
                    <a:lnTo>
                      <a:pt x="14" y="2453"/>
                    </a:lnTo>
                    <a:lnTo>
                      <a:pt x="8" y="2445"/>
                    </a:lnTo>
                    <a:lnTo>
                      <a:pt x="0" y="2438"/>
                    </a:lnTo>
                    <a:lnTo>
                      <a:pt x="0" y="57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36" y="21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19240" y="2900160"/>
                <a:ext cx="22320" cy="968400"/>
              </a:xfrm>
              <a:custGeom>
                <a:avLst/>
                <a:gdLst/>
                <a:ahLst/>
                <a:rect l="l" t="t" r="r" b="b"/>
                <a:pathLst>
                  <a:path w="56" h="2440">
                    <a:moveTo>
                      <a:pt x="56" y="0"/>
                    </a:moveTo>
                    <a:lnTo>
                      <a:pt x="56" y="2440"/>
                    </a:lnTo>
                    <a:lnTo>
                      <a:pt x="50" y="2433"/>
                    </a:lnTo>
                    <a:lnTo>
                      <a:pt x="42" y="2425"/>
                    </a:lnTo>
                    <a:lnTo>
                      <a:pt x="35" y="2417"/>
                    </a:lnTo>
                    <a:lnTo>
                      <a:pt x="28" y="2410"/>
                    </a:lnTo>
                    <a:lnTo>
                      <a:pt x="20" y="2403"/>
                    </a:lnTo>
                    <a:lnTo>
                      <a:pt x="14" y="2396"/>
                    </a:lnTo>
                    <a:lnTo>
                      <a:pt x="6" y="2388"/>
                    </a:lnTo>
                    <a:lnTo>
                      <a:pt x="0" y="2381"/>
                    </a:lnTo>
                    <a:lnTo>
                      <a:pt x="0" y="59"/>
                    </a:lnTo>
                    <a:lnTo>
                      <a:pt x="6" y="51"/>
                    </a:lnTo>
                    <a:lnTo>
                      <a:pt x="14" y="44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5" y="22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08440" y="2911320"/>
                <a:ext cx="21960" cy="944640"/>
              </a:xfrm>
              <a:custGeom>
                <a:avLst/>
                <a:gdLst/>
                <a:ahLst/>
                <a:rect l="l" t="t" r="r" b="b"/>
                <a:pathLst>
                  <a:path w="56" h="2381">
                    <a:moveTo>
                      <a:pt x="56" y="0"/>
                    </a:moveTo>
                    <a:lnTo>
                      <a:pt x="56" y="2381"/>
                    </a:lnTo>
                    <a:lnTo>
                      <a:pt x="48" y="2373"/>
                    </a:lnTo>
                    <a:lnTo>
                      <a:pt x="42" y="2366"/>
                    </a:lnTo>
                    <a:lnTo>
                      <a:pt x="34" y="2358"/>
                    </a:lnTo>
                    <a:lnTo>
                      <a:pt x="28" y="2351"/>
                    </a:lnTo>
                    <a:lnTo>
                      <a:pt x="20" y="2343"/>
                    </a:lnTo>
                    <a:lnTo>
                      <a:pt x="14" y="2336"/>
                    </a:lnTo>
                    <a:lnTo>
                      <a:pt x="6" y="2328"/>
                    </a:lnTo>
                    <a:lnTo>
                      <a:pt x="0" y="2320"/>
                    </a:lnTo>
                    <a:lnTo>
                      <a:pt x="0" y="61"/>
                    </a:lnTo>
                    <a:lnTo>
                      <a:pt x="6" y="54"/>
                    </a:lnTo>
                    <a:lnTo>
                      <a:pt x="14" y="46"/>
                    </a:lnTo>
                    <a:lnTo>
                      <a:pt x="20" y="37"/>
                    </a:lnTo>
                    <a:lnTo>
                      <a:pt x="28" y="30"/>
                    </a:lnTo>
                    <a:lnTo>
                      <a:pt x="34" y="22"/>
                    </a:lnTo>
                    <a:lnTo>
                      <a:pt x="42" y="15"/>
                    </a:lnTo>
                    <a:lnTo>
                      <a:pt x="48" y="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897280" y="2922480"/>
                <a:ext cx="21960" cy="922320"/>
              </a:xfrm>
              <a:custGeom>
                <a:avLst/>
                <a:gdLst/>
                <a:ahLst/>
                <a:rect l="l" t="t" r="r" b="b"/>
                <a:pathLst>
                  <a:path w="57" h="2322">
                    <a:moveTo>
                      <a:pt x="57" y="0"/>
                    </a:moveTo>
                    <a:lnTo>
                      <a:pt x="57" y="2322"/>
                    </a:lnTo>
                    <a:lnTo>
                      <a:pt x="49" y="2314"/>
                    </a:lnTo>
                    <a:lnTo>
                      <a:pt x="42" y="2307"/>
                    </a:lnTo>
                    <a:lnTo>
                      <a:pt x="35" y="2298"/>
                    </a:lnTo>
                    <a:lnTo>
                      <a:pt x="28" y="2290"/>
                    </a:lnTo>
                    <a:lnTo>
                      <a:pt x="21" y="2283"/>
                    </a:lnTo>
                    <a:lnTo>
                      <a:pt x="14" y="2274"/>
                    </a:lnTo>
                    <a:lnTo>
                      <a:pt x="7" y="2267"/>
                    </a:lnTo>
                    <a:lnTo>
                      <a:pt x="0" y="2259"/>
                    </a:lnTo>
                    <a:lnTo>
                      <a:pt x="0" y="62"/>
                    </a:lnTo>
                    <a:lnTo>
                      <a:pt x="7" y="55"/>
                    </a:lnTo>
                    <a:lnTo>
                      <a:pt x="14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5" y="24"/>
                    </a:lnTo>
                    <a:lnTo>
                      <a:pt x="43" y="16"/>
                    </a:lnTo>
                    <a:lnTo>
                      <a:pt x="49" y="7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86120" y="2935080"/>
                <a:ext cx="22320" cy="897120"/>
              </a:xfrm>
              <a:custGeom>
                <a:avLst/>
                <a:gdLst/>
                <a:ahLst/>
                <a:rect l="l" t="t" r="r" b="b"/>
                <a:pathLst>
                  <a:path w="57" h="2259">
                    <a:moveTo>
                      <a:pt x="57" y="0"/>
                    </a:moveTo>
                    <a:lnTo>
                      <a:pt x="57" y="2259"/>
                    </a:lnTo>
                    <a:lnTo>
                      <a:pt x="49" y="2252"/>
                    </a:lnTo>
                    <a:lnTo>
                      <a:pt x="42" y="2243"/>
                    </a:lnTo>
                    <a:lnTo>
                      <a:pt x="35" y="2236"/>
                    </a:lnTo>
                    <a:lnTo>
                      <a:pt x="28" y="2227"/>
                    </a:lnTo>
                    <a:lnTo>
                      <a:pt x="21" y="2219"/>
                    </a:lnTo>
                    <a:lnTo>
                      <a:pt x="14" y="2211"/>
                    </a:lnTo>
                    <a:lnTo>
                      <a:pt x="7" y="2203"/>
                    </a:lnTo>
                    <a:lnTo>
                      <a:pt x="0" y="2195"/>
                    </a:lnTo>
                    <a:lnTo>
                      <a:pt x="0" y="65"/>
                    </a:lnTo>
                    <a:lnTo>
                      <a:pt x="7" y="56"/>
                    </a:lnTo>
                    <a:lnTo>
                      <a:pt x="14" y="49"/>
                    </a:lnTo>
                    <a:lnTo>
                      <a:pt x="21" y="40"/>
                    </a:lnTo>
                    <a:lnTo>
                      <a:pt x="28" y="32"/>
                    </a:lnTo>
                    <a:lnTo>
                      <a:pt x="35" y="24"/>
                    </a:lnTo>
                    <a:lnTo>
                      <a:pt x="42" y="16"/>
                    </a:lnTo>
                    <a:lnTo>
                      <a:pt x="49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874960" y="2948040"/>
                <a:ext cx="22320" cy="871560"/>
              </a:xfrm>
              <a:custGeom>
                <a:avLst/>
                <a:gdLst/>
                <a:ahLst/>
                <a:rect l="l" t="t" r="r" b="b"/>
                <a:pathLst>
                  <a:path w="57" h="2197">
                    <a:moveTo>
                      <a:pt x="57" y="0"/>
                    </a:moveTo>
                    <a:lnTo>
                      <a:pt x="57" y="2197"/>
                    </a:lnTo>
                    <a:lnTo>
                      <a:pt x="50" y="2188"/>
                    </a:lnTo>
                    <a:lnTo>
                      <a:pt x="43" y="2180"/>
                    </a:lnTo>
                    <a:lnTo>
                      <a:pt x="35" y="2171"/>
                    </a:lnTo>
                    <a:lnTo>
                      <a:pt x="29" y="2164"/>
                    </a:lnTo>
                    <a:lnTo>
                      <a:pt x="21" y="2155"/>
                    </a:lnTo>
                    <a:lnTo>
                      <a:pt x="15" y="2146"/>
                    </a:lnTo>
                    <a:lnTo>
                      <a:pt x="7" y="2138"/>
                    </a:lnTo>
                    <a:lnTo>
                      <a:pt x="0" y="2129"/>
                    </a:lnTo>
                    <a:lnTo>
                      <a:pt x="0" y="68"/>
                    </a:lnTo>
                    <a:lnTo>
                      <a:pt x="7" y="60"/>
                    </a:lnTo>
                    <a:lnTo>
                      <a:pt x="15" y="51"/>
                    </a:lnTo>
                    <a:lnTo>
                      <a:pt x="21" y="43"/>
                    </a:lnTo>
                    <a:lnTo>
                      <a:pt x="29" y="34"/>
                    </a:lnTo>
                    <a:lnTo>
                      <a:pt x="35" y="26"/>
                    </a:lnTo>
                    <a:lnTo>
                      <a:pt x="43" y="18"/>
                    </a:lnTo>
                    <a:lnTo>
                      <a:pt x="50" y="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863800" y="2960640"/>
                <a:ext cx="22320" cy="846000"/>
              </a:xfrm>
              <a:custGeom>
                <a:avLst/>
                <a:gdLst/>
                <a:ahLst/>
                <a:rect l="l" t="t" r="r" b="b"/>
                <a:pathLst>
                  <a:path w="57" h="2130">
                    <a:moveTo>
                      <a:pt x="57" y="0"/>
                    </a:moveTo>
                    <a:lnTo>
                      <a:pt x="57" y="2130"/>
                    </a:lnTo>
                    <a:lnTo>
                      <a:pt x="49" y="2121"/>
                    </a:lnTo>
                    <a:lnTo>
                      <a:pt x="43" y="2112"/>
                    </a:lnTo>
                    <a:lnTo>
                      <a:pt x="35" y="2104"/>
                    </a:lnTo>
                    <a:lnTo>
                      <a:pt x="28" y="2095"/>
                    </a:lnTo>
                    <a:lnTo>
                      <a:pt x="21" y="2086"/>
                    </a:lnTo>
                    <a:lnTo>
                      <a:pt x="14" y="2078"/>
                    </a:lnTo>
                    <a:lnTo>
                      <a:pt x="7" y="2069"/>
                    </a:lnTo>
                    <a:lnTo>
                      <a:pt x="0" y="2059"/>
                    </a:lnTo>
                    <a:lnTo>
                      <a:pt x="0" y="40"/>
                    </a:lnTo>
                    <a:lnTo>
                      <a:pt x="24" y="40"/>
                    </a:lnTo>
                    <a:lnTo>
                      <a:pt x="28" y="34"/>
                    </a:lnTo>
                    <a:lnTo>
                      <a:pt x="32" y="29"/>
                    </a:lnTo>
                    <a:lnTo>
                      <a:pt x="36" y="25"/>
                    </a:lnTo>
                    <a:lnTo>
                      <a:pt x="40" y="19"/>
                    </a:lnTo>
                    <a:lnTo>
                      <a:pt x="45" y="15"/>
                    </a:lnTo>
                    <a:lnTo>
                      <a:pt x="49" y="10"/>
                    </a:lnTo>
                    <a:lnTo>
                      <a:pt x="52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852640" y="2975040"/>
                <a:ext cx="22320" cy="817560"/>
              </a:xfrm>
              <a:custGeom>
                <a:avLst/>
                <a:gdLst/>
                <a:ahLst/>
                <a:rect l="l" t="t" r="r" b="b"/>
                <a:pathLst>
                  <a:path w="56" h="2061">
                    <a:moveTo>
                      <a:pt x="56" y="0"/>
                    </a:moveTo>
                    <a:lnTo>
                      <a:pt x="56" y="2061"/>
                    </a:lnTo>
                    <a:lnTo>
                      <a:pt x="49" y="2052"/>
                    </a:lnTo>
                    <a:lnTo>
                      <a:pt x="42" y="2043"/>
                    </a:lnTo>
                    <a:lnTo>
                      <a:pt x="35" y="2034"/>
                    </a:lnTo>
                    <a:lnTo>
                      <a:pt x="27" y="2024"/>
                    </a:lnTo>
                    <a:lnTo>
                      <a:pt x="21" y="2016"/>
                    </a:lnTo>
                    <a:lnTo>
                      <a:pt x="13" y="2006"/>
                    </a:lnTo>
                    <a:lnTo>
                      <a:pt x="7" y="1997"/>
                    </a:lnTo>
                    <a:lnTo>
                      <a:pt x="0" y="1988"/>
                    </a:lnTo>
                    <a:lnTo>
                      <a:pt x="0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1c3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840040" y="2976480"/>
                <a:ext cx="23760" cy="801720"/>
              </a:xfrm>
              <a:custGeom>
                <a:avLst/>
                <a:gdLst/>
                <a:ahLst/>
                <a:rect l="l" t="t" r="r" b="b"/>
                <a:pathLst>
                  <a:path w="57" h="2019">
                    <a:moveTo>
                      <a:pt x="57" y="0"/>
                    </a:moveTo>
                    <a:lnTo>
                      <a:pt x="57" y="2019"/>
                    </a:lnTo>
                    <a:lnTo>
                      <a:pt x="50" y="2011"/>
                    </a:lnTo>
                    <a:lnTo>
                      <a:pt x="42" y="2001"/>
                    </a:lnTo>
                    <a:lnTo>
                      <a:pt x="36" y="1991"/>
                    </a:lnTo>
                    <a:lnTo>
                      <a:pt x="28" y="1982"/>
                    </a:lnTo>
                    <a:lnTo>
                      <a:pt x="22" y="1972"/>
                    </a:lnTo>
                    <a:lnTo>
                      <a:pt x="14" y="1962"/>
                    </a:lnTo>
                    <a:lnTo>
                      <a:pt x="8" y="1952"/>
                    </a:lnTo>
                    <a:lnTo>
                      <a:pt x="0" y="1943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8880" y="2976480"/>
                <a:ext cx="23760" cy="787320"/>
              </a:xfrm>
              <a:custGeom>
                <a:avLst/>
                <a:gdLst/>
                <a:ahLst/>
                <a:rect l="l" t="t" r="r" b="b"/>
                <a:pathLst>
                  <a:path w="57" h="1982">
                    <a:moveTo>
                      <a:pt x="57" y="0"/>
                    </a:moveTo>
                    <a:lnTo>
                      <a:pt x="57" y="1982"/>
                    </a:lnTo>
                    <a:lnTo>
                      <a:pt x="50" y="1972"/>
                    </a:lnTo>
                    <a:lnTo>
                      <a:pt x="42" y="1962"/>
                    </a:lnTo>
                    <a:lnTo>
                      <a:pt x="35" y="1952"/>
                    </a:lnTo>
                    <a:lnTo>
                      <a:pt x="28" y="1942"/>
                    </a:lnTo>
                    <a:lnTo>
                      <a:pt x="21" y="1932"/>
                    </a:lnTo>
                    <a:lnTo>
                      <a:pt x="14" y="1922"/>
                    </a:lnTo>
                    <a:lnTo>
                      <a:pt x="7" y="1911"/>
                    </a:lnTo>
                    <a:lnTo>
                      <a:pt x="0" y="190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17720" y="2976480"/>
                <a:ext cx="22320" cy="771480"/>
              </a:xfrm>
              <a:custGeom>
                <a:avLst/>
                <a:gdLst/>
                <a:ahLst/>
                <a:rect l="l" t="t" r="r" b="b"/>
                <a:pathLst>
                  <a:path w="56" h="1943">
                    <a:moveTo>
                      <a:pt x="56" y="0"/>
                    </a:moveTo>
                    <a:lnTo>
                      <a:pt x="56" y="1943"/>
                    </a:lnTo>
                    <a:lnTo>
                      <a:pt x="49" y="1932"/>
                    </a:lnTo>
                    <a:lnTo>
                      <a:pt x="42" y="1921"/>
                    </a:lnTo>
                    <a:lnTo>
                      <a:pt x="35" y="1911"/>
                    </a:lnTo>
                    <a:lnTo>
                      <a:pt x="27" y="1901"/>
                    </a:lnTo>
                    <a:lnTo>
                      <a:pt x="20" y="1890"/>
                    </a:lnTo>
                    <a:lnTo>
                      <a:pt x="14" y="1879"/>
                    </a:lnTo>
                    <a:lnTo>
                      <a:pt x="6" y="1868"/>
                    </a:lnTo>
                    <a:lnTo>
                      <a:pt x="0" y="1857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806560" y="2976480"/>
                <a:ext cx="22320" cy="755640"/>
              </a:xfrm>
              <a:custGeom>
                <a:avLst/>
                <a:gdLst/>
                <a:ahLst/>
                <a:rect l="l" t="t" r="r" b="b"/>
                <a:pathLst>
                  <a:path w="56" h="1902">
                    <a:moveTo>
                      <a:pt x="56" y="0"/>
                    </a:moveTo>
                    <a:lnTo>
                      <a:pt x="56" y="1902"/>
                    </a:lnTo>
                    <a:lnTo>
                      <a:pt x="48" y="1891"/>
                    </a:lnTo>
                    <a:lnTo>
                      <a:pt x="41" y="1879"/>
                    </a:lnTo>
                    <a:lnTo>
                      <a:pt x="34" y="1868"/>
                    </a:lnTo>
                    <a:lnTo>
                      <a:pt x="27" y="1856"/>
                    </a:lnTo>
                    <a:lnTo>
                      <a:pt x="20" y="1846"/>
                    </a:lnTo>
                    <a:lnTo>
                      <a:pt x="13" y="1834"/>
                    </a:lnTo>
                    <a:lnTo>
                      <a:pt x="6" y="1823"/>
                    </a:lnTo>
                    <a:lnTo>
                      <a:pt x="0" y="1811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5760" y="2976480"/>
                <a:ext cx="21960" cy="738360"/>
              </a:xfrm>
              <a:custGeom>
                <a:avLst/>
                <a:gdLst/>
                <a:ahLst/>
                <a:rect l="l" t="t" r="r" b="b"/>
                <a:pathLst>
                  <a:path w="57" h="1857">
                    <a:moveTo>
                      <a:pt x="57" y="0"/>
                    </a:moveTo>
                    <a:lnTo>
                      <a:pt x="57" y="1857"/>
                    </a:lnTo>
                    <a:lnTo>
                      <a:pt x="49" y="1846"/>
                    </a:lnTo>
                    <a:lnTo>
                      <a:pt x="42" y="1834"/>
                    </a:lnTo>
                    <a:lnTo>
                      <a:pt x="34" y="1822"/>
                    </a:lnTo>
                    <a:lnTo>
                      <a:pt x="28" y="1810"/>
                    </a:lnTo>
                    <a:lnTo>
                      <a:pt x="20" y="1798"/>
                    </a:lnTo>
                    <a:lnTo>
                      <a:pt x="14" y="1786"/>
                    </a:lnTo>
                    <a:lnTo>
                      <a:pt x="7" y="1774"/>
                    </a:lnTo>
                    <a:lnTo>
                      <a:pt x="0" y="1761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784600" y="2976480"/>
                <a:ext cx="21960" cy="719280"/>
              </a:xfrm>
              <a:custGeom>
                <a:avLst/>
                <a:gdLst/>
                <a:ahLst/>
                <a:rect l="l" t="t" r="r" b="b"/>
                <a:pathLst>
                  <a:path w="57" h="1811">
                    <a:moveTo>
                      <a:pt x="57" y="0"/>
                    </a:moveTo>
                    <a:lnTo>
                      <a:pt x="57" y="1811"/>
                    </a:lnTo>
                    <a:lnTo>
                      <a:pt x="49" y="1799"/>
                    </a:lnTo>
                    <a:lnTo>
                      <a:pt x="42" y="1786"/>
                    </a:lnTo>
                    <a:lnTo>
                      <a:pt x="34" y="1773"/>
                    </a:lnTo>
                    <a:lnTo>
                      <a:pt x="28" y="1760"/>
                    </a:lnTo>
                    <a:lnTo>
                      <a:pt x="20" y="1747"/>
                    </a:lnTo>
                    <a:lnTo>
                      <a:pt x="14" y="1734"/>
                    </a:lnTo>
                    <a:lnTo>
                      <a:pt x="6" y="1721"/>
                    </a:lnTo>
                    <a:lnTo>
                      <a:pt x="0" y="1708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773440" y="2976480"/>
                <a:ext cx="22320" cy="700200"/>
              </a:xfrm>
              <a:custGeom>
                <a:avLst/>
                <a:gdLst/>
                <a:ahLst/>
                <a:rect l="l" t="t" r="r" b="b"/>
                <a:pathLst>
                  <a:path w="57" h="1761">
                    <a:moveTo>
                      <a:pt x="57" y="0"/>
                    </a:moveTo>
                    <a:lnTo>
                      <a:pt x="57" y="1761"/>
                    </a:lnTo>
                    <a:lnTo>
                      <a:pt x="49" y="1748"/>
                    </a:lnTo>
                    <a:lnTo>
                      <a:pt x="43" y="1734"/>
                    </a:lnTo>
                    <a:lnTo>
                      <a:pt x="35" y="1720"/>
                    </a:lnTo>
                    <a:lnTo>
                      <a:pt x="27" y="1706"/>
                    </a:lnTo>
                    <a:lnTo>
                      <a:pt x="21" y="1692"/>
                    </a:lnTo>
                    <a:lnTo>
                      <a:pt x="13" y="1678"/>
                    </a:lnTo>
                    <a:lnTo>
                      <a:pt x="7" y="1664"/>
                    </a:lnTo>
                    <a:lnTo>
                      <a:pt x="0" y="1650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762280" y="2976480"/>
                <a:ext cx="22320" cy="677880"/>
              </a:xfrm>
              <a:custGeom>
                <a:avLst/>
                <a:gdLst/>
                <a:ahLst/>
                <a:rect l="l" t="t" r="r" b="b"/>
                <a:pathLst>
                  <a:path w="57" h="1708">
                    <a:moveTo>
                      <a:pt x="57" y="0"/>
                    </a:moveTo>
                    <a:lnTo>
                      <a:pt x="57" y="1708"/>
                    </a:lnTo>
                    <a:lnTo>
                      <a:pt x="49" y="1693"/>
                    </a:lnTo>
                    <a:lnTo>
                      <a:pt x="41" y="1678"/>
                    </a:lnTo>
                    <a:lnTo>
                      <a:pt x="34" y="1662"/>
                    </a:lnTo>
                    <a:lnTo>
                      <a:pt x="27" y="1647"/>
                    </a:lnTo>
                    <a:lnTo>
                      <a:pt x="20" y="1632"/>
                    </a:lnTo>
                    <a:lnTo>
                      <a:pt x="13" y="1616"/>
                    </a:lnTo>
                    <a:lnTo>
                      <a:pt x="7" y="1600"/>
                    </a:lnTo>
                    <a:lnTo>
                      <a:pt x="0" y="1585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751120" y="2976480"/>
                <a:ext cx="22320" cy="655560"/>
              </a:xfrm>
              <a:custGeom>
                <a:avLst/>
                <a:gdLst/>
                <a:ahLst/>
                <a:rect l="l" t="t" r="r" b="b"/>
                <a:pathLst>
                  <a:path w="56" h="1650">
                    <a:moveTo>
                      <a:pt x="56" y="0"/>
                    </a:moveTo>
                    <a:lnTo>
                      <a:pt x="56" y="1650"/>
                    </a:lnTo>
                    <a:lnTo>
                      <a:pt x="49" y="1633"/>
                    </a:lnTo>
                    <a:lnTo>
                      <a:pt x="41" y="1616"/>
                    </a:lnTo>
                    <a:lnTo>
                      <a:pt x="34" y="1598"/>
                    </a:lnTo>
                    <a:lnTo>
                      <a:pt x="26" y="1581"/>
                    </a:lnTo>
                    <a:lnTo>
                      <a:pt x="20" y="1563"/>
                    </a:lnTo>
                    <a:lnTo>
                      <a:pt x="12" y="1545"/>
                    </a:lnTo>
                    <a:lnTo>
                      <a:pt x="6" y="1528"/>
                    </a:lnTo>
                    <a:lnTo>
                      <a:pt x="0" y="1510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39960" y="2976480"/>
                <a:ext cx="22320" cy="630360"/>
              </a:xfrm>
              <a:custGeom>
                <a:avLst/>
                <a:gdLst/>
                <a:ahLst/>
                <a:rect l="l" t="t" r="r" b="b"/>
                <a:pathLst>
                  <a:path w="57" h="1585">
                    <a:moveTo>
                      <a:pt x="57" y="0"/>
                    </a:moveTo>
                    <a:lnTo>
                      <a:pt x="57" y="1585"/>
                    </a:lnTo>
                    <a:lnTo>
                      <a:pt x="49" y="1565"/>
                    </a:lnTo>
                    <a:lnTo>
                      <a:pt x="41" y="1544"/>
                    </a:lnTo>
                    <a:lnTo>
                      <a:pt x="34" y="1524"/>
                    </a:lnTo>
                    <a:lnTo>
                      <a:pt x="26" y="1504"/>
                    </a:lnTo>
                    <a:lnTo>
                      <a:pt x="20" y="1484"/>
                    </a:lnTo>
                    <a:lnTo>
                      <a:pt x="13" y="1463"/>
                    </a:lnTo>
                    <a:lnTo>
                      <a:pt x="7" y="1443"/>
                    </a:lnTo>
                    <a:lnTo>
                      <a:pt x="0" y="1422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728800" y="2976480"/>
                <a:ext cx="22320" cy="600120"/>
              </a:xfrm>
              <a:custGeom>
                <a:avLst/>
                <a:gdLst/>
                <a:ahLst/>
                <a:rect l="l" t="t" r="r" b="b"/>
                <a:pathLst>
                  <a:path w="57" h="1510">
                    <a:moveTo>
                      <a:pt x="57" y="0"/>
                    </a:moveTo>
                    <a:lnTo>
                      <a:pt x="57" y="1510"/>
                    </a:lnTo>
                    <a:lnTo>
                      <a:pt x="48" y="1485"/>
                    </a:lnTo>
                    <a:lnTo>
                      <a:pt x="40" y="1459"/>
                    </a:lnTo>
                    <a:lnTo>
                      <a:pt x="32" y="1434"/>
                    </a:lnTo>
                    <a:lnTo>
                      <a:pt x="25" y="1408"/>
                    </a:lnTo>
                    <a:lnTo>
                      <a:pt x="18" y="1382"/>
                    </a:lnTo>
                    <a:lnTo>
                      <a:pt x="12" y="1357"/>
                    </a:lnTo>
                    <a:lnTo>
                      <a:pt x="5" y="1331"/>
                    </a:lnTo>
                    <a:lnTo>
                      <a:pt x="0" y="1306"/>
                    </a:lnTo>
                    <a:lnTo>
                      <a:pt x="0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716200" y="2976480"/>
                <a:ext cx="23760" cy="565200"/>
              </a:xfrm>
              <a:custGeom>
                <a:avLst/>
                <a:gdLst/>
                <a:ahLst/>
                <a:rect l="l" t="t" r="r" b="b"/>
                <a:pathLst>
                  <a:path w="56" h="1422">
                    <a:moveTo>
                      <a:pt x="56" y="0"/>
                    </a:moveTo>
                    <a:lnTo>
                      <a:pt x="56" y="1422"/>
                    </a:lnTo>
                    <a:lnTo>
                      <a:pt x="43" y="1374"/>
                    </a:lnTo>
                    <a:lnTo>
                      <a:pt x="32" y="1324"/>
                    </a:lnTo>
                    <a:lnTo>
                      <a:pt x="23" y="1275"/>
                    </a:lnTo>
                    <a:lnTo>
                      <a:pt x="14" y="1226"/>
                    </a:lnTo>
                    <a:lnTo>
                      <a:pt x="7" y="1175"/>
                    </a:lnTo>
                    <a:lnTo>
                      <a:pt x="3" y="1125"/>
                    </a:lnTo>
                    <a:lnTo>
                      <a:pt x="1" y="1074"/>
                    </a:lnTo>
                    <a:lnTo>
                      <a:pt x="0" y="1024"/>
                    </a:lnTo>
                    <a:lnTo>
                      <a:pt x="0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4c4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716200" y="2976480"/>
                <a:ext cx="12600" cy="519120"/>
              </a:xfrm>
              <a:custGeom>
                <a:avLst/>
                <a:gdLst/>
                <a:ahLst/>
                <a:rect l="l" t="t" r="r" b="b"/>
                <a:pathLst>
                  <a:path w="28" h="1306">
                    <a:moveTo>
                      <a:pt x="28" y="0"/>
                    </a:moveTo>
                    <a:lnTo>
                      <a:pt x="28" y="1306"/>
                    </a:lnTo>
                    <a:lnTo>
                      <a:pt x="22" y="1270"/>
                    </a:lnTo>
                    <a:lnTo>
                      <a:pt x="16" y="1235"/>
                    </a:lnTo>
                    <a:lnTo>
                      <a:pt x="11" y="1201"/>
                    </a:lnTo>
                    <a:lnTo>
                      <a:pt x="7" y="1165"/>
                    </a:lnTo>
                    <a:lnTo>
                      <a:pt x="4" y="1131"/>
                    </a:lnTo>
                    <a:lnTo>
                      <a:pt x="2" y="1095"/>
                    </a:lnTo>
                    <a:lnTo>
                      <a:pt x="0" y="1059"/>
                    </a:lnTo>
                    <a:lnTo>
                      <a:pt x="0" y="1024"/>
                    </a:lnTo>
                    <a:lnTo>
                      <a:pt x="0" y="1010"/>
                    </a:lnTo>
                    <a:lnTo>
                      <a:pt x="0" y="997"/>
                    </a:lnTo>
                    <a:lnTo>
                      <a:pt x="0" y="983"/>
                    </a:lnTo>
                    <a:lnTo>
                      <a:pt x="0" y="969"/>
                    </a:lnTo>
                    <a:lnTo>
                      <a:pt x="0" y="955"/>
                    </a:lnTo>
                    <a:lnTo>
                      <a:pt x="0" y="941"/>
                    </a:lnTo>
                    <a:lnTo>
                      <a:pt x="0" y="928"/>
                    </a:lnTo>
                    <a:lnTo>
                      <a:pt x="0" y="914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7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16200" y="2367000"/>
                <a:ext cx="2817720" cy="2033640"/>
              </a:xfrm>
              <a:custGeom>
                <a:avLst/>
                <a:gdLst/>
                <a:ahLst/>
                <a:rect l="l" t="t" r="r" b="b"/>
                <a:pathLst>
                  <a:path w="7099" h="5123">
                    <a:moveTo>
                      <a:pt x="392" y="1538"/>
                    </a:moveTo>
                    <a:lnTo>
                      <a:pt x="0" y="1538"/>
                    </a:lnTo>
                    <a:lnTo>
                      <a:pt x="0" y="2452"/>
                    </a:lnTo>
                    <a:lnTo>
                      <a:pt x="0" y="2466"/>
                    </a:lnTo>
                    <a:lnTo>
                      <a:pt x="0" y="2479"/>
                    </a:lnTo>
                    <a:lnTo>
                      <a:pt x="0" y="2493"/>
                    </a:lnTo>
                    <a:lnTo>
                      <a:pt x="0" y="2507"/>
                    </a:lnTo>
                    <a:lnTo>
                      <a:pt x="0" y="2521"/>
                    </a:lnTo>
                    <a:lnTo>
                      <a:pt x="0" y="2535"/>
                    </a:lnTo>
                    <a:lnTo>
                      <a:pt x="0" y="2548"/>
                    </a:lnTo>
                    <a:lnTo>
                      <a:pt x="0" y="2562"/>
                    </a:lnTo>
                    <a:lnTo>
                      <a:pt x="5" y="2693"/>
                    </a:lnTo>
                    <a:lnTo>
                      <a:pt x="24" y="2823"/>
                    </a:lnTo>
                    <a:lnTo>
                      <a:pt x="54" y="2952"/>
                    </a:lnTo>
                    <a:lnTo>
                      <a:pt x="95" y="3078"/>
                    </a:lnTo>
                    <a:lnTo>
                      <a:pt x="147" y="3201"/>
                    </a:lnTo>
                    <a:lnTo>
                      <a:pt x="211" y="3323"/>
                    </a:lnTo>
                    <a:lnTo>
                      <a:pt x="284" y="3442"/>
                    </a:lnTo>
                    <a:lnTo>
                      <a:pt x="368" y="3559"/>
                    </a:lnTo>
                    <a:lnTo>
                      <a:pt x="462" y="3672"/>
                    </a:lnTo>
                    <a:lnTo>
                      <a:pt x="566" y="3782"/>
                    </a:lnTo>
                    <a:lnTo>
                      <a:pt x="678" y="3889"/>
                    </a:lnTo>
                    <a:lnTo>
                      <a:pt x="801" y="3993"/>
                    </a:lnTo>
                    <a:lnTo>
                      <a:pt x="931" y="4093"/>
                    </a:lnTo>
                    <a:lnTo>
                      <a:pt x="1070" y="4190"/>
                    </a:lnTo>
                    <a:lnTo>
                      <a:pt x="1218" y="4283"/>
                    </a:lnTo>
                    <a:lnTo>
                      <a:pt x="1372" y="4373"/>
                    </a:lnTo>
                    <a:lnTo>
                      <a:pt x="1535" y="4457"/>
                    </a:lnTo>
                    <a:lnTo>
                      <a:pt x="1705" y="4538"/>
                    </a:lnTo>
                    <a:lnTo>
                      <a:pt x="1881" y="4614"/>
                    </a:lnTo>
                    <a:lnTo>
                      <a:pt x="2065" y="4685"/>
                    </a:lnTo>
                    <a:lnTo>
                      <a:pt x="2255" y="4752"/>
                    </a:lnTo>
                    <a:lnTo>
                      <a:pt x="2451" y="4813"/>
                    </a:lnTo>
                    <a:lnTo>
                      <a:pt x="2653" y="4871"/>
                    </a:lnTo>
                    <a:lnTo>
                      <a:pt x="2859" y="4921"/>
                    </a:lnTo>
                    <a:lnTo>
                      <a:pt x="3072" y="4968"/>
                    </a:lnTo>
                    <a:lnTo>
                      <a:pt x="3289" y="5008"/>
                    </a:lnTo>
                    <a:lnTo>
                      <a:pt x="3511" y="5042"/>
                    </a:lnTo>
                    <a:lnTo>
                      <a:pt x="3736" y="5072"/>
                    </a:lnTo>
                    <a:lnTo>
                      <a:pt x="3967" y="5094"/>
                    </a:lnTo>
                    <a:lnTo>
                      <a:pt x="4200" y="5110"/>
                    </a:lnTo>
                    <a:lnTo>
                      <a:pt x="4438" y="5120"/>
                    </a:lnTo>
                    <a:lnTo>
                      <a:pt x="4678" y="5123"/>
                    </a:lnTo>
                    <a:lnTo>
                      <a:pt x="4753" y="5123"/>
                    </a:lnTo>
                    <a:lnTo>
                      <a:pt x="4829" y="5121"/>
                    </a:lnTo>
                    <a:lnTo>
                      <a:pt x="4904" y="5119"/>
                    </a:lnTo>
                    <a:lnTo>
                      <a:pt x="4981" y="5116"/>
                    </a:lnTo>
                    <a:lnTo>
                      <a:pt x="5058" y="5113"/>
                    </a:lnTo>
                    <a:lnTo>
                      <a:pt x="5135" y="5107"/>
                    </a:lnTo>
                    <a:lnTo>
                      <a:pt x="5210" y="5103"/>
                    </a:lnTo>
                    <a:lnTo>
                      <a:pt x="5287" y="5096"/>
                    </a:lnTo>
                    <a:lnTo>
                      <a:pt x="5438" y="5082"/>
                    </a:lnTo>
                    <a:lnTo>
                      <a:pt x="5588" y="5067"/>
                    </a:lnTo>
                    <a:lnTo>
                      <a:pt x="5738" y="5050"/>
                    </a:lnTo>
                    <a:lnTo>
                      <a:pt x="5882" y="5032"/>
                    </a:lnTo>
                    <a:lnTo>
                      <a:pt x="5878" y="5032"/>
                    </a:lnTo>
                    <a:lnTo>
                      <a:pt x="5882" y="5032"/>
                    </a:lnTo>
                    <a:lnTo>
                      <a:pt x="5882" y="3388"/>
                    </a:lnTo>
                    <a:lnTo>
                      <a:pt x="5074" y="3388"/>
                    </a:lnTo>
                    <a:lnTo>
                      <a:pt x="4678" y="2562"/>
                    </a:lnTo>
                    <a:lnTo>
                      <a:pt x="7097" y="2562"/>
                    </a:lnTo>
                    <a:lnTo>
                      <a:pt x="7098" y="2300"/>
                    </a:lnTo>
                    <a:lnTo>
                      <a:pt x="7099" y="2047"/>
                    </a:lnTo>
                    <a:lnTo>
                      <a:pt x="7097" y="1922"/>
                    </a:lnTo>
                    <a:lnTo>
                      <a:pt x="7095" y="1801"/>
                    </a:lnTo>
                    <a:lnTo>
                      <a:pt x="7089" y="1683"/>
                    </a:lnTo>
                    <a:lnTo>
                      <a:pt x="7081" y="1566"/>
                    </a:lnTo>
                    <a:lnTo>
                      <a:pt x="7070" y="1453"/>
                    </a:lnTo>
                    <a:lnTo>
                      <a:pt x="7055" y="1342"/>
                    </a:lnTo>
                    <a:lnTo>
                      <a:pt x="7035" y="1234"/>
                    </a:lnTo>
                    <a:lnTo>
                      <a:pt x="7010" y="1131"/>
                    </a:lnTo>
                    <a:lnTo>
                      <a:pt x="6981" y="1030"/>
                    </a:lnTo>
                    <a:lnTo>
                      <a:pt x="6945" y="934"/>
                    </a:lnTo>
                    <a:lnTo>
                      <a:pt x="6902" y="840"/>
                    </a:lnTo>
                    <a:lnTo>
                      <a:pt x="6854" y="752"/>
                    </a:lnTo>
                    <a:lnTo>
                      <a:pt x="6796" y="666"/>
                    </a:lnTo>
                    <a:lnTo>
                      <a:pt x="6732" y="586"/>
                    </a:lnTo>
                    <a:lnTo>
                      <a:pt x="6658" y="510"/>
                    </a:lnTo>
                    <a:lnTo>
                      <a:pt x="6575" y="438"/>
                    </a:lnTo>
                    <a:lnTo>
                      <a:pt x="6483" y="371"/>
                    </a:lnTo>
                    <a:lnTo>
                      <a:pt x="6380" y="310"/>
                    </a:lnTo>
                    <a:lnTo>
                      <a:pt x="6267" y="254"/>
                    </a:lnTo>
                    <a:lnTo>
                      <a:pt x="6143" y="202"/>
                    </a:lnTo>
                    <a:lnTo>
                      <a:pt x="6006" y="157"/>
                    </a:lnTo>
                    <a:lnTo>
                      <a:pt x="5858" y="115"/>
                    </a:lnTo>
                    <a:lnTo>
                      <a:pt x="5695" y="81"/>
                    </a:lnTo>
                    <a:lnTo>
                      <a:pt x="5521" y="53"/>
                    </a:lnTo>
                    <a:lnTo>
                      <a:pt x="5332" y="30"/>
                    </a:lnTo>
                    <a:lnTo>
                      <a:pt x="5129" y="14"/>
                    </a:lnTo>
                    <a:lnTo>
                      <a:pt x="4911" y="4"/>
                    </a:lnTo>
                    <a:lnTo>
                      <a:pt x="4678" y="0"/>
                    </a:lnTo>
                    <a:lnTo>
                      <a:pt x="4499" y="2"/>
                    </a:lnTo>
                    <a:lnTo>
                      <a:pt x="4322" y="7"/>
                    </a:lnTo>
                    <a:lnTo>
                      <a:pt x="4147" y="17"/>
                    </a:lnTo>
                    <a:lnTo>
                      <a:pt x="3974" y="29"/>
                    </a:lnTo>
                    <a:lnTo>
                      <a:pt x="3803" y="45"/>
                    </a:lnTo>
                    <a:lnTo>
                      <a:pt x="3634" y="65"/>
                    </a:lnTo>
                    <a:lnTo>
                      <a:pt x="3467" y="87"/>
                    </a:lnTo>
                    <a:lnTo>
                      <a:pt x="3303" y="113"/>
                    </a:lnTo>
                    <a:lnTo>
                      <a:pt x="3141" y="142"/>
                    </a:lnTo>
                    <a:lnTo>
                      <a:pt x="2982" y="175"/>
                    </a:lnTo>
                    <a:lnTo>
                      <a:pt x="2826" y="211"/>
                    </a:lnTo>
                    <a:lnTo>
                      <a:pt x="2672" y="248"/>
                    </a:lnTo>
                    <a:lnTo>
                      <a:pt x="2522" y="289"/>
                    </a:lnTo>
                    <a:lnTo>
                      <a:pt x="2375" y="334"/>
                    </a:lnTo>
                    <a:lnTo>
                      <a:pt x="2230" y="380"/>
                    </a:lnTo>
                    <a:lnTo>
                      <a:pt x="2090" y="430"/>
                    </a:lnTo>
                    <a:lnTo>
                      <a:pt x="1952" y="482"/>
                    </a:lnTo>
                    <a:lnTo>
                      <a:pt x="1818" y="537"/>
                    </a:lnTo>
                    <a:lnTo>
                      <a:pt x="1689" y="594"/>
                    </a:lnTo>
                    <a:lnTo>
                      <a:pt x="1562" y="653"/>
                    </a:lnTo>
                    <a:lnTo>
                      <a:pt x="1440" y="716"/>
                    </a:lnTo>
                    <a:lnTo>
                      <a:pt x="1322" y="780"/>
                    </a:lnTo>
                    <a:lnTo>
                      <a:pt x="1208" y="847"/>
                    </a:lnTo>
                    <a:lnTo>
                      <a:pt x="1099" y="916"/>
                    </a:lnTo>
                    <a:lnTo>
                      <a:pt x="994" y="987"/>
                    </a:lnTo>
                    <a:lnTo>
                      <a:pt x="894" y="1059"/>
                    </a:lnTo>
                    <a:lnTo>
                      <a:pt x="797" y="1135"/>
                    </a:lnTo>
                    <a:lnTo>
                      <a:pt x="707" y="1212"/>
                    </a:lnTo>
                    <a:lnTo>
                      <a:pt x="620" y="1291"/>
                    </a:lnTo>
                    <a:lnTo>
                      <a:pt x="539" y="1372"/>
                    </a:lnTo>
                    <a:lnTo>
                      <a:pt x="462" y="1454"/>
                    </a:lnTo>
                    <a:lnTo>
                      <a:pt x="392" y="153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2"/>
                    </a:lnTo>
                    <a:lnTo>
                      <a:pt x="9348" y="487"/>
                    </a:lnTo>
                    <a:lnTo>
                      <a:pt x="9343" y="531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0" y="662"/>
                    </a:lnTo>
                    <a:lnTo>
                      <a:pt x="9310" y="706"/>
                    </a:lnTo>
                    <a:lnTo>
                      <a:pt x="9313" y="662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</a:path>
                </a:pathLst>
              </a:custGeom>
              <a:solidFill>
                <a:srgbClr val="dd35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2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8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0"/>
                    </a:lnTo>
                    <a:lnTo>
                      <a:pt x="9238" y="877"/>
                    </a:lnTo>
                    <a:lnTo>
                      <a:pt x="9233" y="944"/>
                    </a:lnTo>
                    <a:lnTo>
                      <a:pt x="9226" y="1011"/>
                    </a:lnTo>
                    <a:lnTo>
                      <a:pt x="9218" y="1078"/>
                    </a:lnTo>
                    <a:lnTo>
                      <a:pt x="9228" y="1054"/>
                    </a:lnTo>
                    <a:lnTo>
                      <a:pt x="9236" y="1031"/>
                    </a:lnTo>
                    <a:lnTo>
                      <a:pt x="9244" y="1008"/>
                    </a:lnTo>
                    <a:lnTo>
                      <a:pt x="9252" y="985"/>
                    </a:lnTo>
                    <a:lnTo>
                      <a:pt x="9260" y="962"/>
                    </a:lnTo>
                    <a:lnTo>
                      <a:pt x="9266" y="938"/>
                    </a:lnTo>
                    <a:lnTo>
                      <a:pt x="9273" y="915"/>
                    </a:lnTo>
                    <a:lnTo>
                      <a:pt x="9279" y="892"/>
                    </a:lnTo>
                    <a:lnTo>
                      <a:pt x="9282" y="848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38520" y="2755800"/>
                <a:ext cx="3671640" cy="482760"/>
              </a:xfrm>
              <a:custGeom>
                <a:avLst/>
                <a:gdLst/>
                <a:ahLst/>
                <a:rect l="l" t="t" r="r" b="b"/>
                <a:pathLst>
                  <a:path w="9250" h="1218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5"/>
                    </a:lnTo>
                    <a:lnTo>
                      <a:pt x="9206" y="763"/>
                    </a:lnTo>
                    <a:lnTo>
                      <a:pt x="9203" y="840"/>
                    </a:lnTo>
                    <a:lnTo>
                      <a:pt x="9199" y="915"/>
                    </a:lnTo>
                    <a:lnTo>
                      <a:pt x="9193" y="992"/>
                    </a:lnTo>
                    <a:lnTo>
                      <a:pt x="9186" y="1068"/>
                    </a:lnTo>
                    <a:lnTo>
                      <a:pt x="9178" y="1143"/>
                    </a:lnTo>
                    <a:lnTo>
                      <a:pt x="9168" y="1218"/>
                    </a:lnTo>
                    <a:lnTo>
                      <a:pt x="9177" y="1198"/>
                    </a:lnTo>
                    <a:lnTo>
                      <a:pt x="9185" y="1180"/>
                    </a:lnTo>
                    <a:lnTo>
                      <a:pt x="9192" y="1161"/>
                    </a:lnTo>
                    <a:lnTo>
                      <a:pt x="9200" y="1142"/>
                    </a:lnTo>
                    <a:lnTo>
                      <a:pt x="9207" y="1123"/>
                    </a:lnTo>
                    <a:lnTo>
                      <a:pt x="9215" y="1103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746440" y="2730600"/>
                <a:ext cx="3654360" cy="533160"/>
              </a:xfrm>
              <a:custGeom>
                <a:avLst/>
                <a:gdLst/>
                <a:ahLst/>
                <a:rect l="l" t="t" r="r" b="b"/>
                <a:pathLst>
                  <a:path w="9210" h="1344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3"/>
                    </a:lnTo>
                    <a:lnTo>
                      <a:pt x="9161" y="928"/>
                    </a:lnTo>
                    <a:lnTo>
                      <a:pt x="9155" y="1012"/>
                    </a:lnTo>
                    <a:lnTo>
                      <a:pt x="9148" y="1096"/>
                    </a:lnTo>
                    <a:lnTo>
                      <a:pt x="9140" y="1179"/>
                    </a:lnTo>
                    <a:lnTo>
                      <a:pt x="9130" y="1262"/>
                    </a:lnTo>
                    <a:lnTo>
                      <a:pt x="9118" y="1344"/>
                    </a:lnTo>
                    <a:lnTo>
                      <a:pt x="9127" y="1328"/>
                    </a:lnTo>
                    <a:lnTo>
                      <a:pt x="9134" y="1312"/>
                    </a:lnTo>
                    <a:lnTo>
                      <a:pt x="9142" y="1295"/>
                    </a:lnTo>
                    <a:lnTo>
                      <a:pt x="9149" y="1279"/>
                    </a:lnTo>
                    <a:lnTo>
                      <a:pt x="9157" y="1261"/>
                    </a:lnTo>
                    <a:lnTo>
                      <a:pt x="9165" y="1245"/>
                    </a:lnTo>
                    <a:lnTo>
                      <a:pt x="9171" y="1228"/>
                    </a:lnTo>
                    <a:lnTo>
                      <a:pt x="9177" y="1212"/>
                    </a:lnTo>
                    <a:lnTo>
                      <a:pt x="9185" y="1145"/>
                    </a:lnTo>
                    <a:lnTo>
                      <a:pt x="9192" y="1078"/>
                    </a:lnTo>
                    <a:lnTo>
                      <a:pt x="9197" y="1011"/>
                    </a:lnTo>
                    <a:lnTo>
                      <a:pt x="9201" y="944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755800" y="2708280"/>
                <a:ext cx="3637080" cy="579240"/>
              </a:xfrm>
              <a:custGeom>
                <a:avLst/>
                <a:gdLst/>
                <a:ahLst/>
                <a:rect l="l" t="t" r="r" b="b"/>
                <a:pathLst>
                  <a:path w="9166" h="1460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5"/>
                    </a:lnTo>
                    <a:lnTo>
                      <a:pt x="9117" y="1007"/>
                    </a:lnTo>
                    <a:lnTo>
                      <a:pt x="9110" y="1099"/>
                    </a:lnTo>
                    <a:lnTo>
                      <a:pt x="9101" y="1190"/>
                    </a:lnTo>
                    <a:lnTo>
                      <a:pt x="9092" y="1280"/>
                    </a:lnTo>
                    <a:lnTo>
                      <a:pt x="9080" y="1370"/>
                    </a:lnTo>
                    <a:lnTo>
                      <a:pt x="9066" y="1460"/>
                    </a:lnTo>
                    <a:lnTo>
                      <a:pt x="9074" y="1445"/>
                    </a:lnTo>
                    <a:lnTo>
                      <a:pt x="9082" y="1430"/>
                    </a:lnTo>
                    <a:lnTo>
                      <a:pt x="9090" y="1414"/>
                    </a:lnTo>
                    <a:lnTo>
                      <a:pt x="9097" y="1399"/>
                    </a:lnTo>
                    <a:lnTo>
                      <a:pt x="9105" y="1384"/>
                    </a:lnTo>
                    <a:lnTo>
                      <a:pt x="9112" y="1369"/>
                    </a:lnTo>
                    <a:lnTo>
                      <a:pt x="9120" y="1354"/>
                    </a:lnTo>
                    <a:lnTo>
                      <a:pt x="9126" y="1339"/>
                    </a:lnTo>
                    <a:lnTo>
                      <a:pt x="9136" y="1264"/>
                    </a:lnTo>
                    <a:lnTo>
                      <a:pt x="9144" y="1189"/>
                    </a:lnTo>
                    <a:lnTo>
                      <a:pt x="9151" y="1113"/>
                    </a:lnTo>
                    <a:lnTo>
                      <a:pt x="9157" y="1036"/>
                    </a:lnTo>
                    <a:lnTo>
                      <a:pt x="9161" y="961"/>
                    </a:lnTo>
                    <a:lnTo>
                      <a:pt x="9164" y="884"/>
                    </a:lnTo>
                    <a:lnTo>
                      <a:pt x="9166" y="806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763720" y="2685960"/>
                <a:ext cx="3621240" cy="622440"/>
              </a:xfrm>
              <a:custGeom>
                <a:avLst/>
                <a:gdLst/>
                <a:ahLst/>
                <a:rect l="l" t="t" r="r" b="b"/>
                <a:pathLst>
                  <a:path w="9125" h="1566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2"/>
                    </a:lnTo>
                    <a:lnTo>
                      <a:pt x="9080" y="932"/>
                    </a:lnTo>
                    <a:lnTo>
                      <a:pt x="9079" y="981"/>
                    </a:lnTo>
                    <a:lnTo>
                      <a:pt x="9074" y="1081"/>
                    </a:lnTo>
                    <a:lnTo>
                      <a:pt x="9066" y="1179"/>
                    </a:lnTo>
                    <a:lnTo>
                      <a:pt x="9057" y="1276"/>
                    </a:lnTo>
                    <a:lnTo>
                      <a:pt x="9045" y="1373"/>
                    </a:lnTo>
                    <a:lnTo>
                      <a:pt x="9031" y="1470"/>
                    </a:lnTo>
                    <a:lnTo>
                      <a:pt x="9016" y="1566"/>
                    </a:lnTo>
                    <a:lnTo>
                      <a:pt x="9023" y="1552"/>
                    </a:lnTo>
                    <a:lnTo>
                      <a:pt x="9031" y="1538"/>
                    </a:lnTo>
                    <a:lnTo>
                      <a:pt x="9039" y="1524"/>
                    </a:lnTo>
                    <a:lnTo>
                      <a:pt x="9047" y="1511"/>
                    </a:lnTo>
                    <a:lnTo>
                      <a:pt x="9053" y="1497"/>
                    </a:lnTo>
                    <a:lnTo>
                      <a:pt x="9061" y="1483"/>
                    </a:lnTo>
                    <a:lnTo>
                      <a:pt x="9069" y="1468"/>
                    </a:lnTo>
                    <a:lnTo>
                      <a:pt x="9075" y="1454"/>
                    </a:lnTo>
                    <a:lnTo>
                      <a:pt x="9087" y="1372"/>
                    </a:lnTo>
                    <a:lnTo>
                      <a:pt x="9097" y="1289"/>
                    </a:lnTo>
                    <a:lnTo>
                      <a:pt x="9105" y="1206"/>
                    </a:lnTo>
                    <a:lnTo>
                      <a:pt x="9112" y="1122"/>
                    </a:lnTo>
                    <a:lnTo>
                      <a:pt x="9118" y="1038"/>
                    </a:lnTo>
                    <a:lnTo>
                      <a:pt x="9122" y="953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771640" y="2666880"/>
                <a:ext cx="3605400" cy="660600"/>
              </a:xfrm>
              <a:custGeom>
                <a:avLst/>
                <a:gdLst/>
                <a:ahLst/>
                <a:rect l="l" t="t" r="r" b="b"/>
                <a:pathLst>
                  <a:path w="9084" h="1665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39"/>
                    </a:lnTo>
                    <a:lnTo>
                      <a:pt x="9040" y="991"/>
                    </a:lnTo>
                    <a:lnTo>
                      <a:pt x="9038" y="1044"/>
                    </a:lnTo>
                    <a:lnTo>
                      <a:pt x="9035" y="1097"/>
                    </a:lnTo>
                    <a:lnTo>
                      <a:pt x="9031" y="1150"/>
                    </a:lnTo>
                    <a:lnTo>
                      <a:pt x="9027" y="1202"/>
                    </a:lnTo>
                    <a:lnTo>
                      <a:pt x="9023" y="1254"/>
                    </a:lnTo>
                    <a:lnTo>
                      <a:pt x="9017" y="1307"/>
                    </a:lnTo>
                    <a:lnTo>
                      <a:pt x="9012" y="1359"/>
                    </a:lnTo>
                    <a:lnTo>
                      <a:pt x="9005" y="1409"/>
                    </a:lnTo>
                    <a:lnTo>
                      <a:pt x="8999" y="1461"/>
                    </a:lnTo>
                    <a:lnTo>
                      <a:pt x="8991" y="1512"/>
                    </a:lnTo>
                    <a:lnTo>
                      <a:pt x="8983" y="1564"/>
                    </a:lnTo>
                    <a:lnTo>
                      <a:pt x="8974" y="1615"/>
                    </a:lnTo>
                    <a:lnTo>
                      <a:pt x="8965" y="1665"/>
                    </a:lnTo>
                    <a:lnTo>
                      <a:pt x="8973" y="1652"/>
                    </a:lnTo>
                    <a:lnTo>
                      <a:pt x="8980" y="1639"/>
                    </a:lnTo>
                    <a:lnTo>
                      <a:pt x="8988" y="1626"/>
                    </a:lnTo>
                    <a:lnTo>
                      <a:pt x="8996" y="1615"/>
                    </a:lnTo>
                    <a:lnTo>
                      <a:pt x="9003" y="1602"/>
                    </a:lnTo>
                    <a:lnTo>
                      <a:pt x="9011" y="1589"/>
                    </a:lnTo>
                    <a:lnTo>
                      <a:pt x="9018" y="1576"/>
                    </a:lnTo>
                    <a:lnTo>
                      <a:pt x="9025" y="1563"/>
                    </a:lnTo>
                    <a:lnTo>
                      <a:pt x="9039" y="1473"/>
                    </a:lnTo>
                    <a:lnTo>
                      <a:pt x="9051" y="1383"/>
                    </a:lnTo>
                    <a:lnTo>
                      <a:pt x="9060" y="1293"/>
                    </a:lnTo>
                    <a:lnTo>
                      <a:pt x="9069" y="1202"/>
                    </a:lnTo>
                    <a:lnTo>
                      <a:pt x="9076" y="1110"/>
                    </a:lnTo>
                    <a:lnTo>
                      <a:pt x="9080" y="1018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dd3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79560" y="2647800"/>
                <a:ext cx="3589560" cy="698760"/>
              </a:xfrm>
              <a:custGeom>
                <a:avLst/>
                <a:gdLst/>
                <a:ahLst/>
                <a:rect l="l" t="t" r="r" b="b"/>
                <a:pathLst>
                  <a:path w="9043" h="1760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3"/>
                    </a:lnTo>
                    <a:lnTo>
                      <a:pt x="8997" y="1049"/>
                    </a:lnTo>
                    <a:lnTo>
                      <a:pt x="8995" y="1105"/>
                    </a:lnTo>
                    <a:lnTo>
                      <a:pt x="8992" y="1160"/>
                    </a:lnTo>
                    <a:lnTo>
                      <a:pt x="8988" y="1215"/>
                    </a:lnTo>
                    <a:lnTo>
                      <a:pt x="8983" y="1272"/>
                    </a:lnTo>
                    <a:lnTo>
                      <a:pt x="8979" y="1327"/>
                    </a:lnTo>
                    <a:lnTo>
                      <a:pt x="8972" y="1382"/>
                    </a:lnTo>
                    <a:lnTo>
                      <a:pt x="8966" y="1436"/>
                    </a:lnTo>
                    <a:lnTo>
                      <a:pt x="8959" y="1491"/>
                    </a:lnTo>
                    <a:lnTo>
                      <a:pt x="8951" y="1545"/>
                    </a:lnTo>
                    <a:lnTo>
                      <a:pt x="8943" y="1599"/>
                    </a:lnTo>
                    <a:lnTo>
                      <a:pt x="8934" y="1653"/>
                    </a:lnTo>
                    <a:lnTo>
                      <a:pt x="8924" y="1707"/>
                    </a:lnTo>
                    <a:lnTo>
                      <a:pt x="8914" y="1760"/>
                    </a:lnTo>
                    <a:lnTo>
                      <a:pt x="8922" y="1748"/>
                    </a:lnTo>
                    <a:lnTo>
                      <a:pt x="8929" y="1736"/>
                    </a:lnTo>
                    <a:lnTo>
                      <a:pt x="8938" y="1724"/>
                    </a:lnTo>
                    <a:lnTo>
                      <a:pt x="8945" y="1712"/>
                    </a:lnTo>
                    <a:lnTo>
                      <a:pt x="8953" y="1699"/>
                    </a:lnTo>
                    <a:lnTo>
                      <a:pt x="8959" y="1687"/>
                    </a:lnTo>
                    <a:lnTo>
                      <a:pt x="8967" y="1676"/>
                    </a:lnTo>
                    <a:lnTo>
                      <a:pt x="8975" y="1664"/>
                    </a:lnTo>
                    <a:lnTo>
                      <a:pt x="8990" y="1568"/>
                    </a:lnTo>
                    <a:lnTo>
                      <a:pt x="9004" y="1471"/>
                    </a:lnTo>
                    <a:lnTo>
                      <a:pt x="9016" y="1374"/>
                    </a:lnTo>
                    <a:lnTo>
                      <a:pt x="9025" y="1277"/>
                    </a:lnTo>
                    <a:lnTo>
                      <a:pt x="9033" y="1179"/>
                    </a:lnTo>
                    <a:lnTo>
                      <a:pt x="9038" y="1079"/>
                    </a:lnTo>
                    <a:lnTo>
                      <a:pt x="9039" y="1030"/>
                    </a:lnTo>
                    <a:lnTo>
                      <a:pt x="9042" y="980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87480" y="2630520"/>
                <a:ext cx="3571920" cy="733320"/>
              </a:xfrm>
              <a:custGeom>
                <a:avLst/>
                <a:gdLst/>
                <a:ahLst/>
                <a:rect l="l" t="t" r="r" b="b"/>
                <a:pathLst>
                  <a:path w="9000" h="1846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1"/>
                    </a:lnTo>
                    <a:lnTo>
                      <a:pt x="8955" y="1101"/>
                    </a:lnTo>
                    <a:lnTo>
                      <a:pt x="8953" y="1159"/>
                    </a:lnTo>
                    <a:lnTo>
                      <a:pt x="8949" y="1217"/>
                    </a:lnTo>
                    <a:lnTo>
                      <a:pt x="8945" y="1276"/>
                    </a:lnTo>
                    <a:lnTo>
                      <a:pt x="8940" y="1334"/>
                    </a:lnTo>
                    <a:lnTo>
                      <a:pt x="8934" y="1391"/>
                    </a:lnTo>
                    <a:lnTo>
                      <a:pt x="8928" y="1450"/>
                    </a:lnTo>
                    <a:lnTo>
                      <a:pt x="8920" y="1507"/>
                    </a:lnTo>
                    <a:lnTo>
                      <a:pt x="8913" y="1564"/>
                    </a:lnTo>
                    <a:lnTo>
                      <a:pt x="8904" y="1621"/>
                    </a:lnTo>
                    <a:lnTo>
                      <a:pt x="8895" y="1678"/>
                    </a:lnTo>
                    <a:lnTo>
                      <a:pt x="8884" y="1734"/>
                    </a:lnTo>
                    <a:lnTo>
                      <a:pt x="8874" y="1790"/>
                    </a:lnTo>
                    <a:lnTo>
                      <a:pt x="8863" y="1846"/>
                    </a:lnTo>
                    <a:lnTo>
                      <a:pt x="8870" y="1835"/>
                    </a:lnTo>
                    <a:lnTo>
                      <a:pt x="8878" y="1823"/>
                    </a:lnTo>
                    <a:lnTo>
                      <a:pt x="8886" y="1813"/>
                    </a:lnTo>
                    <a:lnTo>
                      <a:pt x="8893" y="1802"/>
                    </a:lnTo>
                    <a:lnTo>
                      <a:pt x="8901" y="1790"/>
                    </a:lnTo>
                    <a:lnTo>
                      <a:pt x="8908" y="1779"/>
                    </a:lnTo>
                    <a:lnTo>
                      <a:pt x="8916" y="1767"/>
                    </a:lnTo>
                    <a:lnTo>
                      <a:pt x="8923" y="1756"/>
                    </a:lnTo>
                    <a:lnTo>
                      <a:pt x="8932" y="1706"/>
                    </a:lnTo>
                    <a:lnTo>
                      <a:pt x="8941" y="1655"/>
                    </a:lnTo>
                    <a:lnTo>
                      <a:pt x="8949" y="1603"/>
                    </a:lnTo>
                    <a:lnTo>
                      <a:pt x="8957" y="1552"/>
                    </a:lnTo>
                    <a:lnTo>
                      <a:pt x="8963" y="1500"/>
                    </a:lnTo>
                    <a:lnTo>
                      <a:pt x="8970" y="1450"/>
                    </a:lnTo>
                    <a:lnTo>
                      <a:pt x="8975" y="1398"/>
                    </a:lnTo>
                    <a:lnTo>
                      <a:pt x="8981" y="1345"/>
                    </a:lnTo>
                    <a:lnTo>
                      <a:pt x="8985" y="1293"/>
                    </a:lnTo>
                    <a:lnTo>
                      <a:pt x="8989" y="1241"/>
                    </a:lnTo>
                    <a:lnTo>
                      <a:pt x="8993" y="1188"/>
                    </a:lnTo>
                    <a:lnTo>
                      <a:pt x="8996" y="1135"/>
                    </a:lnTo>
                    <a:lnTo>
                      <a:pt x="8998" y="1082"/>
                    </a:lnTo>
                    <a:lnTo>
                      <a:pt x="8999" y="1030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95760" y="2614680"/>
                <a:ext cx="3555720" cy="765000"/>
              </a:xfrm>
              <a:custGeom>
                <a:avLst/>
                <a:gdLst/>
                <a:ahLst/>
                <a:rect l="l" t="t" r="r" b="b"/>
                <a:pathLst>
                  <a:path w="8959" h="1929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6"/>
                    </a:lnTo>
                    <a:lnTo>
                      <a:pt x="8915" y="1088"/>
                    </a:lnTo>
                    <a:lnTo>
                      <a:pt x="8913" y="1149"/>
                    </a:lnTo>
                    <a:lnTo>
                      <a:pt x="8910" y="1211"/>
                    </a:lnTo>
                    <a:lnTo>
                      <a:pt x="8907" y="1272"/>
                    </a:lnTo>
                    <a:lnTo>
                      <a:pt x="8901" y="1333"/>
                    </a:lnTo>
                    <a:lnTo>
                      <a:pt x="8896" y="1393"/>
                    </a:lnTo>
                    <a:lnTo>
                      <a:pt x="8889" y="1454"/>
                    </a:lnTo>
                    <a:lnTo>
                      <a:pt x="8883" y="1514"/>
                    </a:lnTo>
                    <a:lnTo>
                      <a:pt x="8875" y="1575"/>
                    </a:lnTo>
                    <a:lnTo>
                      <a:pt x="8867" y="1634"/>
                    </a:lnTo>
                    <a:lnTo>
                      <a:pt x="8857" y="1694"/>
                    </a:lnTo>
                    <a:lnTo>
                      <a:pt x="8846" y="1753"/>
                    </a:lnTo>
                    <a:lnTo>
                      <a:pt x="8835" y="1811"/>
                    </a:lnTo>
                    <a:lnTo>
                      <a:pt x="8823" y="1871"/>
                    </a:lnTo>
                    <a:lnTo>
                      <a:pt x="8812" y="1929"/>
                    </a:lnTo>
                    <a:lnTo>
                      <a:pt x="8819" y="1918"/>
                    </a:lnTo>
                    <a:lnTo>
                      <a:pt x="8827" y="1908"/>
                    </a:lnTo>
                    <a:lnTo>
                      <a:pt x="8834" y="1897"/>
                    </a:lnTo>
                    <a:lnTo>
                      <a:pt x="8842" y="1887"/>
                    </a:lnTo>
                    <a:lnTo>
                      <a:pt x="8849" y="1876"/>
                    </a:lnTo>
                    <a:lnTo>
                      <a:pt x="8857" y="1865"/>
                    </a:lnTo>
                    <a:lnTo>
                      <a:pt x="8865" y="1855"/>
                    </a:lnTo>
                    <a:lnTo>
                      <a:pt x="8872" y="1844"/>
                    </a:lnTo>
                    <a:lnTo>
                      <a:pt x="8882" y="1791"/>
                    </a:lnTo>
                    <a:lnTo>
                      <a:pt x="8892" y="1737"/>
                    </a:lnTo>
                    <a:lnTo>
                      <a:pt x="8901" y="1683"/>
                    </a:lnTo>
                    <a:lnTo>
                      <a:pt x="8909" y="1629"/>
                    </a:lnTo>
                    <a:lnTo>
                      <a:pt x="8917" y="1575"/>
                    </a:lnTo>
                    <a:lnTo>
                      <a:pt x="8924" y="1520"/>
                    </a:lnTo>
                    <a:lnTo>
                      <a:pt x="8930" y="1466"/>
                    </a:lnTo>
                    <a:lnTo>
                      <a:pt x="8937" y="1411"/>
                    </a:lnTo>
                    <a:lnTo>
                      <a:pt x="8941" y="1356"/>
                    </a:lnTo>
                    <a:lnTo>
                      <a:pt x="8946" y="1299"/>
                    </a:lnTo>
                    <a:lnTo>
                      <a:pt x="8950" y="1244"/>
                    </a:lnTo>
                    <a:lnTo>
                      <a:pt x="8953" y="1189"/>
                    </a:lnTo>
                    <a:lnTo>
                      <a:pt x="8955" y="1133"/>
                    </a:lnTo>
                    <a:lnTo>
                      <a:pt x="8957" y="1077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05120" y="2598840"/>
                <a:ext cx="3538440" cy="796680"/>
              </a:xfrm>
              <a:custGeom>
                <a:avLst/>
                <a:gdLst/>
                <a:ahLst/>
                <a:rect l="l" t="t" r="r" b="b"/>
                <a:pathLst>
                  <a:path w="8918" h="2009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3"/>
                    </a:lnTo>
                    <a:lnTo>
                      <a:pt x="8872" y="1198"/>
                    </a:lnTo>
                    <a:lnTo>
                      <a:pt x="8868" y="1262"/>
                    </a:lnTo>
                    <a:lnTo>
                      <a:pt x="8864" y="1325"/>
                    </a:lnTo>
                    <a:lnTo>
                      <a:pt x="8860" y="1389"/>
                    </a:lnTo>
                    <a:lnTo>
                      <a:pt x="8853" y="1452"/>
                    </a:lnTo>
                    <a:lnTo>
                      <a:pt x="8847" y="1516"/>
                    </a:lnTo>
                    <a:lnTo>
                      <a:pt x="8839" y="1578"/>
                    </a:lnTo>
                    <a:lnTo>
                      <a:pt x="8830" y="1640"/>
                    </a:lnTo>
                    <a:lnTo>
                      <a:pt x="8821" y="1702"/>
                    </a:lnTo>
                    <a:lnTo>
                      <a:pt x="8811" y="1764"/>
                    </a:lnTo>
                    <a:lnTo>
                      <a:pt x="8799" y="1825"/>
                    </a:lnTo>
                    <a:lnTo>
                      <a:pt x="8787" y="1887"/>
                    </a:lnTo>
                    <a:lnTo>
                      <a:pt x="8774" y="1948"/>
                    </a:lnTo>
                    <a:lnTo>
                      <a:pt x="8761" y="2009"/>
                    </a:lnTo>
                    <a:lnTo>
                      <a:pt x="8769" y="1998"/>
                    </a:lnTo>
                    <a:lnTo>
                      <a:pt x="8776" y="1989"/>
                    </a:lnTo>
                    <a:lnTo>
                      <a:pt x="8784" y="1978"/>
                    </a:lnTo>
                    <a:lnTo>
                      <a:pt x="8792" y="1968"/>
                    </a:lnTo>
                    <a:lnTo>
                      <a:pt x="8799" y="1958"/>
                    </a:lnTo>
                    <a:lnTo>
                      <a:pt x="8807" y="1948"/>
                    </a:lnTo>
                    <a:lnTo>
                      <a:pt x="8814" y="1938"/>
                    </a:lnTo>
                    <a:lnTo>
                      <a:pt x="8822" y="1927"/>
                    </a:lnTo>
                    <a:lnTo>
                      <a:pt x="8833" y="1871"/>
                    </a:lnTo>
                    <a:lnTo>
                      <a:pt x="8843" y="1815"/>
                    </a:lnTo>
                    <a:lnTo>
                      <a:pt x="8854" y="1759"/>
                    </a:lnTo>
                    <a:lnTo>
                      <a:pt x="8863" y="1702"/>
                    </a:lnTo>
                    <a:lnTo>
                      <a:pt x="8872" y="1645"/>
                    </a:lnTo>
                    <a:lnTo>
                      <a:pt x="8879" y="1588"/>
                    </a:lnTo>
                    <a:lnTo>
                      <a:pt x="8887" y="1531"/>
                    </a:lnTo>
                    <a:lnTo>
                      <a:pt x="8893" y="1472"/>
                    </a:lnTo>
                    <a:lnTo>
                      <a:pt x="8899" y="1415"/>
                    </a:lnTo>
                    <a:lnTo>
                      <a:pt x="8904" y="1357"/>
                    </a:lnTo>
                    <a:lnTo>
                      <a:pt x="8908" y="1298"/>
                    </a:lnTo>
                    <a:lnTo>
                      <a:pt x="8912" y="1240"/>
                    </a:lnTo>
                    <a:lnTo>
                      <a:pt x="8914" y="1182"/>
                    </a:lnTo>
                    <a:lnTo>
                      <a:pt x="8916" y="1122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13040" y="2582640"/>
                <a:ext cx="3522600" cy="828720"/>
              </a:xfrm>
              <a:custGeom>
                <a:avLst/>
                <a:gdLst/>
                <a:ahLst/>
                <a:rect l="l" t="t" r="r" b="b"/>
                <a:pathLst>
                  <a:path w="8874" h="208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1"/>
                    </a:lnTo>
                    <a:lnTo>
                      <a:pt x="8831" y="1178"/>
                    </a:lnTo>
                    <a:lnTo>
                      <a:pt x="8829" y="1245"/>
                    </a:lnTo>
                    <a:lnTo>
                      <a:pt x="8825" y="1310"/>
                    </a:lnTo>
                    <a:lnTo>
                      <a:pt x="8820" y="1377"/>
                    </a:lnTo>
                    <a:lnTo>
                      <a:pt x="8815" y="1443"/>
                    </a:lnTo>
                    <a:lnTo>
                      <a:pt x="8808" y="1509"/>
                    </a:lnTo>
                    <a:lnTo>
                      <a:pt x="8801" y="1574"/>
                    </a:lnTo>
                    <a:lnTo>
                      <a:pt x="8793" y="1639"/>
                    </a:lnTo>
                    <a:lnTo>
                      <a:pt x="8784" y="1704"/>
                    </a:lnTo>
                    <a:lnTo>
                      <a:pt x="8773" y="1768"/>
                    </a:lnTo>
                    <a:lnTo>
                      <a:pt x="8762" y="1833"/>
                    </a:lnTo>
                    <a:lnTo>
                      <a:pt x="8750" y="1897"/>
                    </a:lnTo>
                    <a:lnTo>
                      <a:pt x="8737" y="1960"/>
                    </a:lnTo>
                    <a:lnTo>
                      <a:pt x="8723" y="2023"/>
                    </a:lnTo>
                    <a:lnTo>
                      <a:pt x="8708" y="2086"/>
                    </a:lnTo>
                    <a:lnTo>
                      <a:pt x="8717" y="2076"/>
                    </a:lnTo>
                    <a:lnTo>
                      <a:pt x="8724" y="2066"/>
                    </a:lnTo>
                    <a:lnTo>
                      <a:pt x="8732" y="2057"/>
                    </a:lnTo>
                    <a:lnTo>
                      <a:pt x="8739" y="2047"/>
                    </a:lnTo>
                    <a:lnTo>
                      <a:pt x="8747" y="2037"/>
                    </a:lnTo>
                    <a:lnTo>
                      <a:pt x="8754" y="2028"/>
                    </a:lnTo>
                    <a:lnTo>
                      <a:pt x="8762" y="2018"/>
                    </a:lnTo>
                    <a:lnTo>
                      <a:pt x="8770" y="2008"/>
                    </a:lnTo>
                    <a:lnTo>
                      <a:pt x="8781" y="1950"/>
                    </a:lnTo>
                    <a:lnTo>
                      <a:pt x="8793" y="1890"/>
                    </a:lnTo>
                    <a:lnTo>
                      <a:pt x="8804" y="1832"/>
                    </a:lnTo>
                    <a:lnTo>
                      <a:pt x="8815" y="1773"/>
                    </a:lnTo>
                    <a:lnTo>
                      <a:pt x="8825" y="1713"/>
                    </a:lnTo>
                    <a:lnTo>
                      <a:pt x="8833" y="1654"/>
                    </a:lnTo>
                    <a:lnTo>
                      <a:pt x="8841" y="1593"/>
                    </a:lnTo>
                    <a:lnTo>
                      <a:pt x="8847" y="1533"/>
                    </a:lnTo>
                    <a:lnTo>
                      <a:pt x="8854" y="1472"/>
                    </a:lnTo>
                    <a:lnTo>
                      <a:pt x="8859" y="1412"/>
                    </a:lnTo>
                    <a:lnTo>
                      <a:pt x="8865" y="1351"/>
                    </a:lnTo>
                    <a:lnTo>
                      <a:pt x="8868" y="1290"/>
                    </a:lnTo>
                    <a:lnTo>
                      <a:pt x="8871" y="1228"/>
                    </a:lnTo>
                    <a:lnTo>
                      <a:pt x="8873" y="1167"/>
                    </a:lnTo>
                    <a:lnTo>
                      <a:pt x="8874" y="1105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20960" y="2568600"/>
                <a:ext cx="3505320" cy="857160"/>
              </a:xfrm>
              <a:custGeom>
                <a:avLst/>
                <a:gdLst/>
                <a:ahLst/>
                <a:rect l="l" t="t" r="r" b="b"/>
                <a:pathLst>
                  <a:path w="8834" h="2158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8"/>
                    </a:lnTo>
                    <a:lnTo>
                      <a:pt x="8791" y="1218"/>
                    </a:lnTo>
                    <a:lnTo>
                      <a:pt x="8787" y="1287"/>
                    </a:lnTo>
                    <a:lnTo>
                      <a:pt x="8784" y="1355"/>
                    </a:lnTo>
                    <a:lnTo>
                      <a:pt x="8779" y="1424"/>
                    </a:lnTo>
                    <a:lnTo>
                      <a:pt x="8773" y="1492"/>
                    </a:lnTo>
                    <a:lnTo>
                      <a:pt x="8766" y="1560"/>
                    </a:lnTo>
                    <a:lnTo>
                      <a:pt x="8758" y="1628"/>
                    </a:lnTo>
                    <a:lnTo>
                      <a:pt x="8749" y="1695"/>
                    </a:lnTo>
                    <a:lnTo>
                      <a:pt x="8739" y="1762"/>
                    </a:lnTo>
                    <a:lnTo>
                      <a:pt x="8728" y="1829"/>
                    </a:lnTo>
                    <a:lnTo>
                      <a:pt x="8716" y="1895"/>
                    </a:lnTo>
                    <a:lnTo>
                      <a:pt x="8703" y="1961"/>
                    </a:lnTo>
                    <a:lnTo>
                      <a:pt x="8689" y="2027"/>
                    </a:lnTo>
                    <a:lnTo>
                      <a:pt x="8674" y="2092"/>
                    </a:lnTo>
                    <a:lnTo>
                      <a:pt x="8658" y="2158"/>
                    </a:lnTo>
                    <a:lnTo>
                      <a:pt x="8666" y="2148"/>
                    </a:lnTo>
                    <a:lnTo>
                      <a:pt x="8674" y="2138"/>
                    </a:lnTo>
                    <a:lnTo>
                      <a:pt x="8682" y="2130"/>
                    </a:lnTo>
                    <a:lnTo>
                      <a:pt x="8689" y="2120"/>
                    </a:lnTo>
                    <a:lnTo>
                      <a:pt x="8697" y="2111"/>
                    </a:lnTo>
                    <a:lnTo>
                      <a:pt x="8704" y="2101"/>
                    </a:lnTo>
                    <a:lnTo>
                      <a:pt x="8712" y="2092"/>
                    </a:lnTo>
                    <a:lnTo>
                      <a:pt x="8719" y="2083"/>
                    </a:lnTo>
                    <a:lnTo>
                      <a:pt x="8732" y="2022"/>
                    </a:lnTo>
                    <a:lnTo>
                      <a:pt x="8745" y="1961"/>
                    </a:lnTo>
                    <a:lnTo>
                      <a:pt x="8757" y="1899"/>
                    </a:lnTo>
                    <a:lnTo>
                      <a:pt x="8769" y="1838"/>
                    </a:lnTo>
                    <a:lnTo>
                      <a:pt x="8779" y="1776"/>
                    </a:lnTo>
                    <a:lnTo>
                      <a:pt x="8788" y="1714"/>
                    </a:lnTo>
                    <a:lnTo>
                      <a:pt x="8797" y="1652"/>
                    </a:lnTo>
                    <a:lnTo>
                      <a:pt x="8805" y="1590"/>
                    </a:lnTo>
                    <a:lnTo>
                      <a:pt x="8811" y="1526"/>
                    </a:lnTo>
                    <a:lnTo>
                      <a:pt x="8818" y="1463"/>
                    </a:lnTo>
                    <a:lnTo>
                      <a:pt x="8822" y="1399"/>
                    </a:lnTo>
                    <a:lnTo>
                      <a:pt x="8826" y="1336"/>
                    </a:lnTo>
                    <a:lnTo>
                      <a:pt x="8830" y="1272"/>
                    </a:lnTo>
                    <a:lnTo>
                      <a:pt x="8832" y="1207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dd3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28880" y="2556000"/>
                <a:ext cx="3489480" cy="884160"/>
              </a:xfrm>
              <a:custGeom>
                <a:avLst/>
                <a:gdLst/>
                <a:ahLst/>
                <a:rect l="l" t="t" r="r" b="b"/>
                <a:pathLst>
                  <a:path w="8792" h="2229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8"/>
                    </a:lnTo>
                    <a:lnTo>
                      <a:pt x="8745" y="1330"/>
                    </a:lnTo>
                    <a:lnTo>
                      <a:pt x="8742" y="1401"/>
                    </a:lnTo>
                    <a:lnTo>
                      <a:pt x="8736" y="1472"/>
                    </a:lnTo>
                    <a:lnTo>
                      <a:pt x="8730" y="1542"/>
                    </a:lnTo>
                    <a:lnTo>
                      <a:pt x="8722" y="1613"/>
                    </a:lnTo>
                    <a:lnTo>
                      <a:pt x="8713" y="1683"/>
                    </a:lnTo>
                    <a:lnTo>
                      <a:pt x="8704" y="1752"/>
                    </a:lnTo>
                    <a:lnTo>
                      <a:pt x="8693" y="1821"/>
                    </a:lnTo>
                    <a:lnTo>
                      <a:pt x="8681" y="1890"/>
                    </a:lnTo>
                    <a:lnTo>
                      <a:pt x="8668" y="1959"/>
                    </a:lnTo>
                    <a:lnTo>
                      <a:pt x="8654" y="2027"/>
                    </a:lnTo>
                    <a:lnTo>
                      <a:pt x="8639" y="2094"/>
                    </a:lnTo>
                    <a:lnTo>
                      <a:pt x="8624" y="2162"/>
                    </a:lnTo>
                    <a:lnTo>
                      <a:pt x="8606" y="2229"/>
                    </a:lnTo>
                    <a:lnTo>
                      <a:pt x="8614" y="2220"/>
                    </a:lnTo>
                    <a:lnTo>
                      <a:pt x="8622" y="2211"/>
                    </a:lnTo>
                    <a:lnTo>
                      <a:pt x="8629" y="2202"/>
                    </a:lnTo>
                    <a:lnTo>
                      <a:pt x="8637" y="2194"/>
                    </a:lnTo>
                    <a:lnTo>
                      <a:pt x="8644" y="2184"/>
                    </a:lnTo>
                    <a:lnTo>
                      <a:pt x="8652" y="2175"/>
                    </a:lnTo>
                    <a:lnTo>
                      <a:pt x="8659" y="2167"/>
                    </a:lnTo>
                    <a:lnTo>
                      <a:pt x="8667" y="2157"/>
                    </a:lnTo>
                    <a:lnTo>
                      <a:pt x="8682" y="2094"/>
                    </a:lnTo>
                    <a:lnTo>
                      <a:pt x="8696" y="2031"/>
                    </a:lnTo>
                    <a:lnTo>
                      <a:pt x="8709" y="1968"/>
                    </a:lnTo>
                    <a:lnTo>
                      <a:pt x="8721" y="1904"/>
                    </a:lnTo>
                    <a:lnTo>
                      <a:pt x="8732" y="1839"/>
                    </a:lnTo>
                    <a:lnTo>
                      <a:pt x="8743" y="1775"/>
                    </a:lnTo>
                    <a:lnTo>
                      <a:pt x="8752" y="1710"/>
                    </a:lnTo>
                    <a:lnTo>
                      <a:pt x="8760" y="1645"/>
                    </a:lnTo>
                    <a:lnTo>
                      <a:pt x="8767" y="1580"/>
                    </a:lnTo>
                    <a:lnTo>
                      <a:pt x="8774" y="1514"/>
                    </a:lnTo>
                    <a:lnTo>
                      <a:pt x="8779" y="1448"/>
                    </a:lnTo>
                    <a:lnTo>
                      <a:pt x="8784" y="1381"/>
                    </a:lnTo>
                    <a:lnTo>
                      <a:pt x="8788" y="1316"/>
                    </a:lnTo>
                    <a:lnTo>
                      <a:pt x="8790" y="1249"/>
                    </a:lnTo>
                    <a:lnTo>
                      <a:pt x="8791" y="1182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2"/>
                    </a:lnTo>
                    <a:lnTo>
                      <a:pt x="8707" y="1296"/>
                    </a:lnTo>
                    <a:lnTo>
                      <a:pt x="8703" y="1370"/>
                    </a:lnTo>
                    <a:lnTo>
                      <a:pt x="8699" y="1444"/>
                    </a:lnTo>
                    <a:lnTo>
                      <a:pt x="8694" y="1516"/>
                    </a:lnTo>
                    <a:lnTo>
                      <a:pt x="8686" y="1589"/>
                    </a:lnTo>
                    <a:lnTo>
                      <a:pt x="8678" y="1662"/>
                    </a:lnTo>
                    <a:lnTo>
                      <a:pt x="8669" y="1733"/>
                    </a:lnTo>
                    <a:lnTo>
                      <a:pt x="8659" y="1805"/>
                    </a:lnTo>
                    <a:lnTo>
                      <a:pt x="8647" y="1877"/>
                    </a:lnTo>
                    <a:lnTo>
                      <a:pt x="8635" y="1947"/>
                    </a:lnTo>
                    <a:lnTo>
                      <a:pt x="8621" y="2018"/>
                    </a:lnTo>
                    <a:lnTo>
                      <a:pt x="8606" y="2088"/>
                    </a:lnTo>
                    <a:lnTo>
                      <a:pt x="8590" y="2157"/>
                    </a:lnTo>
                    <a:lnTo>
                      <a:pt x="8573" y="2227"/>
                    </a:lnTo>
                    <a:lnTo>
                      <a:pt x="8554" y="2296"/>
                    </a:lnTo>
                    <a:lnTo>
                      <a:pt x="8563" y="2287"/>
                    </a:lnTo>
                    <a:lnTo>
                      <a:pt x="8570" y="2278"/>
                    </a:lnTo>
                    <a:lnTo>
                      <a:pt x="8578" y="2270"/>
                    </a:lnTo>
                    <a:lnTo>
                      <a:pt x="8585" y="2261"/>
                    </a:lnTo>
                    <a:lnTo>
                      <a:pt x="8593" y="2253"/>
                    </a:lnTo>
                    <a:lnTo>
                      <a:pt x="8601" y="2244"/>
                    </a:lnTo>
                    <a:lnTo>
                      <a:pt x="8608" y="2235"/>
                    </a:lnTo>
                    <a:lnTo>
                      <a:pt x="8616" y="2227"/>
                    </a:lnTo>
                    <a:lnTo>
                      <a:pt x="8632" y="2161"/>
                    </a:lnTo>
                    <a:lnTo>
                      <a:pt x="8647" y="2096"/>
                    </a:lnTo>
                    <a:lnTo>
                      <a:pt x="8661" y="2030"/>
                    </a:lnTo>
                    <a:lnTo>
                      <a:pt x="8674" y="1964"/>
                    </a:lnTo>
                    <a:lnTo>
                      <a:pt x="8686" y="1898"/>
                    </a:lnTo>
                    <a:lnTo>
                      <a:pt x="8697" y="1831"/>
                    </a:lnTo>
                    <a:lnTo>
                      <a:pt x="8707" y="1764"/>
                    </a:lnTo>
                    <a:lnTo>
                      <a:pt x="8716" y="1697"/>
                    </a:lnTo>
                    <a:lnTo>
                      <a:pt x="8724" y="1629"/>
                    </a:lnTo>
                    <a:lnTo>
                      <a:pt x="8731" y="1561"/>
                    </a:lnTo>
                    <a:lnTo>
                      <a:pt x="8737" y="1493"/>
                    </a:lnTo>
                    <a:lnTo>
                      <a:pt x="8742" y="1424"/>
                    </a:lnTo>
                    <a:lnTo>
                      <a:pt x="8745" y="1356"/>
                    </a:lnTo>
                    <a:lnTo>
                      <a:pt x="8749" y="1287"/>
                    </a:lnTo>
                    <a:lnTo>
                      <a:pt x="8750" y="1217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7"/>
                    </a:lnTo>
                    <a:lnTo>
                      <a:pt x="8664" y="1333"/>
                    </a:lnTo>
                    <a:lnTo>
                      <a:pt x="8661" y="1410"/>
                    </a:lnTo>
                    <a:lnTo>
                      <a:pt x="8656" y="1485"/>
                    </a:lnTo>
                    <a:lnTo>
                      <a:pt x="8650" y="1560"/>
                    </a:lnTo>
                    <a:lnTo>
                      <a:pt x="8643" y="1635"/>
                    </a:lnTo>
                    <a:lnTo>
                      <a:pt x="8635" y="1710"/>
                    </a:lnTo>
                    <a:lnTo>
                      <a:pt x="8625" y="1783"/>
                    </a:lnTo>
                    <a:lnTo>
                      <a:pt x="8614" y="1857"/>
                    </a:lnTo>
                    <a:lnTo>
                      <a:pt x="8601" y="1930"/>
                    </a:lnTo>
                    <a:lnTo>
                      <a:pt x="8588" y="2004"/>
                    </a:lnTo>
                    <a:lnTo>
                      <a:pt x="8573" y="2076"/>
                    </a:lnTo>
                    <a:lnTo>
                      <a:pt x="8558" y="2148"/>
                    </a:lnTo>
                    <a:lnTo>
                      <a:pt x="8541" y="2220"/>
                    </a:lnTo>
                    <a:lnTo>
                      <a:pt x="8522" y="2291"/>
                    </a:lnTo>
                    <a:lnTo>
                      <a:pt x="8503" y="2361"/>
                    </a:lnTo>
                    <a:lnTo>
                      <a:pt x="8510" y="2352"/>
                    </a:lnTo>
                    <a:lnTo>
                      <a:pt x="8519" y="2345"/>
                    </a:lnTo>
                    <a:lnTo>
                      <a:pt x="8527" y="2336"/>
                    </a:lnTo>
                    <a:lnTo>
                      <a:pt x="8534" y="2328"/>
                    </a:lnTo>
                    <a:lnTo>
                      <a:pt x="8542" y="2320"/>
                    </a:lnTo>
                    <a:lnTo>
                      <a:pt x="8549" y="2311"/>
                    </a:lnTo>
                    <a:lnTo>
                      <a:pt x="8557" y="2303"/>
                    </a:lnTo>
                    <a:lnTo>
                      <a:pt x="8564" y="2295"/>
                    </a:lnTo>
                    <a:lnTo>
                      <a:pt x="8582" y="2228"/>
                    </a:lnTo>
                    <a:lnTo>
                      <a:pt x="8597" y="2160"/>
                    </a:lnTo>
                    <a:lnTo>
                      <a:pt x="8612" y="2093"/>
                    </a:lnTo>
                    <a:lnTo>
                      <a:pt x="8626" y="2025"/>
                    </a:lnTo>
                    <a:lnTo>
                      <a:pt x="8639" y="1956"/>
                    </a:lnTo>
                    <a:lnTo>
                      <a:pt x="8651" y="1887"/>
                    </a:lnTo>
                    <a:lnTo>
                      <a:pt x="8662" y="1818"/>
                    </a:lnTo>
                    <a:lnTo>
                      <a:pt x="8671" y="1749"/>
                    </a:lnTo>
                    <a:lnTo>
                      <a:pt x="8680" y="1679"/>
                    </a:lnTo>
                    <a:lnTo>
                      <a:pt x="8688" y="1608"/>
                    </a:lnTo>
                    <a:lnTo>
                      <a:pt x="8694" y="1538"/>
                    </a:lnTo>
                    <a:lnTo>
                      <a:pt x="8700" y="1467"/>
                    </a:lnTo>
                    <a:lnTo>
                      <a:pt x="8703" y="1396"/>
                    </a:lnTo>
                    <a:lnTo>
                      <a:pt x="8706" y="1324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93"/>
                    </a:lnTo>
                    <a:lnTo>
                      <a:pt x="8622" y="1370"/>
                    </a:lnTo>
                    <a:lnTo>
                      <a:pt x="8619" y="1449"/>
                    </a:lnTo>
                    <a:lnTo>
                      <a:pt x="8614" y="1527"/>
                    </a:lnTo>
                    <a:lnTo>
                      <a:pt x="8607" y="1604"/>
                    </a:lnTo>
                    <a:lnTo>
                      <a:pt x="8600" y="1681"/>
                    </a:lnTo>
                    <a:lnTo>
                      <a:pt x="8591" y="1758"/>
                    </a:lnTo>
                    <a:lnTo>
                      <a:pt x="8580" y="1834"/>
                    </a:lnTo>
                    <a:lnTo>
                      <a:pt x="8568" y="1909"/>
                    </a:lnTo>
                    <a:lnTo>
                      <a:pt x="8555" y="1985"/>
                    </a:lnTo>
                    <a:lnTo>
                      <a:pt x="8541" y="2059"/>
                    </a:lnTo>
                    <a:lnTo>
                      <a:pt x="8525" y="2134"/>
                    </a:lnTo>
                    <a:lnTo>
                      <a:pt x="8509" y="2208"/>
                    </a:lnTo>
                    <a:lnTo>
                      <a:pt x="8491" y="2282"/>
                    </a:lnTo>
                    <a:lnTo>
                      <a:pt x="8471" y="2354"/>
                    </a:lnTo>
                    <a:lnTo>
                      <a:pt x="8451" y="2427"/>
                    </a:lnTo>
                    <a:lnTo>
                      <a:pt x="8458" y="2419"/>
                    </a:lnTo>
                    <a:lnTo>
                      <a:pt x="8467" y="2410"/>
                    </a:lnTo>
                    <a:lnTo>
                      <a:pt x="8474" y="2403"/>
                    </a:lnTo>
                    <a:lnTo>
                      <a:pt x="8482" y="2394"/>
                    </a:lnTo>
                    <a:lnTo>
                      <a:pt x="8489" y="2387"/>
                    </a:lnTo>
                    <a:lnTo>
                      <a:pt x="8497" y="2378"/>
                    </a:lnTo>
                    <a:lnTo>
                      <a:pt x="8505" y="2369"/>
                    </a:lnTo>
                    <a:lnTo>
                      <a:pt x="8512" y="2362"/>
                    </a:lnTo>
                    <a:lnTo>
                      <a:pt x="8531" y="2293"/>
                    </a:lnTo>
                    <a:lnTo>
                      <a:pt x="8548" y="2223"/>
                    </a:lnTo>
                    <a:lnTo>
                      <a:pt x="8564" y="2154"/>
                    </a:lnTo>
                    <a:lnTo>
                      <a:pt x="8579" y="2084"/>
                    </a:lnTo>
                    <a:lnTo>
                      <a:pt x="8593" y="2013"/>
                    </a:lnTo>
                    <a:lnTo>
                      <a:pt x="8605" y="1943"/>
                    </a:lnTo>
                    <a:lnTo>
                      <a:pt x="8617" y="1871"/>
                    </a:lnTo>
                    <a:lnTo>
                      <a:pt x="8627" y="1799"/>
                    </a:lnTo>
                    <a:lnTo>
                      <a:pt x="8636" y="1728"/>
                    </a:lnTo>
                    <a:lnTo>
                      <a:pt x="8644" y="1655"/>
                    </a:lnTo>
                    <a:lnTo>
                      <a:pt x="8652" y="1582"/>
                    </a:lnTo>
                    <a:lnTo>
                      <a:pt x="8657" y="1510"/>
                    </a:lnTo>
                    <a:lnTo>
                      <a:pt x="8661" y="1436"/>
                    </a:lnTo>
                    <a:lnTo>
                      <a:pt x="8665" y="1362"/>
                    </a:lnTo>
                    <a:lnTo>
                      <a:pt x="8666" y="1288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3" y="1325"/>
                    </a:lnTo>
                    <a:lnTo>
                      <a:pt x="8581" y="1405"/>
                    </a:lnTo>
                    <a:lnTo>
                      <a:pt x="8578" y="1486"/>
                    </a:lnTo>
                    <a:lnTo>
                      <a:pt x="8572" y="1564"/>
                    </a:lnTo>
                    <a:lnTo>
                      <a:pt x="8566" y="1644"/>
                    </a:lnTo>
                    <a:lnTo>
                      <a:pt x="8557" y="1723"/>
                    </a:lnTo>
                    <a:lnTo>
                      <a:pt x="8548" y="1802"/>
                    </a:lnTo>
                    <a:lnTo>
                      <a:pt x="8536" y="1880"/>
                    </a:lnTo>
                    <a:lnTo>
                      <a:pt x="8525" y="1958"/>
                    </a:lnTo>
                    <a:lnTo>
                      <a:pt x="8511" y="2034"/>
                    </a:lnTo>
                    <a:lnTo>
                      <a:pt x="8495" y="2111"/>
                    </a:lnTo>
                    <a:lnTo>
                      <a:pt x="8479" y="2188"/>
                    </a:lnTo>
                    <a:lnTo>
                      <a:pt x="8461" y="2263"/>
                    </a:lnTo>
                    <a:lnTo>
                      <a:pt x="8442" y="2339"/>
                    </a:lnTo>
                    <a:lnTo>
                      <a:pt x="8422" y="2413"/>
                    </a:lnTo>
                    <a:lnTo>
                      <a:pt x="8400" y="2487"/>
                    </a:lnTo>
                    <a:lnTo>
                      <a:pt x="8408" y="2479"/>
                    </a:lnTo>
                    <a:lnTo>
                      <a:pt x="8415" y="2472"/>
                    </a:lnTo>
                    <a:lnTo>
                      <a:pt x="8423" y="2464"/>
                    </a:lnTo>
                    <a:lnTo>
                      <a:pt x="8432" y="2455"/>
                    </a:lnTo>
                    <a:lnTo>
                      <a:pt x="8439" y="2448"/>
                    </a:lnTo>
                    <a:lnTo>
                      <a:pt x="8447" y="2440"/>
                    </a:lnTo>
                    <a:lnTo>
                      <a:pt x="8454" y="2432"/>
                    </a:lnTo>
                    <a:lnTo>
                      <a:pt x="8462" y="2424"/>
                    </a:lnTo>
                    <a:lnTo>
                      <a:pt x="8481" y="2354"/>
                    </a:lnTo>
                    <a:lnTo>
                      <a:pt x="8500" y="2283"/>
                    </a:lnTo>
                    <a:lnTo>
                      <a:pt x="8517" y="2211"/>
                    </a:lnTo>
                    <a:lnTo>
                      <a:pt x="8532" y="2139"/>
                    </a:lnTo>
                    <a:lnTo>
                      <a:pt x="8547" y="2067"/>
                    </a:lnTo>
                    <a:lnTo>
                      <a:pt x="8560" y="1993"/>
                    </a:lnTo>
                    <a:lnTo>
                      <a:pt x="8573" y="1920"/>
                    </a:lnTo>
                    <a:lnTo>
                      <a:pt x="8584" y="1846"/>
                    </a:lnTo>
                    <a:lnTo>
                      <a:pt x="8594" y="1773"/>
                    </a:lnTo>
                    <a:lnTo>
                      <a:pt x="8602" y="1698"/>
                    </a:lnTo>
                    <a:lnTo>
                      <a:pt x="8609" y="1623"/>
                    </a:lnTo>
                    <a:lnTo>
                      <a:pt x="8615" y="1548"/>
                    </a:lnTo>
                    <a:lnTo>
                      <a:pt x="8620" y="1473"/>
                    </a:lnTo>
                    <a:lnTo>
                      <a:pt x="8623" y="1396"/>
                    </a:lnTo>
                    <a:lnTo>
                      <a:pt x="8625" y="1320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58"/>
                    </a:lnTo>
                    <a:lnTo>
                      <a:pt x="8538" y="1440"/>
                    </a:lnTo>
                    <a:lnTo>
                      <a:pt x="8534" y="1522"/>
                    </a:lnTo>
                    <a:lnTo>
                      <a:pt x="8529" y="1604"/>
                    </a:lnTo>
                    <a:lnTo>
                      <a:pt x="8522" y="1685"/>
                    </a:lnTo>
                    <a:lnTo>
                      <a:pt x="8513" y="1766"/>
                    </a:lnTo>
                    <a:lnTo>
                      <a:pt x="8503" y="1847"/>
                    </a:lnTo>
                    <a:lnTo>
                      <a:pt x="8492" y="1927"/>
                    </a:lnTo>
                    <a:lnTo>
                      <a:pt x="8479" y="2007"/>
                    </a:lnTo>
                    <a:lnTo>
                      <a:pt x="8464" y="2086"/>
                    </a:lnTo>
                    <a:lnTo>
                      <a:pt x="8447" y="2165"/>
                    </a:lnTo>
                    <a:lnTo>
                      <a:pt x="8430" y="2242"/>
                    </a:lnTo>
                    <a:lnTo>
                      <a:pt x="8412" y="2319"/>
                    </a:lnTo>
                    <a:lnTo>
                      <a:pt x="8391" y="2397"/>
                    </a:lnTo>
                    <a:lnTo>
                      <a:pt x="8370" y="2472"/>
                    </a:lnTo>
                    <a:lnTo>
                      <a:pt x="8347" y="2548"/>
                    </a:lnTo>
                    <a:lnTo>
                      <a:pt x="8355" y="2540"/>
                    </a:lnTo>
                    <a:lnTo>
                      <a:pt x="8362" y="2533"/>
                    </a:lnTo>
                    <a:lnTo>
                      <a:pt x="8371" y="2525"/>
                    </a:lnTo>
                    <a:lnTo>
                      <a:pt x="8378" y="2518"/>
                    </a:lnTo>
                    <a:lnTo>
                      <a:pt x="8386" y="2510"/>
                    </a:lnTo>
                    <a:lnTo>
                      <a:pt x="8393" y="2503"/>
                    </a:lnTo>
                    <a:lnTo>
                      <a:pt x="8401" y="2495"/>
                    </a:lnTo>
                    <a:lnTo>
                      <a:pt x="8409" y="2488"/>
                    </a:lnTo>
                    <a:lnTo>
                      <a:pt x="8429" y="2415"/>
                    </a:lnTo>
                    <a:lnTo>
                      <a:pt x="8449" y="2343"/>
                    </a:lnTo>
                    <a:lnTo>
                      <a:pt x="8467" y="2269"/>
                    </a:lnTo>
                    <a:lnTo>
                      <a:pt x="8483" y="2195"/>
                    </a:lnTo>
                    <a:lnTo>
                      <a:pt x="8499" y="2120"/>
                    </a:lnTo>
                    <a:lnTo>
                      <a:pt x="8513" y="2046"/>
                    </a:lnTo>
                    <a:lnTo>
                      <a:pt x="8526" y="1970"/>
                    </a:lnTo>
                    <a:lnTo>
                      <a:pt x="8538" y="1895"/>
                    </a:lnTo>
                    <a:lnTo>
                      <a:pt x="8549" y="1819"/>
                    </a:lnTo>
                    <a:lnTo>
                      <a:pt x="8558" y="1742"/>
                    </a:lnTo>
                    <a:lnTo>
                      <a:pt x="8565" y="1665"/>
                    </a:lnTo>
                    <a:lnTo>
                      <a:pt x="8572" y="1588"/>
                    </a:lnTo>
                    <a:lnTo>
                      <a:pt x="8577" y="1510"/>
                    </a:lnTo>
                    <a:lnTo>
                      <a:pt x="8580" y="1431"/>
                    </a:lnTo>
                    <a:lnTo>
                      <a:pt x="8583" y="1354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de3d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89"/>
                    </a:lnTo>
                    <a:lnTo>
                      <a:pt x="8497" y="1473"/>
                    </a:lnTo>
                    <a:lnTo>
                      <a:pt x="8493" y="1557"/>
                    </a:lnTo>
                    <a:lnTo>
                      <a:pt x="8487" y="1641"/>
                    </a:lnTo>
                    <a:lnTo>
                      <a:pt x="8479" y="1725"/>
                    </a:lnTo>
                    <a:lnTo>
                      <a:pt x="8471" y="1807"/>
                    </a:lnTo>
                    <a:lnTo>
                      <a:pt x="8460" y="1890"/>
                    </a:lnTo>
                    <a:lnTo>
                      <a:pt x="8448" y="1971"/>
                    </a:lnTo>
                    <a:lnTo>
                      <a:pt x="8434" y="2053"/>
                    </a:lnTo>
                    <a:lnTo>
                      <a:pt x="8419" y="2133"/>
                    </a:lnTo>
                    <a:lnTo>
                      <a:pt x="8402" y="2214"/>
                    </a:lnTo>
                    <a:lnTo>
                      <a:pt x="8383" y="2294"/>
                    </a:lnTo>
                    <a:lnTo>
                      <a:pt x="8364" y="2373"/>
                    </a:lnTo>
                    <a:lnTo>
                      <a:pt x="8342" y="2451"/>
                    </a:lnTo>
                    <a:lnTo>
                      <a:pt x="8319" y="2529"/>
                    </a:lnTo>
                    <a:lnTo>
                      <a:pt x="8296" y="2606"/>
                    </a:lnTo>
                    <a:lnTo>
                      <a:pt x="8303" y="2599"/>
                    </a:lnTo>
                    <a:lnTo>
                      <a:pt x="8311" y="2592"/>
                    </a:lnTo>
                    <a:lnTo>
                      <a:pt x="8319" y="2585"/>
                    </a:lnTo>
                    <a:lnTo>
                      <a:pt x="8327" y="2577"/>
                    </a:lnTo>
                    <a:lnTo>
                      <a:pt x="8335" y="2569"/>
                    </a:lnTo>
                    <a:lnTo>
                      <a:pt x="8342" y="2562"/>
                    </a:lnTo>
                    <a:lnTo>
                      <a:pt x="8350" y="2554"/>
                    </a:lnTo>
                    <a:lnTo>
                      <a:pt x="8358" y="2547"/>
                    </a:lnTo>
                    <a:lnTo>
                      <a:pt x="8380" y="2473"/>
                    </a:lnTo>
                    <a:lnTo>
                      <a:pt x="8400" y="2399"/>
                    </a:lnTo>
                    <a:lnTo>
                      <a:pt x="8419" y="2323"/>
                    </a:lnTo>
                    <a:lnTo>
                      <a:pt x="8437" y="2248"/>
                    </a:lnTo>
                    <a:lnTo>
                      <a:pt x="8453" y="2171"/>
                    </a:lnTo>
                    <a:lnTo>
                      <a:pt x="8469" y="2094"/>
                    </a:lnTo>
                    <a:lnTo>
                      <a:pt x="8483" y="2018"/>
                    </a:lnTo>
                    <a:lnTo>
                      <a:pt x="8494" y="1940"/>
                    </a:lnTo>
                    <a:lnTo>
                      <a:pt x="8506" y="1862"/>
                    </a:lnTo>
                    <a:lnTo>
                      <a:pt x="8515" y="1783"/>
                    </a:lnTo>
                    <a:lnTo>
                      <a:pt x="8524" y="1704"/>
                    </a:lnTo>
                    <a:lnTo>
                      <a:pt x="8530" y="1624"/>
                    </a:lnTo>
                    <a:lnTo>
                      <a:pt x="8536" y="1546"/>
                    </a:lnTo>
                    <a:lnTo>
                      <a:pt x="8539" y="1465"/>
                    </a:lnTo>
                    <a:lnTo>
                      <a:pt x="8541" y="138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7" y="1418"/>
                    </a:lnTo>
                    <a:lnTo>
                      <a:pt x="8455" y="1506"/>
                    </a:lnTo>
                    <a:lnTo>
                      <a:pt x="8451" y="1591"/>
                    </a:lnTo>
                    <a:lnTo>
                      <a:pt x="8444" y="1677"/>
                    </a:lnTo>
                    <a:lnTo>
                      <a:pt x="8437" y="1763"/>
                    </a:lnTo>
                    <a:lnTo>
                      <a:pt x="8427" y="1847"/>
                    </a:lnTo>
                    <a:lnTo>
                      <a:pt x="8416" y="1931"/>
                    </a:lnTo>
                    <a:lnTo>
                      <a:pt x="8403" y="2014"/>
                    </a:lnTo>
                    <a:lnTo>
                      <a:pt x="8389" y="2097"/>
                    </a:lnTo>
                    <a:lnTo>
                      <a:pt x="8373" y="2181"/>
                    </a:lnTo>
                    <a:lnTo>
                      <a:pt x="8355" y="2263"/>
                    </a:lnTo>
                    <a:lnTo>
                      <a:pt x="8336" y="2344"/>
                    </a:lnTo>
                    <a:lnTo>
                      <a:pt x="8315" y="2425"/>
                    </a:lnTo>
                    <a:lnTo>
                      <a:pt x="8293" y="2505"/>
                    </a:lnTo>
                    <a:lnTo>
                      <a:pt x="8268" y="2584"/>
                    </a:lnTo>
                    <a:lnTo>
                      <a:pt x="8243" y="2663"/>
                    </a:lnTo>
                    <a:lnTo>
                      <a:pt x="8251" y="2656"/>
                    </a:lnTo>
                    <a:lnTo>
                      <a:pt x="8260" y="2648"/>
                    </a:lnTo>
                    <a:lnTo>
                      <a:pt x="8267" y="2642"/>
                    </a:lnTo>
                    <a:lnTo>
                      <a:pt x="8275" y="2634"/>
                    </a:lnTo>
                    <a:lnTo>
                      <a:pt x="8282" y="2627"/>
                    </a:lnTo>
                    <a:lnTo>
                      <a:pt x="8291" y="2620"/>
                    </a:lnTo>
                    <a:lnTo>
                      <a:pt x="8298" y="2613"/>
                    </a:lnTo>
                    <a:lnTo>
                      <a:pt x="8306" y="2605"/>
                    </a:lnTo>
                    <a:lnTo>
                      <a:pt x="8329" y="2529"/>
                    </a:lnTo>
                    <a:lnTo>
                      <a:pt x="8350" y="2454"/>
                    </a:lnTo>
                    <a:lnTo>
                      <a:pt x="8371" y="2376"/>
                    </a:lnTo>
                    <a:lnTo>
                      <a:pt x="8389" y="2299"/>
                    </a:lnTo>
                    <a:lnTo>
                      <a:pt x="8406" y="2222"/>
                    </a:lnTo>
                    <a:lnTo>
                      <a:pt x="8423" y="2143"/>
                    </a:lnTo>
                    <a:lnTo>
                      <a:pt x="8438" y="2064"/>
                    </a:lnTo>
                    <a:lnTo>
                      <a:pt x="8451" y="1984"/>
                    </a:lnTo>
                    <a:lnTo>
                      <a:pt x="8462" y="1904"/>
                    </a:lnTo>
                    <a:lnTo>
                      <a:pt x="8472" y="1823"/>
                    </a:lnTo>
                    <a:lnTo>
                      <a:pt x="8481" y="1742"/>
                    </a:lnTo>
                    <a:lnTo>
                      <a:pt x="8488" y="1661"/>
                    </a:lnTo>
                    <a:lnTo>
                      <a:pt x="8493" y="1579"/>
                    </a:lnTo>
                    <a:lnTo>
                      <a:pt x="8497" y="1497"/>
                    </a:lnTo>
                    <a:lnTo>
                      <a:pt x="8499" y="1415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7" y="1447"/>
                    </a:lnTo>
                    <a:lnTo>
                      <a:pt x="8415" y="1536"/>
                    </a:lnTo>
                    <a:lnTo>
                      <a:pt x="8409" y="1624"/>
                    </a:lnTo>
                    <a:lnTo>
                      <a:pt x="8403" y="1712"/>
                    </a:lnTo>
                    <a:lnTo>
                      <a:pt x="8395" y="1798"/>
                    </a:lnTo>
                    <a:lnTo>
                      <a:pt x="8385" y="1885"/>
                    </a:lnTo>
                    <a:lnTo>
                      <a:pt x="8374" y="1971"/>
                    </a:lnTo>
                    <a:lnTo>
                      <a:pt x="8359" y="2056"/>
                    </a:lnTo>
                    <a:lnTo>
                      <a:pt x="8344" y="2142"/>
                    </a:lnTo>
                    <a:lnTo>
                      <a:pt x="8328" y="2226"/>
                    </a:lnTo>
                    <a:lnTo>
                      <a:pt x="8309" y="2309"/>
                    </a:lnTo>
                    <a:lnTo>
                      <a:pt x="8289" y="2392"/>
                    </a:lnTo>
                    <a:lnTo>
                      <a:pt x="8268" y="2474"/>
                    </a:lnTo>
                    <a:lnTo>
                      <a:pt x="8244" y="2556"/>
                    </a:lnTo>
                    <a:lnTo>
                      <a:pt x="8219" y="2637"/>
                    </a:lnTo>
                    <a:lnTo>
                      <a:pt x="8192" y="2717"/>
                    </a:lnTo>
                    <a:lnTo>
                      <a:pt x="8200" y="2711"/>
                    </a:lnTo>
                    <a:lnTo>
                      <a:pt x="8208" y="2703"/>
                    </a:lnTo>
                    <a:lnTo>
                      <a:pt x="8216" y="2697"/>
                    </a:lnTo>
                    <a:lnTo>
                      <a:pt x="8223" y="2689"/>
                    </a:lnTo>
                    <a:lnTo>
                      <a:pt x="8231" y="2683"/>
                    </a:lnTo>
                    <a:lnTo>
                      <a:pt x="8240" y="2675"/>
                    </a:lnTo>
                    <a:lnTo>
                      <a:pt x="8247" y="2669"/>
                    </a:lnTo>
                    <a:lnTo>
                      <a:pt x="8255" y="2661"/>
                    </a:lnTo>
                    <a:lnTo>
                      <a:pt x="8278" y="2584"/>
                    </a:lnTo>
                    <a:lnTo>
                      <a:pt x="8301" y="2506"/>
                    </a:lnTo>
                    <a:lnTo>
                      <a:pt x="8323" y="2428"/>
                    </a:lnTo>
                    <a:lnTo>
                      <a:pt x="8342" y="2349"/>
                    </a:lnTo>
                    <a:lnTo>
                      <a:pt x="8361" y="2269"/>
                    </a:lnTo>
                    <a:lnTo>
                      <a:pt x="8378" y="2188"/>
                    </a:lnTo>
                    <a:lnTo>
                      <a:pt x="8393" y="2108"/>
                    </a:lnTo>
                    <a:lnTo>
                      <a:pt x="8407" y="2026"/>
                    </a:lnTo>
                    <a:lnTo>
                      <a:pt x="8419" y="1945"/>
                    </a:lnTo>
                    <a:lnTo>
                      <a:pt x="8430" y="1862"/>
                    </a:lnTo>
                    <a:lnTo>
                      <a:pt x="8438" y="1780"/>
                    </a:lnTo>
                    <a:lnTo>
                      <a:pt x="8446" y="1696"/>
                    </a:lnTo>
                    <a:lnTo>
                      <a:pt x="8452" y="1612"/>
                    </a:lnTo>
                    <a:lnTo>
                      <a:pt x="8456" y="1528"/>
                    </a:lnTo>
                    <a:lnTo>
                      <a:pt x="8459" y="1444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77"/>
                    </a:lnTo>
                    <a:lnTo>
                      <a:pt x="8371" y="1568"/>
                    </a:lnTo>
                    <a:lnTo>
                      <a:pt x="8367" y="1658"/>
                    </a:lnTo>
                    <a:lnTo>
                      <a:pt x="8359" y="1747"/>
                    </a:lnTo>
                    <a:lnTo>
                      <a:pt x="8350" y="1836"/>
                    </a:lnTo>
                    <a:lnTo>
                      <a:pt x="8341" y="1925"/>
                    </a:lnTo>
                    <a:lnTo>
                      <a:pt x="8328" y="2012"/>
                    </a:lnTo>
                    <a:lnTo>
                      <a:pt x="8314" y="2099"/>
                    </a:lnTo>
                    <a:lnTo>
                      <a:pt x="8299" y="2186"/>
                    </a:lnTo>
                    <a:lnTo>
                      <a:pt x="8280" y="2271"/>
                    </a:lnTo>
                    <a:lnTo>
                      <a:pt x="8261" y="2357"/>
                    </a:lnTo>
                    <a:lnTo>
                      <a:pt x="8240" y="2442"/>
                    </a:lnTo>
                    <a:lnTo>
                      <a:pt x="8216" y="2525"/>
                    </a:lnTo>
                    <a:lnTo>
                      <a:pt x="8193" y="2608"/>
                    </a:lnTo>
                    <a:lnTo>
                      <a:pt x="8166" y="2691"/>
                    </a:lnTo>
                    <a:lnTo>
                      <a:pt x="8139" y="2772"/>
                    </a:lnTo>
                    <a:lnTo>
                      <a:pt x="8146" y="2766"/>
                    </a:lnTo>
                    <a:lnTo>
                      <a:pt x="8154" y="2759"/>
                    </a:lnTo>
                    <a:lnTo>
                      <a:pt x="8162" y="2752"/>
                    </a:lnTo>
                    <a:lnTo>
                      <a:pt x="8170" y="2745"/>
                    </a:lnTo>
                    <a:lnTo>
                      <a:pt x="8178" y="2739"/>
                    </a:lnTo>
                    <a:lnTo>
                      <a:pt x="8186" y="2731"/>
                    </a:lnTo>
                    <a:lnTo>
                      <a:pt x="8194" y="2725"/>
                    </a:lnTo>
                    <a:lnTo>
                      <a:pt x="8201" y="2718"/>
                    </a:lnTo>
                    <a:lnTo>
                      <a:pt x="8226" y="2639"/>
                    </a:lnTo>
                    <a:lnTo>
                      <a:pt x="8251" y="2560"/>
                    </a:lnTo>
                    <a:lnTo>
                      <a:pt x="8273" y="2480"/>
                    </a:lnTo>
                    <a:lnTo>
                      <a:pt x="8294" y="2399"/>
                    </a:lnTo>
                    <a:lnTo>
                      <a:pt x="8313" y="2318"/>
                    </a:lnTo>
                    <a:lnTo>
                      <a:pt x="8331" y="2236"/>
                    </a:lnTo>
                    <a:lnTo>
                      <a:pt x="8347" y="2152"/>
                    </a:lnTo>
                    <a:lnTo>
                      <a:pt x="8361" y="2069"/>
                    </a:lnTo>
                    <a:lnTo>
                      <a:pt x="8374" y="1986"/>
                    </a:lnTo>
                    <a:lnTo>
                      <a:pt x="8385" y="1902"/>
                    </a:lnTo>
                    <a:lnTo>
                      <a:pt x="8395" y="1818"/>
                    </a:lnTo>
                    <a:lnTo>
                      <a:pt x="8402" y="1732"/>
                    </a:lnTo>
                    <a:lnTo>
                      <a:pt x="8409" y="1646"/>
                    </a:lnTo>
                    <a:lnTo>
                      <a:pt x="8413" y="1561"/>
                    </a:lnTo>
                    <a:lnTo>
                      <a:pt x="8415" y="1473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506"/>
                    </a:lnTo>
                    <a:lnTo>
                      <a:pt x="8329" y="1597"/>
                    </a:lnTo>
                    <a:lnTo>
                      <a:pt x="8324" y="1689"/>
                    </a:lnTo>
                    <a:lnTo>
                      <a:pt x="8318" y="1780"/>
                    </a:lnTo>
                    <a:lnTo>
                      <a:pt x="8308" y="1871"/>
                    </a:lnTo>
                    <a:lnTo>
                      <a:pt x="8297" y="1961"/>
                    </a:lnTo>
                    <a:lnTo>
                      <a:pt x="8284" y="2050"/>
                    </a:lnTo>
                    <a:lnTo>
                      <a:pt x="8270" y="2140"/>
                    </a:lnTo>
                    <a:lnTo>
                      <a:pt x="8253" y="2227"/>
                    </a:lnTo>
                    <a:lnTo>
                      <a:pt x="8234" y="2314"/>
                    </a:lnTo>
                    <a:lnTo>
                      <a:pt x="8214" y="2402"/>
                    </a:lnTo>
                    <a:lnTo>
                      <a:pt x="8192" y="2487"/>
                    </a:lnTo>
                    <a:lnTo>
                      <a:pt x="8168" y="2573"/>
                    </a:lnTo>
                    <a:lnTo>
                      <a:pt x="8142" y="2658"/>
                    </a:lnTo>
                    <a:lnTo>
                      <a:pt x="8115" y="2741"/>
                    </a:lnTo>
                    <a:lnTo>
                      <a:pt x="8086" y="2824"/>
                    </a:lnTo>
                    <a:lnTo>
                      <a:pt x="8094" y="2818"/>
                    </a:lnTo>
                    <a:lnTo>
                      <a:pt x="8101" y="2811"/>
                    </a:lnTo>
                    <a:lnTo>
                      <a:pt x="8110" y="2805"/>
                    </a:lnTo>
                    <a:lnTo>
                      <a:pt x="8118" y="2798"/>
                    </a:lnTo>
                    <a:lnTo>
                      <a:pt x="8125" y="2792"/>
                    </a:lnTo>
                    <a:lnTo>
                      <a:pt x="8134" y="2784"/>
                    </a:lnTo>
                    <a:lnTo>
                      <a:pt x="8141" y="2778"/>
                    </a:lnTo>
                    <a:lnTo>
                      <a:pt x="8149" y="2771"/>
                    </a:lnTo>
                    <a:lnTo>
                      <a:pt x="8176" y="2691"/>
                    </a:lnTo>
                    <a:lnTo>
                      <a:pt x="8201" y="2610"/>
                    </a:lnTo>
                    <a:lnTo>
                      <a:pt x="8225" y="2528"/>
                    </a:lnTo>
                    <a:lnTo>
                      <a:pt x="8246" y="2446"/>
                    </a:lnTo>
                    <a:lnTo>
                      <a:pt x="8266" y="2363"/>
                    </a:lnTo>
                    <a:lnTo>
                      <a:pt x="8285" y="2280"/>
                    </a:lnTo>
                    <a:lnTo>
                      <a:pt x="8301" y="2196"/>
                    </a:lnTo>
                    <a:lnTo>
                      <a:pt x="8316" y="2110"/>
                    </a:lnTo>
                    <a:lnTo>
                      <a:pt x="8331" y="2025"/>
                    </a:lnTo>
                    <a:lnTo>
                      <a:pt x="8342" y="1939"/>
                    </a:lnTo>
                    <a:lnTo>
                      <a:pt x="8352" y="1852"/>
                    </a:lnTo>
                    <a:lnTo>
                      <a:pt x="8360" y="1766"/>
                    </a:lnTo>
                    <a:lnTo>
                      <a:pt x="8366" y="1678"/>
                    </a:lnTo>
                    <a:lnTo>
                      <a:pt x="8372" y="1590"/>
                    </a:lnTo>
                    <a:lnTo>
                      <a:pt x="8374" y="1501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1" y="1533"/>
                    </a:lnTo>
                    <a:lnTo>
                      <a:pt x="8288" y="1627"/>
                    </a:lnTo>
                    <a:lnTo>
                      <a:pt x="8282" y="1721"/>
                    </a:lnTo>
                    <a:lnTo>
                      <a:pt x="8276" y="1813"/>
                    </a:lnTo>
                    <a:lnTo>
                      <a:pt x="8266" y="1906"/>
                    </a:lnTo>
                    <a:lnTo>
                      <a:pt x="8254" y="1998"/>
                    </a:lnTo>
                    <a:lnTo>
                      <a:pt x="8241" y="2089"/>
                    </a:lnTo>
                    <a:lnTo>
                      <a:pt x="8226" y="2180"/>
                    </a:lnTo>
                    <a:lnTo>
                      <a:pt x="8209" y="2269"/>
                    </a:lnTo>
                    <a:lnTo>
                      <a:pt x="8189" y="2358"/>
                    </a:lnTo>
                    <a:lnTo>
                      <a:pt x="8168" y="2446"/>
                    </a:lnTo>
                    <a:lnTo>
                      <a:pt x="8145" y="2534"/>
                    </a:lnTo>
                    <a:lnTo>
                      <a:pt x="8120" y="2621"/>
                    </a:lnTo>
                    <a:lnTo>
                      <a:pt x="8093" y="2707"/>
                    </a:lnTo>
                    <a:lnTo>
                      <a:pt x="8064" y="2792"/>
                    </a:lnTo>
                    <a:lnTo>
                      <a:pt x="8034" y="2876"/>
                    </a:lnTo>
                    <a:lnTo>
                      <a:pt x="8043" y="2870"/>
                    </a:lnTo>
                    <a:lnTo>
                      <a:pt x="8050" y="2864"/>
                    </a:lnTo>
                    <a:lnTo>
                      <a:pt x="8058" y="2858"/>
                    </a:lnTo>
                    <a:lnTo>
                      <a:pt x="8066" y="2850"/>
                    </a:lnTo>
                    <a:lnTo>
                      <a:pt x="8074" y="2844"/>
                    </a:lnTo>
                    <a:lnTo>
                      <a:pt x="8081" y="2837"/>
                    </a:lnTo>
                    <a:lnTo>
                      <a:pt x="8089" y="2831"/>
                    </a:lnTo>
                    <a:lnTo>
                      <a:pt x="8098" y="2824"/>
                    </a:lnTo>
                    <a:lnTo>
                      <a:pt x="8125" y="2743"/>
                    </a:lnTo>
                    <a:lnTo>
                      <a:pt x="8152" y="2660"/>
                    </a:lnTo>
                    <a:lnTo>
                      <a:pt x="8175" y="2577"/>
                    </a:lnTo>
                    <a:lnTo>
                      <a:pt x="8199" y="2494"/>
                    </a:lnTo>
                    <a:lnTo>
                      <a:pt x="8220" y="2409"/>
                    </a:lnTo>
                    <a:lnTo>
                      <a:pt x="8239" y="2323"/>
                    </a:lnTo>
                    <a:lnTo>
                      <a:pt x="8258" y="2238"/>
                    </a:lnTo>
                    <a:lnTo>
                      <a:pt x="8273" y="2151"/>
                    </a:lnTo>
                    <a:lnTo>
                      <a:pt x="8287" y="2064"/>
                    </a:lnTo>
                    <a:lnTo>
                      <a:pt x="8300" y="1977"/>
                    </a:lnTo>
                    <a:lnTo>
                      <a:pt x="8309" y="1888"/>
                    </a:lnTo>
                    <a:lnTo>
                      <a:pt x="8318" y="1799"/>
                    </a:lnTo>
                    <a:lnTo>
                      <a:pt x="8326" y="1710"/>
                    </a:lnTo>
                    <a:lnTo>
                      <a:pt x="8330" y="1620"/>
                    </a:lnTo>
                    <a:lnTo>
                      <a:pt x="8333" y="152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1" y="1511"/>
                    </a:lnTo>
                    <a:lnTo>
                      <a:pt x="8250" y="1560"/>
                    </a:lnTo>
                    <a:lnTo>
                      <a:pt x="8248" y="1607"/>
                    </a:lnTo>
                    <a:lnTo>
                      <a:pt x="8246" y="1656"/>
                    </a:lnTo>
                    <a:lnTo>
                      <a:pt x="8243" y="1703"/>
                    </a:lnTo>
                    <a:lnTo>
                      <a:pt x="8241" y="1751"/>
                    </a:lnTo>
                    <a:lnTo>
                      <a:pt x="8237" y="1798"/>
                    </a:lnTo>
                    <a:lnTo>
                      <a:pt x="8233" y="1846"/>
                    </a:lnTo>
                    <a:lnTo>
                      <a:pt x="8223" y="1940"/>
                    </a:lnTo>
                    <a:lnTo>
                      <a:pt x="8211" y="2033"/>
                    </a:lnTo>
                    <a:lnTo>
                      <a:pt x="8198" y="2126"/>
                    </a:lnTo>
                    <a:lnTo>
                      <a:pt x="8181" y="2218"/>
                    </a:lnTo>
                    <a:lnTo>
                      <a:pt x="8163" y="2309"/>
                    </a:lnTo>
                    <a:lnTo>
                      <a:pt x="8143" y="2400"/>
                    </a:lnTo>
                    <a:lnTo>
                      <a:pt x="8121" y="2490"/>
                    </a:lnTo>
                    <a:lnTo>
                      <a:pt x="8097" y="2579"/>
                    </a:lnTo>
                    <a:lnTo>
                      <a:pt x="8070" y="2667"/>
                    </a:lnTo>
                    <a:lnTo>
                      <a:pt x="8043" y="2754"/>
                    </a:lnTo>
                    <a:lnTo>
                      <a:pt x="8013" y="2841"/>
                    </a:lnTo>
                    <a:lnTo>
                      <a:pt x="7982" y="2927"/>
                    </a:lnTo>
                    <a:lnTo>
                      <a:pt x="7989" y="2921"/>
                    </a:lnTo>
                    <a:lnTo>
                      <a:pt x="7998" y="2914"/>
                    </a:lnTo>
                    <a:lnTo>
                      <a:pt x="8005" y="2908"/>
                    </a:lnTo>
                    <a:lnTo>
                      <a:pt x="8013" y="2901"/>
                    </a:lnTo>
                    <a:lnTo>
                      <a:pt x="8022" y="2895"/>
                    </a:lnTo>
                    <a:lnTo>
                      <a:pt x="8029" y="2888"/>
                    </a:lnTo>
                    <a:lnTo>
                      <a:pt x="8037" y="2882"/>
                    </a:lnTo>
                    <a:lnTo>
                      <a:pt x="8045" y="2875"/>
                    </a:lnTo>
                    <a:lnTo>
                      <a:pt x="8074" y="2792"/>
                    </a:lnTo>
                    <a:lnTo>
                      <a:pt x="8101" y="2709"/>
                    </a:lnTo>
                    <a:lnTo>
                      <a:pt x="8127" y="2624"/>
                    </a:lnTo>
                    <a:lnTo>
                      <a:pt x="8151" y="2538"/>
                    </a:lnTo>
                    <a:lnTo>
                      <a:pt x="8173" y="2453"/>
                    </a:lnTo>
                    <a:lnTo>
                      <a:pt x="8193" y="2365"/>
                    </a:lnTo>
                    <a:lnTo>
                      <a:pt x="8212" y="2278"/>
                    </a:lnTo>
                    <a:lnTo>
                      <a:pt x="8229" y="2191"/>
                    </a:lnTo>
                    <a:lnTo>
                      <a:pt x="8243" y="2101"/>
                    </a:lnTo>
                    <a:lnTo>
                      <a:pt x="8256" y="2012"/>
                    </a:lnTo>
                    <a:lnTo>
                      <a:pt x="8267" y="1922"/>
                    </a:lnTo>
                    <a:lnTo>
                      <a:pt x="8277" y="1831"/>
                    </a:lnTo>
                    <a:lnTo>
                      <a:pt x="8283" y="1740"/>
                    </a:lnTo>
                    <a:lnTo>
                      <a:pt x="8288" y="1648"/>
                    </a:lnTo>
                    <a:lnTo>
                      <a:pt x="8292" y="1557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de3e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37"/>
                    </a:lnTo>
                    <a:lnTo>
                      <a:pt x="8208" y="1587"/>
                    </a:lnTo>
                    <a:lnTo>
                      <a:pt x="8206" y="1636"/>
                    </a:lnTo>
                    <a:lnTo>
                      <a:pt x="8204" y="1684"/>
                    </a:lnTo>
                    <a:lnTo>
                      <a:pt x="8202" y="1733"/>
                    </a:lnTo>
                    <a:lnTo>
                      <a:pt x="8198" y="1781"/>
                    </a:lnTo>
                    <a:lnTo>
                      <a:pt x="8195" y="1830"/>
                    </a:lnTo>
                    <a:lnTo>
                      <a:pt x="8191" y="1877"/>
                    </a:lnTo>
                    <a:lnTo>
                      <a:pt x="8185" y="1926"/>
                    </a:lnTo>
                    <a:lnTo>
                      <a:pt x="8180" y="1974"/>
                    </a:lnTo>
                    <a:lnTo>
                      <a:pt x="8174" y="2021"/>
                    </a:lnTo>
                    <a:lnTo>
                      <a:pt x="8168" y="2069"/>
                    </a:lnTo>
                    <a:lnTo>
                      <a:pt x="8160" y="2116"/>
                    </a:lnTo>
                    <a:lnTo>
                      <a:pt x="8153" y="2163"/>
                    </a:lnTo>
                    <a:lnTo>
                      <a:pt x="8145" y="2210"/>
                    </a:lnTo>
                    <a:lnTo>
                      <a:pt x="8137" y="2257"/>
                    </a:lnTo>
                    <a:lnTo>
                      <a:pt x="8127" y="2303"/>
                    </a:lnTo>
                    <a:lnTo>
                      <a:pt x="8117" y="2349"/>
                    </a:lnTo>
                    <a:lnTo>
                      <a:pt x="8108" y="2396"/>
                    </a:lnTo>
                    <a:lnTo>
                      <a:pt x="8097" y="2441"/>
                    </a:lnTo>
                    <a:lnTo>
                      <a:pt x="8086" y="2488"/>
                    </a:lnTo>
                    <a:lnTo>
                      <a:pt x="8074" y="2533"/>
                    </a:lnTo>
                    <a:lnTo>
                      <a:pt x="8061" y="2578"/>
                    </a:lnTo>
                    <a:lnTo>
                      <a:pt x="8049" y="2624"/>
                    </a:lnTo>
                    <a:lnTo>
                      <a:pt x="8021" y="2713"/>
                    </a:lnTo>
                    <a:lnTo>
                      <a:pt x="7993" y="2802"/>
                    </a:lnTo>
                    <a:lnTo>
                      <a:pt x="7962" y="2889"/>
                    </a:lnTo>
                    <a:lnTo>
                      <a:pt x="7928" y="2977"/>
                    </a:lnTo>
                    <a:lnTo>
                      <a:pt x="7937" y="2970"/>
                    </a:lnTo>
                    <a:lnTo>
                      <a:pt x="7944" y="2964"/>
                    </a:lnTo>
                    <a:lnTo>
                      <a:pt x="7953" y="2957"/>
                    </a:lnTo>
                    <a:lnTo>
                      <a:pt x="7961" y="2952"/>
                    </a:lnTo>
                    <a:lnTo>
                      <a:pt x="7968" y="2946"/>
                    </a:lnTo>
                    <a:lnTo>
                      <a:pt x="7977" y="2939"/>
                    </a:lnTo>
                    <a:lnTo>
                      <a:pt x="7984" y="2933"/>
                    </a:lnTo>
                    <a:lnTo>
                      <a:pt x="7992" y="2926"/>
                    </a:lnTo>
                    <a:lnTo>
                      <a:pt x="8022" y="2842"/>
                    </a:lnTo>
                    <a:lnTo>
                      <a:pt x="8051" y="2757"/>
                    </a:lnTo>
                    <a:lnTo>
                      <a:pt x="8078" y="2671"/>
                    </a:lnTo>
                    <a:lnTo>
                      <a:pt x="8103" y="2584"/>
                    </a:lnTo>
                    <a:lnTo>
                      <a:pt x="8126" y="2496"/>
                    </a:lnTo>
                    <a:lnTo>
                      <a:pt x="8147" y="2408"/>
                    </a:lnTo>
                    <a:lnTo>
                      <a:pt x="8167" y="2319"/>
                    </a:lnTo>
                    <a:lnTo>
                      <a:pt x="8184" y="2230"/>
                    </a:lnTo>
                    <a:lnTo>
                      <a:pt x="8199" y="2139"/>
                    </a:lnTo>
                    <a:lnTo>
                      <a:pt x="8212" y="2048"/>
                    </a:lnTo>
                    <a:lnTo>
                      <a:pt x="8224" y="1956"/>
                    </a:lnTo>
                    <a:lnTo>
                      <a:pt x="8234" y="1863"/>
                    </a:lnTo>
                    <a:lnTo>
                      <a:pt x="8240" y="1771"/>
                    </a:lnTo>
                    <a:lnTo>
                      <a:pt x="8246" y="1677"/>
                    </a:lnTo>
                    <a:lnTo>
                      <a:pt x="8249" y="1583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61"/>
                    </a:lnTo>
                    <a:lnTo>
                      <a:pt x="8165" y="1611"/>
                    </a:lnTo>
                    <a:lnTo>
                      <a:pt x="8164" y="1661"/>
                    </a:lnTo>
                    <a:lnTo>
                      <a:pt x="8162" y="1710"/>
                    </a:lnTo>
                    <a:lnTo>
                      <a:pt x="8159" y="1760"/>
                    </a:lnTo>
                    <a:lnTo>
                      <a:pt x="8156" y="1810"/>
                    </a:lnTo>
                    <a:lnTo>
                      <a:pt x="8152" y="1858"/>
                    </a:lnTo>
                    <a:lnTo>
                      <a:pt x="8148" y="1907"/>
                    </a:lnTo>
                    <a:lnTo>
                      <a:pt x="8143" y="1957"/>
                    </a:lnTo>
                    <a:lnTo>
                      <a:pt x="8137" y="2005"/>
                    </a:lnTo>
                    <a:lnTo>
                      <a:pt x="8131" y="2053"/>
                    </a:lnTo>
                    <a:lnTo>
                      <a:pt x="8124" y="2101"/>
                    </a:lnTo>
                    <a:lnTo>
                      <a:pt x="8117" y="2150"/>
                    </a:lnTo>
                    <a:lnTo>
                      <a:pt x="8109" y="2197"/>
                    </a:lnTo>
                    <a:lnTo>
                      <a:pt x="8101" y="2245"/>
                    </a:lnTo>
                    <a:lnTo>
                      <a:pt x="8092" y="2293"/>
                    </a:lnTo>
                    <a:lnTo>
                      <a:pt x="8082" y="2340"/>
                    </a:lnTo>
                    <a:lnTo>
                      <a:pt x="8072" y="2386"/>
                    </a:lnTo>
                    <a:lnTo>
                      <a:pt x="8062" y="2434"/>
                    </a:lnTo>
                    <a:lnTo>
                      <a:pt x="8050" y="2480"/>
                    </a:lnTo>
                    <a:lnTo>
                      <a:pt x="8039" y="2527"/>
                    </a:lnTo>
                    <a:lnTo>
                      <a:pt x="8026" y="2573"/>
                    </a:lnTo>
                    <a:lnTo>
                      <a:pt x="8013" y="2620"/>
                    </a:lnTo>
                    <a:lnTo>
                      <a:pt x="8000" y="2665"/>
                    </a:lnTo>
                    <a:lnTo>
                      <a:pt x="7986" y="2710"/>
                    </a:lnTo>
                    <a:lnTo>
                      <a:pt x="7972" y="2756"/>
                    </a:lnTo>
                    <a:lnTo>
                      <a:pt x="7957" y="2801"/>
                    </a:lnTo>
                    <a:lnTo>
                      <a:pt x="7942" y="2847"/>
                    </a:lnTo>
                    <a:lnTo>
                      <a:pt x="7927" y="2891"/>
                    </a:lnTo>
                    <a:lnTo>
                      <a:pt x="7909" y="2935"/>
                    </a:lnTo>
                    <a:lnTo>
                      <a:pt x="7893" y="2979"/>
                    </a:lnTo>
                    <a:lnTo>
                      <a:pt x="7876" y="3024"/>
                    </a:lnTo>
                    <a:lnTo>
                      <a:pt x="7883" y="3017"/>
                    </a:lnTo>
                    <a:lnTo>
                      <a:pt x="7892" y="3012"/>
                    </a:lnTo>
                    <a:lnTo>
                      <a:pt x="7900" y="3005"/>
                    </a:lnTo>
                    <a:lnTo>
                      <a:pt x="7908" y="2999"/>
                    </a:lnTo>
                    <a:lnTo>
                      <a:pt x="7916" y="2993"/>
                    </a:lnTo>
                    <a:lnTo>
                      <a:pt x="7923" y="2987"/>
                    </a:lnTo>
                    <a:lnTo>
                      <a:pt x="7931" y="2980"/>
                    </a:lnTo>
                    <a:lnTo>
                      <a:pt x="7940" y="2975"/>
                    </a:lnTo>
                    <a:lnTo>
                      <a:pt x="7971" y="2889"/>
                    </a:lnTo>
                    <a:lnTo>
                      <a:pt x="8001" y="2802"/>
                    </a:lnTo>
                    <a:lnTo>
                      <a:pt x="8028" y="2715"/>
                    </a:lnTo>
                    <a:lnTo>
                      <a:pt x="8055" y="2627"/>
                    </a:lnTo>
                    <a:lnTo>
                      <a:pt x="8079" y="2538"/>
                    </a:lnTo>
                    <a:lnTo>
                      <a:pt x="8101" y="2448"/>
                    </a:lnTo>
                    <a:lnTo>
                      <a:pt x="8121" y="2357"/>
                    </a:lnTo>
                    <a:lnTo>
                      <a:pt x="8139" y="2266"/>
                    </a:lnTo>
                    <a:lnTo>
                      <a:pt x="8156" y="2174"/>
                    </a:lnTo>
                    <a:lnTo>
                      <a:pt x="8169" y="2081"/>
                    </a:lnTo>
                    <a:lnTo>
                      <a:pt x="8182" y="1988"/>
                    </a:lnTo>
                    <a:lnTo>
                      <a:pt x="8191" y="1894"/>
                    </a:lnTo>
                    <a:lnTo>
                      <a:pt x="8195" y="1846"/>
                    </a:lnTo>
                    <a:lnTo>
                      <a:pt x="8199" y="1799"/>
                    </a:lnTo>
                    <a:lnTo>
                      <a:pt x="8201" y="1751"/>
                    </a:lnTo>
                    <a:lnTo>
                      <a:pt x="8204" y="1704"/>
                    </a:lnTo>
                    <a:lnTo>
                      <a:pt x="8206" y="1655"/>
                    </a:lnTo>
                    <a:lnTo>
                      <a:pt x="8208" y="1608"/>
                    </a:lnTo>
                    <a:lnTo>
                      <a:pt x="8209" y="1559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587"/>
                    </a:lnTo>
                    <a:lnTo>
                      <a:pt x="8125" y="1638"/>
                    </a:lnTo>
                    <a:lnTo>
                      <a:pt x="8123" y="1689"/>
                    </a:lnTo>
                    <a:lnTo>
                      <a:pt x="8121" y="1739"/>
                    </a:lnTo>
                    <a:lnTo>
                      <a:pt x="8118" y="1789"/>
                    </a:lnTo>
                    <a:lnTo>
                      <a:pt x="8115" y="1839"/>
                    </a:lnTo>
                    <a:lnTo>
                      <a:pt x="8111" y="1890"/>
                    </a:lnTo>
                    <a:lnTo>
                      <a:pt x="8106" y="1940"/>
                    </a:lnTo>
                    <a:lnTo>
                      <a:pt x="8101" y="1989"/>
                    </a:lnTo>
                    <a:lnTo>
                      <a:pt x="8095" y="2038"/>
                    </a:lnTo>
                    <a:lnTo>
                      <a:pt x="8088" y="2087"/>
                    </a:lnTo>
                    <a:lnTo>
                      <a:pt x="8082" y="2136"/>
                    </a:lnTo>
                    <a:lnTo>
                      <a:pt x="8074" y="2186"/>
                    </a:lnTo>
                    <a:lnTo>
                      <a:pt x="8065" y="2234"/>
                    </a:lnTo>
                    <a:lnTo>
                      <a:pt x="8057" y="2283"/>
                    </a:lnTo>
                    <a:lnTo>
                      <a:pt x="8048" y="2330"/>
                    </a:lnTo>
                    <a:lnTo>
                      <a:pt x="8037" y="2379"/>
                    </a:lnTo>
                    <a:lnTo>
                      <a:pt x="8028" y="2427"/>
                    </a:lnTo>
                    <a:lnTo>
                      <a:pt x="8017" y="2474"/>
                    </a:lnTo>
                    <a:lnTo>
                      <a:pt x="8005" y="2522"/>
                    </a:lnTo>
                    <a:lnTo>
                      <a:pt x="7993" y="2569"/>
                    </a:lnTo>
                    <a:lnTo>
                      <a:pt x="7980" y="2616"/>
                    </a:lnTo>
                    <a:lnTo>
                      <a:pt x="7967" y="2663"/>
                    </a:lnTo>
                    <a:lnTo>
                      <a:pt x="7953" y="2710"/>
                    </a:lnTo>
                    <a:lnTo>
                      <a:pt x="7938" y="2755"/>
                    </a:lnTo>
                    <a:lnTo>
                      <a:pt x="7924" y="2801"/>
                    </a:lnTo>
                    <a:lnTo>
                      <a:pt x="7908" y="2848"/>
                    </a:lnTo>
                    <a:lnTo>
                      <a:pt x="7893" y="2893"/>
                    </a:lnTo>
                    <a:lnTo>
                      <a:pt x="7875" y="2939"/>
                    </a:lnTo>
                    <a:lnTo>
                      <a:pt x="7859" y="2983"/>
                    </a:lnTo>
                    <a:lnTo>
                      <a:pt x="7842" y="3028"/>
                    </a:lnTo>
                    <a:lnTo>
                      <a:pt x="7823" y="3072"/>
                    </a:lnTo>
                    <a:lnTo>
                      <a:pt x="7831" y="3067"/>
                    </a:lnTo>
                    <a:lnTo>
                      <a:pt x="7840" y="3061"/>
                    </a:lnTo>
                    <a:lnTo>
                      <a:pt x="7847" y="3054"/>
                    </a:lnTo>
                    <a:lnTo>
                      <a:pt x="7856" y="3049"/>
                    </a:lnTo>
                    <a:lnTo>
                      <a:pt x="7863" y="3042"/>
                    </a:lnTo>
                    <a:lnTo>
                      <a:pt x="7872" y="3037"/>
                    </a:lnTo>
                    <a:lnTo>
                      <a:pt x="7880" y="3030"/>
                    </a:lnTo>
                    <a:lnTo>
                      <a:pt x="7887" y="3025"/>
                    </a:lnTo>
                    <a:lnTo>
                      <a:pt x="7921" y="2937"/>
                    </a:lnTo>
                    <a:lnTo>
                      <a:pt x="7952" y="2850"/>
                    </a:lnTo>
                    <a:lnTo>
                      <a:pt x="7980" y="2761"/>
                    </a:lnTo>
                    <a:lnTo>
                      <a:pt x="8008" y="2672"/>
                    </a:lnTo>
                    <a:lnTo>
                      <a:pt x="8020" y="2626"/>
                    </a:lnTo>
                    <a:lnTo>
                      <a:pt x="8033" y="2581"/>
                    </a:lnTo>
                    <a:lnTo>
                      <a:pt x="8045" y="2536"/>
                    </a:lnTo>
                    <a:lnTo>
                      <a:pt x="8056" y="2489"/>
                    </a:lnTo>
                    <a:lnTo>
                      <a:pt x="8067" y="2444"/>
                    </a:lnTo>
                    <a:lnTo>
                      <a:pt x="8076" y="2397"/>
                    </a:lnTo>
                    <a:lnTo>
                      <a:pt x="8086" y="2351"/>
                    </a:lnTo>
                    <a:lnTo>
                      <a:pt x="8096" y="2305"/>
                    </a:lnTo>
                    <a:lnTo>
                      <a:pt x="8104" y="2258"/>
                    </a:lnTo>
                    <a:lnTo>
                      <a:pt x="8112" y="2211"/>
                    </a:lnTo>
                    <a:lnTo>
                      <a:pt x="8119" y="2164"/>
                    </a:lnTo>
                    <a:lnTo>
                      <a:pt x="8127" y="2117"/>
                    </a:lnTo>
                    <a:lnTo>
                      <a:pt x="8133" y="2069"/>
                    </a:lnTo>
                    <a:lnTo>
                      <a:pt x="8139" y="2022"/>
                    </a:lnTo>
                    <a:lnTo>
                      <a:pt x="8144" y="1974"/>
                    </a:lnTo>
                    <a:lnTo>
                      <a:pt x="8150" y="1925"/>
                    </a:lnTo>
                    <a:lnTo>
                      <a:pt x="8154" y="1878"/>
                    </a:lnTo>
                    <a:lnTo>
                      <a:pt x="8157" y="1829"/>
                    </a:lnTo>
                    <a:lnTo>
                      <a:pt x="8161" y="1781"/>
                    </a:lnTo>
                    <a:lnTo>
                      <a:pt x="8163" y="1732"/>
                    </a:lnTo>
                    <a:lnTo>
                      <a:pt x="8165" y="1684"/>
                    </a:lnTo>
                    <a:lnTo>
                      <a:pt x="8167" y="1635"/>
                    </a:lnTo>
                    <a:lnTo>
                      <a:pt x="8167" y="158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12"/>
                    </a:lnTo>
                    <a:lnTo>
                      <a:pt x="8082" y="1662"/>
                    </a:lnTo>
                    <a:lnTo>
                      <a:pt x="8080" y="1714"/>
                    </a:lnTo>
                    <a:lnTo>
                      <a:pt x="8078" y="1766"/>
                    </a:lnTo>
                    <a:lnTo>
                      <a:pt x="8075" y="1817"/>
                    </a:lnTo>
                    <a:lnTo>
                      <a:pt x="8072" y="1867"/>
                    </a:lnTo>
                    <a:lnTo>
                      <a:pt x="8067" y="1918"/>
                    </a:lnTo>
                    <a:lnTo>
                      <a:pt x="8063" y="1969"/>
                    </a:lnTo>
                    <a:lnTo>
                      <a:pt x="8057" y="2019"/>
                    </a:lnTo>
                    <a:lnTo>
                      <a:pt x="8051" y="2069"/>
                    </a:lnTo>
                    <a:lnTo>
                      <a:pt x="8045" y="2119"/>
                    </a:lnTo>
                    <a:lnTo>
                      <a:pt x="8037" y="2169"/>
                    </a:lnTo>
                    <a:lnTo>
                      <a:pt x="8029" y="2218"/>
                    </a:lnTo>
                    <a:lnTo>
                      <a:pt x="8021" y="2268"/>
                    </a:lnTo>
                    <a:lnTo>
                      <a:pt x="8012" y="2318"/>
                    </a:lnTo>
                    <a:lnTo>
                      <a:pt x="8002" y="2366"/>
                    </a:lnTo>
                    <a:lnTo>
                      <a:pt x="7992" y="2415"/>
                    </a:lnTo>
                    <a:lnTo>
                      <a:pt x="7981" y="2464"/>
                    </a:lnTo>
                    <a:lnTo>
                      <a:pt x="7970" y="2512"/>
                    </a:lnTo>
                    <a:lnTo>
                      <a:pt x="7957" y="2560"/>
                    </a:lnTo>
                    <a:lnTo>
                      <a:pt x="7945" y="2608"/>
                    </a:lnTo>
                    <a:lnTo>
                      <a:pt x="7932" y="2656"/>
                    </a:lnTo>
                    <a:lnTo>
                      <a:pt x="7918" y="2703"/>
                    </a:lnTo>
                    <a:lnTo>
                      <a:pt x="7904" y="2750"/>
                    </a:lnTo>
                    <a:lnTo>
                      <a:pt x="7889" y="2797"/>
                    </a:lnTo>
                    <a:lnTo>
                      <a:pt x="7874" y="2844"/>
                    </a:lnTo>
                    <a:lnTo>
                      <a:pt x="7858" y="2890"/>
                    </a:lnTo>
                    <a:lnTo>
                      <a:pt x="7841" y="2937"/>
                    </a:lnTo>
                    <a:lnTo>
                      <a:pt x="7824" y="2982"/>
                    </a:lnTo>
                    <a:lnTo>
                      <a:pt x="7807" y="3027"/>
                    </a:lnTo>
                    <a:lnTo>
                      <a:pt x="7788" y="3073"/>
                    </a:lnTo>
                    <a:lnTo>
                      <a:pt x="7769" y="3118"/>
                    </a:lnTo>
                    <a:lnTo>
                      <a:pt x="7778" y="3113"/>
                    </a:lnTo>
                    <a:lnTo>
                      <a:pt x="7785" y="3106"/>
                    </a:lnTo>
                    <a:lnTo>
                      <a:pt x="7794" y="3101"/>
                    </a:lnTo>
                    <a:lnTo>
                      <a:pt x="7801" y="3095"/>
                    </a:lnTo>
                    <a:lnTo>
                      <a:pt x="7810" y="3089"/>
                    </a:lnTo>
                    <a:lnTo>
                      <a:pt x="7818" y="3084"/>
                    </a:lnTo>
                    <a:lnTo>
                      <a:pt x="7825" y="3077"/>
                    </a:lnTo>
                    <a:lnTo>
                      <a:pt x="7834" y="3072"/>
                    </a:lnTo>
                    <a:lnTo>
                      <a:pt x="7851" y="3027"/>
                    </a:lnTo>
                    <a:lnTo>
                      <a:pt x="7867" y="2983"/>
                    </a:lnTo>
                    <a:lnTo>
                      <a:pt x="7885" y="2939"/>
                    </a:lnTo>
                    <a:lnTo>
                      <a:pt x="7900" y="2895"/>
                    </a:lnTo>
                    <a:lnTo>
                      <a:pt x="7915" y="2849"/>
                    </a:lnTo>
                    <a:lnTo>
                      <a:pt x="7930" y="2804"/>
                    </a:lnTo>
                    <a:lnTo>
                      <a:pt x="7944" y="2758"/>
                    </a:lnTo>
                    <a:lnTo>
                      <a:pt x="7958" y="2713"/>
                    </a:lnTo>
                    <a:lnTo>
                      <a:pt x="7971" y="2668"/>
                    </a:lnTo>
                    <a:lnTo>
                      <a:pt x="7984" y="2621"/>
                    </a:lnTo>
                    <a:lnTo>
                      <a:pt x="7997" y="2575"/>
                    </a:lnTo>
                    <a:lnTo>
                      <a:pt x="8008" y="2528"/>
                    </a:lnTo>
                    <a:lnTo>
                      <a:pt x="8020" y="2482"/>
                    </a:lnTo>
                    <a:lnTo>
                      <a:pt x="8030" y="2434"/>
                    </a:lnTo>
                    <a:lnTo>
                      <a:pt x="8040" y="2388"/>
                    </a:lnTo>
                    <a:lnTo>
                      <a:pt x="8050" y="2341"/>
                    </a:lnTo>
                    <a:lnTo>
                      <a:pt x="8059" y="2293"/>
                    </a:lnTo>
                    <a:lnTo>
                      <a:pt x="8067" y="2245"/>
                    </a:lnTo>
                    <a:lnTo>
                      <a:pt x="8075" y="2198"/>
                    </a:lnTo>
                    <a:lnTo>
                      <a:pt x="8082" y="2149"/>
                    </a:lnTo>
                    <a:lnTo>
                      <a:pt x="8089" y="2101"/>
                    </a:lnTo>
                    <a:lnTo>
                      <a:pt x="8095" y="2053"/>
                    </a:lnTo>
                    <a:lnTo>
                      <a:pt x="8101" y="2005"/>
                    </a:lnTo>
                    <a:lnTo>
                      <a:pt x="8106" y="1955"/>
                    </a:lnTo>
                    <a:lnTo>
                      <a:pt x="8110" y="1906"/>
                    </a:lnTo>
                    <a:lnTo>
                      <a:pt x="8114" y="1858"/>
                    </a:lnTo>
                    <a:lnTo>
                      <a:pt x="8117" y="1808"/>
                    </a:lnTo>
                    <a:lnTo>
                      <a:pt x="8120" y="1758"/>
                    </a:lnTo>
                    <a:lnTo>
                      <a:pt x="8122" y="1709"/>
                    </a:lnTo>
                    <a:lnTo>
                      <a:pt x="8123" y="1659"/>
                    </a:lnTo>
                    <a:lnTo>
                      <a:pt x="8124" y="1609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35"/>
                    </a:lnTo>
                    <a:lnTo>
                      <a:pt x="8041" y="1687"/>
                    </a:lnTo>
                    <a:lnTo>
                      <a:pt x="8040" y="1739"/>
                    </a:lnTo>
                    <a:lnTo>
                      <a:pt x="8037" y="1792"/>
                    </a:lnTo>
                    <a:lnTo>
                      <a:pt x="8034" y="1844"/>
                    </a:lnTo>
                    <a:lnTo>
                      <a:pt x="8030" y="1896"/>
                    </a:lnTo>
                    <a:lnTo>
                      <a:pt x="8026" y="1947"/>
                    </a:lnTo>
                    <a:lnTo>
                      <a:pt x="8021" y="1998"/>
                    </a:lnTo>
                    <a:lnTo>
                      <a:pt x="8015" y="2049"/>
                    </a:lnTo>
                    <a:lnTo>
                      <a:pt x="8009" y="2101"/>
                    </a:lnTo>
                    <a:lnTo>
                      <a:pt x="8002" y="2152"/>
                    </a:lnTo>
                    <a:lnTo>
                      <a:pt x="7994" y="2202"/>
                    </a:lnTo>
                    <a:lnTo>
                      <a:pt x="7987" y="2252"/>
                    </a:lnTo>
                    <a:lnTo>
                      <a:pt x="7978" y="2303"/>
                    </a:lnTo>
                    <a:lnTo>
                      <a:pt x="7968" y="2353"/>
                    </a:lnTo>
                    <a:lnTo>
                      <a:pt x="7958" y="2402"/>
                    </a:lnTo>
                    <a:lnTo>
                      <a:pt x="7948" y="2452"/>
                    </a:lnTo>
                    <a:lnTo>
                      <a:pt x="7936" y="2501"/>
                    </a:lnTo>
                    <a:lnTo>
                      <a:pt x="7924" y="2550"/>
                    </a:lnTo>
                    <a:lnTo>
                      <a:pt x="7912" y="2599"/>
                    </a:lnTo>
                    <a:lnTo>
                      <a:pt x="7899" y="2648"/>
                    </a:lnTo>
                    <a:lnTo>
                      <a:pt x="7885" y="2696"/>
                    </a:lnTo>
                    <a:lnTo>
                      <a:pt x="7871" y="2744"/>
                    </a:lnTo>
                    <a:lnTo>
                      <a:pt x="7856" y="2791"/>
                    </a:lnTo>
                    <a:lnTo>
                      <a:pt x="7841" y="2839"/>
                    </a:lnTo>
                    <a:lnTo>
                      <a:pt x="7825" y="2886"/>
                    </a:lnTo>
                    <a:lnTo>
                      <a:pt x="7808" y="2934"/>
                    </a:lnTo>
                    <a:lnTo>
                      <a:pt x="7791" y="2980"/>
                    </a:lnTo>
                    <a:lnTo>
                      <a:pt x="7773" y="3027"/>
                    </a:lnTo>
                    <a:lnTo>
                      <a:pt x="7754" y="3073"/>
                    </a:lnTo>
                    <a:lnTo>
                      <a:pt x="7736" y="3118"/>
                    </a:lnTo>
                    <a:lnTo>
                      <a:pt x="7717" y="3165"/>
                    </a:lnTo>
                    <a:lnTo>
                      <a:pt x="7725" y="3158"/>
                    </a:lnTo>
                    <a:lnTo>
                      <a:pt x="7733" y="3153"/>
                    </a:lnTo>
                    <a:lnTo>
                      <a:pt x="7741" y="3148"/>
                    </a:lnTo>
                    <a:lnTo>
                      <a:pt x="7749" y="3141"/>
                    </a:lnTo>
                    <a:lnTo>
                      <a:pt x="7758" y="3136"/>
                    </a:lnTo>
                    <a:lnTo>
                      <a:pt x="7765" y="3130"/>
                    </a:lnTo>
                    <a:lnTo>
                      <a:pt x="7773" y="3124"/>
                    </a:lnTo>
                    <a:lnTo>
                      <a:pt x="7781" y="3118"/>
                    </a:lnTo>
                    <a:lnTo>
                      <a:pt x="7800" y="3074"/>
                    </a:lnTo>
                    <a:lnTo>
                      <a:pt x="7817" y="3029"/>
                    </a:lnTo>
                    <a:lnTo>
                      <a:pt x="7833" y="2985"/>
                    </a:lnTo>
                    <a:lnTo>
                      <a:pt x="7851" y="2939"/>
                    </a:lnTo>
                    <a:lnTo>
                      <a:pt x="7866" y="2894"/>
                    </a:lnTo>
                    <a:lnTo>
                      <a:pt x="7882" y="2847"/>
                    </a:lnTo>
                    <a:lnTo>
                      <a:pt x="7896" y="2801"/>
                    </a:lnTo>
                    <a:lnTo>
                      <a:pt x="7911" y="2756"/>
                    </a:lnTo>
                    <a:lnTo>
                      <a:pt x="7925" y="2709"/>
                    </a:lnTo>
                    <a:lnTo>
                      <a:pt x="7938" y="2662"/>
                    </a:lnTo>
                    <a:lnTo>
                      <a:pt x="7951" y="2615"/>
                    </a:lnTo>
                    <a:lnTo>
                      <a:pt x="7963" y="2568"/>
                    </a:lnTo>
                    <a:lnTo>
                      <a:pt x="7975" y="2520"/>
                    </a:lnTo>
                    <a:lnTo>
                      <a:pt x="7986" y="2473"/>
                    </a:lnTo>
                    <a:lnTo>
                      <a:pt x="7995" y="2425"/>
                    </a:lnTo>
                    <a:lnTo>
                      <a:pt x="8006" y="2376"/>
                    </a:lnTo>
                    <a:lnTo>
                      <a:pt x="8015" y="2329"/>
                    </a:lnTo>
                    <a:lnTo>
                      <a:pt x="8023" y="2280"/>
                    </a:lnTo>
                    <a:lnTo>
                      <a:pt x="8032" y="2232"/>
                    </a:lnTo>
                    <a:lnTo>
                      <a:pt x="8040" y="2182"/>
                    </a:lnTo>
                    <a:lnTo>
                      <a:pt x="8046" y="2133"/>
                    </a:lnTo>
                    <a:lnTo>
                      <a:pt x="8053" y="2084"/>
                    </a:lnTo>
                    <a:lnTo>
                      <a:pt x="8059" y="2035"/>
                    </a:lnTo>
                    <a:lnTo>
                      <a:pt x="8064" y="1986"/>
                    </a:lnTo>
                    <a:lnTo>
                      <a:pt x="8069" y="1936"/>
                    </a:lnTo>
                    <a:lnTo>
                      <a:pt x="8073" y="1885"/>
                    </a:lnTo>
                    <a:lnTo>
                      <a:pt x="8076" y="1835"/>
                    </a:lnTo>
                    <a:lnTo>
                      <a:pt x="8079" y="1785"/>
                    </a:lnTo>
                    <a:lnTo>
                      <a:pt x="8081" y="1735"/>
                    </a:lnTo>
                    <a:lnTo>
                      <a:pt x="8083" y="1684"/>
                    </a:lnTo>
                    <a:lnTo>
                      <a:pt x="8084" y="1633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57"/>
                    </a:lnTo>
                    <a:lnTo>
                      <a:pt x="7999" y="1711"/>
                    </a:lnTo>
                    <a:lnTo>
                      <a:pt x="7997" y="1764"/>
                    </a:lnTo>
                    <a:lnTo>
                      <a:pt x="7995" y="1816"/>
                    </a:lnTo>
                    <a:lnTo>
                      <a:pt x="7992" y="1868"/>
                    </a:lnTo>
                    <a:lnTo>
                      <a:pt x="7988" y="1921"/>
                    </a:lnTo>
                    <a:lnTo>
                      <a:pt x="7983" y="1974"/>
                    </a:lnTo>
                    <a:lnTo>
                      <a:pt x="7979" y="2026"/>
                    </a:lnTo>
                    <a:lnTo>
                      <a:pt x="7972" y="2078"/>
                    </a:lnTo>
                    <a:lnTo>
                      <a:pt x="7966" y="2130"/>
                    </a:lnTo>
                    <a:lnTo>
                      <a:pt x="7959" y="2181"/>
                    </a:lnTo>
                    <a:lnTo>
                      <a:pt x="7951" y="2232"/>
                    </a:lnTo>
                    <a:lnTo>
                      <a:pt x="7942" y="2283"/>
                    </a:lnTo>
                    <a:lnTo>
                      <a:pt x="7933" y="2335"/>
                    </a:lnTo>
                    <a:lnTo>
                      <a:pt x="7924" y="2385"/>
                    </a:lnTo>
                    <a:lnTo>
                      <a:pt x="7913" y="2435"/>
                    </a:lnTo>
                    <a:lnTo>
                      <a:pt x="7902" y="2486"/>
                    </a:lnTo>
                    <a:lnTo>
                      <a:pt x="7890" y="2536"/>
                    </a:lnTo>
                    <a:lnTo>
                      <a:pt x="7878" y="2585"/>
                    </a:lnTo>
                    <a:lnTo>
                      <a:pt x="7865" y="2635"/>
                    </a:lnTo>
                    <a:lnTo>
                      <a:pt x="7851" y="2684"/>
                    </a:lnTo>
                    <a:lnTo>
                      <a:pt x="7837" y="2733"/>
                    </a:lnTo>
                    <a:lnTo>
                      <a:pt x="7823" y="2782"/>
                    </a:lnTo>
                    <a:lnTo>
                      <a:pt x="7808" y="2831"/>
                    </a:lnTo>
                    <a:lnTo>
                      <a:pt x="7792" y="2878"/>
                    </a:lnTo>
                    <a:lnTo>
                      <a:pt x="7774" y="2926"/>
                    </a:lnTo>
                    <a:lnTo>
                      <a:pt x="7758" y="2974"/>
                    </a:lnTo>
                    <a:lnTo>
                      <a:pt x="7740" y="3021"/>
                    </a:lnTo>
                    <a:lnTo>
                      <a:pt x="7721" y="3068"/>
                    </a:lnTo>
                    <a:lnTo>
                      <a:pt x="7703" y="3115"/>
                    </a:lnTo>
                    <a:lnTo>
                      <a:pt x="7684" y="3161"/>
                    </a:lnTo>
                    <a:lnTo>
                      <a:pt x="7663" y="3207"/>
                    </a:lnTo>
                    <a:lnTo>
                      <a:pt x="7672" y="3202"/>
                    </a:lnTo>
                    <a:lnTo>
                      <a:pt x="7679" y="3197"/>
                    </a:lnTo>
                    <a:lnTo>
                      <a:pt x="7688" y="3190"/>
                    </a:lnTo>
                    <a:lnTo>
                      <a:pt x="7697" y="3185"/>
                    </a:lnTo>
                    <a:lnTo>
                      <a:pt x="7704" y="3179"/>
                    </a:lnTo>
                    <a:lnTo>
                      <a:pt x="7713" y="3174"/>
                    </a:lnTo>
                    <a:lnTo>
                      <a:pt x="7720" y="3168"/>
                    </a:lnTo>
                    <a:lnTo>
                      <a:pt x="7728" y="3162"/>
                    </a:lnTo>
                    <a:lnTo>
                      <a:pt x="7747" y="3117"/>
                    </a:lnTo>
                    <a:lnTo>
                      <a:pt x="7766" y="3071"/>
                    </a:lnTo>
                    <a:lnTo>
                      <a:pt x="7783" y="3026"/>
                    </a:lnTo>
                    <a:lnTo>
                      <a:pt x="7800" y="2981"/>
                    </a:lnTo>
                    <a:lnTo>
                      <a:pt x="7817" y="2934"/>
                    </a:lnTo>
                    <a:lnTo>
                      <a:pt x="7833" y="2888"/>
                    </a:lnTo>
                    <a:lnTo>
                      <a:pt x="7848" y="2841"/>
                    </a:lnTo>
                    <a:lnTo>
                      <a:pt x="7863" y="2794"/>
                    </a:lnTo>
                    <a:lnTo>
                      <a:pt x="7877" y="2747"/>
                    </a:lnTo>
                    <a:lnTo>
                      <a:pt x="7891" y="2700"/>
                    </a:lnTo>
                    <a:lnTo>
                      <a:pt x="7904" y="2652"/>
                    </a:lnTo>
                    <a:lnTo>
                      <a:pt x="7916" y="2604"/>
                    </a:lnTo>
                    <a:lnTo>
                      <a:pt x="7929" y="2556"/>
                    </a:lnTo>
                    <a:lnTo>
                      <a:pt x="7940" y="2508"/>
                    </a:lnTo>
                    <a:lnTo>
                      <a:pt x="7951" y="2459"/>
                    </a:lnTo>
                    <a:lnTo>
                      <a:pt x="7961" y="2410"/>
                    </a:lnTo>
                    <a:lnTo>
                      <a:pt x="7971" y="2362"/>
                    </a:lnTo>
                    <a:lnTo>
                      <a:pt x="7980" y="2312"/>
                    </a:lnTo>
                    <a:lnTo>
                      <a:pt x="7988" y="2262"/>
                    </a:lnTo>
                    <a:lnTo>
                      <a:pt x="7996" y="2213"/>
                    </a:lnTo>
                    <a:lnTo>
                      <a:pt x="8004" y="2163"/>
                    </a:lnTo>
                    <a:lnTo>
                      <a:pt x="8010" y="2113"/>
                    </a:lnTo>
                    <a:lnTo>
                      <a:pt x="8016" y="2063"/>
                    </a:lnTo>
                    <a:lnTo>
                      <a:pt x="8022" y="2013"/>
                    </a:lnTo>
                    <a:lnTo>
                      <a:pt x="8026" y="1962"/>
                    </a:lnTo>
                    <a:lnTo>
                      <a:pt x="8031" y="1911"/>
                    </a:lnTo>
                    <a:lnTo>
                      <a:pt x="8034" y="1861"/>
                    </a:lnTo>
                    <a:lnTo>
                      <a:pt x="8037" y="1810"/>
                    </a:lnTo>
                    <a:lnTo>
                      <a:pt x="8039" y="1758"/>
                    </a:lnTo>
                    <a:lnTo>
                      <a:pt x="8041" y="1706"/>
                    </a:lnTo>
                    <a:lnTo>
                      <a:pt x="8041" y="1656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de4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60" y="1681"/>
                    </a:lnTo>
                    <a:lnTo>
                      <a:pt x="7959" y="1735"/>
                    </a:lnTo>
                    <a:lnTo>
                      <a:pt x="7956" y="1789"/>
                    </a:lnTo>
                    <a:lnTo>
                      <a:pt x="7954" y="1843"/>
                    </a:lnTo>
                    <a:lnTo>
                      <a:pt x="7951" y="1896"/>
                    </a:lnTo>
                    <a:lnTo>
                      <a:pt x="7947" y="1950"/>
                    </a:lnTo>
                    <a:lnTo>
                      <a:pt x="7942" y="2003"/>
                    </a:lnTo>
                    <a:lnTo>
                      <a:pt x="7937" y="2055"/>
                    </a:lnTo>
                    <a:lnTo>
                      <a:pt x="7931" y="2108"/>
                    </a:lnTo>
                    <a:lnTo>
                      <a:pt x="7924" y="2160"/>
                    </a:lnTo>
                    <a:lnTo>
                      <a:pt x="7917" y="2213"/>
                    </a:lnTo>
                    <a:lnTo>
                      <a:pt x="7908" y="2265"/>
                    </a:lnTo>
                    <a:lnTo>
                      <a:pt x="7899" y="2317"/>
                    </a:lnTo>
                    <a:lnTo>
                      <a:pt x="7891" y="2369"/>
                    </a:lnTo>
                    <a:lnTo>
                      <a:pt x="7880" y="2419"/>
                    </a:lnTo>
                    <a:lnTo>
                      <a:pt x="7869" y="2471"/>
                    </a:lnTo>
                    <a:lnTo>
                      <a:pt x="7858" y="2522"/>
                    </a:lnTo>
                    <a:lnTo>
                      <a:pt x="7846" y="2573"/>
                    </a:lnTo>
                    <a:lnTo>
                      <a:pt x="7833" y="2622"/>
                    </a:lnTo>
                    <a:lnTo>
                      <a:pt x="7819" y="2673"/>
                    </a:lnTo>
                    <a:lnTo>
                      <a:pt x="7805" y="2723"/>
                    </a:lnTo>
                    <a:lnTo>
                      <a:pt x="7791" y="2773"/>
                    </a:lnTo>
                    <a:lnTo>
                      <a:pt x="7776" y="2821"/>
                    </a:lnTo>
                    <a:lnTo>
                      <a:pt x="7760" y="2871"/>
                    </a:lnTo>
                    <a:lnTo>
                      <a:pt x="7744" y="2919"/>
                    </a:lnTo>
                    <a:lnTo>
                      <a:pt x="7726" y="2968"/>
                    </a:lnTo>
                    <a:lnTo>
                      <a:pt x="7709" y="3016"/>
                    </a:lnTo>
                    <a:lnTo>
                      <a:pt x="7691" y="3064"/>
                    </a:lnTo>
                    <a:lnTo>
                      <a:pt x="7671" y="3112"/>
                    </a:lnTo>
                    <a:lnTo>
                      <a:pt x="7652" y="3159"/>
                    </a:lnTo>
                    <a:lnTo>
                      <a:pt x="7631" y="3206"/>
                    </a:lnTo>
                    <a:lnTo>
                      <a:pt x="7611" y="3252"/>
                    </a:lnTo>
                    <a:lnTo>
                      <a:pt x="7619" y="3247"/>
                    </a:lnTo>
                    <a:lnTo>
                      <a:pt x="7627" y="3241"/>
                    </a:lnTo>
                    <a:lnTo>
                      <a:pt x="7636" y="3236"/>
                    </a:lnTo>
                    <a:lnTo>
                      <a:pt x="7643" y="3230"/>
                    </a:lnTo>
                    <a:lnTo>
                      <a:pt x="7652" y="3225"/>
                    </a:lnTo>
                    <a:lnTo>
                      <a:pt x="7659" y="3220"/>
                    </a:lnTo>
                    <a:lnTo>
                      <a:pt x="7668" y="3214"/>
                    </a:lnTo>
                    <a:lnTo>
                      <a:pt x="7676" y="3209"/>
                    </a:lnTo>
                    <a:lnTo>
                      <a:pt x="7695" y="3162"/>
                    </a:lnTo>
                    <a:lnTo>
                      <a:pt x="7713" y="3117"/>
                    </a:lnTo>
                    <a:lnTo>
                      <a:pt x="7732" y="3071"/>
                    </a:lnTo>
                    <a:lnTo>
                      <a:pt x="7750" y="3024"/>
                    </a:lnTo>
                    <a:lnTo>
                      <a:pt x="7767" y="2978"/>
                    </a:lnTo>
                    <a:lnTo>
                      <a:pt x="7784" y="2930"/>
                    </a:lnTo>
                    <a:lnTo>
                      <a:pt x="7800" y="2883"/>
                    </a:lnTo>
                    <a:lnTo>
                      <a:pt x="7815" y="2835"/>
                    </a:lnTo>
                    <a:lnTo>
                      <a:pt x="7830" y="2788"/>
                    </a:lnTo>
                    <a:lnTo>
                      <a:pt x="7844" y="2740"/>
                    </a:lnTo>
                    <a:lnTo>
                      <a:pt x="7858" y="2692"/>
                    </a:lnTo>
                    <a:lnTo>
                      <a:pt x="7871" y="2643"/>
                    </a:lnTo>
                    <a:lnTo>
                      <a:pt x="7883" y="2594"/>
                    </a:lnTo>
                    <a:lnTo>
                      <a:pt x="7895" y="2545"/>
                    </a:lnTo>
                    <a:lnTo>
                      <a:pt x="7907" y="2496"/>
                    </a:lnTo>
                    <a:lnTo>
                      <a:pt x="7917" y="2446"/>
                    </a:lnTo>
                    <a:lnTo>
                      <a:pt x="7927" y="2397"/>
                    </a:lnTo>
                    <a:lnTo>
                      <a:pt x="7937" y="2347"/>
                    </a:lnTo>
                    <a:lnTo>
                      <a:pt x="7946" y="2296"/>
                    </a:lnTo>
                    <a:lnTo>
                      <a:pt x="7953" y="2246"/>
                    </a:lnTo>
                    <a:lnTo>
                      <a:pt x="7961" y="2196"/>
                    </a:lnTo>
                    <a:lnTo>
                      <a:pt x="7968" y="2145"/>
                    </a:lnTo>
                    <a:lnTo>
                      <a:pt x="7974" y="2093"/>
                    </a:lnTo>
                    <a:lnTo>
                      <a:pt x="7980" y="2042"/>
                    </a:lnTo>
                    <a:lnTo>
                      <a:pt x="7985" y="1991"/>
                    </a:lnTo>
                    <a:lnTo>
                      <a:pt x="7989" y="1940"/>
                    </a:lnTo>
                    <a:lnTo>
                      <a:pt x="7993" y="1888"/>
                    </a:lnTo>
                    <a:lnTo>
                      <a:pt x="7996" y="1836"/>
                    </a:lnTo>
                    <a:lnTo>
                      <a:pt x="7999" y="1783"/>
                    </a:lnTo>
                    <a:lnTo>
                      <a:pt x="8000" y="1731"/>
                    </a:lnTo>
                    <a:lnTo>
                      <a:pt x="8001" y="1679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03"/>
                    </a:lnTo>
                    <a:lnTo>
                      <a:pt x="7915" y="1758"/>
                    </a:lnTo>
                    <a:lnTo>
                      <a:pt x="7914" y="1812"/>
                    </a:lnTo>
                    <a:lnTo>
                      <a:pt x="7911" y="1867"/>
                    </a:lnTo>
                    <a:lnTo>
                      <a:pt x="7907" y="1921"/>
                    </a:lnTo>
                    <a:lnTo>
                      <a:pt x="7903" y="1975"/>
                    </a:lnTo>
                    <a:lnTo>
                      <a:pt x="7899" y="2029"/>
                    </a:lnTo>
                    <a:lnTo>
                      <a:pt x="7893" y="2083"/>
                    </a:lnTo>
                    <a:lnTo>
                      <a:pt x="7887" y="2136"/>
                    </a:lnTo>
                    <a:lnTo>
                      <a:pt x="7879" y="2189"/>
                    </a:lnTo>
                    <a:lnTo>
                      <a:pt x="7872" y="2243"/>
                    </a:lnTo>
                    <a:lnTo>
                      <a:pt x="7863" y="2295"/>
                    </a:lnTo>
                    <a:lnTo>
                      <a:pt x="7855" y="2348"/>
                    </a:lnTo>
                    <a:lnTo>
                      <a:pt x="7845" y="2399"/>
                    </a:lnTo>
                    <a:lnTo>
                      <a:pt x="7834" y="2452"/>
                    </a:lnTo>
                    <a:lnTo>
                      <a:pt x="7823" y="2504"/>
                    </a:lnTo>
                    <a:lnTo>
                      <a:pt x="7811" y="2555"/>
                    </a:lnTo>
                    <a:lnTo>
                      <a:pt x="7799" y="2607"/>
                    </a:lnTo>
                    <a:lnTo>
                      <a:pt x="7785" y="2657"/>
                    </a:lnTo>
                    <a:lnTo>
                      <a:pt x="7772" y="2708"/>
                    </a:lnTo>
                    <a:lnTo>
                      <a:pt x="7757" y="2759"/>
                    </a:lnTo>
                    <a:lnTo>
                      <a:pt x="7742" y="2809"/>
                    </a:lnTo>
                    <a:lnTo>
                      <a:pt x="7726" y="2859"/>
                    </a:lnTo>
                    <a:lnTo>
                      <a:pt x="7710" y="2909"/>
                    </a:lnTo>
                    <a:lnTo>
                      <a:pt x="7692" y="2958"/>
                    </a:lnTo>
                    <a:lnTo>
                      <a:pt x="7675" y="3007"/>
                    </a:lnTo>
                    <a:lnTo>
                      <a:pt x="7657" y="3056"/>
                    </a:lnTo>
                    <a:lnTo>
                      <a:pt x="7638" y="3105"/>
                    </a:lnTo>
                    <a:lnTo>
                      <a:pt x="7618" y="3152"/>
                    </a:lnTo>
                    <a:lnTo>
                      <a:pt x="7598" y="3200"/>
                    </a:lnTo>
                    <a:lnTo>
                      <a:pt x="7578" y="3247"/>
                    </a:lnTo>
                    <a:lnTo>
                      <a:pt x="7556" y="3295"/>
                    </a:lnTo>
                    <a:lnTo>
                      <a:pt x="7564" y="3289"/>
                    </a:lnTo>
                    <a:lnTo>
                      <a:pt x="7573" y="3284"/>
                    </a:lnTo>
                    <a:lnTo>
                      <a:pt x="7581" y="3278"/>
                    </a:lnTo>
                    <a:lnTo>
                      <a:pt x="7589" y="3273"/>
                    </a:lnTo>
                    <a:lnTo>
                      <a:pt x="7597" y="3268"/>
                    </a:lnTo>
                    <a:lnTo>
                      <a:pt x="7605" y="3262"/>
                    </a:lnTo>
                    <a:lnTo>
                      <a:pt x="7614" y="3257"/>
                    </a:lnTo>
                    <a:lnTo>
                      <a:pt x="7621" y="3251"/>
                    </a:lnTo>
                    <a:lnTo>
                      <a:pt x="7642" y="3205"/>
                    </a:lnTo>
                    <a:lnTo>
                      <a:pt x="7661" y="3159"/>
                    </a:lnTo>
                    <a:lnTo>
                      <a:pt x="7679" y="3112"/>
                    </a:lnTo>
                    <a:lnTo>
                      <a:pt x="7698" y="3065"/>
                    </a:lnTo>
                    <a:lnTo>
                      <a:pt x="7716" y="3018"/>
                    </a:lnTo>
                    <a:lnTo>
                      <a:pt x="7732" y="2970"/>
                    </a:lnTo>
                    <a:lnTo>
                      <a:pt x="7750" y="2922"/>
                    </a:lnTo>
                    <a:lnTo>
                      <a:pt x="7766" y="2875"/>
                    </a:lnTo>
                    <a:lnTo>
                      <a:pt x="7781" y="2826"/>
                    </a:lnTo>
                    <a:lnTo>
                      <a:pt x="7795" y="2777"/>
                    </a:lnTo>
                    <a:lnTo>
                      <a:pt x="7809" y="2728"/>
                    </a:lnTo>
                    <a:lnTo>
                      <a:pt x="7823" y="2679"/>
                    </a:lnTo>
                    <a:lnTo>
                      <a:pt x="7836" y="2629"/>
                    </a:lnTo>
                    <a:lnTo>
                      <a:pt x="7848" y="2580"/>
                    </a:lnTo>
                    <a:lnTo>
                      <a:pt x="7860" y="2530"/>
                    </a:lnTo>
                    <a:lnTo>
                      <a:pt x="7871" y="2479"/>
                    </a:lnTo>
                    <a:lnTo>
                      <a:pt x="7882" y="2429"/>
                    </a:lnTo>
                    <a:lnTo>
                      <a:pt x="7891" y="2379"/>
                    </a:lnTo>
                    <a:lnTo>
                      <a:pt x="7900" y="2327"/>
                    </a:lnTo>
                    <a:lnTo>
                      <a:pt x="7909" y="2276"/>
                    </a:lnTo>
                    <a:lnTo>
                      <a:pt x="7917" y="2225"/>
                    </a:lnTo>
                    <a:lnTo>
                      <a:pt x="7924" y="2174"/>
                    </a:lnTo>
                    <a:lnTo>
                      <a:pt x="7930" y="2122"/>
                    </a:lnTo>
                    <a:lnTo>
                      <a:pt x="7937" y="2070"/>
                    </a:lnTo>
                    <a:lnTo>
                      <a:pt x="7941" y="2018"/>
                    </a:lnTo>
                    <a:lnTo>
                      <a:pt x="7946" y="1965"/>
                    </a:lnTo>
                    <a:lnTo>
                      <a:pt x="7950" y="1912"/>
                    </a:lnTo>
                    <a:lnTo>
                      <a:pt x="7953" y="1860"/>
                    </a:lnTo>
                    <a:lnTo>
                      <a:pt x="7955" y="1808"/>
                    </a:lnTo>
                    <a:lnTo>
                      <a:pt x="7957" y="1755"/>
                    </a:lnTo>
                    <a:lnTo>
                      <a:pt x="7958" y="1701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24"/>
                    </a:lnTo>
                    <a:lnTo>
                      <a:pt x="7874" y="1780"/>
                    </a:lnTo>
                    <a:lnTo>
                      <a:pt x="7871" y="1835"/>
                    </a:lnTo>
                    <a:lnTo>
                      <a:pt x="7869" y="1891"/>
                    </a:lnTo>
                    <a:lnTo>
                      <a:pt x="7865" y="1946"/>
                    </a:lnTo>
                    <a:lnTo>
                      <a:pt x="7861" y="2000"/>
                    </a:lnTo>
                    <a:lnTo>
                      <a:pt x="7856" y="2055"/>
                    </a:lnTo>
                    <a:lnTo>
                      <a:pt x="7851" y="2109"/>
                    </a:lnTo>
                    <a:lnTo>
                      <a:pt x="7844" y="2164"/>
                    </a:lnTo>
                    <a:lnTo>
                      <a:pt x="7837" y="2218"/>
                    </a:lnTo>
                    <a:lnTo>
                      <a:pt x="7829" y="2271"/>
                    </a:lnTo>
                    <a:lnTo>
                      <a:pt x="7819" y="2325"/>
                    </a:lnTo>
                    <a:lnTo>
                      <a:pt x="7811" y="2378"/>
                    </a:lnTo>
                    <a:lnTo>
                      <a:pt x="7800" y="2431"/>
                    </a:lnTo>
                    <a:lnTo>
                      <a:pt x="7789" y="2484"/>
                    </a:lnTo>
                    <a:lnTo>
                      <a:pt x="7778" y="2537"/>
                    </a:lnTo>
                    <a:lnTo>
                      <a:pt x="7765" y="2589"/>
                    </a:lnTo>
                    <a:lnTo>
                      <a:pt x="7752" y="2641"/>
                    </a:lnTo>
                    <a:lnTo>
                      <a:pt x="7740" y="2693"/>
                    </a:lnTo>
                    <a:lnTo>
                      <a:pt x="7725" y="2744"/>
                    </a:lnTo>
                    <a:lnTo>
                      <a:pt x="7710" y="2795"/>
                    </a:lnTo>
                    <a:lnTo>
                      <a:pt x="7694" y="2846"/>
                    </a:lnTo>
                    <a:lnTo>
                      <a:pt x="7678" y="2897"/>
                    </a:lnTo>
                    <a:lnTo>
                      <a:pt x="7661" y="2946"/>
                    </a:lnTo>
                    <a:lnTo>
                      <a:pt x="7643" y="2997"/>
                    </a:lnTo>
                    <a:lnTo>
                      <a:pt x="7625" y="3047"/>
                    </a:lnTo>
                    <a:lnTo>
                      <a:pt x="7607" y="3095"/>
                    </a:lnTo>
                    <a:lnTo>
                      <a:pt x="7587" y="3145"/>
                    </a:lnTo>
                    <a:lnTo>
                      <a:pt x="7567" y="3194"/>
                    </a:lnTo>
                    <a:lnTo>
                      <a:pt x="7546" y="3241"/>
                    </a:lnTo>
                    <a:lnTo>
                      <a:pt x="7524" y="3290"/>
                    </a:lnTo>
                    <a:lnTo>
                      <a:pt x="7502" y="3337"/>
                    </a:lnTo>
                    <a:lnTo>
                      <a:pt x="7510" y="3332"/>
                    </a:lnTo>
                    <a:lnTo>
                      <a:pt x="7519" y="3326"/>
                    </a:lnTo>
                    <a:lnTo>
                      <a:pt x="7527" y="3321"/>
                    </a:lnTo>
                    <a:lnTo>
                      <a:pt x="7535" y="3316"/>
                    </a:lnTo>
                    <a:lnTo>
                      <a:pt x="7544" y="3310"/>
                    </a:lnTo>
                    <a:lnTo>
                      <a:pt x="7552" y="3305"/>
                    </a:lnTo>
                    <a:lnTo>
                      <a:pt x="7560" y="3299"/>
                    </a:lnTo>
                    <a:lnTo>
                      <a:pt x="7568" y="3294"/>
                    </a:lnTo>
                    <a:lnTo>
                      <a:pt x="7588" y="3248"/>
                    </a:lnTo>
                    <a:lnTo>
                      <a:pt x="7609" y="3201"/>
                    </a:lnTo>
                    <a:lnTo>
                      <a:pt x="7628" y="3154"/>
                    </a:lnTo>
                    <a:lnTo>
                      <a:pt x="7648" y="3106"/>
                    </a:lnTo>
                    <a:lnTo>
                      <a:pt x="7666" y="3058"/>
                    </a:lnTo>
                    <a:lnTo>
                      <a:pt x="7683" y="3010"/>
                    </a:lnTo>
                    <a:lnTo>
                      <a:pt x="7701" y="2961"/>
                    </a:lnTo>
                    <a:lnTo>
                      <a:pt x="7717" y="2913"/>
                    </a:lnTo>
                    <a:lnTo>
                      <a:pt x="7733" y="2863"/>
                    </a:lnTo>
                    <a:lnTo>
                      <a:pt x="7748" y="2815"/>
                    </a:lnTo>
                    <a:lnTo>
                      <a:pt x="7762" y="2765"/>
                    </a:lnTo>
                    <a:lnTo>
                      <a:pt x="7776" y="2715"/>
                    </a:lnTo>
                    <a:lnTo>
                      <a:pt x="7790" y="2664"/>
                    </a:lnTo>
                    <a:lnTo>
                      <a:pt x="7803" y="2615"/>
                    </a:lnTo>
                    <a:lnTo>
                      <a:pt x="7815" y="2564"/>
                    </a:lnTo>
                    <a:lnTo>
                      <a:pt x="7826" y="2513"/>
                    </a:lnTo>
                    <a:lnTo>
                      <a:pt x="7837" y="2461"/>
                    </a:lnTo>
                    <a:lnTo>
                      <a:pt x="7848" y="2411"/>
                    </a:lnTo>
                    <a:lnTo>
                      <a:pt x="7856" y="2359"/>
                    </a:lnTo>
                    <a:lnTo>
                      <a:pt x="7865" y="2307"/>
                    </a:lnTo>
                    <a:lnTo>
                      <a:pt x="7874" y="2255"/>
                    </a:lnTo>
                    <a:lnTo>
                      <a:pt x="7881" y="2202"/>
                    </a:lnTo>
                    <a:lnTo>
                      <a:pt x="7888" y="2150"/>
                    </a:lnTo>
                    <a:lnTo>
                      <a:pt x="7894" y="2097"/>
                    </a:lnTo>
                    <a:lnTo>
                      <a:pt x="7899" y="2045"/>
                    </a:lnTo>
                    <a:lnTo>
                      <a:pt x="7904" y="1992"/>
                    </a:lnTo>
                    <a:lnTo>
                      <a:pt x="7908" y="1938"/>
                    </a:lnTo>
                    <a:lnTo>
                      <a:pt x="7911" y="1885"/>
                    </a:lnTo>
                    <a:lnTo>
                      <a:pt x="7913" y="1831"/>
                    </a:lnTo>
                    <a:lnTo>
                      <a:pt x="7916" y="1777"/>
                    </a:lnTo>
                    <a:lnTo>
                      <a:pt x="7917" y="1723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45"/>
                    </a:lnTo>
                    <a:lnTo>
                      <a:pt x="7833" y="1801"/>
                    </a:lnTo>
                    <a:lnTo>
                      <a:pt x="7831" y="1858"/>
                    </a:lnTo>
                    <a:lnTo>
                      <a:pt x="7828" y="1913"/>
                    </a:lnTo>
                    <a:lnTo>
                      <a:pt x="7824" y="1969"/>
                    </a:lnTo>
                    <a:lnTo>
                      <a:pt x="7820" y="2026"/>
                    </a:lnTo>
                    <a:lnTo>
                      <a:pt x="7815" y="2081"/>
                    </a:lnTo>
                    <a:lnTo>
                      <a:pt x="7809" y="2136"/>
                    </a:lnTo>
                    <a:lnTo>
                      <a:pt x="7802" y="2191"/>
                    </a:lnTo>
                    <a:lnTo>
                      <a:pt x="7794" y="2245"/>
                    </a:lnTo>
                    <a:lnTo>
                      <a:pt x="7787" y="2300"/>
                    </a:lnTo>
                    <a:lnTo>
                      <a:pt x="7778" y="2354"/>
                    </a:lnTo>
                    <a:lnTo>
                      <a:pt x="7768" y="2408"/>
                    </a:lnTo>
                    <a:lnTo>
                      <a:pt x="7757" y="2462"/>
                    </a:lnTo>
                    <a:lnTo>
                      <a:pt x="7747" y="2515"/>
                    </a:lnTo>
                    <a:lnTo>
                      <a:pt x="7735" y="2568"/>
                    </a:lnTo>
                    <a:lnTo>
                      <a:pt x="7722" y="2621"/>
                    </a:lnTo>
                    <a:lnTo>
                      <a:pt x="7709" y="2674"/>
                    </a:lnTo>
                    <a:lnTo>
                      <a:pt x="7695" y="2727"/>
                    </a:lnTo>
                    <a:lnTo>
                      <a:pt x="7680" y="2778"/>
                    </a:lnTo>
                    <a:lnTo>
                      <a:pt x="7664" y="2830"/>
                    </a:lnTo>
                    <a:lnTo>
                      <a:pt x="7648" y="2881"/>
                    </a:lnTo>
                    <a:lnTo>
                      <a:pt x="7631" y="2933"/>
                    </a:lnTo>
                    <a:lnTo>
                      <a:pt x="7614" y="2984"/>
                    </a:lnTo>
                    <a:lnTo>
                      <a:pt x="7595" y="3033"/>
                    </a:lnTo>
                    <a:lnTo>
                      <a:pt x="7577" y="3084"/>
                    </a:lnTo>
                    <a:lnTo>
                      <a:pt x="7557" y="3134"/>
                    </a:lnTo>
                    <a:lnTo>
                      <a:pt x="7537" y="3183"/>
                    </a:lnTo>
                    <a:lnTo>
                      <a:pt x="7516" y="3232"/>
                    </a:lnTo>
                    <a:lnTo>
                      <a:pt x="7495" y="3281"/>
                    </a:lnTo>
                    <a:lnTo>
                      <a:pt x="7472" y="3329"/>
                    </a:lnTo>
                    <a:lnTo>
                      <a:pt x="7449" y="3378"/>
                    </a:lnTo>
                    <a:lnTo>
                      <a:pt x="7458" y="3372"/>
                    </a:lnTo>
                    <a:lnTo>
                      <a:pt x="7466" y="3367"/>
                    </a:lnTo>
                    <a:lnTo>
                      <a:pt x="7474" y="3362"/>
                    </a:lnTo>
                    <a:lnTo>
                      <a:pt x="7483" y="3356"/>
                    </a:lnTo>
                    <a:lnTo>
                      <a:pt x="7490" y="3352"/>
                    </a:lnTo>
                    <a:lnTo>
                      <a:pt x="7499" y="3346"/>
                    </a:lnTo>
                    <a:lnTo>
                      <a:pt x="7507" y="3341"/>
                    </a:lnTo>
                    <a:lnTo>
                      <a:pt x="7515" y="3336"/>
                    </a:lnTo>
                    <a:lnTo>
                      <a:pt x="7537" y="3288"/>
                    </a:lnTo>
                    <a:lnTo>
                      <a:pt x="7557" y="3241"/>
                    </a:lnTo>
                    <a:lnTo>
                      <a:pt x="7577" y="3193"/>
                    </a:lnTo>
                    <a:lnTo>
                      <a:pt x="7597" y="3146"/>
                    </a:lnTo>
                    <a:lnTo>
                      <a:pt x="7616" y="3097"/>
                    </a:lnTo>
                    <a:lnTo>
                      <a:pt x="7634" y="3048"/>
                    </a:lnTo>
                    <a:lnTo>
                      <a:pt x="7651" y="2999"/>
                    </a:lnTo>
                    <a:lnTo>
                      <a:pt x="7669" y="2950"/>
                    </a:lnTo>
                    <a:lnTo>
                      <a:pt x="7685" y="2900"/>
                    </a:lnTo>
                    <a:lnTo>
                      <a:pt x="7701" y="2850"/>
                    </a:lnTo>
                    <a:lnTo>
                      <a:pt x="7716" y="2800"/>
                    </a:lnTo>
                    <a:lnTo>
                      <a:pt x="7731" y="2749"/>
                    </a:lnTo>
                    <a:lnTo>
                      <a:pt x="7744" y="2698"/>
                    </a:lnTo>
                    <a:lnTo>
                      <a:pt x="7757" y="2648"/>
                    </a:lnTo>
                    <a:lnTo>
                      <a:pt x="7770" y="2596"/>
                    </a:lnTo>
                    <a:lnTo>
                      <a:pt x="7782" y="2545"/>
                    </a:lnTo>
                    <a:lnTo>
                      <a:pt x="7793" y="2493"/>
                    </a:lnTo>
                    <a:lnTo>
                      <a:pt x="7804" y="2440"/>
                    </a:lnTo>
                    <a:lnTo>
                      <a:pt x="7814" y="2389"/>
                    </a:lnTo>
                    <a:lnTo>
                      <a:pt x="7822" y="2336"/>
                    </a:lnTo>
                    <a:lnTo>
                      <a:pt x="7831" y="2284"/>
                    </a:lnTo>
                    <a:lnTo>
                      <a:pt x="7838" y="2230"/>
                    </a:lnTo>
                    <a:lnTo>
                      <a:pt x="7846" y="2177"/>
                    </a:lnTo>
                    <a:lnTo>
                      <a:pt x="7852" y="2124"/>
                    </a:lnTo>
                    <a:lnTo>
                      <a:pt x="7858" y="2070"/>
                    </a:lnTo>
                    <a:lnTo>
                      <a:pt x="7862" y="2016"/>
                    </a:lnTo>
                    <a:lnTo>
                      <a:pt x="7866" y="1962"/>
                    </a:lnTo>
                    <a:lnTo>
                      <a:pt x="7870" y="1908"/>
                    </a:lnTo>
                    <a:lnTo>
                      <a:pt x="7873" y="1853"/>
                    </a:lnTo>
                    <a:lnTo>
                      <a:pt x="7874" y="1799"/>
                    </a:lnTo>
                    <a:lnTo>
                      <a:pt x="7875" y="1744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67"/>
                    </a:lnTo>
                    <a:lnTo>
                      <a:pt x="7789" y="1824"/>
                    </a:lnTo>
                    <a:lnTo>
                      <a:pt x="7787" y="1881"/>
                    </a:lnTo>
                    <a:lnTo>
                      <a:pt x="7785" y="1938"/>
                    </a:lnTo>
                    <a:lnTo>
                      <a:pt x="7781" y="1995"/>
                    </a:lnTo>
                    <a:lnTo>
                      <a:pt x="7776" y="2051"/>
                    </a:lnTo>
                    <a:lnTo>
                      <a:pt x="7771" y="2107"/>
                    </a:lnTo>
                    <a:lnTo>
                      <a:pt x="7765" y="2163"/>
                    </a:lnTo>
                    <a:lnTo>
                      <a:pt x="7758" y="2218"/>
                    </a:lnTo>
                    <a:lnTo>
                      <a:pt x="7750" y="2275"/>
                    </a:lnTo>
                    <a:lnTo>
                      <a:pt x="7742" y="2330"/>
                    </a:lnTo>
                    <a:lnTo>
                      <a:pt x="7732" y="2384"/>
                    </a:lnTo>
                    <a:lnTo>
                      <a:pt x="7722" y="2439"/>
                    </a:lnTo>
                    <a:lnTo>
                      <a:pt x="7712" y="2493"/>
                    </a:lnTo>
                    <a:lnTo>
                      <a:pt x="7701" y="2548"/>
                    </a:lnTo>
                    <a:lnTo>
                      <a:pt x="7688" y="2601"/>
                    </a:lnTo>
                    <a:lnTo>
                      <a:pt x="7675" y="2655"/>
                    </a:lnTo>
                    <a:lnTo>
                      <a:pt x="7661" y="2708"/>
                    </a:lnTo>
                    <a:lnTo>
                      <a:pt x="7647" y="2761"/>
                    </a:lnTo>
                    <a:lnTo>
                      <a:pt x="7632" y="2813"/>
                    </a:lnTo>
                    <a:lnTo>
                      <a:pt x="7615" y="2865"/>
                    </a:lnTo>
                    <a:lnTo>
                      <a:pt x="7599" y="2918"/>
                    </a:lnTo>
                    <a:lnTo>
                      <a:pt x="7582" y="2969"/>
                    </a:lnTo>
                    <a:lnTo>
                      <a:pt x="7564" y="3021"/>
                    </a:lnTo>
                    <a:lnTo>
                      <a:pt x="7544" y="3072"/>
                    </a:lnTo>
                    <a:lnTo>
                      <a:pt x="7525" y="3122"/>
                    </a:lnTo>
                    <a:lnTo>
                      <a:pt x="7505" y="3173"/>
                    </a:lnTo>
                    <a:lnTo>
                      <a:pt x="7484" y="3223"/>
                    </a:lnTo>
                    <a:lnTo>
                      <a:pt x="7462" y="3272"/>
                    </a:lnTo>
                    <a:lnTo>
                      <a:pt x="7440" y="3322"/>
                    </a:lnTo>
                    <a:lnTo>
                      <a:pt x="7418" y="3371"/>
                    </a:lnTo>
                    <a:lnTo>
                      <a:pt x="7394" y="3419"/>
                    </a:lnTo>
                    <a:lnTo>
                      <a:pt x="7403" y="3414"/>
                    </a:lnTo>
                    <a:lnTo>
                      <a:pt x="7410" y="3409"/>
                    </a:lnTo>
                    <a:lnTo>
                      <a:pt x="7419" y="3404"/>
                    </a:lnTo>
                    <a:lnTo>
                      <a:pt x="7427" y="3399"/>
                    </a:lnTo>
                    <a:lnTo>
                      <a:pt x="7435" y="3393"/>
                    </a:lnTo>
                    <a:lnTo>
                      <a:pt x="7444" y="3388"/>
                    </a:lnTo>
                    <a:lnTo>
                      <a:pt x="7452" y="3384"/>
                    </a:lnTo>
                    <a:lnTo>
                      <a:pt x="7460" y="3378"/>
                    </a:lnTo>
                    <a:lnTo>
                      <a:pt x="7482" y="3331"/>
                    </a:lnTo>
                    <a:lnTo>
                      <a:pt x="7504" y="3282"/>
                    </a:lnTo>
                    <a:lnTo>
                      <a:pt x="7525" y="3235"/>
                    </a:lnTo>
                    <a:lnTo>
                      <a:pt x="7545" y="3186"/>
                    </a:lnTo>
                    <a:lnTo>
                      <a:pt x="7565" y="3136"/>
                    </a:lnTo>
                    <a:lnTo>
                      <a:pt x="7583" y="3088"/>
                    </a:lnTo>
                    <a:lnTo>
                      <a:pt x="7601" y="3038"/>
                    </a:lnTo>
                    <a:lnTo>
                      <a:pt x="7619" y="2987"/>
                    </a:lnTo>
                    <a:lnTo>
                      <a:pt x="7636" y="2938"/>
                    </a:lnTo>
                    <a:lnTo>
                      <a:pt x="7652" y="2887"/>
                    </a:lnTo>
                    <a:lnTo>
                      <a:pt x="7668" y="2836"/>
                    </a:lnTo>
                    <a:lnTo>
                      <a:pt x="7683" y="2785"/>
                    </a:lnTo>
                    <a:lnTo>
                      <a:pt x="7698" y="2734"/>
                    </a:lnTo>
                    <a:lnTo>
                      <a:pt x="7710" y="2682"/>
                    </a:lnTo>
                    <a:lnTo>
                      <a:pt x="7723" y="2630"/>
                    </a:lnTo>
                    <a:lnTo>
                      <a:pt x="7736" y="2578"/>
                    </a:lnTo>
                    <a:lnTo>
                      <a:pt x="7747" y="2525"/>
                    </a:lnTo>
                    <a:lnTo>
                      <a:pt x="7758" y="2472"/>
                    </a:lnTo>
                    <a:lnTo>
                      <a:pt x="7769" y="2419"/>
                    </a:lnTo>
                    <a:lnTo>
                      <a:pt x="7777" y="2366"/>
                    </a:lnTo>
                    <a:lnTo>
                      <a:pt x="7787" y="2312"/>
                    </a:lnTo>
                    <a:lnTo>
                      <a:pt x="7795" y="2259"/>
                    </a:lnTo>
                    <a:lnTo>
                      <a:pt x="7802" y="2205"/>
                    </a:lnTo>
                    <a:lnTo>
                      <a:pt x="7809" y="2150"/>
                    </a:lnTo>
                    <a:lnTo>
                      <a:pt x="7814" y="2096"/>
                    </a:lnTo>
                    <a:lnTo>
                      <a:pt x="7819" y="2041"/>
                    </a:lnTo>
                    <a:lnTo>
                      <a:pt x="7823" y="1987"/>
                    </a:lnTo>
                    <a:lnTo>
                      <a:pt x="7827" y="1932"/>
                    </a:lnTo>
                    <a:lnTo>
                      <a:pt x="7829" y="1876"/>
                    </a:lnTo>
                    <a:lnTo>
                      <a:pt x="7832" y="1821"/>
                    </a:lnTo>
                    <a:lnTo>
                      <a:pt x="7833" y="1765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88"/>
                    </a:lnTo>
                    <a:lnTo>
                      <a:pt x="7749" y="1845"/>
                    </a:lnTo>
                    <a:lnTo>
                      <a:pt x="7747" y="1904"/>
                    </a:lnTo>
                    <a:lnTo>
                      <a:pt x="7743" y="1961"/>
                    </a:lnTo>
                    <a:lnTo>
                      <a:pt x="7740" y="2018"/>
                    </a:lnTo>
                    <a:lnTo>
                      <a:pt x="7735" y="2075"/>
                    </a:lnTo>
                    <a:lnTo>
                      <a:pt x="7729" y="2133"/>
                    </a:lnTo>
                    <a:lnTo>
                      <a:pt x="7723" y="2189"/>
                    </a:lnTo>
                    <a:lnTo>
                      <a:pt x="7716" y="2246"/>
                    </a:lnTo>
                    <a:lnTo>
                      <a:pt x="7708" y="2301"/>
                    </a:lnTo>
                    <a:lnTo>
                      <a:pt x="7699" y="2357"/>
                    </a:lnTo>
                    <a:lnTo>
                      <a:pt x="7689" y="2413"/>
                    </a:lnTo>
                    <a:lnTo>
                      <a:pt x="7680" y="2468"/>
                    </a:lnTo>
                    <a:lnTo>
                      <a:pt x="7669" y="2523"/>
                    </a:lnTo>
                    <a:lnTo>
                      <a:pt x="7657" y="2579"/>
                    </a:lnTo>
                    <a:lnTo>
                      <a:pt x="7644" y="2633"/>
                    </a:lnTo>
                    <a:lnTo>
                      <a:pt x="7630" y="2687"/>
                    </a:lnTo>
                    <a:lnTo>
                      <a:pt x="7616" y="2741"/>
                    </a:lnTo>
                    <a:lnTo>
                      <a:pt x="7601" y="2795"/>
                    </a:lnTo>
                    <a:lnTo>
                      <a:pt x="7586" y="2847"/>
                    </a:lnTo>
                    <a:lnTo>
                      <a:pt x="7569" y="2900"/>
                    </a:lnTo>
                    <a:lnTo>
                      <a:pt x="7552" y="2953"/>
                    </a:lnTo>
                    <a:lnTo>
                      <a:pt x="7534" y="3005"/>
                    </a:lnTo>
                    <a:lnTo>
                      <a:pt x="7515" y="3057"/>
                    </a:lnTo>
                    <a:lnTo>
                      <a:pt x="7496" y="3109"/>
                    </a:lnTo>
                    <a:lnTo>
                      <a:pt x="7475" y="3160"/>
                    </a:lnTo>
                    <a:lnTo>
                      <a:pt x="7455" y="3210"/>
                    </a:lnTo>
                    <a:lnTo>
                      <a:pt x="7433" y="3261"/>
                    </a:lnTo>
                    <a:lnTo>
                      <a:pt x="7412" y="3311"/>
                    </a:lnTo>
                    <a:lnTo>
                      <a:pt x="7388" y="3360"/>
                    </a:lnTo>
                    <a:lnTo>
                      <a:pt x="7365" y="3410"/>
                    </a:lnTo>
                    <a:lnTo>
                      <a:pt x="7340" y="3459"/>
                    </a:lnTo>
                    <a:lnTo>
                      <a:pt x="7349" y="3454"/>
                    </a:lnTo>
                    <a:lnTo>
                      <a:pt x="7358" y="3449"/>
                    </a:lnTo>
                    <a:lnTo>
                      <a:pt x="7366" y="3444"/>
                    </a:lnTo>
                    <a:lnTo>
                      <a:pt x="7374" y="3439"/>
                    </a:lnTo>
                    <a:lnTo>
                      <a:pt x="7383" y="3434"/>
                    </a:lnTo>
                    <a:lnTo>
                      <a:pt x="7391" y="3429"/>
                    </a:lnTo>
                    <a:lnTo>
                      <a:pt x="7399" y="3423"/>
                    </a:lnTo>
                    <a:lnTo>
                      <a:pt x="7407" y="3419"/>
                    </a:lnTo>
                    <a:lnTo>
                      <a:pt x="7430" y="3370"/>
                    </a:lnTo>
                    <a:lnTo>
                      <a:pt x="7453" y="3322"/>
                    </a:lnTo>
                    <a:lnTo>
                      <a:pt x="7474" y="3273"/>
                    </a:lnTo>
                    <a:lnTo>
                      <a:pt x="7495" y="3224"/>
                    </a:lnTo>
                    <a:lnTo>
                      <a:pt x="7515" y="3175"/>
                    </a:lnTo>
                    <a:lnTo>
                      <a:pt x="7535" y="3125"/>
                    </a:lnTo>
                    <a:lnTo>
                      <a:pt x="7553" y="3074"/>
                    </a:lnTo>
                    <a:lnTo>
                      <a:pt x="7572" y="3025"/>
                    </a:lnTo>
                    <a:lnTo>
                      <a:pt x="7589" y="2974"/>
                    </a:lnTo>
                    <a:lnTo>
                      <a:pt x="7606" y="2922"/>
                    </a:lnTo>
                    <a:lnTo>
                      <a:pt x="7622" y="2871"/>
                    </a:lnTo>
                    <a:lnTo>
                      <a:pt x="7638" y="2819"/>
                    </a:lnTo>
                    <a:lnTo>
                      <a:pt x="7653" y="2768"/>
                    </a:lnTo>
                    <a:lnTo>
                      <a:pt x="7667" y="2715"/>
                    </a:lnTo>
                    <a:lnTo>
                      <a:pt x="7680" y="2662"/>
                    </a:lnTo>
                    <a:lnTo>
                      <a:pt x="7693" y="2609"/>
                    </a:lnTo>
                    <a:lnTo>
                      <a:pt x="7705" y="2556"/>
                    </a:lnTo>
                    <a:lnTo>
                      <a:pt x="7715" y="2503"/>
                    </a:lnTo>
                    <a:lnTo>
                      <a:pt x="7726" y="2449"/>
                    </a:lnTo>
                    <a:lnTo>
                      <a:pt x="7736" y="2395"/>
                    </a:lnTo>
                    <a:lnTo>
                      <a:pt x="7745" y="2341"/>
                    </a:lnTo>
                    <a:lnTo>
                      <a:pt x="7752" y="2286"/>
                    </a:lnTo>
                    <a:lnTo>
                      <a:pt x="7760" y="2232"/>
                    </a:lnTo>
                    <a:lnTo>
                      <a:pt x="7767" y="2177"/>
                    </a:lnTo>
                    <a:lnTo>
                      <a:pt x="7773" y="2122"/>
                    </a:lnTo>
                    <a:lnTo>
                      <a:pt x="7778" y="2067"/>
                    </a:lnTo>
                    <a:lnTo>
                      <a:pt x="7782" y="2010"/>
                    </a:lnTo>
                    <a:lnTo>
                      <a:pt x="7786" y="1954"/>
                    </a:lnTo>
                    <a:lnTo>
                      <a:pt x="7789" y="1899"/>
                    </a:lnTo>
                    <a:lnTo>
                      <a:pt x="7791" y="1842"/>
                    </a:lnTo>
                    <a:lnTo>
                      <a:pt x="7792" y="1786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08"/>
                    </a:lnTo>
                    <a:lnTo>
                      <a:pt x="7707" y="1867"/>
                    </a:lnTo>
                    <a:lnTo>
                      <a:pt x="7705" y="1926"/>
                    </a:lnTo>
                    <a:lnTo>
                      <a:pt x="7702" y="1984"/>
                    </a:lnTo>
                    <a:lnTo>
                      <a:pt x="7698" y="2042"/>
                    </a:lnTo>
                    <a:lnTo>
                      <a:pt x="7693" y="2100"/>
                    </a:lnTo>
                    <a:lnTo>
                      <a:pt x="7687" y="2158"/>
                    </a:lnTo>
                    <a:lnTo>
                      <a:pt x="7680" y="2215"/>
                    </a:lnTo>
                    <a:lnTo>
                      <a:pt x="7674" y="2272"/>
                    </a:lnTo>
                    <a:lnTo>
                      <a:pt x="7665" y="2329"/>
                    </a:lnTo>
                    <a:lnTo>
                      <a:pt x="7657" y="2386"/>
                    </a:lnTo>
                    <a:lnTo>
                      <a:pt x="7646" y="2442"/>
                    </a:lnTo>
                    <a:lnTo>
                      <a:pt x="7636" y="2497"/>
                    </a:lnTo>
                    <a:lnTo>
                      <a:pt x="7624" y="2553"/>
                    </a:lnTo>
                    <a:lnTo>
                      <a:pt x="7612" y="2608"/>
                    </a:lnTo>
                    <a:lnTo>
                      <a:pt x="7599" y="2663"/>
                    </a:lnTo>
                    <a:lnTo>
                      <a:pt x="7585" y="2718"/>
                    </a:lnTo>
                    <a:lnTo>
                      <a:pt x="7570" y="2774"/>
                    </a:lnTo>
                    <a:lnTo>
                      <a:pt x="7555" y="2828"/>
                    </a:lnTo>
                    <a:lnTo>
                      <a:pt x="7539" y="2880"/>
                    </a:lnTo>
                    <a:lnTo>
                      <a:pt x="7521" y="2934"/>
                    </a:lnTo>
                    <a:lnTo>
                      <a:pt x="7504" y="2987"/>
                    </a:lnTo>
                    <a:lnTo>
                      <a:pt x="7486" y="3040"/>
                    </a:lnTo>
                    <a:lnTo>
                      <a:pt x="7466" y="3093"/>
                    </a:lnTo>
                    <a:lnTo>
                      <a:pt x="7447" y="3145"/>
                    </a:lnTo>
                    <a:lnTo>
                      <a:pt x="7425" y="3197"/>
                    </a:lnTo>
                    <a:lnTo>
                      <a:pt x="7405" y="3248"/>
                    </a:lnTo>
                    <a:lnTo>
                      <a:pt x="7382" y="3298"/>
                    </a:lnTo>
                    <a:lnTo>
                      <a:pt x="7359" y="3349"/>
                    </a:lnTo>
                    <a:lnTo>
                      <a:pt x="7336" y="3400"/>
                    </a:lnTo>
                    <a:lnTo>
                      <a:pt x="7312" y="3450"/>
                    </a:lnTo>
                    <a:lnTo>
                      <a:pt x="7287" y="3498"/>
                    </a:lnTo>
                    <a:lnTo>
                      <a:pt x="7295" y="3494"/>
                    </a:lnTo>
                    <a:lnTo>
                      <a:pt x="7303" y="3488"/>
                    </a:lnTo>
                    <a:lnTo>
                      <a:pt x="7312" y="3484"/>
                    </a:lnTo>
                    <a:lnTo>
                      <a:pt x="7320" y="3479"/>
                    </a:lnTo>
                    <a:lnTo>
                      <a:pt x="7328" y="3474"/>
                    </a:lnTo>
                    <a:lnTo>
                      <a:pt x="7337" y="3469"/>
                    </a:lnTo>
                    <a:lnTo>
                      <a:pt x="7344" y="3464"/>
                    </a:lnTo>
                    <a:lnTo>
                      <a:pt x="7353" y="3459"/>
                    </a:lnTo>
                    <a:lnTo>
                      <a:pt x="7377" y="3411"/>
                    </a:lnTo>
                    <a:lnTo>
                      <a:pt x="7399" y="3362"/>
                    </a:lnTo>
                    <a:lnTo>
                      <a:pt x="7421" y="3312"/>
                    </a:lnTo>
                    <a:lnTo>
                      <a:pt x="7443" y="3263"/>
                    </a:lnTo>
                    <a:lnTo>
                      <a:pt x="7464" y="3213"/>
                    </a:lnTo>
                    <a:lnTo>
                      <a:pt x="7484" y="3162"/>
                    </a:lnTo>
                    <a:lnTo>
                      <a:pt x="7503" y="3112"/>
                    </a:lnTo>
                    <a:lnTo>
                      <a:pt x="7523" y="3061"/>
                    </a:lnTo>
                    <a:lnTo>
                      <a:pt x="7541" y="3009"/>
                    </a:lnTo>
                    <a:lnTo>
                      <a:pt x="7558" y="2958"/>
                    </a:lnTo>
                    <a:lnTo>
                      <a:pt x="7574" y="2905"/>
                    </a:lnTo>
                    <a:lnTo>
                      <a:pt x="7591" y="2853"/>
                    </a:lnTo>
                    <a:lnTo>
                      <a:pt x="7606" y="2801"/>
                    </a:lnTo>
                    <a:lnTo>
                      <a:pt x="7620" y="2748"/>
                    </a:lnTo>
                    <a:lnTo>
                      <a:pt x="7634" y="2695"/>
                    </a:lnTo>
                    <a:lnTo>
                      <a:pt x="7647" y="2641"/>
                    </a:lnTo>
                    <a:lnTo>
                      <a:pt x="7660" y="2588"/>
                    </a:lnTo>
                    <a:lnTo>
                      <a:pt x="7671" y="2533"/>
                    </a:lnTo>
                    <a:lnTo>
                      <a:pt x="7681" y="2479"/>
                    </a:lnTo>
                    <a:lnTo>
                      <a:pt x="7691" y="2424"/>
                    </a:lnTo>
                    <a:lnTo>
                      <a:pt x="7701" y="2370"/>
                    </a:lnTo>
                    <a:lnTo>
                      <a:pt x="7709" y="2315"/>
                    </a:lnTo>
                    <a:lnTo>
                      <a:pt x="7717" y="2258"/>
                    </a:lnTo>
                    <a:lnTo>
                      <a:pt x="7724" y="2203"/>
                    </a:lnTo>
                    <a:lnTo>
                      <a:pt x="7730" y="2147"/>
                    </a:lnTo>
                    <a:lnTo>
                      <a:pt x="7735" y="2091"/>
                    </a:lnTo>
                    <a:lnTo>
                      <a:pt x="7740" y="2035"/>
                    </a:lnTo>
                    <a:lnTo>
                      <a:pt x="7744" y="1978"/>
                    </a:lnTo>
                    <a:lnTo>
                      <a:pt x="7746" y="1921"/>
                    </a:lnTo>
                    <a:lnTo>
                      <a:pt x="7748" y="1864"/>
                    </a:lnTo>
                    <a:lnTo>
                      <a:pt x="7749" y="1807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df4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8" y="1828"/>
                    </a:lnTo>
                    <a:lnTo>
                      <a:pt x="7666" y="1887"/>
                    </a:lnTo>
                    <a:lnTo>
                      <a:pt x="7664" y="1947"/>
                    </a:lnTo>
                    <a:lnTo>
                      <a:pt x="7660" y="2006"/>
                    </a:lnTo>
                    <a:lnTo>
                      <a:pt x="7656" y="2065"/>
                    </a:lnTo>
                    <a:lnTo>
                      <a:pt x="7652" y="2124"/>
                    </a:lnTo>
                    <a:lnTo>
                      <a:pt x="7645" y="2182"/>
                    </a:lnTo>
                    <a:lnTo>
                      <a:pt x="7639" y="2240"/>
                    </a:lnTo>
                    <a:lnTo>
                      <a:pt x="7631" y="2298"/>
                    </a:lnTo>
                    <a:lnTo>
                      <a:pt x="7622" y="2355"/>
                    </a:lnTo>
                    <a:lnTo>
                      <a:pt x="7614" y="2412"/>
                    </a:lnTo>
                    <a:lnTo>
                      <a:pt x="7603" y="2470"/>
                    </a:lnTo>
                    <a:lnTo>
                      <a:pt x="7592" y="2526"/>
                    </a:lnTo>
                    <a:lnTo>
                      <a:pt x="7580" y="2582"/>
                    </a:lnTo>
                    <a:lnTo>
                      <a:pt x="7567" y="2638"/>
                    </a:lnTo>
                    <a:lnTo>
                      <a:pt x="7554" y="2694"/>
                    </a:lnTo>
                    <a:lnTo>
                      <a:pt x="7540" y="2749"/>
                    </a:lnTo>
                    <a:lnTo>
                      <a:pt x="7525" y="2804"/>
                    </a:lnTo>
                    <a:lnTo>
                      <a:pt x="7509" y="2859"/>
                    </a:lnTo>
                    <a:lnTo>
                      <a:pt x="7493" y="2913"/>
                    </a:lnTo>
                    <a:lnTo>
                      <a:pt x="7474" y="2967"/>
                    </a:lnTo>
                    <a:lnTo>
                      <a:pt x="7457" y="3021"/>
                    </a:lnTo>
                    <a:lnTo>
                      <a:pt x="7438" y="3074"/>
                    </a:lnTo>
                    <a:lnTo>
                      <a:pt x="7418" y="3128"/>
                    </a:lnTo>
                    <a:lnTo>
                      <a:pt x="7398" y="3180"/>
                    </a:lnTo>
                    <a:lnTo>
                      <a:pt x="7376" y="3233"/>
                    </a:lnTo>
                    <a:lnTo>
                      <a:pt x="7353" y="3285"/>
                    </a:lnTo>
                    <a:lnTo>
                      <a:pt x="7331" y="3336"/>
                    </a:lnTo>
                    <a:lnTo>
                      <a:pt x="7307" y="3387"/>
                    </a:lnTo>
                    <a:lnTo>
                      <a:pt x="7283" y="3437"/>
                    </a:lnTo>
                    <a:lnTo>
                      <a:pt x="7258" y="3488"/>
                    </a:lnTo>
                    <a:lnTo>
                      <a:pt x="7232" y="3538"/>
                    </a:lnTo>
                    <a:lnTo>
                      <a:pt x="7241" y="3532"/>
                    </a:lnTo>
                    <a:lnTo>
                      <a:pt x="7250" y="3528"/>
                    </a:lnTo>
                    <a:lnTo>
                      <a:pt x="7258" y="3523"/>
                    </a:lnTo>
                    <a:lnTo>
                      <a:pt x="7266" y="3518"/>
                    </a:lnTo>
                    <a:lnTo>
                      <a:pt x="7275" y="3513"/>
                    </a:lnTo>
                    <a:lnTo>
                      <a:pt x="7283" y="3509"/>
                    </a:lnTo>
                    <a:lnTo>
                      <a:pt x="7292" y="3503"/>
                    </a:lnTo>
                    <a:lnTo>
                      <a:pt x="7299" y="3498"/>
                    </a:lnTo>
                    <a:lnTo>
                      <a:pt x="7324" y="3449"/>
                    </a:lnTo>
                    <a:lnTo>
                      <a:pt x="7347" y="3399"/>
                    </a:lnTo>
                    <a:lnTo>
                      <a:pt x="7371" y="3350"/>
                    </a:lnTo>
                    <a:lnTo>
                      <a:pt x="7392" y="3300"/>
                    </a:lnTo>
                    <a:lnTo>
                      <a:pt x="7414" y="3249"/>
                    </a:lnTo>
                    <a:lnTo>
                      <a:pt x="7434" y="3199"/>
                    </a:lnTo>
                    <a:lnTo>
                      <a:pt x="7455" y="3148"/>
                    </a:lnTo>
                    <a:lnTo>
                      <a:pt x="7474" y="3096"/>
                    </a:lnTo>
                    <a:lnTo>
                      <a:pt x="7493" y="3044"/>
                    </a:lnTo>
                    <a:lnTo>
                      <a:pt x="7511" y="2992"/>
                    </a:lnTo>
                    <a:lnTo>
                      <a:pt x="7528" y="2939"/>
                    </a:lnTo>
                    <a:lnTo>
                      <a:pt x="7545" y="2886"/>
                    </a:lnTo>
                    <a:lnTo>
                      <a:pt x="7560" y="2834"/>
                    </a:lnTo>
                    <a:lnTo>
                      <a:pt x="7575" y="2780"/>
                    </a:lnTo>
                    <a:lnTo>
                      <a:pt x="7589" y="2726"/>
                    </a:lnTo>
                    <a:lnTo>
                      <a:pt x="7603" y="2672"/>
                    </a:lnTo>
                    <a:lnTo>
                      <a:pt x="7616" y="2618"/>
                    </a:lnTo>
                    <a:lnTo>
                      <a:pt x="7628" y="2562"/>
                    </a:lnTo>
                    <a:lnTo>
                      <a:pt x="7639" y="2507"/>
                    </a:lnTo>
                    <a:lnTo>
                      <a:pt x="7648" y="2452"/>
                    </a:lnTo>
                    <a:lnTo>
                      <a:pt x="7658" y="2396"/>
                    </a:lnTo>
                    <a:lnTo>
                      <a:pt x="7667" y="2340"/>
                    </a:lnTo>
                    <a:lnTo>
                      <a:pt x="7675" y="2285"/>
                    </a:lnTo>
                    <a:lnTo>
                      <a:pt x="7682" y="2228"/>
                    </a:lnTo>
                    <a:lnTo>
                      <a:pt x="7688" y="2172"/>
                    </a:lnTo>
                    <a:lnTo>
                      <a:pt x="7694" y="2114"/>
                    </a:lnTo>
                    <a:lnTo>
                      <a:pt x="7699" y="2057"/>
                    </a:lnTo>
                    <a:lnTo>
                      <a:pt x="7702" y="2000"/>
                    </a:lnTo>
                    <a:lnTo>
                      <a:pt x="7706" y="1943"/>
                    </a:lnTo>
                    <a:lnTo>
                      <a:pt x="7708" y="1884"/>
                    </a:lnTo>
                    <a:lnTo>
                      <a:pt x="7709" y="1827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49"/>
                    </a:lnTo>
                    <a:lnTo>
                      <a:pt x="7623" y="1910"/>
                    </a:lnTo>
                    <a:lnTo>
                      <a:pt x="7621" y="1969"/>
                    </a:lnTo>
                    <a:lnTo>
                      <a:pt x="7618" y="2030"/>
                    </a:lnTo>
                    <a:lnTo>
                      <a:pt x="7613" y="2089"/>
                    </a:lnTo>
                    <a:lnTo>
                      <a:pt x="7608" y="2148"/>
                    </a:lnTo>
                    <a:lnTo>
                      <a:pt x="7603" y="2207"/>
                    </a:lnTo>
                    <a:lnTo>
                      <a:pt x="7595" y="2266"/>
                    </a:lnTo>
                    <a:lnTo>
                      <a:pt x="7588" y="2324"/>
                    </a:lnTo>
                    <a:lnTo>
                      <a:pt x="7579" y="2383"/>
                    </a:lnTo>
                    <a:lnTo>
                      <a:pt x="7569" y="2440"/>
                    </a:lnTo>
                    <a:lnTo>
                      <a:pt x="7558" y="2498"/>
                    </a:lnTo>
                    <a:lnTo>
                      <a:pt x="7548" y="2555"/>
                    </a:lnTo>
                    <a:lnTo>
                      <a:pt x="7535" y="2612"/>
                    </a:lnTo>
                    <a:lnTo>
                      <a:pt x="7522" y="2669"/>
                    </a:lnTo>
                    <a:lnTo>
                      <a:pt x="7509" y="2725"/>
                    </a:lnTo>
                    <a:lnTo>
                      <a:pt x="7494" y="2781"/>
                    </a:lnTo>
                    <a:lnTo>
                      <a:pt x="7478" y="2836"/>
                    </a:lnTo>
                    <a:lnTo>
                      <a:pt x="7461" y="2892"/>
                    </a:lnTo>
                    <a:lnTo>
                      <a:pt x="7445" y="2948"/>
                    </a:lnTo>
                    <a:lnTo>
                      <a:pt x="7427" y="3002"/>
                    </a:lnTo>
                    <a:lnTo>
                      <a:pt x="7407" y="3056"/>
                    </a:lnTo>
                    <a:lnTo>
                      <a:pt x="7388" y="3110"/>
                    </a:lnTo>
                    <a:lnTo>
                      <a:pt x="7367" y="3164"/>
                    </a:lnTo>
                    <a:lnTo>
                      <a:pt x="7347" y="3216"/>
                    </a:lnTo>
                    <a:lnTo>
                      <a:pt x="7325" y="3269"/>
                    </a:lnTo>
                    <a:lnTo>
                      <a:pt x="7302" y="3321"/>
                    </a:lnTo>
                    <a:lnTo>
                      <a:pt x="7278" y="3373"/>
                    </a:lnTo>
                    <a:lnTo>
                      <a:pt x="7254" y="3425"/>
                    </a:lnTo>
                    <a:lnTo>
                      <a:pt x="7229" y="3476"/>
                    </a:lnTo>
                    <a:lnTo>
                      <a:pt x="7204" y="3526"/>
                    </a:lnTo>
                    <a:lnTo>
                      <a:pt x="7177" y="3576"/>
                    </a:lnTo>
                    <a:lnTo>
                      <a:pt x="7186" y="3572"/>
                    </a:lnTo>
                    <a:lnTo>
                      <a:pt x="7194" y="3566"/>
                    </a:lnTo>
                    <a:lnTo>
                      <a:pt x="7203" y="3562"/>
                    </a:lnTo>
                    <a:lnTo>
                      <a:pt x="7211" y="3557"/>
                    </a:lnTo>
                    <a:lnTo>
                      <a:pt x="7219" y="3552"/>
                    </a:lnTo>
                    <a:lnTo>
                      <a:pt x="7228" y="3547"/>
                    </a:lnTo>
                    <a:lnTo>
                      <a:pt x="7236" y="3543"/>
                    </a:lnTo>
                    <a:lnTo>
                      <a:pt x="7245" y="3537"/>
                    </a:lnTo>
                    <a:lnTo>
                      <a:pt x="7270" y="3489"/>
                    </a:lnTo>
                    <a:lnTo>
                      <a:pt x="7294" y="3439"/>
                    </a:lnTo>
                    <a:lnTo>
                      <a:pt x="7317" y="3388"/>
                    </a:lnTo>
                    <a:lnTo>
                      <a:pt x="7340" y="3337"/>
                    </a:lnTo>
                    <a:lnTo>
                      <a:pt x="7363" y="3287"/>
                    </a:lnTo>
                    <a:lnTo>
                      <a:pt x="7383" y="3236"/>
                    </a:lnTo>
                    <a:lnTo>
                      <a:pt x="7405" y="3184"/>
                    </a:lnTo>
                    <a:lnTo>
                      <a:pt x="7424" y="3132"/>
                    </a:lnTo>
                    <a:lnTo>
                      <a:pt x="7444" y="3079"/>
                    </a:lnTo>
                    <a:lnTo>
                      <a:pt x="7462" y="3026"/>
                    </a:lnTo>
                    <a:lnTo>
                      <a:pt x="7479" y="2973"/>
                    </a:lnTo>
                    <a:lnTo>
                      <a:pt x="7497" y="2919"/>
                    </a:lnTo>
                    <a:lnTo>
                      <a:pt x="7513" y="2867"/>
                    </a:lnTo>
                    <a:lnTo>
                      <a:pt x="7528" y="2813"/>
                    </a:lnTo>
                    <a:lnTo>
                      <a:pt x="7543" y="2757"/>
                    </a:lnTo>
                    <a:lnTo>
                      <a:pt x="7557" y="2702"/>
                    </a:lnTo>
                    <a:lnTo>
                      <a:pt x="7570" y="2647"/>
                    </a:lnTo>
                    <a:lnTo>
                      <a:pt x="7582" y="2592"/>
                    </a:lnTo>
                    <a:lnTo>
                      <a:pt x="7594" y="2536"/>
                    </a:lnTo>
                    <a:lnTo>
                      <a:pt x="7604" y="2481"/>
                    </a:lnTo>
                    <a:lnTo>
                      <a:pt x="7615" y="2425"/>
                    </a:lnTo>
                    <a:lnTo>
                      <a:pt x="7623" y="2368"/>
                    </a:lnTo>
                    <a:lnTo>
                      <a:pt x="7632" y="2311"/>
                    </a:lnTo>
                    <a:lnTo>
                      <a:pt x="7638" y="2254"/>
                    </a:lnTo>
                    <a:lnTo>
                      <a:pt x="7645" y="2197"/>
                    </a:lnTo>
                    <a:lnTo>
                      <a:pt x="7651" y="2139"/>
                    </a:lnTo>
                    <a:lnTo>
                      <a:pt x="7656" y="2081"/>
                    </a:lnTo>
                    <a:lnTo>
                      <a:pt x="7660" y="2023"/>
                    </a:lnTo>
                    <a:lnTo>
                      <a:pt x="7663" y="1965"/>
                    </a:lnTo>
                    <a:lnTo>
                      <a:pt x="7665" y="1906"/>
                    </a:lnTo>
                    <a:lnTo>
                      <a:pt x="7666" y="1847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7"/>
                    </a:lnTo>
                    <a:lnTo>
                      <a:pt x="7582" y="1929"/>
                    </a:lnTo>
                    <a:lnTo>
                      <a:pt x="7578" y="1989"/>
                    </a:lnTo>
                    <a:lnTo>
                      <a:pt x="7575" y="2050"/>
                    </a:lnTo>
                    <a:lnTo>
                      <a:pt x="7571" y="2110"/>
                    </a:lnTo>
                    <a:lnTo>
                      <a:pt x="7565" y="2171"/>
                    </a:lnTo>
                    <a:lnTo>
                      <a:pt x="7560" y="2230"/>
                    </a:lnTo>
                    <a:lnTo>
                      <a:pt x="7552" y="2289"/>
                    </a:lnTo>
                    <a:lnTo>
                      <a:pt x="7545" y="2349"/>
                    </a:lnTo>
                    <a:lnTo>
                      <a:pt x="7535" y="2407"/>
                    </a:lnTo>
                    <a:lnTo>
                      <a:pt x="7525" y="2467"/>
                    </a:lnTo>
                    <a:lnTo>
                      <a:pt x="7515" y="2525"/>
                    </a:lnTo>
                    <a:lnTo>
                      <a:pt x="7503" y="2582"/>
                    </a:lnTo>
                    <a:lnTo>
                      <a:pt x="7491" y="2640"/>
                    </a:lnTo>
                    <a:lnTo>
                      <a:pt x="7477" y="2698"/>
                    </a:lnTo>
                    <a:lnTo>
                      <a:pt x="7463" y="2754"/>
                    </a:lnTo>
                    <a:lnTo>
                      <a:pt x="7448" y="2811"/>
                    </a:lnTo>
                    <a:lnTo>
                      <a:pt x="7431" y="2867"/>
                    </a:lnTo>
                    <a:lnTo>
                      <a:pt x="7415" y="2923"/>
                    </a:lnTo>
                    <a:lnTo>
                      <a:pt x="7397" y="2978"/>
                    </a:lnTo>
                    <a:lnTo>
                      <a:pt x="7378" y="3034"/>
                    </a:lnTo>
                    <a:lnTo>
                      <a:pt x="7359" y="3089"/>
                    </a:lnTo>
                    <a:lnTo>
                      <a:pt x="7340" y="3143"/>
                    </a:lnTo>
                    <a:lnTo>
                      <a:pt x="7318" y="3197"/>
                    </a:lnTo>
                    <a:lnTo>
                      <a:pt x="7296" y="3251"/>
                    </a:lnTo>
                    <a:lnTo>
                      <a:pt x="7274" y="3304"/>
                    </a:lnTo>
                    <a:lnTo>
                      <a:pt x="7250" y="3356"/>
                    </a:lnTo>
                    <a:lnTo>
                      <a:pt x="7226" y="3408"/>
                    </a:lnTo>
                    <a:lnTo>
                      <a:pt x="7201" y="3460"/>
                    </a:lnTo>
                    <a:lnTo>
                      <a:pt x="7175" y="3512"/>
                    </a:lnTo>
                    <a:lnTo>
                      <a:pt x="7149" y="3563"/>
                    </a:lnTo>
                    <a:lnTo>
                      <a:pt x="7122" y="3614"/>
                    </a:lnTo>
                    <a:lnTo>
                      <a:pt x="7131" y="3609"/>
                    </a:lnTo>
                    <a:lnTo>
                      <a:pt x="7139" y="3604"/>
                    </a:lnTo>
                    <a:lnTo>
                      <a:pt x="7147" y="3599"/>
                    </a:lnTo>
                    <a:lnTo>
                      <a:pt x="7156" y="3594"/>
                    </a:lnTo>
                    <a:lnTo>
                      <a:pt x="7165" y="3590"/>
                    </a:lnTo>
                    <a:lnTo>
                      <a:pt x="7173" y="3585"/>
                    </a:lnTo>
                    <a:lnTo>
                      <a:pt x="7181" y="3580"/>
                    </a:lnTo>
                    <a:lnTo>
                      <a:pt x="7189" y="3576"/>
                    </a:lnTo>
                    <a:lnTo>
                      <a:pt x="7215" y="3526"/>
                    </a:lnTo>
                    <a:lnTo>
                      <a:pt x="7240" y="3475"/>
                    </a:lnTo>
                    <a:lnTo>
                      <a:pt x="7264" y="3425"/>
                    </a:lnTo>
                    <a:lnTo>
                      <a:pt x="7288" y="3374"/>
                    </a:lnTo>
                    <a:lnTo>
                      <a:pt x="7310" y="3323"/>
                    </a:lnTo>
                    <a:lnTo>
                      <a:pt x="7333" y="3271"/>
                    </a:lnTo>
                    <a:lnTo>
                      <a:pt x="7355" y="3218"/>
                    </a:lnTo>
                    <a:lnTo>
                      <a:pt x="7375" y="3166"/>
                    </a:lnTo>
                    <a:lnTo>
                      <a:pt x="7395" y="3112"/>
                    </a:lnTo>
                    <a:lnTo>
                      <a:pt x="7414" y="3059"/>
                    </a:lnTo>
                    <a:lnTo>
                      <a:pt x="7431" y="3005"/>
                    </a:lnTo>
                    <a:lnTo>
                      <a:pt x="7450" y="2951"/>
                    </a:lnTo>
                    <a:lnTo>
                      <a:pt x="7466" y="2897"/>
                    </a:lnTo>
                    <a:lnTo>
                      <a:pt x="7482" y="2842"/>
                    </a:lnTo>
                    <a:lnTo>
                      <a:pt x="7497" y="2787"/>
                    </a:lnTo>
                    <a:lnTo>
                      <a:pt x="7511" y="2732"/>
                    </a:lnTo>
                    <a:lnTo>
                      <a:pt x="7524" y="2676"/>
                    </a:lnTo>
                    <a:lnTo>
                      <a:pt x="7537" y="2620"/>
                    </a:lnTo>
                    <a:lnTo>
                      <a:pt x="7549" y="2564"/>
                    </a:lnTo>
                    <a:lnTo>
                      <a:pt x="7560" y="2508"/>
                    </a:lnTo>
                    <a:lnTo>
                      <a:pt x="7571" y="2450"/>
                    </a:lnTo>
                    <a:lnTo>
                      <a:pt x="7579" y="2393"/>
                    </a:lnTo>
                    <a:lnTo>
                      <a:pt x="7588" y="2336"/>
                    </a:lnTo>
                    <a:lnTo>
                      <a:pt x="7596" y="2278"/>
                    </a:lnTo>
                    <a:lnTo>
                      <a:pt x="7602" y="2220"/>
                    </a:lnTo>
                    <a:lnTo>
                      <a:pt x="7609" y="2162"/>
                    </a:lnTo>
                    <a:lnTo>
                      <a:pt x="7613" y="2103"/>
                    </a:lnTo>
                    <a:lnTo>
                      <a:pt x="7617" y="2044"/>
                    </a:lnTo>
                    <a:lnTo>
                      <a:pt x="7621" y="1985"/>
                    </a:lnTo>
                    <a:lnTo>
                      <a:pt x="7623" y="1925"/>
                    </a:lnTo>
                    <a:lnTo>
                      <a:pt x="7625" y="1866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7"/>
                    </a:lnTo>
                    <a:lnTo>
                      <a:pt x="7540" y="1949"/>
                    </a:lnTo>
                    <a:lnTo>
                      <a:pt x="7538" y="2010"/>
                    </a:lnTo>
                    <a:lnTo>
                      <a:pt x="7535" y="2072"/>
                    </a:lnTo>
                    <a:lnTo>
                      <a:pt x="7530" y="2133"/>
                    </a:lnTo>
                    <a:lnTo>
                      <a:pt x="7525" y="2194"/>
                    </a:lnTo>
                    <a:lnTo>
                      <a:pt x="7518" y="2254"/>
                    </a:lnTo>
                    <a:lnTo>
                      <a:pt x="7511" y="2314"/>
                    </a:lnTo>
                    <a:lnTo>
                      <a:pt x="7502" y="2374"/>
                    </a:lnTo>
                    <a:lnTo>
                      <a:pt x="7494" y="2434"/>
                    </a:lnTo>
                    <a:lnTo>
                      <a:pt x="7483" y="2493"/>
                    </a:lnTo>
                    <a:lnTo>
                      <a:pt x="7472" y="2551"/>
                    </a:lnTo>
                    <a:lnTo>
                      <a:pt x="7460" y="2611"/>
                    </a:lnTo>
                    <a:lnTo>
                      <a:pt x="7447" y="2668"/>
                    </a:lnTo>
                    <a:lnTo>
                      <a:pt x="7433" y="2726"/>
                    </a:lnTo>
                    <a:lnTo>
                      <a:pt x="7418" y="2784"/>
                    </a:lnTo>
                    <a:lnTo>
                      <a:pt x="7403" y="2841"/>
                    </a:lnTo>
                    <a:lnTo>
                      <a:pt x="7387" y="2898"/>
                    </a:lnTo>
                    <a:lnTo>
                      <a:pt x="7369" y="2954"/>
                    </a:lnTo>
                    <a:lnTo>
                      <a:pt x="7351" y="3010"/>
                    </a:lnTo>
                    <a:lnTo>
                      <a:pt x="7331" y="3067"/>
                    </a:lnTo>
                    <a:lnTo>
                      <a:pt x="7312" y="3122"/>
                    </a:lnTo>
                    <a:lnTo>
                      <a:pt x="7292" y="3177"/>
                    </a:lnTo>
                    <a:lnTo>
                      <a:pt x="7270" y="3231"/>
                    </a:lnTo>
                    <a:lnTo>
                      <a:pt x="7247" y="3285"/>
                    </a:lnTo>
                    <a:lnTo>
                      <a:pt x="7223" y="3339"/>
                    </a:lnTo>
                    <a:lnTo>
                      <a:pt x="7200" y="3392"/>
                    </a:lnTo>
                    <a:lnTo>
                      <a:pt x="7175" y="3445"/>
                    </a:lnTo>
                    <a:lnTo>
                      <a:pt x="7150" y="3496"/>
                    </a:lnTo>
                    <a:lnTo>
                      <a:pt x="7123" y="3548"/>
                    </a:lnTo>
                    <a:lnTo>
                      <a:pt x="7096" y="3600"/>
                    </a:lnTo>
                    <a:lnTo>
                      <a:pt x="7068" y="3651"/>
                    </a:lnTo>
                    <a:lnTo>
                      <a:pt x="7076" y="3647"/>
                    </a:lnTo>
                    <a:lnTo>
                      <a:pt x="7085" y="3641"/>
                    </a:lnTo>
                    <a:lnTo>
                      <a:pt x="7094" y="3637"/>
                    </a:lnTo>
                    <a:lnTo>
                      <a:pt x="7102" y="3633"/>
                    </a:lnTo>
                    <a:lnTo>
                      <a:pt x="7111" y="3627"/>
                    </a:lnTo>
                    <a:lnTo>
                      <a:pt x="7120" y="3623"/>
                    </a:lnTo>
                    <a:lnTo>
                      <a:pt x="7127" y="3618"/>
                    </a:lnTo>
                    <a:lnTo>
                      <a:pt x="7136" y="3613"/>
                    </a:lnTo>
                    <a:lnTo>
                      <a:pt x="7163" y="3563"/>
                    </a:lnTo>
                    <a:lnTo>
                      <a:pt x="7188" y="3513"/>
                    </a:lnTo>
                    <a:lnTo>
                      <a:pt x="7213" y="3462"/>
                    </a:lnTo>
                    <a:lnTo>
                      <a:pt x="7237" y="3410"/>
                    </a:lnTo>
                    <a:lnTo>
                      <a:pt x="7261" y="3358"/>
                    </a:lnTo>
                    <a:lnTo>
                      <a:pt x="7284" y="3306"/>
                    </a:lnTo>
                    <a:lnTo>
                      <a:pt x="7306" y="3253"/>
                    </a:lnTo>
                    <a:lnTo>
                      <a:pt x="7326" y="3201"/>
                    </a:lnTo>
                    <a:lnTo>
                      <a:pt x="7347" y="3147"/>
                    </a:lnTo>
                    <a:lnTo>
                      <a:pt x="7366" y="3093"/>
                    </a:lnTo>
                    <a:lnTo>
                      <a:pt x="7386" y="3039"/>
                    </a:lnTo>
                    <a:lnTo>
                      <a:pt x="7404" y="2985"/>
                    </a:lnTo>
                    <a:lnTo>
                      <a:pt x="7420" y="2929"/>
                    </a:lnTo>
                    <a:lnTo>
                      <a:pt x="7437" y="2873"/>
                    </a:lnTo>
                    <a:lnTo>
                      <a:pt x="7453" y="2818"/>
                    </a:lnTo>
                    <a:lnTo>
                      <a:pt x="7468" y="2762"/>
                    </a:lnTo>
                    <a:lnTo>
                      <a:pt x="7481" y="2706"/>
                    </a:lnTo>
                    <a:lnTo>
                      <a:pt x="7494" y="2649"/>
                    </a:lnTo>
                    <a:lnTo>
                      <a:pt x="7507" y="2592"/>
                    </a:lnTo>
                    <a:lnTo>
                      <a:pt x="7517" y="2535"/>
                    </a:lnTo>
                    <a:lnTo>
                      <a:pt x="7528" y="2477"/>
                    </a:lnTo>
                    <a:lnTo>
                      <a:pt x="7538" y="2420"/>
                    </a:lnTo>
                    <a:lnTo>
                      <a:pt x="7547" y="2361"/>
                    </a:lnTo>
                    <a:lnTo>
                      <a:pt x="7554" y="2303"/>
                    </a:lnTo>
                    <a:lnTo>
                      <a:pt x="7562" y="2244"/>
                    </a:lnTo>
                    <a:lnTo>
                      <a:pt x="7567" y="2185"/>
                    </a:lnTo>
                    <a:lnTo>
                      <a:pt x="7572" y="2126"/>
                    </a:lnTo>
                    <a:lnTo>
                      <a:pt x="7577" y="2067"/>
                    </a:lnTo>
                    <a:lnTo>
                      <a:pt x="7580" y="2006"/>
                    </a:lnTo>
                    <a:lnTo>
                      <a:pt x="7582" y="1947"/>
                    </a:lnTo>
                    <a:lnTo>
                      <a:pt x="7583" y="1886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8"/>
                    </a:lnTo>
                    <a:lnTo>
                      <a:pt x="7459" y="2399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356" y="2871"/>
                    </a:lnTo>
                    <a:lnTo>
                      <a:pt x="7339" y="2928"/>
                    </a:lnTo>
                    <a:lnTo>
                      <a:pt x="7321" y="2985"/>
                    </a:lnTo>
                    <a:lnTo>
                      <a:pt x="7303" y="3041"/>
                    </a:lnTo>
                    <a:lnTo>
                      <a:pt x="7282" y="3098"/>
                    </a:lnTo>
                    <a:lnTo>
                      <a:pt x="7262" y="3154"/>
                    </a:lnTo>
                    <a:lnTo>
                      <a:pt x="7241" y="3209"/>
                    </a:lnTo>
                    <a:lnTo>
                      <a:pt x="7219" y="3264"/>
                    </a:lnTo>
                    <a:lnTo>
                      <a:pt x="7196" y="3318"/>
                    </a:lnTo>
                    <a:lnTo>
                      <a:pt x="7172" y="3373"/>
                    </a:lnTo>
                    <a:lnTo>
                      <a:pt x="7147" y="3426"/>
                    </a:lnTo>
                    <a:lnTo>
                      <a:pt x="7121" y="3479"/>
                    </a:lnTo>
                    <a:lnTo>
                      <a:pt x="7096" y="3532"/>
                    </a:lnTo>
                    <a:lnTo>
                      <a:pt x="7069" y="3584"/>
                    </a:lnTo>
                    <a:lnTo>
                      <a:pt x="7040" y="3635"/>
                    </a:lnTo>
                    <a:lnTo>
                      <a:pt x="7012" y="3687"/>
                    </a:lnTo>
                    <a:lnTo>
                      <a:pt x="7021" y="3683"/>
                    </a:lnTo>
                    <a:lnTo>
                      <a:pt x="7030" y="3678"/>
                    </a:lnTo>
                    <a:lnTo>
                      <a:pt x="7037" y="3673"/>
                    </a:lnTo>
                    <a:lnTo>
                      <a:pt x="7046" y="3669"/>
                    </a:lnTo>
                    <a:lnTo>
                      <a:pt x="7054" y="3665"/>
                    </a:lnTo>
                    <a:lnTo>
                      <a:pt x="7063" y="3659"/>
                    </a:lnTo>
                    <a:lnTo>
                      <a:pt x="7072" y="3655"/>
                    </a:lnTo>
                    <a:lnTo>
                      <a:pt x="7080" y="3651"/>
                    </a:lnTo>
                    <a:lnTo>
                      <a:pt x="7107" y="3600"/>
                    </a:lnTo>
                    <a:lnTo>
                      <a:pt x="7133" y="3549"/>
                    </a:lnTo>
                    <a:lnTo>
                      <a:pt x="7159" y="3497"/>
                    </a:lnTo>
                    <a:lnTo>
                      <a:pt x="7184" y="3445"/>
                    </a:lnTo>
                    <a:lnTo>
                      <a:pt x="7208" y="3393"/>
                    </a:lnTo>
                    <a:lnTo>
                      <a:pt x="7232" y="3341"/>
                    </a:lnTo>
                    <a:lnTo>
                      <a:pt x="7254" y="3288"/>
                    </a:lnTo>
                    <a:lnTo>
                      <a:pt x="7276" y="3234"/>
                    </a:lnTo>
                    <a:lnTo>
                      <a:pt x="7298" y="3180"/>
                    </a:lnTo>
                    <a:lnTo>
                      <a:pt x="7317" y="3126"/>
                    </a:lnTo>
                    <a:lnTo>
                      <a:pt x="7336" y="3071"/>
                    </a:lnTo>
                    <a:lnTo>
                      <a:pt x="7355" y="3015"/>
                    </a:lnTo>
                    <a:lnTo>
                      <a:pt x="7373" y="2960"/>
                    </a:lnTo>
                    <a:lnTo>
                      <a:pt x="7389" y="2904"/>
                    </a:lnTo>
                    <a:lnTo>
                      <a:pt x="7406" y="2848"/>
                    </a:lnTo>
                    <a:lnTo>
                      <a:pt x="7421" y="2791"/>
                    </a:lnTo>
                    <a:lnTo>
                      <a:pt x="7435" y="2735"/>
                    </a:lnTo>
                    <a:lnTo>
                      <a:pt x="7449" y="2677"/>
                    </a:lnTo>
                    <a:lnTo>
                      <a:pt x="7461" y="2619"/>
                    </a:lnTo>
                    <a:lnTo>
                      <a:pt x="7473" y="2562"/>
                    </a:lnTo>
                    <a:lnTo>
                      <a:pt x="7483" y="2504"/>
                    </a:lnTo>
                    <a:lnTo>
                      <a:pt x="7493" y="2444"/>
                    </a:lnTo>
                    <a:lnTo>
                      <a:pt x="7503" y="2386"/>
                    </a:lnTo>
                    <a:lnTo>
                      <a:pt x="7510" y="2326"/>
                    </a:lnTo>
                    <a:lnTo>
                      <a:pt x="7518" y="2267"/>
                    </a:lnTo>
                    <a:lnTo>
                      <a:pt x="7523" y="2208"/>
                    </a:lnTo>
                    <a:lnTo>
                      <a:pt x="7529" y="2147"/>
                    </a:lnTo>
                    <a:lnTo>
                      <a:pt x="7533" y="2087"/>
                    </a:lnTo>
                    <a:lnTo>
                      <a:pt x="7536" y="2026"/>
                    </a:lnTo>
                    <a:lnTo>
                      <a:pt x="7540" y="1966"/>
                    </a:lnTo>
                    <a:lnTo>
                      <a:pt x="7541" y="1904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5"/>
                    </a:lnTo>
                    <a:lnTo>
                      <a:pt x="7457" y="1988"/>
                    </a:lnTo>
                    <a:lnTo>
                      <a:pt x="7454" y="2051"/>
                    </a:lnTo>
                    <a:lnTo>
                      <a:pt x="7450" y="2113"/>
                    </a:lnTo>
                    <a:lnTo>
                      <a:pt x="7445" y="2176"/>
                    </a:lnTo>
                    <a:lnTo>
                      <a:pt x="7440" y="2239"/>
                    </a:lnTo>
                    <a:lnTo>
                      <a:pt x="7433" y="2300"/>
                    </a:lnTo>
                    <a:lnTo>
                      <a:pt x="7426" y="2362"/>
                    </a:lnTo>
                    <a:lnTo>
                      <a:pt x="7416" y="2423"/>
                    </a:lnTo>
                    <a:lnTo>
                      <a:pt x="7406" y="2484"/>
                    </a:lnTo>
                    <a:lnTo>
                      <a:pt x="7395" y="2544"/>
                    </a:lnTo>
                    <a:lnTo>
                      <a:pt x="7385" y="2605"/>
                    </a:lnTo>
                    <a:lnTo>
                      <a:pt x="7372" y="2664"/>
                    </a:lnTo>
                    <a:lnTo>
                      <a:pt x="7358" y="2724"/>
                    </a:lnTo>
                    <a:lnTo>
                      <a:pt x="7344" y="2783"/>
                    </a:lnTo>
                    <a:lnTo>
                      <a:pt x="7327" y="2841"/>
                    </a:lnTo>
                    <a:lnTo>
                      <a:pt x="7311" y="2900"/>
                    </a:lnTo>
                    <a:lnTo>
                      <a:pt x="7294" y="2958"/>
                    </a:lnTo>
                    <a:lnTo>
                      <a:pt x="7275" y="3015"/>
                    </a:lnTo>
                    <a:lnTo>
                      <a:pt x="7256" y="3072"/>
                    </a:lnTo>
                    <a:lnTo>
                      <a:pt x="7235" y="3130"/>
                    </a:lnTo>
                    <a:lnTo>
                      <a:pt x="7215" y="3186"/>
                    </a:lnTo>
                    <a:lnTo>
                      <a:pt x="7193" y="3241"/>
                    </a:lnTo>
                    <a:lnTo>
                      <a:pt x="7171" y="3297"/>
                    </a:lnTo>
                    <a:lnTo>
                      <a:pt x="7147" y="3352"/>
                    </a:lnTo>
                    <a:lnTo>
                      <a:pt x="7122" y="3406"/>
                    </a:lnTo>
                    <a:lnTo>
                      <a:pt x="7097" y="3460"/>
                    </a:lnTo>
                    <a:lnTo>
                      <a:pt x="7070" y="3514"/>
                    </a:lnTo>
                    <a:lnTo>
                      <a:pt x="7043" y="3567"/>
                    </a:lnTo>
                    <a:lnTo>
                      <a:pt x="7016" y="3619"/>
                    </a:lnTo>
                    <a:lnTo>
                      <a:pt x="6987" y="3672"/>
                    </a:lnTo>
                    <a:lnTo>
                      <a:pt x="6958" y="3723"/>
                    </a:lnTo>
                    <a:lnTo>
                      <a:pt x="6966" y="3718"/>
                    </a:lnTo>
                    <a:lnTo>
                      <a:pt x="6975" y="3714"/>
                    </a:lnTo>
                    <a:lnTo>
                      <a:pt x="6984" y="3710"/>
                    </a:lnTo>
                    <a:lnTo>
                      <a:pt x="6992" y="3705"/>
                    </a:lnTo>
                    <a:lnTo>
                      <a:pt x="7000" y="3701"/>
                    </a:lnTo>
                    <a:lnTo>
                      <a:pt x="7009" y="3696"/>
                    </a:lnTo>
                    <a:lnTo>
                      <a:pt x="7017" y="3691"/>
                    </a:lnTo>
                    <a:lnTo>
                      <a:pt x="7026" y="3687"/>
                    </a:lnTo>
                    <a:lnTo>
                      <a:pt x="7054" y="3636"/>
                    </a:lnTo>
                    <a:lnTo>
                      <a:pt x="7081" y="3584"/>
                    </a:lnTo>
                    <a:lnTo>
                      <a:pt x="7108" y="3532"/>
                    </a:lnTo>
                    <a:lnTo>
                      <a:pt x="7133" y="3481"/>
                    </a:lnTo>
                    <a:lnTo>
                      <a:pt x="7158" y="3428"/>
                    </a:lnTo>
                    <a:lnTo>
                      <a:pt x="7181" y="3375"/>
                    </a:lnTo>
                    <a:lnTo>
                      <a:pt x="7205" y="3321"/>
                    </a:lnTo>
                    <a:lnTo>
                      <a:pt x="7228" y="3267"/>
                    </a:lnTo>
                    <a:lnTo>
                      <a:pt x="7250" y="3213"/>
                    </a:lnTo>
                    <a:lnTo>
                      <a:pt x="7270" y="3158"/>
                    </a:lnTo>
                    <a:lnTo>
                      <a:pt x="7289" y="3103"/>
                    </a:lnTo>
                    <a:lnTo>
                      <a:pt x="7309" y="3046"/>
                    </a:lnTo>
                    <a:lnTo>
                      <a:pt x="7327" y="2990"/>
                    </a:lnTo>
                    <a:lnTo>
                      <a:pt x="7345" y="2934"/>
                    </a:lnTo>
                    <a:lnTo>
                      <a:pt x="7361" y="2877"/>
                    </a:lnTo>
                    <a:lnTo>
                      <a:pt x="7376" y="2820"/>
                    </a:lnTo>
                    <a:lnTo>
                      <a:pt x="7391" y="2762"/>
                    </a:lnTo>
                    <a:lnTo>
                      <a:pt x="7405" y="2704"/>
                    </a:lnTo>
                    <a:lnTo>
                      <a:pt x="7418" y="2647"/>
                    </a:lnTo>
                    <a:lnTo>
                      <a:pt x="7430" y="2587"/>
                    </a:lnTo>
                    <a:lnTo>
                      <a:pt x="7441" y="2529"/>
                    </a:lnTo>
                    <a:lnTo>
                      <a:pt x="7452" y="2470"/>
                    </a:lnTo>
                    <a:lnTo>
                      <a:pt x="7460" y="2410"/>
                    </a:lnTo>
                    <a:lnTo>
                      <a:pt x="7469" y="2350"/>
                    </a:lnTo>
                    <a:lnTo>
                      <a:pt x="7476" y="2290"/>
                    </a:lnTo>
                    <a:lnTo>
                      <a:pt x="7483" y="2230"/>
                    </a:lnTo>
                    <a:lnTo>
                      <a:pt x="7488" y="2169"/>
                    </a:lnTo>
                    <a:lnTo>
                      <a:pt x="7493" y="2108"/>
                    </a:lnTo>
                    <a:lnTo>
                      <a:pt x="7496" y="2046"/>
                    </a:lnTo>
                    <a:lnTo>
                      <a:pt x="7498" y="1985"/>
                    </a:lnTo>
                    <a:lnTo>
                      <a:pt x="7500" y="1923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df4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3"/>
                    </a:lnTo>
                    <a:lnTo>
                      <a:pt x="7414" y="2007"/>
                    </a:lnTo>
                    <a:lnTo>
                      <a:pt x="7412" y="2071"/>
                    </a:lnTo>
                    <a:lnTo>
                      <a:pt x="7408" y="2135"/>
                    </a:lnTo>
                    <a:lnTo>
                      <a:pt x="7404" y="2198"/>
                    </a:lnTo>
                    <a:lnTo>
                      <a:pt x="7397" y="2261"/>
                    </a:lnTo>
                    <a:lnTo>
                      <a:pt x="7391" y="2324"/>
                    </a:lnTo>
                    <a:lnTo>
                      <a:pt x="7382" y="2385"/>
                    </a:lnTo>
                    <a:lnTo>
                      <a:pt x="7373" y="2447"/>
                    </a:lnTo>
                    <a:lnTo>
                      <a:pt x="7364" y="2508"/>
                    </a:lnTo>
                    <a:lnTo>
                      <a:pt x="7352" y="2570"/>
                    </a:lnTo>
                    <a:lnTo>
                      <a:pt x="7340" y="2630"/>
                    </a:lnTo>
                    <a:lnTo>
                      <a:pt x="7327" y="2691"/>
                    </a:lnTo>
                    <a:lnTo>
                      <a:pt x="7313" y="2751"/>
                    </a:lnTo>
                    <a:lnTo>
                      <a:pt x="7298" y="2811"/>
                    </a:lnTo>
                    <a:lnTo>
                      <a:pt x="7281" y="2870"/>
                    </a:lnTo>
                    <a:lnTo>
                      <a:pt x="7265" y="2929"/>
                    </a:lnTo>
                    <a:lnTo>
                      <a:pt x="7247" y="2988"/>
                    </a:lnTo>
                    <a:lnTo>
                      <a:pt x="7229" y="3046"/>
                    </a:lnTo>
                    <a:lnTo>
                      <a:pt x="7208" y="3103"/>
                    </a:lnTo>
                    <a:lnTo>
                      <a:pt x="7187" y="3161"/>
                    </a:lnTo>
                    <a:lnTo>
                      <a:pt x="7166" y="3217"/>
                    </a:lnTo>
                    <a:lnTo>
                      <a:pt x="7143" y="3274"/>
                    </a:lnTo>
                    <a:lnTo>
                      <a:pt x="7120" y="3329"/>
                    </a:lnTo>
                    <a:lnTo>
                      <a:pt x="7096" y="3385"/>
                    </a:lnTo>
                    <a:lnTo>
                      <a:pt x="7071" y="3439"/>
                    </a:lnTo>
                    <a:lnTo>
                      <a:pt x="7045" y="3494"/>
                    </a:lnTo>
                    <a:lnTo>
                      <a:pt x="7018" y="3548"/>
                    </a:lnTo>
                    <a:lnTo>
                      <a:pt x="6990" y="3601"/>
                    </a:lnTo>
                    <a:lnTo>
                      <a:pt x="6962" y="3654"/>
                    </a:lnTo>
                    <a:lnTo>
                      <a:pt x="6932" y="3707"/>
                    </a:lnTo>
                    <a:lnTo>
                      <a:pt x="6902" y="3759"/>
                    </a:lnTo>
                    <a:lnTo>
                      <a:pt x="6911" y="3755"/>
                    </a:lnTo>
                    <a:lnTo>
                      <a:pt x="6919" y="3750"/>
                    </a:lnTo>
                    <a:lnTo>
                      <a:pt x="6928" y="3745"/>
                    </a:lnTo>
                    <a:lnTo>
                      <a:pt x="6937" y="3741"/>
                    </a:lnTo>
                    <a:lnTo>
                      <a:pt x="6945" y="3736"/>
                    </a:lnTo>
                    <a:lnTo>
                      <a:pt x="6954" y="3732"/>
                    </a:lnTo>
                    <a:lnTo>
                      <a:pt x="6963" y="3728"/>
                    </a:lnTo>
                    <a:lnTo>
                      <a:pt x="6971" y="3723"/>
                    </a:lnTo>
                    <a:lnTo>
                      <a:pt x="6999" y="3671"/>
                    </a:lnTo>
                    <a:lnTo>
                      <a:pt x="7028" y="3620"/>
                    </a:lnTo>
                    <a:lnTo>
                      <a:pt x="7055" y="3568"/>
                    </a:lnTo>
                    <a:lnTo>
                      <a:pt x="7080" y="3515"/>
                    </a:lnTo>
                    <a:lnTo>
                      <a:pt x="7106" y="3462"/>
                    </a:lnTo>
                    <a:lnTo>
                      <a:pt x="7131" y="3409"/>
                    </a:lnTo>
                    <a:lnTo>
                      <a:pt x="7155" y="3354"/>
                    </a:lnTo>
                    <a:lnTo>
                      <a:pt x="7178" y="3300"/>
                    </a:lnTo>
                    <a:lnTo>
                      <a:pt x="7200" y="3245"/>
                    </a:lnTo>
                    <a:lnTo>
                      <a:pt x="7221" y="3190"/>
                    </a:lnTo>
                    <a:lnTo>
                      <a:pt x="7241" y="3134"/>
                    </a:lnTo>
                    <a:lnTo>
                      <a:pt x="7262" y="3077"/>
                    </a:lnTo>
                    <a:lnTo>
                      <a:pt x="7280" y="3021"/>
                    </a:lnTo>
                    <a:lnTo>
                      <a:pt x="7298" y="2964"/>
                    </a:lnTo>
                    <a:lnTo>
                      <a:pt x="7315" y="2907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5"/>
                    </a:lnTo>
                    <a:lnTo>
                      <a:pt x="7426" y="2374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5" y="1962"/>
                    </a:lnTo>
                    <a:lnTo>
                      <a:pt x="7374" y="2027"/>
                    </a:lnTo>
                    <a:lnTo>
                      <a:pt x="7371" y="2091"/>
                    </a:lnTo>
                    <a:lnTo>
                      <a:pt x="7367" y="2156"/>
                    </a:lnTo>
                    <a:lnTo>
                      <a:pt x="7362" y="2220"/>
                    </a:lnTo>
                    <a:lnTo>
                      <a:pt x="7355" y="2283"/>
                    </a:lnTo>
                    <a:lnTo>
                      <a:pt x="7349" y="2346"/>
                    </a:lnTo>
                    <a:lnTo>
                      <a:pt x="7340" y="2409"/>
                    </a:lnTo>
                    <a:lnTo>
                      <a:pt x="7332" y="2471"/>
                    </a:lnTo>
                    <a:lnTo>
                      <a:pt x="7321" y="2534"/>
                    </a:lnTo>
                    <a:lnTo>
                      <a:pt x="7310" y="2595"/>
                    </a:lnTo>
                    <a:lnTo>
                      <a:pt x="7297" y="2657"/>
                    </a:lnTo>
                    <a:lnTo>
                      <a:pt x="7284" y="2717"/>
                    </a:lnTo>
                    <a:lnTo>
                      <a:pt x="7269" y="2779"/>
                    </a:lnTo>
                    <a:lnTo>
                      <a:pt x="7254" y="2838"/>
                    </a:lnTo>
                    <a:lnTo>
                      <a:pt x="7238" y="2899"/>
                    </a:lnTo>
                    <a:lnTo>
                      <a:pt x="7220" y="2958"/>
                    </a:lnTo>
                    <a:lnTo>
                      <a:pt x="7202" y="3018"/>
                    </a:lnTo>
                    <a:lnTo>
                      <a:pt x="7183" y="3076"/>
                    </a:lnTo>
                    <a:lnTo>
                      <a:pt x="7162" y="3134"/>
                    </a:lnTo>
                    <a:lnTo>
                      <a:pt x="7140" y="3192"/>
                    </a:lnTo>
                    <a:lnTo>
                      <a:pt x="7119" y="3249"/>
                    </a:lnTo>
                    <a:lnTo>
                      <a:pt x="7095" y="3306"/>
                    </a:lnTo>
                    <a:lnTo>
                      <a:pt x="7071" y="3362"/>
                    </a:lnTo>
                    <a:lnTo>
                      <a:pt x="7046" y="3418"/>
                    </a:lnTo>
                    <a:lnTo>
                      <a:pt x="7020" y="3473"/>
                    </a:lnTo>
                    <a:lnTo>
                      <a:pt x="6993" y="3528"/>
                    </a:lnTo>
                    <a:lnTo>
                      <a:pt x="6966" y="3582"/>
                    </a:lnTo>
                    <a:lnTo>
                      <a:pt x="6937" y="3636"/>
                    </a:lnTo>
                    <a:lnTo>
                      <a:pt x="6908" y="3689"/>
                    </a:lnTo>
                    <a:lnTo>
                      <a:pt x="6878" y="3742"/>
                    </a:lnTo>
                    <a:lnTo>
                      <a:pt x="6848" y="3794"/>
                    </a:lnTo>
                    <a:lnTo>
                      <a:pt x="6856" y="3790"/>
                    </a:lnTo>
                    <a:lnTo>
                      <a:pt x="6865" y="3786"/>
                    </a:lnTo>
                    <a:lnTo>
                      <a:pt x="6874" y="3781"/>
                    </a:lnTo>
                    <a:lnTo>
                      <a:pt x="6882" y="3777"/>
                    </a:lnTo>
                    <a:lnTo>
                      <a:pt x="6891" y="3773"/>
                    </a:lnTo>
                    <a:lnTo>
                      <a:pt x="6899" y="3768"/>
                    </a:lnTo>
                    <a:lnTo>
                      <a:pt x="6908" y="3764"/>
                    </a:lnTo>
                    <a:lnTo>
                      <a:pt x="6917" y="3759"/>
                    </a:lnTo>
                    <a:lnTo>
                      <a:pt x="6946" y="3708"/>
                    </a:lnTo>
                    <a:lnTo>
                      <a:pt x="6975" y="3655"/>
                    </a:lnTo>
                    <a:lnTo>
                      <a:pt x="7002" y="3603"/>
                    </a:lnTo>
                    <a:lnTo>
                      <a:pt x="7029" y="3550"/>
                    </a:lnTo>
                    <a:lnTo>
                      <a:pt x="7056" y="3496"/>
                    </a:lnTo>
                    <a:lnTo>
                      <a:pt x="7081" y="3442"/>
                    </a:lnTo>
                    <a:lnTo>
                      <a:pt x="7106" y="3388"/>
                    </a:lnTo>
                    <a:lnTo>
                      <a:pt x="7130" y="3333"/>
                    </a:lnTo>
                    <a:lnTo>
                      <a:pt x="7152" y="3277"/>
                    </a:lnTo>
                    <a:lnTo>
                      <a:pt x="7174" y="3222"/>
                    </a:lnTo>
                    <a:lnTo>
                      <a:pt x="7194" y="3166"/>
                    </a:lnTo>
                    <a:lnTo>
                      <a:pt x="7215" y="3108"/>
                    </a:lnTo>
                    <a:lnTo>
                      <a:pt x="7234" y="3051"/>
                    </a:lnTo>
                    <a:lnTo>
                      <a:pt x="7253" y="2994"/>
                    </a:lnTo>
                    <a:lnTo>
                      <a:pt x="7270" y="2936"/>
                    </a:lnTo>
                    <a:lnTo>
                      <a:pt x="7286" y="2877"/>
                    </a:lnTo>
                    <a:lnTo>
                      <a:pt x="7303" y="2819"/>
                    </a:lnTo>
                    <a:lnTo>
                      <a:pt x="7317" y="2760"/>
                    </a:lnTo>
                    <a:lnTo>
                      <a:pt x="7331" y="2700"/>
                    </a:lnTo>
                    <a:lnTo>
                      <a:pt x="7344" y="2641"/>
                    </a:lnTo>
                    <a:lnTo>
                      <a:pt x="7354" y="2580"/>
                    </a:lnTo>
                    <a:lnTo>
                      <a:pt x="7365" y="2520"/>
                    </a:lnTo>
                    <a:lnTo>
                      <a:pt x="7375" y="2459"/>
                    </a:lnTo>
                    <a:lnTo>
                      <a:pt x="7385" y="2398"/>
                    </a:lnTo>
                    <a:lnTo>
                      <a:pt x="7392" y="2336"/>
                    </a:lnTo>
                    <a:lnTo>
                      <a:pt x="7399" y="2275"/>
                    </a:lnTo>
                    <a:lnTo>
                      <a:pt x="7404" y="2212"/>
                    </a:lnTo>
                    <a:lnTo>
                      <a:pt x="7409" y="2149"/>
                    </a:lnTo>
                    <a:lnTo>
                      <a:pt x="7413" y="2087"/>
                    </a:lnTo>
                    <a:lnTo>
                      <a:pt x="7416" y="2024"/>
                    </a:lnTo>
                    <a:lnTo>
                      <a:pt x="7417" y="1961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80"/>
                    </a:lnTo>
                    <a:lnTo>
                      <a:pt x="7331" y="2044"/>
                    </a:lnTo>
                    <a:lnTo>
                      <a:pt x="7328" y="2109"/>
                    </a:lnTo>
                    <a:lnTo>
                      <a:pt x="7324" y="2174"/>
                    </a:lnTo>
                    <a:lnTo>
                      <a:pt x="7318" y="2239"/>
                    </a:lnTo>
                    <a:lnTo>
                      <a:pt x="7313" y="2304"/>
                    </a:lnTo>
                    <a:lnTo>
                      <a:pt x="7305" y="2367"/>
                    </a:lnTo>
                    <a:lnTo>
                      <a:pt x="7297" y="2430"/>
                    </a:lnTo>
                    <a:lnTo>
                      <a:pt x="7287" y="2494"/>
                    </a:lnTo>
                    <a:lnTo>
                      <a:pt x="7276" y="2556"/>
                    </a:lnTo>
                    <a:lnTo>
                      <a:pt x="7264" y="2619"/>
                    </a:lnTo>
                    <a:lnTo>
                      <a:pt x="7252" y="2680"/>
                    </a:lnTo>
                    <a:lnTo>
                      <a:pt x="7238" y="2742"/>
                    </a:lnTo>
                    <a:lnTo>
                      <a:pt x="7223" y="2804"/>
                    </a:lnTo>
                    <a:lnTo>
                      <a:pt x="7208" y="2864"/>
                    </a:lnTo>
                    <a:lnTo>
                      <a:pt x="7191" y="2925"/>
                    </a:lnTo>
                    <a:lnTo>
                      <a:pt x="7172" y="2985"/>
                    </a:lnTo>
                    <a:lnTo>
                      <a:pt x="7154" y="3044"/>
                    </a:lnTo>
                    <a:lnTo>
                      <a:pt x="7134" y="3104"/>
                    </a:lnTo>
                    <a:lnTo>
                      <a:pt x="7113" y="3162"/>
                    </a:lnTo>
                    <a:lnTo>
                      <a:pt x="7091" y="3220"/>
                    </a:lnTo>
                    <a:lnTo>
                      <a:pt x="7069" y="3279"/>
                    </a:lnTo>
                    <a:lnTo>
                      <a:pt x="7045" y="3336"/>
                    </a:lnTo>
                    <a:lnTo>
                      <a:pt x="7020" y="3392"/>
                    </a:lnTo>
                    <a:lnTo>
                      <a:pt x="6994" y="3448"/>
                    </a:lnTo>
                    <a:lnTo>
                      <a:pt x="6968" y="3505"/>
                    </a:lnTo>
                    <a:lnTo>
                      <a:pt x="6940" y="3560"/>
                    </a:lnTo>
                    <a:lnTo>
                      <a:pt x="6912" y="3614"/>
                    </a:lnTo>
                    <a:lnTo>
                      <a:pt x="6883" y="3669"/>
                    </a:lnTo>
                    <a:lnTo>
                      <a:pt x="6853" y="3722"/>
                    </a:lnTo>
                    <a:lnTo>
                      <a:pt x="6822" y="3775"/>
                    </a:lnTo>
                    <a:lnTo>
                      <a:pt x="6790" y="3827"/>
                    </a:lnTo>
                    <a:lnTo>
                      <a:pt x="6799" y="3823"/>
                    </a:lnTo>
                    <a:lnTo>
                      <a:pt x="6807" y="3819"/>
                    </a:lnTo>
                    <a:lnTo>
                      <a:pt x="6816" y="3814"/>
                    </a:lnTo>
                    <a:lnTo>
                      <a:pt x="6826" y="3810"/>
                    </a:lnTo>
                    <a:lnTo>
                      <a:pt x="6834" y="3806"/>
                    </a:lnTo>
                    <a:lnTo>
                      <a:pt x="6843" y="3802"/>
                    </a:lnTo>
                    <a:lnTo>
                      <a:pt x="6852" y="3797"/>
                    </a:lnTo>
                    <a:lnTo>
                      <a:pt x="6860" y="3793"/>
                    </a:lnTo>
                    <a:lnTo>
                      <a:pt x="6890" y="3741"/>
                    </a:lnTo>
                    <a:lnTo>
                      <a:pt x="6920" y="3688"/>
                    </a:lnTo>
                    <a:lnTo>
                      <a:pt x="6948" y="3635"/>
                    </a:lnTo>
                    <a:lnTo>
                      <a:pt x="6976" y="3582"/>
                    </a:lnTo>
                    <a:lnTo>
                      <a:pt x="7003" y="3528"/>
                    </a:lnTo>
                    <a:lnTo>
                      <a:pt x="7029" y="3473"/>
                    </a:lnTo>
                    <a:lnTo>
                      <a:pt x="7054" y="3419"/>
                    </a:lnTo>
                    <a:lnTo>
                      <a:pt x="7078" y="3363"/>
                    </a:lnTo>
                    <a:lnTo>
                      <a:pt x="7101" y="3308"/>
                    </a:lnTo>
                    <a:lnTo>
                      <a:pt x="7124" y="3251"/>
                    </a:lnTo>
                    <a:lnTo>
                      <a:pt x="7145" y="3195"/>
                    </a:lnTo>
                    <a:lnTo>
                      <a:pt x="7166" y="3137"/>
                    </a:lnTo>
                    <a:lnTo>
                      <a:pt x="7187" y="3080"/>
                    </a:lnTo>
                    <a:lnTo>
                      <a:pt x="7205" y="3022"/>
                    </a:lnTo>
                    <a:lnTo>
                      <a:pt x="7223" y="2963"/>
                    </a:lnTo>
                    <a:lnTo>
                      <a:pt x="7239" y="2904"/>
                    </a:lnTo>
                    <a:lnTo>
                      <a:pt x="7256" y="2845"/>
                    </a:lnTo>
                    <a:lnTo>
                      <a:pt x="7271" y="2785"/>
                    </a:lnTo>
                    <a:lnTo>
                      <a:pt x="7285" y="2725"/>
                    </a:lnTo>
                    <a:lnTo>
                      <a:pt x="7298" y="2664"/>
                    </a:lnTo>
                    <a:lnTo>
                      <a:pt x="7310" y="2604"/>
                    </a:lnTo>
                    <a:lnTo>
                      <a:pt x="7322" y="2542"/>
                    </a:lnTo>
                    <a:lnTo>
                      <a:pt x="7331" y="2481"/>
                    </a:lnTo>
                    <a:lnTo>
                      <a:pt x="7340" y="2419"/>
                    </a:lnTo>
                    <a:lnTo>
                      <a:pt x="7349" y="2358"/>
                    </a:lnTo>
                    <a:lnTo>
                      <a:pt x="7355" y="2295"/>
                    </a:lnTo>
                    <a:lnTo>
                      <a:pt x="7362" y="2232"/>
                    </a:lnTo>
                    <a:lnTo>
                      <a:pt x="7366" y="2169"/>
                    </a:lnTo>
                    <a:lnTo>
                      <a:pt x="7370" y="2105"/>
                    </a:lnTo>
                    <a:lnTo>
                      <a:pt x="7372" y="2041"/>
                    </a:lnTo>
                    <a:lnTo>
                      <a:pt x="7375" y="1977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7"/>
                    </a:lnTo>
                    <a:lnTo>
                      <a:pt x="7290" y="2062"/>
                    </a:lnTo>
                    <a:lnTo>
                      <a:pt x="7286" y="2128"/>
                    </a:lnTo>
                    <a:lnTo>
                      <a:pt x="7283" y="2194"/>
                    </a:lnTo>
                    <a:lnTo>
                      <a:pt x="7278" y="2259"/>
                    </a:lnTo>
                    <a:lnTo>
                      <a:pt x="7271" y="2324"/>
                    </a:lnTo>
                    <a:lnTo>
                      <a:pt x="7264" y="2389"/>
                    </a:lnTo>
                    <a:lnTo>
                      <a:pt x="7255" y="2453"/>
                    </a:lnTo>
                    <a:lnTo>
                      <a:pt x="7245" y="2517"/>
                    </a:lnTo>
                    <a:lnTo>
                      <a:pt x="7235" y="2580"/>
                    </a:lnTo>
                    <a:lnTo>
                      <a:pt x="7222" y="2643"/>
                    </a:lnTo>
                    <a:lnTo>
                      <a:pt x="7209" y="2706"/>
                    </a:lnTo>
                    <a:lnTo>
                      <a:pt x="7195" y="2768"/>
                    </a:lnTo>
                    <a:lnTo>
                      <a:pt x="7179" y="2830"/>
                    </a:lnTo>
                    <a:lnTo>
                      <a:pt x="7163" y="2892"/>
                    </a:lnTo>
                    <a:lnTo>
                      <a:pt x="7146" y="2952"/>
                    </a:lnTo>
                    <a:lnTo>
                      <a:pt x="7128" y="3013"/>
                    </a:lnTo>
                    <a:lnTo>
                      <a:pt x="7108" y="3073"/>
                    </a:lnTo>
                    <a:lnTo>
                      <a:pt x="7088" y="3133"/>
                    </a:lnTo>
                    <a:lnTo>
                      <a:pt x="7066" y="3192"/>
                    </a:lnTo>
                    <a:lnTo>
                      <a:pt x="7044" y="3250"/>
                    </a:lnTo>
                    <a:lnTo>
                      <a:pt x="7021" y="3309"/>
                    </a:lnTo>
                    <a:lnTo>
                      <a:pt x="6996" y="3366"/>
                    </a:lnTo>
                    <a:lnTo>
                      <a:pt x="6971" y="3423"/>
                    </a:lnTo>
                    <a:lnTo>
                      <a:pt x="6945" y="3480"/>
                    </a:lnTo>
                    <a:lnTo>
                      <a:pt x="6917" y="3537"/>
                    </a:lnTo>
                    <a:lnTo>
                      <a:pt x="6889" y="3592"/>
                    </a:lnTo>
                    <a:lnTo>
                      <a:pt x="6860" y="3647"/>
                    </a:lnTo>
                    <a:lnTo>
                      <a:pt x="6830" y="3702"/>
                    </a:lnTo>
                    <a:lnTo>
                      <a:pt x="6799" y="3756"/>
                    </a:lnTo>
                    <a:lnTo>
                      <a:pt x="6768" y="3809"/>
                    </a:lnTo>
                    <a:lnTo>
                      <a:pt x="6735" y="3862"/>
                    </a:lnTo>
                    <a:lnTo>
                      <a:pt x="6744" y="3857"/>
                    </a:lnTo>
                    <a:lnTo>
                      <a:pt x="6753" y="3853"/>
                    </a:lnTo>
                    <a:lnTo>
                      <a:pt x="6761" y="3849"/>
                    </a:lnTo>
                    <a:lnTo>
                      <a:pt x="6770" y="3844"/>
                    </a:lnTo>
                    <a:lnTo>
                      <a:pt x="6779" y="3840"/>
                    </a:lnTo>
                    <a:lnTo>
                      <a:pt x="6787" y="3836"/>
                    </a:lnTo>
                    <a:lnTo>
                      <a:pt x="6797" y="3831"/>
                    </a:lnTo>
                    <a:lnTo>
                      <a:pt x="6806" y="3827"/>
                    </a:lnTo>
                    <a:lnTo>
                      <a:pt x="6836" y="3775"/>
                    </a:lnTo>
                    <a:lnTo>
                      <a:pt x="6866" y="3722"/>
                    </a:lnTo>
                    <a:lnTo>
                      <a:pt x="6895" y="3669"/>
                    </a:lnTo>
                    <a:lnTo>
                      <a:pt x="6924" y="3615"/>
                    </a:lnTo>
                    <a:lnTo>
                      <a:pt x="6951" y="3561"/>
                    </a:lnTo>
                    <a:lnTo>
                      <a:pt x="6978" y="3506"/>
                    </a:lnTo>
                    <a:lnTo>
                      <a:pt x="7004" y="3451"/>
                    </a:lnTo>
                    <a:lnTo>
                      <a:pt x="7029" y="3395"/>
                    </a:lnTo>
                    <a:lnTo>
                      <a:pt x="7053" y="3339"/>
                    </a:lnTo>
                    <a:lnTo>
                      <a:pt x="7077" y="3282"/>
                    </a:lnTo>
                    <a:lnTo>
                      <a:pt x="7098" y="3225"/>
                    </a:lnTo>
                    <a:lnTo>
                      <a:pt x="7120" y="3167"/>
                    </a:lnTo>
                    <a:lnTo>
                      <a:pt x="7141" y="3109"/>
                    </a:lnTo>
                    <a:lnTo>
                      <a:pt x="7160" y="3051"/>
                    </a:lnTo>
                    <a:lnTo>
                      <a:pt x="7178" y="2991"/>
                    </a:lnTo>
                    <a:lnTo>
                      <a:pt x="7196" y="2932"/>
                    </a:lnTo>
                    <a:lnTo>
                      <a:pt x="7212" y="2871"/>
                    </a:lnTo>
                    <a:lnTo>
                      <a:pt x="7227" y="2812"/>
                    </a:lnTo>
                    <a:lnTo>
                      <a:pt x="7242" y="2750"/>
                    </a:lnTo>
                    <a:lnTo>
                      <a:pt x="7255" y="2690"/>
                    </a:lnTo>
                    <a:lnTo>
                      <a:pt x="7268" y="2628"/>
                    </a:lnTo>
                    <a:lnTo>
                      <a:pt x="7279" y="2567"/>
                    </a:lnTo>
                    <a:lnTo>
                      <a:pt x="7290" y="2504"/>
                    </a:lnTo>
                    <a:lnTo>
                      <a:pt x="7298" y="2442"/>
                    </a:lnTo>
                    <a:lnTo>
                      <a:pt x="7307" y="2379"/>
                    </a:lnTo>
                    <a:lnTo>
                      <a:pt x="7313" y="2316"/>
                    </a:lnTo>
                    <a:lnTo>
                      <a:pt x="7320" y="2253"/>
                    </a:lnTo>
                    <a:lnTo>
                      <a:pt x="7325" y="2189"/>
                    </a:lnTo>
                    <a:lnTo>
                      <a:pt x="7329" y="2124"/>
                    </a:lnTo>
                    <a:lnTo>
                      <a:pt x="7332" y="2060"/>
                    </a:lnTo>
                    <a:lnTo>
                      <a:pt x="7333" y="1995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15"/>
                    </a:lnTo>
                    <a:lnTo>
                      <a:pt x="7248" y="2082"/>
                    </a:lnTo>
                    <a:lnTo>
                      <a:pt x="7245" y="2147"/>
                    </a:lnTo>
                    <a:lnTo>
                      <a:pt x="7241" y="2214"/>
                    </a:lnTo>
                    <a:lnTo>
                      <a:pt x="7235" y="2280"/>
                    </a:lnTo>
                    <a:lnTo>
                      <a:pt x="7229" y="2345"/>
                    </a:lnTo>
                    <a:lnTo>
                      <a:pt x="7221" y="2411"/>
                    </a:lnTo>
                    <a:lnTo>
                      <a:pt x="7212" y="2476"/>
                    </a:lnTo>
                    <a:lnTo>
                      <a:pt x="7202" y="2540"/>
                    </a:lnTo>
                    <a:lnTo>
                      <a:pt x="7191" y="2604"/>
                    </a:lnTo>
                    <a:lnTo>
                      <a:pt x="7178" y="2668"/>
                    </a:lnTo>
                    <a:lnTo>
                      <a:pt x="7165" y="2731"/>
                    </a:lnTo>
                    <a:lnTo>
                      <a:pt x="7151" y="2793"/>
                    </a:lnTo>
                    <a:lnTo>
                      <a:pt x="7135" y="2856"/>
                    </a:lnTo>
                    <a:lnTo>
                      <a:pt x="7118" y="2918"/>
                    </a:lnTo>
                    <a:lnTo>
                      <a:pt x="7100" y="2979"/>
                    </a:lnTo>
                    <a:lnTo>
                      <a:pt x="7082" y="3041"/>
                    </a:lnTo>
                    <a:lnTo>
                      <a:pt x="7061" y="3101"/>
                    </a:lnTo>
                    <a:lnTo>
                      <a:pt x="7041" y="3162"/>
                    </a:lnTo>
                    <a:lnTo>
                      <a:pt x="7019" y="3221"/>
                    </a:lnTo>
                    <a:lnTo>
                      <a:pt x="6995" y="3280"/>
                    </a:lnTo>
                    <a:lnTo>
                      <a:pt x="6972" y="3339"/>
                    </a:lnTo>
                    <a:lnTo>
                      <a:pt x="6947" y="3397"/>
                    </a:lnTo>
                    <a:lnTo>
                      <a:pt x="6921" y="3454"/>
                    </a:lnTo>
                    <a:lnTo>
                      <a:pt x="6894" y="3512"/>
                    </a:lnTo>
                    <a:lnTo>
                      <a:pt x="6866" y="3568"/>
                    </a:lnTo>
                    <a:lnTo>
                      <a:pt x="6838" y="3624"/>
                    </a:lnTo>
                    <a:lnTo>
                      <a:pt x="6807" y="3679"/>
                    </a:lnTo>
                    <a:lnTo>
                      <a:pt x="6777" y="3734"/>
                    </a:lnTo>
                    <a:lnTo>
                      <a:pt x="6745" y="3788"/>
                    </a:lnTo>
                    <a:lnTo>
                      <a:pt x="6712" y="3842"/>
                    </a:lnTo>
                    <a:lnTo>
                      <a:pt x="6679" y="3895"/>
                    </a:lnTo>
                    <a:lnTo>
                      <a:pt x="6687" y="3891"/>
                    </a:lnTo>
                    <a:lnTo>
                      <a:pt x="6696" y="3886"/>
                    </a:lnTo>
                    <a:lnTo>
                      <a:pt x="6706" y="3882"/>
                    </a:lnTo>
                    <a:lnTo>
                      <a:pt x="6714" y="3878"/>
                    </a:lnTo>
                    <a:lnTo>
                      <a:pt x="6723" y="3874"/>
                    </a:lnTo>
                    <a:lnTo>
                      <a:pt x="6732" y="3870"/>
                    </a:lnTo>
                    <a:lnTo>
                      <a:pt x="6740" y="3866"/>
                    </a:lnTo>
                    <a:lnTo>
                      <a:pt x="6749" y="3861"/>
                    </a:lnTo>
                    <a:lnTo>
                      <a:pt x="6781" y="3809"/>
                    </a:lnTo>
                    <a:lnTo>
                      <a:pt x="6812" y="3756"/>
                    </a:lnTo>
                    <a:lnTo>
                      <a:pt x="6842" y="3703"/>
                    </a:lnTo>
                    <a:lnTo>
                      <a:pt x="6871" y="3648"/>
                    </a:lnTo>
                    <a:lnTo>
                      <a:pt x="6899" y="3594"/>
                    </a:lnTo>
                    <a:lnTo>
                      <a:pt x="6927" y="3539"/>
                    </a:lnTo>
                    <a:lnTo>
                      <a:pt x="6953" y="3482"/>
                    </a:lnTo>
                    <a:lnTo>
                      <a:pt x="6979" y="3426"/>
                    </a:lnTo>
                    <a:lnTo>
                      <a:pt x="7004" y="3370"/>
                    </a:lnTo>
                    <a:lnTo>
                      <a:pt x="7028" y="3313"/>
                    </a:lnTo>
                    <a:lnTo>
                      <a:pt x="7050" y="3254"/>
                    </a:lnTo>
                    <a:lnTo>
                      <a:pt x="7072" y="3196"/>
                    </a:lnTo>
                    <a:lnTo>
                      <a:pt x="7093" y="3138"/>
                    </a:lnTo>
                    <a:lnTo>
                      <a:pt x="7113" y="3078"/>
                    </a:lnTo>
                    <a:lnTo>
                      <a:pt x="7131" y="3019"/>
                    </a:lnTo>
                    <a:lnTo>
                      <a:pt x="7150" y="2959"/>
                    </a:lnTo>
                    <a:lnTo>
                      <a:pt x="7167" y="2898"/>
                    </a:lnTo>
                    <a:lnTo>
                      <a:pt x="7182" y="2838"/>
                    </a:lnTo>
                    <a:lnTo>
                      <a:pt x="7197" y="2776"/>
                    </a:lnTo>
                    <a:lnTo>
                      <a:pt x="7211" y="2714"/>
                    </a:lnTo>
                    <a:lnTo>
                      <a:pt x="7223" y="2653"/>
                    </a:lnTo>
                    <a:lnTo>
                      <a:pt x="7235" y="2590"/>
                    </a:lnTo>
                    <a:lnTo>
                      <a:pt x="7246" y="2528"/>
                    </a:lnTo>
                    <a:lnTo>
                      <a:pt x="7256" y="2464"/>
                    </a:lnTo>
                    <a:lnTo>
                      <a:pt x="7264" y="2401"/>
                    </a:lnTo>
                    <a:lnTo>
                      <a:pt x="7272" y="2338"/>
                    </a:lnTo>
                    <a:lnTo>
                      <a:pt x="7277" y="2273"/>
                    </a:lnTo>
                    <a:lnTo>
                      <a:pt x="7283" y="2208"/>
                    </a:lnTo>
                    <a:lnTo>
                      <a:pt x="7287" y="2143"/>
                    </a:lnTo>
                    <a:lnTo>
                      <a:pt x="7290" y="2078"/>
                    </a:lnTo>
                    <a:lnTo>
                      <a:pt x="7291" y="2014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33"/>
                    </a:lnTo>
                    <a:lnTo>
                      <a:pt x="7206" y="2100"/>
                    </a:lnTo>
                    <a:lnTo>
                      <a:pt x="7202" y="2167"/>
                    </a:lnTo>
                    <a:lnTo>
                      <a:pt x="7198" y="2234"/>
                    </a:lnTo>
                    <a:lnTo>
                      <a:pt x="7192" y="2301"/>
                    </a:lnTo>
                    <a:lnTo>
                      <a:pt x="7185" y="2366"/>
                    </a:lnTo>
                    <a:lnTo>
                      <a:pt x="7178" y="2432"/>
                    </a:lnTo>
                    <a:lnTo>
                      <a:pt x="7168" y="2498"/>
                    </a:lnTo>
                    <a:lnTo>
                      <a:pt x="7158" y="2563"/>
                    </a:lnTo>
                    <a:lnTo>
                      <a:pt x="7146" y="2628"/>
                    </a:lnTo>
                    <a:lnTo>
                      <a:pt x="7133" y="2692"/>
                    </a:lnTo>
                    <a:lnTo>
                      <a:pt x="7120" y="2756"/>
                    </a:lnTo>
                    <a:lnTo>
                      <a:pt x="7105" y="2819"/>
                    </a:lnTo>
                    <a:lnTo>
                      <a:pt x="7089" y="2883"/>
                    </a:lnTo>
                    <a:lnTo>
                      <a:pt x="7072" y="2945"/>
                    </a:lnTo>
                    <a:lnTo>
                      <a:pt x="7053" y="3007"/>
                    </a:lnTo>
                    <a:lnTo>
                      <a:pt x="7034" y="3068"/>
                    </a:lnTo>
                    <a:lnTo>
                      <a:pt x="7013" y="3130"/>
                    </a:lnTo>
                    <a:lnTo>
                      <a:pt x="6992" y="3190"/>
                    </a:lnTo>
                    <a:lnTo>
                      <a:pt x="6969" y="3250"/>
                    </a:lnTo>
                    <a:lnTo>
                      <a:pt x="6946" y="3310"/>
                    </a:lnTo>
                    <a:lnTo>
                      <a:pt x="6921" y="3369"/>
                    </a:lnTo>
                    <a:lnTo>
                      <a:pt x="6896" y="3428"/>
                    </a:lnTo>
                    <a:lnTo>
                      <a:pt x="6868" y="3485"/>
                    </a:lnTo>
                    <a:lnTo>
                      <a:pt x="6841" y="3543"/>
                    </a:lnTo>
                    <a:lnTo>
                      <a:pt x="6812" y="3600"/>
                    </a:lnTo>
                    <a:lnTo>
                      <a:pt x="6783" y="3656"/>
                    </a:lnTo>
                    <a:lnTo>
                      <a:pt x="6753" y="3712"/>
                    </a:lnTo>
                    <a:lnTo>
                      <a:pt x="6722" y="3767"/>
                    </a:lnTo>
                    <a:lnTo>
                      <a:pt x="6689" y="3821"/>
                    </a:lnTo>
                    <a:lnTo>
                      <a:pt x="6656" y="3875"/>
                    </a:lnTo>
                    <a:lnTo>
                      <a:pt x="6621" y="3928"/>
                    </a:lnTo>
                    <a:lnTo>
                      <a:pt x="6630" y="3925"/>
                    </a:lnTo>
                    <a:lnTo>
                      <a:pt x="6638" y="3921"/>
                    </a:lnTo>
                    <a:lnTo>
                      <a:pt x="6648" y="3916"/>
                    </a:lnTo>
                    <a:lnTo>
                      <a:pt x="6657" y="3912"/>
                    </a:lnTo>
                    <a:lnTo>
                      <a:pt x="6665" y="3908"/>
                    </a:lnTo>
                    <a:lnTo>
                      <a:pt x="6674" y="3903"/>
                    </a:lnTo>
                    <a:lnTo>
                      <a:pt x="6683" y="3900"/>
                    </a:lnTo>
                    <a:lnTo>
                      <a:pt x="6692" y="3896"/>
                    </a:lnTo>
                    <a:lnTo>
                      <a:pt x="6725" y="3843"/>
                    </a:lnTo>
                    <a:lnTo>
                      <a:pt x="6756" y="3790"/>
                    </a:lnTo>
                    <a:lnTo>
                      <a:pt x="6787" y="3736"/>
                    </a:lnTo>
                    <a:lnTo>
                      <a:pt x="6817" y="3681"/>
                    </a:lnTo>
                    <a:lnTo>
                      <a:pt x="6846" y="3626"/>
                    </a:lnTo>
                    <a:lnTo>
                      <a:pt x="6874" y="3571"/>
                    </a:lnTo>
                    <a:lnTo>
                      <a:pt x="6902" y="3514"/>
                    </a:lnTo>
                    <a:lnTo>
                      <a:pt x="6928" y="3457"/>
                    </a:lnTo>
                    <a:lnTo>
                      <a:pt x="6953" y="3400"/>
                    </a:lnTo>
                    <a:lnTo>
                      <a:pt x="6978" y="3343"/>
                    </a:lnTo>
                    <a:lnTo>
                      <a:pt x="7001" y="3284"/>
                    </a:lnTo>
                    <a:lnTo>
                      <a:pt x="7023" y="3226"/>
                    </a:lnTo>
                    <a:lnTo>
                      <a:pt x="7045" y="3167"/>
                    </a:lnTo>
                    <a:lnTo>
                      <a:pt x="7065" y="3107"/>
                    </a:lnTo>
                    <a:lnTo>
                      <a:pt x="7085" y="3047"/>
                    </a:lnTo>
                    <a:lnTo>
                      <a:pt x="7103" y="2986"/>
                    </a:lnTo>
                    <a:lnTo>
                      <a:pt x="7120" y="2926"/>
                    </a:lnTo>
                    <a:lnTo>
                      <a:pt x="7136" y="2864"/>
                    </a:lnTo>
                    <a:lnTo>
                      <a:pt x="7152" y="2802"/>
                    </a:lnTo>
                    <a:lnTo>
                      <a:pt x="7166" y="2740"/>
                    </a:lnTo>
                    <a:lnTo>
                      <a:pt x="7179" y="2677"/>
                    </a:lnTo>
                    <a:lnTo>
                      <a:pt x="7192" y="2614"/>
                    </a:lnTo>
                    <a:lnTo>
                      <a:pt x="7202" y="2551"/>
                    </a:lnTo>
                    <a:lnTo>
                      <a:pt x="7212" y="2487"/>
                    </a:lnTo>
                    <a:lnTo>
                      <a:pt x="7221" y="2423"/>
                    </a:lnTo>
                    <a:lnTo>
                      <a:pt x="7228" y="2358"/>
                    </a:lnTo>
                    <a:lnTo>
                      <a:pt x="7235" y="2293"/>
                    </a:lnTo>
                    <a:lnTo>
                      <a:pt x="7240" y="2228"/>
                    </a:lnTo>
                    <a:lnTo>
                      <a:pt x="7243" y="2162"/>
                    </a:lnTo>
                    <a:lnTo>
                      <a:pt x="7247" y="2096"/>
                    </a:lnTo>
                    <a:lnTo>
                      <a:pt x="7249" y="2031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df49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9"/>
                    </a:lnTo>
                    <a:lnTo>
                      <a:pt x="7164" y="2117"/>
                    </a:lnTo>
                    <a:lnTo>
                      <a:pt x="7161" y="2185"/>
                    </a:lnTo>
                    <a:lnTo>
                      <a:pt x="7156" y="2253"/>
                    </a:lnTo>
                    <a:lnTo>
                      <a:pt x="7151" y="2320"/>
                    </a:lnTo>
                    <a:lnTo>
                      <a:pt x="7143" y="2387"/>
                    </a:lnTo>
                    <a:lnTo>
                      <a:pt x="7136" y="2454"/>
                    </a:lnTo>
                    <a:lnTo>
                      <a:pt x="7126" y="2520"/>
                    </a:lnTo>
                    <a:lnTo>
                      <a:pt x="7115" y="2585"/>
                    </a:lnTo>
                    <a:lnTo>
                      <a:pt x="7104" y="2650"/>
                    </a:lnTo>
                    <a:lnTo>
                      <a:pt x="7091" y="2715"/>
                    </a:lnTo>
                    <a:lnTo>
                      <a:pt x="7076" y="2780"/>
                    </a:lnTo>
                    <a:lnTo>
                      <a:pt x="7061" y="2844"/>
                    </a:lnTo>
                    <a:lnTo>
                      <a:pt x="7045" y="2907"/>
                    </a:lnTo>
                    <a:lnTo>
                      <a:pt x="7027" y="2970"/>
                    </a:lnTo>
                    <a:lnTo>
                      <a:pt x="7008" y="3033"/>
                    </a:lnTo>
                    <a:lnTo>
                      <a:pt x="6989" y="3095"/>
                    </a:lnTo>
                    <a:lnTo>
                      <a:pt x="6967" y="3157"/>
                    </a:lnTo>
                    <a:lnTo>
                      <a:pt x="6946" y="3218"/>
                    </a:lnTo>
                    <a:lnTo>
                      <a:pt x="6923" y="3279"/>
                    </a:lnTo>
                    <a:lnTo>
                      <a:pt x="6898" y="3338"/>
                    </a:lnTo>
                    <a:lnTo>
                      <a:pt x="6873" y="3398"/>
                    </a:lnTo>
                    <a:lnTo>
                      <a:pt x="6846" y="3457"/>
                    </a:lnTo>
                    <a:lnTo>
                      <a:pt x="6819" y="3515"/>
                    </a:lnTo>
                    <a:lnTo>
                      <a:pt x="6791" y="3574"/>
                    </a:lnTo>
                    <a:lnTo>
                      <a:pt x="6762" y="3631"/>
                    </a:lnTo>
                    <a:lnTo>
                      <a:pt x="6732" y="3687"/>
                    </a:lnTo>
                    <a:lnTo>
                      <a:pt x="6700" y="3743"/>
                    </a:lnTo>
                    <a:lnTo>
                      <a:pt x="6668" y="3798"/>
                    </a:lnTo>
                    <a:lnTo>
                      <a:pt x="6635" y="3853"/>
                    </a:lnTo>
                    <a:lnTo>
                      <a:pt x="6600" y="3907"/>
                    </a:lnTo>
                    <a:lnTo>
                      <a:pt x="6565" y="3960"/>
                    </a:lnTo>
                    <a:lnTo>
                      <a:pt x="6574" y="3957"/>
                    </a:lnTo>
                    <a:lnTo>
                      <a:pt x="6584" y="3953"/>
                    </a:lnTo>
                    <a:lnTo>
                      <a:pt x="6592" y="3948"/>
                    </a:lnTo>
                    <a:lnTo>
                      <a:pt x="6601" y="3944"/>
                    </a:lnTo>
                    <a:lnTo>
                      <a:pt x="6610" y="3940"/>
                    </a:lnTo>
                    <a:lnTo>
                      <a:pt x="6619" y="3937"/>
                    </a:lnTo>
                    <a:lnTo>
                      <a:pt x="6628" y="3932"/>
                    </a:lnTo>
                    <a:lnTo>
                      <a:pt x="6637" y="3928"/>
                    </a:lnTo>
                    <a:lnTo>
                      <a:pt x="6670" y="3875"/>
                    </a:lnTo>
                    <a:lnTo>
                      <a:pt x="6703" y="3821"/>
                    </a:lnTo>
                    <a:lnTo>
                      <a:pt x="6734" y="3767"/>
                    </a:lnTo>
                    <a:lnTo>
                      <a:pt x="6765" y="3712"/>
                    </a:lnTo>
                    <a:lnTo>
                      <a:pt x="6796" y="3657"/>
                    </a:lnTo>
                    <a:lnTo>
                      <a:pt x="6824" y="3601"/>
                    </a:lnTo>
                    <a:lnTo>
                      <a:pt x="6852" y="3545"/>
                    </a:lnTo>
                    <a:lnTo>
                      <a:pt x="6879" y="3487"/>
                    </a:lnTo>
                    <a:lnTo>
                      <a:pt x="6905" y="3430"/>
                    </a:lnTo>
                    <a:lnTo>
                      <a:pt x="6930" y="3372"/>
                    </a:lnTo>
                    <a:lnTo>
                      <a:pt x="6953" y="3313"/>
                    </a:lnTo>
                    <a:lnTo>
                      <a:pt x="6977" y="3254"/>
                    </a:lnTo>
                    <a:lnTo>
                      <a:pt x="6999" y="3195"/>
                    </a:lnTo>
                    <a:lnTo>
                      <a:pt x="7019" y="3134"/>
                    </a:lnTo>
                    <a:lnTo>
                      <a:pt x="7040" y="3074"/>
                    </a:lnTo>
                    <a:lnTo>
                      <a:pt x="7058" y="3012"/>
                    </a:lnTo>
                    <a:lnTo>
                      <a:pt x="7076" y="2952"/>
                    </a:lnTo>
                    <a:lnTo>
                      <a:pt x="7093" y="2889"/>
                    </a:lnTo>
                    <a:lnTo>
                      <a:pt x="7109" y="2826"/>
                    </a:lnTo>
                    <a:lnTo>
                      <a:pt x="7123" y="2764"/>
                    </a:lnTo>
                    <a:lnTo>
                      <a:pt x="7136" y="2701"/>
                    </a:lnTo>
                    <a:lnTo>
                      <a:pt x="7149" y="2637"/>
                    </a:lnTo>
                    <a:lnTo>
                      <a:pt x="7160" y="2573"/>
                    </a:lnTo>
                    <a:lnTo>
                      <a:pt x="7170" y="2509"/>
                    </a:lnTo>
                    <a:lnTo>
                      <a:pt x="7179" y="2444"/>
                    </a:lnTo>
                    <a:lnTo>
                      <a:pt x="7187" y="2378"/>
                    </a:lnTo>
                    <a:lnTo>
                      <a:pt x="7193" y="2313"/>
                    </a:lnTo>
                    <a:lnTo>
                      <a:pt x="7199" y="2247"/>
                    </a:lnTo>
                    <a:lnTo>
                      <a:pt x="7203" y="2180"/>
                    </a:lnTo>
                    <a:lnTo>
                      <a:pt x="7206" y="2115"/>
                    </a:lnTo>
                    <a:lnTo>
                      <a:pt x="7208" y="2048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66"/>
                    </a:lnTo>
                    <a:lnTo>
                      <a:pt x="7122" y="2135"/>
                    </a:lnTo>
                    <a:lnTo>
                      <a:pt x="7119" y="2203"/>
                    </a:lnTo>
                    <a:lnTo>
                      <a:pt x="7115" y="2271"/>
                    </a:lnTo>
                    <a:lnTo>
                      <a:pt x="7108" y="2339"/>
                    </a:lnTo>
                    <a:lnTo>
                      <a:pt x="7101" y="2407"/>
                    </a:lnTo>
                    <a:lnTo>
                      <a:pt x="7093" y="2474"/>
                    </a:lnTo>
                    <a:lnTo>
                      <a:pt x="7084" y="2541"/>
                    </a:lnTo>
                    <a:lnTo>
                      <a:pt x="7073" y="2607"/>
                    </a:lnTo>
                    <a:lnTo>
                      <a:pt x="7060" y="2673"/>
                    </a:lnTo>
                    <a:lnTo>
                      <a:pt x="7047" y="2739"/>
                    </a:lnTo>
                    <a:lnTo>
                      <a:pt x="7033" y="2803"/>
                    </a:lnTo>
                    <a:lnTo>
                      <a:pt x="7017" y="2868"/>
                    </a:lnTo>
                    <a:lnTo>
                      <a:pt x="6999" y="2932"/>
                    </a:lnTo>
                    <a:lnTo>
                      <a:pt x="6982" y="2996"/>
                    </a:lnTo>
                    <a:lnTo>
                      <a:pt x="6963" y="3059"/>
                    </a:lnTo>
                    <a:lnTo>
                      <a:pt x="6942" y="3122"/>
                    </a:lnTo>
                    <a:lnTo>
                      <a:pt x="6920" y="3184"/>
                    </a:lnTo>
                    <a:lnTo>
                      <a:pt x="6898" y="3245"/>
                    </a:lnTo>
                    <a:lnTo>
                      <a:pt x="6874" y="3307"/>
                    </a:lnTo>
                    <a:lnTo>
                      <a:pt x="6849" y="3367"/>
                    </a:lnTo>
                    <a:lnTo>
                      <a:pt x="6823" y="3427"/>
                    </a:lnTo>
                    <a:lnTo>
                      <a:pt x="6797" y="3486"/>
                    </a:lnTo>
                    <a:lnTo>
                      <a:pt x="6769" y="3545"/>
                    </a:lnTo>
                    <a:lnTo>
                      <a:pt x="6740" y="3604"/>
                    </a:lnTo>
                    <a:lnTo>
                      <a:pt x="6710" y="3661"/>
                    </a:lnTo>
                    <a:lnTo>
                      <a:pt x="6678" y="3718"/>
                    </a:lnTo>
                    <a:lnTo>
                      <a:pt x="6646" y="3774"/>
                    </a:lnTo>
                    <a:lnTo>
                      <a:pt x="6614" y="3829"/>
                    </a:lnTo>
                    <a:lnTo>
                      <a:pt x="6579" y="3885"/>
                    </a:lnTo>
                    <a:lnTo>
                      <a:pt x="6544" y="3939"/>
                    </a:lnTo>
                    <a:lnTo>
                      <a:pt x="6509" y="3993"/>
                    </a:lnTo>
                    <a:lnTo>
                      <a:pt x="6517" y="3988"/>
                    </a:lnTo>
                    <a:lnTo>
                      <a:pt x="6526" y="3985"/>
                    </a:lnTo>
                    <a:lnTo>
                      <a:pt x="6536" y="3981"/>
                    </a:lnTo>
                    <a:lnTo>
                      <a:pt x="6544" y="3976"/>
                    </a:lnTo>
                    <a:lnTo>
                      <a:pt x="6553" y="3973"/>
                    </a:lnTo>
                    <a:lnTo>
                      <a:pt x="6562" y="3969"/>
                    </a:lnTo>
                    <a:lnTo>
                      <a:pt x="6571" y="3964"/>
                    </a:lnTo>
                    <a:lnTo>
                      <a:pt x="6580" y="3960"/>
                    </a:lnTo>
                    <a:lnTo>
                      <a:pt x="6615" y="3907"/>
                    </a:lnTo>
                    <a:lnTo>
                      <a:pt x="6648" y="3853"/>
                    </a:lnTo>
                    <a:lnTo>
                      <a:pt x="6681" y="3799"/>
                    </a:lnTo>
                    <a:lnTo>
                      <a:pt x="6712" y="3744"/>
                    </a:lnTo>
                    <a:lnTo>
                      <a:pt x="6742" y="3688"/>
                    </a:lnTo>
                    <a:lnTo>
                      <a:pt x="6771" y="3632"/>
                    </a:lnTo>
                    <a:lnTo>
                      <a:pt x="6800" y="3575"/>
                    </a:lnTo>
                    <a:lnTo>
                      <a:pt x="6827" y="3517"/>
                    </a:lnTo>
                    <a:lnTo>
                      <a:pt x="6855" y="3460"/>
                    </a:lnTo>
                    <a:lnTo>
                      <a:pt x="6880" y="3401"/>
                    </a:lnTo>
                    <a:lnTo>
                      <a:pt x="6905" y="3342"/>
                    </a:lnTo>
                    <a:lnTo>
                      <a:pt x="6928" y="3282"/>
                    </a:lnTo>
                    <a:lnTo>
                      <a:pt x="6951" y="3222"/>
                    </a:lnTo>
                    <a:lnTo>
                      <a:pt x="6972" y="3162"/>
                    </a:lnTo>
                    <a:lnTo>
                      <a:pt x="6993" y="3100"/>
                    </a:lnTo>
                    <a:lnTo>
                      <a:pt x="7012" y="3039"/>
                    </a:lnTo>
                    <a:lnTo>
                      <a:pt x="7031" y="2977"/>
                    </a:lnTo>
                    <a:lnTo>
                      <a:pt x="7048" y="2915"/>
                    </a:lnTo>
                    <a:lnTo>
                      <a:pt x="7064" y="2851"/>
                    </a:lnTo>
                    <a:lnTo>
                      <a:pt x="7079" y="2788"/>
                    </a:lnTo>
                    <a:lnTo>
                      <a:pt x="7092" y="2724"/>
                    </a:lnTo>
                    <a:lnTo>
                      <a:pt x="7105" y="2660"/>
                    </a:lnTo>
                    <a:lnTo>
                      <a:pt x="7117" y="2595"/>
                    </a:lnTo>
                    <a:lnTo>
                      <a:pt x="7127" y="2530"/>
                    </a:lnTo>
                    <a:lnTo>
                      <a:pt x="7137" y="2464"/>
                    </a:lnTo>
                    <a:lnTo>
                      <a:pt x="7144" y="2398"/>
                    </a:lnTo>
                    <a:lnTo>
                      <a:pt x="7151" y="2333"/>
                    </a:lnTo>
                    <a:lnTo>
                      <a:pt x="7157" y="2266"/>
                    </a:lnTo>
                    <a:lnTo>
                      <a:pt x="7161" y="2199"/>
                    </a:lnTo>
                    <a:lnTo>
                      <a:pt x="7165" y="2132"/>
                    </a:lnTo>
                    <a:lnTo>
                      <a:pt x="7166" y="2065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3" y="2083"/>
                    </a:lnTo>
                    <a:lnTo>
                      <a:pt x="7082" y="2152"/>
                    </a:lnTo>
                    <a:lnTo>
                      <a:pt x="7078" y="2221"/>
                    </a:lnTo>
                    <a:lnTo>
                      <a:pt x="7073" y="2290"/>
                    </a:lnTo>
                    <a:lnTo>
                      <a:pt x="7067" y="2359"/>
                    </a:lnTo>
                    <a:lnTo>
                      <a:pt x="7060" y="2427"/>
                    </a:lnTo>
                    <a:lnTo>
                      <a:pt x="7052" y="2495"/>
                    </a:lnTo>
                    <a:lnTo>
                      <a:pt x="7041" y="2562"/>
                    </a:lnTo>
                    <a:lnTo>
                      <a:pt x="7030" y="2629"/>
                    </a:lnTo>
                    <a:lnTo>
                      <a:pt x="7018" y="2696"/>
                    </a:lnTo>
                    <a:lnTo>
                      <a:pt x="7004" y="2762"/>
                    </a:lnTo>
                    <a:lnTo>
                      <a:pt x="6989" y="2828"/>
                    </a:lnTo>
                    <a:lnTo>
                      <a:pt x="6973" y="2893"/>
                    </a:lnTo>
                    <a:lnTo>
                      <a:pt x="6956" y="2958"/>
                    </a:lnTo>
                    <a:lnTo>
                      <a:pt x="6937" y="3021"/>
                    </a:lnTo>
                    <a:lnTo>
                      <a:pt x="6918" y="3085"/>
                    </a:lnTo>
                    <a:lnTo>
                      <a:pt x="6896" y="3149"/>
                    </a:lnTo>
                    <a:lnTo>
                      <a:pt x="6874" y="3211"/>
                    </a:lnTo>
                    <a:lnTo>
                      <a:pt x="6852" y="3273"/>
                    </a:lnTo>
                    <a:lnTo>
                      <a:pt x="6827" y="3335"/>
                    </a:lnTo>
                    <a:lnTo>
                      <a:pt x="6801" y="3396"/>
                    </a:lnTo>
                    <a:lnTo>
                      <a:pt x="6775" y="3456"/>
                    </a:lnTo>
                    <a:lnTo>
                      <a:pt x="6747" y="3516"/>
                    </a:lnTo>
                    <a:lnTo>
                      <a:pt x="6719" y="3575"/>
                    </a:lnTo>
                    <a:lnTo>
                      <a:pt x="6689" y="3634"/>
                    </a:lnTo>
                    <a:lnTo>
                      <a:pt x="6658" y="3691"/>
                    </a:lnTo>
                    <a:lnTo>
                      <a:pt x="6626" y="3748"/>
                    </a:lnTo>
                    <a:lnTo>
                      <a:pt x="6594" y="3805"/>
                    </a:lnTo>
                    <a:lnTo>
                      <a:pt x="6559" y="3862"/>
                    </a:lnTo>
                    <a:lnTo>
                      <a:pt x="6524" y="3917"/>
                    </a:lnTo>
                    <a:lnTo>
                      <a:pt x="6489" y="3971"/>
                    </a:lnTo>
                    <a:lnTo>
                      <a:pt x="6452" y="4025"/>
                    </a:lnTo>
                    <a:lnTo>
                      <a:pt x="6461" y="4020"/>
                    </a:lnTo>
                    <a:lnTo>
                      <a:pt x="6470" y="4017"/>
                    </a:lnTo>
                    <a:lnTo>
                      <a:pt x="6479" y="4013"/>
                    </a:lnTo>
                    <a:lnTo>
                      <a:pt x="6488" y="4009"/>
                    </a:lnTo>
                    <a:lnTo>
                      <a:pt x="6497" y="4005"/>
                    </a:lnTo>
                    <a:lnTo>
                      <a:pt x="6506" y="4001"/>
                    </a:lnTo>
                    <a:lnTo>
                      <a:pt x="6516" y="3997"/>
                    </a:lnTo>
                    <a:lnTo>
                      <a:pt x="6524" y="3992"/>
                    </a:lnTo>
                    <a:lnTo>
                      <a:pt x="6559" y="3939"/>
                    </a:lnTo>
                    <a:lnTo>
                      <a:pt x="6594" y="3885"/>
                    </a:lnTo>
                    <a:lnTo>
                      <a:pt x="6627" y="3830"/>
                    </a:lnTo>
                    <a:lnTo>
                      <a:pt x="6659" y="3775"/>
                    </a:lnTo>
                    <a:lnTo>
                      <a:pt x="6691" y="3719"/>
                    </a:lnTo>
                    <a:lnTo>
                      <a:pt x="6721" y="3663"/>
                    </a:lnTo>
                    <a:lnTo>
                      <a:pt x="6750" y="3606"/>
                    </a:lnTo>
                    <a:lnTo>
                      <a:pt x="6778" y="3547"/>
                    </a:lnTo>
                    <a:lnTo>
                      <a:pt x="6805" y="3489"/>
                    </a:lnTo>
                    <a:lnTo>
                      <a:pt x="6832" y="3430"/>
                    </a:lnTo>
                    <a:lnTo>
                      <a:pt x="6857" y="3370"/>
                    </a:lnTo>
                    <a:lnTo>
                      <a:pt x="6882" y="3311"/>
                    </a:lnTo>
                    <a:lnTo>
                      <a:pt x="6905" y="3250"/>
                    </a:lnTo>
                    <a:lnTo>
                      <a:pt x="6926" y="3189"/>
                    </a:lnTo>
                    <a:lnTo>
                      <a:pt x="6948" y="3127"/>
                    </a:lnTo>
                    <a:lnTo>
                      <a:pt x="6967" y="3065"/>
                    </a:lnTo>
                    <a:lnTo>
                      <a:pt x="6986" y="3002"/>
                    </a:lnTo>
                    <a:lnTo>
                      <a:pt x="7004" y="2939"/>
                    </a:lnTo>
                    <a:lnTo>
                      <a:pt x="7020" y="2876"/>
                    </a:lnTo>
                    <a:lnTo>
                      <a:pt x="7035" y="2812"/>
                    </a:lnTo>
                    <a:lnTo>
                      <a:pt x="7050" y="2747"/>
                    </a:lnTo>
                    <a:lnTo>
                      <a:pt x="7063" y="2682"/>
                    </a:lnTo>
                    <a:lnTo>
                      <a:pt x="7074" y="2617"/>
                    </a:lnTo>
                    <a:lnTo>
                      <a:pt x="7085" y="2552"/>
                    </a:lnTo>
                    <a:lnTo>
                      <a:pt x="7095" y="2486"/>
                    </a:lnTo>
                    <a:lnTo>
                      <a:pt x="7102" y="2419"/>
                    </a:lnTo>
                    <a:lnTo>
                      <a:pt x="7110" y="2352"/>
                    </a:lnTo>
                    <a:lnTo>
                      <a:pt x="7115" y="2285"/>
                    </a:lnTo>
                    <a:lnTo>
                      <a:pt x="7120" y="2217"/>
                    </a:lnTo>
                    <a:lnTo>
                      <a:pt x="7123" y="2149"/>
                    </a:lnTo>
                    <a:lnTo>
                      <a:pt x="7125" y="2081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99"/>
                    </a:lnTo>
                    <a:lnTo>
                      <a:pt x="7038" y="2169"/>
                    </a:lnTo>
                    <a:lnTo>
                      <a:pt x="7035" y="2239"/>
                    </a:lnTo>
                    <a:lnTo>
                      <a:pt x="7030" y="2309"/>
                    </a:lnTo>
                    <a:lnTo>
                      <a:pt x="7024" y="2379"/>
                    </a:lnTo>
                    <a:lnTo>
                      <a:pt x="7017" y="2447"/>
                    </a:lnTo>
                    <a:lnTo>
                      <a:pt x="7008" y="2516"/>
                    </a:lnTo>
                    <a:lnTo>
                      <a:pt x="6997" y="2584"/>
                    </a:lnTo>
                    <a:lnTo>
                      <a:pt x="6986" y="2651"/>
                    </a:lnTo>
                    <a:lnTo>
                      <a:pt x="6974" y="2719"/>
                    </a:lnTo>
                    <a:lnTo>
                      <a:pt x="6959" y="2785"/>
                    </a:lnTo>
                    <a:lnTo>
                      <a:pt x="6944" y="2852"/>
                    </a:lnTo>
                    <a:lnTo>
                      <a:pt x="6927" y="2916"/>
                    </a:lnTo>
                    <a:lnTo>
                      <a:pt x="6910" y="2982"/>
                    </a:lnTo>
                    <a:lnTo>
                      <a:pt x="6890" y="3047"/>
                    </a:lnTo>
                    <a:lnTo>
                      <a:pt x="6871" y="3111"/>
                    </a:lnTo>
                    <a:lnTo>
                      <a:pt x="6849" y="3175"/>
                    </a:lnTo>
                    <a:lnTo>
                      <a:pt x="6827" y="3238"/>
                    </a:lnTo>
                    <a:lnTo>
                      <a:pt x="6803" y="3301"/>
                    </a:lnTo>
                    <a:lnTo>
                      <a:pt x="6778" y="3362"/>
                    </a:lnTo>
                    <a:lnTo>
                      <a:pt x="6752" y="3424"/>
                    </a:lnTo>
                    <a:lnTo>
                      <a:pt x="6725" y="3485"/>
                    </a:lnTo>
                    <a:lnTo>
                      <a:pt x="6696" y="3545"/>
                    </a:lnTo>
                    <a:lnTo>
                      <a:pt x="6667" y="3604"/>
                    </a:lnTo>
                    <a:lnTo>
                      <a:pt x="6636" y="3663"/>
                    </a:lnTo>
                    <a:lnTo>
                      <a:pt x="6605" y="3721"/>
                    </a:lnTo>
                    <a:lnTo>
                      <a:pt x="6573" y="3778"/>
                    </a:lnTo>
                    <a:lnTo>
                      <a:pt x="6539" y="3836"/>
                    </a:lnTo>
                    <a:lnTo>
                      <a:pt x="6503" y="3892"/>
                    </a:lnTo>
                    <a:lnTo>
                      <a:pt x="6468" y="3947"/>
                    </a:lnTo>
                    <a:lnTo>
                      <a:pt x="6431" y="4002"/>
                    </a:lnTo>
                    <a:lnTo>
                      <a:pt x="6393" y="4056"/>
                    </a:lnTo>
                    <a:lnTo>
                      <a:pt x="6403" y="4053"/>
                    </a:lnTo>
                    <a:lnTo>
                      <a:pt x="6412" y="4048"/>
                    </a:lnTo>
                    <a:lnTo>
                      <a:pt x="6421" y="4044"/>
                    </a:lnTo>
                    <a:lnTo>
                      <a:pt x="6430" y="4041"/>
                    </a:lnTo>
                    <a:lnTo>
                      <a:pt x="6440" y="4036"/>
                    </a:lnTo>
                    <a:lnTo>
                      <a:pt x="6448" y="4032"/>
                    </a:lnTo>
                    <a:lnTo>
                      <a:pt x="6457" y="4029"/>
                    </a:lnTo>
                    <a:lnTo>
                      <a:pt x="6467" y="4025"/>
                    </a:lnTo>
                    <a:lnTo>
                      <a:pt x="6502" y="3971"/>
                    </a:lnTo>
                    <a:lnTo>
                      <a:pt x="6537" y="3917"/>
                    </a:lnTo>
                    <a:lnTo>
                      <a:pt x="6572" y="3861"/>
                    </a:lnTo>
                    <a:lnTo>
                      <a:pt x="6604" y="3806"/>
                    </a:lnTo>
                    <a:lnTo>
                      <a:pt x="6636" y="3750"/>
                    </a:lnTo>
                    <a:lnTo>
                      <a:pt x="6668" y="3693"/>
                    </a:lnTo>
                    <a:lnTo>
                      <a:pt x="6698" y="3636"/>
                    </a:lnTo>
                    <a:lnTo>
                      <a:pt x="6727" y="3577"/>
                    </a:lnTo>
                    <a:lnTo>
                      <a:pt x="6755" y="3518"/>
                    </a:lnTo>
                    <a:lnTo>
                      <a:pt x="6781" y="3459"/>
                    </a:lnTo>
                    <a:lnTo>
                      <a:pt x="6807" y="3399"/>
                    </a:lnTo>
                    <a:lnTo>
                      <a:pt x="6832" y="3339"/>
                    </a:lnTo>
                    <a:lnTo>
                      <a:pt x="6856" y="3277"/>
                    </a:lnTo>
                    <a:lnTo>
                      <a:pt x="6878" y="3216"/>
                    </a:lnTo>
                    <a:lnTo>
                      <a:pt x="6900" y="3154"/>
                    </a:lnTo>
                    <a:lnTo>
                      <a:pt x="6921" y="3091"/>
                    </a:lnTo>
                    <a:lnTo>
                      <a:pt x="6940" y="3028"/>
                    </a:lnTo>
                    <a:lnTo>
                      <a:pt x="6957" y="2964"/>
                    </a:lnTo>
                    <a:lnTo>
                      <a:pt x="6975" y="2900"/>
                    </a:lnTo>
                    <a:lnTo>
                      <a:pt x="6991" y="2835"/>
                    </a:lnTo>
                    <a:lnTo>
                      <a:pt x="7005" y="2771"/>
                    </a:lnTo>
                    <a:lnTo>
                      <a:pt x="7018" y="2705"/>
                    </a:lnTo>
                    <a:lnTo>
                      <a:pt x="7031" y="2639"/>
                    </a:lnTo>
                    <a:lnTo>
                      <a:pt x="7042" y="2573"/>
                    </a:lnTo>
                    <a:lnTo>
                      <a:pt x="7051" y="2506"/>
                    </a:lnTo>
                    <a:lnTo>
                      <a:pt x="7059" y="2439"/>
                    </a:lnTo>
                    <a:lnTo>
                      <a:pt x="7066" y="2371"/>
                    </a:lnTo>
                    <a:lnTo>
                      <a:pt x="7073" y="2303"/>
                    </a:lnTo>
                    <a:lnTo>
                      <a:pt x="7077" y="2235"/>
                    </a:lnTo>
                    <a:lnTo>
                      <a:pt x="7080" y="2167"/>
                    </a:lnTo>
                    <a:lnTo>
                      <a:pt x="7083" y="209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15"/>
                    </a:lnTo>
                    <a:lnTo>
                      <a:pt x="6998" y="2186"/>
                    </a:lnTo>
                    <a:lnTo>
                      <a:pt x="6995" y="2256"/>
                    </a:lnTo>
                    <a:lnTo>
                      <a:pt x="6989" y="2327"/>
                    </a:lnTo>
                    <a:lnTo>
                      <a:pt x="6983" y="2397"/>
                    </a:lnTo>
                    <a:lnTo>
                      <a:pt x="6975" y="2466"/>
                    </a:lnTo>
                    <a:lnTo>
                      <a:pt x="6965" y="2535"/>
                    </a:lnTo>
                    <a:lnTo>
                      <a:pt x="6956" y="2604"/>
                    </a:lnTo>
                    <a:lnTo>
                      <a:pt x="6944" y="2672"/>
                    </a:lnTo>
                    <a:lnTo>
                      <a:pt x="6931" y="2740"/>
                    </a:lnTo>
                    <a:lnTo>
                      <a:pt x="6916" y="2807"/>
                    </a:lnTo>
                    <a:lnTo>
                      <a:pt x="6901" y="2874"/>
                    </a:lnTo>
                    <a:lnTo>
                      <a:pt x="6883" y="2940"/>
                    </a:lnTo>
                    <a:lnTo>
                      <a:pt x="6865" y="3006"/>
                    </a:lnTo>
                    <a:lnTo>
                      <a:pt x="6845" y="3072"/>
                    </a:lnTo>
                    <a:lnTo>
                      <a:pt x="6825" y="3137"/>
                    </a:lnTo>
                    <a:lnTo>
                      <a:pt x="6803" y="3200"/>
                    </a:lnTo>
                    <a:lnTo>
                      <a:pt x="6780" y="3264"/>
                    </a:lnTo>
                    <a:lnTo>
                      <a:pt x="6756" y="3327"/>
                    </a:lnTo>
                    <a:lnTo>
                      <a:pt x="6730" y="3389"/>
                    </a:lnTo>
                    <a:lnTo>
                      <a:pt x="6704" y="3451"/>
                    </a:lnTo>
                    <a:lnTo>
                      <a:pt x="6676" y="3512"/>
                    </a:lnTo>
                    <a:lnTo>
                      <a:pt x="6647" y="3573"/>
                    </a:lnTo>
                    <a:lnTo>
                      <a:pt x="6616" y="3632"/>
                    </a:lnTo>
                    <a:lnTo>
                      <a:pt x="6585" y="3692"/>
                    </a:lnTo>
                    <a:lnTo>
                      <a:pt x="6553" y="3750"/>
                    </a:lnTo>
                    <a:lnTo>
                      <a:pt x="6519" y="3808"/>
                    </a:lnTo>
                    <a:lnTo>
                      <a:pt x="6485" y="3866"/>
                    </a:lnTo>
                    <a:lnTo>
                      <a:pt x="6449" y="3922"/>
                    </a:lnTo>
                    <a:lnTo>
                      <a:pt x="6413" y="3978"/>
                    </a:lnTo>
                    <a:lnTo>
                      <a:pt x="6375" y="4032"/>
                    </a:lnTo>
                    <a:lnTo>
                      <a:pt x="6337" y="4087"/>
                    </a:lnTo>
                    <a:lnTo>
                      <a:pt x="6346" y="4083"/>
                    </a:lnTo>
                    <a:lnTo>
                      <a:pt x="6355" y="4079"/>
                    </a:lnTo>
                    <a:lnTo>
                      <a:pt x="6365" y="4075"/>
                    </a:lnTo>
                    <a:lnTo>
                      <a:pt x="6373" y="4071"/>
                    </a:lnTo>
                    <a:lnTo>
                      <a:pt x="6382" y="4068"/>
                    </a:lnTo>
                    <a:lnTo>
                      <a:pt x="6392" y="4063"/>
                    </a:lnTo>
                    <a:lnTo>
                      <a:pt x="6400" y="4060"/>
                    </a:lnTo>
                    <a:lnTo>
                      <a:pt x="6410" y="4056"/>
                    </a:lnTo>
                    <a:lnTo>
                      <a:pt x="6447" y="4002"/>
                    </a:lnTo>
                    <a:lnTo>
                      <a:pt x="6482" y="3948"/>
                    </a:lnTo>
                    <a:lnTo>
                      <a:pt x="6517" y="3893"/>
                    </a:lnTo>
                    <a:lnTo>
                      <a:pt x="6552" y="3836"/>
                    </a:lnTo>
                    <a:lnTo>
                      <a:pt x="6584" y="3779"/>
                    </a:lnTo>
                    <a:lnTo>
                      <a:pt x="6616" y="3722"/>
                    </a:lnTo>
                    <a:lnTo>
                      <a:pt x="6647" y="3665"/>
                    </a:lnTo>
                    <a:lnTo>
                      <a:pt x="6677" y="3606"/>
                    </a:lnTo>
                    <a:lnTo>
                      <a:pt x="6705" y="3547"/>
                    </a:lnTo>
                    <a:lnTo>
                      <a:pt x="6733" y="3487"/>
                    </a:lnTo>
                    <a:lnTo>
                      <a:pt x="6759" y="3427"/>
                    </a:lnTo>
                    <a:lnTo>
                      <a:pt x="6785" y="3366"/>
                    </a:lnTo>
                    <a:lnTo>
                      <a:pt x="6810" y="3304"/>
                    </a:lnTo>
                    <a:lnTo>
                      <a:pt x="6832" y="3242"/>
                    </a:lnTo>
                    <a:lnTo>
                      <a:pt x="6854" y="3180"/>
                    </a:lnTo>
                    <a:lnTo>
                      <a:pt x="6876" y="3116"/>
                    </a:lnTo>
                    <a:lnTo>
                      <a:pt x="6895" y="3052"/>
                    </a:lnTo>
                    <a:lnTo>
                      <a:pt x="6914" y="2989"/>
                    </a:lnTo>
                    <a:lnTo>
                      <a:pt x="6931" y="2924"/>
                    </a:lnTo>
                    <a:lnTo>
                      <a:pt x="6947" y="2859"/>
                    </a:lnTo>
                    <a:lnTo>
                      <a:pt x="6962" y="2793"/>
                    </a:lnTo>
                    <a:lnTo>
                      <a:pt x="6976" y="2727"/>
                    </a:lnTo>
                    <a:lnTo>
                      <a:pt x="6988" y="2660"/>
                    </a:lnTo>
                    <a:lnTo>
                      <a:pt x="6999" y="2593"/>
                    </a:lnTo>
                    <a:lnTo>
                      <a:pt x="7010" y="2526"/>
                    </a:lnTo>
                    <a:lnTo>
                      <a:pt x="7018" y="2458"/>
                    </a:lnTo>
                    <a:lnTo>
                      <a:pt x="7025" y="2390"/>
                    </a:lnTo>
                    <a:lnTo>
                      <a:pt x="7031" y="2321"/>
                    </a:lnTo>
                    <a:lnTo>
                      <a:pt x="7036" y="2252"/>
                    </a:lnTo>
                    <a:lnTo>
                      <a:pt x="7040" y="2183"/>
                    </a:lnTo>
                    <a:lnTo>
                      <a:pt x="7041" y="2114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31"/>
                    </a:lnTo>
                    <a:lnTo>
                      <a:pt x="6955" y="2202"/>
                    </a:lnTo>
                    <a:lnTo>
                      <a:pt x="6952" y="2274"/>
                    </a:lnTo>
                    <a:lnTo>
                      <a:pt x="6947" y="2345"/>
                    </a:lnTo>
                    <a:lnTo>
                      <a:pt x="6940" y="2415"/>
                    </a:lnTo>
                    <a:lnTo>
                      <a:pt x="6933" y="2485"/>
                    </a:lnTo>
                    <a:lnTo>
                      <a:pt x="6923" y="2555"/>
                    </a:lnTo>
                    <a:lnTo>
                      <a:pt x="6912" y="2625"/>
                    </a:lnTo>
                    <a:lnTo>
                      <a:pt x="6900" y="2694"/>
                    </a:lnTo>
                    <a:lnTo>
                      <a:pt x="6887" y="2762"/>
                    </a:lnTo>
                    <a:lnTo>
                      <a:pt x="6872" y="2830"/>
                    </a:lnTo>
                    <a:lnTo>
                      <a:pt x="6856" y="2897"/>
                    </a:lnTo>
                    <a:lnTo>
                      <a:pt x="6839" y="2964"/>
                    </a:lnTo>
                    <a:lnTo>
                      <a:pt x="6820" y="3030"/>
                    </a:lnTo>
                    <a:lnTo>
                      <a:pt x="6800" y="3095"/>
                    </a:lnTo>
                    <a:lnTo>
                      <a:pt x="6779" y="3161"/>
                    </a:lnTo>
                    <a:lnTo>
                      <a:pt x="6756" y="3226"/>
                    </a:lnTo>
                    <a:lnTo>
                      <a:pt x="6733" y="3290"/>
                    </a:lnTo>
                    <a:lnTo>
                      <a:pt x="6708" y="3354"/>
                    </a:lnTo>
                    <a:lnTo>
                      <a:pt x="6682" y="3416"/>
                    </a:lnTo>
                    <a:lnTo>
                      <a:pt x="6654" y="3478"/>
                    </a:lnTo>
                    <a:lnTo>
                      <a:pt x="6626" y="3539"/>
                    </a:lnTo>
                    <a:lnTo>
                      <a:pt x="6596" y="3601"/>
                    </a:lnTo>
                    <a:lnTo>
                      <a:pt x="6565" y="3661"/>
                    </a:lnTo>
                    <a:lnTo>
                      <a:pt x="6533" y="3721"/>
                    </a:lnTo>
                    <a:lnTo>
                      <a:pt x="6500" y="3779"/>
                    </a:lnTo>
                    <a:lnTo>
                      <a:pt x="6466" y="3837"/>
                    </a:lnTo>
                    <a:lnTo>
                      <a:pt x="6430" y="3895"/>
                    </a:lnTo>
                    <a:lnTo>
                      <a:pt x="6394" y="3952"/>
                    </a:lnTo>
                    <a:lnTo>
                      <a:pt x="6357" y="4007"/>
                    </a:lnTo>
                    <a:lnTo>
                      <a:pt x="6319" y="4062"/>
                    </a:lnTo>
                    <a:lnTo>
                      <a:pt x="6279" y="4117"/>
                    </a:lnTo>
                    <a:lnTo>
                      <a:pt x="6289" y="4113"/>
                    </a:lnTo>
                    <a:lnTo>
                      <a:pt x="6297" y="4110"/>
                    </a:lnTo>
                    <a:lnTo>
                      <a:pt x="6307" y="4105"/>
                    </a:lnTo>
                    <a:lnTo>
                      <a:pt x="6316" y="4101"/>
                    </a:lnTo>
                    <a:lnTo>
                      <a:pt x="6325" y="4098"/>
                    </a:lnTo>
                    <a:lnTo>
                      <a:pt x="6334" y="4093"/>
                    </a:lnTo>
                    <a:lnTo>
                      <a:pt x="6344" y="4090"/>
                    </a:lnTo>
                    <a:lnTo>
                      <a:pt x="6352" y="4086"/>
                    </a:lnTo>
                    <a:lnTo>
                      <a:pt x="6390" y="4032"/>
                    </a:lnTo>
                    <a:lnTo>
                      <a:pt x="6427" y="3977"/>
                    </a:lnTo>
                    <a:lnTo>
                      <a:pt x="6462" y="3922"/>
                    </a:lnTo>
                    <a:lnTo>
                      <a:pt x="6498" y="3866"/>
                    </a:lnTo>
                    <a:lnTo>
                      <a:pt x="6532" y="3808"/>
                    </a:lnTo>
                    <a:lnTo>
                      <a:pt x="6564" y="3751"/>
                    </a:lnTo>
                    <a:lnTo>
                      <a:pt x="6595" y="3693"/>
                    </a:lnTo>
                    <a:lnTo>
                      <a:pt x="6626" y="3634"/>
                    </a:lnTo>
                    <a:lnTo>
                      <a:pt x="6655" y="3575"/>
                    </a:lnTo>
                    <a:lnTo>
                      <a:pt x="6684" y="3515"/>
                    </a:lnTo>
                    <a:lnTo>
                      <a:pt x="6711" y="3454"/>
                    </a:lnTo>
                    <a:lnTo>
                      <a:pt x="6737" y="3392"/>
                    </a:lnTo>
                    <a:lnTo>
                      <a:pt x="6762" y="3331"/>
                    </a:lnTo>
                    <a:lnTo>
                      <a:pt x="6786" y="3268"/>
                    </a:lnTo>
                    <a:lnTo>
                      <a:pt x="6808" y="3205"/>
                    </a:lnTo>
                    <a:lnTo>
                      <a:pt x="6830" y="3141"/>
                    </a:lnTo>
                    <a:lnTo>
                      <a:pt x="6849" y="3077"/>
                    </a:lnTo>
                    <a:lnTo>
                      <a:pt x="6869" y="3012"/>
                    </a:lnTo>
                    <a:lnTo>
                      <a:pt x="6886" y="2946"/>
                    </a:lnTo>
                    <a:lnTo>
                      <a:pt x="6903" y="2882"/>
                    </a:lnTo>
                    <a:lnTo>
                      <a:pt x="6918" y="2815"/>
                    </a:lnTo>
                    <a:lnTo>
                      <a:pt x="6933" y="2749"/>
                    </a:lnTo>
                    <a:lnTo>
                      <a:pt x="6945" y="2681"/>
                    </a:lnTo>
                    <a:lnTo>
                      <a:pt x="6956" y="2614"/>
                    </a:lnTo>
                    <a:lnTo>
                      <a:pt x="6967" y="2546"/>
                    </a:lnTo>
                    <a:lnTo>
                      <a:pt x="6976" y="2477"/>
                    </a:lnTo>
                    <a:lnTo>
                      <a:pt x="6983" y="2409"/>
                    </a:lnTo>
                    <a:lnTo>
                      <a:pt x="6989" y="2339"/>
                    </a:lnTo>
                    <a:lnTo>
                      <a:pt x="6994" y="2269"/>
                    </a:lnTo>
                    <a:lnTo>
                      <a:pt x="6997" y="2199"/>
                    </a:lnTo>
                    <a:lnTo>
                      <a:pt x="7000" y="2129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46"/>
                    </a:lnTo>
                    <a:lnTo>
                      <a:pt x="6915" y="2218"/>
                    </a:lnTo>
                    <a:lnTo>
                      <a:pt x="6911" y="2291"/>
                    </a:lnTo>
                    <a:lnTo>
                      <a:pt x="6906" y="2362"/>
                    </a:lnTo>
                    <a:lnTo>
                      <a:pt x="6900" y="2433"/>
                    </a:lnTo>
                    <a:lnTo>
                      <a:pt x="6891" y="2505"/>
                    </a:lnTo>
                    <a:lnTo>
                      <a:pt x="6881" y="2575"/>
                    </a:lnTo>
                    <a:lnTo>
                      <a:pt x="6870" y="2645"/>
                    </a:lnTo>
                    <a:lnTo>
                      <a:pt x="6858" y="2714"/>
                    </a:lnTo>
                    <a:lnTo>
                      <a:pt x="6844" y="2783"/>
                    </a:lnTo>
                    <a:lnTo>
                      <a:pt x="6829" y="2851"/>
                    </a:lnTo>
                    <a:lnTo>
                      <a:pt x="6813" y="2919"/>
                    </a:lnTo>
                    <a:lnTo>
                      <a:pt x="6795" y="2987"/>
                    </a:lnTo>
                    <a:lnTo>
                      <a:pt x="6775" y="3054"/>
                    </a:lnTo>
                    <a:lnTo>
                      <a:pt x="6755" y="3120"/>
                    </a:lnTo>
                    <a:lnTo>
                      <a:pt x="6733" y="3186"/>
                    </a:lnTo>
                    <a:lnTo>
                      <a:pt x="6710" y="3251"/>
                    </a:lnTo>
                    <a:lnTo>
                      <a:pt x="6686" y="3316"/>
                    </a:lnTo>
                    <a:lnTo>
                      <a:pt x="6661" y="3379"/>
                    </a:lnTo>
                    <a:lnTo>
                      <a:pt x="6634" y="3443"/>
                    </a:lnTo>
                    <a:lnTo>
                      <a:pt x="6606" y="3506"/>
                    </a:lnTo>
                    <a:lnTo>
                      <a:pt x="6576" y="3567"/>
                    </a:lnTo>
                    <a:lnTo>
                      <a:pt x="6546" y="3629"/>
                    </a:lnTo>
                    <a:lnTo>
                      <a:pt x="6515" y="3689"/>
                    </a:lnTo>
                    <a:lnTo>
                      <a:pt x="6481" y="3749"/>
                    </a:lnTo>
                    <a:lnTo>
                      <a:pt x="6448" y="3808"/>
                    </a:lnTo>
                    <a:lnTo>
                      <a:pt x="6413" y="3866"/>
                    </a:lnTo>
                    <a:lnTo>
                      <a:pt x="6377" y="3924"/>
                    </a:lnTo>
                    <a:lnTo>
                      <a:pt x="6340" y="3981"/>
                    </a:lnTo>
                    <a:lnTo>
                      <a:pt x="6301" y="4037"/>
                    </a:lnTo>
                    <a:lnTo>
                      <a:pt x="6262" y="4092"/>
                    </a:lnTo>
                    <a:lnTo>
                      <a:pt x="6221" y="4146"/>
                    </a:lnTo>
                    <a:lnTo>
                      <a:pt x="6231" y="4143"/>
                    </a:lnTo>
                    <a:lnTo>
                      <a:pt x="6240" y="4140"/>
                    </a:lnTo>
                    <a:lnTo>
                      <a:pt x="6249" y="4135"/>
                    </a:lnTo>
                    <a:lnTo>
                      <a:pt x="6259" y="4132"/>
                    </a:lnTo>
                    <a:lnTo>
                      <a:pt x="6267" y="4128"/>
                    </a:lnTo>
                    <a:lnTo>
                      <a:pt x="6277" y="4125"/>
                    </a:lnTo>
                    <a:lnTo>
                      <a:pt x="6287" y="4120"/>
                    </a:lnTo>
                    <a:lnTo>
                      <a:pt x="6296" y="4117"/>
                    </a:lnTo>
                    <a:lnTo>
                      <a:pt x="6334" y="4062"/>
                    </a:lnTo>
                    <a:lnTo>
                      <a:pt x="6372" y="4008"/>
                    </a:lnTo>
                    <a:lnTo>
                      <a:pt x="6408" y="3952"/>
                    </a:lnTo>
                    <a:lnTo>
                      <a:pt x="6444" y="3896"/>
                    </a:lnTo>
                    <a:lnTo>
                      <a:pt x="6478" y="3838"/>
                    </a:lnTo>
                    <a:lnTo>
                      <a:pt x="6512" y="3780"/>
                    </a:lnTo>
                    <a:lnTo>
                      <a:pt x="6544" y="3722"/>
                    </a:lnTo>
                    <a:lnTo>
                      <a:pt x="6575" y="3662"/>
                    </a:lnTo>
                    <a:lnTo>
                      <a:pt x="6606" y="3603"/>
                    </a:lnTo>
                    <a:lnTo>
                      <a:pt x="6635" y="3542"/>
                    </a:lnTo>
                    <a:lnTo>
                      <a:pt x="6663" y="3481"/>
                    </a:lnTo>
                    <a:lnTo>
                      <a:pt x="6689" y="3419"/>
                    </a:lnTo>
                    <a:lnTo>
                      <a:pt x="6715" y="3357"/>
                    </a:lnTo>
                    <a:lnTo>
                      <a:pt x="6739" y="3294"/>
                    </a:lnTo>
                    <a:lnTo>
                      <a:pt x="6762" y="3230"/>
                    </a:lnTo>
                    <a:lnTo>
                      <a:pt x="6784" y="3167"/>
                    </a:lnTo>
                    <a:lnTo>
                      <a:pt x="6804" y="3102"/>
                    </a:lnTo>
                    <a:lnTo>
                      <a:pt x="6824" y="3036"/>
                    </a:lnTo>
                    <a:lnTo>
                      <a:pt x="6842" y="2970"/>
                    </a:lnTo>
                    <a:lnTo>
                      <a:pt x="6860" y="2904"/>
                    </a:lnTo>
                    <a:lnTo>
                      <a:pt x="6875" y="2837"/>
                    </a:lnTo>
                    <a:lnTo>
                      <a:pt x="6890" y="2770"/>
                    </a:lnTo>
                    <a:lnTo>
                      <a:pt x="6903" y="2702"/>
                    </a:lnTo>
                    <a:lnTo>
                      <a:pt x="6915" y="2634"/>
                    </a:lnTo>
                    <a:lnTo>
                      <a:pt x="6924" y="2565"/>
                    </a:lnTo>
                    <a:lnTo>
                      <a:pt x="6934" y="2496"/>
                    </a:lnTo>
                    <a:lnTo>
                      <a:pt x="6942" y="2427"/>
                    </a:lnTo>
                    <a:lnTo>
                      <a:pt x="6948" y="2357"/>
                    </a:lnTo>
                    <a:lnTo>
                      <a:pt x="6954" y="2286"/>
                    </a:lnTo>
                    <a:lnTo>
                      <a:pt x="6957" y="2216"/>
                    </a:lnTo>
                    <a:lnTo>
                      <a:pt x="6959" y="2145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e04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62"/>
                    </a:lnTo>
                    <a:lnTo>
                      <a:pt x="6872" y="2236"/>
                    </a:lnTo>
                    <a:lnTo>
                      <a:pt x="6868" y="2308"/>
                    </a:lnTo>
                    <a:lnTo>
                      <a:pt x="6862" y="2380"/>
                    </a:lnTo>
                    <a:lnTo>
                      <a:pt x="6856" y="2453"/>
                    </a:lnTo>
                    <a:lnTo>
                      <a:pt x="6847" y="2524"/>
                    </a:lnTo>
                    <a:lnTo>
                      <a:pt x="6838" y="2595"/>
                    </a:lnTo>
                    <a:lnTo>
                      <a:pt x="6827" y="2665"/>
                    </a:lnTo>
                    <a:lnTo>
                      <a:pt x="6814" y="2736"/>
                    </a:lnTo>
                    <a:lnTo>
                      <a:pt x="6800" y="2805"/>
                    </a:lnTo>
                    <a:lnTo>
                      <a:pt x="6784" y="2874"/>
                    </a:lnTo>
                    <a:lnTo>
                      <a:pt x="6767" y="2943"/>
                    </a:lnTo>
                    <a:lnTo>
                      <a:pt x="6749" y="3011"/>
                    </a:lnTo>
                    <a:lnTo>
                      <a:pt x="6730" y="3078"/>
                    </a:lnTo>
                    <a:lnTo>
                      <a:pt x="6708" y="3145"/>
                    </a:lnTo>
                    <a:lnTo>
                      <a:pt x="6686" y="3211"/>
                    </a:lnTo>
                    <a:lnTo>
                      <a:pt x="6663" y="3277"/>
                    </a:lnTo>
                    <a:lnTo>
                      <a:pt x="6638" y="3341"/>
                    </a:lnTo>
                    <a:lnTo>
                      <a:pt x="6612" y="3406"/>
                    </a:lnTo>
                    <a:lnTo>
                      <a:pt x="6584" y="3470"/>
                    </a:lnTo>
                    <a:lnTo>
                      <a:pt x="6556" y="3533"/>
                    </a:lnTo>
                    <a:lnTo>
                      <a:pt x="6525" y="3595"/>
                    </a:lnTo>
                    <a:lnTo>
                      <a:pt x="6494" y="3657"/>
                    </a:lnTo>
                    <a:lnTo>
                      <a:pt x="6462" y="3717"/>
                    </a:lnTo>
                    <a:lnTo>
                      <a:pt x="6428" y="3778"/>
                    </a:lnTo>
                    <a:lnTo>
                      <a:pt x="6393" y="3837"/>
                    </a:lnTo>
                    <a:lnTo>
                      <a:pt x="6358" y="3896"/>
                    </a:lnTo>
                    <a:lnTo>
                      <a:pt x="6321" y="3954"/>
                    </a:lnTo>
                    <a:lnTo>
                      <a:pt x="6282" y="4011"/>
                    </a:lnTo>
                    <a:lnTo>
                      <a:pt x="6243" y="4067"/>
                    </a:lnTo>
                    <a:lnTo>
                      <a:pt x="6203" y="4122"/>
                    </a:lnTo>
                    <a:lnTo>
                      <a:pt x="6161" y="4176"/>
                    </a:lnTo>
                    <a:lnTo>
                      <a:pt x="6171" y="4173"/>
                    </a:lnTo>
                    <a:lnTo>
                      <a:pt x="6181" y="4170"/>
                    </a:lnTo>
                    <a:lnTo>
                      <a:pt x="6190" y="4166"/>
                    </a:lnTo>
                    <a:lnTo>
                      <a:pt x="6199" y="4162"/>
                    </a:lnTo>
                    <a:lnTo>
                      <a:pt x="6209" y="4158"/>
                    </a:lnTo>
                    <a:lnTo>
                      <a:pt x="6218" y="4155"/>
                    </a:lnTo>
                    <a:lnTo>
                      <a:pt x="6227" y="4150"/>
                    </a:lnTo>
                    <a:lnTo>
                      <a:pt x="6237" y="4147"/>
                    </a:lnTo>
                    <a:lnTo>
                      <a:pt x="6277" y="4092"/>
                    </a:lnTo>
                    <a:lnTo>
                      <a:pt x="6315" y="4037"/>
                    </a:lnTo>
                    <a:lnTo>
                      <a:pt x="6352" y="3982"/>
                    </a:lnTo>
                    <a:lnTo>
                      <a:pt x="6388" y="3925"/>
                    </a:lnTo>
                    <a:lnTo>
                      <a:pt x="6424" y="3867"/>
                    </a:lnTo>
                    <a:lnTo>
                      <a:pt x="6458" y="3809"/>
                    </a:lnTo>
                    <a:lnTo>
                      <a:pt x="6491" y="3751"/>
                    </a:lnTo>
                    <a:lnTo>
                      <a:pt x="6523" y="3691"/>
                    </a:lnTo>
                    <a:lnTo>
                      <a:pt x="6554" y="3631"/>
                    </a:lnTo>
                    <a:lnTo>
                      <a:pt x="6584" y="3569"/>
                    </a:lnTo>
                    <a:lnTo>
                      <a:pt x="6612" y="3508"/>
                    </a:lnTo>
                    <a:lnTo>
                      <a:pt x="6640" y="3446"/>
                    </a:lnTo>
                    <a:lnTo>
                      <a:pt x="6666" y="3384"/>
                    </a:lnTo>
                    <a:lnTo>
                      <a:pt x="6691" y="3320"/>
                    </a:lnTo>
                    <a:lnTo>
                      <a:pt x="6714" y="3256"/>
                    </a:lnTo>
                    <a:lnTo>
                      <a:pt x="6737" y="3191"/>
                    </a:lnTo>
                    <a:lnTo>
                      <a:pt x="6758" y="3125"/>
                    </a:lnTo>
                    <a:lnTo>
                      <a:pt x="6778" y="3060"/>
                    </a:lnTo>
                    <a:lnTo>
                      <a:pt x="6797" y="2994"/>
                    </a:lnTo>
                    <a:lnTo>
                      <a:pt x="6814" y="2927"/>
                    </a:lnTo>
                    <a:lnTo>
                      <a:pt x="6830" y="2860"/>
                    </a:lnTo>
                    <a:lnTo>
                      <a:pt x="6845" y="2792"/>
                    </a:lnTo>
                    <a:lnTo>
                      <a:pt x="6858" y="2724"/>
                    </a:lnTo>
                    <a:lnTo>
                      <a:pt x="6870" y="2655"/>
                    </a:lnTo>
                    <a:lnTo>
                      <a:pt x="6881" y="2585"/>
                    </a:lnTo>
                    <a:lnTo>
                      <a:pt x="6891" y="2515"/>
                    </a:lnTo>
                    <a:lnTo>
                      <a:pt x="6898" y="2445"/>
                    </a:lnTo>
                    <a:lnTo>
                      <a:pt x="6905" y="2375"/>
                    </a:lnTo>
                    <a:lnTo>
                      <a:pt x="6910" y="2304"/>
                    </a:lnTo>
                    <a:lnTo>
                      <a:pt x="6913" y="2232"/>
                    </a:lnTo>
                    <a:lnTo>
                      <a:pt x="6916" y="2161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77"/>
                    </a:lnTo>
                    <a:lnTo>
                      <a:pt x="6831" y="2251"/>
                    </a:lnTo>
                    <a:lnTo>
                      <a:pt x="6827" y="2324"/>
                    </a:lnTo>
                    <a:lnTo>
                      <a:pt x="6822" y="2398"/>
                    </a:lnTo>
                    <a:lnTo>
                      <a:pt x="6814" y="2470"/>
                    </a:lnTo>
                    <a:lnTo>
                      <a:pt x="6806" y="2542"/>
                    </a:lnTo>
                    <a:lnTo>
                      <a:pt x="6796" y="2614"/>
                    </a:lnTo>
                    <a:lnTo>
                      <a:pt x="6784" y="2685"/>
                    </a:lnTo>
                    <a:lnTo>
                      <a:pt x="6771" y="2755"/>
                    </a:lnTo>
                    <a:lnTo>
                      <a:pt x="6757" y="2825"/>
                    </a:lnTo>
                    <a:lnTo>
                      <a:pt x="6741" y="2895"/>
                    </a:lnTo>
                    <a:lnTo>
                      <a:pt x="6724" y="2965"/>
                    </a:lnTo>
                    <a:lnTo>
                      <a:pt x="6705" y="3033"/>
                    </a:lnTo>
                    <a:lnTo>
                      <a:pt x="6685" y="3101"/>
                    </a:lnTo>
                    <a:lnTo>
                      <a:pt x="6663" y="3168"/>
                    </a:lnTo>
                    <a:lnTo>
                      <a:pt x="6640" y="3235"/>
                    </a:lnTo>
                    <a:lnTo>
                      <a:pt x="6617" y="3300"/>
                    </a:lnTo>
                    <a:lnTo>
                      <a:pt x="6591" y="3366"/>
                    </a:lnTo>
                    <a:lnTo>
                      <a:pt x="6564" y="3431"/>
                    </a:lnTo>
                    <a:lnTo>
                      <a:pt x="6536" y="3495"/>
                    </a:lnTo>
                    <a:lnTo>
                      <a:pt x="6506" y="3559"/>
                    </a:lnTo>
                    <a:lnTo>
                      <a:pt x="6476" y="3621"/>
                    </a:lnTo>
                    <a:lnTo>
                      <a:pt x="6444" y="3683"/>
                    </a:lnTo>
                    <a:lnTo>
                      <a:pt x="6411" y="3744"/>
                    </a:lnTo>
                    <a:lnTo>
                      <a:pt x="6377" y="3805"/>
                    </a:lnTo>
                    <a:lnTo>
                      <a:pt x="6341" y="3864"/>
                    </a:lnTo>
                    <a:lnTo>
                      <a:pt x="6304" y="3924"/>
                    </a:lnTo>
                    <a:lnTo>
                      <a:pt x="6266" y="3981"/>
                    </a:lnTo>
                    <a:lnTo>
                      <a:pt x="6228" y="4038"/>
                    </a:lnTo>
                    <a:lnTo>
                      <a:pt x="6188" y="4095"/>
                    </a:lnTo>
                    <a:lnTo>
                      <a:pt x="6147" y="4150"/>
                    </a:lnTo>
                    <a:lnTo>
                      <a:pt x="6104" y="4205"/>
                    </a:lnTo>
                    <a:lnTo>
                      <a:pt x="6113" y="4201"/>
                    </a:lnTo>
                    <a:lnTo>
                      <a:pt x="6123" y="4198"/>
                    </a:lnTo>
                    <a:lnTo>
                      <a:pt x="6133" y="4194"/>
                    </a:lnTo>
                    <a:lnTo>
                      <a:pt x="6142" y="4190"/>
                    </a:lnTo>
                    <a:lnTo>
                      <a:pt x="6151" y="4187"/>
                    </a:lnTo>
                    <a:lnTo>
                      <a:pt x="6161" y="4183"/>
                    </a:lnTo>
                    <a:lnTo>
                      <a:pt x="6170" y="4180"/>
                    </a:lnTo>
                    <a:lnTo>
                      <a:pt x="6179" y="4175"/>
                    </a:lnTo>
                    <a:lnTo>
                      <a:pt x="6220" y="4121"/>
                    </a:lnTo>
                    <a:lnTo>
                      <a:pt x="6259" y="4066"/>
                    </a:lnTo>
                    <a:lnTo>
                      <a:pt x="6298" y="4010"/>
                    </a:lnTo>
                    <a:lnTo>
                      <a:pt x="6335" y="3953"/>
                    </a:lnTo>
                    <a:lnTo>
                      <a:pt x="6371" y="3895"/>
                    </a:lnTo>
                    <a:lnTo>
                      <a:pt x="6406" y="3837"/>
                    </a:lnTo>
                    <a:lnTo>
                      <a:pt x="6439" y="3778"/>
                    </a:lnTo>
                    <a:lnTo>
                      <a:pt x="6473" y="3718"/>
                    </a:lnTo>
                    <a:lnTo>
                      <a:pt x="6504" y="3658"/>
                    </a:lnTo>
                    <a:lnTo>
                      <a:pt x="6534" y="3596"/>
                    </a:lnTo>
                    <a:lnTo>
                      <a:pt x="6564" y="3535"/>
                    </a:lnTo>
                    <a:lnTo>
                      <a:pt x="6592" y="3472"/>
                    </a:lnTo>
                    <a:lnTo>
                      <a:pt x="6619" y="3408"/>
                    </a:lnTo>
                    <a:lnTo>
                      <a:pt x="6644" y="3345"/>
                    </a:lnTo>
                    <a:lnTo>
                      <a:pt x="6668" y="3280"/>
                    </a:lnTo>
                    <a:lnTo>
                      <a:pt x="6691" y="3215"/>
                    </a:lnTo>
                    <a:lnTo>
                      <a:pt x="6713" y="3149"/>
                    </a:lnTo>
                    <a:lnTo>
                      <a:pt x="6733" y="3083"/>
                    </a:lnTo>
                    <a:lnTo>
                      <a:pt x="6753" y="3016"/>
                    </a:lnTo>
                    <a:lnTo>
                      <a:pt x="6771" y="2948"/>
                    </a:lnTo>
                    <a:lnTo>
                      <a:pt x="6787" y="2880"/>
                    </a:lnTo>
                    <a:lnTo>
                      <a:pt x="6802" y="2812"/>
                    </a:lnTo>
                    <a:lnTo>
                      <a:pt x="6816" y="2743"/>
                    </a:lnTo>
                    <a:lnTo>
                      <a:pt x="6828" y="2674"/>
                    </a:lnTo>
                    <a:lnTo>
                      <a:pt x="6839" y="2604"/>
                    </a:lnTo>
                    <a:lnTo>
                      <a:pt x="6849" y="2534"/>
                    </a:lnTo>
                    <a:lnTo>
                      <a:pt x="6858" y="2462"/>
                    </a:lnTo>
                    <a:lnTo>
                      <a:pt x="6864" y="2391"/>
                    </a:lnTo>
                    <a:lnTo>
                      <a:pt x="6869" y="2320"/>
                    </a:lnTo>
                    <a:lnTo>
                      <a:pt x="6873" y="2247"/>
                    </a:lnTo>
                    <a:lnTo>
                      <a:pt x="6875" y="2175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1" y="2192"/>
                    </a:lnTo>
                    <a:lnTo>
                      <a:pt x="6789" y="2267"/>
                    </a:lnTo>
                    <a:lnTo>
                      <a:pt x="6785" y="2341"/>
                    </a:lnTo>
                    <a:lnTo>
                      <a:pt x="6779" y="2415"/>
                    </a:lnTo>
                    <a:lnTo>
                      <a:pt x="6772" y="2488"/>
                    </a:lnTo>
                    <a:lnTo>
                      <a:pt x="6763" y="2560"/>
                    </a:lnTo>
                    <a:lnTo>
                      <a:pt x="6753" y="2633"/>
                    </a:lnTo>
                    <a:lnTo>
                      <a:pt x="6741" y="2705"/>
                    </a:lnTo>
                    <a:lnTo>
                      <a:pt x="6727" y="2776"/>
                    </a:lnTo>
                    <a:lnTo>
                      <a:pt x="6713" y="2847"/>
                    </a:lnTo>
                    <a:lnTo>
                      <a:pt x="6697" y="2918"/>
                    </a:lnTo>
                    <a:lnTo>
                      <a:pt x="6679" y="2987"/>
                    </a:lnTo>
                    <a:lnTo>
                      <a:pt x="6659" y="3056"/>
                    </a:lnTo>
                    <a:lnTo>
                      <a:pt x="6639" y="3124"/>
                    </a:lnTo>
                    <a:lnTo>
                      <a:pt x="6617" y="3192"/>
                    </a:lnTo>
                    <a:lnTo>
                      <a:pt x="6593" y="3259"/>
                    </a:lnTo>
                    <a:lnTo>
                      <a:pt x="6569" y="3326"/>
                    </a:lnTo>
                    <a:lnTo>
                      <a:pt x="6543" y="3392"/>
                    </a:lnTo>
                    <a:lnTo>
                      <a:pt x="6516" y="3457"/>
                    </a:lnTo>
                    <a:lnTo>
                      <a:pt x="6486" y="3522"/>
                    </a:lnTo>
                    <a:lnTo>
                      <a:pt x="6456" y="3585"/>
                    </a:lnTo>
                    <a:lnTo>
                      <a:pt x="6425" y="3649"/>
                    </a:lnTo>
                    <a:lnTo>
                      <a:pt x="6392" y="3711"/>
                    </a:lnTo>
                    <a:lnTo>
                      <a:pt x="6359" y="3772"/>
                    </a:lnTo>
                    <a:lnTo>
                      <a:pt x="6323" y="3833"/>
                    </a:lnTo>
                    <a:lnTo>
                      <a:pt x="6288" y="3893"/>
                    </a:lnTo>
                    <a:lnTo>
                      <a:pt x="6250" y="3953"/>
                    </a:lnTo>
                    <a:lnTo>
                      <a:pt x="6211" y="4010"/>
                    </a:lnTo>
                    <a:lnTo>
                      <a:pt x="6171" y="4068"/>
                    </a:lnTo>
                    <a:lnTo>
                      <a:pt x="6130" y="4124"/>
                    </a:lnTo>
                    <a:lnTo>
                      <a:pt x="6088" y="4179"/>
                    </a:lnTo>
                    <a:lnTo>
                      <a:pt x="6045" y="4234"/>
                    </a:lnTo>
                    <a:lnTo>
                      <a:pt x="6054" y="4231"/>
                    </a:lnTo>
                    <a:lnTo>
                      <a:pt x="6064" y="4228"/>
                    </a:lnTo>
                    <a:lnTo>
                      <a:pt x="6074" y="4224"/>
                    </a:lnTo>
                    <a:lnTo>
                      <a:pt x="6082" y="4220"/>
                    </a:lnTo>
                    <a:lnTo>
                      <a:pt x="6092" y="4217"/>
                    </a:lnTo>
                    <a:lnTo>
                      <a:pt x="6102" y="4213"/>
                    </a:lnTo>
                    <a:lnTo>
                      <a:pt x="6112" y="4210"/>
                    </a:lnTo>
                    <a:lnTo>
                      <a:pt x="6120" y="4205"/>
                    </a:lnTo>
                    <a:lnTo>
                      <a:pt x="6162" y="4151"/>
                    </a:lnTo>
                    <a:lnTo>
                      <a:pt x="6202" y="4096"/>
                    </a:lnTo>
                    <a:lnTo>
                      <a:pt x="6241" y="4040"/>
                    </a:lnTo>
                    <a:lnTo>
                      <a:pt x="6280" y="3983"/>
                    </a:lnTo>
                    <a:lnTo>
                      <a:pt x="6317" y="3925"/>
                    </a:lnTo>
                    <a:lnTo>
                      <a:pt x="6352" y="3866"/>
                    </a:lnTo>
                    <a:lnTo>
                      <a:pt x="6387" y="3807"/>
                    </a:lnTo>
                    <a:lnTo>
                      <a:pt x="6421" y="3746"/>
                    </a:lnTo>
                    <a:lnTo>
                      <a:pt x="6453" y="3686"/>
                    </a:lnTo>
                    <a:lnTo>
                      <a:pt x="6484" y="3624"/>
                    </a:lnTo>
                    <a:lnTo>
                      <a:pt x="6515" y="3562"/>
                    </a:lnTo>
                    <a:lnTo>
                      <a:pt x="6543" y="3499"/>
                    </a:lnTo>
                    <a:lnTo>
                      <a:pt x="6571" y="3435"/>
                    </a:lnTo>
                    <a:lnTo>
                      <a:pt x="6597" y="3370"/>
                    </a:lnTo>
                    <a:lnTo>
                      <a:pt x="6622" y="3306"/>
                    </a:lnTo>
                    <a:lnTo>
                      <a:pt x="6645" y="3240"/>
                    </a:lnTo>
                    <a:lnTo>
                      <a:pt x="6667" y="3174"/>
                    </a:lnTo>
                    <a:lnTo>
                      <a:pt x="6689" y="3107"/>
                    </a:lnTo>
                    <a:lnTo>
                      <a:pt x="6708" y="3040"/>
                    </a:lnTo>
                    <a:lnTo>
                      <a:pt x="6726" y="2972"/>
                    </a:lnTo>
                    <a:lnTo>
                      <a:pt x="6743" y="2903"/>
                    </a:lnTo>
                    <a:lnTo>
                      <a:pt x="6759" y="2834"/>
                    </a:lnTo>
                    <a:lnTo>
                      <a:pt x="6773" y="2765"/>
                    </a:lnTo>
                    <a:lnTo>
                      <a:pt x="6786" y="2694"/>
                    </a:lnTo>
                    <a:lnTo>
                      <a:pt x="6797" y="2624"/>
                    </a:lnTo>
                    <a:lnTo>
                      <a:pt x="6806" y="2553"/>
                    </a:lnTo>
                    <a:lnTo>
                      <a:pt x="6815" y="2482"/>
                    </a:lnTo>
                    <a:lnTo>
                      <a:pt x="6821" y="2409"/>
                    </a:lnTo>
                    <a:lnTo>
                      <a:pt x="6827" y="2337"/>
                    </a:lnTo>
                    <a:lnTo>
                      <a:pt x="6831" y="2265"/>
                    </a:lnTo>
                    <a:lnTo>
                      <a:pt x="6833" y="2191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207"/>
                    </a:lnTo>
                    <a:lnTo>
                      <a:pt x="6746" y="2283"/>
                    </a:lnTo>
                    <a:lnTo>
                      <a:pt x="6742" y="2357"/>
                    </a:lnTo>
                    <a:lnTo>
                      <a:pt x="6736" y="2432"/>
                    </a:lnTo>
                    <a:lnTo>
                      <a:pt x="6729" y="2505"/>
                    </a:lnTo>
                    <a:lnTo>
                      <a:pt x="6719" y="2579"/>
                    </a:lnTo>
                    <a:lnTo>
                      <a:pt x="6710" y="2652"/>
                    </a:lnTo>
                    <a:lnTo>
                      <a:pt x="6697" y="2725"/>
                    </a:lnTo>
                    <a:lnTo>
                      <a:pt x="6684" y="2796"/>
                    </a:lnTo>
                    <a:lnTo>
                      <a:pt x="6669" y="2868"/>
                    </a:lnTo>
                    <a:lnTo>
                      <a:pt x="6651" y="2938"/>
                    </a:lnTo>
                    <a:lnTo>
                      <a:pt x="6633" y="3009"/>
                    </a:lnTo>
                    <a:lnTo>
                      <a:pt x="6614" y="3079"/>
                    </a:lnTo>
                    <a:lnTo>
                      <a:pt x="6593" y="3147"/>
                    </a:lnTo>
                    <a:lnTo>
                      <a:pt x="6570" y="3216"/>
                    </a:lnTo>
                    <a:lnTo>
                      <a:pt x="6547" y="3283"/>
                    </a:lnTo>
                    <a:lnTo>
                      <a:pt x="6521" y="3350"/>
                    </a:lnTo>
                    <a:lnTo>
                      <a:pt x="6494" y="3417"/>
                    </a:lnTo>
                    <a:lnTo>
                      <a:pt x="6466" y="3483"/>
                    </a:lnTo>
                    <a:lnTo>
                      <a:pt x="6436" y="3548"/>
                    </a:lnTo>
                    <a:lnTo>
                      <a:pt x="6406" y="3611"/>
                    </a:lnTo>
                    <a:lnTo>
                      <a:pt x="6374" y="3675"/>
                    </a:lnTo>
                    <a:lnTo>
                      <a:pt x="6340" y="3738"/>
                    </a:lnTo>
                    <a:lnTo>
                      <a:pt x="6306" y="3799"/>
                    </a:lnTo>
                    <a:lnTo>
                      <a:pt x="6270" y="3860"/>
                    </a:lnTo>
                    <a:lnTo>
                      <a:pt x="6232" y="3920"/>
                    </a:lnTo>
                    <a:lnTo>
                      <a:pt x="6194" y="3980"/>
                    </a:lnTo>
                    <a:lnTo>
                      <a:pt x="6154" y="4038"/>
                    </a:lnTo>
                    <a:lnTo>
                      <a:pt x="6113" y="4095"/>
                    </a:lnTo>
                    <a:lnTo>
                      <a:pt x="6072" y="4152"/>
                    </a:lnTo>
                    <a:lnTo>
                      <a:pt x="6029" y="4207"/>
                    </a:lnTo>
                    <a:lnTo>
                      <a:pt x="5985" y="4263"/>
                    </a:lnTo>
                    <a:lnTo>
                      <a:pt x="5994" y="4259"/>
                    </a:lnTo>
                    <a:lnTo>
                      <a:pt x="6004" y="4256"/>
                    </a:lnTo>
                    <a:lnTo>
                      <a:pt x="6014" y="4252"/>
                    </a:lnTo>
                    <a:lnTo>
                      <a:pt x="6023" y="4248"/>
                    </a:lnTo>
                    <a:lnTo>
                      <a:pt x="6032" y="4245"/>
                    </a:lnTo>
                    <a:lnTo>
                      <a:pt x="6042" y="4241"/>
                    </a:lnTo>
                    <a:lnTo>
                      <a:pt x="6052" y="4238"/>
                    </a:lnTo>
                    <a:lnTo>
                      <a:pt x="6061" y="4234"/>
                    </a:lnTo>
                    <a:lnTo>
                      <a:pt x="6104" y="4179"/>
                    </a:lnTo>
                    <a:lnTo>
                      <a:pt x="6145" y="4124"/>
                    </a:lnTo>
                    <a:lnTo>
                      <a:pt x="6185" y="4067"/>
                    </a:lnTo>
                    <a:lnTo>
                      <a:pt x="6223" y="4010"/>
                    </a:lnTo>
                    <a:lnTo>
                      <a:pt x="6261" y="3953"/>
                    </a:lnTo>
                    <a:lnTo>
                      <a:pt x="6298" y="3893"/>
                    </a:lnTo>
                    <a:lnTo>
                      <a:pt x="6334" y="3834"/>
                    </a:lnTo>
                    <a:lnTo>
                      <a:pt x="6368" y="3773"/>
                    </a:lnTo>
                    <a:lnTo>
                      <a:pt x="6401" y="3712"/>
                    </a:lnTo>
                    <a:lnTo>
                      <a:pt x="6433" y="3650"/>
                    </a:lnTo>
                    <a:lnTo>
                      <a:pt x="6463" y="3588"/>
                    </a:lnTo>
                    <a:lnTo>
                      <a:pt x="6493" y="3524"/>
                    </a:lnTo>
                    <a:lnTo>
                      <a:pt x="6521" y="3460"/>
                    </a:lnTo>
                    <a:lnTo>
                      <a:pt x="6548" y="3395"/>
                    </a:lnTo>
                    <a:lnTo>
                      <a:pt x="6574" y="3329"/>
                    </a:lnTo>
                    <a:lnTo>
                      <a:pt x="6597" y="3264"/>
                    </a:lnTo>
                    <a:lnTo>
                      <a:pt x="6620" y="3197"/>
                    </a:lnTo>
                    <a:lnTo>
                      <a:pt x="6642" y="3130"/>
                    </a:lnTo>
                    <a:lnTo>
                      <a:pt x="6662" y="3062"/>
                    </a:lnTo>
                    <a:lnTo>
                      <a:pt x="6681" y="2994"/>
                    </a:lnTo>
                    <a:lnTo>
                      <a:pt x="6698" y="2924"/>
                    </a:lnTo>
                    <a:lnTo>
                      <a:pt x="6714" y="2854"/>
                    </a:lnTo>
                    <a:lnTo>
                      <a:pt x="6728" y="2784"/>
                    </a:lnTo>
                    <a:lnTo>
                      <a:pt x="6741" y="2714"/>
                    </a:lnTo>
                    <a:lnTo>
                      <a:pt x="6753" y="2643"/>
                    </a:lnTo>
                    <a:lnTo>
                      <a:pt x="6763" y="2571"/>
                    </a:lnTo>
                    <a:lnTo>
                      <a:pt x="6771" y="2499"/>
                    </a:lnTo>
                    <a:lnTo>
                      <a:pt x="6779" y="2427"/>
                    </a:lnTo>
                    <a:lnTo>
                      <a:pt x="6784" y="2353"/>
                    </a:lnTo>
                    <a:lnTo>
                      <a:pt x="6788" y="2280"/>
                    </a:lnTo>
                    <a:lnTo>
                      <a:pt x="6791" y="2206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22"/>
                    </a:lnTo>
                    <a:lnTo>
                      <a:pt x="6705" y="2298"/>
                    </a:lnTo>
                    <a:lnTo>
                      <a:pt x="6701" y="2374"/>
                    </a:lnTo>
                    <a:lnTo>
                      <a:pt x="6695" y="2448"/>
                    </a:lnTo>
                    <a:lnTo>
                      <a:pt x="6688" y="2523"/>
                    </a:lnTo>
                    <a:lnTo>
                      <a:pt x="6678" y="2597"/>
                    </a:lnTo>
                    <a:lnTo>
                      <a:pt x="6667" y="2671"/>
                    </a:lnTo>
                    <a:lnTo>
                      <a:pt x="6655" y="2744"/>
                    </a:lnTo>
                    <a:lnTo>
                      <a:pt x="6641" y="2816"/>
                    </a:lnTo>
                    <a:lnTo>
                      <a:pt x="6625" y="2889"/>
                    </a:lnTo>
                    <a:lnTo>
                      <a:pt x="6609" y="2960"/>
                    </a:lnTo>
                    <a:lnTo>
                      <a:pt x="6589" y="3030"/>
                    </a:lnTo>
                    <a:lnTo>
                      <a:pt x="6570" y="3100"/>
                    </a:lnTo>
                    <a:lnTo>
                      <a:pt x="6548" y="3171"/>
                    </a:lnTo>
                    <a:lnTo>
                      <a:pt x="6524" y="3239"/>
                    </a:lnTo>
                    <a:lnTo>
                      <a:pt x="6501" y="3308"/>
                    </a:lnTo>
                    <a:lnTo>
                      <a:pt x="6475" y="3375"/>
                    </a:lnTo>
                    <a:lnTo>
                      <a:pt x="6447" y="3442"/>
                    </a:lnTo>
                    <a:lnTo>
                      <a:pt x="6419" y="3508"/>
                    </a:lnTo>
                    <a:lnTo>
                      <a:pt x="6388" y="3572"/>
                    </a:lnTo>
                    <a:lnTo>
                      <a:pt x="6356" y="3637"/>
                    </a:lnTo>
                    <a:lnTo>
                      <a:pt x="6323" y="3701"/>
                    </a:lnTo>
                    <a:lnTo>
                      <a:pt x="6289" y="3764"/>
                    </a:lnTo>
                    <a:lnTo>
                      <a:pt x="6254" y="3826"/>
                    </a:lnTo>
                    <a:lnTo>
                      <a:pt x="6218" y="3888"/>
                    </a:lnTo>
                    <a:lnTo>
                      <a:pt x="6179" y="3947"/>
                    </a:lnTo>
                    <a:lnTo>
                      <a:pt x="6140" y="4008"/>
                    </a:lnTo>
                    <a:lnTo>
                      <a:pt x="6100" y="4066"/>
                    </a:lnTo>
                    <a:lnTo>
                      <a:pt x="6058" y="4123"/>
                    </a:lnTo>
                    <a:lnTo>
                      <a:pt x="6014" y="4180"/>
                    </a:lnTo>
                    <a:lnTo>
                      <a:pt x="5970" y="4235"/>
                    </a:lnTo>
                    <a:lnTo>
                      <a:pt x="5926" y="4291"/>
                    </a:lnTo>
                    <a:lnTo>
                      <a:pt x="5936" y="4287"/>
                    </a:lnTo>
                    <a:lnTo>
                      <a:pt x="5945" y="4284"/>
                    </a:lnTo>
                    <a:lnTo>
                      <a:pt x="5954" y="4281"/>
                    </a:lnTo>
                    <a:lnTo>
                      <a:pt x="5964" y="4277"/>
                    </a:lnTo>
                    <a:lnTo>
                      <a:pt x="5973" y="4273"/>
                    </a:lnTo>
                    <a:lnTo>
                      <a:pt x="5983" y="4270"/>
                    </a:lnTo>
                    <a:lnTo>
                      <a:pt x="5993" y="4266"/>
                    </a:lnTo>
                    <a:lnTo>
                      <a:pt x="6003" y="4262"/>
                    </a:lnTo>
                    <a:lnTo>
                      <a:pt x="6046" y="4207"/>
                    </a:lnTo>
                    <a:lnTo>
                      <a:pt x="6088" y="4152"/>
                    </a:lnTo>
                    <a:lnTo>
                      <a:pt x="6129" y="4096"/>
                    </a:lnTo>
                    <a:lnTo>
                      <a:pt x="6169" y="4038"/>
                    </a:lnTo>
                    <a:lnTo>
                      <a:pt x="6208" y="3981"/>
                    </a:lnTo>
                    <a:lnTo>
                      <a:pt x="6246" y="3921"/>
                    </a:lnTo>
                    <a:lnTo>
                      <a:pt x="6281" y="3861"/>
                    </a:lnTo>
                    <a:lnTo>
                      <a:pt x="6317" y="3800"/>
                    </a:lnTo>
                    <a:lnTo>
                      <a:pt x="6350" y="3739"/>
                    </a:lnTo>
                    <a:lnTo>
                      <a:pt x="6383" y="3677"/>
                    </a:lnTo>
                    <a:lnTo>
                      <a:pt x="6414" y="3613"/>
                    </a:lnTo>
                    <a:lnTo>
                      <a:pt x="6444" y="3550"/>
                    </a:lnTo>
                    <a:lnTo>
                      <a:pt x="6474" y="3485"/>
                    </a:lnTo>
                    <a:lnTo>
                      <a:pt x="6501" y="3420"/>
                    </a:lnTo>
                    <a:lnTo>
                      <a:pt x="6527" y="3354"/>
                    </a:lnTo>
                    <a:lnTo>
                      <a:pt x="6551" y="3287"/>
                    </a:lnTo>
                    <a:lnTo>
                      <a:pt x="6575" y="3220"/>
                    </a:lnTo>
                    <a:lnTo>
                      <a:pt x="6597" y="3152"/>
                    </a:lnTo>
                    <a:lnTo>
                      <a:pt x="6617" y="3084"/>
                    </a:lnTo>
                    <a:lnTo>
                      <a:pt x="6637" y="3015"/>
                    </a:lnTo>
                    <a:lnTo>
                      <a:pt x="6655" y="2946"/>
                    </a:lnTo>
                    <a:lnTo>
                      <a:pt x="6671" y="2875"/>
                    </a:lnTo>
                    <a:lnTo>
                      <a:pt x="6685" y="2804"/>
                    </a:lnTo>
                    <a:lnTo>
                      <a:pt x="6699" y="2733"/>
                    </a:lnTo>
                    <a:lnTo>
                      <a:pt x="6711" y="2661"/>
                    </a:lnTo>
                    <a:lnTo>
                      <a:pt x="6721" y="2588"/>
                    </a:lnTo>
                    <a:lnTo>
                      <a:pt x="6730" y="2516"/>
                    </a:lnTo>
                    <a:lnTo>
                      <a:pt x="6737" y="2443"/>
                    </a:lnTo>
                    <a:lnTo>
                      <a:pt x="6743" y="2369"/>
                    </a:lnTo>
                    <a:lnTo>
                      <a:pt x="6747" y="2295"/>
                    </a:lnTo>
                    <a:lnTo>
                      <a:pt x="6749" y="2220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5" y="2236"/>
                    </a:lnTo>
                    <a:lnTo>
                      <a:pt x="6663" y="2313"/>
                    </a:lnTo>
                    <a:lnTo>
                      <a:pt x="6659" y="2390"/>
                    </a:lnTo>
                    <a:lnTo>
                      <a:pt x="6653" y="2465"/>
                    </a:lnTo>
                    <a:lnTo>
                      <a:pt x="6645" y="2541"/>
                    </a:lnTo>
                    <a:lnTo>
                      <a:pt x="6635" y="2615"/>
                    </a:lnTo>
                    <a:lnTo>
                      <a:pt x="6624" y="2690"/>
                    </a:lnTo>
                    <a:lnTo>
                      <a:pt x="6611" y="2763"/>
                    </a:lnTo>
                    <a:lnTo>
                      <a:pt x="6597" y="2837"/>
                    </a:lnTo>
                    <a:lnTo>
                      <a:pt x="6581" y="2909"/>
                    </a:lnTo>
                    <a:lnTo>
                      <a:pt x="6564" y="2982"/>
                    </a:lnTo>
                    <a:lnTo>
                      <a:pt x="6544" y="3053"/>
                    </a:lnTo>
                    <a:lnTo>
                      <a:pt x="6524" y="3123"/>
                    </a:lnTo>
                    <a:lnTo>
                      <a:pt x="6502" y="3193"/>
                    </a:lnTo>
                    <a:lnTo>
                      <a:pt x="6479" y="3262"/>
                    </a:lnTo>
                    <a:lnTo>
                      <a:pt x="6454" y="3331"/>
                    </a:lnTo>
                    <a:lnTo>
                      <a:pt x="6427" y="3400"/>
                    </a:lnTo>
                    <a:lnTo>
                      <a:pt x="6399" y="3466"/>
                    </a:lnTo>
                    <a:lnTo>
                      <a:pt x="6369" y="3532"/>
                    </a:lnTo>
                    <a:lnTo>
                      <a:pt x="6338" y="3598"/>
                    </a:lnTo>
                    <a:lnTo>
                      <a:pt x="6306" y="3663"/>
                    </a:lnTo>
                    <a:lnTo>
                      <a:pt x="6272" y="3727"/>
                    </a:lnTo>
                    <a:lnTo>
                      <a:pt x="6238" y="3790"/>
                    </a:lnTo>
                    <a:lnTo>
                      <a:pt x="6201" y="3853"/>
                    </a:lnTo>
                    <a:lnTo>
                      <a:pt x="6163" y="3915"/>
                    </a:lnTo>
                    <a:lnTo>
                      <a:pt x="6124" y="3975"/>
                    </a:lnTo>
                    <a:lnTo>
                      <a:pt x="6084" y="4035"/>
                    </a:lnTo>
                    <a:lnTo>
                      <a:pt x="6043" y="4093"/>
                    </a:lnTo>
                    <a:lnTo>
                      <a:pt x="6000" y="4151"/>
                    </a:lnTo>
                    <a:lnTo>
                      <a:pt x="5957" y="4208"/>
                    </a:lnTo>
                    <a:lnTo>
                      <a:pt x="5911" y="4264"/>
                    </a:lnTo>
                    <a:lnTo>
                      <a:pt x="5865" y="4319"/>
                    </a:lnTo>
                    <a:lnTo>
                      <a:pt x="5875" y="4315"/>
                    </a:lnTo>
                    <a:lnTo>
                      <a:pt x="5885" y="4312"/>
                    </a:lnTo>
                    <a:lnTo>
                      <a:pt x="5895" y="4309"/>
                    </a:lnTo>
                    <a:lnTo>
                      <a:pt x="5905" y="4305"/>
                    </a:lnTo>
                    <a:lnTo>
                      <a:pt x="5915" y="4301"/>
                    </a:lnTo>
                    <a:lnTo>
                      <a:pt x="5924" y="4298"/>
                    </a:lnTo>
                    <a:lnTo>
                      <a:pt x="5934" y="4294"/>
                    </a:lnTo>
                    <a:lnTo>
                      <a:pt x="5944" y="4291"/>
                    </a:lnTo>
                    <a:lnTo>
                      <a:pt x="5988" y="4235"/>
                    </a:lnTo>
                    <a:lnTo>
                      <a:pt x="6031" y="4180"/>
                    </a:lnTo>
                    <a:lnTo>
                      <a:pt x="6072" y="4123"/>
                    </a:lnTo>
                    <a:lnTo>
                      <a:pt x="6113" y="4066"/>
                    </a:lnTo>
                    <a:lnTo>
                      <a:pt x="6153" y="4008"/>
                    </a:lnTo>
                    <a:lnTo>
                      <a:pt x="6191" y="3948"/>
                    </a:lnTo>
                    <a:lnTo>
                      <a:pt x="6229" y="3888"/>
                    </a:lnTo>
                    <a:lnTo>
                      <a:pt x="6265" y="3827"/>
                    </a:lnTo>
                    <a:lnTo>
                      <a:pt x="6299" y="3766"/>
                    </a:lnTo>
                    <a:lnTo>
                      <a:pt x="6333" y="3703"/>
                    </a:lnTo>
                    <a:lnTo>
                      <a:pt x="6365" y="3639"/>
                    </a:lnTo>
                    <a:lnTo>
                      <a:pt x="6395" y="3576"/>
                    </a:lnTo>
                    <a:lnTo>
                      <a:pt x="6425" y="3511"/>
                    </a:lnTo>
                    <a:lnTo>
                      <a:pt x="6453" y="3445"/>
                    </a:lnTo>
                    <a:lnTo>
                      <a:pt x="6480" y="3378"/>
                    </a:lnTo>
                    <a:lnTo>
                      <a:pt x="6506" y="3311"/>
                    </a:lnTo>
                    <a:lnTo>
                      <a:pt x="6529" y="3244"/>
                    </a:lnTo>
                    <a:lnTo>
                      <a:pt x="6552" y="3175"/>
                    </a:lnTo>
                    <a:lnTo>
                      <a:pt x="6573" y="3107"/>
                    </a:lnTo>
                    <a:lnTo>
                      <a:pt x="6592" y="3037"/>
                    </a:lnTo>
                    <a:lnTo>
                      <a:pt x="6610" y="2966"/>
                    </a:lnTo>
                    <a:lnTo>
                      <a:pt x="6628" y="2896"/>
                    </a:lnTo>
                    <a:lnTo>
                      <a:pt x="6643" y="2824"/>
                    </a:lnTo>
                    <a:lnTo>
                      <a:pt x="6656" y="2753"/>
                    </a:lnTo>
                    <a:lnTo>
                      <a:pt x="6669" y="2680"/>
                    </a:lnTo>
                    <a:lnTo>
                      <a:pt x="6678" y="2607"/>
                    </a:lnTo>
                    <a:lnTo>
                      <a:pt x="6688" y="2533"/>
                    </a:lnTo>
                    <a:lnTo>
                      <a:pt x="6695" y="2460"/>
                    </a:lnTo>
                    <a:lnTo>
                      <a:pt x="6701" y="2385"/>
                    </a:lnTo>
                    <a:lnTo>
                      <a:pt x="6705" y="2311"/>
                    </a:lnTo>
                    <a:lnTo>
                      <a:pt x="6708" y="2235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e0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5" y="2250"/>
                    </a:lnTo>
                    <a:lnTo>
                      <a:pt x="6623" y="2328"/>
                    </a:lnTo>
                    <a:lnTo>
                      <a:pt x="6617" y="2405"/>
                    </a:lnTo>
                    <a:lnTo>
                      <a:pt x="6612" y="2482"/>
                    </a:lnTo>
                    <a:lnTo>
                      <a:pt x="6603" y="2557"/>
                    </a:lnTo>
                    <a:lnTo>
                      <a:pt x="6594" y="2633"/>
                    </a:lnTo>
                    <a:lnTo>
                      <a:pt x="6583" y="2707"/>
                    </a:lnTo>
                    <a:lnTo>
                      <a:pt x="6570" y="2782"/>
                    </a:lnTo>
                    <a:lnTo>
                      <a:pt x="6555" y="2855"/>
                    </a:lnTo>
                    <a:lnTo>
                      <a:pt x="6539" y="2929"/>
                    </a:lnTo>
                    <a:lnTo>
                      <a:pt x="6520" y="3001"/>
                    </a:lnTo>
                    <a:lnTo>
                      <a:pt x="6501" y="3073"/>
                    </a:lnTo>
                    <a:lnTo>
                      <a:pt x="6480" y="3145"/>
                    </a:lnTo>
                    <a:lnTo>
                      <a:pt x="6457" y="3215"/>
                    </a:lnTo>
                    <a:lnTo>
                      <a:pt x="6433" y="3285"/>
                    </a:lnTo>
                    <a:lnTo>
                      <a:pt x="6408" y="3354"/>
                    </a:lnTo>
                    <a:lnTo>
                      <a:pt x="6380" y="3422"/>
                    </a:lnTo>
                    <a:lnTo>
                      <a:pt x="6352" y="3490"/>
                    </a:lnTo>
                    <a:lnTo>
                      <a:pt x="6321" y="3556"/>
                    </a:lnTo>
                    <a:lnTo>
                      <a:pt x="6290" y="3623"/>
                    </a:lnTo>
                    <a:lnTo>
                      <a:pt x="6256" y="3688"/>
                    </a:lnTo>
                    <a:lnTo>
                      <a:pt x="6222" y="3753"/>
                    </a:lnTo>
                    <a:lnTo>
                      <a:pt x="6186" y="3815"/>
                    </a:lnTo>
                    <a:lnTo>
                      <a:pt x="6150" y="3878"/>
                    </a:lnTo>
                    <a:lnTo>
                      <a:pt x="6111" y="3941"/>
                    </a:lnTo>
                    <a:lnTo>
                      <a:pt x="6071" y="4001"/>
                    </a:lnTo>
                    <a:lnTo>
                      <a:pt x="6030" y="4061"/>
                    </a:lnTo>
                    <a:lnTo>
                      <a:pt x="5987" y="4120"/>
                    </a:lnTo>
                    <a:lnTo>
                      <a:pt x="5944" y="4177"/>
                    </a:lnTo>
                    <a:lnTo>
                      <a:pt x="5899" y="4234"/>
                    </a:lnTo>
                    <a:lnTo>
                      <a:pt x="5852" y="4291"/>
                    </a:lnTo>
                    <a:lnTo>
                      <a:pt x="5806" y="4346"/>
                    </a:lnTo>
                    <a:lnTo>
                      <a:pt x="5816" y="4342"/>
                    </a:lnTo>
                    <a:lnTo>
                      <a:pt x="5825" y="4338"/>
                    </a:lnTo>
                    <a:lnTo>
                      <a:pt x="5835" y="4335"/>
                    </a:lnTo>
                    <a:lnTo>
                      <a:pt x="5845" y="4332"/>
                    </a:lnTo>
                    <a:lnTo>
                      <a:pt x="5855" y="4328"/>
                    </a:lnTo>
                    <a:lnTo>
                      <a:pt x="5864" y="4325"/>
                    </a:lnTo>
                    <a:lnTo>
                      <a:pt x="5875" y="4321"/>
                    </a:lnTo>
                    <a:lnTo>
                      <a:pt x="5885" y="4318"/>
                    </a:lnTo>
                    <a:lnTo>
                      <a:pt x="5929" y="4262"/>
                    </a:lnTo>
                    <a:lnTo>
                      <a:pt x="5973" y="4207"/>
                    </a:lnTo>
                    <a:lnTo>
                      <a:pt x="6017" y="4150"/>
                    </a:lnTo>
                    <a:lnTo>
                      <a:pt x="6059" y="4093"/>
                    </a:lnTo>
                    <a:lnTo>
                      <a:pt x="6099" y="4035"/>
                    </a:lnTo>
                    <a:lnTo>
                      <a:pt x="6138" y="3974"/>
                    </a:lnTo>
                    <a:lnTo>
                      <a:pt x="6177" y="3915"/>
                    </a:lnTo>
                    <a:lnTo>
                      <a:pt x="6213" y="3853"/>
                    </a:lnTo>
                    <a:lnTo>
                      <a:pt x="6248" y="3791"/>
                    </a:lnTo>
                    <a:lnTo>
                      <a:pt x="6282" y="3728"/>
                    </a:lnTo>
                    <a:lnTo>
                      <a:pt x="6315" y="3664"/>
                    </a:lnTo>
                    <a:lnTo>
                      <a:pt x="6347" y="3599"/>
                    </a:lnTo>
                    <a:lnTo>
                      <a:pt x="6378" y="3535"/>
                    </a:lnTo>
                    <a:lnTo>
                      <a:pt x="6406" y="3469"/>
                    </a:lnTo>
                    <a:lnTo>
                      <a:pt x="6434" y="3402"/>
                    </a:lnTo>
                    <a:lnTo>
                      <a:pt x="6460" y="3335"/>
                    </a:lnTo>
                    <a:lnTo>
                      <a:pt x="6483" y="3266"/>
                    </a:lnTo>
                    <a:lnTo>
                      <a:pt x="6507" y="3198"/>
                    </a:lnTo>
                    <a:lnTo>
                      <a:pt x="6529" y="3127"/>
                    </a:lnTo>
                    <a:lnTo>
                      <a:pt x="6548" y="3057"/>
                    </a:lnTo>
                    <a:lnTo>
                      <a:pt x="6568" y="2987"/>
                    </a:lnTo>
                    <a:lnTo>
                      <a:pt x="6584" y="2916"/>
                    </a:lnTo>
                    <a:lnTo>
                      <a:pt x="6600" y="2843"/>
                    </a:lnTo>
                    <a:lnTo>
                      <a:pt x="6614" y="2771"/>
                    </a:lnTo>
                    <a:lnTo>
                      <a:pt x="6626" y="2698"/>
                    </a:lnTo>
                    <a:lnTo>
                      <a:pt x="6637" y="2624"/>
                    </a:lnTo>
                    <a:lnTo>
                      <a:pt x="6647" y="2550"/>
                    </a:lnTo>
                    <a:lnTo>
                      <a:pt x="6654" y="2475"/>
                    </a:lnTo>
                    <a:lnTo>
                      <a:pt x="6660" y="2401"/>
                    </a:lnTo>
                    <a:lnTo>
                      <a:pt x="6664" y="2325"/>
                    </a:lnTo>
                    <a:lnTo>
                      <a:pt x="6667" y="224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66"/>
                    </a:lnTo>
                    <a:lnTo>
                      <a:pt x="6579" y="2343"/>
                    </a:lnTo>
                    <a:lnTo>
                      <a:pt x="6575" y="2421"/>
                    </a:lnTo>
                    <a:lnTo>
                      <a:pt x="6568" y="2498"/>
                    </a:lnTo>
                    <a:lnTo>
                      <a:pt x="6561" y="2574"/>
                    </a:lnTo>
                    <a:lnTo>
                      <a:pt x="6550" y="2651"/>
                    </a:lnTo>
                    <a:lnTo>
                      <a:pt x="6539" y="2727"/>
                    </a:lnTo>
                    <a:lnTo>
                      <a:pt x="6525" y="2801"/>
                    </a:lnTo>
                    <a:lnTo>
                      <a:pt x="6510" y="2876"/>
                    </a:lnTo>
                    <a:lnTo>
                      <a:pt x="6494" y="2949"/>
                    </a:lnTo>
                    <a:lnTo>
                      <a:pt x="6475" y="3023"/>
                    </a:lnTo>
                    <a:lnTo>
                      <a:pt x="6455" y="3095"/>
                    </a:lnTo>
                    <a:lnTo>
                      <a:pt x="6433" y="3167"/>
                    </a:lnTo>
                    <a:lnTo>
                      <a:pt x="6411" y="3238"/>
                    </a:lnTo>
                    <a:lnTo>
                      <a:pt x="6386" y="3308"/>
                    </a:lnTo>
                    <a:lnTo>
                      <a:pt x="6359" y="3378"/>
                    </a:lnTo>
                    <a:lnTo>
                      <a:pt x="6331" y="3447"/>
                    </a:lnTo>
                    <a:lnTo>
                      <a:pt x="6301" y="3515"/>
                    </a:lnTo>
                    <a:lnTo>
                      <a:pt x="6271" y="3582"/>
                    </a:lnTo>
                    <a:lnTo>
                      <a:pt x="6239" y="3648"/>
                    </a:lnTo>
                    <a:lnTo>
                      <a:pt x="6204" y="3714"/>
                    </a:lnTo>
                    <a:lnTo>
                      <a:pt x="6170" y="3779"/>
                    </a:lnTo>
                    <a:lnTo>
                      <a:pt x="6133" y="3842"/>
                    </a:lnTo>
                    <a:lnTo>
                      <a:pt x="6095" y="3905"/>
                    </a:lnTo>
                    <a:lnTo>
                      <a:pt x="6055" y="3968"/>
                    </a:lnTo>
                    <a:lnTo>
                      <a:pt x="6015" y="4028"/>
                    </a:lnTo>
                    <a:lnTo>
                      <a:pt x="5973" y="4089"/>
                    </a:lnTo>
                    <a:lnTo>
                      <a:pt x="5930" y="4147"/>
                    </a:lnTo>
                    <a:lnTo>
                      <a:pt x="5884" y="4205"/>
                    </a:lnTo>
                    <a:lnTo>
                      <a:pt x="5839" y="4262"/>
                    </a:lnTo>
                    <a:lnTo>
                      <a:pt x="5791" y="4319"/>
                    </a:lnTo>
                    <a:lnTo>
                      <a:pt x="5744" y="4373"/>
                    </a:lnTo>
                    <a:lnTo>
                      <a:pt x="5754" y="4369"/>
                    </a:lnTo>
                    <a:lnTo>
                      <a:pt x="5763" y="4366"/>
                    </a:lnTo>
                    <a:lnTo>
                      <a:pt x="5773" y="4363"/>
                    </a:lnTo>
                    <a:lnTo>
                      <a:pt x="5784" y="4360"/>
                    </a:lnTo>
                    <a:lnTo>
                      <a:pt x="5794" y="4356"/>
                    </a:lnTo>
                    <a:lnTo>
                      <a:pt x="5803" y="4353"/>
                    </a:lnTo>
                    <a:lnTo>
                      <a:pt x="5813" y="4349"/>
                    </a:lnTo>
                    <a:lnTo>
                      <a:pt x="5823" y="4346"/>
                    </a:lnTo>
                    <a:lnTo>
                      <a:pt x="5869" y="4291"/>
                    </a:lnTo>
                    <a:lnTo>
                      <a:pt x="5915" y="4235"/>
                    </a:lnTo>
                    <a:lnTo>
                      <a:pt x="5958" y="4178"/>
                    </a:lnTo>
                    <a:lnTo>
                      <a:pt x="6001" y="4120"/>
                    </a:lnTo>
                    <a:lnTo>
                      <a:pt x="6042" y="4062"/>
                    </a:lnTo>
                    <a:lnTo>
                      <a:pt x="6082" y="4002"/>
                    </a:lnTo>
                    <a:lnTo>
                      <a:pt x="6121" y="3942"/>
                    </a:lnTo>
                    <a:lnTo>
                      <a:pt x="6159" y="3880"/>
                    </a:lnTo>
                    <a:lnTo>
                      <a:pt x="6196" y="3817"/>
                    </a:lnTo>
                    <a:lnTo>
                      <a:pt x="6230" y="3754"/>
                    </a:lnTo>
                    <a:lnTo>
                      <a:pt x="6264" y="3690"/>
                    </a:lnTo>
                    <a:lnTo>
                      <a:pt x="6296" y="3625"/>
                    </a:lnTo>
                    <a:lnTo>
                      <a:pt x="6327" y="3559"/>
                    </a:lnTo>
                    <a:lnTo>
                      <a:pt x="6357" y="3493"/>
                    </a:lnTo>
                    <a:lnTo>
                      <a:pt x="6385" y="3427"/>
                    </a:lnTo>
                    <a:lnTo>
                      <a:pt x="6412" y="3358"/>
                    </a:lnTo>
                    <a:lnTo>
                      <a:pt x="6437" y="3289"/>
                    </a:lnTo>
                    <a:lnTo>
                      <a:pt x="6460" y="3220"/>
                    </a:lnTo>
                    <a:lnTo>
                      <a:pt x="6482" y="3150"/>
                    </a:lnTo>
                    <a:lnTo>
                      <a:pt x="6502" y="3080"/>
                    </a:lnTo>
                    <a:lnTo>
                      <a:pt x="6522" y="3009"/>
                    </a:lnTo>
                    <a:lnTo>
                      <a:pt x="6539" y="2936"/>
                    </a:lnTo>
                    <a:lnTo>
                      <a:pt x="6555" y="2864"/>
                    </a:lnTo>
                    <a:lnTo>
                      <a:pt x="6569" y="2790"/>
                    </a:lnTo>
                    <a:lnTo>
                      <a:pt x="6582" y="2717"/>
                    </a:lnTo>
                    <a:lnTo>
                      <a:pt x="6593" y="2642"/>
                    </a:lnTo>
                    <a:lnTo>
                      <a:pt x="6603" y="2568"/>
                    </a:lnTo>
                    <a:lnTo>
                      <a:pt x="6611" y="2492"/>
                    </a:lnTo>
                    <a:lnTo>
                      <a:pt x="6617" y="2417"/>
                    </a:lnTo>
                    <a:lnTo>
                      <a:pt x="6621" y="2340"/>
                    </a:lnTo>
                    <a:lnTo>
                      <a:pt x="6623" y="2263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1" y="2279"/>
                    </a:lnTo>
                    <a:lnTo>
                      <a:pt x="6539" y="2357"/>
                    </a:lnTo>
                    <a:lnTo>
                      <a:pt x="6534" y="2436"/>
                    </a:lnTo>
                    <a:lnTo>
                      <a:pt x="6527" y="2514"/>
                    </a:lnTo>
                    <a:lnTo>
                      <a:pt x="6519" y="2592"/>
                    </a:lnTo>
                    <a:lnTo>
                      <a:pt x="6508" y="2668"/>
                    </a:lnTo>
                    <a:lnTo>
                      <a:pt x="6497" y="2744"/>
                    </a:lnTo>
                    <a:lnTo>
                      <a:pt x="6484" y="2820"/>
                    </a:lnTo>
                    <a:lnTo>
                      <a:pt x="6467" y="2895"/>
                    </a:lnTo>
                    <a:lnTo>
                      <a:pt x="6450" y="2969"/>
                    </a:lnTo>
                    <a:lnTo>
                      <a:pt x="6432" y="3043"/>
                    </a:lnTo>
                    <a:lnTo>
                      <a:pt x="6411" y="3116"/>
                    </a:lnTo>
                    <a:lnTo>
                      <a:pt x="6388" y="3188"/>
                    </a:lnTo>
                    <a:lnTo>
                      <a:pt x="6365" y="3259"/>
                    </a:lnTo>
                    <a:lnTo>
                      <a:pt x="6340" y="3330"/>
                    </a:lnTo>
                    <a:lnTo>
                      <a:pt x="6313" y="3401"/>
                    </a:lnTo>
                    <a:lnTo>
                      <a:pt x="6285" y="3470"/>
                    </a:lnTo>
                    <a:lnTo>
                      <a:pt x="6254" y="3538"/>
                    </a:lnTo>
                    <a:lnTo>
                      <a:pt x="6222" y="3606"/>
                    </a:lnTo>
                    <a:lnTo>
                      <a:pt x="6190" y="3673"/>
                    </a:lnTo>
                    <a:lnTo>
                      <a:pt x="6155" y="3739"/>
                    </a:lnTo>
                    <a:lnTo>
                      <a:pt x="6118" y="3803"/>
                    </a:lnTo>
                    <a:lnTo>
                      <a:pt x="6082" y="3867"/>
                    </a:lnTo>
                    <a:lnTo>
                      <a:pt x="6043" y="3931"/>
                    </a:lnTo>
                    <a:lnTo>
                      <a:pt x="6003" y="3992"/>
                    </a:lnTo>
                    <a:lnTo>
                      <a:pt x="5961" y="4054"/>
                    </a:lnTo>
                    <a:lnTo>
                      <a:pt x="5917" y="4115"/>
                    </a:lnTo>
                    <a:lnTo>
                      <a:pt x="5873" y="4174"/>
                    </a:lnTo>
                    <a:lnTo>
                      <a:pt x="5828" y="4231"/>
                    </a:lnTo>
                    <a:lnTo>
                      <a:pt x="5781" y="4288"/>
                    </a:lnTo>
                    <a:lnTo>
                      <a:pt x="5733" y="4345"/>
                    </a:lnTo>
                    <a:lnTo>
                      <a:pt x="5683" y="4400"/>
                    </a:lnTo>
                    <a:lnTo>
                      <a:pt x="5694" y="4396"/>
                    </a:lnTo>
                    <a:lnTo>
                      <a:pt x="5703" y="4393"/>
                    </a:lnTo>
                    <a:lnTo>
                      <a:pt x="5713" y="4389"/>
                    </a:lnTo>
                    <a:lnTo>
                      <a:pt x="5724" y="4386"/>
                    </a:lnTo>
                    <a:lnTo>
                      <a:pt x="5734" y="4382"/>
                    </a:lnTo>
                    <a:lnTo>
                      <a:pt x="5743" y="4379"/>
                    </a:lnTo>
                    <a:lnTo>
                      <a:pt x="5753" y="4376"/>
                    </a:lnTo>
                    <a:lnTo>
                      <a:pt x="5764" y="4373"/>
                    </a:lnTo>
                    <a:lnTo>
                      <a:pt x="5810" y="4318"/>
                    </a:lnTo>
                    <a:lnTo>
                      <a:pt x="5857" y="4261"/>
                    </a:lnTo>
                    <a:lnTo>
                      <a:pt x="5902" y="4204"/>
                    </a:lnTo>
                    <a:lnTo>
                      <a:pt x="5945" y="4147"/>
                    </a:lnTo>
                    <a:lnTo>
                      <a:pt x="5988" y="4088"/>
                    </a:lnTo>
                    <a:lnTo>
                      <a:pt x="6029" y="4028"/>
                    </a:lnTo>
                    <a:lnTo>
                      <a:pt x="6069" y="3968"/>
                    </a:lnTo>
                    <a:lnTo>
                      <a:pt x="6108" y="3905"/>
                    </a:lnTo>
                    <a:lnTo>
                      <a:pt x="6144" y="3842"/>
                    </a:lnTo>
                    <a:lnTo>
                      <a:pt x="6180" y="3780"/>
                    </a:lnTo>
                    <a:lnTo>
                      <a:pt x="6214" y="3715"/>
                    </a:lnTo>
                    <a:lnTo>
                      <a:pt x="6248" y="3650"/>
                    </a:lnTo>
                    <a:lnTo>
                      <a:pt x="6279" y="3583"/>
                    </a:lnTo>
                    <a:lnTo>
                      <a:pt x="6310" y="3517"/>
                    </a:lnTo>
                    <a:lnTo>
                      <a:pt x="6338" y="3449"/>
                    </a:lnTo>
                    <a:lnTo>
                      <a:pt x="6366" y="3381"/>
                    </a:lnTo>
                    <a:lnTo>
                      <a:pt x="6391" y="3312"/>
                    </a:lnTo>
                    <a:lnTo>
                      <a:pt x="6415" y="3242"/>
                    </a:lnTo>
                    <a:lnTo>
                      <a:pt x="6438" y="3172"/>
                    </a:lnTo>
                    <a:lnTo>
                      <a:pt x="6459" y="3100"/>
                    </a:lnTo>
                    <a:lnTo>
                      <a:pt x="6478" y="3028"/>
                    </a:lnTo>
                    <a:lnTo>
                      <a:pt x="6497" y="2956"/>
                    </a:lnTo>
                    <a:lnTo>
                      <a:pt x="6513" y="2882"/>
                    </a:lnTo>
                    <a:lnTo>
                      <a:pt x="6528" y="2809"/>
                    </a:lnTo>
                    <a:lnTo>
                      <a:pt x="6541" y="2734"/>
                    </a:lnTo>
                    <a:lnTo>
                      <a:pt x="6552" y="2660"/>
                    </a:lnTo>
                    <a:lnTo>
                      <a:pt x="6561" y="2584"/>
                    </a:lnTo>
                    <a:lnTo>
                      <a:pt x="6570" y="2509"/>
                    </a:lnTo>
                    <a:lnTo>
                      <a:pt x="6575" y="2432"/>
                    </a:lnTo>
                    <a:lnTo>
                      <a:pt x="6581" y="2355"/>
                    </a:lnTo>
                    <a:lnTo>
                      <a:pt x="6583" y="2277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499" y="2293"/>
                    </a:lnTo>
                    <a:lnTo>
                      <a:pt x="6496" y="2373"/>
                    </a:lnTo>
                    <a:lnTo>
                      <a:pt x="6492" y="2451"/>
                    </a:lnTo>
                    <a:lnTo>
                      <a:pt x="6485" y="2530"/>
                    </a:lnTo>
                    <a:lnTo>
                      <a:pt x="6477" y="2608"/>
                    </a:lnTo>
                    <a:lnTo>
                      <a:pt x="6466" y="2686"/>
                    </a:lnTo>
                    <a:lnTo>
                      <a:pt x="6454" y="2762"/>
                    </a:lnTo>
                    <a:lnTo>
                      <a:pt x="6440" y="2838"/>
                    </a:lnTo>
                    <a:lnTo>
                      <a:pt x="6424" y="2914"/>
                    </a:lnTo>
                    <a:lnTo>
                      <a:pt x="6406" y="2989"/>
                    </a:lnTo>
                    <a:lnTo>
                      <a:pt x="6387" y="3064"/>
                    </a:lnTo>
                    <a:lnTo>
                      <a:pt x="6366" y="3137"/>
                    </a:lnTo>
                    <a:lnTo>
                      <a:pt x="6344" y="3210"/>
                    </a:lnTo>
                    <a:lnTo>
                      <a:pt x="6319" y="3282"/>
                    </a:lnTo>
                    <a:lnTo>
                      <a:pt x="6293" y="3353"/>
                    </a:lnTo>
                    <a:lnTo>
                      <a:pt x="6265" y="3423"/>
                    </a:lnTo>
                    <a:lnTo>
                      <a:pt x="6236" y="3494"/>
                    </a:lnTo>
                    <a:lnTo>
                      <a:pt x="6205" y="3562"/>
                    </a:lnTo>
                    <a:lnTo>
                      <a:pt x="6173" y="3630"/>
                    </a:lnTo>
                    <a:lnTo>
                      <a:pt x="6139" y="3698"/>
                    </a:lnTo>
                    <a:lnTo>
                      <a:pt x="6104" y="3764"/>
                    </a:lnTo>
                    <a:lnTo>
                      <a:pt x="6067" y="3828"/>
                    </a:lnTo>
                    <a:lnTo>
                      <a:pt x="6028" y="3893"/>
                    </a:lnTo>
                    <a:lnTo>
                      <a:pt x="5988" y="3957"/>
                    </a:lnTo>
                    <a:lnTo>
                      <a:pt x="5947" y="4018"/>
                    </a:lnTo>
                    <a:lnTo>
                      <a:pt x="5905" y="4080"/>
                    </a:lnTo>
                    <a:lnTo>
                      <a:pt x="5861" y="4140"/>
                    </a:lnTo>
                    <a:lnTo>
                      <a:pt x="5815" y="4200"/>
                    </a:lnTo>
                    <a:lnTo>
                      <a:pt x="5769" y="4258"/>
                    </a:lnTo>
                    <a:lnTo>
                      <a:pt x="5721" y="4314"/>
                    </a:lnTo>
                    <a:lnTo>
                      <a:pt x="5672" y="4371"/>
                    </a:lnTo>
                    <a:lnTo>
                      <a:pt x="5622" y="4426"/>
                    </a:lnTo>
                    <a:lnTo>
                      <a:pt x="5632" y="4422"/>
                    </a:lnTo>
                    <a:lnTo>
                      <a:pt x="5641" y="4419"/>
                    </a:lnTo>
                    <a:lnTo>
                      <a:pt x="5652" y="4416"/>
                    </a:lnTo>
                    <a:lnTo>
                      <a:pt x="5662" y="4413"/>
                    </a:lnTo>
                    <a:lnTo>
                      <a:pt x="5673" y="4409"/>
                    </a:lnTo>
                    <a:lnTo>
                      <a:pt x="5682" y="4406"/>
                    </a:lnTo>
                    <a:lnTo>
                      <a:pt x="5692" y="4403"/>
                    </a:lnTo>
                    <a:lnTo>
                      <a:pt x="5703" y="4399"/>
                    </a:lnTo>
                    <a:lnTo>
                      <a:pt x="5750" y="4345"/>
                    </a:lnTo>
                    <a:lnTo>
                      <a:pt x="5798" y="4288"/>
                    </a:lnTo>
                    <a:lnTo>
                      <a:pt x="5843" y="4231"/>
                    </a:lnTo>
                    <a:lnTo>
                      <a:pt x="5889" y="4173"/>
                    </a:lnTo>
                    <a:lnTo>
                      <a:pt x="5932" y="4115"/>
                    </a:lnTo>
                    <a:lnTo>
                      <a:pt x="5974" y="4054"/>
                    </a:lnTo>
                    <a:lnTo>
                      <a:pt x="6014" y="3994"/>
                    </a:lnTo>
                    <a:lnTo>
                      <a:pt x="6054" y="3931"/>
                    </a:lnTo>
                    <a:lnTo>
                      <a:pt x="6092" y="3868"/>
                    </a:lnTo>
                    <a:lnTo>
                      <a:pt x="6129" y="3805"/>
                    </a:lnTo>
                    <a:lnTo>
                      <a:pt x="6163" y="3740"/>
                    </a:lnTo>
                    <a:lnTo>
                      <a:pt x="6198" y="3674"/>
                    </a:lnTo>
                    <a:lnTo>
                      <a:pt x="6230" y="3608"/>
                    </a:lnTo>
                    <a:lnTo>
                      <a:pt x="6260" y="3541"/>
                    </a:lnTo>
                    <a:lnTo>
                      <a:pt x="6290" y="3473"/>
                    </a:lnTo>
                    <a:lnTo>
                      <a:pt x="6318" y="3404"/>
                    </a:lnTo>
                    <a:lnTo>
                      <a:pt x="6345" y="3334"/>
                    </a:lnTo>
                    <a:lnTo>
                      <a:pt x="6370" y="3264"/>
                    </a:lnTo>
                    <a:lnTo>
                      <a:pt x="6392" y="3193"/>
                    </a:lnTo>
                    <a:lnTo>
                      <a:pt x="6414" y="3121"/>
                    </a:lnTo>
                    <a:lnTo>
                      <a:pt x="6434" y="3049"/>
                    </a:lnTo>
                    <a:lnTo>
                      <a:pt x="6453" y="2975"/>
                    </a:lnTo>
                    <a:lnTo>
                      <a:pt x="6469" y="2902"/>
                    </a:lnTo>
                    <a:lnTo>
                      <a:pt x="6484" y="2827"/>
                    </a:lnTo>
                    <a:lnTo>
                      <a:pt x="6498" y="2753"/>
                    </a:lnTo>
                    <a:lnTo>
                      <a:pt x="6509" y="2677"/>
                    </a:lnTo>
                    <a:lnTo>
                      <a:pt x="6520" y="2600"/>
                    </a:lnTo>
                    <a:lnTo>
                      <a:pt x="6527" y="2524"/>
                    </a:lnTo>
                    <a:lnTo>
                      <a:pt x="6534" y="2447"/>
                    </a:lnTo>
                    <a:lnTo>
                      <a:pt x="6538" y="2369"/>
                    </a:lnTo>
                    <a:lnTo>
                      <a:pt x="6541" y="2292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308"/>
                    </a:lnTo>
                    <a:lnTo>
                      <a:pt x="6455" y="2388"/>
                    </a:lnTo>
                    <a:lnTo>
                      <a:pt x="6450" y="2468"/>
                    </a:lnTo>
                    <a:lnTo>
                      <a:pt x="6443" y="2546"/>
                    </a:lnTo>
                    <a:lnTo>
                      <a:pt x="6434" y="2625"/>
                    </a:lnTo>
                    <a:lnTo>
                      <a:pt x="6423" y="2704"/>
                    </a:lnTo>
                    <a:lnTo>
                      <a:pt x="6411" y="2781"/>
                    </a:lnTo>
                    <a:lnTo>
                      <a:pt x="6396" y="2857"/>
                    </a:lnTo>
                    <a:lnTo>
                      <a:pt x="6380" y="2934"/>
                    </a:lnTo>
                    <a:lnTo>
                      <a:pt x="6363" y="3010"/>
                    </a:lnTo>
                    <a:lnTo>
                      <a:pt x="6342" y="3084"/>
                    </a:lnTo>
                    <a:lnTo>
                      <a:pt x="6321" y="3159"/>
                    </a:lnTo>
                    <a:lnTo>
                      <a:pt x="6298" y="3232"/>
                    </a:lnTo>
                    <a:lnTo>
                      <a:pt x="6273" y="3305"/>
                    </a:lnTo>
                    <a:lnTo>
                      <a:pt x="6246" y="3377"/>
                    </a:lnTo>
                    <a:lnTo>
                      <a:pt x="6218" y="3447"/>
                    </a:lnTo>
                    <a:lnTo>
                      <a:pt x="6188" y="3517"/>
                    </a:lnTo>
                    <a:lnTo>
                      <a:pt x="6156" y="3586"/>
                    </a:lnTo>
                    <a:lnTo>
                      <a:pt x="6123" y="3656"/>
                    </a:lnTo>
                    <a:lnTo>
                      <a:pt x="6088" y="3722"/>
                    </a:lnTo>
                    <a:lnTo>
                      <a:pt x="6053" y="3789"/>
                    </a:lnTo>
                    <a:lnTo>
                      <a:pt x="6015" y="3855"/>
                    </a:lnTo>
                    <a:lnTo>
                      <a:pt x="5976" y="3919"/>
                    </a:lnTo>
                    <a:lnTo>
                      <a:pt x="5935" y="3983"/>
                    </a:lnTo>
                    <a:lnTo>
                      <a:pt x="5893" y="4045"/>
                    </a:lnTo>
                    <a:lnTo>
                      <a:pt x="5849" y="4107"/>
                    </a:lnTo>
                    <a:lnTo>
                      <a:pt x="5804" y="4167"/>
                    </a:lnTo>
                    <a:lnTo>
                      <a:pt x="5758" y="4227"/>
                    </a:lnTo>
                    <a:lnTo>
                      <a:pt x="5710" y="4285"/>
                    </a:lnTo>
                    <a:lnTo>
                      <a:pt x="5661" y="4342"/>
                    </a:lnTo>
                    <a:lnTo>
                      <a:pt x="5611" y="4397"/>
                    </a:lnTo>
                    <a:lnTo>
                      <a:pt x="5559" y="4453"/>
                    </a:lnTo>
                    <a:lnTo>
                      <a:pt x="5570" y="4449"/>
                    </a:lnTo>
                    <a:lnTo>
                      <a:pt x="5580" y="4446"/>
                    </a:lnTo>
                    <a:lnTo>
                      <a:pt x="5590" y="4443"/>
                    </a:lnTo>
                    <a:lnTo>
                      <a:pt x="5601" y="4440"/>
                    </a:lnTo>
                    <a:lnTo>
                      <a:pt x="5611" y="4436"/>
                    </a:lnTo>
                    <a:lnTo>
                      <a:pt x="5621" y="4433"/>
                    </a:lnTo>
                    <a:lnTo>
                      <a:pt x="5631" y="4430"/>
                    </a:lnTo>
                    <a:lnTo>
                      <a:pt x="5641" y="4427"/>
                    </a:lnTo>
                    <a:lnTo>
                      <a:pt x="5691" y="4372"/>
                    </a:lnTo>
                    <a:lnTo>
                      <a:pt x="5739" y="4315"/>
                    </a:lnTo>
                    <a:lnTo>
                      <a:pt x="5786" y="4258"/>
                    </a:lnTo>
                    <a:lnTo>
                      <a:pt x="5831" y="4201"/>
                    </a:lnTo>
                    <a:lnTo>
                      <a:pt x="5875" y="4142"/>
                    </a:lnTo>
                    <a:lnTo>
                      <a:pt x="5919" y="4081"/>
                    </a:lnTo>
                    <a:lnTo>
                      <a:pt x="5961" y="4019"/>
                    </a:lnTo>
                    <a:lnTo>
                      <a:pt x="6001" y="3958"/>
                    </a:lnTo>
                    <a:lnTo>
                      <a:pt x="6040" y="3894"/>
                    </a:lnTo>
                    <a:lnTo>
                      <a:pt x="6076" y="3830"/>
                    </a:lnTo>
                    <a:lnTo>
                      <a:pt x="6113" y="3766"/>
                    </a:lnTo>
                    <a:lnTo>
                      <a:pt x="6148" y="3700"/>
                    </a:lnTo>
                    <a:lnTo>
                      <a:pt x="6180" y="3633"/>
                    </a:lnTo>
                    <a:lnTo>
                      <a:pt x="6212" y="3565"/>
                    </a:lnTo>
                    <a:lnTo>
                      <a:pt x="6243" y="3497"/>
                    </a:lnTo>
                    <a:lnTo>
                      <a:pt x="6271" y="3428"/>
                    </a:lnTo>
                    <a:lnTo>
                      <a:pt x="6298" y="3357"/>
                    </a:lnTo>
                    <a:lnTo>
                      <a:pt x="6323" y="3287"/>
                    </a:lnTo>
                    <a:lnTo>
                      <a:pt x="6346" y="3215"/>
                    </a:lnTo>
                    <a:lnTo>
                      <a:pt x="6369" y="3143"/>
                    </a:lnTo>
                    <a:lnTo>
                      <a:pt x="6390" y="3070"/>
                    </a:lnTo>
                    <a:lnTo>
                      <a:pt x="6408" y="2996"/>
                    </a:lnTo>
                    <a:lnTo>
                      <a:pt x="6425" y="2922"/>
                    </a:lnTo>
                    <a:lnTo>
                      <a:pt x="6442" y="2847"/>
                    </a:lnTo>
                    <a:lnTo>
                      <a:pt x="6455" y="2771"/>
                    </a:lnTo>
                    <a:lnTo>
                      <a:pt x="6466" y="2695"/>
                    </a:lnTo>
                    <a:lnTo>
                      <a:pt x="6477" y="2619"/>
                    </a:lnTo>
                    <a:lnTo>
                      <a:pt x="6485" y="2541"/>
                    </a:lnTo>
                    <a:lnTo>
                      <a:pt x="6492" y="2463"/>
                    </a:lnTo>
                    <a:lnTo>
                      <a:pt x="6497" y="2384"/>
                    </a:lnTo>
                    <a:lnTo>
                      <a:pt x="6499" y="2306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320"/>
                    </a:lnTo>
                    <a:lnTo>
                      <a:pt x="6413" y="2401"/>
                    </a:lnTo>
                    <a:lnTo>
                      <a:pt x="6408" y="2482"/>
                    </a:lnTo>
                    <a:lnTo>
                      <a:pt x="6401" y="2562"/>
                    </a:lnTo>
                    <a:lnTo>
                      <a:pt x="6391" y="2642"/>
                    </a:lnTo>
                    <a:lnTo>
                      <a:pt x="6381" y="2720"/>
                    </a:lnTo>
                    <a:lnTo>
                      <a:pt x="6368" y="2798"/>
                    </a:lnTo>
                    <a:lnTo>
                      <a:pt x="6354" y="2876"/>
                    </a:lnTo>
                    <a:lnTo>
                      <a:pt x="6336" y="2953"/>
                    </a:lnTo>
                    <a:lnTo>
                      <a:pt x="6318" y="3028"/>
                    </a:lnTo>
                    <a:lnTo>
                      <a:pt x="6297" y="3104"/>
                    </a:lnTo>
                    <a:lnTo>
                      <a:pt x="6276" y="3178"/>
                    </a:lnTo>
                    <a:lnTo>
                      <a:pt x="6252" y="3253"/>
                    </a:lnTo>
                    <a:lnTo>
                      <a:pt x="6226" y="3325"/>
                    </a:lnTo>
                    <a:lnTo>
                      <a:pt x="6199" y="3398"/>
                    </a:lnTo>
                    <a:lnTo>
                      <a:pt x="6170" y="3470"/>
                    </a:lnTo>
                    <a:lnTo>
                      <a:pt x="6140" y="3540"/>
                    </a:lnTo>
                    <a:lnTo>
                      <a:pt x="6107" y="3609"/>
                    </a:lnTo>
                    <a:lnTo>
                      <a:pt x="6074" y="3678"/>
                    </a:lnTo>
                    <a:lnTo>
                      <a:pt x="6038" y="3746"/>
                    </a:lnTo>
                    <a:lnTo>
                      <a:pt x="6000" y="3813"/>
                    </a:lnTo>
                    <a:lnTo>
                      <a:pt x="5962" y="3879"/>
                    </a:lnTo>
                    <a:lnTo>
                      <a:pt x="5922" y="3944"/>
                    </a:lnTo>
                    <a:lnTo>
                      <a:pt x="5880" y="4008"/>
                    </a:lnTo>
                    <a:lnTo>
                      <a:pt x="5837" y="4070"/>
                    </a:lnTo>
                    <a:lnTo>
                      <a:pt x="5793" y="4132"/>
                    </a:lnTo>
                    <a:lnTo>
                      <a:pt x="5747" y="4192"/>
                    </a:lnTo>
                    <a:lnTo>
                      <a:pt x="5700" y="4252"/>
                    </a:lnTo>
                    <a:lnTo>
                      <a:pt x="5651" y="4310"/>
                    </a:lnTo>
                    <a:lnTo>
                      <a:pt x="5600" y="4367"/>
                    </a:lnTo>
                    <a:lnTo>
                      <a:pt x="5550" y="4422"/>
                    </a:lnTo>
                    <a:lnTo>
                      <a:pt x="5497" y="4478"/>
                    </a:lnTo>
                    <a:lnTo>
                      <a:pt x="5507" y="4474"/>
                    </a:lnTo>
                    <a:lnTo>
                      <a:pt x="5517" y="4471"/>
                    </a:lnTo>
                    <a:lnTo>
                      <a:pt x="5528" y="4468"/>
                    </a:lnTo>
                    <a:lnTo>
                      <a:pt x="5538" y="4465"/>
                    </a:lnTo>
                    <a:lnTo>
                      <a:pt x="5549" y="4461"/>
                    </a:lnTo>
                    <a:lnTo>
                      <a:pt x="5559" y="4458"/>
                    </a:lnTo>
                    <a:lnTo>
                      <a:pt x="5569" y="4455"/>
                    </a:lnTo>
                    <a:lnTo>
                      <a:pt x="5580" y="4452"/>
                    </a:lnTo>
                    <a:lnTo>
                      <a:pt x="5630" y="4397"/>
                    </a:lnTo>
                    <a:lnTo>
                      <a:pt x="5679" y="4340"/>
                    </a:lnTo>
                    <a:lnTo>
                      <a:pt x="5727" y="4284"/>
                    </a:lnTo>
                    <a:lnTo>
                      <a:pt x="5773" y="4226"/>
                    </a:lnTo>
                    <a:lnTo>
                      <a:pt x="5819" y="4166"/>
                    </a:lnTo>
                    <a:lnTo>
                      <a:pt x="5863" y="4106"/>
                    </a:lnTo>
                    <a:lnTo>
                      <a:pt x="5905" y="4044"/>
                    </a:lnTo>
                    <a:lnTo>
                      <a:pt x="5946" y="3983"/>
                    </a:lnTo>
                    <a:lnTo>
                      <a:pt x="5986" y="3919"/>
                    </a:lnTo>
                    <a:lnTo>
                      <a:pt x="6025" y="3854"/>
                    </a:lnTo>
                    <a:lnTo>
                      <a:pt x="6062" y="3790"/>
                    </a:lnTo>
                    <a:lnTo>
                      <a:pt x="6097" y="3724"/>
                    </a:lnTo>
                    <a:lnTo>
                      <a:pt x="6131" y="3656"/>
                    </a:lnTo>
                    <a:lnTo>
                      <a:pt x="6163" y="3588"/>
                    </a:lnTo>
                    <a:lnTo>
                      <a:pt x="6194" y="3520"/>
                    </a:lnTo>
                    <a:lnTo>
                      <a:pt x="6223" y="3449"/>
                    </a:lnTo>
                    <a:lnTo>
                      <a:pt x="6251" y="3379"/>
                    </a:lnTo>
                    <a:lnTo>
                      <a:pt x="6277" y="3308"/>
                    </a:lnTo>
                    <a:lnTo>
                      <a:pt x="6302" y="3236"/>
                    </a:lnTo>
                    <a:lnTo>
                      <a:pt x="6324" y="3163"/>
                    </a:lnTo>
                    <a:lnTo>
                      <a:pt x="6345" y="3090"/>
                    </a:lnTo>
                    <a:lnTo>
                      <a:pt x="6364" y="3015"/>
                    </a:lnTo>
                    <a:lnTo>
                      <a:pt x="6382" y="2940"/>
                    </a:lnTo>
                    <a:lnTo>
                      <a:pt x="6398" y="2864"/>
                    </a:lnTo>
                    <a:lnTo>
                      <a:pt x="6412" y="2788"/>
                    </a:lnTo>
                    <a:lnTo>
                      <a:pt x="6424" y="2712"/>
                    </a:lnTo>
                    <a:lnTo>
                      <a:pt x="6435" y="2634"/>
                    </a:lnTo>
                    <a:lnTo>
                      <a:pt x="6443" y="2556"/>
                    </a:lnTo>
                    <a:lnTo>
                      <a:pt x="6450" y="2477"/>
                    </a:lnTo>
                    <a:lnTo>
                      <a:pt x="6454" y="2399"/>
                    </a:lnTo>
                    <a:lnTo>
                      <a:pt x="6457" y="2319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e04f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4" y="2334"/>
                    </a:lnTo>
                    <a:lnTo>
                      <a:pt x="6370" y="2416"/>
                    </a:lnTo>
                    <a:lnTo>
                      <a:pt x="6366" y="2497"/>
                    </a:lnTo>
                    <a:lnTo>
                      <a:pt x="6358" y="2578"/>
                    </a:lnTo>
                    <a:lnTo>
                      <a:pt x="6349" y="2658"/>
                    </a:lnTo>
                    <a:lnTo>
                      <a:pt x="6338" y="2738"/>
                    </a:lnTo>
                    <a:lnTo>
                      <a:pt x="6325" y="2817"/>
                    </a:lnTo>
                    <a:lnTo>
                      <a:pt x="6310" y="2894"/>
                    </a:lnTo>
                    <a:lnTo>
                      <a:pt x="6293" y="2972"/>
                    </a:lnTo>
                    <a:lnTo>
                      <a:pt x="6273" y="3049"/>
                    </a:lnTo>
                    <a:lnTo>
                      <a:pt x="6253" y="3124"/>
                    </a:lnTo>
                    <a:lnTo>
                      <a:pt x="6230" y="3200"/>
                    </a:lnTo>
                    <a:lnTo>
                      <a:pt x="6206" y="3274"/>
                    </a:lnTo>
                    <a:lnTo>
                      <a:pt x="6180" y="3348"/>
                    </a:lnTo>
                    <a:lnTo>
                      <a:pt x="6152" y="3420"/>
                    </a:lnTo>
                    <a:lnTo>
                      <a:pt x="6122" y="3493"/>
                    </a:lnTo>
                    <a:lnTo>
                      <a:pt x="6091" y="3564"/>
                    </a:lnTo>
                    <a:lnTo>
                      <a:pt x="6058" y="3634"/>
                    </a:lnTo>
                    <a:lnTo>
                      <a:pt x="6022" y="3703"/>
                    </a:lnTo>
                    <a:lnTo>
                      <a:pt x="5987" y="3771"/>
                    </a:lnTo>
                    <a:lnTo>
                      <a:pt x="5949" y="3838"/>
                    </a:lnTo>
                    <a:lnTo>
                      <a:pt x="5909" y="3904"/>
                    </a:lnTo>
                    <a:lnTo>
                      <a:pt x="5868" y="3969"/>
                    </a:lnTo>
                    <a:lnTo>
                      <a:pt x="5826" y="4034"/>
                    </a:lnTo>
                    <a:lnTo>
                      <a:pt x="5781" y="4096"/>
                    </a:lnTo>
                    <a:lnTo>
                      <a:pt x="5736" y="4158"/>
                    </a:lnTo>
                    <a:lnTo>
                      <a:pt x="5689" y="4218"/>
                    </a:lnTo>
                    <a:lnTo>
                      <a:pt x="5641" y="4278"/>
                    </a:lnTo>
                    <a:lnTo>
                      <a:pt x="5590" y="4336"/>
                    </a:lnTo>
                    <a:lnTo>
                      <a:pt x="5539" y="4393"/>
                    </a:lnTo>
                    <a:lnTo>
                      <a:pt x="5488" y="4449"/>
                    </a:lnTo>
                    <a:lnTo>
                      <a:pt x="5434" y="4503"/>
                    </a:lnTo>
                    <a:lnTo>
                      <a:pt x="5443" y="4500"/>
                    </a:lnTo>
                    <a:lnTo>
                      <a:pt x="5454" y="4497"/>
                    </a:lnTo>
                    <a:lnTo>
                      <a:pt x="5465" y="4494"/>
                    </a:lnTo>
                    <a:lnTo>
                      <a:pt x="5476" y="4491"/>
                    </a:lnTo>
                    <a:lnTo>
                      <a:pt x="5485" y="4487"/>
                    </a:lnTo>
                    <a:lnTo>
                      <a:pt x="5496" y="4484"/>
                    </a:lnTo>
                    <a:lnTo>
                      <a:pt x="5507" y="4481"/>
                    </a:lnTo>
                    <a:lnTo>
                      <a:pt x="5517" y="4478"/>
                    </a:lnTo>
                    <a:lnTo>
                      <a:pt x="5569" y="4422"/>
                    </a:lnTo>
                    <a:lnTo>
                      <a:pt x="5619" y="4367"/>
                    </a:lnTo>
                    <a:lnTo>
                      <a:pt x="5668" y="4310"/>
                    </a:lnTo>
                    <a:lnTo>
                      <a:pt x="5716" y="4252"/>
                    </a:lnTo>
                    <a:lnTo>
                      <a:pt x="5762" y="4192"/>
                    </a:lnTo>
                    <a:lnTo>
                      <a:pt x="5807" y="4132"/>
                    </a:lnTo>
                    <a:lnTo>
                      <a:pt x="5851" y="4070"/>
                    </a:lnTo>
                    <a:lnTo>
                      <a:pt x="5893" y="4008"/>
                    </a:lnTo>
                    <a:lnTo>
                      <a:pt x="5934" y="3944"/>
                    </a:lnTo>
                    <a:lnTo>
                      <a:pt x="5973" y="3880"/>
                    </a:lnTo>
                    <a:lnTo>
                      <a:pt x="6011" y="3814"/>
                    </a:lnTo>
                    <a:lnTo>
                      <a:pt x="6046" y="3747"/>
                    </a:lnTo>
                    <a:lnTo>
                      <a:pt x="6081" y="3681"/>
                    </a:lnTo>
                    <a:lnTo>
                      <a:pt x="6114" y="3611"/>
                    </a:lnTo>
                    <a:lnTo>
                      <a:pt x="6146" y="3542"/>
                    </a:lnTo>
                    <a:lnTo>
                      <a:pt x="6176" y="3472"/>
                    </a:lnTo>
                    <a:lnTo>
                      <a:pt x="6204" y="3402"/>
                    </a:lnTo>
                    <a:lnTo>
                      <a:pt x="6231" y="3330"/>
                    </a:lnTo>
                    <a:lnTo>
                      <a:pt x="6256" y="3257"/>
                    </a:lnTo>
                    <a:lnTo>
                      <a:pt x="6279" y="3184"/>
                    </a:lnTo>
                    <a:lnTo>
                      <a:pt x="6300" y="3109"/>
                    </a:lnTo>
                    <a:lnTo>
                      <a:pt x="6321" y="3035"/>
                    </a:lnTo>
                    <a:lnTo>
                      <a:pt x="6338" y="2959"/>
                    </a:lnTo>
                    <a:lnTo>
                      <a:pt x="6354" y="2882"/>
                    </a:lnTo>
                    <a:lnTo>
                      <a:pt x="6369" y="2806"/>
                    </a:lnTo>
                    <a:lnTo>
                      <a:pt x="6381" y="2729"/>
                    </a:lnTo>
                    <a:lnTo>
                      <a:pt x="6392" y="2650"/>
                    </a:lnTo>
                    <a:lnTo>
                      <a:pt x="6401" y="2571"/>
                    </a:lnTo>
                    <a:lnTo>
                      <a:pt x="6408" y="2493"/>
                    </a:lnTo>
                    <a:lnTo>
                      <a:pt x="6413" y="2413"/>
                    </a:lnTo>
                    <a:lnTo>
                      <a:pt x="6416" y="2333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3" y="2348"/>
                    </a:lnTo>
                    <a:lnTo>
                      <a:pt x="6330" y="2430"/>
                    </a:lnTo>
                    <a:lnTo>
                      <a:pt x="6324" y="2512"/>
                    </a:lnTo>
                    <a:lnTo>
                      <a:pt x="6317" y="2594"/>
                    </a:lnTo>
                    <a:lnTo>
                      <a:pt x="6307" y="2674"/>
                    </a:lnTo>
                    <a:lnTo>
                      <a:pt x="6296" y="2755"/>
                    </a:lnTo>
                    <a:lnTo>
                      <a:pt x="6282" y="2834"/>
                    </a:lnTo>
                    <a:lnTo>
                      <a:pt x="6267" y="2913"/>
                    </a:lnTo>
                    <a:lnTo>
                      <a:pt x="6250" y="2992"/>
                    </a:lnTo>
                    <a:lnTo>
                      <a:pt x="6230" y="3068"/>
                    </a:lnTo>
                    <a:lnTo>
                      <a:pt x="6209" y="3145"/>
                    </a:lnTo>
                    <a:lnTo>
                      <a:pt x="6186" y="3220"/>
                    </a:lnTo>
                    <a:lnTo>
                      <a:pt x="6161" y="3296"/>
                    </a:lnTo>
                    <a:lnTo>
                      <a:pt x="6134" y="3370"/>
                    </a:lnTo>
                    <a:lnTo>
                      <a:pt x="6105" y="3443"/>
                    </a:lnTo>
                    <a:lnTo>
                      <a:pt x="6075" y="3515"/>
                    </a:lnTo>
                    <a:lnTo>
                      <a:pt x="6044" y="3587"/>
                    </a:lnTo>
                    <a:lnTo>
                      <a:pt x="6009" y="3658"/>
                    </a:lnTo>
                    <a:lnTo>
                      <a:pt x="5973" y="3727"/>
                    </a:lnTo>
                    <a:lnTo>
                      <a:pt x="5937" y="3795"/>
                    </a:lnTo>
                    <a:lnTo>
                      <a:pt x="5898" y="3863"/>
                    </a:lnTo>
                    <a:lnTo>
                      <a:pt x="5858" y="3929"/>
                    </a:lnTo>
                    <a:lnTo>
                      <a:pt x="5816" y="3995"/>
                    </a:lnTo>
                    <a:lnTo>
                      <a:pt x="5772" y="4059"/>
                    </a:lnTo>
                    <a:lnTo>
                      <a:pt x="5727" y="4121"/>
                    </a:lnTo>
                    <a:lnTo>
                      <a:pt x="5680" y="4184"/>
                    </a:lnTo>
                    <a:lnTo>
                      <a:pt x="5632" y="4244"/>
                    </a:lnTo>
                    <a:lnTo>
                      <a:pt x="5583" y="4304"/>
                    </a:lnTo>
                    <a:lnTo>
                      <a:pt x="5531" y="4362"/>
                    </a:lnTo>
                    <a:lnTo>
                      <a:pt x="5479" y="4419"/>
                    </a:lnTo>
                    <a:lnTo>
                      <a:pt x="5425" y="4474"/>
                    </a:lnTo>
                    <a:lnTo>
                      <a:pt x="5370" y="4528"/>
                    </a:lnTo>
                    <a:lnTo>
                      <a:pt x="5381" y="4525"/>
                    </a:lnTo>
                    <a:lnTo>
                      <a:pt x="5392" y="4523"/>
                    </a:lnTo>
                    <a:lnTo>
                      <a:pt x="5403" y="4520"/>
                    </a:lnTo>
                    <a:lnTo>
                      <a:pt x="5414" y="4516"/>
                    </a:lnTo>
                    <a:lnTo>
                      <a:pt x="5424" y="4513"/>
                    </a:lnTo>
                    <a:lnTo>
                      <a:pt x="5434" y="4510"/>
                    </a:lnTo>
                    <a:lnTo>
                      <a:pt x="5445" y="4507"/>
                    </a:lnTo>
                    <a:lnTo>
                      <a:pt x="5456" y="4504"/>
                    </a:lnTo>
                    <a:lnTo>
                      <a:pt x="5509" y="4448"/>
                    </a:lnTo>
                    <a:lnTo>
                      <a:pt x="5559" y="4393"/>
                    </a:lnTo>
                    <a:lnTo>
                      <a:pt x="5610" y="4336"/>
                    </a:lnTo>
                    <a:lnTo>
                      <a:pt x="5659" y="4278"/>
                    </a:lnTo>
                    <a:lnTo>
                      <a:pt x="5706" y="4218"/>
                    </a:lnTo>
                    <a:lnTo>
                      <a:pt x="5752" y="4158"/>
                    </a:lnTo>
                    <a:lnTo>
                      <a:pt x="5796" y="4096"/>
                    </a:lnTo>
                    <a:lnTo>
                      <a:pt x="5839" y="4034"/>
                    </a:lnTo>
                    <a:lnTo>
                      <a:pt x="5881" y="3970"/>
                    </a:lnTo>
                    <a:lnTo>
                      <a:pt x="5921" y="3905"/>
                    </a:lnTo>
                    <a:lnTo>
                      <a:pt x="5959" y="3839"/>
                    </a:lnTo>
                    <a:lnTo>
                      <a:pt x="5997" y="3772"/>
                    </a:lnTo>
                    <a:lnTo>
                      <a:pt x="6033" y="3704"/>
                    </a:lnTo>
                    <a:lnTo>
                      <a:pt x="6066" y="3635"/>
                    </a:lnTo>
                    <a:lnTo>
                      <a:pt x="6099" y="3566"/>
                    </a:lnTo>
                    <a:lnTo>
                      <a:pt x="6129" y="3496"/>
                    </a:lnTo>
                    <a:lnTo>
                      <a:pt x="6158" y="3424"/>
                    </a:lnTo>
                    <a:lnTo>
                      <a:pt x="6185" y="3351"/>
                    </a:lnTo>
                    <a:lnTo>
                      <a:pt x="6211" y="3279"/>
                    </a:lnTo>
                    <a:lnTo>
                      <a:pt x="6235" y="3204"/>
                    </a:lnTo>
                    <a:lnTo>
                      <a:pt x="6256" y="3130"/>
                    </a:lnTo>
                    <a:lnTo>
                      <a:pt x="6277" y="3054"/>
                    </a:lnTo>
                    <a:lnTo>
                      <a:pt x="6295" y="2979"/>
                    </a:lnTo>
                    <a:lnTo>
                      <a:pt x="6313" y="2902"/>
                    </a:lnTo>
                    <a:lnTo>
                      <a:pt x="6327" y="2824"/>
                    </a:lnTo>
                    <a:lnTo>
                      <a:pt x="6340" y="2746"/>
                    </a:lnTo>
                    <a:lnTo>
                      <a:pt x="6350" y="2668"/>
                    </a:lnTo>
                    <a:lnTo>
                      <a:pt x="6360" y="2588"/>
                    </a:lnTo>
                    <a:lnTo>
                      <a:pt x="6367" y="2508"/>
                    </a:lnTo>
                    <a:lnTo>
                      <a:pt x="6372" y="2427"/>
                    </a:lnTo>
                    <a:lnTo>
                      <a:pt x="6375" y="2346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60"/>
                    </a:lnTo>
                    <a:lnTo>
                      <a:pt x="6287" y="2444"/>
                    </a:lnTo>
                    <a:lnTo>
                      <a:pt x="6282" y="2526"/>
                    </a:lnTo>
                    <a:lnTo>
                      <a:pt x="6274" y="2608"/>
                    </a:lnTo>
                    <a:lnTo>
                      <a:pt x="6265" y="2690"/>
                    </a:lnTo>
                    <a:lnTo>
                      <a:pt x="6253" y="2771"/>
                    </a:lnTo>
                    <a:lnTo>
                      <a:pt x="6239" y="2851"/>
                    </a:lnTo>
                    <a:lnTo>
                      <a:pt x="6222" y="2931"/>
                    </a:lnTo>
                    <a:lnTo>
                      <a:pt x="6205" y="3010"/>
                    </a:lnTo>
                    <a:lnTo>
                      <a:pt x="6185" y="3088"/>
                    </a:lnTo>
                    <a:lnTo>
                      <a:pt x="6163" y="3164"/>
                    </a:lnTo>
                    <a:lnTo>
                      <a:pt x="6139" y="3241"/>
                    </a:lnTo>
                    <a:lnTo>
                      <a:pt x="6113" y="3317"/>
                    </a:lnTo>
                    <a:lnTo>
                      <a:pt x="6086" y="3391"/>
                    </a:lnTo>
                    <a:lnTo>
                      <a:pt x="6057" y="3465"/>
                    </a:lnTo>
                    <a:lnTo>
                      <a:pt x="6026" y="3538"/>
                    </a:lnTo>
                    <a:lnTo>
                      <a:pt x="5993" y="3609"/>
                    </a:lnTo>
                    <a:lnTo>
                      <a:pt x="5959" y="3681"/>
                    </a:lnTo>
                    <a:lnTo>
                      <a:pt x="5922" y="3751"/>
                    </a:lnTo>
                    <a:lnTo>
                      <a:pt x="5884" y="3819"/>
                    </a:lnTo>
                    <a:lnTo>
                      <a:pt x="5844" y="3887"/>
                    </a:lnTo>
                    <a:lnTo>
                      <a:pt x="5803" y="3954"/>
                    </a:lnTo>
                    <a:lnTo>
                      <a:pt x="5760" y="4019"/>
                    </a:lnTo>
                    <a:lnTo>
                      <a:pt x="5716" y="4084"/>
                    </a:lnTo>
                    <a:lnTo>
                      <a:pt x="5669" y="4146"/>
                    </a:lnTo>
                    <a:lnTo>
                      <a:pt x="5622" y="4209"/>
                    </a:lnTo>
                    <a:lnTo>
                      <a:pt x="5572" y="4269"/>
                    </a:lnTo>
                    <a:lnTo>
                      <a:pt x="5522" y="4329"/>
                    </a:lnTo>
                    <a:lnTo>
                      <a:pt x="5469" y="4387"/>
                    </a:lnTo>
                    <a:lnTo>
                      <a:pt x="5416" y="4443"/>
                    </a:lnTo>
                    <a:lnTo>
                      <a:pt x="5361" y="4499"/>
                    </a:lnTo>
                    <a:lnTo>
                      <a:pt x="5305" y="4553"/>
                    </a:lnTo>
                    <a:lnTo>
                      <a:pt x="5316" y="4550"/>
                    </a:lnTo>
                    <a:lnTo>
                      <a:pt x="5327" y="4547"/>
                    </a:lnTo>
                    <a:lnTo>
                      <a:pt x="5338" y="4544"/>
                    </a:lnTo>
                    <a:lnTo>
                      <a:pt x="5348" y="4541"/>
                    </a:lnTo>
                    <a:lnTo>
                      <a:pt x="5359" y="4538"/>
                    </a:lnTo>
                    <a:lnTo>
                      <a:pt x="5370" y="4535"/>
                    </a:lnTo>
                    <a:lnTo>
                      <a:pt x="5381" y="4532"/>
                    </a:lnTo>
                    <a:lnTo>
                      <a:pt x="5392" y="4528"/>
                    </a:lnTo>
                    <a:lnTo>
                      <a:pt x="5446" y="4474"/>
                    </a:lnTo>
                    <a:lnTo>
                      <a:pt x="5497" y="4418"/>
                    </a:lnTo>
                    <a:lnTo>
                      <a:pt x="5548" y="4361"/>
                    </a:lnTo>
                    <a:lnTo>
                      <a:pt x="5599" y="4303"/>
                    </a:lnTo>
                    <a:lnTo>
                      <a:pt x="5647" y="4243"/>
                    </a:lnTo>
                    <a:lnTo>
                      <a:pt x="5694" y="4183"/>
                    </a:lnTo>
                    <a:lnTo>
                      <a:pt x="5739" y="4121"/>
                    </a:lnTo>
                    <a:lnTo>
                      <a:pt x="5784" y="4059"/>
                    </a:lnTo>
                    <a:lnTo>
                      <a:pt x="5826" y="3994"/>
                    </a:lnTo>
                    <a:lnTo>
                      <a:pt x="5867" y="3929"/>
                    </a:lnTo>
                    <a:lnTo>
                      <a:pt x="5907" y="3863"/>
                    </a:lnTo>
                    <a:lnTo>
                      <a:pt x="5945" y="3796"/>
                    </a:lnTo>
                    <a:lnTo>
                      <a:pt x="5980" y="3728"/>
                    </a:lnTo>
                    <a:lnTo>
                      <a:pt x="6016" y="3659"/>
                    </a:lnTo>
                    <a:lnTo>
                      <a:pt x="6049" y="3589"/>
                    </a:lnTo>
                    <a:lnTo>
                      <a:pt x="6080" y="3518"/>
                    </a:lnTo>
                    <a:lnTo>
                      <a:pt x="6110" y="3445"/>
                    </a:lnTo>
                    <a:lnTo>
                      <a:pt x="6138" y="3373"/>
                    </a:lnTo>
                    <a:lnTo>
                      <a:pt x="6164" y="3299"/>
                    </a:lnTo>
                    <a:lnTo>
                      <a:pt x="6188" y="3225"/>
                    </a:lnTo>
                    <a:lnTo>
                      <a:pt x="6211" y="3149"/>
                    </a:lnTo>
                    <a:lnTo>
                      <a:pt x="6231" y="3074"/>
                    </a:lnTo>
                    <a:lnTo>
                      <a:pt x="6251" y="2997"/>
                    </a:lnTo>
                    <a:lnTo>
                      <a:pt x="6268" y="2919"/>
                    </a:lnTo>
                    <a:lnTo>
                      <a:pt x="6283" y="2842"/>
                    </a:lnTo>
                    <a:lnTo>
                      <a:pt x="6296" y="2763"/>
                    </a:lnTo>
                    <a:lnTo>
                      <a:pt x="6307" y="2683"/>
                    </a:lnTo>
                    <a:lnTo>
                      <a:pt x="6316" y="2603"/>
                    </a:lnTo>
                    <a:lnTo>
                      <a:pt x="6324" y="2522"/>
                    </a:lnTo>
                    <a:lnTo>
                      <a:pt x="6328" y="2441"/>
                    </a:lnTo>
                    <a:lnTo>
                      <a:pt x="6332" y="2359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49" y="2374"/>
                    </a:lnTo>
                    <a:lnTo>
                      <a:pt x="6246" y="2458"/>
                    </a:lnTo>
                    <a:lnTo>
                      <a:pt x="6240" y="2541"/>
                    </a:lnTo>
                    <a:lnTo>
                      <a:pt x="6233" y="2624"/>
                    </a:lnTo>
                    <a:lnTo>
                      <a:pt x="6223" y="2707"/>
                    </a:lnTo>
                    <a:lnTo>
                      <a:pt x="6210" y="2789"/>
                    </a:lnTo>
                    <a:lnTo>
                      <a:pt x="6196" y="2870"/>
                    </a:lnTo>
                    <a:lnTo>
                      <a:pt x="6180" y="2950"/>
                    </a:lnTo>
                    <a:lnTo>
                      <a:pt x="6161" y="3029"/>
                    </a:lnTo>
                    <a:lnTo>
                      <a:pt x="6141" y="3107"/>
                    </a:lnTo>
                    <a:lnTo>
                      <a:pt x="6119" y="3185"/>
                    </a:lnTo>
                    <a:lnTo>
                      <a:pt x="6094" y="3263"/>
                    </a:lnTo>
                    <a:lnTo>
                      <a:pt x="6068" y="3338"/>
                    </a:lnTo>
                    <a:lnTo>
                      <a:pt x="6040" y="3414"/>
                    </a:lnTo>
                    <a:lnTo>
                      <a:pt x="6010" y="3487"/>
                    </a:lnTo>
                    <a:lnTo>
                      <a:pt x="5979" y="3561"/>
                    </a:lnTo>
                    <a:lnTo>
                      <a:pt x="5945" y="3633"/>
                    </a:lnTo>
                    <a:lnTo>
                      <a:pt x="5910" y="3704"/>
                    </a:lnTo>
                    <a:lnTo>
                      <a:pt x="5872" y="3775"/>
                    </a:lnTo>
                    <a:lnTo>
                      <a:pt x="5833" y="3844"/>
                    </a:lnTo>
                    <a:lnTo>
                      <a:pt x="5793" y="3912"/>
                    </a:lnTo>
                    <a:lnTo>
                      <a:pt x="5751" y="3979"/>
                    </a:lnTo>
                    <a:lnTo>
                      <a:pt x="5707" y="4045"/>
                    </a:lnTo>
                    <a:lnTo>
                      <a:pt x="5661" y="4108"/>
                    </a:lnTo>
                    <a:lnTo>
                      <a:pt x="5614" y="4172"/>
                    </a:lnTo>
                    <a:lnTo>
                      <a:pt x="5565" y="4234"/>
                    </a:lnTo>
                    <a:lnTo>
                      <a:pt x="5515" y="4295"/>
                    </a:lnTo>
                    <a:lnTo>
                      <a:pt x="5463" y="4355"/>
                    </a:lnTo>
                    <a:lnTo>
                      <a:pt x="5409" y="4413"/>
                    </a:lnTo>
                    <a:lnTo>
                      <a:pt x="5355" y="4469"/>
                    </a:lnTo>
                    <a:lnTo>
                      <a:pt x="5299" y="4524"/>
                    </a:lnTo>
                    <a:lnTo>
                      <a:pt x="5242" y="4578"/>
                    </a:lnTo>
                    <a:lnTo>
                      <a:pt x="5253" y="4575"/>
                    </a:lnTo>
                    <a:lnTo>
                      <a:pt x="5263" y="4573"/>
                    </a:lnTo>
                    <a:lnTo>
                      <a:pt x="5274" y="4570"/>
                    </a:lnTo>
                    <a:lnTo>
                      <a:pt x="5285" y="4566"/>
                    </a:lnTo>
                    <a:lnTo>
                      <a:pt x="5296" y="4563"/>
                    </a:lnTo>
                    <a:lnTo>
                      <a:pt x="5307" y="4560"/>
                    </a:lnTo>
                    <a:lnTo>
                      <a:pt x="5318" y="4557"/>
                    </a:lnTo>
                    <a:lnTo>
                      <a:pt x="5328" y="4553"/>
                    </a:lnTo>
                    <a:lnTo>
                      <a:pt x="5383" y="4499"/>
                    </a:lnTo>
                    <a:lnTo>
                      <a:pt x="5437" y="4444"/>
                    </a:lnTo>
                    <a:lnTo>
                      <a:pt x="5489" y="4387"/>
                    </a:lnTo>
                    <a:lnTo>
                      <a:pt x="5541" y="4329"/>
                    </a:lnTo>
                    <a:lnTo>
                      <a:pt x="5590" y="4269"/>
                    </a:lnTo>
                    <a:lnTo>
                      <a:pt x="5638" y="4209"/>
                    </a:lnTo>
                    <a:lnTo>
                      <a:pt x="5685" y="4146"/>
                    </a:lnTo>
                    <a:lnTo>
                      <a:pt x="5730" y="4084"/>
                    </a:lnTo>
                    <a:lnTo>
                      <a:pt x="5774" y="4020"/>
                    </a:lnTo>
                    <a:lnTo>
                      <a:pt x="5816" y="3954"/>
                    </a:lnTo>
                    <a:lnTo>
                      <a:pt x="5856" y="3888"/>
                    </a:lnTo>
                    <a:lnTo>
                      <a:pt x="5895" y="3820"/>
                    </a:lnTo>
                    <a:lnTo>
                      <a:pt x="5931" y="3752"/>
                    </a:lnTo>
                    <a:lnTo>
                      <a:pt x="5967" y="3683"/>
                    </a:lnTo>
                    <a:lnTo>
                      <a:pt x="6002" y="3612"/>
                    </a:lnTo>
                    <a:lnTo>
                      <a:pt x="6033" y="3540"/>
                    </a:lnTo>
                    <a:lnTo>
                      <a:pt x="6063" y="3468"/>
                    </a:lnTo>
                    <a:lnTo>
                      <a:pt x="6092" y="3395"/>
                    </a:lnTo>
                    <a:lnTo>
                      <a:pt x="6119" y="3321"/>
                    </a:lnTo>
                    <a:lnTo>
                      <a:pt x="6144" y="3245"/>
                    </a:lnTo>
                    <a:lnTo>
                      <a:pt x="6167" y="3170"/>
                    </a:lnTo>
                    <a:lnTo>
                      <a:pt x="6188" y="3093"/>
                    </a:lnTo>
                    <a:lnTo>
                      <a:pt x="6208" y="3017"/>
                    </a:lnTo>
                    <a:lnTo>
                      <a:pt x="6225" y="2938"/>
                    </a:lnTo>
                    <a:lnTo>
                      <a:pt x="6240" y="2859"/>
                    </a:lnTo>
                    <a:lnTo>
                      <a:pt x="6254" y="2780"/>
                    </a:lnTo>
                    <a:lnTo>
                      <a:pt x="6265" y="2699"/>
                    </a:lnTo>
                    <a:lnTo>
                      <a:pt x="6275" y="2619"/>
                    </a:lnTo>
                    <a:lnTo>
                      <a:pt x="6282" y="2537"/>
                    </a:lnTo>
                    <a:lnTo>
                      <a:pt x="6288" y="2455"/>
                    </a:lnTo>
                    <a:lnTo>
                      <a:pt x="6291" y="237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7" y="2387"/>
                    </a:lnTo>
                    <a:lnTo>
                      <a:pt x="6204" y="2472"/>
                    </a:lnTo>
                    <a:lnTo>
                      <a:pt x="6199" y="2557"/>
                    </a:lnTo>
                    <a:lnTo>
                      <a:pt x="6190" y="2640"/>
                    </a:lnTo>
                    <a:lnTo>
                      <a:pt x="6180" y="2723"/>
                    </a:lnTo>
                    <a:lnTo>
                      <a:pt x="6167" y="2805"/>
                    </a:lnTo>
                    <a:lnTo>
                      <a:pt x="6153" y="2887"/>
                    </a:lnTo>
                    <a:lnTo>
                      <a:pt x="6136" y="2968"/>
                    </a:lnTo>
                    <a:lnTo>
                      <a:pt x="6118" y="3048"/>
                    </a:lnTo>
                    <a:lnTo>
                      <a:pt x="6097" y="3127"/>
                    </a:lnTo>
                    <a:lnTo>
                      <a:pt x="6073" y="3206"/>
                    </a:lnTo>
                    <a:lnTo>
                      <a:pt x="6049" y="3282"/>
                    </a:lnTo>
                    <a:lnTo>
                      <a:pt x="6022" y="3359"/>
                    </a:lnTo>
                    <a:lnTo>
                      <a:pt x="5993" y="3435"/>
                    </a:lnTo>
                    <a:lnTo>
                      <a:pt x="5962" y="3510"/>
                    </a:lnTo>
                    <a:lnTo>
                      <a:pt x="5930" y="3584"/>
                    </a:lnTo>
                    <a:lnTo>
                      <a:pt x="5895" y="3656"/>
                    </a:lnTo>
                    <a:lnTo>
                      <a:pt x="5859" y="3727"/>
                    </a:lnTo>
                    <a:lnTo>
                      <a:pt x="5821" y="3799"/>
                    </a:lnTo>
                    <a:lnTo>
                      <a:pt x="5781" y="3868"/>
                    </a:lnTo>
                    <a:lnTo>
                      <a:pt x="5740" y="3936"/>
                    </a:lnTo>
                    <a:lnTo>
                      <a:pt x="5696" y="4003"/>
                    </a:lnTo>
                    <a:lnTo>
                      <a:pt x="5651" y="4069"/>
                    </a:lnTo>
                    <a:lnTo>
                      <a:pt x="5604" y="4133"/>
                    </a:lnTo>
                    <a:lnTo>
                      <a:pt x="5556" y="4197"/>
                    </a:lnTo>
                    <a:lnTo>
                      <a:pt x="5506" y="4259"/>
                    </a:lnTo>
                    <a:lnTo>
                      <a:pt x="5455" y="4320"/>
                    </a:lnTo>
                    <a:lnTo>
                      <a:pt x="5402" y="4380"/>
                    </a:lnTo>
                    <a:lnTo>
                      <a:pt x="5347" y="4437"/>
                    </a:lnTo>
                    <a:lnTo>
                      <a:pt x="5292" y="4494"/>
                    </a:lnTo>
                    <a:lnTo>
                      <a:pt x="5235" y="4549"/>
                    </a:lnTo>
                    <a:lnTo>
                      <a:pt x="5176" y="4602"/>
                    </a:lnTo>
                    <a:lnTo>
                      <a:pt x="5187" y="4600"/>
                    </a:lnTo>
                    <a:lnTo>
                      <a:pt x="5198" y="4597"/>
                    </a:lnTo>
                    <a:lnTo>
                      <a:pt x="5209" y="4593"/>
                    </a:lnTo>
                    <a:lnTo>
                      <a:pt x="5220" y="4590"/>
                    </a:lnTo>
                    <a:lnTo>
                      <a:pt x="5232" y="4588"/>
                    </a:lnTo>
                    <a:lnTo>
                      <a:pt x="5242" y="4585"/>
                    </a:lnTo>
                    <a:lnTo>
                      <a:pt x="5253" y="4582"/>
                    </a:lnTo>
                    <a:lnTo>
                      <a:pt x="5264" y="4578"/>
                    </a:lnTo>
                    <a:lnTo>
                      <a:pt x="5320" y="4524"/>
                    </a:lnTo>
                    <a:lnTo>
                      <a:pt x="5375" y="4468"/>
                    </a:lnTo>
                    <a:lnTo>
                      <a:pt x="5428" y="4412"/>
                    </a:lnTo>
                    <a:lnTo>
                      <a:pt x="5481" y="4354"/>
                    </a:lnTo>
                    <a:lnTo>
                      <a:pt x="5531" y="4294"/>
                    </a:lnTo>
                    <a:lnTo>
                      <a:pt x="5581" y="4234"/>
                    </a:lnTo>
                    <a:lnTo>
                      <a:pt x="5628" y="4171"/>
                    </a:lnTo>
                    <a:lnTo>
                      <a:pt x="5675" y="4109"/>
                    </a:lnTo>
                    <a:lnTo>
                      <a:pt x="5719" y="4044"/>
                    </a:lnTo>
                    <a:lnTo>
                      <a:pt x="5762" y="3979"/>
                    </a:lnTo>
                    <a:lnTo>
                      <a:pt x="5803" y="3912"/>
                    </a:lnTo>
                    <a:lnTo>
                      <a:pt x="5843" y="3844"/>
                    </a:lnTo>
                    <a:lnTo>
                      <a:pt x="5881" y="3776"/>
                    </a:lnTo>
                    <a:lnTo>
                      <a:pt x="5918" y="3706"/>
                    </a:lnTo>
                    <a:lnTo>
                      <a:pt x="5952" y="3634"/>
                    </a:lnTo>
                    <a:lnTo>
                      <a:pt x="5985" y="3563"/>
                    </a:lnTo>
                    <a:lnTo>
                      <a:pt x="6016" y="3490"/>
                    </a:lnTo>
                    <a:lnTo>
                      <a:pt x="6045" y="3416"/>
                    </a:lnTo>
                    <a:lnTo>
                      <a:pt x="6072" y="3342"/>
                    </a:lnTo>
                    <a:lnTo>
                      <a:pt x="6098" y="3266"/>
                    </a:lnTo>
                    <a:lnTo>
                      <a:pt x="6122" y="3189"/>
                    </a:lnTo>
                    <a:lnTo>
                      <a:pt x="6144" y="3113"/>
                    </a:lnTo>
                    <a:lnTo>
                      <a:pt x="6164" y="3035"/>
                    </a:lnTo>
                    <a:lnTo>
                      <a:pt x="6181" y="2956"/>
                    </a:lnTo>
                    <a:lnTo>
                      <a:pt x="6198" y="2876"/>
                    </a:lnTo>
                    <a:lnTo>
                      <a:pt x="6212" y="2796"/>
                    </a:lnTo>
                    <a:lnTo>
                      <a:pt x="6224" y="2715"/>
                    </a:lnTo>
                    <a:lnTo>
                      <a:pt x="6233" y="2633"/>
                    </a:lnTo>
                    <a:lnTo>
                      <a:pt x="6241" y="2551"/>
                    </a:lnTo>
                    <a:lnTo>
                      <a:pt x="6246" y="2469"/>
                    </a:lnTo>
                    <a:lnTo>
                      <a:pt x="6250" y="2385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400"/>
                    </a:lnTo>
                    <a:lnTo>
                      <a:pt x="6162" y="2485"/>
                    </a:lnTo>
                    <a:lnTo>
                      <a:pt x="6156" y="2571"/>
                    </a:lnTo>
                    <a:lnTo>
                      <a:pt x="6148" y="2655"/>
                    </a:lnTo>
                    <a:lnTo>
                      <a:pt x="6138" y="2739"/>
                    </a:lnTo>
                    <a:lnTo>
                      <a:pt x="6125" y="2821"/>
                    </a:lnTo>
                    <a:lnTo>
                      <a:pt x="6110" y="2904"/>
                    </a:lnTo>
                    <a:lnTo>
                      <a:pt x="6092" y="2985"/>
                    </a:lnTo>
                    <a:lnTo>
                      <a:pt x="6073" y="3066"/>
                    </a:lnTo>
                    <a:lnTo>
                      <a:pt x="6052" y="3146"/>
                    </a:lnTo>
                    <a:lnTo>
                      <a:pt x="6029" y="3225"/>
                    </a:lnTo>
                    <a:lnTo>
                      <a:pt x="6003" y="3303"/>
                    </a:lnTo>
                    <a:lnTo>
                      <a:pt x="5976" y="3381"/>
                    </a:lnTo>
                    <a:lnTo>
                      <a:pt x="5947" y="3456"/>
                    </a:lnTo>
                    <a:lnTo>
                      <a:pt x="5914" y="3532"/>
                    </a:lnTo>
                    <a:lnTo>
                      <a:pt x="5882" y="3605"/>
                    </a:lnTo>
                    <a:lnTo>
                      <a:pt x="5846" y="3679"/>
                    </a:lnTo>
                    <a:lnTo>
                      <a:pt x="5808" y="3751"/>
                    </a:lnTo>
                    <a:lnTo>
                      <a:pt x="5769" y="3821"/>
                    </a:lnTo>
                    <a:lnTo>
                      <a:pt x="5729" y="3892"/>
                    </a:lnTo>
                    <a:lnTo>
                      <a:pt x="5686" y="3960"/>
                    </a:lnTo>
                    <a:lnTo>
                      <a:pt x="5642" y="4028"/>
                    </a:lnTo>
                    <a:lnTo>
                      <a:pt x="5596" y="4094"/>
                    </a:lnTo>
                    <a:lnTo>
                      <a:pt x="5548" y="4158"/>
                    </a:lnTo>
                    <a:lnTo>
                      <a:pt x="5499" y="4222"/>
                    </a:lnTo>
                    <a:lnTo>
                      <a:pt x="5448" y="4284"/>
                    </a:lnTo>
                    <a:lnTo>
                      <a:pt x="5395" y="4344"/>
                    </a:lnTo>
                    <a:lnTo>
                      <a:pt x="5341" y="4403"/>
                    </a:lnTo>
                    <a:lnTo>
                      <a:pt x="5285" y="4462"/>
                    </a:lnTo>
                    <a:lnTo>
                      <a:pt x="5229" y="4518"/>
                    </a:lnTo>
                    <a:lnTo>
                      <a:pt x="5170" y="4573"/>
                    </a:lnTo>
                    <a:lnTo>
                      <a:pt x="5110" y="4627"/>
                    </a:lnTo>
                    <a:lnTo>
                      <a:pt x="5121" y="4624"/>
                    </a:lnTo>
                    <a:lnTo>
                      <a:pt x="5133" y="4621"/>
                    </a:lnTo>
                    <a:lnTo>
                      <a:pt x="5144" y="4617"/>
                    </a:lnTo>
                    <a:lnTo>
                      <a:pt x="5155" y="4614"/>
                    </a:lnTo>
                    <a:lnTo>
                      <a:pt x="5166" y="4612"/>
                    </a:lnTo>
                    <a:lnTo>
                      <a:pt x="5177" y="4609"/>
                    </a:lnTo>
                    <a:lnTo>
                      <a:pt x="5188" y="4605"/>
                    </a:lnTo>
                    <a:lnTo>
                      <a:pt x="5200" y="4602"/>
                    </a:lnTo>
                    <a:lnTo>
                      <a:pt x="5257" y="4548"/>
                    </a:lnTo>
                    <a:lnTo>
                      <a:pt x="5313" y="4493"/>
                    </a:lnTo>
                    <a:lnTo>
                      <a:pt x="5367" y="4437"/>
                    </a:lnTo>
                    <a:lnTo>
                      <a:pt x="5421" y="4379"/>
                    </a:lnTo>
                    <a:lnTo>
                      <a:pt x="5473" y="4319"/>
                    </a:lnTo>
                    <a:lnTo>
                      <a:pt x="5523" y="4258"/>
                    </a:lnTo>
                    <a:lnTo>
                      <a:pt x="5572" y="4196"/>
                    </a:lnTo>
                    <a:lnTo>
                      <a:pt x="5619" y="4132"/>
                    </a:lnTo>
                    <a:lnTo>
                      <a:pt x="5665" y="4069"/>
                    </a:lnTo>
                    <a:lnTo>
                      <a:pt x="5709" y="4003"/>
                    </a:lnTo>
                    <a:lnTo>
                      <a:pt x="5751" y="3936"/>
                    </a:lnTo>
                    <a:lnTo>
                      <a:pt x="5791" y="3868"/>
                    </a:lnTo>
                    <a:lnTo>
                      <a:pt x="5830" y="3799"/>
                    </a:lnTo>
                    <a:lnTo>
                      <a:pt x="5868" y="3728"/>
                    </a:lnTo>
                    <a:lnTo>
                      <a:pt x="5903" y="3657"/>
                    </a:lnTo>
                    <a:lnTo>
                      <a:pt x="5937" y="3585"/>
                    </a:lnTo>
                    <a:lnTo>
                      <a:pt x="5968" y="3511"/>
                    </a:lnTo>
                    <a:lnTo>
                      <a:pt x="5998" y="3438"/>
                    </a:lnTo>
                    <a:lnTo>
                      <a:pt x="6026" y="3362"/>
                    </a:lnTo>
                    <a:lnTo>
                      <a:pt x="6052" y="3287"/>
                    </a:lnTo>
                    <a:lnTo>
                      <a:pt x="6077" y="3209"/>
                    </a:lnTo>
                    <a:lnTo>
                      <a:pt x="6099" y="3131"/>
                    </a:lnTo>
                    <a:lnTo>
                      <a:pt x="6119" y="3053"/>
                    </a:lnTo>
                    <a:lnTo>
                      <a:pt x="6138" y="2974"/>
                    </a:lnTo>
                    <a:lnTo>
                      <a:pt x="6154" y="2894"/>
                    </a:lnTo>
                    <a:lnTo>
                      <a:pt x="6168" y="2813"/>
                    </a:lnTo>
                    <a:lnTo>
                      <a:pt x="6181" y="2731"/>
                    </a:lnTo>
                    <a:lnTo>
                      <a:pt x="6191" y="2648"/>
                    </a:lnTo>
                    <a:lnTo>
                      <a:pt x="6198" y="2565"/>
                    </a:lnTo>
                    <a:lnTo>
                      <a:pt x="6204" y="2482"/>
                    </a:lnTo>
                    <a:lnTo>
                      <a:pt x="6207" y="2398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3" y="2412"/>
                    </a:lnTo>
                    <a:lnTo>
                      <a:pt x="6120" y="2500"/>
                    </a:lnTo>
                    <a:lnTo>
                      <a:pt x="6114" y="2585"/>
                    </a:lnTo>
                    <a:lnTo>
                      <a:pt x="6106" y="2670"/>
                    </a:lnTo>
                    <a:lnTo>
                      <a:pt x="6095" y="2754"/>
                    </a:lnTo>
                    <a:lnTo>
                      <a:pt x="6082" y="2839"/>
                    </a:lnTo>
                    <a:lnTo>
                      <a:pt x="6066" y="2922"/>
                    </a:lnTo>
                    <a:lnTo>
                      <a:pt x="6049" y="3004"/>
                    </a:lnTo>
                    <a:lnTo>
                      <a:pt x="6029" y="3085"/>
                    </a:lnTo>
                    <a:lnTo>
                      <a:pt x="6008" y="3166"/>
                    </a:lnTo>
                    <a:lnTo>
                      <a:pt x="5983" y="3245"/>
                    </a:lnTo>
                    <a:lnTo>
                      <a:pt x="5957" y="3324"/>
                    </a:lnTo>
                    <a:lnTo>
                      <a:pt x="5929" y="3401"/>
                    </a:lnTo>
                    <a:lnTo>
                      <a:pt x="5899" y="3478"/>
                    </a:lnTo>
                    <a:lnTo>
                      <a:pt x="5866" y="3554"/>
                    </a:lnTo>
                    <a:lnTo>
                      <a:pt x="5832" y="3628"/>
                    </a:lnTo>
                    <a:lnTo>
                      <a:pt x="5796" y="3702"/>
                    </a:lnTo>
                    <a:lnTo>
                      <a:pt x="5758" y="3774"/>
                    </a:lnTo>
                    <a:lnTo>
                      <a:pt x="5718" y="3845"/>
                    </a:lnTo>
                    <a:lnTo>
                      <a:pt x="5676" y="3915"/>
                    </a:lnTo>
                    <a:lnTo>
                      <a:pt x="5633" y="3985"/>
                    </a:lnTo>
                    <a:lnTo>
                      <a:pt x="5587" y="4052"/>
                    </a:lnTo>
                    <a:lnTo>
                      <a:pt x="5540" y="4118"/>
                    </a:lnTo>
                    <a:lnTo>
                      <a:pt x="5491" y="4183"/>
                    </a:lnTo>
                    <a:lnTo>
                      <a:pt x="5440" y="4247"/>
                    </a:lnTo>
                    <a:lnTo>
                      <a:pt x="5389" y="4309"/>
                    </a:lnTo>
                    <a:lnTo>
                      <a:pt x="5334" y="4369"/>
                    </a:lnTo>
                    <a:lnTo>
                      <a:pt x="5279" y="4428"/>
                    </a:lnTo>
                    <a:lnTo>
                      <a:pt x="5222" y="4487"/>
                    </a:lnTo>
                    <a:lnTo>
                      <a:pt x="5164" y="4543"/>
                    </a:lnTo>
                    <a:lnTo>
                      <a:pt x="5104" y="4597"/>
                    </a:lnTo>
                    <a:lnTo>
                      <a:pt x="5043" y="4650"/>
                    </a:lnTo>
                    <a:lnTo>
                      <a:pt x="5055" y="4648"/>
                    </a:lnTo>
                    <a:lnTo>
                      <a:pt x="5065" y="4644"/>
                    </a:lnTo>
                    <a:lnTo>
                      <a:pt x="5077" y="4641"/>
                    </a:lnTo>
                    <a:lnTo>
                      <a:pt x="5088" y="4639"/>
                    </a:lnTo>
                    <a:lnTo>
                      <a:pt x="5100" y="4636"/>
                    </a:lnTo>
                    <a:lnTo>
                      <a:pt x="5111" y="4633"/>
                    </a:lnTo>
                    <a:lnTo>
                      <a:pt x="5123" y="4629"/>
                    </a:lnTo>
                    <a:lnTo>
                      <a:pt x="5134" y="4626"/>
                    </a:lnTo>
                    <a:lnTo>
                      <a:pt x="5193" y="4573"/>
                    </a:lnTo>
                    <a:lnTo>
                      <a:pt x="5250" y="4518"/>
                    </a:lnTo>
                    <a:lnTo>
                      <a:pt x="5305" y="4461"/>
                    </a:lnTo>
                    <a:lnTo>
                      <a:pt x="5360" y="4404"/>
                    </a:lnTo>
                    <a:lnTo>
                      <a:pt x="5413" y="4344"/>
                    </a:lnTo>
                    <a:lnTo>
                      <a:pt x="5464" y="4283"/>
                    </a:lnTo>
                    <a:lnTo>
                      <a:pt x="5514" y="4221"/>
                    </a:lnTo>
                    <a:lnTo>
                      <a:pt x="5562" y="4157"/>
                    </a:lnTo>
                    <a:lnTo>
                      <a:pt x="5609" y="4093"/>
                    </a:lnTo>
                    <a:lnTo>
                      <a:pt x="5654" y="4027"/>
                    </a:lnTo>
                    <a:lnTo>
                      <a:pt x="5698" y="3960"/>
                    </a:lnTo>
                    <a:lnTo>
                      <a:pt x="5739" y="3892"/>
                    </a:lnTo>
                    <a:lnTo>
                      <a:pt x="5779" y="3823"/>
                    </a:lnTo>
                    <a:lnTo>
                      <a:pt x="5817" y="3751"/>
                    </a:lnTo>
                    <a:lnTo>
                      <a:pt x="5853" y="3680"/>
                    </a:lnTo>
                    <a:lnTo>
                      <a:pt x="5888" y="3608"/>
                    </a:lnTo>
                    <a:lnTo>
                      <a:pt x="5920" y="3534"/>
                    </a:lnTo>
                    <a:lnTo>
                      <a:pt x="5951" y="3459"/>
                    </a:lnTo>
                    <a:lnTo>
                      <a:pt x="5980" y="3383"/>
                    </a:lnTo>
                    <a:lnTo>
                      <a:pt x="6007" y="3306"/>
                    </a:lnTo>
                    <a:lnTo>
                      <a:pt x="6031" y="3230"/>
                    </a:lnTo>
                    <a:lnTo>
                      <a:pt x="6055" y="3151"/>
                    </a:lnTo>
                    <a:lnTo>
                      <a:pt x="6076" y="3072"/>
                    </a:lnTo>
                    <a:lnTo>
                      <a:pt x="6094" y="2992"/>
                    </a:lnTo>
                    <a:lnTo>
                      <a:pt x="6111" y="2911"/>
                    </a:lnTo>
                    <a:lnTo>
                      <a:pt x="6125" y="2829"/>
                    </a:lnTo>
                    <a:lnTo>
                      <a:pt x="6138" y="2747"/>
                    </a:lnTo>
                    <a:lnTo>
                      <a:pt x="6148" y="2664"/>
                    </a:lnTo>
                    <a:lnTo>
                      <a:pt x="6156" y="2581"/>
                    </a:lnTo>
                    <a:lnTo>
                      <a:pt x="6162" y="2496"/>
                    </a:lnTo>
                    <a:lnTo>
                      <a:pt x="6165" y="2411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e05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3" y="2424"/>
                    </a:lnTo>
                    <a:lnTo>
                      <a:pt x="6080" y="2512"/>
                    </a:lnTo>
                    <a:lnTo>
                      <a:pt x="6073" y="2598"/>
                    </a:lnTo>
                    <a:lnTo>
                      <a:pt x="6064" y="2684"/>
                    </a:lnTo>
                    <a:lnTo>
                      <a:pt x="6054" y="2770"/>
                    </a:lnTo>
                    <a:lnTo>
                      <a:pt x="6040" y="2854"/>
                    </a:lnTo>
                    <a:lnTo>
                      <a:pt x="6024" y="2938"/>
                    </a:lnTo>
                    <a:lnTo>
                      <a:pt x="6006" y="3021"/>
                    </a:lnTo>
                    <a:lnTo>
                      <a:pt x="5985" y="3103"/>
                    </a:lnTo>
                    <a:lnTo>
                      <a:pt x="5964" y="3184"/>
                    </a:lnTo>
                    <a:lnTo>
                      <a:pt x="5939" y="3264"/>
                    </a:lnTo>
                    <a:lnTo>
                      <a:pt x="5912" y="3343"/>
                    </a:lnTo>
                    <a:lnTo>
                      <a:pt x="5883" y="3422"/>
                    </a:lnTo>
                    <a:lnTo>
                      <a:pt x="5852" y="3499"/>
                    </a:lnTo>
                    <a:lnTo>
                      <a:pt x="5819" y="3575"/>
                    </a:lnTo>
                    <a:lnTo>
                      <a:pt x="5783" y="3650"/>
                    </a:lnTo>
                    <a:lnTo>
                      <a:pt x="5747" y="3724"/>
                    </a:lnTo>
                    <a:lnTo>
                      <a:pt x="5708" y="3797"/>
                    </a:lnTo>
                    <a:lnTo>
                      <a:pt x="5667" y="3868"/>
                    </a:lnTo>
                    <a:lnTo>
                      <a:pt x="5624" y="3938"/>
                    </a:lnTo>
                    <a:lnTo>
                      <a:pt x="5579" y="4007"/>
                    </a:lnTo>
                    <a:lnTo>
                      <a:pt x="5533" y="4075"/>
                    </a:lnTo>
                    <a:lnTo>
                      <a:pt x="5484" y="4141"/>
                    </a:lnTo>
                    <a:lnTo>
                      <a:pt x="5434" y="4207"/>
                    </a:lnTo>
                    <a:lnTo>
                      <a:pt x="5383" y="4271"/>
                    </a:lnTo>
                    <a:lnTo>
                      <a:pt x="5330" y="4333"/>
                    </a:lnTo>
                    <a:lnTo>
                      <a:pt x="5275" y="4393"/>
                    </a:lnTo>
                    <a:lnTo>
                      <a:pt x="5218" y="4452"/>
                    </a:lnTo>
                    <a:lnTo>
                      <a:pt x="5160" y="4510"/>
                    </a:lnTo>
                    <a:lnTo>
                      <a:pt x="5101" y="4566"/>
                    </a:lnTo>
                    <a:lnTo>
                      <a:pt x="5039" y="4621"/>
                    </a:lnTo>
                    <a:lnTo>
                      <a:pt x="4976" y="4673"/>
                    </a:lnTo>
                    <a:lnTo>
                      <a:pt x="4988" y="4671"/>
                    </a:lnTo>
                    <a:lnTo>
                      <a:pt x="5000" y="4667"/>
                    </a:lnTo>
                    <a:lnTo>
                      <a:pt x="5011" y="4664"/>
                    </a:lnTo>
                    <a:lnTo>
                      <a:pt x="5023" y="4662"/>
                    </a:lnTo>
                    <a:lnTo>
                      <a:pt x="5035" y="4659"/>
                    </a:lnTo>
                    <a:lnTo>
                      <a:pt x="5047" y="4655"/>
                    </a:lnTo>
                    <a:lnTo>
                      <a:pt x="5057" y="4652"/>
                    </a:lnTo>
                    <a:lnTo>
                      <a:pt x="5069" y="4650"/>
                    </a:lnTo>
                    <a:lnTo>
                      <a:pt x="5129" y="4596"/>
                    </a:lnTo>
                    <a:lnTo>
                      <a:pt x="5188" y="4541"/>
                    </a:lnTo>
                    <a:lnTo>
                      <a:pt x="5244" y="4485"/>
                    </a:lnTo>
                    <a:lnTo>
                      <a:pt x="5300" y="4426"/>
                    </a:lnTo>
                    <a:lnTo>
                      <a:pt x="5354" y="4367"/>
                    </a:lnTo>
                    <a:lnTo>
                      <a:pt x="5407" y="4307"/>
                    </a:lnTo>
                    <a:lnTo>
                      <a:pt x="5458" y="4245"/>
                    </a:lnTo>
                    <a:lnTo>
                      <a:pt x="5507" y="4181"/>
                    </a:lnTo>
                    <a:lnTo>
                      <a:pt x="5555" y="4117"/>
                    </a:lnTo>
                    <a:lnTo>
                      <a:pt x="5601" y="4051"/>
                    </a:lnTo>
                    <a:lnTo>
                      <a:pt x="5645" y="3983"/>
                    </a:lnTo>
                    <a:lnTo>
                      <a:pt x="5688" y="3915"/>
                    </a:lnTo>
                    <a:lnTo>
                      <a:pt x="5728" y="3844"/>
                    </a:lnTo>
                    <a:lnTo>
                      <a:pt x="5767" y="3774"/>
                    </a:lnTo>
                    <a:lnTo>
                      <a:pt x="5805" y="3702"/>
                    </a:lnTo>
                    <a:lnTo>
                      <a:pt x="5841" y="3628"/>
                    </a:lnTo>
                    <a:lnTo>
                      <a:pt x="5873" y="3555"/>
                    </a:lnTo>
                    <a:lnTo>
                      <a:pt x="5906" y="3479"/>
                    </a:lnTo>
                    <a:lnTo>
                      <a:pt x="5935" y="3404"/>
                    </a:lnTo>
                    <a:lnTo>
                      <a:pt x="5962" y="3326"/>
                    </a:lnTo>
                    <a:lnTo>
                      <a:pt x="5988" y="3248"/>
                    </a:lnTo>
                    <a:lnTo>
                      <a:pt x="6011" y="3169"/>
                    </a:lnTo>
                    <a:lnTo>
                      <a:pt x="6032" y="3089"/>
                    </a:lnTo>
                    <a:lnTo>
                      <a:pt x="6051" y="3008"/>
                    </a:lnTo>
                    <a:lnTo>
                      <a:pt x="6069" y="2927"/>
                    </a:lnTo>
                    <a:lnTo>
                      <a:pt x="6084" y="2844"/>
                    </a:lnTo>
                    <a:lnTo>
                      <a:pt x="6097" y="2762"/>
                    </a:lnTo>
                    <a:lnTo>
                      <a:pt x="6107" y="2678"/>
                    </a:lnTo>
                    <a:lnTo>
                      <a:pt x="6115" y="2594"/>
                    </a:lnTo>
                    <a:lnTo>
                      <a:pt x="6121" y="2508"/>
                    </a:lnTo>
                    <a:lnTo>
                      <a:pt x="6125" y="2423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1" y="2436"/>
                    </a:lnTo>
                    <a:lnTo>
                      <a:pt x="6037" y="2525"/>
                    </a:lnTo>
                    <a:lnTo>
                      <a:pt x="6030" y="2612"/>
                    </a:lnTo>
                    <a:lnTo>
                      <a:pt x="6022" y="2699"/>
                    </a:lnTo>
                    <a:lnTo>
                      <a:pt x="6011" y="2785"/>
                    </a:lnTo>
                    <a:lnTo>
                      <a:pt x="5997" y="2870"/>
                    </a:lnTo>
                    <a:lnTo>
                      <a:pt x="5981" y="2955"/>
                    </a:lnTo>
                    <a:lnTo>
                      <a:pt x="5962" y="3038"/>
                    </a:lnTo>
                    <a:lnTo>
                      <a:pt x="5942" y="3121"/>
                    </a:lnTo>
                    <a:lnTo>
                      <a:pt x="5918" y="3203"/>
                    </a:lnTo>
                    <a:lnTo>
                      <a:pt x="5893" y="3284"/>
                    </a:lnTo>
                    <a:lnTo>
                      <a:pt x="5865" y="3364"/>
                    </a:lnTo>
                    <a:lnTo>
                      <a:pt x="5836" y="3443"/>
                    </a:lnTo>
                    <a:lnTo>
                      <a:pt x="5805" y="3521"/>
                    </a:lnTo>
                    <a:lnTo>
                      <a:pt x="5770" y="3596"/>
                    </a:lnTo>
                    <a:lnTo>
                      <a:pt x="5734" y="3672"/>
                    </a:lnTo>
                    <a:lnTo>
                      <a:pt x="5697" y="3746"/>
                    </a:lnTo>
                    <a:lnTo>
                      <a:pt x="5657" y="3820"/>
                    </a:lnTo>
                    <a:lnTo>
                      <a:pt x="5614" y="3891"/>
                    </a:lnTo>
                    <a:lnTo>
                      <a:pt x="5570" y="3962"/>
                    </a:lnTo>
                    <a:lnTo>
                      <a:pt x="5525" y="4031"/>
                    </a:lnTo>
                    <a:lnTo>
                      <a:pt x="5477" y="4099"/>
                    </a:lnTo>
                    <a:lnTo>
                      <a:pt x="5427" y="4165"/>
                    </a:lnTo>
                    <a:lnTo>
                      <a:pt x="5377" y="4230"/>
                    </a:lnTo>
                    <a:lnTo>
                      <a:pt x="5324" y="4294"/>
                    </a:lnTo>
                    <a:lnTo>
                      <a:pt x="5270" y="4356"/>
                    </a:lnTo>
                    <a:lnTo>
                      <a:pt x="5212" y="4417"/>
                    </a:lnTo>
                    <a:lnTo>
                      <a:pt x="5155" y="4476"/>
                    </a:lnTo>
                    <a:lnTo>
                      <a:pt x="5096" y="4534"/>
                    </a:lnTo>
                    <a:lnTo>
                      <a:pt x="5034" y="4589"/>
                    </a:lnTo>
                    <a:lnTo>
                      <a:pt x="4971" y="4643"/>
                    </a:lnTo>
                    <a:lnTo>
                      <a:pt x="4908" y="4696"/>
                    </a:lnTo>
                    <a:lnTo>
                      <a:pt x="4920" y="4692"/>
                    </a:lnTo>
                    <a:lnTo>
                      <a:pt x="4932" y="4690"/>
                    </a:lnTo>
                    <a:lnTo>
                      <a:pt x="4943" y="4687"/>
                    </a:lnTo>
                    <a:lnTo>
                      <a:pt x="4955" y="4684"/>
                    </a:lnTo>
                    <a:lnTo>
                      <a:pt x="4967" y="4682"/>
                    </a:lnTo>
                    <a:lnTo>
                      <a:pt x="4979" y="4678"/>
                    </a:lnTo>
                    <a:lnTo>
                      <a:pt x="4990" y="4675"/>
                    </a:lnTo>
                    <a:lnTo>
                      <a:pt x="5002" y="4672"/>
                    </a:lnTo>
                    <a:lnTo>
                      <a:pt x="5063" y="4619"/>
                    </a:lnTo>
                    <a:lnTo>
                      <a:pt x="5123" y="4565"/>
                    </a:lnTo>
                    <a:lnTo>
                      <a:pt x="5181" y="4509"/>
                    </a:lnTo>
                    <a:lnTo>
                      <a:pt x="5238" y="4450"/>
                    </a:lnTo>
                    <a:lnTo>
                      <a:pt x="5293" y="4391"/>
                    </a:lnTo>
                    <a:lnTo>
                      <a:pt x="5348" y="4331"/>
                    </a:lnTo>
                    <a:lnTo>
                      <a:pt x="5399" y="4269"/>
                    </a:lnTo>
                    <a:lnTo>
                      <a:pt x="5450" y="4205"/>
                    </a:lnTo>
                    <a:lnTo>
                      <a:pt x="5499" y="4140"/>
                    </a:lnTo>
                    <a:lnTo>
                      <a:pt x="5546" y="4074"/>
                    </a:lnTo>
                    <a:lnTo>
                      <a:pt x="5592" y="4007"/>
                    </a:lnTo>
                    <a:lnTo>
                      <a:pt x="5635" y="3937"/>
                    </a:lnTo>
                    <a:lnTo>
                      <a:pt x="5677" y="3867"/>
                    </a:lnTo>
                    <a:lnTo>
                      <a:pt x="5717" y="3796"/>
                    </a:lnTo>
                    <a:lnTo>
                      <a:pt x="5755" y="3724"/>
                    </a:lnTo>
                    <a:lnTo>
                      <a:pt x="5791" y="3650"/>
                    </a:lnTo>
                    <a:lnTo>
                      <a:pt x="5825" y="3576"/>
                    </a:lnTo>
                    <a:lnTo>
                      <a:pt x="5858" y="3500"/>
                    </a:lnTo>
                    <a:lnTo>
                      <a:pt x="5888" y="3423"/>
                    </a:lnTo>
                    <a:lnTo>
                      <a:pt x="5916" y="3346"/>
                    </a:lnTo>
                    <a:lnTo>
                      <a:pt x="5942" y="3267"/>
                    </a:lnTo>
                    <a:lnTo>
                      <a:pt x="5967" y="3188"/>
                    </a:lnTo>
                    <a:lnTo>
                      <a:pt x="5988" y="3107"/>
                    </a:lnTo>
                    <a:lnTo>
                      <a:pt x="6008" y="3026"/>
                    </a:lnTo>
                    <a:lnTo>
                      <a:pt x="6025" y="2944"/>
                    </a:lnTo>
                    <a:lnTo>
                      <a:pt x="6041" y="2861"/>
                    </a:lnTo>
                    <a:lnTo>
                      <a:pt x="6054" y="2776"/>
                    </a:lnTo>
                    <a:lnTo>
                      <a:pt x="6065" y="2692"/>
                    </a:lnTo>
                    <a:lnTo>
                      <a:pt x="6073" y="2607"/>
                    </a:lnTo>
                    <a:lnTo>
                      <a:pt x="6079" y="2522"/>
                    </a:lnTo>
                    <a:lnTo>
                      <a:pt x="6082" y="2434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8" y="2449"/>
                    </a:lnTo>
                    <a:lnTo>
                      <a:pt x="5994" y="2538"/>
                    </a:lnTo>
                    <a:lnTo>
                      <a:pt x="5988" y="2626"/>
                    </a:lnTo>
                    <a:lnTo>
                      <a:pt x="5978" y="2714"/>
                    </a:lnTo>
                    <a:lnTo>
                      <a:pt x="5967" y="2801"/>
                    </a:lnTo>
                    <a:lnTo>
                      <a:pt x="5952" y="2888"/>
                    </a:lnTo>
                    <a:lnTo>
                      <a:pt x="5936" y="2973"/>
                    </a:lnTo>
                    <a:lnTo>
                      <a:pt x="5918" y="3057"/>
                    </a:lnTo>
                    <a:lnTo>
                      <a:pt x="5896" y="3141"/>
                    </a:lnTo>
                    <a:lnTo>
                      <a:pt x="5872" y="3223"/>
                    </a:lnTo>
                    <a:lnTo>
                      <a:pt x="5846" y="3305"/>
                    </a:lnTo>
                    <a:lnTo>
                      <a:pt x="5818" y="3385"/>
                    </a:lnTo>
                    <a:lnTo>
                      <a:pt x="5788" y="3465"/>
                    </a:lnTo>
                    <a:lnTo>
                      <a:pt x="5754" y="3542"/>
                    </a:lnTo>
                    <a:lnTo>
                      <a:pt x="5720" y="3620"/>
                    </a:lnTo>
                    <a:lnTo>
                      <a:pt x="5683" y="3696"/>
                    </a:lnTo>
                    <a:lnTo>
                      <a:pt x="5644" y="3770"/>
                    </a:lnTo>
                    <a:lnTo>
                      <a:pt x="5603" y="3844"/>
                    </a:lnTo>
                    <a:lnTo>
                      <a:pt x="5560" y="3916"/>
                    </a:lnTo>
                    <a:lnTo>
                      <a:pt x="5516" y="3986"/>
                    </a:lnTo>
                    <a:lnTo>
                      <a:pt x="5468" y="4056"/>
                    </a:lnTo>
                    <a:lnTo>
                      <a:pt x="5420" y="4124"/>
                    </a:lnTo>
                    <a:lnTo>
                      <a:pt x="5369" y="4191"/>
                    </a:lnTo>
                    <a:lnTo>
                      <a:pt x="5317" y="4256"/>
                    </a:lnTo>
                    <a:lnTo>
                      <a:pt x="5263" y="4320"/>
                    </a:lnTo>
                    <a:lnTo>
                      <a:pt x="5207" y="4381"/>
                    </a:lnTo>
                    <a:lnTo>
                      <a:pt x="5149" y="4442"/>
                    </a:lnTo>
                    <a:lnTo>
                      <a:pt x="5090" y="4501"/>
                    </a:lnTo>
                    <a:lnTo>
                      <a:pt x="5029" y="4559"/>
                    </a:lnTo>
                    <a:lnTo>
                      <a:pt x="4967" y="4614"/>
                    </a:lnTo>
                    <a:lnTo>
                      <a:pt x="4903" y="4668"/>
                    </a:lnTo>
                    <a:lnTo>
                      <a:pt x="4837" y="4719"/>
                    </a:lnTo>
                    <a:lnTo>
                      <a:pt x="4849" y="4716"/>
                    </a:lnTo>
                    <a:lnTo>
                      <a:pt x="4861" y="4714"/>
                    </a:lnTo>
                    <a:lnTo>
                      <a:pt x="4873" y="4711"/>
                    </a:lnTo>
                    <a:lnTo>
                      <a:pt x="4886" y="4708"/>
                    </a:lnTo>
                    <a:lnTo>
                      <a:pt x="4898" y="4705"/>
                    </a:lnTo>
                    <a:lnTo>
                      <a:pt x="4910" y="4702"/>
                    </a:lnTo>
                    <a:lnTo>
                      <a:pt x="4921" y="4699"/>
                    </a:lnTo>
                    <a:lnTo>
                      <a:pt x="4933" y="4696"/>
                    </a:lnTo>
                    <a:lnTo>
                      <a:pt x="4996" y="4644"/>
                    </a:lnTo>
                    <a:lnTo>
                      <a:pt x="5058" y="4589"/>
                    </a:lnTo>
                    <a:lnTo>
                      <a:pt x="5117" y="4533"/>
                    </a:lnTo>
                    <a:lnTo>
                      <a:pt x="5175" y="4475"/>
                    </a:lnTo>
                    <a:lnTo>
                      <a:pt x="5232" y="4416"/>
                    </a:lnTo>
                    <a:lnTo>
                      <a:pt x="5287" y="4356"/>
                    </a:lnTo>
                    <a:lnTo>
                      <a:pt x="5340" y="4294"/>
                    </a:lnTo>
                    <a:lnTo>
                      <a:pt x="5391" y="4230"/>
                    </a:lnTo>
                    <a:lnTo>
                      <a:pt x="5441" y="4164"/>
                    </a:lnTo>
                    <a:lnTo>
                      <a:pt x="5490" y="4098"/>
                    </a:lnTo>
                    <a:lnTo>
                      <a:pt x="5536" y="4030"/>
                    </a:lnTo>
                    <a:lnTo>
                      <a:pt x="5581" y="3961"/>
                    </a:lnTo>
                    <a:lnTo>
                      <a:pt x="5624" y="3891"/>
                    </a:lnTo>
                    <a:lnTo>
                      <a:pt x="5665" y="3820"/>
                    </a:lnTo>
                    <a:lnTo>
                      <a:pt x="5704" y="3747"/>
                    </a:lnTo>
                    <a:lnTo>
                      <a:pt x="5740" y="3673"/>
                    </a:lnTo>
                    <a:lnTo>
                      <a:pt x="5776" y="3598"/>
                    </a:lnTo>
                    <a:lnTo>
                      <a:pt x="5809" y="3522"/>
                    </a:lnTo>
                    <a:lnTo>
                      <a:pt x="5840" y="3445"/>
                    </a:lnTo>
                    <a:lnTo>
                      <a:pt x="5869" y="3366"/>
                    </a:lnTo>
                    <a:lnTo>
                      <a:pt x="5896" y="3287"/>
                    </a:lnTo>
                    <a:lnTo>
                      <a:pt x="5921" y="3207"/>
                    </a:lnTo>
                    <a:lnTo>
                      <a:pt x="5942" y="3126"/>
                    </a:lnTo>
                    <a:lnTo>
                      <a:pt x="5963" y="3044"/>
                    </a:lnTo>
                    <a:lnTo>
                      <a:pt x="5981" y="2961"/>
                    </a:lnTo>
                    <a:lnTo>
                      <a:pt x="5997" y="2877"/>
                    </a:lnTo>
                    <a:lnTo>
                      <a:pt x="6011" y="2793"/>
                    </a:lnTo>
                    <a:lnTo>
                      <a:pt x="6021" y="2707"/>
                    </a:lnTo>
                    <a:lnTo>
                      <a:pt x="6030" y="2621"/>
                    </a:lnTo>
                    <a:lnTo>
                      <a:pt x="6037" y="2535"/>
                    </a:lnTo>
                    <a:lnTo>
                      <a:pt x="6040" y="2447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7" y="2461"/>
                    </a:lnTo>
                    <a:lnTo>
                      <a:pt x="5953" y="2551"/>
                    </a:lnTo>
                    <a:lnTo>
                      <a:pt x="5946" y="2641"/>
                    </a:lnTo>
                    <a:lnTo>
                      <a:pt x="5938" y="2729"/>
                    </a:lnTo>
                    <a:lnTo>
                      <a:pt x="5925" y="2817"/>
                    </a:lnTo>
                    <a:lnTo>
                      <a:pt x="5911" y="2903"/>
                    </a:lnTo>
                    <a:lnTo>
                      <a:pt x="5893" y="2990"/>
                    </a:lnTo>
                    <a:lnTo>
                      <a:pt x="5874" y="3075"/>
                    </a:lnTo>
                    <a:lnTo>
                      <a:pt x="5852" y="3158"/>
                    </a:lnTo>
                    <a:lnTo>
                      <a:pt x="5828" y="3241"/>
                    </a:lnTo>
                    <a:lnTo>
                      <a:pt x="5801" y="3323"/>
                    </a:lnTo>
                    <a:lnTo>
                      <a:pt x="5772" y="3405"/>
                    </a:lnTo>
                    <a:lnTo>
                      <a:pt x="5741" y="3485"/>
                    </a:lnTo>
                    <a:lnTo>
                      <a:pt x="5707" y="3563"/>
                    </a:lnTo>
                    <a:lnTo>
                      <a:pt x="5672" y="3641"/>
                    </a:lnTo>
                    <a:lnTo>
                      <a:pt x="5634" y="3717"/>
                    </a:lnTo>
                    <a:lnTo>
                      <a:pt x="5594" y="3793"/>
                    </a:lnTo>
                    <a:lnTo>
                      <a:pt x="5553" y="3866"/>
                    </a:lnTo>
                    <a:lnTo>
                      <a:pt x="5509" y="3939"/>
                    </a:lnTo>
                    <a:lnTo>
                      <a:pt x="5462" y="4010"/>
                    </a:lnTo>
                    <a:lnTo>
                      <a:pt x="5415" y="4079"/>
                    </a:lnTo>
                    <a:lnTo>
                      <a:pt x="5365" y="4148"/>
                    </a:lnTo>
                    <a:lnTo>
                      <a:pt x="5313" y="4214"/>
                    </a:lnTo>
                    <a:lnTo>
                      <a:pt x="5259" y="4280"/>
                    </a:lnTo>
                    <a:lnTo>
                      <a:pt x="5204" y="4344"/>
                    </a:lnTo>
                    <a:lnTo>
                      <a:pt x="5147" y="4405"/>
                    </a:lnTo>
                    <a:lnTo>
                      <a:pt x="5087" y="4466"/>
                    </a:lnTo>
                    <a:lnTo>
                      <a:pt x="5027" y="4524"/>
                    </a:lnTo>
                    <a:lnTo>
                      <a:pt x="4965" y="4581"/>
                    </a:lnTo>
                    <a:lnTo>
                      <a:pt x="4901" y="4637"/>
                    </a:lnTo>
                    <a:lnTo>
                      <a:pt x="4835" y="4689"/>
                    </a:lnTo>
                    <a:lnTo>
                      <a:pt x="4768" y="4741"/>
                    </a:lnTo>
                    <a:lnTo>
                      <a:pt x="4780" y="4738"/>
                    </a:lnTo>
                    <a:lnTo>
                      <a:pt x="4793" y="4736"/>
                    </a:lnTo>
                    <a:lnTo>
                      <a:pt x="4805" y="4733"/>
                    </a:lnTo>
                    <a:lnTo>
                      <a:pt x="4817" y="4730"/>
                    </a:lnTo>
                    <a:lnTo>
                      <a:pt x="4829" y="4727"/>
                    </a:lnTo>
                    <a:lnTo>
                      <a:pt x="4842" y="4724"/>
                    </a:lnTo>
                    <a:lnTo>
                      <a:pt x="4854" y="4722"/>
                    </a:lnTo>
                    <a:lnTo>
                      <a:pt x="4866" y="4719"/>
                    </a:lnTo>
                    <a:lnTo>
                      <a:pt x="4929" y="4666"/>
                    </a:lnTo>
                    <a:lnTo>
                      <a:pt x="4992" y="4612"/>
                    </a:lnTo>
                    <a:lnTo>
                      <a:pt x="5054" y="4557"/>
                    </a:lnTo>
                    <a:lnTo>
                      <a:pt x="5113" y="4499"/>
                    </a:lnTo>
                    <a:lnTo>
                      <a:pt x="5170" y="4440"/>
                    </a:lnTo>
                    <a:lnTo>
                      <a:pt x="5228" y="4379"/>
                    </a:lnTo>
                    <a:lnTo>
                      <a:pt x="5282" y="4317"/>
                    </a:lnTo>
                    <a:lnTo>
                      <a:pt x="5335" y="4253"/>
                    </a:lnTo>
                    <a:lnTo>
                      <a:pt x="5385" y="4188"/>
                    </a:lnTo>
                    <a:lnTo>
                      <a:pt x="5435" y="4122"/>
                    </a:lnTo>
                    <a:lnTo>
                      <a:pt x="5483" y="4054"/>
                    </a:lnTo>
                    <a:lnTo>
                      <a:pt x="5528" y="3985"/>
                    </a:lnTo>
                    <a:lnTo>
                      <a:pt x="5572" y="3914"/>
                    </a:lnTo>
                    <a:lnTo>
                      <a:pt x="5615" y="3843"/>
                    </a:lnTo>
                    <a:lnTo>
                      <a:pt x="5655" y="3769"/>
                    </a:lnTo>
                    <a:lnTo>
                      <a:pt x="5692" y="3695"/>
                    </a:lnTo>
                    <a:lnTo>
                      <a:pt x="5728" y="3619"/>
                    </a:lnTo>
                    <a:lnTo>
                      <a:pt x="5763" y="3544"/>
                    </a:lnTo>
                    <a:lnTo>
                      <a:pt x="5794" y="3466"/>
                    </a:lnTo>
                    <a:lnTo>
                      <a:pt x="5823" y="3387"/>
                    </a:lnTo>
                    <a:lnTo>
                      <a:pt x="5851" y="3307"/>
                    </a:lnTo>
                    <a:lnTo>
                      <a:pt x="5876" y="3226"/>
                    </a:lnTo>
                    <a:lnTo>
                      <a:pt x="5900" y="3144"/>
                    </a:lnTo>
                    <a:lnTo>
                      <a:pt x="5920" y="3061"/>
                    </a:lnTo>
                    <a:lnTo>
                      <a:pt x="5939" y="2978"/>
                    </a:lnTo>
                    <a:lnTo>
                      <a:pt x="5955" y="2893"/>
                    </a:lnTo>
                    <a:lnTo>
                      <a:pt x="5969" y="2808"/>
                    </a:lnTo>
                    <a:lnTo>
                      <a:pt x="5980" y="2722"/>
                    </a:lnTo>
                    <a:lnTo>
                      <a:pt x="5988" y="2635"/>
                    </a:lnTo>
                    <a:lnTo>
                      <a:pt x="5995" y="2548"/>
                    </a:lnTo>
                    <a:lnTo>
                      <a:pt x="5999" y="2459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6" y="2474"/>
                    </a:lnTo>
                    <a:lnTo>
                      <a:pt x="5911" y="2565"/>
                    </a:lnTo>
                    <a:lnTo>
                      <a:pt x="5905" y="2655"/>
                    </a:lnTo>
                    <a:lnTo>
                      <a:pt x="5895" y="2744"/>
                    </a:lnTo>
                    <a:lnTo>
                      <a:pt x="5882" y="2833"/>
                    </a:lnTo>
                    <a:lnTo>
                      <a:pt x="5868" y="2921"/>
                    </a:lnTo>
                    <a:lnTo>
                      <a:pt x="5850" y="3008"/>
                    </a:lnTo>
                    <a:lnTo>
                      <a:pt x="5830" y="3093"/>
                    </a:lnTo>
                    <a:lnTo>
                      <a:pt x="5807" y="3179"/>
                    </a:lnTo>
                    <a:lnTo>
                      <a:pt x="5783" y="3262"/>
                    </a:lnTo>
                    <a:lnTo>
                      <a:pt x="5756" y="3345"/>
                    </a:lnTo>
                    <a:lnTo>
                      <a:pt x="5725" y="3427"/>
                    </a:lnTo>
                    <a:lnTo>
                      <a:pt x="5694" y="3507"/>
                    </a:lnTo>
                    <a:lnTo>
                      <a:pt x="5659" y="3587"/>
                    </a:lnTo>
                    <a:lnTo>
                      <a:pt x="5623" y="3665"/>
                    </a:lnTo>
                    <a:lnTo>
                      <a:pt x="5584" y="3741"/>
                    </a:lnTo>
                    <a:lnTo>
                      <a:pt x="5543" y="3817"/>
                    </a:lnTo>
                    <a:lnTo>
                      <a:pt x="5500" y="3891"/>
                    </a:lnTo>
                    <a:lnTo>
                      <a:pt x="5454" y="3964"/>
                    </a:lnTo>
                    <a:lnTo>
                      <a:pt x="5408" y="4035"/>
                    </a:lnTo>
                    <a:lnTo>
                      <a:pt x="5358" y="4105"/>
                    </a:lnTo>
                    <a:lnTo>
                      <a:pt x="5307" y="4173"/>
                    </a:lnTo>
                    <a:lnTo>
                      <a:pt x="5254" y="4240"/>
                    </a:lnTo>
                    <a:lnTo>
                      <a:pt x="5199" y="4305"/>
                    </a:lnTo>
                    <a:lnTo>
                      <a:pt x="5142" y="4369"/>
                    </a:lnTo>
                    <a:lnTo>
                      <a:pt x="5084" y="4430"/>
                    </a:lnTo>
                    <a:lnTo>
                      <a:pt x="5023" y="4491"/>
                    </a:lnTo>
                    <a:lnTo>
                      <a:pt x="4961" y="4549"/>
                    </a:lnTo>
                    <a:lnTo>
                      <a:pt x="4898" y="4606"/>
                    </a:lnTo>
                    <a:lnTo>
                      <a:pt x="4832" y="4660"/>
                    </a:lnTo>
                    <a:lnTo>
                      <a:pt x="4765" y="4713"/>
                    </a:lnTo>
                    <a:lnTo>
                      <a:pt x="4697" y="4765"/>
                    </a:lnTo>
                    <a:lnTo>
                      <a:pt x="4709" y="4762"/>
                    </a:lnTo>
                    <a:lnTo>
                      <a:pt x="4722" y="4759"/>
                    </a:lnTo>
                    <a:lnTo>
                      <a:pt x="4733" y="4757"/>
                    </a:lnTo>
                    <a:lnTo>
                      <a:pt x="4746" y="4753"/>
                    </a:lnTo>
                    <a:lnTo>
                      <a:pt x="4759" y="4751"/>
                    </a:lnTo>
                    <a:lnTo>
                      <a:pt x="4771" y="4748"/>
                    </a:lnTo>
                    <a:lnTo>
                      <a:pt x="4783" y="4745"/>
                    </a:lnTo>
                    <a:lnTo>
                      <a:pt x="4796" y="4742"/>
                    </a:lnTo>
                    <a:lnTo>
                      <a:pt x="4862" y="4691"/>
                    </a:lnTo>
                    <a:lnTo>
                      <a:pt x="4926" y="4637"/>
                    </a:lnTo>
                    <a:lnTo>
                      <a:pt x="4988" y="4582"/>
                    </a:lnTo>
                    <a:lnTo>
                      <a:pt x="5049" y="4524"/>
                    </a:lnTo>
                    <a:lnTo>
                      <a:pt x="5108" y="4465"/>
                    </a:lnTo>
                    <a:lnTo>
                      <a:pt x="5166" y="4404"/>
                    </a:lnTo>
                    <a:lnTo>
                      <a:pt x="5222" y="4343"/>
                    </a:lnTo>
                    <a:lnTo>
                      <a:pt x="5276" y="4279"/>
                    </a:lnTo>
                    <a:lnTo>
                      <a:pt x="5328" y="4214"/>
                    </a:lnTo>
                    <a:lnTo>
                      <a:pt x="5379" y="4147"/>
                    </a:lnTo>
                    <a:lnTo>
                      <a:pt x="5427" y="4079"/>
                    </a:lnTo>
                    <a:lnTo>
                      <a:pt x="5475" y="4009"/>
                    </a:lnTo>
                    <a:lnTo>
                      <a:pt x="5519" y="3939"/>
                    </a:lnTo>
                    <a:lnTo>
                      <a:pt x="5562" y="3867"/>
                    </a:lnTo>
                    <a:lnTo>
                      <a:pt x="5603" y="3793"/>
                    </a:lnTo>
                    <a:lnTo>
                      <a:pt x="5642" y="3719"/>
                    </a:lnTo>
                    <a:lnTo>
                      <a:pt x="5679" y="3643"/>
                    </a:lnTo>
                    <a:lnTo>
                      <a:pt x="5713" y="3565"/>
                    </a:lnTo>
                    <a:lnTo>
                      <a:pt x="5747" y="3488"/>
                    </a:lnTo>
                    <a:lnTo>
                      <a:pt x="5777" y="3408"/>
                    </a:lnTo>
                    <a:lnTo>
                      <a:pt x="5805" y="3328"/>
                    </a:lnTo>
                    <a:lnTo>
                      <a:pt x="5831" y="3246"/>
                    </a:lnTo>
                    <a:lnTo>
                      <a:pt x="5855" y="3164"/>
                    </a:lnTo>
                    <a:lnTo>
                      <a:pt x="5877" y="3080"/>
                    </a:lnTo>
                    <a:lnTo>
                      <a:pt x="5895" y="2996"/>
                    </a:lnTo>
                    <a:lnTo>
                      <a:pt x="5911" y="2911"/>
                    </a:lnTo>
                    <a:lnTo>
                      <a:pt x="5926" y="2824"/>
                    </a:lnTo>
                    <a:lnTo>
                      <a:pt x="5937" y="2737"/>
                    </a:lnTo>
                    <a:lnTo>
                      <a:pt x="5947" y="2649"/>
                    </a:lnTo>
                    <a:lnTo>
                      <a:pt x="5953" y="2561"/>
                    </a:lnTo>
                    <a:lnTo>
                      <a:pt x="5957" y="247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85"/>
                    </a:lnTo>
                    <a:lnTo>
                      <a:pt x="5870" y="2577"/>
                    </a:lnTo>
                    <a:lnTo>
                      <a:pt x="5862" y="2669"/>
                    </a:lnTo>
                    <a:lnTo>
                      <a:pt x="5852" y="2759"/>
                    </a:lnTo>
                    <a:lnTo>
                      <a:pt x="5839" y="2848"/>
                    </a:lnTo>
                    <a:lnTo>
                      <a:pt x="5824" y="2937"/>
                    </a:lnTo>
                    <a:lnTo>
                      <a:pt x="5806" y="3024"/>
                    </a:lnTo>
                    <a:lnTo>
                      <a:pt x="5785" y="3111"/>
                    </a:lnTo>
                    <a:lnTo>
                      <a:pt x="5763" y="3197"/>
                    </a:lnTo>
                    <a:lnTo>
                      <a:pt x="5737" y="3281"/>
                    </a:lnTo>
                    <a:lnTo>
                      <a:pt x="5709" y="3365"/>
                    </a:lnTo>
                    <a:lnTo>
                      <a:pt x="5678" y="3447"/>
                    </a:lnTo>
                    <a:lnTo>
                      <a:pt x="5646" y="3528"/>
                    </a:lnTo>
                    <a:lnTo>
                      <a:pt x="5610" y="3608"/>
                    </a:lnTo>
                    <a:lnTo>
                      <a:pt x="5573" y="3686"/>
                    </a:lnTo>
                    <a:lnTo>
                      <a:pt x="5533" y="3764"/>
                    </a:lnTo>
                    <a:lnTo>
                      <a:pt x="5492" y="3840"/>
                    </a:lnTo>
                    <a:lnTo>
                      <a:pt x="5447" y="3914"/>
                    </a:lnTo>
                    <a:lnTo>
                      <a:pt x="5401" y="3988"/>
                    </a:lnTo>
                    <a:lnTo>
                      <a:pt x="5352" y="4059"/>
                    </a:lnTo>
                    <a:lnTo>
                      <a:pt x="5301" y="4129"/>
                    </a:lnTo>
                    <a:lnTo>
                      <a:pt x="5249" y="4197"/>
                    </a:lnTo>
                    <a:lnTo>
                      <a:pt x="5194" y="4264"/>
                    </a:lnTo>
                    <a:lnTo>
                      <a:pt x="5138" y="4330"/>
                    </a:lnTo>
                    <a:lnTo>
                      <a:pt x="5081" y="4393"/>
                    </a:lnTo>
                    <a:lnTo>
                      <a:pt x="5020" y="4454"/>
                    </a:lnTo>
                    <a:lnTo>
                      <a:pt x="4959" y="4515"/>
                    </a:lnTo>
                    <a:lnTo>
                      <a:pt x="4895" y="4573"/>
                    </a:lnTo>
                    <a:lnTo>
                      <a:pt x="4830" y="4629"/>
                    </a:lnTo>
                    <a:lnTo>
                      <a:pt x="4763" y="4683"/>
                    </a:lnTo>
                    <a:lnTo>
                      <a:pt x="4694" y="4736"/>
                    </a:lnTo>
                    <a:lnTo>
                      <a:pt x="4624" y="4786"/>
                    </a:lnTo>
                    <a:lnTo>
                      <a:pt x="4637" y="4784"/>
                    </a:lnTo>
                    <a:lnTo>
                      <a:pt x="4650" y="4780"/>
                    </a:lnTo>
                    <a:lnTo>
                      <a:pt x="4663" y="4778"/>
                    </a:lnTo>
                    <a:lnTo>
                      <a:pt x="4676" y="4775"/>
                    </a:lnTo>
                    <a:lnTo>
                      <a:pt x="4689" y="4773"/>
                    </a:lnTo>
                    <a:lnTo>
                      <a:pt x="4701" y="4770"/>
                    </a:lnTo>
                    <a:lnTo>
                      <a:pt x="4714" y="4768"/>
                    </a:lnTo>
                    <a:lnTo>
                      <a:pt x="4726" y="4764"/>
                    </a:lnTo>
                    <a:lnTo>
                      <a:pt x="4793" y="4712"/>
                    </a:lnTo>
                    <a:lnTo>
                      <a:pt x="4859" y="4660"/>
                    </a:lnTo>
                    <a:lnTo>
                      <a:pt x="4923" y="4604"/>
                    </a:lnTo>
                    <a:lnTo>
                      <a:pt x="4985" y="4547"/>
                    </a:lnTo>
                    <a:lnTo>
                      <a:pt x="5045" y="4489"/>
                    </a:lnTo>
                    <a:lnTo>
                      <a:pt x="5105" y="4428"/>
                    </a:lnTo>
                    <a:lnTo>
                      <a:pt x="5162" y="4367"/>
                    </a:lnTo>
                    <a:lnTo>
                      <a:pt x="5217" y="4303"/>
                    </a:lnTo>
                    <a:lnTo>
                      <a:pt x="5271" y="4237"/>
                    </a:lnTo>
                    <a:lnTo>
                      <a:pt x="5323" y="4171"/>
                    </a:lnTo>
                    <a:lnTo>
                      <a:pt x="5373" y="4102"/>
                    </a:lnTo>
                    <a:lnTo>
                      <a:pt x="5420" y="4033"/>
                    </a:lnTo>
                    <a:lnTo>
                      <a:pt x="5467" y="3962"/>
                    </a:lnTo>
                    <a:lnTo>
                      <a:pt x="5511" y="3889"/>
                    </a:lnTo>
                    <a:lnTo>
                      <a:pt x="5552" y="3816"/>
                    </a:lnTo>
                    <a:lnTo>
                      <a:pt x="5592" y="3740"/>
                    </a:lnTo>
                    <a:lnTo>
                      <a:pt x="5630" y="3664"/>
                    </a:lnTo>
                    <a:lnTo>
                      <a:pt x="5665" y="3586"/>
                    </a:lnTo>
                    <a:lnTo>
                      <a:pt x="5699" y="3508"/>
                    </a:lnTo>
                    <a:lnTo>
                      <a:pt x="5730" y="3428"/>
                    </a:lnTo>
                    <a:lnTo>
                      <a:pt x="5759" y="3346"/>
                    </a:lnTo>
                    <a:lnTo>
                      <a:pt x="5786" y="3264"/>
                    </a:lnTo>
                    <a:lnTo>
                      <a:pt x="5810" y="3181"/>
                    </a:lnTo>
                    <a:lnTo>
                      <a:pt x="5832" y="3098"/>
                    </a:lnTo>
                    <a:lnTo>
                      <a:pt x="5851" y="3013"/>
                    </a:lnTo>
                    <a:lnTo>
                      <a:pt x="5869" y="2926"/>
                    </a:lnTo>
                    <a:lnTo>
                      <a:pt x="5883" y="2840"/>
                    </a:lnTo>
                    <a:lnTo>
                      <a:pt x="5896" y="2752"/>
                    </a:lnTo>
                    <a:lnTo>
                      <a:pt x="5904" y="2664"/>
                    </a:lnTo>
                    <a:lnTo>
                      <a:pt x="5911" y="2574"/>
                    </a:lnTo>
                    <a:lnTo>
                      <a:pt x="5915" y="2484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e15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1" y="2497"/>
                    </a:lnTo>
                    <a:lnTo>
                      <a:pt x="5827" y="2589"/>
                    </a:lnTo>
                    <a:lnTo>
                      <a:pt x="5820" y="2681"/>
                    </a:lnTo>
                    <a:lnTo>
                      <a:pt x="5810" y="2773"/>
                    </a:lnTo>
                    <a:lnTo>
                      <a:pt x="5797" y="2864"/>
                    </a:lnTo>
                    <a:lnTo>
                      <a:pt x="5781" y="2952"/>
                    </a:lnTo>
                    <a:lnTo>
                      <a:pt x="5762" y="3041"/>
                    </a:lnTo>
                    <a:lnTo>
                      <a:pt x="5742" y="3128"/>
                    </a:lnTo>
                    <a:lnTo>
                      <a:pt x="5718" y="3215"/>
                    </a:lnTo>
                    <a:lnTo>
                      <a:pt x="5691" y="3300"/>
                    </a:lnTo>
                    <a:lnTo>
                      <a:pt x="5663" y="3384"/>
                    </a:lnTo>
                    <a:lnTo>
                      <a:pt x="5632" y="3467"/>
                    </a:lnTo>
                    <a:lnTo>
                      <a:pt x="5597" y="3548"/>
                    </a:lnTo>
                    <a:lnTo>
                      <a:pt x="5561" y="3629"/>
                    </a:lnTo>
                    <a:lnTo>
                      <a:pt x="5522" y="3708"/>
                    </a:lnTo>
                    <a:lnTo>
                      <a:pt x="5482" y="3786"/>
                    </a:lnTo>
                    <a:lnTo>
                      <a:pt x="5439" y="3863"/>
                    </a:lnTo>
                    <a:lnTo>
                      <a:pt x="5394" y="3937"/>
                    </a:lnTo>
                    <a:lnTo>
                      <a:pt x="5346" y="4011"/>
                    </a:lnTo>
                    <a:lnTo>
                      <a:pt x="5297" y="4082"/>
                    </a:lnTo>
                    <a:lnTo>
                      <a:pt x="5245" y="4152"/>
                    </a:lnTo>
                    <a:lnTo>
                      <a:pt x="5191" y="4221"/>
                    </a:lnTo>
                    <a:lnTo>
                      <a:pt x="5134" y="4288"/>
                    </a:lnTo>
                    <a:lnTo>
                      <a:pt x="5077" y="4353"/>
                    </a:lnTo>
                    <a:lnTo>
                      <a:pt x="5018" y="4417"/>
                    </a:lnTo>
                    <a:lnTo>
                      <a:pt x="4956" y="4478"/>
                    </a:lnTo>
                    <a:lnTo>
                      <a:pt x="4892" y="4538"/>
                    </a:lnTo>
                    <a:lnTo>
                      <a:pt x="4828" y="4596"/>
                    </a:lnTo>
                    <a:lnTo>
                      <a:pt x="4761" y="4652"/>
                    </a:lnTo>
                    <a:lnTo>
                      <a:pt x="4693" y="4706"/>
                    </a:lnTo>
                    <a:lnTo>
                      <a:pt x="4622" y="4758"/>
                    </a:lnTo>
                    <a:lnTo>
                      <a:pt x="4551" y="4808"/>
                    </a:lnTo>
                    <a:lnTo>
                      <a:pt x="4564" y="4805"/>
                    </a:lnTo>
                    <a:lnTo>
                      <a:pt x="4577" y="4802"/>
                    </a:lnTo>
                    <a:lnTo>
                      <a:pt x="4590" y="4799"/>
                    </a:lnTo>
                    <a:lnTo>
                      <a:pt x="4603" y="4797"/>
                    </a:lnTo>
                    <a:lnTo>
                      <a:pt x="4616" y="4794"/>
                    </a:lnTo>
                    <a:lnTo>
                      <a:pt x="4629" y="4792"/>
                    </a:lnTo>
                    <a:lnTo>
                      <a:pt x="4642" y="4788"/>
                    </a:lnTo>
                    <a:lnTo>
                      <a:pt x="4655" y="4786"/>
                    </a:lnTo>
                    <a:lnTo>
                      <a:pt x="4723" y="4734"/>
                    </a:lnTo>
                    <a:lnTo>
                      <a:pt x="4790" y="4681"/>
                    </a:lnTo>
                    <a:lnTo>
                      <a:pt x="4856" y="4627"/>
                    </a:lnTo>
                    <a:lnTo>
                      <a:pt x="4919" y="4570"/>
                    </a:lnTo>
                    <a:lnTo>
                      <a:pt x="4981" y="4512"/>
                    </a:lnTo>
                    <a:lnTo>
                      <a:pt x="5042" y="4451"/>
                    </a:lnTo>
                    <a:lnTo>
                      <a:pt x="5100" y="4390"/>
                    </a:lnTo>
                    <a:lnTo>
                      <a:pt x="5157" y="4326"/>
                    </a:lnTo>
                    <a:lnTo>
                      <a:pt x="5212" y="4261"/>
                    </a:lnTo>
                    <a:lnTo>
                      <a:pt x="5265" y="4194"/>
                    </a:lnTo>
                    <a:lnTo>
                      <a:pt x="5316" y="4126"/>
                    </a:lnTo>
                    <a:lnTo>
                      <a:pt x="5366" y="4056"/>
                    </a:lnTo>
                    <a:lnTo>
                      <a:pt x="5412" y="3985"/>
                    </a:lnTo>
                    <a:lnTo>
                      <a:pt x="5458" y="3912"/>
                    </a:lnTo>
                    <a:lnTo>
                      <a:pt x="5501" y="3838"/>
                    </a:lnTo>
                    <a:lnTo>
                      <a:pt x="5542" y="3762"/>
                    </a:lnTo>
                    <a:lnTo>
                      <a:pt x="5581" y="3686"/>
                    </a:lnTo>
                    <a:lnTo>
                      <a:pt x="5617" y="3608"/>
                    </a:lnTo>
                    <a:lnTo>
                      <a:pt x="5652" y="3528"/>
                    </a:lnTo>
                    <a:lnTo>
                      <a:pt x="5683" y="3448"/>
                    </a:lnTo>
                    <a:lnTo>
                      <a:pt x="5714" y="3366"/>
                    </a:lnTo>
                    <a:lnTo>
                      <a:pt x="5741" y="3283"/>
                    </a:lnTo>
                    <a:lnTo>
                      <a:pt x="5765" y="3200"/>
                    </a:lnTo>
                    <a:lnTo>
                      <a:pt x="5788" y="3114"/>
                    </a:lnTo>
                    <a:lnTo>
                      <a:pt x="5808" y="3029"/>
                    </a:lnTo>
                    <a:lnTo>
                      <a:pt x="5826" y="2942"/>
                    </a:lnTo>
                    <a:lnTo>
                      <a:pt x="5840" y="2854"/>
                    </a:lnTo>
                    <a:lnTo>
                      <a:pt x="5853" y="2765"/>
                    </a:lnTo>
                    <a:lnTo>
                      <a:pt x="5863" y="2676"/>
                    </a:lnTo>
                    <a:lnTo>
                      <a:pt x="5869" y="2586"/>
                    </a:lnTo>
                    <a:lnTo>
                      <a:pt x="5874" y="2495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1" y="2509"/>
                    </a:lnTo>
                    <a:lnTo>
                      <a:pt x="5787" y="2603"/>
                    </a:lnTo>
                    <a:lnTo>
                      <a:pt x="5779" y="2695"/>
                    </a:lnTo>
                    <a:lnTo>
                      <a:pt x="5768" y="2788"/>
                    </a:lnTo>
                    <a:lnTo>
                      <a:pt x="5755" y="2879"/>
                    </a:lnTo>
                    <a:lnTo>
                      <a:pt x="5739" y="2970"/>
                    </a:lnTo>
                    <a:lnTo>
                      <a:pt x="5720" y="3058"/>
                    </a:lnTo>
                    <a:lnTo>
                      <a:pt x="5698" y="3147"/>
                    </a:lnTo>
                    <a:lnTo>
                      <a:pt x="5673" y="3234"/>
                    </a:lnTo>
                    <a:lnTo>
                      <a:pt x="5646" y="3320"/>
                    </a:lnTo>
                    <a:lnTo>
                      <a:pt x="5617" y="3405"/>
                    </a:lnTo>
                    <a:lnTo>
                      <a:pt x="5584" y="3488"/>
                    </a:lnTo>
                    <a:lnTo>
                      <a:pt x="5550" y="3570"/>
                    </a:lnTo>
                    <a:lnTo>
                      <a:pt x="5513" y="3651"/>
                    </a:lnTo>
                    <a:lnTo>
                      <a:pt x="5473" y="3731"/>
                    </a:lnTo>
                    <a:lnTo>
                      <a:pt x="5431" y="3809"/>
                    </a:lnTo>
                    <a:lnTo>
                      <a:pt x="5387" y="3886"/>
                    </a:lnTo>
                    <a:lnTo>
                      <a:pt x="5340" y="3961"/>
                    </a:lnTo>
                    <a:lnTo>
                      <a:pt x="5292" y="4035"/>
                    </a:lnTo>
                    <a:lnTo>
                      <a:pt x="5241" y="4107"/>
                    </a:lnTo>
                    <a:lnTo>
                      <a:pt x="5188" y="4177"/>
                    </a:lnTo>
                    <a:lnTo>
                      <a:pt x="5133" y="4246"/>
                    </a:lnTo>
                    <a:lnTo>
                      <a:pt x="5076" y="4313"/>
                    </a:lnTo>
                    <a:lnTo>
                      <a:pt x="5016" y="4378"/>
                    </a:lnTo>
                    <a:lnTo>
                      <a:pt x="4955" y="4442"/>
                    </a:lnTo>
                    <a:lnTo>
                      <a:pt x="4892" y="4502"/>
                    </a:lnTo>
                    <a:lnTo>
                      <a:pt x="4827" y="4563"/>
                    </a:lnTo>
                    <a:lnTo>
                      <a:pt x="4760" y="4620"/>
                    </a:lnTo>
                    <a:lnTo>
                      <a:pt x="4692" y="4675"/>
                    </a:lnTo>
                    <a:lnTo>
                      <a:pt x="4622" y="4729"/>
                    </a:lnTo>
                    <a:lnTo>
                      <a:pt x="4550" y="4780"/>
                    </a:lnTo>
                    <a:lnTo>
                      <a:pt x="4477" y="4828"/>
                    </a:lnTo>
                    <a:lnTo>
                      <a:pt x="4490" y="4826"/>
                    </a:lnTo>
                    <a:lnTo>
                      <a:pt x="4503" y="4824"/>
                    </a:lnTo>
                    <a:lnTo>
                      <a:pt x="4517" y="4821"/>
                    </a:lnTo>
                    <a:lnTo>
                      <a:pt x="4530" y="4819"/>
                    </a:lnTo>
                    <a:lnTo>
                      <a:pt x="4543" y="4816"/>
                    </a:lnTo>
                    <a:lnTo>
                      <a:pt x="4557" y="4813"/>
                    </a:lnTo>
                    <a:lnTo>
                      <a:pt x="4570" y="4810"/>
                    </a:lnTo>
                    <a:lnTo>
                      <a:pt x="4583" y="4807"/>
                    </a:lnTo>
                    <a:lnTo>
                      <a:pt x="4653" y="4757"/>
                    </a:lnTo>
                    <a:lnTo>
                      <a:pt x="4722" y="4704"/>
                    </a:lnTo>
                    <a:lnTo>
                      <a:pt x="4789" y="4650"/>
                    </a:lnTo>
                    <a:lnTo>
                      <a:pt x="4854" y="4594"/>
                    </a:lnTo>
                    <a:lnTo>
                      <a:pt x="4918" y="4536"/>
                    </a:lnTo>
                    <a:lnTo>
                      <a:pt x="4979" y="4476"/>
                    </a:lnTo>
                    <a:lnTo>
                      <a:pt x="5039" y="4414"/>
                    </a:lnTo>
                    <a:lnTo>
                      <a:pt x="5097" y="4351"/>
                    </a:lnTo>
                    <a:lnTo>
                      <a:pt x="5153" y="4285"/>
                    </a:lnTo>
                    <a:lnTo>
                      <a:pt x="5208" y="4218"/>
                    </a:lnTo>
                    <a:lnTo>
                      <a:pt x="5260" y="4150"/>
                    </a:lnTo>
                    <a:lnTo>
                      <a:pt x="5311" y="4080"/>
                    </a:lnTo>
                    <a:lnTo>
                      <a:pt x="5360" y="4009"/>
                    </a:lnTo>
                    <a:lnTo>
                      <a:pt x="5406" y="3935"/>
                    </a:lnTo>
                    <a:lnTo>
                      <a:pt x="5451" y="3861"/>
                    </a:lnTo>
                    <a:lnTo>
                      <a:pt x="5492" y="3785"/>
                    </a:lnTo>
                    <a:lnTo>
                      <a:pt x="5532" y="3707"/>
                    </a:lnTo>
                    <a:lnTo>
                      <a:pt x="5569" y="3629"/>
                    </a:lnTo>
                    <a:lnTo>
                      <a:pt x="5605" y="3549"/>
                    </a:lnTo>
                    <a:lnTo>
                      <a:pt x="5637" y="3468"/>
                    </a:lnTo>
                    <a:lnTo>
                      <a:pt x="5668" y="3386"/>
                    </a:lnTo>
                    <a:lnTo>
                      <a:pt x="5696" y="3302"/>
                    </a:lnTo>
                    <a:lnTo>
                      <a:pt x="5722" y="3218"/>
                    </a:lnTo>
                    <a:lnTo>
                      <a:pt x="5744" y="3132"/>
                    </a:lnTo>
                    <a:lnTo>
                      <a:pt x="5765" y="3045"/>
                    </a:lnTo>
                    <a:lnTo>
                      <a:pt x="5783" y="2958"/>
                    </a:lnTo>
                    <a:lnTo>
                      <a:pt x="5798" y="2869"/>
                    </a:lnTo>
                    <a:lnTo>
                      <a:pt x="5811" y="2780"/>
                    </a:lnTo>
                    <a:lnTo>
                      <a:pt x="5821" y="2690"/>
                    </a:lnTo>
                    <a:lnTo>
                      <a:pt x="5829" y="2598"/>
                    </a:lnTo>
                    <a:lnTo>
                      <a:pt x="5833" y="2506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49" y="2521"/>
                    </a:lnTo>
                    <a:lnTo>
                      <a:pt x="5744" y="2616"/>
                    </a:lnTo>
                    <a:lnTo>
                      <a:pt x="5736" y="2710"/>
                    </a:lnTo>
                    <a:lnTo>
                      <a:pt x="5726" y="2803"/>
                    </a:lnTo>
                    <a:lnTo>
                      <a:pt x="5712" y="2895"/>
                    </a:lnTo>
                    <a:lnTo>
                      <a:pt x="5695" y="2986"/>
                    </a:lnTo>
                    <a:lnTo>
                      <a:pt x="5676" y="3077"/>
                    </a:lnTo>
                    <a:lnTo>
                      <a:pt x="5653" y="3165"/>
                    </a:lnTo>
                    <a:lnTo>
                      <a:pt x="5628" y="3254"/>
                    </a:lnTo>
                    <a:lnTo>
                      <a:pt x="5600" y="3340"/>
                    </a:lnTo>
                    <a:lnTo>
                      <a:pt x="5570" y="3426"/>
                    </a:lnTo>
                    <a:lnTo>
                      <a:pt x="5536" y="3510"/>
                    </a:lnTo>
                    <a:lnTo>
                      <a:pt x="5501" y="3593"/>
                    </a:lnTo>
                    <a:lnTo>
                      <a:pt x="5463" y="3675"/>
                    </a:lnTo>
                    <a:lnTo>
                      <a:pt x="5422" y="3755"/>
                    </a:lnTo>
                    <a:lnTo>
                      <a:pt x="5379" y="3834"/>
                    </a:lnTo>
                    <a:lnTo>
                      <a:pt x="5333" y="3911"/>
                    </a:lnTo>
                    <a:lnTo>
                      <a:pt x="5286" y="3986"/>
                    </a:lnTo>
                    <a:lnTo>
                      <a:pt x="5235" y="4060"/>
                    </a:lnTo>
                    <a:lnTo>
                      <a:pt x="5183" y="4132"/>
                    </a:lnTo>
                    <a:lnTo>
                      <a:pt x="5129" y="4203"/>
                    </a:lnTo>
                    <a:lnTo>
                      <a:pt x="5072" y="4271"/>
                    </a:lnTo>
                    <a:lnTo>
                      <a:pt x="5013" y="4338"/>
                    </a:lnTo>
                    <a:lnTo>
                      <a:pt x="4953" y="4403"/>
                    </a:lnTo>
                    <a:lnTo>
                      <a:pt x="4889" y="4467"/>
                    </a:lnTo>
                    <a:lnTo>
                      <a:pt x="4825" y="4528"/>
                    </a:lnTo>
                    <a:lnTo>
                      <a:pt x="4758" y="4587"/>
                    </a:lnTo>
                    <a:lnTo>
                      <a:pt x="4690" y="4644"/>
                    </a:lnTo>
                    <a:lnTo>
                      <a:pt x="4620" y="4699"/>
                    </a:lnTo>
                    <a:lnTo>
                      <a:pt x="4548" y="4752"/>
                    </a:lnTo>
                    <a:lnTo>
                      <a:pt x="4474" y="4803"/>
                    </a:lnTo>
                    <a:lnTo>
                      <a:pt x="4400" y="4851"/>
                    </a:lnTo>
                    <a:lnTo>
                      <a:pt x="4413" y="4848"/>
                    </a:lnTo>
                    <a:lnTo>
                      <a:pt x="4427" y="4846"/>
                    </a:lnTo>
                    <a:lnTo>
                      <a:pt x="4441" y="4843"/>
                    </a:lnTo>
                    <a:lnTo>
                      <a:pt x="4455" y="4841"/>
                    </a:lnTo>
                    <a:lnTo>
                      <a:pt x="4468" y="4837"/>
                    </a:lnTo>
                    <a:lnTo>
                      <a:pt x="4482" y="4835"/>
                    </a:lnTo>
                    <a:lnTo>
                      <a:pt x="4496" y="4832"/>
                    </a:lnTo>
                    <a:lnTo>
                      <a:pt x="4510" y="4830"/>
                    </a:lnTo>
                    <a:lnTo>
                      <a:pt x="4581" y="4780"/>
                    </a:lnTo>
                    <a:lnTo>
                      <a:pt x="4652" y="4728"/>
                    </a:lnTo>
                    <a:lnTo>
                      <a:pt x="4720" y="4674"/>
                    </a:lnTo>
                    <a:lnTo>
                      <a:pt x="4787" y="4618"/>
                    </a:lnTo>
                    <a:lnTo>
                      <a:pt x="4851" y="4560"/>
                    </a:lnTo>
                    <a:lnTo>
                      <a:pt x="4915" y="4500"/>
                    </a:lnTo>
                    <a:lnTo>
                      <a:pt x="4977" y="4439"/>
                    </a:lnTo>
                    <a:lnTo>
                      <a:pt x="5036" y="4375"/>
                    </a:lnTo>
                    <a:lnTo>
                      <a:pt x="5093" y="4310"/>
                    </a:lnTo>
                    <a:lnTo>
                      <a:pt x="5150" y="4243"/>
                    </a:lnTo>
                    <a:lnTo>
                      <a:pt x="5204" y="4174"/>
                    </a:lnTo>
                    <a:lnTo>
                      <a:pt x="5256" y="4104"/>
                    </a:lnTo>
                    <a:lnTo>
                      <a:pt x="5305" y="4033"/>
                    </a:lnTo>
                    <a:lnTo>
                      <a:pt x="5353" y="3959"/>
                    </a:lnTo>
                    <a:lnTo>
                      <a:pt x="5398" y="3885"/>
                    </a:lnTo>
                    <a:lnTo>
                      <a:pt x="5441" y="3808"/>
                    </a:lnTo>
                    <a:lnTo>
                      <a:pt x="5481" y="3730"/>
                    </a:lnTo>
                    <a:lnTo>
                      <a:pt x="5520" y="3651"/>
                    </a:lnTo>
                    <a:lnTo>
                      <a:pt x="5556" y="3570"/>
                    </a:lnTo>
                    <a:lnTo>
                      <a:pt x="5591" y="3489"/>
                    </a:lnTo>
                    <a:lnTo>
                      <a:pt x="5622" y="3406"/>
                    </a:lnTo>
                    <a:lnTo>
                      <a:pt x="5650" y="3322"/>
                    </a:lnTo>
                    <a:lnTo>
                      <a:pt x="5677" y="3237"/>
                    </a:lnTo>
                    <a:lnTo>
                      <a:pt x="5701" y="3150"/>
                    </a:lnTo>
                    <a:lnTo>
                      <a:pt x="5721" y="3063"/>
                    </a:lnTo>
                    <a:lnTo>
                      <a:pt x="5740" y="2974"/>
                    </a:lnTo>
                    <a:lnTo>
                      <a:pt x="5756" y="2886"/>
                    </a:lnTo>
                    <a:lnTo>
                      <a:pt x="5769" y="2795"/>
                    </a:lnTo>
                    <a:lnTo>
                      <a:pt x="5779" y="2703"/>
                    </a:lnTo>
                    <a:lnTo>
                      <a:pt x="5786" y="2611"/>
                    </a:lnTo>
                    <a:lnTo>
                      <a:pt x="5790" y="2519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7" y="2533"/>
                    </a:lnTo>
                    <a:lnTo>
                      <a:pt x="5702" y="2629"/>
                    </a:lnTo>
                    <a:lnTo>
                      <a:pt x="5694" y="2724"/>
                    </a:lnTo>
                    <a:lnTo>
                      <a:pt x="5683" y="2818"/>
                    </a:lnTo>
                    <a:lnTo>
                      <a:pt x="5669" y="2912"/>
                    </a:lnTo>
                    <a:lnTo>
                      <a:pt x="5652" y="3004"/>
                    </a:lnTo>
                    <a:lnTo>
                      <a:pt x="5632" y="3094"/>
                    </a:lnTo>
                    <a:lnTo>
                      <a:pt x="5608" y="3185"/>
                    </a:lnTo>
                    <a:lnTo>
                      <a:pt x="5582" y="3274"/>
                    </a:lnTo>
                    <a:lnTo>
                      <a:pt x="5554" y="3361"/>
                    </a:lnTo>
                    <a:lnTo>
                      <a:pt x="5523" y="3448"/>
                    </a:lnTo>
                    <a:lnTo>
                      <a:pt x="5488" y="3532"/>
                    </a:lnTo>
                    <a:lnTo>
                      <a:pt x="5452" y="3616"/>
                    </a:lnTo>
                    <a:lnTo>
                      <a:pt x="5413" y="3698"/>
                    </a:lnTo>
                    <a:lnTo>
                      <a:pt x="5371" y="3778"/>
                    </a:lnTo>
                    <a:lnTo>
                      <a:pt x="5326" y="3858"/>
                    </a:lnTo>
                    <a:lnTo>
                      <a:pt x="5280" y="3935"/>
                    </a:lnTo>
                    <a:lnTo>
                      <a:pt x="5230" y="4011"/>
                    </a:lnTo>
                    <a:lnTo>
                      <a:pt x="5179" y="4085"/>
                    </a:lnTo>
                    <a:lnTo>
                      <a:pt x="5125" y="4157"/>
                    </a:lnTo>
                    <a:lnTo>
                      <a:pt x="5069" y="4228"/>
                    </a:lnTo>
                    <a:lnTo>
                      <a:pt x="5011" y="4298"/>
                    </a:lnTo>
                    <a:lnTo>
                      <a:pt x="4950" y="4364"/>
                    </a:lnTo>
                    <a:lnTo>
                      <a:pt x="4889" y="4429"/>
                    </a:lnTo>
                    <a:lnTo>
                      <a:pt x="4824" y="4492"/>
                    </a:lnTo>
                    <a:lnTo>
                      <a:pt x="4758" y="4552"/>
                    </a:lnTo>
                    <a:lnTo>
                      <a:pt x="4690" y="4612"/>
                    </a:lnTo>
                    <a:lnTo>
                      <a:pt x="4620" y="4668"/>
                    </a:lnTo>
                    <a:lnTo>
                      <a:pt x="4547" y="4723"/>
                    </a:lnTo>
                    <a:lnTo>
                      <a:pt x="4474" y="4775"/>
                    </a:lnTo>
                    <a:lnTo>
                      <a:pt x="4398" y="4825"/>
                    </a:lnTo>
                    <a:lnTo>
                      <a:pt x="4321" y="4872"/>
                    </a:lnTo>
                    <a:lnTo>
                      <a:pt x="4336" y="4870"/>
                    </a:lnTo>
                    <a:lnTo>
                      <a:pt x="4350" y="4867"/>
                    </a:lnTo>
                    <a:lnTo>
                      <a:pt x="4364" y="4865"/>
                    </a:lnTo>
                    <a:lnTo>
                      <a:pt x="4378" y="4861"/>
                    </a:lnTo>
                    <a:lnTo>
                      <a:pt x="4392" y="4859"/>
                    </a:lnTo>
                    <a:lnTo>
                      <a:pt x="4407" y="4857"/>
                    </a:lnTo>
                    <a:lnTo>
                      <a:pt x="4421" y="4854"/>
                    </a:lnTo>
                    <a:lnTo>
                      <a:pt x="4435" y="4850"/>
                    </a:lnTo>
                    <a:lnTo>
                      <a:pt x="4508" y="4802"/>
                    </a:lnTo>
                    <a:lnTo>
                      <a:pt x="4580" y="4751"/>
                    </a:lnTo>
                    <a:lnTo>
                      <a:pt x="4650" y="4697"/>
                    </a:lnTo>
                    <a:lnTo>
                      <a:pt x="4718" y="4642"/>
                    </a:lnTo>
                    <a:lnTo>
                      <a:pt x="4785" y="4585"/>
                    </a:lnTo>
                    <a:lnTo>
                      <a:pt x="4850" y="4524"/>
                    </a:lnTo>
                    <a:lnTo>
                      <a:pt x="4913" y="4464"/>
                    </a:lnTo>
                    <a:lnTo>
                      <a:pt x="4974" y="4400"/>
                    </a:lnTo>
                    <a:lnTo>
                      <a:pt x="5034" y="4335"/>
                    </a:lnTo>
                    <a:lnTo>
                      <a:pt x="5091" y="4268"/>
                    </a:lnTo>
                    <a:lnTo>
                      <a:pt x="5146" y="4199"/>
                    </a:lnTo>
                    <a:lnTo>
                      <a:pt x="5199" y="4129"/>
                    </a:lnTo>
                    <a:lnTo>
                      <a:pt x="5250" y="4057"/>
                    </a:lnTo>
                    <a:lnTo>
                      <a:pt x="5298" y="3983"/>
                    </a:lnTo>
                    <a:lnTo>
                      <a:pt x="5345" y="3908"/>
                    </a:lnTo>
                    <a:lnTo>
                      <a:pt x="5389" y="3831"/>
                    </a:lnTo>
                    <a:lnTo>
                      <a:pt x="5431" y="3753"/>
                    </a:lnTo>
                    <a:lnTo>
                      <a:pt x="5471" y="3673"/>
                    </a:lnTo>
                    <a:lnTo>
                      <a:pt x="5508" y="3592"/>
                    </a:lnTo>
                    <a:lnTo>
                      <a:pt x="5542" y="3510"/>
                    </a:lnTo>
                    <a:lnTo>
                      <a:pt x="5575" y="3427"/>
                    </a:lnTo>
                    <a:lnTo>
                      <a:pt x="5604" y="3342"/>
                    </a:lnTo>
                    <a:lnTo>
                      <a:pt x="5631" y="3256"/>
                    </a:lnTo>
                    <a:lnTo>
                      <a:pt x="5656" y="3169"/>
                    </a:lnTo>
                    <a:lnTo>
                      <a:pt x="5678" y="3080"/>
                    </a:lnTo>
                    <a:lnTo>
                      <a:pt x="5697" y="2992"/>
                    </a:lnTo>
                    <a:lnTo>
                      <a:pt x="5713" y="2901"/>
                    </a:lnTo>
                    <a:lnTo>
                      <a:pt x="5726" y="2810"/>
                    </a:lnTo>
                    <a:lnTo>
                      <a:pt x="5737" y="2717"/>
                    </a:lnTo>
                    <a:lnTo>
                      <a:pt x="5745" y="2625"/>
                    </a:lnTo>
                    <a:lnTo>
                      <a:pt x="5749" y="2531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e15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3441600" y="2027160"/>
              <a:ext cx="2265480" cy="1941480"/>
            </a:xfrm>
            <a:custGeom>
              <a:avLst/>
              <a:gdLst/>
              <a:ahLst/>
              <a:rect l="l" t="t" r="r" b="b"/>
              <a:pathLst>
                <a:path w="5708" h="4893">
                  <a:moveTo>
                    <a:pt x="5708" y="2447"/>
                  </a:moveTo>
                  <a:lnTo>
                    <a:pt x="5707" y="2351"/>
                  </a:lnTo>
                  <a:lnTo>
                    <a:pt x="5702" y="2256"/>
                  </a:lnTo>
                  <a:lnTo>
                    <a:pt x="5694" y="2162"/>
                  </a:lnTo>
                  <a:lnTo>
                    <a:pt x="5684" y="2069"/>
                  </a:lnTo>
                  <a:lnTo>
                    <a:pt x="5670" y="1977"/>
                  </a:lnTo>
                  <a:lnTo>
                    <a:pt x="5653" y="1885"/>
                  </a:lnTo>
                  <a:lnTo>
                    <a:pt x="5634" y="1795"/>
                  </a:lnTo>
                  <a:lnTo>
                    <a:pt x="5611" y="1706"/>
                  </a:lnTo>
                  <a:lnTo>
                    <a:pt x="5586" y="1618"/>
                  </a:lnTo>
                  <a:lnTo>
                    <a:pt x="5558" y="1532"/>
                  </a:lnTo>
                  <a:lnTo>
                    <a:pt x="5528" y="1446"/>
                  </a:lnTo>
                  <a:lnTo>
                    <a:pt x="5494" y="1361"/>
                  </a:lnTo>
                  <a:lnTo>
                    <a:pt x="5459" y="1278"/>
                  </a:lnTo>
                  <a:lnTo>
                    <a:pt x="5421" y="1197"/>
                  </a:lnTo>
                  <a:lnTo>
                    <a:pt x="5380" y="1117"/>
                  </a:lnTo>
                  <a:lnTo>
                    <a:pt x="5337" y="1038"/>
                  </a:lnTo>
                  <a:lnTo>
                    <a:pt x="5291" y="962"/>
                  </a:lnTo>
                  <a:lnTo>
                    <a:pt x="5244" y="886"/>
                  </a:lnTo>
                  <a:lnTo>
                    <a:pt x="5193" y="812"/>
                  </a:lnTo>
                  <a:lnTo>
                    <a:pt x="5141" y="739"/>
                  </a:lnTo>
                  <a:lnTo>
                    <a:pt x="5087" y="669"/>
                  </a:lnTo>
                  <a:lnTo>
                    <a:pt x="5030" y="600"/>
                  </a:lnTo>
                  <a:lnTo>
                    <a:pt x="4971" y="533"/>
                  </a:lnTo>
                  <a:lnTo>
                    <a:pt x="4911" y="468"/>
                  </a:lnTo>
                  <a:lnTo>
                    <a:pt x="4847" y="405"/>
                  </a:lnTo>
                  <a:lnTo>
                    <a:pt x="4783" y="344"/>
                  </a:lnTo>
                  <a:lnTo>
                    <a:pt x="4716" y="285"/>
                  </a:lnTo>
                  <a:lnTo>
                    <a:pt x="4648" y="227"/>
                  </a:lnTo>
                  <a:lnTo>
                    <a:pt x="4578" y="172"/>
                  </a:lnTo>
                  <a:lnTo>
                    <a:pt x="4506" y="120"/>
                  </a:lnTo>
                  <a:lnTo>
                    <a:pt x="4432" y="70"/>
                  </a:lnTo>
                  <a:lnTo>
                    <a:pt x="4358" y="21"/>
                  </a:lnTo>
                  <a:lnTo>
                    <a:pt x="4343" y="18"/>
                  </a:lnTo>
                  <a:lnTo>
                    <a:pt x="4329" y="16"/>
                  </a:lnTo>
                  <a:lnTo>
                    <a:pt x="4313" y="13"/>
                  </a:lnTo>
                  <a:lnTo>
                    <a:pt x="4299" y="10"/>
                  </a:lnTo>
                  <a:lnTo>
                    <a:pt x="4284" y="8"/>
                  </a:lnTo>
                  <a:lnTo>
                    <a:pt x="4270" y="5"/>
                  </a:lnTo>
                  <a:lnTo>
                    <a:pt x="4255" y="3"/>
                  </a:lnTo>
                  <a:lnTo>
                    <a:pt x="4241" y="0"/>
                  </a:lnTo>
                  <a:lnTo>
                    <a:pt x="4320" y="47"/>
                  </a:lnTo>
                  <a:lnTo>
                    <a:pt x="4397" y="96"/>
                  </a:lnTo>
                  <a:lnTo>
                    <a:pt x="4472" y="147"/>
                  </a:lnTo>
                  <a:lnTo>
                    <a:pt x="4547" y="201"/>
                  </a:lnTo>
                  <a:lnTo>
                    <a:pt x="4618" y="258"/>
                  </a:lnTo>
                  <a:lnTo>
                    <a:pt x="4688" y="316"/>
                  </a:lnTo>
                  <a:lnTo>
                    <a:pt x="4756" y="376"/>
                  </a:lnTo>
                  <a:lnTo>
                    <a:pt x="4822" y="439"/>
                  </a:lnTo>
                  <a:lnTo>
                    <a:pt x="4887" y="504"/>
                  </a:lnTo>
                  <a:lnTo>
                    <a:pt x="4949" y="571"/>
                  </a:lnTo>
                  <a:lnTo>
                    <a:pt x="5008" y="639"/>
                  </a:lnTo>
                  <a:lnTo>
                    <a:pt x="5067" y="710"/>
                  </a:lnTo>
                  <a:lnTo>
                    <a:pt x="5122" y="782"/>
                  </a:lnTo>
                  <a:lnTo>
                    <a:pt x="5175" y="857"/>
                  </a:lnTo>
                  <a:lnTo>
                    <a:pt x="5224" y="934"/>
                  </a:lnTo>
                  <a:lnTo>
                    <a:pt x="5273" y="1011"/>
                  </a:lnTo>
                  <a:lnTo>
                    <a:pt x="5318" y="1091"/>
                  </a:lnTo>
                  <a:lnTo>
                    <a:pt x="5362" y="1172"/>
                  </a:lnTo>
                  <a:lnTo>
                    <a:pt x="5403" y="1254"/>
                  </a:lnTo>
                  <a:lnTo>
                    <a:pt x="5440" y="1339"/>
                  </a:lnTo>
                  <a:lnTo>
                    <a:pt x="5475" y="1425"/>
                  </a:lnTo>
                  <a:lnTo>
                    <a:pt x="5507" y="1511"/>
                  </a:lnTo>
                  <a:lnTo>
                    <a:pt x="5537" y="1600"/>
                  </a:lnTo>
                  <a:lnTo>
                    <a:pt x="5564" y="1690"/>
                  </a:lnTo>
                  <a:lnTo>
                    <a:pt x="5587" y="1780"/>
                  </a:lnTo>
                  <a:lnTo>
                    <a:pt x="5608" y="1873"/>
                  </a:lnTo>
                  <a:lnTo>
                    <a:pt x="5626" y="1966"/>
                  </a:lnTo>
                  <a:lnTo>
                    <a:pt x="5640" y="2060"/>
                  </a:lnTo>
                  <a:lnTo>
                    <a:pt x="5652" y="2155"/>
                  </a:lnTo>
                  <a:lnTo>
                    <a:pt x="5660" y="2251"/>
                  </a:lnTo>
                  <a:lnTo>
                    <a:pt x="5665" y="2348"/>
                  </a:lnTo>
                  <a:lnTo>
                    <a:pt x="5666" y="2447"/>
                  </a:lnTo>
                  <a:lnTo>
                    <a:pt x="5665" y="2544"/>
                  </a:lnTo>
                  <a:lnTo>
                    <a:pt x="5660" y="2641"/>
                  </a:lnTo>
                  <a:lnTo>
                    <a:pt x="5652" y="2737"/>
                  </a:lnTo>
                  <a:lnTo>
                    <a:pt x="5640" y="2832"/>
                  </a:lnTo>
                  <a:lnTo>
                    <a:pt x="5626" y="2927"/>
                  </a:lnTo>
                  <a:lnTo>
                    <a:pt x="5608" y="3020"/>
                  </a:lnTo>
                  <a:lnTo>
                    <a:pt x="5587" y="3112"/>
                  </a:lnTo>
                  <a:lnTo>
                    <a:pt x="5564" y="3203"/>
                  </a:lnTo>
                  <a:lnTo>
                    <a:pt x="5537" y="3292"/>
                  </a:lnTo>
                  <a:lnTo>
                    <a:pt x="5507" y="3381"/>
                  </a:lnTo>
                  <a:lnTo>
                    <a:pt x="5475" y="3468"/>
                  </a:lnTo>
                  <a:lnTo>
                    <a:pt x="5440" y="3554"/>
                  </a:lnTo>
                  <a:lnTo>
                    <a:pt x="5403" y="3638"/>
                  </a:lnTo>
                  <a:lnTo>
                    <a:pt x="5362" y="3721"/>
                  </a:lnTo>
                  <a:lnTo>
                    <a:pt x="5318" y="3802"/>
                  </a:lnTo>
                  <a:lnTo>
                    <a:pt x="5273" y="3882"/>
                  </a:lnTo>
                  <a:lnTo>
                    <a:pt x="5225" y="3960"/>
                  </a:lnTo>
                  <a:lnTo>
                    <a:pt x="5175" y="4035"/>
                  </a:lnTo>
                  <a:lnTo>
                    <a:pt x="5122" y="4110"/>
                  </a:lnTo>
                  <a:lnTo>
                    <a:pt x="5067" y="4183"/>
                  </a:lnTo>
                  <a:lnTo>
                    <a:pt x="5008" y="4254"/>
                  </a:lnTo>
                  <a:lnTo>
                    <a:pt x="4949" y="4323"/>
                  </a:lnTo>
                  <a:lnTo>
                    <a:pt x="4887" y="4390"/>
                  </a:lnTo>
                  <a:lnTo>
                    <a:pt x="4822" y="4454"/>
                  </a:lnTo>
                  <a:lnTo>
                    <a:pt x="4756" y="4517"/>
                  </a:lnTo>
                  <a:lnTo>
                    <a:pt x="4688" y="4578"/>
                  </a:lnTo>
                  <a:lnTo>
                    <a:pt x="4618" y="4636"/>
                  </a:lnTo>
                  <a:lnTo>
                    <a:pt x="4547" y="4692"/>
                  </a:lnTo>
                  <a:lnTo>
                    <a:pt x="4472" y="4746"/>
                  </a:lnTo>
                  <a:lnTo>
                    <a:pt x="4397" y="4797"/>
                  </a:lnTo>
                  <a:lnTo>
                    <a:pt x="4320" y="4846"/>
                  </a:lnTo>
                  <a:lnTo>
                    <a:pt x="4241" y="4893"/>
                  </a:lnTo>
                  <a:lnTo>
                    <a:pt x="4255" y="4891"/>
                  </a:lnTo>
                  <a:lnTo>
                    <a:pt x="4270" y="4887"/>
                  </a:lnTo>
                  <a:lnTo>
                    <a:pt x="4284" y="4885"/>
                  </a:lnTo>
                  <a:lnTo>
                    <a:pt x="4299" y="4882"/>
                  </a:lnTo>
                  <a:lnTo>
                    <a:pt x="4313" y="4880"/>
                  </a:lnTo>
                  <a:lnTo>
                    <a:pt x="4329" y="4878"/>
                  </a:lnTo>
                  <a:lnTo>
                    <a:pt x="4343" y="4875"/>
                  </a:lnTo>
                  <a:lnTo>
                    <a:pt x="4358" y="4872"/>
                  </a:lnTo>
                  <a:lnTo>
                    <a:pt x="4432" y="4824"/>
                  </a:lnTo>
                  <a:lnTo>
                    <a:pt x="4506" y="4773"/>
                  </a:lnTo>
                  <a:lnTo>
                    <a:pt x="4578" y="4720"/>
                  </a:lnTo>
                  <a:lnTo>
                    <a:pt x="4648" y="4665"/>
                  </a:lnTo>
                  <a:lnTo>
                    <a:pt x="4716" y="4608"/>
                  </a:lnTo>
                  <a:lnTo>
                    <a:pt x="4783" y="4549"/>
                  </a:lnTo>
                  <a:lnTo>
                    <a:pt x="4847" y="4488"/>
                  </a:lnTo>
                  <a:lnTo>
                    <a:pt x="4911" y="4424"/>
                  </a:lnTo>
                  <a:lnTo>
                    <a:pt x="4971" y="4359"/>
                  </a:lnTo>
                  <a:lnTo>
                    <a:pt x="5030" y="4292"/>
                  </a:lnTo>
                  <a:lnTo>
                    <a:pt x="5087" y="4224"/>
                  </a:lnTo>
                  <a:lnTo>
                    <a:pt x="5141" y="4153"/>
                  </a:lnTo>
                  <a:lnTo>
                    <a:pt x="5193" y="4081"/>
                  </a:lnTo>
                  <a:lnTo>
                    <a:pt x="5244" y="4007"/>
                  </a:lnTo>
                  <a:lnTo>
                    <a:pt x="5291" y="3932"/>
                  </a:lnTo>
                  <a:lnTo>
                    <a:pt x="5337" y="3855"/>
                  </a:lnTo>
                  <a:lnTo>
                    <a:pt x="5380" y="3776"/>
                  </a:lnTo>
                  <a:lnTo>
                    <a:pt x="5421" y="3696"/>
                  </a:lnTo>
                  <a:lnTo>
                    <a:pt x="5459" y="3614"/>
                  </a:lnTo>
                  <a:lnTo>
                    <a:pt x="5494" y="3531"/>
                  </a:lnTo>
                  <a:lnTo>
                    <a:pt x="5528" y="3447"/>
                  </a:lnTo>
                  <a:lnTo>
                    <a:pt x="5558" y="3361"/>
                  </a:lnTo>
                  <a:lnTo>
                    <a:pt x="5586" y="3275"/>
                  </a:lnTo>
                  <a:lnTo>
                    <a:pt x="5611" y="3186"/>
                  </a:lnTo>
                  <a:lnTo>
                    <a:pt x="5634" y="3098"/>
                  </a:lnTo>
                  <a:lnTo>
                    <a:pt x="5653" y="3007"/>
                  </a:lnTo>
                  <a:lnTo>
                    <a:pt x="5670" y="2916"/>
                  </a:lnTo>
                  <a:lnTo>
                    <a:pt x="5684" y="2824"/>
                  </a:lnTo>
                  <a:lnTo>
                    <a:pt x="5694" y="2731"/>
                  </a:lnTo>
                  <a:lnTo>
                    <a:pt x="5702" y="2637"/>
                  </a:lnTo>
                  <a:lnTo>
                    <a:pt x="5707" y="2542"/>
                  </a:lnTo>
                  <a:lnTo>
                    <a:pt x="5708" y="2447"/>
                  </a:lnTo>
                  <a:close/>
                  <a:moveTo>
                    <a:pt x="1351" y="21"/>
                  </a:moveTo>
                  <a:lnTo>
                    <a:pt x="1276" y="70"/>
                  </a:lnTo>
                  <a:lnTo>
                    <a:pt x="1203" y="120"/>
                  </a:lnTo>
                  <a:lnTo>
                    <a:pt x="1130" y="172"/>
                  </a:lnTo>
                  <a:lnTo>
                    <a:pt x="1060" y="227"/>
                  </a:lnTo>
                  <a:lnTo>
                    <a:pt x="992" y="285"/>
                  </a:lnTo>
                  <a:lnTo>
                    <a:pt x="925" y="344"/>
                  </a:lnTo>
                  <a:lnTo>
                    <a:pt x="860" y="405"/>
                  </a:lnTo>
                  <a:lnTo>
                    <a:pt x="797" y="468"/>
                  </a:lnTo>
                  <a:lnTo>
                    <a:pt x="737" y="533"/>
                  </a:lnTo>
                  <a:lnTo>
                    <a:pt x="679" y="600"/>
                  </a:lnTo>
                  <a:lnTo>
                    <a:pt x="621" y="669"/>
                  </a:lnTo>
                  <a:lnTo>
                    <a:pt x="567" y="739"/>
                  </a:lnTo>
                  <a:lnTo>
                    <a:pt x="514" y="812"/>
                  </a:lnTo>
                  <a:lnTo>
                    <a:pt x="465" y="886"/>
                  </a:lnTo>
                  <a:lnTo>
                    <a:pt x="417" y="962"/>
                  </a:lnTo>
                  <a:lnTo>
                    <a:pt x="372" y="1038"/>
                  </a:lnTo>
                  <a:lnTo>
                    <a:pt x="328" y="1117"/>
                  </a:lnTo>
                  <a:lnTo>
                    <a:pt x="287" y="1197"/>
                  </a:lnTo>
                  <a:lnTo>
                    <a:pt x="250" y="1278"/>
                  </a:lnTo>
                  <a:lnTo>
                    <a:pt x="214" y="1361"/>
                  </a:lnTo>
                  <a:lnTo>
                    <a:pt x="180" y="1446"/>
                  </a:lnTo>
                  <a:lnTo>
                    <a:pt x="150" y="1532"/>
                  </a:lnTo>
                  <a:lnTo>
                    <a:pt x="122" y="1618"/>
                  </a:lnTo>
                  <a:lnTo>
                    <a:pt x="97" y="1706"/>
                  </a:lnTo>
                  <a:lnTo>
                    <a:pt x="75" y="1795"/>
                  </a:lnTo>
                  <a:lnTo>
                    <a:pt x="55" y="1885"/>
                  </a:lnTo>
                  <a:lnTo>
                    <a:pt x="39" y="1977"/>
                  </a:lnTo>
                  <a:lnTo>
                    <a:pt x="25" y="2069"/>
                  </a:lnTo>
                  <a:lnTo>
                    <a:pt x="14" y="2162"/>
                  </a:lnTo>
                  <a:lnTo>
                    <a:pt x="6" y="2256"/>
                  </a:lnTo>
                  <a:lnTo>
                    <a:pt x="1" y="2351"/>
                  </a:lnTo>
                  <a:lnTo>
                    <a:pt x="0" y="2447"/>
                  </a:lnTo>
                  <a:lnTo>
                    <a:pt x="1" y="2542"/>
                  </a:lnTo>
                  <a:lnTo>
                    <a:pt x="6" y="2637"/>
                  </a:lnTo>
                  <a:lnTo>
                    <a:pt x="14" y="2731"/>
                  </a:lnTo>
                  <a:lnTo>
                    <a:pt x="25" y="2824"/>
                  </a:lnTo>
                  <a:lnTo>
                    <a:pt x="39" y="2916"/>
                  </a:lnTo>
                  <a:lnTo>
                    <a:pt x="55" y="3007"/>
                  </a:lnTo>
                  <a:lnTo>
                    <a:pt x="75" y="3098"/>
                  </a:lnTo>
                  <a:lnTo>
                    <a:pt x="97" y="3186"/>
                  </a:lnTo>
                  <a:lnTo>
                    <a:pt x="122" y="3275"/>
                  </a:lnTo>
                  <a:lnTo>
                    <a:pt x="150" y="3361"/>
                  </a:lnTo>
                  <a:lnTo>
                    <a:pt x="180" y="3447"/>
                  </a:lnTo>
                  <a:lnTo>
                    <a:pt x="214" y="3531"/>
                  </a:lnTo>
                  <a:lnTo>
                    <a:pt x="250" y="3614"/>
                  </a:lnTo>
                  <a:lnTo>
                    <a:pt x="287" y="3696"/>
                  </a:lnTo>
                  <a:lnTo>
                    <a:pt x="328" y="3776"/>
                  </a:lnTo>
                  <a:lnTo>
                    <a:pt x="372" y="3855"/>
                  </a:lnTo>
                  <a:lnTo>
                    <a:pt x="417" y="3932"/>
                  </a:lnTo>
                  <a:lnTo>
                    <a:pt x="465" y="4007"/>
                  </a:lnTo>
                  <a:lnTo>
                    <a:pt x="514" y="4081"/>
                  </a:lnTo>
                  <a:lnTo>
                    <a:pt x="567" y="4153"/>
                  </a:lnTo>
                  <a:lnTo>
                    <a:pt x="621" y="4224"/>
                  </a:lnTo>
                  <a:lnTo>
                    <a:pt x="679" y="4292"/>
                  </a:lnTo>
                  <a:lnTo>
                    <a:pt x="737" y="4359"/>
                  </a:lnTo>
                  <a:lnTo>
                    <a:pt x="797" y="4424"/>
                  </a:lnTo>
                  <a:lnTo>
                    <a:pt x="860" y="4488"/>
                  </a:lnTo>
                  <a:lnTo>
                    <a:pt x="925" y="4549"/>
                  </a:lnTo>
                  <a:lnTo>
                    <a:pt x="992" y="4608"/>
                  </a:lnTo>
                  <a:lnTo>
                    <a:pt x="1060" y="4665"/>
                  </a:lnTo>
                  <a:lnTo>
                    <a:pt x="1130" y="4720"/>
                  </a:lnTo>
                  <a:lnTo>
                    <a:pt x="1203" y="4773"/>
                  </a:lnTo>
                  <a:lnTo>
                    <a:pt x="1276" y="4824"/>
                  </a:lnTo>
                  <a:lnTo>
                    <a:pt x="1351" y="4872"/>
                  </a:lnTo>
                  <a:lnTo>
                    <a:pt x="1366" y="4875"/>
                  </a:lnTo>
                  <a:lnTo>
                    <a:pt x="1380" y="4878"/>
                  </a:lnTo>
                  <a:lnTo>
                    <a:pt x="1395" y="4880"/>
                  </a:lnTo>
                  <a:lnTo>
                    <a:pt x="1409" y="4882"/>
                  </a:lnTo>
                  <a:lnTo>
                    <a:pt x="1424" y="4885"/>
                  </a:lnTo>
                  <a:lnTo>
                    <a:pt x="1438" y="4887"/>
                  </a:lnTo>
                  <a:lnTo>
                    <a:pt x="1453" y="4891"/>
                  </a:lnTo>
                  <a:lnTo>
                    <a:pt x="1467" y="4893"/>
                  </a:lnTo>
                  <a:lnTo>
                    <a:pt x="1388" y="4846"/>
                  </a:lnTo>
                  <a:lnTo>
                    <a:pt x="1312" y="4797"/>
                  </a:lnTo>
                  <a:lnTo>
                    <a:pt x="1236" y="4746"/>
                  </a:lnTo>
                  <a:lnTo>
                    <a:pt x="1162" y="4692"/>
                  </a:lnTo>
                  <a:lnTo>
                    <a:pt x="1090" y="4636"/>
                  </a:lnTo>
                  <a:lnTo>
                    <a:pt x="1020" y="4578"/>
                  </a:lnTo>
                  <a:lnTo>
                    <a:pt x="952" y="4517"/>
                  </a:lnTo>
                  <a:lnTo>
                    <a:pt x="886" y="4454"/>
                  </a:lnTo>
                  <a:lnTo>
                    <a:pt x="821" y="4390"/>
                  </a:lnTo>
                  <a:lnTo>
                    <a:pt x="760" y="4323"/>
                  </a:lnTo>
                  <a:lnTo>
                    <a:pt x="700" y="4254"/>
                  </a:lnTo>
                  <a:lnTo>
                    <a:pt x="642" y="4183"/>
                  </a:lnTo>
                  <a:lnTo>
                    <a:pt x="587" y="4110"/>
                  </a:lnTo>
                  <a:lnTo>
                    <a:pt x="534" y="4035"/>
                  </a:lnTo>
                  <a:lnTo>
                    <a:pt x="483" y="3960"/>
                  </a:lnTo>
                  <a:lnTo>
                    <a:pt x="435" y="3882"/>
                  </a:lnTo>
                  <a:lnTo>
                    <a:pt x="390" y="3802"/>
                  </a:lnTo>
                  <a:lnTo>
                    <a:pt x="347" y="3721"/>
                  </a:lnTo>
                  <a:lnTo>
                    <a:pt x="306" y="3638"/>
                  </a:lnTo>
                  <a:lnTo>
                    <a:pt x="268" y="3554"/>
                  </a:lnTo>
                  <a:lnTo>
                    <a:pt x="233" y="3468"/>
                  </a:lnTo>
                  <a:lnTo>
                    <a:pt x="201" y="3381"/>
                  </a:lnTo>
                  <a:lnTo>
                    <a:pt x="172" y="3292"/>
                  </a:lnTo>
                  <a:lnTo>
                    <a:pt x="145" y="3203"/>
                  </a:lnTo>
                  <a:lnTo>
                    <a:pt x="121" y="3112"/>
                  </a:lnTo>
                  <a:lnTo>
                    <a:pt x="100" y="3020"/>
                  </a:lnTo>
                  <a:lnTo>
                    <a:pt x="82" y="2927"/>
                  </a:lnTo>
                  <a:lnTo>
                    <a:pt x="68" y="2832"/>
                  </a:lnTo>
                  <a:lnTo>
                    <a:pt x="56" y="2737"/>
                  </a:lnTo>
                  <a:lnTo>
                    <a:pt x="49" y="2641"/>
                  </a:lnTo>
                  <a:lnTo>
                    <a:pt x="43" y="2544"/>
                  </a:lnTo>
                  <a:lnTo>
                    <a:pt x="41" y="2447"/>
                  </a:lnTo>
                  <a:lnTo>
                    <a:pt x="43" y="2348"/>
                  </a:lnTo>
                  <a:lnTo>
                    <a:pt x="49" y="2251"/>
                  </a:lnTo>
                  <a:lnTo>
                    <a:pt x="56" y="2155"/>
                  </a:lnTo>
                  <a:lnTo>
                    <a:pt x="68" y="2060"/>
                  </a:lnTo>
                  <a:lnTo>
                    <a:pt x="82" y="1966"/>
                  </a:lnTo>
                  <a:lnTo>
                    <a:pt x="100" y="1873"/>
                  </a:lnTo>
                  <a:lnTo>
                    <a:pt x="121" y="1780"/>
                  </a:lnTo>
                  <a:lnTo>
                    <a:pt x="145" y="1690"/>
                  </a:lnTo>
                  <a:lnTo>
                    <a:pt x="172" y="1600"/>
                  </a:lnTo>
                  <a:lnTo>
                    <a:pt x="201" y="1511"/>
                  </a:lnTo>
                  <a:lnTo>
                    <a:pt x="233" y="1425"/>
                  </a:lnTo>
                  <a:lnTo>
                    <a:pt x="268" y="1339"/>
                  </a:lnTo>
                  <a:lnTo>
                    <a:pt x="306" y="1254"/>
                  </a:lnTo>
                  <a:lnTo>
                    <a:pt x="347" y="1172"/>
                  </a:lnTo>
                  <a:lnTo>
                    <a:pt x="390" y="1091"/>
                  </a:lnTo>
                  <a:lnTo>
                    <a:pt x="435" y="1011"/>
                  </a:lnTo>
                  <a:lnTo>
                    <a:pt x="483" y="934"/>
                  </a:lnTo>
                  <a:lnTo>
                    <a:pt x="534" y="857"/>
                  </a:lnTo>
                  <a:lnTo>
                    <a:pt x="587" y="782"/>
                  </a:lnTo>
                  <a:lnTo>
                    <a:pt x="642" y="710"/>
                  </a:lnTo>
                  <a:lnTo>
                    <a:pt x="700" y="639"/>
                  </a:lnTo>
                  <a:lnTo>
                    <a:pt x="760" y="571"/>
                  </a:lnTo>
                  <a:lnTo>
                    <a:pt x="821" y="504"/>
                  </a:lnTo>
                  <a:lnTo>
                    <a:pt x="886" y="439"/>
                  </a:lnTo>
                  <a:lnTo>
                    <a:pt x="952" y="376"/>
                  </a:lnTo>
                  <a:lnTo>
                    <a:pt x="1020" y="316"/>
                  </a:lnTo>
                  <a:lnTo>
                    <a:pt x="1090" y="258"/>
                  </a:lnTo>
                  <a:lnTo>
                    <a:pt x="1162" y="201"/>
                  </a:lnTo>
                  <a:lnTo>
                    <a:pt x="1236" y="147"/>
                  </a:lnTo>
                  <a:lnTo>
                    <a:pt x="1312" y="96"/>
                  </a:lnTo>
                  <a:lnTo>
                    <a:pt x="1388" y="47"/>
                  </a:lnTo>
                  <a:lnTo>
                    <a:pt x="1467" y="0"/>
                  </a:lnTo>
                  <a:lnTo>
                    <a:pt x="1453" y="3"/>
                  </a:lnTo>
                  <a:lnTo>
                    <a:pt x="1438" y="5"/>
                  </a:lnTo>
                  <a:lnTo>
                    <a:pt x="1424" y="8"/>
                  </a:lnTo>
                  <a:lnTo>
                    <a:pt x="1409" y="10"/>
                  </a:lnTo>
                  <a:lnTo>
                    <a:pt x="1395" y="13"/>
                  </a:lnTo>
                  <a:lnTo>
                    <a:pt x="1380" y="16"/>
                  </a:lnTo>
                  <a:lnTo>
                    <a:pt x="1366" y="18"/>
                  </a:lnTo>
                  <a:lnTo>
                    <a:pt x="1351" y="21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49520" y="2022480"/>
              <a:ext cx="2249640" cy="1949400"/>
            </a:xfrm>
            <a:custGeom>
              <a:avLst/>
              <a:gdLst/>
              <a:ahLst/>
              <a:rect l="l" t="t" r="r" b="b"/>
              <a:pathLst>
                <a:path w="5668" h="4913">
                  <a:moveTo>
                    <a:pt x="5668" y="2457"/>
                  </a:moveTo>
                  <a:lnTo>
                    <a:pt x="5666" y="2359"/>
                  </a:lnTo>
                  <a:lnTo>
                    <a:pt x="5661" y="2263"/>
                  </a:lnTo>
                  <a:lnTo>
                    <a:pt x="5653" y="2168"/>
                  </a:lnTo>
                  <a:lnTo>
                    <a:pt x="5642" y="2074"/>
                  </a:lnTo>
                  <a:lnTo>
                    <a:pt x="5628" y="1981"/>
                  </a:lnTo>
                  <a:lnTo>
                    <a:pt x="5611" y="1890"/>
                  </a:lnTo>
                  <a:lnTo>
                    <a:pt x="5591" y="1798"/>
                  </a:lnTo>
                  <a:lnTo>
                    <a:pt x="5567" y="1708"/>
                  </a:lnTo>
                  <a:lnTo>
                    <a:pt x="5541" y="1620"/>
                  </a:lnTo>
                  <a:lnTo>
                    <a:pt x="5513" y="1532"/>
                  </a:lnTo>
                  <a:lnTo>
                    <a:pt x="5482" y="1446"/>
                  </a:lnTo>
                  <a:lnTo>
                    <a:pt x="5447" y="1360"/>
                  </a:lnTo>
                  <a:lnTo>
                    <a:pt x="5411" y="1277"/>
                  </a:lnTo>
                  <a:lnTo>
                    <a:pt x="5372" y="1195"/>
                  </a:lnTo>
                  <a:lnTo>
                    <a:pt x="5330" y="1114"/>
                  </a:lnTo>
                  <a:lnTo>
                    <a:pt x="5285" y="1035"/>
                  </a:lnTo>
                  <a:lnTo>
                    <a:pt x="5239" y="958"/>
                  </a:lnTo>
                  <a:lnTo>
                    <a:pt x="5189" y="882"/>
                  </a:lnTo>
                  <a:lnTo>
                    <a:pt x="5138" y="808"/>
                  </a:lnTo>
                  <a:lnTo>
                    <a:pt x="5084" y="735"/>
                  </a:lnTo>
                  <a:lnTo>
                    <a:pt x="5028" y="665"/>
                  </a:lnTo>
                  <a:lnTo>
                    <a:pt x="4970" y="596"/>
                  </a:lnTo>
                  <a:lnTo>
                    <a:pt x="4909" y="529"/>
                  </a:lnTo>
                  <a:lnTo>
                    <a:pt x="4848" y="464"/>
                  </a:lnTo>
                  <a:lnTo>
                    <a:pt x="4783" y="401"/>
                  </a:lnTo>
                  <a:lnTo>
                    <a:pt x="4717" y="340"/>
                  </a:lnTo>
                  <a:lnTo>
                    <a:pt x="4649" y="282"/>
                  </a:lnTo>
                  <a:lnTo>
                    <a:pt x="4579" y="224"/>
                  </a:lnTo>
                  <a:lnTo>
                    <a:pt x="4506" y="170"/>
                  </a:lnTo>
                  <a:lnTo>
                    <a:pt x="4433" y="118"/>
                  </a:lnTo>
                  <a:lnTo>
                    <a:pt x="4357" y="68"/>
                  </a:lnTo>
                  <a:lnTo>
                    <a:pt x="4280" y="20"/>
                  </a:lnTo>
                  <a:lnTo>
                    <a:pt x="4265" y="18"/>
                  </a:lnTo>
                  <a:lnTo>
                    <a:pt x="4250" y="16"/>
                  </a:lnTo>
                  <a:lnTo>
                    <a:pt x="4235" y="13"/>
                  </a:lnTo>
                  <a:lnTo>
                    <a:pt x="4220" y="10"/>
                  </a:lnTo>
                  <a:lnTo>
                    <a:pt x="4205" y="7"/>
                  </a:lnTo>
                  <a:lnTo>
                    <a:pt x="4190" y="5"/>
                  </a:lnTo>
                  <a:lnTo>
                    <a:pt x="4175" y="3"/>
                  </a:lnTo>
                  <a:lnTo>
                    <a:pt x="4159" y="0"/>
                  </a:lnTo>
                  <a:lnTo>
                    <a:pt x="4241" y="46"/>
                  </a:lnTo>
                  <a:lnTo>
                    <a:pt x="4320" y="94"/>
                  </a:lnTo>
                  <a:lnTo>
                    <a:pt x="4398" y="144"/>
                  </a:lnTo>
                  <a:lnTo>
                    <a:pt x="4474" y="197"/>
                  </a:lnTo>
                  <a:lnTo>
                    <a:pt x="4547" y="253"/>
                  </a:lnTo>
                  <a:lnTo>
                    <a:pt x="4620" y="311"/>
                  </a:lnTo>
                  <a:lnTo>
                    <a:pt x="4689" y="371"/>
                  </a:lnTo>
                  <a:lnTo>
                    <a:pt x="4757" y="434"/>
                  </a:lnTo>
                  <a:lnTo>
                    <a:pt x="4823" y="499"/>
                  </a:lnTo>
                  <a:lnTo>
                    <a:pt x="4887" y="566"/>
                  </a:lnTo>
                  <a:lnTo>
                    <a:pt x="4948" y="634"/>
                  </a:lnTo>
                  <a:lnTo>
                    <a:pt x="5008" y="705"/>
                  </a:lnTo>
                  <a:lnTo>
                    <a:pt x="5064" y="777"/>
                  </a:lnTo>
                  <a:lnTo>
                    <a:pt x="5119" y="852"/>
                  </a:lnTo>
                  <a:lnTo>
                    <a:pt x="5171" y="928"/>
                  </a:lnTo>
                  <a:lnTo>
                    <a:pt x="5221" y="1007"/>
                  </a:lnTo>
                  <a:lnTo>
                    <a:pt x="5267" y="1087"/>
                  </a:lnTo>
                  <a:lnTo>
                    <a:pt x="5311" y="1169"/>
                  </a:lnTo>
                  <a:lnTo>
                    <a:pt x="5353" y="1252"/>
                  </a:lnTo>
                  <a:lnTo>
                    <a:pt x="5392" y="1337"/>
                  </a:lnTo>
                  <a:lnTo>
                    <a:pt x="5428" y="1423"/>
                  </a:lnTo>
                  <a:lnTo>
                    <a:pt x="5462" y="1512"/>
                  </a:lnTo>
                  <a:lnTo>
                    <a:pt x="5492" y="1600"/>
                  </a:lnTo>
                  <a:lnTo>
                    <a:pt x="5520" y="1691"/>
                  </a:lnTo>
                  <a:lnTo>
                    <a:pt x="5544" y="1783"/>
                  </a:lnTo>
                  <a:lnTo>
                    <a:pt x="5565" y="1876"/>
                  </a:lnTo>
                  <a:lnTo>
                    <a:pt x="5584" y="1971"/>
                  </a:lnTo>
                  <a:lnTo>
                    <a:pt x="5599" y="2066"/>
                  </a:lnTo>
                  <a:lnTo>
                    <a:pt x="5611" y="2162"/>
                  </a:lnTo>
                  <a:lnTo>
                    <a:pt x="5619" y="2259"/>
                  </a:lnTo>
                  <a:lnTo>
                    <a:pt x="5625" y="2357"/>
                  </a:lnTo>
                  <a:lnTo>
                    <a:pt x="5626" y="2457"/>
                  </a:lnTo>
                  <a:lnTo>
                    <a:pt x="5625" y="2556"/>
                  </a:lnTo>
                  <a:lnTo>
                    <a:pt x="5619" y="2653"/>
                  </a:lnTo>
                  <a:lnTo>
                    <a:pt x="5611" y="2752"/>
                  </a:lnTo>
                  <a:lnTo>
                    <a:pt x="5599" y="2848"/>
                  </a:lnTo>
                  <a:lnTo>
                    <a:pt x="5584" y="2943"/>
                  </a:lnTo>
                  <a:lnTo>
                    <a:pt x="5565" y="3037"/>
                  </a:lnTo>
                  <a:lnTo>
                    <a:pt x="5544" y="3130"/>
                  </a:lnTo>
                  <a:lnTo>
                    <a:pt x="5520" y="3221"/>
                  </a:lnTo>
                  <a:lnTo>
                    <a:pt x="5492" y="3312"/>
                  </a:lnTo>
                  <a:lnTo>
                    <a:pt x="5462" y="3402"/>
                  </a:lnTo>
                  <a:lnTo>
                    <a:pt x="5428" y="3489"/>
                  </a:lnTo>
                  <a:lnTo>
                    <a:pt x="5392" y="3576"/>
                  </a:lnTo>
                  <a:lnTo>
                    <a:pt x="5353" y="3661"/>
                  </a:lnTo>
                  <a:lnTo>
                    <a:pt x="5311" y="3744"/>
                  </a:lnTo>
                  <a:lnTo>
                    <a:pt x="5267" y="3826"/>
                  </a:lnTo>
                  <a:lnTo>
                    <a:pt x="5221" y="3906"/>
                  </a:lnTo>
                  <a:lnTo>
                    <a:pt x="5171" y="3984"/>
                  </a:lnTo>
                  <a:lnTo>
                    <a:pt x="5119" y="4060"/>
                  </a:lnTo>
                  <a:lnTo>
                    <a:pt x="5064" y="4135"/>
                  </a:lnTo>
                  <a:lnTo>
                    <a:pt x="5008" y="4208"/>
                  </a:lnTo>
                  <a:lnTo>
                    <a:pt x="4948" y="4279"/>
                  </a:lnTo>
                  <a:lnTo>
                    <a:pt x="4887" y="4348"/>
                  </a:lnTo>
                  <a:lnTo>
                    <a:pt x="4823" y="4415"/>
                  </a:lnTo>
                  <a:lnTo>
                    <a:pt x="4757" y="4480"/>
                  </a:lnTo>
                  <a:lnTo>
                    <a:pt x="4689" y="4541"/>
                  </a:lnTo>
                  <a:lnTo>
                    <a:pt x="4620" y="4602"/>
                  </a:lnTo>
                  <a:lnTo>
                    <a:pt x="4547" y="4660"/>
                  </a:lnTo>
                  <a:lnTo>
                    <a:pt x="4474" y="4715"/>
                  </a:lnTo>
                  <a:lnTo>
                    <a:pt x="4398" y="4768"/>
                  </a:lnTo>
                  <a:lnTo>
                    <a:pt x="4320" y="4819"/>
                  </a:lnTo>
                  <a:lnTo>
                    <a:pt x="4241" y="4867"/>
                  </a:lnTo>
                  <a:lnTo>
                    <a:pt x="4159" y="4913"/>
                  </a:lnTo>
                  <a:lnTo>
                    <a:pt x="4175" y="4910"/>
                  </a:lnTo>
                  <a:lnTo>
                    <a:pt x="4190" y="4907"/>
                  </a:lnTo>
                  <a:lnTo>
                    <a:pt x="4205" y="4905"/>
                  </a:lnTo>
                  <a:lnTo>
                    <a:pt x="4220" y="4903"/>
                  </a:lnTo>
                  <a:lnTo>
                    <a:pt x="4235" y="4900"/>
                  </a:lnTo>
                  <a:lnTo>
                    <a:pt x="4250" y="4897"/>
                  </a:lnTo>
                  <a:lnTo>
                    <a:pt x="4265" y="4895"/>
                  </a:lnTo>
                  <a:lnTo>
                    <a:pt x="4280" y="4892"/>
                  </a:lnTo>
                  <a:lnTo>
                    <a:pt x="4357" y="4845"/>
                  </a:lnTo>
                  <a:lnTo>
                    <a:pt x="4433" y="4795"/>
                  </a:lnTo>
                  <a:lnTo>
                    <a:pt x="4506" y="4743"/>
                  </a:lnTo>
                  <a:lnTo>
                    <a:pt x="4579" y="4688"/>
                  </a:lnTo>
                  <a:lnTo>
                    <a:pt x="4649" y="4632"/>
                  </a:lnTo>
                  <a:lnTo>
                    <a:pt x="4717" y="4572"/>
                  </a:lnTo>
                  <a:lnTo>
                    <a:pt x="4783" y="4512"/>
                  </a:lnTo>
                  <a:lnTo>
                    <a:pt x="4848" y="4449"/>
                  </a:lnTo>
                  <a:lnTo>
                    <a:pt x="4909" y="4384"/>
                  </a:lnTo>
                  <a:lnTo>
                    <a:pt x="4970" y="4318"/>
                  </a:lnTo>
                  <a:lnTo>
                    <a:pt x="5028" y="4248"/>
                  </a:lnTo>
                  <a:lnTo>
                    <a:pt x="5084" y="4177"/>
                  </a:lnTo>
                  <a:lnTo>
                    <a:pt x="5138" y="4105"/>
                  </a:lnTo>
                  <a:lnTo>
                    <a:pt x="5189" y="4031"/>
                  </a:lnTo>
                  <a:lnTo>
                    <a:pt x="5239" y="3955"/>
                  </a:lnTo>
                  <a:lnTo>
                    <a:pt x="5285" y="3878"/>
                  </a:lnTo>
                  <a:lnTo>
                    <a:pt x="5330" y="3798"/>
                  </a:lnTo>
                  <a:lnTo>
                    <a:pt x="5372" y="3718"/>
                  </a:lnTo>
                  <a:lnTo>
                    <a:pt x="5411" y="3636"/>
                  </a:lnTo>
                  <a:lnTo>
                    <a:pt x="5447" y="3552"/>
                  </a:lnTo>
                  <a:lnTo>
                    <a:pt x="5482" y="3468"/>
                  </a:lnTo>
                  <a:lnTo>
                    <a:pt x="5513" y="3381"/>
                  </a:lnTo>
                  <a:lnTo>
                    <a:pt x="5541" y="3294"/>
                  </a:lnTo>
                  <a:lnTo>
                    <a:pt x="5567" y="3205"/>
                  </a:lnTo>
                  <a:lnTo>
                    <a:pt x="5591" y="3114"/>
                  </a:lnTo>
                  <a:lnTo>
                    <a:pt x="5611" y="3024"/>
                  </a:lnTo>
                  <a:lnTo>
                    <a:pt x="5628" y="2932"/>
                  </a:lnTo>
                  <a:lnTo>
                    <a:pt x="5642" y="2838"/>
                  </a:lnTo>
                  <a:lnTo>
                    <a:pt x="5653" y="2744"/>
                  </a:lnTo>
                  <a:lnTo>
                    <a:pt x="5661" y="2649"/>
                  </a:lnTo>
                  <a:lnTo>
                    <a:pt x="5666" y="2553"/>
                  </a:lnTo>
                  <a:lnTo>
                    <a:pt x="5668" y="2457"/>
                  </a:lnTo>
                  <a:close/>
                  <a:moveTo>
                    <a:pt x="1388" y="20"/>
                  </a:moveTo>
                  <a:lnTo>
                    <a:pt x="1311" y="68"/>
                  </a:lnTo>
                  <a:lnTo>
                    <a:pt x="1236" y="118"/>
                  </a:lnTo>
                  <a:lnTo>
                    <a:pt x="1162" y="170"/>
                  </a:lnTo>
                  <a:lnTo>
                    <a:pt x="1090" y="224"/>
                  </a:lnTo>
                  <a:lnTo>
                    <a:pt x="1019" y="282"/>
                  </a:lnTo>
                  <a:lnTo>
                    <a:pt x="951" y="340"/>
                  </a:lnTo>
                  <a:lnTo>
                    <a:pt x="885" y="401"/>
                  </a:lnTo>
                  <a:lnTo>
                    <a:pt x="821" y="464"/>
                  </a:lnTo>
                  <a:lnTo>
                    <a:pt x="759" y="529"/>
                  </a:lnTo>
                  <a:lnTo>
                    <a:pt x="699" y="596"/>
                  </a:lnTo>
                  <a:lnTo>
                    <a:pt x="640" y="665"/>
                  </a:lnTo>
                  <a:lnTo>
                    <a:pt x="584" y="735"/>
                  </a:lnTo>
                  <a:lnTo>
                    <a:pt x="530" y="808"/>
                  </a:lnTo>
                  <a:lnTo>
                    <a:pt x="479" y="882"/>
                  </a:lnTo>
                  <a:lnTo>
                    <a:pt x="429" y="958"/>
                  </a:lnTo>
                  <a:lnTo>
                    <a:pt x="383" y="1035"/>
                  </a:lnTo>
                  <a:lnTo>
                    <a:pt x="339" y="1114"/>
                  </a:lnTo>
                  <a:lnTo>
                    <a:pt x="297" y="1195"/>
                  </a:lnTo>
                  <a:lnTo>
                    <a:pt x="258" y="1277"/>
                  </a:lnTo>
                  <a:lnTo>
                    <a:pt x="221" y="1360"/>
                  </a:lnTo>
                  <a:lnTo>
                    <a:pt x="186" y="1446"/>
                  </a:lnTo>
                  <a:lnTo>
                    <a:pt x="155" y="1532"/>
                  </a:lnTo>
                  <a:lnTo>
                    <a:pt x="127" y="1620"/>
                  </a:lnTo>
                  <a:lnTo>
                    <a:pt x="101" y="1708"/>
                  </a:lnTo>
                  <a:lnTo>
                    <a:pt x="77" y="1798"/>
                  </a:lnTo>
                  <a:lnTo>
                    <a:pt x="58" y="1890"/>
                  </a:lnTo>
                  <a:lnTo>
                    <a:pt x="40" y="1981"/>
                  </a:lnTo>
                  <a:lnTo>
                    <a:pt x="26" y="2074"/>
                  </a:lnTo>
                  <a:lnTo>
                    <a:pt x="16" y="2168"/>
                  </a:lnTo>
                  <a:lnTo>
                    <a:pt x="7" y="2263"/>
                  </a:lnTo>
                  <a:lnTo>
                    <a:pt x="3" y="2359"/>
                  </a:lnTo>
                  <a:lnTo>
                    <a:pt x="0" y="2457"/>
                  </a:lnTo>
                  <a:lnTo>
                    <a:pt x="3" y="2553"/>
                  </a:lnTo>
                  <a:lnTo>
                    <a:pt x="7" y="2649"/>
                  </a:lnTo>
                  <a:lnTo>
                    <a:pt x="16" y="2744"/>
                  </a:lnTo>
                  <a:lnTo>
                    <a:pt x="26" y="2838"/>
                  </a:lnTo>
                  <a:lnTo>
                    <a:pt x="40" y="2932"/>
                  </a:lnTo>
                  <a:lnTo>
                    <a:pt x="58" y="3024"/>
                  </a:lnTo>
                  <a:lnTo>
                    <a:pt x="77" y="3114"/>
                  </a:lnTo>
                  <a:lnTo>
                    <a:pt x="101" y="3205"/>
                  </a:lnTo>
                  <a:lnTo>
                    <a:pt x="127" y="3294"/>
                  </a:lnTo>
                  <a:lnTo>
                    <a:pt x="155" y="3381"/>
                  </a:lnTo>
                  <a:lnTo>
                    <a:pt x="186" y="3468"/>
                  </a:lnTo>
                  <a:lnTo>
                    <a:pt x="221" y="3552"/>
                  </a:lnTo>
                  <a:lnTo>
                    <a:pt x="258" y="3636"/>
                  </a:lnTo>
                  <a:lnTo>
                    <a:pt x="297" y="3718"/>
                  </a:lnTo>
                  <a:lnTo>
                    <a:pt x="339" y="3798"/>
                  </a:lnTo>
                  <a:lnTo>
                    <a:pt x="383" y="3878"/>
                  </a:lnTo>
                  <a:lnTo>
                    <a:pt x="429" y="3955"/>
                  </a:lnTo>
                  <a:lnTo>
                    <a:pt x="479" y="4031"/>
                  </a:lnTo>
                  <a:lnTo>
                    <a:pt x="530" y="4105"/>
                  </a:lnTo>
                  <a:lnTo>
                    <a:pt x="584" y="4177"/>
                  </a:lnTo>
                  <a:lnTo>
                    <a:pt x="640" y="4248"/>
                  </a:lnTo>
                  <a:lnTo>
                    <a:pt x="699" y="4318"/>
                  </a:lnTo>
                  <a:lnTo>
                    <a:pt x="759" y="4384"/>
                  </a:lnTo>
                  <a:lnTo>
                    <a:pt x="821" y="4449"/>
                  </a:lnTo>
                  <a:lnTo>
                    <a:pt x="885" y="4512"/>
                  </a:lnTo>
                  <a:lnTo>
                    <a:pt x="951" y="4572"/>
                  </a:lnTo>
                  <a:lnTo>
                    <a:pt x="1019" y="4632"/>
                  </a:lnTo>
                  <a:lnTo>
                    <a:pt x="1090" y="4688"/>
                  </a:lnTo>
                  <a:lnTo>
                    <a:pt x="1162" y="4743"/>
                  </a:lnTo>
                  <a:lnTo>
                    <a:pt x="1236" y="4795"/>
                  </a:lnTo>
                  <a:lnTo>
                    <a:pt x="1311" y="4845"/>
                  </a:lnTo>
                  <a:lnTo>
                    <a:pt x="1388" y="4892"/>
                  </a:lnTo>
                  <a:lnTo>
                    <a:pt x="1403" y="4895"/>
                  </a:lnTo>
                  <a:lnTo>
                    <a:pt x="1418" y="4897"/>
                  </a:lnTo>
                  <a:lnTo>
                    <a:pt x="1433" y="4900"/>
                  </a:lnTo>
                  <a:lnTo>
                    <a:pt x="1448" y="4903"/>
                  </a:lnTo>
                  <a:lnTo>
                    <a:pt x="1464" y="4905"/>
                  </a:lnTo>
                  <a:lnTo>
                    <a:pt x="1479" y="4907"/>
                  </a:lnTo>
                  <a:lnTo>
                    <a:pt x="1494" y="4910"/>
                  </a:lnTo>
                  <a:lnTo>
                    <a:pt x="1509" y="4913"/>
                  </a:lnTo>
                  <a:lnTo>
                    <a:pt x="1428" y="4867"/>
                  </a:lnTo>
                  <a:lnTo>
                    <a:pt x="1348" y="4819"/>
                  </a:lnTo>
                  <a:lnTo>
                    <a:pt x="1270" y="4768"/>
                  </a:lnTo>
                  <a:lnTo>
                    <a:pt x="1194" y="4715"/>
                  </a:lnTo>
                  <a:lnTo>
                    <a:pt x="1121" y="4660"/>
                  </a:lnTo>
                  <a:lnTo>
                    <a:pt x="1049" y="4602"/>
                  </a:lnTo>
                  <a:lnTo>
                    <a:pt x="979" y="4541"/>
                  </a:lnTo>
                  <a:lnTo>
                    <a:pt x="911" y="4480"/>
                  </a:lnTo>
                  <a:lnTo>
                    <a:pt x="845" y="4415"/>
                  </a:lnTo>
                  <a:lnTo>
                    <a:pt x="782" y="4348"/>
                  </a:lnTo>
                  <a:lnTo>
                    <a:pt x="720" y="4279"/>
                  </a:lnTo>
                  <a:lnTo>
                    <a:pt x="661" y="4208"/>
                  </a:lnTo>
                  <a:lnTo>
                    <a:pt x="604" y="4135"/>
                  </a:lnTo>
                  <a:lnTo>
                    <a:pt x="549" y="4060"/>
                  </a:lnTo>
                  <a:lnTo>
                    <a:pt x="498" y="3984"/>
                  </a:lnTo>
                  <a:lnTo>
                    <a:pt x="448" y="3906"/>
                  </a:lnTo>
                  <a:lnTo>
                    <a:pt x="401" y="3826"/>
                  </a:lnTo>
                  <a:lnTo>
                    <a:pt x="357" y="3744"/>
                  </a:lnTo>
                  <a:lnTo>
                    <a:pt x="315" y="3661"/>
                  </a:lnTo>
                  <a:lnTo>
                    <a:pt x="276" y="3576"/>
                  </a:lnTo>
                  <a:lnTo>
                    <a:pt x="240" y="3489"/>
                  </a:lnTo>
                  <a:lnTo>
                    <a:pt x="207" y="3402"/>
                  </a:lnTo>
                  <a:lnTo>
                    <a:pt x="177" y="3312"/>
                  </a:lnTo>
                  <a:lnTo>
                    <a:pt x="149" y="3221"/>
                  </a:lnTo>
                  <a:lnTo>
                    <a:pt x="125" y="3130"/>
                  </a:lnTo>
                  <a:lnTo>
                    <a:pt x="103" y="3037"/>
                  </a:lnTo>
                  <a:lnTo>
                    <a:pt x="85" y="2943"/>
                  </a:lnTo>
                  <a:lnTo>
                    <a:pt x="70" y="2848"/>
                  </a:lnTo>
                  <a:lnTo>
                    <a:pt x="58" y="2752"/>
                  </a:lnTo>
                  <a:lnTo>
                    <a:pt x="49" y="2653"/>
                  </a:lnTo>
                  <a:lnTo>
                    <a:pt x="44" y="2556"/>
                  </a:lnTo>
                  <a:lnTo>
                    <a:pt x="43" y="2457"/>
                  </a:lnTo>
                  <a:lnTo>
                    <a:pt x="44" y="2357"/>
                  </a:lnTo>
                  <a:lnTo>
                    <a:pt x="49" y="2259"/>
                  </a:lnTo>
                  <a:lnTo>
                    <a:pt x="58" y="2162"/>
                  </a:lnTo>
                  <a:lnTo>
                    <a:pt x="70" y="2066"/>
                  </a:lnTo>
                  <a:lnTo>
                    <a:pt x="85" y="1971"/>
                  </a:lnTo>
                  <a:lnTo>
                    <a:pt x="103" y="1876"/>
                  </a:lnTo>
                  <a:lnTo>
                    <a:pt x="125" y="1783"/>
                  </a:lnTo>
                  <a:lnTo>
                    <a:pt x="149" y="1691"/>
                  </a:lnTo>
                  <a:lnTo>
                    <a:pt x="177" y="1600"/>
                  </a:lnTo>
                  <a:lnTo>
                    <a:pt x="207" y="1512"/>
                  </a:lnTo>
                  <a:lnTo>
                    <a:pt x="240" y="1423"/>
                  </a:lnTo>
                  <a:lnTo>
                    <a:pt x="276" y="1337"/>
                  </a:lnTo>
                  <a:lnTo>
                    <a:pt x="315" y="1252"/>
                  </a:lnTo>
                  <a:lnTo>
                    <a:pt x="357" y="1169"/>
                  </a:lnTo>
                  <a:lnTo>
                    <a:pt x="401" y="1087"/>
                  </a:lnTo>
                  <a:lnTo>
                    <a:pt x="448" y="1007"/>
                  </a:lnTo>
                  <a:lnTo>
                    <a:pt x="498" y="928"/>
                  </a:lnTo>
                  <a:lnTo>
                    <a:pt x="549" y="852"/>
                  </a:lnTo>
                  <a:lnTo>
                    <a:pt x="604" y="777"/>
                  </a:lnTo>
                  <a:lnTo>
                    <a:pt x="661" y="705"/>
                  </a:lnTo>
                  <a:lnTo>
                    <a:pt x="720" y="634"/>
                  </a:lnTo>
                  <a:lnTo>
                    <a:pt x="782" y="566"/>
                  </a:lnTo>
                  <a:lnTo>
                    <a:pt x="845" y="499"/>
                  </a:lnTo>
                  <a:lnTo>
                    <a:pt x="911" y="434"/>
                  </a:lnTo>
                  <a:lnTo>
                    <a:pt x="979" y="371"/>
                  </a:lnTo>
                  <a:lnTo>
                    <a:pt x="1049" y="311"/>
                  </a:lnTo>
                  <a:lnTo>
                    <a:pt x="1121" y="253"/>
                  </a:lnTo>
                  <a:lnTo>
                    <a:pt x="1194" y="197"/>
                  </a:lnTo>
                  <a:lnTo>
                    <a:pt x="1270" y="144"/>
                  </a:lnTo>
                  <a:lnTo>
                    <a:pt x="1348" y="94"/>
                  </a:lnTo>
                  <a:lnTo>
                    <a:pt x="1428" y="46"/>
                  </a:lnTo>
                  <a:lnTo>
                    <a:pt x="1509" y="0"/>
                  </a:lnTo>
                  <a:lnTo>
                    <a:pt x="1494" y="3"/>
                  </a:lnTo>
                  <a:lnTo>
                    <a:pt x="1479" y="5"/>
                  </a:lnTo>
                  <a:lnTo>
                    <a:pt x="1464" y="7"/>
                  </a:lnTo>
                  <a:lnTo>
                    <a:pt x="1448" y="10"/>
                  </a:lnTo>
                  <a:lnTo>
                    <a:pt x="1433" y="13"/>
                  </a:lnTo>
                  <a:lnTo>
                    <a:pt x="1418" y="16"/>
                  </a:lnTo>
                  <a:lnTo>
                    <a:pt x="1403" y="18"/>
                  </a:lnTo>
                  <a:lnTo>
                    <a:pt x="1388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7440" y="2017800"/>
              <a:ext cx="2232000" cy="1958760"/>
            </a:xfrm>
            <a:custGeom>
              <a:avLst/>
              <a:gdLst/>
              <a:ahLst/>
              <a:rect l="l" t="t" r="r" b="b"/>
              <a:pathLst>
                <a:path w="5625" h="4933">
                  <a:moveTo>
                    <a:pt x="5625" y="2467"/>
                  </a:moveTo>
                  <a:lnTo>
                    <a:pt x="5624" y="2368"/>
                  </a:lnTo>
                  <a:lnTo>
                    <a:pt x="5619" y="2271"/>
                  </a:lnTo>
                  <a:lnTo>
                    <a:pt x="5611" y="2175"/>
                  </a:lnTo>
                  <a:lnTo>
                    <a:pt x="5599" y="2080"/>
                  </a:lnTo>
                  <a:lnTo>
                    <a:pt x="5585" y="1986"/>
                  </a:lnTo>
                  <a:lnTo>
                    <a:pt x="5567" y="1893"/>
                  </a:lnTo>
                  <a:lnTo>
                    <a:pt x="5546" y="1800"/>
                  </a:lnTo>
                  <a:lnTo>
                    <a:pt x="5523" y="1710"/>
                  </a:lnTo>
                  <a:lnTo>
                    <a:pt x="5496" y="1620"/>
                  </a:lnTo>
                  <a:lnTo>
                    <a:pt x="5466" y="1531"/>
                  </a:lnTo>
                  <a:lnTo>
                    <a:pt x="5434" y="1445"/>
                  </a:lnTo>
                  <a:lnTo>
                    <a:pt x="5399" y="1359"/>
                  </a:lnTo>
                  <a:lnTo>
                    <a:pt x="5362" y="1274"/>
                  </a:lnTo>
                  <a:lnTo>
                    <a:pt x="5321" y="1192"/>
                  </a:lnTo>
                  <a:lnTo>
                    <a:pt x="5277" y="1111"/>
                  </a:lnTo>
                  <a:lnTo>
                    <a:pt x="5232" y="1031"/>
                  </a:lnTo>
                  <a:lnTo>
                    <a:pt x="5183" y="954"/>
                  </a:lnTo>
                  <a:lnTo>
                    <a:pt x="5134" y="877"/>
                  </a:lnTo>
                  <a:lnTo>
                    <a:pt x="5081" y="802"/>
                  </a:lnTo>
                  <a:lnTo>
                    <a:pt x="5026" y="730"/>
                  </a:lnTo>
                  <a:lnTo>
                    <a:pt x="4967" y="659"/>
                  </a:lnTo>
                  <a:lnTo>
                    <a:pt x="4908" y="591"/>
                  </a:lnTo>
                  <a:lnTo>
                    <a:pt x="4846" y="524"/>
                  </a:lnTo>
                  <a:lnTo>
                    <a:pt x="4781" y="459"/>
                  </a:lnTo>
                  <a:lnTo>
                    <a:pt x="4715" y="396"/>
                  </a:lnTo>
                  <a:lnTo>
                    <a:pt x="4647" y="336"/>
                  </a:lnTo>
                  <a:lnTo>
                    <a:pt x="4577" y="278"/>
                  </a:lnTo>
                  <a:lnTo>
                    <a:pt x="4506" y="221"/>
                  </a:lnTo>
                  <a:lnTo>
                    <a:pt x="4431" y="167"/>
                  </a:lnTo>
                  <a:lnTo>
                    <a:pt x="4356" y="116"/>
                  </a:lnTo>
                  <a:lnTo>
                    <a:pt x="4279" y="67"/>
                  </a:lnTo>
                  <a:lnTo>
                    <a:pt x="4200" y="20"/>
                  </a:lnTo>
                  <a:lnTo>
                    <a:pt x="4184" y="17"/>
                  </a:lnTo>
                  <a:lnTo>
                    <a:pt x="4169" y="15"/>
                  </a:lnTo>
                  <a:lnTo>
                    <a:pt x="4153" y="12"/>
                  </a:lnTo>
                  <a:lnTo>
                    <a:pt x="4137" y="10"/>
                  </a:lnTo>
                  <a:lnTo>
                    <a:pt x="4122" y="8"/>
                  </a:lnTo>
                  <a:lnTo>
                    <a:pt x="4106" y="4"/>
                  </a:lnTo>
                  <a:lnTo>
                    <a:pt x="4091" y="2"/>
                  </a:lnTo>
                  <a:lnTo>
                    <a:pt x="4075" y="0"/>
                  </a:lnTo>
                  <a:lnTo>
                    <a:pt x="4158" y="44"/>
                  </a:lnTo>
                  <a:lnTo>
                    <a:pt x="4239" y="92"/>
                  </a:lnTo>
                  <a:lnTo>
                    <a:pt x="4319" y="141"/>
                  </a:lnTo>
                  <a:lnTo>
                    <a:pt x="4397" y="193"/>
                  </a:lnTo>
                  <a:lnTo>
                    <a:pt x="4472" y="248"/>
                  </a:lnTo>
                  <a:lnTo>
                    <a:pt x="4547" y="306"/>
                  </a:lnTo>
                  <a:lnTo>
                    <a:pt x="4618" y="366"/>
                  </a:lnTo>
                  <a:lnTo>
                    <a:pt x="4688" y="428"/>
                  </a:lnTo>
                  <a:lnTo>
                    <a:pt x="4757" y="492"/>
                  </a:lnTo>
                  <a:lnTo>
                    <a:pt x="4821" y="558"/>
                  </a:lnTo>
                  <a:lnTo>
                    <a:pt x="4885" y="627"/>
                  </a:lnTo>
                  <a:lnTo>
                    <a:pt x="4946" y="699"/>
                  </a:lnTo>
                  <a:lnTo>
                    <a:pt x="5005" y="771"/>
                  </a:lnTo>
                  <a:lnTo>
                    <a:pt x="5061" y="847"/>
                  </a:lnTo>
                  <a:lnTo>
                    <a:pt x="5114" y="923"/>
                  </a:lnTo>
                  <a:lnTo>
                    <a:pt x="5165" y="1002"/>
                  </a:lnTo>
                  <a:lnTo>
                    <a:pt x="5214" y="1082"/>
                  </a:lnTo>
                  <a:lnTo>
                    <a:pt x="5260" y="1165"/>
                  </a:lnTo>
                  <a:lnTo>
                    <a:pt x="5302" y="1248"/>
                  </a:lnTo>
                  <a:lnTo>
                    <a:pt x="5343" y="1335"/>
                  </a:lnTo>
                  <a:lnTo>
                    <a:pt x="5380" y="1421"/>
                  </a:lnTo>
                  <a:lnTo>
                    <a:pt x="5415" y="1510"/>
                  </a:lnTo>
                  <a:lnTo>
                    <a:pt x="5446" y="1601"/>
                  </a:lnTo>
                  <a:lnTo>
                    <a:pt x="5474" y="1692"/>
                  </a:lnTo>
                  <a:lnTo>
                    <a:pt x="5500" y="1785"/>
                  </a:lnTo>
                  <a:lnTo>
                    <a:pt x="5522" y="1879"/>
                  </a:lnTo>
                  <a:lnTo>
                    <a:pt x="5540" y="1974"/>
                  </a:lnTo>
                  <a:lnTo>
                    <a:pt x="5556" y="2070"/>
                  </a:lnTo>
                  <a:lnTo>
                    <a:pt x="5568" y="2168"/>
                  </a:lnTo>
                  <a:lnTo>
                    <a:pt x="5577" y="2267"/>
                  </a:lnTo>
                  <a:lnTo>
                    <a:pt x="5582" y="2366"/>
                  </a:lnTo>
                  <a:lnTo>
                    <a:pt x="5584" y="2467"/>
                  </a:lnTo>
                  <a:lnTo>
                    <a:pt x="5582" y="2567"/>
                  </a:lnTo>
                  <a:lnTo>
                    <a:pt x="5577" y="2666"/>
                  </a:lnTo>
                  <a:lnTo>
                    <a:pt x="5568" y="2765"/>
                  </a:lnTo>
                  <a:lnTo>
                    <a:pt x="5556" y="2862"/>
                  </a:lnTo>
                  <a:lnTo>
                    <a:pt x="5540" y="2959"/>
                  </a:lnTo>
                  <a:lnTo>
                    <a:pt x="5522" y="3054"/>
                  </a:lnTo>
                  <a:lnTo>
                    <a:pt x="5500" y="3148"/>
                  </a:lnTo>
                  <a:lnTo>
                    <a:pt x="5474" y="3241"/>
                  </a:lnTo>
                  <a:lnTo>
                    <a:pt x="5446" y="3333"/>
                  </a:lnTo>
                  <a:lnTo>
                    <a:pt x="5415" y="3422"/>
                  </a:lnTo>
                  <a:lnTo>
                    <a:pt x="5380" y="3511"/>
                  </a:lnTo>
                  <a:lnTo>
                    <a:pt x="5343" y="3599"/>
                  </a:lnTo>
                  <a:lnTo>
                    <a:pt x="5302" y="3684"/>
                  </a:lnTo>
                  <a:lnTo>
                    <a:pt x="5260" y="3768"/>
                  </a:lnTo>
                  <a:lnTo>
                    <a:pt x="5214" y="3850"/>
                  </a:lnTo>
                  <a:lnTo>
                    <a:pt x="5165" y="3931"/>
                  </a:lnTo>
                  <a:lnTo>
                    <a:pt x="5114" y="4010"/>
                  </a:lnTo>
                  <a:lnTo>
                    <a:pt x="5061" y="4087"/>
                  </a:lnTo>
                  <a:lnTo>
                    <a:pt x="5005" y="4161"/>
                  </a:lnTo>
                  <a:lnTo>
                    <a:pt x="4946" y="4235"/>
                  </a:lnTo>
                  <a:lnTo>
                    <a:pt x="4885" y="4305"/>
                  </a:lnTo>
                  <a:lnTo>
                    <a:pt x="4821" y="4374"/>
                  </a:lnTo>
                  <a:lnTo>
                    <a:pt x="4757" y="4441"/>
                  </a:lnTo>
                  <a:lnTo>
                    <a:pt x="4688" y="4505"/>
                  </a:lnTo>
                  <a:lnTo>
                    <a:pt x="4619" y="4567"/>
                  </a:lnTo>
                  <a:lnTo>
                    <a:pt x="4547" y="4627"/>
                  </a:lnTo>
                  <a:lnTo>
                    <a:pt x="4472" y="4684"/>
                  </a:lnTo>
                  <a:lnTo>
                    <a:pt x="4397" y="4739"/>
                  </a:lnTo>
                  <a:lnTo>
                    <a:pt x="4319" y="4792"/>
                  </a:lnTo>
                  <a:lnTo>
                    <a:pt x="4239" y="4842"/>
                  </a:lnTo>
                  <a:lnTo>
                    <a:pt x="4158" y="4888"/>
                  </a:lnTo>
                  <a:lnTo>
                    <a:pt x="4075" y="4933"/>
                  </a:lnTo>
                  <a:lnTo>
                    <a:pt x="4091" y="4930"/>
                  </a:lnTo>
                  <a:lnTo>
                    <a:pt x="4106" y="4928"/>
                  </a:lnTo>
                  <a:lnTo>
                    <a:pt x="4122" y="4926"/>
                  </a:lnTo>
                  <a:lnTo>
                    <a:pt x="4137" y="4923"/>
                  </a:lnTo>
                  <a:lnTo>
                    <a:pt x="4153" y="4920"/>
                  </a:lnTo>
                  <a:lnTo>
                    <a:pt x="4169" y="4918"/>
                  </a:lnTo>
                  <a:lnTo>
                    <a:pt x="4184" y="4915"/>
                  </a:lnTo>
                  <a:lnTo>
                    <a:pt x="4200" y="4913"/>
                  </a:lnTo>
                  <a:lnTo>
                    <a:pt x="4279" y="4866"/>
                  </a:lnTo>
                  <a:lnTo>
                    <a:pt x="4356" y="4817"/>
                  </a:lnTo>
                  <a:lnTo>
                    <a:pt x="4431" y="4766"/>
                  </a:lnTo>
                  <a:lnTo>
                    <a:pt x="4506" y="4712"/>
                  </a:lnTo>
                  <a:lnTo>
                    <a:pt x="4577" y="4656"/>
                  </a:lnTo>
                  <a:lnTo>
                    <a:pt x="4647" y="4598"/>
                  </a:lnTo>
                  <a:lnTo>
                    <a:pt x="4715" y="4537"/>
                  </a:lnTo>
                  <a:lnTo>
                    <a:pt x="4781" y="4474"/>
                  </a:lnTo>
                  <a:lnTo>
                    <a:pt x="4846" y="4410"/>
                  </a:lnTo>
                  <a:lnTo>
                    <a:pt x="4908" y="4343"/>
                  </a:lnTo>
                  <a:lnTo>
                    <a:pt x="4967" y="4274"/>
                  </a:lnTo>
                  <a:lnTo>
                    <a:pt x="5026" y="4203"/>
                  </a:lnTo>
                  <a:lnTo>
                    <a:pt x="5081" y="4130"/>
                  </a:lnTo>
                  <a:lnTo>
                    <a:pt x="5134" y="4055"/>
                  </a:lnTo>
                  <a:lnTo>
                    <a:pt x="5184" y="3980"/>
                  </a:lnTo>
                  <a:lnTo>
                    <a:pt x="5232" y="3902"/>
                  </a:lnTo>
                  <a:lnTo>
                    <a:pt x="5277" y="3822"/>
                  </a:lnTo>
                  <a:lnTo>
                    <a:pt x="5321" y="3741"/>
                  </a:lnTo>
                  <a:lnTo>
                    <a:pt x="5362" y="3658"/>
                  </a:lnTo>
                  <a:lnTo>
                    <a:pt x="5399" y="3574"/>
                  </a:lnTo>
                  <a:lnTo>
                    <a:pt x="5434" y="3488"/>
                  </a:lnTo>
                  <a:lnTo>
                    <a:pt x="5466" y="3401"/>
                  </a:lnTo>
                  <a:lnTo>
                    <a:pt x="5496" y="3312"/>
                  </a:lnTo>
                  <a:lnTo>
                    <a:pt x="5523" y="3223"/>
                  </a:lnTo>
                  <a:lnTo>
                    <a:pt x="5546" y="3132"/>
                  </a:lnTo>
                  <a:lnTo>
                    <a:pt x="5567" y="3040"/>
                  </a:lnTo>
                  <a:lnTo>
                    <a:pt x="5585" y="2947"/>
                  </a:lnTo>
                  <a:lnTo>
                    <a:pt x="5599" y="2852"/>
                  </a:lnTo>
                  <a:lnTo>
                    <a:pt x="5611" y="2757"/>
                  </a:lnTo>
                  <a:lnTo>
                    <a:pt x="5619" y="2661"/>
                  </a:lnTo>
                  <a:lnTo>
                    <a:pt x="5624" y="2564"/>
                  </a:lnTo>
                  <a:lnTo>
                    <a:pt x="5625" y="2467"/>
                  </a:lnTo>
                  <a:close/>
                  <a:moveTo>
                    <a:pt x="1426" y="20"/>
                  </a:moveTo>
                  <a:lnTo>
                    <a:pt x="1347" y="67"/>
                  </a:lnTo>
                  <a:lnTo>
                    <a:pt x="1271" y="116"/>
                  </a:lnTo>
                  <a:lnTo>
                    <a:pt x="1195" y="167"/>
                  </a:lnTo>
                  <a:lnTo>
                    <a:pt x="1121" y="221"/>
                  </a:lnTo>
                  <a:lnTo>
                    <a:pt x="1049" y="278"/>
                  </a:lnTo>
                  <a:lnTo>
                    <a:pt x="979" y="336"/>
                  </a:lnTo>
                  <a:lnTo>
                    <a:pt x="911" y="396"/>
                  </a:lnTo>
                  <a:lnTo>
                    <a:pt x="845" y="459"/>
                  </a:lnTo>
                  <a:lnTo>
                    <a:pt x="780" y="524"/>
                  </a:lnTo>
                  <a:lnTo>
                    <a:pt x="719" y="591"/>
                  </a:lnTo>
                  <a:lnTo>
                    <a:pt x="659" y="659"/>
                  </a:lnTo>
                  <a:lnTo>
                    <a:pt x="601" y="730"/>
                  </a:lnTo>
                  <a:lnTo>
                    <a:pt x="546" y="802"/>
                  </a:lnTo>
                  <a:lnTo>
                    <a:pt x="493" y="877"/>
                  </a:lnTo>
                  <a:lnTo>
                    <a:pt x="442" y="954"/>
                  </a:lnTo>
                  <a:lnTo>
                    <a:pt x="394" y="1031"/>
                  </a:lnTo>
                  <a:lnTo>
                    <a:pt x="349" y="1111"/>
                  </a:lnTo>
                  <a:lnTo>
                    <a:pt x="306" y="1192"/>
                  </a:lnTo>
                  <a:lnTo>
                    <a:pt x="265" y="1274"/>
                  </a:lnTo>
                  <a:lnTo>
                    <a:pt x="227" y="1359"/>
                  </a:lnTo>
                  <a:lnTo>
                    <a:pt x="192" y="1445"/>
                  </a:lnTo>
                  <a:lnTo>
                    <a:pt x="160" y="1531"/>
                  </a:lnTo>
                  <a:lnTo>
                    <a:pt x="131" y="1620"/>
                  </a:lnTo>
                  <a:lnTo>
                    <a:pt x="104" y="1710"/>
                  </a:lnTo>
                  <a:lnTo>
                    <a:pt x="80" y="1800"/>
                  </a:lnTo>
                  <a:lnTo>
                    <a:pt x="59" y="1893"/>
                  </a:lnTo>
                  <a:lnTo>
                    <a:pt x="41" y="1986"/>
                  </a:lnTo>
                  <a:lnTo>
                    <a:pt x="27" y="2080"/>
                  </a:lnTo>
                  <a:lnTo>
                    <a:pt x="15" y="2175"/>
                  </a:lnTo>
                  <a:lnTo>
                    <a:pt x="8" y="2271"/>
                  </a:lnTo>
                  <a:lnTo>
                    <a:pt x="2" y="2368"/>
                  </a:lnTo>
                  <a:lnTo>
                    <a:pt x="0" y="2467"/>
                  </a:lnTo>
                  <a:lnTo>
                    <a:pt x="2" y="2564"/>
                  </a:lnTo>
                  <a:lnTo>
                    <a:pt x="8" y="2661"/>
                  </a:lnTo>
                  <a:lnTo>
                    <a:pt x="15" y="2757"/>
                  </a:lnTo>
                  <a:lnTo>
                    <a:pt x="27" y="2852"/>
                  </a:lnTo>
                  <a:lnTo>
                    <a:pt x="41" y="2947"/>
                  </a:lnTo>
                  <a:lnTo>
                    <a:pt x="59" y="3040"/>
                  </a:lnTo>
                  <a:lnTo>
                    <a:pt x="80" y="3132"/>
                  </a:lnTo>
                  <a:lnTo>
                    <a:pt x="104" y="3223"/>
                  </a:lnTo>
                  <a:lnTo>
                    <a:pt x="131" y="3312"/>
                  </a:lnTo>
                  <a:lnTo>
                    <a:pt x="160" y="3401"/>
                  </a:lnTo>
                  <a:lnTo>
                    <a:pt x="192" y="3488"/>
                  </a:lnTo>
                  <a:lnTo>
                    <a:pt x="227" y="3574"/>
                  </a:lnTo>
                  <a:lnTo>
                    <a:pt x="265" y="3658"/>
                  </a:lnTo>
                  <a:lnTo>
                    <a:pt x="306" y="3741"/>
                  </a:lnTo>
                  <a:lnTo>
                    <a:pt x="349" y="3822"/>
                  </a:lnTo>
                  <a:lnTo>
                    <a:pt x="394" y="3902"/>
                  </a:lnTo>
                  <a:lnTo>
                    <a:pt x="442" y="3980"/>
                  </a:lnTo>
                  <a:lnTo>
                    <a:pt x="493" y="4055"/>
                  </a:lnTo>
                  <a:lnTo>
                    <a:pt x="546" y="4130"/>
                  </a:lnTo>
                  <a:lnTo>
                    <a:pt x="601" y="4203"/>
                  </a:lnTo>
                  <a:lnTo>
                    <a:pt x="659" y="4274"/>
                  </a:lnTo>
                  <a:lnTo>
                    <a:pt x="719" y="4343"/>
                  </a:lnTo>
                  <a:lnTo>
                    <a:pt x="780" y="4410"/>
                  </a:lnTo>
                  <a:lnTo>
                    <a:pt x="845" y="4474"/>
                  </a:lnTo>
                  <a:lnTo>
                    <a:pt x="911" y="4537"/>
                  </a:lnTo>
                  <a:lnTo>
                    <a:pt x="979" y="4598"/>
                  </a:lnTo>
                  <a:lnTo>
                    <a:pt x="1049" y="4656"/>
                  </a:lnTo>
                  <a:lnTo>
                    <a:pt x="1121" y="4712"/>
                  </a:lnTo>
                  <a:lnTo>
                    <a:pt x="1195" y="4766"/>
                  </a:lnTo>
                  <a:lnTo>
                    <a:pt x="1271" y="4817"/>
                  </a:lnTo>
                  <a:lnTo>
                    <a:pt x="1347" y="4866"/>
                  </a:lnTo>
                  <a:lnTo>
                    <a:pt x="1426" y="4913"/>
                  </a:lnTo>
                  <a:lnTo>
                    <a:pt x="1443" y="4915"/>
                  </a:lnTo>
                  <a:lnTo>
                    <a:pt x="1458" y="4918"/>
                  </a:lnTo>
                  <a:lnTo>
                    <a:pt x="1474" y="4920"/>
                  </a:lnTo>
                  <a:lnTo>
                    <a:pt x="1489" y="4923"/>
                  </a:lnTo>
                  <a:lnTo>
                    <a:pt x="1504" y="4926"/>
                  </a:lnTo>
                  <a:lnTo>
                    <a:pt x="1520" y="4928"/>
                  </a:lnTo>
                  <a:lnTo>
                    <a:pt x="1535" y="4930"/>
                  </a:lnTo>
                  <a:lnTo>
                    <a:pt x="1552" y="4933"/>
                  </a:lnTo>
                  <a:lnTo>
                    <a:pt x="1468" y="4888"/>
                  </a:lnTo>
                  <a:lnTo>
                    <a:pt x="1387" y="4842"/>
                  </a:lnTo>
                  <a:lnTo>
                    <a:pt x="1307" y="4792"/>
                  </a:lnTo>
                  <a:lnTo>
                    <a:pt x="1230" y="4739"/>
                  </a:lnTo>
                  <a:lnTo>
                    <a:pt x="1153" y="4684"/>
                  </a:lnTo>
                  <a:lnTo>
                    <a:pt x="1079" y="4627"/>
                  </a:lnTo>
                  <a:lnTo>
                    <a:pt x="1007" y="4567"/>
                  </a:lnTo>
                  <a:lnTo>
                    <a:pt x="938" y="4505"/>
                  </a:lnTo>
                  <a:lnTo>
                    <a:pt x="870" y="4441"/>
                  </a:lnTo>
                  <a:lnTo>
                    <a:pt x="804" y="4374"/>
                  </a:lnTo>
                  <a:lnTo>
                    <a:pt x="741" y="4305"/>
                  </a:lnTo>
                  <a:lnTo>
                    <a:pt x="680" y="4235"/>
                  </a:lnTo>
                  <a:lnTo>
                    <a:pt x="621" y="4161"/>
                  </a:lnTo>
                  <a:lnTo>
                    <a:pt x="565" y="4087"/>
                  </a:lnTo>
                  <a:lnTo>
                    <a:pt x="512" y="4010"/>
                  </a:lnTo>
                  <a:lnTo>
                    <a:pt x="461" y="3931"/>
                  </a:lnTo>
                  <a:lnTo>
                    <a:pt x="413" y="3850"/>
                  </a:lnTo>
                  <a:lnTo>
                    <a:pt x="366" y="3768"/>
                  </a:lnTo>
                  <a:lnTo>
                    <a:pt x="324" y="3684"/>
                  </a:lnTo>
                  <a:lnTo>
                    <a:pt x="283" y="3599"/>
                  </a:lnTo>
                  <a:lnTo>
                    <a:pt x="246" y="3511"/>
                  </a:lnTo>
                  <a:lnTo>
                    <a:pt x="212" y="3422"/>
                  </a:lnTo>
                  <a:lnTo>
                    <a:pt x="180" y="3333"/>
                  </a:lnTo>
                  <a:lnTo>
                    <a:pt x="152" y="3241"/>
                  </a:lnTo>
                  <a:lnTo>
                    <a:pt x="126" y="3148"/>
                  </a:lnTo>
                  <a:lnTo>
                    <a:pt x="105" y="3054"/>
                  </a:lnTo>
                  <a:lnTo>
                    <a:pt x="85" y="2959"/>
                  </a:lnTo>
                  <a:lnTo>
                    <a:pt x="70" y="2862"/>
                  </a:lnTo>
                  <a:lnTo>
                    <a:pt x="58" y="2765"/>
                  </a:lnTo>
                  <a:lnTo>
                    <a:pt x="50" y="2666"/>
                  </a:lnTo>
                  <a:lnTo>
                    <a:pt x="44" y="2567"/>
                  </a:lnTo>
                  <a:lnTo>
                    <a:pt x="42" y="2467"/>
                  </a:lnTo>
                  <a:lnTo>
                    <a:pt x="44" y="2366"/>
                  </a:lnTo>
                  <a:lnTo>
                    <a:pt x="50" y="2267"/>
                  </a:lnTo>
                  <a:lnTo>
                    <a:pt x="58" y="2168"/>
                  </a:lnTo>
                  <a:lnTo>
                    <a:pt x="70" y="2070"/>
                  </a:lnTo>
                  <a:lnTo>
                    <a:pt x="85" y="1974"/>
                  </a:lnTo>
                  <a:lnTo>
                    <a:pt x="105" y="1879"/>
                  </a:lnTo>
                  <a:lnTo>
                    <a:pt x="126" y="1785"/>
                  </a:lnTo>
                  <a:lnTo>
                    <a:pt x="152" y="1692"/>
                  </a:lnTo>
                  <a:lnTo>
                    <a:pt x="180" y="1601"/>
                  </a:lnTo>
                  <a:lnTo>
                    <a:pt x="212" y="1510"/>
                  </a:lnTo>
                  <a:lnTo>
                    <a:pt x="246" y="1421"/>
                  </a:lnTo>
                  <a:lnTo>
                    <a:pt x="283" y="1335"/>
                  </a:lnTo>
                  <a:lnTo>
                    <a:pt x="324" y="1248"/>
                  </a:lnTo>
                  <a:lnTo>
                    <a:pt x="366" y="1165"/>
                  </a:lnTo>
                  <a:lnTo>
                    <a:pt x="413" y="1082"/>
                  </a:lnTo>
                  <a:lnTo>
                    <a:pt x="461" y="1002"/>
                  </a:lnTo>
                  <a:lnTo>
                    <a:pt x="512" y="923"/>
                  </a:lnTo>
                  <a:lnTo>
                    <a:pt x="565" y="847"/>
                  </a:lnTo>
                  <a:lnTo>
                    <a:pt x="621" y="771"/>
                  </a:lnTo>
                  <a:lnTo>
                    <a:pt x="681" y="699"/>
                  </a:lnTo>
                  <a:lnTo>
                    <a:pt x="741" y="627"/>
                  </a:lnTo>
                  <a:lnTo>
                    <a:pt x="804" y="558"/>
                  </a:lnTo>
                  <a:lnTo>
                    <a:pt x="870" y="492"/>
                  </a:lnTo>
                  <a:lnTo>
                    <a:pt x="938" y="428"/>
                  </a:lnTo>
                  <a:lnTo>
                    <a:pt x="1007" y="366"/>
                  </a:lnTo>
                  <a:lnTo>
                    <a:pt x="1079" y="306"/>
                  </a:lnTo>
                  <a:lnTo>
                    <a:pt x="1154" y="248"/>
                  </a:lnTo>
                  <a:lnTo>
                    <a:pt x="1230" y="193"/>
                  </a:lnTo>
                  <a:lnTo>
                    <a:pt x="1307" y="141"/>
                  </a:lnTo>
                  <a:lnTo>
                    <a:pt x="1387" y="92"/>
                  </a:lnTo>
                  <a:lnTo>
                    <a:pt x="1468" y="44"/>
                  </a:lnTo>
                  <a:lnTo>
                    <a:pt x="1552" y="0"/>
                  </a:lnTo>
                  <a:lnTo>
                    <a:pt x="1535" y="2"/>
                  </a:lnTo>
                  <a:lnTo>
                    <a:pt x="1520" y="4"/>
                  </a:lnTo>
                  <a:lnTo>
                    <a:pt x="1504" y="8"/>
                  </a:lnTo>
                  <a:lnTo>
                    <a:pt x="1489" y="10"/>
                  </a:lnTo>
                  <a:lnTo>
                    <a:pt x="1474" y="12"/>
                  </a:lnTo>
                  <a:lnTo>
                    <a:pt x="1458" y="15"/>
                  </a:lnTo>
                  <a:lnTo>
                    <a:pt x="1443" y="17"/>
                  </a:lnTo>
                  <a:lnTo>
                    <a:pt x="1426" y="2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65360" y="2014560"/>
              <a:ext cx="2216160" cy="1965240"/>
            </a:xfrm>
            <a:custGeom>
              <a:avLst/>
              <a:gdLst/>
              <a:ahLst/>
              <a:rect l="l" t="t" r="r" b="b"/>
              <a:pathLst>
                <a:path w="5583" h="4953">
                  <a:moveTo>
                    <a:pt x="5583" y="2477"/>
                  </a:moveTo>
                  <a:lnTo>
                    <a:pt x="5582" y="2377"/>
                  </a:lnTo>
                  <a:lnTo>
                    <a:pt x="5576" y="2279"/>
                  </a:lnTo>
                  <a:lnTo>
                    <a:pt x="5568" y="2182"/>
                  </a:lnTo>
                  <a:lnTo>
                    <a:pt x="5556" y="2086"/>
                  </a:lnTo>
                  <a:lnTo>
                    <a:pt x="5541" y="1991"/>
                  </a:lnTo>
                  <a:lnTo>
                    <a:pt x="5522" y="1896"/>
                  </a:lnTo>
                  <a:lnTo>
                    <a:pt x="5501" y="1803"/>
                  </a:lnTo>
                  <a:lnTo>
                    <a:pt x="5477" y="1711"/>
                  </a:lnTo>
                  <a:lnTo>
                    <a:pt x="5449" y="1620"/>
                  </a:lnTo>
                  <a:lnTo>
                    <a:pt x="5419" y="1532"/>
                  </a:lnTo>
                  <a:lnTo>
                    <a:pt x="5385" y="1443"/>
                  </a:lnTo>
                  <a:lnTo>
                    <a:pt x="5349" y="1357"/>
                  </a:lnTo>
                  <a:lnTo>
                    <a:pt x="5310" y="1272"/>
                  </a:lnTo>
                  <a:lnTo>
                    <a:pt x="5268" y="1189"/>
                  </a:lnTo>
                  <a:lnTo>
                    <a:pt x="5224" y="1107"/>
                  </a:lnTo>
                  <a:lnTo>
                    <a:pt x="5178" y="1027"/>
                  </a:lnTo>
                  <a:lnTo>
                    <a:pt x="5128" y="948"/>
                  </a:lnTo>
                  <a:lnTo>
                    <a:pt x="5076" y="872"/>
                  </a:lnTo>
                  <a:lnTo>
                    <a:pt x="5021" y="797"/>
                  </a:lnTo>
                  <a:lnTo>
                    <a:pt x="4965" y="725"/>
                  </a:lnTo>
                  <a:lnTo>
                    <a:pt x="4905" y="654"/>
                  </a:lnTo>
                  <a:lnTo>
                    <a:pt x="4844" y="586"/>
                  </a:lnTo>
                  <a:lnTo>
                    <a:pt x="4780" y="519"/>
                  </a:lnTo>
                  <a:lnTo>
                    <a:pt x="4714" y="454"/>
                  </a:lnTo>
                  <a:lnTo>
                    <a:pt x="4646" y="391"/>
                  </a:lnTo>
                  <a:lnTo>
                    <a:pt x="4577" y="331"/>
                  </a:lnTo>
                  <a:lnTo>
                    <a:pt x="4504" y="273"/>
                  </a:lnTo>
                  <a:lnTo>
                    <a:pt x="4431" y="217"/>
                  </a:lnTo>
                  <a:lnTo>
                    <a:pt x="4355" y="164"/>
                  </a:lnTo>
                  <a:lnTo>
                    <a:pt x="4277" y="114"/>
                  </a:lnTo>
                  <a:lnTo>
                    <a:pt x="4198" y="66"/>
                  </a:lnTo>
                  <a:lnTo>
                    <a:pt x="4116" y="20"/>
                  </a:lnTo>
                  <a:lnTo>
                    <a:pt x="4100" y="18"/>
                  </a:lnTo>
                  <a:lnTo>
                    <a:pt x="4084" y="15"/>
                  </a:lnTo>
                  <a:lnTo>
                    <a:pt x="4068" y="12"/>
                  </a:lnTo>
                  <a:lnTo>
                    <a:pt x="4052" y="10"/>
                  </a:lnTo>
                  <a:lnTo>
                    <a:pt x="4035" y="8"/>
                  </a:lnTo>
                  <a:lnTo>
                    <a:pt x="4019" y="5"/>
                  </a:lnTo>
                  <a:lnTo>
                    <a:pt x="4002" y="2"/>
                  </a:lnTo>
                  <a:lnTo>
                    <a:pt x="3986" y="0"/>
                  </a:lnTo>
                  <a:lnTo>
                    <a:pt x="4071" y="43"/>
                  </a:lnTo>
                  <a:lnTo>
                    <a:pt x="4155" y="89"/>
                  </a:lnTo>
                  <a:lnTo>
                    <a:pt x="4237" y="137"/>
                  </a:lnTo>
                  <a:lnTo>
                    <a:pt x="4317" y="189"/>
                  </a:lnTo>
                  <a:lnTo>
                    <a:pt x="4395" y="243"/>
                  </a:lnTo>
                  <a:lnTo>
                    <a:pt x="4471" y="300"/>
                  </a:lnTo>
                  <a:lnTo>
                    <a:pt x="4545" y="360"/>
                  </a:lnTo>
                  <a:lnTo>
                    <a:pt x="4617" y="421"/>
                  </a:lnTo>
                  <a:lnTo>
                    <a:pt x="4687" y="485"/>
                  </a:lnTo>
                  <a:lnTo>
                    <a:pt x="4755" y="552"/>
                  </a:lnTo>
                  <a:lnTo>
                    <a:pt x="4820" y="620"/>
                  </a:lnTo>
                  <a:lnTo>
                    <a:pt x="4883" y="691"/>
                  </a:lnTo>
                  <a:lnTo>
                    <a:pt x="4943" y="765"/>
                  </a:lnTo>
                  <a:lnTo>
                    <a:pt x="5000" y="839"/>
                  </a:lnTo>
                  <a:lnTo>
                    <a:pt x="5057" y="917"/>
                  </a:lnTo>
                  <a:lnTo>
                    <a:pt x="5108" y="996"/>
                  </a:lnTo>
                  <a:lnTo>
                    <a:pt x="5159" y="1077"/>
                  </a:lnTo>
                  <a:lnTo>
                    <a:pt x="5206" y="1160"/>
                  </a:lnTo>
                  <a:lnTo>
                    <a:pt x="5250" y="1244"/>
                  </a:lnTo>
                  <a:lnTo>
                    <a:pt x="5292" y="1331"/>
                  </a:lnTo>
                  <a:lnTo>
                    <a:pt x="5330" y="1419"/>
                  </a:lnTo>
                  <a:lnTo>
                    <a:pt x="5366" y="1509"/>
                  </a:lnTo>
                  <a:lnTo>
                    <a:pt x="5398" y="1600"/>
                  </a:lnTo>
                  <a:lnTo>
                    <a:pt x="5427" y="1693"/>
                  </a:lnTo>
                  <a:lnTo>
                    <a:pt x="5454" y="1785"/>
                  </a:lnTo>
                  <a:lnTo>
                    <a:pt x="5477" y="1882"/>
                  </a:lnTo>
                  <a:lnTo>
                    <a:pt x="5496" y="1978"/>
                  </a:lnTo>
                  <a:lnTo>
                    <a:pt x="5513" y="2075"/>
                  </a:lnTo>
                  <a:lnTo>
                    <a:pt x="5524" y="2174"/>
                  </a:lnTo>
                  <a:lnTo>
                    <a:pt x="5534" y="2274"/>
                  </a:lnTo>
                  <a:lnTo>
                    <a:pt x="5540" y="2375"/>
                  </a:lnTo>
                  <a:lnTo>
                    <a:pt x="5542" y="2477"/>
                  </a:lnTo>
                  <a:lnTo>
                    <a:pt x="5540" y="2578"/>
                  </a:lnTo>
                  <a:lnTo>
                    <a:pt x="5534" y="2679"/>
                  </a:lnTo>
                  <a:lnTo>
                    <a:pt x="5524" y="2779"/>
                  </a:lnTo>
                  <a:lnTo>
                    <a:pt x="5513" y="2877"/>
                  </a:lnTo>
                  <a:lnTo>
                    <a:pt x="5496" y="2976"/>
                  </a:lnTo>
                  <a:lnTo>
                    <a:pt x="5477" y="3072"/>
                  </a:lnTo>
                  <a:lnTo>
                    <a:pt x="5454" y="3167"/>
                  </a:lnTo>
                  <a:lnTo>
                    <a:pt x="5428" y="3261"/>
                  </a:lnTo>
                  <a:lnTo>
                    <a:pt x="5398" y="3354"/>
                  </a:lnTo>
                  <a:lnTo>
                    <a:pt x="5366" y="3444"/>
                  </a:lnTo>
                  <a:lnTo>
                    <a:pt x="5330" y="3534"/>
                  </a:lnTo>
                  <a:lnTo>
                    <a:pt x="5292" y="3621"/>
                  </a:lnTo>
                  <a:lnTo>
                    <a:pt x="5250" y="3708"/>
                  </a:lnTo>
                  <a:lnTo>
                    <a:pt x="5206" y="3793"/>
                  </a:lnTo>
                  <a:lnTo>
                    <a:pt x="5159" y="3875"/>
                  </a:lnTo>
                  <a:lnTo>
                    <a:pt x="5108" y="3956"/>
                  </a:lnTo>
                  <a:lnTo>
                    <a:pt x="5057" y="4036"/>
                  </a:lnTo>
                  <a:lnTo>
                    <a:pt x="5000" y="4113"/>
                  </a:lnTo>
                  <a:lnTo>
                    <a:pt x="4943" y="4188"/>
                  </a:lnTo>
                  <a:lnTo>
                    <a:pt x="4883" y="4261"/>
                  </a:lnTo>
                  <a:lnTo>
                    <a:pt x="4820" y="4332"/>
                  </a:lnTo>
                  <a:lnTo>
                    <a:pt x="4755" y="4401"/>
                  </a:lnTo>
                  <a:lnTo>
                    <a:pt x="4687" y="4467"/>
                  </a:lnTo>
                  <a:lnTo>
                    <a:pt x="4618" y="4532"/>
                  </a:lnTo>
                  <a:lnTo>
                    <a:pt x="4545" y="4593"/>
                  </a:lnTo>
                  <a:lnTo>
                    <a:pt x="4471" y="4653"/>
                  </a:lnTo>
                  <a:lnTo>
                    <a:pt x="4395" y="4709"/>
                  </a:lnTo>
                  <a:lnTo>
                    <a:pt x="4317" y="4763"/>
                  </a:lnTo>
                  <a:lnTo>
                    <a:pt x="4237" y="4815"/>
                  </a:lnTo>
                  <a:lnTo>
                    <a:pt x="4155" y="4863"/>
                  </a:lnTo>
                  <a:lnTo>
                    <a:pt x="4071" y="4910"/>
                  </a:lnTo>
                  <a:lnTo>
                    <a:pt x="3986" y="4953"/>
                  </a:lnTo>
                  <a:lnTo>
                    <a:pt x="4003" y="4951"/>
                  </a:lnTo>
                  <a:lnTo>
                    <a:pt x="4019" y="4948"/>
                  </a:lnTo>
                  <a:lnTo>
                    <a:pt x="4035" y="4946"/>
                  </a:lnTo>
                  <a:lnTo>
                    <a:pt x="4052" y="4943"/>
                  </a:lnTo>
                  <a:lnTo>
                    <a:pt x="4068" y="4940"/>
                  </a:lnTo>
                  <a:lnTo>
                    <a:pt x="4084" y="4938"/>
                  </a:lnTo>
                  <a:lnTo>
                    <a:pt x="4100" y="4936"/>
                  </a:lnTo>
                  <a:lnTo>
                    <a:pt x="4116" y="4933"/>
                  </a:lnTo>
                  <a:lnTo>
                    <a:pt x="4198" y="4887"/>
                  </a:lnTo>
                  <a:lnTo>
                    <a:pt x="4277" y="4839"/>
                  </a:lnTo>
                  <a:lnTo>
                    <a:pt x="4355" y="4788"/>
                  </a:lnTo>
                  <a:lnTo>
                    <a:pt x="4431" y="4735"/>
                  </a:lnTo>
                  <a:lnTo>
                    <a:pt x="4504" y="4680"/>
                  </a:lnTo>
                  <a:lnTo>
                    <a:pt x="4577" y="4622"/>
                  </a:lnTo>
                  <a:lnTo>
                    <a:pt x="4646" y="4561"/>
                  </a:lnTo>
                  <a:lnTo>
                    <a:pt x="4714" y="4500"/>
                  </a:lnTo>
                  <a:lnTo>
                    <a:pt x="4780" y="4435"/>
                  </a:lnTo>
                  <a:lnTo>
                    <a:pt x="4844" y="4368"/>
                  </a:lnTo>
                  <a:lnTo>
                    <a:pt x="4905" y="4299"/>
                  </a:lnTo>
                  <a:lnTo>
                    <a:pt x="4965" y="4228"/>
                  </a:lnTo>
                  <a:lnTo>
                    <a:pt x="5021" y="4155"/>
                  </a:lnTo>
                  <a:lnTo>
                    <a:pt x="5076" y="4080"/>
                  </a:lnTo>
                  <a:lnTo>
                    <a:pt x="5128" y="4004"/>
                  </a:lnTo>
                  <a:lnTo>
                    <a:pt x="5178" y="3926"/>
                  </a:lnTo>
                  <a:lnTo>
                    <a:pt x="5224" y="3846"/>
                  </a:lnTo>
                  <a:lnTo>
                    <a:pt x="5268" y="3764"/>
                  </a:lnTo>
                  <a:lnTo>
                    <a:pt x="5310" y="3681"/>
                  </a:lnTo>
                  <a:lnTo>
                    <a:pt x="5349" y="3596"/>
                  </a:lnTo>
                  <a:lnTo>
                    <a:pt x="5385" y="3509"/>
                  </a:lnTo>
                  <a:lnTo>
                    <a:pt x="5419" y="3422"/>
                  </a:lnTo>
                  <a:lnTo>
                    <a:pt x="5449" y="3332"/>
                  </a:lnTo>
                  <a:lnTo>
                    <a:pt x="5477" y="3241"/>
                  </a:lnTo>
                  <a:lnTo>
                    <a:pt x="5501" y="3150"/>
                  </a:lnTo>
                  <a:lnTo>
                    <a:pt x="5522" y="3057"/>
                  </a:lnTo>
                  <a:lnTo>
                    <a:pt x="5541" y="2963"/>
                  </a:lnTo>
                  <a:lnTo>
                    <a:pt x="5556" y="2868"/>
                  </a:lnTo>
                  <a:lnTo>
                    <a:pt x="5568" y="2772"/>
                  </a:lnTo>
                  <a:lnTo>
                    <a:pt x="5576" y="2673"/>
                  </a:lnTo>
                  <a:lnTo>
                    <a:pt x="5582" y="2576"/>
                  </a:lnTo>
                  <a:lnTo>
                    <a:pt x="5583" y="2477"/>
                  </a:lnTo>
                  <a:close/>
                  <a:moveTo>
                    <a:pt x="1466" y="20"/>
                  </a:moveTo>
                  <a:lnTo>
                    <a:pt x="1385" y="66"/>
                  </a:lnTo>
                  <a:lnTo>
                    <a:pt x="1305" y="114"/>
                  </a:lnTo>
                  <a:lnTo>
                    <a:pt x="1227" y="164"/>
                  </a:lnTo>
                  <a:lnTo>
                    <a:pt x="1151" y="217"/>
                  </a:lnTo>
                  <a:lnTo>
                    <a:pt x="1078" y="273"/>
                  </a:lnTo>
                  <a:lnTo>
                    <a:pt x="1006" y="331"/>
                  </a:lnTo>
                  <a:lnTo>
                    <a:pt x="936" y="391"/>
                  </a:lnTo>
                  <a:lnTo>
                    <a:pt x="868" y="454"/>
                  </a:lnTo>
                  <a:lnTo>
                    <a:pt x="802" y="519"/>
                  </a:lnTo>
                  <a:lnTo>
                    <a:pt x="739" y="586"/>
                  </a:lnTo>
                  <a:lnTo>
                    <a:pt x="677" y="654"/>
                  </a:lnTo>
                  <a:lnTo>
                    <a:pt x="618" y="725"/>
                  </a:lnTo>
                  <a:lnTo>
                    <a:pt x="561" y="797"/>
                  </a:lnTo>
                  <a:lnTo>
                    <a:pt x="506" y="872"/>
                  </a:lnTo>
                  <a:lnTo>
                    <a:pt x="455" y="948"/>
                  </a:lnTo>
                  <a:lnTo>
                    <a:pt x="405" y="1027"/>
                  </a:lnTo>
                  <a:lnTo>
                    <a:pt x="358" y="1107"/>
                  </a:lnTo>
                  <a:lnTo>
                    <a:pt x="314" y="1189"/>
                  </a:lnTo>
                  <a:lnTo>
                    <a:pt x="272" y="1272"/>
                  </a:lnTo>
                  <a:lnTo>
                    <a:pt x="233" y="1357"/>
                  </a:lnTo>
                  <a:lnTo>
                    <a:pt x="197" y="1443"/>
                  </a:lnTo>
                  <a:lnTo>
                    <a:pt x="164" y="1532"/>
                  </a:lnTo>
                  <a:lnTo>
                    <a:pt x="134" y="1620"/>
                  </a:lnTo>
                  <a:lnTo>
                    <a:pt x="106" y="1711"/>
                  </a:lnTo>
                  <a:lnTo>
                    <a:pt x="82" y="1803"/>
                  </a:lnTo>
                  <a:lnTo>
                    <a:pt x="60" y="1896"/>
                  </a:lnTo>
                  <a:lnTo>
                    <a:pt x="42" y="1991"/>
                  </a:lnTo>
                  <a:lnTo>
                    <a:pt x="27" y="2086"/>
                  </a:lnTo>
                  <a:lnTo>
                    <a:pt x="15" y="2182"/>
                  </a:lnTo>
                  <a:lnTo>
                    <a:pt x="6" y="2279"/>
                  </a:lnTo>
                  <a:lnTo>
                    <a:pt x="1" y="2377"/>
                  </a:lnTo>
                  <a:lnTo>
                    <a:pt x="0" y="2477"/>
                  </a:lnTo>
                  <a:lnTo>
                    <a:pt x="1" y="2576"/>
                  </a:lnTo>
                  <a:lnTo>
                    <a:pt x="6" y="2673"/>
                  </a:lnTo>
                  <a:lnTo>
                    <a:pt x="15" y="2772"/>
                  </a:lnTo>
                  <a:lnTo>
                    <a:pt x="27" y="2868"/>
                  </a:lnTo>
                  <a:lnTo>
                    <a:pt x="42" y="2963"/>
                  </a:lnTo>
                  <a:lnTo>
                    <a:pt x="60" y="3057"/>
                  </a:lnTo>
                  <a:lnTo>
                    <a:pt x="82" y="3150"/>
                  </a:lnTo>
                  <a:lnTo>
                    <a:pt x="106" y="3241"/>
                  </a:lnTo>
                  <a:lnTo>
                    <a:pt x="134" y="3332"/>
                  </a:lnTo>
                  <a:lnTo>
                    <a:pt x="164" y="3422"/>
                  </a:lnTo>
                  <a:lnTo>
                    <a:pt x="197" y="3509"/>
                  </a:lnTo>
                  <a:lnTo>
                    <a:pt x="233" y="3596"/>
                  </a:lnTo>
                  <a:lnTo>
                    <a:pt x="272" y="3681"/>
                  </a:lnTo>
                  <a:lnTo>
                    <a:pt x="314" y="3764"/>
                  </a:lnTo>
                  <a:lnTo>
                    <a:pt x="358" y="3846"/>
                  </a:lnTo>
                  <a:lnTo>
                    <a:pt x="405" y="3926"/>
                  </a:lnTo>
                  <a:lnTo>
                    <a:pt x="455" y="4004"/>
                  </a:lnTo>
                  <a:lnTo>
                    <a:pt x="506" y="4080"/>
                  </a:lnTo>
                  <a:lnTo>
                    <a:pt x="561" y="4155"/>
                  </a:lnTo>
                  <a:lnTo>
                    <a:pt x="618" y="4228"/>
                  </a:lnTo>
                  <a:lnTo>
                    <a:pt x="677" y="4299"/>
                  </a:lnTo>
                  <a:lnTo>
                    <a:pt x="739" y="4368"/>
                  </a:lnTo>
                  <a:lnTo>
                    <a:pt x="802" y="4435"/>
                  </a:lnTo>
                  <a:lnTo>
                    <a:pt x="868" y="4500"/>
                  </a:lnTo>
                  <a:lnTo>
                    <a:pt x="936" y="4561"/>
                  </a:lnTo>
                  <a:lnTo>
                    <a:pt x="1006" y="4622"/>
                  </a:lnTo>
                  <a:lnTo>
                    <a:pt x="1078" y="4680"/>
                  </a:lnTo>
                  <a:lnTo>
                    <a:pt x="1151" y="4735"/>
                  </a:lnTo>
                  <a:lnTo>
                    <a:pt x="1227" y="4788"/>
                  </a:lnTo>
                  <a:lnTo>
                    <a:pt x="1305" y="4839"/>
                  </a:lnTo>
                  <a:lnTo>
                    <a:pt x="1385" y="4887"/>
                  </a:lnTo>
                  <a:lnTo>
                    <a:pt x="1466" y="4933"/>
                  </a:lnTo>
                  <a:lnTo>
                    <a:pt x="1482" y="4936"/>
                  </a:lnTo>
                  <a:lnTo>
                    <a:pt x="1498" y="4938"/>
                  </a:lnTo>
                  <a:lnTo>
                    <a:pt x="1515" y="4940"/>
                  </a:lnTo>
                  <a:lnTo>
                    <a:pt x="1531" y="4943"/>
                  </a:lnTo>
                  <a:lnTo>
                    <a:pt x="1547" y="4946"/>
                  </a:lnTo>
                  <a:lnTo>
                    <a:pt x="1563" y="4948"/>
                  </a:lnTo>
                  <a:lnTo>
                    <a:pt x="1579" y="4951"/>
                  </a:lnTo>
                  <a:lnTo>
                    <a:pt x="1597" y="4953"/>
                  </a:lnTo>
                  <a:lnTo>
                    <a:pt x="1511" y="4910"/>
                  </a:lnTo>
                  <a:lnTo>
                    <a:pt x="1427" y="4863"/>
                  </a:lnTo>
                  <a:lnTo>
                    <a:pt x="1345" y="4815"/>
                  </a:lnTo>
                  <a:lnTo>
                    <a:pt x="1265" y="4763"/>
                  </a:lnTo>
                  <a:lnTo>
                    <a:pt x="1187" y="4709"/>
                  </a:lnTo>
                  <a:lnTo>
                    <a:pt x="1111" y="4653"/>
                  </a:lnTo>
                  <a:lnTo>
                    <a:pt x="1037" y="4593"/>
                  </a:lnTo>
                  <a:lnTo>
                    <a:pt x="965" y="4532"/>
                  </a:lnTo>
                  <a:lnTo>
                    <a:pt x="895" y="4467"/>
                  </a:lnTo>
                  <a:lnTo>
                    <a:pt x="827" y="4401"/>
                  </a:lnTo>
                  <a:lnTo>
                    <a:pt x="762" y="4332"/>
                  </a:lnTo>
                  <a:lnTo>
                    <a:pt x="700" y="4261"/>
                  </a:lnTo>
                  <a:lnTo>
                    <a:pt x="639" y="4188"/>
                  </a:lnTo>
                  <a:lnTo>
                    <a:pt x="582" y="4113"/>
                  </a:lnTo>
                  <a:lnTo>
                    <a:pt x="526" y="4036"/>
                  </a:lnTo>
                  <a:lnTo>
                    <a:pt x="474" y="3956"/>
                  </a:lnTo>
                  <a:lnTo>
                    <a:pt x="423" y="3875"/>
                  </a:lnTo>
                  <a:lnTo>
                    <a:pt x="377" y="3793"/>
                  </a:lnTo>
                  <a:lnTo>
                    <a:pt x="332" y="3708"/>
                  </a:lnTo>
                  <a:lnTo>
                    <a:pt x="290" y="3621"/>
                  </a:lnTo>
                  <a:lnTo>
                    <a:pt x="251" y="3534"/>
                  </a:lnTo>
                  <a:lnTo>
                    <a:pt x="217" y="3444"/>
                  </a:lnTo>
                  <a:lnTo>
                    <a:pt x="184" y="3354"/>
                  </a:lnTo>
                  <a:lnTo>
                    <a:pt x="154" y="3261"/>
                  </a:lnTo>
                  <a:lnTo>
                    <a:pt x="128" y="3167"/>
                  </a:lnTo>
                  <a:lnTo>
                    <a:pt x="106" y="3072"/>
                  </a:lnTo>
                  <a:lnTo>
                    <a:pt x="86" y="2976"/>
                  </a:lnTo>
                  <a:lnTo>
                    <a:pt x="70" y="2877"/>
                  </a:lnTo>
                  <a:lnTo>
                    <a:pt x="58" y="2779"/>
                  </a:lnTo>
                  <a:lnTo>
                    <a:pt x="48" y="2679"/>
                  </a:lnTo>
                  <a:lnTo>
                    <a:pt x="43" y="2578"/>
                  </a:lnTo>
                  <a:lnTo>
                    <a:pt x="41" y="2477"/>
                  </a:lnTo>
                  <a:lnTo>
                    <a:pt x="43" y="2375"/>
                  </a:lnTo>
                  <a:lnTo>
                    <a:pt x="48" y="2274"/>
                  </a:lnTo>
                  <a:lnTo>
                    <a:pt x="58" y="2174"/>
                  </a:lnTo>
                  <a:lnTo>
                    <a:pt x="70" y="2075"/>
                  </a:lnTo>
                  <a:lnTo>
                    <a:pt x="86" y="1978"/>
                  </a:lnTo>
                  <a:lnTo>
                    <a:pt x="106" y="1882"/>
                  </a:lnTo>
                  <a:lnTo>
                    <a:pt x="128" y="1785"/>
                  </a:lnTo>
                  <a:lnTo>
                    <a:pt x="154" y="1693"/>
                  </a:lnTo>
                  <a:lnTo>
                    <a:pt x="184" y="1600"/>
                  </a:lnTo>
                  <a:lnTo>
                    <a:pt x="217" y="1509"/>
                  </a:lnTo>
                  <a:lnTo>
                    <a:pt x="251" y="1419"/>
                  </a:lnTo>
                  <a:lnTo>
                    <a:pt x="290" y="1331"/>
                  </a:lnTo>
                  <a:lnTo>
                    <a:pt x="332" y="1244"/>
                  </a:lnTo>
                  <a:lnTo>
                    <a:pt x="377" y="1160"/>
                  </a:lnTo>
                  <a:lnTo>
                    <a:pt x="423" y="1077"/>
                  </a:lnTo>
                  <a:lnTo>
                    <a:pt x="474" y="996"/>
                  </a:lnTo>
                  <a:lnTo>
                    <a:pt x="526" y="917"/>
                  </a:lnTo>
                  <a:lnTo>
                    <a:pt x="582" y="839"/>
                  </a:lnTo>
                  <a:lnTo>
                    <a:pt x="639" y="765"/>
                  </a:lnTo>
                  <a:lnTo>
                    <a:pt x="700" y="691"/>
                  </a:lnTo>
                  <a:lnTo>
                    <a:pt x="762" y="620"/>
                  </a:lnTo>
                  <a:lnTo>
                    <a:pt x="827" y="552"/>
                  </a:lnTo>
                  <a:lnTo>
                    <a:pt x="895" y="485"/>
                  </a:lnTo>
                  <a:lnTo>
                    <a:pt x="965" y="421"/>
                  </a:lnTo>
                  <a:lnTo>
                    <a:pt x="1037" y="360"/>
                  </a:lnTo>
                  <a:lnTo>
                    <a:pt x="1111" y="300"/>
                  </a:lnTo>
                  <a:lnTo>
                    <a:pt x="1187" y="243"/>
                  </a:lnTo>
                  <a:lnTo>
                    <a:pt x="1265" y="189"/>
                  </a:lnTo>
                  <a:lnTo>
                    <a:pt x="1345" y="137"/>
                  </a:lnTo>
                  <a:lnTo>
                    <a:pt x="1427" y="89"/>
                  </a:lnTo>
                  <a:lnTo>
                    <a:pt x="1511" y="43"/>
                  </a:lnTo>
                  <a:lnTo>
                    <a:pt x="1597" y="0"/>
                  </a:lnTo>
                  <a:lnTo>
                    <a:pt x="1579" y="2"/>
                  </a:lnTo>
                  <a:lnTo>
                    <a:pt x="1563" y="5"/>
                  </a:lnTo>
                  <a:lnTo>
                    <a:pt x="1547" y="8"/>
                  </a:lnTo>
                  <a:lnTo>
                    <a:pt x="1531" y="10"/>
                  </a:lnTo>
                  <a:lnTo>
                    <a:pt x="1515" y="12"/>
                  </a:lnTo>
                  <a:lnTo>
                    <a:pt x="1498" y="15"/>
                  </a:lnTo>
                  <a:lnTo>
                    <a:pt x="1482" y="18"/>
                  </a:lnTo>
                  <a:lnTo>
                    <a:pt x="146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75080" y="2011320"/>
              <a:ext cx="2198520" cy="1973160"/>
            </a:xfrm>
            <a:custGeom>
              <a:avLst/>
              <a:gdLst/>
              <a:ahLst/>
              <a:rect l="l" t="t" r="r" b="b"/>
              <a:pathLst>
                <a:path w="5542" h="4972">
                  <a:moveTo>
                    <a:pt x="5542" y="2486"/>
                  </a:moveTo>
                  <a:lnTo>
                    <a:pt x="5540" y="2385"/>
                  </a:lnTo>
                  <a:lnTo>
                    <a:pt x="5535" y="2286"/>
                  </a:lnTo>
                  <a:lnTo>
                    <a:pt x="5526" y="2187"/>
                  </a:lnTo>
                  <a:lnTo>
                    <a:pt x="5514" y="2089"/>
                  </a:lnTo>
                  <a:lnTo>
                    <a:pt x="5498" y="1993"/>
                  </a:lnTo>
                  <a:lnTo>
                    <a:pt x="5480" y="1898"/>
                  </a:lnTo>
                  <a:lnTo>
                    <a:pt x="5458" y="1804"/>
                  </a:lnTo>
                  <a:lnTo>
                    <a:pt x="5432" y="1711"/>
                  </a:lnTo>
                  <a:lnTo>
                    <a:pt x="5404" y="1620"/>
                  </a:lnTo>
                  <a:lnTo>
                    <a:pt x="5373" y="1529"/>
                  </a:lnTo>
                  <a:lnTo>
                    <a:pt x="5338" y="1440"/>
                  </a:lnTo>
                  <a:lnTo>
                    <a:pt x="5301" y="1354"/>
                  </a:lnTo>
                  <a:lnTo>
                    <a:pt x="5260" y="1267"/>
                  </a:lnTo>
                  <a:lnTo>
                    <a:pt x="5218" y="1184"/>
                  </a:lnTo>
                  <a:lnTo>
                    <a:pt x="5172" y="1101"/>
                  </a:lnTo>
                  <a:lnTo>
                    <a:pt x="5123" y="1021"/>
                  </a:lnTo>
                  <a:lnTo>
                    <a:pt x="5072" y="942"/>
                  </a:lnTo>
                  <a:lnTo>
                    <a:pt x="5019" y="866"/>
                  </a:lnTo>
                  <a:lnTo>
                    <a:pt x="4963" y="790"/>
                  </a:lnTo>
                  <a:lnTo>
                    <a:pt x="4904" y="718"/>
                  </a:lnTo>
                  <a:lnTo>
                    <a:pt x="4843" y="646"/>
                  </a:lnTo>
                  <a:lnTo>
                    <a:pt x="4779" y="577"/>
                  </a:lnTo>
                  <a:lnTo>
                    <a:pt x="4715" y="511"/>
                  </a:lnTo>
                  <a:lnTo>
                    <a:pt x="4646" y="447"/>
                  </a:lnTo>
                  <a:lnTo>
                    <a:pt x="4576" y="385"/>
                  </a:lnTo>
                  <a:lnTo>
                    <a:pt x="4505" y="325"/>
                  </a:lnTo>
                  <a:lnTo>
                    <a:pt x="4430" y="267"/>
                  </a:lnTo>
                  <a:lnTo>
                    <a:pt x="4355" y="212"/>
                  </a:lnTo>
                  <a:lnTo>
                    <a:pt x="4277" y="160"/>
                  </a:lnTo>
                  <a:lnTo>
                    <a:pt x="4197" y="111"/>
                  </a:lnTo>
                  <a:lnTo>
                    <a:pt x="4116" y="63"/>
                  </a:lnTo>
                  <a:lnTo>
                    <a:pt x="4033" y="19"/>
                  </a:lnTo>
                  <a:lnTo>
                    <a:pt x="4015" y="17"/>
                  </a:lnTo>
                  <a:lnTo>
                    <a:pt x="3999" y="14"/>
                  </a:lnTo>
                  <a:lnTo>
                    <a:pt x="3982" y="11"/>
                  </a:lnTo>
                  <a:lnTo>
                    <a:pt x="3965" y="9"/>
                  </a:lnTo>
                  <a:lnTo>
                    <a:pt x="3947" y="6"/>
                  </a:lnTo>
                  <a:lnTo>
                    <a:pt x="3930" y="4"/>
                  </a:lnTo>
                  <a:lnTo>
                    <a:pt x="3913" y="2"/>
                  </a:lnTo>
                  <a:lnTo>
                    <a:pt x="3895" y="0"/>
                  </a:lnTo>
                  <a:lnTo>
                    <a:pt x="3984" y="41"/>
                  </a:lnTo>
                  <a:lnTo>
                    <a:pt x="4069" y="86"/>
                  </a:lnTo>
                  <a:lnTo>
                    <a:pt x="4154" y="133"/>
                  </a:lnTo>
                  <a:lnTo>
                    <a:pt x="4237" y="183"/>
                  </a:lnTo>
                  <a:lnTo>
                    <a:pt x="4317" y="237"/>
                  </a:lnTo>
                  <a:lnTo>
                    <a:pt x="4396" y="293"/>
                  </a:lnTo>
                  <a:lnTo>
                    <a:pt x="4471" y="352"/>
                  </a:lnTo>
                  <a:lnTo>
                    <a:pt x="4546" y="413"/>
                  </a:lnTo>
                  <a:lnTo>
                    <a:pt x="4617" y="477"/>
                  </a:lnTo>
                  <a:lnTo>
                    <a:pt x="4688" y="543"/>
                  </a:lnTo>
                  <a:lnTo>
                    <a:pt x="4755" y="612"/>
                  </a:lnTo>
                  <a:lnTo>
                    <a:pt x="4819" y="682"/>
                  </a:lnTo>
                  <a:lnTo>
                    <a:pt x="4882" y="756"/>
                  </a:lnTo>
                  <a:lnTo>
                    <a:pt x="4941" y="831"/>
                  </a:lnTo>
                  <a:lnTo>
                    <a:pt x="4999" y="909"/>
                  </a:lnTo>
                  <a:lnTo>
                    <a:pt x="5053" y="988"/>
                  </a:lnTo>
                  <a:lnTo>
                    <a:pt x="5105" y="1070"/>
                  </a:lnTo>
                  <a:lnTo>
                    <a:pt x="5153" y="1153"/>
                  </a:lnTo>
                  <a:lnTo>
                    <a:pt x="5200" y="1238"/>
                  </a:lnTo>
                  <a:lnTo>
                    <a:pt x="5242" y="1326"/>
                  </a:lnTo>
                  <a:lnTo>
                    <a:pt x="5282" y="1414"/>
                  </a:lnTo>
                  <a:lnTo>
                    <a:pt x="5319" y="1505"/>
                  </a:lnTo>
                  <a:lnTo>
                    <a:pt x="5352" y="1597"/>
                  </a:lnTo>
                  <a:lnTo>
                    <a:pt x="5382" y="1691"/>
                  </a:lnTo>
                  <a:lnTo>
                    <a:pt x="5409" y="1786"/>
                  </a:lnTo>
                  <a:lnTo>
                    <a:pt x="5433" y="1882"/>
                  </a:lnTo>
                  <a:lnTo>
                    <a:pt x="5454" y="1980"/>
                  </a:lnTo>
                  <a:lnTo>
                    <a:pt x="5470" y="2079"/>
                  </a:lnTo>
                  <a:lnTo>
                    <a:pt x="5484" y="2179"/>
                  </a:lnTo>
                  <a:lnTo>
                    <a:pt x="5493" y="2280"/>
                  </a:lnTo>
                  <a:lnTo>
                    <a:pt x="5499" y="2382"/>
                  </a:lnTo>
                  <a:lnTo>
                    <a:pt x="5500" y="2486"/>
                  </a:lnTo>
                  <a:lnTo>
                    <a:pt x="5499" y="2588"/>
                  </a:lnTo>
                  <a:lnTo>
                    <a:pt x="5493" y="2691"/>
                  </a:lnTo>
                  <a:lnTo>
                    <a:pt x="5484" y="2792"/>
                  </a:lnTo>
                  <a:lnTo>
                    <a:pt x="5470" y="2892"/>
                  </a:lnTo>
                  <a:lnTo>
                    <a:pt x="5454" y="2991"/>
                  </a:lnTo>
                  <a:lnTo>
                    <a:pt x="5433" y="3088"/>
                  </a:lnTo>
                  <a:lnTo>
                    <a:pt x="5409" y="3186"/>
                  </a:lnTo>
                  <a:lnTo>
                    <a:pt x="5382" y="3281"/>
                  </a:lnTo>
                  <a:lnTo>
                    <a:pt x="5352" y="3373"/>
                  </a:lnTo>
                  <a:lnTo>
                    <a:pt x="5319" y="3465"/>
                  </a:lnTo>
                  <a:lnTo>
                    <a:pt x="5282" y="3556"/>
                  </a:lnTo>
                  <a:lnTo>
                    <a:pt x="5242" y="3645"/>
                  </a:lnTo>
                  <a:lnTo>
                    <a:pt x="5200" y="3732"/>
                  </a:lnTo>
                  <a:lnTo>
                    <a:pt x="5153" y="3817"/>
                  </a:lnTo>
                  <a:lnTo>
                    <a:pt x="5105" y="3900"/>
                  </a:lnTo>
                  <a:lnTo>
                    <a:pt x="5053" y="3983"/>
                  </a:lnTo>
                  <a:lnTo>
                    <a:pt x="4999" y="4062"/>
                  </a:lnTo>
                  <a:lnTo>
                    <a:pt x="4941" y="4139"/>
                  </a:lnTo>
                  <a:lnTo>
                    <a:pt x="4882" y="4215"/>
                  </a:lnTo>
                  <a:lnTo>
                    <a:pt x="4819" y="4288"/>
                  </a:lnTo>
                  <a:lnTo>
                    <a:pt x="4755" y="4359"/>
                  </a:lnTo>
                  <a:lnTo>
                    <a:pt x="4688" y="4428"/>
                  </a:lnTo>
                  <a:lnTo>
                    <a:pt x="4617" y="4494"/>
                  </a:lnTo>
                  <a:lnTo>
                    <a:pt x="4546" y="4558"/>
                  </a:lnTo>
                  <a:lnTo>
                    <a:pt x="4471" y="4620"/>
                  </a:lnTo>
                  <a:lnTo>
                    <a:pt x="4396" y="4678"/>
                  </a:lnTo>
                  <a:lnTo>
                    <a:pt x="4317" y="4734"/>
                  </a:lnTo>
                  <a:lnTo>
                    <a:pt x="4237" y="4787"/>
                  </a:lnTo>
                  <a:lnTo>
                    <a:pt x="4154" y="4838"/>
                  </a:lnTo>
                  <a:lnTo>
                    <a:pt x="4069" y="4885"/>
                  </a:lnTo>
                  <a:lnTo>
                    <a:pt x="3984" y="4930"/>
                  </a:lnTo>
                  <a:lnTo>
                    <a:pt x="3895" y="4972"/>
                  </a:lnTo>
                  <a:lnTo>
                    <a:pt x="3913" y="4970"/>
                  </a:lnTo>
                  <a:lnTo>
                    <a:pt x="3930" y="4966"/>
                  </a:lnTo>
                  <a:lnTo>
                    <a:pt x="3947" y="4964"/>
                  </a:lnTo>
                  <a:lnTo>
                    <a:pt x="3965" y="4962"/>
                  </a:lnTo>
                  <a:lnTo>
                    <a:pt x="3982" y="4960"/>
                  </a:lnTo>
                  <a:lnTo>
                    <a:pt x="3999" y="4957"/>
                  </a:lnTo>
                  <a:lnTo>
                    <a:pt x="4015" y="4955"/>
                  </a:lnTo>
                  <a:lnTo>
                    <a:pt x="4033" y="4952"/>
                  </a:lnTo>
                  <a:lnTo>
                    <a:pt x="4116" y="4907"/>
                  </a:lnTo>
                  <a:lnTo>
                    <a:pt x="4197" y="4861"/>
                  </a:lnTo>
                  <a:lnTo>
                    <a:pt x="4277" y="4811"/>
                  </a:lnTo>
                  <a:lnTo>
                    <a:pt x="4355" y="4758"/>
                  </a:lnTo>
                  <a:lnTo>
                    <a:pt x="4430" y="4703"/>
                  </a:lnTo>
                  <a:lnTo>
                    <a:pt x="4505" y="4646"/>
                  </a:lnTo>
                  <a:lnTo>
                    <a:pt x="4577" y="4586"/>
                  </a:lnTo>
                  <a:lnTo>
                    <a:pt x="4646" y="4524"/>
                  </a:lnTo>
                  <a:lnTo>
                    <a:pt x="4715" y="4460"/>
                  </a:lnTo>
                  <a:lnTo>
                    <a:pt x="4779" y="4393"/>
                  </a:lnTo>
                  <a:lnTo>
                    <a:pt x="4843" y="4324"/>
                  </a:lnTo>
                  <a:lnTo>
                    <a:pt x="4904" y="4254"/>
                  </a:lnTo>
                  <a:lnTo>
                    <a:pt x="4963" y="4180"/>
                  </a:lnTo>
                  <a:lnTo>
                    <a:pt x="5019" y="4106"/>
                  </a:lnTo>
                  <a:lnTo>
                    <a:pt x="5072" y="4029"/>
                  </a:lnTo>
                  <a:lnTo>
                    <a:pt x="5123" y="3950"/>
                  </a:lnTo>
                  <a:lnTo>
                    <a:pt x="5172" y="3869"/>
                  </a:lnTo>
                  <a:lnTo>
                    <a:pt x="5218" y="3787"/>
                  </a:lnTo>
                  <a:lnTo>
                    <a:pt x="5260" y="3703"/>
                  </a:lnTo>
                  <a:lnTo>
                    <a:pt x="5301" y="3618"/>
                  </a:lnTo>
                  <a:lnTo>
                    <a:pt x="5338" y="3530"/>
                  </a:lnTo>
                  <a:lnTo>
                    <a:pt x="5373" y="3441"/>
                  </a:lnTo>
                  <a:lnTo>
                    <a:pt x="5404" y="3352"/>
                  </a:lnTo>
                  <a:lnTo>
                    <a:pt x="5432" y="3260"/>
                  </a:lnTo>
                  <a:lnTo>
                    <a:pt x="5458" y="3167"/>
                  </a:lnTo>
                  <a:lnTo>
                    <a:pt x="5480" y="3073"/>
                  </a:lnTo>
                  <a:lnTo>
                    <a:pt x="5498" y="2978"/>
                  </a:lnTo>
                  <a:lnTo>
                    <a:pt x="5514" y="2881"/>
                  </a:lnTo>
                  <a:lnTo>
                    <a:pt x="5526" y="2784"/>
                  </a:lnTo>
                  <a:lnTo>
                    <a:pt x="5535" y="2685"/>
                  </a:lnTo>
                  <a:lnTo>
                    <a:pt x="5540" y="2586"/>
                  </a:lnTo>
                  <a:lnTo>
                    <a:pt x="5542" y="2486"/>
                  </a:lnTo>
                  <a:close/>
                  <a:moveTo>
                    <a:pt x="1510" y="19"/>
                  </a:moveTo>
                  <a:lnTo>
                    <a:pt x="1426" y="63"/>
                  </a:lnTo>
                  <a:lnTo>
                    <a:pt x="1345" y="111"/>
                  </a:lnTo>
                  <a:lnTo>
                    <a:pt x="1265" y="160"/>
                  </a:lnTo>
                  <a:lnTo>
                    <a:pt x="1188" y="212"/>
                  </a:lnTo>
                  <a:lnTo>
                    <a:pt x="1112" y="267"/>
                  </a:lnTo>
                  <a:lnTo>
                    <a:pt x="1037" y="325"/>
                  </a:lnTo>
                  <a:lnTo>
                    <a:pt x="965" y="385"/>
                  </a:lnTo>
                  <a:lnTo>
                    <a:pt x="896" y="447"/>
                  </a:lnTo>
                  <a:lnTo>
                    <a:pt x="828" y="511"/>
                  </a:lnTo>
                  <a:lnTo>
                    <a:pt x="762" y="577"/>
                  </a:lnTo>
                  <a:lnTo>
                    <a:pt x="699" y="646"/>
                  </a:lnTo>
                  <a:lnTo>
                    <a:pt x="639" y="718"/>
                  </a:lnTo>
                  <a:lnTo>
                    <a:pt x="579" y="790"/>
                  </a:lnTo>
                  <a:lnTo>
                    <a:pt x="523" y="866"/>
                  </a:lnTo>
                  <a:lnTo>
                    <a:pt x="470" y="942"/>
                  </a:lnTo>
                  <a:lnTo>
                    <a:pt x="419" y="1021"/>
                  </a:lnTo>
                  <a:lnTo>
                    <a:pt x="371" y="1101"/>
                  </a:lnTo>
                  <a:lnTo>
                    <a:pt x="324" y="1184"/>
                  </a:lnTo>
                  <a:lnTo>
                    <a:pt x="282" y="1267"/>
                  </a:lnTo>
                  <a:lnTo>
                    <a:pt x="241" y="1354"/>
                  </a:lnTo>
                  <a:lnTo>
                    <a:pt x="204" y="1440"/>
                  </a:lnTo>
                  <a:lnTo>
                    <a:pt x="170" y="1529"/>
                  </a:lnTo>
                  <a:lnTo>
                    <a:pt x="138" y="1620"/>
                  </a:lnTo>
                  <a:lnTo>
                    <a:pt x="110" y="1711"/>
                  </a:lnTo>
                  <a:lnTo>
                    <a:pt x="84" y="1804"/>
                  </a:lnTo>
                  <a:lnTo>
                    <a:pt x="63" y="1898"/>
                  </a:lnTo>
                  <a:lnTo>
                    <a:pt x="43" y="1993"/>
                  </a:lnTo>
                  <a:lnTo>
                    <a:pt x="28" y="2089"/>
                  </a:lnTo>
                  <a:lnTo>
                    <a:pt x="16" y="2187"/>
                  </a:lnTo>
                  <a:lnTo>
                    <a:pt x="8" y="2286"/>
                  </a:lnTo>
                  <a:lnTo>
                    <a:pt x="2" y="2385"/>
                  </a:lnTo>
                  <a:lnTo>
                    <a:pt x="0" y="2486"/>
                  </a:lnTo>
                  <a:lnTo>
                    <a:pt x="2" y="2586"/>
                  </a:lnTo>
                  <a:lnTo>
                    <a:pt x="8" y="2685"/>
                  </a:lnTo>
                  <a:lnTo>
                    <a:pt x="16" y="2784"/>
                  </a:lnTo>
                  <a:lnTo>
                    <a:pt x="28" y="2881"/>
                  </a:lnTo>
                  <a:lnTo>
                    <a:pt x="43" y="2978"/>
                  </a:lnTo>
                  <a:lnTo>
                    <a:pt x="63" y="3073"/>
                  </a:lnTo>
                  <a:lnTo>
                    <a:pt x="84" y="3167"/>
                  </a:lnTo>
                  <a:lnTo>
                    <a:pt x="110" y="3260"/>
                  </a:lnTo>
                  <a:lnTo>
                    <a:pt x="138" y="3352"/>
                  </a:lnTo>
                  <a:lnTo>
                    <a:pt x="170" y="3441"/>
                  </a:lnTo>
                  <a:lnTo>
                    <a:pt x="204" y="3530"/>
                  </a:lnTo>
                  <a:lnTo>
                    <a:pt x="241" y="3618"/>
                  </a:lnTo>
                  <a:lnTo>
                    <a:pt x="282" y="3703"/>
                  </a:lnTo>
                  <a:lnTo>
                    <a:pt x="324" y="3787"/>
                  </a:lnTo>
                  <a:lnTo>
                    <a:pt x="371" y="3869"/>
                  </a:lnTo>
                  <a:lnTo>
                    <a:pt x="419" y="3950"/>
                  </a:lnTo>
                  <a:lnTo>
                    <a:pt x="470" y="4029"/>
                  </a:lnTo>
                  <a:lnTo>
                    <a:pt x="523" y="4106"/>
                  </a:lnTo>
                  <a:lnTo>
                    <a:pt x="579" y="4180"/>
                  </a:lnTo>
                  <a:lnTo>
                    <a:pt x="638" y="4254"/>
                  </a:lnTo>
                  <a:lnTo>
                    <a:pt x="699" y="4324"/>
                  </a:lnTo>
                  <a:lnTo>
                    <a:pt x="762" y="4393"/>
                  </a:lnTo>
                  <a:lnTo>
                    <a:pt x="828" y="4460"/>
                  </a:lnTo>
                  <a:lnTo>
                    <a:pt x="896" y="4524"/>
                  </a:lnTo>
                  <a:lnTo>
                    <a:pt x="965" y="4586"/>
                  </a:lnTo>
                  <a:lnTo>
                    <a:pt x="1037" y="4646"/>
                  </a:lnTo>
                  <a:lnTo>
                    <a:pt x="1111" y="4703"/>
                  </a:lnTo>
                  <a:lnTo>
                    <a:pt x="1188" y="4758"/>
                  </a:lnTo>
                  <a:lnTo>
                    <a:pt x="1265" y="4811"/>
                  </a:lnTo>
                  <a:lnTo>
                    <a:pt x="1345" y="4861"/>
                  </a:lnTo>
                  <a:lnTo>
                    <a:pt x="1426" y="4907"/>
                  </a:lnTo>
                  <a:lnTo>
                    <a:pt x="1510" y="4952"/>
                  </a:lnTo>
                  <a:lnTo>
                    <a:pt x="1527" y="4955"/>
                  </a:lnTo>
                  <a:lnTo>
                    <a:pt x="1543" y="4957"/>
                  </a:lnTo>
                  <a:lnTo>
                    <a:pt x="1560" y="4960"/>
                  </a:lnTo>
                  <a:lnTo>
                    <a:pt x="1578" y="4962"/>
                  </a:lnTo>
                  <a:lnTo>
                    <a:pt x="1595" y="4964"/>
                  </a:lnTo>
                  <a:lnTo>
                    <a:pt x="1612" y="4966"/>
                  </a:lnTo>
                  <a:lnTo>
                    <a:pt x="1630" y="4970"/>
                  </a:lnTo>
                  <a:lnTo>
                    <a:pt x="1647" y="4972"/>
                  </a:lnTo>
                  <a:lnTo>
                    <a:pt x="1558" y="4930"/>
                  </a:lnTo>
                  <a:lnTo>
                    <a:pt x="1473" y="4885"/>
                  </a:lnTo>
                  <a:lnTo>
                    <a:pt x="1389" y="4838"/>
                  </a:lnTo>
                  <a:lnTo>
                    <a:pt x="1305" y="4787"/>
                  </a:lnTo>
                  <a:lnTo>
                    <a:pt x="1225" y="4734"/>
                  </a:lnTo>
                  <a:lnTo>
                    <a:pt x="1147" y="4678"/>
                  </a:lnTo>
                  <a:lnTo>
                    <a:pt x="1071" y="4620"/>
                  </a:lnTo>
                  <a:lnTo>
                    <a:pt x="996" y="4558"/>
                  </a:lnTo>
                  <a:lnTo>
                    <a:pt x="925" y="4494"/>
                  </a:lnTo>
                  <a:lnTo>
                    <a:pt x="855" y="4428"/>
                  </a:lnTo>
                  <a:lnTo>
                    <a:pt x="788" y="4359"/>
                  </a:lnTo>
                  <a:lnTo>
                    <a:pt x="723" y="4288"/>
                  </a:lnTo>
                  <a:lnTo>
                    <a:pt x="660" y="4215"/>
                  </a:lnTo>
                  <a:lnTo>
                    <a:pt x="601" y="4139"/>
                  </a:lnTo>
                  <a:lnTo>
                    <a:pt x="544" y="4062"/>
                  </a:lnTo>
                  <a:lnTo>
                    <a:pt x="490" y="3983"/>
                  </a:lnTo>
                  <a:lnTo>
                    <a:pt x="438" y="3900"/>
                  </a:lnTo>
                  <a:lnTo>
                    <a:pt x="389" y="3817"/>
                  </a:lnTo>
                  <a:lnTo>
                    <a:pt x="343" y="3732"/>
                  </a:lnTo>
                  <a:lnTo>
                    <a:pt x="301" y="3646"/>
                  </a:lnTo>
                  <a:lnTo>
                    <a:pt x="261" y="3556"/>
                  </a:lnTo>
                  <a:lnTo>
                    <a:pt x="224" y="3465"/>
                  </a:lnTo>
                  <a:lnTo>
                    <a:pt x="190" y="3373"/>
                  </a:lnTo>
                  <a:lnTo>
                    <a:pt x="160" y="3281"/>
                  </a:lnTo>
                  <a:lnTo>
                    <a:pt x="132" y="3186"/>
                  </a:lnTo>
                  <a:lnTo>
                    <a:pt x="109" y="3088"/>
                  </a:lnTo>
                  <a:lnTo>
                    <a:pt x="89" y="2991"/>
                  </a:lnTo>
                  <a:lnTo>
                    <a:pt x="73" y="2892"/>
                  </a:lnTo>
                  <a:lnTo>
                    <a:pt x="58" y="2792"/>
                  </a:lnTo>
                  <a:lnTo>
                    <a:pt x="50" y="2691"/>
                  </a:lnTo>
                  <a:lnTo>
                    <a:pt x="43" y="2588"/>
                  </a:lnTo>
                  <a:lnTo>
                    <a:pt x="42" y="2486"/>
                  </a:lnTo>
                  <a:lnTo>
                    <a:pt x="43" y="2382"/>
                  </a:lnTo>
                  <a:lnTo>
                    <a:pt x="50" y="2280"/>
                  </a:lnTo>
                  <a:lnTo>
                    <a:pt x="58" y="2179"/>
                  </a:lnTo>
                  <a:lnTo>
                    <a:pt x="73" y="2079"/>
                  </a:lnTo>
                  <a:lnTo>
                    <a:pt x="89" y="1980"/>
                  </a:lnTo>
                  <a:lnTo>
                    <a:pt x="109" y="1882"/>
                  </a:lnTo>
                  <a:lnTo>
                    <a:pt x="132" y="1786"/>
                  </a:lnTo>
                  <a:lnTo>
                    <a:pt x="160" y="1691"/>
                  </a:lnTo>
                  <a:lnTo>
                    <a:pt x="190" y="1597"/>
                  </a:lnTo>
                  <a:lnTo>
                    <a:pt x="224" y="1505"/>
                  </a:lnTo>
                  <a:lnTo>
                    <a:pt x="261" y="1414"/>
                  </a:lnTo>
                  <a:lnTo>
                    <a:pt x="301" y="1326"/>
                  </a:lnTo>
                  <a:lnTo>
                    <a:pt x="343" y="1238"/>
                  </a:lnTo>
                  <a:lnTo>
                    <a:pt x="389" y="1153"/>
                  </a:lnTo>
                  <a:lnTo>
                    <a:pt x="438" y="1070"/>
                  </a:lnTo>
                  <a:lnTo>
                    <a:pt x="490" y="988"/>
                  </a:lnTo>
                  <a:lnTo>
                    <a:pt x="544" y="909"/>
                  </a:lnTo>
                  <a:lnTo>
                    <a:pt x="601" y="831"/>
                  </a:lnTo>
                  <a:lnTo>
                    <a:pt x="660" y="756"/>
                  </a:lnTo>
                  <a:lnTo>
                    <a:pt x="723" y="682"/>
                  </a:lnTo>
                  <a:lnTo>
                    <a:pt x="788" y="612"/>
                  </a:lnTo>
                  <a:lnTo>
                    <a:pt x="855" y="543"/>
                  </a:lnTo>
                  <a:lnTo>
                    <a:pt x="925" y="477"/>
                  </a:lnTo>
                  <a:lnTo>
                    <a:pt x="996" y="413"/>
                  </a:lnTo>
                  <a:lnTo>
                    <a:pt x="1071" y="352"/>
                  </a:lnTo>
                  <a:lnTo>
                    <a:pt x="1147" y="293"/>
                  </a:lnTo>
                  <a:lnTo>
                    <a:pt x="1225" y="237"/>
                  </a:lnTo>
                  <a:lnTo>
                    <a:pt x="1305" y="183"/>
                  </a:lnTo>
                  <a:lnTo>
                    <a:pt x="1389" y="133"/>
                  </a:lnTo>
                  <a:lnTo>
                    <a:pt x="1473" y="86"/>
                  </a:lnTo>
                  <a:lnTo>
                    <a:pt x="1558" y="41"/>
                  </a:lnTo>
                  <a:lnTo>
                    <a:pt x="1647" y="0"/>
                  </a:lnTo>
                  <a:lnTo>
                    <a:pt x="1630" y="2"/>
                  </a:lnTo>
                  <a:lnTo>
                    <a:pt x="1612" y="4"/>
                  </a:lnTo>
                  <a:lnTo>
                    <a:pt x="1595" y="6"/>
                  </a:lnTo>
                  <a:lnTo>
                    <a:pt x="1578" y="9"/>
                  </a:lnTo>
                  <a:lnTo>
                    <a:pt x="1560" y="11"/>
                  </a:lnTo>
                  <a:lnTo>
                    <a:pt x="1543" y="14"/>
                  </a:lnTo>
                  <a:lnTo>
                    <a:pt x="1527" y="17"/>
                  </a:lnTo>
                  <a:lnTo>
                    <a:pt x="1510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83000" y="2006640"/>
              <a:ext cx="2182680" cy="1981080"/>
            </a:xfrm>
            <a:custGeom>
              <a:avLst/>
              <a:gdLst/>
              <a:ahLst/>
              <a:rect l="l" t="t" r="r" b="b"/>
              <a:pathLst>
                <a:path w="5501" h="4993">
                  <a:moveTo>
                    <a:pt x="5501" y="2497"/>
                  </a:moveTo>
                  <a:lnTo>
                    <a:pt x="5499" y="2395"/>
                  </a:lnTo>
                  <a:lnTo>
                    <a:pt x="5493" y="2294"/>
                  </a:lnTo>
                  <a:lnTo>
                    <a:pt x="5483" y="2194"/>
                  </a:lnTo>
                  <a:lnTo>
                    <a:pt x="5472" y="2095"/>
                  </a:lnTo>
                  <a:lnTo>
                    <a:pt x="5455" y="1998"/>
                  </a:lnTo>
                  <a:lnTo>
                    <a:pt x="5436" y="1902"/>
                  </a:lnTo>
                  <a:lnTo>
                    <a:pt x="5413" y="1805"/>
                  </a:lnTo>
                  <a:lnTo>
                    <a:pt x="5386" y="1713"/>
                  </a:lnTo>
                  <a:lnTo>
                    <a:pt x="5357" y="1620"/>
                  </a:lnTo>
                  <a:lnTo>
                    <a:pt x="5325" y="1529"/>
                  </a:lnTo>
                  <a:lnTo>
                    <a:pt x="5289" y="1439"/>
                  </a:lnTo>
                  <a:lnTo>
                    <a:pt x="5251" y="1351"/>
                  </a:lnTo>
                  <a:lnTo>
                    <a:pt x="5209" y="1264"/>
                  </a:lnTo>
                  <a:lnTo>
                    <a:pt x="5165" y="1180"/>
                  </a:lnTo>
                  <a:lnTo>
                    <a:pt x="5118" y="1097"/>
                  </a:lnTo>
                  <a:lnTo>
                    <a:pt x="5067" y="1016"/>
                  </a:lnTo>
                  <a:lnTo>
                    <a:pt x="5016" y="937"/>
                  </a:lnTo>
                  <a:lnTo>
                    <a:pt x="4959" y="859"/>
                  </a:lnTo>
                  <a:lnTo>
                    <a:pt x="4902" y="785"/>
                  </a:lnTo>
                  <a:lnTo>
                    <a:pt x="4842" y="711"/>
                  </a:lnTo>
                  <a:lnTo>
                    <a:pt x="4779" y="640"/>
                  </a:lnTo>
                  <a:lnTo>
                    <a:pt x="4713" y="572"/>
                  </a:lnTo>
                  <a:lnTo>
                    <a:pt x="4646" y="505"/>
                  </a:lnTo>
                  <a:lnTo>
                    <a:pt x="4576" y="441"/>
                  </a:lnTo>
                  <a:lnTo>
                    <a:pt x="4504" y="380"/>
                  </a:lnTo>
                  <a:lnTo>
                    <a:pt x="4430" y="320"/>
                  </a:lnTo>
                  <a:lnTo>
                    <a:pt x="4354" y="263"/>
                  </a:lnTo>
                  <a:lnTo>
                    <a:pt x="4276" y="209"/>
                  </a:lnTo>
                  <a:lnTo>
                    <a:pt x="4196" y="157"/>
                  </a:lnTo>
                  <a:lnTo>
                    <a:pt x="4114" y="109"/>
                  </a:lnTo>
                  <a:lnTo>
                    <a:pt x="4030" y="63"/>
                  </a:lnTo>
                  <a:lnTo>
                    <a:pt x="3945" y="20"/>
                  </a:lnTo>
                  <a:lnTo>
                    <a:pt x="3927" y="17"/>
                  </a:lnTo>
                  <a:lnTo>
                    <a:pt x="3909" y="15"/>
                  </a:lnTo>
                  <a:lnTo>
                    <a:pt x="3891" y="13"/>
                  </a:lnTo>
                  <a:lnTo>
                    <a:pt x="3872" y="9"/>
                  </a:lnTo>
                  <a:lnTo>
                    <a:pt x="3854" y="7"/>
                  </a:lnTo>
                  <a:lnTo>
                    <a:pt x="3837" y="5"/>
                  </a:lnTo>
                  <a:lnTo>
                    <a:pt x="3818" y="3"/>
                  </a:lnTo>
                  <a:lnTo>
                    <a:pt x="3800" y="0"/>
                  </a:lnTo>
                  <a:lnTo>
                    <a:pt x="3891" y="40"/>
                  </a:lnTo>
                  <a:lnTo>
                    <a:pt x="3979" y="83"/>
                  </a:lnTo>
                  <a:lnTo>
                    <a:pt x="4066" y="129"/>
                  </a:lnTo>
                  <a:lnTo>
                    <a:pt x="4151" y="179"/>
                  </a:lnTo>
                  <a:lnTo>
                    <a:pt x="4234" y="231"/>
                  </a:lnTo>
                  <a:lnTo>
                    <a:pt x="4314" y="287"/>
                  </a:lnTo>
                  <a:lnTo>
                    <a:pt x="4393" y="344"/>
                  </a:lnTo>
                  <a:lnTo>
                    <a:pt x="4470" y="405"/>
                  </a:lnTo>
                  <a:lnTo>
                    <a:pt x="4544" y="468"/>
                  </a:lnTo>
                  <a:lnTo>
                    <a:pt x="4617" y="534"/>
                  </a:lnTo>
                  <a:lnTo>
                    <a:pt x="4686" y="603"/>
                  </a:lnTo>
                  <a:lnTo>
                    <a:pt x="4753" y="674"/>
                  </a:lnTo>
                  <a:lnTo>
                    <a:pt x="4818" y="747"/>
                  </a:lnTo>
                  <a:lnTo>
                    <a:pt x="4879" y="823"/>
                  </a:lnTo>
                  <a:lnTo>
                    <a:pt x="4939" y="900"/>
                  </a:lnTo>
                  <a:lnTo>
                    <a:pt x="4995" y="980"/>
                  </a:lnTo>
                  <a:lnTo>
                    <a:pt x="5048" y="1064"/>
                  </a:lnTo>
                  <a:lnTo>
                    <a:pt x="5099" y="1147"/>
                  </a:lnTo>
                  <a:lnTo>
                    <a:pt x="5146" y="1233"/>
                  </a:lnTo>
                  <a:lnTo>
                    <a:pt x="5191" y="1322"/>
                  </a:lnTo>
                  <a:lnTo>
                    <a:pt x="5232" y="1411"/>
                  </a:lnTo>
                  <a:lnTo>
                    <a:pt x="5271" y="1502"/>
                  </a:lnTo>
                  <a:lnTo>
                    <a:pt x="5305" y="1596"/>
                  </a:lnTo>
                  <a:lnTo>
                    <a:pt x="5336" y="1690"/>
                  </a:lnTo>
                  <a:lnTo>
                    <a:pt x="5365" y="1786"/>
                  </a:lnTo>
                  <a:lnTo>
                    <a:pt x="5389" y="1884"/>
                  </a:lnTo>
                  <a:lnTo>
                    <a:pt x="5410" y="1984"/>
                  </a:lnTo>
                  <a:lnTo>
                    <a:pt x="5427" y="2083"/>
                  </a:lnTo>
                  <a:lnTo>
                    <a:pt x="5441" y="2186"/>
                  </a:lnTo>
                  <a:lnTo>
                    <a:pt x="5451" y="2288"/>
                  </a:lnTo>
                  <a:lnTo>
                    <a:pt x="5456" y="2392"/>
                  </a:lnTo>
                  <a:lnTo>
                    <a:pt x="5459" y="2497"/>
                  </a:lnTo>
                  <a:lnTo>
                    <a:pt x="5456" y="2601"/>
                  </a:lnTo>
                  <a:lnTo>
                    <a:pt x="5451" y="2705"/>
                  </a:lnTo>
                  <a:lnTo>
                    <a:pt x="5441" y="2808"/>
                  </a:lnTo>
                  <a:lnTo>
                    <a:pt x="5427" y="2909"/>
                  </a:lnTo>
                  <a:lnTo>
                    <a:pt x="5410" y="3010"/>
                  </a:lnTo>
                  <a:lnTo>
                    <a:pt x="5389" y="3109"/>
                  </a:lnTo>
                  <a:lnTo>
                    <a:pt x="5365" y="3206"/>
                  </a:lnTo>
                  <a:lnTo>
                    <a:pt x="5336" y="3302"/>
                  </a:lnTo>
                  <a:lnTo>
                    <a:pt x="5305" y="3397"/>
                  </a:lnTo>
                  <a:lnTo>
                    <a:pt x="5271" y="3490"/>
                  </a:lnTo>
                  <a:lnTo>
                    <a:pt x="5232" y="3582"/>
                  </a:lnTo>
                  <a:lnTo>
                    <a:pt x="5191" y="3672"/>
                  </a:lnTo>
                  <a:lnTo>
                    <a:pt x="5146" y="3759"/>
                  </a:lnTo>
                  <a:lnTo>
                    <a:pt x="5099" y="3846"/>
                  </a:lnTo>
                  <a:lnTo>
                    <a:pt x="5048" y="3930"/>
                  </a:lnTo>
                  <a:lnTo>
                    <a:pt x="4995" y="4012"/>
                  </a:lnTo>
                  <a:lnTo>
                    <a:pt x="4939" y="4092"/>
                  </a:lnTo>
                  <a:lnTo>
                    <a:pt x="4879" y="4170"/>
                  </a:lnTo>
                  <a:lnTo>
                    <a:pt x="4818" y="4245"/>
                  </a:lnTo>
                  <a:lnTo>
                    <a:pt x="4753" y="4319"/>
                  </a:lnTo>
                  <a:lnTo>
                    <a:pt x="4686" y="4390"/>
                  </a:lnTo>
                  <a:lnTo>
                    <a:pt x="4617" y="4458"/>
                  </a:lnTo>
                  <a:lnTo>
                    <a:pt x="4544" y="4524"/>
                  </a:lnTo>
                  <a:lnTo>
                    <a:pt x="4470" y="4588"/>
                  </a:lnTo>
                  <a:lnTo>
                    <a:pt x="4393" y="4648"/>
                  </a:lnTo>
                  <a:lnTo>
                    <a:pt x="4314" y="4706"/>
                  </a:lnTo>
                  <a:lnTo>
                    <a:pt x="4234" y="4761"/>
                  </a:lnTo>
                  <a:lnTo>
                    <a:pt x="4151" y="4813"/>
                  </a:lnTo>
                  <a:lnTo>
                    <a:pt x="4066" y="4863"/>
                  </a:lnTo>
                  <a:lnTo>
                    <a:pt x="3979" y="4909"/>
                  </a:lnTo>
                  <a:lnTo>
                    <a:pt x="3891" y="4953"/>
                  </a:lnTo>
                  <a:lnTo>
                    <a:pt x="3800" y="4993"/>
                  </a:lnTo>
                  <a:lnTo>
                    <a:pt x="3818" y="4990"/>
                  </a:lnTo>
                  <a:lnTo>
                    <a:pt x="3837" y="4988"/>
                  </a:lnTo>
                  <a:lnTo>
                    <a:pt x="3855" y="4986"/>
                  </a:lnTo>
                  <a:lnTo>
                    <a:pt x="3872" y="4983"/>
                  </a:lnTo>
                  <a:lnTo>
                    <a:pt x="3891" y="4981"/>
                  </a:lnTo>
                  <a:lnTo>
                    <a:pt x="3909" y="4979"/>
                  </a:lnTo>
                  <a:lnTo>
                    <a:pt x="3927" y="4975"/>
                  </a:lnTo>
                  <a:lnTo>
                    <a:pt x="3945" y="4973"/>
                  </a:lnTo>
                  <a:lnTo>
                    <a:pt x="4030" y="4930"/>
                  </a:lnTo>
                  <a:lnTo>
                    <a:pt x="4114" y="4883"/>
                  </a:lnTo>
                  <a:lnTo>
                    <a:pt x="4196" y="4835"/>
                  </a:lnTo>
                  <a:lnTo>
                    <a:pt x="4276" y="4783"/>
                  </a:lnTo>
                  <a:lnTo>
                    <a:pt x="4354" y="4729"/>
                  </a:lnTo>
                  <a:lnTo>
                    <a:pt x="4430" y="4673"/>
                  </a:lnTo>
                  <a:lnTo>
                    <a:pt x="4504" y="4613"/>
                  </a:lnTo>
                  <a:lnTo>
                    <a:pt x="4576" y="4552"/>
                  </a:lnTo>
                  <a:lnTo>
                    <a:pt x="4646" y="4487"/>
                  </a:lnTo>
                  <a:lnTo>
                    <a:pt x="4713" y="4421"/>
                  </a:lnTo>
                  <a:lnTo>
                    <a:pt x="4779" y="4352"/>
                  </a:lnTo>
                  <a:lnTo>
                    <a:pt x="4842" y="4281"/>
                  </a:lnTo>
                  <a:lnTo>
                    <a:pt x="4902" y="4208"/>
                  </a:lnTo>
                  <a:lnTo>
                    <a:pt x="4959" y="4133"/>
                  </a:lnTo>
                  <a:lnTo>
                    <a:pt x="5016" y="4056"/>
                  </a:lnTo>
                  <a:lnTo>
                    <a:pt x="5067" y="3976"/>
                  </a:lnTo>
                  <a:lnTo>
                    <a:pt x="5118" y="3895"/>
                  </a:lnTo>
                  <a:lnTo>
                    <a:pt x="5165" y="3813"/>
                  </a:lnTo>
                  <a:lnTo>
                    <a:pt x="5209" y="3728"/>
                  </a:lnTo>
                  <a:lnTo>
                    <a:pt x="5251" y="3641"/>
                  </a:lnTo>
                  <a:lnTo>
                    <a:pt x="5289" y="3554"/>
                  </a:lnTo>
                  <a:lnTo>
                    <a:pt x="5325" y="3464"/>
                  </a:lnTo>
                  <a:lnTo>
                    <a:pt x="5357" y="3374"/>
                  </a:lnTo>
                  <a:lnTo>
                    <a:pt x="5386" y="3281"/>
                  </a:lnTo>
                  <a:lnTo>
                    <a:pt x="5413" y="3187"/>
                  </a:lnTo>
                  <a:lnTo>
                    <a:pt x="5436" y="3092"/>
                  </a:lnTo>
                  <a:lnTo>
                    <a:pt x="5455" y="2996"/>
                  </a:lnTo>
                  <a:lnTo>
                    <a:pt x="5472" y="2897"/>
                  </a:lnTo>
                  <a:lnTo>
                    <a:pt x="5483" y="2799"/>
                  </a:lnTo>
                  <a:lnTo>
                    <a:pt x="5493" y="2699"/>
                  </a:lnTo>
                  <a:lnTo>
                    <a:pt x="5499" y="2598"/>
                  </a:lnTo>
                  <a:lnTo>
                    <a:pt x="5501" y="2497"/>
                  </a:lnTo>
                  <a:close/>
                  <a:moveTo>
                    <a:pt x="1556" y="20"/>
                  </a:moveTo>
                  <a:lnTo>
                    <a:pt x="1470" y="63"/>
                  </a:lnTo>
                  <a:lnTo>
                    <a:pt x="1386" y="109"/>
                  </a:lnTo>
                  <a:lnTo>
                    <a:pt x="1304" y="157"/>
                  </a:lnTo>
                  <a:lnTo>
                    <a:pt x="1224" y="209"/>
                  </a:lnTo>
                  <a:lnTo>
                    <a:pt x="1146" y="263"/>
                  </a:lnTo>
                  <a:lnTo>
                    <a:pt x="1070" y="320"/>
                  </a:lnTo>
                  <a:lnTo>
                    <a:pt x="996" y="380"/>
                  </a:lnTo>
                  <a:lnTo>
                    <a:pt x="924" y="441"/>
                  </a:lnTo>
                  <a:lnTo>
                    <a:pt x="854" y="505"/>
                  </a:lnTo>
                  <a:lnTo>
                    <a:pt x="786" y="572"/>
                  </a:lnTo>
                  <a:lnTo>
                    <a:pt x="721" y="640"/>
                  </a:lnTo>
                  <a:lnTo>
                    <a:pt x="659" y="711"/>
                  </a:lnTo>
                  <a:lnTo>
                    <a:pt x="598" y="785"/>
                  </a:lnTo>
                  <a:lnTo>
                    <a:pt x="541" y="859"/>
                  </a:lnTo>
                  <a:lnTo>
                    <a:pt x="485" y="937"/>
                  </a:lnTo>
                  <a:lnTo>
                    <a:pt x="433" y="1016"/>
                  </a:lnTo>
                  <a:lnTo>
                    <a:pt x="382" y="1097"/>
                  </a:lnTo>
                  <a:lnTo>
                    <a:pt x="336" y="1180"/>
                  </a:lnTo>
                  <a:lnTo>
                    <a:pt x="291" y="1264"/>
                  </a:lnTo>
                  <a:lnTo>
                    <a:pt x="249" y="1351"/>
                  </a:lnTo>
                  <a:lnTo>
                    <a:pt x="211" y="1439"/>
                  </a:lnTo>
                  <a:lnTo>
                    <a:pt x="176" y="1529"/>
                  </a:lnTo>
                  <a:lnTo>
                    <a:pt x="143" y="1620"/>
                  </a:lnTo>
                  <a:lnTo>
                    <a:pt x="113" y="1713"/>
                  </a:lnTo>
                  <a:lnTo>
                    <a:pt x="87" y="1805"/>
                  </a:lnTo>
                  <a:lnTo>
                    <a:pt x="65" y="1902"/>
                  </a:lnTo>
                  <a:lnTo>
                    <a:pt x="45" y="1998"/>
                  </a:lnTo>
                  <a:lnTo>
                    <a:pt x="29" y="2095"/>
                  </a:lnTo>
                  <a:lnTo>
                    <a:pt x="17" y="2194"/>
                  </a:lnTo>
                  <a:lnTo>
                    <a:pt x="7" y="2294"/>
                  </a:lnTo>
                  <a:lnTo>
                    <a:pt x="2" y="2395"/>
                  </a:lnTo>
                  <a:lnTo>
                    <a:pt x="0" y="2497"/>
                  </a:lnTo>
                  <a:lnTo>
                    <a:pt x="2" y="2598"/>
                  </a:lnTo>
                  <a:lnTo>
                    <a:pt x="7" y="2699"/>
                  </a:lnTo>
                  <a:lnTo>
                    <a:pt x="17" y="2799"/>
                  </a:lnTo>
                  <a:lnTo>
                    <a:pt x="29" y="2897"/>
                  </a:lnTo>
                  <a:lnTo>
                    <a:pt x="45" y="2996"/>
                  </a:lnTo>
                  <a:lnTo>
                    <a:pt x="65" y="3092"/>
                  </a:lnTo>
                  <a:lnTo>
                    <a:pt x="87" y="3187"/>
                  </a:lnTo>
                  <a:lnTo>
                    <a:pt x="113" y="3281"/>
                  </a:lnTo>
                  <a:lnTo>
                    <a:pt x="143" y="3374"/>
                  </a:lnTo>
                  <a:lnTo>
                    <a:pt x="176" y="3464"/>
                  </a:lnTo>
                  <a:lnTo>
                    <a:pt x="210" y="3554"/>
                  </a:lnTo>
                  <a:lnTo>
                    <a:pt x="249" y="3641"/>
                  </a:lnTo>
                  <a:lnTo>
                    <a:pt x="291" y="3728"/>
                  </a:lnTo>
                  <a:lnTo>
                    <a:pt x="336" y="3813"/>
                  </a:lnTo>
                  <a:lnTo>
                    <a:pt x="382" y="3895"/>
                  </a:lnTo>
                  <a:lnTo>
                    <a:pt x="433" y="3976"/>
                  </a:lnTo>
                  <a:lnTo>
                    <a:pt x="485" y="4056"/>
                  </a:lnTo>
                  <a:lnTo>
                    <a:pt x="541" y="4133"/>
                  </a:lnTo>
                  <a:lnTo>
                    <a:pt x="598" y="4208"/>
                  </a:lnTo>
                  <a:lnTo>
                    <a:pt x="659" y="4281"/>
                  </a:lnTo>
                  <a:lnTo>
                    <a:pt x="721" y="4352"/>
                  </a:lnTo>
                  <a:lnTo>
                    <a:pt x="786" y="4421"/>
                  </a:lnTo>
                  <a:lnTo>
                    <a:pt x="854" y="4487"/>
                  </a:lnTo>
                  <a:lnTo>
                    <a:pt x="924" y="4552"/>
                  </a:lnTo>
                  <a:lnTo>
                    <a:pt x="996" y="4613"/>
                  </a:lnTo>
                  <a:lnTo>
                    <a:pt x="1070" y="4673"/>
                  </a:lnTo>
                  <a:lnTo>
                    <a:pt x="1146" y="4729"/>
                  </a:lnTo>
                  <a:lnTo>
                    <a:pt x="1224" y="4783"/>
                  </a:lnTo>
                  <a:lnTo>
                    <a:pt x="1304" y="4835"/>
                  </a:lnTo>
                  <a:lnTo>
                    <a:pt x="1386" y="4883"/>
                  </a:lnTo>
                  <a:lnTo>
                    <a:pt x="1470" y="4930"/>
                  </a:lnTo>
                  <a:lnTo>
                    <a:pt x="1556" y="4973"/>
                  </a:lnTo>
                  <a:lnTo>
                    <a:pt x="1573" y="4975"/>
                  </a:lnTo>
                  <a:lnTo>
                    <a:pt x="1591" y="4979"/>
                  </a:lnTo>
                  <a:lnTo>
                    <a:pt x="1610" y="4981"/>
                  </a:lnTo>
                  <a:lnTo>
                    <a:pt x="1628" y="4983"/>
                  </a:lnTo>
                  <a:lnTo>
                    <a:pt x="1645" y="4986"/>
                  </a:lnTo>
                  <a:lnTo>
                    <a:pt x="1664" y="4988"/>
                  </a:lnTo>
                  <a:lnTo>
                    <a:pt x="1682" y="4990"/>
                  </a:lnTo>
                  <a:lnTo>
                    <a:pt x="1700" y="4993"/>
                  </a:lnTo>
                  <a:lnTo>
                    <a:pt x="1610" y="4953"/>
                  </a:lnTo>
                  <a:lnTo>
                    <a:pt x="1521" y="4909"/>
                  </a:lnTo>
                  <a:lnTo>
                    <a:pt x="1435" y="4863"/>
                  </a:lnTo>
                  <a:lnTo>
                    <a:pt x="1349" y="4813"/>
                  </a:lnTo>
                  <a:lnTo>
                    <a:pt x="1266" y="4761"/>
                  </a:lnTo>
                  <a:lnTo>
                    <a:pt x="1185" y="4706"/>
                  </a:lnTo>
                  <a:lnTo>
                    <a:pt x="1107" y="4648"/>
                  </a:lnTo>
                  <a:lnTo>
                    <a:pt x="1031" y="4588"/>
                  </a:lnTo>
                  <a:lnTo>
                    <a:pt x="956" y="4524"/>
                  </a:lnTo>
                  <a:lnTo>
                    <a:pt x="884" y="4458"/>
                  </a:lnTo>
                  <a:lnTo>
                    <a:pt x="814" y="4390"/>
                  </a:lnTo>
                  <a:lnTo>
                    <a:pt x="747" y="4319"/>
                  </a:lnTo>
                  <a:lnTo>
                    <a:pt x="683" y="4245"/>
                  </a:lnTo>
                  <a:lnTo>
                    <a:pt x="621" y="4170"/>
                  </a:lnTo>
                  <a:lnTo>
                    <a:pt x="562" y="4092"/>
                  </a:lnTo>
                  <a:lnTo>
                    <a:pt x="505" y="4012"/>
                  </a:lnTo>
                  <a:lnTo>
                    <a:pt x="452" y="3930"/>
                  </a:lnTo>
                  <a:lnTo>
                    <a:pt x="402" y="3846"/>
                  </a:lnTo>
                  <a:lnTo>
                    <a:pt x="354" y="3759"/>
                  </a:lnTo>
                  <a:lnTo>
                    <a:pt x="310" y="3672"/>
                  </a:lnTo>
                  <a:lnTo>
                    <a:pt x="269" y="3582"/>
                  </a:lnTo>
                  <a:lnTo>
                    <a:pt x="230" y="3490"/>
                  </a:lnTo>
                  <a:lnTo>
                    <a:pt x="195" y="3397"/>
                  </a:lnTo>
                  <a:lnTo>
                    <a:pt x="164" y="3302"/>
                  </a:lnTo>
                  <a:lnTo>
                    <a:pt x="136" y="3206"/>
                  </a:lnTo>
                  <a:lnTo>
                    <a:pt x="111" y="3109"/>
                  </a:lnTo>
                  <a:lnTo>
                    <a:pt x="90" y="3010"/>
                  </a:lnTo>
                  <a:lnTo>
                    <a:pt x="73" y="2909"/>
                  </a:lnTo>
                  <a:lnTo>
                    <a:pt x="59" y="2808"/>
                  </a:lnTo>
                  <a:lnTo>
                    <a:pt x="49" y="2705"/>
                  </a:lnTo>
                  <a:lnTo>
                    <a:pt x="44" y="2601"/>
                  </a:lnTo>
                  <a:lnTo>
                    <a:pt x="42" y="2497"/>
                  </a:lnTo>
                  <a:lnTo>
                    <a:pt x="44" y="2392"/>
                  </a:lnTo>
                  <a:lnTo>
                    <a:pt x="49" y="2288"/>
                  </a:lnTo>
                  <a:lnTo>
                    <a:pt x="59" y="2186"/>
                  </a:lnTo>
                  <a:lnTo>
                    <a:pt x="73" y="2083"/>
                  </a:lnTo>
                  <a:lnTo>
                    <a:pt x="90" y="1984"/>
                  </a:lnTo>
                  <a:lnTo>
                    <a:pt x="111" y="1884"/>
                  </a:lnTo>
                  <a:lnTo>
                    <a:pt x="136" y="1786"/>
                  </a:lnTo>
                  <a:lnTo>
                    <a:pt x="164" y="1690"/>
                  </a:lnTo>
                  <a:lnTo>
                    <a:pt x="195" y="1596"/>
                  </a:lnTo>
                  <a:lnTo>
                    <a:pt x="230" y="1502"/>
                  </a:lnTo>
                  <a:lnTo>
                    <a:pt x="269" y="1411"/>
                  </a:lnTo>
                  <a:lnTo>
                    <a:pt x="310" y="1322"/>
                  </a:lnTo>
                  <a:lnTo>
                    <a:pt x="354" y="1233"/>
                  </a:lnTo>
                  <a:lnTo>
                    <a:pt x="402" y="1147"/>
                  </a:lnTo>
                  <a:lnTo>
                    <a:pt x="452" y="1064"/>
                  </a:lnTo>
                  <a:lnTo>
                    <a:pt x="505" y="980"/>
                  </a:lnTo>
                  <a:lnTo>
                    <a:pt x="562" y="900"/>
                  </a:lnTo>
                  <a:lnTo>
                    <a:pt x="621" y="823"/>
                  </a:lnTo>
                  <a:lnTo>
                    <a:pt x="683" y="747"/>
                  </a:lnTo>
                  <a:lnTo>
                    <a:pt x="747" y="674"/>
                  </a:lnTo>
                  <a:lnTo>
                    <a:pt x="814" y="603"/>
                  </a:lnTo>
                  <a:lnTo>
                    <a:pt x="884" y="534"/>
                  </a:lnTo>
                  <a:lnTo>
                    <a:pt x="956" y="468"/>
                  </a:lnTo>
                  <a:lnTo>
                    <a:pt x="1031" y="405"/>
                  </a:lnTo>
                  <a:lnTo>
                    <a:pt x="1107" y="344"/>
                  </a:lnTo>
                  <a:lnTo>
                    <a:pt x="1185" y="287"/>
                  </a:lnTo>
                  <a:lnTo>
                    <a:pt x="1266" y="231"/>
                  </a:lnTo>
                  <a:lnTo>
                    <a:pt x="1349" y="179"/>
                  </a:lnTo>
                  <a:lnTo>
                    <a:pt x="1435" y="129"/>
                  </a:lnTo>
                  <a:lnTo>
                    <a:pt x="1521" y="83"/>
                  </a:lnTo>
                  <a:lnTo>
                    <a:pt x="1610" y="40"/>
                  </a:lnTo>
                  <a:lnTo>
                    <a:pt x="1700" y="0"/>
                  </a:lnTo>
                  <a:lnTo>
                    <a:pt x="1682" y="3"/>
                  </a:lnTo>
                  <a:lnTo>
                    <a:pt x="1664" y="5"/>
                  </a:lnTo>
                  <a:lnTo>
                    <a:pt x="1645" y="7"/>
                  </a:lnTo>
                  <a:lnTo>
                    <a:pt x="1628" y="9"/>
                  </a:lnTo>
                  <a:lnTo>
                    <a:pt x="1610" y="13"/>
                  </a:lnTo>
                  <a:lnTo>
                    <a:pt x="1591" y="15"/>
                  </a:lnTo>
                  <a:lnTo>
                    <a:pt x="1573" y="17"/>
                  </a:lnTo>
                  <a:lnTo>
                    <a:pt x="1556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0920" y="2003400"/>
              <a:ext cx="2166840" cy="1989000"/>
            </a:xfrm>
            <a:custGeom>
              <a:avLst/>
              <a:gdLst/>
              <a:ahLst/>
              <a:rect l="l" t="t" r="r" b="b"/>
              <a:pathLst>
                <a:path w="5458" h="5011">
                  <a:moveTo>
                    <a:pt x="5458" y="2506"/>
                  </a:moveTo>
                  <a:lnTo>
                    <a:pt x="5457" y="2402"/>
                  </a:lnTo>
                  <a:lnTo>
                    <a:pt x="5451" y="2300"/>
                  </a:lnTo>
                  <a:lnTo>
                    <a:pt x="5442" y="2199"/>
                  </a:lnTo>
                  <a:lnTo>
                    <a:pt x="5428" y="2099"/>
                  </a:lnTo>
                  <a:lnTo>
                    <a:pt x="5412" y="2000"/>
                  </a:lnTo>
                  <a:lnTo>
                    <a:pt x="5391" y="1902"/>
                  </a:lnTo>
                  <a:lnTo>
                    <a:pt x="5367" y="1806"/>
                  </a:lnTo>
                  <a:lnTo>
                    <a:pt x="5340" y="1711"/>
                  </a:lnTo>
                  <a:lnTo>
                    <a:pt x="5310" y="1617"/>
                  </a:lnTo>
                  <a:lnTo>
                    <a:pt x="5277" y="1525"/>
                  </a:lnTo>
                  <a:lnTo>
                    <a:pt x="5240" y="1434"/>
                  </a:lnTo>
                  <a:lnTo>
                    <a:pt x="5200" y="1346"/>
                  </a:lnTo>
                  <a:lnTo>
                    <a:pt x="5158" y="1258"/>
                  </a:lnTo>
                  <a:lnTo>
                    <a:pt x="5111" y="1173"/>
                  </a:lnTo>
                  <a:lnTo>
                    <a:pt x="5063" y="1090"/>
                  </a:lnTo>
                  <a:lnTo>
                    <a:pt x="5011" y="1009"/>
                  </a:lnTo>
                  <a:lnTo>
                    <a:pt x="4957" y="929"/>
                  </a:lnTo>
                  <a:lnTo>
                    <a:pt x="4899" y="851"/>
                  </a:lnTo>
                  <a:lnTo>
                    <a:pt x="4840" y="776"/>
                  </a:lnTo>
                  <a:lnTo>
                    <a:pt x="4777" y="702"/>
                  </a:lnTo>
                  <a:lnTo>
                    <a:pt x="4713" y="632"/>
                  </a:lnTo>
                  <a:lnTo>
                    <a:pt x="4646" y="563"/>
                  </a:lnTo>
                  <a:lnTo>
                    <a:pt x="4575" y="497"/>
                  </a:lnTo>
                  <a:lnTo>
                    <a:pt x="4504" y="433"/>
                  </a:lnTo>
                  <a:lnTo>
                    <a:pt x="4429" y="372"/>
                  </a:lnTo>
                  <a:lnTo>
                    <a:pt x="4354" y="313"/>
                  </a:lnTo>
                  <a:lnTo>
                    <a:pt x="4275" y="257"/>
                  </a:lnTo>
                  <a:lnTo>
                    <a:pt x="4195" y="203"/>
                  </a:lnTo>
                  <a:lnTo>
                    <a:pt x="4112" y="153"/>
                  </a:lnTo>
                  <a:lnTo>
                    <a:pt x="4027" y="106"/>
                  </a:lnTo>
                  <a:lnTo>
                    <a:pt x="3942" y="61"/>
                  </a:lnTo>
                  <a:lnTo>
                    <a:pt x="3853" y="20"/>
                  </a:lnTo>
                  <a:lnTo>
                    <a:pt x="3835" y="16"/>
                  </a:lnTo>
                  <a:lnTo>
                    <a:pt x="3816" y="14"/>
                  </a:lnTo>
                  <a:lnTo>
                    <a:pt x="3796" y="12"/>
                  </a:lnTo>
                  <a:lnTo>
                    <a:pt x="3777" y="9"/>
                  </a:lnTo>
                  <a:lnTo>
                    <a:pt x="3757" y="7"/>
                  </a:lnTo>
                  <a:lnTo>
                    <a:pt x="3738" y="4"/>
                  </a:lnTo>
                  <a:lnTo>
                    <a:pt x="3718" y="2"/>
                  </a:lnTo>
                  <a:lnTo>
                    <a:pt x="3699" y="0"/>
                  </a:lnTo>
                  <a:lnTo>
                    <a:pt x="3793" y="38"/>
                  </a:lnTo>
                  <a:lnTo>
                    <a:pt x="3884" y="79"/>
                  </a:lnTo>
                  <a:lnTo>
                    <a:pt x="3973" y="124"/>
                  </a:lnTo>
                  <a:lnTo>
                    <a:pt x="4062" y="172"/>
                  </a:lnTo>
                  <a:lnTo>
                    <a:pt x="4147" y="224"/>
                  </a:lnTo>
                  <a:lnTo>
                    <a:pt x="4231" y="278"/>
                  </a:lnTo>
                  <a:lnTo>
                    <a:pt x="4313" y="335"/>
                  </a:lnTo>
                  <a:lnTo>
                    <a:pt x="4392" y="394"/>
                  </a:lnTo>
                  <a:lnTo>
                    <a:pt x="4468" y="458"/>
                  </a:lnTo>
                  <a:lnTo>
                    <a:pt x="4543" y="523"/>
                  </a:lnTo>
                  <a:lnTo>
                    <a:pt x="4615" y="592"/>
                  </a:lnTo>
                  <a:lnTo>
                    <a:pt x="4684" y="662"/>
                  </a:lnTo>
                  <a:lnTo>
                    <a:pt x="4751" y="736"/>
                  </a:lnTo>
                  <a:lnTo>
                    <a:pt x="4815" y="811"/>
                  </a:lnTo>
                  <a:lnTo>
                    <a:pt x="4877" y="890"/>
                  </a:lnTo>
                  <a:lnTo>
                    <a:pt x="4935" y="970"/>
                  </a:lnTo>
                  <a:lnTo>
                    <a:pt x="4990" y="1053"/>
                  </a:lnTo>
                  <a:lnTo>
                    <a:pt x="5043" y="1137"/>
                  </a:lnTo>
                  <a:lnTo>
                    <a:pt x="5092" y="1225"/>
                  </a:lnTo>
                  <a:lnTo>
                    <a:pt x="5138" y="1313"/>
                  </a:lnTo>
                  <a:lnTo>
                    <a:pt x="5181" y="1404"/>
                  </a:lnTo>
                  <a:lnTo>
                    <a:pt x="5220" y="1497"/>
                  </a:lnTo>
                  <a:lnTo>
                    <a:pt x="5257" y="1591"/>
                  </a:lnTo>
                  <a:lnTo>
                    <a:pt x="5290" y="1687"/>
                  </a:lnTo>
                  <a:lnTo>
                    <a:pt x="5319" y="1784"/>
                  </a:lnTo>
                  <a:lnTo>
                    <a:pt x="5345" y="1884"/>
                  </a:lnTo>
                  <a:lnTo>
                    <a:pt x="5366" y="1984"/>
                  </a:lnTo>
                  <a:lnTo>
                    <a:pt x="5385" y="2086"/>
                  </a:lnTo>
                  <a:lnTo>
                    <a:pt x="5399" y="2189"/>
                  </a:lnTo>
                  <a:lnTo>
                    <a:pt x="5408" y="2293"/>
                  </a:lnTo>
                  <a:lnTo>
                    <a:pt x="5415" y="2399"/>
                  </a:lnTo>
                  <a:lnTo>
                    <a:pt x="5417" y="2506"/>
                  </a:lnTo>
                  <a:lnTo>
                    <a:pt x="5415" y="2612"/>
                  </a:lnTo>
                  <a:lnTo>
                    <a:pt x="5408" y="2717"/>
                  </a:lnTo>
                  <a:lnTo>
                    <a:pt x="5399" y="2822"/>
                  </a:lnTo>
                  <a:lnTo>
                    <a:pt x="5385" y="2925"/>
                  </a:lnTo>
                  <a:lnTo>
                    <a:pt x="5366" y="3026"/>
                  </a:lnTo>
                  <a:lnTo>
                    <a:pt x="5345" y="3128"/>
                  </a:lnTo>
                  <a:lnTo>
                    <a:pt x="5319" y="3226"/>
                  </a:lnTo>
                  <a:lnTo>
                    <a:pt x="5290" y="3324"/>
                  </a:lnTo>
                  <a:lnTo>
                    <a:pt x="5257" y="3419"/>
                  </a:lnTo>
                  <a:lnTo>
                    <a:pt x="5220" y="3514"/>
                  </a:lnTo>
                  <a:lnTo>
                    <a:pt x="5181" y="3606"/>
                  </a:lnTo>
                  <a:lnTo>
                    <a:pt x="5138" y="3697"/>
                  </a:lnTo>
                  <a:lnTo>
                    <a:pt x="5092" y="3787"/>
                  </a:lnTo>
                  <a:lnTo>
                    <a:pt x="5043" y="3873"/>
                  </a:lnTo>
                  <a:lnTo>
                    <a:pt x="4990" y="3958"/>
                  </a:lnTo>
                  <a:lnTo>
                    <a:pt x="4935" y="4040"/>
                  </a:lnTo>
                  <a:lnTo>
                    <a:pt x="4877" y="4121"/>
                  </a:lnTo>
                  <a:lnTo>
                    <a:pt x="4815" y="4199"/>
                  </a:lnTo>
                  <a:lnTo>
                    <a:pt x="4751" y="4275"/>
                  </a:lnTo>
                  <a:lnTo>
                    <a:pt x="4684" y="4348"/>
                  </a:lnTo>
                  <a:lnTo>
                    <a:pt x="4615" y="4419"/>
                  </a:lnTo>
                  <a:lnTo>
                    <a:pt x="4543" y="4487"/>
                  </a:lnTo>
                  <a:lnTo>
                    <a:pt x="4468" y="4553"/>
                  </a:lnTo>
                  <a:lnTo>
                    <a:pt x="4392" y="4616"/>
                  </a:lnTo>
                  <a:lnTo>
                    <a:pt x="4313" y="4676"/>
                  </a:lnTo>
                  <a:lnTo>
                    <a:pt x="4231" y="4734"/>
                  </a:lnTo>
                  <a:lnTo>
                    <a:pt x="4147" y="4788"/>
                  </a:lnTo>
                  <a:lnTo>
                    <a:pt x="4062" y="4838"/>
                  </a:lnTo>
                  <a:lnTo>
                    <a:pt x="3973" y="4887"/>
                  </a:lnTo>
                  <a:lnTo>
                    <a:pt x="3884" y="4931"/>
                  </a:lnTo>
                  <a:lnTo>
                    <a:pt x="3793" y="4973"/>
                  </a:lnTo>
                  <a:lnTo>
                    <a:pt x="3699" y="5011"/>
                  </a:lnTo>
                  <a:lnTo>
                    <a:pt x="3718" y="5009"/>
                  </a:lnTo>
                  <a:lnTo>
                    <a:pt x="3738" y="5007"/>
                  </a:lnTo>
                  <a:lnTo>
                    <a:pt x="3757" y="5004"/>
                  </a:lnTo>
                  <a:lnTo>
                    <a:pt x="3777" y="5002"/>
                  </a:lnTo>
                  <a:lnTo>
                    <a:pt x="3796" y="4999"/>
                  </a:lnTo>
                  <a:lnTo>
                    <a:pt x="3816" y="4997"/>
                  </a:lnTo>
                  <a:lnTo>
                    <a:pt x="3835" y="4994"/>
                  </a:lnTo>
                  <a:lnTo>
                    <a:pt x="3853" y="4992"/>
                  </a:lnTo>
                  <a:lnTo>
                    <a:pt x="3942" y="4950"/>
                  </a:lnTo>
                  <a:lnTo>
                    <a:pt x="4027" y="4905"/>
                  </a:lnTo>
                  <a:lnTo>
                    <a:pt x="4112" y="4858"/>
                  </a:lnTo>
                  <a:lnTo>
                    <a:pt x="4195" y="4807"/>
                  </a:lnTo>
                  <a:lnTo>
                    <a:pt x="4275" y="4754"/>
                  </a:lnTo>
                  <a:lnTo>
                    <a:pt x="4354" y="4698"/>
                  </a:lnTo>
                  <a:lnTo>
                    <a:pt x="4429" y="4640"/>
                  </a:lnTo>
                  <a:lnTo>
                    <a:pt x="4504" y="4578"/>
                  </a:lnTo>
                  <a:lnTo>
                    <a:pt x="4575" y="4514"/>
                  </a:lnTo>
                  <a:lnTo>
                    <a:pt x="4646" y="4448"/>
                  </a:lnTo>
                  <a:lnTo>
                    <a:pt x="4713" y="4379"/>
                  </a:lnTo>
                  <a:lnTo>
                    <a:pt x="4777" y="4308"/>
                  </a:lnTo>
                  <a:lnTo>
                    <a:pt x="4840" y="4235"/>
                  </a:lnTo>
                  <a:lnTo>
                    <a:pt x="4899" y="4159"/>
                  </a:lnTo>
                  <a:lnTo>
                    <a:pt x="4957" y="4082"/>
                  </a:lnTo>
                  <a:lnTo>
                    <a:pt x="5011" y="4003"/>
                  </a:lnTo>
                  <a:lnTo>
                    <a:pt x="5063" y="3920"/>
                  </a:lnTo>
                  <a:lnTo>
                    <a:pt x="5111" y="3837"/>
                  </a:lnTo>
                  <a:lnTo>
                    <a:pt x="5158" y="3752"/>
                  </a:lnTo>
                  <a:lnTo>
                    <a:pt x="5200" y="3665"/>
                  </a:lnTo>
                  <a:lnTo>
                    <a:pt x="5240" y="3576"/>
                  </a:lnTo>
                  <a:lnTo>
                    <a:pt x="5277" y="3485"/>
                  </a:lnTo>
                  <a:lnTo>
                    <a:pt x="5310" y="3393"/>
                  </a:lnTo>
                  <a:lnTo>
                    <a:pt x="5340" y="3301"/>
                  </a:lnTo>
                  <a:lnTo>
                    <a:pt x="5367" y="3206"/>
                  </a:lnTo>
                  <a:lnTo>
                    <a:pt x="5391" y="3108"/>
                  </a:lnTo>
                  <a:lnTo>
                    <a:pt x="5412" y="3011"/>
                  </a:lnTo>
                  <a:lnTo>
                    <a:pt x="5428" y="2912"/>
                  </a:lnTo>
                  <a:lnTo>
                    <a:pt x="5442" y="2812"/>
                  </a:lnTo>
                  <a:lnTo>
                    <a:pt x="5451" y="2711"/>
                  </a:lnTo>
                  <a:lnTo>
                    <a:pt x="5457" y="2608"/>
                  </a:lnTo>
                  <a:lnTo>
                    <a:pt x="5458" y="2506"/>
                  </a:lnTo>
                  <a:close/>
                  <a:moveTo>
                    <a:pt x="1605" y="20"/>
                  </a:moveTo>
                  <a:lnTo>
                    <a:pt x="1516" y="61"/>
                  </a:lnTo>
                  <a:lnTo>
                    <a:pt x="1431" y="106"/>
                  </a:lnTo>
                  <a:lnTo>
                    <a:pt x="1347" y="153"/>
                  </a:lnTo>
                  <a:lnTo>
                    <a:pt x="1263" y="203"/>
                  </a:lnTo>
                  <a:lnTo>
                    <a:pt x="1183" y="257"/>
                  </a:lnTo>
                  <a:lnTo>
                    <a:pt x="1105" y="313"/>
                  </a:lnTo>
                  <a:lnTo>
                    <a:pt x="1029" y="372"/>
                  </a:lnTo>
                  <a:lnTo>
                    <a:pt x="954" y="433"/>
                  </a:lnTo>
                  <a:lnTo>
                    <a:pt x="883" y="497"/>
                  </a:lnTo>
                  <a:lnTo>
                    <a:pt x="813" y="563"/>
                  </a:lnTo>
                  <a:lnTo>
                    <a:pt x="746" y="632"/>
                  </a:lnTo>
                  <a:lnTo>
                    <a:pt x="681" y="702"/>
                  </a:lnTo>
                  <a:lnTo>
                    <a:pt x="618" y="776"/>
                  </a:lnTo>
                  <a:lnTo>
                    <a:pt x="559" y="851"/>
                  </a:lnTo>
                  <a:lnTo>
                    <a:pt x="502" y="929"/>
                  </a:lnTo>
                  <a:lnTo>
                    <a:pt x="448" y="1009"/>
                  </a:lnTo>
                  <a:lnTo>
                    <a:pt x="396" y="1090"/>
                  </a:lnTo>
                  <a:lnTo>
                    <a:pt x="347" y="1173"/>
                  </a:lnTo>
                  <a:lnTo>
                    <a:pt x="301" y="1258"/>
                  </a:lnTo>
                  <a:lnTo>
                    <a:pt x="259" y="1346"/>
                  </a:lnTo>
                  <a:lnTo>
                    <a:pt x="219" y="1434"/>
                  </a:lnTo>
                  <a:lnTo>
                    <a:pt x="182" y="1525"/>
                  </a:lnTo>
                  <a:lnTo>
                    <a:pt x="148" y="1617"/>
                  </a:lnTo>
                  <a:lnTo>
                    <a:pt x="118" y="1711"/>
                  </a:lnTo>
                  <a:lnTo>
                    <a:pt x="90" y="1806"/>
                  </a:lnTo>
                  <a:lnTo>
                    <a:pt x="67" y="1902"/>
                  </a:lnTo>
                  <a:lnTo>
                    <a:pt x="47" y="2000"/>
                  </a:lnTo>
                  <a:lnTo>
                    <a:pt x="31" y="2099"/>
                  </a:lnTo>
                  <a:lnTo>
                    <a:pt x="16" y="2199"/>
                  </a:lnTo>
                  <a:lnTo>
                    <a:pt x="8" y="2300"/>
                  </a:lnTo>
                  <a:lnTo>
                    <a:pt x="1" y="2402"/>
                  </a:lnTo>
                  <a:lnTo>
                    <a:pt x="0" y="2506"/>
                  </a:lnTo>
                  <a:lnTo>
                    <a:pt x="1" y="2608"/>
                  </a:lnTo>
                  <a:lnTo>
                    <a:pt x="8" y="2711"/>
                  </a:lnTo>
                  <a:lnTo>
                    <a:pt x="16" y="2812"/>
                  </a:lnTo>
                  <a:lnTo>
                    <a:pt x="31" y="2912"/>
                  </a:lnTo>
                  <a:lnTo>
                    <a:pt x="47" y="3011"/>
                  </a:lnTo>
                  <a:lnTo>
                    <a:pt x="67" y="3108"/>
                  </a:lnTo>
                  <a:lnTo>
                    <a:pt x="90" y="3206"/>
                  </a:lnTo>
                  <a:lnTo>
                    <a:pt x="118" y="3301"/>
                  </a:lnTo>
                  <a:lnTo>
                    <a:pt x="148" y="3393"/>
                  </a:lnTo>
                  <a:lnTo>
                    <a:pt x="182" y="3485"/>
                  </a:lnTo>
                  <a:lnTo>
                    <a:pt x="219" y="3576"/>
                  </a:lnTo>
                  <a:lnTo>
                    <a:pt x="259" y="3665"/>
                  </a:lnTo>
                  <a:lnTo>
                    <a:pt x="301" y="3752"/>
                  </a:lnTo>
                  <a:lnTo>
                    <a:pt x="347" y="3837"/>
                  </a:lnTo>
                  <a:lnTo>
                    <a:pt x="396" y="3920"/>
                  </a:lnTo>
                  <a:lnTo>
                    <a:pt x="448" y="4003"/>
                  </a:lnTo>
                  <a:lnTo>
                    <a:pt x="502" y="4082"/>
                  </a:lnTo>
                  <a:lnTo>
                    <a:pt x="559" y="4159"/>
                  </a:lnTo>
                  <a:lnTo>
                    <a:pt x="618" y="4235"/>
                  </a:lnTo>
                  <a:lnTo>
                    <a:pt x="681" y="4308"/>
                  </a:lnTo>
                  <a:lnTo>
                    <a:pt x="746" y="4379"/>
                  </a:lnTo>
                  <a:lnTo>
                    <a:pt x="813" y="4448"/>
                  </a:lnTo>
                  <a:lnTo>
                    <a:pt x="883" y="4514"/>
                  </a:lnTo>
                  <a:lnTo>
                    <a:pt x="954" y="4578"/>
                  </a:lnTo>
                  <a:lnTo>
                    <a:pt x="1029" y="4640"/>
                  </a:lnTo>
                  <a:lnTo>
                    <a:pt x="1105" y="4698"/>
                  </a:lnTo>
                  <a:lnTo>
                    <a:pt x="1183" y="4754"/>
                  </a:lnTo>
                  <a:lnTo>
                    <a:pt x="1263" y="4807"/>
                  </a:lnTo>
                  <a:lnTo>
                    <a:pt x="1347" y="4858"/>
                  </a:lnTo>
                  <a:lnTo>
                    <a:pt x="1431" y="4905"/>
                  </a:lnTo>
                  <a:lnTo>
                    <a:pt x="1516" y="4950"/>
                  </a:lnTo>
                  <a:lnTo>
                    <a:pt x="1605" y="4992"/>
                  </a:lnTo>
                  <a:lnTo>
                    <a:pt x="1623" y="4994"/>
                  </a:lnTo>
                  <a:lnTo>
                    <a:pt x="1643" y="4997"/>
                  </a:lnTo>
                  <a:lnTo>
                    <a:pt x="1662" y="4999"/>
                  </a:lnTo>
                  <a:lnTo>
                    <a:pt x="1682" y="5002"/>
                  </a:lnTo>
                  <a:lnTo>
                    <a:pt x="1701" y="5004"/>
                  </a:lnTo>
                  <a:lnTo>
                    <a:pt x="1721" y="5007"/>
                  </a:lnTo>
                  <a:lnTo>
                    <a:pt x="1740" y="5009"/>
                  </a:lnTo>
                  <a:lnTo>
                    <a:pt x="1759" y="5011"/>
                  </a:lnTo>
                  <a:lnTo>
                    <a:pt x="1665" y="4973"/>
                  </a:lnTo>
                  <a:lnTo>
                    <a:pt x="1575" y="4931"/>
                  </a:lnTo>
                  <a:lnTo>
                    <a:pt x="1485" y="4887"/>
                  </a:lnTo>
                  <a:lnTo>
                    <a:pt x="1396" y="4838"/>
                  </a:lnTo>
                  <a:lnTo>
                    <a:pt x="1311" y="4788"/>
                  </a:lnTo>
                  <a:lnTo>
                    <a:pt x="1228" y="4734"/>
                  </a:lnTo>
                  <a:lnTo>
                    <a:pt x="1146" y="4676"/>
                  </a:lnTo>
                  <a:lnTo>
                    <a:pt x="1067" y="4616"/>
                  </a:lnTo>
                  <a:lnTo>
                    <a:pt x="990" y="4553"/>
                  </a:lnTo>
                  <a:lnTo>
                    <a:pt x="916" y="4487"/>
                  </a:lnTo>
                  <a:lnTo>
                    <a:pt x="843" y="4419"/>
                  </a:lnTo>
                  <a:lnTo>
                    <a:pt x="774" y="4348"/>
                  </a:lnTo>
                  <a:lnTo>
                    <a:pt x="707" y="4275"/>
                  </a:lnTo>
                  <a:lnTo>
                    <a:pt x="643" y="4199"/>
                  </a:lnTo>
                  <a:lnTo>
                    <a:pt x="582" y="4121"/>
                  </a:lnTo>
                  <a:lnTo>
                    <a:pt x="523" y="4040"/>
                  </a:lnTo>
                  <a:lnTo>
                    <a:pt x="468" y="3958"/>
                  </a:lnTo>
                  <a:lnTo>
                    <a:pt x="415" y="3873"/>
                  </a:lnTo>
                  <a:lnTo>
                    <a:pt x="367" y="3787"/>
                  </a:lnTo>
                  <a:lnTo>
                    <a:pt x="320" y="3697"/>
                  </a:lnTo>
                  <a:lnTo>
                    <a:pt x="277" y="3606"/>
                  </a:lnTo>
                  <a:lnTo>
                    <a:pt x="238" y="3514"/>
                  </a:lnTo>
                  <a:lnTo>
                    <a:pt x="201" y="3419"/>
                  </a:lnTo>
                  <a:lnTo>
                    <a:pt x="169" y="3324"/>
                  </a:lnTo>
                  <a:lnTo>
                    <a:pt x="140" y="3226"/>
                  </a:lnTo>
                  <a:lnTo>
                    <a:pt x="114" y="3128"/>
                  </a:lnTo>
                  <a:lnTo>
                    <a:pt x="92" y="3026"/>
                  </a:lnTo>
                  <a:lnTo>
                    <a:pt x="74" y="2925"/>
                  </a:lnTo>
                  <a:lnTo>
                    <a:pt x="60" y="2822"/>
                  </a:lnTo>
                  <a:lnTo>
                    <a:pt x="50" y="2717"/>
                  </a:lnTo>
                  <a:lnTo>
                    <a:pt x="44" y="2612"/>
                  </a:lnTo>
                  <a:lnTo>
                    <a:pt x="41" y="2506"/>
                  </a:lnTo>
                  <a:lnTo>
                    <a:pt x="44" y="2399"/>
                  </a:lnTo>
                  <a:lnTo>
                    <a:pt x="50" y="2293"/>
                  </a:lnTo>
                  <a:lnTo>
                    <a:pt x="60" y="2189"/>
                  </a:lnTo>
                  <a:lnTo>
                    <a:pt x="74" y="2086"/>
                  </a:lnTo>
                  <a:lnTo>
                    <a:pt x="92" y="1984"/>
                  </a:lnTo>
                  <a:lnTo>
                    <a:pt x="114" y="1884"/>
                  </a:lnTo>
                  <a:lnTo>
                    <a:pt x="140" y="1784"/>
                  </a:lnTo>
                  <a:lnTo>
                    <a:pt x="169" y="1687"/>
                  </a:lnTo>
                  <a:lnTo>
                    <a:pt x="201" y="1591"/>
                  </a:lnTo>
                  <a:lnTo>
                    <a:pt x="238" y="1497"/>
                  </a:lnTo>
                  <a:lnTo>
                    <a:pt x="277" y="1404"/>
                  </a:lnTo>
                  <a:lnTo>
                    <a:pt x="320" y="1313"/>
                  </a:lnTo>
                  <a:lnTo>
                    <a:pt x="367" y="1225"/>
                  </a:lnTo>
                  <a:lnTo>
                    <a:pt x="415" y="1137"/>
                  </a:lnTo>
                  <a:lnTo>
                    <a:pt x="468" y="1053"/>
                  </a:lnTo>
                  <a:lnTo>
                    <a:pt x="523" y="970"/>
                  </a:lnTo>
                  <a:lnTo>
                    <a:pt x="582" y="890"/>
                  </a:lnTo>
                  <a:lnTo>
                    <a:pt x="643" y="811"/>
                  </a:lnTo>
                  <a:lnTo>
                    <a:pt x="707" y="736"/>
                  </a:lnTo>
                  <a:lnTo>
                    <a:pt x="774" y="662"/>
                  </a:lnTo>
                  <a:lnTo>
                    <a:pt x="843" y="592"/>
                  </a:lnTo>
                  <a:lnTo>
                    <a:pt x="916" y="523"/>
                  </a:lnTo>
                  <a:lnTo>
                    <a:pt x="990" y="458"/>
                  </a:lnTo>
                  <a:lnTo>
                    <a:pt x="1067" y="394"/>
                  </a:lnTo>
                  <a:lnTo>
                    <a:pt x="1146" y="335"/>
                  </a:lnTo>
                  <a:lnTo>
                    <a:pt x="1228" y="278"/>
                  </a:lnTo>
                  <a:lnTo>
                    <a:pt x="1311" y="224"/>
                  </a:lnTo>
                  <a:lnTo>
                    <a:pt x="1396" y="172"/>
                  </a:lnTo>
                  <a:lnTo>
                    <a:pt x="1485" y="124"/>
                  </a:lnTo>
                  <a:lnTo>
                    <a:pt x="1575" y="79"/>
                  </a:lnTo>
                  <a:lnTo>
                    <a:pt x="1665" y="38"/>
                  </a:lnTo>
                  <a:lnTo>
                    <a:pt x="1759" y="0"/>
                  </a:lnTo>
                  <a:lnTo>
                    <a:pt x="1740" y="2"/>
                  </a:lnTo>
                  <a:lnTo>
                    <a:pt x="1721" y="4"/>
                  </a:lnTo>
                  <a:lnTo>
                    <a:pt x="1701" y="7"/>
                  </a:lnTo>
                  <a:lnTo>
                    <a:pt x="1682" y="9"/>
                  </a:lnTo>
                  <a:lnTo>
                    <a:pt x="1662" y="12"/>
                  </a:lnTo>
                  <a:lnTo>
                    <a:pt x="1643" y="14"/>
                  </a:lnTo>
                  <a:lnTo>
                    <a:pt x="1623" y="16"/>
                  </a:lnTo>
                  <a:lnTo>
                    <a:pt x="1605" y="20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98840" y="1998720"/>
              <a:ext cx="2149560" cy="1996920"/>
            </a:xfrm>
            <a:custGeom>
              <a:avLst/>
              <a:gdLst/>
              <a:ahLst/>
              <a:rect l="l" t="t" r="r" b="b"/>
              <a:pathLst>
                <a:path w="5417" h="5031">
                  <a:moveTo>
                    <a:pt x="5417" y="2516"/>
                  </a:moveTo>
                  <a:lnTo>
                    <a:pt x="5414" y="2411"/>
                  </a:lnTo>
                  <a:lnTo>
                    <a:pt x="5409" y="2307"/>
                  </a:lnTo>
                  <a:lnTo>
                    <a:pt x="5399" y="2205"/>
                  </a:lnTo>
                  <a:lnTo>
                    <a:pt x="5385" y="2102"/>
                  </a:lnTo>
                  <a:lnTo>
                    <a:pt x="5368" y="2003"/>
                  </a:lnTo>
                  <a:lnTo>
                    <a:pt x="5347" y="1903"/>
                  </a:lnTo>
                  <a:lnTo>
                    <a:pt x="5323" y="1805"/>
                  </a:lnTo>
                  <a:lnTo>
                    <a:pt x="5294" y="1709"/>
                  </a:lnTo>
                  <a:lnTo>
                    <a:pt x="5263" y="1615"/>
                  </a:lnTo>
                  <a:lnTo>
                    <a:pt x="5229" y="1521"/>
                  </a:lnTo>
                  <a:lnTo>
                    <a:pt x="5190" y="1430"/>
                  </a:lnTo>
                  <a:lnTo>
                    <a:pt x="5149" y="1341"/>
                  </a:lnTo>
                  <a:lnTo>
                    <a:pt x="5104" y="1252"/>
                  </a:lnTo>
                  <a:lnTo>
                    <a:pt x="5057" y="1166"/>
                  </a:lnTo>
                  <a:lnTo>
                    <a:pt x="5006" y="1083"/>
                  </a:lnTo>
                  <a:lnTo>
                    <a:pt x="4953" y="999"/>
                  </a:lnTo>
                  <a:lnTo>
                    <a:pt x="4897" y="919"/>
                  </a:lnTo>
                  <a:lnTo>
                    <a:pt x="4837" y="842"/>
                  </a:lnTo>
                  <a:lnTo>
                    <a:pt x="4776" y="766"/>
                  </a:lnTo>
                  <a:lnTo>
                    <a:pt x="4711" y="693"/>
                  </a:lnTo>
                  <a:lnTo>
                    <a:pt x="4644" y="622"/>
                  </a:lnTo>
                  <a:lnTo>
                    <a:pt x="4575" y="553"/>
                  </a:lnTo>
                  <a:lnTo>
                    <a:pt x="4502" y="487"/>
                  </a:lnTo>
                  <a:lnTo>
                    <a:pt x="4428" y="424"/>
                  </a:lnTo>
                  <a:lnTo>
                    <a:pt x="4351" y="363"/>
                  </a:lnTo>
                  <a:lnTo>
                    <a:pt x="4272" y="306"/>
                  </a:lnTo>
                  <a:lnTo>
                    <a:pt x="4192" y="250"/>
                  </a:lnTo>
                  <a:lnTo>
                    <a:pt x="4109" y="198"/>
                  </a:lnTo>
                  <a:lnTo>
                    <a:pt x="4024" y="148"/>
                  </a:lnTo>
                  <a:lnTo>
                    <a:pt x="3937" y="102"/>
                  </a:lnTo>
                  <a:lnTo>
                    <a:pt x="3849" y="59"/>
                  </a:lnTo>
                  <a:lnTo>
                    <a:pt x="3758" y="19"/>
                  </a:lnTo>
                  <a:lnTo>
                    <a:pt x="3737" y="17"/>
                  </a:lnTo>
                  <a:lnTo>
                    <a:pt x="3717" y="14"/>
                  </a:lnTo>
                  <a:lnTo>
                    <a:pt x="3696" y="11"/>
                  </a:lnTo>
                  <a:lnTo>
                    <a:pt x="3676" y="9"/>
                  </a:lnTo>
                  <a:lnTo>
                    <a:pt x="3654" y="7"/>
                  </a:lnTo>
                  <a:lnTo>
                    <a:pt x="3634" y="5"/>
                  </a:lnTo>
                  <a:lnTo>
                    <a:pt x="3613" y="3"/>
                  </a:lnTo>
                  <a:lnTo>
                    <a:pt x="3593" y="0"/>
                  </a:lnTo>
                  <a:lnTo>
                    <a:pt x="3689" y="36"/>
                  </a:lnTo>
                  <a:lnTo>
                    <a:pt x="3784" y="76"/>
                  </a:lnTo>
                  <a:lnTo>
                    <a:pt x="3876" y="119"/>
                  </a:lnTo>
                  <a:lnTo>
                    <a:pt x="3968" y="166"/>
                  </a:lnTo>
                  <a:lnTo>
                    <a:pt x="4056" y="215"/>
                  </a:lnTo>
                  <a:lnTo>
                    <a:pt x="4143" y="268"/>
                  </a:lnTo>
                  <a:lnTo>
                    <a:pt x="4227" y="324"/>
                  </a:lnTo>
                  <a:lnTo>
                    <a:pt x="4309" y="384"/>
                  </a:lnTo>
                  <a:lnTo>
                    <a:pt x="4389" y="445"/>
                  </a:lnTo>
                  <a:lnTo>
                    <a:pt x="4466" y="511"/>
                  </a:lnTo>
                  <a:lnTo>
                    <a:pt x="4540" y="579"/>
                  </a:lnTo>
                  <a:lnTo>
                    <a:pt x="4613" y="649"/>
                  </a:lnTo>
                  <a:lnTo>
                    <a:pt x="4682" y="723"/>
                  </a:lnTo>
                  <a:lnTo>
                    <a:pt x="4749" y="800"/>
                  </a:lnTo>
                  <a:lnTo>
                    <a:pt x="4813" y="877"/>
                  </a:lnTo>
                  <a:lnTo>
                    <a:pt x="4873" y="958"/>
                  </a:lnTo>
                  <a:lnTo>
                    <a:pt x="4930" y="1041"/>
                  </a:lnTo>
                  <a:lnTo>
                    <a:pt x="4985" y="1128"/>
                  </a:lnTo>
                  <a:lnTo>
                    <a:pt x="5036" y="1215"/>
                  </a:lnTo>
                  <a:lnTo>
                    <a:pt x="5085" y="1305"/>
                  </a:lnTo>
                  <a:lnTo>
                    <a:pt x="5129" y="1397"/>
                  </a:lnTo>
                  <a:lnTo>
                    <a:pt x="5170" y="1491"/>
                  </a:lnTo>
                  <a:lnTo>
                    <a:pt x="5208" y="1586"/>
                  </a:lnTo>
                  <a:lnTo>
                    <a:pt x="5243" y="1683"/>
                  </a:lnTo>
                  <a:lnTo>
                    <a:pt x="5273" y="1782"/>
                  </a:lnTo>
                  <a:lnTo>
                    <a:pt x="5300" y="1883"/>
                  </a:lnTo>
                  <a:lnTo>
                    <a:pt x="5323" y="1985"/>
                  </a:lnTo>
                  <a:lnTo>
                    <a:pt x="5341" y="2089"/>
                  </a:lnTo>
                  <a:lnTo>
                    <a:pt x="5356" y="2194"/>
                  </a:lnTo>
                  <a:lnTo>
                    <a:pt x="5367" y="2300"/>
                  </a:lnTo>
                  <a:lnTo>
                    <a:pt x="5372" y="2407"/>
                  </a:lnTo>
                  <a:lnTo>
                    <a:pt x="5375" y="2516"/>
                  </a:lnTo>
                  <a:lnTo>
                    <a:pt x="5372" y="2624"/>
                  </a:lnTo>
                  <a:lnTo>
                    <a:pt x="5367" y="2732"/>
                  </a:lnTo>
                  <a:lnTo>
                    <a:pt x="5356" y="2838"/>
                  </a:lnTo>
                  <a:lnTo>
                    <a:pt x="5341" y="2942"/>
                  </a:lnTo>
                  <a:lnTo>
                    <a:pt x="5323" y="3046"/>
                  </a:lnTo>
                  <a:lnTo>
                    <a:pt x="5300" y="3147"/>
                  </a:lnTo>
                  <a:lnTo>
                    <a:pt x="5273" y="3248"/>
                  </a:lnTo>
                  <a:lnTo>
                    <a:pt x="5243" y="3347"/>
                  </a:lnTo>
                  <a:lnTo>
                    <a:pt x="5208" y="3444"/>
                  </a:lnTo>
                  <a:lnTo>
                    <a:pt x="5170" y="3541"/>
                  </a:lnTo>
                  <a:lnTo>
                    <a:pt x="5129" y="3635"/>
                  </a:lnTo>
                  <a:lnTo>
                    <a:pt x="5085" y="3726"/>
                  </a:lnTo>
                  <a:lnTo>
                    <a:pt x="5036" y="3816"/>
                  </a:lnTo>
                  <a:lnTo>
                    <a:pt x="4985" y="3903"/>
                  </a:lnTo>
                  <a:lnTo>
                    <a:pt x="4930" y="3989"/>
                  </a:lnTo>
                  <a:lnTo>
                    <a:pt x="4873" y="4072"/>
                  </a:lnTo>
                  <a:lnTo>
                    <a:pt x="4813" y="4153"/>
                  </a:lnTo>
                  <a:lnTo>
                    <a:pt x="4749" y="4232"/>
                  </a:lnTo>
                  <a:lnTo>
                    <a:pt x="4682" y="4307"/>
                  </a:lnTo>
                  <a:lnTo>
                    <a:pt x="4613" y="4381"/>
                  </a:lnTo>
                  <a:lnTo>
                    <a:pt x="4540" y="4452"/>
                  </a:lnTo>
                  <a:lnTo>
                    <a:pt x="4466" y="4520"/>
                  </a:lnTo>
                  <a:lnTo>
                    <a:pt x="4389" y="4585"/>
                  </a:lnTo>
                  <a:lnTo>
                    <a:pt x="4309" y="4648"/>
                  </a:lnTo>
                  <a:lnTo>
                    <a:pt x="4227" y="4707"/>
                  </a:lnTo>
                  <a:lnTo>
                    <a:pt x="4143" y="4763"/>
                  </a:lnTo>
                  <a:lnTo>
                    <a:pt x="4056" y="4816"/>
                  </a:lnTo>
                  <a:lnTo>
                    <a:pt x="3968" y="4866"/>
                  </a:lnTo>
                  <a:lnTo>
                    <a:pt x="3876" y="4912"/>
                  </a:lnTo>
                  <a:lnTo>
                    <a:pt x="3784" y="4955"/>
                  </a:lnTo>
                  <a:lnTo>
                    <a:pt x="3689" y="4994"/>
                  </a:lnTo>
                  <a:lnTo>
                    <a:pt x="3593" y="5031"/>
                  </a:lnTo>
                  <a:lnTo>
                    <a:pt x="3613" y="5029"/>
                  </a:lnTo>
                  <a:lnTo>
                    <a:pt x="3634" y="5027"/>
                  </a:lnTo>
                  <a:lnTo>
                    <a:pt x="3654" y="5023"/>
                  </a:lnTo>
                  <a:lnTo>
                    <a:pt x="3676" y="5021"/>
                  </a:lnTo>
                  <a:lnTo>
                    <a:pt x="3696" y="5019"/>
                  </a:lnTo>
                  <a:lnTo>
                    <a:pt x="3717" y="5017"/>
                  </a:lnTo>
                  <a:lnTo>
                    <a:pt x="3737" y="5014"/>
                  </a:lnTo>
                  <a:lnTo>
                    <a:pt x="3758" y="5012"/>
                  </a:lnTo>
                  <a:lnTo>
                    <a:pt x="3849" y="4972"/>
                  </a:lnTo>
                  <a:lnTo>
                    <a:pt x="3937" y="4928"/>
                  </a:lnTo>
                  <a:lnTo>
                    <a:pt x="4024" y="4882"/>
                  </a:lnTo>
                  <a:lnTo>
                    <a:pt x="4109" y="4832"/>
                  </a:lnTo>
                  <a:lnTo>
                    <a:pt x="4192" y="4780"/>
                  </a:lnTo>
                  <a:lnTo>
                    <a:pt x="4272" y="4725"/>
                  </a:lnTo>
                  <a:lnTo>
                    <a:pt x="4351" y="4667"/>
                  </a:lnTo>
                  <a:lnTo>
                    <a:pt x="4428" y="4607"/>
                  </a:lnTo>
                  <a:lnTo>
                    <a:pt x="4502" y="4543"/>
                  </a:lnTo>
                  <a:lnTo>
                    <a:pt x="4575" y="4477"/>
                  </a:lnTo>
                  <a:lnTo>
                    <a:pt x="4644" y="4409"/>
                  </a:lnTo>
                  <a:lnTo>
                    <a:pt x="4711" y="4338"/>
                  </a:lnTo>
                  <a:lnTo>
                    <a:pt x="4776" y="4264"/>
                  </a:lnTo>
                  <a:lnTo>
                    <a:pt x="4837" y="4189"/>
                  </a:lnTo>
                  <a:lnTo>
                    <a:pt x="4897" y="4111"/>
                  </a:lnTo>
                  <a:lnTo>
                    <a:pt x="4953" y="4031"/>
                  </a:lnTo>
                  <a:lnTo>
                    <a:pt x="5006" y="3949"/>
                  </a:lnTo>
                  <a:lnTo>
                    <a:pt x="5057" y="3865"/>
                  </a:lnTo>
                  <a:lnTo>
                    <a:pt x="5104" y="3778"/>
                  </a:lnTo>
                  <a:lnTo>
                    <a:pt x="5149" y="3691"/>
                  </a:lnTo>
                  <a:lnTo>
                    <a:pt x="5190" y="3601"/>
                  </a:lnTo>
                  <a:lnTo>
                    <a:pt x="5229" y="3509"/>
                  </a:lnTo>
                  <a:lnTo>
                    <a:pt x="5263" y="3416"/>
                  </a:lnTo>
                  <a:lnTo>
                    <a:pt x="5294" y="3321"/>
                  </a:lnTo>
                  <a:lnTo>
                    <a:pt x="5323" y="3225"/>
                  </a:lnTo>
                  <a:lnTo>
                    <a:pt x="5347" y="3128"/>
                  </a:lnTo>
                  <a:lnTo>
                    <a:pt x="5368" y="3029"/>
                  </a:lnTo>
                  <a:lnTo>
                    <a:pt x="5385" y="2928"/>
                  </a:lnTo>
                  <a:lnTo>
                    <a:pt x="5399" y="2827"/>
                  </a:lnTo>
                  <a:lnTo>
                    <a:pt x="5409" y="2724"/>
                  </a:lnTo>
                  <a:lnTo>
                    <a:pt x="5414" y="2620"/>
                  </a:lnTo>
                  <a:lnTo>
                    <a:pt x="5417" y="2516"/>
                  </a:lnTo>
                  <a:close/>
                  <a:moveTo>
                    <a:pt x="1658" y="19"/>
                  </a:moveTo>
                  <a:lnTo>
                    <a:pt x="1568" y="59"/>
                  </a:lnTo>
                  <a:lnTo>
                    <a:pt x="1479" y="102"/>
                  </a:lnTo>
                  <a:lnTo>
                    <a:pt x="1393" y="148"/>
                  </a:lnTo>
                  <a:lnTo>
                    <a:pt x="1307" y="198"/>
                  </a:lnTo>
                  <a:lnTo>
                    <a:pt x="1224" y="250"/>
                  </a:lnTo>
                  <a:lnTo>
                    <a:pt x="1143" y="306"/>
                  </a:lnTo>
                  <a:lnTo>
                    <a:pt x="1065" y="363"/>
                  </a:lnTo>
                  <a:lnTo>
                    <a:pt x="989" y="424"/>
                  </a:lnTo>
                  <a:lnTo>
                    <a:pt x="914" y="487"/>
                  </a:lnTo>
                  <a:lnTo>
                    <a:pt x="842" y="553"/>
                  </a:lnTo>
                  <a:lnTo>
                    <a:pt x="772" y="622"/>
                  </a:lnTo>
                  <a:lnTo>
                    <a:pt x="705" y="693"/>
                  </a:lnTo>
                  <a:lnTo>
                    <a:pt x="641" y="766"/>
                  </a:lnTo>
                  <a:lnTo>
                    <a:pt x="579" y="842"/>
                  </a:lnTo>
                  <a:lnTo>
                    <a:pt x="520" y="919"/>
                  </a:lnTo>
                  <a:lnTo>
                    <a:pt x="463" y="999"/>
                  </a:lnTo>
                  <a:lnTo>
                    <a:pt x="410" y="1083"/>
                  </a:lnTo>
                  <a:lnTo>
                    <a:pt x="360" y="1166"/>
                  </a:lnTo>
                  <a:lnTo>
                    <a:pt x="312" y="1252"/>
                  </a:lnTo>
                  <a:lnTo>
                    <a:pt x="268" y="1341"/>
                  </a:lnTo>
                  <a:lnTo>
                    <a:pt x="227" y="1430"/>
                  </a:lnTo>
                  <a:lnTo>
                    <a:pt x="188" y="1521"/>
                  </a:lnTo>
                  <a:lnTo>
                    <a:pt x="153" y="1615"/>
                  </a:lnTo>
                  <a:lnTo>
                    <a:pt x="122" y="1709"/>
                  </a:lnTo>
                  <a:lnTo>
                    <a:pt x="94" y="1805"/>
                  </a:lnTo>
                  <a:lnTo>
                    <a:pt x="69" y="1903"/>
                  </a:lnTo>
                  <a:lnTo>
                    <a:pt x="48" y="2003"/>
                  </a:lnTo>
                  <a:lnTo>
                    <a:pt x="31" y="2102"/>
                  </a:lnTo>
                  <a:lnTo>
                    <a:pt x="17" y="2205"/>
                  </a:lnTo>
                  <a:lnTo>
                    <a:pt x="7" y="2307"/>
                  </a:lnTo>
                  <a:lnTo>
                    <a:pt x="2" y="2411"/>
                  </a:lnTo>
                  <a:lnTo>
                    <a:pt x="0" y="2516"/>
                  </a:lnTo>
                  <a:lnTo>
                    <a:pt x="2" y="2620"/>
                  </a:lnTo>
                  <a:lnTo>
                    <a:pt x="7" y="2724"/>
                  </a:lnTo>
                  <a:lnTo>
                    <a:pt x="17" y="2827"/>
                  </a:lnTo>
                  <a:lnTo>
                    <a:pt x="31" y="2928"/>
                  </a:lnTo>
                  <a:lnTo>
                    <a:pt x="48" y="3029"/>
                  </a:lnTo>
                  <a:lnTo>
                    <a:pt x="69" y="3128"/>
                  </a:lnTo>
                  <a:lnTo>
                    <a:pt x="94" y="3225"/>
                  </a:lnTo>
                  <a:lnTo>
                    <a:pt x="122" y="3321"/>
                  </a:lnTo>
                  <a:lnTo>
                    <a:pt x="153" y="3416"/>
                  </a:lnTo>
                  <a:lnTo>
                    <a:pt x="188" y="3509"/>
                  </a:lnTo>
                  <a:lnTo>
                    <a:pt x="227" y="3601"/>
                  </a:lnTo>
                  <a:lnTo>
                    <a:pt x="268" y="3691"/>
                  </a:lnTo>
                  <a:lnTo>
                    <a:pt x="312" y="3778"/>
                  </a:lnTo>
                  <a:lnTo>
                    <a:pt x="360" y="3865"/>
                  </a:lnTo>
                  <a:lnTo>
                    <a:pt x="410" y="3949"/>
                  </a:lnTo>
                  <a:lnTo>
                    <a:pt x="463" y="4031"/>
                  </a:lnTo>
                  <a:lnTo>
                    <a:pt x="520" y="4111"/>
                  </a:lnTo>
                  <a:lnTo>
                    <a:pt x="579" y="4189"/>
                  </a:lnTo>
                  <a:lnTo>
                    <a:pt x="641" y="4264"/>
                  </a:lnTo>
                  <a:lnTo>
                    <a:pt x="705" y="4338"/>
                  </a:lnTo>
                  <a:lnTo>
                    <a:pt x="772" y="4409"/>
                  </a:lnTo>
                  <a:lnTo>
                    <a:pt x="842" y="4477"/>
                  </a:lnTo>
                  <a:lnTo>
                    <a:pt x="914" y="4543"/>
                  </a:lnTo>
                  <a:lnTo>
                    <a:pt x="989" y="4607"/>
                  </a:lnTo>
                  <a:lnTo>
                    <a:pt x="1065" y="4667"/>
                  </a:lnTo>
                  <a:lnTo>
                    <a:pt x="1143" y="4725"/>
                  </a:lnTo>
                  <a:lnTo>
                    <a:pt x="1224" y="4780"/>
                  </a:lnTo>
                  <a:lnTo>
                    <a:pt x="1307" y="4832"/>
                  </a:lnTo>
                  <a:lnTo>
                    <a:pt x="1393" y="4882"/>
                  </a:lnTo>
                  <a:lnTo>
                    <a:pt x="1479" y="4928"/>
                  </a:lnTo>
                  <a:lnTo>
                    <a:pt x="1568" y="4972"/>
                  </a:lnTo>
                  <a:lnTo>
                    <a:pt x="1658" y="5012"/>
                  </a:lnTo>
                  <a:lnTo>
                    <a:pt x="1679" y="5014"/>
                  </a:lnTo>
                  <a:lnTo>
                    <a:pt x="1700" y="5017"/>
                  </a:lnTo>
                  <a:lnTo>
                    <a:pt x="1720" y="5019"/>
                  </a:lnTo>
                  <a:lnTo>
                    <a:pt x="1741" y="5021"/>
                  </a:lnTo>
                  <a:lnTo>
                    <a:pt x="1762" y="5023"/>
                  </a:lnTo>
                  <a:lnTo>
                    <a:pt x="1783" y="5027"/>
                  </a:lnTo>
                  <a:lnTo>
                    <a:pt x="1803" y="5029"/>
                  </a:lnTo>
                  <a:lnTo>
                    <a:pt x="1824" y="5031"/>
                  </a:lnTo>
                  <a:lnTo>
                    <a:pt x="1728" y="4994"/>
                  </a:lnTo>
                  <a:lnTo>
                    <a:pt x="1633" y="4955"/>
                  </a:lnTo>
                  <a:lnTo>
                    <a:pt x="1540" y="4912"/>
                  </a:lnTo>
                  <a:lnTo>
                    <a:pt x="1449" y="4866"/>
                  </a:lnTo>
                  <a:lnTo>
                    <a:pt x="1360" y="4816"/>
                  </a:lnTo>
                  <a:lnTo>
                    <a:pt x="1274" y="4763"/>
                  </a:lnTo>
                  <a:lnTo>
                    <a:pt x="1189" y="4707"/>
                  </a:lnTo>
                  <a:lnTo>
                    <a:pt x="1107" y="4648"/>
                  </a:lnTo>
                  <a:lnTo>
                    <a:pt x="1027" y="4585"/>
                  </a:lnTo>
                  <a:lnTo>
                    <a:pt x="951" y="4520"/>
                  </a:lnTo>
                  <a:lnTo>
                    <a:pt x="876" y="4452"/>
                  </a:lnTo>
                  <a:lnTo>
                    <a:pt x="804" y="4381"/>
                  </a:lnTo>
                  <a:lnTo>
                    <a:pt x="735" y="4307"/>
                  </a:lnTo>
                  <a:lnTo>
                    <a:pt x="668" y="4232"/>
                  </a:lnTo>
                  <a:lnTo>
                    <a:pt x="604" y="4153"/>
                  </a:lnTo>
                  <a:lnTo>
                    <a:pt x="543" y="4072"/>
                  </a:lnTo>
                  <a:lnTo>
                    <a:pt x="486" y="3989"/>
                  </a:lnTo>
                  <a:lnTo>
                    <a:pt x="431" y="3903"/>
                  </a:lnTo>
                  <a:lnTo>
                    <a:pt x="380" y="3816"/>
                  </a:lnTo>
                  <a:lnTo>
                    <a:pt x="332" y="3726"/>
                  </a:lnTo>
                  <a:lnTo>
                    <a:pt x="287" y="3635"/>
                  </a:lnTo>
                  <a:lnTo>
                    <a:pt x="246" y="3541"/>
                  </a:lnTo>
                  <a:lnTo>
                    <a:pt x="208" y="3444"/>
                  </a:lnTo>
                  <a:lnTo>
                    <a:pt x="174" y="3347"/>
                  </a:lnTo>
                  <a:lnTo>
                    <a:pt x="144" y="3248"/>
                  </a:lnTo>
                  <a:lnTo>
                    <a:pt x="117" y="3147"/>
                  </a:lnTo>
                  <a:lnTo>
                    <a:pt x="94" y="3046"/>
                  </a:lnTo>
                  <a:lnTo>
                    <a:pt x="75" y="2942"/>
                  </a:lnTo>
                  <a:lnTo>
                    <a:pt x="60" y="2838"/>
                  </a:lnTo>
                  <a:lnTo>
                    <a:pt x="50" y="2732"/>
                  </a:lnTo>
                  <a:lnTo>
                    <a:pt x="43" y="2624"/>
                  </a:lnTo>
                  <a:lnTo>
                    <a:pt x="41" y="2516"/>
                  </a:lnTo>
                  <a:lnTo>
                    <a:pt x="43" y="2407"/>
                  </a:lnTo>
                  <a:lnTo>
                    <a:pt x="50" y="2300"/>
                  </a:lnTo>
                  <a:lnTo>
                    <a:pt x="60" y="2194"/>
                  </a:lnTo>
                  <a:lnTo>
                    <a:pt x="75" y="2089"/>
                  </a:lnTo>
                  <a:lnTo>
                    <a:pt x="94" y="1985"/>
                  </a:lnTo>
                  <a:lnTo>
                    <a:pt x="117" y="1883"/>
                  </a:lnTo>
                  <a:lnTo>
                    <a:pt x="144" y="1782"/>
                  </a:lnTo>
                  <a:lnTo>
                    <a:pt x="174" y="1683"/>
                  </a:lnTo>
                  <a:lnTo>
                    <a:pt x="208" y="1586"/>
                  </a:lnTo>
                  <a:lnTo>
                    <a:pt x="246" y="1491"/>
                  </a:lnTo>
                  <a:lnTo>
                    <a:pt x="287" y="1397"/>
                  </a:lnTo>
                  <a:lnTo>
                    <a:pt x="332" y="1305"/>
                  </a:lnTo>
                  <a:lnTo>
                    <a:pt x="380" y="1215"/>
                  </a:lnTo>
                  <a:lnTo>
                    <a:pt x="431" y="1128"/>
                  </a:lnTo>
                  <a:lnTo>
                    <a:pt x="486" y="1041"/>
                  </a:lnTo>
                  <a:lnTo>
                    <a:pt x="543" y="958"/>
                  </a:lnTo>
                  <a:lnTo>
                    <a:pt x="604" y="877"/>
                  </a:lnTo>
                  <a:lnTo>
                    <a:pt x="668" y="800"/>
                  </a:lnTo>
                  <a:lnTo>
                    <a:pt x="735" y="723"/>
                  </a:lnTo>
                  <a:lnTo>
                    <a:pt x="804" y="649"/>
                  </a:lnTo>
                  <a:lnTo>
                    <a:pt x="876" y="579"/>
                  </a:lnTo>
                  <a:lnTo>
                    <a:pt x="951" y="511"/>
                  </a:lnTo>
                  <a:lnTo>
                    <a:pt x="1027" y="445"/>
                  </a:lnTo>
                  <a:lnTo>
                    <a:pt x="1107" y="384"/>
                  </a:lnTo>
                  <a:lnTo>
                    <a:pt x="1189" y="324"/>
                  </a:lnTo>
                  <a:lnTo>
                    <a:pt x="1274" y="268"/>
                  </a:lnTo>
                  <a:lnTo>
                    <a:pt x="1360" y="215"/>
                  </a:lnTo>
                  <a:lnTo>
                    <a:pt x="1449" y="166"/>
                  </a:lnTo>
                  <a:lnTo>
                    <a:pt x="1540" y="119"/>
                  </a:lnTo>
                  <a:lnTo>
                    <a:pt x="1633" y="76"/>
                  </a:lnTo>
                  <a:lnTo>
                    <a:pt x="1728" y="36"/>
                  </a:lnTo>
                  <a:lnTo>
                    <a:pt x="1824" y="0"/>
                  </a:lnTo>
                  <a:lnTo>
                    <a:pt x="1803" y="3"/>
                  </a:lnTo>
                  <a:lnTo>
                    <a:pt x="1783" y="5"/>
                  </a:lnTo>
                  <a:lnTo>
                    <a:pt x="1762" y="7"/>
                  </a:lnTo>
                  <a:lnTo>
                    <a:pt x="1741" y="9"/>
                  </a:lnTo>
                  <a:lnTo>
                    <a:pt x="1720" y="11"/>
                  </a:lnTo>
                  <a:lnTo>
                    <a:pt x="1700" y="14"/>
                  </a:lnTo>
                  <a:lnTo>
                    <a:pt x="1679" y="17"/>
                  </a:lnTo>
                  <a:lnTo>
                    <a:pt x="165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06760" y="1995480"/>
              <a:ext cx="2133720" cy="2003400"/>
            </a:xfrm>
            <a:custGeom>
              <a:avLst/>
              <a:gdLst/>
              <a:ahLst/>
              <a:rect l="l" t="t" r="r" b="b"/>
              <a:pathLst>
                <a:path w="5376" h="5049">
                  <a:moveTo>
                    <a:pt x="5376" y="2525"/>
                  </a:moveTo>
                  <a:lnTo>
                    <a:pt x="5374" y="2418"/>
                  </a:lnTo>
                  <a:lnTo>
                    <a:pt x="5367" y="2312"/>
                  </a:lnTo>
                  <a:lnTo>
                    <a:pt x="5358" y="2208"/>
                  </a:lnTo>
                  <a:lnTo>
                    <a:pt x="5344" y="2105"/>
                  </a:lnTo>
                  <a:lnTo>
                    <a:pt x="5325" y="2003"/>
                  </a:lnTo>
                  <a:lnTo>
                    <a:pt x="5304" y="1903"/>
                  </a:lnTo>
                  <a:lnTo>
                    <a:pt x="5278" y="1803"/>
                  </a:lnTo>
                  <a:lnTo>
                    <a:pt x="5249" y="1706"/>
                  </a:lnTo>
                  <a:lnTo>
                    <a:pt x="5216" y="1610"/>
                  </a:lnTo>
                  <a:lnTo>
                    <a:pt x="5179" y="1516"/>
                  </a:lnTo>
                  <a:lnTo>
                    <a:pt x="5140" y="1423"/>
                  </a:lnTo>
                  <a:lnTo>
                    <a:pt x="5097" y="1332"/>
                  </a:lnTo>
                  <a:lnTo>
                    <a:pt x="5051" y="1244"/>
                  </a:lnTo>
                  <a:lnTo>
                    <a:pt x="5002" y="1156"/>
                  </a:lnTo>
                  <a:lnTo>
                    <a:pt x="4949" y="1072"/>
                  </a:lnTo>
                  <a:lnTo>
                    <a:pt x="4894" y="989"/>
                  </a:lnTo>
                  <a:lnTo>
                    <a:pt x="4836" y="909"/>
                  </a:lnTo>
                  <a:lnTo>
                    <a:pt x="4774" y="830"/>
                  </a:lnTo>
                  <a:lnTo>
                    <a:pt x="4710" y="755"/>
                  </a:lnTo>
                  <a:lnTo>
                    <a:pt x="4643" y="681"/>
                  </a:lnTo>
                  <a:lnTo>
                    <a:pt x="4574" y="611"/>
                  </a:lnTo>
                  <a:lnTo>
                    <a:pt x="4502" y="542"/>
                  </a:lnTo>
                  <a:lnTo>
                    <a:pt x="4427" y="477"/>
                  </a:lnTo>
                  <a:lnTo>
                    <a:pt x="4351" y="413"/>
                  </a:lnTo>
                  <a:lnTo>
                    <a:pt x="4272" y="354"/>
                  </a:lnTo>
                  <a:lnTo>
                    <a:pt x="4190" y="297"/>
                  </a:lnTo>
                  <a:lnTo>
                    <a:pt x="4106" y="243"/>
                  </a:lnTo>
                  <a:lnTo>
                    <a:pt x="4021" y="191"/>
                  </a:lnTo>
                  <a:lnTo>
                    <a:pt x="3932" y="143"/>
                  </a:lnTo>
                  <a:lnTo>
                    <a:pt x="3843" y="98"/>
                  </a:lnTo>
                  <a:lnTo>
                    <a:pt x="3752" y="57"/>
                  </a:lnTo>
                  <a:lnTo>
                    <a:pt x="3658" y="19"/>
                  </a:lnTo>
                  <a:lnTo>
                    <a:pt x="3636" y="16"/>
                  </a:lnTo>
                  <a:lnTo>
                    <a:pt x="3614" y="14"/>
                  </a:lnTo>
                  <a:lnTo>
                    <a:pt x="3591" y="12"/>
                  </a:lnTo>
                  <a:lnTo>
                    <a:pt x="3568" y="8"/>
                  </a:lnTo>
                  <a:lnTo>
                    <a:pt x="3547" y="6"/>
                  </a:lnTo>
                  <a:lnTo>
                    <a:pt x="3524" y="4"/>
                  </a:lnTo>
                  <a:lnTo>
                    <a:pt x="3501" y="2"/>
                  </a:lnTo>
                  <a:lnTo>
                    <a:pt x="3479" y="0"/>
                  </a:lnTo>
                  <a:lnTo>
                    <a:pt x="3578" y="33"/>
                  </a:lnTo>
                  <a:lnTo>
                    <a:pt x="3676" y="71"/>
                  </a:lnTo>
                  <a:lnTo>
                    <a:pt x="3773" y="112"/>
                  </a:lnTo>
                  <a:lnTo>
                    <a:pt x="3867" y="156"/>
                  </a:lnTo>
                  <a:lnTo>
                    <a:pt x="3959" y="204"/>
                  </a:lnTo>
                  <a:lnTo>
                    <a:pt x="4049" y="256"/>
                  </a:lnTo>
                  <a:lnTo>
                    <a:pt x="4137" y="311"/>
                  </a:lnTo>
                  <a:lnTo>
                    <a:pt x="4222" y="369"/>
                  </a:lnTo>
                  <a:lnTo>
                    <a:pt x="4305" y="431"/>
                  </a:lnTo>
                  <a:lnTo>
                    <a:pt x="4385" y="495"/>
                  </a:lnTo>
                  <a:lnTo>
                    <a:pt x="4463" y="563"/>
                  </a:lnTo>
                  <a:lnTo>
                    <a:pt x="4539" y="634"/>
                  </a:lnTo>
                  <a:lnTo>
                    <a:pt x="4610" y="707"/>
                  </a:lnTo>
                  <a:lnTo>
                    <a:pt x="4680" y="784"/>
                  </a:lnTo>
                  <a:lnTo>
                    <a:pt x="4746" y="863"/>
                  </a:lnTo>
                  <a:lnTo>
                    <a:pt x="4810" y="944"/>
                  </a:lnTo>
                  <a:lnTo>
                    <a:pt x="4869" y="1028"/>
                  </a:lnTo>
                  <a:lnTo>
                    <a:pt x="4927" y="1114"/>
                  </a:lnTo>
                  <a:lnTo>
                    <a:pt x="4981" y="1203"/>
                  </a:lnTo>
                  <a:lnTo>
                    <a:pt x="5030" y="1293"/>
                  </a:lnTo>
                  <a:lnTo>
                    <a:pt x="5077" y="1386"/>
                  </a:lnTo>
                  <a:lnTo>
                    <a:pt x="5120" y="1481"/>
                  </a:lnTo>
                  <a:lnTo>
                    <a:pt x="5160" y="1579"/>
                  </a:lnTo>
                  <a:lnTo>
                    <a:pt x="5196" y="1677"/>
                  </a:lnTo>
                  <a:lnTo>
                    <a:pt x="5227" y="1777"/>
                  </a:lnTo>
                  <a:lnTo>
                    <a:pt x="5255" y="1880"/>
                  </a:lnTo>
                  <a:lnTo>
                    <a:pt x="5279" y="1984"/>
                  </a:lnTo>
                  <a:lnTo>
                    <a:pt x="5298" y="2089"/>
                  </a:lnTo>
                  <a:lnTo>
                    <a:pt x="5314" y="2196"/>
                  </a:lnTo>
                  <a:lnTo>
                    <a:pt x="5325" y="2304"/>
                  </a:lnTo>
                  <a:lnTo>
                    <a:pt x="5332" y="2413"/>
                  </a:lnTo>
                  <a:lnTo>
                    <a:pt x="5334" y="2525"/>
                  </a:lnTo>
                  <a:lnTo>
                    <a:pt x="5332" y="2635"/>
                  </a:lnTo>
                  <a:lnTo>
                    <a:pt x="5325" y="2744"/>
                  </a:lnTo>
                  <a:lnTo>
                    <a:pt x="5314" y="2853"/>
                  </a:lnTo>
                  <a:lnTo>
                    <a:pt x="5298" y="2960"/>
                  </a:lnTo>
                  <a:lnTo>
                    <a:pt x="5279" y="3065"/>
                  </a:lnTo>
                  <a:lnTo>
                    <a:pt x="5255" y="3168"/>
                  </a:lnTo>
                  <a:lnTo>
                    <a:pt x="5227" y="3271"/>
                  </a:lnTo>
                  <a:lnTo>
                    <a:pt x="5196" y="3371"/>
                  </a:lnTo>
                  <a:lnTo>
                    <a:pt x="5160" y="3471"/>
                  </a:lnTo>
                  <a:lnTo>
                    <a:pt x="5120" y="3568"/>
                  </a:lnTo>
                  <a:lnTo>
                    <a:pt x="5077" y="3663"/>
                  </a:lnTo>
                  <a:lnTo>
                    <a:pt x="5030" y="3756"/>
                  </a:lnTo>
                  <a:lnTo>
                    <a:pt x="4981" y="3847"/>
                  </a:lnTo>
                  <a:lnTo>
                    <a:pt x="4927" y="3935"/>
                  </a:lnTo>
                  <a:lnTo>
                    <a:pt x="4869" y="4022"/>
                  </a:lnTo>
                  <a:lnTo>
                    <a:pt x="4810" y="4106"/>
                  </a:lnTo>
                  <a:lnTo>
                    <a:pt x="4746" y="4187"/>
                  </a:lnTo>
                  <a:lnTo>
                    <a:pt x="4680" y="4266"/>
                  </a:lnTo>
                  <a:lnTo>
                    <a:pt x="4610" y="4341"/>
                  </a:lnTo>
                  <a:lnTo>
                    <a:pt x="4539" y="4415"/>
                  </a:lnTo>
                  <a:lnTo>
                    <a:pt x="4463" y="4486"/>
                  </a:lnTo>
                  <a:lnTo>
                    <a:pt x="4385" y="4553"/>
                  </a:lnTo>
                  <a:lnTo>
                    <a:pt x="4305" y="4618"/>
                  </a:lnTo>
                  <a:lnTo>
                    <a:pt x="4222" y="4679"/>
                  </a:lnTo>
                  <a:lnTo>
                    <a:pt x="4137" y="4738"/>
                  </a:lnTo>
                  <a:lnTo>
                    <a:pt x="4049" y="4793"/>
                  </a:lnTo>
                  <a:lnTo>
                    <a:pt x="3959" y="4845"/>
                  </a:lnTo>
                  <a:lnTo>
                    <a:pt x="3867" y="4893"/>
                  </a:lnTo>
                  <a:lnTo>
                    <a:pt x="3773" y="4937"/>
                  </a:lnTo>
                  <a:lnTo>
                    <a:pt x="3676" y="4978"/>
                  </a:lnTo>
                  <a:lnTo>
                    <a:pt x="3578" y="5015"/>
                  </a:lnTo>
                  <a:lnTo>
                    <a:pt x="3479" y="5049"/>
                  </a:lnTo>
                  <a:lnTo>
                    <a:pt x="3501" y="5046"/>
                  </a:lnTo>
                  <a:lnTo>
                    <a:pt x="3524" y="5044"/>
                  </a:lnTo>
                  <a:lnTo>
                    <a:pt x="3547" y="5042"/>
                  </a:lnTo>
                  <a:lnTo>
                    <a:pt x="3568" y="5040"/>
                  </a:lnTo>
                  <a:lnTo>
                    <a:pt x="3591" y="5038"/>
                  </a:lnTo>
                  <a:lnTo>
                    <a:pt x="3614" y="5036"/>
                  </a:lnTo>
                  <a:lnTo>
                    <a:pt x="3636" y="5032"/>
                  </a:lnTo>
                  <a:lnTo>
                    <a:pt x="3658" y="5030"/>
                  </a:lnTo>
                  <a:lnTo>
                    <a:pt x="3752" y="4992"/>
                  </a:lnTo>
                  <a:lnTo>
                    <a:pt x="3843" y="4950"/>
                  </a:lnTo>
                  <a:lnTo>
                    <a:pt x="3932" y="4906"/>
                  </a:lnTo>
                  <a:lnTo>
                    <a:pt x="4021" y="4857"/>
                  </a:lnTo>
                  <a:lnTo>
                    <a:pt x="4106" y="4807"/>
                  </a:lnTo>
                  <a:lnTo>
                    <a:pt x="4190" y="4753"/>
                  </a:lnTo>
                  <a:lnTo>
                    <a:pt x="4272" y="4695"/>
                  </a:lnTo>
                  <a:lnTo>
                    <a:pt x="4351" y="4635"/>
                  </a:lnTo>
                  <a:lnTo>
                    <a:pt x="4427" y="4572"/>
                  </a:lnTo>
                  <a:lnTo>
                    <a:pt x="4502" y="4506"/>
                  </a:lnTo>
                  <a:lnTo>
                    <a:pt x="4574" y="4438"/>
                  </a:lnTo>
                  <a:lnTo>
                    <a:pt x="4643" y="4367"/>
                  </a:lnTo>
                  <a:lnTo>
                    <a:pt x="4710" y="4294"/>
                  </a:lnTo>
                  <a:lnTo>
                    <a:pt x="4774" y="4218"/>
                  </a:lnTo>
                  <a:lnTo>
                    <a:pt x="4836" y="4140"/>
                  </a:lnTo>
                  <a:lnTo>
                    <a:pt x="4894" y="4059"/>
                  </a:lnTo>
                  <a:lnTo>
                    <a:pt x="4949" y="3977"/>
                  </a:lnTo>
                  <a:lnTo>
                    <a:pt x="5002" y="3892"/>
                  </a:lnTo>
                  <a:lnTo>
                    <a:pt x="5051" y="3806"/>
                  </a:lnTo>
                  <a:lnTo>
                    <a:pt x="5097" y="3716"/>
                  </a:lnTo>
                  <a:lnTo>
                    <a:pt x="5140" y="3625"/>
                  </a:lnTo>
                  <a:lnTo>
                    <a:pt x="5179" y="3533"/>
                  </a:lnTo>
                  <a:lnTo>
                    <a:pt x="5216" y="3438"/>
                  </a:lnTo>
                  <a:lnTo>
                    <a:pt x="5249" y="3343"/>
                  </a:lnTo>
                  <a:lnTo>
                    <a:pt x="5278" y="3245"/>
                  </a:lnTo>
                  <a:lnTo>
                    <a:pt x="5304" y="3147"/>
                  </a:lnTo>
                  <a:lnTo>
                    <a:pt x="5325" y="3045"/>
                  </a:lnTo>
                  <a:lnTo>
                    <a:pt x="5344" y="2944"/>
                  </a:lnTo>
                  <a:lnTo>
                    <a:pt x="5358" y="2841"/>
                  </a:lnTo>
                  <a:lnTo>
                    <a:pt x="5367" y="2736"/>
                  </a:lnTo>
                  <a:lnTo>
                    <a:pt x="5374" y="2631"/>
                  </a:lnTo>
                  <a:lnTo>
                    <a:pt x="5376" y="2525"/>
                  </a:lnTo>
                  <a:close/>
                  <a:moveTo>
                    <a:pt x="1718" y="19"/>
                  </a:moveTo>
                  <a:lnTo>
                    <a:pt x="1624" y="57"/>
                  </a:lnTo>
                  <a:lnTo>
                    <a:pt x="1534" y="98"/>
                  </a:lnTo>
                  <a:lnTo>
                    <a:pt x="1444" y="143"/>
                  </a:lnTo>
                  <a:lnTo>
                    <a:pt x="1355" y="191"/>
                  </a:lnTo>
                  <a:lnTo>
                    <a:pt x="1270" y="243"/>
                  </a:lnTo>
                  <a:lnTo>
                    <a:pt x="1187" y="297"/>
                  </a:lnTo>
                  <a:lnTo>
                    <a:pt x="1105" y="354"/>
                  </a:lnTo>
                  <a:lnTo>
                    <a:pt x="1026" y="413"/>
                  </a:lnTo>
                  <a:lnTo>
                    <a:pt x="949" y="477"/>
                  </a:lnTo>
                  <a:lnTo>
                    <a:pt x="875" y="542"/>
                  </a:lnTo>
                  <a:lnTo>
                    <a:pt x="802" y="611"/>
                  </a:lnTo>
                  <a:lnTo>
                    <a:pt x="733" y="681"/>
                  </a:lnTo>
                  <a:lnTo>
                    <a:pt x="666" y="755"/>
                  </a:lnTo>
                  <a:lnTo>
                    <a:pt x="602" y="830"/>
                  </a:lnTo>
                  <a:lnTo>
                    <a:pt x="541" y="909"/>
                  </a:lnTo>
                  <a:lnTo>
                    <a:pt x="482" y="989"/>
                  </a:lnTo>
                  <a:lnTo>
                    <a:pt x="427" y="1072"/>
                  </a:lnTo>
                  <a:lnTo>
                    <a:pt x="374" y="1156"/>
                  </a:lnTo>
                  <a:lnTo>
                    <a:pt x="326" y="1244"/>
                  </a:lnTo>
                  <a:lnTo>
                    <a:pt x="279" y="1332"/>
                  </a:lnTo>
                  <a:lnTo>
                    <a:pt x="236" y="1423"/>
                  </a:lnTo>
                  <a:lnTo>
                    <a:pt x="197" y="1516"/>
                  </a:lnTo>
                  <a:lnTo>
                    <a:pt x="160" y="1610"/>
                  </a:lnTo>
                  <a:lnTo>
                    <a:pt x="128" y="1706"/>
                  </a:lnTo>
                  <a:lnTo>
                    <a:pt x="99" y="1803"/>
                  </a:lnTo>
                  <a:lnTo>
                    <a:pt x="73" y="1903"/>
                  </a:lnTo>
                  <a:lnTo>
                    <a:pt x="51" y="2003"/>
                  </a:lnTo>
                  <a:lnTo>
                    <a:pt x="33" y="2105"/>
                  </a:lnTo>
                  <a:lnTo>
                    <a:pt x="19" y="2208"/>
                  </a:lnTo>
                  <a:lnTo>
                    <a:pt x="9" y="2312"/>
                  </a:lnTo>
                  <a:lnTo>
                    <a:pt x="3" y="2418"/>
                  </a:lnTo>
                  <a:lnTo>
                    <a:pt x="0" y="2525"/>
                  </a:lnTo>
                  <a:lnTo>
                    <a:pt x="3" y="2631"/>
                  </a:lnTo>
                  <a:lnTo>
                    <a:pt x="9" y="2736"/>
                  </a:lnTo>
                  <a:lnTo>
                    <a:pt x="19" y="2841"/>
                  </a:lnTo>
                  <a:lnTo>
                    <a:pt x="33" y="2944"/>
                  </a:lnTo>
                  <a:lnTo>
                    <a:pt x="51" y="3045"/>
                  </a:lnTo>
                  <a:lnTo>
                    <a:pt x="73" y="3147"/>
                  </a:lnTo>
                  <a:lnTo>
                    <a:pt x="99" y="3245"/>
                  </a:lnTo>
                  <a:lnTo>
                    <a:pt x="128" y="3343"/>
                  </a:lnTo>
                  <a:lnTo>
                    <a:pt x="160" y="3438"/>
                  </a:lnTo>
                  <a:lnTo>
                    <a:pt x="197" y="3533"/>
                  </a:lnTo>
                  <a:lnTo>
                    <a:pt x="236" y="3625"/>
                  </a:lnTo>
                  <a:lnTo>
                    <a:pt x="279" y="3716"/>
                  </a:lnTo>
                  <a:lnTo>
                    <a:pt x="326" y="3806"/>
                  </a:lnTo>
                  <a:lnTo>
                    <a:pt x="374" y="3892"/>
                  </a:lnTo>
                  <a:lnTo>
                    <a:pt x="427" y="3977"/>
                  </a:lnTo>
                  <a:lnTo>
                    <a:pt x="482" y="4059"/>
                  </a:lnTo>
                  <a:lnTo>
                    <a:pt x="541" y="4140"/>
                  </a:lnTo>
                  <a:lnTo>
                    <a:pt x="602" y="4218"/>
                  </a:lnTo>
                  <a:lnTo>
                    <a:pt x="666" y="4294"/>
                  </a:lnTo>
                  <a:lnTo>
                    <a:pt x="733" y="4367"/>
                  </a:lnTo>
                  <a:lnTo>
                    <a:pt x="802" y="4438"/>
                  </a:lnTo>
                  <a:lnTo>
                    <a:pt x="875" y="4506"/>
                  </a:lnTo>
                  <a:lnTo>
                    <a:pt x="949" y="4572"/>
                  </a:lnTo>
                  <a:lnTo>
                    <a:pt x="1026" y="4635"/>
                  </a:lnTo>
                  <a:lnTo>
                    <a:pt x="1105" y="4695"/>
                  </a:lnTo>
                  <a:lnTo>
                    <a:pt x="1187" y="4753"/>
                  </a:lnTo>
                  <a:lnTo>
                    <a:pt x="1270" y="4807"/>
                  </a:lnTo>
                  <a:lnTo>
                    <a:pt x="1355" y="4857"/>
                  </a:lnTo>
                  <a:lnTo>
                    <a:pt x="1444" y="4906"/>
                  </a:lnTo>
                  <a:lnTo>
                    <a:pt x="1534" y="4950"/>
                  </a:lnTo>
                  <a:lnTo>
                    <a:pt x="1624" y="4992"/>
                  </a:lnTo>
                  <a:lnTo>
                    <a:pt x="1718" y="5030"/>
                  </a:lnTo>
                  <a:lnTo>
                    <a:pt x="1740" y="5032"/>
                  </a:lnTo>
                  <a:lnTo>
                    <a:pt x="1763" y="5036"/>
                  </a:lnTo>
                  <a:lnTo>
                    <a:pt x="1785" y="5038"/>
                  </a:lnTo>
                  <a:lnTo>
                    <a:pt x="1808" y="5040"/>
                  </a:lnTo>
                  <a:lnTo>
                    <a:pt x="1830" y="5042"/>
                  </a:lnTo>
                  <a:lnTo>
                    <a:pt x="1852" y="5044"/>
                  </a:lnTo>
                  <a:lnTo>
                    <a:pt x="1875" y="5046"/>
                  </a:lnTo>
                  <a:lnTo>
                    <a:pt x="1898" y="5049"/>
                  </a:lnTo>
                  <a:lnTo>
                    <a:pt x="1798" y="5015"/>
                  </a:lnTo>
                  <a:lnTo>
                    <a:pt x="1700" y="4978"/>
                  </a:lnTo>
                  <a:lnTo>
                    <a:pt x="1604" y="4937"/>
                  </a:lnTo>
                  <a:lnTo>
                    <a:pt x="1510" y="4893"/>
                  </a:lnTo>
                  <a:lnTo>
                    <a:pt x="1417" y="4845"/>
                  </a:lnTo>
                  <a:lnTo>
                    <a:pt x="1327" y="4793"/>
                  </a:lnTo>
                  <a:lnTo>
                    <a:pt x="1240" y="4738"/>
                  </a:lnTo>
                  <a:lnTo>
                    <a:pt x="1154" y="4679"/>
                  </a:lnTo>
                  <a:lnTo>
                    <a:pt x="1071" y="4618"/>
                  </a:lnTo>
                  <a:lnTo>
                    <a:pt x="991" y="4553"/>
                  </a:lnTo>
                  <a:lnTo>
                    <a:pt x="913" y="4486"/>
                  </a:lnTo>
                  <a:lnTo>
                    <a:pt x="838" y="4415"/>
                  </a:lnTo>
                  <a:lnTo>
                    <a:pt x="766" y="4341"/>
                  </a:lnTo>
                  <a:lnTo>
                    <a:pt x="696" y="4266"/>
                  </a:lnTo>
                  <a:lnTo>
                    <a:pt x="630" y="4187"/>
                  </a:lnTo>
                  <a:lnTo>
                    <a:pt x="567" y="4106"/>
                  </a:lnTo>
                  <a:lnTo>
                    <a:pt x="507" y="4022"/>
                  </a:lnTo>
                  <a:lnTo>
                    <a:pt x="450" y="3935"/>
                  </a:lnTo>
                  <a:lnTo>
                    <a:pt x="396" y="3847"/>
                  </a:lnTo>
                  <a:lnTo>
                    <a:pt x="346" y="3756"/>
                  </a:lnTo>
                  <a:lnTo>
                    <a:pt x="300" y="3663"/>
                  </a:lnTo>
                  <a:lnTo>
                    <a:pt x="256" y="3568"/>
                  </a:lnTo>
                  <a:lnTo>
                    <a:pt x="216" y="3471"/>
                  </a:lnTo>
                  <a:lnTo>
                    <a:pt x="181" y="3371"/>
                  </a:lnTo>
                  <a:lnTo>
                    <a:pt x="149" y="3271"/>
                  </a:lnTo>
                  <a:lnTo>
                    <a:pt x="121" y="3168"/>
                  </a:lnTo>
                  <a:lnTo>
                    <a:pt x="98" y="3065"/>
                  </a:lnTo>
                  <a:lnTo>
                    <a:pt x="78" y="2960"/>
                  </a:lnTo>
                  <a:lnTo>
                    <a:pt x="62" y="2853"/>
                  </a:lnTo>
                  <a:lnTo>
                    <a:pt x="51" y="2744"/>
                  </a:lnTo>
                  <a:lnTo>
                    <a:pt x="45" y="2635"/>
                  </a:lnTo>
                  <a:lnTo>
                    <a:pt x="42" y="2525"/>
                  </a:lnTo>
                  <a:lnTo>
                    <a:pt x="45" y="2413"/>
                  </a:lnTo>
                  <a:lnTo>
                    <a:pt x="51" y="2304"/>
                  </a:lnTo>
                  <a:lnTo>
                    <a:pt x="62" y="2196"/>
                  </a:lnTo>
                  <a:lnTo>
                    <a:pt x="78" y="2089"/>
                  </a:lnTo>
                  <a:lnTo>
                    <a:pt x="98" y="1984"/>
                  </a:lnTo>
                  <a:lnTo>
                    <a:pt x="121" y="1880"/>
                  </a:lnTo>
                  <a:lnTo>
                    <a:pt x="149" y="1777"/>
                  </a:lnTo>
                  <a:lnTo>
                    <a:pt x="181" y="1677"/>
                  </a:lnTo>
                  <a:lnTo>
                    <a:pt x="216" y="1579"/>
                  </a:lnTo>
                  <a:lnTo>
                    <a:pt x="256" y="1481"/>
                  </a:lnTo>
                  <a:lnTo>
                    <a:pt x="300" y="1386"/>
                  </a:lnTo>
                  <a:lnTo>
                    <a:pt x="346" y="1293"/>
                  </a:lnTo>
                  <a:lnTo>
                    <a:pt x="396" y="1203"/>
                  </a:lnTo>
                  <a:lnTo>
                    <a:pt x="450" y="1114"/>
                  </a:lnTo>
                  <a:lnTo>
                    <a:pt x="507" y="1028"/>
                  </a:lnTo>
                  <a:lnTo>
                    <a:pt x="567" y="944"/>
                  </a:lnTo>
                  <a:lnTo>
                    <a:pt x="630" y="863"/>
                  </a:lnTo>
                  <a:lnTo>
                    <a:pt x="696" y="784"/>
                  </a:lnTo>
                  <a:lnTo>
                    <a:pt x="766" y="707"/>
                  </a:lnTo>
                  <a:lnTo>
                    <a:pt x="838" y="634"/>
                  </a:lnTo>
                  <a:lnTo>
                    <a:pt x="913" y="563"/>
                  </a:lnTo>
                  <a:lnTo>
                    <a:pt x="991" y="495"/>
                  </a:lnTo>
                  <a:lnTo>
                    <a:pt x="1071" y="431"/>
                  </a:lnTo>
                  <a:lnTo>
                    <a:pt x="1154" y="369"/>
                  </a:lnTo>
                  <a:lnTo>
                    <a:pt x="1240" y="311"/>
                  </a:lnTo>
                  <a:lnTo>
                    <a:pt x="1327" y="256"/>
                  </a:lnTo>
                  <a:lnTo>
                    <a:pt x="1417" y="204"/>
                  </a:lnTo>
                  <a:lnTo>
                    <a:pt x="1510" y="156"/>
                  </a:lnTo>
                  <a:lnTo>
                    <a:pt x="1604" y="112"/>
                  </a:lnTo>
                  <a:lnTo>
                    <a:pt x="1700" y="71"/>
                  </a:lnTo>
                  <a:lnTo>
                    <a:pt x="1798" y="33"/>
                  </a:lnTo>
                  <a:lnTo>
                    <a:pt x="1898" y="0"/>
                  </a:lnTo>
                  <a:lnTo>
                    <a:pt x="1875" y="2"/>
                  </a:lnTo>
                  <a:lnTo>
                    <a:pt x="1852" y="4"/>
                  </a:lnTo>
                  <a:lnTo>
                    <a:pt x="1830" y="6"/>
                  </a:lnTo>
                  <a:lnTo>
                    <a:pt x="1808" y="8"/>
                  </a:lnTo>
                  <a:lnTo>
                    <a:pt x="1785" y="12"/>
                  </a:lnTo>
                  <a:lnTo>
                    <a:pt x="1763" y="14"/>
                  </a:lnTo>
                  <a:lnTo>
                    <a:pt x="1740" y="16"/>
                  </a:lnTo>
                  <a:lnTo>
                    <a:pt x="1718" y="19"/>
                  </a:lnTo>
                  <a:close/>
                </a:path>
              </a:pathLst>
            </a:custGeom>
            <a:solidFill>
              <a:srgbClr val="e156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14680" y="1990800"/>
              <a:ext cx="2117880" cy="2012760"/>
            </a:xfrm>
            <a:custGeom>
              <a:avLst/>
              <a:gdLst/>
              <a:ahLst/>
              <a:rect l="l" t="t" r="r" b="b"/>
              <a:pathLst>
                <a:path w="5334" h="5068">
                  <a:moveTo>
                    <a:pt x="5334" y="2535"/>
                  </a:moveTo>
                  <a:lnTo>
                    <a:pt x="5331" y="2426"/>
                  </a:lnTo>
                  <a:lnTo>
                    <a:pt x="5326" y="2319"/>
                  </a:lnTo>
                  <a:lnTo>
                    <a:pt x="5315" y="2213"/>
                  </a:lnTo>
                  <a:lnTo>
                    <a:pt x="5300" y="2108"/>
                  </a:lnTo>
                  <a:lnTo>
                    <a:pt x="5282" y="2004"/>
                  </a:lnTo>
                  <a:lnTo>
                    <a:pt x="5259" y="1902"/>
                  </a:lnTo>
                  <a:lnTo>
                    <a:pt x="5232" y="1801"/>
                  </a:lnTo>
                  <a:lnTo>
                    <a:pt x="5202" y="1702"/>
                  </a:lnTo>
                  <a:lnTo>
                    <a:pt x="5167" y="1605"/>
                  </a:lnTo>
                  <a:lnTo>
                    <a:pt x="5129" y="1510"/>
                  </a:lnTo>
                  <a:lnTo>
                    <a:pt x="5088" y="1416"/>
                  </a:lnTo>
                  <a:lnTo>
                    <a:pt x="5044" y="1324"/>
                  </a:lnTo>
                  <a:lnTo>
                    <a:pt x="4995" y="1234"/>
                  </a:lnTo>
                  <a:lnTo>
                    <a:pt x="4944" y="1147"/>
                  </a:lnTo>
                  <a:lnTo>
                    <a:pt x="4889" y="1060"/>
                  </a:lnTo>
                  <a:lnTo>
                    <a:pt x="4832" y="977"/>
                  </a:lnTo>
                  <a:lnTo>
                    <a:pt x="4772" y="896"/>
                  </a:lnTo>
                  <a:lnTo>
                    <a:pt x="4708" y="819"/>
                  </a:lnTo>
                  <a:lnTo>
                    <a:pt x="4641" y="742"/>
                  </a:lnTo>
                  <a:lnTo>
                    <a:pt x="4572" y="668"/>
                  </a:lnTo>
                  <a:lnTo>
                    <a:pt x="4499" y="598"/>
                  </a:lnTo>
                  <a:lnTo>
                    <a:pt x="4425" y="530"/>
                  </a:lnTo>
                  <a:lnTo>
                    <a:pt x="4348" y="464"/>
                  </a:lnTo>
                  <a:lnTo>
                    <a:pt x="4268" y="403"/>
                  </a:lnTo>
                  <a:lnTo>
                    <a:pt x="4186" y="343"/>
                  </a:lnTo>
                  <a:lnTo>
                    <a:pt x="4102" y="287"/>
                  </a:lnTo>
                  <a:lnTo>
                    <a:pt x="4015" y="234"/>
                  </a:lnTo>
                  <a:lnTo>
                    <a:pt x="3927" y="185"/>
                  </a:lnTo>
                  <a:lnTo>
                    <a:pt x="3835" y="138"/>
                  </a:lnTo>
                  <a:lnTo>
                    <a:pt x="3743" y="95"/>
                  </a:lnTo>
                  <a:lnTo>
                    <a:pt x="3648" y="55"/>
                  </a:lnTo>
                  <a:lnTo>
                    <a:pt x="3552" y="19"/>
                  </a:lnTo>
                  <a:lnTo>
                    <a:pt x="3527" y="16"/>
                  </a:lnTo>
                  <a:lnTo>
                    <a:pt x="3501" y="14"/>
                  </a:lnTo>
                  <a:lnTo>
                    <a:pt x="3476" y="12"/>
                  </a:lnTo>
                  <a:lnTo>
                    <a:pt x="3451" y="10"/>
                  </a:lnTo>
                  <a:lnTo>
                    <a:pt x="3425" y="6"/>
                  </a:lnTo>
                  <a:lnTo>
                    <a:pt x="3400" y="4"/>
                  </a:lnTo>
                  <a:lnTo>
                    <a:pt x="3375" y="2"/>
                  </a:lnTo>
                  <a:lnTo>
                    <a:pt x="3350" y="0"/>
                  </a:lnTo>
                  <a:lnTo>
                    <a:pt x="3453" y="30"/>
                  </a:lnTo>
                  <a:lnTo>
                    <a:pt x="3556" y="65"/>
                  </a:lnTo>
                  <a:lnTo>
                    <a:pt x="3656" y="104"/>
                  </a:lnTo>
                  <a:lnTo>
                    <a:pt x="3755" y="146"/>
                  </a:lnTo>
                  <a:lnTo>
                    <a:pt x="3851" y="192"/>
                  </a:lnTo>
                  <a:lnTo>
                    <a:pt x="3945" y="242"/>
                  </a:lnTo>
                  <a:lnTo>
                    <a:pt x="4036" y="296"/>
                  </a:lnTo>
                  <a:lnTo>
                    <a:pt x="4125" y="352"/>
                  </a:lnTo>
                  <a:lnTo>
                    <a:pt x="4212" y="412"/>
                  </a:lnTo>
                  <a:lnTo>
                    <a:pt x="4296" y="477"/>
                  </a:lnTo>
                  <a:lnTo>
                    <a:pt x="4377" y="544"/>
                  </a:lnTo>
                  <a:lnTo>
                    <a:pt x="4456" y="614"/>
                  </a:lnTo>
                  <a:lnTo>
                    <a:pt x="4532" y="688"/>
                  </a:lnTo>
                  <a:lnTo>
                    <a:pt x="4604" y="763"/>
                  </a:lnTo>
                  <a:lnTo>
                    <a:pt x="4674" y="843"/>
                  </a:lnTo>
                  <a:lnTo>
                    <a:pt x="4740" y="925"/>
                  </a:lnTo>
                  <a:lnTo>
                    <a:pt x="4804" y="1010"/>
                  </a:lnTo>
                  <a:lnTo>
                    <a:pt x="4863" y="1097"/>
                  </a:lnTo>
                  <a:lnTo>
                    <a:pt x="4920" y="1187"/>
                  </a:lnTo>
                  <a:lnTo>
                    <a:pt x="4973" y="1279"/>
                  </a:lnTo>
                  <a:lnTo>
                    <a:pt x="5022" y="1373"/>
                  </a:lnTo>
                  <a:lnTo>
                    <a:pt x="5068" y="1470"/>
                  </a:lnTo>
                  <a:lnTo>
                    <a:pt x="5109" y="1568"/>
                  </a:lnTo>
                  <a:lnTo>
                    <a:pt x="5146" y="1669"/>
                  </a:lnTo>
                  <a:lnTo>
                    <a:pt x="5180" y="1771"/>
                  </a:lnTo>
                  <a:lnTo>
                    <a:pt x="5209" y="1876"/>
                  </a:lnTo>
                  <a:lnTo>
                    <a:pt x="5234" y="1982"/>
                  </a:lnTo>
                  <a:lnTo>
                    <a:pt x="5255" y="2090"/>
                  </a:lnTo>
                  <a:lnTo>
                    <a:pt x="5271" y="2199"/>
                  </a:lnTo>
                  <a:lnTo>
                    <a:pt x="5283" y="2309"/>
                  </a:lnTo>
                  <a:lnTo>
                    <a:pt x="5290" y="2421"/>
                  </a:lnTo>
                  <a:lnTo>
                    <a:pt x="5292" y="2535"/>
                  </a:lnTo>
                  <a:lnTo>
                    <a:pt x="5290" y="2648"/>
                  </a:lnTo>
                  <a:lnTo>
                    <a:pt x="5283" y="2759"/>
                  </a:lnTo>
                  <a:lnTo>
                    <a:pt x="5271" y="2871"/>
                  </a:lnTo>
                  <a:lnTo>
                    <a:pt x="5255" y="2980"/>
                  </a:lnTo>
                  <a:lnTo>
                    <a:pt x="5234" y="3087"/>
                  </a:lnTo>
                  <a:lnTo>
                    <a:pt x="5209" y="3193"/>
                  </a:lnTo>
                  <a:lnTo>
                    <a:pt x="5180" y="3297"/>
                  </a:lnTo>
                  <a:lnTo>
                    <a:pt x="5146" y="3400"/>
                  </a:lnTo>
                  <a:lnTo>
                    <a:pt x="5109" y="3500"/>
                  </a:lnTo>
                  <a:lnTo>
                    <a:pt x="5068" y="3600"/>
                  </a:lnTo>
                  <a:lnTo>
                    <a:pt x="5022" y="3696"/>
                  </a:lnTo>
                  <a:lnTo>
                    <a:pt x="4973" y="3790"/>
                  </a:lnTo>
                  <a:lnTo>
                    <a:pt x="4920" y="3883"/>
                  </a:lnTo>
                  <a:lnTo>
                    <a:pt x="4863" y="3972"/>
                  </a:lnTo>
                  <a:lnTo>
                    <a:pt x="4804" y="4059"/>
                  </a:lnTo>
                  <a:lnTo>
                    <a:pt x="4740" y="4144"/>
                  </a:lnTo>
                  <a:lnTo>
                    <a:pt x="4674" y="4226"/>
                  </a:lnTo>
                  <a:lnTo>
                    <a:pt x="4604" y="4305"/>
                  </a:lnTo>
                  <a:lnTo>
                    <a:pt x="4532" y="4381"/>
                  </a:lnTo>
                  <a:lnTo>
                    <a:pt x="4456" y="4455"/>
                  </a:lnTo>
                  <a:lnTo>
                    <a:pt x="4377" y="4525"/>
                  </a:lnTo>
                  <a:lnTo>
                    <a:pt x="4296" y="4592"/>
                  </a:lnTo>
                  <a:lnTo>
                    <a:pt x="4212" y="4656"/>
                  </a:lnTo>
                  <a:lnTo>
                    <a:pt x="4125" y="4716"/>
                  </a:lnTo>
                  <a:lnTo>
                    <a:pt x="4036" y="4774"/>
                  </a:lnTo>
                  <a:lnTo>
                    <a:pt x="3945" y="4828"/>
                  </a:lnTo>
                  <a:lnTo>
                    <a:pt x="3851" y="4877"/>
                  </a:lnTo>
                  <a:lnTo>
                    <a:pt x="3755" y="4924"/>
                  </a:lnTo>
                  <a:lnTo>
                    <a:pt x="3656" y="4966"/>
                  </a:lnTo>
                  <a:lnTo>
                    <a:pt x="3556" y="5004"/>
                  </a:lnTo>
                  <a:lnTo>
                    <a:pt x="3453" y="5038"/>
                  </a:lnTo>
                  <a:lnTo>
                    <a:pt x="3350" y="5068"/>
                  </a:lnTo>
                  <a:lnTo>
                    <a:pt x="3375" y="5066"/>
                  </a:lnTo>
                  <a:lnTo>
                    <a:pt x="3400" y="5064"/>
                  </a:lnTo>
                  <a:lnTo>
                    <a:pt x="3425" y="5062"/>
                  </a:lnTo>
                  <a:lnTo>
                    <a:pt x="3451" y="5060"/>
                  </a:lnTo>
                  <a:lnTo>
                    <a:pt x="3476" y="5058"/>
                  </a:lnTo>
                  <a:lnTo>
                    <a:pt x="3501" y="5054"/>
                  </a:lnTo>
                  <a:lnTo>
                    <a:pt x="3527" y="5052"/>
                  </a:lnTo>
                  <a:lnTo>
                    <a:pt x="3552" y="5050"/>
                  </a:lnTo>
                  <a:lnTo>
                    <a:pt x="3648" y="5013"/>
                  </a:lnTo>
                  <a:lnTo>
                    <a:pt x="3743" y="4974"/>
                  </a:lnTo>
                  <a:lnTo>
                    <a:pt x="3835" y="4931"/>
                  </a:lnTo>
                  <a:lnTo>
                    <a:pt x="3927" y="4885"/>
                  </a:lnTo>
                  <a:lnTo>
                    <a:pt x="4015" y="4835"/>
                  </a:lnTo>
                  <a:lnTo>
                    <a:pt x="4102" y="4782"/>
                  </a:lnTo>
                  <a:lnTo>
                    <a:pt x="4186" y="4726"/>
                  </a:lnTo>
                  <a:lnTo>
                    <a:pt x="4268" y="4667"/>
                  </a:lnTo>
                  <a:lnTo>
                    <a:pt x="4348" y="4604"/>
                  </a:lnTo>
                  <a:lnTo>
                    <a:pt x="4425" y="4539"/>
                  </a:lnTo>
                  <a:lnTo>
                    <a:pt x="4499" y="4471"/>
                  </a:lnTo>
                  <a:lnTo>
                    <a:pt x="4572" y="4400"/>
                  </a:lnTo>
                  <a:lnTo>
                    <a:pt x="4641" y="4326"/>
                  </a:lnTo>
                  <a:lnTo>
                    <a:pt x="4708" y="4251"/>
                  </a:lnTo>
                  <a:lnTo>
                    <a:pt x="4772" y="4172"/>
                  </a:lnTo>
                  <a:lnTo>
                    <a:pt x="4832" y="4091"/>
                  </a:lnTo>
                  <a:lnTo>
                    <a:pt x="4889" y="4008"/>
                  </a:lnTo>
                  <a:lnTo>
                    <a:pt x="4944" y="3922"/>
                  </a:lnTo>
                  <a:lnTo>
                    <a:pt x="4995" y="3835"/>
                  </a:lnTo>
                  <a:lnTo>
                    <a:pt x="5044" y="3745"/>
                  </a:lnTo>
                  <a:lnTo>
                    <a:pt x="5088" y="3654"/>
                  </a:lnTo>
                  <a:lnTo>
                    <a:pt x="5129" y="3560"/>
                  </a:lnTo>
                  <a:lnTo>
                    <a:pt x="5167" y="3463"/>
                  </a:lnTo>
                  <a:lnTo>
                    <a:pt x="5202" y="3366"/>
                  </a:lnTo>
                  <a:lnTo>
                    <a:pt x="5232" y="3267"/>
                  </a:lnTo>
                  <a:lnTo>
                    <a:pt x="5259" y="3166"/>
                  </a:lnTo>
                  <a:lnTo>
                    <a:pt x="5282" y="3065"/>
                  </a:lnTo>
                  <a:lnTo>
                    <a:pt x="5300" y="2961"/>
                  </a:lnTo>
                  <a:lnTo>
                    <a:pt x="5315" y="2857"/>
                  </a:lnTo>
                  <a:lnTo>
                    <a:pt x="5326" y="2751"/>
                  </a:lnTo>
                  <a:lnTo>
                    <a:pt x="5331" y="2643"/>
                  </a:lnTo>
                  <a:lnTo>
                    <a:pt x="5334" y="2535"/>
                  </a:lnTo>
                  <a:close/>
                  <a:moveTo>
                    <a:pt x="1783" y="19"/>
                  </a:moveTo>
                  <a:lnTo>
                    <a:pt x="1687" y="55"/>
                  </a:lnTo>
                  <a:lnTo>
                    <a:pt x="1592" y="95"/>
                  </a:lnTo>
                  <a:lnTo>
                    <a:pt x="1499" y="138"/>
                  </a:lnTo>
                  <a:lnTo>
                    <a:pt x="1408" y="185"/>
                  </a:lnTo>
                  <a:lnTo>
                    <a:pt x="1319" y="234"/>
                  </a:lnTo>
                  <a:lnTo>
                    <a:pt x="1233" y="287"/>
                  </a:lnTo>
                  <a:lnTo>
                    <a:pt x="1148" y="343"/>
                  </a:lnTo>
                  <a:lnTo>
                    <a:pt x="1066" y="403"/>
                  </a:lnTo>
                  <a:lnTo>
                    <a:pt x="986" y="464"/>
                  </a:lnTo>
                  <a:lnTo>
                    <a:pt x="910" y="530"/>
                  </a:lnTo>
                  <a:lnTo>
                    <a:pt x="835" y="598"/>
                  </a:lnTo>
                  <a:lnTo>
                    <a:pt x="763" y="668"/>
                  </a:lnTo>
                  <a:lnTo>
                    <a:pt x="694" y="742"/>
                  </a:lnTo>
                  <a:lnTo>
                    <a:pt x="627" y="819"/>
                  </a:lnTo>
                  <a:lnTo>
                    <a:pt x="563" y="896"/>
                  </a:lnTo>
                  <a:lnTo>
                    <a:pt x="502" y="977"/>
                  </a:lnTo>
                  <a:lnTo>
                    <a:pt x="445" y="1060"/>
                  </a:lnTo>
                  <a:lnTo>
                    <a:pt x="390" y="1147"/>
                  </a:lnTo>
                  <a:lnTo>
                    <a:pt x="339" y="1234"/>
                  </a:lnTo>
                  <a:lnTo>
                    <a:pt x="291" y="1324"/>
                  </a:lnTo>
                  <a:lnTo>
                    <a:pt x="246" y="1416"/>
                  </a:lnTo>
                  <a:lnTo>
                    <a:pt x="205" y="1510"/>
                  </a:lnTo>
                  <a:lnTo>
                    <a:pt x="167" y="1605"/>
                  </a:lnTo>
                  <a:lnTo>
                    <a:pt x="133" y="1702"/>
                  </a:lnTo>
                  <a:lnTo>
                    <a:pt x="103" y="1801"/>
                  </a:lnTo>
                  <a:lnTo>
                    <a:pt x="76" y="1902"/>
                  </a:lnTo>
                  <a:lnTo>
                    <a:pt x="53" y="2004"/>
                  </a:lnTo>
                  <a:lnTo>
                    <a:pt x="34" y="2108"/>
                  </a:lnTo>
                  <a:lnTo>
                    <a:pt x="19" y="2213"/>
                  </a:lnTo>
                  <a:lnTo>
                    <a:pt x="9" y="2319"/>
                  </a:lnTo>
                  <a:lnTo>
                    <a:pt x="2" y="2426"/>
                  </a:lnTo>
                  <a:lnTo>
                    <a:pt x="0" y="2535"/>
                  </a:lnTo>
                  <a:lnTo>
                    <a:pt x="2" y="2643"/>
                  </a:lnTo>
                  <a:lnTo>
                    <a:pt x="9" y="2751"/>
                  </a:lnTo>
                  <a:lnTo>
                    <a:pt x="19" y="2857"/>
                  </a:lnTo>
                  <a:lnTo>
                    <a:pt x="34" y="2961"/>
                  </a:lnTo>
                  <a:lnTo>
                    <a:pt x="53" y="3065"/>
                  </a:lnTo>
                  <a:lnTo>
                    <a:pt x="76" y="3166"/>
                  </a:lnTo>
                  <a:lnTo>
                    <a:pt x="103" y="3267"/>
                  </a:lnTo>
                  <a:lnTo>
                    <a:pt x="133" y="3366"/>
                  </a:lnTo>
                  <a:lnTo>
                    <a:pt x="167" y="3463"/>
                  </a:lnTo>
                  <a:lnTo>
                    <a:pt x="205" y="3560"/>
                  </a:lnTo>
                  <a:lnTo>
                    <a:pt x="246" y="3654"/>
                  </a:lnTo>
                  <a:lnTo>
                    <a:pt x="291" y="3745"/>
                  </a:lnTo>
                  <a:lnTo>
                    <a:pt x="339" y="3835"/>
                  </a:lnTo>
                  <a:lnTo>
                    <a:pt x="390" y="3922"/>
                  </a:lnTo>
                  <a:lnTo>
                    <a:pt x="445" y="4008"/>
                  </a:lnTo>
                  <a:lnTo>
                    <a:pt x="502" y="4091"/>
                  </a:lnTo>
                  <a:lnTo>
                    <a:pt x="563" y="4172"/>
                  </a:lnTo>
                  <a:lnTo>
                    <a:pt x="627" y="4251"/>
                  </a:lnTo>
                  <a:lnTo>
                    <a:pt x="694" y="4326"/>
                  </a:lnTo>
                  <a:lnTo>
                    <a:pt x="763" y="4400"/>
                  </a:lnTo>
                  <a:lnTo>
                    <a:pt x="835" y="4471"/>
                  </a:lnTo>
                  <a:lnTo>
                    <a:pt x="910" y="4539"/>
                  </a:lnTo>
                  <a:lnTo>
                    <a:pt x="986" y="4604"/>
                  </a:lnTo>
                  <a:lnTo>
                    <a:pt x="1066" y="4667"/>
                  </a:lnTo>
                  <a:lnTo>
                    <a:pt x="1148" y="4726"/>
                  </a:lnTo>
                  <a:lnTo>
                    <a:pt x="1233" y="4782"/>
                  </a:lnTo>
                  <a:lnTo>
                    <a:pt x="1319" y="4835"/>
                  </a:lnTo>
                  <a:lnTo>
                    <a:pt x="1408" y="4885"/>
                  </a:lnTo>
                  <a:lnTo>
                    <a:pt x="1499" y="4931"/>
                  </a:lnTo>
                  <a:lnTo>
                    <a:pt x="1592" y="4974"/>
                  </a:lnTo>
                  <a:lnTo>
                    <a:pt x="1687" y="5013"/>
                  </a:lnTo>
                  <a:lnTo>
                    <a:pt x="1783" y="5050"/>
                  </a:lnTo>
                  <a:lnTo>
                    <a:pt x="1808" y="5052"/>
                  </a:lnTo>
                  <a:lnTo>
                    <a:pt x="1834" y="5054"/>
                  </a:lnTo>
                  <a:lnTo>
                    <a:pt x="1858" y="5058"/>
                  </a:lnTo>
                  <a:lnTo>
                    <a:pt x="1883" y="5060"/>
                  </a:lnTo>
                  <a:lnTo>
                    <a:pt x="1908" y="5062"/>
                  </a:lnTo>
                  <a:lnTo>
                    <a:pt x="1934" y="5064"/>
                  </a:lnTo>
                  <a:lnTo>
                    <a:pt x="1959" y="5066"/>
                  </a:lnTo>
                  <a:lnTo>
                    <a:pt x="1985" y="5068"/>
                  </a:lnTo>
                  <a:lnTo>
                    <a:pt x="1881" y="5038"/>
                  </a:lnTo>
                  <a:lnTo>
                    <a:pt x="1778" y="5004"/>
                  </a:lnTo>
                  <a:lnTo>
                    <a:pt x="1678" y="4966"/>
                  </a:lnTo>
                  <a:lnTo>
                    <a:pt x="1580" y="4924"/>
                  </a:lnTo>
                  <a:lnTo>
                    <a:pt x="1483" y="4877"/>
                  </a:lnTo>
                  <a:lnTo>
                    <a:pt x="1389" y="4828"/>
                  </a:lnTo>
                  <a:lnTo>
                    <a:pt x="1299" y="4774"/>
                  </a:lnTo>
                  <a:lnTo>
                    <a:pt x="1209" y="4716"/>
                  </a:lnTo>
                  <a:lnTo>
                    <a:pt x="1123" y="4656"/>
                  </a:lnTo>
                  <a:lnTo>
                    <a:pt x="1038" y="4592"/>
                  </a:lnTo>
                  <a:lnTo>
                    <a:pt x="957" y="4525"/>
                  </a:lnTo>
                  <a:lnTo>
                    <a:pt x="878" y="4455"/>
                  </a:lnTo>
                  <a:lnTo>
                    <a:pt x="803" y="4381"/>
                  </a:lnTo>
                  <a:lnTo>
                    <a:pt x="730" y="4305"/>
                  </a:lnTo>
                  <a:lnTo>
                    <a:pt x="660" y="4226"/>
                  </a:lnTo>
                  <a:lnTo>
                    <a:pt x="594" y="4144"/>
                  </a:lnTo>
                  <a:lnTo>
                    <a:pt x="530" y="4059"/>
                  </a:lnTo>
                  <a:lnTo>
                    <a:pt x="471" y="3972"/>
                  </a:lnTo>
                  <a:lnTo>
                    <a:pt x="415" y="3883"/>
                  </a:lnTo>
                  <a:lnTo>
                    <a:pt x="362" y="3790"/>
                  </a:lnTo>
                  <a:lnTo>
                    <a:pt x="312" y="3696"/>
                  </a:lnTo>
                  <a:lnTo>
                    <a:pt x="267" y="3600"/>
                  </a:lnTo>
                  <a:lnTo>
                    <a:pt x="226" y="3500"/>
                  </a:lnTo>
                  <a:lnTo>
                    <a:pt x="188" y="3400"/>
                  </a:lnTo>
                  <a:lnTo>
                    <a:pt x="154" y="3297"/>
                  </a:lnTo>
                  <a:lnTo>
                    <a:pt x="125" y="3193"/>
                  </a:lnTo>
                  <a:lnTo>
                    <a:pt x="100" y="3087"/>
                  </a:lnTo>
                  <a:lnTo>
                    <a:pt x="80" y="2980"/>
                  </a:lnTo>
                  <a:lnTo>
                    <a:pt x="64" y="2871"/>
                  </a:lnTo>
                  <a:lnTo>
                    <a:pt x="52" y="2759"/>
                  </a:lnTo>
                  <a:lnTo>
                    <a:pt x="44" y="2648"/>
                  </a:lnTo>
                  <a:lnTo>
                    <a:pt x="42" y="2535"/>
                  </a:lnTo>
                  <a:lnTo>
                    <a:pt x="44" y="2421"/>
                  </a:lnTo>
                  <a:lnTo>
                    <a:pt x="52" y="2309"/>
                  </a:lnTo>
                  <a:lnTo>
                    <a:pt x="64" y="2199"/>
                  </a:lnTo>
                  <a:lnTo>
                    <a:pt x="80" y="2090"/>
                  </a:lnTo>
                  <a:lnTo>
                    <a:pt x="100" y="1982"/>
                  </a:lnTo>
                  <a:lnTo>
                    <a:pt x="125" y="1876"/>
                  </a:lnTo>
                  <a:lnTo>
                    <a:pt x="154" y="1771"/>
                  </a:lnTo>
                  <a:lnTo>
                    <a:pt x="188" y="1669"/>
                  </a:lnTo>
                  <a:lnTo>
                    <a:pt x="226" y="1568"/>
                  </a:lnTo>
                  <a:lnTo>
                    <a:pt x="267" y="1470"/>
                  </a:lnTo>
                  <a:lnTo>
                    <a:pt x="312" y="1373"/>
                  </a:lnTo>
                  <a:lnTo>
                    <a:pt x="362" y="1279"/>
                  </a:lnTo>
                  <a:lnTo>
                    <a:pt x="415" y="1187"/>
                  </a:lnTo>
                  <a:lnTo>
                    <a:pt x="471" y="1097"/>
                  </a:lnTo>
                  <a:lnTo>
                    <a:pt x="530" y="1010"/>
                  </a:lnTo>
                  <a:lnTo>
                    <a:pt x="594" y="925"/>
                  </a:lnTo>
                  <a:lnTo>
                    <a:pt x="660" y="843"/>
                  </a:lnTo>
                  <a:lnTo>
                    <a:pt x="730" y="763"/>
                  </a:lnTo>
                  <a:lnTo>
                    <a:pt x="803" y="688"/>
                  </a:lnTo>
                  <a:lnTo>
                    <a:pt x="878" y="614"/>
                  </a:lnTo>
                  <a:lnTo>
                    <a:pt x="957" y="544"/>
                  </a:lnTo>
                  <a:lnTo>
                    <a:pt x="1038" y="477"/>
                  </a:lnTo>
                  <a:lnTo>
                    <a:pt x="1123" y="412"/>
                  </a:lnTo>
                  <a:lnTo>
                    <a:pt x="1209" y="352"/>
                  </a:lnTo>
                  <a:lnTo>
                    <a:pt x="1299" y="296"/>
                  </a:lnTo>
                  <a:lnTo>
                    <a:pt x="1389" y="242"/>
                  </a:lnTo>
                  <a:lnTo>
                    <a:pt x="1483" y="192"/>
                  </a:lnTo>
                  <a:lnTo>
                    <a:pt x="1580" y="146"/>
                  </a:lnTo>
                  <a:lnTo>
                    <a:pt x="1678" y="104"/>
                  </a:lnTo>
                  <a:lnTo>
                    <a:pt x="1778" y="65"/>
                  </a:lnTo>
                  <a:lnTo>
                    <a:pt x="1881" y="30"/>
                  </a:lnTo>
                  <a:lnTo>
                    <a:pt x="1985" y="0"/>
                  </a:lnTo>
                  <a:lnTo>
                    <a:pt x="1959" y="2"/>
                  </a:lnTo>
                  <a:lnTo>
                    <a:pt x="1934" y="4"/>
                  </a:lnTo>
                  <a:lnTo>
                    <a:pt x="1909" y="6"/>
                  </a:lnTo>
                  <a:lnTo>
                    <a:pt x="1883" y="10"/>
                  </a:lnTo>
                  <a:lnTo>
                    <a:pt x="1858" y="12"/>
                  </a:lnTo>
                  <a:lnTo>
                    <a:pt x="1834" y="14"/>
                  </a:lnTo>
                  <a:lnTo>
                    <a:pt x="1808" y="16"/>
                  </a:lnTo>
                  <a:lnTo>
                    <a:pt x="1783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24400" y="1987560"/>
              <a:ext cx="2100240" cy="2019240"/>
            </a:xfrm>
            <a:custGeom>
              <a:avLst/>
              <a:gdLst/>
              <a:ahLst/>
              <a:rect l="l" t="t" r="r" b="b"/>
              <a:pathLst>
                <a:path w="5292" h="5087">
                  <a:moveTo>
                    <a:pt x="5292" y="2544"/>
                  </a:moveTo>
                  <a:lnTo>
                    <a:pt x="5290" y="2432"/>
                  </a:lnTo>
                  <a:lnTo>
                    <a:pt x="5283" y="2323"/>
                  </a:lnTo>
                  <a:lnTo>
                    <a:pt x="5272" y="2215"/>
                  </a:lnTo>
                  <a:lnTo>
                    <a:pt x="5256" y="2108"/>
                  </a:lnTo>
                  <a:lnTo>
                    <a:pt x="5237" y="2003"/>
                  </a:lnTo>
                  <a:lnTo>
                    <a:pt x="5213" y="1899"/>
                  </a:lnTo>
                  <a:lnTo>
                    <a:pt x="5185" y="1796"/>
                  </a:lnTo>
                  <a:lnTo>
                    <a:pt x="5154" y="1696"/>
                  </a:lnTo>
                  <a:lnTo>
                    <a:pt x="5118" y="1598"/>
                  </a:lnTo>
                  <a:lnTo>
                    <a:pt x="5078" y="1500"/>
                  </a:lnTo>
                  <a:lnTo>
                    <a:pt x="5035" y="1405"/>
                  </a:lnTo>
                  <a:lnTo>
                    <a:pt x="4988" y="1312"/>
                  </a:lnTo>
                  <a:lnTo>
                    <a:pt x="4939" y="1222"/>
                  </a:lnTo>
                  <a:lnTo>
                    <a:pt x="4885" y="1133"/>
                  </a:lnTo>
                  <a:lnTo>
                    <a:pt x="4827" y="1047"/>
                  </a:lnTo>
                  <a:lnTo>
                    <a:pt x="4768" y="963"/>
                  </a:lnTo>
                  <a:lnTo>
                    <a:pt x="4704" y="882"/>
                  </a:lnTo>
                  <a:lnTo>
                    <a:pt x="4638" y="803"/>
                  </a:lnTo>
                  <a:lnTo>
                    <a:pt x="4568" y="726"/>
                  </a:lnTo>
                  <a:lnTo>
                    <a:pt x="4497" y="653"/>
                  </a:lnTo>
                  <a:lnTo>
                    <a:pt x="4421" y="582"/>
                  </a:lnTo>
                  <a:lnTo>
                    <a:pt x="4343" y="514"/>
                  </a:lnTo>
                  <a:lnTo>
                    <a:pt x="4263" y="450"/>
                  </a:lnTo>
                  <a:lnTo>
                    <a:pt x="4180" y="388"/>
                  </a:lnTo>
                  <a:lnTo>
                    <a:pt x="4095" y="330"/>
                  </a:lnTo>
                  <a:lnTo>
                    <a:pt x="4007" y="275"/>
                  </a:lnTo>
                  <a:lnTo>
                    <a:pt x="3917" y="223"/>
                  </a:lnTo>
                  <a:lnTo>
                    <a:pt x="3825" y="175"/>
                  </a:lnTo>
                  <a:lnTo>
                    <a:pt x="3731" y="131"/>
                  </a:lnTo>
                  <a:lnTo>
                    <a:pt x="3634" y="90"/>
                  </a:lnTo>
                  <a:lnTo>
                    <a:pt x="3536" y="52"/>
                  </a:lnTo>
                  <a:lnTo>
                    <a:pt x="3437" y="19"/>
                  </a:lnTo>
                  <a:lnTo>
                    <a:pt x="3407" y="16"/>
                  </a:lnTo>
                  <a:lnTo>
                    <a:pt x="3378" y="13"/>
                  </a:lnTo>
                  <a:lnTo>
                    <a:pt x="3349" y="11"/>
                  </a:lnTo>
                  <a:lnTo>
                    <a:pt x="3320" y="9"/>
                  </a:lnTo>
                  <a:lnTo>
                    <a:pt x="3291" y="7"/>
                  </a:lnTo>
                  <a:lnTo>
                    <a:pt x="3262" y="5"/>
                  </a:lnTo>
                  <a:lnTo>
                    <a:pt x="3232" y="2"/>
                  </a:lnTo>
                  <a:lnTo>
                    <a:pt x="3203" y="0"/>
                  </a:lnTo>
                  <a:lnTo>
                    <a:pt x="3311" y="26"/>
                  </a:lnTo>
                  <a:lnTo>
                    <a:pt x="3418" y="58"/>
                  </a:lnTo>
                  <a:lnTo>
                    <a:pt x="3524" y="92"/>
                  </a:lnTo>
                  <a:lnTo>
                    <a:pt x="3627" y="131"/>
                  </a:lnTo>
                  <a:lnTo>
                    <a:pt x="3727" y="175"/>
                  </a:lnTo>
                  <a:lnTo>
                    <a:pt x="3827" y="223"/>
                  </a:lnTo>
                  <a:lnTo>
                    <a:pt x="3923" y="275"/>
                  </a:lnTo>
                  <a:lnTo>
                    <a:pt x="4017" y="330"/>
                  </a:lnTo>
                  <a:lnTo>
                    <a:pt x="4108" y="389"/>
                  </a:lnTo>
                  <a:lnTo>
                    <a:pt x="4196" y="452"/>
                  </a:lnTo>
                  <a:lnTo>
                    <a:pt x="4283" y="519"/>
                  </a:lnTo>
                  <a:lnTo>
                    <a:pt x="4365" y="588"/>
                  </a:lnTo>
                  <a:lnTo>
                    <a:pt x="4445" y="661"/>
                  </a:lnTo>
                  <a:lnTo>
                    <a:pt x="4521" y="738"/>
                  </a:lnTo>
                  <a:lnTo>
                    <a:pt x="4595" y="818"/>
                  </a:lnTo>
                  <a:lnTo>
                    <a:pt x="4665" y="900"/>
                  </a:lnTo>
                  <a:lnTo>
                    <a:pt x="4732" y="985"/>
                  </a:lnTo>
                  <a:lnTo>
                    <a:pt x="4796" y="1074"/>
                  </a:lnTo>
                  <a:lnTo>
                    <a:pt x="4855" y="1165"/>
                  </a:lnTo>
                  <a:lnTo>
                    <a:pt x="4912" y="1258"/>
                  </a:lnTo>
                  <a:lnTo>
                    <a:pt x="4963" y="1355"/>
                  </a:lnTo>
                  <a:lnTo>
                    <a:pt x="5011" y="1453"/>
                  </a:lnTo>
                  <a:lnTo>
                    <a:pt x="5055" y="1553"/>
                  </a:lnTo>
                  <a:lnTo>
                    <a:pt x="5095" y="1656"/>
                  </a:lnTo>
                  <a:lnTo>
                    <a:pt x="5131" y="1761"/>
                  </a:lnTo>
                  <a:lnTo>
                    <a:pt x="5162" y="1868"/>
                  </a:lnTo>
                  <a:lnTo>
                    <a:pt x="5188" y="1977"/>
                  </a:lnTo>
                  <a:lnTo>
                    <a:pt x="5211" y="2087"/>
                  </a:lnTo>
                  <a:lnTo>
                    <a:pt x="5228" y="2199"/>
                  </a:lnTo>
                  <a:lnTo>
                    <a:pt x="5240" y="2313"/>
                  </a:lnTo>
                  <a:lnTo>
                    <a:pt x="5248" y="2427"/>
                  </a:lnTo>
                  <a:lnTo>
                    <a:pt x="5251" y="2544"/>
                  </a:lnTo>
                  <a:lnTo>
                    <a:pt x="5248" y="2659"/>
                  </a:lnTo>
                  <a:lnTo>
                    <a:pt x="5240" y="2775"/>
                  </a:lnTo>
                  <a:lnTo>
                    <a:pt x="5228" y="2888"/>
                  </a:lnTo>
                  <a:lnTo>
                    <a:pt x="5211" y="3001"/>
                  </a:lnTo>
                  <a:lnTo>
                    <a:pt x="5188" y="3111"/>
                  </a:lnTo>
                  <a:lnTo>
                    <a:pt x="5162" y="3219"/>
                  </a:lnTo>
                  <a:lnTo>
                    <a:pt x="5131" y="3326"/>
                  </a:lnTo>
                  <a:lnTo>
                    <a:pt x="5095" y="3430"/>
                  </a:lnTo>
                  <a:lnTo>
                    <a:pt x="5055" y="3534"/>
                  </a:lnTo>
                  <a:lnTo>
                    <a:pt x="5011" y="3634"/>
                  </a:lnTo>
                  <a:lnTo>
                    <a:pt x="4963" y="3733"/>
                  </a:lnTo>
                  <a:lnTo>
                    <a:pt x="4912" y="3829"/>
                  </a:lnTo>
                  <a:lnTo>
                    <a:pt x="4855" y="3922"/>
                  </a:lnTo>
                  <a:lnTo>
                    <a:pt x="4796" y="4014"/>
                  </a:lnTo>
                  <a:lnTo>
                    <a:pt x="4732" y="4101"/>
                  </a:lnTo>
                  <a:lnTo>
                    <a:pt x="4665" y="4187"/>
                  </a:lnTo>
                  <a:lnTo>
                    <a:pt x="4595" y="4270"/>
                  </a:lnTo>
                  <a:lnTo>
                    <a:pt x="4521" y="4349"/>
                  </a:lnTo>
                  <a:lnTo>
                    <a:pt x="4445" y="4425"/>
                  </a:lnTo>
                  <a:lnTo>
                    <a:pt x="4365" y="4498"/>
                  </a:lnTo>
                  <a:lnTo>
                    <a:pt x="4283" y="4569"/>
                  </a:lnTo>
                  <a:lnTo>
                    <a:pt x="4196" y="4635"/>
                  </a:lnTo>
                  <a:lnTo>
                    <a:pt x="4108" y="4698"/>
                  </a:lnTo>
                  <a:lnTo>
                    <a:pt x="4017" y="4757"/>
                  </a:lnTo>
                  <a:lnTo>
                    <a:pt x="3923" y="4813"/>
                  </a:lnTo>
                  <a:lnTo>
                    <a:pt x="3827" y="4865"/>
                  </a:lnTo>
                  <a:lnTo>
                    <a:pt x="3727" y="4912"/>
                  </a:lnTo>
                  <a:lnTo>
                    <a:pt x="3627" y="4955"/>
                  </a:lnTo>
                  <a:lnTo>
                    <a:pt x="3524" y="4994"/>
                  </a:lnTo>
                  <a:lnTo>
                    <a:pt x="3418" y="5030"/>
                  </a:lnTo>
                  <a:lnTo>
                    <a:pt x="3311" y="5060"/>
                  </a:lnTo>
                  <a:lnTo>
                    <a:pt x="3203" y="5087"/>
                  </a:lnTo>
                  <a:lnTo>
                    <a:pt x="3232" y="5085"/>
                  </a:lnTo>
                  <a:lnTo>
                    <a:pt x="3262" y="5083"/>
                  </a:lnTo>
                  <a:lnTo>
                    <a:pt x="3291" y="5081"/>
                  </a:lnTo>
                  <a:lnTo>
                    <a:pt x="3320" y="5078"/>
                  </a:lnTo>
                  <a:lnTo>
                    <a:pt x="3349" y="5076"/>
                  </a:lnTo>
                  <a:lnTo>
                    <a:pt x="3378" y="5073"/>
                  </a:lnTo>
                  <a:lnTo>
                    <a:pt x="3407" y="5071"/>
                  </a:lnTo>
                  <a:lnTo>
                    <a:pt x="3437" y="5068"/>
                  </a:lnTo>
                  <a:lnTo>
                    <a:pt x="3536" y="5034"/>
                  </a:lnTo>
                  <a:lnTo>
                    <a:pt x="3634" y="4997"/>
                  </a:lnTo>
                  <a:lnTo>
                    <a:pt x="3731" y="4956"/>
                  </a:lnTo>
                  <a:lnTo>
                    <a:pt x="3825" y="4912"/>
                  </a:lnTo>
                  <a:lnTo>
                    <a:pt x="3917" y="4864"/>
                  </a:lnTo>
                  <a:lnTo>
                    <a:pt x="4007" y="4812"/>
                  </a:lnTo>
                  <a:lnTo>
                    <a:pt x="4095" y="4757"/>
                  </a:lnTo>
                  <a:lnTo>
                    <a:pt x="4180" y="4698"/>
                  </a:lnTo>
                  <a:lnTo>
                    <a:pt x="4263" y="4637"/>
                  </a:lnTo>
                  <a:lnTo>
                    <a:pt x="4343" y="4572"/>
                  </a:lnTo>
                  <a:lnTo>
                    <a:pt x="4421" y="4505"/>
                  </a:lnTo>
                  <a:lnTo>
                    <a:pt x="4497" y="4434"/>
                  </a:lnTo>
                  <a:lnTo>
                    <a:pt x="4568" y="4360"/>
                  </a:lnTo>
                  <a:lnTo>
                    <a:pt x="4638" y="4285"/>
                  </a:lnTo>
                  <a:lnTo>
                    <a:pt x="4704" y="4206"/>
                  </a:lnTo>
                  <a:lnTo>
                    <a:pt x="4768" y="4125"/>
                  </a:lnTo>
                  <a:lnTo>
                    <a:pt x="4827" y="4041"/>
                  </a:lnTo>
                  <a:lnTo>
                    <a:pt x="4885" y="3954"/>
                  </a:lnTo>
                  <a:lnTo>
                    <a:pt x="4939" y="3866"/>
                  </a:lnTo>
                  <a:lnTo>
                    <a:pt x="4988" y="3775"/>
                  </a:lnTo>
                  <a:lnTo>
                    <a:pt x="5035" y="3682"/>
                  </a:lnTo>
                  <a:lnTo>
                    <a:pt x="5078" y="3587"/>
                  </a:lnTo>
                  <a:lnTo>
                    <a:pt x="5118" y="3490"/>
                  </a:lnTo>
                  <a:lnTo>
                    <a:pt x="5154" y="3390"/>
                  </a:lnTo>
                  <a:lnTo>
                    <a:pt x="5185" y="3290"/>
                  </a:lnTo>
                  <a:lnTo>
                    <a:pt x="5213" y="3187"/>
                  </a:lnTo>
                  <a:lnTo>
                    <a:pt x="5237" y="3084"/>
                  </a:lnTo>
                  <a:lnTo>
                    <a:pt x="5256" y="2979"/>
                  </a:lnTo>
                  <a:lnTo>
                    <a:pt x="5272" y="2872"/>
                  </a:lnTo>
                  <a:lnTo>
                    <a:pt x="5283" y="2763"/>
                  </a:lnTo>
                  <a:lnTo>
                    <a:pt x="5290" y="2654"/>
                  </a:lnTo>
                  <a:lnTo>
                    <a:pt x="5292" y="2544"/>
                  </a:lnTo>
                  <a:close/>
                  <a:moveTo>
                    <a:pt x="1856" y="19"/>
                  </a:moveTo>
                  <a:lnTo>
                    <a:pt x="1756" y="52"/>
                  </a:lnTo>
                  <a:lnTo>
                    <a:pt x="1658" y="90"/>
                  </a:lnTo>
                  <a:lnTo>
                    <a:pt x="1562" y="131"/>
                  </a:lnTo>
                  <a:lnTo>
                    <a:pt x="1468" y="175"/>
                  </a:lnTo>
                  <a:lnTo>
                    <a:pt x="1375" y="223"/>
                  </a:lnTo>
                  <a:lnTo>
                    <a:pt x="1285" y="275"/>
                  </a:lnTo>
                  <a:lnTo>
                    <a:pt x="1198" y="330"/>
                  </a:lnTo>
                  <a:lnTo>
                    <a:pt x="1112" y="388"/>
                  </a:lnTo>
                  <a:lnTo>
                    <a:pt x="1029" y="450"/>
                  </a:lnTo>
                  <a:lnTo>
                    <a:pt x="949" y="514"/>
                  </a:lnTo>
                  <a:lnTo>
                    <a:pt x="871" y="582"/>
                  </a:lnTo>
                  <a:lnTo>
                    <a:pt x="796" y="653"/>
                  </a:lnTo>
                  <a:lnTo>
                    <a:pt x="724" y="726"/>
                  </a:lnTo>
                  <a:lnTo>
                    <a:pt x="654" y="803"/>
                  </a:lnTo>
                  <a:lnTo>
                    <a:pt x="588" y="882"/>
                  </a:lnTo>
                  <a:lnTo>
                    <a:pt x="525" y="963"/>
                  </a:lnTo>
                  <a:lnTo>
                    <a:pt x="465" y="1047"/>
                  </a:lnTo>
                  <a:lnTo>
                    <a:pt x="408" y="1133"/>
                  </a:lnTo>
                  <a:lnTo>
                    <a:pt x="354" y="1222"/>
                  </a:lnTo>
                  <a:lnTo>
                    <a:pt x="304" y="1312"/>
                  </a:lnTo>
                  <a:lnTo>
                    <a:pt x="258" y="1405"/>
                  </a:lnTo>
                  <a:lnTo>
                    <a:pt x="214" y="1500"/>
                  </a:lnTo>
                  <a:lnTo>
                    <a:pt x="174" y="1598"/>
                  </a:lnTo>
                  <a:lnTo>
                    <a:pt x="139" y="1696"/>
                  </a:lnTo>
                  <a:lnTo>
                    <a:pt x="107" y="1796"/>
                  </a:lnTo>
                  <a:lnTo>
                    <a:pt x="79" y="1899"/>
                  </a:lnTo>
                  <a:lnTo>
                    <a:pt x="56" y="2003"/>
                  </a:lnTo>
                  <a:lnTo>
                    <a:pt x="36" y="2108"/>
                  </a:lnTo>
                  <a:lnTo>
                    <a:pt x="20" y="2215"/>
                  </a:lnTo>
                  <a:lnTo>
                    <a:pt x="9" y="2323"/>
                  </a:lnTo>
                  <a:lnTo>
                    <a:pt x="3" y="2432"/>
                  </a:lnTo>
                  <a:lnTo>
                    <a:pt x="0" y="2544"/>
                  </a:lnTo>
                  <a:lnTo>
                    <a:pt x="3" y="2654"/>
                  </a:lnTo>
                  <a:lnTo>
                    <a:pt x="9" y="2763"/>
                  </a:lnTo>
                  <a:lnTo>
                    <a:pt x="20" y="2872"/>
                  </a:lnTo>
                  <a:lnTo>
                    <a:pt x="36" y="2979"/>
                  </a:lnTo>
                  <a:lnTo>
                    <a:pt x="56" y="3084"/>
                  </a:lnTo>
                  <a:lnTo>
                    <a:pt x="79" y="3187"/>
                  </a:lnTo>
                  <a:lnTo>
                    <a:pt x="107" y="3290"/>
                  </a:lnTo>
                  <a:lnTo>
                    <a:pt x="139" y="3390"/>
                  </a:lnTo>
                  <a:lnTo>
                    <a:pt x="174" y="3490"/>
                  </a:lnTo>
                  <a:lnTo>
                    <a:pt x="214" y="3587"/>
                  </a:lnTo>
                  <a:lnTo>
                    <a:pt x="258" y="3682"/>
                  </a:lnTo>
                  <a:lnTo>
                    <a:pt x="304" y="3775"/>
                  </a:lnTo>
                  <a:lnTo>
                    <a:pt x="354" y="3866"/>
                  </a:lnTo>
                  <a:lnTo>
                    <a:pt x="408" y="3954"/>
                  </a:lnTo>
                  <a:lnTo>
                    <a:pt x="465" y="4041"/>
                  </a:lnTo>
                  <a:lnTo>
                    <a:pt x="525" y="4125"/>
                  </a:lnTo>
                  <a:lnTo>
                    <a:pt x="588" y="4206"/>
                  </a:lnTo>
                  <a:lnTo>
                    <a:pt x="654" y="4285"/>
                  </a:lnTo>
                  <a:lnTo>
                    <a:pt x="724" y="4360"/>
                  </a:lnTo>
                  <a:lnTo>
                    <a:pt x="796" y="4434"/>
                  </a:lnTo>
                  <a:lnTo>
                    <a:pt x="871" y="4505"/>
                  </a:lnTo>
                  <a:lnTo>
                    <a:pt x="949" y="4572"/>
                  </a:lnTo>
                  <a:lnTo>
                    <a:pt x="1029" y="4637"/>
                  </a:lnTo>
                  <a:lnTo>
                    <a:pt x="1112" y="4698"/>
                  </a:lnTo>
                  <a:lnTo>
                    <a:pt x="1198" y="4757"/>
                  </a:lnTo>
                  <a:lnTo>
                    <a:pt x="1285" y="4812"/>
                  </a:lnTo>
                  <a:lnTo>
                    <a:pt x="1375" y="4864"/>
                  </a:lnTo>
                  <a:lnTo>
                    <a:pt x="1468" y="4912"/>
                  </a:lnTo>
                  <a:lnTo>
                    <a:pt x="1562" y="4956"/>
                  </a:lnTo>
                  <a:lnTo>
                    <a:pt x="1658" y="4997"/>
                  </a:lnTo>
                  <a:lnTo>
                    <a:pt x="1756" y="5034"/>
                  </a:lnTo>
                  <a:lnTo>
                    <a:pt x="1856" y="5068"/>
                  </a:lnTo>
                  <a:lnTo>
                    <a:pt x="1885" y="5071"/>
                  </a:lnTo>
                  <a:lnTo>
                    <a:pt x="1914" y="5073"/>
                  </a:lnTo>
                  <a:lnTo>
                    <a:pt x="1943" y="5076"/>
                  </a:lnTo>
                  <a:lnTo>
                    <a:pt x="1972" y="5078"/>
                  </a:lnTo>
                  <a:lnTo>
                    <a:pt x="2002" y="5081"/>
                  </a:lnTo>
                  <a:lnTo>
                    <a:pt x="2031" y="5083"/>
                  </a:lnTo>
                  <a:lnTo>
                    <a:pt x="2060" y="5085"/>
                  </a:lnTo>
                  <a:lnTo>
                    <a:pt x="2089" y="5087"/>
                  </a:lnTo>
                  <a:lnTo>
                    <a:pt x="1981" y="5060"/>
                  </a:lnTo>
                  <a:lnTo>
                    <a:pt x="1874" y="5030"/>
                  </a:lnTo>
                  <a:lnTo>
                    <a:pt x="1768" y="4994"/>
                  </a:lnTo>
                  <a:lnTo>
                    <a:pt x="1666" y="4955"/>
                  </a:lnTo>
                  <a:lnTo>
                    <a:pt x="1564" y="4912"/>
                  </a:lnTo>
                  <a:lnTo>
                    <a:pt x="1466" y="4865"/>
                  </a:lnTo>
                  <a:lnTo>
                    <a:pt x="1370" y="4813"/>
                  </a:lnTo>
                  <a:lnTo>
                    <a:pt x="1276" y="4757"/>
                  </a:lnTo>
                  <a:lnTo>
                    <a:pt x="1185" y="4698"/>
                  </a:lnTo>
                  <a:lnTo>
                    <a:pt x="1096" y="4635"/>
                  </a:lnTo>
                  <a:lnTo>
                    <a:pt x="1010" y="4569"/>
                  </a:lnTo>
                  <a:lnTo>
                    <a:pt x="928" y="4498"/>
                  </a:lnTo>
                  <a:lnTo>
                    <a:pt x="848" y="4425"/>
                  </a:lnTo>
                  <a:lnTo>
                    <a:pt x="771" y="4349"/>
                  </a:lnTo>
                  <a:lnTo>
                    <a:pt x="697" y="4270"/>
                  </a:lnTo>
                  <a:lnTo>
                    <a:pt x="627" y="4187"/>
                  </a:lnTo>
                  <a:lnTo>
                    <a:pt x="560" y="4101"/>
                  </a:lnTo>
                  <a:lnTo>
                    <a:pt x="496" y="4014"/>
                  </a:lnTo>
                  <a:lnTo>
                    <a:pt x="437" y="3922"/>
                  </a:lnTo>
                  <a:lnTo>
                    <a:pt x="381" y="3829"/>
                  </a:lnTo>
                  <a:lnTo>
                    <a:pt x="329" y="3733"/>
                  </a:lnTo>
                  <a:lnTo>
                    <a:pt x="281" y="3634"/>
                  </a:lnTo>
                  <a:lnTo>
                    <a:pt x="237" y="3534"/>
                  </a:lnTo>
                  <a:lnTo>
                    <a:pt x="197" y="3430"/>
                  </a:lnTo>
                  <a:lnTo>
                    <a:pt x="161" y="3326"/>
                  </a:lnTo>
                  <a:lnTo>
                    <a:pt x="130" y="3219"/>
                  </a:lnTo>
                  <a:lnTo>
                    <a:pt x="104" y="3111"/>
                  </a:lnTo>
                  <a:lnTo>
                    <a:pt x="82" y="3001"/>
                  </a:lnTo>
                  <a:lnTo>
                    <a:pt x="64" y="2888"/>
                  </a:lnTo>
                  <a:lnTo>
                    <a:pt x="52" y="2775"/>
                  </a:lnTo>
                  <a:lnTo>
                    <a:pt x="45" y="2659"/>
                  </a:lnTo>
                  <a:lnTo>
                    <a:pt x="42" y="2544"/>
                  </a:lnTo>
                  <a:lnTo>
                    <a:pt x="45" y="2427"/>
                  </a:lnTo>
                  <a:lnTo>
                    <a:pt x="52" y="2313"/>
                  </a:lnTo>
                  <a:lnTo>
                    <a:pt x="64" y="2199"/>
                  </a:lnTo>
                  <a:lnTo>
                    <a:pt x="82" y="2087"/>
                  </a:lnTo>
                  <a:lnTo>
                    <a:pt x="104" y="1977"/>
                  </a:lnTo>
                  <a:lnTo>
                    <a:pt x="130" y="1868"/>
                  </a:lnTo>
                  <a:lnTo>
                    <a:pt x="161" y="1761"/>
                  </a:lnTo>
                  <a:lnTo>
                    <a:pt x="197" y="1656"/>
                  </a:lnTo>
                  <a:lnTo>
                    <a:pt x="237" y="1553"/>
                  </a:lnTo>
                  <a:lnTo>
                    <a:pt x="281" y="1453"/>
                  </a:lnTo>
                  <a:lnTo>
                    <a:pt x="329" y="1355"/>
                  </a:lnTo>
                  <a:lnTo>
                    <a:pt x="381" y="1258"/>
                  </a:lnTo>
                  <a:lnTo>
                    <a:pt x="437" y="1165"/>
                  </a:lnTo>
                  <a:lnTo>
                    <a:pt x="496" y="1074"/>
                  </a:lnTo>
                  <a:lnTo>
                    <a:pt x="560" y="985"/>
                  </a:lnTo>
                  <a:lnTo>
                    <a:pt x="627" y="900"/>
                  </a:lnTo>
                  <a:lnTo>
                    <a:pt x="697" y="818"/>
                  </a:lnTo>
                  <a:lnTo>
                    <a:pt x="771" y="738"/>
                  </a:lnTo>
                  <a:lnTo>
                    <a:pt x="848" y="661"/>
                  </a:lnTo>
                  <a:lnTo>
                    <a:pt x="928" y="588"/>
                  </a:lnTo>
                  <a:lnTo>
                    <a:pt x="1010" y="519"/>
                  </a:lnTo>
                  <a:lnTo>
                    <a:pt x="1096" y="452"/>
                  </a:lnTo>
                  <a:lnTo>
                    <a:pt x="1185" y="389"/>
                  </a:lnTo>
                  <a:lnTo>
                    <a:pt x="1276" y="330"/>
                  </a:lnTo>
                  <a:lnTo>
                    <a:pt x="1370" y="275"/>
                  </a:lnTo>
                  <a:lnTo>
                    <a:pt x="1466" y="223"/>
                  </a:lnTo>
                  <a:lnTo>
                    <a:pt x="1564" y="175"/>
                  </a:lnTo>
                  <a:lnTo>
                    <a:pt x="1666" y="131"/>
                  </a:lnTo>
                  <a:lnTo>
                    <a:pt x="1768" y="92"/>
                  </a:lnTo>
                  <a:lnTo>
                    <a:pt x="1874" y="58"/>
                  </a:lnTo>
                  <a:lnTo>
                    <a:pt x="1981" y="26"/>
                  </a:lnTo>
                  <a:lnTo>
                    <a:pt x="2089" y="0"/>
                  </a:lnTo>
                  <a:lnTo>
                    <a:pt x="2060" y="2"/>
                  </a:lnTo>
                  <a:lnTo>
                    <a:pt x="2031" y="5"/>
                  </a:lnTo>
                  <a:lnTo>
                    <a:pt x="2002" y="7"/>
                  </a:lnTo>
                  <a:lnTo>
                    <a:pt x="1972" y="9"/>
                  </a:lnTo>
                  <a:lnTo>
                    <a:pt x="1943" y="11"/>
                  </a:lnTo>
                  <a:lnTo>
                    <a:pt x="1914" y="13"/>
                  </a:lnTo>
                  <a:lnTo>
                    <a:pt x="1885" y="16"/>
                  </a:lnTo>
                  <a:lnTo>
                    <a:pt x="1856" y="19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32320" y="1984320"/>
              <a:ext cx="2084400" cy="2025720"/>
            </a:xfrm>
            <a:custGeom>
              <a:avLst/>
              <a:gdLst/>
              <a:ahLst/>
              <a:rect l="l" t="t" r="r" b="b"/>
              <a:pathLst>
                <a:path w="5250" h="5105">
                  <a:moveTo>
                    <a:pt x="5250" y="2553"/>
                  </a:moveTo>
                  <a:lnTo>
                    <a:pt x="5248" y="2439"/>
                  </a:lnTo>
                  <a:lnTo>
                    <a:pt x="5241" y="2327"/>
                  </a:lnTo>
                  <a:lnTo>
                    <a:pt x="5229" y="2217"/>
                  </a:lnTo>
                  <a:lnTo>
                    <a:pt x="5213" y="2108"/>
                  </a:lnTo>
                  <a:lnTo>
                    <a:pt x="5192" y="2000"/>
                  </a:lnTo>
                  <a:lnTo>
                    <a:pt x="5167" y="1894"/>
                  </a:lnTo>
                  <a:lnTo>
                    <a:pt x="5138" y="1789"/>
                  </a:lnTo>
                  <a:lnTo>
                    <a:pt x="5104" y="1687"/>
                  </a:lnTo>
                  <a:lnTo>
                    <a:pt x="5067" y="1586"/>
                  </a:lnTo>
                  <a:lnTo>
                    <a:pt x="5026" y="1488"/>
                  </a:lnTo>
                  <a:lnTo>
                    <a:pt x="4980" y="1391"/>
                  </a:lnTo>
                  <a:lnTo>
                    <a:pt x="4931" y="1297"/>
                  </a:lnTo>
                  <a:lnTo>
                    <a:pt x="4878" y="1205"/>
                  </a:lnTo>
                  <a:lnTo>
                    <a:pt x="4821" y="1115"/>
                  </a:lnTo>
                  <a:lnTo>
                    <a:pt x="4762" y="1028"/>
                  </a:lnTo>
                  <a:lnTo>
                    <a:pt x="4698" y="943"/>
                  </a:lnTo>
                  <a:lnTo>
                    <a:pt x="4632" y="861"/>
                  </a:lnTo>
                  <a:lnTo>
                    <a:pt x="4562" y="781"/>
                  </a:lnTo>
                  <a:lnTo>
                    <a:pt x="4490" y="706"/>
                  </a:lnTo>
                  <a:lnTo>
                    <a:pt x="4414" y="632"/>
                  </a:lnTo>
                  <a:lnTo>
                    <a:pt x="4335" y="562"/>
                  </a:lnTo>
                  <a:lnTo>
                    <a:pt x="4254" y="495"/>
                  </a:lnTo>
                  <a:lnTo>
                    <a:pt x="4170" y="430"/>
                  </a:lnTo>
                  <a:lnTo>
                    <a:pt x="4083" y="370"/>
                  </a:lnTo>
                  <a:lnTo>
                    <a:pt x="3994" y="314"/>
                  </a:lnTo>
                  <a:lnTo>
                    <a:pt x="3903" y="260"/>
                  </a:lnTo>
                  <a:lnTo>
                    <a:pt x="3809" y="210"/>
                  </a:lnTo>
                  <a:lnTo>
                    <a:pt x="3713" y="164"/>
                  </a:lnTo>
                  <a:lnTo>
                    <a:pt x="3614" y="122"/>
                  </a:lnTo>
                  <a:lnTo>
                    <a:pt x="3514" y="83"/>
                  </a:lnTo>
                  <a:lnTo>
                    <a:pt x="3411" y="48"/>
                  </a:lnTo>
                  <a:lnTo>
                    <a:pt x="3308" y="18"/>
                  </a:lnTo>
                  <a:lnTo>
                    <a:pt x="3272" y="16"/>
                  </a:lnTo>
                  <a:lnTo>
                    <a:pt x="3236" y="13"/>
                  </a:lnTo>
                  <a:lnTo>
                    <a:pt x="3201" y="10"/>
                  </a:lnTo>
                  <a:lnTo>
                    <a:pt x="3164" y="8"/>
                  </a:lnTo>
                  <a:lnTo>
                    <a:pt x="3128" y="6"/>
                  </a:lnTo>
                  <a:lnTo>
                    <a:pt x="3093" y="4"/>
                  </a:lnTo>
                  <a:lnTo>
                    <a:pt x="3056" y="2"/>
                  </a:lnTo>
                  <a:lnTo>
                    <a:pt x="3020" y="0"/>
                  </a:lnTo>
                  <a:lnTo>
                    <a:pt x="3135" y="20"/>
                  </a:lnTo>
                  <a:lnTo>
                    <a:pt x="3248" y="46"/>
                  </a:lnTo>
                  <a:lnTo>
                    <a:pt x="3360" y="76"/>
                  </a:lnTo>
                  <a:lnTo>
                    <a:pt x="3470" y="111"/>
                  </a:lnTo>
                  <a:lnTo>
                    <a:pt x="3577" y="151"/>
                  </a:lnTo>
                  <a:lnTo>
                    <a:pt x="3681" y="195"/>
                  </a:lnTo>
                  <a:lnTo>
                    <a:pt x="3784" y="245"/>
                  </a:lnTo>
                  <a:lnTo>
                    <a:pt x="3885" y="298"/>
                  </a:lnTo>
                  <a:lnTo>
                    <a:pt x="3982" y="355"/>
                  </a:lnTo>
                  <a:lnTo>
                    <a:pt x="4077" y="416"/>
                  </a:lnTo>
                  <a:lnTo>
                    <a:pt x="4169" y="481"/>
                  </a:lnTo>
                  <a:lnTo>
                    <a:pt x="4257" y="550"/>
                  </a:lnTo>
                  <a:lnTo>
                    <a:pt x="4343" y="624"/>
                  </a:lnTo>
                  <a:lnTo>
                    <a:pt x="4425" y="699"/>
                  </a:lnTo>
                  <a:lnTo>
                    <a:pt x="4504" y="779"/>
                  </a:lnTo>
                  <a:lnTo>
                    <a:pt x="4579" y="862"/>
                  </a:lnTo>
                  <a:lnTo>
                    <a:pt x="4651" y="950"/>
                  </a:lnTo>
                  <a:lnTo>
                    <a:pt x="4719" y="1040"/>
                  </a:lnTo>
                  <a:lnTo>
                    <a:pt x="4782" y="1131"/>
                  </a:lnTo>
                  <a:lnTo>
                    <a:pt x="4843" y="1228"/>
                  </a:lnTo>
                  <a:lnTo>
                    <a:pt x="4899" y="1326"/>
                  </a:lnTo>
                  <a:lnTo>
                    <a:pt x="4951" y="1426"/>
                  </a:lnTo>
                  <a:lnTo>
                    <a:pt x="4998" y="1530"/>
                  </a:lnTo>
                  <a:lnTo>
                    <a:pt x="5041" y="1636"/>
                  </a:lnTo>
                  <a:lnTo>
                    <a:pt x="5080" y="1744"/>
                  </a:lnTo>
                  <a:lnTo>
                    <a:pt x="5113" y="1854"/>
                  </a:lnTo>
                  <a:lnTo>
                    <a:pt x="5141" y="1965"/>
                  </a:lnTo>
                  <a:lnTo>
                    <a:pt x="5165" y="2080"/>
                  </a:lnTo>
                  <a:lnTo>
                    <a:pt x="5184" y="2195"/>
                  </a:lnTo>
                  <a:lnTo>
                    <a:pt x="5197" y="2313"/>
                  </a:lnTo>
                  <a:lnTo>
                    <a:pt x="5206" y="2432"/>
                  </a:lnTo>
                  <a:lnTo>
                    <a:pt x="5208" y="2553"/>
                  </a:lnTo>
                  <a:lnTo>
                    <a:pt x="5206" y="2673"/>
                  </a:lnTo>
                  <a:lnTo>
                    <a:pt x="5197" y="2791"/>
                  </a:lnTo>
                  <a:lnTo>
                    <a:pt x="5184" y="2909"/>
                  </a:lnTo>
                  <a:lnTo>
                    <a:pt x="5165" y="3026"/>
                  </a:lnTo>
                  <a:lnTo>
                    <a:pt x="5141" y="3139"/>
                  </a:lnTo>
                  <a:lnTo>
                    <a:pt x="5113" y="3251"/>
                  </a:lnTo>
                  <a:lnTo>
                    <a:pt x="5080" y="3362"/>
                  </a:lnTo>
                  <a:lnTo>
                    <a:pt x="5041" y="3470"/>
                  </a:lnTo>
                  <a:lnTo>
                    <a:pt x="4998" y="3575"/>
                  </a:lnTo>
                  <a:lnTo>
                    <a:pt x="4951" y="3679"/>
                  </a:lnTo>
                  <a:lnTo>
                    <a:pt x="4899" y="3780"/>
                  </a:lnTo>
                  <a:lnTo>
                    <a:pt x="4843" y="3878"/>
                  </a:lnTo>
                  <a:lnTo>
                    <a:pt x="4782" y="3973"/>
                  </a:lnTo>
                  <a:lnTo>
                    <a:pt x="4719" y="4066"/>
                  </a:lnTo>
                  <a:lnTo>
                    <a:pt x="4651" y="4155"/>
                  </a:lnTo>
                  <a:lnTo>
                    <a:pt x="4579" y="4242"/>
                  </a:lnTo>
                  <a:lnTo>
                    <a:pt x="4504" y="4325"/>
                  </a:lnTo>
                  <a:lnTo>
                    <a:pt x="4425" y="4405"/>
                  </a:lnTo>
                  <a:lnTo>
                    <a:pt x="4343" y="4482"/>
                  </a:lnTo>
                  <a:lnTo>
                    <a:pt x="4257" y="4554"/>
                  </a:lnTo>
                  <a:lnTo>
                    <a:pt x="4169" y="4623"/>
                  </a:lnTo>
                  <a:lnTo>
                    <a:pt x="4077" y="4689"/>
                  </a:lnTo>
                  <a:lnTo>
                    <a:pt x="3982" y="4750"/>
                  </a:lnTo>
                  <a:lnTo>
                    <a:pt x="3885" y="4808"/>
                  </a:lnTo>
                  <a:lnTo>
                    <a:pt x="3784" y="4861"/>
                  </a:lnTo>
                  <a:lnTo>
                    <a:pt x="3682" y="4909"/>
                  </a:lnTo>
                  <a:lnTo>
                    <a:pt x="3577" y="4954"/>
                  </a:lnTo>
                  <a:lnTo>
                    <a:pt x="3470" y="4993"/>
                  </a:lnTo>
                  <a:lnTo>
                    <a:pt x="3360" y="5029"/>
                  </a:lnTo>
                  <a:lnTo>
                    <a:pt x="3248" y="5059"/>
                  </a:lnTo>
                  <a:lnTo>
                    <a:pt x="3135" y="5084"/>
                  </a:lnTo>
                  <a:lnTo>
                    <a:pt x="3020" y="5105"/>
                  </a:lnTo>
                  <a:lnTo>
                    <a:pt x="3056" y="5103"/>
                  </a:lnTo>
                  <a:lnTo>
                    <a:pt x="3093" y="5101"/>
                  </a:lnTo>
                  <a:lnTo>
                    <a:pt x="3128" y="5099"/>
                  </a:lnTo>
                  <a:lnTo>
                    <a:pt x="3165" y="5097"/>
                  </a:lnTo>
                  <a:lnTo>
                    <a:pt x="3201" y="5094"/>
                  </a:lnTo>
                  <a:lnTo>
                    <a:pt x="3236" y="5092"/>
                  </a:lnTo>
                  <a:lnTo>
                    <a:pt x="3272" y="5090"/>
                  </a:lnTo>
                  <a:lnTo>
                    <a:pt x="3308" y="5086"/>
                  </a:lnTo>
                  <a:lnTo>
                    <a:pt x="3411" y="5056"/>
                  </a:lnTo>
                  <a:lnTo>
                    <a:pt x="3514" y="5022"/>
                  </a:lnTo>
                  <a:lnTo>
                    <a:pt x="3614" y="4984"/>
                  </a:lnTo>
                  <a:lnTo>
                    <a:pt x="3713" y="4942"/>
                  </a:lnTo>
                  <a:lnTo>
                    <a:pt x="3809" y="4895"/>
                  </a:lnTo>
                  <a:lnTo>
                    <a:pt x="3903" y="4846"/>
                  </a:lnTo>
                  <a:lnTo>
                    <a:pt x="3994" y="4792"/>
                  </a:lnTo>
                  <a:lnTo>
                    <a:pt x="4083" y="4734"/>
                  </a:lnTo>
                  <a:lnTo>
                    <a:pt x="4170" y="4674"/>
                  </a:lnTo>
                  <a:lnTo>
                    <a:pt x="4254" y="4610"/>
                  </a:lnTo>
                  <a:lnTo>
                    <a:pt x="4335" y="4543"/>
                  </a:lnTo>
                  <a:lnTo>
                    <a:pt x="4414" y="4473"/>
                  </a:lnTo>
                  <a:lnTo>
                    <a:pt x="4490" y="4399"/>
                  </a:lnTo>
                  <a:lnTo>
                    <a:pt x="4562" y="4323"/>
                  </a:lnTo>
                  <a:lnTo>
                    <a:pt x="4632" y="4244"/>
                  </a:lnTo>
                  <a:lnTo>
                    <a:pt x="4698" y="4162"/>
                  </a:lnTo>
                  <a:lnTo>
                    <a:pt x="4762" y="4077"/>
                  </a:lnTo>
                  <a:lnTo>
                    <a:pt x="4821" y="3990"/>
                  </a:lnTo>
                  <a:lnTo>
                    <a:pt x="4878" y="3901"/>
                  </a:lnTo>
                  <a:lnTo>
                    <a:pt x="4931" y="3808"/>
                  </a:lnTo>
                  <a:lnTo>
                    <a:pt x="4980" y="3714"/>
                  </a:lnTo>
                  <a:lnTo>
                    <a:pt x="5026" y="3618"/>
                  </a:lnTo>
                  <a:lnTo>
                    <a:pt x="5067" y="3518"/>
                  </a:lnTo>
                  <a:lnTo>
                    <a:pt x="5104" y="3418"/>
                  </a:lnTo>
                  <a:lnTo>
                    <a:pt x="5138" y="3315"/>
                  </a:lnTo>
                  <a:lnTo>
                    <a:pt x="5167" y="3211"/>
                  </a:lnTo>
                  <a:lnTo>
                    <a:pt x="5192" y="3105"/>
                  </a:lnTo>
                  <a:lnTo>
                    <a:pt x="5213" y="2998"/>
                  </a:lnTo>
                  <a:lnTo>
                    <a:pt x="5229" y="2889"/>
                  </a:lnTo>
                  <a:lnTo>
                    <a:pt x="5241" y="2777"/>
                  </a:lnTo>
                  <a:lnTo>
                    <a:pt x="5248" y="2666"/>
                  </a:lnTo>
                  <a:lnTo>
                    <a:pt x="5250" y="2553"/>
                  </a:lnTo>
                  <a:close/>
                  <a:moveTo>
                    <a:pt x="1943" y="18"/>
                  </a:moveTo>
                  <a:lnTo>
                    <a:pt x="1839" y="48"/>
                  </a:lnTo>
                  <a:lnTo>
                    <a:pt x="1736" y="83"/>
                  </a:lnTo>
                  <a:lnTo>
                    <a:pt x="1636" y="122"/>
                  </a:lnTo>
                  <a:lnTo>
                    <a:pt x="1538" y="164"/>
                  </a:lnTo>
                  <a:lnTo>
                    <a:pt x="1441" y="210"/>
                  </a:lnTo>
                  <a:lnTo>
                    <a:pt x="1347" y="260"/>
                  </a:lnTo>
                  <a:lnTo>
                    <a:pt x="1257" y="314"/>
                  </a:lnTo>
                  <a:lnTo>
                    <a:pt x="1167" y="370"/>
                  </a:lnTo>
                  <a:lnTo>
                    <a:pt x="1081" y="430"/>
                  </a:lnTo>
                  <a:lnTo>
                    <a:pt x="996" y="495"/>
                  </a:lnTo>
                  <a:lnTo>
                    <a:pt x="915" y="562"/>
                  </a:lnTo>
                  <a:lnTo>
                    <a:pt x="836" y="632"/>
                  </a:lnTo>
                  <a:lnTo>
                    <a:pt x="761" y="706"/>
                  </a:lnTo>
                  <a:lnTo>
                    <a:pt x="688" y="781"/>
                  </a:lnTo>
                  <a:lnTo>
                    <a:pt x="618" y="861"/>
                  </a:lnTo>
                  <a:lnTo>
                    <a:pt x="552" y="943"/>
                  </a:lnTo>
                  <a:lnTo>
                    <a:pt x="488" y="1028"/>
                  </a:lnTo>
                  <a:lnTo>
                    <a:pt x="429" y="1115"/>
                  </a:lnTo>
                  <a:lnTo>
                    <a:pt x="373" y="1205"/>
                  </a:lnTo>
                  <a:lnTo>
                    <a:pt x="320" y="1297"/>
                  </a:lnTo>
                  <a:lnTo>
                    <a:pt x="270" y="1391"/>
                  </a:lnTo>
                  <a:lnTo>
                    <a:pt x="225" y="1488"/>
                  </a:lnTo>
                  <a:lnTo>
                    <a:pt x="184" y="1586"/>
                  </a:lnTo>
                  <a:lnTo>
                    <a:pt x="146" y="1687"/>
                  </a:lnTo>
                  <a:lnTo>
                    <a:pt x="112" y="1789"/>
                  </a:lnTo>
                  <a:lnTo>
                    <a:pt x="83" y="1894"/>
                  </a:lnTo>
                  <a:lnTo>
                    <a:pt x="58" y="2000"/>
                  </a:lnTo>
                  <a:lnTo>
                    <a:pt x="38" y="2108"/>
                  </a:lnTo>
                  <a:lnTo>
                    <a:pt x="22" y="2217"/>
                  </a:lnTo>
                  <a:lnTo>
                    <a:pt x="10" y="2327"/>
                  </a:lnTo>
                  <a:lnTo>
                    <a:pt x="2" y="2439"/>
                  </a:lnTo>
                  <a:lnTo>
                    <a:pt x="0" y="2553"/>
                  </a:lnTo>
                  <a:lnTo>
                    <a:pt x="2" y="2666"/>
                  </a:lnTo>
                  <a:lnTo>
                    <a:pt x="10" y="2777"/>
                  </a:lnTo>
                  <a:lnTo>
                    <a:pt x="22" y="2889"/>
                  </a:lnTo>
                  <a:lnTo>
                    <a:pt x="38" y="2998"/>
                  </a:lnTo>
                  <a:lnTo>
                    <a:pt x="58" y="3105"/>
                  </a:lnTo>
                  <a:lnTo>
                    <a:pt x="83" y="3211"/>
                  </a:lnTo>
                  <a:lnTo>
                    <a:pt x="112" y="3315"/>
                  </a:lnTo>
                  <a:lnTo>
                    <a:pt x="146" y="3418"/>
                  </a:lnTo>
                  <a:lnTo>
                    <a:pt x="184" y="3518"/>
                  </a:lnTo>
                  <a:lnTo>
                    <a:pt x="225" y="3618"/>
                  </a:lnTo>
                  <a:lnTo>
                    <a:pt x="270" y="3714"/>
                  </a:lnTo>
                  <a:lnTo>
                    <a:pt x="320" y="3808"/>
                  </a:lnTo>
                  <a:lnTo>
                    <a:pt x="373" y="3901"/>
                  </a:lnTo>
                  <a:lnTo>
                    <a:pt x="429" y="3990"/>
                  </a:lnTo>
                  <a:lnTo>
                    <a:pt x="488" y="4077"/>
                  </a:lnTo>
                  <a:lnTo>
                    <a:pt x="552" y="4162"/>
                  </a:lnTo>
                  <a:lnTo>
                    <a:pt x="618" y="4244"/>
                  </a:lnTo>
                  <a:lnTo>
                    <a:pt x="688" y="4323"/>
                  </a:lnTo>
                  <a:lnTo>
                    <a:pt x="761" y="4399"/>
                  </a:lnTo>
                  <a:lnTo>
                    <a:pt x="836" y="4473"/>
                  </a:lnTo>
                  <a:lnTo>
                    <a:pt x="915" y="4543"/>
                  </a:lnTo>
                  <a:lnTo>
                    <a:pt x="996" y="4610"/>
                  </a:lnTo>
                  <a:lnTo>
                    <a:pt x="1081" y="4674"/>
                  </a:lnTo>
                  <a:lnTo>
                    <a:pt x="1167" y="4734"/>
                  </a:lnTo>
                  <a:lnTo>
                    <a:pt x="1257" y="4792"/>
                  </a:lnTo>
                  <a:lnTo>
                    <a:pt x="1347" y="4846"/>
                  </a:lnTo>
                  <a:lnTo>
                    <a:pt x="1441" y="4895"/>
                  </a:lnTo>
                  <a:lnTo>
                    <a:pt x="1538" y="4942"/>
                  </a:lnTo>
                  <a:lnTo>
                    <a:pt x="1636" y="4984"/>
                  </a:lnTo>
                  <a:lnTo>
                    <a:pt x="1736" y="5022"/>
                  </a:lnTo>
                  <a:lnTo>
                    <a:pt x="1839" y="5056"/>
                  </a:lnTo>
                  <a:lnTo>
                    <a:pt x="1943" y="5086"/>
                  </a:lnTo>
                  <a:lnTo>
                    <a:pt x="1978" y="5090"/>
                  </a:lnTo>
                  <a:lnTo>
                    <a:pt x="2014" y="5092"/>
                  </a:lnTo>
                  <a:lnTo>
                    <a:pt x="2050" y="5094"/>
                  </a:lnTo>
                  <a:lnTo>
                    <a:pt x="2085" y="5097"/>
                  </a:lnTo>
                  <a:lnTo>
                    <a:pt x="2122" y="5099"/>
                  </a:lnTo>
                  <a:lnTo>
                    <a:pt x="2158" y="5101"/>
                  </a:lnTo>
                  <a:lnTo>
                    <a:pt x="2195" y="5103"/>
                  </a:lnTo>
                  <a:lnTo>
                    <a:pt x="2230" y="5105"/>
                  </a:lnTo>
                  <a:lnTo>
                    <a:pt x="2116" y="5084"/>
                  </a:lnTo>
                  <a:lnTo>
                    <a:pt x="2002" y="5059"/>
                  </a:lnTo>
                  <a:lnTo>
                    <a:pt x="1890" y="5029"/>
                  </a:lnTo>
                  <a:lnTo>
                    <a:pt x="1781" y="4993"/>
                  </a:lnTo>
                  <a:lnTo>
                    <a:pt x="1674" y="4954"/>
                  </a:lnTo>
                  <a:lnTo>
                    <a:pt x="1568" y="4909"/>
                  </a:lnTo>
                  <a:lnTo>
                    <a:pt x="1465" y="4861"/>
                  </a:lnTo>
                  <a:lnTo>
                    <a:pt x="1366" y="4808"/>
                  </a:lnTo>
                  <a:lnTo>
                    <a:pt x="1269" y="4750"/>
                  </a:lnTo>
                  <a:lnTo>
                    <a:pt x="1173" y="4689"/>
                  </a:lnTo>
                  <a:lnTo>
                    <a:pt x="1082" y="4623"/>
                  </a:lnTo>
                  <a:lnTo>
                    <a:pt x="993" y="4554"/>
                  </a:lnTo>
                  <a:lnTo>
                    <a:pt x="908" y="4482"/>
                  </a:lnTo>
                  <a:lnTo>
                    <a:pt x="826" y="4405"/>
                  </a:lnTo>
                  <a:lnTo>
                    <a:pt x="747" y="4325"/>
                  </a:lnTo>
                  <a:lnTo>
                    <a:pt x="671" y="4242"/>
                  </a:lnTo>
                  <a:lnTo>
                    <a:pt x="600" y="4155"/>
                  </a:lnTo>
                  <a:lnTo>
                    <a:pt x="532" y="4066"/>
                  </a:lnTo>
                  <a:lnTo>
                    <a:pt x="468" y="3973"/>
                  </a:lnTo>
                  <a:lnTo>
                    <a:pt x="407" y="3878"/>
                  </a:lnTo>
                  <a:lnTo>
                    <a:pt x="351" y="3780"/>
                  </a:lnTo>
                  <a:lnTo>
                    <a:pt x="299" y="3679"/>
                  </a:lnTo>
                  <a:lnTo>
                    <a:pt x="253" y="3575"/>
                  </a:lnTo>
                  <a:lnTo>
                    <a:pt x="210" y="3470"/>
                  </a:lnTo>
                  <a:lnTo>
                    <a:pt x="171" y="3362"/>
                  </a:lnTo>
                  <a:lnTo>
                    <a:pt x="137" y="3251"/>
                  </a:lnTo>
                  <a:lnTo>
                    <a:pt x="109" y="3139"/>
                  </a:lnTo>
                  <a:lnTo>
                    <a:pt x="85" y="3026"/>
                  </a:lnTo>
                  <a:lnTo>
                    <a:pt x="66" y="2909"/>
                  </a:lnTo>
                  <a:lnTo>
                    <a:pt x="53" y="2791"/>
                  </a:lnTo>
                  <a:lnTo>
                    <a:pt x="44" y="2673"/>
                  </a:lnTo>
                  <a:lnTo>
                    <a:pt x="42" y="2553"/>
                  </a:lnTo>
                  <a:lnTo>
                    <a:pt x="44" y="2432"/>
                  </a:lnTo>
                  <a:lnTo>
                    <a:pt x="53" y="2313"/>
                  </a:lnTo>
                  <a:lnTo>
                    <a:pt x="66" y="2195"/>
                  </a:lnTo>
                  <a:lnTo>
                    <a:pt x="85" y="2080"/>
                  </a:lnTo>
                  <a:lnTo>
                    <a:pt x="109" y="1965"/>
                  </a:lnTo>
                  <a:lnTo>
                    <a:pt x="137" y="1854"/>
                  </a:lnTo>
                  <a:lnTo>
                    <a:pt x="171" y="1744"/>
                  </a:lnTo>
                  <a:lnTo>
                    <a:pt x="210" y="1636"/>
                  </a:lnTo>
                  <a:lnTo>
                    <a:pt x="253" y="1530"/>
                  </a:lnTo>
                  <a:lnTo>
                    <a:pt x="299" y="1426"/>
                  </a:lnTo>
                  <a:lnTo>
                    <a:pt x="351" y="1326"/>
                  </a:lnTo>
                  <a:lnTo>
                    <a:pt x="407" y="1228"/>
                  </a:lnTo>
                  <a:lnTo>
                    <a:pt x="468" y="1131"/>
                  </a:lnTo>
                  <a:lnTo>
                    <a:pt x="532" y="1040"/>
                  </a:lnTo>
                  <a:lnTo>
                    <a:pt x="600" y="950"/>
                  </a:lnTo>
                  <a:lnTo>
                    <a:pt x="671" y="862"/>
                  </a:lnTo>
                  <a:lnTo>
                    <a:pt x="747" y="779"/>
                  </a:lnTo>
                  <a:lnTo>
                    <a:pt x="826" y="699"/>
                  </a:lnTo>
                  <a:lnTo>
                    <a:pt x="908" y="624"/>
                  </a:lnTo>
                  <a:lnTo>
                    <a:pt x="993" y="550"/>
                  </a:lnTo>
                  <a:lnTo>
                    <a:pt x="1082" y="481"/>
                  </a:lnTo>
                  <a:lnTo>
                    <a:pt x="1173" y="416"/>
                  </a:lnTo>
                  <a:lnTo>
                    <a:pt x="1269" y="355"/>
                  </a:lnTo>
                  <a:lnTo>
                    <a:pt x="1366" y="298"/>
                  </a:lnTo>
                  <a:lnTo>
                    <a:pt x="1466" y="245"/>
                  </a:lnTo>
                  <a:lnTo>
                    <a:pt x="1568" y="195"/>
                  </a:lnTo>
                  <a:lnTo>
                    <a:pt x="1674" y="151"/>
                  </a:lnTo>
                  <a:lnTo>
                    <a:pt x="1781" y="111"/>
                  </a:lnTo>
                  <a:lnTo>
                    <a:pt x="1890" y="76"/>
                  </a:lnTo>
                  <a:lnTo>
                    <a:pt x="2002" y="46"/>
                  </a:lnTo>
                  <a:lnTo>
                    <a:pt x="2116" y="20"/>
                  </a:lnTo>
                  <a:lnTo>
                    <a:pt x="2230" y="0"/>
                  </a:lnTo>
                  <a:lnTo>
                    <a:pt x="2195" y="2"/>
                  </a:lnTo>
                  <a:lnTo>
                    <a:pt x="2158" y="4"/>
                  </a:lnTo>
                  <a:lnTo>
                    <a:pt x="2122" y="6"/>
                  </a:lnTo>
                  <a:lnTo>
                    <a:pt x="2087" y="8"/>
                  </a:lnTo>
                  <a:lnTo>
                    <a:pt x="2050" y="10"/>
                  </a:lnTo>
                  <a:lnTo>
                    <a:pt x="2014" y="13"/>
                  </a:lnTo>
                  <a:lnTo>
                    <a:pt x="1978" y="16"/>
                  </a:lnTo>
                  <a:lnTo>
                    <a:pt x="1943" y="1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540240" y="1981080"/>
              <a:ext cx="2066760" cy="2033640"/>
            </a:xfrm>
            <a:custGeom>
              <a:avLst/>
              <a:gdLst/>
              <a:ahLst/>
              <a:rect l="l" t="t" r="r" b="b"/>
              <a:pathLst>
                <a:path w="5209" h="5123">
                  <a:moveTo>
                    <a:pt x="5209" y="2562"/>
                  </a:moveTo>
                  <a:lnTo>
                    <a:pt x="5206" y="2445"/>
                  </a:lnTo>
                  <a:lnTo>
                    <a:pt x="5198" y="2331"/>
                  </a:lnTo>
                  <a:lnTo>
                    <a:pt x="5186" y="2217"/>
                  </a:lnTo>
                  <a:lnTo>
                    <a:pt x="5169" y="2105"/>
                  </a:lnTo>
                  <a:lnTo>
                    <a:pt x="5146" y="1995"/>
                  </a:lnTo>
                  <a:lnTo>
                    <a:pt x="5120" y="1886"/>
                  </a:lnTo>
                  <a:lnTo>
                    <a:pt x="5089" y="1779"/>
                  </a:lnTo>
                  <a:lnTo>
                    <a:pt x="5053" y="1674"/>
                  </a:lnTo>
                  <a:lnTo>
                    <a:pt x="5013" y="1571"/>
                  </a:lnTo>
                  <a:lnTo>
                    <a:pt x="4969" y="1471"/>
                  </a:lnTo>
                  <a:lnTo>
                    <a:pt x="4921" y="1373"/>
                  </a:lnTo>
                  <a:lnTo>
                    <a:pt x="4870" y="1276"/>
                  </a:lnTo>
                  <a:lnTo>
                    <a:pt x="4813" y="1183"/>
                  </a:lnTo>
                  <a:lnTo>
                    <a:pt x="4754" y="1092"/>
                  </a:lnTo>
                  <a:lnTo>
                    <a:pt x="4690" y="1003"/>
                  </a:lnTo>
                  <a:lnTo>
                    <a:pt x="4623" y="918"/>
                  </a:lnTo>
                  <a:lnTo>
                    <a:pt x="4553" y="836"/>
                  </a:lnTo>
                  <a:lnTo>
                    <a:pt x="4479" y="756"/>
                  </a:lnTo>
                  <a:lnTo>
                    <a:pt x="4403" y="679"/>
                  </a:lnTo>
                  <a:lnTo>
                    <a:pt x="4323" y="606"/>
                  </a:lnTo>
                  <a:lnTo>
                    <a:pt x="4241" y="537"/>
                  </a:lnTo>
                  <a:lnTo>
                    <a:pt x="4154" y="470"/>
                  </a:lnTo>
                  <a:lnTo>
                    <a:pt x="4066" y="407"/>
                  </a:lnTo>
                  <a:lnTo>
                    <a:pt x="3975" y="348"/>
                  </a:lnTo>
                  <a:lnTo>
                    <a:pt x="3881" y="293"/>
                  </a:lnTo>
                  <a:lnTo>
                    <a:pt x="3785" y="241"/>
                  </a:lnTo>
                  <a:lnTo>
                    <a:pt x="3685" y="193"/>
                  </a:lnTo>
                  <a:lnTo>
                    <a:pt x="3585" y="149"/>
                  </a:lnTo>
                  <a:lnTo>
                    <a:pt x="3482" y="110"/>
                  </a:lnTo>
                  <a:lnTo>
                    <a:pt x="3376" y="76"/>
                  </a:lnTo>
                  <a:lnTo>
                    <a:pt x="3269" y="44"/>
                  </a:lnTo>
                  <a:lnTo>
                    <a:pt x="3161" y="18"/>
                  </a:lnTo>
                  <a:lnTo>
                    <a:pt x="3092" y="14"/>
                  </a:lnTo>
                  <a:lnTo>
                    <a:pt x="3023" y="11"/>
                  </a:lnTo>
                  <a:lnTo>
                    <a:pt x="2954" y="7"/>
                  </a:lnTo>
                  <a:lnTo>
                    <a:pt x="2885" y="4"/>
                  </a:lnTo>
                  <a:lnTo>
                    <a:pt x="2814" y="2"/>
                  </a:lnTo>
                  <a:lnTo>
                    <a:pt x="2745" y="1"/>
                  </a:lnTo>
                  <a:lnTo>
                    <a:pt x="2675" y="0"/>
                  </a:lnTo>
                  <a:lnTo>
                    <a:pt x="2604" y="0"/>
                  </a:lnTo>
                  <a:lnTo>
                    <a:pt x="2533" y="0"/>
                  </a:lnTo>
                  <a:lnTo>
                    <a:pt x="2463" y="1"/>
                  </a:lnTo>
                  <a:lnTo>
                    <a:pt x="2393" y="2"/>
                  </a:lnTo>
                  <a:lnTo>
                    <a:pt x="2324" y="4"/>
                  </a:lnTo>
                  <a:lnTo>
                    <a:pt x="2255" y="7"/>
                  </a:lnTo>
                  <a:lnTo>
                    <a:pt x="2185" y="11"/>
                  </a:lnTo>
                  <a:lnTo>
                    <a:pt x="2116" y="14"/>
                  </a:lnTo>
                  <a:lnTo>
                    <a:pt x="2047" y="18"/>
                  </a:lnTo>
                  <a:lnTo>
                    <a:pt x="1939" y="44"/>
                  </a:lnTo>
                  <a:lnTo>
                    <a:pt x="1832" y="76"/>
                  </a:lnTo>
                  <a:lnTo>
                    <a:pt x="1726" y="110"/>
                  </a:lnTo>
                  <a:lnTo>
                    <a:pt x="1624" y="149"/>
                  </a:lnTo>
                  <a:lnTo>
                    <a:pt x="1522" y="193"/>
                  </a:lnTo>
                  <a:lnTo>
                    <a:pt x="1424" y="241"/>
                  </a:lnTo>
                  <a:lnTo>
                    <a:pt x="1328" y="293"/>
                  </a:lnTo>
                  <a:lnTo>
                    <a:pt x="1234" y="348"/>
                  </a:lnTo>
                  <a:lnTo>
                    <a:pt x="1143" y="407"/>
                  </a:lnTo>
                  <a:lnTo>
                    <a:pt x="1054" y="470"/>
                  </a:lnTo>
                  <a:lnTo>
                    <a:pt x="968" y="537"/>
                  </a:lnTo>
                  <a:lnTo>
                    <a:pt x="886" y="606"/>
                  </a:lnTo>
                  <a:lnTo>
                    <a:pt x="806" y="679"/>
                  </a:lnTo>
                  <a:lnTo>
                    <a:pt x="729" y="756"/>
                  </a:lnTo>
                  <a:lnTo>
                    <a:pt x="655" y="836"/>
                  </a:lnTo>
                  <a:lnTo>
                    <a:pt x="585" y="918"/>
                  </a:lnTo>
                  <a:lnTo>
                    <a:pt x="518" y="1003"/>
                  </a:lnTo>
                  <a:lnTo>
                    <a:pt x="454" y="1092"/>
                  </a:lnTo>
                  <a:lnTo>
                    <a:pt x="395" y="1183"/>
                  </a:lnTo>
                  <a:lnTo>
                    <a:pt x="339" y="1276"/>
                  </a:lnTo>
                  <a:lnTo>
                    <a:pt x="287" y="1373"/>
                  </a:lnTo>
                  <a:lnTo>
                    <a:pt x="239" y="1471"/>
                  </a:lnTo>
                  <a:lnTo>
                    <a:pt x="195" y="1571"/>
                  </a:lnTo>
                  <a:lnTo>
                    <a:pt x="155" y="1674"/>
                  </a:lnTo>
                  <a:lnTo>
                    <a:pt x="119" y="1779"/>
                  </a:lnTo>
                  <a:lnTo>
                    <a:pt x="88" y="1886"/>
                  </a:lnTo>
                  <a:lnTo>
                    <a:pt x="62" y="1995"/>
                  </a:lnTo>
                  <a:lnTo>
                    <a:pt x="40" y="2105"/>
                  </a:lnTo>
                  <a:lnTo>
                    <a:pt x="22" y="2217"/>
                  </a:lnTo>
                  <a:lnTo>
                    <a:pt x="10" y="2331"/>
                  </a:lnTo>
                  <a:lnTo>
                    <a:pt x="3" y="2445"/>
                  </a:lnTo>
                  <a:lnTo>
                    <a:pt x="0" y="2562"/>
                  </a:lnTo>
                  <a:lnTo>
                    <a:pt x="3" y="2677"/>
                  </a:lnTo>
                  <a:lnTo>
                    <a:pt x="10" y="2793"/>
                  </a:lnTo>
                  <a:lnTo>
                    <a:pt x="22" y="2906"/>
                  </a:lnTo>
                  <a:lnTo>
                    <a:pt x="40" y="3019"/>
                  </a:lnTo>
                  <a:lnTo>
                    <a:pt x="62" y="3129"/>
                  </a:lnTo>
                  <a:lnTo>
                    <a:pt x="88" y="3237"/>
                  </a:lnTo>
                  <a:lnTo>
                    <a:pt x="119" y="3344"/>
                  </a:lnTo>
                  <a:lnTo>
                    <a:pt x="155" y="3448"/>
                  </a:lnTo>
                  <a:lnTo>
                    <a:pt x="195" y="3552"/>
                  </a:lnTo>
                  <a:lnTo>
                    <a:pt x="239" y="3652"/>
                  </a:lnTo>
                  <a:lnTo>
                    <a:pt x="287" y="3751"/>
                  </a:lnTo>
                  <a:lnTo>
                    <a:pt x="339" y="3847"/>
                  </a:lnTo>
                  <a:lnTo>
                    <a:pt x="395" y="3940"/>
                  </a:lnTo>
                  <a:lnTo>
                    <a:pt x="454" y="4032"/>
                  </a:lnTo>
                  <a:lnTo>
                    <a:pt x="518" y="4119"/>
                  </a:lnTo>
                  <a:lnTo>
                    <a:pt x="585" y="4205"/>
                  </a:lnTo>
                  <a:lnTo>
                    <a:pt x="655" y="4288"/>
                  </a:lnTo>
                  <a:lnTo>
                    <a:pt x="729" y="4367"/>
                  </a:lnTo>
                  <a:lnTo>
                    <a:pt x="806" y="4443"/>
                  </a:lnTo>
                  <a:lnTo>
                    <a:pt x="886" y="4516"/>
                  </a:lnTo>
                  <a:lnTo>
                    <a:pt x="968" y="4587"/>
                  </a:lnTo>
                  <a:lnTo>
                    <a:pt x="1054" y="4653"/>
                  </a:lnTo>
                  <a:lnTo>
                    <a:pt x="1143" y="4716"/>
                  </a:lnTo>
                  <a:lnTo>
                    <a:pt x="1234" y="4775"/>
                  </a:lnTo>
                  <a:lnTo>
                    <a:pt x="1328" y="4831"/>
                  </a:lnTo>
                  <a:lnTo>
                    <a:pt x="1424" y="4883"/>
                  </a:lnTo>
                  <a:lnTo>
                    <a:pt x="1522" y="4930"/>
                  </a:lnTo>
                  <a:lnTo>
                    <a:pt x="1624" y="4973"/>
                  </a:lnTo>
                  <a:lnTo>
                    <a:pt x="1726" y="5012"/>
                  </a:lnTo>
                  <a:lnTo>
                    <a:pt x="1832" y="5048"/>
                  </a:lnTo>
                  <a:lnTo>
                    <a:pt x="1939" y="5078"/>
                  </a:lnTo>
                  <a:lnTo>
                    <a:pt x="2047" y="5105"/>
                  </a:lnTo>
                  <a:lnTo>
                    <a:pt x="2116" y="5109"/>
                  </a:lnTo>
                  <a:lnTo>
                    <a:pt x="2185" y="5113"/>
                  </a:lnTo>
                  <a:lnTo>
                    <a:pt x="2255" y="5116"/>
                  </a:lnTo>
                  <a:lnTo>
                    <a:pt x="2324" y="5118"/>
                  </a:lnTo>
                  <a:lnTo>
                    <a:pt x="2393" y="5120"/>
                  </a:lnTo>
                  <a:lnTo>
                    <a:pt x="2463" y="5121"/>
                  </a:lnTo>
                  <a:lnTo>
                    <a:pt x="2533" y="5122"/>
                  </a:lnTo>
                  <a:lnTo>
                    <a:pt x="2604" y="5123"/>
                  </a:lnTo>
                  <a:lnTo>
                    <a:pt x="2675" y="5122"/>
                  </a:lnTo>
                  <a:lnTo>
                    <a:pt x="2745" y="5121"/>
                  </a:lnTo>
                  <a:lnTo>
                    <a:pt x="2814" y="5120"/>
                  </a:lnTo>
                  <a:lnTo>
                    <a:pt x="2885" y="5118"/>
                  </a:lnTo>
                  <a:lnTo>
                    <a:pt x="2954" y="5116"/>
                  </a:lnTo>
                  <a:lnTo>
                    <a:pt x="3023" y="5113"/>
                  </a:lnTo>
                  <a:lnTo>
                    <a:pt x="3092" y="5109"/>
                  </a:lnTo>
                  <a:lnTo>
                    <a:pt x="3161" y="5105"/>
                  </a:lnTo>
                  <a:lnTo>
                    <a:pt x="3269" y="5078"/>
                  </a:lnTo>
                  <a:lnTo>
                    <a:pt x="3376" y="5048"/>
                  </a:lnTo>
                  <a:lnTo>
                    <a:pt x="3482" y="5012"/>
                  </a:lnTo>
                  <a:lnTo>
                    <a:pt x="3585" y="4973"/>
                  </a:lnTo>
                  <a:lnTo>
                    <a:pt x="3685" y="4930"/>
                  </a:lnTo>
                  <a:lnTo>
                    <a:pt x="3785" y="4883"/>
                  </a:lnTo>
                  <a:lnTo>
                    <a:pt x="3881" y="4831"/>
                  </a:lnTo>
                  <a:lnTo>
                    <a:pt x="3975" y="4775"/>
                  </a:lnTo>
                  <a:lnTo>
                    <a:pt x="4066" y="4716"/>
                  </a:lnTo>
                  <a:lnTo>
                    <a:pt x="4154" y="4653"/>
                  </a:lnTo>
                  <a:lnTo>
                    <a:pt x="4241" y="4587"/>
                  </a:lnTo>
                  <a:lnTo>
                    <a:pt x="4323" y="4516"/>
                  </a:lnTo>
                  <a:lnTo>
                    <a:pt x="4403" y="4443"/>
                  </a:lnTo>
                  <a:lnTo>
                    <a:pt x="4479" y="4367"/>
                  </a:lnTo>
                  <a:lnTo>
                    <a:pt x="4553" y="4288"/>
                  </a:lnTo>
                  <a:lnTo>
                    <a:pt x="4623" y="4205"/>
                  </a:lnTo>
                  <a:lnTo>
                    <a:pt x="4690" y="4119"/>
                  </a:lnTo>
                  <a:lnTo>
                    <a:pt x="4754" y="4032"/>
                  </a:lnTo>
                  <a:lnTo>
                    <a:pt x="4813" y="3940"/>
                  </a:lnTo>
                  <a:lnTo>
                    <a:pt x="4870" y="3847"/>
                  </a:lnTo>
                  <a:lnTo>
                    <a:pt x="4921" y="3751"/>
                  </a:lnTo>
                  <a:lnTo>
                    <a:pt x="4969" y="3652"/>
                  </a:lnTo>
                  <a:lnTo>
                    <a:pt x="5013" y="3552"/>
                  </a:lnTo>
                  <a:lnTo>
                    <a:pt x="5053" y="3448"/>
                  </a:lnTo>
                  <a:lnTo>
                    <a:pt x="5089" y="3344"/>
                  </a:lnTo>
                  <a:lnTo>
                    <a:pt x="5120" y="3237"/>
                  </a:lnTo>
                  <a:lnTo>
                    <a:pt x="5146" y="3129"/>
                  </a:lnTo>
                  <a:lnTo>
                    <a:pt x="5169" y="3019"/>
                  </a:lnTo>
                  <a:lnTo>
                    <a:pt x="5186" y="2906"/>
                  </a:lnTo>
                  <a:lnTo>
                    <a:pt x="5198" y="2793"/>
                  </a:lnTo>
                  <a:lnTo>
                    <a:pt x="5206" y="2677"/>
                  </a:lnTo>
                  <a:lnTo>
                    <a:pt x="5209" y="2562"/>
                  </a:lnTo>
                  <a:close/>
                  <a:moveTo>
                    <a:pt x="5167" y="2562"/>
                  </a:moveTo>
                  <a:lnTo>
                    <a:pt x="5163" y="2693"/>
                  </a:lnTo>
                  <a:lnTo>
                    <a:pt x="5154" y="2823"/>
                  </a:lnTo>
                  <a:lnTo>
                    <a:pt x="5138" y="2952"/>
                  </a:lnTo>
                  <a:lnTo>
                    <a:pt x="5115" y="3078"/>
                  </a:lnTo>
                  <a:lnTo>
                    <a:pt x="5086" y="3201"/>
                  </a:lnTo>
                  <a:lnTo>
                    <a:pt x="5051" y="3323"/>
                  </a:lnTo>
                  <a:lnTo>
                    <a:pt x="5011" y="3442"/>
                  </a:lnTo>
                  <a:lnTo>
                    <a:pt x="4966" y="3559"/>
                  </a:lnTo>
                  <a:lnTo>
                    <a:pt x="4914" y="3672"/>
                  </a:lnTo>
                  <a:lnTo>
                    <a:pt x="4858" y="3782"/>
                  </a:lnTo>
                  <a:lnTo>
                    <a:pt x="4796" y="3890"/>
                  </a:lnTo>
                  <a:lnTo>
                    <a:pt x="4729" y="3994"/>
                  </a:lnTo>
                  <a:lnTo>
                    <a:pt x="4658" y="4094"/>
                  </a:lnTo>
                  <a:lnTo>
                    <a:pt x="4581" y="4190"/>
                  </a:lnTo>
                  <a:lnTo>
                    <a:pt x="4501" y="4283"/>
                  </a:lnTo>
                  <a:lnTo>
                    <a:pt x="4416" y="4373"/>
                  </a:lnTo>
                  <a:lnTo>
                    <a:pt x="4327" y="4457"/>
                  </a:lnTo>
                  <a:lnTo>
                    <a:pt x="4234" y="4538"/>
                  </a:lnTo>
                  <a:lnTo>
                    <a:pt x="4137" y="4614"/>
                  </a:lnTo>
                  <a:lnTo>
                    <a:pt x="4036" y="4685"/>
                  </a:lnTo>
                  <a:lnTo>
                    <a:pt x="3933" y="4752"/>
                  </a:lnTo>
                  <a:lnTo>
                    <a:pt x="3826" y="4813"/>
                  </a:lnTo>
                  <a:lnTo>
                    <a:pt x="3716" y="4871"/>
                  </a:lnTo>
                  <a:lnTo>
                    <a:pt x="3602" y="4921"/>
                  </a:lnTo>
                  <a:lnTo>
                    <a:pt x="3485" y="4968"/>
                  </a:lnTo>
                  <a:lnTo>
                    <a:pt x="3367" y="5008"/>
                  </a:lnTo>
                  <a:lnTo>
                    <a:pt x="3244" y="5042"/>
                  </a:lnTo>
                  <a:lnTo>
                    <a:pt x="3120" y="5071"/>
                  </a:lnTo>
                  <a:lnTo>
                    <a:pt x="2995" y="5093"/>
                  </a:lnTo>
                  <a:lnTo>
                    <a:pt x="2866" y="5109"/>
                  </a:lnTo>
                  <a:lnTo>
                    <a:pt x="2737" y="5119"/>
                  </a:lnTo>
                  <a:lnTo>
                    <a:pt x="2604" y="5122"/>
                  </a:lnTo>
                  <a:lnTo>
                    <a:pt x="2472" y="5119"/>
                  </a:lnTo>
                  <a:lnTo>
                    <a:pt x="2342" y="5109"/>
                  </a:lnTo>
                  <a:lnTo>
                    <a:pt x="2214" y="5093"/>
                  </a:lnTo>
                  <a:lnTo>
                    <a:pt x="2088" y="5071"/>
                  </a:lnTo>
                  <a:lnTo>
                    <a:pt x="1964" y="5042"/>
                  </a:lnTo>
                  <a:lnTo>
                    <a:pt x="1842" y="5008"/>
                  </a:lnTo>
                  <a:lnTo>
                    <a:pt x="1723" y="4968"/>
                  </a:lnTo>
                  <a:lnTo>
                    <a:pt x="1606" y="4921"/>
                  </a:lnTo>
                  <a:lnTo>
                    <a:pt x="1493" y="4871"/>
                  </a:lnTo>
                  <a:lnTo>
                    <a:pt x="1383" y="4813"/>
                  </a:lnTo>
                  <a:lnTo>
                    <a:pt x="1276" y="4752"/>
                  </a:lnTo>
                  <a:lnTo>
                    <a:pt x="1172" y="4685"/>
                  </a:lnTo>
                  <a:lnTo>
                    <a:pt x="1071" y="4614"/>
                  </a:lnTo>
                  <a:lnTo>
                    <a:pt x="974" y="4538"/>
                  </a:lnTo>
                  <a:lnTo>
                    <a:pt x="881" y="4457"/>
                  </a:lnTo>
                  <a:lnTo>
                    <a:pt x="793" y="4373"/>
                  </a:lnTo>
                  <a:lnTo>
                    <a:pt x="707" y="4283"/>
                  </a:lnTo>
                  <a:lnTo>
                    <a:pt x="626" y="4190"/>
                  </a:lnTo>
                  <a:lnTo>
                    <a:pt x="551" y="4094"/>
                  </a:lnTo>
                  <a:lnTo>
                    <a:pt x="479" y="3994"/>
                  </a:lnTo>
                  <a:lnTo>
                    <a:pt x="412" y="3890"/>
                  </a:lnTo>
                  <a:lnTo>
                    <a:pt x="351" y="3782"/>
                  </a:lnTo>
                  <a:lnTo>
                    <a:pt x="295" y="3672"/>
                  </a:lnTo>
                  <a:lnTo>
                    <a:pt x="243" y="3559"/>
                  </a:lnTo>
                  <a:lnTo>
                    <a:pt x="197" y="3442"/>
                  </a:lnTo>
                  <a:lnTo>
                    <a:pt x="156" y="3323"/>
                  </a:lnTo>
                  <a:lnTo>
                    <a:pt x="123" y="3201"/>
                  </a:lnTo>
                  <a:lnTo>
                    <a:pt x="94" y="3078"/>
                  </a:lnTo>
                  <a:lnTo>
                    <a:pt x="71" y="2952"/>
                  </a:lnTo>
                  <a:lnTo>
                    <a:pt x="55" y="2823"/>
                  </a:lnTo>
                  <a:lnTo>
                    <a:pt x="45" y="2693"/>
                  </a:lnTo>
                  <a:lnTo>
                    <a:pt x="42" y="2562"/>
                  </a:lnTo>
                  <a:lnTo>
                    <a:pt x="45" y="2430"/>
                  </a:lnTo>
                  <a:lnTo>
                    <a:pt x="55" y="2299"/>
                  </a:lnTo>
                  <a:lnTo>
                    <a:pt x="71" y="2172"/>
                  </a:lnTo>
                  <a:lnTo>
                    <a:pt x="94" y="2045"/>
                  </a:lnTo>
                  <a:lnTo>
                    <a:pt x="123" y="1921"/>
                  </a:lnTo>
                  <a:lnTo>
                    <a:pt x="156" y="1800"/>
                  </a:lnTo>
                  <a:lnTo>
                    <a:pt x="197" y="1680"/>
                  </a:lnTo>
                  <a:lnTo>
                    <a:pt x="243" y="1565"/>
                  </a:lnTo>
                  <a:lnTo>
                    <a:pt x="295" y="1451"/>
                  </a:lnTo>
                  <a:lnTo>
                    <a:pt x="351" y="1340"/>
                  </a:lnTo>
                  <a:lnTo>
                    <a:pt x="412" y="1233"/>
                  </a:lnTo>
                  <a:lnTo>
                    <a:pt x="479" y="1130"/>
                  </a:lnTo>
                  <a:lnTo>
                    <a:pt x="551" y="1029"/>
                  </a:lnTo>
                  <a:lnTo>
                    <a:pt x="626" y="932"/>
                  </a:lnTo>
                  <a:lnTo>
                    <a:pt x="707" y="839"/>
                  </a:lnTo>
                  <a:lnTo>
                    <a:pt x="793" y="751"/>
                  </a:lnTo>
                  <a:lnTo>
                    <a:pt x="881" y="665"/>
                  </a:lnTo>
                  <a:lnTo>
                    <a:pt x="974" y="585"/>
                  </a:lnTo>
                  <a:lnTo>
                    <a:pt x="1071" y="509"/>
                  </a:lnTo>
                  <a:lnTo>
                    <a:pt x="1172" y="437"/>
                  </a:lnTo>
                  <a:lnTo>
                    <a:pt x="1276" y="370"/>
                  </a:lnTo>
                  <a:lnTo>
                    <a:pt x="1383" y="309"/>
                  </a:lnTo>
                  <a:lnTo>
                    <a:pt x="1493" y="253"/>
                  </a:lnTo>
                  <a:lnTo>
                    <a:pt x="1606" y="201"/>
                  </a:lnTo>
                  <a:lnTo>
                    <a:pt x="1723" y="155"/>
                  </a:lnTo>
                  <a:lnTo>
                    <a:pt x="1842" y="115"/>
                  </a:lnTo>
                  <a:lnTo>
                    <a:pt x="1964" y="81"/>
                  </a:lnTo>
                  <a:lnTo>
                    <a:pt x="2088" y="52"/>
                  </a:lnTo>
                  <a:lnTo>
                    <a:pt x="2214" y="29"/>
                  </a:lnTo>
                  <a:lnTo>
                    <a:pt x="2342" y="13"/>
                  </a:lnTo>
                  <a:lnTo>
                    <a:pt x="2472" y="3"/>
                  </a:lnTo>
                  <a:lnTo>
                    <a:pt x="2604" y="0"/>
                  </a:lnTo>
                  <a:lnTo>
                    <a:pt x="2737" y="3"/>
                  </a:lnTo>
                  <a:lnTo>
                    <a:pt x="2866" y="13"/>
                  </a:lnTo>
                  <a:lnTo>
                    <a:pt x="2995" y="29"/>
                  </a:lnTo>
                  <a:lnTo>
                    <a:pt x="3120" y="52"/>
                  </a:lnTo>
                  <a:lnTo>
                    <a:pt x="3244" y="81"/>
                  </a:lnTo>
                  <a:lnTo>
                    <a:pt x="3367" y="115"/>
                  </a:lnTo>
                  <a:lnTo>
                    <a:pt x="3485" y="155"/>
                  </a:lnTo>
                  <a:lnTo>
                    <a:pt x="3602" y="201"/>
                  </a:lnTo>
                  <a:lnTo>
                    <a:pt x="3716" y="253"/>
                  </a:lnTo>
                  <a:lnTo>
                    <a:pt x="3826" y="309"/>
                  </a:lnTo>
                  <a:lnTo>
                    <a:pt x="3933" y="370"/>
                  </a:lnTo>
                  <a:lnTo>
                    <a:pt x="4036" y="437"/>
                  </a:lnTo>
                  <a:lnTo>
                    <a:pt x="4137" y="509"/>
                  </a:lnTo>
                  <a:lnTo>
                    <a:pt x="4234" y="585"/>
                  </a:lnTo>
                  <a:lnTo>
                    <a:pt x="4327" y="665"/>
                  </a:lnTo>
                  <a:lnTo>
                    <a:pt x="4416" y="751"/>
                  </a:lnTo>
                  <a:lnTo>
                    <a:pt x="4501" y="839"/>
                  </a:lnTo>
                  <a:lnTo>
                    <a:pt x="4581" y="932"/>
                  </a:lnTo>
                  <a:lnTo>
                    <a:pt x="4658" y="1029"/>
                  </a:lnTo>
                  <a:lnTo>
                    <a:pt x="4729" y="1130"/>
                  </a:lnTo>
                  <a:lnTo>
                    <a:pt x="4796" y="1233"/>
                  </a:lnTo>
                  <a:lnTo>
                    <a:pt x="4858" y="1340"/>
                  </a:lnTo>
                  <a:lnTo>
                    <a:pt x="4914" y="1451"/>
                  </a:lnTo>
                  <a:lnTo>
                    <a:pt x="4966" y="1565"/>
                  </a:lnTo>
                  <a:lnTo>
                    <a:pt x="5011" y="1680"/>
                  </a:lnTo>
                  <a:lnTo>
                    <a:pt x="5051" y="1800"/>
                  </a:lnTo>
                  <a:lnTo>
                    <a:pt x="5086" y="1921"/>
                  </a:lnTo>
                  <a:lnTo>
                    <a:pt x="5115" y="2045"/>
                  </a:lnTo>
                  <a:lnTo>
                    <a:pt x="5138" y="2172"/>
                  </a:lnTo>
                  <a:lnTo>
                    <a:pt x="5154" y="2299"/>
                  </a:lnTo>
                  <a:lnTo>
                    <a:pt x="5163" y="2430"/>
                  </a:lnTo>
                  <a:lnTo>
                    <a:pt x="5167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49600" y="1981080"/>
              <a:ext cx="2049480" cy="2033640"/>
            </a:xfrm>
            <a:custGeom>
              <a:avLst/>
              <a:gdLst/>
              <a:ahLst/>
              <a:rect l="l" t="t" r="r" b="b"/>
              <a:pathLst>
                <a:path w="5166" h="5123">
                  <a:moveTo>
                    <a:pt x="5166" y="2562"/>
                  </a:moveTo>
                  <a:lnTo>
                    <a:pt x="5164" y="2441"/>
                  </a:lnTo>
                  <a:lnTo>
                    <a:pt x="5155" y="2322"/>
                  </a:lnTo>
                  <a:lnTo>
                    <a:pt x="5142" y="2204"/>
                  </a:lnTo>
                  <a:lnTo>
                    <a:pt x="5123" y="2089"/>
                  </a:lnTo>
                  <a:lnTo>
                    <a:pt x="5099" y="1974"/>
                  </a:lnTo>
                  <a:lnTo>
                    <a:pt x="5071" y="1863"/>
                  </a:lnTo>
                  <a:lnTo>
                    <a:pt x="5038" y="1753"/>
                  </a:lnTo>
                  <a:lnTo>
                    <a:pt x="4999" y="1645"/>
                  </a:lnTo>
                  <a:lnTo>
                    <a:pt x="4956" y="1539"/>
                  </a:lnTo>
                  <a:lnTo>
                    <a:pt x="4909" y="1435"/>
                  </a:lnTo>
                  <a:lnTo>
                    <a:pt x="4857" y="1335"/>
                  </a:lnTo>
                  <a:lnTo>
                    <a:pt x="4801" y="1237"/>
                  </a:lnTo>
                  <a:lnTo>
                    <a:pt x="4740" y="1140"/>
                  </a:lnTo>
                  <a:lnTo>
                    <a:pt x="4677" y="1049"/>
                  </a:lnTo>
                  <a:lnTo>
                    <a:pt x="4609" y="959"/>
                  </a:lnTo>
                  <a:lnTo>
                    <a:pt x="4537" y="871"/>
                  </a:lnTo>
                  <a:lnTo>
                    <a:pt x="4462" y="788"/>
                  </a:lnTo>
                  <a:lnTo>
                    <a:pt x="4383" y="708"/>
                  </a:lnTo>
                  <a:lnTo>
                    <a:pt x="4301" y="633"/>
                  </a:lnTo>
                  <a:lnTo>
                    <a:pt x="4215" y="559"/>
                  </a:lnTo>
                  <a:lnTo>
                    <a:pt x="4127" y="490"/>
                  </a:lnTo>
                  <a:lnTo>
                    <a:pt x="4035" y="425"/>
                  </a:lnTo>
                  <a:lnTo>
                    <a:pt x="3940" y="364"/>
                  </a:lnTo>
                  <a:lnTo>
                    <a:pt x="3843" y="307"/>
                  </a:lnTo>
                  <a:lnTo>
                    <a:pt x="3742" y="254"/>
                  </a:lnTo>
                  <a:lnTo>
                    <a:pt x="3639" y="204"/>
                  </a:lnTo>
                  <a:lnTo>
                    <a:pt x="3535" y="160"/>
                  </a:lnTo>
                  <a:lnTo>
                    <a:pt x="3428" y="120"/>
                  </a:lnTo>
                  <a:lnTo>
                    <a:pt x="3318" y="85"/>
                  </a:lnTo>
                  <a:lnTo>
                    <a:pt x="3206" y="55"/>
                  </a:lnTo>
                  <a:lnTo>
                    <a:pt x="3093" y="29"/>
                  </a:lnTo>
                  <a:lnTo>
                    <a:pt x="2978" y="9"/>
                  </a:lnTo>
                  <a:lnTo>
                    <a:pt x="2928" y="7"/>
                  </a:lnTo>
                  <a:lnTo>
                    <a:pt x="2880" y="5"/>
                  </a:lnTo>
                  <a:lnTo>
                    <a:pt x="2831" y="3"/>
                  </a:lnTo>
                  <a:lnTo>
                    <a:pt x="2781" y="2"/>
                  </a:lnTo>
                  <a:lnTo>
                    <a:pt x="2732" y="1"/>
                  </a:lnTo>
                  <a:lnTo>
                    <a:pt x="2682" y="1"/>
                  </a:lnTo>
                  <a:lnTo>
                    <a:pt x="2633" y="0"/>
                  </a:lnTo>
                  <a:lnTo>
                    <a:pt x="2583" y="0"/>
                  </a:lnTo>
                  <a:lnTo>
                    <a:pt x="2533" y="0"/>
                  </a:lnTo>
                  <a:lnTo>
                    <a:pt x="2483" y="1"/>
                  </a:lnTo>
                  <a:lnTo>
                    <a:pt x="2435" y="1"/>
                  </a:lnTo>
                  <a:lnTo>
                    <a:pt x="2385" y="2"/>
                  </a:lnTo>
                  <a:lnTo>
                    <a:pt x="2335" y="3"/>
                  </a:lnTo>
                  <a:lnTo>
                    <a:pt x="2287" y="5"/>
                  </a:lnTo>
                  <a:lnTo>
                    <a:pt x="2238" y="7"/>
                  </a:lnTo>
                  <a:lnTo>
                    <a:pt x="2188" y="9"/>
                  </a:lnTo>
                  <a:lnTo>
                    <a:pt x="2074" y="29"/>
                  </a:lnTo>
                  <a:lnTo>
                    <a:pt x="1960" y="55"/>
                  </a:lnTo>
                  <a:lnTo>
                    <a:pt x="1848" y="85"/>
                  </a:lnTo>
                  <a:lnTo>
                    <a:pt x="1739" y="120"/>
                  </a:lnTo>
                  <a:lnTo>
                    <a:pt x="1632" y="160"/>
                  </a:lnTo>
                  <a:lnTo>
                    <a:pt x="1526" y="204"/>
                  </a:lnTo>
                  <a:lnTo>
                    <a:pt x="1424" y="254"/>
                  </a:lnTo>
                  <a:lnTo>
                    <a:pt x="1324" y="307"/>
                  </a:lnTo>
                  <a:lnTo>
                    <a:pt x="1227" y="364"/>
                  </a:lnTo>
                  <a:lnTo>
                    <a:pt x="1131" y="425"/>
                  </a:lnTo>
                  <a:lnTo>
                    <a:pt x="1040" y="490"/>
                  </a:lnTo>
                  <a:lnTo>
                    <a:pt x="951" y="559"/>
                  </a:lnTo>
                  <a:lnTo>
                    <a:pt x="866" y="633"/>
                  </a:lnTo>
                  <a:lnTo>
                    <a:pt x="784" y="708"/>
                  </a:lnTo>
                  <a:lnTo>
                    <a:pt x="705" y="788"/>
                  </a:lnTo>
                  <a:lnTo>
                    <a:pt x="629" y="871"/>
                  </a:lnTo>
                  <a:lnTo>
                    <a:pt x="558" y="959"/>
                  </a:lnTo>
                  <a:lnTo>
                    <a:pt x="490" y="1049"/>
                  </a:lnTo>
                  <a:lnTo>
                    <a:pt x="426" y="1140"/>
                  </a:lnTo>
                  <a:lnTo>
                    <a:pt x="365" y="1237"/>
                  </a:lnTo>
                  <a:lnTo>
                    <a:pt x="309" y="1335"/>
                  </a:lnTo>
                  <a:lnTo>
                    <a:pt x="257" y="1435"/>
                  </a:lnTo>
                  <a:lnTo>
                    <a:pt x="211" y="1539"/>
                  </a:lnTo>
                  <a:lnTo>
                    <a:pt x="168" y="1645"/>
                  </a:lnTo>
                  <a:lnTo>
                    <a:pt x="129" y="1753"/>
                  </a:lnTo>
                  <a:lnTo>
                    <a:pt x="95" y="1863"/>
                  </a:lnTo>
                  <a:lnTo>
                    <a:pt x="67" y="1974"/>
                  </a:lnTo>
                  <a:lnTo>
                    <a:pt x="43" y="2089"/>
                  </a:lnTo>
                  <a:lnTo>
                    <a:pt x="24" y="2204"/>
                  </a:lnTo>
                  <a:lnTo>
                    <a:pt x="11" y="2322"/>
                  </a:lnTo>
                  <a:lnTo>
                    <a:pt x="2" y="2441"/>
                  </a:lnTo>
                  <a:lnTo>
                    <a:pt x="0" y="2562"/>
                  </a:lnTo>
                  <a:lnTo>
                    <a:pt x="2" y="2682"/>
                  </a:lnTo>
                  <a:lnTo>
                    <a:pt x="11" y="2800"/>
                  </a:lnTo>
                  <a:lnTo>
                    <a:pt x="24" y="2918"/>
                  </a:lnTo>
                  <a:lnTo>
                    <a:pt x="43" y="3035"/>
                  </a:lnTo>
                  <a:lnTo>
                    <a:pt x="67" y="3148"/>
                  </a:lnTo>
                  <a:lnTo>
                    <a:pt x="95" y="3260"/>
                  </a:lnTo>
                  <a:lnTo>
                    <a:pt x="129" y="3371"/>
                  </a:lnTo>
                  <a:lnTo>
                    <a:pt x="168" y="3479"/>
                  </a:lnTo>
                  <a:lnTo>
                    <a:pt x="211" y="3584"/>
                  </a:lnTo>
                  <a:lnTo>
                    <a:pt x="257" y="3688"/>
                  </a:lnTo>
                  <a:lnTo>
                    <a:pt x="309" y="3789"/>
                  </a:lnTo>
                  <a:lnTo>
                    <a:pt x="365" y="3887"/>
                  </a:lnTo>
                  <a:lnTo>
                    <a:pt x="426" y="3982"/>
                  </a:lnTo>
                  <a:lnTo>
                    <a:pt x="490" y="4075"/>
                  </a:lnTo>
                  <a:lnTo>
                    <a:pt x="558" y="4164"/>
                  </a:lnTo>
                  <a:lnTo>
                    <a:pt x="629" y="4251"/>
                  </a:lnTo>
                  <a:lnTo>
                    <a:pt x="705" y="4334"/>
                  </a:lnTo>
                  <a:lnTo>
                    <a:pt x="784" y="4414"/>
                  </a:lnTo>
                  <a:lnTo>
                    <a:pt x="866" y="4491"/>
                  </a:lnTo>
                  <a:lnTo>
                    <a:pt x="951" y="4563"/>
                  </a:lnTo>
                  <a:lnTo>
                    <a:pt x="1040" y="4632"/>
                  </a:lnTo>
                  <a:lnTo>
                    <a:pt x="1131" y="4698"/>
                  </a:lnTo>
                  <a:lnTo>
                    <a:pt x="1227" y="4759"/>
                  </a:lnTo>
                  <a:lnTo>
                    <a:pt x="1324" y="4817"/>
                  </a:lnTo>
                  <a:lnTo>
                    <a:pt x="1423" y="4870"/>
                  </a:lnTo>
                  <a:lnTo>
                    <a:pt x="1526" y="4918"/>
                  </a:lnTo>
                  <a:lnTo>
                    <a:pt x="1632" y="4963"/>
                  </a:lnTo>
                  <a:lnTo>
                    <a:pt x="1739" y="5002"/>
                  </a:lnTo>
                  <a:lnTo>
                    <a:pt x="1848" y="5038"/>
                  </a:lnTo>
                  <a:lnTo>
                    <a:pt x="1960" y="5068"/>
                  </a:lnTo>
                  <a:lnTo>
                    <a:pt x="2074" y="5093"/>
                  </a:lnTo>
                  <a:lnTo>
                    <a:pt x="2188" y="5114"/>
                  </a:lnTo>
                  <a:lnTo>
                    <a:pt x="2238" y="5116"/>
                  </a:lnTo>
                  <a:lnTo>
                    <a:pt x="2287" y="5118"/>
                  </a:lnTo>
                  <a:lnTo>
                    <a:pt x="2335" y="5119"/>
                  </a:lnTo>
                  <a:lnTo>
                    <a:pt x="2385" y="5120"/>
                  </a:lnTo>
                  <a:lnTo>
                    <a:pt x="2435" y="5121"/>
                  </a:lnTo>
                  <a:lnTo>
                    <a:pt x="2483" y="5122"/>
                  </a:lnTo>
                  <a:lnTo>
                    <a:pt x="2533" y="5122"/>
                  </a:lnTo>
                  <a:lnTo>
                    <a:pt x="2583" y="5123"/>
                  </a:lnTo>
                  <a:lnTo>
                    <a:pt x="2633" y="5122"/>
                  </a:lnTo>
                  <a:lnTo>
                    <a:pt x="2682" y="5122"/>
                  </a:lnTo>
                  <a:lnTo>
                    <a:pt x="2732" y="5121"/>
                  </a:lnTo>
                  <a:lnTo>
                    <a:pt x="2781" y="5120"/>
                  </a:lnTo>
                  <a:lnTo>
                    <a:pt x="2831" y="5119"/>
                  </a:lnTo>
                  <a:lnTo>
                    <a:pt x="2880" y="5118"/>
                  </a:lnTo>
                  <a:lnTo>
                    <a:pt x="2928" y="5116"/>
                  </a:lnTo>
                  <a:lnTo>
                    <a:pt x="2978" y="5114"/>
                  </a:lnTo>
                  <a:lnTo>
                    <a:pt x="3093" y="5093"/>
                  </a:lnTo>
                  <a:lnTo>
                    <a:pt x="3206" y="5068"/>
                  </a:lnTo>
                  <a:lnTo>
                    <a:pt x="3318" y="5038"/>
                  </a:lnTo>
                  <a:lnTo>
                    <a:pt x="3428" y="5002"/>
                  </a:lnTo>
                  <a:lnTo>
                    <a:pt x="3535" y="4963"/>
                  </a:lnTo>
                  <a:lnTo>
                    <a:pt x="3640" y="4918"/>
                  </a:lnTo>
                  <a:lnTo>
                    <a:pt x="3742" y="4870"/>
                  </a:lnTo>
                  <a:lnTo>
                    <a:pt x="3843" y="4817"/>
                  </a:lnTo>
                  <a:lnTo>
                    <a:pt x="3940" y="4759"/>
                  </a:lnTo>
                  <a:lnTo>
                    <a:pt x="4035" y="4698"/>
                  </a:lnTo>
                  <a:lnTo>
                    <a:pt x="4127" y="4632"/>
                  </a:lnTo>
                  <a:lnTo>
                    <a:pt x="4215" y="4563"/>
                  </a:lnTo>
                  <a:lnTo>
                    <a:pt x="4301" y="4491"/>
                  </a:lnTo>
                  <a:lnTo>
                    <a:pt x="4383" y="4414"/>
                  </a:lnTo>
                  <a:lnTo>
                    <a:pt x="4462" y="4334"/>
                  </a:lnTo>
                  <a:lnTo>
                    <a:pt x="4537" y="4251"/>
                  </a:lnTo>
                  <a:lnTo>
                    <a:pt x="4609" y="4164"/>
                  </a:lnTo>
                  <a:lnTo>
                    <a:pt x="4677" y="4075"/>
                  </a:lnTo>
                  <a:lnTo>
                    <a:pt x="4740" y="3982"/>
                  </a:lnTo>
                  <a:lnTo>
                    <a:pt x="4801" y="3887"/>
                  </a:lnTo>
                  <a:lnTo>
                    <a:pt x="4857" y="3789"/>
                  </a:lnTo>
                  <a:lnTo>
                    <a:pt x="4909" y="3688"/>
                  </a:lnTo>
                  <a:lnTo>
                    <a:pt x="4956" y="3584"/>
                  </a:lnTo>
                  <a:lnTo>
                    <a:pt x="4999" y="3479"/>
                  </a:lnTo>
                  <a:lnTo>
                    <a:pt x="5038" y="3371"/>
                  </a:lnTo>
                  <a:lnTo>
                    <a:pt x="5071" y="3260"/>
                  </a:lnTo>
                  <a:lnTo>
                    <a:pt x="5099" y="3148"/>
                  </a:lnTo>
                  <a:lnTo>
                    <a:pt x="5123" y="3035"/>
                  </a:lnTo>
                  <a:lnTo>
                    <a:pt x="5142" y="2918"/>
                  </a:lnTo>
                  <a:lnTo>
                    <a:pt x="5155" y="2800"/>
                  </a:lnTo>
                  <a:lnTo>
                    <a:pt x="5164" y="2682"/>
                  </a:lnTo>
                  <a:lnTo>
                    <a:pt x="5166" y="2562"/>
                  </a:lnTo>
                  <a:close/>
                  <a:moveTo>
                    <a:pt x="5125" y="2562"/>
                  </a:moveTo>
                  <a:lnTo>
                    <a:pt x="5122" y="2692"/>
                  </a:lnTo>
                  <a:lnTo>
                    <a:pt x="5112" y="2821"/>
                  </a:lnTo>
                  <a:lnTo>
                    <a:pt x="5096" y="2948"/>
                  </a:lnTo>
                  <a:lnTo>
                    <a:pt x="5073" y="3074"/>
                  </a:lnTo>
                  <a:lnTo>
                    <a:pt x="5045" y="3197"/>
                  </a:lnTo>
                  <a:lnTo>
                    <a:pt x="5011" y="3317"/>
                  </a:lnTo>
                  <a:lnTo>
                    <a:pt x="4971" y="3435"/>
                  </a:lnTo>
                  <a:lnTo>
                    <a:pt x="4925" y="3550"/>
                  </a:lnTo>
                  <a:lnTo>
                    <a:pt x="4874" y="3663"/>
                  </a:lnTo>
                  <a:lnTo>
                    <a:pt x="4818" y="3772"/>
                  </a:lnTo>
                  <a:lnTo>
                    <a:pt x="4757" y="3879"/>
                  </a:lnTo>
                  <a:lnTo>
                    <a:pt x="4691" y="3982"/>
                  </a:lnTo>
                  <a:lnTo>
                    <a:pt x="4619" y="4081"/>
                  </a:lnTo>
                  <a:lnTo>
                    <a:pt x="4545" y="4177"/>
                  </a:lnTo>
                  <a:lnTo>
                    <a:pt x="4465" y="4269"/>
                  </a:lnTo>
                  <a:lnTo>
                    <a:pt x="4381" y="4358"/>
                  </a:lnTo>
                  <a:lnTo>
                    <a:pt x="4292" y="4442"/>
                  </a:lnTo>
                  <a:lnTo>
                    <a:pt x="4200" y="4522"/>
                  </a:lnTo>
                  <a:lnTo>
                    <a:pt x="4104" y="4597"/>
                  </a:lnTo>
                  <a:lnTo>
                    <a:pt x="4005" y="4668"/>
                  </a:lnTo>
                  <a:lnTo>
                    <a:pt x="3901" y="4735"/>
                  </a:lnTo>
                  <a:lnTo>
                    <a:pt x="3795" y="4795"/>
                  </a:lnTo>
                  <a:lnTo>
                    <a:pt x="3685" y="4851"/>
                  </a:lnTo>
                  <a:lnTo>
                    <a:pt x="3572" y="4902"/>
                  </a:lnTo>
                  <a:lnTo>
                    <a:pt x="3457" y="4947"/>
                  </a:lnTo>
                  <a:lnTo>
                    <a:pt x="3339" y="4987"/>
                  </a:lnTo>
                  <a:lnTo>
                    <a:pt x="3218" y="5022"/>
                  </a:lnTo>
                  <a:lnTo>
                    <a:pt x="3096" y="5050"/>
                  </a:lnTo>
                  <a:lnTo>
                    <a:pt x="2971" y="5073"/>
                  </a:lnTo>
                  <a:lnTo>
                    <a:pt x="2843" y="5089"/>
                  </a:lnTo>
                  <a:lnTo>
                    <a:pt x="2714" y="5099"/>
                  </a:lnTo>
                  <a:lnTo>
                    <a:pt x="2583" y="5102"/>
                  </a:lnTo>
                  <a:lnTo>
                    <a:pt x="2452" y="5099"/>
                  </a:lnTo>
                  <a:lnTo>
                    <a:pt x="2323" y="5089"/>
                  </a:lnTo>
                  <a:lnTo>
                    <a:pt x="2196" y="5073"/>
                  </a:lnTo>
                  <a:lnTo>
                    <a:pt x="2070" y="5050"/>
                  </a:lnTo>
                  <a:lnTo>
                    <a:pt x="1948" y="5022"/>
                  </a:lnTo>
                  <a:lnTo>
                    <a:pt x="1827" y="4987"/>
                  </a:lnTo>
                  <a:lnTo>
                    <a:pt x="1710" y="4947"/>
                  </a:lnTo>
                  <a:lnTo>
                    <a:pt x="1594" y="4902"/>
                  </a:lnTo>
                  <a:lnTo>
                    <a:pt x="1482" y="4851"/>
                  </a:lnTo>
                  <a:lnTo>
                    <a:pt x="1371" y="4795"/>
                  </a:lnTo>
                  <a:lnTo>
                    <a:pt x="1265" y="4735"/>
                  </a:lnTo>
                  <a:lnTo>
                    <a:pt x="1162" y="4668"/>
                  </a:lnTo>
                  <a:lnTo>
                    <a:pt x="1062" y="4597"/>
                  </a:lnTo>
                  <a:lnTo>
                    <a:pt x="966" y="4522"/>
                  </a:lnTo>
                  <a:lnTo>
                    <a:pt x="874" y="4442"/>
                  </a:lnTo>
                  <a:lnTo>
                    <a:pt x="786" y="4358"/>
                  </a:lnTo>
                  <a:lnTo>
                    <a:pt x="701" y="4269"/>
                  </a:lnTo>
                  <a:lnTo>
                    <a:pt x="621" y="4177"/>
                  </a:lnTo>
                  <a:lnTo>
                    <a:pt x="547" y="4081"/>
                  </a:lnTo>
                  <a:lnTo>
                    <a:pt x="476" y="3982"/>
                  </a:lnTo>
                  <a:lnTo>
                    <a:pt x="410" y="3879"/>
                  </a:lnTo>
                  <a:lnTo>
                    <a:pt x="348" y="3772"/>
                  </a:lnTo>
                  <a:lnTo>
                    <a:pt x="292" y="3663"/>
                  </a:lnTo>
                  <a:lnTo>
                    <a:pt x="241" y="3550"/>
                  </a:lnTo>
                  <a:lnTo>
                    <a:pt x="196" y="3435"/>
                  </a:lnTo>
                  <a:lnTo>
                    <a:pt x="156" y="3317"/>
                  </a:lnTo>
                  <a:lnTo>
                    <a:pt x="121" y="3197"/>
                  </a:lnTo>
                  <a:lnTo>
                    <a:pt x="93" y="3074"/>
                  </a:lnTo>
                  <a:lnTo>
                    <a:pt x="70" y="2948"/>
                  </a:lnTo>
                  <a:lnTo>
                    <a:pt x="54" y="2821"/>
                  </a:lnTo>
                  <a:lnTo>
                    <a:pt x="44" y="2692"/>
                  </a:lnTo>
                  <a:lnTo>
                    <a:pt x="41" y="2562"/>
                  </a:lnTo>
                  <a:lnTo>
                    <a:pt x="44" y="2431"/>
                  </a:lnTo>
                  <a:lnTo>
                    <a:pt x="54" y="2301"/>
                  </a:lnTo>
                  <a:lnTo>
                    <a:pt x="70" y="2175"/>
                  </a:lnTo>
                  <a:lnTo>
                    <a:pt x="93" y="2050"/>
                  </a:lnTo>
                  <a:lnTo>
                    <a:pt x="121" y="1927"/>
                  </a:lnTo>
                  <a:lnTo>
                    <a:pt x="156" y="1806"/>
                  </a:lnTo>
                  <a:lnTo>
                    <a:pt x="196" y="1688"/>
                  </a:lnTo>
                  <a:lnTo>
                    <a:pt x="241" y="1572"/>
                  </a:lnTo>
                  <a:lnTo>
                    <a:pt x="292" y="1460"/>
                  </a:lnTo>
                  <a:lnTo>
                    <a:pt x="348" y="1351"/>
                  </a:lnTo>
                  <a:lnTo>
                    <a:pt x="410" y="1244"/>
                  </a:lnTo>
                  <a:lnTo>
                    <a:pt x="476" y="1141"/>
                  </a:lnTo>
                  <a:lnTo>
                    <a:pt x="547" y="1041"/>
                  </a:lnTo>
                  <a:lnTo>
                    <a:pt x="621" y="945"/>
                  </a:lnTo>
                  <a:lnTo>
                    <a:pt x="701" y="853"/>
                  </a:lnTo>
                  <a:lnTo>
                    <a:pt x="786" y="765"/>
                  </a:lnTo>
                  <a:lnTo>
                    <a:pt x="874" y="681"/>
                  </a:lnTo>
                  <a:lnTo>
                    <a:pt x="966" y="601"/>
                  </a:lnTo>
                  <a:lnTo>
                    <a:pt x="1062" y="526"/>
                  </a:lnTo>
                  <a:lnTo>
                    <a:pt x="1162" y="455"/>
                  </a:lnTo>
                  <a:lnTo>
                    <a:pt x="1265" y="389"/>
                  </a:lnTo>
                  <a:lnTo>
                    <a:pt x="1371" y="327"/>
                  </a:lnTo>
                  <a:lnTo>
                    <a:pt x="1482" y="271"/>
                  </a:lnTo>
                  <a:lnTo>
                    <a:pt x="1594" y="220"/>
                  </a:lnTo>
                  <a:lnTo>
                    <a:pt x="1710" y="175"/>
                  </a:lnTo>
                  <a:lnTo>
                    <a:pt x="1827" y="135"/>
                  </a:lnTo>
                  <a:lnTo>
                    <a:pt x="1948" y="100"/>
                  </a:lnTo>
                  <a:lnTo>
                    <a:pt x="2070" y="72"/>
                  </a:lnTo>
                  <a:lnTo>
                    <a:pt x="2196" y="50"/>
                  </a:lnTo>
                  <a:lnTo>
                    <a:pt x="2323" y="33"/>
                  </a:lnTo>
                  <a:lnTo>
                    <a:pt x="2452" y="24"/>
                  </a:lnTo>
                  <a:lnTo>
                    <a:pt x="2583" y="20"/>
                  </a:lnTo>
                  <a:lnTo>
                    <a:pt x="2714" y="24"/>
                  </a:lnTo>
                  <a:lnTo>
                    <a:pt x="2843" y="33"/>
                  </a:lnTo>
                  <a:lnTo>
                    <a:pt x="2971" y="50"/>
                  </a:lnTo>
                  <a:lnTo>
                    <a:pt x="3096" y="72"/>
                  </a:lnTo>
                  <a:lnTo>
                    <a:pt x="3218" y="100"/>
                  </a:lnTo>
                  <a:lnTo>
                    <a:pt x="3339" y="135"/>
                  </a:lnTo>
                  <a:lnTo>
                    <a:pt x="3457" y="175"/>
                  </a:lnTo>
                  <a:lnTo>
                    <a:pt x="3572" y="220"/>
                  </a:lnTo>
                  <a:lnTo>
                    <a:pt x="3685" y="271"/>
                  </a:lnTo>
                  <a:lnTo>
                    <a:pt x="3795" y="327"/>
                  </a:lnTo>
                  <a:lnTo>
                    <a:pt x="3901" y="389"/>
                  </a:lnTo>
                  <a:lnTo>
                    <a:pt x="4005" y="455"/>
                  </a:lnTo>
                  <a:lnTo>
                    <a:pt x="4104" y="526"/>
                  </a:lnTo>
                  <a:lnTo>
                    <a:pt x="4200" y="601"/>
                  </a:lnTo>
                  <a:lnTo>
                    <a:pt x="4292" y="681"/>
                  </a:lnTo>
                  <a:lnTo>
                    <a:pt x="4381" y="765"/>
                  </a:lnTo>
                  <a:lnTo>
                    <a:pt x="4465" y="853"/>
                  </a:lnTo>
                  <a:lnTo>
                    <a:pt x="4545" y="945"/>
                  </a:lnTo>
                  <a:lnTo>
                    <a:pt x="4619" y="1041"/>
                  </a:lnTo>
                  <a:lnTo>
                    <a:pt x="4691" y="1141"/>
                  </a:lnTo>
                  <a:lnTo>
                    <a:pt x="4757" y="1244"/>
                  </a:lnTo>
                  <a:lnTo>
                    <a:pt x="4818" y="1351"/>
                  </a:lnTo>
                  <a:lnTo>
                    <a:pt x="4874" y="1460"/>
                  </a:lnTo>
                  <a:lnTo>
                    <a:pt x="4925" y="1572"/>
                  </a:lnTo>
                  <a:lnTo>
                    <a:pt x="4971" y="1688"/>
                  </a:lnTo>
                  <a:lnTo>
                    <a:pt x="5011" y="1806"/>
                  </a:lnTo>
                  <a:lnTo>
                    <a:pt x="5045" y="1927"/>
                  </a:lnTo>
                  <a:lnTo>
                    <a:pt x="5073" y="2050"/>
                  </a:lnTo>
                  <a:lnTo>
                    <a:pt x="5096" y="2175"/>
                  </a:lnTo>
                  <a:lnTo>
                    <a:pt x="5112" y="2301"/>
                  </a:lnTo>
                  <a:lnTo>
                    <a:pt x="5122" y="2431"/>
                  </a:lnTo>
                  <a:lnTo>
                    <a:pt x="5125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57520" y="1981080"/>
              <a:ext cx="2033640" cy="2032200"/>
            </a:xfrm>
            <a:custGeom>
              <a:avLst/>
              <a:gdLst/>
              <a:ahLst/>
              <a:rect l="l" t="t" r="r" b="b"/>
              <a:pathLst>
                <a:path w="5125" h="5122">
                  <a:moveTo>
                    <a:pt x="5125" y="2562"/>
                  </a:moveTo>
                  <a:lnTo>
                    <a:pt x="5121" y="2430"/>
                  </a:lnTo>
                  <a:lnTo>
                    <a:pt x="5112" y="2299"/>
                  </a:lnTo>
                  <a:lnTo>
                    <a:pt x="5096" y="2172"/>
                  </a:lnTo>
                  <a:lnTo>
                    <a:pt x="5073" y="2045"/>
                  </a:lnTo>
                  <a:lnTo>
                    <a:pt x="5044" y="1921"/>
                  </a:lnTo>
                  <a:lnTo>
                    <a:pt x="5009" y="1800"/>
                  </a:lnTo>
                  <a:lnTo>
                    <a:pt x="4969" y="1680"/>
                  </a:lnTo>
                  <a:lnTo>
                    <a:pt x="4924" y="1565"/>
                  </a:lnTo>
                  <a:lnTo>
                    <a:pt x="4872" y="1451"/>
                  </a:lnTo>
                  <a:lnTo>
                    <a:pt x="4816" y="1340"/>
                  </a:lnTo>
                  <a:lnTo>
                    <a:pt x="4754" y="1233"/>
                  </a:lnTo>
                  <a:lnTo>
                    <a:pt x="4687" y="1130"/>
                  </a:lnTo>
                  <a:lnTo>
                    <a:pt x="4616" y="1029"/>
                  </a:lnTo>
                  <a:lnTo>
                    <a:pt x="4539" y="932"/>
                  </a:lnTo>
                  <a:lnTo>
                    <a:pt x="4459" y="839"/>
                  </a:lnTo>
                  <a:lnTo>
                    <a:pt x="4374" y="751"/>
                  </a:lnTo>
                  <a:lnTo>
                    <a:pt x="4285" y="665"/>
                  </a:lnTo>
                  <a:lnTo>
                    <a:pt x="4192" y="585"/>
                  </a:lnTo>
                  <a:lnTo>
                    <a:pt x="4095" y="509"/>
                  </a:lnTo>
                  <a:lnTo>
                    <a:pt x="3994" y="437"/>
                  </a:lnTo>
                  <a:lnTo>
                    <a:pt x="3891" y="370"/>
                  </a:lnTo>
                  <a:lnTo>
                    <a:pt x="3784" y="309"/>
                  </a:lnTo>
                  <a:lnTo>
                    <a:pt x="3674" y="253"/>
                  </a:lnTo>
                  <a:lnTo>
                    <a:pt x="3560" y="201"/>
                  </a:lnTo>
                  <a:lnTo>
                    <a:pt x="3443" y="155"/>
                  </a:lnTo>
                  <a:lnTo>
                    <a:pt x="3325" y="115"/>
                  </a:lnTo>
                  <a:lnTo>
                    <a:pt x="3202" y="81"/>
                  </a:lnTo>
                  <a:lnTo>
                    <a:pt x="3078" y="52"/>
                  </a:lnTo>
                  <a:lnTo>
                    <a:pt x="2953" y="29"/>
                  </a:lnTo>
                  <a:lnTo>
                    <a:pt x="2824" y="13"/>
                  </a:lnTo>
                  <a:lnTo>
                    <a:pt x="2695" y="3"/>
                  </a:lnTo>
                  <a:lnTo>
                    <a:pt x="2562" y="0"/>
                  </a:lnTo>
                  <a:lnTo>
                    <a:pt x="2430" y="3"/>
                  </a:lnTo>
                  <a:lnTo>
                    <a:pt x="2300" y="13"/>
                  </a:lnTo>
                  <a:lnTo>
                    <a:pt x="2172" y="29"/>
                  </a:lnTo>
                  <a:lnTo>
                    <a:pt x="2046" y="52"/>
                  </a:lnTo>
                  <a:lnTo>
                    <a:pt x="1922" y="81"/>
                  </a:lnTo>
                  <a:lnTo>
                    <a:pt x="1800" y="115"/>
                  </a:lnTo>
                  <a:lnTo>
                    <a:pt x="1681" y="155"/>
                  </a:lnTo>
                  <a:lnTo>
                    <a:pt x="1564" y="201"/>
                  </a:lnTo>
                  <a:lnTo>
                    <a:pt x="1451" y="253"/>
                  </a:lnTo>
                  <a:lnTo>
                    <a:pt x="1341" y="309"/>
                  </a:lnTo>
                  <a:lnTo>
                    <a:pt x="1234" y="370"/>
                  </a:lnTo>
                  <a:lnTo>
                    <a:pt x="1130" y="437"/>
                  </a:lnTo>
                  <a:lnTo>
                    <a:pt x="1029" y="509"/>
                  </a:lnTo>
                  <a:lnTo>
                    <a:pt x="932" y="585"/>
                  </a:lnTo>
                  <a:lnTo>
                    <a:pt x="839" y="665"/>
                  </a:lnTo>
                  <a:lnTo>
                    <a:pt x="751" y="751"/>
                  </a:lnTo>
                  <a:lnTo>
                    <a:pt x="665" y="839"/>
                  </a:lnTo>
                  <a:lnTo>
                    <a:pt x="584" y="932"/>
                  </a:lnTo>
                  <a:lnTo>
                    <a:pt x="509" y="1029"/>
                  </a:lnTo>
                  <a:lnTo>
                    <a:pt x="437" y="1130"/>
                  </a:lnTo>
                  <a:lnTo>
                    <a:pt x="370" y="1233"/>
                  </a:lnTo>
                  <a:lnTo>
                    <a:pt x="309" y="1340"/>
                  </a:lnTo>
                  <a:lnTo>
                    <a:pt x="253" y="1451"/>
                  </a:lnTo>
                  <a:lnTo>
                    <a:pt x="201" y="1565"/>
                  </a:lnTo>
                  <a:lnTo>
                    <a:pt x="155" y="1680"/>
                  </a:lnTo>
                  <a:lnTo>
                    <a:pt x="115" y="1800"/>
                  </a:lnTo>
                  <a:lnTo>
                    <a:pt x="81" y="1921"/>
                  </a:lnTo>
                  <a:lnTo>
                    <a:pt x="52" y="2045"/>
                  </a:lnTo>
                  <a:lnTo>
                    <a:pt x="29" y="2172"/>
                  </a:lnTo>
                  <a:lnTo>
                    <a:pt x="13" y="2299"/>
                  </a:lnTo>
                  <a:lnTo>
                    <a:pt x="3" y="2430"/>
                  </a:lnTo>
                  <a:lnTo>
                    <a:pt x="0" y="2562"/>
                  </a:lnTo>
                  <a:lnTo>
                    <a:pt x="3" y="2693"/>
                  </a:lnTo>
                  <a:lnTo>
                    <a:pt x="13" y="2823"/>
                  </a:lnTo>
                  <a:lnTo>
                    <a:pt x="29" y="2952"/>
                  </a:lnTo>
                  <a:lnTo>
                    <a:pt x="52" y="3078"/>
                  </a:lnTo>
                  <a:lnTo>
                    <a:pt x="81" y="3201"/>
                  </a:lnTo>
                  <a:lnTo>
                    <a:pt x="115" y="3323"/>
                  </a:lnTo>
                  <a:lnTo>
                    <a:pt x="155" y="3442"/>
                  </a:lnTo>
                  <a:lnTo>
                    <a:pt x="201" y="3559"/>
                  </a:lnTo>
                  <a:lnTo>
                    <a:pt x="253" y="3672"/>
                  </a:lnTo>
                  <a:lnTo>
                    <a:pt x="309" y="3782"/>
                  </a:lnTo>
                  <a:lnTo>
                    <a:pt x="370" y="3890"/>
                  </a:lnTo>
                  <a:lnTo>
                    <a:pt x="437" y="3994"/>
                  </a:lnTo>
                  <a:lnTo>
                    <a:pt x="509" y="4094"/>
                  </a:lnTo>
                  <a:lnTo>
                    <a:pt x="584" y="4190"/>
                  </a:lnTo>
                  <a:lnTo>
                    <a:pt x="665" y="4283"/>
                  </a:lnTo>
                  <a:lnTo>
                    <a:pt x="751" y="4373"/>
                  </a:lnTo>
                  <a:lnTo>
                    <a:pt x="839" y="4457"/>
                  </a:lnTo>
                  <a:lnTo>
                    <a:pt x="932" y="4538"/>
                  </a:lnTo>
                  <a:lnTo>
                    <a:pt x="1029" y="4614"/>
                  </a:lnTo>
                  <a:lnTo>
                    <a:pt x="1130" y="4685"/>
                  </a:lnTo>
                  <a:lnTo>
                    <a:pt x="1234" y="4752"/>
                  </a:lnTo>
                  <a:lnTo>
                    <a:pt x="1341" y="4813"/>
                  </a:lnTo>
                  <a:lnTo>
                    <a:pt x="1451" y="4871"/>
                  </a:lnTo>
                  <a:lnTo>
                    <a:pt x="1564" y="4921"/>
                  </a:lnTo>
                  <a:lnTo>
                    <a:pt x="1681" y="4968"/>
                  </a:lnTo>
                  <a:lnTo>
                    <a:pt x="1800" y="5008"/>
                  </a:lnTo>
                  <a:lnTo>
                    <a:pt x="1922" y="5042"/>
                  </a:lnTo>
                  <a:lnTo>
                    <a:pt x="2046" y="5071"/>
                  </a:lnTo>
                  <a:lnTo>
                    <a:pt x="2172" y="5093"/>
                  </a:lnTo>
                  <a:lnTo>
                    <a:pt x="2300" y="5109"/>
                  </a:lnTo>
                  <a:lnTo>
                    <a:pt x="2430" y="5119"/>
                  </a:lnTo>
                  <a:lnTo>
                    <a:pt x="2562" y="5122"/>
                  </a:lnTo>
                  <a:lnTo>
                    <a:pt x="2695" y="5119"/>
                  </a:lnTo>
                  <a:lnTo>
                    <a:pt x="2824" y="5109"/>
                  </a:lnTo>
                  <a:lnTo>
                    <a:pt x="2953" y="5093"/>
                  </a:lnTo>
                  <a:lnTo>
                    <a:pt x="3078" y="5071"/>
                  </a:lnTo>
                  <a:lnTo>
                    <a:pt x="3202" y="5042"/>
                  </a:lnTo>
                  <a:lnTo>
                    <a:pt x="3325" y="5008"/>
                  </a:lnTo>
                  <a:lnTo>
                    <a:pt x="3443" y="4968"/>
                  </a:lnTo>
                  <a:lnTo>
                    <a:pt x="3560" y="4921"/>
                  </a:lnTo>
                  <a:lnTo>
                    <a:pt x="3674" y="4871"/>
                  </a:lnTo>
                  <a:lnTo>
                    <a:pt x="3784" y="4813"/>
                  </a:lnTo>
                  <a:lnTo>
                    <a:pt x="3891" y="4752"/>
                  </a:lnTo>
                  <a:lnTo>
                    <a:pt x="3994" y="4685"/>
                  </a:lnTo>
                  <a:lnTo>
                    <a:pt x="4095" y="4614"/>
                  </a:lnTo>
                  <a:lnTo>
                    <a:pt x="4192" y="4538"/>
                  </a:lnTo>
                  <a:lnTo>
                    <a:pt x="4285" y="4457"/>
                  </a:lnTo>
                  <a:lnTo>
                    <a:pt x="4374" y="4373"/>
                  </a:lnTo>
                  <a:lnTo>
                    <a:pt x="4459" y="4283"/>
                  </a:lnTo>
                  <a:lnTo>
                    <a:pt x="4539" y="4190"/>
                  </a:lnTo>
                  <a:lnTo>
                    <a:pt x="4616" y="4094"/>
                  </a:lnTo>
                  <a:lnTo>
                    <a:pt x="4687" y="3994"/>
                  </a:lnTo>
                  <a:lnTo>
                    <a:pt x="4754" y="3890"/>
                  </a:lnTo>
                  <a:lnTo>
                    <a:pt x="4816" y="3782"/>
                  </a:lnTo>
                  <a:lnTo>
                    <a:pt x="4872" y="3672"/>
                  </a:lnTo>
                  <a:lnTo>
                    <a:pt x="4924" y="3559"/>
                  </a:lnTo>
                  <a:lnTo>
                    <a:pt x="4969" y="3442"/>
                  </a:lnTo>
                  <a:lnTo>
                    <a:pt x="5009" y="3323"/>
                  </a:lnTo>
                  <a:lnTo>
                    <a:pt x="5044" y="3201"/>
                  </a:lnTo>
                  <a:lnTo>
                    <a:pt x="5073" y="3078"/>
                  </a:lnTo>
                  <a:lnTo>
                    <a:pt x="5096" y="2952"/>
                  </a:lnTo>
                  <a:lnTo>
                    <a:pt x="5112" y="2823"/>
                  </a:lnTo>
                  <a:lnTo>
                    <a:pt x="5121" y="2693"/>
                  </a:lnTo>
                  <a:lnTo>
                    <a:pt x="5125" y="2562"/>
                  </a:lnTo>
                  <a:close/>
                  <a:moveTo>
                    <a:pt x="5084" y="2562"/>
                  </a:moveTo>
                  <a:lnTo>
                    <a:pt x="5079" y="2691"/>
                  </a:lnTo>
                  <a:lnTo>
                    <a:pt x="5070" y="2819"/>
                  </a:lnTo>
                  <a:lnTo>
                    <a:pt x="5054" y="2945"/>
                  </a:lnTo>
                  <a:lnTo>
                    <a:pt x="5032" y="3069"/>
                  </a:lnTo>
                  <a:lnTo>
                    <a:pt x="5004" y="3191"/>
                  </a:lnTo>
                  <a:lnTo>
                    <a:pt x="4970" y="3311"/>
                  </a:lnTo>
                  <a:lnTo>
                    <a:pt x="4930" y="3428"/>
                  </a:lnTo>
                  <a:lnTo>
                    <a:pt x="4885" y="3542"/>
                  </a:lnTo>
                  <a:lnTo>
                    <a:pt x="4834" y="3654"/>
                  </a:lnTo>
                  <a:lnTo>
                    <a:pt x="4779" y="3763"/>
                  </a:lnTo>
                  <a:lnTo>
                    <a:pt x="4718" y="3868"/>
                  </a:lnTo>
                  <a:lnTo>
                    <a:pt x="4652" y="3970"/>
                  </a:lnTo>
                  <a:lnTo>
                    <a:pt x="4582" y="4069"/>
                  </a:lnTo>
                  <a:lnTo>
                    <a:pt x="4508" y="4164"/>
                  </a:lnTo>
                  <a:lnTo>
                    <a:pt x="4428" y="4255"/>
                  </a:lnTo>
                  <a:lnTo>
                    <a:pt x="4345" y="4343"/>
                  </a:lnTo>
                  <a:lnTo>
                    <a:pt x="4257" y="4427"/>
                  </a:lnTo>
                  <a:lnTo>
                    <a:pt x="4165" y="4506"/>
                  </a:lnTo>
                  <a:lnTo>
                    <a:pt x="4070" y="4580"/>
                  </a:lnTo>
                  <a:lnTo>
                    <a:pt x="3972" y="4650"/>
                  </a:lnTo>
                  <a:lnTo>
                    <a:pt x="3869" y="4716"/>
                  </a:lnTo>
                  <a:lnTo>
                    <a:pt x="3763" y="4777"/>
                  </a:lnTo>
                  <a:lnTo>
                    <a:pt x="3655" y="4833"/>
                  </a:lnTo>
                  <a:lnTo>
                    <a:pt x="3544" y="4884"/>
                  </a:lnTo>
                  <a:lnTo>
                    <a:pt x="3429" y="4928"/>
                  </a:lnTo>
                  <a:lnTo>
                    <a:pt x="3312" y="4968"/>
                  </a:lnTo>
                  <a:lnTo>
                    <a:pt x="3192" y="5001"/>
                  </a:lnTo>
                  <a:lnTo>
                    <a:pt x="3071" y="5029"/>
                  </a:lnTo>
                  <a:lnTo>
                    <a:pt x="2946" y="5052"/>
                  </a:lnTo>
                  <a:lnTo>
                    <a:pt x="2820" y="5068"/>
                  </a:lnTo>
                  <a:lnTo>
                    <a:pt x="2692" y="5078"/>
                  </a:lnTo>
                  <a:lnTo>
                    <a:pt x="2562" y="5081"/>
                  </a:lnTo>
                  <a:lnTo>
                    <a:pt x="2432" y="5078"/>
                  </a:lnTo>
                  <a:lnTo>
                    <a:pt x="2304" y="5068"/>
                  </a:lnTo>
                  <a:lnTo>
                    <a:pt x="2178" y="5052"/>
                  </a:lnTo>
                  <a:lnTo>
                    <a:pt x="2054" y="5029"/>
                  </a:lnTo>
                  <a:lnTo>
                    <a:pt x="1932" y="5001"/>
                  </a:lnTo>
                  <a:lnTo>
                    <a:pt x="1813" y="4968"/>
                  </a:lnTo>
                  <a:lnTo>
                    <a:pt x="1695" y="4928"/>
                  </a:lnTo>
                  <a:lnTo>
                    <a:pt x="1581" y="4884"/>
                  </a:lnTo>
                  <a:lnTo>
                    <a:pt x="1469" y="4833"/>
                  </a:lnTo>
                  <a:lnTo>
                    <a:pt x="1360" y="4777"/>
                  </a:lnTo>
                  <a:lnTo>
                    <a:pt x="1255" y="4716"/>
                  </a:lnTo>
                  <a:lnTo>
                    <a:pt x="1153" y="4650"/>
                  </a:lnTo>
                  <a:lnTo>
                    <a:pt x="1054" y="4580"/>
                  </a:lnTo>
                  <a:lnTo>
                    <a:pt x="958" y="4506"/>
                  </a:lnTo>
                  <a:lnTo>
                    <a:pt x="867" y="4427"/>
                  </a:lnTo>
                  <a:lnTo>
                    <a:pt x="780" y="4343"/>
                  </a:lnTo>
                  <a:lnTo>
                    <a:pt x="697" y="4255"/>
                  </a:lnTo>
                  <a:lnTo>
                    <a:pt x="617" y="4164"/>
                  </a:lnTo>
                  <a:lnTo>
                    <a:pt x="542" y="4069"/>
                  </a:lnTo>
                  <a:lnTo>
                    <a:pt x="472" y="3970"/>
                  </a:lnTo>
                  <a:lnTo>
                    <a:pt x="406" y="3868"/>
                  </a:lnTo>
                  <a:lnTo>
                    <a:pt x="345" y="3763"/>
                  </a:lnTo>
                  <a:lnTo>
                    <a:pt x="290" y="3654"/>
                  </a:lnTo>
                  <a:lnTo>
                    <a:pt x="240" y="3542"/>
                  </a:lnTo>
                  <a:lnTo>
                    <a:pt x="194" y="3428"/>
                  </a:lnTo>
                  <a:lnTo>
                    <a:pt x="154" y="3311"/>
                  </a:lnTo>
                  <a:lnTo>
                    <a:pt x="121" y="3191"/>
                  </a:lnTo>
                  <a:lnTo>
                    <a:pt x="93" y="3069"/>
                  </a:lnTo>
                  <a:lnTo>
                    <a:pt x="70" y="2945"/>
                  </a:lnTo>
                  <a:lnTo>
                    <a:pt x="54" y="2819"/>
                  </a:lnTo>
                  <a:lnTo>
                    <a:pt x="44" y="2691"/>
                  </a:lnTo>
                  <a:lnTo>
                    <a:pt x="41" y="2562"/>
                  </a:lnTo>
                  <a:lnTo>
                    <a:pt x="44" y="2432"/>
                  </a:lnTo>
                  <a:lnTo>
                    <a:pt x="54" y="2304"/>
                  </a:lnTo>
                  <a:lnTo>
                    <a:pt x="70" y="2177"/>
                  </a:lnTo>
                  <a:lnTo>
                    <a:pt x="93" y="2054"/>
                  </a:lnTo>
                  <a:lnTo>
                    <a:pt x="121" y="1932"/>
                  </a:lnTo>
                  <a:lnTo>
                    <a:pt x="154" y="1812"/>
                  </a:lnTo>
                  <a:lnTo>
                    <a:pt x="194" y="1696"/>
                  </a:lnTo>
                  <a:lnTo>
                    <a:pt x="240" y="1581"/>
                  </a:lnTo>
                  <a:lnTo>
                    <a:pt x="290" y="1469"/>
                  </a:lnTo>
                  <a:lnTo>
                    <a:pt x="345" y="1361"/>
                  </a:lnTo>
                  <a:lnTo>
                    <a:pt x="406" y="1255"/>
                  </a:lnTo>
                  <a:lnTo>
                    <a:pt x="472" y="1152"/>
                  </a:lnTo>
                  <a:lnTo>
                    <a:pt x="542" y="1054"/>
                  </a:lnTo>
                  <a:lnTo>
                    <a:pt x="617" y="959"/>
                  </a:lnTo>
                  <a:lnTo>
                    <a:pt x="697" y="867"/>
                  </a:lnTo>
                  <a:lnTo>
                    <a:pt x="780" y="780"/>
                  </a:lnTo>
                  <a:lnTo>
                    <a:pt x="867" y="697"/>
                  </a:lnTo>
                  <a:lnTo>
                    <a:pt x="958" y="617"/>
                  </a:lnTo>
                  <a:lnTo>
                    <a:pt x="1054" y="542"/>
                  </a:lnTo>
                  <a:lnTo>
                    <a:pt x="1153" y="472"/>
                  </a:lnTo>
                  <a:lnTo>
                    <a:pt x="1255" y="406"/>
                  </a:lnTo>
                  <a:lnTo>
                    <a:pt x="1360" y="346"/>
                  </a:lnTo>
                  <a:lnTo>
                    <a:pt x="1469" y="290"/>
                  </a:lnTo>
                  <a:lnTo>
                    <a:pt x="1581" y="240"/>
                  </a:lnTo>
                  <a:lnTo>
                    <a:pt x="1695" y="194"/>
                  </a:lnTo>
                  <a:lnTo>
                    <a:pt x="1813" y="155"/>
                  </a:lnTo>
                  <a:lnTo>
                    <a:pt x="1932" y="121"/>
                  </a:lnTo>
                  <a:lnTo>
                    <a:pt x="2054" y="93"/>
                  </a:lnTo>
                  <a:lnTo>
                    <a:pt x="2178" y="71"/>
                  </a:lnTo>
                  <a:lnTo>
                    <a:pt x="2304" y="55"/>
                  </a:lnTo>
                  <a:lnTo>
                    <a:pt x="2432" y="45"/>
                  </a:lnTo>
                  <a:lnTo>
                    <a:pt x="2562" y="42"/>
                  </a:lnTo>
                  <a:lnTo>
                    <a:pt x="2692" y="45"/>
                  </a:lnTo>
                  <a:lnTo>
                    <a:pt x="2820" y="55"/>
                  </a:lnTo>
                  <a:lnTo>
                    <a:pt x="2946" y="71"/>
                  </a:lnTo>
                  <a:lnTo>
                    <a:pt x="3071" y="93"/>
                  </a:lnTo>
                  <a:lnTo>
                    <a:pt x="3192" y="121"/>
                  </a:lnTo>
                  <a:lnTo>
                    <a:pt x="3312" y="155"/>
                  </a:lnTo>
                  <a:lnTo>
                    <a:pt x="3429" y="194"/>
                  </a:lnTo>
                  <a:lnTo>
                    <a:pt x="3544" y="240"/>
                  </a:lnTo>
                  <a:lnTo>
                    <a:pt x="3655" y="290"/>
                  </a:lnTo>
                  <a:lnTo>
                    <a:pt x="3763" y="346"/>
                  </a:lnTo>
                  <a:lnTo>
                    <a:pt x="3869" y="406"/>
                  </a:lnTo>
                  <a:lnTo>
                    <a:pt x="3972" y="472"/>
                  </a:lnTo>
                  <a:lnTo>
                    <a:pt x="4070" y="542"/>
                  </a:lnTo>
                  <a:lnTo>
                    <a:pt x="4165" y="617"/>
                  </a:lnTo>
                  <a:lnTo>
                    <a:pt x="4257" y="697"/>
                  </a:lnTo>
                  <a:lnTo>
                    <a:pt x="4345" y="780"/>
                  </a:lnTo>
                  <a:lnTo>
                    <a:pt x="4428" y="867"/>
                  </a:lnTo>
                  <a:lnTo>
                    <a:pt x="4508" y="959"/>
                  </a:lnTo>
                  <a:lnTo>
                    <a:pt x="4582" y="1054"/>
                  </a:lnTo>
                  <a:lnTo>
                    <a:pt x="4652" y="1152"/>
                  </a:lnTo>
                  <a:lnTo>
                    <a:pt x="4718" y="1255"/>
                  </a:lnTo>
                  <a:lnTo>
                    <a:pt x="4779" y="1361"/>
                  </a:lnTo>
                  <a:lnTo>
                    <a:pt x="4834" y="1469"/>
                  </a:lnTo>
                  <a:lnTo>
                    <a:pt x="4885" y="1581"/>
                  </a:lnTo>
                  <a:lnTo>
                    <a:pt x="4930" y="1696"/>
                  </a:lnTo>
                  <a:lnTo>
                    <a:pt x="4970" y="1812"/>
                  </a:lnTo>
                  <a:lnTo>
                    <a:pt x="5004" y="1932"/>
                  </a:lnTo>
                  <a:lnTo>
                    <a:pt x="5032" y="2054"/>
                  </a:lnTo>
                  <a:lnTo>
                    <a:pt x="5054" y="2177"/>
                  </a:lnTo>
                  <a:lnTo>
                    <a:pt x="5070" y="2304"/>
                  </a:lnTo>
                  <a:lnTo>
                    <a:pt x="5079" y="2432"/>
                  </a:lnTo>
                  <a:lnTo>
                    <a:pt x="5084" y="25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65440" y="1989000"/>
              <a:ext cx="2017800" cy="2016360"/>
            </a:xfrm>
            <a:custGeom>
              <a:avLst/>
              <a:gdLst/>
              <a:ahLst/>
              <a:rect l="l" t="t" r="r" b="b"/>
              <a:pathLst>
                <a:path w="5084" h="5082">
                  <a:moveTo>
                    <a:pt x="5084" y="2542"/>
                  </a:moveTo>
                  <a:lnTo>
                    <a:pt x="5081" y="2411"/>
                  </a:lnTo>
                  <a:lnTo>
                    <a:pt x="5071" y="2281"/>
                  </a:lnTo>
                  <a:lnTo>
                    <a:pt x="5055" y="2155"/>
                  </a:lnTo>
                  <a:lnTo>
                    <a:pt x="5032" y="2030"/>
                  </a:lnTo>
                  <a:lnTo>
                    <a:pt x="5004" y="1907"/>
                  </a:lnTo>
                  <a:lnTo>
                    <a:pt x="4970" y="1786"/>
                  </a:lnTo>
                  <a:lnTo>
                    <a:pt x="4930" y="1668"/>
                  </a:lnTo>
                  <a:lnTo>
                    <a:pt x="4884" y="1552"/>
                  </a:lnTo>
                  <a:lnTo>
                    <a:pt x="4833" y="1440"/>
                  </a:lnTo>
                  <a:lnTo>
                    <a:pt x="4777" y="1331"/>
                  </a:lnTo>
                  <a:lnTo>
                    <a:pt x="4716" y="1224"/>
                  </a:lnTo>
                  <a:lnTo>
                    <a:pt x="4650" y="1121"/>
                  </a:lnTo>
                  <a:lnTo>
                    <a:pt x="4578" y="1021"/>
                  </a:lnTo>
                  <a:lnTo>
                    <a:pt x="4504" y="925"/>
                  </a:lnTo>
                  <a:lnTo>
                    <a:pt x="4424" y="833"/>
                  </a:lnTo>
                  <a:lnTo>
                    <a:pt x="4340" y="745"/>
                  </a:lnTo>
                  <a:lnTo>
                    <a:pt x="4251" y="661"/>
                  </a:lnTo>
                  <a:lnTo>
                    <a:pt x="4159" y="581"/>
                  </a:lnTo>
                  <a:lnTo>
                    <a:pt x="4063" y="506"/>
                  </a:lnTo>
                  <a:lnTo>
                    <a:pt x="3964" y="435"/>
                  </a:lnTo>
                  <a:lnTo>
                    <a:pt x="3860" y="369"/>
                  </a:lnTo>
                  <a:lnTo>
                    <a:pt x="3754" y="307"/>
                  </a:lnTo>
                  <a:lnTo>
                    <a:pt x="3644" y="251"/>
                  </a:lnTo>
                  <a:lnTo>
                    <a:pt x="3531" y="200"/>
                  </a:lnTo>
                  <a:lnTo>
                    <a:pt x="3416" y="155"/>
                  </a:lnTo>
                  <a:lnTo>
                    <a:pt x="3298" y="115"/>
                  </a:lnTo>
                  <a:lnTo>
                    <a:pt x="3177" y="80"/>
                  </a:lnTo>
                  <a:lnTo>
                    <a:pt x="3055" y="52"/>
                  </a:lnTo>
                  <a:lnTo>
                    <a:pt x="2930" y="30"/>
                  </a:lnTo>
                  <a:lnTo>
                    <a:pt x="2802" y="13"/>
                  </a:lnTo>
                  <a:lnTo>
                    <a:pt x="2673" y="4"/>
                  </a:lnTo>
                  <a:lnTo>
                    <a:pt x="2542" y="0"/>
                  </a:lnTo>
                  <a:lnTo>
                    <a:pt x="2411" y="4"/>
                  </a:lnTo>
                  <a:lnTo>
                    <a:pt x="2282" y="13"/>
                  </a:lnTo>
                  <a:lnTo>
                    <a:pt x="2155" y="30"/>
                  </a:lnTo>
                  <a:lnTo>
                    <a:pt x="2029" y="52"/>
                  </a:lnTo>
                  <a:lnTo>
                    <a:pt x="1907" y="80"/>
                  </a:lnTo>
                  <a:lnTo>
                    <a:pt x="1786" y="115"/>
                  </a:lnTo>
                  <a:lnTo>
                    <a:pt x="1669" y="155"/>
                  </a:lnTo>
                  <a:lnTo>
                    <a:pt x="1553" y="200"/>
                  </a:lnTo>
                  <a:lnTo>
                    <a:pt x="1441" y="251"/>
                  </a:lnTo>
                  <a:lnTo>
                    <a:pt x="1330" y="307"/>
                  </a:lnTo>
                  <a:lnTo>
                    <a:pt x="1224" y="369"/>
                  </a:lnTo>
                  <a:lnTo>
                    <a:pt x="1121" y="435"/>
                  </a:lnTo>
                  <a:lnTo>
                    <a:pt x="1021" y="506"/>
                  </a:lnTo>
                  <a:lnTo>
                    <a:pt x="925" y="581"/>
                  </a:lnTo>
                  <a:lnTo>
                    <a:pt x="833" y="661"/>
                  </a:lnTo>
                  <a:lnTo>
                    <a:pt x="745" y="745"/>
                  </a:lnTo>
                  <a:lnTo>
                    <a:pt x="660" y="833"/>
                  </a:lnTo>
                  <a:lnTo>
                    <a:pt x="580" y="925"/>
                  </a:lnTo>
                  <a:lnTo>
                    <a:pt x="506" y="1021"/>
                  </a:lnTo>
                  <a:lnTo>
                    <a:pt x="435" y="1121"/>
                  </a:lnTo>
                  <a:lnTo>
                    <a:pt x="369" y="1224"/>
                  </a:lnTo>
                  <a:lnTo>
                    <a:pt x="307" y="1331"/>
                  </a:lnTo>
                  <a:lnTo>
                    <a:pt x="251" y="1440"/>
                  </a:lnTo>
                  <a:lnTo>
                    <a:pt x="200" y="1552"/>
                  </a:lnTo>
                  <a:lnTo>
                    <a:pt x="155" y="1668"/>
                  </a:lnTo>
                  <a:lnTo>
                    <a:pt x="115" y="1786"/>
                  </a:lnTo>
                  <a:lnTo>
                    <a:pt x="80" y="1907"/>
                  </a:lnTo>
                  <a:lnTo>
                    <a:pt x="52" y="2030"/>
                  </a:lnTo>
                  <a:lnTo>
                    <a:pt x="29" y="2155"/>
                  </a:lnTo>
                  <a:lnTo>
                    <a:pt x="13" y="2281"/>
                  </a:lnTo>
                  <a:lnTo>
                    <a:pt x="3" y="2411"/>
                  </a:lnTo>
                  <a:lnTo>
                    <a:pt x="0" y="2542"/>
                  </a:lnTo>
                  <a:lnTo>
                    <a:pt x="3" y="2672"/>
                  </a:lnTo>
                  <a:lnTo>
                    <a:pt x="13" y="2801"/>
                  </a:lnTo>
                  <a:lnTo>
                    <a:pt x="29" y="2928"/>
                  </a:lnTo>
                  <a:lnTo>
                    <a:pt x="52" y="3054"/>
                  </a:lnTo>
                  <a:lnTo>
                    <a:pt x="80" y="3177"/>
                  </a:lnTo>
                  <a:lnTo>
                    <a:pt x="115" y="3297"/>
                  </a:lnTo>
                  <a:lnTo>
                    <a:pt x="155" y="3415"/>
                  </a:lnTo>
                  <a:lnTo>
                    <a:pt x="200" y="3530"/>
                  </a:lnTo>
                  <a:lnTo>
                    <a:pt x="251" y="3643"/>
                  </a:lnTo>
                  <a:lnTo>
                    <a:pt x="307" y="3752"/>
                  </a:lnTo>
                  <a:lnTo>
                    <a:pt x="369" y="3859"/>
                  </a:lnTo>
                  <a:lnTo>
                    <a:pt x="435" y="3962"/>
                  </a:lnTo>
                  <a:lnTo>
                    <a:pt x="506" y="4061"/>
                  </a:lnTo>
                  <a:lnTo>
                    <a:pt x="580" y="4157"/>
                  </a:lnTo>
                  <a:lnTo>
                    <a:pt x="660" y="4249"/>
                  </a:lnTo>
                  <a:lnTo>
                    <a:pt x="745" y="4338"/>
                  </a:lnTo>
                  <a:lnTo>
                    <a:pt x="833" y="4422"/>
                  </a:lnTo>
                  <a:lnTo>
                    <a:pt x="925" y="4502"/>
                  </a:lnTo>
                  <a:lnTo>
                    <a:pt x="1021" y="4577"/>
                  </a:lnTo>
                  <a:lnTo>
                    <a:pt x="1121" y="4648"/>
                  </a:lnTo>
                  <a:lnTo>
                    <a:pt x="1224" y="4715"/>
                  </a:lnTo>
                  <a:lnTo>
                    <a:pt x="1330" y="4775"/>
                  </a:lnTo>
                  <a:lnTo>
                    <a:pt x="1441" y="4831"/>
                  </a:lnTo>
                  <a:lnTo>
                    <a:pt x="1553" y="4882"/>
                  </a:lnTo>
                  <a:lnTo>
                    <a:pt x="1669" y="4927"/>
                  </a:lnTo>
                  <a:lnTo>
                    <a:pt x="1786" y="4967"/>
                  </a:lnTo>
                  <a:lnTo>
                    <a:pt x="1907" y="5002"/>
                  </a:lnTo>
                  <a:lnTo>
                    <a:pt x="2029" y="5030"/>
                  </a:lnTo>
                  <a:lnTo>
                    <a:pt x="2155" y="5053"/>
                  </a:lnTo>
                  <a:lnTo>
                    <a:pt x="2282" y="5069"/>
                  </a:lnTo>
                  <a:lnTo>
                    <a:pt x="2411" y="5079"/>
                  </a:lnTo>
                  <a:lnTo>
                    <a:pt x="2542" y="5082"/>
                  </a:lnTo>
                  <a:lnTo>
                    <a:pt x="2673" y="5079"/>
                  </a:lnTo>
                  <a:lnTo>
                    <a:pt x="2802" y="5069"/>
                  </a:lnTo>
                  <a:lnTo>
                    <a:pt x="2930" y="5053"/>
                  </a:lnTo>
                  <a:lnTo>
                    <a:pt x="3055" y="5030"/>
                  </a:lnTo>
                  <a:lnTo>
                    <a:pt x="3177" y="5002"/>
                  </a:lnTo>
                  <a:lnTo>
                    <a:pt x="3298" y="4967"/>
                  </a:lnTo>
                  <a:lnTo>
                    <a:pt x="3416" y="4927"/>
                  </a:lnTo>
                  <a:lnTo>
                    <a:pt x="3531" y="4882"/>
                  </a:lnTo>
                  <a:lnTo>
                    <a:pt x="3644" y="4831"/>
                  </a:lnTo>
                  <a:lnTo>
                    <a:pt x="3754" y="4775"/>
                  </a:lnTo>
                  <a:lnTo>
                    <a:pt x="3860" y="4715"/>
                  </a:lnTo>
                  <a:lnTo>
                    <a:pt x="3964" y="4648"/>
                  </a:lnTo>
                  <a:lnTo>
                    <a:pt x="4063" y="4577"/>
                  </a:lnTo>
                  <a:lnTo>
                    <a:pt x="4159" y="4502"/>
                  </a:lnTo>
                  <a:lnTo>
                    <a:pt x="4251" y="4422"/>
                  </a:lnTo>
                  <a:lnTo>
                    <a:pt x="4340" y="4338"/>
                  </a:lnTo>
                  <a:lnTo>
                    <a:pt x="4424" y="4249"/>
                  </a:lnTo>
                  <a:lnTo>
                    <a:pt x="4504" y="4157"/>
                  </a:lnTo>
                  <a:lnTo>
                    <a:pt x="4578" y="4061"/>
                  </a:lnTo>
                  <a:lnTo>
                    <a:pt x="4650" y="3962"/>
                  </a:lnTo>
                  <a:lnTo>
                    <a:pt x="4716" y="3859"/>
                  </a:lnTo>
                  <a:lnTo>
                    <a:pt x="4777" y="3752"/>
                  </a:lnTo>
                  <a:lnTo>
                    <a:pt x="4833" y="3643"/>
                  </a:lnTo>
                  <a:lnTo>
                    <a:pt x="4884" y="3530"/>
                  </a:lnTo>
                  <a:lnTo>
                    <a:pt x="4930" y="3415"/>
                  </a:lnTo>
                  <a:lnTo>
                    <a:pt x="4970" y="3297"/>
                  </a:lnTo>
                  <a:lnTo>
                    <a:pt x="5004" y="3177"/>
                  </a:lnTo>
                  <a:lnTo>
                    <a:pt x="5032" y="3054"/>
                  </a:lnTo>
                  <a:lnTo>
                    <a:pt x="5055" y="2928"/>
                  </a:lnTo>
                  <a:lnTo>
                    <a:pt x="5071" y="2801"/>
                  </a:lnTo>
                  <a:lnTo>
                    <a:pt x="5081" y="2672"/>
                  </a:lnTo>
                  <a:lnTo>
                    <a:pt x="5084" y="2542"/>
                  </a:lnTo>
                  <a:close/>
                  <a:moveTo>
                    <a:pt x="5042" y="2542"/>
                  </a:moveTo>
                  <a:lnTo>
                    <a:pt x="5039" y="2670"/>
                  </a:lnTo>
                  <a:lnTo>
                    <a:pt x="5029" y="2797"/>
                  </a:lnTo>
                  <a:lnTo>
                    <a:pt x="5014" y="2922"/>
                  </a:lnTo>
                  <a:lnTo>
                    <a:pt x="4991" y="3045"/>
                  </a:lnTo>
                  <a:lnTo>
                    <a:pt x="4963" y="3166"/>
                  </a:lnTo>
                  <a:lnTo>
                    <a:pt x="4930" y="3285"/>
                  </a:lnTo>
                  <a:lnTo>
                    <a:pt x="4891" y="3400"/>
                  </a:lnTo>
                  <a:lnTo>
                    <a:pt x="4845" y="3514"/>
                  </a:lnTo>
                  <a:lnTo>
                    <a:pt x="4796" y="3625"/>
                  </a:lnTo>
                  <a:lnTo>
                    <a:pt x="4741" y="3733"/>
                  </a:lnTo>
                  <a:lnTo>
                    <a:pt x="4680" y="3838"/>
                  </a:lnTo>
                  <a:lnTo>
                    <a:pt x="4615" y="3938"/>
                  </a:lnTo>
                  <a:lnTo>
                    <a:pt x="4546" y="4036"/>
                  </a:lnTo>
                  <a:lnTo>
                    <a:pt x="4471" y="4131"/>
                  </a:lnTo>
                  <a:lnTo>
                    <a:pt x="4393" y="4221"/>
                  </a:lnTo>
                  <a:lnTo>
                    <a:pt x="4310" y="4309"/>
                  </a:lnTo>
                  <a:lnTo>
                    <a:pt x="4223" y="4391"/>
                  </a:lnTo>
                  <a:lnTo>
                    <a:pt x="4132" y="4469"/>
                  </a:lnTo>
                  <a:lnTo>
                    <a:pt x="4038" y="4544"/>
                  </a:lnTo>
                  <a:lnTo>
                    <a:pt x="3940" y="4613"/>
                  </a:lnTo>
                  <a:lnTo>
                    <a:pt x="3838" y="4679"/>
                  </a:lnTo>
                  <a:lnTo>
                    <a:pt x="3733" y="4738"/>
                  </a:lnTo>
                  <a:lnTo>
                    <a:pt x="3627" y="4793"/>
                  </a:lnTo>
                  <a:lnTo>
                    <a:pt x="3515" y="4844"/>
                  </a:lnTo>
                  <a:lnTo>
                    <a:pt x="3402" y="4889"/>
                  </a:lnTo>
                  <a:lnTo>
                    <a:pt x="3285" y="4928"/>
                  </a:lnTo>
                  <a:lnTo>
                    <a:pt x="3167" y="4962"/>
                  </a:lnTo>
                  <a:lnTo>
                    <a:pt x="3046" y="4990"/>
                  </a:lnTo>
                  <a:lnTo>
                    <a:pt x="2923" y="5012"/>
                  </a:lnTo>
                  <a:lnTo>
                    <a:pt x="2798" y="5028"/>
                  </a:lnTo>
                  <a:lnTo>
                    <a:pt x="2671" y="5038"/>
                  </a:lnTo>
                  <a:lnTo>
                    <a:pt x="2542" y="5041"/>
                  </a:lnTo>
                  <a:lnTo>
                    <a:pt x="2413" y="5038"/>
                  </a:lnTo>
                  <a:lnTo>
                    <a:pt x="2287" y="5028"/>
                  </a:lnTo>
                  <a:lnTo>
                    <a:pt x="2161" y="5012"/>
                  </a:lnTo>
                  <a:lnTo>
                    <a:pt x="2038" y="4990"/>
                  </a:lnTo>
                  <a:lnTo>
                    <a:pt x="1917" y="4962"/>
                  </a:lnTo>
                  <a:lnTo>
                    <a:pt x="1798" y="4928"/>
                  </a:lnTo>
                  <a:lnTo>
                    <a:pt x="1683" y="4889"/>
                  </a:lnTo>
                  <a:lnTo>
                    <a:pt x="1569" y="4844"/>
                  </a:lnTo>
                  <a:lnTo>
                    <a:pt x="1458" y="4793"/>
                  </a:lnTo>
                  <a:lnTo>
                    <a:pt x="1351" y="4738"/>
                  </a:lnTo>
                  <a:lnTo>
                    <a:pt x="1246" y="4679"/>
                  </a:lnTo>
                  <a:lnTo>
                    <a:pt x="1145" y="4613"/>
                  </a:lnTo>
                  <a:lnTo>
                    <a:pt x="1046" y="4544"/>
                  </a:lnTo>
                  <a:lnTo>
                    <a:pt x="952" y="4469"/>
                  </a:lnTo>
                  <a:lnTo>
                    <a:pt x="861" y="4391"/>
                  </a:lnTo>
                  <a:lnTo>
                    <a:pt x="774" y="4309"/>
                  </a:lnTo>
                  <a:lnTo>
                    <a:pt x="692" y="4221"/>
                  </a:lnTo>
                  <a:lnTo>
                    <a:pt x="613" y="4131"/>
                  </a:lnTo>
                  <a:lnTo>
                    <a:pt x="538" y="4036"/>
                  </a:lnTo>
                  <a:lnTo>
                    <a:pt x="469" y="3938"/>
                  </a:lnTo>
                  <a:lnTo>
                    <a:pt x="404" y="3838"/>
                  </a:lnTo>
                  <a:lnTo>
                    <a:pt x="344" y="3733"/>
                  </a:lnTo>
                  <a:lnTo>
                    <a:pt x="289" y="3625"/>
                  </a:lnTo>
                  <a:lnTo>
                    <a:pt x="239" y="3514"/>
                  </a:lnTo>
                  <a:lnTo>
                    <a:pt x="194" y="3400"/>
                  </a:lnTo>
                  <a:lnTo>
                    <a:pt x="155" y="3285"/>
                  </a:lnTo>
                  <a:lnTo>
                    <a:pt x="121" y="3166"/>
                  </a:lnTo>
                  <a:lnTo>
                    <a:pt x="93" y="3045"/>
                  </a:lnTo>
                  <a:lnTo>
                    <a:pt x="70" y="2922"/>
                  </a:lnTo>
                  <a:lnTo>
                    <a:pt x="55" y="2797"/>
                  </a:lnTo>
                  <a:lnTo>
                    <a:pt x="46" y="2670"/>
                  </a:lnTo>
                  <a:lnTo>
                    <a:pt x="42" y="2542"/>
                  </a:lnTo>
                  <a:lnTo>
                    <a:pt x="46" y="2413"/>
                  </a:lnTo>
                  <a:lnTo>
                    <a:pt x="55" y="2286"/>
                  </a:lnTo>
                  <a:lnTo>
                    <a:pt x="70" y="2160"/>
                  </a:lnTo>
                  <a:lnTo>
                    <a:pt x="93" y="2037"/>
                  </a:lnTo>
                  <a:lnTo>
                    <a:pt x="121" y="1917"/>
                  </a:lnTo>
                  <a:lnTo>
                    <a:pt x="155" y="1799"/>
                  </a:lnTo>
                  <a:lnTo>
                    <a:pt x="194" y="1682"/>
                  </a:lnTo>
                  <a:lnTo>
                    <a:pt x="239" y="1569"/>
                  </a:lnTo>
                  <a:lnTo>
                    <a:pt x="289" y="1458"/>
                  </a:lnTo>
                  <a:lnTo>
                    <a:pt x="344" y="1350"/>
                  </a:lnTo>
                  <a:lnTo>
                    <a:pt x="404" y="1246"/>
                  </a:lnTo>
                  <a:lnTo>
                    <a:pt x="469" y="1144"/>
                  </a:lnTo>
                  <a:lnTo>
                    <a:pt x="538" y="1046"/>
                  </a:lnTo>
                  <a:lnTo>
                    <a:pt x="613" y="952"/>
                  </a:lnTo>
                  <a:lnTo>
                    <a:pt x="692" y="861"/>
                  </a:lnTo>
                  <a:lnTo>
                    <a:pt x="774" y="775"/>
                  </a:lnTo>
                  <a:lnTo>
                    <a:pt x="861" y="692"/>
                  </a:lnTo>
                  <a:lnTo>
                    <a:pt x="952" y="613"/>
                  </a:lnTo>
                  <a:lnTo>
                    <a:pt x="1046" y="539"/>
                  </a:lnTo>
                  <a:lnTo>
                    <a:pt x="1145" y="469"/>
                  </a:lnTo>
                  <a:lnTo>
                    <a:pt x="1246" y="404"/>
                  </a:lnTo>
                  <a:lnTo>
                    <a:pt x="1351" y="344"/>
                  </a:lnTo>
                  <a:lnTo>
                    <a:pt x="1458" y="289"/>
                  </a:lnTo>
                  <a:lnTo>
                    <a:pt x="1569" y="239"/>
                  </a:lnTo>
                  <a:lnTo>
                    <a:pt x="1683" y="194"/>
                  </a:lnTo>
                  <a:lnTo>
                    <a:pt x="1798" y="155"/>
                  </a:lnTo>
                  <a:lnTo>
                    <a:pt x="1917" y="121"/>
                  </a:lnTo>
                  <a:lnTo>
                    <a:pt x="2038" y="93"/>
                  </a:lnTo>
                  <a:lnTo>
                    <a:pt x="2161" y="72"/>
                  </a:lnTo>
                  <a:lnTo>
                    <a:pt x="2287" y="56"/>
                  </a:lnTo>
                  <a:lnTo>
                    <a:pt x="2413" y="46"/>
                  </a:lnTo>
                  <a:lnTo>
                    <a:pt x="2542" y="43"/>
                  </a:lnTo>
                  <a:lnTo>
                    <a:pt x="2671" y="46"/>
                  </a:lnTo>
                  <a:lnTo>
                    <a:pt x="2798" y="56"/>
                  </a:lnTo>
                  <a:lnTo>
                    <a:pt x="2923" y="72"/>
                  </a:lnTo>
                  <a:lnTo>
                    <a:pt x="3046" y="93"/>
                  </a:lnTo>
                  <a:lnTo>
                    <a:pt x="3167" y="121"/>
                  </a:lnTo>
                  <a:lnTo>
                    <a:pt x="3285" y="155"/>
                  </a:lnTo>
                  <a:lnTo>
                    <a:pt x="3402" y="194"/>
                  </a:lnTo>
                  <a:lnTo>
                    <a:pt x="3515" y="239"/>
                  </a:lnTo>
                  <a:lnTo>
                    <a:pt x="3627" y="289"/>
                  </a:lnTo>
                  <a:lnTo>
                    <a:pt x="3733" y="344"/>
                  </a:lnTo>
                  <a:lnTo>
                    <a:pt x="3838" y="404"/>
                  </a:lnTo>
                  <a:lnTo>
                    <a:pt x="3940" y="469"/>
                  </a:lnTo>
                  <a:lnTo>
                    <a:pt x="4038" y="539"/>
                  </a:lnTo>
                  <a:lnTo>
                    <a:pt x="4132" y="613"/>
                  </a:lnTo>
                  <a:lnTo>
                    <a:pt x="4223" y="692"/>
                  </a:lnTo>
                  <a:lnTo>
                    <a:pt x="4310" y="775"/>
                  </a:lnTo>
                  <a:lnTo>
                    <a:pt x="4393" y="861"/>
                  </a:lnTo>
                  <a:lnTo>
                    <a:pt x="4471" y="952"/>
                  </a:lnTo>
                  <a:lnTo>
                    <a:pt x="4546" y="1046"/>
                  </a:lnTo>
                  <a:lnTo>
                    <a:pt x="4615" y="1144"/>
                  </a:lnTo>
                  <a:lnTo>
                    <a:pt x="4680" y="1246"/>
                  </a:lnTo>
                  <a:lnTo>
                    <a:pt x="4741" y="1350"/>
                  </a:lnTo>
                  <a:lnTo>
                    <a:pt x="4796" y="1458"/>
                  </a:lnTo>
                  <a:lnTo>
                    <a:pt x="4845" y="1569"/>
                  </a:lnTo>
                  <a:lnTo>
                    <a:pt x="4891" y="1682"/>
                  </a:lnTo>
                  <a:lnTo>
                    <a:pt x="4930" y="1799"/>
                  </a:lnTo>
                  <a:lnTo>
                    <a:pt x="4963" y="1917"/>
                  </a:lnTo>
                  <a:lnTo>
                    <a:pt x="4991" y="2037"/>
                  </a:lnTo>
                  <a:lnTo>
                    <a:pt x="5014" y="2160"/>
                  </a:lnTo>
                  <a:lnTo>
                    <a:pt x="5029" y="2286"/>
                  </a:lnTo>
                  <a:lnTo>
                    <a:pt x="5039" y="2413"/>
                  </a:lnTo>
                  <a:lnTo>
                    <a:pt x="5042" y="2542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73360" y="1996920"/>
              <a:ext cx="2001960" cy="2000520"/>
            </a:xfrm>
            <a:custGeom>
              <a:avLst/>
              <a:gdLst/>
              <a:ahLst/>
              <a:rect l="l" t="t" r="r" b="b"/>
              <a:pathLst>
                <a:path w="5043" h="5039">
                  <a:moveTo>
                    <a:pt x="5043" y="2520"/>
                  </a:moveTo>
                  <a:lnTo>
                    <a:pt x="5038" y="2390"/>
                  </a:lnTo>
                  <a:lnTo>
                    <a:pt x="5029" y="2262"/>
                  </a:lnTo>
                  <a:lnTo>
                    <a:pt x="5013" y="2135"/>
                  </a:lnTo>
                  <a:lnTo>
                    <a:pt x="4991" y="2012"/>
                  </a:lnTo>
                  <a:lnTo>
                    <a:pt x="4963" y="1890"/>
                  </a:lnTo>
                  <a:lnTo>
                    <a:pt x="4929" y="1770"/>
                  </a:lnTo>
                  <a:lnTo>
                    <a:pt x="4889" y="1654"/>
                  </a:lnTo>
                  <a:lnTo>
                    <a:pt x="4844" y="1539"/>
                  </a:lnTo>
                  <a:lnTo>
                    <a:pt x="4793" y="1427"/>
                  </a:lnTo>
                  <a:lnTo>
                    <a:pt x="4738" y="1319"/>
                  </a:lnTo>
                  <a:lnTo>
                    <a:pt x="4677" y="1213"/>
                  </a:lnTo>
                  <a:lnTo>
                    <a:pt x="4611" y="1110"/>
                  </a:lnTo>
                  <a:lnTo>
                    <a:pt x="4541" y="1012"/>
                  </a:lnTo>
                  <a:lnTo>
                    <a:pt x="4467" y="917"/>
                  </a:lnTo>
                  <a:lnTo>
                    <a:pt x="4387" y="825"/>
                  </a:lnTo>
                  <a:lnTo>
                    <a:pt x="4304" y="738"/>
                  </a:lnTo>
                  <a:lnTo>
                    <a:pt x="4216" y="655"/>
                  </a:lnTo>
                  <a:lnTo>
                    <a:pt x="4124" y="575"/>
                  </a:lnTo>
                  <a:lnTo>
                    <a:pt x="4029" y="500"/>
                  </a:lnTo>
                  <a:lnTo>
                    <a:pt x="3931" y="430"/>
                  </a:lnTo>
                  <a:lnTo>
                    <a:pt x="3828" y="364"/>
                  </a:lnTo>
                  <a:lnTo>
                    <a:pt x="3722" y="304"/>
                  </a:lnTo>
                  <a:lnTo>
                    <a:pt x="3614" y="248"/>
                  </a:lnTo>
                  <a:lnTo>
                    <a:pt x="3503" y="198"/>
                  </a:lnTo>
                  <a:lnTo>
                    <a:pt x="3388" y="152"/>
                  </a:lnTo>
                  <a:lnTo>
                    <a:pt x="3271" y="113"/>
                  </a:lnTo>
                  <a:lnTo>
                    <a:pt x="3151" y="79"/>
                  </a:lnTo>
                  <a:lnTo>
                    <a:pt x="3030" y="51"/>
                  </a:lnTo>
                  <a:lnTo>
                    <a:pt x="2905" y="29"/>
                  </a:lnTo>
                  <a:lnTo>
                    <a:pt x="2779" y="13"/>
                  </a:lnTo>
                  <a:lnTo>
                    <a:pt x="2651" y="3"/>
                  </a:lnTo>
                  <a:lnTo>
                    <a:pt x="2521" y="0"/>
                  </a:lnTo>
                  <a:lnTo>
                    <a:pt x="2391" y="3"/>
                  </a:lnTo>
                  <a:lnTo>
                    <a:pt x="2263" y="13"/>
                  </a:lnTo>
                  <a:lnTo>
                    <a:pt x="2137" y="29"/>
                  </a:lnTo>
                  <a:lnTo>
                    <a:pt x="2013" y="51"/>
                  </a:lnTo>
                  <a:lnTo>
                    <a:pt x="1891" y="79"/>
                  </a:lnTo>
                  <a:lnTo>
                    <a:pt x="1772" y="113"/>
                  </a:lnTo>
                  <a:lnTo>
                    <a:pt x="1654" y="152"/>
                  </a:lnTo>
                  <a:lnTo>
                    <a:pt x="1540" y="198"/>
                  </a:lnTo>
                  <a:lnTo>
                    <a:pt x="1428" y="248"/>
                  </a:lnTo>
                  <a:lnTo>
                    <a:pt x="1319" y="304"/>
                  </a:lnTo>
                  <a:lnTo>
                    <a:pt x="1214" y="364"/>
                  </a:lnTo>
                  <a:lnTo>
                    <a:pt x="1112" y="430"/>
                  </a:lnTo>
                  <a:lnTo>
                    <a:pt x="1013" y="500"/>
                  </a:lnTo>
                  <a:lnTo>
                    <a:pt x="917" y="575"/>
                  </a:lnTo>
                  <a:lnTo>
                    <a:pt x="826" y="655"/>
                  </a:lnTo>
                  <a:lnTo>
                    <a:pt x="739" y="738"/>
                  </a:lnTo>
                  <a:lnTo>
                    <a:pt x="656" y="825"/>
                  </a:lnTo>
                  <a:lnTo>
                    <a:pt x="576" y="917"/>
                  </a:lnTo>
                  <a:lnTo>
                    <a:pt x="501" y="1012"/>
                  </a:lnTo>
                  <a:lnTo>
                    <a:pt x="431" y="1110"/>
                  </a:lnTo>
                  <a:lnTo>
                    <a:pt x="365" y="1213"/>
                  </a:lnTo>
                  <a:lnTo>
                    <a:pt x="304" y="1319"/>
                  </a:lnTo>
                  <a:lnTo>
                    <a:pt x="249" y="1427"/>
                  </a:lnTo>
                  <a:lnTo>
                    <a:pt x="199" y="1539"/>
                  </a:lnTo>
                  <a:lnTo>
                    <a:pt x="153" y="1654"/>
                  </a:lnTo>
                  <a:lnTo>
                    <a:pt x="113" y="1770"/>
                  </a:lnTo>
                  <a:lnTo>
                    <a:pt x="80" y="1890"/>
                  </a:lnTo>
                  <a:lnTo>
                    <a:pt x="52" y="2012"/>
                  </a:lnTo>
                  <a:lnTo>
                    <a:pt x="29" y="2135"/>
                  </a:lnTo>
                  <a:lnTo>
                    <a:pt x="13" y="2262"/>
                  </a:lnTo>
                  <a:lnTo>
                    <a:pt x="3" y="2390"/>
                  </a:lnTo>
                  <a:lnTo>
                    <a:pt x="0" y="2520"/>
                  </a:lnTo>
                  <a:lnTo>
                    <a:pt x="3" y="2649"/>
                  </a:lnTo>
                  <a:lnTo>
                    <a:pt x="13" y="2777"/>
                  </a:lnTo>
                  <a:lnTo>
                    <a:pt x="29" y="2903"/>
                  </a:lnTo>
                  <a:lnTo>
                    <a:pt x="52" y="3027"/>
                  </a:lnTo>
                  <a:lnTo>
                    <a:pt x="80" y="3149"/>
                  </a:lnTo>
                  <a:lnTo>
                    <a:pt x="113" y="3269"/>
                  </a:lnTo>
                  <a:lnTo>
                    <a:pt x="153" y="3386"/>
                  </a:lnTo>
                  <a:lnTo>
                    <a:pt x="199" y="3500"/>
                  </a:lnTo>
                  <a:lnTo>
                    <a:pt x="249" y="3612"/>
                  </a:lnTo>
                  <a:lnTo>
                    <a:pt x="304" y="3721"/>
                  </a:lnTo>
                  <a:lnTo>
                    <a:pt x="365" y="3826"/>
                  </a:lnTo>
                  <a:lnTo>
                    <a:pt x="431" y="3928"/>
                  </a:lnTo>
                  <a:lnTo>
                    <a:pt x="501" y="4027"/>
                  </a:lnTo>
                  <a:lnTo>
                    <a:pt x="576" y="4122"/>
                  </a:lnTo>
                  <a:lnTo>
                    <a:pt x="656" y="4213"/>
                  </a:lnTo>
                  <a:lnTo>
                    <a:pt x="739" y="4301"/>
                  </a:lnTo>
                  <a:lnTo>
                    <a:pt x="826" y="4385"/>
                  </a:lnTo>
                  <a:lnTo>
                    <a:pt x="917" y="4464"/>
                  </a:lnTo>
                  <a:lnTo>
                    <a:pt x="1013" y="4538"/>
                  </a:lnTo>
                  <a:lnTo>
                    <a:pt x="1112" y="4608"/>
                  </a:lnTo>
                  <a:lnTo>
                    <a:pt x="1214" y="4674"/>
                  </a:lnTo>
                  <a:lnTo>
                    <a:pt x="1319" y="4735"/>
                  </a:lnTo>
                  <a:lnTo>
                    <a:pt x="1428" y="4791"/>
                  </a:lnTo>
                  <a:lnTo>
                    <a:pt x="1540" y="4842"/>
                  </a:lnTo>
                  <a:lnTo>
                    <a:pt x="1654" y="4886"/>
                  </a:lnTo>
                  <a:lnTo>
                    <a:pt x="1772" y="4926"/>
                  </a:lnTo>
                  <a:lnTo>
                    <a:pt x="1891" y="4959"/>
                  </a:lnTo>
                  <a:lnTo>
                    <a:pt x="2013" y="4987"/>
                  </a:lnTo>
                  <a:lnTo>
                    <a:pt x="2137" y="5010"/>
                  </a:lnTo>
                  <a:lnTo>
                    <a:pt x="2263" y="5026"/>
                  </a:lnTo>
                  <a:lnTo>
                    <a:pt x="2391" y="5036"/>
                  </a:lnTo>
                  <a:lnTo>
                    <a:pt x="2521" y="5039"/>
                  </a:lnTo>
                  <a:lnTo>
                    <a:pt x="2651" y="5036"/>
                  </a:lnTo>
                  <a:lnTo>
                    <a:pt x="2779" y="5026"/>
                  </a:lnTo>
                  <a:lnTo>
                    <a:pt x="2905" y="5010"/>
                  </a:lnTo>
                  <a:lnTo>
                    <a:pt x="3030" y="4987"/>
                  </a:lnTo>
                  <a:lnTo>
                    <a:pt x="3151" y="4959"/>
                  </a:lnTo>
                  <a:lnTo>
                    <a:pt x="3271" y="4926"/>
                  </a:lnTo>
                  <a:lnTo>
                    <a:pt x="3388" y="4886"/>
                  </a:lnTo>
                  <a:lnTo>
                    <a:pt x="3503" y="4842"/>
                  </a:lnTo>
                  <a:lnTo>
                    <a:pt x="3614" y="4791"/>
                  </a:lnTo>
                  <a:lnTo>
                    <a:pt x="3722" y="4735"/>
                  </a:lnTo>
                  <a:lnTo>
                    <a:pt x="3828" y="4674"/>
                  </a:lnTo>
                  <a:lnTo>
                    <a:pt x="3931" y="4608"/>
                  </a:lnTo>
                  <a:lnTo>
                    <a:pt x="4029" y="4538"/>
                  </a:lnTo>
                  <a:lnTo>
                    <a:pt x="4124" y="4464"/>
                  </a:lnTo>
                  <a:lnTo>
                    <a:pt x="4216" y="4385"/>
                  </a:lnTo>
                  <a:lnTo>
                    <a:pt x="4304" y="4301"/>
                  </a:lnTo>
                  <a:lnTo>
                    <a:pt x="4387" y="4213"/>
                  </a:lnTo>
                  <a:lnTo>
                    <a:pt x="4467" y="4122"/>
                  </a:lnTo>
                  <a:lnTo>
                    <a:pt x="4541" y="4027"/>
                  </a:lnTo>
                  <a:lnTo>
                    <a:pt x="4611" y="3928"/>
                  </a:lnTo>
                  <a:lnTo>
                    <a:pt x="4677" y="3826"/>
                  </a:lnTo>
                  <a:lnTo>
                    <a:pt x="4738" y="3721"/>
                  </a:lnTo>
                  <a:lnTo>
                    <a:pt x="4793" y="3612"/>
                  </a:lnTo>
                  <a:lnTo>
                    <a:pt x="4844" y="3500"/>
                  </a:lnTo>
                  <a:lnTo>
                    <a:pt x="4889" y="3386"/>
                  </a:lnTo>
                  <a:lnTo>
                    <a:pt x="4929" y="3269"/>
                  </a:lnTo>
                  <a:lnTo>
                    <a:pt x="4963" y="3149"/>
                  </a:lnTo>
                  <a:lnTo>
                    <a:pt x="4991" y="3027"/>
                  </a:lnTo>
                  <a:lnTo>
                    <a:pt x="5013" y="2903"/>
                  </a:lnTo>
                  <a:lnTo>
                    <a:pt x="5029" y="2777"/>
                  </a:lnTo>
                  <a:lnTo>
                    <a:pt x="5038" y="2649"/>
                  </a:lnTo>
                  <a:lnTo>
                    <a:pt x="5043" y="2520"/>
                  </a:lnTo>
                  <a:close/>
                  <a:moveTo>
                    <a:pt x="5000" y="2520"/>
                  </a:moveTo>
                  <a:lnTo>
                    <a:pt x="4997" y="2647"/>
                  </a:lnTo>
                  <a:lnTo>
                    <a:pt x="4988" y="2772"/>
                  </a:lnTo>
                  <a:lnTo>
                    <a:pt x="4972" y="2897"/>
                  </a:lnTo>
                  <a:lnTo>
                    <a:pt x="4950" y="3019"/>
                  </a:lnTo>
                  <a:lnTo>
                    <a:pt x="4923" y="3139"/>
                  </a:lnTo>
                  <a:lnTo>
                    <a:pt x="4889" y="3256"/>
                  </a:lnTo>
                  <a:lnTo>
                    <a:pt x="4850" y="3372"/>
                  </a:lnTo>
                  <a:lnTo>
                    <a:pt x="4806" y="3484"/>
                  </a:lnTo>
                  <a:lnTo>
                    <a:pt x="4756" y="3594"/>
                  </a:lnTo>
                  <a:lnTo>
                    <a:pt x="4701" y="3700"/>
                  </a:lnTo>
                  <a:lnTo>
                    <a:pt x="4642" y="3805"/>
                  </a:lnTo>
                  <a:lnTo>
                    <a:pt x="4577" y="3905"/>
                  </a:lnTo>
                  <a:lnTo>
                    <a:pt x="4508" y="4003"/>
                  </a:lnTo>
                  <a:lnTo>
                    <a:pt x="4434" y="4095"/>
                  </a:lnTo>
                  <a:lnTo>
                    <a:pt x="4356" y="4186"/>
                  </a:lnTo>
                  <a:lnTo>
                    <a:pt x="4274" y="4271"/>
                  </a:lnTo>
                  <a:lnTo>
                    <a:pt x="4188" y="4354"/>
                  </a:lnTo>
                  <a:lnTo>
                    <a:pt x="4098" y="4431"/>
                  </a:lnTo>
                  <a:lnTo>
                    <a:pt x="4004" y="4505"/>
                  </a:lnTo>
                  <a:lnTo>
                    <a:pt x="3907" y="4574"/>
                  </a:lnTo>
                  <a:lnTo>
                    <a:pt x="3806" y="4639"/>
                  </a:lnTo>
                  <a:lnTo>
                    <a:pt x="3703" y="4698"/>
                  </a:lnTo>
                  <a:lnTo>
                    <a:pt x="3596" y="4753"/>
                  </a:lnTo>
                  <a:lnTo>
                    <a:pt x="3487" y="4803"/>
                  </a:lnTo>
                  <a:lnTo>
                    <a:pt x="3373" y="4847"/>
                  </a:lnTo>
                  <a:lnTo>
                    <a:pt x="3259" y="4886"/>
                  </a:lnTo>
                  <a:lnTo>
                    <a:pt x="3141" y="4919"/>
                  </a:lnTo>
                  <a:lnTo>
                    <a:pt x="3021" y="4948"/>
                  </a:lnTo>
                  <a:lnTo>
                    <a:pt x="2899" y="4969"/>
                  </a:lnTo>
                  <a:lnTo>
                    <a:pt x="2775" y="4984"/>
                  </a:lnTo>
                  <a:lnTo>
                    <a:pt x="2649" y="4994"/>
                  </a:lnTo>
                  <a:lnTo>
                    <a:pt x="2521" y="4997"/>
                  </a:lnTo>
                  <a:lnTo>
                    <a:pt x="2393" y="4994"/>
                  </a:lnTo>
                  <a:lnTo>
                    <a:pt x="2268" y="4984"/>
                  </a:lnTo>
                  <a:lnTo>
                    <a:pt x="2144" y="4969"/>
                  </a:lnTo>
                  <a:lnTo>
                    <a:pt x="2021" y="4948"/>
                  </a:lnTo>
                  <a:lnTo>
                    <a:pt x="1901" y="4919"/>
                  </a:lnTo>
                  <a:lnTo>
                    <a:pt x="1784" y="4886"/>
                  </a:lnTo>
                  <a:lnTo>
                    <a:pt x="1669" y="4847"/>
                  </a:lnTo>
                  <a:lnTo>
                    <a:pt x="1556" y="4803"/>
                  </a:lnTo>
                  <a:lnTo>
                    <a:pt x="1447" y="4753"/>
                  </a:lnTo>
                  <a:lnTo>
                    <a:pt x="1340" y="4698"/>
                  </a:lnTo>
                  <a:lnTo>
                    <a:pt x="1236" y="4639"/>
                  </a:lnTo>
                  <a:lnTo>
                    <a:pt x="1135" y="4574"/>
                  </a:lnTo>
                  <a:lnTo>
                    <a:pt x="1038" y="4505"/>
                  </a:lnTo>
                  <a:lnTo>
                    <a:pt x="944" y="4431"/>
                  </a:lnTo>
                  <a:lnTo>
                    <a:pt x="854" y="4354"/>
                  </a:lnTo>
                  <a:lnTo>
                    <a:pt x="768" y="4271"/>
                  </a:lnTo>
                  <a:lnTo>
                    <a:pt x="686" y="4186"/>
                  </a:lnTo>
                  <a:lnTo>
                    <a:pt x="608" y="4095"/>
                  </a:lnTo>
                  <a:lnTo>
                    <a:pt x="535" y="4003"/>
                  </a:lnTo>
                  <a:lnTo>
                    <a:pt x="465" y="3905"/>
                  </a:lnTo>
                  <a:lnTo>
                    <a:pt x="401" y="3805"/>
                  </a:lnTo>
                  <a:lnTo>
                    <a:pt x="341" y="3700"/>
                  </a:lnTo>
                  <a:lnTo>
                    <a:pt x="286" y="3594"/>
                  </a:lnTo>
                  <a:lnTo>
                    <a:pt x="236" y="3484"/>
                  </a:lnTo>
                  <a:lnTo>
                    <a:pt x="192" y="3372"/>
                  </a:lnTo>
                  <a:lnTo>
                    <a:pt x="153" y="3256"/>
                  </a:lnTo>
                  <a:lnTo>
                    <a:pt x="120" y="3139"/>
                  </a:lnTo>
                  <a:lnTo>
                    <a:pt x="93" y="3019"/>
                  </a:lnTo>
                  <a:lnTo>
                    <a:pt x="70" y="2897"/>
                  </a:lnTo>
                  <a:lnTo>
                    <a:pt x="55" y="2772"/>
                  </a:lnTo>
                  <a:lnTo>
                    <a:pt x="45" y="2647"/>
                  </a:lnTo>
                  <a:lnTo>
                    <a:pt x="42" y="2520"/>
                  </a:lnTo>
                  <a:lnTo>
                    <a:pt x="45" y="2392"/>
                  </a:lnTo>
                  <a:lnTo>
                    <a:pt x="55" y="2266"/>
                  </a:lnTo>
                  <a:lnTo>
                    <a:pt x="70" y="2142"/>
                  </a:lnTo>
                  <a:lnTo>
                    <a:pt x="93" y="2020"/>
                  </a:lnTo>
                  <a:lnTo>
                    <a:pt x="120" y="1900"/>
                  </a:lnTo>
                  <a:lnTo>
                    <a:pt x="153" y="1782"/>
                  </a:lnTo>
                  <a:lnTo>
                    <a:pt x="192" y="1668"/>
                  </a:lnTo>
                  <a:lnTo>
                    <a:pt x="236" y="1555"/>
                  </a:lnTo>
                  <a:lnTo>
                    <a:pt x="286" y="1445"/>
                  </a:lnTo>
                  <a:lnTo>
                    <a:pt x="341" y="1338"/>
                  </a:lnTo>
                  <a:lnTo>
                    <a:pt x="401" y="1234"/>
                  </a:lnTo>
                  <a:lnTo>
                    <a:pt x="465" y="1134"/>
                  </a:lnTo>
                  <a:lnTo>
                    <a:pt x="535" y="1037"/>
                  </a:lnTo>
                  <a:lnTo>
                    <a:pt x="608" y="943"/>
                  </a:lnTo>
                  <a:lnTo>
                    <a:pt x="686" y="853"/>
                  </a:lnTo>
                  <a:lnTo>
                    <a:pt x="768" y="767"/>
                  </a:lnTo>
                  <a:lnTo>
                    <a:pt x="854" y="685"/>
                  </a:lnTo>
                  <a:lnTo>
                    <a:pt x="944" y="607"/>
                  </a:lnTo>
                  <a:lnTo>
                    <a:pt x="1038" y="534"/>
                  </a:lnTo>
                  <a:lnTo>
                    <a:pt x="1135" y="464"/>
                  </a:lnTo>
                  <a:lnTo>
                    <a:pt x="1236" y="400"/>
                  </a:lnTo>
                  <a:lnTo>
                    <a:pt x="1340" y="340"/>
                  </a:lnTo>
                  <a:lnTo>
                    <a:pt x="1447" y="285"/>
                  </a:lnTo>
                  <a:lnTo>
                    <a:pt x="1556" y="237"/>
                  </a:lnTo>
                  <a:lnTo>
                    <a:pt x="1669" y="191"/>
                  </a:lnTo>
                  <a:lnTo>
                    <a:pt x="1784" y="152"/>
                  </a:lnTo>
                  <a:lnTo>
                    <a:pt x="1901" y="119"/>
                  </a:lnTo>
                  <a:lnTo>
                    <a:pt x="2021" y="92"/>
                  </a:lnTo>
                  <a:lnTo>
                    <a:pt x="2144" y="70"/>
                  </a:lnTo>
                  <a:lnTo>
                    <a:pt x="2268" y="54"/>
                  </a:lnTo>
                  <a:lnTo>
                    <a:pt x="2393" y="44"/>
                  </a:lnTo>
                  <a:lnTo>
                    <a:pt x="2521" y="41"/>
                  </a:lnTo>
                  <a:lnTo>
                    <a:pt x="2649" y="44"/>
                  </a:lnTo>
                  <a:lnTo>
                    <a:pt x="2775" y="54"/>
                  </a:lnTo>
                  <a:lnTo>
                    <a:pt x="2899" y="70"/>
                  </a:lnTo>
                  <a:lnTo>
                    <a:pt x="3021" y="92"/>
                  </a:lnTo>
                  <a:lnTo>
                    <a:pt x="3141" y="119"/>
                  </a:lnTo>
                  <a:lnTo>
                    <a:pt x="3259" y="152"/>
                  </a:lnTo>
                  <a:lnTo>
                    <a:pt x="3373" y="191"/>
                  </a:lnTo>
                  <a:lnTo>
                    <a:pt x="3487" y="237"/>
                  </a:lnTo>
                  <a:lnTo>
                    <a:pt x="3596" y="285"/>
                  </a:lnTo>
                  <a:lnTo>
                    <a:pt x="3703" y="340"/>
                  </a:lnTo>
                  <a:lnTo>
                    <a:pt x="3806" y="400"/>
                  </a:lnTo>
                  <a:lnTo>
                    <a:pt x="3907" y="464"/>
                  </a:lnTo>
                  <a:lnTo>
                    <a:pt x="4004" y="534"/>
                  </a:lnTo>
                  <a:lnTo>
                    <a:pt x="4098" y="607"/>
                  </a:lnTo>
                  <a:lnTo>
                    <a:pt x="4188" y="685"/>
                  </a:lnTo>
                  <a:lnTo>
                    <a:pt x="4274" y="767"/>
                  </a:lnTo>
                  <a:lnTo>
                    <a:pt x="4356" y="853"/>
                  </a:lnTo>
                  <a:lnTo>
                    <a:pt x="4434" y="943"/>
                  </a:lnTo>
                  <a:lnTo>
                    <a:pt x="4508" y="1037"/>
                  </a:lnTo>
                  <a:lnTo>
                    <a:pt x="4577" y="1134"/>
                  </a:lnTo>
                  <a:lnTo>
                    <a:pt x="4642" y="1234"/>
                  </a:lnTo>
                  <a:lnTo>
                    <a:pt x="4701" y="1338"/>
                  </a:lnTo>
                  <a:lnTo>
                    <a:pt x="4756" y="1445"/>
                  </a:lnTo>
                  <a:lnTo>
                    <a:pt x="4806" y="1555"/>
                  </a:lnTo>
                  <a:lnTo>
                    <a:pt x="4850" y="1668"/>
                  </a:lnTo>
                  <a:lnTo>
                    <a:pt x="4889" y="1782"/>
                  </a:lnTo>
                  <a:lnTo>
                    <a:pt x="4923" y="1900"/>
                  </a:lnTo>
                  <a:lnTo>
                    <a:pt x="4950" y="2020"/>
                  </a:lnTo>
                  <a:lnTo>
                    <a:pt x="4972" y="2142"/>
                  </a:lnTo>
                  <a:lnTo>
                    <a:pt x="4988" y="2266"/>
                  </a:lnTo>
                  <a:lnTo>
                    <a:pt x="4997" y="2392"/>
                  </a:lnTo>
                  <a:lnTo>
                    <a:pt x="5000" y="2520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81280" y="2004840"/>
              <a:ext cx="1984320" cy="1984320"/>
            </a:xfrm>
            <a:custGeom>
              <a:avLst/>
              <a:gdLst/>
              <a:ahLst/>
              <a:rect l="l" t="t" r="r" b="b"/>
              <a:pathLst>
                <a:path w="5000" h="4998">
                  <a:moveTo>
                    <a:pt x="5000" y="2499"/>
                  </a:moveTo>
                  <a:lnTo>
                    <a:pt x="4997" y="2370"/>
                  </a:lnTo>
                  <a:lnTo>
                    <a:pt x="4987" y="2243"/>
                  </a:lnTo>
                  <a:lnTo>
                    <a:pt x="4972" y="2117"/>
                  </a:lnTo>
                  <a:lnTo>
                    <a:pt x="4949" y="1994"/>
                  </a:lnTo>
                  <a:lnTo>
                    <a:pt x="4921" y="1874"/>
                  </a:lnTo>
                  <a:lnTo>
                    <a:pt x="4888" y="1756"/>
                  </a:lnTo>
                  <a:lnTo>
                    <a:pt x="4849" y="1639"/>
                  </a:lnTo>
                  <a:lnTo>
                    <a:pt x="4803" y="1526"/>
                  </a:lnTo>
                  <a:lnTo>
                    <a:pt x="4754" y="1415"/>
                  </a:lnTo>
                  <a:lnTo>
                    <a:pt x="4699" y="1307"/>
                  </a:lnTo>
                  <a:lnTo>
                    <a:pt x="4638" y="1203"/>
                  </a:lnTo>
                  <a:lnTo>
                    <a:pt x="4573" y="1101"/>
                  </a:lnTo>
                  <a:lnTo>
                    <a:pt x="4504" y="1003"/>
                  </a:lnTo>
                  <a:lnTo>
                    <a:pt x="4429" y="909"/>
                  </a:lnTo>
                  <a:lnTo>
                    <a:pt x="4351" y="818"/>
                  </a:lnTo>
                  <a:lnTo>
                    <a:pt x="4268" y="732"/>
                  </a:lnTo>
                  <a:lnTo>
                    <a:pt x="4181" y="649"/>
                  </a:lnTo>
                  <a:lnTo>
                    <a:pt x="4090" y="570"/>
                  </a:lnTo>
                  <a:lnTo>
                    <a:pt x="3996" y="496"/>
                  </a:lnTo>
                  <a:lnTo>
                    <a:pt x="3898" y="426"/>
                  </a:lnTo>
                  <a:lnTo>
                    <a:pt x="3796" y="361"/>
                  </a:lnTo>
                  <a:lnTo>
                    <a:pt x="3691" y="301"/>
                  </a:lnTo>
                  <a:lnTo>
                    <a:pt x="3585" y="246"/>
                  </a:lnTo>
                  <a:lnTo>
                    <a:pt x="3473" y="196"/>
                  </a:lnTo>
                  <a:lnTo>
                    <a:pt x="3360" y="151"/>
                  </a:lnTo>
                  <a:lnTo>
                    <a:pt x="3243" y="112"/>
                  </a:lnTo>
                  <a:lnTo>
                    <a:pt x="3125" y="78"/>
                  </a:lnTo>
                  <a:lnTo>
                    <a:pt x="3004" y="50"/>
                  </a:lnTo>
                  <a:lnTo>
                    <a:pt x="2881" y="29"/>
                  </a:lnTo>
                  <a:lnTo>
                    <a:pt x="2756" y="13"/>
                  </a:lnTo>
                  <a:lnTo>
                    <a:pt x="2629" y="3"/>
                  </a:lnTo>
                  <a:lnTo>
                    <a:pt x="2500" y="0"/>
                  </a:lnTo>
                  <a:lnTo>
                    <a:pt x="2371" y="3"/>
                  </a:lnTo>
                  <a:lnTo>
                    <a:pt x="2245" y="13"/>
                  </a:lnTo>
                  <a:lnTo>
                    <a:pt x="2119" y="29"/>
                  </a:lnTo>
                  <a:lnTo>
                    <a:pt x="1996" y="50"/>
                  </a:lnTo>
                  <a:lnTo>
                    <a:pt x="1875" y="78"/>
                  </a:lnTo>
                  <a:lnTo>
                    <a:pt x="1756" y="112"/>
                  </a:lnTo>
                  <a:lnTo>
                    <a:pt x="1641" y="151"/>
                  </a:lnTo>
                  <a:lnTo>
                    <a:pt x="1527" y="196"/>
                  </a:lnTo>
                  <a:lnTo>
                    <a:pt x="1416" y="246"/>
                  </a:lnTo>
                  <a:lnTo>
                    <a:pt x="1309" y="301"/>
                  </a:lnTo>
                  <a:lnTo>
                    <a:pt x="1204" y="361"/>
                  </a:lnTo>
                  <a:lnTo>
                    <a:pt x="1103" y="426"/>
                  </a:lnTo>
                  <a:lnTo>
                    <a:pt x="1004" y="496"/>
                  </a:lnTo>
                  <a:lnTo>
                    <a:pt x="910" y="570"/>
                  </a:lnTo>
                  <a:lnTo>
                    <a:pt x="819" y="649"/>
                  </a:lnTo>
                  <a:lnTo>
                    <a:pt x="732" y="732"/>
                  </a:lnTo>
                  <a:lnTo>
                    <a:pt x="650" y="818"/>
                  </a:lnTo>
                  <a:lnTo>
                    <a:pt x="571" y="909"/>
                  </a:lnTo>
                  <a:lnTo>
                    <a:pt x="496" y="1003"/>
                  </a:lnTo>
                  <a:lnTo>
                    <a:pt x="427" y="1101"/>
                  </a:lnTo>
                  <a:lnTo>
                    <a:pt x="362" y="1203"/>
                  </a:lnTo>
                  <a:lnTo>
                    <a:pt x="302" y="1307"/>
                  </a:lnTo>
                  <a:lnTo>
                    <a:pt x="247" y="1415"/>
                  </a:lnTo>
                  <a:lnTo>
                    <a:pt x="197" y="1526"/>
                  </a:lnTo>
                  <a:lnTo>
                    <a:pt x="152" y="1639"/>
                  </a:lnTo>
                  <a:lnTo>
                    <a:pt x="113" y="1756"/>
                  </a:lnTo>
                  <a:lnTo>
                    <a:pt x="79" y="1874"/>
                  </a:lnTo>
                  <a:lnTo>
                    <a:pt x="51" y="1994"/>
                  </a:lnTo>
                  <a:lnTo>
                    <a:pt x="28" y="2117"/>
                  </a:lnTo>
                  <a:lnTo>
                    <a:pt x="13" y="2243"/>
                  </a:lnTo>
                  <a:lnTo>
                    <a:pt x="4" y="2370"/>
                  </a:lnTo>
                  <a:lnTo>
                    <a:pt x="0" y="2499"/>
                  </a:lnTo>
                  <a:lnTo>
                    <a:pt x="4" y="2627"/>
                  </a:lnTo>
                  <a:lnTo>
                    <a:pt x="13" y="2754"/>
                  </a:lnTo>
                  <a:lnTo>
                    <a:pt x="28" y="2879"/>
                  </a:lnTo>
                  <a:lnTo>
                    <a:pt x="51" y="3002"/>
                  </a:lnTo>
                  <a:lnTo>
                    <a:pt x="79" y="3123"/>
                  </a:lnTo>
                  <a:lnTo>
                    <a:pt x="113" y="3242"/>
                  </a:lnTo>
                  <a:lnTo>
                    <a:pt x="152" y="3357"/>
                  </a:lnTo>
                  <a:lnTo>
                    <a:pt x="197" y="3471"/>
                  </a:lnTo>
                  <a:lnTo>
                    <a:pt x="247" y="3582"/>
                  </a:lnTo>
                  <a:lnTo>
                    <a:pt x="302" y="3690"/>
                  </a:lnTo>
                  <a:lnTo>
                    <a:pt x="362" y="3795"/>
                  </a:lnTo>
                  <a:lnTo>
                    <a:pt x="427" y="3895"/>
                  </a:lnTo>
                  <a:lnTo>
                    <a:pt x="496" y="3993"/>
                  </a:lnTo>
                  <a:lnTo>
                    <a:pt x="571" y="4088"/>
                  </a:lnTo>
                  <a:lnTo>
                    <a:pt x="650" y="4178"/>
                  </a:lnTo>
                  <a:lnTo>
                    <a:pt x="732" y="4266"/>
                  </a:lnTo>
                  <a:lnTo>
                    <a:pt x="819" y="4348"/>
                  </a:lnTo>
                  <a:lnTo>
                    <a:pt x="910" y="4426"/>
                  </a:lnTo>
                  <a:lnTo>
                    <a:pt x="1004" y="4501"/>
                  </a:lnTo>
                  <a:lnTo>
                    <a:pt x="1103" y="4570"/>
                  </a:lnTo>
                  <a:lnTo>
                    <a:pt x="1204" y="4636"/>
                  </a:lnTo>
                  <a:lnTo>
                    <a:pt x="1309" y="4695"/>
                  </a:lnTo>
                  <a:lnTo>
                    <a:pt x="1416" y="4750"/>
                  </a:lnTo>
                  <a:lnTo>
                    <a:pt x="1527" y="4801"/>
                  </a:lnTo>
                  <a:lnTo>
                    <a:pt x="1641" y="4846"/>
                  </a:lnTo>
                  <a:lnTo>
                    <a:pt x="1756" y="4885"/>
                  </a:lnTo>
                  <a:lnTo>
                    <a:pt x="1875" y="4919"/>
                  </a:lnTo>
                  <a:lnTo>
                    <a:pt x="1996" y="4947"/>
                  </a:lnTo>
                  <a:lnTo>
                    <a:pt x="2119" y="4969"/>
                  </a:lnTo>
                  <a:lnTo>
                    <a:pt x="2245" y="4985"/>
                  </a:lnTo>
                  <a:lnTo>
                    <a:pt x="2371" y="4995"/>
                  </a:lnTo>
                  <a:lnTo>
                    <a:pt x="2500" y="4998"/>
                  </a:lnTo>
                  <a:lnTo>
                    <a:pt x="2629" y="4995"/>
                  </a:lnTo>
                  <a:lnTo>
                    <a:pt x="2756" y="4985"/>
                  </a:lnTo>
                  <a:lnTo>
                    <a:pt x="2881" y="4969"/>
                  </a:lnTo>
                  <a:lnTo>
                    <a:pt x="3004" y="4947"/>
                  </a:lnTo>
                  <a:lnTo>
                    <a:pt x="3125" y="4919"/>
                  </a:lnTo>
                  <a:lnTo>
                    <a:pt x="3243" y="4885"/>
                  </a:lnTo>
                  <a:lnTo>
                    <a:pt x="3360" y="4846"/>
                  </a:lnTo>
                  <a:lnTo>
                    <a:pt x="3473" y="4801"/>
                  </a:lnTo>
                  <a:lnTo>
                    <a:pt x="3585" y="4750"/>
                  </a:lnTo>
                  <a:lnTo>
                    <a:pt x="3691" y="4695"/>
                  </a:lnTo>
                  <a:lnTo>
                    <a:pt x="3796" y="4636"/>
                  </a:lnTo>
                  <a:lnTo>
                    <a:pt x="3898" y="4570"/>
                  </a:lnTo>
                  <a:lnTo>
                    <a:pt x="3996" y="4501"/>
                  </a:lnTo>
                  <a:lnTo>
                    <a:pt x="4090" y="4426"/>
                  </a:lnTo>
                  <a:lnTo>
                    <a:pt x="4181" y="4348"/>
                  </a:lnTo>
                  <a:lnTo>
                    <a:pt x="4268" y="4266"/>
                  </a:lnTo>
                  <a:lnTo>
                    <a:pt x="4351" y="4178"/>
                  </a:lnTo>
                  <a:lnTo>
                    <a:pt x="4429" y="4088"/>
                  </a:lnTo>
                  <a:lnTo>
                    <a:pt x="4504" y="3993"/>
                  </a:lnTo>
                  <a:lnTo>
                    <a:pt x="4573" y="3895"/>
                  </a:lnTo>
                  <a:lnTo>
                    <a:pt x="4638" y="3795"/>
                  </a:lnTo>
                  <a:lnTo>
                    <a:pt x="4699" y="3690"/>
                  </a:lnTo>
                  <a:lnTo>
                    <a:pt x="4754" y="3582"/>
                  </a:lnTo>
                  <a:lnTo>
                    <a:pt x="4803" y="3471"/>
                  </a:lnTo>
                  <a:lnTo>
                    <a:pt x="4849" y="3357"/>
                  </a:lnTo>
                  <a:lnTo>
                    <a:pt x="4888" y="3242"/>
                  </a:lnTo>
                  <a:lnTo>
                    <a:pt x="4921" y="3123"/>
                  </a:lnTo>
                  <a:lnTo>
                    <a:pt x="4949" y="3002"/>
                  </a:lnTo>
                  <a:lnTo>
                    <a:pt x="4972" y="2879"/>
                  </a:lnTo>
                  <a:lnTo>
                    <a:pt x="4987" y="2754"/>
                  </a:lnTo>
                  <a:lnTo>
                    <a:pt x="4997" y="2627"/>
                  </a:lnTo>
                  <a:lnTo>
                    <a:pt x="5000" y="2499"/>
                  </a:lnTo>
                  <a:close/>
                  <a:moveTo>
                    <a:pt x="4959" y="2499"/>
                  </a:moveTo>
                  <a:lnTo>
                    <a:pt x="4956" y="2625"/>
                  </a:lnTo>
                  <a:lnTo>
                    <a:pt x="4946" y="2749"/>
                  </a:lnTo>
                  <a:lnTo>
                    <a:pt x="4930" y="2872"/>
                  </a:lnTo>
                  <a:lnTo>
                    <a:pt x="4908" y="2993"/>
                  </a:lnTo>
                  <a:lnTo>
                    <a:pt x="4881" y="3112"/>
                  </a:lnTo>
                  <a:lnTo>
                    <a:pt x="4848" y="3229"/>
                  </a:lnTo>
                  <a:lnTo>
                    <a:pt x="4810" y="3343"/>
                  </a:lnTo>
                  <a:lnTo>
                    <a:pt x="4766" y="3454"/>
                  </a:lnTo>
                  <a:lnTo>
                    <a:pt x="4716" y="3564"/>
                  </a:lnTo>
                  <a:lnTo>
                    <a:pt x="4662" y="3669"/>
                  </a:lnTo>
                  <a:lnTo>
                    <a:pt x="4602" y="3773"/>
                  </a:lnTo>
                  <a:lnTo>
                    <a:pt x="4539" y="3872"/>
                  </a:lnTo>
                  <a:lnTo>
                    <a:pt x="4471" y="3969"/>
                  </a:lnTo>
                  <a:lnTo>
                    <a:pt x="4397" y="4061"/>
                  </a:lnTo>
                  <a:lnTo>
                    <a:pt x="4320" y="4151"/>
                  </a:lnTo>
                  <a:lnTo>
                    <a:pt x="4238" y="4236"/>
                  </a:lnTo>
                  <a:lnTo>
                    <a:pt x="4153" y="4317"/>
                  </a:lnTo>
                  <a:lnTo>
                    <a:pt x="4064" y="4394"/>
                  </a:lnTo>
                  <a:lnTo>
                    <a:pt x="3971" y="4468"/>
                  </a:lnTo>
                  <a:lnTo>
                    <a:pt x="3875" y="4536"/>
                  </a:lnTo>
                  <a:lnTo>
                    <a:pt x="3775" y="4600"/>
                  </a:lnTo>
                  <a:lnTo>
                    <a:pt x="3672" y="4659"/>
                  </a:lnTo>
                  <a:lnTo>
                    <a:pt x="3566" y="4714"/>
                  </a:lnTo>
                  <a:lnTo>
                    <a:pt x="3457" y="4762"/>
                  </a:lnTo>
                  <a:lnTo>
                    <a:pt x="3346" y="4807"/>
                  </a:lnTo>
                  <a:lnTo>
                    <a:pt x="3231" y="4846"/>
                  </a:lnTo>
                  <a:lnTo>
                    <a:pt x="3114" y="4878"/>
                  </a:lnTo>
                  <a:lnTo>
                    <a:pt x="2996" y="4906"/>
                  </a:lnTo>
                  <a:lnTo>
                    <a:pt x="2875" y="4928"/>
                  </a:lnTo>
                  <a:lnTo>
                    <a:pt x="2751" y="4943"/>
                  </a:lnTo>
                  <a:lnTo>
                    <a:pt x="2627" y="4952"/>
                  </a:lnTo>
                  <a:lnTo>
                    <a:pt x="2500" y="4956"/>
                  </a:lnTo>
                  <a:lnTo>
                    <a:pt x="2373" y="4952"/>
                  </a:lnTo>
                  <a:lnTo>
                    <a:pt x="2249" y="4943"/>
                  </a:lnTo>
                  <a:lnTo>
                    <a:pt x="2126" y="4928"/>
                  </a:lnTo>
                  <a:lnTo>
                    <a:pt x="2005" y="4906"/>
                  </a:lnTo>
                  <a:lnTo>
                    <a:pt x="1886" y="4878"/>
                  </a:lnTo>
                  <a:lnTo>
                    <a:pt x="1769" y="4846"/>
                  </a:lnTo>
                  <a:lnTo>
                    <a:pt x="1655" y="4807"/>
                  </a:lnTo>
                  <a:lnTo>
                    <a:pt x="1543" y="4762"/>
                  </a:lnTo>
                  <a:lnTo>
                    <a:pt x="1434" y="4714"/>
                  </a:lnTo>
                  <a:lnTo>
                    <a:pt x="1328" y="4659"/>
                  </a:lnTo>
                  <a:lnTo>
                    <a:pt x="1226" y="4600"/>
                  </a:lnTo>
                  <a:lnTo>
                    <a:pt x="1125" y="4536"/>
                  </a:lnTo>
                  <a:lnTo>
                    <a:pt x="1029" y="4468"/>
                  </a:lnTo>
                  <a:lnTo>
                    <a:pt x="936" y="4394"/>
                  </a:lnTo>
                  <a:lnTo>
                    <a:pt x="848" y="4317"/>
                  </a:lnTo>
                  <a:lnTo>
                    <a:pt x="762" y="4236"/>
                  </a:lnTo>
                  <a:lnTo>
                    <a:pt x="680" y="4151"/>
                  </a:lnTo>
                  <a:lnTo>
                    <a:pt x="603" y="4061"/>
                  </a:lnTo>
                  <a:lnTo>
                    <a:pt x="530" y="3969"/>
                  </a:lnTo>
                  <a:lnTo>
                    <a:pt x="462" y="3872"/>
                  </a:lnTo>
                  <a:lnTo>
                    <a:pt x="398" y="3773"/>
                  </a:lnTo>
                  <a:lnTo>
                    <a:pt x="339" y="3669"/>
                  </a:lnTo>
                  <a:lnTo>
                    <a:pt x="285" y="3564"/>
                  </a:lnTo>
                  <a:lnTo>
                    <a:pt x="235" y="3454"/>
                  </a:lnTo>
                  <a:lnTo>
                    <a:pt x="191" y="3343"/>
                  </a:lnTo>
                  <a:lnTo>
                    <a:pt x="153" y="3229"/>
                  </a:lnTo>
                  <a:lnTo>
                    <a:pt x="119" y="3112"/>
                  </a:lnTo>
                  <a:lnTo>
                    <a:pt x="92" y="2993"/>
                  </a:lnTo>
                  <a:lnTo>
                    <a:pt x="70" y="2872"/>
                  </a:lnTo>
                  <a:lnTo>
                    <a:pt x="54" y="2749"/>
                  </a:lnTo>
                  <a:lnTo>
                    <a:pt x="45" y="2625"/>
                  </a:lnTo>
                  <a:lnTo>
                    <a:pt x="41" y="2499"/>
                  </a:lnTo>
                  <a:lnTo>
                    <a:pt x="45" y="2372"/>
                  </a:lnTo>
                  <a:lnTo>
                    <a:pt x="54" y="2247"/>
                  </a:lnTo>
                  <a:lnTo>
                    <a:pt x="70" y="2124"/>
                  </a:lnTo>
                  <a:lnTo>
                    <a:pt x="92" y="2003"/>
                  </a:lnTo>
                  <a:lnTo>
                    <a:pt x="119" y="1884"/>
                  </a:lnTo>
                  <a:lnTo>
                    <a:pt x="153" y="1768"/>
                  </a:lnTo>
                  <a:lnTo>
                    <a:pt x="191" y="1653"/>
                  </a:lnTo>
                  <a:lnTo>
                    <a:pt x="235" y="1542"/>
                  </a:lnTo>
                  <a:lnTo>
                    <a:pt x="285" y="1433"/>
                  </a:lnTo>
                  <a:lnTo>
                    <a:pt x="339" y="1327"/>
                  </a:lnTo>
                  <a:lnTo>
                    <a:pt x="398" y="1224"/>
                  </a:lnTo>
                  <a:lnTo>
                    <a:pt x="462" y="1125"/>
                  </a:lnTo>
                  <a:lnTo>
                    <a:pt x="530" y="1028"/>
                  </a:lnTo>
                  <a:lnTo>
                    <a:pt x="603" y="936"/>
                  </a:lnTo>
                  <a:lnTo>
                    <a:pt x="680" y="846"/>
                  </a:lnTo>
                  <a:lnTo>
                    <a:pt x="762" y="761"/>
                  </a:lnTo>
                  <a:lnTo>
                    <a:pt x="848" y="680"/>
                  </a:lnTo>
                  <a:lnTo>
                    <a:pt x="936" y="602"/>
                  </a:lnTo>
                  <a:lnTo>
                    <a:pt x="1029" y="530"/>
                  </a:lnTo>
                  <a:lnTo>
                    <a:pt x="1125" y="461"/>
                  </a:lnTo>
                  <a:lnTo>
                    <a:pt x="1226" y="397"/>
                  </a:lnTo>
                  <a:lnTo>
                    <a:pt x="1328" y="338"/>
                  </a:lnTo>
                  <a:lnTo>
                    <a:pt x="1434" y="284"/>
                  </a:lnTo>
                  <a:lnTo>
                    <a:pt x="1543" y="234"/>
                  </a:lnTo>
                  <a:lnTo>
                    <a:pt x="1655" y="191"/>
                  </a:lnTo>
                  <a:lnTo>
                    <a:pt x="1769" y="152"/>
                  </a:lnTo>
                  <a:lnTo>
                    <a:pt x="1886" y="118"/>
                  </a:lnTo>
                  <a:lnTo>
                    <a:pt x="2005" y="91"/>
                  </a:lnTo>
                  <a:lnTo>
                    <a:pt x="2126" y="70"/>
                  </a:lnTo>
                  <a:lnTo>
                    <a:pt x="2249" y="54"/>
                  </a:lnTo>
                  <a:lnTo>
                    <a:pt x="2373" y="44"/>
                  </a:lnTo>
                  <a:lnTo>
                    <a:pt x="2500" y="41"/>
                  </a:lnTo>
                  <a:lnTo>
                    <a:pt x="2627" y="44"/>
                  </a:lnTo>
                  <a:lnTo>
                    <a:pt x="2751" y="54"/>
                  </a:lnTo>
                  <a:lnTo>
                    <a:pt x="2875" y="70"/>
                  </a:lnTo>
                  <a:lnTo>
                    <a:pt x="2996" y="91"/>
                  </a:lnTo>
                  <a:lnTo>
                    <a:pt x="3114" y="118"/>
                  </a:lnTo>
                  <a:lnTo>
                    <a:pt x="3231" y="152"/>
                  </a:lnTo>
                  <a:lnTo>
                    <a:pt x="3346" y="191"/>
                  </a:lnTo>
                  <a:lnTo>
                    <a:pt x="3457" y="234"/>
                  </a:lnTo>
                  <a:lnTo>
                    <a:pt x="3566" y="284"/>
                  </a:lnTo>
                  <a:lnTo>
                    <a:pt x="3672" y="338"/>
                  </a:lnTo>
                  <a:lnTo>
                    <a:pt x="3775" y="397"/>
                  </a:lnTo>
                  <a:lnTo>
                    <a:pt x="3875" y="461"/>
                  </a:lnTo>
                  <a:lnTo>
                    <a:pt x="3971" y="530"/>
                  </a:lnTo>
                  <a:lnTo>
                    <a:pt x="4064" y="602"/>
                  </a:lnTo>
                  <a:lnTo>
                    <a:pt x="4153" y="680"/>
                  </a:lnTo>
                  <a:lnTo>
                    <a:pt x="4238" y="761"/>
                  </a:lnTo>
                  <a:lnTo>
                    <a:pt x="4320" y="846"/>
                  </a:lnTo>
                  <a:lnTo>
                    <a:pt x="4397" y="936"/>
                  </a:lnTo>
                  <a:lnTo>
                    <a:pt x="4471" y="1028"/>
                  </a:lnTo>
                  <a:lnTo>
                    <a:pt x="4539" y="1125"/>
                  </a:lnTo>
                  <a:lnTo>
                    <a:pt x="4602" y="1224"/>
                  </a:lnTo>
                  <a:lnTo>
                    <a:pt x="4662" y="1327"/>
                  </a:lnTo>
                  <a:lnTo>
                    <a:pt x="4716" y="1433"/>
                  </a:lnTo>
                  <a:lnTo>
                    <a:pt x="4766" y="1542"/>
                  </a:lnTo>
                  <a:lnTo>
                    <a:pt x="4810" y="1653"/>
                  </a:lnTo>
                  <a:lnTo>
                    <a:pt x="4848" y="1768"/>
                  </a:lnTo>
                  <a:lnTo>
                    <a:pt x="4881" y="1884"/>
                  </a:lnTo>
                  <a:lnTo>
                    <a:pt x="4908" y="2003"/>
                  </a:lnTo>
                  <a:lnTo>
                    <a:pt x="4930" y="2124"/>
                  </a:lnTo>
                  <a:lnTo>
                    <a:pt x="4946" y="2247"/>
                  </a:lnTo>
                  <a:lnTo>
                    <a:pt x="4956" y="2372"/>
                  </a:lnTo>
                  <a:lnTo>
                    <a:pt x="4959" y="249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89200" y="2014560"/>
              <a:ext cx="1968480" cy="1966680"/>
            </a:xfrm>
            <a:custGeom>
              <a:avLst/>
              <a:gdLst/>
              <a:ahLst/>
              <a:rect l="l" t="t" r="r" b="b"/>
              <a:pathLst>
                <a:path w="4958" h="4956">
                  <a:moveTo>
                    <a:pt x="4958" y="2479"/>
                  </a:moveTo>
                  <a:lnTo>
                    <a:pt x="4955" y="2351"/>
                  </a:lnTo>
                  <a:lnTo>
                    <a:pt x="4946" y="2225"/>
                  </a:lnTo>
                  <a:lnTo>
                    <a:pt x="4930" y="2101"/>
                  </a:lnTo>
                  <a:lnTo>
                    <a:pt x="4908" y="1979"/>
                  </a:lnTo>
                  <a:lnTo>
                    <a:pt x="4881" y="1859"/>
                  </a:lnTo>
                  <a:lnTo>
                    <a:pt x="4847" y="1741"/>
                  </a:lnTo>
                  <a:lnTo>
                    <a:pt x="4808" y="1627"/>
                  </a:lnTo>
                  <a:lnTo>
                    <a:pt x="4764" y="1514"/>
                  </a:lnTo>
                  <a:lnTo>
                    <a:pt x="4714" y="1404"/>
                  </a:lnTo>
                  <a:lnTo>
                    <a:pt x="4659" y="1297"/>
                  </a:lnTo>
                  <a:lnTo>
                    <a:pt x="4600" y="1193"/>
                  </a:lnTo>
                  <a:lnTo>
                    <a:pt x="4535" y="1093"/>
                  </a:lnTo>
                  <a:lnTo>
                    <a:pt x="4466" y="996"/>
                  </a:lnTo>
                  <a:lnTo>
                    <a:pt x="4392" y="902"/>
                  </a:lnTo>
                  <a:lnTo>
                    <a:pt x="4314" y="812"/>
                  </a:lnTo>
                  <a:lnTo>
                    <a:pt x="4232" y="726"/>
                  </a:lnTo>
                  <a:lnTo>
                    <a:pt x="4146" y="644"/>
                  </a:lnTo>
                  <a:lnTo>
                    <a:pt x="4056" y="566"/>
                  </a:lnTo>
                  <a:lnTo>
                    <a:pt x="3962" y="493"/>
                  </a:lnTo>
                  <a:lnTo>
                    <a:pt x="3865" y="423"/>
                  </a:lnTo>
                  <a:lnTo>
                    <a:pt x="3764" y="359"/>
                  </a:lnTo>
                  <a:lnTo>
                    <a:pt x="3661" y="299"/>
                  </a:lnTo>
                  <a:lnTo>
                    <a:pt x="3554" y="244"/>
                  </a:lnTo>
                  <a:lnTo>
                    <a:pt x="3445" y="196"/>
                  </a:lnTo>
                  <a:lnTo>
                    <a:pt x="3331" y="150"/>
                  </a:lnTo>
                  <a:lnTo>
                    <a:pt x="3217" y="111"/>
                  </a:lnTo>
                  <a:lnTo>
                    <a:pt x="3099" y="78"/>
                  </a:lnTo>
                  <a:lnTo>
                    <a:pt x="2979" y="51"/>
                  </a:lnTo>
                  <a:lnTo>
                    <a:pt x="2857" y="29"/>
                  </a:lnTo>
                  <a:lnTo>
                    <a:pt x="2733" y="13"/>
                  </a:lnTo>
                  <a:lnTo>
                    <a:pt x="2607" y="3"/>
                  </a:lnTo>
                  <a:lnTo>
                    <a:pt x="2479" y="0"/>
                  </a:lnTo>
                  <a:lnTo>
                    <a:pt x="2351" y="3"/>
                  </a:lnTo>
                  <a:lnTo>
                    <a:pt x="2226" y="13"/>
                  </a:lnTo>
                  <a:lnTo>
                    <a:pt x="2102" y="29"/>
                  </a:lnTo>
                  <a:lnTo>
                    <a:pt x="1979" y="51"/>
                  </a:lnTo>
                  <a:lnTo>
                    <a:pt x="1859" y="78"/>
                  </a:lnTo>
                  <a:lnTo>
                    <a:pt x="1742" y="111"/>
                  </a:lnTo>
                  <a:lnTo>
                    <a:pt x="1627" y="150"/>
                  </a:lnTo>
                  <a:lnTo>
                    <a:pt x="1514" y="196"/>
                  </a:lnTo>
                  <a:lnTo>
                    <a:pt x="1405" y="244"/>
                  </a:lnTo>
                  <a:lnTo>
                    <a:pt x="1298" y="299"/>
                  </a:lnTo>
                  <a:lnTo>
                    <a:pt x="1194" y="359"/>
                  </a:lnTo>
                  <a:lnTo>
                    <a:pt x="1093" y="423"/>
                  </a:lnTo>
                  <a:lnTo>
                    <a:pt x="996" y="493"/>
                  </a:lnTo>
                  <a:lnTo>
                    <a:pt x="902" y="566"/>
                  </a:lnTo>
                  <a:lnTo>
                    <a:pt x="812" y="644"/>
                  </a:lnTo>
                  <a:lnTo>
                    <a:pt x="726" y="726"/>
                  </a:lnTo>
                  <a:lnTo>
                    <a:pt x="644" y="812"/>
                  </a:lnTo>
                  <a:lnTo>
                    <a:pt x="566" y="902"/>
                  </a:lnTo>
                  <a:lnTo>
                    <a:pt x="493" y="996"/>
                  </a:lnTo>
                  <a:lnTo>
                    <a:pt x="423" y="1093"/>
                  </a:lnTo>
                  <a:lnTo>
                    <a:pt x="359" y="1193"/>
                  </a:lnTo>
                  <a:lnTo>
                    <a:pt x="299" y="1297"/>
                  </a:lnTo>
                  <a:lnTo>
                    <a:pt x="244" y="1404"/>
                  </a:lnTo>
                  <a:lnTo>
                    <a:pt x="194" y="1514"/>
                  </a:lnTo>
                  <a:lnTo>
                    <a:pt x="150" y="1627"/>
                  </a:lnTo>
                  <a:lnTo>
                    <a:pt x="111" y="1741"/>
                  </a:lnTo>
                  <a:lnTo>
                    <a:pt x="78" y="1859"/>
                  </a:lnTo>
                  <a:lnTo>
                    <a:pt x="51" y="1979"/>
                  </a:lnTo>
                  <a:lnTo>
                    <a:pt x="28" y="2101"/>
                  </a:lnTo>
                  <a:lnTo>
                    <a:pt x="13" y="2225"/>
                  </a:lnTo>
                  <a:lnTo>
                    <a:pt x="3" y="2351"/>
                  </a:lnTo>
                  <a:lnTo>
                    <a:pt x="0" y="2479"/>
                  </a:lnTo>
                  <a:lnTo>
                    <a:pt x="3" y="2606"/>
                  </a:lnTo>
                  <a:lnTo>
                    <a:pt x="13" y="2731"/>
                  </a:lnTo>
                  <a:lnTo>
                    <a:pt x="28" y="2856"/>
                  </a:lnTo>
                  <a:lnTo>
                    <a:pt x="51" y="2978"/>
                  </a:lnTo>
                  <a:lnTo>
                    <a:pt x="78" y="3098"/>
                  </a:lnTo>
                  <a:lnTo>
                    <a:pt x="111" y="3215"/>
                  </a:lnTo>
                  <a:lnTo>
                    <a:pt x="150" y="3331"/>
                  </a:lnTo>
                  <a:lnTo>
                    <a:pt x="194" y="3443"/>
                  </a:lnTo>
                  <a:lnTo>
                    <a:pt x="244" y="3553"/>
                  </a:lnTo>
                  <a:lnTo>
                    <a:pt x="299" y="3659"/>
                  </a:lnTo>
                  <a:lnTo>
                    <a:pt x="359" y="3764"/>
                  </a:lnTo>
                  <a:lnTo>
                    <a:pt x="423" y="3864"/>
                  </a:lnTo>
                  <a:lnTo>
                    <a:pt x="493" y="3962"/>
                  </a:lnTo>
                  <a:lnTo>
                    <a:pt x="566" y="4054"/>
                  </a:lnTo>
                  <a:lnTo>
                    <a:pt x="644" y="4145"/>
                  </a:lnTo>
                  <a:lnTo>
                    <a:pt x="726" y="4230"/>
                  </a:lnTo>
                  <a:lnTo>
                    <a:pt x="812" y="4313"/>
                  </a:lnTo>
                  <a:lnTo>
                    <a:pt x="902" y="4390"/>
                  </a:lnTo>
                  <a:lnTo>
                    <a:pt x="996" y="4464"/>
                  </a:lnTo>
                  <a:lnTo>
                    <a:pt x="1093" y="4533"/>
                  </a:lnTo>
                  <a:lnTo>
                    <a:pt x="1194" y="4598"/>
                  </a:lnTo>
                  <a:lnTo>
                    <a:pt x="1298" y="4657"/>
                  </a:lnTo>
                  <a:lnTo>
                    <a:pt x="1405" y="4712"/>
                  </a:lnTo>
                  <a:lnTo>
                    <a:pt x="1514" y="4762"/>
                  </a:lnTo>
                  <a:lnTo>
                    <a:pt x="1627" y="4806"/>
                  </a:lnTo>
                  <a:lnTo>
                    <a:pt x="1742" y="4845"/>
                  </a:lnTo>
                  <a:lnTo>
                    <a:pt x="1859" y="4878"/>
                  </a:lnTo>
                  <a:lnTo>
                    <a:pt x="1979" y="4907"/>
                  </a:lnTo>
                  <a:lnTo>
                    <a:pt x="2102" y="4928"/>
                  </a:lnTo>
                  <a:lnTo>
                    <a:pt x="2226" y="4943"/>
                  </a:lnTo>
                  <a:lnTo>
                    <a:pt x="2351" y="4953"/>
                  </a:lnTo>
                  <a:lnTo>
                    <a:pt x="2479" y="4956"/>
                  </a:lnTo>
                  <a:lnTo>
                    <a:pt x="2607" y="4953"/>
                  </a:lnTo>
                  <a:lnTo>
                    <a:pt x="2733" y="4943"/>
                  </a:lnTo>
                  <a:lnTo>
                    <a:pt x="2857" y="4928"/>
                  </a:lnTo>
                  <a:lnTo>
                    <a:pt x="2979" y="4907"/>
                  </a:lnTo>
                  <a:lnTo>
                    <a:pt x="3099" y="4878"/>
                  </a:lnTo>
                  <a:lnTo>
                    <a:pt x="3217" y="4845"/>
                  </a:lnTo>
                  <a:lnTo>
                    <a:pt x="3331" y="4806"/>
                  </a:lnTo>
                  <a:lnTo>
                    <a:pt x="3445" y="4762"/>
                  </a:lnTo>
                  <a:lnTo>
                    <a:pt x="3554" y="4712"/>
                  </a:lnTo>
                  <a:lnTo>
                    <a:pt x="3661" y="4657"/>
                  </a:lnTo>
                  <a:lnTo>
                    <a:pt x="3764" y="4598"/>
                  </a:lnTo>
                  <a:lnTo>
                    <a:pt x="3865" y="4533"/>
                  </a:lnTo>
                  <a:lnTo>
                    <a:pt x="3962" y="4464"/>
                  </a:lnTo>
                  <a:lnTo>
                    <a:pt x="4056" y="4390"/>
                  </a:lnTo>
                  <a:lnTo>
                    <a:pt x="4146" y="4313"/>
                  </a:lnTo>
                  <a:lnTo>
                    <a:pt x="4232" y="4230"/>
                  </a:lnTo>
                  <a:lnTo>
                    <a:pt x="4314" y="4145"/>
                  </a:lnTo>
                  <a:lnTo>
                    <a:pt x="4392" y="4054"/>
                  </a:lnTo>
                  <a:lnTo>
                    <a:pt x="4466" y="3962"/>
                  </a:lnTo>
                  <a:lnTo>
                    <a:pt x="4535" y="3864"/>
                  </a:lnTo>
                  <a:lnTo>
                    <a:pt x="4600" y="3764"/>
                  </a:lnTo>
                  <a:lnTo>
                    <a:pt x="4659" y="3659"/>
                  </a:lnTo>
                  <a:lnTo>
                    <a:pt x="4714" y="3553"/>
                  </a:lnTo>
                  <a:lnTo>
                    <a:pt x="4764" y="3443"/>
                  </a:lnTo>
                  <a:lnTo>
                    <a:pt x="4808" y="3331"/>
                  </a:lnTo>
                  <a:lnTo>
                    <a:pt x="4847" y="3215"/>
                  </a:lnTo>
                  <a:lnTo>
                    <a:pt x="4881" y="3098"/>
                  </a:lnTo>
                  <a:lnTo>
                    <a:pt x="4908" y="2978"/>
                  </a:lnTo>
                  <a:lnTo>
                    <a:pt x="4930" y="2856"/>
                  </a:lnTo>
                  <a:lnTo>
                    <a:pt x="4946" y="2731"/>
                  </a:lnTo>
                  <a:lnTo>
                    <a:pt x="4955" y="2606"/>
                  </a:lnTo>
                  <a:lnTo>
                    <a:pt x="4958" y="2479"/>
                  </a:lnTo>
                  <a:close/>
                  <a:moveTo>
                    <a:pt x="4916" y="2479"/>
                  </a:moveTo>
                  <a:lnTo>
                    <a:pt x="4913" y="2604"/>
                  </a:lnTo>
                  <a:lnTo>
                    <a:pt x="4904" y="2727"/>
                  </a:lnTo>
                  <a:lnTo>
                    <a:pt x="4888" y="2849"/>
                  </a:lnTo>
                  <a:lnTo>
                    <a:pt x="4868" y="2969"/>
                  </a:lnTo>
                  <a:lnTo>
                    <a:pt x="4840" y="3088"/>
                  </a:lnTo>
                  <a:lnTo>
                    <a:pt x="4807" y="3203"/>
                  </a:lnTo>
                  <a:lnTo>
                    <a:pt x="4768" y="3316"/>
                  </a:lnTo>
                  <a:lnTo>
                    <a:pt x="4725" y="3427"/>
                  </a:lnTo>
                  <a:lnTo>
                    <a:pt x="4676" y="3535"/>
                  </a:lnTo>
                  <a:lnTo>
                    <a:pt x="4622" y="3640"/>
                  </a:lnTo>
                  <a:lnTo>
                    <a:pt x="4564" y="3742"/>
                  </a:lnTo>
                  <a:lnTo>
                    <a:pt x="4500" y="3841"/>
                  </a:lnTo>
                  <a:lnTo>
                    <a:pt x="4432" y="3937"/>
                  </a:lnTo>
                  <a:lnTo>
                    <a:pt x="4360" y="4028"/>
                  </a:lnTo>
                  <a:lnTo>
                    <a:pt x="4283" y="4117"/>
                  </a:lnTo>
                  <a:lnTo>
                    <a:pt x="4203" y="4201"/>
                  </a:lnTo>
                  <a:lnTo>
                    <a:pt x="4118" y="4282"/>
                  </a:lnTo>
                  <a:lnTo>
                    <a:pt x="4029" y="4359"/>
                  </a:lnTo>
                  <a:lnTo>
                    <a:pt x="3937" y="4431"/>
                  </a:lnTo>
                  <a:lnTo>
                    <a:pt x="3842" y="4498"/>
                  </a:lnTo>
                  <a:lnTo>
                    <a:pt x="3743" y="4562"/>
                  </a:lnTo>
                  <a:lnTo>
                    <a:pt x="3641" y="4620"/>
                  </a:lnTo>
                  <a:lnTo>
                    <a:pt x="3535" y="4674"/>
                  </a:lnTo>
                  <a:lnTo>
                    <a:pt x="3428" y="4723"/>
                  </a:lnTo>
                  <a:lnTo>
                    <a:pt x="3317" y="4767"/>
                  </a:lnTo>
                  <a:lnTo>
                    <a:pt x="3204" y="4805"/>
                  </a:lnTo>
                  <a:lnTo>
                    <a:pt x="3088" y="4838"/>
                  </a:lnTo>
                  <a:lnTo>
                    <a:pt x="2970" y="4865"/>
                  </a:lnTo>
                  <a:lnTo>
                    <a:pt x="2850" y="4887"/>
                  </a:lnTo>
                  <a:lnTo>
                    <a:pt x="2728" y="4902"/>
                  </a:lnTo>
                  <a:lnTo>
                    <a:pt x="2605" y="4912"/>
                  </a:lnTo>
                  <a:lnTo>
                    <a:pt x="2479" y="4915"/>
                  </a:lnTo>
                  <a:lnTo>
                    <a:pt x="2353" y="4912"/>
                  </a:lnTo>
                  <a:lnTo>
                    <a:pt x="2230" y="4902"/>
                  </a:lnTo>
                  <a:lnTo>
                    <a:pt x="2108" y="4887"/>
                  </a:lnTo>
                  <a:lnTo>
                    <a:pt x="1988" y="4865"/>
                  </a:lnTo>
                  <a:lnTo>
                    <a:pt x="1870" y="4838"/>
                  </a:lnTo>
                  <a:lnTo>
                    <a:pt x="1755" y="4805"/>
                  </a:lnTo>
                  <a:lnTo>
                    <a:pt x="1641" y="4767"/>
                  </a:lnTo>
                  <a:lnTo>
                    <a:pt x="1530" y="4723"/>
                  </a:lnTo>
                  <a:lnTo>
                    <a:pt x="1422" y="4674"/>
                  </a:lnTo>
                  <a:lnTo>
                    <a:pt x="1317" y="4620"/>
                  </a:lnTo>
                  <a:lnTo>
                    <a:pt x="1215" y="4562"/>
                  </a:lnTo>
                  <a:lnTo>
                    <a:pt x="1116" y="4498"/>
                  </a:lnTo>
                  <a:lnTo>
                    <a:pt x="1021" y="4431"/>
                  </a:lnTo>
                  <a:lnTo>
                    <a:pt x="929" y="4359"/>
                  </a:lnTo>
                  <a:lnTo>
                    <a:pt x="841" y="4282"/>
                  </a:lnTo>
                  <a:lnTo>
                    <a:pt x="755" y="4201"/>
                  </a:lnTo>
                  <a:lnTo>
                    <a:pt x="675" y="4117"/>
                  </a:lnTo>
                  <a:lnTo>
                    <a:pt x="599" y="4028"/>
                  </a:lnTo>
                  <a:lnTo>
                    <a:pt x="526" y="3937"/>
                  </a:lnTo>
                  <a:lnTo>
                    <a:pt x="458" y="3841"/>
                  </a:lnTo>
                  <a:lnTo>
                    <a:pt x="394" y="3742"/>
                  </a:lnTo>
                  <a:lnTo>
                    <a:pt x="336" y="3640"/>
                  </a:lnTo>
                  <a:lnTo>
                    <a:pt x="282" y="3535"/>
                  </a:lnTo>
                  <a:lnTo>
                    <a:pt x="233" y="3427"/>
                  </a:lnTo>
                  <a:lnTo>
                    <a:pt x="189" y="3316"/>
                  </a:lnTo>
                  <a:lnTo>
                    <a:pt x="151" y="3203"/>
                  </a:lnTo>
                  <a:lnTo>
                    <a:pt x="119" y="3088"/>
                  </a:lnTo>
                  <a:lnTo>
                    <a:pt x="91" y="2969"/>
                  </a:lnTo>
                  <a:lnTo>
                    <a:pt x="70" y="2849"/>
                  </a:lnTo>
                  <a:lnTo>
                    <a:pt x="54" y="2727"/>
                  </a:lnTo>
                  <a:lnTo>
                    <a:pt x="44" y="2604"/>
                  </a:lnTo>
                  <a:lnTo>
                    <a:pt x="42" y="2479"/>
                  </a:lnTo>
                  <a:lnTo>
                    <a:pt x="44" y="2353"/>
                  </a:lnTo>
                  <a:lnTo>
                    <a:pt x="54" y="2229"/>
                  </a:lnTo>
                  <a:lnTo>
                    <a:pt x="70" y="2107"/>
                  </a:lnTo>
                  <a:lnTo>
                    <a:pt x="91" y="1987"/>
                  </a:lnTo>
                  <a:lnTo>
                    <a:pt x="119" y="1870"/>
                  </a:lnTo>
                  <a:lnTo>
                    <a:pt x="151" y="1754"/>
                  </a:lnTo>
                  <a:lnTo>
                    <a:pt x="189" y="1641"/>
                  </a:lnTo>
                  <a:lnTo>
                    <a:pt x="233" y="1530"/>
                  </a:lnTo>
                  <a:lnTo>
                    <a:pt x="282" y="1422"/>
                  </a:lnTo>
                  <a:lnTo>
                    <a:pt x="336" y="1317"/>
                  </a:lnTo>
                  <a:lnTo>
                    <a:pt x="394" y="1215"/>
                  </a:lnTo>
                  <a:lnTo>
                    <a:pt x="458" y="1116"/>
                  </a:lnTo>
                  <a:lnTo>
                    <a:pt x="526" y="1021"/>
                  </a:lnTo>
                  <a:lnTo>
                    <a:pt x="599" y="929"/>
                  </a:lnTo>
                  <a:lnTo>
                    <a:pt x="675" y="840"/>
                  </a:lnTo>
                  <a:lnTo>
                    <a:pt x="755" y="756"/>
                  </a:lnTo>
                  <a:lnTo>
                    <a:pt x="841" y="675"/>
                  </a:lnTo>
                  <a:lnTo>
                    <a:pt x="929" y="598"/>
                  </a:lnTo>
                  <a:lnTo>
                    <a:pt x="1021" y="526"/>
                  </a:lnTo>
                  <a:lnTo>
                    <a:pt x="1116" y="458"/>
                  </a:lnTo>
                  <a:lnTo>
                    <a:pt x="1215" y="394"/>
                  </a:lnTo>
                  <a:lnTo>
                    <a:pt x="1317" y="336"/>
                  </a:lnTo>
                  <a:lnTo>
                    <a:pt x="1422" y="282"/>
                  </a:lnTo>
                  <a:lnTo>
                    <a:pt x="1530" y="233"/>
                  </a:lnTo>
                  <a:lnTo>
                    <a:pt x="1641" y="190"/>
                  </a:lnTo>
                  <a:lnTo>
                    <a:pt x="1755" y="151"/>
                  </a:lnTo>
                  <a:lnTo>
                    <a:pt x="1870" y="119"/>
                  </a:lnTo>
                  <a:lnTo>
                    <a:pt x="1988" y="92"/>
                  </a:lnTo>
                  <a:lnTo>
                    <a:pt x="2108" y="70"/>
                  </a:lnTo>
                  <a:lnTo>
                    <a:pt x="2230" y="54"/>
                  </a:lnTo>
                  <a:lnTo>
                    <a:pt x="2353" y="45"/>
                  </a:lnTo>
                  <a:lnTo>
                    <a:pt x="2479" y="42"/>
                  </a:lnTo>
                  <a:lnTo>
                    <a:pt x="2605" y="45"/>
                  </a:lnTo>
                  <a:lnTo>
                    <a:pt x="2728" y="54"/>
                  </a:lnTo>
                  <a:lnTo>
                    <a:pt x="2850" y="70"/>
                  </a:lnTo>
                  <a:lnTo>
                    <a:pt x="2970" y="92"/>
                  </a:lnTo>
                  <a:lnTo>
                    <a:pt x="3088" y="119"/>
                  </a:lnTo>
                  <a:lnTo>
                    <a:pt x="3204" y="151"/>
                  </a:lnTo>
                  <a:lnTo>
                    <a:pt x="3317" y="190"/>
                  </a:lnTo>
                  <a:lnTo>
                    <a:pt x="3428" y="233"/>
                  </a:lnTo>
                  <a:lnTo>
                    <a:pt x="3535" y="282"/>
                  </a:lnTo>
                  <a:lnTo>
                    <a:pt x="3641" y="336"/>
                  </a:lnTo>
                  <a:lnTo>
                    <a:pt x="3743" y="394"/>
                  </a:lnTo>
                  <a:lnTo>
                    <a:pt x="3842" y="458"/>
                  </a:lnTo>
                  <a:lnTo>
                    <a:pt x="3937" y="526"/>
                  </a:lnTo>
                  <a:lnTo>
                    <a:pt x="4029" y="598"/>
                  </a:lnTo>
                  <a:lnTo>
                    <a:pt x="4118" y="675"/>
                  </a:lnTo>
                  <a:lnTo>
                    <a:pt x="4203" y="756"/>
                  </a:lnTo>
                  <a:lnTo>
                    <a:pt x="4283" y="840"/>
                  </a:lnTo>
                  <a:lnTo>
                    <a:pt x="4360" y="929"/>
                  </a:lnTo>
                  <a:lnTo>
                    <a:pt x="4432" y="1021"/>
                  </a:lnTo>
                  <a:lnTo>
                    <a:pt x="4500" y="1116"/>
                  </a:lnTo>
                  <a:lnTo>
                    <a:pt x="4564" y="1215"/>
                  </a:lnTo>
                  <a:lnTo>
                    <a:pt x="4622" y="1317"/>
                  </a:lnTo>
                  <a:lnTo>
                    <a:pt x="4676" y="1422"/>
                  </a:lnTo>
                  <a:lnTo>
                    <a:pt x="4725" y="1530"/>
                  </a:lnTo>
                  <a:lnTo>
                    <a:pt x="4768" y="1641"/>
                  </a:lnTo>
                  <a:lnTo>
                    <a:pt x="4807" y="1754"/>
                  </a:lnTo>
                  <a:lnTo>
                    <a:pt x="4840" y="1870"/>
                  </a:lnTo>
                  <a:lnTo>
                    <a:pt x="4868" y="1987"/>
                  </a:lnTo>
                  <a:lnTo>
                    <a:pt x="4888" y="2107"/>
                  </a:lnTo>
                  <a:lnTo>
                    <a:pt x="4904" y="2229"/>
                  </a:lnTo>
                  <a:lnTo>
                    <a:pt x="4913" y="2353"/>
                  </a:lnTo>
                  <a:lnTo>
                    <a:pt x="4916" y="2479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598920" y="2022480"/>
              <a:ext cx="1950840" cy="1949400"/>
            </a:xfrm>
            <a:custGeom>
              <a:avLst/>
              <a:gdLst/>
              <a:ahLst/>
              <a:rect l="l" t="t" r="r" b="b"/>
              <a:pathLst>
                <a:path w="4918" h="4915">
                  <a:moveTo>
                    <a:pt x="4918" y="2458"/>
                  </a:moveTo>
                  <a:lnTo>
                    <a:pt x="4915" y="2331"/>
                  </a:lnTo>
                  <a:lnTo>
                    <a:pt x="4905" y="2206"/>
                  </a:lnTo>
                  <a:lnTo>
                    <a:pt x="4889" y="2083"/>
                  </a:lnTo>
                  <a:lnTo>
                    <a:pt x="4867" y="1962"/>
                  </a:lnTo>
                  <a:lnTo>
                    <a:pt x="4840" y="1843"/>
                  </a:lnTo>
                  <a:lnTo>
                    <a:pt x="4807" y="1727"/>
                  </a:lnTo>
                  <a:lnTo>
                    <a:pt x="4769" y="1612"/>
                  </a:lnTo>
                  <a:lnTo>
                    <a:pt x="4725" y="1501"/>
                  </a:lnTo>
                  <a:lnTo>
                    <a:pt x="4675" y="1392"/>
                  </a:lnTo>
                  <a:lnTo>
                    <a:pt x="4621" y="1286"/>
                  </a:lnTo>
                  <a:lnTo>
                    <a:pt x="4561" y="1183"/>
                  </a:lnTo>
                  <a:lnTo>
                    <a:pt x="4498" y="1084"/>
                  </a:lnTo>
                  <a:lnTo>
                    <a:pt x="4430" y="987"/>
                  </a:lnTo>
                  <a:lnTo>
                    <a:pt x="4356" y="895"/>
                  </a:lnTo>
                  <a:lnTo>
                    <a:pt x="4279" y="805"/>
                  </a:lnTo>
                  <a:lnTo>
                    <a:pt x="4197" y="720"/>
                  </a:lnTo>
                  <a:lnTo>
                    <a:pt x="4112" y="639"/>
                  </a:lnTo>
                  <a:lnTo>
                    <a:pt x="4023" y="561"/>
                  </a:lnTo>
                  <a:lnTo>
                    <a:pt x="3930" y="489"/>
                  </a:lnTo>
                  <a:lnTo>
                    <a:pt x="3834" y="420"/>
                  </a:lnTo>
                  <a:lnTo>
                    <a:pt x="3734" y="356"/>
                  </a:lnTo>
                  <a:lnTo>
                    <a:pt x="3631" y="297"/>
                  </a:lnTo>
                  <a:lnTo>
                    <a:pt x="3525" y="243"/>
                  </a:lnTo>
                  <a:lnTo>
                    <a:pt x="3416" y="193"/>
                  </a:lnTo>
                  <a:lnTo>
                    <a:pt x="3305" y="150"/>
                  </a:lnTo>
                  <a:lnTo>
                    <a:pt x="3190" y="111"/>
                  </a:lnTo>
                  <a:lnTo>
                    <a:pt x="3073" y="77"/>
                  </a:lnTo>
                  <a:lnTo>
                    <a:pt x="2955" y="50"/>
                  </a:lnTo>
                  <a:lnTo>
                    <a:pt x="2834" y="29"/>
                  </a:lnTo>
                  <a:lnTo>
                    <a:pt x="2710" y="13"/>
                  </a:lnTo>
                  <a:lnTo>
                    <a:pt x="2586" y="3"/>
                  </a:lnTo>
                  <a:lnTo>
                    <a:pt x="2459" y="0"/>
                  </a:lnTo>
                  <a:lnTo>
                    <a:pt x="2332" y="3"/>
                  </a:lnTo>
                  <a:lnTo>
                    <a:pt x="2208" y="13"/>
                  </a:lnTo>
                  <a:lnTo>
                    <a:pt x="2085" y="29"/>
                  </a:lnTo>
                  <a:lnTo>
                    <a:pt x="1964" y="50"/>
                  </a:lnTo>
                  <a:lnTo>
                    <a:pt x="1845" y="77"/>
                  </a:lnTo>
                  <a:lnTo>
                    <a:pt x="1728" y="111"/>
                  </a:lnTo>
                  <a:lnTo>
                    <a:pt x="1614" y="150"/>
                  </a:lnTo>
                  <a:lnTo>
                    <a:pt x="1502" y="193"/>
                  </a:lnTo>
                  <a:lnTo>
                    <a:pt x="1393" y="243"/>
                  </a:lnTo>
                  <a:lnTo>
                    <a:pt x="1287" y="297"/>
                  </a:lnTo>
                  <a:lnTo>
                    <a:pt x="1185" y="356"/>
                  </a:lnTo>
                  <a:lnTo>
                    <a:pt x="1084" y="420"/>
                  </a:lnTo>
                  <a:lnTo>
                    <a:pt x="988" y="489"/>
                  </a:lnTo>
                  <a:lnTo>
                    <a:pt x="895" y="561"/>
                  </a:lnTo>
                  <a:lnTo>
                    <a:pt x="807" y="639"/>
                  </a:lnTo>
                  <a:lnTo>
                    <a:pt x="721" y="720"/>
                  </a:lnTo>
                  <a:lnTo>
                    <a:pt x="639" y="805"/>
                  </a:lnTo>
                  <a:lnTo>
                    <a:pt x="562" y="895"/>
                  </a:lnTo>
                  <a:lnTo>
                    <a:pt x="489" y="987"/>
                  </a:lnTo>
                  <a:lnTo>
                    <a:pt x="421" y="1084"/>
                  </a:lnTo>
                  <a:lnTo>
                    <a:pt x="357" y="1183"/>
                  </a:lnTo>
                  <a:lnTo>
                    <a:pt x="298" y="1286"/>
                  </a:lnTo>
                  <a:lnTo>
                    <a:pt x="244" y="1392"/>
                  </a:lnTo>
                  <a:lnTo>
                    <a:pt x="194" y="1501"/>
                  </a:lnTo>
                  <a:lnTo>
                    <a:pt x="150" y="1612"/>
                  </a:lnTo>
                  <a:lnTo>
                    <a:pt x="112" y="1727"/>
                  </a:lnTo>
                  <a:lnTo>
                    <a:pt x="78" y="1843"/>
                  </a:lnTo>
                  <a:lnTo>
                    <a:pt x="51" y="1962"/>
                  </a:lnTo>
                  <a:lnTo>
                    <a:pt x="29" y="2083"/>
                  </a:lnTo>
                  <a:lnTo>
                    <a:pt x="13" y="2206"/>
                  </a:lnTo>
                  <a:lnTo>
                    <a:pt x="4" y="2331"/>
                  </a:lnTo>
                  <a:lnTo>
                    <a:pt x="0" y="2458"/>
                  </a:lnTo>
                  <a:lnTo>
                    <a:pt x="4" y="2584"/>
                  </a:lnTo>
                  <a:lnTo>
                    <a:pt x="13" y="2708"/>
                  </a:lnTo>
                  <a:lnTo>
                    <a:pt x="29" y="2831"/>
                  </a:lnTo>
                  <a:lnTo>
                    <a:pt x="51" y="2952"/>
                  </a:lnTo>
                  <a:lnTo>
                    <a:pt x="78" y="3071"/>
                  </a:lnTo>
                  <a:lnTo>
                    <a:pt x="112" y="3188"/>
                  </a:lnTo>
                  <a:lnTo>
                    <a:pt x="150" y="3302"/>
                  </a:lnTo>
                  <a:lnTo>
                    <a:pt x="194" y="3413"/>
                  </a:lnTo>
                  <a:lnTo>
                    <a:pt x="244" y="3523"/>
                  </a:lnTo>
                  <a:lnTo>
                    <a:pt x="298" y="3628"/>
                  </a:lnTo>
                  <a:lnTo>
                    <a:pt x="357" y="3732"/>
                  </a:lnTo>
                  <a:lnTo>
                    <a:pt x="421" y="3831"/>
                  </a:lnTo>
                  <a:lnTo>
                    <a:pt x="489" y="3928"/>
                  </a:lnTo>
                  <a:lnTo>
                    <a:pt x="562" y="4020"/>
                  </a:lnTo>
                  <a:lnTo>
                    <a:pt x="639" y="4110"/>
                  </a:lnTo>
                  <a:lnTo>
                    <a:pt x="721" y="4195"/>
                  </a:lnTo>
                  <a:lnTo>
                    <a:pt x="807" y="4276"/>
                  </a:lnTo>
                  <a:lnTo>
                    <a:pt x="895" y="4353"/>
                  </a:lnTo>
                  <a:lnTo>
                    <a:pt x="988" y="4427"/>
                  </a:lnTo>
                  <a:lnTo>
                    <a:pt x="1084" y="4495"/>
                  </a:lnTo>
                  <a:lnTo>
                    <a:pt x="1185" y="4559"/>
                  </a:lnTo>
                  <a:lnTo>
                    <a:pt x="1287" y="4618"/>
                  </a:lnTo>
                  <a:lnTo>
                    <a:pt x="1393" y="4673"/>
                  </a:lnTo>
                  <a:lnTo>
                    <a:pt x="1502" y="4721"/>
                  </a:lnTo>
                  <a:lnTo>
                    <a:pt x="1614" y="4766"/>
                  </a:lnTo>
                  <a:lnTo>
                    <a:pt x="1728" y="4805"/>
                  </a:lnTo>
                  <a:lnTo>
                    <a:pt x="1845" y="4837"/>
                  </a:lnTo>
                  <a:lnTo>
                    <a:pt x="1964" y="4865"/>
                  </a:lnTo>
                  <a:lnTo>
                    <a:pt x="2085" y="4887"/>
                  </a:lnTo>
                  <a:lnTo>
                    <a:pt x="2208" y="4902"/>
                  </a:lnTo>
                  <a:lnTo>
                    <a:pt x="2332" y="4911"/>
                  </a:lnTo>
                  <a:lnTo>
                    <a:pt x="2459" y="4915"/>
                  </a:lnTo>
                  <a:lnTo>
                    <a:pt x="2586" y="4911"/>
                  </a:lnTo>
                  <a:lnTo>
                    <a:pt x="2710" y="4902"/>
                  </a:lnTo>
                  <a:lnTo>
                    <a:pt x="2834" y="4887"/>
                  </a:lnTo>
                  <a:lnTo>
                    <a:pt x="2955" y="4865"/>
                  </a:lnTo>
                  <a:lnTo>
                    <a:pt x="3073" y="4837"/>
                  </a:lnTo>
                  <a:lnTo>
                    <a:pt x="3190" y="4805"/>
                  </a:lnTo>
                  <a:lnTo>
                    <a:pt x="3305" y="4766"/>
                  </a:lnTo>
                  <a:lnTo>
                    <a:pt x="3416" y="4721"/>
                  </a:lnTo>
                  <a:lnTo>
                    <a:pt x="3525" y="4673"/>
                  </a:lnTo>
                  <a:lnTo>
                    <a:pt x="3631" y="4618"/>
                  </a:lnTo>
                  <a:lnTo>
                    <a:pt x="3734" y="4559"/>
                  </a:lnTo>
                  <a:lnTo>
                    <a:pt x="3834" y="4495"/>
                  </a:lnTo>
                  <a:lnTo>
                    <a:pt x="3930" y="4427"/>
                  </a:lnTo>
                  <a:lnTo>
                    <a:pt x="4023" y="4353"/>
                  </a:lnTo>
                  <a:lnTo>
                    <a:pt x="4112" y="4276"/>
                  </a:lnTo>
                  <a:lnTo>
                    <a:pt x="4197" y="4195"/>
                  </a:lnTo>
                  <a:lnTo>
                    <a:pt x="4279" y="4110"/>
                  </a:lnTo>
                  <a:lnTo>
                    <a:pt x="4356" y="4020"/>
                  </a:lnTo>
                  <a:lnTo>
                    <a:pt x="4430" y="3928"/>
                  </a:lnTo>
                  <a:lnTo>
                    <a:pt x="4498" y="3831"/>
                  </a:lnTo>
                  <a:lnTo>
                    <a:pt x="4561" y="3732"/>
                  </a:lnTo>
                  <a:lnTo>
                    <a:pt x="4621" y="3628"/>
                  </a:lnTo>
                  <a:lnTo>
                    <a:pt x="4675" y="3523"/>
                  </a:lnTo>
                  <a:lnTo>
                    <a:pt x="4725" y="3413"/>
                  </a:lnTo>
                  <a:lnTo>
                    <a:pt x="4769" y="3302"/>
                  </a:lnTo>
                  <a:lnTo>
                    <a:pt x="4807" y="3188"/>
                  </a:lnTo>
                  <a:lnTo>
                    <a:pt x="4840" y="3071"/>
                  </a:lnTo>
                  <a:lnTo>
                    <a:pt x="4867" y="2952"/>
                  </a:lnTo>
                  <a:lnTo>
                    <a:pt x="4889" y="2831"/>
                  </a:lnTo>
                  <a:lnTo>
                    <a:pt x="4905" y="2708"/>
                  </a:lnTo>
                  <a:lnTo>
                    <a:pt x="4915" y="2584"/>
                  </a:lnTo>
                  <a:lnTo>
                    <a:pt x="4918" y="2458"/>
                  </a:lnTo>
                  <a:close/>
                  <a:moveTo>
                    <a:pt x="4876" y="2458"/>
                  </a:moveTo>
                  <a:lnTo>
                    <a:pt x="4873" y="2582"/>
                  </a:lnTo>
                  <a:lnTo>
                    <a:pt x="4864" y="2704"/>
                  </a:lnTo>
                  <a:lnTo>
                    <a:pt x="4848" y="2825"/>
                  </a:lnTo>
                  <a:lnTo>
                    <a:pt x="4827" y="2945"/>
                  </a:lnTo>
                  <a:lnTo>
                    <a:pt x="4800" y="3061"/>
                  </a:lnTo>
                  <a:lnTo>
                    <a:pt x="4768" y="3176"/>
                  </a:lnTo>
                  <a:lnTo>
                    <a:pt x="4729" y="3288"/>
                  </a:lnTo>
                  <a:lnTo>
                    <a:pt x="4686" y="3397"/>
                  </a:lnTo>
                  <a:lnTo>
                    <a:pt x="4638" y="3504"/>
                  </a:lnTo>
                  <a:lnTo>
                    <a:pt x="4584" y="3609"/>
                  </a:lnTo>
                  <a:lnTo>
                    <a:pt x="4526" y="3710"/>
                  </a:lnTo>
                  <a:lnTo>
                    <a:pt x="4463" y="3808"/>
                  </a:lnTo>
                  <a:lnTo>
                    <a:pt x="4396" y="3903"/>
                  </a:lnTo>
                  <a:lnTo>
                    <a:pt x="4324" y="3993"/>
                  </a:lnTo>
                  <a:lnTo>
                    <a:pt x="4248" y="4082"/>
                  </a:lnTo>
                  <a:lnTo>
                    <a:pt x="4168" y="4165"/>
                  </a:lnTo>
                  <a:lnTo>
                    <a:pt x="4084" y="4245"/>
                  </a:lnTo>
                  <a:lnTo>
                    <a:pt x="3996" y="4322"/>
                  </a:lnTo>
                  <a:lnTo>
                    <a:pt x="3905" y="4393"/>
                  </a:lnTo>
                  <a:lnTo>
                    <a:pt x="3810" y="4460"/>
                  </a:lnTo>
                  <a:lnTo>
                    <a:pt x="3712" y="4524"/>
                  </a:lnTo>
                  <a:lnTo>
                    <a:pt x="3612" y="4582"/>
                  </a:lnTo>
                  <a:lnTo>
                    <a:pt x="3507" y="4635"/>
                  </a:lnTo>
                  <a:lnTo>
                    <a:pt x="3400" y="4684"/>
                  </a:lnTo>
                  <a:lnTo>
                    <a:pt x="3290" y="4727"/>
                  </a:lnTo>
                  <a:lnTo>
                    <a:pt x="3178" y="4765"/>
                  </a:lnTo>
                  <a:lnTo>
                    <a:pt x="3063" y="4797"/>
                  </a:lnTo>
                  <a:lnTo>
                    <a:pt x="2946" y="4824"/>
                  </a:lnTo>
                  <a:lnTo>
                    <a:pt x="2827" y="4846"/>
                  </a:lnTo>
                  <a:lnTo>
                    <a:pt x="2706" y="4861"/>
                  </a:lnTo>
                  <a:lnTo>
                    <a:pt x="2584" y="4870"/>
                  </a:lnTo>
                  <a:lnTo>
                    <a:pt x="2459" y="4873"/>
                  </a:lnTo>
                  <a:lnTo>
                    <a:pt x="2334" y="4870"/>
                  </a:lnTo>
                  <a:lnTo>
                    <a:pt x="2212" y="4861"/>
                  </a:lnTo>
                  <a:lnTo>
                    <a:pt x="2091" y="4846"/>
                  </a:lnTo>
                  <a:lnTo>
                    <a:pt x="1972" y="4824"/>
                  </a:lnTo>
                  <a:lnTo>
                    <a:pt x="1856" y="4797"/>
                  </a:lnTo>
                  <a:lnTo>
                    <a:pt x="1740" y="4765"/>
                  </a:lnTo>
                  <a:lnTo>
                    <a:pt x="1628" y="4727"/>
                  </a:lnTo>
                  <a:lnTo>
                    <a:pt x="1519" y="4684"/>
                  </a:lnTo>
                  <a:lnTo>
                    <a:pt x="1412" y="4635"/>
                  </a:lnTo>
                  <a:lnTo>
                    <a:pt x="1307" y="4582"/>
                  </a:lnTo>
                  <a:lnTo>
                    <a:pt x="1206" y="4524"/>
                  </a:lnTo>
                  <a:lnTo>
                    <a:pt x="1108" y="4460"/>
                  </a:lnTo>
                  <a:lnTo>
                    <a:pt x="1013" y="4393"/>
                  </a:lnTo>
                  <a:lnTo>
                    <a:pt x="922" y="4322"/>
                  </a:lnTo>
                  <a:lnTo>
                    <a:pt x="835" y="4245"/>
                  </a:lnTo>
                  <a:lnTo>
                    <a:pt x="750" y="4165"/>
                  </a:lnTo>
                  <a:lnTo>
                    <a:pt x="670" y="4082"/>
                  </a:lnTo>
                  <a:lnTo>
                    <a:pt x="595" y="3993"/>
                  </a:lnTo>
                  <a:lnTo>
                    <a:pt x="522" y="3903"/>
                  </a:lnTo>
                  <a:lnTo>
                    <a:pt x="455" y="3808"/>
                  </a:lnTo>
                  <a:lnTo>
                    <a:pt x="393" y="3710"/>
                  </a:lnTo>
                  <a:lnTo>
                    <a:pt x="334" y="3609"/>
                  </a:lnTo>
                  <a:lnTo>
                    <a:pt x="280" y="3504"/>
                  </a:lnTo>
                  <a:lnTo>
                    <a:pt x="233" y="3397"/>
                  </a:lnTo>
                  <a:lnTo>
                    <a:pt x="190" y="3288"/>
                  </a:lnTo>
                  <a:lnTo>
                    <a:pt x="151" y="3176"/>
                  </a:lnTo>
                  <a:lnTo>
                    <a:pt x="118" y="3061"/>
                  </a:lnTo>
                  <a:lnTo>
                    <a:pt x="91" y="2945"/>
                  </a:lnTo>
                  <a:lnTo>
                    <a:pt x="71" y="2825"/>
                  </a:lnTo>
                  <a:lnTo>
                    <a:pt x="54" y="2704"/>
                  </a:lnTo>
                  <a:lnTo>
                    <a:pt x="46" y="2582"/>
                  </a:lnTo>
                  <a:lnTo>
                    <a:pt x="43" y="2458"/>
                  </a:lnTo>
                  <a:lnTo>
                    <a:pt x="46" y="2333"/>
                  </a:lnTo>
                  <a:lnTo>
                    <a:pt x="54" y="2210"/>
                  </a:lnTo>
                  <a:lnTo>
                    <a:pt x="71" y="2089"/>
                  </a:lnTo>
                  <a:lnTo>
                    <a:pt x="91" y="1971"/>
                  </a:lnTo>
                  <a:lnTo>
                    <a:pt x="118" y="1854"/>
                  </a:lnTo>
                  <a:lnTo>
                    <a:pt x="151" y="1739"/>
                  </a:lnTo>
                  <a:lnTo>
                    <a:pt x="190" y="1627"/>
                  </a:lnTo>
                  <a:lnTo>
                    <a:pt x="233" y="1517"/>
                  </a:lnTo>
                  <a:lnTo>
                    <a:pt x="280" y="1410"/>
                  </a:lnTo>
                  <a:lnTo>
                    <a:pt x="334" y="1306"/>
                  </a:lnTo>
                  <a:lnTo>
                    <a:pt x="393" y="1205"/>
                  </a:lnTo>
                  <a:lnTo>
                    <a:pt x="455" y="1107"/>
                  </a:lnTo>
                  <a:lnTo>
                    <a:pt x="522" y="1013"/>
                  </a:lnTo>
                  <a:lnTo>
                    <a:pt x="595" y="921"/>
                  </a:lnTo>
                  <a:lnTo>
                    <a:pt x="670" y="833"/>
                  </a:lnTo>
                  <a:lnTo>
                    <a:pt x="750" y="749"/>
                  </a:lnTo>
                  <a:lnTo>
                    <a:pt x="835" y="669"/>
                  </a:lnTo>
                  <a:lnTo>
                    <a:pt x="922" y="594"/>
                  </a:lnTo>
                  <a:lnTo>
                    <a:pt x="1013" y="521"/>
                  </a:lnTo>
                  <a:lnTo>
                    <a:pt x="1108" y="454"/>
                  </a:lnTo>
                  <a:lnTo>
                    <a:pt x="1206" y="392"/>
                  </a:lnTo>
                  <a:lnTo>
                    <a:pt x="1307" y="333"/>
                  </a:lnTo>
                  <a:lnTo>
                    <a:pt x="1412" y="280"/>
                  </a:lnTo>
                  <a:lnTo>
                    <a:pt x="1519" y="232"/>
                  </a:lnTo>
                  <a:lnTo>
                    <a:pt x="1628" y="189"/>
                  </a:lnTo>
                  <a:lnTo>
                    <a:pt x="1740" y="151"/>
                  </a:lnTo>
                  <a:lnTo>
                    <a:pt x="1856" y="117"/>
                  </a:lnTo>
                  <a:lnTo>
                    <a:pt x="1972" y="90"/>
                  </a:lnTo>
                  <a:lnTo>
                    <a:pt x="2091" y="70"/>
                  </a:lnTo>
                  <a:lnTo>
                    <a:pt x="2212" y="55"/>
                  </a:lnTo>
                  <a:lnTo>
                    <a:pt x="2334" y="45"/>
                  </a:lnTo>
                  <a:lnTo>
                    <a:pt x="2459" y="42"/>
                  </a:lnTo>
                  <a:lnTo>
                    <a:pt x="2584" y="45"/>
                  </a:lnTo>
                  <a:lnTo>
                    <a:pt x="2706" y="55"/>
                  </a:lnTo>
                  <a:lnTo>
                    <a:pt x="2827" y="70"/>
                  </a:lnTo>
                  <a:lnTo>
                    <a:pt x="2946" y="90"/>
                  </a:lnTo>
                  <a:lnTo>
                    <a:pt x="3063" y="117"/>
                  </a:lnTo>
                  <a:lnTo>
                    <a:pt x="3178" y="151"/>
                  </a:lnTo>
                  <a:lnTo>
                    <a:pt x="3290" y="189"/>
                  </a:lnTo>
                  <a:lnTo>
                    <a:pt x="3400" y="232"/>
                  </a:lnTo>
                  <a:lnTo>
                    <a:pt x="3507" y="280"/>
                  </a:lnTo>
                  <a:lnTo>
                    <a:pt x="3612" y="333"/>
                  </a:lnTo>
                  <a:lnTo>
                    <a:pt x="3712" y="392"/>
                  </a:lnTo>
                  <a:lnTo>
                    <a:pt x="3810" y="454"/>
                  </a:lnTo>
                  <a:lnTo>
                    <a:pt x="3905" y="521"/>
                  </a:lnTo>
                  <a:lnTo>
                    <a:pt x="3996" y="594"/>
                  </a:lnTo>
                  <a:lnTo>
                    <a:pt x="4084" y="669"/>
                  </a:lnTo>
                  <a:lnTo>
                    <a:pt x="4168" y="749"/>
                  </a:lnTo>
                  <a:lnTo>
                    <a:pt x="4248" y="833"/>
                  </a:lnTo>
                  <a:lnTo>
                    <a:pt x="4324" y="921"/>
                  </a:lnTo>
                  <a:lnTo>
                    <a:pt x="4396" y="1013"/>
                  </a:lnTo>
                  <a:lnTo>
                    <a:pt x="4463" y="1107"/>
                  </a:lnTo>
                  <a:lnTo>
                    <a:pt x="4526" y="1205"/>
                  </a:lnTo>
                  <a:lnTo>
                    <a:pt x="4584" y="1306"/>
                  </a:lnTo>
                  <a:lnTo>
                    <a:pt x="4638" y="1410"/>
                  </a:lnTo>
                  <a:lnTo>
                    <a:pt x="4686" y="1517"/>
                  </a:lnTo>
                  <a:lnTo>
                    <a:pt x="4729" y="1627"/>
                  </a:lnTo>
                  <a:lnTo>
                    <a:pt x="4768" y="1739"/>
                  </a:lnTo>
                  <a:lnTo>
                    <a:pt x="4800" y="1854"/>
                  </a:lnTo>
                  <a:lnTo>
                    <a:pt x="4827" y="1971"/>
                  </a:lnTo>
                  <a:lnTo>
                    <a:pt x="4848" y="2089"/>
                  </a:lnTo>
                  <a:lnTo>
                    <a:pt x="4864" y="2210"/>
                  </a:lnTo>
                  <a:lnTo>
                    <a:pt x="4873" y="2333"/>
                  </a:lnTo>
                  <a:lnTo>
                    <a:pt x="4876" y="2458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606840" y="2030400"/>
              <a:ext cx="1935000" cy="1933560"/>
            </a:xfrm>
            <a:custGeom>
              <a:avLst/>
              <a:gdLst/>
              <a:ahLst/>
              <a:rect l="l" t="t" r="r" b="b"/>
              <a:pathLst>
                <a:path w="4874" h="4873">
                  <a:moveTo>
                    <a:pt x="4874" y="2437"/>
                  </a:moveTo>
                  <a:lnTo>
                    <a:pt x="4871" y="2311"/>
                  </a:lnTo>
                  <a:lnTo>
                    <a:pt x="4862" y="2187"/>
                  </a:lnTo>
                  <a:lnTo>
                    <a:pt x="4846" y="2065"/>
                  </a:lnTo>
                  <a:lnTo>
                    <a:pt x="4826" y="1945"/>
                  </a:lnTo>
                  <a:lnTo>
                    <a:pt x="4798" y="1828"/>
                  </a:lnTo>
                  <a:lnTo>
                    <a:pt x="4765" y="1712"/>
                  </a:lnTo>
                  <a:lnTo>
                    <a:pt x="4726" y="1599"/>
                  </a:lnTo>
                  <a:lnTo>
                    <a:pt x="4683" y="1488"/>
                  </a:lnTo>
                  <a:lnTo>
                    <a:pt x="4634" y="1380"/>
                  </a:lnTo>
                  <a:lnTo>
                    <a:pt x="4580" y="1275"/>
                  </a:lnTo>
                  <a:lnTo>
                    <a:pt x="4522" y="1173"/>
                  </a:lnTo>
                  <a:lnTo>
                    <a:pt x="4458" y="1074"/>
                  </a:lnTo>
                  <a:lnTo>
                    <a:pt x="4390" y="979"/>
                  </a:lnTo>
                  <a:lnTo>
                    <a:pt x="4318" y="887"/>
                  </a:lnTo>
                  <a:lnTo>
                    <a:pt x="4241" y="798"/>
                  </a:lnTo>
                  <a:lnTo>
                    <a:pt x="4161" y="714"/>
                  </a:lnTo>
                  <a:lnTo>
                    <a:pt x="4076" y="633"/>
                  </a:lnTo>
                  <a:lnTo>
                    <a:pt x="3987" y="556"/>
                  </a:lnTo>
                  <a:lnTo>
                    <a:pt x="3895" y="484"/>
                  </a:lnTo>
                  <a:lnTo>
                    <a:pt x="3800" y="416"/>
                  </a:lnTo>
                  <a:lnTo>
                    <a:pt x="3701" y="352"/>
                  </a:lnTo>
                  <a:lnTo>
                    <a:pt x="3599" y="294"/>
                  </a:lnTo>
                  <a:lnTo>
                    <a:pt x="3493" y="240"/>
                  </a:lnTo>
                  <a:lnTo>
                    <a:pt x="3386" y="191"/>
                  </a:lnTo>
                  <a:lnTo>
                    <a:pt x="3275" y="148"/>
                  </a:lnTo>
                  <a:lnTo>
                    <a:pt x="3162" y="109"/>
                  </a:lnTo>
                  <a:lnTo>
                    <a:pt x="3046" y="77"/>
                  </a:lnTo>
                  <a:lnTo>
                    <a:pt x="2928" y="50"/>
                  </a:lnTo>
                  <a:lnTo>
                    <a:pt x="2808" y="28"/>
                  </a:lnTo>
                  <a:lnTo>
                    <a:pt x="2686" y="12"/>
                  </a:lnTo>
                  <a:lnTo>
                    <a:pt x="2563" y="3"/>
                  </a:lnTo>
                  <a:lnTo>
                    <a:pt x="2437" y="0"/>
                  </a:lnTo>
                  <a:lnTo>
                    <a:pt x="2311" y="3"/>
                  </a:lnTo>
                  <a:lnTo>
                    <a:pt x="2188" y="12"/>
                  </a:lnTo>
                  <a:lnTo>
                    <a:pt x="2066" y="28"/>
                  </a:lnTo>
                  <a:lnTo>
                    <a:pt x="1946" y="50"/>
                  </a:lnTo>
                  <a:lnTo>
                    <a:pt x="1828" y="77"/>
                  </a:lnTo>
                  <a:lnTo>
                    <a:pt x="1713" y="109"/>
                  </a:lnTo>
                  <a:lnTo>
                    <a:pt x="1599" y="148"/>
                  </a:lnTo>
                  <a:lnTo>
                    <a:pt x="1488" y="191"/>
                  </a:lnTo>
                  <a:lnTo>
                    <a:pt x="1380" y="240"/>
                  </a:lnTo>
                  <a:lnTo>
                    <a:pt x="1275" y="294"/>
                  </a:lnTo>
                  <a:lnTo>
                    <a:pt x="1173" y="352"/>
                  </a:lnTo>
                  <a:lnTo>
                    <a:pt x="1074" y="416"/>
                  </a:lnTo>
                  <a:lnTo>
                    <a:pt x="979" y="484"/>
                  </a:lnTo>
                  <a:lnTo>
                    <a:pt x="887" y="556"/>
                  </a:lnTo>
                  <a:lnTo>
                    <a:pt x="799" y="633"/>
                  </a:lnTo>
                  <a:lnTo>
                    <a:pt x="713" y="714"/>
                  </a:lnTo>
                  <a:lnTo>
                    <a:pt x="633" y="798"/>
                  </a:lnTo>
                  <a:lnTo>
                    <a:pt x="557" y="887"/>
                  </a:lnTo>
                  <a:lnTo>
                    <a:pt x="484" y="979"/>
                  </a:lnTo>
                  <a:lnTo>
                    <a:pt x="416" y="1074"/>
                  </a:lnTo>
                  <a:lnTo>
                    <a:pt x="352" y="1173"/>
                  </a:lnTo>
                  <a:lnTo>
                    <a:pt x="294" y="1275"/>
                  </a:lnTo>
                  <a:lnTo>
                    <a:pt x="240" y="1380"/>
                  </a:lnTo>
                  <a:lnTo>
                    <a:pt x="191" y="1488"/>
                  </a:lnTo>
                  <a:lnTo>
                    <a:pt x="147" y="1599"/>
                  </a:lnTo>
                  <a:lnTo>
                    <a:pt x="109" y="1712"/>
                  </a:lnTo>
                  <a:lnTo>
                    <a:pt x="77" y="1828"/>
                  </a:lnTo>
                  <a:lnTo>
                    <a:pt x="49" y="1945"/>
                  </a:lnTo>
                  <a:lnTo>
                    <a:pt x="28" y="2065"/>
                  </a:lnTo>
                  <a:lnTo>
                    <a:pt x="12" y="2187"/>
                  </a:lnTo>
                  <a:lnTo>
                    <a:pt x="2" y="2311"/>
                  </a:lnTo>
                  <a:lnTo>
                    <a:pt x="0" y="2437"/>
                  </a:lnTo>
                  <a:lnTo>
                    <a:pt x="2" y="2562"/>
                  </a:lnTo>
                  <a:lnTo>
                    <a:pt x="12" y="2685"/>
                  </a:lnTo>
                  <a:lnTo>
                    <a:pt x="28" y="2807"/>
                  </a:lnTo>
                  <a:lnTo>
                    <a:pt x="49" y="2927"/>
                  </a:lnTo>
                  <a:lnTo>
                    <a:pt x="77" y="3046"/>
                  </a:lnTo>
                  <a:lnTo>
                    <a:pt x="109" y="3161"/>
                  </a:lnTo>
                  <a:lnTo>
                    <a:pt x="147" y="3274"/>
                  </a:lnTo>
                  <a:lnTo>
                    <a:pt x="191" y="3385"/>
                  </a:lnTo>
                  <a:lnTo>
                    <a:pt x="240" y="3493"/>
                  </a:lnTo>
                  <a:lnTo>
                    <a:pt x="294" y="3598"/>
                  </a:lnTo>
                  <a:lnTo>
                    <a:pt x="352" y="3700"/>
                  </a:lnTo>
                  <a:lnTo>
                    <a:pt x="416" y="3799"/>
                  </a:lnTo>
                  <a:lnTo>
                    <a:pt x="484" y="3895"/>
                  </a:lnTo>
                  <a:lnTo>
                    <a:pt x="557" y="3986"/>
                  </a:lnTo>
                  <a:lnTo>
                    <a:pt x="633" y="4075"/>
                  </a:lnTo>
                  <a:lnTo>
                    <a:pt x="713" y="4159"/>
                  </a:lnTo>
                  <a:lnTo>
                    <a:pt x="799" y="4240"/>
                  </a:lnTo>
                  <a:lnTo>
                    <a:pt x="887" y="4317"/>
                  </a:lnTo>
                  <a:lnTo>
                    <a:pt x="979" y="4389"/>
                  </a:lnTo>
                  <a:lnTo>
                    <a:pt x="1074" y="4456"/>
                  </a:lnTo>
                  <a:lnTo>
                    <a:pt x="1173" y="4520"/>
                  </a:lnTo>
                  <a:lnTo>
                    <a:pt x="1275" y="4578"/>
                  </a:lnTo>
                  <a:lnTo>
                    <a:pt x="1380" y="4632"/>
                  </a:lnTo>
                  <a:lnTo>
                    <a:pt x="1488" y="4681"/>
                  </a:lnTo>
                  <a:lnTo>
                    <a:pt x="1599" y="4725"/>
                  </a:lnTo>
                  <a:lnTo>
                    <a:pt x="1713" y="4763"/>
                  </a:lnTo>
                  <a:lnTo>
                    <a:pt x="1828" y="4796"/>
                  </a:lnTo>
                  <a:lnTo>
                    <a:pt x="1946" y="4823"/>
                  </a:lnTo>
                  <a:lnTo>
                    <a:pt x="2066" y="4845"/>
                  </a:lnTo>
                  <a:lnTo>
                    <a:pt x="2188" y="4860"/>
                  </a:lnTo>
                  <a:lnTo>
                    <a:pt x="2311" y="4870"/>
                  </a:lnTo>
                  <a:lnTo>
                    <a:pt x="2437" y="4873"/>
                  </a:lnTo>
                  <a:lnTo>
                    <a:pt x="2563" y="4870"/>
                  </a:lnTo>
                  <a:lnTo>
                    <a:pt x="2686" y="4860"/>
                  </a:lnTo>
                  <a:lnTo>
                    <a:pt x="2808" y="4845"/>
                  </a:lnTo>
                  <a:lnTo>
                    <a:pt x="2928" y="4823"/>
                  </a:lnTo>
                  <a:lnTo>
                    <a:pt x="3046" y="4796"/>
                  </a:lnTo>
                  <a:lnTo>
                    <a:pt x="3162" y="4763"/>
                  </a:lnTo>
                  <a:lnTo>
                    <a:pt x="3275" y="4725"/>
                  </a:lnTo>
                  <a:lnTo>
                    <a:pt x="3386" y="4681"/>
                  </a:lnTo>
                  <a:lnTo>
                    <a:pt x="3493" y="4632"/>
                  </a:lnTo>
                  <a:lnTo>
                    <a:pt x="3599" y="4578"/>
                  </a:lnTo>
                  <a:lnTo>
                    <a:pt x="3701" y="4520"/>
                  </a:lnTo>
                  <a:lnTo>
                    <a:pt x="3800" y="4456"/>
                  </a:lnTo>
                  <a:lnTo>
                    <a:pt x="3895" y="4389"/>
                  </a:lnTo>
                  <a:lnTo>
                    <a:pt x="3987" y="4317"/>
                  </a:lnTo>
                  <a:lnTo>
                    <a:pt x="4076" y="4240"/>
                  </a:lnTo>
                  <a:lnTo>
                    <a:pt x="4161" y="4159"/>
                  </a:lnTo>
                  <a:lnTo>
                    <a:pt x="4241" y="4075"/>
                  </a:lnTo>
                  <a:lnTo>
                    <a:pt x="4318" y="3986"/>
                  </a:lnTo>
                  <a:lnTo>
                    <a:pt x="4390" y="3895"/>
                  </a:lnTo>
                  <a:lnTo>
                    <a:pt x="4458" y="3799"/>
                  </a:lnTo>
                  <a:lnTo>
                    <a:pt x="4522" y="3700"/>
                  </a:lnTo>
                  <a:lnTo>
                    <a:pt x="4580" y="3598"/>
                  </a:lnTo>
                  <a:lnTo>
                    <a:pt x="4634" y="3493"/>
                  </a:lnTo>
                  <a:lnTo>
                    <a:pt x="4683" y="3385"/>
                  </a:lnTo>
                  <a:lnTo>
                    <a:pt x="4726" y="3274"/>
                  </a:lnTo>
                  <a:lnTo>
                    <a:pt x="4765" y="3161"/>
                  </a:lnTo>
                  <a:lnTo>
                    <a:pt x="4798" y="3046"/>
                  </a:lnTo>
                  <a:lnTo>
                    <a:pt x="4826" y="2927"/>
                  </a:lnTo>
                  <a:lnTo>
                    <a:pt x="4846" y="2807"/>
                  </a:lnTo>
                  <a:lnTo>
                    <a:pt x="4862" y="2685"/>
                  </a:lnTo>
                  <a:lnTo>
                    <a:pt x="4871" y="2562"/>
                  </a:lnTo>
                  <a:lnTo>
                    <a:pt x="4874" y="2437"/>
                  </a:lnTo>
                  <a:close/>
                  <a:moveTo>
                    <a:pt x="4833" y="2437"/>
                  </a:moveTo>
                  <a:lnTo>
                    <a:pt x="4830" y="2560"/>
                  </a:lnTo>
                  <a:lnTo>
                    <a:pt x="4820" y="2681"/>
                  </a:lnTo>
                  <a:lnTo>
                    <a:pt x="4805" y="2801"/>
                  </a:lnTo>
                  <a:lnTo>
                    <a:pt x="4785" y="2919"/>
                  </a:lnTo>
                  <a:lnTo>
                    <a:pt x="4758" y="3035"/>
                  </a:lnTo>
                  <a:lnTo>
                    <a:pt x="4725" y="3148"/>
                  </a:lnTo>
                  <a:lnTo>
                    <a:pt x="4687" y="3260"/>
                  </a:lnTo>
                  <a:lnTo>
                    <a:pt x="4645" y="3369"/>
                  </a:lnTo>
                  <a:lnTo>
                    <a:pt x="4597" y="3475"/>
                  </a:lnTo>
                  <a:lnTo>
                    <a:pt x="4544" y="3578"/>
                  </a:lnTo>
                  <a:lnTo>
                    <a:pt x="4486" y="3679"/>
                  </a:lnTo>
                  <a:lnTo>
                    <a:pt x="4424" y="3776"/>
                  </a:lnTo>
                  <a:lnTo>
                    <a:pt x="4357" y="3869"/>
                  </a:lnTo>
                  <a:lnTo>
                    <a:pt x="4285" y="3959"/>
                  </a:lnTo>
                  <a:lnTo>
                    <a:pt x="4211" y="4047"/>
                  </a:lnTo>
                  <a:lnTo>
                    <a:pt x="4131" y="4130"/>
                  </a:lnTo>
                  <a:lnTo>
                    <a:pt x="4048" y="4209"/>
                  </a:lnTo>
                  <a:lnTo>
                    <a:pt x="3961" y="4285"/>
                  </a:lnTo>
                  <a:lnTo>
                    <a:pt x="3871" y="4356"/>
                  </a:lnTo>
                  <a:lnTo>
                    <a:pt x="3777" y="4422"/>
                  </a:lnTo>
                  <a:lnTo>
                    <a:pt x="3679" y="4484"/>
                  </a:lnTo>
                  <a:lnTo>
                    <a:pt x="3579" y="4543"/>
                  </a:lnTo>
                  <a:lnTo>
                    <a:pt x="3476" y="4596"/>
                  </a:lnTo>
                  <a:lnTo>
                    <a:pt x="3370" y="4643"/>
                  </a:lnTo>
                  <a:lnTo>
                    <a:pt x="3261" y="4686"/>
                  </a:lnTo>
                  <a:lnTo>
                    <a:pt x="3150" y="4724"/>
                  </a:lnTo>
                  <a:lnTo>
                    <a:pt x="3036" y="4755"/>
                  </a:lnTo>
                  <a:lnTo>
                    <a:pt x="2920" y="4782"/>
                  </a:lnTo>
                  <a:lnTo>
                    <a:pt x="2802" y="4804"/>
                  </a:lnTo>
                  <a:lnTo>
                    <a:pt x="2682" y="4819"/>
                  </a:lnTo>
                  <a:lnTo>
                    <a:pt x="2561" y="4828"/>
                  </a:lnTo>
                  <a:lnTo>
                    <a:pt x="2437" y="4831"/>
                  </a:lnTo>
                  <a:lnTo>
                    <a:pt x="2313" y="4828"/>
                  </a:lnTo>
                  <a:lnTo>
                    <a:pt x="2192" y="4819"/>
                  </a:lnTo>
                  <a:lnTo>
                    <a:pt x="2073" y="4804"/>
                  </a:lnTo>
                  <a:lnTo>
                    <a:pt x="1955" y="4782"/>
                  </a:lnTo>
                  <a:lnTo>
                    <a:pt x="1838" y="4755"/>
                  </a:lnTo>
                  <a:lnTo>
                    <a:pt x="1725" y="4724"/>
                  </a:lnTo>
                  <a:lnTo>
                    <a:pt x="1613" y="4686"/>
                  </a:lnTo>
                  <a:lnTo>
                    <a:pt x="1504" y="4643"/>
                  </a:lnTo>
                  <a:lnTo>
                    <a:pt x="1398" y="4596"/>
                  </a:lnTo>
                  <a:lnTo>
                    <a:pt x="1296" y="4543"/>
                  </a:lnTo>
                  <a:lnTo>
                    <a:pt x="1195" y="4484"/>
                  </a:lnTo>
                  <a:lnTo>
                    <a:pt x="1098" y="4422"/>
                  </a:lnTo>
                  <a:lnTo>
                    <a:pt x="1004" y="4356"/>
                  </a:lnTo>
                  <a:lnTo>
                    <a:pt x="913" y="4285"/>
                  </a:lnTo>
                  <a:lnTo>
                    <a:pt x="827" y="4209"/>
                  </a:lnTo>
                  <a:lnTo>
                    <a:pt x="743" y="4130"/>
                  </a:lnTo>
                  <a:lnTo>
                    <a:pt x="663" y="4047"/>
                  </a:lnTo>
                  <a:lnTo>
                    <a:pt x="588" y="3959"/>
                  </a:lnTo>
                  <a:lnTo>
                    <a:pt x="518" y="3869"/>
                  </a:lnTo>
                  <a:lnTo>
                    <a:pt x="451" y="3776"/>
                  </a:lnTo>
                  <a:lnTo>
                    <a:pt x="388" y="3679"/>
                  </a:lnTo>
                  <a:lnTo>
                    <a:pt x="331" y="3578"/>
                  </a:lnTo>
                  <a:lnTo>
                    <a:pt x="278" y="3475"/>
                  </a:lnTo>
                  <a:lnTo>
                    <a:pt x="229" y="3369"/>
                  </a:lnTo>
                  <a:lnTo>
                    <a:pt x="187" y="3260"/>
                  </a:lnTo>
                  <a:lnTo>
                    <a:pt x="149" y="3148"/>
                  </a:lnTo>
                  <a:lnTo>
                    <a:pt x="117" y="3035"/>
                  </a:lnTo>
                  <a:lnTo>
                    <a:pt x="90" y="2919"/>
                  </a:lnTo>
                  <a:lnTo>
                    <a:pt x="69" y="2801"/>
                  </a:lnTo>
                  <a:lnTo>
                    <a:pt x="54" y="2681"/>
                  </a:lnTo>
                  <a:lnTo>
                    <a:pt x="44" y="2560"/>
                  </a:lnTo>
                  <a:lnTo>
                    <a:pt x="41" y="2437"/>
                  </a:lnTo>
                  <a:lnTo>
                    <a:pt x="44" y="2314"/>
                  </a:lnTo>
                  <a:lnTo>
                    <a:pt x="54" y="2192"/>
                  </a:lnTo>
                  <a:lnTo>
                    <a:pt x="69" y="2072"/>
                  </a:lnTo>
                  <a:lnTo>
                    <a:pt x="90" y="1954"/>
                  </a:lnTo>
                  <a:lnTo>
                    <a:pt x="117" y="1838"/>
                  </a:lnTo>
                  <a:lnTo>
                    <a:pt x="149" y="1724"/>
                  </a:lnTo>
                  <a:lnTo>
                    <a:pt x="187" y="1613"/>
                  </a:lnTo>
                  <a:lnTo>
                    <a:pt x="229" y="1505"/>
                  </a:lnTo>
                  <a:lnTo>
                    <a:pt x="278" y="1398"/>
                  </a:lnTo>
                  <a:lnTo>
                    <a:pt x="331" y="1295"/>
                  </a:lnTo>
                  <a:lnTo>
                    <a:pt x="388" y="1195"/>
                  </a:lnTo>
                  <a:lnTo>
                    <a:pt x="451" y="1097"/>
                  </a:lnTo>
                  <a:lnTo>
                    <a:pt x="518" y="1004"/>
                  </a:lnTo>
                  <a:lnTo>
                    <a:pt x="588" y="913"/>
                  </a:lnTo>
                  <a:lnTo>
                    <a:pt x="663" y="826"/>
                  </a:lnTo>
                  <a:lnTo>
                    <a:pt x="743" y="743"/>
                  </a:lnTo>
                  <a:lnTo>
                    <a:pt x="827" y="663"/>
                  </a:lnTo>
                  <a:lnTo>
                    <a:pt x="913" y="589"/>
                  </a:lnTo>
                  <a:lnTo>
                    <a:pt x="1004" y="518"/>
                  </a:lnTo>
                  <a:lnTo>
                    <a:pt x="1098" y="451"/>
                  </a:lnTo>
                  <a:lnTo>
                    <a:pt x="1195" y="388"/>
                  </a:lnTo>
                  <a:lnTo>
                    <a:pt x="1296" y="331"/>
                  </a:lnTo>
                  <a:lnTo>
                    <a:pt x="1398" y="278"/>
                  </a:lnTo>
                  <a:lnTo>
                    <a:pt x="1504" y="230"/>
                  </a:lnTo>
                  <a:lnTo>
                    <a:pt x="1613" y="187"/>
                  </a:lnTo>
                  <a:lnTo>
                    <a:pt x="1725" y="149"/>
                  </a:lnTo>
                  <a:lnTo>
                    <a:pt x="1838" y="117"/>
                  </a:lnTo>
                  <a:lnTo>
                    <a:pt x="1955" y="90"/>
                  </a:lnTo>
                  <a:lnTo>
                    <a:pt x="2073" y="69"/>
                  </a:lnTo>
                  <a:lnTo>
                    <a:pt x="2192" y="54"/>
                  </a:lnTo>
                  <a:lnTo>
                    <a:pt x="2313" y="44"/>
                  </a:lnTo>
                  <a:lnTo>
                    <a:pt x="2437" y="41"/>
                  </a:lnTo>
                  <a:lnTo>
                    <a:pt x="2561" y="44"/>
                  </a:lnTo>
                  <a:lnTo>
                    <a:pt x="2682" y="54"/>
                  </a:lnTo>
                  <a:lnTo>
                    <a:pt x="2802" y="69"/>
                  </a:lnTo>
                  <a:lnTo>
                    <a:pt x="2920" y="90"/>
                  </a:lnTo>
                  <a:lnTo>
                    <a:pt x="3036" y="117"/>
                  </a:lnTo>
                  <a:lnTo>
                    <a:pt x="3150" y="149"/>
                  </a:lnTo>
                  <a:lnTo>
                    <a:pt x="3261" y="187"/>
                  </a:lnTo>
                  <a:lnTo>
                    <a:pt x="3370" y="230"/>
                  </a:lnTo>
                  <a:lnTo>
                    <a:pt x="3476" y="278"/>
                  </a:lnTo>
                  <a:lnTo>
                    <a:pt x="3579" y="331"/>
                  </a:lnTo>
                  <a:lnTo>
                    <a:pt x="3679" y="388"/>
                  </a:lnTo>
                  <a:lnTo>
                    <a:pt x="3777" y="451"/>
                  </a:lnTo>
                  <a:lnTo>
                    <a:pt x="3871" y="518"/>
                  </a:lnTo>
                  <a:lnTo>
                    <a:pt x="3961" y="589"/>
                  </a:lnTo>
                  <a:lnTo>
                    <a:pt x="4048" y="663"/>
                  </a:lnTo>
                  <a:lnTo>
                    <a:pt x="4131" y="743"/>
                  </a:lnTo>
                  <a:lnTo>
                    <a:pt x="4211" y="826"/>
                  </a:lnTo>
                  <a:lnTo>
                    <a:pt x="4285" y="913"/>
                  </a:lnTo>
                  <a:lnTo>
                    <a:pt x="4357" y="1004"/>
                  </a:lnTo>
                  <a:lnTo>
                    <a:pt x="4424" y="1097"/>
                  </a:lnTo>
                  <a:lnTo>
                    <a:pt x="4486" y="1195"/>
                  </a:lnTo>
                  <a:lnTo>
                    <a:pt x="4544" y="1295"/>
                  </a:lnTo>
                  <a:lnTo>
                    <a:pt x="4597" y="1398"/>
                  </a:lnTo>
                  <a:lnTo>
                    <a:pt x="4645" y="1505"/>
                  </a:lnTo>
                  <a:lnTo>
                    <a:pt x="4687" y="1613"/>
                  </a:lnTo>
                  <a:lnTo>
                    <a:pt x="4725" y="1724"/>
                  </a:lnTo>
                  <a:lnTo>
                    <a:pt x="4758" y="1838"/>
                  </a:lnTo>
                  <a:lnTo>
                    <a:pt x="4785" y="1954"/>
                  </a:lnTo>
                  <a:lnTo>
                    <a:pt x="4805" y="2072"/>
                  </a:lnTo>
                  <a:lnTo>
                    <a:pt x="4820" y="2192"/>
                  </a:lnTo>
                  <a:lnTo>
                    <a:pt x="4830" y="2314"/>
                  </a:lnTo>
                  <a:lnTo>
                    <a:pt x="4833" y="2437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14760" y="2038320"/>
              <a:ext cx="1917720" cy="1917720"/>
            </a:xfrm>
            <a:custGeom>
              <a:avLst/>
              <a:gdLst/>
              <a:ahLst/>
              <a:rect l="l" t="t" r="r" b="b"/>
              <a:pathLst>
                <a:path w="4833" h="4831">
                  <a:moveTo>
                    <a:pt x="4833" y="2416"/>
                  </a:moveTo>
                  <a:lnTo>
                    <a:pt x="4830" y="2291"/>
                  </a:lnTo>
                  <a:lnTo>
                    <a:pt x="4821" y="2168"/>
                  </a:lnTo>
                  <a:lnTo>
                    <a:pt x="4805" y="2047"/>
                  </a:lnTo>
                  <a:lnTo>
                    <a:pt x="4784" y="1929"/>
                  </a:lnTo>
                  <a:lnTo>
                    <a:pt x="4757" y="1812"/>
                  </a:lnTo>
                  <a:lnTo>
                    <a:pt x="4725" y="1697"/>
                  </a:lnTo>
                  <a:lnTo>
                    <a:pt x="4686" y="1585"/>
                  </a:lnTo>
                  <a:lnTo>
                    <a:pt x="4643" y="1475"/>
                  </a:lnTo>
                  <a:lnTo>
                    <a:pt x="4595" y="1368"/>
                  </a:lnTo>
                  <a:lnTo>
                    <a:pt x="4541" y="1264"/>
                  </a:lnTo>
                  <a:lnTo>
                    <a:pt x="4483" y="1163"/>
                  </a:lnTo>
                  <a:lnTo>
                    <a:pt x="4420" y="1065"/>
                  </a:lnTo>
                  <a:lnTo>
                    <a:pt x="4353" y="971"/>
                  </a:lnTo>
                  <a:lnTo>
                    <a:pt x="4281" y="879"/>
                  </a:lnTo>
                  <a:lnTo>
                    <a:pt x="4205" y="791"/>
                  </a:lnTo>
                  <a:lnTo>
                    <a:pt x="4125" y="707"/>
                  </a:lnTo>
                  <a:lnTo>
                    <a:pt x="4041" y="627"/>
                  </a:lnTo>
                  <a:lnTo>
                    <a:pt x="3953" y="552"/>
                  </a:lnTo>
                  <a:lnTo>
                    <a:pt x="3862" y="479"/>
                  </a:lnTo>
                  <a:lnTo>
                    <a:pt x="3767" y="412"/>
                  </a:lnTo>
                  <a:lnTo>
                    <a:pt x="3669" y="350"/>
                  </a:lnTo>
                  <a:lnTo>
                    <a:pt x="3569" y="291"/>
                  </a:lnTo>
                  <a:lnTo>
                    <a:pt x="3464" y="238"/>
                  </a:lnTo>
                  <a:lnTo>
                    <a:pt x="3357" y="190"/>
                  </a:lnTo>
                  <a:lnTo>
                    <a:pt x="3247" y="147"/>
                  </a:lnTo>
                  <a:lnTo>
                    <a:pt x="3135" y="109"/>
                  </a:lnTo>
                  <a:lnTo>
                    <a:pt x="3020" y="75"/>
                  </a:lnTo>
                  <a:lnTo>
                    <a:pt x="2903" y="48"/>
                  </a:lnTo>
                  <a:lnTo>
                    <a:pt x="2784" y="28"/>
                  </a:lnTo>
                  <a:lnTo>
                    <a:pt x="2663" y="13"/>
                  </a:lnTo>
                  <a:lnTo>
                    <a:pt x="2541" y="3"/>
                  </a:lnTo>
                  <a:lnTo>
                    <a:pt x="2416" y="0"/>
                  </a:lnTo>
                  <a:lnTo>
                    <a:pt x="2291" y="3"/>
                  </a:lnTo>
                  <a:lnTo>
                    <a:pt x="2169" y="13"/>
                  </a:lnTo>
                  <a:lnTo>
                    <a:pt x="2048" y="28"/>
                  </a:lnTo>
                  <a:lnTo>
                    <a:pt x="1929" y="48"/>
                  </a:lnTo>
                  <a:lnTo>
                    <a:pt x="1813" y="75"/>
                  </a:lnTo>
                  <a:lnTo>
                    <a:pt x="1697" y="109"/>
                  </a:lnTo>
                  <a:lnTo>
                    <a:pt x="1585" y="147"/>
                  </a:lnTo>
                  <a:lnTo>
                    <a:pt x="1476" y="190"/>
                  </a:lnTo>
                  <a:lnTo>
                    <a:pt x="1369" y="238"/>
                  </a:lnTo>
                  <a:lnTo>
                    <a:pt x="1264" y="291"/>
                  </a:lnTo>
                  <a:lnTo>
                    <a:pt x="1163" y="350"/>
                  </a:lnTo>
                  <a:lnTo>
                    <a:pt x="1065" y="412"/>
                  </a:lnTo>
                  <a:lnTo>
                    <a:pt x="970" y="479"/>
                  </a:lnTo>
                  <a:lnTo>
                    <a:pt x="879" y="552"/>
                  </a:lnTo>
                  <a:lnTo>
                    <a:pt x="792" y="627"/>
                  </a:lnTo>
                  <a:lnTo>
                    <a:pt x="707" y="707"/>
                  </a:lnTo>
                  <a:lnTo>
                    <a:pt x="627" y="791"/>
                  </a:lnTo>
                  <a:lnTo>
                    <a:pt x="552" y="879"/>
                  </a:lnTo>
                  <a:lnTo>
                    <a:pt x="479" y="971"/>
                  </a:lnTo>
                  <a:lnTo>
                    <a:pt x="412" y="1065"/>
                  </a:lnTo>
                  <a:lnTo>
                    <a:pt x="350" y="1163"/>
                  </a:lnTo>
                  <a:lnTo>
                    <a:pt x="291" y="1264"/>
                  </a:lnTo>
                  <a:lnTo>
                    <a:pt x="237" y="1368"/>
                  </a:lnTo>
                  <a:lnTo>
                    <a:pt x="190" y="1475"/>
                  </a:lnTo>
                  <a:lnTo>
                    <a:pt x="147" y="1585"/>
                  </a:lnTo>
                  <a:lnTo>
                    <a:pt x="108" y="1697"/>
                  </a:lnTo>
                  <a:lnTo>
                    <a:pt x="75" y="1812"/>
                  </a:lnTo>
                  <a:lnTo>
                    <a:pt x="48" y="1929"/>
                  </a:lnTo>
                  <a:lnTo>
                    <a:pt x="28" y="2047"/>
                  </a:lnTo>
                  <a:lnTo>
                    <a:pt x="11" y="2168"/>
                  </a:lnTo>
                  <a:lnTo>
                    <a:pt x="3" y="2291"/>
                  </a:lnTo>
                  <a:lnTo>
                    <a:pt x="0" y="2416"/>
                  </a:lnTo>
                  <a:lnTo>
                    <a:pt x="3" y="2540"/>
                  </a:lnTo>
                  <a:lnTo>
                    <a:pt x="11" y="2662"/>
                  </a:lnTo>
                  <a:lnTo>
                    <a:pt x="28" y="2783"/>
                  </a:lnTo>
                  <a:lnTo>
                    <a:pt x="48" y="2903"/>
                  </a:lnTo>
                  <a:lnTo>
                    <a:pt x="75" y="3019"/>
                  </a:lnTo>
                  <a:lnTo>
                    <a:pt x="108" y="3134"/>
                  </a:lnTo>
                  <a:lnTo>
                    <a:pt x="147" y="3246"/>
                  </a:lnTo>
                  <a:lnTo>
                    <a:pt x="190" y="3355"/>
                  </a:lnTo>
                  <a:lnTo>
                    <a:pt x="237" y="3462"/>
                  </a:lnTo>
                  <a:lnTo>
                    <a:pt x="291" y="3567"/>
                  </a:lnTo>
                  <a:lnTo>
                    <a:pt x="350" y="3668"/>
                  </a:lnTo>
                  <a:lnTo>
                    <a:pt x="412" y="3766"/>
                  </a:lnTo>
                  <a:lnTo>
                    <a:pt x="479" y="3861"/>
                  </a:lnTo>
                  <a:lnTo>
                    <a:pt x="552" y="3951"/>
                  </a:lnTo>
                  <a:lnTo>
                    <a:pt x="627" y="4040"/>
                  </a:lnTo>
                  <a:lnTo>
                    <a:pt x="707" y="4123"/>
                  </a:lnTo>
                  <a:lnTo>
                    <a:pt x="792" y="4203"/>
                  </a:lnTo>
                  <a:lnTo>
                    <a:pt x="879" y="4280"/>
                  </a:lnTo>
                  <a:lnTo>
                    <a:pt x="970" y="4351"/>
                  </a:lnTo>
                  <a:lnTo>
                    <a:pt x="1065" y="4418"/>
                  </a:lnTo>
                  <a:lnTo>
                    <a:pt x="1163" y="4482"/>
                  </a:lnTo>
                  <a:lnTo>
                    <a:pt x="1264" y="4540"/>
                  </a:lnTo>
                  <a:lnTo>
                    <a:pt x="1369" y="4593"/>
                  </a:lnTo>
                  <a:lnTo>
                    <a:pt x="1476" y="4642"/>
                  </a:lnTo>
                  <a:lnTo>
                    <a:pt x="1585" y="4685"/>
                  </a:lnTo>
                  <a:lnTo>
                    <a:pt x="1697" y="4723"/>
                  </a:lnTo>
                  <a:lnTo>
                    <a:pt x="1813" y="4755"/>
                  </a:lnTo>
                  <a:lnTo>
                    <a:pt x="1929" y="4782"/>
                  </a:lnTo>
                  <a:lnTo>
                    <a:pt x="2048" y="4804"/>
                  </a:lnTo>
                  <a:lnTo>
                    <a:pt x="2169" y="4819"/>
                  </a:lnTo>
                  <a:lnTo>
                    <a:pt x="2291" y="4828"/>
                  </a:lnTo>
                  <a:lnTo>
                    <a:pt x="2416" y="4831"/>
                  </a:lnTo>
                  <a:lnTo>
                    <a:pt x="2541" y="4828"/>
                  </a:lnTo>
                  <a:lnTo>
                    <a:pt x="2663" y="4819"/>
                  </a:lnTo>
                  <a:lnTo>
                    <a:pt x="2784" y="4804"/>
                  </a:lnTo>
                  <a:lnTo>
                    <a:pt x="2903" y="4782"/>
                  </a:lnTo>
                  <a:lnTo>
                    <a:pt x="3020" y="4755"/>
                  </a:lnTo>
                  <a:lnTo>
                    <a:pt x="3135" y="4723"/>
                  </a:lnTo>
                  <a:lnTo>
                    <a:pt x="3247" y="4685"/>
                  </a:lnTo>
                  <a:lnTo>
                    <a:pt x="3357" y="4642"/>
                  </a:lnTo>
                  <a:lnTo>
                    <a:pt x="3464" y="4593"/>
                  </a:lnTo>
                  <a:lnTo>
                    <a:pt x="3569" y="4540"/>
                  </a:lnTo>
                  <a:lnTo>
                    <a:pt x="3669" y="4482"/>
                  </a:lnTo>
                  <a:lnTo>
                    <a:pt x="3767" y="4418"/>
                  </a:lnTo>
                  <a:lnTo>
                    <a:pt x="3862" y="4351"/>
                  </a:lnTo>
                  <a:lnTo>
                    <a:pt x="3953" y="4280"/>
                  </a:lnTo>
                  <a:lnTo>
                    <a:pt x="4041" y="4203"/>
                  </a:lnTo>
                  <a:lnTo>
                    <a:pt x="4125" y="4123"/>
                  </a:lnTo>
                  <a:lnTo>
                    <a:pt x="4205" y="4040"/>
                  </a:lnTo>
                  <a:lnTo>
                    <a:pt x="4281" y="3951"/>
                  </a:lnTo>
                  <a:lnTo>
                    <a:pt x="4353" y="3861"/>
                  </a:lnTo>
                  <a:lnTo>
                    <a:pt x="4420" y="3766"/>
                  </a:lnTo>
                  <a:lnTo>
                    <a:pt x="4483" y="3668"/>
                  </a:lnTo>
                  <a:lnTo>
                    <a:pt x="4541" y="3567"/>
                  </a:lnTo>
                  <a:lnTo>
                    <a:pt x="4595" y="3462"/>
                  </a:lnTo>
                  <a:lnTo>
                    <a:pt x="4643" y="3355"/>
                  </a:lnTo>
                  <a:lnTo>
                    <a:pt x="4686" y="3246"/>
                  </a:lnTo>
                  <a:lnTo>
                    <a:pt x="4725" y="3134"/>
                  </a:lnTo>
                  <a:lnTo>
                    <a:pt x="4757" y="3019"/>
                  </a:lnTo>
                  <a:lnTo>
                    <a:pt x="4784" y="2903"/>
                  </a:lnTo>
                  <a:lnTo>
                    <a:pt x="4805" y="2783"/>
                  </a:lnTo>
                  <a:lnTo>
                    <a:pt x="4821" y="2662"/>
                  </a:lnTo>
                  <a:lnTo>
                    <a:pt x="4830" y="2540"/>
                  </a:lnTo>
                  <a:lnTo>
                    <a:pt x="4833" y="2416"/>
                  </a:lnTo>
                  <a:close/>
                  <a:moveTo>
                    <a:pt x="4792" y="2416"/>
                  </a:moveTo>
                  <a:lnTo>
                    <a:pt x="4789" y="2538"/>
                  </a:lnTo>
                  <a:lnTo>
                    <a:pt x="4779" y="2658"/>
                  </a:lnTo>
                  <a:lnTo>
                    <a:pt x="4764" y="2776"/>
                  </a:lnTo>
                  <a:lnTo>
                    <a:pt x="4743" y="2894"/>
                  </a:lnTo>
                  <a:lnTo>
                    <a:pt x="4716" y="3009"/>
                  </a:lnTo>
                  <a:lnTo>
                    <a:pt x="4685" y="3121"/>
                  </a:lnTo>
                  <a:lnTo>
                    <a:pt x="4647" y="3232"/>
                  </a:lnTo>
                  <a:lnTo>
                    <a:pt x="4605" y="3339"/>
                  </a:lnTo>
                  <a:lnTo>
                    <a:pt x="4557" y="3445"/>
                  </a:lnTo>
                  <a:lnTo>
                    <a:pt x="4504" y="3546"/>
                  </a:lnTo>
                  <a:lnTo>
                    <a:pt x="4447" y="3647"/>
                  </a:lnTo>
                  <a:lnTo>
                    <a:pt x="4385" y="3743"/>
                  </a:lnTo>
                  <a:lnTo>
                    <a:pt x="4320" y="3836"/>
                  </a:lnTo>
                  <a:lnTo>
                    <a:pt x="4249" y="3926"/>
                  </a:lnTo>
                  <a:lnTo>
                    <a:pt x="4174" y="4012"/>
                  </a:lnTo>
                  <a:lnTo>
                    <a:pt x="4096" y="4094"/>
                  </a:lnTo>
                  <a:lnTo>
                    <a:pt x="4013" y="4173"/>
                  </a:lnTo>
                  <a:lnTo>
                    <a:pt x="3927" y="4247"/>
                  </a:lnTo>
                  <a:lnTo>
                    <a:pt x="3838" y="4318"/>
                  </a:lnTo>
                  <a:lnTo>
                    <a:pt x="3744" y="4383"/>
                  </a:lnTo>
                  <a:lnTo>
                    <a:pt x="3647" y="4446"/>
                  </a:lnTo>
                  <a:lnTo>
                    <a:pt x="3548" y="4503"/>
                  </a:lnTo>
                  <a:lnTo>
                    <a:pt x="3445" y="4555"/>
                  </a:lnTo>
                  <a:lnTo>
                    <a:pt x="3341" y="4603"/>
                  </a:lnTo>
                  <a:lnTo>
                    <a:pt x="3233" y="4646"/>
                  </a:lnTo>
                  <a:lnTo>
                    <a:pt x="3122" y="4683"/>
                  </a:lnTo>
                  <a:lnTo>
                    <a:pt x="3010" y="4715"/>
                  </a:lnTo>
                  <a:lnTo>
                    <a:pt x="2894" y="4741"/>
                  </a:lnTo>
                  <a:lnTo>
                    <a:pt x="2778" y="4763"/>
                  </a:lnTo>
                  <a:lnTo>
                    <a:pt x="2659" y="4778"/>
                  </a:lnTo>
                  <a:lnTo>
                    <a:pt x="2539" y="4786"/>
                  </a:lnTo>
                  <a:lnTo>
                    <a:pt x="2416" y="4790"/>
                  </a:lnTo>
                  <a:lnTo>
                    <a:pt x="2294" y="4786"/>
                  </a:lnTo>
                  <a:lnTo>
                    <a:pt x="2174" y="4778"/>
                  </a:lnTo>
                  <a:lnTo>
                    <a:pt x="2055" y="4763"/>
                  </a:lnTo>
                  <a:lnTo>
                    <a:pt x="1938" y="4741"/>
                  </a:lnTo>
                  <a:lnTo>
                    <a:pt x="1822" y="4715"/>
                  </a:lnTo>
                  <a:lnTo>
                    <a:pt x="1710" y="4683"/>
                  </a:lnTo>
                  <a:lnTo>
                    <a:pt x="1600" y="4646"/>
                  </a:lnTo>
                  <a:lnTo>
                    <a:pt x="1492" y="4603"/>
                  </a:lnTo>
                  <a:lnTo>
                    <a:pt x="1387" y="4555"/>
                  </a:lnTo>
                  <a:lnTo>
                    <a:pt x="1284" y="4503"/>
                  </a:lnTo>
                  <a:lnTo>
                    <a:pt x="1185" y="4446"/>
                  </a:lnTo>
                  <a:lnTo>
                    <a:pt x="1089" y="4383"/>
                  </a:lnTo>
                  <a:lnTo>
                    <a:pt x="995" y="4318"/>
                  </a:lnTo>
                  <a:lnTo>
                    <a:pt x="905" y="4247"/>
                  </a:lnTo>
                  <a:lnTo>
                    <a:pt x="820" y="4173"/>
                  </a:lnTo>
                  <a:lnTo>
                    <a:pt x="736" y="4094"/>
                  </a:lnTo>
                  <a:lnTo>
                    <a:pt x="658" y="4012"/>
                  </a:lnTo>
                  <a:lnTo>
                    <a:pt x="583" y="3926"/>
                  </a:lnTo>
                  <a:lnTo>
                    <a:pt x="513" y="3836"/>
                  </a:lnTo>
                  <a:lnTo>
                    <a:pt x="447" y="3743"/>
                  </a:lnTo>
                  <a:lnTo>
                    <a:pt x="385" y="3647"/>
                  </a:lnTo>
                  <a:lnTo>
                    <a:pt x="328" y="3546"/>
                  </a:lnTo>
                  <a:lnTo>
                    <a:pt x="275" y="3445"/>
                  </a:lnTo>
                  <a:lnTo>
                    <a:pt x="228" y="3339"/>
                  </a:lnTo>
                  <a:lnTo>
                    <a:pt x="185" y="3232"/>
                  </a:lnTo>
                  <a:lnTo>
                    <a:pt x="148" y="3121"/>
                  </a:lnTo>
                  <a:lnTo>
                    <a:pt x="116" y="3009"/>
                  </a:lnTo>
                  <a:lnTo>
                    <a:pt x="89" y="2894"/>
                  </a:lnTo>
                  <a:lnTo>
                    <a:pt x="69" y="2776"/>
                  </a:lnTo>
                  <a:lnTo>
                    <a:pt x="54" y="2658"/>
                  </a:lnTo>
                  <a:lnTo>
                    <a:pt x="44" y="2538"/>
                  </a:lnTo>
                  <a:lnTo>
                    <a:pt x="41" y="2416"/>
                  </a:lnTo>
                  <a:lnTo>
                    <a:pt x="44" y="2294"/>
                  </a:lnTo>
                  <a:lnTo>
                    <a:pt x="54" y="2173"/>
                  </a:lnTo>
                  <a:lnTo>
                    <a:pt x="69" y="2054"/>
                  </a:lnTo>
                  <a:lnTo>
                    <a:pt x="89" y="1937"/>
                  </a:lnTo>
                  <a:lnTo>
                    <a:pt x="116" y="1822"/>
                  </a:lnTo>
                  <a:lnTo>
                    <a:pt x="148" y="1709"/>
                  </a:lnTo>
                  <a:lnTo>
                    <a:pt x="185" y="1599"/>
                  </a:lnTo>
                  <a:lnTo>
                    <a:pt x="228" y="1491"/>
                  </a:lnTo>
                  <a:lnTo>
                    <a:pt x="275" y="1386"/>
                  </a:lnTo>
                  <a:lnTo>
                    <a:pt x="328" y="1284"/>
                  </a:lnTo>
                  <a:lnTo>
                    <a:pt x="385" y="1184"/>
                  </a:lnTo>
                  <a:lnTo>
                    <a:pt x="447" y="1088"/>
                  </a:lnTo>
                  <a:lnTo>
                    <a:pt x="513" y="995"/>
                  </a:lnTo>
                  <a:lnTo>
                    <a:pt x="583" y="906"/>
                  </a:lnTo>
                  <a:lnTo>
                    <a:pt x="658" y="819"/>
                  </a:lnTo>
                  <a:lnTo>
                    <a:pt x="736" y="736"/>
                  </a:lnTo>
                  <a:lnTo>
                    <a:pt x="820" y="659"/>
                  </a:lnTo>
                  <a:lnTo>
                    <a:pt x="905" y="584"/>
                  </a:lnTo>
                  <a:lnTo>
                    <a:pt x="995" y="513"/>
                  </a:lnTo>
                  <a:lnTo>
                    <a:pt x="1089" y="447"/>
                  </a:lnTo>
                  <a:lnTo>
                    <a:pt x="1185" y="385"/>
                  </a:lnTo>
                  <a:lnTo>
                    <a:pt x="1284" y="328"/>
                  </a:lnTo>
                  <a:lnTo>
                    <a:pt x="1387" y="275"/>
                  </a:lnTo>
                  <a:lnTo>
                    <a:pt x="1492" y="228"/>
                  </a:lnTo>
                  <a:lnTo>
                    <a:pt x="1600" y="185"/>
                  </a:lnTo>
                  <a:lnTo>
                    <a:pt x="1710" y="148"/>
                  </a:lnTo>
                  <a:lnTo>
                    <a:pt x="1822" y="116"/>
                  </a:lnTo>
                  <a:lnTo>
                    <a:pt x="1938" y="89"/>
                  </a:lnTo>
                  <a:lnTo>
                    <a:pt x="2055" y="69"/>
                  </a:lnTo>
                  <a:lnTo>
                    <a:pt x="2174" y="54"/>
                  </a:lnTo>
                  <a:lnTo>
                    <a:pt x="2294" y="44"/>
                  </a:lnTo>
                  <a:lnTo>
                    <a:pt x="2416" y="42"/>
                  </a:lnTo>
                  <a:lnTo>
                    <a:pt x="2539" y="44"/>
                  </a:lnTo>
                  <a:lnTo>
                    <a:pt x="2659" y="54"/>
                  </a:lnTo>
                  <a:lnTo>
                    <a:pt x="2778" y="69"/>
                  </a:lnTo>
                  <a:lnTo>
                    <a:pt x="2894" y="89"/>
                  </a:lnTo>
                  <a:lnTo>
                    <a:pt x="3010" y="116"/>
                  </a:lnTo>
                  <a:lnTo>
                    <a:pt x="3122" y="148"/>
                  </a:lnTo>
                  <a:lnTo>
                    <a:pt x="3233" y="185"/>
                  </a:lnTo>
                  <a:lnTo>
                    <a:pt x="3341" y="228"/>
                  </a:lnTo>
                  <a:lnTo>
                    <a:pt x="3445" y="275"/>
                  </a:lnTo>
                  <a:lnTo>
                    <a:pt x="3548" y="328"/>
                  </a:lnTo>
                  <a:lnTo>
                    <a:pt x="3647" y="385"/>
                  </a:lnTo>
                  <a:lnTo>
                    <a:pt x="3744" y="447"/>
                  </a:lnTo>
                  <a:lnTo>
                    <a:pt x="3838" y="513"/>
                  </a:lnTo>
                  <a:lnTo>
                    <a:pt x="3927" y="584"/>
                  </a:lnTo>
                  <a:lnTo>
                    <a:pt x="4013" y="659"/>
                  </a:lnTo>
                  <a:lnTo>
                    <a:pt x="4096" y="736"/>
                  </a:lnTo>
                  <a:lnTo>
                    <a:pt x="4174" y="819"/>
                  </a:lnTo>
                  <a:lnTo>
                    <a:pt x="4249" y="906"/>
                  </a:lnTo>
                  <a:lnTo>
                    <a:pt x="4320" y="995"/>
                  </a:lnTo>
                  <a:lnTo>
                    <a:pt x="4385" y="1088"/>
                  </a:lnTo>
                  <a:lnTo>
                    <a:pt x="4447" y="1184"/>
                  </a:lnTo>
                  <a:lnTo>
                    <a:pt x="4504" y="1284"/>
                  </a:lnTo>
                  <a:lnTo>
                    <a:pt x="4557" y="1386"/>
                  </a:lnTo>
                  <a:lnTo>
                    <a:pt x="4605" y="1491"/>
                  </a:lnTo>
                  <a:lnTo>
                    <a:pt x="4647" y="1599"/>
                  </a:lnTo>
                  <a:lnTo>
                    <a:pt x="4685" y="1709"/>
                  </a:lnTo>
                  <a:lnTo>
                    <a:pt x="4716" y="1822"/>
                  </a:lnTo>
                  <a:lnTo>
                    <a:pt x="4743" y="1937"/>
                  </a:lnTo>
                  <a:lnTo>
                    <a:pt x="4764" y="2054"/>
                  </a:lnTo>
                  <a:lnTo>
                    <a:pt x="4779" y="2173"/>
                  </a:lnTo>
                  <a:lnTo>
                    <a:pt x="4789" y="2294"/>
                  </a:lnTo>
                  <a:lnTo>
                    <a:pt x="4792" y="2416"/>
                  </a:lnTo>
                  <a:close/>
                </a:path>
              </a:pathLst>
            </a:custGeom>
            <a:solidFill>
              <a:srgbClr val="e25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22680" y="2046240"/>
              <a:ext cx="1901880" cy="1901880"/>
            </a:xfrm>
            <a:custGeom>
              <a:avLst/>
              <a:gdLst/>
              <a:ahLst/>
              <a:rect l="l" t="t" r="r" b="b"/>
              <a:pathLst>
                <a:path w="4792" h="4790">
                  <a:moveTo>
                    <a:pt x="4792" y="2396"/>
                  </a:moveTo>
                  <a:lnTo>
                    <a:pt x="4789" y="2273"/>
                  </a:lnTo>
                  <a:lnTo>
                    <a:pt x="4779" y="2151"/>
                  </a:lnTo>
                  <a:lnTo>
                    <a:pt x="4764" y="2031"/>
                  </a:lnTo>
                  <a:lnTo>
                    <a:pt x="4744" y="1913"/>
                  </a:lnTo>
                  <a:lnTo>
                    <a:pt x="4717" y="1797"/>
                  </a:lnTo>
                  <a:lnTo>
                    <a:pt x="4684" y="1683"/>
                  </a:lnTo>
                  <a:lnTo>
                    <a:pt x="4646" y="1572"/>
                  </a:lnTo>
                  <a:lnTo>
                    <a:pt x="4604" y="1464"/>
                  </a:lnTo>
                  <a:lnTo>
                    <a:pt x="4556" y="1357"/>
                  </a:lnTo>
                  <a:lnTo>
                    <a:pt x="4503" y="1254"/>
                  </a:lnTo>
                  <a:lnTo>
                    <a:pt x="4445" y="1154"/>
                  </a:lnTo>
                  <a:lnTo>
                    <a:pt x="4383" y="1056"/>
                  </a:lnTo>
                  <a:lnTo>
                    <a:pt x="4316" y="963"/>
                  </a:lnTo>
                  <a:lnTo>
                    <a:pt x="4244" y="872"/>
                  </a:lnTo>
                  <a:lnTo>
                    <a:pt x="4170" y="785"/>
                  </a:lnTo>
                  <a:lnTo>
                    <a:pt x="4090" y="702"/>
                  </a:lnTo>
                  <a:lnTo>
                    <a:pt x="4007" y="622"/>
                  </a:lnTo>
                  <a:lnTo>
                    <a:pt x="3920" y="548"/>
                  </a:lnTo>
                  <a:lnTo>
                    <a:pt x="3830" y="477"/>
                  </a:lnTo>
                  <a:lnTo>
                    <a:pt x="3736" y="410"/>
                  </a:lnTo>
                  <a:lnTo>
                    <a:pt x="3638" y="347"/>
                  </a:lnTo>
                  <a:lnTo>
                    <a:pt x="3538" y="290"/>
                  </a:lnTo>
                  <a:lnTo>
                    <a:pt x="3435" y="237"/>
                  </a:lnTo>
                  <a:lnTo>
                    <a:pt x="3329" y="189"/>
                  </a:lnTo>
                  <a:lnTo>
                    <a:pt x="3220" y="146"/>
                  </a:lnTo>
                  <a:lnTo>
                    <a:pt x="3109" y="108"/>
                  </a:lnTo>
                  <a:lnTo>
                    <a:pt x="2995" y="76"/>
                  </a:lnTo>
                  <a:lnTo>
                    <a:pt x="2879" y="49"/>
                  </a:lnTo>
                  <a:lnTo>
                    <a:pt x="2761" y="28"/>
                  </a:lnTo>
                  <a:lnTo>
                    <a:pt x="2641" y="13"/>
                  </a:lnTo>
                  <a:lnTo>
                    <a:pt x="2520" y="3"/>
                  </a:lnTo>
                  <a:lnTo>
                    <a:pt x="2396" y="0"/>
                  </a:lnTo>
                  <a:lnTo>
                    <a:pt x="2272" y="3"/>
                  </a:lnTo>
                  <a:lnTo>
                    <a:pt x="2151" y="13"/>
                  </a:lnTo>
                  <a:lnTo>
                    <a:pt x="2032" y="28"/>
                  </a:lnTo>
                  <a:lnTo>
                    <a:pt x="1914" y="49"/>
                  </a:lnTo>
                  <a:lnTo>
                    <a:pt x="1797" y="76"/>
                  </a:lnTo>
                  <a:lnTo>
                    <a:pt x="1684" y="108"/>
                  </a:lnTo>
                  <a:lnTo>
                    <a:pt x="1572" y="146"/>
                  </a:lnTo>
                  <a:lnTo>
                    <a:pt x="1463" y="189"/>
                  </a:lnTo>
                  <a:lnTo>
                    <a:pt x="1357" y="237"/>
                  </a:lnTo>
                  <a:lnTo>
                    <a:pt x="1255" y="290"/>
                  </a:lnTo>
                  <a:lnTo>
                    <a:pt x="1154" y="347"/>
                  </a:lnTo>
                  <a:lnTo>
                    <a:pt x="1057" y="410"/>
                  </a:lnTo>
                  <a:lnTo>
                    <a:pt x="963" y="477"/>
                  </a:lnTo>
                  <a:lnTo>
                    <a:pt x="872" y="548"/>
                  </a:lnTo>
                  <a:lnTo>
                    <a:pt x="786" y="622"/>
                  </a:lnTo>
                  <a:lnTo>
                    <a:pt x="702" y="702"/>
                  </a:lnTo>
                  <a:lnTo>
                    <a:pt x="622" y="785"/>
                  </a:lnTo>
                  <a:lnTo>
                    <a:pt x="547" y="872"/>
                  </a:lnTo>
                  <a:lnTo>
                    <a:pt x="477" y="963"/>
                  </a:lnTo>
                  <a:lnTo>
                    <a:pt x="410" y="1056"/>
                  </a:lnTo>
                  <a:lnTo>
                    <a:pt x="347" y="1154"/>
                  </a:lnTo>
                  <a:lnTo>
                    <a:pt x="290" y="1254"/>
                  </a:lnTo>
                  <a:lnTo>
                    <a:pt x="237" y="1357"/>
                  </a:lnTo>
                  <a:lnTo>
                    <a:pt x="188" y="1464"/>
                  </a:lnTo>
                  <a:lnTo>
                    <a:pt x="146" y="1572"/>
                  </a:lnTo>
                  <a:lnTo>
                    <a:pt x="108" y="1683"/>
                  </a:lnTo>
                  <a:lnTo>
                    <a:pt x="76" y="1797"/>
                  </a:lnTo>
                  <a:lnTo>
                    <a:pt x="49" y="1913"/>
                  </a:lnTo>
                  <a:lnTo>
                    <a:pt x="28" y="2031"/>
                  </a:lnTo>
                  <a:lnTo>
                    <a:pt x="13" y="2151"/>
                  </a:lnTo>
                  <a:lnTo>
                    <a:pt x="3" y="2273"/>
                  </a:lnTo>
                  <a:lnTo>
                    <a:pt x="0" y="2396"/>
                  </a:lnTo>
                  <a:lnTo>
                    <a:pt x="3" y="2519"/>
                  </a:lnTo>
                  <a:lnTo>
                    <a:pt x="13" y="2640"/>
                  </a:lnTo>
                  <a:lnTo>
                    <a:pt x="28" y="2760"/>
                  </a:lnTo>
                  <a:lnTo>
                    <a:pt x="49" y="2878"/>
                  </a:lnTo>
                  <a:lnTo>
                    <a:pt x="76" y="2994"/>
                  </a:lnTo>
                  <a:lnTo>
                    <a:pt x="108" y="3107"/>
                  </a:lnTo>
                  <a:lnTo>
                    <a:pt x="146" y="3219"/>
                  </a:lnTo>
                  <a:lnTo>
                    <a:pt x="188" y="3328"/>
                  </a:lnTo>
                  <a:lnTo>
                    <a:pt x="237" y="3434"/>
                  </a:lnTo>
                  <a:lnTo>
                    <a:pt x="290" y="3537"/>
                  </a:lnTo>
                  <a:lnTo>
                    <a:pt x="347" y="3638"/>
                  </a:lnTo>
                  <a:lnTo>
                    <a:pt x="410" y="3735"/>
                  </a:lnTo>
                  <a:lnTo>
                    <a:pt x="477" y="3828"/>
                  </a:lnTo>
                  <a:lnTo>
                    <a:pt x="547" y="3918"/>
                  </a:lnTo>
                  <a:lnTo>
                    <a:pt x="622" y="4006"/>
                  </a:lnTo>
                  <a:lnTo>
                    <a:pt x="702" y="4089"/>
                  </a:lnTo>
                  <a:lnTo>
                    <a:pt x="786" y="4168"/>
                  </a:lnTo>
                  <a:lnTo>
                    <a:pt x="872" y="4244"/>
                  </a:lnTo>
                  <a:lnTo>
                    <a:pt x="963" y="4315"/>
                  </a:lnTo>
                  <a:lnTo>
                    <a:pt x="1057" y="4381"/>
                  </a:lnTo>
                  <a:lnTo>
                    <a:pt x="1154" y="4443"/>
                  </a:lnTo>
                  <a:lnTo>
                    <a:pt x="1255" y="4502"/>
                  </a:lnTo>
                  <a:lnTo>
                    <a:pt x="1357" y="4555"/>
                  </a:lnTo>
                  <a:lnTo>
                    <a:pt x="1463" y="4602"/>
                  </a:lnTo>
                  <a:lnTo>
                    <a:pt x="1572" y="4645"/>
                  </a:lnTo>
                  <a:lnTo>
                    <a:pt x="1684" y="4682"/>
                  </a:lnTo>
                  <a:lnTo>
                    <a:pt x="1797" y="4714"/>
                  </a:lnTo>
                  <a:lnTo>
                    <a:pt x="1914" y="4741"/>
                  </a:lnTo>
                  <a:lnTo>
                    <a:pt x="2032" y="4763"/>
                  </a:lnTo>
                  <a:lnTo>
                    <a:pt x="2151" y="4778"/>
                  </a:lnTo>
                  <a:lnTo>
                    <a:pt x="2272" y="4787"/>
                  </a:lnTo>
                  <a:lnTo>
                    <a:pt x="2396" y="4790"/>
                  </a:lnTo>
                  <a:lnTo>
                    <a:pt x="2520" y="4787"/>
                  </a:lnTo>
                  <a:lnTo>
                    <a:pt x="2641" y="4778"/>
                  </a:lnTo>
                  <a:lnTo>
                    <a:pt x="2761" y="4763"/>
                  </a:lnTo>
                  <a:lnTo>
                    <a:pt x="2879" y="4741"/>
                  </a:lnTo>
                  <a:lnTo>
                    <a:pt x="2995" y="4714"/>
                  </a:lnTo>
                  <a:lnTo>
                    <a:pt x="3109" y="4682"/>
                  </a:lnTo>
                  <a:lnTo>
                    <a:pt x="3220" y="4645"/>
                  </a:lnTo>
                  <a:lnTo>
                    <a:pt x="3329" y="4602"/>
                  </a:lnTo>
                  <a:lnTo>
                    <a:pt x="3435" y="4555"/>
                  </a:lnTo>
                  <a:lnTo>
                    <a:pt x="3538" y="4502"/>
                  </a:lnTo>
                  <a:lnTo>
                    <a:pt x="3638" y="4443"/>
                  </a:lnTo>
                  <a:lnTo>
                    <a:pt x="3736" y="4381"/>
                  </a:lnTo>
                  <a:lnTo>
                    <a:pt x="3830" y="4315"/>
                  </a:lnTo>
                  <a:lnTo>
                    <a:pt x="3920" y="4244"/>
                  </a:lnTo>
                  <a:lnTo>
                    <a:pt x="4007" y="4168"/>
                  </a:lnTo>
                  <a:lnTo>
                    <a:pt x="4090" y="4089"/>
                  </a:lnTo>
                  <a:lnTo>
                    <a:pt x="4170" y="4006"/>
                  </a:lnTo>
                  <a:lnTo>
                    <a:pt x="4244" y="3918"/>
                  </a:lnTo>
                  <a:lnTo>
                    <a:pt x="4316" y="3828"/>
                  </a:lnTo>
                  <a:lnTo>
                    <a:pt x="4383" y="3735"/>
                  </a:lnTo>
                  <a:lnTo>
                    <a:pt x="4445" y="3638"/>
                  </a:lnTo>
                  <a:lnTo>
                    <a:pt x="4503" y="3537"/>
                  </a:lnTo>
                  <a:lnTo>
                    <a:pt x="4556" y="3434"/>
                  </a:lnTo>
                  <a:lnTo>
                    <a:pt x="4604" y="3328"/>
                  </a:lnTo>
                  <a:lnTo>
                    <a:pt x="4646" y="3219"/>
                  </a:lnTo>
                  <a:lnTo>
                    <a:pt x="4684" y="3107"/>
                  </a:lnTo>
                  <a:lnTo>
                    <a:pt x="4717" y="2994"/>
                  </a:lnTo>
                  <a:lnTo>
                    <a:pt x="4744" y="2878"/>
                  </a:lnTo>
                  <a:lnTo>
                    <a:pt x="4764" y="2760"/>
                  </a:lnTo>
                  <a:lnTo>
                    <a:pt x="4779" y="2640"/>
                  </a:lnTo>
                  <a:lnTo>
                    <a:pt x="4789" y="2519"/>
                  </a:lnTo>
                  <a:lnTo>
                    <a:pt x="4792" y="2396"/>
                  </a:lnTo>
                  <a:close/>
                  <a:moveTo>
                    <a:pt x="4750" y="2396"/>
                  </a:moveTo>
                  <a:lnTo>
                    <a:pt x="4747" y="2517"/>
                  </a:lnTo>
                  <a:lnTo>
                    <a:pt x="4738" y="2637"/>
                  </a:lnTo>
                  <a:lnTo>
                    <a:pt x="4723" y="2754"/>
                  </a:lnTo>
                  <a:lnTo>
                    <a:pt x="4703" y="2870"/>
                  </a:lnTo>
                  <a:lnTo>
                    <a:pt x="4677" y="2983"/>
                  </a:lnTo>
                  <a:lnTo>
                    <a:pt x="4644" y="3096"/>
                  </a:lnTo>
                  <a:lnTo>
                    <a:pt x="4608" y="3205"/>
                  </a:lnTo>
                  <a:lnTo>
                    <a:pt x="4565" y="3312"/>
                  </a:lnTo>
                  <a:lnTo>
                    <a:pt x="4518" y="3415"/>
                  </a:lnTo>
                  <a:lnTo>
                    <a:pt x="4466" y="3517"/>
                  </a:lnTo>
                  <a:lnTo>
                    <a:pt x="4410" y="3616"/>
                  </a:lnTo>
                  <a:lnTo>
                    <a:pt x="4348" y="3711"/>
                  </a:lnTo>
                  <a:lnTo>
                    <a:pt x="4282" y="3803"/>
                  </a:lnTo>
                  <a:lnTo>
                    <a:pt x="4213" y="3893"/>
                  </a:lnTo>
                  <a:lnTo>
                    <a:pt x="4139" y="3978"/>
                  </a:lnTo>
                  <a:lnTo>
                    <a:pt x="4061" y="4059"/>
                  </a:lnTo>
                  <a:lnTo>
                    <a:pt x="3979" y="4138"/>
                  </a:lnTo>
                  <a:lnTo>
                    <a:pt x="3893" y="4211"/>
                  </a:lnTo>
                  <a:lnTo>
                    <a:pt x="3805" y="4281"/>
                  </a:lnTo>
                  <a:lnTo>
                    <a:pt x="3713" y="4346"/>
                  </a:lnTo>
                  <a:lnTo>
                    <a:pt x="3617" y="4408"/>
                  </a:lnTo>
                  <a:lnTo>
                    <a:pt x="3518" y="4465"/>
                  </a:lnTo>
                  <a:lnTo>
                    <a:pt x="3417" y="4517"/>
                  </a:lnTo>
                  <a:lnTo>
                    <a:pt x="3313" y="4563"/>
                  </a:lnTo>
                  <a:lnTo>
                    <a:pt x="3206" y="4605"/>
                  </a:lnTo>
                  <a:lnTo>
                    <a:pt x="3096" y="4643"/>
                  </a:lnTo>
                  <a:lnTo>
                    <a:pt x="2985" y="4674"/>
                  </a:lnTo>
                  <a:lnTo>
                    <a:pt x="2871" y="4700"/>
                  </a:lnTo>
                  <a:lnTo>
                    <a:pt x="2754" y="4722"/>
                  </a:lnTo>
                  <a:lnTo>
                    <a:pt x="2637" y="4736"/>
                  </a:lnTo>
                  <a:lnTo>
                    <a:pt x="2518" y="4746"/>
                  </a:lnTo>
                  <a:lnTo>
                    <a:pt x="2396" y="4749"/>
                  </a:lnTo>
                  <a:lnTo>
                    <a:pt x="2275" y="4746"/>
                  </a:lnTo>
                  <a:lnTo>
                    <a:pt x="2156" y="4736"/>
                  </a:lnTo>
                  <a:lnTo>
                    <a:pt x="2038" y="4722"/>
                  </a:lnTo>
                  <a:lnTo>
                    <a:pt x="1921" y="4700"/>
                  </a:lnTo>
                  <a:lnTo>
                    <a:pt x="1808" y="4674"/>
                  </a:lnTo>
                  <a:lnTo>
                    <a:pt x="1697" y="4643"/>
                  </a:lnTo>
                  <a:lnTo>
                    <a:pt x="1586" y="4605"/>
                  </a:lnTo>
                  <a:lnTo>
                    <a:pt x="1479" y="4563"/>
                  </a:lnTo>
                  <a:lnTo>
                    <a:pt x="1376" y="4517"/>
                  </a:lnTo>
                  <a:lnTo>
                    <a:pt x="1274" y="4465"/>
                  </a:lnTo>
                  <a:lnTo>
                    <a:pt x="1176" y="4408"/>
                  </a:lnTo>
                  <a:lnTo>
                    <a:pt x="1080" y="4346"/>
                  </a:lnTo>
                  <a:lnTo>
                    <a:pt x="988" y="4281"/>
                  </a:lnTo>
                  <a:lnTo>
                    <a:pt x="899" y="4211"/>
                  </a:lnTo>
                  <a:lnTo>
                    <a:pt x="814" y="4138"/>
                  </a:lnTo>
                  <a:lnTo>
                    <a:pt x="732" y="4059"/>
                  </a:lnTo>
                  <a:lnTo>
                    <a:pt x="654" y="3978"/>
                  </a:lnTo>
                  <a:lnTo>
                    <a:pt x="579" y="3893"/>
                  </a:lnTo>
                  <a:lnTo>
                    <a:pt x="510" y="3803"/>
                  </a:lnTo>
                  <a:lnTo>
                    <a:pt x="444" y="3711"/>
                  </a:lnTo>
                  <a:lnTo>
                    <a:pt x="383" y="3616"/>
                  </a:lnTo>
                  <a:lnTo>
                    <a:pt x="326" y="3517"/>
                  </a:lnTo>
                  <a:lnTo>
                    <a:pt x="275" y="3415"/>
                  </a:lnTo>
                  <a:lnTo>
                    <a:pt x="227" y="3312"/>
                  </a:lnTo>
                  <a:lnTo>
                    <a:pt x="185" y="3205"/>
                  </a:lnTo>
                  <a:lnTo>
                    <a:pt x="148" y="3096"/>
                  </a:lnTo>
                  <a:lnTo>
                    <a:pt x="116" y="2983"/>
                  </a:lnTo>
                  <a:lnTo>
                    <a:pt x="90" y="2870"/>
                  </a:lnTo>
                  <a:lnTo>
                    <a:pt x="69" y="2754"/>
                  </a:lnTo>
                  <a:lnTo>
                    <a:pt x="54" y="2637"/>
                  </a:lnTo>
                  <a:lnTo>
                    <a:pt x="45" y="2517"/>
                  </a:lnTo>
                  <a:lnTo>
                    <a:pt x="42" y="2396"/>
                  </a:lnTo>
                  <a:lnTo>
                    <a:pt x="45" y="2275"/>
                  </a:lnTo>
                  <a:lnTo>
                    <a:pt x="54" y="2155"/>
                  </a:lnTo>
                  <a:lnTo>
                    <a:pt x="69" y="2037"/>
                  </a:lnTo>
                  <a:lnTo>
                    <a:pt x="90" y="1922"/>
                  </a:lnTo>
                  <a:lnTo>
                    <a:pt x="116" y="1807"/>
                  </a:lnTo>
                  <a:lnTo>
                    <a:pt x="148" y="1696"/>
                  </a:lnTo>
                  <a:lnTo>
                    <a:pt x="185" y="1587"/>
                  </a:lnTo>
                  <a:lnTo>
                    <a:pt x="227" y="1480"/>
                  </a:lnTo>
                  <a:lnTo>
                    <a:pt x="275" y="1375"/>
                  </a:lnTo>
                  <a:lnTo>
                    <a:pt x="326" y="1274"/>
                  </a:lnTo>
                  <a:lnTo>
                    <a:pt x="383" y="1175"/>
                  </a:lnTo>
                  <a:lnTo>
                    <a:pt x="444" y="1080"/>
                  </a:lnTo>
                  <a:lnTo>
                    <a:pt x="510" y="987"/>
                  </a:lnTo>
                  <a:lnTo>
                    <a:pt x="579" y="899"/>
                  </a:lnTo>
                  <a:lnTo>
                    <a:pt x="654" y="813"/>
                  </a:lnTo>
                  <a:lnTo>
                    <a:pt x="732" y="731"/>
                  </a:lnTo>
                  <a:lnTo>
                    <a:pt x="814" y="654"/>
                  </a:lnTo>
                  <a:lnTo>
                    <a:pt x="899" y="579"/>
                  </a:lnTo>
                  <a:lnTo>
                    <a:pt x="988" y="510"/>
                  </a:lnTo>
                  <a:lnTo>
                    <a:pt x="1080" y="444"/>
                  </a:lnTo>
                  <a:lnTo>
                    <a:pt x="1176" y="383"/>
                  </a:lnTo>
                  <a:lnTo>
                    <a:pt x="1274" y="326"/>
                  </a:lnTo>
                  <a:lnTo>
                    <a:pt x="1376" y="275"/>
                  </a:lnTo>
                  <a:lnTo>
                    <a:pt x="1479" y="227"/>
                  </a:lnTo>
                  <a:lnTo>
                    <a:pt x="1586" y="185"/>
                  </a:lnTo>
                  <a:lnTo>
                    <a:pt x="1697" y="148"/>
                  </a:lnTo>
                  <a:lnTo>
                    <a:pt x="1808" y="116"/>
                  </a:lnTo>
                  <a:lnTo>
                    <a:pt x="1921" y="90"/>
                  </a:lnTo>
                  <a:lnTo>
                    <a:pt x="2038" y="69"/>
                  </a:lnTo>
                  <a:lnTo>
                    <a:pt x="2156" y="54"/>
                  </a:lnTo>
                  <a:lnTo>
                    <a:pt x="2275" y="46"/>
                  </a:lnTo>
                  <a:lnTo>
                    <a:pt x="2396" y="42"/>
                  </a:lnTo>
                  <a:lnTo>
                    <a:pt x="2518" y="46"/>
                  </a:lnTo>
                  <a:lnTo>
                    <a:pt x="2637" y="54"/>
                  </a:lnTo>
                  <a:lnTo>
                    <a:pt x="2754" y="69"/>
                  </a:lnTo>
                  <a:lnTo>
                    <a:pt x="2871" y="90"/>
                  </a:lnTo>
                  <a:lnTo>
                    <a:pt x="2985" y="116"/>
                  </a:lnTo>
                  <a:lnTo>
                    <a:pt x="3096" y="148"/>
                  </a:lnTo>
                  <a:lnTo>
                    <a:pt x="3206" y="185"/>
                  </a:lnTo>
                  <a:lnTo>
                    <a:pt x="3313" y="227"/>
                  </a:lnTo>
                  <a:lnTo>
                    <a:pt x="3417" y="275"/>
                  </a:lnTo>
                  <a:lnTo>
                    <a:pt x="3518" y="326"/>
                  </a:lnTo>
                  <a:lnTo>
                    <a:pt x="3617" y="383"/>
                  </a:lnTo>
                  <a:lnTo>
                    <a:pt x="3713" y="444"/>
                  </a:lnTo>
                  <a:lnTo>
                    <a:pt x="3805" y="510"/>
                  </a:lnTo>
                  <a:lnTo>
                    <a:pt x="3893" y="579"/>
                  </a:lnTo>
                  <a:lnTo>
                    <a:pt x="3979" y="654"/>
                  </a:lnTo>
                  <a:lnTo>
                    <a:pt x="4061" y="731"/>
                  </a:lnTo>
                  <a:lnTo>
                    <a:pt x="4139" y="813"/>
                  </a:lnTo>
                  <a:lnTo>
                    <a:pt x="4213" y="899"/>
                  </a:lnTo>
                  <a:lnTo>
                    <a:pt x="4282" y="987"/>
                  </a:lnTo>
                  <a:lnTo>
                    <a:pt x="4348" y="1080"/>
                  </a:lnTo>
                  <a:lnTo>
                    <a:pt x="4410" y="1175"/>
                  </a:lnTo>
                  <a:lnTo>
                    <a:pt x="4466" y="1274"/>
                  </a:lnTo>
                  <a:lnTo>
                    <a:pt x="4518" y="1375"/>
                  </a:lnTo>
                  <a:lnTo>
                    <a:pt x="4565" y="1480"/>
                  </a:lnTo>
                  <a:lnTo>
                    <a:pt x="4608" y="1587"/>
                  </a:lnTo>
                  <a:lnTo>
                    <a:pt x="4644" y="1696"/>
                  </a:lnTo>
                  <a:lnTo>
                    <a:pt x="4677" y="1807"/>
                  </a:lnTo>
                  <a:lnTo>
                    <a:pt x="4703" y="1922"/>
                  </a:lnTo>
                  <a:lnTo>
                    <a:pt x="4723" y="2037"/>
                  </a:lnTo>
                  <a:lnTo>
                    <a:pt x="4738" y="2155"/>
                  </a:lnTo>
                  <a:lnTo>
                    <a:pt x="4747" y="2275"/>
                  </a:lnTo>
                  <a:lnTo>
                    <a:pt x="4750" y="2396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30600" y="2055600"/>
              <a:ext cx="1886040" cy="1884600"/>
            </a:xfrm>
            <a:custGeom>
              <a:avLst/>
              <a:gdLst/>
              <a:ahLst/>
              <a:rect l="l" t="t" r="r" b="b"/>
              <a:pathLst>
                <a:path w="4751" h="4748">
                  <a:moveTo>
                    <a:pt x="4751" y="2374"/>
                  </a:moveTo>
                  <a:lnTo>
                    <a:pt x="4748" y="2252"/>
                  </a:lnTo>
                  <a:lnTo>
                    <a:pt x="4738" y="2131"/>
                  </a:lnTo>
                  <a:lnTo>
                    <a:pt x="4723" y="2012"/>
                  </a:lnTo>
                  <a:lnTo>
                    <a:pt x="4702" y="1895"/>
                  </a:lnTo>
                  <a:lnTo>
                    <a:pt x="4675" y="1780"/>
                  </a:lnTo>
                  <a:lnTo>
                    <a:pt x="4644" y="1667"/>
                  </a:lnTo>
                  <a:lnTo>
                    <a:pt x="4606" y="1557"/>
                  </a:lnTo>
                  <a:lnTo>
                    <a:pt x="4564" y="1449"/>
                  </a:lnTo>
                  <a:lnTo>
                    <a:pt x="4516" y="1344"/>
                  </a:lnTo>
                  <a:lnTo>
                    <a:pt x="4463" y="1242"/>
                  </a:lnTo>
                  <a:lnTo>
                    <a:pt x="4406" y="1142"/>
                  </a:lnTo>
                  <a:lnTo>
                    <a:pt x="4344" y="1046"/>
                  </a:lnTo>
                  <a:lnTo>
                    <a:pt x="4279" y="953"/>
                  </a:lnTo>
                  <a:lnTo>
                    <a:pt x="4208" y="864"/>
                  </a:lnTo>
                  <a:lnTo>
                    <a:pt x="4133" y="777"/>
                  </a:lnTo>
                  <a:lnTo>
                    <a:pt x="4055" y="694"/>
                  </a:lnTo>
                  <a:lnTo>
                    <a:pt x="3972" y="617"/>
                  </a:lnTo>
                  <a:lnTo>
                    <a:pt x="3886" y="542"/>
                  </a:lnTo>
                  <a:lnTo>
                    <a:pt x="3797" y="471"/>
                  </a:lnTo>
                  <a:lnTo>
                    <a:pt x="3703" y="405"/>
                  </a:lnTo>
                  <a:lnTo>
                    <a:pt x="3606" y="343"/>
                  </a:lnTo>
                  <a:lnTo>
                    <a:pt x="3507" y="286"/>
                  </a:lnTo>
                  <a:lnTo>
                    <a:pt x="3404" y="233"/>
                  </a:lnTo>
                  <a:lnTo>
                    <a:pt x="3300" y="186"/>
                  </a:lnTo>
                  <a:lnTo>
                    <a:pt x="3192" y="143"/>
                  </a:lnTo>
                  <a:lnTo>
                    <a:pt x="3081" y="106"/>
                  </a:lnTo>
                  <a:lnTo>
                    <a:pt x="2969" y="74"/>
                  </a:lnTo>
                  <a:lnTo>
                    <a:pt x="2853" y="47"/>
                  </a:lnTo>
                  <a:lnTo>
                    <a:pt x="2737" y="27"/>
                  </a:lnTo>
                  <a:lnTo>
                    <a:pt x="2618" y="12"/>
                  </a:lnTo>
                  <a:lnTo>
                    <a:pt x="2498" y="2"/>
                  </a:lnTo>
                  <a:lnTo>
                    <a:pt x="2375" y="0"/>
                  </a:lnTo>
                  <a:lnTo>
                    <a:pt x="2253" y="2"/>
                  </a:lnTo>
                  <a:lnTo>
                    <a:pt x="2133" y="12"/>
                  </a:lnTo>
                  <a:lnTo>
                    <a:pt x="2014" y="27"/>
                  </a:lnTo>
                  <a:lnTo>
                    <a:pt x="1897" y="47"/>
                  </a:lnTo>
                  <a:lnTo>
                    <a:pt x="1781" y="74"/>
                  </a:lnTo>
                  <a:lnTo>
                    <a:pt x="1669" y="106"/>
                  </a:lnTo>
                  <a:lnTo>
                    <a:pt x="1559" y="143"/>
                  </a:lnTo>
                  <a:lnTo>
                    <a:pt x="1451" y="186"/>
                  </a:lnTo>
                  <a:lnTo>
                    <a:pt x="1346" y="233"/>
                  </a:lnTo>
                  <a:lnTo>
                    <a:pt x="1243" y="286"/>
                  </a:lnTo>
                  <a:lnTo>
                    <a:pt x="1144" y="343"/>
                  </a:lnTo>
                  <a:lnTo>
                    <a:pt x="1048" y="405"/>
                  </a:lnTo>
                  <a:lnTo>
                    <a:pt x="954" y="471"/>
                  </a:lnTo>
                  <a:lnTo>
                    <a:pt x="864" y="542"/>
                  </a:lnTo>
                  <a:lnTo>
                    <a:pt x="779" y="617"/>
                  </a:lnTo>
                  <a:lnTo>
                    <a:pt x="695" y="694"/>
                  </a:lnTo>
                  <a:lnTo>
                    <a:pt x="617" y="777"/>
                  </a:lnTo>
                  <a:lnTo>
                    <a:pt x="542" y="864"/>
                  </a:lnTo>
                  <a:lnTo>
                    <a:pt x="472" y="953"/>
                  </a:lnTo>
                  <a:lnTo>
                    <a:pt x="406" y="1046"/>
                  </a:lnTo>
                  <a:lnTo>
                    <a:pt x="344" y="1142"/>
                  </a:lnTo>
                  <a:lnTo>
                    <a:pt x="287" y="1242"/>
                  </a:lnTo>
                  <a:lnTo>
                    <a:pt x="234" y="1344"/>
                  </a:lnTo>
                  <a:lnTo>
                    <a:pt x="187" y="1449"/>
                  </a:lnTo>
                  <a:lnTo>
                    <a:pt x="144" y="1557"/>
                  </a:lnTo>
                  <a:lnTo>
                    <a:pt x="107" y="1667"/>
                  </a:lnTo>
                  <a:lnTo>
                    <a:pt x="75" y="1780"/>
                  </a:lnTo>
                  <a:lnTo>
                    <a:pt x="48" y="1895"/>
                  </a:lnTo>
                  <a:lnTo>
                    <a:pt x="28" y="2012"/>
                  </a:lnTo>
                  <a:lnTo>
                    <a:pt x="13" y="2131"/>
                  </a:lnTo>
                  <a:lnTo>
                    <a:pt x="3" y="2252"/>
                  </a:lnTo>
                  <a:lnTo>
                    <a:pt x="0" y="2374"/>
                  </a:lnTo>
                  <a:lnTo>
                    <a:pt x="3" y="2496"/>
                  </a:lnTo>
                  <a:lnTo>
                    <a:pt x="13" y="2616"/>
                  </a:lnTo>
                  <a:lnTo>
                    <a:pt x="28" y="2735"/>
                  </a:lnTo>
                  <a:lnTo>
                    <a:pt x="48" y="2852"/>
                  </a:lnTo>
                  <a:lnTo>
                    <a:pt x="75" y="2967"/>
                  </a:lnTo>
                  <a:lnTo>
                    <a:pt x="107" y="3079"/>
                  </a:lnTo>
                  <a:lnTo>
                    <a:pt x="144" y="3190"/>
                  </a:lnTo>
                  <a:lnTo>
                    <a:pt x="187" y="3297"/>
                  </a:lnTo>
                  <a:lnTo>
                    <a:pt x="234" y="3403"/>
                  </a:lnTo>
                  <a:lnTo>
                    <a:pt x="287" y="3504"/>
                  </a:lnTo>
                  <a:lnTo>
                    <a:pt x="344" y="3605"/>
                  </a:lnTo>
                  <a:lnTo>
                    <a:pt x="406" y="3701"/>
                  </a:lnTo>
                  <a:lnTo>
                    <a:pt x="472" y="3794"/>
                  </a:lnTo>
                  <a:lnTo>
                    <a:pt x="542" y="3884"/>
                  </a:lnTo>
                  <a:lnTo>
                    <a:pt x="617" y="3970"/>
                  </a:lnTo>
                  <a:lnTo>
                    <a:pt x="695" y="4052"/>
                  </a:lnTo>
                  <a:lnTo>
                    <a:pt x="779" y="4131"/>
                  </a:lnTo>
                  <a:lnTo>
                    <a:pt x="864" y="4205"/>
                  </a:lnTo>
                  <a:lnTo>
                    <a:pt x="954" y="4276"/>
                  </a:lnTo>
                  <a:lnTo>
                    <a:pt x="1048" y="4341"/>
                  </a:lnTo>
                  <a:lnTo>
                    <a:pt x="1144" y="4404"/>
                  </a:lnTo>
                  <a:lnTo>
                    <a:pt x="1243" y="4461"/>
                  </a:lnTo>
                  <a:lnTo>
                    <a:pt x="1346" y="4513"/>
                  </a:lnTo>
                  <a:lnTo>
                    <a:pt x="1451" y="4561"/>
                  </a:lnTo>
                  <a:lnTo>
                    <a:pt x="1559" y="4604"/>
                  </a:lnTo>
                  <a:lnTo>
                    <a:pt x="1669" y="4641"/>
                  </a:lnTo>
                  <a:lnTo>
                    <a:pt x="1781" y="4673"/>
                  </a:lnTo>
                  <a:lnTo>
                    <a:pt x="1897" y="4699"/>
                  </a:lnTo>
                  <a:lnTo>
                    <a:pt x="2014" y="4721"/>
                  </a:lnTo>
                  <a:lnTo>
                    <a:pt x="2133" y="4736"/>
                  </a:lnTo>
                  <a:lnTo>
                    <a:pt x="2253" y="4744"/>
                  </a:lnTo>
                  <a:lnTo>
                    <a:pt x="2375" y="4748"/>
                  </a:lnTo>
                  <a:lnTo>
                    <a:pt x="2498" y="4744"/>
                  </a:lnTo>
                  <a:lnTo>
                    <a:pt x="2618" y="4736"/>
                  </a:lnTo>
                  <a:lnTo>
                    <a:pt x="2737" y="4721"/>
                  </a:lnTo>
                  <a:lnTo>
                    <a:pt x="2853" y="4699"/>
                  </a:lnTo>
                  <a:lnTo>
                    <a:pt x="2969" y="4673"/>
                  </a:lnTo>
                  <a:lnTo>
                    <a:pt x="3081" y="4641"/>
                  </a:lnTo>
                  <a:lnTo>
                    <a:pt x="3192" y="4604"/>
                  </a:lnTo>
                  <a:lnTo>
                    <a:pt x="3300" y="4561"/>
                  </a:lnTo>
                  <a:lnTo>
                    <a:pt x="3404" y="4513"/>
                  </a:lnTo>
                  <a:lnTo>
                    <a:pt x="3507" y="4461"/>
                  </a:lnTo>
                  <a:lnTo>
                    <a:pt x="3606" y="4404"/>
                  </a:lnTo>
                  <a:lnTo>
                    <a:pt x="3703" y="4341"/>
                  </a:lnTo>
                  <a:lnTo>
                    <a:pt x="3797" y="4276"/>
                  </a:lnTo>
                  <a:lnTo>
                    <a:pt x="3886" y="4205"/>
                  </a:lnTo>
                  <a:lnTo>
                    <a:pt x="3972" y="4131"/>
                  </a:lnTo>
                  <a:lnTo>
                    <a:pt x="4055" y="4052"/>
                  </a:lnTo>
                  <a:lnTo>
                    <a:pt x="4133" y="3970"/>
                  </a:lnTo>
                  <a:lnTo>
                    <a:pt x="4208" y="3884"/>
                  </a:lnTo>
                  <a:lnTo>
                    <a:pt x="4279" y="3794"/>
                  </a:lnTo>
                  <a:lnTo>
                    <a:pt x="4344" y="3701"/>
                  </a:lnTo>
                  <a:lnTo>
                    <a:pt x="4406" y="3605"/>
                  </a:lnTo>
                  <a:lnTo>
                    <a:pt x="4463" y="3504"/>
                  </a:lnTo>
                  <a:lnTo>
                    <a:pt x="4516" y="3403"/>
                  </a:lnTo>
                  <a:lnTo>
                    <a:pt x="4564" y="3297"/>
                  </a:lnTo>
                  <a:lnTo>
                    <a:pt x="4606" y="3190"/>
                  </a:lnTo>
                  <a:lnTo>
                    <a:pt x="4644" y="3079"/>
                  </a:lnTo>
                  <a:lnTo>
                    <a:pt x="4675" y="2967"/>
                  </a:lnTo>
                  <a:lnTo>
                    <a:pt x="4702" y="2852"/>
                  </a:lnTo>
                  <a:lnTo>
                    <a:pt x="4723" y="2735"/>
                  </a:lnTo>
                  <a:lnTo>
                    <a:pt x="4738" y="2616"/>
                  </a:lnTo>
                  <a:lnTo>
                    <a:pt x="4748" y="2496"/>
                  </a:lnTo>
                  <a:lnTo>
                    <a:pt x="4751" y="2374"/>
                  </a:lnTo>
                  <a:close/>
                  <a:moveTo>
                    <a:pt x="4709" y="2374"/>
                  </a:moveTo>
                  <a:lnTo>
                    <a:pt x="4705" y="2494"/>
                  </a:lnTo>
                  <a:lnTo>
                    <a:pt x="4697" y="2612"/>
                  </a:lnTo>
                  <a:lnTo>
                    <a:pt x="4682" y="2729"/>
                  </a:lnTo>
                  <a:lnTo>
                    <a:pt x="4661" y="2843"/>
                  </a:lnTo>
                  <a:lnTo>
                    <a:pt x="4635" y="2956"/>
                  </a:lnTo>
                  <a:lnTo>
                    <a:pt x="4604" y="3067"/>
                  </a:lnTo>
                  <a:lnTo>
                    <a:pt x="4567" y="3175"/>
                  </a:lnTo>
                  <a:lnTo>
                    <a:pt x="4525" y="3281"/>
                  </a:lnTo>
                  <a:lnTo>
                    <a:pt x="4478" y="3385"/>
                  </a:lnTo>
                  <a:lnTo>
                    <a:pt x="4427" y="3485"/>
                  </a:lnTo>
                  <a:lnTo>
                    <a:pt x="4370" y="3583"/>
                  </a:lnTo>
                  <a:lnTo>
                    <a:pt x="4310" y="3677"/>
                  </a:lnTo>
                  <a:lnTo>
                    <a:pt x="4245" y="3769"/>
                  </a:lnTo>
                  <a:lnTo>
                    <a:pt x="4176" y="3857"/>
                  </a:lnTo>
                  <a:lnTo>
                    <a:pt x="4102" y="3942"/>
                  </a:lnTo>
                  <a:lnTo>
                    <a:pt x="4025" y="4023"/>
                  </a:lnTo>
                  <a:lnTo>
                    <a:pt x="3944" y="4100"/>
                  </a:lnTo>
                  <a:lnTo>
                    <a:pt x="3859" y="4173"/>
                  </a:lnTo>
                  <a:lnTo>
                    <a:pt x="3771" y="4242"/>
                  </a:lnTo>
                  <a:lnTo>
                    <a:pt x="3680" y="4307"/>
                  </a:lnTo>
                  <a:lnTo>
                    <a:pt x="3585" y="4368"/>
                  </a:lnTo>
                  <a:lnTo>
                    <a:pt x="3488" y="4425"/>
                  </a:lnTo>
                  <a:lnTo>
                    <a:pt x="3387" y="4475"/>
                  </a:lnTo>
                  <a:lnTo>
                    <a:pt x="3283" y="4523"/>
                  </a:lnTo>
                  <a:lnTo>
                    <a:pt x="3177" y="4564"/>
                  </a:lnTo>
                  <a:lnTo>
                    <a:pt x="3069" y="4601"/>
                  </a:lnTo>
                  <a:lnTo>
                    <a:pt x="2958" y="4632"/>
                  </a:lnTo>
                  <a:lnTo>
                    <a:pt x="2846" y="4658"/>
                  </a:lnTo>
                  <a:lnTo>
                    <a:pt x="2730" y="4678"/>
                  </a:lnTo>
                  <a:lnTo>
                    <a:pt x="2613" y="4694"/>
                  </a:lnTo>
                  <a:lnTo>
                    <a:pt x="2496" y="4703"/>
                  </a:lnTo>
                  <a:lnTo>
                    <a:pt x="2375" y="4705"/>
                  </a:lnTo>
                  <a:lnTo>
                    <a:pt x="2255" y="4703"/>
                  </a:lnTo>
                  <a:lnTo>
                    <a:pt x="2137" y="4694"/>
                  </a:lnTo>
                  <a:lnTo>
                    <a:pt x="2020" y="4678"/>
                  </a:lnTo>
                  <a:lnTo>
                    <a:pt x="1905" y="4658"/>
                  </a:lnTo>
                  <a:lnTo>
                    <a:pt x="1792" y="4632"/>
                  </a:lnTo>
                  <a:lnTo>
                    <a:pt x="1681" y="4601"/>
                  </a:lnTo>
                  <a:lnTo>
                    <a:pt x="1573" y="4564"/>
                  </a:lnTo>
                  <a:lnTo>
                    <a:pt x="1467" y="4523"/>
                  </a:lnTo>
                  <a:lnTo>
                    <a:pt x="1363" y="4475"/>
                  </a:lnTo>
                  <a:lnTo>
                    <a:pt x="1263" y="4425"/>
                  </a:lnTo>
                  <a:lnTo>
                    <a:pt x="1166" y="4368"/>
                  </a:lnTo>
                  <a:lnTo>
                    <a:pt x="1070" y="4307"/>
                  </a:lnTo>
                  <a:lnTo>
                    <a:pt x="979" y="4242"/>
                  </a:lnTo>
                  <a:lnTo>
                    <a:pt x="891" y="4173"/>
                  </a:lnTo>
                  <a:lnTo>
                    <a:pt x="807" y="4100"/>
                  </a:lnTo>
                  <a:lnTo>
                    <a:pt x="726" y="4023"/>
                  </a:lnTo>
                  <a:lnTo>
                    <a:pt x="648" y="3942"/>
                  </a:lnTo>
                  <a:lnTo>
                    <a:pt x="574" y="3857"/>
                  </a:lnTo>
                  <a:lnTo>
                    <a:pt x="505" y="3769"/>
                  </a:lnTo>
                  <a:lnTo>
                    <a:pt x="440" y="3677"/>
                  </a:lnTo>
                  <a:lnTo>
                    <a:pt x="380" y="3583"/>
                  </a:lnTo>
                  <a:lnTo>
                    <a:pt x="324" y="3485"/>
                  </a:lnTo>
                  <a:lnTo>
                    <a:pt x="272" y="3385"/>
                  </a:lnTo>
                  <a:lnTo>
                    <a:pt x="225" y="3281"/>
                  </a:lnTo>
                  <a:lnTo>
                    <a:pt x="183" y="3175"/>
                  </a:lnTo>
                  <a:lnTo>
                    <a:pt x="147" y="3067"/>
                  </a:lnTo>
                  <a:lnTo>
                    <a:pt x="115" y="2956"/>
                  </a:lnTo>
                  <a:lnTo>
                    <a:pt x="89" y="2843"/>
                  </a:lnTo>
                  <a:lnTo>
                    <a:pt x="69" y="2729"/>
                  </a:lnTo>
                  <a:lnTo>
                    <a:pt x="54" y="2612"/>
                  </a:lnTo>
                  <a:lnTo>
                    <a:pt x="45" y="2494"/>
                  </a:lnTo>
                  <a:lnTo>
                    <a:pt x="42" y="2374"/>
                  </a:lnTo>
                  <a:lnTo>
                    <a:pt x="45" y="2254"/>
                  </a:lnTo>
                  <a:lnTo>
                    <a:pt x="54" y="2135"/>
                  </a:lnTo>
                  <a:lnTo>
                    <a:pt x="69" y="2018"/>
                  </a:lnTo>
                  <a:lnTo>
                    <a:pt x="89" y="1904"/>
                  </a:lnTo>
                  <a:lnTo>
                    <a:pt x="115" y="1790"/>
                  </a:lnTo>
                  <a:lnTo>
                    <a:pt x="147" y="1680"/>
                  </a:lnTo>
                  <a:lnTo>
                    <a:pt x="183" y="1571"/>
                  </a:lnTo>
                  <a:lnTo>
                    <a:pt x="225" y="1465"/>
                  </a:lnTo>
                  <a:lnTo>
                    <a:pt x="272" y="1363"/>
                  </a:lnTo>
                  <a:lnTo>
                    <a:pt x="324" y="1261"/>
                  </a:lnTo>
                  <a:lnTo>
                    <a:pt x="380" y="1164"/>
                  </a:lnTo>
                  <a:lnTo>
                    <a:pt x="440" y="1069"/>
                  </a:lnTo>
                  <a:lnTo>
                    <a:pt x="505" y="978"/>
                  </a:lnTo>
                  <a:lnTo>
                    <a:pt x="574" y="890"/>
                  </a:lnTo>
                  <a:lnTo>
                    <a:pt x="648" y="806"/>
                  </a:lnTo>
                  <a:lnTo>
                    <a:pt x="726" y="725"/>
                  </a:lnTo>
                  <a:lnTo>
                    <a:pt x="807" y="647"/>
                  </a:lnTo>
                  <a:lnTo>
                    <a:pt x="891" y="573"/>
                  </a:lnTo>
                  <a:lnTo>
                    <a:pt x="979" y="504"/>
                  </a:lnTo>
                  <a:lnTo>
                    <a:pt x="1070" y="439"/>
                  </a:lnTo>
                  <a:lnTo>
                    <a:pt x="1166" y="379"/>
                  </a:lnTo>
                  <a:lnTo>
                    <a:pt x="1263" y="323"/>
                  </a:lnTo>
                  <a:lnTo>
                    <a:pt x="1363" y="271"/>
                  </a:lnTo>
                  <a:lnTo>
                    <a:pt x="1467" y="224"/>
                  </a:lnTo>
                  <a:lnTo>
                    <a:pt x="1573" y="182"/>
                  </a:lnTo>
                  <a:lnTo>
                    <a:pt x="1681" y="146"/>
                  </a:lnTo>
                  <a:lnTo>
                    <a:pt x="1792" y="114"/>
                  </a:lnTo>
                  <a:lnTo>
                    <a:pt x="1905" y="88"/>
                  </a:lnTo>
                  <a:lnTo>
                    <a:pt x="2020" y="68"/>
                  </a:lnTo>
                  <a:lnTo>
                    <a:pt x="2137" y="53"/>
                  </a:lnTo>
                  <a:lnTo>
                    <a:pt x="2255" y="44"/>
                  </a:lnTo>
                  <a:lnTo>
                    <a:pt x="2375" y="41"/>
                  </a:lnTo>
                  <a:lnTo>
                    <a:pt x="2496" y="44"/>
                  </a:lnTo>
                  <a:lnTo>
                    <a:pt x="2613" y="53"/>
                  </a:lnTo>
                  <a:lnTo>
                    <a:pt x="2730" y="68"/>
                  </a:lnTo>
                  <a:lnTo>
                    <a:pt x="2846" y="88"/>
                  </a:lnTo>
                  <a:lnTo>
                    <a:pt x="2958" y="114"/>
                  </a:lnTo>
                  <a:lnTo>
                    <a:pt x="3069" y="146"/>
                  </a:lnTo>
                  <a:lnTo>
                    <a:pt x="3177" y="182"/>
                  </a:lnTo>
                  <a:lnTo>
                    <a:pt x="3283" y="224"/>
                  </a:lnTo>
                  <a:lnTo>
                    <a:pt x="3387" y="271"/>
                  </a:lnTo>
                  <a:lnTo>
                    <a:pt x="3488" y="323"/>
                  </a:lnTo>
                  <a:lnTo>
                    <a:pt x="3585" y="379"/>
                  </a:lnTo>
                  <a:lnTo>
                    <a:pt x="3680" y="439"/>
                  </a:lnTo>
                  <a:lnTo>
                    <a:pt x="3771" y="504"/>
                  </a:lnTo>
                  <a:lnTo>
                    <a:pt x="3859" y="573"/>
                  </a:lnTo>
                  <a:lnTo>
                    <a:pt x="3944" y="647"/>
                  </a:lnTo>
                  <a:lnTo>
                    <a:pt x="4025" y="725"/>
                  </a:lnTo>
                  <a:lnTo>
                    <a:pt x="4102" y="806"/>
                  </a:lnTo>
                  <a:lnTo>
                    <a:pt x="4176" y="890"/>
                  </a:lnTo>
                  <a:lnTo>
                    <a:pt x="4245" y="978"/>
                  </a:lnTo>
                  <a:lnTo>
                    <a:pt x="4310" y="1069"/>
                  </a:lnTo>
                  <a:lnTo>
                    <a:pt x="4370" y="1164"/>
                  </a:lnTo>
                  <a:lnTo>
                    <a:pt x="4427" y="1261"/>
                  </a:lnTo>
                  <a:lnTo>
                    <a:pt x="4478" y="1363"/>
                  </a:lnTo>
                  <a:lnTo>
                    <a:pt x="4525" y="1465"/>
                  </a:lnTo>
                  <a:lnTo>
                    <a:pt x="4567" y="1571"/>
                  </a:lnTo>
                  <a:lnTo>
                    <a:pt x="4604" y="1680"/>
                  </a:lnTo>
                  <a:lnTo>
                    <a:pt x="4635" y="1790"/>
                  </a:lnTo>
                  <a:lnTo>
                    <a:pt x="4661" y="1904"/>
                  </a:lnTo>
                  <a:lnTo>
                    <a:pt x="4682" y="2018"/>
                  </a:lnTo>
                  <a:lnTo>
                    <a:pt x="4697" y="2135"/>
                  </a:lnTo>
                  <a:lnTo>
                    <a:pt x="4705" y="2254"/>
                  </a:lnTo>
                  <a:lnTo>
                    <a:pt x="4709" y="237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39960" y="2063520"/>
              <a:ext cx="1868760" cy="1868760"/>
            </a:xfrm>
            <a:custGeom>
              <a:avLst/>
              <a:gdLst/>
              <a:ahLst/>
              <a:rect l="l" t="t" r="r" b="b"/>
              <a:pathLst>
                <a:path w="4708" h="4707">
                  <a:moveTo>
                    <a:pt x="4708" y="2354"/>
                  </a:moveTo>
                  <a:lnTo>
                    <a:pt x="4705" y="2233"/>
                  </a:lnTo>
                  <a:lnTo>
                    <a:pt x="4696" y="2113"/>
                  </a:lnTo>
                  <a:lnTo>
                    <a:pt x="4681" y="1995"/>
                  </a:lnTo>
                  <a:lnTo>
                    <a:pt x="4661" y="1880"/>
                  </a:lnTo>
                  <a:lnTo>
                    <a:pt x="4635" y="1765"/>
                  </a:lnTo>
                  <a:lnTo>
                    <a:pt x="4602" y="1654"/>
                  </a:lnTo>
                  <a:lnTo>
                    <a:pt x="4566" y="1545"/>
                  </a:lnTo>
                  <a:lnTo>
                    <a:pt x="4523" y="1438"/>
                  </a:lnTo>
                  <a:lnTo>
                    <a:pt x="4476" y="1333"/>
                  </a:lnTo>
                  <a:lnTo>
                    <a:pt x="4424" y="1232"/>
                  </a:lnTo>
                  <a:lnTo>
                    <a:pt x="4368" y="1133"/>
                  </a:lnTo>
                  <a:lnTo>
                    <a:pt x="4306" y="1038"/>
                  </a:lnTo>
                  <a:lnTo>
                    <a:pt x="4240" y="945"/>
                  </a:lnTo>
                  <a:lnTo>
                    <a:pt x="4171" y="857"/>
                  </a:lnTo>
                  <a:lnTo>
                    <a:pt x="4097" y="771"/>
                  </a:lnTo>
                  <a:lnTo>
                    <a:pt x="4019" y="689"/>
                  </a:lnTo>
                  <a:lnTo>
                    <a:pt x="3937" y="612"/>
                  </a:lnTo>
                  <a:lnTo>
                    <a:pt x="3851" y="537"/>
                  </a:lnTo>
                  <a:lnTo>
                    <a:pt x="3763" y="468"/>
                  </a:lnTo>
                  <a:lnTo>
                    <a:pt x="3671" y="402"/>
                  </a:lnTo>
                  <a:lnTo>
                    <a:pt x="3575" y="341"/>
                  </a:lnTo>
                  <a:lnTo>
                    <a:pt x="3476" y="284"/>
                  </a:lnTo>
                  <a:lnTo>
                    <a:pt x="3375" y="233"/>
                  </a:lnTo>
                  <a:lnTo>
                    <a:pt x="3271" y="185"/>
                  </a:lnTo>
                  <a:lnTo>
                    <a:pt x="3164" y="143"/>
                  </a:lnTo>
                  <a:lnTo>
                    <a:pt x="3054" y="106"/>
                  </a:lnTo>
                  <a:lnTo>
                    <a:pt x="2943" y="74"/>
                  </a:lnTo>
                  <a:lnTo>
                    <a:pt x="2829" y="48"/>
                  </a:lnTo>
                  <a:lnTo>
                    <a:pt x="2712" y="27"/>
                  </a:lnTo>
                  <a:lnTo>
                    <a:pt x="2595" y="12"/>
                  </a:lnTo>
                  <a:lnTo>
                    <a:pt x="2476" y="4"/>
                  </a:lnTo>
                  <a:lnTo>
                    <a:pt x="2354" y="0"/>
                  </a:lnTo>
                  <a:lnTo>
                    <a:pt x="2233" y="4"/>
                  </a:lnTo>
                  <a:lnTo>
                    <a:pt x="2114" y="12"/>
                  </a:lnTo>
                  <a:lnTo>
                    <a:pt x="1996" y="27"/>
                  </a:lnTo>
                  <a:lnTo>
                    <a:pt x="1879" y="48"/>
                  </a:lnTo>
                  <a:lnTo>
                    <a:pt x="1766" y="74"/>
                  </a:lnTo>
                  <a:lnTo>
                    <a:pt x="1655" y="106"/>
                  </a:lnTo>
                  <a:lnTo>
                    <a:pt x="1544" y="143"/>
                  </a:lnTo>
                  <a:lnTo>
                    <a:pt x="1437" y="185"/>
                  </a:lnTo>
                  <a:lnTo>
                    <a:pt x="1334" y="233"/>
                  </a:lnTo>
                  <a:lnTo>
                    <a:pt x="1232" y="284"/>
                  </a:lnTo>
                  <a:lnTo>
                    <a:pt x="1134" y="341"/>
                  </a:lnTo>
                  <a:lnTo>
                    <a:pt x="1038" y="402"/>
                  </a:lnTo>
                  <a:lnTo>
                    <a:pt x="946" y="468"/>
                  </a:lnTo>
                  <a:lnTo>
                    <a:pt x="857" y="537"/>
                  </a:lnTo>
                  <a:lnTo>
                    <a:pt x="772" y="612"/>
                  </a:lnTo>
                  <a:lnTo>
                    <a:pt x="690" y="689"/>
                  </a:lnTo>
                  <a:lnTo>
                    <a:pt x="612" y="771"/>
                  </a:lnTo>
                  <a:lnTo>
                    <a:pt x="537" y="857"/>
                  </a:lnTo>
                  <a:lnTo>
                    <a:pt x="468" y="945"/>
                  </a:lnTo>
                  <a:lnTo>
                    <a:pt x="402" y="1038"/>
                  </a:lnTo>
                  <a:lnTo>
                    <a:pt x="341" y="1133"/>
                  </a:lnTo>
                  <a:lnTo>
                    <a:pt x="284" y="1232"/>
                  </a:lnTo>
                  <a:lnTo>
                    <a:pt x="233" y="1333"/>
                  </a:lnTo>
                  <a:lnTo>
                    <a:pt x="185" y="1438"/>
                  </a:lnTo>
                  <a:lnTo>
                    <a:pt x="143" y="1545"/>
                  </a:lnTo>
                  <a:lnTo>
                    <a:pt x="106" y="1654"/>
                  </a:lnTo>
                  <a:lnTo>
                    <a:pt x="74" y="1765"/>
                  </a:lnTo>
                  <a:lnTo>
                    <a:pt x="48" y="1880"/>
                  </a:lnTo>
                  <a:lnTo>
                    <a:pt x="27" y="1995"/>
                  </a:lnTo>
                  <a:lnTo>
                    <a:pt x="12" y="2113"/>
                  </a:lnTo>
                  <a:lnTo>
                    <a:pt x="3" y="2233"/>
                  </a:lnTo>
                  <a:lnTo>
                    <a:pt x="0" y="2354"/>
                  </a:lnTo>
                  <a:lnTo>
                    <a:pt x="3" y="2475"/>
                  </a:lnTo>
                  <a:lnTo>
                    <a:pt x="12" y="2595"/>
                  </a:lnTo>
                  <a:lnTo>
                    <a:pt x="27" y="2712"/>
                  </a:lnTo>
                  <a:lnTo>
                    <a:pt x="48" y="2828"/>
                  </a:lnTo>
                  <a:lnTo>
                    <a:pt x="74" y="2941"/>
                  </a:lnTo>
                  <a:lnTo>
                    <a:pt x="106" y="3054"/>
                  </a:lnTo>
                  <a:lnTo>
                    <a:pt x="143" y="3163"/>
                  </a:lnTo>
                  <a:lnTo>
                    <a:pt x="185" y="3270"/>
                  </a:lnTo>
                  <a:lnTo>
                    <a:pt x="233" y="3373"/>
                  </a:lnTo>
                  <a:lnTo>
                    <a:pt x="284" y="3475"/>
                  </a:lnTo>
                  <a:lnTo>
                    <a:pt x="341" y="3574"/>
                  </a:lnTo>
                  <a:lnTo>
                    <a:pt x="402" y="3669"/>
                  </a:lnTo>
                  <a:lnTo>
                    <a:pt x="468" y="3761"/>
                  </a:lnTo>
                  <a:lnTo>
                    <a:pt x="537" y="3851"/>
                  </a:lnTo>
                  <a:lnTo>
                    <a:pt x="612" y="3936"/>
                  </a:lnTo>
                  <a:lnTo>
                    <a:pt x="690" y="4017"/>
                  </a:lnTo>
                  <a:lnTo>
                    <a:pt x="772" y="4096"/>
                  </a:lnTo>
                  <a:lnTo>
                    <a:pt x="857" y="4169"/>
                  </a:lnTo>
                  <a:lnTo>
                    <a:pt x="946" y="4239"/>
                  </a:lnTo>
                  <a:lnTo>
                    <a:pt x="1038" y="4304"/>
                  </a:lnTo>
                  <a:lnTo>
                    <a:pt x="1134" y="4366"/>
                  </a:lnTo>
                  <a:lnTo>
                    <a:pt x="1232" y="4423"/>
                  </a:lnTo>
                  <a:lnTo>
                    <a:pt x="1334" y="4475"/>
                  </a:lnTo>
                  <a:lnTo>
                    <a:pt x="1437" y="4521"/>
                  </a:lnTo>
                  <a:lnTo>
                    <a:pt x="1544" y="4563"/>
                  </a:lnTo>
                  <a:lnTo>
                    <a:pt x="1655" y="4601"/>
                  </a:lnTo>
                  <a:lnTo>
                    <a:pt x="1766" y="4632"/>
                  </a:lnTo>
                  <a:lnTo>
                    <a:pt x="1879" y="4658"/>
                  </a:lnTo>
                  <a:lnTo>
                    <a:pt x="1996" y="4680"/>
                  </a:lnTo>
                  <a:lnTo>
                    <a:pt x="2114" y="4694"/>
                  </a:lnTo>
                  <a:lnTo>
                    <a:pt x="2233" y="4704"/>
                  </a:lnTo>
                  <a:lnTo>
                    <a:pt x="2354" y="4707"/>
                  </a:lnTo>
                  <a:lnTo>
                    <a:pt x="2476" y="4704"/>
                  </a:lnTo>
                  <a:lnTo>
                    <a:pt x="2595" y="4694"/>
                  </a:lnTo>
                  <a:lnTo>
                    <a:pt x="2712" y="4680"/>
                  </a:lnTo>
                  <a:lnTo>
                    <a:pt x="2829" y="4658"/>
                  </a:lnTo>
                  <a:lnTo>
                    <a:pt x="2943" y="4632"/>
                  </a:lnTo>
                  <a:lnTo>
                    <a:pt x="3054" y="4601"/>
                  </a:lnTo>
                  <a:lnTo>
                    <a:pt x="3164" y="4563"/>
                  </a:lnTo>
                  <a:lnTo>
                    <a:pt x="3271" y="4521"/>
                  </a:lnTo>
                  <a:lnTo>
                    <a:pt x="3375" y="4475"/>
                  </a:lnTo>
                  <a:lnTo>
                    <a:pt x="3476" y="4423"/>
                  </a:lnTo>
                  <a:lnTo>
                    <a:pt x="3575" y="4366"/>
                  </a:lnTo>
                  <a:lnTo>
                    <a:pt x="3671" y="4304"/>
                  </a:lnTo>
                  <a:lnTo>
                    <a:pt x="3763" y="4239"/>
                  </a:lnTo>
                  <a:lnTo>
                    <a:pt x="3851" y="4169"/>
                  </a:lnTo>
                  <a:lnTo>
                    <a:pt x="3937" y="4096"/>
                  </a:lnTo>
                  <a:lnTo>
                    <a:pt x="4019" y="4017"/>
                  </a:lnTo>
                  <a:lnTo>
                    <a:pt x="4097" y="3936"/>
                  </a:lnTo>
                  <a:lnTo>
                    <a:pt x="4171" y="3851"/>
                  </a:lnTo>
                  <a:lnTo>
                    <a:pt x="4240" y="3761"/>
                  </a:lnTo>
                  <a:lnTo>
                    <a:pt x="4306" y="3669"/>
                  </a:lnTo>
                  <a:lnTo>
                    <a:pt x="4368" y="3574"/>
                  </a:lnTo>
                  <a:lnTo>
                    <a:pt x="4424" y="3475"/>
                  </a:lnTo>
                  <a:lnTo>
                    <a:pt x="4476" y="3373"/>
                  </a:lnTo>
                  <a:lnTo>
                    <a:pt x="4523" y="3270"/>
                  </a:lnTo>
                  <a:lnTo>
                    <a:pt x="4566" y="3163"/>
                  </a:lnTo>
                  <a:lnTo>
                    <a:pt x="4602" y="3054"/>
                  </a:lnTo>
                  <a:lnTo>
                    <a:pt x="4635" y="2941"/>
                  </a:lnTo>
                  <a:lnTo>
                    <a:pt x="4661" y="2828"/>
                  </a:lnTo>
                  <a:lnTo>
                    <a:pt x="4681" y="2712"/>
                  </a:lnTo>
                  <a:lnTo>
                    <a:pt x="4696" y="2595"/>
                  </a:lnTo>
                  <a:lnTo>
                    <a:pt x="4705" y="2475"/>
                  </a:lnTo>
                  <a:lnTo>
                    <a:pt x="4708" y="2354"/>
                  </a:lnTo>
                  <a:close/>
                  <a:moveTo>
                    <a:pt x="4667" y="2354"/>
                  </a:moveTo>
                  <a:lnTo>
                    <a:pt x="4664" y="2472"/>
                  </a:lnTo>
                  <a:lnTo>
                    <a:pt x="4655" y="2590"/>
                  </a:lnTo>
                  <a:lnTo>
                    <a:pt x="4640" y="2706"/>
                  </a:lnTo>
                  <a:lnTo>
                    <a:pt x="4620" y="2819"/>
                  </a:lnTo>
                  <a:lnTo>
                    <a:pt x="4594" y="2931"/>
                  </a:lnTo>
                  <a:lnTo>
                    <a:pt x="4562" y="3041"/>
                  </a:lnTo>
                  <a:lnTo>
                    <a:pt x="4527" y="3149"/>
                  </a:lnTo>
                  <a:lnTo>
                    <a:pt x="4486" y="3253"/>
                  </a:lnTo>
                  <a:lnTo>
                    <a:pt x="4439" y="3356"/>
                  </a:lnTo>
                  <a:lnTo>
                    <a:pt x="4387" y="3455"/>
                  </a:lnTo>
                  <a:lnTo>
                    <a:pt x="4332" y="3552"/>
                  </a:lnTo>
                  <a:lnTo>
                    <a:pt x="4272" y="3645"/>
                  </a:lnTo>
                  <a:lnTo>
                    <a:pt x="4207" y="3736"/>
                  </a:lnTo>
                  <a:lnTo>
                    <a:pt x="4139" y="3824"/>
                  </a:lnTo>
                  <a:lnTo>
                    <a:pt x="4066" y="3908"/>
                  </a:lnTo>
                  <a:lnTo>
                    <a:pt x="3990" y="3988"/>
                  </a:lnTo>
                  <a:lnTo>
                    <a:pt x="3909" y="4064"/>
                  </a:lnTo>
                  <a:lnTo>
                    <a:pt x="3825" y="4137"/>
                  </a:lnTo>
                  <a:lnTo>
                    <a:pt x="3738" y="4206"/>
                  </a:lnTo>
                  <a:lnTo>
                    <a:pt x="3647" y="4271"/>
                  </a:lnTo>
                  <a:lnTo>
                    <a:pt x="3553" y="4330"/>
                  </a:lnTo>
                  <a:lnTo>
                    <a:pt x="3457" y="4386"/>
                  </a:lnTo>
                  <a:lnTo>
                    <a:pt x="3356" y="4437"/>
                  </a:lnTo>
                  <a:lnTo>
                    <a:pt x="3255" y="4483"/>
                  </a:lnTo>
                  <a:lnTo>
                    <a:pt x="3149" y="4524"/>
                  </a:lnTo>
                  <a:lnTo>
                    <a:pt x="3042" y="4561"/>
                  </a:lnTo>
                  <a:lnTo>
                    <a:pt x="2932" y="4593"/>
                  </a:lnTo>
                  <a:lnTo>
                    <a:pt x="2820" y="4618"/>
                  </a:lnTo>
                  <a:lnTo>
                    <a:pt x="2706" y="4638"/>
                  </a:lnTo>
                  <a:lnTo>
                    <a:pt x="2590" y="4653"/>
                  </a:lnTo>
                  <a:lnTo>
                    <a:pt x="2474" y="4662"/>
                  </a:lnTo>
                  <a:lnTo>
                    <a:pt x="2354" y="4665"/>
                  </a:lnTo>
                  <a:lnTo>
                    <a:pt x="2235" y="4662"/>
                  </a:lnTo>
                  <a:lnTo>
                    <a:pt x="2118" y="4653"/>
                  </a:lnTo>
                  <a:lnTo>
                    <a:pt x="2002" y="4638"/>
                  </a:lnTo>
                  <a:lnTo>
                    <a:pt x="1888" y="4618"/>
                  </a:lnTo>
                  <a:lnTo>
                    <a:pt x="1777" y="4593"/>
                  </a:lnTo>
                  <a:lnTo>
                    <a:pt x="1666" y="4561"/>
                  </a:lnTo>
                  <a:lnTo>
                    <a:pt x="1559" y="4524"/>
                  </a:lnTo>
                  <a:lnTo>
                    <a:pt x="1454" y="4483"/>
                  </a:lnTo>
                  <a:lnTo>
                    <a:pt x="1352" y="4437"/>
                  </a:lnTo>
                  <a:lnTo>
                    <a:pt x="1251" y="4386"/>
                  </a:lnTo>
                  <a:lnTo>
                    <a:pt x="1155" y="4330"/>
                  </a:lnTo>
                  <a:lnTo>
                    <a:pt x="1061" y="4271"/>
                  </a:lnTo>
                  <a:lnTo>
                    <a:pt x="971" y="4206"/>
                  </a:lnTo>
                  <a:lnTo>
                    <a:pt x="883" y="4137"/>
                  </a:lnTo>
                  <a:lnTo>
                    <a:pt x="799" y="4064"/>
                  </a:lnTo>
                  <a:lnTo>
                    <a:pt x="719" y="3988"/>
                  </a:lnTo>
                  <a:lnTo>
                    <a:pt x="642" y="3908"/>
                  </a:lnTo>
                  <a:lnTo>
                    <a:pt x="570" y="3824"/>
                  </a:lnTo>
                  <a:lnTo>
                    <a:pt x="501" y="3736"/>
                  </a:lnTo>
                  <a:lnTo>
                    <a:pt x="437" y="3645"/>
                  </a:lnTo>
                  <a:lnTo>
                    <a:pt x="376" y="3552"/>
                  </a:lnTo>
                  <a:lnTo>
                    <a:pt x="321" y="3455"/>
                  </a:lnTo>
                  <a:lnTo>
                    <a:pt x="269" y="3356"/>
                  </a:lnTo>
                  <a:lnTo>
                    <a:pt x="223" y="3253"/>
                  </a:lnTo>
                  <a:lnTo>
                    <a:pt x="182" y="3149"/>
                  </a:lnTo>
                  <a:lnTo>
                    <a:pt x="145" y="3041"/>
                  </a:lnTo>
                  <a:lnTo>
                    <a:pt x="115" y="2931"/>
                  </a:lnTo>
                  <a:lnTo>
                    <a:pt x="89" y="2819"/>
                  </a:lnTo>
                  <a:lnTo>
                    <a:pt x="68" y="2706"/>
                  </a:lnTo>
                  <a:lnTo>
                    <a:pt x="53" y="2590"/>
                  </a:lnTo>
                  <a:lnTo>
                    <a:pt x="45" y="2472"/>
                  </a:lnTo>
                  <a:lnTo>
                    <a:pt x="41" y="2354"/>
                  </a:lnTo>
                  <a:lnTo>
                    <a:pt x="45" y="2235"/>
                  </a:lnTo>
                  <a:lnTo>
                    <a:pt x="53" y="2117"/>
                  </a:lnTo>
                  <a:lnTo>
                    <a:pt x="68" y="2002"/>
                  </a:lnTo>
                  <a:lnTo>
                    <a:pt x="89" y="1887"/>
                  </a:lnTo>
                  <a:lnTo>
                    <a:pt x="115" y="1776"/>
                  </a:lnTo>
                  <a:lnTo>
                    <a:pt x="145" y="1666"/>
                  </a:lnTo>
                  <a:lnTo>
                    <a:pt x="182" y="1559"/>
                  </a:lnTo>
                  <a:lnTo>
                    <a:pt x="223" y="1454"/>
                  </a:lnTo>
                  <a:lnTo>
                    <a:pt x="269" y="1351"/>
                  </a:lnTo>
                  <a:lnTo>
                    <a:pt x="321" y="1252"/>
                  </a:lnTo>
                  <a:lnTo>
                    <a:pt x="376" y="1155"/>
                  </a:lnTo>
                  <a:lnTo>
                    <a:pt x="437" y="1061"/>
                  </a:lnTo>
                  <a:lnTo>
                    <a:pt x="501" y="970"/>
                  </a:lnTo>
                  <a:lnTo>
                    <a:pt x="570" y="883"/>
                  </a:lnTo>
                  <a:lnTo>
                    <a:pt x="642" y="800"/>
                  </a:lnTo>
                  <a:lnTo>
                    <a:pt x="719" y="719"/>
                  </a:lnTo>
                  <a:lnTo>
                    <a:pt x="799" y="642"/>
                  </a:lnTo>
                  <a:lnTo>
                    <a:pt x="883" y="570"/>
                  </a:lnTo>
                  <a:lnTo>
                    <a:pt x="971" y="501"/>
                  </a:lnTo>
                  <a:lnTo>
                    <a:pt x="1061" y="437"/>
                  </a:lnTo>
                  <a:lnTo>
                    <a:pt x="1155" y="376"/>
                  </a:lnTo>
                  <a:lnTo>
                    <a:pt x="1251" y="321"/>
                  </a:lnTo>
                  <a:lnTo>
                    <a:pt x="1352" y="270"/>
                  </a:lnTo>
                  <a:lnTo>
                    <a:pt x="1454" y="224"/>
                  </a:lnTo>
                  <a:lnTo>
                    <a:pt x="1559" y="182"/>
                  </a:lnTo>
                  <a:lnTo>
                    <a:pt x="1666" y="146"/>
                  </a:lnTo>
                  <a:lnTo>
                    <a:pt x="1777" y="115"/>
                  </a:lnTo>
                  <a:lnTo>
                    <a:pt x="1888" y="89"/>
                  </a:lnTo>
                  <a:lnTo>
                    <a:pt x="2002" y="68"/>
                  </a:lnTo>
                  <a:lnTo>
                    <a:pt x="2118" y="53"/>
                  </a:lnTo>
                  <a:lnTo>
                    <a:pt x="2235" y="45"/>
                  </a:lnTo>
                  <a:lnTo>
                    <a:pt x="2354" y="41"/>
                  </a:lnTo>
                  <a:lnTo>
                    <a:pt x="2474" y="45"/>
                  </a:lnTo>
                  <a:lnTo>
                    <a:pt x="2590" y="53"/>
                  </a:lnTo>
                  <a:lnTo>
                    <a:pt x="2706" y="68"/>
                  </a:lnTo>
                  <a:lnTo>
                    <a:pt x="2820" y="89"/>
                  </a:lnTo>
                  <a:lnTo>
                    <a:pt x="2932" y="115"/>
                  </a:lnTo>
                  <a:lnTo>
                    <a:pt x="3042" y="146"/>
                  </a:lnTo>
                  <a:lnTo>
                    <a:pt x="3149" y="182"/>
                  </a:lnTo>
                  <a:lnTo>
                    <a:pt x="3255" y="224"/>
                  </a:lnTo>
                  <a:lnTo>
                    <a:pt x="3356" y="270"/>
                  </a:lnTo>
                  <a:lnTo>
                    <a:pt x="3457" y="321"/>
                  </a:lnTo>
                  <a:lnTo>
                    <a:pt x="3553" y="376"/>
                  </a:lnTo>
                  <a:lnTo>
                    <a:pt x="3647" y="437"/>
                  </a:lnTo>
                  <a:lnTo>
                    <a:pt x="3738" y="501"/>
                  </a:lnTo>
                  <a:lnTo>
                    <a:pt x="3825" y="570"/>
                  </a:lnTo>
                  <a:lnTo>
                    <a:pt x="3909" y="642"/>
                  </a:lnTo>
                  <a:lnTo>
                    <a:pt x="3990" y="719"/>
                  </a:lnTo>
                  <a:lnTo>
                    <a:pt x="4066" y="800"/>
                  </a:lnTo>
                  <a:lnTo>
                    <a:pt x="4139" y="883"/>
                  </a:lnTo>
                  <a:lnTo>
                    <a:pt x="4207" y="970"/>
                  </a:lnTo>
                  <a:lnTo>
                    <a:pt x="4272" y="1061"/>
                  </a:lnTo>
                  <a:lnTo>
                    <a:pt x="4332" y="1155"/>
                  </a:lnTo>
                  <a:lnTo>
                    <a:pt x="4387" y="1252"/>
                  </a:lnTo>
                  <a:lnTo>
                    <a:pt x="4439" y="1351"/>
                  </a:lnTo>
                  <a:lnTo>
                    <a:pt x="4486" y="1454"/>
                  </a:lnTo>
                  <a:lnTo>
                    <a:pt x="4527" y="1559"/>
                  </a:lnTo>
                  <a:lnTo>
                    <a:pt x="4562" y="1666"/>
                  </a:lnTo>
                  <a:lnTo>
                    <a:pt x="4594" y="1776"/>
                  </a:lnTo>
                  <a:lnTo>
                    <a:pt x="4620" y="1887"/>
                  </a:lnTo>
                  <a:lnTo>
                    <a:pt x="4640" y="2002"/>
                  </a:lnTo>
                  <a:lnTo>
                    <a:pt x="4655" y="2117"/>
                  </a:lnTo>
                  <a:lnTo>
                    <a:pt x="4664" y="2235"/>
                  </a:lnTo>
                  <a:lnTo>
                    <a:pt x="4667" y="2354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48240" y="2071800"/>
              <a:ext cx="1852560" cy="1850760"/>
            </a:xfrm>
            <a:custGeom>
              <a:avLst/>
              <a:gdLst/>
              <a:ahLst/>
              <a:rect l="l" t="t" r="r" b="b"/>
              <a:pathLst>
                <a:path w="4667" h="4664">
                  <a:moveTo>
                    <a:pt x="4667" y="2333"/>
                  </a:moveTo>
                  <a:lnTo>
                    <a:pt x="4663" y="2213"/>
                  </a:lnTo>
                  <a:lnTo>
                    <a:pt x="4655" y="2094"/>
                  </a:lnTo>
                  <a:lnTo>
                    <a:pt x="4640" y="1977"/>
                  </a:lnTo>
                  <a:lnTo>
                    <a:pt x="4619" y="1863"/>
                  </a:lnTo>
                  <a:lnTo>
                    <a:pt x="4593" y="1749"/>
                  </a:lnTo>
                  <a:lnTo>
                    <a:pt x="4562" y="1639"/>
                  </a:lnTo>
                  <a:lnTo>
                    <a:pt x="4525" y="1530"/>
                  </a:lnTo>
                  <a:lnTo>
                    <a:pt x="4483" y="1424"/>
                  </a:lnTo>
                  <a:lnTo>
                    <a:pt x="4436" y="1322"/>
                  </a:lnTo>
                  <a:lnTo>
                    <a:pt x="4385" y="1220"/>
                  </a:lnTo>
                  <a:lnTo>
                    <a:pt x="4328" y="1123"/>
                  </a:lnTo>
                  <a:lnTo>
                    <a:pt x="4268" y="1028"/>
                  </a:lnTo>
                  <a:lnTo>
                    <a:pt x="4203" y="937"/>
                  </a:lnTo>
                  <a:lnTo>
                    <a:pt x="4134" y="849"/>
                  </a:lnTo>
                  <a:lnTo>
                    <a:pt x="4060" y="765"/>
                  </a:lnTo>
                  <a:lnTo>
                    <a:pt x="3983" y="684"/>
                  </a:lnTo>
                  <a:lnTo>
                    <a:pt x="3902" y="606"/>
                  </a:lnTo>
                  <a:lnTo>
                    <a:pt x="3817" y="532"/>
                  </a:lnTo>
                  <a:lnTo>
                    <a:pt x="3729" y="463"/>
                  </a:lnTo>
                  <a:lnTo>
                    <a:pt x="3638" y="398"/>
                  </a:lnTo>
                  <a:lnTo>
                    <a:pt x="3543" y="338"/>
                  </a:lnTo>
                  <a:lnTo>
                    <a:pt x="3446" y="282"/>
                  </a:lnTo>
                  <a:lnTo>
                    <a:pt x="3345" y="230"/>
                  </a:lnTo>
                  <a:lnTo>
                    <a:pt x="3241" y="183"/>
                  </a:lnTo>
                  <a:lnTo>
                    <a:pt x="3135" y="141"/>
                  </a:lnTo>
                  <a:lnTo>
                    <a:pt x="3027" y="105"/>
                  </a:lnTo>
                  <a:lnTo>
                    <a:pt x="2916" y="73"/>
                  </a:lnTo>
                  <a:lnTo>
                    <a:pt x="2804" y="47"/>
                  </a:lnTo>
                  <a:lnTo>
                    <a:pt x="2688" y="27"/>
                  </a:lnTo>
                  <a:lnTo>
                    <a:pt x="2571" y="12"/>
                  </a:lnTo>
                  <a:lnTo>
                    <a:pt x="2454" y="3"/>
                  </a:lnTo>
                  <a:lnTo>
                    <a:pt x="2333" y="0"/>
                  </a:lnTo>
                  <a:lnTo>
                    <a:pt x="2213" y="3"/>
                  </a:lnTo>
                  <a:lnTo>
                    <a:pt x="2095" y="12"/>
                  </a:lnTo>
                  <a:lnTo>
                    <a:pt x="1978" y="27"/>
                  </a:lnTo>
                  <a:lnTo>
                    <a:pt x="1863" y="47"/>
                  </a:lnTo>
                  <a:lnTo>
                    <a:pt x="1750" y="73"/>
                  </a:lnTo>
                  <a:lnTo>
                    <a:pt x="1639" y="105"/>
                  </a:lnTo>
                  <a:lnTo>
                    <a:pt x="1531" y="141"/>
                  </a:lnTo>
                  <a:lnTo>
                    <a:pt x="1425" y="183"/>
                  </a:lnTo>
                  <a:lnTo>
                    <a:pt x="1321" y="230"/>
                  </a:lnTo>
                  <a:lnTo>
                    <a:pt x="1221" y="282"/>
                  </a:lnTo>
                  <a:lnTo>
                    <a:pt x="1124" y="338"/>
                  </a:lnTo>
                  <a:lnTo>
                    <a:pt x="1028" y="398"/>
                  </a:lnTo>
                  <a:lnTo>
                    <a:pt x="937" y="463"/>
                  </a:lnTo>
                  <a:lnTo>
                    <a:pt x="849" y="532"/>
                  </a:lnTo>
                  <a:lnTo>
                    <a:pt x="765" y="606"/>
                  </a:lnTo>
                  <a:lnTo>
                    <a:pt x="684" y="684"/>
                  </a:lnTo>
                  <a:lnTo>
                    <a:pt x="606" y="765"/>
                  </a:lnTo>
                  <a:lnTo>
                    <a:pt x="532" y="849"/>
                  </a:lnTo>
                  <a:lnTo>
                    <a:pt x="463" y="937"/>
                  </a:lnTo>
                  <a:lnTo>
                    <a:pt x="398" y="1028"/>
                  </a:lnTo>
                  <a:lnTo>
                    <a:pt x="338" y="1123"/>
                  </a:lnTo>
                  <a:lnTo>
                    <a:pt x="282" y="1220"/>
                  </a:lnTo>
                  <a:lnTo>
                    <a:pt x="230" y="1322"/>
                  </a:lnTo>
                  <a:lnTo>
                    <a:pt x="183" y="1424"/>
                  </a:lnTo>
                  <a:lnTo>
                    <a:pt x="141" y="1530"/>
                  </a:lnTo>
                  <a:lnTo>
                    <a:pt x="105" y="1639"/>
                  </a:lnTo>
                  <a:lnTo>
                    <a:pt x="73" y="1749"/>
                  </a:lnTo>
                  <a:lnTo>
                    <a:pt x="47" y="1863"/>
                  </a:lnTo>
                  <a:lnTo>
                    <a:pt x="27" y="1977"/>
                  </a:lnTo>
                  <a:lnTo>
                    <a:pt x="12" y="2094"/>
                  </a:lnTo>
                  <a:lnTo>
                    <a:pt x="3" y="2213"/>
                  </a:lnTo>
                  <a:lnTo>
                    <a:pt x="0" y="2333"/>
                  </a:lnTo>
                  <a:lnTo>
                    <a:pt x="3" y="2453"/>
                  </a:lnTo>
                  <a:lnTo>
                    <a:pt x="12" y="2571"/>
                  </a:lnTo>
                  <a:lnTo>
                    <a:pt x="27" y="2688"/>
                  </a:lnTo>
                  <a:lnTo>
                    <a:pt x="47" y="2802"/>
                  </a:lnTo>
                  <a:lnTo>
                    <a:pt x="73" y="2915"/>
                  </a:lnTo>
                  <a:lnTo>
                    <a:pt x="105" y="3026"/>
                  </a:lnTo>
                  <a:lnTo>
                    <a:pt x="141" y="3134"/>
                  </a:lnTo>
                  <a:lnTo>
                    <a:pt x="183" y="3240"/>
                  </a:lnTo>
                  <a:lnTo>
                    <a:pt x="230" y="3344"/>
                  </a:lnTo>
                  <a:lnTo>
                    <a:pt x="282" y="3444"/>
                  </a:lnTo>
                  <a:lnTo>
                    <a:pt x="338" y="3542"/>
                  </a:lnTo>
                  <a:lnTo>
                    <a:pt x="398" y="3636"/>
                  </a:lnTo>
                  <a:lnTo>
                    <a:pt x="463" y="3728"/>
                  </a:lnTo>
                  <a:lnTo>
                    <a:pt x="532" y="3816"/>
                  </a:lnTo>
                  <a:lnTo>
                    <a:pt x="606" y="3901"/>
                  </a:lnTo>
                  <a:lnTo>
                    <a:pt x="684" y="3982"/>
                  </a:lnTo>
                  <a:lnTo>
                    <a:pt x="765" y="4059"/>
                  </a:lnTo>
                  <a:lnTo>
                    <a:pt x="849" y="4132"/>
                  </a:lnTo>
                  <a:lnTo>
                    <a:pt x="937" y="4201"/>
                  </a:lnTo>
                  <a:lnTo>
                    <a:pt x="1028" y="4266"/>
                  </a:lnTo>
                  <a:lnTo>
                    <a:pt x="1124" y="4327"/>
                  </a:lnTo>
                  <a:lnTo>
                    <a:pt x="1221" y="4384"/>
                  </a:lnTo>
                  <a:lnTo>
                    <a:pt x="1321" y="4434"/>
                  </a:lnTo>
                  <a:lnTo>
                    <a:pt x="1425" y="4482"/>
                  </a:lnTo>
                  <a:lnTo>
                    <a:pt x="1531" y="4523"/>
                  </a:lnTo>
                  <a:lnTo>
                    <a:pt x="1639" y="4560"/>
                  </a:lnTo>
                  <a:lnTo>
                    <a:pt x="1750" y="4591"/>
                  </a:lnTo>
                  <a:lnTo>
                    <a:pt x="1863" y="4617"/>
                  </a:lnTo>
                  <a:lnTo>
                    <a:pt x="1978" y="4637"/>
                  </a:lnTo>
                  <a:lnTo>
                    <a:pt x="2095" y="4653"/>
                  </a:lnTo>
                  <a:lnTo>
                    <a:pt x="2213" y="4662"/>
                  </a:lnTo>
                  <a:lnTo>
                    <a:pt x="2333" y="4664"/>
                  </a:lnTo>
                  <a:lnTo>
                    <a:pt x="2454" y="4662"/>
                  </a:lnTo>
                  <a:lnTo>
                    <a:pt x="2571" y="4653"/>
                  </a:lnTo>
                  <a:lnTo>
                    <a:pt x="2688" y="4637"/>
                  </a:lnTo>
                  <a:lnTo>
                    <a:pt x="2804" y="4617"/>
                  </a:lnTo>
                  <a:lnTo>
                    <a:pt x="2916" y="4591"/>
                  </a:lnTo>
                  <a:lnTo>
                    <a:pt x="3027" y="4560"/>
                  </a:lnTo>
                  <a:lnTo>
                    <a:pt x="3135" y="4523"/>
                  </a:lnTo>
                  <a:lnTo>
                    <a:pt x="3241" y="4482"/>
                  </a:lnTo>
                  <a:lnTo>
                    <a:pt x="3345" y="4434"/>
                  </a:lnTo>
                  <a:lnTo>
                    <a:pt x="3446" y="4384"/>
                  </a:lnTo>
                  <a:lnTo>
                    <a:pt x="3543" y="4327"/>
                  </a:lnTo>
                  <a:lnTo>
                    <a:pt x="3638" y="4266"/>
                  </a:lnTo>
                  <a:lnTo>
                    <a:pt x="3729" y="4201"/>
                  </a:lnTo>
                  <a:lnTo>
                    <a:pt x="3817" y="4132"/>
                  </a:lnTo>
                  <a:lnTo>
                    <a:pt x="3902" y="4059"/>
                  </a:lnTo>
                  <a:lnTo>
                    <a:pt x="3983" y="3982"/>
                  </a:lnTo>
                  <a:lnTo>
                    <a:pt x="4060" y="3901"/>
                  </a:lnTo>
                  <a:lnTo>
                    <a:pt x="4134" y="3816"/>
                  </a:lnTo>
                  <a:lnTo>
                    <a:pt x="4203" y="3728"/>
                  </a:lnTo>
                  <a:lnTo>
                    <a:pt x="4268" y="3636"/>
                  </a:lnTo>
                  <a:lnTo>
                    <a:pt x="4328" y="3542"/>
                  </a:lnTo>
                  <a:lnTo>
                    <a:pt x="4385" y="3444"/>
                  </a:lnTo>
                  <a:lnTo>
                    <a:pt x="4436" y="3344"/>
                  </a:lnTo>
                  <a:lnTo>
                    <a:pt x="4483" y="3240"/>
                  </a:lnTo>
                  <a:lnTo>
                    <a:pt x="4525" y="3134"/>
                  </a:lnTo>
                  <a:lnTo>
                    <a:pt x="4562" y="3026"/>
                  </a:lnTo>
                  <a:lnTo>
                    <a:pt x="4593" y="2915"/>
                  </a:lnTo>
                  <a:lnTo>
                    <a:pt x="4619" y="2802"/>
                  </a:lnTo>
                  <a:lnTo>
                    <a:pt x="4640" y="2688"/>
                  </a:lnTo>
                  <a:lnTo>
                    <a:pt x="4655" y="2571"/>
                  </a:lnTo>
                  <a:lnTo>
                    <a:pt x="4663" y="2453"/>
                  </a:lnTo>
                  <a:lnTo>
                    <a:pt x="4667" y="2333"/>
                  </a:lnTo>
                  <a:close/>
                  <a:moveTo>
                    <a:pt x="4624" y="2333"/>
                  </a:moveTo>
                  <a:lnTo>
                    <a:pt x="4622" y="2450"/>
                  </a:lnTo>
                  <a:lnTo>
                    <a:pt x="4613" y="2567"/>
                  </a:lnTo>
                  <a:lnTo>
                    <a:pt x="4599" y="2682"/>
                  </a:lnTo>
                  <a:lnTo>
                    <a:pt x="4578" y="2794"/>
                  </a:lnTo>
                  <a:lnTo>
                    <a:pt x="4553" y="2905"/>
                  </a:lnTo>
                  <a:lnTo>
                    <a:pt x="4522" y="3013"/>
                  </a:lnTo>
                  <a:lnTo>
                    <a:pt x="4486" y="3120"/>
                  </a:lnTo>
                  <a:lnTo>
                    <a:pt x="4445" y="3224"/>
                  </a:lnTo>
                  <a:lnTo>
                    <a:pt x="4399" y="3325"/>
                  </a:lnTo>
                  <a:lnTo>
                    <a:pt x="4348" y="3425"/>
                  </a:lnTo>
                  <a:lnTo>
                    <a:pt x="4293" y="3521"/>
                  </a:lnTo>
                  <a:lnTo>
                    <a:pt x="4233" y="3614"/>
                  </a:lnTo>
                  <a:lnTo>
                    <a:pt x="4170" y="3703"/>
                  </a:lnTo>
                  <a:lnTo>
                    <a:pt x="4101" y="3790"/>
                  </a:lnTo>
                  <a:lnTo>
                    <a:pt x="4029" y="3873"/>
                  </a:lnTo>
                  <a:lnTo>
                    <a:pt x="3953" y="3953"/>
                  </a:lnTo>
                  <a:lnTo>
                    <a:pt x="3875" y="4028"/>
                  </a:lnTo>
                  <a:lnTo>
                    <a:pt x="3791" y="4100"/>
                  </a:lnTo>
                  <a:lnTo>
                    <a:pt x="3704" y="4168"/>
                  </a:lnTo>
                  <a:lnTo>
                    <a:pt x="3614" y="4232"/>
                  </a:lnTo>
                  <a:lnTo>
                    <a:pt x="3521" y="4292"/>
                  </a:lnTo>
                  <a:lnTo>
                    <a:pt x="3425" y="4347"/>
                  </a:lnTo>
                  <a:lnTo>
                    <a:pt x="3327" y="4398"/>
                  </a:lnTo>
                  <a:lnTo>
                    <a:pt x="3225" y="4443"/>
                  </a:lnTo>
                  <a:lnTo>
                    <a:pt x="3121" y="4484"/>
                  </a:lnTo>
                  <a:lnTo>
                    <a:pt x="3014" y="4520"/>
                  </a:lnTo>
                  <a:lnTo>
                    <a:pt x="2905" y="4551"/>
                  </a:lnTo>
                  <a:lnTo>
                    <a:pt x="2795" y="4577"/>
                  </a:lnTo>
                  <a:lnTo>
                    <a:pt x="2682" y="4596"/>
                  </a:lnTo>
                  <a:lnTo>
                    <a:pt x="2567" y="4611"/>
                  </a:lnTo>
                  <a:lnTo>
                    <a:pt x="2452" y="4620"/>
                  </a:lnTo>
                  <a:lnTo>
                    <a:pt x="2333" y="4623"/>
                  </a:lnTo>
                  <a:lnTo>
                    <a:pt x="2215" y="4620"/>
                  </a:lnTo>
                  <a:lnTo>
                    <a:pt x="2099" y="4611"/>
                  </a:lnTo>
                  <a:lnTo>
                    <a:pt x="1984" y="4596"/>
                  </a:lnTo>
                  <a:lnTo>
                    <a:pt x="1871" y="4577"/>
                  </a:lnTo>
                  <a:lnTo>
                    <a:pt x="1760" y="4551"/>
                  </a:lnTo>
                  <a:lnTo>
                    <a:pt x="1652" y="4520"/>
                  </a:lnTo>
                  <a:lnTo>
                    <a:pt x="1545" y="4484"/>
                  </a:lnTo>
                  <a:lnTo>
                    <a:pt x="1441" y="4443"/>
                  </a:lnTo>
                  <a:lnTo>
                    <a:pt x="1340" y="4398"/>
                  </a:lnTo>
                  <a:lnTo>
                    <a:pt x="1241" y="4347"/>
                  </a:lnTo>
                  <a:lnTo>
                    <a:pt x="1145" y="4292"/>
                  </a:lnTo>
                  <a:lnTo>
                    <a:pt x="1052" y="4232"/>
                  </a:lnTo>
                  <a:lnTo>
                    <a:pt x="963" y="4168"/>
                  </a:lnTo>
                  <a:lnTo>
                    <a:pt x="875" y="4100"/>
                  </a:lnTo>
                  <a:lnTo>
                    <a:pt x="792" y="4028"/>
                  </a:lnTo>
                  <a:lnTo>
                    <a:pt x="713" y="3953"/>
                  </a:lnTo>
                  <a:lnTo>
                    <a:pt x="637" y="3873"/>
                  </a:lnTo>
                  <a:lnTo>
                    <a:pt x="565" y="3790"/>
                  </a:lnTo>
                  <a:lnTo>
                    <a:pt x="497" y="3703"/>
                  </a:lnTo>
                  <a:lnTo>
                    <a:pt x="433" y="3614"/>
                  </a:lnTo>
                  <a:lnTo>
                    <a:pt x="374" y="3521"/>
                  </a:lnTo>
                  <a:lnTo>
                    <a:pt x="319" y="3425"/>
                  </a:lnTo>
                  <a:lnTo>
                    <a:pt x="268" y="3325"/>
                  </a:lnTo>
                  <a:lnTo>
                    <a:pt x="221" y="3224"/>
                  </a:lnTo>
                  <a:lnTo>
                    <a:pt x="180" y="3120"/>
                  </a:lnTo>
                  <a:lnTo>
                    <a:pt x="145" y="3013"/>
                  </a:lnTo>
                  <a:lnTo>
                    <a:pt x="113" y="2905"/>
                  </a:lnTo>
                  <a:lnTo>
                    <a:pt x="88" y="2794"/>
                  </a:lnTo>
                  <a:lnTo>
                    <a:pt x="68" y="2682"/>
                  </a:lnTo>
                  <a:lnTo>
                    <a:pt x="53" y="2567"/>
                  </a:lnTo>
                  <a:lnTo>
                    <a:pt x="44" y="2450"/>
                  </a:lnTo>
                  <a:lnTo>
                    <a:pt x="42" y="2333"/>
                  </a:lnTo>
                  <a:lnTo>
                    <a:pt x="44" y="2215"/>
                  </a:lnTo>
                  <a:lnTo>
                    <a:pt x="53" y="2098"/>
                  </a:lnTo>
                  <a:lnTo>
                    <a:pt x="68" y="1984"/>
                  </a:lnTo>
                  <a:lnTo>
                    <a:pt x="88" y="1870"/>
                  </a:lnTo>
                  <a:lnTo>
                    <a:pt x="113" y="1760"/>
                  </a:lnTo>
                  <a:lnTo>
                    <a:pt x="145" y="1651"/>
                  </a:lnTo>
                  <a:lnTo>
                    <a:pt x="180" y="1545"/>
                  </a:lnTo>
                  <a:lnTo>
                    <a:pt x="221" y="1441"/>
                  </a:lnTo>
                  <a:lnTo>
                    <a:pt x="268" y="1339"/>
                  </a:lnTo>
                  <a:lnTo>
                    <a:pt x="319" y="1241"/>
                  </a:lnTo>
                  <a:lnTo>
                    <a:pt x="374" y="1145"/>
                  </a:lnTo>
                  <a:lnTo>
                    <a:pt x="433" y="1052"/>
                  </a:lnTo>
                  <a:lnTo>
                    <a:pt x="497" y="962"/>
                  </a:lnTo>
                  <a:lnTo>
                    <a:pt x="565" y="876"/>
                  </a:lnTo>
                  <a:lnTo>
                    <a:pt x="637" y="793"/>
                  </a:lnTo>
                  <a:lnTo>
                    <a:pt x="713" y="713"/>
                  </a:lnTo>
                  <a:lnTo>
                    <a:pt x="792" y="637"/>
                  </a:lnTo>
                  <a:lnTo>
                    <a:pt x="875" y="565"/>
                  </a:lnTo>
                  <a:lnTo>
                    <a:pt x="963" y="497"/>
                  </a:lnTo>
                  <a:lnTo>
                    <a:pt x="1052" y="433"/>
                  </a:lnTo>
                  <a:lnTo>
                    <a:pt x="1145" y="374"/>
                  </a:lnTo>
                  <a:lnTo>
                    <a:pt x="1241" y="318"/>
                  </a:lnTo>
                  <a:lnTo>
                    <a:pt x="1340" y="268"/>
                  </a:lnTo>
                  <a:lnTo>
                    <a:pt x="1441" y="221"/>
                  </a:lnTo>
                  <a:lnTo>
                    <a:pt x="1545" y="180"/>
                  </a:lnTo>
                  <a:lnTo>
                    <a:pt x="1652" y="145"/>
                  </a:lnTo>
                  <a:lnTo>
                    <a:pt x="1760" y="114"/>
                  </a:lnTo>
                  <a:lnTo>
                    <a:pt x="1871" y="88"/>
                  </a:lnTo>
                  <a:lnTo>
                    <a:pt x="1984" y="68"/>
                  </a:lnTo>
                  <a:lnTo>
                    <a:pt x="2099" y="54"/>
                  </a:lnTo>
                  <a:lnTo>
                    <a:pt x="2215" y="44"/>
                  </a:lnTo>
                  <a:lnTo>
                    <a:pt x="2333" y="42"/>
                  </a:lnTo>
                  <a:lnTo>
                    <a:pt x="2452" y="44"/>
                  </a:lnTo>
                  <a:lnTo>
                    <a:pt x="2567" y="54"/>
                  </a:lnTo>
                  <a:lnTo>
                    <a:pt x="2682" y="68"/>
                  </a:lnTo>
                  <a:lnTo>
                    <a:pt x="2795" y="88"/>
                  </a:lnTo>
                  <a:lnTo>
                    <a:pt x="2905" y="114"/>
                  </a:lnTo>
                  <a:lnTo>
                    <a:pt x="3014" y="145"/>
                  </a:lnTo>
                  <a:lnTo>
                    <a:pt x="3121" y="180"/>
                  </a:lnTo>
                  <a:lnTo>
                    <a:pt x="3225" y="221"/>
                  </a:lnTo>
                  <a:lnTo>
                    <a:pt x="3327" y="268"/>
                  </a:lnTo>
                  <a:lnTo>
                    <a:pt x="3425" y="318"/>
                  </a:lnTo>
                  <a:lnTo>
                    <a:pt x="3521" y="374"/>
                  </a:lnTo>
                  <a:lnTo>
                    <a:pt x="3614" y="433"/>
                  </a:lnTo>
                  <a:lnTo>
                    <a:pt x="3704" y="497"/>
                  </a:lnTo>
                  <a:lnTo>
                    <a:pt x="3791" y="565"/>
                  </a:lnTo>
                  <a:lnTo>
                    <a:pt x="3875" y="637"/>
                  </a:lnTo>
                  <a:lnTo>
                    <a:pt x="3953" y="713"/>
                  </a:lnTo>
                  <a:lnTo>
                    <a:pt x="4029" y="793"/>
                  </a:lnTo>
                  <a:lnTo>
                    <a:pt x="4101" y="876"/>
                  </a:lnTo>
                  <a:lnTo>
                    <a:pt x="4170" y="962"/>
                  </a:lnTo>
                  <a:lnTo>
                    <a:pt x="4233" y="1052"/>
                  </a:lnTo>
                  <a:lnTo>
                    <a:pt x="4293" y="1145"/>
                  </a:lnTo>
                  <a:lnTo>
                    <a:pt x="4348" y="1241"/>
                  </a:lnTo>
                  <a:lnTo>
                    <a:pt x="4399" y="1339"/>
                  </a:lnTo>
                  <a:lnTo>
                    <a:pt x="4445" y="1441"/>
                  </a:lnTo>
                  <a:lnTo>
                    <a:pt x="4486" y="1545"/>
                  </a:lnTo>
                  <a:lnTo>
                    <a:pt x="4522" y="1651"/>
                  </a:lnTo>
                  <a:lnTo>
                    <a:pt x="4553" y="1760"/>
                  </a:lnTo>
                  <a:lnTo>
                    <a:pt x="4578" y="1870"/>
                  </a:lnTo>
                  <a:lnTo>
                    <a:pt x="4599" y="1984"/>
                  </a:lnTo>
                  <a:lnTo>
                    <a:pt x="4613" y="2098"/>
                  </a:lnTo>
                  <a:lnTo>
                    <a:pt x="4622" y="2215"/>
                  </a:lnTo>
                  <a:lnTo>
                    <a:pt x="4624" y="233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56160" y="2079720"/>
              <a:ext cx="1836720" cy="1834920"/>
            </a:xfrm>
            <a:custGeom>
              <a:avLst/>
              <a:gdLst/>
              <a:ahLst/>
              <a:rect l="l" t="t" r="r" b="b"/>
              <a:pathLst>
                <a:path w="4626" h="4624">
                  <a:moveTo>
                    <a:pt x="4626" y="2313"/>
                  </a:moveTo>
                  <a:lnTo>
                    <a:pt x="4623" y="2194"/>
                  </a:lnTo>
                  <a:lnTo>
                    <a:pt x="4614" y="2076"/>
                  </a:lnTo>
                  <a:lnTo>
                    <a:pt x="4599" y="1961"/>
                  </a:lnTo>
                  <a:lnTo>
                    <a:pt x="4579" y="1846"/>
                  </a:lnTo>
                  <a:lnTo>
                    <a:pt x="4553" y="1735"/>
                  </a:lnTo>
                  <a:lnTo>
                    <a:pt x="4521" y="1625"/>
                  </a:lnTo>
                  <a:lnTo>
                    <a:pt x="4486" y="1518"/>
                  </a:lnTo>
                  <a:lnTo>
                    <a:pt x="4445" y="1413"/>
                  </a:lnTo>
                  <a:lnTo>
                    <a:pt x="4398" y="1310"/>
                  </a:lnTo>
                  <a:lnTo>
                    <a:pt x="4346" y="1211"/>
                  </a:lnTo>
                  <a:lnTo>
                    <a:pt x="4291" y="1114"/>
                  </a:lnTo>
                  <a:lnTo>
                    <a:pt x="4231" y="1020"/>
                  </a:lnTo>
                  <a:lnTo>
                    <a:pt x="4166" y="929"/>
                  </a:lnTo>
                  <a:lnTo>
                    <a:pt x="4098" y="842"/>
                  </a:lnTo>
                  <a:lnTo>
                    <a:pt x="4025" y="759"/>
                  </a:lnTo>
                  <a:lnTo>
                    <a:pt x="3949" y="678"/>
                  </a:lnTo>
                  <a:lnTo>
                    <a:pt x="3868" y="601"/>
                  </a:lnTo>
                  <a:lnTo>
                    <a:pt x="3784" y="529"/>
                  </a:lnTo>
                  <a:lnTo>
                    <a:pt x="3697" y="460"/>
                  </a:lnTo>
                  <a:lnTo>
                    <a:pt x="3606" y="396"/>
                  </a:lnTo>
                  <a:lnTo>
                    <a:pt x="3512" y="335"/>
                  </a:lnTo>
                  <a:lnTo>
                    <a:pt x="3416" y="280"/>
                  </a:lnTo>
                  <a:lnTo>
                    <a:pt x="3315" y="229"/>
                  </a:lnTo>
                  <a:lnTo>
                    <a:pt x="3214" y="183"/>
                  </a:lnTo>
                  <a:lnTo>
                    <a:pt x="3108" y="141"/>
                  </a:lnTo>
                  <a:lnTo>
                    <a:pt x="3001" y="105"/>
                  </a:lnTo>
                  <a:lnTo>
                    <a:pt x="2891" y="74"/>
                  </a:lnTo>
                  <a:lnTo>
                    <a:pt x="2779" y="48"/>
                  </a:lnTo>
                  <a:lnTo>
                    <a:pt x="2665" y="27"/>
                  </a:lnTo>
                  <a:lnTo>
                    <a:pt x="2549" y="12"/>
                  </a:lnTo>
                  <a:lnTo>
                    <a:pt x="2433" y="4"/>
                  </a:lnTo>
                  <a:lnTo>
                    <a:pt x="2313" y="0"/>
                  </a:lnTo>
                  <a:lnTo>
                    <a:pt x="2194" y="4"/>
                  </a:lnTo>
                  <a:lnTo>
                    <a:pt x="2077" y="12"/>
                  </a:lnTo>
                  <a:lnTo>
                    <a:pt x="1961" y="27"/>
                  </a:lnTo>
                  <a:lnTo>
                    <a:pt x="1847" y="48"/>
                  </a:lnTo>
                  <a:lnTo>
                    <a:pt x="1736" y="74"/>
                  </a:lnTo>
                  <a:lnTo>
                    <a:pt x="1625" y="105"/>
                  </a:lnTo>
                  <a:lnTo>
                    <a:pt x="1518" y="141"/>
                  </a:lnTo>
                  <a:lnTo>
                    <a:pt x="1413" y="183"/>
                  </a:lnTo>
                  <a:lnTo>
                    <a:pt x="1311" y="229"/>
                  </a:lnTo>
                  <a:lnTo>
                    <a:pt x="1210" y="280"/>
                  </a:lnTo>
                  <a:lnTo>
                    <a:pt x="1114" y="335"/>
                  </a:lnTo>
                  <a:lnTo>
                    <a:pt x="1020" y="396"/>
                  </a:lnTo>
                  <a:lnTo>
                    <a:pt x="930" y="460"/>
                  </a:lnTo>
                  <a:lnTo>
                    <a:pt x="842" y="529"/>
                  </a:lnTo>
                  <a:lnTo>
                    <a:pt x="758" y="601"/>
                  </a:lnTo>
                  <a:lnTo>
                    <a:pt x="678" y="678"/>
                  </a:lnTo>
                  <a:lnTo>
                    <a:pt x="601" y="759"/>
                  </a:lnTo>
                  <a:lnTo>
                    <a:pt x="529" y="842"/>
                  </a:lnTo>
                  <a:lnTo>
                    <a:pt x="460" y="929"/>
                  </a:lnTo>
                  <a:lnTo>
                    <a:pt x="396" y="1020"/>
                  </a:lnTo>
                  <a:lnTo>
                    <a:pt x="335" y="1114"/>
                  </a:lnTo>
                  <a:lnTo>
                    <a:pt x="280" y="1211"/>
                  </a:lnTo>
                  <a:lnTo>
                    <a:pt x="228" y="1310"/>
                  </a:lnTo>
                  <a:lnTo>
                    <a:pt x="182" y="1413"/>
                  </a:lnTo>
                  <a:lnTo>
                    <a:pt x="141" y="1518"/>
                  </a:lnTo>
                  <a:lnTo>
                    <a:pt x="104" y="1625"/>
                  </a:lnTo>
                  <a:lnTo>
                    <a:pt x="74" y="1735"/>
                  </a:lnTo>
                  <a:lnTo>
                    <a:pt x="48" y="1846"/>
                  </a:lnTo>
                  <a:lnTo>
                    <a:pt x="27" y="1961"/>
                  </a:lnTo>
                  <a:lnTo>
                    <a:pt x="12" y="2076"/>
                  </a:lnTo>
                  <a:lnTo>
                    <a:pt x="4" y="2194"/>
                  </a:lnTo>
                  <a:lnTo>
                    <a:pt x="0" y="2313"/>
                  </a:lnTo>
                  <a:lnTo>
                    <a:pt x="4" y="2431"/>
                  </a:lnTo>
                  <a:lnTo>
                    <a:pt x="12" y="2549"/>
                  </a:lnTo>
                  <a:lnTo>
                    <a:pt x="27" y="2665"/>
                  </a:lnTo>
                  <a:lnTo>
                    <a:pt x="48" y="2778"/>
                  </a:lnTo>
                  <a:lnTo>
                    <a:pt x="74" y="2890"/>
                  </a:lnTo>
                  <a:lnTo>
                    <a:pt x="104" y="3000"/>
                  </a:lnTo>
                  <a:lnTo>
                    <a:pt x="141" y="3108"/>
                  </a:lnTo>
                  <a:lnTo>
                    <a:pt x="182" y="3212"/>
                  </a:lnTo>
                  <a:lnTo>
                    <a:pt x="228" y="3315"/>
                  </a:lnTo>
                  <a:lnTo>
                    <a:pt x="280" y="3414"/>
                  </a:lnTo>
                  <a:lnTo>
                    <a:pt x="335" y="3511"/>
                  </a:lnTo>
                  <a:lnTo>
                    <a:pt x="396" y="3604"/>
                  </a:lnTo>
                  <a:lnTo>
                    <a:pt x="460" y="3695"/>
                  </a:lnTo>
                  <a:lnTo>
                    <a:pt x="529" y="3783"/>
                  </a:lnTo>
                  <a:lnTo>
                    <a:pt x="601" y="3867"/>
                  </a:lnTo>
                  <a:lnTo>
                    <a:pt x="678" y="3947"/>
                  </a:lnTo>
                  <a:lnTo>
                    <a:pt x="758" y="4023"/>
                  </a:lnTo>
                  <a:lnTo>
                    <a:pt x="842" y="4096"/>
                  </a:lnTo>
                  <a:lnTo>
                    <a:pt x="930" y="4165"/>
                  </a:lnTo>
                  <a:lnTo>
                    <a:pt x="1020" y="4230"/>
                  </a:lnTo>
                  <a:lnTo>
                    <a:pt x="1114" y="4289"/>
                  </a:lnTo>
                  <a:lnTo>
                    <a:pt x="1210" y="4345"/>
                  </a:lnTo>
                  <a:lnTo>
                    <a:pt x="1311" y="4396"/>
                  </a:lnTo>
                  <a:lnTo>
                    <a:pt x="1413" y="4442"/>
                  </a:lnTo>
                  <a:lnTo>
                    <a:pt x="1518" y="4483"/>
                  </a:lnTo>
                  <a:lnTo>
                    <a:pt x="1625" y="4520"/>
                  </a:lnTo>
                  <a:lnTo>
                    <a:pt x="1736" y="4552"/>
                  </a:lnTo>
                  <a:lnTo>
                    <a:pt x="1847" y="4577"/>
                  </a:lnTo>
                  <a:lnTo>
                    <a:pt x="1961" y="4597"/>
                  </a:lnTo>
                  <a:lnTo>
                    <a:pt x="2077" y="4612"/>
                  </a:lnTo>
                  <a:lnTo>
                    <a:pt x="2194" y="4621"/>
                  </a:lnTo>
                  <a:lnTo>
                    <a:pt x="2313" y="4624"/>
                  </a:lnTo>
                  <a:lnTo>
                    <a:pt x="2433" y="4621"/>
                  </a:lnTo>
                  <a:lnTo>
                    <a:pt x="2549" y="4612"/>
                  </a:lnTo>
                  <a:lnTo>
                    <a:pt x="2665" y="4597"/>
                  </a:lnTo>
                  <a:lnTo>
                    <a:pt x="2779" y="4577"/>
                  </a:lnTo>
                  <a:lnTo>
                    <a:pt x="2891" y="4552"/>
                  </a:lnTo>
                  <a:lnTo>
                    <a:pt x="3001" y="4520"/>
                  </a:lnTo>
                  <a:lnTo>
                    <a:pt x="3108" y="4483"/>
                  </a:lnTo>
                  <a:lnTo>
                    <a:pt x="3214" y="4442"/>
                  </a:lnTo>
                  <a:lnTo>
                    <a:pt x="3315" y="4396"/>
                  </a:lnTo>
                  <a:lnTo>
                    <a:pt x="3416" y="4345"/>
                  </a:lnTo>
                  <a:lnTo>
                    <a:pt x="3512" y="4289"/>
                  </a:lnTo>
                  <a:lnTo>
                    <a:pt x="3606" y="4230"/>
                  </a:lnTo>
                  <a:lnTo>
                    <a:pt x="3697" y="4165"/>
                  </a:lnTo>
                  <a:lnTo>
                    <a:pt x="3784" y="4096"/>
                  </a:lnTo>
                  <a:lnTo>
                    <a:pt x="3868" y="4023"/>
                  </a:lnTo>
                  <a:lnTo>
                    <a:pt x="3949" y="3947"/>
                  </a:lnTo>
                  <a:lnTo>
                    <a:pt x="4025" y="3867"/>
                  </a:lnTo>
                  <a:lnTo>
                    <a:pt x="4098" y="3783"/>
                  </a:lnTo>
                  <a:lnTo>
                    <a:pt x="4166" y="3695"/>
                  </a:lnTo>
                  <a:lnTo>
                    <a:pt x="4231" y="3604"/>
                  </a:lnTo>
                  <a:lnTo>
                    <a:pt x="4291" y="3511"/>
                  </a:lnTo>
                  <a:lnTo>
                    <a:pt x="4346" y="3414"/>
                  </a:lnTo>
                  <a:lnTo>
                    <a:pt x="4398" y="3315"/>
                  </a:lnTo>
                  <a:lnTo>
                    <a:pt x="4445" y="3212"/>
                  </a:lnTo>
                  <a:lnTo>
                    <a:pt x="4486" y="3108"/>
                  </a:lnTo>
                  <a:lnTo>
                    <a:pt x="4521" y="3000"/>
                  </a:lnTo>
                  <a:lnTo>
                    <a:pt x="4553" y="2890"/>
                  </a:lnTo>
                  <a:lnTo>
                    <a:pt x="4579" y="2778"/>
                  </a:lnTo>
                  <a:lnTo>
                    <a:pt x="4599" y="2665"/>
                  </a:lnTo>
                  <a:lnTo>
                    <a:pt x="4614" y="2549"/>
                  </a:lnTo>
                  <a:lnTo>
                    <a:pt x="4623" y="2431"/>
                  </a:lnTo>
                  <a:lnTo>
                    <a:pt x="4626" y="2313"/>
                  </a:lnTo>
                  <a:close/>
                  <a:moveTo>
                    <a:pt x="4584" y="2313"/>
                  </a:moveTo>
                  <a:lnTo>
                    <a:pt x="4581" y="2429"/>
                  </a:lnTo>
                  <a:lnTo>
                    <a:pt x="4572" y="2545"/>
                  </a:lnTo>
                  <a:lnTo>
                    <a:pt x="4558" y="2658"/>
                  </a:lnTo>
                  <a:lnTo>
                    <a:pt x="4537" y="2770"/>
                  </a:lnTo>
                  <a:lnTo>
                    <a:pt x="4513" y="2880"/>
                  </a:lnTo>
                  <a:lnTo>
                    <a:pt x="4482" y="2988"/>
                  </a:lnTo>
                  <a:lnTo>
                    <a:pt x="4447" y="3092"/>
                  </a:lnTo>
                  <a:lnTo>
                    <a:pt x="4406" y="3196"/>
                  </a:lnTo>
                  <a:lnTo>
                    <a:pt x="4360" y="3297"/>
                  </a:lnTo>
                  <a:lnTo>
                    <a:pt x="4309" y="3395"/>
                  </a:lnTo>
                  <a:lnTo>
                    <a:pt x="4255" y="3490"/>
                  </a:lnTo>
                  <a:lnTo>
                    <a:pt x="4196" y="3582"/>
                  </a:lnTo>
                  <a:lnTo>
                    <a:pt x="4133" y="3670"/>
                  </a:lnTo>
                  <a:lnTo>
                    <a:pt x="4065" y="3757"/>
                  </a:lnTo>
                  <a:lnTo>
                    <a:pt x="3994" y="3839"/>
                  </a:lnTo>
                  <a:lnTo>
                    <a:pt x="3919" y="3918"/>
                  </a:lnTo>
                  <a:lnTo>
                    <a:pt x="3841" y="3992"/>
                  </a:lnTo>
                  <a:lnTo>
                    <a:pt x="3757" y="4064"/>
                  </a:lnTo>
                  <a:lnTo>
                    <a:pt x="3672" y="4131"/>
                  </a:lnTo>
                  <a:lnTo>
                    <a:pt x="3582" y="4195"/>
                  </a:lnTo>
                  <a:lnTo>
                    <a:pt x="3490" y="4253"/>
                  </a:lnTo>
                  <a:lnTo>
                    <a:pt x="3395" y="4309"/>
                  </a:lnTo>
                  <a:lnTo>
                    <a:pt x="3298" y="4358"/>
                  </a:lnTo>
                  <a:lnTo>
                    <a:pt x="3197" y="4404"/>
                  </a:lnTo>
                  <a:lnTo>
                    <a:pt x="3094" y="4445"/>
                  </a:lnTo>
                  <a:lnTo>
                    <a:pt x="2988" y="4480"/>
                  </a:lnTo>
                  <a:lnTo>
                    <a:pt x="2881" y="4510"/>
                  </a:lnTo>
                  <a:lnTo>
                    <a:pt x="2771" y="4536"/>
                  </a:lnTo>
                  <a:lnTo>
                    <a:pt x="2659" y="4556"/>
                  </a:lnTo>
                  <a:lnTo>
                    <a:pt x="2545" y="4571"/>
                  </a:lnTo>
                  <a:lnTo>
                    <a:pt x="2430" y="4580"/>
                  </a:lnTo>
                  <a:lnTo>
                    <a:pt x="2313" y="4582"/>
                  </a:lnTo>
                  <a:lnTo>
                    <a:pt x="2196" y="4580"/>
                  </a:lnTo>
                  <a:lnTo>
                    <a:pt x="2081" y="4571"/>
                  </a:lnTo>
                  <a:lnTo>
                    <a:pt x="1967" y="4556"/>
                  </a:lnTo>
                  <a:lnTo>
                    <a:pt x="1856" y="4536"/>
                  </a:lnTo>
                  <a:lnTo>
                    <a:pt x="1745" y="4510"/>
                  </a:lnTo>
                  <a:lnTo>
                    <a:pt x="1638" y="4480"/>
                  </a:lnTo>
                  <a:lnTo>
                    <a:pt x="1532" y="4445"/>
                  </a:lnTo>
                  <a:lnTo>
                    <a:pt x="1429" y="4404"/>
                  </a:lnTo>
                  <a:lnTo>
                    <a:pt x="1328" y="4358"/>
                  </a:lnTo>
                  <a:lnTo>
                    <a:pt x="1231" y="4309"/>
                  </a:lnTo>
                  <a:lnTo>
                    <a:pt x="1136" y="4253"/>
                  </a:lnTo>
                  <a:lnTo>
                    <a:pt x="1043" y="4195"/>
                  </a:lnTo>
                  <a:lnTo>
                    <a:pt x="954" y="4131"/>
                  </a:lnTo>
                  <a:lnTo>
                    <a:pt x="869" y="4064"/>
                  </a:lnTo>
                  <a:lnTo>
                    <a:pt x="786" y="3992"/>
                  </a:lnTo>
                  <a:lnTo>
                    <a:pt x="707" y="3918"/>
                  </a:lnTo>
                  <a:lnTo>
                    <a:pt x="632" y="3839"/>
                  </a:lnTo>
                  <a:lnTo>
                    <a:pt x="561" y="3757"/>
                  </a:lnTo>
                  <a:lnTo>
                    <a:pt x="493" y="3670"/>
                  </a:lnTo>
                  <a:lnTo>
                    <a:pt x="430" y="3582"/>
                  </a:lnTo>
                  <a:lnTo>
                    <a:pt x="371" y="3490"/>
                  </a:lnTo>
                  <a:lnTo>
                    <a:pt x="316" y="3395"/>
                  </a:lnTo>
                  <a:lnTo>
                    <a:pt x="266" y="3297"/>
                  </a:lnTo>
                  <a:lnTo>
                    <a:pt x="221" y="3196"/>
                  </a:lnTo>
                  <a:lnTo>
                    <a:pt x="180" y="3092"/>
                  </a:lnTo>
                  <a:lnTo>
                    <a:pt x="144" y="2988"/>
                  </a:lnTo>
                  <a:lnTo>
                    <a:pt x="114" y="2880"/>
                  </a:lnTo>
                  <a:lnTo>
                    <a:pt x="89" y="2770"/>
                  </a:lnTo>
                  <a:lnTo>
                    <a:pt x="68" y="2658"/>
                  </a:lnTo>
                  <a:lnTo>
                    <a:pt x="54" y="2545"/>
                  </a:lnTo>
                  <a:lnTo>
                    <a:pt x="46" y="2429"/>
                  </a:lnTo>
                  <a:lnTo>
                    <a:pt x="42" y="2313"/>
                  </a:lnTo>
                  <a:lnTo>
                    <a:pt x="46" y="2196"/>
                  </a:lnTo>
                  <a:lnTo>
                    <a:pt x="54" y="2080"/>
                  </a:lnTo>
                  <a:lnTo>
                    <a:pt x="68" y="1967"/>
                  </a:lnTo>
                  <a:lnTo>
                    <a:pt x="89" y="1855"/>
                  </a:lnTo>
                  <a:lnTo>
                    <a:pt x="114" y="1746"/>
                  </a:lnTo>
                  <a:lnTo>
                    <a:pt x="144" y="1638"/>
                  </a:lnTo>
                  <a:lnTo>
                    <a:pt x="180" y="1532"/>
                  </a:lnTo>
                  <a:lnTo>
                    <a:pt x="221" y="1429"/>
                  </a:lnTo>
                  <a:lnTo>
                    <a:pt x="266" y="1329"/>
                  </a:lnTo>
                  <a:lnTo>
                    <a:pt x="316" y="1231"/>
                  </a:lnTo>
                  <a:lnTo>
                    <a:pt x="371" y="1135"/>
                  </a:lnTo>
                  <a:lnTo>
                    <a:pt x="430" y="1044"/>
                  </a:lnTo>
                  <a:lnTo>
                    <a:pt x="493" y="954"/>
                  </a:lnTo>
                  <a:lnTo>
                    <a:pt x="561" y="869"/>
                  </a:lnTo>
                  <a:lnTo>
                    <a:pt x="632" y="787"/>
                  </a:lnTo>
                  <a:lnTo>
                    <a:pt x="707" y="708"/>
                  </a:lnTo>
                  <a:lnTo>
                    <a:pt x="786" y="632"/>
                  </a:lnTo>
                  <a:lnTo>
                    <a:pt x="869" y="561"/>
                  </a:lnTo>
                  <a:lnTo>
                    <a:pt x="954" y="494"/>
                  </a:lnTo>
                  <a:lnTo>
                    <a:pt x="1043" y="430"/>
                  </a:lnTo>
                  <a:lnTo>
                    <a:pt x="1136" y="371"/>
                  </a:lnTo>
                  <a:lnTo>
                    <a:pt x="1231" y="317"/>
                  </a:lnTo>
                  <a:lnTo>
                    <a:pt x="1328" y="266"/>
                  </a:lnTo>
                  <a:lnTo>
                    <a:pt x="1429" y="221"/>
                  </a:lnTo>
                  <a:lnTo>
                    <a:pt x="1532" y="181"/>
                  </a:lnTo>
                  <a:lnTo>
                    <a:pt x="1638" y="145"/>
                  </a:lnTo>
                  <a:lnTo>
                    <a:pt x="1745" y="114"/>
                  </a:lnTo>
                  <a:lnTo>
                    <a:pt x="1856" y="89"/>
                  </a:lnTo>
                  <a:lnTo>
                    <a:pt x="1967" y="68"/>
                  </a:lnTo>
                  <a:lnTo>
                    <a:pt x="2081" y="54"/>
                  </a:lnTo>
                  <a:lnTo>
                    <a:pt x="2196" y="46"/>
                  </a:lnTo>
                  <a:lnTo>
                    <a:pt x="2313" y="43"/>
                  </a:lnTo>
                  <a:lnTo>
                    <a:pt x="2430" y="46"/>
                  </a:lnTo>
                  <a:lnTo>
                    <a:pt x="2545" y="54"/>
                  </a:lnTo>
                  <a:lnTo>
                    <a:pt x="2659" y="68"/>
                  </a:lnTo>
                  <a:lnTo>
                    <a:pt x="2771" y="89"/>
                  </a:lnTo>
                  <a:lnTo>
                    <a:pt x="2881" y="114"/>
                  </a:lnTo>
                  <a:lnTo>
                    <a:pt x="2988" y="145"/>
                  </a:lnTo>
                  <a:lnTo>
                    <a:pt x="3094" y="181"/>
                  </a:lnTo>
                  <a:lnTo>
                    <a:pt x="3197" y="221"/>
                  </a:lnTo>
                  <a:lnTo>
                    <a:pt x="3298" y="266"/>
                  </a:lnTo>
                  <a:lnTo>
                    <a:pt x="3395" y="317"/>
                  </a:lnTo>
                  <a:lnTo>
                    <a:pt x="3490" y="371"/>
                  </a:lnTo>
                  <a:lnTo>
                    <a:pt x="3582" y="430"/>
                  </a:lnTo>
                  <a:lnTo>
                    <a:pt x="3672" y="494"/>
                  </a:lnTo>
                  <a:lnTo>
                    <a:pt x="3757" y="561"/>
                  </a:lnTo>
                  <a:lnTo>
                    <a:pt x="3841" y="632"/>
                  </a:lnTo>
                  <a:lnTo>
                    <a:pt x="3919" y="708"/>
                  </a:lnTo>
                  <a:lnTo>
                    <a:pt x="3994" y="787"/>
                  </a:lnTo>
                  <a:lnTo>
                    <a:pt x="4065" y="869"/>
                  </a:lnTo>
                  <a:lnTo>
                    <a:pt x="4133" y="954"/>
                  </a:lnTo>
                  <a:lnTo>
                    <a:pt x="4196" y="1044"/>
                  </a:lnTo>
                  <a:lnTo>
                    <a:pt x="4255" y="1135"/>
                  </a:lnTo>
                  <a:lnTo>
                    <a:pt x="4309" y="1231"/>
                  </a:lnTo>
                  <a:lnTo>
                    <a:pt x="4360" y="1329"/>
                  </a:lnTo>
                  <a:lnTo>
                    <a:pt x="4406" y="1429"/>
                  </a:lnTo>
                  <a:lnTo>
                    <a:pt x="4447" y="1532"/>
                  </a:lnTo>
                  <a:lnTo>
                    <a:pt x="4482" y="1638"/>
                  </a:lnTo>
                  <a:lnTo>
                    <a:pt x="4513" y="1746"/>
                  </a:lnTo>
                  <a:lnTo>
                    <a:pt x="4537" y="1855"/>
                  </a:lnTo>
                  <a:lnTo>
                    <a:pt x="4558" y="1967"/>
                  </a:lnTo>
                  <a:lnTo>
                    <a:pt x="4572" y="2080"/>
                  </a:lnTo>
                  <a:lnTo>
                    <a:pt x="4581" y="2196"/>
                  </a:lnTo>
                  <a:lnTo>
                    <a:pt x="4584" y="2313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64080" y="2089080"/>
              <a:ext cx="1819080" cy="1817640"/>
            </a:xfrm>
            <a:custGeom>
              <a:avLst/>
              <a:gdLst/>
              <a:ahLst/>
              <a:rect l="l" t="t" r="r" b="b"/>
              <a:pathLst>
                <a:path w="4582" h="4581">
                  <a:moveTo>
                    <a:pt x="4582" y="2291"/>
                  </a:moveTo>
                  <a:lnTo>
                    <a:pt x="4580" y="2173"/>
                  </a:lnTo>
                  <a:lnTo>
                    <a:pt x="4571" y="2056"/>
                  </a:lnTo>
                  <a:lnTo>
                    <a:pt x="4557" y="1942"/>
                  </a:lnTo>
                  <a:lnTo>
                    <a:pt x="4536" y="1828"/>
                  </a:lnTo>
                  <a:lnTo>
                    <a:pt x="4511" y="1718"/>
                  </a:lnTo>
                  <a:lnTo>
                    <a:pt x="4480" y="1609"/>
                  </a:lnTo>
                  <a:lnTo>
                    <a:pt x="4444" y="1503"/>
                  </a:lnTo>
                  <a:lnTo>
                    <a:pt x="4403" y="1399"/>
                  </a:lnTo>
                  <a:lnTo>
                    <a:pt x="4357" y="1297"/>
                  </a:lnTo>
                  <a:lnTo>
                    <a:pt x="4306" y="1199"/>
                  </a:lnTo>
                  <a:lnTo>
                    <a:pt x="4251" y="1103"/>
                  </a:lnTo>
                  <a:lnTo>
                    <a:pt x="4191" y="1010"/>
                  </a:lnTo>
                  <a:lnTo>
                    <a:pt x="4128" y="920"/>
                  </a:lnTo>
                  <a:lnTo>
                    <a:pt x="4059" y="834"/>
                  </a:lnTo>
                  <a:lnTo>
                    <a:pt x="3987" y="751"/>
                  </a:lnTo>
                  <a:lnTo>
                    <a:pt x="3911" y="671"/>
                  </a:lnTo>
                  <a:lnTo>
                    <a:pt x="3833" y="595"/>
                  </a:lnTo>
                  <a:lnTo>
                    <a:pt x="3749" y="523"/>
                  </a:lnTo>
                  <a:lnTo>
                    <a:pt x="3662" y="455"/>
                  </a:lnTo>
                  <a:lnTo>
                    <a:pt x="3572" y="391"/>
                  </a:lnTo>
                  <a:lnTo>
                    <a:pt x="3479" y="332"/>
                  </a:lnTo>
                  <a:lnTo>
                    <a:pt x="3383" y="276"/>
                  </a:lnTo>
                  <a:lnTo>
                    <a:pt x="3285" y="226"/>
                  </a:lnTo>
                  <a:lnTo>
                    <a:pt x="3183" y="179"/>
                  </a:lnTo>
                  <a:lnTo>
                    <a:pt x="3079" y="138"/>
                  </a:lnTo>
                  <a:lnTo>
                    <a:pt x="2972" y="103"/>
                  </a:lnTo>
                  <a:lnTo>
                    <a:pt x="2863" y="72"/>
                  </a:lnTo>
                  <a:lnTo>
                    <a:pt x="2753" y="46"/>
                  </a:lnTo>
                  <a:lnTo>
                    <a:pt x="2640" y="26"/>
                  </a:lnTo>
                  <a:lnTo>
                    <a:pt x="2525" y="12"/>
                  </a:lnTo>
                  <a:lnTo>
                    <a:pt x="2410" y="2"/>
                  </a:lnTo>
                  <a:lnTo>
                    <a:pt x="2291" y="0"/>
                  </a:lnTo>
                  <a:lnTo>
                    <a:pt x="2173" y="2"/>
                  </a:lnTo>
                  <a:lnTo>
                    <a:pt x="2057" y="12"/>
                  </a:lnTo>
                  <a:lnTo>
                    <a:pt x="1942" y="26"/>
                  </a:lnTo>
                  <a:lnTo>
                    <a:pt x="1829" y="46"/>
                  </a:lnTo>
                  <a:lnTo>
                    <a:pt x="1718" y="72"/>
                  </a:lnTo>
                  <a:lnTo>
                    <a:pt x="1610" y="103"/>
                  </a:lnTo>
                  <a:lnTo>
                    <a:pt x="1503" y="138"/>
                  </a:lnTo>
                  <a:lnTo>
                    <a:pt x="1399" y="179"/>
                  </a:lnTo>
                  <a:lnTo>
                    <a:pt x="1298" y="226"/>
                  </a:lnTo>
                  <a:lnTo>
                    <a:pt x="1199" y="276"/>
                  </a:lnTo>
                  <a:lnTo>
                    <a:pt x="1103" y="332"/>
                  </a:lnTo>
                  <a:lnTo>
                    <a:pt x="1010" y="391"/>
                  </a:lnTo>
                  <a:lnTo>
                    <a:pt x="921" y="455"/>
                  </a:lnTo>
                  <a:lnTo>
                    <a:pt x="833" y="523"/>
                  </a:lnTo>
                  <a:lnTo>
                    <a:pt x="750" y="595"/>
                  </a:lnTo>
                  <a:lnTo>
                    <a:pt x="671" y="671"/>
                  </a:lnTo>
                  <a:lnTo>
                    <a:pt x="595" y="751"/>
                  </a:lnTo>
                  <a:lnTo>
                    <a:pt x="523" y="834"/>
                  </a:lnTo>
                  <a:lnTo>
                    <a:pt x="455" y="920"/>
                  </a:lnTo>
                  <a:lnTo>
                    <a:pt x="391" y="1010"/>
                  </a:lnTo>
                  <a:lnTo>
                    <a:pt x="332" y="1103"/>
                  </a:lnTo>
                  <a:lnTo>
                    <a:pt x="277" y="1199"/>
                  </a:lnTo>
                  <a:lnTo>
                    <a:pt x="226" y="1297"/>
                  </a:lnTo>
                  <a:lnTo>
                    <a:pt x="179" y="1399"/>
                  </a:lnTo>
                  <a:lnTo>
                    <a:pt x="138" y="1503"/>
                  </a:lnTo>
                  <a:lnTo>
                    <a:pt x="103" y="1609"/>
                  </a:lnTo>
                  <a:lnTo>
                    <a:pt x="71" y="1718"/>
                  </a:lnTo>
                  <a:lnTo>
                    <a:pt x="46" y="1828"/>
                  </a:lnTo>
                  <a:lnTo>
                    <a:pt x="26" y="1942"/>
                  </a:lnTo>
                  <a:lnTo>
                    <a:pt x="11" y="2056"/>
                  </a:lnTo>
                  <a:lnTo>
                    <a:pt x="2" y="2173"/>
                  </a:lnTo>
                  <a:lnTo>
                    <a:pt x="0" y="2291"/>
                  </a:lnTo>
                  <a:lnTo>
                    <a:pt x="2" y="2408"/>
                  </a:lnTo>
                  <a:lnTo>
                    <a:pt x="11" y="2525"/>
                  </a:lnTo>
                  <a:lnTo>
                    <a:pt x="26" y="2640"/>
                  </a:lnTo>
                  <a:lnTo>
                    <a:pt x="46" y="2752"/>
                  </a:lnTo>
                  <a:lnTo>
                    <a:pt x="71" y="2863"/>
                  </a:lnTo>
                  <a:lnTo>
                    <a:pt x="103" y="2971"/>
                  </a:lnTo>
                  <a:lnTo>
                    <a:pt x="138" y="3078"/>
                  </a:lnTo>
                  <a:lnTo>
                    <a:pt x="179" y="3182"/>
                  </a:lnTo>
                  <a:lnTo>
                    <a:pt x="226" y="3283"/>
                  </a:lnTo>
                  <a:lnTo>
                    <a:pt x="277" y="3383"/>
                  </a:lnTo>
                  <a:lnTo>
                    <a:pt x="332" y="3479"/>
                  </a:lnTo>
                  <a:lnTo>
                    <a:pt x="391" y="3572"/>
                  </a:lnTo>
                  <a:lnTo>
                    <a:pt x="455" y="3661"/>
                  </a:lnTo>
                  <a:lnTo>
                    <a:pt x="523" y="3748"/>
                  </a:lnTo>
                  <a:lnTo>
                    <a:pt x="595" y="3831"/>
                  </a:lnTo>
                  <a:lnTo>
                    <a:pt x="671" y="3911"/>
                  </a:lnTo>
                  <a:lnTo>
                    <a:pt x="750" y="3986"/>
                  </a:lnTo>
                  <a:lnTo>
                    <a:pt x="833" y="4058"/>
                  </a:lnTo>
                  <a:lnTo>
                    <a:pt x="921" y="4126"/>
                  </a:lnTo>
                  <a:lnTo>
                    <a:pt x="1010" y="4190"/>
                  </a:lnTo>
                  <a:lnTo>
                    <a:pt x="1103" y="4250"/>
                  </a:lnTo>
                  <a:lnTo>
                    <a:pt x="1199" y="4305"/>
                  </a:lnTo>
                  <a:lnTo>
                    <a:pt x="1298" y="4356"/>
                  </a:lnTo>
                  <a:lnTo>
                    <a:pt x="1399" y="4401"/>
                  </a:lnTo>
                  <a:lnTo>
                    <a:pt x="1503" y="4442"/>
                  </a:lnTo>
                  <a:lnTo>
                    <a:pt x="1610" y="4478"/>
                  </a:lnTo>
                  <a:lnTo>
                    <a:pt x="1718" y="4509"/>
                  </a:lnTo>
                  <a:lnTo>
                    <a:pt x="1829" y="4535"/>
                  </a:lnTo>
                  <a:lnTo>
                    <a:pt x="1942" y="4554"/>
                  </a:lnTo>
                  <a:lnTo>
                    <a:pt x="2057" y="4569"/>
                  </a:lnTo>
                  <a:lnTo>
                    <a:pt x="2173" y="4578"/>
                  </a:lnTo>
                  <a:lnTo>
                    <a:pt x="2291" y="4581"/>
                  </a:lnTo>
                  <a:lnTo>
                    <a:pt x="2410" y="4578"/>
                  </a:lnTo>
                  <a:lnTo>
                    <a:pt x="2525" y="4569"/>
                  </a:lnTo>
                  <a:lnTo>
                    <a:pt x="2640" y="4554"/>
                  </a:lnTo>
                  <a:lnTo>
                    <a:pt x="2753" y="4535"/>
                  </a:lnTo>
                  <a:lnTo>
                    <a:pt x="2863" y="4509"/>
                  </a:lnTo>
                  <a:lnTo>
                    <a:pt x="2972" y="4478"/>
                  </a:lnTo>
                  <a:lnTo>
                    <a:pt x="3079" y="4442"/>
                  </a:lnTo>
                  <a:lnTo>
                    <a:pt x="3183" y="4401"/>
                  </a:lnTo>
                  <a:lnTo>
                    <a:pt x="3285" y="4356"/>
                  </a:lnTo>
                  <a:lnTo>
                    <a:pt x="3383" y="4305"/>
                  </a:lnTo>
                  <a:lnTo>
                    <a:pt x="3479" y="4250"/>
                  </a:lnTo>
                  <a:lnTo>
                    <a:pt x="3572" y="4190"/>
                  </a:lnTo>
                  <a:lnTo>
                    <a:pt x="3662" y="4126"/>
                  </a:lnTo>
                  <a:lnTo>
                    <a:pt x="3749" y="4058"/>
                  </a:lnTo>
                  <a:lnTo>
                    <a:pt x="3833" y="3986"/>
                  </a:lnTo>
                  <a:lnTo>
                    <a:pt x="3911" y="3911"/>
                  </a:lnTo>
                  <a:lnTo>
                    <a:pt x="3987" y="3831"/>
                  </a:lnTo>
                  <a:lnTo>
                    <a:pt x="4059" y="3748"/>
                  </a:lnTo>
                  <a:lnTo>
                    <a:pt x="4128" y="3661"/>
                  </a:lnTo>
                  <a:lnTo>
                    <a:pt x="4191" y="3572"/>
                  </a:lnTo>
                  <a:lnTo>
                    <a:pt x="4251" y="3479"/>
                  </a:lnTo>
                  <a:lnTo>
                    <a:pt x="4306" y="3383"/>
                  </a:lnTo>
                  <a:lnTo>
                    <a:pt x="4357" y="3283"/>
                  </a:lnTo>
                  <a:lnTo>
                    <a:pt x="4403" y="3182"/>
                  </a:lnTo>
                  <a:lnTo>
                    <a:pt x="4444" y="3078"/>
                  </a:lnTo>
                  <a:lnTo>
                    <a:pt x="4480" y="2971"/>
                  </a:lnTo>
                  <a:lnTo>
                    <a:pt x="4511" y="2863"/>
                  </a:lnTo>
                  <a:lnTo>
                    <a:pt x="4536" y="2752"/>
                  </a:lnTo>
                  <a:lnTo>
                    <a:pt x="4557" y="2640"/>
                  </a:lnTo>
                  <a:lnTo>
                    <a:pt x="4571" y="2525"/>
                  </a:lnTo>
                  <a:lnTo>
                    <a:pt x="4580" y="2408"/>
                  </a:lnTo>
                  <a:lnTo>
                    <a:pt x="4582" y="2291"/>
                  </a:lnTo>
                  <a:close/>
                  <a:moveTo>
                    <a:pt x="4541" y="2291"/>
                  </a:moveTo>
                  <a:lnTo>
                    <a:pt x="4538" y="2406"/>
                  </a:lnTo>
                  <a:lnTo>
                    <a:pt x="4530" y="2521"/>
                  </a:lnTo>
                  <a:lnTo>
                    <a:pt x="4515" y="2633"/>
                  </a:lnTo>
                  <a:lnTo>
                    <a:pt x="4496" y="2743"/>
                  </a:lnTo>
                  <a:lnTo>
                    <a:pt x="4470" y="2852"/>
                  </a:lnTo>
                  <a:lnTo>
                    <a:pt x="4440" y="2959"/>
                  </a:lnTo>
                  <a:lnTo>
                    <a:pt x="4404" y="3064"/>
                  </a:lnTo>
                  <a:lnTo>
                    <a:pt x="4364" y="3165"/>
                  </a:lnTo>
                  <a:lnTo>
                    <a:pt x="4319" y="3266"/>
                  </a:lnTo>
                  <a:lnTo>
                    <a:pt x="4270" y="3362"/>
                  </a:lnTo>
                  <a:lnTo>
                    <a:pt x="4215" y="3457"/>
                  </a:lnTo>
                  <a:lnTo>
                    <a:pt x="4157" y="3548"/>
                  </a:lnTo>
                  <a:lnTo>
                    <a:pt x="4094" y="3636"/>
                  </a:lnTo>
                  <a:lnTo>
                    <a:pt x="4027" y="3721"/>
                  </a:lnTo>
                  <a:lnTo>
                    <a:pt x="3957" y="3803"/>
                  </a:lnTo>
                  <a:lnTo>
                    <a:pt x="3882" y="3880"/>
                  </a:lnTo>
                  <a:lnTo>
                    <a:pt x="3804" y="3955"/>
                  </a:lnTo>
                  <a:lnTo>
                    <a:pt x="3722" y="4026"/>
                  </a:lnTo>
                  <a:lnTo>
                    <a:pt x="3637" y="4093"/>
                  </a:lnTo>
                  <a:lnTo>
                    <a:pt x="3549" y="4156"/>
                  </a:lnTo>
                  <a:lnTo>
                    <a:pt x="3458" y="4214"/>
                  </a:lnTo>
                  <a:lnTo>
                    <a:pt x="3364" y="4268"/>
                  </a:lnTo>
                  <a:lnTo>
                    <a:pt x="3266" y="4318"/>
                  </a:lnTo>
                  <a:lnTo>
                    <a:pt x="3167" y="4363"/>
                  </a:lnTo>
                  <a:lnTo>
                    <a:pt x="3064" y="4403"/>
                  </a:lnTo>
                  <a:lnTo>
                    <a:pt x="2961" y="4439"/>
                  </a:lnTo>
                  <a:lnTo>
                    <a:pt x="2854" y="4469"/>
                  </a:lnTo>
                  <a:lnTo>
                    <a:pt x="2744" y="4494"/>
                  </a:lnTo>
                  <a:lnTo>
                    <a:pt x="2634" y="4513"/>
                  </a:lnTo>
                  <a:lnTo>
                    <a:pt x="2521" y="4527"/>
                  </a:lnTo>
                  <a:lnTo>
                    <a:pt x="2407" y="4537"/>
                  </a:lnTo>
                  <a:lnTo>
                    <a:pt x="2291" y="4539"/>
                  </a:lnTo>
                  <a:lnTo>
                    <a:pt x="2175" y="4537"/>
                  </a:lnTo>
                  <a:lnTo>
                    <a:pt x="2062" y="4527"/>
                  </a:lnTo>
                  <a:lnTo>
                    <a:pt x="1948" y="4513"/>
                  </a:lnTo>
                  <a:lnTo>
                    <a:pt x="1838" y="4494"/>
                  </a:lnTo>
                  <a:lnTo>
                    <a:pt x="1729" y="4469"/>
                  </a:lnTo>
                  <a:lnTo>
                    <a:pt x="1622" y="4439"/>
                  </a:lnTo>
                  <a:lnTo>
                    <a:pt x="1518" y="4403"/>
                  </a:lnTo>
                  <a:lnTo>
                    <a:pt x="1415" y="4363"/>
                  </a:lnTo>
                  <a:lnTo>
                    <a:pt x="1316" y="4318"/>
                  </a:lnTo>
                  <a:lnTo>
                    <a:pt x="1219" y="4268"/>
                  </a:lnTo>
                  <a:lnTo>
                    <a:pt x="1125" y="4214"/>
                  </a:lnTo>
                  <a:lnTo>
                    <a:pt x="1033" y="4156"/>
                  </a:lnTo>
                  <a:lnTo>
                    <a:pt x="945" y="4093"/>
                  </a:lnTo>
                  <a:lnTo>
                    <a:pt x="860" y="4026"/>
                  </a:lnTo>
                  <a:lnTo>
                    <a:pt x="778" y="3955"/>
                  </a:lnTo>
                  <a:lnTo>
                    <a:pt x="700" y="3880"/>
                  </a:lnTo>
                  <a:lnTo>
                    <a:pt x="626" y="3803"/>
                  </a:lnTo>
                  <a:lnTo>
                    <a:pt x="555" y="3721"/>
                  </a:lnTo>
                  <a:lnTo>
                    <a:pt x="488" y="3636"/>
                  </a:lnTo>
                  <a:lnTo>
                    <a:pt x="426" y="3548"/>
                  </a:lnTo>
                  <a:lnTo>
                    <a:pt x="367" y="3457"/>
                  </a:lnTo>
                  <a:lnTo>
                    <a:pt x="312" y="3362"/>
                  </a:lnTo>
                  <a:lnTo>
                    <a:pt x="262" y="3266"/>
                  </a:lnTo>
                  <a:lnTo>
                    <a:pt x="218" y="3165"/>
                  </a:lnTo>
                  <a:lnTo>
                    <a:pt x="177" y="3064"/>
                  </a:lnTo>
                  <a:lnTo>
                    <a:pt x="143" y="2959"/>
                  </a:lnTo>
                  <a:lnTo>
                    <a:pt x="112" y="2852"/>
                  </a:lnTo>
                  <a:lnTo>
                    <a:pt x="86" y="2743"/>
                  </a:lnTo>
                  <a:lnTo>
                    <a:pt x="67" y="2633"/>
                  </a:lnTo>
                  <a:lnTo>
                    <a:pt x="53" y="2521"/>
                  </a:lnTo>
                  <a:lnTo>
                    <a:pt x="44" y="2406"/>
                  </a:lnTo>
                  <a:lnTo>
                    <a:pt x="41" y="2291"/>
                  </a:lnTo>
                  <a:lnTo>
                    <a:pt x="44" y="2175"/>
                  </a:lnTo>
                  <a:lnTo>
                    <a:pt x="53" y="2061"/>
                  </a:lnTo>
                  <a:lnTo>
                    <a:pt x="67" y="1948"/>
                  </a:lnTo>
                  <a:lnTo>
                    <a:pt x="86" y="1837"/>
                  </a:lnTo>
                  <a:lnTo>
                    <a:pt x="112" y="1728"/>
                  </a:lnTo>
                  <a:lnTo>
                    <a:pt x="143" y="1622"/>
                  </a:lnTo>
                  <a:lnTo>
                    <a:pt x="177" y="1517"/>
                  </a:lnTo>
                  <a:lnTo>
                    <a:pt x="218" y="1415"/>
                  </a:lnTo>
                  <a:lnTo>
                    <a:pt x="262" y="1315"/>
                  </a:lnTo>
                  <a:lnTo>
                    <a:pt x="312" y="1218"/>
                  </a:lnTo>
                  <a:lnTo>
                    <a:pt x="367" y="1124"/>
                  </a:lnTo>
                  <a:lnTo>
                    <a:pt x="426" y="1032"/>
                  </a:lnTo>
                  <a:lnTo>
                    <a:pt x="488" y="945"/>
                  </a:lnTo>
                  <a:lnTo>
                    <a:pt x="555" y="860"/>
                  </a:lnTo>
                  <a:lnTo>
                    <a:pt x="626" y="779"/>
                  </a:lnTo>
                  <a:lnTo>
                    <a:pt x="700" y="700"/>
                  </a:lnTo>
                  <a:lnTo>
                    <a:pt x="778" y="625"/>
                  </a:lnTo>
                  <a:lnTo>
                    <a:pt x="860" y="555"/>
                  </a:lnTo>
                  <a:lnTo>
                    <a:pt x="945" y="488"/>
                  </a:lnTo>
                  <a:lnTo>
                    <a:pt x="1033" y="426"/>
                  </a:lnTo>
                  <a:lnTo>
                    <a:pt x="1125" y="367"/>
                  </a:lnTo>
                  <a:lnTo>
                    <a:pt x="1219" y="313"/>
                  </a:lnTo>
                  <a:lnTo>
                    <a:pt x="1316" y="264"/>
                  </a:lnTo>
                  <a:lnTo>
                    <a:pt x="1415" y="218"/>
                  </a:lnTo>
                  <a:lnTo>
                    <a:pt x="1518" y="178"/>
                  </a:lnTo>
                  <a:lnTo>
                    <a:pt x="1622" y="143"/>
                  </a:lnTo>
                  <a:lnTo>
                    <a:pt x="1729" y="112"/>
                  </a:lnTo>
                  <a:lnTo>
                    <a:pt x="1838" y="87"/>
                  </a:lnTo>
                  <a:lnTo>
                    <a:pt x="1948" y="67"/>
                  </a:lnTo>
                  <a:lnTo>
                    <a:pt x="2062" y="53"/>
                  </a:lnTo>
                  <a:lnTo>
                    <a:pt x="2175" y="44"/>
                  </a:lnTo>
                  <a:lnTo>
                    <a:pt x="2291" y="41"/>
                  </a:lnTo>
                  <a:lnTo>
                    <a:pt x="2407" y="44"/>
                  </a:lnTo>
                  <a:lnTo>
                    <a:pt x="2521" y="53"/>
                  </a:lnTo>
                  <a:lnTo>
                    <a:pt x="2634" y="67"/>
                  </a:lnTo>
                  <a:lnTo>
                    <a:pt x="2744" y="87"/>
                  </a:lnTo>
                  <a:lnTo>
                    <a:pt x="2854" y="112"/>
                  </a:lnTo>
                  <a:lnTo>
                    <a:pt x="2961" y="143"/>
                  </a:lnTo>
                  <a:lnTo>
                    <a:pt x="3064" y="178"/>
                  </a:lnTo>
                  <a:lnTo>
                    <a:pt x="3167" y="218"/>
                  </a:lnTo>
                  <a:lnTo>
                    <a:pt x="3266" y="264"/>
                  </a:lnTo>
                  <a:lnTo>
                    <a:pt x="3364" y="313"/>
                  </a:lnTo>
                  <a:lnTo>
                    <a:pt x="3458" y="367"/>
                  </a:lnTo>
                  <a:lnTo>
                    <a:pt x="3549" y="426"/>
                  </a:lnTo>
                  <a:lnTo>
                    <a:pt x="3637" y="488"/>
                  </a:lnTo>
                  <a:lnTo>
                    <a:pt x="3722" y="555"/>
                  </a:lnTo>
                  <a:lnTo>
                    <a:pt x="3804" y="625"/>
                  </a:lnTo>
                  <a:lnTo>
                    <a:pt x="3882" y="700"/>
                  </a:lnTo>
                  <a:lnTo>
                    <a:pt x="3957" y="779"/>
                  </a:lnTo>
                  <a:lnTo>
                    <a:pt x="4027" y="860"/>
                  </a:lnTo>
                  <a:lnTo>
                    <a:pt x="4094" y="945"/>
                  </a:lnTo>
                  <a:lnTo>
                    <a:pt x="4157" y="1032"/>
                  </a:lnTo>
                  <a:lnTo>
                    <a:pt x="4215" y="1124"/>
                  </a:lnTo>
                  <a:lnTo>
                    <a:pt x="4270" y="1218"/>
                  </a:lnTo>
                  <a:lnTo>
                    <a:pt x="4319" y="1315"/>
                  </a:lnTo>
                  <a:lnTo>
                    <a:pt x="4364" y="1415"/>
                  </a:lnTo>
                  <a:lnTo>
                    <a:pt x="4404" y="1517"/>
                  </a:lnTo>
                  <a:lnTo>
                    <a:pt x="4440" y="1622"/>
                  </a:lnTo>
                  <a:lnTo>
                    <a:pt x="4470" y="1728"/>
                  </a:lnTo>
                  <a:lnTo>
                    <a:pt x="4496" y="1837"/>
                  </a:lnTo>
                  <a:lnTo>
                    <a:pt x="4515" y="1948"/>
                  </a:lnTo>
                  <a:lnTo>
                    <a:pt x="4530" y="2061"/>
                  </a:lnTo>
                  <a:lnTo>
                    <a:pt x="4538" y="2175"/>
                  </a:lnTo>
                  <a:lnTo>
                    <a:pt x="4541" y="229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73440" y="2097000"/>
              <a:ext cx="1801800" cy="1800360"/>
            </a:xfrm>
            <a:custGeom>
              <a:avLst/>
              <a:gdLst/>
              <a:ahLst/>
              <a:rect l="l" t="t" r="r" b="b"/>
              <a:pathLst>
                <a:path w="4542" h="4539">
                  <a:moveTo>
                    <a:pt x="4542" y="2270"/>
                  </a:moveTo>
                  <a:lnTo>
                    <a:pt x="4539" y="2153"/>
                  </a:lnTo>
                  <a:lnTo>
                    <a:pt x="4530" y="2037"/>
                  </a:lnTo>
                  <a:lnTo>
                    <a:pt x="4516" y="1924"/>
                  </a:lnTo>
                  <a:lnTo>
                    <a:pt x="4495" y="1812"/>
                  </a:lnTo>
                  <a:lnTo>
                    <a:pt x="4471" y="1703"/>
                  </a:lnTo>
                  <a:lnTo>
                    <a:pt x="4440" y="1595"/>
                  </a:lnTo>
                  <a:lnTo>
                    <a:pt x="4405" y="1489"/>
                  </a:lnTo>
                  <a:lnTo>
                    <a:pt x="4364" y="1386"/>
                  </a:lnTo>
                  <a:lnTo>
                    <a:pt x="4318" y="1286"/>
                  </a:lnTo>
                  <a:lnTo>
                    <a:pt x="4267" y="1188"/>
                  </a:lnTo>
                  <a:lnTo>
                    <a:pt x="4213" y="1092"/>
                  </a:lnTo>
                  <a:lnTo>
                    <a:pt x="4154" y="1001"/>
                  </a:lnTo>
                  <a:lnTo>
                    <a:pt x="4091" y="911"/>
                  </a:lnTo>
                  <a:lnTo>
                    <a:pt x="4023" y="826"/>
                  </a:lnTo>
                  <a:lnTo>
                    <a:pt x="3952" y="744"/>
                  </a:lnTo>
                  <a:lnTo>
                    <a:pt x="3877" y="665"/>
                  </a:lnTo>
                  <a:lnTo>
                    <a:pt x="3799" y="589"/>
                  </a:lnTo>
                  <a:lnTo>
                    <a:pt x="3715" y="518"/>
                  </a:lnTo>
                  <a:lnTo>
                    <a:pt x="3630" y="451"/>
                  </a:lnTo>
                  <a:lnTo>
                    <a:pt x="3540" y="387"/>
                  </a:lnTo>
                  <a:lnTo>
                    <a:pt x="3448" y="328"/>
                  </a:lnTo>
                  <a:lnTo>
                    <a:pt x="3353" y="274"/>
                  </a:lnTo>
                  <a:lnTo>
                    <a:pt x="3256" y="223"/>
                  </a:lnTo>
                  <a:lnTo>
                    <a:pt x="3155" y="178"/>
                  </a:lnTo>
                  <a:lnTo>
                    <a:pt x="3052" y="138"/>
                  </a:lnTo>
                  <a:lnTo>
                    <a:pt x="2946" y="102"/>
                  </a:lnTo>
                  <a:lnTo>
                    <a:pt x="2839" y="71"/>
                  </a:lnTo>
                  <a:lnTo>
                    <a:pt x="2729" y="46"/>
                  </a:lnTo>
                  <a:lnTo>
                    <a:pt x="2617" y="25"/>
                  </a:lnTo>
                  <a:lnTo>
                    <a:pt x="2503" y="11"/>
                  </a:lnTo>
                  <a:lnTo>
                    <a:pt x="2388" y="3"/>
                  </a:lnTo>
                  <a:lnTo>
                    <a:pt x="2271" y="0"/>
                  </a:lnTo>
                  <a:lnTo>
                    <a:pt x="2154" y="3"/>
                  </a:lnTo>
                  <a:lnTo>
                    <a:pt x="2039" y="11"/>
                  </a:lnTo>
                  <a:lnTo>
                    <a:pt x="1925" y="25"/>
                  </a:lnTo>
                  <a:lnTo>
                    <a:pt x="1814" y="46"/>
                  </a:lnTo>
                  <a:lnTo>
                    <a:pt x="1703" y="71"/>
                  </a:lnTo>
                  <a:lnTo>
                    <a:pt x="1596" y="102"/>
                  </a:lnTo>
                  <a:lnTo>
                    <a:pt x="1490" y="138"/>
                  </a:lnTo>
                  <a:lnTo>
                    <a:pt x="1387" y="178"/>
                  </a:lnTo>
                  <a:lnTo>
                    <a:pt x="1286" y="223"/>
                  </a:lnTo>
                  <a:lnTo>
                    <a:pt x="1189" y="274"/>
                  </a:lnTo>
                  <a:lnTo>
                    <a:pt x="1094" y="328"/>
                  </a:lnTo>
                  <a:lnTo>
                    <a:pt x="1001" y="387"/>
                  </a:lnTo>
                  <a:lnTo>
                    <a:pt x="912" y="451"/>
                  </a:lnTo>
                  <a:lnTo>
                    <a:pt x="827" y="518"/>
                  </a:lnTo>
                  <a:lnTo>
                    <a:pt x="744" y="589"/>
                  </a:lnTo>
                  <a:lnTo>
                    <a:pt x="665" y="665"/>
                  </a:lnTo>
                  <a:lnTo>
                    <a:pt x="590" y="744"/>
                  </a:lnTo>
                  <a:lnTo>
                    <a:pt x="519" y="826"/>
                  </a:lnTo>
                  <a:lnTo>
                    <a:pt x="451" y="911"/>
                  </a:lnTo>
                  <a:lnTo>
                    <a:pt x="388" y="1001"/>
                  </a:lnTo>
                  <a:lnTo>
                    <a:pt x="329" y="1092"/>
                  </a:lnTo>
                  <a:lnTo>
                    <a:pt x="274" y="1188"/>
                  </a:lnTo>
                  <a:lnTo>
                    <a:pt x="224" y="1286"/>
                  </a:lnTo>
                  <a:lnTo>
                    <a:pt x="179" y="1386"/>
                  </a:lnTo>
                  <a:lnTo>
                    <a:pt x="138" y="1489"/>
                  </a:lnTo>
                  <a:lnTo>
                    <a:pt x="102" y="1595"/>
                  </a:lnTo>
                  <a:lnTo>
                    <a:pt x="72" y="1703"/>
                  </a:lnTo>
                  <a:lnTo>
                    <a:pt x="47" y="1812"/>
                  </a:lnTo>
                  <a:lnTo>
                    <a:pt x="26" y="1924"/>
                  </a:lnTo>
                  <a:lnTo>
                    <a:pt x="12" y="2037"/>
                  </a:lnTo>
                  <a:lnTo>
                    <a:pt x="4" y="2153"/>
                  </a:lnTo>
                  <a:lnTo>
                    <a:pt x="0" y="2270"/>
                  </a:lnTo>
                  <a:lnTo>
                    <a:pt x="4" y="2386"/>
                  </a:lnTo>
                  <a:lnTo>
                    <a:pt x="12" y="2502"/>
                  </a:lnTo>
                  <a:lnTo>
                    <a:pt x="26" y="2615"/>
                  </a:lnTo>
                  <a:lnTo>
                    <a:pt x="47" y="2727"/>
                  </a:lnTo>
                  <a:lnTo>
                    <a:pt x="72" y="2837"/>
                  </a:lnTo>
                  <a:lnTo>
                    <a:pt x="102" y="2945"/>
                  </a:lnTo>
                  <a:lnTo>
                    <a:pt x="138" y="3049"/>
                  </a:lnTo>
                  <a:lnTo>
                    <a:pt x="179" y="3153"/>
                  </a:lnTo>
                  <a:lnTo>
                    <a:pt x="224" y="3254"/>
                  </a:lnTo>
                  <a:lnTo>
                    <a:pt x="274" y="3352"/>
                  </a:lnTo>
                  <a:lnTo>
                    <a:pt x="329" y="3447"/>
                  </a:lnTo>
                  <a:lnTo>
                    <a:pt x="388" y="3539"/>
                  </a:lnTo>
                  <a:lnTo>
                    <a:pt x="451" y="3627"/>
                  </a:lnTo>
                  <a:lnTo>
                    <a:pt x="519" y="3714"/>
                  </a:lnTo>
                  <a:lnTo>
                    <a:pt x="590" y="3796"/>
                  </a:lnTo>
                  <a:lnTo>
                    <a:pt x="665" y="3875"/>
                  </a:lnTo>
                  <a:lnTo>
                    <a:pt x="744" y="3949"/>
                  </a:lnTo>
                  <a:lnTo>
                    <a:pt x="827" y="4021"/>
                  </a:lnTo>
                  <a:lnTo>
                    <a:pt x="912" y="4088"/>
                  </a:lnTo>
                  <a:lnTo>
                    <a:pt x="1001" y="4152"/>
                  </a:lnTo>
                  <a:lnTo>
                    <a:pt x="1094" y="4210"/>
                  </a:lnTo>
                  <a:lnTo>
                    <a:pt x="1189" y="4266"/>
                  </a:lnTo>
                  <a:lnTo>
                    <a:pt x="1286" y="4315"/>
                  </a:lnTo>
                  <a:lnTo>
                    <a:pt x="1387" y="4361"/>
                  </a:lnTo>
                  <a:lnTo>
                    <a:pt x="1490" y="4402"/>
                  </a:lnTo>
                  <a:lnTo>
                    <a:pt x="1596" y="4437"/>
                  </a:lnTo>
                  <a:lnTo>
                    <a:pt x="1703" y="4467"/>
                  </a:lnTo>
                  <a:lnTo>
                    <a:pt x="1814" y="4493"/>
                  </a:lnTo>
                  <a:lnTo>
                    <a:pt x="1925" y="4513"/>
                  </a:lnTo>
                  <a:lnTo>
                    <a:pt x="2039" y="4528"/>
                  </a:lnTo>
                  <a:lnTo>
                    <a:pt x="2154" y="4537"/>
                  </a:lnTo>
                  <a:lnTo>
                    <a:pt x="2271" y="4539"/>
                  </a:lnTo>
                  <a:lnTo>
                    <a:pt x="2388" y="4537"/>
                  </a:lnTo>
                  <a:lnTo>
                    <a:pt x="2503" y="4528"/>
                  </a:lnTo>
                  <a:lnTo>
                    <a:pt x="2617" y="4513"/>
                  </a:lnTo>
                  <a:lnTo>
                    <a:pt x="2729" y="4493"/>
                  </a:lnTo>
                  <a:lnTo>
                    <a:pt x="2839" y="4467"/>
                  </a:lnTo>
                  <a:lnTo>
                    <a:pt x="2946" y="4437"/>
                  </a:lnTo>
                  <a:lnTo>
                    <a:pt x="3052" y="4402"/>
                  </a:lnTo>
                  <a:lnTo>
                    <a:pt x="3155" y="4361"/>
                  </a:lnTo>
                  <a:lnTo>
                    <a:pt x="3256" y="4315"/>
                  </a:lnTo>
                  <a:lnTo>
                    <a:pt x="3353" y="4266"/>
                  </a:lnTo>
                  <a:lnTo>
                    <a:pt x="3448" y="4210"/>
                  </a:lnTo>
                  <a:lnTo>
                    <a:pt x="3540" y="4152"/>
                  </a:lnTo>
                  <a:lnTo>
                    <a:pt x="3630" y="4088"/>
                  </a:lnTo>
                  <a:lnTo>
                    <a:pt x="3715" y="4021"/>
                  </a:lnTo>
                  <a:lnTo>
                    <a:pt x="3799" y="3949"/>
                  </a:lnTo>
                  <a:lnTo>
                    <a:pt x="3877" y="3875"/>
                  </a:lnTo>
                  <a:lnTo>
                    <a:pt x="3952" y="3796"/>
                  </a:lnTo>
                  <a:lnTo>
                    <a:pt x="4023" y="3714"/>
                  </a:lnTo>
                  <a:lnTo>
                    <a:pt x="4091" y="3627"/>
                  </a:lnTo>
                  <a:lnTo>
                    <a:pt x="4154" y="3539"/>
                  </a:lnTo>
                  <a:lnTo>
                    <a:pt x="4213" y="3447"/>
                  </a:lnTo>
                  <a:lnTo>
                    <a:pt x="4267" y="3352"/>
                  </a:lnTo>
                  <a:lnTo>
                    <a:pt x="4318" y="3254"/>
                  </a:lnTo>
                  <a:lnTo>
                    <a:pt x="4364" y="3153"/>
                  </a:lnTo>
                  <a:lnTo>
                    <a:pt x="4405" y="3049"/>
                  </a:lnTo>
                  <a:lnTo>
                    <a:pt x="4440" y="2945"/>
                  </a:lnTo>
                  <a:lnTo>
                    <a:pt x="4471" y="2837"/>
                  </a:lnTo>
                  <a:lnTo>
                    <a:pt x="4495" y="2727"/>
                  </a:lnTo>
                  <a:lnTo>
                    <a:pt x="4516" y="2615"/>
                  </a:lnTo>
                  <a:lnTo>
                    <a:pt x="4530" y="2502"/>
                  </a:lnTo>
                  <a:lnTo>
                    <a:pt x="4539" y="2386"/>
                  </a:lnTo>
                  <a:lnTo>
                    <a:pt x="4542" y="2270"/>
                  </a:lnTo>
                  <a:close/>
                  <a:moveTo>
                    <a:pt x="4501" y="2270"/>
                  </a:moveTo>
                  <a:lnTo>
                    <a:pt x="4498" y="2384"/>
                  </a:lnTo>
                  <a:lnTo>
                    <a:pt x="4489" y="2498"/>
                  </a:lnTo>
                  <a:lnTo>
                    <a:pt x="4475" y="2609"/>
                  </a:lnTo>
                  <a:lnTo>
                    <a:pt x="4455" y="2719"/>
                  </a:lnTo>
                  <a:lnTo>
                    <a:pt x="4431" y="2826"/>
                  </a:lnTo>
                  <a:lnTo>
                    <a:pt x="4400" y="2932"/>
                  </a:lnTo>
                  <a:lnTo>
                    <a:pt x="4365" y="3035"/>
                  </a:lnTo>
                  <a:lnTo>
                    <a:pt x="4325" y="3137"/>
                  </a:lnTo>
                  <a:lnTo>
                    <a:pt x="4280" y="3235"/>
                  </a:lnTo>
                  <a:lnTo>
                    <a:pt x="4232" y="3331"/>
                  </a:lnTo>
                  <a:lnTo>
                    <a:pt x="4178" y="3425"/>
                  </a:lnTo>
                  <a:lnTo>
                    <a:pt x="4119" y="3515"/>
                  </a:lnTo>
                  <a:lnTo>
                    <a:pt x="4058" y="3602"/>
                  </a:lnTo>
                  <a:lnTo>
                    <a:pt x="3991" y="3687"/>
                  </a:lnTo>
                  <a:lnTo>
                    <a:pt x="3922" y="3768"/>
                  </a:lnTo>
                  <a:lnTo>
                    <a:pt x="3847" y="3845"/>
                  </a:lnTo>
                  <a:lnTo>
                    <a:pt x="3770" y="3919"/>
                  </a:lnTo>
                  <a:lnTo>
                    <a:pt x="3689" y="3989"/>
                  </a:lnTo>
                  <a:lnTo>
                    <a:pt x="3605" y="4055"/>
                  </a:lnTo>
                  <a:lnTo>
                    <a:pt x="3518" y="4118"/>
                  </a:lnTo>
                  <a:lnTo>
                    <a:pt x="3427" y="4175"/>
                  </a:lnTo>
                  <a:lnTo>
                    <a:pt x="3334" y="4229"/>
                  </a:lnTo>
                  <a:lnTo>
                    <a:pt x="3238" y="4277"/>
                  </a:lnTo>
                  <a:lnTo>
                    <a:pt x="3138" y="4323"/>
                  </a:lnTo>
                  <a:lnTo>
                    <a:pt x="3038" y="4363"/>
                  </a:lnTo>
                  <a:lnTo>
                    <a:pt x="2934" y="4397"/>
                  </a:lnTo>
                  <a:lnTo>
                    <a:pt x="2828" y="4428"/>
                  </a:lnTo>
                  <a:lnTo>
                    <a:pt x="2720" y="4452"/>
                  </a:lnTo>
                  <a:lnTo>
                    <a:pt x="2611" y="4472"/>
                  </a:lnTo>
                  <a:lnTo>
                    <a:pt x="2499" y="4486"/>
                  </a:lnTo>
                  <a:lnTo>
                    <a:pt x="2386" y="4494"/>
                  </a:lnTo>
                  <a:lnTo>
                    <a:pt x="2271" y="4498"/>
                  </a:lnTo>
                  <a:lnTo>
                    <a:pt x="2156" y="4494"/>
                  </a:lnTo>
                  <a:lnTo>
                    <a:pt x="2044" y="4486"/>
                  </a:lnTo>
                  <a:lnTo>
                    <a:pt x="1931" y="4472"/>
                  </a:lnTo>
                  <a:lnTo>
                    <a:pt x="1822" y="4452"/>
                  </a:lnTo>
                  <a:lnTo>
                    <a:pt x="1714" y="4428"/>
                  </a:lnTo>
                  <a:lnTo>
                    <a:pt x="1608" y="4397"/>
                  </a:lnTo>
                  <a:lnTo>
                    <a:pt x="1505" y="4363"/>
                  </a:lnTo>
                  <a:lnTo>
                    <a:pt x="1403" y="4323"/>
                  </a:lnTo>
                  <a:lnTo>
                    <a:pt x="1305" y="4277"/>
                  </a:lnTo>
                  <a:lnTo>
                    <a:pt x="1208" y="4229"/>
                  </a:lnTo>
                  <a:lnTo>
                    <a:pt x="1116" y="4175"/>
                  </a:lnTo>
                  <a:lnTo>
                    <a:pt x="1025" y="4118"/>
                  </a:lnTo>
                  <a:lnTo>
                    <a:pt x="937" y="4055"/>
                  </a:lnTo>
                  <a:lnTo>
                    <a:pt x="853" y="3989"/>
                  </a:lnTo>
                  <a:lnTo>
                    <a:pt x="772" y="3919"/>
                  </a:lnTo>
                  <a:lnTo>
                    <a:pt x="695" y="3845"/>
                  </a:lnTo>
                  <a:lnTo>
                    <a:pt x="621" y="3768"/>
                  </a:lnTo>
                  <a:lnTo>
                    <a:pt x="552" y="3687"/>
                  </a:lnTo>
                  <a:lnTo>
                    <a:pt x="485" y="3602"/>
                  </a:lnTo>
                  <a:lnTo>
                    <a:pt x="423" y="3515"/>
                  </a:lnTo>
                  <a:lnTo>
                    <a:pt x="365" y="3425"/>
                  </a:lnTo>
                  <a:lnTo>
                    <a:pt x="311" y="3331"/>
                  </a:lnTo>
                  <a:lnTo>
                    <a:pt x="262" y="3235"/>
                  </a:lnTo>
                  <a:lnTo>
                    <a:pt x="218" y="3137"/>
                  </a:lnTo>
                  <a:lnTo>
                    <a:pt x="178" y="3035"/>
                  </a:lnTo>
                  <a:lnTo>
                    <a:pt x="142" y="2932"/>
                  </a:lnTo>
                  <a:lnTo>
                    <a:pt x="112" y="2826"/>
                  </a:lnTo>
                  <a:lnTo>
                    <a:pt x="87" y="2719"/>
                  </a:lnTo>
                  <a:lnTo>
                    <a:pt x="67" y="2609"/>
                  </a:lnTo>
                  <a:lnTo>
                    <a:pt x="53" y="2498"/>
                  </a:lnTo>
                  <a:lnTo>
                    <a:pt x="45" y="2384"/>
                  </a:lnTo>
                  <a:lnTo>
                    <a:pt x="41" y="2270"/>
                  </a:lnTo>
                  <a:lnTo>
                    <a:pt x="45" y="2155"/>
                  </a:lnTo>
                  <a:lnTo>
                    <a:pt x="53" y="2042"/>
                  </a:lnTo>
                  <a:lnTo>
                    <a:pt x="67" y="1931"/>
                  </a:lnTo>
                  <a:lnTo>
                    <a:pt x="87" y="1820"/>
                  </a:lnTo>
                  <a:lnTo>
                    <a:pt x="112" y="1712"/>
                  </a:lnTo>
                  <a:lnTo>
                    <a:pt x="142" y="1607"/>
                  </a:lnTo>
                  <a:lnTo>
                    <a:pt x="178" y="1503"/>
                  </a:lnTo>
                  <a:lnTo>
                    <a:pt x="218" y="1402"/>
                  </a:lnTo>
                  <a:lnTo>
                    <a:pt x="262" y="1303"/>
                  </a:lnTo>
                  <a:lnTo>
                    <a:pt x="311" y="1207"/>
                  </a:lnTo>
                  <a:lnTo>
                    <a:pt x="365" y="1114"/>
                  </a:lnTo>
                  <a:lnTo>
                    <a:pt x="423" y="1023"/>
                  </a:lnTo>
                  <a:lnTo>
                    <a:pt x="485" y="936"/>
                  </a:lnTo>
                  <a:lnTo>
                    <a:pt x="552" y="852"/>
                  </a:lnTo>
                  <a:lnTo>
                    <a:pt x="621" y="772"/>
                  </a:lnTo>
                  <a:lnTo>
                    <a:pt x="695" y="694"/>
                  </a:lnTo>
                  <a:lnTo>
                    <a:pt x="772" y="621"/>
                  </a:lnTo>
                  <a:lnTo>
                    <a:pt x="853" y="550"/>
                  </a:lnTo>
                  <a:lnTo>
                    <a:pt x="937" y="483"/>
                  </a:lnTo>
                  <a:lnTo>
                    <a:pt x="1025" y="422"/>
                  </a:lnTo>
                  <a:lnTo>
                    <a:pt x="1116" y="363"/>
                  </a:lnTo>
                  <a:lnTo>
                    <a:pt x="1208" y="311"/>
                  </a:lnTo>
                  <a:lnTo>
                    <a:pt x="1305" y="261"/>
                  </a:lnTo>
                  <a:lnTo>
                    <a:pt x="1403" y="217"/>
                  </a:lnTo>
                  <a:lnTo>
                    <a:pt x="1505" y="177"/>
                  </a:lnTo>
                  <a:lnTo>
                    <a:pt x="1608" y="141"/>
                  </a:lnTo>
                  <a:lnTo>
                    <a:pt x="1714" y="112"/>
                  </a:lnTo>
                  <a:lnTo>
                    <a:pt x="1822" y="86"/>
                  </a:lnTo>
                  <a:lnTo>
                    <a:pt x="1931" y="66"/>
                  </a:lnTo>
                  <a:lnTo>
                    <a:pt x="2044" y="52"/>
                  </a:lnTo>
                  <a:lnTo>
                    <a:pt x="2156" y="44"/>
                  </a:lnTo>
                  <a:lnTo>
                    <a:pt x="2271" y="42"/>
                  </a:lnTo>
                  <a:lnTo>
                    <a:pt x="2386" y="44"/>
                  </a:lnTo>
                  <a:lnTo>
                    <a:pt x="2499" y="52"/>
                  </a:lnTo>
                  <a:lnTo>
                    <a:pt x="2611" y="66"/>
                  </a:lnTo>
                  <a:lnTo>
                    <a:pt x="2720" y="86"/>
                  </a:lnTo>
                  <a:lnTo>
                    <a:pt x="2828" y="112"/>
                  </a:lnTo>
                  <a:lnTo>
                    <a:pt x="2934" y="141"/>
                  </a:lnTo>
                  <a:lnTo>
                    <a:pt x="3038" y="177"/>
                  </a:lnTo>
                  <a:lnTo>
                    <a:pt x="3138" y="217"/>
                  </a:lnTo>
                  <a:lnTo>
                    <a:pt x="3238" y="261"/>
                  </a:lnTo>
                  <a:lnTo>
                    <a:pt x="3334" y="311"/>
                  </a:lnTo>
                  <a:lnTo>
                    <a:pt x="3427" y="363"/>
                  </a:lnTo>
                  <a:lnTo>
                    <a:pt x="3518" y="422"/>
                  </a:lnTo>
                  <a:lnTo>
                    <a:pt x="3605" y="483"/>
                  </a:lnTo>
                  <a:lnTo>
                    <a:pt x="3689" y="550"/>
                  </a:lnTo>
                  <a:lnTo>
                    <a:pt x="3770" y="621"/>
                  </a:lnTo>
                  <a:lnTo>
                    <a:pt x="3847" y="694"/>
                  </a:lnTo>
                  <a:lnTo>
                    <a:pt x="3922" y="772"/>
                  </a:lnTo>
                  <a:lnTo>
                    <a:pt x="3991" y="852"/>
                  </a:lnTo>
                  <a:lnTo>
                    <a:pt x="4058" y="936"/>
                  </a:lnTo>
                  <a:lnTo>
                    <a:pt x="4119" y="1023"/>
                  </a:lnTo>
                  <a:lnTo>
                    <a:pt x="4178" y="1114"/>
                  </a:lnTo>
                  <a:lnTo>
                    <a:pt x="4232" y="1207"/>
                  </a:lnTo>
                  <a:lnTo>
                    <a:pt x="4280" y="1303"/>
                  </a:lnTo>
                  <a:lnTo>
                    <a:pt x="4325" y="1402"/>
                  </a:lnTo>
                  <a:lnTo>
                    <a:pt x="4365" y="1503"/>
                  </a:lnTo>
                  <a:lnTo>
                    <a:pt x="4400" y="1607"/>
                  </a:lnTo>
                  <a:lnTo>
                    <a:pt x="4431" y="1712"/>
                  </a:lnTo>
                  <a:lnTo>
                    <a:pt x="4455" y="1820"/>
                  </a:lnTo>
                  <a:lnTo>
                    <a:pt x="4475" y="1931"/>
                  </a:lnTo>
                  <a:lnTo>
                    <a:pt x="4489" y="2042"/>
                  </a:lnTo>
                  <a:lnTo>
                    <a:pt x="4498" y="2155"/>
                  </a:lnTo>
                  <a:lnTo>
                    <a:pt x="4501" y="227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1360" y="2104920"/>
              <a:ext cx="1785960" cy="1784520"/>
            </a:xfrm>
            <a:custGeom>
              <a:avLst/>
              <a:gdLst/>
              <a:ahLst/>
              <a:rect l="l" t="t" r="r" b="b"/>
              <a:pathLst>
                <a:path w="4500" h="4498">
                  <a:moveTo>
                    <a:pt x="4500" y="2250"/>
                  </a:moveTo>
                  <a:lnTo>
                    <a:pt x="4497" y="2134"/>
                  </a:lnTo>
                  <a:lnTo>
                    <a:pt x="4489" y="2020"/>
                  </a:lnTo>
                  <a:lnTo>
                    <a:pt x="4474" y="1907"/>
                  </a:lnTo>
                  <a:lnTo>
                    <a:pt x="4455" y="1796"/>
                  </a:lnTo>
                  <a:lnTo>
                    <a:pt x="4429" y="1687"/>
                  </a:lnTo>
                  <a:lnTo>
                    <a:pt x="4399" y="1581"/>
                  </a:lnTo>
                  <a:lnTo>
                    <a:pt x="4363" y="1476"/>
                  </a:lnTo>
                  <a:lnTo>
                    <a:pt x="4323" y="1374"/>
                  </a:lnTo>
                  <a:lnTo>
                    <a:pt x="4278" y="1274"/>
                  </a:lnTo>
                  <a:lnTo>
                    <a:pt x="4229" y="1177"/>
                  </a:lnTo>
                  <a:lnTo>
                    <a:pt x="4174" y="1083"/>
                  </a:lnTo>
                  <a:lnTo>
                    <a:pt x="4116" y="991"/>
                  </a:lnTo>
                  <a:lnTo>
                    <a:pt x="4053" y="904"/>
                  </a:lnTo>
                  <a:lnTo>
                    <a:pt x="3986" y="819"/>
                  </a:lnTo>
                  <a:lnTo>
                    <a:pt x="3916" y="738"/>
                  </a:lnTo>
                  <a:lnTo>
                    <a:pt x="3841" y="659"/>
                  </a:lnTo>
                  <a:lnTo>
                    <a:pt x="3763" y="584"/>
                  </a:lnTo>
                  <a:lnTo>
                    <a:pt x="3681" y="514"/>
                  </a:lnTo>
                  <a:lnTo>
                    <a:pt x="3596" y="447"/>
                  </a:lnTo>
                  <a:lnTo>
                    <a:pt x="3508" y="385"/>
                  </a:lnTo>
                  <a:lnTo>
                    <a:pt x="3417" y="326"/>
                  </a:lnTo>
                  <a:lnTo>
                    <a:pt x="3323" y="272"/>
                  </a:lnTo>
                  <a:lnTo>
                    <a:pt x="3225" y="223"/>
                  </a:lnTo>
                  <a:lnTo>
                    <a:pt x="3126" y="177"/>
                  </a:lnTo>
                  <a:lnTo>
                    <a:pt x="3023" y="137"/>
                  </a:lnTo>
                  <a:lnTo>
                    <a:pt x="2920" y="102"/>
                  </a:lnTo>
                  <a:lnTo>
                    <a:pt x="2813" y="71"/>
                  </a:lnTo>
                  <a:lnTo>
                    <a:pt x="2703" y="46"/>
                  </a:lnTo>
                  <a:lnTo>
                    <a:pt x="2593" y="26"/>
                  </a:lnTo>
                  <a:lnTo>
                    <a:pt x="2480" y="12"/>
                  </a:lnTo>
                  <a:lnTo>
                    <a:pt x="2366" y="3"/>
                  </a:lnTo>
                  <a:lnTo>
                    <a:pt x="2250" y="0"/>
                  </a:lnTo>
                  <a:lnTo>
                    <a:pt x="2134" y="3"/>
                  </a:lnTo>
                  <a:lnTo>
                    <a:pt x="2021" y="12"/>
                  </a:lnTo>
                  <a:lnTo>
                    <a:pt x="1907" y="26"/>
                  </a:lnTo>
                  <a:lnTo>
                    <a:pt x="1797" y="46"/>
                  </a:lnTo>
                  <a:lnTo>
                    <a:pt x="1688" y="71"/>
                  </a:lnTo>
                  <a:lnTo>
                    <a:pt x="1581" y="102"/>
                  </a:lnTo>
                  <a:lnTo>
                    <a:pt x="1477" y="137"/>
                  </a:lnTo>
                  <a:lnTo>
                    <a:pt x="1374" y="177"/>
                  </a:lnTo>
                  <a:lnTo>
                    <a:pt x="1275" y="223"/>
                  </a:lnTo>
                  <a:lnTo>
                    <a:pt x="1178" y="272"/>
                  </a:lnTo>
                  <a:lnTo>
                    <a:pt x="1084" y="326"/>
                  </a:lnTo>
                  <a:lnTo>
                    <a:pt x="992" y="385"/>
                  </a:lnTo>
                  <a:lnTo>
                    <a:pt x="904" y="447"/>
                  </a:lnTo>
                  <a:lnTo>
                    <a:pt x="819" y="514"/>
                  </a:lnTo>
                  <a:lnTo>
                    <a:pt x="737" y="584"/>
                  </a:lnTo>
                  <a:lnTo>
                    <a:pt x="659" y="659"/>
                  </a:lnTo>
                  <a:lnTo>
                    <a:pt x="585" y="738"/>
                  </a:lnTo>
                  <a:lnTo>
                    <a:pt x="514" y="819"/>
                  </a:lnTo>
                  <a:lnTo>
                    <a:pt x="447" y="904"/>
                  </a:lnTo>
                  <a:lnTo>
                    <a:pt x="385" y="991"/>
                  </a:lnTo>
                  <a:lnTo>
                    <a:pt x="326" y="1083"/>
                  </a:lnTo>
                  <a:lnTo>
                    <a:pt x="271" y="1177"/>
                  </a:lnTo>
                  <a:lnTo>
                    <a:pt x="221" y="1274"/>
                  </a:lnTo>
                  <a:lnTo>
                    <a:pt x="177" y="1374"/>
                  </a:lnTo>
                  <a:lnTo>
                    <a:pt x="136" y="1476"/>
                  </a:lnTo>
                  <a:lnTo>
                    <a:pt x="102" y="1581"/>
                  </a:lnTo>
                  <a:lnTo>
                    <a:pt x="71" y="1687"/>
                  </a:lnTo>
                  <a:lnTo>
                    <a:pt x="45" y="1796"/>
                  </a:lnTo>
                  <a:lnTo>
                    <a:pt x="26" y="1907"/>
                  </a:lnTo>
                  <a:lnTo>
                    <a:pt x="12" y="2020"/>
                  </a:lnTo>
                  <a:lnTo>
                    <a:pt x="3" y="2134"/>
                  </a:lnTo>
                  <a:lnTo>
                    <a:pt x="0" y="2250"/>
                  </a:lnTo>
                  <a:lnTo>
                    <a:pt x="3" y="2365"/>
                  </a:lnTo>
                  <a:lnTo>
                    <a:pt x="12" y="2480"/>
                  </a:lnTo>
                  <a:lnTo>
                    <a:pt x="26" y="2592"/>
                  </a:lnTo>
                  <a:lnTo>
                    <a:pt x="45" y="2702"/>
                  </a:lnTo>
                  <a:lnTo>
                    <a:pt x="71" y="2811"/>
                  </a:lnTo>
                  <a:lnTo>
                    <a:pt x="102" y="2918"/>
                  </a:lnTo>
                  <a:lnTo>
                    <a:pt x="136" y="3023"/>
                  </a:lnTo>
                  <a:lnTo>
                    <a:pt x="177" y="3124"/>
                  </a:lnTo>
                  <a:lnTo>
                    <a:pt x="221" y="3225"/>
                  </a:lnTo>
                  <a:lnTo>
                    <a:pt x="271" y="3321"/>
                  </a:lnTo>
                  <a:lnTo>
                    <a:pt x="326" y="3416"/>
                  </a:lnTo>
                  <a:lnTo>
                    <a:pt x="385" y="3507"/>
                  </a:lnTo>
                  <a:lnTo>
                    <a:pt x="447" y="3595"/>
                  </a:lnTo>
                  <a:lnTo>
                    <a:pt x="514" y="3680"/>
                  </a:lnTo>
                  <a:lnTo>
                    <a:pt x="585" y="3762"/>
                  </a:lnTo>
                  <a:lnTo>
                    <a:pt x="659" y="3839"/>
                  </a:lnTo>
                  <a:lnTo>
                    <a:pt x="737" y="3914"/>
                  </a:lnTo>
                  <a:lnTo>
                    <a:pt x="819" y="3985"/>
                  </a:lnTo>
                  <a:lnTo>
                    <a:pt x="904" y="4052"/>
                  </a:lnTo>
                  <a:lnTo>
                    <a:pt x="992" y="4115"/>
                  </a:lnTo>
                  <a:lnTo>
                    <a:pt x="1084" y="4173"/>
                  </a:lnTo>
                  <a:lnTo>
                    <a:pt x="1178" y="4227"/>
                  </a:lnTo>
                  <a:lnTo>
                    <a:pt x="1275" y="4277"/>
                  </a:lnTo>
                  <a:lnTo>
                    <a:pt x="1374" y="4322"/>
                  </a:lnTo>
                  <a:lnTo>
                    <a:pt x="1477" y="4362"/>
                  </a:lnTo>
                  <a:lnTo>
                    <a:pt x="1581" y="4398"/>
                  </a:lnTo>
                  <a:lnTo>
                    <a:pt x="1688" y="4428"/>
                  </a:lnTo>
                  <a:lnTo>
                    <a:pt x="1797" y="4453"/>
                  </a:lnTo>
                  <a:lnTo>
                    <a:pt x="1907" y="4472"/>
                  </a:lnTo>
                  <a:lnTo>
                    <a:pt x="2021" y="4486"/>
                  </a:lnTo>
                  <a:lnTo>
                    <a:pt x="2134" y="4496"/>
                  </a:lnTo>
                  <a:lnTo>
                    <a:pt x="2250" y="4498"/>
                  </a:lnTo>
                  <a:lnTo>
                    <a:pt x="2366" y="4496"/>
                  </a:lnTo>
                  <a:lnTo>
                    <a:pt x="2480" y="4486"/>
                  </a:lnTo>
                  <a:lnTo>
                    <a:pt x="2593" y="4472"/>
                  </a:lnTo>
                  <a:lnTo>
                    <a:pt x="2703" y="4453"/>
                  </a:lnTo>
                  <a:lnTo>
                    <a:pt x="2813" y="4428"/>
                  </a:lnTo>
                  <a:lnTo>
                    <a:pt x="2920" y="4398"/>
                  </a:lnTo>
                  <a:lnTo>
                    <a:pt x="3023" y="4362"/>
                  </a:lnTo>
                  <a:lnTo>
                    <a:pt x="3126" y="4322"/>
                  </a:lnTo>
                  <a:lnTo>
                    <a:pt x="3225" y="4277"/>
                  </a:lnTo>
                  <a:lnTo>
                    <a:pt x="3323" y="4227"/>
                  </a:lnTo>
                  <a:lnTo>
                    <a:pt x="3417" y="4173"/>
                  </a:lnTo>
                  <a:lnTo>
                    <a:pt x="3508" y="4115"/>
                  </a:lnTo>
                  <a:lnTo>
                    <a:pt x="3596" y="4052"/>
                  </a:lnTo>
                  <a:lnTo>
                    <a:pt x="3681" y="3985"/>
                  </a:lnTo>
                  <a:lnTo>
                    <a:pt x="3763" y="3914"/>
                  </a:lnTo>
                  <a:lnTo>
                    <a:pt x="3841" y="3839"/>
                  </a:lnTo>
                  <a:lnTo>
                    <a:pt x="3916" y="3762"/>
                  </a:lnTo>
                  <a:lnTo>
                    <a:pt x="3986" y="3680"/>
                  </a:lnTo>
                  <a:lnTo>
                    <a:pt x="4053" y="3595"/>
                  </a:lnTo>
                  <a:lnTo>
                    <a:pt x="4116" y="3507"/>
                  </a:lnTo>
                  <a:lnTo>
                    <a:pt x="4174" y="3416"/>
                  </a:lnTo>
                  <a:lnTo>
                    <a:pt x="4229" y="3321"/>
                  </a:lnTo>
                  <a:lnTo>
                    <a:pt x="4278" y="3225"/>
                  </a:lnTo>
                  <a:lnTo>
                    <a:pt x="4323" y="3124"/>
                  </a:lnTo>
                  <a:lnTo>
                    <a:pt x="4363" y="3023"/>
                  </a:lnTo>
                  <a:lnTo>
                    <a:pt x="4399" y="2918"/>
                  </a:lnTo>
                  <a:lnTo>
                    <a:pt x="4429" y="2811"/>
                  </a:lnTo>
                  <a:lnTo>
                    <a:pt x="4455" y="2702"/>
                  </a:lnTo>
                  <a:lnTo>
                    <a:pt x="4474" y="2592"/>
                  </a:lnTo>
                  <a:lnTo>
                    <a:pt x="4489" y="2480"/>
                  </a:lnTo>
                  <a:lnTo>
                    <a:pt x="4497" y="2365"/>
                  </a:lnTo>
                  <a:lnTo>
                    <a:pt x="4500" y="2250"/>
                  </a:lnTo>
                  <a:close/>
                  <a:moveTo>
                    <a:pt x="4458" y="2250"/>
                  </a:moveTo>
                  <a:lnTo>
                    <a:pt x="4456" y="2363"/>
                  </a:lnTo>
                  <a:lnTo>
                    <a:pt x="4447" y="2475"/>
                  </a:lnTo>
                  <a:lnTo>
                    <a:pt x="4433" y="2586"/>
                  </a:lnTo>
                  <a:lnTo>
                    <a:pt x="4414" y="2695"/>
                  </a:lnTo>
                  <a:lnTo>
                    <a:pt x="4389" y="2802"/>
                  </a:lnTo>
                  <a:lnTo>
                    <a:pt x="4359" y="2906"/>
                  </a:lnTo>
                  <a:lnTo>
                    <a:pt x="4324" y="3008"/>
                  </a:lnTo>
                  <a:lnTo>
                    <a:pt x="4285" y="3108"/>
                  </a:lnTo>
                  <a:lnTo>
                    <a:pt x="4241" y="3207"/>
                  </a:lnTo>
                  <a:lnTo>
                    <a:pt x="4192" y="3302"/>
                  </a:lnTo>
                  <a:lnTo>
                    <a:pt x="4138" y="3394"/>
                  </a:lnTo>
                  <a:lnTo>
                    <a:pt x="4081" y="3483"/>
                  </a:lnTo>
                  <a:lnTo>
                    <a:pt x="4020" y="3571"/>
                  </a:lnTo>
                  <a:lnTo>
                    <a:pt x="3955" y="3654"/>
                  </a:lnTo>
                  <a:lnTo>
                    <a:pt x="3884" y="3734"/>
                  </a:lnTo>
                  <a:lnTo>
                    <a:pt x="3812" y="3810"/>
                  </a:lnTo>
                  <a:lnTo>
                    <a:pt x="3735" y="3884"/>
                  </a:lnTo>
                  <a:lnTo>
                    <a:pt x="3654" y="3953"/>
                  </a:lnTo>
                  <a:lnTo>
                    <a:pt x="3571" y="4019"/>
                  </a:lnTo>
                  <a:lnTo>
                    <a:pt x="3485" y="4080"/>
                  </a:lnTo>
                  <a:lnTo>
                    <a:pt x="3395" y="4138"/>
                  </a:lnTo>
                  <a:lnTo>
                    <a:pt x="3303" y="4190"/>
                  </a:lnTo>
                  <a:lnTo>
                    <a:pt x="3208" y="4239"/>
                  </a:lnTo>
                  <a:lnTo>
                    <a:pt x="3110" y="4283"/>
                  </a:lnTo>
                  <a:lnTo>
                    <a:pt x="3009" y="4323"/>
                  </a:lnTo>
                  <a:lnTo>
                    <a:pt x="2907" y="4358"/>
                  </a:lnTo>
                  <a:lnTo>
                    <a:pt x="2802" y="4387"/>
                  </a:lnTo>
                  <a:lnTo>
                    <a:pt x="2695" y="4412"/>
                  </a:lnTo>
                  <a:lnTo>
                    <a:pt x="2587" y="4431"/>
                  </a:lnTo>
                  <a:lnTo>
                    <a:pt x="2475" y="4445"/>
                  </a:lnTo>
                  <a:lnTo>
                    <a:pt x="2364" y="4454"/>
                  </a:lnTo>
                  <a:lnTo>
                    <a:pt x="2250" y="4457"/>
                  </a:lnTo>
                  <a:lnTo>
                    <a:pt x="2136" y="4454"/>
                  </a:lnTo>
                  <a:lnTo>
                    <a:pt x="2025" y="4445"/>
                  </a:lnTo>
                  <a:lnTo>
                    <a:pt x="1914" y="4431"/>
                  </a:lnTo>
                  <a:lnTo>
                    <a:pt x="1806" y="4412"/>
                  </a:lnTo>
                  <a:lnTo>
                    <a:pt x="1699" y="4387"/>
                  </a:lnTo>
                  <a:lnTo>
                    <a:pt x="1594" y="4358"/>
                  </a:lnTo>
                  <a:lnTo>
                    <a:pt x="1491" y="4323"/>
                  </a:lnTo>
                  <a:lnTo>
                    <a:pt x="1391" y="4283"/>
                  </a:lnTo>
                  <a:lnTo>
                    <a:pt x="1292" y="4239"/>
                  </a:lnTo>
                  <a:lnTo>
                    <a:pt x="1197" y="4190"/>
                  </a:lnTo>
                  <a:lnTo>
                    <a:pt x="1105" y="4138"/>
                  </a:lnTo>
                  <a:lnTo>
                    <a:pt x="1016" y="4080"/>
                  </a:lnTo>
                  <a:lnTo>
                    <a:pt x="929" y="4019"/>
                  </a:lnTo>
                  <a:lnTo>
                    <a:pt x="845" y="3953"/>
                  </a:lnTo>
                  <a:lnTo>
                    <a:pt x="765" y="3884"/>
                  </a:lnTo>
                  <a:lnTo>
                    <a:pt x="688" y="3810"/>
                  </a:lnTo>
                  <a:lnTo>
                    <a:pt x="616" y="3734"/>
                  </a:lnTo>
                  <a:lnTo>
                    <a:pt x="546" y="3654"/>
                  </a:lnTo>
                  <a:lnTo>
                    <a:pt x="481" y="3571"/>
                  </a:lnTo>
                  <a:lnTo>
                    <a:pt x="419" y="3483"/>
                  </a:lnTo>
                  <a:lnTo>
                    <a:pt x="362" y="3394"/>
                  </a:lnTo>
                  <a:lnTo>
                    <a:pt x="308" y="3302"/>
                  </a:lnTo>
                  <a:lnTo>
                    <a:pt x="259" y="3207"/>
                  </a:lnTo>
                  <a:lnTo>
                    <a:pt x="215" y="3108"/>
                  </a:lnTo>
                  <a:lnTo>
                    <a:pt x="176" y="3008"/>
                  </a:lnTo>
                  <a:lnTo>
                    <a:pt x="142" y="2906"/>
                  </a:lnTo>
                  <a:lnTo>
                    <a:pt x="111" y="2802"/>
                  </a:lnTo>
                  <a:lnTo>
                    <a:pt x="86" y="2695"/>
                  </a:lnTo>
                  <a:lnTo>
                    <a:pt x="67" y="2586"/>
                  </a:lnTo>
                  <a:lnTo>
                    <a:pt x="53" y="2475"/>
                  </a:lnTo>
                  <a:lnTo>
                    <a:pt x="44" y="2363"/>
                  </a:lnTo>
                  <a:lnTo>
                    <a:pt x="42" y="2250"/>
                  </a:lnTo>
                  <a:lnTo>
                    <a:pt x="44" y="2136"/>
                  </a:lnTo>
                  <a:lnTo>
                    <a:pt x="53" y="2024"/>
                  </a:lnTo>
                  <a:lnTo>
                    <a:pt x="67" y="1914"/>
                  </a:lnTo>
                  <a:lnTo>
                    <a:pt x="86" y="1805"/>
                  </a:lnTo>
                  <a:lnTo>
                    <a:pt x="111" y="1698"/>
                  </a:lnTo>
                  <a:lnTo>
                    <a:pt x="142" y="1593"/>
                  </a:lnTo>
                  <a:lnTo>
                    <a:pt x="176" y="1490"/>
                  </a:lnTo>
                  <a:lnTo>
                    <a:pt x="215" y="1390"/>
                  </a:lnTo>
                  <a:lnTo>
                    <a:pt x="259" y="1293"/>
                  </a:lnTo>
                  <a:lnTo>
                    <a:pt x="308" y="1198"/>
                  </a:lnTo>
                  <a:lnTo>
                    <a:pt x="362" y="1105"/>
                  </a:lnTo>
                  <a:lnTo>
                    <a:pt x="419" y="1015"/>
                  </a:lnTo>
                  <a:lnTo>
                    <a:pt x="481" y="929"/>
                  </a:lnTo>
                  <a:lnTo>
                    <a:pt x="546" y="846"/>
                  </a:lnTo>
                  <a:lnTo>
                    <a:pt x="616" y="766"/>
                  </a:lnTo>
                  <a:lnTo>
                    <a:pt x="688" y="689"/>
                  </a:lnTo>
                  <a:lnTo>
                    <a:pt x="765" y="616"/>
                  </a:lnTo>
                  <a:lnTo>
                    <a:pt x="845" y="547"/>
                  </a:lnTo>
                  <a:lnTo>
                    <a:pt x="929" y="481"/>
                  </a:lnTo>
                  <a:lnTo>
                    <a:pt x="1016" y="419"/>
                  </a:lnTo>
                  <a:lnTo>
                    <a:pt x="1105" y="362"/>
                  </a:lnTo>
                  <a:lnTo>
                    <a:pt x="1197" y="309"/>
                  </a:lnTo>
                  <a:lnTo>
                    <a:pt x="1292" y="259"/>
                  </a:lnTo>
                  <a:lnTo>
                    <a:pt x="1391" y="215"/>
                  </a:lnTo>
                  <a:lnTo>
                    <a:pt x="1491" y="176"/>
                  </a:lnTo>
                  <a:lnTo>
                    <a:pt x="1594" y="142"/>
                  </a:lnTo>
                  <a:lnTo>
                    <a:pt x="1699" y="111"/>
                  </a:lnTo>
                  <a:lnTo>
                    <a:pt x="1806" y="86"/>
                  </a:lnTo>
                  <a:lnTo>
                    <a:pt x="1914" y="67"/>
                  </a:lnTo>
                  <a:lnTo>
                    <a:pt x="2025" y="53"/>
                  </a:lnTo>
                  <a:lnTo>
                    <a:pt x="2136" y="45"/>
                  </a:lnTo>
                  <a:lnTo>
                    <a:pt x="2250" y="42"/>
                  </a:lnTo>
                  <a:lnTo>
                    <a:pt x="2364" y="45"/>
                  </a:lnTo>
                  <a:lnTo>
                    <a:pt x="2475" y="53"/>
                  </a:lnTo>
                  <a:lnTo>
                    <a:pt x="2587" y="67"/>
                  </a:lnTo>
                  <a:lnTo>
                    <a:pt x="2695" y="86"/>
                  </a:lnTo>
                  <a:lnTo>
                    <a:pt x="2802" y="111"/>
                  </a:lnTo>
                  <a:lnTo>
                    <a:pt x="2907" y="142"/>
                  </a:lnTo>
                  <a:lnTo>
                    <a:pt x="3009" y="176"/>
                  </a:lnTo>
                  <a:lnTo>
                    <a:pt x="3110" y="215"/>
                  </a:lnTo>
                  <a:lnTo>
                    <a:pt x="3208" y="259"/>
                  </a:lnTo>
                  <a:lnTo>
                    <a:pt x="3303" y="309"/>
                  </a:lnTo>
                  <a:lnTo>
                    <a:pt x="3395" y="362"/>
                  </a:lnTo>
                  <a:lnTo>
                    <a:pt x="3485" y="419"/>
                  </a:lnTo>
                  <a:lnTo>
                    <a:pt x="3571" y="481"/>
                  </a:lnTo>
                  <a:lnTo>
                    <a:pt x="3654" y="547"/>
                  </a:lnTo>
                  <a:lnTo>
                    <a:pt x="3735" y="616"/>
                  </a:lnTo>
                  <a:lnTo>
                    <a:pt x="3812" y="689"/>
                  </a:lnTo>
                  <a:lnTo>
                    <a:pt x="3884" y="766"/>
                  </a:lnTo>
                  <a:lnTo>
                    <a:pt x="3955" y="846"/>
                  </a:lnTo>
                  <a:lnTo>
                    <a:pt x="4020" y="929"/>
                  </a:lnTo>
                  <a:lnTo>
                    <a:pt x="4081" y="1015"/>
                  </a:lnTo>
                  <a:lnTo>
                    <a:pt x="4138" y="1105"/>
                  </a:lnTo>
                  <a:lnTo>
                    <a:pt x="4192" y="1198"/>
                  </a:lnTo>
                  <a:lnTo>
                    <a:pt x="4241" y="1293"/>
                  </a:lnTo>
                  <a:lnTo>
                    <a:pt x="4285" y="1390"/>
                  </a:lnTo>
                  <a:lnTo>
                    <a:pt x="4324" y="1490"/>
                  </a:lnTo>
                  <a:lnTo>
                    <a:pt x="4359" y="1593"/>
                  </a:lnTo>
                  <a:lnTo>
                    <a:pt x="4389" y="1698"/>
                  </a:lnTo>
                  <a:lnTo>
                    <a:pt x="4414" y="1805"/>
                  </a:lnTo>
                  <a:lnTo>
                    <a:pt x="4433" y="1914"/>
                  </a:lnTo>
                  <a:lnTo>
                    <a:pt x="4447" y="2024"/>
                  </a:lnTo>
                  <a:lnTo>
                    <a:pt x="4456" y="2136"/>
                  </a:lnTo>
                  <a:lnTo>
                    <a:pt x="4458" y="2250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89280" y="2112840"/>
              <a:ext cx="1770120" cy="1768680"/>
            </a:xfrm>
            <a:custGeom>
              <a:avLst/>
              <a:gdLst/>
              <a:ahLst/>
              <a:rect l="l" t="t" r="r" b="b"/>
              <a:pathLst>
                <a:path w="4460" h="4456">
                  <a:moveTo>
                    <a:pt x="4460" y="2228"/>
                  </a:moveTo>
                  <a:lnTo>
                    <a:pt x="4457" y="2113"/>
                  </a:lnTo>
                  <a:lnTo>
                    <a:pt x="4448" y="2000"/>
                  </a:lnTo>
                  <a:lnTo>
                    <a:pt x="4434" y="1889"/>
                  </a:lnTo>
                  <a:lnTo>
                    <a:pt x="4414" y="1778"/>
                  </a:lnTo>
                  <a:lnTo>
                    <a:pt x="4390" y="1670"/>
                  </a:lnTo>
                  <a:lnTo>
                    <a:pt x="4359" y="1565"/>
                  </a:lnTo>
                  <a:lnTo>
                    <a:pt x="4324" y="1461"/>
                  </a:lnTo>
                  <a:lnTo>
                    <a:pt x="4284" y="1360"/>
                  </a:lnTo>
                  <a:lnTo>
                    <a:pt x="4239" y="1261"/>
                  </a:lnTo>
                  <a:lnTo>
                    <a:pt x="4191" y="1165"/>
                  </a:lnTo>
                  <a:lnTo>
                    <a:pt x="4137" y="1072"/>
                  </a:lnTo>
                  <a:lnTo>
                    <a:pt x="4078" y="981"/>
                  </a:lnTo>
                  <a:lnTo>
                    <a:pt x="4017" y="894"/>
                  </a:lnTo>
                  <a:lnTo>
                    <a:pt x="3950" y="810"/>
                  </a:lnTo>
                  <a:lnTo>
                    <a:pt x="3881" y="730"/>
                  </a:lnTo>
                  <a:lnTo>
                    <a:pt x="3806" y="652"/>
                  </a:lnTo>
                  <a:lnTo>
                    <a:pt x="3729" y="579"/>
                  </a:lnTo>
                  <a:lnTo>
                    <a:pt x="3648" y="508"/>
                  </a:lnTo>
                  <a:lnTo>
                    <a:pt x="3564" y="441"/>
                  </a:lnTo>
                  <a:lnTo>
                    <a:pt x="3477" y="380"/>
                  </a:lnTo>
                  <a:lnTo>
                    <a:pt x="3386" y="321"/>
                  </a:lnTo>
                  <a:lnTo>
                    <a:pt x="3293" y="269"/>
                  </a:lnTo>
                  <a:lnTo>
                    <a:pt x="3197" y="219"/>
                  </a:lnTo>
                  <a:lnTo>
                    <a:pt x="3097" y="175"/>
                  </a:lnTo>
                  <a:lnTo>
                    <a:pt x="2997" y="135"/>
                  </a:lnTo>
                  <a:lnTo>
                    <a:pt x="2893" y="99"/>
                  </a:lnTo>
                  <a:lnTo>
                    <a:pt x="2787" y="70"/>
                  </a:lnTo>
                  <a:lnTo>
                    <a:pt x="2679" y="44"/>
                  </a:lnTo>
                  <a:lnTo>
                    <a:pt x="2570" y="24"/>
                  </a:lnTo>
                  <a:lnTo>
                    <a:pt x="2458" y="10"/>
                  </a:lnTo>
                  <a:lnTo>
                    <a:pt x="2345" y="2"/>
                  </a:lnTo>
                  <a:lnTo>
                    <a:pt x="2230" y="0"/>
                  </a:lnTo>
                  <a:lnTo>
                    <a:pt x="2115" y="2"/>
                  </a:lnTo>
                  <a:lnTo>
                    <a:pt x="2003" y="10"/>
                  </a:lnTo>
                  <a:lnTo>
                    <a:pt x="1890" y="24"/>
                  </a:lnTo>
                  <a:lnTo>
                    <a:pt x="1781" y="44"/>
                  </a:lnTo>
                  <a:lnTo>
                    <a:pt x="1673" y="70"/>
                  </a:lnTo>
                  <a:lnTo>
                    <a:pt x="1567" y="99"/>
                  </a:lnTo>
                  <a:lnTo>
                    <a:pt x="1464" y="135"/>
                  </a:lnTo>
                  <a:lnTo>
                    <a:pt x="1362" y="175"/>
                  </a:lnTo>
                  <a:lnTo>
                    <a:pt x="1264" y="219"/>
                  </a:lnTo>
                  <a:lnTo>
                    <a:pt x="1167" y="269"/>
                  </a:lnTo>
                  <a:lnTo>
                    <a:pt x="1075" y="321"/>
                  </a:lnTo>
                  <a:lnTo>
                    <a:pt x="984" y="380"/>
                  </a:lnTo>
                  <a:lnTo>
                    <a:pt x="896" y="441"/>
                  </a:lnTo>
                  <a:lnTo>
                    <a:pt x="812" y="508"/>
                  </a:lnTo>
                  <a:lnTo>
                    <a:pt x="731" y="579"/>
                  </a:lnTo>
                  <a:lnTo>
                    <a:pt x="654" y="652"/>
                  </a:lnTo>
                  <a:lnTo>
                    <a:pt x="580" y="730"/>
                  </a:lnTo>
                  <a:lnTo>
                    <a:pt x="511" y="810"/>
                  </a:lnTo>
                  <a:lnTo>
                    <a:pt x="444" y="894"/>
                  </a:lnTo>
                  <a:lnTo>
                    <a:pt x="382" y="981"/>
                  </a:lnTo>
                  <a:lnTo>
                    <a:pt x="324" y="1072"/>
                  </a:lnTo>
                  <a:lnTo>
                    <a:pt x="270" y="1165"/>
                  </a:lnTo>
                  <a:lnTo>
                    <a:pt x="221" y="1261"/>
                  </a:lnTo>
                  <a:lnTo>
                    <a:pt x="177" y="1360"/>
                  </a:lnTo>
                  <a:lnTo>
                    <a:pt x="137" y="1461"/>
                  </a:lnTo>
                  <a:lnTo>
                    <a:pt x="101" y="1565"/>
                  </a:lnTo>
                  <a:lnTo>
                    <a:pt x="71" y="1670"/>
                  </a:lnTo>
                  <a:lnTo>
                    <a:pt x="46" y="1778"/>
                  </a:lnTo>
                  <a:lnTo>
                    <a:pt x="26" y="1889"/>
                  </a:lnTo>
                  <a:lnTo>
                    <a:pt x="12" y="2000"/>
                  </a:lnTo>
                  <a:lnTo>
                    <a:pt x="4" y="2113"/>
                  </a:lnTo>
                  <a:lnTo>
                    <a:pt x="0" y="2228"/>
                  </a:lnTo>
                  <a:lnTo>
                    <a:pt x="4" y="2342"/>
                  </a:lnTo>
                  <a:lnTo>
                    <a:pt x="12" y="2456"/>
                  </a:lnTo>
                  <a:lnTo>
                    <a:pt x="26" y="2567"/>
                  </a:lnTo>
                  <a:lnTo>
                    <a:pt x="46" y="2677"/>
                  </a:lnTo>
                  <a:lnTo>
                    <a:pt x="71" y="2784"/>
                  </a:lnTo>
                  <a:lnTo>
                    <a:pt x="101" y="2890"/>
                  </a:lnTo>
                  <a:lnTo>
                    <a:pt x="137" y="2993"/>
                  </a:lnTo>
                  <a:lnTo>
                    <a:pt x="177" y="3095"/>
                  </a:lnTo>
                  <a:lnTo>
                    <a:pt x="221" y="3193"/>
                  </a:lnTo>
                  <a:lnTo>
                    <a:pt x="270" y="3289"/>
                  </a:lnTo>
                  <a:lnTo>
                    <a:pt x="324" y="3383"/>
                  </a:lnTo>
                  <a:lnTo>
                    <a:pt x="382" y="3473"/>
                  </a:lnTo>
                  <a:lnTo>
                    <a:pt x="444" y="3560"/>
                  </a:lnTo>
                  <a:lnTo>
                    <a:pt x="511" y="3645"/>
                  </a:lnTo>
                  <a:lnTo>
                    <a:pt x="580" y="3726"/>
                  </a:lnTo>
                  <a:lnTo>
                    <a:pt x="654" y="3803"/>
                  </a:lnTo>
                  <a:lnTo>
                    <a:pt x="731" y="3877"/>
                  </a:lnTo>
                  <a:lnTo>
                    <a:pt x="812" y="3947"/>
                  </a:lnTo>
                  <a:lnTo>
                    <a:pt x="896" y="4013"/>
                  </a:lnTo>
                  <a:lnTo>
                    <a:pt x="984" y="4076"/>
                  </a:lnTo>
                  <a:lnTo>
                    <a:pt x="1075" y="4133"/>
                  </a:lnTo>
                  <a:lnTo>
                    <a:pt x="1167" y="4187"/>
                  </a:lnTo>
                  <a:lnTo>
                    <a:pt x="1264" y="4235"/>
                  </a:lnTo>
                  <a:lnTo>
                    <a:pt x="1362" y="4281"/>
                  </a:lnTo>
                  <a:lnTo>
                    <a:pt x="1464" y="4321"/>
                  </a:lnTo>
                  <a:lnTo>
                    <a:pt x="1567" y="4355"/>
                  </a:lnTo>
                  <a:lnTo>
                    <a:pt x="1673" y="4386"/>
                  </a:lnTo>
                  <a:lnTo>
                    <a:pt x="1781" y="4410"/>
                  </a:lnTo>
                  <a:lnTo>
                    <a:pt x="1890" y="4430"/>
                  </a:lnTo>
                  <a:lnTo>
                    <a:pt x="2003" y="4444"/>
                  </a:lnTo>
                  <a:lnTo>
                    <a:pt x="2115" y="4452"/>
                  </a:lnTo>
                  <a:lnTo>
                    <a:pt x="2230" y="4456"/>
                  </a:lnTo>
                  <a:lnTo>
                    <a:pt x="2345" y="4452"/>
                  </a:lnTo>
                  <a:lnTo>
                    <a:pt x="2458" y="4444"/>
                  </a:lnTo>
                  <a:lnTo>
                    <a:pt x="2570" y="4430"/>
                  </a:lnTo>
                  <a:lnTo>
                    <a:pt x="2679" y="4410"/>
                  </a:lnTo>
                  <a:lnTo>
                    <a:pt x="2787" y="4386"/>
                  </a:lnTo>
                  <a:lnTo>
                    <a:pt x="2893" y="4355"/>
                  </a:lnTo>
                  <a:lnTo>
                    <a:pt x="2997" y="4321"/>
                  </a:lnTo>
                  <a:lnTo>
                    <a:pt x="3097" y="4281"/>
                  </a:lnTo>
                  <a:lnTo>
                    <a:pt x="3197" y="4235"/>
                  </a:lnTo>
                  <a:lnTo>
                    <a:pt x="3293" y="4187"/>
                  </a:lnTo>
                  <a:lnTo>
                    <a:pt x="3386" y="4133"/>
                  </a:lnTo>
                  <a:lnTo>
                    <a:pt x="3477" y="4076"/>
                  </a:lnTo>
                  <a:lnTo>
                    <a:pt x="3564" y="4013"/>
                  </a:lnTo>
                  <a:lnTo>
                    <a:pt x="3648" y="3947"/>
                  </a:lnTo>
                  <a:lnTo>
                    <a:pt x="3729" y="3877"/>
                  </a:lnTo>
                  <a:lnTo>
                    <a:pt x="3806" y="3803"/>
                  </a:lnTo>
                  <a:lnTo>
                    <a:pt x="3881" y="3726"/>
                  </a:lnTo>
                  <a:lnTo>
                    <a:pt x="3950" y="3645"/>
                  </a:lnTo>
                  <a:lnTo>
                    <a:pt x="4017" y="3560"/>
                  </a:lnTo>
                  <a:lnTo>
                    <a:pt x="4078" y="3473"/>
                  </a:lnTo>
                  <a:lnTo>
                    <a:pt x="4137" y="3383"/>
                  </a:lnTo>
                  <a:lnTo>
                    <a:pt x="4191" y="3289"/>
                  </a:lnTo>
                  <a:lnTo>
                    <a:pt x="4239" y="3193"/>
                  </a:lnTo>
                  <a:lnTo>
                    <a:pt x="4284" y="3095"/>
                  </a:lnTo>
                  <a:lnTo>
                    <a:pt x="4324" y="2993"/>
                  </a:lnTo>
                  <a:lnTo>
                    <a:pt x="4359" y="2890"/>
                  </a:lnTo>
                  <a:lnTo>
                    <a:pt x="4390" y="2784"/>
                  </a:lnTo>
                  <a:lnTo>
                    <a:pt x="4414" y="2677"/>
                  </a:lnTo>
                  <a:lnTo>
                    <a:pt x="4434" y="2567"/>
                  </a:lnTo>
                  <a:lnTo>
                    <a:pt x="4448" y="2456"/>
                  </a:lnTo>
                  <a:lnTo>
                    <a:pt x="4457" y="2342"/>
                  </a:lnTo>
                  <a:lnTo>
                    <a:pt x="4460" y="2228"/>
                  </a:lnTo>
                  <a:close/>
                  <a:moveTo>
                    <a:pt x="4418" y="2228"/>
                  </a:moveTo>
                  <a:lnTo>
                    <a:pt x="4414" y="2340"/>
                  </a:lnTo>
                  <a:lnTo>
                    <a:pt x="4407" y="2451"/>
                  </a:lnTo>
                  <a:lnTo>
                    <a:pt x="4393" y="2560"/>
                  </a:lnTo>
                  <a:lnTo>
                    <a:pt x="4373" y="2668"/>
                  </a:lnTo>
                  <a:lnTo>
                    <a:pt x="4349" y="2774"/>
                  </a:lnTo>
                  <a:lnTo>
                    <a:pt x="4319" y="2878"/>
                  </a:lnTo>
                  <a:lnTo>
                    <a:pt x="4285" y="2979"/>
                  </a:lnTo>
                  <a:lnTo>
                    <a:pt x="4246" y="3079"/>
                  </a:lnTo>
                  <a:lnTo>
                    <a:pt x="4202" y="3175"/>
                  </a:lnTo>
                  <a:lnTo>
                    <a:pt x="4154" y="3270"/>
                  </a:lnTo>
                  <a:lnTo>
                    <a:pt x="4101" y="3362"/>
                  </a:lnTo>
                  <a:lnTo>
                    <a:pt x="4044" y="3450"/>
                  </a:lnTo>
                  <a:lnTo>
                    <a:pt x="3983" y="3536"/>
                  </a:lnTo>
                  <a:lnTo>
                    <a:pt x="3919" y="3619"/>
                  </a:lnTo>
                  <a:lnTo>
                    <a:pt x="3849" y="3698"/>
                  </a:lnTo>
                  <a:lnTo>
                    <a:pt x="3777" y="3773"/>
                  </a:lnTo>
                  <a:lnTo>
                    <a:pt x="3701" y="3846"/>
                  </a:lnTo>
                  <a:lnTo>
                    <a:pt x="3621" y="3915"/>
                  </a:lnTo>
                  <a:lnTo>
                    <a:pt x="3539" y="3979"/>
                  </a:lnTo>
                  <a:lnTo>
                    <a:pt x="3453" y="4041"/>
                  </a:lnTo>
                  <a:lnTo>
                    <a:pt x="3364" y="4097"/>
                  </a:lnTo>
                  <a:lnTo>
                    <a:pt x="3272" y="4150"/>
                  </a:lnTo>
                  <a:lnTo>
                    <a:pt x="3178" y="4199"/>
                  </a:lnTo>
                  <a:lnTo>
                    <a:pt x="3081" y="4242"/>
                  </a:lnTo>
                  <a:lnTo>
                    <a:pt x="2983" y="4282"/>
                  </a:lnTo>
                  <a:lnTo>
                    <a:pt x="2880" y="4315"/>
                  </a:lnTo>
                  <a:lnTo>
                    <a:pt x="2776" y="4346"/>
                  </a:lnTo>
                  <a:lnTo>
                    <a:pt x="2671" y="4369"/>
                  </a:lnTo>
                  <a:lnTo>
                    <a:pt x="2564" y="4389"/>
                  </a:lnTo>
                  <a:lnTo>
                    <a:pt x="2453" y="4403"/>
                  </a:lnTo>
                  <a:lnTo>
                    <a:pt x="2343" y="4411"/>
                  </a:lnTo>
                  <a:lnTo>
                    <a:pt x="2230" y="4414"/>
                  </a:lnTo>
                  <a:lnTo>
                    <a:pt x="2117" y="4411"/>
                  </a:lnTo>
                  <a:lnTo>
                    <a:pt x="2006" y="4403"/>
                  </a:lnTo>
                  <a:lnTo>
                    <a:pt x="1897" y="4389"/>
                  </a:lnTo>
                  <a:lnTo>
                    <a:pt x="1789" y="4369"/>
                  </a:lnTo>
                  <a:lnTo>
                    <a:pt x="1684" y="4346"/>
                  </a:lnTo>
                  <a:lnTo>
                    <a:pt x="1579" y="4315"/>
                  </a:lnTo>
                  <a:lnTo>
                    <a:pt x="1478" y="4282"/>
                  </a:lnTo>
                  <a:lnTo>
                    <a:pt x="1378" y="4242"/>
                  </a:lnTo>
                  <a:lnTo>
                    <a:pt x="1282" y="4199"/>
                  </a:lnTo>
                  <a:lnTo>
                    <a:pt x="1187" y="4150"/>
                  </a:lnTo>
                  <a:lnTo>
                    <a:pt x="1096" y="4097"/>
                  </a:lnTo>
                  <a:lnTo>
                    <a:pt x="1008" y="4041"/>
                  </a:lnTo>
                  <a:lnTo>
                    <a:pt x="921" y="3979"/>
                  </a:lnTo>
                  <a:lnTo>
                    <a:pt x="839" y="3915"/>
                  </a:lnTo>
                  <a:lnTo>
                    <a:pt x="759" y="3846"/>
                  </a:lnTo>
                  <a:lnTo>
                    <a:pt x="683" y="3773"/>
                  </a:lnTo>
                  <a:lnTo>
                    <a:pt x="611" y="3698"/>
                  </a:lnTo>
                  <a:lnTo>
                    <a:pt x="542" y="3619"/>
                  </a:lnTo>
                  <a:lnTo>
                    <a:pt x="477" y="3536"/>
                  </a:lnTo>
                  <a:lnTo>
                    <a:pt x="417" y="3450"/>
                  </a:lnTo>
                  <a:lnTo>
                    <a:pt x="359" y="3362"/>
                  </a:lnTo>
                  <a:lnTo>
                    <a:pt x="306" y="3270"/>
                  </a:lnTo>
                  <a:lnTo>
                    <a:pt x="259" y="3175"/>
                  </a:lnTo>
                  <a:lnTo>
                    <a:pt x="214" y="3079"/>
                  </a:lnTo>
                  <a:lnTo>
                    <a:pt x="176" y="2979"/>
                  </a:lnTo>
                  <a:lnTo>
                    <a:pt x="141" y="2878"/>
                  </a:lnTo>
                  <a:lnTo>
                    <a:pt x="112" y="2774"/>
                  </a:lnTo>
                  <a:lnTo>
                    <a:pt x="87" y="2668"/>
                  </a:lnTo>
                  <a:lnTo>
                    <a:pt x="67" y="2560"/>
                  </a:lnTo>
                  <a:lnTo>
                    <a:pt x="53" y="2451"/>
                  </a:lnTo>
                  <a:lnTo>
                    <a:pt x="46" y="2340"/>
                  </a:lnTo>
                  <a:lnTo>
                    <a:pt x="43" y="2228"/>
                  </a:lnTo>
                  <a:lnTo>
                    <a:pt x="46" y="2115"/>
                  </a:lnTo>
                  <a:lnTo>
                    <a:pt x="53" y="2004"/>
                  </a:lnTo>
                  <a:lnTo>
                    <a:pt x="67" y="1894"/>
                  </a:lnTo>
                  <a:lnTo>
                    <a:pt x="87" y="1787"/>
                  </a:lnTo>
                  <a:lnTo>
                    <a:pt x="112" y="1681"/>
                  </a:lnTo>
                  <a:lnTo>
                    <a:pt x="141" y="1578"/>
                  </a:lnTo>
                  <a:lnTo>
                    <a:pt x="176" y="1476"/>
                  </a:lnTo>
                  <a:lnTo>
                    <a:pt x="214" y="1377"/>
                  </a:lnTo>
                  <a:lnTo>
                    <a:pt x="259" y="1279"/>
                  </a:lnTo>
                  <a:lnTo>
                    <a:pt x="306" y="1185"/>
                  </a:lnTo>
                  <a:lnTo>
                    <a:pt x="359" y="1094"/>
                  </a:lnTo>
                  <a:lnTo>
                    <a:pt x="417" y="1005"/>
                  </a:lnTo>
                  <a:lnTo>
                    <a:pt x="477" y="919"/>
                  </a:lnTo>
                  <a:lnTo>
                    <a:pt x="542" y="837"/>
                  </a:lnTo>
                  <a:lnTo>
                    <a:pt x="611" y="757"/>
                  </a:lnTo>
                  <a:lnTo>
                    <a:pt x="683" y="681"/>
                  </a:lnTo>
                  <a:lnTo>
                    <a:pt x="759" y="609"/>
                  </a:lnTo>
                  <a:lnTo>
                    <a:pt x="839" y="540"/>
                  </a:lnTo>
                  <a:lnTo>
                    <a:pt x="921" y="475"/>
                  </a:lnTo>
                  <a:lnTo>
                    <a:pt x="1008" y="414"/>
                  </a:lnTo>
                  <a:lnTo>
                    <a:pt x="1096" y="357"/>
                  </a:lnTo>
                  <a:lnTo>
                    <a:pt x="1187" y="305"/>
                  </a:lnTo>
                  <a:lnTo>
                    <a:pt x="1282" y="257"/>
                  </a:lnTo>
                  <a:lnTo>
                    <a:pt x="1378" y="212"/>
                  </a:lnTo>
                  <a:lnTo>
                    <a:pt x="1478" y="174"/>
                  </a:lnTo>
                  <a:lnTo>
                    <a:pt x="1579" y="139"/>
                  </a:lnTo>
                  <a:lnTo>
                    <a:pt x="1684" y="110"/>
                  </a:lnTo>
                  <a:lnTo>
                    <a:pt x="1789" y="85"/>
                  </a:lnTo>
                  <a:lnTo>
                    <a:pt x="1897" y="66"/>
                  </a:lnTo>
                  <a:lnTo>
                    <a:pt x="2006" y="53"/>
                  </a:lnTo>
                  <a:lnTo>
                    <a:pt x="2117" y="44"/>
                  </a:lnTo>
                  <a:lnTo>
                    <a:pt x="2230" y="41"/>
                  </a:lnTo>
                  <a:lnTo>
                    <a:pt x="2343" y="44"/>
                  </a:lnTo>
                  <a:lnTo>
                    <a:pt x="2453" y="53"/>
                  </a:lnTo>
                  <a:lnTo>
                    <a:pt x="2564" y="66"/>
                  </a:lnTo>
                  <a:lnTo>
                    <a:pt x="2671" y="85"/>
                  </a:lnTo>
                  <a:lnTo>
                    <a:pt x="2776" y="110"/>
                  </a:lnTo>
                  <a:lnTo>
                    <a:pt x="2880" y="139"/>
                  </a:lnTo>
                  <a:lnTo>
                    <a:pt x="2983" y="174"/>
                  </a:lnTo>
                  <a:lnTo>
                    <a:pt x="3081" y="212"/>
                  </a:lnTo>
                  <a:lnTo>
                    <a:pt x="3178" y="257"/>
                  </a:lnTo>
                  <a:lnTo>
                    <a:pt x="3272" y="305"/>
                  </a:lnTo>
                  <a:lnTo>
                    <a:pt x="3364" y="357"/>
                  </a:lnTo>
                  <a:lnTo>
                    <a:pt x="3453" y="414"/>
                  </a:lnTo>
                  <a:lnTo>
                    <a:pt x="3539" y="475"/>
                  </a:lnTo>
                  <a:lnTo>
                    <a:pt x="3621" y="540"/>
                  </a:lnTo>
                  <a:lnTo>
                    <a:pt x="3701" y="609"/>
                  </a:lnTo>
                  <a:lnTo>
                    <a:pt x="3777" y="681"/>
                  </a:lnTo>
                  <a:lnTo>
                    <a:pt x="3849" y="757"/>
                  </a:lnTo>
                  <a:lnTo>
                    <a:pt x="3919" y="837"/>
                  </a:lnTo>
                  <a:lnTo>
                    <a:pt x="3983" y="919"/>
                  </a:lnTo>
                  <a:lnTo>
                    <a:pt x="4044" y="1005"/>
                  </a:lnTo>
                  <a:lnTo>
                    <a:pt x="4101" y="1094"/>
                  </a:lnTo>
                  <a:lnTo>
                    <a:pt x="4154" y="1185"/>
                  </a:lnTo>
                  <a:lnTo>
                    <a:pt x="4202" y="1279"/>
                  </a:lnTo>
                  <a:lnTo>
                    <a:pt x="4246" y="1377"/>
                  </a:lnTo>
                  <a:lnTo>
                    <a:pt x="4285" y="1476"/>
                  </a:lnTo>
                  <a:lnTo>
                    <a:pt x="4319" y="1578"/>
                  </a:lnTo>
                  <a:lnTo>
                    <a:pt x="4349" y="1681"/>
                  </a:lnTo>
                  <a:lnTo>
                    <a:pt x="4373" y="1787"/>
                  </a:lnTo>
                  <a:lnTo>
                    <a:pt x="4393" y="1894"/>
                  </a:lnTo>
                  <a:lnTo>
                    <a:pt x="4407" y="2004"/>
                  </a:lnTo>
                  <a:lnTo>
                    <a:pt x="4414" y="2115"/>
                  </a:lnTo>
                  <a:lnTo>
                    <a:pt x="4418" y="222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97200" y="2120760"/>
              <a:ext cx="1752840" cy="1752840"/>
            </a:xfrm>
            <a:custGeom>
              <a:avLst/>
              <a:gdLst/>
              <a:ahLst/>
              <a:rect l="l" t="t" r="r" b="b"/>
              <a:pathLst>
                <a:path w="4416" h="4415">
                  <a:moveTo>
                    <a:pt x="4416" y="2208"/>
                  </a:moveTo>
                  <a:lnTo>
                    <a:pt x="4414" y="2094"/>
                  </a:lnTo>
                  <a:lnTo>
                    <a:pt x="4405" y="1982"/>
                  </a:lnTo>
                  <a:lnTo>
                    <a:pt x="4391" y="1872"/>
                  </a:lnTo>
                  <a:lnTo>
                    <a:pt x="4372" y="1763"/>
                  </a:lnTo>
                  <a:lnTo>
                    <a:pt x="4347" y="1656"/>
                  </a:lnTo>
                  <a:lnTo>
                    <a:pt x="4317" y="1551"/>
                  </a:lnTo>
                  <a:lnTo>
                    <a:pt x="4282" y="1448"/>
                  </a:lnTo>
                  <a:lnTo>
                    <a:pt x="4243" y="1348"/>
                  </a:lnTo>
                  <a:lnTo>
                    <a:pt x="4199" y="1251"/>
                  </a:lnTo>
                  <a:lnTo>
                    <a:pt x="4150" y="1156"/>
                  </a:lnTo>
                  <a:lnTo>
                    <a:pt x="4096" y="1063"/>
                  </a:lnTo>
                  <a:lnTo>
                    <a:pt x="4039" y="973"/>
                  </a:lnTo>
                  <a:lnTo>
                    <a:pt x="3978" y="887"/>
                  </a:lnTo>
                  <a:lnTo>
                    <a:pt x="3913" y="804"/>
                  </a:lnTo>
                  <a:lnTo>
                    <a:pt x="3842" y="724"/>
                  </a:lnTo>
                  <a:lnTo>
                    <a:pt x="3770" y="647"/>
                  </a:lnTo>
                  <a:lnTo>
                    <a:pt x="3693" y="574"/>
                  </a:lnTo>
                  <a:lnTo>
                    <a:pt x="3612" y="505"/>
                  </a:lnTo>
                  <a:lnTo>
                    <a:pt x="3529" y="439"/>
                  </a:lnTo>
                  <a:lnTo>
                    <a:pt x="3443" y="377"/>
                  </a:lnTo>
                  <a:lnTo>
                    <a:pt x="3353" y="320"/>
                  </a:lnTo>
                  <a:lnTo>
                    <a:pt x="3261" y="267"/>
                  </a:lnTo>
                  <a:lnTo>
                    <a:pt x="3166" y="217"/>
                  </a:lnTo>
                  <a:lnTo>
                    <a:pt x="3068" y="173"/>
                  </a:lnTo>
                  <a:lnTo>
                    <a:pt x="2967" y="134"/>
                  </a:lnTo>
                  <a:lnTo>
                    <a:pt x="2865" y="100"/>
                  </a:lnTo>
                  <a:lnTo>
                    <a:pt x="2760" y="69"/>
                  </a:lnTo>
                  <a:lnTo>
                    <a:pt x="2653" y="44"/>
                  </a:lnTo>
                  <a:lnTo>
                    <a:pt x="2545" y="25"/>
                  </a:lnTo>
                  <a:lnTo>
                    <a:pt x="2433" y="11"/>
                  </a:lnTo>
                  <a:lnTo>
                    <a:pt x="2322" y="3"/>
                  </a:lnTo>
                  <a:lnTo>
                    <a:pt x="2208" y="0"/>
                  </a:lnTo>
                  <a:lnTo>
                    <a:pt x="2094" y="3"/>
                  </a:lnTo>
                  <a:lnTo>
                    <a:pt x="1983" y="11"/>
                  </a:lnTo>
                  <a:lnTo>
                    <a:pt x="1872" y="25"/>
                  </a:lnTo>
                  <a:lnTo>
                    <a:pt x="1764" y="44"/>
                  </a:lnTo>
                  <a:lnTo>
                    <a:pt x="1657" y="69"/>
                  </a:lnTo>
                  <a:lnTo>
                    <a:pt x="1552" y="100"/>
                  </a:lnTo>
                  <a:lnTo>
                    <a:pt x="1449" y="134"/>
                  </a:lnTo>
                  <a:lnTo>
                    <a:pt x="1349" y="173"/>
                  </a:lnTo>
                  <a:lnTo>
                    <a:pt x="1250" y="217"/>
                  </a:lnTo>
                  <a:lnTo>
                    <a:pt x="1155" y="267"/>
                  </a:lnTo>
                  <a:lnTo>
                    <a:pt x="1063" y="320"/>
                  </a:lnTo>
                  <a:lnTo>
                    <a:pt x="974" y="377"/>
                  </a:lnTo>
                  <a:lnTo>
                    <a:pt x="887" y="439"/>
                  </a:lnTo>
                  <a:lnTo>
                    <a:pt x="803" y="505"/>
                  </a:lnTo>
                  <a:lnTo>
                    <a:pt x="723" y="574"/>
                  </a:lnTo>
                  <a:lnTo>
                    <a:pt x="646" y="647"/>
                  </a:lnTo>
                  <a:lnTo>
                    <a:pt x="574" y="724"/>
                  </a:lnTo>
                  <a:lnTo>
                    <a:pt x="504" y="804"/>
                  </a:lnTo>
                  <a:lnTo>
                    <a:pt x="439" y="887"/>
                  </a:lnTo>
                  <a:lnTo>
                    <a:pt x="377" y="973"/>
                  </a:lnTo>
                  <a:lnTo>
                    <a:pt x="320" y="1063"/>
                  </a:lnTo>
                  <a:lnTo>
                    <a:pt x="266" y="1156"/>
                  </a:lnTo>
                  <a:lnTo>
                    <a:pt x="217" y="1251"/>
                  </a:lnTo>
                  <a:lnTo>
                    <a:pt x="173" y="1348"/>
                  </a:lnTo>
                  <a:lnTo>
                    <a:pt x="134" y="1448"/>
                  </a:lnTo>
                  <a:lnTo>
                    <a:pt x="100" y="1551"/>
                  </a:lnTo>
                  <a:lnTo>
                    <a:pt x="69" y="1656"/>
                  </a:lnTo>
                  <a:lnTo>
                    <a:pt x="44" y="1763"/>
                  </a:lnTo>
                  <a:lnTo>
                    <a:pt x="25" y="1872"/>
                  </a:lnTo>
                  <a:lnTo>
                    <a:pt x="11" y="1982"/>
                  </a:lnTo>
                  <a:lnTo>
                    <a:pt x="2" y="2094"/>
                  </a:lnTo>
                  <a:lnTo>
                    <a:pt x="0" y="2208"/>
                  </a:lnTo>
                  <a:lnTo>
                    <a:pt x="2" y="2321"/>
                  </a:lnTo>
                  <a:lnTo>
                    <a:pt x="11" y="2433"/>
                  </a:lnTo>
                  <a:lnTo>
                    <a:pt x="25" y="2544"/>
                  </a:lnTo>
                  <a:lnTo>
                    <a:pt x="44" y="2653"/>
                  </a:lnTo>
                  <a:lnTo>
                    <a:pt x="69" y="2760"/>
                  </a:lnTo>
                  <a:lnTo>
                    <a:pt x="100" y="2864"/>
                  </a:lnTo>
                  <a:lnTo>
                    <a:pt x="134" y="2966"/>
                  </a:lnTo>
                  <a:lnTo>
                    <a:pt x="173" y="3066"/>
                  </a:lnTo>
                  <a:lnTo>
                    <a:pt x="217" y="3165"/>
                  </a:lnTo>
                  <a:lnTo>
                    <a:pt x="266" y="3260"/>
                  </a:lnTo>
                  <a:lnTo>
                    <a:pt x="320" y="3352"/>
                  </a:lnTo>
                  <a:lnTo>
                    <a:pt x="377" y="3441"/>
                  </a:lnTo>
                  <a:lnTo>
                    <a:pt x="439" y="3529"/>
                  </a:lnTo>
                  <a:lnTo>
                    <a:pt x="504" y="3612"/>
                  </a:lnTo>
                  <a:lnTo>
                    <a:pt x="574" y="3692"/>
                  </a:lnTo>
                  <a:lnTo>
                    <a:pt x="646" y="3768"/>
                  </a:lnTo>
                  <a:lnTo>
                    <a:pt x="723" y="3842"/>
                  </a:lnTo>
                  <a:lnTo>
                    <a:pt x="803" y="3911"/>
                  </a:lnTo>
                  <a:lnTo>
                    <a:pt x="887" y="3977"/>
                  </a:lnTo>
                  <a:lnTo>
                    <a:pt x="974" y="4038"/>
                  </a:lnTo>
                  <a:lnTo>
                    <a:pt x="1063" y="4096"/>
                  </a:lnTo>
                  <a:lnTo>
                    <a:pt x="1155" y="4148"/>
                  </a:lnTo>
                  <a:lnTo>
                    <a:pt x="1250" y="4197"/>
                  </a:lnTo>
                  <a:lnTo>
                    <a:pt x="1349" y="4241"/>
                  </a:lnTo>
                  <a:lnTo>
                    <a:pt x="1449" y="4281"/>
                  </a:lnTo>
                  <a:lnTo>
                    <a:pt x="1552" y="4316"/>
                  </a:lnTo>
                  <a:lnTo>
                    <a:pt x="1657" y="4345"/>
                  </a:lnTo>
                  <a:lnTo>
                    <a:pt x="1764" y="4370"/>
                  </a:lnTo>
                  <a:lnTo>
                    <a:pt x="1872" y="4389"/>
                  </a:lnTo>
                  <a:lnTo>
                    <a:pt x="1983" y="4403"/>
                  </a:lnTo>
                  <a:lnTo>
                    <a:pt x="2094" y="4412"/>
                  </a:lnTo>
                  <a:lnTo>
                    <a:pt x="2208" y="4415"/>
                  </a:lnTo>
                  <a:lnTo>
                    <a:pt x="2322" y="4412"/>
                  </a:lnTo>
                  <a:lnTo>
                    <a:pt x="2433" y="4403"/>
                  </a:lnTo>
                  <a:lnTo>
                    <a:pt x="2545" y="4389"/>
                  </a:lnTo>
                  <a:lnTo>
                    <a:pt x="2653" y="4370"/>
                  </a:lnTo>
                  <a:lnTo>
                    <a:pt x="2760" y="4345"/>
                  </a:lnTo>
                  <a:lnTo>
                    <a:pt x="2865" y="4316"/>
                  </a:lnTo>
                  <a:lnTo>
                    <a:pt x="2967" y="4281"/>
                  </a:lnTo>
                  <a:lnTo>
                    <a:pt x="3068" y="4241"/>
                  </a:lnTo>
                  <a:lnTo>
                    <a:pt x="3166" y="4197"/>
                  </a:lnTo>
                  <a:lnTo>
                    <a:pt x="3261" y="4148"/>
                  </a:lnTo>
                  <a:lnTo>
                    <a:pt x="3353" y="4096"/>
                  </a:lnTo>
                  <a:lnTo>
                    <a:pt x="3443" y="4038"/>
                  </a:lnTo>
                  <a:lnTo>
                    <a:pt x="3529" y="3977"/>
                  </a:lnTo>
                  <a:lnTo>
                    <a:pt x="3612" y="3911"/>
                  </a:lnTo>
                  <a:lnTo>
                    <a:pt x="3693" y="3842"/>
                  </a:lnTo>
                  <a:lnTo>
                    <a:pt x="3770" y="3768"/>
                  </a:lnTo>
                  <a:lnTo>
                    <a:pt x="3842" y="3692"/>
                  </a:lnTo>
                  <a:lnTo>
                    <a:pt x="3913" y="3612"/>
                  </a:lnTo>
                  <a:lnTo>
                    <a:pt x="3978" y="3529"/>
                  </a:lnTo>
                  <a:lnTo>
                    <a:pt x="4039" y="3441"/>
                  </a:lnTo>
                  <a:lnTo>
                    <a:pt x="4096" y="3352"/>
                  </a:lnTo>
                  <a:lnTo>
                    <a:pt x="4150" y="3260"/>
                  </a:lnTo>
                  <a:lnTo>
                    <a:pt x="4199" y="3165"/>
                  </a:lnTo>
                  <a:lnTo>
                    <a:pt x="4243" y="3066"/>
                  </a:lnTo>
                  <a:lnTo>
                    <a:pt x="4282" y="2966"/>
                  </a:lnTo>
                  <a:lnTo>
                    <a:pt x="4317" y="2864"/>
                  </a:lnTo>
                  <a:lnTo>
                    <a:pt x="4347" y="2760"/>
                  </a:lnTo>
                  <a:lnTo>
                    <a:pt x="4372" y="2653"/>
                  </a:lnTo>
                  <a:lnTo>
                    <a:pt x="4391" y="2544"/>
                  </a:lnTo>
                  <a:lnTo>
                    <a:pt x="4405" y="2433"/>
                  </a:lnTo>
                  <a:lnTo>
                    <a:pt x="4414" y="2321"/>
                  </a:lnTo>
                  <a:lnTo>
                    <a:pt x="4416" y="2208"/>
                  </a:lnTo>
                  <a:close/>
                  <a:moveTo>
                    <a:pt x="4375" y="2208"/>
                  </a:moveTo>
                  <a:lnTo>
                    <a:pt x="4372" y="2319"/>
                  </a:lnTo>
                  <a:lnTo>
                    <a:pt x="4363" y="2429"/>
                  </a:lnTo>
                  <a:lnTo>
                    <a:pt x="4350" y="2537"/>
                  </a:lnTo>
                  <a:lnTo>
                    <a:pt x="4331" y="2644"/>
                  </a:lnTo>
                  <a:lnTo>
                    <a:pt x="4307" y="2749"/>
                  </a:lnTo>
                  <a:lnTo>
                    <a:pt x="4278" y="2851"/>
                  </a:lnTo>
                  <a:lnTo>
                    <a:pt x="4243" y="2952"/>
                  </a:lnTo>
                  <a:lnTo>
                    <a:pt x="4204" y="3050"/>
                  </a:lnTo>
                  <a:lnTo>
                    <a:pt x="4161" y="3146"/>
                  </a:lnTo>
                  <a:lnTo>
                    <a:pt x="4114" y="3240"/>
                  </a:lnTo>
                  <a:lnTo>
                    <a:pt x="4061" y="3331"/>
                  </a:lnTo>
                  <a:lnTo>
                    <a:pt x="4005" y="3418"/>
                  </a:lnTo>
                  <a:lnTo>
                    <a:pt x="3944" y="3504"/>
                  </a:lnTo>
                  <a:lnTo>
                    <a:pt x="3880" y="3585"/>
                  </a:lnTo>
                  <a:lnTo>
                    <a:pt x="3812" y="3664"/>
                  </a:lnTo>
                  <a:lnTo>
                    <a:pt x="3740" y="3739"/>
                  </a:lnTo>
                  <a:lnTo>
                    <a:pt x="3665" y="3810"/>
                  </a:lnTo>
                  <a:lnTo>
                    <a:pt x="3586" y="3878"/>
                  </a:lnTo>
                  <a:lnTo>
                    <a:pt x="3504" y="3943"/>
                  </a:lnTo>
                  <a:lnTo>
                    <a:pt x="3420" y="4004"/>
                  </a:lnTo>
                  <a:lnTo>
                    <a:pt x="3331" y="4060"/>
                  </a:lnTo>
                  <a:lnTo>
                    <a:pt x="3241" y="4112"/>
                  </a:lnTo>
                  <a:lnTo>
                    <a:pt x="3148" y="4159"/>
                  </a:lnTo>
                  <a:lnTo>
                    <a:pt x="3052" y="4202"/>
                  </a:lnTo>
                  <a:lnTo>
                    <a:pt x="2953" y="4241"/>
                  </a:lnTo>
                  <a:lnTo>
                    <a:pt x="2853" y="4276"/>
                  </a:lnTo>
                  <a:lnTo>
                    <a:pt x="2750" y="4305"/>
                  </a:lnTo>
                  <a:lnTo>
                    <a:pt x="2645" y="4329"/>
                  </a:lnTo>
                  <a:lnTo>
                    <a:pt x="2538" y="4348"/>
                  </a:lnTo>
                  <a:lnTo>
                    <a:pt x="2429" y="4362"/>
                  </a:lnTo>
                  <a:lnTo>
                    <a:pt x="2320" y="4370"/>
                  </a:lnTo>
                  <a:lnTo>
                    <a:pt x="2208" y="4373"/>
                  </a:lnTo>
                  <a:lnTo>
                    <a:pt x="2096" y="4370"/>
                  </a:lnTo>
                  <a:lnTo>
                    <a:pt x="1986" y="4362"/>
                  </a:lnTo>
                  <a:lnTo>
                    <a:pt x="1878" y="4348"/>
                  </a:lnTo>
                  <a:lnTo>
                    <a:pt x="1771" y="4329"/>
                  </a:lnTo>
                  <a:lnTo>
                    <a:pt x="1666" y="4305"/>
                  </a:lnTo>
                  <a:lnTo>
                    <a:pt x="1564" y="4276"/>
                  </a:lnTo>
                  <a:lnTo>
                    <a:pt x="1463" y="4241"/>
                  </a:lnTo>
                  <a:lnTo>
                    <a:pt x="1365" y="4202"/>
                  </a:lnTo>
                  <a:lnTo>
                    <a:pt x="1269" y="4159"/>
                  </a:lnTo>
                  <a:lnTo>
                    <a:pt x="1176" y="4112"/>
                  </a:lnTo>
                  <a:lnTo>
                    <a:pt x="1085" y="4060"/>
                  </a:lnTo>
                  <a:lnTo>
                    <a:pt x="996" y="4004"/>
                  </a:lnTo>
                  <a:lnTo>
                    <a:pt x="912" y="3943"/>
                  </a:lnTo>
                  <a:lnTo>
                    <a:pt x="830" y="3878"/>
                  </a:lnTo>
                  <a:lnTo>
                    <a:pt x="751" y="3810"/>
                  </a:lnTo>
                  <a:lnTo>
                    <a:pt x="677" y="3739"/>
                  </a:lnTo>
                  <a:lnTo>
                    <a:pt x="604" y="3664"/>
                  </a:lnTo>
                  <a:lnTo>
                    <a:pt x="536" y="3585"/>
                  </a:lnTo>
                  <a:lnTo>
                    <a:pt x="472" y="3504"/>
                  </a:lnTo>
                  <a:lnTo>
                    <a:pt x="412" y="3418"/>
                  </a:lnTo>
                  <a:lnTo>
                    <a:pt x="356" y="3331"/>
                  </a:lnTo>
                  <a:lnTo>
                    <a:pt x="303" y="3240"/>
                  </a:lnTo>
                  <a:lnTo>
                    <a:pt x="255" y="3146"/>
                  </a:lnTo>
                  <a:lnTo>
                    <a:pt x="212" y="3050"/>
                  </a:lnTo>
                  <a:lnTo>
                    <a:pt x="173" y="2952"/>
                  </a:lnTo>
                  <a:lnTo>
                    <a:pt x="138" y="2851"/>
                  </a:lnTo>
                  <a:lnTo>
                    <a:pt x="109" y="2749"/>
                  </a:lnTo>
                  <a:lnTo>
                    <a:pt x="85" y="2644"/>
                  </a:lnTo>
                  <a:lnTo>
                    <a:pt x="66" y="2537"/>
                  </a:lnTo>
                  <a:lnTo>
                    <a:pt x="53" y="2429"/>
                  </a:lnTo>
                  <a:lnTo>
                    <a:pt x="44" y="2319"/>
                  </a:lnTo>
                  <a:lnTo>
                    <a:pt x="41" y="2208"/>
                  </a:lnTo>
                  <a:lnTo>
                    <a:pt x="44" y="2096"/>
                  </a:lnTo>
                  <a:lnTo>
                    <a:pt x="53" y="1986"/>
                  </a:lnTo>
                  <a:lnTo>
                    <a:pt x="66" y="1877"/>
                  </a:lnTo>
                  <a:lnTo>
                    <a:pt x="85" y="1771"/>
                  </a:lnTo>
                  <a:lnTo>
                    <a:pt x="109" y="1667"/>
                  </a:lnTo>
                  <a:lnTo>
                    <a:pt x="138" y="1563"/>
                  </a:lnTo>
                  <a:lnTo>
                    <a:pt x="173" y="1462"/>
                  </a:lnTo>
                  <a:lnTo>
                    <a:pt x="212" y="1364"/>
                  </a:lnTo>
                  <a:lnTo>
                    <a:pt x="255" y="1268"/>
                  </a:lnTo>
                  <a:lnTo>
                    <a:pt x="303" y="1175"/>
                  </a:lnTo>
                  <a:lnTo>
                    <a:pt x="356" y="1084"/>
                  </a:lnTo>
                  <a:lnTo>
                    <a:pt x="412" y="997"/>
                  </a:lnTo>
                  <a:lnTo>
                    <a:pt x="472" y="912"/>
                  </a:lnTo>
                  <a:lnTo>
                    <a:pt x="536" y="830"/>
                  </a:lnTo>
                  <a:lnTo>
                    <a:pt x="604" y="751"/>
                  </a:lnTo>
                  <a:lnTo>
                    <a:pt x="677" y="676"/>
                  </a:lnTo>
                  <a:lnTo>
                    <a:pt x="751" y="604"/>
                  </a:lnTo>
                  <a:lnTo>
                    <a:pt x="830" y="536"/>
                  </a:lnTo>
                  <a:lnTo>
                    <a:pt x="912" y="472"/>
                  </a:lnTo>
                  <a:lnTo>
                    <a:pt x="996" y="412"/>
                  </a:lnTo>
                  <a:lnTo>
                    <a:pt x="1085" y="355"/>
                  </a:lnTo>
                  <a:lnTo>
                    <a:pt x="1176" y="303"/>
                  </a:lnTo>
                  <a:lnTo>
                    <a:pt x="1269" y="255"/>
                  </a:lnTo>
                  <a:lnTo>
                    <a:pt x="1365" y="212"/>
                  </a:lnTo>
                  <a:lnTo>
                    <a:pt x="1463" y="173"/>
                  </a:lnTo>
                  <a:lnTo>
                    <a:pt x="1564" y="139"/>
                  </a:lnTo>
                  <a:lnTo>
                    <a:pt x="1666" y="110"/>
                  </a:lnTo>
                  <a:lnTo>
                    <a:pt x="1771" y="85"/>
                  </a:lnTo>
                  <a:lnTo>
                    <a:pt x="1878" y="67"/>
                  </a:lnTo>
                  <a:lnTo>
                    <a:pt x="1986" y="53"/>
                  </a:lnTo>
                  <a:lnTo>
                    <a:pt x="2096" y="44"/>
                  </a:lnTo>
                  <a:lnTo>
                    <a:pt x="2208" y="41"/>
                  </a:lnTo>
                  <a:lnTo>
                    <a:pt x="2320" y="44"/>
                  </a:lnTo>
                  <a:lnTo>
                    <a:pt x="2429" y="53"/>
                  </a:lnTo>
                  <a:lnTo>
                    <a:pt x="2538" y="67"/>
                  </a:lnTo>
                  <a:lnTo>
                    <a:pt x="2645" y="85"/>
                  </a:lnTo>
                  <a:lnTo>
                    <a:pt x="2750" y="110"/>
                  </a:lnTo>
                  <a:lnTo>
                    <a:pt x="2853" y="139"/>
                  </a:lnTo>
                  <a:lnTo>
                    <a:pt x="2953" y="173"/>
                  </a:lnTo>
                  <a:lnTo>
                    <a:pt x="3052" y="212"/>
                  </a:lnTo>
                  <a:lnTo>
                    <a:pt x="3148" y="255"/>
                  </a:lnTo>
                  <a:lnTo>
                    <a:pt x="3241" y="303"/>
                  </a:lnTo>
                  <a:lnTo>
                    <a:pt x="3331" y="355"/>
                  </a:lnTo>
                  <a:lnTo>
                    <a:pt x="3420" y="412"/>
                  </a:lnTo>
                  <a:lnTo>
                    <a:pt x="3504" y="472"/>
                  </a:lnTo>
                  <a:lnTo>
                    <a:pt x="3586" y="536"/>
                  </a:lnTo>
                  <a:lnTo>
                    <a:pt x="3665" y="604"/>
                  </a:lnTo>
                  <a:lnTo>
                    <a:pt x="3740" y="676"/>
                  </a:lnTo>
                  <a:lnTo>
                    <a:pt x="3812" y="751"/>
                  </a:lnTo>
                  <a:lnTo>
                    <a:pt x="3880" y="830"/>
                  </a:lnTo>
                  <a:lnTo>
                    <a:pt x="3944" y="912"/>
                  </a:lnTo>
                  <a:lnTo>
                    <a:pt x="4005" y="997"/>
                  </a:lnTo>
                  <a:lnTo>
                    <a:pt x="4061" y="1084"/>
                  </a:lnTo>
                  <a:lnTo>
                    <a:pt x="4114" y="1175"/>
                  </a:lnTo>
                  <a:lnTo>
                    <a:pt x="4161" y="1268"/>
                  </a:lnTo>
                  <a:lnTo>
                    <a:pt x="4204" y="1364"/>
                  </a:lnTo>
                  <a:lnTo>
                    <a:pt x="4243" y="1462"/>
                  </a:lnTo>
                  <a:lnTo>
                    <a:pt x="4278" y="1563"/>
                  </a:lnTo>
                  <a:lnTo>
                    <a:pt x="4307" y="1667"/>
                  </a:lnTo>
                  <a:lnTo>
                    <a:pt x="4331" y="1771"/>
                  </a:lnTo>
                  <a:lnTo>
                    <a:pt x="4350" y="1877"/>
                  </a:lnTo>
                  <a:lnTo>
                    <a:pt x="4363" y="1986"/>
                  </a:lnTo>
                  <a:lnTo>
                    <a:pt x="4372" y="2096"/>
                  </a:lnTo>
                  <a:lnTo>
                    <a:pt x="4375" y="2208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5120" y="2128680"/>
              <a:ext cx="1737000" cy="1737000"/>
            </a:xfrm>
            <a:custGeom>
              <a:avLst/>
              <a:gdLst/>
              <a:ahLst/>
              <a:rect l="l" t="t" r="r" b="b"/>
              <a:pathLst>
                <a:path w="4375" h="4373">
                  <a:moveTo>
                    <a:pt x="4375" y="2187"/>
                  </a:moveTo>
                  <a:lnTo>
                    <a:pt x="4371" y="2074"/>
                  </a:lnTo>
                  <a:lnTo>
                    <a:pt x="4364" y="1963"/>
                  </a:lnTo>
                  <a:lnTo>
                    <a:pt x="4350" y="1853"/>
                  </a:lnTo>
                  <a:lnTo>
                    <a:pt x="4330" y="1746"/>
                  </a:lnTo>
                  <a:lnTo>
                    <a:pt x="4306" y="1640"/>
                  </a:lnTo>
                  <a:lnTo>
                    <a:pt x="4276" y="1537"/>
                  </a:lnTo>
                  <a:lnTo>
                    <a:pt x="4242" y="1435"/>
                  </a:lnTo>
                  <a:lnTo>
                    <a:pt x="4203" y="1336"/>
                  </a:lnTo>
                  <a:lnTo>
                    <a:pt x="4159" y="1238"/>
                  </a:lnTo>
                  <a:lnTo>
                    <a:pt x="4111" y="1144"/>
                  </a:lnTo>
                  <a:lnTo>
                    <a:pt x="4058" y="1053"/>
                  </a:lnTo>
                  <a:lnTo>
                    <a:pt x="4001" y="964"/>
                  </a:lnTo>
                  <a:lnTo>
                    <a:pt x="3940" y="878"/>
                  </a:lnTo>
                  <a:lnTo>
                    <a:pt x="3876" y="796"/>
                  </a:lnTo>
                  <a:lnTo>
                    <a:pt x="3806" y="716"/>
                  </a:lnTo>
                  <a:lnTo>
                    <a:pt x="3734" y="640"/>
                  </a:lnTo>
                  <a:lnTo>
                    <a:pt x="3658" y="568"/>
                  </a:lnTo>
                  <a:lnTo>
                    <a:pt x="3578" y="499"/>
                  </a:lnTo>
                  <a:lnTo>
                    <a:pt x="3496" y="434"/>
                  </a:lnTo>
                  <a:lnTo>
                    <a:pt x="3410" y="373"/>
                  </a:lnTo>
                  <a:lnTo>
                    <a:pt x="3321" y="316"/>
                  </a:lnTo>
                  <a:lnTo>
                    <a:pt x="3229" y="264"/>
                  </a:lnTo>
                  <a:lnTo>
                    <a:pt x="3135" y="216"/>
                  </a:lnTo>
                  <a:lnTo>
                    <a:pt x="3038" y="171"/>
                  </a:lnTo>
                  <a:lnTo>
                    <a:pt x="2940" y="133"/>
                  </a:lnTo>
                  <a:lnTo>
                    <a:pt x="2837" y="98"/>
                  </a:lnTo>
                  <a:lnTo>
                    <a:pt x="2733" y="69"/>
                  </a:lnTo>
                  <a:lnTo>
                    <a:pt x="2628" y="44"/>
                  </a:lnTo>
                  <a:lnTo>
                    <a:pt x="2521" y="25"/>
                  </a:lnTo>
                  <a:lnTo>
                    <a:pt x="2410" y="12"/>
                  </a:lnTo>
                  <a:lnTo>
                    <a:pt x="2300" y="3"/>
                  </a:lnTo>
                  <a:lnTo>
                    <a:pt x="2187" y="0"/>
                  </a:lnTo>
                  <a:lnTo>
                    <a:pt x="2074" y="3"/>
                  </a:lnTo>
                  <a:lnTo>
                    <a:pt x="1963" y="12"/>
                  </a:lnTo>
                  <a:lnTo>
                    <a:pt x="1854" y="25"/>
                  </a:lnTo>
                  <a:lnTo>
                    <a:pt x="1746" y="44"/>
                  </a:lnTo>
                  <a:lnTo>
                    <a:pt x="1641" y="69"/>
                  </a:lnTo>
                  <a:lnTo>
                    <a:pt x="1536" y="98"/>
                  </a:lnTo>
                  <a:lnTo>
                    <a:pt x="1435" y="133"/>
                  </a:lnTo>
                  <a:lnTo>
                    <a:pt x="1335" y="171"/>
                  </a:lnTo>
                  <a:lnTo>
                    <a:pt x="1239" y="216"/>
                  </a:lnTo>
                  <a:lnTo>
                    <a:pt x="1144" y="264"/>
                  </a:lnTo>
                  <a:lnTo>
                    <a:pt x="1053" y="316"/>
                  </a:lnTo>
                  <a:lnTo>
                    <a:pt x="965" y="373"/>
                  </a:lnTo>
                  <a:lnTo>
                    <a:pt x="878" y="434"/>
                  </a:lnTo>
                  <a:lnTo>
                    <a:pt x="796" y="499"/>
                  </a:lnTo>
                  <a:lnTo>
                    <a:pt x="716" y="568"/>
                  </a:lnTo>
                  <a:lnTo>
                    <a:pt x="640" y="640"/>
                  </a:lnTo>
                  <a:lnTo>
                    <a:pt x="568" y="716"/>
                  </a:lnTo>
                  <a:lnTo>
                    <a:pt x="499" y="796"/>
                  </a:lnTo>
                  <a:lnTo>
                    <a:pt x="434" y="878"/>
                  </a:lnTo>
                  <a:lnTo>
                    <a:pt x="374" y="964"/>
                  </a:lnTo>
                  <a:lnTo>
                    <a:pt x="316" y="1053"/>
                  </a:lnTo>
                  <a:lnTo>
                    <a:pt x="263" y="1144"/>
                  </a:lnTo>
                  <a:lnTo>
                    <a:pt x="216" y="1238"/>
                  </a:lnTo>
                  <a:lnTo>
                    <a:pt x="171" y="1336"/>
                  </a:lnTo>
                  <a:lnTo>
                    <a:pt x="133" y="1435"/>
                  </a:lnTo>
                  <a:lnTo>
                    <a:pt x="98" y="1537"/>
                  </a:lnTo>
                  <a:lnTo>
                    <a:pt x="69" y="1640"/>
                  </a:lnTo>
                  <a:lnTo>
                    <a:pt x="44" y="1746"/>
                  </a:lnTo>
                  <a:lnTo>
                    <a:pt x="24" y="1853"/>
                  </a:lnTo>
                  <a:lnTo>
                    <a:pt x="10" y="1963"/>
                  </a:lnTo>
                  <a:lnTo>
                    <a:pt x="3" y="2074"/>
                  </a:lnTo>
                  <a:lnTo>
                    <a:pt x="0" y="2187"/>
                  </a:lnTo>
                  <a:lnTo>
                    <a:pt x="3" y="2299"/>
                  </a:lnTo>
                  <a:lnTo>
                    <a:pt x="10" y="2410"/>
                  </a:lnTo>
                  <a:lnTo>
                    <a:pt x="24" y="2519"/>
                  </a:lnTo>
                  <a:lnTo>
                    <a:pt x="44" y="2627"/>
                  </a:lnTo>
                  <a:lnTo>
                    <a:pt x="69" y="2733"/>
                  </a:lnTo>
                  <a:lnTo>
                    <a:pt x="98" y="2837"/>
                  </a:lnTo>
                  <a:lnTo>
                    <a:pt x="133" y="2938"/>
                  </a:lnTo>
                  <a:lnTo>
                    <a:pt x="171" y="3038"/>
                  </a:lnTo>
                  <a:lnTo>
                    <a:pt x="216" y="3134"/>
                  </a:lnTo>
                  <a:lnTo>
                    <a:pt x="263" y="3229"/>
                  </a:lnTo>
                  <a:lnTo>
                    <a:pt x="316" y="3321"/>
                  </a:lnTo>
                  <a:lnTo>
                    <a:pt x="374" y="3409"/>
                  </a:lnTo>
                  <a:lnTo>
                    <a:pt x="434" y="3495"/>
                  </a:lnTo>
                  <a:lnTo>
                    <a:pt x="499" y="3578"/>
                  </a:lnTo>
                  <a:lnTo>
                    <a:pt x="568" y="3657"/>
                  </a:lnTo>
                  <a:lnTo>
                    <a:pt x="640" y="3732"/>
                  </a:lnTo>
                  <a:lnTo>
                    <a:pt x="716" y="3805"/>
                  </a:lnTo>
                  <a:lnTo>
                    <a:pt x="796" y="3874"/>
                  </a:lnTo>
                  <a:lnTo>
                    <a:pt x="878" y="3938"/>
                  </a:lnTo>
                  <a:lnTo>
                    <a:pt x="965" y="4000"/>
                  </a:lnTo>
                  <a:lnTo>
                    <a:pt x="1053" y="4056"/>
                  </a:lnTo>
                  <a:lnTo>
                    <a:pt x="1144" y="4109"/>
                  </a:lnTo>
                  <a:lnTo>
                    <a:pt x="1239" y="4158"/>
                  </a:lnTo>
                  <a:lnTo>
                    <a:pt x="1335" y="4201"/>
                  </a:lnTo>
                  <a:lnTo>
                    <a:pt x="1435" y="4241"/>
                  </a:lnTo>
                  <a:lnTo>
                    <a:pt x="1536" y="4274"/>
                  </a:lnTo>
                  <a:lnTo>
                    <a:pt x="1641" y="4305"/>
                  </a:lnTo>
                  <a:lnTo>
                    <a:pt x="1746" y="4328"/>
                  </a:lnTo>
                  <a:lnTo>
                    <a:pt x="1854" y="4348"/>
                  </a:lnTo>
                  <a:lnTo>
                    <a:pt x="1963" y="4362"/>
                  </a:lnTo>
                  <a:lnTo>
                    <a:pt x="2074" y="4370"/>
                  </a:lnTo>
                  <a:lnTo>
                    <a:pt x="2187" y="4373"/>
                  </a:lnTo>
                  <a:lnTo>
                    <a:pt x="2300" y="4370"/>
                  </a:lnTo>
                  <a:lnTo>
                    <a:pt x="2410" y="4362"/>
                  </a:lnTo>
                  <a:lnTo>
                    <a:pt x="2521" y="4348"/>
                  </a:lnTo>
                  <a:lnTo>
                    <a:pt x="2628" y="4328"/>
                  </a:lnTo>
                  <a:lnTo>
                    <a:pt x="2733" y="4305"/>
                  </a:lnTo>
                  <a:lnTo>
                    <a:pt x="2837" y="4274"/>
                  </a:lnTo>
                  <a:lnTo>
                    <a:pt x="2940" y="4241"/>
                  </a:lnTo>
                  <a:lnTo>
                    <a:pt x="3038" y="4201"/>
                  </a:lnTo>
                  <a:lnTo>
                    <a:pt x="3135" y="4158"/>
                  </a:lnTo>
                  <a:lnTo>
                    <a:pt x="3229" y="4109"/>
                  </a:lnTo>
                  <a:lnTo>
                    <a:pt x="3321" y="4056"/>
                  </a:lnTo>
                  <a:lnTo>
                    <a:pt x="3410" y="4000"/>
                  </a:lnTo>
                  <a:lnTo>
                    <a:pt x="3496" y="3938"/>
                  </a:lnTo>
                  <a:lnTo>
                    <a:pt x="3578" y="3874"/>
                  </a:lnTo>
                  <a:lnTo>
                    <a:pt x="3658" y="3805"/>
                  </a:lnTo>
                  <a:lnTo>
                    <a:pt x="3734" y="3732"/>
                  </a:lnTo>
                  <a:lnTo>
                    <a:pt x="3806" y="3657"/>
                  </a:lnTo>
                  <a:lnTo>
                    <a:pt x="3876" y="3578"/>
                  </a:lnTo>
                  <a:lnTo>
                    <a:pt x="3940" y="3495"/>
                  </a:lnTo>
                  <a:lnTo>
                    <a:pt x="4001" y="3409"/>
                  </a:lnTo>
                  <a:lnTo>
                    <a:pt x="4058" y="3321"/>
                  </a:lnTo>
                  <a:lnTo>
                    <a:pt x="4111" y="3229"/>
                  </a:lnTo>
                  <a:lnTo>
                    <a:pt x="4159" y="3134"/>
                  </a:lnTo>
                  <a:lnTo>
                    <a:pt x="4203" y="3038"/>
                  </a:lnTo>
                  <a:lnTo>
                    <a:pt x="4242" y="2938"/>
                  </a:lnTo>
                  <a:lnTo>
                    <a:pt x="4276" y="2837"/>
                  </a:lnTo>
                  <a:lnTo>
                    <a:pt x="4306" y="2733"/>
                  </a:lnTo>
                  <a:lnTo>
                    <a:pt x="4330" y="2627"/>
                  </a:lnTo>
                  <a:lnTo>
                    <a:pt x="4350" y="2519"/>
                  </a:lnTo>
                  <a:lnTo>
                    <a:pt x="4364" y="2410"/>
                  </a:lnTo>
                  <a:lnTo>
                    <a:pt x="4371" y="2299"/>
                  </a:lnTo>
                  <a:lnTo>
                    <a:pt x="4375" y="2187"/>
                  </a:lnTo>
                  <a:close/>
                  <a:moveTo>
                    <a:pt x="4333" y="2187"/>
                  </a:moveTo>
                  <a:lnTo>
                    <a:pt x="4330" y="2297"/>
                  </a:lnTo>
                  <a:lnTo>
                    <a:pt x="4322" y="2406"/>
                  </a:lnTo>
                  <a:lnTo>
                    <a:pt x="4309" y="2513"/>
                  </a:lnTo>
                  <a:lnTo>
                    <a:pt x="4289" y="2619"/>
                  </a:lnTo>
                  <a:lnTo>
                    <a:pt x="4266" y="2722"/>
                  </a:lnTo>
                  <a:lnTo>
                    <a:pt x="4236" y="2824"/>
                  </a:lnTo>
                  <a:lnTo>
                    <a:pt x="4203" y="2924"/>
                  </a:lnTo>
                  <a:lnTo>
                    <a:pt x="4164" y="3022"/>
                  </a:lnTo>
                  <a:lnTo>
                    <a:pt x="4122" y="3117"/>
                  </a:lnTo>
                  <a:lnTo>
                    <a:pt x="4074" y="3208"/>
                  </a:lnTo>
                  <a:lnTo>
                    <a:pt x="4022" y="3299"/>
                  </a:lnTo>
                  <a:lnTo>
                    <a:pt x="3966" y="3385"/>
                  </a:lnTo>
                  <a:lnTo>
                    <a:pt x="3907" y="3470"/>
                  </a:lnTo>
                  <a:lnTo>
                    <a:pt x="3843" y="3551"/>
                  </a:lnTo>
                  <a:lnTo>
                    <a:pt x="3775" y="3628"/>
                  </a:lnTo>
                  <a:lnTo>
                    <a:pt x="3705" y="3703"/>
                  </a:lnTo>
                  <a:lnTo>
                    <a:pt x="3630" y="3774"/>
                  </a:lnTo>
                  <a:lnTo>
                    <a:pt x="3552" y="3841"/>
                  </a:lnTo>
                  <a:lnTo>
                    <a:pt x="3471" y="3905"/>
                  </a:lnTo>
                  <a:lnTo>
                    <a:pt x="3387" y="3965"/>
                  </a:lnTo>
                  <a:lnTo>
                    <a:pt x="3300" y="4021"/>
                  </a:lnTo>
                  <a:lnTo>
                    <a:pt x="3210" y="4072"/>
                  </a:lnTo>
                  <a:lnTo>
                    <a:pt x="3117" y="4120"/>
                  </a:lnTo>
                  <a:lnTo>
                    <a:pt x="3022" y="4163"/>
                  </a:lnTo>
                  <a:lnTo>
                    <a:pt x="2925" y="4201"/>
                  </a:lnTo>
                  <a:lnTo>
                    <a:pt x="2825" y="4235"/>
                  </a:lnTo>
                  <a:lnTo>
                    <a:pt x="2724" y="4264"/>
                  </a:lnTo>
                  <a:lnTo>
                    <a:pt x="2620" y="4287"/>
                  </a:lnTo>
                  <a:lnTo>
                    <a:pt x="2514" y="4307"/>
                  </a:lnTo>
                  <a:lnTo>
                    <a:pt x="2407" y="4321"/>
                  </a:lnTo>
                  <a:lnTo>
                    <a:pt x="2298" y="4328"/>
                  </a:lnTo>
                  <a:lnTo>
                    <a:pt x="2187" y="4332"/>
                  </a:lnTo>
                  <a:lnTo>
                    <a:pt x="2076" y="4328"/>
                  </a:lnTo>
                  <a:lnTo>
                    <a:pt x="1967" y="4321"/>
                  </a:lnTo>
                  <a:lnTo>
                    <a:pt x="1860" y="4307"/>
                  </a:lnTo>
                  <a:lnTo>
                    <a:pt x="1754" y="4287"/>
                  </a:lnTo>
                  <a:lnTo>
                    <a:pt x="1651" y="4264"/>
                  </a:lnTo>
                  <a:lnTo>
                    <a:pt x="1549" y="4235"/>
                  </a:lnTo>
                  <a:lnTo>
                    <a:pt x="1450" y="4201"/>
                  </a:lnTo>
                  <a:lnTo>
                    <a:pt x="1351" y="4163"/>
                  </a:lnTo>
                  <a:lnTo>
                    <a:pt x="1257" y="4120"/>
                  </a:lnTo>
                  <a:lnTo>
                    <a:pt x="1164" y="4072"/>
                  </a:lnTo>
                  <a:lnTo>
                    <a:pt x="1075" y="4021"/>
                  </a:lnTo>
                  <a:lnTo>
                    <a:pt x="987" y="3965"/>
                  </a:lnTo>
                  <a:lnTo>
                    <a:pt x="903" y="3905"/>
                  </a:lnTo>
                  <a:lnTo>
                    <a:pt x="822" y="3841"/>
                  </a:lnTo>
                  <a:lnTo>
                    <a:pt x="744" y="3774"/>
                  </a:lnTo>
                  <a:lnTo>
                    <a:pt x="670" y="3703"/>
                  </a:lnTo>
                  <a:lnTo>
                    <a:pt x="598" y="3628"/>
                  </a:lnTo>
                  <a:lnTo>
                    <a:pt x="531" y="3551"/>
                  </a:lnTo>
                  <a:lnTo>
                    <a:pt x="468" y="3470"/>
                  </a:lnTo>
                  <a:lnTo>
                    <a:pt x="408" y="3385"/>
                  </a:lnTo>
                  <a:lnTo>
                    <a:pt x="352" y="3299"/>
                  </a:lnTo>
                  <a:lnTo>
                    <a:pt x="300" y="3208"/>
                  </a:lnTo>
                  <a:lnTo>
                    <a:pt x="252" y="3117"/>
                  </a:lnTo>
                  <a:lnTo>
                    <a:pt x="210" y="3022"/>
                  </a:lnTo>
                  <a:lnTo>
                    <a:pt x="171" y="2924"/>
                  </a:lnTo>
                  <a:lnTo>
                    <a:pt x="138" y="2824"/>
                  </a:lnTo>
                  <a:lnTo>
                    <a:pt x="109" y="2722"/>
                  </a:lnTo>
                  <a:lnTo>
                    <a:pt x="85" y="2619"/>
                  </a:lnTo>
                  <a:lnTo>
                    <a:pt x="66" y="2513"/>
                  </a:lnTo>
                  <a:lnTo>
                    <a:pt x="53" y="2406"/>
                  </a:lnTo>
                  <a:lnTo>
                    <a:pt x="44" y="2297"/>
                  </a:lnTo>
                  <a:lnTo>
                    <a:pt x="42" y="2187"/>
                  </a:lnTo>
                  <a:lnTo>
                    <a:pt x="44" y="2077"/>
                  </a:lnTo>
                  <a:lnTo>
                    <a:pt x="53" y="1967"/>
                  </a:lnTo>
                  <a:lnTo>
                    <a:pt x="66" y="1859"/>
                  </a:lnTo>
                  <a:lnTo>
                    <a:pt x="85" y="1755"/>
                  </a:lnTo>
                  <a:lnTo>
                    <a:pt x="109" y="1650"/>
                  </a:lnTo>
                  <a:lnTo>
                    <a:pt x="138" y="1548"/>
                  </a:lnTo>
                  <a:lnTo>
                    <a:pt x="171" y="1449"/>
                  </a:lnTo>
                  <a:lnTo>
                    <a:pt x="210" y="1352"/>
                  </a:lnTo>
                  <a:lnTo>
                    <a:pt x="252" y="1257"/>
                  </a:lnTo>
                  <a:lnTo>
                    <a:pt x="300" y="1164"/>
                  </a:lnTo>
                  <a:lnTo>
                    <a:pt x="352" y="1074"/>
                  </a:lnTo>
                  <a:lnTo>
                    <a:pt x="408" y="987"/>
                  </a:lnTo>
                  <a:lnTo>
                    <a:pt x="468" y="904"/>
                  </a:lnTo>
                  <a:lnTo>
                    <a:pt x="531" y="822"/>
                  </a:lnTo>
                  <a:lnTo>
                    <a:pt x="598" y="744"/>
                  </a:lnTo>
                  <a:lnTo>
                    <a:pt x="670" y="669"/>
                  </a:lnTo>
                  <a:lnTo>
                    <a:pt x="744" y="599"/>
                  </a:lnTo>
                  <a:lnTo>
                    <a:pt x="822" y="531"/>
                  </a:lnTo>
                  <a:lnTo>
                    <a:pt x="903" y="467"/>
                  </a:lnTo>
                  <a:lnTo>
                    <a:pt x="987" y="408"/>
                  </a:lnTo>
                  <a:lnTo>
                    <a:pt x="1075" y="352"/>
                  </a:lnTo>
                  <a:lnTo>
                    <a:pt x="1164" y="300"/>
                  </a:lnTo>
                  <a:lnTo>
                    <a:pt x="1257" y="253"/>
                  </a:lnTo>
                  <a:lnTo>
                    <a:pt x="1351" y="210"/>
                  </a:lnTo>
                  <a:lnTo>
                    <a:pt x="1450" y="171"/>
                  </a:lnTo>
                  <a:lnTo>
                    <a:pt x="1549" y="138"/>
                  </a:lnTo>
                  <a:lnTo>
                    <a:pt x="1651" y="109"/>
                  </a:lnTo>
                  <a:lnTo>
                    <a:pt x="1754" y="85"/>
                  </a:lnTo>
                  <a:lnTo>
                    <a:pt x="1860" y="67"/>
                  </a:lnTo>
                  <a:lnTo>
                    <a:pt x="1967" y="53"/>
                  </a:lnTo>
                  <a:lnTo>
                    <a:pt x="2076" y="44"/>
                  </a:lnTo>
                  <a:lnTo>
                    <a:pt x="2187" y="42"/>
                  </a:lnTo>
                  <a:lnTo>
                    <a:pt x="2298" y="44"/>
                  </a:lnTo>
                  <a:lnTo>
                    <a:pt x="2407" y="53"/>
                  </a:lnTo>
                  <a:lnTo>
                    <a:pt x="2514" y="67"/>
                  </a:lnTo>
                  <a:lnTo>
                    <a:pt x="2620" y="85"/>
                  </a:lnTo>
                  <a:lnTo>
                    <a:pt x="2724" y="109"/>
                  </a:lnTo>
                  <a:lnTo>
                    <a:pt x="2825" y="138"/>
                  </a:lnTo>
                  <a:lnTo>
                    <a:pt x="2925" y="171"/>
                  </a:lnTo>
                  <a:lnTo>
                    <a:pt x="3022" y="210"/>
                  </a:lnTo>
                  <a:lnTo>
                    <a:pt x="3117" y="253"/>
                  </a:lnTo>
                  <a:lnTo>
                    <a:pt x="3210" y="300"/>
                  </a:lnTo>
                  <a:lnTo>
                    <a:pt x="3300" y="352"/>
                  </a:lnTo>
                  <a:lnTo>
                    <a:pt x="3387" y="408"/>
                  </a:lnTo>
                  <a:lnTo>
                    <a:pt x="3471" y="467"/>
                  </a:lnTo>
                  <a:lnTo>
                    <a:pt x="3552" y="531"/>
                  </a:lnTo>
                  <a:lnTo>
                    <a:pt x="3630" y="599"/>
                  </a:lnTo>
                  <a:lnTo>
                    <a:pt x="3705" y="669"/>
                  </a:lnTo>
                  <a:lnTo>
                    <a:pt x="3775" y="744"/>
                  </a:lnTo>
                  <a:lnTo>
                    <a:pt x="3843" y="822"/>
                  </a:lnTo>
                  <a:lnTo>
                    <a:pt x="3907" y="904"/>
                  </a:lnTo>
                  <a:lnTo>
                    <a:pt x="3966" y="987"/>
                  </a:lnTo>
                  <a:lnTo>
                    <a:pt x="4022" y="1074"/>
                  </a:lnTo>
                  <a:lnTo>
                    <a:pt x="4074" y="1164"/>
                  </a:lnTo>
                  <a:lnTo>
                    <a:pt x="4122" y="1257"/>
                  </a:lnTo>
                  <a:lnTo>
                    <a:pt x="4164" y="1352"/>
                  </a:lnTo>
                  <a:lnTo>
                    <a:pt x="4203" y="1449"/>
                  </a:lnTo>
                  <a:lnTo>
                    <a:pt x="4236" y="1548"/>
                  </a:lnTo>
                  <a:lnTo>
                    <a:pt x="4266" y="1650"/>
                  </a:lnTo>
                  <a:lnTo>
                    <a:pt x="4289" y="1755"/>
                  </a:lnTo>
                  <a:lnTo>
                    <a:pt x="4309" y="1859"/>
                  </a:lnTo>
                  <a:lnTo>
                    <a:pt x="4322" y="1967"/>
                  </a:lnTo>
                  <a:lnTo>
                    <a:pt x="4330" y="2077"/>
                  </a:lnTo>
                  <a:lnTo>
                    <a:pt x="4333" y="218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4840" y="2138400"/>
              <a:ext cx="1719000" cy="1719000"/>
            </a:xfrm>
            <a:custGeom>
              <a:avLst/>
              <a:gdLst/>
              <a:ahLst/>
              <a:rect l="l" t="t" r="r" b="b"/>
              <a:pathLst>
                <a:path w="4334" h="4332">
                  <a:moveTo>
                    <a:pt x="4334" y="2167"/>
                  </a:moveTo>
                  <a:lnTo>
                    <a:pt x="4331" y="2055"/>
                  </a:lnTo>
                  <a:lnTo>
                    <a:pt x="4322" y="1945"/>
                  </a:lnTo>
                  <a:lnTo>
                    <a:pt x="4309" y="1836"/>
                  </a:lnTo>
                  <a:lnTo>
                    <a:pt x="4290" y="1730"/>
                  </a:lnTo>
                  <a:lnTo>
                    <a:pt x="4266" y="1626"/>
                  </a:lnTo>
                  <a:lnTo>
                    <a:pt x="4237" y="1522"/>
                  </a:lnTo>
                  <a:lnTo>
                    <a:pt x="4202" y="1421"/>
                  </a:lnTo>
                  <a:lnTo>
                    <a:pt x="4163" y="1323"/>
                  </a:lnTo>
                  <a:lnTo>
                    <a:pt x="4120" y="1227"/>
                  </a:lnTo>
                  <a:lnTo>
                    <a:pt x="4073" y="1134"/>
                  </a:lnTo>
                  <a:lnTo>
                    <a:pt x="4020" y="1043"/>
                  </a:lnTo>
                  <a:lnTo>
                    <a:pt x="3964" y="956"/>
                  </a:lnTo>
                  <a:lnTo>
                    <a:pt x="3903" y="871"/>
                  </a:lnTo>
                  <a:lnTo>
                    <a:pt x="3839" y="789"/>
                  </a:lnTo>
                  <a:lnTo>
                    <a:pt x="3771" y="710"/>
                  </a:lnTo>
                  <a:lnTo>
                    <a:pt x="3699" y="635"/>
                  </a:lnTo>
                  <a:lnTo>
                    <a:pt x="3624" y="563"/>
                  </a:lnTo>
                  <a:lnTo>
                    <a:pt x="3545" y="495"/>
                  </a:lnTo>
                  <a:lnTo>
                    <a:pt x="3463" y="431"/>
                  </a:lnTo>
                  <a:lnTo>
                    <a:pt x="3379" y="371"/>
                  </a:lnTo>
                  <a:lnTo>
                    <a:pt x="3290" y="314"/>
                  </a:lnTo>
                  <a:lnTo>
                    <a:pt x="3200" y="262"/>
                  </a:lnTo>
                  <a:lnTo>
                    <a:pt x="3107" y="214"/>
                  </a:lnTo>
                  <a:lnTo>
                    <a:pt x="3011" y="171"/>
                  </a:lnTo>
                  <a:lnTo>
                    <a:pt x="2912" y="132"/>
                  </a:lnTo>
                  <a:lnTo>
                    <a:pt x="2812" y="98"/>
                  </a:lnTo>
                  <a:lnTo>
                    <a:pt x="2709" y="69"/>
                  </a:lnTo>
                  <a:lnTo>
                    <a:pt x="2604" y="44"/>
                  </a:lnTo>
                  <a:lnTo>
                    <a:pt x="2497" y="26"/>
                  </a:lnTo>
                  <a:lnTo>
                    <a:pt x="2388" y="12"/>
                  </a:lnTo>
                  <a:lnTo>
                    <a:pt x="2279" y="3"/>
                  </a:lnTo>
                  <a:lnTo>
                    <a:pt x="2167" y="0"/>
                  </a:lnTo>
                  <a:lnTo>
                    <a:pt x="2055" y="3"/>
                  </a:lnTo>
                  <a:lnTo>
                    <a:pt x="1945" y="12"/>
                  </a:lnTo>
                  <a:lnTo>
                    <a:pt x="1837" y="26"/>
                  </a:lnTo>
                  <a:lnTo>
                    <a:pt x="1730" y="44"/>
                  </a:lnTo>
                  <a:lnTo>
                    <a:pt x="1625" y="69"/>
                  </a:lnTo>
                  <a:lnTo>
                    <a:pt x="1523" y="98"/>
                  </a:lnTo>
                  <a:lnTo>
                    <a:pt x="1422" y="132"/>
                  </a:lnTo>
                  <a:lnTo>
                    <a:pt x="1324" y="171"/>
                  </a:lnTo>
                  <a:lnTo>
                    <a:pt x="1228" y="214"/>
                  </a:lnTo>
                  <a:lnTo>
                    <a:pt x="1135" y="262"/>
                  </a:lnTo>
                  <a:lnTo>
                    <a:pt x="1044" y="314"/>
                  </a:lnTo>
                  <a:lnTo>
                    <a:pt x="955" y="371"/>
                  </a:lnTo>
                  <a:lnTo>
                    <a:pt x="871" y="431"/>
                  </a:lnTo>
                  <a:lnTo>
                    <a:pt x="789" y="495"/>
                  </a:lnTo>
                  <a:lnTo>
                    <a:pt x="710" y="563"/>
                  </a:lnTo>
                  <a:lnTo>
                    <a:pt x="636" y="635"/>
                  </a:lnTo>
                  <a:lnTo>
                    <a:pt x="563" y="710"/>
                  </a:lnTo>
                  <a:lnTo>
                    <a:pt x="495" y="789"/>
                  </a:lnTo>
                  <a:lnTo>
                    <a:pt x="431" y="871"/>
                  </a:lnTo>
                  <a:lnTo>
                    <a:pt x="371" y="956"/>
                  </a:lnTo>
                  <a:lnTo>
                    <a:pt x="315" y="1043"/>
                  </a:lnTo>
                  <a:lnTo>
                    <a:pt x="262" y="1134"/>
                  </a:lnTo>
                  <a:lnTo>
                    <a:pt x="214" y="1227"/>
                  </a:lnTo>
                  <a:lnTo>
                    <a:pt x="171" y="1323"/>
                  </a:lnTo>
                  <a:lnTo>
                    <a:pt x="132" y="1421"/>
                  </a:lnTo>
                  <a:lnTo>
                    <a:pt x="97" y="1522"/>
                  </a:lnTo>
                  <a:lnTo>
                    <a:pt x="68" y="1626"/>
                  </a:lnTo>
                  <a:lnTo>
                    <a:pt x="44" y="1730"/>
                  </a:lnTo>
                  <a:lnTo>
                    <a:pt x="25" y="1836"/>
                  </a:lnTo>
                  <a:lnTo>
                    <a:pt x="12" y="1945"/>
                  </a:lnTo>
                  <a:lnTo>
                    <a:pt x="3" y="2055"/>
                  </a:lnTo>
                  <a:lnTo>
                    <a:pt x="0" y="2167"/>
                  </a:lnTo>
                  <a:lnTo>
                    <a:pt x="3" y="2278"/>
                  </a:lnTo>
                  <a:lnTo>
                    <a:pt x="12" y="2388"/>
                  </a:lnTo>
                  <a:lnTo>
                    <a:pt x="25" y="2496"/>
                  </a:lnTo>
                  <a:lnTo>
                    <a:pt x="44" y="2603"/>
                  </a:lnTo>
                  <a:lnTo>
                    <a:pt x="68" y="2708"/>
                  </a:lnTo>
                  <a:lnTo>
                    <a:pt x="97" y="2810"/>
                  </a:lnTo>
                  <a:lnTo>
                    <a:pt x="132" y="2911"/>
                  </a:lnTo>
                  <a:lnTo>
                    <a:pt x="171" y="3009"/>
                  </a:lnTo>
                  <a:lnTo>
                    <a:pt x="214" y="3105"/>
                  </a:lnTo>
                  <a:lnTo>
                    <a:pt x="262" y="3199"/>
                  </a:lnTo>
                  <a:lnTo>
                    <a:pt x="315" y="3290"/>
                  </a:lnTo>
                  <a:lnTo>
                    <a:pt x="371" y="3377"/>
                  </a:lnTo>
                  <a:lnTo>
                    <a:pt x="431" y="3463"/>
                  </a:lnTo>
                  <a:lnTo>
                    <a:pt x="495" y="3544"/>
                  </a:lnTo>
                  <a:lnTo>
                    <a:pt x="563" y="3623"/>
                  </a:lnTo>
                  <a:lnTo>
                    <a:pt x="636" y="3698"/>
                  </a:lnTo>
                  <a:lnTo>
                    <a:pt x="710" y="3769"/>
                  </a:lnTo>
                  <a:lnTo>
                    <a:pt x="789" y="3837"/>
                  </a:lnTo>
                  <a:lnTo>
                    <a:pt x="871" y="3902"/>
                  </a:lnTo>
                  <a:lnTo>
                    <a:pt x="955" y="3963"/>
                  </a:lnTo>
                  <a:lnTo>
                    <a:pt x="1044" y="4019"/>
                  </a:lnTo>
                  <a:lnTo>
                    <a:pt x="1135" y="4071"/>
                  </a:lnTo>
                  <a:lnTo>
                    <a:pt x="1228" y="4118"/>
                  </a:lnTo>
                  <a:lnTo>
                    <a:pt x="1324" y="4161"/>
                  </a:lnTo>
                  <a:lnTo>
                    <a:pt x="1422" y="4200"/>
                  </a:lnTo>
                  <a:lnTo>
                    <a:pt x="1523" y="4235"/>
                  </a:lnTo>
                  <a:lnTo>
                    <a:pt x="1625" y="4264"/>
                  </a:lnTo>
                  <a:lnTo>
                    <a:pt x="1730" y="4288"/>
                  </a:lnTo>
                  <a:lnTo>
                    <a:pt x="1837" y="4307"/>
                  </a:lnTo>
                  <a:lnTo>
                    <a:pt x="1945" y="4321"/>
                  </a:lnTo>
                  <a:lnTo>
                    <a:pt x="2055" y="4329"/>
                  </a:lnTo>
                  <a:lnTo>
                    <a:pt x="2167" y="4332"/>
                  </a:lnTo>
                  <a:lnTo>
                    <a:pt x="2279" y="4329"/>
                  </a:lnTo>
                  <a:lnTo>
                    <a:pt x="2388" y="4321"/>
                  </a:lnTo>
                  <a:lnTo>
                    <a:pt x="2497" y="4307"/>
                  </a:lnTo>
                  <a:lnTo>
                    <a:pt x="2604" y="4288"/>
                  </a:lnTo>
                  <a:lnTo>
                    <a:pt x="2709" y="4264"/>
                  </a:lnTo>
                  <a:lnTo>
                    <a:pt x="2812" y="4235"/>
                  </a:lnTo>
                  <a:lnTo>
                    <a:pt x="2912" y="4200"/>
                  </a:lnTo>
                  <a:lnTo>
                    <a:pt x="3011" y="4161"/>
                  </a:lnTo>
                  <a:lnTo>
                    <a:pt x="3107" y="4118"/>
                  </a:lnTo>
                  <a:lnTo>
                    <a:pt x="3200" y="4071"/>
                  </a:lnTo>
                  <a:lnTo>
                    <a:pt x="3290" y="4019"/>
                  </a:lnTo>
                  <a:lnTo>
                    <a:pt x="3379" y="3963"/>
                  </a:lnTo>
                  <a:lnTo>
                    <a:pt x="3463" y="3902"/>
                  </a:lnTo>
                  <a:lnTo>
                    <a:pt x="3545" y="3837"/>
                  </a:lnTo>
                  <a:lnTo>
                    <a:pt x="3624" y="3769"/>
                  </a:lnTo>
                  <a:lnTo>
                    <a:pt x="3699" y="3698"/>
                  </a:lnTo>
                  <a:lnTo>
                    <a:pt x="3771" y="3623"/>
                  </a:lnTo>
                  <a:lnTo>
                    <a:pt x="3839" y="3544"/>
                  </a:lnTo>
                  <a:lnTo>
                    <a:pt x="3903" y="3463"/>
                  </a:lnTo>
                  <a:lnTo>
                    <a:pt x="3964" y="3377"/>
                  </a:lnTo>
                  <a:lnTo>
                    <a:pt x="4020" y="3290"/>
                  </a:lnTo>
                  <a:lnTo>
                    <a:pt x="4073" y="3199"/>
                  </a:lnTo>
                  <a:lnTo>
                    <a:pt x="4120" y="3105"/>
                  </a:lnTo>
                  <a:lnTo>
                    <a:pt x="4163" y="3009"/>
                  </a:lnTo>
                  <a:lnTo>
                    <a:pt x="4202" y="2911"/>
                  </a:lnTo>
                  <a:lnTo>
                    <a:pt x="4237" y="2810"/>
                  </a:lnTo>
                  <a:lnTo>
                    <a:pt x="4266" y="2708"/>
                  </a:lnTo>
                  <a:lnTo>
                    <a:pt x="4290" y="2603"/>
                  </a:lnTo>
                  <a:lnTo>
                    <a:pt x="4309" y="2496"/>
                  </a:lnTo>
                  <a:lnTo>
                    <a:pt x="4322" y="2388"/>
                  </a:lnTo>
                  <a:lnTo>
                    <a:pt x="4331" y="2278"/>
                  </a:lnTo>
                  <a:lnTo>
                    <a:pt x="4334" y="2167"/>
                  </a:lnTo>
                  <a:close/>
                  <a:moveTo>
                    <a:pt x="4292" y="2167"/>
                  </a:moveTo>
                  <a:lnTo>
                    <a:pt x="4290" y="2276"/>
                  </a:lnTo>
                  <a:lnTo>
                    <a:pt x="4281" y="2384"/>
                  </a:lnTo>
                  <a:lnTo>
                    <a:pt x="4268" y="2490"/>
                  </a:lnTo>
                  <a:lnTo>
                    <a:pt x="4249" y="2594"/>
                  </a:lnTo>
                  <a:lnTo>
                    <a:pt x="4225" y="2697"/>
                  </a:lnTo>
                  <a:lnTo>
                    <a:pt x="4197" y="2798"/>
                  </a:lnTo>
                  <a:lnTo>
                    <a:pt x="4163" y="2897"/>
                  </a:lnTo>
                  <a:lnTo>
                    <a:pt x="4126" y="2993"/>
                  </a:lnTo>
                  <a:lnTo>
                    <a:pt x="4082" y="3087"/>
                  </a:lnTo>
                  <a:lnTo>
                    <a:pt x="4036" y="3179"/>
                  </a:lnTo>
                  <a:lnTo>
                    <a:pt x="3984" y="3268"/>
                  </a:lnTo>
                  <a:lnTo>
                    <a:pt x="3929" y="3354"/>
                  </a:lnTo>
                  <a:lnTo>
                    <a:pt x="3870" y="3437"/>
                  </a:lnTo>
                  <a:lnTo>
                    <a:pt x="3807" y="3518"/>
                  </a:lnTo>
                  <a:lnTo>
                    <a:pt x="3740" y="3594"/>
                  </a:lnTo>
                  <a:lnTo>
                    <a:pt x="3670" y="3668"/>
                  </a:lnTo>
                  <a:lnTo>
                    <a:pt x="3596" y="3739"/>
                  </a:lnTo>
                  <a:lnTo>
                    <a:pt x="3518" y="3805"/>
                  </a:lnTo>
                  <a:lnTo>
                    <a:pt x="3438" y="3869"/>
                  </a:lnTo>
                  <a:lnTo>
                    <a:pt x="3355" y="3928"/>
                  </a:lnTo>
                  <a:lnTo>
                    <a:pt x="3269" y="3983"/>
                  </a:lnTo>
                  <a:lnTo>
                    <a:pt x="3180" y="4034"/>
                  </a:lnTo>
                  <a:lnTo>
                    <a:pt x="3088" y="4082"/>
                  </a:lnTo>
                  <a:lnTo>
                    <a:pt x="2994" y="4124"/>
                  </a:lnTo>
                  <a:lnTo>
                    <a:pt x="2898" y="4161"/>
                  </a:lnTo>
                  <a:lnTo>
                    <a:pt x="2799" y="4195"/>
                  </a:lnTo>
                  <a:lnTo>
                    <a:pt x="2698" y="4224"/>
                  </a:lnTo>
                  <a:lnTo>
                    <a:pt x="2596" y="4248"/>
                  </a:lnTo>
                  <a:lnTo>
                    <a:pt x="2491" y="4266"/>
                  </a:lnTo>
                  <a:lnTo>
                    <a:pt x="2385" y="4279"/>
                  </a:lnTo>
                  <a:lnTo>
                    <a:pt x="2277" y="4288"/>
                  </a:lnTo>
                  <a:lnTo>
                    <a:pt x="2167" y="4291"/>
                  </a:lnTo>
                  <a:lnTo>
                    <a:pt x="2058" y="4288"/>
                  </a:lnTo>
                  <a:lnTo>
                    <a:pt x="1949" y="4279"/>
                  </a:lnTo>
                  <a:lnTo>
                    <a:pt x="1844" y="4266"/>
                  </a:lnTo>
                  <a:lnTo>
                    <a:pt x="1739" y="4248"/>
                  </a:lnTo>
                  <a:lnTo>
                    <a:pt x="1636" y="4224"/>
                  </a:lnTo>
                  <a:lnTo>
                    <a:pt x="1536" y="4195"/>
                  </a:lnTo>
                  <a:lnTo>
                    <a:pt x="1436" y="4161"/>
                  </a:lnTo>
                  <a:lnTo>
                    <a:pt x="1340" y="4124"/>
                  </a:lnTo>
                  <a:lnTo>
                    <a:pt x="1246" y="4082"/>
                  </a:lnTo>
                  <a:lnTo>
                    <a:pt x="1154" y="4034"/>
                  </a:lnTo>
                  <a:lnTo>
                    <a:pt x="1066" y="3983"/>
                  </a:lnTo>
                  <a:lnTo>
                    <a:pt x="979" y="3928"/>
                  </a:lnTo>
                  <a:lnTo>
                    <a:pt x="896" y="3869"/>
                  </a:lnTo>
                  <a:lnTo>
                    <a:pt x="816" y="3805"/>
                  </a:lnTo>
                  <a:lnTo>
                    <a:pt x="738" y="3739"/>
                  </a:lnTo>
                  <a:lnTo>
                    <a:pt x="665" y="3668"/>
                  </a:lnTo>
                  <a:lnTo>
                    <a:pt x="594" y="3594"/>
                  </a:lnTo>
                  <a:lnTo>
                    <a:pt x="527" y="3518"/>
                  </a:lnTo>
                  <a:lnTo>
                    <a:pt x="465" y="3437"/>
                  </a:lnTo>
                  <a:lnTo>
                    <a:pt x="405" y="3354"/>
                  </a:lnTo>
                  <a:lnTo>
                    <a:pt x="350" y="3268"/>
                  </a:lnTo>
                  <a:lnTo>
                    <a:pt x="298" y="3179"/>
                  </a:lnTo>
                  <a:lnTo>
                    <a:pt x="252" y="3087"/>
                  </a:lnTo>
                  <a:lnTo>
                    <a:pt x="209" y="2993"/>
                  </a:lnTo>
                  <a:lnTo>
                    <a:pt x="171" y="2897"/>
                  </a:lnTo>
                  <a:lnTo>
                    <a:pt x="137" y="2798"/>
                  </a:lnTo>
                  <a:lnTo>
                    <a:pt x="109" y="2697"/>
                  </a:lnTo>
                  <a:lnTo>
                    <a:pt x="86" y="2594"/>
                  </a:lnTo>
                  <a:lnTo>
                    <a:pt x="66" y="2490"/>
                  </a:lnTo>
                  <a:lnTo>
                    <a:pt x="53" y="2384"/>
                  </a:lnTo>
                  <a:lnTo>
                    <a:pt x="44" y="2276"/>
                  </a:lnTo>
                  <a:lnTo>
                    <a:pt x="42" y="2167"/>
                  </a:lnTo>
                  <a:lnTo>
                    <a:pt x="44" y="2058"/>
                  </a:lnTo>
                  <a:lnTo>
                    <a:pt x="53" y="1950"/>
                  </a:lnTo>
                  <a:lnTo>
                    <a:pt x="66" y="1843"/>
                  </a:lnTo>
                  <a:lnTo>
                    <a:pt x="86" y="1738"/>
                  </a:lnTo>
                  <a:lnTo>
                    <a:pt x="109" y="1635"/>
                  </a:lnTo>
                  <a:lnTo>
                    <a:pt x="137" y="1535"/>
                  </a:lnTo>
                  <a:lnTo>
                    <a:pt x="171" y="1437"/>
                  </a:lnTo>
                  <a:lnTo>
                    <a:pt x="209" y="1339"/>
                  </a:lnTo>
                  <a:lnTo>
                    <a:pt x="252" y="1245"/>
                  </a:lnTo>
                  <a:lnTo>
                    <a:pt x="298" y="1154"/>
                  </a:lnTo>
                  <a:lnTo>
                    <a:pt x="350" y="1065"/>
                  </a:lnTo>
                  <a:lnTo>
                    <a:pt x="405" y="979"/>
                  </a:lnTo>
                  <a:lnTo>
                    <a:pt x="465" y="896"/>
                  </a:lnTo>
                  <a:lnTo>
                    <a:pt x="527" y="816"/>
                  </a:lnTo>
                  <a:lnTo>
                    <a:pt x="594" y="738"/>
                  </a:lnTo>
                  <a:lnTo>
                    <a:pt x="665" y="664"/>
                  </a:lnTo>
                  <a:lnTo>
                    <a:pt x="738" y="594"/>
                  </a:lnTo>
                  <a:lnTo>
                    <a:pt x="816" y="527"/>
                  </a:lnTo>
                  <a:lnTo>
                    <a:pt x="896" y="465"/>
                  </a:lnTo>
                  <a:lnTo>
                    <a:pt x="979" y="405"/>
                  </a:lnTo>
                  <a:lnTo>
                    <a:pt x="1066" y="350"/>
                  </a:lnTo>
                  <a:lnTo>
                    <a:pt x="1154" y="298"/>
                  </a:lnTo>
                  <a:lnTo>
                    <a:pt x="1246" y="252"/>
                  </a:lnTo>
                  <a:lnTo>
                    <a:pt x="1340" y="210"/>
                  </a:lnTo>
                  <a:lnTo>
                    <a:pt x="1436" y="171"/>
                  </a:lnTo>
                  <a:lnTo>
                    <a:pt x="1536" y="137"/>
                  </a:lnTo>
                  <a:lnTo>
                    <a:pt x="1636" y="109"/>
                  </a:lnTo>
                  <a:lnTo>
                    <a:pt x="1739" y="86"/>
                  </a:lnTo>
                  <a:lnTo>
                    <a:pt x="1844" y="67"/>
                  </a:lnTo>
                  <a:lnTo>
                    <a:pt x="1949" y="53"/>
                  </a:lnTo>
                  <a:lnTo>
                    <a:pt x="2058" y="46"/>
                  </a:lnTo>
                  <a:lnTo>
                    <a:pt x="2167" y="42"/>
                  </a:lnTo>
                  <a:lnTo>
                    <a:pt x="2277" y="46"/>
                  </a:lnTo>
                  <a:lnTo>
                    <a:pt x="2385" y="53"/>
                  </a:lnTo>
                  <a:lnTo>
                    <a:pt x="2491" y="67"/>
                  </a:lnTo>
                  <a:lnTo>
                    <a:pt x="2596" y="86"/>
                  </a:lnTo>
                  <a:lnTo>
                    <a:pt x="2698" y="109"/>
                  </a:lnTo>
                  <a:lnTo>
                    <a:pt x="2799" y="137"/>
                  </a:lnTo>
                  <a:lnTo>
                    <a:pt x="2898" y="171"/>
                  </a:lnTo>
                  <a:lnTo>
                    <a:pt x="2994" y="210"/>
                  </a:lnTo>
                  <a:lnTo>
                    <a:pt x="3088" y="252"/>
                  </a:lnTo>
                  <a:lnTo>
                    <a:pt x="3180" y="298"/>
                  </a:lnTo>
                  <a:lnTo>
                    <a:pt x="3269" y="350"/>
                  </a:lnTo>
                  <a:lnTo>
                    <a:pt x="3355" y="405"/>
                  </a:lnTo>
                  <a:lnTo>
                    <a:pt x="3438" y="465"/>
                  </a:lnTo>
                  <a:lnTo>
                    <a:pt x="3518" y="527"/>
                  </a:lnTo>
                  <a:lnTo>
                    <a:pt x="3596" y="594"/>
                  </a:lnTo>
                  <a:lnTo>
                    <a:pt x="3670" y="664"/>
                  </a:lnTo>
                  <a:lnTo>
                    <a:pt x="3740" y="738"/>
                  </a:lnTo>
                  <a:lnTo>
                    <a:pt x="3807" y="816"/>
                  </a:lnTo>
                  <a:lnTo>
                    <a:pt x="3870" y="896"/>
                  </a:lnTo>
                  <a:lnTo>
                    <a:pt x="3929" y="979"/>
                  </a:lnTo>
                  <a:lnTo>
                    <a:pt x="3984" y="1065"/>
                  </a:lnTo>
                  <a:lnTo>
                    <a:pt x="4036" y="1154"/>
                  </a:lnTo>
                  <a:lnTo>
                    <a:pt x="4082" y="1245"/>
                  </a:lnTo>
                  <a:lnTo>
                    <a:pt x="4126" y="1339"/>
                  </a:lnTo>
                  <a:lnTo>
                    <a:pt x="4163" y="1437"/>
                  </a:lnTo>
                  <a:lnTo>
                    <a:pt x="4197" y="1535"/>
                  </a:lnTo>
                  <a:lnTo>
                    <a:pt x="4225" y="1635"/>
                  </a:lnTo>
                  <a:lnTo>
                    <a:pt x="4249" y="1738"/>
                  </a:lnTo>
                  <a:lnTo>
                    <a:pt x="4268" y="1843"/>
                  </a:lnTo>
                  <a:lnTo>
                    <a:pt x="4281" y="1950"/>
                  </a:lnTo>
                  <a:lnTo>
                    <a:pt x="4290" y="2058"/>
                  </a:lnTo>
                  <a:lnTo>
                    <a:pt x="4292" y="2167"/>
                  </a:lnTo>
                  <a:close/>
                </a:path>
              </a:pathLst>
            </a:custGeom>
            <a:solidFill>
              <a:srgbClr val="e35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22760" y="2146320"/>
              <a:ext cx="1703160" cy="1701720"/>
            </a:xfrm>
            <a:custGeom>
              <a:avLst/>
              <a:gdLst/>
              <a:ahLst/>
              <a:rect l="l" t="t" r="r" b="b"/>
              <a:pathLst>
                <a:path w="4291" h="4290">
                  <a:moveTo>
                    <a:pt x="4291" y="2145"/>
                  </a:moveTo>
                  <a:lnTo>
                    <a:pt x="4288" y="2035"/>
                  </a:lnTo>
                  <a:lnTo>
                    <a:pt x="4280" y="1925"/>
                  </a:lnTo>
                  <a:lnTo>
                    <a:pt x="4267" y="1817"/>
                  </a:lnTo>
                  <a:lnTo>
                    <a:pt x="4247" y="1713"/>
                  </a:lnTo>
                  <a:lnTo>
                    <a:pt x="4224" y="1608"/>
                  </a:lnTo>
                  <a:lnTo>
                    <a:pt x="4194" y="1506"/>
                  </a:lnTo>
                  <a:lnTo>
                    <a:pt x="4161" y="1407"/>
                  </a:lnTo>
                  <a:lnTo>
                    <a:pt x="4122" y="1310"/>
                  </a:lnTo>
                  <a:lnTo>
                    <a:pt x="4080" y="1215"/>
                  </a:lnTo>
                  <a:lnTo>
                    <a:pt x="4032" y="1122"/>
                  </a:lnTo>
                  <a:lnTo>
                    <a:pt x="3980" y="1032"/>
                  </a:lnTo>
                  <a:lnTo>
                    <a:pt x="3924" y="945"/>
                  </a:lnTo>
                  <a:lnTo>
                    <a:pt x="3865" y="862"/>
                  </a:lnTo>
                  <a:lnTo>
                    <a:pt x="3801" y="780"/>
                  </a:lnTo>
                  <a:lnTo>
                    <a:pt x="3733" y="702"/>
                  </a:lnTo>
                  <a:lnTo>
                    <a:pt x="3663" y="627"/>
                  </a:lnTo>
                  <a:lnTo>
                    <a:pt x="3588" y="557"/>
                  </a:lnTo>
                  <a:lnTo>
                    <a:pt x="3510" y="489"/>
                  </a:lnTo>
                  <a:lnTo>
                    <a:pt x="3429" y="425"/>
                  </a:lnTo>
                  <a:lnTo>
                    <a:pt x="3345" y="366"/>
                  </a:lnTo>
                  <a:lnTo>
                    <a:pt x="3258" y="310"/>
                  </a:lnTo>
                  <a:lnTo>
                    <a:pt x="3168" y="258"/>
                  </a:lnTo>
                  <a:lnTo>
                    <a:pt x="3075" y="211"/>
                  </a:lnTo>
                  <a:lnTo>
                    <a:pt x="2980" y="168"/>
                  </a:lnTo>
                  <a:lnTo>
                    <a:pt x="2883" y="129"/>
                  </a:lnTo>
                  <a:lnTo>
                    <a:pt x="2783" y="96"/>
                  </a:lnTo>
                  <a:lnTo>
                    <a:pt x="2682" y="67"/>
                  </a:lnTo>
                  <a:lnTo>
                    <a:pt x="2578" y="43"/>
                  </a:lnTo>
                  <a:lnTo>
                    <a:pt x="2472" y="25"/>
                  </a:lnTo>
                  <a:lnTo>
                    <a:pt x="2365" y="11"/>
                  </a:lnTo>
                  <a:lnTo>
                    <a:pt x="2256" y="2"/>
                  </a:lnTo>
                  <a:lnTo>
                    <a:pt x="2145" y="0"/>
                  </a:lnTo>
                  <a:lnTo>
                    <a:pt x="2034" y="2"/>
                  </a:lnTo>
                  <a:lnTo>
                    <a:pt x="1925" y="11"/>
                  </a:lnTo>
                  <a:lnTo>
                    <a:pt x="1818" y="25"/>
                  </a:lnTo>
                  <a:lnTo>
                    <a:pt x="1712" y="43"/>
                  </a:lnTo>
                  <a:lnTo>
                    <a:pt x="1609" y="67"/>
                  </a:lnTo>
                  <a:lnTo>
                    <a:pt x="1507" y="96"/>
                  </a:lnTo>
                  <a:lnTo>
                    <a:pt x="1408" y="129"/>
                  </a:lnTo>
                  <a:lnTo>
                    <a:pt x="1309" y="168"/>
                  </a:lnTo>
                  <a:lnTo>
                    <a:pt x="1215" y="211"/>
                  </a:lnTo>
                  <a:lnTo>
                    <a:pt x="1122" y="258"/>
                  </a:lnTo>
                  <a:lnTo>
                    <a:pt x="1033" y="310"/>
                  </a:lnTo>
                  <a:lnTo>
                    <a:pt x="945" y="366"/>
                  </a:lnTo>
                  <a:lnTo>
                    <a:pt x="861" y="425"/>
                  </a:lnTo>
                  <a:lnTo>
                    <a:pt x="780" y="489"/>
                  </a:lnTo>
                  <a:lnTo>
                    <a:pt x="702" y="557"/>
                  </a:lnTo>
                  <a:lnTo>
                    <a:pt x="628" y="627"/>
                  </a:lnTo>
                  <a:lnTo>
                    <a:pt x="556" y="702"/>
                  </a:lnTo>
                  <a:lnTo>
                    <a:pt x="489" y="780"/>
                  </a:lnTo>
                  <a:lnTo>
                    <a:pt x="426" y="862"/>
                  </a:lnTo>
                  <a:lnTo>
                    <a:pt x="366" y="945"/>
                  </a:lnTo>
                  <a:lnTo>
                    <a:pt x="310" y="1032"/>
                  </a:lnTo>
                  <a:lnTo>
                    <a:pt x="258" y="1122"/>
                  </a:lnTo>
                  <a:lnTo>
                    <a:pt x="210" y="1215"/>
                  </a:lnTo>
                  <a:lnTo>
                    <a:pt x="168" y="1310"/>
                  </a:lnTo>
                  <a:lnTo>
                    <a:pt x="129" y="1407"/>
                  </a:lnTo>
                  <a:lnTo>
                    <a:pt x="96" y="1506"/>
                  </a:lnTo>
                  <a:lnTo>
                    <a:pt x="67" y="1608"/>
                  </a:lnTo>
                  <a:lnTo>
                    <a:pt x="43" y="1713"/>
                  </a:lnTo>
                  <a:lnTo>
                    <a:pt x="24" y="1817"/>
                  </a:lnTo>
                  <a:lnTo>
                    <a:pt x="11" y="1925"/>
                  </a:lnTo>
                  <a:lnTo>
                    <a:pt x="2" y="2035"/>
                  </a:lnTo>
                  <a:lnTo>
                    <a:pt x="0" y="2145"/>
                  </a:lnTo>
                  <a:lnTo>
                    <a:pt x="2" y="2255"/>
                  </a:lnTo>
                  <a:lnTo>
                    <a:pt x="11" y="2364"/>
                  </a:lnTo>
                  <a:lnTo>
                    <a:pt x="24" y="2471"/>
                  </a:lnTo>
                  <a:lnTo>
                    <a:pt x="43" y="2577"/>
                  </a:lnTo>
                  <a:lnTo>
                    <a:pt x="67" y="2680"/>
                  </a:lnTo>
                  <a:lnTo>
                    <a:pt x="96" y="2782"/>
                  </a:lnTo>
                  <a:lnTo>
                    <a:pt x="129" y="2882"/>
                  </a:lnTo>
                  <a:lnTo>
                    <a:pt x="168" y="2980"/>
                  </a:lnTo>
                  <a:lnTo>
                    <a:pt x="210" y="3075"/>
                  </a:lnTo>
                  <a:lnTo>
                    <a:pt x="258" y="3166"/>
                  </a:lnTo>
                  <a:lnTo>
                    <a:pt x="310" y="3257"/>
                  </a:lnTo>
                  <a:lnTo>
                    <a:pt x="366" y="3343"/>
                  </a:lnTo>
                  <a:lnTo>
                    <a:pt x="426" y="3428"/>
                  </a:lnTo>
                  <a:lnTo>
                    <a:pt x="489" y="3509"/>
                  </a:lnTo>
                  <a:lnTo>
                    <a:pt x="556" y="3586"/>
                  </a:lnTo>
                  <a:lnTo>
                    <a:pt x="628" y="3661"/>
                  </a:lnTo>
                  <a:lnTo>
                    <a:pt x="702" y="3732"/>
                  </a:lnTo>
                  <a:lnTo>
                    <a:pt x="780" y="3799"/>
                  </a:lnTo>
                  <a:lnTo>
                    <a:pt x="861" y="3863"/>
                  </a:lnTo>
                  <a:lnTo>
                    <a:pt x="945" y="3923"/>
                  </a:lnTo>
                  <a:lnTo>
                    <a:pt x="1033" y="3979"/>
                  </a:lnTo>
                  <a:lnTo>
                    <a:pt x="1122" y="4030"/>
                  </a:lnTo>
                  <a:lnTo>
                    <a:pt x="1215" y="4078"/>
                  </a:lnTo>
                  <a:lnTo>
                    <a:pt x="1309" y="4121"/>
                  </a:lnTo>
                  <a:lnTo>
                    <a:pt x="1408" y="4159"/>
                  </a:lnTo>
                  <a:lnTo>
                    <a:pt x="1507" y="4193"/>
                  </a:lnTo>
                  <a:lnTo>
                    <a:pt x="1609" y="4222"/>
                  </a:lnTo>
                  <a:lnTo>
                    <a:pt x="1712" y="4245"/>
                  </a:lnTo>
                  <a:lnTo>
                    <a:pt x="1818" y="4265"/>
                  </a:lnTo>
                  <a:lnTo>
                    <a:pt x="1925" y="4279"/>
                  </a:lnTo>
                  <a:lnTo>
                    <a:pt x="2034" y="4286"/>
                  </a:lnTo>
                  <a:lnTo>
                    <a:pt x="2145" y="4290"/>
                  </a:lnTo>
                  <a:lnTo>
                    <a:pt x="2256" y="4286"/>
                  </a:lnTo>
                  <a:lnTo>
                    <a:pt x="2365" y="4279"/>
                  </a:lnTo>
                  <a:lnTo>
                    <a:pt x="2472" y="4265"/>
                  </a:lnTo>
                  <a:lnTo>
                    <a:pt x="2578" y="4245"/>
                  </a:lnTo>
                  <a:lnTo>
                    <a:pt x="2682" y="4222"/>
                  </a:lnTo>
                  <a:lnTo>
                    <a:pt x="2783" y="4193"/>
                  </a:lnTo>
                  <a:lnTo>
                    <a:pt x="2883" y="4159"/>
                  </a:lnTo>
                  <a:lnTo>
                    <a:pt x="2980" y="4121"/>
                  </a:lnTo>
                  <a:lnTo>
                    <a:pt x="3075" y="4078"/>
                  </a:lnTo>
                  <a:lnTo>
                    <a:pt x="3168" y="4030"/>
                  </a:lnTo>
                  <a:lnTo>
                    <a:pt x="3258" y="3979"/>
                  </a:lnTo>
                  <a:lnTo>
                    <a:pt x="3345" y="3923"/>
                  </a:lnTo>
                  <a:lnTo>
                    <a:pt x="3429" y="3863"/>
                  </a:lnTo>
                  <a:lnTo>
                    <a:pt x="3510" y="3799"/>
                  </a:lnTo>
                  <a:lnTo>
                    <a:pt x="3588" y="3732"/>
                  </a:lnTo>
                  <a:lnTo>
                    <a:pt x="3663" y="3661"/>
                  </a:lnTo>
                  <a:lnTo>
                    <a:pt x="3733" y="3586"/>
                  </a:lnTo>
                  <a:lnTo>
                    <a:pt x="3801" y="3509"/>
                  </a:lnTo>
                  <a:lnTo>
                    <a:pt x="3865" y="3428"/>
                  </a:lnTo>
                  <a:lnTo>
                    <a:pt x="3924" y="3343"/>
                  </a:lnTo>
                  <a:lnTo>
                    <a:pt x="3980" y="3257"/>
                  </a:lnTo>
                  <a:lnTo>
                    <a:pt x="4032" y="3166"/>
                  </a:lnTo>
                  <a:lnTo>
                    <a:pt x="4080" y="3075"/>
                  </a:lnTo>
                  <a:lnTo>
                    <a:pt x="4122" y="2980"/>
                  </a:lnTo>
                  <a:lnTo>
                    <a:pt x="4161" y="2882"/>
                  </a:lnTo>
                  <a:lnTo>
                    <a:pt x="4194" y="2782"/>
                  </a:lnTo>
                  <a:lnTo>
                    <a:pt x="4224" y="2680"/>
                  </a:lnTo>
                  <a:lnTo>
                    <a:pt x="4247" y="2577"/>
                  </a:lnTo>
                  <a:lnTo>
                    <a:pt x="4267" y="2471"/>
                  </a:lnTo>
                  <a:lnTo>
                    <a:pt x="4280" y="2364"/>
                  </a:lnTo>
                  <a:lnTo>
                    <a:pt x="4288" y="2255"/>
                  </a:lnTo>
                  <a:lnTo>
                    <a:pt x="4291" y="2145"/>
                  </a:lnTo>
                  <a:close/>
                  <a:moveTo>
                    <a:pt x="4250" y="2145"/>
                  </a:moveTo>
                  <a:lnTo>
                    <a:pt x="4246" y="2253"/>
                  </a:lnTo>
                  <a:lnTo>
                    <a:pt x="4239" y="2360"/>
                  </a:lnTo>
                  <a:lnTo>
                    <a:pt x="4225" y="2464"/>
                  </a:lnTo>
                  <a:lnTo>
                    <a:pt x="4206" y="2568"/>
                  </a:lnTo>
                  <a:lnTo>
                    <a:pt x="4184" y="2670"/>
                  </a:lnTo>
                  <a:lnTo>
                    <a:pt x="4154" y="2770"/>
                  </a:lnTo>
                  <a:lnTo>
                    <a:pt x="4122" y="2867"/>
                  </a:lnTo>
                  <a:lnTo>
                    <a:pt x="4084" y="2963"/>
                  </a:lnTo>
                  <a:lnTo>
                    <a:pt x="4042" y="3056"/>
                  </a:lnTo>
                  <a:lnTo>
                    <a:pt x="3996" y="3147"/>
                  </a:lnTo>
                  <a:lnTo>
                    <a:pt x="3945" y="3235"/>
                  </a:lnTo>
                  <a:lnTo>
                    <a:pt x="3890" y="3321"/>
                  </a:lnTo>
                  <a:lnTo>
                    <a:pt x="3831" y="3403"/>
                  </a:lnTo>
                  <a:lnTo>
                    <a:pt x="3769" y="3483"/>
                  </a:lnTo>
                  <a:lnTo>
                    <a:pt x="3703" y="3558"/>
                  </a:lnTo>
                  <a:lnTo>
                    <a:pt x="3633" y="3632"/>
                  </a:lnTo>
                  <a:lnTo>
                    <a:pt x="3560" y="3701"/>
                  </a:lnTo>
                  <a:lnTo>
                    <a:pt x="3483" y="3768"/>
                  </a:lnTo>
                  <a:lnTo>
                    <a:pt x="3405" y="3829"/>
                  </a:lnTo>
                  <a:lnTo>
                    <a:pt x="3321" y="3889"/>
                  </a:lnTo>
                  <a:lnTo>
                    <a:pt x="3236" y="3943"/>
                  </a:lnTo>
                  <a:lnTo>
                    <a:pt x="3148" y="3994"/>
                  </a:lnTo>
                  <a:lnTo>
                    <a:pt x="3058" y="4040"/>
                  </a:lnTo>
                  <a:lnTo>
                    <a:pt x="2964" y="4082"/>
                  </a:lnTo>
                  <a:lnTo>
                    <a:pt x="2869" y="4120"/>
                  </a:lnTo>
                  <a:lnTo>
                    <a:pt x="2771" y="4153"/>
                  </a:lnTo>
                  <a:lnTo>
                    <a:pt x="2671" y="4182"/>
                  </a:lnTo>
                  <a:lnTo>
                    <a:pt x="2569" y="4205"/>
                  </a:lnTo>
                  <a:lnTo>
                    <a:pt x="2466" y="4224"/>
                  </a:lnTo>
                  <a:lnTo>
                    <a:pt x="2361" y="4237"/>
                  </a:lnTo>
                  <a:lnTo>
                    <a:pt x="2254" y="4245"/>
                  </a:lnTo>
                  <a:lnTo>
                    <a:pt x="2145" y="4247"/>
                  </a:lnTo>
                  <a:lnTo>
                    <a:pt x="2037" y="4245"/>
                  </a:lnTo>
                  <a:lnTo>
                    <a:pt x="1930" y="4237"/>
                  </a:lnTo>
                  <a:lnTo>
                    <a:pt x="1825" y="4224"/>
                  </a:lnTo>
                  <a:lnTo>
                    <a:pt x="1721" y="4205"/>
                  </a:lnTo>
                  <a:lnTo>
                    <a:pt x="1620" y="4182"/>
                  </a:lnTo>
                  <a:lnTo>
                    <a:pt x="1519" y="4153"/>
                  </a:lnTo>
                  <a:lnTo>
                    <a:pt x="1422" y="4120"/>
                  </a:lnTo>
                  <a:lnTo>
                    <a:pt x="1326" y="4082"/>
                  </a:lnTo>
                  <a:lnTo>
                    <a:pt x="1233" y="4040"/>
                  </a:lnTo>
                  <a:lnTo>
                    <a:pt x="1142" y="3994"/>
                  </a:lnTo>
                  <a:lnTo>
                    <a:pt x="1054" y="3943"/>
                  </a:lnTo>
                  <a:lnTo>
                    <a:pt x="969" y="3889"/>
                  </a:lnTo>
                  <a:lnTo>
                    <a:pt x="886" y="3829"/>
                  </a:lnTo>
                  <a:lnTo>
                    <a:pt x="807" y="3768"/>
                  </a:lnTo>
                  <a:lnTo>
                    <a:pt x="730" y="3701"/>
                  </a:lnTo>
                  <a:lnTo>
                    <a:pt x="657" y="3632"/>
                  </a:lnTo>
                  <a:lnTo>
                    <a:pt x="588" y="3558"/>
                  </a:lnTo>
                  <a:lnTo>
                    <a:pt x="522" y="3483"/>
                  </a:lnTo>
                  <a:lnTo>
                    <a:pt x="459" y="3403"/>
                  </a:lnTo>
                  <a:lnTo>
                    <a:pt x="401" y="3321"/>
                  </a:lnTo>
                  <a:lnTo>
                    <a:pt x="346" y="3235"/>
                  </a:lnTo>
                  <a:lnTo>
                    <a:pt x="295" y="3147"/>
                  </a:lnTo>
                  <a:lnTo>
                    <a:pt x="248" y="3056"/>
                  </a:lnTo>
                  <a:lnTo>
                    <a:pt x="206" y="2963"/>
                  </a:lnTo>
                  <a:lnTo>
                    <a:pt x="168" y="2867"/>
                  </a:lnTo>
                  <a:lnTo>
                    <a:pt x="136" y="2770"/>
                  </a:lnTo>
                  <a:lnTo>
                    <a:pt x="107" y="2670"/>
                  </a:lnTo>
                  <a:lnTo>
                    <a:pt x="84" y="2568"/>
                  </a:lnTo>
                  <a:lnTo>
                    <a:pt x="65" y="2464"/>
                  </a:lnTo>
                  <a:lnTo>
                    <a:pt x="52" y="2360"/>
                  </a:lnTo>
                  <a:lnTo>
                    <a:pt x="44" y="2253"/>
                  </a:lnTo>
                  <a:lnTo>
                    <a:pt x="41" y="2145"/>
                  </a:lnTo>
                  <a:lnTo>
                    <a:pt x="44" y="2037"/>
                  </a:lnTo>
                  <a:lnTo>
                    <a:pt x="52" y="1930"/>
                  </a:lnTo>
                  <a:lnTo>
                    <a:pt x="65" y="1824"/>
                  </a:lnTo>
                  <a:lnTo>
                    <a:pt x="84" y="1720"/>
                  </a:lnTo>
                  <a:lnTo>
                    <a:pt x="107" y="1619"/>
                  </a:lnTo>
                  <a:lnTo>
                    <a:pt x="136" y="1519"/>
                  </a:lnTo>
                  <a:lnTo>
                    <a:pt x="168" y="1421"/>
                  </a:lnTo>
                  <a:lnTo>
                    <a:pt x="206" y="1326"/>
                  </a:lnTo>
                  <a:lnTo>
                    <a:pt x="248" y="1232"/>
                  </a:lnTo>
                  <a:lnTo>
                    <a:pt x="295" y="1142"/>
                  </a:lnTo>
                  <a:lnTo>
                    <a:pt x="346" y="1054"/>
                  </a:lnTo>
                  <a:lnTo>
                    <a:pt x="401" y="969"/>
                  </a:lnTo>
                  <a:lnTo>
                    <a:pt x="459" y="886"/>
                  </a:lnTo>
                  <a:lnTo>
                    <a:pt x="522" y="807"/>
                  </a:lnTo>
                  <a:lnTo>
                    <a:pt x="588" y="730"/>
                  </a:lnTo>
                  <a:lnTo>
                    <a:pt x="657" y="658"/>
                  </a:lnTo>
                  <a:lnTo>
                    <a:pt x="730" y="587"/>
                  </a:lnTo>
                  <a:lnTo>
                    <a:pt x="807" y="521"/>
                  </a:lnTo>
                  <a:lnTo>
                    <a:pt x="886" y="459"/>
                  </a:lnTo>
                  <a:lnTo>
                    <a:pt x="969" y="400"/>
                  </a:lnTo>
                  <a:lnTo>
                    <a:pt x="1054" y="345"/>
                  </a:lnTo>
                  <a:lnTo>
                    <a:pt x="1142" y="295"/>
                  </a:lnTo>
                  <a:lnTo>
                    <a:pt x="1233" y="248"/>
                  </a:lnTo>
                  <a:lnTo>
                    <a:pt x="1326" y="206"/>
                  </a:lnTo>
                  <a:lnTo>
                    <a:pt x="1422" y="168"/>
                  </a:lnTo>
                  <a:lnTo>
                    <a:pt x="1519" y="136"/>
                  </a:lnTo>
                  <a:lnTo>
                    <a:pt x="1620" y="108"/>
                  </a:lnTo>
                  <a:lnTo>
                    <a:pt x="1721" y="84"/>
                  </a:lnTo>
                  <a:lnTo>
                    <a:pt x="1825" y="66"/>
                  </a:lnTo>
                  <a:lnTo>
                    <a:pt x="1930" y="52"/>
                  </a:lnTo>
                  <a:lnTo>
                    <a:pt x="2037" y="44"/>
                  </a:lnTo>
                  <a:lnTo>
                    <a:pt x="2145" y="41"/>
                  </a:lnTo>
                  <a:lnTo>
                    <a:pt x="2254" y="44"/>
                  </a:lnTo>
                  <a:lnTo>
                    <a:pt x="2361" y="52"/>
                  </a:lnTo>
                  <a:lnTo>
                    <a:pt x="2466" y="66"/>
                  </a:lnTo>
                  <a:lnTo>
                    <a:pt x="2569" y="84"/>
                  </a:lnTo>
                  <a:lnTo>
                    <a:pt x="2671" y="108"/>
                  </a:lnTo>
                  <a:lnTo>
                    <a:pt x="2771" y="136"/>
                  </a:lnTo>
                  <a:lnTo>
                    <a:pt x="2869" y="168"/>
                  </a:lnTo>
                  <a:lnTo>
                    <a:pt x="2964" y="206"/>
                  </a:lnTo>
                  <a:lnTo>
                    <a:pt x="3058" y="248"/>
                  </a:lnTo>
                  <a:lnTo>
                    <a:pt x="3148" y="295"/>
                  </a:lnTo>
                  <a:lnTo>
                    <a:pt x="3236" y="345"/>
                  </a:lnTo>
                  <a:lnTo>
                    <a:pt x="3321" y="400"/>
                  </a:lnTo>
                  <a:lnTo>
                    <a:pt x="3405" y="459"/>
                  </a:lnTo>
                  <a:lnTo>
                    <a:pt x="3483" y="521"/>
                  </a:lnTo>
                  <a:lnTo>
                    <a:pt x="3560" y="587"/>
                  </a:lnTo>
                  <a:lnTo>
                    <a:pt x="3633" y="658"/>
                  </a:lnTo>
                  <a:lnTo>
                    <a:pt x="3703" y="730"/>
                  </a:lnTo>
                  <a:lnTo>
                    <a:pt x="3769" y="807"/>
                  </a:lnTo>
                  <a:lnTo>
                    <a:pt x="3831" y="886"/>
                  </a:lnTo>
                  <a:lnTo>
                    <a:pt x="3890" y="969"/>
                  </a:lnTo>
                  <a:lnTo>
                    <a:pt x="3945" y="1054"/>
                  </a:lnTo>
                  <a:lnTo>
                    <a:pt x="3996" y="1142"/>
                  </a:lnTo>
                  <a:lnTo>
                    <a:pt x="4042" y="1232"/>
                  </a:lnTo>
                  <a:lnTo>
                    <a:pt x="4084" y="1326"/>
                  </a:lnTo>
                  <a:lnTo>
                    <a:pt x="4122" y="1421"/>
                  </a:lnTo>
                  <a:lnTo>
                    <a:pt x="4154" y="1519"/>
                  </a:lnTo>
                  <a:lnTo>
                    <a:pt x="4184" y="1619"/>
                  </a:lnTo>
                  <a:lnTo>
                    <a:pt x="4206" y="1720"/>
                  </a:lnTo>
                  <a:lnTo>
                    <a:pt x="4225" y="1824"/>
                  </a:lnTo>
                  <a:lnTo>
                    <a:pt x="4239" y="1930"/>
                  </a:lnTo>
                  <a:lnTo>
                    <a:pt x="4246" y="2037"/>
                  </a:lnTo>
                  <a:lnTo>
                    <a:pt x="4250" y="214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30680" y="2154240"/>
              <a:ext cx="1687320" cy="1685880"/>
            </a:xfrm>
            <a:custGeom>
              <a:avLst/>
              <a:gdLst/>
              <a:ahLst/>
              <a:rect l="l" t="t" r="r" b="b"/>
              <a:pathLst>
                <a:path w="4250" h="4249">
                  <a:moveTo>
                    <a:pt x="4250" y="2125"/>
                  </a:moveTo>
                  <a:lnTo>
                    <a:pt x="4248" y="2016"/>
                  </a:lnTo>
                  <a:lnTo>
                    <a:pt x="4239" y="1908"/>
                  </a:lnTo>
                  <a:lnTo>
                    <a:pt x="4226" y="1801"/>
                  </a:lnTo>
                  <a:lnTo>
                    <a:pt x="4207" y="1696"/>
                  </a:lnTo>
                  <a:lnTo>
                    <a:pt x="4183" y="1593"/>
                  </a:lnTo>
                  <a:lnTo>
                    <a:pt x="4155" y="1493"/>
                  </a:lnTo>
                  <a:lnTo>
                    <a:pt x="4121" y="1395"/>
                  </a:lnTo>
                  <a:lnTo>
                    <a:pt x="4084" y="1297"/>
                  </a:lnTo>
                  <a:lnTo>
                    <a:pt x="4040" y="1203"/>
                  </a:lnTo>
                  <a:lnTo>
                    <a:pt x="3994" y="1112"/>
                  </a:lnTo>
                  <a:lnTo>
                    <a:pt x="3942" y="1023"/>
                  </a:lnTo>
                  <a:lnTo>
                    <a:pt x="3887" y="937"/>
                  </a:lnTo>
                  <a:lnTo>
                    <a:pt x="3828" y="854"/>
                  </a:lnTo>
                  <a:lnTo>
                    <a:pt x="3765" y="774"/>
                  </a:lnTo>
                  <a:lnTo>
                    <a:pt x="3698" y="696"/>
                  </a:lnTo>
                  <a:lnTo>
                    <a:pt x="3628" y="622"/>
                  </a:lnTo>
                  <a:lnTo>
                    <a:pt x="3554" y="552"/>
                  </a:lnTo>
                  <a:lnTo>
                    <a:pt x="3476" y="485"/>
                  </a:lnTo>
                  <a:lnTo>
                    <a:pt x="3396" y="423"/>
                  </a:lnTo>
                  <a:lnTo>
                    <a:pt x="3313" y="363"/>
                  </a:lnTo>
                  <a:lnTo>
                    <a:pt x="3227" y="308"/>
                  </a:lnTo>
                  <a:lnTo>
                    <a:pt x="3138" y="256"/>
                  </a:lnTo>
                  <a:lnTo>
                    <a:pt x="3046" y="210"/>
                  </a:lnTo>
                  <a:lnTo>
                    <a:pt x="2952" y="168"/>
                  </a:lnTo>
                  <a:lnTo>
                    <a:pt x="2856" y="129"/>
                  </a:lnTo>
                  <a:lnTo>
                    <a:pt x="2757" y="95"/>
                  </a:lnTo>
                  <a:lnTo>
                    <a:pt x="2656" y="67"/>
                  </a:lnTo>
                  <a:lnTo>
                    <a:pt x="2554" y="44"/>
                  </a:lnTo>
                  <a:lnTo>
                    <a:pt x="2449" y="25"/>
                  </a:lnTo>
                  <a:lnTo>
                    <a:pt x="2343" y="11"/>
                  </a:lnTo>
                  <a:lnTo>
                    <a:pt x="2235" y="4"/>
                  </a:lnTo>
                  <a:lnTo>
                    <a:pt x="2125" y="0"/>
                  </a:lnTo>
                  <a:lnTo>
                    <a:pt x="2016" y="4"/>
                  </a:lnTo>
                  <a:lnTo>
                    <a:pt x="1907" y="11"/>
                  </a:lnTo>
                  <a:lnTo>
                    <a:pt x="1802" y="25"/>
                  </a:lnTo>
                  <a:lnTo>
                    <a:pt x="1697" y="44"/>
                  </a:lnTo>
                  <a:lnTo>
                    <a:pt x="1594" y="67"/>
                  </a:lnTo>
                  <a:lnTo>
                    <a:pt x="1494" y="95"/>
                  </a:lnTo>
                  <a:lnTo>
                    <a:pt x="1394" y="129"/>
                  </a:lnTo>
                  <a:lnTo>
                    <a:pt x="1298" y="168"/>
                  </a:lnTo>
                  <a:lnTo>
                    <a:pt x="1204" y="210"/>
                  </a:lnTo>
                  <a:lnTo>
                    <a:pt x="1112" y="256"/>
                  </a:lnTo>
                  <a:lnTo>
                    <a:pt x="1024" y="308"/>
                  </a:lnTo>
                  <a:lnTo>
                    <a:pt x="937" y="363"/>
                  </a:lnTo>
                  <a:lnTo>
                    <a:pt x="854" y="423"/>
                  </a:lnTo>
                  <a:lnTo>
                    <a:pt x="774" y="485"/>
                  </a:lnTo>
                  <a:lnTo>
                    <a:pt x="696" y="552"/>
                  </a:lnTo>
                  <a:lnTo>
                    <a:pt x="623" y="622"/>
                  </a:lnTo>
                  <a:lnTo>
                    <a:pt x="552" y="696"/>
                  </a:lnTo>
                  <a:lnTo>
                    <a:pt x="485" y="774"/>
                  </a:lnTo>
                  <a:lnTo>
                    <a:pt x="423" y="854"/>
                  </a:lnTo>
                  <a:lnTo>
                    <a:pt x="363" y="937"/>
                  </a:lnTo>
                  <a:lnTo>
                    <a:pt x="308" y="1023"/>
                  </a:lnTo>
                  <a:lnTo>
                    <a:pt x="256" y="1112"/>
                  </a:lnTo>
                  <a:lnTo>
                    <a:pt x="210" y="1203"/>
                  </a:lnTo>
                  <a:lnTo>
                    <a:pt x="167" y="1297"/>
                  </a:lnTo>
                  <a:lnTo>
                    <a:pt x="129" y="1395"/>
                  </a:lnTo>
                  <a:lnTo>
                    <a:pt x="95" y="1493"/>
                  </a:lnTo>
                  <a:lnTo>
                    <a:pt x="67" y="1593"/>
                  </a:lnTo>
                  <a:lnTo>
                    <a:pt x="44" y="1696"/>
                  </a:lnTo>
                  <a:lnTo>
                    <a:pt x="24" y="1801"/>
                  </a:lnTo>
                  <a:lnTo>
                    <a:pt x="11" y="1908"/>
                  </a:lnTo>
                  <a:lnTo>
                    <a:pt x="2" y="2016"/>
                  </a:lnTo>
                  <a:lnTo>
                    <a:pt x="0" y="2125"/>
                  </a:lnTo>
                  <a:lnTo>
                    <a:pt x="2" y="2234"/>
                  </a:lnTo>
                  <a:lnTo>
                    <a:pt x="11" y="2342"/>
                  </a:lnTo>
                  <a:lnTo>
                    <a:pt x="24" y="2448"/>
                  </a:lnTo>
                  <a:lnTo>
                    <a:pt x="44" y="2552"/>
                  </a:lnTo>
                  <a:lnTo>
                    <a:pt x="67" y="2655"/>
                  </a:lnTo>
                  <a:lnTo>
                    <a:pt x="95" y="2756"/>
                  </a:lnTo>
                  <a:lnTo>
                    <a:pt x="129" y="2855"/>
                  </a:lnTo>
                  <a:lnTo>
                    <a:pt x="167" y="2951"/>
                  </a:lnTo>
                  <a:lnTo>
                    <a:pt x="210" y="3045"/>
                  </a:lnTo>
                  <a:lnTo>
                    <a:pt x="256" y="3137"/>
                  </a:lnTo>
                  <a:lnTo>
                    <a:pt x="308" y="3226"/>
                  </a:lnTo>
                  <a:lnTo>
                    <a:pt x="363" y="3312"/>
                  </a:lnTo>
                  <a:lnTo>
                    <a:pt x="423" y="3395"/>
                  </a:lnTo>
                  <a:lnTo>
                    <a:pt x="485" y="3476"/>
                  </a:lnTo>
                  <a:lnTo>
                    <a:pt x="552" y="3552"/>
                  </a:lnTo>
                  <a:lnTo>
                    <a:pt x="623" y="3626"/>
                  </a:lnTo>
                  <a:lnTo>
                    <a:pt x="696" y="3697"/>
                  </a:lnTo>
                  <a:lnTo>
                    <a:pt x="774" y="3763"/>
                  </a:lnTo>
                  <a:lnTo>
                    <a:pt x="854" y="3827"/>
                  </a:lnTo>
                  <a:lnTo>
                    <a:pt x="937" y="3886"/>
                  </a:lnTo>
                  <a:lnTo>
                    <a:pt x="1024" y="3941"/>
                  </a:lnTo>
                  <a:lnTo>
                    <a:pt x="1112" y="3992"/>
                  </a:lnTo>
                  <a:lnTo>
                    <a:pt x="1204" y="4040"/>
                  </a:lnTo>
                  <a:lnTo>
                    <a:pt x="1298" y="4082"/>
                  </a:lnTo>
                  <a:lnTo>
                    <a:pt x="1394" y="4119"/>
                  </a:lnTo>
                  <a:lnTo>
                    <a:pt x="1494" y="4153"/>
                  </a:lnTo>
                  <a:lnTo>
                    <a:pt x="1594" y="4182"/>
                  </a:lnTo>
                  <a:lnTo>
                    <a:pt x="1697" y="4206"/>
                  </a:lnTo>
                  <a:lnTo>
                    <a:pt x="1802" y="4224"/>
                  </a:lnTo>
                  <a:lnTo>
                    <a:pt x="1907" y="4237"/>
                  </a:lnTo>
                  <a:lnTo>
                    <a:pt x="2016" y="4246"/>
                  </a:lnTo>
                  <a:lnTo>
                    <a:pt x="2125" y="4249"/>
                  </a:lnTo>
                  <a:lnTo>
                    <a:pt x="2235" y="4246"/>
                  </a:lnTo>
                  <a:lnTo>
                    <a:pt x="2343" y="4237"/>
                  </a:lnTo>
                  <a:lnTo>
                    <a:pt x="2449" y="4224"/>
                  </a:lnTo>
                  <a:lnTo>
                    <a:pt x="2554" y="4206"/>
                  </a:lnTo>
                  <a:lnTo>
                    <a:pt x="2656" y="4182"/>
                  </a:lnTo>
                  <a:lnTo>
                    <a:pt x="2757" y="4153"/>
                  </a:lnTo>
                  <a:lnTo>
                    <a:pt x="2856" y="4119"/>
                  </a:lnTo>
                  <a:lnTo>
                    <a:pt x="2952" y="4082"/>
                  </a:lnTo>
                  <a:lnTo>
                    <a:pt x="3046" y="4040"/>
                  </a:lnTo>
                  <a:lnTo>
                    <a:pt x="3138" y="3992"/>
                  </a:lnTo>
                  <a:lnTo>
                    <a:pt x="3227" y="3941"/>
                  </a:lnTo>
                  <a:lnTo>
                    <a:pt x="3313" y="3886"/>
                  </a:lnTo>
                  <a:lnTo>
                    <a:pt x="3396" y="3827"/>
                  </a:lnTo>
                  <a:lnTo>
                    <a:pt x="3476" y="3763"/>
                  </a:lnTo>
                  <a:lnTo>
                    <a:pt x="3554" y="3697"/>
                  </a:lnTo>
                  <a:lnTo>
                    <a:pt x="3628" y="3626"/>
                  </a:lnTo>
                  <a:lnTo>
                    <a:pt x="3698" y="3552"/>
                  </a:lnTo>
                  <a:lnTo>
                    <a:pt x="3765" y="3476"/>
                  </a:lnTo>
                  <a:lnTo>
                    <a:pt x="3828" y="3395"/>
                  </a:lnTo>
                  <a:lnTo>
                    <a:pt x="3887" y="3312"/>
                  </a:lnTo>
                  <a:lnTo>
                    <a:pt x="3942" y="3226"/>
                  </a:lnTo>
                  <a:lnTo>
                    <a:pt x="3994" y="3137"/>
                  </a:lnTo>
                  <a:lnTo>
                    <a:pt x="4040" y="3045"/>
                  </a:lnTo>
                  <a:lnTo>
                    <a:pt x="4084" y="2951"/>
                  </a:lnTo>
                  <a:lnTo>
                    <a:pt x="4121" y="2855"/>
                  </a:lnTo>
                  <a:lnTo>
                    <a:pt x="4155" y="2756"/>
                  </a:lnTo>
                  <a:lnTo>
                    <a:pt x="4183" y="2655"/>
                  </a:lnTo>
                  <a:lnTo>
                    <a:pt x="4207" y="2552"/>
                  </a:lnTo>
                  <a:lnTo>
                    <a:pt x="4226" y="2448"/>
                  </a:lnTo>
                  <a:lnTo>
                    <a:pt x="4239" y="2342"/>
                  </a:lnTo>
                  <a:lnTo>
                    <a:pt x="4248" y="2234"/>
                  </a:lnTo>
                  <a:lnTo>
                    <a:pt x="4250" y="2125"/>
                  </a:lnTo>
                  <a:close/>
                  <a:moveTo>
                    <a:pt x="4209" y="2125"/>
                  </a:moveTo>
                  <a:lnTo>
                    <a:pt x="4206" y="2232"/>
                  </a:lnTo>
                  <a:lnTo>
                    <a:pt x="4198" y="2337"/>
                  </a:lnTo>
                  <a:lnTo>
                    <a:pt x="4184" y="2441"/>
                  </a:lnTo>
                  <a:lnTo>
                    <a:pt x="4166" y="2544"/>
                  </a:lnTo>
                  <a:lnTo>
                    <a:pt x="4143" y="2645"/>
                  </a:lnTo>
                  <a:lnTo>
                    <a:pt x="4115" y="2744"/>
                  </a:lnTo>
                  <a:lnTo>
                    <a:pt x="4083" y="2841"/>
                  </a:lnTo>
                  <a:lnTo>
                    <a:pt x="4045" y="2935"/>
                  </a:lnTo>
                  <a:lnTo>
                    <a:pt x="4003" y="3028"/>
                  </a:lnTo>
                  <a:lnTo>
                    <a:pt x="3957" y="3117"/>
                  </a:lnTo>
                  <a:lnTo>
                    <a:pt x="3906" y="3205"/>
                  </a:lnTo>
                  <a:lnTo>
                    <a:pt x="3852" y="3289"/>
                  </a:lnTo>
                  <a:lnTo>
                    <a:pt x="3795" y="3370"/>
                  </a:lnTo>
                  <a:lnTo>
                    <a:pt x="3732" y="3449"/>
                  </a:lnTo>
                  <a:lnTo>
                    <a:pt x="3668" y="3524"/>
                  </a:lnTo>
                  <a:lnTo>
                    <a:pt x="3598" y="3597"/>
                  </a:lnTo>
                  <a:lnTo>
                    <a:pt x="3526" y="3666"/>
                  </a:lnTo>
                  <a:lnTo>
                    <a:pt x="3450" y="3732"/>
                  </a:lnTo>
                  <a:lnTo>
                    <a:pt x="3372" y="3793"/>
                  </a:lnTo>
                  <a:lnTo>
                    <a:pt x="3289" y="3852"/>
                  </a:lnTo>
                  <a:lnTo>
                    <a:pt x="3205" y="3906"/>
                  </a:lnTo>
                  <a:lnTo>
                    <a:pt x="3118" y="3955"/>
                  </a:lnTo>
                  <a:lnTo>
                    <a:pt x="3028" y="4002"/>
                  </a:lnTo>
                  <a:lnTo>
                    <a:pt x="2936" y="4043"/>
                  </a:lnTo>
                  <a:lnTo>
                    <a:pt x="2841" y="4081"/>
                  </a:lnTo>
                  <a:lnTo>
                    <a:pt x="2745" y="4113"/>
                  </a:lnTo>
                  <a:lnTo>
                    <a:pt x="2645" y="4141"/>
                  </a:lnTo>
                  <a:lnTo>
                    <a:pt x="2545" y="4165"/>
                  </a:lnTo>
                  <a:lnTo>
                    <a:pt x="2442" y="4183"/>
                  </a:lnTo>
                  <a:lnTo>
                    <a:pt x="2339" y="4196"/>
                  </a:lnTo>
                  <a:lnTo>
                    <a:pt x="2233" y="4204"/>
                  </a:lnTo>
                  <a:lnTo>
                    <a:pt x="2125" y="4207"/>
                  </a:lnTo>
                  <a:lnTo>
                    <a:pt x="2018" y="4204"/>
                  </a:lnTo>
                  <a:lnTo>
                    <a:pt x="1912" y="4196"/>
                  </a:lnTo>
                  <a:lnTo>
                    <a:pt x="1808" y="4183"/>
                  </a:lnTo>
                  <a:lnTo>
                    <a:pt x="1705" y="4165"/>
                  </a:lnTo>
                  <a:lnTo>
                    <a:pt x="1605" y="4141"/>
                  </a:lnTo>
                  <a:lnTo>
                    <a:pt x="1505" y="4113"/>
                  </a:lnTo>
                  <a:lnTo>
                    <a:pt x="1409" y="4081"/>
                  </a:lnTo>
                  <a:lnTo>
                    <a:pt x="1314" y="4043"/>
                  </a:lnTo>
                  <a:lnTo>
                    <a:pt x="1222" y="4002"/>
                  </a:lnTo>
                  <a:lnTo>
                    <a:pt x="1132" y="3955"/>
                  </a:lnTo>
                  <a:lnTo>
                    <a:pt x="1045" y="3906"/>
                  </a:lnTo>
                  <a:lnTo>
                    <a:pt x="960" y="3852"/>
                  </a:lnTo>
                  <a:lnTo>
                    <a:pt x="879" y="3793"/>
                  </a:lnTo>
                  <a:lnTo>
                    <a:pt x="800" y="3732"/>
                  </a:lnTo>
                  <a:lnTo>
                    <a:pt x="724" y="3666"/>
                  </a:lnTo>
                  <a:lnTo>
                    <a:pt x="652" y="3597"/>
                  </a:lnTo>
                  <a:lnTo>
                    <a:pt x="583" y="3524"/>
                  </a:lnTo>
                  <a:lnTo>
                    <a:pt x="518" y="3449"/>
                  </a:lnTo>
                  <a:lnTo>
                    <a:pt x="455" y="3370"/>
                  </a:lnTo>
                  <a:lnTo>
                    <a:pt x="398" y="3289"/>
                  </a:lnTo>
                  <a:lnTo>
                    <a:pt x="343" y="3205"/>
                  </a:lnTo>
                  <a:lnTo>
                    <a:pt x="293" y="3117"/>
                  </a:lnTo>
                  <a:lnTo>
                    <a:pt x="247" y="3028"/>
                  </a:lnTo>
                  <a:lnTo>
                    <a:pt x="206" y="2935"/>
                  </a:lnTo>
                  <a:lnTo>
                    <a:pt x="168" y="2841"/>
                  </a:lnTo>
                  <a:lnTo>
                    <a:pt x="135" y="2744"/>
                  </a:lnTo>
                  <a:lnTo>
                    <a:pt x="107" y="2645"/>
                  </a:lnTo>
                  <a:lnTo>
                    <a:pt x="85" y="2544"/>
                  </a:lnTo>
                  <a:lnTo>
                    <a:pt x="66" y="2441"/>
                  </a:lnTo>
                  <a:lnTo>
                    <a:pt x="52" y="2337"/>
                  </a:lnTo>
                  <a:lnTo>
                    <a:pt x="45" y="2232"/>
                  </a:lnTo>
                  <a:lnTo>
                    <a:pt x="41" y="2125"/>
                  </a:lnTo>
                  <a:lnTo>
                    <a:pt x="45" y="2018"/>
                  </a:lnTo>
                  <a:lnTo>
                    <a:pt x="52" y="1912"/>
                  </a:lnTo>
                  <a:lnTo>
                    <a:pt x="66" y="1807"/>
                  </a:lnTo>
                  <a:lnTo>
                    <a:pt x="85" y="1705"/>
                  </a:lnTo>
                  <a:lnTo>
                    <a:pt x="107" y="1604"/>
                  </a:lnTo>
                  <a:lnTo>
                    <a:pt x="135" y="1505"/>
                  </a:lnTo>
                  <a:lnTo>
                    <a:pt x="168" y="1409"/>
                  </a:lnTo>
                  <a:lnTo>
                    <a:pt x="206" y="1314"/>
                  </a:lnTo>
                  <a:lnTo>
                    <a:pt x="247" y="1222"/>
                  </a:lnTo>
                  <a:lnTo>
                    <a:pt x="293" y="1132"/>
                  </a:lnTo>
                  <a:lnTo>
                    <a:pt x="343" y="1045"/>
                  </a:lnTo>
                  <a:lnTo>
                    <a:pt x="398" y="960"/>
                  </a:lnTo>
                  <a:lnTo>
                    <a:pt x="455" y="878"/>
                  </a:lnTo>
                  <a:lnTo>
                    <a:pt x="518" y="800"/>
                  </a:lnTo>
                  <a:lnTo>
                    <a:pt x="583" y="724"/>
                  </a:lnTo>
                  <a:lnTo>
                    <a:pt x="652" y="652"/>
                  </a:lnTo>
                  <a:lnTo>
                    <a:pt x="724" y="582"/>
                  </a:lnTo>
                  <a:lnTo>
                    <a:pt x="800" y="518"/>
                  </a:lnTo>
                  <a:lnTo>
                    <a:pt x="879" y="456"/>
                  </a:lnTo>
                  <a:lnTo>
                    <a:pt x="960" y="398"/>
                  </a:lnTo>
                  <a:lnTo>
                    <a:pt x="1045" y="344"/>
                  </a:lnTo>
                  <a:lnTo>
                    <a:pt x="1132" y="293"/>
                  </a:lnTo>
                  <a:lnTo>
                    <a:pt x="1222" y="248"/>
                  </a:lnTo>
                  <a:lnTo>
                    <a:pt x="1314" y="206"/>
                  </a:lnTo>
                  <a:lnTo>
                    <a:pt x="1409" y="169"/>
                  </a:lnTo>
                  <a:lnTo>
                    <a:pt x="1505" y="135"/>
                  </a:lnTo>
                  <a:lnTo>
                    <a:pt x="1605" y="107"/>
                  </a:lnTo>
                  <a:lnTo>
                    <a:pt x="1705" y="85"/>
                  </a:lnTo>
                  <a:lnTo>
                    <a:pt x="1808" y="66"/>
                  </a:lnTo>
                  <a:lnTo>
                    <a:pt x="1912" y="53"/>
                  </a:lnTo>
                  <a:lnTo>
                    <a:pt x="2018" y="45"/>
                  </a:lnTo>
                  <a:lnTo>
                    <a:pt x="2125" y="42"/>
                  </a:lnTo>
                  <a:lnTo>
                    <a:pt x="2233" y="45"/>
                  </a:lnTo>
                  <a:lnTo>
                    <a:pt x="2339" y="53"/>
                  </a:lnTo>
                  <a:lnTo>
                    <a:pt x="2442" y="66"/>
                  </a:lnTo>
                  <a:lnTo>
                    <a:pt x="2545" y="85"/>
                  </a:lnTo>
                  <a:lnTo>
                    <a:pt x="2645" y="107"/>
                  </a:lnTo>
                  <a:lnTo>
                    <a:pt x="2745" y="135"/>
                  </a:lnTo>
                  <a:lnTo>
                    <a:pt x="2841" y="169"/>
                  </a:lnTo>
                  <a:lnTo>
                    <a:pt x="2936" y="206"/>
                  </a:lnTo>
                  <a:lnTo>
                    <a:pt x="3028" y="248"/>
                  </a:lnTo>
                  <a:lnTo>
                    <a:pt x="3118" y="293"/>
                  </a:lnTo>
                  <a:lnTo>
                    <a:pt x="3205" y="344"/>
                  </a:lnTo>
                  <a:lnTo>
                    <a:pt x="3289" y="398"/>
                  </a:lnTo>
                  <a:lnTo>
                    <a:pt x="3372" y="456"/>
                  </a:lnTo>
                  <a:lnTo>
                    <a:pt x="3450" y="518"/>
                  </a:lnTo>
                  <a:lnTo>
                    <a:pt x="3526" y="582"/>
                  </a:lnTo>
                  <a:lnTo>
                    <a:pt x="3598" y="652"/>
                  </a:lnTo>
                  <a:lnTo>
                    <a:pt x="3668" y="724"/>
                  </a:lnTo>
                  <a:lnTo>
                    <a:pt x="3732" y="800"/>
                  </a:lnTo>
                  <a:lnTo>
                    <a:pt x="3795" y="878"/>
                  </a:lnTo>
                  <a:lnTo>
                    <a:pt x="3852" y="960"/>
                  </a:lnTo>
                  <a:lnTo>
                    <a:pt x="3906" y="1045"/>
                  </a:lnTo>
                  <a:lnTo>
                    <a:pt x="3957" y="1132"/>
                  </a:lnTo>
                  <a:lnTo>
                    <a:pt x="4003" y="1222"/>
                  </a:lnTo>
                  <a:lnTo>
                    <a:pt x="4045" y="1314"/>
                  </a:lnTo>
                  <a:lnTo>
                    <a:pt x="4083" y="1409"/>
                  </a:lnTo>
                  <a:lnTo>
                    <a:pt x="4115" y="1505"/>
                  </a:lnTo>
                  <a:lnTo>
                    <a:pt x="4143" y="1604"/>
                  </a:lnTo>
                  <a:lnTo>
                    <a:pt x="4166" y="1705"/>
                  </a:lnTo>
                  <a:lnTo>
                    <a:pt x="4184" y="1807"/>
                  </a:lnTo>
                  <a:lnTo>
                    <a:pt x="4198" y="1912"/>
                  </a:lnTo>
                  <a:lnTo>
                    <a:pt x="4206" y="2018"/>
                  </a:lnTo>
                  <a:lnTo>
                    <a:pt x="4209" y="212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38600" y="2162160"/>
              <a:ext cx="1670040" cy="1670040"/>
            </a:xfrm>
            <a:custGeom>
              <a:avLst/>
              <a:gdLst/>
              <a:ahLst/>
              <a:rect l="l" t="t" r="r" b="b"/>
              <a:pathLst>
                <a:path w="4209" h="4206">
                  <a:moveTo>
                    <a:pt x="4209" y="2104"/>
                  </a:moveTo>
                  <a:lnTo>
                    <a:pt x="4205" y="1996"/>
                  </a:lnTo>
                  <a:lnTo>
                    <a:pt x="4198" y="1889"/>
                  </a:lnTo>
                  <a:lnTo>
                    <a:pt x="4184" y="1783"/>
                  </a:lnTo>
                  <a:lnTo>
                    <a:pt x="4165" y="1679"/>
                  </a:lnTo>
                  <a:lnTo>
                    <a:pt x="4143" y="1578"/>
                  </a:lnTo>
                  <a:lnTo>
                    <a:pt x="4113" y="1478"/>
                  </a:lnTo>
                  <a:lnTo>
                    <a:pt x="4081" y="1380"/>
                  </a:lnTo>
                  <a:lnTo>
                    <a:pt x="4043" y="1285"/>
                  </a:lnTo>
                  <a:lnTo>
                    <a:pt x="4001" y="1191"/>
                  </a:lnTo>
                  <a:lnTo>
                    <a:pt x="3955" y="1101"/>
                  </a:lnTo>
                  <a:lnTo>
                    <a:pt x="3904" y="1013"/>
                  </a:lnTo>
                  <a:lnTo>
                    <a:pt x="3849" y="928"/>
                  </a:lnTo>
                  <a:lnTo>
                    <a:pt x="3790" y="845"/>
                  </a:lnTo>
                  <a:lnTo>
                    <a:pt x="3728" y="766"/>
                  </a:lnTo>
                  <a:lnTo>
                    <a:pt x="3662" y="689"/>
                  </a:lnTo>
                  <a:lnTo>
                    <a:pt x="3592" y="617"/>
                  </a:lnTo>
                  <a:lnTo>
                    <a:pt x="3519" y="546"/>
                  </a:lnTo>
                  <a:lnTo>
                    <a:pt x="3442" y="480"/>
                  </a:lnTo>
                  <a:lnTo>
                    <a:pt x="3364" y="418"/>
                  </a:lnTo>
                  <a:lnTo>
                    <a:pt x="3280" y="359"/>
                  </a:lnTo>
                  <a:lnTo>
                    <a:pt x="3195" y="304"/>
                  </a:lnTo>
                  <a:lnTo>
                    <a:pt x="3107" y="254"/>
                  </a:lnTo>
                  <a:lnTo>
                    <a:pt x="3017" y="207"/>
                  </a:lnTo>
                  <a:lnTo>
                    <a:pt x="2923" y="165"/>
                  </a:lnTo>
                  <a:lnTo>
                    <a:pt x="2828" y="127"/>
                  </a:lnTo>
                  <a:lnTo>
                    <a:pt x="2730" y="95"/>
                  </a:lnTo>
                  <a:lnTo>
                    <a:pt x="2630" y="67"/>
                  </a:lnTo>
                  <a:lnTo>
                    <a:pt x="2528" y="43"/>
                  </a:lnTo>
                  <a:lnTo>
                    <a:pt x="2425" y="25"/>
                  </a:lnTo>
                  <a:lnTo>
                    <a:pt x="2320" y="11"/>
                  </a:lnTo>
                  <a:lnTo>
                    <a:pt x="2213" y="3"/>
                  </a:lnTo>
                  <a:lnTo>
                    <a:pt x="2104" y="0"/>
                  </a:lnTo>
                  <a:lnTo>
                    <a:pt x="1996" y="3"/>
                  </a:lnTo>
                  <a:lnTo>
                    <a:pt x="1889" y="11"/>
                  </a:lnTo>
                  <a:lnTo>
                    <a:pt x="1784" y="25"/>
                  </a:lnTo>
                  <a:lnTo>
                    <a:pt x="1680" y="43"/>
                  </a:lnTo>
                  <a:lnTo>
                    <a:pt x="1579" y="67"/>
                  </a:lnTo>
                  <a:lnTo>
                    <a:pt x="1478" y="95"/>
                  </a:lnTo>
                  <a:lnTo>
                    <a:pt x="1381" y="127"/>
                  </a:lnTo>
                  <a:lnTo>
                    <a:pt x="1285" y="165"/>
                  </a:lnTo>
                  <a:lnTo>
                    <a:pt x="1192" y="207"/>
                  </a:lnTo>
                  <a:lnTo>
                    <a:pt x="1101" y="254"/>
                  </a:lnTo>
                  <a:lnTo>
                    <a:pt x="1013" y="304"/>
                  </a:lnTo>
                  <a:lnTo>
                    <a:pt x="928" y="359"/>
                  </a:lnTo>
                  <a:lnTo>
                    <a:pt x="845" y="418"/>
                  </a:lnTo>
                  <a:lnTo>
                    <a:pt x="766" y="480"/>
                  </a:lnTo>
                  <a:lnTo>
                    <a:pt x="689" y="546"/>
                  </a:lnTo>
                  <a:lnTo>
                    <a:pt x="616" y="617"/>
                  </a:lnTo>
                  <a:lnTo>
                    <a:pt x="547" y="689"/>
                  </a:lnTo>
                  <a:lnTo>
                    <a:pt x="481" y="766"/>
                  </a:lnTo>
                  <a:lnTo>
                    <a:pt x="418" y="845"/>
                  </a:lnTo>
                  <a:lnTo>
                    <a:pt x="360" y="928"/>
                  </a:lnTo>
                  <a:lnTo>
                    <a:pt x="305" y="1013"/>
                  </a:lnTo>
                  <a:lnTo>
                    <a:pt x="254" y="1101"/>
                  </a:lnTo>
                  <a:lnTo>
                    <a:pt x="207" y="1191"/>
                  </a:lnTo>
                  <a:lnTo>
                    <a:pt x="165" y="1285"/>
                  </a:lnTo>
                  <a:lnTo>
                    <a:pt x="127" y="1380"/>
                  </a:lnTo>
                  <a:lnTo>
                    <a:pt x="95" y="1478"/>
                  </a:lnTo>
                  <a:lnTo>
                    <a:pt x="66" y="1578"/>
                  </a:lnTo>
                  <a:lnTo>
                    <a:pt x="43" y="1679"/>
                  </a:lnTo>
                  <a:lnTo>
                    <a:pt x="24" y="1783"/>
                  </a:lnTo>
                  <a:lnTo>
                    <a:pt x="11" y="1889"/>
                  </a:lnTo>
                  <a:lnTo>
                    <a:pt x="3" y="1996"/>
                  </a:lnTo>
                  <a:lnTo>
                    <a:pt x="0" y="2104"/>
                  </a:lnTo>
                  <a:lnTo>
                    <a:pt x="3" y="2212"/>
                  </a:lnTo>
                  <a:lnTo>
                    <a:pt x="11" y="2319"/>
                  </a:lnTo>
                  <a:lnTo>
                    <a:pt x="24" y="2423"/>
                  </a:lnTo>
                  <a:lnTo>
                    <a:pt x="43" y="2527"/>
                  </a:lnTo>
                  <a:lnTo>
                    <a:pt x="66" y="2629"/>
                  </a:lnTo>
                  <a:lnTo>
                    <a:pt x="95" y="2729"/>
                  </a:lnTo>
                  <a:lnTo>
                    <a:pt x="127" y="2826"/>
                  </a:lnTo>
                  <a:lnTo>
                    <a:pt x="165" y="2922"/>
                  </a:lnTo>
                  <a:lnTo>
                    <a:pt x="207" y="3015"/>
                  </a:lnTo>
                  <a:lnTo>
                    <a:pt x="254" y="3106"/>
                  </a:lnTo>
                  <a:lnTo>
                    <a:pt x="305" y="3194"/>
                  </a:lnTo>
                  <a:lnTo>
                    <a:pt x="360" y="3280"/>
                  </a:lnTo>
                  <a:lnTo>
                    <a:pt x="418" y="3362"/>
                  </a:lnTo>
                  <a:lnTo>
                    <a:pt x="481" y="3442"/>
                  </a:lnTo>
                  <a:lnTo>
                    <a:pt x="547" y="3517"/>
                  </a:lnTo>
                  <a:lnTo>
                    <a:pt x="616" y="3591"/>
                  </a:lnTo>
                  <a:lnTo>
                    <a:pt x="689" y="3660"/>
                  </a:lnTo>
                  <a:lnTo>
                    <a:pt x="766" y="3727"/>
                  </a:lnTo>
                  <a:lnTo>
                    <a:pt x="845" y="3788"/>
                  </a:lnTo>
                  <a:lnTo>
                    <a:pt x="928" y="3848"/>
                  </a:lnTo>
                  <a:lnTo>
                    <a:pt x="1013" y="3902"/>
                  </a:lnTo>
                  <a:lnTo>
                    <a:pt x="1101" y="3953"/>
                  </a:lnTo>
                  <a:lnTo>
                    <a:pt x="1192" y="3999"/>
                  </a:lnTo>
                  <a:lnTo>
                    <a:pt x="1285" y="4041"/>
                  </a:lnTo>
                  <a:lnTo>
                    <a:pt x="1381" y="4079"/>
                  </a:lnTo>
                  <a:lnTo>
                    <a:pt x="1478" y="4112"/>
                  </a:lnTo>
                  <a:lnTo>
                    <a:pt x="1579" y="4141"/>
                  </a:lnTo>
                  <a:lnTo>
                    <a:pt x="1680" y="4164"/>
                  </a:lnTo>
                  <a:lnTo>
                    <a:pt x="1784" y="4183"/>
                  </a:lnTo>
                  <a:lnTo>
                    <a:pt x="1889" y="4196"/>
                  </a:lnTo>
                  <a:lnTo>
                    <a:pt x="1996" y="4204"/>
                  </a:lnTo>
                  <a:lnTo>
                    <a:pt x="2104" y="4206"/>
                  </a:lnTo>
                  <a:lnTo>
                    <a:pt x="2213" y="4204"/>
                  </a:lnTo>
                  <a:lnTo>
                    <a:pt x="2320" y="4196"/>
                  </a:lnTo>
                  <a:lnTo>
                    <a:pt x="2425" y="4183"/>
                  </a:lnTo>
                  <a:lnTo>
                    <a:pt x="2528" y="4164"/>
                  </a:lnTo>
                  <a:lnTo>
                    <a:pt x="2630" y="4141"/>
                  </a:lnTo>
                  <a:lnTo>
                    <a:pt x="2730" y="4112"/>
                  </a:lnTo>
                  <a:lnTo>
                    <a:pt x="2828" y="4079"/>
                  </a:lnTo>
                  <a:lnTo>
                    <a:pt x="2923" y="4041"/>
                  </a:lnTo>
                  <a:lnTo>
                    <a:pt x="3017" y="3999"/>
                  </a:lnTo>
                  <a:lnTo>
                    <a:pt x="3107" y="3953"/>
                  </a:lnTo>
                  <a:lnTo>
                    <a:pt x="3195" y="3902"/>
                  </a:lnTo>
                  <a:lnTo>
                    <a:pt x="3280" y="3848"/>
                  </a:lnTo>
                  <a:lnTo>
                    <a:pt x="3364" y="3788"/>
                  </a:lnTo>
                  <a:lnTo>
                    <a:pt x="3442" y="3727"/>
                  </a:lnTo>
                  <a:lnTo>
                    <a:pt x="3519" y="3660"/>
                  </a:lnTo>
                  <a:lnTo>
                    <a:pt x="3592" y="3591"/>
                  </a:lnTo>
                  <a:lnTo>
                    <a:pt x="3662" y="3517"/>
                  </a:lnTo>
                  <a:lnTo>
                    <a:pt x="3728" y="3442"/>
                  </a:lnTo>
                  <a:lnTo>
                    <a:pt x="3790" y="3362"/>
                  </a:lnTo>
                  <a:lnTo>
                    <a:pt x="3849" y="3280"/>
                  </a:lnTo>
                  <a:lnTo>
                    <a:pt x="3904" y="3194"/>
                  </a:lnTo>
                  <a:lnTo>
                    <a:pt x="3955" y="3106"/>
                  </a:lnTo>
                  <a:lnTo>
                    <a:pt x="4001" y="3015"/>
                  </a:lnTo>
                  <a:lnTo>
                    <a:pt x="4043" y="2922"/>
                  </a:lnTo>
                  <a:lnTo>
                    <a:pt x="4081" y="2826"/>
                  </a:lnTo>
                  <a:lnTo>
                    <a:pt x="4113" y="2729"/>
                  </a:lnTo>
                  <a:lnTo>
                    <a:pt x="4143" y="2629"/>
                  </a:lnTo>
                  <a:lnTo>
                    <a:pt x="4165" y="2527"/>
                  </a:lnTo>
                  <a:lnTo>
                    <a:pt x="4184" y="2423"/>
                  </a:lnTo>
                  <a:lnTo>
                    <a:pt x="4198" y="2319"/>
                  </a:lnTo>
                  <a:lnTo>
                    <a:pt x="4205" y="2212"/>
                  </a:lnTo>
                  <a:lnTo>
                    <a:pt x="4209" y="2104"/>
                  </a:lnTo>
                  <a:close/>
                  <a:moveTo>
                    <a:pt x="4166" y="2104"/>
                  </a:moveTo>
                  <a:lnTo>
                    <a:pt x="4164" y="2210"/>
                  </a:lnTo>
                  <a:lnTo>
                    <a:pt x="4156" y="2314"/>
                  </a:lnTo>
                  <a:lnTo>
                    <a:pt x="4143" y="2417"/>
                  </a:lnTo>
                  <a:lnTo>
                    <a:pt x="4125" y="2518"/>
                  </a:lnTo>
                  <a:lnTo>
                    <a:pt x="4102" y="2619"/>
                  </a:lnTo>
                  <a:lnTo>
                    <a:pt x="4075" y="2716"/>
                  </a:lnTo>
                  <a:lnTo>
                    <a:pt x="4041" y="2812"/>
                  </a:lnTo>
                  <a:lnTo>
                    <a:pt x="4004" y="2906"/>
                  </a:lnTo>
                  <a:lnTo>
                    <a:pt x="3963" y="2997"/>
                  </a:lnTo>
                  <a:lnTo>
                    <a:pt x="3918" y="3086"/>
                  </a:lnTo>
                  <a:lnTo>
                    <a:pt x="3868" y="3173"/>
                  </a:lnTo>
                  <a:lnTo>
                    <a:pt x="3814" y="3256"/>
                  </a:lnTo>
                  <a:lnTo>
                    <a:pt x="3757" y="3337"/>
                  </a:lnTo>
                  <a:lnTo>
                    <a:pt x="3695" y="3415"/>
                  </a:lnTo>
                  <a:lnTo>
                    <a:pt x="3630" y="3489"/>
                  </a:lnTo>
                  <a:lnTo>
                    <a:pt x="3562" y="3562"/>
                  </a:lnTo>
                  <a:lnTo>
                    <a:pt x="3491" y="3630"/>
                  </a:lnTo>
                  <a:lnTo>
                    <a:pt x="3416" y="3695"/>
                  </a:lnTo>
                  <a:lnTo>
                    <a:pt x="3339" y="3755"/>
                  </a:lnTo>
                  <a:lnTo>
                    <a:pt x="3258" y="3813"/>
                  </a:lnTo>
                  <a:lnTo>
                    <a:pt x="3173" y="3866"/>
                  </a:lnTo>
                  <a:lnTo>
                    <a:pt x="3087" y="3916"/>
                  </a:lnTo>
                  <a:lnTo>
                    <a:pt x="2998" y="3961"/>
                  </a:lnTo>
                  <a:lnTo>
                    <a:pt x="2906" y="4003"/>
                  </a:lnTo>
                  <a:lnTo>
                    <a:pt x="2814" y="4040"/>
                  </a:lnTo>
                  <a:lnTo>
                    <a:pt x="2717" y="4073"/>
                  </a:lnTo>
                  <a:lnTo>
                    <a:pt x="2619" y="4101"/>
                  </a:lnTo>
                  <a:lnTo>
                    <a:pt x="2520" y="4123"/>
                  </a:lnTo>
                  <a:lnTo>
                    <a:pt x="2418" y="4142"/>
                  </a:lnTo>
                  <a:lnTo>
                    <a:pt x="2315" y="4155"/>
                  </a:lnTo>
                  <a:lnTo>
                    <a:pt x="2211" y="4162"/>
                  </a:lnTo>
                  <a:lnTo>
                    <a:pt x="2104" y="4165"/>
                  </a:lnTo>
                  <a:lnTo>
                    <a:pt x="1998" y="4162"/>
                  </a:lnTo>
                  <a:lnTo>
                    <a:pt x="1893" y="4155"/>
                  </a:lnTo>
                  <a:lnTo>
                    <a:pt x="1790" y="4142"/>
                  </a:lnTo>
                  <a:lnTo>
                    <a:pt x="1689" y="4123"/>
                  </a:lnTo>
                  <a:lnTo>
                    <a:pt x="1588" y="4101"/>
                  </a:lnTo>
                  <a:lnTo>
                    <a:pt x="1491" y="4073"/>
                  </a:lnTo>
                  <a:lnTo>
                    <a:pt x="1395" y="4040"/>
                  </a:lnTo>
                  <a:lnTo>
                    <a:pt x="1302" y="4003"/>
                  </a:lnTo>
                  <a:lnTo>
                    <a:pt x="1210" y="3961"/>
                  </a:lnTo>
                  <a:lnTo>
                    <a:pt x="1121" y="3916"/>
                  </a:lnTo>
                  <a:lnTo>
                    <a:pt x="1035" y="3866"/>
                  </a:lnTo>
                  <a:lnTo>
                    <a:pt x="951" y="3813"/>
                  </a:lnTo>
                  <a:lnTo>
                    <a:pt x="870" y="3755"/>
                  </a:lnTo>
                  <a:lnTo>
                    <a:pt x="792" y="3695"/>
                  </a:lnTo>
                  <a:lnTo>
                    <a:pt x="717" y="3630"/>
                  </a:lnTo>
                  <a:lnTo>
                    <a:pt x="646" y="3562"/>
                  </a:lnTo>
                  <a:lnTo>
                    <a:pt x="578" y="3489"/>
                  </a:lnTo>
                  <a:lnTo>
                    <a:pt x="513" y="3415"/>
                  </a:lnTo>
                  <a:lnTo>
                    <a:pt x="452" y="3337"/>
                  </a:lnTo>
                  <a:lnTo>
                    <a:pt x="394" y="3256"/>
                  </a:lnTo>
                  <a:lnTo>
                    <a:pt x="340" y="3173"/>
                  </a:lnTo>
                  <a:lnTo>
                    <a:pt x="291" y="3086"/>
                  </a:lnTo>
                  <a:lnTo>
                    <a:pt x="245" y="2997"/>
                  </a:lnTo>
                  <a:lnTo>
                    <a:pt x="204" y="2906"/>
                  </a:lnTo>
                  <a:lnTo>
                    <a:pt x="166" y="2812"/>
                  </a:lnTo>
                  <a:lnTo>
                    <a:pt x="134" y="2716"/>
                  </a:lnTo>
                  <a:lnTo>
                    <a:pt x="107" y="2619"/>
                  </a:lnTo>
                  <a:lnTo>
                    <a:pt x="83" y="2518"/>
                  </a:lnTo>
                  <a:lnTo>
                    <a:pt x="66" y="2417"/>
                  </a:lnTo>
                  <a:lnTo>
                    <a:pt x="52" y="2314"/>
                  </a:lnTo>
                  <a:lnTo>
                    <a:pt x="44" y="2210"/>
                  </a:lnTo>
                  <a:lnTo>
                    <a:pt x="42" y="2104"/>
                  </a:lnTo>
                  <a:lnTo>
                    <a:pt x="44" y="1998"/>
                  </a:lnTo>
                  <a:lnTo>
                    <a:pt x="52" y="1893"/>
                  </a:lnTo>
                  <a:lnTo>
                    <a:pt x="66" y="1789"/>
                  </a:lnTo>
                  <a:lnTo>
                    <a:pt x="83" y="1688"/>
                  </a:lnTo>
                  <a:lnTo>
                    <a:pt x="107" y="1589"/>
                  </a:lnTo>
                  <a:lnTo>
                    <a:pt x="134" y="1490"/>
                  </a:lnTo>
                  <a:lnTo>
                    <a:pt x="166" y="1394"/>
                  </a:lnTo>
                  <a:lnTo>
                    <a:pt x="204" y="1301"/>
                  </a:lnTo>
                  <a:lnTo>
                    <a:pt x="245" y="1209"/>
                  </a:lnTo>
                  <a:lnTo>
                    <a:pt x="291" y="1121"/>
                  </a:lnTo>
                  <a:lnTo>
                    <a:pt x="340" y="1034"/>
                  </a:lnTo>
                  <a:lnTo>
                    <a:pt x="394" y="951"/>
                  </a:lnTo>
                  <a:lnTo>
                    <a:pt x="452" y="870"/>
                  </a:lnTo>
                  <a:lnTo>
                    <a:pt x="513" y="793"/>
                  </a:lnTo>
                  <a:lnTo>
                    <a:pt x="578" y="717"/>
                  </a:lnTo>
                  <a:lnTo>
                    <a:pt x="646" y="646"/>
                  </a:lnTo>
                  <a:lnTo>
                    <a:pt x="717" y="578"/>
                  </a:lnTo>
                  <a:lnTo>
                    <a:pt x="792" y="513"/>
                  </a:lnTo>
                  <a:lnTo>
                    <a:pt x="870" y="451"/>
                  </a:lnTo>
                  <a:lnTo>
                    <a:pt x="951" y="394"/>
                  </a:lnTo>
                  <a:lnTo>
                    <a:pt x="1035" y="340"/>
                  </a:lnTo>
                  <a:lnTo>
                    <a:pt x="1121" y="290"/>
                  </a:lnTo>
                  <a:lnTo>
                    <a:pt x="1210" y="245"/>
                  </a:lnTo>
                  <a:lnTo>
                    <a:pt x="1302" y="204"/>
                  </a:lnTo>
                  <a:lnTo>
                    <a:pt x="1395" y="167"/>
                  </a:lnTo>
                  <a:lnTo>
                    <a:pt x="1491" y="135"/>
                  </a:lnTo>
                  <a:lnTo>
                    <a:pt x="1588" y="107"/>
                  </a:lnTo>
                  <a:lnTo>
                    <a:pt x="1689" y="84"/>
                  </a:lnTo>
                  <a:lnTo>
                    <a:pt x="1790" y="66"/>
                  </a:lnTo>
                  <a:lnTo>
                    <a:pt x="1893" y="53"/>
                  </a:lnTo>
                  <a:lnTo>
                    <a:pt x="1998" y="44"/>
                  </a:lnTo>
                  <a:lnTo>
                    <a:pt x="2104" y="42"/>
                  </a:lnTo>
                  <a:lnTo>
                    <a:pt x="2211" y="44"/>
                  </a:lnTo>
                  <a:lnTo>
                    <a:pt x="2315" y="53"/>
                  </a:lnTo>
                  <a:lnTo>
                    <a:pt x="2418" y="66"/>
                  </a:lnTo>
                  <a:lnTo>
                    <a:pt x="2520" y="84"/>
                  </a:lnTo>
                  <a:lnTo>
                    <a:pt x="2619" y="107"/>
                  </a:lnTo>
                  <a:lnTo>
                    <a:pt x="2717" y="135"/>
                  </a:lnTo>
                  <a:lnTo>
                    <a:pt x="2814" y="167"/>
                  </a:lnTo>
                  <a:lnTo>
                    <a:pt x="2906" y="204"/>
                  </a:lnTo>
                  <a:lnTo>
                    <a:pt x="2998" y="245"/>
                  </a:lnTo>
                  <a:lnTo>
                    <a:pt x="3087" y="290"/>
                  </a:lnTo>
                  <a:lnTo>
                    <a:pt x="3173" y="340"/>
                  </a:lnTo>
                  <a:lnTo>
                    <a:pt x="3258" y="394"/>
                  </a:lnTo>
                  <a:lnTo>
                    <a:pt x="3339" y="451"/>
                  </a:lnTo>
                  <a:lnTo>
                    <a:pt x="3416" y="513"/>
                  </a:lnTo>
                  <a:lnTo>
                    <a:pt x="3491" y="578"/>
                  </a:lnTo>
                  <a:lnTo>
                    <a:pt x="3562" y="646"/>
                  </a:lnTo>
                  <a:lnTo>
                    <a:pt x="3630" y="717"/>
                  </a:lnTo>
                  <a:lnTo>
                    <a:pt x="3695" y="793"/>
                  </a:lnTo>
                  <a:lnTo>
                    <a:pt x="3757" y="870"/>
                  </a:lnTo>
                  <a:lnTo>
                    <a:pt x="3814" y="951"/>
                  </a:lnTo>
                  <a:lnTo>
                    <a:pt x="3868" y="1034"/>
                  </a:lnTo>
                  <a:lnTo>
                    <a:pt x="3918" y="1121"/>
                  </a:lnTo>
                  <a:lnTo>
                    <a:pt x="3963" y="1209"/>
                  </a:lnTo>
                  <a:lnTo>
                    <a:pt x="4004" y="1301"/>
                  </a:lnTo>
                  <a:lnTo>
                    <a:pt x="4041" y="1394"/>
                  </a:lnTo>
                  <a:lnTo>
                    <a:pt x="4075" y="1490"/>
                  </a:lnTo>
                  <a:lnTo>
                    <a:pt x="4102" y="1589"/>
                  </a:lnTo>
                  <a:lnTo>
                    <a:pt x="4125" y="1688"/>
                  </a:lnTo>
                  <a:lnTo>
                    <a:pt x="4143" y="1789"/>
                  </a:lnTo>
                  <a:lnTo>
                    <a:pt x="4156" y="1893"/>
                  </a:lnTo>
                  <a:lnTo>
                    <a:pt x="4164" y="1998"/>
                  </a:lnTo>
                  <a:lnTo>
                    <a:pt x="4166" y="2104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46520" y="2171520"/>
              <a:ext cx="1654200" cy="1652760"/>
            </a:xfrm>
            <a:custGeom>
              <a:avLst/>
              <a:gdLst/>
              <a:ahLst/>
              <a:rect l="l" t="t" r="r" b="b"/>
              <a:pathLst>
                <a:path w="4168" h="4165">
                  <a:moveTo>
                    <a:pt x="4168" y="2083"/>
                  </a:moveTo>
                  <a:lnTo>
                    <a:pt x="4165" y="1976"/>
                  </a:lnTo>
                  <a:lnTo>
                    <a:pt x="4157" y="1870"/>
                  </a:lnTo>
                  <a:lnTo>
                    <a:pt x="4143" y="1765"/>
                  </a:lnTo>
                  <a:lnTo>
                    <a:pt x="4125" y="1663"/>
                  </a:lnTo>
                  <a:lnTo>
                    <a:pt x="4102" y="1562"/>
                  </a:lnTo>
                  <a:lnTo>
                    <a:pt x="4074" y="1463"/>
                  </a:lnTo>
                  <a:lnTo>
                    <a:pt x="4042" y="1367"/>
                  </a:lnTo>
                  <a:lnTo>
                    <a:pt x="4004" y="1272"/>
                  </a:lnTo>
                  <a:lnTo>
                    <a:pt x="3962" y="1180"/>
                  </a:lnTo>
                  <a:lnTo>
                    <a:pt x="3916" y="1090"/>
                  </a:lnTo>
                  <a:lnTo>
                    <a:pt x="3865" y="1003"/>
                  </a:lnTo>
                  <a:lnTo>
                    <a:pt x="3811" y="918"/>
                  </a:lnTo>
                  <a:lnTo>
                    <a:pt x="3754" y="836"/>
                  </a:lnTo>
                  <a:lnTo>
                    <a:pt x="3691" y="758"/>
                  </a:lnTo>
                  <a:lnTo>
                    <a:pt x="3627" y="682"/>
                  </a:lnTo>
                  <a:lnTo>
                    <a:pt x="3557" y="610"/>
                  </a:lnTo>
                  <a:lnTo>
                    <a:pt x="3485" y="540"/>
                  </a:lnTo>
                  <a:lnTo>
                    <a:pt x="3409" y="476"/>
                  </a:lnTo>
                  <a:lnTo>
                    <a:pt x="3331" y="414"/>
                  </a:lnTo>
                  <a:lnTo>
                    <a:pt x="3248" y="356"/>
                  </a:lnTo>
                  <a:lnTo>
                    <a:pt x="3164" y="302"/>
                  </a:lnTo>
                  <a:lnTo>
                    <a:pt x="3077" y="251"/>
                  </a:lnTo>
                  <a:lnTo>
                    <a:pt x="2987" y="206"/>
                  </a:lnTo>
                  <a:lnTo>
                    <a:pt x="2895" y="164"/>
                  </a:lnTo>
                  <a:lnTo>
                    <a:pt x="2800" y="127"/>
                  </a:lnTo>
                  <a:lnTo>
                    <a:pt x="2704" y="93"/>
                  </a:lnTo>
                  <a:lnTo>
                    <a:pt x="2604" y="65"/>
                  </a:lnTo>
                  <a:lnTo>
                    <a:pt x="2504" y="43"/>
                  </a:lnTo>
                  <a:lnTo>
                    <a:pt x="2401" y="24"/>
                  </a:lnTo>
                  <a:lnTo>
                    <a:pt x="2298" y="11"/>
                  </a:lnTo>
                  <a:lnTo>
                    <a:pt x="2192" y="3"/>
                  </a:lnTo>
                  <a:lnTo>
                    <a:pt x="2084" y="0"/>
                  </a:lnTo>
                  <a:lnTo>
                    <a:pt x="1977" y="3"/>
                  </a:lnTo>
                  <a:lnTo>
                    <a:pt x="1871" y="11"/>
                  </a:lnTo>
                  <a:lnTo>
                    <a:pt x="1767" y="24"/>
                  </a:lnTo>
                  <a:lnTo>
                    <a:pt x="1664" y="43"/>
                  </a:lnTo>
                  <a:lnTo>
                    <a:pt x="1564" y="65"/>
                  </a:lnTo>
                  <a:lnTo>
                    <a:pt x="1464" y="93"/>
                  </a:lnTo>
                  <a:lnTo>
                    <a:pt x="1368" y="127"/>
                  </a:lnTo>
                  <a:lnTo>
                    <a:pt x="1273" y="164"/>
                  </a:lnTo>
                  <a:lnTo>
                    <a:pt x="1181" y="206"/>
                  </a:lnTo>
                  <a:lnTo>
                    <a:pt x="1091" y="251"/>
                  </a:lnTo>
                  <a:lnTo>
                    <a:pt x="1004" y="302"/>
                  </a:lnTo>
                  <a:lnTo>
                    <a:pt x="919" y="356"/>
                  </a:lnTo>
                  <a:lnTo>
                    <a:pt x="838" y="414"/>
                  </a:lnTo>
                  <a:lnTo>
                    <a:pt x="759" y="476"/>
                  </a:lnTo>
                  <a:lnTo>
                    <a:pt x="683" y="540"/>
                  </a:lnTo>
                  <a:lnTo>
                    <a:pt x="611" y="610"/>
                  </a:lnTo>
                  <a:lnTo>
                    <a:pt x="542" y="682"/>
                  </a:lnTo>
                  <a:lnTo>
                    <a:pt x="477" y="758"/>
                  </a:lnTo>
                  <a:lnTo>
                    <a:pt x="414" y="836"/>
                  </a:lnTo>
                  <a:lnTo>
                    <a:pt x="357" y="918"/>
                  </a:lnTo>
                  <a:lnTo>
                    <a:pt x="302" y="1003"/>
                  </a:lnTo>
                  <a:lnTo>
                    <a:pt x="252" y="1090"/>
                  </a:lnTo>
                  <a:lnTo>
                    <a:pt x="206" y="1180"/>
                  </a:lnTo>
                  <a:lnTo>
                    <a:pt x="165" y="1272"/>
                  </a:lnTo>
                  <a:lnTo>
                    <a:pt x="127" y="1367"/>
                  </a:lnTo>
                  <a:lnTo>
                    <a:pt x="94" y="1463"/>
                  </a:lnTo>
                  <a:lnTo>
                    <a:pt x="66" y="1562"/>
                  </a:lnTo>
                  <a:lnTo>
                    <a:pt x="44" y="1663"/>
                  </a:lnTo>
                  <a:lnTo>
                    <a:pt x="25" y="1765"/>
                  </a:lnTo>
                  <a:lnTo>
                    <a:pt x="11" y="1870"/>
                  </a:lnTo>
                  <a:lnTo>
                    <a:pt x="4" y="1976"/>
                  </a:lnTo>
                  <a:lnTo>
                    <a:pt x="0" y="2083"/>
                  </a:lnTo>
                  <a:lnTo>
                    <a:pt x="4" y="2190"/>
                  </a:lnTo>
                  <a:lnTo>
                    <a:pt x="11" y="2295"/>
                  </a:lnTo>
                  <a:lnTo>
                    <a:pt x="25" y="2399"/>
                  </a:lnTo>
                  <a:lnTo>
                    <a:pt x="44" y="2502"/>
                  </a:lnTo>
                  <a:lnTo>
                    <a:pt x="66" y="2603"/>
                  </a:lnTo>
                  <a:lnTo>
                    <a:pt x="94" y="2702"/>
                  </a:lnTo>
                  <a:lnTo>
                    <a:pt x="127" y="2799"/>
                  </a:lnTo>
                  <a:lnTo>
                    <a:pt x="165" y="2893"/>
                  </a:lnTo>
                  <a:lnTo>
                    <a:pt x="206" y="2986"/>
                  </a:lnTo>
                  <a:lnTo>
                    <a:pt x="252" y="3075"/>
                  </a:lnTo>
                  <a:lnTo>
                    <a:pt x="302" y="3163"/>
                  </a:lnTo>
                  <a:lnTo>
                    <a:pt x="357" y="3247"/>
                  </a:lnTo>
                  <a:lnTo>
                    <a:pt x="414" y="3328"/>
                  </a:lnTo>
                  <a:lnTo>
                    <a:pt x="477" y="3407"/>
                  </a:lnTo>
                  <a:lnTo>
                    <a:pt x="542" y="3482"/>
                  </a:lnTo>
                  <a:lnTo>
                    <a:pt x="611" y="3555"/>
                  </a:lnTo>
                  <a:lnTo>
                    <a:pt x="683" y="3624"/>
                  </a:lnTo>
                  <a:lnTo>
                    <a:pt x="759" y="3690"/>
                  </a:lnTo>
                  <a:lnTo>
                    <a:pt x="838" y="3751"/>
                  </a:lnTo>
                  <a:lnTo>
                    <a:pt x="919" y="3810"/>
                  </a:lnTo>
                  <a:lnTo>
                    <a:pt x="1004" y="3864"/>
                  </a:lnTo>
                  <a:lnTo>
                    <a:pt x="1091" y="3913"/>
                  </a:lnTo>
                  <a:lnTo>
                    <a:pt x="1181" y="3960"/>
                  </a:lnTo>
                  <a:lnTo>
                    <a:pt x="1273" y="4001"/>
                  </a:lnTo>
                  <a:lnTo>
                    <a:pt x="1368" y="4039"/>
                  </a:lnTo>
                  <a:lnTo>
                    <a:pt x="1464" y="4071"/>
                  </a:lnTo>
                  <a:lnTo>
                    <a:pt x="1564" y="4099"/>
                  </a:lnTo>
                  <a:lnTo>
                    <a:pt x="1664" y="4123"/>
                  </a:lnTo>
                  <a:lnTo>
                    <a:pt x="1767" y="4141"/>
                  </a:lnTo>
                  <a:lnTo>
                    <a:pt x="1871" y="4154"/>
                  </a:lnTo>
                  <a:lnTo>
                    <a:pt x="1977" y="4162"/>
                  </a:lnTo>
                  <a:lnTo>
                    <a:pt x="2084" y="4165"/>
                  </a:lnTo>
                  <a:lnTo>
                    <a:pt x="2192" y="4162"/>
                  </a:lnTo>
                  <a:lnTo>
                    <a:pt x="2298" y="4154"/>
                  </a:lnTo>
                  <a:lnTo>
                    <a:pt x="2401" y="4141"/>
                  </a:lnTo>
                  <a:lnTo>
                    <a:pt x="2504" y="4123"/>
                  </a:lnTo>
                  <a:lnTo>
                    <a:pt x="2604" y="4099"/>
                  </a:lnTo>
                  <a:lnTo>
                    <a:pt x="2704" y="4071"/>
                  </a:lnTo>
                  <a:lnTo>
                    <a:pt x="2800" y="4039"/>
                  </a:lnTo>
                  <a:lnTo>
                    <a:pt x="2895" y="4001"/>
                  </a:lnTo>
                  <a:lnTo>
                    <a:pt x="2987" y="3960"/>
                  </a:lnTo>
                  <a:lnTo>
                    <a:pt x="3077" y="3913"/>
                  </a:lnTo>
                  <a:lnTo>
                    <a:pt x="3164" y="3864"/>
                  </a:lnTo>
                  <a:lnTo>
                    <a:pt x="3248" y="3810"/>
                  </a:lnTo>
                  <a:lnTo>
                    <a:pt x="3331" y="3751"/>
                  </a:lnTo>
                  <a:lnTo>
                    <a:pt x="3409" y="3690"/>
                  </a:lnTo>
                  <a:lnTo>
                    <a:pt x="3485" y="3624"/>
                  </a:lnTo>
                  <a:lnTo>
                    <a:pt x="3557" y="3555"/>
                  </a:lnTo>
                  <a:lnTo>
                    <a:pt x="3627" y="3482"/>
                  </a:lnTo>
                  <a:lnTo>
                    <a:pt x="3691" y="3407"/>
                  </a:lnTo>
                  <a:lnTo>
                    <a:pt x="3754" y="3328"/>
                  </a:lnTo>
                  <a:lnTo>
                    <a:pt x="3811" y="3247"/>
                  </a:lnTo>
                  <a:lnTo>
                    <a:pt x="3865" y="3163"/>
                  </a:lnTo>
                  <a:lnTo>
                    <a:pt x="3916" y="3075"/>
                  </a:lnTo>
                  <a:lnTo>
                    <a:pt x="3962" y="2986"/>
                  </a:lnTo>
                  <a:lnTo>
                    <a:pt x="4004" y="2893"/>
                  </a:lnTo>
                  <a:lnTo>
                    <a:pt x="4042" y="2799"/>
                  </a:lnTo>
                  <a:lnTo>
                    <a:pt x="4074" y="2702"/>
                  </a:lnTo>
                  <a:lnTo>
                    <a:pt x="4102" y="2603"/>
                  </a:lnTo>
                  <a:lnTo>
                    <a:pt x="4125" y="2502"/>
                  </a:lnTo>
                  <a:lnTo>
                    <a:pt x="4143" y="2399"/>
                  </a:lnTo>
                  <a:lnTo>
                    <a:pt x="4157" y="2295"/>
                  </a:lnTo>
                  <a:lnTo>
                    <a:pt x="4165" y="2190"/>
                  </a:lnTo>
                  <a:lnTo>
                    <a:pt x="4168" y="2083"/>
                  </a:lnTo>
                  <a:close/>
                  <a:moveTo>
                    <a:pt x="4126" y="2083"/>
                  </a:moveTo>
                  <a:lnTo>
                    <a:pt x="4124" y="2187"/>
                  </a:lnTo>
                  <a:lnTo>
                    <a:pt x="4115" y="2291"/>
                  </a:lnTo>
                  <a:lnTo>
                    <a:pt x="4102" y="2394"/>
                  </a:lnTo>
                  <a:lnTo>
                    <a:pt x="4085" y="2494"/>
                  </a:lnTo>
                  <a:lnTo>
                    <a:pt x="4062" y="2592"/>
                  </a:lnTo>
                  <a:lnTo>
                    <a:pt x="4034" y="2690"/>
                  </a:lnTo>
                  <a:lnTo>
                    <a:pt x="4002" y="2784"/>
                  </a:lnTo>
                  <a:lnTo>
                    <a:pt x="3966" y="2876"/>
                  </a:lnTo>
                  <a:lnTo>
                    <a:pt x="3925" y="2967"/>
                  </a:lnTo>
                  <a:lnTo>
                    <a:pt x="3879" y="3055"/>
                  </a:lnTo>
                  <a:lnTo>
                    <a:pt x="3830" y="3141"/>
                  </a:lnTo>
                  <a:lnTo>
                    <a:pt x="3777" y="3223"/>
                  </a:lnTo>
                  <a:lnTo>
                    <a:pt x="3721" y="3303"/>
                  </a:lnTo>
                  <a:lnTo>
                    <a:pt x="3660" y="3381"/>
                  </a:lnTo>
                  <a:lnTo>
                    <a:pt x="3595" y="3454"/>
                  </a:lnTo>
                  <a:lnTo>
                    <a:pt x="3528" y="3526"/>
                  </a:lnTo>
                  <a:lnTo>
                    <a:pt x="3457" y="3593"/>
                  </a:lnTo>
                  <a:lnTo>
                    <a:pt x="3382" y="3657"/>
                  </a:lnTo>
                  <a:lnTo>
                    <a:pt x="3306" y="3718"/>
                  </a:lnTo>
                  <a:lnTo>
                    <a:pt x="3226" y="3775"/>
                  </a:lnTo>
                  <a:lnTo>
                    <a:pt x="3143" y="3828"/>
                  </a:lnTo>
                  <a:lnTo>
                    <a:pt x="3057" y="3877"/>
                  </a:lnTo>
                  <a:lnTo>
                    <a:pt x="2970" y="3922"/>
                  </a:lnTo>
                  <a:lnTo>
                    <a:pt x="2879" y="3963"/>
                  </a:lnTo>
                  <a:lnTo>
                    <a:pt x="2786" y="4000"/>
                  </a:lnTo>
                  <a:lnTo>
                    <a:pt x="2691" y="4031"/>
                  </a:lnTo>
                  <a:lnTo>
                    <a:pt x="2595" y="4059"/>
                  </a:lnTo>
                  <a:lnTo>
                    <a:pt x="2495" y="4082"/>
                  </a:lnTo>
                  <a:lnTo>
                    <a:pt x="2395" y="4100"/>
                  </a:lnTo>
                  <a:lnTo>
                    <a:pt x="2293" y="4113"/>
                  </a:lnTo>
                  <a:lnTo>
                    <a:pt x="2190" y="4121"/>
                  </a:lnTo>
                  <a:lnTo>
                    <a:pt x="2084" y="4123"/>
                  </a:lnTo>
                  <a:lnTo>
                    <a:pt x="1979" y="4121"/>
                  </a:lnTo>
                  <a:lnTo>
                    <a:pt x="1875" y="4113"/>
                  </a:lnTo>
                  <a:lnTo>
                    <a:pt x="1774" y="4100"/>
                  </a:lnTo>
                  <a:lnTo>
                    <a:pt x="1673" y="4082"/>
                  </a:lnTo>
                  <a:lnTo>
                    <a:pt x="1574" y="4059"/>
                  </a:lnTo>
                  <a:lnTo>
                    <a:pt x="1477" y="4031"/>
                  </a:lnTo>
                  <a:lnTo>
                    <a:pt x="1382" y="4000"/>
                  </a:lnTo>
                  <a:lnTo>
                    <a:pt x="1289" y="3963"/>
                  </a:lnTo>
                  <a:lnTo>
                    <a:pt x="1199" y="3922"/>
                  </a:lnTo>
                  <a:lnTo>
                    <a:pt x="1111" y="3877"/>
                  </a:lnTo>
                  <a:lnTo>
                    <a:pt x="1026" y="3828"/>
                  </a:lnTo>
                  <a:lnTo>
                    <a:pt x="943" y="3775"/>
                  </a:lnTo>
                  <a:lnTo>
                    <a:pt x="863" y="3718"/>
                  </a:lnTo>
                  <a:lnTo>
                    <a:pt x="786" y="3657"/>
                  </a:lnTo>
                  <a:lnTo>
                    <a:pt x="711" y="3593"/>
                  </a:lnTo>
                  <a:lnTo>
                    <a:pt x="640" y="3526"/>
                  </a:lnTo>
                  <a:lnTo>
                    <a:pt x="573" y="3454"/>
                  </a:lnTo>
                  <a:lnTo>
                    <a:pt x="508" y="3381"/>
                  </a:lnTo>
                  <a:lnTo>
                    <a:pt x="448" y="3303"/>
                  </a:lnTo>
                  <a:lnTo>
                    <a:pt x="392" y="3223"/>
                  </a:lnTo>
                  <a:lnTo>
                    <a:pt x="337" y="3141"/>
                  </a:lnTo>
                  <a:lnTo>
                    <a:pt x="289" y="3055"/>
                  </a:lnTo>
                  <a:lnTo>
                    <a:pt x="243" y="2967"/>
                  </a:lnTo>
                  <a:lnTo>
                    <a:pt x="202" y="2876"/>
                  </a:lnTo>
                  <a:lnTo>
                    <a:pt x="167" y="2784"/>
                  </a:lnTo>
                  <a:lnTo>
                    <a:pt x="134" y="2690"/>
                  </a:lnTo>
                  <a:lnTo>
                    <a:pt x="106" y="2592"/>
                  </a:lnTo>
                  <a:lnTo>
                    <a:pt x="84" y="2494"/>
                  </a:lnTo>
                  <a:lnTo>
                    <a:pt x="66" y="2394"/>
                  </a:lnTo>
                  <a:lnTo>
                    <a:pt x="53" y="2291"/>
                  </a:lnTo>
                  <a:lnTo>
                    <a:pt x="45" y="2187"/>
                  </a:lnTo>
                  <a:lnTo>
                    <a:pt x="43" y="2083"/>
                  </a:lnTo>
                  <a:lnTo>
                    <a:pt x="45" y="1978"/>
                  </a:lnTo>
                  <a:lnTo>
                    <a:pt x="53" y="1874"/>
                  </a:lnTo>
                  <a:lnTo>
                    <a:pt x="66" y="1772"/>
                  </a:lnTo>
                  <a:lnTo>
                    <a:pt x="84" y="1671"/>
                  </a:lnTo>
                  <a:lnTo>
                    <a:pt x="106" y="1573"/>
                  </a:lnTo>
                  <a:lnTo>
                    <a:pt x="134" y="1476"/>
                  </a:lnTo>
                  <a:lnTo>
                    <a:pt x="167" y="1381"/>
                  </a:lnTo>
                  <a:lnTo>
                    <a:pt x="202" y="1288"/>
                  </a:lnTo>
                  <a:lnTo>
                    <a:pt x="243" y="1198"/>
                  </a:lnTo>
                  <a:lnTo>
                    <a:pt x="289" y="1110"/>
                  </a:lnTo>
                  <a:lnTo>
                    <a:pt x="337" y="1024"/>
                  </a:lnTo>
                  <a:lnTo>
                    <a:pt x="392" y="941"/>
                  </a:lnTo>
                  <a:lnTo>
                    <a:pt x="448" y="861"/>
                  </a:lnTo>
                  <a:lnTo>
                    <a:pt x="508" y="785"/>
                  </a:lnTo>
                  <a:lnTo>
                    <a:pt x="573" y="710"/>
                  </a:lnTo>
                  <a:lnTo>
                    <a:pt x="640" y="640"/>
                  </a:lnTo>
                  <a:lnTo>
                    <a:pt x="711" y="572"/>
                  </a:lnTo>
                  <a:lnTo>
                    <a:pt x="786" y="508"/>
                  </a:lnTo>
                  <a:lnTo>
                    <a:pt x="863" y="448"/>
                  </a:lnTo>
                  <a:lnTo>
                    <a:pt x="943" y="390"/>
                  </a:lnTo>
                  <a:lnTo>
                    <a:pt x="1026" y="337"/>
                  </a:lnTo>
                  <a:lnTo>
                    <a:pt x="1111" y="288"/>
                  </a:lnTo>
                  <a:lnTo>
                    <a:pt x="1199" y="242"/>
                  </a:lnTo>
                  <a:lnTo>
                    <a:pt x="1289" y="202"/>
                  </a:lnTo>
                  <a:lnTo>
                    <a:pt x="1382" y="166"/>
                  </a:lnTo>
                  <a:lnTo>
                    <a:pt x="1477" y="133"/>
                  </a:lnTo>
                  <a:lnTo>
                    <a:pt x="1574" y="106"/>
                  </a:lnTo>
                  <a:lnTo>
                    <a:pt x="1673" y="84"/>
                  </a:lnTo>
                  <a:lnTo>
                    <a:pt x="1774" y="65"/>
                  </a:lnTo>
                  <a:lnTo>
                    <a:pt x="1875" y="52"/>
                  </a:lnTo>
                  <a:lnTo>
                    <a:pt x="1979" y="45"/>
                  </a:lnTo>
                  <a:lnTo>
                    <a:pt x="2084" y="41"/>
                  </a:lnTo>
                  <a:lnTo>
                    <a:pt x="2190" y="45"/>
                  </a:lnTo>
                  <a:lnTo>
                    <a:pt x="2293" y="52"/>
                  </a:lnTo>
                  <a:lnTo>
                    <a:pt x="2395" y="65"/>
                  </a:lnTo>
                  <a:lnTo>
                    <a:pt x="2495" y="84"/>
                  </a:lnTo>
                  <a:lnTo>
                    <a:pt x="2595" y="106"/>
                  </a:lnTo>
                  <a:lnTo>
                    <a:pt x="2691" y="133"/>
                  </a:lnTo>
                  <a:lnTo>
                    <a:pt x="2786" y="166"/>
                  </a:lnTo>
                  <a:lnTo>
                    <a:pt x="2879" y="202"/>
                  </a:lnTo>
                  <a:lnTo>
                    <a:pt x="2970" y="242"/>
                  </a:lnTo>
                  <a:lnTo>
                    <a:pt x="3057" y="288"/>
                  </a:lnTo>
                  <a:lnTo>
                    <a:pt x="3143" y="337"/>
                  </a:lnTo>
                  <a:lnTo>
                    <a:pt x="3226" y="390"/>
                  </a:lnTo>
                  <a:lnTo>
                    <a:pt x="3306" y="448"/>
                  </a:lnTo>
                  <a:lnTo>
                    <a:pt x="3382" y="508"/>
                  </a:lnTo>
                  <a:lnTo>
                    <a:pt x="3457" y="572"/>
                  </a:lnTo>
                  <a:lnTo>
                    <a:pt x="3528" y="640"/>
                  </a:lnTo>
                  <a:lnTo>
                    <a:pt x="3595" y="710"/>
                  </a:lnTo>
                  <a:lnTo>
                    <a:pt x="3660" y="785"/>
                  </a:lnTo>
                  <a:lnTo>
                    <a:pt x="3721" y="861"/>
                  </a:lnTo>
                  <a:lnTo>
                    <a:pt x="3777" y="941"/>
                  </a:lnTo>
                  <a:lnTo>
                    <a:pt x="3830" y="1024"/>
                  </a:lnTo>
                  <a:lnTo>
                    <a:pt x="3879" y="1110"/>
                  </a:lnTo>
                  <a:lnTo>
                    <a:pt x="3925" y="1198"/>
                  </a:lnTo>
                  <a:lnTo>
                    <a:pt x="3966" y="1288"/>
                  </a:lnTo>
                  <a:lnTo>
                    <a:pt x="4002" y="1381"/>
                  </a:lnTo>
                  <a:lnTo>
                    <a:pt x="4034" y="1476"/>
                  </a:lnTo>
                  <a:lnTo>
                    <a:pt x="4062" y="1573"/>
                  </a:lnTo>
                  <a:lnTo>
                    <a:pt x="4085" y="1671"/>
                  </a:lnTo>
                  <a:lnTo>
                    <a:pt x="4102" y="1772"/>
                  </a:lnTo>
                  <a:lnTo>
                    <a:pt x="4115" y="1874"/>
                  </a:lnTo>
                  <a:lnTo>
                    <a:pt x="4124" y="1978"/>
                  </a:lnTo>
                  <a:lnTo>
                    <a:pt x="4126" y="2083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55880" y="2179440"/>
              <a:ext cx="1636920" cy="1636920"/>
            </a:xfrm>
            <a:custGeom>
              <a:avLst/>
              <a:gdLst/>
              <a:ahLst/>
              <a:rect l="l" t="t" r="r" b="b"/>
              <a:pathLst>
                <a:path w="4124" h="4123">
                  <a:moveTo>
                    <a:pt x="4124" y="2062"/>
                  </a:moveTo>
                  <a:lnTo>
                    <a:pt x="4122" y="1956"/>
                  </a:lnTo>
                  <a:lnTo>
                    <a:pt x="4114" y="1851"/>
                  </a:lnTo>
                  <a:lnTo>
                    <a:pt x="4101" y="1747"/>
                  </a:lnTo>
                  <a:lnTo>
                    <a:pt x="4083" y="1646"/>
                  </a:lnTo>
                  <a:lnTo>
                    <a:pt x="4060" y="1547"/>
                  </a:lnTo>
                  <a:lnTo>
                    <a:pt x="4031" y="1448"/>
                  </a:lnTo>
                  <a:lnTo>
                    <a:pt x="3999" y="1352"/>
                  </a:lnTo>
                  <a:lnTo>
                    <a:pt x="3962" y="1259"/>
                  </a:lnTo>
                  <a:lnTo>
                    <a:pt x="3921" y="1167"/>
                  </a:lnTo>
                  <a:lnTo>
                    <a:pt x="3876" y="1079"/>
                  </a:lnTo>
                  <a:lnTo>
                    <a:pt x="3826" y="992"/>
                  </a:lnTo>
                  <a:lnTo>
                    <a:pt x="3772" y="909"/>
                  </a:lnTo>
                  <a:lnTo>
                    <a:pt x="3715" y="828"/>
                  </a:lnTo>
                  <a:lnTo>
                    <a:pt x="3653" y="751"/>
                  </a:lnTo>
                  <a:lnTo>
                    <a:pt x="3588" y="675"/>
                  </a:lnTo>
                  <a:lnTo>
                    <a:pt x="3520" y="604"/>
                  </a:lnTo>
                  <a:lnTo>
                    <a:pt x="3449" y="536"/>
                  </a:lnTo>
                  <a:lnTo>
                    <a:pt x="3374" y="471"/>
                  </a:lnTo>
                  <a:lnTo>
                    <a:pt x="3297" y="409"/>
                  </a:lnTo>
                  <a:lnTo>
                    <a:pt x="3216" y="352"/>
                  </a:lnTo>
                  <a:lnTo>
                    <a:pt x="3131" y="298"/>
                  </a:lnTo>
                  <a:lnTo>
                    <a:pt x="3045" y="248"/>
                  </a:lnTo>
                  <a:lnTo>
                    <a:pt x="2956" y="203"/>
                  </a:lnTo>
                  <a:lnTo>
                    <a:pt x="2864" y="162"/>
                  </a:lnTo>
                  <a:lnTo>
                    <a:pt x="2772" y="125"/>
                  </a:lnTo>
                  <a:lnTo>
                    <a:pt x="2675" y="93"/>
                  </a:lnTo>
                  <a:lnTo>
                    <a:pt x="2577" y="65"/>
                  </a:lnTo>
                  <a:lnTo>
                    <a:pt x="2478" y="42"/>
                  </a:lnTo>
                  <a:lnTo>
                    <a:pt x="2376" y="24"/>
                  </a:lnTo>
                  <a:lnTo>
                    <a:pt x="2273" y="11"/>
                  </a:lnTo>
                  <a:lnTo>
                    <a:pt x="2169" y="2"/>
                  </a:lnTo>
                  <a:lnTo>
                    <a:pt x="2062" y="0"/>
                  </a:lnTo>
                  <a:lnTo>
                    <a:pt x="1956" y="2"/>
                  </a:lnTo>
                  <a:lnTo>
                    <a:pt x="1851" y="11"/>
                  </a:lnTo>
                  <a:lnTo>
                    <a:pt x="1748" y="24"/>
                  </a:lnTo>
                  <a:lnTo>
                    <a:pt x="1647" y="42"/>
                  </a:lnTo>
                  <a:lnTo>
                    <a:pt x="1546" y="65"/>
                  </a:lnTo>
                  <a:lnTo>
                    <a:pt x="1449" y="93"/>
                  </a:lnTo>
                  <a:lnTo>
                    <a:pt x="1353" y="125"/>
                  </a:lnTo>
                  <a:lnTo>
                    <a:pt x="1260" y="162"/>
                  </a:lnTo>
                  <a:lnTo>
                    <a:pt x="1168" y="203"/>
                  </a:lnTo>
                  <a:lnTo>
                    <a:pt x="1079" y="248"/>
                  </a:lnTo>
                  <a:lnTo>
                    <a:pt x="993" y="298"/>
                  </a:lnTo>
                  <a:lnTo>
                    <a:pt x="909" y="352"/>
                  </a:lnTo>
                  <a:lnTo>
                    <a:pt x="828" y="409"/>
                  </a:lnTo>
                  <a:lnTo>
                    <a:pt x="750" y="471"/>
                  </a:lnTo>
                  <a:lnTo>
                    <a:pt x="675" y="536"/>
                  </a:lnTo>
                  <a:lnTo>
                    <a:pt x="604" y="604"/>
                  </a:lnTo>
                  <a:lnTo>
                    <a:pt x="536" y="675"/>
                  </a:lnTo>
                  <a:lnTo>
                    <a:pt x="471" y="751"/>
                  </a:lnTo>
                  <a:lnTo>
                    <a:pt x="410" y="828"/>
                  </a:lnTo>
                  <a:lnTo>
                    <a:pt x="352" y="909"/>
                  </a:lnTo>
                  <a:lnTo>
                    <a:pt x="298" y="992"/>
                  </a:lnTo>
                  <a:lnTo>
                    <a:pt x="249" y="1079"/>
                  </a:lnTo>
                  <a:lnTo>
                    <a:pt x="203" y="1167"/>
                  </a:lnTo>
                  <a:lnTo>
                    <a:pt x="162" y="1259"/>
                  </a:lnTo>
                  <a:lnTo>
                    <a:pt x="124" y="1352"/>
                  </a:lnTo>
                  <a:lnTo>
                    <a:pt x="92" y="1448"/>
                  </a:lnTo>
                  <a:lnTo>
                    <a:pt x="65" y="1547"/>
                  </a:lnTo>
                  <a:lnTo>
                    <a:pt x="41" y="1646"/>
                  </a:lnTo>
                  <a:lnTo>
                    <a:pt x="24" y="1747"/>
                  </a:lnTo>
                  <a:lnTo>
                    <a:pt x="10" y="1851"/>
                  </a:lnTo>
                  <a:lnTo>
                    <a:pt x="2" y="1956"/>
                  </a:lnTo>
                  <a:lnTo>
                    <a:pt x="0" y="2062"/>
                  </a:lnTo>
                  <a:lnTo>
                    <a:pt x="2" y="2168"/>
                  </a:lnTo>
                  <a:lnTo>
                    <a:pt x="10" y="2272"/>
                  </a:lnTo>
                  <a:lnTo>
                    <a:pt x="24" y="2375"/>
                  </a:lnTo>
                  <a:lnTo>
                    <a:pt x="41" y="2476"/>
                  </a:lnTo>
                  <a:lnTo>
                    <a:pt x="65" y="2577"/>
                  </a:lnTo>
                  <a:lnTo>
                    <a:pt x="92" y="2674"/>
                  </a:lnTo>
                  <a:lnTo>
                    <a:pt x="124" y="2770"/>
                  </a:lnTo>
                  <a:lnTo>
                    <a:pt x="162" y="2864"/>
                  </a:lnTo>
                  <a:lnTo>
                    <a:pt x="203" y="2955"/>
                  </a:lnTo>
                  <a:lnTo>
                    <a:pt x="249" y="3044"/>
                  </a:lnTo>
                  <a:lnTo>
                    <a:pt x="298" y="3131"/>
                  </a:lnTo>
                  <a:lnTo>
                    <a:pt x="352" y="3214"/>
                  </a:lnTo>
                  <a:lnTo>
                    <a:pt x="410" y="3295"/>
                  </a:lnTo>
                  <a:lnTo>
                    <a:pt x="471" y="3373"/>
                  </a:lnTo>
                  <a:lnTo>
                    <a:pt x="536" y="3447"/>
                  </a:lnTo>
                  <a:lnTo>
                    <a:pt x="604" y="3520"/>
                  </a:lnTo>
                  <a:lnTo>
                    <a:pt x="675" y="3588"/>
                  </a:lnTo>
                  <a:lnTo>
                    <a:pt x="750" y="3653"/>
                  </a:lnTo>
                  <a:lnTo>
                    <a:pt x="828" y="3713"/>
                  </a:lnTo>
                  <a:lnTo>
                    <a:pt x="909" y="3771"/>
                  </a:lnTo>
                  <a:lnTo>
                    <a:pt x="993" y="3824"/>
                  </a:lnTo>
                  <a:lnTo>
                    <a:pt x="1079" y="3874"/>
                  </a:lnTo>
                  <a:lnTo>
                    <a:pt x="1168" y="3919"/>
                  </a:lnTo>
                  <a:lnTo>
                    <a:pt x="1260" y="3961"/>
                  </a:lnTo>
                  <a:lnTo>
                    <a:pt x="1353" y="3998"/>
                  </a:lnTo>
                  <a:lnTo>
                    <a:pt x="1449" y="4031"/>
                  </a:lnTo>
                  <a:lnTo>
                    <a:pt x="1546" y="4059"/>
                  </a:lnTo>
                  <a:lnTo>
                    <a:pt x="1647" y="4081"/>
                  </a:lnTo>
                  <a:lnTo>
                    <a:pt x="1748" y="4100"/>
                  </a:lnTo>
                  <a:lnTo>
                    <a:pt x="1851" y="4113"/>
                  </a:lnTo>
                  <a:lnTo>
                    <a:pt x="1956" y="4120"/>
                  </a:lnTo>
                  <a:lnTo>
                    <a:pt x="2062" y="4123"/>
                  </a:lnTo>
                  <a:lnTo>
                    <a:pt x="2169" y="4120"/>
                  </a:lnTo>
                  <a:lnTo>
                    <a:pt x="2273" y="4113"/>
                  </a:lnTo>
                  <a:lnTo>
                    <a:pt x="2376" y="4100"/>
                  </a:lnTo>
                  <a:lnTo>
                    <a:pt x="2478" y="4081"/>
                  </a:lnTo>
                  <a:lnTo>
                    <a:pt x="2577" y="4059"/>
                  </a:lnTo>
                  <a:lnTo>
                    <a:pt x="2675" y="4031"/>
                  </a:lnTo>
                  <a:lnTo>
                    <a:pt x="2772" y="3998"/>
                  </a:lnTo>
                  <a:lnTo>
                    <a:pt x="2864" y="3961"/>
                  </a:lnTo>
                  <a:lnTo>
                    <a:pt x="2956" y="3919"/>
                  </a:lnTo>
                  <a:lnTo>
                    <a:pt x="3045" y="3874"/>
                  </a:lnTo>
                  <a:lnTo>
                    <a:pt x="3131" y="3824"/>
                  </a:lnTo>
                  <a:lnTo>
                    <a:pt x="3216" y="3771"/>
                  </a:lnTo>
                  <a:lnTo>
                    <a:pt x="3297" y="3713"/>
                  </a:lnTo>
                  <a:lnTo>
                    <a:pt x="3374" y="3653"/>
                  </a:lnTo>
                  <a:lnTo>
                    <a:pt x="3449" y="3588"/>
                  </a:lnTo>
                  <a:lnTo>
                    <a:pt x="3520" y="3520"/>
                  </a:lnTo>
                  <a:lnTo>
                    <a:pt x="3588" y="3447"/>
                  </a:lnTo>
                  <a:lnTo>
                    <a:pt x="3653" y="3373"/>
                  </a:lnTo>
                  <a:lnTo>
                    <a:pt x="3715" y="3295"/>
                  </a:lnTo>
                  <a:lnTo>
                    <a:pt x="3772" y="3214"/>
                  </a:lnTo>
                  <a:lnTo>
                    <a:pt x="3826" y="3131"/>
                  </a:lnTo>
                  <a:lnTo>
                    <a:pt x="3876" y="3044"/>
                  </a:lnTo>
                  <a:lnTo>
                    <a:pt x="3921" y="2955"/>
                  </a:lnTo>
                  <a:lnTo>
                    <a:pt x="3962" y="2864"/>
                  </a:lnTo>
                  <a:lnTo>
                    <a:pt x="3999" y="2770"/>
                  </a:lnTo>
                  <a:lnTo>
                    <a:pt x="4031" y="2674"/>
                  </a:lnTo>
                  <a:lnTo>
                    <a:pt x="4060" y="2577"/>
                  </a:lnTo>
                  <a:lnTo>
                    <a:pt x="4083" y="2476"/>
                  </a:lnTo>
                  <a:lnTo>
                    <a:pt x="4101" y="2375"/>
                  </a:lnTo>
                  <a:lnTo>
                    <a:pt x="4114" y="2272"/>
                  </a:lnTo>
                  <a:lnTo>
                    <a:pt x="4122" y="2168"/>
                  </a:lnTo>
                  <a:lnTo>
                    <a:pt x="4124" y="2062"/>
                  </a:lnTo>
                  <a:close/>
                  <a:moveTo>
                    <a:pt x="4083" y="2062"/>
                  </a:moveTo>
                  <a:lnTo>
                    <a:pt x="4080" y="2165"/>
                  </a:lnTo>
                  <a:lnTo>
                    <a:pt x="4073" y="2268"/>
                  </a:lnTo>
                  <a:lnTo>
                    <a:pt x="4060" y="2369"/>
                  </a:lnTo>
                  <a:lnTo>
                    <a:pt x="4042" y="2469"/>
                  </a:lnTo>
                  <a:lnTo>
                    <a:pt x="4020" y="2566"/>
                  </a:lnTo>
                  <a:lnTo>
                    <a:pt x="3993" y="2662"/>
                  </a:lnTo>
                  <a:lnTo>
                    <a:pt x="3960" y="2756"/>
                  </a:lnTo>
                  <a:lnTo>
                    <a:pt x="3924" y="2848"/>
                  </a:lnTo>
                  <a:lnTo>
                    <a:pt x="3883" y="2938"/>
                  </a:lnTo>
                  <a:lnTo>
                    <a:pt x="3839" y="3024"/>
                  </a:lnTo>
                  <a:lnTo>
                    <a:pt x="3791" y="3109"/>
                  </a:lnTo>
                  <a:lnTo>
                    <a:pt x="3738" y="3190"/>
                  </a:lnTo>
                  <a:lnTo>
                    <a:pt x="3681" y="3270"/>
                  </a:lnTo>
                  <a:lnTo>
                    <a:pt x="3622" y="3346"/>
                  </a:lnTo>
                  <a:lnTo>
                    <a:pt x="3558" y="3419"/>
                  </a:lnTo>
                  <a:lnTo>
                    <a:pt x="3491" y="3489"/>
                  </a:lnTo>
                  <a:lnTo>
                    <a:pt x="3421" y="3556"/>
                  </a:lnTo>
                  <a:lnTo>
                    <a:pt x="3347" y="3620"/>
                  </a:lnTo>
                  <a:lnTo>
                    <a:pt x="3271" y="3681"/>
                  </a:lnTo>
                  <a:lnTo>
                    <a:pt x="3192" y="3737"/>
                  </a:lnTo>
                  <a:lnTo>
                    <a:pt x="3110" y="3789"/>
                  </a:lnTo>
                  <a:lnTo>
                    <a:pt x="3025" y="3837"/>
                  </a:lnTo>
                  <a:lnTo>
                    <a:pt x="2938" y="3883"/>
                  </a:lnTo>
                  <a:lnTo>
                    <a:pt x="2848" y="3923"/>
                  </a:lnTo>
                  <a:lnTo>
                    <a:pt x="2758" y="3959"/>
                  </a:lnTo>
                  <a:lnTo>
                    <a:pt x="2664" y="3991"/>
                  </a:lnTo>
                  <a:lnTo>
                    <a:pt x="2567" y="4018"/>
                  </a:lnTo>
                  <a:lnTo>
                    <a:pt x="2469" y="4040"/>
                  </a:lnTo>
                  <a:lnTo>
                    <a:pt x="2370" y="4059"/>
                  </a:lnTo>
                  <a:lnTo>
                    <a:pt x="2269" y="4070"/>
                  </a:lnTo>
                  <a:lnTo>
                    <a:pt x="2166" y="4079"/>
                  </a:lnTo>
                  <a:lnTo>
                    <a:pt x="2062" y="4081"/>
                  </a:lnTo>
                  <a:lnTo>
                    <a:pt x="1958" y="4079"/>
                  </a:lnTo>
                  <a:lnTo>
                    <a:pt x="1855" y="4070"/>
                  </a:lnTo>
                  <a:lnTo>
                    <a:pt x="1755" y="4059"/>
                  </a:lnTo>
                  <a:lnTo>
                    <a:pt x="1655" y="4040"/>
                  </a:lnTo>
                  <a:lnTo>
                    <a:pt x="1557" y="4018"/>
                  </a:lnTo>
                  <a:lnTo>
                    <a:pt x="1461" y="3991"/>
                  </a:lnTo>
                  <a:lnTo>
                    <a:pt x="1367" y="3959"/>
                  </a:lnTo>
                  <a:lnTo>
                    <a:pt x="1276" y="3923"/>
                  </a:lnTo>
                  <a:lnTo>
                    <a:pt x="1186" y="3883"/>
                  </a:lnTo>
                  <a:lnTo>
                    <a:pt x="1099" y="3837"/>
                  </a:lnTo>
                  <a:lnTo>
                    <a:pt x="1015" y="3789"/>
                  </a:lnTo>
                  <a:lnTo>
                    <a:pt x="932" y="3737"/>
                  </a:lnTo>
                  <a:lnTo>
                    <a:pt x="853" y="3681"/>
                  </a:lnTo>
                  <a:lnTo>
                    <a:pt x="777" y="3620"/>
                  </a:lnTo>
                  <a:lnTo>
                    <a:pt x="703" y="3556"/>
                  </a:lnTo>
                  <a:lnTo>
                    <a:pt x="633" y="3489"/>
                  </a:lnTo>
                  <a:lnTo>
                    <a:pt x="566" y="3419"/>
                  </a:lnTo>
                  <a:lnTo>
                    <a:pt x="502" y="3346"/>
                  </a:lnTo>
                  <a:lnTo>
                    <a:pt x="443" y="3270"/>
                  </a:lnTo>
                  <a:lnTo>
                    <a:pt x="387" y="3190"/>
                  </a:lnTo>
                  <a:lnTo>
                    <a:pt x="334" y="3109"/>
                  </a:lnTo>
                  <a:lnTo>
                    <a:pt x="285" y="3024"/>
                  </a:lnTo>
                  <a:lnTo>
                    <a:pt x="241" y="2938"/>
                  </a:lnTo>
                  <a:lnTo>
                    <a:pt x="200" y="2848"/>
                  </a:lnTo>
                  <a:lnTo>
                    <a:pt x="164" y="2756"/>
                  </a:lnTo>
                  <a:lnTo>
                    <a:pt x="132" y="2662"/>
                  </a:lnTo>
                  <a:lnTo>
                    <a:pt x="105" y="2566"/>
                  </a:lnTo>
                  <a:lnTo>
                    <a:pt x="82" y="2469"/>
                  </a:lnTo>
                  <a:lnTo>
                    <a:pt x="65" y="2369"/>
                  </a:lnTo>
                  <a:lnTo>
                    <a:pt x="52" y="2268"/>
                  </a:lnTo>
                  <a:lnTo>
                    <a:pt x="44" y="2165"/>
                  </a:lnTo>
                  <a:lnTo>
                    <a:pt x="41" y="2062"/>
                  </a:lnTo>
                  <a:lnTo>
                    <a:pt x="44" y="1958"/>
                  </a:lnTo>
                  <a:lnTo>
                    <a:pt x="52" y="1855"/>
                  </a:lnTo>
                  <a:lnTo>
                    <a:pt x="65" y="1754"/>
                  </a:lnTo>
                  <a:lnTo>
                    <a:pt x="82" y="1655"/>
                  </a:lnTo>
                  <a:lnTo>
                    <a:pt x="105" y="1556"/>
                  </a:lnTo>
                  <a:lnTo>
                    <a:pt x="132" y="1461"/>
                  </a:lnTo>
                  <a:lnTo>
                    <a:pt x="164" y="1367"/>
                  </a:lnTo>
                  <a:lnTo>
                    <a:pt x="200" y="1275"/>
                  </a:lnTo>
                  <a:lnTo>
                    <a:pt x="241" y="1186"/>
                  </a:lnTo>
                  <a:lnTo>
                    <a:pt x="285" y="1098"/>
                  </a:lnTo>
                  <a:lnTo>
                    <a:pt x="334" y="1014"/>
                  </a:lnTo>
                  <a:lnTo>
                    <a:pt x="387" y="932"/>
                  </a:lnTo>
                  <a:lnTo>
                    <a:pt x="443" y="853"/>
                  </a:lnTo>
                  <a:lnTo>
                    <a:pt x="502" y="776"/>
                  </a:lnTo>
                  <a:lnTo>
                    <a:pt x="566" y="703"/>
                  </a:lnTo>
                  <a:lnTo>
                    <a:pt x="633" y="633"/>
                  </a:lnTo>
                  <a:lnTo>
                    <a:pt x="703" y="566"/>
                  </a:lnTo>
                  <a:lnTo>
                    <a:pt x="777" y="503"/>
                  </a:lnTo>
                  <a:lnTo>
                    <a:pt x="853" y="443"/>
                  </a:lnTo>
                  <a:lnTo>
                    <a:pt x="932" y="387"/>
                  </a:lnTo>
                  <a:lnTo>
                    <a:pt x="1015" y="334"/>
                  </a:lnTo>
                  <a:lnTo>
                    <a:pt x="1099" y="285"/>
                  </a:lnTo>
                  <a:lnTo>
                    <a:pt x="1186" y="241"/>
                  </a:lnTo>
                  <a:lnTo>
                    <a:pt x="1276" y="200"/>
                  </a:lnTo>
                  <a:lnTo>
                    <a:pt x="1367" y="164"/>
                  </a:lnTo>
                  <a:lnTo>
                    <a:pt x="1461" y="132"/>
                  </a:lnTo>
                  <a:lnTo>
                    <a:pt x="1557" y="105"/>
                  </a:lnTo>
                  <a:lnTo>
                    <a:pt x="1655" y="82"/>
                  </a:lnTo>
                  <a:lnTo>
                    <a:pt x="1755" y="65"/>
                  </a:lnTo>
                  <a:lnTo>
                    <a:pt x="1855" y="52"/>
                  </a:lnTo>
                  <a:lnTo>
                    <a:pt x="1958" y="44"/>
                  </a:lnTo>
                  <a:lnTo>
                    <a:pt x="2062" y="41"/>
                  </a:lnTo>
                  <a:lnTo>
                    <a:pt x="2166" y="44"/>
                  </a:lnTo>
                  <a:lnTo>
                    <a:pt x="2269" y="52"/>
                  </a:lnTo>
                  <a:lnTo>
                    <a:pt x="2370" y="65"/>
                  </a:lnTo>
                  <a:lnTo>
                    <a:pt x="2469" y="82"/>
                  </a:lnTo>
                  <a:lnTo>
                    <a:pt x="2567" y="105"/>
                  </a:lnTo>
                  <a:lnTo>
                    <a:pt x="2664" y="132"/>
                  </a:lnTo>
                  <a:lnTo>
                    <a:pt x="2758" y="164"/>
                  </a:lnTo>
                  <a:lnTo>
                    <a:pt x="2848" y="200"/>
                  </a:lnTo>
                  <a:lnTo>
                    <a:pt x="2938" y="241"/>
                  </a:lnTo>
                  <a:lnTo>
                    <a:pt x="3025" y="285"/>
                  </a:lnTo>
                  <a:lnTo>
                    <a:pt x="3110" y="334"/>
                  </a:lnTo>
                  <a:lnTo>
                    <a:pt x="3192" y="387"/>
                  </a:lnTo>
                  <a:lnTo>
                    <a:pt x="3271" y="443"/>
                  </a:lnTo>
                  <a:lnTo>
                    <a:pt x="3347" y="503"/>
                  </a:lnTo>
                  <a:lnTo>
                    <a:pt x="3421" y="566"/>
                  </a:lnTo>
                  <a:lnTo>
                    <a:pt x="3491" y="633"/>
                  </a:lnTo>
                  <a:lnTo>
                    <a:pt x="3558" y="703"/>
                  </a:lnTo>
                  <a:lnTo>
                    <a:pt x="3622" y="776"/>
                  </a:lnTo>
                  <a:lnTo>
                    <a:pt x="3681" y="853"/>
                  </a:lnTo>
                  <a:lnTo>
                    <a:pt x="3738" y="932"/>
                  </a:lnTo>
                  <a:lnTo>
                    <a:pt x="3791" y="1014"/>
                  </a:lnTo>
                  <a:lnTo>
                    <a:pt x="3839" y="1098"/>
                  </a:lnTo>
                  <a:lnTo>
                    <a:pt x="3883" y="1186"/>
                  </a:lnTo>
                  <a:lnTo>
                    <a:pt x="3924" y="1275"/>
                  </a:lnTo>
                  <a:lnTo>
                    <a:pt x="3960" y="1367"/>
                  </a:lnTo>
                  <a:lnTo>
                    <a:pt x="3993" y="1461"/>
                  </a:lnTo>
                  <a:lnTo>
                    <a:pt x="4020" y="1556"/>
                  </a:lnTo>
                  <a:lnTo>
                    <a:pt x="4042" y="1655"/>
                  </a:lnTo>
                  <a:lnTo>
                    <a:pt x="4060" y="1754"/>
                  </a:lnTo>
                  <a:lnTo>
                    <a:pt x="4073" y="1855"/>
                  </a:lnTo>
                  <a:lnTo>
                    <a:pt x="4080" y="1958"/>
                  </a:lnTo>
                  <a:lnTo>
                    <a:pt x="4083" y="206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63800" y="2187360"/>
              <a:ext cx="1621080" cy="1619280"/>
            </a:xfrm>
            <a:custGeom>
              <a:avLst/>
              <a:gdLst/>
              <a:ahLst/>
              <a:rect l="l" t="t" r="r" b="b"/>
              <a:pathLst>
                <a:path w="4083" h="4082">
                  <a:moveTo>
                    <a:pt x="4083" y="2042"/>
                  </a:moveTo>
                  <a:lnTo>
                    <a:pt x="4081" y="1937"/>
                  </a:lnTo>
                  <a:lnTo>
                    <a:pt x="4072" y="1833"/>
                  </a:lnTo>
                  <a:lnTo>
                    <a:pt x="4059" y="1731"/>
                  </a:lnTo>
                  <a:lnTo>
                    <a:pt x="4042" y="1630"/>
                  </a:lnTo>
                  <a:lnTo>
                    <a:pt x="4019" y="1532"/>
                  </a:lnTo>
                  <a:lnTo>
                    <a:pt x="3991" y="1435"/>
                  </a:lnTo>
                  <a:lnTo>
                    <a:pt x="3959" y="1340"/>
                  </a:lnTo>
                  <a:lnTo>
                    <a:pt x="3923" y="1247"/>
                  </a:lnTo>
                  <a:lnTo>
                    <a:pt x="3882" y="1157"/>
                  </a:lnTo>
                  <a:lnTo>
                    <a:pt x="3836" y="1069"/>
                  </a:lnTo>
                  <a:lnTo>
                    <a:pt x="3787" y="983"/>
                  </a:lnTo>
                  <a:lnTo>
                    <a:pt x="3734" y="900"/>
                  </a:lnTo>
                  <a:lnTo>
                    <a:pt x="3678" y="820"/>
                  </a:lnTo>
                  <a:lnTo>
                    <a:pt x="3617" y="744"/>
                  </a:lnTo>
                  <a:lnTo>
                    <a:pt x="3552" y="669"/>
                  </a:lnTo>
                  <a:lnTo>
                    <a:pt x="3485" y="599"/>
                  </a:lnTo>
                  <a:lnTo>
                    <a:pt x="3414" y="531"/>
                  </a:lnTo>
                  <a:lnTo>
                    <a:pt x="3339" y="467"/>
                  </a:lnTo>
                  <a:lnTo>
                    <a:pt x="3263" y="407"/>
                  </a:lnTo>
                  <a:lnTo>
                    <a:pt x="3183" y="349"/>
                  </a:lnTo>
                  <a:lnTo>
                    <a:pt x="3100" y="296"/>
                  </a:lnTo>
                  <a:lnTo>
                    <a:pt x="3014" y="247"/>
                  </a:lnTo>
                  <a:lnTo>
                    <a:pt x="2927" y="201"/>
                  </a:lnTo>
                  <a:lnTo>
                    <a:pt x="2836" y="161"/>
                  </a:lnTo>
                  <a:lnTo>
                    <a:pt x="2743" y="125"/>
                  </a:lnTo>
                  <a:lnTo>
                    <a:pt x="2648" y="92"/>
                  </a:lnTo>
                  <a:lnTo>
                    <a:pt x="2552" y="65"/>
                  </a:lnTo>
                  <a:lnTo>
                    <a:pt x="2452" y="43"/>
                  </a:lnTo>
                  <a:lnTo>
                    <a:pt x="2352" y="24"/>
                  </a:lnTo>
                  <a:lnTo>
                    <a:pt x="2250" y="11"/>
                  </a:lnTo>
                  <a:lnTo>
                    <a:pt x="2147" y="4"/>
                  </a:lnTo>
                  <a:lnTo>
                    <a:pt x="2041" y="0"/>
                  </a:lnTo>
                  <a:lnTo>
                    <a:pt x="1936" y="4"/>
                  </a:lnTo>
                  <a:lnTo>
                    <a:pt x="1832" y="11"/>
                  </a:lnTo>
                  <a:lnTo>
                    <a:pt x="1731" y="24"/>
                  </a:lnTo>
                  <a:lnTo>
                    <a:pt x="1630" y="43"/>
                  </a:lnTo>
                  <a:lnTo>
                    <a:pt x="1531" y="65"/>
                  </a:lnTo>
                  <a:lnTo>
                    <a:pt x="1434" y="92"/>
                  </a:lnTo>
                  <a:lnTo>
                    <a:pt x="1339" y="125"/>
                  </a:lnTo>
                  <a:lnTo>
                    <a:pt x="1246" y="161"/>
                  </a:lnTo>
                  <a:lnTo>
                    <a:pt x="1156" y="201"/>
                  </a:lnTo>
                  <a:lnTo>
                    <a:pt x="1068" y="247"/>
                  </a:lnTo>
                  <a:lnTo>
                    <a:pt x="983" y="296"/>
                  </a:lnTo>
                  <a:lnTo>
                    <a:pt x="900" y="349"/>
                  </a:lnTo>
                  <a:lnTo>
                    <a:pt x="820" y="407"/>
                  </a:lnTo>
                  <a:lnTo>
                    <a:pt x="743" y="467"/>
                  </a:lnTo>
                  <a:lnTo>
                    <a:pt x="668" y="531"/>
                  </a:lnTo>
                  <a:lnTo>
                    <a:pt x="597" y="599"/>
                  </a:lnTo>
                  <a:lnTo>
                    <a:pt x="530" y="669"/>
                  </a:lnTo>
                  <a:lnTo>
                    <a:pt x="465" y="744"/>
                  </a:lnTo>
                  <a:lnTo>
                    <a:pt x="405" y="820"/>
                  </a:lnTo>
                  <a:lnTo>
                    <a:pt x="349" y="900"/>
                  </a:lnTo>
                  <a:lnTo>
                    <a:pt x="294" y="983"/>
                  </a:lnTo>
                  <a:lnTo>
                    <a:pt x="246" y="1069"/>
                  </a:lnTo>
                  <a:lnTo>
                    <a:pt x="200" y="1157"/>
                  </a:lnTo>
                  <a:lnTo>
                    <a:pt x="159" y="1247"/>
                  </a:lnTo>
                  <a:lnTo>
                    <a:pt x="124" y="1340"/>
                  </a:lnTo>
                  <a:lnTo>
                    <a:pt x="91" y="1435"/>
                  </a:lnTo>
                  <a:lnTo>
                    <a:pt x="63" y="1532"/>
                  </a:lnTo>
                  <a:lnTo>
                    <a:pt x="41" y="1630"/>
                  </a:lnTo>
                  <a:lnTo>
                    <a:pt x="23" y="1731"/>
                  </a:lnTo>
                  <a:lnTo>
                    <a:pt x="10" y="1833"/>
                  </a:lnTo>
                  <a:lnTo>
                    <a:pt x="2" y="1937"/>
                  </a:lnTo>
                  <a:lnTo>
                    <a:pt x="0" y="2042"/>
                  </a:lnTo>
                  <a:lnTo>
                    <a:pt x="2" y="2146"/>
                  </a:lnTo>
                  <a:lnTo>
                    <a:pt x="10" y="2250"/>
                  </a:lnTo>
                  <a:lnTo>
                    <a:pt x="23" y="2353"/>
                  </a:lnTo>
                  <a:lnTo>
                    <a:pt x="41" y="2453"/>
                  </a:lnTo>
                  <a:lnTo>
                    <a:pt x="63" y="2551"/>
                  </a:lnTo>
                  <a:lnTo>
                    <a:pt x="91" y="2649"/>
                  </a:lnTo>
                  <a:lnTo>
                    <a:pt x="124" y="2743"/>
                  </a:lnTo>
                  <a:lnTo>
                    <a:pt x="159" y="2835"/>
                  </a:lnTo>
                  <a:lnTo>
                    <a:pt x="200" y="2926"/>
                  </a:lnTo>
                  <a:lnTo>
                    <a:pt x="246" y="3014"/>
                  </a:lnTo>
                  <a:lnTo>
                    <a:pt x="294" y="3100"/>
                  </a:lnTo>
                  <a:lnTo>
                    <a:pt x="349" y="3182"/>
                  </a:lnTo>
                  <a:lnTo>
                    <a:pt x="405" y="3262"/>
                  </a:lnTo>
                  <a:lnTo>
                    <a:pt x="465" y="3340"/>
                  </a:lnTo>
                  <a:lnTo>
                    <a:pt x="530" y="3413"/>
                  </a:lnTo>
                  <a:lnTo>
                    <a:pt x="597" y="3485"/>
                  </a:lnTo>
                  <a:lnTo>
                    <a:pt x="668" y="3552"/>
                  </a:lnTo>
                  <a:lnTo>
                    <a:pt x="743" y="3616"/>
                  </a:lnTo>
                  <a:lnTo>
                    <a:pt x="820" y="3677"/>
                  </a:lnTo>
                  <a:lnTo>
                    <a:pt x="900" y="3734"/>
                  </a:lnTo>
                  <a:lnTo>
                    <a:pt x="983" y="3787"/>
                  </a:lnTo>
                  <a:lnTo>
                    <a:pt x="1068" y="3836"/>
                  </a:lnTo>
                  <a:lnTo>
                    <a:pt x="1156" y="3881"/>
                  </a:lnTo>
                  <a:lnTo>
                    <a:pt x="1246" y="3922"/>
                  </a:lnTo>
                  <a:lnTo>
                    <a:pt x="1339" y="3959"/>
                  </a:lnTo>
                  <a:lnTo>
                    <a:pt x="1434" y="3990"/>
                  </a:lnTo>
                  <a:lnTo>
                    <a:pt x="1531" y="4018"/>
                  </a:lnTo>
                  <a:lnTo>
                    <a:pt x="1630" y="4041"/>
                  </a:lnTo>
                  <a:lnTo>
                    <a:pt x="1731" y="4059"/>
                  </a:lnTo>
                  <a:lnTo>
                    <a:pt x="1832" y="4072"/>
                  </a:lnTo>
                  <a:lnTo>
                    <a:pt x="1936" y="4080"/>
                  </a:lnTo>
                  <a:lnTo>
                    <a:pt x="2041" y="4082"/>
                  </a:lnTo>
                  <a:lnTo>
                    <a:pt x="2147" y="4080"/>
                  </a:lnTo>
                  <a:lnTo>
                    <a:pt x="2250" y="4072"/>
                  </a:lnTo>
                  <a:lnTo>
                    <a:pt x="2352" y="4059"/>
                  </a:lnTo>
                  <a:lnTo>
                    <a:pt x="2452" y="4041"/>
                  </a:lnTo>
                  <a:lnTo>
                    <a:pt x="2552" y="4018"/>
                  </a:lnTo>
                  <a:lnTo>
                    <a:pt x="2648" y="3990"/>
                  </a:lnTo>
                  <a:lnTo>
                    <a:pt x="2743" y="3959"/>
                  </a:lnTo>
                  <a:lnTo>
                    <a:pt x="2836" y="3922"/>
                  </a:lnTo>
                  <a:lnTo>
                    <a:pt x="2927" y="3881"/>
                  </a:lnTo>
                  <a:lnTo>
                    <a:pt x="3014" y="3836"/>
                  </a:lnTo>
                  <a:lnTo>
                    <a:pt x="3100" y="3787"/>
                  </a:lnTo>
                  <a:lnTo>
                    <a:pt x="3183" y="3734"/>
                  </a:lnTo>
                  <a:lnTo>
                    <a:pt x="3263" y="3677"/>
                  </a:lnTo>
                  <a:lnTo>
                    <a:pt x="3339" y="3616"/>
                  </a:lnTo>
                  <a:lnTo>
                    <a:pt x="3414" y="3552"/>
                  </a:lnTo>
                  <a:lnTo>
                    <a:pt x="3485" y="3485"/>
                  </a:lnTo>
                  <a:lnTo>
                    <a:pt x="3552" y="3413"/>
                  </a:lnTo>
                  <a:lnTo>
                    <a:pt x="3617" y="3340"/>
                  </a:lnTo>
                  <a:lnTo>
                    <a:pt x="3678" y="3262"/>
                  </a:lnTo>
                  <a:lnTo>
                    <a:pt x="3734" y="3182"/>
                  </a:lnTo>
                  <a:lnTo>
                    <a:pt x="3787" y="3100"/>
                  </a:lnTo>
                  <a:lnTo>
                    <a:pt x="3836" y="3014"/>
                  </a:lnTo>
                  <a:lnTo>
                    <a:pt x="3882" y="2926"/>
                  </a:lnTo>
                  <a:lnTo>
                    <a:pt x="3923" y="2835"/>
                  </a:lnTo>
                  <a:lnTo>
                    <a:pt x="3959" y="2743"/>
                  </a:lnTo>
                  <a:lnTo>
                    <a:pt x="3991" y="2649"/>
                  </a:lnTo>
                  <a:lnTo>
                    <a:pt x="4019" y="2551"/>
                  </a:lnTo>
                  <a:lnTo>
                    <a:pt x="4042" y="2453"/>
                  </a:lnTo>
                  <a:lnTo>
                    <a:pt x="4059" y="2353"/>
                  </a:lnTo>
                  <a:lnTo>
                    <a:pt x="4072" y="2250"/>
                  </a:lnTo>
                  <a:lnTo>
                    <a:pt x="4081" y="2146"/>
                  </a:lnTo>
                  <a:lnTo>
                    <a:pt x="4083" y="2042"/>
                  </a:lnTo>
                  <a:close/>
                  <a:moveTo>
                    <a:pt x="4041" y="2042"/>
                  </a:moveTo>
                  <a:lnTo>
                    <a:pt x="4039" y="2144"/>
                  </a:lnTo>
                  <a:lnTo>
                    <a:pt x="4031" y="2246"/>
                  </a:lnTo>
                  <a:lnTo>
                    <a:pt x="4018" y="2346"/>
                  </a:lnTo>
                  <a:lnTo>
                    <a:pt x="4001" y="2445"/>
                  </a:lnTo>
                  <a:lnTo>
                    <a:pt x="3978" y="2541"/>
                  </a:lnTo>
                  <a:lnTo>
                    <a:pt x="3951" y="2636"/>
                  </a:lnTo>
                  <a:lnTo>
                    <a:pt x="3920" y="2729"/>
                  </a:lnTo>
                  <a:lnTo>
                    <a:pt x="3884" y="2819"/>
                  </a:lnTo>
                  <a:lnTo>
                    <a:pt x="3844" y="2908"/>
                  </a:lnTo>
                  <a:lnTo>
                    <a:pt x="3800" y="2994"/>
                  </a:lnTo>
                  <a:lnTo>
                    <a:pt x="3751" y="3078"/>
                  </a:lnTo>
                  <a:lnTo>
                    <a:pt x="3699" y="3159"/>
                  </a:lnTo>
                  <a:lnTo>
                    <a:pt x="3644" y="3237"/>
                  </a:lnTo>
                  <a:lnTo>
                    <a:pt x="3585" y="3313"/>
                  </a:lnTo>
                  <a:lnTo>
                    <a:pt x="3522" y="3385"/>
                  </a:lnTo>
                  <a:lnTo>
                    <a:pt x="3455" y="3455"/>
                  </a:lnTo>
                  <a:lnTo>
                    <a:pt x="3386" y="3521"/>
                  </a:lnTo>
                  <a:lnTo>
                    <a:pt x="3314" y="3584"/>
                  </a:lnTo>
                  <a:lnTo>
                    <a:pt x="3238" y="3643"/>
                  </a:lnTo>
                  <a:lnTo>
                    <a:pt x="3159" y="3699"/>
                  </a:lnTo>
                  <a:lnTo>
                    <a:pt x="3078" y="3751"/>
                  </a:lnTo>
                  <a:lnTo>
                    <a:pt x="2995" y="3799"/>
                  </a:lnTo>
                  <a:lnTo>
                    <a:pt x="2908" y="3843"/>
                  </a:lnTo>
                  <a:lnTo>
                    <a:pt x="2820" y="3883"/>
                  </a:lnTo>
                  <a:lnTo>
                    <a:pt x="2729" y="3920"/>
                  </a:lnTo>
                  <a:lnTo>
                    <a:pt x="2636" y="3951"/>
                  </a:lnTo>
                  <a:lnTo>
                    <a:pt x="2541" y="3978"/>
                  </a:lnTo>
                  <a:lnTo>
                    <a:pt x="2444" y="4000"/>
                  </a:lnTo>
                  <a:lnTo>
                    <a:pt x="2345" y="4018"/>
                  </a:lnTo>
                  <a:lnTo>
                    <a:pt x="2246" y="4030"/>
                  </a:lnTo>
                  <a:lnTo>
                    <a:pt x="2144" y="4038"/>
                  </a:lnTo>
                  <a:lnTo>
                    <a:pt x="2041" y="4041"/>
                  </a:lnTo>
                  <a:lnTo>
                    <a:pt x="1938" y="4038"/>
                  </a:lnTo>
                  <a:lnTo>
                    <a:pt x="1836" y="4030"/>
                  </a:lnTo>
                  <a:lnTo>
                    <a:pt x="1737" y="4018"/>
                  </a:lnTo>
                  <a:lnTo>
                    <a:pt x="1638" y="4000"/>
                  </a:lnTo>
                  <a:lnTo>
                    <a:pt x="1541" y="3978"/>
                  </a:lnTo>
                  <a:lnTo>
                    <a:pt x="1446" y="3951"/>
                  </a:lnTo>
                  <a:lnTo>
                    <a:pt x="1353" y="3920"/>
                  </a:lnTo>
                  <a:lnTo>
                    <a:pt x="1263" y="3883"/>
                  </a:lnTo>
                  <a:lnTo>
                    <a:pt x="1174" y="3843"/>
                  </a:lnTo>
                  <a:lnTo>
                    <a:pt x="1088" y="3799"/>
                  </a:lnTo>
                  <a:lnTo>
                    <a:pt x="1004" y="3751"/>
                  </a:lnTo>
                  <a:lnTo>
                    <a:pt x="923" y="3699"/>
                  </a:lnTo>
                  <a:lnTo>
                    <a:pt x="844" y="3643"/>
                  </a:lnTo>
                  <a:lnTo>
                    <a:pt x="769" y="3584"/>
                  </a:lnTo>
                  <a:lnTo>
                    <a:pt x="696" y="3521"/>
                  </a:lnTo>
                  <a:lnTo>
                    <a:pt x="627" y="3455"/>
                  </a:lnTo>
                  <a:lnTo>
                    <a:pt x="560" y="3385"/>
                  </a:lnTo>
                  <a:lnTo>
                    <a:pt x="498" y="3313"/>
                  </a:lnTo>
                  <a:lnTo>
                    <a:pt x="438" y="3237"/>
                  </a:lnTo>
                  <a:lnTo>
                    <a:pt x="383" y="3159"/>
                  </a:lnTo>
                  <a:lnTo>
                    <a:pt x="330" y="3078"/>
                  </a:lnTo>
                  <a:lnTo>
                    <a:pt x="283" y="2994"/>
                  </a:lnTo>
                  <a:lnTo>
                    <a:pt x="238" y="2908"/>
                  </a:lnTo>
                  <a:lnTo>
                    <a:pt x="198" y="2819"/>
                  </a:lnTo>
                  <a:lnTo>
                    <a:pt x="163" y="2729"/>
                  </a:lnTo>
                  <a:lnTo>
                    <a:pt x="131" y="2636"/>
                  </a:lnTo>
                  <a:lnTo>
                    <a:pt x="104" y="2541"/>
                  </a:lnTo>
                  <a:lnTo>
                    <a:pt x="82" y="2445"/>
                  </a:lnTo>
                  <a:lnTo>
                    <a:pt x="64" y="2346"/>
                  </a:lnTo>
                  <a:lnTo>
                    <a:pt x="51" y="2246"/>
                  </a:lnTo>
                  <a:lnTo>
                    <a:pt x="44" y="2144"/>
                  </a:lnTo>
                  <a:lnTo>
                    <a:pt x="41" y="2042"/>
                  </a:lnTo>
                  <a:lnTo>
                    <a:pt x="44" y="1939"/>
                  </a:lnTo>
                  <a:lnTo>
                    <a:pt x="51" y="1838"/>
                  </a:lnTo>
                  <a:lnTo>
                    <a:pt x="64" y="1737"/>
                  </a:lnTo>
                  <a:lnTo>
                    <a:pt x="82" y="1639"/>
                  </a:lnTo>
                  <a:lnTo>
                    <a:pt x="104" y="1542"/>
                  </a:lnTo>
                  <a:lnTo>
                    <a:pt x="131" y="1447"/>
                  </a:lnTo>
                  <a:lnTo>
                    <a:pt x="163" y="1354"/>
                  </a:lnTo>
                  <a:lnTo>
                    <a:pt x="198" y="1263"/>
                  </a:lnTo>
                  <a:lnTo>
                    <a:pt x="238" y="1174"/>
                  </a:lnTo>
                  <a:lnTo>
                    <a:pt x="283" y="1088"/>
                  </a:lnTo>
                  <a:lnTo>
                    <a:pt x="330" y="1005"/>
                  </a:lnTo>
                  <a:lnTo>
                    <a:pt x="383" y="924"/>
                  </a:lnTo>
                  <a:lnTo>
                    <a:pt x="438" y="845"/>
                  </a:lnTo>
                  <a:lnTo>
                    <a:pt x="498" y="769"/>
                  </a:lnTo>
                  <a:lnTo>
                    <a:pt x="560" y="697"/>
                  </a:lnTo>
                  <a:lnTo>
                    <a:pt x="627" y="628"/>
                  </a:lnTo>
                  <a:lnTo>
                    <a:pt x="696" y="562"/>
                  </a:lnTo>
                  <a:lnTo>
                    <a:pt x="769" y="498"/>
                  </a:lnTo>
                  <a:lnTo>
                    <a:pt x="844" y="439"/>
                  </a:lnTo>
                  <a:lnTo>
                    <a:pt x="923" y="384"/>
                  </a:lnTo>
                  <a:lnTo>
                    <a:pt x="1004" y="332"/>
                  </a:lnTo>
                  <a:lnTo>
                    <a:pt x="1088" y="283"/>
                  </a:lnTo>
                  <a:lnTo>
                    <a:pt x="1174" y="239"/>
                  </a:lnTo>
                  <a:lnTo>
                    <a:pt x="1263" y="199"/>
                  </a:lnTo>
                  <a:lnTo>
                    <a:pt x="1353" y="164"/>
                  </a:lnTo>
                  <a:lnTo>
                    <a:pt x="1446" y="132"/>
                  </a:lnTo>
                  <a:lnTo>
                    <a:pt x="1541" y="105"/>
                  </a:lnTo>
                  <a:lnTo>
                    <a:pt x="1638" y="83"/>
                  </a:lnTo>
                  <a:lnTo>
                    <a:pt x="1737" y="65"/>
                  </a:lnTo>
                  <a:lnTo>
                    <a:pt x="1836" y="52"/>
                  </a:lnTo>
                  <a:lnTo>
                    <a:pt x="1938" y="45"/>
                  </a:lnTo>
                  <a:lnTo>
                    <a:pt x="2041" y="43"/>
                  </a:lnTo>
                  <a:lnTo>
                    <a:pt x="2144" y="45"/>
                  </a:lnTo>
                  <a:lnTo>
                    <a:pt x="2246" y="52"/>
                  </a:lnTo>
                  <a:lnTo>
                    <a:pt x="2345" y="65"/>
                  </a:lnTo>
                  <a:lnTo>
                    <a:pt x="2444" y="83"/>
                  </a:lnTo>
                  <a:lnTo>
                    <a:pt x="2541" y="105"/>
                  </a:lnTo>
                  <a:lnTo>
                    <a:pt x="2636" y="132"/>
                  </a:lnTo>
                  <a:lnTo>
                    <a:pt x="2729" y="164"/>
                  </a:lnTo>
                  <a:lnTo>
                    <a:pt x="2820" y="199"/>
                  </a:lnTo>
                  <a:lnTo>
                    <a:pt x="2908" y="239"/>
                  </a:lnTo>
                  <a:lnTo>
                    <a:pt x="2995" y="283"/>
                  </a:lnTo>
                  <a:lnTo>
                    <a:pt x="3078" y="332"/>
                  </a:lnTo>
                  <a:lnTo>
                    <a:pt x="3159" y="384"/>
                  </a:lnTo>
                  <a:lnTo>
                    <a:pt x="3238" y="439"/>
                  </a:lnTo>
                  <a:lnTo>
                    <a:pt x="3314" y="498"/>
                  </a:lnTo>
                  <a:lnTo>
                    <a:pt x="3386" y="562"/>
                  </a:lnTo>
                  <a:lnTo>
                    <a:pt x="3455" y="628"/>
                  </a:lnTo>
                  <a:lnTo>
                    <a:pt x="3522" y="697"/>
                  </a:lnTo>
                  <a:lnTo>
                    <a:pt x="3585" y="769"/>
                  </a:lnTo>
                  <a:lnTo>
                    <a:pt x="3644" y="845"/>
                  </a:lnTo>
                  <a:lnTo>
                    <a:pt x="3699" y="924"/>
                  </a:lnTo>
                  <a:lnTo>
                    <a:pt x="3751" y="1005"/>
                  </a:lnTo>
                  <a:lnTo>
                    <a:pt x="3800" y="1088"/>
                  </a:lnTo>
                  <a:lnTo>
                    <a:pt x="3844" y="1174"/>
                  </a:lnTo>
                  <a:lnTo>
                    <a:pt x="3884" y="1263"/>
                  </a:lnTo>
                  <a:lnTo>
                    <a:pt x="3920" y="1354"/>
                  </a:lnTo>
                  <a:lnTo>
                    <a:pt x="3951" y="1447"/>
                  </a:lnTo>
                  <a:lnTo>
                    <a:pt x="3978" y="1542"/>
                  </a:lnTo>
                  <a:lnTo>
                    <a:pt x="4001" y="1639"/>
                  </a:lnTo>
                  <a:lnTo>
                    <a:pt x="4018" y="1737"/>
                  </a:lnTo>
                  <a:lnTo>
                    <a:pt x="4031" y="1838"/>
                  </a:lnTo>
                  <a:lnTo>
                    <a:pt x="4039" y="1939"/>
                  </a:lnTo>
                  <a:lnTo>
                    <a:pt x="4041" y="2042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72080" y="2195640"/>
              <a:ext cx="1604880" cy="1603080"/>
            </a:xfrm>
            <a:custGeom>
              <a:avLst/>
              <a:gdLst/>
              <a:ahLst/>
              <a:rect l="l" t="t" r="r" b="b"/>
              <a:pathLst>
                <a:path w="4042" h="4040">
                  <a:moveTo>
                    <a:pt x="4042" y="2021"/>
                  </a:moveTo>
                  <a:lnTo>
                    <a:pt x="4039" y="1917"/>
                  </a:lnTo>
                  <a:lnTo>
                    <a:pt x="4032" y="1814"/>
                  </a:lnTo>
                  <a:lnTo>
                    <a:pt x="4019" y="1713"/>
                  </a:lnTo>
                  <a:lnTo>
                    <a:pt x="4001" y="1614"/>
                  </a:lnTo>
                  <a:lnTo>
                    <a:pt x="3979" y="1515"/>
                  </a:lnTo>
                  <a:lnTo>
                    <a:pt x="3952" y="1420"/>
                  </a:lnTo>
                  <a:lnTo>
                    <a:pt x="3919" y="1326"/>
                  </a:lnTo>
                  <a:lnTo>
                    <a:pt x="3883" y="1234"/>
                  </a:lnTo>
                  <a:lnTo>
                    <a:pt x="3842" y="1145"/>
                  </a:lnTo>
                  <a:lnTo>
                    <a:pt x="3798" y="1057"/>
                  </a:lnTo>
                  <a:lnTo>
                    <a:pt x="3750" y="973"/>
                  </a:lnTo>
                  <a:lnTo>
                    <a:pt x="3697" y="891"/>
                  </a:lnTo>
                  <a:lnTo>
                    <a:pt x="3640" y="812"/>
                  </a:lnTo>
                  <a:lnTo>
                    <a:pt x="3581" y="735"/>
                  </a:lnTo>
                  <a:lnTo>
                    <a:pt x="3517" y="662"/>
                  </a:lnTo>
                  <a:lnTo>
                    <a:pt x="3450" y="592"/>
                  </a:lnTo>
                  <a:lnTo>
                    <a:pt x="3380" y="525"/>
                  </a:lnTo>
                  <a:lnTo>
                    <a:pt x="3306" y="462"/>
                  </a:lnTo>
                  <a:lnTo>
                    <a:pt x="3230" y="402"/>
                  </a:lnTo>
                  <a:lnTo>
                    <a:pt x="3151" y="346"/>
                  </a:lnTo>
                  <a:lnTo>
                    <a:pt x="3069" y="293"/>
                  </a:lnTo>
                  <a:lnTo>
                    <a:pt x="2984" y="244"/>
                  </a:lnTo>
                  <a:lnTo>
                    <a:pt x="2897" y="200"/>
                  </a:lnTo>
                  <a:lnTo>
                    <a:pt x="2807" y="159"/>
                  </a:lnTo>
                  <a:lnTo>
                    <a:pt x="2717" y="123"/>
                  </a:lnTo>
                  <a:lnTo>
                    <a:pt x="2623" y="91"/>
                  </a:lnTo>
                  <a:lnTo>
                    <a:pt x="2526" y="64"/>
                  </a:lnTo>
                  <a:lnTo>
                    <a:pt x="2428" y="41"/>
                  </a:lnTo>
                  <a:lnTo>
                    <a:pt x="2329" y="24"/>
                  </a:lnTo>
                  <a:lnTo>
                    <a:pt x="2228" y="11"/>
                  </a:lnTo>
                  <a:lnTo>
                    <a:pt x="2125" y="3"/>
                  </a:lnTo>
                  <a:lnTo>
                    <a:pt x="2021" y="0"/>
                  </a:lnTo>
                  <a:lnTo>
                    <a:pt x="1917" y="3"/>
                  </a:lnTo>
                  <a:lnTo>
                    <a:pt x="1814" y="11"/>
                  </a:lnTo>
                  <a:lnTo>
                    <a:pt x="1714" y="24"/>
                  </a:lnTo>
                  <a:lnTo>
                    <a:pt x="1614" y="41"/>
                  </a:lnTo>
                  <a:lnTo>
                    <a:pt x="1516" y="64"/>
                  </a:lnTo>
                  <a:lnTo>
                    <a:pt x="1420" y="91"/>
                  </a:lnTo>
                  <a:lnTo>
                    <a:pt x="1326" y="123"/>
                  </a:lnTo>
                  <a:lnTo>
                    <a:pt x="1235" y="159"/>
                  </a:lnTo>
                  <a:lnTo>
                    <a:pt x="1145" y="200"/>
                  </a:lnTo>
                  <a:lnTo>
                    <a:pt x="1058" y="244"/>
                  </a:lnTo>
                  <a:lnTo>
                    <a:pt x="974" y="293"/>
                  </a:lnTo>
                  <a:lnTo>
                    <a:pt x="891" y="346"/>
                  </a:lnTo>
                  <a:lnTo>
                    <a:pt x="812" y="402"/>
                  </a:lnTo>
                  <a:lnTo>
                    <a:pt x="736" y="462"/>
                  </a:lnTo>
                  <a:lnTo>
                    <a:pt x="662" y="525"/>
                  </a:lnTo>
                  <a:lnTo>
                    <a:pt x="592" y="592"/>
                  </a:lnTo>
                  <a:lnTo>
                    <a:pt x="525" y="662"/>
                  </a:lnTo>
                  <a:lnTo>
                    <a:pt x="461" y="735"/>
                  </a:lnTo>
                  <a:lnTo>
                    <a:pt x="402" y="812"/>
                  </a:lnTo>
                  <a:lnTo>
                    <a:pt x="346" y="891"/>
                  </a:lnTo>
                  <a:lnTo>
                    <a:pt x="293" y="973"/>
                  </a:lnTo>
                  <a:lnTo>
                    <a:pt x="244" y="1057"/>
                  </a:lnTo>
                  <a:lnTo>
                    <a:pt x="200" y="1145"/>
                  </a:lnTo>
                  <a:lnTo>
                    <a:pt x="159" y="1234"/>
                  </a:lnTo>
                  <a:lnTo>
                    <a:pt x="123" y="1326"/>
                  </a:lnTo>
                  <a:lnTo>
                    <a:pt x="91" y="1420"/>
                  </a:lnTo>
                  <a:lnTo>
                    <a:pt x="64" y="1515"/>
                  </a:lnTo>
                  <a:lnTo>
                    <a:pt x="41" y="1614"/>
                  </a:lnTo>
                  <a:lnTo>
                    <a:pt x="24" y="1713"/>
                  </a:lnTo>
                  <a:lnTo>
                    <a:pt x="11" y="1814"/>
                  </a:lnTo>
                  <a:lnTo>
                    <a:pt x="3" y="1917"/>
                  </a:lnTo>
                  <a:lnTo>
                    <a:pt x="0" y="2021"/>
                  </a:lnTo>
                  <a:lnTo>
                    <a:pt x="3" y="2124"/>
                  </a:lnTo>
                  <a:lnTo>
                    <a:pt x="11" y="2227"/>
                  </a:lnTo>
                  <a:lnTo>
                    <a:pt x="24" y="2328"/>
                  </a:lnTo>
                  <a:lnTo>
                    <a:pt x="41" y="2428"/>
                  </a:lnTo>
                  <a:lnTo>
                    <a:pt x="64" y="2525"/>
                  </a:lnTo>
                  <a:lnTo>
                    <a:pt x="91" y="2621"/>
                  </a:lnTo>
                  <a:lnTo>
                    <a:pt x="123" y="2715"/>
                  </a:lnTo>
                  <a:lnTo>
                    <a:pt x="159" y="2807"/>
                  </a:lnTo>
                  <a:lnTo>
                    <a:pt x="200" y="2897"/>
                  </a:lnTo>
                  <a:lnTo>
                    <a:pt x="244" y="2983"/>
                  </a:lnTo>
                  <a:lnTo>
                    <a:pt x="293" y="3068"/>
                  </a:lnTo>
                  <a:lnTo>
                    <a:pt x="346" y="3149"/>
                  </a:lnTo>
                  <a:lnTo>
                    <a:pt x="402" y="3229"/>
                  </a:lnTo>
                  <a:lnTo>
                    <a:pt x="461" y="3305"/>
                  </a:lnTo>
                  <a:lnTo>
                    <a:pt x="525" y="3378"/>
                  </a:lnTo>
                  <a:lnTo>
                    <a:pt x="592" y="3448"/>
                  </a:lnTo>
                  <a:lnTo>
                    <a:pt x="662" y="3515"/>
                  </a:lnTo>
                  <a:lnTo>
                    <a:pt x="736" y="3579"/>
                  </a:lnTo>
                  <a:lnTo>
                    <a:pt x="812" y="3640"/>
                  </a:lnTo>
                  <a:lnTo>
                    <a:pt x="891" y="3696"/>
                  </a:lnTo>
                  <a:lnTo>
                    <a:pt x="974" y="3748"/>
                  </a:lnTo>
                  <a:lnTo>
                    <a:pt x="1058" y="3796"/>
                  </a:lnTo>
                  <a:lnTo>
                    <a:pt x="1145" y="3842"/>
                  </a:lnTo>
                  <a:lnTo>
                    <a:pt x="1235" y="3882"/>
                  </a:lnTo>
                  <a:lnTo>
                    <a:pt x="1326" y="3918"/>
                  </a:lnTo>
                  <a:lnTo>
                    <a:pt x="1420" y="3950"/>
                  </a:lnTo>
                  <a:lnTo>
                    <a:pt x="1516" y="3977"/>
                  </a:lnTo>
                  <a:lnTo>
                    <a:pt x="1614" y="3999"/>
                  </a:lnTo>
                  <a:lnTo>
                    <a:pt x="1714" y="4018"/>
                  </a:lnTo>
                  <a:lnTo>
                    <a:pt x="1814" y="4029"/>
                  </a:lnTo>
                  <a:lnTo>
                    <a:pt x="1917" y="4038"/>
                  </a:lnTo>
                  <a:lnTo>
                    <a:pt x="2021" y="4040"/>
                  </a:lnTo>
                  <a:lnTo>
                    <a:pt x="2125" y="4038"/>
                  </a:lnTo>
                  <a:lnTo>
                    <a:pt x="2228" y="4029"/>
                  </a:lnTo>
                  <a:lnTo>
                    <a:pt x="2329" y="4018"/>
                  </a:lnTo>
                  <a:lnTo>
                    <a:pt x="2428" y="3999"/>
                  </a:lnTo>
                  <a:lnTo>
                    <a:pt x="2526" y="3977"/>
                  </a:lnTo>
                  <a:lnTo>
                    <a:pt x="2623" y="3950"/>
                  </a:lnTo>
                  <a:lnTo>
                    <a:pt x="2717" y="3918"/>
                  </a:lnTo>
                  <a:lnTo>
                    <a:pt x="2807" y="3882"/>
                  </a:lnTo>
                  <a:lnTo>
                    <a:pt x="2897" y="3842"/>
                  </a:lnTo>
                  <a:lnTo>
                    <a:pt x="2984" y="3796"/>
                  </a:lnTo>
                  <a:lnTo>
                    <a:pt x="3069" y="3748"/>
                  </a:lnTo>
                  <a:lnTo>
                    <a:pt x="3151" y="3696"/>
                  </a:lnTo>
                  <a:lnTo>
                    <a:pt x="3230" y="3640"/>
                  </a:lnTo>
                  <a:lnTo>
                    <a:pt x="3306" y="3579"/>
                  </a:lnTo>
                  <a:lnTo>
                    <a:pt x="3380" y="3515"/>
                  </a:lnTo>
                  <a:lnTo>
                    <a:pt x="3450" y="3448"/>
                  </a:lnTo>
                  <a:lnTo>
                    <a:pt x="3517" y="3378"/>
                  </a:lnTo>
                  <a:lnTo>
                    <a:pt x="3581" y="3305"/>
                  </a:lnTo>
                  <a:lnTo>
                    <a:pt x="3640" y="3229"/>
                  </a:lnTo>
                  <a:lnTo>
                    <a:pt x="3697" y="3149"/>
                  </a:lnTo>
                  <a:lnTo>
                    <a:pt x="3750" y="3068"/>
                  </a:lnTo>
                  <a:lnTo>
                    <a:pt x="3798" y="2983"/>
                  </a:lnTo>
                  <a:lnTo>
                    <a:pt x="3842" y="2897"/>
                  </a:lnTo>
                  <a:lnTo>
                    <a:pt x="3883" y="2807"/>
                  </a:lnTo>
                  <a:lnTo>
                    <a:pt x="3919" y="2715"/>
                  </a:lnTo>
                  <a:lnTo>
                    <a:pt x="3952" y="2621"/>
                  </a:lnTo>
                  <a:lnTo>
                    <a:pt x="3979" y="2525"/>
                  </a:lnTo>
                  <a:lnTo>
                    <a:pt x="4001" y="2428"/>
                  </a:lnTo>
                  <a:lnTo>
                    <a:pt x="4019" y="2328"/>
                  </a:lnTo>
                  <a:lnTo>
                    <a:pt x="4032" y="2227"/>
                  </a:lnTo>
                  <a:lnTo>
                    <a:pt x="4039" y="2124"/>
                  </a:lnTo>
                  <a:lnTo>
                    <a:pt x="4042" y="2021"/>
                  </a:lnTo>
                  <a:close/>
                  <a:moveTo>
                    <a:pt x="4000" y="2021"/>
                  </a:moveTo>
                  <a:lnTo>
                    <a:pt x="3998" y="2122"/>
                  </a:lnTo>
                  <a:lnTo>
                    <a:pt x="3990" y="2223"/>
                  </a:lnTo>
                  <a:lnTo>
                    <a:pt x="3977" y="2322"/>
                  </a:lnTo>
                  <a:lnTo>
                    <a:pt x="3960" y="2419"/>
                  </a:lnTo>
                  <a:lnTo>
                    <a:pt x="3939" y="2515"/>
                  </a:lnTo>
                  <a:lnTo>
                    <a:pt x="3912" y="2608"/>
                  </a:lnTo>
                  <a:lnTo>
                    <a:pt x="3880" y="2701"/>
                  </a:lnTo>
                  <a:lnTo>
                    <a:pt x="3845" y="2791"/>
                  </a:lnTo>
                  <a:lnTo>
                    <a:pt x="3806" y="2878"/>
                  </a:lnTo>
                  <a:lnTo>
                    <a:pt x="3761" y="2964"/>
                  </a:lnTo>
                  <a:lnTo>
                    <a:pt x="3714" y="3047"/>
                  </a:lnTo>
                  <a:lnTo>
                    <a:pt x="3662" y="3127"/>
                  </a:lnTo>
                  <a:lnTo>
                    <a:pt x="3607" y="3204"/>
                  </a:lnTo>
                  <a:lnTo>
                    <a:pt x="3549" y="3279"/>
                  </a:lnTo>
                  <a:lnTo>
                    <a:pt x="3486" y="3350"/>
                  </a:lnTo>
                  <a:lnTo>
                    <a:pt x="3421" y="3419"/>
                  </a:lnTo>
                  <a:lnTo>
                    <a:pt x="3352" y="3485"/>
                  </a:lnTo>
                  <a:lnTo>
                    <a:pt x="3281" y="3547"/>
                  </a:lnTo>
                  <a:lnTo>
                    <a:pt x="3205" y="3606"/>
                  </a:lnTo>
                  <a:lnTo>
                    <a:pt x="3128" y="3661"/>
                  </a:lnTo>
                  <a:lnTo>
                    <a:pt x="3047" y="3712"/>
                  </a:lnTo>
                  <a:lnTo>
                    <a:pt x="2965" y="3759"/>
                  </a:lnTo>
                  <a:lnTo>
                    <a:pt x="2880" y="3804"/>
                  </a:lnTo>
                  <a:lnTo>
                    <a:pt x="2791" y="3844"/>
                  </a:lnTo>
                  <a:lnTo>
                    <a:pt x="2701" y="3878"/>
                  </a:lnTo>
                  <a:lnTo>
                    <a:pt x="2610" y="3910"/>
                  </a:lnTo>
                  <a:lnTo>
                    <a:pt x="2516" y="3937"/>
                  </a:lnTo>
                  <a:lnTo>
                    <a:pt x="2420" y="3958"/>
                  </a:lnTo>
                  <a:lnTo>
                    <a:pt x="2322" y="3975"/>
                  </a:lnTo>
                  <a:lnTo>
                    <a:pt x="2224" y="3988"/>
                  </a:lnTo>
                  <a:lnTo>
                    <a:pt x="2123" y="3996"/>
                  </a:lnTo>
                  <a:lnTo>
                    <a:pt x="2021" y="3999"/>
                  </a:lnTo>
                  <a:lnTo>
                    <a:pt x="1919" y="3996"/>
                  </a:lnTo>
                  <a:lnTo>
                    <a:pt x="1819" y="3988"/>
                  </a:lnTo>
                  <a:lnTo>
                    <a:pt x="1720" y="3975"/>
                  </a:lnTo>
                  <a:lnTo>
                    <a:pt x="1622" y="3958"/>
                  </a:lnTo>
                  <a:lnTo>
                    <a:pt x="1527" y="3937"/>
                  </a:lnTo>
                  <a:lnTo>
                    <a:pt x="1433" y="3910"/>
                  </a:lnTo>
                  <a:lnTo>
                    <a:pt x="1341" y="3878"/>
                  </a:lnTo>
                  <a:lnTo>
                    <a:pt x="1251" y="3844"/>
                  </a:lnTo>
                  <a:lnTo>
                    <a:pt x="1163" y="3804"/>
                  </a:lnTo>
                  <a:lnTo>
                    <a:pt x="1077" y="3759"/>
                  </a:lnTo>
                  <a:lnTo>
                    <a:pt x="995" y="3712"/>
                  </a:lnTo>
                  <a:lnTo>
                    <a:pt x="914" y="3661"/>
                  </a:lnTo>
                  <a:lnTo>
                    <a:pt x="837" y="3606"/>
                  </a:lnTo>
                  <a:lnTo>
                    <a:pt x="762" y="3547"/>
                  </a:lnTo>
                  <a:lnTo>
                    <a:pt x="691" y="3485"/>
                  </a:lnTo>
                  <a:lnTo>
                    <a:pt x="621" y="3419"/>
                  </a:lnTo>
                  <a:lnTo>
                    <a:pt x="557" y="3350"/>
                  </a:lnTo>
                  <a:lnTo>
                    <a:pt x="494" y="3279"/>
                  </a:lnTo>
                  <a:lnTo>
                    <a:pt x="435" y="3204"/>
                  </a:lnTo>
                  <a:lnTo>
                    <a:pt x="380" y="3127"/>
                  </a:lnTo>
                  <a:lnTo>
                    <a:pt x="329" y="3047"/>
                  </a:lnTo>
                  <a:lnTo>
                    <a:pt x="281" y="2964"/>
                  </a:lnTo>
                  <a:lnTo>
                    <a:pt x="237" y="2878"/>
                  </a:lnTo>
                  <a:lnTo>
                    <a:pt x="198" y="2791"/>
                  </a:lnTo>
                  <a:lnTo>
                    <a:pt x="162" y="2701"/>
                  </a:lnTo>
                  <a:lnTo>
                    <a:pt x="131" y="2608"/>
                  </a:lnTo>
                  <a:lnTo>
                    <a:pt x="104" y="2515"/>
                  </a:lnTo>
                  <a:lnTo>
                    <a:pt x="82" y="2419"/>
                  </a:lnTo>
                  <a:lnTo>
                    <a:pt x="65" y="2322"/>
                  </a:lnTo>
                  <a:lnTo>
                    <a:pt x="52" y="2223"/>
                  </a:lnTo>
                  <a:lnTo>
                    <a:pt x="44" y="2122"/>
                  </a:lnTo>
                  <a:lnTo>
                    <a:pt x="42" y="2021"/>
                  </a:lnTo>
                  <a:lnTo>
                    <a:pt x="44" y="1918"/>
                  </a:lnTo>
                  <a:lnTo>
                    <a:pt x="52" y="1818"/>
                  </a:lnTo>
                  <a:lnTo>
                    <a:pt x="65" y="1719"/>
                  </a:lnTo>
                  <a:lnTo>
                    <a:pt x="82" y="1622"/>
                  </a:lnTo>
                  <a:lnTo>
                    <a:pt x="104" y="1526"/>
                  </a:lnTo>
                  <a:lnTo>
                    <a:pt x="131" y="1432"/>
                  </a:lnTo>
                  <a:lnTo>
                    <a:pt x="162" y="1340"/>
                  </a:lnTo>
                  <a:lnTo>
                    <a:pt x="198" y="1251"/>
                  </a:lnTo>
                  <a:lnTo>
                    <a:pt x="237" y="1163"/>
                  </a:lnTo>
                  <a:lnTo>
                    <a:pt x="281" y="1078"/>
                  </a:lnTo>
                  <a:lnTo>
                    <a:pt x="329" y="995"/>
                  </a:lnTo>
                  <a:lnTo>
                    <a:pt x="380" y="915"/>
                  </a:lnTo>
                  <a:lnTo>
                    <a:pt x="435" y="837"/>
                  </a:lnTo>
                  <a:lnTo>
                    <a:pt x="494" y="762"/>
                  </a:lnTo>
                  <a:lnTo>
                    <a:pt x="557" y="690"/>
                  </a:lnTo>
                  <a:lnTo>
                    <a:pt x="621" y="622"/>
                  </a:lnTo>
                  <a:lnTo>
                    <a:pt x="691" y="556"/>
                  </a:lnTo>
                  <a:lnTo>
                    <a:pt x="762" y="494"/>
                  </a:lnTo>
                  <a:lnTo>
                    <a:pt x="837" y="435"/>
                  </a:lnTo>
                  <a:lnTo>
                    <a:pt x="914" y="380"/>
                  </a:lnTo>
                  <a:lnTo>
                    <a:pt x="995" y="328"/>
                  </a:lnTo>
                  <a:lnTo>
                    <a:pt x="1077" y="281"/>
                  </a:lnTo>
                  <a:lnTo>
                    <a:pt x="1163" y="238"/>
                  </a:lnTo>
                  <a:lnTo>
                    <a:pt x="1251" y="198"/>
                  </a:lnTo>
                  <a:lnTo>
                    <a:pt x="1341" y="162"/>
                  </a:lnTo>
                  <a:lnTo>
                    <a:pt x="1433" y="131"/>
                  </a:lnTo>
                  <a:lnTo>
                    <a:pt x="1527" y="105"/>
                  </a:lnTo>
                  <a:lnTo>
                    <a:pt x="1622" y="82"/>
                  </a:lnTo>
                  <a:lnTo>
                    <a:pt x="1720" y="65"/>
                  </a:lnTo>
                  <a:lnTo>
                    <a:pt x="1819" y="52"/>
                  </a:lnTo>
                  <a:lnTo>
                    <a:pt x="1919" y="44"/>
                  </a:lnTo>
                  <a:lnTo>
                    <a:pt x="2021" y="42"/>
                  </a:lnTo>
                  <a:lnTo>
                    <a:pt x="2123" y="44"/>
                  </a:lnTo>
                  <a:lnTo>
                    <a:pt x="2224" y="52"/>
                  </a:lnTo>
                  <a:lnTo>
                    <a:pt x="2322" y="65"/>
                  </a:lnTo>
                  <a:lnTo>
                    <a:pt x="2420" y="82"/>
                  </a:lnTo>
                  <a:lnTo>
                    <a:pt x="2516" y="105"/>
                  </a:lnTo>
                  <a:lnTo>
                    <a:pt x="2610" y="131"/>
                  </a:lnTo>
                  <a:lnTo>
                    <a:pt x="2701" y="162"/>
                  </a:lnTo>
                  <a:lnTo>
                    <a:pt x="2791" y="198"/>
                  </a:lnTo>
                  <a:lnTo>
                    <a:pt x="2880" y="238"/>
                  </a:lnTo>
                  <a:lnTo>
                    <a:pt x="2965" y="281"/>
                  </a:lnTo>
                  <a:lnTo>
                    <a:pt x="3047" y="328"/>
                  </a:lnTo>
                  <a:lnTo>
                    <a:pt x="3128" y="380"/>
                  </a:lnTo>
                  <a:lnTo>
                    <a:pt x="3205" y="435"/>
                  </a:lnTo>
                  <a:lnTo>
                    <a:pt x="3281" y="494"/>
                  </a:lnTo>
                  <a:lnTo>
                    <a:pt x="3352" y="556"/>
                  </a:lnTo>
                  <a:lnTo>
                    <a:pt x="3421" y="622"/>
                  </a:lnTo>
                  <a:lnTo>
                    <a:pt x="3486" y="690"/>
                  </a:lnTo>
                  <a:lnTo>
                    <a:pt x="3549" y="762"/>
                  </a:lnTo>
                  <a:lnTo>
                    <a:pt x="3607" y="837"/>
                  </a:lnTo>
                  <a:lnTo>
                    <a:pt x="3662" y="915"/>
                  </a:lnTo>
                  <a:lnTo>
                    <a:pt x="3714" y="995"/>
                  </a:lnTo>
                  <a:lnTo>
                    <a:pt x="3761" y="1078"/>
                  </a:lnTo>
                  <a:lnTo>
                    <a:pt x="3806" y="1163"/>
                  </a:lnTo>
                  <a:lnTo>
                    <a:pt x="3845" y="1251"/>
                  </a:lnTo>
                  <a:lnTo>
                    <a:pt x="3880" y="1340"/>
                  </a:lnTo>
                  <a:lnTo>
                    <a:pt x="3912" y="1432"/>
                  </a:lnTo>
                  <a:lnTo>
                    <a:pt x="3939" y="1526"/>
                  </a:lnTo>
                  <a:lnTo>
                    <a:pt x="3960" y="1622"/>
                  </a:lnTo>
                  <a:lnTo>
                    <a:pt x="3977" y="1719"/>
                  </a:lnTo>
                  <a:lnTo>
                    <a:pt x="3990" y="1818"/>
                  </a:lnTo>
                  <a:lnTo>
                    <a:pt x="3998" y="1918"/>
                  </a:lnTo>
                  <a:lnTo>
                    <a:pt x="4000" y="202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80000" y="2203560"/>
              <a:ext cx="1587240" cy="1587240"/>
            </a:xfrm>
            <a:custGeom>
              <a:avLst/>
              <a:gdLst/>
              <a:ahLst/>
              <a:rect l="l" t="t" r="r" b="b"/>
              <a:pathLst>
                <a:path w="4000" h="3998">
                  <a:moveTo>
                    <a:pt x="4000" y="1999"/>
                  </a:moveTo>
                  <a:lnTo>
                    <a:pt x="3998" y="1896"/>
                  </a:lnTo>
                  <a:lnTo>
                    <a:pt x="3990" y="1795"/>
                  </a:lnTo>
                  <a:lnTo>
                    <a:pt x="3977" y="1694"/>
                  </a:lnTo>
                  <a:lnTo>
                    <a:pt x="3960" y="1596"/>
                  </a:lnTo>
                  <a:lnTo>
                    <a:pt x="3937" y="1499"/>
                  </a:lnTo>
                  <a:lnTo>
                    <a:pt x="3910" y="1404"/>
                  </a:lnTo>
                  <a:lnTo>
                    <a:pt x="3879" y="1311"/>
                  </a:lnTo>
                  <a:lnTo>
                    <a:pt x="3843" y="1220"/>
                  </a:lnTo>
                  <a:lnTo>
                    <a:pt x="3803" y="1131"/>
                  </a:lnTo>
                  <a:lnTo>
                    <a:pt x="3759" y="1045"/>
                  </a:lnTo>
                  <a:lnTo>
                    <a:pt x="3710" y="962"/>
                  </a:lnTo>
                  <a:lnTo>
                    <a:pt x="3658" y="881"/>
                  </a:lnTo>
                  <a:lnTo>
                    <a:pt x="3603" y="802"/>
                  </a:lnTo>
                  <a:lnTo>
                    <a:pt x="3544" y="726"/>
                  </a:lnTo>
                  <a:lnTo>
                    <a:pt x="3481" y="654"/>
                  </a:lnTo>
                  <a:lnTo>
                    <a:pt x="3414" y="585"/>
                  </a:lnTo>
                  <a:lnTo>
                    <a:pt x="3345" y="519"/>
                  </a:lnTo>
                  <a:lnTo>
                    <a:pt x="3273" y="455"/>
                  </a:lnTo>
                  <a:lnTo>
                    <a:pt x="3197" y="396"/>
                  </a:lnTo>
                  <a:lnTo>
                    <a:pt x="3118" y="341"/>
                  </a:lnTo>
                  <a:lnTo>
                    <a:pt x="3037" y="289"/>
                  </a:lnTo>
                  <a:lnTo>
                    <a:pt x="2954" y="240"/>
                  </a:lnTo>
                  <a:lnTo>
                    <a:pt x="2867" y="196"/>
                  </a:lnTo>
                  <a:lnTo>
                    <a:pt x="2779" y="156"/>
                  </a:lnTo>
                  <a:lnTo>
                    <a:pt x="2688" y="121"/>
                  </a:lnTo>
                  <a:lnTo>
                    <a:pt x="2595" y="89"/>
                  </a:lnTo>
                  <a:lnTo>
                    <a:pt x="2500" y="62"/>
                  </a:lnTo>
                  <a:lnTo>
                    <a:pt x="2403" y="40"/>
                  </a:lnTo>
                  <a:lnTo>
                    <a:pt x="2304" y="22"/>
                  </a:lnTo>
                  <a:lnTo>
                    <a:pt x="2205" y="9"/>
                  </a:lnTo>
                  <a:lnTo>
                    <a:pt x="2103" y="2"/>
                  </a:lnTo>
                  <a:lnTo>
                    <a:pt x="2000" y="0"/>
                  </a:lnTo>
                  <a:lnTo>
                    <a:pt x="1897" y="2"/>
                  </a:lnTo>
                  <a:lnTo>
                    <a:pt x="1795" y="9"/>
                  </a:lnTo>
                  <a:lnTo>
                    <a:pt x="1696" y="22"/>
                  </a:lnTo>
                  <a:lnTo>
                    <a:pt x="1597" y="40"/>
                  </a:lnTo>
                  <a:lnTo>
                    <a:pt x="1500" y="62"/>
                  </a:lnTo>
                  <a:lnTo>
                    <a:pt x="1405" y="89"/>
                  </a:lnTo>
                  <a:lnTo>
                    <a:pt x="1312" y="121"/>
                  </a:lnTo>
                  <a:lnTo>
                    <a:pt x="1222" y="156"/>
                  </a:lnTo>
                  <a:lnTo>
                    <a:pt x="1133" y="196"/>
                  </a:lnTo>
                  <a:lnTo>
                    <a:pt x="1047" y="240"/>
                  </a:lnTo>
                  <a:lnTo>
                    <a:pt x="963" y="289"/>
                  </a:lnTo>
                  <a:lnTo>
                    <a:pt x="882" y="341"/>
                  </a:lnTo>
                  <a:lnTo>
                    <a:pt x="803" y="396"/>
                  </a:lnTo>
                  <a:lnTo>
                    <a:pt x="728" y="455"/>
                  </a:lnTo>
                  <a:lnTo>
                    <a:pt x="655" y="519"/>
                  </a:lnTo>
                  <a:lnTo>
                    <a:pt x="586" y="585"/>
                  </a:lnTo>
                  <a:lnTo>
                    <a:pt x="519" y="654"/>
                  </a:lnTo>
                  <a:lnTo>
                    <a:pt x="457" y="726"/>
                  </a:lnTo>
                  <a:lnTo>
                    <a:pt x="397" y="802"/>
                  </a:lnTo>
                  <a:lnTo>
                    <a:pt x="342" y="881"/>
                  </a:lnTo>
                  <a:lnTo>
                    <a:pt x="289" y="962"/>
                  </a:lnTo>
                  <a:lnTo>
                    <a:pt x="242" y="1045"/>
                  </a:lnTo>
                  <a:lnTo>
                    <a:pt x="197" y="1131"/>
                  </a:lnTo>
                  <a:lnTo>
                    <a:pt x="157" y="1220"/>
                  </a:lnTo>
                  <a:lnTo>
                    <a:pt x="122" y="1311"/>
                  </a:lnTo>
                  <a:lnTo>
                    <a:pt x="90" y="1404"/>
                  </a:lnTo>
                  <a:lnTo>
                    <a:pt x="63" y="1499"/>
                  </a:lnTo>
                  <a:lnTo>
                    <a:pt x="41" y="1596"/>
                  </a:lnTo>
                  <a:lnTo>
                    <a:pt x="23" y="1694"/>
                  </a:lnTo>
                  <a:lnTo>
                    <a:pt x="10" y="1795"/>
                  </a:lnTo>
                  <a:lnTo>
                    <a:pt x="3" y="1896"/>
                  </a:lnTo>
                  <a:lnTo>
                    <a:pt x="0" y="1999"/>
                  </a:lnTo>
                  <a:lnTo>
                    <a:pt x="3" y="2101"/>
                  </a:lnTo>
                  <a:lnTo>
                    <a:pt x="10" y="2203"/>
                  </a:lnTo>
                  <a:lnTo>
                    <a:pt x="23" y="2303"/>
                  </a:lnTo>
                  <a:lnTo>
                    <a:pt x="41" y="2402"/>
                  </a:lnTo>
                  <a:lnTo>
                    <a:pt x="63" y="2498"/>
                  </a:lnTo>
                  <a:lnTo>
                    <a:pt x="90" y="2593"/>
                  </a:lnTo>
                  <a:lnTo>
                    <a:pt x="122" y="2686"/>
                  </a:lnTo>
                  <a:lnTo>
                    <a:pt x="157" y="2776"/>
                  </a:lnTo>
                  <a:lnTo>
                    <a:pt x="197" y="2865"/>
                  </a:lnTo>
                  <a:lnTo>
                    <a:pt x="242" y="2951"/>
                  </a:lnTo>
                  <a:lnTo>
                    <a:pt x="289" y="3035"/>
                  </a:lnTo>
                  <a:lnTo>
                    <a:pt x="342" y="3116"/>
                  </a:lnTo>
                  <a:lnTo>
                    <a:pt x="397" y="3194"/>
                  </a:lnTo>
                  <a:lnTo>
                    <a:pt x="457" y="3270"/>
                  </a:lnTo>
                  <a:lnTo>
                    <a:pt x="519" y="3342"/>
                  </a:lnTo>
                  <a:lnTo>
                    <a:pt x="586" y="3412"/>
                  </a:lnTo>
                  <a:lnTo>
                    <a:pt x="655" y="3478"/>
                  </a:lnTo>
                  <a:lnTo>
                    <a:pt x="728" y="3541"/>
                  </a:lnTo>
                  <a:lnTo>
                    <a:pt x="803" y="3600"/>
                  </a:lnTo>
                  <a:lnTo>
                    <a:pt x="882" y="3656"/>
                  </a:lnTo>
                  <a:lnTo>
                    <a:pt x="963" y="3708"/>
                  </a:lnTo>
                  <a:lnTo>
                    <a:pt x="1047" y="3756"/>
                  </a:lnTo>
                  <a:lnTo>
                    <a:pt x="1133" y="3800"/>
                  </a:lnTo>
                  <a:lnTo>
                    <a:pt x="1222" y="3840"/>
                  </a:lnTo>
                  <a:lnTo>
                    <a:pt x="1312" y="3877"/>
                  </a:lnTo>
                  <a:lnTo>
                    <a:pt x="1405" y="3908"/>
                  </a:lnTo>
                  <a:lnTo>
                    <a:pt x="1500" y="3935"/>
                  </a:lnTo>
                  <a:lnTo>
                    <a:pt x="1597" y="3957"/>
                  </a:lnTo>
                  <a:lnTo>
                    <a:pt x="1696" y="3975"/>
                  </a:lnTo>
                  <a:lnTo>
                    <a:pt x="1795" y="3987"/>
                  </a:lnTo>
                  <a:lnTo>
                    <a:pt x="1897" y="3995"/>
                  </a:lnTo>
                  <a:lnTo>
                    <a:pt x="2000" y="3998"/>
                  </a:lnTo>
                  <a:lnTo>
                    <a:pt x="2103" y="3995"/>
                  </a:lnTo>
                  <a:lnTo>
                    <a:pt x="2205" y="3987"/>
                  </a:lnTo>
                  <a:lnTo>
                    <a:pt x="2304" y="3975"/>
                  </a:lnTo>
                  <a:lnTo>
                    <a:pt x="2403" y="3957"/>
                  </a:lnTo>
                  <a:lnTo>
                    <a:pt x="2500" y="3935"/>
                  </a:lnTo>
                  <a:lnTo>
                    <a:pt x="2595" y="3908"/>
                  </a:lnTo>
                  <a:lnTo>
                    <a:pt x="2688" y="3877"/>
                  </a:lnTo>
                  <a:lnTo>
                    <a:pt x="2779" y="3840"/>
                  </a:lnTo>
                  <a:lnTo>
                    <a:pt x="2867" y="3800"/>
                  </a:lnTo>
                  <a:lnTo>
                    <a:pt x="2954" y="3756"/>
                  </a:lnTo>
                  <a:lnTo>
                    <a:pt x="3037" y="3708"/>
                  </a:lnTo>
                  <a:lnTo>
                    <a:pt x="3118" y="3656"/>
                  </a:lnTo>
                  <a:lnTo>
                    <a:pt x="3197" y="3600"/>
                  </a:lnTo>
                  <a:lnTo>
                    <a:pt x="3273" y="3541"/>
                  </a:lnTo>
                  <a:lnTo>
                    <a:pt x="3345" y="3478"/>
                  </a:lnTo>
                  <a:lnTo>
                    <a:pt x="3414" y="3412"/>
                  </a:lnTo>
                  <a:lnTo>
                    <a:pt x="3481" y="3342"/>
                  </a:lnTo>
                  <a:lnTo>
                    <a:pt x="3544" y="3270"/>
                  </a:lnTo>
                  <a:lnTo>
                    <a:pt x="3603" y="3194"/>
                  </a:lnTo>
                  <a:lnTo>
                    <a:pt x="3658" y="3116"/>
                  </a:lnTo>
                  <a:lnTo>
                    <a:pt x="3710" y="3035"/>
                  </a:lnTo>
                  <a:lnTo>
                    <a:pt x="3759" y="2951"/>
                  </a:lnTo>
                  <a:lnTo>
                    <a:pt x="3803" y="2865"/>
                  </a:lnTo>
                  <a:lnTo>
                    <a:pt x="3843" y="2776"/>
                  </a:lnTo>
                  <a:lnTo>
                    <a:pt x="3879" y="2686"/>
                  </a:lnTo>
                  <a:lnTo>
                    <a:pt x="3910" y="2593"/>
                  </a:lnTo>
                  <a:lnTo>
                    <a:pt x="3937" y="2498"/>
                  </a:lnTo>
                  <a:lnTo>
                    <a:pt x="3960" y="2402"/>
                  </a:lnTo>
                  <a:lnTo>
                    <a:pt x="3977" y="2303"/>
                  </a:lnTo>
                  <a:lnTo>
                    <a:pt x="3990" y="2203"/>
                  </a:lnTo>
                  <a:lnTo>
                    <a:pt x="3998" y="2101"/>
                  </a:lnTo>
                  <a:lnTo>
                    <a:pt x="4000" y="1999"/>
                  </a:lnTo>
                  <a:close/>
                  <a:moveTo>
                    <a:pt x="3959" y="1999"/>
                  </a:moveTo>
                  <a:lnTo>
                    <a:pt x="3956" y="2099"/>
                  </a:lnTo>
                  <a:lnTo>
                    <a:pt x="3949" y="2198"/>
                  </a:lnTo>
                  <a:lnTo>
                    <a:pt x="3936" y="2297"/>
                  </a:lnTo>
                  <a:lnTo>
                    <a:pt x="3919" y="2393"/>
                  </a:lnTo>
                  <a:lnTo>
                    <a:pt x="3897" y="2488"/>
                  </a:lnTo>
                  <a:lnTo>
                    <a:pt x="3870" y="2581"/>
                  </a:lnTo>
                  <a:lnTo>
                    <a:pt x="3840" y="2672"/>
                  </a:lnTo>
                  <a:lnTo>
                    <a:pt x="3804" y="2760"/>
                  </a:lnTo>
                  <a:lnTo>
                    <a:pt x="3765" y="2848"/>
                  </a:lnTo>
                  <a:lnTo>
                    <a:pt x="3722" y="2932"/>
                  </a:lnTo>
                  <a:lnTo>
                    <a:pt x="3676" y="3014"/>
                  </a:lnTo>
                  <a:lnTo>
                    <a:pt x="3624" y="3093"/>
                  </a:lnTo>
                  <a:lnTo>
                    <a:pt x="3570" y="3169"/>
                  </a:lnTo>
                  <a:lnTo>
                    <a:pt x="3511" y="3244"/>
                  </a:lnTo>
                  <a:lnTo>
                    <a:pt x="3450" y="3314"/>
                  </a:lnTo>
                  <a:lnTo>
                    <a:pt x="3385" y="3382"/>
                  </a:lnTo>
                  <a:lnTo>
                    <a:pt x="3317" y="3447"/>
                  </a:lnTo>
                  <a:lnTo>
                    <a:pt x="3246" y="3509"/>
                  </a:lnTo>
                  <a:lnTo>
                    <a:pt x="3172" y="3567"/>
                  </a:lnTo>
                  <a:lnTo>
                    <a:pt x="3095" y="3622"/>
                  </a:lnTo>
                  <a:lnTo>
                    <a:pt x="3015" y="3673"/>
                  </a:lnTo>
                  <a:lnTo>
                    <a:pt x="2933" y="3719"/>
                  </a:lnTo>
                  <a:lnTo>
                    <a:pt x="2849" y="3763"/>
                  </a:lnTo>
                  <a:lnTo>
                    <a:pt x="2763" y="3802"/>
                  </a:lnTo>
                  <a:lnTo>
                    <a:pt x="2674" y="3837"/>
                  </a:lnTo>
                  <a:lnTo>
                    <a:pt x="2582" y="3868"/>
                  </a:lnTo>
                  <a:lnTo>
                    <a:pt x="2489" y="3894"/>
                  </a:lnTo>
                  <a:lnTo>
                    <a:pt x="2395" y="3916"/>
                  </a:lnTo>
                  <a:lnTo>
                    <a:pt x="2298" y="3933"/>
                  </a:lnTo>
                  <a:lnTo>
                    <a:pt x="2201" y="3946"/>
                  </a:lnTo>
                  <a:lnTo>
                    <a:pt x="2101" y="3953"/>
                  </a:lnTo>
                  <a:lnTo>
                    <a:pt x="2000" y="3956"/>
                  </a:lnTo>
                  <a:lnTo>
                    <a:pt x="1899" y="3953"/>
                  </a:lnTo>
                  <a:lnTo>
                    <a:pt x="1800" y="3946"/>
                  </a:lnTo>
                  <a:lnTo>
                    <a:pt x="1701" y="3933"/>
                  </a:lnTo>
                  <a:lnTo>
                    <a:pt x="1605" y="3916"/>
                  </a:lnTo>
                  <a:lnTo>
                    <a:pt x="1511" y="3894"/>
                  </a:lnTo>
                  <a:lnTo>
                    <a:pt x="1418" y="3868"/>
                  </a:lnTo>
                  <a:lnTo>
                    <a:pt x="1326" y="3837"/>
                  </a:lnTo>
                  <a:lnTo>
                    <a:pt x="1238" y="3802"/>
                  </a:lnTo>
                  <a:lnTo>
                    <a:pt x="1151" y="3763"/>
                  </a:lnTo>
                  <a:lnTo>
                    <a:pt x="1067" y="3719"/>
                  </a:lnTo>
                  <a:lnTo>
                    <a:pt x="985" y="3673"/>
                  </a:lnTo>
                  <a:lnTo>
                    <a:pt x="905" y="3622"/>
                  </a:lnTo>
                  <a:lnTo>
                    <a:pt x="828" y="3567"/>
                  </a:lnTo>
                  <a:lnTo>
                    <a:pt x="755" y="3509"/>
                  </a:lnTo>
                  <a:lnTo>
                    <a:pt x="684" y="3447"/>
                  </a:lnTo>
                  <a:lnTo>
                    <a:pt x="615" y="3382"/>
                  </a:lnTo>
                  <a:lnTo>
                    <a:pt x="551" y="3314"/>
                  </a:lnTo>
                  <a:lnTo>
                    <a:pt x="489" y="3244"/>
                  </a:lnTo>
                  <a:lnTo>
                    <a:pt x="431" y="3169"/>
                  </a:lnTo>
                  <a:lnTo>
                    <a:pt x="377" y="3093"/>
                  </a:lnTo>
                  <a:lnTo>
                    <a:pt x="325" y="3014"/>
                  </a:lnTo>
                  <a:lnTo>
                    <a:pt x="278" y="2932"/>
                  </a:lnTo>
                  <a:lnTo>
                    <a:pt x="235" y="2848"/>
                  </a:lnTo>
                  <a:lnTo>
                    <a:pt x="195" y="2760"/>
                  </a:lnTo>
                  <a:lnTo>
                    <a:pt x="161" y="2672"/>
                  </a:lnTo>
                  <a:lnTo>
                    <a:pt x="130" y="2581"/>
                  </a:lnTo>
                  <a:lnTo>
                    <a:pt x="103" y="2488"/>
                  </a:lnTo>
                  <a:lnTo>
                    <a:pt x="82" y="2393"/>
                  </a:lnTo>
                  <a:lnTo>
                    <a:pt x="64" y="2297"/>
                  </a:lnTo>
                  <a:lnTo>
                    <a:pt x="51" y="2198"/>
                  </a:lnTo>
                  <a:lnTo>
                    <a:pt x="44" y="2099"/>
                  </a:lnTo>
                  <a:lnTo>
                    <a:pt x="42" y="1999"/>
                  </a:lnTo>
                  <a:lnTo>
                    <a:pt x="44" y="1897"/>
                  </a:lnTo>
                  <a:lnTo>
                    <a:pt x="51" y="1798"/>
                  </a:lnTo>
                  <a:lnTo>
                    <a:pt x="64" y="1701"/>
                  </a:lnTo>
                  <a:lnTo>
                    <a:pt x="82" y="1603"/>
                  </a:lnTo>
                  <a:lnTo>
                    <a:pt x="103" y="1509"/>
                  </a:lnTo>
                  <a:lnTo>
                    <a:pt x="130" y="1417"/>
                  </a:lnTo>
                  <a:lnTo>
                    <a:pt x="161" y="1326"/>
                  </a:lnTo>
                  <a:lnTo>
                    <a:pt x="195" y="1236"/>
                  </a:lnTo>
                  <a:lnTo>
                    <a:pt x="235" y="1150"/>
                  </a:lnTo>
                  <a:lnTo>
                    <a:pt x="278" y="1066"/>
                  </a:lnTo>
                  <a:lnTo>
                    <a:pt x="325" y="983"/>
                  </a:lnTo>
                  <a:lnTo>
                    <a:pt x="377" y="904"/>
                  </a:lnTo>
                  <a:lnTo>
                    <a:pt x="431" y="827"/>
                  </a:lnTo>
                  <a:lnTo>
                    <a:pt x="489" y="753"/>
                  </a:lnTo>
                  <a:lnTo>
                    <a:pt x="551" y="682"/>
                  </a:lnTo>
                  <a:lnTo>
                    <a:pt x="615" y="614"/>
                  </a:lnTo>
                  <a:lnTo>
                    <a:pt x="684" y="549"/>
                  </a:lnTo>
                  <a:lnTo>
                    <a:pt x="755" y="488"/>
                  </a:lnTo>
                  <a:lnTo>
                    <a:pt x="828" y="429"/>
                  </a:lnTo>
                  <a:lnTo>
                    <a:pt x="905" y="375"/>
                  </a:lnTo>
                  <a:lnTo>
                    <a:pt x="985" y="325"/>
                  </a:lnTo>
                  <a:lnTo>
                    <a:pt x="1067" y="277"/>
                  </a:lnTo>
                  <a:lnTo>
                    <a:pt x="1151" y="234"/>
                  </a:lnTo>
                  <a:lnTo>
                    <a:pt x="1238" y="195"/>
                  </a:lnTo>
                  <a:lnTo>
                    <a:pt x="1326" y="159"/>
                  </a:lnTo>
                  <a:lnTo>
                    <a:pt x="1418" y="129"/>
                  </a:lnTo>
                  <a:lnTo>
                    <a:pt x="1511" y="102"/>
                  </a:lnTo>
                  <a:lnTo>
                    <a:pt x="1605" y="81"/>
                  </a:lnTo>
                  <a:lnTo>
                    <a:pt x="1701" y="63"/>
                  </a:lnTo>
                  <a:lnTo>
                    <a:pt x="1800" y="51"/>
                  </a:lnTo>
                  <a:lnTo>
                    <a:pt x="1899" y="44"/>
                  </a:lnTo>
                  <a:lnTo>
                    <a:pt x="2000" y="41"/>
                  </a:lnTo>
                  <a:lnTo>
                    <a:pt x="2101" y="44"/>
                  </a:lnTo>
                  <a:lnTo>
                    <a:pt x="2201" y="51"/>
                  </a:lnTo>
                  <a:lnTo>
                    <a:pt x="2298" y="63"/>
                  </a:lnTo>
                  <a:lnTo>
                    <a:pt x="2395" y="81"/>
                  </a:lnTo>
                  <a:lnTo>
                    <a:pt x="2489" y="102"/>
                  </a:lnTo>
                  <a:lnTo>
                    <a:pt x="2582" y="129"/>
                  </a:lnTo>
                  <a:lnTo>
                    <a:pt x="2674" y="159"/>
                  </a:lnTo>
                  <a:lnTo>
                    <a:pt x="2763" y="195"/>
                  </a:lnTo>
                  <a:lnTo>
                    <a:pt x="2849" y="234"/>
                  </a:lnTo>
                  <a:lnTo>
                    <a:pt x="2933" y="277"/>
                  </a:lnTo>
                  <a:lnTo>
                    <a:pt x="3015" y="325"/>
                  </a:lnTo>
                  <a:lnTo>
                    <a:pt x="3095" y="375"/>
                  </a:lnTo>
                  <a:lnTo>
                    <a:pt x="3172" y="429"/>
                  </a:lnTo>
                  <a:lnTo>
                    <a:pt x="3246" y="488"/>
                  </a:lnTo>
                  <a:lnTo>
                    <a:pt x="3317" y="549"/>
                  </a:lnTo>
                  <a:lnTo>
                    <a:pt x="3385" y="614"/>
                  </a:lnTo>
                  <a:lnTo>
                    <a:pt x="3450" y="682"/>
                  </a:lnTo>
                  <a:lnTo>
                    <a:pt x="3511" y="753"/>
                  </a:lnTo>
                  <a:lnTo>
                    <a:pt x="3570" y="827"/>
                  </a:lnTo>
                  <a:lnTo>
                    <a:pt x="3624" y="904"/>
                  </a:lnTo>
                  <a:lnTo>
                    <a:pt x="3676" y="983"/>
                  </a:lnTo>
                  <a:lnTo>
                    <a:pt x="3722" y="1066"/>
                  </a:lnTo>
                  <a:lnTo>
                    <a:pt x="3765" y="1150"/>
                  </a:lnTo>
                  <a:lnTo>
                    <a:pt x="3804" y="1236"/>
                  </a:lnTo>
                  <a:lnTo>
                    <a:pt x="3840" y="1326"/>
                  </a:lnTo>
                  <a:lnTo>
                    <a:pt x="3870" y="1417"/>
                  </a:lnTo>
                  <a:lnTo>
                    <a:pt x="3897" y="1509"/>
                  </a:lnTo>
                  <a:lnTo>
                    <a:pt x="3919" y="1603"/>
                  </a:lnTo>
                  <a:lnTo>
                    <a:pt x="3936" y="1701"/>
                  </a:lnTo>
                  <a:lnTo>
                    <a:pt x="3949" y="1798"/>
                  </a:lnTo>
                  <a:lnTo>
                    <a:pt x="3956" y="1897"/>
                  </a:lnTo>
                  <a:lnTo>
                    <a:pt x="3959" y="199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89360" y="2212920"/>
              <a:ext cx="1569960" cy="1569960"/>
            </a:xfrm>
            <a:custGeom>
              <a:avLst/>
              <a:gdLst/>
              <a:ahLst/>
              <a:rect l="l" t="t" r="r" b="b"/>
              <a:pathLst>
                <a:path w="3958" h="3957">
                  <a:moveTo>
                    <a:pt x="3958" y="1979"/>
                  </a:moveTo>
                  <a:lnTo>
                    <a:pt x="3956" y="1876"/>
                  </a:lnTo>
                  <a:lnTo>
                    <a:pt x="3948" y="1776"/>
                  </a:lnTo>
                  <a:lnTo>
                    <a:pt x="3935" y="1677"/>
                  </a:lnTo>
                  <a:lnTo>
                    <a:pt x="3918" y="1580"/>
                  </a:lnTo>
                  <a:lnTo>
                    <a:pt x="3897" y="1484"/>
                  </a:lnTo>
                  <a:lnTo>
                    <a:pt x="3870" y="1390"/>
                  </a:lnTo>
                  <a:lnTo>
                    <a:pt x="3838" y="1298"/>
                  </a:lnTo>
                  <a:lnTo>
                    <a:pt x="3803" y="1209"/>
                  </a:lnTo>
                  <a:lnTo>
                    <a:pt x="3764" y="1121"/>
                  </a:lnTo>
                  <a:lnTo>
                    <a:pt x="3719" y="1036"/>
                  </a:lnTo>
                  <a:lnTo>
                    <a:pt x="3672" y="953"/>
                  </a:lnTo>
                  <a:lnTo>
                    <a:pt x="3620" y="873"/>
                  </a:lnTo>
                  <a:lnTo>
                    <a:pt x="3565" y="795"/>
                  </a:lnTo>
                  <a:lnTo>
                    <a:pt x="3507" y="720"/>
                  </a:lnTo>
                  <a:lnTo>
                    <a:pt x="3444" y="648"/>
                  </a:lnTo>
                  <a:lnTo>
                    <a:pt x="3379" y="580"/>
                  </a:lnTo>
                  <a:lnTo>
                    <a:pt x="3310" y="514"/>
                  </a:lnTo>
                  <a:lnTo>
                    <a:pt x="3239" y="452"/>
                  </a:lnTo>
                  <a:lnTo>
                    <a:pt x="3163" y="393"/>
                  </a:lnTo>
                  <a:lnTo>
                    <a:pt x="3086" y="338"/>
                  </a:lnTo>
                  <a:lnTo>
                    <a:pt x="3005" y="286"/>
                  </a:lnTo>
                  <a:lnTo>
                    <a:pt x="2923" y="239"/>
                  </a:lnTo>
                  <a:lnTo>
                    <a:pt x="2838" y="196"/>
                  </a:lnTo>
                  <a:lnTo>
                    <a:pt x="2749" y="156"/>
                  </a:lnTo>
                  <a:lnTo>
                    <a:pt x="2659" y="120"/>
                  </a:lnTo>
                  <a:lnTo>
                    <a:pt x="2568" y="89"/>
                  </a:lnTo>
                  <a:lnTo>
                    <a:pt x="2474" y="63"/>
                  </a:lnTo>
                  <a:lnTo>
                    <a:pt x="2378" y="40"/>
                  </a:lnTo>
                  <a:lnTo>
                    <a:pt x="2280" y="23"/>
                  </a:lnTo>
                  <a:lnTo>
                    <a:pt x="2182" y="10"/>
                  </a:lnTo>
                  <a:lnTo>
                    <a:pt x="2081" y="2"/>
                  </a:lnTo>
                  <a:lnTo>
                    <a:pt x="1979" y="0"/>
                  </a:lnTo>
                  <a:lnTo>
                    <a:pt x="1877" y="2"/>
                  </a:lnTo>
                  <a:lnTo>
                    <a:pt x="1777" y="10"/>
                  </a:lnTo>
                  <a:lnTo>
                    <a:pt x="1678" y="23"/>
                  </a:lnTo>
                  <a:lnTo>
                    <a:pt x="1580" y="40"/>
                  </a:lnTo>
                  <a:lnTo>
                    <a:pt x="1485" y="63"/>
                  </a:lnTo>
                  <a:lnTo>
                    <a:pt x="1391" y="89"/>
                  </a:lnTo>
                  <a:lnTo>
                    <a:pt x="1299" y="120"/>
                  </a:lnTo>
                  <a:lnTo>
                    <a:pt x="1209" y="156"/>
                  </a:lnTo>
                  <a:lnTo>
                    <a:pt x="1121" y="196"/>
                  </a:lnTo>
                  <a:lnTo>
                    <a:pt x="1035" y="239"/>
                  </a:lnTo>
                  <a:lnTo>
                    <a:pt x="953" y="286"/>
                  </a:lnTo>
                  <a:lnTo>
                    <a:pt x="872" y="338"/>
                  </a:lnTo>
                  <a:lnTo>
                    <a:pt x="795" y="393"/>
                  </a:lnTo>
                  <a:lnTo>
                    <a:pt x="720" y="452"/>
                  </a:lnTo>
                  <a:lnTo>
                    <a:pt x="649" y="514"/>
                  </a:lnTo>
                  <a:lnTo>
                    <a:pt x="579" y="580"/>
                  </a:lnTo>
                  <a:lnTo>
                    <a:pt x="515" y="648"/>
                  </a:lnTo>
                  <a:lnTo>
                    <a:pt x="452" y="720"/>
                  </a:lnTo>
                  <a:lnTo>
                    <a:pt x="393" y="795"/>
                  </a:lnTo>
                  <a:lnTo>
                    <a:pt x="338" y="873"/>
                  </a:lnTo>
                  <a:lnTo>
                    <a:pt x="287" y="953"/>
                  </a:lnTo>
                  <a:lnTo>
                    <a:pt x="239" y="1036"/>
                  </a:lnTo>
                  <a:lnTo>
                    <a:pt x="195" y="1121"/>
                  </a:lnTo>
                  <a:lnTo>
                    <a:pt x="156" y="1209"/>
                  </a:lnTo>
                  <a:lnTo>
                    <a:pt x="120" y="1298"/>
                  </a:lnTo>
                  <a:lnTo>
                    <a:pt x="89" y="1390"/>
                  </a:lnTo>
                  <a:lnTo>
                    <a:pt x="62" y="1484"/>
                  </a:lnTo>
                  <a:lnTo>
                    <a:pt x="40" y="1580"/>
                  </a:lnTo>
                  <a:lnTo>
                    <a:pt x="23" y="1677"/>
                  </a:lnTo>
                  <a:lnTo>
                    <a:pt x="10" y="1776"/>
                  </a:lnTo>
                  <a:lnTo>
                    <a:pt x="2" y="1876"/>
                  </a:lnTo>
                  <a:lnTo>
                    <a:pt x="0" y="1979"/>
                  </a:lnTo>
                  <a:lnTo>
                    <a:pt x="2" y="2080"/>
                  </a:lnTo>
                  <a:lnTo>
                    <a:pt x="10" y="2181"/>
                  </a:lnTo>
                  <a:lnTo>
                    <a:pt x="23" y="2280"/>
                  </a:lnTo>
                  <a:lnTo>
                    <a:pt x="40" y="2377"/>
                  </a:lnTo>
                  <a:lnTo>
                    <a:pt x="62" y="2473"/>
                  </a:lnTo>
                  <a:lnTo>
                    <a:pt x="89" y="2566"/>
                  </a:lnTo>
                  <a:lnTo>
                    <a:pt x="120" y="2659"/>
                  </a:lnTo>
                  <a:lnTo>
                    <a:pt x="156" y="2749"/>
                  </a:lnTo>
                  <a:lnTo>
                    <a:pt x="195" y="2836"/>
                  </a:lnTo>
                  <a:lnTo>
                    <a:pt x="239" y="2922"/>
                  </a:lnTo>
                  <a:lnTo>
                    <a:pt x="287" y="3005"/>
                  </a:lnTo>
                  <a:lnTo>
                    <a:pt x="338" y="3085"/>
                  </a:lnTo>
                  <a:lnTo>
                    <a:pt x="393" y="3162"/>
                  </a:lnTo>
                  <a:lnTo>
                    <a:pt x="452" y="3237"/>
                  </a:lnTo>
                  <a:lnTo>
                    <a:pt x="515" y="3308"/>
                  </a:lnTo>
                  <a:lnTo>
                    <a:pt x="579" y="3377"/>
                  </a:lnTo>
                  <a:lnTo>
                    <a:pt x="649" y="3443"/>
                  </a:lnTo>
                  <a:lnTo>
                    <a:pt x="720" y="3505"/>
                  </a:lnTo>
                  <a:lnTo>
                    <a:pt x="795" y="3564"/>
                  </a:lnTo>
                  <a:lnTo>
                    <a:pt x="872" y="3619"/>
                  </a:lnTo>
                  <a:lnTo>
                    <a:pt x="953" y="3670"/>
                  </a:lnTo>
                  <a:lnTo>
                    <a:pt x="1035" y="3717"/>
                  </a:lnTo>
                  <a:lnTo>
                    <a:pt x="1121" y="3762"/>
                  </a:lnTo>
                  <a:lnTo>
                    <a:pt x="1209" y="3802"/>
                  </a:lnTo>
                  <a:lnTo>
                    <a:pt x="1299" y="3836"/>
                  </a:lnTo>
                  <a:lnTo>
                    <a:pt x="1391" y="3868"/>
                  </a:lnTo>
                  <a:lnTo>
                    <a:pt x="1485" y="3895"/>
                  </a:lnTo>
                  <a:lnTo>
                    <a:pt x="1580" y="3916"/>
                  </a:lnTo>
                  <a:lnTo>
                    <a:pt x="1678" y="3933"/>
                  </a:lnTo>
                  <a:lnTo>
                    <a:pt x="1777" y="3946"/>
                  </a:lnTo>
                  <a:lnTo>
                    <a:pt x="1877" y="3954"/>
                  </a:lnTo>
                  <a:lnTo>
                    <a:pt x="1979" y="3957"/>
                  </a:lnTo>
                  <a:lnTo>
                    <a:pt x="2081" y="3954"/>
                  </a:lnTo>
                  <a:lnTo>
                    <a:pt x="2182" y="3946"/>
                  </a:lnTo>
                  <a:lnTo>
                    <a:pt x="2280" y="3933"/>
                  </a:lnTo>
                  <a:lnTo>
                    <a:pt x="2378" y="3916"/>
                  </a:lnTo>
                  <a:lnTo>
                    <a:pt x="2474" y="3895"/>
                  </a:lnTo>
                  <a:lnTo>
                    <a:pt x="2568" y="3868"/>
                  </a:lnTo>
                  <a:lnTo>
                    <a:pt x="2659" y="3836"/>
                  </a:lnTo>
                  <a:lnTo>
                    <a:pt x="2749" y="3802"/>
                  </a:lnTo>
                  <a:lnTo>
                    <a:pt x="2838" y="3762"/>
                  </a:lnTo>
                  <a:lnTo>
                    <a:pt x="2923" y="3717"/>
                  </a:lnTo>
                  <a:lnTo>
                    <a:pt x="3005" y="3670"/>
                  </a:lnTo>
                  <a:lnTo>
                    <a:pt x="3086" y="3619"/>
                  </a:lnTo>
                  <a:lnTo>
                    <a:pt x="3163" y="3564"/>
                  </a:lnTo>
                  <a:lnTo>
                    <a:pt x="3239" y="3505"/>
                  </a:lnTo>
                  <a:lnTo>
                    <a:pt x="3310" y="3443"/>
                  </a:lnTo>
                  <a:lnTo>
                    <a:pt x="3379" y="3377"/>
                  </a:lnTo>
                  <a:lnTo>
                    <a:pt x="3444" y="3308"/>
                  </a:lnTo>
                  <a:lnTo>
                    <a:pt x="3507" y="3237"/>
                  </a:lnTo>
                  <a:lnTo>
                    <a:pt x="3565" y="3162"/>
                  </a:lnTo>
                  <a:lnTo>
                    <a:pt x="3620" y="3085"/>
                  </a:lnTo>
                  <a:lnTo>
                    <a:pt x="3672" y="3005"/>
                  </a:lnTo>
                  <a:lnTo>
                    <a:pt x="3719" y="2922"/>
                  </a:lnTo>
                  <a:lnTo>
                    <a:pt x="3764" y="2836"/>
                  </a:lnTo>
                  <a:lnTo>
                    <a:pt x="3803" y="2749"/>
                  </a:lnTo>
                  <a:lnTo>
                    <a:pt x="3838" y="2659"/>
                  </a:lnTo>
                  <a:lnTo>
                    <a:pt x="3870" y="2566"/>
                  </a:lnTo>
                  <a:lnTo>
                    <a:pt x="3897" y="2473"/>
                  </a:lnTo>
                  <a:lnTo>
                    <a:pt x="3918" y="2377"/>
                  </a:lnTo>
                  <a:lnTo>
                    <a:pt x="3935" y="2280"/>
                  </a:lnTo>
                  <a:lnTo>
                    <a:pt x="3948" y="2181"/>
                  </a:lnTo>
                  <a:lnTo>
                    <a:pt x="3956" y="2080"/>
                  </a:lnTo>
                  <a:lnTo>
                    <a:pt x="3958" y="1979"/>
                  </a:lnTo>
                  <a:close/>
                  <a:moveTo>
                    <a:pt x="3917" y="1979"/>
                  </a:moveTo>
                  <a:lnTo>
                    <a:pt x="3914" y="2078"/>
                  </a:lnTo>
                  <a:lnTo>
                    <a:pt x="3906" y="2176"/>
                  </a:lnTo>
                  <a:lnTo>
                    <a:pt x="3894" y="2274"/>
                  </a:lnTo>
                  <a:lnTo>
                    <a:pt x="3877" y="2369"/>
                  </a:lnTo>
                  <a:lnTo>
                    <a:pt x="3856" y="2463"/>
                  </a:lnTo>
                  <a:lnTo>
                    <a:pt x="3830" y="2554"/>
                  </a:lnTo>
                  <a:lnTo>
                    <a:pt x="3799" y="2644"/>
                  </a:lnTo>
                  <a:lnTo>
                    <a:pt x="3765" y="2733"/>
                  </a:lnTo>
                  <a:lnTo>
                    <a:pt x="3726" y="2818"/>
                  </a:lnTo>
                  <a:lnTo>
                    <a:pt x="3683" y="2901"/>
                  </a:lnTo>
                  <a:lnTo>
                    <a:pt x="3636" y="2983"/>
                  </a:lnTo>
                  <a:lnTo>
                    <a:pt x="3585" y="3061"/>
                  </a:lnTo>
                  <a:lnTo>
                    <a:pt x="3531" y="3138"/>
                  </a:lnTo>
                  <a:lnTo>
                    <a:pt x="3474" y="3210"/>
                  </a:lnTo>
                  <a:lnTo>
                    <a:pt x="3414" y="3280"/>
                  </a:lnTo>
                  <a:lnTo>
                    <a:pt x="3349" y="3348"/>
                  </a:lnTo>
                  <a:lnTo>
                    <a:pt x="3282" y="3412"/>
                  </a:lnTo>
                  <a:lnTo>
                    <a:pt x="3212" y="3472"/>
                  </a:lnTo>
                  <a:lnTo>
                    <a:pt x="3138" y="3531"/>
                  </a:lnTo>
                  <a:lnTo>
                    <a:pt x="3062" y="3585"/>
                  </a:lnTo>
                  <a:lnTo>
                    <a:pt x="2984" y="3634"/>
                  </a:lnTo>
                  <a:lnTo>
                    <a:pt x="2903" y="3682"/>
                  </a:lnTo>
                  <a:lnTo>
                    <a:pt x="2819" y="3724"/>
                  </a:lnTo>
                  <a:lnTo>
                    <a:pt x="2733" y="3763"/>
                  </a:lnTo>
                  <a:lnTo>
                    <a:pt x="2645" y="3797"/>
                  </a:lnTo>
                  <a:lnTo>
                    <a:pt x="2556" y="3828"/>
                  </a:lnTo>
                  <a:lnTo>
                    <a:pt x="2464" y="3855"/>
                  </a:lnTo>
                  <a:lnTo>
                    <a:pt x="2370" y="3876"/>
                  </a:lnTo>
                  <a:lnTo>
                    <a:pt x="2275" y="3892"/>
                  </a:lnTo>
                  <a:lnTo>
                    <a:pt x="2177" y="3905"/>
                  </a:lnTo>
                  <a:lnTo>
                    <a:pt x="2079" y="3913"/>
                  </a:lnTo>
                  <a:lnTo>
                    <a:pt x="1979" y="3915"/>
                  </a:lnTo>
                  <a:lnTo>
                    <a:pt x="1879" y="3913"/>
                  </a:lnTo>
                  <a:lnTo>
                    <a:pt x="1781" y="3905"/>
                  </a:lnTo>
                  <a:lnTo>
                    <a:pt x="1684" y="3892"/>
                  </a:lnTo>
                  <a:lnTo>
                    <a:pt x="1589" y="3876"/>
                  </a:lnTo>
                  <a:lnTo>
                    <a:pt x="1495" y="3855"/>
                  </a:lnTo>
                  <a:lnTo>
                    <a:pt x="1403" y="3828"/>
                  </a:lnTo>
                  <a:lnTo>
                    <a:pt x="1313" y="3797"/>
                  </a:lnTo>
                  <a:lnTo>
                    <a:pt x="1226" y="3763"/>
                  </a:lnTo>
                  <a:lnTo>
                    <a:pt x="1139" y="3724"/>
                  </a:lnTo>
                  <a:lnTo>
                    <a:pt x="1056" y="3682"/>
                  </a:lnTo>
                  <a:lnTo>
                    <a:pt x="975" y="3634"/>
                  </a:lnTo>
                  <a:lnTo>
                    <a:pt x="896" y="3585"/>
                  </a:lnTo>
                  <a:lnTo>
                    <a:pt x="820" y="3531"/>
                  </a:lnTo>
                  <a:lnTo>
                    <a:pt x="747" y="3472"/>
                  </a:lnTo>
                  <a:lnTo>
                    <a:pt x="677" y="3412"/>
                  </a:lnTo>
                  <a:lnTo>
                    <a:pt x="610" y="3348"/>
                  </a:lnTo>
                  <a:lnTo>
                    <a:pt x="545" y="3280"/>
                  </a:lnTo>
                  <a:lnTo>
                    <a:pt x="484" y="3210"/>
                  </a:lnTo>
                  <a:lnTo>
                    <a:pt x="427" y="3138"/>
                  </a:lnTo>
                  <a:lnTo>
                    <a:pt x="373" y="3061"/>
                  </a:lnTo>
                  <a:lnTo>
                    <a:pt x="322" y="2983"/>
                  </a:lnTo>
                  <a:lnTo>
                    <a:pt x="276" y="2901"/>
                  </a:lnTo>
                  <a:lnTo>
                    <a:pt x="232" y="2818"/>
                  </a:lnTo>
                  <a:lnTo>
                    <a:pt x="194" y="2733"/>
                  </a:lnTo>
                  <a:lnTo>
                    <a:pt x="159" y="2644"/>
                  </a:lnTo>
                  <a:lnTo>
                    <a:pt x="129" y="2554"/>
                  </a:lnTo>
                  <a:lnTo>
                    <a:pt x="103" y="2463"/>
                  </a:lnTo>
                  <a:lnTo>
                    <a:pt x="81" y="2369"/>
                  </a:lnTo>
                  <a:lnTo>
                    <a:pt x="64" y="2274"/>
                  </a:lnTo>
                  <a:lnTo>
                    <a:pt x="52" y="2176"/>
                  </a:lnTo>
                  <a:lnTo>
                    <a:pt x="44" y="2078"/>
                  </a:lnTo>
                  <a:lnTo>
                    <a:pt x="41" y="1979"/>
                  </a:lnTo>
                  <a:lnTo>
                    <a:pt x="44" y="1878"/>
                  </a:lnTo>
                  <a:lnTo>
                    <a:pt x="52" y="1780"/>
                  </a:lnTo>
                  <a:lnTo>
                    <a:pt x="64" y="1684"/>
                  </a:lnTo>
                  <a:lnTo>
                    <a:pt x="81" y="1588"/>
                  </a:lnTo>
                  <a:lnTo>
                    <a:pt x="103" y="1495"/>
                  </a:lnTo>
                  <a:lnTo>
                    <a:pt x="129" y="1403"/>
                  </a:lnTo>
                  <a:lnTo>
                    <a:pt x="159" y="1312"/>
                  </a:lnTo>
                  <a:lnTo>
                    <a:pt x="194" y="1225"/>
                  </a:lnTo>
                  <a:lnTo>
                    <a:pt x="232" y="1138"/>
                  </a:lnTo>
                  <a:lnTo>
                    <a:pt x="276" y="1055"/>
                  </a:lnTo>
                  <a:lnTo>
                    <a:pt x="322" y="974"/>
                  </a:lnTo>
                  <a:lnTo>
                    <a:pt x="373" y="895"/>
                  </a:lnTo>
                  <a:lnTo>
                    <a:pt x="427" y="820"/>
                  </a:lnTo>
                  <a:lnTo>
                    <a:pt x="484" y="746"/>
                  </a:lnTo>
                  <a:lnTo>
                    <a:pt x="545" y="676"/>
                  </a:lnTo>
                  <a:lnTo>
                    <a:pt x="610" y="609"/>
                  </a:lnTo>
                  <a:lnTo>
                    <a:pt x="677" y="544"/>
                  </a:lnTo>
                  <a:lnTo>
                    <a:pt x="747" y="484"/>
                  </a:lnTo>
                  <a:lnTo>
                    <a:pt x="820" y="427"/>
                  </a:lnTo>
                  <a:lnTo>
                    <a:pt x="896" y="373"/>
                  </a:lnTo>
                  <a:lnTo>
                    <a:pt x="975" y="322"/>
                  </a:lnTo>
                  <a:lnTo>
                    <a:pt x="1056" y="276"/>
                  </a:lnTo>
                  <a:lnTo>
                    <a:pt x="1139" y="232"/>
                  </a:lnTo>
                  <a:lnTo>
                    <a:pt x="1226" y="193"/>
                  </a:lnTo>
                  <a:lnTo>
                    <a:pt x="1313" y="159"/>
                  </a:lnTo>
                  <a:lnTo>
                    <a:pt x="1403" y="129"/>
                  </a:lnTo>
                  <a:lnTo>
                    <a:pt x="1495" y="103"/>
                  </a:lnTo>
                  <a:lnTo>
                    <a:pt x="1589" y="81"/>
                  </a:lnTo>
                  <a:lnTo>
                    <a:pt x="1684" y="64"/>
                  </a:lnTo>
                  <a:lnTo>
                    <a:pt x="1781" y="52"/>
                  </a:lnTo>
                  <a:lnTo>
                    <a:pt x="1879" y="44"/>
                  </a:lnTo>
                  <a:lnTo>
                    <a:pt x="1979" y="42"/>
                  </a:lnTo>
                  <a:lnTo>
                    <a:pt x="2079" y="44"/>
                  </a:lnTo>
                  <a:lnTo>
                    <a:pt x="2177" y="52"/>
                  </a:lnTo>
                  <a:lnTo>
                    <a:pt x="2275" y="64"/>
                  </a:lnTo>
                  <a:lnTo>
                    <a:pt x="2370" y="81"/>
                  </a:lnTo>
                  <a:lnTo>
                    <a:pt x="2464" y="103"/>
                  </a:lnTo>
                  <a:lnTo>
                    <a:pt x="2556" y="129"/>
                  </a:lnTo>
                  <a:lnTo>
                    <a:pt x="2645" y="159"/>
                  </a:lnTo>
                  <a:lnTo>
                    <a:pt x="2733" y="193"/>
                  </a:lnTo>
                  <a:lnTo>
                    <a:pt x="2819" y="232"/>
                  </a:lnTo>
                  <a:lnTo>
                    <a:pt x="2903" y="276"/>
                  </a:lnTo>
                  <a:lnTo>
                    <a:pt x="2984" y="322"/>
                  </a:lnTo>
                  <a:lnTo>
                    <a:pt x="3062" y="373"/>
                  </a:lnTo>
                  <a:lnTo>
                    <a:pt x="3138" y="427"/>
                  </a:lnTo>
                  <a:lnTo>
                    <a:pt x="3212" y="484"/>
                  </a:lnTo>
                  <a:lnTo>
                    <a:pt x="3282" y="544"/>
                  </a:lnTo>
                  <a:lnTo>
                    <a:pt x="3349" y="609"/>
                  </a:lnTo>
                  <a:lnTo>
                    <a:pt x="3414" y="676"/>
                  </a:lnTo>
                  <a:lnTo>
                    <a:pt x="3474" y="746"/>
                  </a:lnTo>
                  <a:lnTo>
                    <a:pt x="3531" y="820"/>
                  </a:lnTo>
                  <a:lnTo>
                    <a:pt x="3585" y="895"/>
                  </a:lnTo>
                  <a:lnTo>
                    <a:pt x="3636" y="974"/>
                  </a:lnTo>
                  <a:lnTo>
                    <a:pt x="3683" y="1055"/>
                  </a:lnTo>
                  <a:lnTo>
                    <a:pt x="3726" y="1138"/>
                  </a:lnTo>
                  <a:lnTo>
                    <a:pt x="3765" y="1225"/>
                  </a:lnTo>
                  <a:lnTo>
                    <a:pt x="3799" y="1312"/>
                  </a:lnTo>
                  <a:lnTo>
                    <a:pt x="3830" y="1403"/>
                  </a:lnTo>
                  <a:lnTo>
                    <a:pt x="3856" y="1495"/>
                  </a:lnTo>
                  <a:lnTo>
                    <a:pt x="3877" y="1588"/>
                  </a:lnTo>
                  <a:lnTo>
                    <a:pt x="3894" y="1684"/>
                  </a:lnTo>
                  <a:lnTo>
                    <a:pt x="3906" y="1780"/>
                  </a:lnTo>
                  <a:lnTo>
                    <a:pt x="3914" y="1878"/>
                  </a:lnTo>
                  <a:lnTo>
                    <a:pt x="3917" y="1979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97280" y="2220840"/>
              <a:ext cx="1554120" cy="1552680"/>
            </a:xfrm>
            <a:custGeom>
              <a:avLst/>
              <a:gdLst/>
              <a:ahLst/>
              <a:rect l="l" t="t" r="r" b="b"/>
              <a:pathLst>
                <a:path w="3917" h="3915">
                  <a:moveTo>
                    <a:pt x="3917" y="1958"/>
                  </a:moveTo>
                  <a:lnTo>
                    <a:pt x="3914" y="1856"/>
                  </a:lnTo>
                  <a:lnTo>
                    <a:pt x="3907" y="1757"/>
                  </a:lnTo>
                  <a:lnTo>
                    <a:pt x="3894" y="1660"/>
                  </a:lnTo>
                  <a:lnTo>
                    <a:pt x="3877" y="1562"/>
                  </a:lnTo>
                  <a:lnTo>
                    <a:pt x="3855" y="1468"/>
                  </a:lnTo>
                  <a:lnTo>
                    <a:pt x="3828" y="1376"/>
                  </a:lnTo>
                  <a:lnTo>
                    <a:pt x="3798" y="1285"/>
                  </a:lnTo>
                  <a:lnTo>
                    <a:pt x="3762" y="1195"/>
                  </a:lnTo>
                  <a:lnTo>
                    <a:pt x="3723" y="1109"/>
                  </a:lnTo>
                  <a:lnTo>
                    <a:pt x="3680" y="1025"/>
                  </a:lnTo>
                  <a:lnTo>
                    <a:pt x="3634" y="942"/>
                  </a:lnTo>
                  <a:lnTo>
                    <a:pt x="3582" y="863"/>
                  </a:lnTo>
                  <a:lnTo>
                    <a:pt x="3528" y="786"/>
                  </a:lnTo>
                  <a:lnTo>
                    <a:pt x="3469" y="712"/>
                  </a:lnTo>
                  <a:lnTo>
                    <a:pt x="3408" y="641"/>
                  </a:lnTo>
                  <a:lnTo>
                    <a:pt x="3343" y="573"/>
                  </a:lnTo>
                  <a:lnTo>
                    <a:pt x="3275" y="508"/>
                  </a:lnTo>
                  <a:lnTo>
                    <a:pt x="3204" y="447"/>
                  </a:lnTo>
                  <a:lnTo>
                    <a:pt x="3130" y="388"/>
                  </a:lnTo>
                  <a:lnTo>
                    <a:pt x="3053" y="334"/>
                  </a:lnTo>
                  <a:lnTo>
                    <a:pt x="2973" y="284"/>
                  </a:lnTo>
                  <a:lnTo>
                    <a:pt x="2891" y="236"/>
                  </a:lnTo>
                  <a:lnTo>
                    <a:pt x="2807" y="193"/>
                  </a:lnTo>
                  <a:lnTo>
                    <a:pt x="2721" y="154"/>
                  </a:lnTo>
                  <a:lnTo>
                    <a:pt x="2632" y="118"/>
                  </a:lnTo>
                  <a:lnTo>
                    <a:pt x="2540" y="88"/>
                  </a:lnTo>
                  <a:lnTo>
                    <a:pt x="2447" y="61"/>
                  </a:lnTo>
                  <a:lnTo>
                    <a:pt x="2353" y="40"/>
                  </a:lnTo>
                  <a:lnTo>
                    <a:pt x="2256" y="22"/>
                  </a:lnTo>
                  <a:lnTo>
                    <a:pt x="2159" y="10"/>
                  </a:lnTo>
                  <a:lnTo>
                    <a:pt x="2059" y="3"/>
                  </a:lnTo>
                  <a:lnTo>
                    <a:pt x="1958" y="0"/>
                  </a:lnTo>
                  <a:lnTo>
                    <a:pt x="1857" y="3"/>
                  </a:lnTo>
                  <a:lnTo>
                    <a:pt x="1758" y="10"/>
                  </a:lnTo>
                  <a:lnTo>
                    <a:pt x="1659" y="22"/>
                  </a:lnTo>
                  <a:lnTo>
                    <a:pt x="1563" y="40"/>
                  </a:lnTo>
                  <a:lnTo>
                    <a:pt x="1469" y="61"/>
                  </a:lnTo>
                  <a:lnTo>
                    <a:pt x="1376" y="88"/>
                  </a:lnTo>
                  <a:lnTo>
                    <a:pt x="1284" y="118"/>
                  </a:lnTo>
                  <a:lnTo>
                    <a:pt x="1196" y="154"/>
                  </a:lnTo>
                  <a:lnTo>
                    <a:pt x="1109" y="193"/>
                  </a:lnTo>
                  <a:lnTo>
                    <a:pt x="1025" y="236"/>
                  </a:lnTo>
                  <a:lnTo>
                    <a:pt x="943" y="284"/>
                  </a:lnTo>
                  <a:lnTo>
                    <a:pt x="863" y="334"/>
                  </a:lnTo>
                  <a:lnTo>
                    <a:pt x="786" y="388"/>
                  </a:lnTo>
                  <a:lnTo>
                    <a:pt x="713" y="447"/>
                  </a:lnTo>
                  <a:lnTo>
                    <a:pt x="642" y="508"/>
                  </a:lnTo>
                  <a:lnTo>
                    <a:pt x="573" y="573"/>
                  </a:lnTo>
                  <a:lnTo>
                    <a:pt x="509" y="641"/>
                  </a:lnTo>
                  <a:lnTo>
                    <a:pt x="447" y="712"/>
                  </a:lnTo>
                  <a:lnTo>
                    <a:pt x="389" y="786"/>
                  </a:lnTo>
                  <a:lnTo>
                    <a:pt x="335" y="863"/>
                  </a:lnTo>
                  <a:lnTo>
                    <a:pt x="283" y="942"/>
                  </a:lnTo>
                  <a:lnTo>
                    <a:pt x="236" y="1025"/>
                  </a:lnTo>
                  <a:lnTo>
                    <a:pt x="193" y="1109"/>
                  </a:lnTo>
                  <a:lnTo>
                    <a:pt x="153" y="1195"/>
                  </a:lnTo>
                  <a:lnTo>
                    <a:pt x="119" y="1285"/>
                  </a:lnTo>
                  <a:lnTo>
                    <a:pt x="88" y="1376"/>
                  </a:lnTo>
                  <a:lnTo>
                    <a:pt x="61" y="1468"/>
                  </a:lnTo>
                  <a:lnTo>
                    <a:pt x="40" y="1562"/>
                  </a:lnTo>
                  <a:lnTo>
                    <a:pt x="22" y="1660"/>
                  </a:lnTo>
                  <a:lnTo>
                    <a:pt x="9" y="1757"/>
                  </a:lnTo>
                  <a:lnTo>
                    <a:pt x="2" y="1856"/>
                  </a:lnTo>
                  <a:lnTo>
                    <a:pt x="0" y="1958"/>
                  </a:lnTo>
                  <a:lnTo>
                    <a:pt x="2" y="2058"/>
                  </a:lnTo>
                  <a:lnTo>
                    <a:pt x="9" y="2157"/>
                  </a:lnTo>
                  <a:lnTo>
                    <a:pt x="22" y="2256"/>
                  </a:lnTo>
                  <a:lnTo>
                    <a:pt x="40" y="2352"/>
                  </a:lnTo>
                  <a:lnTo>
                    <a:pt x="61" y="2447"/>
                  </a:lnTo>
                  <a:lnTo>
                    <a:pt x="88" y="2540"/>
                  </a:lnTo>
                  <a:lnTo>
                    <a:pt x="119" y="2631"/>
                  </a:lnTo>
                  <a:lnTo>
                    <a:pt x="153" y="2719"/>
                  </a:lnTo>
                  <a:lnTo>
                    <a:pt x="193" y="2807"/>
                  </a:lnTo>
                  <a:lnTo>
                    <a:pt x="236" y="2891"/>
                  </a:lnTo>
                  <a:lnTo>
                    <a:pt x="283" y="2973"/>
                  </a:lnTo>
                  <a:lnTo>
                    <a:pt x="335" y="3052"/>
                  </a:lnTo>
                  <a:lnTo>
                    <a:pt x="389" y="3128"/>
                  </a:lnTo>
                  <a:lnTo>
                    <a:pt x="447" y="3203"/>
                  </a:lnTo>
                  <a:lnTo>
                    <a:pt x="509" y="3273"/>
                  </a:lnTo>
                  <a:lnTo>
                    <a:pt x="573" y="3341"/>
                  </a:lnTo>
                  <a:lnTo>
                    <a:pt x="642" y="3406"/>
                  </a:lnTo>
                  <a:lnTo>
                    <a:pt x="713" y="3468"/>
                  </a:lnTo>
                  <a:lnTo>
                    <a:pt x="786" y="3526"/>
                  </a:lnTo>
                  <a:lnTo>
                    <a:pt x="863" y="3581"/>
                  </a:lnTo>
                  <a:lnTo>
                    <a:pt x="943" y="3632"/>
                  </a:lnTo>
                  <a:lnTo>
                    <a:pt x="1025" y="3678"/>
                  </a:lnTo>
                  <a:lnTo>
                    <a:pt x="1109" y="3722"/>
                  </a:lnTo>
                  <a:lnTo>
                    <a:pt x="1196" y="3761"/>
                  </a:lnTo>
                  <a:lnTo>
                    <a:pt x="1284" y="3796"/>
                  </a:lnTo>
                  <a:lnTo>
                    <a:pt x="1376" y="3827"/>
                  </a:lnTo>
                  <a:lnTo>
                    <a:pt x="1469" y="3853"/>
                  </a:lnTo>
                  <a:lnTo>
                    <a:pt x="1563" y="3875"/>
                  </a:lnTo>
                  <a:lnTo>
                    <a:pt x="1659" y="3892"/>
                  </a:lnTo>
                  <a:lnTo>
                    <a:pt x="1758" y="3905"/>
                  </a:lnTo>
                  <a:lnTo>
                    <a:pt x="1857" y="3912"/>
                  </a:lnTo>
                  <a:lnTo>
                    <a:pt x="1958" y="3915"/>
                  </a:lnTo>
                  <a:lnTo>
                    <a:pt x="2059" y="3912"/>
                  </a:lnTo>
                  <a:lnTo>
                    <a:pt x="2159" y="3905"/>
                  </a:lnTo>
                  <a:lnTo>
                    <a:pt x="2256" y="3892"/>
                  </a:lnTo>
                  <a:lnTo>
                    <a:pt x="2353" y="3875"/>
                  </a:lnTo>
                  <a:lnTo>
                    <a:pt x="2447" y="3853"/>
                  </a:lnTo>
                  <a:lnTo>
                    <a:pt x="2540" y="3827"/>
                  </a:lnTo>
                  <a:lnTo>
                    <a:pt x="2632" y="3796"/>
                  </a:lnTo>
                  <a:lnTo>
                    <a:pt x="2721" y="3761"/>
                  </a:lnTo>
                  <a:lnTo>
                    <a:pt x="2807" y="3722"/>
                  </a:lnTo>
                  <a:lnTo>
                    <a:pt x="2891" y="3678"/>
                  </a:lnTo>
                  <a:lnTo>
                    <a:pt x="2973" y="3632"/>
                  </a:lnTo>
                  <a:lnTo>
                    <a:pt x="3053" y="3581"/>
                  </a:lnTo>
                  <a:lnTo>
                    <a:pt x="3130" y="3526"/>
                  </a:lnTo>
                  <a:lnTo>
                    <a:pt x="3204" y="3468"/>
                  </a:lnTo>
                  <a:lnTo>
                    <a:pt x="3275" y="3406"/>
                  </a:lnTo>
                  <a:lnTo>
                    <a:pt x="3343" y="3341"/>
                  </a:lnTo>
                  <a:lnTo>
                    <a:pt x="3408" y="3273"/>
                  </a:lnTo>
                  <a:lnTo>
                    <a:pt x="3469" y="3203"/>
                  </a:lnTo>
                  <a:lnTo>
                    <a:pt x="3528" y="3128"/>
                  </a:lnTo>
                  <a:lnTo>
                    <a:pt x="3582" y="3052"/>
                  </a:lnTo>
                  <a:lnTo>
                    <a:pt x="3634" y="2973"/>
                  </a:lnTo>
                  <a:lnTo>
                    <a:pt x="3680" y="2891"/>
                  </a:lnTo>
                  <a:lnTo>
                    <a:pt x="3723" y="2807"/>
                  </a:lnTo>
                  <a:lnTo>
                    <a:pt x="3762" y="2719"/>
                  </a:lnTo>
                  <a:lnTo>
                    <a:pt x="3798" y="2631"/>
                  </a:lnTo>
                  <a:lnTo>
                    <a:pt x="3828" y="2540"/>
                  </a:lnTo>
                  <a:lnTo>
                    <a:pt x="3855" y="2447"/>
                  </a:lnTo>
                  <a:lnTo>
                    <a:pt x="3877" y="2352"/>
                  </a:lnTo>
                  <a:lnTo>
                    <a:pt x="3894" y="2256"/>
                  </a:lnTo>
                  <a:lnTo>
                    <a:pt x="3907" y="2157"/>
                  </a:lnTo>
                  <a:lnTo>
                    <a:pt x="3914" y="2058"/>
                  </a:lnTo>
                  <a:lnTo>
                    <a:pt x="3917" y="1958"/>
                  </a:lnTo>
                  <a:close/>
                  <a:moveTo>
                    <a:pt x="3875" y="1958"/>
                  </a:moveTo>
                  <a:lnTo>
                    <a:pt x="3872" y="2056"/>
                  </a:lnTo>
                  <a:lnTo>
                    <a:pt x="3865" y="2153"/>
                  </a:lnTo>
                  <a:lnTo>
                    <a:pt x="3853" y="2249"/>
                  </a:lnTo>
                  <a:lnTo>
                    <a:pt x="3836" y="2343"/>
                  </a:lnTo>
                  <a:lnTo>
                    <a:pt x="3815" y="2436"/>
                  </a:lnTo>
                  <a:lnTo>
                    <a:pt x="3789" y="2527"/>
                  </a:lnTo>
                  <a:lnTo>
                    <a:pt x="3759" y="2616"/>
                  </a:lnTo>
                  <a:lnTo>
                    <a:pt x="3724" y="2703"/>
                  </a:lnTo>
                  <a:lnTo>
                    <a:pt x="3685" y="2788"/>
                  </a:lnTo>
                  <a:lnTo>
                    <a:pt x="3643" y="2870"/>
                  </a:lnTo>
                  <a:lnTo>
                    <a:pt x="3598" y="2951"/>
                  </a:lnTo>
                  <a:lnTo>
                    <a:pt x="3547" y="3029"/>
                  </a:lnTo>
                  <a:lnTo>
                    <a:pt x="3494" y="3104"/>
                  </a:lnTo>
                  <a:lnTo>
                    <a:pt x="3437" y="3176"/>
                  </a:lnTo>
                  <a:lnTo>
                    <a:pt x="3377" y="3246"/>
                  </a:lnTo>
                  <a:lnTo>
                    <a:pt x="3314" y="3312"/>
                  </a:lnTo>
                  <a:lnTo>
                    <a:pt x="3247" y="3376"/>
                  </a:lnTo>
                  <a:lnTo>
                    <a:pt x="3178" y="3436"/>
                  </a:lnTo>
                  <a:lnTo>
                    <a:pt x="3105" y="3492"/>
                  </a:lnTo>
                  <a:lnTo>
                    <a:pt x="3030" y="3546"/>
                  </a:lnTo>
                  <a:lnTo>
                    <a:pt x="2952" y="3596"/>
                  </a:lnTo>
                  <a:lnTo>
                    <a:pt x="2872" y="3642"/>
                  </a:lnTo>
                  <a:lnTo>
                    <a:pt x="2789" y="3685"/>
                  </a:lnTo>
                  <a:lnTo>
                    <a:pt x="2704" y="3722"/>
                  </a:lnTo>
                  <a:lnTo>
                    <a:pt x="2617" y="3757"/>
                  </a:lnTo>
                  <a:lnTo>
                    <a:pt x="2528" y="3787"/>
                  </a:lnTo>
                  <a:lnTo>
                    <a:pt x="2437" y="3813"/>
                  </a:lnTo>
                  <a:lnTo>
                    <a:pt x="2344" y="3835"/>
                  </a:lnTo>
                  <a:lnTo>
                    <a:pt x="2250" y="3851"/>
                  </a:lnTo>
                  <a:lnTo>
                    <a:pt x="2154" y="3864"/>
                  </a:lnTo>
                  <a:lnTo>
                    <a:pt x="2057" y="3870"/>
                  </a:lnTo>
                  <a:lnTo>
                    <a:pt x="1958" y="3874"/>
                  </a:lnTo>
                  <a:lnTo>
                    <a:pt x="1859" y="3870"/>
                  </a:lnTo>
                  <a:lnTo>
                    <a:pt x="1762" y="3864"/>
                  </a:lnTo>
                  <a:lnTo>
                    <a:pt x="1666" y="3851"/>
                  </a:lnTo>
                  <a:lnTo>
                    <a:pt x="1572" y="3835"/>
                  </a:lnTo>
                  <a:lnTo>
                    <a:pt x="1479" y="3813"/>
                  </a:lnTo>
                  <a:lnTo>
                    <a:pt x="1388" y="3787"/>
                  </a:lnTo>
                  <a:lnTo>
                    <a:pt x="1300" y="3757"/>
                  </a:lnTo>
                  <a:lnTo>
                    <a:pt x="1212" y="3722"/>
                  </a:lnTo>
                  <a:lnTo>
                    <a:pt x="1127" y="3685"/>
                  </a:lnTo>
                  <a:lnTo>
                    <a:pt x="1045" y="3642"/>
                  </a:lnTo>
                  <a:lnTo>
                    <a:pt x="965" y="3596"/>
                  </a:lnTo>
                  <a:lnTo>
                    <a:pt x="887" y="3546"/>
                  </a:lnTo>
                  <a:lnTo>
                    <a:pt x="811" y="3492"/>
                  </a:lnTo>
                  <a:lnTo>
                    <a:pt x="739" y="3436"/>
                  </a:lnTo>
                  <a:lnTo>
                    <a:pt x="670" y="3376"/>
                  </a:lnTo>
                  <a:lnTo>
                    <a:pt x="603" y="3312"/>
                  </a:lnTo>
                  <a:lnTo>
                    <a:pt x="539" y="3246"/>
                  </a:lnTo>
                  <a:lnTo>
                    <a:pt x="479" y="3176"/>
                  </a:lnTo>
                  <a:lnTo>
                    <a:pt x="422" y="3104"/>
                  </a:lnTo>
                  <a:lnTo>
                    <a:pt x="369" y="3029"/>
                  </a:lnTo>
                  <a:lnTo>
                    <a:pt x="318" y="2951"/>
                  </a:lnTo>
                  <a:lnTo>
                    <a:pt x="273" y="2870"/>
                  </a:lnTo>
                  <a:lnTo>
                    <a:pt x="231" y="2788"/>
                  </a:lnTo>
                  <a:lnTo>
                    <a:pt x="192" y="2703"/>
                  </a:lnTo>
                  <a:lnTo>
                    <a:pt x="157" y="2616"/>
                  </a:lnTo>
                  <a:lnTo>
                    <a:pt x="127" y="2527"/>
                  </a:lnTo>
                  <a:lnTo>
                    <a:pt x="101" y="2436"/>
                  </a:lnTo>
                  <a:lnTo>
                    <a:pt x="81" y="2343"/>
                  </a:lnTo>
                  <a:lnTo>
                    <a:pt x="63" y="2249"/>
                  </a:lnTo>
                  <a:lnTo>
                    <a:pt x="52" y="2153"/>
                  </a:lnTo>
                  <a:lnTo>
                    <a:pt x="44" y="2056"/>
                  </a:lnTo>
                  <a:lnTo>
                    <a:pt x="42" y="1958"/>
                  </a:lnTo>
                  <a:lnTo>
                    <a:pt x="44" y="1858"/>
                  </a:lnTo>
                  <a:lnTo>
                    <a:pt x="52" y="1761"/>
                  </a:lnTo>
                  <a:lnTo>
                    <a:pt x="63" y="1666"/>
                  </a:lnTo>
                  <a:lnTo>
                    <a:pt x="81" y="1571"/>
                  </a:lnTo>
                  <a:lnTo>
                    <a:pt x="101" y="1478"/>
                  </a:lnTo>
                  <a:lnTo>
                    <a:pt x="127" y="1387"/>
                  </a:lnTo>
                  <a:lnTo>
                    <a:pt x="157" y="1299"/>
                  </a:lnTo>
                  <a:lnTo>
                    <a:pt x="192" y="1211"/>
                  </a:lnTo>
                  <a:lnTo>
                    <a:pt x="231" y="1127"/>
                  </a:lnTo>
                  <a:lnTo>
                    <a:pt x="273" y="1044"/>
                  </a:lnTo>
                  <a:lnTo>
                    <a:pt x="318" y="964"/>
                  </a:lnTo>
                  <a:lnTo>
                    <a:pt x="369" y="886"/>
                  </a:lnTo>
                  <a:lnTo>
                    <a:pt x="422" y="811"/>
                  </a:lnTo>
                  <a:lnTo>
                    <a:pt x="479" y="738"/>
                  </a:lnTo>
                  <a:lnTo>
                    <a:pt x="539" y="669"/>
                  </a:lnTo>
                  <a:lnTo>
                    <a:pt x="603" y="602"/>
                  </a:lnTo>
                  <a:lnTo>
                    <a:pt x="670" y="540"/>
                  </a:lnTo>
                  <a:lnTo>
                    <a:pt x="739" y="479"/>
                  </a:lnTo>
                  <a:lnTo>
                    <a:pt x="811" y="422"/>
                  </a:lnTo>
                  <a:lnTo>
                    <a:pt x="887" y="369"/>
                  </a:lnTo>
                  <a:lnTo>
                    <a:pt x="965" y="319"/>
                  </a:lnTo>
                  <a:lnTo>
                    <a:pt x="1045" y="273"/>
                  </a:lnTo>
                  <a:lnTo>
                    <a:pt x="1127" y="231"/>
                  </a:lnTo>
                  <a:lnTo>
                    <a:pt x="1212" y="192"/>
                  </a:lnTo>
                  <a:lnTo>
                    <a:pt x="1300" y="157"/>
                  </a:lnTo>
                  <a:lnTo>
                    <a:pt x="1388" y="128"/>
                  </a:lnTo>
                  <a:lnTo>
                    <a:pt x="1479" y="102"/>
                  </a:lnTo>
                  <a:lnTo>
                    <a:pt x="1572" y="81"/>
                  </a:lnTo>
                  <a:lnTo>
                    <a:pt x="1666" y="63"/>
                  </a:lnTo>
                  <a:lnTo>
                    <a:pt x="1762" y="51"/>
                  </a:lnTo>
                  <a:lnTo>
                    <a:pt x="1859" y="44"/>
                  </a:lnTo>
                  <a:lnTo>
                    <a:pt x="1958" y="42"/>
                  </a:lnTo>
                  <a:lnTo>
                    <a:pt x="2057" y="44"/>
                  </a:lnTo>
                  <a:lnTo>
                    <a:pt x="2154" y="51"/>
                  </a:lnTo>
                  <a:lnTo>
                    <a:pt x="2250" y="63"/>
                  </a:lnTo>
                  <a:lnTo>
                    <a:pt x="2344" y="81"/>
                  </a:lnTo>
                  <a:lnTo>
                    <a:pt x="2437" y="102"/>
                  </a:lnTo>
                  <a:lnTo>
                    <a:pt x="2528" y="128"/>
                  </a:lnTo>
                  <a:lnTo>
                    <a:pt x="2617" y="157"/>
                  </a:lnTo>
                  <a:lnTo>
                    <a:pt x="2704" y="192"/>
                  </a:lnTo>
                  <a:lnTo>
                    <a:pt x="2789" y="231"/>
                  </a:lnTo>
                  <a:lnTo>
                    <a:pt x="2872" y="273"/>
                  </a:lnTo>
                  <a:lnTo>
                    <a:pt x="2952" y="319"/>
                  </a:lnTo>
                  <a:lnTo>
                    <a:pt x="3030" y="369"/>
                  </a:lnTo>
                  <a:lnTo>
                    <a:pt x="3105" y="422"/>
                  </a:lnTo>
                  <a:lnTo>
                    <a:pt x="3178" y="479"/>
                  </a:lnTo>
                  <a:lnTo>
                    <a:pt x="3247" y="540"/>
                  </a:lnTo>
                  <a:lnTo>
                    <a:pt x="3314" y="602"/>
                  </a:lnTo>
                  <a:lnTo>
                    <a:pt x="3377" y="669"/>
                  </a:lnTo>
                  <a:lnTo>
                    <a:pt x="3437" y="738"/>
                  </a:lnTo>
                  <a:lnTo>
                    <a:pt x="3494" y="811"/>
                  </a:lnTo>
                  <a:lnTo>
                    <a:pt x="3547" y="886"/>
                  </a:lnTo>
                  <a:lnTo>
                    <a:pt x="3598" y="964"/>
                  </a:lnTo>
                  <a:lnTo>
                    <a:pt x="3643" y="1044"/>
                  </a:lnTo>
                  <a:lnTo>
                    <a:pt x="3685" y="1127"/>
                  </a:lnTo>
                  <a:lnTo>
                    <a:pt x="3724" y="1211"/>
                  </a:lnTo>
                  <a:lnTo>
                    <a:pt x="3759" y="1299"/>
                  </a:lnTo>
                  <a:lnTo>
                    <a:pt x="3789" y="1387"/>
                  </a:lnTo>
                  <a:lnTo>
                    <a:pt x="3815" y="1478"/>
                  </a:lnTo>
                  <a:lnTo>
                    <a:pt x="3836" y="1571"/>
                  </a:lnTo>
                  <a:lnTo>
                    <a:pt x="3853" y="1666"/>
                  </a:lnTo>
                  <a:lnTo>
                    <a:pt x="3865" y="1761"/>
                  </a:lnTo>
                  <a:lnTo>
                    <a:pt x="3872" y="1858"/>
                  </a:lnTo>
                  <a:lnTo>
                    <a:pt x="3875" y="1958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05200" y="2228760"/>
              <a:ext cx="1538280" cy="1536840"/>
            </a:xfrm>
            <a:custGeom>
              <a:avLst/>
              <a:gdLst/>
              <a:ahLst/>
              <a:rect l="l" t="t" r="r" b="b"/>
              <a:pathLst>
                <a:path w="3876" h="3873">
                  <a:moveTo>
                    <a:pt x="3876" y="1937"/>
                  </a:moveTo>
                  <a:lnTo>
                    <a:pt x="3873" y="1836"/>
                  </a:lnTo>
                  <a:lnTo>
                    <a:pt x="3865" y="1738"/>
                  </a:lnTo>
                  <a:lnTo>
                    <a:pt x="3853" y="1642"/>
                  </a:lnTo>
                  <a:lnTo>
                    <a:pt x="3836" y="1546"/>
                  </a:lnTo>
                  <a:lnTo>
                    <a:pt x="3815" y="1453"/>
                  </a:lnTo>
                  <a:lnTo>
                    <a:pt x="3789" y="1361"/>
                  </a:lnTo>
                  <a:lnTo>
                    <a:pt x="3758" y="1270"/>
                  </a:lnTo>
                  <a:lnTo>
                    <a:pt x="3724" y="1183"/>
                  </a:lnTo>
                  <a:lnTo>
                    <a:pt x="3685" y="1096"/>
                  </a:lnTo>
                  <a:lnTo>
                    <a:pt x="3642" y="1013"/>
                  </a:lnTo>
                  <a:lnTo>
                    <a:pt x="3595" y="932"/>
                  </a:lnTo>
                  <a:lnTo>
                    <a:pt x="3544" y="853"/>
                  </a:lnTo>
                  <a:lnTo>
                    <a:pt x="3490" y="778"/>
                  </a:lnTo>
                  <a:lnTo>
                    <a:pt x="3433" y="704"/>
                  </a:lnTo>
                  <a:lnTo>
                    <a:pt x="3373" y="634"/>
                  </a:lnTo>
                  <a:lnTo>
                    <a:pt x="3308" y="567"/>
                  </a:lnTo>
                  <a:lnTo>
                    <a:pt x="3241" y="502"/>
                  </a:lnTo>
                  <a:lnTo>
                    <a:pt x="3171" y="442"/>
                  </a:lnTo>
                  <a:lnTo>
                    <a:pt x="3097" y="385"/>
                  </a:lnTo>
                  <a:lnTo>
                    <a:pt x="3021" y="331"/>
                  </a:lnTo>
                  <a:lnTo>
                    <a:pt x="2943" y="280"/>
                  </a:lnTo>
                  <a:lnTo>
                    <a:pt x="2862" y="234"/>
                  </a:lnTo>
                  <a:lnTo>
                    <a:pt x="2778" y="190"/>
                  </a:lnTo>
                  <a:lnTo>
                    <a:pt x="2692" y="151"/>
                  </a:lnTo>
                  <a:lnTo>
                    <a:pt x="2604" y="117"/>
                  </a:lnTo>
                  <a:lnTo>
                    <a:pt x="2515" y="87"/>
                  </a:lnTo>
                  <a:lnTo>
                    <a:pt x="2423" y="61"/>
                  </a:lnTo>
                  <a:lnTo>
                    <a:pt x="2329" y="39"/>
                  </a:lnTo>
                  <a:lnTo>
                    <a:pt x="2234" y="22"/>
                  </a:lnTo>
                  <a:lnTo>
                    <a:pt x="2136" y="10"/>
                  </a:lnTo>
                  <a:lnTo>
                    <a:pt x="2038" y="2"/>
                  </a:lnTo>
                  <a:lnTo>
                    <a:pt x="1938" y="0"/>
                  </a:lnTo>
                  <a:lnTo>
                    <a:pt x="1838" y="2"/>
                  </a:lnTo>
                  <a:lnTo>
                    <a:pt x="1740" y="10"/>
                  </a:lnTo>
                  <a:lnTo>
                    <a:pt x="1643" y="22"/>
                  </a:lnTo>
                  <a:lnTo>
                    <a:pt x="1548" y="39"/>
                  </a:lnTo>
                  <a:lnTo>
                    <a:pt x="1454" y="61"/>
                  </a:lnTo>
                  <a:lnTo>
                    <a:pt x="1362" y="87"/>
                  </a:lnTo>
                  <a:lnTo>
                    <a:pt x="1272" y="117"/>
                  </a:lnTo>
                  <a:lnTo>
                    <a:pt x="1185" y="151"/>
                  </a:lnTo>
                  <a:lnTo>
                    <a:pt x="1098" y="190"/>
                  </a:lnTo>
                  <a:lnTo>
                    <a:pt x="1015" y="234"/>
                  </a:lnTo>
                  <a:lnTo>
                    <a:pt x="934" y="280"/>
                  </a:lnTo>
                  <a:lnTo>
                    <a:pt x="855" y="331"/>
                  </a:lnTo>
                  <a:lnTo>
                    <a:pt x="779" y="385"/>
                  </a:lnTo>
                  <a:lnTo>
                    <a:pt x="706" y="442"/>
                  </a:lnTo>
                  <a:lnTo>
                    <a:pt x="636" y="502"/>
                  </a:lnTo>
                  <a:lnTo>
                    <a:pt x="569" y="567"/>
                  </a:lnTo>
                  <a:lnTo>
                    <a:pt x="504" y="634"/>
                  </a:lnTo>
                  <a:lnTo>
                    <a:pt x="443" y="704"/>
                  </a:lnTo>
                  <a:lnTo>
                    <a:pt x="386" y="778"/>
                  </a:lnTo>
                  <a:lnTo>
                    <a:pt x="332" y="853"/>
                  </a:lnTo>
                  <a:lnTo>
                    <a:pt x="281" y="932"/>
                  </a:lnTo>
                  <a:lnTo>
                    <a:pt x="235" y="1013"/>
                  </a:lnTo>
                  <a:lnTo>
                    <a:pt x="191" y="1096"/>
                  </a:lnTo>
                  <a:lnTo>
                    <a:pt x="153" y="1183"/>
                  </a:lnTo>
                  <a:lnTo>
                    <a:pt x="118" y="1270"/>
                  </a:lnTo>
                  <a:lnTo>
                    <a:pt x="88" y="1361"/>
                  </a:lnTo>
                  <a:lnTo>
                    <a:pt x="62" y="1453"/>
                  </a:lnTo>
                  <a:lnTo>
                    <a:pt x="40" y="1546"/>
                  </a:lnTo>
                  <a:lnTo>
                    <a:pt x="23" y="1642"/>
                  </a:lnTo>
                  <a:lnTo>
                    <a:pt x="11" y="1738"/>
                  </a:lnTo>
                  <a:lnTo>
                    <a:pt x="3" y="1836"/>
                  </a:lnTo>
                  <a:lnTo>
                    <a:pt x="0" y="1937"/>
                  </a:lnTo>
                  <a:lnTo>
                    <a:pt x="3" y="2036"/>
                  </a:lnTo>
                  <a:lnTo>
                    <a:pt x="11" y="2134"/>
                  </a:lnTo>
                  <a:lnTo>
                    <a:pt x="23" y="2232"/>
                  </a:lnTo>
                  <a:lnTo>
                    <a:pt x="40" y="2327"/>
                  </a:lnTo>
                  <a:lnTo>
                    <a:pt x="62" y="2421"/>
                  </a:lnTo>
                  <a:lnTo>
                    <a:pt x="88" y="2512"/>
                  </a:lnTo>
                  <a:lnTo>
                    <a:pt x="118" y="2602"/>
                  </a:lnTo>
                  <a:lnTo>
                    <a:pt x="153" y="2691"/>
                  </a:lnTo>
                  <a:lnTo>
                    <a:pt x="191" y="2776"/>
                  </a:lnTo>
                  <a:lnTo>
                    <a:pt x="235" y="2859"/>
                  </a:lnTo>
                  <a:lnTo>
                    <a:pt x="281" y="2941"/>
                  </a:lnTo>
                  <a:lnTo>
                    <a:pt x="332" y="3019"/>
                  </a:lnTo>
                  <a:lnTo>
                    <a:pt x="386" y="3096"/>
                  </a:lnTo>
                  <a:lnTo>
                    <a:pt x="443" y="3168"/>
                  </a:lnTo>
                  <a:lnTo>
                    <a:pt x="504" y="3238"/>
                  </a:lnTo>
                  <a:lnTo>
                    <a:pt x="569" y="3306"/>
                  </a:lnTo>
                  <a:lnTo>
                    <a:pt x="636" y="3370"/>
                  </a:lnTo>
                  <a:lnTo>
                    <a:pt x="706" y="3430"/>
                  </a:lnTo>
                  <a:lnTo>
                    <a:pt x="779" y="3489"/>
                  </a:lnTo>
                  <a:lnTo>
                    <a:pt x="855" y="3543"/>
                  </a:lnTo>
                  <a:lnTo>
                    <a:pt x="934" y="3592"/>
                  </a:lnTo>
                  <a:lnTo>
                    <a:pt x="1015" y="3640"/>
                  </a:lnTo>
                  <a:lnTo>
                    <a:pt x="1098" y="3682"/>
                  </a:lnTo>
                  <a:lnTo>
                    <a:pt x="1185" y="3721"/>
                  </a:lnTo>
                  <a:lnTo>
                    <a:pt x="1272" y="3755"/>
                  </a:lnTo>
                  <a:lnTo>
                    <a:pt x="1362" y="3786"/>
                  </a:lnTo>
                  <a:lnTo>
                    <a:pt x="1454" y="3813"/>
                  </a:lnTo>
                  <a:lnTo>
                    <a:pt x="1548" y="3834"/>
                  </a:lnTo>
                  <a:lnTo>
                    <a:pt x="1643" y="3850"/>
                  </a:lnTo>
                  <a:lnTo>
                    <a:pt x="1740" y="3863"/>
                  </a:lnTo>
                  <a:lnTo>
                    <a:pt x="1838" y="3871"/>
                  </a:lnTo>
                  <a:lnTo>
                    <a:pt x="1938" y="3873"/>
                  </a:lnTo>
                  <a:lnTo>
                    <a:pt x="2038" y="3871"/>
                  </a:lnTo>
                  <a:lnTo>
                    <a:pt x="2136" y="3863"/>
                  </a:lnTo>
                  <a:lnTo>
                    <a:pt x="2234" y="3850"/>
                  </a:lnTo>
                  <a:lnTo>
                    <a:pt x="2329" y="3834"/>
                  </a:lnTo>
                  <a:lnTo>
                    <a:pt x="2423" y="3813"/>
                  </a:lnTo>
                  <a:lnTo>
                    <a:pt x="2515" y="3786"/>
                  </a:lnTo>
                  <a:lnTo>
                    <a:pt x="2604" y="3755"/>
                  </a:lnTo>
                  <a:lnTo>
                    <a:pt x="2692" y="3721"/>
                  </a:lnTo>
                  <a:lnTo>
                    <a:pt x="2778" y="3682"/>
                  </a:lnTo>
                  <a:lnTo>
                    <a:pt x="2862" y="3640"/>
                  </a:lnTo>
                  <a:lnTo>
                    <a:pt x="2943" y="3592"/>
                  </a:lnTo>
                  <a:lnTo>
                    <a:pt x="3021" y="3543"/>
                  </a:lnTo>
                  <a:lnTo>
                    <a:pt x="3097" y="3489"/>
                  </a:lnTo>
                  <a:lnTo>
                    <a:pt x="3171" y="3430"/>
                  </a:lnTo>
                  <a:lnTo>
                    <a:pt x="3241" y="3370"/>
                  </a:lnTo>
                  <a:lnTo>
                    <a:pt x="3308" y="3306"/>
                  </a:lnTo>
                  <a:lnTo>
                    <a:pt x="3373" y="3238"/>
                  </a:lnTo>
                  <a:lnTo>
                    <a:pt x="3433" y="3168"/>
                  </a:lnTo>
                  <a:lnTo>
                    <a:pt x="3490" y="3096"/>
                  </a:lnTo>
                  <a:lnTo>
                    <a:pt x="3544" y="3019"/>
                  </a:lnTo>
                  <a:lnTo>
                    <a:pt x="3595" y="2941"/>
                  </a:lnTo>
                  <a:lnTo>
                    <a:pt x="3642" y="2859"/>
                  </a:lnTo>
                  <a:lnTo>
                    <a:pt x="3685" y="2776"/>
                  </a:lnTo>
                  <a:lnTo>
                    <a:pt x="3724" y="2691"/>
                  </a:lnTo>
                  <a:lnTo>
                    <a:pt x="3758" y="2602"/>
                  </a:lnTo>
                  <a:lnTo>
                    <a:pt x="3789" y="2512"/>
                  </a:lnTo>
                  <a:lnTo>
                    <a:pt x="3815" y="2421"/>
                  </a:lnTo>
                  <a:lnTo>
                    <a:pt x="3836" y="2327"/>
                  </a:lnTo>
                  <a:lnTo>
                    <a:pt x="3853" y="2232"/>
                  </a:lnTo>
                  <a:lnTo>
                    <a:pt x="3865" y="2134"/>
                  </a:lnTo>
                  <a:lnTo>
                    <a:pt x="3873" y="2036"/>
                  </a:lnTo>
                  <a:lnTo>
                    <a:pt x="3876" y="1937"/>
                  </a:lnTo>
                  <a:close/>
                  <a:moveTo>
                    <a:pt x="3834" y="1937"/>
                  </a:moveTo>
                  <a:lnTo>
                    <a:pt x="3832" y="2034"/>
                  </a:lnTo>
                  <a:lnTo>
                    <a:pt x="3824" y="2130"/>
                  </a:lnTo>
                  <a:lnTo>
                    <a:pt x="3812" y="2225"/>
                  </a:lnTo>
                  <a:lnTo>
                    <a:pt x="3795" y="2318"/>
                  </a:lnTo>
                  <a:lnTo>
                    <a:pt x="3775" y="2410"/>
                  </a:lnTo>
                  <a:lnTo>
                    <a:pt x="3749" y="2500"/>
                  </a:lnTo>
                  <a:lnTo>
                    <a:pt x="3719" y="2588"/>
                  </a:lnTo>
                  <a:lnTo>
                    <a:pt x="3685" y="2674"/>
                  </a:lnTo>
                  <a:lnTo>
                    <a:pt x="3647" y="2757"/>
                  </a:lnTo>
                  <a:lnTo>
                    <a:pt x="3605" y="2840"/>
                  </a:lnTo>
                  <a:lnTo>
                    <a:pt x="3560" y="2919"/>
                  </a:lnTo>
                  <a:lnTo>
                    <a:pt x="3510" y="2996"/>
                  </a:lnTo>
                  <a:lnTo>
                    <a:pt x="3457" y="3071"/>
                  </a:lnTo>
                  <a:lnTo>
                    <a:pt x="3401" y="3142"/>
                  </a:lnTo>
                  <a:lnTo>
                    <a:pt x="3341" y="3211"/>
                  </a:lnTo>
                  <a:lnTo>
                    <a:pt x="3279" y="3276"/>
                  </a:lnTo>
                  <a:lnTo>
                    <a:pt x="3213" y="3340"/>
                  </a:lnTo>
                  <a:lnTo>
                    <a:pt x="3145" y="3399"/>
                  </a:lnTo>
                  <a:lnTo>
                    <a:pt x="3072" y="3455"/>
                  </a:lnTo>
                  <a:lnTo>
                    <a:pt x="2998" y="3508"/>
                  </a:lnTo>
                  <a:lnTo>
                    <a:pt x="2921" y="3557"/>
                  </a:lnTo>
                  <a:lnTo>
                    <a:pt x="2842" y="3603"/>
                  </a:lnTo>
                  <a:lnTo>
                    <a:pt x="2760" y="3644"/>
                  </a:lnTo>
                  <a:lnTo>
                    <a:pt x="2676" y="3683"/>
                  </a:lnTo>
                  <a:lnTo>
                    <a:pt x="2590" y="3717"/>
                  </a:lnTo>
                  <a:lnTo>
                    <a:pt x="2502" y="3747"/>
                  </a:lnTo>
                  <a:lnTo>
                    <a:pt x="2412" y="3772"/>
                  </a:lnTo>
                  <a:lnTo>
                    <a:pt x="2320" y="3793"/>
                  </a:lnTo>
                  <a:lnTo>
                    <a:pt x="2227" y="3809"/>
                  </a:lnTo>
                  <a:lnTo>
                    <a:pt x="2132" y="3821"/>
                  </a:lnTo>
                  <a:lnTo>
                    <a:pt x="2036" y="3829"/>
                  </a:lnTo>
                  <a:lnTo>
                    <a:pt x="1938" y="3831"/>
                  </a:lnTo>
                  <a:lnTo>
                    <a:pt x="1840" y="3829"/>
                  </a:lnTo>
                  <a:lnTo>
                    <a:pt x="1744" y="3821"/>
                  </a:lnTo>
                  <a:lnTo>
                    <a:pt x="1649" y="3809"/>
                  </a:lnTo>
                  <a:lnTo>
                    <a:pt x="1556" y="3793"/>
                  </a:lnTo>
                  <a:lnTo>
                    <a:pt x="1464" y="3772"/>
                  </a:lnTo>
                  <a:lnTo>
                    <a:pt x="1375" y="3747"/>
                  </a:lnTo>
                  <a:lnTo>
                    <a:pt x="1286" y="3717"/>
                  </a:lnTo>
                  <a:lnTo>
                    <a:pt x="1201" y="3683"/>
                  </a:lnTo>
                  <a:lnTo>
                    <a:pt x="1116" y="3644"/>
                  </a:lnTo>
                  <a:lnTo>
                    <a:pt x="1034" y="3603"/>
                  </a:lnTo>
                  <a:lnTo>
                    <a:pt x="955" y="3557"/>
                  </a:lnTo>
                  <a:lnTo>
                    <a:pt x="878" y="3508"/>
                  </a:lnTo>
                  <a:lnTo>
                    <a:pt x="804" y="3455"/>
                  </a:lnTo>
                  <a:lnTo>
                    <a:pt x="732" y="3399"/>
                  </a:lnTo>
                  <a:lnTo>
                    <a:pt x="664" y="3340"/>
                  </a:lnTo>
                  <a:lnTo>
                    <a:pt x="598" y="3276"/>
                  </a:lnTo>
                  <a:lnTo>
                    <a:pt x="535" y="3211"/>
                  </a:lnTo>
                  <a:lnTo>
                    <a:pt x="476" y="3142"/>
                  </a:lnTo>
                  <a:lnTo>
                    <a:pt x="418" y="3071"/>
                  </a:lnTo>
                  <a:lnTo>
                    <a:pt x="367" y="2996"/>
                  </a:lnTo>
                  <a:lnTo>
                    <a:pt x="317" y="2919"/>
                  </a:lnTo>
                  <a:lnTo>
                    <a:pt x="271" y="2840"/>
                  </a:lnTo>
                  <a:lnTo>
                    <a:pt x="229" y="2757"/>
                  </a:lnTo>
                  <a:lnTo>
                    <a:pt x="191" y="2674"/>
                  </a:lnTo>
                  <a:lnTo>
                    <a:pt x="157" y="2588"/>
                  </a:lnTo>
                  <a:lnTo>
                    <a:pt x="128" y="2500"/>
                  </a:lnTo>
                  <a:lnTo>
                    <a:pt x="102" y="2410"/>
                  </a:lnTo>
                  <a:lnTo>
                    <a:pt x="81" y="2318"/>
                  </a:lnTo>
                  <a:lnTo>
                    <a:pt x="64" y="2225"/>
                  </a:lnTo>
                  <a:lnTo>
                    <a:pt x="52" y="2130"/>
                  </a:lnTo>
                  <a:lnTo>
                    <a:pt x="45" y="2034"/>
                  </a:lnTo>
                  <a:lnTo>
                    <a:pt x="42" y="1937"/>
                  </a:lnTo>
                  <a:lnTo>
                    <a:pt x="45" y="1838"/>
                  </a:lnTo>
                  <a:lnTo>
                    <a:pt x="52" y="1742"/>
                  </a:lnTo>
                  <a:lnTo>
                    <a:pt x="64" y="1648"/>
                  </a:lnTo>
                  <a:lnTo>
                    <a:pt x="81" y="1554"/>
                  </a:lnTo>
                  <a:lnTo>
                    <a:pt x="102" y="1463"/>
                  </a:lnTo>
                  <a:lnTo>
                    <a:pt x="128" y="1373"/>
                  </a:lnTo>
                  <a:lnTo>
                    <a:pt x="157" y="1284"/>
                  </a:lnTo>
                  <a:lnTo>
                    <a:pt x="191" y="1199"/>
                  </a:lnTo>
                  <a:lnTo>
                    <a:pt x="229" y="1115"/>
                  </a:lnTo>
                  <a:lnTo>
                    <a:pt x="271" y="1033"/>
                  </a:lnTo>
                  <a:lnTo>
                    <a:pt x="317" y="954"/>
                  </a:lnTo>
                  <a:lnTo>
                    <a:pt x="367" y="877"/>
                  </a:lnTo>
                  <a:lnTo>
                    <a:pt x="418" y="803"/>
                  </a:lnTo>
                  <a:lnTo>
                    <a:pt x="476" y="731"/>
                  </a:lnTo>
                  <a:lnTo>
                    <a:pt x="535" y="662"/>
                  </a:lnTo>
                  <a:lnTo>
                    <a:pt x="598" y="596"/>
                  </a:lnTo>
                  <a:lnTo>
                    <a:pt x="664" y="534"/>
                  </a:lnTo>
                  <a:lnTo>
                    <a:pt x="732" y="474"/>
                  </a:lnTo>
                  <a:lnTo>
                    <a:pt x="804" y="418"/>
                  </a:lnTo>
                  <a:lnTo>
                    <a:pt x="878" y="365"/>
                  </a:lnTo>
                  <a:lnTo>
                    <a:pt x="955" y="316"/>
                  </a:lnTo>
                  <a:lnTo>
                    <a:pt x="1034" y="270"/>
                  </a:lnTo>
                  <a:lnTo>
                    <a:pt x="1116" y="228"/>
                  </a:lnTo>
                  <a:lnTo>
                    <a:pt x="1201" y="190"/>
                  </a:lnTo>
                  <a:lnTo>
                    <a:pt x="1286" y="157"/>
                  </a:lnTo>
                  <a:lnTo>
                    <a:pt x="1375" y="127"/>
                  </a:lnTo>
                  <a:lnTo>
                    <a:pt x="1464" y="101"/>
                  </a:lnTo>
                  <a:lnTo>
                    <a:pt x="1556" y="80"/>
                  </a:lnTo>
                  <a:lnTo>
                    <a:pt x="1649" y="63"/>
                  </a:lnTo>
                  <a:lnTo>
                    <a:pt x="1744" y="51"/>
                  </a:lnTo>
                  <a:lnTo>
                    <a:pt x="1840" y="43"/>
                  </a:lnTo>
                  <a:lnTo>
                    <a:pt x="1938" y="41"/>
                  </a:lnTo>
                  <a:lnTo>
                    <a:pt x="2036" y="43"/>
                  </a:lnTo>
                  <a:lnTo>
                    <a:pt x="2132" y="51"/>
                  </a:lnTo>
                  <a:lnTo>
                    <a:pt x="2227" y="63"/>
                  </a:lnTo>
                  <a:lnTo>
                    <a:pt x="2320" y="80"/>
                  </a:lnTo>
                  <a:lnTo>
                    <a:pt x="2412" y="101"/>
                  </a:lnTo>
                  <a:lnTo>
                    <a:pt x="2502" y="127"/>
                  </a:lnTo>
                  <a:lnTo>
                    <a:pt x="2590" y="157"/>
                  </a:lnTo>
                  <a:lnTo>
                    <a:pt x="2676" y="190"/>
                  </a:lnTo>
                  <a:lnTo>
                    <a:pt x="2760" y="228"/>
                  </a:lnTo>
                  <a:lnTo>
                    <a:pt x="2842" y="270"/>
                  </a:lnTo>
                  <a:lnTo>
                    <a:pt x="2921" y="316"/>
                  </a:lnTo>
                  <a:lnTo>
                    <a:pt x="2998" y="365"/>
                  </a:lnTo>
                  <a:lnTo>
                    <a:pt x="3072" y="418"/>
                  </a:lnTo>
                  <a:lnTo>
                    <a:pt x="3145" y="474"/>
                  </a:lnTo>
                  <a:lnTo>
                    <a:pt x="3213" y="534"/>
                  </a:lnTo>
                  <a:lnTo>
                    <a:pt x="3279" y="596"/>
                  </a:lnTo>
                  <a:lnTo>
                    <a:pt x="3341" y="662"/>
                  </a:lnTo>
                  <a:lnTo>
                    <a:pt x="3401" y="731"/>
                  </a:lnTo>
                  <a:lnTo>
                    <a:pt x="3457" y="803"/>
                  </a:lnTo>
                  <a:lnTo>
                    <a:pt x="3510" y="877"/>
                  </a:lnTo>
                  <a:lnTo>
                    <a:pt x="3560" y="954"/>
                  </a:lnTo>
                  <a:lnTo>
                    <a:pt x="3605" y="1033"/>
                  </a:lnTo>
                  <a:lnTo>
                    <a:pt x="3647" y="1115"/>
                  </a:lnTo>
                  <a:lnTo>
                    <a:pt x="3685" y="1199"/>
                  </a:lnTo>
                  <a:lnTo>
                    <a:pt x="3719" y="1284"/>
                  </a:lnTo>
                  <a:lnTo>
                    <a:pt x="3749" y="1373"/>
                  </a:lnTo>
                  <a:lnTo>
                    <a:pt x="3775" y="1463"/>
                  </a:lnTo>
                  <a:lnTo>
                    <a:pt x="3795" y="1554"/>
                  </a:lnTo>
                  <a:lnTo>
                    <a:pt x="3812" y="1648"/>
                  </a:lnTo>
                  <a:lnTo>
                    <a:pt x="3824" y="1742"/>
                  </a:lnTo>
                  <a:lnTo>
                    <a:pt x="3832" y="1838"/>
                  </a:lnTo>
                  <a:lnTo>
                    <a:pt x="3834" y="1937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13120" y="2236680"/>
              <a:ext cx="1521000" cy="1521000"/>
            </a:xfrm>
            <a:custGeom>
              <a:avLst/>
              <a:gdLst/>
              <a:ahLst/>
              <a:rect l="l" t="t" r="r" b="b"/>
              <a:pathLst>
                <a:path w="3833" h="3832">
                  <a:moveTo>
                    <a:pt x="3833" y="1916"/>
                  </a:moveTo>
                  <a:lnTo>
                    <a:pt x="3830" y="1816"/>
                  </a:lnTo>
                  <a:lnTo>
                    <a:pt x="3823" y="1719"/>
                  </a:lnTo>
                  <a:lnTo>
                    <a:pt x="3811" y="1624"/>
                  </a:lnTo>
                  <a:lnTo>
                    <a:pt x="3794" y="1529"/>
                  </a:lnTo>
                  <a:lnTo>
                    <a:pt x="3773" y="1436"/>
                  </a:lnTo>
                  <a:lnTo>
                    <a:pt x="3747" y="1345"/>
                  </a:lnTo>
                  <a:lnTo>
                    <a:pt x="3717" y="1257"/>
                  </a:lnTo>
                  <a:lnTo>
                    <a:pt x="3682" y="1169"/>
                  </a:lnTo>
                  <a:lnTo>
                    <a:pt x="3643" y="1085"/>
                  </a:lnTo>
                  <a:lnTo>
                    <a:pt x="3601" y="1002"/>
                  </a:lnTo>
                  <a:lnTo>
                    <a:pt x="3556" y="922"/>
                  </a:lnTo>
                  <a:lnTo>
                    <a:pt x="3505" y="844"/>
                  </a:lnTo>
                  <a:lnTo>
                    <a:pt x="3452" y="769"/>
                  </a:lnTo>
                  <a:lnTo>
                    <a:pt x="3395" y="696"/>
                  </a:lnTo>
                  <a:lnTo>
                    <a:pt x="3335" y="627"/>
                  </a:lnTo>
                  <a:lnTo>
                    <a:pt x="3272" y="560"/>
                  </a:lnTo>
                  <a:lnTo>
                    <a:pt x="3205" y="498"/>
                  </a:lnTo>
                  <a:lnTo>
                    <a:pt x="3136" y="437"/>
                  </a:lnTo>
                  <a:lnTo>
                    <a:pt x="3063" y="380"/>
                  </a:lnTo>
                  <a:lnTo>
                    <a:pt x="2988" y="327"/>
                  </a:lnTo>
                  <a:lnTo>
                    <a:pt x="2910" y="277"/>
                  </a:lnTo>
                  <a:lnTo>
                    <a:pt x="2830" y="231"/>
                  </a:lnTo>
                  <a:lnTo>
                    <a:pt x="2747" y="189"/>
                  </a:lnTo>
                  <a:lnTo>
                    <a:pt x="2662" y="150"/>
                  </a:lnTo>
                  <a:lnTo>
                    <a:pt x="2575" y="115"/>
                  </a:lnTo>
                  <a:lnTo>
                    <a:pt x="2486" y="86"/>
                  </a:lnTo>
                  <a:lnTo>
                    <a:pt x="2395" y="60"/>
                  </a:lnTo>
                  <a:lnTo>
                    <a:pt x="2302" y="39"/>
                  </a:lnTo>
                  <a:lnTo>
                    <a:pt x="2208" y="21"/>
                  </a:lnTo>
                  <a:lnTo>
                    <a:pt x="2112" y="9"/>
                  </a:lnTo>
                  <a:lnTo>
                    <a:pt x="2015" y="2"/>
                  </a:lnTo>
                  <a:lnTo>
                    <a:pt x="1916" y="0"/>
                  </a:lnTo>
                  <a:lnTo>
                    <a:pt x="1817" y="2"/>
                  </a:lnTo>
                  <a:lnTo>
                    <a:pt x="1720" y="9"/>
                  </a:lnTo>
                  <a:lnTo>
                    <a:pt x="1624" y="21"/>
                  </a:lnTo>
                  <a:lnTo>
                    <a:pt x="1530" y="39"/>
                  </a:lnTo>
                  <a:lnTo>
                    <a:pt x="1437" y="60"/>
                  </a:lnTo>
                  <a:lnTo>
                    <a:pt x="1346" y="86"/>
                  </a:lnTo>
                  <a:lnTo>
                    <a:pt x="1258" y="115"/>
                  </a:lnTo>
                  <a:lnTo>
                    <a:pt x="1170" y="150"/>
                  </a:lnTo>
                  <a:lnTo>
                    <a:pt x="1085" y="189"/>
                  </a:lnTo>
                  <a:lnTo>
                    <a:pt x="1003" y="231"/>
                  </a:lnTo>
                  <a:lnTo>
                    <a:pt x="923" y="277"/>
                  </a:lnTo>
                  <a:lnTo>
                    <a:pt x="845" y="327"/>
                  </a:lnTo>
                  <a:lnTo>
                    <a:pt x="769" y="380"/>
                  </a:lnTo>
                  <a:lnTo>
                    <a:pt x="697" y="437"/>
                  </a:lnTo>
                  <a:lnTo>
                    <a:pt x="628" y="498"/>
                  </a:lnTo>
                  <a:lnTo>
                    <a:pt x="561" y="560"/>
                  </a:lnTo>
                  <a:lnTo>
                    <a:pt x="497" y="627"/>
                  </a:lnTo>
                  <a:lnTo>
                    <a:pt x="437" y="696"/>
                  </a:lnTo>
                  <a:lnTo>
                    <a:pt x="380" y="769"/>
                  </a:lnTo>
                  <a:lnTo>
                    <a:pt x="327" y="844"/>
                  </a:lnTo>
                  <a:lnTo>
                    <a:pt x="276" y="922"/>
                  </a:lnTo>
                  <a:lnTo>
                    <a:pt x="231" y="1002"/>
                  </a:lnTo>
                  <a:lnTo>
                    <a:pt x="189" y="1085"/>
                  </a:lnTo>
                  <a:lnTo>
                    <a:pt x="150" y="1169"/>
                  </a:lnTo>
                  <a:lnTo>
                    <a:pt x="115" y="1257"/>
                  </a:lnTo>
                  <a:lnTo>
                    <a:pt x="85" y="1345"/>
                  </a:lnTo>
                  <a:lnTo>
                    <a:pt x="59" y="1436"/>
                  </a:lnTo>
                  <a:lnTo>
                    <a:pt x="39" y="1529"/>
                  </a:lnTo>
                  <a:lnTo>
                    <a:pt x="21" y="1624"/>
                  </a:lnTo>
                  <a:lnTo>
                    <a:pt x="10" y="1719"/>
                  </a:lnTo>
                  <a:lnTo>
                    <a:pt x="2" y="1816"/>
                  </a:lnTo>
                  <a:lnTo>
                    <a:pt x="0" y="1916"/>
                  </a:lnTo>
                  <a:lnTo>
                    <a:pt x="2" y="2014"/>
                  </a:lnTo>
                  <a:lnTo>
                    <a:pt x="10" y="2111"/>
                  </a:lnTo>
                  <a:lnTo>
                    <a:pt x="21" y="2207"/>
                  </a:lnTo>
                  <a:lnTo>
                    <a:pt x="39" y="2301"/>
                  </a:lnTo>
                  <a:lnTo>
                    <a:pt x="59" y="2394"/>
                  </a:lnTo>
                  <a:lnTo>
                    <a:pt x="85" y="2485"/>
                  </a:lnTo>
                  <a:lnTo>
                    <a:pt x="115" y="2574"/>
                  </a:lnTo>
                  <a:lnTo>
                    <a:pt x="150" y="2661"/>
                  </a:lnTo>
                  <a:lnTo>
                    <a:pt x="189" y="2746"/>
                  </a:lnTo>
                  <a:lnTo>
                    <a:pt x="231" y="2828"/>
                  </a:lnTo>
                  <a:lnTo>
                    <a:pt x="276" y="2909"/>
                  </a:lnTo>
                  <a:lnTo>
                    <a:pt x="327" y="2987"/>
                  </a:lnTo>
                  <a:lnTo>
                    <a:pt x="380" y="3062"/>
                  </a:lnTo>
                  <a:lnTo>
                    <a:pt x="437" y="3134"/>
                  </a:lnTo>
                  <a:lnTo>
                    <a:pt x="497" y="3204"/>
                  </a:lnTo>
                  <a:lnTo>
                    <a:pt x="561" y="3270"/>
                  </a:lnTo>
                  <a:lnTo>
                    <a:pt x="628" y="3334"/>
                  </a:lnTo>
                  <a:lnTo>
                    <a:pt x="697" y="3394"/>
                  </a:lnTo>
                  <a:lnTo>
                    <a:pt x="769" y="3450"/>
                  </a:lnTo>
                  <a:lnTo>
                    <a:pt x="845" y="3504"/>
                  </a:lnTo>
                  <a:lnTo>
                    <a:pt x="923" y="3554"/>
                  </a:lnTo>
                  <a:lnTo>
                    <a:pt x="1003" y="3600"/>
                  </a:lnTo>
                  <a:lnTo>
                    <a:pt x="1085" y="3643"/>
                  </a:lnTo>
                  <a:lnTo>
                    <a:pt x="1170" y="3680"/>
                  </a:lnTo>
                  <a:lnTo>
                    <a:pt x="1258" y="3715"/>
                  </a:lnTo>
                  <a:lnTo>
                    <a:pt x="1346" y="3745"/>
                  </a:lnTo>
                  <a:lnTo>
                    <a:pt x="1437" y="3771"/>
                  </a:lnTo>
                  <a:lnTo>
                    <a:pt x="1530" y="3793"/>
                  </a:lnTo>
                  <a:lnTo>
                    <a:pt x="1624" y="3809"/>
                  </a:lnTo>
                  <a:lnTo>
                    <a:pt x="1720" y="3822"/>
                  </a:lnTo>
                  <a:lnTo>
                    <a:pt x="1817" y="3828"/>
                  </a:lnTo>
                  <a:lnTo>
                    <a:pt x="1916" y="3832"/>
                  </a:lnTo>
                  <a:lnTo>
                    <a:pt x="2015" y="3828"/>
                  </a:lnTo>
                  <a:lnTo>
                    <a:pt x="2112" y="3822"/>
                  </a:lnTo>
                  <a:lnTo>
                    <a:pt x="2208" y="3809"/>
                  </a:lnTo>
                  <a:lnTo>
                    <a:pt x="2302" y="3793"/>
                  </a:lnTo>
                  <a:lnTo>
                    <a:pt x="2395" y="3771"/>
                  </a:lnTo>
                  <a:lnTo>
                    <a:pt x="2486" y="3745"/>
                  </a:lnTo>
                  <a:lnTo>
                    <a:pt x="2575" y="3715"/>
                  </a:lnTo>
                  <a:lnTo>
                    <a:pt x="2662" y="3680"/>
                  </a:lnTo>
                  <a:lnTo>
                    <a:pt x="2747" y="3643"/>
                  </a:lnTo>
                  <a:lnTo>
                    <a:pt x="2830" y="3600"/>
                  </a:lnTo>
                  <a:lnTo>
                    <a:pt x="2910" y="3554"/>
                  </a:lnTo>
                  <a:lnTo>
                    <a:pt x="2988" y="3504"/>
                  </a:lnTo>
                  <a:lnTo>
                    <a:pt x="3063" y="3450"/>
                  </a:lnTo>
                  <a:lnTo>
                    <a:pt x="3136" y="3394"/>
                  </a:lnTo>
                  <a:lnTo>
                    <a:pt x="3205" y="3334"/>
                  </a:lnTo>
                  <a:lnTo>
                    <a:pt x="3272" y="3270"/>
                  </a:lnTo>
                  <a:lnTo>
                    <a:pt x="3335" y="3204"/>
                  </a:lnTo>
                  <a:lnTo>
                    <a:pt x="3395" y="3134"/>
                  </a:lnTo>
                  <a:lnTo>
                    <a:pt x="3452" y="3062"/>
                  </a:lnTo>
                  <a:lnTo>
                    <a:pt x="3505" y="2987"/>
                  </a:lnTo>
                  <a:lnTo>
                    <a:pt x="3556" y="2909"/>
                  </a:lnTo>
                  <a:lnTo>
                    <a:pt x="3601" y="2828"/>
                  </a:lnTo>
                  <a:lnTo>
                    <a:pt x="3643" y="2746"/>
                  </a:lnTo>
                  <a:lnTo>
                    <a:pt x="3682" y="2661"/>
                  </a:lnTo>
                  <a:lnTo>
                    <a:pt x="3717" y="2574"/>
                  </a:lnTo>
                  <a:lnTo>
                    <a:pt x="3747" y="2485"/>
                  </a:lnTo>
                  <a:lnTo>
                    <a:pt x="3773" y="2394"/>
                  </a:lnTo>
                  <a:lnTo>
                    <a:pt x="3794" y="2301"/>
                  </a:lnTo>
                  <a:lnTo>
                    <a:pt x="3811" y="2207"/>
                  </a:lnTo>
                  <a:lnTo>
                    <a:pt x="3823" y="2111"/>
                  </a:lnTo>
                  <a:lnTo>
                    <a:pt x="3830" y="2014"/>
                  </a:lnTo>
                  <a:lnTo>
                    <a:pt x="3833" y="1916"/>
                  </a:lnTo>
                  <a:close/>
                  <a:moveTo>
                    <a:pt x="3791" y="1916"/>
                  </a:moveTo>
                  <a:lnTo>
                    <a:pt x="3789" y="2012"/>
                  </a:lnTo>
                  <a:lnTo>
                    <a:pt x="3782" y="2107"/>
                  </a:lnTo>
                  <a:lnTo>
                    <a:pt x="3770" y="2201"/>
                  </a:lnTo>
                  <a:lnTo>
                    <a:pt x="3754" y="2293"/>
                  </a:lnTo>
                  <a:lnTo>
                    <a:pt x="3732" y="2383"/>
                  </a:lnTo>
                  <a:lnTo>
                    <a:pt x="3707" y="2473"/>
                  </a:lnTo>
                  <a:lnTo>
                    <a:pt x="3677" y="2559"/>
                  </a:lnTo>
                  <a:lnTo>
                    <a:pt x="3643" y="2645"/>
                  </a:lnTo>
                  <a:lnTo>
                    <a:pt x="3607" y="2728"/>
                  </a:lnTo>
                  <a:lnTo>
                    <a:pt x="3565" y="2809"/>
                  </a:lnTo>
                  <a:lnTo>
                    <a:pt x="3520" y="2888"/>
                  </a:lnTo>
                  <a:lnTo>
                    <a:pt x="3471" y="2963"/>
                  </a:lnTo>
                  <a:lnTo>
                    <a:pt x="3419" y="3037"/>
                  </a:lnTo>
                  <a:lnTo>
                    <a:pt x="3364" y="3108"/>
                  </a:lnTo>
                  <a:lnTo>
                    <a:pt x="3304" y="3176"/>
                  </a:lnTo>
                  <a:lnTo>
                    <a:pt x="3243" y="3241"/>
                  </a:lnTo>
                  <a:lnTo>
                    <a:pt x="3177" y="3302"/>
                  </a:lnTo>
                  <a:lnTo>
                    <a:pt x="3109" y="3362"/>
                  </a:lnTo>
                  <a:lnTo>
                    <a:pt x="3038" y="3417"/>
                  </a:lnTo>
                  <a:lnTo>
                    <a:pt x="2965" y="3470"/>
                  </a:lnTo>
                  <a:lnTo>
                    <a:pt x="2888" y="3518"/>
                  </a:lnTo>
                  <a:lnTo>
                    <a:pt x="2810" y="3564"/>
                  </a:lnTo>
                  <a:lnTo>
                    <a:pt x="2729" y="3605"/>
                  </a:lnTo>
                  <a:lnTo>
                    <a:pt x="2646" y="3643"/>
                  </a:lnTo>
                  <a:lnTo>
                    <a:pt x="2561" y="3676"/>
                  </a:lnTo>
                  <a:lnTo>
                    <a:pt x="2473" y="3705"/>
                  </a:lnTo>
                  <a:lnTo>
                    <a:pt x="2385" y="3731"/>
                  </a:lnTo>
                  <a:lnTo>
                    <a:pt x="2294" y="3752"/>
                  </a:lnTo>
                  <a:lnTo>
                    <a:pt x="2202" y="3768"/>
                  </a:lnTo>
                  <a:lnTo>
                    <a:pt x="2108" y="3780"/>
                  </a:lnTo>
                  <a:lnTo>
                    <a:pt x="2013" y="3787"/>
                  </a:lnTo>
                  <a:lnTo>
                    <a:pt x="1916" y="3789"/>
                  </a:lnTo>
                  <a:lnTo>
                    <a:pt x="1819" y="3787"/>
                  </a:lnTo>
                  <a:lnTo>
                    <a:pt x="1724" y="3780"/>
                  </a:lnTo>
                  <a:lnTo>
                    <a:pt x="1630" y="3768"/>
                  </a:lnTo>
                  <a:lnTo>
                    <a:pt x="1539" y="3752"/>
                  </a:lnTo>
                  <a:lnTo>
                    <a:pt x="1448" y="3731"/>
                  </a:lnTo>
                  <a:lnTo>
                    <a:pt x="1358" y="3705"/>
                  </a:lnTo>
                  <a:lnTo>
                    <a:pt x="1272" y="3676"/>
                  </a:lnTo>
                  <a:lnTo>
                    <a:pt x="1186" y="3643"/>
                  </a:lnTo>
                  <a:lnTo>
                    <a:pt x="1103" y="3605"/>
                  </a:lnTo>
                  <a:lnTo>
                    <a:pt x="1022" y="3564"/>
                  </a:lnTo>
                  <a:lnTo>
                    <a:pt x="944" y="3518"/>
                  </a:lnTo>
                  <a:lnTo>
                    <a:pt x="868" y="3470"/>
                  </a:lnTo>
                  <a:lnTo>
                    <a:pt x="794" y="3417"/>
                  </a:lnTo>
                  <a:lnTo>
                    <a:pt x="724" y="3362"/>
                  </a:lnTo>
                  <a:lnTo>
                    <a:pt x="656" y="3302"/>
                  </a:lnTo>
                  <a:lnTo>
                    <a:pt x="590" y="3241"/>
                  </a:lnTo>
                  <a:lnTo>
                    <a:pt x="528" y="3176"/>
                  </a:lnTo>
                  <a:lnTo>
                    <a:pt x="469" y="3108"/>
                  </a:lnTo>
                  <a:lnTo>
                    <a:pt x="414" y="3037"/>
                  </a:lnTo>
                  <a:lnTo>
                    <a:pt x="362" y="2963"/>
                  </a:lnTo>
                  <a:lnTo>
                    <a:pt x="312" y="2888"/>
                  </a:lnTo>
                  <a:lnTo>
                    <a:pt x="268" y="2809"/>
                  </a:lnTo>
                  <a:lnTo>
                    <a:pt x="226" y="2728"/>
                  </a:lnTo>
                  <a:lnTo>
                    <a:pt x="189" y="2645"/>
                  </a:lnTo>
                  <a:lnTo>
                    <a:pt x="154" y="2559"/>
                  </a:lnTo>
                  <a:lnTo>
                    <a:pt x="125" y="2473"/>
                  </a:lnTo>
                  <a:lnTo>
                    <a:pt x="100" y="2383"/>
                  </a:lnTo>
                  <a:lnTo>
                    <a:pt x="79" y="2293"/>
                  </a:lnTo>
                  <a:lnTo>
                    <a:pt x="63" y="2201"/>
                  </a:lnTo>
                  <a:lnTo>
                    <a:pt x="51" y="2107"/>
                  </a:lnTo>
                  <a:lnTo>
                    <a:pt x="43" y="2012"/>
                  </a:lnTo>
                  <a:lnTo>
                    <a:pt x="41" y="1916"/>
                  </a:lnTo>
                  <a:lnTo>
                    <a:pt x="43" y="1818"/>
                  </a:lnTo>
                  <a:lnTo>
                    <a:pt x="51" y="1723"/>
                  </a:lnTo>
                  <a:lnTo>
                    <a:pt x="63" y="1629"/>
                  </a:lnTo>
                  <a:lnTo>
                    <a:pt x="79" y="1538"/>
                  </a:lnTo>
                  <a:lnTo>
                    <a:pt x="100" y="1447"/>
                  </a:lnTo>
                  <a:lnTo>
                    <a:pt x="125" y="1358"/>
                  </a:lnTo>
                  <a:lnTo>
                    <a:pt x="154" y="1271"/>
                  </a:lnTo>
                  <a:lnTo>
                    <a:pt x="189" y="1186"/>
                  </a:lnTo>
                  <a:lnTo>
                    <a:pt x="226" y="1102"/>
                  </a:lnTo>
                  <a:lnTo>
                    <a:pt x="268" y="1023"/>
                  </a:lnTo>
                  <a:lnTo>
                    <a:pt x="312" y="944"/>
                  </a:lnTo>
                  <a:lnTo>
                    <a:pt x="362" y="868"/>
                  </a:lnTo>
                  <a:lnTo>
                    <a:pt x="414" y="794"/>
                  </a:lnTo>
                  <a:lnTo>
                    <a:pt x="469" y="723"/>
                  </a:lnTo>
                  <a:lnTo>
                    <a:pt x="528" y="655"/>
                  </a:lnTo>
                  <a:lnTo>
                    <a:pt x="590" y="591"/>
                  </a:lnTo>
                  <a:lnTo>
                    <a:pt x="656" y="528"/>
                  </a:lnTo>
                  <a:lnTo>
                    <a:pt x="724" y="470"/>
                  </a:lnTo>
                  <a:lnTo>
                    <a:pt x="794" y="413"/>
                  </a:lnTo>
                  <a:lnTo>
                    <a:pt x="868" y="362"/>
                  </a:lnTo>
                  <a:lnTo>
                    <a:pt x="944" y="313"/>
                  </a:lnTo>
                  <a:lnTo>
                    <a:pt x="1022" y="268"/>
                  </a:lnTo>
                  <a:lnTo>
                    <a:pt x="1103" y="227"/>
                  </a:lnTo>
                  <a:lnTo>
                    <a:pt x="1186" y="189"/>
                  </a:lnTo>
                  <a:lnTo>
                    <a:pt x="1272" y="155"/>
                  </a:lnTo>
                  <a:lnTo>
                    <a:pt x="1358" y="125"/>
                  </a:lnTo>
                  <a:lnTo>
                    <a:pt x="1448" y="100"/>
                  </a:lnTo>
                  <a:lnTo>
                    <a:pt x="1539" y="80"/>
                  </a:lnTo>
                  <a:lnTo>
                    <a:pt x="1630" y="62"/>
                  </a:lnTo>
                  <a:lnTo>
                    <a:pt x="1724" y="51"/>
                  </a:lnTo>
                  <a:lnTo>
                    <a:pt x="1819" y="44"/>
                  </a:lnTo>
                  <a:lnTo>
                    <a:pt x="1916" y="41"/>
                  </a:lnTo>
                  <a:lnTo>
                    <a:pt x="2013" y="44"/>
                  </a:lnTo>
                  <a:lnTo>
                    <a:pt x="2108" y="51"/>
                  </a:lnTo>
                  <a:lnTo>
                    <a:pt x="2202" y="62"/>
                  </a:lnTo>
                  <a:lnTo>
                    <a:pt x="2294" y="80"/>
                  </a:lnTo>
                  <a:lnTo>
                    <a:pt x="2385" y="100"/>
                  </a:lnTo>
                  <a:lnTo>
                    <a:pt x="2473" y="125"/>
                  </a:lnTo>
                  <a:lnTo>
                    <a:pt x="2561" y="155"/>
                  </a:lnTo>
                  <a:lnTo>
                    <a:pt x="2646" y="189"/>
                  </a:lnTo>
                  <a:lnTo>
                    <a:pt x="2729" y="227"/>
                  </a:lnTo>
                  <a:lnTo>
                    <a:pt x="2810" y="268"/>
                  </a:lnTo>
                  <a:lnTo>
                    <a:pt x="2888" y="313"/>
                  </a:lnTo>
                  <a:lnTo>
                    <a:pt x="2965" y="362"/>
                  </a:lnTo>
                  <a:lnTo>
                    <a:pt x="3038" y="413"/>
                  </a:lnTo>
                  <a:lnTo>
                    <a:pt x="3109" y="470"/>
                  </a:lnTo>
                  <a:lnTo>
                    <a:pt x="3177" y="528"/>
                  </a:lnTo>
                  <a:lnTo>
                    <a:pt x="3243" y="591"/>
                  </a:lnTo>
                  <a:lnTo>
                    <a:pt x="3304" y="655"/>
                  </a:lnTo>
                  <a:lnTo>
                    <a:pt x="3364" y="723"/>
                  </a:lnTo>
                  <a:lnTo>
                    <a:pt x="3419" y="794"/>
                  </a:lnTo>
                  <a:lnTo>
                    <a:pt x="3471" y="868"/>
                  </a:lnTo>
                  <a:lnTo>
                    <a:pt x="3520" y="944"/>
                  </a:lnTo>
                  <a:lnTo>
                    <a:pt x="3565" y="1023"/>
                  </a:lnTo>
                  <a:lnTo>
                    <a:pt x="3607" y="1102"/>
                  </a:lnTo>
                  <a:lnTo>
                    <a:pt x="3643" y="1186"/>
                  </a:lnTo>
                  <a:lnTo>
                    <a:pt x="3677" y="1271"/>
                  </a:lnTo>
                  <a:lnTo>
                    <a:pt x="3707" y="1358"/>
                  </a:lnTo>
                  <a:lnTo>
                    <a:pt x="3732" y="1447"/>
                  </a:lnTo>
                  <a:lnTo>
                    <a:pt x="3754" y="1538"/>
                  </a:lnTo>
                  <a:lnTo>
                    <a:pt x="3770" y="1629"/>
                  </a:lnTo>
                  <a:lnTo>
                    <a:pt x="3782" y="1723"/>
                  </a:lnTo>
                  <a:lnTo>
                    <a:pt x="3789" y="1818"/>
                  </a:lnTo>
                  <a:lnTo>
                    <a:pt x="3791" y="191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21040" y="2244600"/>
              <a:ext cx="1505160" cy="1505160"/>
            </a:xfrm>
            <a:custGeom>
              <a:avLst/>
              <a:gdLst/>
              <a:ahLst/>
              <a:rect l="l" t="t" r="r" b="b"/>
              <a:pathLst>
                <a:path w="3792" h="3790">
                  <a:moveTo>
                    <a:pt x="3792" y="1896"/>
                  </a:moveTo>
                  <a:lnTo>
                    <a:pt x="3790" y="1797"/>
                  </a:lnTo>
                  <a:lnTo>
                    <a:pt x="3782" y="1701"/>
                  </a:lnTo>
                  <a:lnTo>
                    <a:pt x="3770" y="1607"/>
                  </a:lnTo>
                  <a:lnTo>
                    <a:pt x="3753" y="1513"/>
                  </a:lnTo>
                  <a:lnTo>
                    <a:pt x="3733" y="1422"/>
                  </a:lnTo>
                  <a:lnTo>
                    <a:pt x="3707" y="1332"/>
                  </a:lnTo>
                  <a:lnTo>
                    <a:pt x="3677" y="1243"/>
                  </a:lnTo>
                  <a:lnTo>
                    <a:pt x="3643" y="1158"/>
                  </a:lnTo>
                  <a:lnTo>
                    <a:pt x="3605" y="1074"/>
                  </a:lnTo>
                  <a:lnTo>
                    <a:pt x="3563" y="992"/>
                  </a:lnTo>
                  <a:lnTo>
                    <a:pt x="3518" y="913"/>
                  </a:lnTo>
                  <a:lnTo>
                    <a:pt x="3468" y="836"/>
                  </a:lnTo>
                  <a:lnTo>
                    <a:pt x="3415" y="762"/>
                  </a:lnTo>
                  <a:lnTo>
                    <a:pt x="3359" y="690"/>
                  </a:lnTo>
                  <a:lnTo>
                    <a:pt x="3299" y="621"/>
                  </a:lnTo>
                  <a:lnTo>
                    <a:pt x="3237" y="555"/>
                  </a:lnTo>
                  <a:lnTo>
                    <a:pt x="3171" y="493"/>
                  </a:lnTo>
                  <a:lnTo>
                    <a:pt x="3103" y="433"/>
                  </a:lnTo>
                  <a:lnTo>
                    <a:pt x="3030" y="377"/>
                  </a:lnTo>
                  <a:lnTo>
                    <a:pt x="2956" y="324"/>
                  </a:lnTo>
                  <a:lnTo>
                    <a:pt x="2879" y="275"/>
                  </a:lnTo>
                  <a:lnTo>
                    <a:pt x="2800" y="229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6"/>
                  </a:lnTo>
                  <a:lnTo>
                    <a:pt x="2460" y="86"/>
                  </a:lnTo>
                  <a:lnTo>
                    <a:pt x="2370" y="60"/>
                  </a:lnTo>
                  <a:lnTo>
                    <a:pt x="2278" y="39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6" y="0"/>
                  </a:lnTo>
                  <a:lnTo>
                    <a:pt x="1798" y="2"/>
                  </a:lnTo>
                  <a:lnTo>
                    <a:pt x="1702" y="10"/>
                  </a:lnTo>
                  <a:lnTo>
                    <a:pt x="1607" y="22"/>
                  </a:lnTo>
                  <a:lnTo>
                    <a:pt x="1514" y="39"/>
                  </a:lnTo>
                  <a:lnTo>
                    <a:pt x="1422" y="60"/>
                  </a:lnTo>
                  <a:lnTo>
                    <a:pt x="1333" y="86"/>
                  </a:lnTo>
                  <a:lnTo>
                    <a:pt x="1244" y="116"/>
                  </a:lnTo>
                  <a:lnTo>
                    <a:pt x="1159" y="149"/>
                  </a:lnTo>
                  <a:lnTo>
                    <a:pt x="1074" y="187"/>
                  </a:lnTo>
                  <a:lnTo>
                    <a:pt x="992" y="229"/>
                  </a:lnTo>
                  <a:lnTo>
                    <a:pt x="913" y="275"/>
                  </a:lnTo>
                  <a:lnTo>
                    <a:pt x="836" y="324"/>
                  </a:lnTo>
                  <a:lnTo>
                    <a:pt x="762" y="377"/>
                  </a:lnTo>
                  <a:lnTo>
                    <a:pt x="690" y="433"/>
                  </a:lnTo>
                  <a:lnTo>
                    <a:pt x="622" y="493"/>
                  </a:lnTo>
                  <a:lnTo>
                    <a:pt x="556" y="555"/>
                  </a:lnTo>
                  <a:lnTo>
                    <a:pt x="493" y="621"/>
                  </a:lnTo>
                  <a:lnTo>
                    <a:pt x="434" y="690"/>
                  </a:lnTo>
                  <a:lnTo>
                    <a:pt x="376" y="762"/>
                  </a:lnTo>
                  <a:lnTo>
                    <a:pt x="325" y="836"/>
                  </a:lnTo>
                  <a:lnTo>
                    <a:pt x="275" y="913"/>
                  </a:lnTo>
                  <a:lnTo>
                    <a:pt x="229" y="992"/>
                  </a:lnTo>
                  <a:lnTo>
                    <a:pt x="187" y="1074"/>
                  </a:lnTo>
                  <a:lnTo>
                    <a:pt x="149" y="1158"/>
                  </a:lnTo>
                  <a:lnTo>
                    <a:pt x="115" y="1243"/>
                  </a:lnTo>
                  <a:lnTo>
                    <a:pt x="86" y="1332"/>
                  </a:lnTo>
                  <a:lnTo>
                    <a:pt x="60" y="1422"/>
                  </a:lnTo>
                  <a:lnTo>
                    <a:pt x="39" y="1513"/>
                  </a:lnTo>
                  <a:lnTo>
                    <a:pt x="22" y="1607"/>
                  </a:lnTo>
                  <a:lnTo>
                    <a:pt x="10" y="1701"/>
                  </a:lnTo>
                  <a:lnTo>
                    <a:pt x="3" y="1797"/>
                  </a:lnTo>
                  <a:lnTo>
                    <a:pt x="0" y="1896"/>
                  </a:lnTo>
                  <a:lnTo>
                    <a:pt x="3" y="1993"/>
                  </a:lnTo>
                  <a:lnTo>
                    <a:pt x="10" y="2089"/>
                  </a:lnTo>
                  <a:lnTo>
                    <a:pt x="22" y="2184"/>
                  </a:lnTo>
                  <a:lnTo>
                    <a:pt x="39" y="2277"/>
                  </a:lnTo>
                  <a:lnTo>
                    <a:pt x="60" y="2369"/>
                  </a:lnTo>
                  <a:lnTo>
                    <a:pt x="86" y="2459"/>
                  </a:lnTo>
                  <a:lnTo>
                    <a:pt x="115" y="2547"/>
                  </a:lnTo>
                  <a:lnTo>
                    <a:pt x="149" y="2633"/>
                  </a:lnTo>
                  <a:lnTo>
                    <a:pt x="187" y="2716"/>
                  </a:lnTo>
                  <a:lnTo>
                    <a:pt x="229" y="2799"/>
                  </a:lnTo>
                  <a:lnTo>
                    <a:pt x="275" y="2878"/>
                  </a:lnTo>
                  <a:lnTo>
                    <a:pt x="325" y="2955"/>
                  </a:lnTo>
                  <a:lnTo>
                    <a:pt x="376" y="3030"/>
                  </a:lnTo>
                  <a:lnTo>
                    <a:pt x="434" y="3101"/>
                  </a:lnTo>
                  <a:lnTo>
                    <a:pt x="493" y="3170"/>
                  </a:lnTo>
                  <a:lnTo>
                    <a:pt x="556" y="3235"/>
                  </a:lnTo>
                  <a:lnTo>
                    <a:pt x="622" y="3299"/>
                  </a:lnTo>
                  <a:lnTo>
                    <a:pt x="690" y="3358"/>
                  </a:lnTo>
                  <a:lnTo>
                    <a:pt x="762" y="3414"/>
                  </a:lnTo>
                  <a:lnTo>
                    <a:pt x="836" y="3467"/>
                  </a:lnTo>
                  <a:lnTo>
                    <a:pt x="913" y="3516"/>
                  </a:lnTo>
                  <a:lnTo>
                    <a:pt x="992" y="3562"/>
                  </a:lnTo>
                  <a:lnTo>
                    <a:pt x="1074" y="3603"/>
                  </a:lnTo>
                  <a:lnTo>
                    <a:pt x="1159" y="3642"/>
                  </a:lnTo>
                  <a:lnTo>
                    <a:pt x="1244" y="3676"/>
                  </a:lnTo>
                  <a:lnTo>
                    <a:pt x="1333" y="3706"/>
                  </a:lnTo>
                  <a:lnTo>
                    <a:pt x="1422" y="3731"/>
                  </a:lnTo>
                  <a:lnTo>
                    <a:pt x="1514" y="3752"/>
                  </a:lnTo>
                  <a:lnTo>
                    <a:pt x="1607" y="3768"/>
                  </a:lnTo>
                  <a:lnTo>
                    <a:pt x="1702" y="3780"/>
                  </a:lnTo>
                  <a:lnTo>
                    <a:pt x="1798" y="3788"/>
                  </a:lnTo>
                  <a:lnTo>
                    <a:pt x="1896" y="3790"/>
                  </a:lnTo>
                  <a:lnTo>
                    <a:pt x="1994" y="3788"/>
                  </a:lnTo>
                  <a:lnTo>
                    <a:pt x="2090" y="3780"/>
                  </a:lnTo>
                  <a:lnTo>
                    <a:pt x="2185" y="3768"/>
                  </a:lnTo>
                  <a:lnTo>
                    <a:pt x="2278" y="3752"/>
                  </a:lnTo>
                  <a:lnTo>
                    <a:pt x="2370" y="3731"/>
                  </a:lnTo>
                  <a:lnTo>
                    <a:pt x="2460" y="3706"/>
                  </a:lnTo>
                  <a:lnTo>
                    <a:pt x="2548" y="3676"/>
                  </a:lnTo>
                  <a:lnTo>
                    <a:pt x="2634" y="3642"/>
                  </a:lnTo>
                  <a:lnTo>
                    <a:pt x="2718" y="3603"/>
                  </a:lnTo>
                  <a:lnTo>
                    <a:pt x="2800" y="3562"/>
                  </a:lnTo>
                  <a:lnTo>
                    <a:pt x="2879" y="3516"/>
                  </a:lnTo>
                  <a:lnTo>
                    <a:pt x="2956" y="3467"/>
                  </a:lnTo>
                  <a:lnTo>
                    <a:pt x="3030" y="3414"/>
                  </a:lnTo>
                  <a:lnTo>
                    <a:pt x="3103" y="3358"/>
                  </a:lnTo>
                  <a:lnTo>
                    <a:pt x="3171" y="3299"/>
                  </a:lnTo>
                  <a:lnTo>
                    <a:pt x="3237" y="3235"/>
                  </a:lnTo>
                  <a:lnTo>
                    <a:pt x="3299" y="3170"/>
                  </a:lnTo>
                  <a:lnTo>
                    <a:pt x="3359" y="3101"/>
                  </a:lnTo>
                  <a:lnTo>
                    <a:pt x="3415" y="3030"/>
                  </a:lnTo>
                  <a:lnTo>
                    <a:pt x="3468" y="2955"/>
                  </a:lnTo>
                  <a:lnTo>
                    <a:pt x="3518" y="2878"/>
                  </a:lnTo>
                  <a:lnTo>
                    <a:pt x="3563" y="2799"/>
                  </a:lnTo>
                  <a:lnTo>
                    <a:pt x="3605" y="2716"/>
                  </a:lnTo>
                  <a:lnTo>
                    <a:pt x="3643" y="2633"/>
                  </a:lnTo>
                  <a:lnTo>
                    <a:pt x="3677" y="2547"/>
                  </a:lnTo>
                  <a:lnTo>
                    <a:pt x="3707" y="2459"/>
                  </a:lnTo>
                  <a:lnTo>
                    <a:pt x="3733" y="2369"/>
                  </a:lnTo>
                  <a:lnTo>
                    <a:pt x="3753" y="2277"/>
                  </a:lnTo>
                  <a:lnTo>
                    <a:pt x="3770" y="2184"/>
                  </a:lnTo>
                  <a:lnTo>
                    <a:pt x="3782" y="2089"/>
                  </a:lnTo>
                  <a:lnTo>
                    <a:pt x="3790" y="1993"/>
                  </a:lnTo>
                  <a:lnTo>
                    <a:pt x="3792" y="1896"/>
                  </a:lnTo>
                  <a:close/>
                  <a:moveTo>
                    <a:pt x="3751" y="1896"/>
                  </a:moveTo>
                  <a:lnTo>
                    <a:pt x="3748" y="1991"/>
                  </a:lnTo>
                  <a:lnTo>
                    <a:pt x="3741" y="2085"/>
                  </a:lnTo>
                  <a:lnTo>
                    <a:pt x="3729" y="2178"/>
                  </a:lnTo>
                  <a:lnTo>
                    <a:pt x="3713" y="2269"/>
                  </a:lnTo>
                  <a:lnTo>
                    <a:pt x="3691" y="2359"/>
                  </a:lnTo>
                  <a:lnTo>
                    <a:pt x="3667" y="2446"/>
                  </a:lnTo>
                  <a:lnTo>
                    <a:pt x="3637" y="2533"/>
                  </a:lnTo>
                  <a:lnTo>
                    <a:pt x="3605" y="2617"/>
                  </a:lnTo>
                  <a:lnTo>
                    <a:pt x="3567" y="2699"/>
                  </a:lnTo>
                  <a:lnTo>
                    <a:pt x="3526" y="2779"/>
                  </a:lnTo>
                  <a:lnTo>
                    <a:pt x="3482" y="2857"/>
                  </a:lnTo>
                  <a:lnTo>
                    <a:pt x="3433" y="2931"/>
                  </a:lnTo>
                  <a:lnTo>
                    <a:pt x="3382" y="3004"/>
                  </a:lnTo>
                  <a:lnTo>
                    <a:pt x="3327" y="3074"/>
                  </a:lnTo>
                  <a:lnTo>
                    <a:pt x="3269" y="3142"/>
                  </a:lnTo>
                  <a:lnTo>
                    <a:pt x="3207" y="3206"/>
                  </a:lnTo>
                  <a:lnTo>
                    <a:pt x="3143" y="3267"/>
                  </a:lnTo>
                  <a:lnTo>
                    <a:pt x="3076" y="3326"/>
                  </a:lnTo>
                  <a:lnTo>
                    <a:pt x="3005" y="3381"/>
                  </a:lnTo>
                  <a:lnTo>
                    <a:pt x="2933" y="3433"/>
                  </a:lnTo>
                  <a:lnTo>
                    <a:pt x="2857" y="3480"/>
                  </a:lnTo>
                  <a:lnTo>
                    <a:pt x="2780" y="3525"/>
                  </a:lnTo>
                  <a:lnTo>
                    <a:pt x="2700" y="3566"/>
                  </a:lnTo>
                  <a:lnTo>
                    <a:pt x="2617" y="3603"/>
                  </a:lnTo>
                  <a:lnTo>
                    <a:pt x="2533" y="3637"/>
                  </a:lnTo>
                  <a:lnTo>
                    <a:pt x="2448" y="3666"/>
                  </a:lnTo>
                  <a:lnTo>
                    <a:pt x="2359" y="3691"/>
                  </a:lnTo>
                  <a:lnTo>
                    <a:pt x="2270" y="3711"/>
                  </a:lnTo>
                  <a:lnTo>
                    <a:pt x="2179" y="3727"/>
                  </a:lnTo>
                  <a:lnTo>
                    <a:pt x="2086" y="3739"/>
                  </a:lnTo>
                  <a:lnTo>
                    <a:pt x="1992" y="3747"/>
                  </a:lnTo>
                  <a:lnTo>
                    <a:pt x="1896" y="3749"/>
                  </a:lnTo>
                  <a:lnTo>
                    <a:pt x="1801" y="3747"/>
                  </a:lnTo>
                  <a:lnTo>
                    <a:pt x="1707" y="3739"/>
                  </a:lnTo>
                  <a:lnTo>
                    <a:pt x="1614" y="3727"/>
                  </a:lnTo>
                  <a:lnTo>
                    <a:pt x="1523" y="3711"/>
                  </a:lnTo>
                  <a:lnTo>
                    <a:pt x="1433" y="3691"/>
                  </a:lnTo>
                  <a:lnTo>
                    <a:pt x="1345" y="3666"/>
                  </a:lnTo>
                  <a:lnTo>
                    <a:pt x="1258" y="3637"/>
                  </a:lnTo>
                  <a:lnTo>
                    <a:pt x="1175" y="3603"/>
                  </a:lnTo>
                  <a:lnTo>
                    <a:pt x="1093" y="3566"/>
                  </a:lnTo>
                  <a:lnTo>
                    <a:pt x="1013" y="3525"/>
                  </a:lnTo>
                  <a:lnTo>
                    <a:pt x="935" y="3480"/>
                  </a:lnTo>
                  <a:lnTo>
                    <a:pt x="859" y="3433"/>
                  </a:lnTo>
                  <a:lnTo>
                    <a:pt x="787" y="3381"/>
                  </a:lnTo>
                  <a:lnTo>
                    <a:pt x="717" y="3326"/>
                  </a:lnTo>
                  <a:lnTo>
                    <a:pt x="650" y="3267"/>
                  </a:lnTo>
                  <a:lnTo>
                    <a:pt x="585" y="3206"/>
                  </a:lnTo>
                  <a:lnTo>
                    <a:pt x="523" y="3142"/>
                  </a:lnTo>
                  <a:lnTo>
                    <a:pt x="465" y="3074"/>
                  </a:lnTo>
                  <a:lnTo>
                    <a:pt x="410" y="3004"/>
                  </a:lnTo>
                  <a:lnTo>
                    <a:pt x="359" y="2931"/>
                  </a:lnTo>
                  <a:lnTo>
                    <a:pt x="310" y="2857"/>
                  </a:lnTo>
                  <a:lnTo>
                    <a:pt x="266" y="2779"/>
                  </a:lnTo>
                  <a:lnTo>
                    <a:pt x="225" y="2699"/>
                  </a:lnTo>
                  <a:lnTo>
                    <a:pt x="187" y="2617"/>
                  </a:lnTo>
                  <a:lnTo>
                    <a:pt x="155" y="2533"/>
                  </a:lnTo>
                  <a:lnTo>
                    <a:pt x="126" y="2446"/>
                  </a:lnTo>
                  <a:lnTo>
                    <a:pt x="100" y="2359"/>
                  </a:lnTo>
                  <a:lnTo>
                    <a:pt x="79" y="2269"/>
                  </a:lnTo>
                  <a:lnTo>
                    <a:pt x="63" y="2178"/>
                  </a:lnTo>
                  <a:lnTo>
                    <a:pt x="51" y="2085"/>
                  </a:lnTo>
                  <a:lnTo>
                    <a:pt x="45" y="1991"/>
                  </a:lnTo>
                  <a:lnTo>
                    <a:pt x="41" y="1896"/>
                  </a:lnTo>
                  <a:lnTo>
                    <a:pt x="45" y="1800"/>
                  </a:lnTo>
                  <a:lnTo>
                    <a:pt x="51" y="1706"/>
                  </a:lnTo>
                  <a:lnTo>
                    <a:pt x="63" y="1613"/>
                  </a:lnTo>
                  <a:lnTo>
                    <a:pt x="79" y="1522"/>
                  </a:lnTo>
                  <a:lnTo>
                    <a:pt x="100" y="1432"/>
                  </a:lnTo>
                  <a:lnTo>
                    <a:pt x="126" y="1344"/>
                  </a:lnTo>
                  <a:lnTo>
                    <a:pt x="155" y="1258"/>
                  </a:lnTo>
                  <a:lnTo>
                    <a:pt x="187" y="1174"/>
                  </a:lnTo>
                  <a:lnTo>
                    <a:pt x="225" y="1092"/>
                  </a:lnTo>
                  <a:lnTo>
                    <a:pt x="266" y="1012"/>
                  </a:lnTo>
                  <a:lnTo>
                    <a:pt x="310" y="934"/>
                  </a:lnTo>
                  <a:lnTo>
                    <a:pt x="359" y="859"/>
                  </a:lnTo>
                  <a:lnTo>
                    <a:pt x="410" y="787"/>
                  </a:lnTo>
                  <a:lnTo>
                    <a:pt x="465" y="716"/>
                  </a:lnTo>
                  <a:lnTo>
                    <a:pt x="523" y="649"/>
                  </a:lnTo>
                  <a:lnTo>
                    <a:pt x="585" y="585"/>
                  </a:lnTo>
                  <a:lnTo>
                    <a:pt x="650" y="524"/>
                  </a:lnTo>
                  <a:lnTo>
                    <a:pt x="717" y="466"/>
                  </a:lnTo>
                  <a:lnTo>
                    <a:pt x="787" y="411"/>
                  </a:lnTo>
                  <a:lnTo>
                    <a:pt x="859" y="359"/>
                  </a:lnTo>
                  <a:lnTo>
                    <a:pt x="935" y="310"/>
                  </a:lnTo>
                  <a:lnTo>
                    <a:pt x="1013" y="266"/>
                  </a:lnTo>
                  <a:lnTo>
                    <a:pt x="1093" y="225"/>
                  </a:lnTo>
                  <a:lnTo>
                    <a:pt x="1175" y="188"/>
                  </a:lnTo>
                  <a:lnTo>
                    <a:pt x="1258" y="155"/>
                  </a:lnTo>
                  <a:lnTo>
                    <a:pt x="1345" y="126"/>
                  </a:lnTo>
                  <a:lnTo>
                    <a:pt x="1433" y="101"/>
                  </a:lnTo>
                  <a:lnTo>
                    <a:pt x="1523" y="80"/>
                  </a:lnTo>
                  <a:lnTo>
                    <a:pt x="1614" y="63"/>
                  </a:lnTo>
                  <a:lnTo>
                    <a:pt x="1707" y="52"/>
                  </a:lnTo>
                  <a:lnTo>
                    <a:pt x="1801" y="45"/>
                  </a:lnTo>
                  <a:lnTo>
                    <a:pt x="1896" y="42"/>
                  </a:lnTo>
                  <a:lnTo>
                    <a:pt x="1992" y="45"/>
                  </a:lnTo>
                  <a:lnTo>
                    <a:pt x="2086" y="52"/>
                  </a:lnTo>
                  <a:lnTo>
                    <a:pt x="2179" y="63"/>
                  </a:lnTo>
                  <a:lnTo>
                    <a:pt x="2270" y="80"/>
                  </a:lnTo>
                  <a:lnTo>
                    <a:pt x="2359" y="101"/>
                  </a:lnTo>
                  <a:lnTo>
                    <a:pt x="2448" y="126"/>
                  </a:lnTo>
                  <a:lnTo>
                    <a:pt x="2533" y="155"/>
                  </a:lnTo>
                  <a:lnTo>
                    <a:pt x="2617" y="188"/>
                  </a:lnTo>
                  <a:lnTo>
                    <a:pt x="2700" y="225"/>
                  </a:lnTo>
                  <a:lnTo>
                    <a:pt x="2780" y="266"/>
                  </a:lnTo>
                  <a:lnTo>
                    <a:pt x="2857" y="310"/>
                  </a:lnTo>
                  <a:lnTo>
                    <a:pt x="2933" y="359"/>
                  </a:lnTo>
                  <a:lnTo>
                    <a:pt x="3005" y="411"/>
                  </a:lnTo>
                  <a:lnTo>
                    <a:pt x="3076" y="466"/>
                  </a:lnTo>
                  <a:lnTo>
                    <a:pt x="3143" y="524"/>
                  </a:lnTo>
                  <a:lnTo>
                    <a:pt x="3207" y="585"/>
                  </a:lnTo>
                  <a:lnTo>
                    <a:pt x="3269" y="649"/>
                  </a:lnTo>
                  <a:lnTo>
                    <a:pt x="3327" y="716"/>
                  </a:lnTo>
                  <a:lnTo>
                    <a:pt x="3382" y="787"/>
                  </a:lnTo>
                  <a:lnTo>
                    <a:pt x="3433" y="859"/>
                  </a:lnTo>
                  <a:lnTo>
                    <a:pt x="3482" y="934"/>
                  </a:lnTo>
                  <a:lnTo>
                    <a:pt x="3526" y="1012"/>
                  </a:lnTo>
                  <a:lnTo>
                    <a:pt x="3567" y="1092"/>
                  </a:lnTo>
                  <a:lnTo>
                    <a:pt x="3605" y="1174"/>
                  </a:lnTo>
                  <a:lnTo>
                    <a:pt x="3637" y="1258"/>
                  </a:lnTo>
                  <a:lnTo>
                    <a:pt x="3667" y="1344"/>
                  </a:lnTo>
                  <a:lnTo>
                    <a:pt x="3691" y="1432"/>
                  </a:lnTo>
                  <a:lnTo>
                    <a:pt x="3713" y="1522"/>
                  </a:lnTo>
                  <a:lnTo>
                    <a:pt x="3729" y="1613"/>
                  </a:lnTo>
                  <a:lnTo>
                    <a:pt x="3741" y="1706"/>
                  </a:lnTo>
                  <a:lnTo>
                    <a:pt x="3748" y="1800"/>
                  </a:lnTo>
                  <a:lnTo>
                    <a:pt x="3751" y="1896"/>
                  </a:lnTo>
                  <a:close/>
                </a:path>
              </a:pathLst>
            </a:custGeom>
            <a:solidFill>
              <a:srgbClr val="e36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28960" y="2252520"/>
              <a:ext cx="1489320" cy="1489320"/>
            </a:xfrm>
            <a:custGeom>
              <a:avLst/>
              <a:gdLst/>
              <a:ahLst/>
              <a:rect l="l" t="t" r="r" b="b"/>
              <a:pathLst>
                <a:path w="3750" h="3748">
                  <a:moveTo>
                    <a:pt x="3750" y="1875"/>
                  </a:moveTo>
                  <a:lnTo>
                    <a:pt x="3748" y="1777"/>
                  </a:lnTo>
                  <a:lnTo>
                    <a:pt x="3741" y="1682"/>
                  </a:lnTo>
                  <a:lnTo>
                    <a:pt x="3729" y="1588"/>
                  </a:lnTo>
                  <a:lnTo>
                    <a:pt x="3713" y="1497"/>
                  </a:lnTo>
                  <a:lnTo>
                    <a:pt x="3691" y="1406"/>
                  </a:lnTo>
                  <a:lnTo>
                    <a:pt x="3666" y="1317"/>
                  </a:lnTo>
                  <a:lnTo>
                    <a:pt x="3636" y="1230"/>
                  </a:lnTo>
                  <a:lnTo>
                    <a:pt x="3602" y="1145"/>
                  </a:lnTo>
                  <a:lnTo>
                    <a:pt x="3566" y="1061"/>
                  </a:lnTo>
                  <a:lnTo>
                    <a:pt x="3524" y="982"/>
                  </a:lnTo>
                  <a:lnTo>
                    <a:pt x="3479" y="903"/>
                  </a:lnTo>
                  <a:lnTo>
                    <a:pt x="3430" y="827"/>
                  </a:lnTo>
                  <a:lnTo>
                    <a:pt x="3378" y="753"/>
                  </a:lnTo>
                  <a:lnTo>
                    <a:pt x="3323" y="682"/>
                  </a:lnTo>
                  <a:lnTo>
                    <a:pt x="3263" y="614"/>
                  </a:lnTo>
                  <a:lnTo>
                    <a:pt x="3202" y="550"/>
                  </a:lnTo>
                  <a:lnTo>
                    <a:pt x="3136" y="487"/>
                  </a:lnTo>
                  <a:lnTo>
                    <a:pt x="3068" y="429"/>
                  </a:lnTo>
                  <a:lnTo>
                    <a:pt x="2997" y="372"/>
                  </a:lnTo>
                  <a:lnTo>
                    <a:pt x="2924" y="321"/>
                  </a:lnTo>
                  <a:lnTo>
                    <a:pt x="2847" y="272"/>
                  </a:lnTo>
                  <a:lnTo>
                    <a:pt x="2769" y="227"/>
                  </a:lnTo>
                  <a:lnTo>
                    <a:pt x="2688" y="186"/>
                  </a:lnTo>
                  <a:lnTo>
                    <a:pt x="2605" y="148"/>
                  </a:lnTo>
                  <a:lnTo>
                    <a:pt x="2520" y="114"/>
                  </a:lnTo>
                  <a:lnTo>
                    <a:pt x="2432" y="84"/>
                  </a:lnTo>
                  <a:lnTo>
                    <a:pt x="2344" y="59"/>
                  </a:lnTo>
                  <a:lnTo>
                    <a:pt x="2253" y="39"/>
                  </a:lnTo>
                  <a:lnTo>
                    <a:pt x="2161" y="21"/>
                  </a:lnTo>
                  <a:lnTo>
                    <a:pt x="2067" y="10"/>
                  </a:lnTo>
                  <a:lnTo>
                    <a:pt x="1972" y="3"/>
                  </a:lnTo>
                  <a:lnTo>
                    <a:pt x="1875" y="0"/>
                  </a:lnTo>
                  <a:lnTo>
                    <a:pt x="1778" y="3"/>
                  </a:lnTo>
                  <a:lnTo>
                    <a:pt x="1683" y="10"/>
                  </a:lnTo>
                  <a:lnTo>
                    <a:pt x="1589" y="21"/>
                  </a:lnTo>
                  <a:lnTo>
                    <a:pt x="1498" y="39"/>
                  </a:lnTo>
                  <a:lnTo>
                    <a:pt x="1407" y="59"/>
                  </a:lnTo>
                  <a:lnTo>
                    <a:pt x="1317" y="84"/>
                  </a:lnTo>
                  <a:lnTo>
                    <a:pt x="1231" y="114"/>
                  </a:lnTo>
                  <a:lnTo>
                    <a:pt x="1145" y="148"/>
                  </a:lnTo>
                  <a:lnTo>
                    <a:pt x="1062" y="186"/>
                  </a:lnTo>
                  <a:lnTo>
                    <a:pt x="981" y="227"/>
                  </a:lnTo>
                  <a:lnTo>
                    <a:pt x="903" y="272"/>
                  </a:lnTo>
                  <a:lnTo>
                    <a:pt x="827" y="321"/>
                  </a:lnTo>
                  <a:lnTo>
                    <a:pt x="753" y="372"/>
                  </a:lnTo>
                  <a:lnTo>
                    <a:pt x="683" y="429"/>
                  </a:lnTo>
                  <a:lnTo>
                    <a:pt x="615" y="487"/>
                  </a:lnTo>
                  <a:lnTo>
                    <a:pt x="549" y="550"/>
                  </a:lnTo>
                  <a:lnTo>
                    <a:pt x="487" y="614"/>
                  </a:lnTo>
                  <a:lnTo>
                    <a:pt x="428" y="682"/>
                  </a:lnTo>
                  <a:lnTo>
                    <a:pt x="373" y="753"/>
                  </a:lnTo>
                  <a:lnTo>
                    <a:pt x="321" y="827"/>
                  </a:lnTo>
                  <a:lnTo>
                    <a:pt x="271" y="903"/>
                  </a:lnTo>
                  <a:lnTo>
                    <a:pt x="227" y="982"/>
                  </a:lnTo>
                  <a:lnTo>
                    <a:pt x="185" y="1061"/>
                  </a:lnTo>
                  <a:lnTo>
                    <a:pt x="148" y="1145"/>
                  </a:lnTo>
                  <a:lnTo>
                    <a:pt x="113" y="1230"/>
                  </a:lnTo>
                  <a:lnTo>
                    <a:pt x="84" y="1317"/>
                  </a:lnTo>
                  <a:lnTo>
                    <a:pt x="59" y="1406"/>
                  </a:lnTo>
                  <a:lnTo>
                    <a:pt x="38" y="1497"/>
                  </a:lnTo>
                  <a:lnTo>
                    <a:pt x="22" y="1588"/>
                  </a:lnTo>
                  <a:lnTo>
                    <a:pt x="10" y="1682"/>
                  </a:lnTo>
                  <a:lnTo>
                    <a:pt x="2" y="1777"/>
                  </a:lnTo>
                  <a:lnTo>
                    <a:pt x="0" y="1875"/>
                  </a:lnTo>
                  <a:lnTo>
                    <a:pt x="2" y="1971"/>
                  </a:lnTo>
                  <a:lnTo>
                    <a:pt x="10" y="2066"/>
                  </a:lnTo>
                  <a:lnTo>
                    <a:pt x="22" y="2160"/>
                  </a:lnTo>
                  <a:lnTo>
                    <a:pt x="38" y="2252"/>
                  </a:lnTo>
                  <a:lnTo>
                    <a:pt x="59" y="2342"/>
                  </a:lnTo>
                  <a:lnTo>
                    <a:pt x="84" y="2432"/>
                  </a:lnTo>
                  <a:lnTo>
                    <a:pt x="113" y="2518"/>
                  </a:lnTo>
                  <a:lnTo>
                    <a:pt x="148" y="2604"/>
                  </a:lnTo>
                  <a:lnTo>
                    <a:pt x="185" y="2687"/>
                  </a:lnTo>
                  <a:lnTo>
                    <a:pt x="227" y="2768"/>
                  </a:lnTo>
                  <a:lnTo>
                    <a:pt x="271" y="2847"/>
                  </a:lnTo>
                  <a:lnTo>
                    <a:pt x="321" y="2922"/>
                  </a:lnTo>
                  <a:lnTo>
                    <a:pt x="373" y="2996"/>
                  </a:lnTo>
                  <a:lnTo>
                    <a:pt x="428" y="3067"/>
                  </a:lnTo>
                  <a:lnTo>
                    <a:pt x="487" y="3135"/>
                  </a:lnTo>
                  <a:lnTo>
                    <a:pt x="549" y="3200"/>
                  </a:lnTo>
                  <a:lnTo>
                    <a:pt x="615" y="3261"/>
                  </a:lnTo>
                  <a:lnTo>
                    <a:pt x="683" y="3321"/>
                  </a:lnTo>
                  <a:lnTo>
                    <a:pt x="753" y="3376"/>
                  </a:lnTo>
                  <a:lnTo>
                    <a:pt x="827" y="3429"/>
                  </a:lnTo>
                  <a:lnTo>
                    <a:pt x="903" y="3477"/>
                  </a:lnTo>
                  <a:lnTo>
                    <a:pt x="981" y="3523"/>
                  </a:lnTo>
                  <a:lnTo>
                    <a:pt x="1062" y="3564"/>
                  </a:lnTo>
                  <a:lnTo>
                    <a:pt x="1145" y="3602"/>
                  </a:lnTo>
                  <a:lnTo>
                    <a:pt x="1231" y="3635"/>
                  </a:lnTo>
                  <a:lnTo>
                    <a:pt x="1317" y="3664"/>
                  </a:lnTo>
                  <a:lnTo>
                    <a:pt x="1407" y="3690"/>
                  </a:lnTo>
                  <a:lnTo>
                    <a:pt x="1498" y="3711"/>
                  </a:lnTo>
                  <a:lnTo>
                    <a:pt x="1589" y="3727"/>
                  </a:lnTo>
                  <a:lnTo>
                    <a:pt x="1683" y="3739"/>
                  </a:lnTo>
                  <a:lnTo>
                    <a:pt x="1778" y="3746"/>
                  </a:lnTo>
                  <a:lnTo>
                    <a:pt x="1875" y="3748"/>
                  </a:lnTo>
                  <a:lnTo>
                    <a:pt x="1972" y="3746"/>
                  </a:lnTo>
                  <a:lnTo>
                    <a:pt x="2067" y="3739"/>
                  </a:lnTo>
                  <a:lnTo>
                    <a:pt x="2161" y="3727"/>
                  </a:lnTo>
                  <a:lnTo>
                    <a:pt x="2253" y="3711"/>
                  </a:lnTo>
                  <a:lnTo>
                    <a:pt x="2344" y="3690"/>
                  </a:lnTo>
                  <a:lnTo>
                    <a:pt x="2432" y="3664"/>
                  </a:lnTo>
                  <a:lnTo>
                    <a:pt x="2520" y="3635"/>
                  </a:lnTo>
                  <a:lnTo>
                    <a:pt x="2605" y="3602"/>
                  </a:lnTo>
                  <a:lnTo>
                    <a:pt x="2688" y="3564"/>
                  </a:lnTo>
                  <a:lnTo>
                    <a:pt x="2769" y="3523"/>
                  </a:lnTo>
                  <a:lnTo>
                    <a:pt x="2847" y="3477"/>
                  </a:lnTo>
                  <a:lnTo>
                    <a:pt x="2924" y="3429"/>
                  </a:lnTo>
                  <a:lnTo>
                    <a:pt x="2997" y="3376"/>
                  </a:lnTo>
                  <a:lnTo>
                    <a:pt x="3068" y="3321"/>
                  </a:lnTo>
                  <a:lnTo>
                    <a:pt x="3136" y="3261"/>
                  </a:lnTo>
                  <a:lnTo>
                    <a:pt x="3202" y="3200"/>
                  </a:lnTo>
                  <a:lnTo>
                    <a:pt x="3263" y="3135"/>
                  </a:lnTo>
                  <a:lnTo>
                    <a:pt x="3323" y="3067"/>
                  </a:lnTo>
                  <a:lnTo>
                    <a:pt x="3378" y="2996"/>
                  </a:lnTo>
                  <a:lnTo>
                    <a:pt x="3430" y="2922"/>
                  </a:lnTo>
                  <a:lnTo>
                    <a:pt x="3479" y="2847"/>
                  </a:lnTo>
                  <a:lnTo>
                    <a:pt x="3524" y="2768"/>
                  </a:lnTo>
                  <a:lnTo>
                    <a:pt x="3566" y="2687"/>
                  </a:lnTo>
                  <a:lnTo>
                    <a:pt x="3602" y="2604"/>
                  </a:lnTo>
                  <a:lnTo>
                    <a:pt x="3636" y="2518"/>
                  </a:lnTo>
                  <a:lnTo>
                    <a:pt x="3666" y="2432"/>
                  </a:lnTo>
                  <a:lnTo>
                    <a:pt x="3691" y="2342"/>
                  </a:lnTo>
                  <a:lnTo>
                    <a:pt x="3713" y="2252"/>
                  </a:lnTo>
                  <a:lnTo>
                    <a:pt x="3729" y="2160"/>
                  </a:lnTo>
                  <a:lnTo>
                    <a:pt x="3741" y="2066"/>
                  </a:lnTo>
                  <a:lnTo>
                    <a:pt x="3748" y="1971"/>
                  </a:lnTo>
                  <a:lnTo>
                    <a:pt x="3750" y="1875"/>
                  </a:lnTo>
                  <a:close/>
                  <a:moveTo>
                    <a:pt x="3708" y="1875"/>
                  </a:moveTo>
                  <a:lnTo>
                    <a:pt x="3706" y="1969"/>
                  </a:lnTo>
                  <a:lnTo>
                    <a:pt x="3699" y="2062"/>
                  </a:lnTo>
                  <a:lnTo>
                    <a:pt x="3688" y="2153"/>
                  </a:lnTo>
                  <a:lnTo>
                    <a:pt x="3672" y="2244"/>
                  </a:lnTo>
                  <a:lnTo>
                    <a:pt x="3651" y="2333"/>
                  </a:lnTo>
                  <a:lnTo>
                    <a:pt x="3626" y="2419"/>
                  </a:lnTo>
                  <a:lnTo>
                    <a:pt x="3597" y="2504"/>
                  </a:lnTo>
                  <a:lnTo>
                    <a:pt x="3565" y="2587"/>
                  </a:lnTo>
                  <a:lnTo>
                    <a:pt x="3528" y="2668"/>
                  </a:lnTo>
                  <a:lnTo>
                    <a:pt x="3487" y="2748"/>
                  </a:lnTo>
                  <a:lnTo>
                    <a:pt x="3444" y="2825"/>
                  </a:lnTo>
                  <a:lnTo>
                    <a:pt x="3395" y="2899"/>
                  </a:lnTo>
                  <a:lnTo>
                    <a:pt x="3344" y="2971"/>
                  </a:lnTo>
                  <a:lnTo>
                    <a:pt x="3290" y="3040"/>
                  </a:lnTo>
                  <a:lnTo>
                    <a:pt x="3232" y="3107"/>
                  </a:lnTo>
                  <a:lnTo>
                    <a:pt x="3171" y="3171"/>
                  </a:lnTo>
                  <a:lnTo>
                    <a:pt x="3108" y="3231"/>
                  </a:lnTo>
                  <a:lnTo>
                    <a:pt x="3042" y="3288"/>
                  </a:lnTo>
                  <a:lnTo>
                    <a:pt x="2972" y="3342"/>
                  </a:lnTo>
                  <a:lnTo>
                    <a:pt x="2900" y="3394"/>
                  </a:lnTo>
                  <a:lnTo>
                    <a:pt x="2826" y="3442"/>
                  </a:lnTo>
                  <a:lnTo>
                    <a:pt x="2749" y="3486"/>
                  </a:lnTo>
                  <a:lnTo>
                    <a:pt x="2670" y="3526"/>
                  </a:lnTo>
                  <a:lnTo>
                    <a:pt x="2589" y="3563"/>
                  </a:lnTo>
                  <a:lnTo>
                    <a:pt x="2506" y="3596"/>
                  </a:lnTo>
                  <a:lnTo>
                    <a:pt x="2420" y="3624"/>
                  </a:lnTo>
                  <a:lnTo>
                    <a:pt x="2333" y="3649"/>
                  </a:lnTo>
                  <a:lnTo>
                    <a:pt x="2244" y="3670"/>
                  </a:lnTo>
                  <a:lnTo>
                    <a:pt x="2155" y="3686"/>
                  </a:lnTo>
                  <a:lnTo>
                    <a:pt x="2063" y="3698"/>
                  </a:lnTo>
                  <a:lnTo>
                    <a:pt x="1970" y="3704"/>
                  </a:lnTo>
                  <a:lnTo>
                    <a:pt x="1875" y="3707"/>
                  </a:lnTo>
                  <a:lnTo>
                    <a:pt x="1781" y="3704"/>
                  </a:lnTo>
                  <a:lnTo>
                    <a:pt x="1688" y="3698"/>
                  </a:lnTo>
                  <a:lnTo>
                    <a:pt x="1596" y="3686"/>
                  </a:lnTo>
                  <a:lnTo>
                    <a:pt x="1506" y="3670"/>
                  </a:lnTo>
                  <a:lnTo>
                    <a:pt x="1416" y="3649"/>
                  </a:lnTo>
                  <a:lnTo>
                    <a:pt x="1330" y="3624"/>
                  </a:lnTo>
                  <a:lnTo>
                    <a:pt x="1245" y="3596"/>
                  </a:lnTo>
                  <a:lnTo>
                    <a:pt x="1161" y="3563"/>
                  </a:lnTo>
                  <a:lnTo>
                    <a:pt x="1080" y="3526"/>
                  </a:lnTo>
                  <a:lnTo>
                    <a:pt x="1002" y="3486"/>
                  </a:lnTo>
                  <a:lnTo>
                    <a:pt x="925" y="3442"/>
                  </a:lnTo>
                  <a:lnTo>
                    <a:pt x="850" y="3394"/>
                  </a:lnTo>
                  <a:lnTo>
                    <a:pt x="778" y="3342"/>
                  </a:lnTo>
                  <a:lnTo>
                    <a:pt x="709" y="3288"/>
                  </a:lnTo>
                  <a:lnTo>
                    <a:pt x="643" y="3231"/>
                  </a:lnTo>
                  <a:lnTo>
                    <a:pt x="579" y="3171"/>
                  </a:lnTo>
                  <a:lnTo>
                    <a:pt x="519" y="3107"/>
                  </a:lnTo>
                  <a:lnTo>
                    <a:pt x="460" y="3040"/>
                  </a:lnTo>
                  <a:lnTo>
                    <a:pt x="406" y="2971"/>
                  </a:lnTo>
                  <a:lnTo>
                    <a:pt x="355" y="2899"/>
                  </a:lnTo>
                  <a:lnTo>
                    <a:pt x="307" y="2825"/>
                  </a:lnTo>
                  <a:lnTo>
                    <a:pt x="264" y="2748"/>
                  </a:lnTo>
                  <a:lnTo>
                    <a:pt x="223" y="2668"/>
                  </a:lnTo>
                  <a:lnTo>
                    <a:pt x="186" y="2587"/>
                  </a:lnTo>
                  <a:lnTo>
                    <a:pt x="153" y="2504"/>
                  </a:lnTo>
                  <a:lnTo>
                    <a:pt x="124" y="2419"/>
                  </a:lnTo>
                  <a:lnTo>
                    <a:pt x="99" y="2333"/>
                  </a:lnTo>
                  <a:lnTo>
                    <a:pt x="79" y="2244"/>
                  </a:lnTo>
                  <a:lnTo>
                    <a:pt x="63" y="2153"/>
                  </a:lnTo>
                  <a:lnTo>
                    <a:pt x="51" y="2062"/>
                  </a:lnTo>
                  <a:lnTo>
                    <a:pt x="44" y="1969"/>
                  </a:lnTo>
                  <a:lnTo>
                    <a:pt x="42" y="1875"/>
                  </a:lnTo>
                  <a:lnTo>
                    <a:pt x="44" y="1780"/>
                  </a:lnTo>
                  <a:lnTo>
                    <a:pt x="51" y="1687"/>
                  </a:lnTo>
                  <a:lnTo>
                    <a:pt x="63" y="1595"/>
                  </a:lnTo>
                  <a:lnTo>
                    <a:pt x="79" y="1505"/>
                  </a:lnTo>
                  <a:lnTo>
                    <a:pt x="99" y="1417"/>
                  </a:lnTo>
                  <a:lnTo>
                    <a:pt x="124" y="1329"/>
                  </a:lnTo>
                  <a:lnTo>
                    <a:pt x="153" y="1244"/>
                  </a:lnTo>
                  <a:lnTo>
                    <a:pt x="186" y="1161"/>
                  </a:lnTo>
                  <a:lnTo>
                    <a:pt x="223" y="1080"/>
                  </a:lnTo>
                  <a:lnTo>
                    <a:pt x="264" y="1001"/>
                  </a:lnTo>
                  <a:lnTo>
                    <a:pt x="307" y="924"/>
                  </a:lnTo>
                  <a:lnTo>
                    <a:pt x="355" y="850"/>
                  </a:lnTo>
                  <a:lnTo>
                    <a:pt x="406" y="778"/>
                  </a:lnTo>
                  <a:lnTo>
                    <a:pt x="460" y="708"/>
                  </a:lnTo>
                  <a:lnTo>
                    <a:pt x="519" y="642"/>
                  </a:lnTo>
                  <a:lnTo>
                    <a:pt x="579" y="579"/>
                  </a:lnTo>
                  <a:lnTo>
                    <a:pt x="643" y="518"/>
                  </a:lnTo>
                  <a:lnTo>
                    <a:pt x="709" y="460"/>
                  </a:lnTo>
                  <a:lnTo>
                    <a:pt x="778" y="406"/>
                  </a:lnTo>
                  <a:lnTo>
                    <a:pt x="850" y="355"/>
                  </a:lnTo>
                  <a:lnTo>
                    <a:pt x="925" y="308"/>
                  </a:lnTo>
                  <a:lnTo>
                    <a:pt x="1002" y="263"/>
                  </a:lnTo>
                  <a:lnTo>
                    <a:pt x="1080" y="222"/>
                  </a:lnTo>
                  <a:lnTo>
                    <a:pt x="1161" y="186"/>
                  </a:lnTo>
                  <a:lnTo>
                    <a:pt x="1245" y="153"/>
                  </a:lnTo>
                  <a:lnTo>
                    <a:pt x="1330" y="124"/>
                  </a:lnTo>
                  <a:lnTo>
                    <a:pt x="1416" y="99"/>
                  </a:lnTo>
                  <a:lnTo>
                    <a:pt x="1506" y="79"/>
                  </a:lnTo>
                  <a:lnTo>
                    <a:pt x="1596" y="62"/>
                  </a:lnTo>
                  <a:lnTo>
                    <a:pt x="1688" y="52"/>
                  </a:lnTo>
                  <a:lnTo>
                    <a:pt x="1781" y="44"/>
                  </a:lnTo>
                  <a:lnTo>
                    <a:pt x="1875" y="42"/>
                  </a:lnTo>
                  <a:lnTo>
                    <a:pt x="1970" y="44"/>
                  </a:lnTo>
                  <a:lnTo>
                    <a:pt x="2063" y="52"/>
                  </a:lnTo>
                  <a:lnTo>
                    <a:pt x="2155" y="62"/>
                  </a:lnTo>
                  <a:lnTo>
                    <a:pt x="2244" y="79"/>
                  </a:lnTo>
                  <a:lnTo>
                    <a:pt x="2333" y="99"/>
                  </a:lnTo>
                  <a:lnTo>
                    <a:pt x="2420" y="124"/>
                  </a:lnTo>
                  <a:lnTo>
                    <a:pt x="2506" y="153"/>
                  </a:lnTo>
                  <a:lnTo>
                    <a:pt x="2589" y="186"/>
                  </a:lnTo>
                  <a:lnTo>
                    <a:pt x="2670" y="222"/>
                  </a:lnTo>
                  <a:lnTo>
                    <a:pt x="2749" y="263"/>
                  </a:lnTo>
                  <a:lnTo>
                    <a:pt x="2826" y="308"/>
                  </a:lnTo>
                  <a:lnTo>
                    <a:pt x="2900" y="355"/>
                  </a:lnTo>
                  <a:lnTo>
                    <a:pt x="2972" y="406"/>
                  </a:lnTo>
                  <a:lnTo>
                    <a:pt x="3042" y="460"/>
                  </a:lnTo>
                  <a:lnTo>
                    <a:pt x="3108" y="518"/>
                  </a:lnTo>
                  <a:lnTo>
                    <a:pt x="3171" y="579"/>
                  </a:lnTo>
                  <a:lnTo>
                    <a:pt x="3232" y="642"/>
                  </a:lnTo>
                  <a:lnTo>
                    <a:pt x="3290" y="708"/>
                  </a:lnTo>
                  <a:lnTo>
                    <a:pt x="3344" y="778"/>
                  </a:lnTo>
                  <a:lnTo>
                    <a:pt x="3395" y="850"/>
                  </a:lnTo>
                  <a:lnTo>
                    <a:pt x="3444" y="924"/>
                  </a:lnTo>
                  <a:lnTo>
                    <a:pt x="3487" y="1001"/>
                  </a:lnTo>
                  <a:lnTo>
                    <a:pt x="3528" y="1080"/>
                  </a:lnTo>
                  <a:lnTo>
                    <a:pt x="3565" y="1161"/>
                  </a:lnTo>
                  <a:lnTo>
                    <a:pt x="3597" y="1244"/>
                  </a:lnTo>
                  <a:lnTo>
                    <a:pt x="3626" y="1329"/>
                  </a:lnTo>
                  <a:lnTo>
                    <a:pt x="3651" y="1417"/>
                  </a:lnTo>
                  <a:lnTo>
                    <a:pt x="3672" y="1505"/>
                  </a:lnTo>
                  <a:lnTo>
                    <a:pt x="3688" y="1595"/>
                  </a:lnTo>
                  <a:lnTo>
                    <a:pt x="3699" y="1687"/>
                  </a:lnTo>
                  <a:lnTo>
                    <a:pt x="3706" y="1780"/>
                  </a:lnTo>
                  <a:lnTo>
                    <a:pt x="3708" y="1875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38680" y="2262240"/>
              <a:ext cx="1471680" cy="1469880"/>
            </a:xfrm>
            <a:custGeom>
              <a:avLst/>
              <a:gdLst/>
              <a:ahLst/>
              <a:rect l="l" t="t" r="r" b="b"/>
              <a:pathLst>
                <a:path w="3710" h="3707">
                  <a:moveTo>
                    <a:pt x="3710" y="1854"/>
                  </a:moveTo>
                  <a:lnTo>
                    <a:pt x="3707" y="1758"/>
                  </a:lnTo>
                  <a:lnTo>
                    <a:pt x="3700" y="1664"/>
                  </a:lnTo>
                  <a:lnTo>
                    <a:pt x="3688" y="1571"/>
                  </a:lnTo>
                  <a:lnTo>
                    <a:pt x="3672" y="1480"/>
                  </a:lnTo>
                  <a:lnTo>
                    <a:pt x="3650" y="1390"/>
                  </a:lnTo>
                  <a:lnTo>
                    <a:pt x="3626" y="1302"/>
                  </a:lnTo>
                  <a:lnTo>
                    <a:pt x="3596" y="1216"/>
                  </a:lnTo>
                  <a:lnTo>
                    <a:pt x="3564" y="1132"/>
                  </a:lnTo>
                  <a:lnTo>
                    <a:pt x="3526" y="1050"/>
                  </a:lnTo>
                  <a:lnTo>
                    <a:pt x="3485" y="970"/>
                  </a:lnTo>
                  <a:lnTo>
                    <a:pt x="3441" y="892"/>
                  </a:lnTo>
                  <a:lnTo>
                    <a:pt x="3392" y="817"/>
                  </a:lnTo>
                  <a:lnTo>
                    <a:pt x="3341" y="745"/>
                  </a:lnTo>
                  <a:lnTo>
                    <a:pt x="3286" y="674"/>
                  </a:lnTo>
                  <a:lnTo>
                    <a:pt x="3228" y="607"/>
                  </a:lnTo>
                  <a:lnTo>
                    <a:pt x="3166" y="543"/>
                  </a:lnTo>
                  <a:lnTo>
                    <a:pt x="3102" y="481"/>
                  </a:lnTo>
                  <a:lnTo>
                    <a:pt x="3035" y="424"/>
                  </a:lnTo>
                  <a:lnTo>
                    <a:pt x="2964" y="369"/>
                  </a:lnTo>
                  <a:lnTo>
                    <a:pt x="2892" y="317"/>
                  </a:lnTo>
                  <a:lnTo>
                    <a:pt x="2816" y="268"/>
                  </a:lnTo>
                  <a:lnTo>
                    <a:pt x="2739" y="224"/>
                  </a:lnTo>
                  <a:lnTo>
                    <a:pt x="2659" y="183"/>
                  </a:lnTo>
                  <a:lnTo>
                    <a:pt x="2576" y="146"/>
                  </a:lnTo>
                  <a:lnTo>
                    <a:pt x="2492" y="113"/>
                  </a:lnTo>
                  <a:lnTo>
                    <a:pt x="2407" y="84"/>
                  </a:lnTo>
                  <a:lnTo>
                    <a:pt x="2318" y="59"/>
                  </a:lnTo>
                  <a:lnTo>
                    <a:pt x="2229" y="38"/>
                  </a:lnTo>
                  <a:lnTo>
                    <a:pt x="2138" y="21"/>
                  </a:lnTo>
                  <a:lnTo>
                    <a:pt x="2045" y="10"/>
                  </a:lnTo>
                  <a:lnTo>
                    <a:pt x="1951" y="3"/>
                  </a:lnTo>
                  <a:lnTo>
                    <a:pt x="1855" y="0"/>
                  </a:lnTo>
                  <a:lnTo>
                    <a:pt x="1760" y="3"/>
                  </a:lnTo>
                  <a:lnTo>
                    <a:pt x="1666" y="10"/>
                  </a:lnTo>
                  <a:lnTo>
                    <a:pt x="1573" y="21"/>
                  </a:lnTo>
                  <a:lnTo>
                    <a:pt x="1482" y="38"/>
                  </a:lnTo>
                  <a:lnTo>
                    <a:pt x="1392" y="59"/>
                  </a:lnTo>
                  <a:lnTo>
                    <a:pt x="1304" y="84"/>
                  </a:lnTo>
                  <a:lnTo>
                    <a:pt x="1217" y="113"/>
                  </a:lnTo>
                  <a:lnTo>
                    <a:pt x="1134" y="146"/>
                  </a:lnTo>
                  <a:lnTo>
                    <a:pt x="1052" y="183"/>
                  </a:lnTo>
                  <a:lnTo>
                    <a:pt x="972" y="224"/>
                  </a:lnTo>
                  <a:lnTo>
                    <a:pt x="894" y="268"/>
                  </a:lnTo>
                  <a:lnTo>
                    <a:pt x="818" y="317"/>
                  </a:lnTo>
                  <a:lnTo>
                    <a:pt x="746" y="369"/>
                  </a:lnTo>
                  <a:lnTo>
                    <a:pt x="676" y="424"/>
                  </a:lnTo>
                  <a:lnTo>
                    <a:pt x="609" y="481"/>
                  </a:lnTo>
                  <a:lnTo>
                    <a:pt x="544" y="543"/>
                  </a:lnTo>
                  <a:lnTo>
                    <a:pt x="482" y="607"/>
                  </a:lnTo>
                  <a:lnTo>
                    <a:pt x="424" y="674"/>
                  </a:lnTo>
                  <a:lnTo>
                    <a:pt x="369" y="745"/>
                  </a:lnTo>
                  <a:lnTo>
                    <a:pt x="318" y="817"/>
                  </a:lnTo>
                  <a:lnTo>
                    <a:pt x="269" y="892"/>
                  </a:lnTo>
                  <a:lnTo>
                    <a:pt x="225" y="970"/>
                  </a:lnTo>
                  <a:lnTo>
                    <a:pt x="184" y="1050"/>
                  </a:lnTo>
                  <a:lnTo>
                    <a:pt x="146" y="1132"/>
                  </a:lnTo>
                  <a:lnTo>
                    <a:pt x="114" y="1216"/>
                  </a:lnTo>
                  <a:lnTo>
                    <a:pt x="85" y="1302"/>
                  </a:lnTo>
                  <a:lnTo>
                    <a:pt x="59" y="1390"/>
                  </a:lnTo>
                  <a:lnTo>
                    <a:pt x="38" y="1480"/>
                  </a:lnTo>
                  <a:lnTo>
                    <a:pt x="22" y="1571"/>
                  </a:lnTo>
                  <a:lnTo>
                    <a:pt x="10" y="1664"/>
                  </a:lnTo>
                  <a:lnTo>
                    <a:pt x="4" y="1758"/>
                  </a:lnTo>
                  <a:lnTo>
                    <a:pt x="0" y="1854"/>
                  </a:lnTo>
                  <a:lnTo>
                    <a:pt x="4" y="1949"/>
                  </a:lnTo>
                  <a:lnTo>
                    <a:pt x="10" y="2043"/>
                  </a:lnTo>
                  <a:lnTo>
                    <a:pt x="22" y="2136"/>
                  </a:lnTo>
                  <a:lnTo>
                    <a:pt x="38" y="2227"/>
                  </a:lnTo>
                  <a:lnTo>
                    <a:pt x="59" y="2317"/>
                  </a:lnTo>
                  <a:lnTo>
                    <a:pt x="85" y="2404"/>
                  </a:lnTo>
                  <a:lnTo>
                    <a:pt x="114" y="2491"/>
                  </a:lnTo>
                  <a:lnTo>
                    <a:pt x="146" y="2575"/>
                  </a:lnTo>
                  <a:lnTo>
                    <a:pt x="184" y="2657"/>
                  </a:lnTo>
                  <a:lnTo>
                    <a:pt x="225" y="2737"/>
                  </a:lnTo>
                  <a:lnTo>
                    <a:pt x="269" y="2815"/>
                  </a:lnTo>
                  <a:lnTo>
                    <a:pt x="318" y="2889"/>
                  </a:lnTo>
                  <a:lnTo>
                    <a:pt x="369" y="2962"/>
                  </a:lnTo>
                  <a:lnTo>
                    <a:pt x="424" y="3032"/>
                  </a:lnTo>
                  <a:lnTo>
                    <a:pt x="482" y="3100"/>
                  </a:lnTo>
                  <a:lnTo>
                    <a:pt x="544" y="3164"/>
                  </a:lnTo>
                  <a:lnTo>
                    <a:pt x="609" y="3225"/>
                  </a:lnTo>
                  <a:lnTo>
                    <a:pt x="676" y="3284"/>
                  </a:lnTo>
                  <a:lnTo>
                    <a:pt x="746" y="3339"/>
                  </a:lnTo>
                  <a:lnTo>
                    <a:pt x="818" y="3391"/>
                  </a:lnTo>
                  <a:lnTo>
                    <a:pt x="894" y="3438"/>
                  </a:lnTo>
                  <a:lnTo>
                    <a:pt x="972" y="3483"/>
                  </a:lnTo>
                  <a:lnTo>
                    <a:pt x="1052" y="3524"/>
                  </a:lnTo>
                  <a:lnTo>
                    <a:pt x="1134" y="3561"/>
                  </a:lnTo>
                  <a:lnTo>
                    <a:pt x="1217" y="3595"/>
                  </a:lnTo>
                  <a:lnTo>
                    <a:pt x="1304" y="3624"/>
                  </a:lnTo>
                  <a:lnTo>
                    <a:pt x="1392" y="3649"/>
                  </a:lnTo>
                  <a:lnTo>
                    <a:pt x="1482" y="3669"/>
                  </a:lnTo>
                  <a:lnTo>
                    <a:pt x="1573" y="3685"/>
                  </a:lnTo>
                  <a:lnTo>
                    <a:pt x="1666" y="3697"/>
                  </a:lnTo>
                  <a:lnTo>
                    <a:pt x="1760" y="3705"/>
                  </a:lnTo>
                  <a:lnTo>
                    <a:pt x="1855" y="3707"/>
                  </a:lnTo>
                  <a:lnTo>
                    <a:pt x="1951" y="3705"/>
                  </a:lnTo>
                  <a:lnTo>
                    <a:pt x="2045" y="3697"/>
                  </a:lnTo>
                  <a:lnTo>
                    <a:pt x="2138" y="3685"/>
                  </a:lnTo>
                  <a:lnTo>
                    <a:pt x="2229" y="3669"/>
                  </a:lnTo>
                  <a:lnTo>
                    <a:pt x="2318" y="3649"/>
                  </a:lnTo>
                  <a:lnTo>
                    <a:pt x="2407" y="3624"/>
                  </a:lnTo>
                  <a:lnTo>
                    <a:pt x="2492" y="3595"/>
                  </a:lnTo>
                  <a:lnTo>
                    <a:pt x="2576" y="3561"/>
                  </a:lnTo>
                  <a:lnTo>
                    <a:pt x="2659" y="3524"/>
                  </a:lnTo>
                  <a:lnTo>
                    <a:pt x="2739" y="3483"/>
                  </a:lnTo>
                  <a:lnTo>
                    <a:pt x="2816" y="3438"/>
                  </a:lnTo>
                  <a:lnTo>
                    <a:pt x="2892" y="3391"/>
                  </a:lnTo>
                  <a:lnTo>
                    <a:pt x="2964" y="3339"/>
                  </a:lnTo>
                  <a:lnTo>
                    <a:pt x="3035" y="3284"/>
                  </a:lnTo>
                  <a:lnTo>
                    <a:pt x="3102" y="3225"/>
                  </a:lnTo>
                  <a:lnTo>
                    <a:pt x="3166" y="3164"/>
                  </a:lnTo>
                  <a:lnTo>
                    <a:pt x="3228" y="3100"/>
                  </a:lnTo>
                  <a:lnTo>
                    <a:pt x="3286" y="3032"/>
                  </a:lnTo>
                  <a:lnTo>
                    <a:pt x="3341" y="2962"/>
                  </a:lnTo>
                  <a:lnTo>
                    <a:pt x="3392" y="2889"/>
                  </a:lnTo>
                  <a:lnTo>
                    <a:pt x="3441" y="2815"/>
                  </a:lnTo>
                  <a:lnTo>
                    <a:pt x="3485" y="2737"/>
                  </a:lnTo>
                  <a:lnTo>
                    <a:pt x="3526" y="2657"/>
                  </a:lnTo>
                  <a:lnTo>
                    <a:pt x="3564" y="2575"/>
                  </a:lnTo>
                  <a:lnTo>
                    <a:pt x="3596" y="2491"/>
                  </a:lnTo>
                  <a:lnTo>
                    <a:pt x="3626" y="2404"/>
                  </a:lnTo>
                  <a:lnTo>
                    <a:pt x="3650" y="2317"/>
                  </a:lnTo>
                  <a:lnTo>
                    <a:pt x="3672" y="2227"/>
                  </a:lnTo>
                  <a:lnTo>
                    <a:pt x="3688" y="2136"/>
                  </a:lnTo>
                  <a:lnTo>
                    <a:pt x="3700" y="2043"/>
                  </a:lnTo>
                  <a:lnTo>
                    <a:pt x="3707" y="1949"/>
                  </a:lnTo>
                  <a:lnTo>
                    <a:pt x="3710" y="1854"/>
                  </a:lnTo>
                  <a:close/>
                  <a:moveTo>
                    <a:pt x="3668" y="1854"/>
                  </a:moveTo>
                  <a:lnTo>
                    <a:pt x="3666" y="1947"/>
                  </a:lnTo>
                  <a:lnTo>
                    <a:pt x="3658" y="2038"/>
                  </a:lnTo>
                  <a:lnTo>
                    <a:pt x="3647" y="2129"/>
                  </a:lnTo>
                  <a:lnTo>
                    <a:pt x="3631" y="2219"/>
                  </a:lnTo>
                  <a:lnTo>
                    <a:pt x="3611" y="2306"/>
                  </a:lnTo>
                  <a:lnTo>
                    <a:pt x="3587" y="2393"/>
                  </a:lnTo>
                  <a:lnTo>
                    <a:pt x="3558" y="2477"/>
                  </a:lnTo>
                  <a:lnTo>
                    <a:pt x="3525" y="2559"/>
                  </a:lnTo>
                  <a:lnTo>
                    <a:pt x="3489" y="2639"/>
                  </a:lnTo>
                  <a:lnTo>
                    <a:pt x="3448" y="2717"/>
                  </a:lnTo>
                  <a:lnTo>
                    <a:pt x="3405" y="2793"/>
                  </a:lnTo>
                  <a:lnTo>
                    <a:pt x="3358" y="2867"/>
                  </a:lnTo>
                  <a:lnTo>
                    <a:pt x="3308" y="2937"/>
                  </a:lnTo>
                  <a:lnTo>
                    <a:pt x="3254" y="3006"/>
                  </a:lnTo>
                  <a:lnTo>
                    <a:pt x="3197" y="3072"/>
                  </a:lnTo>
                  <a:lnTo>
                    <a:pt x="3137" y="3135"/>
                  </a:lnTo>
                  <a:lnTo>
                    <a:pt x="3073" y="3194"/>
                  </a:lnTo>
                  <a:lnTo>
                    <a:pt x="3008" y="3251"/>
                  </a:lnTo>
                  <a:lnTo>
                    <a:pt x="2940" y="3305"/>
                  </a:lnTo>
                  <a:lnTo>
                    <a:pt x="2868" y="3356"/>
                  </a:lnTo>
                  <a:lnTo>
                    <a:pt x="2795" y="3402"/>
                  </a:lnTo>
                  <a:lnTo>
                    <a:pt x="2719" y="3447"/>
                  </a:lnTo>
                  <a:lnTo>
                    <a:pt x="2641" y="3487"/>
                  </a:lnTo>
                  <a:lnTo>
                    <a:pt x="2560" y="3522"/>
                  </a:lnTo>
                  <a:lnTo>
                    <a:pt x="2478" y="3556"/>
                  </a:lnTo>
                  <a:lnTo>
                    <a:pt x="2394" y="3584"/>
                  </a:lnTo>
                  <a:lnTo>
                    <a:pt x="2308" y="3608"/>
                  </a:lnTo>
                  <a:lnTo>
                    <a:pt x="2221" y="3628"/>
                  </a:lnTo>
                  <a:lnTo>
                    <a:pt x="2131" y="3644"/>
                  </a:lnTo>
                  <a:lnTo>
                    <a:pt x="2040" y="3656"/>
                  </a:lnTo>
                  <a:lnTo>
                    <a:pt x="1949" y="3663"/>
                  </a:lnTo>
                  <a:lnTo>
                    <a:pt x="1855" y="3665"/>
                  </a:lnTo>
                  <a:lnTo>
                    <a:pt x="1762" y="3663"/>
                  </a:lnTo>
                  <a:lnTo>
                    <a:pt x="1670" y="3656"/>
                  </a:lnTo>
                  <a:lnTo>
                    <a:pt x="1579" y="3644"/>
                  </a:lnTo>
                  <a:lnTo>
                    <a:pt x="1489" y="3628"/>
                  </a:lnTo>
                  <a:lnTo>
                    <a:pt x="1402" y="3608"/>
                  </a:lnTo>
                  <a:lnTo>
                    <a:pt x="1317" y="3584"/>
                  </a:lnTo>
                  <a:lnTo>
                    <a:pt x="1232" y="3556"/>
                  </a:lnTo>
                  <a:lnTo>
                    <a:pt x="1150" y="3522"/>
                  </a:lnTo>
                  <a:lnTo>
                    <a:pt x="1069" y="3487"/>
                  </a:lnTo>
                  <a:lnTo>
                    <a:pt x="991" y="3447"/>
                  </a:lnTo>
                  <a:lnTo>
                    <a:pt x="916" y="3402"/>
                  </a:lnTo>
                  <a:lnTo>
                    <a:pt x="842" y="3356"/>
                  </a:lnTo>
                  <a:lnTo>
                    <a:pt x="771" y="3305"/>
                  </a:lnTo>
                  <a:lnTo>
                    <a:pt x="702" y="3251"/>
                  </a:lnTo>
                  <a:lnTo>
                    <a:pt x="637" y="3194"/>
                  </a:lnTo>
                  <a:lnTo>
                    <a:pt x="573" y="3135"/>
                  </a:lnTo>
                  <a:lnTo>
                    <a:pt x="514" y="3072"/>
                  </a:lnTo>
                  <a:lnTo>
                    <a:pt x="456" y="3006"/>
                  </a:lnTo>
                  <a:lnTo>
                    <a:pt x="402" y="2937"/>
                  </a:lnTo>
                  <a:lnTo>
                    <a:pt x="353" y="2867"/>
                  </a:lnTo>
                  <a:lnTo>
                    <a:pt x="305" y="2793"/>
                  </a:lnTo>
                  <a:lnTo>
                    <a:pt x="261" y="2717"/>
                  </a:lnTo>
                  <a:lnTo>
                    <a:pt x="221" y="2639"/>
                  </a:lnTo>
                  <a:lnTo>
                    <a:pt x="185" y="2559"/>
                  </a:lnTo>
                  <a:lnTo>
                    <a:pt x="153" y="2477"/>
                  </a:lnTo>
                  <a:lnTo>
                    <a:pt x="124" y="2393"/>
                  </a:lnTo>
                  <a:lnTo>
                    <a:pt x="100" y="2306"/>
                  </a:lnTo>
                  <a:lnTo>
                    <a:pt x="79" y="2219"/>
                  </a:lnTo>
                  <a:lnTo>
                    <a:pt x="63" y="2129"/>
                  </a:lnTo>
                  <a:lnTo>
                    <a:pt x="52" y="2038"/>
                  </a:lnTo>
                  <a:lnTo>
                    <a:pt x="45" y="1947"/>
                  </a:lnTo>
                  <a:lnTo>
                    <a:pt x="43" y="1854"/>
                  </a:lnTo>
                  <a:lnTo>
                    <a:pt x="45" y="1760"/>
                  </a:lnTo>
                  <a:lnTo>
                    <a:pt x="52" y="1668"/>
                  </a:lnTo>
                  <a:lnTo>
                    <a:pt x="63" y="1577"/>
                  </a:lnTo>
                  <a:lnTo>
                    <a:pt x="79" y="1489"/>
                  </a:lnTo>
                  <a:lnTo>
                    <a:pt x="100" y="1401"/>
                  </a:lnTo>
                  <a:lnTo>
                    <a:pt x="124" y="1315"/>
                  </a:lnTo>
                  <a:lnTo>
                    <a:pt x="153" y="1231"/>
                  </a:lnTo>
                  <a:lnTo>
                    <a:pt x="185" y="1148"/>
                  </a:lnTo>
                  <a:lnTo>
                    <a:pt x="221" y="1069"/>
                  </a:lnTo>
                  <a:lnTo>
                    <a:pt x="261" y="990"/>
                  </a:lnTo>
                  <a:lnTo>
                    <a:pt x="305" y="914"/>
                  </a:lnTo>
                  <a:lnTo>
                    <a:pt x="353" y="841"/>
                  </a:lnTo>
                  <a:lnTo>
                    <a:pt x="402" y="769"/>
                  </a:lnTo>
                  <a:lnTo>
                    <a:pt x="456" y="701"/>
                  </a:lnTo>
                  <a:lnTo>
                    <a:pt x="514" y="635"/>
                  </a:lnTo>
                  <a:lnTo>
                    <a:pt x="573" y="573"/>
                  </a:lnTo>
                  <a:lnTo>
                    <a:pt x="637" y="512"/>
                  </a:lnTo>
                  <a:lnTo>
                    <a:pt x="702" y="455"/>
                  </a:lnTo>
                  <a:lnTo>
                    <a:pt x="771" y="402"/>
                  </a:lnTo>
                  <a:lnTo>
                    <a:pt x="842" y="351"/>
                  </a:lnTo>
                  <a:lnTo>
                    <a:pt x="916" y="304"/>
                  </a:lnTo>
                  <a:lnTo>
                    <a:pt x="991" y="261"/>
                  </a:lnTo>
                  <a:lnTo>
                    <a:pt x="1069" y="221"/>
                  </a:lnTo>
                  <a:lnTo>
                    <a:pt x="1150" y="184"/>
                  </a:lnTo>
                  <a:lnTo>
                    <a:pt x="1232" y="152"/>
                  </a:lnTo>
                  <a:lnTo>
                    <a:pt x="1317" y="124"/>
                  </a:lnTo>
                  <a:lnTo>
                    <a:pt x="1402" y="99"/>
                  </a:lnTo>
                  <a:lnTo>
                    <a:pt x="1489" y="78"/>
                  </a:lnTo>
                  <a:lnTo>
                    <a:pt x="1579" y="63"/>
                  </a:lnTo>
                  <a:lnTo>
                    <a:pt x="1670" y="51"/>
                  </a:lnTo>
                  <a:lnTo>
                    <a:pt x="1762" y="44"/>
                  </a:lnTo>
                  <a:lnTo>
                    <a:pt x="1855" y="41"/>
                  </a:lnTo>
                  <a:lnTo>
                    <a:pt x="1949" y="44"/>
                  </a:lnTo>
                  <a:lnTo>
                    <a:pt x="2040" y="51"/>
                  </a:lnTo>
                  <a:lnTo>
                    <a:pt x="2131" y="63"/>
                  </a:lnTo>
                  <a:lnTo>
                    <a:pt x="2221" y="78"/>
                  </a:lnTo>
                  <a:lnTo>
                    <a:pt x="2308" y="99"/>
                  </a:lnTo>
                  <a:lnTo>
                    <a:pt x="2394" y="124"/>
                  </a:lnTo>
                  <a:lnTo>
                    <a:pt x="2478" y="152"/>
                  </a:lnTo>
                  <a:lnTo>
                    <a:pt x="2560" y="184"/>
                  </a:lnTo>
                  <a:lnTo>
                    <a:pt x="2641" y="221"/>
                  </a:lnTo>
                  <a:lnTo>
                    <a:pt x="2719" y="261"/>
                  </a:lnTo>
                  <a:lnTo>
                    <a:pt x="2795" y="304"/>
                  </a:lnTo>
                  <a:lnTo>
                    <a:pt x="2868" y="351"/>
                  </a:lnTo>
                  <a:lnTo>
                    <a:pt x="2940" y="402"/>
                  </a:lnTo>
                  <a:lnTo>
                    <a:pt x="3008" y="455"/>
                  </a:lnTo>
                  <a:lnTo>
                    <a:pt x="3073" y="512"/>
                  </a:lnTo>
                  <a:lnTo>
                    <a:pt x="3137" y="573"/>
                  </a:lnTo>
                  <a:lnTo>
                    <a:pt x="3197" y="635"/>
                  </a:lnTo>
                  <a:lnTo>
                    <a:pt x="3254" y="701"/>
                  </a:lnTo>
                  <a:lnTo>
                    <a:pt x="3308" y="769"/>
                  </a:lnTo>
                  <a:lnTo>
                    <a:pt x="3358" y="841"/>
                  </a:lnTo>
                  <a:lnTo>
                    <a:pt x="3405" y="914"/>
                  </a:lnTo>
                  <a:lnTo>
                    <a:pt x="3448" y="990"/>
                  </a:lnTo>
                  <a:lnTo>
                    <a:pt x="3489" y="1069"/>
                  </a:lnTo>
                  <a:lnTo>
                    <a:pt x="3525" y="1148"/>
                  </a:lnTo>
                  <a:lnTo>
                    <a:pt x="3558" y="1231"/>
                  </a:lnTo>
                  <a:lnTo>
                    <a:pt x="3587" y="1315"/>
                  </a:lnTo>
                  <a:lnTo>
                    <a:pt x="3611" y="1401"/>
                  </a:lnTo>
                  <a:lnTo>
                    <a:pt x="3631" y="1489"/>
                  </a:lnTo>
                  <a:lnTo>
                    <a:pt x="3647" y="1577"/>
                  </a:lnTo>
                  <a:lnTo>
                    <a:pt x="3658" y="1668"/>
                  </a:lnTo>
                  <a:lnTo>
                    <a:pt x="3666" y="1760"/>
                  </a:lnTo>
                  <a:lnTo>
                    <a:pt x="3668" y="185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46600" y="2270160"/>
              <a:ext cx="1455480" cy="1454040"/>
            </a:xfrm>
            <a:custGeom>
              <a:avLst/>
              <a:gdLst/>
              <a:ahLst/>
              <a:rect l="l" t="t" r="r" b="b"/>
              <a:pathLst>
                <a:path w="3666" h="3665">
                  <a:moveTo>
                    <a:pt x="3666" y="1833"/>
                  </a:moveTo>
                  <a:lnTo>
                    <a:pt x="3664" y="1738"/>
                  </a:lnTo>
                  <a:lnTo>
                    <a:pt x="3657" y="1645"/>
                  </a:lnTo>
                  <a:lnTo>
                    <a:pt x="3646" y="1553"/>
                  </a:lnTo>
                  <a:lnTo>
                    <a:pt x="3630" y="1463"/>
                  </a:lnTo>
                  <a:lnTo>
                    <a:pt x="3609" y="1375"/>
                  </a:lnTo>
                  <a:lnTo>
                    <a:pt x="3584" y="1287"/>
                  </a:lnTo>
                  <a:lnTo>
                    <a:pt x="3555" y="1202"/>
                  </a:lnTo>
                  <a:lnTo>
                    <a:pt x="3523" y="1119"/>
                  </a:lnTo>
                  <a:lnTo>
                    <a:pt x="3486" y="1038"/>
                  </a:lnTo>
                  <a:lnTo>
                    <a:pt x="3445" y="959"/>
                  </a:lnTo>
                  <a:lnTo>
                    <a:pt x="3402" y="882"/>
                  </a:lnTo>
                  <a:lnTo>
                    <a:pt x="3353" y="808"/>
                  </a:lnTo>
                  <a:lnTo>
                    <a:pt x="3302" y="736"/>
                  </a:lnTo>
                  <a:lnTo>
                    <a:pt x="3248" y="666"/>
                  </a:lnTo>
                  <a:lnTo>
                    <a:pt x="3190" y="600"/>
                  </a:lnTo>
                  <a:lnTo>
                    <a:pt x="3129" y="537"/>
                  </a:lnTo>
                  <a:lnTo>
                    <a:pt x="3066" y="476"/>
                  </a:lnTo>
                  <a:lnTo>
                    <a:pt x="3000" y="418"/>
                  </a:lnTo>
                  <a:lnTo>
                    <a:pt x="2930" y="364"/>
                  </a:lnTo>
                  <a:lnTo>
                    <a:pt x="2858" y="313"/>
                  </a:lnTo>
                  <a:lnTo>
                    <a:pt x="2784" y="266"/>
                  </a:lnTo>
                  <a:lnTo>
                    <a:pt x="2707" y="221"/>
                  </a:lnTo>
                  <a:lnTo>
                    <a:pt x="2628" y="180"/>
                  </a:lnTo>
                  <a:lnTo>
                    <a:pt x="2547" y="144"/>
                  </a:lnTo>
                  <a:lnTo>
                    <a:pt x="2464" y="111"/>
                  </a:lnTo>
                  <a:lnTo>
                    <a:pt x="2378" y="82"/>
                  </a:lnTo>
                  <a:lnTo>
                    <a:pt x="2291" y="57"/>
                  </a:lnTo>
                  <a:lnTo>
                    <a:pt x="2202" y="37"/>
                  </a:lnTo>
                  <a:lnTo>
                    <a:pt x="2113" y="20"/>
                  </a:lnTo>
                  <a:lnTo>
                    <a:pt x="2021" y="10"/>
                  </a:lnTo>
                  <a:lnTo>
                    <a:pt x="1928" y="2"/>
                  </a:lnTo>
                  <a:lnTo>
                    <a:pt x="1833" y="0"/>
                  </a:lnTo>
                  <a:lnTo>
                    <a:pt x="1739" y="2"/>
                  </a:lnTo>
                  <a:lnTo>
                    <a:pt x="1646" y="10"/>
                  </a:lnTo>
                  <a:lnTo>
                    <a:pt x="1554" y="20"/>
                  </a:lnTo>
                  <a:lnTo>
                    <a:pt x="1464" y="37"/>
                  </a:lnTo>
                  <a:lnTo>
                    <a:pt x="1374" y="57"/>
                  </a:lnTo>
                  <a:lnTo>
                    <a:pt x="1288" y="82"/>
                  </a:lnTo>
                  <a:lnTo>
                    <a:pt x="1203" y="111"/>
                  </a:lnTo>
                  <a:lnTo>
                    <a:pt x="1119" y="144"/>
                  </a:lnTo>
                  <a:lnTo>
                    <a:pt x="1038" y="180"/>
                  </a:lnTo>
                  <a:lnTo>
                    <a:pt x="960" y="221"/>
                  </a:lnTo>
                  <a:lnTo>
                    <a:pt x="883" y="266"/>
                  </a:lnTo>
                  <a:lnTo>
                    <a:pt x="808" y="313"/>
                  </a:lnTo>
                  <a:lnTo>
                    <a:pt x="736" y="364"/>
                  </a:lnTo>
                  <a:lnTo>
                    <a:pt x="667" y="418"/>
                  </a:lnTo>
                  <a:lnTo>
                    <a:pt x="601" y="476"/>
                  </a:lnTo>
                  <a:lnTo>
                    <a:pt x="537" y="537"/>
                  </a:lnTo>
                  <a:lnTo>
                    <a:pt x="477" y="600"/>
                  </a:lnTo>
                  <a:lnTo>
                    <a:pt x="418" y="666"/>
                  </a:lnTo>
                  <a:lnTo>
                    <a:pt x="364" y="736"/>
                  </a:lnTo>
                  <a:lnTo>
                    <a:pt x="313" y="808"/>
                  </a:lnTo>
                  <a:lnTo>
                    <a:pt x="265" y="882"/>
                  </a:lnTo>
                  <a:lnTo>
                    <a:pt x="222" y="959"/>
                  </a:lnTo>
                  <a:lnTo>
                    <a:pt x="181" y="1038"/>
                  </a:lnTo>
                  <a:lnTo>
                    <a:pt x="144" y="1119"/>
                  </a:lnTo>
                  <a:lnTo>
                    <a:pt x="111" y="1202"/>
                  </a:lnTo>
                  <a:lnTo>
                    <a:pt x="82" y="1287"/>
                  </a:lnTo>
                  <a:lnTo>
                    <a:pt x="57" y="1375"/>
                  </a:lnTo>
                  <a:lnTo>
                    <a:pt x="37" y="1463"/>
                  </a:lnTo>
                  <a:lnTo>
                    <a:pt x="21" y="1553"/>
                  </a:lnTo>
                  <a:lnTo>
                    <a:pt x="9" y="1645"/>
                  </a:lnTo>
                  <a:lnTo>
                    <a:pt x="2" y="1738"/>
                  </a:lnTo>
                  <a:lnTo>
                    <a:pt x="0" y="1833"/>
                  </a:lnTo>
                  <a:lnTo>
                    <a:pt x="2" y="1927"/>
                  </a:lnTo>
                  <a:lnTo>
                    <a:pt x="9" y="2020"/>
                  </a:lnTo>
                  <a:lnTo>
                    <a:pt x="21" y="2111"/>
                  </a:lnTo>
                  <a:lnTo>
                    <a:pt x="37" y="2202"/>
                  </a:lnTo>
                  <a:lnTo>
                    <a:pt x="57" y="2291"/>
                  </a:lnTo>
                  <a:lnTo>
                    <a:pt x="82" y="2377"/>
                  </a:lnTo>
                  <a:lnTo>
                    <a:pt x="111" y="2462"/>
                  </a:lnTo>
                  <a:lnTo>
                    <a:pt x="144" y="2545"/>
                  </a:lnTo>
                  <a:lnTo>
                    <a:pt x="181" y="2626"/>
                  </a:lnTo>
                  <a:lnTo>
                    <a:pt x="222" y="2706"/>
                  </a:lnTo>
                  <a:lnTo>
                    <a:pt x="265" y="2783"/>
                  </a:lnTo>
                  <a:lnTo>
                    <a:pt x="313" y="2857"/>
                  </a:lnTo>
                  <a:lnTo>
                    <a:pt x="364" y="2929"/>
                  </a:lnTo>
                  <a:lnTo>
                    <a:pt x="418" y="2998"/>
                  </a:lnTo>
                  <a:lnTo>
                    <a:pt x="477" y="3065"/>
                  </a:lnTo>
                  <a:lnTo>
                    <a:pt x="537" y="3129"/>
                  </a:lnTo>
                  <a:lnTo>
                    <a:pt x="601" y="3189"/>
                  </a:lnTo>
                  <a:lnTo>
                    <a:pt x="667" y="3246"/>
                  </a:lnTo>
                  <a:lnTo>
                    <a:pt x="736" y="3300"/>
                  </a:lnTo>
                  <a:lnTo>
                    <a:pt x="808" y="3352"/>
                  </a:lnTo>
                  <a:lnTo>
                    <a:pt x="883" y="3400"/>
                  </a:lnTo>
                  <a:lnTo>
                    <a:pt x="960" y="3444"/>
                  </a:lnTo>
                  <a:lnTo>
                    <a:pt x="1038" y="3484"/>
                  </a:lnTo>
                  <a:lnTo>
                    <a:pt x="1119" y="3521"/>
                  </a:lnTo>
                  <a:lnTo>
                    <a:pt x="1203" y="3554"/>
                  </a:lnTo>
                  <a:lnTo>
                    <a:pt x="1288" y="3582"/>
                  </a:lnTo>
                  <a:lnTo>
                    <a:pt x="1374" y="3607"/>
                  </a:lnTo>
                  <a:lnTo>
                    <a:pt x="1464" y="3628"/>
                  </a:lnTo>
                  <a:lnTo>
                    <a:pt x="1554" y="3644"/>
                  </a:lnTo>
                  <a:lnTo>
                    <a:pt x="1646" y="3656"/>
                  </a:lnTo>
                  <a:lnTo>
                    <a:pt x="1739" y="3662"/>
                  </a:lnTo>
                  <a:lnTo>
                    <a:pt x="1833" y="3665"/>
                  </a:lnTo>
                  <a:lnTo>
                    <a:pt x="1928" y="3662"/>
                  </a:lnTo>
                  <a:lnTo>
                    <a:pt x="2021" y="3656"/>
                  </a:lnTo>
                  <a:lnTo>
                    <a:pt x="2113" y="3644"/>
                  </a:lnTo>
                  <a:lnTo>
                    <a:pt x="2202" y="3628"/>
                  </a:lnTo>
                  <a:lnTo>
                    <a:pt x="2291" y="3607"/>
                  </a:lnTo>
                  <a:lnTo>
                    <a:pt x="2378" y="3582"/>
                  </a:lnTo>
                  <a:lnTo>
                    <a:pt x="2464" y="3554"/>
                  </a:lnTo>
                  <a:lnTo>
                    <a:pt x="2547" y="3521"/>
                  </a:lnTo>
                  <a:lnTo>
                    <a:pt x="2628" y="3484"/>
                  </a:lnTo>
                  <a:lnTo>
                    <a:pt x="2707" y="3444"/>
                  </a:lnTo>
                  <a:lnTo>
                    <a:pt x="2784" y="3400"/>
                  </a:lnTo>
                  <a:lnTo>
                    <a:pt x="2858" y="3352"/>
                  </a:lnTo>
                  <a:lnTo>
                    <a:pt x="2930" y="3300"/>
                  </a:lnTo>
                  <a:lnTo>
                    <a:pt x="3000" y="3246"/>
                  </a:lnTo>
                  <a:lnTo>
                    <a:pt x="3066" y="3189"/>
                  </a:lnTo>
                  <a:lnTo>
                    <a:pt x="3129" y="3129"/>
                  </a:lnTo>
                  <a:lnTo>
                    <a:pt x="3190" y="3065"/>
                  </a:lnTo>
                  <a:lnTo>
                    <a:pt x="3248" y="2998"/>
                  </a:lnTo>
                  <a:lnTo>
                    <a:pt x="3302" y="2929"/>
                  </a:lnTo>
                  <a:lnTo>
                    <a:pt x="3353" y="2857"/>
                  </a:lnTo>
                  <a:lnTo>
                    <a:pt x="3402" y="2783"/>
                  </a:lnTo>
                  <a:lnTo>
                    <a:pt x="3445" y="2706"/>
                  </a:lnTo>
                  <a:lnTo>
                    <a:pt x="3486" y="2626"/>
                  </a:lnTo>
                  <a:lnTo>
                    <a:pt x="3523" y="2545"/>
                  </a:lnTo>
                  <a:lnTo>
                    <a:pt x="3555" y="2462"/>
                  </a:lnTo>
                  <a:lnTo>
                    <a:pt x="3584" y="2377"/>
                  </a:lnTo>
                  <a:lnTo>
                    <a:pt x="3609" y="2291"/>
                  </a:lnTo>
                  <a:lnTo>
                    <a:pt x="3630" y="2202"/>
                  </a:lnTo>
                  <a:lnTo>
                    <a:pt x="3646" y="2111"/>
                  </a:lnTo>
                  <a:lnTo>
                    <a:pt x="3657" y="2020"/>
                  </a:lnTo>
                  <a:lnTo>
                    <a:pt x="3664" y="1927"/>
                  </a:lnTo>
                  <a:lnTo>
                    <a:pt x="3666" y="1833"/>
                  </a:lnTo>
                  <a:close/>
                  <a:moveTo>
                    <a:pt x="3625" y="1833"/>
                  </a:moveTo>
                  <a:lnTo>
                    <a:pt x="3623" y="1924"/>
                  </a:lnTo>
                  <a:lnTo>
                    <a:pt x="3616" y="2015"/>
                  </a:lnTo>
                  <a:lnTo>
                    <a:pt x="3605" y="2105"/>
                  </a:lnTo>
                  <a:lnTo>
                    <a:pt x="3589" y="2193"/>
                  </a:lnTo>
                  <a:lnTo>
                    <a:pt x="3568" y="2280"/>
                  </a:lnTo>
                  <a:lnTo>
                    <a:pt x="3544" y="2365"/>
                  </a:lnTo>
                  <a:lnTo>
                    <a:pt x="3516" y="2448"/>
                  </a:lnTo>
                  <a:lnTo>
                    <a:pt x="3484" y="2529"/>
                  </a:lnTo>
                  <a:lnTo>
                    <a:pt x="3448" y="2609"/>
                  </a:lnTo>
                  <a:lnTo>
                    <a:pt x="3409" y="2686"/>
                  </a:lnTo>
                  <a:lnTo>
                    <a:pt x="3366" y="2761"/>
                  </a:lnTo>
                  <a:lnTo>
                    <a:pt x="3318" y="2834"/>
                  </a:lnTo>
                  <a:lnTo>
                    <a:pt x="3269" y="2904"/>
                  </a:lnTo>
                  <a:lnTo>
                    <a:pt x="3216" y="2972"/>
                  </a:lnTo>
                  <a:lnTo>
                    <a:pt x="3160" y="3037"/>
                  </a:lnTo>
                  <a:lnTo>
                    <a:pt x="3100" y="3098"/>
                  </a:lnTo>
                  <a:lnTo>
                    <a:pt x="3037" y="3158"/>
                  </a:lnTo>
                  <a:lnTo>
                    <a:pt x="2973" y="3214"/>
                  </a:lnTo>
                  <a:lnTo>
                    <a:pt x="2906" y="3268"/>
                  </a:lnTo>
                  <a:lnTo>
                    <a:pt x="2835" y="3318"/>
                  </a:lnTo>
                  <a:lnTo>
                    <a:pt x="2762" y="3364"/>
                  </a:lnTo>
                  <a:lnTo>
                    <a:pt x="2687" y="3407"/>
                  </a:lnTo>
                  <a:lnTo>
                    <a:pt x="2610" y="3446"/>
                  </a:lnTo>
                  <a:lnTo>
                    <a:pt x="2531" y="3483"/>
                  </a:lnTo>
                  <a:lnTo>
                    <a:pt x="2450" y="3514"/>
                  </a:lnTo>
                  <a:lnTo>
                    <a:pt x="2366" y="3542"/>
                  </a:lnTo>
                  <a:lnTo>
                    <a:pt x="2281" y="3567"/>
                  </a:lnTo>
                  <a:lnTo>
                    <a:pt x="2195" y="3587"/>
                  </a:lnTo>
                  <a:lnTo>
                    <a:pt x="2106" y="3603"/>
                  </a:lnTo>
                  <a:lnTo>
                    <a:pt x="2016" y="3614"/>
                  </a:lnTo>
                  <a:lnTo>
                    <a:pt x="1926" y="3621"/>
                  </a:lnTo>
                  <a:lnTo>
                    <a:pt x="1833" y="3623"/>
                  </a:lnTo>
                  <a:lnTo>
                    <a:pt x="1741" y="3621"/>
                  </a:lnTo>
                  <a:lnTo>
                    <a:pt x="1650" y="3614"/>
                  </a:lnTo>
                  <a:lnTo>
                    <a:pt x="1560" y="3603"/>
                  </a:lnTo>
                  <a:lnTo>
                    <a:pt x="1472" y="3587"/>
                  </a:lnTo>
                  <a:lnTo>
                    <a:pt x="1385" y="3567"/>
                  </a:lnTo>
                  <a:lnTo>
                    <a:pt x="1300" y="3542"/>
                  </a:lnTo>
                  <a:lnTo>
                    <a:pt x="1217" y="3514"/>
                  </a:lnTo>
                  <a:lnTo>
                    <a:pt x="1136" y="3483"/>
                  </a:lnTo>
                  <a:lnTo>
                    <a:pt x="1057" y="3446"/>
                  </a:lnTo>
                  <a:lnTo>
                    <a:pt x="979" y="3407"/>
                  </a:lnTo>
                  <a:lnTo>
                    <a:pt x="904" y="3364"/>
                  </a:lnTo>
                  <a:lnTo>
                    <a:pt x="831" y="3318"/>
                  </a:lnTo>
                  <a:lnTo>
                    <a:pt x="761" y="3268"/>
                  </a:lnTo>
                  <a:lnTo>
                    <a:pt x="694" y="3214"/>
                  </a:lnTo>
                  <a:lnTo>
                    <a:pt x="629" y="3158"/>
                  </a:lnTo>
                  <a:lnTo>
                    <a:pt x="566" y="3098"/>
                  </a:lnTo>
                  <a:lnTo>
                    <a:pt x="507" y="3037"/>
                  </a:lnTo>
                  <a:lnTo>
                    <a:pt x="451" y="2972"/>
                  </a:lnTo>
                  <a:lnTo>
                    <a:pt x="398" y="2904"/>
                  </a:lnTo>
                  <a:lnTo>
                    <a:pt x="347" y="2834"/>
                  </a:lnTo>
                  <a:lnTo>
                    <a:pt x="300" y="2761"/>
                  </a:lnTo>
                  <a:lnTo>
                    <a:pt x="257" y="2686"/>
                  </a:lnTo>
                  <a:lnTo>
                    <a:pt x="218" y="2609"/>
                  </a:lnTo>
                  <a:lnTo>
                    <a:pt x="183" y="2529"/>
                  </a:lnTo>
                  <a:lnTo>
                    <a:pt x="150" y="2448"/>
                  </a:lnTo>
                  <a:lnTo>
                    <a:pt x="122" y="2365"/>
                  </a:lnTo>
                  <a:lnTo>
                    <a:pt x="97" y="2280"/>
                  </a:lnTo>
                  <a:lnTo>
                    <a:pt x="78" y="2193"/>
                  </a:lnTo>
                  <a:lnTo>
                    <a:pt x="62" y="2105"/>
                  </a:lnTo>
                  <a:lnTo>
                    <a:pt x="51" y="2015"/>
                  </a:lnTo>
                  <a:lnTo>
                    <a:pt x="43" y="1924"/>
                  </a:lnTo>
                  <a:lnTo>
                    <a:pt x="41" y="1833"/>
                  </a:lnTo>
                  <a:lnTo>
                    <a:pt x="43" y="1740"/>
                  </a:lnTo>
                  <a:lnTo>
                    <a:pt x="51" y="1649"/>
                  </a:lnTo>
                  <a:lnTo>
                    <a:pt x="62" y="1559"/>
                  </a:lnTo>
                  <a:lnTo>
                    <a:pt x="78" y="1472"/>
                  </a:lnTo>
                  <a:lnTo>
                    <a:pt x="97" y="1384"/>
                  </a:lnTo>
                  <a:lnTo>
                    <a:pt x="122" y="1300"/>
                  </a:lnTo>
                  <a:lnTo>
                    <a:pt x="150" y="1217"/>
                  </a:lnTo>
                  <a:lnTo>
                    <a:pt x="183" y="1135"/>
                  </a:lnTo>
                  <a:lnTo>
                    <a:pt x="218" y="1056"/>
                  </a:lnTo>
                  <a:lnTo>
                    <a:pt x="257" y="978"/>
                  </a:lnTo>
                  <a:lnTo>
                    <a:pt x="300" y="904"/>
                  </a:lnTo>
                  <a:lnTo>
                    <a:pt x="347" y="832"/>
                  </a:lnTo>
                  <a:lnTo>
                    <a:pt x="398" y="761"/>
                  </a:lnTo>
                  <a:lnTo>
                    <a:pt x="451" y="693"/>
                  </a:lnTo>
                  <a:lnTo>
                    <a:pt x="507" y="628"/>
                  </a:lnTo>
                  <a:lnTo>
                    <a:pt x="566" y="566"/>
                  </a:lnTo>
                  <a:lnTo>
                    <a:pt x="629" y="506"/>
                  </a:lnTo>
                  <a:lnTo>
                    <a:pt x="694" y="450"/>
                  </a:lnTo>
                  <a:lnTo>
                    <a:pt x="761" y="397"/>
                  </a:lnTo>
                  <a:lnTo>
                    <a:pt x="831" y="348"/>
                  </a:lnTo>
                  <a:lnTo>
                    <a:pt x="904" y="301"/>
                  </a:lnTo>
                  <a:lnTo>
                    <a:pt x="979" y="258"/>
                  </a:lnTo>
                  <a:lnTo>
                    <a:pt x="1057" y="218"/>
                  </a:lnTo>
                  <a:lnTo>
                    <a:pt x="1136" y="182"/>
                  </a:lnTo>
                  <a:lnTo>
                    <a:pt x="1217" y="150"/>
                  </a:lnTo>
                  <a:lnTo>
                    <a:pt x="1300" y="122"/>
                  </a:lnTo>
                  <a:lnTo>
                    <a:pt x="1385" y="98"/>
                  </a:lnTo>
                  <a:lnTo>
                    <a:pt x="1472" y="78"/>
                  </a:lnTo>
                  <a:lnTo>
                    <a:pt x="1560" y="63"/>
                  </a:lnTo>
                  <a:lnTo>
                    <a:pt x="1650" y="51"/>
                  </a:lnTo>
                  <a:lnTo>
                    <a:pt x="1741" y="44"/>
                  </a:lnTo>
                  <a:lnTo>
                    <a:pt x="1833" y="41"/>
                  </a:lnTo>
                  <a:lnTo>
                    <a:pt x="1926" y="44"/>
                  </a:lnTo>
                  <a:lnTo>
                    <a:pt x="2016" y="51"/>
                  </a:lnTo>
                  <a:lnTo>
                    <a:pt x="2106" y="63"/>
                  </a:lnTo>
                  <a:lnTo>
                    <a:pt x="2195" y="78"/>
                  </a:lnTo>
                  <a:lnTo>
                    <a:pt x="2281" y="98"/>
                  </a:lnTo>
                  <a:lnTo>
                    <a:pt x="2366" y="122"/>
                  </a:lnTo>
                  <a:lnTo>
                    <a:pt x="2450" y="150"/>
                  </a:lnTo>
                  <a:lnTo>
                    <a:pt x="2531" y="182"/>
                  </a:lnTo>
                  <a:lnTo>
                    <a:pt x="2610" y="218"/>
                  </a:lnTo>
                  <a:lnTo>
                    <a:pt x="2687" y="258"/>
                  </a:lnTo>
                  <a:lnTo>
                    <a:pt x="2762" y="301"/>
                  </a:lnTo>
                  <a:lnTo>
                    <a:pt x="2835" y="348"/>
                  </a:lnTo>
                  <a:lnTo>
                    <a:pt x="2906" y="397"/>
                  </a:lnTo>
                  <a:lnTo>
                    <a:pt x="2973" y="450"/>
                  </a:lnTo>
                  <a:lnTo>
                    <a:pt x="3037" y="506"/>
                  </a:lnTo>
                  <a:lnTo>
                    <a:pt x="3100" y="566"/>
                  </a:lnTo>
                  <a:lnTo>
                    <a:pt x="3160" y="628"/>
                  </a:lnTo>
                  <a:lnTo>
                    <a:pt x="3216" y="693"/>
                  </a:lnTo>
                  <a:lnTo>
                    <a:pt x="3269" y="761"/>
                  </a:lnTo>
                  <a:lnTo>
                    <a:pt x="3318" y="832"/>
                  </a:lnTo>
                  <a:lnTo>
                    <a:pt x="3366" y="904"/>
                  </a:lnTo>
                  <a:lnTo>
                    <a:pt x="3409" y="978"/>
                  </a:lnTo>
                  <a:lnTo>
                    <a:pt x="3448" y="1056"/>
                  </a:lnTo>
                  <a:lnTo>
                    <a:pt x="3484" y="1135"/>
                  </a:lnTo>
                  <a:lnTo>
                    <a:pt x="3516" y="1217"/>
                  </a:lnTo>
                  <a:lnTo>
                    <a:pt x="3544" y="1300"/>
                  </a:lnTo>
                  <a:lnTo>
                    <a:pt x="3568" y="1384"/>
                  </a:lnTo>
                  <a:lnTo>
                    <a:pt x="3589" y="1472"/>
                  </a:lnTo>
                  <a:lnTo>
                    <a:pt x="3605" y="1559"/>
                  </a:lnTo>
                  <a:lnTo>
                    <a:pt x="3616" y="1649"/>
                  </a:lnTo>
                  <a:lnTo>
                    <a:pt x="3623" y="1740"/>
                  </a:lnTo>
                  <a:lnTo>
                    <a:pt x="3625" y="183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54520" y="2278080"/>
              <a:ext cx="1438200" cy="1438200"/>
            </a:xfrm>
            <a:custGeom>
              <a:avLst/>
              <a:gdLst/>
              <a:ahLst/>
              <a:rect l="l" t="t" r="r" b="b"/>
              <a:pathLst>
                <a:path w="3625" h="3624">
                  <a:moveTo>
                    <a:pt x="3625" y="1813"/>
                  </a:moveTo>
                  <a:lnTo>
                    <a:pt x="3623" y="1719"/>
                  </a:lnTo>
                  <a:lnTo>
                    <a:pt x="3615" y="1627"/>
                  </a:lnTo>
                  <a:lnTo>
                    <a:pt x="3604" y="1536"/>
                  </a:lnTo>
                  <a:lnTo>
                    <a:pt x="3588" y="1448"/>
                  </a:lnTo>
                  <a:lnTo>
                    <a:pt x="3568" y="1360"/>
                  </a:lnTo>
                  <a:lnTo>
                    <a:pt x="3544" y="1274"/>
                  </a:lnTo>
                  <a:lnTo>
                    <a:pt x="3515" y="1190"/>
                  </a:lnTo>
                  <a:lnTo>
                    <a:pt x="3482" y="1107"/>
                  </a:lnTo>
                  <a:lnTo>
                    <a:pt x="3446" y="1028"/>
                  </a:lnTo>
                  <a:lnTo>
                    <a:pt x="3405" y="949"/>
                  </a:lnTo>
                  <a:lnTo>
                    <a:pt x="3362" y="873"/>
                  </a:lnTo>
                  <a:lnTo>
                    <a:pt x="3315" y="800"/>
                  </a:lnTo>
                  <a:lnTo>
                    <a:pt x="3265" y="728"/>
                  </a:lnTo>
                  <a:lnTo>
                    <a:pt x="3211" y="660"/>
                  </a:lnTo>
                  <a:lnTo>
                    <a:pt x="3154" y="594"/>
                  </a:lnTo>
                  <a:lnTo>
                    <a:pt x="3094" y="532"/>
                  </a:lnTo>
                  <a:lnTo>
                    <a:pt x="3030" y="471"/>
                  </a:lnTo>
                  <a:lnTo>
                    <a:pt x="2965" y="414"/>
                  </a:lnTo>
                  <a:lnTo>
                    <a:pt x="2897" y="361"/>
                  </a:lnTo>
                  <a:lnTo>
                    <a:pt x="2825" y="310"/>
                  </a:lnTo>
                  <a:lnTo>
                    <a:pt x="2752" y="263"/>
                  </a:lnTo>
                  <a:lnTo>
                    <a:pt x="2676" y="220"/>
                  </a:lnTo>
                  <a:lnTo>
                    <a:pt x="2598" y="180"/>
                  </a:lnTo>
                  <a:lnTo>
                    <a:pt x="2517" y="143"/>
                  </a:lnTo>
                  <a:lnTo>
                    <a:pt x="2435" y="111"/>
                  </a:lnTo>
                  <a:lnTo>
                    <a:pt x="2351" y="83"/>
                  </a:lnTo>
                  <a:lnTo>
                    <a:pt x="2265" y="58"/>
                  </a:lnTo>
                  <a:lnTo>
                    <a:pt x="2178" y="37"/>
                  </a:lnTo>
                  <a:lnTo>
                    <a:pt x="2088" y="22"/>
                  </a:lnTo>
                  <a:lnTo>
                    <a:pt x="1997" y="10"/>
                  </a:lnTo>
                  <a:lnTo>
                    <a:pt x="1906" y="3"/>
                  </a:lnTo>
                  <a:lnTo>
                    <a:pt x="1812" y="0"/>
                  </a:lnTo>
                  <a:lnTo>
                    <a:pt x="1719" y="3"/>
                  </a:lnTo>
                  <a:lnTo>
                    <a:pt x="1627" y="10"/>
                  </a:lnTo>
                  <a:lnTo>
                    <a:pt x="1536" y="22"/>
                  </a:lnTo>
                  <a:lnTo>
                    <a:pt x="1446" y="37"/>
                  </a:lnTo>
                  <a:lnTo>
                    <a:pt x="1359" y="58"/>
                  </a:lnTo>
                  <a:lnTo>
                    <a:pt x="1274" y="83"/>
                  </a:lnTo>
                  <a:lnTo>
                    <a:pt x="1189" y="111"/>
                  </a:lnTo>
                  <a:lnTo>
                    <a:pt x="1107" y="143"/>
                  </a:lnTo>
                  <a:lnTo>
                    <a:pt x="1026" y="180"/>
                  </a:lnTo>
                  <a:lnTo>
                    <a:pt x="948" y="220"/>
                  </a:lnTo>
                  <a:lnTo>
                    <a:pt x="873" y="263"/>
                  </a:lnTo>
                  <a:lnTo>
                    <a:pt x="799" y="310"/>
                  </a:lnTo>
                  <a:lnTo>
                    <a:pt x="728" y="361"/>
                  </a:lnTo>
                  <a:lnTo>
                    <a:pt x="659" y="414"/>
                  </a:lnTo>
                  <a:lnTo>
                    <a:pt x="594" y="471"/>
                  </a:lnTo>
                  <a:lnTo>
                    <a:pt x="530" y="532"/>
                  </a:lnTo>
                  <a:lnTo>
                    <a:pt x="471" y="594"/>
                  </a:lnTo>
                  <a:lnTo>
                    <a:pt x="413" y="660"/>
                  </a:lnTo>
                  <a:lnTo>
                    <a:pt x="359" y="728"/>
                  </a:lnTo>
                  <a:lnTo>
                    <a:pt x="310" y="800"/>
                  </a:lnTo>
                  <a:lnTo>
                    <a:pt x="262" y="873"/>
                  </a:lnTo>
                  <a:lnTo>
                    <a:pt x="218" y="949"/>
                  </a:lnTo>
                  <a:lnTo>
                    <a:pt x="178" y="1028"/>
                  </a:lnTo>
                  <a:lnTo>
                    <a:pt x="142" y="1107"/>
                  </a:lnTo>
                  <a:lnTo>
                    <a:pt x="110" y="1190"/>
                  </a:lnTo>
                  <a:lnTo>
                    <a:pt x="81" y="1274"/>
                  </a:lnTo>
                  <a:lnTo>
                    <a:pt x="57" y="1360"/>
                  </a:lnTo>
                  <a:lnTo>
                    <a:pt x="36" y="1448"/>
                  </a:lnTo>
                  <a:lnTo>
                    <a:pt x="20" y="1536"/>
                  </a:lnTo>
                  <a:lnTo>
                    <a:pt x="9" y="1627"/>
                  </a:lnTo>
                  <a:lnTo>
                    <a:pt x="2" y="1719"/>
                  </a:lnTo>
                  <a:lnTo>
                    <a:pt x="0" y="1813"/>
                  </a:lnTo>
                  <a:lnTo>
                    <a:pt x="2" y="1906"/>
                  </a:lnTo>
                  <a:lnTo>
                    <a:pt x="9" y="1997"/>
                  </a:lnTo>
                  <a:lnTo>
                    <a:pt x="20" y="2088"/>
                  </a:lnTo>
                  <a:lnTo>
                    <a:pt x="36" y="2178"/>
                  </a:lnTo>
                  <a:lnTo>
                    <a:pt x="57" y="2265"/>
                  </a:lnTo>
                  <a:lnTo>
                    <a:pt x="81" y="2352"/>
                  </a:lnTo>
                  <a:lnTo>
                    <a:pt x="110" y="2436"/>
                  </a:lnTo>
                  <a:lnTo>
                    <a:pt x="142" y="2518"/>
                  </a:lnTo>
                  <a:lnTo>
                    <a:pt x="178" y="2598"/>
                  </a:lnTo>
                  <a:lnTo>
                    <a:pt x="218" y="2676"/>
                  </a:lnTo>
                  <a:lnTo>
                    <a:pt x="262" y="2752"/>
                  </a:lnTo>
                  <a:lnTo>
                    <a:pt x="310" y="2826"/>
                  </a:lnTo>
                  <a:lnTo>
                    <a:pt x="359" y="2896"/>
                  </a:lnTo>
                  <a:lnTo>
                    <a:pt x="413" y="2965"/>
                  </a:lnTo>
                  <a:lnTo>
                    <a:pt x="471" y="3031"/>
                  </a:lnTo>
                  <a:lnTo>
                    <a:pt x="530" y="3094"/>
                  </a:lnTo>
                  <a:lnTo>
                    <a:pt x="594" y="3153"/>
                  </a:lnTo>
                  <a:lnTo>
                    <a:pt x="659" y="3210"/>
                  </a:lnTo>
                  <a:lnTo>
                    <a:pt x="728" y="3264"/>
                  </a:lnTo>
                  <a:lnTo>
                    <a:pt x="799" y="3315"/>
                  </a:lnTo>
                  <a:lnTo>
                    <a:pt x="873" y="3361"/>
                  </a:lnTo>
                  <a:lnTo>
                    <a:pt x="948" y="3406"/>
                  </a:lnTo>
                  <a:lnTo>
                    <a:pt x="1026" y="3446"/>
                  </a:lnTo>
                  <a:lnTo>
                    <a:pt x="1107" y="3481"/>
                  </a:lnTo>
                  <a:lnTo>
                    <a:pt x="1189" y="3515"/>
                  </a:lnTo>
                  <a:lnTo>
                    <a:pt x="1274" y="3543"/>
                  </a:lnTo>
                  <a:lnTo>
                    <a:pt x="1359" y="3567"/>
                  </a:lnTo>
                  <a:lnTo>
                    <a:pt x="1446" y="3587"/>
                  </a:lnTo>
                  <a:lnTo>
                    <a:pt x="1536" y="3603"/>
                  </a:lnTo>
                  <a:lnTo>
                    <a:pt x="1627" y="3615"/>
                  </a:lnTo>
                  <a:lnTo>
                    <a:pt x="1719" y="3622"/>
                  </a:lnTo>
                  <a:lnTo>
                    <a:pt x="1812" y="3624"/>
                  </a:lnTo>
                  <a:lnTo>
                    <a:pt x="1906" y="3622"/>
                  </a:lnTo>
                  <a:lnTo>
                    <a:pt x="1997" y="3615"/>
                  </a:lnTo>
                  <a:lnTo>
                    <a:pt x="2088" y="3603"/>
                  </a:lnTo>
                  <a:lnTo>
                    <a:pt x="2178" y="3587"/>
                  </a:lnTo>
                  <a:lnTo>
                    <a:pt x="2265" y="3567"/>
                  </a:lnTo>
                  <a:lnTo>
                    <a:pt x="2351" y="3543"/>
                  </a:lnTo>
                  <a:lnTo>
                    <a:pt x="2435" y="3515"/>
                  </a:lnTo>
                  <a:lnTo>
                    <a:pt x="2517" y="3481"/>
                  </a:lnTo>
                  <a:lnTo>
                    <a:pt x="2598" y="3446"/>
                  </a:lnTo>
                  <a:lnTo>
                    <a:pt x="2676" y="3406"/>
                  </a:lnTo>
                  <a:lnTo>
                    <a:pt x="2752" y="3361"/>
                  </a:lnTo>
                  <a:lnTo>
                    <a:pt x="2825" y="3315"/>
                  </a:lnTo>
                  <a:lnTo>
                    <a:pt x="2897" y="3264"/>
                  </a:lnTo>
                  <a:lnTo>
                    <a:pt x="2965" y="3210"/>
                  </a:lnTo>
                  <a:lnTo>
                    <a:pt x="3030" y="3153"/>
                  </a:lnTo>
                  <a:lnTo>
                    <a:pt x="3094" y="3094"/>
                  </a:lnTo>
                  <a:lnTo>
                    <a:pt x="3154" y="3031"/>
                  </a:lnTo>
                  <a:lnTo>
                    <a:pt x="3211" y="2965"/>
                  </a:lnTo>
                  <a:lnTo>
                    <a:pt x="3265" y="2896"/>
                  </a:lnTo>
                  <a:lnTo>
                    <a:pt x="3315" y="2826"/>
                  </a:lnTo>
                  <a:lnTo>
                    <a:pt x="3362" y="2752"/>
                  </a:lnTo>
                  <a:lnTo>
                    <a:pt x="3405" y="2676"/>
                  </a:lnTo>
                  <a:lnTo>
                    <a:pt x="3446" y="2598"/>
                  </a:lnTo>
                  <a:lnTo>
                    <a:pt x="3482" y="2518"/>
                  </a:lnTo>
                  <a:lnTo>
                    <a:pt x="3515" y="2436"/>
                  </a:lnTo>
                  <a:lnTo>
                    <a:pt x="3544" y="2352"/>
                  </a:lnTo>
                  <a:lnTo>
                    <a:pt x="3568" y="2265"/>
                  </a:lnTo>
                  <a:lnTo>
                    <a:pt x="3588" y="2178"/>
                  </a:lnTo>
                  <a:lnTo>
                    <a:pt x="3604" y="2088"/>
                  </a:lnTo>
                  <a:lnTo>
                    <a:pt x="3615" y="1997"/>
                  </a:lnTo>
                  <a:lnTo>
                    <a:pt x="3623" y="1906"/>
                  </a:lnTo>
                  <a:lnTo>
                    <a:pt x="3625" y="1813"/>
                  </a:lnTo>
                  <a:close/>
                  <a:moveTo>
                    <a:pt x="3583" y="1813"/>
                  </a:moveTo>
                  <a:lnTo>
                    <a:pt x="3580" y="1903"/>
                  </a:lnTo>
                  <a:lnTo>
                    <a:pt x="3574" y="1993"/>
                  </a:lnTo>
                  <a:lnTo>
                    <a:pt x="3563" y="2082"/>
                  </a:lnTo>
                  <a:lnTo>
                    <a:pt x="3547" y="2169"/>
                  </a:lnTo>
                  <a:lnTo>
                    <a:pt x="3528" y="2254"/>
                  </a:lnTo>
                  <a:lnTo>
                    <a:pt x="3504" y="2339"/>
                  </a:lnTo>
                  <a:lnTo>
                    <a:pt x="3476" y="2421"/>
                  </a:lnTo>
                  <a:lnTo>
                    <a:pt x="3444" y="2502"/>
                  </a:lnTo>
                  <a:lnTo>
                    <a:pt x="3409" y="2579"/>
                  </a:lnTo>
                  <a:lnTo>
                    <a:pt x="3370" y="2656"/>
                  </a:lnTo>
                  <a:lnTo>
                    <a:pt x="3327" y="2731"/>
                  </a:lnTo>
                  <a:lnTo>
                    <a:pt x="3280" y="2802"/>
                  </a:lnTo>
                  <a:lnTo>
                    <a:pt x="3231" y="2871"/>
                  </a:lnTo>
                  <a:lnTo>
                    <a:pt x="3179" y="2938"/>
                  </a:lnTo>
                  <a:lnTo>
                    <a:pt x="3123" y="3003"/>
                  </a:lnTo>
                  <a:lnTo>
                    <a:pt x="3064" y="3064"/>
                  </a:lnTo>
                  <a:lnTo>
                    <a:pt x="3002" y="3123"/>
                  </a:lnTo>
                  <a:lnTo>
                    <a:pt x="2939" y="3178"/>
                  </a:lnTo>
                  <a:lnTo>
                    <a:pt x="2872" y="3231"/>
                  </a:lnTo>
                  <a:lnTo>
                    <a:pt x="2802" y="3280"/>
                  </a:lnTo>
                  <a:lnTo>
                    <a:pt x="2730" y="3326"/>
                  </a:lnTo>
                  <a:lnTo>
                    <a:pt x="2657" y="3369"/>
                  </a:lnTo>
                  <a:lnTo>
                    <a:pt x="2580" y="3408"/>
                  </a:lnTo>
                  <a:lnTo>
                    <a:pt x="2501" y="3443"/>
                  </a:lnTo>
                  <a:lnTo>
                    <a:pt x="2421" y="3475"/>
                  </a:lnTo>
                  <a:lnTo>
                    <a:pt x="2339" y="3503"/>
                  </a:lnTo>
                  <a:lnTo>
                    <a:pt x="2255" y="3527"/>
                  </a:lnTo>
                  <a:lnTo>
                    <a:pt x="2169" y="3546"/>
                  </a:lnTo>
                  <a:lnTo>
                    <a:pt x="2082" y="3562"/>
                  </a:lnTo>
                  <a:lnTo>
                    <a:pt x="1993" y="3573"/>
                  </a:lnTo>
                  <a:lnTo>
                    <a:pt x="1903" y="3581"/>
                  </a:lnTo>
                  <a:lnTo>
                    <a:pt x="1812" y="3583"/>
                  </a:lnTo>
                  <a:lnTo>
                    <a:pt x="1721" y="3581"/>
                  </a:lnTo>
                  <a:lnTo>
                    <a:pt x="1631" y="3573"/>
                  </a:lnTo>
                  <a:lnTo>
                    <a:pt x="1543" y="3562"/>
                  </a:lnTo>
                  <a:lnTo>
                    <a:pt x="1455" y="3546"/>
                  </a:lnTo>
                  <a:lnTo>
                    <a:pt x="1370" y="3527"/>
                  </a:lnTo>
                  <a:lnTo>
                    <a:pt x="1285" y="3503"/>
                  </a:lnTo>
                  <a:lnTo>
                    <a:pt x="1203" y="3475"/>
                  </a:lnTo>
                  <a:lnTo>
                    <a:pt x="1123" y="3443"/>
                  </a:lnTo>
                  <a:lnTo>
                    <a:pt x="1044" y="3408"/>
                  </a:lnTo>
                  <a:lnTo>
                    <a:pt x="968" y="3369"/>
                  </a:lnTo>
                  <a:lnTo>
                    <a:pt x="894" y="3326"/>
                  </a:lnTo>
                  <a:lnTo>
                    <a:pt x="822" y="3280"/>
                  </a:lnTo>
                  <a:lnTo>
                    <a:pt x="753" y="3231"/>
                  </a:lnTo>
                  <a:lnTo>
                    <a:pt x="686" y="3178"/>
                  </a:lnTo>
                  <a:lnTo>
                    <a:pt x="622" y="3123"/>
                  </a:lnTo>
                  <a:lnTo>
                    <a:pt x="560" y="3064"/>
                  </a:lnTo>
                  <a:lnTo>
                    <a:pt x="501" y="3003"/>
                  </a:lnTo>
                  <a:lnTo>
                    <a:pt x="446" y="2938"/>
                  </a:lnTo>
                  <a:lnTo>
                    <a:pt x="393" y="2871"/>
                  </a:lnTo>
                  <a:lnTo>
                    <a:pt x="343" y="2802"/>
                  </a:lnTo>
                  <a:lnTo>
                    <a:pt x="298" y="2731"/>
                  </a:lnTo>
                  <a:lnTo>
                    <a:pt x="255" y="2656"/>
                  </a:lnTo>
                  <a:lnTo>
                    <a:pt x="216" y="2579"/>
                  </a:lnTo>
                  <a:lnTo>
                    <a:pt x="180" y="2502"/>
                  </a:lnTo>
                  <a:lnTo>
                    <a:pt x="149" y="2421"/>
                  </a:lnTo>
                  <a:lnTo>
                    <a:pt x="121" y="2339"/>
                  </a:lnTo>
                  <a:lnTo>
                    <a:pt x="97" y="2254"/>
                  </a:lnTo>
                  <a:lnTo>
                    <a:pt x="77" y="2169"/>
                  </a:lnTo>
                  <a:lnTo>
                    <a:pt x="61" y="2082"/>
                  </a:lnTo>
                  <a:lnTo>
                    <a:pt x="50" y="1993"/>
                  </a:lnTo>
                  <a:lnTo>
                    <a:pt x="44" y="1903"/>
                  </a:lnTo>
                  <a:lnTo>
                    <a:pt x="42" y="1813"/>
                  </a:lnTo>
                  <a:lnTo>
                    <a:pt x="44" y="1721"/>
                  </a:lnTo>
                  <a:lnTo>
                    <a:pt x="50" y="1631"/>
                  </a:lnTo>
                  <a:lnTo>
                    <a:pt x="61" y="1543"/>
                  </a:lnTo>
                  <a:lnTo>
                    <a:pt x="77" y="1455"/>
                  </a:lnTo>
                  <a:lnTo>
                    <a:pt x="97" y="1370"/>
                  </a:lnTo>
                  <a:lnTo>
                    <a:pt x="121" y="1286"/>
                  </a:lnTo>
                  <a:lnTo>
                    <a:pt x="149" y="1204"/>
                  </a:lnTo>
                  <a:lnTo>
                    <a:pt x="180" y="1124"/>
                  </a:lnTo>
                  <a:lnTo>
                    <a:pt x="216" y="1045"/>
                  </a:lnTo>
                  <a:lnTo>
                    <a:pt x="255" y="969"/>
                  </a:lnTo>
                  <a:lnTo>
                    <a:pt x="298" y="895"/>
                  </a:lnTo>
                  <a:lnTo>
                    <a:pt x="343" y="822"/>
                  </a:lnTo>
                  <a:lnTo>
                    <a:pt x="393" y="753"/>
                  </a:lnTo>
                  <a:lnTo>
                    <a:pt x="446" y="686"/>
                  </a:lnTo>
                  <a:lnTo>
                    <a:pt x="501" y="623"/>
                  </a:lnTo>
                  <a:lnTo>
                    <a:pt x="560" y="561"/>
                  </a:lnTo>
                  <a:lnTo>
                    <a:pt x="622" y="503"/>
                  </a:lnTo>
                  <a:lnTo>
                    <a:pt x="686" y="446"/>
                  </a:lnTo>
                  <a:lnTo>
                    <a:pt x="753" y="394"/>
                  </a:lnTo>
                  <a:lnTo>
                    <a:pt x="822" y="345"/>
                  </a:lnTo>
                  <a:lnTo>
                    <a:pt x="894" y="299"/>
                  </a:lnTo>
                  <a:lnTo>
                    <a:pt x="968" y="256"/>
                  </a:lnTo>
                  <a:lnTo>
                    <a:pt x="1044" y="216"/>
                  </a:lnTo>
                  <a:lnTo>
                    <a:pt x="1123" y="182"/>
                  </a:lnTo>
                  <a:lnTo>
                    <a:pt x="1203" y="149"/>
                  </a:lnTo>
                  <a:lnTo>
                    <a:pt x="1285" y="121"/>
                  </a:lnTo>
                  <a:lnTo>
                    <a:pt x="1370" y="98"/>
                  </a:lnTo>
                  <a:lnTo>
                    <a:pt x="1455" y="78"/>
                  </a:lnTo>
                  <a:lnTo>
                    <a:pt x="1543" y="63"/>
                  </a:lnTo>
                  <a:lnTo>
                    <a:pt x="1631" y="51"/>
                  </a:lnTo>
                  <a:lnTo>
                    <a:pt x="1721" y="45"/>
                  </a:lnTo>
                  <a:lnTo>
                    <a:pt x="1812" y="43"/>
                  </a:lnTo>
                  <a:lnTo>
                    <a:pt x="1903" y="45"/>
                  </a:lnTo>
                  <a:lnTo>
                    <a:pt x="1993" y="51"/>
                  </a:lnTo>
                  <a:lnTo>
                    <a:pt x="2082" y="63"/>
                  </a:lnTo>
                  <a:lnTo>
                    <a:pt x="2169" y="78"/>
                  </a:lnTo>
                  <a:lnTo>
                    <a:pt x="2255" y="98"/>
                  </a:lnTo>
                  <a:lnTo>
                    <a:pt x="2339" y="121"/>
                  </a:lnTo>
                  <a:lnTo>
                    <a:pt x="2421" y="149"/>
                  </a:lnTo>
                  <a:lnTo>
                    <a:pt x="2501" y="182"/>
                  </a:lnTo>
                  <a:lnTo>
                    <a:pt x="2580" y="216"/>
                  </a:lnTo>
                  <a:lnTo>
                    <a:pt x="2657" y="256"/>
                  </a:lnTo>
                  <a:lnTo>
                    <a:pt x="2730" y="299"/>
                  </a:lnTo>
                  <a:lnTo>
                    <a:pt x="2802" y="345"/>
                  </a:lnTo>
                  <a:lnTo>
                    <a:pt x="2872" y="394"/>
                  </a:lnTo>
                  <a:lnTo>
                    <a:pt x="2939" y="446"/>
                  </a:lnTo>
                  <a:lnTo>
                    <a:pt x="3002" y="503"/>
                  </a:lnTo>
                  <a:lnTo>
                    <a:pt x="3064" y="561"/>
                  </a:lnTo>
                  <a:lnTo>
                    <a:pt x="3123" y="623"/>
                  </a:lnTo>
                  <a:lnTo>
                    <a:pt x="3179" y="686"/>
                  </a:lnTo>
                  <a:lnTo>
                    <a:pt x="3231" y="753"/>
                  </a:lnTo>
                  <a:lnTo>
                    <a:pt x="3280" y="822"/>
                  </a:lnTo>
                  <a:lnTo>
                    <a:pt x="3327" y="895"/>
                  </a:lnTo>
                  <a:lnTo>
                    <a:pt x="3370" y="969"/>
                  </a:lnTo>
                  <a:lnTo>
                    <a:pt x="3409" y="1045"/>
                  </a:lnTo>
                  <a:lnTo>
                    <a:pt x="3444" y="1124"/>
                  </a:lnTo>
                  <a:lnTo>
                    <a:pt x="3476" y="1204"/>
                  </a:lnTo>
                  <a:lnTo>
                    <a:pt x="3504" y="1286"/>
                  </a:lnTo>
                  <a:lnTo>
                    <a:pt x="3528" y="1370"/>
                  </a:lnTo>
                  <a:lnTo>
                    <a:pt x="3547" y="1455"/>
                  </a:lnTo>
                  <a:lnTo>
                    <a:pt x="3563" y="1543"/>
                  </a:lnTo>
                  <a:lnTo>
                    <a:pt x="3574" y="1631"/>
                  </a:lnTo>
                  <a:lnTo>
                    <a:pt x="3580" y="1721"/>
                  </a:lnTo>
                  <a:lnTo>
                    <a:pt x="3583" y="1813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62440" y="2286000"/>
              <a:ext cx="1422360" cy="1422360"/>
            </a:xfrm>
            <a:custGeom>
              <a:avLst/>
              <a:gdLst/>
              <a:ahLst/>
              <a:rect l="l" t="t" r="r" b="b"/>
              <a:pathLst>
                <a:path w="3584" h="3582">
                  <a:moveTo>
                    <a:pt x="3584" y="1792"/>
                  </a:moveTo>
                  <a:lnTo>
                    <a:pt x="3582" y="1699"/>
                  </a:lnTo>
                  <a:lnTo>
                    <a:pt x="3575" y="1608"/>
                  </a:lnTo>
                  <a:lnTo>
                    <a:pt x="3564" y="1518"/>
                  </a:lnTo>
                  <a:lnTo>
                    <a:pt x="3548" y="1431"/>
                  </a:lnTo>
                  <a:lnTo>
                    <a:pt x="3527" y="1343"/>
                  </a:lnTo>
                  <a:lnTo>
                    <a:pt x="3503" y="1259"/>
                  </a:lnTo>
                  <a:lnTo>
                    <a:pt x="3475" y="1176"/>
                  </a:lnTo>
                  <a:lnTo>
                    <a:pt x="3443" y="1094"/>
                  </a:lnTo>
                  <a:lnTo>
                    <a:pt x="3407" y="1015"/>
                  </a:lnTo>
                  <a:lnTo>
                    <a:pt x="3368" y="937"/>
                  </a:lnTo>
                  <a:lnTo>
                    <a:pt x="3325" y="863"/>
                  </a:lnTo>
                  <a:lnTo>
                    <a:pt x="3277" y="791"/>
                  </a:lnTo>
                  <a:lnTo>
                    <a:pt x="3228" y="720"/>
                  </a:lnTo>
                  <a:lnTo>
                    <a:pt x="3175" y="652"/>
                  </a:lnTo>
                  <a:lnTo>
                    <a:pt x="3119" y="587"/>
                  </a:lnTo>
                  <a:lnTo>
                    <a:pt x="3059" y="525"/>
                  </a:lnTo>
                  <a:lnTo>
                    <a:pt x="2996" y="465"/>
                  </a:lnTo>
                  <a:lnTo>
                    <a:pt x="2932" y="409"/>
                  </a:lnTo>
                  <a:lnTo>
                    <a:pt x="2865" y="356"/>
                  </a:lnTo>
                  <a:lnTo>
                    <a:pt x="2794" y="307"/>
                  </a:lnTo>
                  <a:lnTo>
                    <a:pt x="2721" y="260"/>
                  </a:lnTo>
                  <a:lnTo>
                    <a:pt x="2646" y="217"/>
                  </a:lnTo>
                  <a:lnTo>
                    <a:pt x="2569" y="177"/>
                  </a:lnTo>
                  <a:lnTo>
                    <a:pt x="2490" y="141"/>
                  </a:lnTo>
                  <a:lnTo>
                    <a:pt x="2409" y="109"/>
                  </a:lnTo>
                  <a:lnTo>
                    <a:pt x="2325" y="81"/>
                  </a:lnTo>
                  <a:lnTo>
                    <a:pt x="2240" y="57"/>
                  </a:lnTo>
                  <a:lnTo>
                    <a:pt x="2154" y="37"/>
                  </a:lnTo>
                  <a:lnTo>
                    <a:pt x="2065" y="22"/>
                  </a:lnTo>
                  <a:lnTo>
                    <a:pt x="1975" y="10"/>
                  </a:lnTo>
                  <a:lnTo>
                    <a:pt x="1885" y="3"/>
                  </a:lnTo>
                  <a:lnTo>
                    <a:pt x="1792" y="0"/>
                  </a:lnTo>
                  <a:lnTo>
                    <a:pt x="1700" y="3"/>
                  </a:lnTo>
                  <a:lnTo>
                    <a:pt x="1609" y="10"/>
                  </a:lnTo>
                  <a:lnTo>
                    <a:pt x="1519" y="22"/>
                  </a:lnTo>
                  <a:lnTo>
                    <a:pt x="1431" y="37"/>
                  </a:lnTo>
                  <a:lnTo>
                    <a:pt x="1344" y="57"/>
                  </a:lnTo>
                  <a:lnTo>
                    <a:pt x="1259" y="81"/>
                  </a:lnTo>
                  <a:lnTo>
                    <a:pt x="1176" y="109"/>
                  </a:lnTo>
                  <a:lnTo>
                    <a:pt x="1095" y="141"/>
                  </a:lnTo>
                  <a:lnTo>
                    <a:pt x="1016" y="177"/>
                  </a:lnTo>
                  <a:lnTo>
                    <a:pt x="938" y="217"/>
                  </a:lnTo>
                  <a:lnTo>
                    <a:pt x="863" y="260"/>
                  </a:lnTo>
                  <a:lnTo>
                    <a:pt x="790" y="307"/>
                  </a:lnTo>
                  <a:lnTo>
                    <a:pt x="720" y="356"/>
                  </a:lnTo>
                  <a:lnTo>
                    <a:pt x="653" y="409"/>
                  </a:lnTo>
                  <a:lnTo>
                    <a:pt x="588" y="465"/>
                  </a:lnTo>
                  <a:lnTo>
                    <a:pt x="525" y="525"/>
                  </a:lnTo>
                  <a:lnTo>
                    <a:pt x="466" y="587"/>
                  </a:lnTo>
                  <a:lnTo>
                    <a:pt x="410" y="652"/>
                  </a:lnTo>
                  <a:lnTo>
                    <a:pt x="357" y="720"/>
                  </a:lnTo>
                  <a:lnTo>
                    <a:pt x="306" y="791"/>
                  </a:lnTo>
                  <a:lnTo>
                    <a:pt x="259" y="863"/>
                  </a:lnTo>
                  <a:lnTo>
                    <a:pt x="216" y="937"/>
                  </a:lnTo>
                  <a:lnTo>
                    <a:pt x="177" y="1015"/>
                  </a:lnTo>
                  <a:lnTo>
                    <a:pt x="142" y="1094"/>
                  </a:lnTo>
                  <a:lnTo>
                    <a:pt x="109" y="1176"/>
                  </a:lnTo>
                  <a:lnTo>
                    <a:pt x="81" y="1259"/>
                  </a:lnTo>
                  <a:lnTo>
                    <a:pt x="56" y="1343"/>
                  </a:lnTo>
                  <a:lnTo>
                    <a:pt x="37" y="1431"/>
                  </a:lnTo>
                  <a:lnTo>
                    <a:pt x="21" y="1518"/>
                  </a:lnTo>
                  <a:lnTo>
                    <a:pt x="10" y="1608"/>
                  </a:lnTo>
                  <a:lnTo>
                    <a:pt x="2" y="1699"/>
                  </a:lnTo>
                  <a:lnTo>
                    <a:pt x="0" y="1792"/>
                  </a:lnTo>
                  <a:lnTo>
                    <a:pt x="2" y="1883"/>
                  </a:lnTo>
                  <a:lnTo>
                    <a:pt x="10" y="1974"/>
                  </a:lnTo>
                  <a:lnTo>
                    <a:pt x="21" y="2064"/>
                  </a:lnTo>
                  <a:lnTo>
                    <a:pt x="37" y="2152"/>
                  </a:lnTo>
                  <a:lnTo>
                    <a:pt x="56" y="2239"/>
                  </a:lnTo>
                  <a:lnTo>
                    <a:pt x="81" y="2324"/>
                  </a:lnTo>
                  <a:lnTo>
                    <a:pt x="109" y="2407"/>
                  </a:lnTo>
                  <a:lnTo>
                    <a:pt x="142" y="2488"/>
                  </a:lnTo>
                  <a:lnTo>
                    <a:pt x="177" y="2568"/>
                  </a:lnTo>
                  <a:lnTo>
                    <a:pt x="216" y="2645"/>
                  </a:lnTo>
                  <a:lnTo>
                    <a:pt x="259" y="2720"/>
                  </a:lnTo>
                  <a:lnTo>
                    <a:pt x="306" y="2793"/>
                  </a:lnTo>
                  <a:lnTo>
                    <a:pt x="357" y="2863"/>
                  </a:lnTo>
                  <a:lnTo>
                    <a:pt x="410" y="2931"/>
                  </a:lnTo>
                  <a:lnTo>
                    <a:pt x="466" y="2996"/>
                  </a:lnTo>
                  <a:lnTo>
                    <a:pt x="525" y="3057"/>
                  </a:lnTo>
                  <a:lnTo>
                    <a:pt x="588" y="3117"/>
                  </a:lnTo>
                  <a:lnTo>
                    <a:pt x="653" y="3173"/>
                  </a:lnTo>
                  <a:lnTo>
                    <a:pt x="720" y="3227"/>
                  </a:lnTo>
                  <a:lnTo>
                    <a:pt x="790" y="3277"/>
                  </a:lnTo>
                  <a:lnTo>
                    <a:pt x="863" y="3323"/>
                  </a:lnTo>
                  <a:lnTo>
                    <a:pt x="938" y="3366"/>
                  </a:lnTo>
                  <a:lnTo>
                    <a:pt x="1016" y="3405"/>
                  </a:lnTo>
                  <a:lnTo>
                    <a:pt x="1095" y="3442"/>
                  </a:lnTo>
                  <a:lnTo>
                    <a:pt x="1176" y="3473"/>
                  </a:lnTo>
                  <a:lnTo>
                    <a:pt x="1259" y="3501"/>
                  </a:lnTo>
                  <a:lnTo>
                    <a:pt x="1344" y="3526"/>
                  </a:lnTo>
                  <a:lnTo>
                    <a:pt x="1431" y="3546"/>
                  </a:lnTo>
                  <a:lnTo>
                    <a:pt x="1519" y="3562"/>
                  </a:lnTo>
                  <a:lnTo>
                    <a:pt x="1609" y="3573"/>
                  </a:lnTo>
                  <a:lnTo>
                    <a:pt x="1700" y="3580"/>
                  </a:lnTo>
                  <a:lnTo>
                    <a:pt x="1792" y="3582"/>
                  </a:lnTo>
                  <a:lnTo>
                    <a:pt x="1885" y="3580"/>
                  </a:lnTo>
                  <a:lnTo>
                    <a:pt x="1975" y="3573"/>
                  </a:lnTo>
                  <a:lnTo>
                    <a:pt x="2065" y="3562"/>
                  </a:lnTo>
                  <a:lnTo>
                    <a:pt x="2154" y="3546"/>
                  </a:lnTo>
                  <a:lnTo>
                    <a:pt x="2240" y="3526"/>
                  </a:lnTo>
                  <a:lnTo>
                    <a:pt x="2325" y="3501"/>
                  </a:lnTo>
                  <a:lnTo>
                    <a:pt x="2409" y="3473"/>
                  </a:lnTo>
                  <a:lnTo>
                    <a:pt x="2490" y="3442"/>
                  </a:lnTo>
                  <a:lnTo>
                    <a:pt x="2569" y="3405"/>
                  </a:lnTo>
                  <a:lnTo>
                    <a:pt x="2646" y="3366"/>
                  </a:lnTo>
                  <a:lnTo>
                    <a:pt x="2721" y="3323"/>
                  </a:lnTo>
                  <a:lnTo>
                    <a:pt x="2794" y="3277"/>
                  </a:lnTo>
                  <a:lnTo>
                    <a:pt x="2865" y="3227"/>
                  </a:lnTo>
                  <a:lnTo>
                    <a:pt x="2932" y="3173"/>
                  </a:lnTo>
                  <a:lnTo>
                    <a:pt x="2996" y="3117"/>
                  </a:lnTo>
                  <a:lnTo>
                    <a:pt x="3059" y="3057"/>
                  </a:lnTo>
                  <a:lnTo>
                    <a:pt x="3119" y="2996"/>
                  </a:lnTo>
                  <a:lnTo>
                    <a:pt x="3175" y="2931"/>
                  </a:lnTo>
                  <a:lnTo>
                    <a:pt x="3228" y="2863"/>
                  </a:lnTo>
                  <a:lnTo>
                    <a:pt x="3277" y="2793"/>
                  </a:lnTo>
                  <a:lnTo>
                    <a:pt x="3325" y="2720"/>
                  </a:lnTo>
                  <a:lnTo>
                    <a:pt x="3368" y="2645"/>
                  </a:lnTo>
                  <a:lnTo>
                    <a:pt x="3407" y="2568"/>
                  </a:lnTo>
                  <a:lnTo>
                    <a:pt x="3443" y="2488"/>
                  </a:lnTo>
                  <a:lnTo>
                    <a:pt x="3475" y="2407"/>
                  </a:lnTo>
                  <a:lnTo>
                    <a:pt x="3503" y="2324"/>
                  </a:lnTo>
                  <a:lnTo>
                    <a:pt x="3527" y="2239"/>
                  </a:lnTo>
                  <a:lnTo>
                    <a:pt x="3548" y="2152"/>
                  </a:lnTo>
                  <a:lnTo>
                    <a:pt x="3564" y="2064"/>
                  </a:lnTo>
                  <a:lnTo>
                    <a:pt x="3575" y="1974"/>
                  </a:lnTo>
                  <a:lnTo>
                    <a:pt x="3582" y="1883"/>
                  </a:lnTo>
                  <a:lnTo>
                    <a:pt x="3584" y="1792"/>
                  </a:lnTo>
                  <a:close/>
                  <a:moveTo>
                    <a:pt x="3542" y="1792"/>
                  </a:moveTo>
                  <a:lnTo>
                    <a:pt x="3540" y="1881"/>
                  </a:lnTo>
                  <a:lnTo>
                    <a:pt x="3533" y="1970"/>
                  </a:lnTo>
                  <a:lnTo>
                    <a:pt x="3522" y="2057"/>
                  </a:lnTo>
                  <a:lnTo>
                    <a:pt x="3506" y="2144"/>
                  </a:lnTo>
                  <a:lnTo>
                    <a:pt x="3487" y="2229"/>
                  </a:lnTo>
                  <a:lnTo>
                    <a:pt x="3463" y="2311"/>
                  </a:lnTo>
                  <a:lnTo>
                    <a:pt x="3436" y="2393"/>
                  </a:lnTo>
                  <a:lnTo>
                    <a:pt x="3405" y="2472"/>
                  </a:lnTo>
                  <a:lnTo>
                    <a:pt x="3369" y="2550"/>
                  </a:lnTo>
                  <a:lnTo>
                    <a:pt x="3331" y="2625"/>
                  </a:lnTo>
                  <a:lnTo>
                    <a:pt x="3289" y="2699"/>
                  </a:lnTo>
                  <a:lnTo>
                    <a:pt x="3243" y="2769"/>
                  </a:lnTo>
                  <a:lnTo>
                    <a:pt x="3194" y="2838"/>
                  </a:lnTo>
                  <a:lnTo>
                    <a:pt x="3142" y="2904"/>
                  </a:lnTo>
                  <a:lnTo>
                    <a:pt x="3087" y="2968"/>
                  </a:lnTo>
                  <a:lnTo>
                    <a:pt x="3030" y="3028"/>
                  </a:lnTo>
                  <a:lnTo>
                    <a:pt x="2968" y="3087"/>
                  </a:lnTo>
                  <a:lnTo>
                    <a:pt x="2906" y="3142"/>
                  </a:lnTo>
                  <a:lnTo>
                    <a:pt x="2839" y="3194"/>
                  </a:lnTo>
                  <a:lnTo>
                    <a:pt x="2771" y="3242"/>
                  </a:lnTo>
                  <a:lnTo>
                    <a:pt x="2699" y="3287"/>
                  </a:lnTo>
                  <a:lnTo>
                    <a:pt x="2626" y="3330"/>
                  </a:lnTo>
                  <a:lnTo>
                    <a:pt x="2551" y="3368"/>
                  </a:lnTo>
                  <a:lnTo>
                    <a:pt x="2473" y="3403"/>
                  </a:lnTo>
                  <a:lnTo>
                    <a:pt x="2394" y="3434"/>
                  </a:lnTo>
                  <a:lnTo>
                    <a:pt x="2312" y="3462"/>
                  </a:lnTo>
                  <a:lnTo>
                    <a:pt x="2229" y="3485"/>
                  </a:lnTo>
                  <a:lnTo>
                    <a:pt x="2145" y="3506"/>
                  </a:lnTo>
                  <a:lnTo>
                    <a:pt x="2059" y="3521"/>
                  </a:lnTo>
                  <a:lnTo>
                    <a:pt x="1971" y="3532"/>
                  </a:lnTo>
                  <a:lnTo>
                    <a:pt x="1882" y="3538"/>
                  </a:lnTo>
                  <a:lnTo>
                    <a:pt x="1792" y="3540"/>
                  </a:lnTo>
                  <a:lnTo>
                    <a:pt x="1702" y="3538"/>
                  </a:lnTo>
                  <a:lnTo>
                    <a:pt x="1613" y="3532"/>
                  </a:lnTo>
                  <a:lnTo>
                    <a:pt x="1526" y="3521"/>
                  </a:lnTo>
                  <a:lnTo>
                    <a:pt x="1439" y="3506"/>
                  </a:lnTo>
                  <a:lnTo>
                    <a:pt x="1355" y="3485"/>
                  </a:lnTo>
                  <a:lnTo>
                    <a:pt x="1272" y="3462"/>
                  </a:lnTo>
                  <a:lnTo>
                    <a:pt x="1191" y="3434"/>
                  </a:lnTo>
                  <a:lnTo>
                    <a:pt x="1111" y="3403"/>
                  </a:lnTo>
                  <a:lnTo>
                    <a:pt x="1033" y="3368"/>
                  </a:lnTo>
                  <a:lnTo>
                    <a:pt x="957" y="3330"/>
                  </a:lnTo>
                  <a:lnTo>
                    <a:pt x="885" y="3287"/>
                  </a:lnTo>
                  <a:lnTo>
                    <a:pt x="814" y="3242"/>
                  </a:lnTo>
                  <a:lnTo>
                    <a:pt x="745" y="3194"/>
                  </a:lnTo>
                  <a:lnTo>
                    <a:pt x="679" y="3142"/>
                  </a:lnTo>
                  <a:lnTo>
                    <a:pt x="615" y="3087"/>
                  </a:lnTo>
                  <a:lnTo>
                    <a:pt x="554" y="3028"/>
                  </a:lnTo>
                  <a:lnTo>
                    <a:pt x="497" y="2968"/>
                  </a:lnTo>
                  <a:lnTo>
                    <a:pt x="442" y="2904"/>
                  </a:lnTo>
                  <a:lnTo>
                    <a:pt x="390" y="2838"/>
                  </a:lnTo>
                  <a:lnTo>
                    <a:pt x="340" y="2769"/>
                  </a:lnTo>
                  <a:lnTo>
                    <a:pt x="295" y="2699"/>
                  </a:lnTo>
                  <a:lnTo>
                    <a:pt x="253" y="2625"/>
                  </a:lnTo>
                  <a:lnTo>
                    <a:pt x="215" y="2550"/>
                  </a:lnTo>
                  <a:lnTo>
                    <a:pt x="179" y="2472"/>
                  </a:lnTo>
                  <a:lnTo>
                    <a:pt x="148" y="2393"/>
                  </a:lnTo>
                  <a:lnTo>
                    <a:pt x="121" y="2311"/>
                  </a:lnTo>
                  <a:lnTo>
                    <a:pt x="97" y="2229"/>
                  </a:lnTo>
                  <a:lnTo>
                    <a:pt x="78" y="2144"/>
                  </a:lnTo>
                  <a:lnTo>
                    <a:pt x="63" y="2057"/>
                  </a:lnTo>
                  <a:lnTo>
                    <a:pt x="51" y="1970"/>
                  </a:lnTo>
                  <a:lnTo>
                    <a:pt x="44" y="1881"/>
                  </a:lnTo>
                  <a:lnTo>
                    <a:pt x="42" y="1792"/>
                  </a:lnTo>
                  <a:lnTo>
                    <a:pt x="44" y="1701"/>
                  </a:lnTo>
                  <a:lnTo>
                    <a:pt x="51" y="1612"/>
                  </a:lnTo>
                  <a:lnTo>
                    <a:pt x="63" y="1525"/>
                  </a:lnTo>
                  <a:lnTo>
                    <a:pt x="78" y="1439"/>
                  </a:lnTo>
                  <a:lnTo>
                    <a:pt x="97" y="1354"/>
                  </a:lnTo>
                  <a:lnTo>
                    <a:pt x="121" y="1271"/>
                  </a:lnTo>
                  <a:lnTo>
                    <a:pt x="148" y="1190"/>
                  </a:lnTo>
                  <a:lnTo>
                    <a:pt x="179" y="1110"/>
                  </a:lnTo>
                  <a:lnTo>
                    <a:pt x="215" y="1034"/>
                  </a:lnTo>
                  <a:lnTo>
                    <a:pt x="253" y="958"/>
                  </a:lnTo>
                  <a:lnTo>
                    <a:pt x="295" y="884"/>
                  </a:lnTo>
                  <a:lnTo>
                    <a:pt x="340" y="813"/>
                  </a:lnTo>
                  <a:lnTo>
                    <a:pt x="390" y="745"/>
                  </a:lnTo>
                  <a:lnTo>
                    <a:pt x="442" y="679"/>
                  </a:lnTo>
                  <a:lnTo>
                    <a:pt x="497" y="616"/>
                  </a:lnTo>
                  <a:lnTo>
                    <a:pt x="554" y="554"/>
                  </a:lnTo>
                  <a:lnTo>
                    <a:pt x="615" y="497"/>
                  </a:lnTo>
                  <a:lnTo>
                    <a:pt x="679" y="442"/>
                  </a:lnTo>
                  <a:lnTo>
                    <a:pt x="745" y="390"/>
                  </a:lnTo>
                  <a:lnTo>
                    <a:pt x="814" y="341"/>
                  </a:lnTo>
                  <a:lnTo>
                    <a:pt x="885" y="296"/>
                  </a:lnTo>
                  <a:lnTo>
                    <a:pt x="957" y="254"/>
                  </a:lnTo>
                  <a:lnTo>
                    <a:pt x="1033" y="215"/>
                  </a:lnTo>
                  <a:lnTo>
                    <a:pt x="1111" y="179"/>
                  </a:lnTo>
                  <a:lnTo>
                    <a:pt x="1191" y="148"/>
                  </a:lnTo>
                  <a:lnTo>
                    <a:pt x="1272" y="121"/>
                  </a:lnTo>
                  <a:lnTo>
                    <a:pt x="1355" y="97"/>
                  </a:lnTo>
                  <a:lnTo>
                    <a:pt x="1439" y="78"/>
                  </a:lnTo>
                  <a:lnTo>
                    <a:pt x="1526" y="63"/>
                  </a:lnTo>
                  <a:lnTo>
                    <a:pt x="1613" y="51"/>
                  </a:lnTo>
                  <a:lnTo>
                    <a:pt x="1702" y="44"/>
                  </a:lnTo>
                  <a:lnTo>
                    <a:pt x="1792" y="42"/>
                  </a:lnTo>
                  <a:lnTo>
                    <a:pt x="1882" y="44"/>
                  </a:lnTo>
                  <a:lnTo>
                    <a:pt x="1971" y="51"/>
                  </a:lnTo>
                  <a:lnTo>
                    <a:pt x="2059" y="63"/>
                  </a:lnTo>
                  <a:lnTo>
                    <a:pt x="2145" y="78"/>
                  </a:lnTo>
                  <a:lnTo>
                    <a:pt x="2229" y="97"/>
                  </a:lnTo>
                  <a:lnTo>
                    <a:pt x="2312" y="121"/>
                  </a:lnTo>
                  <a:lnTo>
                    <a:pt x="2394" y="148"/>
                  </a:lnTo>
                  <a:lnTo>
                    <a:pt x="2473" y="179"/>
                  </a:lnTo>
                  <a:lnTo>
                    <a:pt x="2551" y="215"/>
                  </a:lnTo>
                  <a:lnTo>
                    <a:pt x="2626" y="254"/>
                  </a:lnTo>
                  <a:lnTo>
                    <a:pt x="2699" y="296"/>
                  </a:lnTo>
                  <a:lnTo>
                    <a:pt x="2771" y="341"/>
                  </a:lnTo>
                  <a:lnTo>
                    <a:pt x="2839" y="390"/>
                  </a:lnTo>
                  <a:lnTo>
                    <a:pt x="2906" y="442"/>
                  </a:lnTo>
                  <a:lnTo>
                    <a:pt x="2968" y="497"/>
                  </a:lnTo>
                  <a:lnTo>
                    <a:pt x="3030" y="554"/>
                  </a:lnTo>
                  <a:lnTo>
                    <a:pt x="3087" y="616"/>
                  </a:lnTo>
                  <a:lnTo>
                    <a:pt x="3142" y="679"/>
                  </a:lnTo>
                  <a:lnTo>
                    <a:pt x="3194" y="745"/>
                  </a:lnTo>
                  <a:lnTo>
                    <a:pt x="3243" y="813"/>
                  </a:lnTo>
                  <a:lnTo>
                    <a:pt x="3289" y="884"/>
                  </a:lnTo>
                  <a:lnTo>
                    <a:pt x="3331" y="958"/>
                  </a:lnTo>
                  <a:lnTo>
                    <a:pt x="3369" y="1034"/>
                  </a:lnTo>
                  <a:lnTo>
                    <a:pt x="3405" y="1110"/>
                  </a:lnTo>
                  <a:lnTo>
                    <a:pt x="3436" y="1190"/>
                  </a:lnTo>
                  <a:lnTo>
                    <a:pt x="3463" y="1271"/>
                  </a:lnTo>
                  <a:lnTo>
                    <a:pt x="3487" y="1354"/>
                  </a:lnTo>
                  <a:lnTo>
                    <a:pt x="3506" y="1439"/>
                  </a:lnTo>
                  <a:lnTo>
                    <a:pt x="3522" y="1525"/>
                  </a:lnTo>
                  <a:lnTo>
                    <a:pt x="3533" y="1612"/>
                  </a:lnTo>
                  <a:lnTo>
                    <a:pt x="3540" y="1701"/>
                  </a:lnTo>
                  <a:lnTo>
                    <a:pt x="3542" y="179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1800" y="2295360"/>
              <a:ext cx="1405080" cy="1405080"/>
            </a:xfrm>
            <a:custGeom>
              <a:avLst/>
              <a:gdLst/>
              <a:ahLst/>
              <a:rect l="l" t="t" r="r" b="b"/>
              <a:pathLst>
                <a:path w="3541" h="3540">
                  <a:moveTo>
                    <a:pt x="3541" y="1770"/>
                  </a:moveTo>
                  <a:lnTo>
                    <a:pt x="3538" y="1678"/>
                  </a:lnTo>
                  <a:lnTo>
                    <a:pt x="3532" y="1588"/>
                  </a:lnTo>
                  <a:lnTo>
                    <a:pt x="3521" y="1500"/>
                  </a:lnTo>
                  <a:lnTo>
                    <a:pt x="3505" y="1412"/>
                  </a:lnTo>
                  <a:lnTo>
                    <a:pt x="3486" y="1327"/>
                  </a:lnTo>
                  <a:lnTo>
                    <a:pt x="3462" y="1243"/>
                  </a:lnTo>
                  <a:lnTo>
                    <a:pt x="3434" y="1161"/>
                  </a:lnTo>
                  <a:lnTo>
                    <a:pt x="3402" y="1081"/>
                  </a:lnTo>
                  <a:lnTo>
                    <a:pt x="3367" y="1002"/>
                  </a:lnTo>
                  <a:lnTo>
                    <a:pt x="3328" y="926"/>
                  </a:lnTo>
                  <a:lnTo>
                    <a:pt x="3285" y="852"/>
                  </a:lnTo>
                  <a:lnTo>
                    <a:pt x="3238" y="779"/>
                  </a:lnTo>
                  <a:lnTo>
                    <a:pt x="3189" y="710"/>
                  </a:lnTo>
                  <a:lnTo>
                    <a:pt x="3137" y="643"/>
                  </a:lnTo>
                  <a:lnTo>
                    <a:pt x="3081" y="580"/>
                  </a:lnTo>
                  <a:lnTo>
                    <a:pt x="3022" y="518"/>
                  </a:lnTo>
                  <a:lnTo>
                    <a:pt x="2960" y="460"/>
                  </a:lnTo>
                  <a:lnTo>
                    <a:pt x="2897" y="403"/>
                  </a:lnTo>
                  <a:lnTo>
                    <a:pt x="2830" y="351"/>
                  </a:lnTo>
                  <a:lnTo>
                    <a:pt x="2760" y="302"/>
                  </a:lnTo>
                  <a:lnTo>
                    <a:pt x="2688" y="256"/>
                  </a:lnTo>
                  <a:lnTo>
                    <a:pt x="2615" y="213"/>
                  </a:lnTo>
                  <a:lnTo>
                    <a:pt x="2538" y="173"/>
                  </a:lnTo>
                  <a:lnTo>
                    <a:pt x="2459" y="139"/>
                  </a:lnTo>
                  <a:lnTo>
                    <a:pt x="2379" y="106"/>
                  </a:lnTo>
                  <a:lnTo>
                    <a:pt x="2297" y="78"/>
                  </a:lnTo>
                  <a:lnTo>
                    <a:pt x="2213" y="55"/>
                  </a:lnTo>
                  <a:lnTo>
                    <a:pt x="2127" y="35"/>
                  </a:lnTo>
                  <a:lnTo>
                    <a:pt x="2040" y="20"/>
                  </a:lnTo>
                  <a:lnTo>
                    <a:pt x="1951" y="8"/>
                  </a:lnTo>
                  <a:lnTo>
                    <a:pt x="1861" y="2"/>
                  </a:lnTo>
                  <a:lnTo>
                    <a:pt x="1770" y="0"/>
                  </a:lnTo>
                  <a:lnTo>
                    <a:pt x="1679" y="2"/>
                  </a:lnTo>
                  <a:lnTo>
                    <a:pt x="1589" y="8"/>
                  </a:lnTo>
                  <a:lnTo>
                    <a:pt x="1501" y="20"/>
                  </a:lnTo>
                  <a:lnTo>
                    <a:pt x="1413" y="35"/>
                  </a:lnTo>
                  <a:lnTo>
                    <a:pt x="1328" y="55"/>
                  </a:lnTo>
                  <a:lnTo>
                    <a:pt x="1243" y="78"/>
                  </a:lnTo>
                  <a:lnTo>
                    <a:pt x="1161" y="106"/>
                  </a:lnTo>
                  <a:lnTo>
                    <a:pt x="1081" y="139"/>
                  </a:lnTo>
                  <a:lnTo>
                    <a:pt x="1002" y="173"/>
                  </a:lnTo>
                  <a:lnTo>
                    <a:pt x="926" y="213"/>
                  </a:lnTo>
                  <a:lnTo>
                    <a:pt x="852" y="256"/>
                  </a:lnTo>
                  <a:lnTo>
                    <a:pt x="780" y="302"/>
                  </a:lnTo>
                  <a:lnTo>
                    <a:pt x="711" y="351"/>
                  </a:lnTo>
                  <a:lnTo>
                    <a:pt x="644" y="403"/>
                  </a:lnTo>
                  <a:lnTo>
                    <a:pt x="580" y="460"/>
                  </a:lnTo>
                  <a:lnTo>
                    <a:pt x="518" y="518"/>
                  </a:lnTo>
                  <a:lnTo>
                    <a:pt x="459" y="580"/>
                  </a:lnTo>
                  <a:lnTo>
                    <a:pt x="404" y="643"/>
                  </a:lnTo>
                  <a:lnTo>
                    <a:pt x="351" y="710"/>
                  </a:lnTo>
                  <a:lnTo>
                    <a:pt x="301" y="779"/>
                  </a:lnTo>
                  <a:lnTo>
                    <a:pt x="256" y="852"/>
                  </a:lnTo>
                  <a:lnTo>
                    <a:pt x="213" y="926"/>
                  </a:lnTo>
                  <a:lnTo>
                    <a:pt x="174" y="1002"/>
                  </a:lnTo>
                  <a:lnTo>
                    <a:pt x="138" y="1081"/>
                  </a:lnTo>
                  <a:lnTo>
                    <a:pt x="107" y="1161"/>
                  </a:lnTo>
                  <a:lnTo>
                    <a:pt x="79" y="1243"/>
                  </a:lnTo>
                  <a:lnTo>
                    <a:pt x="55" y="1327"/>
                  </a:lnTo>
                  <a:lnTo>
                    <a:pt x="35" y="1412"/>
                  </a:lnTo>
                  <a:lnTo>
                    <a:pt x="19" y="1500"/>
                  </a:lnTo>
                  <a:lnTo>
                    <a:pt x="8" y="1588"/>
                  </a:lnTo>
                  <a:lnTo>
                    <a:pt x="2" y="1678"/>
                  </a:lnTo>
                  <a:lnTo>
                    <a:pt x="0" y="1770"/>
                  </a:lnTo>
                  <a:lnTo>
                    <a:pt x="2" y="1860"/>
                  </a:lnTo>
                  <a:lnTo>
                    <a:pt x="8" y="1950"/>
                  </a:lnTo>
                  <a:lnTo>
                    <a:pt x="19" y="2039"/>
                  </a:lnTo>
                  <a:lnTo>
                    <a:pt x="35" y="2126"/>
                  </a:lnTo>
                  <a:lnTo>
                    <a:pt x="55" y="2211"/>
                  </a:lnTo>
                  <a:lnTo>
                    <a:pt x="79" y="2296"/>
                  </a:lnTo>
                  <a:lnTo>
                    <a:pt x="107" y="2378"/>
                  </a:lnTo>
                  <a:lnTo>
                    <a:pt x="138" y="2459"/>
                  </a:lnTo>
                  <a:lnTo>
                    <a:pt x="174" y="2536"/>
                  </a:lnTo>
                  <a:lnTo>
                    <a:pt x="213" y="2613"/>
                  </a:lnTo>
                  <a:lnTo>
                    <a:pt x="256" y="2688"/>
                  </a:lnTo>
                  <a:lnTo>
                    <a:pt x="301" y="2759"/>
                  </a:lnTo>
                  <a:lnTo>
                    <a:pt x="351" y="2828"/>
                  </a:lnTo>
                  <a:lnTo>
                    <a:pt x="404" y="2895"/>
                  </a:lnTo>
                  <a:lnTo>
                    <a:pt x="459" y="2960"/>
                  </a:lnTo>
                  <a:lnTo>
                    <a:pt x="518" y="3021"/>
                  </a:lnTo>
                  <a:lnTo>
                    <a:pt x="580" y="3080"/>
                  </a:lnTo>
                  <a:lnTo>
                    <a:pt x="644" y="3135"/>
                  </a:lnTo>
                  <a:lnTo>
                    <a:pt x="711" y="3188"/>
                  </a:lnTo>
                  <a:lnTo>
                    <a:pt x="780" y="3237"/>
                  </a:lnTo>
                  <a:lnTo>
                    <a:pt x="852" y="3283"/>
                  </a:lnTo>
                  <a:lnTo>
                    <a:pt x="926" y="3326"/>
                  </a:lnTo>
                  <a:lnTo>
                    <a:pt x="1002" y="3365"/>
                  </a:lnTo>
                  <a:lnTo>
                    <a:pt x="1081" y="3400"/>
                  </a:lnTo>
                  <a:lnTo>
                    <a:pt x="1161" y="3432"/>
                  </a:lnTo>
                  <a:lnTo>
                    <a:pt x="1243" y="3460"/>
                  </a:lnTo>
                  <a:lnTo>
                    <a:pt x="1328" y="3484"/>
                  </a:lnTo>
                  <a:lnTo>
                    <a:pt x="1413" y="3503"/>
                  </a:lnTo>
                  <a:lnTo>
                    <a:pt x="1501" y="3519"/>
                  </a:lnTo>
                  <a:lnTo>
                    <a:pt x="1589" y="3530"/>
                  </a:lnTo>
                  <a:lnTo>
                    <a:pt x="1679" y="3538"/>
                  </a:lnTo>
                  <a:lnTo>
                    <a:pt x="1770" y="3540"/>
                  </a:lnTo>
                  <a:lnTo>
                    <a:pt x="1861" y="3538"/>
                  </a:lnTo>
                  <a:lnTo>
                    <a:pt x="1951" y="3530"/>
                  </a:lnTo>
                  <a:lnTo>
                    <a:pt x="2040" y="3519"/>
                  </a:lnTo>
                  <a:lnTo>
                    <a:pt x="2127" y="3503"/>
                  </a:lnTo>
                  <a:lnTo>
                    <a:pt x="2213" y="3484"/>
                  </a:lnTo>
                  <a:lnTo>
                    <a:pt x="2297" y="3460"/>
                  </a:lnTo>
                  <a:lnTo>
                    <a:pt x="2379" y="3432"/>
                  </a:lnTo>
                  <a:lnTo>
                    <a:pt x="2459" y="3400"/>
                  </a:lnTo>
                  <a:lnTo>
                    <a:pt x="2538" y="3365"/>
                  </a:lnTo>
                  <a:lnTo>
                    <a:pt x="2615" y="3326"/>
                  </a:lnTo>
                  <a:lnTo>
                    <a:pt x="2688" y="3283"/>
                  </a:lnTo>
                  <a:lnTo>
                    <a:pt x="2760" y="3237"/>
                  </a:lnTo>
                  <a:lnTo>
                    <a:pt x="2830" y="3188"/>
                  </a:lnTo>
                  <a:lnTo>
                    <a:pt x="2897" y="3135"/>
                  </a:lnTo>
                  <a:lnTo>
                    <a:pt x="2960" y="3080"/>
                  </a:lnTo>
                  <a:lnTo>
                    <a:pt x="3022" y="3021"/>
                  </a:lnTo>
                  <a:lnTo>
                    <a:pt x="3081" y="2960"/>
                  </a:lnTo>
                  <a:lnTo>
                    <a:pt x="3137" y="2895"/>
                  </a:lnTo>
                  <a:lnTo>
                    <a:pt x="3189" y="2828"/>
                  </a:lnTo>
                  <a:lnTo>
                    <a:pt x="3238" y="2759"/>
                  </a:lnTo>
                  <a:lnTo>
                    <a:pt x="3285" y="2688"/>
                  </a:lnTo>
                  <a:lnTo>
                    <a:pt x="3328" y="2613"/>
                  </a:lnTo>
                  <a:lnTo>
                    <a:pt x="3367" y="2536"/>
                  </a:lnTo>
                  <a:lnTo>
                    <a:pt x="3402" y="2459"/>
                  </a:lnTo>
                  <a:lnTo>
                    <a:pt x="3434" y="2378"/>
                  </a:lnTo>
                  <a:lnTo>
                    <a:pt x="3462" y="2296"/>
                  </a:lnTo>
                  <a:lnTo>
                    <a:pt x="3486" y="2211"/>
                  </a:lnTo>
                  <a:lnTo>
                    <a:pt x="3505" y="2126"/>
                  </a:lnTo>
                  <a:lnTo>
                    <a:pt x="3521" y="2039"/>
                  </a:lnTo>
                  <a:lnTo>
                    <a:pt x="3532" y="1950"/>
                  </a:lnTo>
                  <a:lnTo>
                    <a:pt x="3538" y="1860"/>
                  </a:lnTo>
                  <a:lnTo>
                    <a:pt x="3541" y="1770"/>
                  </a:lnTo>
                  <a:close/>
                  <a:moveTo>
                    <a:pt x="3500" y="1770"/>
                  </a:moveTo>
                  <a:lnTo>
                    <a:pt x="3497" y="1858"/>
                  </a:lnTo>
                  <a:lnTo>
                    <a:pt x="3491" y="1946"/>
                  </a:lnTo>
                  <a:lnTo>
                    <a:pt x="3479" y="2032"/>
                  </a:lnTo>
                  <a:lnTo>
                    <a:pt x="3464" y="2117"/>
                  </a:lnTo>
                  <a:lnTo>
                    <a:pt x="3444" y="2202"/>
                  </a:lnTo>
                  <a:lnTo>
                    <a:pt x="3422" y="2284"/>
                  </a:lnTo>
                  <a:lnTo>
                    <a:pt x="3395" y="2364"/>
                  </a:lnTo>
                  <a:lnTo>
                    <a:pt x="3363" y="2443"/>
                  </a:lnTo>
                  <a:lnTo>
                    <a:pt x="3329" y="2519"/>
                  </a:lnTo>
                  <a:lnTo>
                    <a:pt x="3291" y="2594"/>
                  </a:lnTo>
                  <a:lnTo>
                    <a:pt x="3249" y="2666"/>
                  </a:lnTo>
                  <a:lnTo>
                    <a:pt x="3204" y="2736"/>
                  </a:lnTo>
                  <a:lnTo>
                    <a:pt x="3156" y="2803"/>
                  </a:lnTo>
                  <a:lnTo>
                    <a:pt x="3104" y="2869"/>
                  </a:lnTo>
                  <a:lnTo>
                    <a:pt x="3050" y="2932"/>
                  </a:lnTo>
                  <a:lnTo>
                    <a:pt x="2993" y="2991"/>
                  </a:lnTo>
                  <a:lnTo>
                    <a:pt x="2932" y="3048"/>
                  </a:lnTo>
                  <a:lnTo>
                    <a:pt x="2870" y="3103"/>
                  </a:lnTo>
                  <a:lnTo>
                    <a:pt x="2805" y="3154"/>
                  </a:lnTo>
                  <a:lnTo>
                    <a:pt x="2737" y="3203"/>
                  </a:lnTo>
                  <a:lnTo>
                    <a:pt x="2666" y="3247"/>
                  </a:lnTo>
                  <a:lnTo>
                    <a:pt x="2594" y="3289"/>
                  </a:lnTo>
                  <a:lnTo>
                    <a:pt x="2520" y="3327"/>
                  </a:lnTo>
                  <a:lnTo>
                    <a:pt x="2443" y="3362"/>
                  </a:lnTo>
                  <a:lnTo>
                    <a:pt x="2365" y="3393"/>
                  </a:lnTo>
                  <a:lnTo>
                    <a:pt x="2284" y="3420"/>
                  </a:lnTo>
                  <a:lnTo>
                    <a:pt x="2202" y="3444"/>
                  </a:lnTo>
                  <a:lnTo>
                    <a:pt x="2119" y="3463"/>
                  </a:lnTo>
                  <a:lnTo>
                    <a:pt x="2033" y="3478"/>
                  </a:lnTo>
                  <a:lnTo>
                    <a:pt x="1947" y="3489"/>
                  </a:lnTo>
                  <a:lnTo>
                    <a:pt x="1859" y="3496"/>
                  </a:lnTo>
                  <a:lnTo>
                    <a:pt x="1770" y="3498"/>
                  </a:lnTo>
                  <a:lnTo>
                    <a:pt x="1681" y="3496"/>
                  </a:lnTo>
                  <a:lnTo>
                    <a:pt x="1594" y="3489"/>
                  </a:lnTo>
                  <a:lnTo>
                    <a:pt x="1507" y="3478"/>
                  </a:lnTo>
                  <a:lnTo>
                    <a:pt x="1422" y="3463"/>
                  </a:lnTo>
                  <a:lnTo>
                    <a:pt x="1339" y="3444"/>
                  </a:lnTo>
                  <a:lnTo>
                    <a:pt x="1256" y="3420"/>
                  </a:lnTo>
                  <a:lnTo>
                    <a:pt x="1175" y="3393"/>
                  </a:lnTo>
                  <a:lnTo>
                    <a:pt x="1098" y="3362"/>
                  </a:lnTo>
                  <a:lnTo>
                    <a:pt x="1021" y="3327"/>
                  </a:lnTo>
                  <a:lnTo>
                    <a:pt x="946" y="3289"/>
                  </a:lnTo>
                  <a:lnTo>
                    <a:pt x="874" y="3247"/>
                  </a:lnTo>
                  <a:lnTo>
                    <a:pt x="804" y="3203"/>
                  </a:lnTo>
                  <a:lnTo>
                    <a:pt x="736" y="3154"/>
                  </a:lnTo>
                  <a:lnTo>
                    <a:pt x="671" y="3103"/>
                  </a:lnTo>
                  <a:lnTo>
                    <a:pt x="607" y="3048"/>
                  </a:lnTo>
                  <a:lnTo>
                    <a:pt x="548" y="2991"/>
                  </a:lnTo>
                  <a:lnTo>
                    <a:pt x="490" y="2932"/>
                  </a:lnTo>
                  <a:lnTo>
                    <a:pt x="436" y="2869"/>
                  </a:lnTo>
                  <a:lnTo>
                    <a:pt x="384" y="2803"/>
                  </a:lnTo>
                  <a:lnTo>
                    <a:pt x="336" y="2736"/>
                  </a:lnTo>
                  <a:lnTo>
                    <a:pt x="291" y="2666"/>
                  </a:lnTo>
                  <a:lnTo>
                    <a:pt x="249" y="2594"/>
                  </a:lnTo>
                  <a:lnTo>
                    <a:pt x="212" y="2519"/>
                  </a:lnTo>
                  <a:lnTo>
                    <a:pt x="177" y="2443"/>
                  </a:lnTo>
                  <a:lnTo>
                    <a:pt x="146" y="2364"/>
                  </a:lnTo>
                  <a:lnTo>
                    <a:pt x="119" y="2284"/>
                  </a:lnTo>
                  <a:lnTo>
                    <a:pt x="96" y="2202"/>
                  </a:lnTo>
                  <a:lnTo>
                    <a:pt x="76" y="2117"/>
                  </a:lnTo>
                  <a:lnTo>
                    <a:pt x="61" y="2032"/>
                  </a:lnTo>
                  <a:lnTo>
                    <a:pt x="49" y="1946"/>
                  </a:lnTo>
                  <a:lnTo>
                    <a:pt x="43" y="1858"/>
                  </a:lnTo>
                  <a:lnTo>
                    <a:pt x="41" y="1770"/>
                  </a:lnTo>
                  <a:lnTo>
                    <a:pt x="43" y="1680"/>
                  </a:lnTo>
                  <a:lnTo>
                    <a:pt x="49" y="1593"/>
                  </a:lnTo>
                  <a:lnTo>
                    <a:pt x="61" y="1506"/>
                  </a:lnTo>
                  <a:lnTo>
                    <a:pt x="76" y="1421"/>
                  </a:lnTo>
                  <a:lnTo>
                    <a:pt x="96" y="1338"/>
                  </a:lnTo>
                  <a:lnTo>
                    <a:pt x="119" y="1256"/>
                  </a:lnTo>
                  <a:lnTo>
                    <a:pt x="146" y="1176"/>
                  </a:lnTo>
                  <a:lnTo>
                    <a:pt x="177" y="1097"/>
                  </a:lnTo>
                  <a:lnTo>
                    <a:pt x="212" y="1020"/>
                  </a:lnTo>
                  <a:lnTo>
                    <a:pt x="249" y="946"/>
                  </a:lnTo>
                  <a:lnTo>
                    <a:pt x="291" y="873"/>
                  </a:lnTo>
                  <a:lnTo>
                    <a:pt x="336" y="803"/>
                  </a:lnTo>
                  <a:lnTo>
                    <a:pt x="384" y="735"/>
                  </a:lnTo>
                  <a:lnTo>
                    <a:pt x="436" y="670"/>
                  </a:lnTo>
                  <a:lnTo>
                    <a:pt x="490" y="608"/>
                  </a:lnTo>
                  <a:lnTo>
                    <a:pt x="548" y="547"/>
                  </a:lnTo>
                  <a:lnTo>
                    <a:pt x="607" y="490"/>
                  </a:lnTo>
                  <a:lnTo>
                    <a:pt x="671" y="436"/>
                  </a:lnTo>
                  <a:lnTo>
                    <a:pt x="736" y="384"/>
                  </a:lnTo>
                  <a:lnTo>
                    <a:pt x="804" y="337"/>
                  </a:lnTo>
                  <a:lnTo>
                    <a:pt x="874" y="291"/>
                  </a:lnTo>
                  <a:lnTo>
                    <a:pt x="946" y="250"/>
                  </a:lnTo>
                  <a:lnTo>
                    <a:pt x="1021" y="211"/>
                  </a:lnTo>
                  <a:lnTo>
                    <a:pt x="1098" y="177"/>
                  </a:lnTo>
                  <a:lnTo>
                    <a:pt x="1175" y="145"/>
                  </a:lnTo>
                  <a:lnTo>
                    <a:pt x="1256" y="118"/>
                  </a:lnTo>
                  <a:lnTo>
                    <a:pt x="1339" y="96"/>
                  </a:lnTo>
                  <a:lnTo>
                    <a:pt x="1422" y="76"/>
                  </a:lnTo>
                  <a:lnTo>
                    <a:pt x="1507" y="61"/>
                  </a:lnTo>
                  <a:lnTo>
                    <a:pt x="1594" y="50"/>
                  </a:lnTo>
                  <a:lnTo>
                    <a:pt x="1681" y="43"/>
                  </a:lnTo>
                  <a:lnTo>
                    <a:pt x="1770" y="41"/>
                  </a:lnTo>
                  <a:lnTo>
                    <a:pt x="1859" y="43"/>
                  </a:lnTo>
                  <a:lnTo>
                    <a:pt x="1947" y="50"/>
                  </a:lnTo>
                  <a:lnTo>
                    <a:pt x="2033" y="61"/>
                  </a:lnTo>
                  <a:lnTo>
                    <a:pt x="2119" y="76"/>
                  </a:lnTo>
                  <a:lnTo>
                    <a:pt x="2202" y="96"/>
                  </a:lnTo>
                  <a:lnTo>
                    <a:pt x="2284" y="118"/>
                  </a:lnTo>
                  <a:lnTo>
                    <a:pt x="2365" y="145"/>
                  </a:lnTo>
                  <a:lnTo>
                    <a:pt x="2443" y="177"/>
                  </a:lnTo>
                  <a:lnTo>
                    <a:pt x="2520" y="211"/>
                  </a:lnTo>
                  <a:lnTo>
                    <a:pt x="2594" y="250"/>
                  </a:lnTo>
                  <a:lnTo>
                    <a:pt x="2666" y="291"/>
                  </a:lnTo>
                  <a:lnTo>
                    <a:pt x="2737" y="337"/>
                  </a:lnTo>
                  <a:lnTo>
                    <a:pt x="2805" y="384"/>
                  </a:lnTo>
                  <a:lnTo>
                    <a:pt x="2870" y="436"/>
                  </a:lnTo>
                  <a:lnTo>
                    <a:pt x="2932" y="490"/>
                  </a:lnTo>
                  <a:lnTo>
                    <a:pt x="2993" y="547"/>
                  </a:lnTo>
                  <a:lnTo>
                    <a:pt x="3050" y="608"/>
                  </a:lnTo>
                  <a:lnTo>
                    <a:pt x="3104" y="670"/>
                  </a:lnTo>
                  <a:lnTo>
                    <a:pt x="3156" y="735"/>
                  </a:lnTo>
                  <a:lnTo>
                    <a:pt x="3204" y="803"/>
                  </a:lnTo>
                  <a:lnTo>
                    <a:pt x="3249" y="873"/>
                  </a:lnTo>
                  <a:lnTo>
                    <a:pt x="3291" y="946"/>
                  </a:lnTo>
                  <a:lnTo>
                    <a:pt x="3329" y="1020"/>
                  </a:lnTo>
                  <a:lnTo>
                    <a:pt x="3363" y="1097"/>
                  </a:lnTo>
                  <a:lnTo>
                    <a:pt x="3395" y="1176"/>
                  </a:lnTo>
                  <a:lnTo>
                    <a:pt x="3422" y="1256"/>
                  </a:lnTo>
                  <a:lnTo>
                    <a:pt x="3444" y="1338"/>
                  </a:lnTo>
                  <a:lnTo>
                    <a:pt x="3464" y="1421"/>
                  </a:lnTo>
                  <a:lnTo>
                    <a:pt x="3479" y="1506"/>
                  </a:lnTo>
                  <a:lnTo>
                    <a:pt x="3491" y="1593"/>
                  </a:lnTo>
                  <a:lnTo>
                    <a:pt x="3497" y="1680"/>
                  </a:lnTo>
                  <a:lnTo>
                    <a:pt x="3500" y="177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9720" y="2303280"/>
              <a:ext cx="1389240" cy="1387440"/>
            </a:xfrm>
            <a:custGeom>
              <a:avLst/>
              <a:gdLst/>
              <a:ahLst/>
              <a:rect l="l" t="t" r="r" b="b"/>
              <a:pathLst>
                <a:path w="3500" h="3498">
                  <a:moveTo>
                    <a:pt x="3500" y="1750"/>
                  </a:moveTo>
                  <a:lnTo>
                    <a:pt x="3498" y="1659"/>
                  </a:lnTo>
                  <a:lnTo>
                    <a:pt x="3491" y="1570"/>
                  </a:lnTo>
                  <a:lnTo>
                    <a:pt x="3480" y="1483"/>
                  </a:lnTo>
                  <a:lnTo>
                    <a:pt x="3464" y="1397"/>
                  </a:lnTo>
                  <a:lnTo>
                    <a:pt x="3445" y="1312"/>
                  </a:lnTo>
                  <a:lnTo>
                    <a:pt x="3421" y="1229"/>
                  </a:lnTo>
                  <a:lnTo>
                    <a:pt x="3394" y="1148"/>
                  </a:lnTo>
                  <a:lnTo>
                    <a:pt x="3363" y="1068"/>
                  </a:lnTo>
                  <a:lnTo>
                    <a:pt x="3327" y="992"/>
                  </a:lnTo>
                  <a:lnTo>
                    <a:pt x="3289" y="916"/>
                  </a:lnTo>
                  <a:lnTo>
                    <a:pt x="3247" y="842"/>
                  </a:lnTo>
                  <a:lnTo>
                    <a:pt x="3201" y="771"/>
                  </a:lnTo>
                  <a:lnTo>
                    <a:pt x="3152" y="703"/>
                  </a:lnTo>
                  <a:lnTo>
                    <a:pt x="3100" y="637"/>
                  </a:lnTo>
                  <a:lnTo>
                    <a:pt x="3045" y="574"/>
                  </a:lnTo>
                  <a:lnTo>
                    <a:pt x="2988" y="512"/>
                  </a:lnTo>
                  <a:lnTo>
                    <a:pt x="2926" y="455"/>
                  </a:lnTo>
                  <a:lnTo>
                    <a:pt x="2864" y="400"/>
                  </a:lnTo>
                  <a:lnTo>
                    <a:pt x="2797" y="348"/>
                  </a:lnTo>
                  <a:lnTo>
                    <a:pt x="2729" y="299"/>
                  </a:lnTo>
                  <a:lnTo>
                    <a:pt x="2657" y="254"/>
                  </a:lnTo>
                  <a:lnTo>
                    <a:pt x="2584" y="212"/>
                  </a:lnTo>
                  <a:lnTo>
                    <a:pt x="2509" y="173"/>
                  </a:lnTo>
                  <a:lnTo>
                    <a:pt x="2431" y="137"/>
                  </a:lnTo>
                  <a:lnTo>
                    <a:pt x="2352" y="106"/>
                  </a:lnTo>
                  <a:lnTo>
                    <a:pt x="2270" y="79"/>
                  </a:lnTo>
                  <a:lnTo>
                    <a:pt x="2187" y="55"/>
                  </a:lnTo>
                  <a:lnTo>
                    <a:pt x="2103" y="36"/>
                  </a:lnTo>
                  <a:lnTo>
                    <a:pt x="2017" y="21"/>
                  </a:lnTo>
                  <a:lnTo>
                    <a:pt x="1929" y="9"/>
                  </a:lnTo>
                  <a:lnTo>
                    <a:pt x="1840" y="2"/>
                  </a:lnTo>
                  <a:lnTo>
                    <a:pt x="1750" y="0"/>
                  </a:lnTo>
                  <a:lnTo>
                    <a:pt x="1660" y="2"/>
                  </a:lnTo>
                  <a:lnTo>
                    <a:pt x="1571" y="9"/>
                  </a:lnTo>
                  <a:lnTo>
                    <a:pt x="1484" y="21"/>
                  </a:lnTo>
                  <a:lnTo>
                    <a:pt x="1397" y="36"/>
                  </a:lnTo>
                  <a:lnTo>
                    <a:pt x="1313" y="55"/>
                  </a:lnTo>
                  <a:lnTo>
                    <a:pt x="1230" y="79"/>
                  </a:lnTo>
                  <a:lnTo>
                    <a:pt x="1149" y="106"/>
                  </a:lnTo>
                  <a:lnTo>
                    <a:pt x="1069" y="137"/>
                  </a:lnTo>
                  <a:lnTo>
                    <a:pt x="991" y="173"/>
                  </a:lnTo>
                  <a:lnTo>
                    <a:pt x="915" y="212"/>
                  </a:lnTo>
                  <a:lnTo>
                    <a:pt x="843" y="254"/>
                  </a:lnTo>
                  <a:lnTo>
                    <a:pt x="772" y="299"/>
                  </a:lnTo>
                  <a:lnTo>
                    <a:pt x="703" y="348"/>
                  </a:lnTo>
                  <a:lnTo>
                    <a:pt x="637" y="400"/>
                  </a:lnTo>
                  <a:lnTo>
                    <a:pt x="573" y="455"/>
                  </a:lnTo>
                  <a:lnTo>
                    <a:pt x="512" y="512"/>
                  </a:lnTo>
                  <a:lnTo>
                    <a:pt x="455" y="574"/>
                  </a:lnTo>
                  <a:lnTo>
                    <a:pt x="400" y="637"/>
                  </a:lnTo>
                  <a:lnTo>
                    <a:pt x="348" y="703"/>
                  </a:lnTo>
                  <a:lnTo>
                    <a:pt x="298" y="771"/>
                  </a:lnTo>
                  <a:lnTo>
                    <a:pt x="253" y="842"/>
                  </a:lnTo>
                  <a:lnTo>
                    <a:pt x="211" y="916"/>
                  </a:lnTo>
                  <a:lnTo>
                    <a:pt x="173" y="992"/>
                  </a:lnTo>
                  <a:lnTo>
                    <a:pt x="137" y="1068"/>
                  </a:lnTo>
                  <a:lnTo>
                    <a:pt x="106" y="1148"/>
                  </a:lnTo>
                  <a:lnTo>
                    <a:pt x="79" y="1229"/>
                  </a:lnTo>
                  <a:lnTo>
                    <a:pt x="55" y="1312"/>
                  </a:lnTo>
                  <a:lnTo>
                    <a:pt x="36" y="1397"/>
                  </a:lnTo>
                  <a:lnTo>
                    <a:pt x="21" y="1483"/>
                  </a:lnTo>
                  <a:lnTo>
                    <a:pt x="9" y="1570"/>
                  </a:lnTo>
                  <a:lnTo>
                    <a:pt x="2" y="1659"/>
                  </a:lnTo>
                  <a:lnTo>
                    <a:pt x="0" y="1750"/>
                  </a:lnTo>
                  <a:lnTo>
                    <a:pt x="2" y="1839"/>
                  </a:lnTo>
                  <a:lnTo>
                    <a:pt x="9" y="1928"/>
                  </a:lnTo>
                  <a:lnTo>
                    <a:pt x="21" y="2015"/>
                  </a:lnTo>
                  <a:lnTo>
                    <a:pt x="36" y="2102"/>
                  </a:lnTo>
                  <a:lnTo>
                    <a:pt x="55" y="2187"/>
                  </a:lnTo>
                  <a:lnTo>
                    <a:pt x="79" y="2269"/>
                  </a:lnTo>
                  <a:lnTo>
                    <a:pt x="106" y="2351"/>
                  </a:lnTo>
                  <a:lnTo>
                    <a:pt x="137" y="2430"/>
                  </a:lnTo>
                  <a:lnTo>
                    <a:pt x="173" y="2508"/>
                  </a:lnTo>
                  <a:lnTo>
                    <a:pt x="211" y="2583"/>
                  </a:lnTo>
                  <a:lnTo>
                    <a:pt x="253" y="2657"/>
                  </a:lnTo>
                  <a:lnTo>
                    <a:pt x="298" y="2727"/>
                  </a:lnTo>
                  <a:lnTo>
                    <a:pt x="348" y="2796"/>
                  </a:lnTo>
                  <a:lnTo>
                    <a:pt x="400" y="2862"/>
                  </a:lnTo>
                  <a:lnTo>
                    <a:pt x="455" y="2926"/>
                  </a:lnTo>
                  <a:lnTo>
                    <a:pt x="512" y="2986"/>
                  </a:lnTo>
                  <a:lnTo>
                    <a:pt x="573" y="3045"/>
                  </a:lnTo>
                  <a:lnTo>
                    <a:pt x="637" y="3100"/>
                  </a:lnTo>
                  <a:lnTo>
                    <a:pt x="703" y="3152"/>
                  </a:lnTo>
                  <a:lnTo>
                    <a:pt x="772" y="3200"/>
                  </a:lnTo>
                  <a:lnTo>
                    <a:pt x="843" y="3245"/>
                  </a:lnTo>
                  <a:lnTo>
                    <a:pt x="915" y="3288"/>
                  </a:lnTo>
                  <a:lnTo>
                    <a:pt x="991" y="3326"/>
                  </a:lnTo>
                  <a:lnTo>
                    <a:pt x="1069" y="3361"/>
                  </a:lnTo>
                  <a:lnTo>
                    <a:pt x="1149" y="3392"/>
                  </a:lnTo>
                  <a:lnTo>
                    <a:pt x="1230" y="3420"/>
                  </a:lnTo>
                  <a:lnTo>
                    <a:pt x="1313" y="3443"/>
                  </a:lnTo>
                  <a:lnTo>
                    <a:pt x="1397" y="3464"/>
                  </a:lnTo>
                  <a:lnTo>
                    <a:pt x="1484" y="3479"/>
                  </a:lnTo>
                  <a:lnTo>
                    <a:pt x="1571" y="3490"/>
                  </a:lnTo>
                  <a:lnTo>
                    <a:pt x="1660" y="3496"/>
                  </a:lnTo>
                  <a:lnTo>
                    <a:pt x="1750" y="3498"/>
                  </a:lnTo>
                  <a:lnTo>
                    <a:pt x="1840" y="3496"/>
                  </a:lnTo>
                  <a:lnTo>
                    <a:pt x="1929" y="3490"/>
                  </a:lnTo>
                  <a:lnTo>
                    <a:pt x="2017" y="3479"/>
                  </a:lnTo>
                  <a:lnTo>
                    <a:pt x="2103" y="3464"/>
                  </a:lnTo>
                  <a:lnTo>
                    <a:pt x="2187" y="3443"/>
                  </a:lnTo>
                  <a:lnTo>
                    <a:pt x="2270" y="3420"/>
                  </a:lnTo>
                  <a:lnTo>
                    <a:pt x="2352" y="3392"/>
                  </a:lnTo>
                  <a:lnTo>
                    <a:pt x="2431" y="3361"/>
                  </a:lnTo>
                  <a:lnTo>
                    <a:pt x="2509" y="3326"/>
                  </a:lnTo>
                  <a:lnTo>
                    <a:pt x="2584" y="3288"/>
                  </a:lnTo>
                  <a:lnTo>
                    <a:pt x="2657" y="3245"/>
                  </a:lnTo>
                  <a:lnTo>
                    <a:pt x="2729" y="3200"/>
                  </a:lnTo>
                  <a:lnTo>
                    <a:pt x="2797" y="3152"/>
                  </a:lnTo>
                  <a:lnTo>
                    <a:pt x="2864" y="3100"/>
                  </a:lnTo>
                  <a:lnTo>
                    <a:pt x="2926" y="3045"/>
                  </a:lnTo>
                  <a:lnTo>
                    <a:pt x="2988" y="2986"/>
                  </a:lnTo>
                  <a:lnTo>
                    <a:pt x="3045" y="2926"/>
                  </a:lnTo>
                  <a:lnTo>
                    <a:pt x="3100" y="2862"/>
                  </a:lnTo>
                  <a:lnTo>
                    <a:pt x="3152" y="2796"/>
                  </a:lnTo>
                  <a:lnTo>
                    <a:pt x="3201" y="2727"/>
                  </a:lnTo>
                  <a:lnTo>
                    <a:pt x="3247" y="2657"/>
                  </a:lnTo>
                  <a:lnTo>
                    <a:pt x="3289" y="2583"/>
                  </a:lnTo>
                  <a:lnTo>
                    <a:pt x="3327" y="2508"/>
                  </a:lnTo>
                  <a:lnTo>
                    <a:pt x="3363" y="2430"/>
                  </a:lnTo>
                  <a:lnTo>
                    <a:pt x="3394" y="2351"/>
                  </a:lnTo>
                  <a:lnTo>
                    <a:pt x="3421" y="2269"/>
                  </a:lnTo>
                  <a:lnTo>
                    <a:pt x="3445" y="2187"/>
                  </a:lnTo>
                  <a:lnTo>
                    <a:pt x="3464" y="2102"/>
                  </a:lnTo>
                  <a:lnTo>
                    <a:pt x="3480" y="2015"/>
                  </a:lnTo>
                  <a:lnTo>
                    <a:pt x="3491" y="1928"/>
                  </a:lnTo>
                  <a:lnTo>
                    <a:pt x="3498" y="1839"/>
                  </a:lnTo>
                  <a:lnTo>
                    <a:pt x="3500" y="1750"/>
                  </a:lnTo>
                  <a:close/>
                  <a:moveTo>
                    <a:pt x="3459" y="1750"/>
                  </a:moveTo>
                  <a:lnTo>
                    <a:pt x="3456" y="1837"/>
                  </a:lnTo>
                  <a:lnTo>
                    <a:pt x="3449" y="1924"/>
                  </a:lnTo>
                  <a:lnTo>
                    <a:pt x="3439" y="2010"/>
                  </a:lnTo>
                  <a:lnTo>
                    <a:pt x="3423" y="2093"/>
                  </a:lnTo>
                  <a:lnTo>
                    <a:pt x="3405" y="2176"/>
                  </a:lnTo>
                  <a:lnTo>
                    <a:pt x="3381" y="2257"/>
                  </a:lnTo>
                  <a:lnTo>
                    <a:pt x="3355" y="2336"/>
                  </a:lnTo>
                  <a:lnTo>
                    <a:pt x="3324" y="2414"/>
                  </a:lnTo>
                  <a:lnTo>
                    <a:pt x="3290" y="2489"/>
                  </a:lnTo>
                  <a:lnTo>
                    <a:pt x="3253" y="2563"/>
                  </a:lnTo>
                  <a:lnTo>
                    <a:pt x="3212" y="2635"/>
                  </a:lnTo>
                  <a:lnTo>
                    <a:pt x="3167" y="2704"/>
                  </a:lnTo>
                  <a:lnTo>
                    <a:pt x="3119" y="2771"/>
                  </a:lnTo>
                  <a:lnTo>
                    <a:pt x="3068" y="2835"/>
                  </a:lnTo>
                  <a:lnTo>
                    <a:pt x="3015" y="2898"/>
                  </a:lnTo>
                  <a:lnTo>
                    <a:pt x="2958" y="2957"/>
                  </a:lnTo>
                  <a:lnTo>
                    <a:pt x="2899" y="3013"/>
                  </a:lnTo>
                  <a:lnTo>
                    <a:pt x="2837" y="3067"/>
                  </a:lnTo>
                  <a:lnTo>
                    <a:pt x="2772" y="3118"/>
                  </a:lnTo>
                  <a:lnTo>
                    <a:pt x="2705" y="3166"/>
                  </a:lnTo>
                  <a:lnTo>
                    <a:pt x="2636" y="3210"/>
                  </a:lnTo>
                  <a:lnTo>
                    <a:pt x="2564" y="3251"/>
                  </a:lnTo>
                  <a:lnTo>
                    <a:pt x="2491" y="3289"/>
                  </a:lnTo>
                  <a:lnTo>
                    <a:pt x="2415" y="3323"/>
                  </a:lnTo>
                  <a:lnTo>
                    <a:pt x="2337" y="3353"/>
                  </a:lnTo>
                  <a:lnTo>
                    <a:pt x="2259" y="3380"/>
                  </a:lnTo>
                  <a:lnTo>
                    <a:pt x="2178" y="3403"/>
                  </a:lnTo>
                  <a:lnTo>
                    <a:pt x="2094" y="3423"/>
                  </a:lnTo>
                  <a:lnTo>
                    <a:pt x="2010" y="3438"/>
                  </a:lnTo>
                  <a:lnTo>
                    <a:pt x="1925" y="3449"/>
                  </a:lnTo>
                  <a:lnTo>
                    <a:pt x="1838" y="3455"/>
                  </a:lnTo>
                  <a:lnTo>
                    <a:pt x="1750" y="3457"/>
                  </a:lnTo>
                  <a:lnTo>
                    <a:pt x="1662" y="3455"/>
                  </a:lnTo>
                  <a:lnTo>
                    <a:pt x="1576" y="3449"/>
                  </a:lnTo>
                  <a:lnTo>
                    <a:pt x="1490" y="3438"/>
                  </a:lnTo>
                  <a:lnTo>
                    <a:pt x="1406" y="3423"/>
                  </a:lnTo>
                  <a:lnTo>
                    <a:pt x="1323" y="3403"/>
                  </a:lnTo>
                  <a:lnTo>
                    <a:pt x="1242" y="3380"/>
                  </a:lnTo>
                  <a:lnTo>
                    <a:pt x="1163" y="3353"/>
                  </a:lnTo>
                  <a:lnTo>
                    <a:pt x="1085" y="3323"/>
                  </a:lnTo>
                  <a:lnTo>
                    <a:pt x="1009" y="3289"/>
                  </a:lnTo>
                  <a:lnTo>
                    <a:pt x="936" y="3251"/>
                  </a:lnTo>
                  <a:lnTo>
                    <a:pt x="865" y="3210"/>
                  </a:lnTo>
                  <a:lnTo>
                    <a:pt x="796" y="3166"/>
                  </a:lnTo>
                  <a:lnTo>
                    <a:pt x="729" y="3118"/>
                  </a:lnTo>
                  <a:lnTo>
                    <a:pt x="664" y="3067"/>
                  </a:lnTo>
                  <a:lnTo>
                    <a:pt x="601" y="3013"/>
                  </a:lnTo>
                  <a:lnTo>
                    <a:pt x="543" y="2957"/>
                  </a:lnTo>
                  <a:lnTo>
                    <a:pt x="485" y="2898"/>
                  </a:lnTo>
                  <a:lnTo>
                    <a:pt x="431" y="2835"/>
                  </a:lnTo>
                  <a:lnTo>
                    <a:pt x="382" y="2771"/>
                  </a:lnTo>
                  <a:lnTo>
                    <a:pt x="333" y="2704"/>
                  </a:lnTo>
                  <a:lnTo>
                    <a:pt x="289" y="2635"/>
                  </a:lnTo>
                  <a:lnTo>
                    <a:pt x="248" y="2563"/>
                  </a:lnTo>
                  <a:lnTo>
                    <a:pt x="210" y="2489"/>
                  </a:lnTo>
                  <a:lnTo>
                    <a:pt x="176" y="2414"/>
                  </a:lnTo>
                  <a:lnTo>
                    <a:pt x="145" y="2336"/>
                  </a:lnTo>
                  <a:lnTo>
                    <a:pt x="118" y="2257"/>
                  </a:lnTo>
                  <a:lnTo>
                    <a:pt x="95" y="2176"/>
                  </a:lnTo>
                  <a:lnTo>
                    <a:pt x="77" y="2093"/>
                  </a:lnTo>
                  <a:lnTo>
                    <a:pt x="62" y="2010"/>
                  </a:lnTo>
                  <a:lnTo>
                    <a:pt x="51" y="1924"/>
                  </a:lnTo>
                  <a:lnTo>
                    <a:pt x="43" y="1837"/>
                  </a:lnTo>
                  <a:lnTo>
                    <a:pt x="41" y="1750"/>
                  </a:lnTo>
                  <a:lnTo>
                    <a:pt x="43" y="1661"/>
                  </a:lnTo>
                  <a:lnTo>
                    <a:pt x="51" y="1575"/>
                  </a:lnTo>
                  <a:lnTo>
                    <a:pt x="62" y="1489"/>
                  </a:lnTo>
                  <a:lnTo>
                    <a:pt x="77" y="1405"/>
                  </a:lnTo>
                  <a:lnTo>
                    <a:pt x="95" y="1323"/>
                  </a:lnTo>
                  <a:lnTo>
                    <a:pt x="118" y="1242"/>
                  </a:lnTo>
                  <a:lnTo>
                    <a:pt x="145" y="1162"/>
                  </a:lnTo>
                  <a:lnTo>
                    <a:pt x="176" y="1084"/>
                  </a:lnTo>
                  <a:lnTo>
                    <a:pt x="210" y="1009"/>
                  </a:lnTo>
                  <a:lnTo>
                    <a:pt x="248" y="935"/>
                  </a:lnTo>
                  <a:lnTo>
                    <a:pt x="289" y="864"/>
                  </a:lnTo>
                  <a:lnTo>
                    <a:pt x="333" y="795"/>
                  </a:lnTo>
                  <a:lnTo>
                    <a:pt x="382" y="728"/>
                  </a:lnTo>
                  <a:lnTo>
                    <a:pt x="431" y="663"/>
                  </a:lnTo>
                  <a:lnTo>
                    <a:pt x="485" y="602"/>
                  </a:lnTo>
                  <a:lnTo>
                    <a:pt x="543" y="542"/>
                  </a:lnTo>
                  <a:lnTo>
                    <a:pt x="601" y="485"/>
                  </a:lnTo>
                  <a:lnTo>
                    <a:pt x="664" y="432"/>
                  </a:lnTo>
                  <a:lnTo>
                    <a:pt x="729" y="381"/>
                  </a:lnTo>
                  <a:lnTo>
                    <a:pt x="796" y="334"/>
                  </a:lnTo>
                  <a:lnTo>
                    <a:pt x="865" y="290"/>
                  </a:lnTo>
                  <a:lnTo>
                    <a:pt x="936" y="247"/>
                  </a:lnTo>
                  <a:lnTo>
                    <a:pt x="1009" y="211"/>
                  </a:lnTo>
                  <a:lnTo>
                    <a:pt x="1085" y="176"/>
                  </a:lnTo>
                  <a:lnTo>
                    <a:pt x="1163" y="146"/>
                  </a:lnTo>
                  <a:lnTo>
                    <a:pt x="1242" y="119"/>
                  </a:lnTo>
                  <a:lnTo>
                    <a:pt x="1323" y="95"/>
                  </a:lnTo>
                  <a:lnTo>
                    <a:pt x="1406" y="77"/>
                  </a:lnTo>
                  <a:lnTo>
                    <a:pt x="1490" y="62"/>
                  </a:lnTo>
                  <a:lnTo>
                    <a:pt x="1576" y="51"/>
                  </a:lnTo>
                  <a:lnTo>
                    <a:pt x="1662" y="44"/>
                  </a:lnTo>
                  <a:lnTo>
                    <a:pt x="1750" y="42"/>
                  </a:lnTo>
                  <a:lnTo>
                    <a:pt x="1838" y="44"/>
                  </a:lnTo>
                  <a:lnTo>
                    <a:pt x="1925" y="51"/>
                  </a:lnTo>
                  <a:lnTo>
                    <a:pt x="2010" y="62"/>
                  </a:lnTo>
                  <a:lnTo>
                    <a:pt x="2094" y="77"/>
                  </a:lnTo>
                  <a:lnTo>
                    <a:pt x="2178" y="95"/>
                  </a:lnTo>
                  <a:lnTo>
                    <a:pt x="2259" y="119"/>
                  </a:lnTo>
                  <a:lnTo>
                    <a:pt x="2337" y="146"/>
                  </a:lnTo>
                  <a:lnTo>
                    <a:pt x="2415" y="176"/>
                  </a:lnTo>
                  <a:lnTo>
                    <a:pt x="2491" y="211"/>
                  </a:lnTo>
                  <a:lnTo>
                    <a:pt x="2564" y="247"/>
                  </a:lnTo>
                  <a:lnTo>
                    <a:pt x="2636" y="290"/>
                  </a:lnTo>
                  <a:lnTo>
                    <a:pt x="2705" y="334"/>
                  </a:lnTo>
                  <a:lnTo>
                    <a:pt x="2772" y="381"/>
                  </a:lnTo>
                  <a:lnTo>
                    <a:pt x="2837" y="432"/>
                  </a:lnTo>
                  <a:lnTo>
                    <a:pt x="2899" y="485"/>
                  </a:lnTo>
                  <a:lnTo>
                    <a:pt x="2958" y="542"/>
                  </a:lnTo>
                  <a:lnTo>
                    <a:pt x="3015" y="602"/>
                  </a:lnTo>
                  <a:lnTo>
                    <a:pt x="3068" y="663"/>
                  </a:lnTo>
                  <a:lnTo>
                    <a:pt x="3119" y="728"/>
                  </a:lnTo>
                  <a:lnTo>
                    <a:pt x="3167" y="795"/>
                  </a:lnTo>
                  <a:lnTo>
                    <a:pt x="3212" y="864"/>
                  </a:lnTo>
                  <a:lnTo>
                    <a:pt x="3253" y="935"/>
                  </a:lnTo>
                  <a:lnTo>
                    <a:pt x="3290" y="1009"/>
                  </a:lnTo>
                  <a:lnTo>
                    <a:pt x="3324" y="1084"/>
                  </a:lnTo>
                  <a:lnTo>
                    <a:pt x="3355" y="1162"/>
                  </a:lnTo>
                  <a:lnTo>
                    <a:pt x="3381" y="1242"/>
                  </a:lnTo>
                  <a:lnTo>
                    <a:pt x="3405" y="1323"/>
                  </a:lnTo>
                  <a:lnTo>
                    <a:pt x="3423" y="1405"/>
                  </a:lnTo>
                  <a:lnTo>
                    <a:pt x="3439" y="1489"/>
                  </a:lnTo>
                  <a:lnTo>
                    <a:pt x="3449" y="1575"/>
                  </a:lnTo>
                  <a:lnTo>
                    <a:pt x="3456" y="1661"/>
                  </a:lnTo>
                  <a:lnTo>
                    <a:pt x="3459" y="175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87640" y="2311200"/>
              <a:ext cx="1373400" cy="1371600"/>
            </a:xfrm>
            <a:custGeom>
              <a:avLst/>
              <a:gdLst/>
              <a:ahLst/>
              <a:rect l="l" t="t" r="r" b="b"/>
              <a:pathLst>
                <a:path w="3459" h="3457">
                  <a:moveTo>
                    <a:pt x="3459" y="1729"/>
                  </a:moveTo>
                  <a:lnTo>
                    <a:pt x="3456" y="1639"/>
                  </a:lnTo>
                  <a:lnTo>
                    <a:pt x="3450" y="1552"/>
                  </a:lnTo>
                  <a:lnTo>
                    <a:pt x="3438" y="1465"/>
                  </a:lnTo>
                  <a:lnTo>
                    <a:pt x="3423" y="1380"/>
                  </a:lnTo>
                  <a:lnTo>
                    <a:pt x="3403" y="1297"/>
                  </a:lnTo>
                  <a:lnTo>
                    <a:pt x="3381" y="1215"/>
                  </a:lnTo>
                  <a:lnTo>
                    <a:pt x="3354" y="1135"/>
                  </a:lnTo>
                  <a:lnTo>
                    <a:pt x="3322" y="1056"/>
                  </a:lnTo>
                  <a:lnTo>
                    <a:pt x="3288" y="979"/>
                  </a:lnTo>
                  <a:lnTo>
                    <a:pt x="3250" y="905"/>
                  </a:lnTo>
                  <a:lnTo>
                    <a:pt x="3208" y="832"/>
                  </a:lnTo>
                  <a:lnTo>
                    <a:pt x="3163" y="762"/>
                  </a:lnTo>
                  <a:lnTo>
                    <a:pt x="3115" y="694"/>
                  </a:lnTo>
                  <a:lnTo>
                    <a:pt x="3063" y="629"/>
                  </a:lnTo>
                  <a:lnTo>
                    <a:pt x="3009" y="567"/>
                  </a:lnTo>
                  <a:lnTo>
                    <a:pt x="2952" y="506"/>
                  </a:lnTo>
                  <a:lnTo>
                    <a:pt x="2891" y="449"/>
                  </a:lnTo>
                  <a:lnTo>
                    <a:pt x="2829" y="395"/>
                  </a:lnTo>
                  <a:lnTo>
                    <a:pt x="2764" y="343"/>
                  </a:lnTo>
                  <a:lnTo>
                    <a:pt x="2696" y="296"/>
                  </a:lnTo>
                  <a:lnTo>
                    <a:pt x="2625" y="250"/>
                  </a:lnTo>
                  <a:lnTo>
                    <a:pt x="2553" y="209"/>
                  </a:lnTo>
                  <a:lnTo>
                    <a:pt x="2479" y="170"/>
                  </a:lnTo>
                  <a:lnTo>
                    <a:pt x="2402" y="136"/>
                  </a:lnTo>
                  <a:lnTo>
                    <a:pt x="2324" y="104"/>
                  </a:lnTo>
                  <a:lnTo>
                    <a:pt x="2243" y="77"/>
                  </a:lnTo>
                  <a:lnTo>
                    <a:pt x="2161" y="55"/>
                  </a:lnTo>
                  <a:lnTo>
                    <a:pt x="2078" y="35"/>
                  </a:lnTo>
                  <a:lnTo>
                    <a:pt x="1992" y="20"/>
                  </a:lnTo>
                  <a:lnTo>
                    <a:pt x="1906" y="9"/>
                  </a:lnTo>
                  <a:lnTo>
                    <a:pt x="1818" y="2"/>
                  </a:lnTo>
                  <a:lnTo>
                    <a:pt x="1729" y="0"/>
                  </a:lnTo>
                  <a:lnTo>
                    <a:pt x="1640" y="2"/>
                  </a:lnTo>
                  <a:lnTo>
                    <a:pt x="1553" y="9"/>
                  </a:lnTo>
                  <a:lnTo>
                    <a:pt x="1466" y="20"/>
                  </a:lnTo>
                  <a:lnTo>
                    <a:pt x="1381" y="35"/>
                  </a:lnTo>
                  <a:lnTo>
                    <a:pt x="1298" y="55"/>
                  </a:lnTo>
                  <a:lnTo>
                    <a:pt x="1215" y="77"/>
                  </a:lnTo>
                  <a:lnTo>
                    <a:pt x="1134" y="104"/>
                  </a:lnTo>
                  <a:lnTo>
                    <a:pt x="1057" y="136"/>
                  </a:lnTo>
                  <a:lnTo>
                    <a:pt x="980" y="170"/>
                  </a:lnTo>
                  <a:lnTo>
                    <a:pt x="905" y="209"/>
                  </a:lnTo>
                  <a:lnTo>
                    <a:pt x="833" y="250"/>
                  </a:lnTo>
                  <a:lnTo>
                    <a:pt x="763" y="296"/>
                  </a:lnTo>
                  <a:lnTo>
                    <a:pt x="695" y="343"/>
                  </a:lnTo>
                  <a:lnTo>
                    <a:pt x="630" y="395"/>
                  </a:lnTo>
                  <a:lnTo>
                    <a:pt x="566" y="449"/>
                  </a:lnTo>
                  <a:lnTo>
                    <a:pt x="507" y="506"/>
                  </a:lnTo>
                  <a:lnTo>
                    <a:pt x="449" y="567"/>
                  </a:lnTo>
                  <a:lnTo>
                    <a:pt x="395" y="629"/>
                  </a:lnTo>
                  <a:lnTo>
                    <a:pt x="343" y="694"/>
                  </a:lnTo>
                  <a:lnTo>
                    <a:pt x="295" y="762"/>
                  </a:lnTo>
                  <a:lnTo>
                    <a:pt x="250" y="832"/>
                  </a:lnTo>
                  <a:lnTo>
                    <a:pt x="208" y="905"/>
                  </a:lnTo>
                  <a:lnTo>
                    <a:pt x="171" y="979"/>
                  </a:lnTo>
                  <a:lnTo>
                    <a:pt x="136" y="1056"/>
                  </a:lnTo>
                  <a:lnTo>
                    <a:pt x="105" y="1135"/>
                  </a:lnTo>
                  <a:lnTo>
                    <a:pt x="78" y="1215"/>
                  </a:lnTo>
                  <a:lnTo>
                    <a:pt x="55" y="1297"/>
                  </a:lnTo>
                  <a:lnTo>
                    <a:pt x="35" y="1380"/>
                  </a:lnTo>
                  <a:lnTo>
                    <a:pt x="20" y="1465"/>
                  </a:lnTo>
                  <a:lnTo>
                    <a:pt x="8" y="1552"/>
                  </a:lnTo>
                  <a:lnTo>
                    <a:pt x="2" y="1639"/>
                  </a:lnTo>
                  <a:lnTo>
                    <a:pt x="0" y="1729"/>
                  </a:lnTo>
                  <a:lnTo>
                    <a:pt x="2" y="1817"/>
                  </a:lnTo>
                  <a:lnTo>
                    <a:pt x="8" y="1905"/>
                  </a:lnTo>
                  <a:lnTo>
                    <a:pt x="20" y="1991"/>
                  </a:lnTo>
                  <a:lnTo>
                    <a:pt x="35" y="2076"/>
                  </a:lnTo>
                  <a:lnTo>
                    <a:pt x="55" y="2161"/>
                  </a:lnTo>
                  <a:lnTo>
                    <a:pt x="78" y="2243"/>
                  </a:lnTo>
                  <a:lnTo>
                    <a:pt x="105" y="2323"/>
                  </a:lnTo>
                  <a:lnTo>
                    <a:pt x="136" y="2402"/>
                  </a:lnTo>
                  <a:lnTo>
                    <a:pt x="171" y="2478"/>
                  </a:lnTo>
                  <a:lnTo>
                    <a:pt x="208" y="2553"/>
                  </a:lnTo>
                  <a:lnTo>
                    <a:pt x="250" y="2625"/>
                  </a:lnTo>
                  <a:lnTo>
                    <a:pt x="295" y="2695"/>
                  </a:lnTo>
                  <a:lnTo>
                    <a:pt x="343" y="2762"/>
                  </a:lnTo>
                  <a:lnTo>
                    <a:pt x="395" y="2828"/>
                  </a:lnTo>
                  <a:lnTo>
                    <a:pt x="449" y="2891"/>
                  </a:lnTo>
                  <a:lnTo>
                    <a:pt x="507" y="2950"/>
                  </a:lnTo>
                  <a:lnTo>
                    <a:pt x="566" y="3007"/>
                  </a:lnTo>
                  <a:lnTo>
                    <a:pt x="630" y="3062"/>
                  </a:lnTo>
                  <a:lnTo>
                    <a:pt x="695" y="3113"/>
                  </a:lnTo>
                  <a:lnTo>
                    <a:pt x="763" y="3162"/>
                  </a:lnTo>
                  <a:lnTo>
                    <a:pt x="833" y="3206"/>
                  </a:lnTo>
                  <a:lnTo>
                    <a:pt x="905" y="3248"/>
                  </a:lnTo>
                  <a:lnTo>
                    <a:pt x="980" y="3286"/>
                  </a:lnTo>
                  <a:lnTo>
                    <a:pt x="1057" y="3321"/>
                  </a:lnTo>
                  <a:lnTo>
                    <a:pt x="1134" y="3352"/>
                  </a:lnTo>
                  <a:lnTo>
                    <a:pt x="1215" y="3379"/>
                  </a:lnTo>
                  <a:lnTo>
                    <a:pt x="1298" y="3403"/>
                  </a:lnTo>
                  <a:lnTo>
                    <a:pt x="1381" y="3422"/>
                  </a:lnTo>
                  <a:lnTo>
                    <a:pt x="1466" y="3437"/>
                  </a:lnTo>
                  <a:lnTo>
                    <a:pt x="1553" y="3448"/>
                  </a:lnTo>
                  <a:lnTo>
                    <a:pt x="1640" y="3455"/>
                  </a:lnTo>
                  <a:lnTo>
                    <a:pt x="1729" y="3457"/>
                  </a:lnTo>
                  <a:lnTo>
                    <a:pt x="1818" y="3455"/>
                  </a:lnTo>
                  <a:lnTo>
                    <a:pt x="1906" y="3448"/>
                  </a:lnTo>
                  <a:lnTo>
                    <a:pt x="1992" y="3437"/>
                  </a:lnTo>
                  <a:lnTo>
                    <a:pt x="2078" y="3422"/>
                  </a:lnTo>
                  <a:lnTo>
                    <a:pt x="2161" y="3403"/>
                  </a:lnTo>
                  <a:lnTo>
                    <a:pt x="2243" y="3379"/>
                  </a:lnTo>
                  <a:lnTo>
                    <a:pt x="2324" y="3352"/>
                  </a:lnTo>
                  <a:lnTo>
                    <a:pt x="2402" y="3321"/>
                  </a:lnTo>
                  <a:lnTo>
                    <a:pt x="2479" y="3286"/>
                  </a:lnTo>
                  <a:lnTo>
                    <a:pt x="2553" y="3248"/>
                  </a:lnTo>
                  <a:lnTo>
                    <a:pt x="2625" y="3206"/>
                  </a:lnTo>
                  <a:lnTo>
                    <a:pt x="2696" y="3162"/>
                  </a:lnTo>
                  <a:lnTo>
                    <a:pt x="2764" y="3113"/>
                  </a:lnTo>
                  <a:lnTo>
                    <a:pt x="2829" y="3062"/>
                  </a:lnTo>
                  <a:lnTo>
                    <a:pt x="2891" y="3007"/>
                  </a:lnTo>
                  <a:lnTo>
                    <a:pt x="2952" y="2950"/>
                  </a:lnTo>
                  <a:lnTo>
                    <a:pt x="3009" y="2891"/>
                  </a:lnTo>
                  <a:lnTo>
                    <a:pt x="3063" y="2828"/>
                  </a:lnTo>
                  <a:lnTo>
                    <a:pt x="3115" y="2762"/>
                  </a:lnTo>
                  <a:lnTo>
                    <a:pt x="3163" y="2695"/>
                  </a:lnTo>
                  <a:lnTo>
                    <a:pt x="3208" y="2625"/>
                  </a:lnTo>
                  <a:lnTo>
                    <a:pt x="3250" y="2553"/>
                  </a:lnTo>
                  <a:lnTo>
                    <a:pt x="3288" y="2478"/>
                  </a:lnTo>
                  <a:lnTo>
                    <a:pt x="3322" y="2402"/>
                  </a:lnTo>
                  <a:lnTo>
                    <a:pt x="3354" y="2323"/>
                  </a:lnTo>
                  <a:lnTo>
                    <a:pt x="3381" y="2243"/>
                  </a:lnTo>
                  <a:lnTo>
                    <a:pt x="3403" y="2161"/>
                  </a:lnTo>
                  <a:lnTo>
                    <a:pt x="3423" y="2076"/>
                  </a:lnTo>
                  <a:lnTo>
                    <a:pt x="3438" y="1991"/>
                  </a:lnTo>
                  <a:lnTo>
                    <a:pt x="3450" y="1905"/>
                  </a:lnTo>
                  <a:lnTo>
                    <a:pt x="3456" y="1817"/>
                  </a:lnTo>
                  <a:lnTo>
                    <a:pt x="3459" y="1729"/>
                  </a:lnTo>
                  <a:close/>
                  <a:moveTo>
                    <a:pt x="3416" y="1729"/>
                  </a:moveTo>
                  <a:lnTo>
                    <a:pt x="3414" y="1815"/>
                  </a:lnTo>
                  <a:lnTo>
                    <a:pt x="3408" y="1900"/>
                  </a:lnTo>
                  <a:lnTo>
                    <a:pt x="3397" y="1986"/>
                  </a:lnTo>
                  <a:lnTo>
                    <a:pt x="3383" y="2069"/>
                  </a:lnTo>
                  <a:lnTo>
                    <a:pt x="3363" y="2150"/>
                  </a:lnTo>
                  <a:lnTo>
                    <a:pt x="3341" y="2230"/>
                  </a:lnTo>
                  <a:lnTo>
                    <a:pt x="3314" y="2309"/>
                  </a:lnTo>
                  <a:lnTo>
                    <a:pt x="3285" y="2385"/>
                  </a:lnTo>
                  <a:lnTo>
                    <a:pt x="3250" y="2460"/>
                  </a:lnTo>
                  <a:lnTo>
                    <a:pt x="3213" y="2532"/>
                  </a:lnTo>
                  <a:lnTo>
                    <a:pt x="3172" y="2603"/>
                  </a:lnTo>
                  <a:lnTo>
                    <a:pt x="3129" y="2672"/>
                  </a:lnTo>
                  <a:lnTo>
                    <a:pt x="3081" y="2737"/>
                  </a:lnTo>
                  <a:lnTo>
                    <a:pt x="3032" y="2801"/>
                  </a:lnTo>
                  <a:lnTo>
                    <a:pt x="2979" y="2863"/>
                  </a:lnTo>
                  <a:lnTo>
                    <a:pt x="2923" y="2921"/>
                  </a:lnTo>
                  <a:lnTo>
                    <a:pt x="2864" y="2977"/>
                  </a:lnTo>
                  <a:lnTo>
                    <a:pt x="2803" y="3030"/>
                  </a:lnTo>
                  <a:lnTo>
                    <a:pt x="2739" y="3080"/>
                  </a:lnTo>
                  <a:lnTo>
                    <a:pt x="2673" y="3127"/>
                  </a:lnTo>
                  <a:lnTo>
                    <a:pt x="2604" y="3170"/>
                  </a:lnTo>
                  <a:lnTo>
                    <a:pt x="2534" y="3212"/>
                  </a:lnTo>
                  <a:lnTo>
                    <a:pt x="2461" y="3249"/>
                  </a:lnTo>
                  <a:lnTo>
                    <a:pt x="2386" y="3283"/>
                  </a:lnTo>
                  <a:lnTo>
                    <a:pt x="2309" y="3313"/>
                  </a:lnTo>
                  <a:lnTo>
                    <a:pt x="2231" y="3339"/>
                  </a:lnTo>
                  <a:lnTo>
                    <a:pt x="2151" y="3362"/>
                  </a:lnTo>
                  <a:lnTo>
                    <a:pt x="2069" y="3381"/>
                  </a:lnTo>
                  <a:lnTo>
                    <a:pt x="1986" y="3396"/>
                  </a:lnTo>
                  <a:lnTo>
                    <a:pt x="1902" y="3407"/>
                  </a:lnTo>
                  <a:lnTo>
                    <a:pt x="1816" y="3413"/>
                  </a:lnTo>
                  <a:lnTo>
                    <a:pt x="1729" y="3416"/>
                  </a:lnTo>
                  <a:lnTo>
                    <a:pt x="1642" y="3413"/>
                  </a:lnTo>
                  <a:lnTo>
                    <a:pt x="1557" y="3407"/>
                  </a:lnTo>
                  <a:lnTo>
                    <a:pt x="1473" y="3396"/>
                  </a:lnTo>
                  <a:lnTo>
                    <a:pt x="1389" y="3381"/>
                  </a:lnTo>
                  <a:lnTo>
                    <a:pt x="1307" y="3362"/>
                  </a:lnTo>
                  <a:lnTo>
                    <a:pt x="1227" y="3339"/>
                  </a:lnTo>
                  <a:lnTo>
                    <a:pt x="1149" y="3313"/>
                  </a:lnTo>
                  <a:lnTo>
                    <a:pt x="1073" y="3283"/>
                  </a:lnTo>
                  <a:lnTo>
                    <a:pt x="997" y="3249"/>
                  </a:lnTo>
                  <a:lnTo>
                    <a:pt x="925" y="3212"/>
                  </a:lnTo>
                  <a:lnTo>
                    <a:pt x="854" y="3170"/>
                  </a:lnTo>
                  <a:lnTo>
                    <a:pt x="785" y="3127"/>
                  </a:lnTo>
                  <a:lnTo>
                    <a:pt x="719" y="3080"/>
                  </a:lnTo>
                  <a:lnTo>
                    <a:pt x="656" y="3030"/>
                  </a:lnTo>
                  <a:lnTo>
                    <a:pt x="594" y="2977"/>
                  </a:lnTo>
                  <a:lnTo>
                    <a:pt x="536" y="2921"/>
                  </a:lnTo>
                  <a:lnTo>
                    <a:pt x="480" y="2863"/>
                  </a:lnTo>
                  <a:lnTo>
                    <a:pt x="427" y="2801"/>
                  </a:lnTo>
                  <a:lnTo>
                    <a:pt x="377" y="2737"/>
                  </a:lnTo>
                  <a:lnTo>
                    <a:pt x="329" y="2672"/>
                  </a:lnTo>
                  <a:lnTo>
                    <a:pt x="286" y="2603"/>
                  </a:lnTo>
                  <a:lnTo>
                    <a:pt x="245" y="2532"/>
                  </a:lnTo>
                  <a:lnTo>
                    <a:pt x="208" y="2460"/>
                  </a:lnTo>
                  <a:lnTo>
                    <a:pt x="174" y="2385"/>
                  </a:lnTo>
                  <a:lnTo>
                    <a:pt x="143" y="2309"/>
                  </a:lnTo>
                  <a:lnTo>
                    <a:pt x="118" y="2230"/>
                  </a:lnTo>
                  <a:lnTo>
                    <a:pt x="95" y="2150"/>
                  </a:lnTo>
                  <a:lnTo>
                    <a:pt x="75" y="2069"/>
                  </a:lnTo>
                  <a:lnTo>
                    <a:pt x="61" y="1986"/>
                  </a:lnTo>
                  <a:lnTo>
                    <a:pt x="51" y="1900"/>
                  </a:lnTo>
                  <a:lnTo>
                    <a:pt x="44" y="1815"/>
                  </a:lnTo>
                  <a:lnTo>
                    <a:pt x="42" y="1729"/>
                  </a:lnTo>
                  <a:lnTo>
                    <a:pt x="44" y="1641"/>
                  </a:lnTo>
                  <a:lnTo>
                    <a:pt x="51" y="1556"/>
                  </a:lnTo>
                  <a:lnTo>
                    <a:pt x="61" y="1472"/>
                  </a:lnTo>
                  <a:lnTo>
                    <a:pt x="75" y="1388"/>
                  </a:lnTo>
                  <a:lnTo>
                    <a:pt x="95" y="1306"/>
                  </a:lnTo>
                  <a:lnTo>
                    <a:pt x="118" y="1226"/>
                  </a:lnTo>
                  <a:lnTo>
                    <a:pt x="143" y="1149"/>
                  </a:lnTo>
                  <a:lnTo>
                    <a:pt x="174" y="1072"/>
                  </a:lnTo>
                  <a:lnTo>
                    <a:pt x="208" y="998"/>
                  </a:lnTo>
                  <a:lnTo>
                    <a:pt x="245" y="924"/>
                  </a:lnTo>
                  <a:lnTo>
                    <a:pt x="286" y="854"/>
                  </a:lnTo>
                  <a:lnTo>
                    <a:pt x="329" y="786"/>
                  </a:lnTo>
                  <a:lnTo>
                    <a:pt x="377" y="719"/>
                  </a:lnTo>
                  <a:lnTo>
                    <a:pt x="427" y="655"/>
                  </a:lnTo>
                  <a:lnTo>
                    <a:pt x="480" y="595"/>
                  </a:lnTo>
                  <a:lnTo>
                    <a:pt x="536" y="535"/>
                  </a:lnTo>
                  <a:lnTo>
                    <a:pt x="594" y="480"/>
                  </a:lnTo>
                  <a:lnTo>
                    <a:pt x="656" y="427"/>
                  </a:lnTo>
                  <a:lnTo>
                    <a:pt x="719" y="377"/>
                  </a:lnTo>
                  <a:lnTo>
                    <a:pt x="785" y="330"/>
                  </a:lnTo>
                  <a:lnTo>
                    <a:pt x="854" y="286"/>
                  </a:lnTo>
                  <a:lnTo>
                    <a:pt x="925" y="245"/>
                  </a:lnTo>
                  <a:lnTo>
                    <a:pt x="997" y="208"/>
                  </a:lnTo>
                  <a:lnTo>
                    <a:pt x="1073" y="175"/>
                  </a:lnTo>
                  <a:lnTo>
                    <a:pt x="1149" y="144"/>
                  </a:lnTo>
                  <a:lnTo>
                    <a:pt x="1227" y="117"/>
                  </a:lnTo>
                  <a:lnTo>
                    <a:pt x="1307" y="95"/>
                  </a:lnTo>
                  <a:lnTo>
                    <a:pt x="1389" y="76"/>
                  </a:lnTo>
                  <a:lnTo>
                    <a:pt x="1473" y="61"/>
                  </a:lnTo>
                  <a:lnTo>
                    <a:pt x="1557" y="50"/>
                  </a:lnTo>
                  <a:lnTo>
                    <a:pt x="1642" y="44"/>
                  </a:lnTo>
                  <a:lnTo>
                    <a:pt x="1729" y="42"/>
                  </a:lnTo>
                  <a:lnTo>
                    <a:pt x="1816" y="44"/>
                  </a:lnTo>
                  <a:lnTo>
                    <a:pt x="1902" y="50"/>
                  </a:lnTo>
                  <a:lnTo>
                    <a:pt x="1986" y="61"/>
                  </a:lnTo>
                  <a:lnTo>
                    <a:pt x="2069" y="76"/>
                  </a:lnTo>
                  <a:lnTo>
                    <a:pt x="2151" y="95"/>
                  </a:lnTo>
                  <a:lnTo>
                    <a:pt x="2231" y="117"/>
                  </a:lnTo>
                  <a:lnTo>
                    <a:pt x="2309" y="144"/>
                  </a:lnTo>
                  <a:lnTo>
                    <a:pt x="2386" y="175"/>
                  </a:lnTo>
                  <a:lnTo>
                    <a:pt x="2461" y="208"/>
                  </a:lnTo>
                  <a:lnTo>
                    <a:pt x="2534" y="245"/>
                  </a:lnTo>
                  <a:lnTo>
                    <a:pt x="2604" y="286"/>
                  </a:lnTo>
                  <a:lnTo>
                    <a:pt x="2673" y="330"/>
                  </a:lnTo>
                  <a:lnTo>
                    <a:pt x="2739" y="377"/>
                  </a:lnTo>
                  <a:lnTo>
                    <a:pt x="2803" y="427"/>
                  </a:lnTo>
                  <a:lnTo>
                    <a:pt x="2864" y="480"/>
                  </a:lnTo>
                  <a:lnTo>
                    <a:pt x="2923" y="535"/>
                  </a:lnTo>
                  <a:lnTo>
                    <a:pt x="2979" y="595"/>
                  </a:lnTo>
                  <a:lnTo>
                    <a:pt x="3032" y="655"/>
                  </a:lnTo>
                  <a:lnTo>
                    <a:pt x="3081" y="719"/>
                  </a:lnTo>
                  <a:lnTo>
                    <a:pt x="3129" y="786"/>
                  </a:lnTo>
                  <a:lnTo>
                    <a:pt x="3172" y="854"/>
                  </a:lnTo>
                  <a:lnTo>
                    <a:pt x="3213" y="924"/>
                  </a:lnTo>
                  <a:lnTo>
                    <a:pt x="3250" y="998"/>
                  </a:lnTo>
                  <a:lnTo>
                    <a:pt x="3285" y="1072"/>
                  </a:lnTo>
                  <a:lnTo>
                    <a:pt x="3314" y="1149"/>
                  </a:lnTo>
                  <a:lnTo>
                    <a:pt x="3341" y="1226"/>
                  </a:lnTo>
                  <a:lnTo>
                    <a:pt x="3363" y="1306"/>
                  </a:lnTo>
                  <a:lnTo>
                    <a:pt x="3383" y="1388"/>
                  </a:lnTo>
                  <a:lnTo>
                    <a:pt x="3397" y="1472"/>
                  </a:lnTo>
                  <a:lnTo>
                    <a:pt x="3408" y="1556"/>
                  </a:lnTo>
                  <a:lnTo>
                    <a:pt x="3414" y="1641"/>
                  </a:lnTo>
                  <a:lnTo>
                    <a:pt x="3416" y="1729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97" y="3413"/>
                  </a:lnTo>
                  <a:lnTo>
                    <a:pt x="1884" y="3407"/>
                  </a:lnTo>
                  <a:lnTo>
                    <a:pt x="1969" y="3396"/>
                  </a:lnTo>
                  <a:lnTo>
                    <a:pt x="2053" y="3381"/>
                  </a:lnTo>
                  <a:lnTo>
                    <a:pt x="2137" y="3361"/>
                  </a:lnTo>
                  <a:lnTo>
                    <a:pt x="2218" y="3338"/>
                  </a:lnTo>
                  <a:lnTo>
                    <a:pt x="2296" y="3311"/>
                  </a:lnTo>
                  <a:lnTo>
                    <a:pt x="2374" y="3281"/>
                  </a:lnTo>
                  <a:lnTo>
                    <a:pt x="2450" y="3247"/>
                  </a:lnTo>
                  <a:lnTo>
                    <a:pt x="2523" y="3209"/>
                  </a:lnTo>
                  <a:lnTo>
                    <a:pt x="2595" y="3168"/>
                  </a:lnTo>
                  <a:lnTo>
                    <a:pt x="2664" y="3124"/>
                  </a:lnTo>
                  <a:lnTo>
                    <a:pt x="2731" y="3076"/>
                  </a:lnTo>
                  <a:lnTo>
                    <a:pt x="2796" y="3025"/>
                  </a:lnTo>
                  <a:lnTo>
                    <a:pt x="2858" y="2971"/>
                  </a:lnTo>
                  <a:lnTo>
                    <a:pt x="2917" y="2915"/>
                  </a:lnTo>
                  <a:lnTo>
                    <a:pt x="2974" y="2856"/>
                  </a:lnTo>
                  <a:lnTo>
                    <a:pt x="3027" y="2793"/>
                  </a:lnTo>
                  <a:lnTo>
                    <a:pt x="3078" y="2729"/>
                  </a:lnTo>
                  <a:lnTo>
                    <a:pt x="3126" y="2662"/>
                  </a:lnTo>
                  <a:lnTo>
                    <a:pt x="3171" y="2593"/>
                  </a:lnTo>
                  <a:lnTo>
                    <a:pt x="3212" y="2521"/>
                  </a:lnTo>
                  <a:lnTo>
                    <a:pt x="3249" y="2447"/>
                  </a:lnTo>
                  <a:lnTo>
                    <a:pt x="3283" y="2372"/>
                  </a:lnTo>
                  <a:lnTo>
                    <a:pt x="3314" y="2294"/>
                  </a:lnTo>
                  <a:lnTo>
                    <a:pt x="3340" y="2215"/>
                  </a:lnTo>
                  <a:lnTo>
                    <a:pt x="3364" y="2134"/>
                  </a:lnTo>
                  <a:lnTo>
                    <a:pt x="3382" y="2051"/>
                  </a:lnTo>
                  <a:lnTo>
                    <a:pt x="3398" y="1968"/>
                  </a:lnTo>
                  <a:lnTo>
                    <a:pt x="3408" y="1882"/>
                  </a:lnTo>
                  <a:lnTo>
                    <a:pt x="3415" y="1795"/>
                  </a:lnTo>
                  <a:lnTo>
                    <a:pt x="3418" y="1708"/>
                  </a:lnTo>
                  <a:close/>
                  <a:moveTo>
                    <a:pt x="3376" y="1708"/>
                  </a:moveTo>
                  <a:lnTo>
                    <a:pt x="3374" y="1793"/>
                  </a:lnTo>
                  <a:lnTo>
                    <a:pt x="3367" y="1877"/>
                  </a:lnTo>
                  <a:lnTo>
                    <a:pt x="3356" y="1961"/>
                  </a:lnTo>
                  <a:lnTo>
                    <a:pt x="3342" y="2044"/>
                  </a:lnTo>
                  <a:lnTo>
                    <a:pt x="3323" y="2123"/>
                  </a:lnTo>
                  <a:lnTo>
                    <a:pt x="3301" y="2202"/>
                  </a:lnTo>
                  <a:lnTo>
                    <a:pt x="3274" y="2280"/>
                  </a:lnTo>
                  <a:lnTo>
                    <a:pt x="3245" y="2356"/>
                  </a:lnTo>
                  <a:lnTo>
                    <a:pt x="3212" y="2429"/>
                  </a:lnTo>
                  <a:lnTo>
                    <a:pt x="3175" y="2501"/>
                  </a:lnTo>
                  <a:lnTo>
                    <a:pt x="3135" y="2572"/>
                  </a:lnTo>
                  <a:lnTo>
                    <a:pt x="3092" y="2639"/>
                  </a:lnTo>
                  <a:lnTo>
                    <a:pt x="3045" y="2705"/>
                  </a:lnTo>
                  <a:lnTo>
                    <a:pt x="2996" y="2767"/>
                  </a:lnTo>
                  <a:lnTo>
                    <a:pt x="2943" y="2828"/>
                  </a:lnTo>
                  <a:lnTo>
                    <a:pt x="2888" y="2885"/>
                  </a:lnTo>
                  <a:lnTo>
                    <a:pt x="2830" y="2941"/>
                  </a:lnTo>
                  <a:lnTo>
                    <a:pt x="2770" y="2993"/>
                  </a:lnTo>
                  <a:lnTo>
                    <a:pt x="2706" y="3043"/>
                  </a:lnTo>
                  <a:lnTo>
                    <a:pt x="2641" y="3089"/>
                  </a:lnTo>
                  <a:lnTo>
                    <a:pt x="2573" y="3132"/>
                  </a:lnTo>
                  <a:lnTo>
                    <a:pt x="2504" y="3172"/>
                  </a:lnTo>
                  <a:lnTo>
                    <a:pt x="2432" y="3209"/>
                  </a:lnTo>
                  <a:lnTo>
                    <a:pt x="2358" y="3242"/>
                  </a:lnTo>
                  <a:lnTo>
                    <a:pt x="2282" y="3273"/>
                  </a:lnTo>
                  <a:lnTo>
                    <a:pt x="2205" y="3299"/>
                  </a:lnTo>
                  <a:lnTo>
                    <a:pt x="2126" y="3321"/>
                  </a:lnTo>
                  <a:lnTo>
                    <a:pt x="2045" y="3340"/>
                  </a:lnTo>
                  <a:lnTo>
                    <a:pt x="1963" y="3355"/>
                  </a:lnTo>
                  <a:lnTo>
                    <a:pt x="1879" y="3364"/>
                  </a:lnTo>
                  <a:lnTo>
                    <a:pt x="1795" y="3371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74" y="3371"/>
                  </a:lnTo>
                  <a:lnTo>
                    <a:pt x="1860" y="3365"/>
                  </a:lnTo>
                  <a:lnTo>
                    <a:pt x="1944" y="3354"/>
                  </a:lnTo>
                  <a:lnTo>
                    <a:pt x="2027" y="3339"/>
                  </a:lnTo>
                  <a:lnTo>
                    <a:pt x="2109" y="3320"/>
                  </a:lnTo>
                  <a:lnTo>
                    <a:pt x="2189" y="3297"/>
                  </a:lnTo>
                  <a:lnTo>
                    <a:pt x="2267" y="3271"/>
                  </a:lnTo>
                  <a:lnTo>
                    <a:pt x="2344" y="3241"/>
                  </a:lnTo>
                  <a:lnTo>
                    <a:pt x="2419" y="3207"/>
                  </a:lnTo>
                  <a:lnTo>
                    <a:pt x="2492" y="3170"/>
                  </a:lnTo>
                  <a:lnTo>
                    <a:pt x="2562" y="3128"/>
                  </a:lnTo>
                  <a:lnTo>
                    <a:pt x="2631" y="3085"/>
                  </a:lnTo>
                  <a:lnTo>
                    <a:pt x="2697" y="3038"/>
                  </a:lnTo>
                  <a:lnTo>
                    <a:pt x="2761" y="2988"/>
                  </a:lnTo>
                  <a:lnTo>
                    <a:pt x="2822" y="2935"/>
                  </a:lnTo>
                  <a:lnTo>
                    <a:pt x="2881" y="2879"/>
                  </a:lnTo>
                  <a:lnTo>
                    <a:pt x="2937" y="2821"/>
                  </a:lnTo>
                  <a:lnTo>
                    <a:pt x="2990" y="2759"/>
                  </a:lnTo>
                  <a:lnTo>
                    <a:pt x="3039" y="2695"/>
                  </a:lnTo>
                  <a:lnTo>
                    <a:pt x="3087" y="2630"/>
                  </a:lnTo>
                  <a:lnTo>
                    <a:pt x="3130" y="2561"/>
                  </a:lnTo>
                  <a:lnTo>
                    <a:pt x="3171" y="2490"/>
                  </a:lnTo>
                  <a:lnTo>
                    <a:pt x="3208" y="2418"/>
                  </a:lnTo>
                  <a:lnTo>
                    <a:pt x="3243" y="2343"/>
                  </a:lnTo>
                  <a:lnTo>
                    <a:pt x="3272" y="2267"/>
                  </a:lnTo>
                  <a:lnTo>
                    <a:pt x="3299" y="2188"/>
                  </a:lnTo>
                  <a:lnTo>
                    <a:pt x="3321" y="2108"/>
                  </a:lnTo>
                  <a:lnTo>
                    <a:pt x="3341" y="2027"/>
                  </a:lnTo>
                  <a:lnTo>
                    <a:pt x="3355" y="1944"/>
                  </a:lnTo>
                  <a:lnTo>
                    <a:pt x="3366" y="1858"/>
                  </a:lnTo>
                  <a:lnTo>
                    <a:pt x="3372" y="1773"/>
                  </a:lnTo>
                  <a:lnTo>
                    <a:pt x="3374" y="1687"/>
                  </a:lnTo>
                  <a:close/>
                  <a:moveTo>
                    <a:pt x="3333" y="1687"/>
                  </a:moveTo>
                  <a:lnTo>
                    <a:pt x="3331" y="1771"/>
                  </a:lnTo>
                  <a:lnTo>
                    <a:pt x="3325" y="1854"/>
                  </a:lnTo>
                  <a:lnTo>
                    <a:pt x="3314" y="1937"/>
                  </a:lnTo>
                  <a:lnTo>
                    <a:pt x="3300" y="2018"/>
                  </a:lnTo>
                  <a:lnTo>
                    <a:pt x="3282" y="2097"/>
                  </a:lnTo>
                  <a:lnTo>
                    <a:pt x="3259" y="2176"/>
                  </a:lnTo>
                  <a:lnTo>
                    <a:pt x="3233" y="2252"/>
                  </a:lnTo>
                  <a:lnTo>
                    <a:pt x="3204" y="2327"/>
                  </a:lnTo>
                  <a:lnTo>
                    <a:pt x="3170" y="2399"/>
                  </a:lnTo>
                  <a:lnTo>
                    <a:pt x="3135" y="2471"/>
                  </a:lnTo>
                  <a:lnTo>
                    <a:pt x="3095" y="2540"/>
                  </a:lnTo>
                  <a:lnTo>
                    <a:pt x="3052" y="2606"/>
                  </a:lnTo>
                  <a:lnTo>
                    <a:pt x="3006" y="2671"/>
                  </a:lnTo>
                  <a:lnTo>
                    <a:pt x="2957" y="2733"/>
                  </a:lnTo>
                  <a:lnTo>
                    <a:pt x="2905" y="2793"/>
                  </a:lnTo>
                  <a:lnTo>
                    <a:pt x="2851" y="2850"/>
                  </a:lnTo>
                  <a:lnTo>
                    <a:pt x="2794" y="2904"/>
                  </a:lnTo>
                  <a:lnTo>
                    <a:pt x="2734" y="2956"/>
                  </a:lnTo>
                  <a:lnTo>
                    <a:pt x="2672" y="3004"/>
                  </a:lnTo>
                  <a:lnTo>
                    <a:pt x="2607" y="3051"/>
                  </a:lnTo>
                  <a:lnTo>
                    <a:pt x="2540" y="3094"/>
                  </a:lnTo>
                  <a:lnTo>
                    <a:pt x="2471" y="3133"/>
                  </a:lnTo>
                  <a:lnTo>
                    <a:pt x="2401" y="3170"/>
                  </a:lnTo>
                  <a:lnTo>
                    <a:pt x="2327" y="3202"/>
                  </a:lnTo>
                  <a:lnTo>
                    <a:pt x="2253" y="3232"/>
                  </a:lnTo>
                  <a:lnTo>
                    <a:pt x="2176" y="3258"/>
                  </a:lnTo>
                  <a:lnTo>
                    <a:pt x="2098" y="3280"/>
                  </a:lnTo>
                  <a:lnTo>
                    <a:pt x="2018" y="3298"/>
                  </a:lnTo>
                  <a:lnTo>
                    <a:pt x="1937" y="3312"/>
                  </a:lnTo>
                  <a:lnTo>
                    <a:pt x="1855" y="3323"/>
                  </a:lnTo>
                  <a:lnTo>
                    <a:pt x="1772" y="3329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53" y="3330"/>
                  </a:lnTo>
                  <a:lnTo>
                    <a:pt x="1837" y="3323"/>
                  </a:lnTo>
                  <a:lnTo>
                    <a:pt x="1921" y="3314"/>
                  </a:lnTo>
                  <a:lnTo>
                    <a:pt x="2003" y="3299"/>
                  </a:lnTo>
                  <a:lnTo>
                    <a:pt x="2084" y="3280"/>
                  </a:lnTo>
                  <a:lnTo>
                    <a:pt x="2163" y="3258"/>
                  </a:lnTo>
                  <a:lnTo>
                    <a:pt x="2240" y="3232"/>
                  </a:lnTo>
                  <a:lnTo>
                    <a:pt x="2316" y="3201"/>
                  </a:lnTo>
                  <a:lnTo>
                    <a:pt x="2390" y="3168"/>
                  </a:lnTo>
                  <a:lnTo>
                    <a:pt x="2462" y="3131"/>
                  </a:lnTo>
                  <a:lnTo>
                    <a:pt x="2531" y="3091"/>
                  </a:lnTo>
                  <a:lnTo>
                    <a:pt x="2599" y="3048"/>
                  </a:lnTo>
                  <a:lnTo>
                    <a:pt x="2664" y="3002"/>
                  </a:lnTo>
                  <a:lnTo>
                    <a:pt x="2728" y="2952"/>
                  </a:lnTo>
                  <a:lnTo>
                    <a:pt x="2788" y="2900"/>
                  </a:lnTo>
                  <a:lnTo>
                    <a:pt x="2846" y="2844"/>
                  </a:lnTo>
                  <a:lnTo>
                    <a:pt x="2901" y="2787"/>
                  </a:lnTo>
                  <a:lnTo>
                    <a:pt x="2954" y="2726"/>
                  </a:lnTo>
                  <a:lnTo>
                    <a:pt x="3003" y="2664"/>
                  </a:lnTo>
                  <a:lnTo>
                    <a:pt x="3050" y="2598"/>
                  </a:lnTo>
                  <a:lnTo>
                    <a:pt x="3093" y="2531"/>
                  </a:lnTo>
                  <a:lnTo>
                    <a:pt x="3133" y="2460"/>
                  </a:lnTo>
                  <a:lnTo>
                    <a:pt x="3170" y="2388"/>
                  </a:lnTo>
                  <a:lnTo>
                    <a:pt x="3203" y="2315"/>
                  </a:lnTo>
                  <a:lnTo>
                    <a:pt x="3232" y="2239"/>
                  </a:lnTo>
                  <a:lnTo>
                    <a:pt x="3259" y="2161"/>
                  </a:lnTo>
                  <a:lnTo>
                    <a:pt x="3281" y="2082"/>
                  </a:lnTo>
                  <a:lnTo>
                    <a:pt x="3300" y="2003"/>
                  </a:lnTo>
                  <a:lnTo>
                    <a:pt x="3314" y="1920"/>
                  </a:lnTo>
                  <a:lnTo>
                    <a:pt x="3325" y="1836"/>
                  </a:lnTo>
                  <a:lnTo>
                    <a:pt x="3332" y="1752"/>
                  </a:lnTo>
                  <a:lnTo>
                    <a:pt x="3334" y="1667"/>
                  </a:lnTo>
                  <a:close/>
                  <a:moveTo>
                    <a:pt x="3292" y="1667"/>
                  </a:moveTo>
                  <a:lnTo>
                    <a:pt x="3290" y="1750"/>
                  </a:lnTo>
                  <a:lnTo>
                    <a:pt x="3284" y="1833"/>
                  </a:lnTo>
                  <a:lnTo>
                    <a:pt x="3273" y="1914"/>
                  </a:lnTo>
                  <a:lnTo>
                    <a:pt x="3259" y="1994"/>
                  </a:lnTo>
                  <a:lnTo>
                    <a:pt x="3241" y="2073"/>
                  </a:lnTo>
                  <a:lnTo>
                    <a:pt x="3219" y="2149"/>
                  </a:lnTo>
                  <a:lnTo>
                    <a:pt x="3193" y="2225"/>
                  </a:lnTo>
                  <a:lnTo>
                    <a:pt x="3164" y="2298"/>
                  </a:lnTo>
                  <a:lnTo>
                    <a:pt x="3132" y="2371"/>
                  </a:lnTo>
                  <a:lnTo>
                    <a:pt x="3096" y="2441"/>
                  </a:lnTo>
                  <a:lnTo>
                    <a:pt x="3057" y="2509"/>
                  </a:lnTo>
                  <a:lnTo>
                    <a:pt x="3015" y="2575"/>
                  </a:lnTo>
                  <a:lnTo>
                    <a:pt x="2970" y="2639"/>
                  </a:lnTo>
                  <a:lnTo>
                    <a:pt x="2921" y="2699"/>
                  </a:lnTo>
                  <a:lnTo>
                    <a:pt x="2870" y="2759"/>
                  </a:lnTo>
                  <a:lnTo>
                    <a:pt x="2816" y="2815"/>
                  </a:lnTo>
                  <a:lnTo>
                    <a:pt x="2760" y="2869"/>
                  </a:lnTo>
                  <a:lnTo>
                    <a:pt x="2701" y="2919"/>
                  </a:lnTo>
                  <a:lnTo>
                    <a:pt x="2639" y="2968"/>
                  </a:lnTo>
                  <a:lnTo>
                    <a:pt x="2575" y="3013"/>
                  </a:lnTo>
                  <a:lnTo>
                    <a:pt x="2509" y="3056"/>
                  </a:lnTo>
                  <a:lnTo>
                    <a:pt x="2441" y="3094"/>
                  </a:lnTo>
                  <a:lnTo>
                    <a:pt x="2371" y="3130"/>
                  </a:lnTo>
                  <a:lnTo>
                    <a:pt x="2300" y="3164"/>
                  </a:lnTo>
                  <a:lnTo>
                    <a:pt x="2226" y="3192"/>
                  </a:lnTo>
                  <a:lnTo>
                    <a:pt x="2151" y="3218"/>
                  </a:lnTo>
                  <a:lnTo>
                    <a:pt x="2073" y="3239"/>
                  </a:lnTo>
                  <a:lnTo>
                    <a:pt x="1995" y="3258"/>
                  </a:lnTo>
                  <a:lnTo>
                    <a:pt x="1914" y="3272"/>
                  </a:lnTo>
                  <a:lnTo>
                    <a:pt x="1833" y="3282"/>
                  </a:lnTo>
                  <a:lnTo>
                    <a:pt x="1751" y="3289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731" y="3288"/>
                  </a:lnTo>
                  <a:lnTo>
                    <a:pt x="1814" y="3282"/>
                  </a:lnTo>
                  <a:lnTo>
                    <a:pt x="1896" y="3271"/>
                  </a:lnTo>
                  <a:lnTo>
                    <a:pt x="1977" y="3257"/>
                  </a:lnTo>
                  <a:lnTo>
                    <a:pt x="2057" y="3239"/>
                  </a:lnTo>
                  <a:lnTo>
                    <a:pt x="2135" y="3217"/>
                  </a:lnTo>
                  <a:lnTo>
                    <a:pt x="2212" y="3191"/>
                  </a:lnTo>
                  <a:lnTo>
                    <a:pt x="2286" y="3161"/>
                  </a:lnTo>
                  <a:lnTo>
                    <a:pt x="2360" y="3129"/>
                  </a:lnTo>
                  <a:lnTo>
                    <a:pt x="2430" y="3092"/>
                  </a:lnTo>
                  <a:lnTo>
                    <a:pt x="2499" y="3053"/>
                  </a:lnTo>
                  <a:lnTo>
                    <a:pt x="2566" y="3010"/>
                  </a:lnTo>
                  <a:lnTo>
                    <a:pt x="2631" y="2963"/>
                  </a:lnTo>
                  <a:lnTo>
                    <a:pt x="2693" y="2915"/>
                  </a:lnTo>
                  <a:lnTo>
                    <a:pt x="2753" y="2863"/>
                  </a:lnTo>
                  <a:lnTo>
                    <a:pt x="2810" y="2809"/>
                  </a:lnTo>
                  <a:lnTo>
                    <a:pt x="2864" y="2752"/>
                  </a:lnTo>
                  <a:lnTo>
                    <a:pt x="2916" y="2692"/>
                  </a:lnTo>
                  <a:lnTo>
                    <a:pt x="2965" y="2630"/>
                  </a:lnTo>
                  <a:lnTo>
                    <a:pt x="3011" y="2565"/>
                  </a:lnTo>
                  <a:lnTo>
                    <a:pt x="3054" y="2499"/>
                  </a:lnTo>
                  <a:lnTo>
                    <a:pt x="3094" y="2430"/>
                  </a:lnTo>
                  <a:lnTo>
                    <a:pt x="3129" y="2358"/>
                  </a:lnTo>
                  <a:lnTo>
                    <a:pt x="3163" y="2286"/>
                  </a:lnTo>
                  <a:lnTo>
                    <a:pt x="3192" y="2211"/>
                  </a:lnTo>
                  <a:lnTo>
                    <a:pt x="3218" y="2135"/>
                  </a:lnTo>
                  <a:lnTo>
                    <a:pt x="3241" y="2056"/>
                  </a:lnTo>
                  <a:lnTo>
                    <a:pt x="3259" y="1977"/>
                  </a:lnTo>
                  <a:lnTo>
                    <a:pt x="3273" y="1896"/>
                  </a:lnTo>
                  <a:lnTo>
                    <a:pt x="3284" y="1813"/>
                  </a:lnTo>
                  <a:lnTo>
                    <a:pt x="3290" y="1730"/>
                  </a:lnTo>
                  <a:lnTo>
                    <a:pt x="3292" y="1646"/>
                  </a:lnTo>
                  <a:close/>
                  <a:moveTo>
                    <a:pt x="3250" y="1646"/>
                  </a:moveTo>
                  <a:lnTo>
                    <a:pt x="3248" y="1728"/>
                  </a:lnTo>
                  <a:lnTo>
                    <a:pt x="3242" y="1810"/>
                  </a:lnTo>
                  <a:lnTo>
                    <a:pt x="3232" y="1890"/>
                  </a:lnTo>
                  <a:lnTo>
                    <a:pt x="3218" y="1969"/>
                  </a:lnTo>
                  <a:lnTo>
                    <a:pt x="3199" y="2046"/>
                  </a:lnTo>
                  <a:lnTo>
                    <a:pt x="3178" y="2122"/>
                  </a:lnTo>
                  <a:lnTo>
                    <a:pt x="3153" y="2196"/>
                  </a:lnTo>
                  <a:lnTo>
                    <a:pt x="3124" y="2270"/>
                  </a:lnTo>
                  <a:lnTo>
                    <a:pt x="3092" y="2340"/>
                  </a:lnTo>
                  <a:lnTo>
                    <a:pt x="3057" y="2409"/>
                  </a:lnTo>
                  <a:lnTo>
                    <a:pt x="3018" y="2477"/>
                  </a:lnTo>
                  <a:lnTo>
                    <a:pt x="2977" y="2542"/>
                  </a:lnTo>
                  <a:lnTo>
                    <a:pt x="2931" y="2605"/>
                  </a:lnTo>
                  <a:lnTo>
                    <a:pt x="2884" y="2665"/>
                  </a:lnTo>
                  <a:lnTo>
                    <a:pt x="2833" y="2724"/>
                  </a:lnTo>
                  <a:lnTo>
                    <a:pt x="2780" y="2780"/>
                  </a:lnTo>
                  <a:lnTo>
                    <a:pt x="2725" y="2833"/>
                  </a:lnTo>
                  <a:lnTo>
                    <a:pt x="2667" y="2882"/>
                  </a:lnTo>
                  <a:lnTo>
                    <a:pt x="2606" y="2930"/>
                  </a:lnTo>
                  <a:lnTo>
                    <a:pt x="2544" y="2975"/>
                  </a:lnTo>
                  <a:lnTo>
                    <a:pt x="2478" y="3017"/>
                  </a:lnTo>
                  <a:lnTo>
                    <a:pt x="2411" y="3055"/>
                  </a:lnTo>
                  <a:lnTo>
                    <a:pt x="2342" y="3091"/>
                  </a:lnTo>
                  <a:lnTo>
                    <a:pt x="2270" y="3123"/>
                  </a:lnTo>
                  <a:lnTo>
                    <a:pt x="2198" y="3151"/>
                  </a:lnTo>
                  <a:lnTo>
                    <a:pt x="2123" y="3177"/>
                  </a:lnTo>
                  <a:lnTo>
                    <a:pt x="2047" y="3199"/>
                  </a:lnTo>
                  <a:lnTo>
                    <a:pt x="1970" y="3216"/>
                  </a:lnTo>
                  <a:lnTo>
                    <a:pt x="1891" y="3230"/>
                  </a:lnTo>
                  <a:lnTo>
                    <a:pt x="1810" y="3241"/>
                  </a:lnTo>
                  <a:lnTo>
                    <a:pt x="1729" y="3247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708" y="3247"/>
                  </a:lnTo>
                  <a:lnTo>
                    <a:pt x="1790" y="3240"/>
                  </a:lnTo>
                  <a:lnTo>
                    <a:pt x="1871" y="3230"/>
                  </a:lnTo>
                  <a:lnTo>
                    <a:pt x="1952" y="3216"/>
                  </a:lnTo>
                  <a:lnTo>
                    <a:pt x="2030" y="3197"/>
                  </a:lnTo>
                  <a:lnTo>
                    <a:pt x="2108" y="3176"/>
                  </a:lnTo>
                  <a:lnTo>
                    <a:pt x="2183" y="3150"/>
                  </a:lnTo>
                  <a:lnTo>
                    <a:pt x="2257" y="3122"/>
                  </a:lnTo>
                  <a:lnTo>
                    <a:pt x="2328" y="3088"/>
                  </a:lnTo>
                  <a:lnTo>
                    <a:pt x="2398" y="3052"/>
                  </a:lnTo>
                  <a:lnTo>
                    <a:pt x="2466" y="3014"/>
                  </a:lnTo>
                  <a:lnTo>
                    <a:pt x="2532" y="2971"/>
                  </a:lnTo>
                  <a:lnTo>
                    <a:pt x="2596" y="2926"/>
                  </a:lnTo>
                  <a:lnTo>
                    <a:pt x="2658" y="2877"/>
                  </a:lnTo>
                  <a:lnTo>
                    <a:pt x="2717" y="2827"/>
                  </a:lnTo>
                  <a:lnTo>
                    <a:pt x="2773" y="2773"/>
                  </a:lnTo>
                  <a:lnTo>
                    <a:pt x="2827" y="2717"/>
                  </a:lnTo>
                  <a:lnTo>
                    <a:pt x="2878" y="2657"/>
                  </a:lnTo>
                  <a:lnTo>
                    <a:pt x="2927" y="2597"/>
                  </a:lnTo>
                  <a:lnTo>
                    <a:pt x="2972" y="2533"/>
                  </a:lnTo>
                  <a:lnTo>
                    <a:pt x="3014" y="2467"/>
                  </a:lnTo>
                  <a:lnTo>
                    <a:pt x="3053" y="2399"/>
                  </a:lnTo>
                  <a:lnTo>
                    <a:pt x="3089" y="2329"/>
                  </a:lnTo>
                  <a:lnTo>
                    <a:pt x="3121" y="2256"/>
                  </a:lnTo>
                  <a:lnTo>
                    <a:pt x="3150" y="2183"/>
                  </a:lnTo>
                  <a:lnTo>
                    <a:pt x="3176" y="2107"/>
                  </a:lnTo>
                  <a:lnTo>
                    <a:pt x="3198" y="2031"/>
                  </a:lnTo>
                  <a:lnTo>
                    <a:pt x="3216" y="1952"/>
                  </a:lnTo>
                  <a:lnTo>
                    <a:pt x="3230" y="1872"/>
                  </a:lnTo>
                  <a:lnTo>
                    <a:pt x="3241" y="1791"/>
                  </a:lnTo>
                  <a:lnTo>
                    <a:pt x="3247" y="1708"/>
                  </a:lnTo>
                  <a:lnTo>
                    <a:pt x="3249" y="1625"/>
                  </a:lnTo>
                  <a:close/>
                  <a:moveTo>
                    <a:pt x="3208" y="1625"/>
                  </a:moveTo>
                  <a:lnTo>
                    <a:pt x="3206" y="1706"/>
                  </a:lnTo>
                  <a:lnTo>
                    <a:pt x="3199" y="1787"/>
                  </a:lnTo>
                  <a:lnTo>
                    <a:pt x="3189" y="1866"/>
                  </a:lnTo>
                  <a:lnTo>
                    <a:pt x="3175" y="1943"/>
                  </a:lnTo>
                  <a:lnTo>
                    <a:pt x="3158" y="2020"/>
                  </a:lnTo>
                  <a:lnTo>
                    <a:pt x="3136" y="2096"/>
                  </a:lnTo>
                  <a:lnTo>
                    <a:pt x="3112" y="2169"/>
                  </a:lnTo>
                  <a:lnTo>
                    <a:pt x="3083" y="2240"/>
                  </a:lnTo>
                  <a:lnTo>
                    <a:pt x="3051" y="2310"/>
                  </a:lnTo>
                  <a:lnTo>
                    <a:pt x="3016" y="2379"/>
                  </a:lnTo>
                  <a:lnTo>
                    <a:pt x="2979" y="2445"/>
                  </a:lnTo>
                  <a:lnTo>
                    <a:pt x="2938" y="2509"/>
                  </a:lnTo>
                  <a:lnTo>
                    <a:pt x="2893" y="2572"/>
                  </a:lnTo>
                  <a:lnTo>
                    <a:pt x="2846" y="2631"/>
                  </a:lnTo>
                  <a:lnTo>
                    <a:pt x="2796" y="2688"/>
                  </a:lnTo>
                  <a:lnTo>
                    <a:pt x="2744" y="2744"/>
                  </a:lnTo>
                  <a:lnTo>
                    <a:pt x="2689" y="2795"/>
                  </a:lnTo>
                  <a:lnTo>
                    <a:pt x="2632" y="2846"/>
                  </a:lnTo>
                  <a:lnTo>
                    <a:pt x="2571" y="2893"/>
                  </a:lnTo>
                  <a:lnTo>
                    <a:pt x="2510" y="2937"/>
                  </a:lnTo>
                  <a:lnTo>
                    <a:pt x="2445" y="2978"/>
                  </a:lnTo>
                  <a:lnTo>
                    <a:pt x="2379" y="3016"/>
                  </a:lnTo>
                  <a:lnTo>
                    <a:pt x="2311" y="3051"/>
                  </a:lnTo>
                  <a:lnTo>
                    <a:pt x="2241" y="3083"/>
                  </a:lnTo>
                  <a:lnTo>
                    <a:pt x="2168" y="3111"/>
                  </a:lnTo>
                  <a:lnTo>
                    <a:pt x="2095" y="3136"/>
                  </a:lnTo>
                  <a:lnTo>
                    <a:pt x="2020" y="3157"/>
                  </a:lnTo>
                  <a:lnTo>
                    <a:pt x="1943" y="3174"/>
                  </a:lnTo>
                  <a:lnTo>
                    <a:pt x="1866" y="3189"/>
                  </a:lnTo>
                  <a:lnTo>
                    <a:pt x="1786" y="3199"/>
                  </a:lnTo>
                  <a:lnTo>
                    <a:pt x="1706" y="3205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close/>
                </a:path>
              </a:pathLst>
            </a:custGeom>
            <a:solidFill>
              <a:srgbClr val="e46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87" y="3205"/>
                  </a:lnTo>
                  <a:lnTo>
                    <a:pt x="1768" y="3199"/>
                  </a:lnTo>
                  <a:lnTo>
                    <a:pt x="1849" y="3188"/>
                  </a:lnTo>
                  <a:lnTo>
                    <a:pt x="1928" y="3174"/>
                  </a:lnTo>
                  <a:lnTo>
                    <a:pt x="2005" y="3157"/>
                  </a:lnTo>
                  <a:lnTo>
                    <a:pt x="2081" y="3135"/>
                  </a:lnTo>
                  <a:lnTo>
                    <a:pt x="2156" y="3109"/>
                  </a:lnTo>
                  <a:lnTo>
                    <a:pt x="2228" y="3081"/>
                  </a:lnTo>
                  <a:lnTo>
                    <a:pt x="2300" y="3049"/>
                  </a:lnTo>
                  <a:lnTo>
                    <a:pt x="2369" y="3013"/>
                  </a:lnTo>
                  <a:lnTo>
                    <a:pt x="2436" y="2975"/>
                  </a:lnTo>
                  <a:lnTo>
                    <a:pt x="2502" y="2933"/>
                  </a:lnTo>
                  <a:lnTo>
                    <a:pt x="2564" y="2888"/>
                  </a:lnTo>
                  <a:lnTo>
                    <a:pt x="2625" y="2840"/>
                  </a:lnTo>
                  <a:lnTo>
                    <a:pt x="2683" y="2791"/>
                  </a:lnTo>
                  <a:lnTo>
                    <a:pt x="2738" y="2738"/>
                  </a:lnTo>
                  <a:lnTo>
                    <a:pt x="2791" y="2682"/>
                  </a:lnTo>
                  <a:lnTo>
                    <a:pt x="2842" y="2623"/>
                  </a:lnTo>
                  <a:lnTo>
                    <a:pt x="2889" y="2563"/>
                  </a:lnTo>
                  <a:lnTo>
                    <a:pt x="2935" y="2500"/>
                  </a:lnTo>
                  <a:lnTo>
                    <a:pt x="2976" y="2435"/>
                  </a:lnTo>
                  <a:lnTo>
                    <a:pt x="3015" y="2367"/>
                  </a:lnTo>
                  <a:lnTo>
                    <a:pt x="3050" y="2298"/>
                  </a:lnTo>
                  <a:lnTo>
                    <a:pt x="3082" y="2228"/>
                  </a:lnTo>
                  <a:lnTo>
                    <a:pt x="3111" y="2154"/>
                  </a:lnTo>
                  <a:lnTo>
                    <a:pt x="3136" y="2080"/>
                  </a:lnTo>
                  <a:lnTo>
                    <a:pt x="3157" y="2004"/>
                  </a:lnTo>
                  <a:lnTo>
                    <a:pt x="3176" y="1927"/>
                  </a:lnTo>
                  <a:lnTo>
                    <a:pt x="3190" y="1848"/>
                  </a:lnTo>
                  <a:lnTo>
                    <a:pt x="3200" y="1768"/>
                  </a:lnTo>
                  <a:lnTo>
                    <a:pt x="3206" y="1686"/>
                  </a:lnTo>
                  <a:lnTo>
                    <a:pt x="3208" y="1604"/>
                  </a:lnTo>
                  <a:close/>
                  <a:moveTo>
                    <a:pt x="3167" y="1604"/>
                  </a:moveTo>
                  <a:lnTo>
                    <a:pt x="3165" y="1684"/>
                  </a:lnTo>
                  <a:lnTo>
                    <a:pt x="3159" y="1764"/>
                  </a:lnTo>
                  <a:lnTo>
                    <a:pt x="3149" y="1841"/>
                  </a:lnTo>
                  <a:lnTo>
                    <a:pt x="3135" y="1918"/>
                  </a:lnTo>
                  <a:lnTo>
                    <a:pt x="3117" y="1994"/>
                  </a:lnTo>
                  <a:lnTo>
                    <a:pt x="3097" y="2068"/>
                  </a:lnTo>
                  <a:lnTo>
                    <a:pt x="3072" y="2140"/>
                  </a:lnTo>
                  <a:lnTo>
                    <a:pt x="3044" y="2212"/>
                  </a:lnTo>
                  <a:lnTo>
                    <a:pt x="3013" y="2281"/>
                  </a:lnTo>
                  <a:lnTo>
                    <a:pt x="2978" y="2348"/>
                  </a:lnTo>
                  <a:lnTo>
                    <a:pt x="2940" y="2414"/>
                  </a:lnTo>
                  <a:lnTo>
                    <a:pt x="2900" y="2476"/>
                  </a:lnTo>
                  <a:lnTo>
                    <a:pt x="2856" y="2538"/>
                  </a:lnTo>
                  <a:lnTo>
                    <a:pt x="2810" y="2597"/>
                  </a:lnTo>
                  <a:lnTo>
                    <a:pt x="2761" y="2653"/>
                  </a:lnTo>
                  <a:lnTo>
                    <a:pt x="2709" y="2707"/>
                  </a:lnTo>
                  <a:lnTo>
                    <a:pt x="2655" y="2759"/>
                  </a:lnTo>
                  <a:lnTo>
                    <a:pt x="2598" y="2809"/>
                  </a:lnTo>
                  <a:lnTo>
                    <a:pt x="2539" y="2855"/>
                  </a:lnTo>
                  <a:lnTo>
                    <a:pt x="2478" y="2899"/>
                  </a:lnTo>
                  <a:lnTo>
                    <a:pt x="2414" y="2940"/>
                  </a:lnTo>
                  <a:lnTo>
                    <a:pt x="2349" y="2976"/>
                  </a:lnTo>
                  <a:lnTo>
                    <a:pt x="2281" y="3011"/>
                  </a:lnTo>
                  <a:lnTo>
                    <a:pt x="2212" y="3042"/>
                  </a:lnTo>
                  <a:lnTo>
                    <a:pt x="2142" y="3070"/>
                  </a:lnTo>
                  <a:lnTo>
                    <a:pt x="2068" y="3095"/>
                  </a:lnTo>
                  <a:lnTo>
                    <a:pt x="1995" y="3116"/>
                  </a:lnTo>
                  <a:lnTo>
                    <a:pt x="1919" y="3134"/>
                  </a:lnTo>
                  <a:lnTo>
                    <a:pt x="1842" y="3147"/>
                  </a:lnTo>
                  <a:lnTo>
                    <a:pt x="1764" y="3157"/>
                  </a:lnTo>
                  <a:lnTo>
                    <a:pt x="1685" y="3163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65" y="3164"/>
                  </a:lnTo>
                  <a:lnTo>
                    <a:pt x="1745" y="3158"/>
                  </a:lnTo>
                  <a:lnTo>
                    <a:pt x="1825" y="3148"/>
                  </a:lnTo>
                  <a:lnTo>
                    <a:pt x="1902" y="3133"/>
                  </a:lnTo>
                  <a:lnTo>
                    <a:pt x="1979" y="3116"/>
                  </a:lnTo>
                  <a:lnTo>
                    <a:pt x="2054" y="3095"/>
                  </a:lnTo>
                  <a:lnTo>
                    <a:pt x="2127" y="3070"/>
                  </a:lnTo>
                  <a:lnTo>
                    <a:pt x="2200" y="3042"/>
                  </a:lnTo>
                  <a:lnTo>
                    <a:pt x="2270" y="3010"/>
                  </a:lnTo>
                  <a:lnTo>
                    <a:pt x="2338" y="2975"/>
                  </a:lnTo>
                  <a:lnTo>
                    <a:pt x="2404" y="2937"/>
                  </a:lnTo>
                  <a:lnTo>
                    <a:pt x="2469" y="2896"/>
                  </a:lnTo>
                  <a:lnTo>
                    <a:pt x="2530" y="2852"/>
                  </a:lnTo>
                  <a:lnTo>
                    <a:pt x="2591" y="2805"/>
                  </a:lnTo>
                  <a:lnTo>
                    <a:pt x="2648" y="2754"/>
                  </a:lnTo>
                  <a:lnTo>
                    <a:pt x="2703" y="2703"/>
                  </a:lnTo>
                  <a:lnTo>
                    <a:pt x="2755" y="2647"/>
                  </a:lnTo>
                  <a:lnTo>
                    <a:pt x="2805" y="2590"/>
                  </a:lnTo>
                  <a:lnTo>
                    <a:pt x="2852" y="2531"/>
                  </a:lnTo>
                  <a:lnTo>
                    <a:pt x="2897" y="2468"/>
                  </a:lnTo>
                  <a:lnTo>
                    <a:pt x="2938" y="2404"/>
                  </a:lnTo>
                  <a:lnTo>
                    <a:pt x="2975" y="2338"/>
                  </a:lnTo>
                  <a:lnTo>
                    <a:pt x="3010" y="2269"/>
                  </a:lnTo>
                  <a:lnTo>
                    <a:pt x="3042" y="2199"/>
                  </a:lnTo>
                  <a:lnTo>
                    <a:pt x="3071" y="2128"/>
                  </a:lnTo>
                  <a:lnTo>
                    <a:pt x="3095" y="2055"/>
                  </a:lnTo>
                  <a:lnTo>
                    <a:pt x="3117" y="1979"/>
                  </a:lnTo>
                  <a:lnTo>
                    <a:pt x="3134" y="1902"/>
                  </a:lnTo>
                  <a:lnTo>
                    <a:pt x="3148" y="1825"/>
                  </a:lnTo>
                  <a:lnTo>
                    <a:pt x="3158" y="1746"/>
                  </a:lnTo>
                  <a:lnTo>
                    <a:pt x="3165" y="1665"/>
                  </a:lnTo>
                  <a:lnTo>
                    <a:pt x="3167" y="1584"/>
                  </a:lnTo>
                  <a:close/>
                  <a:moveTo>
                    <a:pt x="3125" y="1584"/>
                  </a:moveTo>
                  <a:lnTo>
                    <a:pt x="3122" y="1663"/>
                  </a:lnTo>
                  <a:lnTo>
                    <a:pt x="3117" y="1741"/>
                  </a:lnTo>
                  <a:lnTo>
                    <a:pt x="3107" y="1818"/>
                  </a:lnTo>
                  <a:lnTo>
                    <a:pt x="3093" y="1894"/>
                  </a:lnTo>
                  <a:lnTo>
                    <a:pt x="3076" y="1968"/>
                  </a:lnTo>
                  <a:lnTo>
                    <a:pt x="3055" y="2042"/>
                  </a:lnTo>
                  <a:lnTo>
                    <a:pt x="3032" y="2113"/>
                  </a:lnTo>
                  <a:lnTo>
                    <a:pt x="3004" y="2183"/>
                  </a:lnTo>
                  <a:lnTo>
                    <a:pt x="2973" y="2251"/>
                  </a:lnTo>
                  <a:lnTo>
                    <a:pt x="2939" y="2318"/>
                  </a:lnTo>
                  <a:lnTo>
                    <a:pt x="2902" y="2383"/>
                  </a:lnTo>
                  <a:lnTo>
                    <a:pt x="2862" y="2446"/>
                  </a:lnTo>
                  <a:lnTo>
                    <a:pt x="2819" y="2505"/>
                  </a:lnTo>
                  <a:lnTo>
                    <a:pt x="2772" y="2563"/>
                  </a:lnTo>
                  <a:lnTo>
                    <a:pt x="2725" y="2619"/>
                  </a:lnTo>
                  <a:lnTo>
                    <a:pt x="2673" y="2673"/>
                  </a:lnTo>
                  <a:lnTo>
                    <a:pt x="2620" y="2724"/>
                  </a:lnTo>
                  <a:lnTo>
                    <a:pt x="2564" y="2773"/>
                  </a:lnTo>
                  <a:lnTo>
                    <a:pt x="2505" y="2818"/>
                  </a:lnTo>
                  <a:lnTo>
                    <a:pt x="2445" y="2861"/>
                  </a:lnTo>
                  <a:lnTo>
                    <a:pt x="2382" y="2901"/>
                  </a:lnTo>
                  <a:lnTo>
                    <a:pt x="2318" y="2938"/>
                  </a:lnTo>
                  <a:lnTo>
                    <a:pt x="2251" y="2973"/>
                  </a:lnTo>
                  <a:lnTo>
                    <a:pt x="2183" y="3003"/>
                  </a:lnTo>
                  <a:lnTo>
                    <a:pt x="2113" y="3031"/>
                  </a:lnTo>
                  <a:lnTo>
                    <a:pt x="2042" y="3055"/>
                  </a:lnTo>
                  <a:lnTo>
                    <a:pt x="1968" y="3076"/>
                  </a:lnTo>
                  <a:lnTo>
                    <a:pt x="1894" y="3094"/>
                  </a:lnTo>
                  <a:lnTo>
                    <a:pt x="1818" y="3106"/>
                  </a:lnTo>
                  <a:lnTo>
                    <a:pt x="1740" y="3116"/>
                  </a:lnTo>
                  <a:lnTo>
                    <a:pt x="1663" y="3123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44" y="3121"/>
                  </a:lnTo>
                  <a:lnTo>
                    <a:pt x="1723" y="3115"/>
                  </a:lnTo>
                  <a:lnTo>
                    <a:pt x="1801" y="3105"/>
                  </a:lnTo>
                  <a:lnTo>
                    <a:pt x="1878" y="3092"/>
                  </a:lnTo>
                  <a:lnTo>
                    <a:pt x="1954" y="3074"/>
                  </a:lnTo>
                  <a:lnTo>
                    <a:pt x="2027" y="3053"/>
                  </a:lnTo>
                  <a:lnTo>
                    <a:pt x="2101" y="3028"/>
                  </a:lnTo>
                  <a:lnTo>
                    <a:pt x="2171" y="3000"/>
                  </a:lnTo>
                  <a:lnTo>
                    <a:pt x="2240" y="2969"/>
                  </a:lnTo>
                  <a:lnTo>
                    <a:pt x="2308" y="2934"/>
                  </a:lnTo>
                  <a:lnTo>
                    <a:pt x="2373" y="2898"/>
                  </a:lnTo>
                  <a:lnTo>
                    <a:pt x="2437" y="2857"/>
                  </a:lnTo>
                  <a:lnTo>
                    <a:pt x="2498" y="2813"/>
                  </a:lnTo>
                  <a:lnTo>
                    <a:pt x="2557" y="2767"/>
                  </a:lnTo>
                  <a:lnTo>
                    <a:pt x="2614" y="2717"/>
                  </a:lnTo>
                  <a:lnTo>
                    <a:pt x="2668" y="2665"/>
                  </a:lnTo>
                  <a:lnTo>
                    <a:pt x="2720" y="2611"/>
                  </a:lnTo>
                  <a:lnTo>
                    <a:pt x="2769" y="2555"/>
                  </a:lnTo>
                  <a:lnTo>
                    <a:pt x="2815" y="2496"/>
                  </a:lnTo>
                  <a:lnTo>
                    <a:pt x="2859" y="2434"/>
                  </a:lnTo>
                  <a:lnTo>
                    <a:pt x="2899" y="2372"/>
                  </a:lnTo>
                  <a:lnTo>
                    <a:pt x="2937" y="2306"/>
                  </a:lnTo>
                  <a:lnTo>
                    <a:pt x="2972" y="2239"/>
                  </a:lnTo>
                  <a:lnTo>
                    <a:pt x="3003" y="2170"/>
                  </a:lnTo>
                  <a:lnTo>
                    <a:pt x="3031" y="2098"/>
                  </a:lnTo>
                  <a:lnTo>
                    <a:pt x="3056" y="2026"/>
                  </a:lnTo>
                  <a:lnTo>
                    <a:pt x="3076" y="1952"/>
                  </a:lnTo>
                  <a:lnTo>
                    <a:pt x="3094" y="1876"/>
                  </a:lnTo>
                  <a:lnTo>
                    <a:pt x="3108" y="1799"/>
                  </a:lnTo>
                  <a:lnTo>
                    <a:pt x="3118" y="1722"/>
                  </a:lnTo>
                  <a:lnTo>
                    <a:pt x="3124" y="1642"/>
                  </a:lnTo>
                  <a:lnTo>
                    <a:pt x="3126" y="1562"/>
                  </a:lnTo>
                  <a:close/>
                  <a:moveTo>
                    <a:pt x="3084" y="1562"/>
                  </a:moveTo>
                  <a:lnTo>
                    <a:pt x="3082" y="1639"/>
                  </a:lnTo>
                  <a:lnTo>
                    <a:pt x="3076" y="1717"/>
                  </a:lnTo>
                  <a:lnTo>
                    <a:pt x="3067" y="1793"/>
                  </a:lnTo>
                  <a:lnTo>
                    <a:pt x="3053" y="1867"/>
                  </a:lnTo>
                  <a:lnTo>
                    <a:pt x="3036" y="1942"/>
                  </a:lnTo>
                  <a:lnTo>
                    <a:pt x="3016" y="2013"/>
                  </a:lnTo>
                  <a:lnTo>
                    <a:pt x="2992" y="2084"/>
                  </a:lnTo>
                  <a:lnTo>
                    <a:pt x="2964" y="2154"/>
                  </a:lnTo>
                  <a:lnTo>
                    <a:pt x="2934" y="2220"/>
                  </a:lnTo>
                  <a:lnTo>
                    <a:pt x="2900" y="2286"/>
                  </a:lnTo>
                  <a:lnTo>
                    <a:pt x="2864" y="2350"/>
                  </a:lnTo>
                  <a:lnTo>
                    <a:pt x="2825" y="2412"/>
                  </a:lnTo>
                  <a:lnTo>
                    <a:pt x="2781" y="2471"/>
                  </a:lnTo>
                  <a:lnTo>
                    <a:pt x="2737" y="2528"/>
                  </a:lnTo>
                  <a:lnTo>
                    <a:pt x="2689" y="2583"/>
                  </a:lnTo>
                  <a:lnTo>
                    <a:pt x="2639" y="2636"/>
                  </a:lnTo>
                  <a:lnTo>
                    <a:pt x="2586" y="2687"/>
                  </a:lnTo>
                  <a:lnTo>
                    <a:pt x="2531" y="2735"/>
                  </a:lnTo>
                  <a:lnTo>
                    <a:pt x="2474" y="2780"/>
                  </a:lnTo>
                  <a:lnTo>
                    <a:pt x="2413" y="2822"/>
                  </a:lnTo>
                  <a:lnTo>
                    <a:pt x="2351" y="2862"/>
                  </a:lnTo>
                  <a:lnTo>
                    <a:pt x="2288" y="2898"/>
                  </a:lnTo>
                  <a:lnTo>
                    <a:pt x="2223" y="2932"/>
                  </a:lnTo>
                  <a:lnTo>
                    <a:pt x="2155" y="2962"/>
                  </a:lnTo>
                  <a:lnTo>
                    <a:pt x="2086" y="2989"/>
                  </a:lnTo>
                  <a:lnTo>
                    <a:pt x="2015" y="3013"/>
                  </a:lnTo>
                  <a:lnTo>
                    <a:pt x="1943" y="3034"/>
                  </a:lnTo>
                  <a:lnTo>
                    <a:pt x="1870" y="3051"/>
                  </a:lnTo>
                  <a:lnTo>
                    <a:pt x="1795" y="3064"/>
                  </a:lnTo>
                  <a:lnTo>
                    <a:pt x="1718" y="3074"/>
                  </a:lnTo>
                  <a:lnTo>
                    <a:pt x="1642" y="3080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621" y="3080"/>
                  </a:lnTo>
                  <a:lnTo>
                    <a:pt x="1698" y="3073"/>
                  </a:lnTo>
                  <a:lnTo>
                    <a:pt x="1776" y="3063"/>
                  </a:lnTo>
                  <a:lnTo>
                    <a:pt x="1852" y="3051"/>
                  </a:lnTo>
                  <a:lnTo>
                    <a:pt x="1926" y="3033"/>
                  </a:lnTo>
                  <a:lnTo>
                    <a:pt x="2000" y="3012"/>
                  </a:lnTo>
                  <a:lnTo>
                    <a:pt x="2071" y="2988"/>
                  </a:lnTo>
                  <a:lnTo>
                    <a:pt x="2141" y="2960"/>
                  </a:lnTo>
                  <a:lnTo>
                    <a:pt x="2209" y="2930"/>
                  </a:lnTo>
                  <a:lnTo>
                    <a:pt x="2276" y="2895"/>
                  </a:lnTo>
                  <a:lnTo>
                    <a:pt x="2340" y="2858"/>
                  </a:lnTo>
                  <a:lnTo>
                    <a:pt x="2403" y="2818"/>
                  </a:lnTo>
                  <a:lnTo>
                    <a:pt x="2463" y="2775"/>
                  </a:lnTo>
                  <a:lnTo>
                    <a:pt x="2522" y="2730"/>
                  </a:lnTo>
                  <a:lnTo>
                    <a:pt x="2578" y="2681"/>
                  </a:lnTo>
                  <a:lnTo>
                    <a:pt x="2631" y="2630"/>
                  </a:lnTo>
                  <a:lnTo>
                    <a:pt x="2683" y="2576"/>
                  </a:lnTo>
                  <a:lnTo>
                    <a:pt x="2730" y="2520"/>
                  </a:lnTo>
                  <a:lnTo>
                    <a:pt x="2777" y="2462"/>
                  </a:lnTo>
                  <a:lnTo>
                    <a:pt x="2820" y="2403"/>
                  </a:lnTo>
                  <a:lnTo>
                    <a:pt x="2860" y="2340"/>
                  </a:lnTo>
                  <a:lnTo>
                    <a:pt x="2897" y="2275"/>
                  </a:lnTo>
                  <a:lnTo>
                    <a:pt x="2931" y="2208"/>
                  </a:lnTo>
                  <a:lnTo>
                    <a:pt x="2962" y="2140"/>
                  </a:lnTo>
                  <a:lnTo>
                    <a:pt x="2990" y="2070"/>
                  </a:lnTo>
                  <a:lnTo>
                    <a:pt x="3013" y="1999"/>
                  </a:lnTo>
                  <a:lnTo>
                    <a:pt x="3034" y="1925"/>
                  </a:lnTo>
                  <a:lnTo>
                    <a:pt x="3051" y="1851"/>
                  </a:lnTo>
                  <a:lnTo>
                    <a:pt x="3065" y="1775"/>
                  </a:lnTo>
                  <a:lnTo>
                    <a:pt x="3075" y="1698"/>
                  </a:lnTo>
                  <a:lnTo>
                    <a:pt x="3080" y="1620"/>
                  </a:lnTo>
                  <a:lnTo>
                    <a:pt x="3083" y="1541"/>
                  </a:lnTo>
                  <a:close/>
                  <a:moveTo>
                    <a:pt x="3042" y="1541"/>
                  </a:moveTo>
                  <a:lnTo>
                    <a:pt x="3039" y="1617"/>
                  </a:lnTo>
                  <a:lnTo>
                    <a:pt x="3034" y="1694"/>
                  </a:lnTo>
                  <a:lnTo>
                    <a:pt x="3024" y="1769"/>
                  </a:lnTo>
                  <a:lnTo>
                    <a:pt x="3011" y="1843"/>
                  </a:lnTo>
                  <a:lnTo>
                    <a:pt x="2994" y="1915"/>
                  </a:lnTo>
                  <a:lnTo>
                    <a:pt x="2973" y="1987"/>
                  </a:lnTo>
                  <a:lnTo>
                    <a:pt x="2950" y="2056"/>
                  </a:lnTo>
                  <a:lnTo>
                    <a:pt x="2924" y="2124"/>
                  </a:lnTo>
                  <a:lnTo>
                    <a:pt x="2893" y="2191"/>
                  </a:lnTo>
                  <a:lnTo>
                    <a:pt x="2860" y="2255"/>
                  </a:lnTo>
                  <a:lnTo>
                    <a:pt x="2824" y="2318"/>
                  </a:lnTo>
                  <a:lnTo>
                    <a:pt x="2785" y="2379"/>
                  </a:lnTo>
                  <a:lnTo>
                    <a:pt x="2743" y="2437"/>
                  </a:lnTo>
                  <a:lnTo>
                    <a:pt x="2699" y="2494"/>
                  </a:lnTo>
                  <a:lnTo>
                    <a:pt x="2651" y="2548"/>
                  </a:lnTo>
                  <a:lnTo>
                    <a:pt x="2602" y="2600"/>
                  </a:lnTo>
                  <a:lnTo>
                    <a:pt x="2550" y="2650"/>
                  </a:lnTo>
                  <a:lnTo>
                    <a:pt x="2496" y="2697"/>
                  </a:lnTo>
                  <a:lnTo>
                    <a:pt x="2439" y="2742"/>
                  </a:lnTo>
                  <a:lnTo>
                    <a:pt x="2380" y="2784"/>
                  </a:lnTo>
                  <a:lnTo>
                    <a:pt x="2319" y="2823"/>
                  </a:lnTo>
                  <a:lnTo>
                    <a:pt x="2256" y="2858"/>
                  </a:lnTo>
                  <a:lnTo>
                    <a:pt x="2191" y="2892"/>
                  </a:lnTo>
                  <a:lnTo>
                    <a:pt x="2125" y="2922"/>
                  </a:lnTo>
                  <a:lnTo>
                    <a:pt x="2057" y="2949"/>
                  </a:lnTo>
                  <a:lnTo>
                    <a:pt x="1987" y="2973"/>
                  </a:lnTo>
                  <a:lnTo>
                    <a:pt x="1916" y="2992"/>
                  </a:lnTo>
                  <a:lnTo>
                    <a:pt x="1843" y="3009"/>
                  </a:lnTo>
                  <a:lnTo>
                    <a:pt x="1770" y="3022"/>
                  </a:lnTo>
                  <a:lnTo>
                    <a:pt x="1694" y="3032"/>
                  </a:lnTo>
                  <a:lnTo>
                    <a:pt x="1618" y="3038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600" y="3039"/>
                  </a:lnTo>
                  <a:lnTo>
                    <a:pt x="1676" y="3033"/>
                  </a:lnTo>
                  <a:lnTo>
                    <a:pt x="1753" y="3023"/>
                  </a:lnTo>
                  <a:lnTo>
                    <a:pt x="1828" y="3010"/>
                  </a:lnTo>
                  <a:lnTo>
                    <a:pt x="1901" y="2993"/>
                  </a:lnTo>
                  <a:lnTo>
                    <a:pt x="1973" y="2972"/>
                  </a:lnTo>
                  <a:lnTo>
                    <a:pt x="2044" y="2948"/>
                  </a:lnTo>
                  <a:lnTo>
                    <a:pt x="2113" y="2921"/>
                  </a:lnTo>
                  <a:lnTo>
                    <a:pt x="2181" y="2891"/>
                  </a:lnTo>
                  <a:lnTo>
                    <a:pt x="2246" y="2857"/>
                  </a:lnTo>
                  <a:lnTo>
                    <a:pt x="2309" y="2821"/>
                  </a:lnTo>
                  <a:lnTo>
                    <a:pt x="2371" y="2781"/>
                  </a:lnTo>
                  <a:lnTo>
                    <a:pt x="2432" y="2739"/>
                  </a:lnTo>
                  <a:lnTo>
                    <a:pt x="2489" y="2694"/>
                  </a:lnTo>
                  <a:lnTo>
                    <a:pt x="2544" y="2646"/>
                  </a:lnTo>
                  <a:lnTo>
                    <a:pt x="2597" y="2595"/>
                  </a:lnTo>
                  <a:lnTo>
                    <a:pt x="2647" y="2542"/>
                  </a:lnTo>
                  <a:lnTo>
                    <a:pt x="2695" y="2487"/>
                  </a:lnTo>
                  <a:lnTo>
                    <a:pt x="2739" y="2430"/>
                  </a:lnTo>
                  <a:lnTo>
                    <a:pt x="2783" y="2371"/>
                  </a:lnTo>
                  <a:lnTo>
                    <a:pt x="2822" y="2309"/>
                  </a:lnTo>
                  <a:lnTo>
                    <a:pt x="2858" y="2245"/>
                  </a:lnTo>
                  <a:lnTo>
                    <a:pt x="2892" y="2179"/>
                  </a:lnTo>
                  <a:lnTo>
                    <a:pt x="2922" y="2113"/>
                  </a:lnTo>
                  <a:lnTo>
                    <a:pt x="2950" y="2043"/>
                  </a:lnTo>
                  <a:lnTo>
                    <a:pt x="2974" y="1972"/>
                  </a:lnTo>
                  <a:lnTo>
                    <a:pt x="2994" y="1901"/>
                  </a:lnTo>
                  <a:lnTo>
                    <a:pt x="3011" y="1826"/>
                  </a:lnTo>
                  <a:lnTo>
                    <a:pt x="3025" y="1752"/>
                  </a:lnTo>
                  <a:lnTo>
                    <a:pt x="3034" y="1676"/>
                  </a:lnTo>
                  <a:lnTo>
                    <a:pt x="3040" y="1598"/>
                  </a:lnTo>
                  <a:lnTo>
                    <a:pt x="3042" y="1521"/>
                  </a:lnTo>
                  <a:close/>
                  <a:moveTo>
                    <a:pt x="3000" y="1521"/>
                  </a:moveTo>
                  <a:lnTo>
                    <a:pt x="2999" y="1596"/>
                  </a:lnTo>
                  <a:lnTo>
                    <a:pt x="2992" y="1672"/>
                  </a:lnTo>
                  <a:lnTo>
                    <a:pt x="2984" y="1745"/>
                  </a:lnTo>
                  <a:lnTo>
                    <a:pt x="2971" y="1819"/>
                  </a:lnTo>
                  <a:lnTo>
                    <a:pt x="2953" y="1890"/>
                  </a:lnTo>
                  <a:lnTo>
                    <a:pt x="2934" y="1960"/>
                  </a:lnTo>
                  <a:lnTo>
                    <a:pt x="2910" y="2028"/>
                  </a:lnTo>
                  <a:lnTo>
                    <a:pt x="2884" y="2096"/>
                  </a:lnTo>
                  <a:lnTo>
                    <a:pt x="2854" y="2161"/>
                  </a:lnTo>
                  <a:lnTo>
                    <a:pt x="2822" y="2225"/>
                  </a:lnTo>
                  <a:lnTo>
                    <a:pt x="2786" y="2287"/>
                  </a:lnTo>
                  <a:lnTo>
                    <a:pt x="2748" y="2347"/>
                  </a:lnTo>
                  <a:lnTo>
                    <a:pt x="2706" y="2405"/>
                  </a:lnTo>
                  <a:lnTo>
                    <a:pt x="2663" y="2461"/>
                  </a:lnTo>
                  <a:lnTo>
                    <a:pt x="2616" y="2514"/>
                  </a:lnTo>
                  <a:lnTo>
                    <a:pt x="2567" y="2566"/>
                  </a:lnTo>
                  <a:lnTo>
                    <a:pt x="2516" y="2615"/>
                  </a:lnTo>
                  <a:lnTo>
                    <a:pt x="2462" y="2661"/>
                  </a:lnTo>
                  <a:lnTo>
                    <a:pt x="2407" y="2705"/>
                  </a:lnTo>
                  <a:lnTo>
                    <a:pt x="2348" y="2746"/>
                  </a:lnTo>
                  <a:lnTo>
                    <a:pt x="2288" y="2785"/>
                  </a:lnTo>
                  <a:lnTo>
                    <a:pt x="2226" y="2821"/>
                  </a:lnTo>
                  <a:lnTo>
                    <a:pt x="2162" y="2853"/>
                  </a:lnTo>
                  <a:lnTo>
                    <a:pt x="2097" y="2883"/>
                  </a:lnTo>
                  <a:lnTo>
                    <a:pt x="2030" y="2910"/>
                  </a:lnTo>
                  <a:lnTo>
                    <a:pt x="1962" y="2932"/>
                  </a:lnTo>
                  <a:lnTo>
                    <a:pt x="1891" y="2953"/>
                  </a:lnTo>
                  <a:lnTo>
                    <a:pt x="1819" y="2969"/>
                  </a:lnTo>
                  <a:lnTo>
                    <a:pt x="1746" y="2982"/>
                  </a:lnTo>
                  <a:lnTo>
                    <a:pt x="1672" y="2992"/>
                  </a:lnTo>
                  <a:lnTo>
                    <a:pt x="1597" y="2997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77" y="2997"/>
                  </a:lnTo>
                  <a:lnTo>
                    <a:pt x="1653" y="2991"/>
                  </a:lnTo>
                  <a:lnTo>
                    <a:pt x="1729" y="2981"/>
                  </a:lnTo>
                  <a:lnTo>
                    <a:pt x="1802" y="2968"/>
                  </a:lnTo>
                  <a:lnTo>
                    <a:pt x="1875" y="2951"/>
                  </a:lnTo>
                  <a:lnTo>
                    <a:pt x="1946" y="2932"/>
                  </a:lnTo>
                  <a:lnTo>
                    <a:pt x="2016" y="2908"/>
                  </a:lnTo>
                  <a:lnTo>
                    <a:pt x="2084" y="2881"/>
                  </a:lnTo>
                  <a:lnTo>
                    <a:pt x="2150" y="2851"/>
                  </a:lnTo>
                  <a:lnTo>
                    <a:pt x="2215" y="2817"/>
                  </a:lnTo>
                  <a:lnTo>
                    <a:pt x="2278" y="2782"/>
                  </a:lnTo>
                  <a:lnTo>
                    <a:pt x="2339" y="2743"/>
                  </a:lnTo>
                  <a:lnTo>
                    <a:pt x="2398" y="2701"/>
                  </a:lnTo>
                  <a:lnTo>
                    <a:pt x="2455" y="2656"/>
                  </a:lnTo>
                  <a:lnTo>
                    <a:pt x="2509" y="2609"/>
                  </a:lnTo>
                  <a:lnTo>
                    <a:pt x="2561" y="2559"/>
                  </a:lnTo>
                  <a:lnTo>
                    <a:pt x="2610" y="2507"/>
                  </a:lnTo>
                  <a:lnTo>
                    <a:pt x="2658" y="2453"/>
                  </a:lnTo>
                  <a:lnTo>
                    <a:pt x="2702" y="2396"/>
                  </a:lnTo>
                  <a:lnTo>
                    <a:pt x="2744" y="2338"/>
                  </a:lnTo>
                  <a:lnTo>
                    <a:pt x="2783" y="2277"/>
                  </a:lnTo>
                  <a:lnTo>
                    <a:pt x="2819" y="2214"/>
                  </a:lnTo>
                  <a:lnTo>
                    <a:pt x="2852" y="2150"/>
                  </a:lnTo>
                  <a:lnTo>
                    <a:pt x="2883" y="2083"/>
                  </a:lnTo>
                  <a:lnTo>
                    <a:pt x="2909" y="2015"/>
                  </a:lnTo>
                  <a:lnTo>
                    <a:pt x="2932" y="1946"/>
                  </a:lnTo>
                  <a:lnTo>
                    <a:pt x="2953" y="1874"/>
                  </a:lnTo>
                  <a:lnTo>
                    <a:pt x="2970" y="1802"/>
                  </a:lnTo>
                  <a:lnTo>
                    <a:pt x="2983" y="1728"/>
                  </a:lnTo>
                  <a:lnTo>
                    <a:pt x="2993" y="1653"/>
                  </a:lnTo>
                  <a:lnTo>
                    <a:pt x="2998" y="1576"/>
                  </a:lnTo>
                  <a:lnTo>
                    <a:pt x="3001" y="1500"/>
                  </a:lnTo>
                  <a:close/>
                  <a:moveTo>
                    <a:pt x="2958" y="1500"/>
                  </a:moveTo>
                  <a:lnTo>
                    <a:pt x="2956" y="1574"/>
                  </a:lnTo>
                  <a:lnTo>
                    <a:pt x="2951" y="1649"/>
                  </a:lnTo>
                  <a:lnTo>
                    <a:pt x="2942" y="1721"/>
                  </a:lnTo>
                  <a:lnTo>
                    <a:pt x="2929" y="1793"/>
                  </a:lnTo>
                  <a:lnTo>
                    <a:pt x="2913" y="1864"/>
                  </a:lnTo>
                  <a:lnTo>
                    <a:pt x="2892" y="1933"/>
                  </a:lnTo>
                  <a:lnTo>
                    <a:pt x="2870" y="2001"/>
                  </a:lnTo>
                  <a:lnTo>
                    <a:pt x="2844" y="2067"/>
                  </a:lnTo>
                  <a:lnTo>
                    <a:pt x="2815" y="2131"/>
                  </a:lnTo>
                  <a:lnTo>
                    <a:pt x="2782" y="2194"/>
                  </a:lnTo>
                  <a:lnTo>
                    <a:pt x="2748" y="2256"/>
                  </a:lnTo>
                  <a:lnTo>
                    <a:pt x="2710" y="2314"/>
                  </a:lnTo>
                  <a:lnTo>
                    <a:pt x="2669" y="2371"/>
                  </a:lnTo>
                  <a:lnTo>
                    <a:pt x="2626" y="2426"/>
                  </a:lnTo>
                  <a:lnTo>
                    <a:pt x="2580" y="2479"/>
                  </a:lnTo>
                  <a:lnTo>
                    <a:pt x="2532" y="2530"/>
                  </a:lnTo>
                  <a:lnTo>
                    <a:pt x="2481" y="2579"/>
                  </a:lnTo>
                  <a:lnTo>
                    <a:pt x="2428" y="2624"/>
                  </a:lnTo>
                  <a:lnTo>
                    <a:pt x="2373" y="2667"/>
                  </a:lnTo>
                  <a:lnTo>
                    <a:pt x="2315" y="2708"/>
                  </a:lnTo>
                  <a:lnTo>
                    <a:pt x="2256" y="2746"/>
                  </a:lnTo>
                  <a:lnTo>
                    <a:pt x="2196" y="2782"/>
                  </a:lnTo>
                  <a:lnTo>
                    <a:pt x="2133" y="2813"/>
                  </a:lnTo>
                  <a:lnTo>
                    <a:pt x="2068" y="2842"/>
                  </a:lnTo>
                  <a:lnTo>
                    <a:pt x="2002" y="2869"/>
                  </a:lnTo>
                  <a:lnTo>
                    <a:pt x="1934" y="2892"/>
                  </a:lnTo>
                  <a:lnTo>
                    <a:pt x="1865" y="2911"/>
                  </a:lnTo>
                  <a:lnTo>
                    <a:pt x="1794" y="2927"/>
                  </a:lnTo>
                  <a:lnTo>
                    <a:pt x="1722" y="2940"/>
                  </a:lnTo>
                  <a:lnTo>
                    <a:pt x="1649" y="2950"/>
                  </a:lnTo>
                  <a:lnTo>
                    <a:pt x="1575" y="2956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55" y="2955"/>
                  </a:lnTo>
                  <a:lnTo>
                    <a:pt x="1630" y="2950"/>
                  </a:lnTo>
                  <a:lnTo>
                    <a:pt x="1704" y="2940"/>
                  </a:lnTo>
                  <a:lnTo>
                    <a:pt x="1777" y="2927"/>
                  </a:lnTo>
                  <a:lnTo>
                    <a:pt x="1849" y="2911"/>
                  </a:lnTo>
                  <a:lnTo>
                    <a:pt x="1920" y="2890"/>
                  </a:lnTo>
                  <a:lnTo>
                    <a:pt x="1988" y="2868"/>
                  </a:lnTo>
                  <a:lnTo>
                    <a:pt x="2055" y="2841"/>
                  </a:lnTo>
                  <a:lnTo>
                    <a:pt x="2120" y="2811"/>
                  </a:lnTo>
                  <a:lnTo>
                    <a:pt x="2184" y="2779"/>
                  </a:lnTo>
                  <a:lnTo>
                    <a:pt x="2246" y="2743"/>
                  </a:lnTo>
                  <a:lnTo>
                    <a:pt x="2306" y="2704"/>
                  </a:lnTo>
                  <a:lnTo>
                    <a:pt x="2365" y="2663"/>
                  </a:lnTo>
                  <a:lnTo>
                    <a:pt x="2420" y="2619"/>
                  </a:lnTo>
                  <a:lnTo>
                    <a:pt x="2474" y="2573"/>
                  </a:lnTo>
                  <a:lnTo>
                    <a:pt x="2525" y="2524"/>
                  </a:lnTo>
                  <a:lnTo>
                    <a:pt x="2574" y="2472"/>
                  </a:lnTo>
                  <a:lnTo>
                    <a:pt x="2621" y="2419"/>
                  </a:lnTo>
                  <a:lnTo>
                    <a:pt x="2664" y="2363"/>
                  </a:lnTo>
                  <a:lnTo>
                    <a:pt x="2706" y="2305"/>
                  </a:lnTo>
                  <a:lnTo>
                    <a:pt x="2744" y="2245"/>
                  </a:lnTo>
                  <a:lnTo>
                    <a:pt x="2780" y="2183"/>
                  </a:lnTo>
                  <a:lnTo>
                    <a:pt x="2812" y="2119"/>
                  </a:lnTo>
                  <a:lnTo>
                    <a:pt x="2842" y="2054"/>
                  </a:lnTo>
                  <a:lnTo>
                    <a:pt x="2868" y="1986"/>
                  </a:lnTo>
                  <a:lnTo>
                    <a:pt x="2892" y="1918"/>
                  </a:lnTo>
                  <a:lnTo>
                    <a:pt x="2911" y="1848"/>
                  </a:lnTo>
                  <a:lnTo>
                    <a:pt x="2929" y="1777"/>
                  </a:lnTo>
                  <a:lnTo>
                    <a:pt x="2942" y="1703"/>
                  </a:lnTo>
                  <a:lnTo>
                    <a:pt x="2950" y="1630"/>
                  </a:lnTo>
                  <a:lnTo>
                    <a:pt x="2957" y="1554"/>
                  </a:lnTo>
                  <a:lnTo>
                    <a:pt x="2958" y="1479"/>
                  </a:lnTo>
                  <a:close/>
                  <a:moveTo>
                    <a:pt x="2917" y="1479"/>
                  </a:moveTo>
                  <a:lnTo>
                    <a:pt x="2915" y="1552"/>
                  </a:lnTo>
                  <a:lnTo>
                    <a:pt x="2909" y="1626"/>
                  </a:lnTo>
                  <a:lnTo>
                    <a:pt x="2901" y="1697"/>
                  </a:lnTo>
                  <a:lnTo>
                    <a:pt x="2888" y="1768"/>
                  </a:lnTo>
                  <a:lnTo>
                    <a:pt x="2871" y="1837"/>
                  </a:lnTo>
                  <a:lnTo>
                    <a:pt x="2852" y="1905"/>
                  </a:lnTo>
                  <a:lnTo>
                    <a:pt x="2829" y="1972"/>
                  </a:lnTo>
                  <a:lnTo>
                    <a:pt x="2803" y="2038"/>
                  </a:lnTo>
                  <a:lnTo>
                    <a:pt x="2775" y="2102"/>
                  </a:lnTo>
                  <a:lnTo>
                    <a:pt x="2743" y="2163"/>
                  </a:lnTo>
                  <a:lnTo>
                    <a:pt x="2708" y="2224"/>
                  </a:lnTo>
                  <a:lnTo>
                    <a:pt x="2672" y="2282"/>
                  </a:lnTo>
                  <a:lnTo>
                    <a:pt x="2632" y="2338"/>
                  </a:lnTo>
                  <a:lnTo>
                    <a:pt x="2588" y="2392"/>
                  </a:lnTo>
                  <a:lnTo>
                    <a:pt x="2543" y="2444"/>
                  </a:lnTo>
                  <a:lnTo>
                    <a:pt x="2495" y="2495"/>
                  </a:lnTo>
                  <a:lnTo>
                    <a:pt x="2446" y="2542"/>
                  </a:lnTo>
                  <a:lnTo>
                    <a:pt x="2394" y="2587"/>
                  </a:lnTo>
                  <a:lnTo>
                    <a:pt x="2339" y="2630"/>
                  </a:lnTo>
                  <a:lnTo>
                    <a:pt x="2283" y="2670"/>
                  </a:lnTo>
                  <a:lnTo>
                    <a:pt x="2224" y="2708"/>
                  </a:lnTo>
                  <a:lnTo>
                    <a:pt x="2165" y="2742"/>
                  </a:lnTo>
                  <a:lnTo>
                    <a:pt x="2102" y="2774"/>
                  </a:lnTo>
                  <a:lnTo>
                    <a:pt x="2038" y="2803"/>
                  </a:lnTo>
                  <a:lnTo>
                    <a:pt x="1974" y="2828"/>
                  </a:lnTo>
                  <a:lnTo>
                    <a:pt x="1907" y="2850"/>
                  </a:lnTo>
                  <a:lnTo>
                    <a:pt x="1838" y="2870"/>
                  </a:lnTo>
                  <a:lnTo>
                    <a:pt x="1769" y="2886"/>
                  </a:lnTo>
                  <a:lnTo>
                    <a:pt x="1698" y="2899"/>
                  </a:lnTo>
                  <a:lnTo>
                    <a:pt x="1626" y="2908"/>
                  </a:lnTo>
                  <a:lnTo>
                    <a:pt x="1553" y="2913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33" y="2914"/>
                  </a:lnTo>
                  <a:lnTo>
                    <a:pt x="1607" y="2908"/>
                  </a:lnTo>
                  <a:lnTo>
                    <a:pt x="1680" y="2898"/>
                  </a:lnTo>
                  <a:lnTo>
                    <a:pt x="1752" y="2885"/>
                  </a:lnTo>
                  <a:lnTo>
                    <a:pt x="1823" y="2869"/>
                  </a:lnTo>
                  <a:lnTo>
                    <a:pt x="1892" y="2850"/>
                  </a:lnTo>
                  <a:lnTo>
                    <a:pt x="1960" y="2827"/>
                  </a:lnTo>
                  <a:lnTo>
                    <a:pt x="2026" y="2800"/>
                  </a:lnTo>
                  <a:lnTo>
                    <a:pt x="2091" y="2771"/>
                  </a:lnTo>
                  <a:lnTo>
                    <a:pt x="2154" y="2740"/>
                  </a:lnTo>
                  <a:lnTo>
                    <a:pt x="2214" y="2704"/>
                  </a:lnTo>
                  <a:lnTo>
                    <a:pt x="2273" y="2666"/>
                  </a:lnTo>
                  <a:lnTo>
                    <a:pt x="2331" y="2625"/>
                  </a:lnTo>
                  <a:lnTo>
                    <a:pt x="2386" y="2582"/>
                  </a:lnTo>
                  <a:lnTo>
                    <a:pt x="2439" y="2537"/>
                  </a:lnTo>
                  <a:lnTo>
                    <a:pt x="2490" y="2488"/>
                  </a:lnTo>
                  <a:lnTo>
                    <a:pt x="2538" y="2437"/>
                  </a:lnTo>
                  <a:lnTo>
                    <a:pt x="2584" y="2384"/>
                  </a:lnTo>
                  <a:lnTo>
                    <a:pt x="2627" y="2329"/>
                  </a:lnTo>
                  <a:lnTo>
                    <a:pt x="2668" y="2272"/>
                  </a:lnTo>
                  <a:lnTo>
                    <a:pt x="2706" y="2214"/>
                  </a:lnTo>
                  <a:lnTo>
                    <a:pt x="2740" y="2152"/>
                  </a:lnTo>
                  <a:lnTo>
                    <a:pt x="2773" y="2089"/>
                  </a:lnTo>
                  <a:lnTo>
                    <a:pt x="2802" y="2025"/>
                  </a:lnTo>
                  <a:lnTo>
                    <a:pt x="2828" y="1959"/>
                  </a:lnTo>
                  <a:lnTo>
                    <a:pt x="2850" y="1891"/>
                  </a:lnTo>
                  <a:lnTo>
                    <a:pt x="2871" y="1822"/>
                  </a:lnTo>
                  <a:lnTo>
                    <a:pt x="2887" y="1751"/>
                  </a:lnTo>
                  <a:lnTo>
                    <a:pt x="2900" y="1679"/>
                  </a:lnTo>
                  <a:lnTo>
                    <a:pt x="2909" y="1607"/>
                  </a:lnTo>
                  <a:lnTo>
                    <a:pt x="2914" y="1532"/>
                  </a:lnTo>
                  <a:lnTo>
                    <a:pt x="2916" y="1458"/>
                  </a:lnTo>
                  <a:close/>
                  <a:moveTo>
                    <a:pt x="2875" y="1458"/>
                  </a:moveTo>
                  <a:lnTo>
                    <a:pt x="2873" y="1530"/>
                  </a:lnTo>
                  <a:lnTo>
                    <a:pt x="2868" y="1602"/>
                  </a:lnTo>
                  <a:lnTo>
                    <a:pt x="2858" y="1673"/>
                  </a:lnTo>
                  <a:lnTo>
                    <a:pt x="2846" y="1743"/>
                  </a:lnTo>
                  <a:lnTo>
                    <a:pt x="2830" y="1811"/>
                  </a:lnTo>
                  <a:lnTo>
                    <a:pt x="2812" y="1879"/>
                  </a:lnTo>
                  <a:lnTo>
                    <a:pt x="2789" y="1945"/>
                  </a:lnTo>
                  <a:lnTo>
                    <a:pt x="2764" y="2008"/>
                  </a:lnTo>
                  <a:lnTo>
                    <a:pt x="2735" y="2071"/>
                  </a:lnTo>
                  <a:lnTo>
                    <a:pt x="2704" y="2133"/>
                  </a:lnTo>
                  <a:lnTo>
                    <a:pt x="2670" y="2192"/>
                  </a:lnTo>
                  <a:lnTo>
                    <a:pt x="2633" y="2249"/>
                  </a:lnTo>
                  <a:lnTo>
                    <a:pt x="2593" y="2304"/>
                  </a:lnTo>
                  <a:lnTo>
                    <a:pt x="2551" y="2358"/>
                  </a:lnTo>
                  <a:lnTo>
                    <a:pt x="2507" y="2409"/>
                  </a:lnTo>
                  <a:lnTo>
                    <a:pt x="2460" y="2459"/>
                  </a:lnTo>
                  <a:lnTo>
                    <a:pt x="2411" y="2505"/>
                  </a:lnTo>
                  <a:lnTo>
                    <a:pt x="2359" y="2551"/>
                  </a:lnTo>
                  <a:lnTo>
                    <a:pt x="2306" y="2592"/>
                  </a:lnTo>
                  <a:lnTo>
                    <a:pt x="2251" y="2632"/>
                  </a:lnTo>
                  <a:lnTo>
                    <a:pt x="2192" y="2668"/>
                  </a:lnTo>
                  <a:lnTo>
                    <a:pt x="2133" y="2703"/>
                  </a:lnTo>
                  <a:lnTo>
                    <a:pt x="2072" y="2734"/>
                  </a:lnTo>
                  <a:lnTo>
                    <a:pt x="2010" y="2762"/>
                  </a:lnTo>
                  <a:lnTo>
                    <a:pt x="1945" y="2787"/>
                  </a:lnTo>
                  <a:lnTo>
                    <a:pt x="1879" y="2810"/>
                  </a:lnTo>
                  <a:lnTo>
                    <a:pt x="1812" y="2829"/>
                  </a:lnTo>
                  <a:lnTo>
                    <a:pt x="1744" y="2844"/>
                  </a:lnTo>
                  <a:lnTo>
                    <a:pt x="1674" y="2857"/>
                  </a:lnTo>
                  <a:lnTo>
                    <a:pt x="1604" y="2866"/>
                  </a:lnTo>
                  <a:lnTo>
                    <a:pt x="1531" y="2871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511" y="2872"/>
                  </a:lnTo>
                  <a:lnTo>
                    <a:pt x="1584" y="2867"/>
                  </a:lnTo>
                  <a:lnTo>
                    <a:pt x="1656" y="2858"/>
                  </a:lnTo>
                  <a:lnTo>
                    <a:pt x="1727" y="2845"/>
                  </a:lnTo>
                  <a:lnTo>
                    <a:pt x="1796" y="2829"/>
                  </a:lnTo>
                  <a:lnTo>
                    <a:pt x="1865" y="2809"/>
                  </a:lnTo>
                  <a:lnTo>
                    <a:pt x="1932" y="2787"/>
                  </a:lnTo>
                  <a:lnTo>
                    <a:pt x="1996" y="2762"/>
                  </a:lnTo>
                  <a:lnTo>
                    <a:pt x="2060" y="2733"/>
                  </a:lnTo>
                  <a:lnTo>
                    <a:pt x="2123" y="2701"/>
                  </a:lnTo>
                  <a:lnTo>
                    <a:pt x="2182" y="2667"/>
                  </a:lnTo>
                  <a:lnTo>
                    <a:pt x="2241" y="2629"/>
                  </a:lnTo>
                  <a:lnTo>
                    <a:pt x="2297" y="2589"/>
                  </a:lnTo>
                  <a:lnTo>
                    <a:pt x="2352" y="2546"/>
                  </a:lnTo>
                  <a:lnTo>
                    <a:pt x="2404" y="2501"/>
                  </a:lnTo>
                  <a:lnTo>
                    <a:pt x="2453" y="2454"/>
                  </a:lnTo>
                  <a:lnTo>
                    <a:pt x="2501" y="2403"/>
                  </a:lnTo>
                  <a:lnTo>
                    <a:pt x="2546" y="2351"/>
                  </a:lnTo>
                  <a:lnTo>
                    <a:pt x="2590" y="2297"/>
                  </a:lnTo>
                  <a:lnTo>
                    <a:pt x="2630" y="2241"/>
                  </a:lnTo>
                  <a:lnTo>
                    <a:pt x="2666" y="2183"/>
                  </a:lnTo>
                  <a:lnTo>
                    <a:pt x="2701" y="2122"/>
                  </a:lnTo>
                  <a:lnTo>
                    <a:pt x="2733" y="2061"/>
                  </a:lnTo>
                  <a:lnTo>
                    <a:pt x="2761" y="1997"/>
                  </a:lnTo>
                  <a:lnTo>
                    <a:pt x="2787" y="1931"/>
                  </a:lnTo>
                  <a:lnTo>
                    <a:pt x="2810" y="1864"/>
                  </a:lnTo>
                  <a:lnTo>
                    <a:pt x="2829" y="1796"/>
                  </a:lnTo>
                  <a:lnTo>
                    <a:pt x="2846" y="1727"/>
                  </a:lnTo>
                  <a:lnTo>
                    <a:pt x="2859" y="1656"/>
                  </a:lnTo>
                  <a:lnTo>
                    <a:pt x="2867" y="1585"/>
                  </a:lnTo>
                  <a:lnTo>
                    <a:pt x="2873" y="1511"/>
                  </a:lnTo>
                  <a:lnTo>
                    <a:pt x="2875" y="1438"/>
                  </a:lnTo>
                  <a:close/>
                  <a:moveTo>
                    <a:pt x="2833" y="1438"/>
                  </a:moveTo>
                  <a:lnTo>
                    <a:pt x="2832" y="1509"/>
                  </a:lnTo>
                  <a:lnTo>
                    <a:pt x="2826" y="1580"/>
                  </a:lnTo>
                  <a:lnTo>
                    <a:pt x="2816" y="1649"/>
                  </a:lnTo>
                  <a:lnTo>
                    <a:pt x="2805" y="1718"/>
                  </a:lnTo>
                  <a:lnTo>
                    <a:pt x="2789" y="1787"/>
                  </a:lnTo>
                  <a:lnTo>
                    <a:pt x="2770" y="1852"/>
                  </a:lnTo>
                  <a:lnTo>
                    <a:pt x="2748" y="1917"/>
                  </a:lnTo>
                  <a:lnTo>
                    <a:pt x="2724" y="1981"/>
                  </a:lnTo>
                  <a:lnTo>
                    <a:pt x="2695" y="2042"/>
                  </a:lnTo>
                  <a:lnTo>
                    <a:pt x="2664" y="2103"/>
                  </a:lnTo>
                  <a:lnTo>
                    <a:pt x="2631" y="2161"/>
                  </a:lnTo>
                  <a:lnTo>
                    <a:pt x="2595" y="2217"/>
                  </a:lnTo>
                  <a:lnTo>
                    <a:pt x="2556" y="2273"/>
                  </a:lnTo>
                  <a:lnTo>
                    <a:pt x="2514" y="2325"/>
                  </a:lnTo>
                  <a:lnTo>
                    <a:pt x="2471" y="2375"/>
                  </a:lnTo>
                  <a:lnTo>
                    <a:pt x="2424" y="2424"/>
                  </a:lnTo>
                  <a:lnTo>
                    <a:pt x="2376" y="2470"/>
                  </a:lnTo>
                  <a:lnTo>
                    <a:pt x="2325" y="2514"/>
                  </a:lnTo>
                  <a:lnTo>
                    <a:pt x="2272" y="2555"/>
                  </a:lnTo>
                  <a:lnTo>
                    <a:pt x="2218" y="2594"/>
                  </a:lnTo>
                  <a:lnTo>
                    <a:pt x="2161" y="2631"/>
                  </a:lnTo>
                  <a:lnTo>
                    <a:pt x="2102" y="2665"/>
                  </a:lnTo>
                  <a:lnTo>
                    <a:pt x="2043" y="2695"/>
                  </a:lnTo>
                  <a:lnTo>
                    <a:pt x="1980" y="2723"/>
                  </a:lnTo>
                  <a:lnTo>
                    <a:pt x="1917" y="2748"/>
                  </a:lnTo>
                  <a:lnTo>
                    <a:pt x="1853" y="2770"/>
                  </a:lnTo>
                  <a:lnTo>
                    <a:pt x="1786" y="2789"/>
                  </a:lnTo>
                  <a:lnTo>
                    <a:pt x="1719" y="2804"/>
                  </a:lnTo>
                  <a:lnTo>
                    <a:pt x="1650" y="2817"/>
                  </a:lnTo>
                  <a:lnTo>
                    <a:pt x="1580" y="2825"/>
                  </a:lnTo>
                  <a:lnTo>
                    <a:pt x="1509" y="2831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90" y="2829"/>
                  </a:lnTo>
                  <a:lnTo>
                    <a:pt x="1563" y="2824"/>
                  </a:lnTo>
                  <a:lnTo>
                    <a:pt x="1633" y="2815"/>
                  </a:lnTo>
                  <a:lnTo>
                    <a:pt x="1703" y="2802"/>
                  </a:lnTo>
                  <a:lnTo>
                    <a:pt x="1771" y="2787"/>
                  </a:lnTo>
                  <a:lnTo>
                    <a:pt x="1838" y="2768"/>
                  </a:lnTo>
                  <a:lnTo>
                    <a:pt x="1904" y="2745"/>
                  </a:lnTo>
                  <a:lnTo>
                    <a:pt x="1969" y="2720"/>
                  </a:lnTo>
                  <a:lnTo>
                    <a:pt x="2031" y="2692"/>
                  </a:lnTo>
                  <a:lnTo>
                    <a:pt x="2092" y="2661"/>
                  </a:lnTo>
                  <a:lnTo>
                    <a:pt x="2151" y="2626"/>
                  </a:lnTo>
                  <a:lnTo>
                    <a:pt x="2210" y="2590"/>
                  </a:lnTo>
                  <a:lnTo>
                    <a:pt x="2265" y="2550"/>
                  </a:lnTo>
                  <a:lnTo>
                    <a:pt x="2318" y="2509"/>
                  </a:lnTo>
                  <a:lnTo>
                    <a:pt x="2370" y="2463"/>
                  </a:lnTo>
                  <a:lnTo>
                    <a:pt x="2419" y="2417"/>
                  </a:lnTo>
                  <a:lnTo>
                    <a:pt x="2466" y="2367"/>
                  </a:lnTo>
                  <a:lnTo>
                    <a:pt x="2510" y="2316"/>
                  </a:lnTo>
                  <a:lnTo>
                    <a:pt x="2552" y="2262"/>
                  </a:lnTo>
                  <a:lnTo>
                    <a:pt x="2592" y="2207"/>
                  </a:lnTo>
                  <a:lnTo>
                    <a:pt x="2629" y="2150"/>
                  </a:lnTo>
                  <a:lnTo>
                    <a:pt x="2663" y="2091"/>
                  </a:lnTo>
                  <a:lnTo>
                    <a:pt x="2694" y="2029"/>
                  </a:lnTo>
                  <a:lnTo>
                    <a:pt x="2723" y="1966"/>
                  </a:lnTo>
                  <a:lnTo>
                    <a:pt x="2748" y="1903"/>
                  </a:lnTo>
                  <a:lnTo>
                    <a:pt x="2771" y="1837"/>
                  </a:lnTo>
                  <a:lnTo>
                    <a:pt x="2789" y="1769"/>
                  </a:lnTo>
                  <a:lnTo>
                    <a:pt x="2805" y="1701"/>
                  </a:lnTo>
                  <a:lnTo>
                    <a:pt x="2817" y="1631"/>
                  </a:lnTo>
                  <a:lnTo>
                    <a:pt x="2827" y="1560"/>
                  </a:lnTo>
                  <a:lnTo>
                    <a:pt x="2832" y="1488"/>
                  </a:lnTo>
                  <a:lnTo>
                    <a:pt x="2834" y="1416"/>
                  </a:lnTo>
                  <a:close/>
                  <a:moveTo>
                    <a:pt x="2792" y="1416"/>
                  </a:moveTo>
                  <a:lnTo>
                    <a:pt x="2790" y="1486"/>
                  </a:lnTo>
                  <a:lnTo>
                    <a:pt x="2785" y="1556"/>
                  </a:lnTo>
                  <a:lnTo>
                    <a:pt x="2776" y="1625"/>
                  </a:lnTo>
                  <a:lnTo>
                    <a:pt x="2764" y="1692"/>
                  </a:lnTo>
                  <a:lnTo>
                    <a:pt x="2749" y="1759"/>
                  </a:lnTo>
                  <a:lnTo>
                    <a:pt x="2731" y="1824"/>
                  </a:lnTo>
                  <a:lnTo>
                    <a:pt x="2709" y="1888"/>
                  </a:lnTo>
                  <a:lnTo>
                    <a:pt x="2684" y="1950"/>
                  </a:lnTo>
                  <a:lnTo>
                    <a:pt x="2657" y="2011"/>
                  </a:lnTo>
                  <a:lnTo>
                    <a:pt x="2626" y="2070"/>
                  </a:lnTo>
                  <a:lnTo>
                    <a:pt x="2593" y="2128"/>
                  </a:lnTo>
                  <a:lnTo>
                    <a:pt x="2558" y="2184"/>
                  </a:lnTo>
                  <a:lnTo>
                    <a:pt x="2519" y="2238"/>
                  </a:lnTo>
                  <a:lnTo>
                    <a:pt x="2478" y="2289"/>
                  </a:lnTo>
                  <a:lnTo>
                    <a:pt x="2435" y="2339"/>
                  </a:lnTo>
                  <a:lnTo>
                    <a:pt x="2389" y="2388"/>
                  </a:lnTo>
                  <a:lnTo>
                    <a:pt x="2342" y="2433"/>
                  </a:lnTo>
                  <a:lnTo>
                    <a:pt x="2292" y="2476"/>
                  </a:lnTo>
                  <a:lnTo>
                    <a:pt x="2240" y="2517"/>
                  </a:lnTo>
                  <a:lnTo>
                    <a:pt x="2186" y="2555"/>
                  </a:lnTo>
                  <a:lnTo>
                    <a:pt x="2130" y="2591"/>
                  </a:lnTo>
                  <a:lnTo>
                    <a:pt x="2073" y="2624"/>
                  </a:lnTo>
                  <a:lnTo>
                    <a:pt x="2013" y="2654"/>
                  </a:lnTo>
                  <a:lnTo>
                    <a:pt x="1953" y="2681"/>
                  </a:lnTo>
                  <a:lnTo>
                    <a:pt x="1890" y="2706"/>
                  </a:lnTo>
                  <a:lnTo>
                    <a:pt x="1826" y="2728"/>
                  </a:lnTo>
                  <a:lnTo>
                    <a:pt x="1760" y="2746"/>
                  </a:lnTo>
                  <a:lnTo>
                    <a:pt x="1694" y="2762"/>
                  </a:lnTo>
                  <a:lnTo>
                    <a:pt x="1626" y="2774"/>
                  </a:lnTo>
                  <a:lnTo>
                    <a:pt x="1558" y="2783"/>
                  </a:lnTo>
                  <a:lnTo>
                    <a:pt x="1488" y="2788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67" y="2789"/>
                  </a:lnTo>
                  <a:lnTo>
                    <a:pt x="1538" y="2783"/>
                  </a:lnTo>
                  <a:lnTo>
                    <a:pt x="1608" y="2775"/>
                  </a:lnTo>
                  <a:lnTo>
                    <a:pt x="1677" y="2762"/>
                  </a:lnTo>
                  <a:lnTo>
                    <a:pt x="1744" y="2747"/>
                  </a:lnTo>
                  <a:lnTo>
                    <a:pt x="1811" y="2728"/>
                  </a:lnTo>
                  <a:lnTo>
                    <a:pt x="1875" y="2706"/>
                  </a:lnTo>
                  <a:lnTo>
                    <a:pt x="1938" y="2681"/>
                  </a:lnTo>
                  <a:lnTo>
                    <a:pt x="2001" y="2653"/>
                  </a:lnTo>
                  <a:lnTo>
                    <a:pt x="2060" y="2623"/>
                  </a:lnTo>
                  <a:lnTo>
                    <a:pt x="2119" y="2589"/>
                  </a:lnTo>
                  <a:lnTo>
                    <a:pt x="2176" y="2552"/>
                  </a:lnTo>
                  <a:lnTo>
                    <a:pt x="2230" y="2513"/>
                  </a:lnTo>
                  <a:lnTo>
                    <a:pt x="2283" y="2472"/>
                  </a:lnTo>
                  <a:lnTo>
                    <a:pt x="2334" y="2428"/>
                  </a:lnTo>
                  <a:lnTo>
                    <a:pt x="2382" y="2382"/>
                  </a:lnTo>
                  <a:lnTo>
                    <a:pt x="2429" y="2333"/>
                  </a:lnTo>
                  <a:lnTo>
                    <a:pt x="2472" y="2283"/>
                  </a:lnTo>
                  <a:lnTo>
                    <a:pt x="2514" y="2231"/>
                  </a:lnTo>
                  <a:lnTo>
                    <a:pt x="2553" y="2175"/>
                  </a:lnTo>
                  <a:lnTo>
                    <a:pt x="2589" y="2119"/>
                  </a:lnTo>
                  <a:lnTo>
                    <a:pt x="2622" y="2061"/>
                  </a:lnTo>
                  <a:lnTo>
                    <a:pt x="2653" y="2000"/>
                  </a:lnTo>
                  <a:lnTo>
                    <a:pt x="2682" y="1939"/>
                  </a:lnTo>
                  <a:lnTo>
                    <a:pt x="2706" y="1875"/>
                  </a:lnTo>
                  <a:lnTo>
                    <a:pt x="2728" y="1810"/>
                  </a:lnTo>
                  <a:lnTo>
                    <a:pt x="2747" y="1745"/>
                  </a:lnTo>
                  <a:lnTo>
                    <a:pt x="2763" y="1676"/>
                  </a:lnTo>
                  <a:lnTo>
                    <a:pt x="2774" y="1607"/>
                  </a:lnTo>
                  <a:lnTo>
                    <a:pt x="2784" y="1538"/>
                  </a:lnTo>
                  <a:lnTo>
                    <a:pt x="2790" y="1467"/>
                  </a:lnTo>
                  <a:lnTo>
                    <a:pt x="2791" y="1396"/>
                  </a:lnTo>
                  <a:close/>
                  <a:moveTo>
                    <a:pt x="2750" y="1396"/>
                  </a:moveTo>
                  <a:lnTo>
                    <a:pt x="2747" y="1465"/>
                  </a:lnTo>
                  <a:lnTo>
                    <a:pt x="2742" y="1534"/>
                  </a:lnTo>
                  <a:lnTo>
                    <a:pt x="2733" y="1602"/>
                  </a:lnTo>
                  <a:lnTo>
                    <a:pt x="2722" y="1668"/>
                  </a:lnTo>
                  <a:lnTo>
                    <a:pt x="2706" y="1734"/>
                  </a:lnTo>
                  <a:lnTo>
                    <a:pt x="2688" y="1797"/>
                  </a:lnTo>
                  <a:lnTo>
                    <a:pt x="2668" y="1861"/>
                  </a:lnTo>
                  <a:lnTo>
                    <a:pt x="2643" y="1923"/>
                  </a:lnTo>
                  <a:lnTo>
                    <a:pt x="2616" y="1982"/>
                  </a:lnTo>
                  <a:lnTo>
                    <a:pt x="2585" y="2040"/>
                  </a:lnTo>
                  <a:lnTo>
                    <a:pt x="2553" y="2098"/>
                  </a:lnTo>
                  <a:lnTo>
                    <a:pt x="2518" y="2152"/>
                  </a:lnTo>
                  <a:lnTo>
                    <a:pt x="2481" y="2206"/>
                  </a:lnTo>
                  <a:lnTo>
                    <a:pt x="2441" y="2256"/>
                  </a:lnTo>
                  <a:lnTo>
                    <a:pt x="2397" y="2305"/>
                  </a:lnTo>
                  <a:lnTo>
                    <a:pt x="2353" y="2353"/>
                  </a:lnTo>
                  <a:lnTo>
                    <a:pt x="2306" y="2397"/>
                  </a:lnTo>
                  <a:lnTo>
                    <a:pt x="2257" y="2440"/>
                  </a:lnTo>
                  <a:lnTo>
                    <a:pt x="2205" y="2480"/>
                  </a:lnTo>
                  <a:lnTo>
                    <a:pt x="2152" y="2518"/>
                  </a:lnTo>
                  <a:lnTo>
                    <a:pt x="2097" y="2553"/>
                  </a:lnTo>
                  <a:lnTo>
                    <a:pt x="2041" y="2586"/>
                  </a:lnTo>
                  <a:lnTo>
                    <a:pt x="1982" y="2615"/>
                  </a:lnTo>
                  <a:lnTo>
                    <a:pt x="1922" y="2643"/>
                  </a:lnTo>
                  <a:lnTo>
                    <a:pt x="1860" y="2667"/>
                  </a:lnTo>
                  <a:lnTo>
                    <a:pt x="1798" y="2688"/>
                  </a:lnTo>
                  <a:lnTo>
                    <a:pt x="1734" y="2707"/>
                  </a:lnTo>
                  <a:lnTo>
                    <a:pt x="1668" y="2722"/>
                  </a:lnTo>
                  <a:lnTo>
                    <a:pt x="1601" y="2734"/>
                  </a:lnTo>
                  <a:lnTo>
                    <a:pt x="1534" y="2742"/>
                  </a:lnTo>
                  <a:lnTo>
                    <a:pt x="1465" y="2747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46" y="2747"/>
                  </a:lnTo>
                  <a:lnTo>
                    <a:pt x="1516" y="2742"/>
                  </a:lnTo>
                  <a:lnTo>
                    <a:pt x="1584" y="2733"/>
                  </a:lnTo>
                  <a:lnTo>
                    <a:pt x="1652" y="2721"/>
                  </a:lnTo>
                  <a:lnTo>
                    <a:pt x="1718" y="2705"/>
                  </a:lnTo>
                  <a:lnTo>
                    <a:pt x="1784" y="2687"/>
                  </a:lnTo>
                  <a:lnTo>
                    <a:pt x="1848" y="2665"/>
                  </a:lnTo>
                  <a:lnTo>
                    <a:pt x="1911" y="2640"/>
                  </a:lnTo>
                  <a:lnTo>
                    <a:pt x="1971" y="2613"/>
                  </a:lnTo>
                  <a:lnTo>
                    <a:pt x="2031" y="2583"/>
                  </a:lnTo>
                  <a:lnTo>
                    <a:pt x="2088" y="2550"/>
                  </a:lnTo>
                  <a:lnTo>
                    <a:pt x="2144" y="2514"/>
                  </a:lnTo>
                  <a:lnTo>
                    <a:pt x="2198" y="2476"/>
                  </a:lnTo>
                  <a:lnTo>
                    <a:pt x="2250" y="2435"/>
                  </a:lnTo>
                  <a:lnTo>
                    <a:pt x="2300" y="2392"/>
                  </a:lnTo>
                  <a:lnTo>
                    <a:pt x="2347" y="2347"/>
                  </a:lnTo>
                  <a:lnTo>
                    <a:pt x="2393" y="2298"/>
                  </a:lnTo>
                  <a:lnTo>
                    <a:pt x="2436" y="2248"/>
                  </a:lnTo>
                  <a:lnTo>
                    <a:pt x="2477" y="2197"/>
                  </a:lnTo>
                  <a:lnTo>
                    <a:pt x="2516" y="2143"/>
                  </a:lnTo>
                  <a:lnTo>
                    <a:pt x="2551" y="2087"/>
                  </a:lnTo>
                  <a:lnTo>
                    <a:pt x="2584" y="2029"/>
                  </a:lnTo>
                  <a:lnTo>
                    <a:pt x="2615" y="1970"/>
                  </a:lnTo>
                  <a:lnTo>
                    <a:pt x="2642" y="1909"/>
                  </a:lnTo>
                  <a:lnTo>
                    <a:pt x="2667" y="1847"/>
                  </a:lnTo>
                  <a:lnTo>
                    <a:pt x="2689" y="1783"/>
                  </a:lnTo>
                  <a:lnTo>
                    <a:pt x="2707" y="1718"/>
                  </a:lnTo>
                  <a:lnTo>
                    <a:pt x="2722" y="1651"/>
                  </a:lnTo>
                  <a:lnTo>
                    <a:pt x="2734" y="1584"/>
                  </a:lnTo>
                  <a:lnTo>
                    <a:pt x="2743" y="1515"/>
                  </a:lnTo>
                  <a:lnTo>
                    <a:pt x="2748" y="1445"/>
                  </a:lnTo>
                  <a:lnTo>
                    <a:pt x="2750" y="1375"/>
                  </a:lnTo>
                  <a:close/>
                  <a:moveTo>
                    <a:pt x="2708" y="1375"/>
                  </a:moveTo>
                  <a:lnTo>
                    <a:pt x="2707" y="1443"/>
                  </a:lnTo>
                  <a:lnTo>
                    <a:pt x="2702" y="1511"/>
                  </a:lnTo>
                  <a:lnTo>
                    <a:pt x="2693" y="1578"/>
                  </a:lnTo>
                  <a:lnTo>
                    <a:pt x="2681" y="1643"/>
                  </a:lnTo>
                  <a:lnTo>
                    <a:pt x="2667" y="1707"/>
                  </a:lnTo>
                  <a:lnTo>
                    <a:pt x="2649" y="1771"/>
                  </a:lnTo>
                  <a:lnTo>
                    <a:pt x="2628" y="1833"/>
                  </a:lnTo>
                  <a:lnTo>
                    <a:pt x="2604" y="1893"/>
                  </a:lnTo>
                  <a:lnTo>
                    <a:pt x="2577" y="1952"/>
                  </a:lnTo>
                  <a:lnTo>
                    <a:pt x="2548" y="2010"/>
                  </a:lnTo>
                  <a:lnTo>
                    <a:pt x="2516" y="2066"/>
                  </a:lnTo>
                  <a:lnTo>
                    <a:pt x="2481" y="2120"/>
                  </a:lnTo>
                  <a:lnTo>
                    <a:pt x="2443" y="2172"/>
                  </a:lnTo>
                  <a:lnTo>
                    <a:pt x="2404" y="2222"/>
                  </a:lnTo>
                  <a:lnTo>
                    <a:pt x="2362" y="2270"/>
                  </a:lnTo>
                  <a:lnTo>
                    <a:pt x="2318" y="2316"/>
                  </a:lnTo>
                  <a:lnTo>
                    <a:pt x="2271" y="2361"/>
                  </a:lnTo>
                  <a:lnTo>
                    <a:pt x="2223" y="2403"/>
                  </a:lnTo>
                  <a:lnTo>
                    <a:pt x="2173" y="2443"/>
                  </a:lnTo>
                  <a:lnTo>
                    <a:pt x="2120" y="2480"/>
                  </a:lnTo>
                  <a:lnTo>
                    <a:pt x="2066" y="2514"/>
                  </a:lnTo>
                  <a:lnTo>
                    <a:pt x="2011" y="2546"/>
                  </a:lnTo>
                  <a:lnTo>
                    <a:pt x="1953" y="2576"/>
                  </a:lnTo>
                  <a:lnTo>
                    <a:pt x="1894" y="2603"/>
                  </a:lnTo>
                  <a:lnTo>
                    <a:pt x="1834" y="2626"/>
                  </a:lnTo>
                  <a:lnTo>
                    <a:pt x="1771" y="2647"/>
                  </a:lnTo>
                  <a:lnTo>
                    <a:pt x="1709" y="2665"/>
                  </a:lnTo>
                  <a:lnTo>
                    <a:pt x="1644" y="2680"/>
                  </a:lnTo>
                  <a:lnTo>
                    <a:pt x="1578" y="2692"/>
                  </a:lnTo>
                  <a:lnTo>
                    <a:pt x="1512" y="2700"/>
                  </a:lnTo>
                  <a:lnTo>
                    <a:pt x="1444" y="2705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424" y="2706"/>
                  </a:lnTo>
                  <a:lnTo>
                    <a:pt x="1493" y="2701"/>
                  </a:lnTo>
                  <a:lnTo>
                    <a:pt x="1560" y="2693"/>
                  </a:lnTo>
                  <a:lnTo>
                    <a:pt x="1627" y="2681"/>
                  </a:lnTo>
                  <a:lnTo>
                    <a:pt x="1693" y="2666"/>
                  </a:lnTo>
                  <a:lnTo>
                    <a:pt x="1757" y="2647"/>
                  </a:lnTo>
                  <a:lnTo>
                    <a:pt x="1819" y="2626"/>
                  </a:lnTo>
                  <a:lnTo>
                    <a:pt x="1881" y="2602"/>
                  </a:lnTo>
                  <a:lnTo>
                    <a:pt x="1941" y="2574"/>
                  </a:lnTo>
                  <a:lnTo>
                    <a:pt x="2000" y="2545"/>
                  </a:lnTo>
                  <a:lnTo>
                    <a:pt x="2056" y="2512"/>
                  </a:lnTo>
                  <a:lnTo>
                    <a:pt x="2111" y="2477"/>
                  </a:lnTo>
                  <a:lnTo>
                    <a:pt x="2164" y="2439"/>
                  </a:lnTo>
                  <a:lnTo>
                    <a:pt x="2216" y="2399"/>
                  </a:lnTo>
                  <a:lnTo>
                    <a:pt x="2265" y="2356"/>
                  </a:lnTo>
                  <a:lnTo>
                    <a:pt x="2312" y="2312"/>
                  </a:lnTo>
                  <a:lnTo>
                    <a:pt x="2356" y="2264"/>
                  </a:lnTo>
                  <a:lnTo>
                    <a:pt x="2400" y="2215"/>
                  </a:lnTo>
                  <a:lnTo>
                    <a:pt x="2440" y="2165"/>
                  </a:lnTo>
                  <a:lnTo>
                    <a:pt x="2477" y="2111"/>
                  </a:lnTo>
                  <a:lnTo>
                    <a:pt x="2512" y="2057"/>
                  </a:lnTo>
                  <a:lnTo>
                    <a:pt x="2544" y="1999"/>
                  </a:lnTo>
                  <a:lnTo>
                    <a:pt x="2575" y="1941"/>
                  </a:lnTo>
                  <a:lnTo>
                    <a:pt x="2602" y="1882"/>
                  </a:lnTo>
                  <a:lnTo>
                    <a:pt x="2627" y="1820"/>
                  </a:lnTo>
                  <a:lnTo>
                    <a:pt x="2647" y="1756"/>
                  </a:lnTo>
                  <a:lnTo>
                    <a:pt x="2665" y="1693"/>
                  </a:lnTo>
                  <a:lnTo>
                    <a:pt x="2681" y="1627"/>
                  </a:lnTo>
                  <a:lnTo>
                    <a:pt x="2692" y="1561"/>
                  </a:lnTo>
                  <a:lnTo>
                    <a:pt x="2701" y="1493"/>
                  </a:lnTo>
                  <a:lnTo>
                    <a:pt x="2706" y="1424"/>
                  </a:lnTo>
                  <a:lnTo>
                    <a:pt x="2709" y="1355"/>
                  </a:lnTo>
                  <a:close/>
                  <a:moveTo>
                    <a:pt x="2666" y="1355"/>
                  </a:moveTo>
                  <a:lnTo>
                    <a:pt x="2665" y="1422"/>
                  </a:lnTo>
                  <a:lnTo>
                    <a:pt x="2660" y="1489"/>
                  </a:lnTo>
                  <a:lnTo>
                    <a:pt x="2651" y="1554"/>
                  </a:lnTo>
                  <a:lnTo>
                    <a:pt x="2641" y="1619"/>
                  </a:lnTo>
                  <a:lnTo>
                    <a:pt x="2625" y="1682"/>
                  </a:lnTo>
                  <a:lnTo>
                    <a:pt x="2608" y="1745"/>
                  </a:lnTo>
                  <a:lnTo>
                    <a:pt x="2587" y="1805"/>
                  </a:lnTo>
                  <a:lnTo>
                    <a:pt x="2564" y="1866"/>
                  </a:lnTo>
                  <a:lnTo>
                    <a:pt x="2537" y="1923"/>
                  </a:lnTo>
                  <a:lnTo>
                    <a:pt x="2509" y="1980"/>
                  </a:lnTo>
                  <a:lnTo>
                    <a:pt x="2476" y="2035"/>
                  </a:lnTo>
                  <a:lnTo>
                    <a:pt x="2443" y="2088"/>
                  </a:lnTo>
                  <a:lnTo>
                    <a:pt x="2406" y="2140"/>
                  </a:lnTo>
                  <a:lnTo>
                    <a:pt x="2367" y="2188"/>
                  </a:lnTo>
                  <a:lnTo>
                    <a:pt x="2326" y="2237"/>
                  </a:lnTo>
                  <a:lnTo>
                    <a:pt x="2282" y="2282"/>
                  </a:lnTo>
                  <a:lnTo>
                    <a:pt x="2236" y="2326"/>
                  </a:lnTo>
                  <a:lnTo>
                    <a:pt x="2189" y="2367"/>
                  </a:lnTo>
                  <a:lnTo>
                    <a:pt x="2139" y="2406"/>
                  </a:lnTo>
                  <a:lnTo>
                    <a:pt x="2088" y="2442"/>
                  </a:lnTo>
                  <a:lnTo>
                    <a:pt x="2034" y="2477"/>
                  </a:lnTo>
                  <a:lnTo>
                    <a:pt x="1979" y="2508"/>
                  </a:lnTo>
                  <a:lnTo>
                    <a:pt x="1923" y="2537"/>
                  </a:lnTo>
                  <a:lnTo>
                    <a:pt x="1865" y="2563"/>
                  </a:lnTo>
                  <a:lnTo>
                    <a:pt x="1805" y="2587"/>
                  </a:lnTo>
                  <a:lnTo>
                    <a:pt x="1745" y="2607"/>
                  </a:lnTo>
                  <a:lnTo>
                    <a:pt x="1682" y="2625"/>
                  </a:lnTo>
                  <a:lnTo>
                    <a:pt x="1618" y="2640"/>
                  </a:lnTo>
                  <a:lnTo>
                    <a:pt x="1554" y="2652"/>
                  </a:lnTo>
                  <a:lnTo>
                    <a:pt x="1489" y="2659"/>
                  </a:lnTo>
                  <a:lnTo>
                    <a:pt x="1422" y="2665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close/>
                </a:path>
              </a:pathLst>
            </a:custGeom>
            <a:solidFill>
              <a:srgbClr val="e469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403" y="2663"/>
                  </a:lnTo>
                  <a:lnTo>
                    <a:pt x="1471" y="2658"/>
                  </a:lnTo>
                  <a:lnTo>
                    <a:pt x="1537" y="2650"/>
                  </a:lnTo>
                  <a:lnTo>
                    <a:pt x="1603" y="2638"/>
                  </a:lnTo>
                  <a:lnTo>
                    <a:pt x="1668" y="2623"/>
                  </a:lnTo>
                  <a:lnTo>
                    <a:pt x="1730" y="2605"/>
                  </a:lnTo>
                  <a:lnTo>
                    <a:pt x="1793" y="2584"/>
                  </a:lnTo>
                  <a:lnTo>
                    <a:pt x="1853" y="2561"/>
                  </a:lnTo>
                  <a:lnTo>
                    <a:pt x="1912" y="2534"/>
                  </a:lnTo>
                  <a:lnTo>
                    <a:pt x="1970" y="2504"/>
                  </a:lnTo>
                  <a:lnTo>
                    <a:pt x="2025" y="2472"/>
                  </a:lnTo>
                  <a:lnTo>
                    <a:pt x="2079" y="2438"/>
                  </a:lnTo>
                  <a:lnTo>
                    <a:pt x="2132" y="2401"/>
                  </a:lnTo>
                  <a:lnTo>
                    <a:pt x="2182" y="2361"/>
                  </a:lnTo>
                  <a:lnTo>
                    <a:pt x="2230" y="2319"/>
                  </a:lnTo>
                  <a:lnTo>
                    <a:pt x="2277" y="2274"/>
                  </a:lnTo>
                  <a:lnTo>
                    <a:pt x="2321" y="2228"/>
                  </a:lnTo>
                  <a:lnTo>
                    <a:pt x="2363" y="2180"/>
                  </a:lnTo>
                  <a:lnTo>
                    <a:pt x="2402" y="2130"/>
                  </a:lnTo>
                  <a:lnTo>
                    <a:pt x="2440" y="2078"/>
                  </a:lnTo>
                  <a:lnTo>
                    <a:pt x="2475" y="2024"/>
                  </a:lnTo>
                  <a:lnTo>
                    <a:pt x="2507" y="1968"/>
                  </a:lnTo>
                  <a:lnTo>
                    <a:pt x="2536" y="1910"/>
                  </a:lnTo>
                  <a:lnTo>
                    <a:pt x="2563" y="1851"/>
                  </a:lnTo>
                  <a:lnTo>
                    <a:pt x="2587" y="1791"/>
                  </a:lnTo>
                  <a:lnTo>
                    <a:pt x="2608" y="1729"/>
                  </a:lnTo>
                  <a:lnTo>
                    <a:pt x="2626" y="1665"/>
                  </a:lnTo>
                  <a:lnTo>
                    <a:pt x="2640" y="1601"/>
                  </a:lnTo>
                  <a:lnTo>
                    <a:pt x="2652" y="1536"/>
                  </a:lnTo>
                  <a:lnTo>
                    <a:pt x="2661" y="1469"/>
                  </a:lnTo>
                  <a:lnTo>
                    <a:pt x="2666" y="1401"/>
                  </a:lnTo>
                  <a:lnTo>
                    <a:pt x="2667" y="1333"/>
                  </a:lnTo>
                  <a:close/>
                  <a:moveTo>
                    <a:pt x="2626" y="1333"/>
                  </a:moveTo>
                  <a:lnTo>
                    <a:pt x="2624" y="1399"/>
                  </a:lnTo>
                  <a:lnTo>
                    <a:pt x="2619" y="1464"/>
                  </a:lnTo>
                  <a:lnTo>
                    <a:pt x="2611" y="1529"/>
                  </a:lnTo>
                  <a:lnTo>
                    <a:pt x="2600" y="1593"/>
                  </a:lnTo>
                  <a:lnTo>
                    <a:pt x="2585" y="1656"/>
                  </a:lnTo>
                  <a:lnTo>
                    <a:pt x="2568" y="1716"/>
                  </a:lnTo>
                  <a:lnTo>
                    <a:pt x="2547" y="1777"/>
                  </a:lnTo>
                  <a:lnTo>
                    <a:pt x="2524" y="1835"/>
                  </a:lnTo>
                  <a:lnTo>
                    <a:pt x="2498" y="1892"/>
                  </a:lnTo>
                  <a:lnTo>
                    <a:pt x="2470" y="1948"/>
                  </a:lnTo>
                  <a:lnTo>
                    <a:pt x="2439" y="2002"/>
                  </a:lnTo>
                  <a:lnTo>
                    <a:pt x="2406" y="2054"/>
                  </a:lnTo>
                  <a:lnTo>
                    <a:pt x="2369" y="2105"/>
                  </a:lnTo>
                  <a:lnTo>
                    <a:pt x="2331" y="2153"/>
                  </a:lnTo>
                  <a:lnTo>
                    <a:pt x="2290" y="2201"/>
                  </a:lnTo>
                  <a:lnTo>
                    <a:pt x="2248" y="2245"/>
                  </a:lnTo>
                  <a:lnTo>
                    <a:pt x="2202" y="2288"/>
                  </a:lnTo>
                  <a:lnTo>
                    <a:pt x="2156" y="2328"/>
                  </a:lnTo>
                  <a:lnTo>
                    <a:pt x="2107" y="2367"/>
                  </a:lnTo>
                  <a:lnTo>
                    <a:pt x="2057" y="2403"/>
                  </a:lnTo>
                  <a:lnTo>
                    <a:pt x="2004" y="2436"/>
                  </a:lnTo>
                  <a:lnTo>
                    <a:pt x="1950" y="2468"/>
                  </a:lnTo>
                  <a:lnTo>
                    <a:pt x="1894" y="2496"/>
                  </a:lnTo>
                  <a:lnTo>
                    <a:pt x="1837" y="2522"/>
                  </a:lnTo>
                  <a:lnTo>
                    <a:pt x="1778" y="2546"/>
                  </a:lnTo>
                  <a:lnTo>
                    <a:pt x="1718" y="2565"/>
                  </a:lnTo>
                  <a:lnTo>
                    <a:pt x="1657" y="2583"/>
                  </a:lnTo>
                  <a:lnTo>
                    <a:pt x="1594" y="2597"/>
                  </a:lnTo>
                  <a:lnTo>
                    <a:pt x="1531" y="2608"/>
                  </a:lnTo>
                  <a:lnTo>
                    <a:pt x="1467" y="2617"/>
                  </a:lnTo>
                  <a:lnTo>
                    <a:pt x="1401" y="2622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80" y="2623"/>
                  </a:lnTo>
                  <a:lnTo>
                    <a:pt x="1447" y="2617"/>
                  </a:lnTo>
                  <a:lnTo>
                    <a:pt x="1512" y="2610"/>
                  </a:lnTo>
                  <a:lnTo>
                    <a:pt x="1576" y="2598"/>
                  </a:lnTo>
                  <a:lnTo>
                    <a:pt x="1640" y="2583"/>
                  </a:lnTo>
                  <a:lnTo>
                    <a:pt x="1703" y="2565"/>
                  </a:lnTo>
                  <a:lnTo>
                    <a:pt x="1763" y="2545"/>
                  </a:lnTo>
                  <a:lnTo>
                    <a:pt x="1823" y="2521"/>
                  </a:lnTo>
                  <a:lnTo>
                    <a:pt x="1881" y="2495"/>
                  </a:lnTo>
                  <a:lnTo>
                    <a:pt x="1937" y="2466"/>
                  </a:lnTo>
                  <a:lnTo>
                    <a:pt x="1992" y="2435"/>
                  </a:lnTo>
                  <a:lnTo>
                    <a:pt x="2046" y="2400"/>
                  </a:lnTo>
                  <a:lnTo>
                    <a:pt x="2097" y="2364"/>
                  </a:lnTo>
                  <a:lnTo>
                    <a:pt x="2147" y="2325"/>
                  </a:lnTo>
                  <a:lnTo>
                    <a:pt x="2194" y="2284"/>
                  </a:lnTo>
                  <a:lnTo>
                    <a:pt x="2240" y="2240"/>
                  </a:lnTo>
                  <a:lnTo>
                    <a:pt x="2284" y="2195"/>
                  </a:lnTo>
                  <a:lnTo>
                    <a:pt x="2325" y="2146"/>
                  </a:lnTo>
                  <a:lnTo>
                    <a:pt x="2364" y="2098"/>
                  </a:lnTo>
                  <a:lnTo>
                    <a:pt x="2401" y="2046"/>
                  </a:lnTo>
                  <a:lnTo>
                    <a:pt x="2434" y="1993"/>
                  </a:lnTo>
                  <a:lnTo>
                    <a:pt x="2467" y="1938"/>
                  </a:lnTo>
                  <a:lnTo>
                    <a:pt x="2495" y="1881"/>
                  </a:lnTo>
                  <a:lnTo>
                    <a:pt x="2522" y="1824"/>
                  </a:lnTo>
                  <a:lnTo>
                    <a:pt x="2545" y="1763"/>
                  </a:lnTo>
                  <a:lnTo>
                    <a:pt x="2566" y="1703"/>
                  </a:lnTo>
                  <a:lnTo>
                    <a:pt x="2583" y="1640"/>
                  </a:lnTo>
                  <a:lnTo>
                    <a:pt x="2599" y="1577"/>
                  </a:lnTo>
                  <a:lnTo>
                    <a:pt x="2609" y="1512"/>
                  </a:lnTo>
                  <a:lnTo>
                    <a:pt x="2618" y="1447"/>
                  </a:lnTo>
                  <a:lnTo>
                    <a:pt x="2623" y="1380"/>
                  </a:lnTo>
                  <a:lnTo>
                    <a:pt x="2624" y="1313"/>
                  </a:lnTo>
                  <a:close/>
                  <a:moveTo>
                    <a:pt x="2583" y="1313"/>
                  </a:moveTo>
                  <a:lnTo>
                    <a:pt x="2581" y="1377"/>
                  </a:lnTo>
                  <a:lnTo>
                    <a:pt x="2577" y="1442"/>
                  </a:lnTo>
                  <a:lnTo>
                    <a:pt x="2568" y="1506"/>
                  </a:lnTo>
                  <a:lnTo>
                    <a:pt x="2558" y="1569"/>
                  </a:lnTo>
                  <a:lnTo>
                    <a:pt x="2543" y="1630"/>
                  </a:lnTo>
                  <a:lnTo>
                    <a:pt x="2526" y="1691"/>
                  </a:lnTo>
                  <a:lnTo>
                    <a:pt x="2506" y="1749"/>
                  </a:lnTo>
                  <a:lnTo>
                    <a:pt x="2483" y="1807"/>
                  </a:lnTo>
                  <a:lnTo>
                    <a:pt x="2458" y="1863"/>
                  </a:lnTo>
                  <a:lnTo>
                    <a:pt x="2430" y="1917"/>
                  </a:lnTo>
                  <a:lnTo>
                    <a:pt x="2399" y="1971"/>
                  </a:lnTo>
                  <a:lnTo>
                    <a:pt x="2366" y="2022"/>
                  </a:lnTo>
                  <a:lnTo>
                    <a:pt x="2331" y="2072"/>
                  </a:lnTo>
                  <a:lnTo>
                    <a:pt x="2293" y="2121"/>
                  </a:lnTo>
                  <a:lnTo>
                    <a:pt x="2253" y="2167"/>
                  </a:lnTo>
                  <a:lnTo>
                    <a:pt x="2211" y="2210"/>
                  </a:lnTo>
                  <a:lnTo>
                    <a:pt x="2166" y="2252"/>
                  </a:lnTo>
                  <a:lnTo>
                    <a:pt x="2121" y="2292"/>
                  </a:lnTo>
                  <a:lnTo>
                    <a:pt x="2072" y="2330"/>
                  </a:lnTo>
                  <a:lnTo>
                    <a:pt x="2023" y="2366"/>
                  </a:lnTo>
                  <a:lnTo>
                    <a:pt x="1971" y="2399"/>
                  </a:lnTo>
                  <a:lnTo>
                    <a:pt x="1918" y="2429"/>
                  </a:lnTo>
                  <a:lnTo>
                    <a:pt x="1863" y="2457"/>
                  </a:lnTo>
                  <a:lnTo>
                    <a:pt x="1807" y="2483"/>
                  </a:lnTo>
                  <a:lnTo>
                    <a:pt x="1749" y="2506"/>
                  </a:lnTo>
                  <a:lnTo>
                    <a:pt x="1690" y="2526"/>
                  </a:lnTo>
                  <a:lnTo>
                    <a:pt x="1629" y="2543"/>
                  </a:lnTo>
                  <a:lnTo>
                    <a:pt x="1569" y="2557"/>
                  </a:lnTo>
                  <a:lnTo>
                    <a:pt x="1506" y="2568"/>
                  </a:lnTo>
                  <a:lnTo>
                    <a:pt x="1442" y="2576"/>
                  </a:lnTo>
                  <a:lnTo>
                    <a:pt x="1378" y="2581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59" y="2581"/>
                  </a:lnTo>
                  <a:lnTo>
                    <a:pt x="1425" y="2576"/>
                  </a:lnTo>
                  <a:lnTo>
                    <a:pt x="1489" y="2567"/>
                  </a:lnTo>
                  <a:lnTo>
                    <a:pt x="1552" y="2556"/>
                  </a:lnTo>
                  <a:lnTo>
                    <a:pt x="1615" y="2542"/>
                  </a:lnTo>
                  <a:lnTo>
                    <a:pt x="1676" y="2524"/>
                  </a:lnTo>
                  <a:lnTo>
                    <a:pt x="1736" y="2505"/>
                  </a:lnTo>
                  <a:lnTo>
                    <a:pt x="1795" y="2481"/>
                  </a:lnTo>
                  <a:lnTo>
                    <a:pt x="1852" y="2455"/>
                  </a:lnTo>
                  <a:lnTo>
                    <a:pt x="1908" y="2427"/>
                  </a:lnTo>
                  <a:lnTo>
                    <a:pt x="1962" y="2395"/>
                  </a:lnTo>
                  <a:lnTo>
                    <a:pt x="2015" y="2362"/>
                  </a:lnTo>
                  <a:lnTo>
                    <a:pt x="2065" y="2326"/>
                  </a:lnTo>
                  <a:lnTo>
                    <a:pt x="2114" y="2287"/>
                  </a:lnTo>
                  <a:lnTo>
                    <a:pt x="2160" y="2247"/>
                  </a:lnTo>
                  <a:lnTo>
                    <a:pt x="2206" y="2204"/>
                  </a:lnTo>
                  <a:lnTo>
                    <a:pt x="2248" y="2160"/>
                  </a:lnTo>
                  <a:lnTo>
                    <a:pt x="2289" y="2112"/>
                  </a:lnTo>
                  <a:lnTo>
                    <a:pt x="2327" y="2064"/>
                  </a:lnTo>
                  <a:lnTo>
                    <a:pt x="2364" y="2013"/>
                  </a:lnTo>
                  <a:lnTo>
                    <a:pt x="2397" y="1961"/>
                  </a:lnTo>
                  <a:lnTo>
                    <a:pt x="2428" y="1907"/>
                  </a:lnTo>
                  <a:lnTo>
                    <a:pt x="2456" y="1851"/>
                  </a:lnTo>
                  <a:lnTo>
                    <a:pt x="2482" y="1794"/>
                  </a:lnTo>
                  <a:lnTo>
                    <a:pt x="2505" y="1736"/>
                  </a:lnTo>
                  <a:lnTo>
                    <a:pt x="2526" y="1675"/>
                  </a:lnTo>
                  <a:lnTo>
                    <a:pt x="2543" y="1615"/>
                  </a:lnTo>
                  <a:lnTo>
                    <a:pt x="2558" y="1552"/>
                  </a:lnTo>
                  <a:lnTo>
                    <a:pt x="2569" y="1488"/>
                  </a:lnTo>
                  <a:lnTo>
                    <a:pt x="2577" y="1423"/>
                  </a:lnTo>
                  <a:lnTo>
                    <a:pt x="2582" y="1358"/>
                  </a:lnTo>
                  <a:lnTo>
                    <a:pt x="2584" y="1292"/>
                  </a:lnTo>
                  <a:close/>
                  <a:moveTo>
                    <a:pt x="2542" y="1292"/>
                  </a:moveTo>
                  <a:lnTo>
                    <a:pt x="2541" y="1355"/>
                  </a:lnTo>
                  <a:lnTo>
                    <a:pt x="2535" y="1419"/>
                  </a:lnTo>
                  <a:lnTo>
                    <a:pt x="2528" y="1482"/>
                  </a:lnTo>
                  <a:lnTo>
                    <a:pt x="2517" y="1543"/>
                  </a:lnTo>
                  <a:lnTo>
                    <a:pt x="2503" y="1604"/>
                  </a:lnTo>
                  <a:lnTo>
                    <a:pt x="2486" y="1663"/>
                  </a:lnTo>
                  <a:lnTo>
                    <a:pt x="2466" y="1722"/>
                  </a:lnTo>
                  <a:lnTo>
                    <a:pt x="2443" y="1778"/>
                  </a:lnTo>
                  <a:lnTo>
                    <a:pt x="2419" y="1833"/>
                  </a:lnTo>
                  <a:lnTo>
                    <a:pt x="2392" y="1887"/>
                  </a:lnTo>
                  <a:lnTo>
                    <a:pt x="2361" y="1940"/>
                  </a:lnTo>
                  <a:lnTo>
                    <a:pt x="2329" y="1990"/>
                  </a:lnTo>
                  <a:lnTo>
                    <a:pt x="2294" y="2039"/>
                  </a:lnTo>
                  <a:lnTo>
                    <a:pt x="2257" y="2087"/>
                  </a:lnTo>
                  <a:lnTo>
                    <a:pt x="2218" y="2132"/>
                  </a:lnTo>
                  <a:lnTo>
                    <a:pt x="2176" y="2175"/>
                  </a:lnTo>
                  <a:lnTo>
                    <a:pt x="2132" y="2216"/>
                  </a:lnTo>
                  <a:lnTo>
                    <a:pt x="2087" y="2255"/>
                  </a:lnTo>
                  <a:lnTo>
                    <a:pt x="2040" y="2293"/>
                  </a:lnTo>
                  <a:lnTo>
                    <a:pt x="1991" y="2327"/>
                  </a:lnTo>
                  <a:lnTo>
                    <a:pt x="1940" y="2360"/>
                  </a:lnTo>
                  <a:lnTo>
                    <a:pt x="1888" y="2390"/>
                  </a:lnTo>
                  <a:lnTo>
                    <a:pt x="1834" y="2418"/>
                  </a:lnTo>
                  <a:lnTo>
                    <a:pt x="1779" y="2443"/>
                  </a:lnTo>
                  <a:lnTo>
                    <a:pt x="1722" y="2465"/>
                  </a:lnTo>
                  <a:lnTo>
                    <a:pt x="1663" y="2485"/>
                  </a:lnTo>
                  <a:lnTo>
                    <a:pt x="1605" y="2501"/>
                  </a:lnTo>
                  <a:lnTo>
                    <a:pt x="1544" y="2515"/>
                  </a:lnTo>
                  <a:lnTo>
                    <a:pt x="1483" y="2526"/>
                  </a:lnTo>
                  <a:lnTo>
                    <a:pt x="1420" y="2535"/>
                  </a:lnTo>
                  <a:lnTo>
                    <a:pt x="1356" y="2539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37" y="2538"/>
                  </a:lnTo>
                  <a:lnTo>
                    <a:pt x="1401" y="2533"/>
                  </a:lnTo>
                  <a:lnTo>
                    <a:pt x="1465" y="2525"/>
                  </a:lnTo>
                  <a:lnTo>
                    <a:pt x="1528" y="2514"/>
                  </a:lnTo>
                  <a:lnTo>
                    <a:pt x="1588" y="2500"/>
                  </a:lnTo>
                  <a:lnTo>
                    <a:pt x="1649" y="2483"/>
                  </a:lnTo>
                  <a:lnTo>
                    <a:pt x="1708" y="2463"/>
                  </a:lnTo>
                  <a:lnTo>
                    <a:pt x="1766" y="2440"/>
                  </a:lnTo>
                  <a:lnTo>
                    <a:pt x="1822" y="2414"/>
                  </a:lnTo>
                  <a:lnTo>
                    <a:pt x="1877" y="2386"/>
                  </a:lnTo>
                  <a:lnTo>
                    <a:pt x="1930" y="2356"/>
                  </a:lnTo>
                  <a:lnTo>
                    <a:pt x="1982" y="2323"/>
                  </a:lnTo>
                  <a:lnTo>
                    <a:pt x="2031" y="2287"/>
                  </a:lnTo>
                  <a:lnTo>
                    <a:pt x="2080" y="2249"/>
                  </a:lnTo>
                  <a:lnTo>
                    <a:pt x="2125" y="2209"/>
                  </a:lnTo>
                  <a:lnTo>
                    <a:pt x="2170" y="2167"/>
                  </a:lnTo>
                  <a:lnTo>
                    <a:pt x="2212" y="2124"/>
                  </a:lnTo>
                  <a:lnTo>
                    <a:pt x="2252" y="2078"/>
                  </a:lnTo>
                  <a:lnTo>
                    <a:pt x="2290" y="2029"/>
                  </a:lnTo>
                  <a:lnTo>
                    <a:pt x="2325" y="1979"/>
                  </a:lnTo>
                  <a:lnTo>
                    <a:pt x="2358" y="1928"/>
                  </a:lnTo>
                  <a:lnTo>
                    <a:pt x="2389" y="1874"/>
                  </a:lnTo>
                  <a:lnTo>
                    <a:pt x="2417" y="1820"/>
                  </a:lnTo>
                  <a:lnTo>
                    <a:pt x="2442" y="1764"/>
                  </a:lnTo>
                  <a:lnTo>
                    <a:pt x="2465" y="1706"/>
                  </a:lnTo>
                  <a:lnTo>
                    <a:pt x="2485" y="1648"/>
                  </a:lnTo>
                  <a:lnTo>
                    <a:pt x="2502" y="1587"/>
                  </a:lnTo>
                  <a:lnTo>
                    <a:pt x="2517" y="1526"/>
                  </a:lnTo>
                  <a:lnTo>
                    <a:pt x="2527" y="1463"/>
                  </a:lnTo>
                  <a:lnTo>
                    <a:pt x="2536" y="1399"/>
                  </a:lnTo>
                  <a:lnTo>
                    <a:pt x="2540" y="1334"/>
                  </a:lnTo>
                  <a:lnTo>
                    <a:pt x="2542" y="1270"/>
                  </a:lnTo>
                  <a:close/>
                  <a:moveTo>
                    <a:pt x="2500" y="1270"/>
                  </a:moveTo>
                  <a:lnTo>
                    <a:pt x="2499" y="1332"/>
                  </a:lnTo>
                  <a:lnTo>
                    <a:pt x="2494" y="1395"/>
                  </a:lnTo>
                  <a:lnTo>
                    <a:pt x="2486" y="1457"/>
                  </a:lnTo>
                  <a:lnTo>
                    <a:pt x="2475" y="1517"/>
                  </a:lnTo>
                  <a:lnTo>
                    <a:pt x="2461" y="1576"/>
                  </a:lnTo>
                  <a:lnTo>
                    <a:pt x="2445" y="1635"/>
                  </a:lnTo>
                  <a:lnTo>
                    <a:pt x="2426" y="1692"/>
                  </a:lnTo>
                  <a:lnTo>
                    <a:pt x="2404" y="1748"/>
                  </a:lnTo>
                  <a:lnTo>
                    <a:pt x="2379" y="1802"/>
                  </a:lnTo>
                  <a:lnTo>
                    <a:pt x="2352" y="1855"/>
                  </a:lnTo>
                  <a:lnTo>
                    <a:pt x="2322" y="1907"/>
                  </a:lnTo>
                  <a:lnTo>
                    <a:pt x="2291" y="1957"/>
                  </a:lnTo>
                  <a:lnTo>
                    <a:pt x="2256" y="2004"/>
                  </a:lnTo>
                  <a:lnTo>
                    <a:pt x="2219" y="2051"/>
                  </a:lnTo>
                  <a:lnTo>
                    <a:pt x="2182" y="2096"/>
                  </a:lnTo>
                  <a:lnTo>
                    <a:pt x="2140" y="2138"/>
                  </a:lnTo>
                  <a:lnTo>
                    <a:pt x="2097" y="2179"/>
                  </a:lnTo>
                  <a:lnTo>
                    <a:pt x="2053" y="2218"/>
                  </a:lnTo>
                  <a:lnTo>
                    <a:pt x="2006" y="2254"/>
                  </a:lnTo>
                  <a:lnTo>
                    <a:pt x="1958" y="2288"/>
                  </a:lnTo>
                  <a:lnTo>
                    <a:pt x="1908" y="2321"/>
                  </a:lnTo>
                  <a:lnTo>
                    <a:pt x="1857" y="2350"/>
                  </a:lnTo>
                  <a:lnTo>
                    <a:pt x="1804" y="2377"/>
                  </a:lnTo>
                  <a:lnTo>
                    <a:pt x="1749" y="2402"/>
                  </a:lnTo>
                  <a:lnTo>
                    <a:pt x="1694" y="2423"/>
                  </a:lnTo>
                  <a:lnTo>
                    <a:pt x="1637" y="2443"/>
                  </a:lnTo>
                  <a:lnTo>
                    <a:pt x="1579" y="2460"/>
                  </a:lnTo>
                  <a:lnTo>
                    <a:pt x="1519" y="2473"/>
                  </a:lnTo>
                  <a:lnTo>
                    <a:pt x="1459" y="2484"/>
                  </a:lnTo>
                  <a:lnTo>
                    <a:pt x="1397" y="2492"/>
                  </a:lnTo>
                  <a:lnTo>
                    <a:pt x="1334" y="2497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313" y="2497"/>
                  </a:lnTo>
                  <a:lnTo>
                    <a:pt x="1377" y="2493"/>
                  </a:lnTo>
                  <a:lnTo>
                    <a:pt x="1440" y="2484"/>
                  </a:lnTo>
                  <a:lnTo>
                    <a:pt x="1501" y="2473"/>
                  </a:lnTo>
                  <a:lnTo>
                    <a:pt x="1562" y="2459"/>
                  </a:lnTo>
                  <a:lnTo>
                    <a:pt x="1620" y="2443"/>
                  </a:lnTo>
                  <a:lnTo>
                    <a:pt x="1679" y="2423"/>
                  </a:lnTo>
                  <a:lnTo>
                    <a:pt x="1736" y="2401"/>
                  </a:lnTo>
                  <a:lnTo>
                    <a:pt x="1791" y="2376"/>
                  </a:lnTo>
                  <a:lnTo>
                    <a:pt x="1845" y="2348"/>
                  </a:lnTo>
                  <a:lnTo>
                    <a:pt x="1897" y="2318"/>
                  </a:lnTo>
                  <a:lnTo>
                    <a:pt x="1948" y="2285"/>
                  </a:lnTo>
                  <a:lnTo>
                    <a:pt x="1997" y="2251"/>
                  </a:lnTo>
                  <a:lnTo>
                    <a:pt x="2044" y="2213"/>
                  </a:lnTo>
                  <a:lnTo>
                    <a:pt x="2089" y="2174"/>
                  </a:lnTo>
                  <a:lnTo>
                    <a:pt x="2133" y="2133"/>
                  </a:lnTo>
                  <a:lnTo>
                    <a:pt x="2175" y="2090"/>
                  </a:lnTo>
                  <a:lnTo>
                    <a:pt x="2214" y="2045"/>
                  </a:lnTo>
                  <a:lnTo>
                    <a:pt x="2251" y="1997"/>
                  </a:lnTo>
                  <a:lnTo>
                    <a:pt x="2286" y="1948"/>
                  </a:lnTo>
                  <a:lnTo>
                    <a:pt x="2318" y="1898"/>
                  </a:lnTo>
                  <a:lnTo>
                    <a:pt x="2349" y="1845"/>
                  </a:lnTo>
                  <a:lnTo>
                    <a:pt x="2376" y="1791"/>
                  </a:lnTo>
                  <a:lnTo>
                    <a:pt x="2400" y="1736"/>
                  </a:lnTo>
                  <a:lnTo>
                    <a:pt x="2423" y="1680"/>
                  </a:lnTo>
                  <a:lnTo>
                    <a:pt x="2443" y="1621"/>
                  </a:lnTo>
                  <a:lnTo>
                    <a:pt x="2460" y="1562"/>
                  </a:lnTo>
                  <a:lnTo>
                    <a:pt x="2474" y="1501"/>
                  </a:lnTo>
                  <a:lnTo>
                    <a:pt x="2485" y="1440"/>
                  </a:lnTo>
                  <a:lnTo>
                    <a:pt x="2492" y="1377"/>
                  </a:lnTo>
                  <a:lnTo>
                    <a:pt x="2498" y="1313"/>
                  </a:lnTo>
                  <a:lnTo>
                    <a:pt x="2499" y="1250"/>
                  </a:lnTo>
                  <a:close/>
                  <a:moveTo>
                    <a:pt x="2458" y="1250"/>
                  </a:moveTo>
                  <a:lnTo>
                    <a:pt x="2456" y="1311"/>
                  </a:lnTo>
                  <a:lnTo>
                    <a:pt x="2451" y="1373"/>
                  </a:lnTo>
                  <a:lnTo>
                    <a:pt x="2444" y="1433"/>
                  </a:lnTo>
                  <a:lnTo>
                    <a:pt x="2433" y="1493"/>
                  </a:lnTo>
                  <a:lnTo>
                    <a:pt x="2420" y="1551"/>
                  </a:lnTo>
                  <a:lnTo>
                    <a:pt x="2404" y="1608"/>
                  </a:lnTo>
                  <a:lnTo>
                    <a:pt x="2384" y="1664"/>
                  </a:lnTo>
                  <a:lnTo>
                    <a:pt x="2363" y="1719"/>
                  </a:lnTo>
                  <a:lnTo>
                    <a:pt x="2339" y="1773"/>
                  </a:lnTo>
                  <a:lnTo>
                    <a:pt x="2312" y="1825"/>
                  </a:lnTo>
                  <a:lnTo>
                    <a:pt x="2283" y="1876"/>
                  </a:lnTo>
                  <a:lnTo>
                    <a:pt x="2251" y="1925"/>
                  </a:lnTo>
                  <a:lnTo>
                    <a:pt x="2218" y="1972"/>
                  </a:lnTo>
                  <a:lnTo>
                    <a:pt x="2181" y="2018"/>
                  </a:lnTo>
                  <a:lnTo>
                    <a:pt x="2143" y="2062"/>
                  </a:lnTo>
                  <a:lnTo>
                    <a:pt x="2103" y="2104"/>
                  </a:lnTo>
                  <a:lnTo>
                    <a:pt x="2061" y="2144"/>
                  </a:lnTo>
                  <a:lnTo>
                    <a:pt x="2018" y="2182"/>
                  </a:lnTo>
                  <a:lnTo>
                    <a:pt x="1973" y="2217"/>
                  </a:lnTo>
                  <a:lnTo>
                    <a:pt x="1925" y="2251"/>
                  </a:lnTo>
                  <a:lnTo>
                    <a:pt x="1875" y="2282"/>
                  </a:lnTo>
                  <a:lnTo>
                    <a:pt x="1825" y="2311"/>
                  </a:lnTo>
                  <a:lnTo>
                    <a:pt x="1773" y="2338"/>
                  </a:lnTo>
                  <a:lnTo>
                    <a:pt x="1720" y="2362"/>
                  </a:lnTo>
                  <a:lnTo>
                    <a:pt x="1665" y="2384"/>
                  </a:lnTo>
                  <a:lnTo>
                    <a:pt x="1608" y="2403"/>
                  </a:lnTo>
                  <a:lnTo>
                    <a:pt x="1551" y="2419"/>
                  </a:lnTo>
                  <a:lnTo>
                    <a:pt x="1493" y="2432"/>
                  </a:lnTo>
                  <a:lnTo>
                    <a:pt x="1433" y="2443"/>
                  </a:lnTo>
                  <a:lnTo>
                    <a:pt x="1373" y="2451"/>
                  </a:lnTo>
                  <a:lnTo>
                    <a:pt x="1311" y="2456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92" y="2456"/>
                  </a:lnTo>
                  <a:lnTo>
                    <a:pt x="1355" y="2451"/>
                  </a:lnTo>
                  <a:lnTo>
                    <a:pt x="1417" y="2443"/>
                  </a:lnTo>
                  <a:lnTo>
                    <a:pt x="1477" y="2432"/>
                  </a:lnTo>
                  <a:lnTo>
                    <a:pt x="1537" y="2419"/>
                  </a:lnTo>
                  <a:lnTo>
                    <a:pt x="1595" y="2402"/>
                  </a:lnTo>
                  <a:lnTo>
                    <a:pt x="1652" y="2382"/>
                  </a:lnTo>
                  <a:lnTo>
                    <a:pt x="1707" y="2361"/>
                  </a:lnTo>
                  <a:lnTo>
                    <a:pt x="1762" y="2336"/>
                  </a:lnTo>
                  <a:lnTo>
                    <a:pt x="1815" y="2309"/>
                  </a:lnTo>
                  <a:lnTo>
                    <a:pt x="1866" y="2280"/>
                  </a:lnTo>
                  <a:lnTo>
                    <a:pt x="1916" y="2247"/>
                  </a:lnTo>
                  <a:lnTo>
                    <a:pt x="1964" y="2213"/>
                  </a:lnTo>
                  <a:lnTo>
                    <a:pt x="2011" y="2177"/>
                  </a:lnTo>
                  <a:lnTo>
                    <a:pt x="2055" y="2138"/>
                  </a:lnTo>
                  <a:lnTo>
                    <a:pt x="2098" y="2097"/>
                  </a:lnTo>
                  <a:lnTo>
                    <a:pt x="2140" y="2055"/>
                  </a:lnTo>
                  <a:lnTo>
                    <a:pt x="2177" y="2010"/>
                  </a:lnTo>
                  <a:lnTo>
                    <a:pt x="2214" y="1963"/>
                  </a:lnTo>
                  <a:lnTo>
                    <a:pt x="2249" y="1916"/>
                  </a:lnTo>
                  <a:lnTo>
                    <a:pt x="2280" y="1866"/>
                  </a:lnTo>
                  <a:lnTo>
                    <a:pt x="2310" y="1814"/>
                  </a:lnTo>
                  <a:lnTo>
                    <a:pt x="2337" y="1761"/>
                  </a:lnTo>
                  <a:lnTo>
                    <a:pt x="2362" y="1707"/>
                  </a:lnTo>
                  <a:lnTo>
                    <a:pt x="2384" y="1651"/>
                  </a:lnTo>
                  <a:lnTo>
                    <a:pt x="2403" y="1594"/>
                  </a:lnTo>
                  <a:lnTo>
                    <a:pt x="2419" y="1535"/>
                  </a:lnTo>
                  <a:lnTo>
                    <a:pt x="2433" y="1476"/>
                  </a:lnTo>
                  <a:lnTo>
                    <a:pt x="2444" y="1416"/>
                  </a:lnTo>
                  <a:lnTo>
                    <a:pt x="2452" y="1354"/>
                  </a:lnTo>
                  <a:lnTo>
                    <a:pt x="2457" y="1291"/>
                  </a:lnTo>
                  <a:lnTo>
                    <a:pt x="2458" y="1229"/>
                  </a:lnTo>
                  <a:close/>
                  <a:moveTo>
                    <a:pt x="2417" y="1229"/>
                  </a:moveTo>
                  <a:lnTo>
                    <a:pt x="2415" y="1289"/>
                  </a:lnTo>
                  <a:lnTo>
                    <a:pt x="2411" y="1350"/>
                  </a:lnTo>
                  <a:lnTo>
                    <a:pt x="2403" y="1409"/>
                  </a:lnTo>
                  <a:lnTo>
                    <a:pt x="2392" y="1467"/>
                  </a:lnTo>
                  <a:lnTo>
                    <a:pt x="2379" y="1525"/>
                  </a:lnTo>
                  <a:lnTo>
                    <a:pt x="2363" y="1582"/>
                  </a:lnTo>
                  <a:lnTo>
                    <a:pt x="2345" y="1637"/>
                  </a:lnTo>
                  <a:lnTo>
                    <a:pt x="2323" y="1691"/>
                  </a:lnTo>
                  <a:lnTo>
                    <a:pt x="2299" y="1743"/>
                  </a:lnTo>
                  <a:lnTo>
                    <a:pt x="2274" y="1795"/>
                  </a:lnTo>
                  <a:lnTo>
                    <a:pt x="2244" y="1844"/>
                  </a:lnTo>
                  <a:lnTo>
                    <a:pt x="2214" y="1892"/>
                  </a:lnTo>
                  <a:lnTo>
                    <a:pt x="2181" y="1938"/>
                  </a:lnTo>
                  <a:lnTo>
                    <a:pt x="2146" y="1984"/>
                  </a:lnTo>
                  <a:lnTo>
                    <a:pt x="2108" y="2027"/>
                  </a:lnTo>
                  <a:lnTo>
                    <a:pt x="2069" y="2068"/>
                  </a:lnTo>
                  <a:lnTo>
                    <a:pt x="2027" y="2107"/>
                  </a:lnTo>
                  <a:lnTo>
                    <a:pt x="1985" y="2145"/>
                  </a:lnTo>
                  <a:lnTo>
                    <a:pt x="1940" y="2179"/>
                  </a:lnTo>
                  <a:lnTo>
                    <a:pt x="1893" y="2213"/>
                  </a:lnTo>
                  <a:lnTo>
                    <a:pt x="1845" y="2244"/>
                  </a:lnTo>
                  <a:lnTo>
                    <a:pt x="1795" y="2272"/>
                  </a:lnTo>
                  <a:lnTo>
                    <a:pt x="1744" y="2298"/>
                  </a:lnTo>
                  <a:lnTo>
                    <a:pt x="1691" y="2322"/>
                  </a:lnTo>
                  <a:lnTo>
                    <a:pt x="1637" y="2343"/>
                  </a:lnTo>
                  <a:lnTo>
                    <a:pt x="1582" y="2362"/>
                  </a:lnTo>
                  <a:lnTo>
                    <a:pt x="1526" y="2378"/>
                  </a:lnTo>
                  <a:lnTo>
                    <a:pt x="1469" y="2392"/>
                  </a:lnTo>
                  <a:lnTo>
                    <a:pt x="1410" y="2402"/>
                  </a:lnTo>
                  <a:lnTo>
                    <a:pt x="1351" y="2409"/>
                  </a:lnTo>
                  <a:lnTo>
                    <a:pt x="1290" y="2413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70" y="2415"/>
                  </a:lnTo>
                  <a:lnTo>
                    <a:pt x="1332" y="2410"/>
                  </a:lnTo>
                  <a:lnTo>
                    <a:pt x="1392" y="2402"/>
                  </a:lnTo>
                  <a:lnTo>
                    <a:pt x="1452" y="2391"/>
                  </a:lnTo>
                  <a:lnTo>
                    <a:pt x="1510" y="2378"/>
                  </a:lnTo>
                  <a:lnTo>
                    <a:pt x="1567" y="2362"/>
                  </a:lnTo>
                  <a:lnTo>
                    <a:pt x="1624" y="2343"/>
                  </a:lnTo>
                  <a:lnTo>
                    <a:pt x="1679" y="2321"/>
                  </a:lnTo>
                  <a:lnTo>
                    <a:pt x="1732" y="2297"/>
                  </a:lnTo>
                  <a:lnTo>
                    <a:pt x="1784" y="2270"/>
                  </a:lnTo>
                  <a:lnTo>
                    <a:pt x="1834" y="2241"/>
                  </a:lnTo>
                  <a:lnTo>
                    <a:pt x="1884" y="2210"/>
                  </a:lnTo>
                  <a:lnTo>
                    <a:pt x="1932" y="2176"/>
                  </a:lnTo>
                  <a:lnTo>
                    <a:pt x="1977" y="2141"/>
                  </a:lnTo>
                  <a:lnTo>
                    <a:pt x="2020" y="2103"/>
                  </a:lnTo>
                  <a:lnTo>
                    <a:pt x="2062" y="2063"/>
                  </a:lnTo>
                  <a:lnTo>
                    <a:pt x="2102" y="2021"/>
                  </a:lnTo>
                  <a:lnTo>
                    <a:pt x="2140" y="1977"/>
                  </a:lnTo>
                  <a:lnTo>
                    <a:pt x="2177" y="1931"/>
                  </a:lnTo>
                  <a:lnTo>
                    <a:pt x="2210" y="1884"/>
                  </a:lnTo>
                  <a:lnTo>
                    <a:pt x="2242" y="1835"/>
                  </a:lnTo>
                  <a:lnTo>
                    <a:pt x="2271" y="1784"/>
                  </a:lnTo>
                  <a:lnTo>
                    <a:pt x="2298" y="1732"/>
                  </a:lnTo>
                  <a:lnTo>
                    <a:pt x="2322" y="1678"/>
                  </a:lnTo>
                  <a:lnTo>
                    <a:pt x="2343" y="1623"/>
                  </a:lnTo>
                  <a:lnTo>
                    <a:pt x="2363" y="1567"/>
                  </a:lnTo>
                  <a:lnTo>
                    <a:pt x="2379" y="1510"/>
                  </a:lnTo>
                  <a:lnTo>
                    <a:pt x="2392" y="1452"/>
                  </a:lnTo>
                  <a:lnTo>
                    <a:pt x="2403" y="1392"/>
                  </a:lnTo>
                  <a:lnTo>
                    <a:pt x="2410" y="1332"/>
                  </a:lnTo>
                  <a:lnTo>
                    <a:pt x="2415" y="1270"/>
                  </a:lnTo>
                  <a:lnTo>
                    <a:pt x="2417" y="1209"/>
                  </a:lnTo>
                  <a:close/>
                  <a:moveTo>
                    <a:pt x="2375" y="1209"/>
                  </a:moveTo>
                  <a:lnTo>
                    <a:pt x="2374" y="1268"/>
                  </a:lnTo>
                  <a:lnTo>
                    <a:pt x="2369" y="1327"/>
                  </a:lnTo>
                  <a:lnTo>
                    <a:pt x="2362" y="1386"/>
                  </a:lnTo>
                  <a:lnTo>
                    <a:pt x="2351" y="1443"/>
                  </a:lnTo>
                  <a:lnTo>
                    <a:pt x="2338" y="1500"/>
                  </a:lnTo>
                  <a:lnTo>
                    <a:pt x="2323" y="1555"/>
                  </a:lnTo>
                  <a:lnTo>
                    <a:pt x="2304" y="1609"/>
                  </a:lnTo>
                  <a:lnTo>
                    <a:pt x="2283" y="1662"/>
                  </a:lnTo>
                  <a:lnTo>
                    <a:pt x="2260" y="1714"/>
                  </a:lnTo>
                  <a:lnTo>
                    <a:pt x="2234" y="1764"/>
                  </a:lnTo>
                  <a:lnTo>
                    <a:pt x="2206" y="1813"/>
                  </a:lnTo>
                  <a:lnTo>
                    <a:pt x="2176" y="1860"/>
                  </a:lnTo>
                  <a:lnTo>
                    <a:pt x="2143" y="1906"/>
                  </a:lnTo>
                  <a:lnTo>
                    <a:pt x="2109" y="1951"/>
                  </a:lnTo>
                  <a:lnTo>
                    <a:pt x="2072" y="1993"/>
                  </a:lnTo>
                  <a:lnTo>
                    <a:pt x="2033" y="2033"/>
                  </a:lnTo>
                  <a:lnTo>
                    <a:pt x="1992" y="2072"/>
                  </a:lnTo>
                  <a:lnTo>
                    <a:pt x="1950" y="2108"/>
                  </a:lnTo>
                  <a:lnTo>
                    <a:pt x="1906" y="2143"/>
                  </a:lnTo>
                  <a:lnTo>
                    <a:pt x="1860" y="2175"/>
                  </a:lnTo>
                  <a:lnTo>
                    <a:pt x="1813" y="2206"/>
                  </a:lnTo>
                  <a:lnTo>
                    <a:pt x="1764" y="2234"/>
                  </a:lnTo>
                  <a:lnTo>
                    <a:pt x="1714" y="2260"/>
                  </a:lnTo>
                  <a:lnTo>
                    <a:pt x="1663" y="2283"/>
                  </a:lnTo>
                  <a:lnTo>
                    <a:pt x="1610" y="2304"/>
                  </a:lnTo>
                  <a:lnTo>
                    <a:pt x="1556" y="2322"/>
                  </a:lnTo>
                  <a:lnTo>
                    <a:pt x="1499" y="2338"/>
                  </a:lnTo>
                  <a:lnTo>
                    <a:pt x="1443" y="2351"/>
                  </a:lnTo>
                  <a:lnTo>
                    <a:pt x="1386" y="2361"/>
                  </a:lnTo>
                  <a:lnTo>
                    <a:pt x="1328" y="2369"/>
                  </a:lnTo>
                  <a:lnTo>
                    <a:pt x="1268" y="2373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49" y="2371"/>
                  </a:lnTo>
                  <a:lnTo>
                    <a:pt x="1310" y="2367"/>
                  </a:lnTo>
                  <a:lnTo>
                    <a:pt x="1369" y="2360"/>
                  </a:lnTo>
                  <a:lnTo>
                    <a:pt x="1428" y="2350"/>
                  </a:lnTo>
                  <a:lnTo>
                    <a:pt x="1485" y="2336"/>
                  </a:lnTo>
                  <a:lnTo>
                    <a:pt x="1541" y="2320"/>
                  </a:lnTo>
                  <a:lnTo>
                    <a:pt x="1596" y="2301"/>
                  </a:lnTo>
                  <a:lnTo>
                    <a:pt x="1650" y="2280"/>
                  </a:lnTo>
                  <a:lnTo>
                    <a:pt x="1703" y="2256"/>
                  </a:lnTo>
                  <a:lnTo>
                    <a:pt x="1754" y="2230"/>
                  </a:lnTo>
                  <a:lnTo>
                    <a:pt x="1804" y="2202"/>
                  </a:lnTo>
                  <a:lnTo>
                    <a:pt x="1852" y="2171"/>
                  </a:lnTo>
                  <a:lnTo>
                    <a:pt x="1899" y="2137"/>
                  </a:lnTo>
                  <a:lnTo>
                    <a:pt x="1944" y="2103"/>
                  </a:lnTo>
                  <a:lnTo>
                    <a:pt x="1986" y="2065"/>
                  </a:lnTo>
                  <a:lnTo>
                    <a:pt x="2028" y="2026"/>
                  </a:lnTo>
                  <a:lnTo>
                    <a:pt x="2067" y="1985"/>
                  </a:lnTo>
                  <a:lnTo>
                    <a:pt x="2105" y="1942"/>
                  </a:lnTo>
                  <a:lnTo>
                    <a:pt x="2140" y="1896"/>
                  </a:lnTo>
                  <a:lnTo>
                    <a:pt x="2173" y="1850"/>
                  </a:lnTo>
                  <a:lnTo>
                    <a:pt x="2203" y="1802"/>
                  </a:lnTo>
                  <a:lnTo>
                    <a:pt x="2233" y="1753"/>
                  </a:lnTo>
                  <a:lnTo>
                    <a:pt x="2258" y="1701"/>
                  </a:lnTo>
                  <a:lnTo>
                    <a:pt x="2282" y="1649"/>
                  </a:lnTo>
                  <a:lnTo>
                    <a:pt x="2304" y="1595"/>
                  </a:lnTo>
                  <a:lnTo>
                    <a:pt x="2322" y="1540"/>
                  </a:lnTo>
                  <a:lnTo>
                    <a:pt x="2338" y="1483"/>
                  </a:lnTo>
                  <a:lnTo>
                    <a:pt x="2351" y="1425"/>
                  </a:lnTo>
                  <a:lnTo>
                    <a:pt x="2362" y="1367"/>
                  </a:lnTo>
                  <a:lnTo>
                    <a:pt x="2370" y="1308"/>
                  </a:lnTo>
                  <a:lnTo>
                    <a:pt x="2374" y="1247"/>
                  </a:lnTo>
                  <a:lnTo>
                    <a:pt x="2376" y="1187"/>
                  </a:lnTo>
                  <a:close/>
                  <a:moveTo>
                    <a:pt x="2334" y="1187"/>
                  </a:moveTo>
                  <a:lnTo>
                    <a:pt x="2333" y="1245"/>
                  </a:lnTo>
                  <a:lnTo>
                    <a:pt x="2328" y="1303"/>
                  </a:lnTo>
                  <a:lnTo>
                    <a:pt x="2321" y="1361"/>
                  </a:lnTo>
                  <a:lnTo>
                    <a:pt x="2310" y="1417"/>
                  </a:lnTo>
                  <a:lnTo>
                    <a:pt x="2298" y="1473"/>
                  </a:lnTo>
                  <a:lnTo>
                    <a:pt x="2282" y="1527"/>
                  </a:lnTo>
                  <a:lnTo>
                    <a:pt x="2265" y="1580"/>
                  </a:lnTo>
                  <a:lnTo>
                    <a:pt x="2244" y="1633"/>
                  </a:lnTo>
                  <a:lnTo>
                    <a:pt x="2221" y="1683"/>
                  </a:lnTo>
                  <a:lnTo>
                    <a:pt x="2196" y="1732"/>
                  </a:lnTo>
                  <a:lnTo>
                    <a:pt x="2168" y="1781"/>
                  </a:lnTo>
                  <a:lnTo>
                    <a:pt x="2139" y="1827"/>
                  </a:lnTo>
                  <a:lnTo>
                    <a:pt x="2106" y="1871"/>
                  </a:lnTo>
                  <a:lnTo>
                    <a:pt x="2073" y="1915"/>
                  </a:lnTo>
                  <a:lnTo>
                    <a:pt x="2036" y="1957"/>
                  </a:lnTo>
                  <a:lnTo>
                    <a:pt x="1998" y="1997"/>
                  </a:lnTo>
                  <a:lnTo>
                    <a:pt x="1958" y="2034"/>
                  </a:lnTo>
                  <a:lnTo>
                    <a:pt x="1917" y="2070"/>
                  </a:lnTo>
                  <a:lnTo>
                    <a:pt x="1874" y="2105"/>
                  </a:lnTo>
                  <a:lnTo>
                    <a:pt x="1828" y="2136"/>
                  </a:lnTo>
                  <a:lnTo>
                    <a:pt x="1782" y="2166"/>
                  </a:lnTo>
                  <a:lnTo>
                    <a:pt x="1734" y="2193"/>
                  </a:lnTo>
                  <a:lnTo>
                    <a:pt x="1685" y="2219"/>
                  </a:lnTo>
                  <a:lnTo>
                    <a:pt x="1634" y="2242"/>
                  </a:lnTo>
                  <a:lnTo>
                    <a:pt x="1582" y="2262"/>
                  </a:lnTo>
                  <a:lnTo>
                    <a:pt x="1529" y="2281"/>
                  </a:lnTo>
                  <a:lnTo>
                    <a:pt x="1474" y="2296"/>
                  </a:lnTo>
                  <a:lnTo>
                    <a:pt x="1419" y="2309"/>
                  </a:lnTo>
                  <a:lnTo>
                    <a:pt x="1363" y="2319"/>
                  </a:lnTo>
                  <a:lnTo>
                    <a:pt x="1305" y="2326"/>
                  </a:lnTo>
                  <a:lnTo>
                    <a:pt x="1247" y="2330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26" y="2331"/>
                  </a:lnTo>
                  <a:lnTo>
                    <a:pt x="1286" y="2327"/>
                  </a:lnTo>
                  <a:lnTo>
                    <a:pt x="1344" y="2319"/>
                  </a:lnTo>
                  <a:lnTo>
                    <a:pt x="1401" y="2309"/>
                  </a:lnTo>
                  <a:lnTo>
                    <a:pt x="1457" y="2296"/>
                  </a:lnTo>
                  <a:lnTo>
                    <a:pt x="1514" y="2280"/>
                  </a:lnTo>
                  <a:lnTo>
                    <a:pt x="1568" y="2262"/>
                  </a:lnTo>
                  <a:lnTo>
                    <a:pt x="1621" y="2241"/>
                  </a:lnTo>
                  <a:lnTo>
                    <a:pt x="1672" y="2218"/>
                  </a:lnTo>
                  <a:lnTo>
                    <a:pt x="1722" y="2192"/>
                  </a:lnTo>
                  <a:lnTo>
                    <a:pt x="1771" y="2164"/>
                  </a:lnTo>
                  <a:lnTo>
                    <a:pt x="1818" y="2133"/>
                  </a:lnTo>
                  <a:lnTo>
                    <a:pt x="1864" y="2101"/>
                  </a:lnTo>
                  <a:lnTo>
                    <a:pt x="1908" y="2066"/>
                  </a:lnTo>
                  <a:lnTo>
                    <a:pt x="1950" y="2030"/>
                  </a:lnTo>
                  <a:lnTo>
                    <a:pt x="1991" y="1991"/>
                  </a:lnTo>
                  <a:lnTo>
                    <a:pt x="2030" y="1951"/>
                  </a:lnTo>
                  <a:lnTo>
                    <a:pt x="2067" y="1909"/>
                  </a:lnTo>
                  <a:lnTo>
                    <a:pt x="2101" y="1864"/>
                  </a:lnTo>
                  <a:lnTo>
                    <a:pt x="2134" y="1818"/>
                  </a:lnTo>
                  <a:lnTo>
                    <a:pt x="2164" y="1771"/>
                  </a:lnTo>
                  <a:lnTo>
                    <a:pt x="2192" y="1722"/>
                  </a:lnTo>
                  <a:lnTo>
                    <a:pt x="2218" y="1672"/>
                  </a:lnTo>
                  <a:lnTo>
                    <a:pt x="2241" y="1620"/>
                  </a:lnTo>
                  <a:lnTo>
                    <a:pt x="2262" y="1567"/>
                  </a:lnTo>
                  <a:lnTo>
                    <a:pt x="2281" y="1513"/>
                  </a:lnTo>
                  <a:lnTo>
                    <a:pt x="2296" y="1458"/>
                  </a:lnTo>
                  <a:lnTo>
                    <a:pt x="2309" y="1401"/>
                  </a:lnTo>
                  <a:lnTo>
                    <a:pt x="2320" y="1344"/>
                  </a:lnTo>
                  <a:lnTo>
                    <a:pt x="2327" y="1285"/>
                  </a:lnTo>
                  <a:lnTo>
                    <a:pt x="2332" y="1226"/>
                  </a:lnTo>
                  <a:lnTo>
                    <a:pt x="2333" y="1167"/>
                  </a:lnTo>
                  <a:close/>
                  <a:moveTo>
                    <a:pt x="2292" y="1167"/>
                  </a:moveTo>
                  <a:lnTo>
                    <a:pt x="2289" y="1224"/>
                  </a:lnTo>
                  <a:lnTo>
                    <a:pt x="2285" y="1281"/>
                  </a:lnTo>
                  <a:lnTo>
                    <a:pt x="2279" y="1337"/>
                  </a:lnTo>
                  <a:lnTo>
                    <a:pt x="2269" y="1393"/>
                  </a:lnTo>
                  <a:lnTo>
                    <a:pt x="2256" y="1447"/>
                  </a:lnTo>
                  <a:lnTo>
                    <a:pt x="2241" y="1500"/>
                  </a:lnTo>
                  <a:lnTo>
                    <a:pt x="2222" y="1553"/>
                  </a:lnTo>
                  <a:lnTo>
                    <a:pt x="2203" y="1604"/>
                  </a:lnTo>
                  <a:lnTo>
                    <a:pt x="2180" y="1654"/>
                  </a:lnTo>
                  <a:lnTo>
                    <a:pt x="2155" y="1702"/>
                  </a:lnTo>
                  <a:lnTo>
                    <a:pt x="2128" y="1750"/>
                  </a:lnTo>
                  <a:lnTo>
                    <a:pt x="2099" y="1795"/>
                  </a:lnTo>
                  <a:lnTo>
                    <a:pt x="2068" y="1840"/>
                  </a:lnTo>
                  <a:lnTo>
                    <a:pt x="2034" y="1882"/>
                  </a:lnTo>
                  <a:lnTo>
                    <a:pt x="1999" y="1923"/>
                  </a:lnTo>
                  <a:lnTo>
                    <a:pt x="1962" y="1962"/>
                  </a:lnTo>
                  <a:lnTo>
                    <a:pt x="1923" y="1998"/>
                  </a:lnTo>
                  <a:lnTo>
                    <a:pt x="1882" y="2034"/>
                  </a:lnTo>
                  <a:lnTo>
                    <a:pt x="1839" y="2067"/>
                  </a:lnTo>
                  <a:lnTo>
                    <a:pt x="1796" y="2099"/>
                  </a:lnTo>
                  <a:lnTo>
                    <a:pt x="1749" y="2128"/>
                  </a:lnTo>
                  <a:lnTo>
                    <a:pt x="1703" y="2155"/>
                  </a:lnTo>
                  <a:lnTo>
                    <a:pt x="1654" y="2180"/>
                  </a:lnTo>
                  <a:lnTo>
                    <a:pt x="1604" y="2202"/>
                  </a:lnTo>
                  <a:lnTo>
                    <a:pt x="1552" y="2223"/>
                  </a:lnTo>
                  <a:lnTo>
                    <a:pt x="1501" y="2240"/>
                  </a:lnTo>
                  <a:lnTo>
                    <a:pt x="1448" y="2255"/>
                  </a:lnTo>
                  <a:lnTo>
                    <a:pt x="1393" y="2268"/>
                  </a:lnTo>
                  <a:lnTo>
                    <a:pt x="1337" y="2278"/>
                  </a:lnTo>
                  <a:lnTo>
                    <a:pt x="1281" y="2286"/>
                  </a:lnTo>
                  <a:lnTo>
                    <a:pt x="1224" y="2290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205" y="2289"/>
                  </a:lnTo>
                  <a:lnTo>
                    <a:pt x="1263" y="2285"/>
                  </a:lnTo>
                  <a:lnTo>
                    <a:pt x="1321" y="2278"/>
                  </a:lnTo>
                  <a:lnTo>
                    <a:pt x="1377" y="2268"/>
                  </a:lnTo>
                  <a:lnTo>
                    <a:pt x="1432" y="2255"/>
                  </a:lnTo>
                  <a:lnTo>
                    <a:pt x="1487" y="2240"/>
                  </a:lnTo>
                  <a:lnTo>
                    <a:pt x="1540" y="2221"/>
                  </a:lnTo>
                  <a:lnTo>
                    <a:pt x="1592" y="2201"/>
                  </a:lnTo>
                  <a:lnTo>
                    <a:pt x="1643" y="2178"/>
                  </a:lnTo>
                  <a:lnTo>
                    <a:pt x="1692" y="2152"/>
                  </a:lnTo>
                  <a:lnTo>
                    <a:pt x="1740" y="2125"/>
                  </a:lnTo>
                  <a:lnTo>
                    <a:pt x="1786" y="2095"/>
                  </a:lnTo>
                  <a:lnTo>
                    <a:pt x="1832" y="2064"/>
                  </a:lnTo>
                  <a:lnTo>
                    <a:pt x="1875" y="2029"/>
                  </a:lnTo>
                  <a:lnTo>
                    <a:pt x="1916" y="1993"/>
                  </a:lnTo>
                  <a:lnTo>
                    <a:pt x="1956" y="1956"/>
                  </a:lnTo>
                  <a:lnTo>
                    <a:pt x="1994" y="1916"/>
                  </a:lnTo>
                  <a:lnTo>
                    <a:pt x="2031" y="1874"/>
                  </a:lnTo>
                  <a:lnTo>
                    <a:pt x="2064" y="1830"/>
                  </a:lnTo>
                  <a:lnTo>
                    <a:pt x="2097" y="1786"/>
                  </a:lnTo>
                  <a:lnTo>
                    <a:pt x="2126" y="1740"/>
                  </a:lnTo>
                  <a:lnTo>
                    <a:pt x="2154" y="1691"/>
                  </a:lnTo>
                  <a:lnTo>
                    <a:pt x="2179" y="1642"/>
                  </a:lnTo>
                  <a:lnTo>
                    <a:pt x="2202" y="1592"/>
                  </a:lnTo>
                  <a:lnTo>
                    <a:pt x="2223" y="1539"/>
                  </a:lnTo>
                  <a:lnTo>
                    <a:pt x="2240" y="1486"/>
                  </a:lnTo>
                  <a:lnTo>
                    <a:pt x="2256" y="1432"/>
                  </a:lnTo>
                  <a:lnTo>
                    <a:pt x="2268" y="1376"/>
                  </a:lnTo>
                  <a:lnTo>
                    <a:pt x="2279" y="1320"/>
                  </a:lnTo>
                  <a:lnTo>
                    <a:pt x="2286" y="1262"/>
                  </a:lnTo>
                  <a:lnTo>
                    <a:pt x="2291" y="1204"/>
                  </a:lnTo>
                  <a:lnTo>
                    <a:pt x="2292" y="1146"/>
                  </a:lnTo>
                  <a:close/>
                  <a:moveTo>
                    <a:pt x="2250" y="1146"/>
                  </a:moveTo>
                  <a:lnTo>
                    <a:pt x="2249" y="1202"/>
                  </a:lnTo>
                  <a:lnTo>
                    <a:pt x="2245" y="1258"/>
                  </a:lnTo>
                  <a:lnTo>
                    <a:pt x="2238" y="1313"/>
                  </a:lnTo>
                  <a:lnTo>
                    <a:pt x="2228" y="1368"/>
                  </a:lnTo>
                  <a:lnTo>
                    <a:pt x="2215" y="1421"/>
                  </a:lnTo>
                  <a:lnTo>
                    <a:pt x="2200" y="1474"/>
                  </a:lnTo>
                  <a:lnTo>
                    <a:pt x="2183" y="1525"/>
                  </a:lnTo>
                  <a:lnTo>
                    <a:pt x="2164" y="1576"/>
                  </a:lnTo>
                  <a:lnTo>
                    <a:pt x="2142" y="1624"/>
                  </a:lnTo>
                  <a:lnTo>
                    <a:pt x="2117" y="1672"/>
                  </a:lnTo>
                  <a:lnTo>
                    <a:pt x="2090" y="1718"/>
                  </a:lnTo>
                  <a:lnTo>
                    <a:pt x="2062" y="1762"/>
                  </a:lnTo>
                  <a:lnTo>
                    <a:pt x="2031" y="1806"/>
                  </a:lnTo>
                  <a:lnTo>
                    <a:pt x="1998" y="1848"/>
                  </a:lnTo>
                  <a:lnTo>
                    <a:pt x="1964" y="1888"/>
                  </a:lnTo>
                  <a:lnTo>
                    <a:pt x="1927" y="1925"/>
                  </a:lnTo>
                  <a:lnTo>
                    <a:pt x="1889" y="1962"/>
                  </a:lnTo>
                  <a:lnTo>
                    <a:pt x="1848" y="1997"/>
                  </a:lnTo>
                  <a:lnTo>
                    <a:pt x="1807" y="2030"/>
                  </a:lnTo>
                  <a:lnTo>
                    <a:pt x="1764" y="2060"/>
                  </a:lnTo>
                  <a:lnTo>
                    <a:pt x="1718" y="2090"/>
                  </a:lnTo>
                  <a:lnTo>
                    <a:pt x="1673" y="2116"/>
                  </a:lnTo>
                  <a:lnTo>
                    <a:pt x="1624" y="2140"/>
                  </a:lnTo>
                  <a:lnTo>
                    <a:pt x="1576" y="2162"/>
                  </a:lnTo>
                  <a:lnTo>
                    <a:pt x="1526" y="2182"/>
                  </a:lnTo>
                  <a:lnTo>
                    <a:pt x="1474" y="2200"/>
                  </a:lnTo>
                  <a:lnTo>
                    <a:pt x="1422" y="2215"/>
                  </a:lnTo>
                  <a:lnTo>
                    <a:pt x="1368" y="2227"/>
                  </a:lnTo>
                  <a:lnTo>
                    <a:pt x="1314" y="2236"/>
                  </a:lnTo>
                  <a:lnTo>
                    <a:pt x="1259" y="2243"/>
                  </a:lnTo>
                  <a:lnTo>
                    <a:pt x="1203" y="2247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83" y="2248"/>
                  </a:lnTo>
                  <a:lnTo>
                    <a:pt x="1240" y="2244"/>
                  </a:lnTo>
                  <a:lnTo>
                    <a:pt x="1296" y="2236"/>
                  </a:lnTo>
                  <a:lnTo>
                    <a:pt x="1352" y="2226"/>
                  </a:lnTo>
                  <a:lnTo>
                    <a:pt x="1407" y="2213"/>
                  </a:lnTo>
                  <a:lnTo>
                    <a:pt x="1460" y="2198"/>
                  </a:lnTo>
                  <a:lnTo>
                    <a:pt x="1511" y="2181"/>
                  </a:lnTo>
                  <a:lnTo>
                    <a:pt x="1563" y="2160"/>
                  </a:lnTo>
                  <a:lnTo>
                    <a:pt x="1613" y="2138"/>
                  </a:lnTo>
                  <a:lnTo>
                    <a:pt x="1662" y="2113"/>
                  </a:lnTo>
                  <a:lnTo>
                    <a:pt x="1708" y="2086"/>
                  </a:lnTo>
                  <a:lnTo>
                    <a:pt x="1755" y="2057"/>
                  </a:lnTo>
                  <a:lnTo>
                    <a:pt x="1798" y="2025"/>
                  </a:lnTo>
                  <a:lnTo>
                    <a:pt x="1841" y="1992"/>
                  </a:lnTo>
                  <a:lnTo>
                    <a:pt x="1882" y="1956"/>
                  </a:lnTo>
                  <a:lnTo>
                    <a:pt x="1921" y="1920"/>
                  </a:lnTo>
                  <a:lnTo>
                    <a:pt x="1958" y="1881"/>
                  </a:lnTo>
                  <a:lnTo>
                    <a:pt x="1993" y="1840"/>
                  </a:lnTo>
                  <a:lnTo>
                    <a:pt x="2027" y="1798"/>
                  </a:lnTo>
                  <a:lnTo>
                    <a:pt x="2058" y="1753"/>
                  </a:lnTo>
                  <a:lnTo>
                    <a:pt x="2087" y="1708"/>
                  </a:lnTo>
                  <a:lnTo>
                    <a:pt x="2114" y="1660"/>
                  </a:lnTo>
                  <a:lnTo>
                    <a:pt x="2139" y="1612"/>
                  </a:lnTo>
                  <a:lnTo>
                    <a:pt x="2162" y="1562"/>
                  </a:lnTo>
                  <a:lnTo>
                    <a:pt x="2181" y="1511"/>
                  </a:lnTo>
                  <a:lnTo>
                    <a:pt x="2200" y="1458"/>
                  </a:lnTo>
                  <a:lnTo>
                    <a:pt x="2215" y="1405"/>
                  </a:lnTo>
                  <a:lnTo>
                    <a:pt x="2228" y="1351"/>
                  </a:lnTo>
                  <a:lnTo>
                    <a:pt x="2238" y="1295"/>
                  </a:lnTo>
                  <a:lnTo>
                    <a:pt x="2244" y="1239"/>
                  </a:lnTo>
                  <a:lnTo>
                    <a:pt x="2248" y="1182"/>
                  </a:lnTo>
                  <a:lnTo>
                    <a:pt x="2251" y="1125"/>
                  </a:lnTo>
                  <a:close/>
                  <a:moveTo>
                    <a:pt x="2208" y="1125"/>
                  </a:moveTo>
                  <a:lnTo>
                    <a:pt x="2207" y="1180"/>
                  </a:lnTo>
                  <a:lnTo>
                    <a:pt x="2203" y="1235"/>
                  </a:lnTo>
                  <a:lnTo>
                    <a:pt x="2197" y="1289"/>
                  </a:lnTo>
                  <a:lnTo>
                    <a:pt x="2187" y="1343"/>
                  </a:lnTo>
                  <a:lnTo>
                    <a:pt x="2175" y="1395"/>
                  </a:lnTo>
                  <a:lnTo>
                    <a:pt x="2160" y="1447"/>
                  </a:lnTo>
                  <a:lnTo>
                    <a:pt x="2143" y="1497"/>
                  </a:lnTo>
                  <a:lnTo>
                    <a:pt x="2123" y="1546"/>
                  </a:lnTo>
                  <a:lnTo>
                    <a:pt x="2101" y="1593"/>
                  </a:lnTo>
                  <a:lnTo>
                    <a:pt x="2078" y="1641"/>
                  </a:lnTo>
                  <a:lnTo>
                    <a:pt x="2052" y="1686"/>
                  </a:lnTo>
                  <a:lnTo>
                    <a:pt x="2024" y="1729"/>
                  </a:lnTo>
                  <a:lnTo>
                    <a:pt x="1993" y="1773"/>
                  </a:lnTo>
                  <a:lnTo>
                    <a:pt x="1961" y="1814"/>
                  </a:lnTo>
                  <a:lnTo>
                    <a:pt x="1927" y="1853"/>
                  </a:lnTo>
                  <a:lnTo>
                    <a:pt x="1891" y="1890"/>
                  </a:lnTo>
                  <a:lnTo>
                    <a:pt x="1854" y="1926"/>
                  </a:lnTo>
                  <a:lnTo>
                    <a:pt x="1814" y="1960"/>
                  </a:lnTo>
                  <a:lnTo>
                    <a:pt x="1773" y="1992"/>
                  </a:lnTo>
                  <a:lnTo>
                    <a:pt x="1731" y="2022"/>
                  </a:lnTo>
                  <a:lnTo>
                    <a:pt x="1687" y="2050"/>
                  </a:lnTo>
                  <a:lnTo>
                    <a:pt x="1641" y="2076"/>
                  </a:lnTo>
                  <a:lnTo>
                    <a:pt x="1595" y="2101"/>
                  </a:lnTo>
                  <a:lnTo>
                    <a:pt x="1547" y="2123"/>
                  </a:lnTo>
                  <a:lnTo>
                    <a:pt x="1497" y="2142"/>
                  </a:lnTo>
                  <a:lnTo>
                    <a:pt x="1448" y="2158"/>
                  </a:lnTo>
                  <a:lnTo>
                    <a:pt x="1396" y="2173"/>
                  </a:lnTo>
                  <a:lnTo>
                    <a:pt x="1344" y="2185"/>
                  </a:lnTo>
                  <a:lnTo>
                    <a:pt x="1290" y="2195"/>
                  </a:lnTo>
                  <a:lnTo>
                    <a:pt x="1236" y="2201"/>
                  </a:lnTo>
                  <a:lnTo>
                    <a:pt x="1181" y="2206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61" y="2205"/>
                  </a:lnTo>
                  <a:lnTo>
                    <a:pt x="1217" y="2201"/>
                  </a:lnTo>
                  <a:lnTo>
                    <a:pt x="1272" y="2194"/>
                  </a:lnTo>
                  <a:lnTo>
                    <a:pt x="1326" y="2185"/>
                  </a:lnTo>
                  <a:lnTo>
                    <a:pt x="1380" y="2173"/>
                  </a:lnTo>
                  <a:lnTo>
                    <a:pt x="1432" y="2158"/>
                  </a:lnTo>
                  <a:lnTo>
                    <a:pt x="1484" y="2140"/>
                  </a:lnTo>
                  <a:lnTo>
                    <a:pt x="1534" y="2120"/>
                  </a:lnTo>
                  <a:lnTo>
                    <a:pt x="1582" y="2098"/>
                  </a:lnTo>
                  <a:lnTo>
                    <a:pt x="1631" y="2074"/>
                  </a:lnTo>
                  <a:lnTo>
                    <a:pt x="1676" y="2048"/>
                  </a:lnTo>
                  <a:lnTo>
                    <a:pt x="1722" y="2018"/>
                  </a:lnTo>
                  <a:lnTo>
                    <a:pt x="1765" y="1988"/>
                  </a:lnTo>
                  <a:lnTo>
                    <a:pt x="1806" y="1955"/>
                  </a:lnTo>
                  <a:lnTo>
                    <a:pt x="1847" y="1920"/>
                  </a:lnTo>
                  <a:lnTo>
                    <a:pt x="1885" y="1883"/>
                  </a:lnTo>
                  <a:lnTo>
                    <a:pt x="1922" y="1846"/>
                  </a:lnTo>
                  <a:lnTo>
                    <a:pt x="1956" y="1806"/>
                  </a:lnTo>
                  <a:lnTo>
                    <a:pt x="1989" y="1764"/>
                  </a:lnTo>
                  <a:lnTo>
                    <a:pt x="2020" y="1720"/>
                  </a:lnTo>
                  <a:lnTo>
                    <a:pt x="2048" y="1676"/>
                  </a:lnTo>
                  <a:lnTo>
                    <a:pt x="2075" y="1630"/>
                  </a:lnTo>
                  <a:lnTo>
                    <a:pt x="2100" y="1582"/>
                  </a:lnTo>
                  <a:lnTo>
                    <a:pt x="2122" y="1534"/>
                  </a:lnTo>
                  <a:lnTo>
                    <a:pt x="2141" y="1483"/>
                  </a:lnTo>
                  <a:lnTo>
                    <a:pt x="2158" y="1432"/>
                  </a:lnTo>
                  <a:lnTo>
                    <a:pt x="2173" y="1379"/>
                  </a:lnTo>
                  <a:lnTo>
                    <a:pt x="2186" y="1326"/>
                  </a:lnTo>
                  <a:lnTo>
                    <a:pt x="2196" y="1271"/>
                  </a:lnTo>
                  <a:lnTo>
                    <a:pt x="2203" y="1216"/>
                  </a:lnTo>
                  <a:lnTo>
                    <a:pt x="2207" y="1160"/>
                  </a:lnTo>
                  <a:lnTo>
                    <a:pt x="2208" y="1104"/>
                  </a:lnTo>
                  <a:close/>
                  <a:moveTo>
                    <a:pt x="2167" y="1104"/>
                  </a:moveTo>
                  <a:lnTo>
                    <a:pt x="2166" y="1158"/>
                  </a:lnTo>
                  <a:lnTo>
                    <a:pt x="2161" y="1212"/>
                  </a:lnTo>
                  <a:lnTo>
                    <a:pt x="2154" y="1266"/>
                  </a:lnTo>
                  <a:lnTo>
                    <a:pt x="2145" y="1318"/>
                  </a:lnTo>
                  <a:lnTo>
                    <a:pt x="2133" y="1369"/>
                  </a:lnTo>
                  <a:lnTo>
                    <a:pt x="2119" y="1419"/>
                  </a:lnTo>
                  <a:lnTo>
                    <a:pt x="2102" y="1469"/>
                  </a:lnTo>
                  <a:lnTo>
                    <a:pt x="2084" y="1517"/>
                  </a:lnTo>
                  <a:lnTo>
                    <a:pt x="2062" y="1564"/>
                  </a:lnTo>
                  <a:lnTo>
                    <a:pt x="2038" y="1609"/>
                  </a:lnTo>
                  <a:lnTo>
                    <a:pt x="2012" y="1654"/>
                  </a:lnTo>
                  <a:lnTo>
                    <a:pt x="1985" y="1698"/>
                  </a:lnTo>
                  <a:lnTo>
                    <a:pt x="1955" y="1739"/>
                  </a:lnTo>
                  <a:lnTo>
                    <a:pt x="1924" y="1779"/>
                  </a:lnTo>
                  <a:lnTo>
                    <a:pt x="1890" y="1818"/>
                  </a:lnTo>
                  <a:lnTo>
                    <a:pt x="1856" y="1854"/>
                  </a:lnTo>
                  <a:lnTo>
                    <a:pt x="1819" y="1890"/>
                  </a:lnTo>
                  <a:lnTo>
                    <a:pt x="1780" y="1923"/>
                  </a:lnTo>
                  <a:lnTo>
                    <a:pt x="1740" y="1955"/>
                  </a:lnTo>
                  <a:lnTo>
                    <a:pt x="1698" y="1984"/>
                  </a:lnTo>
                  <a:lnTo>
                    <a:pt x="1655" y="2012"/>
                  </a:lnTo>
                  <a:lnTo>
                    <a:pt x="1610" y="2037"/>
                  </a:lnTo>
                  <a:lnTo>
                    <a:pt x="1565" y="2061"/>
                  </a:lnTo>
                  <a:lnTo>
                    <a:pt x="1517" y="2082"/>
                  </a:lnTo>
                  <a:lnTo>
                    <a:pt x="1470" y="2101"/>
                  </a:lnTo>
                  <a:lnTo>
                    <a:pt x="1420" y="2118"/>
                  </a:lnTo>
                  <a:lnTo>
                    <a:pt x="1369" y="2132"/>
                  </a:lnTo>
                  <a:lnTo>
                    <a:pt x="1319" y="2144"/>
                  </a:lnTo>
                  <a:lnTo>
                    <a:pt x="1266" y="2153"/>
                  </a:lnTo>
                  <a:lnTo>
                    <a:pt x="1213" y="2160"/>
                  </a:lnTo>
                  <a:lnTo>
                    <a:pt x="1159" y="2164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close/>
                </a:path>
              </a:pathLst>
            </a:custGeom>
            <a:solidFill>
              <a:srgbClr val="e56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39" y="2165"/>
                  </a:lnTo>
                  <a:lnTo>
                    <a:pt x="1194" y="2160"/>
                  </a:lnTo>
                  <a:lnTo>
                    <a:pt x="1248" y="2154"/>
                  </a:lnTo>
                  <a:lnTo>
                    <a:pt x="1302" y="2144"/>
                  </a:lnTo>
                  <a:lnTo>
                    <a:pt x="1354" y="2132"/>
                  </a:lnTo>
                  <a:lnTo>
                    <a:pt x="1406" y="2117"/>
                  </a:lnTo>
                  <a:lnTo>
                    <a:pt x="1455" y="2101"/>
                  </a:lnTo>
                  <a:lnTo>
                    <a:pt x="1505" y="2082"/>
                  </a:lnTo>
                  <a:lnTo>
                    <a:pt x="1553" y="2060"/>
                  </a:lnTo>
                  <a:lnTo>
                    <a:pt x="1599" y="2035"/>
                  </a:lnTo>
                  <a:lnTo>
                    <a:pt x="1645" y="2009"/>
                  </a:lnTo>
                  <a:lnTo>
                    <a:pt x="1689" y="1981"/>
                  </a:lnTo>
                  <a:lnTo>
                    <a:pt x="1731" y="1951"/>
                  </a:lnTo>
                  <a:lnTo>
                    <a:pt x="1772" y="1919"/>
                  </a:lnTo>
                  <a:lnTo>
                    <a:pt x="1812" y="1885"/>
                  </a:lnTo>
                  <a:lnTo>
                    <a:pt x="1849" y="1849"/>
                  </a:lnTo>
                  <a:lnTo>
                    <a:pt x="1885" y="1812"/>
                  </a:lnTo>
                  <a:lnTo>
                    <a:pt x="1919" y="1773"/>
                  </a:lnTo>
                  <a:lnTo>
                    <a:pt x="1951" y="1732"/>
                  </a:lnTo>
                  <a:lnTo>
                    <a:pt x="1982" y="1688"/>
                  </a:lnTo>
                  <a:lnTo>
                    <a:pt x="2010" y="1645"/>
                  </a:lnTo>
                  <a:lnTo>
                    <a:pt x="2036" y="1600"/>
                  </a:lnTo>
                  <a:lnTo>
                    <a:pt x="2059" y="1552"/>
                  </a:lnTo>
                  <a:lnTo>
                    <a:pt x="2081" y="1505"/>
                  </a:lnTo>
                  <a:lnTo>
                    <a:pt x="2101" y="1456"/>
                  </a:lnTo>
                  <a:lnTo>
                    <a:pt x="2118" y="1406"/>
                  </a:lnTo>
                  <a:lnTo>
                    <a:pt x="2133" y="1354"/>
                  </a:lnTo>
                  <a:lnTo>
                    <a:pt x="2145" y="1302"/>
                  </a:lnTo>
                  <a:lnTo>
                    <a:pt x="2155" y="1248"/>
                  </a:lnTo>
                  <a:lnTo>
                    <a:pt x="2161" y="1194"/>
                  </a:lnTo>
                  <a:lnTo>
                    <a:pt x="2165" y="1139"/>
                  </a:lnTo>
                  <a:lnTo>
                    <a:pt x="2166" y="1084"/>
                  </a:lnTo>
                  <a:close/>
                  <a:moveTo>
                    <a:pt x="2125" y="1084"/>
                  </a:moveTo>
                  <a:lnTo>
                    <a:pt x="2123" y="1137"/>
                  </a:lnTo>
                  <a:lnTo>
                    <a:pt x="2120" y="1190"/>
                  </a:lnTo>
                  <a:lnTo>
                    <a:pt x="2112" y="1242"/>
                  </a:lnTo>
                  <a:lnTo>
                    <a:pt x="2104" y="1293"/>
                  </a:lnTo>
                  <a:lnTo>
                    <a:pt x="2092" y="1344"/>
                  </a:lnTo>
                  <a:lnTo>
                    <a:pt x="2078" y="1393"/>
                  </a:lnTo>
                  <a:lnTo>
                    <a:pt x="2062" y="1441"/>
                  </a:lnTo>
                  <a:lnTo>
                    <a:pt x="2043" y="1489"/>
                  </a:lnTo>
                  <a:lnTo>
                    <a:pt x="2022" y="1535"/>
                  </a:lnTo>
                  <a:lnTo>
                    <a:pt x="1999" y="1579"/>
                  </a:lnTo>
                  <a:lnTo>
                    <a:pt x="1974" y="1624"/>
                  </a:lnTo>
                  <a:lnTo>
                    <a:pt x="1947" y="1666"/>
                  </a:lnTo>
                  <a:lnTo>
                    <a:pt x="1918" y="1707"/>
                  </a:lnTo>
                  <a:lnTo>
                    <a:pt x="1887" y="1746"/>
                  </a:lnTo>
                  <a:lnTo>
                    <a:pt x="1854" y="1784"/>
                  </a:lnTo>
                  <a:lnTo>
                    <a:pt x="1820" y="1819"/>
                  </a:lnTo>
                  <a:lnTo>
                    <a:pt x="1784" y="1854"/>
                  </a:lnTo>
                  <a:lnTo>
                    <a:pt x="1746" y="1887"/>
                  </a:lnTo>
                  <a:lnTo>
                    <a:pt x="1706" y="1917"/>
                  </a:lnTo>
                  <a:lnTo>
                    <a:pt x="1665" y="1947"/>
                  </a:lnTo>
                  <a:lnTo>
                    <a:pt x="1623" y="1974"/>
                  </a:lnTo>
                  <a:lnTo>
                    <a:pt x="1580" y="1998"/>
                  </a:lnTo>
                  <a:lnTo>
                    <a:pt x="1534" y="2022"/>
                  </a:lnTo>
                  <a:lnTo>
                    <a:pt x="1489" y="2043"/>
                  </a:lnTo>
                  <a:lnTo>
                    <a:pt x="1441" y="2061"/>
                  </a:lnTo>
                  <a:lnTo>
                    <a:pt x="1393" y="2078"/>
                  </a:lnTo>
                  <a:lnTo>
                    <a:pt x="1343" y="2092"/>
                  </a:lnTo>
                  <a:lnTo>
                    <a:pt x="1293" y="2103"/>
                  </a:lnTo>
                  <a:lnTo>
                    <a:pt x="1241" y="2113"/>
                  </a:lnTo>
                  <a:lnTo>
                    <a:pt x="1190" y="2119"/>
                  </a:lnTo>
                  <a:lnTo>
                    <a:pt x="1137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118" y="2123"/>
                  </a:lnTo>
                  <a:lnTo>
                    <a:pt x="1172" y="2119"/>
                  </a:lnTo>
                  <a:lnTo>
                    <a:pt x="1225" y="2112"/>
                  </a:lnTo>
                  <a:lnTo>
                    <a:pt x="1278" y="2103"/>
                  </a:lnTo>
                  <a:lnTo>
                    <a:pt x="1328" y="2091"/>
                  </a:lnTo>
                  <a:lnTo>
                    <a:pt x="1379" y="2077"/>
                  </a:lnTo>
                  <a:lnTo>
                    <a:pt x="1429" y="2060"/>
                  </a:lnTo>
                  <a:lnTo>
                    <a:pt x="1476" y="2041"/>
                  </a:lnTo>
                  <a:lnTo>
                    <a:pt x="1524" y="2020"/>
                  </a:lnTo>
                  <a:lnTo>
                    <a:pt x="1569" y="1996"/>
                  </a:lnTo>
                  <a:lnTo>
                    <a:pt x="1614" y="1971"/>
                  </a:lnTo>
                  <a:lnTo>
                    <a:pt x="1657" y="1943"/>
                  </a:lnTo>
                  <a:lnTo>
                    <a:pt x="1699" y="1914"/>
                  </a:lnTo>
                  <a:lnTo>
                    <a:pt x="1739" y="1882"/>
                  </a:lnTo>
                  <a:lnTo>
                    <a:pt x="1778" y="1849"/>
                  </a:lnTo>
                  <a:lnTo>
                    <a:pt x="1815" y="1813"/>
                  </a:lnTo>
                  <a:lnTo>
                    <a:pt x="1849" y="1777"/>
                  </a:lnTo>
                  <a:lnTo>
                    <a:pt x="1883" y="1738"/>
                  </a:lnTo>
                  <a:lnTo>
                    <a:pt x="1914" y="1698"/>
                  </a:lnTo>
                  <a:lnTo>
                    <a:pt x="1944" y="1657"/>
                  </a:lnTo>
                  <a:lnTo>
                    <a:pt x="1971" y="1613"/>
                  </a:lnTo>
                  <a:lnTo>
                    <a:pt x="1997" y="1568"/>
                  </a:lnTo>
                  <a:lnTo>
                    <a:pt x="2021" y="1523"/>
                  </a:lnTo>
                  <a:lnTo>
                    <a:pt x="2043" y="1476"/>
                  </a:lnTo>
                  <a:lnTo>
                    <a:pt x="2061" y="1428"/>
                  </a:lnTo>
                  <a:lnTo>
                    <a:pt x="2078" y="1378"/>
                  </a:lnTo>
                  <a:lnTo>
                    <a:pt x="2092" y="1328"/>
                  </a:lnTo>
                  <a:lnTo>
                    <a:pt x="2104" y="1277"/>
                  </a:lnTo>
                  <a:lnTo>
                    <a:pt x="2113" y="1225"/>
                  </a:lnTo>
                  <a:lnTo>
                    <a:pt x="2120" y="1171"/>
                  </a:lnTo>
                  <a:lnTo>
                    <a:pt x="2125" y="1117"/>
                  </a:lnTo>
                  <a:lnTo>
                    <a:pt x="2126" y="1063"/>
                  </a:lnTo>
                  <a:close/>
                  <a:moveTo>
                    <a:pt x="2084" y="1063"/>
                  </a:moveTo>
                  <a:lnTo>
                    <a:pt x="2083" y="1115"/>
                  </a:lnTo>
                  <a:lnTo>
                    <a:pt x="2078" y="1166"/>
                  </a:lnTo>
                  <a:lnTo>
                    <a:pt x="2072" y="1218"/>
                  </a:lnTo>
                  <a:lnTo>
                    <a:pt x="2063" y="1268"/>
                  </a:lnTo>
                  <a:lnTo>
                    <a:pt x="2052" y="1318"/>
                  </a:lnTo>
                  <a:lnTo>
                    <a:pt x="2038" y="1366"/>
                  </a:lnTo>
                  <a:lnTo>
                    <a:pt x="2022" y="1414"/>
                  </a:lnTo>
                  <a:lnTo>
                    <a:pt x="2004" y="1460"/>
                  </a:lnTo>
                  <a:lnTo>
                    <a:pt x="1983" y="1504"/>
                  </a:lnTo>
                  <a:lnTo>
                    <a:pt x="1961" y="1549"/>
                  </a:lnTo>
                  <a:lnTo>
                    <a:pt x="1936" y="1592"/>
                  </a:lnTo>
                  <a:lnTo>
                    <a:pt x="1910" y="1633"/>
                  </a:lnTo>
                  <a:lnTo>
                    <a:pt x="1882" y="1673"/>
                  </a:lnTo>
                  <a:lnTo>
                    <a:pt x="1851" y="1712"/>
                  </a:lnTo>
                  <a:lnTo>
                    <a:pt x="1819" y="1748"/>
                  </a:lnTo>
                  <a:lnTo>
                    <a:pt x="1786" y="1784"/>
                  </a:lnTo>
                  <a:lnTo>
                    <a:pt x="1750" y="1818"/>
                  </a:lnTo>
                  <a:lnTo>
                    <a:pt x="1712" y="1850"/>
                  </a:lnTo>
                  <a:lnTo>
                    <a:pt x="1674" y="1880"/>
                  </a:lnTo>
                  <a:lnTo>
                    <a:pt x="1634" y="1908"/>
                  </a:lnTo>
                  <a:lnTo>
                    <a:pt x="1592" y="1935"/>
                  </a:lnTo>
                  <a:lnTo>
                    <a:pt x="1550" y="1960"/>
                  </a:lnTo>
                  <a:lnTo>
                    <a:pt x="1506" y="1982"/>
                  </a:lnTo>
                  <a:lnTo>
                    <a:pt x="1460" y="2002"/>
                  </a:lnTo>
                  <a:lnTo>
                    <a:pt x="1414" y="2021"/>
                  </a:lnTo>
                  <a:lnTo>
                    <a:pt x="1366" y="2037"/>
                  </a:lnTo>
                  <a:lnTo>
                    <a:pt x="1319" y="2051"/>
                  </a:lnTo>
                  <a:lnTo>
                    <a:pt x="1269" y="2062"/>
                  </a:lnTo>
                  <a:lnTo>
                    <a:pt x="1218" y="2071"/>
                  </a:lnTo>
                  <a:lnTo>
                    <a:pt x="1167" y="2078"/>
                  </a:lnTo>
                  <a:lnTo>
                    <a:pt x="1116" y="2081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96" y="2081"/>
                  </a:lnTo>
                  <a:lnTo>
                    <a:pt x="1149" y="2076"/>
                  </a:lnTo>
                  <a:lnTo>
                    <a:pt x="1200" y="2070"/>
                  </a:lnTo>
                  <a:lnTo>
                    <a:pt x="1252" y="2060"/>
                  </a:lnTo>
                  <a:lnTo>
                    <a:pt x="1302" y="2049"/>
                  </a:lnTo>
                  <a:lnTo>
                    <a:pt x="1352" y="2035"/>
                  </a:lnTo>
                  <a:lnTo>
                    <a:pt x="1400" y="2018"/>
                  </a:lnTo>
                  <a:lnTo>
                    <a:pt x="1448" y="2000"/>
                  </a:lnTo>
                  <a:lnTo>
                    <a:pt x="1493" y="1979"/>
                  </a:lnTo>
                  <a:lnTo>
                    <a:pt x="1539" y="1955"/>
                  </a:lnTo>
                  <a:lnTo>
                    <a:pt x="1582" y="1931"/>
                  </a:lnTo>
                  <a:lnTo>
                    <a:pt x="1624" y="1904"/>
                  </a:lnTo>
                  <a:lnTo>
                    <a:pt x="1665" y="1874"/>
                  </a:lnTo>
                  <a:lnTo>
                    <a:pt x="1705" y="1844"/>
                  </a:lnTo>
                  <a:lnTo>
                    <a:pt x="1743" y="1811"/>
                  </a:lnTo>
                  <a:lnTo>
                    <a:pt x="1779" y="1776"/>
                  </a:lnTo>
                  <a:lnTo>
                    <a:pt x="1813" y="1741"/>
                  </a:lnTo>
                  <a:lnTo>
                    <a:pt x="1846" y="1703"/>
                  </a:lnTo>
                  <a:lnTo>
                    <a:pt x="1877" y="1664"/>
                  </a:lnTo>
                  <a:lnTo>
                    <a:pt x="1906" y="1623"/>
                  </a:lnTo>
                  <a:lnTo>
                    <a:pt x="1933" y="1581"/>
                  </a:lnTo>
                  <a:lnTo>
                    <a:pt x="1958" y="1536"/>
                  </a:lnTo>
                  <a:lnTo>
                    <a:pt x="1981" y="1492"/>
                  </a:lnTo>
                  <a:lnTo>
                    <a:pt x="2002" y="1446"/>
                  </a:lnTo>
                  <a:lnTo>
                    <a:pt x="2021" y="1398"/>
                  </a:lnTo>
                  <a:lnTo>
                    <a:pt x="2037" y="1350"/>
                  </a:lnTo>
                  <a:lnTo>
                    <a:pt x="2051" y="1301"/>
                  </a:lnTo>
                  <a:lnTo>
                    <a:pt x="2063" y="1250"/>
                  </a:lnTo>
                  <a:lnTo>
                    <a:pt x="2071" y="1199"/>
                  </a:lnTo>
                  <a:lnTo>
                    <a:pt x="2079" y="1147"/>
                  </a:lnTo>
                  <a:lnTo>
                    <a:pt x="2082" y="1094"/>
                  </a:lnTo>
                  <a:lnTo>
                    <a:pt x="2084" y="1041"/>
                  </a:lnTo>
                  <a:close/>
                  <a:moveTo>
                    <a:pt x="2042" y="1041"/>
                  </a:moveTo>
                  <a:lnTo>
                    <a:pt x="2041" y="1091"/>
                  </a:lnTo>
                  <a:lnTo>
                    <a:pt x="2037" y="1142"/>
                  </a:lnTo>
                  <a:lnTo>
                    <a:pt x="2030" y="1193"/>
                  </a:lnTo>
                  <a:lnTo>
                    <a:pt x="2022" y="1242"/>
                  </a:lnTo>
                  <a:lnTo>
                    <a:pt x="2011" y="1290"/>
                  </a:lnTo>
                  <a:lnTo>
                    <a:pt x="1997" y="1338"/>
                  </a:lnTo>
                  <a:lnTo>
                    <a:pt x="1982" y="1384"/>
                  </a:lnTo>
                  <a:lnTo>
                    <a:pt x="1963" y="1429"/>
                  </a:lnTo>
                  <a:lnTo>
                    <a:pt x="1944" y="1474"/>
                  </a:lnTo>
                  <a:lnTo>
                    <a:pt x="1921" y="1517"/>
                  </a:lnTo>
                  <a:lnTo>
                    <a:pt x="1897" y="1559"/>
                  </a:lnTo>
                  <a:lnTo>
                    <a:pt x="1871" y="1599"/>
                  </a:lnTo>
                  <a:lnTo>
                    <a:pt x="1843" y="1639"/>
                  </a:lnTo>
                  <a:lnTo>
                    <a:pt x="1814" y="1676"/>
                  </a:lnTo>
                  <a:lnTo>
                    <a:pt x="1783" y="1712"/>
                  </a:lnTo>
                  <a:lnTo>
                    <a:pt x="1749" y="1747"/>
                  </a:lnTo>
                  <a:lnTo>
                    <a:pt x="1715" y="1780"/>
                  </a:lnTo>
                  <a:lnTo>
                    <a:pt x="1678" y="1812"/>
                  </a:lnTo>
                  <a:lnTo>
                    <a:pt x="1640" y="1841"/>
                  </a:lnTo>
                  <a:lnTo>
                    <a:pt x="1601" y="1869"/>
                  </a:lnTo>
                  <a:lnTo>
                    <a:pt x="1560" y="1895"/>
                  </a:lnTo>
                  <a:lnTo>
                    <a:pt x="1519" y="1920"/>
                  </a:lnTo>
                  <a:lnTo>
                    <a:pt x="1476" y="1941"/>
                  </a:lnTo>
                  <a:lnTo>
                    <a:pt x="1432" y="1962"/>
                  </a:lnTo>
                  <a:lnTo>
                    <a:pt x="1386" y="1979"/>
                  </a:lnTo>
                  <a:lnTo>
                    <a:pt x="1340" y="1995"/>
                  </a:lnTo>
                  <a:lnTo>
                    <a:pt x="1292" y="2008"/>
                  </a:lnTo>
                  <a:lnTo>
                    <a:pt x="1244" y="2019"/>
                  </a:lnTo>
                  <a:lnTo>
                    <a:pt x="1194" y="2029"/>
                  </a:lnTo>
                  <a:lnTo>
                    <a:pt x="1144" y="2035"/>
                  </a:lnTo>
                  <a:lnTo>
                    <a:pt x="1094" y="2039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73" y="2039"/>
                  </a:lnTo>
                  <a:lnTo>
                    <a:pt x="1124" y="2036"/>
                  </a:lnTo>
                  <a:lnTo>
                    <a:pt x="1175" y="2029"/>
                  </a:lnTo>
                  <a:lnTo>
                    <a:pt x="1226" y="2020"/>
                  </a:lnTo>
                  <a:lnTo>
                    <a:pt x="1276" y="2009"/>
                  </a:lnTo>
                  <a:lnTo>
                    <a:pt x="1323" y="1995"/>
                  </a:lnTo>
                  <a:lnTo>
                    <a:pt x="1371" y="1979"/>
                  </a:lnTo>
                  <a:lnTo>
                    <a:pt x="1417" y="1960"/>
                  </a:lnTo>
                  <a:lnTo>
                    <a:pt x="1463" y="1940"/>
                  </a:lnTo>
                  <a:lnTo>
                    <a:pt x="1507" y="1918"/>
                  </a:lnTo>
                  <a:lnTo>
                    <a:pt x="1549" y="1893"/>
                  </a:lnTo>
                  <a:lnTo>
                    <a:pt x="1591" y="1866"/>
                  </a:lnTo>
                  <a:lnTo>
                    <a:pt x="1631" y="1838"/>
                  </a:lnTo>
                  <a:lnTo>
                    <a:pt x="1669" y="1808"/>
                  </a:lnTo>
                  <a:lnTo>
                    <a:pt x="1707" y="1776"/>
                  </a:lnTo>
                  <a:lnTo>
                    <a:pt x="1743" y="1742"/>
                  </a:lnTo>
                  <a:lnTo>
                    <a:pt x="1776" y="1706"/>
                  </a:lnTo>
                  <a:lnTo>
                    <a:pt x="1807" y="1670"/>
                  </a:lnTo>
                  <a:lnTo>
                    <a:pt x="1839" y="1631"/>
                  </a:lnTo>
                  <a:lnTo>
                    <a:pt x="1867" y="1591"/>
                  </a:lnTo>
                  <a:lnTo>
                    <a:pt x="1893" y="1550"/>
                  </a:lnTo>
                  <a:lnTo>
                    <a:pt x="1918" y="1507"/>
                  </a:lnTo>
                  <a:lnTo>
                    <a:pt x="1940" y="1462"/>
                  </a:lnTo>
                  <a:lnTo>
                    <a:pt x="1961" y="1418"/>
                  </a:lnTo>
                  <a:lnTo>
                    <a:pt x="1979" y="1372"/>
                  </a:lnTo>
                  <a:lnTo>
                    <a:pt x="1995" y="1324"/>
                  </a:lnTo>
                  <a:lnTo>
                    <a:pt x="2009" y="1276"/>
                  </a:lnTo>
                  <a:lnTo>
                    <a:pt x="2020" y="1226"/>
                  </a:lnTo>
                  <a:lnTo>
                    <a:pt x="2029" y="1176"/>
                  </a:lnTo>
                  <a:lnTo>
                    <a:pt x="2035" y="1124"/>
                  </a:lnTo>
                  <a:lnTo>
                    <a:pt x="2040" y="1073"/>
                  </a:lnTo>
                  <a:lnTo>
                    <a:pt x="2041" y="1021"/>
                  </a:lnTo>
                  <a:close/>
                  <a:moveTo>
                    <a:pt x="2000" y="1021"/>
                  </a:moveTo>
                  <a:lnTo>
                    <a:pt x="1999" y="1070"/>
                  </a:lnTo>
                  <a:lnTo>
                    <a:pt x="1994" y="1120"/>
                  </a:lnTo>
                  <a:lnTo>
                    <a:pt x="1988" y="1170"/>
                  </a:lnTo>
                  <a:lnTo>
                    <a:pt x="1979" y="1217"/>
                  </a:lnTo>
                  <a:lnTo>
                    <a:pt x="1968" y="1265"/>
                  </a:lnTo>
                  <a:lnTo>
                    <a:pt x="1955" y="1311"/>
                  </a:lnTo>
                  <a:lnTo>
                    <a:pt x="1940" y="1357"/>
                  </a:lnTo>
                  <a:lnTo>
                    <a:pt x="1922" y="1401"/>
                  </a:lnTo>
                  <a:lnTo>
                    <a:pt x="1902" y="1445"/>
                  </a:lnTo>
                  <a:lnTo>
                    <a:pt x="1881" y="1487"/>
                  </a:lnTo>
                  <a:lnTo>
                    <a:pt x="1857" y="1528"/>
                  </a:lnTo>
                  <a:lnTo>
                    <a:pt x="1832" y="1567"/>
                  </a:lnTo>
                  <a:lnTo>
                    <a:pt x="1805" y="1606"/>
                  </a:lnTo>
                  <a:lnTo>
                    <a:pt x="1776" y="1643"/>
                  </a:lnTo>
                  <a:lnTo>
                    <a:pt x="1745" y="1678"/>
                  </a:lnTo>
                  <a:lnTo>
                    <a:pt x="1712" y="1713"/>
                  </a:lnTo>
                  <a:lnTo>
                    <a:pt x="1679" y="1745"/>
                  </a:lnTo>
                  <a:lnTo>
                    <a:pt x="1643" y="1776"/>
                  </a:lnTo>
                  <a:lnTo>
                    <a:pt x="1606" y="1805"/>
                  </a:lnTo>
                  <a:lnTo>
                    <a:pt x="1567" y="1832"/>
                  </a:lnTo>
                  <a:lnTo>
                    <a:pt x="1527" y="1858"/>
                  </a:lnTo>
                  <a:lnTo>
                    <a:pt x="1486" y="1881"/>
                  </a:lnTo>
                  <a:lnTo>
                    <a:pt x="1444" y="1903"/>
                  </a:lnTo>
                  <a:lnTo>
                    <a:pt x="1401" y="1922"/>
                  </a:lnTo>
                  <a:lnTo>
                    <a:pt x="1357" y="1940"/>
                  </a:lnTo>
                  <a:lnTo>
                    <a:pt x="1311" y="1955"/>
                  </a:lnTo>
                  <a:lnTo>
                    <a:pt x="1265" y="1968"/>
                  </a:lnTo>
                  <a:lnTo>
                    <a:pt x="1217" y="1980"/>
                  </a:lnTo>
                  <a:lnTo>
                    <a:pt x="1169" y="1988"/>
                  </a:lnTo>
                  <a:lnTo>
                    <a:pt x="1120" y="1994"/>
                  </a:lnTo>
                  <a:lnTo>
                    <a:pt x="1070" y="1998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52" y="1998"/>
                  </a:lnTo>
                  <a:lnTo>
                    <a:pt x="1102" y="1994"/>
                  </a:lnTo>
                  <a:lnTo>
                    <a:pt x="1152" y="1988"/>
                  </a:lnTo>
                  <a:lnTo>
                    <a:pt x="1202" y="1978"/>
                  </a:lnTo>
                  <a:lnTo>
                    <a:pt x="1250" y="1967"/>
                  </a:lnTo>
                  <a:lnTo>
                    <a:pt x="1298" y="1954"/>
                  </a:lnTo>
                  <a:lnTo>
                    <a:pt x="1344" y="1938"/>
                  </a:lnTo>
                  <a:lnTo>
                    <a:pt x="1390" y="1921"/>
                  </a:lnTo>
                  <a:lnTo>
                    <a:pt x="1434" y="1900"/>
                  </a:lnTo>
                  <a:lnTo>
                    <a:pt x="1477" y="1879"/>
                  </a:lnTo>
                  <a:lnTo>
                    <a:pt x="1518" y="1854"/>
                  </a:lnTo>
                  <a:lnTo>
                    <a:pt x="1559" y="1828"/>
                  </a:lnTo>
                  <a:lnTo>
                    <a:pt x="1598" y="1800"/>
                  </a:lnTo>
                  <a:lnTo>
                    <a:pt x="1636" y="1771"/>
                  </a:lnTo>
                  <a:lnTo>
                    <a:pt x="1673" y="1739"/>
                  </a:lnTo>
                  <a:lnTo>
                    <a:pt x="1707" y="1706"/>
                  </a:lnTo>
                  <a:lnTo>
                    <a:pt x="1741" y="1671"/>
                  </a:lnTo>
                  <a:lnTo>
                    <a:pt x="1772" y="1635"/>
                  </a:lnTo>
                  <a:lnTo>
                    <a:pt x="1801" y="1598"/>
                  </a:lnTo>
                  <a:lnTo>
                    <a:pt x="1829" y="1558"/>
                  </a:lnTo>
                  <a:lnTo>
                    <a:pt x="1855" y="1518"/>
                  </a:lnTo>
                  <a:lnTo>
                    <a:pt x="1879" y="1476"/>
                  </a:lnTo>
                  <a:lnTo>
                    <a:pt x="1902" y="1433"/>
                  </a:lnTo>
                  <a:lnTo>
                    <a:pt x="1921" y="1388"/>
                  </a:lnTo>
                  <a:lnTo>
                    <a:pt x="1940" y="1343"/>
                  </a:lnTo>
                  <a:lnTo>
                    <a:pt x="1955" y="1297"/>
                  </a:lnTo>
                  <a:lnTo>
                    <a:pt x="1969" y="1249"/>
                  </a:lnTo>
                  <a:lnTo>
                    <a:pt x="1980" y="1201"/>
                  </a:lnTo>
                  <a:lnTo>
                    <a:pt x="1988" y="1152"/>
                  </a:lnTo>
                  <a:lnTo>
                    <a:pt x="1995" y="1101"/>
                  </a:lnTo>
                  <a:lnTo>
                    <a:pt x="1999" y="1050"/>
                  </a:lnTo>
                  <a:lnTo>
                    <a:pt x="2000" y="1000"/>
                  </a:lnTo>
                  <a:close/>
                  <a:moveTo>
                    <a:pt x="1958" y="1000"/>
                  </a:moveTo>
                  <a:lnTo>
                    <a:pt x="1957" y="1048"/>
                  </a:lnTo>
                  <a:lnTo>
                    <a:pt x="1954" y="1097"/>
                  </a:lnTo>
                  <a:lnTo>
                    <a:pt x="1947" y="1145"/>
                  </a:lnTo>
                  <a:lnTo>
                    <a:pt x="1939" y="1192"/>
                  </a:lnTo>
                  <a:lnTo>
                    <a:pt x="1928" y="1238"/>
                  </a:lnTo>
                  <a:lnTo>
                    <a:pt x="1916" y="1284"/>
                  </a:lnTo>
                  <a:lnTo>
                    <a:pt x="1901" y="1329"/>
                  </a:lnTo>
                  <a:lnTo>
                    <a:pt x="1884" y="1372"/>
                  </a:lnTo>
                  <a:lnTo>
                    <a:pt x="1864" y="1414"/>
                  </a:lnTo>
                  <a:lnTo>
                    <a:pt x="1842" y="1457"/>
                  </a:lnTo>
                  <a:lnTo>
                    <a:pt x="1820" y="1496"/>
                  </a:lnTo>
                  <a:lnTo>
                    <a:pt x="1795" y="1535"/>
                  </a:lnTo>
                  <a:lnTo>
                    <a:pt x="1768" y="1572"/>
                  </a:lnTo>
                  <a:lnTo>
                    <a:pt x="1740" y="1609"/>
                  </a:lnTo>
                  <a:lnTo>
                    <a:pt x="1710" y="1643"/>
                  </a:lnTo>
                  <a:lnTo>
                    <a:pt x="1678" y="1677"/>
                  </a:lnTo>
                  <a:lnTo>
                    <a:pt x="1645" y="1708"/>
                  </a:lnTo>
                  <a:lnTo>
                    <a:pt x="1610" y="1738"/>
                  </a:lnTo>
                  <a:lnTo>
                    <a:pt x="1573" y="1768"/>
                  </a:lnTo>
                  <a:lnTo>
                    <a:pt x="1536" y="1793"/>
                  </a:lnTo>
                  <a:lnTo>
                    <a:pt x="1497" y="1818"/>
                  </a:lnTo>
                  <a:lnTo>
                    <a:pt x="1457" y="1842"/>
                  </a:lnTo>
                  <a:lnTo>
                    <a:pt x="1416" y="1863"/>
                  </a:lnTo>
                  <a:lnTo>
                    <a:pt x="1374" y="1882"/>
                  </a:lnTo>
                  <a:lnTo>
                    <a:pt x="1329" y="1899"/>
                  </a:lnTo>
                  <a:lnTo>
                    <a:pt x="1285" y="1914"/>
                  </a:lnTo>
                  <a:lnTo>
                    <a:pt x="1240" y="1927"/>
                  </a:lnTo>
                  <a:lnTo>
                    <a:pt x="1193" y="1938"/>
                  </a:lnTo>
                  <a:lnTo>
                    <a:pt x="1147" y="1947"/>
                  </a:lnTo>
                  <a:lnTo>
                    <a:pt x="1098" y="1952"/>
                  </a:lnTo>
                  <a:lnTo>
                    <a:pt x="104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29" y="1957"/>
                  </a:lnTo>
                  <a:lnTo>
                    <a:pt x="1079" y="1953"/>
                  </a:lnTo>
                  <a:lnTo>
                    <a:pt x="1128" y="1947"/>
                  </a:lnTo>
                  <a:lnTo>
                    <a:pt x="1176" y="1939"/>
                  </a:lnTo>
                  <a:lnTo>
                    <a:pt x="1224" y="1927"/>
                  </a:lnTo>
                  <a:lnTo>
                    <a:pt x="1270" y="1914"/>
                  </a:lnTo>
                  <a:lnTo>
                    <a:pt x="1316" y="1899"/>
                  </a:lnTo>
                  <a:lnTo>
                    <a:pt x="1360" y="1881"/>
                  </a:lnTo>
                  <a:lnTo>
                    <a:pt x="1403" y="1862"/>
                  </a:lnTo>
                  <a:lnTo>
                    <a:pt x="1445" y="1840"/>
                  </a:lnTo>
                  <a:lnTo>
                    <a:pt x="1486" y="1817"/>
                  </a:lnTo>
                  <a:lnTo>
                    <a:pt x="1526" y="1791"/>
                  </a:lnTo>
                  <a:lnTo>
                    <a:pt x="1565" y="1764"/>
                  </a:lnTo>
                  <a:lnTo>
                    <a:pt x="1602" y="1735"/>
                  </a:lnTo>
                  <a:lnTo>
                    <a:pt x="1638" y="1704"/>
                  </a:lnTo>
                  <a:lnTo>
                    <a:pt x="1671" y="1672"/>
                  </a:lnTo>
                  <a:lnTo>
                    <a:pt x="1704" y="1637"/>
                  </a:lnTo>
                  <a:lnTo>
                    <a:pt x="1735" y="1602"/>
                  </a:lnTo>
                  <a:lnTo>
                    <a:pt x="1764" y="1565"/>
                  </a:lnTo>
                  <a:lnTo>
                    <a:pt x="1791" y="1526"/>
                  </a:lnTo>
                  <a:lnTo>
                    <a:pt x="1816" y="1487"/>
                  </a:lnTo>
                  <a:lnTo>
                    <a:pt x="1840" y="1446"/>
                  </a:lnTo>
                  <a:lnTo>
                    <a:pt x="1861" y="1404"/>
                  </a:lnTo>
                  <a:lnTo>
                    <a:pt x="1881" y="1360"/>
                  </a:lnTo>
                  <a:lnTo>
                    <a:pt x="1899" y="1316"/>
                  </a:lnTo>
                  <a:lnTo>
                    <a:pt x="1914" y="1270"/>
                  </a:lnTo>
                  <a:lnTo>
                    <a:pt x="1927" y="1224"/>
                  </a:lnTo>
                  <a:lnTo>
                    <a:pt x="1938" y="1176"/>
                  </a:lnTo>
                  <a:lnTo>
                    <a:pt x="1947" y="1129"/>
                  </a:lnTo>
                  <a:lnTo>
                    <a:pt x="1953" y="1079"/>
                  </a:lnTo>
                  <a:lnTo>
                    <a:pt x="1958" y="1029"/>
                  </a:lnTo>
                  <a:lnTo>
                    <a:pt x="1959" y="980"/>
                  </a:lnTo>
                  <a:close/>
                  <a:moveTo>
                    <a:pt x="1917" y="980"/>
                  </a:moveTo>
                  <a:lnTo>
                    <a:pt x="1915" y="1027"/>
                  </a:lnTo>
                  <a:lnTo>
                    <a:pt x="1912" y="1075"/>
                  </a:lnTo>
                  <a:lnTo>
                    <a:pt x="1906" y="1122"/>
                  </a:lnTo>
                  <a:lnTo>
                    <a:pt x="1898" y="1169"/>
                  </a:lnTo>
                  <a:lnTo>
                    <a:pt x="1887" y="1214"/>
                  </a:lnTo>
                  <a:lnTo>
                    <a:pt x="1874" y="1258"/>
                  </a:lnTo>
                  <a:lnTo>
                    <a:pt x="1859" y="1302"/>
                  </a:lnTo>
                  <a:lnTo>
                    <a:pt x="1843" y="1344"/>
                  </a:lnTo>
                  <a:lnTo>
                    <a:pt x="1825" y="1386"/>
                  </a:lnTo>
                  <a:lnTo>
                    <a:pt x="1803" y="1426"/>
                  </a:lnTo>
                  <a:lnTo>
                    <a:pt x="1781" y="1466"/>
                  </a:lnTo>
                  <a:lnTo>
                    <a:pt x="1757" y="1503"/>
                  </a:lnTo>
                  <a:lnTo>
                    <a:pt x="1731" y="1540"/>
                  </a:lnTo>
                  <a:lnTo>
                    <a:pt x="1703" y="1576"/>
                  </a:lnTo>
                  <a:lnTo>
                    <a:pt x="1673" y="1609"/>
                  </a:lnTo>
                  <a:lnTo>
                    <a:pt x="1642" y="1642"/>
                  </a:lnTo>
                  <a:lnTo>
                    <a:pt x="1610" y="1673"/>
                  </a:lnTo>
                  <a:lnTo>
                    <a:pt x="1575" y="1702"/>
                  </a:lnTo>
                  <a:lnTo>
                    <a:pt x="1541" y="1730"/>
                  </a:lnTo>
                  <a:lnTo>
                    <a:pt x="1504" y="1756"/>
                  </a:lnTo>
                  <a:lnTo>
                    <a:pt x="1465" y="1781"/>
                  </a:lnTo>
                  <a:lnTo>
                    <a:pt x="1426" y="1804"/>
                  </a:lnTo>
                  <a:lnTo>
                    <a:pt x="1386" y="1824"/>
                  </a:lnTo>
                  <a:lnTo>
                    <a:pt x="1344" y="1843"/>
                  </a:lnTo>
                  <a:lnTo>
                    <a:pt x="1302" y="1860"/>
                  </a:lnTo>
                  <a:lnTo>
                    <a:pt x="1257" y="1874"/>
                  </a:lnTo>
                  <a:lnTo>
                    <a:pt x="1213" y="1887"/>
                  </a:lnTo>
                  <a:lnTo>
                    <a:pt x="1168" y="1898"/>
                  </a:lnTo>
                  <a:lnTo>
                    <a:pt x="1122" y="1905"/>
                  </a:lnTo>
                  <a:lnTo>
                    <a:pt x="1075" y="1912"/>
                  </a:lnTo>
                  <a:lnTo>
                    <a:pt x="1027" y="1915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1007" y="1915"/>
                  </a:lnTo>
                  <a:lnTo>
                    <a:pt x="1056" y="1910"/>
                  </a:lnTo>
                  <a:lnTo>
                    <a:pt x="1105" y="1905"/>
                  </a:lnTo>
                  <a:lnTo>
                    <a:pt x="1151" y="1896"/>
                  </a:lnTo>
                  <a:lnTo>
                    <a:pt x="1198" y="1885"/>
                  </a:lnTo>
                  <a:lnTo>
                    <a:pt x="1243" y="1872"/>
                  </a:lnTo>
                  <a:lnTo>
                    <a:pt x="1287" y="1857"/>
                  </a:lnTo>
                  <a:lnTo>
                    <a:pt x="1332" y="1840"/>
                  </a:lnTo>
                  <a:lnTo>
                    <a:pt x="1374" y="1821"/>
                  </a:lnTo>
                  <a:lnTo>
                    <a:pt x="1415" y="1800"/>
                  </a:lnTo>
                  <a:lnTo>
                    <a:pt x="1455" y="1776"/>
                  </a:lnTo>
                  <a:lnTo>
                    <a:pt x="1494" y="1751"/>
                  </a:lnTo>
                  <a:lnTo>
                    <a:pt x="1531" y="1726"/>
                  </a:lnTo>
                  <a:lnTo>
                    <a:pt x="1568" y="1696"/>
                  </a:lnTo>
                  <a:lnTo>
                    <a:pt x="1603" y="1666"/>
                  </a:lnTo>
                  <a:lnTo>
                    <a:pt x="1636" y="1635"/>
                  </a:lnTo>
                  <a:lnTo>
                    <a:pt x="1668" y="1601"/>
                  </a:lnTo>
                  <a:lnTo>
                    <a:pt x="1698" y="1567"/>
                  </a:lnTo>
                  <a:lnTo>
                    <a:pt x="1726" y="1530"/>
                  </a:lnTo>
                  <a:lnTo>
                    <a:pt x="1753" y="1493"/>
                  </a:lnTo>
                  <a:lnTo>
                    <a:pt x="1778" y="1454"/>
                  </a:lnTo>
                  <a:lnTo>
                    <a:pt x="1800" y="1415"/>
                  </a:lnTo>
                  <a:lnTo>
                    <a:pt x="1822" y="1372"/>
                  </a:lnTo>
                  <a:lnTo>
                    <a:pt x="1842" y="1330"/>
                  </a:lnTo>
                  <a:lnTo>
                    <a:pt x="1859" y="1287"/>
                  </a:lnTo>
                  <a:lnTo>
                    <a:pt x="1874" y="1242"/>
                  </a:lnTo>
                  <a:lnTo>
                    <a:pt x="1886" y="1196"/>
                  </a:lnTo>
                  <a:lnTo>
                    <a:pt x="1897" y="1150"/>
                  </a:lnTo>
                  <a:lnTo>
                    <a:pt x="1905" y="1103"/>
                  </a:lnTo>
                  <a:lnTo>
                    <a:pt x="1912" y="1055"/>
                  </a:lnTo>
                  <a:lnTo>
                    <a:pt x="1915" y="1006"/>
                  </a:lnTo>
                  <a:lnTo>
                    <a:pt x="1916" y="958"/>
                  </a:lnTo>
                  <a:close/>
                  <a:moveTo>
                    <a:pt x="1875" y="958"/>
                  </a:moveTo>
                  <a:lnTo>
                    <a:pt x="1874" y="1004"/>
                  </a:lnTo>
                  <a:lnTo>
                    <a:pt x="1870" y="1051"/>
                  </a:lnTo>
                  <a:lnTo>
                    <a:pt x="1864" y="1097"/>
                  </a:lnTo>
                  <a:lnTo>
                    <a:pt x="1857" y="1142"/>
                  </a:lnTo>
                  <a:lnTo>
                    <a:pt x="1846" y="1187"/>
                  </a:lnTo>
                  <a:lnTo>
                    <a:pt x="1834" y="1230"/>
                  </a:lnTo>
                  <a:lnTo>
                    <a:pt x="1819" y="1272"/>
                  </a:lnTo>
                  <a:lnTo>
                    <a:pt x="1803" y="1314"/>
                  </a:lnTo>
                  <a:lnTo>
                    <a:pt x="1784" y="1355"/>
                  </a:lnTo>
                  <a:lnTo>
                    <a:pt x="1764" y="1394"/>
                  </a:lnTo>
                  <a:lnTo>
                    <a:pt x="1742" y="1433"/>
                  </a:lnTo>
                  <a:lnTo>
                    <a:pt x="1718" y="1470"/>
                  </a:lnTo>
                  <a:lnTo>
                    <a:pt x="1692" y="1505"/>
                  </a:lnTo>
                  <a:lnTo>
                    <a:pt x="1665" y="1540"/>
                  </a:lnTo>
                  <a:lnTo>
                    <a:pt x="1636" y="1573"/>
                  </a:lnTo>
                  <a:lnTo>
                    <a:pt x="1606" y="1606"/>
                  </a:lnTo>
                  <a:lnTo>
                    <a:pt x="1575" y="1636"/>
                  </a:lnTo>
                  <a:lnTo>
                    <a:pt x="1541" y="1664"/>
                  </a:lnTo>
                  <a:lnTo>
                    <a:pt x="1507" y="1692"/>
                  </a:lnTo>
                  <a:lnTo>
                    <a:pt x="1471" y="1717"/>
                  </a:lnTo>
                  <a:lnTo>
                    <a:pt x="1433" y="1741"/>
                  </a:lnTo>
                  <a:lnTo>
                    <a:pt x="1395" y="1763"/>
                  </a:lnTo>
                  <a:lnTo>
                    <a:pt x="1355" y="1784"/>
                  </a:lnTo>
                  <a:lnTo>
                    <a:pt x="1315" y="1801"/>
                  </a:lnTo>
                  <a:lnTo>
                    <a:pt x="1273" y="1818"/>
                  </a:lnTo>
                  <a:lnTo>
                    <a:pt x="1231" y="1832"/>
                  </a:lnTo>
                  <a:lnTo>
                    <a:pt x="1187" y="1844"/>
                  </a:lnTo>
                  <a:lnTo>
                    <a:pt x="1142" y="1855"/>
                  </a:lnTo>
                  <a:lnTo>
                    <a:pt x="1098" y="1863"/>
                  </a:lnTo>
                  <a:lnTo>
                    <a:pt x="1052" y="1869"/>
                  </a:lnTo>
                  <a:lnTo>
                    <a:pt x="1005" y="1872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85" y="1873"/>
                  </a:lnTo>
                  <a:lnTo>
                    <a:pt x="1033" y="1870"/>
                  </a:lnTo>
                  <a:lnTo>
                    <a:pt x="1080" y="1863"/>
                  </a:lnTo>
                  <a:lnTo>
                    <a:pt x="1126" y="1856"/>
                  </a:lnTo>
                  <a:lnTo>
                    <a:pt x="1171" y="1845"/>
                  </a:lnTo>
                  <a:lnTo>
                    <a:pt x="1215" y="1832"/>
                  </a:lnTo>
                  <a:lnTo>
                    <a:pt x="1260" y="1818"/>
                  </a:lnTo>
                  <a:lnTo>
                    <a:pt x="1302" y="1801"/>
                  </a:lnTo>
                  <a:lnTo>
                    <a:pt x="1344" y="1782"/>
                  </a:lnTo>
                  <a:lnTo>
                    <a:pt x="1384" y="1762"/>
                  </a:lnTo>
                  <a:lnTo>
                    <a:pt x="1423" y="1739"/>
                  </a:lnTo>
                  <a:lnTo>
                    <a:pt x="1462" y="1714"/>
                  </a:lnTo>
                  <a:lnTo>
                    <a:pt x="1499" y="1688"/>
                  </a:lnTo>
                  <a:lnTo>
                    <a:pt x="1533" y="1660"/>
                  </a:lnTo>
                  <a:lnTo>
                    <a:pt x="1568" y="1631"/>
                  </a:lnTo>
                  <a:lnTo>
                    <a:pt x="1600" y="1600"/>
                  </a:lnTo>
                  <a:lnTo>
                    <a:pt x="1631" y="1567"/>
                  </a:lnTo>
                  <a:lnTo>
                    <a:pt x="1661" y="1534"/>
                  </a:lnTo>
                  <a:lnTo>
                    <a:pt x="1689" y="1498"/>
                  </a:lnTo>
                  <a:lnTo>
                    <a:pt x="1715" y="1461"/>
                  </a:lnTo>
                  <a:lnTo>
                    <a:pt x="1739" y="1424"/>
                  </a:lnTo>
                  <a:lnTo>
                    <a:pt x="1761" y="1384"/>
                  </a:lnTo>
                  <a:lnTo>
                    <a:pt x="1783" y="1344"/>
                  </a:lnTo>
                  <a:lnTo>
                    <a:pt x="1801" y="1302"/>
                  </a:lnTo>
                  <a:lnTo>
                    <a:pt x="1817" y="1260"/>
                  </a:lnTo>
                  <a:lnTo>
                    <a:pt x="1832" y="1216"/>
                  </a:lnTo>
                  <a:lnTo>
                    <a:pt x="1845" y="1172"/>
                  </a:lnTo>
                  <a:lnTo>
                    <a:pt x="1856" y="1127"/>
                  </a:lnTo>
                  <a:lnTo>
                    <a:pt x="1864" y="1080"/>
                  </a:lnTo>
                  <a:lnTo>
                    <a:pt x="1870" y="1033"/>
                  </a:lnTo>
                  <a:lnTo>
                    <a:pt x="1873" y="985"/>
                  </a:lnTo>
                  <a:lnTo>
                    <a:pt x="1875" y="938"/>
                  </a:lnTo>
                  <a:close/>
                  <a:moveTo>
                    <a:pt x="1833" y="938"/>
                  </a:moveTo>
                  <a:lnTo>
                    <a:pt x="1831" y="983"/>
                  </a:lnTo>
                  <a:lnTo>
                    <a:pt x="1828" y="1029"/>
                  </a:lnTo>
                  <a:lnTo>
                    <a:pt x="1823" y="1074"/>
                  </a:lnTo>
                  <a:lnTo>
                    <a:pt x="1815" y="1118"/>
                  </a:lnTo>
                  <a:lnTo>
                    <a:pt x="1804" y="1161"/>
                  </a:lnTo>
                  <a:lnTo>
                    <a:pt x="1792" y="1203"/>
                  </a:lnTo>
                  <a:lnTo>
                    <a:pt x="1778" y="1245"/>
                  </a:lnTo>
                  <a:lnTo>
                    <a:pt x="1762" y="1285"/>
                  </a:lnTo>
                  <a:lnTo>
                    <a:pt x="1745" y="1325"/>
                  </a:lnTo>
                  <a:lnTo>
                    <a:pt x="1724" y="1364"/>
                  </a:lnTo>
                  <a:lnTo>
                    <a:pt x="1704" y="1402"/>
                  </a:lnTo>
                  <a:lnTo>
                    <a:pt x="1680" y="1438"/>
                  </a:lnTo>
                  <a:lnTo>
                    <a:pt x="1655" y="1473"/>
                  </a:lnTo>
                  <a:lnTo>
                    <a:pt x="1628" y="1507"/>
                  </a:lnTo>
                  <a:lnTo>
                    <a:pt x="1600" y="1539"/>
                  </a:lnTo>
                  <a:lnTo>
                    <a:pt x="1571" y="1571"/>
                  </a:lnTo>
                  <a:lnTo>
                    <a:pt x="1540" y="1600"/>
                  </a:lnTo>
                  <a:lnTo>
                    <a:pt x="1507" y="1629"/>
                  </a:lnTo>
                  <a:lnTo>
                    <a:pt x="1474" y="1655"/>
                  </a:lnTo>
                  <a:lnTo>
                    <a:pt x="1438" y="1680"/>
                  </a:lnTo>
                  <a:lnTo>
                    <a:pt x="1401" y="1703"/>
                  </a:lnTo>
                  <a:lnTo>
                    <a:pt x="1365" y="1725"/>
                  </a:lnTo>
                  <a:lnTo>
                    <a:pt x="1326" y="1744"/>
                  </a:lnTo>
                  <a:lnTo>
                    <a:pt x="1286" y="1763"/>
                  </a:lnTo>
                  <a:lnTo>
                    <a:pt x="1246" y="1779"/>
                  </a:lnTo>
                  <a:lnTo>
                    <a:pt x="1204" y="1793"/>
                  </a:lnTo>
                  <a:lnTo>
                    <a:pt x="1161" y="1805"/>
                  </a:lnTo>
                  <a:lnTo>
                    <a:pt x="1118" y="1815"/>
                  </a:lnTo>
                  <a:lnTo>
                    <a:pt x="1074" y="1822"/>
                  </a:lnTo>
                  <a:lnTo>
                    <a:pt x="1028" y="1829"/>
                  </a:lnTo>
                  <a:lnTo>
                    <a:pt x="983" y="1832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64" y="1831"/>
                  </a:lnTo>
                  <a:lnTo>
                    <a:pt x="1011" y="1828"/>
                  </a:lnTo>
                  <a:lnTo>
                    <a:pt x="1057" y="1822"/>
                  </a:lnTo>
                  <a:lnTo>
                    <a:pt x="1101" y="1814"/>
                  </a:lnTo>
                  <a:lnTo>
                    <a:pt x="1146" y="1803"/>
                  </a:lnTo>
                  <a:lnTo>
                    <a:pt x="1190" y="1791"/>
                  </a:lnTo>
                  <a:lnTo>
                    <a:pt x="1232" y="1777"/>
                  </a:lnTo>
                  <a:lnTo>
                    <a:pt x="1274" y="1760"/>
                  </a:lnTo>
                  <a:lnTo>
                    <a:pt x="1314" y="1743"/>
                  </a:lnTo>
                  <a:lnTo>
                    <a:pt x="1354" y="1722"/>
                  </a:lnTo>
                  <a:lnTo>
                    <a:pt x="1392" y="1700"/>
                  </a:lnTo>
                  <a:lnTo>
                    <a:pt x="1430" y="1676"/>
                  </a:lnTo>
                  <a:lnTo>
                    <a:pt x="1466" y="1651"/>
                  </a:lnTo>
                  <a:lnTo>
                    <a:pt x="1500" y="1623"/>
                  </a:lnTo>
                  <a:lnTo>
                    <a:pt x="1534" y="1595"/>
                  </a:lnTo>
                  <a:lnTo>
                    <a:pt x="1565" y="1565"/>
                  </a:lnTo>
                  <a:lnTo>
                    <a:pt x="1595" y="1532"/>
                  </a:lnTo>
                  <a:lnTo>
                    <a:pt x="1624" y="1499"/>
                  </a:lnTo>
                  <a:lnTo>
                    <a:pt x="1651" y="1464"/>
                  </a:lnTo>
                  <a:lnTo>
                    <a:pt x="1677" y="1429"/>
                  </a:lnTo>
                  <a:lnTo>
                    <a:pt x="1701" y="1392"/>
                  </a:lnTo>
                  <a:lnTo>
                    <a:pt x="1723" y="1353"/>
                  </a:lnTo>
                  <a:lnTo>
                    <a:pt x="1743" y="1314"/>
                  </a:lnTo>
                  <a:lnTo>
                    <a:pt x="1762" y="1273"/>
                  </a:lnTo>
                  <a:lnTo>
                    <a:pt x="1778" y="1231"/>
                  </a:lnTo>
                  <a:lnTo>
                    <a:pt x="1793" y="1189"/>
                  </a:lnTo>
                  <a:lnTo>
                    <a:pt x="1805" y="1146"/>
                  </a:lnTo>
                  <a:lnTo>
                    <a:pt x="1816" y="1101"/>
                  </a:lnTo>
                  <a:lnTo>
                    <a:pt x="1823" y="1056"/>
                  </a:lnTo>
                  <a:lnTo>
                    <a:pt x="1829" y="1010"/>
                  </a:lnTo>
                  <a:lnTo>
                    <a:pt x="1833" y="963"/>
                  </a:lnTo>
                  <a:lnTo>
                    <a:pt x="1834" y="917"/>
                  </a:lnTo>
                  <a:close/>
                  <a:moveTo>
                    <a:pt x="1792" y="917"/>
                  </a:moveTo>
                  <a:lnTo>
                    <a:pt x="1791" y="961"/>
                  </a:lnTo>
                  <a:lnTo>
                    <a:pt x="1788" y="1006"/>
                  </a:lnTo>
                  <a:lnTo>
                    <a:pt x="1782" y="1050"/>
                  </a:lnTo>
                  <a:lnTo>
                    <a:pt x="1775" y="1093"/>
                  </a:lnTo>
                  <a:lnTo>
                    <a:pt x="1765" y="1135"/>
                  </a:lnTo>
                  <a:lnTo>
                    <a:pt x="1753" y="1177"/>
                  </a:lnTo>
                  <a:lnTo>
                    <a:pt x="1739" y="1217"/>
                  </a:lnTo>
                  <a:lnTo>
                    <a:pt x="1724" y="1257"/>
                  </a:lnTo>
                  <a:lnTo>
                    <a:pt x="1705" y="1296"/>
                  </a:lnTo>
                  <a:lnTo>
                    <a:pt x="1687" y="1334"/>
                  </a:lnTo>
                  <a:lnTo>
                    <a:pt x="1665" y="1370"/>
                  </a:lnTo>
                  <a:lnTo>
                    <a:pt x="1643" y="1406"/>
                  </a:lnTo>
                  <a:lnTo>
                    <a:pt x="1618" y="1439"/>
                  </a:lnTo>
                  <a:lnTo>
                    <a:pt x="1592" y="1473"/>
                  </a:lnTo>
                  <a:lnTo>
                    <a:pt x="1565" y="1504"/>
                  </a:lnTo>
                  <a:lnTo>
                    <a:pt x="1536" y="1534"/>
                  </a:lnTo>
                  <a:lnTo>
                    <a:pt x="1506" y="1564"/>
                  </a:lnTo>
                  <a:lnTo>
                    <a:pt x="1474" y="1592"/>
                  </a:lnTo>
                  <a:lnTo>
                    <a:pt x="1441" y="1618"/>
                  </a:lnTo>
                  <a:lnTo>
                    <a:pt x="1406" y="1641"/>
                  </a:lnTo>
                  <a:lnTo>
                    <a:pt x="1370" y="1664"/>
                  </a:lnTo>
                  <a:lnTo>
                    <a:pt x="1334" y="1686"/>
                  </a:lnTo>
                  <a:lnTo>
                    <a:pt x="1297" y="1705"/>
                  </a:lnTo>
                  <a:lnTo>
                    <a:pt x="1258" y="1722"/>
                  </a:lnTo>
                  <a:lnTo>
                    <a:pt x="1218" y="1737"/>
                  </a:lnTo>
                  <a:lnTo>
                    <a:pt x="1177" y="1752"/>
                  </a:lnTo>
                  <a:lnTo>
                    <a:pt x="1136" y="1763"/>
                  </a:lnTo>
                  <a:lnTo>
                    <a:pt x="1094" y="1773"/>
                  </a:lnTo>
                  <a:lnTo>
                    <a:pt x="1051" y="1781"/>
                  </a:lnTo>
                  <a:lnTo>
                    <a:pt x="1006" y="1786"/>
                  </a:lnTo>
                  <a:lnTo>
                    <a:pt x="962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42" y="1790"/>
                  </a:lnTo>
                  <a:lnTo>
                    <a:pt x="987" y="1787"/>
                  </a:lnTo>
                  <a:lnTo>
                    <a:pt x="1033" y="1780"/>
                  </a:lnTo>
                  <a:lnTo>
                    <a:pt x="1077" y="1773"/>
                  </a:lnTo>
                  <a:lnTo>
                    <a:pt x="1120" y="1763"/>
                  </a:lnTo>
                  <a:lnTo>
                    <a:pt x="1163" y="1751"/>
                  </a:lnTo>
                  <a:lnTo>
                    <a:pt x="1205" y="1737"/>
                  </a:lnTo>
                  <a:lnTo>
                    <a:pt x="1245" y="1721"/>
                  </a:lnTo>
                  <a:lnTo>
                    <a:pt x="1285" y="1702"/>
                  </a:lnTo>
                  <a:lnTo>
                    <a:pt x="1324" y="1683"/>
                  </a:lnTo>
                  <a:lnTo>
                    <a:pt x="1360" y="1661"/>
                  </a:lnTo>
                  <a:lnTo>
                    <a:pt x="1397" y="1638"/>
                  </a:lnTo>
                  <a:lnTo>
                    <a:pt x="1433" y="1613"/>
                  </a:lnTo>
                  <a:lnTo>
                    <a:pt x="1466" y="1587"/>
                  </a:lnTo>
                  <a:lnTo>
                    <a:pt x="1499" y="1558"/>
                  </a:lnTo>
                  <a:lnTo>
                    <a:pt x="1530" y="1529"/>
                  </a:lnTo>
                  <a:lnTo>
                    <a:pt x="1559" y="1497"/>
                  </a:lnTo>
                  <a:lnTo>
                    <a:pt x="1587" y="1465"/>
                  </a:lnTo>
                  <a:lnTo>
                    <a:pt x="1614" y="1431"/>
                  </a:lnTo>
                  <a:lnTo>
                    <a:pt x="1639" y="1396"/>
                  </a:lnTo>
                  <a:lnTo>
                    <a:pt x="1663" y="1360"/>
                  </a:lnTo>
                  <a:lnTo>
                    <a:pt x="1683" y="1322"/>
                  </a:lnTo>
                  <a:lnTo>
                    <a:pt x="1704" y="1283"/>
                  </a:lnTo>
                  <a:lnTo>
                    <a:pt x="1721" y="1243"/>
                  </a:lnTo>
                  <a:lnTo>
                    <a:pt x="1737" y="1203"/>
                  </a:lnTo>
                  <a:lnTo>
                    <a:pt x="1751" y="1161"/>
                  </a:lnTo>
                  <a:lnTo>
                    <a:pt x="1763" y="1119"/>
                  </a:lnTo>
                  <a:lnTo>
                    <a:pt x="1774" y="1076"/>
                  </a:lnTo>
                  <a:lnTo>
                    <a:pt x="1782" y="1032"/>
                  </a:lnTo>
                  <a:lnTo>
                    <a:pt x="1787" y="987"/>
                  </a:lnTo>
                  <a:lnTo>
                    <a:pt x="1790" y="941"/>
                  </a:lnTo>
                  <a:lnTo>
                    <a:pt x="1792" y="896"/>
                  </a:lnTo>
                  <a:close/>
                  <a:moveTo>
                    <a:pt x="1750" y="896"/>
                  </a:moveTo>
                  <a:lnTo>
                    <a:pt x="1749" y="939"/>
                  </a:lnTo>
                  <a:lnTo>
                    <a:pt x="1746" y="983"/>
                  </a:lnTo>
                  <a:lnTo>
                    <a:pt x="1741" y="1025"/>
                  </a:lnTo>
                  <a:lnTo>
                    <a:pt x="1733" y="1067"/>
                  </a:lnTo>
                  <a:lnTo>
                    <a:pt x="1723" y="1108"/>
                  </a:lnTo>
                  <a:lnTo>
                    <a:pt x="1711" y="1149"/>
                  </a:lnTo>
                  <a:lnTo>
                    <a:pt x="1698" y="1189"/>
                  </a:lnTo>
                  <a:lnTo>
                    <a:pt x="1683" y="1227"/>
                  </a:lnTo>
                  <a:lnTo>
                    <a:pt x="1666" y="1265"/>
                  </a:lnTo>
                  <a:lnTo>
                    <a:pt x="1648" y="1303"/>
                  </a:lnTo>
                  <a:lnTo>
                    <a:pt x="1627" y="1338"/>
                  </a:lnTo>
                  <a:lnTo>
                    <a:pt x="1604" y="1373"/>
                  </a:lnTo>
                  <a:lnTo>
                    <a:pt x="1581" y="1407"/>
                  </a:lnTo>
                  <a:lnTo>
                    <a:pt x="1555" y="1439"/>
                  </a:lnTo>
                  <a:lnTo>
                    <a:pt x="1529" y="1469"/>
                  </a:lnTo>
                  <a:lnTo>
                    <a:pt x="1500" y="1499"/>
                  </a:lnTo>
                  <a:lnTo>
                    <a:pt x="1470" y="1527"/>
                  </a:lnTo>
                  <a:lnTo>
                    <a:pt x="1439" y="1554"/>
                  </a:lnTo>
                  <a:lnTo>
                    <a:pt x="1407" y="1579"/>
                  </a:lnTo>
                  <a:lnTo>
                    <a:pt x="1373" y="1603"/>
                  </a:lnTo>
                  <a:lnTo>
                    <a:pt x="1339" y="1626"/>
                  </a:lnTo>
                  <a:lnTo>
                    <a:pt x="1303" y="1646"/>
                  </a:lnTo>
                  <a:lnTo>
                    <a:pt x="1266" y="1665"/>
                  </a:lnTo>
                  <a:lnTo>
                    <a:pt x="1228" y="1682"/>
                  </a:lnTo>
                  <a:lnTo>
                    <a:pt x="1190" y="1697"/>
                  </a:lnTo>
                  <a:lnTo>
                    <a:pt x="1151" y="1711"/>
                  </a:lnTo>
                  <a:lnTo>
                    <a:pt x="1110" y="1722"/>
                  </a:lnTo>
                  <a:lnTo>
                    <a:pt x="1069" y="1732"/>
                  </a:lnTo>
                  <a:lnTo>
                    <a:pt x="1026" y="1739"/>
                  </a:lnTo>
                  <a:lnTo>
                    <a:pt x="983" y="1745"/>
                  </a:lnTo>
                  <a:lnTo>
                    <a:pt x="940" y="1748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20" y="1748"/>
                  </a:lnTo>
                  <a:lnTo>
                    <a:pt x="964" y="1744"/>
                  </a:lnTo>
                  <a:lnTo>
                    <a:pt x="1009" y="1739"/>
                  </a:lnTo>
                  <a:lnTo>
                    <a:pt x="1052" y="1731"/>
                  </a:lnTo>
                  <a:lnTo>
                    <a:pt x="1094" y="1721"/>
                  </a:lnTo>
                  <a:lnTo>
                    <a:pt x="1135" y="1710"/>
                  </a:lnTo>
                  <a:lnTo>
                    <a:pt x="1176" y="1695"/>
                  </a:lnTo>
                  <a:lnTo>
                    <a:pt x="1216" y="1680"/>
                  </a:lnTo>
                  <a:lnTo>
                    <a:pt x="1255" y="1663"/>
                  </a:lnTo>
                  <a:lnTo>
                    <a:pt x="1292" y="1644"/>
                  </a:lnTo>
                  <a:lnTo>
                    <a:pt x="1328" y="1622"/>
                  </a:lnTo>
                  <a:lnTo>
                    <a:pt x="1364" y="1599"/>
                  </a:lnTo>
                  <a:lnTo>
                    <a:pt x="1399" y="1576"/>
                  </a:lnTo>
                  <a:lnTo>
                    <a:pt x="1432" y="1550"/>
                  </a:lnTo>
                  <a:lnTo>
                    <a:pt x="1464" y="1522"/>
                  </a:lnTo>
                  <a:lnTo>
                    <a:pt x="1494" y="1492"/>
                  </a:lnTo>
                  <a:lnTo>
                    <a:pt x="1523" y="1462"/>
                  </a:lnTo>
                  <a:lnTo>
                    <a:pt x="1550" y="1431"/>
                  </a:lnTo>
                  <a:lnTo>
                    <a:pt x="1576" y="1397"/>
                  </a:lnTo>
                  <a:lnTo>
                    <a:pt x="1601" y="1364"/>
                  </a:lnTo>
                  <a:lnTo>
                    <a:pt x="1623" y="1328"/>
                  </a:lnTo>
                  <a:lnTo>
                    <a:pt x="1645" y="1292"/>
                  </a:lnTo>
                  <a:lnTo>
                    <a:pt x="1663" y="1254"/>
                  </a:lnTo>
                  <a:lnTo>
                    <a:pt x="1682" y="1215"/>
                  </a:lnTo>
                  <a:lnTo>
                    <a:pt x="1697" y="1175"/>
                  </a:lnTo>
                  <a:lnTo>
                    <a:pt x="1711" y="1135"/>
                  </a:lnTo>
                  <a:lnTo>
                    <a:pt x="1723" y="1093"/>
                  </a:lnTo>
                  <a:lnTo>
                    <a:pt x="1733" y="1051"/>
                  </a:lnTo>
                  <a:lnTo>
                    <a:pt x="1740" y="1008"/>
                  </a:lnTo>
                  <a:lnTo>
                    <a:pt x="1746" y="964"/>
                  </a:lnTo>
                  <a:lnTo>
                    <a:pt x="1749" y="919"/>
                  </a:lnTo>
                  <a:lnTo>
                    <a:pt x="1750" y="875"/>
                  </a:lnTo>
                  <a:close/>
                  <a:moveTo>
                    <a:pt x="1709" y="875"/>
                  </a:moveTo>
                  <a:lnTo>
                    <a:pt x="1708" y="917"/>
                  </a:lnTo>
                  <a:lnTo>
                    <a:pt x="1704" y="960"/>
                  </a:lnTo>
                  <a:lnTo>
                    <a:pt x="1699" y="1001"/>
                  </a:lnTo>
                  <a:lnTo>
                    <a:pt x="1692" y="1042"/>
                  </a:lnTo>
                  <a:lnTo>
                    <a:pt x="1682" y="1082"/>
                  </a:lnTo>
                  <a:lnTo>
                    <a:pt x="1671" y="1122"/>
                  </a:lnTo>
                  <a:lnTo>
                    <a:pt x="1658" y="1161"/>
                  </a:lnTo>
                  <a:lnTo>
                    <a:pt x="1643" y="1199"/>
                  </a:lnTo>
                  <a:lnTo>
                    <a:pt x="1627" y="1235"/>
                  </a:lnTo>
                  <a:lnTo>
                    <a:pt x="1608" y="1271"/>
                  </a:lnTo>
                  <a:lnTo>
                    <a:pt x="1588" y="1307"/>
                  </a:lnTo>
                  <a:lnTo>
                    <a:pt x="1566" y="1340"/>
                  </a:lnTo>
                  <a:lnTo>
                    <a:pt x="1542" y="1373"/>
                  </a:lnTo>
                  <a:lnTo>
                    <a:pt x="1519" y="1404"/>
                  </a:lnTo>
                  <a:lnTo>
                    <a:pt x="1492" y="1434"/>
                  </a:lnTo>
                  <a:lnTo>
                    <a:pt x="1465" y="1463"/>
                  </a:lnTo>
                  <a:lnTo>
                    <a:pt x="1435" y="1491"/>
                  </a:lnTo>
                  <a:lnTo>
                    <a:pt x="1405" y="1517"/>
                  </a:lnTo>
                  <a:lnTo>
                    <a:pt x="1374" y="1542"/>
                  </a:lnTo>
                  <a:lnTo>
                    <a:pt x="1341" y="1565"/>
                  </a:lnTo>
                  <a:lnTo>
                    <a:pt x="1307" y="1586"/>
                  </a:lnTo>
                  <a:lnTo>
                    <a:pt x="1272" y="1607"/>
                  </a:lnTo>
                  <a:lnTo>
                    <a:pt x="1237" y="1625"/>
                  </a:lnTo>
                  <a:lnTo>
                    <a:pt x="1200" y="1641"/>
                  </a:lnTo>
                  <a:lnTo>
                    <a:pt x="1162" y="1657"/>
                  </a:lnTo>
                  <a:lnTo>
                    <a:pt x="1123" y="1670"/>
                  </a:lnTo>
                  <a:lnTo>
                    <a:pt x="1083" y="1681"/>
                  </a:lnTo>
                  <a:lnTo>
                    <a:pt x="1043" y="1690"/>
                  </a:lnTo>
                  <a:lnTo>
                    <a:pt x="1002" y="1698"/>
                  </a:lnTo>
                  <a:lnTo>
                    <a:pt x="960" y="1703"/>
                  </a:lnTo>
                  <a:lnTo>
                    <a:pt x="918" y="1706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98" y="1707"/>
                  </a:lnTo>
                  <a:lnTo>
                    <a:pt x="941" y="1704"/>
                  </a:lnTo>
                  <a:lnTo>
                    <a:pt x="984" y="1698"/>
                  </a:lnTo>
                  <a:lnTo>
                    <a:pt x="1027" y="1691"/>
                  </a:lnTo>
                  <a:lnTo>
                    <a:pt x="1068" y="1681"/>
                  </a:lnTo>
                  <a:lnTo>
                    <a:pt x="1109" y="1670"/>
                  </a:lnTo>
                  <a:lnTo>
                    <a:pt x="1148" y="1656"/>
                  </a:lnTo>
                  <a:lnTo>
                    <a:pt x="1186" y="1641"/>
                  </a:lnTo>
                  <a:lnTo>
                    <a:pt x="1224" y="1624"/>
                  </a:lnTo>
                  <a:lnTo>
                    <a:pt x="1261" y="1605"/>
                  </a:lnTo>
                  <a:lnTo>
                    <a:pt x="1297" y="1585"/>
                  </a:lnTo>
                  <a:lnTo>
                    <a:pt x="1331" y="1562"/>
                  </a:lnTo>
                  <a:lnTo>
                    <a:pt x="1365" y="1538"/>
                  </a:lnTo>
                  <a:lnTo>
                    <a:pt x="1397" y="1513"/>
                  </a:lnTo>
                  <a:lnTo>
                    <a:pt x="1428" y="1486"/>
                  </a:lnTo>
                  <a:lnTo>
                    <a:pt x="1458" y="1458"/>
                  </a:lnTo>
                  <a:lnTo>
                    <a:pt x="1487" y="1428"/>
                  </a:lnTo>
                  <a:lnTo>
                    <a:pt x="1513" y="1398"/>
                  </a:lnTo>
                  <a:lnTo>
                    <a:pt x="1539" y="1366"/>
                  </a:lnTo>
                  <a:lnTo>
                    <a:pt x="1562" y="1332"/>
                  </a:lnTo>
                  <a:lnTo>
                    <a:pt x="1585" y="1297"/>
                  </a:lnTo>
                  <a:lnTo>
                    <a:pt x="1606" y="1262"/>
                  </a:lnTo>
                  <a:lnTo>
                    <a:pt x="1624" y="1224"/>
                  </a:lnTo>
                  <a:lnTo>
                    <a:pt x="1641" y="1186"/>
                  </a:lnTo>
                  <a:lnTo>
                    <a:pt x="1656" y="1148"/>
                  </a:lnTo>
                  <a:lnTo>
                    <a:pt x="1669" y="1108"/>
                  </a:lnTo>
                  <a:lnTo>
                    <a:pt x="1681" y="1067"/>
                  </a:lnTo>
                  <a:lnTo>
                    <a:pt x="1691" y="1026"/>
                  </a:lnTo>
                  <a:lnTo>
                    <a:pt x="1699" y="984"/>
                  </a:lnTo>
                  <a:lnTo>
                    <a:pt x="1704" y="942"/>
                  </a:lnTo>
                  <a:lnTo>
                    <a:pt x="1707" y="898"/>
                  </a:lnTo>
                  <a:lnTo>
                    <a:pt x="1708" y="855"/>
                  </a:lnTo>
                  <a:close/>
                  <a:moveTo>
                    <a:pt x="1666" y="855"/>
                  </a:moveTo>
                  <a:lnTo>
                    <a:pt x="1665" y="896"/>
                  </a:lnTo>
                  <a:lnTo>
                    <a:pt x="1663" y="938"/>
                  </a:lnTo>
                  <a:lnTo>
                    <a:pt x="1658" y="978"/>
                  </a:lnTo>
                  <a:lnTo>
                    <a:pt x="1650" y="1018"/>
                  </a:lnTo>
                  <a:lnTo>
                    <a:pt x="1641" y="1058"/>
                  </a:lnTo>
                  <a:lnTo>
                    <a:pt x="1631" y="1096"/>
                  </a:lnTo>
                  <a:lnTo>
                    <a:pt x="1618" y="1133"/>
                  </a:lnTo>
                  <a:lnTo>
                    <a:pt x="1602" y="1170"/>
                  </a:lnTo>
                  <a:lnTo>
                    <a:pt x="1586" y="1207"/>
                  </a:lnTo>
                  <a:lnTo>
                    <a:pt x="1569" y="1241"/>
                  </a:lnTo>
                  <a:lnTo>
                    <a:pt x="1550" y="1276"/>
                  </a:lnTo>
                  <a:lnTo>
                    <a:pt x="1528" y="1308"/>
                  </a:lnTo>
                  <a:lnTo>
                    <a:pt x="1505" y="1341"/>
                  </a:lnTo>
                  <a:lnTo>
                    <a:pt x="1481" y="1371"/>
                  </a:lnTo>
                  <a:lnTo>
                    <a:pt x="1456" y="1400"/>
                  </a:lnTo>
                  <a:lnTo>
                    <a:pt x="1428" y="1428"/>
                  </a:lnTo>
                  <a:lnTo>
                    <a:pt x="1400" y="1455"/>
                  </a:lnTo>
                  <a:lnTo>
                    <a:pt x="1371" y="1481"/>
                  </a:lnTo>
                  <a:lnTo>
                    <a:pt x="1340" y="1505"/>
                  </a:lnTo>
                  <a:lnTo>
                    <a:pt x="1309" y="1528"/>
                  </a:lnTo>
                  <a:lnTo>
                    <a:pt x="1275" y="1549"/>
                  </a:lnTo>
                  <a:lnTo>
                    <a:pt x="1242" y="1569"/>
                  </a:lnTo>
                  <a:lnTo>
                    <a:pt x="1206" y="1587"/>
                  </a:lnTo>
                  <a:lnTo>
                    <a:pt x="1170" y="1603"/>
                  </a:lnTo>
                  <a:lnTo>
                    <a:pt x="1134" y="1617"/>
                  </a:lnTo>
                  <a:lnTo>
                    <a:pt x="1096" y="1630"/>
                  </a:lnTo>
                  <a:lnTo>
                    <a:pt x="1057" y="1641"/>
                  </a:lnTo>
                  <a:lnTo>
                    <a:pt x="1018" y="1650"/>
                  </a:lnTo>
                  <a:lnTo>
                    <a:pt x="978" y="1657"/>
                  </a:lnTo>
                  <a:lnTo>
                    <a:pt x="937" y="1663"/>
                  </a:lnTo>
                  <a:lnTo>
                    <a:pt x="896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76" y="1665"/>
                  </a:lnTo>
                  <a:lnTo>
                    <a:pt x="918" y="1662"/>
                  </a:lnTo>
                  <a:lnTo>
                    <a:pt x="960" y="1657"/>
                  </a:lnTo>
                  <a:lnTo>
                    <a:pt x="1001" y="1649"/>
                  </a:lnTo>
                  <a:lnTo>
                    <a:pt x="1041" y="1640"/>
                  </a:lnTo>
                  <a:lnTo>
                    <a:pt x="1081" y="1629"/>
                  </a:lnTo>
                  <a:lnTo>
                    <a:pt x="1120" y="1616"/>
                  </a:lnTo>
                  <a:lnTo>
                    <a:pt x="1158" y="1600"/>
                  </a:lnTo>
                  <a:lnTo>
                    <a:pt x="1195" y="1584"/>
                  </a:lnTo>
                  <a:lnTo>
                    <a:pt x="1230" y="1566"/>
                  </a:lnTo>
                  <a:lnTo>
                    <a:pt x="1265" y="1545"/>
                  </a:lnTo>
                  <a:lnTo>
                    <a:pt x="1299" y="1524"/>
                  </a:lnTo>
                  <a:lnTo>
                    <a:pt x="1332" y="1501"/>
                  </a:lnTo>
                  <a:lnTo>
                    <a:pt x="1363" y="1476"/>
                  </a:lnTo>
                  <a:lnTo>
                    <a:pt x="1393" y="1450"/>
                  </a:lnTo>
                  <a:lnTo>
                    <a:pt x="1423" y="1422"/>
                  </a:lnTo>
                  <a:lnTo>
                    <a:pt x="1450" y="1393"/>
                  </a:lnTo>
                  <a:lnTo>
                    <a:pt x="1477" y="1363"/>
                  </a:lnTo>
                  <a:lnTo>
                    <a:pt x="1500" y="1332"/>
                  </a:lnTo>
                  <a:lnTo>
                    <a:pt x="1524" y="1299"/>
                  </a:lnTo>
                  <a:lnTo>
                    <a:pt x="1546" y="1266"/>
                  </a:lnTo>
                  <a:lnTo>
                    <a:pt x="1566" y="1230"/>
                  </a:lnTo>
                  <a:lnTo>
                    <a:pt x="1585" y="1194"/>
                  </a:lnTo>
                  <a:lnTo>
                    <a:pt x="1601" y="1158"/>
                  </a:lnTo>
                  <a:lnTo>
                    <a:pt x="1616" y="1120"/>
                  </a:lnTo>
                  <a:lnTo>
                    <a:pt x="1629" y="1081"/>
                  </a:lnTo>
                  <a:lnTo>
                    <a:pt x="1640" y="1041"/>
                  </a:lnTo>
                  <a:lnTo>
                    <a:pt x="1650" y="1001"/>
                  </a:lnTo>
                  <a:lnTo>
                    <a:pt x="1657" y="960"/>
                  </a:lnTo>
                  <a:lnTo>
                    <a:pt x="1662" y="919"/>
                  </a:lnTo>
                  <a:lnTo>
                    <a:pt x="1666" y="876"/>
                  </a:lnTo>
                  <a:lnTo>
                    <a:pt x="1667" y="834"/>
                  </a:lnTo>
                  <a:close/>
                  <a:moveTo>
                    <a:pt x="1625" y="834"/>
                  </a:moveTo>
                  <a:lnTo>
                    <a:pt x="1624" y="874"/>
                  </a:lnTo>
                  <a:lnTo>
                    <a:pt x="1620" y="915"/>
                  </a:lnTo>
                  <a:lnTo>
                    <a:pt x="1616" y="954"/>
                  </a:lnTo>
                  <a:lnTo>
                    <a:pt x="1608" y="992"/>
                  </a:lnTo>
                  <a:lnTo>
                    <a:pt x="1600" y="1031"/>
                  </a:lnTo>
                  <a:lnTo>
                    <a:pt x="1589" y="1069"/>
                  </a:lnTo>
                  <a:lnTo>
                    <a:pt x="1577" y="1106"/>
                  </a:lnTo>
                  <a:lnTo>
                    <a:pt x="1563" y="1141"/>
                  </a:lnTo>
                  <a:lnTo>
                    <a:pt x="1547" y="1176"/>
                  </a:lnTo>
                  <a:lnTo>
                    <a:pt x="1530" y="1211"/>
                  </a:lnTo>
                  <a:lnTo>
                    <a:pt x="1510" y="1244"/>
                  </a:lnTo>
                  <a:lnTo>
                    <a:pt x="1490" y="1275"/>
                  </a:lnTo>
                  <a:lnTo>
                    <a:pt x="1468" y="1307"/>
                  </a:lnTo>
                  <a:lnTo>
                    <a:pt x="1444" y="1337"/>
                  </a:lnTo>
                  <a:lnTo>
                    <a:pt x="1419" y="1365"/>
                  </a:lnTo>
                  <a:lnTo>
                    <a:pt x="1393" y="1393"/>
                  </a:lnTo>
                  <a:lnTo>
                    <a:pt x="1365" y="1419"/>
                  </a:lnTo>
                  <a:lnTo>
                    <a:pt x="1337" y="1444"/>
                  </a:lnTo>
                  <a:lnTo>
                    <a:pt x="1307" y="1468"/>
                  </a:lnTo>
                  <a:lnTo>
                    <a:pt x="1276" y="1489"/>
                  </a:lnTo>
                  <a:lnTo>
                    <a:pt x="1243" y="1510"/>
                  </a:lnTo>
                  <a:lnTo>
                    <a:pt x="1211" y="1529"/>
                  </a:lnTo>
                  <a:lnTo>
                    <a:pt x="1176" y="1546"/>
                  </a:lnTo>
                  <a:lnTo>
                    <a:pt x="1142" y="1563"/>
                  </a:lnTo>
                  <a:lnTo>
                    <a:pt x="1105" y="1577"/>
                  </a:lnTo>
                  <a:lnTo>
                    <a:pt x="1068" y="1590"/>
                  </a:lnTo>
                  <a:lnTo>
                    <a:pt x="1031" y="1599"/>
                  </a:lnTo>
                  <a:lnTo>
                    <a:pt x="993" y="1609"/>
                  </a:lnTo>
                  <a:lnTo>
                    <a:pt x="954" y="1616"/>
                  </a:lnTo>
                  <a:lnTo>
                    <a:pt x="914" y="1621"/>
                  </a:lnTo>
                  <a:lnTo>
                    <a:pt x="874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close/>
                </a:path>
              </a:pathLst>
            </a:custGeom>
            <a:solidFill>
              <a:srgbClr val="e66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54" y="1623"/>
                  </a:lnTo>
                  <a:lnTo>
                    <a:pt x="895" y="1620"/>
                  </a:lnTo>
                  <a:lnTo>
                    <a:pt x="936" y="1614"/>
                  </a:lnTo>
                  <a:lnTo>
                    <a:pt x="976" y="1607"/>
                  </a:lnTo>
                  <a:lnTo>
                    <a:pt x="1015" y="1598"/>
                  </a:lnTo>
                  <a:lnTo>
                    <a:pt x="1054" y="1587"/>
                  </a:lnTo>
                  <a:lnTo>
                    <a:pt x="1092" y="1574"/>
                  </a:lnTo>
                  <a:lnTo>
                    <a:pt x="1128" y="1560"/>
                  </a:lnTo>
                  <a:lnTo>
                    <a:pt x="1164" y="1544"/>
                  </a:lnTo>
                  <a:lnTo>
                    <a:pt x="1200" y="1526"/>
                  </a:lnTo>
                  <a:lnTo>
                    <a:pt x="1233" y="1506"/>
                  </a:lnTo>
                  <a:lnTo>
                    <a:pt x="1267" y="1485"/>
                  </a:lnTo>
                  <a:lnTo>
                    <a:pt x="1298" y="1462"/>
                  </a:lnTo>
                  <a:lnTo>
                    <a:pt x="1329" y="1438"/>
                  </a:lnTo>
                  <a:lnTo>
                    <a:pt x="1358" y="1412"/>
                  </a:lnTo>
                  <a:lnTo>
                    <a:pt x="1386" y="1385"/>
                  </a:lnTo>
                  <a:lnTo>
                    <a:pt x="1414" y="1357"/>
                  </a:lnTo>
                  <a:lnTo>
                    <a:pt x="1439" y="1328"/>
                  </a:lnTo>
                  <a:lnTo>
                    <a:pt x="1463" y="1298"/>
                  </a:lnTo>
                  <a:lnTo>
                    <a:pt x="1486" y="1265"/>
                  </a:lnTo>
                  <a:lnTo>
                    <a:pt x="1508" y="1233"/>
                  </a:lnTo>
                  <a:lnTo>
                    <a:pt x="1527" y="1198"/>
                  </a:lnTo>
                  <a:lnTo>
                    <a:pt x="1544" y="1164"/>
                  </a:lnTo>
                  <a:lnTo>
                    <a:pt x="1560" y="1127"/>
                  </a:lnTo>
                  <a:lnTo>
                    <a:pt x="1576" y="1090"/>
                  </a:lnTo>
                  <a:lnTo>
                    <a:pt x="1589" y="1053"/>
                  </a:lnTo>
                  <a:lnTo>
                    <a:pt x="1599" y="1015"/>
                  </a:lnTo>
                  <a:lnTo>
                    <a:pt x="1608" y="975"/>
                  </a:lnTo>
                  <a:lnTo>
                    <a:pt x="1616" y="935"/>
                  </a:lnTo>
                  <a:lnTo>
                    <a:pt x="1621" y="895"/>
                  </a:lnTo>
                  <a:lnTo>
                    <a:pt x="1623" y="853"/>
                  </a:lnTo>
                  <a:lnTo>
                    <a:pt x="1624" y="812"/>
                  </a:lnTo>
                  <a:close/>
                  <a:moveTo>
                    <a:pt x="1583" y="812"/>
                  </a:moveTo>
                  <a:lnTo>
                    <a:pt x="1582" y="851"/>
                  </a:lnTo>
                  <a:lnTo>
                    <a:pt x="1579" y="891"/>
                  </a:lnTo>
                  <a:lnTo>
                    <a:pt x="1575" y="928"/>
                  </a:lnTo>
                  <a:lnTo>
                    <a:pt x="1567" y="967"/>
                  </a:lnTo>
                  <a:lnTo>
                    <a:pt x="1558" y="1004"/>
                  </a:lnTo>
                  <a:lnTo>
                    <a:pt x="1549" y="1041"/>
                  </a:lnTo>
                  <a:lnTo>
                    <a:pt x="1537" y="1076"/>
                  </a:lnTo>
                  <a:lnTo>
                    <a:pt x="1523" y="1111"/>
                  </a:lnTo>
                  <a:lnTo>
                    <a:pt x="1508" y="1145"/>
                  </a:lnTo>
                  <a:lnTo>
                    <a:pt x="1490" y="1179"/>
                  </a:lnTo>
                  <a:lnTo>
                    <a:pt x="1472" y="1211"/>
                  </a:lnTo>
                  <a:lnTo>
                    <a:pt x="1451" y="1243"/>
                  </a:lnTo>
                  <a:lnTo>
                    <a:pt x="1430" y="1273"/>
                  </a:lnTo>
                  <a:lnTo>
                    <a:pt x="1407" y="1302"/>
                  </a:lnTo>
                  <a:lnTo>
                    <a:pt x="1383" y="1329"/>
                  </a:lnTo>
                  <a:lnTo>
                    <a:pt x="1357" y="1356"/>
                  </a:lnTo>
                  <a:lnTo>
                    <a:pt x="1330" y="1382"/>
                  </a:lnTo>
                  <a:lnTo>
                    <a:pt x="1302" y="1406"/>
                  </a:lnTo>
                  <a:lnTo>
                    <a:pt x="1273" y="1428"/>
                  </a:lnTo>
                  <a:lnTo>
                    <a:pt x="1243" y="1450"/>
                  </a:lnTo>
                  <a:lnTo>
                    <a:pt x="1211" y="1470"/>
                  </a:lnTo>
                  <a:lnTo>
                    <a:pt x="1180" y="1489"/>
                  </a:lnTo>
                  <a:lnTo>
                    <a:pt x="1147" y="1506"/>
                  </a:lnTo>
                  <a:lnTo>
                    <a:pt x="1112" y="1521"/>
                  </a:lnTo>
                  <a:lnTo>
                    <a:pt x="1077" y="1535"/>
                  </a:lnTo>
                  <a:lnTo>
                    <a:pt x="1042" y="1547"/>
                  </a:lnTo>
                  <a:lnTo>
                    <a:pt x="1005" y="1558"/>
                  </a:lnTo>
                  <a:lnTo>
                    <a:pt x="967" y="1567"/>
                  </a:lnTo>
                  <a:lnTo>
                    <a:pt x="929" y="1573"/>
                  </a:lnTo>
                  <a:lnTo>
                    <a:pt x="891" y="1578"/>
                  </a:lnTo>
                  <a:lnTo>
                    <a:pt x="852" y="1581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32" y="1582"/>
                  </a:lnTo>
                  <a:lnTo>
                    <a:pt x="872" y="1579"/>
                  </a:lnTo>
                  <a:lnTo>
                    <a:pt x="912" y="1574"/>
                  </a:lnTo>
                  <a:lnTo>
                    <a:pt x="951" y="1567"/>
                  </a:lnTo>
                  <a:lnTo>
                    <a:pt x="989" y="1557"/>
                  </a:lnTo>
                  <a:lnTo>
                    <a:pt x="1026" y="1548"/>
                  </a:lnTo>
                  <a:lnTo>
                    <a:pt x="1063" y="1535"/>
                  </a:lnTo>
                  <a:lnTo>
                    <a:pt x="1100" y="1521"/>
                  </a:lnTo>
                  <a:lnTo>
                    <a:pt x="1134" y="1504"/>
                  </a:lnTo>
                  <a:lnTo>
                    <a:pt x="1169" y="1487"/>
                  </a:lnTo>
                  <a:lnTo>
                    <a:pt x="1201" y="1468"/>
                  </a:lnTo>
                  <a:lnTo>
                    <a:pt x="1234" y="1447"/>
                  </a:lnTo>
                  <a:lnTo>
                    <a:pt x="1265" y="1426"/>
                  </a:lnTo>
                  <a:lnTo>
                    <a:pt x="1295" y="1402"/>
                  </a:lnTo>
                  <a:lnTo>
                    <a:pt x="1323" y="1377"/>
                  </a:lnTo>
                  <a:lnTo>
                    <a:pt x="1351" y="1351"/>
                  </a:lnTo>
                  <a:lnTo>
                    <a:pt x="1377" y="1323"/>
                  </a:lnTo>
                  <a:lnTo>
                    <a:pt x="1402" y="1295"/>
                  </a:lnTo>
                  <a:lnTo>
                    <a:pt x="1426" y="1265"/>
                  </a:lnTo>
                  <a:lnTo>
                    <a:pt x="1448" y="1233"/>
                  </a:lnTo>
                  <a:lnTo>
                    <a:pt x="1468" y="1202"/>
                  </a:lnTo>
                  <a:lnTo>
                    <a:pt x="1488" y="1169"/>
                  </a:lnTo>
                  <a:lnTo>
                    <a:pt x="1505" y="1134"/>
                  </a:lnTo>
                  <a:lnTo>
                    <a:pt x="1521" y="1099"/>
                  </a:lnTo>
                  <a:lnTo>
                    <a:pt x="1535" y="1064"/>
                  </a:lnTo>
                  <a:lnTo>
                    <a:pt x="1547" y="1027"/>
                  </a:lnTo>
                  <a:lnTo>
                    <a:pt x="1558" y="989"/>
                  </a:lnTo>
                  <a:lnTo>
                    <a:pt x="1566" y="950"/>
                  </a:lnTo>
                  <a:lnTo>
                    <a:pt x="1574" y="912"/>
                  </a:lnTo>
                  <a:lnTo>
                    <a:pt x="1578" y="873"/>
                  </a:lnTo>
                  <a:lnTo>
                    <a:pt x="1582" y="832"/>
                  </a:lnTo>
                  <a:lnTo>
                    <a:pt x="1583" y="792"/>
                  </a:lnTo>
                  <a:close/>
                  <a:moveTo>
                    <a:pt x="1542" y="792"/>
                  </a:moveTo>
                  <a:lnTo>
                    <a:pt x="1541" y="829"/>
                  </a:lnTo>
                  <a:lnTo>
                    <a:pt x="1537" y="868"/>
                  </a:lnTo>
                  <a:lnTo>
                    <a:pt x="1533" y="905"/>
                  </a:lnTo>
                  <a:lnTo>
                    <a:pt x="1526" y="943"/>
                  </a:lnTo>
                  <a:lnTo>
                    <a:pt x="1518" y="979"/>
                  </a:lnTo>
                  <a:lnTo>
                    <a:pt x="1507" y="1014"/>
                  </a:lnTo>
                  <a:lnTo>
                    <a:pt x="1495" y="1049"/>
                  </a:lnTo>
                  <a:lnTo>
                    <a:pt x="1482" y="1083"/>
                  </a:lnTo>
                  <a:lnTo>
                    <a:pt x="1467" y="1117"/>
                  </a:lnTo>
                  <a:lnTo>
                    <a:pt x="1451" y="1149"/>
                  </a:lnTo>
                  <a:lnTo>
                    <a:pt x="1432" y="1180"/>
                  </a:lnTo>
                  <a:lnTo>
                    <a:pt x="1413" y="1211"/>
                  </a:lnTo>
                  <a:lnTo>
                    <a:pt x="1393" y="1240"/>
                  </a:lnTo>
                  <a:lnTo>
                    <a:pt x="1370" y="1268"/>
                  </a:lnTo>
                  <a:lnTo>
                    <a:pt x="1346" y="1295"/>
                  </a:lnTo>
                  <a:lnTo>
                    <a:pt x="1321" y="1322"/>
                  </a:lnTo>
                  <a:lnTo>
                    <a:pt x="1295" y="1347"/>
                  </a:lnTo>
                  <a:lnTo>
                    <a:pt x="1268" y="1369"/>
                  </a:lnTo>
                  <a:lnTo>
                    <a:pt x="1240" y="1392"/>
                  </a:lnTo>
                  <a:lnTo>
                    <a:pt x="1211" y="1413"/>
                  </a:lnTo>
                  <a:lnTo>
                    <a:pt x="1180" y="1432"/>
                  </a:lnTo>
                  <a:lnTo>
                    <a:pt x="1148" y="1450"/>
                  </a:lnTo>
                  <a:lnTo>
                    <a:pt x="1116" y="1467"/>
                  </a:lnTo>
                  <a:lnTo>
                    <a:pt x="1083" y="1482"/>
                  </a:lnTo>
                  <a:lnTo>
                    <a:pt x="1049" y="1496"/>
                  </a:lnTo>
                  <a:lnTo>
                    <a:pt x="1014" y="1508"/>
                  </a:lnTo>
                  <a:lnTo>
                    <a:pt x="979" y="1517"/>
                  </a:lnTo>
                  <a:lnTo>
                    <a:pt x="942" y="1526"/>
                  </a:lnTo>
                  <a:lnTo>
                    <a:pt x="905" y="1533"/>
                  </a:lnTo>
                  <a:lnTo>
                    <a:pt x="867" y="1537"/>
                  </a:lnTo>
                  <a:lnTo>
                    <a:pt x="830" y="1540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811" y="1540"/>
                  </a:lnTo>
                  <a:lnTo>
                    <a:pt x="850" y="1537"/>
                  </a:lnTo>
                  <a:lnTo>
                    <a:pt x="888" y="1532"/>
                  </a:lnTo>
                  <a:lnTo>
                    <a:pt x="926" y="1526"/>
                  </a:lnTo>
                  <a:lnTo>
                    <a:pt x="964" y="1517"/>
                  </a:lnTo>
                  <a:lnTo>
                    <a:pt x="1001" y="1506"/>
                  </a:lnTo>
                  <a:lnTo>
                    <a:pt x="1036" y="1494"/>
                  </a:lnTo>
                  <a:lnTo>
                    <a:pt x="1071" y="1480"/>
                  </a:lnTo>
                  <a:lnTo>
                    <a:pt x="1106" y="1465"/>
                  </a:lnTo>
                  <a:lnTo>
                    <a:pt x="1139" y="1448"/>
                  </a:lnTo>
                  <a:lnTo>
                    <a:pt x="1170" y="1429"/>
                  </a:lnTo>
                  <a:lnTo>
                    <a:pt x="1202" y="1409"/>
                  </a:lnTo>
                  <a:lnTo>
                    <a:pt x="1232" y="1387"/>
                  </a:lnTo>
                  <a:lnTo>
                    <a:pt x="1261" y="1365"/>
                  </a:lnTo>
                  <a:lnTo>
                    <a:pt x="1289" y="1341"/>
                  </a:lnTo>
                  <a:lnTo>
                    <a:pt x="1316" y="1315"/>
                  </a:lnTo>
                  <a:lnTo>
                    <a:pt x="1342" y="1288"/>
                  </a:lnTo>
                  <a:lnTo>
                    <a:pt x="1366" y="1261"/>
                  </a:lnTo>
                  <a:lnTo>
                    <a:pt x="1389" y="1232"/>
                  </a:lnTo>
                  <a:lnTo>
                    <a:pt x="1410" y="1202"/>
                  </a:lnTo>
                  <a:lnTo>
                    <a:pt x="1431" y="1170"/>
                  </a:lnTo>
                  <a:lnTo>
                    <a:pt x="1449" y="1138"/>
                  </a:lnTo>
                  <a:lnTo>
                    <a:pt x="1467" y="1104"/>
                  </a:lnTo>
                  <a:lnTo>
                    <a:pt x="1482" y="1070"/>
                  </a:lnTo>
                  <a:lnTo>
                    <a:pt x="1496" y="1035"/>
                  </a:lnTo>
                  <a:lnTo>
                    <a:pt x="1508" y="1000"/>
                  </a:lnTo>
                  <a:lnTo>
                    <a:pt x="1517" y="963"/>
                  </a:lnTo>
                  <a:lnTo>
                    <a:pt x="1526" y="926"/>
                  </a:lnTo>
                  <a:lnTo>
                    <a:pt x="1534" y="887"/>
                  </a:lnTo>
                  <a:lnTo>
                    <a:pt x="1538" y="850"/>
                  </a:lnTo>
                  <a:lnTo>
                    <a:pt x="1541" y="810"/>
                  </a:lnTo>
                  <a:lnTo>
                    <a:pt x="1542" y="771"/>
                  </a:lnTo>
                  <a:close/>
                  <a:moveTo>
                    <a:pt x="1500" y="771"/>
                  </a:moveTo>
                  <a:lnTo>
                    <a:pt x="1499" y="807"/>
                  </a:lnTo>
                  <a:lnTo>
                    <a:pt x="1497" y="845"/>
                  </a:lnTo>
                  <a:lnTo>
                    <a:pt x="1492" y="882"/>
                  </a:lnTo>
                  <a:lnTo>
                    <a:pt x="1486" y="918"/>
                  </a:lnTo>
                  <a:lnTo>
                    <a:pt x="1477" y="952"/>
                  </a:lnTo>
                  <a:lnTo>
                    <a:pt x="1468" y="987"/>
                  </a:lnTo>
                  <a:lnTo>
                    <a:pt x="1456" y="1021"/>
                  </a:lnTo>
                  <a:lnTo>
                    <a:pt x="1443" y="1054"/>
                  </a:lnTo>
                  <a:lnTo>
                    <a:pt x="1429" y="1086"/>
                  </a:lnTo>
                  <a:lnTo>
                    <a:pt x="1412" y="1117"/>
                  </a:lnTo>
                  <a:lnTo>
                    <a:pt x="1395" y="1149"/>
                  </a:lnTo>
                  <a:lnTo>
                    <a:pt x="1376" y="1178"/>
                  </a:lnTo>
                  <a:lnTo>
                    <a:pt x="1355" y="1207"/>
                  </a:lnTo>
                  <a:lnTo>
                    <a:pt x="1334" y="1234"/>
                  </a:lnTo>
                  <a:lnTo>
                    <a:pt x="1311" y="1261"/>
                  </a:lnTo>
                  <a:lnTo>
                    <a:pt x="1287" y="1286"/>
                  </a:lnTo>
                  <a:lnTo>
                    <a:pt x="1261" y="1310"/>
                  </a:lnTo>
                  <a:lnTo>
                    <a:pt x="1235" y="1333"/>
                  </a:lnTo>
                  <a:lnTo>
                    <a:pt x="1207" y="1355"/>
                  </a:lnTo>
                  <a:lnTo>
                    <a:pt x="1179" y="1374"/>
                  </a:lnTo>
                  <a:lnTo>
                    <a:pt x="1149" y="1394"/>
                  </a:lnTo>
                  <a:lnTo>
                    <a:pt x="1119" y="1411"/>
                  </a:lnTo>
                  <a:lnTo>
                    <a:pt x="1087" y="1427"/>
                  </a:lnTo>
                  <a:lnTo>
                    <a:pt x="1055" y="1442"/>
                  </a:lnTo>
                  <a:lnTo>
                    <a:pt x="1021" y="1455"/>
                  </a:lnTo>
                  <a:lnTo>
                    <a:pt x="988" y="1466"/>
                  </a:lnTo>
                  <a:lnTo>
                    <a:pt x="953" y="1476"/>
                  </a:lnTo>
                  <a:lnTo>
                    <a:pt x="918" y="1485"/>
                  </a:lnTo>
                  <a:lnTo>
                    <a:pt x="882" y="1491"/>
                  </a:lnTo>
                  <a:lnTo>
                    <a:pt x="845" y="1495"/>
                  </a:lnTo>
                  <a:lnTo>
                    <a:pt x="808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89" y="1498"/>
                  </a:lnTo>
                  <a:lnTo>
                    <a:pt x="826" y="1495"/>
                  </a:lnTo>
                  <a:lnTo>
                    <a:pt x="864" y="1491"/>
                  </a:lnTo>
                  <a:lnTo>
                    <a:pt x="901" y="1484"/>
                  </a:lnTo>
                  <a:lnTo>
                    <a:pt x="938" y="1475"/>
                  </a:lnTo>
                  <a:lnTo>
                    <a:pt x="973" y="1466"/>
                  </a:lnTo>
                  <a:lnTo>
                    <a:pt x="1008" y="1454"/>
                  </a:lnTo>
                  <a:lnTo>
                    <a:pt x="1042" y="1440"/>
                  </a:lnTo>
                  <a:lnTo>
                    <a:pt x="1075" y="1425"/>
                  </a:lnTo>
                  <a:lnTo>
                    <a:pt x="1107" y="1408"/>
                  </a:lnTo>
                  <a:lnTo>
                    <a:pt x="1139" y="1390"/>
                  </a:lnTo>
                  <a:lnTo>
                    <a:pt x="1170" y="1371"/>
                  </a:lnTo>
                  <a:lnTo>
                    <a:pt x="1199" y="1350"/>
                  </a:lnTo>
                  <a:lnTo>
                    <a:pt x="1227" y="1327"/>
                  </a:lnTo>
                  <a:lnTo>
                    <a:pt x="1254" y="1305"/>
                  </a:lnTo>
                  <a:lnTo>
                    <a:pt x="1280" y="1280"/>
                  </a:lnTo>
                  <a:lnTo>
                    <a:pt x="1305" y="1253"/>
                  </a:lnTo>
                  <a:lnTo>
                    <a:pt x="1329" y="1226"/>
                  </a:lnTo>
                  <a:lnTo>
                    <a:pt x="1352" y="1198"/>
                  </a:lnTo>
                  <a:lnTo>
                    <a:pt x="1372" y="1169"/>
                  </a:lnTo>
                  <a:lnTo>
                    <a:pt x="1391" y="1138"/>
                  </a:lnTo>
                  <a:lnTo>
                    <a:pt x="1410" y="1107"/>
                  </a:lnTo>
                  <a:lnTo>
                    <a:pt x="1426" y="1075"/>
                  </a:lnTo>
                  <a:lnTo>
                    <a:pt x="1441" y="1041"/>
                  </a:lnTo>
                  <a:lnTo>
                    <a:pt x="1454" y="1007"/>
                  </a:lnTo>
                  <a:lnTo>
                    <a:pt x="1466" y="972"/>
                  </a:lnTo>
                  <a:lnTo>
                    <a:pt x="1477" y="937"/>
                  </a:lnTo>
                  <a:lnTo>
                    <a:pt x="1485" y="901"/>
                  </a:lnTo>
                  <a:lnTo>
                    <a:pt x="1492" y="863"/>
                  </a:lnTo>
                  <a:lnTo>
                    <a:pt x="1496" y="826"/>
                  </a:lnTo>
                  <a:lnTo>
                    <a:pt x="1500" y="787"/>
                  </a:lnTo>
                  <a:lnTo>
                    <a:pt x="1501" y="750"/>
                  </a:lnTo>
                  <a:close/>
                  <a:moveTo>
                    <a:pt x="1458" y="750"/>
                  </a:moveTo>
                  <a:lnTo>
                    <a:pt x="1457" y="785"/>
                  </a:lnTo>
                  <a:lnTo>
                    <a:pt x="1455" y="822"/>
                  </a:lnTo>
                  <a:lnTo>
                    <a:pt x="1450" y="858"/>
                  </a:lnTo>
                  <a:lnTo>
                    <a:pt x="1444" y="892"/>
                  </a:lnTo>
                  <a:lnTo>
                    <a:pt x="1436" y="927"/>
                  </a:lnTo>
                  <a:lnTo>
                    <a:pt x="1427" y="960"/>
                  </a:lnTo>
                  <a:lnTo>
                    <a:pt x="1415" y="993"/>
                  </a:lnTo>
                  <a:lnTo>
                    <a:pt x="1403" y="1025"/>
                  </a:lnTo>
                  <a:lnTo>
                    <a:pt x="1388" y="1056"/>
                  </a:lnTo>
                  <a:lnTo>
                    <a:pt x="1373" y="1087"/>
                  </a:lnTo>
                  <a:lnTo>
                    <a:pt x="1356" y="1117"/>
                  </a:lnTo>
                  <a:lnTo>
                    <a:pt x="1337" y="1145"/>
                  </a:lnTo>
                  <a:lnTo>
                    <a:pt x="1318" y="1173"/>
                  </a:lnTo>
                  <a:lnTo>
                    <a:pt x="1296" y="1200"/>
                  </a:lnTo>
                  <a:lnTo>
                    <a:pt x="1275" y="1226"/>
                  </a:lnTo>
                  <a:lnTo>
                    <a:pt x="1251" y="1250"/>
                  </a:lnTo>
                  <a:lnTo>
                    <a:pt x="1226" y="1273"/>
                  </a:lnTo>
                  <a:lnTo>
                    <a:pt x="1200" y="1296"/>
                  </a:lnTo>
                  <a:lnTo>
                    <a:pt x="1174" y="1317"/>
                  </a:lnTo>
                  <a:lnTo>
                    <a:pt x="1146" y="1336"/>
                  </a:lnTo>
                  <a:lnTo>
                    <a:pt x="1117" y="1354"/>
                  </a:lnTo>
                  <a:lnTo>
                    <a:pt x="1088" y="1372"/>
                  </a:lnTo>
                  <a:lnTo>
                    <a:pt x="1058" y="1388"/>
                  </a:lnTo>
                  <a:lnTo>
                    <a:pt x="1026" y="1402"/>
                  </a:lnTo>
                  <a:lnTo>
                    <a:pt x="994" y="1415"/>
                  </a:lnTo>
                  <a:lnTo>
                    <a:pt x="960" y="1426"/>
                  </a:lnTo>
                  <a:lnTo>
                    <a:pt x="927" y="1435"/>
                  </a:lnTo>
                  <a:lnTo>
                    <a:pt x="893" y="1443"/>
                  </a:lnTo>
                  <a:lnTo>
                    <a:pt x="858" y="1450"/>
                  </a:lnTo>
                  <a:lnTo>
                    <a:pt x="822" y="1454"/>
                  </a:lnTo>
                  <a:lnTo>
                    <a:pt x="786" y="1456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66" y="1457"/>
                  </a:lnTo>
                  <a:lnTo>
                    <a:pt x="803" y="1453"/>
                  </a:lnTo>
                  <a:lnTo>
                    <a:pt x="840" y="1449"/>
                  </a:lnTo>
                  <a:lnTo>
                    <a:pt x="876" y="1443"/>
                  </a:lnTo>
                  <a:lnTo>
                    <a:pt x="911" y="1434"/>
                  </a:lnTo>
                  <a:lnTo>
                    <a:pt x="946" y="1424"/>
                  </a:lnTo>
                  <a:lnTo>
                    <a:pt x="979" y="1413"/>
                  </a:lnTo>
                  <a:lnTo>
                    <a:pt x="1013" y="1400"/>
                  </a:lnTo>
                  <a:lnTo>
                    <a:pt x="1045" y="1385"/>
                  </a:lnTo>
                  <a:lnTo>
                    <a:pt x="1077" y="1369"/>
                  </a:lnTo>
                  <a:lnTo>
                    <a:pt x="1107" y="1352"/>
                  </a:lnTo>
                  <a:lnTo>
                    <a:pt x="1137" y="1332"/>
                  </a:lnTo>
                  <a:lnTo>
                    <a:pt x="1165" y="1313"/>
                  </a:lnTo>
                  <a:lnTo>
                    <a:pt x="1193" y="1291"/>
                  </a:lnTo>
                  <a:lnTo>
                    <a:pt x="1219" y="1268"/>
                  </a:lnTo>
                  <a:lnTo>
                    <a:pt x="1245" y="1244"/>
                  </a:lnTo>
                  <a:lnTo>
                    <a:pt x="1269" y="1219"/>
                  </a:lnTo>
                  <a:lnTo>
                    <a:pt x="1292" y="1192"/>
                  </a:lnTo>
                  <a:lnTo>
                    <a:pt x="1313" y="1165"/>
                  </a:lnTo>
                  <a:lnTo>
                    <a:pt x="1334" y="1136"/>
                  </a:lnTo>
                  <a:lnTo>
                    <a:pt x="1353" y="1107"/>
                  </a:lnTo>
                  <a:lnTo>
                    <a:pt x="1370" y="1075"/>
                  </a:lnTo>
                  <a:lnTo>
                    <a:pt x="1387" y="1044"/>
                  </a:lnTo>
                  <a:lnTo>
                    <a:pt x="1401" y="1012"/>
                  </a:lnTo>
                  <a:lnTo>
                    <a:pt x="1414" y="979"/>
                  </a:lnTo>
                  <a:lnTo>
                    <a:pt x="1426" y="945"/>
                  </a:lnTo>
                  <a:lnTo>
                    <a:pt x="1435" y="910"/>
                  </a:lnTo>
                  <a:lnTo>
                    <a:pt x="1444" y="876"/>
                  </a:lnTo>
                  <a:lnTo>
                    <a:pt x="1450" y="840"/>
                  </a:lnTo>
                  <a:lnTo>
                    <a:pt x="1455" y="803"/>
                  </a:lnTo>
                  <a:lnTo>
                    <a:pt x="1457" y="765"/>
                  </a:lnTo>
                  <a:lnTo>
                    <a:pt x="1458" y="729"/>
                  </a:lnTo>
                  <a:close/>
                  <a:moveTo>
                    <a:pt x="1417" y="729"/>
                  </a:moveTo>
                  <a:lnTo>
                    <a:pt x="1416" y="764"/>
                  </a:lnTo>
                  <a:lnTo>
                    <a:pt x="1413" y="799"/>
                  </a:lnTo>
                  <a:lnTo>
                    <a:pt x="1408" y="833"/>
                  </a:lnTo>
                  <a:lnTo>
                    <a:pt x="1403" y="867"/>
                  </a:lnTo>
                  <a:lnTo>
                    <a:pt x="1395" y="900"/>
                  </a:lnTo>
                  <a:lnTo>
                    <a:pt x="1386" y="933"/>
                  </a:lnTo>
                  <a:lnTo>
                    <a:pt x="1375" y="965"/>
                  </a:lnTo>
                  <a:lnTo>
                    <a:pt x="1363" y="995"/>
                  </a:lnTo>
                  <a:lnTo>
                    <a:pt x="1349" y="1027"/>
                  </a:lnTo>
                  <a:lnTo>
                    <a:pt x="1334" y="1056"/>
                  </a:lnTo>
                  <a:lnTo>
                    <a:pt x="1318" y="1085"/>
                  </a:lnTo>
                  <a:lnTo>
                    <a:pt x="1299" y="1113"/>
                  </a:lnTo>
                  <a:lnTo>
                    <a:pt x="1280" y="1139"/>
                  </a:lnTo>
                  <a:lnTo>
                    <a:pt x="1259" y="1166"/>
                  </a:lnTo>
                  <a:lnTo>
                    <a:pt x="1238" y="1191"/>
                  </a:lnTo>
                  <a:lnTo>
                    <a:pt x="1215" y="1215"/>
                  </a:lnTo>
                  <a:lnTo>
                    <a:pt x="1191" y="1237"/>
                  </a:lnTo>
                  <a:lnTo>
                    <a:pt x="1166" y="1259"/>
                  </a:lnTo>
                  <a:lnTo>
                    <a:pt x="1140" y="1279"/>
                  </a:lnTo>
                  <a:lnTo>
                    <a:pt x="1113" y="1298"/>
                  </a:lnTo>
                  <a:lnTo>
                    <a:pt x="1085" y="1316"/>
                  </a:lnTo>
                  <a:lnTo>
                    <a:pt x="1057" y="1332"/>
                  </a:lnTo>
                  <a:lnTo>
                    <a:pt x="1027" y="1348"/>
                  </a:lnTo>
                  <a:lnTo>
                    <a:pt x="997" y="1362"/>
                  </a:lnTo>
                  <a:lnTo>
                    <a:pt x="965" y="1373"/>
                  </a:lnTo>
                  <a:lnTo>
                    <a:pt x="934" y="1384"/>
                  </a:lnTo>
                  <a:lnTo>
                    <a:pt x="900" y="1394"/>
                  </a:lnTo>
                  <a:lnTo>
                    <a:pt x="868" y="1402"/>
                  </a:lnTo>
                  <a:lnTo>
                    <a:pt x="833" y="1408"/>
                  </a:lnTo>
                  <a:lnTo>
                    <a:pt x="800" y="1412"/>
                  </a:lnTo>
                  <a:lnTo>
                    <a:pt x="764" y="1414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44" y="1415"/>
                  </a:lnTo>
                  <a:lnTo>
                    <a:pt x="780" y="1413"/>
                  </a:lnTo>
                  <a:lnTo>
                    <a:pt x="816" y="1409"/>
                  </a:lnTo>
                  <a:lnTo>
                    <a:pt x="851" y="1402"/>
                  </a:lnTo>
                  <a:lnTo>
                    <a:pt x="885" y="1394"/>
                  </a:lnTo>
                  <a:lnTo>
                    <a:pt x="918" y="1385"/>
                  </a:lnTo>
                  <a:lnTo>
                    <a:pt x="952" y="1374"/>
                  </a:lnTo>
                  <a:lnTo>
                    <a:pt x="984" y="1361"/>
                  </a:lnTo>
                  <a:lnTo>
                    <a:pt x="1016" y="1347"/>
                  </a:lnTo>
                  <a:lnTo>
                    <a:pt x="1046" y="1331"/>
                  </a:lnTo>
                  <a:lnTo>
                    <a:pt x="1075" y="1313"/>
                  </a:lnTo>
                  <a:lnTo>
                    <a:pt x="1104" y="1295"/>
                  </a:lnTo>
                  <a:lnTo>
                    <a:pt x="1132" y="1276"/>
                  </a:lnTo>
                  <a:lnTo>
                    <a:pt x="1158" y="1255"/>
                  </a:lnTo>
                  <a:lnTo>
                    <a:pt x="1184" y="1232"/>
                  </a:lnTo>
                  <a:lnTo>
                    <a:pt x="1209" y="1209"/>
                  </a:lnTo>
                  <a:lnTo>
                    <a:pt x="1233" y="1185"/>
                  </a:lnTo>
                  <a:lnTo>
                    <a:pt x="1254" y="1159"/>
                  </a:lnTo>
                  <a:lnTo>
                    <a:pt x="1276" y="1132"/>
                  </a:lnTo>
                  <a:lnTo>
                    <a:pt x="1295" y="1104"/>
                  </a:lnTo>
                  <a:lnTo>
                    <a:pt x="1314" y="1076"/>
                  </a:lnTo>
                  <a:lnTo>
                    <a:pt x="1331" y="1046"/>
                  </a:lnTo>
                  <a:lnTo>
                    <a:pt x="1346" y="1015"/>
                  </a:lnTo>
                  <a:lnTo>
                    <a:pt x="1361" y="984"/>
                  </a:lnTo>
                  <a:lnTo>
                    <a:pt x="1373" y="952"/>
                  </a:lnTo>
                  <a:lnTo>
                    <a:pt x="1385" y="919"/>
                  </a:lnTo>
                  <a:lnTo>
                    <a:pt x="1394" y="886"/>
                  </a:lnTo>
                  <a:lnTo>
                    <a:pt x="1402" y="851"/>
                  </a:lnTo>
                  <a:lnTo>
                    <a:pt x="1408" y="817"/>
                  </a:lnTo>
                  <a:lnTo>
                    <a:pt x="1413" y="781"/>
                  </a:lnTo>
                  <a:lnTo>
                    <a:pt x="1415" y="744"/>
                  </a:lnTo>
                  <a:lnTo>
                    <a:pt x="1416" y="709"/>
                  </a:lnTo>
                  <a:close/>
                  <a:moveTo>
                    <a:pt x="1374" y="709"/>
                  </a:moveTo>
                  <a:lnTo>
                    <a:pt x="1374" y="743"/>
                  </a:lnTo>
                  <a:lnTo>
                    <a:pt x="1371" y="777"/>
                  </a:lnTo>
                  <a:lnTo>
                    <a:pt x="1367" y="810"/>
                  </a:lnTo>
                  <a:lnTo>
                    <a:pt x="1361" y="843"/>
                  </a:lnTo>
                  <a:lnTo>
                    <a:pt x="1354" y="875"/>
                  </a:lnTo>
                  <a:lnTo>
                    <a:pt x="1345" y="906"/>
                  </a:lnTo>
                  <a:lnTo>
                    <a:pt x="1334" y="938"/>
                  </a:lnTo>
                  <a:lnTo>
                    <a:pt x="1322" y="968"/>
                  </a:lnTo>
                  <a:lnTo>
                    <a:pt x="1310" y="997"/>
                  </a:lnTo>
                  <a:lnTo>
                    <a:pt x="1294" y="1026"/>
                  </a:lnTo>
                  <a:lnTo>
                    <a:pt x="1278" y="1054"/>
                  </a:lnTo>
                  <a:lnTo>
                    <a:pt x="1261" y="1081"/>
                  </a:lnTo>
                  <a:lnTo>
                    <a:pt x="1243" y="1107"/>
                  </a:lnTo>
                  <a:lnTo>
                    <a:pt x="1223" y="1132"/>
                  </a:lnTo>
                  <a:lnTo>
                    <a:pt x="1201" y="1157"/>
                  </a:lnTo>
                  <a:lnTo>
                    <a:pt x="1180" y="1180"/>
                  </a:lnTo>
                  <a:lnTo>
                    <a:pt x="1156" y="1201"/>
                  </a:lnTo>
                  <a:lnTo>
                    <a:pt x="1132" y="1223"/>
                  </a:lnTo>
                  <a:lnTo>
                    <a:pt x="1107" y="1242"/>
                  </a:lnTo>
                  <a:lnTo>
                    <a:pt x="1080" y="1261"/>
                  </a:lnTo>
                  <a:lnTo>
                    <a:pt x="1053" y="1278"/>
                  </a:lnTo>
                  <a:lnTo>
                    <a:pt x="1026" y="1294"/>
                  </a:lnTo>
                  <a:lnTo>
                    <a:pt x="997" y="1309"/>
                  </a:lnTo>
                  <a:lnTo>
                    <a:pt x="968" y="1322"/>
                  </a:lnTo>
                  <a:lnTo>
                    <a:pt x="938" y="1334"/>
                  </a:lnTo>
                  <a:lnTo>
                    <a:pt x="906" y="1345"/>
                  </a:lnTo>
                  <a:lnTo>
                    <a:pt x="875" y="1353"/>
                  </a:lnTo>
                  <a:lnTo>
                    <a:pt x="843" y="1361"/>
                  </a:lnTo>
                  <a:lnTo>
                    <a:pt x="809" y="1367"/>
                  </a:lnTo>
                  <a:lnTo>
                    <a:pt x="777" y="1372"/>
                  </a:lnTo>
                  <a:lnTo>
                    <a:pt x="742" y="1374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23" y="1373"/>
                  </a:lnTo>
                  <a:lnTo>
                    <a:pt x="759" y="1371"/>
                  </a:lnTo>
                  <a:lnTo>
                    <a:pt x="792" y="1367"/>
                  </a:lnTo>
                  <a:lnTo>
                    <a:pt x="827" y="1361"/>
                  </a:lnTo>
                  <a:lnTo>
                    <a:pt x="859" y="1353"/>
                  </a:lnTo>
                  <a:lnTo>
                    <a:pt x="893" y="1343"/>
                  </a:lnTo>
                  <a:lnTo>
                    <a:pt x="924" y="1332"/>
                  </a:lnTo>
                  <a:lnTo>
                    <a:pt x="956" y="1321"/>
                  </a:lnTo>
                  <a:lnTo>
                    <a:pt x="986" y="1307"/>
                  </a:lnTo>
                  <a:lnTo>
                    <a:pt x="1016" y="1291"/>
                  </a:lnTo>
                  <a:lnTo>
                    <a:pt x="1044" y="1275"/>
                  </a:lnTo>
                  <a:lnTo>
                    <a:pt x="1072" y="1257"/>
                  </a:lnTo>
                  <a:lnTo>
                    <a:pt x="1099" y="1238"/>
                  </a:lnTo>
                  <a:lnTo>
                    <a:pt x="1125" y="1218"/>
                  </a:lnTo>
                  <a:lnTo>
                    <a:pt x="1150" y="1196"/>
                  </a:lnTo>
                  <a:lnTo>
                    <a:pt x="1174" y="1174"/>
                  </a:lnTo>
                  <a:lnTo>
                    <a:pt x="1197" y="1150"/>
                  </a:lnTo>
                  <a:lnTo>
                    <a:pt x="1218" y="1125"/>
                  </a:lnTo>
                  <a:lnTo>
                    <a:pt x="1239" y="1098"/>
                  </a:lnTo>
                  <a:lnTo>
                    <a:pt x="1258" y="1072"/>
                  </a:lnTo>
                  <a:lnTo>
                    <a:pt x="1277" y="1044"/>
                  </a:lnTo>
                  <a:lnTo>
                    <a:pt x="1293" y="1015"/>
                  </a:lnTo>
                  <a:lnTo>
                    <a:pt x="1308" y="986"/>
                  </a:lnTo>
                  <a:lnTo>
                    <a:pt x="1322" y="954"/>
                  </a:lnTo>
                  <a:lnTo>
                    <a:pt x="1334" y="924"/>
                  </a:lnTo>
                  <a:lnTo>
                    <a:pt x="1345" y="892"/>
                  </a:lnTo>
                  <a:lnTo>
                    <a:pt x="1354" y="859"/>
                  </a:lnTo>
                  <a:lnTo>
                    <a:pt x="1362" y="826"/>
                  </a:lnTo>
                  <a:lnTo>
                    <a:pt x="1367" y="792"/>
                  </a:lnTo>
                  <a:lnTo>
                    <a:pt x="1372" y="758"/>
                  </a:lnTo>
                  <a:lnTo>
                    <a:pt x="1375" y="723"/>
                  </a:lnTo>
                  <a:lnTo>
                    <a:pt x="1376" y="688"/>
                  </a:lnTo>
                  <a:close/>
                  <a:moveTo>
                    <a:pt x="1334" y="688"/>
                  </a:moveTo>
                  <a:lnTo>
                    <a:pt x="1333" y="721"/>
                  </a:lnTo>
                  <a:lnTo>
                    <a:pt x="1331" y="754"/>
                  </a:lnTo>
                  <a:lnTo>
                    <a:pt x="1326" y="786"/>
                  </a:lnTo>
                  <a:lnTo>
                    <a:pt x="1321" y="817"/>
                  </a:lnTo>
                  <a:lnTo>
                    <a:pt x="1313" y="849"/>
                  </a:lnTo>
                  <a:lnTo>
                    <a:pt x="1305" y="880"/>
                  </a:lnTo>
                  <a:lnTo>
                    <a:pt x="1295" y="909"/>
                  </a:lnTo>
                  <a:lnTo>
                    <a:pt x="1283" y="938"/>
                  </a:lnTo>
                  <a:lnTo>
                    <a:pt x="1270" y="967"/>
                  </a:lnTo>
                  <a:lnTo>
                    <a:pt x="1256" y="995"/>
                  </a:lnTo>
                  <a:lnTo>
                    <a:pt x="1241" y="1022"/>
                  </a:lnTo>
                  <a:lnTo>
                    <a:pt x="1224" y="1048"/>
                  </a:lnTo>
                  <a:lnTo>
                    <a:pt x="1205" y="1073"/>
                  </a:lnTo>
                  <a:lnTo>
                    <a:pt x="1187" y="1098"/>
                  </a:lnTo>
                  <a:lnTo>
                    <a:pt x="1166" y="1122"/>
                  </a:lnTo>
                  <a:lnTo>
                    <a:pt x="1145" y="1143"/>
                  </a:lnTo>
                  <a:lnTo>
                    <a:pt x="1122" y="1165"/>
                  </a:lnTo>
                  <a:lnTo>
                    <a:pt x="1099" y="1186"/>
                  </a:lnTo>
                  <a:lnTo>
                    <a:pt x="1074" y="1205"/>
                  </a:lnTo>
                  <a:lnTo>
                    <a:pt x="1050" y="1222"/>
                  </a:lnTo>
                  <a:lnTo>
                    <a:pt x="1023" y="1240"/>
                  </a:lnTo>
                  <a:lnTo>
                    <a:pt x="996" y="1255"/>
                  </a:lnTo>
                  <a:lnTo>
                    <a:pt x="969" y="1270"/>
                  </a:lnTo>
                  <a:lnTo>
                    <a:pt x="939" y="1283"/>
                  </a:lnTo>
                  <a:lnTo>
                    <a:pt x="910" y="1294"/>
                  </a:lnTo>
                  <a:lnTo>
                    <a:pt x="880" y="1304"/>
                  </a:lnTo>
                  <a:lnTo>
                    <a:pt x="850" y="1313"/>
                  </a:lnTo>
                  <a:lnTo>
                    <a:pt x="818" y="1319"/>
                  </a:lnTo>
                  <a:lnTo>
                    <a:pt x="786" y="1326"/>
                  </a:lnTo>
                  <a:lnTo>
                    <a:pt x="755" y="1329"/>
                  </a:lnTo>
                  <a:lnTo>
                    <a:pt x="721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701" y="1332"/>
                  </a:lnTo>
                  <a:lnTo>
                    <a:pt x="736" y="1330"/>
                  </a:lnTo>
                  <a:lnTo>
                    <a:pt x="768" y="1325"/>
                  </a:lnTo>
                  <a:lnTo>
                    <a:pt x="802" y="1319"/>
                  </a:lnTo>
                  <a:lnTo>
                    <a:pt x="834" y="1311"/>
                  </a:lnTo>
                  <a:lnTo>
                    <a:pt x="865" y="1303"/>
                  </a:lnTo>
                  <a:lnTo>
                    <a:pt x="897" y="1292"/>
                  </a:lnTo>
                  <a:lnTo>
                    <a:pt x="927" y="1280"/>
                  </a:lnTo>
                  <a:lnTo>
                    <a:pt x="956" y="1267"/>
                  </a:lnTo>
                  <a:lnTo>
                    <a:pt x="985" y="1252"/>
                  </a:lnTo>
                  <a:lnTo>
                    <a:pt x="1012" y="1236"/>
                  </a:lnTo>
                  <a:lnTo>
                    <a:pt x="1039" y="1219"/>
                  </a:lnTo>
                  <a:lnTo>
                    <a:pt x="1066" y="1200"/>
                  </a:lnTo>
                  <a:lnTo>
                    <a:pt x="1091" y="1181"/>
                  </a:lnTo>
                  <a:lnTo>
                    <a:pt x="1115" y="1159"/>
                  </a:lnTo>
                  <a:lnTo>
                    <a:pt x="1139" y="1138"/>
                  </a:lnTo>
                  <a:lnTo>
                    <a:pt x="1160" y="1115"/>
                  </a:lnTo>
                  <a:lnTo>
                    <a:pt x="1182" y="1090"/>
                  </a:lnTo>
                  <a:lnTo>
                    <a:pt x="1202" y="1065"/>
                  </a:lnTo>
                  <a:lnTo>
                    <a:pt x="1220" y="1039"/>
                  </a:lnTo>
                  <a:lnTo>
                    <a:pt x="1237" y="1012"/>
                  </a:lnTo>
                  <a:lnTo>
                    <a:pt x="1253" y="984"/>
                  </a:lnTo>
                  <a:lnTo>
                    <a:pt x="1269" y="955"/>
                  </a:lnTo>
                  <a:lnTo>
                    <a:pt x="1281" y="926"/>
                  </a:lnTo>
                  <a:lnTo>
                    <a:pt x="1293" y="896"/>
                  </a:lnTo>
                  <a:lnTo>
                    <a:pt x="1304" y="864"/>
                  </a:lnTo>
                  <a:lnTo>
                    <a:pt x="1313" y="833"/>
                  </a:lnTo>
                  <a:lnTo>
                    <a:pt x="1320" y="801"/>
                  </a:lnTo>
                  <a:lnTo>
                    <a:pt x="1326" y="768"/>
                  </a:lnTo>
                  <a:lnTo>
                    <a:pt x="1330" y="735"/>
                  </a:lnTo>
                  <a:lnTo>
                    <a:pt x="1333" y="701"/>
                  </a:lnTo>
                  <a:lnTo>
                    <a:pt x="1333" y="667"/>
                  </a:lnTo>
                  <a:close/>
                  <a:moveTo>
                    <a:pt x="1292" y="667"/>
                  </a:moveTo>
                  <a:lnTo>
                    <a:pt x="1291" y="699"/>
                  </a:lnTo>
                  <a:lnTo>
                    <a:pt x="1289" y="730"/>
                  </a:lnTo>
                  <a:lnTo>
                    <a:pt x="1285" y="762"/>
                  </a:lnTo>
                  <a:lnTo>
                    <a:pt x="1279" y="792"/>
                  </a:lnTo>
                  <a:lnTo>
                    <a:pt x="1273" y="822"/>
                  </a:lnTo>
                  <a:lnTo>
                    <a:pt x="1264" y="852"/>
                  </a:lnTo>
                  <a:lnTo>
                    <a:pt x="1254" y="882"/>
                  </a:lnTo>
                  <a:lnTo>
                    <a:pt x="1243" y="910"/>
                  </a:lnTo>
                  <a:lnTo>
                    <a:pt x="1231" y="938"/>
                  </a:lnTo>
                  <a:lnTo>
                    <a:pt x="1217" y="964"/>
                  </a:lnTo>
                  <a:lnTo>
                    <a:pt x="1202" y="991"/>
                  </a:lnTo>
                  <a:lnTo>
                    <a:pt x="1185" y="1016"/>
                  </a:lnTo>
                  <a:lnTo>
                    <a:pt x="1168" y="1040"/>
                  </a:lnTo>
                  <a:lnTo>
                    <a:pt x="1150" y="1064"/>
                  </a:lnTo>
                  <a:lnTo>
                    <a:pt x="1130" y="1087"/>
                  </a:lnTo>
                  <a:lnTo>
                    <a:pt x="1109" y="1108"/>
                  </a:lnTo>
                  <a:lnTo>
                    <a:pt x="1087" y="1129"/>
                  </a:lnTo>
                  <a:lnTo>
                    <a:pt x="1064" y="1148"/>
                  </a:lnTo>
                  <a:lnTo>
                    <a:pt x="1042" y="1167"/>
                  </a:lnTo>
                  <a:lnTo>
                    <a:pt x="1017" y="1184"/>
                  </a:lnTo>
                  <a:lnTo>
                    <a:pt x="991" y="1200"/>
                  </a:lnTo>
                  <a:lnTo>
                    <a:pt x="965" y="1215"/>
                  </a:lnTo>
                  <a:lnTo>
                    <a:pt x="938" y="1229"/>
                  </a:lnTo>
                  <a:lnTo>
                    <a:pt x="911" y="1242"/>
                  </a:lnTo>
                  <a:lnTo>
                    <a:pt x="882" y="1253"/>
                  </a:lnTo>
                  <a:lnTo>
                    <a:pt x="852" y="1263"/>
                  </a:lnTo>
                  <a:lnTo>
                    <a:pt x="823" y="1271"/>
                  </a:lnTo>
                  <a:lnTo>
                    <a:pt x="793" y="1278"/>
                  </a:lnTo>
                  <a:lnTo>
                    <a:pt x="763" y="1284"/>
                  </a:lnTo>
                  <a:lnTo>
                    <a:pt x="731" y="1288"/>
                  </a:lnTo>
                  <a:lnTo>
                    <a:pt x="699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78" y="1290"/>
                  </a:lnTo>
                  <a:lnTo>
                    <a:pt x="712" y="1287"/>
                  </a:lnTo>
                  <a:lnTo>
                    <a:pt x="743" y="1284"/>
                  </a:lnTo>
                  <a:lnTo>
                    <a:pt x="775" y="1277"/>
                  </a:lnTo>
                  <a:lnTo>
                    <a:pt x="807" y="1271"/>
                  </a:lnTo>
                  <a:lnTo>
                    <a:pt x="837" y="1262"/>
                  </a:lnTo>
                  <a:lnTo>
                    <a:pt x="867" y="1252"/>
                  </a:lnTo>
                  <a:lnTo>
                    <a:pt x="896" y="1241"/>
                  </a:lnTo>
                  <a:lnTo>
                    <a:pt x="926" y="1228"/>
                  </a:lnTo>
                  <a:lnTo>
                    <a:pt x="953" y="1213"/>
                  </a:lnTo>
                  <a:lnTo>
                    <a:pt x="980" y="1198"/>
                  </a:lnTo>
                  <a:lnTo>
                    <a:pt x="1007" y="1180"/>
                  </a:lnTo>
                  <a:lnTo>
                    <a:pt x="1031" y="1163"/>
                  </a:lnTo>
                  <a:lnTo>
                    <a:pt x="1056" y="1144"/>
                  </a:lnTo>
                  <a:lnTo>
                    <a:pt x="1079" y="1123"/>
                  </a:lnTo>
                  <a:lnTo>
                    <a:pt x="1102" y="1101"/>
                  </a:lnTo>
                  <a:lnTo>
                    <a:pt x="1123" y="1080"/>
                  </a:lnTo>
                  <a:lnTo>
                    <a:pt x="1144" y="1056"/>
                  </a:lnTo>
                  <a:lnTo>
                    <a:pt x="1162" y="1031"/>
                  </a:lnTo>
                  <a:lnTo>
                    <a:pt x="1181" y="1006"/>
                  </a:lnTo>
                  <a:lnTo>
                    <a:pt x="1198" y="980"/>
                  </a:lnTo>
                  <a:lnTo>
                    <a:pt x="1213" y="953"/>
                  </a:lnTo>
                  <a:lnTo>
                    <a:pt x="1227" y="925"/>
                  </a:lnTo>
                  <a:lnTo>
                    <a:pt x="1240" y="896"/>
                  </a:lnTo>
                  <a:lnTo>
                    <a:pt x="1252" y="867"/>
                  </a:lnTo>
                  <a:lnTo>
                    <a:pt x="1262" y="838"/>
                  </a:lnTo>
                  <a:lnTo>
                    <a:pt x="1270" y="807"/>
                  </a:lnTo>
                  <a:lnTo>
                    <a:pt x="1278" y="775"/>
                  </a:lnTo>
                  <a:lnTo>
                    <a:pt x="1283" y="744"/>
                  </a:lnTo>
                  <a:lnTo>
                    <a:pt x="1288" y="712"/>
                  </a:lnTo>
                  <a:lnTo>
                    <a:pt x="1290" y="679"/>
                  </a:lnTo>
                  <a:lnTo>
                    <a:pt x="1291" y="646"/>
                  </a:lnTo>
                  <a:close/>
                  <a:moveTo>
                    <a:pt x="1250" y="646"/>
                  </a:moveTo>
                  <a:lnTo>
                    <a:pt x="1249" y="677"/>
                  </a:lnTo>
                  <a:lnTo>
                    <a:pt x="1247" y="707"/>
                  </a:lnTo>
                  <a:lnTo>
                    <a:pt x="1242" y="737"/>
                  </a:lnTo>
                  <a:lnTo>
                    <a:pt x="1237" y="767"/>
                  </a:lnTo>
                  <a:lnTo>
                    <a:pt x="1230" y="796"/>
                  </a:lnTo>
                  <a:lnTo>
                    <a:pt x="1222" y="825"/>
                  </a:lnTo>
                  <a:lnTo>
                    <a:pt x="1213" y="853"/>
                  </a:lnTo>
                  <a:lnTo>
                    <a:pt x="1202" y="880"/>
                  </a:lnTo>
                  <a:lnTo>
                    <a:pt x="1189" y="907"/>
                  </a:lnTo>
                  <a:lnTo>
                    <a:pt x="1176" y="933"/>
                  </a:lnTo>
                  <a:lnTo>
                    <a:pt x="1162" y="959"/>
                  </a:lnTo>
                  <a:lnTo>
                    <a:pt x="1146" y="983"/>
                  </a:lnTo>
                  <a:lnTo>
                    <a:pt x="1130" y="1006"/>
                  </a:lnTo>
                  <a:lnTo>
                    <a:pt x="1111" y="1029"/>
                  </a:lnTo>
                  <a:lnTo>
                    <a:pt x="1092" y="1052"/>
                  </a:lnTo>
                  <a:lnTo>
                    <a:pt x="1073" y="1072"/>
                  </a:lnTo>
                  <a:lnTo>
                    <a:pt x="1051" y="1093"/>
                  </a:lnTo>
                  <a:lnTo>
                    <a:pt x="1029" y="1111"/>
                  </a:lnTo>
                  <a:lnTo>
                    <a:pt x="1007" y="1130"/>
                  </a:lnTo>
                  <a:lnTo>
                    <a:pt x="983" y="1146"/>
                  </a:lnTo>
                  <a:lnTo>
                    <a:pt x="958" y="1162"/>
                  </a:lnTo>
                  <a:lnTo>
                    <a:pt x="933" y="1176"/>
                  </a:lnTo>
                  <a:lnTo>
                    <a:pt x="907" y="1190"/>
                  </a:lnTo>
                  <a:lnTo>
                    <a:pt x="880" y="1202"/>
                  </a:lnTo>
                  <a:lnTo>
                    <a:pt x="853" y="1213"/>
                  </a:lnTo>
                  <a:lnTo>
                    <a:pt x="825" y="1222"/>
                  </a:lnTo>
                  <a:lnTo>
                    <a:pt x="796" y="1230"/>
                  </a:lnTo>
                  <a:lnTo>
                    <a:pt x="767" y="1238"/>
                  </a:lnTo>
                  <a:lnTo>
                    <a:pt x="738" y="1242"/>
                  </a:lnTo>
                  <a:lnTo>
                    <a:pt x="707" y="1246"/>
                  </a:lnTo>
                  <a:lnTo>
                    <a:pt x="676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57" y="1249"/>
                  </a:lnTo>
                  <a:lnTo>
                    <a:pt x="689" y="1247"/>
                  </a:lnTo>
                  <a:lnTo>
                    <a:pt x="721" y="1243"/>
                  </a:lnTo>
                  <a:lnTo>
                    <a:pt x="751" y="1237"/>
                  </a:lnTo>
                  <a:lnTo>
                    <a:pt x="781" y="1230"/>
                  </a:lnTo>
                  <a:lnTo>
                    <a:pt x="810" y="1222"/>
                  </a:lnTo>
                  <a:lnTo>
                    <a:pt x="840" y="1212"/>
                  </a:lnTo>
                  <a:lnTo>
                    <a:pt x="869" y="1201"/>
                  </a:lnTo>
                  <a:lnTo>
                    <a:pt x="896" y="1188"/>
                  </a:lnTo>
                  <a:lnTo>
                    <a:pt x="923" y="1174"/>
                  </a:lnTo>
                  <a:lnTo>
                    <a:pt x="949" y="1159"/>
                  </a:lnTo>
                  <a:lnTo>
                    <a:pt x="975" y="1143"/>
                  </a:lnTo>
                  <a:lnTo>
                    <a:pt x="1000" y="1126"/>
                  </a:lnTo>
                  <a:lnTo>
                    <a:pt x="1022" y="1107"/>
                  </a:lnTo>
                  <a:lnTo>
                    <a:pt x="1045" y="1088"/>
                  </a:lnTo>
                  <a:lnTo>
                    <a:pt x="1067" y="1067"/>
                  </a:lnTo>
                  <a:lnTo>
                    <a:pt x="1088" y="1046"/>
                  </a:lnTo>
                  <a:lnTo>
                    <a:pt x="1108" y="1023"/>
                  </a:lnTo>
                  <a:lnTo>
                    <a:pt x="1126" y="999"/>
                  </a:lnTo>
                  <a:lnTo>
                    <a:pt x="1143" y="975"/>
                  </a:lnTo>
                  <a:lnTo>
                    <a:pt x="1160" y="950"/>
                  </a:lnTo>
                  <a:lnTo>
                    <a:pt x="1175" y="923"/>
                  </a:lnTo>
                  <a:lnTo>
                    <a:pt x="1189" y="897"/>
                  </a:lnTo>
                  <a:lnTo>
                    <a:pt x="1201" y="869"/>
                  </a:lnTo>
                  <a:lnTo>
                    <a:pt x="1212" y="841"/>
                  </a:lnTo>
                  <a:lnTo>
                    <a:pt x="1222" y="811"/>
                  </a:lnTo>
                  <a:lnTo>
                    <a:pt x="1231" y="781"/>
                  </a:lnTo>
                  <a:lnTo>
                    <a:pt x="1237" y="751"/>
                  </a:lnTo>
                  <a:lnTo>
                    <a:pt x="1243" y="721"/>
                  </a:lnTo>
                  <a:lnTo>
                    <a:pt x="1247" y="689"/>
                  </a:lnTo>
                  <a:lnTo>
                    <a:pt x="1249" y="658"/>
                  </a:lnTo>
                  <a:lnTo>
                    <a:pt x="1250" y="626"/>
                  </a:lnTo>
                  <a:close/>
                  <a:moveTo>
                    <a:pt x="1208" y="626"/>
                  </a:moveTo>
                  <a:lnTo>
                    <a:pt x="1208" y="656"/>
                  </a:lnTo>
                  <a:lnTo>
                    <a:pt x="1206" y="685"/>
                  </a:lnTo>
                  <a:lnTo>
                    <a:pt x="1202" y="714"/>
                  </a:lnTo>
                  <a:lnTo>
                    <a:pt x="1196" y="743"/>
                  </a:lnTo>
                  <a:lnTo>
                    <a:pt x="1190" y="771"/>
                  </a:lnTo>
                  <a:lnTo>
                    <a:pt x="1182" y="798"/>
                  </a:lnTo>
                  <a:lnTo>
                    <a:pt x="1174" y="825"/>
                  </a:lnTo>
                  <a:lnTo>
                    <a:pt x="1163" y="852"/>
                  </a:lnTo>
                  <a:lnTo>
                    <a:pt x="1151" y="878"/>
                  </a:lnTo>
                  <a:lnTo>
                    <a:pt x="1138" y="903"/>
                  </a:lnTo>
                  <a:lnTo>
                    <a:pt x="1124" y="928"/>
                  </a:lnTo>
                  <a:lnTo>
                    <a:pt x="1109" y="952"/>
                  </a:lnTo>
                  <a:lnTo>
                    <a:pt x="1093" y="975"/>
                  </a:lnTo>
                  <a:lnTo>
                    <a:pt x="1075" y="996"/>
                  </a:lnTo>
                  <a:lnTo>
                    <a:pt x="1057" y="1018"/>
                  </a:lnTo>
                  <a:lnTo>
                    <a:pt x="1037" y="1038"/>
                  </a:lnTo>
                  <a:lnTo>
                    <a:pt x="1017" y="1057"/>
                  </a:lnTo>
                  <a:lnTo>
                    <a:pt x="996" y="1075"/>
                  </a:lnTo>
                  <a:lnTo>
                    <a:pt x="974" y="1092"/>
                  </a:lnTo>
                  <a:lnTo>
                    <a:pt x="951" y="1108"/>
                  </a:lnTo>
                  <a:lnTo>
                    <a:pt x="927" y="1124"/>
                  </a:lnTo>
                  <a:lnTo>
                    <a:pt x="903" y="1138"/>
                  </a:lnTo>
                  <a:lnTo>
                    <a:pt x="879" y="1151"/>
                  </a:lnTo>
                  <a:lnTo>
                    <a:pt x="853" y="1162"/>
                  </a:lnTo>
                  <a:lnTo>
                    <a:pt x="826" y="1173"/>
                  </a:lnTo>
                  <a:lnTo>
                    <a:pt x="799" y="1182"/>
                  </a:lnTo>
                  <a:lnTo>
                    <a:pt x="771" y="1191"/>
                  </a:lnTo>
                  <a:lnTo>
                    <a:pt x="742" y="1197"/>
                  </a:lnTo>
                  <a:lnTo>
                    <a:pt x="714" y="1201"/>
                  </a:lnTo>
                  <a:lnTo>
                    <a:pt x="685" y="1206"/>
                  </a:lnTo>
                  <a:lnTo>
                    <a:pt x="655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5" y="1206"/>
                  </a:lnTo>
                  <a:lnTo>
                    <a:pt x="666" y="1204"/>
                  </a:lnTo>
                  <a:lnTo>
                    <a:pt x="697" y="1200"/>
                  </a:lnTo>
                  <a:lnTo>
                    <a:pt x="726" y="1196"/>
                  </a:lnTo>
                  <a:lnTo>
                    <a:pt x="755" y="1188"/>
                  </a:lnTo>
                  <a:lnTo>
                    <a:pt x="784" y="1180"/>
                  </a:lnTo>
                  <a:lnTo>
                    <a:pt x="812" y="1171"/>
                  </a:lnTo>
                  <a:lnTo>
                    <a:pt x="839" y="1160"/>
                  </a:lnTo>
                  <a:lnTo>
                    <a:pt x="866" y="1148"/>
                  </a:lnTo>
                  <a:lnTo>
                    <a:pt x="892" y="1134"/>
                  </a:lnTo>
                  <a:lnTo>
                    <a:pt x="917" y="1120"/>
                  </a:lnTo>
                  <a:lnTo>
                    <a:pt x="942" y="1104"/>
                  </a:lnTo>
                  <a:lnTo>
                    <a:pt x="966" y="1088"/>
                  </a:lnTo>
                  <a:lnTo>
                    <a:pt x="988" y="1069"/>
                  </a:lnTo>
                  <a:lnTo>
                    <a:pt x="1010" y="1051"/>
                  </a:lnTo>
                  <a:lnTo>
                    <a:pt x="1032" y="1030"/>
                  </a:lnTo>
                  <a:lnTo>
                    <a:pt x="1051" y="1010"/>
                  </a:lnTo>
                  <a:lnTo>
                    <a:pt x="1070" y="987"/>
                  </a:lnTo>
                  <a:lnTo>
                    <a:pt x="1089" y="964"/>
                  </a:lnTo>
                  <a:lnTo>
                    <a:pt x="1105" y="941"/>
                  </a:lnTo>
                  <a:lnTo>
                    <a:pt x="1121" y="917"/>
                  </a:lnTo>
                  <a:lnTo>
                    <a:pt x="1135" y="891"/>
                  </a:lnTo>
                  <a:lnTo>
                    <a:pt x="1148" y="865"/>
                  </a:lnTo>
                  <a:lnTo>
                    <a:pt x="1161" y="838"/>
                  </a:lnTo>
                  <a:lnTo>
                    <a:pt x="1172" y="811"/>
                  </a:lnTo>
                  <a:lnTo>
                    <a:pt x="1181" y="783"/>
                  </a:lnTo>
                  <a:lnTo>
                    <a:pt x="1189" y="754"/>
                  </a:lnTo>
                  <a:lnTo>
                    <a:pt x="1196" y="725"/>
                  </a:lnTo>
                  <a:lnTo>
                    <a:pt x="1201" y="695"/>
                  </a:lnTo>
                  <a:lnTo>
                    <a:pt x="1206" y="665"/>
                  </a:lnTo>
                  <a:lnTo>
                    <a:pt x="1208" y="635"/>
                  </a:lnTo>
                  <a:lnTo>
                    <a:pt x="1209" y="604"/>
                  </a:lnTo>
                  <a:close/>
                  <a:moveTo>
                    <a:pt x="1167" y="604"/>
                  </a:moveTo>
                  <a:lnTo>
                    <a:pt x="1166" y="633"/>
                  </a:lnTo>
                  <a:lnTo>
                    <a:pt x="1163" y="661"/>
                  </a:lnTo>
                  <a:lnTo>
                    <a:pt x="1160" y="689"/>
                  </a:lnTo>
                  <a:lnTo>
                    <a:pt x="1155" y="717"/>
                  </a:lnTo>
                  <a:lnTo>
                    <a:pt x="1149" y="744"/>
                  </a:lnTo>
                  <a:lnTo>
                    <a:pt x="1142" y="771"/>
                  </a:lnTo>
                  <a:lnTo>
                    <a:pt x="1132" y="797"/>
                  </a:lnTo>
                  <a:lnTo>
                    <a:pt x="1122" y="822"/>
                  </a:lnTo>
                  <a:lnTo>
                    <a:pt x="1111" y="847"/>
                  </a:lnTo>
                  <a:lnTo>
                    <a:pt x="1099" y="872"/>
                  </a:lnTo>
                  <a:lnTo>
                    <a:pt x="1086" y="895"/>
                  </a:lnTo>
                  <a:lnTo>
                    <a:pt x="1070" y="918"/>
                  </a:lnTo>
                  <a:lnTo>
                    <a:pt x="1055" y="940"/>
                  </a:lnTo>
                  <a:lnTo>
                    <a:pt x="1038" y="961"/>
                  </a:lnTo>
                  <a:lnTo>
                    <a:pt x="1021" y="982"/>
                  </a:lnTo>
                  <a:lnTo>
                    <a:pt x="1002" y="1001"/>
                  </a:lnTo>
                  <a:lnTo>
                    <a:pt x="982" y="1019"/>
                  </a:lnTo>
                  <a:lnTo>
                    <a:pt x="962" y="1037"/>
                  </a:lnTo>
                  <a:lnTo>
                    <a:pt x="941" y="1054"/>
                  </a:lnTo>
                  <a:lnTo>
                    <a:pt x="919" y="1069"/>
                  </a:lnTo>
                  <a:lnTo>
                    <a:pt x="895" y="1084"/>
                  </a:lnTo>
                  <a:lnTo>
                    <a:pt x="873" y="1098"/>
                  </a:lnTo>
                  <a:lnTo>
                    <a:pt x="848" y="1110"/>
                  </a:lnTo>
                  <a:lnTo>
                    <a:pt x="823" y="1121"/>
                  </a:lnTo>
                  <a:lnTo>
                    <a:pt x="797" y="1132"/>
                  </a:lnTo>
                  <a:lnTo>
                    <a:pt x="771" y="1140"/>
                  </a:lnTo>
                  <a:lnTo>
                    <a:pt x="745" y="1148"/>
                  </a:lnTo>
                  <a:lnTo>
                    <a:pt x="717" y="1154"/>
                  </a:lnTo>
                  <a:lnTo>
                    <a:pt x="690" y="1159"/>
                  </a:lnTo>
                  <a:lnTo>
                    <a:pt x="662" y="1163"/>
                  </a:lnTo>
                  <a:lnTo>
                    <a:pt x="633" y="1165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3" y="1166"/>
                  </a:lnTo>
                  <a:lnTo>
                    <a:pt x="643" y="1164"/>
                  </a:lnTo>
                  <a:lnTo>
                    <a:pt x="672" y="1159"/>
                  </a:lnTo>
                  <a:lnTo>
                    <a:pt x="700" y="1155"/>
                  </a:lnTo>
                  <a:lnTo>
                    <a:pt x="729" y="1149"/>
                  </a:lnTo>
                  <a:lnTo>
                    <a:pt x="757" y="1140"/>
                  </a:lnTo>
                  <a:lnTo>
                    <a:pt x="784" y="1131"/>
                  </a:lnTo>
                  <a:lnTo>
                    <a:pt x="811" y="1120"/>
                  </a:lnTo>
                  <a:lnTo>
                    <a:pt x="837" y="1109"/>
                  </a:lnTo>
                  <a:lnTo>
                    <a:pt x="861" y="1096"/>
                  </a:lnTo>
                  <a:lnTo>
                    <a:pt x="885" y="1082"/>
                  </a:lnTo>
                  <a:lnTo>
                    <a:pt x="909" y="1066"/>
                  </a:lnTo>
                  <a:lnTo>
                    <a:pt x="932" y="1050"/>
                  </a:lnTo>
                  <a:lnTo>
                    <a:pt x="954" y="1033"/>
                  </a:lnTo>
                  <a:lnTo>
                    <a:pt x="975" y="1015"/>
                  </a:lnTo>
                  <a:lnTo>
                    <a:pt x="995" y="996"/>
                  </a:lnTo>
                  <a:lnTo>
                    <a:pt x="1015" y="976"/>
                  </a:lnTo>
                  <a:lnTo>
                    <a:pt x="1033" y="954"/>
                  </a:lnTo>
                  <a:lnTo>
                    <a:pt x="1051" y="933"/>
                  </a:lnTo>
                  <a:lnTo>
                    <a:pt x="1067" y="910"/>
                  </a:lnTo>
                  <a:lnTo>
                    <a:pt x="1082" y="886"/>
                  </a:lnTo>
                  <a:lnTo>
                    <a:pt x="1096" y="861"/>
                  </a:lnTo>
                  <a:lnTo>
                    <a:pt x="1109" y="836"/>
                  </a:lnTo>
                  <a:lnTo>
                    <a:pt x="1121" y="810"/>
                  </a:lnTo>
                  <a:lnTo>
                    <a:pt x="1132" y="783"/>
                  </a:lnTo>
                  <a:lnTo>
                    <a:pt x="1140" y="756"/>
                  </a:lnTo>
                  <a:lnTo>
                    <a:pt x="1148" y="729"/>
                  </a:lnTo>
                  <a:lnTo>
                    <a:pt x="1154" y="701"/>
                  </a:lnTo>
                  <a:lnTo>
                    <a:pt x="1160" y="672"/>
                  </a:lnTo>
                  <a:lnTo>
                    <a:pt x="1164" y="643"/>
                  </a:lnTo>
                  <a:lnTo>
                    <a:pt x="1166" y="614"/>
                  </a:lnTo>
                  <a:lnTo>
                    <a:pt x="1166" y="584"/>
                  </a:lnTo>
                  <a:close/>
                  <a:moveTo>
                    <a:pt x="1125" y="584"/>
                  </a:moveTo>
                  <a:lnTo>
                    <a:pt x="1124" y="612"/>
                  </a:lnTo>
                  <a:lnTo>
                    <a:pt x="1122" y="639"/>
                  </a:lnTo>
                  <a:lnTo>
                    <a:pt x="1119" y="666"/>
                  </a:lnTo>
                  <a:lnTo>
                    <a:pt x="1114" y="693"/>
                  </a:lnTo>
                  <a:lnTo>
                    <a:pt x="1108" y="719"/>
                  </a:lnTo>
                  <a:lnTo>
                    <a:pt x="1100" y="745"/>
                  </a:lnTo>
                  <a:lnTo>
                    <a:pt x="1092" y="769"/>
                  </a:lnTo>
                  <a:lnTo>
                    <a:pt x="1082" y="794"/>
                  </a:lnTo>
                  <a:lnTo>
                    <a:pt x="1071" y="818"/>
                  </a:lnTo>
                  <a:lnTo>
                    <a:pt x="1059" y="842"/>
                  </a:lnTo>
                  <a:lnTo>
                    <a:pt x="1046" y="864"/>
                  </a:lnTo>
                  <a:lnTo>
                    <a:pt x="1032" y="886"/>
                  </a:lnTo>
                  <a:lnTo>
                    <a:pt x="1017" y="908"/>
                  </a:lnTo>
                  <a:lnTo>
                    <a:pt x="1001" y="928"/>
                  </a:lnTo>
                  <a:lnTo>
                    <a:pt x="985" y="948"/>
                  </a:lnTo>
                  <a:lnTo>
                    <a:pt x="966" y="966"/>
                  </a:lnTo>
                  <a:lnTo>
                    <a:pt x="948" y="984"/>
                  </a:lnTo>
                  <a:lnTo>
                    <a:pt x="927" y="1002"/>
                  </a:lnTo>
                  <a:lnTo>
                    <a:pt x="907" y="1017"/>
                  </a:lnTo>
                  <a:lnTo>
                    <a:pt x="886" y="1032"/>
                  </a:lnTo>
                  <a:lnTo>
                    <a:pt x="864" y="1047"/>
                  </a:lnTo>
                  <a:lnTo>
                    <a:pt x="841" y="1060"/>
                  </a:lnTo>
                  <a:lnTo>
                    <a:pt x="818" y="1072"/>
                  </a:lnTo>
                  <a:lnTo>
                    <a:pt x="794" y="1083"/>
                  </a:lnTo>
                  <a:lnTo>
                    <a:pt x="770" y="1092"/>
                  </a:lnTo>
                  <a:lnTo>
                    <a:pt x="745" y="1101"/>
                  </a:lnTo>
                  <a:lnTo>
                    <a:pt x="719" y="1107"/>
                  </a:lnTo>
                  <a:lnTo>
                    <a:pt x="693" y="1114"/>
                  </a:lnTo>
                  <a:lnTo>
                    <a:pt x="666" y="1118"/>
                  </a:lnTo>
                  <a:lnTo>
                    <a:pt x="639" y="1122"/>
                  </a:lnTo>
                  <a:lnTo>
                    <a:pt x="611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1" y="1124"/>
                  </a:lnTo>
                  <a:lnTo>
                    <a:pt x="620" y="1122"/>
                  </a:lnTo>
                  <a:lnTo>
                    <a:pt x="648" y="1118"/>
                  </a:lnTo>
                  <a:lnTo>
                    <a:pt x="675" y="1113"/>
                  </a:lnTo>
                  <a:lnTo>
                    <a:pt x="703" y="1107"/>
                  </a:lnTo>
                  <a:lnTo>
                    <a:pt x="729" y="1099"/>
                  </a:lnTo>
                  <a:lnTo>
                    <a:pt x="755" y="1091"/>
                  </a:lnTo>
                  <a:lnTo>
                    <a:pt x="781" y="1080"/>
                  </a:lnTo>
                  <a:lnTo>
                    <a:pt x="806" y="1069"/>
                  </a:lnTo>
                  <a:lnTo>
                    <a:pt x="831" y="1057"/>
                  </a:lnTo>
                  <a:lnTo>
                    <a:pt x="853" y="1043"/>
                  </a:lnTo>
                  <a:lnTo>
                    <a:pt x="877" y="1028"/>
                  </a:lnTo>
                  <a:lnTo>
                    <a:pt x="899" y="1013"/>
                  </a:lnTo>
                  <a:lnTo>
                    <a:pt x="920" y="996"/>
                  </a:lnTo>
                  <a:lnTo>
                    <a:pt x="940" y="978"/>
                  </a:lnTo>
                  <a:lnTo>
                    <a:pt x="960" y="960"/>
                  </a:lnTo>
                  <a:lnTo>
                    <a:pt x="979" y="941"/>
                  </a:lnTo>
                  <a:lnTo>
                    <a:pt x="996" y="920"/>
                  </a:lnTo>
                  <a:lnTo>
                    <a:pt x="1013" y="899"/>
                  </a:lnTo>
                  <a:lnTo>
                    <a:pt x="1028" y="877"/>
                  </a:lnTo>
                  <a:lnTo>
                    <a:pt x="1044" y="854"/>
                  </a:lnTo>
                  <a:lnTo>
                    <a:pt x="1057" y="831"/>
                  </a:lnTo>
                  <a:lnTo>
                    <a:pt x="1069" y="806"/>
                  </a:lnTo>
                  <a:lnTo>
                    <a:pt x="1080" y="781"/>
                  </a:lnTo>
                  <a:lnTo>
                    <a:pt x="1090" y="756"/>
                  </a:lnTo>
                  <a:lnTo>
                    <a:pt x="1100" y="730"/>
                  </a:lnTo>
                  <a:lnTo>
                    <a:pt x="1107" y="703"/>
                  </a:lnTo>
                  <a:lnTo>
                    <a:pt x="1113" y="676"/>
                  </a:lnTo>
                  <a:lnTo>
                    <a:pt x="1118" y="648"/>
                  </a:lnTo>
                  <a:lnTo>
                    <a:pt x="1121" y="620"/>
                  </a:lnTo>
                  <a:lnTo>
                    <a:pt x="1124" y="592"/>
                  </a:lnTo>
                  <a:lnTo>
                    <a:pt x="1125" y="563"/>
                  </a:lnTo>
                  <a:close/>
                  <a:moveTo>
                    <a:pt x="1084" y="563"/>
                  </a:moveTo>
                  <a:lnTo>
                    <a:pt x="1082" y="590"/>
                  </a:lnTo>
                  <a:lnTo>
                    <a:pt x="1080" y="616"/>
                  </a:lnTo>
                  <a:lnTo>
                    <a:pt x="1077" y="642"/>
                  </a:lnTo>
                  <a:lnTo>
                    <a:pt x="1073" y="667"/>
                  </a:lnTo>
                  <a:lnTo>
                    <a:pt x="1066" y="692"/>
                  </a:lnTo>
                  <a:lnTo>
                    <a:pt x="1060" y="717"/>
                  </a:lnTo>
                  <a:lnTo>
                    <a:pt x="1051" y="741"/>
                  </a:lnTo>
                  <a:lnTo>
                    <a:pt x="1042" y="765"/>
                  </a:lnTo>
                  <a:lnTo>
                    <a:pt x="1032" y="788"/>
                  </a:lnTo>
                  <a:lnTo>
                    <a:pt x="1020" y="811"/>
                  </a:lnTo>
                  <a:lnTo>
                    <a:pt x="1008" y="833"/>
                  </a:lnTo>
                  <a:lnTo>
                    <a:pt x="994" y="853"/>
                  </a:lnTo>
                  <a:lnTo>
                    <a:pt x="980" y="874"/>
                  </a:lnTo>
                  <a:lnTo>
                    <a:pt x="964" y="893"/>
                  </a:lnTo>
                  <a:lnTo>
                    <a:pt x="947" y="913"/>
                  </a:lnTo>
                  <a:lnTo>
                    <a:pt x="930" y="931"/>
                  </a:lnTo>
                  <a:lnTo>
                    <a:pt x="913" y="948"/>
                  </a:lnTo>
                  <a:lnTo>
                    <a:pt x="893" y="964"/>
                  </a:lnTo>
                  <a:lnTo>
                    <a:pt x="874" y="980"/>
                  </a:lnTo>
                  <a:lnTo>
                    <a:pt x="853" y="994"/>
                  </a:lnTo>
                  <a:lnTo>
                    <a:pt x="832" y="1008"/>
                  </a:lnTo>
                  <a:lnTo>
                    <a:pt x="810" y="1021"/>
                  </a:lnTo>
                  <a:lnTo>
                    <a:pt x="787" y="1031"/>
                  </a:lnTo>
                  <a:lnTo>
                    <a:pt x="765" y="1042"/>
                  </a:lnTo>
                  <a:lnTo>
                    <a:pt x="741" y="1052"/>
                  </a:lnTo>
                  <a:lnTo>
                    <a:pt x="717" y="1059"/>
                  </a:lnTo>
                  <a:lnTo>
                    <a:pt x="692" y="1067"/>
                  </a:lnTo>
                  <a:lnTo>
                    <a:pt x="668" y="1072"/>
                  </a:lnTo>
                  <a:lnTo>
                    <a:pt x="642" y="1077"/>
                  </a:lnTo>
                  <a:lnTo>
                    <a:pt x="616" y="1080"/>
                  </a:lnTo>
                  <a:lnTo>
                    <a:pt x="589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close/>
                </a:path>
              </a:pathLst>
            </a:custGeom>
            <a:solidFill>
              <a:srgbClr val="e67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0" y="1082"/>
                  </a:lnTo>
                  <a:lnTo>
                    <a:pt x="598" y="1080"/>
                  </a:lnTo>
                  <a:lnTo>
                    <a:pt x="625" y="1076"/>
                  </a:lnTo>
                  <a:lnTo>
                    <a:pt x="652" y="1072"/>
                  </a:lnTo>
                  <a:lnTo>
                    <a:pt x="678" y="1065"/>
                  </a:lnTo>
                  <a:lnTo>
                    <a:pt x="704" y="1059"/>
                  </a:lnTo>
                  <a:lnTo>
                    <a:pt x="729" y="1050"/>
                  </a:lnTo>
                  <a:lnTo>
                    <a:pt x="753" y="1041"/>
                  </a:lnTo>
                  <a:lnTo>
                    <a:pt x="777" y="1030"/>
                  </a:lnTo>
                  <a:lnTo>
                    <a:pt x="800" y="1018"/>
                  </a:lnTo>
                  <a:lnTo>
                    <a:pt x="823" y="1005"/>
                  </a:lnTo>
                  <a:lnTo>
                    <a:pt x="845" y="990"/>
                  </a:lnTo>
                  <a:lnTo>
                    <a:pt x="866" y="975"/>
                  </a:lnTo>
                  <a:lnTo>
                    <a:pt x="886" y="960"/>
                  </a:lnTo>
                  <a:lnTo>
                    <a:pt x="907" y="942"/>
                  </a:lnTo>
                  <a:lnTo>
                    <a:pt x="925" y="924"/>
                  </a:lnTo>
                  <a:lnTo>
                    <a:pt x="944" y="906"/>
                  </a:lnTo>
                  <a:lnTo>
                    <a:pt x="960" y="886"/>
                  </a:lnTo>
                  <a:lnTo>
                    <a:pt x="976" y="866"/>
                  </a:lnTo>
                  <a:lnTo>
                    <a:pt x="991" y="844"/>
                  </a:lnTo>
                  <a:lnTo>
                    <a:pt x="1005" y="822"/>
                  </a:lnTo>
                  <a:lnTo>
                    <a:pt x="1018" y="800"/>
                  </a:lnTo>
                  <a:lnTo>
                    <a:pt x="1030" y="776"/>
                  </a:lnTo>
                  <a:lnTo>
                    <a:pt x="1041" y="752"/>
                  </a:lnTo>
                  <a:lnTo>
                    <a:pt x="1051" y="727"/>
                  </a:lnTo>
                  <a:lnTo>
                    <a:pt x="1059" y="703"/>
                  </a:lnTo>
                  <a:lnTo>
                    <a:pt x="1067" y="677"/>
                  </a:lnTo>
                  <a:lnTo>
                    <a:pt x="1073" y="651"/>
                  </a:lnTo>
                  <a:lnTo>
                    <a:pt x="1078" y="624"/>
                  </a:lnTo>
                  <a:lnTo>
                    <a:pt x="1081" y="597"/>
                  </a:lnTo>
                  <a:lnTo>
                    <a:pt x="1083" y="570"/>
                  </a:lnTo>
                  <a:lnTo>
                    <a:pt x="1084" y="542"/>
                  </a:lnTo>
                  <a:close/>
                  <a:moveTo>
                    <a:pt x="1042" y="542"/>
                  </a:moveTo>
                  <a:lnTo>
                    <a:pt x="1042" y="568"/>
                  </a:lnTo>
                  <a:lnTo>
                    <a:pt x="1040" y="592"/>
                  </a:lnTo>
                  <a:lnTo>
                    <a:pt x="1037" y="617"/>
                  </a:lnTo>
                  <a:lnTo>
                    <a:pt x="1032" y="642"/>
                  </a:lnTo>
                  <a:lnTo>
                    <a:pt x="1027" y="666"/>
                  </a:lnTo>
                  <a:lnTo>
                    <a:pt x="1019" y="690"/>
                  </a:lnTo>
                  <a:lnTo>
                    <a:pt x="1012" y="713"/>
                  </a:lnTo>
                  <a:lnTo>
                    <a:pt x="1003" y="736"/>
                  </a:lnTo>
                  <a:lnTo>
                    <a:pt x="993" y="758"/>
                  </a:lnTo>
                  <a:lnTo>
                    <a:pt x="981" y="779"/>
                  </a:lnTo>
                  <a:lnTo>
                    <a:pt x="970" y="801"/>
                  </a:lnTo>
                  <a:lnTo>
                    <a:pt x="957" y="820"/>
                  </a:lnTo>
                  <a:lnTo>
                    <a:pt x="943" y="841"/>
                  </a:lnTo>
                  <a:lnTo>
                    <a:pt x="928" y="859"/>
                  </a:lnTo>
                  <a:lnTo>
                    <a:pt x="912" y="878"/>
                  </a:lnTo>
                  <a:lnTo>
                    <a:pt x="896" y="895"/>
                  </a:lnTo>
                  <a:lnTo>
                    <a:pt x="879" y="911"/>
                  </a:lnTo>
                  <a:lnTo>
                    <a:pt x="860" y="927"/>
                  </a:lnTo>
                  <a:lnTo>
                    <a:pt x="841" y="942"/>
                  </a:lnTo>
                  <a:lnTo>
                    <a:pt x="822" y="955"/>
                  </a:lnTo>
                  <a:lnTo>
                    <a:pt x="801" y="969"/>
                  </a:lnTo>
                  <a:lnTo>
                    <a:pt x="780" y="981"/>
                  </a:lnTo>
                  <a:lnTo>
                    <a:pt x="759" y="992"/>
                  </a:lnTo>
                  <a:lnTo>
                    <a:pt x="737" y="1002"/>
                  </a:lnTo>
                  <a:lnTo>
                    <a:pt x="715" y="1010"/>
                  </a:lnTo>
                  <a:lnTo>
                    <a:pt x="691" y="1019"/>
                  </a:lnTo>
                  <a:lnTo>
                    <a:pt x="667" y="1026"/>
                  </a:lnTo>
                  <a:lnTo>
                    <a:pt x="643" y="1031"/>
                  </a:lnTo>
                  <a:lnTo>
                    <a:pt x="618" y="1035"/>
                  </a:lnTo>
                  <a:lnTo>
                    <a:pt x="594" y="1038"/>
                  </a:lnTo>
                  <a:lnTo>
                    <a:pt x="568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48" y="1040"/>
                  </a:lnTo>
                  <a:lnTo>
                    <a:pt x="575" y="1038"/>
                  </a:lnTo>
                  <a:lnTo>
                    <a:pt x="601" y="1035"/>
                  </a:lnTo>
                  <a:lnTo>
                    <a:pt x="627" y="1030"/>
                  </a:lnTo>
                  <a:lnTo>
                    <a:pt x="651" y="1025"/>
                  </a:lnTo>
                  <a:lnTo>
                    <a:pt x="676" y="1017"/>
                  </a:lnTo>
                  <a:lnTo>
                    <a:pt x="700" y="1010"/>
                  </a:lnTo>
                  <a:lnTo>
                    <a:pt x="724" y="1000"/>
                  </a:lnTo>
                  <a:lnTo>
                    <a:pt x="746" y="989"/>
                  </a:lnTo>
                  <a:lnTo>
                    <a:pt x="769" y="979"/>
                  </a:lnTo>
                  <a:lnTo>
                    <a:pt x="791" y="966"/>
                  </a:lnTo>
                  <a:lnTo>
                    <a:pt x="812" y="952"/>
                  </a:lnTo>
                  <a:lnTo>
                    <a:pt x="833" y="938"/>
                  </a:lnTo>
                  <a:lnTo>
                    <a:pt x="852" y="922"/>
                  </a:lnTo>
                  <a:lnTo>
                    <a:pt x="872" y="906"/>
                  </a:lnTo>
                  <a:lnTo>
                    <a:pt x="889" y="889"/>
                  </a:lnTo>
                  <a:lnTo>
                    <a:pt x="906" y="871"/>
                  </a:lnTo>
                  <a:lnTo>
                    <a:pt x="923" y="851"/>
                  </a:lnTo>
                  <a:lnTo>
                    <a:pt x="939" y="832"/>
                  </a:lnTo>
                  <a:lnTo>
                    <a:pt x="953" y="811"/>
                  </a:lnTo>
                  <a:lnTo>
                    <a:pt x="967" y="791"/>
                  </a:lnTo>
                  <a:lnTo>
                    <a:pt x="979" y="769"/>
                  </a:lnTo>
                  <a:lnTo>
                    <a:pt x="991" y="746"/>
                  </a:lnTo>
                  <a:lnTo>
                    <a:pt x="1001" y="723"/>
                  </a:lnTo>
                  <a:lnTo>
                    <a:pt x="1010" y="699"/>
                  </a:lnTo>
                  <a:lnTo>
                    <a:pt x="1019" y="675"/>
                  </a:lnTo>
                  <a:lnTo>
                    <a:pt x="1025" y="650"/>
                  </a:lnTo>
                  <a:lnTo>
                    <a:pt x="1032" y="625"/>
                  </a:lnTo>
                  <a:lnTo>
                    <a:pt x="1036" y="600"/>
                  </a:lnTo>
                  <a:lnTo>
                    <a:pt x="1039" y="574"/>
                  </a:lnTo>
                  <a:lnTo>
                    <a:pt x="1041" y="548"/>
                  </a:lnTo>
                  <a:lnTo>
                    <a:pt x="1043" y="521"/>
                  </a:lnTo>
                  <a:close/>
                  <a:moveTo>
                    <a:pt x="1000" y="521"/>
                  </a:moveTo>
                  <a:lnTo>
                    <a:pt x="999" y="546"/>
                  </a:lnTo>
                  <a:lnTo>
                    <a:pt x="998" y="569"/>
                  </a:lnTo>
                  <a:lnTo>
                    <a:pt x="995" y="593"/>
                  </a:lnTo>
                  <a:lnTo>
                    <a:pt x="991" y="617"/>
                  </a:lnTo>
                  <a:lnTo>
                    <a:pt x="985" y="641"/>
                  </a:lnTo>
                  <a:lnTo>
                    <a:pt x="979" y="663"/>
                  </a:lnTo>
                  <a:lnTo>
                    <a:pt x="971" y="685"/>
                  </a:lnTo>
                  <a:lnTo>
                    <a:pt x="963" y="706"/>
                  </a:lnTo>
                  <a:lnTo>
                    <a:pt x="953" y="728"/>
                  </a:lnTo>
                  <a:lnTo>
                    <a:pt x="942" y="749"/>
                  </a:lnTo>
                  <a:lnTo>
                    <a:pt x="931" y="769"/>
                  </a:lnTo>
                  <a:lnTo>
                    <a:pt x="918" y="789"/>
                  </a:lnTo>
                  <a:lnTo>
                    <a:pt x="905" y="807"/>
                  </a:lnTo>
                  <a:lnTo>
                    <a:pt x="891" y="825"/>
                  </a:lnTo>
                  <a:lnTo>
                    <a:pt x="876" y="843"/>
                  </a:lnTo>
                  <a:lnTo>
                    <a:pt x="860" y="859"/>
                  </a:lnTo>
                  <a:lnTo>
                    <a:pt x="844" y="875"/>
                  </a:lnTo>
                  <a:lnTo>
                    <a:pt x="826" y="890"/>
                  </a:lnTo>
                  <a:lnTo>
                    <a:pt x="808" y="904"/>
                  </a:lnTo>
                  <a:lnTo>
                    <a:pt x="789" y="917"/>
                  </a:lnTo>
                  <a:lnTo>
                    <a:pt x="769" y="930"/>
                  </a:lnTo>
                  <a:lnTo>
                    <a:pt x="750" y="942"/>
                  </a:lnTo>
                  <a:lnTo>
                    <a:pt x="729" y="953"/>
                  </a:lnTo>
                  <a:lnTo>
                    <a:pt x="708" y="961"/>
                  </a:lnTo>
                  <a:lnTo>
                    <a:pt x="686" y="970"/>
                  </a:lnTo>
                  <a:lnTo>
                    <a:pt x="663" y="978"/>
                  </a:lnTo>
                  <a:lnTo>
                    <a:pt x="641" y="984"/>
                  </a:lnTo>
                  <a:lnTo>
                    <a:pt x="618" y="989"/>
                  </a:lnTo>
                  <a:lnTo>
                    <a:pt x="594" y="994"/>
                  </a:lnTo>
                  <a:lnTo>
                    <a:pt x="570" y="997"/>
                  </a:lnTo>
                  <a:lnTo>
                    <a:pt x="545" y="999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26" y="999"/>
                  </a:lnTo>
                  <a:lnTo>
                    <a:pt x="552" y="996"/>
                  </a:lnTo>
                  <a:lnTo>
                    <a:pt x="576" y="993"/>
                  </a:lnTo>
                  <a:lnTo>
                    <a:pt x="601" y="989"/>
                  </a:lnTo>
                  <a:lnTo>
                    <a:pt x="625" y="984"/>
                  </a:lnTo>
                  <a:lnTo>
                    <a:pt x="649" y="977"/>
                  </a:lnTo>
                  <a:lnTo>
                    <a:pt x="673" y="968"/>
                  </a:lnTo>
                  <a:lnTo>
                    <a:pt x="695" y="960"/>
                  </a:lnTo>
                  <a:lnTo>
                    <a:pt x="717" y="950"/>
                  </a:lnTo>
                  <a:lnTo>
                    <a:pt x="738" y="939"/>
                  </a:lnTo>
                  <a:lnTo>
                    <a:pt x="759" y="927"/>
                  </a:lnTo>
                  <a:lnTo>
                    <a:pt x="780" y="913"/>
                  </a:lnTo>
                  <a:lnTo>
                    <a:pt x="799" y="900"/>
                  </a:lnTo>
                  <a:lnTo>
                    <a:pt x="818" y="885"/>
                  </a:lnTo>
                  <a:lnTo>
                    <a:pt x="837" y="869"/>
                  </a:lnTo>
                  <a:lnTo>
                    <a:pt x="854" y="853"/>
                  </a:lnTo>
                  <a:lnTo>
                    <a:pt x="870" y="836"/>
                  </a:lnTo>
                  <a:lnTo>
                    <a:pt x="886" y="817"/>
                  </a:lnTo>
                  <a:lnTo>
                    <a:pt x="901" y="799"/>
                  </a:lnTo>
                  <a:lnTo>
                    <a:pt x="915" y="778"/>
                  </a:lnTo>
                  <a:lnTo>
                    <a:pt x="928" y="759"/>
                  </a:lnTo>
                  <a:lnTo>
                    <a:pt x="939" y="737"/>
                  </a:lnTo>
                  <a:lnTo>
                    <a:pt x="951" y="716"/>
                  </a:lnTo>
                  <a:lnTo>
                    <a:pt x="961" y="694"/>
                  </a:lnTo>
                  <a:lnTo>
                    <a:pt x="970" y="671"/>
                  </a:lnTo>
                  <a:lnTo>
                    <a:pt x="977" y="648"/>
                  </a:lnTo>
                  <a:lnTo>
                    <a:pt x="985" y="624"/>
                  </a:lnTo>
                  <a:lnTo>
                    <a:pt x="990" y="600"/>
                  </a:lnTo>
                  <a:lnTo>
                    <a:pt x="995" y="575"/>
                  </a:lnTo>
                  <a:lnTo>
                    <a:pt x="998" y="550"/>
                  </a:lnTo>
                  <a:lnTo>
                    <a:pt x="1000" y="526"/>
                  </a:lnTo>
                  <a:lnTo>
                    <a:pt x="1000" y="500"/>
                  </a:lnTo>
                  <a:close/>
                  <a:moveTo>
                    <a:pt x="959" y="500"/>
                  </a:moveTo>
                  <a:lnTo>
                    <a:pt x="958" y="523"/>
                  </a:lnTo>
                  <a:lnTo>
                    <a:pt x="956" y="546"/>
                  </a:lnTo>
                  <a:lnTo>
                    <a:pt x="953" y="569"/>
                  </a:lnTo>
                  <a:lnTo>
                    <a:pt x="949" y="591"/>
                  </a:lnTo>
                  <a:lnTo>
                    <a:pt x="944" y="614"/>
                  </a:lnTo>
                  <a:lnTo>
                    <a:pt x="938" y="636"/>
                  </a:lnTo>
                  <a:lnTo>
                    <a:pt x="931" y="657"/>
                  </a:lnTo>
                  <a:lnTo>
                    <a:pt x="922" y="678"/>
                  </a:lnTo>
                  <a:lnTo>
                    <a:pt x="913" y="698"/>
                  </a:lnTo>
                  <a:lnTo>
                    <a:pt x="903" y="718"/>
                  </a:lnTo>
                  <a:lnTo>
                    <a:pt x="892" y="737"/>
                  </a:lnTo>
                  <a:lnTo>
                    <a:pt x="880" y="756"/>
                  </a:lnTo>
                  <a:lnTo>
                    <a:pt x="867" y="774"/>
                  </a:lnTo>
                  <a:lnTo>
                    <a:pt x="854" y="791"/>
                  </a:lnTo>
                  <a:lnTo>
                    <a:pt x="839" y="807"/>
                  </a:lnTo>
                  <a:lnTo>
                    <a:pt x="824" y="824"/>
                  </a:lnTo>
                  <a:lnTo>
                    <a:pt x="809" y="839"/>
                  </a:lnTo>
                  <a:lnTo>
                    <a:pt x="791" y="853"/>
                  </a:lnTo>
                  <a:lnTo>
                    <a:pt x="774" y="867"/>
                  </a:lnTo>
                  <a:lnTo>
                    <a:pt x="757" y="880"/>
                  </a:lnTo>
                  <a:lnTo>
                    <a:pt x="737" y="892"/>
                  </a:lnTo>
                  <a:lnTo>
                    <a:pt x="719" y="903"/>
                  </a:lnTo>
                  <a:lnTo>
                    <a:pt x="698" y="912"/>
                  </a:lnTo>
                  <a:lnTo>
                    <a:pt x="679" y="922"/>
                  </a:lnTo>
                  <a:lnTo>
                    <a:pt x="657" y="930"/>
                  </a:lnTo>
                  <a:lnTo>
                    <a:pt x="637" y="937"/>
                  </a:lnTo>
                  <a:lnTo>
                    <a:pt x="614" y="944"/>
                  </a:lnTo>
                  <a:lnTo>
                    <a:pt x="593" y="948"/>
                  </a:lnTo>
                  <a:lnTo>
                    <a:pt x="570" y="952"/>
                  </a:lnTo>
                  <a:lnTo>
                    <a:pt x="547" y="955"/>
                  </a:lnTo>
                  <a:lnTo>
                    <a:pt x="523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3" y="958"/>
                  </a:lnTo>
                  <a:lnTo>
                    <a:pt x="528" y="956"/>
                  </a:lnTo>
                  <a:lnTo>
                    <a:pt x="552" y="953"/>
                  </a:lnTo>
                  <a:lnTo>
                    <a:pt x="576" y="948"/>
                  </a:lnTo>
                  <a:lnTo>
                    <a:pt x="599" y="943"/>
                  </a:lnTo>
                  <a:lnTo>
                    <a:pt x="621" y="937"/>
                  </a:lnTo>
                  <a:lnTo>
                    <a:pt x="644" y="929"/>
                  </a:lnTo>
                  <a:lnTo>
                    <a:pt x="666" y="920"/>
                  </a:lnTo>
                  <a:lnTo>
                    <a:pt x="687" y="912"/>
                  </a:lnTo>
                  <a:lnTo>
                    <a:pt x="708" y="901"/>
                  </a:lnTo>
                  <a:lnTo>
                    <a:pt x="727" y="889"/>
                  </a:lnTo>
                  <a:lnTo>
                    <a:pt x="747" y="876"/>
                  </a:lnTo>
                  <a:lnTo>
                    <a:pt x="766" y="863"/>
                  </a:lnTo>
                  <a:lnTo>
                    <a:pt x="784" y="849"/>
                  </a:lnTo>
                  <a:lnTo>
                    <a:pt x="802" y="834"/>
                  </a:lnTo>
                  <a:lnTo>
                    <a:pt x="818" y="818"/>
                  </a:lnTo>
                  <a:lnTo>
                    <a:pt x="834" y="802"/>
                  </a:lnTo>
                  <a:lnTo>
                    <a:pt x="849" y="784"/>
                  </a:lnTo>
                  <a:lnTo>
                    <a:pt x="863" y="766"/>
                  </a:lnTo>
                  <a:lnTo>
                    <a:pt x="876" y="748"/>
                  </a:lnTo>
                  <a:lnTo>
                    <a:pt x="889" y="728"/>
                  </a:lnTo>
                  <a:lnTo>
                    <a:pt x="900" y="708"/>
                  </a:lnTo>
                  <a:lnTo>
                    <a:pt x="911" y="687"/>
                  </a:lnTo>
                  <a:lnTo>
                    <a:pt x="921" y="665"/>
                  </a:lnTo>
                  <a:lnTo>
                    <a:pt x="929" y="644"/>
                  </a:lnTo>
                  <a:lnTo>
                    <a:pt x="937" y="622"/>
                  </a:lnTo>
                  <a:lnTo>
                    <a:pt x="943" y="600"/>
                  </a:lnTo>
                  <a:lnTo>
                    <a:pt x="949" y="576"/>
                  </a:lnTo>
                  <a:lnTo>
                    <a:pt x="953" y="552"/>
                  </a:lnTo>
                  <a:lnTo>
                    <a:pt x="956" y="528"/>
                  </a:lnTo>
                  <a:lnTo>
                    <a:pt x="957" y="505"/>
                  </a:lnTo>
                  <a:lnTo>
                    <a:pt x="958" y="480"/>
                  </a:lnTo>
                  <a:close/>
                  <a:moveTo>
                    <a:pt x="916" y="480"/>
                  </a:moveTo>
                  <a:lnTo>
                    <a:pt x="916" y="502"/>
                  </a:lnTo>
                  <a:lnTo>
                    <a:pt x="914" y="524"/>
                  </a:lnTo>
                  <a:lnTo>
                    <a:pt x="912" y="546"/>
                  </a:lnTo>
                  <a:lnTo>
                    <a:pt x="908" y="567"/>
                  </a:lnTo>
                  <a:lnTo>
                    <a:pt x="903" y="589"/>
                  </a:lnTo>
                  <a:lnTo>
                    <a:pt x="897" y="609"/>
                  </a:lnTo>
                  <a:lnTo>
                    <a:pt x="890" y="630"/>
                  </a:lnTo>
                  <a:lnTo>
                    <a:pt x="883" y="649"/>
                  </a:lnTo>
                  <a:lnTo>
                    <a:pt x="873" y="669"/>
                  </a:lnTo>
                  <a:lnTo>
                    <a:pt x="864" y="688"/>
                  </a:lnTo>
                  <a:lnTo>
                    <a:pt x="854" y="706"/>
                  </a:lnTo>
                  <a:lnTo>
                    <a:pt x="842" y="724"/>
                  </a:lnTo>
                  <a:lnTo>
                    <a:pt x="830" y="741"/>
                  </a:lnTo>
                  <a:lnTo>
                    <a:pt x="817" y="757"/>
                  </a:lnTo>
                  <a:lnTo>
                    <a:pt x="803" y="773"/>
                  </a:lnTo>
                  <a:lnTo>
                    <a:pt x="789" y="789"/>
                  </a:lnTo>
                  <a:lnTo>
                    <a:pt x="774" y="803"/>
                  </a:lnTo>
                  <a:lnTo>
                    <a:pt x="757" y="817"/>
                  </a:lnTo>
                  <a:lnTo>
                    <a:pt x="741" y="830"/>
                  </a:lnTo>
                  <a:lnTo>
                    <a:pt x="724" y="843"/>
                  </a:lnTo>
                  <a:lnTo>
                    <a:pt x="706" y="853"/>
                  </a:lnTo>
                  <a:lnTo>
                    <a:pt x="687" y="864"/>
                  </a:lnTo>
                  <a:lnTo>
                    <a:pt x="669" y="874"/>
                  </a:lnTo>
                  <a:lnTo>
                    <a:pt x="649" y="883"/>
                  </a:lnTo>
                  <a:lnTo>
                    <a:pt x="630" y="890"/>
                  </a:lnTo>
                  <a:lnTo>
                    <a:pt x="609" y="897"/>
                  </a:lnTo>
                  <a:lnTo>
                    <a:pt x="589" y="903"/>
                  </a:lnTo>
                  <a:lnTo>
                    <a:pt x="567" y="907"/>
                  </a:lnTo>
                  <a:lnTo>
                    <a:pt x="546" y="912"/>
                  </a:lnTo>
                  <a:lnTo>
                    <a:pt x="524" y="915"/>
                  </a:lnTo>
                  <a:lnTo>
                    <a:pt x="501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2" y="915"/>
                  </a:lnTo>
                  <a:lnTo>
                    <a:pt x="506" y="913"/>
                  </a:lnTo>
                  <a:lnTo>
                    <a:pt x="529" y="910"/>
                  </a:lnTo>
                  <a:lnTo>
                    <a:pt x="552" y="906"/>
                  </a:lnTo>
                  <a:lnTo>
                    <a:pt x="573" y="902"/>
                  </a:lnTo>
                  <a:lnTo>
                    <a:pt x="596" y="895"/>
                  </a:lnTo>
                  <a:lnTo>
                    <a:pt x="616" y="888"/>
                  </a:lnTo>
                  <a:lnTo>
                    <a:pt x="638" y="880"/>
                  </a:lnTo>
                  <a:lnTo>
                    <a:pt x="657" y="870"/>
                  </a:lnTo>
                  <a:lnTo>
                    <a:pt x="678" y="861"/>
                  </a:lnTo>
                  <a:lnTo>
                    <a:pt x="696" y="850"/>
                  </a:lnTo>
                  <a:lnTo>
                    <a:pt x="716" y="838"/>
                  </a:lnTo>
                  <a:lnTo>
                    <a:pt x="733" y="825"/>
                  </a:lnTo>
                  <a:lnTo>
                    <a:pt x="750" y="811"/>
                  </a:lnTo>
                  <a:lnTo>
                    <a:pt x="768" y="797"/>
                  </a:lnTo>
                  <a:lnTo>
                    <a:pt x="783" y="782"/>
                  </a:lnTo>
                  <a:lnTo>
                    <a:pt x="798" y="765"/>
                  </a:lnTo>
                  <a:lnTo>
                    <a:pt x="813" y="749"/>
                  </a:lnTo>
                  <a:lnTo>
                    <a:pt x="826" y="732"/>
                  </a:lnTo>
                  <a:lnTo>
                    <a:pt x="839" y="714"/>
                  </a:lnTo>
                  <a:lnTo>
                    <a:pt x="851" y="695"/>
                  </a:lnTo>
                  <a:lnTo>
                    <a:pt x="862" y="676"/>
                  </a:lnTo>
                  <a:lnTo>
                    <a:pt x="872" y="656"/>
                  </a:lnTo>
                  <a:lnTo>
                    <a:pt x="881" y="636"/>
                  </a:lnTo>
                  <a:lnTo>
                    <a:pt x="890" y="615"/>
                  </a:lnTo>
                  <a:lnTo>
                    <a:pt x="897" y="594"/>
                  </a:lnTo>
                  <a:lnTo>
                    <a:pt x="903" y="572"/>
                  </a:lnTo>
                  <a:lnTo>
                    <a:pt x="908" y="549"/>
                  </a:lnTo>
                  <a:lnTo>
                    <a:pt x="912" y="527"/>
                  </a:lnTo>
                  <a:lnTo>
                    <a:pt x="915" y="504"/>
                  </a:lnTo>
                  <a:lnTo>
                    <a:pt x="917" y="481"/>
                  </a:lnTo>
                  <a:lnTo>
                    <a:pt x="918" y="458"/>
                  </a:lnTo>
                  <a:close/>
                  <a:moveTo>
                    <a:pt x="876" y="458"/>
                  </a:moveTo>
                  <a:lnTo>
                    <a:pt x="876" y="479"/>
                  </a:lnTo>
                  <a:lnTo>
                    <a:pt x="874" y="500"/>
                  </a:lnTo>
                  <a:lnTo>
                    <a:pt x="871" y="520"/>
                  </a:lnTo>
                  <a:lnTo>
                    <a:pt x="867" y="541"/>
                  </a:lnTo>
                  <a:lnTo>
                    <a:pt x="863" y="561"/>
                  </a:lnTo>
                  <a:lnTo>
                    <a:pt x="857" y="581"/>
                  </a:lnTo>
                  <a:lnTo>
                    <a:pt x="851" y="600"/>
                  </a:lnTo>
                  <a:lnTo>
                    <a:pt x="843" y="620"/>
                  </a:lnTo>
                  <a:lnTo>
                    <a:pt x="835" y="638"/>
                  </a:lnTo>
                  <a:lnTo>
                    <a:pt x="826" y="656"/>
                  </a:lnTo>
                  <a:lnTo>
                    <a:pt x="815" y="674"/>
                  </a:lnTo>
                  <a:lnTo>
                    <a:pt x="804" y="690"/>
                  </a:lnTo>
                  <a:lnTo>
                    <a:pt x="793" y="706"/>
                  </a:lnTo>
                  <a:lnTo>
                    <a:pt x="781" y="722"/>
                  </a:lnTo>
                  <a:lnTo>
                    <a:pt x="768" y="737"/>
                  </a:lnTo>
                  <a:lnTo>
                    <a:pt x="754" y="751"/>
                  </a:lnTo>
                  <a:lnTo>
                    <a:pt x="740" y="765"/>
                  </a:lnTo>
                  <a:lnTo>
                    <a:pt x="724" y="778"/>
                  </a:lnTo>
                  <a:lnTo>
                    <a:pt x="708" y="791"/>
                  </a:lnTo>
                  <a:lnTo>
                    <a:pt x="692" y="803"/>
                  </a:lnTo>
                  <a:lnTo>
                    <a:pt x="675" y="814"/>
                  </a:lnTo>
                  <a:lnTo>
                    <a:pt x="657" y="824"/>
                  </a:lnTo>
                  <a:lnTo>
                    <a:pt x="640" y="832"/>
                  </a:lnTo>
                  <a:lnTo>
                    <a:pt x="622" y="841"/>
                  </a:lnTo>
                  <a:lnTo>
                    <a:pt x="602" y="849"/>
                  </a:lnTo>
                  <a:lnTo>
                    <a:pt x="583" y="855"/>
                  </a:lnTo>
                  <a:lnTo>
                    <a:pt x="563" y="861"/>
                  </a:lnTo>
                  <a:lnTo>
                    <a:pt x="543" y="866"/>
                  </a:lnTo>
                  <a:lnTo>
                    <a:pt x="522" y="869"/>
                  </a:lnTo>
                  <a:lnTo>
                    <a:pt x="502" y="871"/>
                  </a:lnTo>
                  <a:lnTo>
                    <a:pt x="480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59" y="874"/>
                  </a:lnTo>
                  <a:lnTo>
                    <a:pt x="482" y="873"/>
                  </a:lnTo>
                  <a:lnTo>
                    <a:pt x="504" y="870"/>
                  </a:lnTo>
                  <a:lnTo>
                    <a:pt x="525" y="865"/>
                  </a:lnTo>
                  <a:lnTo>
                    <a:pt x="547" y="861"/>
                  </a:lnTo>
                  <a:lnTo>
                    <a:pt x="567" y="855"/>
                  </a:lnTo>
                  <a:lnTo>
                    <a:pt x="588" y="848"/>
                  </a:lnTo>
                  <a:lnTo>
                    <a:pt x="607" y="841"/>
                  </a:lnTo>
                  <a:lnTo>
                    <a:pt x="627" y="832"/>
                  </a:lnTo>
                  <a:lnTo>
                    <a:pt x="645" y="822"/>
                  </a:lnTo>
                  <a:lnTo>
                    <a:pt x="664" y="811"/>
                  </a:lnTo>
                  <a:lnTo>
                    <a:pt x="682" y="801"/>
                  </a:lnTo>
                  <a:lnTo>
                    <a:pt x="699" y="788"/>
                  </a:lnTo>
                  <a:lnTo>
                    <a:pt x="715" y="775"/>
                  </a:lnTo>
                  <a:lnTo>
                    <a:pt x="732" y="761"/>
                  </a:lnTo>
                  <a:lnTo>
                    <a:pt x="747" y="747"/>
                  </a:lnTo>
                  <a:lnTo>
                    <a:pt x="761" y="731"/>
                  </a:lnTo>
                  <a:lnTo>
                    <a:pt x="775" y="715"/>
                  </a:lnTo>
                  <a:lnTo>
                    <a:pt x="788" y="699"/>
                  </a:lnTo>
                  <a:lnTo>
                    <a:pt x="800" y="682"/>
                  </a:lnTo>
                  <a:lnTo>
                    <a:pt x="812" y="664"/>
                  </a:lnTo>
                  <a:lnTo>
                    <a:pt x="822" y="646"/>
                  </a:lnTo>
                  <a:lnTo>
                    <a:pt x="831" y="627"/>
                  </a:lnTo>
                  <a:lnTo>
                    <a:pt x="841" y="607"/>
                  </a:lnTo>
                  <a:lnTo>
                    <a:pt x="848" y="588"/>
                  </a:lnTo>
                  <a:lnTo>
                    <a:pt x="855" y="567"/>
                  </a:lnTo>
                  <a:lnTo>
                    <a:pt x="861" y="547"/>
                  </a:lnTo>
                  <a:lnTo>
                    <a:pt x="866" y="525"/>
                  </a:lnTo>
                  <a:lnTo>
                    <a:pt x="870" y="504"/>
                  </a:lnTo>
                  <a:lnTo>
                    <a:pt x="872" y="482"/>
                  </a:lnTo>
                  <a:lnTo>
                    <a:pt x="874" y="460"/>
                  </a:lnTo>
                  <a:lnTo>
                    <a:pt x="874" y="438"/>
                  </a:lnTo>
                  <a:close/>
                  <a:moveTo>
                    <a:pt x="833" y="438"/>
                  </a:moveTo>
                  <a:lnTo>
                    <a:pt x="832" y="458"/>
                  </a:lnTo>
                  <a:lnTo>
                    <a:pt x="831" y="478"/>
                  </a:lnTo>
                  <a:lnTo>
                    <a:pt x="829" y="498"/>
                  </a:lnTo>
                  <a:lnTo>
                    <a:pt x="825" y="518"/>
                  </a:lnTo>
                  <a:lnTo>
                    <a:pt x="820" y="536"/>
                  </a:lnTo>
                  <a:lnTo>
                    <a:pt x="815" y="555"/>
                  </a:lnTo>
                  <a:lnTo>
                    <a:pt x="809" y="574"/>
                  </a:lnTo>
                  <a:lnTo>
                    <a:pt x="802" y="591"/>
                  </a:lnTo>
                  <a:lnTo>
                    <a:pt x="794" y="609"/>
                  </a:lnTo>
                  <a:lnTo>
                    <a:pt x="786" y="626"/>
                  </a:lnTo>
                  <a:lnTo>
                    <a:pt x="776" y="643"/>
                  </a:lnTo>
                  <a:lnTo>
                    <a:pt x="765" y="659"/>
                  </a:lnTo>
                  <a:lnTo>
                    <a:pt x="754" y="674"/>
                  </a:lnTo>
                  <a:lnTo>
                    <a:pt x="742" y="689"/>
                  </a:lnTo>
                  <a:lnTo>
                    <a:pt x="731" y="703"/>
                  </a:lnTo>
                  <a:lnTo>
                    <a:pt x="718" y="717"/>
                  </a:lnTo>
                  <a:lnTo>
                    <a:pt x="704" y="730"/>
                  </a:lnTo>
                  <a:lnTo>
                    <a:pt x="688" y="742"/>
                  </a:lnTo>
                  <a:lnTo>
                    <a:pt x="674" y="754"/>
                  </a:lnTo>
                  <a:lnTo>
                    <a:pt x="658" y="766"/>
                  </a:lnTo>
                  <a:lnTo>
                    <a:pt x="642" y="776"/>
                  </a:lnTo>
                  <a:lnTo>
                    <a:pt x="626" y="785"/>
                  </a:lnTo>
                  <a:lnTo>
                    <a:pt x="608" y="794"/>
                  </a:lnTo>
                  <a:lnTo>
                    <a:pt x="591" y="802"/>
                  </a:lnTo>
                  <a:lnTo>
                    <a:pt x="573" y="809"/>
                  </a:lnTo>
                  <a:lnTo>
                    <a:pt x="554" y="816"/>
                  </a:lnTo>
                  <a:lnTo>
                    <a:pt x="536" y="821"/>
                  </a:lnTo>
                  <a:lnTo>
                    <a:pt x="517" y="825"/>
                  </a:lnTo>
                  <a:lnTo>
                    <a:pt x="497" y="829"/>
                  </a:lnTo>
                  <a:lnTo>
                    <a:pt x="478" y="831"/>
                  </a:lnTo>
                  <a:lnTo>
                    <a:pt x="457" y="833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37" y="832"/>
                  </a:lnTo>
                  <a:lnTo>
                    <a:pt x="459" y="830"/>
                  </a:lnTo>
                  <a:lnTo>
                    <a:pt x="479" y="828"/>
                  </a:lnTo>
                  <a:lnTo>
                    <a:pt x="500" y="825"/>
                  </a:lnTo>
                  <a:lnTo>
                    <a:pt x="520" y="820"/>
                  </a:lnTo>
                  <a:lnTo>
                    <a:pt x="540" y="814"/>
                  </a:lnTo>
                  <a:lnTo>
                    <a:pt x="559" y="808"/>
                  </a:lnTo>
                  <a:lnTo>
                    <a:pt x="579" y="800"/>
                  </a:lnTo>
                  <a:lnTo>
                    <a:pt x="597" y="791"/>
                  </a:lnTo>
                  <a:lnTo>
                    <a:pt x="614" y="783"/>
                  </a:lnTo>
                  <a:lnTo>
                    <a:pt x="632" y="773"/>
                  </a:lnTo>
                  <a:lnTo>
                    <a:pt x="649" y="762"/>
                  </a:lnTo>
                  <a:lnTo>
                    <a:pt x="665" y="750"/>
                  </a:lnTo>
                  <a:lnTo>
                    <a:pt x="681" y="737"/>
                  </a:lnTo>
                  <a:lnTo>
                    <a:pt x="697" y="724"/>
                  </a:lnTo>
                  <a:lnTo>
                    <a:pt x="711" y="710"/>
                  </a:lnTo>
                  <a:lnTo>
                    <a:pt x="725" y="696"/>
                  </a:lnTo>
                  <a:lnTo>
                    <a:pt x="738" y="681"/>
                  </a:lnTo>
                  <a:lnTo>
                    <a:pt x="750" y="665"/>
                  </a:lnTo>
                  <a:lnTo>
                    <a:pt x="761" y="649"/>
                  </a:lnTo>
                  <a:lnTo>
                    <a:pt x="772" y="633"/>
                  </a:lnTo>
                  <a:lnTo>
                    <a:pt x="783" y="615"/>
                  </a:lnTo>
                  <a:lnTo>
                    <a:pt x="792" y="597"/>
                  </a:lnTo>
                  <a:lnTo>
                    <a:pt x="800" y="579"/>
                  </a:lnTo>
                  <a:lnTo>
                    <a:pt x="808" y="559"/>
                  </a:lnTo>
                  <a:lnTo>
                    <a:pt x="814" y="540"/>
                  </a:lnTo>
                  <a:lnTo>
                    <a:pt x="820" y="520"/>
                  </a:lnTo>
                  <a:lnTo>
                    <a:pt x="824" y="500"/>
                  </a:lnTo>
                  <a:lnTo>
                    <a:pt x="828" y="479"/>
                  </a:lnTo>
                  <a:lnTo>
                    <a:pt x="831" y="459"/>
                  </a:lnTo>
                  <a:lnTo>
                    <a:pt x="833" y="438"/>
                  </a:lnTo>
                  <a:lnTo>
                    <a:pt x="833" y="417"/>
                  </a:lnTo>
                  <a:close/>
                  <a:moveTo>
                    <a:pt x="792" y="417"/>
                  </a:moveTo>
                  <a:lnTo>
                    <a:pt x="791" y="436"/>
                  </a:lnTo>
                  <a:lnTo>
                    <a:pt x="790" y="454"/>
                  </a:lnTo>
                  <a:lnTo>
                    <a:pt x="787" y="474"/>
                  </a:lnTo>
                  <a:lnTo>
                    <a:pt x="783" y="492"/>
                  </a:lnTo>
                  <a:lnTo>
                    <a:pt x="780" y="511"/>
                  </a:lnTo>
                  <a:lnTo>
                    <a:pt x="774" y="528"/>
                  </a:lnTo>
                  <a:lnTo>
                    <a:pt x="768" y="545"/>
                  </a:lnTo>
                  <a:lnTo>
                    <a:pt x="761" y="562"/>
                  </a:lnTo>
                  <a:lnTo>
                    <a:pt x="754" y="579"/>
                  </a:lnTo>
                  <a:lnTo>
                    <a:pt x="746" y="595"/>
                  </a:lnTo>
                  <a:lnTo>
                    <a:pt x="737" y="611"/>
                  </a:lnTo>
                  <a:lnTo>
                    <a:pt x="727" y="626"/>
                  </a:lnTo>
                  <a:lnTo>
                    <a:pt x="717" y="640"/>
                  </a:lnTo>
                  <a:lnTo>
                    <a:pt x="705" y="655"/>
                  </a:lnTo>
                  <a:lnTo>
                    <a:pt x="693" y="668"/>
                  </a:lnTo>
                  <a:lnTo>
                    <a:pt x="681" y="681"/>
                  </a:lnTo>
                  <a:lnTo>
                    <a:pt x="668" y="694"/>
                  </a:lnTo>
                  <a:lnTo>
                    <a:pt x="654" y="706"/>
                  </a:lnTo>
                  <a:lnTo>
                    <a:pt x="640" y="717"/>
                  </a:lnTo>
                  <a:lnTo>
                    <a:pt x="626" y="728"/>
                  </a:lnTo>
                  <a:lnTo>
                    <a:pt x="610" y="737"/>
                  </a:lnTo>
                  <a:lnTo>
                    <a:pt x="595" y="746"/>
                  </a:lnTo>
                  <a:lnTo>
                    <a:pt x="579" y="755"/>
                  </a:lnTo>
                  <a:lnTo>
                    <a:pt x="563" y="762"/>
                  </a:lnTo>
                  <a:lnTo>
                    <a:pt x="545" y="769"/>
                  </a:lnTo>
                  <a:lnTo>
                    <a:pt x="528" y="774"/>
                  </a:lnTo>
                  <a:lnTo>
                    <a:pt x="510" y="780"/>
                  </a:lnTo>
                  <a:lnTo>
                    <a:pt x="491" y="784"/>
                  </a:lnTo>
                  <a:lnTo>
                    <a:pt x="473" y="787"/>
                  </a:lnTo>
                  <a:lnTo>
                    <a:pt x="455" y="789"/>
                  </a:lnTo>
                  <a:lnTo>
                    <a:pt x="435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6" y="792"/>
                  </a:lnTo>
                  <a:lnTo>
                    <a:pt x="437" y="790"/>
                  </a:lnTo>
                  <a:lnTo>
                    <a:pt x="456" y="788"/>
                  </a:lnTo>
                  <a:lnTo>
                    <a:pt x="476" y="784"/>
                  </a:lnTo>
                  <a:lnTo>
                    <a:pt x="495" y="780"/>
                  </a:lnTo>
                  <a:lnTo>
                    <a:pt x="513" y="775"/>
                  </a:lnTo>
                  <a:lnTo>
                    <a:pt x="532" y="768"/>
                  </a:lnTo>
                  <a:lnTo>
                    <a:pt x="550" y="761"/>
                  </a:lnTo>
                  <a:lnTo>
                    <a:pt x="567" y="753"/>
                  </a:lnTo>
                  <a:lnTo>
                    <a:pt x="585" y="744"/>
                  </a:lnTo>
                  <a:lnTo>
                    <a:pt x="601" y="735"/>
                  </a:lnTo>
                  <a:lnTo>
                    <a:pt x="617" y="725"/>
                  </a:lnTo>
                  <a:lnTo>
                    <a:pt x="633" y="713"/>
                  </a:lnTo>
                  <a:lnTo>
                    <a:pt x="647" y="701"/>
                  </a:lnTo>
                  <a:lnTo>
                    <a:pt x="663" y="689"/>
                  </a:lnTo>
                  <a:lnTo>
                    <a:pt x="677" y="676"/>
                  </a:lnTo>
                  <a:lnTo>
                    <a:pt x="690" y="662"/>
                  </a:lnTo>
                  <a:lnTo>
                    <a:pt x="701" y="648"/>
                  </a:lnTo>
                  <a:lnTo>
                    <a:pt x="713" y="633"/>
                  </a:lnTo>
                  <a:lnTo>
                    <a:pt x="724" y="618"/>
                  </a:lnTo>
                  <a:lnTo>
                    <a:pt x="735" y="602"/>
                  </a:lnTo>
                  <a:lnTo>
                    <a:pt x="745" y="585"/>
                  </a:lnTo>
                  <a:lnTo>
                    <a:pt x="753" y="568"/>
                  </a:lnTo>
                  <a:lnTo>
                    <a:pt x="761" y="550"/>
                  </a:lnTo>
                  <a:lnTo>
                    <a:pt x="768" y="533"/>
                  </a:lnTo>
                  <a:lnTo>
                    <a:pt x="774" y="514"/>
                  </a:lnTo>
                  <a:lnTo>
                    <a:pt x="779" y="495"/>
                  </a:lnTo>
                  <a:lnTo>
                    <a:pt x="784" y="477"/>
                  </a:lnTo>
                  <a:lnTo>
                    <a:pt x="788" y="457"/>
                  </a:lnTo>
                  <a:lnTo>
                    <a:pt x="790" y="437"/>
                  </a:lnTo>
                  <a:lnTo>
                    <a:pt x="791" y="417"/>
                  </a:lnTo>
                  <a:lnTo>
                    <a:pt x="792" y="397"/>
                  </a:lnTo>
                  <a:close/>
                  <a:moveTo>
                    <a:pt x="750" y="397"/>
                  </a:moveTo>
                  <a:lnTo>
                    <a:pt x="750" y="415"/>
                  </a:lnTo>
                  <a:lnTo>
                    <a:pt x="749" y="432"/>
                  </a:lnTo>
                  <a:lnTo>
                    <a:pt x="746" y="451"/>
                  </a:lnTo>
                  <a:lnTo>
                    <a:pt x="744" y="468"/>
                  </a:lnTo>
                  <a:lnTo>
                    <a:pt x="739" y="485"/>
                  </a:lnTo>
                  <a:lnTo>
                    <a:pt x="735" y="501"/>
                  </a:lnTo>
                  <a:lnTo>
                    <a:pt x="728" y="518"/>
                  </a:lnTo>
                  <a:lnTo>
                    <a:pt x="723" y="534"/>
                  </a:lnTo>
                  <a:lnTo>
                    <a:pt x="715" y="550"/>
                  </a:lnTo>
                  <a:lnTo>
                    <a:pt x="708" y="565"/>
                  </a:lnTo>
                  <a:lnTo>
                    <a:pt x="699" y="580"/>
                  </a:lnTo>
                  <a:lnTo>
                    <a:pt x="690" y="594"/>
                  </a:lnTo>
                  <a:lnTo>
                    <a:pt x="680" y="608"/>
                  </a:lnTo>
                  <a:lnTo>
                    <a:pt x="669" y="621"/>
                  </a:lnTo>
                  <a:lnTo>
                    <a:pt x="658" y="634"/>
                  </a:lnTo>
                  <a:lnTo>
                    <a:pt x="646" y="647"/>
                  </a:lnTo>
                  <a:lnTo>
                    <a:pt x="634" y="658"/>
                  </a:lnTo>
                  <a:lnTo>
                    <a:pt x="621" y="670"/>
                  </a:lnTo>
                  <a:lnTo>
                    <a:pt x="609" y="680"/>
                  </a:lnTo>
                  <a:lnTo>
                    <a:pt x="594" y="690"/>
                  </a:lnTo>
                  <a:lnTo>
                    <a:pt x="579" y="699"/>
                  </a:lnTo>
                  <a:lnTo>
                    <a:pt x="565" y="708"/>
                  </a:lnTo>
                  <a:lnTo>
                    <a:pt x="550" y="715"/>
                  </a:lnTo>
                  <a:lnTo>
                    <a:pt x="534" y="723"/>
                  </a:lnTo>
                  <a:lnTo>
                    <a:pt x="518" y="729"/>
                  </a:lnTo>
                  <a:lnTo>
                    <a:pt x="502" y="735"/>
                  </a:lnTo>
                  <a:lnTo>
                    <a:pt x="484" y="739"/>
                  </a:lnTo>
                  <a:lnTo>
                    <a:pt x="468" y="743"/>
                  </a:lnTo>
                  <a:lnTo>
                    <a:pt x="450" y="747"/>
                  </a:lnTo>
                  <a:lnTo>
                    <a:pt x="432" y="749"/>
                  </a:lnTo>
                  <a:lnTo>
                    <a:pt x="414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4" y="748"/>
                  </a:lnTo>
                  <a:lnTo>
                    <a:pt x="414" y="747"/>
                  </a:lnTo>
                  <a:lnTo>
                    <a:pt x="432" y="745"/>
                  </a:lnTo>
                  <a:lnTo>
                    <a:pt x="450" y="742"/>
                  </a:lnTo>
                  <a:lnTo>
                    <a:pt x="469" y="738"/>
                  </a:lnTo>
                  <a:lnTo>
                    <a:pt x="487" y="732"/>
                  </a:lnTo>
                  <a:lnTo>
                    <a:pt x="504" y="727"/>
                  </a:lnTo>
                  <a:lnTo>
                    <a:pt x="522" y="720"/>
                  </a:lnTo>
                  <a:lnTo>
                    <a:pt x="538" y="713"/>
                  </a:lnTo>
                  <a:lnTo>
                    <a:pt x="554" y="704"/>
                  </a:lnTo>
                  <a:lnTo>
                    <a:pt x="569" y="695"/>
                  </a:lnTo>
                  <a:lnTo>
                    <a:pt x="585" y="686"/>
                  </a:lnTo>
                  <a:lnTo>
                    <a:pt x="599" y="675"/>
                  </a:lnTo>
                  <a:lnTo>
                    <a:pt x="613" y="664"/>
                  </a:lnTo>
                  <a:lnTo>
                    <a:pt x="627" y="652"/>
                  </a:lnTo>
                  <a:lnTo>
                    <a:pt x="640" y="639"/>
                  </a:lnTo>
                  <a:lnTo>
                    <a:pt x="652" y="626"/>
                  </a:lnTo>
                  <a:lnTo>
                    <a:pt x="664" y="613"/>
                  </a:lnTo>
                  <a:lnTo>
                    <a:pt x="676" y="598"/>
                  </a:lnTo>
                  <a:lnTo>
                    <a:pt x="686" y="584"/>
                  </a:lnTo>
                  <a:lnTo>
                    <a:pt x="696" y="569"/>
                  </a:lnTo>
                  <a:lnTo>
                    <a:pt x="705" y="553"/>
                  </a:lnTo>
                  <a:lnTo>
                    <a:pt x="713" y="537"/>
                  </a:lnTo>
                  <a:lnTo>
                    <a:pt x="720" y="520"/>
                  </a:lnTo>
                  <a:lnTo>
                    <a:pt x="727" y="503"/>
                  </a:lnTo>
                  <a:lnTo>
                    <a:pt x="733" y="486"/>
                  </a:lnTo>
                  <a:lnTo>
                    <a:pt x="739" y="469"/>
                  </a:lnTo>
                  <a:lnTo>
                    <a:pt x="742" y="450"/>
                  </a:lnTo>
                  <a:lnTo>
                    <a:pt x="746" y="432"/>
                  </a:lnTo>
                  <a:lnTo>
                    <a:pt x="749" y="412"/>
                  </a:lnTo>
                  <a:lnTo>
                    <a:pt x="750" y="394"/>
                  </a:lnTo>
                  <a:lnTo>
                    <a:pt x="751" y="375"/>
                  </a:lnTo>
                  <a:close/>
                  <a:moveTo>
                    <a:pt x="709" y="375"/>
                  </a:moveTo>
                  <a:lnTo>
                    <a:pt x="709" y="392"/>
                  </a:lnTo>
                  <a:lnTo>
                    <a:pt x="706" y="408"/>
                  </a:lnTo>
                  <a:lnTo>
                    <a:pt x="704" y="425"/>
                  </a:lnTo>
                  <a:lnTo>
                    <a:pt x="702" y="442"/>
                  </a:lnTo>
                  <a:lnTo>
                    <a:pt x="698" y="458"/>
                  </a:lnTo>
                  <a:lnTo>
                    <a:pt x="693" y="473"/>
                  </a:lnTo>
                  <a:lnTo>
                    <a:pt x="688" y="489"/>
                  </a:lnTo>
                  <a:lnTo>
                    <a:pt x="683" y="504"/>
                  </a:lnTo>
                  <a:lnTo>
                    <a:pt x="676" y="519"/>
                  </a:lnTo>
                  <a:lnTo>
                    <a:pt x="669" y="533"/>
                  </a:lnTo>
                  <a:lnTo>
                    <a:pt x="660" y="547"/>
                  </a:lnTo>
                  <a:lnTo>
                    <a:pt x="651" y="560"/>
                  </a:lnTo>
                  <a:lnTo>
                    <a:pt x="643" y="573"/>
                  </a:lnTo>
                  <a:lnTo>
                    <a:pt x="633" y="586"/>
                  </a:lnTo>
                  <a:lnTo>
                    <a:pt x="622" y="598"/>
                  </a:lnTo>
                  <a:lnTo>
                    <a:pt x="611" y="610"/>
                  </a:lnTo>
                  <a:lnTo>
                    <a:pt x="599" y="621"/>
                  </a:lnTo>
                  <a:lnTo>
                    <a:pt x="588" y="632"/>
                  </a:lnTo>
                  <a:lnTo>
                    <a:pt x="575" y="641"/>
                  </a:lnTo>
                  <a:lnTo>
                    <a:pt x="562" y="651"/>
                  </a:lnTo>
                  <a:lnTo>
                    <a:pt x="548" y="660"/>
                  </a:lnTo>
                  <a:lnTo>
                    <a:pt x="535" y="667"/>
                  </a:lnTo>
                  <a:lnTo>
                    <a:pt x="519" y="675"/>
                  </a:lnTo>
                  <a:lnTo>
                    <a:pt x="505" y="681"/>
                  </a:lnTo>
                  <a:lnTo>
                    <a:pt x="490" y="688"/>
                  </a:lnTo>
                  <a:lnTo>
                    <a:pt x="474" y="692"/>
                  </a:lnTo>
                  <a:lnTo>
                    <a:pt x="459" y="698"/>
                  </a:lnTo>
                  <a:lnTo>
                    <a:pt x="443" y="701"/>
                  </a:lnTo>
                  <a:lnTo>
                    <a:pt x="425" y="704"/>
                  </a:lnTo>
                  <a:lnTo>
                    <a:pt x="409" y="706"/>
                  </a:lnTo>
                  <a:lnTo>
                    <a:pt x="392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2" y="708"/>
                  </a:lnTo>
                  <a:lnTo>
                    <a:pt x="390" y="707"/>
                  </a:lnTo>
                  <a:lnTo>
                    <a:pt x="408" y="705"/>
                  </a:lnTo>
                  <a:lnTo>
                    <a:pt x="426" y="701"/>
                  </a:lnTo>
                  <a:lnTo>
                    <a:pt x="442" y="697"/>
                  </a:lnTo>
                  <a:lnTo>
                    <a:pt x="460" y="693"/>
                  </a:lnTo>
                  <a:lnTo>
                    <a:pt x="476" y="687"/>
                  </a:lnTo>
                  <a:lnTo>
                    <a:pt x="492" y="681"/>
                  </a:lnTo>
                  <a:lnTo>
                    <a:pt x="508" y="673"/>
                  </a:lnTo>
                  <a:lnTo>
                    <a:pt x="523" y="666"/>
                  </a:lnTo>
                  <a:lnTo>
                    <a:pt x="537" y="657"/>
                  </a:lnTo>
                  <a:lnTo>
                    <a:pt x="552" y="648"/>
                  </a:lnTo>
                  <a:lnTo>
                    <a:pt x="567" y="638"/>
                  </a:lnTo>
                  <a:lnTo>
                    <a:pt x="579" y="628"/>
                  </a:lnTo>
                  <a:lnTo>
                    <a:pt x="592" y="616"/>
                  </a:lnTo>
                  <a:lnTo>
                    <a:pt x="604" y="605"/>
                  </a:lnTo>
                  <a:lnTo>
                    <a:pt x="616" y="592"/>
                  </a:lnTo>
                  <a:lnTo>
                    <a:pt x="627" y="579"/>
                  </a:lnTo>
                  <a:lnTo>
                    <a:pt x="638" y="566"/>
                  </a:lnTo>
                  <a:lnTo>
                    <a:pt x="648" y="552"/>
                  </a:lnTo>
                  <a:lnTo>
                    <a:pt x="657" y="538"/>
                  </a:lnTo>
                  <a:lnTo>
                    <a:pt x="666" y="523"/>
                  </a:lnTo>
                  <a:lnTo>
                    <a:pt x="673" y="508"/>
                  </a:lnTo>
                  <a:lnTo>
                    <a:pt x="681" y="492"/>
                  </a:lnTo>
                  <a:lnTo>
                    <a:pt x="686" y="476"/>
                  </a:lnTo>
                  <a:lnTo>
                    <a:pt x="693" y="459"/>
                  </a:lnTo>
                  <a:lnTo>
                    <a:pt x="697" y="443"/>
                  </a:lnTo>
                  <a:lnTo>
                    <a:pt x="702" y="426"/>
                  </a:lnTo>
                  <a:lnTo>
                    <a:pt x="704" y="409"/>
                  </a:lnTo>
                  <a:lnTo>
                    <a:pt x="707" y="390"/>
                  </a:lnTo>
                  <a:lnTo>
                    <a:pt x="708" y="373"/>
                  </a:lnTo>
                  <a:lnTo>
                    <a:pt x="708" y="355"/>
                  </a:lnTo>
                  <a:close/>
                  <a:moveTo>
                    <a:pt x="667" y="355"/>
                  </a:moveTo>
                  <a:lnTo>
                    <a:pt x="666" y="371"/>
                  </a:lnTo>
                  <a:lnTo>
                    <a:pt x="665" y="386"/>
                  </a:lnTo>
                  <a:lnTo>
                    <a:pt x="663" y="402"/>
                  </a:lnTo>
                  <a:lnTo>
                    <a:pt x="661" y="417"/>
                  </a:lnTo>
                  <a:lnTo>
                    <a:pt x="657" y="432"/>
                  </a:lnTo>
                  <a:lnTo>
                    <a:pt x="653" y="448"/>
                  </a:lnTo>
                  <a:lnTo>
                    <a:pt x="648" y="462"/>
                  </a:lnTo>
                  <a:lnTo>
                    <a:pt x="642" y="476"/>
                  </a:lnTo>
                  <a:lnTo>
                    <a:pt x="636" y="490"/>
                  </a:lnTo>
                  <a:lnTo>
                    <a:pt x="629" y="504"/>
                  </a:lnTo>
                  <a:lnTo>
                    <a:pt x="622" y="517"/>
                  </a:lnTo>
                  <a:lnTo>
                    <a:pt x="613" y="529"/>
                  </a:lnTo>
                  <a:lnTo>
                    <a:pt x="604" y="542"/>
                  </a:lnTo>
                  <a:lnTo>
                    <a:pt x="596" y="553"/>
                  </a:lnTo>
                  <a:lnTo>
                    <a:pt x="586" y="564"/>
                  </a:lnTo>
                  <a:lnTo>
                    <a:pt x="575" y="575"/>
                  </a:lnTo>
                  <a:lnTo>
                    <a:pt x="564" y="586"/>
                  </a:lnTo>
                  <a:lnTo>
                    <a:pt x="552" y="596"/>
                  </a:lnTo>
                  <a:lnTo>
                    <a:pt x="542" y="605"/>
                  </a:lnTo>
                  <a:lnTo>
                    <a:pt x="529" y="614"/>
                  </a:lnTo>
                  <a:lnTo>
                    <a:pt x="516" y="621"/>
                  </a:lnTo>
                  <a:lnTo>
                    <a:pt x="503" y="629"/>
                  </a:lnTo>
                  <a:lnTo>
                    <a:pt x="490" y="635"/>
                  </a:lnTo>
                  <a:lnTo>
                    <a:pt x="476" y="642"/>
                  </a:lnTo>
                  <a:lnTo>
                    <a:pt x="462" y="647"/>
                  </a:lnTo>
                  <a:lnTo>
                    <a:pt x="447" y="653"/>
                  </a:lnTo>
                  <a:lnTo>
                    <a:pt x="433" y="657"/>
                  </a:lnTo>
                  <a:lnTo>
                    <a:pt x="417" y="660"/>
                  </a:lnTo>
                  <a:lnTo>
                    <a:pt x="402" y="664"/>
                  </a:lnTo>
                  <a:lnTo>
                    <a:pt x="386" y="665"/>
                  </a:lnTo>
                  <a:lnTo>
                    <a:pt x="370" y="667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0" y="666"/>
                  </a:lnTo>
                  <a:lnTo>
                    <a:pt x="367" y="665"/>
                  </a:lnTo>
                  <a:lnTo>
                    <a:pt x="383" y="663"/>
                  </a:lnTo>
                  <a:lnTo>
                    <a:pt x="401" y="660"/>
                  </a:lnTo>
                  <a:lnTo>
                    <a:pt x="417" y="657"/>
                  </a:lnTo>
                  <a:lnTo>
                    <a:pt x="432" y="651"/>
                  </a:lnTo>
                  <a:lnTo>
                    <a:pt x="448" y="647"/>
                  </a:lnTo>
                  <a:lnTo>
                    <a:pt x="463" y="640"/>
                  </a:lnTo>
                  <a:lnTo>
                    <a:pt x="477" y="634"/>
                  </a:lnTo>
                  <a:lnTo>
                    <a:pt x="493" y="626"/>
                  </a:lnTo>
                  <a:lnTo>
                    <a:pt x="506" y="619"/>
                  </a:lnTo>
                  <a:lnTo>
                    <a:pt x="520" y="610"/>
                  </a:lnTo>
                  <a:lnTo>
                    <a:pt x="533" y="600"/>
                  </a:lnTo>
                  <a:lnTo>
                    <a:pt x="546" y="591"/>
                  </a:lnTo>
                  <a:lnTo>
                    <a:pt x="557" y="580"/>
                  </a:lnTo>
                  <a:lnTo>
                    <a:pt x="569" y="569"/>
                  </a:lnTo>
                  <a:lnTo>
                    <a:pt x="580" y="557"/>
                  </a:lnTo>
                  <a:lnTo>
                    <a:pt x="591" y="545"/>
                  </a:lnTo>
                  <a:lnTo>
                    <a:pt x="601" y="532"/>
                  </a:lnTo>
                  <a:lnTo>
                    <a:pt x="609" y="519"/>
                  </a:lnTo>
                  <a:lnTo>
                    <a:pt x="618" y="506"/>
                  </a:lnTo>
                  <a:lnTo>
                    <a:pt x="627" y="492"/>
                  </a:lnTo>
                  <a:lnTo>
                    <a:pt x="634" y="478"/>
                  </a:lnTo>
                  <a:lnTo>
                    <a:pt x="641" y="463"/>
                  </a:lnTo>
                  <a:lnTo>
                    <a:pt x="646" y="448"/>
                  </a:lnTo>
                  <a:lnTo>
                    <a:pt x="651" y="432"/>
                  </a:lnTo>
                  <a:lnTo>
                    <a:pt x="656" y="417"/>
                  </a:lnTo>
                  <a:lnTo>
                    <a:pt x="660" y="401"/>
                  </a:lnTo>
                  <a:lnTo>
                    <a:pt x="662" y="384"/>
                  </a:lnTo>
                  <a:lnTo>
                    <a:pt x="664" y="367"/>
                  </a:lnTo>
                  <a:lnTo>
                    <a:pt x="667" y="351"/>
                  </a:lnTo>
                  <a:lnTo>
                    <a:pt x="667" y="334"/>
                  </a:lnTo>
                  <a:close/>
                  <a:moveTo>
                    <a:pt x="624" y="334"/>
                  </a:moveTo>
                  <a:lnTo>
                    <a:pt x="624" y="349"/>
                  </a:lnTo>
                  <a:lnTo>
                    <a:pt x="623" y="363"/>
                  </a:lnTo>
                  <a:lnTo>
                    <a:pt x="621" y="378"/>
                  </a:lnTo>
                  <a:lnTo>
                    <a:pt x="619" y="392"/>
                  </a:lnTo>
                  <a:lnTo>
                    <a:pt x="616" y="406"/>
                  </a:lnTo>
                  <a:lnTo>
                    <a:pt x="611" y="420"/>
                  </a:lnTo>
                  <a:lnTo>
                    <a:pt x="607" y="434"/>
                  </a:lnTo>
                  <a:lnTo>
                    <a:pt x="602" y="447"/>
                  </a:lnTo>
                  <a:lnTo>
                    <a:pt x="596" y="460"/>
                  </a:lnTo>
                  <a:lnTo>
                    <a:pt x="590" y="472"/>
                  </a:lnTo>
                  <a:lnTo>
                    <a:pt x="582" y="485"/>
                  </a:lnTo>
                  <a:lnTo>
                    <a:pt x="575" y="497"/>
                  </a:lnTo>
                  <a:lnTo>
                    <a:pt x="567" y="508"/>
                  </a:lnTo>
                  <a:lnTo>
                    <a:pt x="558" y="518"/>
                  </a:lnTo>
                  <a:lnTo>
                    <a:pt x="549" y="529"/>
                  </a:lnTo>
                  <a:lnTo>
                    <a:pt x="539" y="540"/>
                  </a:lnTo>
                  <a:lnTo>
                    <a:pt x="529" y="550"/>
                  </a:lnTo>
                  <a:lnTo>
                    <a:pt x="518" y="558"/>
                  </a:lnTo>
                  <a:lnTo>
                    <a:pt x="508" y="567"/>
                  </a:lnTo>
                  <a:lnTo>
                    <a:pt x="496" y="576"/>
                  </a:lnTo>
                  <a:lnTo>
                    <a:pt x="484" y="583"/>
                  </a:lnTo>
                  <a:lnTo>
                    <a:pt x="472" y="590"/>
                  </a:lnTo>
                  <a:lnTo>
                    <a:pt x="459" y="596"/>
                  </a:lnTo>
                  <a:lnTo>
                    <a:pt x="447" y="602"/>
                  </a:lnTo>
                  <a:lnTo>
                    <a:pt x="433" y="607"/>
                  </a:lnTo>
                  <a:lnTo>
                    <a:pt x="420" y="612"/>
                  </a:lnTo>
                  <a:lnTo>
                    <a:pt x="406" y="616"/>
                  </a:lnTo>
                  <a:lnTo>
                    <a:pt x="392" y="619"/>
                  </a:lnTo>
                  <a:lnTo>
                    <a:pt x="378" y="622"/>
                  </a:lnTo>
                  <a:lnTo>
                    <a:pt x="363" y="623"/>
                  </a:lnTo>
                  <a:lnTo>
                    <a:pt x="348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29" y="624"/>
                  </a:lnTo>
                  <a:lnTo>
                    <a:pt x="345" y="622"/>
                  </a:lnTo>
                  <a:lnTo>
                    <a:pt x="361" y="621"/>
                  </a:lnTo>
                  <a:lnTo>
                    <a:pt x="376" y="617"/>
                  </a:lnTo>
                  <a:lnTo>
                    <a:pt x="392" y="614"/>
                  </a:lnTo>
                  <a:lnTo>
                    <a:pt x="406" y="610"/>
                  </a:lnTo>
                  <a:lnTo>
                    <a:pt x="421" y="604"/>
                  </a:lnTo>
                  <a:lnTo>
                    <a:pt x="435" y="599"/>
                  </a:lnTo>
                  <a:lnTo>
                    <a:pt x="449" y="592"/>
                  </a:lnTo>
                  <a:lnTo>
                    <a:pt x="462" y="586"/>
                  </a:lnTo>
                  <a:lnTo>
                    <a:pt x="475" y="578"/>
                  </a:lnTo>
                  <a:lnTo>
                    <a:pt x="488" y="571"/>
                  </a:lnTo>
                  <a:lnTo>
                    <a:pt x="501" y="562"/>
                  </a:lnTo>
                  <a:lnTo>
                    <a:pt x="511" y="553"/>
                  </a:lnTo>
                  <a:lnTo>
                    <a:pt x="523" y="543"/>
                  </a:lnTo>
                  <a:lnTo>
                    <a:pt x="534" y="532"/>
                  </a:lnTo>
                  <a:lnTo>
                    <a:pt x="545" y="521"/>
                  </a:lnTo>
                  <a:lnTo>
                    <a:pt x="555" y="510"/>
                  </a:lnTo>
                  <a:lnTo>
                    <a:pt x="563" y="499"/>
                  </a:lnTo>
                  <a:lnTo>
                    <a:pt x="572" y="486"/>
                  </a:lnTo>
                  <a:lnTo>
                    <a:pt x="581" y="474"/>
                  </a:lnTo>
                  <a:lnTo>
                    <a:pt x="588" y="461"/>
                  </a:lnTo>
                  <a:lnTo>
                    <a:pt x="595" y="447"/>
                  </a:lnTo>
                  <a:lnTo>
                    <a:pt x="601" y="433"/>
                  </a:lnTo>
                  <a:lnTo>
                    <a:pt x="607" y="419"/>
                  </a:lnTo>
                  <a:lnTo>
                    <a:pt x="612" y="405"/>
                  </a:lnTo>
                  <a:lnTo>
                    <a:pt x="616" y="389"/>
                  </a:lnTo>
                  <a:lnTo>
                    <a:pt x="620" y="374"/>
                  </a:lnTo>
                  <a:lnTo>
                    <a:pt x="622" y="359"/>
                  </a:lnTo>
                  <a:lnTo>
                    <a:pt x="624" y="343"/>
                  </a:lnTo>
                  <a:lnTo>
                    <a:pt x="625" y="328"/>
                  </a:lnTo>
                  <a:lnTo>
                    <a:pt x="626" y="312"/>
                  </a:lnTo>
                  <a:close/>
                  <a:moveTo>
                    <a:pt x="584" y="312"/>
                  </a:moveTo>
                  <a:lnTo>
                    <a:pt x="584" y="326"/>
                  </a:lnTo>
                  <a:lnTo>
                    <a:pt x="583" y="339"/>
                  </a:lnTo>
                  <a:lnTo>
                    <a:pt x="581" y="353"/>
                  </a:lnTo>
                  <a:lnTo>
                    <a:pt x="578" y="366"/>
                  </a:lnTo>
                  <a:lnTo>
                    <a:pt x="575" y="379"/>
                  </a:lnTo>
                  <a:lnTo>
                    <a:pt x="572" y="392"/>
                  </a:lnTo>
                  <a:lnTo>
                    <a:pt x="568" y="405"/>
                  </a:lnTo>
                  <a:lnTo>
                    <a:pt x="562" y="416"/>
                  </a:lnTo>
                  <a:lnTo>
                    <a:pt x="557" y="428"/>
                  </a:lnTo>
                  <a:lnTo>
                    <a:pt x="551" y="440"/>
                  </a:lnTo>
                  <a:lnTo>
                    <a:pt x="545" y="452"/>
                  </a:lnTo>
                  <a:lnTo>
                    <a:pt x="537" y="463"/>
                  </a:lnTo>
                  <a:lnTo>
                    <a:pt x="530" y="474"/>
                  </a:lnTo>
                  <a:lnTo>
                    <a:pt x="522" y="483"/>
                  </a:lnTo>
                  <a:lnTo>
                    <a:pt x="514" y="493"/>
                  </a:lnTo>
                  <a:lnTo>
                    <a:pt x="505" y="503"/>
                  </a:lnTo>
                  <a:lnTo>
                    <a:pt x="495" y="511"/>
                  </a:lnTo>
                  <a:lnTo>
                    <a:pt x="486" y="520"/>
                  </a:lnTo>
                  <a:lnTo>
                    <a:pt x="475" y="529"/>
                  </a:lnTo>
                  <a:lnTo>
                    <a:pt x="465" y="536"/>
                  </a:lnTo>
                  <a:lnTo>
                    <a:pt x="453" y="543"/>
                  </a:lnTo>
                  <a:lnTo>
                    <a:pt x="442" y="549"/>
                  </a:lnTo>
                  <a:lnTo>
                    <a:pt x="430" y="556"/>
                  </a:lnTo>
                  <a:lnTo>
                    <a:pt x="419" y="561"/>
                  </a:lnTo>
                  <a:lnTo>
                    <a:pt x="407" y="565"/>
                  </a:lnTo>
                  <a:lnTo>
                    <a:pt x="394" y="570"/>
                  </a:lnTo>
                  <a:lnTo>
                    <a:pt x="381" y="574"/>
                  </a:lnTo>
                  <a:lnTo>
                    <a:pt x="368" y="576"/>
                  </a:lnTo>
                  <a:lnTo>
                    <a:pt x="355" y="580"/>
                  </a:lnTo>
                  <a:lnTo>
                    <a:pt x="341" y="581"/>
                  </a:lnTo>
                  <a:lnTo>
                    <a:pt x="327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6" y="582"/>
                  </a:lnTo>
                  <a:lnTo>
                    <a:pt x="321" y="581"/>
                  </a:lnTo>
                  <a:lnTo>
                    <a:pt x="336" y="580"/>
                  </a:lnTo>
                  <a:lnTo>
                    <a:pt x="350" y="577"/>
                  </a:lnTo>
                  <a:lnTo>
                    <a:pt x="364" y="574"/>
                  </a:lnTo>
                  <a:lnTo>
                    <a:pt x="378" y="570"/>
                  </a:lnTo>
                  <a:lnTo>
                    <a:pt x="391" y="565"/>
                  </a:lnTo>
                  <a:lnTo>
                    <a:pt x="405" y="560"/>
                  </a:lnTo>
                  <a:lnTo>
                    <a:pt x="417" y="554"/>
                  </a:lnTo>
                  <a:lnTo>
                    <a:pt x="430" y="548"/>
                  </a:lnTo>
                  <a:lnTo>
                    <a:pt x="442" y="541"/>
                  </a:lnTo>
                  <a:lnTo>
                    <a:pt x="454" y="534"/>
                  </a:lnTo>
                  <a:lnTo>
                    <a:pt x="466" y="525"/>
                  </a:lnTo>
                  <a:lnTo>
                    <a:pt x="476" y="516"/>
                  </a:lnTo>
                  <a:lnTo>
                    <a:pt x="487" y="508"/>
                  </a:lnTo>
                  <a:lnTo>
                    <a:pt x="497" y="498"/>
                  </a:lnTo>
                  <a:lnTo>
                    <a:pt x="507" y="487"/>
                  </a:lnTo>
                  <a:lnTo>
                    <a:pt x="516" y="476"/>
                  </a:lnTo>
                  <a:lnTo>
                    <a:pt x="525" y="466"/>
                  </a:lnTo>
                  <a:lnTo>
                    <a:pt x="533" y="455"/>
                  </a:lnTo>
                  <a:lnTo>
                    <a:pt x="540" y="443"/>
                  </a:lnTo>
                  <a:lnTo>
                    <a:pt x="548" y="430"/>
                  </a:lnTo>
                  <a:lnTo>
                    <a:pt x="554" y="418"/>
                  </a:lnTo>
                  <a:lnTo>
                    <a:pt x="560" y="405"/>
                  </a:lnTo>
                  <a:lnTo>
                    <a:pt x="565" y="392"/>
                  </a:lnTo>
                  <a:lnTo>
                    <a:pt x="569" y="378"/>
                  </a:lnTo>
                  <a:lnTo>
                    <a:pt x="574" y="364"/>
                  </a:lnTo>
                  <a:lnTo>
                    <a:pt x="577" y="350"/>
                  </a:lnTo>
                  <a:lnTo>
                    <a:pt x="579" y="336"/>
                  </a:lnTo>
                  <a:lnTo>
                    <a:pt x="581" y="321"/>
                  </a:lnTo>
                  <a:lnTo>
                    <a:pt x="582" y="307"/>
                  </a:lnTo>
                  <a:lnTo>
                    <a:pt x="582" y="292"/>
                  </a:lnTo>
                  <a:close/>
                  <a:moveTo>
                    <a:pt x="541" y="292"/>
                  </a:moveTo>
                  <a:lnTo>
                    <a:pt x="541" y="305"/>
                  </a:lnTo>
                  <a:lnTo>
                    <a:pt x="540" y="317"/>
                  </a:lnTo>
                  <a:lnTo>
                    <a:pt x="538" y="329"/>
                  </a:lnTo>
                  <a:lnTo>
                    <a:pt x="536" y="341"/>
                  </a:lnTo>
                  <a:lnTo>
                    <a:pt x="534" y="354"/>
                  </a:lnTo>
                  <a:lnTo>
                    <a:pt x="529" y="366"/>
                  </a:lnTo>
                  <a:lnTo>
                    <a:pt x="526" y="377"/>
                  </a:lnTo>
                  <a:lnTo>
                    <a:pt x="522" y="389"/>
                  </a:lnTo>
                  <a:lnTo>
                    <a:pt x="516" y="400"/>
                  </a:lnTo>
                  <a:lnTo>
                    <a:pt x="511" y="410"/>
                  </a:lnTo>
                  <a:lnTo>
                    <a:pt x="505" y="421"/>
                  </a:lnTo>
                  <a:lnTo>
                    <a:pt x="498" y="431"/>
                  </a:lnTo>
                  <a:lnTo>
                    <a:pt x="492" y="441"/>
                  </a:lnTo>
                  <a:lnTo>
                    <a:pt x="484" y="450"/>
                  </a:lnTo>
                  <a:lnTo>
                    <a:pt x="476" y="459"/>
                  </a:lnTo>
                  <a:lnTo>
                    <a:pt x="468" y="468"/>
                  </a:lnTo>
                  <a:lnTo>
                    <a:pt x="459" y="476"/>
                  </a:lnTo>
                  <a:lnTo>
                    <a:pt x="451" y="484"/>
                  </a:lnTo>
                  <a:lnTo>
                    <a:pt x="441" y="491"/>
                  </a:lnTo>
                  <a:lnTo>
                    <a:pt x="431" y="499"/>
                  </a:lnTo>
                  <a:lnTo>
                    <a:pt x="420" y="506"/>
                  </a:lnTo>
                  <a:lnTo>
                    <a:pt x="411" y="511"/>
                  </a:lnTo>
                  <a:lnTo>
                    <a:pt x="400" y="516"/>
                  </a:lnTo>
                  <a:lnTo>
                    <a:pt x="389" y="522"/>
                  </a:lnTo>
                  <a:lnTo>
                    <a:pt x="377" y="526"/>
                  </a:lnTo>
                  <a:lnTo>
                    <a:pt x="365" y="530"/>
                  </a:lnTo>
                  <a:lnTo>
                    <a:pt x="353" y="534"/>
                  </a:lnTo>
                  <a:lnTo>
                    <a:pt x="341" y="536"/>
                  </a:lnTo>
                  <a:lnTo>
                    <a:pt x="330" y="538"/>
                  </a:lnTo>
                  <a:lnTo>
                    <a:pt x="317" y="540"/>
                  </a:lnTo>
                  <a:lnTo>
                    <a:pt x="304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close/>
                </a:path>
              </a:pathLst>
            </a:custGeom>
            <a:solidFill>
              <a:srgbClr val="e776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4" y="541"/>
                  </a:lnTo>
                  <a:lnTo>
                    <a:pt x="298" y="540"/>
                  </a:lnTo>
                  <a:lnTo>
                    <a:pt x="312" y="539"/>
                  </a:lnTo>
                  <a:lnTo>
                    <a:pt x="325" y="535"/>
                  </a:lnTo>
                  <a:lnTo>
                    <a:pt x="338" y="533"/>
                  </a:lnTo>
                  <a:lnTo>
                    <a:pt x="351" y="529"/>
                  </a:lnTo>
                  <a:lnTo>
                    <a:pt x="364" y="524"/>
                  </a:lnTo>
                  <a:lnTo>
                    <a:pt x="376" y="520"/>
                  </a:lnTo>
                  <a:lnTo>
                    <a:pt x="387" y="515"/>
                  </a:lnTo>
                  <a:lnTo>
                    <a:pt x="399" y="508"/>
                  </a:lnTo>
                  <a:lnTo>
                    <a:pt x="410" y="502"/>
                  </a:lnTo>
                  <a:lnTo>
                    <a:pt x="422" y="495"/>
                  </a:lnTo>
                  <a:lnTo>
                    <a:pt x="432" y="488"/>
                  </a:lnTo>
                  <a:lnTo>
                    <a:pt x="443" y="479"/>
                  </a:lnTo>
                  <a:lnTo>
                    <a:pt x="452" y="470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79" y="442"/>
                  </a:lnTo>
                  <a:lnTo>
                    <a:pt x="487" y="433"/>
                  </a:lnTo>
                  <a:lnTo>
                    <a:pt x="494" y="422"/>
                  </a:lnTo>
                  <a:lnTo>
                    <a:pt x="502" y="411"/>
                  </a:lnTo>
                  <a:lnTo>
                    <a:pt x="508" y="399"/>
                  </a:lnTo>
                  <a:lnTo>
                    <a:pt x="514" y="387"/>
                  </a:lnTo>
                  <a:lnTo>
                    <a:pt x="519" y="375"/>
                  </a:lnTo>
                  <a:lnTo>
                    <a:pt x="525" y="364"/>
                  </a:lnTo>
                  <a:lnTo>
                    <a:pt x="529" y="351"/>
                  </a:lnTo>
                  <a:lnTo>
                    <a:pt x="532" y="338"/>
                  </a:lnTo>
                  <a:lnTo>
                    <a:pt x="535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1" y="285"/>
                  </a:lnTo>
                  <a:lnTo>
                    <a:pt x="541" y="271"/>
                  </a:lnTo>
                  <a:close/>
                  <a:moveTo>
                    <a:pt x="500" y="271"/>
                  </a:moveTo>
                  <a:lnTo>
                    <a:pt x="499" y="283"/>
                  </a:lnTo>
                  <a:lnTo>
                    <a:pt x="498" y="293"/>
                  </a:lnTo>
                  <a:lnTo>
                    <a:pt x="497" y="305"/>
                  </a:lnTo>
                  <a:lnTo>
                    <a:pt x="494" y="316"/>
                  </a:lnTo>
                  <a:lnTo>
                    <a:pt x="492" y="328"/>
                  </a:lnTo>
                  <a:lnTo>
                    <a:pt x="489" y="339"/>
                  </a:lnTo>
                  <a:lnTo>
                    <a:pt x="486" y="350"/>
                  </a:lnTo>
                  <a:lnTo>
                    <a:pt x="481" y="359"/>
                  </a:lnTo>
                  <a:lnTo>
                    <a:pt x="472" y="380"/>
                  </a:lnTo>
                  <a:lnTo>
                    <a:pt x="460" y="398"/>
                  </a:lnTo>
                  <a:lnTo>
                    <a:pt x="447" y="416"/>
                  </a:lnTo>
                  <a:lnTo>
                    <a:pt x="432" y="433"/>
                  </a:lnTo>
                  <a:lnTo>
                    <a:pt x="416" y="447"/>
                  </a:lnTo>
                  <a:lnTo>
                    <a:pt x="398" y="461"/>
                  </a:lnTo>
                  <a:lnTo>
                    <a:pt x="389" y="466"/>
                  </a:lnTo>
                  <a:lnTo>
                    <a:pt x="380" y="472"/>
                  </a:lnTo>
                  <a:lnTo>
                    <a:pt x="369" y="477"/>
                  </a:lnTo>
                  <a:lnTo>
                    <a:pt x="359" y="481"/>
                  </a:lnTo>
                  <a:lnTo>
                    <a:pt x="349" y="486"/>
                  </a:lnTo>
                  <a:lnTo>
                    <a:pt x="339" y="489"/>
                  </a:lnTo>
                  <a:lnTo>
                    <a:pt x="327" y="492"/>
                  </a:lnTo>
                  <a:lnTo>
                    <a:pt x="316" y="495"/>
                  </a:lnTo>
                  <a:lnTo>
                    <a:pt x="305" y="496"/>
                  </a:lnTo>
                  <a:lnTo>
                    <a:pt x="293" y="499"/>
                  </a:lnTo>
                  <a:lnTo>
                    <a:pt x="282" y="500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3" y="500"/>
                  </a:lnTo>
                  <a:lnTo>
                    <a:pt x="276" y="499"/>
                  </a:lnTo>
                  <a:lnTo>
                    <a:pt x="289" y="497"/>
                  </a:lnTo>
                  <a:lnTo>
                    <a:pt x="300" y="495"/>
                  </a:lnTo>
                  <a:lnTo>
                    <a:pt x="312" y="493"/>
                  </a:lnTo>
                  <a:lnTo>
                    <a:pt x="324" y="489"/>
                  </a:lnTo>
                  <a:lnTo>
                    <a:pt x="336" y="485"/>
                  </a:lnTo>
                  <a:lnTo>
                    <a:pt x="348" y="481"/>
                  </a:lnTo>
                  <a:lnTo>
                    <a:pt x="359" y="475"/>
                  </a:lnTo>
                  <a:lnTo>
                    <a:pt x="370" y="470"/>
                  </a:lnTo>
                  <a:lnTo>
                    <a:pt x="379" y="465"/>
                  </a:lnTo>
                  <a:lnTo>
                    <a:pt x="390" y="458"/>
                  </a:lnTo>
                  <a:lnTo>
                    <a:pt x="400" y="450"/>
                  </a:lnTo>
                  <a:lnTo>
                    <a:pt x="410" y="443"/>
                  </a:lnTo>
                  <a:lnTo>
                    <a:pt x="418" y="435"/>
                  </a:lnTo>
                  <a:lnTo>
                    <a:pt x="427" y="427"/>
                  </a:lnTo>
                  <a:lnTo>
                    <a:pt x="435" y="418"/>
                  </a:lnTo>
                  <a:lnTo>
                    <a:pt x="443" y="409"/>
                  </a:lnTo>
                  <a:lnTo>
                    <a:pt x="451" y="400"/>
                  </a:lnTo>
                  <a:lnTo>
                    <a:pt x="457" y="390"/>
                  </a:lnTo>
                  <a:lnTo>
                    <a:pt x="464" y="380"/>
                  </a:lnTo>
                  <a:lnTo>
                    <a:pt x="470" y="369"/>
                  </a:lnTo>
                  <a:lnTo>
                    <a:pt x="475" y="359"/>
                  </a:lnTo>
                  <a:lnTo>
                    <a:pt x="481" y="348"/>
                  </a:lnTo>
                  <a:lnTo>
                    <a:pt x="485" y="336"/>
                  </a:lnTo>
                  <a:lnTo>
                    <a:pt x="488" y="325"/>
                  </a:lnTo>
                  <a:lnTo>
                    <a:pt x="493" y="313"/>
                  </a:lnTo>
                  <a:lnTo>
                    <a:pt x="495" y="300"/>
                  </a:lnTo>
                  <a:lnTo>
                    <a:pt x="497" y="288"/>
                  </a:lnTo>
                  <a:lnTo>
                    <a:pt x="499" y="276"/>
                  </a:lnTo>
                  <a:lnTo>
                    <a:pt x="500" y="264"/>
                  </a:lnTo>
                  <a:lnTo>
                    <a:pt x="500" y="251"/>
                  </a:lnTo>
                  <a:close/>
                  <a:moveTo>
                    <a:pt x="458" y="251"/>
                  </a:moveTo>
                  <a:lnTo>
                    <a:pt x="457" y="271"/>
                  </a:lnTo>
                  <a:lnTo>
                    <a:pt x="454" y="293"/>
                  </a:lnTo>
                  <a:lnTo>
                    <a:pt x="450" y="312"/>
                  </a:lnTo>
                  <a:lnTo>
                    <a:pt x="442" y="332"/>
                  </a:lnTo>
                  <a:lnTo>
                    <a:pt x="433" y="350"/>
                  </a:lnTo>
                  <a:lnTo>
                    <a:pt x="423" y="367"/>
                  </a:lnTo>
                  <a:lnTo>
                    <a:pt x="411" y="382"/>
                  </a:lnTo>
                  <a:lnTo>
                    <a:pt x="398" y="398"/>
                  </a:lnTo>
                  <a:lnTo>
                    <a:pt x="383" y="412"/>
                  </a:lnTo>
                  <a:lnTo>
                    <a:pt x="366" y="423"/>
                  </a:lnTo>
                  <a:lnTo>
                    <a:pt x="349" y="433"/>
                  </a:lnTo>
                  <a:lnTo>
                    <a:pt x="332" y="442"/>
                  </a:lnTo>
                  <a:lnTo>
                    <a:pt x="312" y="449"/>
                  </a:lnTo>
                  <a:lnTo>
                    <a:pt x="292" y="455"/>
                  </a:lnTo>
                  <a:lnTo>
                    <a:pt x="271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1" y="458"/>
                  </a:lnTo>
                  <a:lnTo>
                    <a:pt x="252" y="457"/>
                  </a:lnTo>
                  <a:lnTo>
                    <a:pt x="264" y="454"/>
                  </a:lnTo>
                  <a:lnTo>
                    <a:pt x="275" y="453"/>
                  </a:lnTo>
                  <a:lnTo>
                    <a:pt x="286" y="450"/>
                  </a:lnTo>
                  <a:lnTo>
                    <a:pt x="298" y="447"/>
                  </a:lnTo>
                  <a:lnTo>
                    <a:pt x="308" y="444"/>
                  </a:lnTo>
                  <a:lnTo>
                    <a:pt x="318" y="439"/>
                  </a:lnTo>
                  <a:lnTo>
                    <a:pt x="328" y="435"/>
                  </a:lnTo>
                  <a:lnTo>
                    <a:pt x="339" y="430"/>
                  </a:lnTo>
                  <a:lnTo>
                    <a:pt x="348" y="424"/>
                  </a:lnTo>
                  <a:lnTo>
                    <a:pt x="357" y="419"/>
                  </a:lnTo>
                  <a:lnTo>
                    <a:pt x="375" y="405"/>
                  </a:lnTo>
                  <a:lnTo>
                    <a:pt x="391" y="391"/>
                  </a:lnTo>
                  <a:lnTo>
                    <a:pt x="406" y="374"/>
                  </a:lnTo>
                  <a:lnTo>
                    <a:pt x="419" y="356"/>
                  </a:lnTo>
                  <a:lnTo>
                    <a:pt x="431" y="338"/>
                  </a:lnTo>
                  <a:lnTo>
                    <a:pt x="440" y="317"/>
                  </a:lnTo>
                  <a:lnTo>
                    <a:pt x="445" y="308"/>
                  </a:lnTo>
                  <a:lnTo>
                    <a:pt x="448" y="297"/>
                  </a:lnTo>
                  <a:lnTo>
                    <a:pt x="451" y="286"/>
                  </a:lnTo>
                  <a:lnTo>
                    <a:pt x="453" y="274"/>
                  </a:lnTo>
                  <a:lnTo>
                    <a:pt x="456" y="263"/>
                  </a:lnTo>
                  <a:lnTo>
                    <a:pt x="457" y="251"/>
                  </a:lnTo>
                  <a:lnTo>
                    <a:pt x="458" y="241"/>
                  </a:lnTo>
                  <a:lnTo>
                    <a:pt x="459" y="229"/>
                  </a:lnTo>
                  <a:close/>
                  <a:moveTo>
                    <a:pt x="417" y="229"/>
                  </a:moveTo>
                  <a:lnTo>
                    <a:pt x="416" y="247"/>
                  </a:lnTo>
                  <a:lnTo>
                    <a:pt x="412" y="266"/>
                  </a:lnTo>
                  <a:lnTo>
                    <a:pt x="408" y="284"/>
                  </a:lnTo>
                  <a:lnTo>
                    <a:pt x="402" y="301"/>
                  </a:lnTo>
                  <a:lnTo>
                    <a:pt x="394" y="317"/>
                  </a:lnTo>
                  <a:lnTo>
                    <a:pt x="384" y="333"/>
                  </a:lnTo>
                  <a:lnTo>
                    <a:pt x="373" y="347"/>
                  </a:lnTo>
                  <a:lnTo>
                    <a:pt x="362" y="360"/>
                  </a:lnTo>
                  <a:lnTo>
                    <a:pt x="349" y="373"/>
                  </a:lnTo>
                  <a:lnTo>
                    <a:pt x="333" y="384"/>
                  </a:lnTo>
                  <a:lnTo>
                    <a:pt x="318" y="393"/>
                  </a:lnTo>
                  <a:lnTo>
                    <a:pt x="302" y="401"/>
                  </a:lnTo>
                  <a:lnTo>
                    <a:pt x="285" y="407"/>
                  </a:lnTo>
                  <a:lnTo>
                    <a:pt x="266" y="412"/>
                  </a:lnTo>
                  <a:lnTo>
                    <a:pt x="248" y="414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9" y="416"/>
                  </a:lnTo>
                  <a:lnTo>
                    <a:pt x="250" y="413"/>
                  </a:lnTo>
                  <a:lnTo>
                    <a:pt x="270" y="407"/>
                  </a:lnTo>
                  <a:lnTo>
                    <a:pt x="290" y="400"/>
                  </a:lnTo>
                  <a:lnTo>
                    <a:pt x="307" y="391"/>
                  </a:lnTo>
                  <a:lnTo>
                    <a:pt x="324" y="381"/>
                  </a:lnTo>
                  <a:lnTo>
                    <a:pt x="341" y="370"/>
                  </a:lnTo>
                  <a:lnTo>
                    <a:pt x="356" y="356"/>
                  </a:lnTo>
                  <a:lnTo>
                    <a:pt x="369" y="340"/>
                  </a:lnTo>
                  <a:lnTo>
                    <a:pt x="381" y="325"/>
                  </a:lnTo>
                  <a:lnTo>
                    <a:pt x="391" y="308"/>
                  </a:lnTo>
                  <a:lnTo>
                    <a:pt x="400" y="290"/>
                  </a:lnTo>
                  <a:lnTo>
                    <a:pt x="408" y="270"/>
                  </a:lnTo>
                  <a:lnTo>
                    <a:pt x="412" y="251"/>
                  </a:lnTo>
                  <a:lnTo>
                    <a:pt x="415" y="229"/>
                  </a:lnTo>
                  <a:lnTo>
                    <a:pt x="416" y="209"/>
                  </a:lnTo>
                  <a:close/>
                  <a:moveTo>
                    <a:pt x="375" y="209"/>
                  </a:moveTo>
                  <a:lnTo>
                    <a:pt x="374" y="226"/>
                  </a:lnTo>
                  <a:lnTo>
                    <a:pt x="372" y="242"/>
                  </a:lnTo>
                  <a:lnTo>
                    <a:pt x="368" y="258"/>
                  </a:lnTo>
                  <a:lnTo>
                    <a:pt x="362" y="273"/>
                  </a:lnTo>
                  <a:lnTo>
                    <a:pt x="355" y="288"/>
                  </a:lnTo>
                  <a:lnTo>
                    <a:pt x="346" y="302"/>
                  </a:lnTo>
                  <a:lnTo>
                    <a:pt x="336" y="315"/>
                  </a:lnTo>
                  <a:lnTo>
                    <a:pt x="327" y="326"/>
                  </a:lnTo>
                  <a:lnTo>
                    <a:pt x="315" y="337"/>
                  </a:lnTo>
                  <a:lnTo>
                    <a:pt x="302" y="347"/>
                  </a:lnTo>
                  <a:lnTo>
                    <a:pt x="288" y="354"/>
                  </a:lnTo>
                  <a:lnTo>
                    <a:pt x="274" y="362"/>
                  </a:lnTo>
                  <a:lnTo>
                    <a:pt x="257" y="367"/>
                  </a:lnTo>
                  <a:lnTo>
                    <a:pt x="242" y="372"/>
                  </a:lnTo>
                  <a:lnTo>
                    <a:pt x="225" y="374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206" y="373"/>
                  </a:lnTo>
                  <a:lnTo>
                    <a:pt x="224" y="371"/>
                  </a:lnTo>
                  <a:lnTo>
                    <a:pt x="243" y="366"/>
                  </a:lnTo>
                  <a:lnTo>
                    <a:pt x="260" y="360"/>
                  </a:lnTo>
                  <a:lnTo>
                    <a:pt x="276" y="352"/>
                  </a:lnTo>
                  <a:lnTo>
                    <a:pt x="291" y="343"/>
                  </a:lnTo>
                  <a:lnTo>
                    <a:pt x="307" y="332"/>
                  </a:lnTo>
                  <a:lnTo>
                    <a:pt x="320" y="319"/>
                  </a:lnTo>
                  <a:lnTo>
                    <a:pt x="331" y="306"/>
                  </a:lnTo>
                  <a:lnTo>
                    <a:pt x="342" y="292"/>
                  </a:lnTo>
                  <a:lnTo>
                    <a:pt x="352" y="276"/>
                  </a:lnTo>
                  <a:lnTo>
                    <a:pt x="360" y="260"/>
                  </a:lnTo>
                  <a:lnTo>
                    <a:pt x="366" y="243"/>
                  </a:lnTo>
                  <a:lnTo>
                    <a:pt x="370" y="225"/>
                  </a:lnTo>
                  <a:lnTo>
                    <a:pt x="374" y="206"/>
                  </a:lnTo>
                  <a:lnTo>
                    <a:pt x="375" y="188"/>
                  </a:lnTo>
                  <a:close/>
                  <a:moveTo>
                    <a:pt x="333" y="188"/>
                  </a:moveTo>
                  <a:lnTo>
                    <a:pt x="333" y="203"/>
                  </a:lnTo>
                  <a:lnTo>
                    <a:pt x="330" y="217"/>
                  </a:lnTo>
                  <a:lnTo>
                    <a:pt x="326" y="231"/>
                  </a:lnTo>
                  <a:lnTo>
                    <a:pt x="322" y="244"/>
                  </a:lnTo>
                  <a:lnTo>
                    <a:pt x="315" y="257"/>
                  </a:lnTo>
                  <a:lnTo>
                    <a:pt x="308" y="269"/>
                  </a:lnTo>
                  <a:lnTo>
                    <a:pt x="300" y="281"/>
                  </a:lnTo>
                  <a:lnTo>
                    <a:pt x="290" y="290"/>
                  </a:lnTo>
                  <a:lnTo>
                    <a:pt x="280" y="300"/>
                  </a:lnTo>
                  <a:lnTo>
                    <a:pt x="269" y="309"/>
                  </a:lnTo>
                  <a:lnTo>
                    <a:pt x="257" y="315"/>
                  </a:lnTo>
                  <a:lnTo>
                    <a:pt x="244" y="322"/>
                  </a:lnTo>
                  <a:lnTo>
                    <a:pt x="231" y="327"/>
                  </a:lnTo>
                  <a:lnTo>
                    <a:pt x="217" y="330"/>
                  </a:lnTo>
                  <a:lnTo>
                    <a:pt x="202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84" y="333"/>
                  </a:lnTo>
                  <a:lnTo>
                    <a:pt x="201" y="331"/>
                  </a:lnTo>
                  <a:lnTo>
                    <a:pt x="216" y="326"/>
                  </a:lnTo>
                  <a:lnTo>
                    <a:pt x="233" y="321"/>
                  </a:lnTo>
                  <a:lnTo>
                    <a:pt x="247" y="313"/>
                  </a:lnTo>
                  <a:lnTo>
                    <a:pt x="261" y="306"/>
                  </a:lnTo>
                  <a:lnTo>
                    <a:pt x="274" y="296"/>
                  </a:lnTo>
                  <a:lnTo>
                    <a:pt x="286" y="285"/>
                  </a:lnTo>
                  <a:lnTo>
                    <a:pt x="295" y="274"/>
                  </a:lnTo>
                  <a:lnTo>
                    <a:pt x="305" y="261"/>
                  </a:lnTo>
                  <a:lnTo>
                    <a:pt x="314" y="247"/>
                  </a:lnTo>
                  <a:lnTo>
                    <a:pt x="321" y="232"/>
                  </a:lnTo>
                  <a:lnTo>
                    <a:pt x="327" y="217"/>
                  </a:lnTo>
                  <a:lnTo>
                    <a:pt x="331" y="201"/>
                  </a:lnTo>
                  <a:lnTo>
                    <a:pt x="333" y="185"/>
                  </a:lnTo>
                  <a:lnTo>
                    <a:pt x="334" y="168"/>
                  </a:lnTo>
                  <a:close/>
                  <a:moveTo>
                    <a:pt x="292" y="168"/>
                  </a:moveTo>
                  <a:lnTo>
                    <a:pt x="292" y="181"/>
                  </a:lnTo>
                  <a:lnTo>
                    <a:pt x="290" y="193"/>
                  </a:lnTo>
                  <a:lnTo>
                    <a:pt x="287" y="204"/>
                  </a:lnTo>
                  <a:lnTo>
                    <a:pt x="282" y="216"/>
                  </a:lnTo>
                  <a:lnTo>
                    <a:pt x="277" y="227"/>
                  </a:lnTo>
                  <a:lnTo>
                    <a:pt x="270" y="237"/>
                  </a:lnTo>
                  <a:lnTo>
                    <a:pt x="264" y="247"/>
                  </a:lnTo>
                  <a:lnTo>
                    <a:pt x="255" y="256"/>
                  </a:lnTo>
                  <a:lnTo>
                    <a:pt x="247" y="264"/>
                  </a:lnTo>
                  <a:lnTo>
                    <a:pt x="237" y="271"/>
                  </a:lnTo>
                  <a:lnTo>
                    <a:pt x="227" y="277"/>
                  </a:lnTo>
                  <a:lnTo>
                    <a:pt x="216" y="282"/>
                  </a:lnTo>
                  <a:lnTo>
                    <a:pt x="204" y="286"/>
                  </a:lnTo>
                  <a:lnTo>
                    <a:pt x="193" y="290"/>
                  </a:lnTo>
                  <a:lnTo>
                    <a:pt x="180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60" y="290"/>
                  </a:lnTo>
                  <a:lnTo>
                    <a:pt x="175" y="288"/>
                  </a:lnTo>
                  <a:lnTo>
                    <a:pt x="189" y="285"/>
                  </a:lnTo>
                  <a:lnTo>
                    <a:pt x="202" y="280"/>
                  </a:lnTo>
                  <a:lnTo>
                    <a:pt x="215" y="273"/>
                  </a:lnTo>
                  <a:lnTo>
                    <a:pt x="227" y="267"/>
                  </a:lnTo>
                  <a:lnTo>
                    <a:pt x="238" y="258"/>
                  </a:lnTo>
                  <a:lnTo>
                    <a:pt x="248" y="248"/>
                  </a:lnTo>
                  <a:lnTo>
                    <a:pt x="258" y="239"/>
                  </a:lnTo>
                  <a:lnTo>
                    <a:pt x="266" y="227"/>
                  </a:lnTo>
                  <a:lnTo>
                    <a:pt x="273" y="215"/>
                  </a:lnTo>
                  <a:lnTo>
                    <a:pt x="280" y="202"/>
                  </a:lnTo>
                  <a:lnTo>
                    <a:pt x="284" y="189"/>
                  </a:lnTo>
                  <a:lnTo>
                    <a:pt x="288" y="175"/>
                  </a:lnTo>
                  <a:lnTo>
                    <a:pt x="291" y="161"/>
                  </a:lnTo>
                  <a:lnTo>
                    <a:pt x="291" y="146"/>
                  </a:lnTo>
                  <a:close/>
                  <a:moveTo>
                    <a:pt x="249" y="146"/>
                  </a:moveTo>
                  <a:lnTo>
                    <a:pt x="248" y="156"/>
                  </a:lnTo>
                  <a:lnTo>
                    <a:pt x="247" y="166"/>
                  </a:lnTo>
                  <a:lnTo>
                    <a:pt x="245" y="176"/>
                  </a:lnTo>
                  <a:lnTo>
                    <a:pt x="241" y="186"/>
                  </a:lnTo>
                  <a:lnTo>
                    <a:pt x="236" y="195"/>
                  </a:lnTo>
                  <a:lnTo>
                    <a:pt x="231" y="204"/>
                  </a:lnTo>
                  <a:lnTo>
                    <a:pt x="226" y="212"/>
                  </a:lnTo>
                  <a:lnTo>
                    <a:pt x="219" y="219"/>
                  </a:lnTo>
                  <a:lnTo>
                    <a:pt x="212" y="226"/>
                  </a:lnTo>
                  <a:lnTo>
                    <a:pt x="203" y="232"/>
                  </a:lnTo>
                  <a:lnTo>
                    <a:pt x="194" y="237"/>
                  </a:lnTo>
                  <a:lnTo>
                    <a:pt x="186" y="242"/>
                  </a:lnTo>
                  <a:lnTo>
                    <a:pt x="176" y="245"/>
                  </a:lnTo>
                  <a:lnTo>
                    <a:pt x="166" y="247"/>
                  </a:lnTo>
                  <a:lnTo>
                    <a:pt x="155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8" y="250"/>
                  </a:lnTo>
                  <a:lnTo>
                    <a:pt x="151" y="248"/>
                  </a:lnTo>
                  <a:lnTo>
                    <a:pt x="162" y="244"/>
                  </a:lnTo>
                  <a:lnTo>
                    <a:pt x="174" y="240"/>
                  </a:lnTo>
                  <a:lnTo>
                    <a:pt x="185" y="235"/>
                  </a:lnTo>
                  <a:lnTo>
                    <a:pt x="195" y="229"/>
                  </a:lnTo>
                  <a:lnTo>
                    <a:pt x="205" y="222"/>
                  </a:lnTo>
                  <a:lnTo>
                    <a:pt x="213" y="214"/>
                  </a:lnTo>
                  <a:lnTo>
                    <a:pt x="222" y="205"/>
                  </a:lnTo>
                  <a:lnTo>
                    <a:pt x="228" y="195"/>
                  </a:lnTo>
                  <a:lnTo>
                    <a:pt x="235" y="185"/>
                  </a:lnTo>
                  <a:lnTo>
                    <a:pt x="240" y="174"/>
                  </a:lnTo>
                  <a:lnTo>
                    <a:pt x="245" y="162"/>
                  </a:lnTo>
                  <a:lnTo>
                    <a:pt x="248" y="151"/>
                  </a:lnTo>
                  <a:lnTo>
                    <a:pt x="250" y="139"/>
                  </a:lnTo>
                  <a:lnTo>
                    <a:pt x="250" y="126"/>
                  </a:lnTo>
                  <a:close/>
                  <a:moveTo>
                    <a:pt x="209" y="126"/>
                  </a:moveTo>
                  <a:lnTo>
                    <a:pt x="208" y="134"/>
                  </a:lnTo>
                  <a:lnTo>
                    <a:pt x="207" y="142"/>
                  </a:lnTo>
                  <a:lnTo>
                    <a:pt x="205" y="151"/>
                  </a:lnTo>
                  <a:lnTo>
                    <a:pt x="202" y="158"/>
                  </a:lnTo>
                  <a:lnTo>
                    <a:pt x="198" y="166"/>
                  </a:lnTo>
                  <a:lnTo>
                    <a:pt x="194" y="172"/>
                  </a:lnTo>
                  <a:lnTo>
                    <a:pt x="189" y="179"/>
                  </a:lnTo>
                  <a:lnTo>
                    <a:pt x="184" y="184"/>
                  </a:lnTo>
                  <a:lnTo>
                    <a:pt x="179" y="189"/>
                  </a:lnTo>
                  <a:lnTo>
                    <a:pt x="172" y="195"/>
                  </a:lnTo>
                  <a:lnTo>
                    <a:pt x="165" y="199"/>
                  </a:lnTo>
                  <a:lnTo>
                    <a:pt x="157" y="202"/>
                  </a:lnTo>
                  <a:lnTo>
                    <a:pt x="149" y="205"/>
                  </a:lnTo>
                  <a:lnTo>
                    <a:pt x="142" y="207"/>
                  </a:lnTo>
                  <a:lnTo>
                    <a:pt x="133" y="208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25" y="206"/>
                  </a:lnTo>
                  <a:lnTo>
                    <a:pt x="135" y="204"/>
                  </a:lnTo>
                  <a:lnTo>
                    <a:pt x="145" y="201"/>
                  </a:lnTo>
                  <a:lnTo>
                    <a:pt x="153" y="196"/>
                  </a:lnTo>
                  <a:lnTo>
                    <a:pt x="162" y="191"/>
                  </a:lnTo>
                  <a:lnTo>
                    <a:pt x="171" y="185"/>
                  </a:lnTo>
                  <a:lnTo>
                    <a:pt x="178" y="178"/>
                  </a:lnTo>
                  <a:lnTo>
                    <a:pt x="185" y="171"/>
                  </a:lnTo>
                  <a:lnTo>
                    <a:pt x="190" y="163"/>
                  </a:lnTo>
                  <a:lnTo>
                    <a:pt x="195" y="154"/>
                  </a:lnTo>
                  <a:lnTo>
                    <a:pt x="200" y="145"/>
                  </a:lnTo>
                  <a:lnTo>
                    <a:pt x="204" y="135"/>
                  </a:lnTo>
                  <a:lnTo>
                    <a:pt x="206" y="125"/>
                  </a:lnTo>
                  <a:lnTo>
                    <a:pt x="207" y="115"/>
                  </a:lnTo>
                  <a:lnTo>
                    <a:pt x="208" y="105"/>
                  </a:lnTo>
                  <a:close/>
                  <a:moveTo>
                    <a:pt x="166" y="105"/>
                  </a:moveTo>
                  <a:lnTo>
                    <a:pt x="166" y="111"/>
                  </a:lnTo>
                  <a:lnTo>
                    <a:pt x="165" y="117"/>
                  </a:lnTo>
                  <a:lnTo>
                    <a:pt x="164" y="123"/>
                  </a:lnTo>
                  <a:lnTo>
                    <a:pt x="162" y="128"/>
                  </a:lnTo>
                  <a:lnTo>
                    <a:pt x="159" y="134"/>
                  </a:lnTo>
                  <a:lnTo>
                    <a:pt x="156" y="139"/>
                  </a:lnTo>
                  <a:lnTo>
                    <a:pt x="152" y="145"/>
                  </a:lnTo>
                  <a:lnTo>
                    <a:pt x="148" y="149"/>
                  </a:lnTo>
                  <a:lnTo>
                    <a:pt x="144" y="152"/>
                  </a:lnTo>
                  <a:lnTo>
                    <a:pt x="139" y="157"/>
                  </a:lnTo>
                  <a:lnTo>
                    <a:pt x="134" y="160"/>
                  </a:lnTo>
                  <a:lnTo>
                    <a:pt x="128" y="162"/>
                  </a:lnTo>
                  <a:lnTo>
                    <a:pt x="123" y="164"/>
                  </a:lnTo>
                  <a:lnTo>
                    <a:pt x="117" y="165"/>
                  </a:lnTo>
                  <a:lnTo>
                    <a:pt x="110" y="166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92" y="165"/>
                  </a:lnTo>
                  <a:lnTo>
                    <a:pt x="101" y="164"/>
                  </a:lnTo>
                  <a:lnTo>
                    <a:pt x="108" y="162"/>
                  </a:lnTo>
                  <a:lnTo>
                    <a:pt x="116" y="159"/>
                  </a:lnTo>
                  <a:lnTo>
                    <a:pt x="124" y="156"/>
                  </a:lnTo>
                  <a:lnTo>
                    <a:pt x="131" y="152"/>
                  </a:lnTo>
                  <a:lnTo>
                    <a:pt x="138" y="146"/>
                  </a:lnTo>
                  <a:lnTo>
                    <a:pt x="143" y="141"/>
                  </a:lnTo>
                  <a:lnTo>
                    <a:pt x="148" y="136"/>
                  </a:lnTo>
                  <a:lnTo>
                    <a:pt x="153" y="129"/>
                  </a:lnTo>
                  <a:lnTo>
                    <a:pt x="157" y="123"/>
                  </a:lnTo>
                  <a:lnTo>
                    <a:pt x="161" y="115"/>
                  </a:lnTo>
                  <a:lnTo>
                    <a:pt x="164" y="108"/>
                  </a:lnTo>
                  <a:lnTo>
                    <a:pt x="166" y="99"/>
                  </a:lnTo>
                  <a:lnTo>
                    <a:pt x="167" y="91"/>
                  </a:lnTo>
                  <a:lnTo>
                    <a:pt x="168" y="83"/>
                  </a:lnTo>
                  <a:close/>
                  <a:moveTo>
                    <a:pt x="126" y="83"/>
                  </a:moveTo>
                  <a:lnTo>
                    <a:pt x="125" y="91"/>
                  </a:lnTo>
                  <a:lnTo>
                    <a:pt x="123" y="99"/>
                  </a:lnTo>
                  <a:lnTo>
                    <a:pt x="118" y="105"/>
                  </a:lnTo>
                  <a:lnTo>
                    <a:pt x="114" y="112"/>
                  </a:lnTo>
                  <a:lnTo>
                    <a:pt x="107" y="117"/>
                  </a:lnTo>
                  <a:lnTo>
                    <a:pt x="100" y="120"/>
                  </a:lnTo>
                  <a:lnTo>
                    <a:pt x="92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8" y="124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0"/>
                  </a:lnTo>
                  <a:lnTo>
                    <a:pt x="106" y="107"/>
                  </a:lnTo>
                  <a:lnTo>
                    <a:pt x="110" y="103"/>
                  </a:lnTo>
                  <a:lnTo>
                    <a:pt x="114" y="97"/>
                  </a:lnTo>
                  <a:lnTo>
                    <a:pt x="117" y="92"/>
                  </a:lnTo>
                  <a:lnTo>
                    <a:pt x="120" y="86"/>
                  </a:lnTo>
                  <a:lnTo>
                    <a:pt x="122" y="81"/>
                  </a:lnTo>
                  <a:lnTo>
                    <a:pt x="123" y="75"/>
                  </a:lnTo>
                  <a:lnTo>
                    <a:pt x="124" y="69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1" y="71"/>
                  </a:lnTo>
                  <a:lnTo>
                    <a:pt x="75" y="64"/>
                  </a:lnTo>
                  <a:lnTo>
                    <a:pt x="80" y="58"/>
                  </a:lnTo>
                  <a:lnTo>
                    <a:pt x="82" y="50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e77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1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1" y="26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0"/>
                  </a:move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49" y="2692"/>
                  </a:lnTo>
                  <a:lnTo>
                    <a:pt x="9331" y="2823"/>
                  </a:lnTo>
                  <a:lnTo>
                    <a:pt x="9300" y="2950"/>
                  </a:lnTo>
                  <a:lnTo>
                    <a:pt x="9259" y="3077"/>
                  </a:lnTo>
                  <a:lnTo>
                    <a:pt x="9207" y="3200"/>
                  </a:lnTo>
                  <a:lnTo>
                    <a:pt x="9144" y="3322"/>
                  </a:lnTo>
                  <a:lnTo>
                    <a:pt x="9070" y="3441"/>
                  </a:lnTo>
                  <a:lnTo>
                    <a:pt x="8986" y="3556"/>
                  </a:lnTo>
                  <a:lnTo>
                    <a:pt x="8892" y="3670"/>
                  </a:lnTo>
                  <a:lnTo>
                    <a:pt x="8789" y="3781"/>
                  </a:lnTo>
                  <a:lnTo>
                    <a:pt x="8676" y="3888"/>
                  </a:lnTo>
                  <a:lnTo>
                    <a:pt x="8554" y="3992"/>
                  </a:lnTo>
                  <a:lnTo>
                    <a:pt x="8423" y="4092"/>
                  </a:lnTo>
                  <a:lnTo>
                    <a:pt x="8285" y="4189"/>
                  </a:lnTo>
                  <a:lnTo>
                    <a:pt x="8138" y="4282"/>
                  </a:lnTo>
                  <a:lnTo>
                    <a:pt x="7982" y="4372"/>
                  </a:lnTo>
                  <a:lnTo>
                    <a:pt x="7820" y="4456"/>
                  </a:lnTo>
                  <a:lnTo>
                    <a:pt x="7649" y="4537"/>
                  </a:lnTo>
                  <a:lnTo>
                    <a:pt x="7473" y="4613"/>
                  </a:lnTo>
                  <a:lnTo>
                    <a:pt x="7289" y="4685"/>
                  </a:lnTo>
                  <a:lnTo>
                    <a:pt x="7099" y="4751"/>
                  </a:lnTo>
                  <a:lnTo>
                    <a:pt x="6904" y="4813"/>
                  </a:lnTo>
                  <a:lnTo>
                    <a:pt x="6702" y="4870"/>
                  </a:lnTo>
                  <a:lnTo>
                    <a:pt x="6495" y="4921"/>
                  </a:lnTo>
                  <a:lnTo>
                    <a:pt x="6282" y="4967"/>
                  </a:lnTo>
                  <a:lnTo>
                    <a:pt x="6065" y="5008"/>
                  </a:lnTo>
                  <a:lnTo>
                    <a:pt x="5844" y="5042"/>
                  </a:lnTo>
                  <a:lnTo>
                    <a:pt x="5618" y="5071"/>
                  </a:lnTo>
                  <a:lnTo>
                    <a:pt x="5388" y="5093"/>
                  </a:lnTo>
                  <a:lnTo>
                    <a:pt x="5154" y="5109"/>
                  </a:lnTo>
                  <a:lnTo>
                    <a:pt x="4918" y="5119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35560" y="3444840"/>
              <a:ext cx="1800" cy="398520"/>
            </a:xfrm>
            <a:custGeom>
              <a:avLst/>
              <a:gdLst/>
              <a:ahLst/>
              <a:rect l="l" t="t" r="r" b="b"/>
              <a:pathLst>
                <a:path w="2" h="1004">
                  <a:moveTo>
                    <a:pt x="2" y="0"/>
                  </a:moveTo>
                  <a:lnTo>
                    <a:pt x="2" y="1001"/>
                  </a:lnTo>
                  <a:lnTo>
                    <a:pt x="2" y="1001"/>
                  </a:lnTo>
                  <a:lnTo>
                    <a:pt x="1" y="1001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1" y="1002"/>
                  </a:lnTo>
                  <a:lnTo>
                    <a:pt x="0" y="1002"/>
                  </a:lnTo>
                  <a:lnTo>
                    <a:pt x="0" y="1004"/>
                  </a:lnTo>
                  <a:lnTo>
                    <a:pt x="0" y="1004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235560" y="3443400"/>
              <a:ext cx="3240" cy="399960"/>
            </a:xfrm>
            <a:custGeom>
              <a:avLst/>
              <a:gdLst/>
              <a:ahLst/>
              <a:rect l="l" t="t" r="r" b="b"/>
              <a:pathLst>
                <a:path w="4" h="1009">
                  <a:moveTo>
                    <a:pt x="4" y="0"/>
                  </a:moveTo>
                  <a:lnTo>
                    <a:pt x="4" y="1003"/>
                  </a:lnTo>
                  <a:lnTo>
                    <a:pt x="4" y="1004"/>
                  </a:lnTo>
                  <a:lnTo>
                    <a:pt x="3" y="1005"/>
                  </a:lnTo>
                  <a:lnTo>
                    <a:pt x="3" y="1005"/>
                  </a:lnTo>
                  <a:lnTo>
                    <a:pt x="2" y="1006"/>
                  </a:lnTo>
                  <a:lnTo>
                    <a:pt x="1" y="1006"/>
                  </a:lnTo>
                  <a:lnTo>
                    <a:pt x="1" y="1007"/>
                  </a:lnTo>
                  <a:lnTo>
                    <a:pt x="0" y="1007"/>
                  </a:lnTo>
                  <a:lnTo>
                    <a:pt x="0" y="1009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237360" y="3440160"/>
              <a:ext cx="1440" cy="401400"/>
            </a:xfrm>
            <a:custGeom>
              <a:avLst/>
              <a:gdLst/>
              <a:ahLst/>
              <a:rect l="l" t="t" r="r" b="b"/>
              <a:pathLst>
                <a:path w="4" h="1012">
                  <a:moveTo>
                    <a:pt x="0" y="101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07"/>
                  </a:lnTo>
                  <a:lnTo>
                    <a:pt x="4" y="1008"/>
                  </a:lnTo>
                  <a:lnTo>
                    <a:pt x="3" y="1008"/>
                  </a:lnTo>
                  <a:lnTo>
                    <a:pt x="3" y="1009"/>
                  </a:lnTo>
                  <a:lnTo>
                    <a:pt x="2" y="1009"/>
                  </a:lnTo>
                  <a:lnTo>
                    <a:pt x="2" y="1010"/>
                  </a:lnTo>
                  <a:lnTo>
                    <a:pt x="1" y="1011"/>
                  </a:lnTo>
                  <a:lnTo>
                    <a:pt x="1" y="1011"/>
                  </a:lnTo>
                  <a:lnTo>
                    <a:pt x="0" y="1012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38800" y="343836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4">
                  <a:moveTo>
                    <a:pt x="0" y="10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0"/>
                  </a:lnTo>
                  <a:lnTo>
                    <a:pt x="5" y="1010"/>
                  </a:lnTo>
                  <a:lnTo>
                    <a:pt x="3" y="1011"/>
                  </a:lnTo>
                  <a:lnTo>
                    <a:pt x="3" y="1012"/>
                  </a:lnTo>
                  <a:lnTo>
                    <a:pt x="2" y="1012"/>
                  </a:lnTo>
                  <a:lnTo>
                    <a:pt x="2" y="1013"/>
                  </a:lnTo>
                  <a:lnTo>
                    <a:pt x="1" y="1013"/>
                  </a:lnTo>
                  <a:lnTo>
                    <a:pt x="1" y="1014"/>
                  </a:lnTo>
                  <a:lnTo>
                    <a:pt x="0" y="1014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238800" y="3436920"/>
              <a:ext cx="1800" cy="403200"/>
            </a:xfrm>
            <a:custGeom>
              <a:avLst/>
              <a:gdLst/>
              <a:ahLst/>
              <a:rect l="l" t="t" r="r" b="b"/>
              <a:pathLst>
                <a:path w="6" h="1017">
                  <a:moveTo>
                    <a:pt x="0" y="1017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12"/>
                  </a:lnTo>
                  <a:lnTo>
                    <a:pt x="5" y="1013"/>
                  </a:lnTo>
                  <a:lnTo>
                    <a:pt x="5" y="1014"/>
                  </a:lnTo>
                  <a:lnTo>
                    <a:pt x="4" y="1014"/>
                  </a:lnTo>
                  <a:lnTo>
                    <a:pt x="4" y="1015"/>
                  </a:lnTo>
                  <a:lnTo>
                    <a:pt x="3" y="1015"/>
                  </a:lnTo>
                  <a:lnTo>
                    <a:pt x="1" y="1016"/>
                  </a:lnTo>
                  <a:lnTo>
                    <a:pt x="1" y="1017"/>
                  </a:lnTo>
                  <a:lnTo>
                    <a:pt x="0" y="101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0600" y="3433680"/>
              <a:ext cx="1440" cy="405000"/>
            </a:xfrm>
            <a:custGeom>
              <a:avLst/>
              <a:gdLst/>
              <a:ahLst/>
              <a:rect l="l" t="t" r="r" b="b"/>
              <a:pathLst>
                <a:path w="4" h="1021">
                  <a:moveTo>
                    <a:pt x="0" y="102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15"/>
                  </a:lnTo>
                  <a:lnTo>
                    <a:pt x="3" y="1016"/>
                  </a:lnTo>
                  <a:lnTo>
                    <a:pt x="3" y="1016"/>
                  </a:lnTo>
                  <a:lnTo>
                    <a:pt x="2" y="1018"/>
                  </a:lnTo>
                  <a:lnTo>
                    <a:pt x="2" y="1018"/>
                  </a:lnTo>
                  <a:lnTo>
                    <a:pt x="1" y="1019"/>
                  </a:lnTo>
                  <a:lnTo>
                    <a:pt x="1" y="1020"/>
                  </a:lnTo>
                  <a:lnTo>
                    <a:pt x="0" y="1020"/>
                  </a:lnTo>
                  <a:lnTo>
                    <a:pt x="0" y="1021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240600" y="3432240"/>
              <a:ext cx="2880" cy="406440"/>
            </a:xfrm>
            <a:custGeom>
              <a:avLst/>
              <a:gdLst/>
              <a:ahLst/>
              <a:rect l="l" t="t" r="r" b="b"/>
              <a:pathLst>
                <a:path w="4" h="1023">
                  <a:moveTo>
                    <a:pt x="0" y="102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18"/>
                  </a:lnTo>
                  <a:lnTo>
                    <a:pt x="4" y="1018"/>
                  </a:lnTo>
                  <a:lnTo>
                    <a:pt x="3" y="1019"/>
                  </a:lnTo>
                  <a:lnTo>
                    <a:pt x="2" y="1020"/>
                  </a:lnTo>
                  <a:lnTo>
                    <a:pt x="2" y="1020"/>
                  </a:lnTo>
                  <a:lnTo>
                    <a:pt x="1" y="1021"/>
                  </a:lnTo>
                  <a:lnTo>
                    <a:pt x="1" y="1021"/>
                  </a:lnTo>
                  <a:lnTo>
                    <a:pt x="0" y="1023"/>
                  </a:lnTo>
                  <a:lnTo>
                    <a:pt x="0" y="1023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42040" y="3429000"/>
              <a:ext cx="1440" cy="407880"/>
            </a:xfrm>
            <a:custGeom>
              <a:avLst/>
              <a:gdLst/>
              <a:ahLst/>
              <a:rect l="l" t="t" r="r" b="b"/>
              <a:pathLst>
                <a:path w="4" h="1027">
                  <a:moveTo>
                    <a:pt x="0" y="102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22"/>
                  </a:lnTo>
                  <a:lnTo>
                    <a:pt x="4" y="1023"/>
                  </a:lnTo>
                  <a:lnTo>
                    <a:pt x="3" y="1024"/>
                  </a:lnTo>
                  <a:lnTo>
                    <a:pt x="3" y="1024"/>
                  </a:lnTo>
                  <a:lnTo>
                    <a:pt x="2" y="1025"/>
                  </a:lnTo>
                  <a:lnTo>
                    <a:pt x="2" y="1025"/>
                  </a:lnTo>
                  <a:lnTo>
                    <a:pt x="1" y="1026"/>
                  </a:lnTo>
                  <a:lnTo>
                    <a:pt x="0" y="1027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bfa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3480" y="3427200"/>
              <a:ext cx="1800" cy="409680"/>
            </a:xfrm>
            <a:custGeom>
              <a:avLst/>
              <a:gdLst/>
              <a:ahLst/>
              <a:rect l="l" t="t" r="r" b="b"/>
              <a:pathLst>
                <a:path w="4" h="1030">
                  <a:moveTo>
                    <a:pt x="0" y="103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25"/>
                  </a:lnTo>
                  <a:lnTo>
                    <a:pt x="4" y="1026"/>
                  </a:lnTo>
                  <a:lnTo>
                    <a:pt x="3" y="1026"/>
                  </a:lnTo>
                  <a:lnTo>
                    <a:pt x="3" y="1027"/>
                  </a:lnTo>
                  <a:lnTo>
                    <a:pt x="2" y="1027"/>
                  </a:lnTo>
                  <a:lnTo>
                    <a:pt x="2" y="1028"/>
                  </a:lnTo>
                  <a:lnTo>
                    <a:pt x="1" y="1029"/>
                  </a:lnTo>
                  <a:lnTo>
                    <a:pt x="1" y="1029"/>
                  </a:lnTo>
                  <a:lnTo>
                    <a:pt x="0" y="1030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43480" y="3425760"/>
              <a:ext cx="1800" cy="409680"/>
            </a:xfrm>
            <a:custGeom>
              <a:avLst/>
              <a:gdLst/>
              <a:ahLst/>
              <a:rect l="l" t="t" r="r" b="b"/>
              <a:pathLst>
                <a:path w="6" h="1032">
                  <a:moveTo>
                    <a:pt x="0" y="103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28"/>
                  </a:lnTo>
                  <a:lnTo>
                    <a:pt x="5" y="1028"/>
                  </a:lnTo>
                  <a:lnTo>
                    <a:pt x="3" y="1029"/>
                  </a:lnTo>
                  <a:lnTo>
                    <a:pt x="3" y="1029"/>
                  </a:lnTo>
                  <a:lnTo>
                    <a:pt x="2" y="1030"/>
                  </a:lnTo>
                  <a:lnTo>
                    <a:pt x="2" y="1031"/>
                  </a:lnTo>
                  <a:lnTo>
                    <a:pt x="1" y="1031"/>
                  </a:lnTo>
                  <a:lnTo>
                    <a:pt x="1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45280" y="3422520"/>
              <a:ext cx="1440" cy="411120"/>
            </a:xfrm>
            <a:custGeom>
              <a:avLst/>
              <a:gdLst/>
              <a:ahLst/>
              <a:rect l="l" t="t" r="r" b="b"/>
              <a:pathLst>
                <a:path w="6" h="1036">
                  <a:moveTo>
                    <a:pt x="0" y="103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30"/>
                  </a:lnTo>
                  <a:lnTo>
                    <a:pt x="5" y="1032"/>
                  </a:lnTo>
                  <a:lnTo>
                    <a:pt x="5" y="1032"/>
                  </a:lnTo>
                  <a:lnTo>
                    <a:pt x="4" y="1033"/>
                  </a:lnTo>
                  <a:lnTo>
                    <a:pt x="4" y="1034"/>
                  </a:lnTo>
                  <a:lnTo>
                    <a:pt x="3" y="1034"/>
                  </a:lnTo>
                  <a:lnTo>
                    <a:pt x="1" y="1035"/>
                  </a:lnTo>
                  <a:lnTo>
                    <a:pt x="1" y="1036"/>
                  </a:lnTo>
                  <a:lnTo>
                    <a:pt x="0" y="1036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45280" y="3421080"/>
              <a:ext cx="1440" cy="412560"/>
            </a:xfrm>
            <a:custGeom>
              <a:avLst/>
              <a:gdLst/>
              <a:ahLst/>
              <a:rect l="l" t="t" r="r" b="b"/>
              <a:pathLst>
                <a:path w="4" h="1039">
                  <a:moveTo>
                    <a:pt x="0" y="1039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33"/>
                  </a:lnTo>
                  <a:lnTo>
                    <a:pt x="3" y="1033"/>
                  </a:lnTo>
                  <a:lnTo>
                    <a:pt x="3" y="1034"/>
                  </a:lnTo>
                  <a:lnTo>
                    <a:pt x="2" y="1035"/>
                  </a:lnTo>
                  <a:lnTo>
                    <a:pt x="2" y="1035"/>
                  </a:lnTo>
                  <a:lnTo>
                    <a:pt x="1" y="1037"/>
                  </a:lnTo>
                  <a:lnTo>
                    <a:pt x="1" y="1037"/>
                  </a:lnTo>
                  <a:lnTo>
                    <a:pt x="0" y="1038"/>
                  </a:lnTo>
                  <a:lnTo>
                    <a:pt x="0" y="1039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246720" y="3419280"/>
              <a:ext cx="1800" cy="412920"/>
            </a:xfrm>
            <a:custGeom>
              <a:avLst/>
              <a:gdLst/>
              <a:ahLst/>
              <a:rect l="l" t="t" r="r" b="b"/>
              <a:pathLst>
                <a:path w="4" h="1041">
                  <a:moveTo>
                    <a:pt x="0" y="104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36"/>
                  </a:lnTo>
                  <a:lnTo>
                    <a:pt x="4" y="1037"/>
                  </a:lnTo>
                  <a:lnTo>
                    <a:pt x="3" y="1038"/>
                  </a:lnTo>
                  <a:lnTo>
                    <a:pt x="2" y="1038"/>
                  </a:lnTo>
                  <a:lnTo>
                    <a:pt x="2" y="1039"/>
                  </a:lnTo>
                  <a:lnTo>
                    <a:pt x="1" y="1039"/>
                  </a:lnTo>
                  <a:lnTo>
                    <a:pt x="1" y="1040"/>
                  </a:lnTo>
                  <a:lnTo>
                    <a:pt x="0" y="1041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46720" y="3416400"/>
              <a:ext cx="3240" cy="414360"/>
            </a:xfrm>
            <a:custGeom>
              <a:avLst/>
              <a:gdLst/>
              <a:ahLst/>
              <a:rect l="l" t="t" r="r" b="b"/>
              <a:pathLst>
                <a:path w="4" h="1045">
                  <a:moveTo>
                    <a:pt x="0" y="1045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0"/>
                  </a:lnTo>
                  <a:lnTo>
                    <a:pt x="4" y="1041"/>
                  </a:lnTo>
                  <a:lnTo>
                    <a:pt x="3" y="1041"/>
                  </a:lnTo>
                  <a:lnTo>
                    <a:pt x="3" y="1042"/>
                  </a:lnTo>
                  <a:lnTo>
                    <a:pt x="2" y="1042"/>
                  </a:lnTo>
                  <a:lnTo>
                    <a:pt x="2" y="1043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bfa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48520" y="3414600"/>
              <a:ext cx="1440" cy="416160"/>
            </a:xfrm>
            <a:custGeom>
              <a:avLst/>
              <a:gdLst/>
              <a:ahLst/>
              <a:rect l="l" t="t" r="r" b="b"/>
              <a:pathLst>
                <a:path w="4" h="1048">
                  <a:moveTo>
                    <a:pt x="0" y="104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44"/>
                  </a:lnTo>
                  <a:lnTo>
                    <a:pt x="4" y="1044"/>
                  </a:lnTo>
                  <a:lnTo>
                    <a:pt x="3" y="1045"/>
                  </a:lnTo>
                  <a:lnTo>
                    <a:pt x="3" y="1045"/>
                  </a:lnTo>
                  <a:lnTo>
                    <a:pt x="2" y="1046"/>
                  </a:lnTo>
                  <a:lnTo>
                    <a:pt x="2" y="1047"/>
                  </a:lnTo>
                  <a:lnTo>
                    <a:pt x="1" y="1047"/>
                  </a:lnTo>
                  <a:lnTo>
                    <a:pt x="1" y="1048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9960" y="341136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1">
                  <a:moveTo>
                    <a:pt x="0" y="1051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5"/>
                  </a:lnTo>
                  <a:lnTo>
                    <a:pt x="5" y="1047"/>
                  </a:lnTo>
                  <a:lnTo>
                    <a:pt x="5" y="1047"/>
                  </a:lnTo>
                  <a:lnTo>
                    <a:pt x="4" y="1048"/>
                  </a:lnTo>
                  <a:lnTo>
                    <a:pt x="2" y="1049"/>
                  </a:lnTo>
                  <a:lnTo>
                    <a:pt x="2" y="1049"/>
                  </a:lnTo>
                  <a:lnTo>
                    <a:pt x="1" y="1050"/>
                  </a:lnTo>
                  <a:lnTo>
                    <a:pt x="1" y="1050"/>
                  </a:lnTo>
                  <a:lnTo>
                    <a:pt x="0" y="1051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249960" y="3409920"/>
              <a:ext cx="1440" cy="417600"/>
            </a:xfrm>
            <a:custGeom>
              <a:avLst/>
              <a:gdLst/>
              <a:ahLst/>
              <a:rect l="l" t="t" r="r" b="b"/>
              <a:pathLst>
                <a:path w="6" h="1054">
                  <a:moveTo>
                    <a:pt x="0" y="1054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48"/>
                  </a:lnTo>
                  <a:lnTo>
                    <a:pt x="5" y="1048"/>
                  </a:lnTo>
                  <a:lnTo>
                    <a:pt x="5" y="1049"/>
                  </a:lnTo>
                  <a:lnTo>
                    <a:pt x="4" y="1050"/>
                  </a:lnTo>
                  <a:lnTo>
                    <a:pt x="4" y="1050"/>
                  </a:lnTo>
                  <a:lnTo>
                    <a:pt x="3" y="1052"/>
                  </a:lnTo>
                  <a:lnTo>
                    <a:pt x="3" y="1052"/>
                  </a:lnTo>
                  <a:lnTo>
                    <a:pt x="2" y="1053"/>
                  </a:lnTo>
                  <a:lnTo>
                    <a:pt x="0" y="1054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1400" y="3408480"/>
              <a:ext cx="1800" cy="419040"/>
            </a:xfrm>
            <a:custGeom>
              <a:avLst/>
              <a:gdLst/>
              <a:ahLst/>
              <a:rect l="l" t="t" r="r" b="b"/>
              <a:pathLst>
                <a:path w="4" h="1056">
                  <a:moveTo>
                    <a:pt x="0" y="10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51"/>
                  </a:lnTo>
                  <a:lnTo>
                    <a:pt x="3" y="1052"/>
                  </a:lnTo>
                  <a:lnTo>
                    <a:pt x="3" y="1053"/>
                  </a:lnTo>
                  <a:lnTo>
                    <a:pt x="2" y="1053"/>
                  </a:lnTo>
                  <a:lnTo>
                    <a:pt x="2" y="1054"/>
                  </a:lnTo>
                  <a:lnTo>
                    <a:pt x="1" y="1054"/>
                  </a:lnTo>
                  <a:lnTo>
                    <a:pt x="1" y="1055"/>
                  </a:lnTo>
                  <a:lnTo>
                    <a:pt x="0" y="1056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51400" y="3405240"/>
              <a:ext cx="3240" cy="420480"/>
            </a:xfrm>
            <a:custGeom>
              <a:avLst/>
              <a:gdLst/>
              <a:ahLst/>
              <a:rect l="l" t="t" r="r" b="b"/>
              <a:pathLst>
                <a:path w="4" h="1060">
                  <a:moveTo>
                    <a:pt x="0" y="1060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55"/>
                  </a:lnTo>
                  <a:lnTo>
                    <a:pt x="4" y="1055"/>
                  </a:lnTo>
                  <a:lnTo>
                    <a:pt x="3" y="1056"/>
                  </a:lnTo>
                  <a:lnTo>
                    <a:pt x="2" y="1057"/>
                  </a:lnTo>
                  <a:lnTo>
                    <a:pt x="2" y="1057"/>
                  </a:lnTo>
                  <a:lnTo>
                    <a:pt x="1" y="1058"/>
                  </a:lnTo>
                  <a:lnTo>
                    <a:pt x="1" y="1059"/>
                  </a:lnTo>
                  <a:lnTo>
                    <a:pt x="0" y="1059"/>
                  </a:lnTo>
                  <a:lnTo>
                    <a:pt x="0" y="1060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53200" y="3403440"/>
              <a:ext cx="1440" cy="420840"/>
            </a:xfrm>
            <a:custGeom>
              <a:avLst/>
              <a:gdLst/>
              <a:ahLst/>
              <a:rect l="l" t="t" r="r" b="b"/>
              <a:pathLst>
                <a:path w="4" h="1063">
                  <a:moveTo>
                    <a:pt x="0" y="106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58"/>
                  </a:lnTo>
                  <a:lnTo>
                    <a:pt x="4" y="1059"/>
                  </a:lnTo>
                  <a:lnTo>
                    <a:pt x="3" y="1060"/>
                  </a:lnTo>
                  <a:lnTo>
                    <a:pt x="3" y="1060"/>
                  </a:lnTo>
                  <a:lnTo>
                    <a:pt x="2" y="1061"/>
                  </a:lnTo>
                  <a:lnTo>
                    <a:pt x="2" y="1061"/>
                  </a:lnTo>
                  <a:lnTo>
                    <a:pt x="1" y="1062"/>
                  </a:lnTo>
                  <a:lnTo>
                    <a:pt x="0" y="1063"/>
                  </a:lnTo>
                  <a:lnTo>
                    <a:pt x="0" y="1063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54640" y="3400200"/>
              <a:ext cx="1800" cy="424080"/>
            </a:xfrm>
            <a:custGeom>
              <a:avLst/>
              <a:gdLst/>
              <a:ahLst/>
              <a:rect l="l" t="t" r="r" b="b"/>
              <a:pathLst>
                <a:path w="5" h="1066">
                  <a:moveTo>
                    <a:pt x="0" y="1066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061"/>
                  </a:lnTo>
                  <a:lnTo>
                    <a:pt x="5" y="1061"/>
                  </a:lnTo>
                  <a:lnTo>
                    <a:pt x="3" y="1062"/>
                  </a:lnTo>
                  <a:lnTo>
                    <a:pt x="3" y="1063"/>
                  </a:lnTo>
                  <a:lnTo>
                    <a:pt x="2" y="1063"/>
                  </a:lnTo>
                  <a:lnTo>
                    <a:pt x="2" y="1064"/>
                  </a:lnTo>
                  <a:lnTo>
                    <a:pt x="1" y="1065"/>
                  </a:lnTo>
                  <a:lnTo>
                    <a:pt x="1" y="1065"/>
                  </a:lnTo>
                  <a:lnTo>
                    <a:pt x="0" y="1066"/>
                  </a:lnTo>
                  <a:close/>
                </a:path>
              </a:pathLst>
            </a:custGeom>
            <a:solidFill>
              <a:srgbClr val="c2a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254640" y="3398760"/>
              <a:ext cx="1800" cy="423720"/>
            </a:xfrm>
            <a:custGeom>
              <a:avLst/>
              <a:gdLst/>
              <a:ahLst/>
              <a:rect l="l" t="t" r="r" b="b"/>
              <a:pathLst>
                <a:path w="6" h="1068">
                  <a:moveTo>
                    <a:pt x="0" y="106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62"/>
                  </a:lnTo>
                  <a:lnTo>
                    <a:pt x="5" y="1063"/>
                  </a:lnTo>
                  <a:lnTo>
                    <a:pt x="5" y="1064"/>
                  </a:lnTo>
                  <a:lnTo>
                    <a:pt x="4" y="1064"/>
                  </a:lnTo>
                  <a:lnTo>
                    <a:pt x="3" y="1066"/>
                  </a:lnTo>
                  <a:lnTo>
                    <a:pt x="3" y="1066"/>
                  </a:lnTo>
                  <a:lnTo>
                    <a:pt x="1" y="1067"/>
                  </a:lnTo>
                  <a:lnTo>
                    <a:pt x="1" y="10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56440" y="3395520"/>
              <a:ext cx="1440" cy="425520"/>
            </a:xfrm>
            <a:custGeom>
              <a:avLst/>
              <a:gdLst/>
              <a:ahLst/>
              <a:rect l="l" t="t" r="r" b="b"/>
              <a:pathLst>
                <a:path w="5" h="1073">
                  <a:moveTo>
                    <a:pt x="0" y="107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067"/>
                  </a:lnTo>
                  <a:lnTo>
                    <a:pt x="4" y="1067"/>
                  </a:lnTo>
                  <a:lnTo>
                    <a:pt x="4" y="1068"/>
                  </a:lnTo>
                  <a:lnTo>
                    <a:pt x="3" y="1069"/>
                  </a:lnTo>
                  <a:lnTo>
                    <a:pt x="3" y="1069"/>
                  </a:lnTo>
                  <a:lnTo>
                    <a:pt x="2" y="1070"/>
                  </a:lnTo>
                  <a:lnTo>
                    <a:pt x="2" y="1071"/>
                  </a:lnTo>
                  <a:lnTo>
                    <a:pt x="1" y="1071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56440" y="3394080"/>
              <a:ext cx="3240" cy="426960"/>
            </a:xfrm>
            <a:custGeom>
              <a:avLst/>
              <a:gdLst/>
              <a:ahLst/>
              <a:rect l="l" t="t" r="r" b="b"/>
              <a:pathLst>
                <a:path w="4" h="1074">
                  <a:moveTo>
                    <a:pt x="0" y="1074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69"/>
                  </a:lnTo>
                  <a:lnTo>
                    <a:pt x="3" y="1070"/>
                  </a:lnTo>
                  <a:lnTo>
                    <a:pt x="3" y="1071"/>
                  </a:lnTo>
                  <a:lnTo>
                    <a:pt x="2" y="1071"/>
                  </a:lnTo>
                  <a:lnTo>
                    <a:pt x="2" y="1072"/>
                  </a:lnTo>
                  <a:lnTo>
                    <a:pt x="1" y="1072"/>
                  </a:lnTo>
                  <a:lnTo>
                    <a:pt x="1" y="1073"/>
                  </a:lnTo>
                  <a:lnTo>
                    <a:pt x="0" y="1074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257880" y="3392280"/>
              <a:ext cx="1800" cy="427320"/>
            </a:xfrm>
            <a:custGeom>
              <a:avLst/>
              <a:gdLst/>
              <a:ahLst/>
              <a:rect l="l" t="t" r="r" b="b"/>
              <a:pathLst>
                <a:path w="4" h="1078">
                  <a:moveTo>
                    <a:pt x="0" y="107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3"/>
                  </a:lnTo>
                  <a:lnTo>
                    <a:pt x="4" y="1073"/>
                  </a:lnTo>
                  <a:lnTo>
                    <a:pt x="3" y="1074"/>
                  </a:lnTo>
                  <a:lnTo>
                    <a:pt x="3" y="1075"/>
                  </a:lnTo>
                  <a:lnTo>
                    <a:pt x="2" y="1075"/>
                  </a:lnTo>
                  <a:lnTo>
                    <a:pt x="1" y="1076"/>
                  </a:lnTo>
                  <a:lnTo>
                    <a:pt x="1" y="1077"/>
                  </a:lnTo>
                  <a:lnTo>
                    <a:pt x="0" y="1077"/>
                  </a:lnTo>
                  <a:lnTo>
                    <a:pt x="0" y="1078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59680" y="3389400"/>
              <a:ext cx="1440" cy="428400"/>
            </a:xfrm>
            <a:custGeom>
              <a:avLst/>
              <a:gdLst/>
              <a:ahLst/>
              <a:rect l="l" t="t" r="r" b="b"/>
              <a:pathLst>
                <a:path w="4" h="1080">
                  <a:moveTo>
                    <a:pt x="0" y="10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74"/>
                  </a:lnTo>
                  <a:lnTo>
                    <a:pt x="4" y="1076"/>
                  </a:lnTo>
                  <a:lnTo>
                    <a:pt x="3" y="1077"/>
                  </a:lnTo>
                  <a:lnTo>
                    <a:pt x="3" y="1077"/>
                  </a:lnTo>
                  <a:lnTo>
                    <a:pt x="2" y="1078"/>
                  </a:lnTo>
                  <a:lnTo>
                    <a:pt x="2" y="1078"/>
                  </a:lnTo>
                  <a:lnTo>
                    <a:pt x="1" y="1079"/>
                  </a:lnTo>
                  <a:lnTo>
                    <a:pt x="1" y="1080"/>
                  </a:lnTo>
                  <a:lnTo>
                    <a:pt x="0" y="1080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259680" y="3387600"/>
              <a:ext cx="1440" cy="430200"/>
            </a:xfrm>
            <a:custGeom>
              <a:avLst/>
              <a:gdLst/>
              <a:ahLst/>
              <a:rect l="l" t="t" r="r" b="b"/>
              <a:pathLst>
                <a:path w="6" h="1085">
                  <a:moveTo>
                    <a:pt x="0" y="108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0"/>
                  </a:lnTo>
                  <a:lnTo>
                    <a:pt x="6" y="1079"/>
                  </a:lnTo>
                  <a:lnTo>
                    <a:pt x="5" y="1079"/>
                  </a:lnTo>
                  <a:lnTo>
                    <a:pt x="3" y="1080"/>
                  </a:lnTo>
                  <a:lnTo>
                    <a:pt x="3" y="1081"/>
                  </a:lnTo>
                  <a:lnTo>
                    <a:pt x="2" y="1081"/>
                  </a:lnTo>
                  <a:lnTo>
                    <a:pt x="2" y="1083"/>
                  </a:lnTo>
                  <a:lnTo>
                    <a:pt x="1" y="1084"/>
                  </a:lnTo>
                  <a:lnTo>
                    <a:pt x="1" y="1084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c2a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61120" y="3384360"/>
              <a:ext cx="1440" cy="432000"/>
            </a:xfrm>
            <a:custGeom>
              <a:avLst/>
              <a:gdLst/>
              <a:ahLst/>
              <a:rect l="l" t="t" r="r" b="b"/>
              <a:pathLst>
                <a:path w="6" h="1086">
                  <a:moveTo>
                    <a:pt x="0" y="108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081"/>
                  </a:lnTo>
                  <a:lnTo>
                    <a:pt x="5" y="1082"/>
                  </a:lnTo>
                  <a:lnTo>
                    <a:pt x="5" y="1082"/>
                  </a:lnTo>
                  <a:lnTo>
                    <a:pt x="4" y="1083"/>
                  </a:lnTo>
                  <a:lnTo>
                    <a:pt x="4" y="1084"/>
                  </a:lnTo>
                  <a:lnTo>
                    <a:pt x="3" y="1084"/>
                  </a:lnTo>
                  <a:lnTo>
                    <a:pt x="1" y="1085"/>
                  </a:lnTo>
                  <a:lnTo>
                    <a:pt x="1" y="1086"/>
                  </a:lnTo>
                  <a:lnTo>
                    <a:pt x="0" y="1086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61120" y="3382920"/>
              <a:ext cx="1440" cy="431640"/>
            </a:xfrm>
            <a:custGeom>
              <a:avLst/>
              <a:gdLst/>
              <a:ahLst/>
              <a:rect l="l" t="t" r="r" b="b"/>
              <a:pathLst>
                <a:path w="4" h="1089">
                  <a:moveTo>
                    <a:pt x="0" y="1089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3"/>
                  </a:lnTo>
                  <a:lnTo>
                    <a:pt x="3" y="1084"/>
                  </a:lnTo>
                  <a:lnTo>
                    <a:pt x="3" y="1085"/>
                  </a:lnTo>
                  <a:lnTo>
                    <a:pt x="2" y="1085"/>
                  </a:lnTo>
                  <a:lnTo>
                    <a:pt x="2" y="1086"/>
                  </a:lnTo>
                  <a:lnTo>
                    <a:pt x="1" y="1087"/>
                  </a:lnTo>
                  <a:lnTo>
                    <a:pt x="1" y="1087"/>
                  </a:lnTo>
                  <a:lnTo>
                    <a:pt x="0" y="1088"/>
                  </a:lnTo>
                  <a:lnTo>
                    <a:pt x="0" y="108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62560" y="3381480"/>
              <a:ext cx="1800" cy="433080"/>
            </a:xfrm>
            <a:custGeom>
              <a:avLst/>
              <a:gdLst/>
              <a:ahLst/>
              <a:rect l="l" t="t" r="r" b="b"/>
              <a:pathLst>
                <a:path w="4" h="1092">
                  <a:moveTo>
                    <a:pt x="0" y="109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087"/>
                  </a:lnTo>
                  <a:lnTo>
                    <a:pt x="3" y="1088"/>
                  </a:lnTo>
                  <a:lnTo>
                    <a:pt x="3" y="1088"/>
                  </a:lnTo>
                  <a:lnTo>
                    <a:pt x="2" y="1089"/>
                  </a:lnTo>
                  <a:lnTo>
                    <a:pt x="2" y="1089"/>
                  </a:lnTo>
                  <a:lnTo>
                    <a:pt x="1" y="1090"/>
                  </a:lnTo>
                  <a:lnTo>
                    <a:pt x="1" y="1091"/>
                  </a:lnTo>
                  <a:lnTo>
                    <a:pt x="0" y="1091"/>
                  </a:lnTo>
                  <a:lnTo>
                    <a:pt x="0" y="1092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62560" y="3378240"/>
              <a:ext cx="3240" cy="434880"/>
            </a:xfrm>
            <a:custGeom>
              <a:avLst/>
              <a:gdLst/>
              <a:ahLst/>
              <a:rect l="l" t="t" r="r" b="b"/>
              <a:pathLst>
                <a:path w="4" h="1095">
                  <a:moveTo>
                    <a:pt x="0" y="109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089"/>
                  </a:lnTo>
                  <a:lnTo>
                    <a:pt x="4" y="1091"/>
                  </a:lnTo>
                  <a:lnTo>
                    <a:pt x="3" y="1092"/>
                  </a:lnTo>
                  <a:lnTo>
                    <a:pt x="3" y="1092"/>
                  </a:lnTo>
                  <a:lnTo>
                    <a:pt x="2" y="1093"/>
                  </a:lnTo>
                  <a:lnTo>
                    <a:pt x="1" y="1094"/>
                  </a:lnTo>
                  <a:lnTo>
                    <a:pt x="1" y="1094"/>
                  </a:lnTo>
                  <a:lnTo>
                    <a:pt x="0" y="1095"/>
                  </a:lnTo>
                  <a:lnTo>
                    <a:pt x="0" y="1095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64360" y="3376440"/>
              <a:ext cx="1440" cy="435240"/>
            </a:xfrm>
            <a:custGeom>
              <a:avLst/>
              <a:gdLst/>
              <a:ahLst/>
              <a:rect l="l" t="t" r="r" b="b"/>
              <a:pathLst>
                <a:path w="4" h="1099">
                  <a:moveTo>
                    <a:pt x="0" y="1099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093"/>
                  </a:lnTo>
                  <a:lnTo>
                    <a:pt x="4" y="1093"/>
                  </a:lnTo>
                  <a:lnTo>
                    <a:pt x="3" y="1094"/>
                  </a:lnTo>
                  <a:lnTo>
                    <a:pt x="3" y="1095"/>
                  </a:lnTo>
                  <a:lnTo>
                    <a:pt x="2" y="1095"/>
                  </a:lnTo>
                  <a:lnTo>
                    <a:pt x="2" y="1097"/>
                  </a:lnTo>
                  <a:lnTo>
                    <a:pt x="1" y="1098"/>
                  </a:lnTo>
                  <a:lnTo>
                    <a:pt x="1" y="1098"/>
                  </a:lnTo>
                  <a:lnTo>
                    <a:pt x="0" y="1099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65800" y="3373560"/>
              <a:ext cx="1800" cy="436320"/>
            </a:xfrm>
            <a:custGeom>
              <a:avLst/>
              <a:gdLst/>
              <a:ahLst/>
              <a:rect l="l" t="t" r="r" b="b"/>
              <a:pathLst>
                <a:path w="6" h="1100">
                  <a:moveTo>
                    <a:pt x="0" y="110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5"/>
                  </a:lnTo>
                  <a:lnTo>
                    <a:pt x="5" y="1096"/>
                  </a:lnTo>
                  <a:lnTo>
                    <a:pt x="4" y="1096"/>
                  </a:lnTo>
                  <a:lnTo>
                    <a:pt x="4" y="1097"/>
                  </a:lnTo>
                  <a:lnTo>
                    <a:pt x="2" y="1098"/>
                  </a:lnTo>
                  <a:lnTo>
                    <a:pt x="2" y="1098"/>
                  </a:lnTo>
                  <a:lnTo>
                    <a:pt x="1" y="1099"/>
                  </a:lnTo>
                  <a:lnTo>
                    <a:pt x="1" y="1100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c3a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265800" y="3371760"/>
              <a:ext cx="1800" cy="438120"/>
            </a:xfrm>
            <a:custGeom>
              <a:avLst/>
              <a:gdLst/>
              <a:ahLst/>
              <a:rect l="l" t="t" r="r" b="b"/>
              <a:pathLst>
                <a:path w="6" h="1103">
                  <a:moveTo>
                    <a:pt x="0" y="1103"/>
                  </a:moveTo>
                  <a:lnTo>
                    <a:pt x="0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097"/>
                  </a:lnTo>
                  <a:lnTo>
                    <a:pt x="5" y="1098"/>
                  </a:lnTo>
                  <a:lnTo>
                    <a:pt x="5" y="1099"/>
                  </a:lnTo>
                  <a:lnTo>
                    <a:pt x="4" y="1099"/>
                  </a:lnTo>
                  <a:lnTo>
                    <a:pt x="4" y="1100"/>
                  </a:lnTo>
                  <a:lnTo>
                    <a:pt x="3" y="1101"/>
                  </a:lnTo>
                  <a:lnTo>
                    <a:pt x="2" y="1101"/>
                  </a:lnTo>
                  <a:lnTo>
                    <a:pt x="2" y="1102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267600" y="3368520"/>
              <a:ext cx="1440" cy="439920"/>
            </a:xfrm>
            <a:custGeom>
              <a:avLst/>
              <a:gdLst/>
              <a:ahLst/>
              <a:rect l="l" t="t" r="r" b="b"/>
              <a:pathLst>
                <a:path w="4" h="1107">
                  <a:moveTo>
                    <a:pt x="0" y="110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02"/>
                  </a:lnTo>
                  <a:lnTo>
                    <a:pt x="3" y="1102"/>
                  </a:lnTo>
                  <a:lnTo>
                    <a:pt x="3" y="1103"/>
                  </a:lnTo>
                  <a:lnTo>
                    <a:pt x="2" y="1104"/>
                  </a:lnTo>
                  <a:lnTo>
                    <a:pt x="2" y="1104"/>
                  </a:lnTo>
                  <a:lnTo>
                    <a:pt x="1" y="1105"/>
                  </a:lnTo>
                  <a:lnTo>
                    <a:pt x="1" y="1106"/>
                  </a:lnTo>
                  <a:lnTo>
                    <a:pt x="0" y="1106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267600" y="3367080"/>
              <a:ext cx="2880" cy="439560"/>
            </a:xfrm>
            <a:custGeom>
              <a:avLst/>
              <a:gdLst/>
              <a:ahLst/>
              <a:rect l="l" t="t" r="r" b="b"/>
              <a:pathLst>
                <a:path w="4" h="1109">
                  <a:moveTo>
                    <a:pt x="0" y="110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03"/>
                  </a:lnTo>
                  <a:lnTo>
                    <a:pt x="3" y="1104"/>
                  </a:lnTo>
                  <a:lnTo>
                    <a:pt x="3" y="1104"/>
                  </a:lnTo>
                  <a:lnTo>
                    <a:pt x="2" y="1106"/>
                  </a:lnTo>
                  <a:lnTo>
                    <a:pt x="2" y="1107"/>
                  </a:lnTo>
                  <a:lnTo>
                    <a:pt x="1" y="1107"/>
                  </a:lnTo>
                  <a:lnTo>
                    <a:pt x="1" y="1108"/>
                  </a:lnTo>
                  <a:lnTo>
                    <a:pt x="0" y="1109"/>
                  </a:lnTo>
                  <a:lnTo>
                    <a:pt x="0" y="1109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69040" y="3365280"/>
              <a:ext cx="1440" cy="441360"/>
            </a:xfrm>
            <a:custGeom>
              <a:avLst/>
              <a:gdLst/>
              <a:ahLst/>
              <a:rect l="l" t="t" r="r" b="b"/>
              <a:pathLst>
                <a:path w="4" h="1113">
                  <a:moveTo>
                    <a:pt x="0" y="11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06"/>
                  </a:lnTo>
                  <a:lnTo>
                    <a:pt x="4" y="1107"/>
                  </a:lnTo>
                  <a:lnTo>
                    <a:pt x="3" y="1108"/>
                  </a:lnTo>
                  <a:lnTo>
                    <a:pt x="3" y="1108"/>
                  </a:lnTo>
                  <a:lnTo>
                    <a:pt x="2" y="1109"/>
                  </a:lnTo>
                  <a:lnTo>
                    <a:pt x="1" y="1110"/>
                  </a:lnTo>
                  <a:lnTo>
                    <a:pt x="1" y="1110"/>
                  </a:lnTo>
                  <a:lnTo>
                    <a:pt x="0" y="1112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70480" y="3362400"/>
              <a:ext cx="1800" cy="442800"/>
            </a:xfrm>
            <a:custGeom>
              <a:avLst/>
              <a:gdLst/>
              <a:ahLst/>
              <a:rect l="l" t="t" r="r" b="b"/>
              <a:pathLst>
                <a:path w="4" h="1115">
                  <a:moveTo>
                    <a:pt x="0" y="111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10"/>
                  </a:lnTo>
                  <a:lnTo>
                    <a:pt x="4" y="1110"/>
                  </a:lnTo>
                  <a:lnTo>
                    <a:pt x="3" y="1111"/>
                  </a:lnTo>
                  <a:lnTo>
                    <a:pt x="3" y="1112"/>
                  </a:lnTo>
                  <a:lnTo>
                    <a:pt x="2" y="1112"/>
                  </a:lnTo>
                  <a:lnTo>
                    <a:pt x="2" y="1113"/>
                  </a:lnTo>
                  <a:lnTo>
                    <a:pt x="1" y="1114"/>
                  </a:lnTo>
                  <a:lnTo>
                    <a:pt x="1" y="1114"/>
                  </a:lnTo>
                  <a:lnTo>
                    <a:pt x="0" y="1115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70480" y="3360600"/>
              <a:ext cx="1800" cy="443160"/>
            </a:xfrm>
            <a:custGeom>
              <a:avLst/>
              <a:gdLst/>
              <a:ahLst/>
              <a:rect l="l" t="t" r="r" b="b"/>
              <a:pathLst>
                <a:path w="6" h="1118">
                  <a:moveTo>
                    <a:pt x="0" y="111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3"/>
                  </a:lnTo>
                  <a:lnTo>
                    <a:pt x="5" y="1114"/>
                  </a:lnTo>
                  <a:lnTo>
                    <a:pt x="4" y="1114"/>
                  </a:lnTo>
                  <a:lnTo>
                    <a:pt x="4" y="1115"/>
                  </a:lnTo>
                  <a:lnTo>
                    <a:pt x="2" y="1116"/>
                  </a:lnTo>
                  <a:lnTo>
                    <a:pt x="2" y="1116"/>
                  </a:lnTo>
                  <a:lnTo>
                    <a:pt x="1" y="1117"/>
                  </a:lnTo>
                  <a:lnTo>
                    <a:pt x="1" y="1118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2280" y="3357360"/>
              <a:ext cx="1440" cy="446400"/>
            </a:xfrm>
            <a:custGeom>
              <a:avLst/>
              <a:gdLst/>
              <a:ahLst/>
              <a:rect l="l" t="t" r="r" b="b"/>
              <a:pathLst>
                <a:path w="6" h="1121">
                  <a:moveTo>
                    <a:pt x="0" y="112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115"/>
                  </a:lnTo>
                  <a:lnTo>
                    <a:pt x="5" y="1116"/>
                  </a:lnTo>
                  <a:lnTo>
                    <a:pt x="5" y="1117"/>
                  </a:lnTo>
                  <a:lnTo>
                    <a:pt x="4" y="1117"/>
                  </a:lnTo>
                  <a:lnTo>
                    <a:pt x="4" y="1118"/>
                  </a:lnTo>
                  <a:lnTo>
                    <a:pt x="3" y="1119"/>
                  </a:lnTo>
                  <a:lnTo>
                    <a:pt x="2" y="1119"/>
                  </a:lnTo>
                  <a:lnTo>
                    <a:pt x="2" y="1120"/>
                  </a:lnTo>
                  <a:lnTo>
                    <a:pt x="0" y="1121"/>
                  </a:lnTo>
                  <a:close/>
                </a:path>
              </a:pathLst>
            </a:custGeom>
            <a:solidFill>
              <a:srgbClr val="c3a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72280" y="3355920"/>
              <a:ext cx="3240" cy="446040"/>
            </a:xfrm>
            <a:custGeom>
              <a:avLst/>
              <a:gdLst/>
              <a:ahLst/>
              <a:rect l="l" t="t" r="r" b="b"/>
              <a:pathLst>
                <a:path w="4" h="1123">
                  <a:moveTo>
                    <a:pt x="0" y="1123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17"/>
                  </a:lnTo>
                  <a:lnTo>
                    <a:pt x="3" y="1117"/>
                  </a:lnTo>
                  <a:lnTo>
                    <a:pt x="3" y="1118"/>
                  </a:lnTo>
                  <a:lnTo>
                    <a:pt x="2" y="1120"/>
                  </a:lnTo>
                  <a:lnTo>
                    <a:pt x="2" y="1120"/>
                  </a:lnTo>
                  <a:lnTo>
                    <a:pt x="1" y="1121"/>
                  </a:lnTo>
                  <a:lnTo>
                    <a:pt x="1" y="1122"/>
                  </a:lnTo>
                  <a:lnTo>
                    <a:pt x="0" y="1122"/>
                  </a:lnTo>
                  <a:lnTo>
                    <a:pt x="0" y="1123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273720" y="3352680"/>
              <a:ext cx="1800" cy="447840"/>
            </a:xfrm>
            <a:custGeom>
              <a:avLst/>
              <a:gdLst/>
              <a:ahLst/>
              <a:rect l="l" t="t" r="r" b="b"/>
              <a:pathLst>
                <a:path w="4" h="1127">
                  <a:moveTo>
                    <a:pt x="0" y="1127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21"/>
                  </a:lnTo>
                  <a:lnTo>
                    <a:pt x="4" y="1122"/>
                  </a:lnTo>
                  <a:lnTo>
                    <a:pt x="3" y="1122"/>
                  </a:lnTo>
                  <a:lnTo>
                    <a:pt x="2" y="1123"/>
                  </a:lnTo>
                  <a:lnTo>
                    <a:pt x="2" y="1124"/>
                  </a:lnTo>
                  <a:lnTo>
                    <a:pt x="1" y="1124"/>
                  </a:lnTo>
                  <a:lnTo>
                    <a:pt x="1" y="1125"/>
                  </a:lnTo>
                  <a:lnTo>
                    <a:pt x="0" y="1127"/>
                  </a:lnTo>
                  <a:lnTo>
                    <a:pt x="0" y="1127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75520" y="3351240"/>
              <a:ext cx="1440" cy="447480"/>
            </a:xfrm>
            <a:custGeom>
              <a:avLst/>
              <a:gdLst/>
              <a:ahLst/>
              <a:rect l="l" t="t" r="r" b="b"/>
              <a:pathLst>
                <a:path w="4" h="1129">
                  <a:moveTo>
                    <a:pt x="0" y="1129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23"/>
                  </a:lnTo>
                  <a:lnTo>
                    <a:pt x="4" y="1124"/>
                  </a:lnTo>
                  <a:lnTo>
                    <a:pt x="3" y="1124"/>
                  </a:lnTo>
                  <a:lnTo>
                    <a:pt x="3" y="1125"/>
                  </a:lnTo>
                  <a:lnTo>
                    <a:pt x="2" y="1126"/>
                  </a:lnTo>
                  <a:lnTo>
                    <a:pt x="2" y="1127"/>
                  </a:lnTo>
                  <a:lnTo>
                    <a:pt x="1" y="1127"/>
                  </a:lnTo>
                  <a:lnTo>
                    <a:pt x="0" y="1128"/>
                  </a:lnTo>
                  <a:lnTo>
                    <a:pt x="0" y="1129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75520" y="3349440"/>
              <a:ext cx="1440" cy="449280"/>
            </a:xfrm>
            <a:custGeom>
              <a:avLst/>
              <a:gdLst/>
              <a:ahLst/>
              <a:rect l="l" t="t" r="r" b="b"/>
              <a:pathLst>
                <a:path w="5" h="1132">
                  <a:moveTo>
                    <a:pt x="0" y="113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26"/>
                  </a:lnTo>
                  <a:lnTo>
                    <a:pt x="5" y="1127"/>
                  </a:lnTo>
                  <a:lnTo>
                    <a:pt x="3" y="1128"/>
                  </a:lnTo>
                  <a:lnTo>
                    <a:pt x="3" y="1128"/>
                  </a:lnTo>
                  <a:lnTo>
                    <a:pt x="2" y="1129"/>
                  </a:lnTo>
                  <a:lnTo>
                    <a:pt x="2" y="1130"/>
                  </a:lnTo>
                  <a:lnTo>
                    <a:pt x="1" y="1130"/>
                  </a:lnTo>
                  <a:lnTo>
                    <a:pt x="1" y="1131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276960" y="3346560"/>
              <a:ext cx="1440" cy="450720"/>
            </a:xfrm>
            <a:custGeom>
              <a:avLst/>
              <a:gdLst/>
              <a:ahLst/>
              <a:rect l="l" t="t" r="r" b="b"/>
              <a:pathLst>
                <a:path w="6" h="1135">
                  <a:moveTo>
                    <a:pt x="0" y="1135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28"/>
                  </a:lnTo>
                  <a:lnTo>
                    <a:pt x="5" y="1129"/>
                  </a:lnTo>
                  <a:lnTo>
                    <a:pt x="5" y="1131"/>
                  </a:lnTo>
                  <a:lnTo>
                    <a:pt x="4" y="1132"/>
                  </a:lnTo>
                  <a:lnTo>
                    <a:pt x="3" y="1132"/>
                  </a:lnTo>
                  <a:lnTo>
                    <a:pt x="3" y="1133"/>
                  </a:lnTo>
                  <a:lnTo>
                    <a:pt x="1" y="1134"/>
                  </a:lnTo>
                  <a:lnTo>
                    <a:pt x="1" y="1134"/>
                  </a:lnTo>
                  <a:lnTo>
                    <a:pt x="0" y="1135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276960" y="3344760"/>
              <a:ext cx="1440" cy="451080"/>
            </a:xfrm>
            <a:custGeom>
              <a:avLst/>
              <a:gdLst/>
              <a:ahLst/>
              <a:rect l="l" t="t" r="r" b="b"/>
              <a:pathLst>
                <a:path w="5" h="1138">
                  <a:moveTo>
                    <a:pt x="0" y="113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32"/>
                  </a:lnTo>
                  <a:lnTo>
                    <a:pt x="4" y="1132"/>
                  </a:lnTo>
                  <a:lnTo>
                    <a:pt x="4" y="1133"/>
                  </a:lnTo>
                  <a:lnTo>
                    <a:pt x="3" y="1134"/>
                  </a:lnTo>
                  <a:lnTo>
                    <a:pt x="3" y="1134"/>
                  </a:lnTo>
                  <a:lnTo>
                    <a:pt x="2" y="1135"/>
                  </a:lnTo>
                  <a:lnTo>
                    <a:pt x="2" y="1137"/>
                  </a:lnTo>
                  <a:lnTo>
                    <a:pt x="1" y="1138"/>
                  </a:lnTo>
                  <a:lnTo>
                    <a:pt x="0" y="1138"/>
                  </a:lnTo>
                  <a:close/>
                </a:path>
              </a:pathLst>
            </a:custGeom>
            <a:solidFill>
              <a:srgbClr val="c6a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278400" y="3341520"/>
              <a:ext cx="1800" cy="452520"/>
            </a:xfrm>
            <a:custGeom>
              <a:avLst/>
              <a:gdLst/>
              <a:ahLst/>
              <a:rect l="l" t="t" r="r" b="b"/>
              <a:pathLst>
                <a:path w="4" h="1139">
                  <a:moveTo>
                    <a:pt x="0" y="113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34"/>
                  </a:lnTo>
                  <a:lnTo>
                    <a:pt x="3" y="1135"/>
                  </a:lnTo>
                  <a:lnTo>
                    <a:pt x="3" y="1135"/>
                  </a:lnTo>
                  <a:lnTo>
                    <a:pt x="2" y="1136"/>
                  </a:lnTo>
                  <a:lnTo>
                    <a:pt x="2" y="1137"/>
                  </a:lnTo>
                  <a:lnTo>
                    <a:pt x="1" y="1137"/>
                  </a:lnTo>
                  <a:lnTo>
                    <a:pt x="1" y="1138"/>
                  </a:lnTo>
                  <a:lnTo>
                    <a:pt x="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278400" y="3340080"/>
              <a:ext cx="3240" cy="453960"/>
            </a:xfrm>
            <a:custGeom>
              <a:avLst/>
              <a:gdLst/>
              <a:ahLst/>
              <a:rect l="l" t="t" r="r" b="b"/>
              <a:pathLst>
                <a:path w="4" h="1143">
                  <a:moveTo>
                    <a:pt x="0" y="114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37"/>
                  </a:lnTo>
                  <a:lnTo>
                    <a:pt x="4" y="1138"/>
                  </a:lnTo>
                  <a:lnTo>
                    <a:pt x="3" y="1138"/>
                  </a:lnTo>
                  <a:lnTo>
                    <a:pt x="2" y="1139"/>
                  </a:lnTo>
                  <a:lnTo>
                    <a:pt x="2" y="1140"/>
                  </a:lnTo>
                  <a:lnTo>
                    <a:pt x="1" y="1141"/>
                  </a:lnTo>
                  <a:lnTo>
                    <a:pt x="1" y="1141"/>
                  </a:lnTo>
                  <a:lnTo>
                    <a:pt x="0" y="1142"/>
                  </a:lnTo>
                  <a:lnTo>
                    <a:pt x="0" y="114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280200" y="3336840"/>
              <a:ext cx="1440" cy="455760"/>
            </a:xfrm>
            <a:custGeom>
              <a:avLst/>
              <a:gdLst/>
              <a:ahLst/>
              <a:rect l="l" t="t" r="r" b="b"/>
              <a:pathLst>
                <a:path w="4" h="1146">
                  <a:moveTo>
                    <a:pt x="0" y="1146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40"/>
                  </a:lnTo>
                  <a:lnTo>
                    <a:pt x="4" y="1141"/>
                  </a:lnTo>
                  <a:lnTo>
                    <a:pt x="3" y="1142"/>
                  </a:lnTo>
                  <a:lnTo>
                    <a:pt x="3" y="1142"/>
                  </a:lnTo>
                  <a:lnTo>
                    <a:pt x="2" y="1143"/>
                  </a:lnTo>
                  <a:lnTo>
                    <a:pt x="2" y="1144"/>
                  </a:lnTo>
                  <a:lnTo>
                    <a:pt x="1" y="1144"/>
                  </a:lnTo>
                  <a:lnTo>
                    <a:pt x="0" y="1145"/>
                  </a:lnTo>
                  <a:lnTo>
                    <a:pt x="0" y="1146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281640" y="3335400"/>
              <a:ext cx="1800" cy="455400"/>
            </a:xfrm>
            <a:custGeom>
              <a:avLst/>
              <a:gdLst/>
              <a:ahLst/>
              <a:rect l="l" t="t" r="r" b="b"/>
              <a:pathLst>
                <a:path w="5" h="1148">
                  <a:moveTo>
                    <a:pt x="0" y="1148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41"/>
                  </a:lnTo>
                  <a:lnTo>
                    <a:pt x="5" y="1142"/>
                  </a:lnTo>
                  <a:lnTo>
                    <a:pt x="4" y="1143"/>
                  </a:lnTo>
                  <a:lnTo>
                    <a:pt x="4" y="1145"/>
                  </a:lnTo>
                  <a:lnTo>
                    <a:pt x="2" y="1145"/>
                  </a:lnTo>
                  <a:lnTo>
                    <a:pt x="2" y="1146"/>
                  </a:lnTo>
                  <a:lnTo>
                    <a:pt x="1" y="1147"/>
                  </a:lnTo>
                  <a:lnTo>
                    <a:pt x="1" y="1147"/>
                  </a:lnTo>
                  <a:lnTo>
                    <a:pt x="0" y="1148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81640" y="3332160"/>
              <a:ext cx="1800" cy="457200"/>
            </a:xfrm>
            <a:custGeom>
              <a:avLst/>
              <a:gdLst/>
              <a:ahLst/>
              <a:rect l="l" t="t" r="r" b="b"/>
              <a:pathLst>
                <a:path w="6" h="1152">
                  <a:moveTo>
                    <a:pt x="0" y="1152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45"/>
                  </a:lnTo>
                  <a:lnTo>
                    <a:pt x="5" y="1146"/>
                  </a:lnTo>
                  <a:lnTo>
                    <a:pt x="5" y="1147"/>
                  </a:lnTo>
                  <a:lnTo>
                    <a:pt x="4" y="1148"/>
                  </a:lnTo>
                  <a:lnTo>
                    <a:pt x="3" y="1148"/>
                  </a:lnTo>
                  <a:lnTo>
                    <a:pt x="3" y="1149"/>
                  </a:lnTo>
                  <a:lnTo>
                    <a:pt x="2" y="1150"/>
                  </a:lnTo>
                  <a:lnTo>
                    <a:pt x="2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3440" y="3330360"/>
              <a:ext cx="1440" cy="457200"/>
            </a:xfrm>
            <a:custGeom>
              <a:avLst/>
              <a:gdLst/>
              <a:ahLst/>
              <a:rect l="l" t="t" r="r" b="b"/>
              <a:pathLst>
                <a:path w="5" h="1153">
                  <a:moveTo>
                    <a:pt x="0" y="115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48"/>
                  </a:lnTo>
                  <a:lnTo>
                    <a:pt x="4" y="1148"/>
                  </a:lnTo>
                  <a:lnTo>
                    <a:pt x="4" y="1149"/>
                  </a:lnTo>
                  <a:lnTo>
                    <a:pt x="3" y="1150"/>
                  </a:lnTo>
                  <a:lnTo>
                    <a:pt x="3" y="1150"/>
                  </a:lnTo>
                  <a:lnTo>
                    <a:pt x="2" y="1151"/>
                  </a:lnTo>
                  <a:lnTo>
                    <a:pt x="2" y="1152"/>
                  </a:lnTo>
                  <a:lnTo>
                    <a:pt x="1" y="1153"/>
                  </a:lnTo>
                  <a:lnTo>
                    <a:pt x="0" y="1153"/>
                  </a:lnTo>
                  <a:close/>
                </a:path>
              </a:pathLst>
            </a:custGeom>
            <a:solidFill>
              <a:srgbClr val="c6a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83440" y="3328920"/>
              <a:ext cx="3240" cy="458640"/>
            </a:xfrm>
            <a:custGeom>
              <a:avLst/>
              <a:gdLst/>
              <a:ahLst/>
              <a:rect l="l" t="t" r="r" b="b"/>
              <a:pathLst>
                <a:path w="4" h="1156">
                  <a:moveTo>
                    <a:pt x="0" y="115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51"/>
                  </a:lnTo>
                  <a:lnTo>
                    <a:pt x="3" y="1151"/>
                  </a:lnTo>
                  <a:lnTo>
                    <a:pt x="3" y="1152"/>
                  </a:lnTo>
                  <a:lnTo>
                    <a:pt x="2" y="1153"/>
                  </a:lnTo>
                  <a:lnTo>
                    <a:pt x="2" y="1154"/>
                  </a:lnTo>
                  <a:lnTo>
                    <a:pt x="1" y="1154"/>
                  </a:lnTo>
                  <a:lnTo>
                    <a:pt x="1" y="1155"/>
                  </a:lnTo>
                  <a:lnTo>
                    <a:pt x="0" y="1156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84880" y="3325680"/>
              <a:ext cx="1800" cy="460440"/>
            </a:xfrm>
            <a:custGeom>
              <a:avLst/>
              <a:gdLst/>
              <a:ahLst/>
              <a:rect l="l" t="t" r="r" b="b"/>
              <a:pathLst>
                <a:path w="4" h="1160">
                  <a:moveTo>
                    <a:pt x="0" y="116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153"/>
                  </a:lnTo>
                  <a:lnTo>
                    <a:pt x="4" y="1154"/>
                  </a:lnTo>
                  <a:lnTo>
                    <a:pt x="3" y="1154"/>
                  </a:lnTo>
                  <a:lnTo>
                    <a:pt x="3" y="1156"/>
                  </a:lnTo>
                  <a:lnTo>
                    <a:pt x="2" y="1157"/>
                  </a:lnTo>
                  <a:lnTo>
                    <a:pt x="1" y="1157"/>
                  </a:lnTo>
                  <a:lnTo>
                    <a:pt x="1" y="1158"/>
                  </a:lnTo>
                  <a:lnTo>
                    <a:pt x="0" y="1159"/>
                  </a:lnTo>
                  <a:lnTo>
                    <a:pt x="0" y="116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86680" y="3324240"/>
              <a:ext cx="1440" cy="460440"/>
            </a:xfrm>
            <a:custGeom>
              <a:avLst/>
              <a:gdLst/>
              <a:ahLst/>
              <a:rect l="l" t="t" r="r" b="b"/>
              <a:pathLst>
                <a:path w="4" h="1162">
                  <a:moveTo>
                    <a:pt x="0" y="1162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55"/>
                  </a:lnTo>
                  <a:lnTo>
                    <a:pt x="4" y="1156"/>
                  </a:lnTo>
                  <a:lnTo>
                    <a:pt x="3" y="1156"/>
                  </a:lnTo>
                  <a:lnTo>
                    <a:pt x="3" y="1157"/>
                  </a:lnTo>
                  <a:lnTo>
                    <a:pt x="2" y="1158"/>
                  </a:lnTo>
                  <a:lnTo>
                    <a:pt x="2" y="1159"/>
                  </a:lnTo>
                  <a:lnTo>
                    <a:pt x="1" y="1159"/>
                  </a:lnTo>
                  <a:lnTo>
                    <a:pt x="1" y="1161"/>
                  </a:lnTo>
                  <a:lnTo>
                    <a:pt x="0" y="116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86680" y="3321000"/>
              <a:ext cx="1440" cy="461880"/>
            </a:xfrm>
            <a:custGeom>
              <a:avLst/>
              <a:gdLst/>
              <a:ahLst/>
              <a:rect l="l" t="t" r="r" b="b"/>
              <a:pathLst>
                <a:path w="5" h="1164">
                  <a:moveTo>
                    <a:pt x="0" y="116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58"/>
                  </a:lnTo>
                  <a:lnTo>
                    <a:pt x="5" y="1159"/>
                  </a:lnTo>
                  <a:lnTo>
                    <a:pt x="4" y="1159"/>
                  </a:lnTo>
                  <a:lnTo>
                    <a:pt x="4" y="1160"/>
                  </a:lnTo>
                  <a:lnTo>
                    <a:pt x="2" y="1161"/>
                  </a:lnTo>
                  <a:lnTo>
                    <a:pt x="2" y="1162"/>
                  </a:lnTo>
                  <a:lnTo>
                    <a:pt x="1" y="1162"/>
                  </a:lnTo>
                  <a:lnTo>
                    <a:pt x="1" y="1163"/>
                  </a:lnTo>
                  <a:lnTo>
                    <a:pt x="0" y="1164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88120" y="3319560"/>
              <a:ext cx="1440" cy="463320"/>
            </a:xfrm>
            <a:custGeom>
              <a:avLst/>
              <a:gdLst/>
              <a:ahLst/>
              <a:rect l="l" t="t" r="r" b="b"/>
              <a:pathLst>
                <a:path w="6" h="1167">
                  <a:moveTo>
                    <a:pt x="0" y="116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61"/>
                  </a:lnTo>
                  <a:lnTo>
                    <a:pt x="5" y="1162"/>
                  </a:lnTo>
                  <a:lnTo>
                    <a:pt x="5" y="1163"/>
                  </a:lnTo>
                  <a:lnTo>
                    <a:pt x="4" y="1163"/>
                  </a:lnTo>
                  <a:lnTo>
                    <a:pt x="3" y="1164"/>
                  </a:lnTo>
                  <a:lnTo>
                    <a:pt x="3" y="1165"/>
                  </a:lnTo>
                  <a:lnTo>
                    <a:pt x="2" y="1165"/>
                  </a:lnTo>
                  <a:lnTo>
                    <a:pt x="2" y="1166"/>
                  </a:lnTo>
                  <a:lnTo>
                    <a:pt x="0" y="1167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88120" y="3316320"/>
              <a:ext cx="3240" cy="465120"/>
            </a:xfrm>
            <a:custGeom>
              <a:avLst/>
              <a:gdLst/>
              <a:ahLst/>
              <a:rect l="l" t="t" r="r" b="b"/>
              <a:pathLst>
                <a:path w="5" h="1170">
                  <a:moveTo>
                    <a:pt x="0" y="117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63"/>
                  </a:lnTo>
                  <a:lnTo>
                    <a:pt x="4" y="1165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8"/>
                  </a:lnTo>
                  <a:lnTo>
                    <a:pt x="2" y="1169"/>
                  </a:lnTo>
                  <a:lnTo>
                    <a:pt x="1" y="1169"/>
                  </a:lnTo>
                  <a:lnTo>
                    <a:pt x="0" y="1170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89560" y="3314520"/>
              <a:ext cx="1800" cy="465120"/>
            </a:xfrm>
            <a:custGeom>
              <a:avLst/>
              <a:gdLst/>
              <a:ahLst/>
              <a:rect l="l" t="t" r="r" b="b"/>
              <a:pathLst>
                <a:path w="4" h="1172">
                  <a:moveTo>
                    <a:pt x="0" y="117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65"/>
                  </a:lnTo>
                  <a:lnTo>
                    <a:pt x="3" y="1166"/>
                  </a:lnTo>
                  <a:lnTo>
                    <a:pt x="3" y="1167"/>
                  </a:lnTo>
                  <a:lnTo>
                    <a:pt x="2" y="1167"/>
                  </a:lnTo>
                  <a:lnTo>
                    <a:pt x="2" y="1168"/>
                  </a:lnTo>
                  <a:lnTo>
                    <a:pt x="1" y="1170"/>
                  </a:lnTo>
                  <a:lnTo>
                    <a:pt x="1" y="1171"/>
                  </a:lnTo>
                  <a:lnTo>
                    <a:pt x="0" y="1171"/>
                  </a:lnTo>
                  <a:lnTo>
                    <a:pt x="0" y="1172"/>
                  </a:lnTo>
                  <a:close/>
                </a:path>
              </a:pathLst>
            </a:custGeom>
            <a:solidFill>
              <a:srgbClr val="c8a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91360" y="3311640"/>
              <a:ext cx="1440" cy="466560"/>
            </a:xfrm>
            <a:custGeom>
              <a:avLst/>
              <a:gdLst/>
              <a:ahLst/>
              <a:rect l="l" t="t" r="r" b="b"/>
              <a:pathLst>
                <a:path w="4" h="1175">
                  <a:moveTo>
                    <a:pt x="0" y="117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169"/>
                  </a:lnTo>
                  <a:lnTo>
                    <a:pt x="4" y="1170"/>
                  </a:lnTo>
                  <a:lnTo>
                    <a:pt x="3" y="1171"/>
                  </a:lnTo>
                  <a:lnTo>
                    <a:pt x="3" y="1171"/>
                  </a:lnTo>
                  <a:lnTo>
                    <a:pt x="2" y="1172"/>
                  </a:lnTo>
                  <a:lnTo>
                    <a:pt x="1" y="1173"/>
                  </a:lnTo>
                  <a:lnTo>
                    <a:pt x="1" y="1174"/>
                  </a:lnTo>
                  <a:lnTo>
                    <a:pt x="0" y="1174"/>
                  </a:lnTo>
                  <a:lnTo>
                    <a:pt x="0" y="1175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91360" y="3309840"/>
              <a:ext cx="1440" cy="466920"/>
            </a:xfrm>
            <a:custGeom>
              <a:avLst/>
              <a:gdLst/>
              <a:ahLst/>
              <a:rect l="l" t="t" r="r" b="b"/>
              <a:pathLst>
                <a:path w="5" h="1177">
                  <a:moveTo>
                    <a:pt x="0" y="117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171"/>
                  </a:lnTo>
                  <a:lnTo>
                    <a:pt x="5" y="1172"/>
                  </a:lnTo>
                  <a:lnTo>
                    <a:pt x="3" y="1173"/>
                  </a:lnTo>
                  <a:lnTo>
                    <a:pt x="3" y="1173"/>
                  </a:lnTo>
                  <a:lnTo>
                    <a:pt x="2" y="1174"/>
                  </a:lnTo>
                  <a:lnTo>
                    <a:pt x="2" y="1175"/>
                  </a:lnTo>
                  <a:lnTo>
                    <a:pt x="1" y="1176"/>
                  </a:lnTo>
                  <a:lnTo>
                    <a:pt x="1" y="1176"/>
                  </a:lnTo>
                  <a:lnTo>
                    <a:pt x="0" y="1177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92800" y="3306600"/>
              <a:ext cx="1800" cy="468360"/>
            </a:xfrm>
            <a:custGeom>
              <a:avLst/>
              <a:gdLst/>
              <a:ahLst/>
              <a:rect l="l" t="t" r="r" b="b"/>
              <a:pathLst>
                <a:path w="6" h="1180">
                  <a:moveTo>
                    <a:pt x="0" y="11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73"/>
                  </a:lnTo>
                  <a:lnTo>
                    <a:pt x="5" y="1175"/>
                  </a:lnTo>
                  <a:lnTo>
                    <a:pt x="4" y="1176"/>
                  </a:lnTo>
                  <a:lnTo>
                    <a:pt x="4" y="1176"/>
                  </a:lnTo>
                  <a:lnTo>
                    <a:pt x="3" y="1177"/>
                  </a:lnTo>
                  <a:lnTo>
                    <a:pt x="3" y="1178"/>
                  </a:lnTo>
                  <a:lnTo>
                    <a:pt x="1" y="1179"/>
                  </a:lnTo>
                  <a:lnTo>
                    <a:pt x="1" y="1179"/>
                  </a:lnTo>
                  <a:lnTo>
                    <a:pt x="0" y="1180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292800" y="3305160"/>
              <a:ext cx="1800" cy="469800"/>
            </a:xfrm>
            <a:custGeom>
              <a:avLst/>
              <a:gdLst/>
              <a:ahLst/>
              <a:rect l="l" t="t" r="r" b="b"/>
              <a:pathLst>
                <a:path w="5" h="1183">
                  <a:moveTo>
                    <a:pt x="0" y="118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76"/>
                  </a:lnTo>
                  <a:lnTo>
                    <a:pt x="4" y="1177"/>
                  </a:lnTo>
                  <a:lnTo>
                    <a:pt x="4" y="1177"/>
                  </a:lnTo>
                  <a:lnTo>
                    <a:pt x="3" y="1178"/>
                  </a:lnTo>
                  <a:lnTo>
                    <a:pt x="3" y="1179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94600" y="3303360"/>
              <a:ext cx="1440" cy="470160"/>
            </a:xfrm>
            <a:custGeom>
              <a:avLst/>
              <a:gdLst/>
              <a:ahLst/>
              <a:rect l="l" t="t" r="r" b="b"/>
              <a:pathLst>
                <a:path w="4" h="1184">
                  <a:moveTo>
                    <a:pt x="0" y="118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178"/>
                  </a:lnTo>
                  <a:lnTo>
                    <a:pt x="3" y="1179"/>
                  </a:lnTo>
                  <a:lnTo>
                    <a:pt x="3" y="1179"/>
                  </a:lnTo>
                  <a:lnTo>
                    <a:pt x="2" y="1180"/>
                  </a:lnTo>
                  <a:lnTo>
                    <a:pt x="2" y="1181"/>
                  </a:lnTo>
                  <a:lnTo>
                    <a:pt x="1" y="1182"/>
                  </a:lnTo>
                  <a:lnTo>
                    <a:pt x="1" y="1182"/>
                  </a:lnTo>
                  <a:lnTo>
                    <a:pt x="0" y="1183"/>
                  </a:lnTo>
                  <a:lnTo>
                    <a:pt x="0" y="1184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294600" y="3300480"/>
              <a:ext cx="2880" cy="471240"/>
            </a:xfrm>
            <a:custGeom>
              <a:avLst/>
              <a:gdLst/>
              <a:ahLst/>
              <a:rect l="l" t="t" r="r" b="b"/>
              <a:pathLst>
                <a:path w="4" h="1188">
                  <a:moveTo>
                    <a:pt x="0" y="118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82"/>
                  </a:lnTo>
                  <a:lnTo>
                    <a:pt x="3" y="1183"/>
                  </a:lnTo>
                  <a:lnTo>
                    <a:pt x="3" y="1183"/>
                  </a:lnTo>
                  <a:lnTo>
                    <a:pt x="2" y="1184"/>
                  </a:lnTo>
                  <a:lnTo>
                    <a:pt x="2" y="1185"/>
                  </a:lnTo>
                  <a:lnTo>
                    <a:pt x="1" y="1186"/>
                  </a:lnTo>
                  <a:lnTo>
                    <a:pt x="1" y="1186"/>
                  </a:lnTo>
                  <a:lnTo>
                    <a:pt x="0" y="1187"/>
                  </a:lnTo>
                  <a:lnTo>
                    <a:pt x="0" y="1188"/>
                  </a:lnTo>
                  <a:close/>
                </a:path>
              </a:pathLst>
            </a:custGeom>
            <a:solidFill>
              <a:srgbClr val="c8a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296040" y="3298680"/>
              <a:ext cx="1440" cy="471600"/>
            </a:xfrm>
            <a:custGeom>
              <a:avLst/>
              <a:gdLst/>
              <a:ahLst/>
              <a:rect l="l" t="t" r="r" b="b"/>
              <a:pathLst>
                <a:path w="4" h="1190">
                  <a:moveTo>
                    <a:pt x="0" y="1190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84"/>
                  </a:lnTo>
                  <a:lnTo>
                    <a:pt x="4" y="1185"/>
                  </a:lnTo>
                  <a:lnTo>
                    <a:pt x="3" y="1185"/>
                  </a:lnTo>
                  <a:lnTo>
                    <a:pt x="3" y="1186"/>
                  </a:lnTo>
                  <a:lnTo>
                    <a:pt x="2" y="1187"/>
                  </a:lnTo>
                  <a:lnTo>
                    <a:pt x="1" y="1188"/>
                  </a:lnTo>
                  <a:lnTo>
                    <a:pt x="1" y="1188"/>
                  </a:lnTo>
                  <a:lnTo>
                    <a:pt x="0" y="1189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297480" y="3295440"/>
              <a:ext cx="1800" cy="473400"/>
            </a:xfrm>
            <a:custGeom>
              <a:avLst/>
              <a:gdLst/>
              <a:ahLst/>
              <a:rect l="l" t="t" r="r" b="b"/>
              <a:pathLst>
                <a:path w="5" h="1193">
                  <a:moveTo>
                    <a:pt x="0" y="119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186"/>
                  </a:lnTo>
                  <a:lnTo>
                    <a:pt x="5" y="1186"/>
                  </a:lnTo>
                  <a:lnTo>
                    <a:pt x="3" y="1187"/>
                  </a:lnTo>
                  <a:lnTo>
                    <a:pt x="3" y="1188"/>
                  </a:lnTo>
                  <a:lnTo>
                    <a:pt x="2" y="1190"/>
                  </a:lnTo>
                  <a:lnTo>
                    <a:pt x="2" y="1191"/>
                  </a:lnTo>
                  <a:lnTo>
                    <a:pt x="1" y="1191"/>
                  </a:lnTo>
                  <a:lnTo>
                    <a:pt x="1" y="1192"/>
                  </a:lnTo>
                  <a:lnTo>
                    <a:pt x="0" y="1193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97480" y="3294000"/>
              <a:ext cx="1800" cy="474840"/>
            </a:xfrm>
            <a:custGeom>
              <a:avLst/>
              <a:gdLst/>
              <a:ahLst/>
              <a:rect l="l" t="t" r="r" b="b"/>
              <a:pathLst>
                <a:path w="6" h="1196">
                  <a:moveTo>
                    <a:pt x="0" y="11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188"/>
                  </a:lnTo>
                  <a:lnTo>
                    <a:pt x="5" y="1189"/>
                  </a:lnTo>
                  <a:lnTo>
                    <a:pt x="4" y="1190"/>
                  </a:lnTo>
                  <a:lnTo>
                    <a:pt x="4" y="1191"/>
                  </a:lnTo>
                  <a:lnTo>
                    <a:pt x="3" y="1192"/>
                  </a:lnTo>
                  <a:lnTo>
                    <a:pt x="3" y="1192"/>
                  </a:lnTo>
                  <a:lnTo>
                    <a:pt x="1" y="1193"/>
                  </a:lnTo>
                  <a:lnTo>
                    <a:pt x="1" y="1194"/>
                  </a:lnTo>
                  <a:lnTo>
                    <a:pt x="0" y="1196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99280" y="3290760"/>
              <a:ext cx="1440" cy="476280"/>
            </a:xfrm>
            <a:custGeom>
              <a:avLst/>
              <a:gdLst/>
              <a:ahLst/>
              <a:rect l="l" t="t" r="r" b="b"/>
              <a:pathLst>
                <a:path w="5" h="1197">
                  <a:moveTo>
                    <a:pt x="0" y="1197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190"/>
                  </a:lnTo>
                  <a:lnTo>
                    <a:pt x="4" y="1191"/>
                  </a:lnTo>
                  <a:lnTo>
                    <a:pt x="4" y="1192"/>
                  </a:lnTo>
                  <a:lnTo>
                    <a:pt x="3" y="1193"/>
                  </a:lnTo>
                  <a:lnTo>
                    <a:pt x="3" y="1193"/>
                  </a:lnTo>
                  <a:lnTo>
                    <a:pt x="2" y="1194"/>
                  </a:lnTo>
                  <a:lnTo>
                    <a:pt x="1" y="1195"/>
                  </a:lnTo>
                  <a:lnTo>
                    <a:pt x="1" y="1196"/>
                  </a:lnTo>
                  <a:lnTo>
                    <a:pt x="0" y="1197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99280" y="3289320"/>
              <a:ext cx="3240" cy="476280"/>
            </a:xfrm>
            <a:custGeom>
              <a:avLst/>
              <a:gdLst/>
              <a:ahLst/>
              <a:rect l="l" t="t" r="r" b="b"/>
              <a:pathLst>
                <a:path w="4" h="1200">
                  <a:moveTo>
                    <a:pt x="0" y="120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193"/>
                  </a:lnTo>
                  <a:lnTo>
                    <a:pt x="3" y="1195"/>
                  </a:lnTo>
                  <a:lnTo>
                    <a:pt x="3" y="1196"/>
                  </a:lnTo>
                  <a:lnTo>
                    <a:pt x="2" y="1197"/>
                  </a:lnTo>
                  <a:lnTo>
                    <a:pt x="2" y="1197"/>
                  </a:lnTo>
                  <a:lnTo>
                    <a:pt x="1" y="1198"/>
                  </a:lnTo>
                  <a:lnTo>
                    <a:pt x="1" y="1199"/>
                  </a:lnTo>
                  <a:lnTo>
                    <a:pt x="0" y="120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300720" y="3286080"/>
              <a:ext cx="1800" cy="477720"/>
            </a:xfrm>
            <a:custGeom>
              <a:avLst/>
              <a:gdLst/>
              <a:ahLst/>
              <a:rect l="l" t="t" r="r" b="b"/>
              <a:pathLst>
                <a:path w="4" h="1202">
                  <a:moveTo>
                    <a:pt x="0" y="120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5"/>
                  </a:lnTo>
                  <a:lnTo>
                    <a:pt x="4" y="1196"/>
                  </a:lnTo>
                  <a:lnTo>
                    <a:pt x="3" y="1197"/>
                  </a:lnTo>
                  <a:lnTo>
                    <a:pt x="2" y="1197"/>
                  </a:lnTo>
                  <a:lnTo>
                    <a:pt x="2" y="1198"/>
                  </a:lnTo>
                  <a:lnTo>
                    <a:pt x="1" y="1200"/>
                  </a:lnTo>
                  <a:lnTo>
                    <a:pt x="1" y="1201"/>
                  </a:lnTo>
                  <a:lnTo>
                    <a:pt x="0" y="1202"/>
                  </a:lnTo>
                  <a:lnTo>
                    <a:pt x="0" y="1202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02520" y="3284640"/>
              <a:ext cx="1440" cy="477720"/>
            </a:xfrm>
            <a:custGeom>
              <a:avLst/>
              <a:gdLst/>
              <a:ahLst/>
              <a:rect l="l" t="t" r="r" b="b"/>
              <a:pathLst>
                <a:path w="4" h="1204">
                  <a:moveTo>
                    <a:pt x="0" y="1204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198"/>
                  </a:lnTo>
                  <a:lnTo>
                    <a:pt x="4" y="1199"/>
                  </a:lnTo>
                  <a:lnTo>
                    <a:pt x="3" y="1199"/>
                  </a:lnTo>
                  <a:lnTo>
                    <a:pt x="3" y="1200"/>
                  </a:lnTo>
                  <a:lnTo>
                    <a:pt x="2" y="1201"/>
                  </a:lnTo>
                  <a:lnTo>
                    <a:pt x="2" y="1202"/>
                  </a:lnTo>
                  <a:lnTo>
                    <a:pt x="1" y="1203"/>
                  </a:lnTo>
                  <a:lnTo>
                    <a:pt x="0" y="1203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cba9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302520" y="3281400"/>
              <a:ext cx="1440" cy="479160"/>
            </a:xfrm>
            <a:custGeom>
              <a:avLst/>
              <a:gdLst/>
              <a:ahLst/>
              <a:rect l="l" t="t" r="r" b="b"/>
              <a:pathLst>
                <a:path w="5" h="1207">
                  <a:moveTo>
                    <a:pt x="0" y="120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01"/>
                  </a:lnTo>
                  <a:lnTo>
                    <a:pt x="5" y="1201"/>
                  </a:lnTo>
                  <a:lnTo>
                    <a:pt x="4" y="1202"/>
                  </a:lnTo>
                  <a:lnTo>
                    <a:pt x="4" y="1203"/>
                  </a:lnTo>
                  <a:lnTo>
                    <a:pt x="2" y="1204"/>
                  </a:lnTo>
                  <a:lnTo>
                    <a:pt x="2" y="1205"/>
                  </a:lnTo>
                  <a:lnTo>
                    <a:pt x="1" y="1205"/>
                  </a:lnTo>
                  <a:lnTo>
                    <a:pt x="1" y="1206"/>
                  </a:lnTo>
                  <a:lnTo>
                    <a:pt x="0" y="1207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3960" y="3279600"/>
              <a:ext cx="1440" cy="480960"/>
            </a:xfrm>
            <a:custGeom>
              <a:avLst/>
              <a:gdLst/>
              <a:ahLst/>
              <a:rect l="l" t="t" r="r" b="b"/>
              <a:pathLst>
                <a:path w="6" h="1210">
                  <a:moveTo>
                    <a:pt x="0" y="1210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02"/>
                  </a:lnTo>
                  <a:lnTo>
                    <a:pt x="5" y="1204"/>
                  </a:lnTo>
                  <a:lnTo>
                    <a:pt x="4" y="1205"/>
                  </a:lnTo>
                  <a:lnTo>
                    <a:pt x="4" y="1206"/>
                  </a:lnTo>
                  <a:lnTo>
                    <a:pt x="3" y="1207"/>
                  </a:lnTo>
                  <a:lnTo>
                    <a:pt x="3" y="1207"/>
                  </a:lnTo>
                  <a:lnTo>
                    <a:pt x="2" y="1208"/>
                  </a:lnTo>
                  <a:lnTo>
                    <a:pt x="2" y="1209"/>
                  </a:lnTo>
                  <a:lnTo>
                    <a:pt x="0" y="1210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03960" y="3276720"/>
              <a:ext cx="3240" cy="482400"/>
            </a:xfrm>
            <a:custGeom>
              <a:avLst/>
              <a:gdLst/>
              <a:ahLst/>
              <a:rect l="l" t="t" r="r" b="b"/>
              <a:pathLst>
                <a:path w="5" h="1213">
                  <a:moveTo>
                    <a:pt x="0" y="12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05"/>
                  </a:lnTo>
                  <a:lnTo>
                    <a:pt x="4" y="1206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05400" y="3274920"/>
              <a:ext cx="1800" cy="482760"/>
            </a:xfrm>
            <a:custGeom>
              <a:avLst/>
              <a:gdLst/>
              <a:ahLst/>
              <a:rect l="l" t="t" r="r" b="b"/>
              <a:pathLst>
                <a:path w="4" h="1213">
                  <a:moveTo>
                    <a:pt x="0" y="12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07"/>
                  </a:lnTo>
                  <a:lnTo>
                    <a:pt x="3" y="1208"/>
                  </a:lnTo>
                  <a:lnTo>
                    <a:pt x="3" y="1208"/>
                  </a:lnTo>
                  <a:lnTo>
                    <a:pt x="2" y="1209"/>
                  </a:lnTo>
                  <a:lnTo>
                    <a:pt x="2" y="1210"/>
                  </a:lnTo>
                  <a:lnTo>
                    <a:pt x="1" y="1211"/>
                  </a:lnTo>
                  <a:lnTo>
                    <a:pt x="1" y="1212"/>
                  </a:lnTo>
                  <a:lnTo>
                    <a:pt x="0" y="1213"/>
                  </a:lnTo>
                  <a:lnTo>
                    <a:pt x="0" y="1213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07200" y="3273480"/>
              <a:ext cx="1440" cy="482400"/>
            </a:xfrm>
            <a:custGeom>
              <a:avLst/>
              <a:gdLst/>
              <a:ahLst/>
              <a:rect l="l" t="t" r="r" b="b"/>
              <a:pathLst>
                <a:path w="4" h="1216">
                  <a:moveTo>
                    <a:pt x="0" y="1216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10"/>
                  </a:lnTo>
                  <a:lnTo>
                    <a:pt x="4" y="1210"/>
                  </a:lnTo>
                  <a:lnTo>
                    <a:pt x="3" y="1211"/>
                  </a:lnTo>
                  <a:lnTo>
                    <a:pt x="2" y="1212"/>
                  </a:lnTo>
                  <a:lnTo>
                    <a:pt x="2" y="1213"/>
                  </a:lnTo>
                  <a:lnTo>
                    <a:pt x="1" y="1214"/>
                  </a:lnTo>
                  <a:lnTo>
                    <a:pt x="1" y="1214"/>
                  </a:lnTo>
                  <a:lnTo>
                    <a:pt x="0" y="1215"/>
                  </a:lnTo>
                  <a:lnTo>
                    <a:pt x="0" y="1216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07200" y="3270240"/>
              <a:ext cx="1440" cy="484200"/>
            </a:xfrm>
            <a:custGeom>
              <a:avLst/>
              <a:gdLst/>
              <a:ahLst/>
              <a:rect l="l" t="t" r="r" b="b"/>
              <a:pathLst>
                <a:path w="4" h="1219">
                  <a:moveTo>
                    <a:pt x="0" y="121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11"/>
                  </a:lnTo>
                  <a:lnTo>
                    <a:pt x="4" y="1212"/>
                  </a:lnTo>
                  <a:lnTo>
                    <a:pt x="3" y="1214"/>
                  </a:lnTo>
                  <a:lnTo>
                    <a:pt x="3" y="1215"/>
                  </a:lnTo>
                  <a:lnTo>
                    <a:pt x="2" y="1216"/>
                  </a:lnTo>
                  <a:lnTo>
                    <a:pt x="2" y="1216"/>
                  </a:lnTo>
                  <a:lnTo>
                    <a:pt x="1" y="1217"/>
                  </a:lnTo>
                  <a:lnTo>
                    <a:pt x="0" y="1218"/>
                  </a:lnTo>
                  <a:lnTo>
                    <a:pt x="0" y="1219"/>
                  </a:lnTo>
                  <a:close/>
                </a:path>
              </a:pathLst>
            </a:custGeom>
            <a:solidFill>
              <a:srgbClr val="cba9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08640" y="3268440"/>
              <a:ext cx="1800" cy="484200"/>
            </a:xfrm>
            <a:custGeom>
              <a:avLst/>
              <a:gdLst/>
              <a:ahLst/>
              <a:rect l="l" t="t" r="r" b="b"/>
              <a:pathLst>
                <a:path w="5" h="1222">
                  <a:moveTo>
                    <a:pt x="0" y="122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14"/>
                  </a:lnTo>
                  <a:lnTo>
                    <a:pt x="5" y="1215"/>
                  </a:lnTo>
                  <a:lnTo>
                    <a:pt x="4" y="1216"/>
                  </a:lnTo>
                  <a:lnTo>
                    <a:pt x="4" y="1216"/>
                  </a:lnTo>
                  <a:lnTo>
                    <a:pt x="2" y="1217"/>
                  </a:lnTo>
                  <a:lnTo>
                    <a:pt x="2" y="1218"/>
                  </a:lnTo>
                  <a:lnTo>
                    <a:pt x="1" y="1220"/>
                  </a:lnTo>
                  <a:lnTo>
                    <a:pt x="1" y="1221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08640" y="3265560"/>
              <a:ext cx="1800" cy="485640"/>
            </a:xfrm>
            <a:custGeom>
              <a:avLst/>
              <a:gdLst/>
              <a:ahLst/>
              <a:rect l="l" t="t" r="r" b="b"/>
              <a:pathLst>
                <a:path w="6" h="1223">
                  <a:moveTo>
                    <a:pt x="0" y="1223"/>
                  </a:move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17"/>
                  </a:lnTo>
                  <a:lnTo>
                    <a:pt x="5" y="1217"/>
                  </a:lnTo>
                  <a:lnTo>
                    <a:pt x="5" y="1218"/>
                  </a:lnTo>
                  <a:lnTo>
                    <a:pt x="4" y="1219"/>
                  </a:lnTo>
                  <a:lnTo>
                    <a:pt x="3" y="1220"/>
                  </a:lnTo>
                  <a:lnTo>
                    <a:pt x="3" y="1221"/>
                  </a:lnTo>
                  <a:lnTo>
                    <a:pt x="2" y="1222"/>
                  </a:lnTo>
                  <a:lnTo>
                    <a:pt x="2" y="1222"/>
                  </a:lnTo>
                  <a:lnTo>
                    <a:pt x="0" y="1223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10440" y="3263760"/>
              <a:ext cx="1440" cy="486000"/>
            </a:xfrm>
            <a:custGeom>
              <a:avLst/>
              <a:gdLst/>
              <a:ahLst/>
              <a:rect l="l" t="t" r="r" b="b"/>
              <a:pathLst>
                <a:path w="5" h="1226">
                  <a:moveTo>
                    <a:pt x="0" y="122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19"/>
                  </a:lnTo>
                  <a:lnTo>
                    <a:pt x="4" y="1220"/>
                  </a:lnTo>
                  <a:lnTo>
                    <a:pt x="4" y="1221"/>
                  </a:lnTo>
                  <a:lnTo>
                    <a:pt x="3" y="1222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0" y="1226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10440" y="3260520"/>
              <a:ext cx="2880" cy="487440"/>
            </a:xfrm>
            <a:custGeom>
              <a:avLst/>
              <a:gdLst/>
              <a:ahLst/>
              <a:rect l="l" t="t" r="r" b="b"/>
              <a:pathLst>
                <a:path w="4" h="1228">
                  <a:moveTo>
                    <a:pt x="0" y="1228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20"/>
                  </a:lnTo>
                  <a:lnTo>
                    <a:pt x="3" y="1221"/>
                  </a:lnTo>
                  <a:lnTo>
                    <a:pt x="3" y="1223"/>
                  </a:lnTo>
                  <a:lnTo>
                    <a:pt x="2" y="1223"/>
                  </a:lnTo>
                  <a:lnTo>
                    <a:pt x="2" y="1224"/>
                  </a:lnTo>
                  <a:lnTo>
                    <a:pt x="1" y="1225"/>
                  </a:lnTo>
                  <a:lnTo>
                    <a:pt x="1" y="1226"/>
                  </a:lnTo>
                  <a:lnTo>
                    <a:pt x="0" y="1227"/>
                  </a:lnTo>
                  <a:lnTo>
                    <a:pt x="0" y="1228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3259080"/>
              <a:ext cx="1440" cy="487440"/>
            </a:xfrm>
            <a:custGeom>
              <a:avLst/>
              <a:gdLst/>
              <a:ahLst/>
              <a:rect l="l" t="t" r="r" b="b"/>
              <a:pathLst>
                <a:path w="4" h="1231">
                  <a:moveTo>
                    <a:pt x="0" y="123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23"/>
                  </a:lnTo>
                  <a:lnTo>
                    <a:pt x="4" y="1224"/>
                  </a:lnTo>
                  <a:lnTo>
                    <a:pt x="3" y="1225"/>
                  </a:lnTo>
                  <a:lnTo>
                    <a:pt x="2" y="1226"/>
                  </a:lnTo>
                  <a:lnTo>
                    <a:pt x="2" y="1227"/>
                  </a:lnTo>
                  <a:lnTo>
                    <a:pt x="1" y="1228"/>
                  </a:lnTo>
                  <a:lnTo>
                    <a:pt x="1" y="1230"/>
                  </a:lnTo>
                  <a:lnTo>
                    <a:pt x="0" y="1230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13320" y="3257640"/>
              <a:ext cx="1800" cy="488880"/>
            </a:xfrm>
            <a:custGeom>
              <a:avLst/>
              <a:gdLst/>
              <a:ahLst/>
              <a:rect l="l" t="t" r="r" b="b"/>
              <a:pathLst>
                <a:path w="5" h="1232">
                  <a:moveTo>
                    <a:pt x="0" y="1232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25"/>
                  </a:lnTo>
                  <a:lnTo>
                    <a:pt x="5" y="1226"/>
                  </a:lnTo>
                  <a:lnTo>
                    <a:pt x="3" y="1227"/>
                  </a:lnTo>
                  <a:lnTo>
                    <a:pt x="3" y="1228"/>
                  </a:lnTo>
                  <a:lnTo>
                    <a:pt x="2" y="1228"/>
                  </a:lnTo>
                  <a:lnTo>
                    <a:pt x="2" y="1229"/>
                  </a:lnTo>
                  <a:lnTo>
                    <a:pt x="1" y="1230"/>
                  </a:lnTo>
                  <a:lnTo>
                    <a:pt x="0" y="1231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cdaa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13320" y="3254400"/>
              <a:ext cx="1800" cy="490320"/>
            </a:xfrm>
            <a:custGeom>
              <a:avLst/>
              <a:gdLst/>
              <a:ahLst/>
              <a:rect l="l" t="t" r="r" b="b"/>
              <a:pathLst>
                <a:path w="5" h="1234">
                  <a:moveTo>
                    <a:pt x="0" y="123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28"/>
                  </a:lnTo>
                  <a:lnTo>
                    <a:pt x="5" y="1229"/>
                  </a:lnTo>
                  <a:lnTo>
                    <a:pt x="4" y="1229"/>
                  </a:lnTo>
                  <a:lnTo>
                    <a:pt x="4" y="1230"/>
                  </a:lnTo>
                  <a:lnTo>
                    <a:pt x="3" y="1231"/>
                  </a:lnTo>
                  <a:lnTo>
                    <a:pt x="3" y="1232"/>
                  </a:lnTo>
                  <a:lnTo>
                    <a:pt x="1" y="1233"/>
                  </a:lnTo>
                  <a:lnTo>
                    <a:pt x="1" y="1234"/>
                  </a:lnTo>
                  <a:lnTo>
                    <a:pt x="0" y="1234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15120" y="3252600"/>
              <a:ext cx="1440" cy="490680"/>
            </a:xfrm>
            <a:custGeom>
              <a:avLst/>
              <a:gdLst/>
              <a:ahLst/>
              <a:rect l="l" t="t" r="r" b="b"/>
              <a:pathLst>
                <a:path w="5" h="1237">
                  <a:moveTo>
                    <a:pt x="0" y="1237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29"/>
                  </a:lnTo>
                  <a:lnTo>
                    <a:pt x="4" y="1230"/>
                  </a:lnTo>
                  <a:lnTo>
                    <a:pt x="4" y="1231"/>
                  </a:lnTo>
                  <a:lnTo>
                    <a:pt x="3" y="1232"/>
                  </a:lnTo>
                  <a:lnTo>
                    <a:pt x="2" y="1234"/>
                  </a:lnTo>
                  <a:lnTo>
                    <a:pt x="2" y="1235"/>
                  </a:lnTo>
                  <a:lnTo>
                    <a:pt x="1" y="1235"/>
                  </a:lnTo>
                  <a:lnTo>
                    <a:pt x="1" y="1236"/>
                  </a:lnTo>
                  <a:lnTo>
                    <a:pt x="0" y="123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5120" y="3249720"/>
              <a:ext cx="3240" cy="492120"/>
            </a:xfrm>
            <a:custGeom>
              <a:avLst/>
              <a:gdLst/>
              <a:ahLst/>
              <a:rect l="l" t="t" r="r" b="b"/>
              <a:pathLst>
                <a:path w="5" h="1239">
                  <a:moveTo>
                    <a:pt x="0" y="123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31"/>
                  </a:lnTo>
                  <a:lnTo>
                    <a:pt x="4" y="1232"/>
                  </a:lnTo>
                  <a:lnTo>
                    <a:pt x="4" y="1232"/>
                  </a:lnTo>
                  <a:lnTo>
                    <a:pt x="3" y="1233"/>
                  </a:lnTo>
                  <a:lnTo>
                    <a:pt x="3" y="1234"/>
                  </a:lnTo>
                  <a:lnTo>
                    <a:pt x="2" y="1235"/>
                  </a:lnTo>
                  <a:lnTo>
                    <a:pt x="2" y="1236"/>
                  </a:lnTo>
                  <a:lnTo>
                    <a:pt x="1" y="1237"/>
                  </a:lnTo>
                  <a:lnTo>
                    <a:pt x="0" y="1239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6560" y="3247920"/>
              <a:ext cx="1800" cy="492120"/>
            </a:xfrm>
            <a:custGeom>
              <a:avLst/>
              <a:gdLst/>
              <a:ahLst/>
              <a:rect l="l" t="t" r="r" b="b"/>
              <a:pathLst>
                <a:path w="4" h="1241">
                  <a:moveTo>
                    <a:pt x="0" y="124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34"/>
                  </a:lnTo>
                  <a:lnTo>
                    <a:pt x="3" y="1235"/>
                  </a:lnTo>
                  <a:lnTo>
                    <a:pt x="3" y="1236"/>
                  </a:lnTo>
                  <a:lnTo>
                    <a:pt x="2" y="1237"/>
                  </a:lnTo>
                  <a:lnTo>
                    <a:pt x="2" y="1238"/>
                  </a:lnTo>
                  <a:lnTo>
                    <a:pt x="1" y="1239"/>
                  </a:lnTo>
                  <a:lnTo>
                    <a:pt x="1" y="1239"/>
                  </a:lnTo>
                  <a:lnTo>
                    <a:pt x="0" y="1240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8360" y="3244680"/>
              <a:ext cx="1440" cy="493920"/>
            </a:xfrm>
            <a:custGeom>
              <a:avLst/>
              <a:gdLst/>
              <a:ahLst/>
              <a:rect l="l" t="t" r="r" b="b"/>
              <a:pathLst>
                <a:path w="4" h="1243">
                  <a:moveTo>
                    <a:pt x="0" y="124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35"/>
                  </a:lnTo>
                  <a:lnTo>
                    <a:pt x="4" y="1237"/>
                  </a:lnTo>
                  <a:lnTo>
                    <a:pt x="3" y="1237"/>
                  </a:lnTo>
                  <a:lnTo>
                    <a:pt x="3" y="1238"/>
                  </a:lnTo>
                  <a:lnTo>
                    <a:pt x="2" y="1239"/>
                  </a:lnTo>
                  <a:lnTo>
                    <a:pt x="1" y="1240"/>
                  </a:lnTo>
                  <a:lnTo>
                    <a:pt x="1" y="1241"/>
                  </a:lnTo>
                  <a:lnTo>
                    <a:pt x="0" y="1242"/>
                  </a:lnTo>
                  <a:lnTo>
                    <a:pt x="0" y="1243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8360" y="3243240"/>
              <a:ext cx="1440" cy="493560"/>
            </a:xfrm>
            <a:custGeom>
              <a:avLst/>
              <a:gdLst/>
              <a:ahLst/>
              <a:rect l="l" t="t" r="r" b="b"/>
              <a:pathLst>
                <a:path w="5" h="1246">
                  <a:moveTo>
                    <a:pt x="0" y="124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238"/>
                  </a:lnTo>
                  <a:lnTo>
                    <a:pt x="5" y="1239"/>
                  </a:lnTo>
                  <a:lnTo>
                    <a:pt x="4" y="1240"/>
                  </a:lnTo>
                  <a:lnTo>
                    <a:pt x="4" y="1241"/>
                  </a:lnTo>
                  <a:lnTo>
                    <a:pt x="2" y="1242"/>
                  </a:lnTo>
                  <a:lnTo>
                    <a:pt x="2" y="1244"/>
                  </a:lnTo>
                  <a:lnTo>
                    <a:pt x="1" y="1244"/>
                  </a:lnTo>
                  <a:lnTo>
                    <a:pt x="1" y="1245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19800" y="3240000"/>
              <a:ext cx="1800" cy="495360"/>
            </a:xfrm>
            <a:custGeom>
              <a:avLst/>
              <a:gdLst/>
              <a:ahLst/>
              <a:rect l="l" t="t" r="r" b="b"/>
              <a:pathLst>
                <a:path w="6" h="1247">
                  <a:moveTo>
                    <a:pt x="0" y="1247"/>
                  </a:move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1240"/>
                  </a:lnTo>
                  <a:lnTo>
                    <a:pt x="5" y="1241"/>
                  </a:lnTo>
                  <a:lnTo>
                    <a:pt x="4" y="1241"/>
                  </a:lnTo>
                  <a:lnTo>
                    <a:pt x="4" y="1242"/>
                  </a:lnTo>
                  <a:lnTo>
                    <a:pt x="3" y="1243"/>
                  </a:lnTo>
                  <a:lnTo>
                    <a:pt x="3" y="1244"/>
                  </a:lnTo>
                  <a:lnTo>
                    <a:pt x="2" y="1245"/>
                  </a:lnTo>
                  <a:lnTo>
                    <a:pt x="2" y="1246"/>
                  </a:lnTo>
                  <a:lnTo>
                    <a:pt x="0" y="1247"/>
                  </a:lnTo>
                  <a:close/>
                </a:path>
              </a:pathLst>
            </a:custGeom>
            <a:solidFill>
              <a:srgbClr val="cdaa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19800" y="3238560"/>
              <a:ext cx="1800" cy="495360"/>
            </a:xfrm>
            <a:custGeom>
              <a:avLst/>
              <a:gdLst/>
              <a:ahLst/>
              <a:rect l="l" t="t" r="r" b="b"/>
              <a:pathLst>
                <a:path w="5" h="1248">
                  <a:moveTo>
                    <a:pt x="0" y="1248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41"/>
                  </a:lnTo>
                  <a:lnTo>
                    <a:pt x="4" y="1242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1" y="1246"/>
                  </a:lnTo>
                  <a:lnTo>
                    <a:pt x="1" y="1247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21600" y="3235320"/>
              <a:ext cx="1440" cy="496800"/>
            </a:xfrm>
            <a:custGeom>
              <a:avLst/>
              <a:gdLst/>
              <a:ahLst/>
              <a:rect l="l" t="t" r="r" b="b"/>
              <a:pathLst>
                <a:path w="4" h="1252">
                  <a:moveTo>
                    <a:pt x="0" y="1252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43"/>
                  </a:lnTo>
                  <a:lnTo>
                    <a:pt x="3" y="1244"/>
                  </a:lnTo>
                  <a:lnTo>
                    <a:pt x="3" y="1245"/>
                  </a:lnTo>
                  <a:lnTo>
                    <a:pt x="2" y="1246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2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21600" y="3233520"/>
              <a:ext cx="2880" cy="497160"/>
            </a:xfrm>
            <a:custGeom>
              <a:avLst/>
              <a:gdLst/>
              <a:ahLst/>
              <a:rect l="l" t="t" r="r" b="b"/>
              <a:pathLst>
                <a:path w="4" h="1253">
                  <a:moveTo>
                    <a:pt x="0" y="1253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45"/>
                  </a:lnTo>
                  <a:lnTo>
                    <a:pt x="3" y="1246"/>
                  </a:lnTo>
                  <a:lnTo>
                    <a:pt x="3" y="1247"/>
                  </a:lnTo>
                  <a:lnTo>
                    <a:pt x="2" y="1248"/>
                  </a:lnTo>
                  <a:lnTo>
                    <a:pt x="2" y="1248"/>
                  </a:lnTo>
                  <a:lnTo>
                    <a:pt x="1" y="1249"/>
                  </a:lnTo>
                  <a:lnTo>
                    <a:pt x="1" y="1250"/>
                  </a:lnTo>
                  <a:lnTo>
                    <a:pt x="0" y="1251"/>
                  </a:lnTo>
                  <a:lnTo>
                    <a:pt x="0" y="1253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3040" y="3230640"/>
              <a:ext cx="1440" cy="498240"/>
            </a:xfrm>
            <a:custGeom>
              <a:avLst/>
              <a:gdLst/>
              <a:ahLst/>
              <a:rect l="l" t="t" r="r" b="b"/>
              <a:pathLst>
                <a:path w="4" h="1255">
                  <a:moveTo>
                    <a:pt x="0" y="125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48"/>
                  </a:lnTo>
                  <a:lnTo>
                    <a:pt x="4" y="1249"/>
                  </a:lnTo>
                  <a:lnTo>
                    <a:pt x="3" y="1250"/>
                  </a:lnTo>
                  <a:lnTo>
                    <a:pt x="3" y="1251"/>
                  </a:lnTo>
                  <a:lnTo>
                    <a:pt x="2" y="1252"/>
                  </a:lnTo>
                  <a:lnTo>
                    <a:pt x="1" y="1253"/>
                  </a:lnTo>
                  <a:lnTo>
                    <a:pt x="1" y="1254"/>
                  </a:lnTo>
                  <a:lnTo>
                    <a:pt x="0" y="1255"/>
                  </a:lnTo>
                  <a:lnTo>
                    <a:pt x="0" y="1255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324480" y="3228840"/>
              <a:ext cx="1800" cy="498600"/>
            </a:xfrm>
            <a:custGeom>
              <a:avLst/>
              <a:gdLst/>
              <a:ahLst/>
              <a:rect l="l" t="t" r="r" b="b"/>
              <a:pathLst>
                <a:path w="5" h="1257">
                  <a:moveTo>
                    <a:pt x="0" y="1257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48"/>
                  </a:lnTo>
                  <a:lnTo>
                    <a:pt x="5" y="1249"/>
                  </a:lnTo>
                  <a:lnTo>
                    <a:pt x="4" y="1251"/>
                  </a:lnTo>
                  <a:lnTo>
                    <a:pt x="4" y="1252"/>
                  </a:lnTo>
                  <a:lnTo>
                    <a:pt x="2" y="1253"/>
                  </a:lnTo>
                  <a:lnTo>
                    <a:pt x="2" y="1254"/>
                  </a:lnTo>
                  <a:lnTo>
                    <a:pt x="1" y="1255"/>
                  </a:lnTo>
                  <a:lnTo>
                    <a:pt x="1" y="1256"/>
                  </a:lnTo>
                  <a:lnTo>
                    <a:pt x="0" y="1257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24480" y="3227400"/>
              <a:ext cx="1800" cy="498240"/>
            </a:xfrm>
            <a:custGeom>
              <a:avLst/>
              <a:gdLst/>
              <a:ahLst/>
              <a:rect l="l" t="t" r="r" b="b"/>
              <a:pathLst>
                <a:path w="6" h="1259">
                  <a:moveTo>
                    <a:pt x="0" y="1259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1251"/>
                  </a:lnTo>
                  <a:lnTo>
                    <a:pt x="5" y="1252"/>
                  </a:lnTo>
                  <a:lnTo>
                    <a:pt x="4" y="1253"/>
                  </a:lnTo>
                  <a:lnTo>
                    <a:pt x="4" y="1254"/>
                  </a:lnTo>
                  <a:lnTo>
                    <a:pt x="3" y="1254"/>
                  </a:lnTo>
                  <a:lnTo>
                    <a:pt x="3" y="1255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0" y="1259"/>
                  </a:lnTo>
                  <a:close/>
                </a:path>
              </a:pathLst>
            </a:custGeom>
            <a:solidFill>
              <a:srgbClr val="d0a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26280" y="3224160"/>
              <a:ext cx="1440" cy="500040"/>
            </a:xfrm>
            <a:custGeom>
              <a:avLst/>
              <a:gdLst/>
              <a:ahLst/>
              <a:rect l="l" t="t" r="r" b="b"/>
              <a:pathLst>
                <a:path w="5" h="1260">
                  <a:moveTo>
                    <a:pt x="0" y="126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53"/>
                  </a:lnTo>
                  <a:lnTo>
                    <a:pt x="4" y="1254"/>
                  </a:lnTo>
                  <a:lnTo>
                    <a:pt x="4" y="1255"/>
                  </a:lnTo>
                  <a:lnTo>
                    <a:pt x="3" y="1256"/>
                  </a:lnTo>
                  <a:lnTo>
                    <a:pt x="3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326280" y="3222720"/>
              <a:ext cx="3240" cy="500040"/>
            </a:xfrm>
            <a:custGeom>
              <a:avLst/>
              <a:gdLst/>
              <a:ahLst/>
              <a:rect l="l" t="t" r="r" b="b"/>
              <a:pathLst>
                <a:path w="4" h="1262">
                  <a:moveTo>
                    <a:pt x="0" y="126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53"/>
                  </a:lnTo>
                  <a:lnTo>
                    <a:pt x="3" y="1255"/>
                  </a:lnTo>
                  <a:lnTo>
                    <a:pt x="3" y="1256"/>
                  </a:lnTo>
                  <a:lnTo>
                    <a:pt x="2" y="1257"/>
                  </a:lnTo>
                  <a:lnTo>
                    <a:pt x="2" y="1258"/>
                  </a:lnTo>
                  <a:lnTo>
                    <a:pt x="1" y="1259"/>
                  </a:lnTo>
                  <a:lnTo>
                    <a:pt x="1" y="1260"/>
                  </a:lnTo>
                  <a:lnTo>
                    <a:pt x="0" y="1261"/>
                  </a:lnTo>
                  <a:lnTo>
                    <a:pt x="0" y="1262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327720" y="3219480"/>
              <a:ext cx="1800" cy="501480"/>
            </a:xfrm>
            <a:custGeom>
              <a:avLst/>
              <a:gdLst/>
              <a:ahLst/>
              <a:rect l="l" t="t" r="r" b="b"/>
              <a:pathLst>
                <a:path w="4" h="1265">
                  <a:moveTo>
                    <a:pt x="0" y="126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57"/>
                  </a:lnTo>
                  <a:lnTo>
                    <a:pt x="4" y="1258"/>
                  </a:lnTo>
                  <a:lnTo>
                    <a:pt x="3" y="1259"/>
                  </a:lnTo>
                  <a:lnTo>
                    <a:pt x="2" y="1259"/>
                  </a:lnTo>
                  <a:lnTo>
                    <a:pt x="2" y="1260"/>
                  </a:lnTo>
                  <a:lnTo>
                    <a:pt x="1" y="1262"/>
                  </a:lnTo>
                  <a:lnTo>
                    <a:pt x="1" y="1263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329520" y="3217680"/>
              <a:ext cx="1440" cy="501840"/>
            </a:xfrm>
            <a:custGeom>
              <a:avLst/>
              <a:gdLst/>
              <a:ahLst/>
              <a:rect l="l" t="t" r="r" b="b"/>
              <a:pathLst>
                <a:path w="5" h="1265">
                  <a:moveTo>
                    <a:pt x="0" y="126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58"/>
                  </a:lnTo>
                  <a:lnTo>
                    <a:pt x="5" y="1259"/>
                  </a:lnTo>
                  <a:lnTo>
                    <a:pt x="3" y="1260"/>
                  </a:lnTo>
                  <a:lnTo>
                    <a:pt x="3" y="1261"/>
                  </a:lnTo>
                  <a:lnTo>
                    <a:pt x="2" y="1262"/>
                  </a:lnTo>
                  <a:lnTo>
                    <a:pt x="2" y="1263"/>
                  </a:lnTo>
                  <a:lnTo>
                    <a:pt x="1" y="1264"/>
                  </a:lnTo>
                  <a:lnTo>
                    <a:pt x="0" y="1264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29520" y="3214800"/>
              <a:ext cx="1440" cy="502920"/>
            </a:xfrm>
            <a:custGeom>
              <a:avLst/>
              <a:gdLst/>
              <a:ahLst/>
              <a:rect l="l" t="t" r="r" b="b"/>
              <a:pathLst>
                <a:path w="5" h="1269">
                  <a:moveTo>
                    <a:pt x="0" y="126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5" y="1262"/>
                  </a:lnTo>
                  <a:lnTo>
                    <a:pt x="4" y="1263"/>
                  </a:lnTo>
                  <a:lnTo>
                    <a:pt x="4" y="1264"/>
                  </a:lnTo>
                  <a:lnTo>
                    <a:pt x="3" y="1265"/>
                  </a:lnTo>
                  <a:lnTo>
                    <a:pt x="3" y="1266"/>
                  </a:lnTo>
                  <a:lnTo>
                    <a:pt x="1" y="1267"/>
                  </a:lnTo>
                  <a:lnTo>
                    <a:pt x="1" y="1268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30960" y="3213000"/>
              <a:ext cx="1440" cy="503280"/>
            </a:xfrm>
            <a:custGeom>
              <a:avLst/>
              <a:gdLst/>
              <a:ahLst/>
              <a:rect l="l" t="t" r="r" b="b"/>
              <a:pathLst>
                <a:path w="5" h="1270">
                  <a:moveTo>
                    <a:pt x="0" y="1270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61"/>
                  </a:lnTo>
                  <a:lnTo>
                    <a:pt x="4" y="1262"/>
                  </a:lnTo>
                  <a:lnTo>
                    <a:pt x="3" y="1263"/>
                  </a:lnTo>
                  <a:lnTo>
                    <a:pt x="3" y="1265"/>
                  </a:lnTo>
                  <a:lnTo>
                    <a:pt x="2" y="1266"/>
                  </a:lnTo>
                  <a:lnTo>
                    <a:pt x="2" y="1267"/>
                  </a:lnTo>
                  <a:lnTo>
                    <a:pt x="1" y="1268"/>
                  </a:lnTo>
                  <a:lnTo>
                    <a:pt x="1" y="1269"/>
                  </a:lnTo>
                  <a:lnTo>
                    <a:pt x="0" y="1270"/>
                  </a:lnTo>
                  <a:close/>
                </a:path>
              </a:pathLst>
            </a:custGeom>
            <a:solidFill>
              <a:srgbClr val="d0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30960" y="3209760"/>
              <a:ext cx="3240" cy="505080"/>
            </a:xfrm>
            <a:custGeom>
              <a:avLst/>
              <a:gdLst/>
              <a:ahLst/>
              <a:rect l="l" t="t" r="r" b="b"/>
              <a:pathLst>
                <a:path w="5" h="1272">
                  <a:moveTo>
                    <a:pt x="0" y="1272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63"/>
                  </a:lnTo>
                  <a:lnTo>
                    <a:pt x="4" y="1264"/>
                  </a:lnTo>
                  <a:lnTo>
                    <a:pt x="4" y="1265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1" y="1269"/>
                  </a:lnTo>
                  <a:lnTo>
                    <a:pt x="1" y="1271"/>
                  </a:lnTo>
                  <a:lnTo>
                    <a:pt x="0" y="127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32400" y="3208320"/>
              <a:ext cx="1800" cy="504720"/>
            </a:xfrm>
            <a:custGeom>
              <a:avLst/>
              <a:gdLst/>
              <a:ahLst/>
              <a:rect l="l" t="t" r="r" b="b"/>
              <a:pathLst>
                <a:path w="4" h="1273">
                  <a:moveTo>
                    <a:pt x="0" y="1273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3" y="1266"/>
                  </a:lnTo>
                  <a:lnTo>
                    <a:pt x="3" y="1267"/>
                  </a:lnTo>
                  <a:lnTo>
                    <a:pt x="2" y="1268"/>
                  </a:lnTo>
                  <a:lnTo>
                    <a:pt x="2" y="1269"/>
                  </a:lnTo>
                  <a:lnTo>
                    <a:pt x="1" y="1270"/>
                  </a:lnTo>
                  <a:lnTo>
                    <a:pt x="1" y="1271"/>
                  </a:lnTo>
                  <a:lnTo>
                    <a:pt x="0" y="1272"/>
                  </a:lnTo>
                  <a:lnTo>
                    <a:pt x="0" y="1273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34200" y="3205080"/>
              <a:ext cx="1440" cy="506520"/>
            </a:xfrm>
            <a:custGeom>
              <a:avLst/>
              <a:gdLst/>
              <a:ahLst/>
              <a:rect l="l" t="t" r="r" b="b"/>
              <a:pathLst>
                <a:path w="4" h="1274">
                  <a:moveTo>
                    <a:pt x="0" y="1274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66"/>
                  </a:lnTo>
                  <a:lnTo>
                    <a:pt x="4" y="1267"/>
                  </a:lnTo>
                  <a:lnTo>
                    <a:pt x="3" y="1269"/>
                  </a:lnTo>
                  <a:lnTo>
                    <a:pt x="2" y="1270"/>
                  </a:lnTo>
                  <a:lnTo>
                    <a:pt x="2" y="1270"/>
                  </a:lnTo>
                  <a:lnTo>
                    <a:pt x="1" y="1271"/>
                  </a:lnTo>
                  <a:lnTo>
                    <a:pt x="1" y="1272"/>
                  </a:lnTo>
                  <a:lnTo>
                    <a:pt x="0" y="1273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34200" y="3203640"/>
              <a:ext cx="1440" cy="5061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69"/>
                  </a:lnTo>
                  <a:lnTo>
                    <a:pt x="5" y="1270"/>
                  </a:lnTo>
                  <a:lnTo>
                    <a:pt x="3" y="1271"/>
                  </a:lnTo>
                  <a:lnTo>
                    <a:pt x="3" y="1272"/>
                  </a:lnTo>
                  <a:lnTo>
                    <a:pt x="2" y="1273"/>
                  </a:lnTo>
                  <a:lnTo>
                    <a:pt x="2" y="1274"/>
                  </a:lnTo>
                  <a:lnTo>
                    <a:pt x="1" y="1276"/>
                  </a:lnTo>
                  <a:lnTo>
                    <a:pt x="0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335640" y="3200400"/>
              <a:ext cx="1800" cy="507960"/>
            </a:xfrm>
            <a:custGeom>
              <a:avLst/>
              <a:gdLst/>
              <a:ahLst/>
              <a:rect l="l" t="t" r="r" b="b"/>
              <a:pathLst>
                <a:path w="5" h="1278">
                  <a:moveTo>
                    <a:pt x="0" y="1278"/>
                  </a:moveTo>
                  <a:lnTo>
                    <a:pt x="0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0"/>
                  </a:lnTo>
                  <a:lnTo>
                    <a:pt x="5" y="1271"/>
                  </a:lnTo>
                  <a:lnTo>
                    <a:pt x="4" y="1272"/>
                  </a:lnTo>
                  <a:lnTo>
                    <a:pt x="4" y="1273"/>
                  </a:lnTo>
                  <a:lnTo>
                    <a:pt x="3" y="1274"/>
                  </a:lnTo>
                  <a:lnTo>
                    <a:pt x="3" y="1275"/>
                  </a:lnTo>
                  <a:lnTo>
                    <a:pt x="1" y="1276"/>
                  </a:lnTo>
                  <a:lnTo>
                    <a:pt x="1" y="1277"/>
                  </a:lnTo>
                  <a:lnTo>
                    <a:pt x="0" y="1278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35640" y="3198600"/>
              <a:ext cx="1800" cy="508320"/>
            </a:xfrm>
            <a:custGeom>
              <a:avLst/>
              <a:gdLst/>
              <a:ahLst/>
              <a:rect l="l" t="t" r="r" b="b"/>
              <a:pathLst>
                <a:path w="5" h="1280">
                  <a:moveTo>
                    <a:pt x="0" y="1280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71"/>
                  </a:lnTo>
                  <a:lnTo>
                    <a:pt x="4" y="1273"/>
                  </a:lnTo>
                  <a:lnTo>
                    <a:pt x="4" y="1274"/>
                  </a:lnTo>
                  <a:lnTo>
                    <a:pt x="3" y="1275"/>
                  </a:lnTo>
                  <a:lnTo>
                    <a:pt x="2" y="1276"/>
                  </a:lnTo>
                  <a:lnTo>
                    <a:pt x="2" y="1277"/>
                  </a:lnTo>
                  <a:lnTo>
                    <a:pt x="1" y="1278"/>
                  </a:lnTo>
                  <a:lnTo>
                    <a:pt x="1" y="1279"/>
                  </a:lnTo>
                  <a:lnTo>
                    <a:pt x="0" y="1280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37440" y="3195720"/>
              <a:ext cx="1440" cy="509400"/>
            </a:xfrm>
            <a:custGeom>
              <a:avLst/>
              <a:gdLst/>
              <a:ahLst/>
              <a:rect l="l" t="t" r="r" b="b"/>
              <a:pathLst>
                <a:path w="5" h="1282">
                  <a:moveTo>
                    <a:pt x="0" y="128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3"/>
                  </a:lnTo>
                  <a:lnTo>
                    <a:pt x="4" y="1274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9"/>
                  </a:lnTo>
                  <a:lnTo>
                    <a:pt x="2" y="1280"/>
                  </a:lnTo>
                  <a:lnTo>
                    <a:pt x="1" y="1281"/>
                  </a:lnTo>
                  <a:lnTo>
                    <a:pt x="0" y="1282"/>
                  </a:lnTo>
                  <a:close/>
                </a:path>
              </a:pathLst>
            </a:custGeom>
            <a:solidFill>
              <a:srgbClr val="d3af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37440" y="3193920"/>
              <a:ext cx="2880" cy="509760"/>
            </a:xfrm>
            <a:custGeom>
              <a:avLst/>
              <a:gdLst/>
              <a:ahLst/>
              <a:rect l="l" t="t" r="r" b="b"/>
              <a:pathLst>
                <a:path w="4" h="1283">
                  <a:moveTo>
                    <a:pt x="0" y="128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75"/>
                  </a:lnTo>
                  <a:lnTo>
                    <a:pt x="3" y="1276"/>
                  </a:lnTo>
                  <a:lnTo>
                    <a:pt x="3" y="1277"/>
                  </a:lnTo>
                  <a:lnTo>
                    <a:pt x="2" y="1278"/>
                  </a:lnTo>
                  <a:lnTo>
                    <a:pt x="2" y="1279"/>
                  </a:lnTo>
                  <a:lnTo>
                    <a:pt x="1" y="1280"/>
                  </a:lnTo>
                  <a:lnTo>
                    <a:pt x="1" y="1281"/>
                  </a:lnTo>
                  <a:lnTo>
                    <a:pt x="0" y="1282"/>
                  </a:lnTo>
                  <a:lnTo>
                    <a:pt x="0" y="1283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338880" y="3190680"/>
              <a:ext cx="1440" cy="511200"/>
            </a:xfrm>
            <a:custGeom>
              <a:avLst/>
              <a:gdLst/>
              <a:ahLst/>
              <a:rect l="l" t="t" r="r" b="b"/>
              <a:pathLst>
                <a:path w="4" h="1285">
                  <a:moveTo>
                    <a:pt x="0" y="128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76"/>
                  </a:lnTo>
                  <a:lnTo>
                    <a:pt x="4" y="1278"/>
                  </a:lnTo>
                  <a:lnTo>
                    <a:pt x="3" y="1279"/>
                  </a:lnTo>
                  <a:lnTo>
                    <a:pt x="2" y="1280"/>
                  </a:lnTo>
                  <a:lnTo>
                    <a:pt x="2" y="1281"/>
                  </a:lnTo>
                  <a:lnTo>
                    <a:pt x="1" y="1282"/>
                  </a:lnTo>
                  <a:lnTo>
                    <a:pt x="1" y="1283"/>
                  </a:lnTo>
                  <a:lnTo>
                    <a:pt x="0" y="1284"/>
                  </a:lnTo>
                  <a:lnTo>
                    <a:pt x="0" y="1285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40320" y="318924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6">
                  <a:moveTo>
                    <a:pt x="0" y="1286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6"/>
                  </a:lnTo>
                  <a:lnTo>
                    <a:pt x="5" y="1278"/>
                  </a:lnTo>
                  <a:lnTo>
                    <a:pt x="4" y="1279"/>
                  </a:lnTo>
                  <a:lnTo>
                    <a:pt x="4" y="1280"/>
                  </a:lnTo>
                  <a:lnTo>
                    <a:pt x="2" y="1281"/>
                  </a:lnTo>
                  <a:lnTo>
                    <a:pt x="2" y="1283"/>
                  </a:lnTo>
                  <a:lnTo>
                    <a:pt x="1" y="1284"/>
                  </a:lnTo>
                  <a:lnTo>
                    <a:pt x="0" y="1285"/>
                  </a:lnTo>
                  <a:lnTo>
                    <a:pt x="0" y="1286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40320" y="3187800"/>
              <a:ext cx="1800" cy="511200"/>
            </a:xfrm>
            <a:custGeom>
              <a:avLst/>
              <a:gdLst/>
              <a:ahLst/>
              <a:rect l="l" t="t" r="r" b="b"/>
              <a:pathLst>
                <a:path w="5" h="1287">
                  <a:moveTo>
                    <a:pt x="0" y="1287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78"/>
                  </a:lnTo>
                  <a:lnTo>
                    <a:pt x="5" y="1279"/>
                  </a:lnTo>
                  <a:lnTo>
                    <a:pt x="4" y="1280"/>
                  </a:lnTo>
                  <a:lnTo>
                    <a:pt x="4" y="1281"/>
                  </a:lnTo>
                  <a:lnTo>
                    <a:pt x="3" y="1282"/>
                  </a:lnTo>
                  <a:lnTo>
                    <a:pt x="3" y="1284"/>
                  </a:lnTo>
                  <a:lnTo>
                    <a:pt x="2" y="1285"/>
                  </a:lnTo>
                  <a:lnTo>
                    <a:pt x="2" y="1286"/>
                  </a:lnTo>
                  <a:lnTo>
                    <a:pt x="0" y="1287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42120" y="3184560"/>
              <a:ext cx="1440" cy="511200"/>
            </a:xfrm>
            <a:custGeom>
              <a:avLst/>
              <a:gdLst/>
              <a:ahLst/>
              <a:rect l="l" t="t" r="r" b="b"/>
              <a:pathLst>
                <a:path w="5" h="1288">
                  <a:moveTo>
                    <a:pt x="0" y="1288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79"/>
                  </a:lnTo>
                  <a:lnTo>
                    <a:pt x="4" y="1281"/>
                  </a:lnTo>
                  <a:lnTo>
                    <a:pt x="4" y="1282"/>
                  </a:lnTo>
                  <a:lnTo>
                    <a:pt x="3" y="1283"/>
                  </a:lnTo>
                  <a:lnTo>
                    <a:pt x="2" y="1284"/>
                  </a:lnTo>
                  <a:lnTo>
                    <a:pt x="2" y="1285"/>
                  </a:lnTo>
                  <a:lnTo>
                    <a:pt x="1" y="1286"/>
                  </a:lnTo>
                  <a:lnTo>
                    <a:pt x="1" y="1287"/>
                  </a:lnTo>
                  <a:lnTo>
                    <a:pt x="0" y="1288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42120" y="3182760"/>
              <a:ext cx="3240" cy="511200"/>
            </a:xfrm>
            <a:custGeom>
              <a:avLst/>
              <a:gdLst/>
              <a:ahLst/>
              <a:rect l="l" t="t" r="r" b="b"/>
              <a:pathLst>
                <a:path w="5" h="1290">
                  <a:moveTo>
                    <a:pt x="0" y="129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1"/>
                  </a:lnTo>
                  <a:lnTo>
                    <a:pt x="4" y="1282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7"/>
                  </a:lnTo>
                  <a:lnTo>
                    <a:pt x="2" y="1288"/>
                  </a:lnTo>
                  <a:lnTo>
                    <a:pt x="1" y="1289"/>
                  </a:lnTo>
                  <a:lnTo>
                    <a:pt x="0" y="1290"/>
                  </a:lnTo>
                  <a:close/>
                </a:path>
              </a:pathLst>
            </a:custGeom>
            <a:solidFill>
              <a:srgbClr val="d3a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43560" y="3179880"/>
              <a:ext cx="1800" cy="512640"/>
            </a:xfrm>
            <a:custGeom>
              <a:avLst/>
              <a:gdLst/>
              <a:ahLst/>
              <a:rect l="l" t="t" r="r" b="b"/>
              <a:pathLst>
                <a:path w="4" h="1291">
                  <a:moveTo>
                    <a:pt x="0" y="129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83"/>
                  </a:lnTo>
                  <a:lnTo>
                    <a:pt x="3" y="1284"/>
                  </a:lnTo>
                  <a:lnTo>
                    <a:pt x="3" y="1285"/>
                  </a:lnTo>
                  <a:lnTo>
                    <a:pt x="2" y="1286"/>
                  </a:lnTo>
                  <a:lnTo>
                    <a:pt x="2" y="1287"/>
                  </a:lnTo>
                  <a:lnTo>
                    <a:pt x="1" y="1288"/>
                  </a:lnTo>
                  <a:lnTo>
                    <a:pt x="1" y="1289"/>
                  </a:lnTo>
                  <a:lnTo>
                    <a:pt x="0" y="1290"/>
                  </a:lnTo>
                  <a:lnTo>
                    <a:pt x="0" y="1291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45360" y="3178080"/>
              <a:ext cx="1440" cy="512640"/>
            </a:xfrm>
            <a:custGeom>
              <a:avLst/>
              <a:gdLst/>
              <a:ahLst/>
              <a:rect l="l" t="t" r="r" b="b"/>
              <a:pathLst>
                <a:path w="5" h="1293">
                  <a:moveTo>
                    <a:pt x="0" y="129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6"/>
                  </a:lnTo>
                  <a:lnTo>
                    <a:pt x="3" y="1287"/>
                  </a:lnTo>
                  <a:lnTo>
                    <a:pt x="3" y="1288"/>
                  </a:lnTo>
                  <a:lnTo>
                    <a:pt x="2" y="1289"/>
                  </a:lnTo>
                  <a:lnTo>
                    <a:pt x="1" y="1290"/>
                  </a:lnTo>
                  <a:lnTo>
                    <a:pt x="1" y="1291"/>
                  </a:lnTo>
                  <a:lnTo>
                    <a:pt x="0" y="1292"/>
                  </a:lnTo>
                  <a:lnTo>
                    <a:pt x="0" y="1293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45360" y="3174840"/>
              <a:ext cx="1440" cy="514440"/>
            </a:xfrm>
            <a:custGeom>
              <a:avLst/>
              <a:gdLst/>
              <a:ahLst/>
              <a:rect l="l" t="t" r="r" b="b"/>
              <a:pathLst>
                <a:path w="5" h="1294">
                  <a:moveTo>
                    <a:pt x="0" y="129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84"/>
                  </a:lnTo>
                  <a:lnTo>
                    <a:pt x="5" y="1285"/>
                  </a:lnTo>
                  <a:lnTo>
                    <a:pt x="4" y="1286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1"/>
                  </a:lnTo>
                  <a:lnTo>
                    <a:pt x="1" y="1292"/>
                  </a:lnTo>
                  <a:lnTo>
                    <a:pt x="1" y="1293"/>
                  </a:lnTo>
                  <a:lnTo>
                    <a:pt x="0" y="1294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46800" y="317340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6">
                  <a:moveTo>
                    <a:pt x="0" y="1296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1287"/>
                  </a:lnTo>
                  <a:lnTo>
                    <a:pt x="4" y="1288"/>
                  </a:lnTo>
                  <a:lnTo>
                    <a:pt x="3" y="1289"/>
                  </a:lnTo>
                  <a:lnTo>
                    <a:pt x="3" y="1290"/>
                  </a:lnTo>
                  <a:lnTo>
                    <a:pt x="2" y="1291"/>
                  </a:lnTo>
                  <a:lnTo>
                    <a:pt x="2" y="1292"/>
                  </a:lnTo>
                  <a:lnTo>
                    <a:pt x="1" y="1293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46800" y="3171600"/>
              <a:ext cx="3240" cy="514440"/>
            </a:xfrm>
            <a:custGeom>
              <a:avLst/>
              <a:gdLst/>
              <a:ahLst/>
              <a:rect l="l" t="t" r="r" b="b"/>
              <a:pathLst>
                <a:path w="5" h="1296">
                  <a:moveTo>
                    <a:pt x="0" y="1296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7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2" y="1292"/>
                  </a:lnTo>
                  <a:lnTo>
                    <a:pt x="2" y="1293"/>
                  </a:lnTo>
                  <a:lnTo>
                    <a:pt x="1" y="1294"/>
                  </a:lnTo>
                  <a:lnTo>
                    <a:pt x="1" y="1295"/>
                  </a:lnTo>
                  <a:lnTo>
                    <a:pt x="0" y="1296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48240" y="3168720"/>
              <a:ext cx="1800" cy="514080"/>
            </a:xfrm>
            <a:custGeom>
              <a:avLst/>
              <a:gdLst/>
              <a:ahLst/>
              <a:rect l="l" t="t" r="r" b="b"/>
              <a:pathLst>
                <a:path w="5" h="1298">
                  <a:moveTo>
                    <a:pt x="0" y="1298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88"/>
                  </a:lnTo>
                  <a:lnTo>
                    <a:pt x="4" y="1289"/>
                  </a:lnTo>
                  <a:lnTo>
                    <a:pt x="4" y="1290"/>
                  </a:lnTo>
                  <a:lnTo>
                    <a:pt x="3" y="1292"/>
                  </a:lnTo>
                  <a:lnTo>
                    <a:pt x="3" y="1293"/>
                  </a:lnTo>
                  <a:lnTo>
                    <a:pt x="2" y="1295"/>
                  </a:lnTo>
                  <a:lnTo>
                    <a:pt x="2" y="1296"/>
                  </a:lnTo>
                  <a:lnTo>
                    <a:pt x="1" y="1297"/>
                  </a:lnTo>
                  <a:lnTo>
                    <a:pt x="0" y="1298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50040" y="3166920"/>
              <a:ext cx="1440" cy="514440"/>
            </a:xfrm>
            <a:custGeom>
              <a:avLst/>
              <a:gdLst/>
              <a:ahLst/>
              <a:rect l="l" t="t" r="r" b="b"/>
              <a:pathLst>
                <a:path w="4" h="1299">
                  <a:moveTo>
                    <a:pt x="0" y="1299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0"/>
                  </a:lnTo>
                  <a:lnTo>
                    <a:pt x="3" y="1291"/>
                  </a:lnTo>
                  <a:lnTo>
                    <a:pt x="3" y="1292"/>
                  </a:lnTo>
                  <a:lnTo>
                    <a:pt x="2" y="1293"/>
                  </a:lnTo>
                  <a:lnTo>
                    <a:pt x="2" y="1294"/>
                  </a:lnTo>
                  <a:lnTo>
                    <a:pt x="1" y="1295"/>
                  </a:lnTo>
                  <a:lnTo>
                    <a:pt x="1" y="1296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50040" y="3163680"/>
              <a:ext cx="1440" cy="516240"/>
            </a:xfrm>
            <a:custGeom>
              <a:avLst/>
              <a:gdLst/>
              <a:ahLst/>
              <a:rect l="l" t="t" r="r" b="b"/>
              <a:pathLst>
                <a:path w="5" h="1299">
                  <a:moveTo>
                    <a:pt x="0" y="129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0"/>
                  </a:lnTo>
                  <a:lnTo>
                    <a:pt x="5" y="1291"/>
                  </a:lnTo>
                  <a:lnTo>
                    <a:pt x="3" y="1293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1" y="1296"/>
                  </a:lnTo>
                  <a:lnTo>
                    <a:pt x="1" y="1297"/>
                  </a:lnTo>
                  <a:lnTo>
                    <a:pt x="0" y="1298"/>
                  </a:lnTo>
                  <a:lnTo>
                    <a:pt x="0" y="1299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51480" y="3162240"/>
              <a:ext cx="1800" cy="5158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8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51480" y="3159000"/>
              <a:ext cx="1800" cy="517680"/>
            </a:xfrm>
            <a:custGeom>
              <a:avLst/>
              <a:gdLst/>
              <a:ahLst/>
              <a:rect l="l" t="t" r="r" b="b"/>
              <a:pathLst>
                <a:path w="5" h="1302">
                  <a:moveTo>
                    <a:pt x="0" y="130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8"/>
                  </a:lnTo>
                  <a:lnTo>
                    <a:pt x="1" y="1299"/>
                  </a:lnTo>
                  <a:lnTo>
                    <a:pt x="1" y="1300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53280" y="3157560"/>
              <a:ext cx="1440" cy="517320"/>
            </a:xfrm>
            <a:custGeom>
              <a:avLst/>
              <a:gdLst/>
              <a:ahLst/>
              <a:rect l="l" t="t" r="r" b="b"/>
              <a:pathLst>
                <a:path w="5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4"/>
                  </a:lnTo>
                  <a:lnTo>
                    <a:pt x="4" y="1295"/>
                  </a:lnTo>
                  <a:lnTo>
                    <a:pt x="4" y="1296"/>
                  </a:lnTo>
                  <a:lnTo>
                    <a:pt x="3" y="1298"/>
                  </a:lnTo>
                  <a:lnTo>
                    <a:pt x="3" y="1299"/>
                  </a:lnTo>
                  <a:lnTo>
                    <a:pt x="2" y="1301"/>
                  </a:lnTo>
                  <a:lnTo>
                    <a:pt x="1" y="1302"/>
                  </a:lnTo>
                  <a:lnTo>
                    <a:pt x="1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53280" y="3154320"/>
              <a:ext cx="3240" cy="51768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54720" y="3152880"/>
              <a:ext cx="1800" cy="5173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5"/>
                  </a:lnTo>
                  <a:lnTo>
                    <a:pt x="3" y="1296"/>
                  </a:lnTo>
                  <a:lnTo>
                    <a:pt x="3" y="1297"/>
                  </a:lnTo>
                  <a:lnTo>
                    <a:pt x="2" y="1298"/>
                  </a:lnTo>
                  <a:lnTo>
                    <a:pt x="2" y="1299"/>
                  </a:lnTo>
                  <a:lnTo>
                    <a:pt x="1" y="1301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d6b1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56520" y="31496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6">
                  <a:moveTo>
                    <a:pt x="0" y="1306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7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2" y="1302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5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56520" y="314784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7">
                  <a:moveTo>
                    <a:pt x="0" y="1307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6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57960" y="3144960"/>
              <a:ext cx="1440" cy="51876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300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57960" y="31431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8">
                  <a:moveTo>
                    <a:pt x="0" y="1308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4" y="1299"/>
                  </a:lnTo>
                  <a:lnTo>
                    <a:pt x="4" y="1300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8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59400" y="314172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9">
                  <a:moveTo>
                    <a:pt x="0" y="1309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4"/>
                  </a:lnTo>
                  <a:lnTo>
                    <a:pt x="1" y="1305"/>
                  </a:lnTo>
                  <a:lnTo>
                    <a:pt x="1" y="1306"/>
                  </a:lnTo>
                  <a:lnTo>
                    <a:pt x="0" y="1308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61200" y="313848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61200" y="31366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10">
                  <a:moveTo>
                    <a:pt x="0" y="1310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2" y="1304"/>
                  </a:lnTo>
                  <a:lnTo>
                    <a:pt x="2" y="1306"/>
                  </a:lnTo>
                  <a:lnTo>
                    <a:pt x="1" y="1307"/>
                  </a:lnTo>
                  <a:lnTo>
                    <a:pt x="0" y="1309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62640" y="313380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2640" y="313200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4" y="1302"/>
                  </a:lnTo>
                  <a:lnTo>
                    <a:pt x="4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4440" y="312876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65880" y="31273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3"/>
                  </a:lnTo>
                  <a:lnTo>
                    <a:pt x="2" y="1306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65880" y="312408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3" y="1305"/>
                  </a:lnTo>
                  <a:lnTo>
                    <a:pt x="2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3122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1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3" y="1308"/>
                  </a:lnTo>
                  <a:lnTo>
                    <a:pt x="3" y="1309"/>
                  </a:lnTo>
                  <a:lnTo>
                    <a:pt x="1" y="1310"/>
                  </a:lnTo>
                  <a:lnTo>
                    <a:pt x="0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8b3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67320" y="311940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69120" y="3117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4" y="1304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2" y="1308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69120" y="3116160"/>
              <a:ext cx="324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0560" y="3112920"/>
              <a:ext cx="1800" cy="522360"/>
            </a:xfrm>
            <a:custGeom>
              <a:avLst/>
              <a:gdLst/>
              <a:ahLst/>
              <a:rect l="l" t="t" r="r" b="b"/>
              <a:pathLst>
                <a:path w="4" h="1315">
                  <a:moveTo>
                    <a:pt x="0" y="1315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4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2360" y="311148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2360" y="3108240"/>
              <a:ext cx="1440" cy="522360"/>
            </a:xfrm>
            <a:custGeom>
              <a:avLst/>
              <a:gdLst/>
              <a:ahLst/>
              <a:rect l="l" t="t" r="r" b="b"/>
              <a:pathLst>
                <a:path w="5" h="1315">
                  <a:moveTo>
                    <a:pt x="0" y="1315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303"/>
                  </a:lnTo>
                  <a:lnTo>
                    <a:pt x="5" y="1304"/>
                  </a:lnTo>
                  <a:lnTo>
                    <a:pt x="4" y="1305"/>
                  </a:lnTo>
                  <a:lnTo>
                    <a:pt x="4" y="1307"/>
                  </a:lnTo>
                  <a:lnTo>
                    <a:pt x="3" y="1308"/>
                  </a:lnTo>
                  <a:lnTo>
                    <a:pt x="3" y="1311"/>
                  </a:lnTo>
                  <a:lnTo>
                    <a:pt x="1" y="1312"/>
                  </a:lnTo>
                  <a:lnTo>
                    <a:pt x="1" y="1313"/>
                  </a:lnTo>
                  <a:lnTo>
                    <a:pt x="0" y="1315"/>
                  </a:lnTo>
                  <a:close/>
                </a:path>
              </a:pathLst>
            </a:custGeom>
            <a:solidFill>
              <a:srgbClr val="dc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73800" y="310680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7"/>
                  </a:lnTo>
                  <a:lnTo>
                    <a:pt x="2" y="1309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73800" y="3103560"/>
              <a:ext cx="3240" cy="52236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2" y="1307"/>
                  </a:lnTo>
                  <a:lnTo>
                    <a:pt x="2" y="1310"/>
                  </a:lnTo>
                  <a:lnTo>
                    <a:pt x="1" y="1311"/>
                  </a:lnTo>
                  <a:lnTo>
                    <a:pt x="1" y="1312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75240" y="3101760"/>
              <a:ext cx="1800" cy="52092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4" y="1304"/>
                  </a:lnTo>
                  <a:lnTo>
                    <a:pt x="4" y="1305"/>
                  </a:lnTo>
                  <a:lnTo>
                    <a:pt x="3" y="1306"/>
                  </a:lnTo>
                  <a:lnTo>
                    <a:pt x="3" y="1308"/>
                  </a:lnTo>
                  <a:lnTo>
                    <a:pt x="2" y="1309"/>
                  </a:lnTo>
                  <a:lnTo>
                    <a:pt x="2" y="1311"/>
                  </a:lnTo>
                  <a:lnTo>
                    <a:pt x="1" y="1312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77040" y="3098880"/>
              <a:ext cx="1440" cy="522000"/>
            </a:xfrm>
            <a:custGeom>
              <a:avLst/>
              <a:gdLst/>
              <a:ahLst/>
              <a:rect l="l" t="t" r="r" b="b"/>
              <a:pathLst>
                <a:path w="4" h="1314">
                  <a:moveTo>
                    <a:pt x="0" y="13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302"/>
                  </a:lnTo>
                  <a:lnTo>
                    <a:pt x="3" y="1303"/>
                  </a:lnTo>
                  <a:lnTo>
                    <a:pt x="3" y="1304"/>
                  </a:lnTo>
                  <a:lnTo>
                    <a:pt x="2" y="1307"/>
                  </a:lnTo>
                  <a:lnTo>
                    <a:pt x="2" y="1308"/>
                  </a:lnTo>
                  <a:lnTo>
                    <a:pt x="1" y="1310"/>
                  </a:lnTo>
                  <a:lnTo>
                    <a:pt x="1" y="1311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77040" y="309708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4">
                  <a:moveTo>
                    <a:pt x="0" y="13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2"/>
                  </a:lnTo>
                  <a:lnTo>
                    <a:pt x="5" y="1303"/>
                  </a:lnTo>
                  <a:lnTo>
                    <a:pt x="4" y="1305"/>
                  </a:lnTo>
                  <a:lnTo>
                    <a:pt x="4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0"/>
                  </a:lnTo>
                  <a:lnTo>
                    <a:pt x="0" y="1313"/>
                  </a:lnTo>
                  <a:lnTo>
                    <a:pt x="0" y="1314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8480" y="30956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3">
                  <a:moveTo>
                    <a:pt x="0" y="1313"/>
                  </a:moveTo>
                  <a:lnTo>
                    <a:pt x="0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5" y="1302"/>
                  </a:lnTo>
                  <a:lnTo>
                    <a:pt x="4" y="1303"/>
                  </a:lnTo>
                  <a:lnTo>
                    <a:pt x="4" y="1306"/>
                  </a:lnTo>
                  <a:lnTo>
                    <a:pt x="3" y="1307"/>
                  </a:lnTo>
                  <a:lnTo>
                    <a:pt x="3" y="1308"/>
                  </a:lnTo>
                  <a:lnTo>
                    <a:pt x="2" y="1310"/>
                  </a:lnTo>
                  <a:lnTo>
                    <a:pt x="2" y="1311"/>
                  </a:lnTo>
                  <a:lnTo>
                    <a:pt x="0" y="1313"/>
                  </a:lnTo>
                  <a:close/>
                </a:path>
              </a:pathLst>
            </a:custGeom>
            <a:solidFill>
              <a:srgbClr val="dcb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8480" y="3092400"/>
              <a:ext cx="32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3" y="1302"/>
                  </a:lnTo>
                  <a:lnTo>
                    <a:pt x="3" y="1304"/>
                  </a:lnTo>
                  <a:lnTo>
                    <a:pt x="2" y="1305"/>
                  </a:lnTo>
                  <a:lnTo>
                    <a:pt x="2" y="1307"/>
                  </a:lnTo>
                  <a:lnTo>
                    <a:pt x="1" y="1308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0280" y="3090960"/>
              <a:ext cx="1440" cy="520560"/>
            </a:xfrm>
            <a:custGeom>
              <a:avLst/>
              <a:gdLst/>
              <a:ahLst/>
              <a:rect l="l" t="t" r="r" b="b"/>
              <a:pathLst>
                <a:path w="5" h="1312">
                  <a:moveTo>
                    <a:pt x="0" y="1312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1300"/>
                  </a:lnTo>
                  <a:lnTo>
                    <a:pt x="4" y="1301"/>
                  </a:lnTo>
                  <a:lnTo>
                    <a:pt x="4" y="1304"/>
                  </a:lnTo>
                  <a:lnTo>
                    <a:pt x="3" y="1305"/>
                  </a:lnTo>
                  <a:lnTo>
                    <a:pt x="3" y="1306"/>
                  </a:lnTo>
                  <a:lnTo>
                    <a:pt x="2" y="1308"/>
                  </a:lnTo>
                  <a:lnTo>
                    <a:pt x="1" y="1309"/>
                  </a:lnTo>
                  <a:lnTo>
                    <a:pt x="1" y="1311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1720" y="3087720"/>
              <a:ext cx="1440" cy="520560"/>
            </a:xfrm>
            <a:custGeom>
              <a:avLst/>
              <a:gdLst/>
              <a:ahLst/>
              <a:rect l="l" t="t" r="r" b="b"/>
              <a:pathLst>
                <a:path w="4" h="1312">
                  <a:moveTo>
                    <a:pt x="0" y="1312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9"/>
                  </a:lnTo>
                  <a:lnTo>
                    <a:pt x="3" y="1300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9"/>
                  </a:lnTo>
                  <a:lnTo>
                    <a:pt x="0" y="131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1720" y="3085920"/>
              <a:ext cx="1440" cy="52092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3" y="1299"/>
                  </a:lnTo>
                  <a:lnTo>
                    <a:pt x="3" y="1302"/>
                  </a:lnTo>
                  <a:lnTo>
                    <a:pt x="2" y="1303"/>
                  </a:lnTo>
                  <a:lnTo>
                    <a:pt x="2" y="1305"/>
                  </a:lnTo>
                  <a:lnTo>
                    <a:pt x="1" y="1306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3160" y="3083040"/>
              <a:ext cx="1800" cy="520560"/>
            </a:xfrm>
            <a:custGeom>
              <a:avLst/>
              <a:gdLst/>
              <a:ahLst/>
              <a:rect l="l" t="t" r="r" b="b"/>
              <a:pathLst>
                <a:path w="5" h="1311">
                  <a:moveTo>
                    <a:pt x="0" y="1311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1298"/>
                  </a:lnTo>
                  <a:lnTo>
                    <a:pt x="5" y="1299"/>
                  </a:lnTo>
                  <a:lnTo>
                    <a:pt x="4" y="1301"/>
                  </a:lnTo>
                  <a:lnTo>
                    <a:pt x="4" y="1302"/>
                  </a:lnTo>
                  <a:lnTo>
                    <a:pt x="3" y="1304"/>
                  </a:lnTo>
                  <a:lnTo>
                    <a:pt x="1" y="1305"/>
                  </a:lnTo>
                  <a:lnTo>
                    <a:pt x="1" y="1308"/>
                  </a:lnTo>
                  <a:lnTo>
                    <a:pt x="0" y="130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3160" y="3081240"/>
              <a:ext cx="1800" cy="520920"/>
            </a:xfrm>
            <a:custGeom>
              <a:avLst/>
              <a:gdLst/>
              <a:ahLst/>
              <a:rect l="l" t="t" r="r" b="b"/>
              <a:pathLst>
                <a:path w="4" h="1310">
                  <a:moveTo>
                    <a:pt x="0" y="1310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297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2" y="1305"/>
                  </a:lnTo>
                  <a:lnTo>
                    <a:pt x="1" y="1307"/>
                  </a:lnTo>
                  <a:lnTo>
                    <a:pt x="1" y="1308"/>
                  </a:lnTo>
                  <a:lnTo>
                    <a:pt x="0" y="1310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84960" y="307980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7"/>
                  </a:lnTo>
                  <a:lnTo>
                    <a:pt x="3" y="1299"/>
                  </a:lnTo>
                  <a:lnTo>
                    <a:pt x="3" y="1300"/>
                  </a:lnTo>
                  <a:lnTo>
                    <a:pt x="2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84960" y="3076560"/>
              <a:ext cx="3240" cy="519120"/>
            </a:xfrm>
            <a:custGeom>
              <a:avLst/>
              <a:gdLst/>
              <a:ahLst/>
              <a:rect l="l" t="t" r="r" b="b"/>
              <a:pathLst>
                <a:path w="5" h="1309">
                  <a:moveTo>
                    <a:pt x="0" y="1309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295"/>
                  </a:lnTo>
                  <a:lnTo>
                    <a:pt x="4" y="1298"/>
                  </a:lnTo>
                  <a:lnTo>
                    <a:pt x="4" y="1299"/>
                  </a:lnTo>
                  <a:lnTo>
                    <a:pt x="3" y="1301"/>
                  </a:lnTo>
                  <a:lnTo>
                    <a:pt x="3" y="1302"/>
                  </a:lnTo>
                  <a:lnTo>
                    <a:pt x="2" y="1304"/>
                  </a:lnTo>
                  <a:lnTo>
                    <a:pt x="1" y="1306"/>
                  </a:lnTo>
                  <a:lnTo>
                    <a:pt x="1" y="1307"/>
                  </a:lnTo>
                  <a:lnTo>
                    <a:pt x="0" y="1309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86400" y="3074760"/>
              <a:ext cx="1800" cy="517680"/>
            </a:xfrm>
            <a:custGeom>
              <a:avLst/>
              <a:gdLst/>
              <a:ahLst/>
              <a:rect l="l" t="t" r="r" b="b"/>
              <a:pathLst>
                <a:path w="4" h="1307">
                  <a:moveTo>
                    <a:pt x="0" y="1307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294"/>
                  </a:lnTo>
                  <a:lnTo>
                    <a:pt x="3" y="1295"/>
                  </a:lnTo>
                  <a:lnTo>
                    <a:pt x="3" y="1297"/>
                  </a:lnTo>
                  <a:lnTo>
                    <a:pt x="2" y="1299"/>
                  </a:lnTo>
                  <a:lnTo>
                    <a:pt x="2" y="1300"/>
                  </a:lnTo>
                  <a:lnTo>
                    <a:pt x="1" y="1303"/>
                  </a:lnTo>
                  <a:lnTo>
                    <a:pt x="1" y="1304"/>
                  </a:lnTo>
                  <a:lnTo>
                    <a:pt x="0" y="1306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88200" y="3071880"/>
              <a:ext cx="1440" cy="51912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2"/>
                  </a:lnTo>
                  <a:lnTo>
                    <a:pt x="5" y="1294"/>
                  </a:lnTo>
                  <a:lnTo>
                    <a:pt x="3" y="1296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88200" y="3070080"/>
              <a:ext cx="1440" cy="517680"/>
            </a:xfrm>
            <a:custGeom>
              <a:avLst/>
              <a:gdLst/>
              <a:ahLst/>
              <a:rect l="l" t="t" r="r" b="b"/>
              <a:pathLst>
                <a:path w="5" h="1305">
                  <a:moveTo>
                    <a:pt x="0" y="1305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1291"/>
                  </a:lnTo>
                  <a:lnTo>
                    <a:pt x="5" y="1293"/>
                  </a:lnTo>
                  <a:lnTo>
                    <a:pt x="4" y="1294"/>
                  </a:lnTo>
                  <a:lnTo>
                    <a:pt x="4" y="1296"/>
                  </a:lnTo>
                  <a:lnTo>
                    <a:pt x="3" y="1297"/>
                  </a:lnTo>
                  <a:lnTo>
                    <a:pt x="3" y="1300"/>
                  </a:lnTo>
                  <a:lnTo>
                    <a:pt x="1" y="1302"/>
                  </a:lnTo>
                  <a:lnTo>
                    <a:pt x="0" y="1303"/>
                  </a:lnTo>
                  <a:lnTo>
                    <a:pt x="0" y="1305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89640" y="3066840"/>
              <a:ext cx="1800" cy="519120"/>
            </a:xfrm>
            <a:custGeom>
              <a:avLst/>
              <a:gdLst/>
              <a:ahLst/>
              <a:rect l="l" t="t" r="r" b="b"/>
              <a:pathLst>
                <a:path w="4" h="1304">
                  <a:moveTo>
                    <a:pt x="0" y="1304"/>
                  </a:moveTo>
                  <a:lnTo>
                    <a:pt x="0" y="12"/>
                  </a:lnTo>
                  <a:lnTo>
                    <a:pt x="1" y="11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289"/>
                  </a:lnTo>
                  <a:lnTo>
                    <a:pt x="4" y="1291"/>
                  </a:lnTo>
                  <a:lnTo>
                    <a:pt x="3" y="1294"/>
                  </a:lnTo>
                  <a:lnTo>
                    <a:pt x="3" y="1295"/>
                  </a:lnTo>
                  <a:lnTo>
                    <a:pt x="2" y="1297"/>
                  </a:lnTo>
                  <a:lnTo>
                    <a:pt x="2" y="1299"/>
                  </a:lnTo>
                  <a:lnTo>
                    <a:pt x="1" y="1300"/>
                  </a:lnTo>
                  <a:lnTo>
                    <a:pt x="1" y="1302"/>
                  </a:lnTo>
                  <a:lnTo>
                    <a:pt x="0" y="1304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9640" y="3065400"/>
              <a:ext cx="3240" cy="517680"/>
            </a:xfrm>
            <a:custGeom>
              <a:avLst/>
              <a:gdLst/>
              <a:ahLst/>
              <a:rect l="l" t="t" r="r" b="b"/>
              <a:pathLst>
                <a:path w="5" h="1303">
                  <a:moveTo>
                    <a:pt x="0" y="1303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1289"/>
                  </a:lnTo>
                  <a:lnTo>
                    <a:pt x="4" y="1291"/>
                  </a:lnTo>
                  <a:lnTo>
                    <a:pt x="3" y="1292"/>
                  </a:lnTo>
                  <a:lnTo>
                    <a:pt x="3" y="1294"/>
                  </a:lnTo>
                  <a:lnTo>
                    <a:pt x="2" y="1295"/>
                  </a:lnTo>
                  <a:lnTo>
                    <a:pt x="2" y="1297"/>
                  </a:lnTo>
                  <a:lnTo>
                    <a:pt x="1" y="1300"/>
                  </a:lnTo>
                  <a:lnTo>
                    <a:pt x="1" y="1301"/>
                  </a:lnTo>
                  <a:lnTo>
                    <a:pt x="0" y="1303"/>
                  </a:lnTo>
                  <a:close/>
                </a:path>
              </a:pathLst>
            </a:custGeom>
            <a:solidFill>
              <a:srgbClr val="e0b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6" name=""/>
            <p:cNvGrpSpPr/>
            <p:nvPr/>
          </p:nvGrpSpPr>
          <p:grpSpPr>
            <a:xfrm>
              <a:off x="2717640" y="1981080"/>
              <a:ext cx="3726000" cy="2033640"/>
              <a:chOff x="2717640" y="1981080"/>
              <a:chExt cx="3726000" cy="2033640"/>
            </a:xfrm>
          </p:grpSpPr>
          <p:sp>
            <p:nvSpPr>
              <p:cNvPr id="1387" name=""/>
              <p:cNvSpPr/>
              <p:nvPr/>
            </p:nvSpPr>
            <p:spPr>
              <a:xfrm>
                <a:off x="6391440" y="306396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5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86"/>
                    </a:lnTo>
                    <a:lnTo>
                      <a:pt x="4" y="1288"/>
                    </a:lnTo>
                    <a:lnTo>
                      <a:pt x="4" y="1291"/>
                    </a:lnTo>
                    <a:lnTo>
                      <a:pt x="3" y="1292"/>
                    </a:lnTo>
                    <a:lnTo>
                      <a:pt x="3" y="1294"/>
                    </a:lnTo>
                    <a:lnTo>
                      <a:pt x="2" y="1296"/>
                    </a:lnTo>
                    <a:lnTo>
                      <a:pt x="2" y="1297"/>
                    </a:lnTo>
                    <a:lnTo>
                      <a:pt x="1" y="1299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92880" y="3060720"/>
                <a:ext cx="1440" cy="515880"/>
              </a:xfrm>
              <a:custGeom>
                <a:avLst/>
                <a:gdLst/>
                <a:ahLst/>
                <a:rect l="l" t="t" r="r" b="b"/>
                <a:pathLst>
                  <a:path w="4" h="1300">
                    <a:moveTo>
                      <a:pt x="0" y="130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86"/>
                    </a:lnTo>
                    <a:lnTo>
                      <a:pt x="3" y="1287"/>
                    </a:lnTo>
                    <a:lnTo>
                      <a:pt x="3" y="1289"/>
                    </a:lnTo>
                    <a:lnTo>
                      <a:pt x="2" y="1291"/>
                    </a:lnTo>
                    <a:lnTo>
                      <a:pt x="2" y="1292"/>
                    </a:lnTo>
                    <a:lnTo>
                      <a:pt x="1" y="1294"/>
                    </a:lnTo>
                    <a:lnTo>
                      <a:pt x="1" y="1297"/>
                    </a:lnTo>
                    <a:lnTo>
                      <a:pt x="0" y="1298"/>
                    </a:lnTo>
                    <a:lnTo>
                      <a:pt x="0" y="1300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392880" y="305892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8">
                    <a:moveTo>
                      <a:pt x="0" y="1298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84"/>
                    </a:lnTo>
                    <a:lnTo>
                      <a:pt x="5" y="1285"/>
                    </a:lnTo>
                    <a:lnTo>
                      <a:pt x="4" y="1287"/>
                    </a:lnTo>
                    <a:lnTo>
                      <a:pt x="2" y="1290"/>
                    </a:lnTo>
                    <a:lnTo>
                      <a:pt x="2" y="1291"/>
                    </a:lnTo>
                    <a:lnTo>
                      <a:pt x="1" y="1293"/>
                    </a:lnTo>
                    <a:lnTo>
                      <a:pt x="1" y="1295"/>
                    </a:lnTo>
                    <a:lnTo>
                      <a:pt x="0" y="1297"/>
                    </a:lnTo>
                    <a:lnTo>
                      <a:pt x="0" y="1298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394320" y="3056040"/>
                <a:ext cx="1800" cy="515880"/>
              </a:xfrm>
              <a:custGeom>
                <a:avLst/>
                <a:gdLst/>
                <a:ahLst/>
                <a:rect l="l" t="t" r="r" b="b"/>
                <a:pathLst>
                  <a:path w="5" h="1297">
                    <a:moveTo>
                      <a:pt x="0" y="1297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82"/>
                    </a:lnTo>
                    <a:lnTo>
                      <a:pt x="5" y="1283"/>
                    </a:lnTo>
                    <a:lnTo>
                      <a:pt x="4" y="1285"/>
                    </a:lnTo>
                    <a:lnTo>
                      <a:pt x="4" y="1287"/>
                    </a:lnTo>
                    <a:lnTo>
                      <a:pt x="3" y="1289"/>
                    </a:lnTo>
                    <a:lnTo>
                      <a:pt x="3" y="1290"/>
                    </a:lnTo>
                    <a:lnTo>
                      <a:pt x="2" y="1292"/>
                    </a:lnTo>
                    <a:lnTo>
                      <a:pt x="0" y="1295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394320" y="3054240"/>
                <a:ext cx="1800" cy="514440"/>
              </a:xfrm>
              <a:custGeom>
                <a:avLst/>
                <a:gdLst/>
                <a:ahLst/>
                <a:rect l="l" t="t" r="r" b="b"/>
                <a:pathLst>
                  <a:path w="4" h="1295">
                    <a:moveTo>
                      <a:pt x="0" y="129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280"/>
                    </a:lnTo>
                    <a:lnTo>
                      <a:pt x="4" y="1281"/>
                    </a:lnTo>
                    <a:lnTo>
                      <a:pt x="3" y="1283"/>
                    </a:lnTo>
                    <a:lnTo>
                      <a:pt x="3" y="1286"/>
                    </a:lnTo>
                    <a:lnTo>
                      <a:pt x="2" y="1288"/>
                    </a:lnTo>
                    <a:lnTo>
                      <a:pt x="2" y="1289"/>
                    </a:lnTo>
                    <a:lnTo>
                      <a:pt x="1" y="1291"/>
                    </a:lnTo>
                    <a:lnTo>
                      <a:pt x="1" y="1293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96120" y="3051000"/>
                <a:ext cx="1440" cy="514440"/>
              </a:xfrm>
              <a:custGeom>
                <a:avLst/>
                <a:gdLst/>
                <a:ahLst/>
                <a:rect l="l" t="t" r="r" b="b"/>
                <a:pathLst>
                  <a:path w="5" h="1294">
                    <a:moveTo>
                      <a:pt x="0" y="1294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279"/>
                    </a:lnTo>
                    <a:lnTo>
                      <a:pt x="0" y="1294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396120" y="3049560"/>
                <a:ext cx="3240" cy="512640"/>
              </a:xfrm>
              <a:custGeom>
                <a:avLst/>
                <a:gdLst/>
                <a:ahLst/>
                <a:rect l="l" t="t" r="r" b="b"/>
                <a:pathLst>
                  <a:path w="5" h="1292">
                    <a:moveTo>
                      <a:pt x="0" y="1292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276"/>
                    </a:lnTo>
                    <a:lnTo>
                      <a:pt x="4" y="1278"/>
                    </a:lnTo>
                    <a:lnTo>
                      <a:pt x="4" y="1280"/>
                    </a:lnTo>
                    <a:lnTo>
                      <a:pt x="3" y="1282"/>
                    </a:lnTo>
                    <a:lnTo>
                      <a:pt x="3" y="1283"/>
                    </a:lnTo>
                    <a:lnTo>
                      <a:pt x="2" y="1286"/>
                    </a:lnTo>
                    <a:lnTo>
                      <a:pt x="2" y="1288"/>
                    </a:lnTo>
                    <a:lnTo>
                      <a:pt x="1" y="129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e2b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397560" y="3048120"/>
                <a:ext cx="1800" cy="510840"/>
              </a:xfrm>
              <a:custGeom>
                <a:avLst/>
                <a:gdLst/>
                <a:ahLst/>
                <a:rect l="l" t="t" r="r" b="b"/>
                <a:pathLst>
                  <a:path w="4" h="1290">
                    <a:moveTo>
                      <a:pt x="0" y="129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73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79"/>
                    </a:lnTo>
                    <a:lnTo>
                      <a:pt x="2" y="1281"/>
                    </a:lnTo>
                    <a:lnTo>
                      <a:pt x="1" y="1283"/>
                    </a:lnTo>
                    <a:lnTo>
                      <a:pt x="1" y="1285"/>
                    </a:lnTo>
                    <a:lnTo>
                      <a:pt x="0" y="1287"/>
                    </a:lnTo>
                    <a:lnTo>
                      <a:pt x="0" y="129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99360" y="304488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5" h="1286">
                    <a:moveTo>
                      <a:pt x="0" y="1286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70"/>
                    </a:lnTo>
                    <a:lnTo>
                      <a:pt x="5" y="1272"/>
                    </a:lnTo>
                    <a:lnTo>
                      <a:pt x="4" y="1274"/>
                    </a:lnTo>
                    <a:lnTo>
                      <a:pt x="4" y="1276"/>
                    </a:lnTo>
                    <a:lnTo>
                      <a:pt x="2" y="1278"/>
                    </a:lnTo>
                    <a:lnTo>
                      <a:pt x="1" y="1281"/>
                    </a:lnTo>
                    <a:lnTo>
                      <a:pt x="1" y="1283"/>
                    </a:lnTo>
                    <a:lnTo>
                      <a:pt x="0" y="1284"/>
                    </a:lnTo>
                    <a:lnTo>
                      <a:pt x="0" y="1286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99360" y="304308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5" h="1284">
                    <a:moveTo>
                      <a:pt x="0" y="128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68"/>
                    </a:lnTo>
                    <a:lnTo>
                      <a:pt x="5" y="1270"/>
                    </a:lnTo>
                    <a:lnTo>
                      <a:pt x="4" y="1272"/>
                    </a:lnTo>
                    <a:lnTo>
                      <a:pt x="4" y="1275"/>
                    </a:lnTo>
                    <a:lnTo>
                      <a:pt x="3" y="1276"/>
                    </a:lnTo>
                    <a:lnTo>
                      <a:pt x="3" y="1278"/>
                    </a:lnTo>
                    <a:lnTo>
                      <a:pt x="2" y="1280"/>
                    </a:lnTo>
                    <a:lnTo>
                      <a:pt x="0" y="1282"/>
                    </a:lnTo>
                    <a:lnTo>
                      <a:pt x="0" y="1284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00800" y="3039840"/>
                <a:ext cx="1440" cy="509760"/>
              </a:xfrm>
              <a:custGeom>
                <a:avLst/>
                <a:gdLst/>
                <a:ahLst/>
                <a:rect l="l" t="t" r="r" b="b"/>
                <a:pathLst>
                  <a:path w="4" h="1282">
                    <a:moveTo>
                      <a:pt x="0" y="1282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66"/>
                    </a:lnTo>
                    <a:lnTo>
                      <a:pt x="4" y="1268"/>
                    </a:lnTo>
                    <a:lnTo>
                      <a:pt x="3" y="1270"/>
                    </a:lnTo>
                    <a:lnTo>
                      <a:pt x="3" y="1272"/>
                    </a:lnTo>
                    <a:lnTo>
                      <a:pt x="2" y="1274"/>
                    </a:lnTo>
                    <a:lnTo>
                      <a:pt x="2" y="1276"/>
                    </a:lnTo>
                    <a:lnTo>
                      <a:pt x="1" y="1278"/>
                    </a:lnTo>
                    <a:lnTo>
                      <a:pt x="1" y="1281"/>
                    </a:lnTo>
                    <a:lnTo>
                      <a:pt x="0" y="1282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400800" y="3038400"/>
                <a:ext cx="3240" cy="507960"/>
              </a:xfrm>
              <a:custGeom>
                <a:avLst/>
                <a:gdLst/>
                <a:ahLst/>
                <a:rect l="l" t="t" r="r" b="b"/>
                <a:pathLst>
                  <a:path w="5" h="1280">
                    <a:moveTo>
                      <a:pt x="0" y="1280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3"/>
                    </a:lnTo>
                    <a:lnTo>
                      <a:pt x="4" y="1265"/>
                    </a:lnTo>
                    <a:lnTo>
                      <a:pt x="4" y="1267"/>
                    </a:lnTo>
                    <a:lnTo>
                      <a:pt x="3" y="1269"/>
                    </a:lnTo>
                    <a:lnTo>
                      <a:pt x="2" y="1272"/>
                    </a:lnTo>
                    <a:lnTo>
                      <a:pt x="2" y="1274"/>
                    </a:lnTo>
                    <a:lnTo>
                      <a:pt x="1" y="1276"/>
                    </a:lnTo>
                    <a:lnTo>
                      <a:pt x="1" y="1278"/>
                    </a:lnTo>
                    <a:lnTo>
                      <a:pt x="0" y="1280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2240" y="3036960"/>
                <a:ext cx="1800" cy="506160"/>
              </a:xfrm>
              <a:custGeom>
                <a:avLst/>
                <a:gdLst/>
                <a:ahLst/>
                <a:rect l="l" t="t" r="r" b="b"/>
                <a:pathLst>
                  <a:path w="5" h="1277">
                    <a:moveTo>
                      <a:pt x="0" y="127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60"/>
                    </a:lnTo>
                    <a:lnTo>
                      <a:pt x="4" y="1262"/>
                    </a:lnTo>
                    <a:lnTo>
                      <a:pt x="4" y="1265"/>
                    </a:lnTo>
                    <a:lnTo>
                      <a:pt x="3" y="1266"/>
                    </a:lnTo>
                    <a:lnTo>
                      <a:pt x="3" y="1268"/>
                    </a:lnTo>
                    <a:lnTo>
                      <a:pt x="2" y="1270"/>
                    </a:lnTo>
                    <a:lnTo>
                      <a:pt x="2" y="1272"/>
                    </a:lnTo>
                    <a:lnTo>
                      <a:pt x="1" y="1274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e2b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04040" y="3033720"/>
                <a:ext cx="1440" cy="506520"/>
              </a:xfrm>
              <a:custGeom>
                <a:avLst/>
                <a:gdLst/>
                <a:ahLst/>
                <a:rect l="l" t="t" r="r" b="b"/>
                <a:pathLst>
                  <a:path w="5" h="1273">
                    <a:moveTo>
                      <a:pt x="0" y="1273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257"/>
                    </a:lnTo>
                    <a:lnTo>
                      <a:pt x="3" y="1259"/>
                    </a:lnTo>
                    <a:lnTo>
                      <a:pt x="3" y="1261"/>
                    </a:lnTo>
                    <a:lnTo>
                      <a:pt x="2" y="1263"/>
                    </a:lnTo>
                    <a:lnTo>
                      <a:pt x="2" y="1265"/>
                    </a:lnTo>
                    <a:lnTo>
                      <a:pt x="1" y="1267"/>
                    </a:lnTo>
                    <a:lnTo>
                      <a:pt x="1" y="1269"/>
                    </a:lnTo>
                    <a:lnTo>
                      <a:pt x="0" y="1271"/>
                    </a:lnTo>
                    <a:lnTo>
                      <a:pt x="0" y="1273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04040" y="3031920"/>
                <a:ext cx="1440" cy="505080"/>
              </a:xfrm>
              <a:custGeom>
                <a:avLst/>
                <a:gdLst/>
                <a:ahLst/>
                <a:rect l="l" t="t" r="r" b="b"/>
                <a:pathLst>
                  <a:path w="5" h="1272">
                    <a:moveTo>
                      <a:pt x="0" y="1272"/>
                    </a:move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54"/>
                    </a:lnTo>
                    <a:lnTo>
                      <a:pt x="5" y="1256"/>
                    </a:lnTo>
                    <a:lnTo>
                      <a:pt x="4" y="1258"/>
                    </a:lnTo>
                    <a:lnTo>
                      <a:pt x="4" y="1260"/>
                    </a:lnTo>
                    <a:lnTo>
                      <a:pt x="3" y="1263"/>
                    </a:lnTo>
                    <a:lnTo>
                      <a:pt x="1" y="1266"/>
                    </a:lnTo>
                    <a:lnTo>
                      <a:pt x="1" y="1268"/>
                    </a:lnTo>
                    <a:lnTo>
                      <a:pt x="0" y="1270"/>
                    </a:lnTo>
                    <a:lnTo>
                      <a:pt x="0" y="1272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05480" y="3029040"/>
                <a:ext cx="1800" cy="504720"/>
              </a:xfrm>
              <a:custGeom>
                <a:avLst/>
                <a:gdLst/>
                <a:ahLst/>
                <a:rect l="l" t="t" r="r" b="b"/>
                <a:pathLst>
                  <a:path w="4" h="1269">
                    <a:moveTo>
                      <a:pt x="0" y="126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50"/>
                    </a:lnTo>
                    <a:lnTo>
                      <a:pt x="4" y="1252"/>
                    </a:lnTo>
                    <a:lnTo>
                      <a:pt x="3" y="1255"/>
                    </a:lnTo>
                    <a:lnTo>
                      <a:pt x="3" y="1257"/>
                    </a:lnTo>
                    <a:lnTo>
                      <a:pt x="2" y="1259"/>
                    </a:lnTo>
                    <a:lnTo>
                      <a:pt x="2" y="1261"/>
                    </a:lnTo>
                    <a:lnTo>
                      <a:pt x="1" y="1264"/>
                    </a:lnTo>
                    <a:lnTo>
                      <a:pt x="1" y="1267"/>
                    </a:lnTo>
                    <a:lnTo>
                      <a:pt x="0" y="126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05480" y="3027240"/>
                <a:ext cx="3240" cy="501840"/>
              </a:xfrm>
              <a:custGeom>
                <a:avLst/>
                <a:gdLst/>
                <a:ahLst/>
                <a:rect l="l" t="t" r="r" b="b"/>
                <a:pathLst>
                  <a:path w="5" h="1265">
                    <a:moveTo>
                      <a:pt x="0" y="1265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8"/>
                    </a:lnTo>
                    <a:lnTo>
                      <a:pt x="4" y="1250"/>
                    </a:lnTo>
                    <a:lnTo>
                      <a:pt x="3" y="1252"/>
                    </a:lnTo>
                    <a:lnTo>
                      <a:pt x="3" y="1254"/>
                    </a:lnTo>
                    <a:lnTo>
                      <a:pt x="2" y="1256"/>
                    </a:lnTo>
                    <a:lnTo>
                      <a:pt x="2" y="1258"/>
                    </a:lnTo>
                    <a:lnTo>
                      <a:pt x="1" y="1261"/>
                    </a:lnTo>
                    <a:lnTo>
                      <a:pt x="1" y="1263"/>
                    </a:lnTo>
                    <a:lnTo>
                      <a:pt x="0" y="1265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7280" y="302580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5" h="1261">
                    <a:moveTo>
                      <a:pt x="0" y="1261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43"/>
                    </a:lnTo>
                    <a:lnTo>
                      <a:pt x="4" y="1245"/>
                    </a:lnTo>
                    <a:lnTo>
                      <a:pt x="4" y="1247"/>
                    </a:lnTo>
                    <a:lnTo>
                      <a:pt x="3" y="1251"/>
                    </a:lnTo>
                    <a:lnTo>
                      <a:pt x="3" y="1253"/>
                    </a:lnTo>
                    <a:lnTo>
                      <a:pt x="2" y="1255"/>
                    </a:lnTo>
                    <a:lnTo>
                      <a:pt x="1" y="1257"/>
                    </a:lnTo>
                    <a:lnTo>
                      <a:pt x="1" y="1259"/>
                    </a:lnTo>
                    <a:lnTo>
                      <a:pt x="0" y="1261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08720" y="302256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4" h="1259">
                    <a:moveTo>
                      <a:pt x="0" y="1259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239"/>
                    </a:lnTo>
                    <a:lnTo>
                      <a:pt x="3" y="1242"/>
                    </a:lnTo>
                    <a:lnTo>
                      <a:pt x="3" y="1245"/>
                    </a:lnTo>
                    <a:lnTo>
                      <a:pt x="2" y="1247"/>
                    </a:lnTo>
                    <a:lnTo>
                      <a:pt x="2" y="1249"/>
                    </a:lnTo>
                    <a:lnTo>
                      <a:pt x="1" y="1251"/>
                    </a:lnTo>
                    <a:lnTo>
                      <a:pt x="1" y="1254"/>
                    </a:lnTo>
                    <a:lnTo>
                      <a:pt x="0" y="1257"/>
                    </a:lnTo>
                    <a:lnTo>
                      <a:pt x="0" y="1259"/>
                    </a:lnTo>
                    <a:close/>
                  </a:path>
                </a:pathLst>
              </a:custGeom>
              <a:solidFill>
                <a:srgbClr val="e6bc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8720" y="3021120"/>
                <a:ext cx="1440" cy="496800"/>
              </a:xfrm>
              <a:custGeom>
                <a:avLst/>
                <a:gdLst/>
                <a:ahLst/>
                <a:rect l="l" t="t" r="r" b="b"/>
                <a:pathLst>
                  <a:path w="5" h="1254">
                    <a:moveTo>
                      <a:pt x="0" y="1254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36"/>
                    </a:lnTo>
                    <a:lnTo>
                      <a:pt x="4" y="1238"/>
                    </a:lnTo>
                    <a:lnTo>
                      <a:pt x="4" y="1240"/>
                    </a:lnTo>
                    <a:lnTo>
                      <a:pt x="2" y="1242"/>
                    </a:lnTo>
                    <a:lnTo>
                      <a:pt x="2" y="1244"/>
                    </a:lnTo>
                    <a:lnTo>
                      <a:pt x="1" y="1247"/>
                    </a:lnTo>
                    <a:lnTo>
                      <a:pt x="1" y="1250"/>
                    </a:lnTo>
                    <a:lnTo>
                      <a:pt x="0" y="1252"/>
                    </a:lnTo>
                    <a:lnTo>
                      <a:pt x="0" y="1254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0160" y="3017880"/>
                <a:ext cx="1800" cy="496800"/>
              </a:xfrm>
              <a:custGeom>
                <a:avLst/>
                <a:gdLst/>
                <a:ahLst/>
                <a:rect l="l" t="t" r="r" b="b"/>
                <a:pathLst>
                  <a:path w="5" h="1250">
                    <a:moveTo>
                      <a:pt x="0" y="1250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32"/>
                    </a:lnTo>
                    <a:lnTo>
                      <a:pt x="5" y="1234"/>
                    </a:lnTo>
                    <a:lnTo>
                      <a:pt x="4" y="1236"/>
                    </a:lnTo>
                    <a:lnTo>
                      <a:pt x="4" y="1238"/>
                    </a:lnTo>
                    <a:lnTo>
                      <a:pt x="3" y="1242"/>
                    </a:lnTo>
                    <a:lnTo>
                      <a:pt x="2" y="1244"/>
                    </a:lnTo>
                    <a:lnTo>
                      <a:pt x="2" y="1246"/>
                    </a:lnTo>
                    <a:lnTo>
                      <a:pt x="0" y="1248"/>
                    </a:lnTo>
                    <a:lnTo>
                      <a:pt x="0" y="1250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10160" y="3016080"/>
                <a:ext cx="1800" cy="495360"/>
              </a:xfrm>
              <a:custGeom>
                <a:avLst/>
                <a:gdLst/>
                <a:ahLst/>
                <a:rect l="l" t="t" r="r" b="b"/>
                <a:pathLst>
                  <a:path w="4" h="1248">
                    <a:moveTo>
                      <a:pt x="0" y="124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227"/>
                    </a:lnTo>
                    <a:lnTo>
                      <a:pt x="4" y="1230"/>
                    </a:lnTo>
                    <a:lnTo>
                      <a:pt x="3" y="1232"/>
                    </a:lnTo>
                    <a:lnTo>
                      <a:pt x="3" y="1235"/>
                    </a:lnTo>
                    <a:lnTo>
                      <a:pt x="2" y="1238"/>
                    </a:lnTo>
                    <a:lnTo>
                      <a:pt x="2" y="1240"/>
                    </a:lnTo>
                    <a:lnTo>
                      <a:pt x="1" y="1242"/>
                    </a:lnTo>
                    <a:lnTo>
                      <a:pt x="1" y="1244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11960" y="30146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5" h="1243">
                    <a:moveTo>
                      <a:pt x="0" y="1243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22"/>
                    </a:lnTo>
                    <a:lnTo>
                      <a:pt x="4" y="1225"/>
                    </a:lnTo>
                    <a:lnTo>
                      <a:pt x="3" y="1228"/>
                    </a:lnTo>
                    <a:lnTo>
                      <a:pt x="3" y="1230"/>
                    </a:lnTo>
                    <a:lnTo>
                      <a:pt x="2" y="1232"/>
                    </a:lnTo>
                    <a:lnTo>
                      <a:pt x="2" y="1235"/>
                    </a:lnTo>
                    <a:lnTo>
                      <a:pt x="1" y="1237"/>
                    </a:lnTo>
                    <a:lnTo>
                      <a:pt x="1" y="1240"/>
                    </a:lnTo>
                    <a:lnTo>
                      <a:pt x="0" y="124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1960" y="3011400"/>
                <a:ext cx="3240" cy="492120"/>
              </a:xfrm>
              <a:custGeom>
                <a:avLst/>
                <a:gdLst/>
                <a:ahLst/>
                <a:rect l="l" t="t" r="r" b="b"/>
                <a:pathLst>
                  <a:path w="5" h="1238">
                    <a:moveTo>
                      <a:pt x="0" y="1238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219"/>
                    </a:lnTo>
                    <a:lnTo>
                      <a:pt x="4" y="1221"/>
                    </a:lnTo>
                    <a:lnTo>
                      <a:pt x="4" y="1223"/>
                    </a:lnTo>
                    <a:lnTo>
                      <a:pt x="3" y="1226"/>
                    </a:lnTo>
                    <a:lnTo>
                      <a:pt x="3" y="1228"/>
                    </a:lnTo>
                    <a:lnTo>
                      <a:pt x="2" y="1231"/>
                    </a:lnTo>
                    <a:lnTo>
                      <a:pt x="1" y="1234"/>
                    </a:lnTo>
                    <a:lnTo>
                      <a:pt x="1" y="1236"/>
                    </a:lnTo>
                    <a:lnTo>
                      <a:pt x="0" y="1238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13400" y="300996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4" h="1233">
                    <a:moveTo>
                      <a:pt x="0" y="1233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1213"/>
                    </a:lnTo>
                    <a:lnTo>
                      <a:pt x="3" y="1215"/>
                    </a:lnTo>
                    <a:lnTo>
                      <a:pt x="3" y="1218"/>
                    </a:lnTo>
                    <a:lnTo>
                      <a:pt x="2" y="1220"/>
                    </a:lnTo>
                    <a:lnTo>
                      <a:pt x="2" y="1223"/>
                    </a:lnTo>
                    <a:lnTo>
                      <a:pt x="1" y="1226"/>
                    </a:lnTo>
                    <a:lnTo>
                      <a:pt x="1" y="1228"/>
                    </a:lnTo>
                    <a:lnTo>
                      <a:pt x="0" y="1231"/>
                    </a:lnTo>
                    <a:lnTo>
                      <a:pt x="0" y="1233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15200" y="3008160"/>
                <a:ext cx="1440" cy="487440"/>
              </a:xfrm>
              <a:custGeom>
                <a:avLst/>
                <a:gdLst/>
                <a:ahLst/>
                <a:rect l="l" t="t" r="r" b="b"/>
                <a:pathLst>
                  <a:path w="5" h="1229">
                    <a:moveTo>
                      <a:pt x="0" y="1229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207"/>
                    </a:lnTo>
                    <a:lnTo>
                      <a:pt x="5" y="1209"/>
                    </a:lnTo>
                    <a:lnTo>
                      <a:pt x="4" y="1212"/>
                    </a:lnTo>
                    <a:lnTo>
                      <a:pt x="2" y="1215"/>
                    </a:lnTo>
                    <a:lnTo>
                      <a:pt x="2" y="1218"/>
                    </a:lnTo>
                    <a:lnTo>
                      <a:pt x="1" y="1220"/>
                    </a:lnTo>
                    <a:lnTo>
                      <a:pt x="1" y="1223"/>
                    </a:lnTo>
                    <a:lnTo>
                      <a:pt x="0" y="1225"/>
                    </a:lnTo>
                    <a:lnTo>
                      <a:pt x="0" y="1229"/>
                    </a:lnTo>
                    <a:close/>
                  </a:path>
                </a:pathLst>
              </a:custGeom>
              <a:solidFill>
                <a:srgbClr val="e6bc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15200" y="3004920"/>
                <a:ext cx="1440" cy="486000"/>
              </a:xfrm>
              <a:custGeom>
                <a:avLst/>
                <a:gdLst/>
                <a:ahLst/>
                <a:rect l="l" t="t" r="r" b="b"/>
                <a:pathLst>
                  <a:path w="5" h="1225">
                    <a:moveTo>
                      <a:pt x="0" y="1225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1203"/>
                    </a:lnTo>
                    <a:lnTo>
                      <a:pt x="5" y="1205"/>
                    </a:lnTo>
                    <a:lnTo>
                      <a:pt x="4" y="1209"/>
                    </a:lnTo>
                    <a:lnTo>
                      <a:pt x="4" y="1211"/>
                    </a:lnTo>
                    <a:lnTo>
                      <a:pt x="3" y="1214"/>
                    </a:lnTo>
                    <a:lnTo>
                      <a:pt x="3" y="1216"/>
                    </a:lnTo>
                    <a:lnTo>
                      <a:pt x="2" y="1219"/>
                    </a:lnTo>
                    <a:lnTo>
                      <a:pt x="0" y="1222"/>
                    </a:lnTo>
                    <a:lnTo>
                      <a:pt x="0" y="1225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6640" y="3003480"/>
                <a:ext cx="1800" cy="484200"/>
              </a:xfrm>
              <a:custGeom>
                <a:avLst/>
                <a:gdLst/>
                <a:ahLst/>
                <a:rect l="l" t="t" r="r" b="b"/>
                <a:pathLst>
                  <a:path w="4" h="1219">
                    <a:moveTo>
                      <a:pt x="0" y="1219"/>
                    </a:move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1196"/>
                    </a:lnTo>
                    <a:lnTo>
                      <a:pt x="4" y="1200"/>
                    </a:lnTo>
                    <a:lnTo>
                      <a:pt x="3" y="1202"/>
                    </a:lnTo>
                    <a:lnTo>
                      <a:pt x="3" y="1205"/>
                    </a:lnTo>
                    <a:lnTo>
                      <a:pt x="2" y="1208"/>
                    </a:lnTo>
                    <a:lnTo>
                      <a:pt x="2" y="1210"/>
                    </a:lnTo>
                    <a:lnTo>
                      <a:pt x="1" y="1214"/>
                    </a:lnTo>
                    <a:lnTo>
                      <a:pt x="1" y="1216"/>
                    </a:lnTo>
                    <a:lnTo>
                      <a:pt x="0" y="1219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6640" y="3000240"/>
                <a:ext cx="3240" cy="482760"/>
              </a:xfrm>
              <a:custGeom>
                <a:avLst/>
                <a:gdLst/>
                <a:ahLst/>
                <a:rect l="l" t="t" r="r" b="b"/>
                <a:pathLst>
                  <a:path w="5" h="1214">
                    <a:moveTo>
                      <a:pt x="0" y="1214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92"/>
                    </a:lnTo>
                    <a:lnTo>
                      <a:pt x="4" y="1194"/>
                    </a:lnTo>
                    <a:lnTo>
                      <a:pt x="3" y="1197"/>
                    </a:lnTo>
                    <a:lnTo>
                      <a:pt x="3" y="1200"/>
                    </a:lnTo>
                    <a:lnTo>
                      <a:pt x="2" y="1202"/>
                    </a:lnTo>
                    <a:lnTo>
                      <a:pt x="2" y="1206"/>
                    </a:lnTo>
                    <a:lnTo>
                      <a:pt x="1" y="1208"/>
                    </a:lnTo>
                    <a:lnTo>
                      <a:pt x="1" y="1211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18440" y="2998800"/>
                <a:ext cx="1440" cy="479520"/>
              </a:xfrm>
              <a:custGeom>
                <a:avLst/>
                <a:gdLst/>
                <a:ahLst/>
                <a:rect l="l" t="t" r="r" b="b"/>
                <a:pathLst>
                  <a:path w="5" h="1207">
                    <a:moveTo>
                      <a:pt x="0" y="1207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1185"/>
                    </a:lnTo>
                    <a:lnTo>
                      <a:pt x="4" y="1187"/>
                    </a:lnTo>
                    <a:lnTo>
                      <a:pt x="4" y="1190"/>
                    </a:lnTo>
                    <a:lnTo>
                      <a:pt x="3" y="1193"/>
                    </a:lnTo>
                    <a:lnTo>
                      <a:pt x="3" y="1197"/>
                    </a:lnTo>
                    <a:lnTo>
                      <a:pt x="2" y="1199"/>
                    </a:lnTo>
                    <a:lnTo>
                      <a:pt x="1" y="1202"/>
                    </a:lnTo>
                    <a:lnTo>
                      <a:pt x="1" y="1205"/>
                    </a:lnTo>
                    <a:lnTo>
                      <a:pt x="0" y="1207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19880" y="2997000"/>
                <a:ext cx="1440" cy="476280"/>
              </a:xfrm>
              <a:custGeom>
                <a:avLst/>
                <a:gdLst/>
                <a:ahLst/>
                <a:rect l="l" t="t" r="r" b="b"/>
                <a:pathLst>
                  <a:path w="5" h="1202">
                    <a:moveTo>
                      <a:pt x="0" y="120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1177"/>
                    </a:lnTo>
                    <a:lnTo>
                      <a:pt x="3" y="1180"/>
                    </a:lnTo>
                    <a:lnTo>
                      <a:pt x="3" y="1183"/>
                    </a:lnTo>
                    <a:lnTo>
                      <a:pt x="2" y="1186"/>
                    </a:lnTo>
                    <a:lnTo>
                      <a:pt x="2" y="1190"/>
                    </a:lnTo>
                    <a:lnTo>
                      <a:pt x="1" y="1192"/>
                    </a:lnTo>
                    <a:lnTo>
                      <a:pt x="1" y="1195"/>
                    </a:lnTo>
                    <a:lnTo>
                      <a:pt x="0" y="1198"/>
                    </a:lnTo>
                    <a:lnTo>
                      <a:pt x="0" y="1202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19880" y="2994120"/>
                <a:ext cx="1440" cy="474480"/>
              </a:xfrm>
              <a:custGeom>
                <a:avLst/>
                <a:gdLst/>
                <a:ahLst/>
                <a:rect l="l" t="t" r="r" b="b"/>
                <a:pathLst>
                  <a:path w="5" h="1196">
                    <a:moveTo>
                      <a:pt x="0" y="1196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171"/>
                    </a:lnTo>
                    <a:lnTo>
                      <a:pt x="5" y="1174"/>
                    </a:lnTo>
                    <a:lnTo>
                      <a:pt x="4" y="1177"/>
                    </a:lnTo>
                    <a:lnTo>
                      <a:pt x="3" y="1181"/>
                    </a:lnTo>
                    <a:lnTo>
                      <a:pt x="3" y="1183"/>
                    </a:lnTo>
                    <a:lnTo>
                      <a:pt x="1" y="1186"/>
                    </a:lnTo>
                    <a:lnTo>
                      <a:pt x="1" y="1189"/>
                    </a:lnTo>
                    <a:lnTo>
                      <a:pt x="0" y="1192"/>
                    </a:lnTo>
                    <a:lnTo>
                      <a:pt x="0" y="1196"/>
                    </a:lnTo>
                    <a:close/>
                  </a:path>
                </a:pathLst>
              </a:custGeom>
              <a:solidFill>
                <a:srgbClr val="e8be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21320" y="2992320"/>
                <a:ext cx="1800" cy="471600"/>
              </a:xfrm>
              <a:custGeom>
                <a:avLst/>
                <a:gdLst/>
                <a:ahLst/>
                <a:rect l="l" t="t" r="r" b="b"/>
                <a:pathLst>
                  <a:path w="4" h="1188">
                    <a:moveTo>
                      <a:pt x="0" y="1188"/>
                    </a:moveTo>
                    <a:lnTo>
                      <a:pt x="0" y="11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63"/>
                    </a:lnTo>
                    <a:lnTo>
                      <a:pt x="4" y="1166"/>
                    </a:lnTo>
                    <a:lnTo>
                      <a:pt x="3" y="1169"/>
                    </a:lnTo>
                    <a:lnTo>
                      <a:pt x="3" y="1173"/>
                    </a:lnTo>
                    <a:lnTo>
                      <a:pt x="2" y="1176"/>
                    </a:lnTo>
                    <a:lnTo>
                      <a:pt x="2" y="1179"/>
                    </a:lnTo>
                    <a:lnTo>
                      <a:pt x="1" y="1182"/>
                    </a:lnTo>
                    <a:lnTo>
                      <a:pt x="0" y="1186"/>
                    </a:lnTo>
                    <a:lnTo>
                      <a:pt x="0" y="118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21320" y="2990880"/>
                <a:ext cx="1800" cy="468360"/>
              </a:xfrm>
              <a:custGeom>
                <a:avLst/>
                <a:gdLst/>
                <a:ahLst/>
                <a:rect l="l" t="t" r="r" b="b"/>
                <a:pathLst>
                  <a:path w="4" h="1182">
                    <a:moveTo>
                      <a:pt x="0" y="1182"/>
                    </a:moveTo>
                    <a:lnTo>
                      <a:pt x="0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156"/>
                    </a:lnTo>
                    <a:lnTo>
                      <a:pt x="4" y="1159"/>
                    </a:lnTo>
                    <a:lnTo>
                      <a:pt x="3" y="1162"/>
                    </a:lnTo>
                    <a:lnTo>
                      <a:pt x="3" y="1166"/>
                    </a:lnTo>
                    <a:lnTo>
                      <a:pt x="2" y="1169"/>
                    </a:lnTo>
                    <a:lnTo>
                      <a:pt x="2" y="1172"/>
                    </a:lnTo>
                    <a:lnTo>
                      <a:pt x="1" y="1175"/>
                    </a:lnTo>
                    <a:lnTo>
                      <a:pt x="1" y="1179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23120" y="2987640"/>
                <a:ext cx="1440" cy="466560"/>
              </a:xfrm>
              <a:custGeom>
                <a:avLst/>
                <a:gdLst/>
                <a:ahLst/>
                <a:rect l="l" t="t" r="r" b="b"/>
                <a:pathLst>
                  <a:path w="5" h="1175">
                    <a:moveTo>
                      <a:pt x="0" y="1175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1149"/>
                    </a:lnTo>
                    <a:lnTo>
                      <a:pt x="4" y="1152"/>
                    </a:lnTo>
                    <a:lnTo>
                      <a:pt x="4" y="1155"/>
                    </a:lnTo>
                    <a:lnTo>
                      <a:pt x="3" y="1159"/>
                    </a:lnTo>
                    <a:lnTo>
                      <a:pt x="2" y="1162"/>
                    </a:lnTo>
                    <a:lnTo>
                      <a:pt x="2" y="1165"/>
                    </a:lnTo>
                    <a:lnTo>
                      <a:pt x="1" y="1168"/>
                    </a:lnTo>
                    <a:lnTo>
                      <a:pt x="1" y="1172"/>
                    </a:lnTo>
                    <a:lnTo>
                      <a:pt x="0" y="1175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23120" y="2986200"/>
                <a:ext cx="3240" cy="461880"/>
              </a:xfrm>
              <a:custGeom>
                <a:avLst/>
                <a:gdLst/>
                <a:ahLst/>
                <a:rect l="l" t="t" r="r" b="b"/>
                <a:pathLst>
                  <a:path w="5" h="1168">
                    <a:moveTo>
                      <a:pt x="0" y="1168"/>
                    </a:move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0"/>
                    </a:lnTo>
                    <a:lnTo>
                      <a:pt x="5" y="1141"/>
                    </a:lnTo>
                    <a:lnTo>
                      <a:pt x="4" y="1144"/>
                    </a:lnTo>
                    <a:lnTo>
                      <a:pt x="4" y="1147"/>
                    </a:lnTo>
                    <a:lnTo>
                      <a:pt x="3" y="1151"/>
                    </a:lnTo>
                    <a:lnTo>
                      <a:pt x="3" y="1154"/>
                    </a:lnTo>
                    <a:lnTo>
                      <a:pt x="2" y="1158"/>
                    </a:lnTo>
                    <a:lnTo>
                      <a:pt x="2" y="1161"/>
                    </a:lnTo>
                    <a:lnTo>
                      <a:pt x="1" y="1165"/>
                    </a:lnTo>
                    <a:lnTo>
                      <a:pt x="0" y="1168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24560" y="2982960"/>
                <a:ext cx="1800" cy="460440"/>
              </a:xfrm>
              <a:custGeom>
                <a:avLst/>
                <a:gdLst/>
                <a:ahLst/>
                <a:rect l="l" t="t" r="r" b="b"/>
                <a:pathLst>
                  <a:path w="5" h="1160">
                    <a:moveTo>
                      <a:pt x="0" y="1160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1131"/>
                    </a:lnTo>
                    <a:lnTo>
                      <a:pt x="3" y="1134"/>
                    </a:lnTo>
                    <a:lnTo>
                      <a:pt x="3" y="1138"/>
                    </a:lnTo>
                    <a:lnTo>
                      <a:pt x="2" y="1142"/>
                    </a:lnTo>
                    <a:lnTo>
                      <a:pt x="2" y="1145"/>
                    </a:lnTo>
                    <a:lnTo>
                      <a:pt x="1" y="1149"/>
                    </a:lnTo>
                    <a:lnTo>
                      <a:pt x="1" y="1152"/>
                    </a:lnTo>
                    <a:lnTo>
                      <a:pt x="0" y="1156"/>
                    </a:lnTo>
                    <a:lnTo>
                      <a:pt x="0" y="1160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26360" y="2982960"/>
                <a:ext cx="1440" cy="455400"/>
              </a:xfrm>
              <a:custGeom>
                <a:avLst/>
                <a:gdLst/>
                <a:ahLst/>
                <a:rect l="l" t="t" r="r" b="b"/>
                <a:pathLst>
                  <a:path w="5" h="1146">
                    <a:moveTo>
                      <a:pt x="0" y="1146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117"/>
                    </a:lnTo>
                    <a:lnTo>
                      <a:pt x="5" y="1120"/>
                    </a:lnTo>
                    <a:lnTo>
                      <a:pt x="4" y="1123"/>
                    </a:lnTo>
                    <a:lnTo>
                      <a:pt x="4" y="1128"/>
                    </a:lnTo>
                    <a:lnTo>
                      <a:pt x="3" y="1131"/>
                    </a:lnTo>
                    <a:lnTo>
                      <a:pt x="1" y="1135"/>
                    </a:lnTo>
                    <a:lnTo>
                      <a:pt x="1" y="1138"/>
                    </a:lnTo>
                    <a:lnTo>
                      <a:pt x="0" y="1142"/>
                    </a:lnTo>
                    <a:lnTo>
                      <a:pt x="0" y="1146"/>
                    </a:lnTo>
                    <a:close/>
                  </a:path>
                </a:pathLst>
              </a:custGeom>
              <a:solidFill>
                <a:srgbClr val="e8b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26360" y="2982960"/>
                <a:ext cx="1440" cy="449280"/>
              </a:xfrm>
              <a:custGeom>
                <a:avLst/>
                <a:gdLst/>
                <a:ahLst/>
                <a:rect l="l" t="t" r="r" b="b"/>
                <a:pathLst>
                  <a:path w="4" h="1131">
                    <a:moveTo>
                      <a:pt x="0" y="1131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2" y="18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4" y="32"/>
                    </a:lnTo>
                    <a:lnTo>
                      <a:pt x="4" y="38"/>
                    </a:lnTo>
                    <a:lnTo>
                      <a:pt x="4" y="1101"/>
                    </a:lnTo>
                    <a:lnTo>
                      <a:pt x="4" y="1105"/>
                    </a:lnTo>
                    <a:lnTo>
                      <a:pt x="3" y="1108"/>
                    </a:lnTo>
                    <a:lnTo>
                      <a:pt x="3" y="1112"/>
                    </a:lnTo>
                    <a:lnTo>
                      <a:pt x="2" y="1116"/>
                    </a:lnTo>
                    <a:lnTo>
                      <a:pt x="2" y="1120"/>
                    </a:lnTo>
                    <a:lnTo>
                      <a:pt x="1" y="1123"/>
                    </a:lnTo>
                    <a:lnTo>
                      <a:pt x="0" y="1128"/>
                    </a:lnTo>
                    <a:lnTo>
                      <a:pt x="0" y="1131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27800" y="2990880"/>
                <a:ext cx="1440" cy="434880"/>
              </a:xfrm>
              <a:custGeom>
                <a:avLst/>
                <a:gdLst/>
                <a:ahLst/>
                <a:rect l="l" t="t" r="r" b="b"/>
                <a:pathLst>
                  <a:path w="4" h="1100">
                    <a:moveTo>
                      <a:pt x="0" y="1100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21"/>
                    </a:lnTo>
                    <a:lnTo>
                      <a:pt x="3" y="26"/>
                    </a:lnTo>
                    <a:lnTo>
                      <a:pt x="3" y="32"/>
                    </a:lnTo>
                    <a:lnTo>
                      <a:pt x="4" y="36"/>
                    </a:lnTo>
                    <a:lnTo>
                      <a:pt x="4" y="41"/>
                    </a:lnTo>
                    <a:lnTo>
                      <a:pt x="4" y="1067"/>
                    </a:lnTo>
                    <a:lnTo>
                      <a:pt x="4" y="1072"/>
                    </a:lnTo>
                    <a:lnTo>
                      <a:pt x="3" y="1076"/>
                    </a:lnTo>
                    <a:lnTo>
                      <a:pt x="3" y="1079"/>
                    </a:lnTo>
                    <a:lnTo>
                      <a:pt x="2" y="1084"/>
                    </a:lnTo>
                    <a:lnTo>
                      <a:pt x="2" y="1088"/>
                    </a:lnTo>
                    <a:lnTo>
                      <a:pt x="1" y="1091"/>
                    </a:lnTo>
                    <a:lnTo>
                      <a:pt x="1" y="1095"/>
                    </a:lnTo>
                    <a:lnTo>
                      <a:pt x="0" y="1100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27800" y="2998800"/>
                <a:ext cx="3240" cy="420480"/>
              </a:xfrm>
              <a:custGeom>
                <a:avLst/>
                <a:gdLst/>
                <a:ahLst/>
                <a:rect l="l" t="t" r="r" b="b"/>
                <a:pathLst>
                  <a:path w="5" h="1063">
                    <a:moveTo>
                      <a:pt x="0" y="1063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1" y="11"/>
                    </a:lnTo>
                    <a:lnTo>
                      <a:pt x="2" y="16"/>
                    </a:lnTo>
                    <a:lnTo>
                      <a:pt x="3" y="20"/>
                    </a:lnTo>
                    <a:lnTo>
                      <a:pt x="3" y="26"/>
                    </a:lnTo>
                    <a:lnTo>
                      <a:pt x="4" y="31"/>
                    </a:lnTo>
                    <a:lnTo>
                      <a:pt x="4" y="37"/>
                    </a:lnTo>
                    <a:lnTo>
                      <a:pt x="5" y="42"/>
                    </a:lnTo>
                    <a:lnTo>
                      <a:pt x="5" y="1030"/>
                    </a:lnTo>
                    <a:lnTo>
                      <a:pt x="4" y="1033"/>
                    </a:lnTo>
                    <a:lnTo>
                      <a:pt x="4" y="1038"/>
                    </a:lnTo>
                    <a:lnTo>
                      <a:pt x="3" y="1042"/>
                    </a:lnTo>
                    <a:lnTo>
                      <a:pt x="3" y="1046"/>
                    </a:lnTo>
                    <a:lnTo>
                      <a:pt x="2" y="1051"/>
                    </a:lnTo>
                    <a:lnTo>
                      <a:pt x="1" y="1054"/>
                    </a:lnTo>
                    <a:lnTo>
                      <a:pt x="1" y="1058"/>
                    </a:lnTo>
                    <a:lnTo>
                      <a:pt x="0" y="1063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29240" y="3006720"/>
                <a:ext cx="1800" cy="406440"/>
              </a:xfrm>
              <a:custGeom>
                <a:avLst/>
                <a:gdLst/>
                <a:ahLst/>
                <a:rect l="l" t="t" r="r" b="b"/>
                <a:pathLst>
                  <a:path w="5" h="1026">
                    <a:moveTo>
                      <a:pt x="0" y="1026"/>
                    </a:moveTo>
                    <a:lnTo>
                      <a:pt x="0" y="0"/>
                    </a:lnTo>
                    <a:lnTo>
                      <a:pt x="1" y="6"/>
                    </a:lnTo>
                    <a:lnTo>
                      <a:pt x="2" y="11"/>
                    </a:lnTo>
                    <a:lnTo>
                      <a:pt x="2" y="17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5" y="44"/>
                    </a:lnTo>
                    <a:lnTo>
                      <a:pt x="5" y="993"/>
                    </a:lnTo>
                    <a:lnTo>
                      <a:pt x="4" y="996"/>
                    </a:lnTo>
                    <a:lnTo>
                      <a:pt x="4" y="1000"/>
                    </a:lnTo>
                    <a:lnTo>
                      <a:pt x="3" y="1005"/>
                    </a:lnTo>
                    <a:lnTo>
                      <a:pt x="3" y="1009"/>
                    </a:lnTo>
                    <a:lnTo>
                      <a:pt x="2" y="1013"/>
                    </a:lnTo>
                    <a:lnTo>
                      <a:pt x="2" y="1018"/>
                    </a:lnTo>
                    <a:lnTo>
                      <a:pt x="1" y="1022"/>
                    </a:lnTo>
                    <a:lnTo>
                      <a:pt x="0" y="102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31040" y="3014640"/>
                <a:ext cx="1440" cy="392040"/>
              </a:xfrm>
              <a:custGeom>
                <a:avLst/>
                <a:gdLst/>
                <a:ahLst/>
                <a:rect l="l" t="t" r="r" b="b"/>
                <a:pathLst>
                  <a:path w="5" h="988">
                    <a:moveTo>
                      <a:pt x="0" y="988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2" y="28"/>
                    </a:lnTo>
                    <a:lnTo>
                      <a:pt x="4" y="33"/>
                    </a:lnTo>
                    <a:lnTo>
                      <a:pt x="4" y="40"/>
                    </a:lnTo>
                    <a:lnTo>
                      <a:pt x="5" y="45"/>
                    </a:lnTo>
                    <a:lnTo>
                      <a:pt x="5" y="951"/>
                    </a:lnTo>
                    <a:lnTo>
                      <a:pt x="4" y="957"/>
                    </a:lnTo>
                    <a:lnTo>
                      <a:pt x="4" y="961"/>
                    </a:lnTo>
                    <a:lnTo>
                      <a:pt x="2" y="965"/>
                    </a:lnTo>
                    <a:lnTo>
                      <a:pt x="2" y="970"/>
                    </a:lnTo>
                    <a:lnTo>
                      <a:pt x="1" y="974"/>
                    </a:lnTo>
                    <a:lnTo>
                      <a:pt x="1" y="978"/>
                    </a:lnTo>
                    <a:lnTo>
                      <a:pt x="0" y="984"/>
                    </a:lnTo>
                    <a:lnTo>
                      <a:pt x="0" y="988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31040" y="302400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5" h="949">
                    <a:moveTo>
                      <a:pt x="0" y="94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2" y="18"/>
                    </a:lnTo>
                    <a:lnTo>
                      <a:pt x="3" y="23"/>
                    </a:lnTo>
                    <a:lnTo>
                      <a:pt x="4" y="30"/>
                    </a:lnTo>
                    <a:lnTo>
                      <a:pt x="4" y="35"/>
                    </a:lnTo>
                    <a:lnTo>
                      <a:pt x="5" y="42"/>
                    </a:lnTo>
                    <a:lnTo>
                      <a:pt x="5" y="47"/>
                    </a:lnTo>
                    <a:lnTo>
                      <a:pt x="5" y="911"/>
                    </a:lnTo>
                    <a:lnTo>
                      <a:pt x="5" y="915"/>
                    </a:lnTo>
                    <a:lnTo>
                      <a:pt x="4" y="920"/>
                    </a:lnTo>
                    <a:lnTo>
                      <a:pt x="4" y="925"/>
                    </a:lnTo>
                    <a:lnTo>
                      <a:pt x="3" y="929"/>
                    </a:lnTo>
                    <a:lnTo>
                      <a:pt x="2" y="934"/>
                    </a:lnTo>
                    <a:lnTo>
                      <a:pt x="2" y="939"/>
                    </a:lnTo>
                    <a:lnTo>
                      <a:pt x="0" y="943"/>
                    </a:lnTo>
                    <a:lnTo>
                      <a:pt x="0" y="949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32480" y="3033720"/>
                <a:ext cx="1800" cy="358560"/>
              </a:xfrm>
              <a:custGeom>
                <a:avLst/>
                <a:gdLst/>
                <a:ahLst/>
                <a:rect l="l" t="t" r="r" b="b"/>
                <a:pathLst>
                  <a:path w="4" h="906">
                    <a:moveTo>
                      <a:pt x="0" y="906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2" y="19"/>
                    </a:lnTo>
                    <a:lnTo>
                      <a:pt x="2" y="25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49"/>
                    </a:lnTo>
                    <a:lnTo>
                      <a:pt x="4" y="866"/>
                    </a:lnTo>
                    <a:lnTo>
                      <a:pt x="4" y="872"/>
                    </a:lnTo>
                    <a:lnTo>
                      <a:pt x="3" y="877"/>
                    </a:lnTo>
                    <a:lnTo>
                      <a:pt x="3" y="882"/>
                    </a:lnTo>
                    <a:lnTo>
                      <a:pt x="2" y="887"/>
                    </a:lnTo>
                    <a:lnTo>
                      <a:pt x="2" y="892"/>
                    </a:lnTo>
                    <a:lnTo>
                      <a:pt x="1" y="897"/>
                    </a:lnTo>
                    <a:lnTo>
                      <a:pt x="1" y="902"/>
                    </a:lnTo>
                    <a:lnTo>
                      <a:pt x="0" y="906"/>
                    </a:lnTo>
                    <a:close/>
                  </a:path>
                </a:pathLst>
              </a:custGeom>
              <a:solidFill>
                <a:srgbClr val="ecc0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32480" y="3043080"/>
                <a:ext cx="1800" cy="343080"/>
              </a:xfrm>
              <a:custGeom>
                <a:avLst/>
                <a:gdLst/>
                <a:ahLst/>
                <a:rect l="l" t="t" r="r" b="b"/>
                <a:pathLst>
                  <a:path w="4" h="864">
                    <a:moveTo>
                      <a:pt x="0" y="864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2" y="20"/>
                    </a:lnTo>
                    <a:lnTo>
                      <a:pt x="2" y="26"/>
                    </a:lnTo>
                    <a:lnTo>
                      <a:pt x="3" y="32"/>
                    </a:lnTo>
                    <a:lnTo>
                      <a:pt x="3" y="39"/>
                    </a:lnTo>
                    <a:lnTo>
                      <a:pt x="4" y="45"/>
                    </a:lnTo>
                    <a:lnTo>
                      <a:pt x="4" y="52"/>
                    </a:lnTo>
                    <a:lnTo>
                      <a:pt x="4" y="822"/>
                    </a:lnTo>
                    <a:lnTo>
                      <a:pt x="4" y="826"/>
                    </a:lnTo>
                    <a:lnTo>
                      <a:pt x="3" y="832"/>
                    </a:lnTo>
                    <a:lnTo>
                      <a:pt x="3" y="837"/>
                    </a:lnTo>
                    <a:lnTo>
                      <a:pt x="2" y="842"/>
                    </a:lnTo>
                    <a:lnTo>
                      <a:pt x="2" y="848"/>
                    </a:lnTo>
                    <a:lnTo>
                      <a:pt x="1" y="853"/>
                    </a:lnTo>
                    <a:lnTo>
                      <a:pt x="1" y="859"/>
                    </a:lnTo>
                    <a:lnTo>
                      <a:pt x="0" y="864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34280" y="3052800"/>
                <a:ext cx="1440" cy="323640"/>
              </a:xfrm>
              <a:custGeom>
                <a:avLst/>
                <a:gdLst/>
                <a:ahLst/>
                <a:rect l="l" t="t" r="r" b="b"/>
                <a:pathLst>
                  <a:path w="5" h="817">
                    <a:moveTo>
                      <a:pt x="0" y="817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1" y="14"/>
                    </a:lnTo>
                    <a:lnTo>
                      <a:pt x="2" y="20"/>
                    </a:lnTo>
                    <a:lnTo>
                      <a:pt x="3" y="28"/>
                    </a:lnTo>
                    <a:lnTo>
                      <a:pt x="3" y="34"/>
                    </a:lnTo>
                    <a:lnTo>
                      <a:pt x="4" y="41"/>
                    </a:lnTo>
                    <a:lnTo>
                      <a:pt x="4" y="49"/>
                    </a:lnTo>
                    <a:lnTo>
                      <a:pt x="5" y="55"/>
                    </a:lnTo>
                    <a:lnTo>
                      <a:pt x="5" y="772"/>
                    </a:lnTo>
                    <a:lnTo>
                      <a:pt x="4" y="779"/>
                    </a:lnTo>
                    <a:lnTo>
                      <a:pt x="4" y="784"/>
                    </a:lnTo>
                    <a:lnTo>
                      <a:pt x="3" y="789"/>
                    </a:lnTo>
                    <a:lnTo>
                      <a:pt x="3" y="795"/>
                    </a:lnTo>
                    <a:lnTo>
                      <a:pt x="2" y="801"/>
                    </a:lnTo>
                    <a:lnTo>
                      <a:pt x="1" y="807"/>
                    </a:lnTo>
                    <a:lnTo>
                      <a:pt x="1" y="812"/>
                    </a:lnTo>
                    <a:lnTo>
                      <a:pt x="0" y="8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34280" y="3062160"/>
                <a:ext cx="2880" cy="306360"/>
              </a:xfrm>
              <a:custGeom>
                <a:avLst/>
                <a:gdLst/>
                <a:ahLst/>
                <a:rect l="l" t="t" r="r" b="b"/>
                <a:pathLst>
                  <a:path w="5" h="770">
                    <a:moveTo>
                      <a:pt x="0" y="770"/>
                    </a:moveTo>
                    <a:lnTo>
                      <a:pt x="0" y="0"/>
                    </a:lnTo>
                    <a:lnTo>
                      <a:pt x="1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3" y="29"/>
                    </a:lnTo>
                    <a:lnTo>
                      <a:pt x="3" y="37"/>
                    </a:lnTo>
                    <a:lnTo>
                      <a:pt x="4" y="44"/>
                    </a:lnTo>
                    <a:lnTo>
                      <a:pt x="4" y="51"/>
                    </a:lnTo>
                    <a:lnTo>
                      <a:pt x="5" y="58"/>
                    </a:lnTo>
                    <a:lnTo>
                      <a:pt x="5" y="720"/>
                    </a:lnTo>
                    <a:lnTo>
                      <a:pt x="4" y="727"/>
                    </a:lnTo>
                    <a:lnTo>
                      <a:pt x="4" y="732"/>
                    </a:lnTo>
                    <a:lnTo>
                      <a:pt x="3" y="739"/>
                    </a:lnTo>
                    <a:lnTo>
                      <a:pt x="3" y="745"/>
                    </a:lnTo>
                    <a:lnTo>
                      <a:pt x="2" y="751"/>
                    </a:lnTo>
                    <a:lnTo>
                      <a:pt x="2" y="757"/>
                    </a:lnTo>
                    <a:lnTo>
                      <a:pt x="1" y="763"/>
                    </a:lnTo>
                    <a:lnTo>
                      <a:pt x="0" y="770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35720" y="3074760"/>
                <a:ext cx="1440" cy="284400"/>
              </a:xfrm>
              <a:custGeom>
                <a:avLst/>
                <a:gdLst/>
                <a:ahLst/>
                <a:rect l="l" t="t" r="r" b="b"/>
                <a:pathLst>
                  <a:path w="5" h="717">
                    <a:moveTo>
                      <a:pt x="0" y="71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" y="16"/>
                    </a:lnTo>
                    <a:lnTo>
                      <a:pt x="1" y="24"/>
                    </a:lnTo>
                    <a:lnTo>
                      <a:pt x="2" y="31"/>
                    </a:lnTo>
                    <a:lnTo>
                      <a:pt x="2" y="40"/>
                    </a:lnTo>
                    <a:lnTo>
                      <a:pt x="4" y="48"/>
                    </a:lnTo>
                    <a:lnTo>
                      <a:pt x="5" y="55"/>
                    </a:lnTo>
                    <a:lnTo>
                      <a:pt x="5" y="63"/>
                    </a:lnTo>
                    <a:lnTo>
                      <a:pt x="5" y="664"/>
                    </a:lnTo>
                    <a:lnTo>
                      <a:pt x="5" y="671"/>
                    </a:lnTo>
                    <a:lnTo>
                      <a:pt x="4" y="678"/>
                    </a:lnTo>
                    <a:lnTo>
                      <a:pt x="2" y="685"/>
                    </a:lnTo>
                    <a:lnTo>
                      <a:pt x="2" y="691"/>
                    </a:lnTo>
                    <a:lnTo>
                      <a:pt x="1" y="698"/>
                    </a:lnTo>
                    <a:lnTo>
                      <a:pt x="1" y="704"/>
                    </a:lnTo>
                    <a:lnTo>
                      <a:pt x="0" y="711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37160" y="3085920"/>
                <a:ext cx="1800" cy="263520"/>
              </a:xfrm>
              <a:custGeom>
                <a:avLst/>
                <a:gdLst/>
                <a:ahLst/>
                <a:rect l="l" t="t" r="r" b="b"/>
                <a:pathLst>
                  <a:path w="5" h="662">
                    <a:moveTo>
                      <a:pt x="0" y="662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2" y="18"/>
                    </a:lnTo>
                    <a:lnTo>
                      <a:pt x="3" y="26"/>
                    </a:lnTo>
                    <a:lnTo>
                      <a:pt x="3" y="35"/>
                    </a:lnTo>
                    <a:lnTo>
                      <a:pt x="4" y="43"/>
                    </a:lnTo>
                    <a:lnTo>
                      <a:pt x="4" y="52"/>
                    </a:lnTo>
                    <a:lnTo>
                      <a:pt x="5" y="61"/>
                    </a:lnTo>
                    <a:lnTo>
                      <a:pt x="5" y="69"/>
                    </a:lnTo>
                    <a:lnTo>
                      <a:pt x="5" y="603"/>
                    </a:lnTo>
                    <a:lnTo>
                      <a:pt x="5" y="610"/>
                    </a:lnTo>
                    <a:lnTo>
                      <a:pt x="4" y="618"/>
                    </a:lnTo>
                    <a:lnTo>
                      <a:pt x="4" y="626"/>
                    </a:lnTo>
                    <a:lnTo>
                      <a:pt x="3" y="632"/>
                    </a:lnTo>
                    <a:lnTo>
                      <a:pt x="3" y="640"/>
                    </a:lnTo>
                    <a:lnTo>
                      <a:pt x="2" y="647"/>
                    </a:lnTo>
                    <a:lnTo>
                      <a:pt x="0" y="655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37160" y="3098880"/>
                <a:ext cx="1800" cy="239760"/>
              </a:xfrm>
              <a:custGeom>
                <a:avLst/>
                <a:gdLst/>
                <a:ahLst/>
                <a:rect l="l" t="t" r="r" b="b"/>
                <a:pathLst>
                  <a:path w="4" h="601">
                    <a:moveTo>
                      <a:pt x="0" y="601"/>
                    </a:moveTo>
                    <a:lnTo>
                      <a:pt x="0" y="0"/>
                    </a:lnTo>
                    <a:lnTo>
                      <a:pt x="1" y="9"/>
                    </a:lnTo>
                    <a:lnTo>
                      <a:pt x="1" y="19"/>
                    </a:lnTo>
                    <a:lnTo>
                      <a:pt x="2" y="29"/>
                    </a:lnTo>
                    <a:lnTo>
                      <a:pt x="2" y="39"/>
                    </a:lnTo>
                    <a:lnTo>
                      <a:pt x="3" y="48"/>
                    </a:lnTo>
                    <a:lnTo>
                      <a:pt x="3" y="58"/>
                    </a:lnTo>
                    <a:lnTo>
                      <a:pt x="4" y="68"/>
                    </a:lnTo>
                    <a:lnTo>
                      <a:pt x="4" y="77"/>
                    </a:lnTo>
                    <a:lnTo>
                      <a:pt x="4" y="533"/>
                    </a:lnTo>
                    <a:lnTo>
                      <a:pt x="4" y="542"/>
                    </a:lnTo>
                    <a:lnTo>
                      <a:pt x="3" y="550"/>
                    </a:lnTo>
                    <a:lnTo>
                      <a:pt x="3" y="559"/>
                    </a:lnTo>
                    <a:lnTo>
                      <a:pt x="2" y="568"/>
                    </a:lnTo>
                    <a:lnTo>
                      <a:pt x="2" y="576"/>
                    </a:lnTo>
                    <a:lnTo>
                      <a:pt x="1" y="585"/>
                    </a:lnTo>
                    <a:lnTo>
                      <a:pt x="1" y="593"/>
                    </a:lnTo>
                    <a:lnTo>
                      <a:pt x="0" y="601"/>
                    </a:lnTo>
                    <a:close/>
                  </a:path>
                </a:pathLst>
              </a:custGeom>
              <a:solidFill>
                <a:srgbClr val="ecc0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38960" y="3112920"/>
                <a:ext cx="1440" cy="212760"/>
              </a:xfrm>
              <a:custGeom>
                <a:avLst/>
                <a:gdLst/>
                <a:ahLst/>
                <a:rect l="l" t="t" r="r" b="b"/>
                <a:pathLst>
                  <a:path w="5" h="534">
                    <a:moveTo>
                      <a:pt x="0" y="534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1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3" y="57"/>
                    </a:lnTo>
                    <a:lnTo>
                      <a:pt x="4" y="68"/>
                    </a:lnTo>
                    <a:lnTo>
                      <a:pt x="4" y="79"/>
                    </a:lnTo>
                    <a:lnTo>
                      <a:pt x="5" y="91"/>
                    </a:lnTo>
                    <a:lnTo>
                      <a:pt x="5" y="453"/>
                    </a:lnTo>
                    <a:lnTo>
                      <a:pt x="4" y="464"/>
                    </a:lnTo>
                    <a:lnTo>
                      <a:pt x="4" y="473"/>
                    </a:lnTo>
                    <a:lnTo>
                      <a:pt x="3" y="483"/>
                    </a:lnTo>
                    <a:lnTo>
                      <a:pt x="3" y="494"/>
                    </a:lnTo>
                    <a:lnTo>
                      <a:pt x="2" y="504"/>
                    </a:lnTo>
                    <a:lnTo>
                      <a:pt x="1" y="513"/>
                    </a:lnTo>
                    <a:lnTo>
                      <a:pt x="1" y="524"/>
                    </a:lnTo>
                    <a:lnTo>
                      <a:pt x="0" y="534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438960" y="3130560"/>
                <a:ext cx="3240" cy="181080"/>
              </a:xfrm>
              <a:custGeom>
                <a:avLst/>
                <a:gdLst/>
                <a:ahLst/>
                <a:rect l="l" t="t" r="r" b="b"/>
                <a:pathLst>
                  <a:path w="5" h="456">
                    <a:moveTo>
                      <a:pt x="0" y="456"/>
                    </a:moveTo>
                    <a:lnTo>
                      <a:pt x="0" y="0"/>
                    </a:lnTo>
                    <a:lnTo>
                      <a:pt x="1" y="14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3" y="59"/>
                    </a:lnTo>
                    <a:lnTo>
                      <a:pt x="3" y="73"/>
                    </a:lnTo>
                    <a:lnTo>
                      <a:pt x="4" y="88"/>
                    </a:lnTo>
                    <a:lnTo>
                      <a:pt x="4" y="102"/>
                    </a:lnTo>
                    <a:lnTo>
                      <a:pt x="5" y="116"/>
                    </a:lnTo>
                    <a:lnTo>
                      <a:pt x="5" y="349"/>
                    </a:lnTo>
                    <a:lnTo>
                      <a:pt x="4" y="362"/>
                    </a:lnTo>
                    <a:lnTo>
                      <a:pt x="4" y="376"/>
                    </a:lnTo>
                    <a:lnTo>
                      <a:pt x="3" y="389"/>
                    </a:lnTo>
                    <a:lnTo>
                      <a:pt x="3" y="403"/>
                    </a:lnTo>
                    <a:lnTo>
                      <a:pt x="2" y="416"/>
                    </a:lnTo>
                    <a:lnTo>
                      <a:pt x="2" y="429"/>
                    </a:lnTo>
                    <a:lnTo>
                      <a:pt x="1" y="443"/>
                    </a:lnTo>
                    <a:lnTo>
                      <a:pt x="0" y="456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40400" y="3149640"/>
                <a:ext cx="1800" cy="142920"/>
              </a:xfrm>
              <a:custGeom>
                <a:avLst/>
                <a:gdLst/>
                <a:ahLst/>
                <a:rect l="l" t="t" r="r" b="b"/>
                <a:pathLst>
                  <a:path w="3" h="362">
                    <a:moveTo>
                      <a:pt x="0" y="362"/>
                    </a:moveTo>
                    <a:lnTo>
                      <a:pt x="0" y="0"/>
                    </a:lnTo>
                    <a:lnTo>
                      <a:pt x="1" y="47"/>
                    </a:lnTo>
                    <a:lnTo>
                      <a:pt x="2" y="93"/>
                    </a:lnTo>
                    <a:lnTo>
                      <a:pt x="3" y="139"/>
                    </a:lnTo>
                    <a:lnTo>
                      <a:pt x="3" y="185"/>
                    </a:lnTo>
                    <a:lnTo>
                      <a:pt x="3" y="230"/>
                    </a:lnTo>
                    <a:lnTo>
                      <a:pt x="2" y="274"/>
                    </a:lnTo>
                    <a:lnTo>
                      <a:pt x="1" y="319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42200" y="3174840"/>
                <a:ext cx="1440" cy="93600"/>
              </a:xfrm>
              <a:custGeom>
                <a:avLst/>
                <a:gdLst/>
                <a:ahLst/>
                <a:rect l="l" t="t" r="r" b="b"/>
                <a:pathLst>
                  <a:path w="1" h="233">
                    <a:moveTo>
                      <a:pt x="0" y="23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" y="59"/>
                    </a:lnTo>
                    <a:lnTo>
                      <a:pt x="1" y="90"/>
                    </a:lnTo>
                    <a:lnTo>
                      <a:pt x="1" y="119"/>
                    </a:lnTo>
                    <a:lnTo>
                      <a:pt x="1" y="147"/>
                    </a:lnTo>
                    <a:lnTo>
                      <a:pt x="1" y="176"/>
                    </a:lnTo>
                    <a:lnTo>
                      <a:pt x="0" y="205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eec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235560" y="2982960"/>
                <a:ext cx="206640" cy="860400"/>
              </a:xfrm>
              <a:custGeom>
                <a:avLst/>
                <a:gdLst/>
                <a:ahLst/>
                <a:rect l="l" t="t" r="r" b="b"/>
                <a:pathLst>
                  <a:path w="517" h="2167">
                    <a:moveTo>
                      <a:pt x="2" y="1164"/>
                    </a:moveTo>
                    <a:lnTo>
                      <a:pt x="63" y="1020"/>
                    </a:lnTo>
                    <a:lnTo>
                      <a:pt x="122" y="874"/>
                    </a:lnTo>
                    <a:lnTo>
                      <a:pt x="181" y="728"/>
                    </a:lnTo>
                    <a:lnTo>
                      <a:pt x="240" y="583"/>
                    </a:lnTo>
                    <a:lnTo>
                      <a:pt x="298" y="437"/>
                    </a:lnTo>
                    <a:lnTo>
                      <a:pt x="358" y="292"/>
                    </a:lnTo>
                    <a:lnTo>
                      <a:pt x="417" y="146"/>
                    </a:lnTo>
                    <a:lnTo>
                      <a:pt x="479" y="0"/>
                    </a:lnTo>
                    <a:lnTo>
                      <a:pt x="489" y="93"/>
                    </a:lnTo>
                    <a:lnTo>
                      <a:pt x="498" y="185"/>
                    </a:lnTo>
                    <a:lnTo>
                      <a:pt x="506" y="274"/>
                    </a:lnTo>
                    <a:lnTo>
                      <a:pt x="511" y="363"/>
                    </a:lnTo>
                    <a:lnTo>
                      <a:pt x="515" y="448"/>
                    </a:lnTo>
                    <a:lnTo>
                      <a:pt x="517" y="534"/>
                    </a:lnTo>
                    <a:lnTo>
                      <a:pt x="517" y="617"/>
                    </a:lnTo>
                    <a:lnTo>
                      <a:pt x="516" y="698"/>
                    </a:lnTo>
                    <a:lnTo>
                      <a:pt x="514" y="778"/>
                    </a:lnTo>
                    <a:lnTo>
                      <a:pt x="510" y="855"/>
                    </a:lnTo>
                    <a:lnTo>
                      <a:pt x="503" y="931"/>
                    </a:lnTo>
                    <a:lnTo>
                      <a:pt x="496" y="1006"/>
                    </a:lnTo>
                    <a:lnTo>
                      <a:pt x="486" y="1079"/>
                    </a:lnTo>
                    <a:lnTo>
                      <a:pt x="475" y="1150"/>
                    </a:lnTo>
                    <a:lnTo>
                      <a:pt x="462" y="1219"/>
                    </a:lnTo>
                    <a:lnTo>
                      <a:pt x="448" y="1287"/>
                    </a:lnTo>
                    <a:lnTo>
                      <a:pt x="433" y="1354"/>
                    </a:lnTo>
                    <a:lnTo>
                      <a:pt x="415" y="1419"/>
                    </a:lnTo>
                    <a:lnTo>
                      <a:pt x="396" y="1483"/>
                    </a:lnTo>
                    <a:lnTo>
                      <a:pt x="375" y="1544"/>
                    </a:lnTo>
                    <a:lnTo>
                      <a:pt x="353" y="1605"/>
                    </a:lnTo>
                    <a:lnTo>
                      <a:pt x="328" y="1663"/>
                    </a:lnTo>
                    <a:lnTo>
                      <a:pt x="304" y="1720"/>
                    </a:lnTo>
                    <a:lnTo>
                      <a:pt x="275" y="1776"/>
                    </a:lnTo>
                    <a:lnTo>
                      <a:pt x="247" y="1830"/>
                    </a:lnTo>
                    <a:lnTo>
                      <a:pt x="216" y="1882"/>
                    </a:lnTo>
                    <a:lnTo>
                      <a:pt x="185" y="1933"/>
                    </a:lnTo>
                    <a:lnTo>
                      <a:pt x="150" y="1983"/>
                    </a:lnTo>
                    <a:lnTo>
                      <a:pt x="116" y="2032"/>
                    </a:lnTo>
                    <a:lnTo>
                      <a:pt x="79" y="2078"/>
                    </a:lnTo>
                    <a:lnTo>
                      <a:pt x="40" y="2123"/>
                    </a:lnTo>
                    <a:lnTo>
                      <a:pt x="0" y="2167"/>
                    </a:lnTo>
                    <a:lnTo>
                      <a:pt x="2" y="116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717640" y="2914560"/>
                <a:ext cx="3713400" cy="165240"/>
              </a:xfrm>
              <a:custGeom>
                <a:avLst/>
                <a:gdLst/>
                <a:ahLst/>
                <a:rect l="l" t="t" r="r" b="b"/>
                <a:pathLst>
                  <a:path w="9354" h="416">
                    <a:moveTo>
                      <a:pt x="15" y="416"/>
                    </a:moveTo>
                    <a:lnTo>
                      <a:pt x="12" y="390"/>
                    </a:lnTo>
                    <a:lnTo>
                      <a:pt x="9" y="364"/>
                    </a:lnTo>
                    <a:lnTo>
                      <a:pt x="5" y="339"/>
                    </a:lnTo>
                    <a:lnTo>
                      <a:pt x="3" y="312"/>
                    </a:lnTo>
                    <a:lnTo>
                      <a:pt x="2" y="286"/>
                    </a:lnTo>
                    <a:lnTo>
                      <a:pt x="0" y="261"/>
                    </a:lnTo>
                    <a:lnTo>
                      <a:pt x="0" y="235"/>
                    </a:lnTo>
                    <a:lnTo>
                      <a:pt x="0" y="209"/>
                    </a:lnTo>
                    <a:lnTo>
                      <a:pt x="0" y="182"/>
                    </a:lnTo>
                    <a:lnTo>
                      <a:pt x="0" y="156"/>
                    </a:lnTo>
                    <a:lnTo>
                      <a:pt x="2" y="130"/>
                    </a:lnTo>
                    <a:lnTo>
                      <a:pt x="3" y="104"/>
                    </a:lnTo>
                    <a:lnTo>
                      <a:pt x="5" y="78"/>
                    </a:lnTo>
                    <a:lnTo>
                      <a:pt x="9" y="52"/>
                    </a:lnTo>
                    <a:lnTo>
                      <a:pt x="12" y="26"/>
                    </a:lnTo>
                    <a:lnTo>
                      <a:pt x="15" y="0"/>
                    </a:lnTo>
                    <a:lnTo>
                      <a:pt x="14" y="26"/>
                    </a:lnTo>
                    <a:lnTo>
                      <a:pt x="13" y="52"/>
                    </a:lnTo>
                    <a:lnTo>
                      <a:pt x="12" y="78"/>
                    </a:lnTo>
                    <a:lnTo>
                      <a:pt x="12" y="104"/>
                    </a:lnTo>
                    <a:lnTo>
                      <a:pt x="11" y="130"/>
                    </a:lnTo>
                    <a:lnTo>
                      <a:pt x="11" y="156"/>
                    </a:lnTo>
                    <a:lnTo>
                      <a:pt x="11" y="183"/>
                    </a:lnTo>
                    <a:lnTo>
                      <a:pt x="10" y="209"/>
                    </a:lnTo>
                    <a:lnTo>
                      <a:pt x="11" y="235"/>
                    </a:lnTo>
                    <a:lnTo>
                      <a:pt x="11" y="261"/>
                    </a:lnTo>
                    <a:lnTo>
                      <a:pt x="11" y="286"/>
                    </a:lnTo>
                    <a:lnTo>
                      <a:pt x="12" y="312"/>
                    </a:lnTo>
                    <a:lnTo>
                      <a:pt x="12" y="338"/>
                    </a:lnTo>
                    <a:lnTo>
                      <a:pt x="13" y="364"/>
                    </a:lnTo>
                    <a:lnTo>
                      <a:pt x="14" y="390"/>
                    </a:lnTo>
                    <a:lnTo>
                      <a:pt x="15" y="416"/>
                    </a:lnTo>
                    <a:close/>
                    <a:moveTo>
                      <a:pt x="9339" y="0"/>
                    </a:moveTo>
                    <a:lnTo>
                      <a:pt x="9342" y="26"/>
                    </a:lnTo>
                    <a:lnTo>
                      <a:pt x="9346" y="52"/>
                    </a:lnTo>
                    <a:lnTo>
                      <a:pt x="9349" y="78"/>
                    </a:lnTo>
                    <a:lnTo>
                      <a:pt x="9351" y="104"/>
                    </a:lnTo>
                    <a:lnTo>
                      <a:pt x="9352" y="130"/>
                    </a:lnTo>
                    <a:lnTo>
                      <a:pt x="9353" y="156"/>
                    </a:lnTo>
                    <a:lnTo>
                      <a:pt x="9354" y="182"/>
                    </a:lnTo>
                    <a:lnTo>
                      <a:pt x="9354" y="209"/>
                    </a:lnTo>
                    <a:lnTo>
                      <a:pt x="9354" y="235"/>
                    </a:lnTo>
                    <a:lnTo>
                      <a:pt x="9353" y="261"/>
                    </a:lnTo>
                    <a:lnTo>
                      <a:pt x="9352" y="286"/>
                    </a:lnTo>
                    <a:lnTo>
                      <a:pt x="9351" y="312"/>
                    </a:lnTo>
                    <a:lnTo>
                      <a:pt x="9349" y="338"/>
                    </a:lnTo>
                    <a:lnTo>
                      <a:pt x="9346" y="364"/>
                    </a:lnTo>
                    <a:lnTo>
                      <a:pt x="9342" y="390"/>
                    </a:lnTo>
                    <a:lnTo>
                      <a:pt x="9339" y="416"/>
                    </a:lnTo>
                    <a:lnTo>
                      <a:pt x="9340" y="390"/>
                    </a:lnTo>
                    <a:lnTo>
                      <a:pt x="9341" y="364"/>
                    </a:lnTo>
                    <a:lnTo>
                      <a:pt x="9342" y="338"/>
                    </a:lnTo>
                    <a:lnTo>
                      <a:pt x="9342" y="312"/>
                    </a:lnTo>
                    <a:lnTo>
                      <a:pt x="9343" y="286"/>
                    </a:lnTo>
                    <a:lnTo>
                      <a:pt x="9343" y="261"/>
                    </a:lnTo>
                    <a:lnTo>
                      <a:pt x="9343" y="235"/>
                    </a:lnTo>
                    <a:lnTo>
                      <a:pt x="9345" y="209"/>
                    </a:lnTo>
                    <a:lnTo>
                      <a:pt x="9343" y="183"/>
                    </a:lnTo>
                    <a:lnTo>
                      <a:pt x="9343" y="156"/>
                    </a:lnTo>
                    <a:lnTo>
                      <a:pt x="9343" y="130"/>
                    </a:lnTo>
                    <a:lnTo>
                      <a:pt x="9342" y="104"/>
                    </a:lnTo>
                    <a:lnTo>
                      <a:pt x="9342" y="78"/>
                    </a:lnTo>
                    <a:lnTo>
                      <a:pt x="9341" y="52"/>
                    </a:lnTo>
                    <a:lnTo>
                      <a:pt x="9340" y="26"/>
                    </a:lnTo>
                    <a:lnTo>
                      <a:pt x="9339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717640" y="2857320"/>
                <a:ext cx="3713400" cy="279360"/>
              </a:xfrm>
              <a:custGeom>
                <a:avLst/>
                <a:gdLst/>
                <a:ahLst/>
                <a:rect l="l" t="t" r="r" b="b"/>
                <a:pathLst>
                  <a:path w="9354" h="706">
                    <a:moveTo>
                      <a:pt x="44" y="706"/>
                    </a:moveTo>
                    <a:lnTo>
                      <a:pt x="34" y="662"/>
                    </a:lnTo>
                    <a:lnTo>
                      <a:pt x="25" y="618"/>
                    </a:lnTo>
                    <a:lnTo>
                      <a:pt x="17" y="575"/>
                    </a:lnTo>
                    <a:lnTo>
                      <a:pt x="11" y="531"/>
                    </a:lnTo>
                    <a:lnTo>
                      <a:pt x="7" y="487"/>
                    </a:lnTo>
                    <a:lnTo>
                      <a:pt x="2" y="442"/>
                    </a:lnTo>
                    <a:lnTo>
                      <a:pt x="0" y="397"/>
                    </a:lnTo>
                    <a:lnTo>
                      <a:pt x="0" y="353"/>
                    </a:lnTo>
                    <a:lnTo>
                      <a:pt x="0" y="307"/>
                    </a:lnTo>
                    <a:lnTo>
                      <a:pt x="2" y="263"/>
                    </a:lnTo>
                    <a:lnTo>
                      <a:pt x="7" y="219"/>
                    </a:lnTo>
                    <a:lnTo>
                      <a:pt x="11" y="174"/>
                    </a:lnTo>
                    <a:lnTo>
                      <a:pt x="17" y="130"/>
                    </a:lnTo>
                    <a:lnTo>
                      <a:pt x="25" y="86"/>
                    </a:lnTo>
                    <a:lnTo>
                      <a:pt x="34" y="43"/>
                    </a:lnTo>
                    <a:lnTo>
                      <a:pt x="44" y="0"/>
                    </a:lnTo>
                    <a:lnTo>
                      <a:pt x="41" y="43"/>
                    </a:lnTo>
                    <a:lnTo>
                      <a:pt x="39" y="87"/>
                    </a:lnTo>
                    <a:lnTo>
                      <a:pt x="37" y="131"/>
                    </a:lnTo>
                    <a:lnTo>
                      <a:pt x="35" y="176"/>
                    </a:lnTo>
                    <a:lnTo>
                      <a:pt x="32" y="219"/>
                    </a:lnTo>
                    <a:lnTo>
                      <a:pt x="32" y="263"/>
                    </a:lnTo>
                    <a:lnTo>
                      <a:pt x="31" y="308"/>
                    </a:lnTo>
                    <a:lnTo>
                      <a:pt x="31" y="353"/>
                    </a:lnTo>
                    <a:lnTo>
                      <a:pt x="31" y="397"/>
                    </a:lnTo>
                    <a:lnTo>
                      <a:pt x="32" y="441"/>
                    </a:lnTo>
                    <a:lnTo>
                      <a:pt x="32" y="486"/>
                    </a:lnTo>
                    <a:lnTo>
                      <a:pt x="35" y="530"/>
                    </a:lnTo>
                    <a:lnTo>
                      <a:pt x="37" y="574"/>
                    </a:lnTo>
                    <a:lnTo>
                      <a:pt x="39" y="618"/>
                    </a:lnTo>
                    <a:lnTo>
                      <a:pt x="41" y="662"/>
                    </a:lnTo>
                    <a:lnTo>
                      <a:pt x="44" y="706"/>
                    </a:lnTo>
                    <a:close/>
                    <a:moveTo>
                      <a:pt x="9310" y="0"/>
                    </a:moveTo>
                    <a:lnTo>
                      <a:pt x="9320" y="43"/>
                    </a:lnTo>
                    <a:lnTo>
                      <a:pt x="9329" y="86"/>
                    </a:lnTo>
                    <a:lnTo>
                      <a:pt x="9337" y="130"/>
                    </a:lnTo>
                    <a:lnTo>
                      <a:pt x="9343" y="174"/>
                    </a:lnTo>
                    <a:lnTo>
                      <a:pt x="9348" y="219"/>
                    </a:lnTo>
                    <a:lnTo>
                      <a:pt x="9352" y="263"/>
                    </a:lnTo>
                    <a:lnTo>
                      <a:pt x="9354" y="307"/>
                    </a:lnTo>
                    <a:lnTo>
                      <a:pt x="9354" y="353"/>
                    </a:lnTo>
                    <a:lnTo>
                      <a:pt x="9354" y="397"/>
                    </a:lnTo>
                    <a:lnTo>
                      <a:pt x="9352" y="441"/>
                    </a:lnTo>
                    <a:lnTo>
                      <a:pt x="9348" y="486"/>
                    </a:lnTo>
                    <a:lnTo>
                      <a:pt x="9343" y="530"/>
                    </a:lnTo>
                    <a:lnTo>
                      <a:pt x="9337" y="574"/>
                    </a:lnTo>
                    <a:lnTo>
                      <a:pt x="9329" y="618"/>
                    </a:lnTo>
                    <a:lnTo>
                      <a:pt x="9321" y="662"/>
                    </a:lnTo>
                    <a:lnTo>
                      <a:pt x="9310" y="706"/>
                    </a:lnTo>
                    <a:lnTo>
                      <a:pt x="9313" y="663"/>
                    </a:lnTo>
                    <a:lnTo>
                      <a:pt x="9315" y="618"/>
                    </a:lnTo>
                    <a:lnTo>
                      <a:pt x="9318" y="574"/>
                    </a:lnTo>
                    <a:lnTo>
                      <a:pt x="9320" y="530"/>
                    </a:lnTo>
                    <a:lnTo>
                      <a:pt x="9321" y="486"/>
                    </a:lnTo>
                    <a:lnTo>
                      <a:pt x="9322" y="441"/>
                    </a:lnTo>
                    <a:lnTo>
                      <a:pt x="9323" y="397"/>
                    </a:lnTo>
                    <a:lnTo>
                      <a:pt x="9323" y="353"/>
                    </a:lnTo>
                    <a:lnTo>
                      <a:pt x="9323" y="308"/>
                    </a:lnTo>
                    <a:lnTo>
                      <a:pt x="9322" y="263"/>
                    </a:lnTo>
                    <a:lnTo>
                      <a:pt x="9321" y="219"/>
                    </a:lnTo>
                    <a:lnTo>
                      <a:pt x="9320" y="176"/>
                    </a:lnTo>
                    <a:lnTo>
                      <a:pt x="9318" y="131"/>
                    </a:lnTo>
                    <a:lnTo>
                      <a:pt x="9315" y="87"/>
                    </a:lnTo>
                    <a:lnTo>
                      <a:pt x="9313" y="43"/>
                    </a:lnTo>
                    <a:lnTo>
                      <a:pt x="9310" y="0"/>
                    </a:lnTo>
                    <a:close/>
                  </a:path>
                </a:pathLst>
              </a:custGeom>
              <a:solidFill>
                <a:srgbClr val="c4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720880" y="2816280"/>
                <a:ext cx="3705480" cy="361800"/>
              </a:xfrm>
              <a:custGeom>
                <a:avLst/>
                <a:gdLst/>
                <a:ahLst/>
                <a:rect l="l" t="t" r="r" b="b"/>
                <a:pathLst>
                  <a:path w="9335" h="914">
                    <a:moveTo>
                      <a:pt x="9335" y="457"/>
                    </a:moveTo>
                    <a:lnTo>
                      <a:pt x="9333" y="431"/>
                    </a:lnTo>
                    <a:lnTo>
                      <a:pt x="9333" y="404"/>
                    </a:lnTo>
                    <a:lnTo>
                      <a:pt x="9333" y="378"/>
                    </a:lnTo>
                    <a:lnTo>
                      <a:pt x="9332" y="352"/>
                    </a:lnTo>
                    <a:lnTo>
                      <a:pt x="9332" y="326"/>
                    </a:lnTo>
                    <a:lnTo>
                      <a:pt x="9331" y="300"/>
                    </a:lnTo>
                    <a:lnTo>
                      <a:pt x="9330" y="274"/>
                    </a:lnTo>
                    <a:lnTo>
                      <a:pt x="9329" y="248"/>
                    </a:lnTo>
                    <a:lnTo>
                      <a:pt x="9324" y="217"/>
                    </a:lnTo>
                    <a:lnTo>
                      <a:pt x="9318" y="186"/>
                    </a:lnTo>
                    <a:lnTo>
                      <a:pt x="9312" y="154"/>
                    </a:lnTo>
                    <a:lnTo>
                      <a:pt x="9305" y="123"/>
                    </a:lnTo>
                    <a:lnTo>
                      <a:pt x="9297" y="92"/>
                    </a:lnTo>
                    <a:lnTo>
                      <a:pt x="9289" y="61"/>
                    </a:lnTo>
                    <a:lnTo>
                      <a:pt x="9279" y="30"/>
                    </a:lnTo>
                    <a:lnTo>
                      <a:pt x="9270" y="0"/>
                    </a:lnTo>
                    <a:lnTo>
                      <a:pt x="9275" y="56"/>
                    </a:lnTo>
                    <a:lnTo>
                      <a:pt x="9279" y="113"/>
                    </a:lnTo>
                    <a:lnTo>
                      <a:pt x="9284" y="169"/>
                    </a:lnTo>
                    <a:lnTo>
                      <a:pt x="9287" y="227"/>
                    </a:lnTo>
                    <a:lnTo>
                      <a:pt x="9289" y="284"/>
                    </a:lnTo>
                    <a:lnTo>
                      <a:pt x="9291" y="341"/>
                    </a:lnTo>
                    <a:lnTo>
                      <a:pt x="9292" y="398"/>
                    </a:lnTo>
                    <a:lnTo>
                      <a:pt x="9292" y="457"/>
                    </a:lnTo>
                    <a:lnTo>
                      <a:pt x="9292" y="514"/>
                    </a:lnTo>
                    <a:lnTo>
                      <a:pt x="9291" y="571"/>
                    </a:lnTo>
                    <a:lnTo>
                      <a:pt x="9289" y="629"/>
                    </a:lnTo>
                    <a:lnTo>
                      <a:pt x="9287" y="687"/>
                    </a:lnTo>
                    <a:lnTo>
                      <a:pt x="9284" y="743"/>
                    </a:lnTo>
                    <a:lnTo>
                      <a:pt x="9279" y="800"/>
                    </a:lnTo>
                    <a:lnTo>
                      <a:pt x="9275" y="856"/>
                    </a:lnTo>
                    <a:lnTo>
                      <a:pt x="9270" y="914"/>
                    </a:lnTo>
                    <a:lnTo>
                      <a:pt x="9279" y="882"/>
                    </a:lnTo>
                    <a:lnTo>
                      <a:pt x="9289" y="851"/>
                    </a:lnTo>
                    <a:lnTo>
                      <a:pt x="9297" y="821"/>
                    </a:lnTo>
                    <a:lnTo>
                      <a:pt x="9305" y="789"/>
                    </a:lnTo>
                    <a:lnTo>
                      <a:pt x="9312" y="758"/>
                    </a:lnTo>
                    <a:lnTo>
                      <a:pt x="9318" y="727"/>
                    </a:lnTo>
                    <a:lnTo>
                      <a:pt x="9324" y="695"/>
                    </a:lnTo>
                    <a:lnTo>
                      <a:pt x="9329" y="664"/>
                    </a:lnTo>
                    <a:lnTo>
                      <a:pt x="9330" y="638"/>
                    </a:lnTo>
                    <a:lnTo>
                      <a:pt x="9331" y="612"/>
                    </a:lnTo>
                    <a:lnTo>
                      <a:pt x="9332" y="586"/>
                    </a:lnTo>
                    <a:lnTo>
                      <a:pt x="9332" y="560"/>
                    </a:lnTo>
                    <a:lnTo>
                      <a:pt x="9333" y="534"/>
                    </a:lnTo>
                    <a:lnTo>
                      <a:pt x="9333" y="509"/>
                    </a:lnTo>
                    <a:lnTo>
                      <a:pt x="9333" y="483"/>
                    </a:lnTo>
                    <a:lnTo>
                      <a:pt x="9335" y="457"/>
                    </a:lnTo>
                    <a:close/>
                    <a:moveTo>
                      <a:pt x="5" y="248"/>
                    </a:moveTo>
                    <a:lnTo>
                      <a:pt x="4" y="274"/>
                    </a:lnTo>
                    <a:lnTo>
                      <a:pt x="3" y="300"/>
                    </a:lnTo>
                    <a:lnTo>
                      <a:pt x="2" y="326"/>
                    </a:lnTo>
                    <a:lnTo>
                      <a:pt x="2" y="352"/>
                    </a:lnTo>
                    <a:lnTo>
                      <a:pt x="1" y="378"/>
                    </a:lnTo>
                    <a:lnTo>
                      <a:pt x="1" y="404"/>
                    </a:lnTo>
                    <a:lnTo>
                      <a:pt x="1" y="431"/>
                    </a:lnTo>
                    <a:lnTo>
                      <a:pt x="0" y="457"/>
                    </a:lnTo>
                    <a:lnTo>
                      <a:pt x="1" y="483"/>
                    </a:lnTo>
                    <a:lnTo>
                      <a:pt x="1" y="509"/>
                    </a:lnTo>
                    <a:lnTo>
                      <a:pt x="1" y="534"/>
                    </a:lnTo>
                    <a:lnTo>
                      <a:pt x="2" y="560"/>
                    </a:lnTo>
                    <a:lnTo>
                      <a:pt x="2" y="586"/>
                    </a:lnTo>
                    <a:lnTo>
                      <a:pt x="3" y="612"/>
                    </a:lnTo>
                    <a:lnTo>
                      <a:pt x="4" y="638"/>
                    </a:lnTo>
                    <a:lnTo>
                      <a:pt x="5" y="664"/>
                    </a:lnTo>
                    <a:lnTo>
                      <a:pt x="11" y="695"/>
                    </a:lnTo>
                    <a:lnTo>
                      <a:pt x="16" y="727"/>
                    </a:lnTo>
                    <a:lnTo>
                      <a:pt x="22" y="758"/>
                    </a:lnTo>
                    <a:lnTo>
                      <a:pt x="29" y="789"/>
                    </a:lnTo>
                    <a:lnTo>
                      <a:pt x="37" y="821"/>
                    </a:lnTo>
                    <a:lnTo>
                      <a:pt x="45" y="852"/>
                    </a:lnTo>
                    <a:lnTo>
                      <a:pt x="55" y="882"/>
                    </a:lnTo>
                    <a:lnTo>
                      <a:pt x="65" y="914"/>
                    </a:lnTo>
                    <a:lnTo>
                      <a:pt x="59" y="856"/>
                    </a:lnTo>
                    <a:lnTo>
                      <a:pt x="55" y="800"/>
                    </a:lnTo>
                    <a:lnTo>
                      <a:pt x="51" y="743"/>
                    </a:lnTo>
                    <a:lnTo>
                      <a:pt x="47" y="687"/>
                    </a:lnTo>
                    <a:lnTo>
                      <a:pt x="45" y="629"/>
                    </a:lnTo>
                    <a:lnTo>
                      <a:pt x="43" y="571"/>
                    </a:lnTo>
                    <a:lnTo>
                      <a:pt x="42" y="514"/>
                    </a:lnTo>
                    <a:lnTo>
                      <a:pt x="42" y="457"/>
                    </a:lnTo>
                    <a:lnTo>
                      <a:pt x="42" y="398"/>
                    </a:lnTo>
                    <a:lnTo>
                      <a:pt x="43" y="341"/>
                    </a:lnTo>
                    <a:lnTo>
                      <a:pt x="45" y="284"/>
                    </a:lnTo>
                    <a:lnTo>
                      <a:pt x="47" y="227"/>
                    </a:lnTo>
                    <a:lnTo>
                      <a:pt x="51" y="169"/>
                    </a:lnTo>
                    <a:lnTo>
                      <a:pt x="55" y="113"/>
                    </a:lnTo>
                    <a:lnTo>
                      <a:pt x="59" y="56"/>
                    </a:lnTo>
                    <a:lnTo>
                      <a:pt x="65" y="0"/>
                    </a:lnTo>
                    <a:lnTo>
                      <a:pt x="55" y="30"/>
                    </a:lnTo>
                    <a:lnTo>
                      <a:pt x="45" y="61"/>
                    </a:lnTo>
                    <a:lnTo>
                      <a:pt x="37" y="92"/>
                    </a:lnTo>
                    <a:lnTo>
                      <a:pt x="29" y="123"/>
                    </a:lnTo>
                    <a:lnTo>
                      <a:pt x="22" y="154"/>
                    </a:lnTo>
                    <a:lnTo>
                      <a:pt x="16" y="186"/>
                    </a:lnTo>
                    <a:lnTo>
                      <a:pt x="11" y="217"/>
                    </a:lnTo>
                    <a:lnTo>
                      <a:pt x="5" y="248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730600" y="2782800"/>
                <a:ext cx="3687840" cy="428760"/>
              </a:xfrm>
              <a:custGeom>
                <a:avLst/>
                <a:gdLst/>
                <a:ahLst/>
                <a:rect l="l" t="t" r="r" b="b"/>
                <a:pathLst>
                  <a:path w="9292" h="1079">
                    <a:moveTo>
                      <a:pt x="9292" y="539"/>
                    </a:moveTo>
                    <a:lnTo>
                      <a:pt x="9292" y="494"/>
                    </a:lnTo>
                    <a:lnTo>
                      <a:pt x="9291" y="449"/>
                    </a:lnTo>
                    <a:lnTo>
                      <a:pt x="9290" y="405"/>
                    </a:lnTo>
                    <a:lnTo>
                      <a:pt x="9289" y="362"/>
                    </a:lnTo>
                    <a:lnTo>
                      <a:pt x="9287" y="317"/>
                    </a:lnTo>
                    <a:lnTo>
                      <a:pt x="9284" y="273"/>
                    </a:lnTo>
                    <a:lnTo>
                      <a:pt x="9282" y="229"/>
                    </a:lnTo>
                    <a:lnTo>
                      <a:pt x="9279" y="186"/>
                    </a:lnTo>
                    <a:lnTo>
                      <a:pt x="9273" y="162"/>
                    </a:lnTo>
                    <a:lnTo>
                      <a:pt x="9266" y="138"/>
                    </a:lnTo>
                    <a:lnTo>
                      <a:pt x="9260" y="115"/>
                    </a:lnTo>
                    <a:lnTo>
                      <a:pt x="9252" y="92"/>
                    </a:lnTo>
                    <a:lnTo>
                      <a:pt x="9244" y="69"/>
                    </a:lnTo>
                    <a:lnTo>
                      <a:pt x="9236" y="45"/>
                    </a:lnTo>
                    <a:lnTo>
                      <a:pt x="9228" y="22"/>
                    </a:lnTo>
                    <a:lnTo>
                      <a:pt x="9218" y="0"/>
                    </a:lnTo>
                    <a:lnTo>
                      <a:pt x="9226" y="66"/>
                    </a:lnTo>
                    <a:lnTo>
                      <a:pt x="9233" y="133"/>
                    </a:lnTo>
                    <a:lnTo>
                      <a:pt x="9238" y="200"/>
                    </a:lnTo>
                    <a:lnTo>
                      <a:pt x="9242" y="267"/>
                    </a:lnTo>
                    <a:lnTo>
                      <a:pt x="9245" y="335"/>
                    </a:lnTo>
                    <a:lnTo>
                      <a:pt x="9249" y="403"/>
                    </a:lnTo>
                    <a:lnTo>
                      <a:pt x="9250" y="471"/>
                    </a:lnTo>
                    <a:lnTo>
                      <a:pt x="9251" y="539"/>
                    </a:lnTo>
                    <a:lnTo>
                      <a:pt x="9250" y="607"/>
                    </a:lnTo>
                    <a:lnTo>
                      <a:pt x="9249" y="675"/>
                    </a:lnTo>
                    <a:lnTo>
                      <a:pt x="9245" y="743"/>
                    </a:lnTo>
                    <a:lnTo>
                      <a:pt x="9242" y="811"/>
                    </a:lnTo>
                    <a:lnTo>
                      <a:pt x="9238" y="878"/>
                    </a:lnTo>
                    <a:lnTo>
                      <a:pt x="9233" y="946"/>
                    </a:lnTo>
                    <a:lnTo>
                      <a:pt x="9226" y="1013"/>
                    </a:lnTo>
                    <a:lnTo>
                      <a:pt x="9218" y="1079"/>
                    </a:lnTo>
                    <a:lnTo>
                      <a:pt x="9227" y="1056"/>
                    </a:lnTo>
                    <a:lnTo>
                      <a:pt x="9236" y="1032"/>
                    </a:lnTo>
                    <a:lnTo>
                      <a:pt x="9244" y="1010"/>
                    </a:lnTo>
                    <a:lnTo>
                      <a:pt x="9252" y="986"/>
                    </a:lnTo>
                    <a:lnTo>
                      <a:pt x="9260" y="962"/>
                    </a:lnTo>
                    <a:lnTo>
                      <a:pt x="9266" y="939"/>
                    </a:lnTo>
                    <a:lnTo>
                      <a:pt x="9273" y="916"/>
                    </a:lnTo>
                    <a:lnTo>
                      <a:pt x="9279" y="892"/>
                    </a:lnTo>
                    <a:lnTo>
                      <a:pt x="9282" y="849"/>
                    </a:lnTo>
                    <a:lnTo>
                      <a:pt x="9284" y="804"/>
                    </a:lnTo>
                    <a:lnTo>
                      <a:pt x="9287" y="760"/>
                    </a:lnTo>
                    <a:lnTo>
                      <a:pt x="9289" y="716"/>
                    </a:lnTo>
                    <a:lnTo>
                      <a:pt x="9290" y="672"/>
                    </a:lnTo>
                    <a:lnTo>
                      <a:pt x="9291" y="627"/>
                    </a:lnTo>
                    <a:lnTo>
                      <a:pt x="9292" y="583"/>
                    </a:lnTo>
                    <a:lnTo>
                      <a:pt x="9292" y="539"/>
                    </a:lnTo>
                    <a:close/>
                    <a:moveTo>
                      <a:pt x="13" y="186"/>
                    </a:moveTo>
                    <a:lnTo>
                      <a:pt x="10" y="229"/>
                    </a:lnTo>
                    <a:lnTo>
                      <a:pt x="8" y="273"/>
                    </a:lnTo>
                    <a:lnTo>
                      <a:pt x="6" y="317"/>
                    </a:lnTo>
                    <a:lnTo>
                      <a:pt x="4" y="362"/>
                    </a:lnTo>
                    <a:lnTo>
                      <a:pt x="1" y="405"/>
                    </a:lnTo>
                    <a:lnTo>
                      <a:pt x="1" y="449"/>
                    </a:lnTo>
                    <a:lnTo>
                      <a:pt x="0" y="494"/>
                    </a:lnTo>
                    <a:lnTo>
                      <a:pt x="0" y="539"/>
                    </a:lnTo>
                    <a:lnTo>
                      <a:pt x="0" y="583"/>
                    </a:lnTo>
                    <a:lnTo>
                      <a:pt x="1" y="627"/>
                    </a:lnTo>
                    <a:lnTo>
                      <a:pt x="1" y="672"/>
                    </a:lnTo>
                    <a:lnTo>
                      <a:pt x="4" y="716"/>
                    </a:lnTo>
                    <a:lnTo>
                      <a:pt x="6" y="760"/>
                    </a:lnTo>
                    <a:lnTo>
                      <a:pt x="8" y="804"/>
                    </a:lnTo>
                    <a:lnTo>
                      <a:pt x="10" y="848"/>
                    </a:lnTo>
                    <a:lnTo>
                      <a:pt x="13" y="892"/>
                    </a:lnTo>
                    <a:lnTo>
                      <a:pt x="20" y="915"/>
                    </a:lnTo>
                    <a:lnTo>
                      <a:pt x="26" y="938"/>
                    </a:lnTo>
                    <a:lnTo>
                      <a:pt x="33" y="962"/>
                    </a:lnTo>
                    <a:lnTo>
                      <a:pt x="40" y="985"/>
                    </a:lnTo>
                    <a:lnTo>
                      <a:pt x="48" y="1008"/>
                    </a:lnTo>
                    <a:lnTo>
                      <a:pt x="57" y="1031"/>
                    </a:lnTo>
                    <a:lnTo>
                      <a:pt x="64" y="1054"/>
                    </a:lnTo>
                    <a:lnTo>
                      <a:pt x="74" y="1078"/>
                    </a:lnTo>
                    <a:lnTo>
                      <a:pt x="66" y="1011"/>
                    </a:lnTo>
                    <a:lnTo>
                      <a:pt x="60" y="944"/>
                    </a:lnTo>
                    <a:lnTo>
                      <a:pt x="54" y="877"/>
                    </a:lnTo>
                    <a:lnTo>
                      <a:pt x="50" y="810"/>
                    </a:lnTo>
                    <a:lnTo>
                      <a:pt x="47" y="743"/>
                    </a:lnTo>
                    <a:lnTo>
                      <a:pt x="44" y="675"/>
                    </a:lnTo>
                    <a:lnTo>
                      <a:pt x="43" y="607"/>
                    </a:lnTo>
                    <a:lnTo>
                      <a:pt x="41" y="539"/>
                    </a:lnTo>
                    <a:lnTo>
                      <a:pt x="43" y="471"/>
                    </a:lnTo>
                    <a:lnTo>
                      <a:pt x="44" y="403"/>
                    </a:lnTo>
                    <a:lnTo>
                      <a:pt x="47" y="335"/>
                    </a:lnTo>
                    <a:lnTo>
                      <a:pt x="50" y="267"/>
                    </a:lnTo>
                    <a:lnTo>
                      <a:pt x="54" y="200"/>
                    </a:lnTo>
                    <a:lnTo>
                      <a:pt x="60" y="133"/>
                    </a:lnTo>
                    <a:lnTo>
                      <a:pt x="66" y="66"/>
                    </a:lnTo>
                    <a:lnTo>
                      <a:pt x="74" y="0"/>
                    </a:lnTo>
                    <a:lnTo>
                      <a:pt x="64" y="22"/>
                    </a:lnTo>
                    <a:lnTo>
                      <a:pt x="57" y="45"/>
                    </a:lnTo>
                    <a:lnTo>
                      <a:pt x="48" y="69"/>
                    </a:lnTo>
                    <a:lnTo>
                      <a:pt x="40" y="92"/>
                    </a:lnTo>
                    <a:lnTo>
                      <a:pt x="33" y="115"/>
                    </a:lnTo>
                    <a:lnTo>
                      <a:pt x="26" y="138"/>
                    </a:lnTo>
                    <a:lnTo>
                      <a:pt x="20" y="162"/>
                    </a:lnTo>
                    <a:lnTo>
                      <a:pt x="13" y="186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738520" y="2755800"/>
                <a:ext cx="3671640" cy="484200"/>
              </a:xfrm>
              <a:custGeom>
                <a:avLst/>
                <a:gdLst/>
                <a:ahLst/>
                <a:rect l="l" t="t" r="r" b="b"/>
                <a:pathLst>
                  <a:path w="9250" h="1221">
                    <a:moveTo>
                      <a:pt x="9250" y="609"/>
                    </a:moveTo>
                    <a:lnTo>
                      <a:pt x="9250" y="550"/>
                    </a:lnTo>
                    <a:lnTo>
                      <a:pt x="9249" y="493"/>
                    </a:lnTo>
                    <a:lnTo>
                      <a:pt x="9247" y="436"/>
                    </a:lnTo>
                    <a:lnTo>
                      <a:pt x="9245" y="379"/>
                    </a:lnTo>
                    <a:lnTo>
                      <a:pt x="9242" y="321"/>
                    </a:lnTo>
                    <a:lnTo>
                      <a:pt x="9237" y="265"/>
                    </a:lnTo>
                    <a:lnTo>
                      <a:pt x="9233" y="208"/>
                    </a:lnTo>
                    <a:lnTo>
                      <a:pt x="9228" y="152"/>
                    </a:lnTo>
                    <a:lnTo>
                      <a:pt x="9221" y="132"/>
                    </a:lnTo>
                    <a:lnTo>
                      <a:pt x="9215" y="113"/>
                    </a:lnTo>
                    <a:lnTo>
                      <a:pt x="9207" y="94"/>
                    </a:lnTo>
                    <a:lnTo>
                      <a:pt x="9200" y="75"/>
                    </a:lnTo>
                    <a:lnTo>
                      <a:pt x="9192" y="56"/>
                    </a:lnTo>
                    <a:lnTo>
                      <a:pt x="9185" y="37"/>
                    </a:lnTo>
                    <a:lnTo>
                      <a:pt x="9177" y="18"/>
                    </a:lnTo>
                    <a:lnTo>
                      <a:pt x="9168" y="0"/>
                    </a:lnTo>
                    <a:lnTo>
                      <a:pt x="9178" y="74"/>
                    </a:lnTo>
                    <a:lnTo>
                      <a:pt x="9186" y="150"/>
                    </a:lnTo>
                    <a:lnTo>
                      <a:pt x="9193" y="225"/>
                    </a:lnTo>
                    <a:lnTo>
                      <a:pt x="9199" y="301"/>
                    </a:lnTo>
                    <a:lnTo>
                      <a:pt x="9203" y="378"/>
                    </a:lnTo>
                    <a:lnTo>
                      <a:pt x="9206" y="454"/>
                    </a:lnTo>
                    <a:lnTo>
                      <a:pt x="9208" y="531"/>
                    </a:lnTo>
                    <a:lnTo>
                      <a:pt x="9208" y="609"/>
                    </a:lnTo>
                    <a:lnTo>
                      <a:pt x="9208" y="686"/>
                    </a:lnTo>
                    <a:lnTo>
                      <a:pt x="9206" y="763"/>
                    </a:lnTo>
                    <a:lnTo>
                      <a:pt x="9203" y="841"/>
                    </a:lnTo>
                    <a:lnTo>
                      <a:pt x="9199" y="918"/>
                    </a:lnTo>
                    <a:lnTo>
                      <a:pt x="9192" y="993"/>
                    </a:lnTo>
                    <a:lnTo>
                      <a:pt x="9186" y="1070"/>
                    </a:lnTo>
                    <a:lnTo>
                      <a:pt x="9177" y="1145"/>
                    </a:lnTo>
                    <a:lnTo>
                      <a:pt x="9168" y="1221"/>
                    </a:lnTo>
                    <a:lnTo>
                      <a:pt x="9176" y="1202"/>
                    </a:lnTo>
                    <a:lnTo>
                      <a:pt x="9185" y="1182"/>
                    </a:lnTo>
                    <a:lnTo>
                      <a:pt x="9192" y="1163"/>
                    </a:lnTo>
                    <a:lnTo>
                      <a:pt x="9200" y="1143"/>
                    </a:lnTo>
                    <a:lnTo>
                      <a:pt x="9207" y="1124"/>
                    </a:lnTo>
                    <a:lnTo>
                      <a:pt x="9215" y="1104"/>
                    </a:lnTo>
                    <a:lnTo>
                      <a:pt x="9221" y="1085"/>
                    </a:lnTo>
                    <a:lnTo>
                      <a:pt x="9228" y="1066"/>
                    </a:lnTo>
                    <a:lnTo>
                      <a:pt x="9233" y="1008"/>
                    </a:lnTo>
                    <a:lnTo>
                      <a:pt x="9237" y="952"/>
                    </a:lnTo>
                    <a:lnTo>
                      <a:pt x="9242" y="895"/>
                    </a:lnTo>
                    <a:lnTo>
                      <a:pt x="9245" y="839"/>
                    </a:lnTo>
                    <a:lnTo>
                      <a:pt x="9247" y="781"/>
                    </a:lnTo>
                    <a:lnTo>
                      <a:pt x="9249" y="723"/>
                    </a:lnTo>
                    <a:lnTo>
                      <a:pt x="9250" y="666"/>
                    </a:lnTo>
                    <a:lnTo>
                      <a:pt x="9250" y="609"/>
                    </a:lnTo>
                    <a:close/>
                    <a:moveTo>
                      <a:pt x="23" y="152"/>
                    </a:moveTo>
                    <a:lnTo>
                      <a:pt x="17" y="208"/>
                    </a:lnTo>
                    <a:lnTo>
                      <a:pt x="13" y="265"/>
                    </a:lnTo>
                    <a:lnTo>
                      <a:pt x="9" y="321"/>
                    </a:lnTo>
                    <a:lnTo>
                      <a:pt x="5" y="379"/>
                    </a:lnTo>
                    <a:lnTo>
                      <a:pt x="3" y="436"/>
                    </a:lnTo>
                    <a:lnTo>
                      <a:pt x="1" y="493"/>
                    </a:lnTo>
                    <a:lnTo>
                      <a:pt x="0" y="550"/>
                    </a:lnTo>
                    <a:lnTo>
                      <a:pt x="0" y="609"/>
                    </a:lnTo>
                    <a:lnTo>
                      <a:pt x="0" y="666"/>
                    </a:lnTo>
                    <a:lnTo>
                      <a:pt x="1" y="723"/>
                    </a:lnTo>
                    <a:lnTo>
                      <a:pt x="3" y="781"/>
                    </a:lnTo>
                    <a:lnTo>
                      <a:pt x="5" y="839"/>
                    </a:lnTo>
                    <a:lnTo>
                      <a:pt x="9" y="895"/>
                    </a:lnTo>
                    <a:lnTo>
                      <a:pt x="13" y="952"/>
                    </a:lnTo>
                    <a:lnTo>
                      <a:pt x="17" y="1008"/>
                    </a:lnTo>
                    <a:lnTo>
                      <a:pt x="23" y="1066"/>
                    </a:lnTo>
                    <a:lnTo>
                      <a:pt x="29" y="1085"/>
                    </a:lnTo>
                    <a:lnTo>
                      <a:pt x="36" y="1103"/>
                    </a:lnTo>
                    <a:lnTo>
                      <a:pt x="43" y="1123"/>
                    </a:lnTo>
                    <a:lnTo>
                      <a:pt x="51" y="1142"/>
                    </a:lnTo>
                    <a:lnTo>
                      <a:pt x="58" y="1161"/>
                    </a:lnTo>
                    <a:lnTo>
                      <a:pt x="66" y="1180"/>
                    </a:lnTo>
                    <a:lnTo>
                      <a:pt x="73" y="1198"/>
                    </a:lnTo>
                    <a:lnTo>
                      <a:pt x="82" y="1218"/>
                    </a:lnTo>
                    <a:lnTo>
                      <a:pt x="72" y="1143"/>
                    </a:lnTo>
                    <a:lnTo>
                      <a:pt x="65" y="1068"/>
                    </a:lnTo>
                    <a:lnTo>
                      <a:pt x="57" y="992"/>
                    </a:lnTo>
                    <a:lnTo>
                      <a:pt x="52" y="915"/>
                    </a:lnTo>
                    <a:lnTo>
                      <a:pt x="47" y="840"/>
                    </a:lnTo>
                    <a:lnTo>
                      <a:pt x="44" y="763"/>
                    </a:lnTo>
                    <a:lnTo>
                      <a:pt x="42" y="685"/>
                    </a:lnTo>
                    <a:lnTo>
                      <a:pt x="42" y="609"/>
                    </a:lnTo>
                    <a:lnTo>
                      <a:pt x="42" y="531"/>
                    </a:lnTo>
                    <a:lnTo>
                      <a:pt x="44" y="454"/>
                    </a:lnTo>
                    <a:lnTo>
                      <a:pt x="47" y="378"/>
                    </a:lnTo>
                    <a:lnTo>
                      <a:pt x="52" y="301"/>
                    </a:lnTo>
                    <a:lnTo>
                      <a:pt x="57" y="225"/>
                    </a:lnTo>
                    <a:lnTo>
                      <a:pt x="65" y="150"/>
                    </a:lnTo>
                    <a:lnTo>
                      <a:pt x="72" y="74"/>
                    </a:lnTo>
                    <a:lnTo>
                      <a:pt x="82" y="0"/>
                    </a:lnTo>
                    <a:lnTo>
                      <a:pt x="73" y="18"/>
                    </a:lnTo>
                    <a:lnTo>
                      <a:pt x="66" y="37"/>
                    </a:lnTo>
                    <a:lnTo>
                      <a:pt x="58" y="56"/>
                    </a:lnTo>
                    <a:lnTo>
                      <a:pt x="51" y="75"/>
                    </a:lnTo>
                    <a:lnTo>
                      <a:pt x="43" y="94"/>
                    </a:lnTo>
                    <a:lnTo>
                      <a:pt x="36" y="113"/>
                    </a:lnTo>
                    <a:lnTo>
                      <a:pt x="29" y="132"/>
                    </a:lnTo>
                    <a:lnTo>
                      <a:pt x="23" y="152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2746440" y="2730600"/>
                <a:ext cx="3654360" cy="534960"/>
              </a:xfrm>
              <a:custGeom>
                <a:avLst/>
                <a:gdLst/>
                <a:ahLst/>
                <a:rect l="l" t="t" r="r" b="b"/>
                <a:pathLst>
                  <a:path w="9210" h="1349">
                    <a:moveTo>
                      <a:pt x="9210" y="673"/>
                    </a:moveTo>
                    <a:lnTo>
                      <a:pt x="9209" y="605"/>
                    </a:lnTo>
                    <a:lnTo>
                      <a:pt x="9208" y="537"/>
                    </a:lnTo>
                    <a:lnTo>
                      <a:pt x="9204" y="469"/>
                    </a:lnTo>
                    <a:lnTo>
                      <a:pt x="9201" y="401"/>
                    </a:lnTo>
                    <a:lnTo>
                      <a:pt x="9197" y="334"/>
                    </a:lnTo>
                    <a:lnTo>
                      <a:pt x="9192" y="267"/>
                    </a:lnTo>
                    <a:lnTo>
                      <a:pt x="9185" y="200"/>
                    </a:lnTo>
                    <a:lnTo>
                      <a:pt x="9177" y="134"/>
                    </a:lnTo>
                    <a:lnTo>
                      <a:pt x="9171" y="116"/>
                    </a:lnTo>
                    <a:lnTo>
                      <a:pt x="9165" y="100"/>
                    </a:lnTo>
                    <a:lnTo>
                      <a:pt x="9157" y="83"/>
                    </a:lnTo>
                    <a:lnTo>
                      <a:pt x="9149" y="67"/>
                    </a:lnTo>
                    <a:lnTo>
                      <a:pt x="9142" y="50"/>
                    </a:lnTo>
                    <a:lnTo>
                      <a:pt x="9134" y="33"/>
                    </a:lnTo>
                    <a:lnTo>
                      <a:pt x="9127" y="16"/>
                    </a:lnTo>
                    <a:lnTo>
                      <a:pt x="9118" y="0"/>
                    </a:lnTo>
                    <a:lnTo>
                      <a:pt x="9130" y="83"/>
                    </a:lnTo>
                    <a:lnTo>
                      <a:pt x="9140" y="165"/>
                    </a:lnTo>
                    <a:lnTo>
                      <a:pt x="9148" y="249"/>
                    </a:lnTo>
                    <a:lnTo>
                      <a:pt x="9155" y="332"/>
                    </a:lnTo>
                    <a:lnTo>
                      <a:pt x="9161" y="417"/>
                    </a:lnTo>
                    <a:lnTo>
                      <a:pt x="9165" y="502"/>
                    </a:lnTo>
                    <a:lnTo>
                      <a:pt x="9167" y="587"/>
                    </a:lnTo>
                    <a:lnTo>
                      <a:pt x="9168" y="673"/>
                    </a:lnTo>
                    <a:lnTo>
                      <a:pt x="9167" y="758"/>
                    </a:lnTo>
                    <a:lnTo>
                      <a:pt x="9165" y="844"/>
                    </a:lnTo>
                    <a:lnTo>
                      <a:pt x="9160" y="929"/>
                    </a:lnTo>
                    <a:lnTo>
                      <a:pt x="9155" y="1014"/>
                    </a:lnTo>
                    <a:lnTo>
                      <a:pt x="9148" y="1098"/>
                    </a:lnTo>
                    <a:lnTo>
                      <a:pt x="9140" y="1182"/>
                    </a:lnTo>
                    <a:lnTo>
                      <a:pt x="9130" y="1266"/>
                    </a:lnTo>
                    <a:lnTo>
                      <a:pt x="9118" y="1349"/>
                    </a:lnTo>
                    <a:lnTo>
                      <a:pt x="9126" y="1331"/>
                    </a:lnTo>
                    <a:lnTo>
                      <a:pt x="9134" y="1315"/>
                    </a:lnTo>
                    <a:lnTo>
                      <a:pt x="9142" y="1298"/>
                    </a:lnTo>
                    <a:lnTo>
                      <a:pt x="9149" y="1281"/>
                    </a:lnTo>
                    <a:lnTo>
                      <a:pt x="9157" y="1265"/>
                    </a:lnTo>
                    <a:lnTo>
                      <a:pt x="9165" y="1247"/>
                    </a:lnTo>
                    <a:lnTo>
                      <a:pt x="9171" y="1230"/>
                    </a:lnTo>
                    <a:lnTo>
                      <a:pt x="9177" y="1213"/>
                    </a:lnTo>
                    <a:lnTo>
                      <a:pt x="9185" y="1147"/>
                    </a:lnTo>
                    <a:lnTo>
                      <a:pt x="9192" y="1080"/>
                    </a:lnTo>
                    <a:lnTo>
                      <a:pt x="9197" y="1012"/>
                    </a:lnTo>
                    <a:lnTo>
                      <a:pt x="9201" y="945"/>
                    </a:lnTo>
                    <a:lnTo>
                      <a:pt x="9204" y="877"/>
                    </a:lnTo>
                    <a:lnTo>
                      <a:pt x="9208" y="809"/>
                    </a:lnTo>
                    <a:lnTo>
                      <a:pt x="9209" y="741"/>
                    </a:lnTo>
                    <a:lnTo>
                      <a:pt x="9210" y="673"/>
                    </a:lnTo>
                    <a:close/>
                    <a:moveTo>
                      <a:pt x="33" y="134"/>
                    </a:moveTo>
                    <a:lnTo>
                      <a:pt x="25" y="200"/>
                    </a:lnTo>
                    <a:lnTo>
                      <a:pt x="19" y="267"/>
                    </a:lnTo>
                    <a:lnTo>
                      <a:pt x="13" y="334"/>
                    </a:lnTo>
                    <a:lnTo>
                      <a:pt x="9" y="401"/>
                    </a:lnTo>
                    <a:lnTo>
                      <a:pt x="6" y="469"/>
                    </a:lnTo>
                    <a:lnTo>
                      <a:pt x="3" y="537"/>
                    </a:lnTo>
                    <a:lnTo>
                      <a:pt x="2" y="605"/>
                    </a:lnTo>
                    <a:lnTo>
                      <a:pt x="0" y="673"/>
                    </a:lnTo>
                    <a:lnTo>
                      <a:pt x="2" y="741"/>
                    </a:lnTo>
                    <a:lnTo>
                      <a:pt x="3" y="809"/>
                    </a:lnTo>
                    <a:lnTo>
                      <a:pt x="6" y="877"/>
                    </a:lnTo>
                    <a:lnTo>
                      <a:pt x="9" y="944"/>
                    </a:lnTo>
                    <a:lnTo>
                      <a:pt x="13" y="1011"/>
                    </a:lnTo>
                    <a:lnTo>
                      <a:pt x="19" y="1078"/>
                    </a:lnTo>
                    <a:lnTo>
                      <a:pt x="25" y="1145"/>
                    </a:lnTo>
                    <a:lnTo>
                      <a:pt x="33" y="1212"/>
                    </a:lnTo>
                    <a:lnTo>
                      <a:pt x="39" y="1228"/>
                    </a:lnTo>
                    <a:lnTo>
                      <a:pt x="46" y="1245"/>
                    </a:lnTo>
                    <a:lnTo>
                      <a:pt x="53" y="1261"/>
                    </a:lnTo>
                    <a:lnTo>
                      <a:pt x="61" y="1279"/>
                    </a:lnTo>
                    <a:lnTo>
                      <a:pt x="69" y="1295"/>
                    </a:lnTo>
                    <a:lnTo>
                      <a:pt x="76" y="1312"/>
                    </a:lnTo>
                    <a:lnTo>
                      <a:pt x="84" y="1328"/>
                    </a:lnTo>
                    <a:lnTo>
                      <a:pt x="92" y="1344"/>
                    </a:lnTo>
                    <a:lnTo>
                      <a:pt x="80" y="1262"/>
                    </a:lnTo>
                    <a:lnTo>
                      <a:pt x="71" y="1179"/>
                    </a:lnTo>
                    <a:lnTo>
                      <a:pt x="62" y="1096"/>
                    </a:lnTo>
                    <a:lnTo>
                      <a:pt x="56" y="1012"/>
                    </a:lnTo>
                    <a:lnTo>
                      <a:pt x="49" y="928"/>
                    </a:lnTo>
                    <a:lnTo>
                      <a:pt x="46" y="843"/>
                    </a:lnTo>
                    <a:lnTo>
                      <a:pt x="44" y="758"/>
                    </a:lnTo>
                    <a:lnTo>
                      <a:pt x="43" y="673"/>
                    </a:lnTo>
                    <a:lnTo>
                      <a:pt x="44" y="587"/>
                    </a:lnTo>
                    <a:lnTo>
                      <a:pt x="46" y="502"/>
                    </a:lnTo>
                    <a:lnTo>
                      <a:pt x="49" y="417"/>
                    </a:lnTo>
                    <a:lnTo>
                      <a:pt x="56" y="332"/>
                    </a:lnTo>
                    <a:lnTo>
                      <a:pt x="62" y="249"/>
                    </a:lnTo>
                    <a:lnTo>
                      <a:pt x="71" y="165"/>
                    </a:lnTo>
                    <a:lnTo>
                      <a:pt x="80" y="83"/>
                    </a:lnTo>
                    <a:lnTo>
                      <a:pt x="92" y="0"/>
                    </a:lnTo>
                    <a:lnTo>
                      <a:pt x="84" y="16"/>
                    </a:lnTo>
                    <a:lnTo>
                      <a:pt x="76" y="33"/>
                    </a:lnTo>
                    <a:lnTo>
                      <a:pt x="69" y="50"/>
                    </a:lnTo>
                    <a:lnTo>
                      <a:pt x="61" y="67"/>
                    </a:lnTo>
                    <a:lnTo>
                      <a:pt x="53" y="83"/>
                    </a:lnTo>
                    <a:lnTo>
                      <a:pt x="46" y="100"/>
                    </a:lnTo>
                    <a:lnTo>
                      <a:pt x="39" y="116"/>
                    </a:lnTo>
                    <a:lnTo>
                      <a:pt x="33" y="134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755800" y="2708280"/>
                <a:ext cx="3637080" cy="581040"/>
              </a:xfrm>
              <a:custGeom>
                <a:avLst/>
                <a:gdLst/>
                <a:ahLst/>
                <a:rect l="l" t="t" r="r" b="b"/>
                <a:pathLst>
                  <a:path w="9166" h="1464">
                    <a:moveTo>
                      <a:pt x="9166" y="730"/>
                    </a:moveTo>
                    <a:lnTo>
                      <a:pt x="9166" y="652"/>
                    </a:lnTo>
                    <a:lnTo>
                      <a:pt x="9164" y="575"/>
                    </a:lnTo>
                    <a:lnTo>
                      <a:pt x="9161" y="499"/>
                    </a:lnTo>
                    <a:lnTo>
                      <a:pt x="9157" y="422"/>
                    </a:lnTo>
                    <a:lnTo>
                      <a:pt x="9151" y="346"/>
                    </a:lnTo>
                    <a:lnTo>
                      <a:pt x="9144" y="271"/>
                    </a:lnTo>
                    <a:lnTo>
                      <a:pt x="9136" y="195"/>
                    </a:lnTo>
                    <a:lnTo>
                      <a:pt x="9126" y="121"/>
                    </a:lnTo>
                    <a:lnTo>
                      <a:pt x="9120" y="105"/>
                    </a:lnTo>
                    <a:lnTo>
                      <a:pt x="9112" y="89"/>
                    </a:lnTo>
                    <a:lnTo>
                      <a:pt x="9105" y="74"/>
                    </a:lnTo>
                    <a:lnTo>
                      <a:pt x="9097" y="59"/>
                    </a:lnTo>
                    <a:lnTo>
                      <a:pt x="9090" y="44"/>
                    </a:lnTo>
                    <a:lnTo>
                      <a:pt x="9082" y="29"/>
                    </a:lnTo>
                    <a:lnTo>
                      <a:pt x="9074" y="15"/>
                    </a:lnTo>
                    <a:lnTo>
                      <a:pt x="9066" y="0"/>
                    </a:lnTo>
                    <a:lnTo>
                      <a:pt x="9080" y="89"/>
                    </a:lnTo>
                    <a:lnTo>
                      <a:pt x="9092" y="179"/>
                    </a:lnTo>
                    <a:lnTo>
                      <a:pt x="9101" y="270"/>
                    </a:lnTo>
                    <a:lnTo>
                      <a:pt x="9110" y="360"/>
                    </a:lnTo>
                    <a:lnTo>
                      <a:pt x="9117" y="452"/>
                    </a:lnTo>
                    <a:lnTo>
                      <a:pt x="9121" y="544"/>
                    </a:lnTo>
                    <a:lnTo>
                      <a:pt x="9124" y="637"/>
                    </a:lnTo>
                    <a:lnTo>
                      <a:pt x="9125" y="730"/>
                    </a:lnTo>
                    <a:lnTo>
                      <a:pt x="9124" y="823"/>
                    </a:lnTo>
                    <a:lnTo>
                      <a:pt x="9121" y="917"/>
                    </a:lnTo>
                    <a:lnTo>
                      <a:pt x="9117" y="1009"/>
                    </a:lnTo>
                    <a:lnTo>
                      <a:pt x="9110" y="1101"/>
                    </a:lnTo>
                    <a:lnTo>
                      <a:pt x="9101" y="1193"/>
                    </a:lnTo>
                    <a:lnTo>
                      <a:pt x="9092" y="1284"/>
                    </a:lnTo>
                    <a:lnTo>
                      <a:pt x="9079" y="1374"/>
                    </a:lnTo>
                    <a:lnTo>
                      <a:pt x="9066" y="1464"/>
                    </a:lnTo>
                    <a:lnTo>
                      <a:pt x="9073" y="1449"/>
                    </a:lnTo>
                    <a:lnTo>
                      <a:pt x="9082" y="1434"/>
                    </a:lnTo>
                    <a:lnTo>
                      <a:pt x="9090" y="1419"/>
                    </a:lnTo>
                    <a:lnTo>
                      <a:pt x="9097" y="1404"/>
                    </a:lnTo>
                    <a:lnTo>
                      <a:pt x="9105" y="1387"/>
                    </a:lnTo>
                    <a:lnTo>
                      <a:pt x="9112" y="1372"/>
                    </a:lnTo>
                    <a:lnTo>
                      <a:pt x="9119" y="1357"/>
                    </a:lnTo>
                    <a:lnTo>
                      <a:pt x="9126" y="1342"/>
                    </a:lnTo>
                    <a:lnTo>
                      <a:pt x="9135" y="1266"/>
                    </a:lnTo>
                    <a:lnTo>
                      <a:pt x="9144" y="1191"/>
                    </a:lnTo>
                    <a:lnTo>
                      <a:pt x="9150" y="1114"/>
                    </a:lnTo>
                    <a:lnTo>
                      <a:pt x="9157" y="1039"/>
                    </a:lnTo>
                    <a:lnTo>
                      <a:pt x="9161" y="962"/>
                    </a:lnTo>
                    <a:lnTo>
                      <a:pt x="9164" y="884"/>
                    </a:lnTo>
                    <a:lnTo>
                      <a:pt x="9166" y="807"/>
                    </a:lnTo>
                    <a:lnTo>
                      <a:pt x="9166" y="730"/>
                    </a:lnTo>
                    <a:close/>
                    <a:moveTo>
                      <a:pt x="40" y="121"/>
                    </a:moveTo>
                    <a:lnTo>
                      <a:pt x="30" y="195"/>
                    </a:lnTo>
                    <a:lnTo>
                      <a:pt x="23" y="271"/>
                    </a:lnTo>
                    <a:lnTo>
                      <a:pt x="15" y="346"/>
                    </a:lnTo>
                    <a:lnTo>
                      <a:pt x="10" y="422"/>
                    </a:lnTo>
                    <a:lnTo>
                      <a:pt x="5" y="499"/>
                    </a:lnTo>
                    <a:lnTo>
                      <a:pt x="2" y="575"/>
                    </a:lnTo>
                    <a:lnTo>
                      <a:pt x="0" y="652"/>
                    </a:lnTo>
                    <a:lnTo>
                      <a:pt x="0" y="730"/>
                    </a:lnTo>
                    <a:lnTo>
                      <a:pt x="0" y="806"/>
                    </a:lnTo>
                    <a:lnTo>
                      <a:pt x="2" y="884"/>
                    </a:lnTo>
                    <a:lnTo>
                      <a:pt x="5" y="961"/>
                    </a:lnTo>
                    <a:lnTo>
                      <a:pt x="10" y="1036"/>
                    </a:lnTo>
                    <a:lnTo>
                      <a:pt x="15" y="1113"/>
                    </a:lnTo>
                    <a:lnTo>
                      <a:pt x="23" y="1189"/>
                    </a:lnTo>
                    <a:lnTo>
                      <a:pt x="30" y="1264"/>
                    </a:lnTo>
                    <a:lnTo>
                      <a:pt x="40" y="1339"/>
                    </a:lnTo>
                    <a:lnTo>
                      <a:pt x="47" y="1354"/>
                    </a:lnTo>
                    <a:lnTo>
                      <a:pt x="54" y="1369"/>
                    </a:lnTo>
                    <a:lnTo>
                      <a:pt x="62" y="1384"/>
                    </a:lnTo>
                    <a:lnTo>
                      <a:pt x="69" y="1399"/>
                    </a:lnTo>
                    <a:lnTo>
                      <a:pt x="77" y="1414"/>
                    </a:lnTo>
                    <a:lnTo>
                      <a:pt x="84" y="1430"/>
                    </a:lnTo>
                    <a:lnTo>
                      <a:pt x="92" y="1445"/>
                    </a:lnTo>
                    <a:lnTo>
                      <a:pt x="101" y="1460"/>
                    </a:lnTo>
                    <a:lnTo>
                      <a:pt x="87" y="1370"/>
                    </a:lnTo>
                    <a:lnTo>
                      <a:pt x="75" y="1280"/>
                    </a:lnTo>
                    <a:lnTo>
                      <a:pt x="65" y="1190"/>
                    </a:lnTo>
                    <a:lnTo>
                      <a:pt x="56" y="1099"/>
                    </a:lnTo>
                    <a:lnTo>
                      <a:pt x="50" y="1007"/>
                    </a:lnTo>
                    <a:lnTo>
                      <a:pt x="45" y="915"/>
                    </a:lnTo>
                    <a:lnTo>
                      <a:pt x="42" y="823"/>
                    </a:lnTo>
                    <a:lnTo>
                      <a:pt x="41" y="730"/>
                    </a:lnTo>
                    <a:lnTo>
                      <a:pt x="42" y="637"/>
                    </a:lnTo>
                    <a:lnTo>
                      <a:pt x="45" y="544"/>
                    </a:lnTo>
                    <a:lnTo>
                      <a:pt x="50" y="452"/>
                    </a:lnTo>
                    <a:lnTo>
                      <a:pt x="56" y="360"/>
                    </a:lnTo>
                    <a:lnTo>
                      <a:pt x="65" y="270"/>
                    </a:lnTo>
                    <a:lnTo>
                      <a:pt x="75" y="179"/>
                    </a:lnTo>
                    <a:lnTo>
                      <a:pt x="87" y="89"/>
                    </a:lnTo>
                    <a:lnTo>
                      <a:pt x="101" y="0"/>
                    </a:lnTo>
                    <a:lnTo>
                      <a:pt x="92" y="15"/>
                    </a:lnTo>
                    <a:lnTo>
                      <a:pt x="84" y="29"/>
                    </a:lnTo>
                    <a:lnTo>
                      <a:pt x="77" y="44"/>
                    </a:lnTo>
                    <a:lnTo>
                      <a:pt x="69" y="59"/>
                    </a:lnTo>
                    <a:lnTo>
                      <a:pt x="62" y="74"/>
                    </a:lnTo>
                    <a:lnTo>
                      <a:pt x="54" y="89"/>
                    </a:lnTo>
                    <a:lnTo>
                      <a:pt x="47" y="104"/>
                    </a:lnTo>
                    <a:lnTo>
                      <a:pt x="40" y="121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763720" y="2685960"/>
                <a:ext cx="3621240" cy="623880"/>
              </a:xfrm>
              <a:custGeom>
                <a:avLst/>
                <a:gdLst/>
                <a:ahLst/>
                <a:rect l="l" t="t" r="r" b="b"/>
                <a:pathLst>
                  <a:path w="9125" h="1571">
                    <a:moveTo>
                      <a:pt x="9125" y="783"/>
                    </a:moveTo>
                    <a:lnTo>
                      <a:pt x="9124" y="697"/>
                    </a:lnTo>
                    <a:lnTo>
                      <a:pt x="9122" y="612"/>
                    </a:lnTo>
                    <a:lnTo>
                      <a:pt x="9118" y="527"/>
                    </a:lnTo>
                    <a:lnTo>
                      <a:pt x="9112" y="442"/>
                    </a:lnTo>
                    <a:lnTo>
                      <a:pt x="9105" y="359"/>
                    </a:lnTo>
                    <a:lnTo>
                      <a:pt x="9097" y="275"/>
                    </a:lnTo>
                    <a:lnTo>
                      <a:pt x="9087" y="193"/>
                    </a:lnTo>
                    <a:lnTo>
                      <a:pt x="9075" y="110"/>
                    </a:lnTo>
                    <a:lnTo>
                      <a:pt x="9069" y="96"/>
                    </a:lnTo>
                    <a:lnTo>
                      <a:pt x="9061" y="82"/>
                    </a:lnTo>
                    <a:lnTo>
                      <a:pt x="9053" y="69"/>
                    </a:lnTo>
                    <a:lnTo>
                      <a:pt x="9047" y="55"/>
                    </a:lnTo>
                    <a:lnTo>
                      <a:pt x="9039" y="41"/>
                    </a:lnTo>
                    <a:lnTo>
                      <a:pt x="9031" y="27"/>
                    </a:lnTo>
                    <a:lnTo>
                      <a:pt x="9023" y="14"/>
                    </a:lnTo>
                    <a:lnTo>
                      <a:pt x="9016" y="0"/>
                    </a:lnTo>
                    <a:lnTo>
                      <a:pt x="9031" y="96"/>
                    </a:lnTo>
                    <a:lnTo>
                      <a:pt x="9045" y="192"/>
                    </a:lnTo>
                    <a:lnTo>
                      <a:pt x="9057" y="289"/>
                    </a:lnTo>
                    <a:lnTo>
                      <a:pt x="9066" y="386"/>
                    </a:lnTo>
                    <a:lnTo>
                      <a:pt x="9074" y="485"/>
                    </a:lnTo>
                    <a:lnTo>
                      <a:pt x="9079" y="583"/>
                    </a:lnTo>
                    <a:lnTo>
                      <a:pt x="9080" y="633"/>
                    </a:lnTo>
                    <a:lnTo>
                      <a:pt x="9083" y="682"/>
                    </a:lnTo>
                    <a:lnTo>
                      <a:pt x="9083" y="732"/>
                    </a:lnTo>
                    <a:lnTo>
                      <a:pt x="9084" y="783"/>
                    </a:lnTo>
                    <a:lnTo>
                      <a:pt x="9083" y="832"/>
                    </a:lnTo>
                    <a:lnTo>
                      <a:pt x="9083" y="883"/>
                    </a:lnTo>
                    <a:lnTo>
                      <a:pt x="9080" y="933"/>
                    </a:lnTo>
                    <a:lnTo>
                      <a:pt x="9078" y="984"/>
                    </a:lnTo>
                    <a:lnTo>
                      <a:pt x="9076" y="1033"/>
                    </a:lnTo>
                    <a:lnTo>
                      <a:pt x="9073" y="1083"/>
                    </a:lnTo>
                    <a:lnTo>
                      <a:pt x="9070" y="1133"/>
                    </a:lnTo>
                    <a:lnTo>
                      <a:pt x="9065" y="1181"/>
                    </a:lnTo>
                    <a:lnTo>
                      <a:pt x="9056" y="1279"/>
                    </a:lnTo>
                    <a:lnTo>
                      <a:pt x="9044" y="1378"/>
                    </a:lnTo>
                    <a:lnTo>
                      <a:pt x="9031" y="1475"/>
                    </a:lnTo>
                    <a:lnTo>
                      <a:pt x="9015" y="1571"/>
                    </a:lnTo>
                    <a:lnTo>
                      <a:pt x="9022" y="1557"/>
                    </a:lnTo>
                    <a:lnTo>
                      <a:pt x="9031" y="1543"/>
                    </a:lnTo>
                    <a:lnTo>
                      <a:pt x="9038" y="1529"/>
                    </a:lnTo>
                    <a:lnTo>
                      <a:pt x="9046" y="1515"/>
                    </a:lnTo>
                    <a:lnTo>
                      <a:pt x="9053" y="1501"/>
                    </a:lnTo>
                    <a:lnTo>
                      <a:pt x="9061" y="1487"/>
                    </a:lnTo>
                    <a:lnTo>
                      <a:pt x="9067" y="1473"/>
                    </a:lnTo>
                    <a:lnTo>
                      <a:pt x="9075" y="1459"/>
                    </a:lnTo>
                    <a:lnTo>
                      <a:pt x="9087" y="1376"/>
                    </a:lnTo>
                    <a:lnTo>
                      <a:pt x="9097" y="1292"/>
                    </a:lnTo>
                    <a:lnTo>
                      <a:pt x="9105" y="1208"/>
                    </a:lnTo>
                    <a:lnTo>
                      <a:pt x="9112" y="1124"/>
                    </a:lnTo>
                    <a:lnTo>
                      <a:pt x="9117" y="1039"/>
                    </a:lnTo>
                    <a:lnTo>
                      <a:pt x="9122" y="954"/>
                    </a:lnTo>
                    <a:lnTo>
                      <a:pt x="9124" y="868"/>
                    </a:lnTo>
                    <a:lnTo>
                      <a:pt x="9125" y="783"/>
                    </a:lnTo>
                    <a:close/>
                    <a:moveTo>
                      <a:pt x="49" y="110"/>
                    </a:moveTo>
                    <a:lnTo>
                      <a:pt x="37" y="193"/>
                    </a:lnTo>
                    <a:lnTo>
                      <a:pt x="28" y="275"/>
                    </a:lnTo>
                    <a:lnTo>
                      <a:pt x="19" y="359"/>
                    </a:lnTo>
                    <a:lnTo>
                      <a:pt x="13" y="442"/>
                    </a:lnTo>
                    <a:lnTo>
                      <a:pt x="6" y="527"/>
                    </a:lnTo>
                    <a:lnTo>
                      <a:pt x="3" y="612"/>
                    </a:lnTo>
                    <a:lnTo>
                      <a:pt x="1" y="697"/>
                    </a:lnTo>
                    <a:lnTo>
                      <a:pt x="0" y="783"/>
                    </a:lnTo>
                    <a:lnTo>
                      <a:pt x="1" y="868"/>
                    </a:lnTo>
                    <a:lnTo>
                      <a:pt x="3" y="953"/>
                    </a:lnTo>
                    <a:lnTo>
                      <a:pt x="6" y="1038"/>
                    </a:lnTo>
                    <a:lnTo>
                      <a:pt x="13" y="1122"/>
                    </a:lnTo>
                    <a:lnTo>
                      <a:pt x="19" y="1206"/>
                    </a:lnTo>
                    <a:lnTo>
                      <a:pt x="28" y="1289"/>
                    </a:lnTo>
                    <a:lnTo>
                      <a:pt x="37" y="1372"/>
                    </a:lnTo>
                    <a:lnTo>
                      <a:pt x="49" y="1454"/>
                    </a:lnTo>
                    <a:lnTo>
                      <a:pt x="56" y="1468"/>
                    </a:lnTo>
                    <a:lnTo>
                      <a:pt x="63" y="1483"/>
                    </a:lnTo>
                    <a:lnTo>
                      <a:pt x="71" y="1497"/>
                    </a:lnTo>
                    <a:lnTo>
                      <a:pt x="77" y="1511"/>
                    </a:lnTo>
                    <a:lnTo>
                      <a:pt x="85" y="1525"/>
                    </a:lnTo>
                    <a:lnTo>
                      <a:pt x="94" y="1538"/>
                    </a:lnTo>
                    <a:lnTo>
                      <a:pt x="101" y="1552"/>
                    </a:lnTo>
                    <a:lnTo>
                      <a:pt x="109" y="1566"/>
                    </a:lnTo>
                    <a:lnTo>
                      <a:pt x="94" y="1470"/>
                    </a:lnTo>
                    <a:lnTo>
                      <a:pt x="80" y="1373"/>
                    </a:lnTo>
                    <a:lnTo>
                      <a:pt x="68" y="1276"/>
                    </a:lnTo>
                    <a:lnTo>
                      <a:pt x="58" y="1179"/>
                    </a:lnTo>
                    <a:lnTo>
                      <a:pt x="55" y="1129"/>
                    </a:lnTo>
                    <a:lnTo>
                      <a:pt x="50" y="1081"/>
                    </a:lnTo>
                    <a:lnTo>
                      <a:pt x="48" y="1031"/>
                    </a:lnTo>
                    <a:lnTo>
                      <a:pt x="45" y="981"/>
                    </a:lnTo>
                    <a:lnTo>
                      <a:pt x="44" y="932"/>
                    </a:lnTo>
                    <a:lnTo>
                      <a:pt x="42" y="882"/>
                    </a:lnTo>
                    <a:lnTo>
                      <a:pt x="42" y="832"/>
                    </a:lnTo>
                    <a:lnTo>
                      <a:pt x="41" y="783"/>
                    </a:lnTo>
                    <a:lnTo>
                      <a:pt x="42" y="732"/>
                    </a:lnTo>
                    <a:lnTo>
                      <a:pt x="42" y="682"/>
                    </a:lnTo>
                    <a:lnTo>
                      <a:pt x="44" y="633"/>
                    </a:lnTo>
                    <a:lnTo>
                      <a:pt x="45" y="583"/>
                    </a:lnTo>
                    <a:lnTo>
                      <a:pt x="48" y="534"/>
                    </a:lnTo>
                    <a:lnTo>
                      <a:pt x="50" y="485"/>
                    </a:lnTo>
                    <a:lnTo>
                      <a:pt x="55" y="435"/>
                    </a:lnTo>
                    <a:lnTo>
                      <a:pt x="58" y="386"/>
                    </a:lnTo>
                    <a:lnTo>
                      <a:pt x="68" y="289"/>
                    </a:lnTo>
                    <a:lnTo>
                      <a:pt x="80" y="192"/>
                    </a:lnTo>
                    <a:lnTo>
                      <a:pt x="94" y="96"/>
                    </a:lnTo>
                    <a:lnTo>
                      <a:pt x="109" y="0"/>
                    </a:lnTo>
                    <a:lnTo>
                      <a:pt x="101" y="14"/>
                    </a:lnTo>
                    <a:lnTo>
                      <a:pt x="94" y="27"/>
                    </a:lnTo>
                    <a:lnTo>
                      <a:pt x="85" y="41"/>
                    </a:lnTo>
                    <a:lnTo>
                      <a:pt x="77" y="55"/>
                    </a:lnTo>
                    <a:lnTo>
                      <a:pt x="71" y="69"/>
                    </a:lnTo>
                    <a:lnTo>
                      <a:pt x="63" y="82"/>
                    </a:lnTo>
                    <a:lnTo>
                      <a:pt x="56" y="96"/>
                    </a:lnTo>
                    <a:lnTo>
                      <a:pt x="49" y="110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771640" y="2666880"/>
                <a:ext cx="3605400" cy="663480"/>
              </a:xfrm>
              <a:custGeom>
                <a:avLst/>
                <a:gdLst/>
                <a:ahLst/>
                <a:rect l="l" t="t" r="r" b="b"/>
                <a:pathLst>
                  <a:path w="9084" h="1672">
                    <a:moveTo>
                      <a:pt x="9084" y="833"/>
                    </a:moveTo>
                    <a:lnTo>
                      <a:pt x="9083" y="740"/>
                    </a:lnTo>
                    <a:lnTo>
                      <a:pt x="9080" y="647"/>
                    </a:lnTo>
                    <a:lnTo>
                      <a:pt x="9076" y="555"/>
                    </a:lnTo>
                    <a:lnTo>
                      <a:pt x="9069" y="463"/>
                    </a:lnTo>
                    <a:lnTo>
                      <a:pt x="9060" y="373"/>
                    </a:lnTo>
                    <a:lnTo>
                      <a:pt x="9051" y="282"/>
                    </a:lnTo>
                    <a:lnTo>
                      <a:pt x="9039" y="192"/>
                    </a:lnTo>
                    <a:lnTo>
                      <a:pt x="9025" y="103"/>
                    </a:lnTo>
                    <a:lnTo>
                      <a:pt x="9018" y="90"/>
                    </a:lnTo>
                    <a:lnTo>
                      <a:pt x="9011" y="77"/>
                    </a:lnTo>
                    <a:lnTo>
                      <a:pt x="9003" y="64"/>
                    </a:lnTo>
                    <a:lnTo>
                      <a:pt x="8996" y="51"/>
                    </a:lnTo>
                    <a:lnTo>
                      <a:pt x="8988" y="38"/>
                    </a:lnTo>
                    <a:lnTo>
                      <a:pt x="8980" y="25"/>
                    </a:lnTo>
                    <a:lnTo>
                      <a:pt x="8973" y="12"/>
                    </a:lnTo>
                    <a:lnTo>
                      <a:pt x="8965" y="0"/>
                    </a:lnTo>
                    <a:lnTo>
                      <a:pt x="8974" y="51"/>
                    </a:lnTo>
                    <a:lnTo>
                      <a:pt x="8983" y="102"/>
                    </a:lnTo>
                    <a:lnTo>
                      <a:pt x="8991" y="152"/>
                    </a:lnTo>
                    <a:lnTo>
                      <a:pt x="8999" y="204"/>
                    </a:lnTo>
                    <a:lnTo>
                      <a:pt x="9005" y="255"/>
                    </a:lnTo>
                    <a:lnTo>
                      <a:pt x="9012" y="307"/>
                    </a:lnTo>
                    <a:lnTo>
                      <a:pt x="9017" y="359"/>
                    </a:lnTo>
                    <a:lnTo>
                      <a:pt x="9023" y="410"/>
                    </a:lnTo>
                    <a:lnTo>
                      <a:pt x="9027" y="462"/>
                    </a:lnTo>
                    <a:lnTo>
                      <a:pt x="9031" y="515"/>
                    </a:lnTo>
                    <a:lnTo>
                      <a:pt x="9035" y="568"/>
                    </a:lnTo>
                    <a:lnTo>
                      <a:pt x="9038" y="620"/>
                    </a:lnTo>
                    <a:lnTo>
                      <a:pt x="9040" y="673"/>
                    </a:lnTo>
                    <a:lnTo>
                      <a:pt x="9041" y="726"/>
                    </a:lnTo>
                    <a:lnTo>
                      <a:pt x="9042" y="779"/>
                    </a:lnTo>
                    <a:lnTo>
                      <a:pt x="9042" y="833"/>
                    </a:lnTo>
                    <a:lnTo>
                      <a:pt x="9042" y="886"/>
                    </a:lnTo>
                    <a:lnTo>
                      <a:pt x="9041" y="940"/>
                    </a:lnTo>
                    <a:lnTo>
                      <a:pt x="9040" y="994"/>
                    </a:lnTo>
                    <a:lnTo>
                      <a:pt x="9038" y="1047"/>
                    </a:lnTo>
                    <a:lnTo>
                      <a:pt x="9035" y="1099"/>
                    </a:lnTo>
                    <a:lnTo>
                      <a:pt x="9031" y="1152"/>
                    </a:lnTo>
                    <a:lnTo>
                      <a:pt x="9027" y="1205"/>
                    </a:lnTo>
                    <a:lnTo>
                      <a:pt x="9023" y="1257"/>
                    </a:lnTo>
                    <a:lnTo>
                      <a:pt x="9017" y="1310"/>
                    </a:lnTo>
                    <a:lnTo>
                      <a:pt x="9011" y="1362"/>
                    </a:lnTo>
                    <a:lnTo>
                      <a:pt x="9004" y="1414"/>
                    </a:lnTo>
                    <a:lnTo>
                      <a:pt x="8998" y="1466"/>
                    </a:lnTo>
                    <a:lnTo>
                      <a:pt x="8990" y="1517"/>
                    </a:lnTo>
                    <a:lnTo>
                      <a:pt x="8982" y="1569"/>
                    </a:lnTo>
                    <a:lnTo>
                      <a:pt x="8973" y="1620"/>
                    </a:lnTo>
                    <a:lnTo>
                      <a:pt x="8964" y="1672"/>
                    </a:lnTo>
                    <a:lnTo>
                      <a:pt x="8972" y="1659"/>
                    </a:lnTo>
                    <a:lnTo>
                      <a:pt x="8979" y="1646"/>
                    </a:lnTo>
                    <a:lnTo>
                      <a:pt x="8987" y="1633"/>
                    </a:lnTo>
                    <a:lnTo>
                      <a:pt x="8996" y="1620"/>
                    </a:lnTo>
                    <a:lnTo>
                      <a:pt x="9002" y="1607"/>
                    </a:lnTo>
                    <a:lnTo>
                      <a:pt x="9010" y="1594"/>
                    </a:lnTo>
                    <a:lnTo>
                      <a:pt x="9017" y="1580"/>
                    </a:lnTo>
                    <a:lnTo>
                      <a:pt x="9025" y="1567"/>
                    </a:lnTo>
                    <a:lnTo>
                      <a:pt x="9038" y="1477"/>
                    </a:lnTo>
                    <a:lnTo>
                      <a:pt x="9051" y="1387"/>
                    </a:lnTo>
                    <a:lnTo>
                      <a:pt x="9060" y="1296"/>
                    </a:lnTo>
                    <a:lnTo>
                      <a:pt x="9069" y="1204"/>
                    </a:lnTo>
                    <a:lnTo>
                      <a:pt x="9076" y="1112"/>
                    </a:lnTo>
                    <a:lnTo>
                      <a:pt x="9080" y="1020"/>
                    </a:lnTo>
                    <a:lnTo>
                      <a:pt x="9083" y="926"/>
                    </a:lnTo>
                    <a:lnTo>
                      <a:pt x="9084" y="833"/>
                    </a:lnTo>
                    <a:close/>
                    <a:moveTo>
                      <a:pt x="60" y="103"/>
                    </a:moveTo>
                    <a:lnTo>
                      <a:pt x="46" y="192"/>
                    </a:lnTo>
                    <a:lnTo>
                      <a:pt x="34" y="282"/>
                    </a:lnTo>
                    <a:lnTo>
                      <a:pt x="24" y="373"/>
                    </a:lnTo>
                    <a:lnTo>
                      <a:pt x="15" y="463"/>
                    </a:lnTo>
                    <a:lnTo>
                      <a:pt x="9" y="555"/>
                    </a:lnTo>
                    <a:lnTo>
                      <a:pt x="4" y="647"/>
                    </a:lnTo>
                    <a:lnTo>
                      <a:pt x="1" y="740"/>
                    </a:lnTo>
                    <a:lnTo>
                      <a:pt x="0" y="833"/>
                    </a:lnTo>
                    <a:lnTo>
                      <a:pt x="1" y="926"/>
                    </a:lnTo>
                    <a:lnTo>
                      <a:pt x="4" y="1018"/>
                    </a:lnTo>
                    <a:lnTo>
                      <a:pt x="9" y="1110"/>
                    </a:lnTo>
                    <a:lnTo>
                      <a:pt x="15" y="1202"/>
                    </a:lnTo>
                    <a:lnTo>
                      <a:pt x="24" y="1293"/>
                    </a:lnTo>
                    <a:lnTo>
                      <a:pt x="34" y="1383"/>
                    </a:lnTo>
                    <a:lnTo>
                      <a:pt x="46" y="1473"/>
                    </a:lnTo>
                    <a:lnTo>
                      <a:pt x="60" y="1563"/>
                    </a:lnTo>
                    <a:lnTo>
                      <a:pt x="66" y="1576"/>
                    </a:lnTo>
                    <a:lnTo>
                      <a:pt x="74" y="1589"/>
                    </a:lnTo>
                    <a:lnTo>
                      <a:pt x="81" y="1602"/>
                    </a:lnTo>
                    <a:lnTo>
                      <a:pt x="89" y="1615"/>
                    </a:lnTo>
                    <a:lnTo>
                      <a:pt x="96" y="1626"/>
                    </a:lnTo>
                    <a:lnTo>
                      <a:pt x="104" y="1639"/>
                    </a:lnTo>
                    <a:lnTo>
                      <a:pt x="111" y="1652"/>
                    </a:lnTo>
                    <a:lnTo>
                      <a:pt x="119" y="1665"/>
                    </a:lnTo>
                    <a:lnTo>
                      <a:pt x="110" y="1615"/>
                    </a:lnTo>
                    <a:lnTo>
                      <a:pt x="102" y="1564"/>
                    </a:lnTo>
                    <a:lnTo>
                      <a:pt x="93" y="1512"/>
                    </a:lnTo>
                    <a:lnTo>
                      <a:pt x="86" y="1461"/>
                    </a:lnTo>
                    <a:lnTo>
                      <a:pt x="79" y="1409"/>
                    </a:lnTo>
                    <a:lnTo>
                      <a:pt x="73" y="1359"/>
                    </a:lnTo>
                    <a:lnTo>
                      <a:pt x="67" y="1307"/>
                    </a:lnTo>
                    <a:lnTo>
                      <a:pt x="62" y="1254"/>
                    </a:lnTo>
                    <a:lnTo>
                      <a:pt x="57" y="1202"/>
                    </a:lnTo>
                    <a:lnTo>
                      <a:pt x="53" y="1150"/>
                    </a:lnTo>
                    <a:lnTo>
                      <a:pt x="50" y="1097"/>
                    </a:lnTo>
                    <a:lnTo>
                      <a:pt x="47" y="1044"/>
                    </a:lnTo>
                    <a:lnTo>
                      <a:pt x="44" y="991"/>
                    </a:lnTo>
                    <a:lnTo>
                      <a:pt x="43" y="939"/>
                    </a:lnTo>
                    <a:lnTo>
                      <a:pt x="42" y="886"/>
                    </a:lnTo>
                    <a:lnTo>
                      <a:pt x="42" y="833"/>
                    </a:lnTo>
                    <a:lnTo>
                      <a:pt x="42" y="779"/>
                    </a:lnTo>
                    <a:lnTo>
                      <a:pt x="43" y="726"/>
                    </a:lnTo>
                    <a:lnTo>
                      <a:pt x="44" y="673"/>
                    </a:lnTo>
                    <a:lnTo>
                      <a:pt x="47" y="620"/>
                    </a:lnTo>
                    <a:lnTo>
                      <a:pt x="50" y="568"/>
                    </a:lnTo>
                    <a:lnTo>
                      <a:pt x="53" y="515"/>
                    </a:lnTo>
                    <a:lnTo>
                      <a:pt x="57" y="462"/>
                    </a:lnTo>
                    <a:lnTo>
                      <a:pt x="62" y="410"/>
                    </a:lnTo>
                    <a:lnTo>
                      <a:pt x="67" y="359"/>
                    </a:lnTo>
                    <a:lnTo>
                      <a:pt x="73" y="307"/>
                    </a:lnTo>
                    <a:lnTo>
                      <a:pt x="79" y="255"/>
                    </a:lnTo>
                    <a:lnTo>
                      <a:pt x="86" y="204"/>
                    </a:lnTo>
                    <a:lnTo>
                      <a:pt x="93" y="152"/>
                    </a:lnTo>
                    <a:lnTo>
                      <a:pt x="102" y="102"/>
                    </a:lnTo>
                    <a:lnTo>
                      <a:pt x="110" y="51"/>
                    </a:lnTo>
                    <a:lnTo>
                      <a:pt x="119" y="0"/>
                    </a:lnTo>
                    <a:lnTo>
                      <a:pt x="111" y="12"/>
                    </a:lnTo>
                    <a:lnTo>
                      <a:pt x="104" y="25"/>
                    </a:lnTo>
                    <a:lnTo>
                      <a:pt x="96" y="38"/>
                    </a:lnTo>
                    <a:lnTo>
                      <a:pt x="89" y="51"/>
                    </a:lnTo>
                    <a:lnTo>
                      <a:pt x="81" y="64"/>
                    </a:lnTo>
                    <a:lnTo>
                      <a:pt x="74" y="77"/>
                    </a:lnTo>
                    <a:lnTo>
                      <a:pt x="66" y="90"/>
                    </a:lnTo>
                    <a:lnTo>
                      <a:pt x="60" y="103"/>
                    </a:lnTo>
                    <a:close/>
                  </a:path>
                </a:pathLst>
              </a:custGeom>
              <a:solidFill>
                <a:srgbClr val="c4a8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779560" y="2647800"/>
                <a:ext cx="3589560" cy="701640"/>
              </a:xfrm>
              <a:custGeom>
                <a:avLst/>
                <a:gdLst/>
                <a:ahLst/>
                <a:rect l="l" t="t" r="r" b="b"/>
                <a:pathLst>
                  <a:path w="9043" h="1766">
                    <a:moveTo>
                      <a:pt x="9043" y="881"/>
                    </a:moveTo>
                    <a:lnTo>
                      <a:pt x="9042" y="830"/>
                    </a:lnTo>
                    <a:lnTo>
                      <a:pt x="9042" y="780"/>
                    </a:lnTo>
                    <a:lnTo>
                      <a:pt x="9039" y="731"/>
                    </a:lnTo>
                    <a:lnTo>
                      <a:pt x="9038" y="681"/>
                    </a:lnTo>
                    <a:lnTo>
                      <a:pt x="9033" y="583"/>
                    </a:lnTo>
                    <a:lnTo>
                      <a:pt x="9025" y="484"/>
                    </a:lnTo>
                    <a:lnTo>
                      <a:pt x="9016" y="387"/>
                    </a:lnTo>
                    <a:lnTo>
                      <a:pt x="9004" y="290"/>
                    </a:lnTo>
                    <a:lnTo>
                      <a:pt x="8990" y="194"/>
                    </a:lnTo>
                    <a:lnTo>
                      <a:pt x="8975" y="98"/>
                    </a:lnTo>
                    <a:lnTo>
                      <a:pt x="8967" y="86"/>
                    </a:lnTo>
                    <a:lnTo>
                      <a:pt x="8959" y="73"/>
                    </a:lnTo>
                    <a:lnTo>
                      <a:pt x="8953" y="61"/>
                    </a:lnTo>
                    <a:lnTo>
                      <a:pt x="8945" y="49"/>
                    </a:lnTo>
                    <a:lnTo>
                      <a:pt x="8938" y="37"/>
                    </a:lnTo>
                    <a:lnTo>
                      <a:pt x="8929" y="25"/>
                    </a:lnTo>
                    <a:lnTo>
                      <a:pt x="8922" y="13"/>
                    </a:lnTo>
                    <a:lnTo>
                      <a:pt x="8914" y="0"/>
                    </a:lnTo>
                    <a:lnTo>
                      <a:pt x="8924" y="54"/>
                    </a:lnTo>
                    <a:lnTo>
                      <a:pt x="8934" y="108"/>
                    </a:lnTo>
                    <a:lnTo>
                      <a:pt x="8943" y="161"/>
                    </a:lnTo>
                    <a:lnTo>
                      <a:pt x="8951" y="216"/>
                    </a:lnTo>
                    <a:lnTo>
                      <a:pt x="8959" y="270"/>
                    </a:lnTo>
                    <a:lnTo>
                      <a:pt x="8966" y="324"/>
                    </a:lnTo>
                    <a:lnTo>
                      <a:pt x="8972" y="380"/>
                    </a:lnTo>
                    <a:lnTo>
                      <a:pt x="8979" y="435"/>
                    </a:lnTo>
                    <a:lnTo>
                      <a:pt x="8983" y="490"/>
                    </a:lnTo>
                    <a:lnTo>
                      <a:pt x="8988" y="545"/>
                    </a:lnTo>
                    <a:lnTo>
                      <a:pt x="8992" y="600"/>
                    </a:lnTo>
                    <a:lnTo>
                      <a:pt x="8995" y="656"/>
                    </a:lnTo>
                    <a:lnTo>
                      <a:pt x="8997" y="712"/>
                    </a:lnTo>
                    <a:lnTo>
                      <a:pt x="8999" y="768"/>
                    </a:lnTo>
                    <a:lnTo>
                      <a:pt x="9001" y="825"/>
                    </a:lnTo>
                    <a:lnTo>
                      <a:pt x="9001" y="881"/>
                    </a:lnTo>
                    <a:lnTo>
                      <a:pt x="9001" y="937"/>
                    </a:lnTo>
                    <a:lnTo>
                      <a:pt x="8999" y="994"/>
                    </a:lnTo>
                    <a:lnTo>
                      <a:pt x="8997" y="1050"/>
                    </a:lnTo>
                    <a:lnTo>
                      <a:pt x="8995" y="1106"/>
                    </a:lnTo>
                    <a:lnTo>
                      <a:pt x="8992" y="1163"/>
                    </a:lnTo>
                    <a:lnTo>
                      <a:pt x="8988" y="1219"/>
                    </a:lnTo>
                    <a:lnTo>
                      <a:pt x="8983" y="1274"/>
                    </a:lnTo>
                    <a:lnTo>
                      <a:pt x="8978" y="1330"/>
                    </a:lnTo>
                    <a:lnTo>
                      <a:pt x="8972" y="1385"/>
                    </a:lnTo>
                    <a:lnTo>
                      <a:pt x="8966" y="1440"/>
                    </a:lnTo>
                    <a:lnTo>
                      <a:pt x="8958" y="1495"/>
                    </a:lnTo>
                    <a:lnTo>
                      <a:pt x="8951" y="1550"/>
                    </a:lnTo>
                    <a:lnTo>
                      <a:pt x="8942" y="1604"/>
                    </a:lnTo>
                    <a:lnTo>
                      <a:pt x="8932" y="1658"/>
                    </a:lnTo>
                    <a:lnTo>
                      <a:pt x="8923" y="1712"/>
                    </a:lnTo>
                    <a:lnTo>
                      <a:pt x="8913" y="1766"/>
                    </a:lnTo>
                    <a:lnTo>
                      <a:pt x="8921" y="1754"/>
                    </a:lnTo>
                    <a:lnTo>
                      <a:pt x="8928" y="1743"/>
                    </a:lnTo>
                    <a:lnTo>
                      <a:pt x="8937" y="1730"/>
                    </a:lnTo>
                    <a:lnTo>
                      <a:pt x="8944" y="1718"/>
                    </a:lnTo>
                    <a:lnTo>
                      <a:pt x="8952" y="1706"/>
                    </a:lnTo>
                    <a:lnTo>
                      <a:pt x="8958" y="1693"/>
                    </a:lnTo>
                    <a:lnTo>
                      <a:pt x="8966" y="1681"/>
                    </a:lnTo>
                    <a:lnTo>
                      <a:pt x="8974" y="1669"/>
                    </a:lnTo>
                    <a:lnTo>
                      <a:pt x="8990" y="1573"/>
                    </a:lnTo>
                    <a:lnTo>
                      <a:pt x="9003" y="1476"/>
                    </a:lnTo>
                    <a:lnTo>
                      <a:pt x="9015" y="1377"/>
                    </a:lnTo>
                    <a:lnTo>
                      <a:pt x="9024" y="1279"/>
                    </a:lnTo>
                    <a:lnTo>
                      <a:pt x="9029" y="1231"/>
                    </a:lnTo>
                    <a:lnTo>
                      <a:pt x="9032" y="1181"/>
                    </a:lnTo>
                    <a:lnTo>
                      <a:pt x="9035" y="1131"/>
                    </a:lnTo>
                    <a:lnTo>
                      <a:pt x="9037" y="1082"/>
                    </a:lnTo>
                    <a:lnTo>
                      <a:pt x="9039" y="1031"/>
                    </a:lnTo>
                    <a:lnTo>
                      <a:pt x="9042" y="981"/>
                    </a:lnTo>
                    <a:lnTo>
                      <a:pt x="9042" y="930"/>
                    </a:lnTo>
                    <a:lnTo>
                      <a:pt x="9043" y="881"/>
                    </a:lnTo>
                    <a:close/>
                    <a:moveTo>
                      <a:pt x="68" y="98"/>
                    </a:moveTo>
                    <a:lnTo>
                      <a:pt x="53" y="194"/>
                    </a:lnTo>
                    <a:lnTo>
                      <a:pt x="39" y="290"/>
                    </a:lnTo>
                    <a:lnTo>
                      <a:pt x="27" y="387"/>
                    </a:lnTo>
                    <a:lnTo>
                      <a:pt x="17" y="484"/>
                    </a:lnTo>
                    <a:lnTo>
                      <a:pt x="14" y="533"/>
                    </a:lnTo>
                    <a:lnTo>
                      <a:pt x="9" y="583"/>
                    </a:lnTo>
                    <a:lnTo>
                      <a:pt x="7" y="632"/>
                    </a:lnTo>
                    <a:lnTo>
                      <a:pt x="4" y="681"/>
                    </a:lnTo>
                    <a:lnTo>
                      <a:pt x="3" y="731"/>
                    </a:lnTo>
                    <a:lnTo>
                      <a:pt x="1" y="780"/>
                    </a:lnTo>
                    <a:lnTo>
                      <a:pt x="1" y="830"/>
                    </a:lnTo>
                    <a:lnTo>
                      <a:pt x="0" y="881"/>
                    </a:lnTo>
                    <a:lnTo>
                      <a:pt x="1" y="930"/>
                    </a:lnTo>
                    <a:lnTo>
                      <a:pt x="1" y="980"/>
                    </a:lnTo>
                    <a:lnTo>
                      <a:pt x="3" y="1030"/>
                    </a:lnTo>
                    <a:lnTo>
                      <a:pt x="4" y="1079"/>
                    </a:lnTo>
                    <a:lnTo>
                      <a:pt x="7" y="1129"/>
                    </a:lnTo>
                    <a:lnTo>
                      <a:pt x="9" y="1179"/>
                    </a:lnTo>
                    <a:lnTo>
                      <a:pt x="14" y="1227"/>
                    </a:lnTo>
                    <a:lnTo>
                      <a:pt x="17" y="1277"/>
                    </a:lnTo>
                    <a:lnTo>
                      <a:pt x="27" y="1374"/>
                    </a:lnTo>
                    <a:lnTo>
                      <a:pt x="39" y="1471"/>
                    </a:lnTo>
                    <a:lnTo>
                      <a:pt x="53" y="1568"/>
                    </a:lnTo>
                    <a:lnTo>
                      <a:pt x="68" y="1664"/>
                    </a:lnTo>
                    <a:lnTo>
                      <a:pt x="75" y="1676"/>
                    </a:lnTo>
                    <a:lnTo>
                      <a:pt x="83" y="1687"/>
                    </a:lnTo>
                    <a:lnTo>
                      <a:pt x="89" y="1699"/>
                    </a:lnTo>
                    <a:lnTo>
                      <a:pt x="97" y="1712"/>
                    </a:lnTo>
                    <a:lnTo>
                      <a:pt x="104" y="1724"/>
                    </a:lnTo>
                    <a:lnTo>
                      <a:pt x="113" y="1736"/>
                    </a:lnTo>
                    <a:lnTo>
                      <a:pt x="121" y="1748"/>
                    </a:lnTo>
                    <a:lnTo>
                      <a:pt x="128" y="1760"/>
                    </a:lnTo>
                    <a:lnTo>
                      <a:pt x="119" y="1707"/>
                    </a:lnTo>
                    <a:lnTo>
                      <a:pt x="109" y="1653"/>
                    </a:lnTo>
                    <a:lnTo>
                      <a:pt x="99" y="1599"/>
                    </a:lnTo>
                    <a:lnTo>
                      <a:pt x="92" y="1545"/>
                    </a:lnTo>
                    <a:lnTo>
                      <a:pt x="83" y="1491"/>
                    </a:lnTo>
                    <a:lnTo>
                      <a:pt x="76" y="1436"/>
                    </a:lnTo>
                    <a:lnTo>
                      <a:pt x="70" y="1382"/>
                    </a:lnTo>
                    <a:lnTo>
                      <a:pt x="63" y="1327"/>
                    </a:lnTo>
                    <a:lnTo>
                      <a:pt x="59" y="1272"/>
                    </a:lnTo>
                    <a:lnTo>
                      <a:pt x="55" y="1215"/>
                    </a:lnTo>
                    <a:lnTo>
                      <a:pt x="50" y="1160"/>
                    </a:lnTo>
                    <a:lnTo>
                      <a:pt x="47" y="1105"/>
                    </a:lnTo>
                    <a:lnTo>
                      <a:pt x="45" y="1049"/>
                    </a:lnTo>
                    <a:lnTo>
                      <a:pt x="43" y="993"/>
                    </a:lnTo>
                    <a:lnTo>
                      <a:pt x="42" y="937"/>
                    </a:lnTo>
                    <a:lnTo>
                      <a:pt x="42" y="881"/>
                    </a:lnTo>
                    <a:lnTo>
                      <a:pt x="42" y="825"/>
                    </a:lnTo>
                    <a:lnTo>
                      <a:pt x="43" y="768"/>
                    </a:lnTo>
                    <a:lnTo>
                      <a:pt x="45" y="712"/>
                    </a:lnTo>
                    <a:lnTo>
                      <a:pt x="47" y="656"/>
                    </a:lnTo>
                    <a:lnTo>
                      <a:pt x="50" y="600"/>
                    </a:lnTo>
                    <a:lnTo>
                      <a:pt x="55" y="545"/>
                    </a:lnTo>
                    <a:lnTo>
                      <a:pt x="59" y="490"/>
                    </a:lnTo>
                    <a:lnTo>
                      <a:pt x="63" y="435"/>
                    </a:lnTo>
                    <a:lnTo>
                      <a:pt x="70" y="380"/>
                    </a:lnTo>
                    <a:lnTo>
                      <a:pt x="76" y="324"/>
                    </a:lnTo>
                    <a:lnTo>
                      <a:pt x="83" y="270"/>
                    </a:lnTo>
                    <a:lnTo>
                      <a:pt x="92" y="216"/>
                    </a:lnTo>
                    <a:lnTo>
                      <a:pt x="99" y="161"/>
                    </a:lnTo>
                    <a:lnTo>
                      <a:pt x="109" y="108"/>
                    </a:lnTo>
                    <a:lnTo>
                      <a:pt x="119" y="54"/>
                    </a:lnTo>
                    <a:lnTo>
                      <a:pt x="128" y="0"/>
                    </a:lnTo>
                    <a:lnTo>
                      <a:pt x="121" y="13"/>
                    </a:lnTo>
                    <a:lnTo>
                      <a:pt x="113" y="25"/>
                    </a:lnTo>
                    <a:lnTo>
                      <a:pt x="104" y="37"/>
                    </a:lnTo>
                    <a:lnTo>
                      <a:pt x="97" y="49"/>
                    </a:lnTo>
                    <a:lnTo>
                      <a:pt x="89" y="61"/>
                    </a:lnTo>
                    <a:lnTo>
                      <a:pt x="83" y="73"/>
                    </a:lnTo>
                    <a:lnTo>
                      <a:pt x="75" y="86"/>
                    </a:lnTo>
                    <a:lnTo>
                      <a:pt x="68" y="98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787480" y="2630520"/>
                <a:ext cx="3571920" cy="736560"/>
              </a:xfrm>
              <a:custGeom>
                <a:avLst/>
                <a:gdLst/>
                <a:ahLst/>
                <a:rect l="l" t="t" r="r" b="b"/>
                <a:pathLst>
                  <a:path w="9000" h="1855">
                    <a:moveTo>
                      <a:pt x="9000" y="924"/>
                    </a:moveTo>
                    <a:lnTo>
                      <a:pt x="9000" y="870"/>
                    </a:lnTo>
                    <a:lnTo>
                      <a:pt x="8999" y="817"/>
                    </a:lnTo>
                    <a:lnTo>
                      <a:pt x="8998" y="764"/>
                    </a:lnTo>
                    <a:lnTo>
                      <a:pt x="8996" y="711"/>
                    </a:lnTo>
                    <a:lnTo>
                      <a:pt x="8993" y="659"/>
                    </a:lnTo>
                    <a:lnTo>
                      <a:pt x="8989" y="606"/>
                    </a:lnTo>
                    <a:lnTo>
                      <a:pt x="8985" y="553"/>
                    </a:lnTo>
                    <a:lnTo>
                      <a:pt x="8981" y="501"/>
                    </a:lnTo>
                    <a:lnTo>
                      <a:pt x="8975" y="450"/>
                    </a:lnTo>
                    <a:lnTo>
                      <a:pt x="8970" y="398"/>
                    </a:lnTo>
                    <a:lnTo>
                      <a:pt x="8963" y="346"/>
                    </a:lnTo>
                    <a:lnTo>
                      <a:pt x="8957" y="295"/>
                    </a:lnTo>
                    <a:lnTo>
                      <a:pt x="8949" y="243"/>
                    </a:lnTo>
                    <a:lnTo>
                      <a:pt x="8941" y="193"/>
                    </a:lnTo>
                    <a:lnTo>
                      <a:pt x="8932" y="142"/>
                    </a:lnTo>
                    <a:lnTo>
                      <a:pt x="8923" y="91"/>
                    </a:lnTo>
                    <a:lnTo>
                      <a:pt x="8916" y="79"/>
                    </a:lnTo>
                    <a:lnTo>
                      <a:pt x="8908" y="68"/>
                    </a:lnTo>
                    <a:lnTo>
                      <a:pt x="8901" y="56"/>
                    </a:lnTo>
                    <a:lnTo>
                      <a:pt x="8893" y="46"/>
                    </a:lnTo>
                    <a:lnTo>
                      <a:pt x="8886" y="34"/>
                    </a:lnTo>
                    <a:lnTo>
                      <a:pt x="8878" y="23"/>
                    </a:lnTo>
                    <a:lnTo>
                      <a:pt x="8870" y="12"/>
                    </a:lnTo>
                    <a:lnTo>
                      <a:pt x="8863" y="0"/>
                    </a:lnTo>
                    <a:lnTo>
                      <a:pt x="8874" y="56"/>
                    </a:lnTo>
                    <a:lnTo>
                      <a:pt x="8884" y="113"/>
                    </a:lnTo>
                    <a:lnTo>
                      <a:pt x="8895" y="169"/>
                    </a:lnTo>
                    <a:lnTo>
                      <a:pt x="8904" y="226"/>
                    </a:lnTo>
                    <a:lnTo>
                      <a:pt x="8913" y="283"/>
                    </a:lnTo>
                    <a:lnTo>
                      <a:pt x="8920" y="340"/>
                    </a:lnTo>
                    <a:lnTo>
                      <a:pt x="8928" y="398"/>
                    </a:lnTo>
                    <a:lnTo>
                      <a:pt x="8934" y="455"/>
                    </a:lnTo>
                    <a:lnTo>
                      <a:pt x="8940" y="513"/>
                    </a:lnTo>
                    <a:lnTo>
                      <a:pt x="8945" y="571"/>
                    </a:lnTo>
                    <a:lnTo>
                      <a:pt x="8949" y="629"/>
                    </a:lnTo>
                    <a:lnTo>
                      <a:pt x="8953" y="687"/>
                    </a:lnTo>
                    <a:lnTo>
                      <a:pt x="8955" y="747"/>
                    </a:lnTo>
                    <a:lnTo>
                      <a:pt x="8957" y="805"/>
                    </a:lnTo>
                    <a:lnTo>
                      <a:pt x="8958" y="864"/>
                    </a:lnTo>
                    <a:lnTo>
                      <a:pt x="8959" y="924"/>
                    </a:lnTo>
                    <a:lnTo>
                      <a:pt x="8958" y="983"/>
                    </a:lnTo>
                    <a:lnTo>
                      <a:pt x="8957" y="1042"/>
                    </a:lnTo>
                    <a:lnTo>
                      <a:pt x="8955" y="1102"/>
                    </a:lnTo>
                    <a:lnTo>
                      <a:pt x="8953" y="1161"/>
                    </a:lnTo>
                    <a:lnTo>
                      <a:pt x="8949" y="1221"/>
                    </a:lnTo>
                    <a:lnTo>
                      <a:pt x="8945" y="1279"/>
                    </a:lnTo>
                    <a:lnTo>
                      <a:pt x="8940" y="1337"/>
                    </a:lnTo>
                    <a:lnTo>
                      <a:pt x="8934" y="1396"/>
                    </a:lnTo>
                    <a:lnTo>
                      <a:pt x="8928" y="1454"/>
                    </a:lnTo>
                    <a:lnTo>
                      <a:pt x="8920" y="1512"/>
                    </a:lnTo>
                    <a:lnTo>
                      <a:pt x="8911" y="1570"/>
                    </a:lnTo>
                    <a:lnTo>
                      <a:pt x="8903" y="1627"/>
                    </a:lnTo>
                    <a:lnTo>
                      <a:pt x="8894" y="1684"/>
                    </a:lnTo>
                    <a:lnTo>
                      <a:pt x="8883" y="1741"/>
                    </a:lnTo>
                    <a:lnTo>
                      <a:pt x="8873" y="1798"/>
                    </a:lnTo>
                    <a:lnTo>
                      <a:pt x="8861" y="1855"/>
                    </a:lnTo>
                    <a:lnTo>
                      <a:pt x="8869" y="1843"/>
                    </a:lnTo>
                    <a:lnTo>
                      <a:pt x="8877" y="1832"/>
                    </a:lnTo>
                    <a:lnTo>
                      <a:pt x="8884" y="1820"/>
                    </a:lnTo>
                    <a:lnTo>
                      <a:pt x="8892" y="1808"/>
                    </a:lnTo>
                    <a:lnTo>
                      <a:pt x="8900" y="1797"/>
                    </a:lnTo>
                    <a:lnTo>
                      <a:pt x="8907" y="1786"/>
                    </a:lnTo>
                    <a:lnTo>
                      <a:pt x="8915" y="1774"/>
                    </a:lnTo>
                    <a:lnTo>
                      <a:pt x="8922" y="1763"/>
                    </a:lnTo>
                    <a:lnTo>
                      <a:pt x="8931" y="1711"/>
                    </a:lnTo>
                    <a:lnTo>
                      <a:pt x="8940" y="1660"/>
                    </a:lnTo>
                    <a:lnTo>
                      <a:pt x="8948" y="1608"/>
                    </a:lnTo>
                    <a:lnTo>
                      <a:pt x="8956" y="1557"/>
                    </a:lnTo>
                    <a:lnTo>
                      <a:pt x="8962" y="1505"/>
                    </a:lnTo>
                    <a:lnTo>
                      <a:pt x="8969" y="1453"/>
                    </a:lnTo>
                    <a:lnTo>
                      <a:pt x="8975" y="1401"/>
                    </a:lnTo>
                    <a:lnTo>
                      <a:pt x="8981" y="1348"/>
                    </a:lnTo>
                    <a:lnTo>
                      <a:pt x="8985" y="1296"/>
                    </a:lnTo>
                    <a:lnTo>
                      <a:pt x="8989" y="1243"/>
                    </a:lnTo>
                    <a:lnTo>
                      <a:pt x="8993" y="1190"/>
                    </a:lnTo>
                    <a:lnTo>
                      <a:pt x="8996" y="1138"/>
                    </a:lnTo>
                    <a:lnTo>
                      <a:pt x="8998" y="1085"/>
                    </a:lnTo>
                    <a:lnTo>
                      <a:pt x="8999" y="1031"/>
                    </a:lnTo>
                    <a:lnTo>
                      <a:pt x="9000" y="977"/>
                    </a:lnTo>
                    <a:lnTo>
                      <a:pt x="9000" y="924"/>
                    </a:lnTo>
                    <a:close/>
                    <a:moveTo>
                      <a:pt x="77" y="91"/>
                    </a:moveTo>
                    <a:lnTo>
                      <a:pt x="68" y="142"/>
                    </a:lnTo>
                    <a:lnTo>
                      <a:pt x="60" y="193"/>
                    </a:lnTo>
                    <a:lnTo>
                      <a:pt x="51" y="243"/>
                    </a:lnTo>
                    <a:lnTo>
                      <a:pt x="44" y="295"/>
                    </a:lnTo>
                    <a:lnTo>
                      <a:pt x="37" y="346"/>
                    </a:lnTo>
                    <a:lnTo>
                      <a:pt x="31" y="398"/>
                    </a:lnTo>
                    <a:lnTo>
                      <a:pt x="25" y="450"/>
                    </a:lnTo>
                    <a:lnTo>
                      <a:pt x="20" y="501"/>
                    </a:lnTo>
                    <a:lnTo>
                      <a:pt x="15" y="553"/>
                    </a:lnTo>
                    <a:lnTo>
                      <a:pt x="11" y="606"/>
                    </a:lnTo>
                    <a:lnTo>
                      <a:pt x="8" y="659"/>
                    </a:lnTo>
                    <a:lnTo>
                      <a:pt x="5" y="711"/>
                    </a:lnTo>
                    <a:lnTo>
                      <a:pt x="2" y="764"/>
                    </a:lnTo>
                    <a:lnTo>
                      <a:pt x="1" y="817"/>
                    </a:lnTo>
                    <a:lnTo>
                      <a:pt x="0" y="870"/>
                    </a:lnTo>
                    <a:lnTo>
                      <a:pt x="0" y="924"/>
                    </a:lnTo>
                    <a:lnTo>
                      <a:pt x="0" y="977"/>
                    </a:lnTo>
                    <a:lnTo>
                      <a:pt x="1" y="1030"/>
                    </a:lnTo>
                    <a:lnTo>
                      <a:pt x="2" y="1082"/>
                    </a:lnTo>
                    <a:lnTo>
                      <a:pt x="5" y="1135"/>
                    </a:lnTo>
                    <a:lnTo>
                      <a:pt x="8" y="1188"/>
                    </a:lnTo>
                    <a:lnTo>
                      <a:pt x="11" y="1241"/>
                    </a:lnTo>
                    <a:lnTo>
                      <a:pt x="15" y="1293"/>
                    </a:lnTo>
                    <a:lnTo>
                      <a:pt x="20" y="1345"/>
                    </a:lnTo>
                    <a:lnTo>
                      <a:pt x="25" y="1398"/>
                    </a:lnTo>
                    <a:lnTo>
                      <a:pt x="31" y="1450"/>
                    </a:lnTo>
                    <a:lnTo>
                      <a:pt x="37" y="1500"/>
                    </a:lnTo>
                    <a:lnTo>
                      <a:pt x="44" y="1552"/>
                    </a:lnTo>
                    <a:lnTo>
                      <a:pt x="51" y="1603"/>
                    </a:lnTo>
                    <a:lnTo>
                      <a:pt x="60" y="1655"/>
                    </a:lnTo>
                    <a:lnTo>
                      <a:pt x="68" y="1706"/>
                    </a:lnTo>
                    <a:lnTo>
                      <a:pt x="77" y="1756"/>
                    </a:lnTo>
                    <a:lnTo>
                      <a:pt x="85" y="1767"/>
                    </a:lnTo>
                    <a:lnTo>
                      <a:pt x="92" y="1779"/>
                    </a:lnTo>
                    <a:lnTo>
                      <a:pt x="100" y="1790"/>
                    </a:lnTo>
                    <a:lnTo>
                      <a:pt x="106" y="1802"/>
                    </a:lnTo>
                    <a:lnTo>
                      <a:pt x="114" y="1813"/>
                    </a:lnTo>
                    <a:lnTo>
                      <a:pt x="122" y="1824"/>
                    </a:lnTo>
                    <a:lnTo>
                      <a:pt x="130" y="1835"/>
                    </a:lnTo>
                    <a:lnTo>
                      <a:pt x="138" y="1846"/>
                    </a:lnTo>
                    <a:lnTo>
                      <a:pt x="127" y="1790"/>
                    </a:lnTo>
                    <a:lnTo>
                      <a:pt x="116" y="1734"/>
                    </a:lnTo>
                    <a:lnTo>
                      <a:pt x="105" y="1678"/>
                    </a:lnTo>
                    <a:lnTo>
                      <a:pt x="96" y="1621"/>
                    </a:lnTo>
                    <a:lnTo>
                      <a:pt x="88" y="1564"/>
                    </a:lnTo>
                    <a:lnTo>
                      <a:pt x="79" y="1507"/>
                    </a:lnTo>
                    <a:lnTo>
                      <a:pt x="73" y="1450"/>
                    </a:lnTo>
                    <a:lnTo>
                      <a:pt x="66" y="1391"/>
                    </a:lnTo>
                    <a:lnTo>
                      <a:pt x="61" y="1334"/>
                    </a:lnTo>
                    <a:lnTo>
                      <a:pt x="55" y="1276"/>
                    </a:lnTo>
                    <a:lnTo>
                      <a:pt x="51" y="1217"/>
                    </a:lnTo>
                    <a:lnTo>
                      <a:pt x="48" y="1159"/>
                    </a:lnTo>
                    <a:lnTo>
                      <a:pt x="45" y="1101"/>
                    </a:lnTo>
                    <a:lnTo>
                      <a:pt x="44" y="1041"/>
                    </a:lnTo>
                    <a:lnTo>
                      <a:pt x="42" y="983"/>
                    </a:lnTo>
                    <a:lnTo>
                      <a:pt x="41" y="924"/>
                    </a:lnTo>
                    <a:lnTo>
                      <a:pt x="42" y="864"/>
                    </a:lnTo>
                    <a:lnTo>
                      <a:pt x="44" y="805"/>
                    </a:lnTo>
                    <a:lnTo>
                      <a:pt x="45" y="747"/>
                    </a:lnTo>
                    <a:lnTo>
                      <a:pt x="48" y="687"/>
                    </a:lnTo>
                    <a:lnTo>
                      <a:pt x="51" y="629"/>
                    </a:lnTo>
                    <a:lnTo>
                      <a:pt x="55" y="571"/>
                    </a:lnTo>
                    <a:lnTo>
                      <a:pt x="61" y="513"/>
                    </a:lnTo>
                    <a:lnTo>
                      <a:pt x="66" y="455"/>
                    </a:lnTo>
                    <a:lnTo>
                      <a:pt x="73" y="398"/>
                    </a:lnTo>
                    <a:lnTo>
                      <a:pt x="79" y="340"/>
                    </a:lnTo>
                    <a:lnTo>
                      <a:pt x="88" y="283"/>
                    </a:lnTo>
                    <a:lnTo>
                      <a:pt x="96" y="226"/>
                    </a:lnTo>
                    <a:lnTo>
                      <a:pt x="105" y="169"/>
                    </a:lnTo>
                    <a:lnTo>
                      <a:pt x="116" y="113"/>
                    </a:lnTo>
                    <a:lnTo>
                      <a:pt x="127" y="56"/>
                    </a:lnTo>
                    <a:lnTo>
                      <a:pt x="138" y="0"/>
                    </a:lnTo>
                    <a:lnTo>
                      <a:pt x="130" y="12"/>
                    </a:lnTo>
                    <a:lnTo>
                      <a:pt x="122" y="23"/>
                    </a:lnTo>
                    <a:lnTo>
                      <a:pt x="114" y="34"/>
                    </a:lnTo>
                    <a:lnTo>
                      <a:pt x="106" y="46"/>
                    </a:lnTo>
                    <a:lnTo>
                      <a:pt x="100" y="56"/>
                    </a:lnTo>
                    <a:lnTo>
                      <a:pt x="92" y="68"/>
                    </a:lnTo>
                    <a:lnTo>
                      <a:pt x="85" y="79"/>
                    </a:lnTo>
                    <a:lnTo>
                      <a:pt x="77" y="9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795760" y="2614680"/>
                <a:ext cx="3555720" cy="768240"/>
              </a:xfrm>
              <a:custGeom>
                <a:avLst/>
                <a:gdLst/>
                <a:ahLst/>
                <a:rect l="l" t="t" r="r" b="b"/>
                <a:pathLst>
                  <a:path w="8959" h="1938">
                    <a:moveTo>
                      <a:pt x="8959" y="965"/>
                    </a:moveTo>
                    <a:lnTo>
                      <a:pt x="8959" y="909"/>
                    </a:lnTo>
                    <a:lnTo>
                      <a:pt x="8957" y="852"/>
                    </a:lnTo>
                    <a:lnTo>
                      <a:pt x="8955" y="796"/>
                    </a:lnTo>
                    <a:lnTo>
                      <a:pt x="8953" y="740"/>
                    </a:lnTo>
                    <a:lnTo>
                      <a:pt x="8950" y="684"/>
                    </a:lnTo>
                    <a:lnTo>
                      <a:pt x="8946" y="629"/>
                    </a:lnTo>
                    <a:lnTo>
                      <a:pt x="8941" y="574"/>
                    </a:lnTo>
                    <a:lnTo>
                      <a:pt x="8937" y="519"/>
                    </a:lnTo>
                    <a:lnTo>
                      <a:pt x="8930" y="464"/>
                    </a:lnTo>
                    <a:lnTo>
                      <a:pt x="8924" y="408"/>
                    </a:lnTo>
                    <a:lnTo>
                      <a:pt x="8917" y="354"/>
                    </a:lnTo>
                    <a:lnTo>
                      <a:pt x="8909" y="300"/>
                    </a:lnTo>
                    <a:lnTo>
                      <a:pt x="8901" y="245"/>
                    </a:lnTo>
                    <a:lnTo>
                      <a:pt x="8892" y="192"/>
                    </a:lnTo>
                    <a:lnTo>
                      <a:pt x="8882" y="138"/>
                    </a:lnTo>
                    <a:lnTo>
                      <a:pt x="8872" y="84"/>
                    </a:lnTo>
                    <a:lnTo>
                      <a:pt x="8865" y="75"/>
                    </a:lnTo>
                    <a:lnTo>
                      <a:pt x="8857" y="64"/>
                    </a:lnTo>
                    <a:lnTo>
                      <a:pt x="8849" y="53"/>
                    </a:lnTo>
                    <a:lnTo>
                      <a:pt x="8842" y="42"/>
                    </a:lnTo>
                    <a:lnTo>
                      <a:pt x="8834" y="32"/>
                    </a:lnTo>
                    <a:lnTo>
                      <a:pt x="8827" y="21"/>
                    </a:lnTo>
                    <a:lnTo>
                      <a:pt x="8819" y="10"/>
                    </a:lnTo>
                    <a:lnTo>
                      <a:pt x="8812" y="0"/>
                    </a:lnTo>
                    <a:lnTo>
                      <a:pt x="8823" y="59"/>
                    </a:lnTo>
                    <a:lnTo>
                      <a:pt x="8835" y="117"/>
                    </a:lnTo>
                    <a:lnTo>
                      <a:pt x="8846" y="176"/>
                    </a:lnTo>
                    <a:lnTo>
                      <a:pt x="8857" y="235"/>
                    </a:lnTo>
                    <a:lnTo>
                      <a:pt x="8867" y="294"/>
                    </a:lnTo>
                    <a:lnTo>
                      <a:pt x="8875" y="354"/>
                    </a:lnTo>
                    <a:lnTo>
                      <a:pt x="8883" y="414"/>
                    </a:lnTo>
                    <a:lnTo>
                      <a:pt x="8889" y="474"/>
                    </a:lnTo>
                    <a:lnTo>
                      <a:pt x="8896" y="535"/>
                    </a:lnTo>
                    <a:lnTo>
                      <a:pt x="8901" y="595"/>
                    </a:lnTo>
                    <a:lnTo>
                      <a:pt x="8907" y="657"/>
                    </a:lnTo>
                    <a:lnTo>
                      <a:pt x="8910" y="717"/>
                    </a:lnTo>
                    <a:lnTo>
                      <a:pt x="8913" y="779"/>
                    </a:lnTo>
                    <a:lnTo>
                      <a:pt x="8915" y="840"/>
                    </a:lnTo>
                    <a:lnTo>
                      <a:pt x="8916" y="902"/>
                    </a:lnTo>
                    <a:lnTo>
                      <a:pt x="8916" y="965"/>
                    </a:lnTo>
                    <a:lnTo>
                      <a:pt x="8916" y="1027"/>
                    </a:lnTo>
                    <a:lnTo>
                      <a:pt x="8915" y="1089"/>
                    </a:lnTo>
                    <a:lnTo>
                      <a:pt x="8913" y="1152"/>
                    </a:lnTo>
                    <a:lnTo>
                      <a:pt x="8910" y="1213"/>
                    </a:lnTo>
                    <a:lnTo>
                      <a:pt x="8906" y="1276"/>
                    </a:lnTo>
                    <a:lnTo>
                      <a:pt x="8901" y="1337"/>
                    </a:lnTo>
                    <a:lnTo>
                      <a:pt x="8896" y="1398"/>
                    </a:lnTo>
                    <a:lnTo>
                      <a:pt x="8889" y="1459"/>
                    </a:lnTo>
                    <a:lnTo>
                      <a:pt x="8882" y="1520"/>
                    </a:lnTo>
                    <a:lnTo>
                      <a:pt x="8874" y="1580"/>
                    </a:lnTo>
                    <a:lnTo>
                      <a:pt x="8866" y="1641"/>
                    </a:lnTo>
                    <a:lnTo>
                      <a:pt x="8856" y="1700"/>
                    </a:lnTo>
                    <a:lnTo>
                      <a:pt x="8845" y="1761"/>
                    </a:lnTo>
                    <a:lnTo>
                      <a:pt x="8834" y="1820"/>
                    </a:lnTo>
                    <a:lnTo>
                      <a:pt x="8822" y="1878"/>
                    </a:lnTo>
                    <a:lnTo>
                      <a:pt x="8809" y="1938"/>
                    </a:lnTo>
                    <a:lnTo>
                      <a:pt x="8817" y="1927"/>
                    </a:lnTo>
                    <a:lnTo>
                      <a:pt x="8826" y="1916"/>
                    </a:lnTo>
                    <a:lnTo>
                      <a:pt x="8833" y="1905"/>
                    </a:lnTo>
                    <a:lnTo>
                      <a:pt x="8841" y="1895"/>
                    </a:lnTo>
                    <a:lnTo>
                      <a:pt x="8848" y="1884"/>
                    </a:lnTo>
                    <a:lnTo>
                      <a:pt x="8856" y="1872"/>
                    </a:lnTo>
                    <a:lnTo>
                      <a:pt x="8863" y="1861"/>
                    </a:lnTo>
                    <a:lnTo>
                      <a:pt x="8871" y="1850"/>
                    </a:lnTo>
                    <a:lnTo>
                      <a:pt x="8881" y="1796"/>
                    </a:lnTo>
                    <a:lnTo>
                      <a:pt x="8890" y="1742"/>
                    </a:lnTo>
                    <a:lnTo>
                      <a:pt x="8900" y="1688"/>
                    </a:lnTo>
                    <a:lnTo>
                      <a:pt x="8909" y="1634"/>
                    </a:lnTo>
                    <a:lnTo>
                      <a:pt x="8916" y="1579"/>
                    </a:lnTo>
                    <a:lnTo>
                      <a:pt x="8924" y="1524"/>
                    </a:lnTo>
                    <a:lnTo>
                      <a:pt x="8930" y="1469"/>
                    </a:lnTo>
                    <a:lnTo>
                      <a:pt x="8936" y="1414"/>
                    </a:lnTo>
                    <a:lnTo>
                      <a:pt x="8941" y="1358"/>
                    </a:lnTo>
                    <a:lnTo>
                      <a:pt x="8946" y="1303"/>
                    </a:lnTo>
                    <a:lnTo>
                      <a:pt x="8950" y="1247"/>
                    </a:lnTo>
                    <a:lnTo>
                      <a:pt x="8953" y="1190"/>
                    </a:lnTo>
                    <a:lnTo>
                      <a:pt x="8955" y="1134"/>
                    </a:lnTo>
                    <a:lnTo>
                      <a:pt x="8957" y="1078"/>
                    </a:lnTo>
                    <a:lnTo>
                      <a:pt x="8959" y="1021"/>
                    </a:lnTo>
                    <a:lnTo>
                      <a:pt x="8959" y="965"/>
                    </a:lnTo>
                    <a:close/>
                    <a:moveTo>
                      <a:pt x="86" y="84"/>
                    </a:moveTo>
                    <a:lnTo>
                      <a:pt x="77" y="138"/>
                    </a:lnTo>
                    <a:lnTo>
                      <a:pt x="67" y="192"/>
                    </a:lnTo>
                    <a:lnTo>
                      <a:pt x="57" y="245"/>
                    </a:lnTo>
                    <a:lnTo>
                      <a:pt x="50" y="300"/>
                    </a:lnTo>
                    <a:lnTo>
                      <a:pt x="41" y="354"/>
                    </a:lnTo>
                    <a:lnTo>
                      <a:pt x="34" y="408"/>
                    </a:lnTo>
                    <a:lnTo>
                      <a:pt x="28" y="464"/>
                    </a:lnTo>
                    <a:lnTo>
                      <a:pt x="21" y="519"/>
                    </a:lnTo>
                    <a:lnTo>
                      <a:pt x="17" y="574"/>
                    </a:lnTo>
                    <a:lnTo>
                      <a:pt x="13" y="629"/>
                    </a:lnTo>
                    <a:lnTo>
                      <a:pt x="8" y="684"/>
                    </a:lnTo>
                    <a:lnTo>
                      <a:pt x="5" y="740"/>
                    </a:lnTo>
                    <a:lnTo>
                      <a:pt x="3" y="796"/>
                    </a:lnTo>
                    <a:lnTo>
                      <a:pt x="1" y="852"/>
                    </a:lnTo>
                    <a:lnTo>
                      <a:pt x="0" y="909"/>
                    </a:lnTo>
                    <a:lnTo>
                      <a:pt x="0" y="965"/>
                    </a:lnTo>
                    <a:lnTo>
                      <a:pt x="0" y="1021"/>
                    </a:lnTo>
                    <a:lnTo>
                      <a:pt x="1" y="1077"/>
                    </a:lnTo>
                    <a:lnTo>
                      <a:pt x="3" y="1133"/>
                    </a:lnTo>
                    <a:lnTo>
                      <a:pt x="5" y="1189"/>
                    </a:lnTo>
                    <a:lnTo>
                      <a:pt x="8" y="1244"/>
                    </a:lnTo>
                    <a:lnTo>
                      <a:pt x="13" y="1299"/>
                    </a:lnTo>
                    <a:lnTo>
                      <a:pt x="17" y="1356"/>
                    </a:lnTo>
                    <a:lnTo>
                      <a:pt x="21" y="1411"/>
                    </a:lnTo>
                    <a:lnTo>
                      <a:pt x="28" y="1466"/>
                    </a:lnTo>
                    <a:lnTo>
                      <a:pt x="34" y="1520"/>
                    </a:lnTo>
                    <a:lnTo>
                      <a:pt x="41" y="1575"/>
                    </a:lnTo>
                    <a:lnTo>
                      <a:pt x="50" y="1629"/>
                    </a:lnTo>
                    <a:lnTo>
                      <a:pt x="57" y="1683"/>
                    </a:lnTo>
                    <a:lnTo>
                      <a:pt x="67" y="1737"/>
                    </a:lnTo>
                    <a:lnTo>
                      <a:pt x="77" y="1791"/>
                    </a:lnTo>
                    <a:lnTo>
                      <a:pt x="86" y="1844"/>
                    </a:lnTo>
                    <a:lnTo>
                      <a:pt x="94" y="1855"/>
                    </a:lnTo>
                    <a:lnTo>
                      <a:pt x="101" y="1865"/>
                    </a:lnTo>
                    <a:lnTo>
                      <a:pt x="109" y="1876"/>
                    </a:lnTo>
                    <a:lnTo>
                      <a:pt x="117" y="1887"/>
                    </a:lnTo>
                    <a:lnTo>
                      <a:pt x="124" y="1897"/>
                    </a:lnTo>
                    <a:lnTo>
                      <a:pt x="132" y="1908"/>
                    </a:lnTo>
                    <a:lnTo>
                      <a:pt x="139" y="1918"/>
                    </a:lnTo>
                    <a:lnTo>
                      <a:pt x="147" y="1929"/>
                    </a:lnTo>
                    <a:lnTo>
                      <a:pt x="135" y="1871"/>
                    </a:lnTo>
                    <a:lnTo>
                      <a:pt x="123" y="1811"/>
                    </a:lnTo>
                    <a:lnTo>
                      <a:pt x="112" y="1753"/>
                    </a:lnTo>
                    <a:lnTo>
                      <a:pt x="101" y="1694"/>
                    </a:lnTo>
                    <a:lnTo>
                      <a:pt x="92" y="1634"/>
                    </a:lnTo>
                    <a:lnTo>
                      <a:pt x="83" y="1575"/>
                    </a:lnTo>
                    <a:lnTo>
                      <a:pt x="75" y="1514"/>
                    </a:lnTo>
                    <a:lnTo>
                      <a:pt x="68" y="1454"/>
                    </a:lnTo>
                    <a:lnTo>
                      <a:pt x="62" y="1393"/>
                    </a:lnTo>
                    <a:lnTo>
                      <a:pt x="57" y="1333"/>
                    </a:lnTo>
                    <a:lnTo>
                      <a:pt x="52" y="1272"/>
                    </a:lnTo>
                    <a:lnTo>
                      <a:pt x="48" y="1211"/>
                    </a:lnTo>
                    <a:lnTo>
                      <a:pt x="45" y="1149"/>
                    </a:lnTo>
                    <a:lnTo>
                      <a:pt x="43" y="1088"/>
                    </a:lnTo>
                    <a:lnTo>
                      <a:pt x="42" y="1026"/>
                    </a:lnTo>
                    <a:lnTo>
                      <a:pt x="42" y="965"/>
                    </a:lnTo>
                    <a:lnTo>
                      <a:pt x="42" y="902"/>
                    </a:lnTo>
                    <a:lnTo>
                      <a:pt x="43" y="840"/>
                    </a:lnTo>
                    <a:lnTo>
                      <a:pt x="45" y="779"/>
                    </a:lnTo>
                    <a:lnTo>
                      <a:pt x="48" y="717"/>
                    </a:lnTo>
                    <a:lnTo>
                      <a:pt x="52" y="657"/>
                    </a:lnTo>
                    <a:lnTo>
                      <a:pt x="57" y="595"/>
                    </a:lnTo>
                    <a:lnTo>
                      <a:pt x="62" y="535"/>
                    </a:lnTo>
                    <a:lnTo>
                      <a:pt x="68" y="474"/>
                    </a:lnTo>
                    <a:lnTo>
                      <a:pt x="75" y="414"/>
                    </a:lnTo>
                    <a:lnTo>
                      <a:pt x="83" y="354"/>
                    </a:lnTo>
                    <a:lnTo>
                      <a:pt x="92" y="294"/>
                    </a:lnTo>
                    <a:lnTo>
                      <a:pt x="101" y="235"/>
                    </a:lnTo>
                    <a:lnTo>
                      <a:pt x="112" y="176"/>
                    </a:lnTo>
                    <a:lnTo>
                      <a:pt x="123" y="117"/>
                    </a:lnTo>
                    <a:lnTo>
                      <a:pt x="135" y="59"/>
                    </a:lnTo>
                    <a:lnTo>
                      <a:pt x="147" y="0"/>
                    </a:lnTo>
                    <a:lnTo>
                      <a:pt x="139" y="10"/>
                    </a:lnTo>
                    <a:lnTo>
                      <a:pt x="132" y="21"/>
                    </a:lnTo>
                    <a:lnTo>
                      <a:pt x="124" y="32"/>
                    </a:lnTo>
                    <a:lnTo>
                      <a:pt x="117" y="42"/>
                    </a:lnTo>
                    <a:lnTo>
                      <a:pt x="109" y="53"/>
                    </a:lnTo>
                    <a:lnTo>
                      <a:pt x="101" y="64"/>
                    </a:lnTo>
                    <a:lnTo>
                      <a:pt x="94" y="74"/>
                    </a:lnTo>
                    <a:lnTo>
                      <a:pt x="86" y="8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805120" y="2598840"/>
                <a:ext cx="3538440" cy="799920"/>
              </a:xfrm>
              <a:custGeom>
                <a:avLst/>
                <a:gdLst/>
                <a:ahLst/>
                <a:rect l="l" t="t" r="r" b="b"/>
                <a:pathLst>
                  <a:path w="8918" h="2018">
                    <a:moveTo>
                      <a:pt x="8918" y="1005"/>
                    </a:moveTo>
                    <a:lnTo>
                      <a:pt x="8917" y="945"/>
                    </a:lnTo>
                    <a:lnTo>
                      <a:pt x="8916" y="886"/>
                    </a:lnTo>
                    <a:lnTo>
                      <a:pt x="8914" y="828"/>
                    </a:lnTo>
                    <a:lnTo>
                      <a:pt x="8912" y="768"/>
                    </a:lnTo>
                    <a:lnTo>
                      <a:pt x="8908" y="710"/>
                    </a:lnTo>
                    <a:lnTo>
                      <a:pt x="8904" y="652"/>
                    </a:lnTo>
                    <a:lnTo>
                      <a:pt x="8899" y="594"/>
                    </a:lnTo>
                    <a:lnTo>
                      <a:pt x="8893" y="536"/>
                    </a:lnTo>
                    <a:lnTo>
                      <a:pt x="8887" y="479"/>
                    </a:lnTo>
                    <a:lnTo>
                      <a:pt x="8879" y="421"/>
                    </a:lnTo>
                    <a:lnTo>
                      <a:pt x="8872" y="364"/>
                    </a:lnTo>
                    <a:lnTo>
                      <a:pt x="8863" y="307"/>
                    </a:lnTo>
                    <a:lnTo>
                      <a:pt x="8854" y="250"/>
                    </a:lnTo>
                    <a:lnTo>
                      <a:pt x="8843" y="194"/>
                    </a:lnTo>
                    <a:lnTo>
                      <a:pt x="8833" y="137"/>
                    </a:lnTo>
                    <a:lnTo>
                      <a:pt x="8822" y="81"/>
                    </a:lnTo>
                    <a:lnTo>
                      <a:pt x="8814" y="72"/>
                    </a:lnTo>
                    <a:lnTo>
                      <a:pt x="8807" y="61"/>
                    </a:lnTo>
                    <a:lnTo>
                      <a:pt x="8799" y="51"/>
                    </a:lnTo>
                    <a:lnTo>
                      <a:pt x="8792" y="40"/>
                    </a:lnTo>
                    <a:lnTo>
                      <a:pt x="8784" y="31"/>
                    </a:lnTo>
                    <a:lnTo>
                      <a:pt x="8776" y="21"/>
                    </a:lnTo>
                    <a:lnTo>
                      <a:pt x="8769" y="10"/>
                    </a:lnTo>
                    <a:lnTo>
                      <a:pt x="8761" y="0"/>
                    </a:lnTo>
                    <a:lnTo>
                      <a:pt x="8774" y="61"/>
                    </a:lnTo>
                    <a:lnTo>
                      <a:pt x="8787" y="122"/>
                    </a:lnTo>
                    <a:lnTo>
                      <a:pt x="8799" y="183"/>
                    </a:lnTo>
                    <a:lnTo>
                      <a:pt x="8811" y="244"/>
                    </a:lnTo>
                    <a:lnTo>
                      <a:pt x="8821" y="307"/>
                    </a:lnTo>
                    <a:lnTo>
                      <a:pt x="8830" y="369"/>
                    </a:lnTo>
                    <a:lnTo>
                      <a:pt x="8839" y="431"/>
                    </a:lnTo>
                    <a:lnTo>
                      <a:pt x="8847" y="494"/>
                    </a:lnTo>
                    <a:lnTo>
                      <a:pt x="8853" y="556"/>
                    </a:lnTo>
                    <a:lnTo>
                      <a:pt x="8860" y="620"/>
                    </a:lnTo>
                    <a:lnTo>
                      <a:pt x="8864" y="684"/>
                    </a:lnTo>
                    <a:lnTo>
                      <a:pt x="8868" y="748"/>
                    </a:lnTo>
                    <a:lnTo>
                      <a:pt x="8872" y="811"/>
                    </a:lnTo>
                    <a:lnTo>
                      <a:pt x="8874" y="875"/>
                    </a:lnTo>
                    <a:lnTo>
                      <a:pt x="8876" y="940"/>
                    </a:lnTo>
                    <a:lnTo>
                      <a:pt x="8876" y="1005"/>
                    </a:lnTo>
                    <a:lnTo>
                      <a:pt x="8876" y="1069"/>
                    </a:lnTo>
                    <a:lnTo>
                      <a:pt x="8874" y="1134"/>
                    </a:lnTo>
                    <a:lnTo>
                      <a:pt x="8872" y="1199"/>
                    </a:lnTo>
                    <a:lnTo>
                      <a:pt x="8868" y="1264"/>
                    </a:lnTo>
                    <a:lnTo>
                      <a:pt x="8864" y="1329"/>
                    </a:lnTo>
                    <a:lnTo>
                      <a:pt x="8859" y="1392"/>
                    </a:lnTo>
                    <a:lnTo>
                      <a:pt x="8853" y="1456"/>
                    </a:lnTo>
                    <a:lnTo>
                      <a:pt x="8846" y="1520"/>
                    </a:lnTo>
                    <a:lnTo>
                      <a:pt x="8838" y="1584"/>
                    </a:lnTo>
                    <a:lnTo>
                      <a:pt x="8829" y="1646"/>
                    </a:lnTo>
                    <a:lnTo>
                      <a:pt x="8820" y="1709"/>
                    </a:lnTo>
                    <a:lnTo>
                      <a:pt x="8809" y="1771"/>
                    </a:lnTo>
                    <a:lnTo>
                      <a:pt x="8798" y="1833"/>
                    </a:lnTo>
                    <a:lnTo>
                      <a:pt x="8786" y="1896"/>
                    </a:lnTo>
                    <a:lnTo>
                      <a:pt x="8773" y="1957"/>
                    </a:lnTo>
                    <a:lnTo>
                      <a:pt x="8759" y="2018"/>
                    </a:lnTo>
                    <a:lnTo>
                      <a:pt x="8767" y="2008"/>
                    </a:lnTo>
                    <a:lnTo>
                      <a:pt x="8774" y="1997"/>
                    </a:lnTo>
                    <a:lnTo>
                      <a:pt x="8782" y="1987"/>
                    </a:lnTo>
                    <a:lnTo>
                      <a:pt x="8791" y="1977"/>
                    </a:lnTo>
                    <a:lnTo>
                      <a:pt x="8798" y="1967"/>
                    </a:lnTo>
                    <a:lnTo>
                      <a:pt x="8806" y="1956"/>
                    </a:lnTo>
                    <a:lnTo>
                      <a:pt x="8812" y="1945"/>
                    </a:lnTo>
                    <a:lnTo>
                      <a:pt x="8820" y="1936"/>
                    </a:lnTo>
                    <a:lnTo>
                      <a:pt x="8832" y="1879"/>
                    </a:lnTo>
                    <a:lnTo>
                      <a:pt x="8842" y="1822"/>
                    </a:lnTo>
                    <a:lnTo>
                      <a:pt x="8852" y="1765"/>
                    </a:lnTo>
                    <a:lnTo>
                      <a:pt x="8862" y="1708"/>
                    </a:lnTo>
                    <a:lnTo>
                      <a:pt x="8870" y="1651"/>
                    </a:lnTo>
                    <a:lnTo>
                      <a:pt x="8879" y="1593"/>
                    </a:lnTo>
                    <a:lnTo>
                      <a:pt x="8887" y="1535"/>
                    </a:lnTo>
                    <a:lnTo>
                      <a:pt x="8893" y="1477"/>
                    </a:lnTo>
                    <a:lnTo>
                      <a:pt x="8899" y="1418"/>
                    </a:lnTo>
                    <a:lnTo>
                      <a:pt x="8904" y="1360"/>
                    </a:lnTo>
                    <a:lnTo>
                      <a:pt x="8908" y="1302"/>
                    </a:lnTo>
                    <a:lnTo>
                      <a:pt x="8912" y="1242"/>
                    </a:lnTo>
                    <a:lnTo>
                      <a:pt x="8914" y="1183"/>
                    </a:lnTo>
                    <a:lnTo>
                      <a:pt x="8916" y="1123"/>
                    </a:lnTo>
                    <a:lnTo>
                      <a:pt x="8917" y="1064"/>
                    </a:lnTo>
                    <a:lnTo>
                      <a:pt x="8918" y="1005"/>
                    </a:lnTo>
                    <a:close/>
                    <a:moveTo>
                      <a:pt x="97" y="81"/>
                    </a:moveTo>
                    <a:lnTo>
                      <a:pt x="86" y="137"/>
                    </a:lnTo>
                    <a:lnTo>
                      <a:pt x="75" y="194"/>
                    </a:lnTo>
                    <a:lnTo>
                      <a:pt x="64" y="250"/>
                    </a:lnTo>
                    <a:lnTo>
                      <a:pt x="55" y="307"/>
                    </a:lnTo>
                    <a:lnTo>
                      <a:pt x="47" y="364"/>
                    </a:lnTo>
                    <a:lnTo>
                      <a:pt x="38" y="421"/>
                    </a:lnTo>
                    <a:lnTo>
                      <a:pt x="32" y="479"/>
                    </a:lnTo>
                    <a:lnTo>
                      <a:pt x="25" y="536"/>
                    </a:lnTo>
                    <a:lnTo>
                      <a:pt x="20" y="594"/>
                    </a:lnTo>
                    <a:lnTo>
                      <a:pt x="14" y="652"/>
                    </a:lnTo>
                    <a:lnTo>
                      <a:pt x="10" y="710"/>
                    </a:lnTo>
                    <a:lnTo>
                      <a:pt x="7" y="768"/>
                    </a:lnTo>
                    <a:lnTo>
                      <a:pt x="4" y="828"/>
                    </a:lnTo>
                    <a:lnTo>
                      <a:pt x="3" y="886"/>
                    </a:lnTo>
                    <a:lnTo>
                      <a:pt x="1" y="945"/>
                    </a:lnTo>
                    <a:lnTo>
                      <a:pt x="0" y="1005"/>
                    </a:lnTo>
                    <a:lnTo>
                      <a:pt x="1" y="1064"/>
                    </a:lnTo>
                    <a:lnTo>
                      <a:pt x="3" y="1122"/>
                    </a:lnTo>
                    <a:lnTo>
                      <a:pt x="4" y="1182"/>
                    </a:lnTo>
                    <a:lnTo>
                      <a:pt x="7" y="1240"/>
                    </a:lnTo>
                    <a:lnTo>
                      <a:pt x="10" y="1298"/>
                    </a:lnTo>
                    <a:lnTo>
                      <a:pt x="14" y="1357"/>
                    </a:lnTo>
                    <a:lnTo>
                      <a:pt x="20" y="1415"/>
                    </a:lnTo>
                    <a:lnTo>
                      <a:pt x="25" y="1472"/>
                    </a:lnTo>
                    <a:lnTo>
                      <a:pt x="32" y="1531"/>
                    </a:lnTo>
                    <a:lnTo>
                      <a:pt x="38" y="1588"/>
                    </a:lnTo>
                    <a:lnTo>
                      <a:pt x="47" y="1645"/>
                    </a:lnTo>
                    <a:lnTo>
                      <a:pt x="55" y="1702"/>
                    </a:lnTo>
                    <a:lnTo>
                      <a:pt x="64" y="1759"/>
                    </a:lnTo>
                    <a:lnTo>
                      <a:pt x="75" y="1815"/>
                    </a:lnTo>
                    <a:lnTo>
                      <a:pt x="86" y="1871"/>
                    </a:lnTo>
                    <a:lnTo>
                      <a:pt x="97" y="1927"/>
                    </a:lnTo>
                    <a:lnTo>
                      <a:pt x="104" y="1938"/>
                    </a:lnTo>
                    <a:lnTo>
                      <a:pt x="112" y="1948"/>
                    </a:lnTo>
                    <a:lnTo>
                      <a:pt x="119" y="1958"/>
                    </a:lnTo>
                    <a:lnTo>
                      <a:pt x="127" y="1968"/>
                    </a:lnTo>
                    <a:lnTo>
                      <a:pt x="134" y="1978"/>
                    </a:lnTo>
                    <a:lnTo>
                      <a:pt x="142" y="1989"/>
                    </a:lnTo>
                    <a:lnTo>
                      <a:pt x="149" y="1998"/>
                    </a:lnTo>
                    <a:lnTo>
                      <a:pt x="157" y="2009"/>
                    </a:lnTo>
                    <a:lnTo>
                      <a:pt x="143" y="1948"/>
                    </a:lnTo>
                    <a:lnTo>
                      <a:pt x="131" y="1887"/>
                    </a:lnTo>
                    <a:lnTo>
                      <a:pt x="119" y="1825"/>
                    </a:lnTo>
                    <a:lnTo>
                      <a:pt x="107" y="1764"/>
                    </a:lnTo>
                    <a:lnTo>
                      <a:pt x="98" y="1702"/>
                    </a:lnTo>
                    <a:lnTo>
                      <a:pt x="88" y="1640"/>
                    </a:lnTo>
                    <a:lnTo>
                      <a:pt x="79" y="1578"/>
                    </a:lnTo>
                    <a:lnTo>
                      <a:pt x="72" y="1516"/>
                    </a:lnTo>
                    <a:lnTo>
                      <a:pt x="65" y="1452"/>
                    </a:lnTo>
                    <a:lnTo>
                      <a:pt x="59" y="1389"/>
                    </a:lnTo>
                    <a:lnTo>
                      <a:pt x="53" y="1325"/>
                    </a:lnTo>
                    <a:lnTo>
                      <a:pt x="50" y="1262"/>
                    </a:lnTo>
                    <a:lnTo>
                      <a:pt x="47" y="1198"/>
                    </a:lnTo>
                    <a:lnTo>
                      <a:pt x="45" y="1133"/>
                    </a:lnTo>
                    <a:lnTo>
                      <a:pt x="42" y="1069"/>
                    </a:lnTo>
                    <a:lnTo>
                      <a:pt x="42" y="1005"/>
                    </a:lnTo>
                    <a:lnTo>
                      <a:pt x="42" y="940"/>
                    </a:lnTo>
                    <a:lnTo>
                      <a:pt x="45" y="875"/>
                    </a:lnTo>
                    <a:lnTo>
                      <a:pt x="47" y="811"/>
                    </a:lnTo>
                    <a:lnTo>
                      <a:pt x="50" y="748"/>
                    </a:lnTo>
                    <a:lnTo>
                      <a:pt x="53" y="684"/>
                    </a:lnTo>
                    <a:lnTo>
                      <a:pt x="59" y="620"/>
                    </a:lnTo>
                    <a:lnTo>
                      <a:pt x="65" y="556"/>
                    </a:lnTo>
                    <a:lnTo>
                      <a:pt x="72" y="494"/>
                    </a:lnTo>
                    <a:lnTo>
                      <a:pt x="79" y="431"/>
                    </a:lnTo>
                    <a:lnTo>
                      <a:pt x="88" y="369"/>
                    </a:lnTo>
                    <a:lnTo>
                      <a:pt x="98" y="307"/>
                    </a:lnTo>
                    <a:lnTo>
                      <a:pt x="107" y="244"/>
                    </a:lnTo>
                    <a:lnTo>
                      <a:pt x="119" y="183"/>
                    </a:lnTo>
                    <a:lnTo>
                      <a:pt x="131" y="122"/>
                    </a:lnTo>
                    <a:lnTo>
                      <a:pt x="144" y="61"/>
                    </a:lnTo>
                    <a:lnTo>
                      <a:pt x="157" y="0"/>
                    </a:lnTo>
                    <a:lnTo>
                      <a:pt x="149" y="10"/>
                    </a:lnTo>
                    <a:lnTo>
                      <a:pt x="142" y="21"/>
                    </a:lnTo>
                    <a:lnTo>
                      <a:pt x="134" y="31"/>
                    </a:lnTo>
                    <a:lnTo>
                      <a:pt x="127" y="40"/>
                    </a:lnTo>
                    <a:lnTo>
                      <a:pt x="119" y="51"/>
                    </a:lnTo>
                    <a:lnTo>
                      <a:pt x="112" y="61"/>
                    </a:lnTo>
                    <a:lnTo>
                      <a:pt x="104" y="72"/>
                    </a:lnTo>
                    <a:lnTo>
                      <a:pt x="97" y="81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813040" y="2582640"/>
                <a:ext cx="3522600" cy="831960"/>
              </a:xfrm>
              <a:custGeom>
                <a:avLst/>
                <a:gdLst/>
                <a:ahLst/>
                <a:rect l="l" t="t" r="r" b="b"/>
                <a:pathLst>
                  <a:path w="8874" h="2096">
                    <a:moveTo>
                      <a:pt x="8874" y="1044"/>
                    </a:moveTo>
                    <a:lnTo>
                      <a:pt x="8874" y="981"/>
                    </a:lnTo>
                    <a:lnTo>
                      <a:pt x="8873" y="919"/>
                    </a:lnTo>
                    <a:lnTo>
                      <a:pt x="8871" y="858"/>
                    </a:lnTo>
                    <a:lnTo>
                      <a:pt x="8868" y="796"/>
                    </a:lnTo>
                    <a:lnTo>
                      <a:pt x="8865" y="736"/>
                    </a:lnTo>
                    <a:lnTo>
                      <a:pt x="8859" y="674"/>
                    </a:lnTo>
                    <a:lnTo>
                      <a:pt x="8854" y="614"/>
                    </a:lnTo>
                    <a:lnTo>
                      <a:pt x="8847" y="553"/>
                    </a:lnTo>
                    <a:lnTo>
                      <a:pt x="8841" y="493"/>
                    </a:lnTo>
                    <a:lnTo>
                      <a:pt x="8833" y="433"/>
                    </a:lnTo>
                    <a:lnTo>
                      <a:pt x="8825" y="373"/>
                    </a:lnTo>
                    <a:lnTo>
                      <a:pt x="8815" y="314"/>
                    </a:lnTo>
                    <a:lnTo>
                      <a:pt x="8804" y="255"/>
                    </a:lnTo>
                    <a:lnTo>
                      <a:pt x="8793" y="196"/>
                    </a:lnTo>
                    <a:lnTo>
                      <a:pt x="8781" y="138"/>
                    </a:lnTo>
                    <a:lnTo>
                      <a:pt x="8770" y="79"/>
                    </a:lnTo>
                    <a:lnTo>
                      <a:pt x="8762" y="70"/>
                    </a:lnTo>
                    <a:lnTo>
                      <a:pt x="8754" y="60"/>
                    </a:lnTo>
                    <a:lnTo>
                      <a:pt x="8747" y="49"/>
                    </a:lnTo>
                    <a:lnTo>
                      <a:pt x="8739" y="39"/>
                    </a:lnTo>
                    <a:lnTo>
                      <a:pt x="8732" y="30"/>
                    </a:lnTo>
                    <a:lnTo>
                      <a:pt x="8724" y="20"/>
                    </a:lnTo>
                    <a:lnTo>
                      <a:pt x="8717" y="10"/>
                    </a:lnTo>
                    <a:lnTo>
                      <a:pt x="8708" y="0"/>
                    </a:lnTo>
                    <a:lnTo>
                      <a:pt x="8723" y="64"/>
                    </a:lnTo>
                    <a:lnTo>
                      <a:pt x="8737" y="127"/>
                    </a:lnTo>
                    <a:lnTo>
                      <a:pt x="8750" y="190"/>
                    </a:lnTo>
                    <a:lnTo>
                      <a:pt x="8762" y="254"/>
                    </a:lnTo>
                    <a:lnTo>
                      <a:pt x="8773" y="318"/>
                    </a:lnTo>
                    <a:lnTo>
                      <a:pt x="8784" y="383"/>
                    </a:lnTo>
                    <a:lnTo>
                      <a:pt x="8793" y="448"/>
                    </a:lnTo>
                    <a:lnTo>
                      <a:pt x="8801" y="512"/>
                    </a:lnTo>
                    <a:lnTo>
                      <a:pt x="8808" y="578"/>
                    </a:lnTo>
                    <a:lnTo>
                      <a:pt x="8815" y="644"/>
                    </a:lnTo>
                    <a:lnTo>
                      <a:pt x="8820" y="710"/>
                    </a:lnTo>
                    <a:lnTo>
                      <a:pt x="8825" y="776"/>
                    </a:lnTo>
                    <a:lnTo>
                      <a:pt x="8829" y="843"/>
                    </a:lnTo>
                    <a:lnTo>
                      <a:pt x="8831" y="909"/>
                    </a:lnTo>
                    <a:lnTo>
                      <a:pt x="8832" y="976"/>
                    </a:lnTo>
                    <a:lnTo>
                      <a:pt x="8833" y="1044"/>
                    </a:lnTo>
                    <a:lnTo>
                      <a:pt x="8832" y="1112"/>
                    </a:lnTo>
                    <a:lnTo>
                      <a:pt x="8831" y="1179"/>
                    </a:lnTo>
                    <a:lnTo>
                      <a:pt x="8829" y="1247"/>
                    </a:lnTo>
                    <a:lnTo>
                      <a:pt x="8825" y="1314"/>
                    </a:lnTo>
                    <a:lnTo>
                      <a:pt x="8820" y="1381"/>
                    </a:lnTo>
                    <a:lnTo>
                      <a:pt x="8815" y="1447"/>
                    </a:lnTo>
                    <a:lnTo>
                      <a:pt x="8808" y="1513"/>
                    </a:lnTo>
                    <a:lnTo>
                      <a:pt x="8801" y="1579"/>
                    </a:lnTo>
                    <a:lnTo>
                      <a:pt x="8792" y="1645"/>
                    </a:lnTo>
                    <a:lnTo>
                      <a:pt x="8783" y="1710"/>
                    </a:lnTo>
                    <a:lnTo>
                      <a:pt x="8772" y="1776"/>
                    </a:lnTo>
                    <a:lnTo>
                      <a:pt x="8761" y="1841"/>
                    </a:lnTo>
                    <a:lnTo>
                      <a:pt x="8748" y="1904"/>
                    </a:lnTo>
                    <a:lnTo>
                      <a:pt x="8735" y="1969"/>
                    </a:lnTo>
                    <a:lnTo>
                      <a:pt x="8721" y="2033"/>
                    </a:lnTo>
                    <a:lnTo>
                      <a:pt x="8706" y="2096"/>
                    </a:lnTo>
                    <a:lnTo>
                      <a:pt x="8713" y="2086"/>
                    </a:lnTo>
                    <a:lnTo>
                      <a:pt x="8722" y="2076"/>
                    </a:lnTo>
                    <a:lnTo>
                      <a:pt x="8730" y="2066"/>
                    </a:lnTo>
                    <a:lnTo>
                      <a:pt x="8737" y="2057"/>
                    </a:lnTo>
                    <a:lnTo>
                      <a:pt x="8745" y="2047"/>
                    </a:lnTo>
                    <a:lnTo>
                      <a:pt x="8752" y="2036"/>
                    </a:lnTo>
                    <a:lnTo>
                      <a:pt x="8760" y="2026"/>
                    </a:lnTo>
                    <a:lnTo>
                      <a:pt x="8767" y="2017"/>
                    </a:lnTo>
                    <a:lnTo>
                      <a:pt x="8780" y="1957"/>
                    </a:lnTo>
                    <a:lnTo>
                      <a:pt x="8792" y="1899"/>
                    </a:lnTo>
                    <a:lnTo>
                      <a:pt x="8803" y="1840"/>
                    </a:lnTo>
                    <a:lnTo>
                      <a:pt x="8814" y="1779"/>
                    </a:lnTo>
                    <a:lnTo>
                      <a:pt x="8824" y="1720"/>
                    </a:lnTo>
                    <a:lnTo>
                      <a:pt x="8832" y="1659"/>
                    </a:lnTo>
                    <a:lnTo>
                      <a:pt x="8840" y="1599"/>
                    </a:lnTo>
                    <a:lnTo>
                      <a:pt x="8847" y="1538"/>
                    </a:lnTo>
                    <a:lnTo>
                      <a:pt x="8854" y="1477"/>
                    </a:lnTo>
                    <a:lnTo>
                      <a:pt x="8859" y="1416"/>
                    </a:lnTo>
                    <a:lnTo>
                      <a:pt x="8864" y="1355"/>
                    </a:lnTo>
                    <a:lnTo>
                      <a:pt x="8868" y="1292"/>
                    </a:lnTo>
                    <a:lnTo>
                      <a:pt x="8871" y="1231"/>
                    </a:lnTo>
                    <a:lnTo>
                      <a:pt x="8873" y="1168"/>
                    </a:lnTo>
                    <a:lnTo>
                      <a:pt x="8874" y="1106"/>
                    </a:lnTo>
                    <a:lnTo>
                      <a:pt x="8874" y="1044"/>
                    </a:lnTo>
                    <a:close/>
                    <a:moveTo>
                      <a:pt x="105" y="79"/>
                    </a:moveTo>
                    <a:lnTo>
                      <a:pt x="93" y="138"/>
                    </a:lnTo>
                    <a:lnTo>
                      <a:pt x="81" y="196"/>
                    </a:lnTo>
                    <a:lnTo>
                      <a:pt x="70" y="255"/>
                    </a:lnTo>
                    <a:lnTo>
                      <a:pt x="59" y="314"/>
                    </a:lnTo>
                    <a:lnTo>
                      <a:pt x="50" y="373"/>
                    </a:lnTo>
                    <a:lnTo>
                      <a:pt x="41" y="433"/>
                    </a:lnTo>
                    <a:lnTo>
                      <a:pt x="33" y="493"/>
                    </a:lnTo>
                    <a:lnTo>
                      <a:pt x="26" y="553"/>
                    </a:lnTo>
                    <a:lnTo>
                      <a:pt x="20" y="614"/>
                    </a:lnTo>
                    <a:lnTo>
                      <a:pt x="15" y="674"/>
                    </a:lnTo>
                    <a:lnTo>
                      <a:pt x="10" y="736"/>
                    </a:lnTo>
                    <a:lnTo>
                      <a:pt x="6" y="796"/>
                    </a:lnTo>
                    <a:lnTo>
                      <a:pt x="3" y="858"/>
                    </a:lnTo>
                    <a:lnTo>
                      <a:pt x="1" y="919"/>
                    </a:lnTo>
                    <a:lnTo>
                      <a:pt x="0" y="981"/>
                    </a:lnTo>
                    <a:lnTo>
                      <a:pt x="0" y="1044"/>
                    </a:lnTo>
                    <a:lnTo>
                      <a:pt x="0" y="1105"/>
                    </a:lnTo>
                    <a:lnTo>
                      <a:pt x="1" y="1167"/>
                    </a:lnTo>
                    <a:lnTo>
                      <a:pt x="3" y="1228"/>
                    </a:lnTo>
                    <a:lnTo>
                      <a:pt x="6" y="1290"/>
                    </a:lnTo>
                    <a:lnTo>
                      <a:pt x="10" y="1351"/>
                    </a:lnTo>
                    <a:lnTo>
                      <a:pt x="15" y="1412"/>
                    </a:lnTo>
                    <a:lnTo>
                      <a:pt x="20" y="1472"/>
                    </a:lnTo>
                    <a:lnTo>
                      <a:pt x="26" y="1533"/>
                    </a:lnTo>
                    <a:lnTo>
                      <a:pt x="33" y="1593"/>
                    </a:lnTo>
                    <a:lnTo>
                      <a:pt x="41" y="1654"/>
                    </a:lnTo>
                    <a:lnTo>
                      <a:pt x="50" y="1713"/>
                    </a:lnTo>
                    <a:lnTo>
                      <a:pt x="59" y="1773"/>
                    </a:lnTo>
                    <a:lnTo>
                      <a:pt x="70" y="1832"/>
                    </a:lnTo>
                    <a:lnTo>
                      <a:pt x="81" y="1890"/>
                    </a:lnTo>
                    <a:lnTo>
                      <a:pt x="93" y="1950"/>
                    </a:lnTo>
                    <a:lnTo>
                      <a:pt x="105" y="2008"/>
                    </a:lnTo>
                    <a:lnTo>
                      <a:pt x="112" y="2018"/>
                    </a:lnTo>
                    <a:lnTo>
                      <a:pt x="120" y="2028"/>
                    </a:lnTo>
                    <a:lnTo>
                      <a:pt x="127" y="2037"/>
                    </a:lnTo>
                    <a:lnTo>
                      <a:pt x="135" y="2047"/>
                    </a:lnTo>
                    <a:lnTo>
                      <a:pt x="143" y="2057"/>
                    </a:lnTo>
                    <a:lnTo>
                      <a:pt x="150" y="2066"/>
                    </a:lnTo>
                    <a:lnTo>
                      <a:pt x="158" y="2076"/>
                    </a:lnTo>
                    <a:lnTo>
                      <a:pt x="166" y="2086"/>
                    </a:lnTo>
                    <a:lnTo>
                      <a:pt x="151" y="2023"/>
                    </a:lnTo>
                    <a:lnTo>
                      <a:pt x="137" y="1960"/>
                    </a:lnTo>
                    <a:lnTo>
                      <a:pt x="124" y="1897"/>
                    </a:lnTo>
                    <a:lnTo>
                      <a:pt x="112" y="1833"/>
                    </a:lnTo>
                    <a:lnTo>
                      <a:pt x="100" y="1768"/>
                    </a:lnTo>
                    <a:lnTo>
                      <a:pt x="91" y="1704"/>
                    </a:lnTo>
                    <a:lnTo>
                      <a:pt x="81" y="1639"/>
                    </a:lnTo>
                    <a:lnTo>
                      <a:pt x="73" y="1574"/>
                    </a:lnTo>
                    <a:lnTo>
                      <a:pt x="66" y="1509"/>
                    </a:lnTo>
                    <a:lnTo>
                      <a:pt x="59" y="1443"/>
                    </a:lnTo>
                    <a:lnTo>
                      <a:pt x="54" y="1377"/>
                    </a:lnTo>
                    <a:lnTo>
                      <a:pt x="50" y="1310"/>
                    </a:lnTo>
                    <a:lnTo>
                      <a:pt x="45" y="1245"/>
                    </a:lnTo>
                    <a:lnTo>
                      <a:pt x="43" y="1178"/>
                    </a:lnTo>
                    <a:lnTo>
                      <a:pt x="42" y="1111"/>
                    </a:lnTo>
                    <a:lnTo>
                      <a:pt x="41" y="1044"/>
                    </a:lnTo>
                    <a:lnTo>
                      <a:pt x="42" y="976"/>
                    </a:lnTo>
                    <a:lnTo>
                      <a:pt x="43" y="909"/>
                    </a:lnTo>
                    <a:lnTo>
                      <a:pt x="45" y="843"/>
                    </a:lnTo>
                    <a:lnTo>
                      <a:pt x="50" y="776"/>
                    </a:lnTo>
                    <a:lnTo>
                      <a:pt x="54" y="710"/>
                    </a:lnTo>
                    <a:lnTo>
                      <a:pt x="59" y="644"/>
                    </a:lnTo>
                    <a:lnTo>
                      <a:pt x="66" y="578"/>
                    </a:lnTo>
                    <a:lnTo>
                      <a:pt x="73" y="512"/>
                    </a:lnTo>
                    <a:lnTo>
                      <a:pt x="81" y="448"/>
                    </a:lnTo>
                    <a:lnTo>
                      <a:pt x="91" y="383"/>
                    </a:lnTo>
                    <a:lnTo>
                      <a:pt x="100" y="318"/>
                    </a:lnTo>
                    <a:lnTo>
                      <a:pt x="112" y="254"/>
                    </a:lnTo>
                    <a:lnTo>
                      <a:pt x="124" y="190"/>
                    </a:lnTo>
                    <a:lnTo>
                      <a:pt x="137" y="127"/>
                    </a:lnTo>
                    <a:lnTo>
                      <a:pt x="151" y="64"/>
                    </a:lnTo>
                    <a:lnTo>
                      <a:pt x="166" y="0"/>
                    </a:lnTo>
                    <a:lnTo>
                      <a:pt x="158" y="10"/>
                    </a:lnTo>
                    <a:lnTo>
                      <a:pt x="150" y="20"/>
                    </a:lnTo>
                    <a:lnTo>
                      <a:pt x="143" y="30"/>
                    </a:lnTo>
                    <a:lnTo>
                      <a:pt x="135" y="39"/>
                    </a:lnTo>
                    <a:lnTo>
                      <a:pt x="127" y="49"/>
                    </a:lnTo>
                    <a:lnTo>
                      <a:pt x="120" y="60"/>
                    </a:lnTo>
                    <a:lnTo>
                      <a:pt x="112" y="70"/>
                    </a:lnTo>
                    <a:lnTo>
                      <a:pt x="105" y="79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820960" y="2568600"/>
                <a:ext cx="3505320" cy="860400"/>
              </a:xfrm>
              <a:custGeom>
                <a:avLst/>
                <a:gdLst/>
                <a:ahLst/>
                <a:rect l="l" t="t" r="r" b="b"/>
                <a:pathLst>
                  <a:path w="8834" h="2167">
                    <a:moveTo>
                      <a:pt x="8834" y="1079"/>
                    </a:moveTo>
                    <a:lnTo>
                      <a:pt x="8834" y="1014"/>
                    </a:lnTo>
                    <a:lnTo>
                      <a:pt x="8832" y="949"/>
                    </a:lnTo>
                    <a:lnTo>
                      <a:pt x="8830" y="885"/>
                    </a:lnTo>
                    <a:lnTo>
                      <a:pt x="8826" y="822"/>
                    </a:lnTo>
                    <a:lnTo>
                      <a:pt x="8822" y="758"/>
                    </a:lnTo>
                    <a:lnTo>
                      <a:pt x="8818" y="694"/>
                    </a:lnTo>
                    <a:lnTo>
                      <a:pt x="8811" y="630"/>
                    </a:lnTo>
                    <a:lnTo>
                      <a:pt x="8805" y="568"/>
                    </a:lnTo>
                    <a:lnTo>
                      <a:pt x="8797" y="505"/>
                    </a:lnTo>
                    <a:lnTo>
                      <a:pt x="8788" y="443"/>
                    </a:lnTo>
                    <a:lnTo>
                      <a:pt x="8779" y="381"/>
                    </a:lnTo>
                    <a:lnTo>
                      <a:pt x="8769" y="318"/>
                    </a:lnTo>
                    <a:lnTo>
                      <a:pt x="8757" y="257"/>
                    </a:lnTo>
                    <a:lnTo>
                      <a:pt x="8745" y="196"/>
                    </a:lnTo>
                    <a:lnTo>
                      <a:pt x="8732" y="135"/>
                    </a:lnTo>
                    <a:lnTo>
                      <a:pt x="8719" y="74"/>
                    </a:lnTo>
                    <a:lnTo>
                      <a:pt x="8712" y="65"/>
                    </a:lnTo>
                    <a:lnTo>
                      <a:pt x="8704" y="56"/>
                    </a:lnTo>
                    <a:lnTo>
                      <a:pt x="8697" y="46"/>
                    </a:lnTo>
                    <a:lnTo>
                      <a:pt x="8689" y="36"/>
                    </a:lnTo>
                    <a:lnTo>
                      <a:pt x="8682" y="28"/>
                    </a:lnTo>
                    <a:lnTo>
                      <a:pt x="8674" y="18"/>
                    </a:lnTo>
                    <a:lnTo>
                      <a:pt x="8666" y="9"/>
                    </a:lnTo>
                    <a:lnTo>
                      <a:pt x="8658" y="0"/>
                    </a:lnTo>
                    <a:lnTo>
                      <a:pt x="8674" y="65"/>
                    </a:lnTo>
                    <a:lnTo>
                      <a:pt x="8689" y="130"/>
                    </a:lnTo>
                    <a:lnTo>
                      <a:pt x="8703" y="195"/>
                    </a:lnTo>
                    <a:lnTo>
                      <a:pt x="8716" y="261"/>
                    </a:lnTo>
                    <a:lnTo>
                      <a:pt x="8728" y="328"/>
                    </a:lnTo>
                    <a:lnTo>
                      <a:pt x="8739" y="395"/>
                    </a:lnTo>
                    <a:lnTo>
                      <a:pt x="8749" y="462"/>
                    </a:lnTo>
                    <a:lnTo>
                      <a:pt x="8758" y="529"/>
                    </a:lnTo>
                    <a:lnTo>
                      <a:pt x="8766" y="597"/>
                    </a:lnTo>
                    <a:lnTo>
                      <a:pt x="8773" y="665"/>
                    </a:lnTo>
                    <a:lnTo>
                      <a:pt x="8779" y="733"/>
                    </a:lnTo>
                    <a:lnTo>
                      <a:pt x="8784" y="801"/>
                    </a:lnTo>
                    <a:lnTo>
                      <a:pt x="8787" y="870"/>
                    </a:lnTo>
                    <a:lnTo>
                      <a:pt x="8791" y="939"/>
                    </a:lnTo>
                    <a:lnTo>
                      <a:pt x="8792" y="1008"/>
                    </a:lnTo>
                    <a:lnTo>
                      <a:pt x="8793" y="1079"/>
                    </a:lnTo>
                    <a:lnTo>
                      <a:pt x="8792" y="1149"/>
                    </a:lnTo>
                    <a:lnTo>
                      <a:pt x="8791" y="1219"/>
                    </a:lnTo>
                    <a:lnTo>
                      <a:pt x="8787" y="1289"/>
                    </a:lnTo>
                    <a:lnTo>
                      <a:pt x="8783" y="1358"/>
                    </a:lnTo>
                    <a:lnTo>
                      <a:pt x="8779" y="1428"/>
                    </a:lnTo>
                    <a:lnTo>
                      <a:pt x="8772" y="1497"/>
                    </a:lnTo>
                    <a:lnTo>
                      <a:pt x="8766" y="1565"/>
                    </a:lnTo>
                    <a:lnTo>
                      <a:pt x="8757" y="1634"/>
                    </a:lnTo>
                    <a:lnTo>
                      <a:pt x="8749" y="1702"/>
                    </a:lnTo>
                    <a:lnTo>
                      <a:pt x="8738" y="1769"/>
                    </a:lnTo>
                    <a:lnTo>
                      <a:pt x="8727" y="1837"/>
                    </a:lnTo>
                    <a:lnTo>
                      <a:pt x="8715" y="1904"/>
                    </a:lnTo>
                    <a:lnTo>
                      <a:pt x="8701" y="1970"/>
                    </a:lnTo>
                    <a:lnTo>
                      <a:pt x="8687" y="2037"/>
                    </a:lnTo>
                    <a:lnTo>
                      <a:pt x="8672" y="2103"/>
                    </a:lnTo>
                    <a:lnTo>
                      <a:pt x="8656" y="2167"/>
                    </a:lnTo>
                    <a:lnTo>
                      <a:pt x="8663" y="2159"/>
                    </a:lnTo>
                    <a:lnTo>
                      <a:pt x="8671" y="2149"/>
                    </a:lnTo>
                    <a:lnTo>
                      <a:pt x="8679" y="2139"/>
                    </a:lnTo>
                    <a:lnTo>
                      <a:pt x="8687" y="2130"/>
                    </a:lnTo>
                    <a:lnTo>
                      <a:pt x="8694" y="2121"/>
                    </a:lnTo>
                    <a:lnTo>
                      <a:pt x="8702" y="2111"/>
                    </a:lnTo>
                    <a:lnTo>
                      <a:pt x="8710" y="2101"/>
                    </a:lnTo>
                    <a:lnTo>
                      <a:pt x="8717" y="2092"/>
                    </a:lnTo>
                    <a:lnTo>
                      <a:pt x="8731" y="2031"/>
                    </a:lnTo>
                    <a:lnTo>
                      <a:pt x="8744" y="1970"/>
                    </a:lnTo>
                    <a:lnTo>
                      <a:pt x="8756" y="1907"/>
                    </a:lnTo>
                    <a:lnTo>
                      <a:pt x="8767" y="1845"/>
                    </a:lnTo>
                    <a:lnTo>
                      <a:pt x="8778" y="1783"/>
                    </a:lnTo>
                    <a:lnTo>
                      <a:pt x="8787" y="1720"/>
                    </a:lnTo>
                    <a:lnTo>
                      <a:pt x="8796" y="1658"/>
                    </a:lnTo>
                    <a:lnTo>
                      <a:pt x="8804" y="1594"/>
                    </a:lnTo>
                    <a:lnTo>
                      <a:pt x="8811" y="1530"/>
                    </a:lnTo>
                    <a:lnTo>
                      <a:pt x="8817" y="1466"/>
                    </a:lnTo>
                    <a:lnTo>
                      <a:pt x="8822" y="1403"/>
                    </a:lnTo>
                    <a:lnTo>
                      <a:pt x="8826" y="1338"/>
                    </a:lnTo>
                    <a:lnTo>
                      <a:pt x="8830" y="1273"/>
                    </a:lnTo>
                    <a:lnTo>
                      <a:pt x="8832" y="1208"/>
                    </a:lnTo>
                    <a:lnTo>
                      <a:pt x="8834" y="1143"/>
                    </a:lnTo>
                    <a:lnTo>
                      <a:pt x="8834" y="1079"/>
                    </a:lnTo>
                    <a:close/>
                    <a:moveTo>
                      <a:pt x="115" y="74"/>
                    </a:moveTo>
                    <a:lnTo>
                      <a:pt x="102" y="135"/>
                    </a:lnTo>
                    <a:lnTo>
                      <a:pt x="89" y="196"/>
                    </a:lnTo>
                    <a:lnTo>
                      <a:pt x="77" y="257"/>
                    </a:lnTo>
                    <a:lnTo>
                      <a:pt x="65" y="318"/>
                    </a:lnTo>
                    <a:lnTo>
                      <a:pt x="56" y="381"/>
                    </a:lnTo>
                    <a:lnTo>
                      <a:pt x="46" y="443"/>
                    </a:lnTo>
                    <a:lnTo>
                      <a:pt x="37" y="505"/>
                    </a:lnTo>
                    <a:lnTo>
                      <a:pt x="30" y="568"/>
                    </a:lnTo>
                    <a:lnTo>
                      <a:pt x="23" y="630"/>
                    </a:lnTo>
                    <a:lnTo>
                      <a:pt x="17" y="694"/>
                    </a:lnTo>
                    <a:lnTo>
                      <a:pt x="11" y="758"/>
                    </a:lnTo>
                    <a:lnTo>
                      <a:pt x="8" y="822"/>
                    </a:lnTo>
                    <a:lnTo>
                      <a:pt x="5" y="885"/>
                    </a:lnTo>
                    <a:lnTo>
                      <a:pt x="3" y="949"/>
                    </a:lnTo>
                    <a:lnTo>
                      <a:pt x="0" y="1014"/>
                    </a:lnTo>
                    <a:lnTo>
                      <a:pt x="0" y="1079"/>
                    </a:lnTo>
                    <a:lnTo>
                      <a:pt x="0" y="1143"/>
                    </a:lnTo>
                    <a:lnTo>
                      <a:pt x="3" y="1207"/>
                    </a:lnTo>
                    <a:lnTo>
                      <a:pt x="5" y="1272"/>
                    </a:lnTo>
                    <a:lnTo>
                      <a:pt x="8" y="1336"/>
                    </a:lnTo>
                    <a:lnTo>
                      <a:pt x="11" y="1399"/>
                    </a:lnTo>
                    <a:lnTo>
                      <a:pt x="17" y="1463"/>
                    </a:lnTo>
                    <a:lnTo>
                      <a:pt x="23" y="1526"/>
                    </a:lnTo>
                    <a:lnTo>
                      <a:pt x="30" y="1590"/>
                    </a:lnTo>
                    <a:lnTo>
                      <a:pt x="37" y="1652"/>
                    </a:lnTo>
                    <a:lnTo>
                      <a:pt x="46" y="1714"/>
                    </a:lnTo>
                    <a:lnTo>
                      <a:pt x="56" y="1776"/>
                    </a:lnTo>
                    <a:lnTo>
                      <a:pt x="65" y="1838"/>
                    </a:lnTo>
                    <a:lnTo>
                      <a:pt x="77" y="1899"/>
                    </a:lnTo>
                    <a:lnTo>
                      <a:pt x="89" y="1961"/>
                    </a:lnTo>
                    <a:lnTo>
                      <a:pt x="101" y="2022"/>
                    </a:lnTo>
                    <a:lnTo>
                      <a:pt x="115" y="2083"/>
                    </a:lnTo>
                    <a:lnTo>
                      <a:pt x="123" y="2092"/>
                    </a:lnTo>
                    <a:lnTo>
                      <a:pt x="130" y="2101"/>
                    </a:lnTo>
                    <a:lnTo>
                      <a:pt x="138" y="2111"/>
                    </a:lnTo>
                    <a:lnTo>
                      <a:pt x="145" y="2120"/>
                    </a:lnTo>
                    <a:lnTo>
                      <a:pt x="153" y="2130"/>
                    </a:lnTo>
                    <a:lnTo>
                      <a:pt x="160" y="2138"/>
                    </a:lnTo>
                    <a:lnTo>
                      <a:pt x="168" y="2148"/>
                    </a:lnTo>
                    <a:lnTo>
                      <a:pt x="177" y="2158"/>
                    </a:lnTo>
                    <a:lnTo>
                      <a:pt x="160" y="2092"/>
                    </a:lnTo>
                    <a:lnTo>
                      <a:pt x="145" y="2027"/>
                    </a:lnTo>
                    <a:lnTo>
                      <a:pt x="131" y="1961"/>
                    </a:lnTo>
                    <a:lnTo>
                      <a:pt x="118" y="1895"/>
                    </a:lnTo>
                    <a:lnTo>
                      <a:pt x="106" y="1829"/>
                    </a:lnTo>
                    <a:lnTo>
                      <a:pt x="96" y="1762"/>
                    </a:lnTo>
                    <a:lnTo>
                      <a:pt x="85" y="1695"/>
                    </a:lnTo>
                    <a:lnTo>
                      <a:pt x="76" y="1628"/>
                    </a:lnTo>
                    <a:lnTo>
                      <a:pt x="69" y="1560"/>
                    </a:lnTo>
                    <a:lnTo>
                      <a:pt x="61" y="1492"/>
                    </a:lnTo>
                    <a:lnTo>
                      <a:pt x="56" y="1424"/>
                    </a:lnTo>
                    <a:lnTo>
                      <a:pt x="50" y="1355"/>
                    </a:lnTo>
                    <a:lnTo>
                      <a:pt x="47" y="1287"/>
                    </a:lnTo>
                    <a:lnTo>
                      <a:pt x="44" y="1218"/>
                    </a:lnTo>
                    <a:lnTo>
                      <a:pt x="43" y="1148"/>
                    </a:lnTo>
                    <a:lnTo>
                      <a:pt x="42" y="1079"/>
                    </a:lnTo>
                    <a:lnTo>
                      <a:pt x="43" y="1008"/>
                    </a:lnTo>
                    <a:lnTo>
                      <a:pt x="44" y="939"/>
                    </a:lnTo>
                    <a:lnTo>
                      <a:pt x="47" y="870"/>
                    </a:lnTo>
                    <a:lnTo>
                      <a:pt x="50" y="801"/>
                    </a:lnTo>
                    <a:lnTo>
                      <a:pt x="56" y="733"/>
                    </a:lnTo>
                    <a:lnTo>
                      <a:pt x="61" y="665"/>
                    </a:lnTo>
                    <a:lnTo>
                      <a:pt x="69" y="597"/>
                    </a:lnTo>
                    <a:lnTo>
                      <a:pt x="76" y="529"/>
                    </a:lnTo>
                    <a:lnTo>
                      <a:pt x="85" y="462"/>
                    </a:lnTo>
                    <a:lnTo>
                      <a:pt x="96" y="395"/>
                    </a:lnTo>
                    <a:lnTo>
                      <a:pt x="106" y="328"/>
                    </a:lnTo>
                    <a:lnTo>
                      <a:pt x="118" y="261"/>
                    </a:lnTo>
                    <a:lnTo>
                      <a:pt x="131" y="195"/>
                    </a:lnTo>
                    <a:lnTo>
                      <a:pt x="145" y="130"/>
                    </a:lnTo>
                    <a:lnTo>
                      <a:pt x="160" y="65"/>
                    </a:lnTo>
                    <a:lnTo>
                      <a:pt x="177" y="0"/>
                    </a:lnTo>
                    <a:lnTo>
                      <a:pt x="168" y="9"/>
                    </a:lnTo>
                    <a:lnTo>
                      <a:pt x="160" y="18"/>
                    </a:lnTo>
                    <a:lnTo>
                      <a:pt x="153" y="28"/>
                    </a:lnTo>
                    <a:lnTo>
                      <a:pt x="145" y="36"/>
                    </a:lnTo>
                    <a:lnTo>
                      <a:pt x="138" y="46"/>
                    </a:lnTo>
                    <a:lnTo>
                      <a:pt x="130" y="56"/>
                    </a:lnTo>
                    <a:lnTo>
                      <a:pt x="123" y="65"/>
                    </a:lnTo>
                    <a:lnTo>
                      <a:pt x="115" y="74"/>
                    </a:lnTo>
                    <a:close/>
                  </a:path>
                </a:pathLst>
              </a:custGeom>
              <a:solidFill>
                <a:srgbClr val="c7a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28880" y="2556000"/>
                <a:ext cx="3489480" cy="888840"/>
              </a:xfrm>
              <a:custGeom>
                <a:avLst/>
                <a:gdLst/>
                <a:ahLst/>
                <a:rect l="l" t="t" r="r" b="b"/>
                <a:pathLst>
                  <a:path w="8792" h="2240">
                    <a:moveTo>
                      <a:pt x="8792" y="1115"/>
                    </a:moveTo>
                    <a:lnTo>
                      <a:pt x="8791" y="1047"/>
                    </a:lnTo>
                    <a:lnTo>
                      <a:pt x="8790" y="980"/>
                    </a:lnTo>
                    <a:lnTo>
                      <a:pt x="8788" y="914"/>
                    </a:lnTo>
                    <a:lnTo>
                      <a:pt x="8784" y="847"/>
                    </a:lnTo>
                    <a:lnTo>
                      <a:pt x="8779" y="781"/>
                    </a:lnTo>
                    <a:lnTo>
                      <a:pt x="8774" y="715"/>
                    </a:lnTo>
                    <a:lnTo>
                      <a:pt x="8767" y="649"/>
                    </a:lnTo>
                    <a:lnTo>
                      <a:pt x="8760" y="583"/>
                    </a:lnTo>
                    <a:lnTo>
                      <a:pt x="8752" y="519"/>
                    </a:lnTo>
                    <a:lnTo>
                      <a:pt x="8743" y="454"/>
                    </a:lnTo>
                    <a:lnTo>
                      <a:pt x="8732" y="389"/>
                    </a:lnTo>
                    <a:lnTo>
                      <a:pt x="8721" y="325"/>
                    </a:lnTo>
                    <a:lnTo>
                      <a:pt x="8709" y="261"/>
                    </a:lnTo>
                    <a:lnTo>
                      <a:pt x="8696" y="198"/>
                    </a:lnTo>
                    <a:lnTo>
                      <a:pt x="8682" y="135"/>
                    </a:lnTo>
                    <a:lnTo>
                      <a:pt x="8667" y="71"/>
                    </a:lnTo>
                    <a:lnTo>
                      <a:pt x="8659" y="63"/>
                    </a:lnTo>
                    <a:lnTo>
                      <a:pt x="8652" y="54"/>
                    </a:lnTo>
                    <a:lnTo>
                      <a:pt x="8644" y="44"/>
                    </a:lnTo>
                    <a:lnTo>
                      <a:pt x="8637" y="36"/>
                    </a:lnTo>
                    <a:lnTo>
                      <a:pt x="8629" y="27"/>
                    </a:lnTo>
                    <a:lnTo>
                      <a:pt x="8622" y="17"/>
                    </a:lnTo>
                    <a:lnTo>
                      <a:pt x="8614" y="9"/>
                    </a:lnTo>
                    <a:lnTo>
                      <a:pt x="8606" y="0"/>
                    </a:lnTo>
                    <a:lnTo>
                      <a:pt x="8624" y="67"/>
                    </a:lnTo>
                    <a:lnTo>
                      <a:pt x="8639" y="134"/>
                    </a:lnTo>
                    <a:lnTo>
                      <a:pt x="8654" y="202"/>
                    </a:lnTo>
                    <a:lnTo>
                      <a:pt x="8668" y="270"/>
                    </a:lnTo>
                    <a:lnTo>
                      <a:pt x="8681" y="338"/>
                    </a:lnTo>
                    <a:lnTo>
                      <a:pt x="8693" y="407"/>
                    </a:lnTo>
                    <a:lnTo>
                      <a:pt x="8704" y="476"/>
                    </a:lnTo>
                    <a:lnTo>
                      <a:pt x="8713" y="547"/>
                    </a:lnTo>
                    <a:lnTo>
                      <a:pt x="8722" y="616"/>
                    </a:lnTo>
                    <a:lnTo>
                      <a:pt x="8730" y="686"/>
                    </a:lnTo>
                    <a:lnTo>
                      <a:pt x="8736" y="757"/>
                    </a:lnTo>
                    <a:lnTo>
                      <a:pt x="8742" y="827"/>
                    </a:lnTo>
                    <a:lnTo>
                      <a:pt x="8745" y="899"/>
                    </a:lnTo>
                    <a:lnTo>
                      <a:pt x="8748" y="971"/>
                    </a:lnTo>
                    <a:lnTo>
                      <a:pt x="8750" y="1042"/>
                    </a:lnTo>
                    <a:lnTo>
                      <a:pt x="8750" y="1115"/>
                    </a:lnTo>
                    <a:lnTo>
                      <a:pt x="8750" y="1187"/>
                    </a:lnTo>
                    <a:lnTo>
                      <a:pt x="8748" y="1259"/>
                    </a:lnTo>
                    <a:lnTo>
                      <a:pt x="8745" y="1332"/>
                    </a:lnTo>
                    <a:lnTo>
                      <a:pt x="8740" y="1404"/>
                    </a:lnTo>
                    <a:lnTo>
                      <a:pt x="8736" y="1475"/>
                    </a:lnTo>
                    <a:lnTo>
                      <a:pt x="8730" y="1547"/>
                    </a:lnTo>
                    <a:lnTo>
                      <a:pt x="8721" y="1618"/>
                    </a:lnTo>
                    <a:lnTo>
                      <a:pt x="8712" y="1688"/>
                    </a:lnTo>
                    <a:lnTo>
                      <a:pt x="8703" y="1758"/>
                    </a:lnTo>
                    <a:lnTo>
                      <a:pt x="8692" y="1829"/>
                    </a:lnTo>
                    <a:lnTo>
                      <a:pt x="8680" y="1899"/>
                    </a:lnTo>
                    <a:lnTo>
                      <a:pt x="8667" y="1968"/>
                    </a:lnTo>
                    <a:lnTo>
                      <a:pt x="8652" y="2036"/>
                    </a:lnTo>
                    <a:lnTo>
                      <a:pt x="8637" y="2104"/>
                    </a:lnTo>
                    <a:lnTo>
                      <a:pt x="8621" y="2172"/>
                    </a:lnTo>
                    <a:lnTo>
                      <a:pt x="8603" y="2240"/>
                    </a:lnTo>
                    <a:lnTo>
                      <a:pt x="8611" y="2231"/>
                    </a:lnTo>
                    <a:lnTo>
                      <a:pt x="8619" y="2222"/>
                    </a:lnTo>
                    <a:lnTo>
                      <a:pt x="8627" y="2213"/>
                    </a:lnTo>
                    <a:lnTo>
                      <a:pt x="8635" y="2203"/>
                    </a:lnTo>
                    <a:lnTo>
                      <a:pt x="8642" y="2195"/>
                    </a:lnTo>
                    <a:lnTo>
                      <a:pt x="8650" y="2185"/>
                    </a:lnTo>
                    <a:lnTo>
                      <a:pt x="8657" y="2176"/>
                    </a:lnTo>
                    <a:lnTo>
                      <a:pt x="8665" y="2167"/>
                    </a:lnTo>
                    <a:lnTo>
                      <a:pt x="8680" y="2104"/>
                    </a:lnTo>
                    <a:lnTo>
                      <a:pt x="8694" y="2040"/>
                    </a:lnTo>
                    <a:lnTo>
                      <a:pt x="8707" y="1975"/>
                    </a:lnTo>
                    <a:lnTo>
                      <a:pt x="8720" y="1912"/>
                    </a:lnTo>
                    <a:lnTo>
                      <a:pt x="8731" y="1847"/>
                    </a:lnTo>
                    <a:lnTo>
                      <a:pt x="8742" y="1781"/>
                    </a:lnTo>
                    <a:lnTo>
                      <a:pt x="8751" y="1716"/>
                    </a:lnTo>
                    <a:lnTo>
                      <a:pt x="8760" y="1650"/>
                    </a:lnTo>
                    <a:lnTo>
                      <a:pt x="8767" y="1584"/>
                    </a:lnTo>
                    <a:lnTo>
                      <a:pt x="8774" y="1518"/>
                    </a:lnTo>
                    <a:lnTo>
                      <a:pt x="8779" y="1452"/>
                    </a:lnTo>
                    <a:lnTo>
                      <a:pt x="8784" y="1385"/>
                    </a:lnTo>
                    <a:lnTo>
                      <a:pt x="8788" y="1318"/>
                    </a:lnTo>
                    <a:lnTo>
                      <a:pt x="8790" y="1250"/>
                    </a:lnTo>
                    <a:lnTo>
                      <a:pt x="8791" y="1183"/>
                    </a:lnTo>
                    <a:lnTo>
                      <a:pt x="8792" y="1115"/>
                    </a:lnTo>
                    <a:close/>
                    <a:moveTo>
                      <a:pt x="125" y="71"/>
                    </a:moveTo>
                    <a:lnTo>
                      <a:pt x="110" y="135"/>
                    </a:lnTo>
                    <a:lnTo>
                      <a:pt x="96" y="198"/>
                    </a:lnTo>
                    <a:lnTo>
                      <a:pt x="83" y="261"/>
                    </a:lnTo>
                    <a:lnTo>
                      <a:pt x="71" y="325"/>
                    </a:lnTo>
                    <a:lnTo>
                      <a:pt x="59" y="389"/>
                    </a:lnTo>
                    <a:lnTo>
                      <a:pt x="50" y="454"/>
                    </a:lnTo>
                    <a:lnTo>
                      <a:pt x="40" y="519"/>
                    </a:lnTo>
                    <a:lnTo>
                      <a:pt x="32" y="583"/>
                    </a:lnTo>
                    <a:lnTo>
                      <a:pt x="25" y="649"/>
                    </a:lnTo>
                    <a:lnTo>
                      <a:pt x="18" y="715"/>
                    </a:lnTo>
                    <a:lnTo>
                      <a:pt x="13" y="781"/>
                    </a:lnTo>
                    <a:lnTo>
                      <a:pt x="9" y="847"/>
                    </a:lnTo>
                    <a:lnTo>
                      <a:pt x="4" y="914"/>
                    </a:lnTo>
                    <a:lnTo>
                      <a:pt x="2" y="980"/>
                    </a:lnTo>
                    <a:lnTo>
                      <a:pt x="1" y="1047"/>
                    </a:lnTo>
                    <a:lnTo>
                      <a:pt x="0" y="1115"/>
                    </a:lnTo>
                    <a:lnTo>
                      <a:pt x="1" y="1182"/>
                    </a:lnTo>
                    <a:lnTo>
                      <a:pt x="2" y="1249"/>
                    </a:lnTo>
                    <a:lnTo>
                      <a:pt x="4" y="1316"/>
                    </a:lnTo>
                    <a:lnTo>
                      <a:pt x="9" y="1381"/>
                    </a:lnTo>
                    <a:lnTo>
                      <a:pt x="13" y="1448"/>
                    </a:lnTo>
                    <a:lnTo>
                      <a:pt x="18" y="1514"/>
                    </a:lnTo>
                    <a:lnTo>
                      <a:pt x="25" y="1580"/>
                    </a:lnTo>
                    <a:lnTo>
                      <a:pt x="32" y="1645"/>
                    </a:lnTo>
                    <a:lnTo>
                      <a:pt x="40" y="1710"/>
                    </a:lnTo>
                    <a:lnTo>
                      <a:pt x="50" y="1775"/>
                    </a:lnTo>
                    <a:lnTo>
                      <a:pt x="59" y="1839"/>
                    </a:lnTo>
                    <a:lnTo>
                      <a:pt x="71" y="1904"/>
                    </a:lnTo>
                    <a:lnTo>
                      <a:pt x="83" y="1968"/>
                    </a:lnTo>
                    <a:lnTo>
                      <a:pt x="96" y="2031"/>
                    </a:lnTo>
                    <a:lnTo>
                      <a:pt x="110" y="2094"/>
                    </a:lnTo>
                    <a:lnTo>
                      <a:pt x="125" y="2157"/>
                    </a:lnTo>
                    <a:lnTo>
                      <a:pt x="133" y="2167"/>
                    </a:lnTo>
                    <a:lnTo>
                      <a:pt x="140" y="2175"/>
                    </a:lnTo>
                    <a:lnTo>
                      <a:pt x="147" y="2184"/>
                    </a:lnTo>
                    <a:lnTo>
                      <a:pt x="156" y="2194"/>
                    </a:lnTo>
                    <a:lnTo>
                      <a:pt x="163" y="2202"/>
                    </a:lnTo>
                    <a:lnTo>
                      <a:pt x="171" y="2211"/>
                    </a:lnTo>
                    <a:lnTo>
                      <a:pt x="178" y="2220"/>
                    </a:lnTo>
                    <a:lnTo>
                      <a:pt x="186" y="2229"/>
                    </a:lnTo>
                    <a:lnTo>
                      <a:pt x="169" y="2162"/>
                    </a:lnTo>
                    <a:lnTo>
                      <a:pt x="153" y="2094"/>
                    </a:lnTo>
                    <a:lnTo>
                      <a:pt x="138" y="2027"/>
                    </a:lnTo>
                    <a:lnTo>
                      <a:pt x="124" y="1959"/>
                    </a:lnTo>
                    <a:lnTo>
                      <a:pt x="111" y="1890"/>
                    </a:lnTo>
                    <a:lnTo>
                      <a:pt x="99" y="1821"/>
                    </a:lnTo>
                    <a:lnTo>
                      <a:pt x="89" y="1752"/>
                    </a:lnTo>
                    <a:lnTo>
                      <a:pt x="79" y="1683"/>
                    </a:lnTo>
                    <a:lnTo>
                      <a:pt x="70" y="1613"/>
                    </a:lnTo>
                    <a:lnTo>
                      <a:pt x="63" y="1542"/>
                    </a:lnTo>
                    <a:lnTo>
                      <a:pt x="56" y="1472"/>
                    </a:lnTo>
                    <a:lnTo>
                      <a:pt x="51" y="1401"/>
                    </a:lnTo>
                    <a:lnTo>
                      <a:pt x="48" y="1330"/>
                    </a:lnTo>
                    <a:lnTo>
                      <a:pt x="44" y="1258"/>
                    </a:lnTo>
                    <a:lnTo>
                      <a:pt x="42" y="1187"/>
                    </a:lnTo>
                    <a:lnTo>
                      <a:pt x="42" y="1115"/>
                    </a:lnTo>
                    <a:lnTo>
                      <a:pt x="42" y="1042"/>
                    </a:lnTo>
                    <a:lnTo>
                      <a:pt x="44" y="971"/>
                    </a:lnTo>
                    <a:lnTo>
                      <a:pt x="48" y="899"/>
                    </a:lnTo>
                    <a:lnTo>
                      <a:pt x="51" y="827"/>
                    </a:lnTo>
                    <a:lnTo>
                      <a:pt x="56" y="757"/>
                    </a:lnTo>
                    <a:lnTo>
                      <a:pt x="63" y="686"/>
                    </a:lnTo>
                    <a:lnTo>
                      <a:pt x="70" y="616"/>
                    </a:lnTo>
                    <a:lnTo>
                      <a:pt x="79" y="547"/>
                    </a:lnTo>
                    <a:lnTo>
                      <a:pt x="89" y="476"/>
                    </a:lnTo>
                    <a:lnTo>
                      <a:pt x="99" y="407"/>
                    </a:lnTo>
                    <a:lnTo>
                      <a:pt x="111" y="338"/>
                    </a:lnTo>
                    <a:lnTo>
                      <a:pt x="124" y="270"/>
                    </a:lnTo>
                    <a:lnTo>
                      <a:pt x="138" y="202"/>
                    </a:lnTo>
                    <a:lnTo>
                      <a:pt x="153" y="134"/>
                    </a:lnTo>
                    <a:lnTo>
                      <a:pt x="169" y="67"/>
                    </a:lnTo>
                    <a:lnTo>
                      <a:pt x="186" y="0"/>
                    </a:lnTo>
                    <a:lnTo>
                      <a:pt x="178" y="9"/>
                    </a:lnTo>
                    <a:lnTo>
                      <a:pt x="171" y="17"/>
                    </a:lnTo>
                    <a:lnTo>
                      <a:pt x="163" y="27"/>
                    </a:lnTo>
                    <a:lnTo>
                      <a:pt x="156" y="36"/>
                    </a:lnTo>
                    <a:lnTo>
                      <a:pt x="147" y="44"/>
                    </a:lnTo>
                    <a:lnTo>
                      <a:pt x="140" y="54"/>
                    </a:lnTo>
                    <a:lnTo>
                      <a:pt x="133" y="63"/>
                    </a:lnTo>
                    <a:lnTo>
                      <a:pt x="125" y="7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36800" y="2541600"/>
                <a:ext cx="3473640" cy="911160"/>
              </a:xfrm>
              <a:custGeom>
                <a:avLst/>
                <a:gdLst/>
                <a:ahLst/>
                <a:rect l="l" t="t" r="r" b="b"/>
                <a:pathLst>
                  <a:path w="8751" h="2296">
                    <a:moveTo>
                      <a:pt x="8751" y="1148"/>
                    </a:moveTo>
                    <a:lnTo>
                      <a:pt x="8750" y="1077"/>
                    </a:lnTo>
                    <a:lnTo>
                      <a:pt x="8749" y="1008"/>
                    </a:lnTo>
                    <a:lnTo>
                      <a:pt x="8745" y="939"/>
                    </a:lnTo>
                    <a:lnTo>
                      <a:pt x="8742" y="870"/>
                    </a:lnTo>
                    <a:lnTo>
                      <a:pt x="8737" y="802"/>
                    </a:lnTo>
                    <a:lnTo>
                      <a:pt x="8731" y="734"/>
                    </a:lnTo>
                    <a:lnTo>
                      <a:pt x="8724" y="666"/>
                    </a:lnTo>
                    <a:lnTo>
                      <a:pt x="8716" y="598"/>
                    </a:lnTo>
                    <a:lnTo>
                      <a:pt x="8707" y="531"/>
                    </a:lnTo>
                    <a:lnTo>
                      <a:pt x="8697" y="464"/>
                    </a:lnTo>
                    <a:lnTo>
                      <a:pt x="8686" y="397"/>
                    </a:lnTo>
                    <a:lnTo>
                      <a:pt x="8674" y="330"/>
                    </a:lnTo>
                    <a:lnTo>
                      <a:pt x="8661" y="264"/>
                    </a:lnTo>
                    <a:lnTo>
                      <a:pt x="8647" y="199"/>
                    </a:lnTo>
                    <a:lnTo>
                      <a:pt x="8632" y="134"/>
                    </a:lnTo>
                    <a:lnTo>
                      <a:pt x="8616" y="69"/>
                    </a:lnTo>
                    <a:lnTo>
                      <a:pt x="8608" y="60"/>
                    </a:lnTo>
                    <a:lnTo>
                      <a:pt x="8601" y="51"/>
                    </a:lnTo>
                    <a:lnTo>
                      <a:pt x="8593" y="43"/>
                    </a:lnTo>
                    <a:lnTo>
                      <a:pt x="8585" y="34"/>
                    </a:lnTo>
                    <a:lnTo>
                      <a:pt x="8578" y="26"/>
                    </a:lnTo>
                    <a:lnTo>
                      <a:pt x="8570" y="17"/>
                    </a:lnTo>
                    <a:lnTo>
                      <a:pt x="8563" y="8"/>
                    </a:lnTo>
                    <a:lnTo>
                      <a:pt x="8554" y="0"/>
                    </a:lnTo>
                    <a:lnTo>
                      <a:pt x="8573" y="68"/>
                    </a:lnTo>
                    <a:lnTo>
                      <a:pt x="8590" y="137"/>
                    </a:lnTo>
                    <a:lnTo>
                      <a:pt x="8606" y="207"/>
                    </a:lnTo>
                    <a:lnTo>
                      <a:pt x="8621" y="277"/>
                    </a:lnTo>
                    <a:lnTo>
                      <a:pt x="8635" y="347"/>
                    </a:lnTo>
                    <a:lnTo>
                      <a:pt x="8647" y="419"/>
                    </a:lnTo>
                    <a:lnTo>
                      <a:pt x="8659" y="490"/>
                    </a:lnTo>
                    <a:lnTo>
                      <a:pt x="8669" y="561"/>
                    </a:lnTo>
                    <a:lnTo>
                      <a:pt x="8678" y="634"/>
                    </a:lnTo>
                    <a:lnTo>
                      <a:pt x="8686" y="706"/>
                    </a:lnTo>
                    <a:lnTo>
                      <a:pt x="8694" y="778"/>
                    </a:lnTo>
                    <a:lnTo>
                      <a:pt x="8699" y="852"/>
                    </a:lnTo>
                    <a:lnTo>
                      <a:pt x="8703" y="925"/>
                    </a:lnTo>
                    <a:lnTo>
                      <a:pt x="8707" y="999"/>
                    </a:lnTo>
                    <a:lnTo>
                      <a:pt x="8708" y="1073"/>
                    </a:lnTo>
                    <a:lnTo>
                      <a:pt x="8709" y="1148"/>
                    </a:lnTo>
                    <a:lnTo>
                      <a:pt x="8708" y="1220"/>
                    </a:lnTo>
                    <a:lnTo>
                      <a:pt x="8707" y="1292"/>
                    </a:lnTo>
                    <a:lnTo>
                      <a:pt x="8703" y="1365"/>
                    </a:lnTo>
                    <a:lnTo>
                      <a:pt x="8699" y="1437"/>
                    </a:lnTo>
                    <a:lnTo>
                      <a:pt x="8694" y="1508"/>
                    </a:lnTo>
                    <a:lnTo>
                      <a:pt x="8687" y="1580"/>
                    </a:lnTo>
                    <a:lnTo>
                      <a:pt x="8680" y="1651"/>
                    </a:lnTo>
                    <a:lnTo>
                      <a:pt x="8671" y="1722"/>
                    </a:lnTo>
                    <a:lnTo>
                      <a:pt x="8661" y="1792"/>
                    </a:lnTo>
                    <a:lnTo>
                      <a:pt x="8649" y="1862"/>
                    </a:lnTo>
                    <a:lnTo>
                      <a:pt x="8637" y="1932"/>
                    </a:lnTo>
                    <a:lnTo>
                      <a:pt x="8624" y="2001"/>
                    </a:lnTo>
                    <a:lnTo>
                      <a:pt x="8610" y="2070"/>
                    </a:lnTo>
                    <a:lnTo>
                      <a:pt x="8594" y="2138"/>
                    </a:lnTo>
                    <a:lnTo>
                      <a:pt x="8578" y="2206"/>
                    </a:lnTo>
                    <a:lnTo>
                      <a:pt x="8561" y="2273"/>
                    </a:lnTo>
                    <a:lnTo>
                      <a:pt x="8578" y="2278"/>
                    </a:lnTo>
                    <a:lnTo>
                      <a:pt x="8582" y="2273"/>
                    </a:lnTo>
                    <a:lnTo>
                      <a:pt x="8587" y="2268"/>
                    </a:lnTo>
                    <a:lnTo>
                      <a:pt x="8591" y="2262"/>
                    </a:lnTo>
                    <a:lnTo>
                      <a:pt x="8595" y="2258"/>
                    </a:lnTo>
                    <a:lnTo>
                      <a:pt x="8601" y="2253"/>
                    </a:lnTo>
                    <a:lnTo>
                      <a:pt x="8605" y="2247"/>
                    </a:lnTo>
                    <a:lnTo>
                      <a:pt x="8609" y="2242"/>
                    </a:lnTo>
                    <a:lnTo>
                      <a:pt x="8614" y="2236"/>
                    </a:lnTo>
                    <a:lnTo>
                      <a:pt x="8630" y="2172"/>
                    </a:lnTo>
                    <a:lnTo>
                      <a:pt x="8645" y="2106"/>
                    </a:lnTo>
                    <a:lnTo>
                      <a:pt x="8659" y="2039"/>
                    </a:lnTo>
                    <a:lnTo>
                      <a:pt x="8673" y="1973"/>
                    </a:lnTo>
                    <a:lnTo>
                      <a:pt x="8685" y="1906"/>
                    </a:lnTo>
                    <a:lnTo>
                      <a:pt x="8696" y="1838"/>
                    </a:lnTo>
                    <a:lnTo>
                      <a:pt x="8707" y="1771"/>
                    </a:lnTo>
                    <a:lnTo>
                      <a:pt x="8715" y="1703"/>
                    </a:lnTo>
                    <a:lnTo>
                      <a:pt x="8724" y="1634"/>
                    </a:lnTo>
                    <a:lnTo>
                      <a:pt x="8730" y="1566"/>
                    </a:lnTo>
                    <a:lnTo>
                      <a:pt x="8737" y="1497"/>
                    </a:lnTo>
                    <a:lnTo>
                      <a:pt x="8741" y="1427"/>
                    </a:lnTo>
                    <a:lnTo>
                      <a:pt x="8745" y="1358"/>
                    </a:lnTo>
                    <a:lnTo>
                      <a:pt x="8749" y="1288"/>
                    </a:lnTo>
                    <a:lnTo>
                      <a:pt x="8750" y="1218"/>
                    </a:lnTo>
                    <a:lnTo>
                      <a:pt x="8751" y="1148"/>
                    </a:lnTo>
                    <a:close/>
                    <a:moveTo>
                      <a:pt x="135" y="69"/>
                    </a:moveTo>
                    <a:lnTo>
                      <a:pt x="118" y="134"/>
                    </a:lnTo>
                    <a:lnTo>
                      <a:pt x="103" y="199"/>
                    </a:lnTo>
                    <a:lnTo>
                      <a:pt x="89" y="264"/>
                    </a:lnTo>
                    <a:lnTo>
                      <a:pt x="76" y="330"/>
                    </a:lnTo>
                    <a:lnTo>
                      <a:pt x="64" y="397"/>
                    </a:lnTo>
                    <a:lnTo>
                      <a:pt x="54" y="464"/>
                    </a:lnTo>
                    <a:lnTo>
                      <a:pt x="43" y="531"/>
                    </a:lnTo>
                    <a:lnTo>
                      <a:pt x="34" y="598"/>
                    </a:lnTo>
                    <a:lnTo>
                      <a:pt x="27" y="666"/>
                    </a:lnTo>
                    <a:lnTo>
                      <a:pt x="19" y="734"/>
                    </a:lnTo>
                    <a:lnTo>
                      <a:pt x="14" y="802"/>
                    </a:lnTo>
                    <a:lnTo>
                      <a:pt x="8" y="870"/>
                    </a:lnTo>
                    <a:lnTo>
                      <a:pt x="5" y="939"/>
                    </a:lnTo>
                    <a:lnTo>
                      <a:pt x="2" y="1008"/>
                    </a:lnTo>
                    <a:lnTo>
                      <a:pt x="1" y="1077"/>
                    </a:lnTo>
                    <a:lnTo>
                      <a:pt x="0" y="1148"/>
                    </a:lnTo>
                    <a:lnTo>
                      <a:pt x="1" y="1217"/>
                    </a:lnTo>
                    <a:lnTo>
                      <a:pt x="2" y="1287"/>
                    </a:lnTo>
                    <a:lnTo>
                      <a:pt x="5" y="1356"/>
                    </a:lnTo>
                    <a:lnTo>
                      <a:pt x="8" y="1424"/>
                    </a:lnTo>
                    <a:lnTo>
                      <a:pt x="14" y="1493"/>
                    </a:lnTo>
                    <a:lnTo>
                      <a:pt x="19" y="1561"/>
                    </a:lnTo>
                    <a:lnTo>
                      <a:pt x="27" y="1629"/>
                    </a:lnTo>
                    <a:lnTo>
                      <a:pt x="34" y="1697"/>
                    </a:lnTo>
                    <a:lnTo>
                      <a:pt x="43" y="1764"/>
                    </a:lnTo>
                    <a:lnTo>
                      <a:pt x="54" y="1831"/>
                    </a:lnTo>
                    <a:lnTo>
                      <a:pt x="64" y="1898"/>
                    </a:lnTo>
                    <a:lnTo>
                      <a:pt x="76" y="1964"/>
                    </a:lnTo>
                    <a:lnTo>
                      <a:pt x="89" y="2030"/>
                    </a:lnTo>
                    <a:lnTo>
                      <a:pt x="103" y="2096"/>
                    </a:lnTo>
                    <a:lnTo>
                      <a:pt x="118" y="2161"/>
                    </a:lnTo>
                    <a:lnTo>
                      <a:pt x="135" y="2227"/>
                    </a:lnTo>
                    <a:lnTo>
                      <a:pt x="142" y="2235"/>
                    </a:lnTo>
                    <a:lnTo>
                      <a:pt x="150" y="2244"/>
                    </a:lnTo>
                    <a:lnTo>
                      <a:pt x="157" y="2253"/>
                    </a:lnTo>
                    <a:lnTo>
                      <a:pt x="165" y="2261"/>
                    </a:lnTo>
                    <a:lnTo>
                      <a:pt x="172" y="2270"/>
                    </a:lnTo>
                    <a:lnTo>
                      <a:pt x="180" y="2278"/>
                    </a:lnTo>
                    <a:lnTo>
                      <a:pt x="188" y="2287"/>
                    </a:lnTo>
                    <a:lnTo>
                      <a:pt x="196" y="2296"/>
                    </a:lnTo>
                    <a:lnTo>
                      <a:pt x="178" y="2227"/>
                    </a:lnTo>
                    <a:lnTo>
                      <a:pt x="161" y="2157"/>
                    </a:lnTo>
                    <a:lnTo>
                      <a:pt x="144" y="2088"/>
                    </a:lnTo>
                    <a:lnTo>
                      <a:pt x="129" y="2018"/>
                    </a:lnTo>
                    <a:lnTo>
                      <a:pt x="115" y="1947"/>
                    </a:lnTo>
                    <a:lnTo>
                      <a:pt x="103" y="1877"/>
                    </a:lnTo>
                    <a:lnTo>
                      <a:pt x="91" y="1805"/>
                    </a:lnTo>
                    <a:lnTo>
                      <a:pt x="82" y="1733"/>
                    </a:lnTo>
                    <a:lnTo>
                      <a:pt x="72" y="1662"/>
                    </a:lnTo>
                    <a:lnTo>
                      <a:pt x="64" y="1589"/>
                    </a:lnTo>
                    <a:lnTo>
                      <a:pt x="57" y="1516"/>
                    </a:lnTo>
                    <a:lnTo>
                      <a:pt x="51" y="1444"/>
                    </a:lnTo>
                    <a:lnTo>
                      <a:pt x="47" y="1370"/>
                    </a:lnTo>
                    <a:lnTo>
                      <a:pt x="44" y="1296"/>
                    </a:lnTo>
                    <a:lnTo>
                      <a:pt x="43" y="1222"/>
                    </a:lnTo>
                    <a:lnTo>
                      <a:pt x="42" y="1148"/>
                    </a:lnTo>
                    <a:lnTo>
                      <a:pt x="43" y="1073"/>
                    </a:lnTo>
                    <a:lnTo>
                      <a:pt x="44" y="999"/>
                    </a:lnTo>
                    <a:lnTo>
                      <a:pt x="47" y="925"/>
                    </a:lnTo>
                    <a:lnTo>
                      <a:pt x="51" y="852"/>
                    </a:lnTo>
                    <a:lnTo>
                      <a:pt x="57" y="778"/>
                    </a:lnTo>
                    <a:lnTo>
                      <a:pt x="64" y="706"/>
                    </a:lnTo>
                    <a:lnTo>
                      <a:pt x="72" y="634"/>
                    </a:lnTo>
                    <a:lnTo>
                      <a:pt x="82" y="561"/>
                    </a:lnTo>
                    <a:lnTo>
                      <a:pt x="91" y="490"/>
                    </a:lnTo>
                    <a:lnTo>
                      <a:pt x="103" y="419"/>
                    </a:lnTo>
                    <a:lnTo>
                      <a:pt x="115" y="347"/>
                    </a:lnTo>
                    <a:lnTo>
                      <a:pt x="129" y="277"/>
                    </a:lnTo>
                    <a:lnTo>
                      <a:pt x="144" y="207"/>
                    </a:lnTo>
                    <a:lnTo>
                      <a:pt x="161" y="137"/>
                    </a:lnTo>
                    <a:lnTo>
                      <a:pt x="178" y="68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80" y="17"/>
                    </a:lnTo>
                    <a:lnTo>
                      <a:pt x="172" y="26"/>
                    </a:lnTo>
                    <a:lnTo>
                      <a:pt x="165" y="34"/>
                    </a:lnTo>
                    <a:lnTo>
                      <a:pt x="157" y="43"/>
                    </a:lnTo>
                    <a:lnTo>
                      <a:pt x="150" y="51"/>
                    </a:lnTo>
                    <a:lnTo>
                      <a:pt x="142" y="60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46520" y="2529000"/>
                <a:ext cx="3456000" cy="936360"/>
              </a:xfrm>
              <a:custGeom>
                <a:avLst/>
                <a:gdLst/>
                <a:ahLst/>
                <a:rect l="l" t="t" r="r" b="b"/>
                <a:pathLst>
                  <a:path w="8708" h="2361">
                    <a:moveTo>
                      <a:pt x="8708" y="1181"/>
                    </a:moveTo>
                    <a:lnTo>
                      <a:pt x="8708" y="1108"/>
                    </a:lnTo>
                    <a:lnTo>
                      <a:pt x="8706" y="1037"/>
                    </a:lnTo>
                    <a:lnTo>
                      <a:pt x="8703" y="965"/>
                    </a:lnTo>
                    <a:lnTo>
                      <a:pt x="8700" y="893"/>
                    </a:lnTo>
                    <a:lnTo>
                      <a:pt x="8694" y="823"/>
                    </a:lnTo>
                    <a:lnTo>
                      <a:pt x="8688" y="752"/>
                    </a:lnTo>
                    <a:lnTo>
                      <a:pt x="8680" y="682"/>
                    </a:lnTo>
                    <a:lnTo>
                      <a:pt x="8671" y="613"/>
                    </a:lnTo>
                    <a:lnTo>
                      <a:pt x="8662" y="542"/>
                    </a:lnTo>
                    <a:lnTo>
                      <a:pt x="8651" y="473"/>
                    </a:lnTo>
                    <a:lnTo>
                      <a:pt x="8639" y="404"/>
                    </a:lnTo>
                    <a:lnTo>
                      <a:pt x="8626" y="336"/>
                    </a:lnTo>
                    <a:lnTo>
                      <a:pt x="8612" y="268"/>
                    </a:lnTo>
                    <a:lnTo>
                      <a:pt x="8597" y="200"/>
                    </a:lnTo>
                    <a:lnTo>
                      <a:pt x="8582" y="133"/>
                    </a:lnTo>
                    <a:lnTo>
                      <a:pt x="8564" y="66"/>
                    </a:lnTo>
                    <a:lnTo>
                      <a:pt x="8557" y="57"/>
                    </a:lnTo>
                    <a:lnTo>
                      <a:pt x="8549" y="49"/>
                    </a:lnTo>
                    <a:lnTo>
                      <a:pt x="8542" y="41"/>
                    </a:lnTo>
                    <a:lnTo>
                      <a:pt x="8534" y="33"/>
                    </a:lnTo>
                    <a:lnTo>
                      <a:pt x="8527" y="24"/>
                    </a:lnTo>
                    <a:lnTo>
                      <a:pt x="8519" y="16"/>
                    </a:lnTo>
                    <a:lnTo>
                      <a:pt x="8510" y="8"/>
                    </a:lnTo>
                    <a:lnTo>
                      <a:pt x="8503" y="0"/>
                    </a:lnTo>
                    <a:lnTo>
                      <a:pt x="8522" y="70"/>
                    </a:lnTo>
                    <a:lnTo>
                      <a:pt x="8541" y="142"/>
                    </a:lnTo>
                    <a:lnTo>
                      <a:pt x="8558" y="213"/>
                    </a:lnTo>
                    <a:lnTo>
                      <a:pt x="8573" y="285"/>
                    </a:lnTo>
                    <a:lnTo>
                      <a:pt x="8588" y="358"/>
                    </a:lnTo>
                    <a:lnTo>
                      <a:pt x="8601" y="430"/>
                    </a:lnTo>
                    <a:lnTo>
                      <a:pt x="8614" y="504"/>
                    </a:lnTo>
                    <a:lnTo>
                      <a:pt x="8625" y="577"/>
                    </a:lnTo>
                    <a:lnTo>
                      <a:pt x="8635" y="651"/>
                    </a:lnTo>
                    <a:lnTo>
                      <a:pt x="8643" y="726"/>
                    </a:lnTo>
                    <a:lnTo>
                      <a:pt x="8650" y="801"/>
                    </a:lnTo>
                    <a:lnTo>
                      <a:pt x="8656" y="876"/>
                    </a:lnTo>
                    <a:lnTo>
                      <a:pt x="8661" y="952"/>
                    </a:lnTo>
                    <a:lnTo>
                      <a:pt x="8664" y="1027"/>
                    </a:lnTo>
                    <a:lnTo>
                      <a:pt x="8666" y="1104"/>
                    </a:lnTo>
                    <a:lnTo>
                      <a:pt x="8667" y="1181"/>
                    </a:lnTo>
                    <a:lnTo>
                      <a:pt x="8666" y="1253"/>
                    </a:lnTo>
                    <a:lnTo>
                      <a:pt x="8665" y="1325"/>
                    </a:lnTo>
                    <a:lnTo>
                      <a:pt x="8662" y="1397"/>
                    </a:lnTo>
                    <a:lnTo>
                      <a:pt x="8657" y="1469"/>
                    </a:lnTo>
                    <a:lnTo>
                      <a:pt x="8652" y="1540"/>
                    </a:lnTo>
                    <a:lnTo>
                      <a:pt x="8646" y="1612"/>
                    </a:lnTo>
                    <a:lnTo>
                      <a:pt x="8638" y="1682"/>
                    </a:lnTo>
                    <a:lnTo>
                      <a:pt x="8629" y="1752"/>
                    </a:lnTo>
                    <a:lnTo>
                      <a:pt x="8620" y="1822"/>
                    </a:lnTo>
                    <a:lnTo>
                      <a:pt x="8608" y="1891"/>
                    </a:lnTo>
                    <a:lnTo>
                      <a:pt x="8596" y="1960"/>
                    </a:lnTo>
                    <a:lnTo>
                      <a:pt x="8583" y="2030"/>
                    </a:lnTo>
                    <a:lnTo>
                      <a:pt x="8569" y="2099"/>
                    </a:lnTo>
                    <a:lnTo>
                      <a:pt x="8554" y="2167"/>
                    </a:lnTo>
                    <a:lnTo>
                      <a:pt x="8536" y="2234"/>
                    </a:lnTo>
                    <a:lnTo>
                      <a:pt x="8519" y="2301"/>
                    </a:lnTo>
                    <a:lnTo>
                      <a:pt x="8557" y="2311"/>
                    </a:lnTo>
                    <a:lnTo>
                      <a:pt x="8557" y="2310"/>
                    </a:lnTo>
                    <a:lnTo>
                      <a:pt x="8558" y="2309"/>
                    </a:lnTo>
                    <a:lnTo>
                      <a:pt x="8558" y="2309"/>
                    </a:lnTo>
                    <a:lnTo>
                      <a:pt x="8559" y="2308"/>
                    </a:lnTo>
                    <a:lnTo>
                      <a:pt x="8559" y="2308"/>
                    </a:lnTo>
                    <a:lnTo>
                      <a:pt x="8560" y="2307"/>
                    </a:lnTo>
                    <a:lnTo>
                      <a:pt x="8560" y="2307"/>
                    </a:lnTo>
                    <a:lnTo>
                      <a:pt x="8561" y="2306"/>
                    </a:lnTo>
                    <a:lnTo>
                      <a:pt x="8579" y="2238"/>
                    </a:lnTo>
                    <a:lnTo>
                      <a:pt x="8595" y="2170"/>
                    </a:lnTo>
                    <a:lnTo>
                      <a:pt x="8610" y="2102"/>
                    </a:lnTo>
                    <a:lnTo>
                      <a:pt x="8625" y="2034"/>
                    </a:lnTo>
                    <a:lnTo>
                      <a:pt x="8638" y="1965"/>
                    </a:lnTo>
                    <a:lnTo>
                      <a:pt x="8650" y="1895"/>
                    </a:lnTo>
                    <a:lnTo>
                      <a:pt x="8661" y="1824"/>
                    </a:lnTo>
                    <a:lnTo>
                      <a:pt x="8670" y="1754"/>
                    </a:lnTo>
                    <a:lnTo>
                      <a:pt x="8679" y="1684"/>
                    </a:lnTo>
                    <a:lnTo>
                      <a:pt x="8688" y="1613"/>
                    </a:lnTo>
                    <a:lnTo>
                      <a:pt x="8694" y="1541"/>
                    </a:lnTo>
                    <a:lnTo>
                      <a:pt x="8698" y="1470"/>
                    </a:lnTo>
                    <a:lnTo>
                      <a:pt x="8703" y="1398"/>
                    </a:lnTo>
                    <a:lnTo>
                      <a:pt x="8706" y="1325"/>
                    </a:lnTo>
                    <a:lnTo>
                      <a:pt x="8708" y="1253"/>
                    </a:lnTo>
                    <a:lnTo>
                      <a:pt x="8708" y="1181"/>
                    </a:lnTo>
                    <a:close/>
                    <a:moveTo>
                      <a:pt x="144" y="66"/>
                    </a:moveTo>
                    <a:lnTo>
                      <a:pt x="127" y="133"/>
                    </a:lnTo>
                    <a:lnTo>
                      <a:pt x="111" y="200"/>
                    </a:lnTo>
                    <a:lnTo>
                      <a:pt x="96" y="268"/>
                    </a:lnTo>
                    <a:lnTo>
                      <a:pt x="82" y="336"/>
                    </a:lnTo>
                    <a:lnTo>
                      <a:pt x="69" y="404"/>
                    </a:lnTo>
                    <a:lnTo>
                      <a:pt x="57" y="473"/>
                    </a:lnTo>
                    <a:lnTo>
                      <a:pt x="47" y="542"/>
                    </a:lnTo>
                    <a:lnTo>
                      <a:pt x="37" y="613"/>
                    </a:lnTo>
                    <a:lnTo>
                      <a:pt x="28" y="682"/>
                    </a:lnTo>
                    <a:lnTo>
                      <a:pt x="21" y="752"/>
                    </a:lnTo>
                    <a:lnTo>
                      <a:pt x="14" y="823"/>
                    </a:lnTo>
                    <a:lnTo>
                      <a:pt x="9" y="893"/>
                    </a:lnTo>
                    <a:lnTo>
                      <a:pt x="6" y="965"/>
                    </a:lnTo>
                    <a:lnTo>
                      <a:pt x="2" y="1037"/>
                    </a:lnTo>
                    <a:lnTo>
                      <a:pt x="0" y="1108"/>
                    </a:lnTo>
                    <a:lnTo>
                      <a:pt x="0" y="1181"/>
                    </a:lnTo>
                    <a:lnTo>
                      <a:pt x="0" y="1253"/>
                    </a:lnTo>
                    <a:lnTo>
                      <a:pt x="2" y="1324"/>
                    </a:lnTo>
                    <a:lnTo>
                      <a:pt x="6" y="1396"/>
                    </a:lnTo>
                    <a:lnTo>
                      <a:pt x="9" y="1467"/>
                    </a:lnTo>
                    <a:lnTo>
                      <a:pt x="14" y="1538"/>
                    </a:lnTo>
                    <a:lnTo>
                      <a:pt x="21" y="1608"/>
                    </a:lnTo>
                    <a:lnTo>
                      <a:pt x="28" y="1679"/>
                    </a:lnTo>
                    <a:lnTo>
                      <a:pt x="37" y="1749"/>
                    </a:lnTo>
                    <a:lnTo>
                      <a:pt x="47" y="1818"/>
                    </a:lnTo>
                    <a:lnTo>
                      <a:pt x="57" y="1887"/>
                    </a:lnTo>
                    <a:lnTo>
                      <a:pt x="69" y="1956"/>
                    </a:lnTo>
                    <a:lnTo>
                      <a:pt x="82" y="2025"/>
                    </a:lnTo>
                    <a:lnTo>
                      <a:pt x="96" y="2093"/>
                    </a:lnTo>
                    <a:lnTo>
                      <a:pt x="111" y="2160"/>
                    </a:lnTo>
                    <a:lnTo>
                      <a:pt x="127" y="2228"/>
                    </a:lnTo>
                    <a:lnTo>
                      <a:pt x="144" y="2295"/>
                    </a:lnTo>
                    <a:lnTo>
                      <a:pt x="151" y="2303"/>
                    </a:lnTo>
                    <a:lnTo>
                      <a:pt x="159" y="2311"/>
                    </a:lnTo>
                    <a:lnTo>
                      <a:pt x="167" y="2320"/>
                    </a:lnTo>
                    <a:lnTo>
                      <a:pt x="174" y="2328"/>
                    </a:lnTo>
                    <a:lnTo>
                      <a:pt x="182" y="2336"/>
                    </a:lnTo>
                    <a:lnTo>
                      <a:pt x="189" y="2345"/>
                    </a:lnTo>
                    <a:lnTo>
                      <a:pt x="198" y="2352"/>
                    </a:lnTo>
                    <a:lnTo>
                      <a:pt x="205" y="2361"/>
                    </a:lnTo>
                    <a:lnTo>
                      <a:pt x="186" y="2291"/>
                    </a:lnTo>
                    <a:lnTo>
                      <a:pt x="168" y="2220"/>
                    </a:lnTo>
                    <a:lnTo>
                      <a:pt x="150" y="2148"/>
                    </a:lnTo>
                    <a:lnTo>
                      <a:pt x="134" y="2076"/>
                    </a:lnTo>
                    <a:lnTo>
                      <a:pt x="120" y="2004"/>
                    </a:lnTo>
                    <a:lnTo>
                      <a:pt x="106" y="1930"/>
                    </a:lnTo>
                    <a:lnTo>
                      <a:pt x="94" y="1857"/>
                    </a:lnTo>
                    <a:lnTo>
                      <a:pt x="83" y="1783"/>
                    </a:lnTo>
                    <a:lnTo>
                      <a:pt x="74" y="1710"/>
                    </a:lnTo>
                    <a:lnTo>
                      <a:pt x="65" y="1635"/>
                    </a:lnTo>
                    <a:lnTo>
                      <a:pt x="57" y="1560"/>
                    </a:lnTo>
                    <a:lnTo>
                      <a:pt x="52" y="1485"/>
                    </a:lnTo>
                    <a:lnTo>
                      <a:pt x="48" y="1410"/>
                    </a:lnTo>
                    <a:lnTo>
                      <a:pt x="44" y="1333"/>
                    </a:lnTo>
                    <a:lnTo>
                      <a:pt x="42" y="1257"/>
                    </a:lnTo>
                    <a:lnTo>
                      <a:pt x="41" y="1181"/>
                    </a:lnTo>
                    <a:lnTo>
                      <a:pt x="42" y="1104"/>
                    </a:lnTo>
                    <a:lnTo>
                      <a:pt x="44" y="1027"/>
                    </a:lnTo>
                    <a:lnTo>
                      <a:pt x="48" y="952"/>
                    </a:lnTo>
                    <a:lnTo>
                      <a:pt x="52" y="876"/>
                    </a:lnTo>
                    <a:lnTo>
                      <a:pt x="57" y="801"/>
                    </a:lnTo>
                    <a:lnTo>
                      <a:pt x="65" y="726"/>
                    </a:lnTo>
                    <a:lnTo>
                      <a:pt x="74" y="651"/>
                    </a:lnTo>
                    <a:lnTo>
                      <a:pt x="83" y="577"/>
                    </a:lnTo>
                    <a:lnTo>
                      <a:pt x="94" y="504"/>
                    </a:lnTo>
                    <a:lnTo>
                      <a:pt x="106" y="430"/>
                    </a:lnTo>
                    <a:lnTo>
                      <a:pt x="120" y="358"/>
                    </a:lnTo>
                    <a:lnTo>
                      <a:pt x="134" y="285"/>
                    </a:lnTo>
                    <a:lnTo>
                      <a:pt x="150" y="213"/>
                    </a:lnTo>
                    <a:lnTo>
                      <a:pt x="168" y="142"/>
                    </a:lnTo>
                    <a:lnTo>
                      <a:pt x="186" y="70"/>
                    </a:lnTo>
                    <a:lnTo>
                      <a:pt x="205" y="0"/>
                    </a:lnTo>
                    <a:lnTo>
                      <a:pt x="198" y="8"/>
                    </a:lnTo>
                    <a:lnTo>
                      <a:pt x="189" y="16"/>
                    </a:lnTo>
                    <a:lnTo>
                      <a:pt x="182" y="24"/>
                    </a:lnTo>
                    <a:lnTo>
                      <a:pt x="174" y="33"/>
                    </a:lnTo>
                    <a:lnTo>
                      <a:pt x="167" y="41"/>
                    </a:lnTo>
                    <a:lnTo>
                      <a:pt x="159" y="49"/>
                    </a:lnTo>
                    <a:lnTo>
                      <a:pt x="151" y="57"/>
                    </a:lnTo>
                    <a:lnTo>
                      <a:pt x="14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54440" y="2516040"/>
                <a:ext cx="3440160" cy="962280"/>
              </a:xfrm>
              <a:custGeom>
                <a:avLst/>
                <a:gdLst/>
                <a:ahLst/>
                <a:rect l="l" t="t" r="r" b="b"/>
                <a:pathLst>
                  <a:path w="8667" h="2427">
                    <a:moveTo>
                      <a:pt x="8667" y="1214"/>
                    </a:moveTo>
                    <a:lnTo>
                      <a:pt x="8666" y="1139"/>
                    </a:lnTo>
                    <a:lnTo>
                      <a:pt x="8665" y="1065"/>
                    </a:lnTo>
                    <a:lnTo>
                      <a:pt x="8661" y="991"/>
                    </a:lnTo>
                    <a:lnTo>
                      <a:pt x="8657" y="918"/>
                    </a:lnTo>
                    <a:lnTo>
                      <a:pt x="8652" y="844"/>
                    </a:lnTo>
                    <a:lnTo>
                      <a:pt x="8644" y="772"/>
                    </a:lnTo>
                    <a:lnTo>
                      <a:pt x="8636" y="700"/>
                    </a:lnTo>
                    <a:lnTo>
                      <a:pt x="8627" y="627"/>
                    </a:lnTo>
                    <a:lnTo>
                      <a:pt x="8617" y="556"/>
                    </a:lnTo>
                    <a:lnTo>
                      <a:pt x="8605" y="485"/>
                    </a:lnTo>
                    <a:lnTo>
                      <a:pt x="8593" y="413"/>
                    </a:lnTo>
                    <a:lnTo>
                      <a:pt x="8579" y="343"/>
                    </a:lnTo>
                    <a:lnTo>
                      <a:pt x="8564" y="273"/>
                    </a:lnTo>
                    <a:lnTo>
                      <a:pt x="8548" y="203"/>
                    </a:lnTo>
                    <a:lnTo>
                      <a:pt x="8531" y="134"/>
                    </a:lnTo>
                    <a:lnTo>
                      <a:pt x="8512" y="66"/>
                    </a:lnTo>
                    <a:lnTo>
                      <a:pt x="8505" y="57"/>
                    </a:lnTo>
                    <a:lnTo>
                      <a:pt x="8497" y="48"/>
                    </a:lnTo>
                    <a:lnTo>
                      <a:pt x="8489" y="41"/>
                    </a:lnTo>
                    <a:lnTo>
                      <a:pt x="8482" y="32"/>
                    </a:lnTo>
                    <a:lnTo>
                      <a:pt x="8474" y="25"/>
                    </a:lnTo>
                    <a:lnTo>
                      <a:pt x="8467" y="16"/>
                    </a:lnTo>
                    <a:lnTo>
                      <a:pt x="8458" y="8"/>
                    </a:lnTo>
                    <a:lnTo>
                      <a:pt x="8451" y="0"/>
                    </a:lnTo>
                    <a:lnTo>
                      <a:pt x="8471" y="72"/>
                    </a:lnTo>
                    <a:lnTo>
                      <a:pt x="8491" y="146"/>
                    </a:lnTo>
                    <a:lnTo>
                      <a:pt x="8509" y="219"/>
                    </a:lnTo>
                    <a:lnTo>
                      <a:pt x="8525" y="292"/>
                    </a:lnTo>
                    <a:lnTo>
                      <a:pt x="8541" y="367"/>
                    </a:lnTo>
                    <a:lnTo>
                      <a:pt x="8555" y="443"/>
                    </a:lnTo>
                    <a:lnTo>
                      <a:pt x="8568" y="517"/>
                    </a:lnTo>
                    <a:lnTo>
                      <a:pt x="8580" y="593"/>
                    </a:lnTo>
                    <a:lnTo>
                      <a:pt x="8591" y="669"/>
                    </a:lnTo>
                    <a:lnTo>
                      <a:pt x="8600" y="746"/>
                    </a:lnTo>
                    <a:lnTo>
                      <a:pt x="8607" y="823"/>
                    </a:lnTo>
                    <a:lnTo>
                      <a:pt x="8614" y="900"/>
                    </a:lnTo>
                    <a:lnTo>
                      <a:pt x="8619" y="978"/>
                    </a:lnTo>
                    <a:lnTo>
                      <a:pt x="8622" y="1056"/>
                    </a:lnTo>
                    <a:lnTo>
                      <a:pt x="8625" y="1135"/>
                    </a:lnTo>
                    <a:lnTo>
                      <a:pt x="8625" y="1214"/>
                    </a:lnTo>
                    <a:lnTo>
                      <a:pt x="8625" y="1286"/>
                    </a:lnTo>
                    <a:lnTo>
                      <a:pt x="8622" y="1357"/>
                    </a:lnTo>
                    <a:lnTo>
                      <a:pt x="8619" y="1429"/>
                    </a:lnTo>
                    <a:lnTo>
                      <a:pt x="8616" y="1500"/>
                    </a:lnTo>
                    <a:lnTo>
                      <a:pt x="8610" y="1571"/>
                    </a:lnTo>
                    <a:lnTo>
                      <a:pt x="8604" y="1642"/>
                    </a:lnTo>
                    <a:lnTo>
                      <a:pt x="8596" y="1713"/>
                    </a:lnTo>
                    <a:lnTo>
                      <a:pt x="8588" y="1783"/>
                    </a:lnTo>
                    <a:lnTo>
                      <a:pt x="8578" y="1852"/>
                    </a:lnTo>
                    <a:lnTo>
                      <a:pt x="8566" y="1921"/>
                    </a:lnTo>
                    <a:lnTo>
                      <a:pt x="8554" y="1990"/>
                    </a:lnTo>
                    <a:lnTo>
                      <a:pt x="8541" y="2058"/>
                    </a:lnTo>
                    <a:lnTo>
                      <a:pt x="8527" y="2126"/>
                    </a:lnTo>
                    <a:lnTo>
                      <a:pt x="8512" y="2194"/>
                    </a:lnTo>
                    <a:lnTo>
                      <a:pt x="8496" y="2261"/>
                    </a:lnTo>
                    <a:lnTo>
                      <a:pt x="8479" y="2328"/>
                    </a:lnTo>
                    <a:lnTo>
                      <a:pt x="8519" y="2339"/>
                    </a:lnTo>
                    <a:lnTo>
                      <a:pt x="8536" y="2272"/>
                    </a:lnTo>
                    <a:lnTo>
                      <a:pt x="8552" y="2204"/>
                    </a:lnTo>
                    <a:lnTo>
                      <a:pt x="8568" y="2136"/>
                    </a:lnTo>
                    <a:lnTo>
                      <a:pt x="8582" y="2067"/>
                    </a:lnTo>
                    <a:lnTo>
                      <a:pt x="8595" y="1998"/>
                    </a:lnTo>
                    <a:lnTo>
                      <a:pt x="8607" y="1928"/>
                    </a:lnTo>
                    <a:lnTo>
                      <a:pt x="8619" y="1858"/>
                    </a:lnTo>
                    <a:lnTo>
                      <a:pt x="8629" y="1788"/>
                    </a:lnTo>
                    <a:lnTo>
                      <a:pt x="8638" y="1717"/>
                    </a:lnTo>
                    <a:lnTo>
                      <a:pt x="8645" y="1646"/>
                    </a:lnTo>
                    <a:lnTo>
                      <a:pt x="8652" y="1574"/>
                    </a:lnTo>
                    <a:lnTo>
                      <a:pt x="8657" y="1503"/>
                    </a:lnTo>
                    <a:lnTo>
                      <a:pt x="8661" y="1431"/>
                    </a:lnTo>
                    <a:lnTo>
                      <a:pt x="8665" y="1358"/>
                    </a:lnTo>
                    <a:lnTo>
                      <a:pt x="8666" y="1286"/>
                    </a:lnTo>
                    <a:lnTo>
                      <a:pt x="8667" y="1214"/>
                    </a:lnTo>
                    <a:close/>
                    <a:moveTo>
                      <a:pt x="154" y="66"/>
                    </a:moveTo>
                    <a:lnTo>
                      <a:pt x="136" y="134"/>
                    </a:lnTo>
                    <a:lnTo>
                      <a:pt x="119" y="203"/>
                    </a:lnTo>
                    <a:lnTo>
                      <a:pt x="102" y="273"/>
                    </a:lnTo>
                    <a:lnTo>
                      <a:pt x="87" y="343"/>
                    </a:lnTo>
                    <a:lnTo>
                      <a:pt x="73" y="413"/>
                    </a:lnTo>
                    <a:lnTo>
                      <a:pt x="61" y="485"/>
                    </a:lnTo>
                    <a:lnTo>
                      <a:pt x="49" y="556"/>
                    </a:lnTo>
                    <a:lnTo>
                      <a:pt x="40" y="627"/>
                    </a:lnTo>
                    <a:lnTo>
                      <a:pt x="30" y="700"/>
                    </a:lnTo>
                    <a:lnTo>
                      <a:pt x="22" y="772"/>
                    </a:lnTo>
                    <a:lnTo>
                      <a:pt x="15" y="844"/>
                    </a:lnTo>
                    <a:lnTo>
                      <a:pt x="9" y="918"/>
                    </a:lnTo>
                    <a:lnTo>
                      <a:pt x="5" y="991"/>
                    </a:lnTo>
                    <a:lnTo>
                      <a:pt x="2" y="1065"/>
                    </a:lnTo>
                    <a:lnTo>
                      <a:pt x="1" y="1139"/>
                    </a:lnTo>
                    <a:lnTo>
                      <a:pt x="0" y="1214"/>
                    </a:lnTo>
                    <a:lnTo>
                      <a:pt x="1" y="1288"/>
                    </a:lnTo>
                    <a:lnTo>
                      <a:pt x="2" y="1362"/>
                    </a:lnTo>
                    <a:lnTo>
                      <a:pt x="5" y="1436"/>
                    </a:lnTo>
                    <a:lnTo>
                      <a:pt x="9" y="1510"/>
                    </a:lnTo>
                    <a:lnTo>
                      <a:pt x="15" y="1582"/>
                    </a:lnTo>
                    <a:lnTo>
                      <a:pt x="22" y="1655"/>
                    </a:lnTo>
                    <a:lnTo>
                      <a:pt x="30" y="1728"/>
                    </a:lnTo>
                    <a:lnTo>
                      <a:pt x="40" y="1799"/>
                    </a:lnTo>
                    <a:lnTo>
                      <a:pt x="49" y="1871"/>
                    </a:lnTo>
                    <a:lnTo>
                      <a:pt x="61" y="1943"/>
                    </a:lnTo>
                    <a:lnTo>
                      <a:pt x="73" y="2013"/>
                    </a:lnTo>
                    <a:lnTo>
                      <a:pt x="87" y="2084"/>
                    </a:lnTo>
                    <a:lnTo>
                      <a:pt x="102" y="2154"/>
                    </a:lnTo>
                    <a:lnTo>
                      <a:pt x="119" y="2223"/>
                    </a:lnTo>
                    <a:lnTo>
                      <a:pt x="136" y="2293"/>
                    </a:lnTo>
                    <a:lnTo>
                      <a:pt x="154" y="2362"/>
                    </a:lnTo>
                    <a:lnTo>
                      <a:pt x="162" y="2370"/>
                    </a:lnTo>
                    <a:lnTo>
                      <a:pt x="169" y="2378"/>
                    </a:lnTo>
                    <a:lnTo>
                      <a:pt x="177" y="2387"/>
                    </a:lnTo>
                    <a:lnTo>
                      <a:pt x="184" y="2394"/>
                    </a:lnTo>
                    <a:lnTo>
                      <a:pt x="192" y="2403"/>
                    </a:lnTo>
                    <a:lnTo>
                      <a:pt x="200" y="2410"/>
                    </a:lnTo>
                    <a:lnTo>
                      <a:pt x="208" y="2419"/>
                    </a:lnTo>
                    <a:lnTo>
                      <a:pt x="216" y="2427"/>
                    </a:lnTo>
                    <a:lnTo>
                      <a:pt x="195" y="2354"/>
                    </a:lnTo>
                    <a:lnTo>
                      <a:pt x="176" y="2282"/>
                    </a:lnTo>
                    <a:lnTo>
                      <a:pt x="157" y="2208"/>
                    </a:lnTo>
                    <a:lnTo>
                      <a:pt x="140" y="2134"/>
                    </a:lnTo>
                    <a:lnTo>
                      <a:pt x="125" y="2059"/>
                    </a:lnTo>
                    <a:lnTo>
                      <a:pt x="111" y="1985"/>
                    </a:lnTo>
                    <a:lnTo>
                      <a:pt x="98" y="1909"/>
                    </a:lnTo>
                    <a:lnTo>
                      <a:pt x="86" y="1834"/>
                    </a:lnTo>
                    <a:lnTo>
                      <a:pt x="75" y="1758"/>
                    </a:lnTo>
                    <a:lnTo>
                      <a:pt x="67" y="1681"/>
                    </a:lnTo>
                    <a:lnTo>
                      <a:pt x="59" y="1604"/>
                    </a:lnTo>
                    <a:lnTo>
                      <a:pt x="53" y="1527"/>
                    </a:lnTo>
                    <a:lnTo>
                      <a:pt x="47" y="1449"/>
                    </a:lnTo>
                    <a:lnTo>
                      <a:pt x="44" y="1370"/>
                    </a:lnTo>
                    <a:lnTo>
                      <a:pt x="42" y="1293"/>
                    </a:lnTo>
                    <a:lnTo>
                      <a:pt x="42" y="1214"/>
                    </a:lnTo>
                    <a:lnTo>
                      <a:pt x="42" y="1135"/>
                    </a:lnTo>
                    <a:lnTo>
                      <a:pt x="44" y="1056"/>
                    </a:lnTo>
                    <a:lnTo>
                      <a:pt x="47" y="978"/>
                    </a:lnTo>
                    <a:lnTo>
                      <a:pt x="53" y="900"/>
                    </a:lnTo>
                    <a:lnTo>
                      <a:pt x="59" y="823"/>
                    </a:lnTo>
                    <a:lnTo>
                      <a:pt x="67" y="746"/>
                    </a:lnTo>
                    <a:lnTo>
                      <a:pt x="75" y="669"/>
                    </a:lnTo>
                    <a:lnTo>
                      <a:pt x="86" y="593"/>
                    </a:lnTo>
                    <a:lnTo>
                      <a:pt x="98" y="517"/>
                    </a:lnTo>
                    <a:lnTo>
                      <a:pt x="111" y="443"/>
                    </a:lnTo>
                    <a:lnTo>
                      <a:pt x="125" y="367"/>
                    </a:lnTo>
                    <a:lnTo>
                      <a:pt x="140" y="292"/>
                    </a:lnTo>
                    <a:lnTo>
                      <a:pt x="157" y="219"/>
                    </a:lnTo>
                    <a:lnTo>
                      <a:pt x="176" y="146"/>
                    </a:lnTo>
                    <a:lnTo>
                      <a:pt x="195" y="72"/>
                    </a:lnTo>
                    <a:lnTo>
                      <a:pt x="216" y="0"/>
                    </a:lnTo>
                    <a:lnTo>
                      <a:pt x="208" y="8"/>
                    </a:lnTo>
                    <a:lnTo>
                      <a:pt x="200" y="16"/>
                    </a:lnTo>
                    <a:lnTo>
                      <a:pt x="192" y="25"/>
                    </a:lnTo>
                    <a:lnTo>
                      <a:pt x="184" y="32"/>
                    </a:lnTo>
                    <a:lnTo>
                      <a:pt x="177" y="41"/>
                    </a:lnTo>
                    <a:lnTo>
                      <a:pt x="169" y="48"/>
                    </a:lnTo>
                    <a:lnTo>
                      <a:pt x="162" y="57"/>
                    </a:lnTo>
                    <a:lnTo>
                      <a:pt x="154" y="66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62360" y="2503440"/>
                <a:ext cx="3424320" cy="987480"/>
              </a:xfrm>
              <a:custGeom>
                <a:avLst/>
                <a:gdLst/>
                <a:ahLst/>
                <a:rect l="l" t="t" r="r" b="b"/>
                <a:pathLst>
                  <a:path w="8626" h="2487">
                    <a:moveTo>
                      <a:pt x="8626" y="1244"/>
                    </a:moveTo>
                    <a:lnTo>
                      <a:pt x="8625" y="1167"/>
                    </a:lnTo>
                    <a:lnTo>
                      <a:pt x="8623" y="1090"/>
                    </a:lnTo>
                    <a:lnTo>
                      <a:pt x="8620" y="1015"/>
                    </a:lnTo>
                    <a:lnTo>
                      <a:pt x="8615" y="939"/>
                    </a:lnTo>
                    <a:lnTo>
                      <a:pt x="8609" y="864"/>
                    </a:lnTo>
                    <a:lnTo>
                      <a:pt x="8602" y="789"/>
                    </a:lnTo>
                    <a:lnTo>
                      <a:pt x="8594" y="714"/>
                    </a:lnTo>
                    <a:lnTo>
                      <a:pt x="8584" y="640"/>
                    </a:lnTo>
                    <a:lnTo>
                      <a:pt x="8573" y="567"/>
                    </a:lnTo>
                    <a:lnTo>
                      <a:pt x="8560" y="493"/>
                    </a:lnTo>
                    <a:lnTo>
                      <a:pt x="8547" y="421"/>
                    </a:lnTo>
                    <a:lnTo>
                      <a:pt x="8532" y="348"/>
                    </a:lnTo>
                    <a:lnTo>
                      <a:pt x="8517" y="276"/>
                    </a:lnTo>
                    <a:lnTo>
                      <a:pt x="8500" y="205"/>
                    </a:lnTo>
                    <a:lnTo>
                      <a:pt x="8481" y="133"/>
                    </a:lnTo>
                    <a:lnTo>
                      <a:pt x="8462" y="63"/>
                    </a:lnTo>
                    <a:lnTo>
                      <a:pt x="8454" y="55"/>
                    </a:lnTo>
                    <a:lnTo>
                      <a:pt x="8447" y="47"/>
                    </a:lnTo>
                    <a:lnTo>
                      <a:pt x="8439" y="39"/>
                    </a:lnTo>
                    <a:lnTo>
                      <a:pt x="8432" y="31"/>
                    </a:lnTo>
                    <a:lnTo>
                      <a:pt x="8423" y="23"/>
                    </a:lnTo>
                    <a:lnTo>
                      <a:pt x="8415" y="16"/>
                    </a:lnTo>
                    <a:lnTo>
                      <a:pt x="8408" y="7"/>
                    </a:lnTo>
                    <a:lnTo>
                      <a:pt x="8400" y="0"/>
                    </a:lnTo>
                    <a:lnTo>
                      <a:pt x="8422" y="74"/>
                    </a:lnTo>
                    <a:lnTo>
                      <a:pt x="8442" y="149"/>
                    </a:lnTo>
                    <a:lnTo>
                      <a:pt x="8461" y="223"/>
                    </a:lnTo>
                    <a:lnTo>
                      <a:pt x="8479" y="300"/>
                    </a:lnTo>
                    <a:lnTo>
                      <a:pt x="8495" y="375"/>
                    </a:lnTo>
                    <a:lnTo>
                      <a:pt x="8511" y="452"/>
                    </a:lnTo>
                    <a:lnTo>
                      <a:pt x="8525" y="530"/>
                    </a:lnTo>
                    <a:lnTo>
                      <a:pt x="8536" y="606"/>
                    </a:lnTo>
                    <a:lnTo>
                      <a:pt x="8548" y="685"/>
                    </a:lnTo>
                    <a:lnTo>
                      <a:pt x="8557" y="763"/>
                    </a:lnTo>
                    <a:lnTo>
                      <a:pt x="8566" y="843"/>
                    </a:lnTo>
                    <a:lnTo>
                      <a:pt x="8572" y="922"/>
                    </a:lnTo>
                    <a:lnTo>
                      <a:pt x="8578" y="1002"/>
                    </a:lnTo>
                    <a:lnTo>
                      <a:pt x="8581" y="1082"/>
                    </a:lnTo>
                    <a:lnTo>
                      <a:pt x="8583" y="1163"/>
                    </a:lnTo>
                    <a:lnTo>
                      <a:pt x="8584" y="1244"/>
                    </a:lnTo>
                    <a:lnTo>
                      <a:pt x="8584" y="1315"/>
                    </a:lnTo>
                    <a:lnTo>
                      <a:pt x="8582" y="1387"/>
                    </a:lnTo>
                    <a:lnTo>
                      <a:pt x="8579" y="1459"/>
                    </a:lnTo>
                    <a:lnTo>
                      <a:pt x="8574" y="1529"/>
                    </a:lnTo>
                    <a:lnTo>
                      <a:pt x="8570" y="1600"/>
                    </a:lnTo>
                    <a:lnTo>
                      <a:pt x="8563" y="1670"/>
                    </a:lnTo>
                    <a:lnTo>
                      <a:pt x="8556" y="1739"/>
                    </a:lnTo>
                    <a:lnTo>
                      <a:pt x="8547" y="1810"/>
                    </a:lnTo>
                    <a:lnTo>
                      <a:pt x="8536" y="1879"/>
                    </a:lnTo>
                    <a:lnTo>
                      <a:pt x="8526" y="1948"/>
                    </a:lnTo>
                    <a:lnTo>
                      <a:pt x="8514" y="2016"/>
                    </a:lnTo>
                    <a:lnTo>
                      <a:pt x="8501" y="2085"/>
                    </a:lnTo>
                    <a:lnTo>
                      <a:pt x="8487" y="2152"/>
                    </a:lnTo>
                    <a:lnTo>
                      <a:pt x="8472" y="2220"/>
                    </a:lnTo>
                    <a:lnTo>
                      <a:pt x="8455" y="2287"/>
                    </a:lnTo>
                    <a:lnTo>
                      <a:pt x="8438" y="2353"/>
                    </a:lnTo>
                    <a:lnTo>
                      <a:pt x="8478" y="2364"/>
                    </a:lnTo>
                    <a:lnTo>
                      <a:pt x="8495" y="2297"/>
                    </a:lnTo>
                    <a:lnTo>
                      <a:pt x="8513" y="2230"/>
                    </a:lnTo>
                    <a:lnTo>
                      <a:pt x="8528" y="2162"/>
                    </a:lnTo>
                    <a:lnTo>
                      <a:pt x="8542" y="2093"/>
                    </a:lnTo>
                    <a:lnTo>
                      <a:pt x="8555" y="2023"/>
                    </a:lnTo>
                    <a:lnTo>
                      <a:pt x="8567" y="1954"/>
                    </a:lnTo>
                    <a:lnTo>
                      <a:pt x="8579" y="1885"/>
                    </a:lnTo>
                    <a:lnTo>
                      <a:pt x="8588" y="1815"/>
                    </a:lnTo>
                    <a:lnTo>
                      <a:pt x="8597" y="1745"/>
                    </a:lnTo>
                    <a:lnTo>
                      <a:pt x="8605" y="1675"/>
                    </a:lnTo>
                    <a:lnTo>
                      <a:pt x="8611" y="1603"/>
                    </a:lnTo>
                    <a:lnTo>
                      <a:pt x="8616" y="1532"/>
                    </a:lnTo>
                    <a:lnTo>
                      <a:pt x="8621" y="1460"/>
                    </a:lnTo>
                    <a:lnTo>
                      <a:pt x="8624" y="1388"/>
                    </a:lnTo>
                    <a:lnTo>
                      <a:pt x="8625" y="1316"/>
                    </a:lnTo>
                    <a:lnTo>
                      <a:pt x="8626" y="1244"/>
                    </a:lnTo>
                    <a:close/>
                    <a:moveTo>
                      <a:pt x="164" y="63"/>
                    </a:moveTo>
                    <a:lnTo>
                      <a:pt x="145" y="133"/>
                    </a:lnTo>
                    <a:lnTo>
                      <a:pt x="127" y="205"/>
                    </a:lnTo>
                    <a:lnTo>
                      <a:pt x="109" y="276"/>
                    </a:lnTo>
                    <a:lnTo>
                      <a:pt x="93" y="348"/>
                    </a:lnTo>
                    <a:lnTo>
                      <a:pt x="79" y="421"/>
                    </a:lnTo>
                    <a:lnTo>
                      <a:pt x="65" y="493"/>
                    </a:lnTo>
                    <a:lnTo>
                      <a:pt x="53" y="567"/>
                    </a:lnTo>
                    <a:lnTo>
                      <a:pt x="42" y="640"/>
                    </a:lnTo>
                    <a:lnTo>
                      <a:pt x="33" y="714"/>
                    </a:lnTo>
                    <a:lnTo>
                      <a:pt x="24" y="789"/>
                    </a:lnTo>
                    <a:lnTo>
                      <a:pt x="16" y="864"/>
                    </a:lnTo>
                    <a:lnTo>
                      <a:pt x="11" y="939"/>
                    </a:lnTo>
                    <a:lnTo>
                      <a:pt x="7" y="1015"/>
                    </a:lnTo>
                    <a:lnTo>
                      <a:pt x="3" y="1090"/>
                    </a:lnTo>
                    <a:lnTo>
                      <a:pt x="1" y="1167"/>
                    </a:lnTo>
                    <a:lnTo>
                      <a:pt x="0" y="1244"/>
                    </a:lnTo>
                    <a:lnTo>
                      <a:pt x="1" y="1320"/>
                    </a:lnTo>
                    <a:lnTo>
                      <a:pt x="3" y="1396"/>
                    </a:lnTo>
                    <a:lnTo>
                      <a:pt x="7" y="1473"/>
                    </a:lnTo>
                    <a:lnTo>
                      <a:pt x="11" y="1548"/>
                    </a:lnTo>
                    <a:lnTo>
                      <a:pt x="16" y="1623"/>
                    </a:lnTo>
                    <a:lnTo>
                      <a:pt x="24" y="1698"/>
                    </a:lnTo>
                    <a:lnTo>
                      <a:pt x="33" y="1773"/>
                    </a:lnTo>
                    <a:lnTo>
                      <a:pt x="42" y="1846"/>
                    </a:lnTo>
                    <a:lnTo>
                      <a:pt x="53" y="1920"/>
                    </a:lnTo>
                    <a:lnTo>
                      <a:pt x="65" y="1993"/>
                    </a:lnTo>
                    <a:lnTo>
                      <a:pt x="79" y="2067"/>
                    </a:lnTo>
                    <a:lnTo>
                      <a:pt x="93" y="2139"/>
                    </a:lnTo>
                    <a:lnTo>
                      <a:pt x="109" y="2211"/>
                    </a:lnTo>
                    <a:lnTo>
                      <a:pt x="127" y="2283"/>
                    </a:lnTo>
                    <a:lnTo>
                      <a:pt x="145" y="2354"/>
                    </a:lnTo>
                    <a:lnTo>
                      <a:pt x="164" y="2424"/>
                    </a:lnTo>
                    <a:lnTo>
                      <a:pt x="172" y="2432"/>
                    </a:lnTo>
                    <a:lnTo>
                      <a:pt x="180" y="2440"/>
                    </a:lnTo>
                    <a:lnTo>
                      <a:pt x="187" y="2448"/>
                    </a:lnTo>
                    <a:lnTo>
                      <a:pt x="195" y="2455"/>
                    </a:lnTo>
                    <a:lnTo>
                      <a:pt x="202" y="2464"/>
                    </a:lnTo>
                    <a:lnTo>
                      <a:pt x="211" y="2472"/>
                    </a:lnTo>
                    <a:lnTo>
                      <a:pt x="218" y="2479"/>
                    </a:lnTo>
                    <a:lnTo>
                      <a:pt x="226" y="2487"/>
                    </a:lnTo>
                    <a:lnTo>
                      <a:pt x="204" y="2413"/>
                    </a:lnTo>
                    <a:lnTo>
                      <a:pt x="184" y="2339"/>
                    </a:lnTo>
                    <a:lnTo>
                      <a:pt x="166" y="2263"/>
                    </a:lnTo>
                    <a:lnTo>
                      <a:pt x="147" y="2188"/>
                    </a:lnTo>
                    <a:lnTo>
                      <a:pt x="131" y="2111"/>
                    </a:lnTo>
                    <a:lnTo>
                      <a:pt x="116" y="2034"/>
                    </a:lnTo>
                    <a:lnTo>
                      <a:pt x="102" y="1958"/>
                    </a:lnTo>
                    <a:lnTo>
                      <a:pt x="90" y="1880"/>
                    </a:lnTo>
                    <a:lnTo>
                      <a:pt x="78" y="1802"/>
                    </a:lnTo>
                    <a:lnTo>
                      <a:pt x="69" y="1723"/>
                    </a:lnTo>
                    <a:lnTo>
                      <a:pt x="61" y="1644"/>
                    </a:lnTo>
                    <a:lnTo>
                      <a:pt x="54" y="1564"/>
                    </a:lnTo>
                    <a:lnTo>
                      <a:pt x="49" y="1486"/>
                    </a:lnTo>
                    <a:lnTo>
                      <a:pt x="46" y="1405"/>
                    </a:lnTo>
                    <a:lnTo>
                      <a:pt x="43" y="1325"/>
                    </a:lnTo>
                    <a:lnTo>
                      <a:pt x="42" y="1244"/>
                    </a:lnTo>
                    <a:lnTo>
                      <a:pt x="43" y="1163"/>
                    </a:lnTo>
                    <a:lnTo>
                      <a:pt x="46" y="1082"/>
                    </a:lnTo>
                    <a:lnTo>
                      <a:pt x="49" y="1002"/>
                    </a:lnTo>
                    <a:lnTo>
                      <a:pt x="54" y="922"/>
                    </a:lnTo>
                    <a:lnTo>
                      <a:pt x="61" y="843"/>
                    </a:lnTo>
                    <a:lnTo>
                      <a:pt x="69" y="763"/>
                    </a:lnTo>
                    <a:lnTo>
                      <a:pt x="78" y="685"/>
                    </a:lnTo>
                    <a:lnTo>
                      <a:pt x="90" y="606"/>
                    </a:lnTo>
                    <a:lnTo>
                      <a:pt x="102" y="530"/>
                    </a:lnTo>
                    <a:lnTo>
                      <a:pt x="116" y="452"/>
                    </a:lnTo>
                    <a:lnTo>
                      <a:pt x="131" y="375"/>
                    </a:lnTo>
                    <a:lnTo>
                      <a:pt x="147" y="300"/>
                    </a:lnTo>
                    <a:lnTo>
                      <a:pt x="166" y="223"/>
                    </a:lnTo>
                    <a:lnTo>
                      <a:pt x="184" y="149"/>
                    </a:lnTo>
                    <a:lnTo>
                      <a:pt x="204" y="74"/>
                    </a:lnTo>
                    <a:lnTo>
                      <a:pt x="226" y="0"/>
                    </a:lnTo>
                    <a:lnTo>
                      <a:pt x="218" y="7"/>
                    </a:lnTo>
                    <a:lnTo>
                      <a:pt x="211" y="16"/>
                    </a:lnTo>
                    <a:lnTo>
                      <a:pt x="202" y="23"/>
                    </a:lnTo>
                    <a:lnTo>
                      <a:pt x="195" y="31"/>
                    </a:lnTo>
                    <a:lnTo>
                      <a:pt x="187" y="39"/>
                    </a:lnTo>
                    <a:lnTo>
                      <a:pt x="180" y="47"/>
                    </a:lnTo>
                    <a:lnTo>
                      <a:pt x="172" y="55"/>
                    </a:lnTo>
                    <a:lnTo>
                      <a:pt x="164" y="63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870280" y="2492280"/>
                <a:ext cx="3406680" cy="1011240"/>
              </a:xfrm>
              <a:custGeom>
                <a:avLst/>
                <a:gdLst/>
                <a:ahLst/>
                <a:rect l="l" t="t" r="r" b="b"/>
                <a:pathLst>
                  <a:path w="8583" h="2548">
                    <a:moveTo>
                      <a:pt x="8583" y="1275"/>
                    </a:moveTo>
                    <a:lnTo>
                      <a:pt x="8583" y="1196"/>
                    </a:lnTo>
                    <a:lnTo>
                      <a:pt x="8580" y="1117"/>
                    </a:lnTo>
                    <a:lnTo>
                      <a:pt x="8577" y="1039"/>
                    </a:lnTo>
                    <a:lnTo>
                      <a:pt x="8572" y="961"/>
                    </a:lnTo>
                    <a:lnTo>
                      <a:pt x="8565" y="884"/>
                    </a:lnTo>
                    <a:lnTo>
                      <a:pt x="8558" y="807"/>
                    </a:lnTo>
                    <a:lnTo>
                      <a:pt x="8549" y="730"/>
                    </a:lnTo>
                    <a:lnTo>
                      <a:pt x="8538" y="654"/>
                    </a:lnTo>
                    <a:lnTo>
                      <a:pt x="8526" y="578"/>
                    </a:lnTo>
                    <a:lnTo>
                      <a:pt x="8513" y="504"/>
                    </a:lnTo>
                    <a:lnTo>
                      <a:pt x="8499" y="428"/>
                    </a:lnTo>
                    <a:lnTo>
                      <a:pt x="8483" y="353"/>
                    </a:lnTo>
                    <a:lnTo>
                      <a:pt x="8467" y="280"/>
                    </a:lnTo>
                    <a:lnTo>
                      <a:pt x="8449" y="207"/>
                    </a:lnTo>
                    <a:lnTo>
                      <a:pt x="8429" y="133"/>
                    </a:lnTo>
                    <a:lnTo>
                      <a:pt x="8409" y="61"/>
                    </a:lnTo>
                    <a:lnTo>
                      <a:pt x="8401" y="53"/>
                    </a:lnTo>
                    <a:lnTo>
                      <a:pt x="8393" y="46"/>
                    </a:lnTo>
                    <a:lnTo>
                      <a:pt x="8386" y="38"/>
                    </a:lnTo>
                    <a:lnTo>
                      <a:pt x="8378" y="31"/>
                    </a:lnTo>
                    <a:lnTo>
                      <a:pt x="8371" y="23"/>
                    </a:lnTo>
                    <a:lnTo>
                      <a:pt x="8362" y="15"/>
                    </a:lnTo>
                    <a:lnTo>
                      <a:pt x="8355" y="8"/>
                    </a:lnTo>
                    <a:lnTo>
                      <a:pt x="8347" y="0"/>
                    </a:lnTo>
                    <a:lnTo>
                      <a:pt x="8370" y="76"/>
                    </a:lnTo>
                    <a:lnTo>
                      <a:pt x="8391" y="153"/>
                    </a:lnTo>
                    <a:lnTo>
                      <a:pt x="8412" y="229"/>
                    </a:lnTo>
                    <a:lnTo>
                      <a:pt x="8430" y="307"/>
                    </a:lnTo>
                    <a:lnTo>
                      <a:pt x="8447" y="385"/>
                    </a:lnTo>
                    <a:lnTo>
                      <a:pt x="8464" y="464"/>
                    </a:lnTo>
                    <a:lnTo>
                      <a:pt x="8479" y="542"/>
                    </a:lnTo>
                    <a:lnTo>
                      <a:pt x="8492" y="622"/>
                    </a:lnTo>
                    <a:lnTo>
                      <a:pt x="8503" y="702"/>
                    </a:lnTo>
                    <a:lnTo>
                      <a:pt x="8513" y="782"/>
                    </a:lnTo>
                    <a:lnTo>
                      <a:pt x="8522" y="863"/>
                    </a:lnTo>
                    <a:lnTo>
                      <a:pt x="8529" y="944"/>
                    </a:lnTo>
                    <a:lnTo>
                      <a:pt x="8534" y="1026"/>
                    </a:lnTo>
                    <a:lnTo>
                      <a:pt x="8538" y="1108"/>
                    </a:lnTo>
                    <a:lnTo>
                      <a:pt x="8540" y="1192"/>
                    </a:lnTo>
                    <a:lnTo>
                      <a:pt x="8541" y="1275"/>
                    </a:lnTo>
                    <a:lnTo>
                      <a:pt x="8540" y="1346"/>
                    </a:lnTo>
                    <a:lnTo>
                      <a:pt x="8539" y="1417"/>
                    </a:lnTo>
                    <a:lnTo>
                      <a:pt x="8536" y="1489"/>
                    </a:lnTo>
                    <a:lnTo>
                      <a:pt x="8532" y="1559"/>
                    </a:lnTo>
                    <a:lnTo>
                      <a:pt x="8526" y="1629"/>
                    </a:lnTo>
                    <a:lnTo>
                      <a:pt x="8520" y="1699"/>
                    </a:lnTo>
                    <a:lnTo>
                      <a:pt x="8512" y="1768"/>
                    </a:lnTo>
                    <a:lnTo>
                      <a:pt x="8504" y="1837"/>
                    </a:lnTo>
                    <a:lnTo>
                      <a:pt x="8494" y="1906"/>
                    </a:lnTo>
                    <a:lnTo>
                      <a:pt x="8483" y="1976"/>
                    </a:lnTo>
                    <a:lnTo>
                      <a:pt x="8471" y="2044"/>
                    </a:lnTo>
                    <a:lnTo>
                      <a:pt x="8458" y="2112"/>
                    </a:lnTo>
                    <a:lnTo>
                      <a:pt x="8444" y="2179"/>
                    </a:lnTo>
                    <a:lnTo>
                      <a:pt x="8429" y="2246"/>
                    </a:lnTo>
                    <a:lnTo>
                      <a:pt x="8413" y="2313"/>
                    </a:lnTo>
                    <a:lnTo>
                      <a:pt x="8396" y="2378"/>
                    </a:lnTo>
                    <a:lnTo>
                      <a:pt x="8437" y="2389"/>
                    </a:lnTo>
                    <a:lnTo>
                      <a:pt x="8454" y="2322"/>
                    </a:lnTo>
                    <a:lnTo>
                      <a:pt x="8470" y="2255"/>
                    </a:lnTo>
                    <a:lnTo>
                      <a:pt x="8485" y="2187"/>
                    </a:lnTo>
                    <a:lnTo>
                      <a:pt x="8499" y="2119"/>
                    </a:lnTo>
                    <a:lnTo>
                      <a:pt x="8512" y="2051"/>
                    </a:lnTo>
                    <a:lnTo>
                      <a:pt x="8524" y="1982"/>
                    </a:lnTo>
                    <a:lnTo>
                      <a:pt x="8536" y="1913"/>
                    </a:lnTo>
                    <a:lnTo>
                      <a:pt x="8546" y="1844"/>
                    </a:lnTo>
                    <a:lnTo>
                      <a:pt x="8554" y="1774"/>
                    </a:lnTo>
                    <a:lnTo>
                      <a:pt x="8562" y="1703"/>
                    </a:lnTo>
                    <a:lnTo>
                      <a:pt x="8568" y="1632"/>
                    </a:lnTo>
                    <a:lnTo>
                      <a:pt x="8574" y="1561"/>
                    </a:lnTo>
                    <a:lnTo>
                      <a:pt x="8577" y="1490"/>
                    </a:lnTo>
                    <a:lnTo>
                      <a:pt x="8580" y="1418"/>
                    </a:lnTo>
                    <a:lnTo>
                      <a:pt x="8583" y="1347"/>
                    </a:lnTo>
                    <a:lnTo>
                      <a:pt x="8583" y="1275"/>
                    </a:lnTo>
                    <a:close/>
                    <a:moveTo>
                      <a:pt x="174" y="61"/>
                    </a:moveTo>
                    <a:lnTo>
                      <a:pt x="153" y="133"/>
                    </a:lnTo>
                    <a:lnTo>
                      <a:pt x="134" y="207"/>
                    </a:lnTo>
                    <a:lnTo>
                      <a:pt x="115" y="280"/>
                    </a:lnTo>
                    <a:lnTo>
                      <a:pt x="98" y="353"/>
                    </a:lnTo>
                    <a:lnTo>
                      <a:pt x="83" y="428"/>
                    </a:lnTo>
                    <a:lnTo>
                      <a:pt x="69" y="504"/>
                    </a:lnTo>
                    <a:lnTo>
                      <a:pt x="56" y="578"/>
                    </a:lnTo>
                    <a:lnTo>
                      <a:pt x="44" y="654"/>
                    </a:lnTo>
                    <a:lnTo>
                      <a:pt x="33" y="730"/>
                    </a:lnTo>
                    <a:lnTo>
                      <a:pt x="25" y="807"/>
                    </a:lnTo>
                    <a:lnTo>
                      <a:pt x="17" y="884"/>
                    </a:lnTo>
                    <a:lnTo>
                      <a:pt x="11" y="961"/>
                    </a:lnTo>
                    <a:lnTo>
                      <a:pt x="5" y="1039"/>
                    </a:lnTo>
                    <a:lnTo>
                      <a:pt x="2" y="1117"/>
                    </a:lnTo>
                    <a:lnTo>
                      <a:pt x="0" y="1196"/>
                    </a:lnTo>
                    <a:lnTo>
                      <a:pt x="0" y="1275"/>
                    </a:lnTo>
                    <a:lnTo>
                      <a:pt x="0" y="1354"/>
                    </a:lnTo>
                    <a:lnTo>
                      <a:pt x="2" y="1431"/>
                    </a:lnTo>
                    <a:lnTo>
                      <a:pt x="5" y="1510"/>
                    </a:lnTo>
                    <a:lnTo>
                      <a:pt x="11" y="1588"/>
                    </a:lnTo>
                    <a:lnTo>
                      <a:pt x="17" y="1665"/>
                    </a:lnTo>
                    <a:lnTo>
                      <a:pt x="25" y="1742"/>
                    </a:lnTo>
                    <a:lnTo>
                      <a:pt x="33" y="1819"/>
                    </a:lnTo>
                    <a:lnTo>
                      <a:pt x="44" y="1895"/>
                    </a:lnTo>
                    <a:lnTo>
                      <a:pt x="56" y="1970"/>
                    </a:lnTo>
                    <a:lnTo>
                      <a:pt x="69" y="2046"/>
                    </a:lnTo>
                    <a:lnTo>
                      <a:pt x="83" y="2120"/>
                    </a:lnTo>
                    <a:lnTo>
                      <a:pt x="98" y="2195"/>
                    </a:lnTo>
                    <a:lnTo>
                      <a:pt x="115" y="2269"/>
                    </a:lnTo>
                    <a:lnTo>
                      <a:pt x="134" y="2343"/>
                    </a:lnTo>
                    <a:lnTo>
                      <a:pt x="153" y="2415"/>
                    </a:lnTo>
                    <a:lnTo>
                      <a:pt x="174" y="2488"/>
                    </a:lnTo>
                    <a:lnTo>
                      <a:pt x="181" y="2495"/>
                    </a:lnTo>
                    <a:lnTo>
                      <a:pt x="189" y="2503"/>
                    </a:lnTo>
                    <a:lnTo>
                      <a:pt x="196" y="2510"/>
                    </a:lnTo>
                    <a:lnTo>
                      <a:pt x="204" y="2518"/>
                    </a:lnTo>
                    <a:lnTo>
                      <a:pt x="212" y="2525"/>
                    </a:lnTo>
                    <a:lnTo>
                      <a:pt x="220" y="2533"/>
                    </a:lnTo>
                    <a:lnTo>
                      <a:pt x="228" y="2540"/>
                    </a:lnTo>
                    <a:lnTo>
                      <a:pt x="235" y="2548"/>
                    </a:lnTo>
                    <a:lnTo>
                      <a:pt x="213" y="2472"/>
                    </a:lnTo>
                    <a:lnTo>
                      <a:pt x="191" y="2397"/>
                    </a:lnTo>
                    <a:lnTo>
                      <a:pt x="171" y="2319"/>
                    </a:lnTo>
                    <a:lnTo>
                      <a:pt x="152" y="2242"/>
                    </a:lnTo>
                    <a:lnTo>
                      <a:pt x="135" y="2165"/>
                    </a:lnTo>
                    <a:lnTo>
                      <a:pt x="119" y="2086"/>
                    </a:lnTo>
                    <a:lnTo>
                      <a:pt x="104" y="2007"/>
                    </a:lnTo>
                    <a:lnTo>
                      <a:pt x="91" y="1927"/>
                    </a:lnTo>
                    <a:lnTo>
                      <a:pt x="80" y="1847"/>
                    </a:lnTo>
                    <a:lnTo>
                      <a:pt x="69" y="1766"/>
                    </a:lnTo>
                    <a:lnTo>
                      <a:pt x="60" y="1685"/>
                    </a:lnTo>
                    <a:lnTo>
                      <a:pt x="54" y="1604"/>
                    </a:lnTo>
                    <a:lnTo>
                      <a:pt x="48" y="1522"/>
                    </a:lnTo>
                    <a:lnTo>
                      <a:pt x="44" y="1440"/>
                    </a:lnTo>
                    <a:lnTo>
                      <a:pt x="42" y="1358"/>
                    </a:lnTo>
                    <a:lnTo>
                      <a:pt x="41" y="1275"/>
                    </a:lnTo>
                    <a:lnTo>
                      <a:pt x="42" y="1192"/>
                    </a:lnTo>
                    <a:lnTo>
                      <a:pt x="44" y="1108"/>
                    </a:lnTo>
                    <a:lnTo>
                      <a:pt x="48" y="1026"/>
                    </a:lnTo>
                    <a:lnTo>
                      <a:pt x="54" y="944"/>
                    </a:lnTo>
                    <a:lnTo>
                      <a:pt x="60" y="863"/>
                    </a:lnTo>
                    <a:lnTo>
                      <a:pt x="69" y="782"/>
                    </a:lnTo>
                    <a:lnTo>
                      <a:pt x="80" y="702"/>
                    </a:lnTo>
                    <a:lnTo>
                      <a:pt x="91" y="622"/>
                    </a:lnTo>
                    <a:lnTo>
                      <a:pt x="104" y="542"/>
                    </a:lnTo>
                    <a:lnTo>
                      <a:pt x="119" y="464"/>
                    </a:lnTo>
                    <a:lnTo>
                      <a:pt x="135" y="385"/>
                    </a:lnTo>
                    <a:lnTo>
                      <a:pt x="152" y="307"/>
                    </a:lnTo>
                    <a:lnTo>
                      <a:pt x="171" y="229"/>
                    </a:lnTo>
                    <a:lnTo>
                      <a:pt x="191" y="153"/>
                    </a:lnTo>
                    <a:lnTo>
                      <a:pt x="213" y="76"/>
                    </a:lnTo>
                    <a:lnTo>
                      <a:pt x="235" y="0"/>
                    </a:lnTo>
                    <a:lnTo>
                      <a:pt x="228" y="8"/>
                    </a:lnTo>
                    <a:lnTo>
                      <a:pt x="220" y="15"/>
                    </a:lnTo>
                    <a:lnTo>
                      <a:pt x="212" y="23"/>
                    </a:lnTo>
                    <a:lnTo>
                      <a:pt x="204" y="31"/>
                    </a:lnTo>
                    <a:lnTo>
                      <a:pt x="196" y="38"/>
                    </a:lnTo>
                    <a:lnTo>
                      <a:pt x="189" y="46"/>
                    </a:lnTo>
                    <a:lnTo>
                      <a:pt x="181" y="53"/>
                    </a:lnTo>
                    <a:lnTo>
                      <a:pt x="174" y="61"/>
                    </a:lnTo>
                    <a:close/>
                  </a:path>
                </a:pathLst>
              </a:custGeom>
              <a:solidFill>
                <a:srgbClr val="c7ac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879640" y="2479680"/>
                <a:ext cx="3389400" cy="1035000"/>
              </a:xfrm>
              <a:custGeom>
                <a:avLst/>
                <a:gdLst/>
                <a:ahLst/>
                <a:rect l="l" t="t" r="r" b="b"/>
                <a:pathLst>
                  <a:path w="8542" h="2606">
                    <a:moveTo>
                      <a:pt x="8542" y="1304"/>
                    </a:moveTo>
                    <a:lnTo>
                      <a:pt x="8541" y="1223"/>
                    </a:lnTo>
                    <a:lnTo>
                      <a:pt x="8539" y="1142"/>
                    </a:lnTo>
                    <a:lnTo>
                      <a:pt x="8536" y="1062"/>
                    </a:lnTo>
                    <a:lnTo>
                      <a:pt x="8530" y="982"/>
                    </a:lnTo>
                    <a:lnTo>
                      <a:pt x="8524" y="903"/>
                    </a:lnTo>
                    <a:lnTo>
                      <a:pt x="8515" y="823"/>
                    </a:lnTo>
                    <a:lnTo>
                      <a:pt x="8506" y="745"/>
                    </a:lnTo>
                    <a:lnTo>
                      <a:pt x="8494" y="666"/>
                    </a:lnTo>
                    <a:lnTo>
                      <a:pt x="8483" y="590"/>
                    </a:lnTo>
                    <a:lnTo>
                      <a:pt x="8469" y="512"/>
                    </a:lnTo>
                    <a:lnTo>
                      <a:pt x="8453" y="435"/>
                    </a:lnTo>
                    <a:lnTo>
                      <a:pt x="8437" y="360"/>
                    </a:lnTo>
                    <a:lnTo>
                      <a:pt x="8419" y="284"/>
                    </a:lnTo>
                    <a:lnTo>
                      <a:pt x="8400" y="209"/>
                    </a:lnTo>
                    <a:lnTo>
                      <a:pt x="8380" y="134"/>
                    </a:lnTo>
                    <a:lnTo>
                      <a:pt x="8358" y="60"/>
                    </a:lnTo>
                    <a:lnTo>
                      <a:pt x="8350" y="52"/>
                    </a:lnTo>
                    <a:lnTo>
                      <a:pt x="8342" y="44"/>
                    </a:lnTo>
                    <a:lnTo>
                      <a:pt x="8335" y="38"/>
                    </a:lnTo>
                    <a:lnTo>
                      <a:pt x="8327" y="30"/>
                    </a:lnTo>
                    <a:lnTo>
                      <a:pt x="8319" y="23"/>
                    </a:lnTo>
                    <a:lnTo>
                      <a:pt x="8311" y="15"/>
                    </a:lnTo>
                    <a:lnTo>
                      <a:pt x="8303" y="8"/>
                    </a:lnTo>
                    <a:lnTo>
                      <a:pt x="8296" y="0"/>
                    </a:lnTo>
                    <a:lnTo>
                      <a:pt x="8319" y="78"/>
                    </a:lnTo>
                    <a:lnTo>
                      <a:pt x="8342" y="156"/>
                    </a:lnTo>
                    <a:lnTo>
                      <a:pt x="8364" y="234"/>
                    </a:lnTo>
                    <a:lnTo>
                      <a:pt x="8383" y="313"/>
                    </a:lnTo>
                    <a:lnTo>
                      <a:pt x="8402" y="393"/>
                    </a:lnTo>
                    <a:lnTo>
                      <a:pt x="8419" y="473"/>
                    </a:lnTo>
                    <a:lnTo>
                      <a:pt x="8434" y="554"/>
                    </a:lnTo>
                    <a:lnTo>
                      <a:pt x="8448" y="635"/>
                    </a:lnTo>
                    <a:lnTo>
                      <a:pt x="8460" y="717"/>
                    </a:lnTo>
                    <a:lnTo>
                      <a:pt x="8471" y="799"/>
                    </a:lnTo>
                    <a:lnTo>
                      <a:pt x="8479" y="882"/>
                    </a:lnTo>
                    <a:lnTo>
                      <a:pt x="8487" y="966"/>
                    </a:lnTo>
                    <a:lnTo>
                      <a:pt x="8493" y="1050"/>
                    </a:lnTo>
                    <a:lnTo>
                      <a:pt x="8497" y="1134"/>
                    </a:lnTo>
                    <a:lnTo>
                      <a:pt x="8500" y="1218"/>
                    </a:lnTo>
                    <a:lnTo>
                      <a:pt x="8501" y="1304"/>
                    </a:lnTo>
                    <a:lnTo>
                      <a:pt x="8500" y="1375"/>
                    </a:lnTo>
                    <a:lnTo>
                      <a:pt x="8498" y="1445"/>
                    </a:lnTo>
                    <a:lnTo>
                      <a:pt x="8496" y="1516"/>
                    </a:lnTo>
                    <a:lnTo>
                      <a:pt x="8491" y="1587"/>
                    </a:lnTo>
                    <a:lnTo>
                      <a:pt x="8486" y="1656"/>
                    </a:lnTo>
                    <a:lnTo>
                      <a:pt x="8479" y="1726"/>
                    </a:lnTo>
                    <a:lnTo>
                      <a:pt x="8472" y="1795"/>
                    </a:lnTo>
                    <a:lnTo>
                      <a:pt x="8463" y="1864"/>
                    </a:lnTo>
                    <a:lnTo>
                      <a:pt x="8453" y="1932"/>
                    </a:lnTo>
                    <a:lnTo>
                      <a:pt x="8443" y="2001"/>
                    </a:lnTo>
                    <a:lnTo>
                      <a:pt x="8431" y="2068"/>
                    </a:lnTo>
                    <a:lnTo>
                      <a:pt x="8418" y="2136"/>
                    </a:lnTo>
                    <a:lnTo>
                      <a:pt x="8404" y="2203"/>
                    </a:lnTo>
                    <a:lnTo>
                      <a:pt x="8389" y="2270"/>
                    </a:lnTo>
                    <a:lnTo>
                      <a:pt x="8373" y="2336"/>
                    </a:lnTo>
                    <a:lnTo>
                      <a:pt x="8356" y="2402"/>
                    </a:lnTo>
                    <a:lnTo>
                      <a:pt x="8396" y="2413"/>
                    </a:lnTo>
                    <a:lnTo>
                      <a:pt x="8413" y="2347"/>
                    </a:lnTo>
                    <a:lnTo>
                      <a:pt x="8430" y="2280"/>
                    </a:lnTo>
                    <a:lnTo>
                      <a:pt x="8445" y="2212"/>
                    </a:lnTo>
                    <a:lnTo>
                      <a:pt x="8459" y="2145"/>
                    </a:lnTo>
                    <a:lnTo>
                      <a:pt x="8472" y="2076"/>
                    </a:lnTo>
                    <a:lnTo>
                      <a:pt x="8484" y="2008"/>
                    </a:lnTo>
                    <a:lnTo>
                      <a:pt x="8494" y="1939"/>
                    </a:lnTo>
                    <a:lnTo>
                      <a:pt x="8505" y="1870"/>
                    </a:lnTo>
                    <a:lnTo>
                      <a:pt x="8514" y="1799"/>
                    </a:lnTo>
                    <a:lnTo>
                      <a:pt x="8521" y="1730"/>
                    </a:lnTo>
                    <a:lnTo>
                      <a:pt x="8528" y="1660"/>
                    </a:lnTo>
                    <a:lnTo>
                      <a:pt x="8532" y="1589"/>
                    </a:lnTo>
                    <a:lnTo>
                      <a:pt x="8537" y="1519"/>
                    </a:lnTo>
                    <a:lnTo>
                      <a:pt x="8540" y="1447"/>
                    </a:lnTo>
                    <a:lnTo>
                      <a:pt x="8542" y="1375"/>
                    </a:lnTo>
                    <a:lnTo>
                      <a:pt x="8542" y="1304"/>
                    </a:lnTo>
                    <a:close/>
                    <a:moveTo>
                      <a:pt x="184" y="60"/>
                    </a:moveTo>
                    <a:lnTo>
                      <a:pt x="162" y="134"/>
                    </a:lnTo>
                    <a:lnTo>
                      <a:pt x="142" y="209"/>
                    </a:lnTo>
                    <a:lnTo>
                      <a:pt x="124" y="283"/>
                    </a:lnTo>
                    <a:lnTo>
                      <a:pt x="105" y="360"/>
                    </a:lnTo>
                    <a:lnTo>
                      <a:pt x="89" y="435"/>
                    </a:lnTo>
                    <a:lnTo>
                      <a:pt x="74" y="512"/>
                    </a:lnTo>
                    <a:lnTo>
                      <a:pt x="60" y="590"/>
                    </a:lnTo>
                    <a:lnTo>
                      <a:pt x="48" y="666"/>
                    </a:lnTo>
                    <a:lnTo>
                      <a:pt x="36" y="745"/>
                    </a:lnTo>
                    <a:lnTo>
                      <a:pt x="27" y="823"/>
                    </a:lnTo>
                    <a:lnTo>
                      <a:pt x="19" y="903"/>
                    </a:lnTo>
                    <a:lnTo>
                      <a:pt x="12" y="982"/>
                    </a:lnTo>
                    <a:lnTo>
                      <a:pt x="7" y="1062"/>
                    </a:lnTo>
                    <a:lnTo>
                      <a:pt x="4" y="1142"/>
                    </a:lnTo>
                    <a:lnTo>
                      <a:pt x="0" y="1223"/>
                    </a:lnTo>
                    <a:lnTo>
                      <a:pt x="0" y="1304"/>
                    </a:lnTo>
                    <a:lnTo>
                      <a:pt x="0" y="1385"/>
                    </a:lnTo>
                    <a:lnTo>
                      <a:pt x="4" y="1465"/>
                    </a:lnTo>
                    <a:lnTo>
                      <a:pt x="7" y="1546"/>
                    </a:lnTo>
                    <a:lnTo>
                      <a:pt x="12" y="1624"/>
                    </a:lnTo>
                    <a:lnTo>
                      <a:pt x="19" y="1704"/>
                    </a:lnTo>
                    <a:lnTo>
                      <a:pt x="27" y="1783"/>
                    </a:lnTo>
                    <a:lnTo>
                      <a:pt x="36" y="1862"/>
                    </a:lnTo>
                    <a:lnTo>
                      <a:pt x="48" y="1940"/>
                    </a:lnTo>
                    <a:lnTo>
                      <a:pt x="60" y="2018"/>
                    </a:lnTo>
                    <a:lnTo>
                      <a:pt x="74" y="2094"/>
                    </a:lnTo>
                    <a:lnTo>
                      <a:pt x="89" y="2171"/>
                    </a:lnTo>
                    <a:lnTo>
                      <a:pt x="105" y="2248"/>
                    </a:lnTo>
                    <a:lnTo>
                      <a:pt x="124" y="2323"/>
                    </a:lnTo>
                    <a:lnTo>
                      <a:pt x="142" y="2399"/>
                    </a:lnTo>
                    <a:lnTo>
                      <a:pt x="162" y="2473"/>
                    </a:lnTo>
                    <a:lnTo>
                      <a:pt x="184" y="2547"/>
                    </a:lnTo>
                    <a:lnTo>
                      <a:pt x="192" y="2554"/>
                    </a:lnTo>
                    <a:lnTo>
                      <a:pt x="200" y="2562"/>
                    </a:lnTo>
                    <a:lnTo>
                      <a:pt x="208" y="2569"/>
                    </a:lnTo>
                    <a:lnTo>
                      <a:pt x="215" y="2577"/>
                    </a:lnTo>
                    <a:lnTo>
                      <a:pt x="223" y="2585"/>
                    </a:lnTo>
                    <a:lnTo>
                      <a:pt x="231" y="2592"/>
                    </a:lnTo>
                    <a:lnTo>
                      <a:pt x="239" y="2599"/>
                    </a:lnTo>
                    <a:lnTo>
                      <a:pt x="247" y="2606"/>
                    </a:lnTo>
                    <a:lnTo>
                      <a:pt x="223" y="2529"/>
                    </a:lnTo>
                    <a:lnTo>
                      <a:pt x="200" y="2451"/>
                    </a:lnTo>
                    <a:lnTo>
                      <a:pt x="179" y="2373"/>
                    </a:lnTo>
                    <a:lnTo>
                      <a:pt x="159" y="2294"/>
                    </a:lnTo>
                    <a:lnTo>
                      <a:pt x="141" y="2214"/>
                    </a:lnTo>
                    <a:lnTo>
                      <a:pt x="124" y="2133"/>
                    </a:lnTo>
                    <a:lnTo>
                      <a:pt x="108" y="2053"/>
                    </a:lnTo>
                    <a:lnTo>
                      <a:pt x="94" y="1971"/>
                    </a:lnTo>
                    <a:lnTo>
                      <a:pt x="82" y="1890"/>
                    </a:lnTo>
                    <a:lnTo>
                      <a:pt x="72" y="1807"/>
                    </a:lnTo>
                    <a:lnTo>
                      <a:pt x="63" y="1725"/>
                    </a:lnTo>
                    <a:lnTo>
                      <a:pt x="55" y="1641"/>
                    </a:lnTo>
                    <a:lnTo>
                      <a:pt x="49" y="1557"/>
                    </a:lnTo>
                    <a:lnTo>
                      <a:pt x="45" y="1473"/>
                    </a:lnTo>
                    <a:lnTo>
                      <a:pt x="43" y="1389"/>
                    </a:lnTo>
                    <a:lnTo>
                      <a:pt x="41" y="1304"/>
                    </a:lnTo>
                    <a:lnTo>
                      <a:pt x="43" y="1218"/>
                    </a:lnTo>
                    <a:lnTo>
                      <a:pt x="45" y="1134"/>
                    </a:lnTo>
                    <a:lnTo>
                      <a:pt x="49" y="1050"/>
                    </a:lnTo>
                    <a:lnTo>
                      <a:pt x="55" y="966"/>
                    </a:lnTo>
                    <a:lnTo>
                      <a:pt x="63" y="882"/>
                    </a:lnTo>
                    <a:lnTo>
                      <a:pt x="72" y="799"/>
                    </a:lnTo>
                    <a:lnTo>
                      <a:pt x="82" y="717"/>
                    </a:lnTo>
                    <a:lnTo>
                      <a:pt x="94" y="635"/>
                    </a:lnTo>
                    <a:lnTo>
                      <a:pt x="108" y="554"/>
                    </a:lnTo>
                    <a:lnTo>
                      <a:pt x="124" y="473"/>
                    </a:lnTo>
                    <a:lnTo>
                      <a:pt x="141" y="393"/>
                    </a:lnTo>
                    <a:lnTo>
                      <a:pt x="159" y="313"/>
                    </a:lnTo>
                    <a:lnTo>
                      <a:pt x="179" y="234"/>
                    </a:lnTo>
                    <a:lnTo>
                      <a:pt x="200" y="156"/>
                    </a:lnTo>
                    <a:lnTo>
                      <a:pt x="223" y="78"/>
                    </a:lnTo>
                    <a:lnTo>
                      <a:pt x="247" y="0"/>
                    </a:lnTo>
                    <a:lnTo>
                      <a:pt x="239" y="8"/>
                    </a:lnTo>
                    <a:lnTo>
                      <a:pt x="231" y="15"/>
                    </a:lnTo>
                    <a:lnTo>
                      <a:pt x="223" y="23"/>
                    </a:lnTo>
                    <a:lnTo>
                      <a:pt x="215" y="30"/>
                    </a:lnTo>
                    <a:lnTo>
                      <a:pt x="208" y="38"/>
                    </a:lnTo>
                    <a:lnTo>
                      <a:pt x="200" y="44"/>
                    </a:lnTo>
                    <a:lnTo>
                      <a:pt x="192" y="52"/>
                    </a:lnTo>
                    <a:lnTo>
                      <a:pt x="184" y="60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887560" y="2468520"/>
                <a:ext cx="3373560" cy="1057320"/>
              </a:xfrm>
              <a:custGeom>
                <a:avLst/>
                <a:gdLst/>
                <a:ahLst/>
                <a:rect l="l" t="t" r="r" b="b"/>
                <a:pathLst>
                  <a:path w="8500" h="2663">
                    <a:moveTo>
                      <a:pt x="8500" y="1332"/>
                    </a:moveTo>
                    <a:lnTo>
                      <a:pt x="8499" y="1249"/>
                    </a:lnTo>
                    <a:lnTo>
                      <a:pt x="8497" y="1165"/>
                    </a:lnTo>
                    <a:lnTo>
                      <a:pt x="8493" y="1083"/>
                    </a:lnTo>
                    <a:lnTo>
                      <a:pt x="8488" y="1001"/>
                    </a:lnTo>
                    <a:lnTo>
                      <a:pt x="8481" y="920"/>
                    </a:lnTo>
                    <a:lnTo>
                      <a:pt x="8472" y="839"/>
                    </a:lnTo>
                    <a:lnTo>
                      <a:pt x="8462" y="759"/>
                    </a:lnTo>
                    <a:lnTo>
                      <a:pt x="8451" y="679"/>
                    </a:lnTo>
                    <a:lnTo>
                      <a:pt x="8438" y="599"/>
                    </a:lnTo>
                    <a:lnTo>
                      <a:pt x="8423" y="521"/>
                    </a:lnTo>
                    <a:lnTo>
                      <a:pt x="8406" y="442"/>
                    </a:lnTo>
                    <a:lnTo>
                      <a:pt x="8389" y="364"/>
                    </a:lnTo>
                    <a:lnTo>
                      <a:pt x="8371" y="286"/>
                    </a:lnTo>
                    <a:lnTo>
                      <a:pt x="8350" y="210"/>
                    </a:lnTo>
                    <a:lnTo>
                      <a:pt x="8329" y="133"/>
                    </a:lnTo>
                    <a:lnTo>
                      <a:pt x="8306" y="57"/>
                    </a:lnTo>
                    <a:lnTo>
                      <a:pt x="8298" y="50"/>
                    </a:lnTo>
                    <a:lnTo>
                      <a:pt x="8291" y="43"/>
                    </a:lnTo>
                    <a:lnTo>
                      <a:pt x="8282" y="36"/>
                    </a:lnTo>
                    <a:lnTo>
                      <a:pt x="8275" y="28"/>
                    </a:lnTo>
                    <a:lnTo>
                      <a:pt x="8267" y="22"/>
                    </a:lnTo>
                    <a:lnTo>
                      <a:pt x="8260" y="14"/>
                    </a:lnTo>
                    <a:lnTo>
                      <a:pt x="8251" y="8"/>
                    </a:lnTo>
                    <a:lnTo>
                      <a:pt x="8243" y="0"/>
                    </a:lnTo>
                    <a:lnTo>
                      <a:pt x="8268" y="79"/>
                    </a:lnTo>
                    <a:lnTo>
                      <a:pt x="8293" y="158"/>
                    </a:lnTo>
                    <a:lnTo>
                      <a:pt x="8315" y="239"/>
                    </a:lnTo>
                    <a:lnTo>
                      <a:pt x="8336" y="319"/>
                    </a:lnTo>
                    <a:lnTo>
                      <a:pt x="8355" y="401"/>
                    </a:lnTo>
                    <a:lnTo>
                      <a:pt x="8373" y="483"/>
                    </a:lnTo>
                    <a:lnTo>
                      <a:pt x="8389" y="565"/>
                    </a:lnTo>
                    <a:lnTo>
                      <a:pt x="8403" y="648"/>
                    </a:lnTo>
                    <a:lnTo>
                      <a:pt x="8416" y="732"/>
                    </a:lnTo>
                    <a:lnTo>
                      <a:pt x="8427" y="815"/>
                    </a:lnTo>
                    <a:lnTo>
                      <a:pt x="8437" y="901"/>
                    </a:lnTo>
                    <a:lnTo>
                      <a:pt x="8444" y="986"/>
                    </a:lnTo>
                    <a:lnTo>
                      <a:pt x="8451" y="1071"/>
                    </a:lnTo>
                    <a:lnTo>
                      <a:pt x="8455" y="1158"/>
                    </a:lnTo>
                    <a:lnTo>
                      <a:pt x="8457" y="1244"/>
                    </a:lnTo>
                    <a:lnTo>
                      <a:pt x="8458" y="1332"/>
                    </a:lnTo>
                    <a:lnTo>
                      <a:pt x="8458" y="1402"/>
                    </a:lnTo>
                    <a:lnTo>
                      <a:pt x="8456" y="1473"/>
                    </a:lnTo>
                    <a:lnTo>
                      <a:pt x="8453" y="1543"/>
                    </a:lnTo>
                    <a:lnTo>
                      <a:pt x="8450" y="1612"/>
                    </a:lnTo>
                    <a:lnTo>
                      <a:pt x="8444" y="1683"/>
                    </a:lnTo>
                    <a:lnTo>
                      <a:pt x="8438" y="1752"/>
                    </a:lnTo>
                    <a:lnTo>
                      <a:pt x="8430" y="1821"/>
                    </a:lnTo>
                    <a:lnTo>
                      <a:pt x="8422" y="1889"/>
                    </a:lnTo>
                    <a:lnTo>
                      <a:pt x="8412" y="1958"/>
                    </a:lnTo>
                    <a:lnTo>
                      <a:pt x="8401" y="2025"/>
                    </a:lnTo>
                    <a:lnTo>
                      <a:pt x="8389" y="2093"/>
                    </a:lnTo>
                    <a:lnTo>
                      <a:pt x="8376" y="2160"/>
                    </a:lnTo>
                    <a:lnTo>
                      <a:pt x="8363" y="2227"/>
                    </a:lnTo>
                    <a:lnTo>
                      <a:pt x="8348" y="2293"/>
                    </a:lnTo>
                    <a:lnTo>
                      <a:pt x="8332" y="2360"/>
                    </a:lnTo>
                    <a:lnTo>
                      <a:pt x="8315" y="2425"/>
                    </a:lnTo>
                    <a:lnTo>
                      <a:pt x="8355" y="2435"/>
                    </a:lnTo>
                    <a:lnTo>
                      <a:pt x="8372" y="2370"/>
                    </a:lnTo>
                    <a:lnTo>
                      <a:pt x="8388" y="2303"/>
                    </a:lnTo>
                    <a:lnTo>
                      <a:pt x="8403" y="2236"/>
                    </a:lnTo>
                    <a:lnTo>
                      <a:pt x="8417" y="2169"/>
                    </a:lnTo>
                    <a:lnTo>
                      <a:pt x="8430" y="2101"/>
                    </a:lnTo>
                    <a:lnTo>
                      <a:pt x="8442" y="2033"/>
                    </a:lnTo>
                    <a:lnTo>
                      <a:pt x="8453" y="1963"/>
                    </a:lnTo>
                    <a:lnTo>
                      <a:pt x="8463" y="1894"/>
                    </a:lnTo>
                    <a:lnTo>
                      <a:pt x="8471" y="1825"/>
                    </a:lnTo>
                    <a:lnTo>
                      <a:pt x="8479" y="1756"/>
                    </a:lnTo>
                    <a:lnTo>
                      <a:pt x="8485" y="1686"/>
                    </a:lnTo>
                    <a:lnTo>
                      <a:pt x="8491" y="1616"/>
                    </a:lnTo>
                    <a:lnTo>
                      <a:pt x="8495" y="1546"/>
                    </a:lnTo>
                    <a:lnTo>
                      <a:pt x="8498" y="1474"/>
                    </a:lnTo>
                    <a:lnTo>
                      <a:pt x="8499" y="1403"/>
                    </a:lnTo>
                    <a:lnTo>
                      <a:pt x="8500" y="1332"/>
                    </a:lnTo>
                    <a:close/>
                    <a:moveTo>
                      <a:pt x="194" y="57"/>
                    </a:moveTo>
                    <a:lnTo>
                      <a:pt x="172" y="133"/>
                    </a:lnTo>
                    <a:lnTo>
                      <a:pt x="150" y="210"/>
                    </a:lnTo>
                    <a:lnTo>
                      <a:pt x="130" y="286"/>
                    </a:lnTo>
                    <a:lnTo>
                      <a:pt x="111" y="364"/>
                    </a:lnTo>
                    <a:lnTo>
                      <a:pt x="94" y="442"/>
                    </a:lnTo>
                    <a:lnTo>
                      <a:pt x="78" y="521"/>
                    </a:lnTo>
                    <a:lnTo>
                      <a:pt x="63" y="599"/>
                    </a:lnTo>
                    <a:lnTo>
                      <a:pt x="50" y="679"/>
                    </a:lnTo>
                    <a:lnTo>
                      <a:pt x="39" y="759"/>
                    </a:lnTo>
                    <a:lnTo>
                      <a:pt x="28" y="839"/>
                    </a:lnTo>
                    <a:lnTo>
                      <a:pt x="19" y="920"/>
                    </a:lnTo>
                    <a:lnTo>
                      <a:pt x="13" y="1001"/>
                    </a:lnTo>
                    <a:lnTo>
                      <a:pt x="7" y="1083"/>
                    </a:lnTo>
                    <a:lnTo>
                      <a:pt x="3" y="1165"/>
                    </a:lnTo>
                    <a:lnTo>
                      <a:pt x="1" y="1249"/>
                    </a:lnTo>
                    <a:lnTo>
                      <a:pt x="0" y="1332"/>
                    </a:lnTo>
                    <a:lnTo>
                      <a:pt x="1" y="1415"/>
                    </a:lnTo>
                    <a:lnTo>
                      <a:pt x="3" y="1497"/>
                    </a:lnTo>
                    <a:lnTo>
                      <a:pt x="7" y="1579"/>
                    </a:lnTo>
                    <a:lnTo>
                      <a:pt x="13" y="1661"/>
                    </a:lnTo>
                    <a:lnTo>
                      <a:pt x="19" y="1742"/>
                    </a:lnTo>
                    <a:lnTo>
                      <a:pt x="28" y="1823"/>
                    </a:lnTo>
                    <a:lnTo>
                      <a:pt x="39" y="1904"/>
                    </a:lnTo>
                    <a:lnTo>
                      <a:pt x="50" y="1984"/>
                    </a:lnTo>
                    <a:lnTo>
                      <a:pt x="63" y="2064"/>
                    </a:lnTo>
                    <a:lnTo>
                      <a:pt x="78" y="2143"/>
                    </a:lnTo>
                    <a:lnTo>
                      <a:pt x="94" y="2222"/>
                    </a:lnTo>
                    <a:lnTo>
                      <a:pt x="111" y="2299"/>
                    </a:lnTo>
                    <a:lnTo>
                      <a:pt x="130" y="2376"/>
                    </a:lnTo>
                    <a:lnTo>
                      <a:pt x="150" y="2454"/>
                    </a:lnTo>
                    <a:lnTo>
                      <a:pt x="172" y="2529"/>
                    </a:lnTo>
                    <a:lnTo>
                      <a:pt x="194" y="2605"/>
                    </a:lnTo>
                    <a:lnTo>
                      <a:pt x="202" y="2613"/>
                    </a:lnTo>
                    <a:lnTo>
                      <a:pt x="210" y="2620"/>
                    </a:lnTo>
                    <a:lnTo>
                      <a:pt x="218" y="2627"/>
                    </a:lnTo>
                    <a:lnTo>
                      <a:pt x="226" y="2634"/>
                    </a:lnTo>
                    <a:lnTo>
                      <a:pt x="233" y="2642"/>
                    </a:lnTo>
                    <a:lnTo>
                      <a:pt x="241" y="2648"/>
                    </a:lnTo>
                    <a:lnTo>
                      <a:pt x="249" y="2656"/>
                    </a:lnTo>
                    <a:lnTo>
                      <a:pt x="257" y="2663"/>
                    </a:lnTo>
                    <a:lnTo>
                      <a:pt x="231" y="2584"/>
                    </a:lnTo>
                    <a:lnTo>
                      <a:pt x="207" y="2505"/>
                    </a:lnTo>
                    <a:lnTo>
                      <a:pt x="186" y="2425"/>
                    </a:lnTo>
                    <a:lnTo>
                      <a:pt x="164" y="2344"/>
                    </a:lnTo>
                    <a:lnTo>
                      <a:pt x="146" y="2263"/>
                    </a:lnTo>
                    <a:lnTo>
                      <a:pt x="127" y="2181"/>
                    </a:lnTo>
                    <a:lnTo>
                      <a:pt x="111" y="2097"/>
                    </a:lnTo>
                    <a:lnTo>
                      <a:pt x="97" y="2014"/>
                    </a:lnTo>
                    <a:lnTo>
                      <a:pt x="84" y="1931"/>
                    </a:lnTo>
                    <a:lnTo>
                      <a:pt x="73" y="1847"/>
                    </a:lnTo>
                    <a:lnTo>
                      <a:pt x="64" y="1763"/>
                    </a:lnTo>
                    <a:lnTo>
                      <a:pt x="56" y="1677"/>
                    </a:lnTo>
                    <a:lnTo>
                      <a:pt x="50" y="1591"/>
                    </a:lnTo>
                    <a:lnTo>
                      <a:pt x="45" y="1506"/>
                    </a:lnTo>
                    <a:lnTo>
                      <a:pt x="42" y="1418"/>
                    </a:lnTo>
                    <a:lnTo>
                      <a:pt x="42" y="1332"/>
                    </a:lnTo>
                    <a:lnTo>
                      <a:pt x="42" y="1244"/>
                    </a:lnTo>
                    <a:lnTo>
                      <a:pt x="45" y="1158"/>
                    </a:lnTo>
                    <a:lnTo>
                      <a:pt x="50" y="1071"/>
                    </a:lnTo>
                    <a:lnTo>
                      <a:pt x="56" y="986"/>
                    </a:lnTo>
                    <a:lnTo>
                      <a:pt x="64" y="901"/>
                    </a:lnTo>
                    <a:lnTo>
                      <a:pt x="73" y="815"/>
                    </a:lnTo>
                    <a:lnTo>
                      <a:pt x="84" y="732"/>
                    </a:lnTo>
                    <a:lnTo>
                      <a:pt x="97" y="648"/>
                    </a:lnTo>
                    <a:lnTo>
                      <a:pt x="111" y="565"/>
                    </a:lnTo>
                    <a:lnTo>
                      <a:pt x="127" y="483"/>
                    </a:lnTo>
                    <a:lnTo>
                      <a:pt x="146" y="401"/>
                    </a:lnTo>
                    <a:lnTo>
                      <a:pt x="164" y="319"/>
                    </a:lnTo>
                    <a:lnTo>
                      <a:pt x="186" y="239"/>
                    </a:lnTo>
                    <a:lnTo>
                      <a:pt x="207" y="158"/>
                    </a:lnTo>
                    <a:lnTo>
                      <a:pt x="231" y="79"/>
                    </a:lnTo>
                    <a:lnTo>
                      <a:pt x="257" y="0"/>
                    </a:lnTo>
                    <a:lnTo>
                      <a:pt x="249" y="8"/>
                    </a:lnTo>
                    <a:lnTo>
                      <a:pt x="241" y="14"/>
                    </a:lnTo>
                    <a:lnTo>
                      <a:pt x="233" y="22"/>
                    </a:lnTo>
                    <a:lnTo>
                      <a:pt x="226" y="28"/>
                    </a:lnTo>
                    <a:lnTo>
                      <a:pt x="218" y="36"/>
                    </a:lnTo>
                    <a:lnTo>
                      <a:pt x="210" y="43"/>
                    </a:lnTo>
                    <a:lnTo>
                      <a:pt x="202" y="50"/>
                    </a:lnTo>
                    <a:lnTo>
                      <a:pt x="194" y="57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459160"/>
                <a:ext cx="3357720" cy="1077840"/>
              </a:xfrm>
              <a:custGeom>
                <a:avLst/>
                <a:gdLst/>
                <a:ahLst/>
                <a:rect l="l" t="t" r="r" b="b"/>
                <a:pathLst>
                  <a:path w="8460" h="2717">
                    <a:moveTo>
                      <a:pt x="8460" y="1359"/>
                    </a:moveTo>
                    <a:lnTo>
                      <a:pt x="8459" y="1273"/>
                    </a:lnTo>
                    <a:lnTo>
                      <a:pt x="8456" y="1189"/>
                    </a:lnTo>
                    <a:lnTo>
                      <a:pt x="8452" y="1105"/>
                    </a:lnTo>
                    <a:lnTo>
                      <a:pt x="8446" y="1021"/>
                    </a:lnTo>
                    <a:lnTo>
                      <a:pt x="8438" y="937"/>
                    </a:lnTo>
                    <a:lnTo>
                      <a:pt x="8430" y="854"/>
                    </a:lnTo>
                    <a:lnTo>
                      <a:pt x="8419" y="772"/>
                    </a:lnTo>
                    <a:lnTo>
                      <a:pt x="8407" y="690"/>
                    </a:lnTo>
                    <a:lnTo>
                      <a:pt x="8393" y="609"/>
                    </a:lnTo>
                    <a:lnTo>
                      <a:pt x="8378" y="528"/>
                    </a:lnTo>
                    <a:lnTo>
                      <a:pt x="8361" y="448"/>
                    </a:lnTo>
                    <a:lnTo>
                      <a:pt x="8342" y="368"/>
                    </a:lnTo>
                    <a:lnTo>
                      <a:pt x="8323" y="289"/>
                    </a:lnTo>
                    <a:lnTo>
                      <a:pt x="8301" y="211"/>
                    </a:lnTo>
                    <a:lnTo>
                      <a:pt x="8278" y="133"/>
                    </a:lnTo>
                    <a:lnTo>
                      <a:pt x="8255" y="55"/>
                    </a:lnTo>
                    <a:lnTo>
                      <a:pt x="8247" y="49"/>
                    </a:lnTo>
                    <a:lnTo>
                      <a:pt x="8240" y="41"/>
                    </a:lnTo>
                    <a:lnTo>
                      <a:pt x="8231" y="35"/>
                    </a:lnTo>
                    <a:lnTo>
                      <a:pt x="8223" y="27"/>
                    </a:lnTo>
                    <a:lnTo>
                      <a:pt x="8216" y="21"/>
                    </a:lnTo>
                    <a:lnTo>
                      <a:pt x="8208" y="13"/>
                    </a:lnTo>
                    <a:lnTo>
                      <a:pt x="8200" y="7"/>
                    </a:lnTo>
                    <a:lnTo>
                      <a:pt x="8192" y="0"/>
                    </a:lnTo>
                    <a:lnTo>
                      <a:pt x="8219" y="80"/>
                    </a:lnTo>
                    <a:lnTo>
                      <a:pt x="8244" y="161"/>
                    </a:lnTo>
                    <a:lnTo>
                      <a:pt x="8268" y="242"/>
                    </a:lnTo>
                    <a:lnTo>
                      <a:pt x="8289" y="325"/>
                    </a:lnTo>
                    <a:lnTo>
                      <a:pt x="8309" y="408"/>
                    </a:lnTo>
                    <a:lnTo>
                      <a:pt x="8328" y="491"/>
                    </a:lnTo>
                    <a:lnTo>
                      <a:pt x="8344" y="576"/>
                    </a:lnTo>
                    <a:lnTo>
                      <a:pt x="8359" y="660"/>
                    </a:lnTo>
                    <a:lnTo>
                      <a:pt x="8374" y="746"/>
                    </a:lnTo>
                    <a:lnTo>
                      <a:pt x="8385" y="832"/>
                    </a:lnTo>
                    <a:lnTo>
                      <a:pt x="8395" y="918"/>
                    </a:lnTo>
                    <a:lnTo>
                      <a:pt x="8403" y="1006"/>
                    </a:lnTo>
                    <a:lnTo>
                      <a:pt x="8409" y="1093"/>
                    </a:lnTo>
                    <a:lnTo>
                      <a:pt x="8415" y="1180"/>
                    </a:lnTo>
                    <a:lnTo>
                      <a:pt x="8417" y="1269"/>
                    </a:lnTo>
                    <a:lnTo>
                      <a:pt x="8418" y="1359"/>
                    </a:lnTo>
                    <a:lnTo>
                      <a:pt x="8418" y="1429"/>
                    </a:lnTo>
                    <a:lnTo>
                      <a:pt x="8416" y="1499"/>
                    </a:lnTo>
                    <a:lnTo>
                      <a:pt x="8412" y="1569"/>
                    </a:lnTo>
                    <a:lnTo>
                      <a:pt x="8408" y="1638"/>
                    </a:lnTo>
                    <a:lnTo>
                      <a:pt x="8404" y="1708"/>
                    </a:lnTo>
                    <a:lnTo>
                      <a:pt x="8397" y="1777"/>
                    </a:lnTo>
                    <a:lnTo>
                      <a:pt x="8390" y="1846"/>
                    </a:lnTo>
                    <a:lnTo>
                      <a:pt x="8381" y="1914"/>
                    </a:lnTo>
                    <a:lnTo>
                      <a:pt x="8371" y="1982"/>
                    </a:lnTo>
                    <a:lnTo>
                      <a:pt x="8361" y="2049"/>
                    </a:lnTo>
                    <a:lnTo>
                      <a:pt x="8349" y="2116"/>
                    </a:lnTo>
                    <a:lnTo>
                      <a:pt x="8337" y="2183"/>
                    </a:lnTo>
                    <a:lnTo>
                      <a:pt x="8323" y="2250"/>
                    </a:lnTo>
                    <a:lnTo>
                      <a:pt x="8308" y="2316"/>
                    </a:lnTo>
                    <a:lnTo>
                      <a:pt x="8291" y="2381"/>
                    </a:lnTo>
                    <a:lnTo>
                      <a:pt x="8274" y="2446"/>
                    </a:lnTo>
                    <a:lnTo>
                      <a:pt x="8315" y="2457"/>
                    </a:lnTo>
                    <a:lnTo>
                      <a:pt x="8332" y="2391"/>
                    </a:lnTo>
                    <a:lnTo>
                      <a:pt x="8348" y="2325"/>
                    </a:lnTo>
                    <a:lnTo>
                      <a:pt x="8363" y="2258"/>
                    </a:lnTo>
                    <a:lnTo>
                      <a:pt x="8377" y="2191"/>
                    </a:lnTo>
                    <a:lnTo>
                      <a:pt x="8390" y="2123"/>
                    </a:lnTo>
                    <a:lnTo>
                      <a:pt x="8402" y="2056"/>
                    </a:lnTo>
                    <a:lnTo>
                      <a:pt x="8412" y="1987"/>
                    </a:lnTo>
                    <a:lnTo>
                      <a:pt x="8422" y="1919"/>
                    </a:lnTo>
                    <a:lnTo>
                      <a:pt x="8431" y="1850"/>
                    </a:lnTo>
                    <a:lnTo>
                      <a:pt x="8438" y="1781"/>
                    </a:lnTo>
                    <a:lnTo>
                      <a:pt x="8445" y="1711"/>
                    </a:lnTo>
                    <a:lnTo>
                      <a:pt x="8450" y="1642"/>
                    </a:lnTo>
                    <a:lnTo>
                      <a:pt x="8455" y="1571"/>
                    </a:lnTo>
                    <a:lnTo>
                      <a:pt x="8457" y="1500"/>
                    </a:lnTo>
                    <a:lnTo>
                      <a:pt x="8459" y="1430"/>
                    </a:lnTo>
                    <a:lnTo>
                      <a:pt x="8460" y="1359"/>
                    </a:lnTo>
                    <a:close/>
                    <a:moveTo>
                      <a:pt x="206" y="55"/>
                    </a:moveTo>
                    <a:lnTo>
                      <a:pt x="182" y="133"/>
                    </a:lnTo>
                    <a:lnTo>
                      <a:pt x="159" y="211"/>
                    </a:lnTo>
                    <a:lnTo>
                      <a:pt x="138" y="289"/>
                    </a:lnTo>
                    <a:lnTo>
                      <a:pt x="118" y="368"/>
                    </a:lnTo>
                    <a:lnTo>
                      <a:pt x="100" y="448"/>
                    </a:lnTo>
                    <a:lnTo>
                      <a:pt x="83" y="528"/>
                    </a:lnTo>
                    <a:lnTo>
                      <a:pt x="67" y="609"/>
                    </a:lnTo>
                    <a:lnTo>
                      <a:pt x="53" y="690"/>
                    </a:lnTo>
                    <a:lnTo>
                      <a:pt x="41" y="772"/>
                    </a:lnTo>
                    <a:lnTo>
                      <a:pt x="31" y="854"/>
                    </a:lnTo>
                    <a:lnTo>
                      <a:pt x="22" y="937"/>
                    </a:lnTo>
                    <a:lnTo>
                      <a:pt x="14" y="1021"/>
                    </a:lnTo>
                    <a:lnTo>
                      <a:pt x="8" y="1105"/>
                    </a:lnTo>
                    <a:lnTo>
                      <a:pt x="4" y="1189"/>
                    </a:lnTo>
                    <a:lnTo>
                      <a:pt x="2" y="1273"/>
                    </a:lnTo>
                    <a:lnTo>
                      <a:pt x="0" y="1359"/>
                    </a:lnTo>
                    <a:lnTo>
                      <a:pt x="2" y="1444"/>
                    </a:lnTo>
                    <a:lnTo>
                      <a:pt x="4" y="1528"/>
                    </a:lnTo>
                    <a:lnTo>
                      <a:pt x="8" y="1612"/>
                    </a:lnTo>
                    <a:lnTo>
                      <a:pt x="14" y="1696"/>
                    </a:lnTo>
                    <a:lnTo>
                      <a:pt x="22" y="1780"/>
                    </a:lnTo>
                    <a:lnTo>
                      <a:pt x="31" y="1862"/>
                    </a:lnTo>
                    <a:lnTo>
                      <a:pt x="41" y="1945"/>
                    </a:lnTo>
                    <a:lnTo>
                      <a:pt x="53" y="2026"/>
                    </a:lnTo>
                    <a:lnTo>
                      <a:pt x="67" y="2108"/>
                    </a:lnTo>
                    <a:lnTo>
                      <a:pt x="83" y="2188"/>
                    </a:lnTo>
                    <a:lnTo>
                      <a:pt x="100" y="2269"/>
                    </a:lnTo>
                    <a:lnTo>
                      <a:pt x="118" y="2349"/>
                    </a:lnTo>
                    <a:lnTo>
                      <a:pt x="138" y="2428"/>
                    </a:lnTo>
                    <a:lnTo>
                      <a:pt x="159" y="2506"/>
                    </a:lnTo>
                    <a:lnTo>
                      <a:pt x="182" y="2584"/>
                    </a:lnTo>
                    <a:lnTo>
                      <a:pt x="206" y="2661"/>
                    </a:lnTo>
                    <a:lnTo>
                      <a:pt x="213" y="2669"/>
                    </a:lnTo>
                    <a:lnTo>
                      <a:pt x="221" y="2675"/>
                    </a:lnTo>
                    <a:lnTo>
                      <a:pt x="229" y="2683"/>
                    </a:lnTo>
                    <a:lnTo>
                      <a:pt x="237" y="2689"/>
                    </a:lnTo>
                    <a:lnTo>
                      <a:pt x="245" y="2697"/>
                    </a:lnTo>
                    <a:lnTo>
                      <a:pt x="252" y="2703"/>
                    </a:lnTo>
                    <a:lnTo>
                      <a:pt x="261" y="2711"/>
                    </a:lnTo>
                    <a:lnTo>
                      <a:pt x="268" y="2717"/>
                    </a:lnTo>
                    <a:lnTo>
                      <a:pt x="241" y="2637"/>
                    </a:lnTo>
                    <a:lnTo>
                      <a:pt x="217" y="2556"/>
                    </a:lnTo>
                    <a:lnTo>
                      <a:pt x="193" y="2474"/>
                    </a:lnTo>
                    <a:lnTo>
                      <a:pt x="171" y="2392"/>
                    </a:lnTo>
                    <a:lnTo>
                      <a:pt x="151" y="2309"/>
                    </a:lnTo>
                    <a:lnTo>
                      <a:pt x="132" y="2226"/>
                    </a:lnTo>
                    <a:lnTo>
                      <a:pt x="116" y="2142"/>
                    </a:lnTo>
                    <a:lnTo>
                      <a:pt x="101" y="2056"/>
                    </a:lnTo>
                    <a:lnTo>
                      <a:pt x="87" y="1971"/>
                    </a:lnTo>
                    <a:lnTo>
                      <a:pt x="75" y="1885"/>
                    </a:lnTo>
                    <a:lnTo>
                      <a:pt x="65" y="1798"/>
                    </a:lnTo>
                    <a:lnTo>
                      <a:pt x="58" y="1712"/>
                    </a:lnTo>
                    <a:lnTo>
                      <a:pt x="51" y="1624"/>
                    </a:lnTo>
                    <a:lnTo>
                      <a:pt x="46" y="1536"/>
                    </a:lnTo>
                    <a:lnTo>
                      <a:pt x="44" y="1447"/>
                    </a:lnTo>
                    <a:lnTo>
                      <a:pt x="43" y="1359"/>
                    </a:lnTo>
                    <a:lnTo>
                      <a:pt x="44" y="1269"/>
                    </a:lnTo>
                    <a:lnTo>
                      <a:pt x="46" y="1180"/>
                    </a:lnTo>
                    <a:lnTo>
                      <a:pt x="51" y="1093"/>
                    </a:lnTo>
                    <a:lnTo>
                      <a:pt x="58" y="1006"/>
                    </a:lnTo>
                    <a:lnTo>
                      <a:pt x="65" y="918"/>
                    </a:lnTo>
                    <a:lnTo>
                      <a:pt x="75" y="832"/>
                    </a:lnTo>
                    <a:lnTo>
                      <a:pt x="87" y="746"/>
                    </a:lnTo>
                    <a:lnTo>
                      <a:pt x="101" y="660"/>
                    </a:lnTo>
                    <a:lnTo>
                      <a:pt x="116" y="576"/>
                    </a:lnTo>
                    <a:lnTo>
                      <a:pt x="132" y="491"/>
                    </a:lnTo>
                    <a:lnTo>
                      <a:pt x="151" y="408"/>
                    </a:lnTo>
                    <a:lnTo>
                      <a:pt x="171" y="325"/>
                    </a:lnTo>
                    <a:lnTo>
                      <a:pt x="193" y="242"/>
                    </a:lnTo>
                    <a:lnTo>
                      <a:pt x="217" y="161"/>
                    </a:lnTo>
                    <a:lnTo>
                      <a:pt x="241" y="80"/>
                    </a:lnTo>
                    <a:lnTo>
                      <a:pt x="268" y="0"/>
                    </a:lnTo>
                    <a:lnTo>
                      <a:pt x="261" y="7"/>
                    </a:lnTo>
                    <a:lnTo>
                      <a:pt x="252" y="13"/>
                    </a:lnTo>
                    <a:lnTo>
                      <a:pt x="245" y="21"/>
                    </a:lnTo>
                    <a:lnTo>
                      <a:pt x="237" y="27"/>
                    </a:lnTo>
                    <a:lnTo>
                      <a:pt x="229" y="35"/>
                    </a:lnTo>
                    <a:lnTo>
                      <a:pt x="221" y="41"/>
                    </a:lnTo>
                    <a:lnTo>
                      <a:pt x="213" y="49"/>
                    </a:lnTo>
                    <a:lnTo>
                      <a:pt x="206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03400" y="2446200"/>
                <a:ext cx="3340080" cy="1101960"/>
              </a:xfrm>
              <a:custGeom>
                <a:avLst/>
                <a:gdLst/>
                <a:ahLst/>
                <a:rect l="l" t="t" r="r" b="b"/>
                <a:pathLst>
                  <a:path w="8416" h="2772">
                    <a:moveTo>
                      <a:pt x="8416" y="1387"/>
                    </a:moveTo>
                    <a:lnTo>
                      <a:pt x="8415" y="1299"/>
                    </a:lnTo>
                    <a:lnTo>
                      <a:pt x="8413" y="1213"/>
                    </a:lnTo>
                    <a:lnTo>
                      <a:pt x="8409" y="1126"/>
                    </a:lnTo>
                    <a:lnTo>
                      <a:pt x="8402" y="1041"/>
                    </a:lnTo>
                    <a:lnTo>
                      <a:pt x="8395" y="956"/>
                    </a:lnTo>
                    <a:lnTo>
                      <a:pt x="8385" y="870"/>
                    </a:lnTo>
                    <a:lnTo>
                      <a:pt x="8374" y="787"/>
                    </a:lnTo>
                    <a:lnTo>
                      <a:pt x="8361" y="703"/>
                    </a:lnTo>
                    <a:lnTo>
                      <a:pt x="8347" y="620"/>
                    </a:lnTo>
                    <a:lnTo>
                      <a:pt x="8331" y="538"/>
                    </a:lnTo>
                    <a:lnTo>
                      <a:pt x="8313" y="456"/>
                    </a:lnTo>
                    <a:lnTo>
                      <a:pt x="8294" y="374"/>
                    </a:lnTo>
                    <a:lnTo>
                      <a:pt x="8273" y="294"/>
                    </a:lnTo>
                    <a:lnTo>
                      <a:pt x="8251" y="213"/>
                    </a:lnTo>
                    <a:lnTo>
                      <a:pt x="8226" y="134"/>
                    </a:lnTo>
                    <a:lnTo>
                      <a:pt x="8201" y="55"/>
                    </a:lnTo>
                    <a:lnTo>
                      <a:pt x="8194" y="49"/>
                    </a:lnTo>
                    <a:lnTo>
                      <a:pt x="8186" y="41"/>
                    </a:lnTo>
                    <a:lnTo>
                      <a:pt x="8178" y="35"/>
                    </a:lnTo>
                    <a:lnTo>
                      <a:pt x="8170" y="27"/>
                    </a:lnTo>
                    <a:lnTo>
                      <a:pt x="8162" y="20"/>
                    </a:lnTo>
                    <a:lnTo>
                      <a:pt x="8154" y="14"/>
                    </a:lnTo>
                    <a:lnTo>
                      <a:pt x="8146" y="6"/>
                    </a:lnTo>
                    <a:lnTo>
                      <a:pt x="8139" y="0"/>
                    </a:lnTo>
                    <a:lnTo>
                      <a:pt x="8166" y="82"/>
                    </a:lnTo>
                    <a:lnTo>
                      <a:pt x="8193" y="164"/>
                    </a:lnTo>
                    <a:lnTo>
                      <a:pt x="8216" y="247"/>
                    </a:lnTo>
                    <a:lnTo>
                      <a:pt x="8240" y="332"/>
                    </a:lnTo>
                    <a:lnTo>
                      <a:pt x="8261" y="416"/>
                    </a:lnTo>
                    <a:lnTo>
                      <a:pt x="8280" y="501"/>
                    </a:lnTo>
                    <a:lnTo>
                      <a:pt x="8299" y="587"/>
                    </a:lnTo>
                    <a:lnTo>
                      <a:pt x="8314" y="674"/>
                    </a:lnTo>
                    <a:lnTo>
                      <a:pt x="8328" y="761"/>
                    </a:lnTo>
                    <a:lnTo>
                      <a:pt x="8341" y="849"/>
                    </a:lnTo>
                    <a:lnTo>
                      <a:pt x="8350" y="937"/>
                    </a:lnTo>
                    <a:lnTo>
                      <a:pt x="8359" y="1026"/>
                    </a:lnTo>
                    <a:lnTo>
                      <a:pt x="8367" y="1116"/>
                    </a:lnTo>
                    <a:lnTo>
                      <a:pt x="8371" y="1205"/>
                    </a:lnTo>
                    <a:lnTo>
                      <a:pt x="8374" y="1296"/>
                    </a:lnTo>
                    <a:lnTo>
                      <a:pt x="8375" y="1387"/>
                    </a:lnTo>
                    <a:lnTo>
                      <a:pt x="8374" y="1457"/>
                    </a:lnTo>
                    <a:lnTo>
                      <a:pt x="8373" y="1526"/>
                    </a:lnTo>
                    <a:lnTo>
                      <a:pt x="8370" y="1596"/>
                    </a:lnTo>
                    <a:lnTo>
                      <a:pt x="8366" y="1665"/>
                    </a:lnTo>
                    <a:lnTo>
                      <a:pt x="8360" y="1734"/>
                    </a:lnTo>
                    <a:lnTo>
                      <a:pt x="8355" y="1802"/>
                    </a:lnTo>
                    <a:lnTo>
                      <a:pt x="8347" y="1871"/>
                    </a:lnTo>
                    <a:lnTo>
                      <a:pt x="8339" y="1939"/>
                    </a:lnTo>
                    <a:lnTo>
                      <a:pt x="8329" y="2007"/>
                    </a:lnTo>
                    <a:lnTo>
                      <a:pt x="8318" y="2074"/>
                    </a:lnTo>
                    <a:lnTo>
                      <a:pt x="8306" y="2141"/>
                    </a:lnTo>
                    <a:lnTo>
                      <a:pt x="8294" y="2207"/>
                    </a:lnTo>
                    <a:lnTo>
                      <a:pt x="8280" y="2273"/>
                    </a:lnTo>
                    <a:lnTo>
                      <a:pt x="8265" y="2339"/>
                    </a:lnTo>
                    <a:lnTo>
                      <a:pt x="8249" y="2404"/>
                    </a:lnTo>
                    <a:lnTo>
                      <a:pt x="8233" y="2469"/>
                    </a:lnTo>
                    <a:lnTo>
                      <a:pt x="8273" y="2480"/>
                    </a:lnTo>
                    <a:lnTo>
                      <a:pt x="8290" y="2415"/>
                    </a:lnTo>
                    <a:lnTo>
                      <a:pt x="8306" y="2348"/>
                    </a:lnTo>
                    <a:lnTo>
                      <a:pt x="8321" y="2282"/>
                    </a:lnTo>
                    <a:lnTo>
                      <a:pt x="8334" y="2215"/>
                    </a:lnTo>
                    <a:lnTo>
                      <a:pt x="8347" y="2148"/>
                    </a:lnTo>
                    <a:lnTo>
                      <a:pt x="8359" y="2080"/>
                    </a:lnTo>
                    <a:lnTo>
                      <a:pt x="8370" y="2013"/>
                    </a:lnTo>
                    <a:lnTo>
                      <a:pt x="8380" y="1944"/>
                    </a:lnTo>
                    <a:lnTo>
                      <a:pt x="8388" y="1876"/>
                    </a:lnTo>
                    <a:lnTo>
                      <a:pt x="8396" y="1807"/>
                    </a:lnTo>
                    <a:lnTo>
                      <a:pt x="8402" y="1738"/>
                    </a:lnTo>
                    <a:lnTo>
                      <a:pt x="8408" y="1667"/>
                    </a:lnTo>
                    <a:lnTo>
                      <a:pt x="8411" y="1598"/>
                    </a:lnTo>
                    <a:lnTo>
                      <a:pt x="8414" y="1528"/>
                    </a:lnTo>
                    <a:lnTo>
                      <a:pt x="8416" y="1457"/>
                    </a:lnTo>
                    <a:lnTo>
                      <a:pt x="8416" y="1387"/>
                    </a:lnTo>
                    <a:close/>
                    <a:moveTo>
                      <a:pt x="215" y="55"/>
                    </a:moveTo>
                    <a:lnTo>
                      <a:pt x="189" y="134"/>
                    </a:lnTo>
                    <a:lnTo>
                      <a:pt x="165" y="213"/>
                    </a:lnTo>
                    <a:lnTo>
                      <a:pt x="144" y="294"/>
                    </a:lnTo>
                    <a:lnTo>
                      <a:pt x="122" y="374"/>
                    </a:lnTo>
                    <a:lnTo>
                      <a:pt x="104" y="456"/>
                    </a:lnTo>
                    <a:lnTo>
                      <a:pt x="85" y="538"/>
                    </a:lnTo>
                    <a:lnTo>
                      <a:pt x="69" y="620"/>
                    </a:lnTo>
                    <a:lnTo>
                      <a:pt x="55" y="703"/>
                    </a:lnTo>
                    <a:lnTo>
                      <a:pt x="42" y="787"/>
                    </a:lnTo>
                    <a:lnTo>
                      <a:pt x="31" y="870"/>
                    </a:lnTo>
                    <a:lnTo>
                      <a:pt x="22" y="956"/>
                    </a:lnTo>
                    <a:lnTo>
                      <a:pt x="14" y="1041"/>
                    </a:lnTo>
                    <a:lnTo>
                      <a:pt x="8" y="1126"/>
                    </a:lnTo>
                    <a:lnTo>
                      <a:pt x="3" y="1213"/>
                    </a:lnTo>
                    <a:lnTo>
                      <a:pt x="0" y="1299"/>
                    </a:lnTo>
                    <a:lnTo>
                      <a:pt x="0" y="1387"/>
                    </a:lnTo>
                    <a:lnTo>
                      <a:pt x="0" y="1473"/>
                    </a:lnTo>
                    <a:lnTo>
                      <a:pt x="3" y="1561"/>
                    </a:lnTo>
                    <a:lnTo>
                      <a:pt x="8" y="1646"/>
                    </a:lnTo>
                    <a:lnTo>
                      <a:pt x="14" y="1732"/>
                    </a:lnTo>
                    <a:lnTo>
                      <a:pt x="22" y="1818"/>
                    </a:lnTo>
                    <a:lnTo>
                      <a:pt x="31" y="1902"/>
                    </a:lnTo>
                    <a:lnTo>
                      <a:pt x="42" y="1986"/>
                    </a:lnTo>
                    <a:lnTo>
                      <a:pt x="55" y="2069"/>
                    </a:lnTo>
                    <a:lnTo>
                      <a:pt x="69" y="2152"/>
                    </a:lnTo>
                    <a:lnTo>
                      <a:pt x="85" y="2236"/>
                    </a:lnTo>
                    <a:lnTo>
                      <a:pt x="104" y="2318"/>
                    </a:lnTo>
                    <a:lnTo>
                      <a:pt x="122" y="2399"/>
                    </a:lnTo>
                    <a:lnTo>
                      <a:pt x="144" y="2480"/>
                    </a:lnTo>
                    <a:lnTo>
                      <a:pt x="165" y="2560"/>
                    </a:lnTo>
                    <a:lnTo>
                      <a:pt x="189" y="2639"/>
                    </a:lnTo>
                    <a:lnTo>
                      <a:pt x="215" y="2718"/>
                    </a:lnTo>
                    <a:lnTo>
                      <a:pt x="223" y="2725"/>
                    </a:lnTo>
                    <a:lnTo>
                      <a:pt x="230" y="2731"/>
                    </a:lnTo>
                    <a:lnTo>
                      <a:pt x="239" y="2739"/>
                    </a:lnTo>
                    <a:lnTo>
                      <a:pt x="246" y="2745"/>
                    </a:lnTo>
                    <a:lnTo>
                      <a:pt x="254" y="2752"/>
                    </a:lnTo>
                    <a:lnTo>
                      <a:pt x="263" y="2759"/>
                    </a:lnTo>
                    <a:lnTo>
                      <a:pt x="270" y="2766"/>
                    </a:lnTo>
                    <a:lnTo>
                      <a:pt x="278" y="2772"/>
                    </a:lnTo>
                    <a:lnTo>
                      <a:pt x="251" y="2691"/>
                    </a:lnTo>
                    <a:lnTo>
                      <a:pt x="224" y="2608"/>
                    </a:lnTo>
                    <a:lnTo>
                      <a:pt x="199" y="2525"/>
                    </a:lnTo>
                    <a:lnTo>
                      <a:pt x="176" y="2442"/>
                    </a:lnTo>
                    <a:lnTo>
                      <a:pt x="156" y="2357"/>
                    </a:lnTo>
                    <a:lnTo>
                      <a:pt x="136" y="2271"/>
                    </a:lnTo>
                    <a:lnTo>
                      <a:pt x="118" y="2186"/>
                    </a:lnTo>
                    <a:lnTo>
                      <a:pt x="103" y="2099"/>
                    </a:lnTo>
                    <a:lnTo>
                      <a:pt x="89" y="2012"/>
                    </a:lnTo>
                    <a:lnTo>
                      <a:pt x="76" y="1925"/>
                    </a:lnTo>
                    <a:lnTo>
                      <a:pt x="65" y="1836"/>
                    </a:lnTo>
                    <a:lnTo>
                      <a:pt x="57" y="1747"/>
                    </a:lnTo>
                    <a:lnTo>
                      <a:pt x="50" y="1658"/>
                    </a:lnTo>
                    <a:lnTo>
                      <a:pt x="45" y="1568"/>
                    </a:lnTo>
                    <a:lnTo>
                      <a:pt x="42" y="1477"/>
                    </a:lnTo>
                    <a:lnTo>
                      <a:pt x="41" y="1387"/>
                    </a:lnTo>
                    <a:lnTo>
                      <a:pt x="42" y="1296"/>
                    </a:lnTo>
                    <a:lnTo>
                      <a:pt x="45" y="1205"/>
                    </a:lnTo>
                    <a:lnTo>
                      <a:pt x="50" y="1116"/>
                    </a:lnTo>
                    <a:lnTo>
                      <a:pt x="57" y="1026"/>
                    </a:lnTo>
                    <a:lnTo>
                      <a:pt x="65" y="937"/>
                    </a:lnTo>
                    <a:lnTo>
                      <a:pt x="76" y="849"/>
                    </a:lnTo>
                    <a:lnTo>
                      <a:pt x="89" y="760"/>
                    </a:lnTo>
                    <a:lnTo>
                      <a:pt x="103" y="674"/>
                    </a:lnTo>
                    <a:lnTo>
                      <a:pt x="118" y="587"/>
                    </a:lnTo>
                    <a:lnTo>
                      <a:pt x="136" y="501"/>
                    </a:lnTo>
                    <a:lnTo>
                      <a:pt x="156" y="416"/>
                    </a:lnTo>
                    <a:lnTo>
                      <a:pt x="176" y="332"/>
                    </a:lnTo>
                    <a:lnTo>
                      <a:pt x="199" y="247"/>
                    </a:lnTo>
                    <a:lnTo>
                      <a:pt x="224" y="164"/>
                    </a:lnTo>
                    <a:lnTo>
                      <a:pt x="251" y="82"/>
                    </a:lnTo>
                    <a:lnTo>
                      <a:pt x="278" y="0"/>
                    </a:lnTo>
                    <a:lnTo>
                      <a:pt x="270" y="6"/>
                    </a:lnTo>
                    <a:lnTo>
                      <a:pt x="263" y="14"/>
                    </a:lnTo>
                    <a:lnTo>
                      <a:pt x="254" y="20"/>
                    </a:lnTo>
                    <a:lnTo>
                      <a:pt x="246" y="27"/>
                    </a:lnTo>
                    <a:lnTo>
                      <a:pt x="239" y="35"/>
                    </a:lnTo>
                    <a:lnTo>
                      <a:pt x="230" y="41"/>
                    </a:lnTo>
                    <a:lnTo>
                      <a:pt x="223" y="49"/>
                    </a:lnTo>
                    <a:lnTo>
                      <a:pt x="215" y="55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911320" y="2436840"/>
                <a:ext cx="3324240" cy="1120680"/>
              </a:xfrm>
              <a:custGeom>
                <a:avLst/>
                <a:gdLst/>
                <a:ahLst/>
                <a:rect l="l" t="t" r="r" b="b"/>
                <a:pathLst>
                  <a:path w="8375" h="2824">
                    <a:moveTo>
                      <a:pt x="8375" y="1413"/>
                    </a:moveTo>
                    <a:lnTo>
                      <a:pt x="8374" y="1323"/>
                    </a:lnTo>
                    <a:lnTo>
                      <a:pt x="8372" y="1234"/>
                    </a:lnTo>
                    <a:lnTo>
                      <a:pt x="8366" y="1147"/>
                    </a:lnTo>
                    <a:lnTo>
                      <a:pt x="8360" y="1060"/>
                    </a:lnTo>
                    <a:lnTo>
                      <a:pt x="8352" y="972"/>
                    </a:lnTo>
                    <a:lnTo>
                      <a:pt x="8342" y="886"/>
                    </a:lnTo>
                    <a:lnTo>
                      <a:pt x="8331" y="800"/>
                    </a:lnTo>
                    <a:lnTo>
                      <a:pt x="8316" y="714"/>
                    </a:lnTo>
                    <a:lnTo>
                      <a:pt x="8301" y="630"/>
                    </a:lnTo>
                    <a:lnTo>
                      <a:pt x="8285" y="545"/>
                    </a:lnTo>
                    <a:lnTo>
                      <a:pt x="8266" y="462"/>
                    </a:lnTo>
                    <a:lnTo>
                      <a:pt x="8246" y="379"/>
                    </a:lnTo>
                    <a:lnTo>
                      <a:pt x="8225" y="296"/>
                    </a:lnTo>
                    <a:lnTo>
                      <a:pt x="8201" y="215"/>
                    </a:lnTo>
                    <a:lnTo>
                      <a:pt x="8176" y="134"/>
                    </a:lnTo>
                    <a:lnTo>
                      <a:pt x="8149" y="54"/>
                    </a:lnTo>
                    <a:lnTo>
                      <a:pt x="8141" y="46"/>
                    </a:lnTo>
                    <a:lnTo>
                      <a:pt x="8134" y="40"/>
                    </a:lnTo>
                    <a:lnTo>
                      <a:pt x="8125" y="34"/>
                    </a:lnTo>
                    <a:lnTo>
                      <a:pt x="8118" y="27"/>
                    </a:lnTo>
                    <a:lnTo>
                      <a:pt x="8110" y="21"/>
                    </a:lnTo>
                    <a:lnTo>
                      <a:pt x="8101" y="13"/>
                    </a:lnTo>
                    <a:lnTo>
                      <a:pt x="8094" y="7"/>
                    </a:lnTo>
                    <a:lnTo>
                      <a:pt x="8086" y="0"/>
                    </a:lnTo>
                    <a:lnTo>
                      <a:pt x="8115" y="83"/>
                    </a:lnTo>
                    <a:lnTo>
                      <a:pt x="8142" y="167"/>
                    </a:lnTo>
                    <a:lnTo>
                      <a:pt x="8168" y="252"/>
                    </a:lnTo>
                    <a:lnTo>
                      <a:pt x="8192" y="337"/>
                    </a:lnTo>
                    <a:lnTo>
                      <a:pt x="8214" y="423"/>
                    </a:lnTo>
                    <a:lnTo>
                      <a:pt x="8234" y="510"/>
                    </a:lnTo>
                    <a:lnTo>
                      <a:pt x="8253" y="597"/>
                    </a:lnTo>
                    <a:lnTo>
                      <a:pt x="8270" y="686"/>
                    </a:lnTo>
                    <a:lnTo>
                      <a:pt x="8284" y="774"/>
                    </a:lnTo>
                    <a:lnTo>
                      <a:pt x="8297" y="864"/>
                    </a:lnTo>
                    <a:lnTo>
                      <a:pt x="8308" y="954"/>
                    </a:lnTo>
                    <a:lnTo>
                      <a:pt x="8318" y="1044"/>
                    </a:lnTo>
                    <a:lnTo>
                      <a:pt x="8324" y="1136"/>
                    </a:lnTo>
                    <a:lnTo>
                      <a:pt x="8329" y="1227"/>
                    </a:lnTo>
                    <a:lnTo>
                      <a:pt x="8333" y="1320"/>
                    </a:lnTo>
                    <a:lnTo>
                      <a:pt x="8333" y="1413"/>
                    </a:lnTo>
                    <a:lnTo>
                      <a:pt x="8333" y="1482"/>
                    </a:lnTo>
                    <a:lnTo>
                      <a:pt x="8331" y="1552"/>
                    </a:lnTo>
                    <a:lnTo>
                      <a:pt x="8328" y="1621"/>
                    </a:lnTo>
                    <a:lnTo>
                      <a:pt x="8324" y="1689"/>
                    </a:lnTo>
                    <a:lnTo>
                      <a:pt x="8319" y="1758"/>
                    </a:lnTo>
                    <a:lnTo>
                      <a:pt x="8312" y="1826"/>
                    </a:lnTo>
                    <a:lnTo>
                      <a:pt x="8306" y="1894"/>
                    </a:lnTo>
                    <a:lnTo>
                      <a:pt x="8297" y="1962"/>
                    </a:lnTo>
                    <a:lnTo>
                      <a:pt x="8287" y="2029"/>
                    </a:lnTo>
                    <a:lnTo>
                      <a:pt x="8276" y="2096"/>
                    </a:lnTo>
                    <a:lnTo>
                      <a:pt x="8265" y="2162"/>
                    </a:lnTo>
                    <a:lnTo>
                      <a:pt x="8253" y="2229"/>
                    </a:lnTo>
                    <a:lnTo>
                      <a:pt x="8239" y="2295"/>
                    </a:lnTo>
                    <a:lnTo>
                      <a:pt x="8224" y="2360"/>
                    </a:lnTo>
                    <a:lnTo>
                      <a:pt x="8208" y="2425"/>
                    </a:lnTo>
                    <a:lnTo>
                      <a:pt x="8191" y="2489"/>
                    </a:lnTo>
                    <a:lnTo>
                      <a:pt x="8231" y="2500"/>
                    </a:lnTo>
                    <a:lnTo>
                      <a:pt x="8248" y="2435"/>
                    </a:lnTo>
                    <a:lnTo>
                      <a:pt x="8265" y="2370"/>
                    </a:lnTo>
                    <a:lnTo>
                      <a:pt x="8280" y="2304"/>
                    </a:lnTo>
                    <a:lnTo>
                      <a:pt x="8294" y="2237"/>
                    </a:lnTo>
                    <a:lnTo>
                      <a:pt x="8306" y="2170"/>
                    </a:lnTo>
                    <a:lnTo>
                      <a:pt x="8318" y="2103"/>
                    </a:lnTo>
                    <a:lnTo>
                      <a:pt x="8328" y="2036"/>
                    </a:lnTo>
                    <a:lnTo>
                      <a:pt x="8338" y="1968"/>
                    </a:lnTo>
                    <a:lnTo>
                      <a:pt x="8347" y="1900"/>
                    </a:lnTo>
                    <a:lnTo>
                      <a:pt x="8354" y="1831"/>
                    </a:lnTo>
                    <a:lnTo>
                      <a:pt x="8361" y="1762"/>
                    </a:lnTo>
                    <a:lnTo>
                      <a:pt x="8365" y="1692"/>
                    </a:lnTo>
                    <a:lnTo>
                      <a:pt x="8369" y="1623"/>
                    </a:lnTo>
                    <a:lnTo>
                      <a:pt x="8373" y="1553"/>
                    </a:lnTo>
                    <a:lnTo>
                      <a:pt x="8375" y="1483"/>
                    </a:lnTo>
                    <a:lnTo>
                      <a:pt x="8375" y="1413"/>
                    </a:lnTo>
                    <a:close/>
                    <a:moveTo>
                      <a:pt x="225" y="54"/>
                    </a:moveTo>
                    <a:lnTo>
                      <a:pt x="198" y="134"/>
                    </a:lnTo>
                    <a:lnTo>
                      <a:pt x="174" y="215"/>
                    </a:lnTo>
                    <a:lnTo>
                      <a:pt x="150" y="296"/>
                    </a:lnTo>
                    <a:lnTo>
                      <a:pt x="128" y="379"/>
                    </a:lnTo>
                    <a:lnTo>
                      <a:pt x="108" y="462"/>
                    </a:lnTo>
                    <a:lnTo>
                      <a:pt x="89" y="545"/>
                    </a:lnTo>
                    <a:lnTo>
                      <a:pt x="73" y="630"/>
                    </a:lnTo>
                    <a:lnTo>
                      <a:pt x="58" y="714"/>
                    </a:lnTo>
                    <a:lnTo>
                      <a:pt x="44" y="800"/>
                    </a:lnTo>
                    <a:lnTo>
                      <a:pt x="32" y="886"/>
                    </a:lnTo>
                    <a:lnTo>
                      <a:pt x="22" y="972"/>
                    </a:lnTo>
                    <a:lnTo>
                      <a:pt x="15" y="1060"/>
                    </a:lnTo>
                    <a:lnTo>
                      <a:pt x="8" y="1147"/>
                    </a:lnTo>
                    <a:lnTo>
                      <a:pt x="3" y="1234"/>
                    </a:lnTo>
                    <a:lnTo>
                      <a:pt x="1" y="1323"/>
                    </a:lnTo>
                    <a:lnTo>
                      <a:pt x="0" y="1413"/>
                    </a:lnTo>
                    <a:lnTo>
                      <a:pt x="1" y="1501"/>
                    </a:lnTo>
                    <a:lnTo>
                      <a:pt x="3" y="1590"/>
                    </a:lnTo>
                    <a:lnTo>
                      <a:pt x="8" y="1678"/>
                    </a:lnTo>
                    <a:lnTo>
                      <a:pt x="15" y="1766"/>
                    </a:lnTo>
                    <a:lnTo>
                      <a:pt x="22" y="1852"/>
                    </a:lnTo>
                    <a:lnTo>
                      <a:pt x="32" y="1939"/>
                    </a:lnTo>
                    <a:lnTo>
                      <a:pt x="44" y="2025"/>
                    </a:lnTo>
                    <a:lnTo>
                      <a:pt x="58" y="2110"/>
                    </a:lnTo>
                    <a:lnTo>
                      <a:pt x="73" y="2196"/>
                    </a:lnTo>
                    <a:lnTo>
                      <a:pt x="89" y="2280"/>
                    </a:lnTo>
                    <a:lnTo>
                      <a:pt x="108" y="2363"/>
                    </a:lnTo>
                    <a:lnTo>
                      <a:pt x="128" y="2446"/>
                    </a:lnTo>
                    <a:lnTo>
                      <a:pt x="150" y="2528"/>
                    </a:lnTo>
                    <a:lnTo>
                      <a:pt x="174" y="2610"/>
                    </a:lnTo>
                    <a:lnTo>
                      <a:pt x="198" y="2691"/>
                    </a:lnTo>
                    <a:lnTo>
                      <a:pt x="225" y="2771"/>
                    </a:lnTo>
                    <a:lnTo>
                      <a:pt x="233" y="2778"/>
                    </a:lnTo>
                    <a:lnTo>
                      <a:pt x="241" y="2784"/>
                    </a:lnTo>
                    <a:lnTo>
                      <a:pt x="249" y="2792"/>
                    </a:lnTo>
                    <a:lnTo>
                      <a:pt x="257" y="2798"/>
                    </a:lnTo>
                    <a:lnTo>
                      <a:pt x="264" y="2805"/>
                    </a:lnTo>
                    <a:lnTo>
                      <a:pt x="272" y="2811"/>
                    </a:lnTo>
                    <a:lnTo>
                      <a:pt x="281" y="2818"/>
                    </a:lnTo>
                    <a:lnTo>
                      <a:pt x="288" y="2824"/>
                    </a:lnTo>
                    <a:lnTo>
                      <a:pt x="259" y="2741"/>
                    </a:lnTo>
                    <a:lnTo>
                      <a:pt x="232" y="2658"/>
                    </a:lnTo>
                    <a:lnTo>
                      <a:pt x="206" y="2573"/>
                    </a:lnTo>
                    <a:lnTo>
                      <a:pt x="182" y="2487"/>
                    </a:lnTo>
                    <a:lnTo>
                      <a:pt x="161" y="2402"/>
                    </a:lnTo>
                    <a:lnTo>
                      <a:pt x="140" y="2314"/>
                    </a:lnTo>
                    <a:lnTo>
                      <a:pt x="122" y="2227"/>
                    </a:lnTo>
                    <a:lnTo>
                      <a:pt x="104" y="2140"/>
                    </a:lnTo>
                    <a:lnTo>
                      <a:pt x="90" y="2050"/>
                    </a:lnTo>
                    <a:lnTo>
                      <a:pt x="77" y="1961"/>
                    </a:lnTo>
                    <a:lnTo>
                      <a:pt x="67" y="1871"/>
                    </a:lnTo>
                    <a:lnTo>
                      <a:pt x="57" y="1780"/>
                    </a:lnTo>
                    <a:lnTo>
                      <a:pt x="50" y="1689"/>
                    </a:lnTo>
                    <a:lnTo>
                      <a:pt x="45" y="1597"/>
                    </a:lnTo>
                    <a:lnTo>
                      <a:pt x="42" y="1506"/>
                    </a:lnTo>
                    <a:lnTo>
                      <a:pt x="41" y="1413"/>
                    </a:lnTo>
                    <a:lnTo>
                      <a:pt x="42" y="1320"/>
                    </a:lnTo>
                    <a:lnTo>
                      <a:pt x="45" y="1227"/>
                    </a:lnTo>
                    <a:lnTo>
                      <a:pt x="50" y="1136"/>
                    </a:lnTo>
                    <a:lnTo>
                      <a:pt x="57" y="1044"/>
                    </a:lnTo>
                    <a:lnTo>
                      <a:pt x="67" y="954"/>
                    </a:lnTo>
                    <a:lnTo>
                      <a:pt x="77" y="864"/>
                    </a:lnTo>
                    <a:lnTo>
                      <a:pt x="90" y="774"/>
                    </a:lnTo>
                    <a:lnTo>
                      <a:pt x="104" y="686"/>
                    </a:lnTo>
                    <a:lnTo>
                      <a:pt x="122" y="597"/>
                    </a:lnTo>
                    <a:lnTo>
                      <a:pt x="140" y="510"/>
                    </a:lnTo>
                    <a:lnTo>
                      <a:pt x="161" y="423"/>
                    </a:lnTo>
                    <a:lnTo>
                      <a:pt x="182" y="337"/>
                    </a:lnTo>
                    <a:lnTo>
                      <a:pt x="206" y="252"/>
                    </a:lnTo>
                    <a:lnTo>
                      <a:pt x="232" y="167"/>
                    </a:lnTo>
                    <a:lnTo>
                      <a:pt x="259" y="83"/>
                    </a:lnTo>
                    <a:lnTo>
                      <a:pt x="288" y="0"/>
                    </a:lnTo>
                    <a:lnTo>
                      <a:pt x="281" y="7"/>
                    </a:lnTo>
                    <a:lnTo>
                      <a:pt x="272" y="13"/>
                    </a:lnTo>
                    <a:lnTo>
                      <a:pt x="264" y="21"/>
                    </a:lnTo>
                    <a:lnTo>
                      <a:pt x="257" y="27"/>
                    </a:lnTo>
                    <a:lnTo>
                      <a:pt x="249" y="34"/>
                    </a:lnTo>
                    <a:lnTo>
                      <a:pt x="241" y="40"/>
                    </a:lnTo>
                    <a:lnTo>
                      <a:pt x="233" y="46"/>
                    </a:lnTo>
                    <a:lnTo>
                      <a:pt x="225" y="54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921040" y="2427120"/>
                <a:ext cx="3306600" cy="1141560"/>
              </a:xfrm>
              <a:custGeom>
                <a:avLst/>
                <a:gdLst/>
                <a:ahLst/>
                <a:rect l="l" t="t" r="r" b="b"/>
                <a:pathLst>
                  <a:path w="8334" h="2876">
                    <a:moveTo>
                      <a:pt x="8334" y="1439"/>
                    </a:moveTo>
                    <a:lnTo>
                      <a:pt x="8333" y="1348"/>
                    </a:lnTo>
                    <a:lnTo>
                      <a:pt x="8330" y="1257"/>
                    </a:lnTo>
                    <a:lnTo>
                      <a:pt x="8326" y="1168"/>
                    </a:lnTo>
                    <a:lnTo>
                      <a:pt x="8318" y="1078"/>
                    </a:lnTo>
                    <a:lnTo>
                      <a:pt x="8309" y="989"/>
                    </a:lnTo>
                    <a:lnTo>
                      <a:pt x="8300" y="901"/>
                    </a:lnTo>
                    <a:lnTo>
                      <a:pt x="8287" y="813"/>
                    </a:lnTo>
                    <a:lnTo>
                      <a:pt x="8273" y="726"/>
                    </a:lnTo>
                    <a:lnTo>
                      <a:pt x="8258" y="639"/>
                    </a:lnTo>
                    <a:lnTo>
                      <a:pt x="8239" y="553"/>
                    </a:lnTo>
                    <a:lnTo>
                      <a:pt x="8220" y="468"/>
                    </a:lnTo>
                    <a:lnTo>
                      <a:pt x="8199" y="384"/>
                    </a:lnTo>
                    <a:lnTo>
                      <a:pt x="8175" y="299"/>
                    </a:lnTo>
                    <a:lnTo>
                      <a:pt x="8152" y="216"/>
                    </a:lnTo>
                    <a:lnTo>
                      <a:pt x="8125" y="134"/>
                    </a:lnTo>
                    <a:lnTo>
                      <a:pt x="8098" y="52"/>
                    </a:lnTo>
                    <a:lnTo>
                      <a:pt x="8089" y="45"/>
                    </a:lnTo>
                    <a:lnTo>
                      <a:pt x="8081" y="39"/>
                    </a:lnTo>
                    <a:lnTo>
                      <a:pt x="8074" y="33"/>
                    </a:lnTo>
                    <a:lnTo>
                      <a:pt x="8066" y="26"/>
                    </a:lnTo>
                    <a:lnTo>
                      <a:pt x="8058" y="20"/>
                    </a:lnTo>
                    <a:lnTo>
                      <a:pt x="8050" y="13"/>
                    </a:lnTo>
                    <a:lnTo>
                      <a:pt x="8043" y="7"/>
                    </a:lnTo>
                    <a:lnTo>
                      <a:pt x="8034" y="0"/>
                    </a:lnTo>
                    <a:lnTo>
                      <a:pt x="8064" y="84"/>
                    </a:lnTo>
                    <a:lnTo>
                      <a:pt x="8093" y="170"/>
                    </a:lnTo>
                    <a:lnTo>
                      <a:pt x="8120" y="256"/>
                    </a:lnTo>
                    <a:lnTo>
                      <a:pt x="8145" y="342"/>
                    </a:lnTo>
                    <a:lnTo>
                      <a:pt x="8168" y="430"/>
                    </a:lnTo>
                    <a:lnTo>
                      <a:pt x="8189" y="519"/>
                    </a:lnTo>
                    <a:lnTo>
                      <a:pt x="8209" y="608"/>
                    </a:lnTo>
                    <a:lnTo>
                      <a:pt x="8226" y="698"/>
                    </a:lnTo>
                    <a:lnTo>
                      <a:pt x="8241" y="789"/>
                    </a:lnTo>
                    <a:lnTo>
                      <a:pt x="8254" y="879"/>
                    </a:lnTo>
                    <a:lnTo>
                      <a:pt x="8266" y="971"/>
                    </a:lnTo>
                    <a:lnTo>
                      <a:pt x="8276" y="1063"/>
                    </a:lnTo>
                    <a:lnTo>
                      <a:pt x="8282" y="1156"/>
                    </a:lnTo>
                    <a:lnTo>
                      <a:pt x="8288" y="1250"/>
                    </a:lnTo>
                    <a:lnTo>
                      <a:pt x="8291" y="1344"/>
                    </a:lnTo>
                    <a:lnTo>
                      <a:pt x="8292" y="1439"/>
                    </a:lnTo>
                    <a:lnTo>
                      <a:pt x="8292" y="1508"/>
                    </a:lnTo>
                    <a:lnTo>
                      <a:pt x="8290" y="1577"/>
                    </a:lnTo>
                    <a:lnTo>
                      <a:pt x="8287" y="1646"/>
                    </a:lnTo>
                    <a:lnTo>
                      <a:pt x="8283" y="1714"/>
                    </a:lnTo>
                    <a:lnTo>
                      <a:pt x="8278" y="1782"/>
                    </a:lnTo>
                    <a:lnTo>
                      <a:pt x="8272" y="1850"/>
                    </a:lnTo>
                    <a:lnTo>
                      <a:pt x="8265" y="1918"/>
                    </a:lnTo>
                    <a:lnTo>
                      <a:pt x="8256" y="1985"/>
                    </a:lnTo>
                    <a:lnTo>
                      <a:pt x="8247" y="2052"/>
                    </a:lnTo>
                    <a:lnTo>
                      <a:pt x="8236" y="2119"/>
                    </a:lnTo>
                    <a:lnTo>
                      <a:pt x="8225" y="2185"/>
                    </a:lnTo>
                    <a:lnTo>
                      <a:pt x="8212" y="2251"/>
                    </a:lnTo>
                    <a:lnTo>
                      <a:pt x="8198" y="2317"/>
                    </a:lnTo>
                    <a:lnTo>
                      <a:pt x="8184" y="2382"/>
                    </a:lnTo>
                    <a:lnTo>
                      <a:pt x="8168" y="2446"/>
                    </a:lnTo>
                    <a:lnTo>
                      <a:pt x="8152" y="2510"/>
                    </a:lnTo>
                    <a:lnTo>
                      <a:pt x="8192" y="2521"/>
                    </a:lnTo>
                    <a:lnTo>
                      <a:pt x="8208" y="2456"/>
                    </a:lnTo>
                    <a:lnTo>
                      <a:pt x="8224" y="2391"/>
                    </a:lnTo>
                    <a:lnTo>
                      <a:pt x="8239" y="2325"/>
                    </a:lnTo>
                    <a:lnTo>
                      <a:pt x="8253" y="2259"/>
                    </a:lnTo>
                    <a:lnTo>
                      <a:pt x="8265" y="2193"/>
                    </a:lnTo>
                    <a:lnTo>
                      <a:pt x="8277" y="2126"/>
                    </a:lnTo>
                    <a:lnTo>
                      <a:pt x="8288" y="2059"/>
                    </a:lnTo>
                    <a:lnTo>
                      <a:pt x="8298" y="1991"/>
                    </a:lnTo>
                    <a:lnTo>
                      <a:pt x="8306" y="1923"/>
                    </a:lnTo>
                    <a:lnTo>
                      <a:pt x="8314" y="1854"/>
                    </a:lnTo>
                    <a:lnTo>
                      <a:pt x="8319" y="1786"/>
                    </a:lnTo>
                    <a:lnTo>
                      <a:pt x="8325" y="1717"/>
                    </a:lnTo>
                    <a:lnTo>
                      <a:pt x="8329" y="1648"/>
                    </a:lnTo>
                    <a:lnTo>
                      <a:pt x="8332" y="1578"/>
                    </a:lnTo>
                    <a:lnTo>
                      <a:pt x="8333" y="1509"/>
                    </a:lnTo>
                    <a:lnTo>
                      <a:pt x="8334" y="1439"/>
                    </a:lnTo>
                    <a:close/>
                    <a:moveTo>
                      <a:pt x="237" y="52"/>
                    </a:moveTo>
                    <a:lnTo>
                      <a:pt x="210" y="134"/>
                    </a:lnTo>
                    <a:lnTo>
                      <a:pt x="183" y="216"/>
                    </a:lnTo>
                    <a:lnTo>
                      <a:pt x="158" y="299"/>
                    </a:lnTo>
                    <a:lnTo>
                      <a:pt x="135" y="384"/>
                    </a:lnTo>
                    <a:lnTo>
                      <a:pt x="115" y="468"/>
                    </a:lnTo>
                    <a:lnTo>
                      <a:pt x="95" y="553"/>
                    </a:lnTo>
                    <a:lnTo>
                      <a:pt x="77" y="639"/>
                    </a:lnTo>
                    <a:lnTo>
                      <a:pt x="62" y="726"/>
                    </a:lnTo>
                    <a:lnTo>
                      <a:pt x="48" y="812"/>
                    </a:lnTo>
                    <a:lnTo>
                      <a:pt x="35" y="901"/>
                    </a:lnTo>
                    <a:lnTo>
                      <a:pt x="24" y="989"/>
                    </a:lnTo>
                    <a:lnTo>
                      <a:pt x="16" y="1078"/>
                    </a:lnTo>
                    <a:lnTo>
                      <a:pt x="9" y="1168"/>
                    </a:lnTo>
                    <a:lnTo>
                      <a:pt x="4" y="1257"/>
                    </a:lnTo>
                    <a:lnTo>
                      <a:pt x="1" y="1348"/>
                    </a:lnTo>
                    <a:lnTo>
                      <a:pt x="0" y="1439"/>
                    </a:lnTo>
                    <a:lnTo>
                      <a:pt x="1" y="1529"/>
                    </a:lnTo>
                    <a:lnTo>
                      <a:pt x="4" y="1620"/>
                    </a:lnTo>
                    <a:lnTo>
                      <a:pt x="9" y="1710"/>
                    </a:lnTo>
                    <a:lnTo>
                      <a:pt x="16" y="1799"/>
                    </a:lnTo>
                    <a:lnTo>
                      <a:pt x="24" y="1888"/>
                    </a:lnTo>
                    <a:lnTo>
                      <a:pt x="35" y="1977"/>
                    </a:lnTo>
                    <a:lnTo>
                      <a:pt x="48" y="2064"/>
                    </a:lnTo>
                    <a:lnTo>
                      <a:pt x="62" y="2151"/>
                    </a:lnTo>
                    <a:lnTo>
                      <a:pt x="77" y="2238"/>
                    </a:lnTo>
                    <a:lnTo>
                      <a:pt x="95" y="2323"/>
                    </a:lnTo>
                    <a:lnTo>
                      <a:pt x="115" y="2409"/>
                    </a:lnTo>
                    <a:lnTo>
                      <a:pt x="135" y="2494"/>
                    </a:lnTo>
                    <a:lnTo>
                      <a:pt x="158" y="2577"/>
                    </a:lnTo>
                    <a:lnTo>
                      <a:pt x="183" y="2660"/>
                    </a:lnTo>
                    <a:lnTo>
                      <a:pt x="210" y="2743"/>
                    </a:lnTo>
                    <a:lnTo>
                      <a:pt x="237" y="2824"/>
                    </a:lnTo>
                    <a:lnTo>
                      <a:pt x="245" y="2831"/>
                    </a:lnTo>
                    <a:lnTo>
                      <a:pt x="253" y="2837"/>
                    </a:lnTo>
                    <a:lnTo>
                      <a:pt x="261" y="2844"/>
                    </a:lnTo>
                    <a:lnTo>
                      <a:pt x="268" y="2851"/>
                    </a:lnTo>
                    <a:lnTo>
                      <a:pt x="277" y="2858"/>
                    </a:lnTo>
                    <a:lnTo>
                      <a:pt x="284" y="2864"/>
                    </a:lnTo>
                    <a:lnTo>
                      <a:pt x="292" y="2870"/>
                    </a:lnTo>
                    <a:lnTo>
                      <a:pt x="300" y="2876"/>
                    </a:lnTo>
                    <a:lnTo>
                      <a:pt x="270" y="2792"/>
                    </a:lnTo>
                    <a:lnTo>
                      <a:pt x="241" y="2707"/>
                    </a:lnTo>
                    <a:lnTo>
                      <a:pt x="214" y="2621"/>
                    </a:lnTo>
                    <a:lnTo>
                      <a:pt x="189" y="2534"/>
                    </a:lnTo>
                    <a:lnTo>
                      <a:pt x="166" y="2446"/>
                    </a:lnTo>
                    <a:lnTo>
                      <a:pt x="145" y="2358"/>
                    </a:lnTo>
                    <a:lnTo>
                      <a:pt x="125" y="2269"/>
                    </a:lnTo>
                    <a:lnTo>
                      <a:pt x="108" y="2180"/>
                    </a:lnTo>
                    <a:lnTo>
                      <a:pt x="93" y="2089"/>
                    </a:lnTo>
                    <a:lnTo>
                      <a:pt x="80" y="1998"/>
                    </a:lnTo>
                    <a:lnTo>
                      <a:pt x="68" y="1906"/>
                    </a:lnTo>
                    <a:lnTo>
                      <a:pt x="58" y="1813"/>
                    </a:lnTo>
                    <a:lnTo>
                      <a:pt x="52" y="1721"/>
                    </a:lnTo>
                    <a:lnTo>
                      <a:pt x="47" y="1627"/>
                    </a:lnTo>
                    <a:lnTo>
                      <a:pt x="43" y="1533"/>
                    </a:lnTo>
                    <a:lnTo>
                      <a:pt x="42" y="1439"/>
                    </a:lnTo>
                    <a:lnTo>
                      <a:pt x="43" y="1344"/>
                    </a:lnTo>
                    <a:lnTo>
                      <a:pt x="47" y="1250"/>
                    </a:lnTo>
                    <a:lnTo>
                      <a:pt x="52" y="1156"/>
                    </a:lnTo>
                    <a:lnTo>
                      <a:pt x="58" y="1063"/>
                    </a:lnTo>
                    <a:lnTo>
                      <a:pt x="68" y="971"/>
                    </a:lnTo>
                    <a:lnTo>
                      <a:pt x="80" y="879"/>
                    </a:lnTo>
                    <a:lnTo>
                      <a:pt x="93" y="789"/>
                    </a:lnTo>
                    <a:lnTo>
                      <a:pt x="108" y="698"/>
                    </a:lnTo>
                    <a:lnTo>
                      <a:pt x="125" y="608"/>
                    </a:lnTo>
                    <a:lnTo>
                      <a:pt x="145" y="519"/>
                    </a:lnTo>
                    <a:lnTo>
                      <a:pt x="166" y="430"/>
                    </a:lnTo>
                    <a:lnTo>
                      <a:pt x="189" y="342"/>
                    </a:lnTo>
                    <a:lnTo>
                      <a:pt x="214" y="256"/>
                    </a:lnTo>
                    <a:lnTo>
                      <a:pt x="241" y="170"/>
                    </a:lnTo>
                    <a:lnTo>
                      <a:pt x="270" y="84"/>
                    </a:lnTo>
                    <a:lnTo>
                      <a:pt x="300" y="0"/>
                    </a:lnTo>
                    <a:lnTo>
                      <a:pt x="292" y="7"/>
                    </a:lnTo>
                    <a:lnTo>
                      <a:pt x="284" y="13"/>
                    </a:lnTo>
                    <a:lnTo>
                      <a:pt x="277" y="20"/>
                    </a:lnTo>
                    <a:lnTo>
                      <a:pt x="268" y="26"/>
                    </a:lnTo>
                    <a:lnTo>
                      <a:pt x="261" y="33"/>
                    </a:lnTo>
                    <a:lnTo>
                      <a:pt x="253" y="39"/>
                    </a:lnTo>
                    <a:lnTo>
                      <a:pt x="245" y="45"/>
                    </a:lnTo>
                    <a:lnTo>
                      <a:pt x="237" y="52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928960" y="2415960"/>
                <a:ext cx="3290760" cy="1162080"/>
              </a:xfrm>
              <a:custGeom>
                <a:avLst/>
                <a:gdLst/>
                <a:ahLst/>
                <a:rect l="l" t="t" r="r" b="b"/>
                <a:pathLst>
                  <a:path w="8292" h="2927">
                    <a:moveTo>
                      <a:pt x="8292" y="1464"/>
                    </a:moveTo>
                    <a:lnTo>
                      <a:pt x="8292" y="1371"/>
                    </a:lnTo>
                    <a:lnTo>
                      <a:pt x="8288" y="1278"/>
                    </a:lnTo>
                    <a:lnTo>
                      <a:pt x="8283" y="1187"/>
                    </a:lnTo>
                    <a:lnTo>
                      <a:pt x="8277" y="1095"/>
                    </a:lnTo>
                    <a:lnTo>
                      <a:pt x="8267" y="1005"/>
                    </a:lnTo>
                    <a:lnTo>
                      <a:pt x="8256" y="915"/>
                    </a:lnTo>
                    <a:lnTo>
                      <a:pt x="8243" y="825"/>
                    </a:lnTo>
                    <a:lnTo>
                      <a:pt x="8229" y="737"/>
                    </a:lnTo>
                    <a:lnTo>
                      <a:pt x="8212" y="648"/>
                    </a:lnTo>
                    <a:lnTo>
                      <a:pt x="8193" y="561"/>
                    </a:lnTo>
                    <a:lnTo>
                      <a:pt x="8173" y="474"/>
                    </a:lnTo>
                    <a:lnTo>
                      <a:pt x="8151" y="388"/>
                    </a:lnTo>
                    <a:lnTo>
                      <a:pt x="8127" y="303"/>
                    </a:lnTo>
                    <a:lnTo>
                      <a:pt x="8101" y="218"/>
                    </a:lnTo>
                    <a:lnTo>
                      <a:pt x="8074" y="134"/>
                    </a:lnTo>
                    <a:lnTo>
                      <a:pt x="8045" y="51"/>
                    </a:lnTo>
                    <a:lnTo>
                      <a:pt x="8037" y="45"/>
                    </a:lnTo>
                    <a:lnTo>
                      <a:pt x="8029" y="38"/>
                    </a:lnTo>
                    <a:lnTo>
                      <a:pt x="8022" y="32"/>
                    </a:lnTo>
                    <a:lnTo>
                      <a:pt x="8013" y="25"/>
                    </a:lnTo>
                    <a:lnTo>
                      <a:pt x="8005" y="19"/>
                    </a:lnTo>
                    <a:lnTo>
                      <a:pt x="7998" y="13"/>
                    </a:lnTo>
                    <a:lnTo>
                      <a:pt x="7989" y="7"/>
                    </a:lnTo>
                    <a:lnTo>
                      <a:pt x="7982" y="0"/>
                    </a:lnTo>
                    <a:lnTo>
                      <a:pt x="8013" y="86"/>
                    </a:lnTo>
                    <a:lnTo>
                      <a:pt x="8043" y="172"/>
                    </a:lnTo>
                    <a:lnTo>
                      <a:pt x="8070" y="259"/>
                    </a:lnTo>
                    <a:lnTo>
                      <a:pt x="8097" y="348"/>
                    </a:lnTo>
                    <a:lnTo>
                      <a:pt x="8121" y="437"/>
                    </a:lnTo>
                    <a:lnTo>
                      <a:pt x="8143" y="527"/>
                    </a:lnTo>
                    <a:lnTo>
                      <a:pt x="8163" y="618"/>
                    </a:lnTo>
                    <a:lnTo>
                      <a:pt x="8181" y="709"/>
                    </a:lnTo>
                    <a:lnTo>
                      <a:pt x="8198" y="801"/>
                    </a:lnTo>
                    <a:lnTo>
                      <a:pt x="8211" y="893"/>
                    </a:lnTo>
                    <a:lnTo>
                      <a:pt x="8223" y="987"/>
                    </a:lnTo>
                    <a:lnTo>
                      <a:pt x="8233" y="1081"/>
                    </a:lnTo>
                    <a:lnTo>
                      <a:pt x="8237" y="1129"/>
                    </a:lnTo>
                    <a:lnTo>
                      <a:pt x="8241" y="1176"/>
                    </a:lnTo>
                    <a:lnTo>
                      <a:pt x="8243" y="1224"/>
                    </a:lnTo>
                    <a:lnTo>
                      <a:pt x="8246" y="1271"/>
                    </a:lnTo>
                    <a:lnTo>
                      <a:pt x="8248" y="1319"/>
                    </a:lnTo>
                    <a:lnTo>
                      <a:pt x="8250" y="1366"/>
                    </a:lnTo>
                    <a:lnTo>
                      <a:pt x="8251" y="1415"/>
                    </a:lnTo>
                    <a:lnTo>
                      <a:pt x="8251" y="1464"/>
                    </a:lnTo>
                    <a:lnTo>
                      <a:pt x="8250" y="1533"/>
                    </a:lnTo>
                    <a:lnTo>
                      <a:pt x="8248" y="1601"/>
                    </a:lnTo>
                    <a:lnTo>
                      <a:pt x="8245" y="1670"/>
                    </a:lnTo>
                    <a:lnTo>
                      <a:pt x="8241" y="1738"/>
                    </a:lnTo>
                    <a:lnTo>
                      <a:pt x="8237" y="1806"/>
                    </a:lnTo>
                    <a:lnTo>
                      <a:pt x="8230" y="1873"/>
                    </a:lnTo>
                    <a:lnTo>
                      <a:pt x="8223" y="1941"/>
                    </a:lnTo>
                    <a:lnTo>
                      <a:pt x="8215" y="2008"/>
                    </a:lnTo>
                    <a:lnTo>
                      <a:pt x="8205" y="2074"/>
                    </a:lnTo>
                    <a:lnTo>
                      <a:pt x="8194" y="2140"/>
                    </a:lnTo>
                    <a:lnTo>
                      <a:pt x="8184" y="2206"/>
                    </a:lnTo>
                    <a:lnTo>
                      <a:pt x="8171" y="2272"/>
                    </a:lnTo>
                    <a:lnTo>
                      <a:pt x="8157" y="2336"/>
                    </a:lnTo>
                    <a:lnTo>
                      <a:pt x="8143" y="2401"/>
                    </a:lnTo>
                    <a:lnTo>
                      <a:pt x="8126" y="2466"/>
                    </a:lnTo>
                    <a:lnTo>
                      <a:pt x="8110" y="2530"/>
                    </a:lnTo>
                    <a:lnTo>
                      <a:pt x="8150" y="2540"/>
                    </a:lnTo>
                    <a:lnTo>
                      <a:pt x="8167" y="2476"/>
                    </a:lnTo>
                    <a:lnTo>
                      <a:pt x="8183" y="2411"/>
                    </a:lnTo>
                    <a:lnTo>
                      <a:pt x="8198" y="2346"/>
                    </a:lnTo>
                    <a:lnTo>
                      <a:pt x="8212" y="2280"/>
                    </a:lnTo>
                    <a:lnTo>
                      <a:pt x="8224" y="2213"/>
                    </a:lnTo>
                    <a:lnTo>
                      <a:pt x="8235" y="2147"/>
                    </a:lnTo>
                    <a:lnTo>
                      <a:pt x="8246" y="2080"/>
                    </a:lnTo>
                    <a:lnTo>
                      <a:pt x="8256" y="2013"/>
                    </a:lnTo>
                    <a:lnTo>
                      <a:pt x="8265" y="1945"/>
                    </a:lnTo>
                    <a:lnTo>
                      <a:pt x="8271" y="1877"/>
                    </a:lnTo>
                    <a:lnTo>
                      <a:pt x="8278" y="1809"/>
                    </a:lnTo>
                    <a:lnTo>
                      <a:pt x="8283" y="1740"/>
                    </a:lnTo>
                    <a:lnTo>
                      <a:pt x="8287" y="1672"/>
                    </a:lnTo>
                    <a:lnTo>
                      <a:pt x="8290" y="1603"/>
                    </a:lnTo>
                    <a:lnTo>
                      <a:pt x="8292" y="1533"/>
                    </a:lnTo>
                    <a:lnTo>
                      <a:pt x="8292" y="1464"/>
                    </a:lnTo>
                    <a:close/>
                    <a:moveTo>
                      <a:pt x="247" y="51"/>
                    </a:moveTo>
                    <a:lnTo>
                      <a:pt x="218" y="134"/>
                    </a:lnTo>
                    <a:lnTo>
                      <a:pt x="191" y="218"/>
                    </a:lnTo>
                    <a:lnTo>
                      <a:pt x="165" y="303"/>
                    </a:lnTo>
                    <a:lnTo>
                      <a:pt x="141" y="388"/>
                    </a:lnTo>
                    <a:lnTo>
                      <a:pt x="120" y="474"/>
                    </a:lnTo>
                    <a:lnTo>
                      <a:pt x="99" y="561"/>
                    </a:lnTo>
                    <a:lnTo>
                      <a:pt x="81" y="648"/>
                    </a:lnTo>
                    <a:lnTo>
                      <a:pt x="63" y="737"/>
                    </a:lnTo>
                    <a:lnTo>
                      <a:pt x="49" y="825"/>
                    </a:lnTo>
                    <a:lnTo>
                      <a:pt x="36" y="915"/>
                    </a:lnTo>
                    <a:lnTo>
                      <a:pt x="26" y="1005"/>
                    </a:lnTo>
                    <a:lnTo>
                      <a:pt x="16" y="1095"/>
                    </a:lnTo>
                    <a:lnTo>
                      <a:pt x="9" y="1187"/>
                    </a:lnTo>
                    <a:lnTo>
                      <a:pt x="4" y="1278"/>
                    </a:lnTo>
                    <a:lnTo>
                      <a:pt x="1" y="1371"/>
                    </a:lnTo>
                    <a:lnTo>
                      <a:pt x="0" y="1464"/>
                    </a:lnTo>
                    <a:lnTo>
                      <a:pt x="1" y="1557"/>
                    </a:lnTo>
                    <a:lnTo>
                      <a:pt x="4" y="1648"/>
                    </a:lnTo>
                    <a:lnTo>
                      <a:pt x="9" y="1740"/>
                    </a:lnTo>
                    <a:lnTo>
                      <a:pt x="16" y="1831"/>
                    </a:lnTo>
                    <a:lnTo>
                      <a:pt x="26" y="1922"/>
                    </a:lnTo>
                    <a:lnTo>
                      <a:pt x="36" y="2012"/>
                    </a:lnTo>
                    <a:lnTo>
                      <a:pt x="49" y="2101"/>
                    </a:lnTo>
                    <a:lnTo>
                      <a:pt x="63" y="2191"/>
                    </a:lnTo>
                    <a:lnTo>
                      <a:pt x="81" y="2278"/>
                    </a:lnTo>
                    <a:lnTo>
                      <a:pt x="99" y="2365"/>
                    </a:lnTo>
                    <a:lnTo>
                      <a:pt x="120" y="2453"/>
                    </a:lnTo>
                    <a:lnTo>
                      <a:pt x="141" y="2538"/>
                    </a:lnTo>
                    <a:lnTo>
                      <a:pt x="165" y="2624"/>
                    </a:lnTo>
                    <a:lnTo>
                      <a:pt x="191" y="2709"/>
                    </a:lnTo>
                    <a:lnTo>
                      <a:pt x="218" y="2792"/>
                    </a:lnTo>
                    <a:lnTo>
                      <a:pt x="247" y="2875"/>
                    </a:lnTo>
                    <a:lnTo>
                      <a:pt x="255" y="2882"/>
                    </a:lnTo>
                    <a:lnTo>
                      <a:pt x="263" y="2888"/>
                    </a:lnTo>
                    <a:lnTo>
                      <a:pt x="271" y="2895"/>
                    </a:lnTo>
                    <a:lnTo>
                      <a:pt x="278" y="2901"/>
                    </a:lnTo>
                    <a:lnTo>
                      <a:pt x="287" y="2908"/>
                    </a:lnTo>
                    <a:lnTo>
                      <a:pt x="295" y="2914"/>
                    </a:lnTo>
                    <a:lnTo>
                      <a:pt x="303" y="2921"/>
                    </a:lnTo>
                    <a:lnTo>
                      <a:pt x="311" y="2927"/>
                    </a:lnTo>
                    <a:lnTo>
                      <a:pt x="279" y="2841"/>
                    </a:lnTo>
                    <a:lnTo>
                      <a:pt x="249" y="2754"/>
                    </a:lnTo>
                    <a:lnTo>
                      <a:pt x="221" y="2667"/>
                    </a:lnTo>
                    <a:lnTo>
                      <a:pt x="195" y="2579"/>
                    </a:lnTo>
                    <a:lnTo>
                      <a:pt x="171" y="2490"/>
                    </a:lnTo>
                    <a:lnTo>
                      <a:pt x="150" y="2400"/>
                    </a:lnTo>
                    <a:lnTo>
                      <a:pt x="129" y="2309"/>
                    </a:lnTo>
                    <a:lnTo>
                      <a:pt x="111" y="2218"/>
                    </a:lnTo>
                    <a:lnTo>
                      <a:pt x="95" y="2126"/>
                    </a:lnTo>
                    <a:lnTo>
                      <a:pt x="81" y="2033"/>
                    </a:lnTo>
                    <a:lnTo>
                      <a:pt x="75" y="1986"/>
                    </a:lnTo>
                    <a:lnTo>
                      <a:pt x="69" y="1940"/>
                    </a:lnTo>
                    <a:lnTo>
                      <a:pt x="64" y="1892"/>
                    </a:lnTo>
                    <a:lnTo>
                      <a:pt x="59" y="1846"/>
                    </a:lnTo>
                    <a:lnTo>
                      <a:pt x="56" y="1798"/>
                    </a:lnTo>
                    <a:lnTo>
                      <a:pt x="51" y="1751"/>
                    </a:lnTo>
                    <a:lnTo>
                      <a:pt x="48" y="1703"/>
                    </a:lnTo>
                    <a:lnTo>
                      <a:pt x="46" y="1656"/>
                    </a:lnTo>
                    <a:lnTo>
                      <a:pt x="44" y="1607"/>
                    </a:lnTo>
                    <a:lnTo>
                      <a:pt x="43" y="1560"/>
                    </a:lnTo>
                    <a:lnTo>
                      <a:pt x="42" y="1511"/>
                    </a:lnTo>
                    <a:lnTo>
                      <a:pt x="42" y="1464"/>
                    </a:lnTo>
                    <a:lnTo>
                      <a:pt x="42" y="1415"/>
                    </a:lnTo>
                    <a:lnTo>
                      <a:pt x="43" y="1366"/>
                    </a:lnTo>
                    <a:lnTo>
                      <a:pt x="44" y="1319"/>
                    </a:lnTo>
                    <a:lnTo>
                      <a:pt x="46" y="1271"/>
                    </a:lnTo>
                    <a:lnTo>
                      <a:pt x="48" y="1224"/>
                    </a:lnTo>
                    <a:lnTo>
                      <a:pt x="51" y="1176"/>
                    </a:lnTo>
                    <a:lnTo>
                      <a:pt x="56" y="1129"/>
                    </a:lnTo>
                    <a:lnTo>
                      <a:pt x="59" y="1081"/>
                    </a:lnTo>
                    <a:lnTo>
                      <a:pt x="64" y="1034"/>
                    </a:lnTo>
                    <a:lnTo>
                      <a:pt x="69" y="987"/>
                    </a:lnTo>
                    <a:lnTo>
                      <a:pt x="75" y="940"/>
                    </a:lnTo>
                    <a:lnTo>
                      <a:pt x="81" y="893"/>
                    </a:lnTo>
                    <a:lnTo>
                      <a:pt x="95" y="801"/>
                    </a:lnTo>
                    <a:lnTo>
                      <a:pt x="111" y="709"/>
                    </a:lnTo>
                    <a:lnTo>
                      <a:pt x="129" y="617"/>
                    </a:lnTo>
                    <a:lnTo>
                      <a:pt x="150" y="527"/>
                    </a:lnTo>
                    <a:lnTo>
                      <a:pt x="171" y="437"/>
                    </a:lnTo>
                    <a:lnTo>
                      <a:pt x="195" y="348"/>
                    </a:lnTo>
                    <a:lnTo>
                      <a:pt x="221" y="259"/>
                    </a:lnTo>
                    <a:lnTo>
                      <a:pt x="249" y="172"/>
                    </a:lnTo>
                    <a:lnTo>
                      <a:pt x="279" y="86"/>
                    </a:lnTo>
                    <a:lnTo>
                      <a:pt x="311" y="0"/>
                    </a:lnTo>
                    <a:lnTo>
                      <a:pt x="303" y="7"/>
                    </a:lnTo>
                    <a:lnTo>
                      <a:pt x="295" y="13"/>
                    </a:lnTo>
                    <a:lnTo>
                      <a:pt x="287" y="19"/>
                    </a:lnTo>
                    <a:lnTo>
                      <a:pt x="278" y="25"/>
                    </a:lnTo>
                    <a:lnTo>
                      <a:pt x="271" y="32"/>
                    </a:lnTo>
                    <a:lnTo>
                      <a:pt x="263" y="38"/>
                    </a:lnTo>
                    <a:lnTo>
                      <a:pt x="255" y="45"/>
                    </a:lnTo>
                    <a:lnTo>
                      <a:pt x="247" y="51"/>
                    </a:lnTo>
                    <a:close/>
                  </a:path>
                </a:pathLst>
              </a:custGeom>
              <a:solidFill>
                <a:srgbClr val="c9ae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936880" y="2406600"/>
                <a:ext cx="3274920" cy="1181160"/>
              </a:xfrm>
              <a:custGeom>
                <a:avLst/>
                <a:gdLst/>
                <a:ahLst/>
                <a:rect l="l" t="t" r="r" b="b"/>
                <a:pathLst>
                  <a:path w="8250" h="2977">
                    <a:moveTo>
                      <a:pt x="8250" y="1489"/>
                    </a:moveTo>
                    <a:lnTo>
                      <a:pt x="8249" y="1394"/>
                    </a:lnTo>
                    <a:lnTo>
                      <a:pt x="8246" y="1300"/>
                    </a:lnTo>
                    <a:lnTo>
                      <a:pt x="8240" y="1206"/>
                    </a:lnTo>
                    <a:lnTo>
                      <a:pt x="8234" y="1113"/>
                    </a:lnTo>
                    <a:lnTo>
                      <a:pt x="8224" y="1021"/>
                    </a:lnTo>
                    <a:lnTo>
                      <a:pt x="8212" y="929"/>
                    </a:lnTo>
                    <a:lnTo>
                      <a:pt x="8199" y="839"/>
                    </a:lnTo>
                    <a:lnTo>
                      <a:pt x="8184" y="748"/>
                    </a:lnTo>
                    <a:lnTo>
                      <a:pt x="8167" y="658"/>
                    </a:lnTo>
                    <a:lnTo>
                      <a:pt x="8147" y="569"/>
                    </a:lnTo>
                    <a:lnTo>
                      <a:pt x="8126" y="480"/>
                    </a:lnTo>
                    <a:lnTo>
                      <a:pt x="8103" y="392"/>
                    </a:lnTo>
                    <a:lnTo>
                      <a:pt x="8078" y="306"/>
                    </a:lnTo>
                    <a:lnTo>
                      <a:pt x="8051" y="220"/>
                    </a:lnTo>
                    <a:lnTo>
                      <a:pt x="8022" y="134"/>
                    </a:lnTo>
                    <a:lnTo>
                      <a:pt x="7992" y="50"/>
                    </a:lnTo>
                    <a:lnTo>
                      <a:pt x="7984" y="44"/>
                    </a:lnTo>
                    <a:lnTo>
                      <a:pt x="7977" y="37"/>
                    </a:lnTo>
                    <a:lnTo>
                      <a:pt x="7968" y="32"/>
                    </a:lnTo>
                    <a:lnTo>
                      <a:pt x="7961" y="25"/>
                    </a:lnTo>
                    <a:lnTo>
                      <a:pt x="7953" y="19"/>
                    </a:lnTo>
                    <a:lnTo>
                      <a:pt x="7944" y="12"/>
                    </a:lnTo>
                    <a:lnTo>
                      <a:pt x="7937" y="7"/>
                    </a:lnTo>
                    <a:lnTo>
                      <a:pt x="7928" y="0"/>
                    </a:lnTo>
                    <a:lnTo>
                      <a:pt x="7962" y="87"/>
                    </a:lnTo>
                    <a:lnTo>
                      <a:pt x="7993" y="175"/>
                    </a:lnTo>
                    <a:lnTo>
                      <a:pt x="8021" y="264"/>
                    </a:lnTo>
                    <a:lnTo>
                      <a:pt x="8049" y="354"/>
                    </a:lnTo>
                    <a:lnTo>
                      <a:pt x="8061" y="399"/>
                    </a:lnTo>
                    <a:lnTo>
                      <a:pt x="8074" y="444"/>
                    </a:lnTo>
                    <a:lnTo>
                      <a:pt x="8086" y="490"/>
                    </a:lnTo>
                    <a:lnTo>
                      <a:pt x="8097" y="535"/>
                    </a:lnTo>
                    <a:lnTo>
                      <a:pt x="8108" y="581"/>
                    </a:lnTo>
                    <a:lnTo>
                      <a:pt x="8117" y="628"/>
                    </a:lnTo>
                    <a:lnTo>
                      <a:pt x="8127" y="674"/>
                    </a:lnTo>
                    <a:lnTo>
                      <a:pt x="8137" y="721"/>
                    </a:lnTo>
                    <a:lnTo>
                      <a:pt x="8145" y="767"/>
                    </a:lnTo>
                    <a:lnTo>
                      <a:pt x="8153" y="814"/>
                    </a:lnTo>
                    <a:lnTo>
                      <a:pt x="8160" y="861"/>
                    </a:lnTo>
                    <a:lnTo>
                      <a:pt x="8168" y="909"/>
                    </a:lnTo>
                    <a:lnTo>
                      <a:pt x="8174" y="956"/>
                    </a:lnTo>
                    <a:lnTo>
                      <a:pt x="8180" y="1004"/>
                    </a:lnTo>
                    <a:lnTo>
                      <a:pt x="8185" y="1051"/>
                    </a:lnTo>
                    <a:lnTo>
                      <a:pt x="8191" y="1099"/>
                    </a:lnTo>
                    <a:lnTo>
                      <a:pt x="8195" y="1147"/>
                    </a:lnTo>
                    <a:lnTo>
                      <a:pt x="8198" y="1196"/>
                    </a:lnTo>
                    <a:lnTo>
                      <a:pt x="8202" y="1245"/>
                    </a:lnTo>
                    <a:lnTo>
                      <a:pt x="8204" y="1292"/>
                    </a:lnTo>
                    <a:lnTo>
                      <a:pt x="8206" y="1342"/>
                    </a:lnTo>
                    <a:lnTo>
                      <a:pt x="8208" y="1390"/>
                    </a:lnTo>
                    <a:lnTo>
                      <a:pt x="8208" y="1439"/>
                    </a:lnTo>
                    <a:lnTo>
                      <a:pt x="8209" y="1489"/>
                    </a:lnTo>
                    <a:lnTo>
                      <a:pt x="8208" y="1557"/>
                    </a:lnTo>
                    <a:lnTo>
                      <a:pt x="8207" y="1626"/>
                    </a:lnTo>
                    <a:lnTo>
                      <a:pt x="8204" y="1694"/>
                    </a:lnTo>
                    <a:lnTo>
                      <a:pt x="8199" y="1762"/>
                    </a:lnTo>
                    <a:lnTo>
                      <a:pt x="8195" y="1829"/>
                    </a:lnTo>
                    <a:lnTo>
                      <a:pt x="8189" y="1896"/>
                    </a:lnTo>
                    <a:lnTo>
                      <a:pt x="8181" y="1963"/>
                    </a:lnTo>
                    <a:lnTo>
                      <a:pt x="8173" y="2030"/>
                    </a:lnTo>
                    <a:lnTo>
                      <a:pt x="8164" y="2096"/>
                    </a:lnTo>
                    <a:lnTo>
                      <a:pt x="8153" y="2162"/>
                    </a:lnTo>
                    <a:lnTo>
                      <a:pt x="8142" y="2227"/>
                    </a:lnTo>
                    <a:lnTo>
                      <a:pt x="8129" y="2292"/>
                    </a:lnTo>
                    <a:lnTo>
                      <a:pt x="8116" y="2357"/>
                    </a:lnTo>
                    <a:lnTo>
                      <a:pt x="8101" y="2422"/>
                    </a:lnTo>
                    <a:lnTo>
                      <a:pt x="8086" y="2486"/>
                    </a:lnTo>
                    <a:lnTo>
                      <a:pt x="8069" y="2549"/>
                    </a:lnTo>
                    <a:lnTo>
                      <a:pt x="8110" y="2560"/>
                    </a:lnTo>
                    <a:lnTo>
                      <a:pt x="8126" y="2496"/>
                    </a:lnTo>
                    <a:lnTo>
                      <a:pt x="8142" y="2432"/>
                    </a:lnTo>
                    <a:lnTo>
                      <a:pt x="8156" y="2367"/>
                    </a:lnTo>
                    <a:lnTo>
                      <a:pt x="8170" y="2301"/>
                    </a:lnTo>
                    <a:lnTo>
                      <a:pt x="8183" y="2235"/>
                    </a:lnTo>
                    <a:lnTo>
                      <a:pt x="8194" y="2169"/>
                    </a:lnTo>
                    <a:lnTo>
                      <a:pt x="8205" y="2102"/>
                    </a:lnTo>
                    <a:lnTo>
                      <a:pt x="8214" y="2035"/>
                    </a:lnTo>
                    <a:lnTo>
                      <a:pt x="8223" y="1968"/>
                    </a:lnTo>
                    <a:lnTo>
                      <a:pt x="8230" y="1900"/>
                    </a:lnTo>
                    <a:lnTo>
                      <a:pt x="8236" y="1832"/>
                    </a:lnTo>
                    <a:lnTo>
                      <a:pt x="8241" y="1764"/>
                    </a:lnTo>
                    <a:lnTo>
                      <a:pt x="8245" y="1696"/>
                    </a:lnTo>
                    <a:lnTo>
                      <a:pt x="8248" y="1627"/>
                    </a:lnTo>
                    <a:lnTo>
                      <a:pt x="8250" y="1558"/>
                    </a:lnTo>
                    <a:lnTo>
                      <a:pt x="8250" y="1489"/>
                    </a:lnTo>
                    <a:close/>
                    <a:moveTo>
                      <a:pt x="258" y="50"/>
                    </a:moveTo>
                    <a:lnTo>
                      <a:pt x="228" y="134"/>
                    </a:lnTo>
                    <a:lnTo>
                      <a:pt x="199" y="220"/>
                    </a:lnTo>
                    <a:lnTo>
                      <a:pt x="172" y="306"/>
                    </a:lnTo>
                    <a:lnTo>
                      <a:pt x="147" y="392"/>
                    </a:lnTo>
                    <a:lnTo>
                      <a:pt x="124" y="480"/>
                    </a:lnTo>
                    <a:lnTo>
                      <a:pt x="103" y="569"/>
                    </a:lnTo>
                    <a:lnTo>
                      <a:pt x="83" y="658"/>
                    </a:lnTo>
                    <a:lnTo>
                      <a:pt x="66" y="748"/>
                    </a:lnTo>
                    <a:lnTo>
                      <a:pt x="51" y="839"/>
                    </a:lnTo>
                    <a:lnTo>
                      <a:pt x="38" y="929"/>
                    </a:lnTo>
                    <a:lnTo>
                      <a:pt x="26" y="1021"/>
                    </a:lnTo>
                    <a:lnTo>
                      <a:pt x="16" y="1113"/>
                    </a:lnTo>
                    <a:lnTo>
                      <a:pt x="10" y="1206"/>
                    </a:lnTo>
                    <a:lnTo>
                      <a:pt x="5" y="1300"/>
                    </a:lnTo>
                    <a:lnTo>
                      <a:pt x="1" y="1394"/>
                    </a:lnTo>
                    <a:lnTo>
                      <a:pt x="0" y="1489"/>
                    </a:lnTo>
                    <a:lnTo>
                      <a:pt x="1" y="1583"/>
                    </a:lnTo>
                    <a:lnTo>
                      <a:pt x="5" y="1677"/>
                    </a:lnTo>
                    <a:lnTo>
                      <a:pt x="10" y="1771"/>
                    </a:lnTo>
                    <a:lnTo>
                      <a:pt x="16" y="1863"/>
                    </a:lnTo>
                    <a:lnTo>
                      <a:pt x="26" y="1956"/>
                    </a:lnTo>
                    <a:lnTo>
                      <a:pt x="38" y="2048"/>
                    </a:lnTo>
                    <a:lnTo>
                      <a:pt x="51" y="2139"/>
                    </a:lnTo>
                    <a:lnTo>
                      <a:pt x="66" y="2230"/>
                    </a:lnTo>
                    <a:lnTo>
                      <a:pt x="83" y="2319"/>
                    </a:lnTo>
                    <a:lnTo>
                      <a:pt x="103" y="2408"/>
                    </a:lnTo>
                    <a:lnTo>
                      <a:pt x="124" y="2496"/>
                    </a:lnTo>
                    <a:lnTo>
                      <a:pt x="147" y="2584"/>
                    </a:lnTo>
                    <a:lnTo>
                      <a:pt x="172" y="2671"/>
                    </a:lnTo>
                    <a:lnTo>
                      <a:pt x="199" y="2757"/>
                    </a:lnTo>
                    <a:lnTo>
                      <a:pt x="228" y="2842"/>
                    </a:lnTo>
                    <a:lnTo>
                      <a:pt x="258" y="2926"/>
                    </a:lnTo>
                    <a:lnTo>
                      <a:pt x="266" y="2933"/>
                    </a:lnTo>
                    <a:lnTo>
                      <a:pt x="274" y="2939"/>
                    </a:lnTo>
                    <a:lnTo>
                      <a:pt x="282" y="2946"/>
                    </a:lnTo>
                    <a:lnTo>
                      <a:pt x="290" y="2952"/>
                    </a:lnTo>
                    <a:lnTo>
                      <a:pt x="297" y="2957"/>
                    </a:lnTo>
                    <a:lnTo>
                      <a:pt x="306" y="2964"/>
                    </a:lnTo>
                    <a:lnTo>
                      <a:pt x="314" y="2970"/>
                    </a:lnTo>
                    <a:lnTo>
                      <a:pt x="321" y="2977"/>
                    </a:lnTo>
                    <a:lnTo>
                      <a:pt x="289" y="2889"/>
                    </a:lnTo>
                    <a:lnTo>
                      <a:pt x="257" y="2802"/>
                    </a:lnTo>
                    <a:lnTo>
                      <a:pt x="243" y="2758"/>
                    </a:lnTo>
                    <a:lnTo>
                      <a:pt x="228" y="2713"/>
                    </a:lnTo>
                    <a:lnTo>
                      <a:pt x="215" y="2668"/>
                    </a:lnTo>
                    <a:lnTo>
                      <a:pt x="201" y="2624"/>
                    </a:lnTo>
                    <a:lnTo>
                      <a:pt x="189" y="2578"/>
                    </a:lnTo>
                    <a:lnTo>
                      <a:pt x="176" y="2533"/>
                    </a:lnTo>
                    <a:lnTo>
                      <a:pt x="164" y="2488"/>
                    </a:lnTo>
                    <a:lnTo>
                      <a:pt x="154" y="2441"/>
                    </a:lnTo>
                    <a:lnTo>
                      <a:pt x="143" y="2396"/>
                    </a:lnTo>
                    <a:lnTo>
                      <a:pt x="133" y="2349"/>
                    </a:lnTo>
                    <a:lnTo>
                      <a:pt x="123" y="2303"/>
                    </a:lnTo>
                    <a:lnTo>
                      <a:pt x="114" y="2257"/>
                    </a:lnTo>
                    <a:lnTo>
                      <a:pt x="105" y="2210"/>
                    </a:lnTo>
                    <a:lnTo>
                      <a:pt x="97" y="2163"/>
                    </a:lnTo>
                    <a:lnTo>
                      <a:pt x="90" y="2116"/>
                    </a:lnTo>
                    <a:lnTo>
                      <a:pt x="82" y="2069"/>
                    </a:lnTo>
                    <a:lnTo>
                      <a:pt x="76" y="2021"/>
                    </a:lnTo>
                    <a:lnTo>
                      <a:pt x="70" y="1974"/>
                    </a:lnTo>
                    <a:lnTo>
                      <a:pt x="65" y="1926"/>
                    </a:lnTo>
                    <a:lnTo>
                      <a:pt x="60" y="1877"/>
                    </a:lnTo>
                    <a:lnTo>
                      <a:pt x="55" y="1830"/>
                    </a:lnTo>
                    <a:lnTo>
                      <a:pt x="52" y="1781"/>
                    </a:lnTo>
                    <a:lnTo>
                      <a:pt x="49" y="1733"/>
                    </a:lnTo>
                    <a:lnTo>
                      <a:pt x="47" y="1684"/>
                    </a:lnTo>
                    <a:lnTo>
                      <a:pt x="45" y="1636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1" y="1489"/>
                    </a:lnTo>
                    <a:lnTo>
                      <a:pt x="42" y="1439"/>
                    </a:lnTo>
                    <a:lnTo>
                      <a:pt x="42" y="1390"/>
                    </a:lnTo>
                    <a:lnTo>
                      <a:pt x="45" y="1342"/>
                    </a:lnTo>
                    <a:lnTo>
                      <a:pt x="47" y="1292"/>
                    </a:lnTo>
                    <a:lnTo>
                      <a:pt x="49" y="1245"/>
                    </a:lnTo>
                    <a:lnTo>
                      <a:pt x="52" y="1196"/>
                    </a:lnTo>
                    <a:lnTo>
                      <a:pt x="55" y="1147"/>
                    </a:lnTo>
                    <a:lnTo>
                      <a:pt x="60" y="1099"/>
                    </a:lnTo>
                    <a:lnTo>
                      <a:pt x="65" y="1051"/>
                    </a:lnTo>
                    <a:lnTo>
                      <a:pt x="70" y="1004"/>
                    </a:lnTo>
                    <a:lnTo>
                      <a:pt x="76" y="956"/>
                    </a:lnTo>
                    <a:lnTo>
                      <a:pt x="82" y="909"/>
                    </a:lnTo>
                    <a:lnTo>
                      <a:pt x="90" y="861"/>
                    </a:lnTo>
                    <a:lnTo>
                      <a:pt x="97" y="814"/>
                    </a:lnTo>
                    <a:lnTo>
                      <a:pt x="105" y="767"/>
                    </a:lnTo>
                    <a:lnTo>
                      <a:pt x="114" y="721"/>
                    </a:lnTo>
                    <a:lnTo>
                      <a:pt x="123" y="674"/>
                    </a:lnTo>
                    <a:lnTo>
                      <a:pt x="133" y="628"/>
                    </a:lnTo>
                    <a:lnTo>
                      <a:pt x="143" y="581"/>
                    </a:lnTo>
                    <a:lnTo>
                      <a:pt x="154" y="535"/>
                    </a:lnTo>
                    <a:lnTo>
                      <a:pt x="164" y="490"/>
                    </a:lnTo>
                    <a:lnTo>
                      <a:pt x="176" y="444"/>
                    </a:lnTo>
                    <a:lnTo>
                      <a:pt x="189" y="399"/>
                    </a:lnTo>
                    <a:lnTo>
                      <a:pt x="201" y="354"/>
                    </a:lnTo>
                    <a:lnTo>
                      <a:pt x="228" y="264"/>
                    </a:lnTo>
                    <a:lnTo>
                      <a:pt x="257" y="175"/>
                    </a:lnTo>
                    <a:lnTo>
                      <a:pt x="289" y="87"/>
                    </a:lnTo>
                    <a:lnTo>
                      <a:pt x="321" y="0"/>
                    </a:lnTo>
                    <a:lnTo>
                      <a:pt x="314" y="7"/>
                    </a:lnTo>
                    <a:lnTo>
                      <a:pt x="306" y="12"/>
                    </a:lnTo>
                    <a:lnTo>
                      <a:pt x="297" y="19"/>
                    </a:lnTo>
                    <a:lnTo>
                      <a:pt x="290" y="25"/>
                    </a:lnTo>
                    <a:lnTo>
                      <a:pt x="282" y="32"/>
                    </a:lnTo>
                    <a:lnTo>
                      <a:pt x="274" y="37"/>
                    </a:lnTo>
                    <a:lnTo>
                      <a:pt x="266" y="44"/>
                    </a:lnTo>
                    <a:lnTo>
                      <a:pt x="258" y="50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944800" y="2397240"/>
                <a:ext cx="3257640" cy="1199880"/>
              </a:xfrm>
              <a:custGeom>
                <a:avLst/>
                <a:gdLst/>
                <a:ahLst/>
                <a:rect l="l" t="t" r="r" b="b"/>
                <a:pathLst>
                  <a:path w="8209" h="3024">
                    <a:moveTo>
                      <a:pt x="8209" y="1512"/>
                    </a:moveTo>
                    <a:lnTo>
                      <a:pt x="8209" y="1463"/>
                    </a:lnTo>
                    <a:lnTo>
                      <a:pt x="8208" y="1414"/>
                    </a:lnTo>
                    <a:lnTo>
                      <a:pt x="8206" y="1367"/>
                    </a:lnTo>
                    <a:lnTo>
                      <a:pt x="8204" y="1319"/>
                    </a:lnTo>
                    <a:lnTo>
                      <a:pt x="8201" y="1272"/>
                    </a:lnTo>
                    <a:lnTo>
                      <a:pt x="8199" y="1224"/>
                    </a:lnTo>
                    <a:lnTo>
                      <a:pt x="8195" y="1177"/>
                    </a:lnTo>
                    <a:lnTo>
                      <a:pt x="8191" y="1129"/>
                    </a:lnTo>
                    <a:lnTo>
                      <a:pt x="8182" y="1035"/>
                    </a:lnTo>
                    <a:lnTo>
                      <a:pt x="8169" y="941"/>
                    </a:lnTo>
                    <a:lnTo>
                      <a:pt x="8156" y="849"/>
                    </a:lnTo>
                    <a:lnTo>
                      <a:pt x="8139" y="757"/>
                    </a:lnTo>
                    <a:lnTo>
                      <a:pt x="8121" y="666"/>
                    </a:lnTo>
                    <a:lnTo>
                      <a:pt x="8101" y="575"/>
                    </a:lnTo>
                    <a:lnTo>
                      <a:pt x="8079" y="485"/>
                    </a:lnTo>
                    <a:lnTo>
                      <a:pt x="8055" y="396"/>
                    </a:lnTo>
                    <a:lnTo>
                      <a:pt x="8028" y="307"/>
                    </a:lnTo>
                    <a:lnTo>
                      <a:pt x="8001" y="220"/>
                    </a:lnTo>
                    <a:lnTo>
                      <a:pt x="7971" y="134"/>
                    </a:lnTo>
                    <a:lnTo>
                      <a:pt x="7940" y="48"/>
                    </a:lnTo>
                    <a:lnTo>
                      <a:pt x="7931" y="42"/>
                    </a:lnTo>
                    <a:lnTo>
                      <a:pt x="7923" y="35"/>
                    </a:lnTo>
                    <a:lnTo>
                      <a:pt x="7916" y="30"/>
                    </a:lnTo>
                    <a:lnTo>
                      <a:pt x="7907" y="23"/>
                    </a:lnTo>
                    <a:lnTo>
                      <a:pt x="7900" y="18"/>
                    </a:lnTo>
                    <a:lnTo>
                      <a:pt x="7892" y="12"/>
                    </a:lnTo>
                    <a:lnTo>
                      <a:pt x="7883" y="5"/>
                    </a:lnTo>
                    <a:lnTo>
                      <a:pt x="7876" y="0"/>
                    </a:lnTo>
                    <a:lnTo>
                      <a:pt x="7893" y="43"/>
                    </a:lnTo>
                    <a:lnTo>
                      <a:pt x="7909" y="87"/>
                    </a:lnTo>
                    <a:lnTo>
                      <a:pt x="7927" y="131"/>
                    </a:lnTo>
                    <a:lnTo>
                      <a:pt x="7942" y="177"/>
                    </a:lnTo>
                    <a:lnTo>
                      <a:pt x="7957" y="221"/>
                    </a:lnTo>
                    <a:lnTo>
                      <a:pt x="7972" y="266"/>
                    </a:lnTo>
                    <a:lnTo>
                      <a:pt x="7986" y="312"/>
                    </a:lnTo>
                    <a:lnTo>
                      <a:pt x="8000" y="357"/>
                    </a:lnTo>
                    <a:lnTo>
                      <a:pt x="8013" y="404"/>
                    </a:lnTo>
                    <a:lnTo>
                      <a:pt x="8026" y="450"/>
                    </a:lnTo>
                    <a:lnTo>
                      <a:pt x="8039" y="495"/>
                    </a:lnTo>
                    <a:lnTo>
                      <a:pt x="8050" y="542"/>
                    </a:lnTo>
                    <a:lnTo>
                      <a:pt x="8062" y="589"/>
                    </a:lnTo>
                    <a:lnTo>
                      <a:pt x="8072" y="636"/>
                    </a:lnTo>
                    <a:lnTo>
                      <a:pt x="8082" y="683"/>
                    </a:lnTo>
                    <a:lnTo>
                      <a:pt x="8092" y="730"/>
                    </a:lnTo>
                    <a:lnTo>
                      <a:pt x="8101" y="777"/>
                    </a:lnTo>
                    <a:lnTo>
                      <a:pt x="8109" y="826"/>
                    </a:lnTo>
                    <a:lnTo>
                      <a:pt x="8117" y="873"/>
                    </a:lnTo>
                    <a:lnTo>
                      <a:pt x="8124" y="921"/>
                    </a:lnTo>
                    <a:lnTo>
                      <a:pt x="8131" y="970"/>
                    </a:lnTo>
                    <a:lnTo>
                      <a:pt x="8137" y="1018"/>
                    </a:lnTo>
                    <a:lnTo>
                      <a:pt x="8143" y="1067"/>
                    </a:lnTo>
                    <a:lnTo>
                      <a:pt x="8148" y="1115"/>
                    </a:lnTo>
                    <a:lnTo>
                      <a:pt x="8152" y="1164"/>
                    </a:lnTo>
                    <a:lnTo>
                      <a:pt x="8156" y="1214"/>
                    </a:lnTo>
                    <a:lnTo>
                      <a:pt x="8159" y="1263"/>
                    </a:lnTo>
                    <a:lnTo>
                      <a:pt x="8162" y="1312"/>
                    </a:lnTo>
                    <a:lnTo>
                      <a:pt x="8164" y="1362"/>
                    </a:lnTo>
                    <a:lnTo>
                      <a:pt x="8165" y="1411"/>
                    </a:lnTo>
                    <a:lnTo>
                      <a:pt x="8166" y="1461"/>
                    </a:lnTo>
                    <a:lnTo>
                      <a:pt x="8166" y="1512"/>
                    </a:lnTo>
                    <a:lnTo>
                      <a:pt x="8166" y="1580"/>
                    </a:lnTo>
                    <a:lnTo>
                      <a:pt x="8164" y="1648"/>
                    </a:lnTo>
                    <a:lnTo>
                      <a:pt x="8162" y="1716"/>
                    </a:lnTo>
                    <a:lnTo>
                      <a:pt x="8158" y="1783"/>
                    </a:lnTo>
                    <a:lnTo>
                      <a:pt x="8152" y="1851"/>
                    </a:lnTo>
                    <a:lnTo>
                      <a:pt x="8147" y="1917"/>
                    </a:lnTo>
                    <a:lnTo>
                      <a:pt x="8139" y="1984"/>
                    </a:lnTo>
                    <a:lnTo>
                      <a:pt x="8131" y="2050"/>
                    </a:lnTo>
                    <a:lnTo>
                      <a:pt x="8122" y="2115"/>
                    </a:lnTo>
                    <a:lnTo>
                      <a:pt x="8111" y="2181"/>
                    </a:lnTo>
                    <a:lnTo>
                      <a:pt x="8101" y="2246"/>
                    </a:lnTo>
                    <a:lnTo>
                      <a:pt x="8088" y="2312"/>
                    </a:lnTo>
                    <a:lnTo>
                      <a:pt x="8075" y="2376"/>
                    </a:lnTo>
                    <a:lnTo>
                      <a:pt x="8059" y="2440"/>
                    </a:lnTo>
                    <a:lnTo>
                      <a:pt x="8044" y="2504"/>
                    </a:lnTo>
                    <a:lnTo>
                      <a:pt x="8028" y="2567"/>
                    </a:lnTo>
                    <a:lnTo>
                      <a:pt x="8068" y="2578"/>
                    </a:lnTo>
                    <a:lnTo>
                      <a:pt x="8084" y="2514"/>
                    </a:lnTo>
                    <a:lnTo>
                      <a:pt x="8101" y="2449"/>
                    </a:lnTo>
                    <a:lnTo>
                      <a:pt x="8115" y="2384"/>
                    </a:lnTo>
                    <a:lnTo>
                      <a:pt x="8129" y="2320"/>
                    </a:lnTo>
                    <a:lnTo>
                      <a:pt x="8142" y="2254"/>
                    </a:lnTo>
                    <a:lnTo>
                      <a:pt x="8152" y="2188"/>
                    </a:lnTo>
                    <a:lnTo>
                      <a:pt x="8163" y="2122"/>
                    </a:lnTo>
                    <a:lnTo>
                      <a:pt x="8173" y="2056"/>
                    </a:lnTo>
                    <a:lnTo>
                      <a:pt x="8181" y="1989"/>
                    </a:lnTo>
                    <a:lnTo>
                      <a:pt x="8188" y="1921"/>
                    </a:lnTo>
                    <a:lnTo>
                      <a:pt x="8195" y="1854"/>
                    </a:lnTo>
                    <a:lnTo>
                      <a:pt x="8199" y="1786"/>
                    </a:lnTo>
                    <a:lnTo>
                      <a:pt x="8203" y="1718"/>
                    </a:lnTo>
                    <a:lnTo>
                      <a:pt x="8206" y="1649"/>
                    </a:lnTo>
                    <a:lnTo>
                      <a:pt x="8208" y="1581"/>
                    </a:lnTo>
                    <a:lnTo>
                      <a:pt x="8209" y="1512"/>
                    </a:lnTo>
                    <a:close/>
                    <a:moveTo>
                      <a:pt x="269" y="48"/>
                    </a:moveTo>
                    <a:lnTo>
                      <a:pt x="237" y="134"/>
                    </a:lnTo>
                    <a:lnTo>
                      <a:pt x="207" y="220"/>
                    </a:lnTo>
                    <a:lnTo>
                      <a:pt x="179" y="307"/>
                    </a:lnTo>
                    <a:lnTo>
                      <a:pt x="153" y="396"/>
                    </a:lnTo>
                    <a:lnTo>
                      <a:pt x="129" y="485"/>
                    </a:lnTo>
                    <a:lnTo>
                      <a:pt x="108" y="575"/>
                    </a:lnTo>
                    <a:lnTo>
                      <a:pt x="87" y="666"/>
                    </a:lnTo>
                    <a:lnTo>
                      <a:pt x="69" y="757"/>
                    </a:lnTo>
                    <a:lnTo>
                      <a:pt x="53" y="849"/>
                    </a:lnTo>
                    <a:lnTo>
                      <a:pt x="39" y="941"/>
                    </a:lnTo>
                    <a:lnTo>
                      <a:pt x="33" y="988"/>
                    </a:lnTo>
                    <a:lnTo>
                      <a:pt x="27" y="1035"/>
                    </a:lnTo>
                    <a:lnTo>
                      <a:pt x="22" y="1082"/>
                    </a:lnTo>
                    <a:lnTo>
                      <a:pt x="17" y="1129"/>
                    </a:lnTo>
                    <a:lnTo>
                      <a:pt x="14" y="1177"/>
                    </a:lnTo>
                    <a:lnTo>
                      <a:pt x="9" y="1224"/>
                    </a:lnTo>
                    <a:lnTo>
                      <a:pt x="6" y="1272"/>
                    </a:lnTo>
                    <a:lnTo>
                      <a:pt x="4" y="1319"/>
                    </a:lnTo>
                    <a:lnTo>
                      <a:pt x="2" y="1367"/>
                    </a:lnTo>
                    <a:lnTo>
                      <a:pt x="1" y="1414"/>
                    </a:lnTo>
                    <a:lnTo>
                      <a:pt x="0" y="1463"/>
                    </a:lnTo>
                    <a:lnTo>
                      <a:pt x="0" y="1512"/>
                    </a:lnTo>
                    <a:lnTo>
                      <a:pt x="0" y="1559"/>
                    </a:lnTo>
                    <a:lnTo>
                      <a:pt x="1" y="1608"/>
                    </a:lnTo>
                    <a:lnTo>
                      <a:pt x="2" y="1655"/>
                    </a:lnTo>
                    <a:lnTo>
                      <a:pt x="4" y="1704"/>
                    </a:lnTo>
                    <a:lnTo>
                      <a:pt x="6" y="1751"/>
                    </a:lnTo>
                    <a:lnTo>
                      <a:pt x="9" y="1799"/>
                    </a:lnTo>
                    <a:lnTo>
                      <a:pt x="14" y="1846"/>
                    </a:lnTo>
                    <a:lnTo>
                      <a:pt x="17" y="1894"/>
                    </a:lnTo>
                    <a:lnTo>
                      <a:pt x="22" y="1940"/>
                    </a:lnTo>
                    <a:lnTo>
                      <a:pt x="27" y="1988"/>
                    </a:lnTo>
                    <a:lnTo>
                      <a:pt x="33" y="2034"/>
                    </a:lnTo>
                    <a:lnTo>
                      <a:pt x="39" y="2081"/>
                    </a:lnTo>
                    <a:lnTo>
                      <a:pt x="53" y="2174"/>
                    </a:lnTo>
                    <a:lnTo>
                      <a:pt x="69" y="2266"/>
                    </a:lnTo>
                    <a:lnTo>
                      <a:pt x="87" y="2357"/>
                    </a:lnTo>
                    <a:lnTo>
                      <a:pt x="108" y="2448"/>
                    </a:lnTo>
                    <a:lnTo>
                      <a:pt x="129" y="2538"/>
                    </a:lnTo>
                    <a:lnTo>
                      <a:pt x="153" y="2627"/>
                    </a:lnTo>
                    <a:lnTo>
                      <a:pt x="179" y="2715"/>
                    </a:lnTo>
                    <a:lnTo>
                      <a:pt x="207" y="2802"/>
                    </a:lnTo>
                    <a:lnTo>
                      <a:pt x="237" y="2889"/>
                    </a:lnTo>
                    <a:lnTo>
                      <a:pt x="269" y="2975"/>
                    </a:lnTo>
                    <a:lnTo>
                      <a:pt x="276" y="2980"/>
                    </a:lnTo>
                    <a:lnTo>
                      <a:pt x="285" y="2987"/>
                    </a:lnTo>
                    <a:lnTo>
                      <a:pt x="293" y="2993"/>
                    </a:lnTo>
                    <a:lnTo>
                      <a:pt x="300" y="2999"/>
                    </a:lnTo>
                    <a:lnTo>
                      <a:pt x="309" y="3005"/>
                    </a:lnTo>
                    <a:lnTo>
                      <a:pt x="316" y="3012"/>
                    </a:lnTo>
                    <a:lnTo>
                      <a:pt x="325" y="3017"/>
                    </a:lnTo>
                    <a:lnTo>
                      <a:pt x="333" y="3024"/>
                    </a:lnTo>
                    <a:lnTo>
                      <a:pt x="315" y="2979"/>
                    </a:lnTo>
                    <a:lnTo>
                      <a:pt x="299" y="2935"/>
                    </a:lnTo>
                    <a:lnTo>
                      <a:pt x="282" y="2891"/>
                    </a:lnTo>
                    <a:lnTo>
                      <a:pt x="267" y="2847"/>
                    </a:lnTo>
                    <a:lnTo>
                      <a:pt x="252" y="2801"/>
                    </a:lnTo>
                    <a:lnTo>
                      <a:pt x="236" y="2756"/>
                    </a:lnTo>
                    <a:lnTo>
                      <a:pt x="222" y="2710"/>
                    </a:lnTo>
                    <a:lnTo>
                      <a:pt x="208" y="2665"/>
                    </a:lnTo>
                    <a:lnTo>
                      <a:pt x="194" y="2620"/>
                    </a:lnTo>
                    <a:lnTo>
                      <a:pt x="182" y="2573"/>
                    </a:lnTo>
                    <a:lnTo>
                      <a:pt x="169" y="2527"/>
                    </a:lnTo>
                    <a:lnTo>
                      <a:pt x="159" y="2480"/>
                    </a:lnTo>
                    <a:lnTo>
                      <a:pt x="147" y="2434"/>
                    </a:lnTo>
                    <a:lnTo>
                      <a:pt x="136" y="2386"/>
                    </a:lnTo>
                    <a:lnTo>
                      <a:pt x="126" y="2340"/>
                    </a:lnTo>
                    <a:lnTo>
                      <a:pt x="116" y="2293"/>
                    </a:lnTo>
                    <a:lnTo>
                      <a:pt x="108" y="2245"/>
                    </a:lnTo>
                    <a:lnTo>
                      <a:pt x="99" y="2197"/>
                    </a:lnTo>
                    <a:lnTo>
                      <a:pt x="92" y="2150"/>
                    </a:lnTo>
                    <a:lnTo>
                      <a:pt x="84" y="2101"/>
                    </a:lnTo>
                    <a:lnTo>
                      <a:pt x="78" y="2053"/>
                    </a:lnTo>
                    <a:lnTo>
                      <a:pt x="71" y="2005"/>
                    </a:lnTo>
                    <a:lnTo>
                      <a:pt x="66" y="1957"/>
                    </a:lnTo>
                    <a:lnTo>
                      <a:pt x="60" y="1907"/>
                    </a:lnTo>
                    <a:lnTo>
                      <a:pt x="56" y="1858"/>
                    </a:lnTo>
                    <a:lnTo>
                      <a:pt x="53" y="1810"/>
                    </a:lnTo>
                    <a:lnTo>
                      <a:pt x="49" y="1760"/>
                    </a:lnTo>
                    <a:lnTo>
                      <a:pt x="46" y="1710"/>
                    </a:lnTo>
                    <a:lnTo>
                      <a:pt x="44" y="1661"/>
                    </a:lnTo>
                    <a:lnTo>
                      <a:pt x="43" y="1611"/>
                    </a:lnTo>
                    <a:lnTo>
                      <a:pt x="42" y="1561"/>
                    </a:lnTo>
                    <a:lnTo>
                      <a:pt x="42" y="1512"/>
                    </a:lnTo>
                    <a:lnTo>
                      <a:pt x="42" y="1461"/>
                    </a:lnTo>
                    <a:lnTo>
                      <a:pt x="43" y="1411"/>
                    </a:lnTo>
                    <a:lnTo>
                      <a:pt x="44" y="1362"/>
                    </a:lnTo>
                    <a:lnTo>
                      <a:pt x="46" y="1312"/>
                    </a:lnTo>
                    <a:lnTo>
                      <a:pt x="49" y="1263"/>
                    </a:lnTo>
                    <a:lnTo>
                      <a:pt x="53" y="1214"/>
                    </a:lnTo>
                    <a:lnTo>
                      <a:pt x="56" y="1164"/>
                    </a:lnTo>
                    <a:lnTo>
                      <a:pt x="60" y="1115"/>
                    </a:lnTo>
                    <a:lnTo>
                      <a:pt x="66" y="1067"/>
                    </a:lnTo>
                    <a:lnTo>
                      <a:pt x="71" y="1018"/>
                    </a:lnTo>
                    <a:lnTo>
                      <a:pt x="78" y="970"/>
                    </a:lnTo>
                    <a:lnTo>
                      <a:pt x="84" y="921"/>
                    </a:lnTo>
                    <a:lnTo>
                      <a:pt x="92" y="873"/>
                    </a:lnTo>
                    <a:lnTo>
                      <a:pt x="99" y="826"/>
                    </a:lnTo>
                    <a:lnTo>
                      <a:pt x="108" y="777"/>
                    </a:lnTo>
                    <a:lnTo>
                      <a:pt x="116" y="730"/>
                    </a:lnTo>
                    <a:lnTo>
                      <a:pt x="126" y="683"/>
                    </a:lnTo>
                    <a:lnTo>
                      <a:pt x="136" y="636"/>
                    </a:lnTo>
                    <a:lnTo>
                      <a:pt x="147" y="589"/>
                    </a:lnTo>
                    <a:lnTo>
                      <a:pt x="159" y="542"/>
                    </a:lnTo>
                    <a:lnTo>
                      <a:pt x="169" y="495"/>
                    </a:lnTo>
                    <a:lnTo>
                      <a:pt x="182" y="450"/>
                    </a:lnTo>
                    <a:lnTo>
                      <a:pt x="194" y="404"/>
                    </a:lnTo>
                    <a:lnTo>
                      <a:pt x="208" y="357"/>
                    </a:lnTo>
                    <a:lnTo>
                      <a:pt x="222" y="312"/>
                    </a:lnTo>
                    <a:lnTo>
                      <a:pt x="236" y="266"/>
                    </a:lnTo>
                    <a:lnTo>
                      <a:pt x="252" y="221"/>
                    </a:lnTo>
                    <a:lnTo>
                      <a:pt x="267" y="177"/>
                    </a:lnTo>
                    <a:lnTo>
                      <a:pt x="282" y="131"/>
                    </a:lnTo>
                    <a:lnTo>
                      <a:pt x="299" y="87"/>
                    </a:lnTo>
                    <a:lnTo>
                      <a:pt x="315" y="43"/>
                    </a:lnTo>
                    <a:lnTo>
                      <a:pt x="333" y="0"/>
                    </a:lnTo>
                    <a:lnTo>
                      <a:pt x="325" y="5"/>
                    </a:lnTo>
                    <a:lnTo>
                      <a:pt x="316" y="12"/>
                    </a:lnTo>
                    <a:lnTo>
                      <a:pt x="309" y="18"/>
                    </a:lnTo>
                    <a:lnTo>
                      <a:pt x="300" y="23"/>
                    </a:lnTo>
                    <a:lnTo>
                      <a:pt x="293" y="30"/>
                    </a:lnTo>
                    <a:lnTo>
                      <a:pt x="285" y="35"/>
                    </a:lnTo>
                    <a:lnTo>
                      <a:pt x="276" y="42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952720" y="2387520"/>
                <a:ext cx="3241800" cy="1219320"/>
              </a:xfrm>
              <a:custGeom>
                <a:avLst/>
                <a:gdLst/>
                <a:ahLst/>
                <a:rect l="l" t="t" r="r" b="b"/>
                <a:pathLst>
                  <a:path w="8168" h="3072">
                    <a:moveTo>
                      <a:pt x="8168" y="1537"/>
                    </a:moveTo>
                    <a:lnTo>
                      <a:pt x="8167" y="1487"/>
                    </a:lnTo>
                    <a:lnTo>
                      <a:pt x="8167" y="1438"/>
                    </a:lnTo>
                    <a:lnTo>
                      <a:pt x="8165" y="1390"/>
                    </a:lnTo>
                    <a:lnTo>
                      <a:pt x="8163" y="1340"/>
                    </a:lnTo>
                    <a:lnTo>
                      <a:pt x="8161" y="1293"/>
                    </a:lnTo>
                    <a:lnTo>
                      <a:pt x="8157" y="1244"/>
                    </a:lnTo>
                    <a:lnTo>
                      <a:pt x="8154" y="1195"/>
                    </a:lnTo>
                    <a:lnTo>
                      <a:pt x="8150" y="1147"/>
                    </a:lnTo>
                    <a:lnTo>
                      <a:pt x="8144" y="1099"/>
                    </a:lnTo>
                    <a:lnTo>
                      <a:pt x="8139" y="1052"/>
                    </a:lnTo>
                    <a:lnTo>
                      <a:pt x="8133" y="1004"/>
                    </a:lnTo>
                    <a:lnTo>
                      <a:pt x="8127" y="957"/>
                    </a:lnTo>
                    <a:lnTo>
                      <a:pt x="8119" y="909"/>
                    </a:lnTo>
                    <a:lnTo>
                      <a:pt x="8112" y="862"/>
                    </a:lnTo>
                    <a:lnTo>
                      <a:pt x="8104" y="815"/>
                    </a:lnTo>
                    <a:lnTo>
                      <a:pt x="8096" y="769"/>
                    </a:lnTo>
                    <a:lnTo>
                      <a:pt x="8086" y="722"/>
                    </a:lnTo>
                    <a:lnTo>
                      <a:pt x="8076" y="676"/>
                    </a:lnTo>
                    <a:lnTo>
                      <a:pt x="8067" y="629"/>
                    </a:lnTo>
                    <a:lnTo>
                      <a:pt x="8056" y="583"/>
                    </a:lnTo>
                    <a:lnTo>
                      <a:pt x="8045" y="538"/>
                    </a:lnTo>
                    <a:lnTo>
                      <a:pt x="8033" y="492"/>
                    </a:lnTo>
                    <a:lnTo>
                      <a:pt x="8020" y="447"/>
                    </a:lnTo>
                    <a:lnTo>
                      <a:pt x="8008" y="402"/>
                    </a:lnTo>
                    <a:lnTo>
                      <a:pt x="7980" y="312"/>
                    </a:lnTo>
                    <a:lnTo>
                      <a:pt x="7952" y="223"/>
                    </a:lnTo>
                    <a:lnTo>
                      <a:pt x="7921" y="135"/>
                    </a:lnTo>
                    <a:lnTo>
                      <a:pt x="7887" y="48"/>
                    </a:lnTo>
                    <a:lnTo>
                      <a:pt x="7880" y="42"/>
                    </a:lnTo>
                    <a:lnTo>
                      <a:pt x="7872" y="37"/>
                    </a:lnTo>
                    <a:lnTo>
                      <a:pt x="7863" y="30"/>
                    </a:lnTo>
                    <a:lnTo>
                      <a:pt x="7856" y="25"/>
                    </a:lnTo>
                    <a:lnTo>
                      <a:pt x="7847" y="18"/>
                    </a:lnTo>
                    <a:lnTo>
                      <a:pt x="7840" y="13"/>
                    </a:lnTo>
                    <a:lnTo>
                      <a:pt x="7831" y="6"/>
                    </a:lnTo>
                    <a:lnTo>
                      <a:pt x="7823" y="0"/>
                    </a:lnTo>
                    <a:lnTo>
                      <a:pt x="7842" y="45"/>
                    </a:lnTo>
                    <a:lnTo>
                      <a:pt x="7859" y="89"/>
                    </a:lnTo>
                    <a:lnTo>
                      <a:pt x="7875" y="135"/>
                    </a:lnTo>
                    <a:lnTo>
                      <a:pt x="7893" y="180"/>
                    </a:lnTo>
                    <a:lnTo>
                      <a:pt x="7908" y="226"/>
                    </a:lnTo>
                    <a:lnTo>
                      <a:pt x="7924" y="271"/>
                    </a:lnTo>
                    <a:lnTo>
                      <a:pt x="7938" y="317"/>
                    </a:lnTo>
                    <a:lnTo>
                      <a:pt x="7953" y="364"/>
                    </a:lnTo>
                    <a:lnTo>
                      <a:pt x="7967" y="410"/>
                    </a:lnTo>
                    <a:lnTo>
                      <a:pt x="7980" y="457"/>
                    </a:lnTo>
                    <a:lnTo>
                      <a:pt x="7993" y="504"/>
                    </a:lnTo>
                    <a:lnTo>
                      <a:pt x="8005" y="551"/>
                    </a:lnTo>
                    <a:lnTo>
                      <a:pt x="8017" y="598"/>
                    </a:lnTo>
                    <a:lnTo>
                      <a:pt x="8028" y="646"/>
                    </a:lnTo>
                    <a:lnTo>
                      <a:pt x="8037" y="694"/>
                    </a:lnTo>
                    <a:lnTo>
                      <a:pt x="8048" y="742"/>
                    </a:lnTo>
                    <a:lnTo>
                      <a:pt x="8057" y="790"/>
                    </a:lnTo>
                    <a:lnTo>
                      <a:pt x="8065" y="839"/>
                    </a:lnTo>
                    <a:lnTo>
                      <a:pt x="8074" y="888"/>
                    </a:lnTo>
                    <a:lnTo>
                      <a:pt x="8082" y="936"/>
                    </a:lnTo>
                    <a:lnTo>
                      <a:pt x="8088" y="985"/>
                    </a:lnTo>
                    <a:lnTo>
                      <a:pt x="8095" y="1034"/>
                    </a:lnTo>
                    <a:lnTo>
                      <a:pt x="8101" y="1084"/>
                    </a:lnTo>
                    <a:lnTo>
                      <a:pt x="8106" y="1134"/>
                    </a:lnTo>
                    <a:lnTo>
                      <a:pt x="8111" y="1184"/>
                    </a:lnTo>
                    <a:lnTo>
                      <a:pt x="8115" y="1233"/>
                    </a:lnTo>
                    <a:lnTo>
                      <a:pt x="8118" y="1284"/>
                    </a:lnTo>
                    <a:lnTo>
                      <a:pt x="8121" y="1334"/>
                    </a:lnTo>
                    <a:lnTo>
                      <a:pt x="8123" y="1384"/>
                    </a:lnTo>
                    <a:lnTo>
                      <a:pt x="8125" y="1435"/>
                    </a:lnTo>
                    <a:lnTo>
                      <a:pt x="8126" y="1486"/>
                    </a:lnTo>
                    <a:lnTo>
                      <a:pt x="8126" y="1537"/>
                    </a:lnTo>
                    <a:lnTo>
                      <a:pt x="8126" y="1605"/>
                    </a:lnTo>
                    <a:lnTo>
                      <a:pt x="8124" y="1672"/>
                    </a:lnTo>
                    <a:lnTo>
                      <a:pt x="8121" y="1740"/>
                    </a:lnTo>
                    <a:lnTo>
                      <a:pt x="8117" y="1807"/>
                    </a:lnTo>
                    <a:lnTo>
                      <a:pt x="8112" y="1874"/>
                    </a:lnTo>
                    <a:lnTo>
                      <a:pt x="8106" y="1941"/>
                    </a:lnTo>
                    <a:lnTo>
                      <a:pt x="8099" y="2006"/>
                    </a:lnTo>
                    <a:lnTo>
                      <a:pt x="8090" y="2072"/>
                    </a:lnTo>
                    <a:lnTo>
                      <a:pt x="8082" y="2138"/>
                    </a:lnTo>
                    <a:lnTo>
                      <a:pt x="8071" y="2203"/>
                    </a:lnTo>
                    <a:lnTo>
                      <a:pt x="8060" y="2268"/>
                    </a:lnTo>
                    <a:lnTo>
                      <a:pt x="8047" y="2333"/>
                    </a:lnTo>
                    <a:lnTo>
                      <a:pt x="8034" y="2396"/>
                    </a:lnTo>
                    <a:lnTo>
                      <a:pt x="8019" y="2460"/>
                    </a:lnTo>
                    <a:lnTo>
                      <a:pt x="8004" y="2524"/>
                    </a:lnTo>
                    <a:lnTo>
                      <a:pt x="7988" y="2586"/>
                    </a:lnTo>
                    <a:lnTo>
                      <a:pt x="8028" y="2597"/>
                    </a:lnTo>
                    <a:lnTo>
                      <a:pt x="8045" y="2534"/>
                    </a:lnTo>
                    <a:lnTo>
                      <a:pt x="8060" y="2470"/>
                    </a:lnTo>
                    <a:lnTo>
                      <a:pt x="8075" y="2405"/>
                    </a:lnTo>
                    <a:lnTo>
                      <a:pt x="8088" y="2340"/>
                    </a:lnTo>
                    <a:lnTo>
                      <a:pt x="8101" y="2275"/>
                    </a:lnTo>
                    <a:lnTo>
                      <a:pt x="8112" y="2210"/>
                    </a:lnTo>
                    <a:lnTo>
                      <a:pt x="8123" y="2144"/>
                    </a:lnTo>
                    <a:lnTo>
                      <a:pt x="8132" y="2078"/>
                    </a:lnTo>
                    <a:lnTo>
                      <a:pt x="8140" y="2011"/>
                    </a:lnTo>
                    <a:lnTo>
                      <a:pt x="8148" y="1944"/>
                    </a:lnTo>
                    <a:lnTo>
                      <a:pt x="8154" y="1877"/>
                    </a:lnTo>
                    <a:lnTo>
                      <a:pt x="8158" y="1810"/>
                    </a:lnTo>
                    <a:lnTo>
                      <a:pt x="8163" y="1742"/>
                    </a:lnTo>
                    <a:lnTo>
                      <a:pt x="8166" y="1674"/>
                    </a:lnTo>
                    <a:lnTo>
                      <a:pt x="8167" y="1605"/>
                    </a:lnTo>
                    <a:lnTo>
                      <a:pt x="8168" y="1537"/>
                    </a:lnTo>
                    <a:close/>
                    <a:moveTo>
                      <a:pt x="280" y="48"/>
                    </a:moveTo>
                    <a:lnTo>
                      <a:pt x="248" y="135"/>
                    </a:lnTo>
                    <a:lnTo>
                      <a:pt x="216" y="223"/>
                    </a:lnTo>
                    <a:lnTo>
                      <a:pt x="187" y="312"/>
                    </a:lnTo>
                    <a:lnTo>
                      <a:pt x="160" y="402"/>
                    </a:lnTo>
                    <a:lnTo>
                      <a:pt x="148" y="447"/>
                    </a:lnTo>
                    <a:lnTo>
                      <a:pt x="135" y="492"/>
                    </a:lnTo>
                    <a:lnTo>
                      <a:pt x="123" y="538"/>
                    </a:lnTo>
                    <a:lnTo>
                      <a:pt x="113" y="583"/>
                    </a:lnTo>
                    <a:lnTo>
                      <a:pt x="102" y="629"/>
                    </a:lnTo>
                    <a:lnTo>
                      <a:pt x="92" y="676"/>
                    </a:lnTo>
                    <a:lnTo>
                      <a:pt x="82" y="722"/>
                    </a:lnTo>
                    <a:lnTo>
                      <a:pt x="73" y="769"/>
                    </a:lnTo>
                    <a:lnTo>
                      <a:pt x="64" y="815"/>
                    </a:lnTo>
                    <a:lnTo>
                      <a:pt x="56" y="862"/>
                    </a:lnTo>
                    <a:lnTo>
                      <a:pt x="49" y="909"/>
                    </a:lnTo>
                    <a:lnTo>
                      <a:pt x="41" y="957"/>
                    </a:lnTo>
                    <a:lnTo>
                      <a:pt x="35" y="1004"/>
                    </a:lnTo>
                    <a:lnTo>
                      <a:pt x="29" y="1052"/>
                    </a:lnTo>
                    <a:lnTo>
                      <a:pt x="24" y="1099"/>
                    </a:lnTo>
                    <a:lnTo>
                      <a:pt x="19" y="1147"/>
                    </a:lnTo>
                    <a:lnTo>
                      <a:pt x="14" y="1195"/>
                    </a:lnTo>
                    <a:lnTo>
                      <a:pt x="11" y="1244"/>
                    </a:lnTo>
                    <a:lnTo>
                      <a:pt x="8" y="1293"/>
                    </a:lnTo>
                    <a:lnTo>
                      <a:pt x="6" y="1340"/>
                    </a:lnTo>
                    <a:lnTo>
                      <a:pt x="4" y="1390"/>
                    </a:lnTo>
                    <a:lnTo>
                      <a:pt x="1" y="1438"/>
                    </a:lnTo>
                    <a:lnTo>
                      <a:pt x="1" y="1487"/>
                    </a:lnTo>
                    <a:lnTo>
                      <a:pt x="0" y="1537"/>
                    </a:lnTo>
                    <a:lnTo>
                      <a:pt x="1" y="1585"/>
                    </a:lnTo>
                    <a:lnTo>
                      <a:pt x="1" y="1635"/>
                    </a:lnTo>
                    <a:lnTo>
                      <a:pt x="4" y="1684"/>
                    </a:lnTo>
                    <a:lnTo>
                      <a:pt x="6" y="1732"/>
                    </a:lnTo>
                    <a:lnTo>
                      <a:pt x="8" y="1781"/>
                    </a:lnTo>
                    <a:lnTo>
                      <a:pt x="11" y="1829"/>
                    </a:lnTo>
                    <a:lnTo>
                      <a:pt x="14" y="1878"/>
                    </a:lnTo>
                    <a:lnTo>
                      <a:pt x="19" y="1925"/>
                    </a:lnTo>
                    <a:lnTo>
                      <a:pt x="24" y="1974"/>
                    </a:lnTo>
                    <a:lnTo>
                      <a:pt x="29" y="2022"/>
                    </a:lnTo>
                    <a:lnTo>
                      <a:pt x="35" y="2069"/>
                    </a:lnTo>
                    <a:lnTo>
                      <a:pt x="41" y="2117"/>
                    </a:lnTo>
                    <a:lnTo>
                      <a:pt x="49" y="2164"/>
                    </a:lnTo>
                    <a:lnTo>
                      <a:pt x="56" y="2211"/>
                    </a:lnTo>
                    <a:lnTo>
                      <a:pt x="64" y="2258"/>
                    </a:lnTo>
                    <a:lnTo>
                      <a:pt x="73" y="2305"/>
                    </a:lnTo>
                    <a:lnTo>
                      <a:pt x="82" y="2351"/>
                    </a:lnTo>
                    <a:lnTo>
                      <a:pt x="92" y="2397"/>
                    </a:lnTo>
                    <a:lnTo>
                      <a:pt x="102" y="2444"/>
                    </a:lnTo>
                    <a:lnTo>
                      <a:pt x="113" y="2489"/>
                    </a:lnTo>
                    <a:lnTo>
                      <a:pt x="123" y="2536"/>
                    </a:lnTo>
                    <a:lnTo>
                      <a:pt x="135" y="2581"/>
                    </a:lnTo>
                    <a:lnTo>
                      <a:pt x="148" y="2626"/>
                    </a:lnTo>
                    <a:lnTo>
                      <a:pt x="160" y="2672"/>
                    </a:lnTo>
                    <a:lnTo>
                      <a:pt x="174" y="2716"/>
                    </a:lnTo>
                    <a:lnTo>
                      <a:pt x="187" y="2761"/>
                    </a:lnTo>
                    <a:lnTo>
                      <a:pt x="202" y="2806"/>
                    </a:lnTo>
                    <a:lnTo>
                      <a:pt x="216" y="2850"/>
                    </a:lnTo>
                    <a:lnTo>
                      <a:pt x="248" y="2937"/>
                    </a:lnTo>
                    <a:lnTo>
                      <a:pt x="280" y="3025"/>
                    </a:lnTo>
                    <a:lnTo>
                      <a:pt x="289" y="3030"/>
                    </a:lnTo>
                    <a:lnTo>
                      <a:pt x="296" y="3037"/>
                    </a:lnTo>
                    <a:lnTo>
                      <a:pt x="305" y="3042"/>
                    </a:lnTo>
                    <a:lnTo>
                      <a:pt x="313" y="3049"/>
                    </a:lnTo>
                    <a:lnTo>
                      <a:pt x="321" y="3054"/>
                    </a:lnTo>
                    <a:lnTo>
                      <a:pt x="329" y="3061"/>
                    </a:lnTo>
                    <a:lnTo>
                      <a:pt x="337" y="3067"/>
                    </a:lnTo>
                    <a:lnTo>
                      <a:pt x="345" y="3072"/>
                    </a:lnTo>
                    <a:lnTo>
                      <a:pt x="327" y="3028"/>
                    </a:lnTo>
                    <a:lnTo>
                      <a:pt x="309" y="2983"/>
                    </a:lnTo>
                    <a:lnTo>
                      <a:pt x="292" y="2939"/>
                    </a:lnTo>
                    <a:lnTo>
                      <a:pt x="276" y="2893"/>
                    </a:lnTo>
                    <a:lnTo>
                      <a:pt x="261" y="2848"/>
                    </a:lnTo>
                    <a:lnTo>
                      <a:pt x="244" y="2801"/>
                    </a:lnTo>
                    <a:lnTo>
                      <a:pt x="229" y="2755"/>
                    </a:lnTo>
                    <a:lnTo>
                      <a:pt x="215" y="2710"/>
                    </a:lnTo>
                    <a:lnTo>
                      <a:pt x="201" y="2663"/>
                    </a:lnTo>
                    <a:lnTo>
                      <a:pt x="188" y="2616"/>
                    </a:lnTo>
                    <a:lnTo>
                      <a:pt x="175" y="2569"/>
                    </a:lnTo>
                    <a:lnTo>
                      <a:pt x="163" y="2522"/>
                    </a:lnTo>
                    <a:lnTo>
                      <a:pt x="152" y="2474"/>
                    </a:lnTo>
                    <a:lnTo>
                      <a:pt x="141" y="2427"/>
                    </a:lnTo>
                    <a:lnTo>
                      <a:pt x="130" y="2379"/>
                    </a:lnTo>
                    <a:lnTo>
                      <a:pt x="120" y="2330"/>
                    </a:lnTo>
                    <a:lnTo>
                      <a:pt x="112" y="2283"/>
                    </a:lnTo>
                    <a:lnTo>
                      <a:pt x="103" y="2234"/>
                    </a:lnTo>
                    <a:lnTo>
                      <a:pt x="94" y="2186"/>
                    </a:lnTo>
                    <a:lnTo>
                      <a:pt x="87" y="2136"/>
                    </a:lnTo>
                    <a:lnTo>
                      <a:pt x="79" y="2087"/>
                    </a:lnTo>
                    <a:lnTo>
                      <a:pt x="74" y="2038"/>
                    </a:lnTo>
                    <a:lnTo>
                      <a:pt x="67" y="1989"/>
                    </a:lnTo>
                    <a:lnTo>
                      <a:pt x="62" y="1940"/>
                    </a:lnTo>
                    <a:lnTo>
                      <a:pt x="58" y="1890"/>
                    </a:lnTo>
                    <a:lnTo>
                      <a:pt x="53" y="1839"/>
                    </a:lnTo>
                    <a:lnTo>
                      <a:pt x="50" y="1789"/>
                    </a:lnTo>
                    <a:lnTo>
                      <a:pt x="48" y="1739"/>
                    </a:lnTo>
                    <a:lnTo>
                      <a:pt x="45" y="1689"/>
                    </a:lnTo>
                    <a:lnTo>
                      <a:pt x="44" y="1638"/>
                    </a:lnTo>
                    <a:lnTo>
                      <a:pt x="42" y="1587"/>
                    </a:lnTo>
                    <a:lnTo>
                      <a:pt x="42" y="1537"/>
                    </a:lnTo>
                    <a:lnTo>
                      <a:pt x="42" y="1486"/>
                    </a:lnTo>
                    <a:lnTo>
                      <a:pt x="44" y="1435"/>
                    </a:lnTo>
                    <a:lnTo>
                      <a:pt x="45" y="1384"/>
                    </a:lnTo>
                    <a:lnTo>
                      <a:pt x="48" y="1334"/>
                    </a:lnTo>
                    <a:lnTo>
                      <a:pt x="50" y="1284"/>
                    </a:lnTo>
                    <a:lnTo>
                      <a:pt x="53" y="1233"/>
                    </a:lnTo>
                    <a:lnTo>
                      <a:pt x="58" y="1184"/>
                    </a:lnTo>
                    <a:lnTo>
                      <a:pt x="62" y="1134"/>
                    </a:lnTo>
                    <a:lnTo>
                      <a:pt x="67" y="1084"/>
                    </a:lnTo>
                    <a:lnTo>
                      <a:pt x="74" y="1034"/>
                    </a:lnTo>
                    <a:lnTo>
                      <a:pt x="79" y="985"/>
                    </a:lnTo>
                    <a:lnTo>
                      <a:pt x="87" y="936"/>
                    </a:lnTo>
                    <a:lnTo>
                      <a:pt x="94" y="888"/>
                    </a:lnTo>
                    <a:lnTo>
                      <a:pt x="103" y="839"/>
                    </a:lnTo>
                    <a:lnTo>
                      <a:pt x="112" y="790"/>
                    </a:lnTo>
                    <a:lnTo>
                      <a:pt x="120" y="742"/>
                    </a:lnTo>
                    <a:lnTo>
                      <a:pt x="130" y="694"/>
                    </a:lnTo>
                    <a:lnTo>
                      <a:pt x="141" y="646"/>
                    </a:lnTo>
                    <a:lnTo>
                      <a:pt x="152" y="598"/>
                    </a:lnTo>
                    <a:lnTo>
                      <a:pt x="163" y="551"/>
                    </a:lnTo>
                    <a:lnTo>
                      <a:pt x="175" y="504"/>
                    </a:lnTo>
                    <a:lnTo>
                      <a:pt x="188" y="457"/>
                    </a:lnTo>
                    <a:lnTo>
                      <a:pt x="201" y="410"/>
                    </a:lnTo>
                    <a:lnTo>
                      <a:pt x="215" y="364"/>
                    </a:lnTo>
                    <a:lnTo>
                      <a:pt x="229" y="317"/>
                    </a:lnTo>
                    <a:lnTo>
                      <a:pt x="244" y="271"/>
                    </a:lnTo>
                    <a:lnTo>
                      <a:pt x="261" y="226"/>
                    </a:lnTo>
                    <a:lnTo>
                      <a:pt x="276" y="180"/>
                    </a:lnTo>
                    <a:lnTo>
                      <a:pt x="292" y="135"/>
                    </a:lnTo>
                    <a:lnTo>
                      <a:pt x="309" y="89"/>
                    </a:lnTo>
                    <a:lnTo>
                      <a:pt x="327" y="45"/>
                    </a:lnTo>
                    <a:lnTo>
                      <a:pt x="345" y="0"/>
                    </a:lnTo>
                    <a:lnTo>
                      <a:pt x="337" y="6"/>
                    </a:lnTo>
                    <a:lnTo>
                      <a:pt x="329" y="13"/>
                    </a:lnTo>
                    <a:lnTo>
                      <a:pt x="321" y="18"/>
                    </a:lnTo>
                    <a:lnTo>
                      <a:pt x="313" y="25"/>
                    </a:lnTo>
                    <a:lnTo>
                      <a:pt x="305" y="30"/>
                    </a:lnTo>
                    <a:lnTo>
                      <a:pt x="296" y="37"/>
                    </a:lnTo>
                    <a:lnTo>
                      <a:pt x="289" y="42"/>
                    </a:lnTo>
                    <a:lnTo>
                      <a:pt x="280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962440" y="2378160"/>
                <a:ext cx="3224160" cy="1238040"/>
              </a:xfrm>
              <a:custGeom>
                <a:avLst/>
                <a:gdLst/>
                <a:ahLst/>
                <a:rect l="l" t="t" r="r" b="b"/>
                <a:pathLst>
                  <a:path w="8124" h="3118">
                    <a:moveTo>
                      <a:pt x="8124" y="1560"/>
                    </a:moveTo>
                    <a:lnTo>
                      <a:pt x="8124" y="1509"/>
                    </a:lnTo>
                    <a:lnTo>
                      <a:pt x="8123" y="1459"/>
                    </a:lnTo>
                    <a:lnTo>
                      <a:pt x="8122" y="1410"/>
                    </a:lnTo>
                    <a:lnTo>
                      <a:pt x="8120" y="1360"/>
                    </a:lnTo>
                    <a:lnTo>
                      <a:pt x="8117" y="1311"/>
                    </a:lnTo>
                    <a:lnTo>
                      <a:pt x="8114" y="1262"/>
                    </a:lnTo>
                    <a:lnTo>
                      <a:pt x="8110" y="1212"/>
                    </a:lnTo>
                    <a:lnTo>
                      <a:pt x="8106" y="1163"/>
                    </a:lnTo>
                    <a:lnTo>
                      <a:pt x="8101" y="1115"/>
                    </a:lnTo>
                    <a:lnTo>
                      <a:pt x="8095" y="1066"/>
                    </a:lnTo>
                    <a:lnTo>
                      <a:pt x="8089" y="1018"/>
                    </a:lnTo>
                    <a:lnTo>
                      <a:pt x="8082" y="969"/>
                    </a:lnTo>
                    <a:lnTo>
                      <a:pt x="8075" y="921"/>
                    </a:lnTo>
                    <a:lnTo>
                      <a:pt x="8067" y="874"/>
                    </a:lnTo>
                    <a:lnTo>
                      <a:pt x="8059" y="825"/>
                    </a:lnTo>
                    <a:lnTo>
                      <a:pt x="8050" y="778"/>
                    </a:lnTo>
                    <a:lnTo>
                      <a:pt x="8040" y="731"/>
                    </a:lnTo>
                    <a:lnTo>
                      <a:pt x="8030" y="684"/>
                    </a:lnTo>
                    <a:lnTo>
                      <a:pt x="8020" y="637"/>
                    </a:lnTo>
                    <a:lnTo>
                      <a:pt x="8008" y="590"/>
                    </a:lnTo>
                    <a:lnTo>
                      <a:pt x="7997" y="543"/>
                    </a:lnTo>
                    <a:lnTo>
                      <a:pt x="7984" y="498"/>
                    </a:lnTo>
                    <a:lnTo>
                      <a:pt x="7971" y="452"/>
                    </a:lnTo>
                    <a:lnTo>
                      <a:pt x="7958" y="405"/>
                    </a:lnTo>
                    <a:lnTo>
                      <a:pt x="7944" y="360"/>
                    </a:lnTo>
                    <a:lnTo>
                      <a:pt x="7930" y="314"/>
                    </a:lnTo>
                    <a:lnTo>
                      <a:pt x="7915" y="269"/>
                    </a:lnTo>
                    <a:lnTo>
                      <a:pt x="7900" y="225"/>
                    </a:lnTo>
                    <a:lnTo>
                      <a:pt x="7885" y="179"/>
                    </a:lnTo>
                    <a:lnTo>
                      <a:pt x="7867" y="135"/>
                    </a:lnTo>
                    <a:lnTo>
                      <a:pt x="7851" y="91"/>
                    </a:lnTo>
                    <a:lnTo>
                      <a:pt x="7834" y="48"/>
                    </a:lnTo>
                    <a:lnTo>
                      <a:pt x="7825" y="41"/>
                    </a:lnTo>
                    <a:lnTo>
                      <a:pt x="7818" y="36"/>
                    </a:lnTo>
                    <a:lnTo>
                      <a:pt x="7810" y="29"/>
                    </a:lnTo>
                    <a:lnTo>
                      <a:pt x="7801" y="24"/>
                    </a:lnTo>
                    <a:lnTo>
                      <a:pt x="7794" y="19"/>
                    </a:lnTo>
                    <a:lnTo>
                      <a:pt x="7785" y="12"/>
                    </a:lnTo>
                    <a:lnTo>
                      <a:pt x="7778" y="7"/>
                    </a:lnTo>
                    <a:lnTo>
                      <a:pt x="7769" y="1"/>
                    </a:lnTo>
                    <a:lnTo>
                      <a:pt x="7788" y="46"/>
                    </a:lnTo>
                    <a:lnTo>
                      <a:pt x="7807" y="91"/>
                    </a:lnTo>
                    <a:lnTo>
                      <a:pt x="7824" y="136"/>
                    </a:lnTo>
                    <a:lnTo>
                      <a:pt x="7841" y="183"/>
                    </a:lnTo>
                    <a:lnTo>
                      <a:pt x="7858" y="229"/>
                    </a:lnTo>
                    <a:lnTo>
                      <a:pt x="7874" y="276"/>
                    </a:lnTo>
                    <a:lnTo>
                      <a:pt x="7889" y="322"/>
                    </a:lnTo>
                    <a:lnTo>
                      <a:pt x="7904" y="368"/>
                    </a:lnTo>
                    <a:lnTo>
                      <a:pt x="7918" y="416"/>
                    </a:lnTo>
                    <a:lnTo>
                      <a:pt x="7932" y="463"/>
                    </a:lnTo>
                    <a:lnTo>
                      <a:pt x="7945" y="511"/>
                    </a:lnTo>
                    <a:lnTo>
                      <a:pt x="7957" y="559"/>
                    </a:lnTo>
                    <a:lnTo>
                      <a:pt x="7970" y="607"/>
                    </a:lnTo>
                    <a:lnTo>
                      <a:pt x="7981" y="656"/>
                    </a:lnTo>
                    <a:lnTo>
                      <a:pt x="7992" y="704"/>
                    </a:lnTo>
                    <a:lnTo>
                      <a:pt x="8002" y="753"/>
                    </a:lnTo>
                    <a:lnTo>
                      <a:pt x="8012" y="802"/>
                    </a:lnTo>
                    <a:lnTo>
                      <a:pt x="8021" y="851"/>
                    </a:lnTo>
                    <a:lnTo>
                      <a:pt x="8029" y="900"/>
                    </a:lnTo>
                    <a:lnTo>
                      <a:pt x="8037" y="949"/>
                    </a:lnTo>
                    <a:lnTo>
                      <a:pt x="8045" y="999"/>
                    </a:lnTo>
                    <a:lnTo>
                      <a:pt x="8051" y="1050"/>
                    </a:lnTo>
                    <a:lnTo>
                      <a:pt x="8057" y="1100"/>
                    </a:lnTo>
                    <a:lnTo>
                      <a:pt x="8063" y="1150"/>
                    </a:lnTo>
                    <a:lnTo>
                      <a:pt x="8067" y="1201"/>
                    </a:lnTo>
                    <a:lnTo>
                      <a:pt x="8072" y="1252"/>
                    </a:lnTo>
                    <a:lnTo>
                      <a:pt x="8075" y="1303"/>
                    </a:lnTo>
                    <a:lnTo>
                      <a:pt x="8078" y="1353"/>
                    </a:lnTo>
                    <a:lnTo>
                      <a:pt x="8080" y="1404"/>
                    </a:lnTo>
                    <a:lnTo>
                      <a:pt x="8082" y="1456"/>
                    </a:lnTo>
                    <a:lnTo>
                      <a:pt x="8082" y="1508"/>
                    </a:lnTo>
                    <a:lnTo>
                      <a:pt x="8083" y="1560"/>
                    </a:lnTo>
                    <a:lnTo>
                      <a:pt x="8082" y="1627"/>
                    </a:lnTo>
                    <a:lnTo>
                      <a:pt x="8081" y="1695"/>
                    </a:lnTo>
                    <a:lnTo>
                      <a:pt x="8078" y="1762"/>
                    </a:lnTo>
                    <a:lnTo>
                      <a:pt x="8075" y="1829"/>
                    </a:lnTo>
                    <a:lnTo>
                      <a:pt x="8069" y="1894"/>
                    </a:lnTo>
                    <a:lnTo>
                      <a:pt x="8063" y="1961"/>
                    </a:lnTo>
                    <a:lnTo>
                      <a:pt x="8056" y="2027"/>
                    </a:lnTo>
                    <a:lnTo>
                      <a:pt x="8048" y="2092"/>
                    </a:lnTo>
                    <a:lnTo>
                      <a:pt x="8039" y="2158"/>
                    </a:lnTo>
                    <a:lnTo>
                      <a:pt x="8028" y="2223"/>
                    </a:lnTo>
                    <a:lnTo>
                      <a:pt x="8017" y="2288"/>
                    </a:lnTo>
                    <a:lnTo>
                      <a:pt x="8005" y="2351"/>
                    </a:lnTo>
                    <a:lnTo>
                      <a:pt x="7992" y="2415"/>
                    </a:lnTo>
                    <a:lnTo>
                      <a:pt x="7978" y="2479"/>
                    </a:lnTo>
                    <a:lnTo>
                      <a:pt x="7962" y="2541"/>
                    </a:lnTo>
                    <a:lnTo>
                      <a:pt x="7945" y="2604"/>
                    </a:lnTo>
                    <a:lnTo>
                      <a:pt x="7986" y="2615"/>
                    </a:lnTo>
                    <a:lnTo>
                      <a:pt x="8002" y="2552"/>
                    </a:lnTo>
                    <a:lnTo>
                      <a:pt x="8017" y="2488"/>
                    </a:lnTo>
                    <a:lnTo>
                      <a:pt x="8033" y="2424"/>
                    </a:lnTo>
                    <a:lnTo>
                      <a:pt x="8046" y="2360"/>
                    </a:lnTo>
                    <a:lnTo>
                      <a:pt x="8059" y="2294"/>
                    </a:lnTo>
                    <a:lnTo>
                      <a:pt x="8069" y="2229"/>
                    </a:lnTo>
                    <a:lnTo>
                      <a:pt x="8080" y="2163"/>
                    </a:lnTo>
                    <a:lnTo>
                      <a:pt x="8089" y="2098"/>
                    </a:lnTo>
                    <a:lnTo>
                      <a:pt x="8097" y="2032"/>
                    </a:lnTo>
                    <a:lnTo>
                      <a:pt x="8105" y="1965"/>
                    </a:lnTo>
                    <a:lnTo>
                      <a:pt x="8110" y="1899"/>
                    </a:lnTo>
                    <a:lnTo>
                      <a:pt x="8116" y="1831"/>
                    </a:lnTo>
                    <a:lnTo>
                      <a:pt x="8120" y="1764"/>
                    </a:lnTo>
                    <a:lnTo>
                      <a:pt x="8122" y="1696"/>
                    </a:lnTo>
                    <a:lnTo>
                      <a:pt x="8124" y="1628"/>
                    </a:lnTo>
                    <a:lnTo>
                      <a:pt x="8124" y="1560"/>
                    </a:lnTo>
                    <a:close/>
                    <a:moveTo>
                      <a:pt x="291" y="48"/>
                    </a:moveTo>
                    <a:lnTo>
                      <a:pt x="273" y="91"/>
                    </a:lnTo>
                    <a:lnTo>
                      <a:pt x="257" y="135"/>
                    </a:lnTo>
                    <a:lnTo>
                      <a:pt x="240" y="179"/>
                    </a:lnTo>
                    <a:lnTo>
                      <a:pt x="225" y="225"/>
                    </a:lnTo>
                    <a:lnTo>
                      <a:pt x="210" y="269"/>
                    </a:lnTo>
                    <a:lnTo>
                      <a:pt x="194" y="314"/>
                    </a:lnTo>
                    <a:lnTo>
                      <a:pt x="180" y="360"/>
                    </a:lnTo>
                    <a:lnTo>
                      <a:pt x="166" y="405"/>
                    </a:lnTo>
                    <a:lnTo>
                      <a:pt x="152" y="452"/>
                    </a:lnTo>
                    <a:lnTo>
                      <a:pt x="140" y="498"/>
                    </a:lnTo>
                    <a:lnTo>
                      <a:pt x="127" y="543"/>
                    </a:lnTo>
                    <a:lnTo>
                      <a:pt x="117" y="590"/>
                    </a:lnTo>
                    <a:lnTo>
                      <a:pt x="105" y="637"/>
                    </a:lnTo>
                    <a:lnTo>
                      <a:pt x="94" y="684"/>
                    </a:lnTo>
                    <a:lnTo>
                      <a:pt x="84" y="731"/>
                    </a:lnTo>
                    <a:lnTo>
                      <a:pt x="74" y="778"/>
                    </a:lnTo>
                    <a:lnTo>
                      <a:pt x="66" y="825"/>
                    </a:lnTo>
                    <a:lnTo>
                      <a:pt x="57" y="874"/>
                    </a:lnTo>
                    <a:lnTo>
                      <a:pt x="50" y="921"/>
                    </a:lnTo>
                    <a:lnTo>
                      <a:pt x="42" y="969"/>
                    </a:lnTo>
                    <a:lnTo>
                      <a:pt x="36" y="1018"/>
                    </a:lnTo>
                    <a:lnTo>
                      <a:pt x="29" y="1066"/>
                    </a:lnTo>
                    <a:lnTo>
                      <a:pt x="24" y="1115"/>
                    </a:lnTo>
                    <a:lnTo>
                      <a:pt x="18" y="1163"/>
                    </a:lnTo>
                    <a:lnTo>
                      <a:pt x="14" y="1212"/>
                    </a:lnTo>
                    <a:lnTo>
                      <a:pt x="11" y="1262"/>
                    </a:lnTo>
                    <a:lnTo>
                      <a:pt x="7" y="1311"/>
                    </a:lnTo>
                    <a:lnTo>
                      <a:pt x="4" y="1360"/>
                    </a:lnTo>
                    <a:lnTo>
                      <a:pt x="2" y="1410"/>
                    </a:lnTo>
                    <a:lnTo>
                      <a:pt x="1" y="1459"/>
                    </a:lnTo>
                    <a:lnTo>
                      <a:pt x="0" y="1509"/>
                    </a:lnTo>
                    <a:lnTo>
                      <a:pt x="0" y="1560"/>
                    </a:lnTo>
                    <a:lnTo>
                      <a:pt x="0" y="1609"/>
                    </a:lnTo>
                    <a:lnTo>
                      <a:pt x="1" y="1659"/>
                    </a:lnTo>
                    <a:lnTo>
                      <a:pt x="2" y="1709"/>
                    </a:lnTo>
                    <a:lnTo>
                      <a:pt x="4" y="1758"/>
                    </a:lnTo>
                    <a:lnTo>
                      <a:pt x="7" y="1808"/>
                    </a:lnTo>
                    <a:lnTo>
                      <a:pt x="11" y="1858"/>
                    </a:lnTo>
                    <a:lnTo>
                      <a:pt x="14" y="1906"/>
                    </a:lnTo>
                    <a:lnTo>
                      <a:pt x="18" y="1955"/>
                    </a:lnTo>
                    <a:lnTo>
                      <a:pt x="24" y="2005"/>
                    </a:lnTo>
                    <a:lnTo>
                      <a:pt x="29" y="2053"/>
                    </a:lnTo>
                    <a:lnTo>
                      <a:pt x="36" y="2101"/>
                    </a:lnTo>
                    <a:lnTo>
                      <a:pt x="42" y="2149"/>
                    </a:lnTo>
                    <a:lnTo>
                      <a:pt x="50" y="2198"/>
                    </a:lnTo>
                    <a:lnTo>
                      <a:pt x="57" y="2245"/>
                    </a:lnTo>
                    <a:lnTo>
                      <a:pt x="66" y="2293"/>
                    </a:lnTo>
                    <a:lnTo>
                      <a:pt x="74" y="2341"/>
                    </a:lnTo>
                    <a:lnTo>
                      <a:pt x="84" y="2388"/>
                    </a:lnTo>
                    <a:lnTo>
                      <a:pt x="94" y="2434"/>
                    </a:lnTo>
                    <a:lnTo>
                      <a:pt x="105" y="2482"/>
                    </a:lnTo>
                    <a:lnTo>
                      <a:pt x="117" y="2528"/>
                    </a:lnTo>
                    <a:lnTo>
                      <a:pt x="127" y="2575"/>
                    </a:lnTo>
                    <a:lnTo>
                      <a:pt x="140" y="2621"/>
                    </a:lnTo>
                    <a:lnTo>
                      <a:pt x="152" y="2668"/>
                    </a:lnTo>
                    <a:lnTo>
                      <a:pt x="166" y="2713"/>
                    </a:lnTo>
                    <a:lnTo>
                      <a:pt x="180" y="2758"/>
                    </a:lnTo>
                    <a:lnTo>
                      <a:pt x="194" y="2804"/>
                    </a:lnTo>
                    <a:lnTo>
                      <a:pt x="210" y="2849"/>
                    </a:lnTo>
                    <a:lnTo>
                      <a:pt x="225" y="2895"/>
                    </a:lnTo>
                    <a:lnTo>
                      <a:pt x="240" y="2939"/>
                    </a:lnTo>
                    <a:lnTo>
                      <a:pt x="257" y="2983"/>
                    </a:lnTo>
                    <a:lnTo>
                      <a:pt x="273" y="3027"/>
                    </a:lnTo>
                    <a:lnTo>
                      <a:pt x="291" y="3072"/>
                    </a:lnTo>
                    <a:lnTo>
                      <a:pt x="299" y="3077"/>
                    </a:lnTo>
                    <a:lnTo>
                      <a:pt x="307" y="3084"/>
                    </a:lnTo>
                    <a:lnTo>
                      <a:pt x="314" y="3089"/>
                    </a:lnTo>
                    <a:lnTo>
                      <a:pt x="323" y="3095"/>
                    </a:lnTo>
                    <a:lnTo>
                      <a:pt x="331" y="3101"/>
                    </a:lnTo>
                    <a:lnTo>
                      <a:pt x="339" y="3106"/>
                    </a:lnTo>
                    <a:lnTo>
                      <a:pt x="347" y="3113"/>
                    </a:lnTo>
                    <a:lnTo>
                      <a:pt x="355" y="3118"/>
                    </a:lnTo>
                    <a:lnTo>
                      <a:pt x="336" y="3073"/>
                    </a:lnTo>
                    <a:lnTo>
                      <a:pt x="318" y="3027"/>
                    </a:lnTo>
                    <a:lnTo>
                      <a:pt x="300" y="2982"/>
                    </a:lnTo>
                    <a:lnTo>
                      <a:pt x="283" y="2937"/>
                    </a:lnTo>
                    <a:lnTo>
                      <a:pt x="267" y="2890"/>
                    </a:lnTo>
                    <a:lnTo>
                      <a:pt x="251" y="2844"/>
                    </a:lnTo>
                    <a:lnTo>
                      <a:pt x="235" y="2797"/>
                    </a:lnTo>
                    <a:lnTo>
                      <a:pt x="220" y="2750"/>
                    </a:lnTo>
                    <a:lnTo>
                      <a:pt x="206" y="2703"/>
                    </a:lnTo>
                    <a:lnTo>
                      <a:pt x="192" y="2656"/>
                    </a:lnTo>
                    <a:lnTo>
                      <a:pt x="179" y="2608"/>
                    </a:lnTo>
                    <a:lnTo>
                      <a:pt x="166" y="2560"/>
                    </a:lnTo>
                    <a:lnTo>
                      <a:pt x="154" y="2512"/>
                    </a:lnTo>
                    <a:lnTo>
                      <a:pt x="144" y="2464"/>
                    </a:lnTo>
                    <a:lnTo>
                      <a:pt x="133" y="2415"/>
                    </a:lnTo>
                    <a:lnTo>
                      <a:pt x="122" y="2366"/>
                    </a:lnTo>
                    <a:lnTo>
                      <a:pt x="112" y="2318"/>
                    </a:lnTo>
                    <a:lnTo>
                      <a:pt x="104" y="2268"/>
                    </a:lnTo>
                    <a:lnTo>
                      <a:pt x="95" y="2218"/>
                    </a:lnTo>
                    <a:lnTo>
                      <a:pt x="87" y="2169"/>
                    </a:lnTo>
                    <a:lnTo>
                      <a:pt x="80" y="2119"/>
                    </a:lnTo>
                    <a:lnTo>
                      <a:pt x="73" y="2069"/>
                    </a:lnTo>
                    <a:lnTo>
                      <a:pt x="67" y="2019"/>
                    </a:lnTo>
                    <a:lnTo>
                      <a:pt x="61" y="1969"/>
                    </a:lnTo>
                    <a:lnTo>
                      <a:pt x="57" y="1918"/>
                    </a:lnTo>
                    <a:lnTo>
                      <a:pt x="53" y="1867"/>
                    </a:lnTo>
                    <a:lnTo>
                      <a:pt x="50" y="1817"/>
                    </a:lnTo>
                    <a:lnTo>
                      <a:pt x="46" y="1766"/>
                    </a:lnTo>
                    <a:lnTo>
                      <a:pt x="44" y="1714"/>
                    </a:lnTo>
                    <a:lnTo>
                      <a:pt x="42" y="1662"/>
                    </a:lnTo>
                    <a:lnTo>
                      <a:pt x="41" y="1612"/>
                    </a:lnTo>
                    <a:lnTo>
                      <a:pt x="41" y="1560"/>
                    </a:lnTo>
                    <a:lnTo>
                      <a:pt x="41" y="1508"/>
                    </a:lnTo>
                    <a:lnTo>
                      <a:pt x="42" y="1456"/>
                    </a:lnTo>
                    <a:lnTo>
                      <a:pt x="44" y="1404"/>
                    </a:lnTo>
                    <a:lnTo>
                      <a:pt x="46" y="1353"/>
                    </a:lnTo>
                    <a:lnTo>
                      <a:pt x="50" y="1303"/>
                    </a:lnTo>
                    <a:lnTo>
                      <a:pt x="53" y="1252"/>
                    </a:lnTo>
                    <a:lnTo>
                      <a:pt x="57" y="1201"/>
                    </a:lnTo>
                    <a:lnTo>
                      <a:pt x="61" y="1150"/>
                    </a:lnTo>
                    <a:lnTo>
                      <a:pt x="67" y="1100"/>
                    </a:lnTo>
                    <a:lnTo>
                      <a:pt x="73" y="1050"/>
                    </a:lnTo>
                    <a:lnTo>
                      <a:pt x="80" y="999"/>
                    </a:lnTo>
                    <a:lnTo>
                      <a:pt x="87" y="949"/>
                    </a:lnTo>
                    <a:lnTo>
                      <a:pt x="95" y="900"/>
                    </a:lnTo>
                    <a:lnTo>
                      <a:pt x="104" y="851"/>
                    </a:lnTo>
                    <a:lnTo>
                      <a:pt x="112" y="802"/>
                    </a:lnTo>
                    <a:lnTo>
                      <a:pt x="122" y="753"/>
                    </a:lnTo>
                    <a:lnTo>
                      <a:pt x="133" y="704"/>
                    </a:lnTo>
                    <a:lnTo>
                      <a:pt x="144" y="656"/>
                    </a:lnTo>
                    <a:lnTo>
                      <a:pt x="154" y="607"/>
                    </a:lnTo>
                    <a:lnTo>
                      <a:pt x="166" y="559"/>
                    </a:lnTo>
                    <a:lnTo>
                      <a:pt x="179" y="511"/>
                    </a:lnTo>
                    <a:lnTo>
                      <a:pt x="192" y="463"/>
                    </a:lnTo>
                    <a:lnTo>
                      <a:pt x="206" y="416"/>
                    </a:lnTo>
                    <a:lnTo>
                      <a:pt x="220" y="368"/>
                    </a:lnTo>
                    <a:lnTo>
                      <a:pt x="235" y="322"/>
                    </a:lnTo>
                    <a:lnTo>
                      <a:pt x="251" y="276"/>
                    </a:lnTo>
                    <a:lnTo>
                      <a:pt x="267" y="229"/>
                    </a:lnTo>
                    <a:lnTo>
                      <a:pt x="283" y="183"/>
                    </a:lnTo>
                    <a:lnTo>
                      <a:pt x="300" y="136"/>
                    </a:lnTo>
                    <a:lnTo>
                      <a:pt x="318" y="91"/>
                    </a:lnTo>
                    <a:lnTo>
                      <a:pt x="336" y="46"/>
                    </a:lnTo>
                    <a:lnTo>
                      <a:pt x="355" y="0"/>
                    </a:lnTo>
                    <a:lnTo>
                      <a:pt x="347" y="7"/>
                    </a:lnTo>
                    <a:lnTo>
                      <a:pt x="339" y="12"/>
                    </a:lnTo>
                    <a:lnTo>
                      <a:pt x="331" y="19"/>
                    </a:lnTo>
                    <a:lnTo>
                      <a:pt x="323" y="24"/>
                    </a:lnTo>
                    <a:lnTo>
                      <a:pt x="314" y="29"/>
                    </a:lnTo>
                    <a:lnTo>
                      <a:pt x="307" y="36"/>
                    </a:lnTo>
                    <a:lnTo>
                      <a:pt x="299" y="41"/>
                    </a:lnTo>
                    <a:lnTo>
                      <a:pt x="291" y="48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970360" y="2370240"/>
                <a:ext cx="3208320" cy="1255680"/>
              </a:xfrm>
              <a:custGeom>
                <a:avLst/>
                <a:gdLst/>
                <a:ahLst/>
                <a:rect l="l" t="t" r="r" b="b"/>
                <a:pathLst>
                  <a:path w="8084" h="3165">
                    <a:moveTo>
                      <a:pt x="8084" y="1583"/>
                    </a:moveTo>
                    <a:lnTo>
                      <a:pt x="8084" y="1532"/>
                    </a:lnTo>
                    <a:lnTo>
                      <a:pt x="8083" y="1481"/>
                    </a:lnTo>
                    <a:lnTo>
                      <a:pt x="8081" y="1430"/>
                    </a:lnTo>
                    <a:lnTo>
                      <a:pt x="8079" y="1380"/>
                    </a:lnTo>
                    <a:lnTo>
                      <a:pt x="8076" y="1330"/>
                    </a:lnTo>
                    <a:lnTo>
                      <a:pt x="8073" y="1279"/>
                    </a:lnTo>
                    <a:lnTo>
                      <a:pt x="8069" y="1230"/>
                    </a:lnTo>
                    <a:lnTo>
                      <a:pt x="8064" y="1180"/>
                    </a:lnTo>
                    <a:lnTo>
                      <a:pt x="8059" y="1130"/>
                    </a:lnTo>
                    <a:lnTo>
                      <a:pt x="8053" y="1080"/>
                    </a:lnTo>
                    <a:lnTo>
                      <a:pt x="8046" y="1031"/>
                    </a:lnTo>
                    <a:lnTo>
                      <a:pt x="8040" y="982"/>
                    </a:lnTo>
                    <a:lnTo>
                      <a:pt x="8032" y="934"/>
                    </a:lnTo>
                    <a:lnTo>
                      <a:pt x="8023" y="885"/>
                    </a:lnTo>
                    <a:lnTo>
                      <a:pt x="8015" y="836"/>
                    </a:lnTo>
                    <a:lnTo>
                      <a:pt x="8006" y="788"/>
                    </a:lnTo>
                    <a:lnTo>
                      <a:pt x="7995" y="740"/>
                    </a:lnTo>
                    <a:lnTo>
                      <a:pt x="7986" y="692"/>
                    </a:lnTo>
                    <a:lnTo>
                      <a:pt x="7975" y="644"/>
                    </a:lnTo>
                    <a:lnTo>
                      <a:pt x="7963" y="597"/>
                    </a:lnTo>
                    <a:lnTo>
                      <a:pt x="7951" y="550"/>
                    </a:lnTo>
                    <a:lnTo>
                      <a:pt x="7938" y="503"/>
                    </a:lnTo>
                    <a:lnTo>
                      <a:pt x="7925" y="456"/>
                    </a:lnTo>
                    <a:lnTo>
                      <a:pt x="7911" y="410"/>
                    </a:lnTo>
                    <a:lnTo>
                      <a:pt x="7896" y="363"/>
                    </a:lnTo>
                    <a:lnTo>
                      <a:pt x="7882" y="317"/>
                    </a:lnTo>
                    <a:lnTo>
                      <a:pt x="7866" y="272"/>
                    </a:lnTo>
                    <a:lnTo>
                      <a:pt x="7851" y="226"/>
                    </a:lnTo>
                    <a:lnTo>
                      <a:pt x="7833" y="181"/>
                    </a:lnTo>
                    <a:lnTo>
                      <a:pt x="7817" y="135"/>
                    </a:lnTo>
                    <a:lnTo>
                      <a:pt x="7800" y="91"/>
                    </a:lnTo>
                    <a:lnTo>
                      <a:pt x="7781" y="46"/>
                    </a:lnTo>
                    <a:lnTo>
                      <a:pt x="7773" y="40"/>
                    </a:lnTo>
                    <a:lnTo>
                      <a:pt x="7765" y="35"/>
                    </a:lnTo>
                    <a:lnTo>
                      <a:pt x="7758" y="29"/>
                    </a:lnTo>
                    <a:lnTo>
                      <a:pt x="7749" y="23"/>
                    </a:lnTo>
                    <a:lnTo>
                      <a:pt x="7741" y="18"/>
                    </a:lnTo>
                    <a:lnTo>
                      <a:pt x="7733" y="12"/>
                    </a:lnTo>
                    <a:lnTo>
                      <a:pt x="7725" y="6"/>
                    </a:lnTo>
                    <a:lnTo>
                      <a:pt x="7717" y="0"/>
                    </a:lnTo>
                    <a:lnTo>
                      <a:pt x="7736" y="46"/>
                    </a:lnTo>
                    <a:lnTo>
                      <a:pt x="7754" y="92"/>
                    </a:lnTo>
                    <a:lnTo>
                      <a:pt x="7773" y="139"/>
                    </a:lnTo>
                    <a:lnTo>
                      <a:pt x="7791" y="185"/>
                    </a:lnTo>
                    <a:lnTo>
                      <a:pt x="7808" y="232"/>
                    </a:lnTo>
                    <a:lnTo>
                      <a:pt x="7825" y="278"/>
                    </a:lnTo>
                    <a:lnTo>
                      <a:pt x="7841" y="326"/>
                    </a:lnTo>
                    <a:lnTo>
                      <a:pt x="7856" y="373"/>
                    </a:lnTo>
                    <a:lnTo>
                      <a:pt x="7871" y="421"/>
                    </a:lnTo>
                    <a:lnTo>
                      <a:pt x="7885" y="469"/>
                    </a:lnTo>
                    <a:lnTo>
                      <a:pt x="7899" y="518"/>
                    </a:lnTo>
                    <a:lnTo>
                      <a:pt x="7912" y="566"/>
                    </a:lnTo>
                    <a:lnTo>
                      <a:pt x="7924" y="615"/>
                    </a:lnTo>
                    <a:lnTo>
                      <a:pt x="7936" y="664"/>
                    </a:lnTo>
                    <a:lnTo>
                      <a:pt x="7948" y="713"/>
                    </a:lnTo>
                    <a:lnTo>
                      <a:pt x="7958" y="763"/>
                    </a:lnTo>
                    <a:lnTo>
                      <a:pt x="7968" y="813"/>
                    </a:lnTo>
                    <a:lnTo>
                      <a:pt x="7978" y="862"/>
                    </a:lnTo>
                    <a:lnTo>
                      <a:pt x="7987" y="912"/>
                    </a:lnTo>
                    <a:lnTo>
                      <a:pt x="7994" y="963"/>
                    </a:lnTo>
                    <a:lnTo>
                      <a:pt x="8002" y="1014"/>
                    </a:lnTo>
                    <a:lnTo>
                      <a:pt x="8009" y="1064"/>
                    </a:lnTo>
                    <a:lnTo>
                      <a:pt x="8015" y="1115"/>
                    </a:lnTo>
                    <a:lnTo>
                      <a:pt x="8021" y="1167"/>
                    </a:lnTo>
                    <a:lnTo>
                      <a:pt x="8026" y="1218"/>
                    </a:lnTo>
                    <a:lnTo>
                      <a:pt x="8030" y="1269"/>
                    </a:lnTo>
                    <a:lnTo>
                      <a:pt x="8034" y="1321"/>
                    </a:lnTo>
                    <a:lnTo>
                      <a:pt x="8037" y="1373"/>
                    </a:lnTo>
                    <a:lnTo>
                      <a:pt x="8040" y="1425"/>
                    </a:lnTo>
                    <a:lnTo>
                      <a:pt x="8041" y="1477"/>
                    </a:lnTo>
                    <a:lnTo>
                      <a:pt x="8042" y="1530"/>
                    </a:lnTo>
                    <a:lnTo>
                      <a:pt x="8043" y="1583"/>
                    </a:lnTo>
                    <a:lnTo>
                      <a:pt x="8042" y="1650"/>
                    </a:lnTo>
                    <a:lnTo>
                      <a:pt x="8040" y="1717"/>
                    </a:lnTo>
                    <a:lnTo>
                      <a:pt x="8037" y="1784"/>
                    </a:lnTo>
                    <a:lnTo>
                      <a:pt x="8033" y="1849"/>
                    </a:lnTo>
                    <a:lnTo>
                      <a:pt x="8029" y="1916"/>
                    </a:lnTo>
                    <a:lnTo>
                      <a:pt x="8022" y="1982"/>
                    </a:lnTo>
                    <a:lnTo>
                      <a:pt x="8016" y="2047"/>
                    </a:lnTo>
                    <a:lnTo>
                      <a:pt x="8007" y="2113"/>
                    </a:lnTo>
                    <a:lnTo>
                      <a:pt x="7999" y="2178"/>
                    </a:lnTo>
                    <a:lnTo>
                      <a:pt x="7988" y="2243"/>
                    </a:lnTo>
                    <a:lnTo>
                      <a:pt x="7977" y="2306"/>
                    </a:lnTo>
                    <a:lnTo>
                      <a:pt x="7964" y="2370"/>
                    </a:lnTo>
                    <a:lnTo>
                      <a:pt x="7951" y="2434"/>
                    </a:lnTo>
                    <a:lnTo>
                      <a:pt x="7937" y="2496"/>
                    </a:lnTo>
                    <a:lnTo>
                      <a:pt x="7922" y="2559"/>
                    </a:lnTo>
                    <a:lnTo>
                      <a:pt x="7906" y="2622"/>
                    </a:lnTo>
                    <a:lnTo>
                      <a:pt x="7946" y="2632"/>
                    </a:lnTo>
                    <a:lnTo>
                      <a:pt x="7962" y="2570"/>
                    </a:lnTo>
                    <a:lnTo>
                      <a:pt x="7977" y="2506"/>
                    </a:lnTo>
                    <a:lnTo>
                      <a:pt x="7992" y="2442"/>
                    </a:lnTo>
                    <a:lnTo>
                      <a:pt x="8005" y="2379"/>
                    </a:lnTo>
                    <a:lnTo>
                      <a:pt x="8018" y="2314"/>
                    </a:lnTo>
                    <a:lnTo>
                      <a:pt x="8029" y="2249"/>
                    </a:lnTo>
                    <a:lnTo>
                      <a:pt x="8040" y="2184"/>
                    </a:lnTo>
                    <a:lnTo>
                      <a:pt x="8048" y="2118"/>
                    </a:lnTo>
                    <a:lnTo>
                      <a:pt x="8057" y="2052"/>
                    </a:lnTo>
                    <a:lnTo>
                      <a:pt x="8064" y="1987"/>
                    </a:lnTo>
                    <a:lnTo>
                      <a:pt x="8070" y="1920"/>
                    </a:lnTo>
                    <a:lnTo>
                      <a:pt x="8075" y="1853"/>
                    </a:lnTo>
                    <a:lnTo>
                      <a:pt x="8079" y="1786"/>
                    </a:lnTo>
                    <a:lnTo>
                      <a:pt x="8082" y="1718"/>
                    </a:lnTo>
                    <a:lnTo>
                      <a:pt x="8084" y="1651"/>
                    </a:lnTo>
                    <a:lnTo>
                      <a:pt x="8084" y="1583"/>
                    </a:lnTo>
                    <a:close/>
                    <a:moveTo>
                      <a:pt x="303" y="46"/>
                    </a:moveTo>
                    <a:lnTo>
                      <a:pt x="285" y="91"/>
                    </a:lnTo>
                    <a:lnTo>
                      <a:pt x="267" y="135"/>
                    </a:lnTo>
                    <a:lnTo>
                      <a:pt x="250" y="181"/>
                    </a:lnTo>
                    <a:lnTo>
                      <a:pt x="234" y="226"/>
                    </a:lnTo>
                    <a:lnTo>
                      <a:pt x="219" y="272"/>
                    </a:lnTo>
                    <a:lnTo>
                      <a:pt x="202" y="317"/>
                    </a:lnTo>
                    <a:lnTo>
                      <a:pt x="187" y="363"/>
                    </a:lnTo>
                    <a:lnTo>
                      <a:pt x="173" y="410"/>
                    </a:lnTo>
                    <a:lnTo>
                      <a:pt x="159" y="456"/>
                    </a:lnTo>
                    <a:lnTo>
                      <a:pt x="146" y="503"/>
                    </a:lnTo>
                    <a:lnTo>
                      <a:pt x="133" y="550"/>
                    </a:lnTo>
                    <a:lnTo>
                      <a:pt x="121" y="597"/>
                    </a:lnTo>
                    <a:lnTo>
                      <a:pt x="110" y="644"/>
                    </a:lnTo>
                    <a:lnTo>
                      <a:pt x="99" y="692"/>
                    </a:lnTo>
                    <a:lnTo>
                      <a:pt x="88" y="740"/>
                    </a:lnTo>
                    <a:lnTo>
                      <a:pt x="78" y="788"/>
                    </a:lnTo>
                    <a:lnTo>
                      <a:pt x="70" y="836"/>
                    </a:lnTo>
                    <a:lnTo>
                      <a:pt x="61" y="885"/>
                    </a:lnTo>
                    <a:lnTo>
                      <a:pt x="52" y="934"/>
                    </a:lnTo>
                    <a:lnTo>
                      <a:pt x="45" y="982"/>
                    </a:lnTo>
                    <a:lnTo>
                      <a:pt x="37" y="1031"/>
                    </a:lnTo>
                    <a:lnTo>
                      <a:pt x="32" y="1080"/>
                    </a:lnTo>
                    <a:lnTo>
                      <a:pt x="25" y="1130"/>
                    </a:lnTo>
                    <a:lnTo>
                      <a:pt x="20" y="1180"/>
                    </a:lnTo>
                    <a:lnTo>
                      <a:pt x="16" y="1230"/>
                    </a:lnTo>
                    <a:lnTo>
                      <a:pt x="11" y="1279"/>
                    </a:lnTo>
                    <a:lnTo>
                      <a:pt x="8" y="1330"/>
                    </a:lnTo>
                    <a:lnTo>
                      <a:pt x="6" y="1380"/>
                    </a:lnTo>
                    <a:lnTo>
                      <a:pt x="3" y="1430"/>
                    </a:lnTo>
                    <a:lnTo>
                      <a:pt x="2" y="1481"/>
                    </a:lnTo>
                    <a:lnTo>
                      <a:pt x="0" y="1532"/>
                    </a:lnTo>
                    <a:lnTo>
                      <a:pt x="0" y="1583"/>
                    </a:lnTo>
                    <a:lnTo>
                      <a:pt x="0" y="1633"/>
                    </a:lnTo>
                    <a:lnTo>
                      <a:pt x="2" y="1684"/>
                    </a:lnTo>
                    <a:lnTo>
                      <a:pt x="3" y="1735"/>
                    </a:lnTo>
                    <a:lnTo>
                      <a:pt x="6" y="1785"/>
                    </a:lnTo>
                    <a:lnTo>
                      <a:pt x="8" y="1835"/>
                    </a:lnTo>
                    <a:lnTo>
                      <a:pt x="11" y="1885"/>
                    </a:lnTo>
                    <a:lnTo>
                      <a:pt x="16" y="1936"/>
                    </a:lnTo>
                    <a:lnTo>
                      <a:pt x="20" y="1986"/>
                    </a:lnTo>
                    <a:lnTo>
                      <a:pt x="25" y="2035"/>
                    </a:lnTo>
                    <a:lnTo>
                      <a:pt x="32" y="2084"/>
                    </a:lnTo>
                    <a:lnTo>
                      <a:pt x="37" y="2133"/>
                    </a:lnTo>
                    <a:lnTo>
                      <a:pt x="45" y="2182"/>
                    </a:lnTo>
                    <a:lnTo>
                      <a:pt x="52" y="2232"/>
                    </a:lnTo>
                    <a:lnTo>
                      <a:pt x="61" y="2280"/>
                    </a:lnTo>
                    <a:lnTo>
                      <a:pt x="70" y="2329"/>
                    </a:lnTo>
                    <a:lnTo>
                      <a:pt x="78" y="2376"/>
                    </a:lnTo>
                    <a:lnTo>
                      <a:pt x="88" y="2425"/>
                    </a:lnTo>
                    <a:lnTo>
                      <a:pt x="99" y="2473"/>
                    </a:lnTo>
                    <a:lnTo>
                      <a:pt x="110" y="2520"/>
                    </a:lnTo>
                    <a:lnTo>
                      <a:pt x="121" y="2568"/>
                    </a:lnTo>
                    <a:lnTo>
                      <a:pt x="133" y="2615"/>
                    </a:lnTo>
                    <a:lnTo>
                      <a:pt x="146" y="2662"/>
                    </a:lnTo>
                    <a:lnTo>
                      <a:pt x="159" y="2709"/>
                    </a:lnTo>
                    <a:lnTo>
                      <a:pt x="173" y="2756"/>
                    </a:lnTo>
                    <a:lnTo>
                      <a:pt x="187" y="2801"/>
                    </a:lnTo>
                    <a:lnTo>
                      <a:pt x="202" y="2847"/>
                    </a:lnTo>
                    <a:lnTo>
                      <a:pt x="219" y="2894"/>
                    </a:lnTo>
                    <a:lnTo>
                      <a:pt x="234" y="2939"/>
                    </a:lnTo>
                    <a:lnTo>
                      <a:pt x="250" y="2985"/>
                    </a:lnTo>
                    <a:lnTo>
                      <a:pt x="267" y="3029"/>
                    </a:lnTo>
                    <a:lnTo>
                      <a:pt x="285" y="3074"/>
                    </a:lnTo>
                    <a:lnTo>
                      <a:pt x="303" y="3118"/>
                    </a:lnTo>
                    <a:lnTo>
                      <a:pt x="311" y="3124"/>
                    </a:lnTo>
                    <a:lnTo>
                      <a:pt x="319" y="3130"/>
                    </a:lnTo>
                    <a:lnTo>
                      <a:pt x="327" y="3136"/>
                    </a:lnTo>
                    <a:lnTo>
                      <a:pt x="335" y="3141"/>
                    </a:lnTo>
                    <a:lnTo>
                      <a:pt x="343" y="3148"/>
                    </a:lnTo>
                    <a:lnTo>
                      <a:pt x="352" y="3153"/>
                    </a:lnTo>
                    <a:lnTo>
                      <a:pt x="359" y="3158"/>
                    </a:lnTo>
                    <a:lnTo>
                      <a:pt x="368" y="3165"/>
                    </a:lnTo>
                    <a:lnTo>
                      <a:pt x="348" y="3118"/>
                    </a:lnTo>
                    <a:lnTo>
                      <a:pt x="330" y="3073"/>
                    </a:lnTo>
                    <a:lnTo>
                      <a:pt x="312" y="3027"/>
                    </a:lnTo>
                    <a:lnTo>
                      <a:pt x="293" y="2980"/>
                    </a:lnTo>
                    <a:lnTo>
                      <a:pt x="276" y="2934"/>
                    </a:lnTo>
                    <a:lnTo>
                      <a:pt x="260" y="2886"/>
                    </a:lnTo>
                    <a:lnTo>
                      <a:pt x="244" y="2839"/>
                    </a:lnTo>
                    <a:lnTo>
                      <a:pt x="228" y="2791"/>
                    </a:lnTo>
                    <a:lnTo>
                      <a:pt x="213" y="2744"/>
                    </a:lnTo>
                    <a:lnTo>
                      <a:pt x="199" y="2696"/>
                    </a:lnTo>
                    <a:lnTo>
                      <a:pt x="185" y="2648"/>
                    </a:lnTo>
                    <a:lnTo>
                      <a:pt x="172" y="2599"/>
                    </a:lnTo>
                    <a:lnTo>
                      <a:pt x="160" y="2550"/>
                    </a:lnTo>
                    <a:lnTo>
                      <a:pt x="148" y="2501"/>
                    </a:lnTo>
                    <a:lnTo>
                      <a:pt x="137" y="2452"/>
                    </a:lnTo>
                    <a:lnTo>
                      <a:pt x="126" y="2402"/>
                    </a:lnTo>
                    <a:lnTo>
                      <a:pt x="116" y="2353"/>
                    </a:lnTo>
                    <a:lnTo>
                      <a:pt x="106" y="2303"/>
                    </a:lnTo>
                    <a:lnTo>
                      <a:pt x="98" y="2252"/>
                    </a:lnTo>
                    <a:lnTo>
                      <a:pt x="90" y="2202"/>
                    </a:lnTo>
                    <a:lnTo>
                      <a:pt x="83" y="2152"/>
                    </a:lnTo>
                    <a:lnTo>
                      <a:pt x="75" y="2101"/>
                    </a:lnTo>
                    <a:lnTo>
                      <a:pt x="69" y="2049"/>
                    </a:lnTo>
                    <a:lnTo>
                      <a:pt x="63" y="1998"/>
                    </a:lnTo>
                    <a:lnTo>
                      <a:pt x="59" y="1947"/>
                    </a:lnTo>
                    <a:lnTo>
                      <a:pt x="54" y="1896"/>
                    </a:lnTo>
                    <a:lnTo>
                      <a:pt x="50" y="1844"/>
                    </a:lnTo>
                    <a:lnTo>
                      <a:pt x="47" y="1792"/>
                    </a:lnTo>
                    <a:lnTo>
                      <a:pt x="45" y="1739"/>
                    </a:lnTo>
                    <a:lnTo>
                      <a:pt x="44" y="1687"/>
                    </a:lnTo>
                    <a:lnTo>
                      <a:pt x="43" y="1635"/>
                    </a:lnTo>
                    <a:lnTo>
                      <a:pt x="41" y="1583"/>
                    </a:lnTo>
                    <a:lnTo>
                      <a:pt x="43" y="1530"/>
                    </a:lnTo>
                    <a:lnTo>
                      <a:pt x="44" y="1477"/>
                    </a:lnTo>
                    <a:lnTo>
                      <a:pt x="45" y="1425"/>
                    </a:lnTo>
                    <a:lnTo>
                      <a:pt x="47" y="1373"/>
                    </a:lnTo>
                    <a:lnTo>
                      <a:pt x="50" y="1321"/>
                    </a:lnTo>
                    <a:lnTo>
                      <a:pt x="54" y="1269"/>
                    </a:lnTo>
                    <a:lnTo>
                      <a:pt x="59" y="1218"/>
                    </a:lnTo>
                    <a:lnTo>
                      <a:pt x="63" y="1167"/>
                    </a:lnTo>
                    <a:lnTo>
                      <a:pt x="69" y="1115"/>
                    </a:lnTo>
                    <a:lnTo>
                      <a:pt x="75" y="1064"/>
                    </a:lnTo>
                    <a:lnTo>
                      <a:pt x="83" y="1014"/>
                    </a:lnTo>
                    <a:lnTo>
                      <a:pt x="90" y="963"/>
                    </a:lnTo>
                    <a:lnTo>
                      <a:pt x="98" y="912"/>
                    </a:lnTo>
                    <a:lnTo>
                      <a:pt x="106" y="862"/>
                    </a:lnTo>
                    <a:lnTo>
                      <a:pt x="116" y="813"/>
                    </a:lnTo>
                    <a:lnTo>
                      <a:pt x="126" y="763"/>
                    </a:lnTo>
                    <a:lnTo>
                      <a:pt x="137" y="713"/>
                    </a:lnTo>
                    <a:lnTo>
                      <a:pt x="148" y="664"/>
                    </a:lnTo>
                    <a:lnTo>
                      <a:pt x="160" y="615"/>
                    </a:lnTo>
                    <a:lnTo>
                      <a:pt x="172" y="566"/>
                    </a:lnTo>
                    <a:lnTo>
                      <a:pt x="185" y="518"/>
                    </a:lnTo>
                    <a:lnTo>
                      <a:pt x="199" y="469"/>
                    </a:lnTo>
                    <a:lnTo>
                      <a:pt x="213" y="421"/>
                    </a:lnTo>
                    <a:lnTo>
                      <a:pt x="228" y="373"/>
                    </a:lnTo>
                    <a:lnTo>
                      <a:pt x="244" y="326"/>
                    </a:lnTo>
                    <a:lnTo>
                      <a:pt x="260" y="278"/>
                    </a:lnTo>
                    <a:lnTo>
                      <a:pt x="276" y="232"/>
                    </a:lnTo>
                    <a:lnTo>
                      <a:pt x="293" y="185"/>
                    </a:lnTo>
                    <a:lnTo>
                      <a:pt x="312" y="139"/>
                    </a:lnTo>
                    <a:lnTo>
                      <a:pt x="330" y="92"/>
                    </a:lnTo>
                    <a:lnTo>
                      <a:pt x="348" y="46"/>
                    </a:lnTo>
                    <a:lnTo>
                      <a:pt x="368" y="0"/>
                    </a:lnTo>
                    <a:lnTo>
                      <a:pt x="359" y="6"/>
                    </a:lnTo>
                    <a:lnTo>
                      <a:pt x="352" y="12"/>
                    </a:lnTo>
                    <a:lnTo>
                      <a:pt x="343" y="18"/>
                    </a:lnTo>
                    <a:lnTo>
                      <a:pt x="335" y="23"/>
                    </a:lnTo>
                    <a:lnTo>
                      <a:pt x="327" y="29"/>
                    </a:lnTo>
                    <a:lnTo>
                      <a:pt x="319" y="35"/>
                    </a:lnTo>
                    <a:lnTo>
                      <a:pt x="311" y="40"/>
                    </a:lnTo>
                    <a:lnTo>
                      <a:pt x="303" y="46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978280" y="2360520"/>
                <a:ext cx="3192480" cy="1273320"/>
              </a:xfrm>
              <a:custGeom>
                <a:avLst/>
                <a:gdLst/>
                <a:ahLst/>
                <a:rect l="l" t="t" r="r" b="b"/>
                <a:pathLst>
                  <a:path w="8042" h="3207">
                    <a:moveTo>
                      <a:pt x="8042" y="1604"/>
                    </a:moveTo>
                    <a:lnTo>
                      <a:pt x="8041" y="1552"/>
                    </a:lnTo>
                    <a:lnTo>
                      <a:pt x="8041" y="1500"/>
                    </a:lnTo>
                    <a:lnTo>
                      <a:pt x="8039" y="1448"/>
                    </a:lnTo>
                    <a:lnTo>
                      <a:pt x="8037" y="1397"/>
                    </a:lnTo>
                    <a:lnTo>
                      <a:pt x="8034" y="1347"/>
                    </a:lnTo>
                    <a:lnTo>
                      <a:pt x="8031" y="1296"/>
                    </a:lnTo>
                    <a:lnTo>
                      <a:pt x="8026" y="1245"/>
                    </a:lnTo>
                    <a:lnTo>
                      <a:pt x="8022" y="1194"/>
                    </a:lnTo>
                    <a:lnTo>
                      <a:pt x="8016" y="1144"/>
                    </a:lnTo>
                    <a:lnTo>
                      <a:pt x="8010" y="1094"/>
                    </a:lnTo>
                    <a:lnTo>
                      <a:pt x="8004" y="1043"/>
                    </a:lnTo>
                    <a:lnTo>
                      <a:pt x="7996" y="993"/>
                    </a:lnTo>
                    <a:lnTo>
                      <a:pt x="7988" y="944"/>
                    </a:lnTo>
                    <a:lnTo>
                      <a:pt x="7980" y="895"/>
                    </a:lnTo>
                    <a:lnTo>
                      <a:pt x="7971" y="846"/>
                    </a:lnTo>
                    <a:lnTo>
                      <a:pt x="7961" y="797"/>
                    </a:lnTo>
                    <a:lnTo>
                      <a:pt x="7951" y="748"/>
                    </a:lnTo>
                    <a:lnTo>
                      <a:pt x="7940" y="700"/>
                    </a:lnTo>
                    <a:lnTo>
                      <a:pt x="7929" y="651"/>
                    </a:lnTo>
                    <a:lnTo>
                      <a:pt x="7916" y="603"/>
                    </a:lnTo>
                    <a:lnTo>
                      <a:pt x="7904" y="555"/>
                    </a:lnTo>
                    <a:lnTo>
                      <a:pt x="7891" y="507"/>
                    </a:lnTo>
                    <a:lnTo>
                      <a:pt x="7877" y="460"/>
                    </a:lnTo>
                    <a:lnTo>
                      <a:pt x="7863" y="412"/>
                    </a:lnTo>
                    <a:lnTo>
                      <a:pt x="7848" y="366"/>
                    </a:lnTo>
                    <a:lnTo>
                      <a:pt x="7833" y="320"/>
                    </a:lnTo>
                    <a:lnTo>
                      <a:pt x="7817" y="273"/>
                    </a:lnTo>
                    <a:lnTo>
                      <a:pt x="7800" y="227"/>
                    </a:lnTo>
                    <a:lnTo>
                      <a:pt x="7783" y="180"/>
                    </a:lnTo>
                    <a:lnTo>
                      <a:pt x="7766" y="135"/>
                    </a:lnTo>
                    <a:lnTo>
                      <a:pt x="7747" y="90"/>
                    </a:lnTo>
                    <a:lnTo>
                      <a:pt x="7728" y="45"/>
                    </a:lnTo>
                    <a:lnTo>
                      <a:pt x="7720" y="39"/>
                    </a:lnTo>
                    <a:lnTo>
                      <a:pt x="7713" y="33"/>
                    </a:lnTo>
                    <a:lnTo>
                      <a:pt x="7704" y="28"/>
                    </a:lnTo>
                    <a:lnTo>
                      <a:pt x="7697" y="21"/>
                    </a:lnTo>
                    <a:lnTo>
                      <a:pt x="7688" y="16"/>
                    </a:lnTo>
                    <a:lnTo>
                      <a:pt x="7679" y="11"/>
                    </a:lnTo>
                    <a:lnTo>
                      <a:pt x="7672" y="5"/>
                    </a:lnTo>
                    <a:lnTo>
                      <a:pt x="7663" y="0"/>
                    </a:lnTo>
                    <a:lnTo>
                      <a:pt x="7684" y="45"/>
                    </a:lnTo>
                    <a:lnTo>
                      <a:pt x="7703" y="92"/>
                    </a:lnTo>
                    <a:lnTo>
                      <a:pt x="7721" y="139"/>
                    </a:lnTo>
                    <a:lnTo>
                      <a:pt x="7740" y="186"/>
                    </a:lnTo>
                    <a:lnTo>
                      <a:pt x="7758" y="233"/>
                    </a:lnTo>
                    <a:lnTo>
                      <a:pt x="7774" y="281"/>
                    </a:lnTo>
                    <a:lnTo>
                      <a:pt x="7792" y="328"/>
                    </a:lnTo>
                    <a:lnTo>
                      <a:pt x="7808" y="377"/>
                    </a:lnTo>
                    <a:lnTo>
                      <a:pt x="7823" y="425"/>
                    </a:lnTo>
                    <a:lnTo>
                      <a:pt x="7837" y="474"/>
                    </a:lnTo>
                    <a:lnTo>
                      <a:pt x="7851" y="523"/>
                    </a:lnTo>
                    <a:lnTo>
                      <a:pt x="7865" y="572"/>
                    </a:lnTo>
                    <a:lnTo>
                      <a:pt x="7878" y="622"/>
                    </a:lnTo>
                    <a:lnTo>
                      <a:pt x="7890" y="672"/>
                    </a:lnTo>
                    <a:lnTo>
                      <a:pt x="7902" y="721"/>
                    </a:lnTo>
                    <a:lnTo>
                      <a:pt x="7913" y="771"/>
                    </a:lnTo>
                    <a:lnTo>
                      <a:pt x="7924" y="822"/>
                    </a:lnTo>
                    <a:lnTo>
                      <a:pt x="7933" y="873"/>
                    </a:lnTo>
                    <a:lnTo>
                      <a:pt x="7942" y="923"/>
                    </a:lnTo>
                    <a:lnTo>
                      <a:pt x="7951" y="974"/>
                    </a:lnTo>
                    <a:lnTo>
                      <a:pt x="7959" y="1026"/>
                    </a:lnTo>
                    <a:lnTo>
                      <a:pt x="7966" y="1078"/>
                    </a:lnTo>
                    <a:lnTo>
                      <a:pt x="7972" y="1130"/>
                    </a:lnTo>
                    <a:lnTo>
                      <a:pt x="7979" y="1181"/>
                    </a:lnTo>
                    <a:lnTo>
                      <a:pt x="7983" y="1233"/>
                    </a:lnTo>
                    <a:lnTo>
                      <a:pt x="7988" y="1285"/>
                    </a:lnTo>
                    <a:lnTo>
                      <a:pt x="7992" y="1338"/>
                    </a:lnTo>
                    <a:lnTo>
                      <a:pt x="7995" y="1391"/>
                    </a:lnTo>
                    <a:lnTo>
                      <a:pt x="7997" y="1444"/>
                    </a:lnTo>
                    <a:lnTo>
                      <a:pt x="7999" y="1497"/>
                    </a:lnTo>
                    <a:lnTo>
                      <a:pt x="8000" y="1550"/>
                    </a:lnTo>
                    <a:lnTo>
                      <a:pt x="8000" y="1604"/>
                    </a:lnTo>
                    <a:lnTo>
                      <a:pt x="8000" y="1671"/>
                    </a:lnTo>
                    <a:lnTo>
                      <a:pt x="7998" y="1737"/>
                    </a:lnTo>
                    <a:lnTo>
                      <a:pt x="7996" y="1803"/>
                    </a:lnTo>
                    <a:lnTo>
                      <a:pt x="7992" y="1869"/>
                    </a:lnTo>
                    <a:lnTo>
                      <a:pt x="7987" y="1935"/>
                    </a:lnTo>
                    <a:lnTo>
                      <a:pt x="7981" y="2001"/>
                    </a:lnTo>
                    <a:lnTo>
                      <a:pt x="7973" y="2066"/>
                    </a:lnTo>
                    <a:lnTo>
                      <a:pt x="7966" y="2131"/>
                    </a:lnTo>
                    <a:lnTo>
                      <a:pt x="7957" y="2196"/>
                    </a:lnTo>
                    <a:lnTo>
                      <a:pt x="7946" y="2259"/>
                    </a:lnTo>
                    <a:lnTo>
                      <a:pt x="7935" y="2324"/>
                    </a:lnTo>
                    <a:lnTo>
                      <a:pt x="7924" y="2387"/>
                    </a:lnTo>
                    <a:lnTo>
                      <a:pt x="7909" y="2450"/>
                    </a:lnTo>
                    <a:lnTo>
                      <a:pt x="7895" y="2513"/>
                    </a:lnTo>
                    <a:lnTo>
                      <a:pt x="7880" y="2576"/>
                    </a:lnTo>
                    <a:lnTo>
                      <a:pt x="7864" y="2637"/>
                    </a:lnTo>
                    <a:lnTo>
                      <a:pt x="7904" y="2648"/>
                    </a:lnTo>
                    <a:lnTo>
                      <a:pt x="7921" y="2585"/>
                    </a:lnTo>
                    <a:lnTo>
                      <a:pt x="7937" y="2523"/>
                    </a:lnTo>
                    <a:lnTo>
                      <a:pt x="7951" y="2459"/>
                    </a:lnTo>
                    <a:lnTo>
                      <a:pt x="7964" y="2395"/>
                    </a:lnTo>
                    <a:lnTo>
                      <a:pt x="7976" y="2332"/>
                    </a:lnTo>
                    <a:lnTo>
                      <a:pt x="7987" y="2267"/>
                    </a:lnTo>
                    <a:lnTo>
                      <a:pt x="7998" y="2202"/>
                    </a:lnTo>
                    <a:lnTo>
                      <a:pt x="8007" y="2136"/>
                    </a:lnTo>
                    <a:lnTo>
                      <a:pt x="8015" y="2071"/>
                    </a:lnTo>
                    <a:lnTo>
                      <a:pt x="8022" y="2005"/>
                    </a:lnTo>
                    <a:lnTo>
                      <a:pt x="8028" y="1938"/>
                    </a:lnTo>
                    <a:lnTo>
                      <a:pt x="8034" y="1873"/>
                    </a:lnTo>
                    <a:lnTo>
                      <a:pt x="8037" y="1806"/>
                    </a:lnTo>
                    <a:lnTo>
                      <a:pt x="8040" y="1739"/>
                    </a:lnTo>
                    <a:lnTo>
                      <a:pt x="8041" y="1671"/>
                    </a:lnTo>
                    <a:lnTo>
                      <a:pt x="8042" y="1604"/>
                    </a:lnTo>
                    <a:close/>
                    <a:moveTo>
                      <a:pt x="314" y="44"/>
                    </a:moveTo>
                    <a:lnTo>
                      <a:pt x="295" y="90"/>
                    </a:lnTo>
                    <a:lnTo>
                      <a:pt x="277" y="135"/>
                    </a:lnTo>
                    <a:lnTo>
                      <a:pt x="259" y="180"/>
                    </a:lnTo>
                    <a:lnTo>
                      <a:pt x="242" y="227"/>
                    </a:lnTo>
                    <a:lnTo>
                      <a:pt x="226" y="273"/>
                    </a:lnTo>
                    <a:lnTo>
                      <a:pt x="210" y="320"/>
                    </a:lnTo>
                    <a:lnTo>
                      <a:pt x="194" y="366"/>
                    </a:lnTo>
                    <a:lnTo>
                      <a:pt x="179" y="412"/>
                    </a:lnTo>
                    <a:lnTo>
                      <a:pt x="165" y="460"/>
                    </a:lnTo>
                    <a:lnTo>
                      <a:pt x="151" y="507"/>
                    </a:lnTo>
                    <a:lnTo>
                      <a:pt x="138" y="555"/>
                    </a:lnTo>
                    <a:lnTo>
                      <a:pt x="125" y="603"/>
                    </a:lnTo>
                    <a:lnTo>
                      <a:pt x="113" y="651"/>
                    </a:lnTo>
                    <a:lnTo>
                      <a:pt x="103" y="700"/>
                    </a:lnTo>
                    <a:lnTo>
                      <a:pt x="92" y="748"/>
                    </a:lnTo>
                    <a:lnTo>
                      <a:pt x="81" y="797"/>
                    </a:lnTo>
                    <a:lnTo>
                      <a:pt x="71" y="846"/>
                    </a:lnTo>
                    <a:lnTo>
                      <a:pt x="63" y="895"/>
                    </a:lnTo>
                    <a:lnTo>
                      <a:pt x="54" y="944"/>
                    </a:lnTo>
                    <a:lnTo>
                      <a:pt x="46" y="993"/>
                    </a:lnTo>
                    <a:lnTo>
                      <a:pt x="39" y="1043"/>
                    </a:lnTo>
                    <a:lnTo>
                      <a:pt x="32" y="1094"/>
                    </a:lnTo>
                    <a:lnTo>
                      <a:pt x="26" y="1144"/>
                    </a:lnTo>
                    <a:lnTo>
                      <a:pt x="20" y="1194"/>
                    </a:lnTo>
                    <a:lnTo>
                      <a:pt x="16" y="1245"/>
                    </a:lnTo>
                    <a:lnTo>
                      <a:pt x="12" y="1296"/>
                    </a:lnTo>
                    <a:lnTo>
                      <a:pt x="9" y="1347"/>
                    </a:lnTo>
                    <a:lnTo>
                      <a:pt x="5" y="1397"/>
                    </a:lnTo>
                    <a:lnTo>
                      <a:pt x="3" y="1448"/>
                    </a:lnTo>
                    <a:lnTo>
                      <a:pt x="1" y="1500"/>
                    </a:lnTo>
                    <a:lnTo>
                      <a:pt x="0" y="1552"/>
                    </a:lnTo>
                    <a:lnTo>
                      <a:pt x="0" y="1604"/>
                    </a:lnTo>
                    <a:lnTo>
                      <a:pt x="0" y="1656"/>
                    </a:lnTo>
                    <a:lnTo>
                      <a:pt x="1" y="1706"/>
                    </a:lnTo>
                    <a:lnTo>
                      <a:pt x="3" y="1758"/>
                    </a:lnTo>
                    <a:lnTo>
                      <a:pt x="5" y="1810"/>
                    </a:lnTo>
                    <a:lnTo>
                      <a:pt x="9" y="1861"/>
                    </a:lnTo>
                    <a:lnTo>
                      <a:pt x="12" y="1911"/>
                    </a:lnTo>
                    <a:lnTo>
                      <a:pt x="16" y="1962"/>
                    </a:lnTo>
                    <a:lnTo>
                      <a:pt x="20" y="2013"/>
                    </a:lnTo>
                    <a:lnTo>
                      <a:pt x="26" y="2063"/>
                    </a:lnTo>
                    <a:lnTo>
                      <a:pt x="32" y="2113"/>
                    </a:lnTo>
                    <a:lnTo>
                      <a:pt x="39" y="2163"/>
                    </a:lnTo>
                    <a:lnTo>
                      <a:pt x="46" y="2213"/>
                    </a:lnTo>
                    <a:lnTo>
                      <a:pt x="54" y="2262"/>
                    </a:lnTo>
                    <a:lnTo>
                      <a:pt x="63" y="2312"/>
                    </a:lnTo>
                    <a:lnTo>
                      <a:pt x="71" y="2362"/>
                    </a:lnTo>
                    <a:lnTo>
                      <a:pt x="81" y="2410"/>
                    </a:lnTo>
                    <a:lnTo>
                      <a:pt x="92" y="2459"/>
                    </a:lnTo>
                    <a:lnTo>
                      <a:pt x="103" y="2508"/>
                    </a:lnTo>
                    <a:lnTo>
                      <a:pt x="113" y="2556"/>
                    </a:lnTo>
                    <a:lnTo>
                      <a:pt x="125" y="2604"/>
                    </a:lnTo>
                    <a:lnTo>
                      <a:pt x="138" y="2652"/>
                    </a:lnTo>
                    <a:lnTo>
                      <a:pt x="151" y="2700"/>
                    </a:lnTo>
                    <a:lnTo>
                      <a:pt x="165" y="2747"/>
                    </a:lnTo>
                    <a:lnTo>
                      <a:pt x="179" y="2794"/>
                    </a:lnTo>
                    <a:lnTo>
                      <a:pt x="194" y="2841"/>
                    </a:lnTo>
                    <a:lnTo>
                      <a:pt x="210" y="2888"/>
                    </a:lnTo>
                    <a:lnTo>
                      <a:pt x="226" y="2934"/>
                    </a:lnTo>
                    <a:lnTo>
                      <a:pt x="242" y="2981"/>
                    </a:lnTo>
                    <a:lnTo>
                      <a:pt x="259" y="3026"/>
                    </a:lnTo>
                    <a:lnTo>
                      <a:pt x="277" y="3071"/>
                    </a:lnTo>
                    <a:lnTo>
                      <a:pt x="295" y="3117"/>
                    </a:lnTo>
                    <a:lnTo>
                      <a:pt x="314" y="3162"/>
                    </a:lnTo>
                    <a:lnTo>
                      <a:pt x="322" y="3168"/>
                    </a:lnTo>
                    <a:lnTo>
                      <a:pt x="330" y="3174"/>
                    </a:lnTo>
                    <a:lnTo>
                      <a:pt x="338" y="3179"/>
                    </a:lnTo>
                    <a:lnTo>
                      <a:pt x="346" y="3185"/>
                    </a:lnTo>
                    <a:lnTo>
                      <a:pt x="354" y="3190"/>
                    </a:lnTo>
                    <a:lnTo>
                      <a:pt x="363" y="3197"/>
                    </a:lnTo>
                    <a:lnTo>
                      <a:pt x="371" y="3202"/>
                    </a:lnTo>
                    <a:lnTo>
                      <a:pt x="379" y="3207"/>
                    </a:lnTo>
                    <a:lnTo>
                      <a:pt x="359" y="3161"/>
                    </a:lnTo>
                    <a:lnTo>
                      <a:pt x="339" y="3115"/>
                    </a:lnTo>
                    <a:lnTo>
                      <a:pt x="321" y="3068"/>
                    </a:lnTo>
                    <a:lnTo>
                      <a:pt x="303" y="3021"/>
                    </a:lnTo>
                    <a:lnTo>
                      <a:pt x="284" y="2974"/>
                    </a:lnTo>
                    <a:lnTo>
                      <a:pt x="268" y="2926"/>
                    </a:lnTo>
                    <a:lnTo>
                      <a:pt x="251" y="2878"/>
                    </a:lnTo>
                    <a:lnTo>
                      <a:pt x="234" y="2831"/>
                    </a:lnTo>
                    <a:lnTo>
                      <a:pt x="219" y="2782"/>
                    </a:lnTo>
                    <a:lnTo>
                      <a:pt x="205" y="2733"/>
                    </a:lnTo>
                    <a:lnTo>
                      <a:pt x="190" y="2684"/>
                    </a:lnTo>
                    <a:lnTo>
                      <a:pt x="177" y="2635"/>
                    </a:lnTo>
                    <a:lnTo>
                      <a:pt x="164" y="2585"/>
                    </a:lnTo>
                    <a:lnTo>
                      <a:pt x="152" y="2536"/>
                    </a:lnTo>
                    <a:lnTo>
                      <a:pt x="140" y="2486"/>
                    </a:lnTo>
                    <a:lnTo>
                      <a:pt x="130" y="2435"/>
                    </a:lnTo>
                    <a:lnTo>
                      <a:pt x="119" y="2385"/>
                    </a:lnTo>
                    <a:lnTo>
                      <a:pt x="109" y="2335"/>
                    </a:lnTo>
                    <a:lnTo>
                      <a:pt x="99" y="2283"/>
                    </a:lnTo>
                    <a:lnTo>
                      <a:pt x="92" y="2232"/>
                    </a:lnTo>
                    <a:lnTo>
                      <a:pt x="83" y="2181"/>
                    </a:lnTo>
                    <a:lnTo>
                      <a:pt x="77" y="2130"/>
                    </a:lnTo>
                    <a:lnTo>
                      <a:pt x="70" y="2078"/>
                    </a:lnTo>
                    <a:lnTo>
                      <a:pt x="64" y="2026"/>
                    </a:lnTo>
                    <a:lnTo>
                      <a:pt x="59" y="1974"/>
                    </a:lnTo>
                    <a:lnTo>
                      <a:pt x="54" y="1921"/>
                    </a:lnTo>
                    <a:lnTo>
                      <a:pt x="51" y="1868"/>
                    </a:lnTo>
                    <a:lnTo>
                      <a:pt x="48" y="1816"/>
                    </a:lnTo>
                    <a:lnTo>
                      <a:pt x="45" y="1764"/>
                    </a:lnTo>
                    <a:lnTo>
                      <a:pt x="43" y="1711"/>
                    </a:lnTo>
                    <a:lnTo>
                      <a:pt x="42" y="1657"/>
                    </a:lnTo>
                    <a:lnTo>
                      <a:pt x="42" y="1604"/>
                    </a:lnTo>
                    <a:lnTo>
                      <a:pt x="42" y="1550"/>
                    </a:lnTo>
                    <a:lnTo>
                      <a:pt x="43" y="1497"/>
                    </a:lnTo>
                    <a:lnTo>
                      <a:pt x="45" y="1444"/>
                    </a:lnTo>
                    <a:lnTo>
                      <a:pt x="48" y="1391"/>
                    </a:lnTo>
                    <a:lnTo>
                      <a:pt x="51" y="1338"/>
                    </a:lnTo>
                    <a:lnTo>
                      <a:pt x="54" y="1285"/>
                    </a:lnTo>
                    <a:lnTo>
                      <a:pt x="59" y="1233"/>
                    </a:lnTo>
                    <a:lnTo>
                      <a:pt x="64" y="1181"/>
                    </a:lnTo>
                    <a:lnTo>
                      <a:pt x="70" y="1130"/>
                    </a:lnTo>
                    <a:lnTo>
                      <a:pt x="77" y="1078"/>
                    </a:lnTo>
                    <a:lnTo>
                      <a:pt x="83" y="1026"/>
                    </a:lnTo>
                    <a:lnTo>
                      <a:pt x="92" y="974"/>
                    </a:lnTo>
                    <a:lnTo>
                      <a:pt x="99" y="923"/>
                    </a:lnTo>
                    <a:lnTo>
                      <a:pt x="109" y="873"/>
                    </a:lnTo>
                    <a:lnTo>
                      <a:pt x="119" y="822"/>
                    </a:lnTo>
                    <a:lnTo>
                      <a:pt x="130" y="771"/>
                    </a:lnTo>
                    <a:lnTo>
                      <a:pt x="140" y="721"/>
                    </a:lnTo>
                    <a:lnTo>
                      <a:pt x="152" y="672"/>
                    </a:lnTo>
                    <a:lnTo>
                      <a:pt x="164" y="622"/>
                    </a:lnTo>
                    <a:lnTo>
                      <a:pt x="177" y="572"/>
                    </a:lnTo>
                    <a:lnTo>
                      <a:pt x="190" y="523"/>
                    </a:lnTo>
                    <a:lnTo>
                      <a:pt x="205" y="474"/>
                    </a:lnTo>
                    <a:lnTo>
                      <a:pt x="219" y="425"/>
                    </a:lnTo>
                    <a:lnTo>
                      <a:pt x="234" y="377"/>
                    </a:lnTo>
                    <a:lnTo>
                      <a:pt x="251" y="328"/>
                    </a:lnTo>
                    <a:lnTo>
                      <a:pt x="268" y="281"/>
                    </a:lnTo>
                    <a:lnTo>
                      <a:pt x="284" y="233"/>
                    </a:lnTo>
                    <a:lnTo>
                      <a:pt x="303" y="186"/>
                    </a:lnTo>
                    <a:lnTo>
                      <a:pt x="321" y="139"/>
                    </a:lnTo>
                    <a:lnTo>
                      <a:pt x="339" y="92"/>
                    </a:lnTo>
                    <a:lnTo>
                      <a:pt x="359" y="45"/>
                    </a:lnTo>
                    <a:lnTo>
                      <a:pt x="379" y="0"/>
                    </a:lnTo>
                    <a:lnTo>
                      <a:pt x="371" y="5"/>
                    </a:lnTo>
                    <a:lnTo>
                      <a:pt x="363" y="11"/>
                    </a:lnTo>
                    <a:lnTo>
                      <a:pt x="354" y="16"/>
                    </a:lnTo>
                    <a:lnTo>
                      <a:pt x="346" y="21"/>
                    </a:lnTo>
                    <a:lnTo>
                      <a:pt x="338" y="28"/>
                    </a:lnTo>
                    <a:lnTo>
                      <a:pt x="330" y="33"/>
                    </a:lnTo>
                    <a:lnTo>
                      <a:pt x="322" y="39"/>
                    </a:lnTo>
                    <a:lnTo>
                      <a:pt x="314" y="44"/>
                    </a:lnTo>
                    <a:close/>
                  </a:path>
                </a:pathLst>
              </a:custGeom>
              <a:solidFill>
                <a:srgbClr val="c9ae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86200" y="2352600"/>
                <a:ext cx="3174840" cy="1290600"/>
              </a:xfrm>
              <a:custGeom>
                <a:avLst/>
                <a:gdLst/>
                <a:ahLst/>
                <a:rect l="l" t="t" r="r" b="b"/>
                <a:pathLst>
                  <a:path w="8002" h="3252">
                    <a:moveTo>
                      <a:pt x="8002" y="1627"/>
                    </a:moveTo>
                    <a:lnTo>
                      <a:pt x="8001" y="1574"/>
                    </a:lnTo>
                    <a:lnTo>
                      <a:pt x="8000" y="1521"/>
                    </a:lnTo>
                    <a:lnTo>
                      <a:pt x="7999" y="1469"/>
                    </a:lnTo>
                    <a:lnTo>
                      <a:pt x="7996" y="1417"/>
                    </a:lnTo>
                    <a:lnTo>
                      <a:pt x="7993" y="1365"/>
                    </a:lnTo>
                    <a:lnTo>
                      <a:pt x="7989" y="1313"/>
                    </a:lnTo>
                    <a:lnTo>
                      <a:pt x="7985" y="1262"/>
                    </a:lnTo>
                    <a:lnTo>
                      <a:pt x="7980" y="1211"/>
                    </a:lnTo>
                    <a:lnTo>
                      <a:pt x="7974" y="1159"/>
                    </a:lnTo>
                    <a:lnTo>
                      <a:pt x="7968" y="1108"/>
                    </a:lnTo>
                    <a:lnTo>
                      <a:pt x="7961" y="1058"/>
                    </a:lnTo>
                    <a:lnTo>
                      <a:pt x="7953" y="1007"/>
                    </a:lnTo>
                    <a:lnTo>
                      <a:pt x="7946" y="956"/>
                    </a:lnTo>
                    <a:lnTo>
                      <a:pt x="7937" y="906"/>
                    </a:lnTo>
                    <a:lnTo>
                      <a:pt x="7927" y="857"/>
                    </a:lnTo>
                    <a:lnTo>
                      <a:pt x="7917" y="807"/>
                    </a:lnTo>
                    <a:lnTo>
                      <a:pt x="7907" y="757"/>
                    </a:lnTo>
                    <a:lnTo>
                      <a:pt x="7895" y="708"/>
                    </a:lnTo>
                    <a:lnTo>
                      <a:pt x="7883" y="659"/>
                    </a:lnTo>
                    <a:lnTo>
                      <a:pt x="7871" y="610"/>
                    </a:lnTo>
                    <a:lnTo>
                      <a:pt x="7858" y="562"/>
                    </a:lnTo>
                    <a:lnTo>
                      <a:pt x="7844" y="513"/>
                    </a:lnTo>
                    <a:lnTo>
                      <a:pt x="7830" y="465"/>
                    </a:lnTo>
                    <a:lnTo>
                      <a:pt x="7815" y="417"/>
                    </a:lnTo>
                    <a:lnTo>
                      <a:pt x="7800" y="370"/>
                    </a:lnTo>
                    <a:lnTo>
                      <a:pt x="7784" y="322"/>
                    </a:lnTo>
                    <a:lnTo>
                      <a:pt x="7767" y="276"/>
                    </a:lnTo>
                    <a:lnTo>
                      <a:pt x="7750" y="229"/>
                    </a:lnTo>
                    <a:lnTo>
                      <a:pt x="7732" y="183"/>
                    </a:lnTo>
                    <a:lnTo>
                      <a:pt x="7713" y="136"/>
                    </a:lnTo>
                    <a:lnTo>
                      <a:pt x="7695" y="90"/>
                    </a:lnTo>
                    <a:lnTo>
                      <a:pt x="7676" y="44"/>
                    </a:lnTo>
                    <a:lnTo>
                      <a:pt x="7668" y="39"/>
                    </a:lnTo>
                    <a:lnTo>
                      <a:pt x="7659" y="34"/>
                    </a:lnTo>
                    <a:lnTo>
                      <a:pt x="7652" y="28"/>
                    </a:lnTo>
                    <a:lnTo>
                      <a:pt x="7643" y="22"/>
                    </a:lnTo>
                    <a:lnTo>
                      <a:pt x="7636" y="16"/>
                    </a:lnTo>
                    <a:lnTo>
                      <a:pt x="7627" y="11"/>
                    </a:lnTo>
                    <a:lnTo>
                      <a:pt x="7619" y="6"/>
                    </a:lnTo>
                    <a:lnTo>
                      <a:pt x="7611" y="0"/>
                    </a:lnTo>
                    <a:lnTo>
                      <a:pt x="7631" y="47"/>
                    </a:lnTo>
                    <a:lnTo>
                      <a:pt x="7652" y="94"/>
                    </a:lnTo>
                    <a:lnTo>
                      <a:pt x="7671" y="142"/>
                    </a:lnTo>
                    <a:lnTo>
                      <a:pt x="7691" y="189"/>
                    </a:lnTo>
                    <a:lnTo>
                      <a:pt x="7709" y="237"/>
                    </a:lnTo>
                    <a:lnTo>
                      <a:pt x="7726" y="285"/>
                    </a:lnTo>
                    <a:lnTo>
                      <a:pt x="7744" y="334"/>
                    </a:lnTo>
                    <a:lnTo>
                      <a:pt x="7760" y="383"/>
                    </a:lnTo>
                    <a:lnTo>
                      <a:pt x="7776" y="431"/>
                    </a:lnTo>
                    <a:lnTo>
                      <a:pt x="7791" y="481"/>
                    </a:lnTo>
                    <a:lnTo>
                      <a:pt x="7805" y="530"/>
                    </a:lnTo>
                    <a:lnTo>
                      <a:pt x="7819" y="580"/>
                    </a:lnTo>
                    <a:lnTo>
                      <a:pt x="7833" y="630"/>
                    </a:lnTo>
                    <a:lnTo>
                      <a:pt x="7846" y="681"/>
                    </a:lnTo>
                    <a:lnTo>
                      <a:pt x="7858" y="731"/>
                    </a:lnTo>
                    <a:lnTo>
                      <a:pt x="7869" y="782"/>
                    </a:lnTo>
                    <a:lnTo>
                      <a:pt x="7880" y="833"/>
                    </a:lnTo>
                    <a:lnTo>
                      <a:pt x="7891" y="885"/>
                    </a:lnTo>
                    <a:lnTo>
                      <a:pt x="7899" y="937"/>
                    </a:lnTo>
                    <a:lnTo>
                      <a:pt x="7908" y="988"/>
                    </a:lnTo>
                    <a:lnTo>
                      <a:pt x="7917" y="1040"/>
                    </a:lnTo>
                    <a:lnTo>
                      <a:pt x="7924" y="1092"/>
                    </a:lnTo>
                    <a:lnTo>
                      <a:pt x="7931" y="1145"/>
                    </a:lnTo>
                    <a:lnTo>
                      <a:pt x="7937" y="1198"/>
                    </a:lnTo>
                    <a:lnTo>
                      <a:pt x="7942" y="1251"/>
                    </a:lnTo>
                    <a:lnTo>
                      <a:pt x="7947" y="1304"/>
                    </a:lnTo>
                    <a:lnTo>
                      <a:pt x="7951" y="1357"/>
                    </a:lnTo>
                    <a:lnTo>
                      <a:pt x="7954" y="1411"/>
                    </a:lnTo>
                    <a:lnTo>
                      <a:pt x="7956" y="1465"/>
                    </a:lnTo>
                    <a:lnTo>
                      <a:pt x="7959" y="1518"/>
                    </a:lnTo>
                    <a:lnTo>
                      <a:pt x="7960" y="1573"/>
                    </a:lnTo>
                    <a:lnTo>
                      <a:pt x="7960" y="1627"/>
                    </a:lnTo>
                    <a:lnTo>
                      <a:pt x="7959" y="1693"/>
                    </a:lnTo>
                    <a:lnTo>
                      <a:pt x="7958" y="1760"/>
                    </a:lnTo>
                    <a:lnTo>
                      <a:pt x="7954" y="1825"/>
                    </a:lnTo>
                    <a:lnTo>
                      <a:pt x="7951" y="1891"/>
                    </a:lnTo>
                    <a:lnTo>
                      <a:pt x="7946" y="1956"/>
                    </a:lnTo>
                    <a:lnTo>
                      <a:pt x="7940" y="2022"/>
                    </a:lnTo>
                    <a:lnTo>
                      <a:pt x="7933" y="2087"/>
                    </a:lnTo>
                    <a:lnTo>
                      <a:pt x="7925" y="2152"/>
                    </a:lnTo>
                    <a:lnTo>
                      <a:pt x="7915" y="2215"/>
                    </a:lnTo>
                    <a:lnTo>
                      <a:pt x="7906" y="2279"/>
                    </a:lnTo>
                    <a:lnTo>
                      <a:pt x="7895" y="2343"/>
                    </a:lnTo>
                    <a:lnTo>
                      <a:pt x="7883" y="2406"/>
                    </a:lnTo>
                    <a:lnTo>
                      <a:pt x="7869" y="2469"/>
                    </a:lnTo>
                    <a:lnTo>
                      <a:pt x="7855" y="2532"/>
                    </a:lnTo>
                    <a:lnTo>
                      <a:pt x="7840" y="2593"/>
                    </a:lnTo>
                    <a:lnTo>
                      <a:pt x="7825" y="2655"/>
                    </a:lnTo>
                    <a:lnTo>
                      <a:pt x="7865" y="2666"/>
                    </a:lnTo>
                    <a:lnTo>
                      <a:pt x="7881" y="2603"/>
                    </a:lnTo>
                    <a:lnTo>
                      <a:pt x="7896" y="2540"/>
                    </a:lnTo>
                    <a:lnTo>
                      <a:pt x="7910" y="2478"/>
                    </a:lnTo>
                    <a:lnTo>
                      <a:pt x="7923" y="2414"/>
                    </a:lnTo>
                    <a:lnTo>
                      <a:pt x="7936" y="2350"/>
                    </a:lnTo>
                    <a:lnTo>
                      <a:pt x="7947" y="2287"/>
                    </a:lnTo>
                    <a:lnTo>
                      <a:pt x="7958" y="2222"/>
                    </a:lnTo>
                    <a:lnTo>
                      <a:pt x="7966" y="2157"/>
                    </a:lnTo>
                    <a:lnTo>
                      <a:pt x="7975" y="2091"/>
                    </a:lnTo>
                    <a:lnTo>
                      <a:pt x="7981" y="2026"/>
                    </a:lnTo>
                    <a:lnTo>
                      <a:pt x="7988" y="1960"/>
                    </a:lnTo>
                    <a:lnTo>
                      <a:pt x="7992" y="1893"/>
                    </a:lnTo>
                    <a:lnTo>
                      <a:pt x="7996" y="1828"/>
                    </a:lnTo>
                    <a:lnTo>
                      <a:pt x="7999" y="1761"/>
                    </a:lnTo>
                    <a:lnTo>
                      <a:pt x="8001" y="1694"/>
                    </a:lnTo>
                    <a:lnTo>
                      <a:pt x="8002" y="1627"/>
                    </a:lnTo>
                    <a:close/>
                    <a:moveTo>
                      <a:pt x="327" y="44"/>
                    </a:moveTo>
                    <a:lnTo>
                      <a:pt x="307" y="90"/>
                    </a:lnTo>
                    <a:lnTo>
                      <a:pt x="289" y="136"/>
                    </a:lnTo>
                    <a:lnTo>
                      <a:pt x="271" y="183"/>
                    </a:lnTo>
                    <a:lnTo>
                      <a:pt x="252" y="229"/>
                    </a:lnTo>
                    <a:lnTo>
                      <a:pt x="235" y="276"/>
                    </a:lnTo>
                    <a:lnTo>
                      <a:pt x="219" y="322"/>
                    </a:lnTo>
                    <a:lnTo>
                      <a:pt x="203" y="370"/>
                    </a:lnTo>
                    <a:lnTo>
                      <a:pt x="187" y="417"/>
                    </a:lnTo>
                    <a:lnTo>
                      <a:pt x="172" y="465"/>
                    </a:lnTo>
                    <a:lnTo>
                      <a:pt x="158" y="513"/>
                    </a:lnTo>
                    <a:lnTo>
                      <a:pt x="144" y="562"/>
                    </a:lnTo>
                    <a:lnTo>
                      <a:pt x="131" y="610"/>
                    </a:lnTo>
                    <a:lnTo>
                      <a:pt x="119" y="659"/>
                    </a:lnTo>
                    <a:lnTo>
                      <a:pt x="107" y="708"/>
                    </a:lnTo>
                    <a:lnTo>
                      <a:pt x="96" y="757"/>
                    </a:lnTo>
                    <a:lnTo>
                      <a:pt x="85" y="807"/>
                    </a:lnTo>
                    <a:lnTo>
                      <a:pt x="75" y="857"/>
                    </a:lnTo>
                    <a:lnTo>
                      <a:pt x="65" y="906"/>
                    </a:lnTo>
                    <a:lnTo>
                      <a:pt x="57" y="956"/>
                    </a:lnTo>
                    <a:lnTo>
                      <a:pt x="49" y="1007"/>
                    </a:lnTo>
                    <a:lnTo>
                      <a:pt x="42" y="1058"/>
                    </a:lnTo>
                    <a:lnTo>
                      <a:pt x="34" y="1108"/>
                    </a:lnTo>
                    <a:lnTo>
                      <a:pt x="28" y="1159"/>
                    </a:lnTo>
                    <a:lnTo>
                      <a:pt x="22" y="1211"/>
                    </a:lnTo>
                    <a:lnTo>
                      <a:pt x="18" y="1262"/>
                    </a:lnTo>
                    <a:lnTo>
                      <a:pt x="13" y="1313"/>
                    </a:lnTo>
                    <a:lnTo>
                      <a:pt x="9" y="1365"/>
                    </a:lnTo>
                    <a:lnTo>
                      <a:pt x="6" y="1417"/>
                    </a:lnTo>
                    <a:lnTo>
                      <a:pt x="4" y="1469"/>
                    </a:lnTo>
                    <a:lnTo>
                      <a:pt x="3" y="1521"/>
                    </a:lnTo>
                    <a:lnTo>
                      <a:pt x="2" y="1574"/>
                    </a:lnTo>
                    <a:lnTo>
                      <a:pt x="0" y="1627"/>
                    </a:lnTo>
                    <a:lnTo>
                      <a:pt x="2" y="1679"/>
                    </a:lnTo>
                    <a:lnTo>
                      <a:pt x="3" y="1731"/>
                    </a:lnTo>
                    <a:lnTo>
                      <a:pt x="4" y="1783"/>
                    </a:lnTo>
                    <a:lnTo>
                      <a:pt x="6" y="1836"/>
                    </a:lnTo>
                    <a:lnTo>
                      <a:pt x="9" y="1888"/>
                    </a:lnTo>
                    <a:lnTo>
                      <a:pt x="13" y="1940"/>
                    </a:lnTo>
                    <a:lnTo>
                      <a:pt x="18" y="1991"/>
                    </a:lnTo>
                    <a:lnTo>
                      <a:pt x="22" y="2042"/>
                    </a:lnTo>
                    <a:lnTo>
                      <a:pt x="28" y="2093"/>
                    </a:lnTo>
                    <a:lnTo>
                      <a:pt x="34" y="2145"/>
                    </a:lnTo>
                    <a:lnTo>
                      <a:pt x="42" y="2196"/>
                    </a:lnTo>
                    <a:lnTo>
                      <a:pt x="49" y="2246"/>
                    </a:lnTo>
                    <a:lnTo>
                      <a:pt x="57" y="2296"/>
                    </a:lnTo>
                    <a:lnTo>
                      <a:pt x="65" y="2347"/>
                    </a:lnTo>
                    <a:lnTo>
                      <a:pt x="75" y="2397"/>
                    </a:lnTo>
                    <a:lnTo>
                      <a:pt x="85" y="2446"/>
                    </a:lnTo>
                    <a:lnTo>
                      <a:pt x="96" y="2496"/>
                    </a:lnTo>
                    <a:lnTo>
                      <a:pt x="107" y="2545"/>
                    </a:lnTo>
                    <a:lnTo>
                      <a:pt x="119" y="2594"/>
                    </a:lnTo>
                    <a:lnTo>
                      <a:pt x="131" y="2643"/>
                    </a:lnTo>
                    <a:lnTo>
                      <a:pt x="144" y="2692"/>
                    </a:lnTo>
                    <a:lnTo>
                      <a:pt x="158" y="2740"/>
                    </a:lnTo>
                    <a:lnTo>
                      <a:pt x="172" y="2788"/>
                    </a:lnTo>
                    <a:lnTo>
                      <a:pt x="187" y="2835"/>
                    </a:lnTo>
                    <a:lnTo>
                      <a:pt x="203" y="2883"/>
                    </a:lnTo>
                    <a:lnTo>
                      <a:pt x="219" y="2930"/>
                    </a:lnTo>
                    <a:lnTo>
                      <a:pt x="235" y="2978"/>
                    </a:lnTo>
                    <a:lnTo>
                      <a:pt x="252" y="3024"/>
                    </a:lnTo>
                    <a:lnTo>
                      <a:pt x="271" y="3071"/>
                    </a:lnTo>
                    <a:lnTo>
                      <a:pt x="289" y="3117"/>
                    </a:lnTo>
                    <a:lnTo>
                      <a:pt x="307" y="3162"/>
                    </a:lnTo>
                    <a:lnTo>
                      <a:pt x="327" y="3209"/>
                    </a:lnTo>
                    <a:lnTo>
                      <a:pt x="334" y="3214"/>
                    </a:lnTo>
                    <a:lnTo>
                      <a:pt x="343" y="3220"/>
                    </a:lnTo>
                    <a:lnTo>
                      <a:pt x="351" y="3225"/>
                    </a:lnTo>
                    <a:lnTo>
                      <a:pt x="359" y="3230"/>
                    </a:lnTo>
                    <a:lnTo>
                      <a:pt x="367" y="3236"/>
                    </a:lnTo>
                    <a:lnTo>
                      <a:pt x="375" y="3241"/>
                    </a:lnTo>
                    <a:lnTo>
                      <a:pt x="383" y="3247"/>
                    </a:lnTo>
                    <a:lnTo>
                      <a:pt x="392" y="3252"/>
                    </a:lnTo>
                    <a:lnTo>
                      <a:pt x="371" y="3206"/>
                    </a:lnTo>
                    <a:lnTo>
                      <a:pt x="351" y="3159"/>
                    </a:lnTo>
                    <a:lnTo>
                      <a:pt x="331" y="3112"/>
                    </a:lnTo>
                    <a:lnTo>
                      <a:pt x="312" y="3064"/>
                    </a:lnTo>
                    <a:lnTo>
                      <a:pt x="293" y="3016"/>
                    </a:lnTo>
                    <a:lnTo>
                      <a:pt x="276" y="2968"/>
                    </a:lnTo>
                    <a:lnTo>
                      <a:pt x="259" y="2919"/>
                    </a:lnTo>
                    <a:lnTo>
                      <a:pt x="243" y="2871"/>
                    </a:lnTo>
                    <a:lnTo>
                      <a:pt x="226" y="2821"/>
                    </a:lnTo>
                    <a:lnTo>
                      <a:pt x="211" y="2773"/>
                    </a:lnTo>
                    <a:lnTo>
                      <a:pt x="196" y="2723"/>
                    </a:lnTo>
                    <a:lnTo>
                      <a:pt x="183" y="2673"/>
                    </a:lnTo>
                    <a:lnTo>
                      <a:pt x="169" y="2622"/>
                    </a:lnTo>
                    <a:lnTo>
                      <a:pt x="156" y="2573"/>
                    </a:lnTo>
                    <a:lnTo>
                      <a:pt x="144" y="2522"/>
                    </a:lnTo>
                    <a:lnTo>
                      <a:pt x="133" y="2471"/>
                    </a:lnTo>
                    <a:lnTo>
                      <a:pt x="123" y="2419"/>
                    </a:lnTo>
                    <a:lnTo>
                      <a:pt x="112" y="2369"/>
                    </a:lnTo>
                    <a:lnTo>
                      <a:pt x="103" y="2317"/>
                    </a:lnTo>
                    <a:lnTo>
                      <a:pt x="93" y="2265"/>
                    </a:lnTo>
                    <a:lnTo>
                      <a:pt x="86" y="2213"/>
                    </a:lnTo>
                    <a:lnTo>
                      <a:pt x="78" y="2160"/>
                    </a:lnTo>
                    <a:lnTo>
                      <a:pt x="72" y="2108"/>
                    </a:lnTo>
                    <a:lnTo>
                      <a:pt x="65" y="2055"/>
                    </a:lnTo>
                    <a:lnTo>
                      <a:pt x="60" y="2003"/>
                    </a:lnTo>
                    <a:lnTo>
                      <a:pt x="56" y="1950"/>
                    </a:lnTo>
                    <a:lnTo>
                      <a:pt x="51" y="1896"/>
                    </a:lnTo>
                    <a:lnTo>
                      <a:pt x="48" y="1843"/>
                    </a:lnTo>
                    <a:lnTo>
                      <a:pt x="46" y="1789"/>
                    </a:lnTo>
                    <a:lnTo>
                      <a:pt x="44" y="1735"/>
                    </a:lnTo>
                    <a:lnTo>
                      <a:pt x="43" y="1681"/>
                    </a:lnTo>
                    <a:lnTo>
                      <a:pt x="43" y="1627"/>
                    </a:lnTo>
                    <a:lnTo>
                      <a:pt x="43" y="1573"/>
                    </a:lnTo>
                    <a:lnTo>
                      <a:pt x="44" y="1518"/>
                    </a:lnTo>
                    <a:lnTo>
                      <a:pt x="46" y="1465"/>
                    </a:lnTo>
                    <a:lnTo>
                      <a:pt x="48" y="1411"/>
                    </a:lnTo>
                    <a:lnTo>
                      <a:pt x="51" y="1357"/>
                    </a:lnTo>
                    <a:lnTo>
                      <a:pt x="56" y="1304"/>
                    </a:lnTo>
                    <a:lnTo>
                      <a:pt x="60" y="1251"/>
                    </a:lnTo>
                    <a:lnTo>
                      <a:pt x="65" y="1198"/>
                    </a:lnTo>
                    <a:lnTo>
                      <a:pt x="72" y="1145"/>
                    </a:lnTo>
                    <a:lnTo>
                      <a:pt x="78" y="1092"/>
                    </a:lnTo>
                    <a:lnTo>
                      <a:pt x="86" y="1040"/>
                    </a:lnTo>
                    <a:lnTo>
                      <a:pt x="93" y="988"/>
                    </a:lnTo>
                    <a:lnTo>
                      <a:pt x="103" y="937"/>
                    </a:lnTo>
                    <a:lnTo>
                      <a:pt x="112" y="885"/>
                    </a:lnTo>
                    <a:lnTo>
                      <a:pt x="123" y="833"/>
                    </a:lnTo>
                    <a:lnTo>
                      <a:pt x="133" y="782"/>
                    </a:lnTo>
                    <a:lnTo>
                      <a:pt x="144" y="731"/>
                    </a:lnTo>
                    <a:lnTo>
                      <a:pt x="156" y="681"/>
                    </a:lnTo>
                    <a:lnTo>
                      <a:pt x="169" y="630"/>
                    </a:lnTo>
                    <a:lnTo>
                      <a:pt x="183" y="580"/>
                    </a:lnTo>
                    <a:lnTo>
                      <a:pt x="196" y="530"/>
                    </a:lnTo>
                    <a:lnTo>
                      <a:pt x="211" y="481"/>
                    </a:lnTo>
                    <a:lnTo>
                      <a:pt x="226" y="431"/>
                    </a:lnTo>
                    <a:lnTo>
                      <a:pt x="243" y="383"/>
                    </a:lnTo>
                    <a:lnTo>
                      <a:pt x="259" y="334"/>
                    </a:lnTo>
                    <a:lnTo>
                      <a:pt x="276" y="285"/>
                    </a:lnTo>
                    <a:lnTo>
                      <a:pt x="293" y="237"/>
                    </a:lnTo>
                    <a:lnTo>
                      <a:pt x="312" y="189"/>
                    </a:lnTo>
                    <a:lnTo>
                      <a:pt x="331" y="142"/>
                    </a:lnTo>
                    <a:lnTo>
                      <a:pt x="351" y="94"/>
                    </a:lnTo>
                    <a:lnTo>
                      <a:pt x="371" y="47"/>
                    </a:lnTo>
                    <a:lnTo>
                      <a:pt x="392" y="0"/>
                    </a:lnTo>
                    <a:lnTo>
                      <a:pt x="383" y="6"/>
                    </a:lnTo>
                    <a:lnTo>
                      <a:pt x="375" y="11"/>
                    </a:lnTo>
                    <a:lnTo>
                      <a:pt x="367" y="16"/>
                    </a:lnTo>
                    <a:lnTo>
                      <a:pt x="359" y="22"/>
                    </a:lnTo>
                    <a:lnTo>
                      <a:pt x="351" y="28"/>
                    </a:lnTo>
                    <a:lnTo>
                      <a:pt x="343" y="34"/>
                    </a:lnTo>
                    <a:lnTo>
                      <a:pt x="334" y="39"/>
                    </a:lnTo>
                    <a:lnTo>
                      <a:pt x="32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95560" y="2343240"/>
                <a:ext cx="3157560" cy="1307880"/>
              </a:xfrm>
              <a:custGeom>
                <a:avLst/>
                <a:gdLst/>
                <a:ahLst/>
                <a:rect l="l" t="t" r="r" b="b"/>
                <a:pathLst>
                  <a:path w="7958" h="3295">
                    <a:moveTo>
                      <a:pt x="7958" y="1648"/>
                    </a:moveTo>
                    <a:lnTo>
                      <a:pt x="7958" y="1594"/>
                    </a:lnTo>
                    <a:lnTo>
                      <a:pt x="7957" y="1541"/>
                    </a:lnTo>
                    <a:lnTo>
                      <a:pt x="7955" y="1488"/>
                    </a:lnTo>
                    <a:lnTo>
                      <a:pt x="7953" y="1435"/>
                    </a:lnTo>
                    <a:lnTo>
                      <a:pt x="7950" y="1382"/>
                    </a:lnTo>
                    <a:lnTo>
                      <a:pt x="7946" y="1329"/>
                    </a:lnTo>
                    <a:lnTo>
                      <a:pt x="7941" y="1277"/>
                    </a:lnTo>
                    <a:lnTo>
                      <a:pt x="7937" y="1225"/>
                    </a:lnTo>
                    <a:lnTo>
                      <a:pt x="7930" y="1174"/>
                    </a:lnTo>
                    <a:lnTo>
                      <a:pt x="7924" y="1122"/>
                    </a:lnTo>
                    <a:lnTo>
                      <a:pt x="7917" y="1070"/>
                    </a:lnTo>
                    <a:lnTo>
                      <a:pt x="7909" y="1018"/>
                    </a:lnTo>
                    <a:lnTo>
                      <a:pt x="7900" y="967"/>
                    </a:lnTo>
                    <a:lnTo>
                      <a:pt x="7891" y="917"/>
                    </a:lnTo>
                    <a:lnTo>
                      <a:pt x="7882" y="866"/>
                    </a:lnTo>
                    <a:lnTo>
                      <a:pt x="7871" y="815"/>
                    </a:lnTo>
                    <a:lnTo>
                      <a:pt x="7860" y="765"/>
                    </a:lnTo>
                    <a:lnTo>
                      <a:pt x="7848" y="716"/>
                    </a:lnTo>
                    <a:lnTo>
                      <a:pt x="7836" y="666"/>
                    </a:lnTo>
                    <a:lnTo>
                      <a:pt x="7823" y="616"/>
                    </a:lnTo>
                    <a:lnTo>
                      <a:pt x="7809" y="567"/>
                    </a:lnTo>
                    <a:lnTo>
                      <a:pt x="7795" y="518"/>
                    </a:lnTo>
                    <a:lnTo>
                      <a:pt x="7781" y="469"/>
                    </a:lnTo>
                    <a:lnTo>
                      <a:pt x="7766" y="421"/>
                    </a:lnTo>
                    <a:lnTo>
                      <a:pt x="7750" y="372"/>
                    </a:lnTo>
                    <a:lnTo>
                      <a:pt x="7732" y="325"/>
                    </a:lnTo>
                    <a:lnTo>
                      <a:pt x="7716" y="277"/>
                    </a:lnTo>
                    <a:lnTo>
                      <a:pt x="7698" y="230"/>
                    </a:lnTo>
                    <a:lnTo>
                      <a:pt x="7679" y="183"/>
                    </a:lnTo>
                    <a:lnTo>
                      <a:pt x="7661" y="136"/>
                    </a:lnTo>
                    <a:lnTo>
                      <a:pt x="7642" y="89"/>
                    </a:lnTo>
                    <a:lnTo>
                      <a:pt x="7621" y="44"/>
                    </a:lnTo>
                    <a:lnTo>
                      <a:pt x="7614" y="38"/>
                    </a:lnTo>
                    <a:lnTo>
                      <a:pt x="7605" y="32"/>
                    </a:lnTo>
                    <a:lnTo>
                      <a:pt x="7597" y="27"/>
                    </a:lnTo>
                    <a:lnTo>
                      <a:pt x="7589" y="21"/>
                    </a:lnTo>
                    <a:lnTo>
                      <a:pt x="7581" y="16"/>
                    </a:lnTo>
                    <a:lnTo>
                      <a:pt x="7573" y="10"/>
                    </a:lnTo>
                    <a:lnTo>
                      <a:pt x="7564" y="5"/>
                    </a:lnTo>
                    <a:lnTo>
                      <a:pt x="7556" y="0"/>
                    </a:lnTo>
                    <a:lnTo>
                      <a:pt x="7578" y="47"/>
                    </a:lnTo>
                    <a:lnTo>
                      <a:pt x="7598" y="95"/>
                    </a:lnTo>
                    <a:lnTo>
                      <a:pt x="7618" y="142"/>
                    </a:lnTo>
                    <a:lnTo>
                      <a:pt x="7638" y="191"/>
                    </a:lnTo>
                    <a:lnTo>
                      <a:pt x="7657" y="239"/>
                    </a:lnTo>
                    <a:lnTo>
                      <a:pt x="7675" y="288"/>
                    </a:lnTo>
                    <a:lnTo>
                      <a:pt x="7692" y="337"/>
                    </a:lnTo>
                    <a:lnTo>
                      <a:pt x="7710" y="386"/>
                    </a:lnTo>
                    <a:lnTo>
                      <a:pt x="7726" y="436"/>
                    </a:lnTo>
                    <a:lnTo>
                      <a:pt x="7742" y="486"/>
                    </a:lnTo>
                    <a:lnTo>
                      <a:pt x="7757" y="536"/>
                    </a:lnTo>
                    <a:lnTo>
                      <a:pt x="7772" y="586"/>
                    </a:lnTo>
                    <a:lnTo>
                      <a:pt x="7785" y="637"/>
                    </a:lnTo>
                    <a:lnTo>
                      <a:pt x="7799" y="689"/>
                    </a:lnTo>
                    <a:lnTo>
                      <a:pt x="7811" y="739"/>
                    </a:lnTo>
                    <a:lnTo>
                      <a:pt x="7823" y="791"/>
                    </a:lnTo>
                    <a:lnTo>
                      <a:pt x="7834" y="843"/>
                    </a:lnTo>
                    <a:lnTo>
                      <a:pt x="7845" y="895"/>
                    </a:lnTo>
                    <a:lnTo>
                      <a:pt x="7855" y="947"/>
                    </a:lnTo>
                    <a:lnTo>
                      <a:pt x="7863" y="1000"/>
                    </a:lnTo>
                    <a:lnTo>
                      <a:pt x="7872" y="1053"/>
                    </a:lnTo>
                    <a:lnTo>
                      <a:pt x="7879" y="1106"/>
                    </a:lnTo>
                    <a:lnTo>
                      <a:pt x="7887" y="1158"/>
                    </a:lnTo>
                    <a:lnTo>
                      <a:pt x="7893" y="1212"/>
                    </a:lnTo>
                    <a:lnTo>
                      <a:pt x="7899" y="1266"/>
                    </a:lnTo>
                    <a:lnTo>
                      <a:pt x="7903" y="1320"/>
                    </a:lnTo>
                    <a:lnTo>
                      <a:pt x="7907" y="1374"/>
                    </a:lnTo>
                    <a:lnTo>
                      <a:pt x="7911" y="1428"/>
                    </a:lnTo>
                    <a:lnTo>
                      <a:pt x="7914" y="1482"/>
                    </a:lnTo>
                    <a:lnTo>
                      <a:pt x="7915" y="1538"/>
                    </a:lnTo>
                    <a:lnTo>
                      <a:pt x="7916" y="1593"/>
                    </a:lnTo>
                    <a:lnTo>
                      <a:pt x="7917" y="1648"/>
                    </a:lnTo>
                    <a:lnTo>
                      <a:pt x="7916" y="1714"/>
                    </a:lnTo>
                    <a:lnTo>
                      <a:pt x="7915" y="1779"/>
                    </a:lnTo>
                    <a:lnTo>
                      <a:pt x="7912" y="1845"/>
                    </a:lnTo>
                    <a:lnTo>
                      <a:pt x="7909" y="1911"/>
                    </a:lnTo>
                    <a:lnTo>
                      <a:pt x="7903" y="1976"/>
                    </a:lnTo>
                    <a:lnTo>
                      <a:pt x="7898" y="2041"/>
                    </a:lnTo>
                    <a:lnTo>
                      <a:pt x="7890" y="2106"/>
                    </a:lnTo>
                    <a:lnTo>
                      <a:pt x="7883" y="2169"/>
                    </a:lnTo>
                    <a:lnTo>
                      <a:pt x="7873" y="2233"/>
                    </a:lnTo>
                    <a:lnTo>
                      <a:pt x="7863" y="2297"/>
                    </a:lnTo>
                    <a:lnTo>
                      <a:pt x="7852" y="2360"/>
                    </a:lnTo>
                    <a:lnTo>
                      <a:pt x="7840" y="2423"/>
                    </a:lnTo>
                    <a:lnTo>
                      <a:pt x="7828" y="2486"/>
                    </a:lnTo>
                    <a:lnTo>
                      <a:pt x="7813" y="2547"/>
                    </a:lnTo>
                    <a:lnTo>
                      <a:pt x="7798" y="2609"/>
                    </a:lnTo>
                    <a:lnTo>
                      <a:pt x="7782" y="2670"/>
                    </a:lnTo>
                    <a:lnTo>
                      <a:pt x="7822" y="2681"/>
                    </a:lnTo>
                    <a:lnTo>
                      <a:pt x="7838" y="2620"/>
                    </a:lnTo>
                    <a:lnTo>
                      <a:pt x="7853" y="2557"/>
                    </a:lnTo>
                    <a:lnTo>
                      <a:pt x="7867" y="2494"/>
                    </a:lnTo>
                    <a:lnTo>
                      <a:pt x="7882" y="2431"/>
                    </a:lnTo>
                    <a:lnTo>
                      <a:pt x="7893" y="2368"/>
                    </a:lnTo>
                    <a:lnTo>
                      <a:pt x="7904" y="2303"/>
                    </a:lnTo>
                    <a:lnTo>
                      <a:pt x="7915" y="2240"/>
                    </a:lnTo>
                    <a:lnTo>
                      <a:pt x="7924" y="2175"/>
                    </a:lnTo>
                    <a:lnTo>
                      <a:pt x="7931" y="2110"/>
                    </a:lnTo>
                    <a:lnTo>
                      <a:pt x="7939" y="2045"/>
                    </a:lnTo>
                    <a:lnTo>
                      <a:pt x="7945" y="1979"/>
                    </a:lnTo>
                    <a:lnTo>
                      <a:pt x="7950" y="1913"/>
                    </a:lnTo>
                    <a:lnTo>
                      <a:pt x="7954" y="1847"/>
                    </a:lnTo>
                    <a:lnTo>
                      <a:pt x="7956" y="1781"/>
                    </a:lnTo>
                    <a:lnTo>
                      <a:pt x="7958" y="1715"/>
                    </a:lnTo>
                    <a:lnTo>
                      <a:pt x="7958" y="1648"/>
                    </a:lnTo>
                    <a:close/>
                    <a:moveTo>
                      <a:pt x="337" y="44"/>
                    </a:moveTo>
                    <a:lnTo>
                      <a:pt x="317" y="89"/>
                    </a:lnTo>
                    <a:lnTo>
                      <a:pt x="297" y="136"/>
                    </a:lnTo>
                    <a:lnTo>
                      <a:pt x="279" y="183"/>
                    </a:lnTo>
                    <a:lnTo>
                      <a:pt x="261" y="230"/>
                    </a:lnTo>
                    <a:lnTo>
                      <a:pt x="242" y="277"/>
                    </a:lnTo>
                    <a:lnTo>
                      <a:pt x="226" y="325"/>
                    </a:lnTo>
                    <a:lnTo>
                      <a:pt x="209" y="372"/>
                    </a:lnTo>
                    <a:lnTo>
                      <a:pt x="192" y="421"/>
                    </a:lnTo>
                    <a:lnTo>
                      <a:pt x="177" y="469"/>
                    </a:lnTo>
                    <a:lnTo>
                      <a:pt x="163" y="518"/>
                    </a:lnTo>
                    <a:lnTo>
                      <a:pt x="148" y="567"/>
                    </a:lnTo>
                    <a:lnTo>
                      <a:pt x="135" y="616"/>
                    </a:lnTo>
                    <a:lnTo>
                      <a:pt x="122" y="666"/>
                    </a:lnTo>
                    <a:lnTo>
                      <a:pt x="110" y="716"/>
                    </a:lnTo>
                    <a:lnTo>
                      <a:pt x="98" y="765"/>
                    </a:lnTo>
                    <a:lnTo>
                      <a:pt x="88" y="815"/>
                    </a:lnTo>
                    <a:lnTo>
                      <a:pt x="77" y="866"/>
                    </a:lnTo>
                    <a:lnTo>
                      <a:pt x="67" y="917"/>
                    </a:lnTo>
                    <a:lnTo>
                      <a:pt x="57" y="967"/>
                    </a:lnTo>
                    <a:lnTo>
                      <a:pt x="50" y="1018"/>
                    </a:lnTo>
                    <a:lnTo>
                      <a:pt x="41" y="1070"/>
                    </a:lnTo>
                    <a:lnTo>
                      <a:pt x="35" y="1122"/>
                    </a:lnTo>
                    <a:lnTo>
                      <a:pt x="28" y="1174"/>
                    </a:lnTo>
                    <a:lnTo>
                      <a:pt x="22" y="1225"/>
                    </a:lnTo>
                    <a:lnTo>
                      <a:pt x="17" y="1277"/>
                    </a:lnTo>
                    <a:lnTo>
                      <a:pt x="12" y="1329"/>
                    </a:lnTo>
                    <a:lnTo>
                      <a:pt x="9" y="1382"/>
                    </a:lnTo>
                    <a:lnTo>
                      <a:pt x="6" y="1435"/>
                    </a:lnTo>
                    <a:lnTo>
                      <a:pt x="3" y="1488"/>
                    </a:lnTo>
                    <a:lnTo>
                      <a:pt x="1" y="1541"/>
                    </a:lnTo>
                    <a:lnTo>
                      <a:pt x="0" y="1594"/>
                    </a:lnTo>
                    <a:lnTo>
                      <a:pt x="0" y="1648"/>
                    </a:lnTo>
                    <a:lnTo>
                      <a:pt x="0" y="1701"/>
                    </a:lnTo>
                    <a:lnTo>
                      <a:pt x="1" y="1755"/>
                    </a:lnTo>
                    <a:lnTo>
                      <a:pt x="3" y="1808"/>
                    </a:lnTo>
                    <a:lnTo>
                      <a:pt x="6" y="1860"/>
                    </a:lnTo>
                    <a:lnTo>
                      <a:pt x="9" y="1912"/>
                    </a:lnTo>
                    <a:lnTo>
                      <a:pt x="12" y="1965"/>
                    </a:lnTo>
                    <a:lnTo>
                      <a:pt x="17" y="2018"/>
                    </a:lnTo>
                    <a:lnTo>
                      <a:pt x="22" y="2070"/>
                    </a:lnTo>
                    <a:lnTo>
                      <a:pt x="28" y="2122"/>
                    </a:lnTo>
                    <a:lnTo>
                      <a:pt x="35" y="2174"/>
                    </a:lnTo>
                    <a:lnTo>
                      <a:pt x="41" y="2225"/>
                    </a:lnTo>
                    <a:lnTo>
                      <a:pt x="50" y="2276"/>
                    </a:lnTo>
                    <a:lnTo>
                      <a:pt x="57" y="2327"/>
                    </a:lnTo>
                    <a:lnTo>
                      <a:pt x="67" y="2379"/>
                    </a:lnTo>
                    <a:lnTo>
                      <a:pt x="77" y="2429"/>
                    </a:lnTo>
                    <a:lnTo>
                      <a:pt x="88" y="2479"/>
                    </a:lnTo>
                    <a:lnTo>
                      <a:pt x="98" y="2530"/>
                    </a:lnTo>
                    <a:lnTo>
                      <a:pt x="110" y="2580"/>
                    </a:lnTo>
                    <a:lnTo>
                      <a:pt x="122" y="2629"/>
                    </a:lnTo>
                    <a:lnTo>
                      <a:pt x="135" y="2679"/>
                    </a:lnTo>
                    <a:lnTo>
                      <a:pt x="148" y="2728"/>
                    </a:lnTo>
                    <a:lnTo>
                      <a:pt x="163" y="2777"/>
                    </a:lnTo>
                    <a:lnTo>
                      <a:pt x="177" y="2826"/>
                    </a:lnTo>
                    <a:lnTo>
                      <a:pt x="192" y="2875"/>
                    </a:lnTo>
                    <a:lnTo>
                      <a:pt x="209" y="2922"/>
                    </a:lnTo>
                    <a:lnTo>
                      <a:pt x="226" y="2970"/>
                    </a:lnTo>
                    <a:lnTo>
                      <a:pt x="242" y="3018"/>
                    </a:lnTo>
                    <a:lnTo>
                      <a:pt x="261" y="3065"/>
                    </a:lnTo>
                    <a:lnTo>
                      <a:pt x="279" y="3112"/>
                    </a:lnTo>
                    <a:lnTo>
                      <a:pt x="297" y="3159"/>
                    </a:lnTo>
                    <a:lnTo>
                      <a:pt x="317" y="3205"/>
                    </a:lnTo>
                    <a:lnTo>
                      <a:pt x="337" y="3251"/>
                    </a:lnTo>
                    <a:lnTo>
                      <a:pt x="345" y="3257"/>
                    </a:lnTo>
                    <a:lnTo>
                      <a:pt x="353" y="3262"/>
                    </a:lnTo>
                    <a:lnTo>
                      <a:pt x="361" y="3268"/>
                    </a:lnTo>
                    <a:lnTo>
                      <a:pt x="370" y="3273"/>
                    </a:lnTo>
                    <a:lnTo>
                      <a:pt x="377" y="3278"/>
                    </a:lnTo>
                    <a:lnTo>
                      <a:pt x="386" y="3284"/>
                    </a:lnTo>
                    <a:lnTo>
                      <a:pt x="395" y="3289"/>
                    </a:lnTo>
                    <a:lnTo>
                      <a:pt x="402" y="3295"/>
                    </a:lnTo>
                    <a:lnTo>
                      <a:pt x="380" y="3247"/>
                    </a:lnTo>
                    <a:lnTo>
                      <a:pt x="360" y="3200"/>
                    </a:lnTo>
                    <a:lnTo>
                      <a:pt x="339" y="3152"/>
                    </a:lnTo>
                    <a:lnTo>
                      <a:pt x="320" y="3105"/>
                    </a:lnTo>
                    <a:lnTo>
                      <a:pt x="302" y="3056"/>
                    </a:lnTo>
                    <a:lnTo>
                      <a:pt x="283" y="3007"/>
                    </a:lnTo>
                    <a:lnTo>
                      <a:pt x="265" y="2958"/>
                    </a:lnTo>
                    <a:lnTo>
                      <a:pt x="249" y="2909"/>
                    </a:lnTo>
                    <a:lnTo>
                      <a:pt x="231" y="2859"/>
                    </a:lnTo>
                    <a:lnTo>
                      <a:pt x="216" y="2809"/>
                    </a:lnTo>
                    <a:lnTo>
                      <a:pt x="201" y="2759"/>
                    </a:lnTo>
                    <a:lnTo>
                      <a:pt x="186" y="2708"/>
                    </a:lnTo>
                    <a:lnTo>
                      <a:pt x="173" y="2657"/>
                    </a:lnTo>
                    <a:lnTo>
                      <a:pt x="159" y="2607"/>
                    </a:lnTo>
                    <a:lnTo>
                      <a:pt x="147" y="2555"/>
                    </a:lnTo>
                    <a:lnTo>
                      <a:pt x="135" y="2504"/>
                    </a:lnTo>
                    <a:lnTo>
                      <a:pt x="124" y="2452"/>
                    </a:lnTo>
                    <a:lnTo>
                      <a:pt x="114" y="2399"/>
                    </a:lnTo>
                    <a:lnTo>
                      <a:pt x="104" y="2348"/>
                    </a:lnTo>
                    <a:lnTo>
                      <a:pt x="94" y="2295"/>
                    </a:lnTo>
                    <a:lnTo>
                      <a:pt x="87" y="2243"/>
                    </a:lnTo>
                    <a:lnTo>
                      <a:pt x="79" y="2189"/>
                    </a:lnTo>
                    <a:lnTo>
                      <a:pt x="71" y="2136"/>
                    </a:lnTo>
                    <a:lnTo>
                      <a:pt x="65" y="2083"/>
                    </a:lnTo>
                    <a:lnTo>
                      <a:pt x="60" y="2029"/>
                    </a:lnTo>
                    <a:lnTo>
                      <a:pt x="55" y="1975"/>
                    </a:lnTo>
                    <a:lnTo>
                      <a:pt x="51" y="1921"/>
                    </a:lnTo>
                    <a:lnTo>
                      <a:pt x="48" y="1867"/>
                    </a:lnTo>
                    <a:lnTo>
                      <a:pt x="44" y="1812"/>
                    </a:lnTo>
                    <a:lnTo>
                      <a:pt x="43" y="1758"/>
                    </a:lnTo>
                    <a:lnTo>
                      <a:pt x="42" y="1703"/>
                    </a:lnTo>
                    <a:lnTo>
                      <a:pt x="41" y="1648"/>
                    </a:lnTo>
                    <a:lnTo>
                      <a:pt x="42" y="1593"/>
                    </a:lnTo>
                    <a:lnTo>
                      <a:pt x="43" y="1538"/>
                    </a:lnTo>
                    <a:lnTo>
                      <a:pt x="44" y="1482"/>
                    </a:lnTo>
                    <a:lnTo>
                      <a:pt x="48" y="1428"/>
                    </a:lnTo>
                    <a:lnTo>
                      <a:pt x="51" y="1374"/>
                    </a:lnTo>
                    <a:lnTo>
                      <a:pt x="55" y="1320"/>
                    </a:lnTo>
                    <a:lnTo>
                      <a:pt x="60" y="1266"/>
                    </a:lnTo>
                    <a:lnTo>
                      <a:pt x="65" y="1212"/>
                    </a:lnTo>
                    <a:lnTo>
                      <a:pt x="71" y="1158"/>
                    </a:lnTo>
                    <a:lnTo>
                      <a:pt x="79" y="1106"/>
                    </a:lnTo>
                    <a:lnTo>
                      <a:pt x="87" y="1053"/>
                    </a:lnTo>
                    <a:lnTo>
                      <a:pt x="94" y="1000"/>
                    </a:lnTo>
                    <a:lnTo>
                      <a:pt x="104" y="947"/>
                    </a:lnTo>
                    <a:lnTo>
                      <a:pt x="114" y="895"/>
                    </a:lnTo>
                    <a:lnTo>
                      <a:pt x="124" y="843"/>
                    </a:lnTo>
                    <a:lnTo>
                      <a:pt x="135" y="791"/>
                    </a:lnTo>
                    <a:lnTo>
                      <a:pt x="147" y="739"/>
                    </a:lnTo>
                    <a:lnTo>
                      <a:pt x="159" y="689"/>
                    </a:lnTo>
                    <a:lnTo>
                      <a:pt x="173" y="637"/>
                    </a:lnTo>
                    <a:lnTo>
                      <a:pt x="186" y="586"/>
                    </a:lnTo>
                    <a:lnTo>
                      <a:pt x="201" y="536"/>
                    </a:lnTo>
                    <a:lnTo>
                      <a:pt x="216" y="486"/>
                    </a:lnTo>
                    <a:lnTo>
                      <a:pt x="231" y="436"/>
                    </a:lnTo>
                    <a:lnTo>
                      <a:pt x="249" y="386"/>
                    </a:lnTo>
                    <a:lnTo>
                      <a:pt x="265" y="337"/>
                    </a:lnTo>
                    <a:lnTo>
                      <a:pt x="283" y="288"/>
                    </a:lnTo>
                    <a:lnTo>
                      <a:pt x="302" y="239"/>
                    </a:lnTo>
                    <a:lnTo>
                      <a:pt x="320" y="191"/>
                    </a:lnTo>
                    <a:lnTo>
                      <a:pt x="339" y="142"/>
                    </a:lnTo>
                    <a:lnTo>
                      <a:pt x="360" y="95"/>
                    </a:lnTo>
                    <a:lnTo>
                      <a:pt x="380" y="47"/>
                    </a:lnTo>
                    <a:lnTo>
                      <a:pt x="402" y="0"/>
                    </a:lnTo>
                    <a:lnTo>
                      <a:pt x="395" y="5"/>
                    </a:lnTo>
                    <a:lnTo>
                      <a:pt x="386" y="10"/>
                    </a:lnTo>
                    <a:lnTo>
                      <a:pt x="377" y="16"/>
                    </a:lnTo>
                    <a:lnTo>
                      <a:pt x="370" y="21"/>
                    </a:lnTo>
                    <a:lnTo>
                      <a:pt x="361" y="27"/>
                    </a:lnTo>
                    <a:lnTo>
                      <a:pt x="353" y="32"/>
                    </a:lnTo>
                    <a:lnTo>
                      <a:pt x="345" y="38"/>
                    </a:lnTo>
                    <a:lnTo>
                      <a:pt x="337" y="44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03480" y="2335320"/>
                <a:ext cx="3141720" cy="1323720"/>
              </a:xfrm>
              <a:custGeom>
                <a:avLst/>
                <a:gdLst/>
                <a:ahLst/>
                <a:rect l="l" t="t" r="r" b="b"/>
                <a:pathLst>
                  <a:path w="7917" h="3337">
                    <a:moveTo>
                      <a:pt x="7917" y="1669"/>
                    </a:moveTo>
                    <a:lnTo>
                      <a:pt x="7917" y="1615"/>
                    </a:lnTo>
                    <a:lnTo>
                      <a:pt x="7916" y="1560"/>
                    </a:lnTo>
                    <a:lnTo>
                      <a:pt x="7913" y="1507"/>
                    </a:lnTo>
                    <a:lnTo>
                      <a:pt x="7911" y="1453"/>
                    </a:lnTo>
                    <a:lnTo>
                      <a:pt x="7908" y="1399"/>
                    </a:lnTo>
                    <a:lnTo>
                      <a:pt x="7904" y="1346"/>
                    </a:lnTo>
                    <a:lnTo>
                      <a:pt x="7899" y="1293"/>
                    </a:lnTo>
                    <a:lnTo>
                      <a:pt x="7894" y="1240"/>
                    </a:lnTo>
                    <a:lnTo>
                      <a:pt x="7888" y="1187"/>
                    </a:lnTo>
                    <a:lnTo>
                      <a:pt x="7881" y="1134"/>
                    </a:lnTo>
                    <a:lnTo>
                      <a:pt x="7874" y="1082"/>
                    </a:lnTo>
                    <a:lnTo>
                      <a:pt x="7865" y="1030"/>
                    </a:lnTo>
                    <a:lnTo>
                      <a:pt x="7856" y="979"/>
                    </a:lnTo>
                    <a:lnTo>
                      <a:pt x="7848" y="927"/>
                    </a:lnTo>
                    <a:lnTo>
                      <a:pt x="7837" y="875"/>
                    </a:lnTo>
                    <a:lnTo>
                      <a:pt x="7826" y="824"/>
                    </a:lnTo>
                    <a:lnTo>
                      <a:pt x="7815" y="773"/>
                    </a:lnTo>
                    <a:lnTo>
                      <a:pt x="7803" y="723"/>
                    </a:lnTo>
                    <a:lnTo>
                      <a:pt x="7790" y="672"/>
                    </a:lnTo>
                    <a:lnTo>
                      <a:pt x="7776" y="622"/>
                    </a:lnTo>
                    <a:lnTo>
                      <a:pt x="7762" y="572"/>
                    </a:lnTo>
                    <a:lnTo>
                      <a:pt x="7748" y="523"/>
                    </a:lnTo>
                    <a:lnTo>
                      <a:pt x="7733" y="473"/>
                    </a:lnTo>
                    <a:lnTo>
                      <a:pt x="7717" y="425"/>
                    </a:lnTo>
                    <a:lnTo>
                      <a:pt x="7701" y="376"/>
                    </a:lnTo>
                    <a:lnTo>
                      <a:pt x="7683" y="327"/>
                    </a:lnTo>
                    <a:lnTo>
                      <a:pt x="7666" y="279"/>
                    </a:lnTo>
                    <a:lnTo>
                      <a:pt x="7648" y="231"/>
                    </a:lnTo>
                    <a:lnTo>
                      <a:pt x="7628" y="184"/>
                    </a:lnTo>
                    <a:lnTo>
                      <a:pt x="7609" y="136"/>
                    </a:lnTo>
                    <a:lnTo>
                      <a:pt x="7588" y="89"/>
                    </a:lnTo>
                    <a:lnTo>
                      <a:pt x="7568" y="42"/>
                    </a:lnTo>
                    <a:lnTo>
                      <a:pt x="7560" y="37"/>
                    </a:lnTo>
                    <a:lnTo>
                      <a:pt x="7552" y="31"/>
                    </a:lnTo>
                    <a:lnTo>
                      <a:pt x="7544" y="26"/>
                    </a:lnTo>
                    <a:lnTo>
                      <a:pt x="7535" y="21"/>
                    </a:lnTo>
                    <a:lnTo>
                      <a:pt x="7527" y="15"/>
                    </a:lnTo>
                    <a:lnTo>
                      <a:pt x="7519" y="10"/>
                    </a:lnTo>
                    <a:lnTo>
                      <a:pt x="7510" y="5"/>
                    </a:lnTo>
                    <a:lnTo>
                      <a:pt x="7502" y="0"/>
                    </a:lnTo>
                    <a:lnTo>
                      <a:pt x="7524" y="48"/>
                    </a:lnTo>
                    <a:lnTo>
                      <a:pt x="7546" y="95"/>
                    </a:lnTo>
                    <a:lnTo>
                      <a:pt x="7567" y="144"/>
                    </a:lnTo>
                    <a:lnTo>
                      <a:pt x="7587" y="192"/>
                    </a:lnTo>
                    <a:lnTo>
                      <a:pt x="7607" y="241"/>
                    </a:lnTo>
                    <a:lnTo>
                      <a:pt x="7625" y="291"/>
                    </a:lnTo>
                    <a:lnTo>
                      <a:pt x="7643" y="340"/>
                    </a:lnTo>
                    <a:lnTo>
                      <a:pt x="7661" y="390"/>
                    </a:lnTo>
                    <a:lnTo>
                      <a:pt x="7678" y="441"/>
                    </a:lnTo>
                    <a:lnTo>
                      <a:pt x="7694" y="490"/>
                    </a:lnTo>
                    <a:lnTo>
                      <a:pt x="7710" y="541"/>
                    </a:lnTo>
                    <a:lnTo>
                      <a:pt x="7725" y="593"/>
                    </a:lnTo>
                    <a:lnTo>
                      <a:pt x="7740" y="644"/>
                    </a:lnTo>
                    <a:lnTo>
                      <a:pt x="7752" y="696"/>
                    </a:lnTo>
                    <a:lnTo>
                      <a:pt x="7765" y="747"/>
                    </a:lnTo>
                    <a:lnTo>
                      <a:pt x="7778" y="800"/>
                    </a:lnTo>
                    <a:lnTo>
                      <a:pt x="7789" y="852"/>
                    </a:lnTo>
                    <a:lnTo>
                      <a:pt x="7800" y="905"/>
                    </a:lnTo>
                    <a:lnTo>
                      <a:pt x="7811" y="958"/>
                    </a:lnTo>
                    <a:lnTo>
                      <a:pt x="7819" y="1012"/>
                    </a:lnTo>
                    <a:lnTo>
                      <a:pt x="7829" y="1065"/>
                    </a:lnTo>
                    <a:lnTo>
                      <a:pt x="7837" y="1119"/>
                    </a:lnTo>
                    <a:lnTo>
                      <a:pt x="7844" y="1173"/>
                    </a:lnTo>
                    <a:lnTo>
                      <a:pt x="7851" y="1227"/>
                    </a:lnTo>
                    <a:lnTo>
                      <a:pt x="7856" y="1282"/>
                    </a:lnTo>
                    <a:lnTo>
                      <a:pt x="7861" y="1336"/>
                    </a:lnTo>
                    <a:lnTo>
                      <a:pt x="7865" y="1391"/>
                    </a:lnTo>
                    <a:lnTo>
                      <a:pt x="7869" y="1446"/>
                    </a:lnTo>
                    <a:lnTo>
                      <a:pt x="7871" y="1501"/>
                    </a:lnTo>
                    <a:lnTo>
                      <a:pt x="7874" y="1556"/>
                    </a:lnTo>
                    <a:lnTo>
                      <a:pt x="7875" y="1613"/>
                    </a:lnTo>
                    <a:lnTo>
                      <a:pt x="7875" y="1669"/>
                    </a:lnTo>
                    <a:lnTo>
                      <a:pt x="7875" y="1735"/>
                    </a:lnTo>
                    <a:lnTo>
                      <a:pt x="7872" y="1800"/>
                    </a:lnTo>
                    <a:lnTo>
                      <a:pt x="7870" y="1865"/>
                    </a:lnTo>
                    <a:lnTo>
                      <a:pt x="7866" y="1930"/>
                    </a:lnTo>
                    <a:lnTo>
                      <a:pt x="7862" y="1995"/>
                    </a:lnTo>
                    <a:lnTo>
                      <a:pt x="7855" y="2060"/>
                    </a:lnTo>
                    <a:lnTo>
                      <a:pt x="7849" y="2123"/>
                    </a:lnTo>
                    <a:lnTo>
                      <a:pt x="7841" y="2187"/>
                    </a:lnTo>
                    <a:lnTo>
                      <a:pt x="7831" y="2251"/>
                    </a:lnTo>
                    <a:lnTo>
                      <a:pt x="7822" y="2315"/>
                    </a:lnTo>
                    <a:lnTo>
                      <a:pt x="7811" y="2377"/>
                    </a:lnTo>
                    <a:lnTo>
                      <a:pt x="7799" y="2440"/>
                    </a:lnTo>
                    <a:lnTo>
                      <a:pt x="7786" y="2502"/>
                    </a:lnTo>
                    <a:lnTo>
                      <a:pt x="7772" y="2564"/>
                    </a:lnTo>
                    <a:lnTo>
                      <a:pt x="7757" y="2626"/>
                    </a:lnTo>
                    <a:lnTo>
                      <a:pt x="7741" y="2686"/>
                    </a:lnTo>
                    <a:lnTo>
                      <a:pt x="7782" y="2697"/>
                    </a:lnTo>
                    <a:lnTo>
                      <a:pt x="7797" y="2635"/>
                    </a:lnTo>
                    <a:lnTo>
                      <a:pt x="7812" y="2574"/>
                    </a:lnTo>
                    <a:lnTo>
                      <a:pt x="7826" y="2511"/>
                    </a:lnTo>
                    <a:lnTo>
                      <a:pt x="7840" y="2448"/>
                    </a:lnTo>
                    <a:lnTo>
                      <a:pt x="7852" y="2385"/>
                    </a:lnTo>
                    <a:lnTo>
                      <a:pt x="7863" y="2321"/>
                    </a:lnTo>
                    <a:lnTo>
                      <a:pt x="7872" y="2257"/>
                    </a:lnTo>
                    <a:lnTo>
                      <a:pt x="7882" y="2194"/>
                    </a:lnTo>
                    <a:lnTo>
                      <a:pt x="7890" y="2129"/>
                    </a:lnTo>
                    <a:lnTo>
                      <a:pt x="7897" y="2064"/>
                    </a:lnTo>
                    <a:lnTo>
                      <a:pt x="7903" y="1998"/>
                    </a:lnTo>
                    <a:lnTo>
                      <a:pt x="7908" y="1933"/>
                    </a:lnTo>
                    <a:lnTo>
                      <a:pt x="7911" y="1867"/>
                    </a:lnTo>
                    <a:lnTo>
                      <a:pt x="7915" y="1802"/>
                    </a:lnTo>
                    <a:lnTo>
                      <a:pt x="7916" y="1735"/>
                    </a:lnTo>
                    <a:lnTo>
                      <a:pt x="7917" y="1669"/>
                    </a:lnTo>
                    <a:close/>
                    <a:moveTo>
                      <a:pt x="349" y="42"/>
                    </a:moveTo>
                    <a:lnTo>
                      <a:pt x="328" y="89"/>
                    </a:lnTo>
                    <a:lnTo>
                      <a:pt x="308" y="136"/>
                    </a:lnTo>
                    <a:lnTo>
                      <a:pt x="288" y="184"/>
                    </a:lnTo>
                    <a:lnTo>
                      <a:pt x="269" y="231"/>
                    </a:lnTo>
                    <a:lnTo>
                      <a:pt x="250" y="279"/>
                    </a:lnTo>
                    <a:lnTo>
                      <a:pt x="233" y="327"/>
                    </a:lnTo>
                    <a:lnTo>
                      <a:pt x="216" y="376"/>
                    </a:lnTo>
                    <a:lnTo>
                      <a:pt x="200" y="425"/>
                    </a:lnTo>
                    <a:lnTo>
                      <a:pt x="183" y="473"/>
                    </a:lnTo>
                    <a:lnTo>
                      <a:pt x="168" y="523"/>
                    </a:lnTo>
                    <a:lnTo>
                      <a:pt x="153" y="572"/>
                    </a:lnTo>
                    <a:lnTo>
                      <a:pt x="140" y="622"/>
                    </a:lnTo>
                    <a:lnTo>
                      <a:pt x="126" y="672"/>
                    </a:lnTo>
                    <a:lnTo>
                      <a:pt x="113" y="723"/>
                    </a:lnTo>
                    <a:lnTo>
                      <a:pt x="101" y="773"/>
                    </a:lnTo>
                    <a:lnTo>
                      <a:pt x="90" y="824"/>
                    </a:lnTo>
                    <a:lnTo>
                      <a:pt x="80" y="875"/>
                    </a:lnTo>
                    <a:lnTo>
                      <a:pt x="69" y="927"/>
                    </a:lnTo>
                    <a:lnTo>
                      <a:pt x="60" y="979"/>
                    </a:lnTo>
                    <a:lnTo>
                      <a:pt x="50" y="1030"/>
                    </a:lnTo>
                    <a:lnTo>
                      <a:pt x="43" y="1082"/>
                    </a:lnTo>
                    <a:lnTo>
                      <a:pt x="35" y="1134"/>
                    </a:lnTo>
                    <a:lnTo>
                      <a:pt x="29" y="1187"/>
                    </a:lnTo>
                    <a:lnTo>
                      <a:pt x="22" y="1240"/>
                    </a:lnTo>
                    <a:lnTo>
                      <a:pt x="17" y="1293"/>
                    </a:lnTo>
                    <a:lnTo>
                      <a:pt x="13" y="1346"/>
                    </a:lnTo>
                    <a:lnTo>
                      <a:pt x="8" y="1399"/>
                    </a:lnTo>
                    <a:lnTo>
                      <a:pt x="5" y="1453"/>
                    </a:lnTo>
                    <a:lnTo>
                      <a:pt x="3" y="1507"/>
                    </a:lnTo>
                    <a:lnTo>
                      <a:pt x="1" y="1560"/>
                    </a:lnTo>
                    <a:lnTo>
                      <a:pt x="0" y="1615"/>
                    </a:lnTo>
                    <a:lnTo>
                      <a:pt x="0" y="1669"/>
                    </a:lnTo>
                    <a:lnTo>
                      <a:pt x="0" y="1723"/>
                    </a:lnTo>
                    <a:lnTo>
                      <a:pt x="1" y="1777"/>
                    </a:lnTo>
                    <a:lnTo>
                      <a:pt x="3" y="1831"/>
                    </a:lnTo>
                    <a:lnTo>
                      <a:pt x="5" y="1885"/>
                    </a:lnTo>
                    <a:lnTo>
                      <a:pt x="8" y="1938"/>
                    </a:lnTo>
                    <a:lnTo>
                      <a:pt x="13" y="1992"/>
                    </a:lnTo>
                    <a:lnTo>
                      <a:pt x="17" y="2045"/>
                    </a:lnTo>
                    <a:lnTo>
                      <a:pt x="22" y="2097"/>
                    </a:lnTo>
                    <a:lnTo>
                      <a:pt x="29" y="2150"/>
                    </a:lnTo>
                    <a:lnTo>
                      <a:pt x="35" y="2202"/>
                    </a:lnTo>
                    <a:lnTo>
                      <a:pt x="43" y="2255"/>
                    </a:lnTo>
                    <a:lnTo>
                      <a:pt x="50" y="2307"/>
                    </a:lnTo>
                    <a:lnTo>
                      <a:pt x="60" y="2359"/>
                    </a:lnTo>
                    <a:lnTo>
                      <a:pt x="69" y="2411"/>
                    </a:lnTo>
                    <a:lnTo>
                      <a:pt x="80" y="2461"/>
                    </a:lnTo>
                    <a:lnTo>
                      <a:pt x="90" y="2513"/>
                    </a:lnTo>
                    <a:lnTo>
                      <a:pt x="101" y="2564"/>
                    </a:lnTo>
                    <a:lnTo>
                      <a:pt x="113" y="2615"/>
                    </a:lnTo>
                    <a:lnTo>
                      <a:pt x="126" y="2664"/>
                    </a:lnTo>
                    <a:lnTo>
                      <a:pt x="140" y="2715"/>
                    </a:lnTo>
                    <a:lnTo>
                      <a:pt x="153" y="2765"/>
                    </a:lnTo>
                    <a:lnTo>
                      <a:pt x="168" y="2815"/>
                    </a:lnTo>
                    <a:lnTo>
                      <a:pt x="183" y="2863"/>
                    </a:lnTo>
                    <a:lnTo>
                      <a:pt x="200" y="2913"/>
                    </a:lnTo>
                    <a:lnTo>
                      <a:pt x="216" y="2961"/>
                    </a:lnTo>
                    <a:lnTo>
                      <a:pt x="233" y="3010"/>
                    </a:lnTo>
                    <a:lnTo>
                      <a:pt x="250" y="3058"/>
                    </a:lnTo>
                    <a:lnTo>
                      <a:pt x="269" y="3106"/>
                    </a:lnTo>
                    <a:lnTo>
                      <a:pt x="288" y="3154"/>
                    </a:lnTo>
                    <a:lnTo>
                      <a:pt x="308" y="3201"/>
                    </a:lnTo>
                    <a:lnTo>
                      <a:pt x="328" y="3248"/>
                    </a:lnTo>
                    <a:lnTo>
                      <a:pt x="349" y="3294"/>
                    </a:lnTo>
                    <a:lnTo>
                      <a:pt x="356" y="3299"/>
                    </a:lnTo>
                    <a:lnTo>
                      <a:pt x="365" y="3305"/>
                    </a:lnTo>
                    <a:lnTo>
                      <a:pt x="372" y="3310"/>
                    </a:lnTo>
                    <a:lnTo>
                      <a:pt x="381" y="3316"/>
                    </a:lnTo>
                    <a:lnTo>
                      <a:pt x="390" y="3321"/>
                    </a:lnTo>
                    <a:lnTo>
                      <a:pt x="397" y="3326"/>
                    </a:lnTo>
                    <a:lnTo>
                      <a:pt x="406" y="3332"/>
                    </a:lnTo>
                    <a:lnTo>
                      <a:pt x="415" y="3337"/>
                    </a:lnTo>
                    <a:lnTo>
                      <a:pt x="392" y="3290"/>
                    </a:lnTo>
                    <a:lnTo>
                      <a:pt x="370" y="3241"/>
                    </a:lnTo>
                    <a:lnTo>
                      <a:pt x="350" y="3194"/>
                    </a:lnTo>
                    <a:lnTo>
                      <a:pt x="329" y="3145"/>
                    </a:lnTo>
                    <a:lnTo>
                      <a:pt x="310" y="3095"/>
                    </a:lnTo>
                    <a:lnTo>
                      <a:pt x="291" y="3047"/>
                    </a:lnTo>
                    <a:lnTo>
                      <a:pt x="273" y="2997"/>
                    </a:lnTo>
                    <a:lnTo>
                      <a:pt x="255" y="2946"/>
                    </a:lnTo>
                    <a:lnTo>
                      <a:pt x="238" y="2897"/>
                    </a:lnTo>
                    <a:lnTo>
                      <a:pt x="222" y="2846"/>
                    </a:lnTo>
                    <a:lnTo>
                      <a:pt x="206" y="2795"/>
                    </a:lnTo>
                    <a:lnTo>
                      <a:pt x="191" y="2744"/>
                    </a:lnTo>
                    <a:lnTo>
                      <a:pt x="177" y="2693"/>
                    </a:lnTo>
                    <a:lnTo>
                      <a:pt x="163" y="2641"/>
                    </a:lnTo>
                    <a:lnTo>
                      <a:pt x="151" y="2589"/>
                    </a:lnTo>
                    <a:lnTo>
                      <a:pt x="138" y="2537"/>
                    </a:lnTo>
                    <a:lnTo>
                      <a:pt x="127" y="2484"/>
                    </a:lnTo>
                    <a:lnTo>
                      <a:pt x="116" y="2431"/>
                    </a:lnTo>
                    <a:lnTo>
                      <a:pt x="106" y="2378"/>
                    </a:lnTo>
                    <a:lnTo>
                      <a:pt x="96" y="2325"/>
                    </a:lnTo>
                    <a:lnTo>
                      <a:pt x="87" y="2271"/>
                    </a:lnTo>
                    <a:lnTo>
                      <a:pt x="80" y="2218"/>
                    </a:lnTo>
                    <a:lnTo>
                      <a:pt x="72" y="2164"/>
                    </a:lnTo>
                    <a:lnTo>
                      <a:pt x="66" y="2109"/>
                    </a:lnTo>
                    <a:lnTo>
                      <a:pt x="60" y="2055"/>
                    </a:lnTo>
                    <a:lnTo>
                      <a:pt x="55" y="2000"/>
                    </a:lnTo>
                    <a:lnTo>
                      <a:pt x="52" y="1946"/>
                    </a:lnTo>
                    <a:lnTo>
                      <a:pt x="47" y="1891"/>
                    </a:lnTo>
                    <a:lnTo>
                      <a:pt x="45" y="1835"/>
                    </a:lnTo>
                    <a:lnTo>
                      <a:pt x="43" y="1780"/>
                    </a:lnTo>
                    <a:lnTo>
                      <a:pt x="42" y="1724"/>
                    </a:lnTo>
                    <a:lnTo>
                      <a:pt x="42" y="1669"/>
                    </a:lnTo>
                    <a:lnTo>
                      <a:pt x="42" y="1613"/>
                    </a:lnTo>
                    <a:lnTo>
                      <a:pt x="43" y="1556"/>
                    </a:lnTo>
                    <a:lnTo>
                      <a:pt x="45" y="1501"/>
                    </a:lnTo>
                    <a:lnTo>
                      <a:pt x="47" y="1446"/>
                    </a:lnTo>
                    <a:lnTo>
                      <a:pt x="52" y="1391"/>
                    </a:lnTo>
                    <a:lnTo>
                      <a:pt x="55" y="1336"/>
                    </a:lnTo>
                    <a:lnTo>
                      <a:pt x="60" y="1282"/>
                    </a:lnTo>
                    <a:lnTo>
                      <a:pt x="66" y="1227"/>
                    </a:lnTo>
                    <a:lnTo>
                      <a:pt x="72" y="1173"/>
                    </a:lnTo>
                    <a:lnTo>
                      <a:pt x="80" y="1119"/>
                    </a:lnTo>
                    <a:lnTo>
                      <a:pt x="87" y="1065"/>
                    </a:lnTo>
                    <a:lnTo>
                      <a:pt x="96" y="1012"/>
                    </a:lnTo>
                    <a:lnTo>
                      <a:pt x="106" y="958"/>
                    </a:lnTo>
                    <a:lnTo>
                      <a:pt x="116" y="905"/>
                    </a:lnTo>
                    <a:lnTo>
                      <a:pt x="127" y="852"/>
                    </a:lnTo>
                    <a:lnTo>
                      <a:pt x="138" y="800"/>
                    </a:lnTo>
                    <a:lnTo>
                      <a:pt x="151" y="747"/>
                    </a:lnTo>
                    <a:lnTo>
                      <a:pt x="163" y="696"/>
                    </a:lnTo>
                    <a:lnTo>
                      <a:pt x="177" y="644"/>
                    </a:lnTo>
                    <a:lnTo>
                      <a:pt x="191" y="593"/>
                    </a:lnTo>
                    <a:lnTo>
                      <a:pt x="206" y="541"/>
                    </a:lnTo>
                    <a:lnTo>
                      <a:pt x="222" y="490"/>
                    </a:lnTo>
                    <a:lnTo>
                      <a:pt x="238" y="441"/>
                    </a:lnTo>
                    <a:lnTo>
                      <a:pt x="255" y="390"/>
                    </a:lnTo>
                    <a:lnTo>
                      <a:pt x="273" y="340"/>
                    </a:lnTo>
                    <a:lnTo>
                      <a:pt x="291" y="291"/>
                    </a:lnTo>
                    <a:lnTo>
                      <a:pt x="310" y="241"/>
                    </a:lnTo>
                    <a:lnTo>
                      <a:pt x="329" y="192"/>
                    </a:lnTo>
                    <a:lnTo>
                      <a:pt x="350" y="144"/>
                    </a:lnTo>
                    <a:lnTo>
                      <a:pt x="370" y="95"/>
                    </a:lnTo>
                    <a:lnTo>
                      <a:pt x="392" y="48"/>
                    </a:lnTo>
                    <a:lnTo>
                      <a:pt x="415" y="0"/>
                    </a:lnTo>
                    <a:lnTo>
                      <a:pt x="406" y="5"/>
                    </a:lnTo>
                    <a:lnTo>
                      <a:pt x="397" y="10"/>
                    </a:lnTo>
                    <a:lnTo>
                      <a:pt x="390" y="15"/>
                    </a:lnTo>
                    <a:lnTo>
                      <a:pt x="381" y="21"/>
                    </a:lnTo>
                    <a:lnTo>
                      <a:pt x="372" y="26"/>
                    </a:lnTo>
                    <a:lnTo>
                      <a:pt x="365" y="31"/>
                    </a:lnTo>
                    <a:lnTo>
                      <a:pt x="356" y="37"/>
                    </a:lnTo>
                    <a:lnTo>
                      <a:pt x="349" y="42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11400" y="2327400"/>
                <a:ext cx="3125880" cy="1339560"/>
              </a:xfrm>
              <a:custGeom>
                <a:avLst/>
                <a:gdLst/>
                <a:ahLst/>
                <a:rect l="l" t="t" r="r" b="b"/>
                <a:pathLst>
                  <a:path w="7876" h="3378">
                    <a:moveTo>
                      <a:pt x="7876" y="1689"/>
                    </a:moveTo>
                    <a:lnTo>
                      <a:pt x="7875" y="1634"/>
                    </a:lnTo>
                    <a:lnTo>
                      <a:pt x="7874" y="1579"/>
                    </a:lnTo>
                    <a:lnTo>
                      <a:pt x="7873" y="1523"/>
                    </a:lnTo>
                    <a:lnTo>
                      <a:pt x="7870" y="1469"/>
                    </a:lnTo>
                    <a:lnTo>
                      <a:pt x="7866" y="1415"/>
                    </a:lnTo>
                    <a:lnTo>
                      <a:pt x="7862" y="1361"/>
                    </a:lnTo>
                    <a:lnTo>
                      <a:pt x="7858" y="1307"/>
                    </a:lnTo>
                    <a:lnTo>
                      <a:pt x="7852" y="1253"/>
                    </a:lnTo>
                    <a:lnTo>
                      <a:pt x="7846" y="1199"/>
                    </a:lnTo>
                    <a:lnTo>
                      <a:pt x="7838" y="1147"/>
                    </a:lnTo>
                    <a:lnTo>
                      <a:pt x="7831" y="1094"/>
                    </a:lnTo>
                    <a:lnTo>
                      <a:pt x="7822" y="1041"/>
                    </a:lnTo>
                    <a:lnTo>
                      <a:pt x="7814" y="988"/>
                    </a:lnTo>
                    <a:lnTo>
                      <a:pt x="7804" y="936"/>
                    </a:lnTo>
                    <a:lnTo>
                      <a:pt x="7793" y="884"/>
                    </a:lnTo>
                    <a:lnTo>
                      <a:pt x="7782" y="832"/>
                    </a:lnTo>
                    <a:lnTo>
                      <a:pt x="7770" y="780"/>
                    </a:lnTo>
                    <a:lnTo>
                      <a:pt x="7757" y="730"/>
                    </a:lnTo>
                    <a:lnTo>
                      <a:pt x="7744" y="678"/>
                    </a:lnTo>
                    <a:lnTo>
                      <a:pt x="7731" y="627"/>
                    </a:lnTo>
                    <a:lnTo>
                      <a:pt x="7716" y="577"/>
                    </a:lnTo>
                    <a:lnTo>
                      <a:pt x="7701" y="527"/>
                    </a:lnTo>
                    <a:lnTo>
                      <a:pt x="7685" y="477"/>
                    </a:lnTo>
                    <a:lnTo>
                      <a:pt x="7669" y="427"/>
                    </a:lnTo>
                    <a:lnTo>
                      <a:pt x="7651" y="378"/>
                    </a:lnTo>
                    <a:lnTo>
                      <a:pt x="7634" y="329"/>
                    </a:lnTo>
                    <a:lnTo>
                      <a:pt x="7616" y="280"/>
                    </a:lnTo>
                    <a:lnTo>
                      <a:pt x="7597" y="232"/>
                    </a:lnTo>
                    <a:lnTo>
                      <a:pt x="7577" y="183"/>
                    </a:lnTo>
                    <a:lnTo>
                      <a:pt x="7557" y="136"/>
                    </a:lnTo>
                    <a:lnTo>
                      <a:pt x="7537" y="88"/>
                    </a:lnTo>
                    <a:lnTo>
                      <a:pt x="7515" y="41"/>
                    </a:lnTo>
                    <a:lnTo>
                      <a:pt x="7507" y="36"/>
                    </a:lnTo>
                    <a:lnTo>
                      <a:pt x="7499" y="31"/>
                    </a:lnTo>
                    <a:lnTo>
                      <a:pt x="7490" y="25"/>
                    </a:lnTo>
                    <a:lnTo>
                      <a:pt x="7483" y="20"/>
                    </a:lnTo>
                    <a:lnTo>
                      <a:pt x="7474" y="15"/>
                    </a:lnTo>
                    <a:lnTo>
                      <a:pt x="7466" y="9"/>
                    </a:lnTo>
                    <a:lnTo>
                      <a:pt x="7458" y="5"/>
                    </a:lnTo>
                    <a:lnTo>
                      <a:pt x="7449" y="0"/>
                    </a:lnTo>
                    <a:lnTo>
                      <a:pt x="7472" y="47"/>
                    </a:lnTo>
                    <a:lnTo>
                      <a:pt x="7495" y="96"/>
                    </a:lnTo>
                    <a:lnTo>
                      <a:pt x="7516" y="144"/>
                    </a:lnTo>
                    <a:lnTo>
                      <a:pt x="7537" y="194"/>
                    </a:lnTo>
                    <a:lnTo>
                      <a:pt x="7557" y="244"/>
                    </a:lnTo>
                    <a:lnTo>
                      <a:pt x="7577" y="293"/>
                    </a:lnTo>
                    <a:lnTo>
                      <a:pt x="7595" y="343"/>
                    </a:lnTo>
                    <a:lnTo>
                      <a:pt x="7614" y="394"/>
                    </a:lnTo>
                    <a:lnTo>
                      <a:pt x="7631" y="445"/>
                    </a:lnTo>
                    <a:lnTo>
                      <a:pt x="7648" y="495"/>
                    </a:lnTo>
                    <a:lnTo>
                      <a:pt x="7664" y="547"/>
                    </a:lnTo>
                    <a:lnTo>
                      <a:pt x="7680" y="599"/>
                    </a:lnTo>
                    <a:lnTo>
                      <a:pt x="7695" y="651"/>
                    </a:lnTo>
                    <a:lnTo>
                      <a:pt x="7709" y="703"/>
                    </a:lnTo>
                    <a:lnTo>
                      <a:pt x="7722" y="756"/>
                    </a:lnTo>
                    <a:lnTo>
                      <a:pt x="7735" y="808"/>
                    </a:lnTo>
                    <a:lnTo>
                      <a:pt x="7747" y="861"/>
                    </a:lnTo>
                    <a:lnTo>
                      <a:pt x="7757" y="915"/>
                    </a:lnTo>
                    <a:lnTo>
                      <a:pt x="7768" y="968"/>
                    </a:lnTo>
                    <a:lnTo>
                      <a:pt x="7778" y="1022"/>
                    </a:lnTo>
                    <a:lnTo>
                      <a:pt x="7787" y="1077"/>
                    </a:lnTo>
                    <a:lnTo>
                      <a:pt x="7794" y="1131"/>
                    </a:lnTo>
                    <a:lnTo>
                      <a:pt x="7802" y="1186"/>
                    </a:lnTo>
                    <a:lnTo>
                      <a:pt x="7809" y="1242"/>
                    </a:lnTo>
                    <a:lnTo>
                      <a:pt x="7815" y="1297"/>
                    </a:lnTo>
                    <a:lnTo>
                      <a:pt x="7820" y="1352"/>
                    </a:lnTo>
                    <a:lnTo>
                      <a:pt x="7824" y="1407"/>
                    </a:lnTo>
                    <a:lnTo>
                      <a:pt x="7828" y="1463"/>
                    </a:lnTo>
                    <a:lnTo>
                      <a:pt x="7831" y="1519"/>
                    </a:lnTo>
                    <a:lnTo>
                      <a:pt x="7833" y="1575"/>
                    </a:lnTo>
                    <a:lnTo>
                      <a:pt x="7834" y="1631"/>
                    </a:lnTo>
                    <a:lnTo>
                      <a:pt x="7834" y="1689"/>
                    </a:lnTo>
                    <a:lnTo>
                      <a:pt x="7834" y="1753"/>
                    </a:lnTo>
                    <a:lnTo>
                      <a:pt x="7832" y="1819"/>
                    </a:lnTo>
                    <a:lnTo>
                      <a:pt x="7830" y="1884"/>
                    </a:lnTo>
                    <a:lnTo>
                      <a:pt x="7825" y="1949"/>
                    </a:lnTo>
                    <a:lnTo>
                      <a:pt x="7821" y="2014"/>
                    </a:lnTo>
                    <a:lnTo>
                      <a:pt x="7815" y="2077"/>
                    </a:lnTo>
                    <a:lnTo>
                      <a:pt x="7808" y="2141"/>
                    </a:lnTo>
                    <a:lnTo>
                      <a:pt x="7801" y="2205"/>
                    </a:lnTo>
                    <a:lnTo>
                      <a:pt x="7791" y="2268"/>
                    </a:lnTo>
                    <a:lnTo>
                      <a:pt x="7781" y="2331"/>
                    </a:lnTo>
                    <a:lnTo>
                      <a:pt x="7770" y="2394"/>
                    </a:lnTo>
                    <a:lnTo>
                      <a:pt x="7758" y="2455"/>
                    </a:lnTo>
                    <a:lnTo>
                      <a:pt x="7745" y="2517"/>
                    </a:lnTo>
                    <a:lnTo>
                      <a:pt x="7731" y="2579"/>
                    </a:lnTo>
                    <a:lnTo>
                      <a:pt x="7716" y="2640"/>
                    </a:lnTo>
                    <a:lnTo>
                      <a:pt x="7701" y="2701"/>
                    </a:lnTo>
                    <a:lnTo>
                      <a:pt x="7741" y="2711"/>
                    </a:lnTo>
                    <a:lnTo>
                      <a:pt x="7757" y="2650"/>
                    </a:lnTo>
                    <a:lnTo>
                      <a:pt x="7772" y="2588"/>
                    </a:lnTo>
                    <a:lnTo>
                      <a:pt x="7787" y="2527"/>
                    </a:lnTo>
                    <a:lnTo>
                      <a:pt x="7799" y="2464"/>
                    </a:lnTo>
                    <a:lnTo>
                      <a:pt x="7811" y="2401"/>
                    </a:lnTo>
                    <a:lnTo>
                      <a:pt x="7822" y="2338"/>
                    </a:lnTo>
                    <a:lnTo>
                      <a:pt x="7832" y="2274"/>
                    </a:lnTo>
                    <a:lnTo>
                      <a:pt x="7842" y="2210"/>
                    </a:lnTo>
                    <a:lnTo>
                      <a:pt x="7849" y="2147"/>
                    </a:lnTo>
                    <a:lnTo>
                      <a:pt x="7857" y="2082"/>
                    </a:lnTo>
                    <a:lnTo>
                      <a:pt x="7862" y="2017"/>
                    </a:lnTo>
                    <a:lnTo>
                      <a:pt x="7868" y="1952"/>
                    </a:lnTo>
                    <a:lnTo>
                      <a:pt x="7871" y="1886"/>
                    </a:lnTo>
                    <a:lnTo>
                      <a:pt x="7874" y="1820"/>
                    </a:lnTo>
                    <a:lnTo>
                      <a:pt x="7875" y="1755"/>
                    </a:lnTo>
                    <a:lnTo>
                      <a:pt x="7876" y="1689"/>
                    </a:lnTo>
                    <a:close/>
                    <a:moveTo>
                      <a:pt x="361" y="41"/>
                    </a:moveTo>
                    <a:lnTo>
                      <a:pt x="339" y="88"/>
                    </a:lnTo>
                    <a:lnTo>
                      <a:pt x="319" y="136"/>
                    </a:lnTo>
                    <a:lnTo>
                      <a:pt x="299" y="183"/>
                    </a:lnTo>
                    <a:lnTo>
                      <a:pt x="279" y="232"/>
                    </a:lnTo>
                    <a:lnTo>
                      <a:pt x="261" y="280"/>
                    </a:lnTo>
                    <a:lnTo>
                      <a:pt x="242" y="329"/>
                    </a:lnTo>
                    <a:lnTo>
                      <a:pt x="224" y="378"/>
                    </a:lnTo>
                    <a:lnTo>
                      <a:pt x="208" y="427"/>
                    </a:lnTo>
                    <a:lnTo>
                      <a:pt x="190" y="477"/>
                    </a:lnTo>
                    <a:lnTo>
                      <a:pt x="175" y="527"/>
                    </a:lnTo>
                    <a:lnTo>
                      <a:pt x="160" y="577"/>
                    </a:lnTo>
                    <a:lnTo>
                      <a:pt x="145" y="627"/>
                    </a:lnTo>
                    <a:lnTo>
                      <a:pt x="132" y="678"/>
                    </a:lnTo>
                    <a:lnTo>
                      <a:pt x="118" y="730"/>
                    </a:lnTo>
                    <a:lnTo>
                      <a:pt x="106" y="780"/>
                    </a:lnTo>
                    <a:lnTo>
                      <a:pt x="94" y="832"/>
                    </a:lnTo>
                    <a:lnTo>
                      <a:pt x="83" y="884"/>
                    </a:lnTo>
                    <a:lnTo>
                      <a:pt x="73" y="936"/>
                    </a:lnTo>
                    <a:lnTo>
                      <a:pt x="63" y="988"/>
                    </a:lnTo>
                    <a:lnTo>
                      <a:pt x="53" y="1041"/>
                    </a:lnTo>
                    <a:lnTo>
                      <a:pt x="46" y="1094"/>
                    </a:lnTo>
                    <a:lnTo>
                      <a:pt x="38" y="1147"/>
                    </a:lnTo>
                    <a:lnTo>
                      <a:pt x="30" y="1199"/>
                    </a:lnTo>
                    <a:lnTo>
                      <a:pt x="24" y="1253"/>
                    </a:lnTo>
                    <a:lnTo>
                      <a:pt x="19" y="1307"/>
                    </a:lnTo>
                    <a:lnTo>
                      <a:pt x="14" y="1361"/>
                    </a:lnTo>
                    <a:lnTo>
                      <a:pt x="10" y="1415"/>
                    </a:lnTo>
                    <a:lnTo>
                      <a:pt x="7" y="1469"/>
                    </a:lnTo>
                    <a:lnTo>
                      <a:pt x="3" y="1523"/>
                    </a:lnTo>
                    <a:lnTo>
                      <a:pt x="2" y="1579"/>
                    </a:lnTo>
                    <a:lnTo>
                      <a:pt x="1" y="1634"/>
                    </a:lnTo>
                    <a:lnTo>
                      <a:pt x="0" y="1689"/>
                    </a:lnTo>
                    <a:lnTo>
                      <a:pt x="1" y="1744"/>
                    </a:lnTo>
                    <a:lnTo>
                      <a:pt x="2" y="1799"/>
                    </a:lnTo>
                    <a:lnTo>
                      <a:pt x="3" y="1853"/>
                    </a:lnTo>
                    <a:lnTo>
                      <a:pt x="7" y="1908"/>
                    </a:lnTo>
                    <a:lnTo>
                      <a:pt x="10" y="1962"/>
                    </a:lnTo>
                    <a:lnTo>
                      <a:pt x="14" y="2016"/>
                    </a:lnTo>
                    <a:lnTo>
                      <a:pt x="19" y="2070"/>
                    </a:lnTo>
                    <a:lnTo>
                      <a:pt x="24" y="2124"/>
                    </a:lnTo>
                    <a:lnTo>
                      <a:pt x="30" y="2177"/>
                    </a:lnTo>
                    <a:lnTo>
                      <a:pt x="38" y="2230"/>
                    </a:lnTo>
                    <a:lnTo>
                      <a:pt x="46" y="2284"/>
                    </a:lnTo>
                    <a:lnTo>
                      <a:pt x="53" y="2336"/>
                    </a:lnTo>
                    <a:lnTo>
                      <a:pt x="63" y="2389"/>
                    </a:lnTo>
                    <a:lnTo>
                      <a:pt x="73" y="2440"/>
                    </a:lnTo>
                    <a:lnTo>
                      <a:pt x="83" y="2493"/>
                    </a:lnTo>
                    <a:lnTo>
                      <a:pt x="94" y="2545"/>
                    </a:lnTo>
                    <a:lnTo>
                      <a:pt x="106" y="2596"/>
                    </a:lnTo>
                    <a:lnTo>
                      <a:pt x="118" y="2648"/>
                    </a:lnTo>
                    <a:lnTo>
                      <a:pt x="132" y="2698"/>
                    </a:lnTo>
                    <a:lnTo>
                      <a:pt x="145" y="2749"/>
                    </a:lnTo>
                    <a:lnTo>
                      <a:pt x="160" y="2800"/>
                    </a:lnTo>
                    <a:lnTo>
                      <a:pt x="175" y="2850"/>
                    </a:lnTo>
                    <a:lnTo>
                      <a:pt x="190" y="2900"/>
                    </a:lnTo>
                    <a:lnTo>
                      <a:pt x="208" y="2950"/>
                    </a:lnTo>
                    <a:lnTo>
                      <a:pt x="224" y="2999"/>
                    </a:lnTo>
                    <a:lnTo>
                      <a:pt x="242" y="3048"/>
                    </a:lnTo>
                    <a:lnTo>
                      <a:pt x="261" y="3097"/>
                    </a:lnTo>
                    <a:lnTo>
                      <a:pt x="279" y="3146"/>
                    </a:lnTo>
                    <a:lnTo>
                      <a:pt x="298" y="3193"/>
                    </a:lnTo>
                    <a:lnTo>
                      <a:pt x="319" y="3241"/>
                    </a:lnTo>
                    <a:lnTo>
                      <a:pt x="339" y="3288"/>
                    </a:lnTo>
                    <a:lnTo>
                      <a:pt x="361" y="3336"/>
                    </a:lnTo>
                    <a:lnTo>
                      <a:pt x="370" y="3341"/>
                    </a:lnTo>
                    <a:lnTo>
                      <a:pt x="377" y="3346"/>
                    </a:lnTo>
                    <a:lnTo>
                      <a:pt x="386" y="3352"/>
                    </a:lnTo>
                    <a:lnTo>
                      <a:pt x="393" y="3357"/>
                    </a:lnTo>
                    <a:lnTo>
                      <a:pt x="402" y="3362"/>
                    </a:lnTo>
                    <a:lnTo>
                      <a:pt x="411" y="3367"/>
                    </a:lnTo>
                    <a:lnTo>
                      <a:pt x="418" y="3372"/>
                    </a:lnTo>
                    <a:lnTo>
                      <a:pt x="427" y="3378"/>
                    </a:lnTo>
                    <a:lnTo>
                      <a:pt x="404" y="3329"/>
                    </a:lnTo>
                    <a:lnTo>
                      <a:pt x="382" y="3281"/>
                    </a:lnTo>
                    <a:lnTo>
                      <a:pt x="360" y="3232"/>
                    </a:lnTo>
                    <a:lnTo>
                      <a:pt x="339" y="3183"/>
                    </a:lnTo>
                    <a:lnTo>
                      <a:pt x="319" y="3134"/>
                    </a:lnTo>
                    <a:lnTo>
                      <a:pt x="299" y="3084"/>
                    </a:lnTo>
                    <a:lnTo>
                      <a:pt x="281" y="3033"/>
                    </a:lnTo>
                    <a:lnTo>
                      <a:pt x="263" y="2984"/>
                    </a:lnTo>
                    <a:lnTo>
                      <a:pt x="245" y="2933"/>
                    </a:lnTo>
                    <a:lnTo>
                      <a:pt x="228" y="2881"/>
                    </a:lnTo>
                    <a:lnTo>
                      <a:pt x="212" y="2830"/>
                    </a:lnTo>
                    <a:lnTo>
                      <a:pt x="197" y="2778"/>
                    </a:lnTo>
                    <a:lnTo>
                      <a:pt x="182" y="2727"/>
                    </a:lnTo>
                    <a:lnTo>
                      <a:pt x="168" y="2674"/>
                    </a:lnTo>
                    <a:lnTo>
                      <a:pt x="155" y="2621"/>
                    </a:lnTo>
                    <a:lnTo>
                      <a:pt x="142" y="2568"/>
                    </a:lnTo>
                    <a:lnTo>
                      <a:pt x="130" y="2515"/>
                    </a:lnTo>
                    <a:lnTo>
                      <a:pt x="119" y="2462"/>
                    </a:lnTo>
                    <a:lnTo>
                      <a:pt x="108" y="2408"/>
                    </a:lnTo>
                    <a:lnTo>
                      <a:pt x="98" y="2354"/>
                    </a:lnTo>
                    <a:lnTo>
                      <a:pt x="90" y="2300"/>
                    </a:lnTo>
                    <a:lnTo>
                      <a:pt x="81" y="2245"/>
                    </a:lnTo>
                    <a:lnTo>
                      <a:pt x="75" y="2191"/>
                    </a:lnTo>
                    <a:lnTo>
                      <a:pt x="67" y="2136"/>
                    </a:lnTo>
                    <a:lnTo>
                      <a:pt x="62" y="2081"/>
                    </a:lnTo>
                    <a:lnTo>
                      <a:pt x="56" y="2026"/>
                    </a:lnTo>
                    <a:lnTo>
                      <a:pt x="52" y="1969"/>
                    </a:lnTo>
                    <a:lnTo>
                      <a:pt x="49" y="1913"/>
                    </a:lnTo>
                    <a:lnTo>
                      <a:pt x="46" y="1858"/>
                    </a:lnTo>
                    <a:lnTo>
                      <a:pt x="43" y="1801"/>
                    </a:lnTo>
                    <a:lnTo>
                      <a:pt x="42" y="1745"/>
                    </a:lnTo>
                    <a:lnTo>
                      <a:pt x="42" y="1689"/>
                    </a:lnTo>
                    <a:lnTo>
                      <a:pt x="42" y="1631"/>
                    </a:lnTo>
                    <a:lnTo>
                      <a:pt x="43" y="1575"/>
                    </a:lnTo>
                    <a:lnTo>
                      <a:pt x="46" y="1519"/>
                    </a:lnTo>
                    <a:lnTo>
                      <a:pt x="49" y="1463"/>
                    </a:lnTo>
                    <a:lnTo>
                      <a:pt x="52" y="1407"/>
                    </a:lnTo>
                    <a:lnTo>
                      <a:pt x="56" y="1352"/>
                    </a:lnTo>
                    <a:lnTo>
                      <a:pt x="62" y="1297"/>
                    </a:lnTo>
                    <a:lnTo>
                      <a:pt x="67" y="1242"/>
                    </a:lnTo>
                    <a:lnTo>
                      <a:pt x="75" y="1186"/>
                    </a:lnTo>
                    <a:lnTo>
                      <a:pt x="81" y="1131"/>
                    </a:lnTo>
                    <a:lnTo>
                      <a:pt x="90" y="1077"/>
                    </a:lnTo>
                    <a:lnTo>
                      <a:pt x="98" y="1022"/>
                    </a:lnTo>
                    <a:lnTo>
                      <a:pt x="108" y="968"/>
                    </a:lnTo>
                    <a:lnTo>
                      <a:pt x="119" y="915"/>
                    </a:lnTo>
                    <a:lnTo>
                      <a:pt x="130" y="861"/>
                    </a:lnTo>
                    <a:lnTo>
                      <a:pt x="142" y="808"/>
                    </a:lnTo>
                    <a:lnTo>
                      <a:pt x="155" y="756"/>
                    </a:lnTo>
                    <a:lnTo>
                      <a:pt x="168" y="703"/>
                    </a:lnTo>
                    <a:lnTo>
                      <a:pt x="182" y="651"/>
                    </a:lnTo>
                    <a:lnTo>
                      <a:pt x="197" y="599"/>
                    </a:lnTo>
                    <a:lnTo>
                      <a:pt x="212" y="547"/>
                    </a:lnTo>
                    <a:lnTo>
                      <a:pt x="228" y="495"/>
                    </a:lnTo>
                    <a:lnTo>
                      <a:pt x="245" y="445"/>
                    </a:lnTo>
                    <a:lnTo>
                      <a:pt x="263" y="394"/>
                    </a:lnTo>
                    <a:lnTo>
                      <a:pt x="281" y="343"/>
                    </a:lnTo>
                    <a:lnTo>
                      <a:pt x="299" y="293"/>
                    </a:lnTo>
                    <a:lnTo>
                      <a:pt x="319" y="244"/>
                    </a:lnTo>
                    <a:lnTo>
                      <a:pt x="339" y="194"/>
                    </a:lnTo>
                    <a:lnTo>
                      <a:pt x="360" y="144"/>
                    </a:lnTo>
                    <a:lnTo>
                      <a:pt x="382" y="96"/>
                    </a:lnTo>
                    <a:lnTo>
                      <a:pt x="404" y="47"/>
                    </a:lnTo>
                    <a:lnTo>
                      <a:pt x="427" y="0"/>
                    </a:lnTo>
                    <a:lnTo>
                      <a:pt x="418" y="5"/>
                    </a:lnTo>
                    <a:lnTo>
                      <a:pt x="411" y="9"/>
                    </a:lnTo>
                    <a:lnTo>
                      <a:pt x="402" y="15"/>
                    </a:lnTo>
                    <a:lnTo>
                      <a:pt x="393" y="20"/>
                    </a:lnTo>
                    <a:lnTo>
                      <a:pt x="386" y="25"/>
                    </a:lnTo>
                    <a:lnTo>
                      <a:pt x="377" y="31"/>
                    </a:lnTo>
                    <a:lnTo>
                      <a:pt x="370" y="36"/>
                    </a:lnTo>
                    <a:lnTo>
                      <a:pt x="361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19320" y="2319120"/>
                <a:ext cx="3108600" cy="1357560"/>
              </a:xfrm>
              <a:custGeom>
                <a:avLst/>
                <a:gdLst/>
                <a:ahLst/>
                <a:rect l="l" t="t" r="r" b="b"/>
                <a:pathLst>
                  <a:path w="7833" h="3419">
                    <a:moveTo>
                      <a:pt x="7833" y="1710"/>
                    </a:moveTo>
                    <a:lnTo>
                      <a:pt x="7833" y="1654"/>
                    </a:lnTo>
                    <a:lnTo>
                      <a:pt x="7832" y="1597"/>
                    </a:lnTo>
                    <a:lnTo>
                      <a:pt x="7829" y="1542"/>
                    </a:lnTo>
                    <a:lnTo>
                      <a:pt x="7827" y="1487"/>
                    </a:lnTo>
                    <a:lnTo>
                      <a:pt x="7823" y="1432"/>
                    </a:lnTo>
                    <a:lnTo>
                      <a:pt x="7819" y="1377"/>
                    </a:lnTo>
                    <a:lnTo>
                      <a:pt x="7814" y="1323"/>
                    </a:lnTo>
                    <a:lnTo>
                      <a:pt x="7809" y="1268"/>
                    </a:lnTo>
                    <a:lnTo>
                      <a:pt x="7802" y="1214"/>
                    </a:lnTo>
                    <a:lnTo>
                      <a:pt x="7795" y="1160"/>
                    </a:lnTo>
                    <a:lnTo>
                      <a:pt x="7787" y="1106"/>
                    </a:lnTo>
                    <a:lnTo>
                      <a:pt x="7777" y="1053"/>
                    </a:lnTo>
                    <a:lnTo>
                      <a:pt x="7769" y="999"/>
                    </a:lnTo>
                    <a:lnTo>
                      <a:pt x="7758" y="946"/>
                    </a:lnTo>
                    <a:lnTo>
                      <a:pt x="7747" y="893"/>
                    </a:lnTo>
                    <a:lnTo>
                      <a:pt x="7736" y="841"/>
                    </a:lnTo>
                    <a:lnTo>
                      <a:pt x="7723" y="788"/>
                    </a:lnTo>
                    <a:lnTo>
                      <a:pt x="7710" y="737"/>
                    </a:lnTo>
                    <a:lnTo>
                      <a:pt x="7698" y="685"/>
                    </a:lnTo>
                    <a:lnTo>
                      <a:pt x="7683" y="634"/>
                    </a:lnTo>
                    <a:lnTo>
                      <a:pt x="7668" y="582"/>
                    </a:lnTo>
                    <a:lnTo>
                      <a:pt x="7652" y="531"/>
                    </a:lnTo>
                    <a:lnTo>
                      <a:pt x="7636" y="482"/>
                    </a:lnTo>
                    <a:lnTo>
                      <a:pt x="7619" y="431"/>
                    </a:lnTo>
                    <a:lnTo>
                      <a:pt x="7601" y="381"/>
                    </a:lnTo>
                    <a:lnTo>
                      <a:pt x="7583" y="332"/>
                    </a:lnTo>
                    <a:lnTo>
                      <a:pt x="7565" y="282"/>
                    </a:lnTo>
                    <a:lnTo>
                      <a:pt x="7545" y="233"/>
                    </a:lnTo>
                    <a:lnTo>
                      <a:pt x="7525" y="185"/>
                    </a:lnTo>
                    <a:lnTo>
                      <a:pt x="7504" y="136"/>
                    </a:lnTo>
                    <a:lnTo>
                      <a:pt x="7482" y="89"/>
                    </a:lnTo>
                    <a:lnTo>
                      <a:pt x="7460" y="41"/>
                    </a:lnTo>
                    <a:lnTo>
                      <a:pt x="7452" y="36"/>
                    </a:lnTo>
                    <a:lnTo>
                      <a:pt x="7444" y="30"/>
                    </a:lnTo>
                    <a:lnTo>
                      <a:pt x="7435" y="25"/>
                    </a:lnTo>
                    <a:lnTo>
                      <a:pt x="7427" y="21"/>
                    </a:lnTo>
                    <a:lnTo>
                      <a:pt x="7419" y="15"/>
                    </a:lnTo>
                    <a:lnTo>
                      <a:pt x="7410" y="10"/>
                    </a:lnTo>
                    <a:lnTo>
                      <a:pt x="7403" y="4"/>
                    </a:lnTo>
                    <a:lnTo>
                      <a:pt x="7394" y="0"/>
                    </a:lnTo>
                    <a:lnTo>
                      <a:pt x="7418" y="49"/>
                    </a:lnTo>
                    <a:lnTo>
                      <a:pt x="7440" y="97"/>
                    </a:lnTo>
                    <a:lnTo>
                      <a:pt x="7462" y="146"/>
                    </a:lnTo>
                    <a:lnTo>
                      <a:pt x="7484" y="196"/>
                    </a:lnTo>
                    <a:lnTo>
                      <a:pt x="7505" y="246"/>
                    </a:lnTo>
                    <a:lnTo>
                      <a:pt x="7525" y="296"/>
                    </a:lnTo>
                    <a:lnTo>
                      <a:pt x="7544" y="347"/>
                    </a:lnTo>
                    <a:lnTo>
                      <a:pt x="7564" y="399"/>
                    </a:lnTo>
                    <a:lnTo>
                      <a:pt x="7582" y="449"/>
                    </a:lnTo>
                    <a:lnTo>
                      <a:pt x="7599" y="501"/>
                    </a:lnTo>
                    <a:lnTo>
                      <a:pt x="7615" y="553"/>
                    </a:lnTo>
                    <a:lnTo>
                      <a:pt x="7632" y="606"/>
                    </a:lnTo>
                    <a:lnTo>
                      <a:pt x="7647" y="658"/>
                    </a:lnTo>
                    <a:lnTo>
                      <a:pt x="7661" y="711"/>
                    </a:lnTo>
                    <a:lnTo>
                      <a:pt x="7675" y="765"/>
                    </a:lnTo>
                    <a:lnTo>
                      <a:pt x="7688" y="818"/>
                    </a:lnTo>
                    <a:lnTo>
                      <a:pt x="7701" y="872"/>
                    </a:lnTo>
                    <a:lnTo>
                      <a:pt x="7712" y="926"/>
                    </a:lnTo>
                    <a:lnTo>
                      <a:pt x="7722" y="980"/>
                    </a:lnTo>
                    <a:lnTo>
                      <a:pt x="7732" y="1035"/>
                    </a:lnTo>
                    <a:lnTo>
                      <a:pt x="7742" y="1090"/>
                    </a:lnTo>
                    <a:lnTo>
                      <a:pt x="7750" y="1145"/>
                    </a:lnTo>
                    <a:lnTo>
                      <a:pt x="7758" y="1200"/>
                    </a:lnTo>
                    <a:lnTo>
                      <a:pt x="7765" y="1256"/>
                    </a:lnTo>
                    <a:lnTo>
                      <a:pt x="7771" y="1312"/>
                    </a:lnTo>
                    <a:lnTo>
                      <a:pt x="7776" y="1368"/>
                    </a:lnTo>
                    <a:lnTo>
                      <a:pt x="7781" y="1425"/>
                    </a:lnTo>
                    <a:lnTo>
                      <a:pt x="7785" y="1481"/>
                    </a:lnTo>
                    <a:lnTo>
                      <a:pt x="7787" y="1538"/>
                    </a:lnTo>
                    <a:lnTo>
                      <a:pt x="7789" y="1595"/>
                    </a:lnTo>
                    <a:lnTo>
                      <a:pt x="7790" y="1652"/>
                    </a:lnTo>
                    <a:lnTo>
                      <a:pt x="7792" y="1710"/>
                    </a:lnTo>
                    <a:lnTo>
                      <a:pt x="7790" y="1774"/>
                    </a:lnTo>
                    <a:lnTo>
                      <a:pt x="7789" y="1839"/>
                    </a:lnTo>
                    <a:lnTo>
                      <a:pt x="7786" y="1904"/>
                    </a:lnTo>
                    <a:lnTo>
                      <a:pt x="7783" y="1969"/>
                    </a:lnTo>
                    <a:lnTo>
                      <a:pt x="7777" y="2033"/>
                    </a:lnTo>
                    <a:lnTo>
                      <a:pt x="7772" y="2096"/>
                    </a:lnTo>
                    <a:lnTo>
                      <a:pt x="7766" y="2160"/>
                    </a:lnTo>
                    <a:lnTo>
                      <a:pt x="7757" y="2223"/>
                    </a:lnTo>
                    <a:lnTo>
                      <a:pt x="7748" y="2286"/>
                    </a:lnTo>
                    <a:lnTo>
                      <a:pt x="7739" y="2348"/>
                    </a:lnTo>
                    <a:lnTo>
                      <a:pt x="7728" y="2411"/>
                    </a:lnTo>
                    <a:lnTo>
                      <a:pt x="7716" y="2472"/>
                    </a:lnTo>
                    <a:lnTo>
                      <a:pt x="7703" y="2534"/>
                    </a:lnTo>
                    <a:lnTo>
                      <a:pt x="7689" y="2595"/>
                    </a:lnTo>
                    <a:lnTo>
                      <a:pt x="7675" y="2656"/>
                    </a:lnTo>
                    <a:lnTo>
                      <a:pt x="7659" y="2716"/>
                    </a:lnTo>
                    <a:lnTo>
                      <a:pt x="7699" y="2727"/>
                    </a:lnTo>
                    <a:lnTo>
                      <a:pt x="7715" y="2667"/>
                    </a:lnTo>
                    <a:lnTo>
                      <a:pt x="7730" y="2605"/>
                    </a:lnTo>
                    <a:lnTo>
                      <a:pt x="7744" y="2543"/>
                    </a:lnTo>
                    <a:lnTo>
                      <a:pt x="7757" y="2481"/>
                    </a:lnTo>
                    <a:lnTo>
                      <a:pt x="7769" y="2418"/>
                    </a:lnTo>
                    <a:lnTo>
                      <a:pt x="7780" y="2356"/>
                    </a:lnTo>
                    <a:lnTo>
                      <a:pt x="7789" y="2292"/>
                    </a:lnTo>
                    <a:lnTo>
                      <a:pt x="7799" y="2228"/>
                    </a:lnTo>
                    <a:lnTo>
                      <a:pt x="7807" y="2164"/>
                    </a:lnTo>
                    <a:lnTo>
                      <a:pt x="7813" y="2101"/>
                    </a:lnTo>
                    <a:lnTo>
                      <a:pt x="7820" y="2036"/>
                    </a:lnTo>
                    <a:lnTo>
                      <a:pt x="7824" y="1971"/>
                    </a:lnTo>
                    <a:lnTo>
                      <a:pt x="7828" y="1906"/>
                    </a:lnTo>
                    <a:lnTo>
                      <a:pt x="7830" y="1841"/>
                    </a:lnTo>
                    <a:lnTo>
                      <a:pt x="7833" y="1776"/>
                    </a:lnTo>
                    <a:lnTo>
                      <a:pt x="7833" y="1710"/>
                    </a:lnTo>
                    <a:close/>
                    <a:moveTo>
                      <a:pt x="373" y="41"/>
                    </a:moveTo>
                    <a:lnTo>
                      <a:pt x="350" y="89"/>
                    </a:lnTo>
                    <a:lnTo>
                      <a:pt x="328" y="136"/>
                    </a:lnTo>
                    <a:lnTo>
                      <a:pt x="308" y="185"/>
                    </a:lnTo>
                    <a:lnTo>
                      <a:pt x="287" y="233"/>
                    </a:lnTo>
                    <a:lnTo>
                      <a:pt x="268" y="282"/>
                    </a:lnTo>
                    <a:lnTo>
                      <a:pt x="249" y="332"/>
                    </a:lnTo>
                    <a:lnTo>
                      <a:pt x="231" y="381"/>
                    </a:lnTo>
                    <a:lnTo>
                      <a:pt x="213" y="431"/>
                    </a:lnTo>
                    <a:lnTo>
                      <a:pt x="196" y="482"/>
                    </a:lnTo>
                    <a:lnTo>
                      <a:pt x="180" y="531"/>
                    </a:lnTo>
                    <a:lnTo>
                      <a:pt x="164" y="582"/>
                    </a:lnTo>
                    <a:lnTo>
                      <a:pt x="149" y="634"/>
                    </a:lnTo>
                    <a:lnTo>
                      <a:pt x="135" y="685"/>
                    </a:lnTo>
                    <a:lnTo>
                      <a:pt x="121" y="737"/>
                    </a:lnTo>
                    <a:lnTo>
                      <a:pt x="109" y="788"/>
                    </a:lnTo>
                    <a:lnTo>
                      <a:pt x="96" y="841"/>
                    </a:lnTo>
                    <a:lnTo>
                      <a:pt x="85" y="893"/>
                    </a:lnTo>
                    <a:lnTo>
                      <a:pt x="74" y="946"/>
                    </a:lnTo>
                    <a:lnTo>
                      <a:pt x="64" y="999"/>
                    </a:lnTo>
                    <a:lnTo>
                      <a:pt x="54" y="1053"/>
                    </a:lnTo>
                    <a:lnTo>
                      <a:pt x="45" y="1106"/>
                    </a:lnTo>
                    <a:lnTo>
                      <a:pt x="38" y="1160"/>
                    </a:lnTo>
                    <a:lnTo>
                      <a:pt x="30" y="1214"/>
                    </a:lnTo>
                    <a:lnTo>
                      <a:pt x="24" y="1268"/>
                    </a:lnTo>
                    <a:lnTo>
                      <a:pt x="18" y="1323"/>
                    </a:lnTo>
                    <a:lnTo>
                      <a:pt x="13" y="1377"/>
                    </a:lnTo>
                    <a:lnTo>
                      <a:pt x="10" y="1432"/>
                    </a:lnTo>
                    <a:lnTo>
                      <a:pt x="5" y="1487"/>
                    </a:lnTo>
                    <a:lnTo>
                      <a:pt x="3" y="1542"/>
                    </a:lnTo>
                    <a:lnTo>
                      <a:pt x="1" y="1597"/>
                    </a:lnTo>
                    <a:lnTo>
                      <a:pt x="0" y="1654"/>
                    </a:lnTo>
                    <a:lnTo>
                      <a:pt x="0" y="1710"/>
                    </a:lnTo>
                    <a:lnTo>
                      <a:pt x="0" y="1765"/>
                    </a:lnTo>
                    <a:lnTo>
                      <a:pt x="1" y="1821"/>
                    </a:lnTo>
                    <a:lnTo>
                      <a:pt x="3" y="1876"/>
                    </a:lnTo>
                    <a:lnTo>
                      <a:pt x="5" y="1932"/>
                    </a:lnTo>
                    <a:lnTo>
                      <a:pt x="10" y="1987"/>
                    </a:lnTo>
                    <a:lnTo>
                      <a:pt x="13" y="2041"/>
                    </a:lnTo>
                    <a:lnTo>
                      <a:pt x="18" y="2096"/>
                    </a:lnTo>
                    <a:lnTo>
                      <a:pt x="24" y="2150"/>
                    </a:lnTo>
                    <a:lnTo>
                      <a:pt x="30" y="2205"/>
                    </a:lnTo>
                    <a:lnTo>
                      <a:pt x="38" y="2259"/>
                    </a:lnTo>
                    <a:lnTo>
                      <a:pt x="45" y="2312"/>
                    </a:lnTo>
                    <a:lnTo>
                      <a:pt x="54" y="2366"/>
                    </a:lnTo>
                    <a:lnTo>
                      <a:pt x="64" y="2419"/>
                    </a:lnTo>
                    <a:lnTo>
                      <a:pt x="74" y="2472"/>
                    </a:lnTo>
                    <a:lnTo>
                      <a:pt x="85" y="2525"/>
                    </a:lnTo>
                    <a:lnTo>
                      <a:pt x="96" y="2578"/>
                    </a:lnTo>
                    <a:lnTo>
                      <a:pt x="109" y="2630"/>
                    </a:lnTo>
                    <a:lnTo>
                      <a:pt x="121" y="2682"/>
                    </a:lnTo>
                    <a:lnTo>
                      <a:pt x="135" y="2734"/>
                    </a:lnTo>
                    <a:lnTo>
                      <a:pt x="149" y="2785"/>
                    </a:lnTo>
                    <a:lnTo>
                      <a:pt x="164" y="2836"/>
                    </a:lnTo>
                    <a:lnTo>
                      <a:pt x="180" y="2887"/>
                    </a:lnTo>
                    <a:lnTo>
                      <a:pt x="196" y="2938"/>
                    </a:lnTo>
                    <a:lnTo>
                      <a:pt x="213" y="2987"/>
                    </a:lnTo>
                    <a:lnTo>
                      <a:pt x="231" y="3038"/>
                    </a:lnTo>
                    <a:lnTo>
                      <a:pt x="249" y="3088"/>
                    </a:lnTo>
                    <a:lnTo>
                      <a:pt x="268" y="3136"/>
                    </a:lnTo>
                    <a:lnTo>
                      <a:pt x="287" y="3186"/>
                    </a:lnTo>
                    <a:lnTo>
                      <a:pt x="308" y="3235"/>
                    </a:lnTo>
                    <a:lnTo>
                      <a:pt x="328" y="3282"/>
                    </a:lnTo>
                    <a:lnTo>
                      <a:pt x="350" y="3331"/>
                    </a:lnTo>
                    <a:lnTo>
                      <a:pt x="373" y="3378"/>
                    </a:lnTo>
                    <a:lnTo>
                      <a:pt x="380" y="3384"/>
                    </a:lnTo>
                    <a:lnTo>
                      <a:pt x="389" y="3388"/>
                    </a:lnTo>
                    <a:lnTo>
                      <a:pt x="396" y="3393"/>
                    </a:lnTo>
                    <a:lnTo>
                      <a:pt x="405" y="3399"/>
                    </a:lnTo>
                    <a:lnTo>
                      <a:pt x="414" y="3404"/>
                    </a:lnTo>
                    <a:lnTo>
                      <a:pt x="421" y="3409"/>
                    </a:lnTo>
                    <a:lnTo>
                      <a:pt x="430" y="3414"/>
                    </a:lnTo>
                    <a:lnTo>
                      <a:pt x="438" y="3419"/>
                    </a:lnTo>
                    <a:lnTo>
                      <a:pt x="415" y="3371"/>
                    </a:lnTo>
                    <a:lnTo>
                      <a:pt x="392" y="3322"/>
                    </a:lnTo>
                    <a:lnTo>
                      <a:pt x="369" y="3272"/>
                    </a:lnTo>
                    <a:lnTo>
                      <a:pt x="349" y="3223"/>
                    </a:lnTo>
                    <a:lnTo>
                      <a:pt x="327" y="3173"/>
                    </a:lnTo>
                    <a:lnTo>
                      <a:pt x="308" y="3122"/>
                    </a:lnTo>
                    <a:lnTo>
                      <a:pt x="288" y="3072"/>
                    </a:lnTo>
                    <a:lnTo>
                      <a:pt x="269" y="3021"/>
                    </a:lnTo>
                    <a:lnTo>
                      <a:pt x="250" y="2969"/>
                    </a:lnTo>
                    <a:lnTo>
                      <a:pt x="233" y="2918"/>
                    </a:lnTo>
                    <a:lnTo>
                      <a:pt x="217" y="2865"/>
                    </a:lnTo>
                    <a:lnTo>
                      <a:pt x="201" y="2813"/>
                    </a:lnTo>
                    <a:lnTo>
                      <a:pt x="186" y="2761"/>
                    </a:lnTo>
                    <a:lnTo>
                      <a:pt x="172" y="2708"/>
                    </a:lnTo>
                    <a:lnTo>
                      <a:pt x="158" y="2655"/>
                    </a:lnTo>
                    <a:lnTo>
                      <a:pt x="145" y="2601"/>
                    </a:lnTo>
                    <a:lnTo>
                      <a:pt x="132" y="2548"/>
                    </a:lnTo>
                    <a:lnTo>
                      <a:pt x="121" y="2493"/>
                    </a:lnTo>
                    <a:lnTo>
                      <a:pt x="110" y="2439"/>
                    </a:lnTo>
                    <a:lnTo>
                      <a:pt x="99" y="2385"/>
                    </a:lnTo>
                    <a:lnTo>
                      <a:pt x="91" y="2330"/>
                    </a:lnTo>
                    <a:lnTo>
                      <a:pt x="82" y="2275"/>
                    </a:lnTo>
                    <a:lnTo>
                      <a:pt x="74" y="2218"/>
                    </a:lnTo>
                    <a:lnTo>
                      <a:pt x="68" y="2163"/>
                    </a:lnTo>
                    <a:lnTo>
                      <a:pt x="61" y="2107"/>
                    </a:lnTo>
                    <a:lnTo>
                      <a:pt x="56" y="2051"/>
                    </a:lnTo>
                    <a:lnTo>
                      <a:pt x="52" y="1995"/>
                    </a:lnTo>
                    <a:lnTo>
                      <a:pt x="47" y="1938"/>
                    </a:lnTo>
                    <a:lnTo>
                      <a:pt x="45" y="1881"/>
                    </a:lnTo>
                    <a:lnTo>
                      <a:pt x="43" y="1824"/>
                    </a:lnTo>
                    <a:lnTo>
                      <a:pt x="42" y="1767"/>
                    </a:lnTo>
                    <a:lnTo>
                      <a:pt x="41" y="1710"/>
                    </a:lnTo>
                    <a:lnTo>
                      <a:pt x="42" y="1652"/>
                    </a:lnTo>
                    <a:lnTo>
                      <a:pt x="43" y="1595"/>
                    </a:lnTo>
                    <a:lnTo>
                      <a:pt x="45" y="1538"/>
                    </a:lnTo>
                    <a:lnTo>
                      <a:pt x="47" y="1481"/>
                    </a:lnTo>
                    <a:lnTo>
                      <a:pt x="52" y="1425"/>
                    </a:lnTo>
                    <a:lnTo>
                      <a:pt x="56" y="1368"/>
                    </a:lnTo>
                    <a:lnTo>
                      <a:pt x="61" y="1312"/>
                    </a:lnTo>
                    <a:lnTo>
                      <a:pt x="68" y="1256"/>
                    </a:lnTo>
                    <a:lnTo>
                      <a:pt x="74" y="1200"/>
                    </a:lnTo>
                    <a:lnTo>
                      <a:pt x="82" y="1145"/>
                    </a:lnTo>
                    <a:lnTo>
                      <a:pt x="91" y="1090"/>
                    </a:lnTo>
                    <a:lnTo>
                      <a:pt x="99" y="1035"/>
                    </a:lnTo>
                    <a:lnTo>
                      <a:pt x="110" y="980"/>
                    </a:lnTo>
                    <a:lnTo>
                      <a:pt x="121" y="926"/>
                    </a:lnTo>
                    <a:lnTo>
                      <a:pt x="132" y="872"/>
                    </a:lnTo>
                    <a:lnTo>
                      <a:pt x="145" y="818"/>
                    </a:lnTo>
                    <a:lnTo>
                      <a:pt x="158" y="765"/>
                    </a:lnTo>
                    <a:lnTo>
                      <a:pt x="172" y="711"/>
                    </a:lnTo>
                    <a:lnTo>
                      <a:pt x="186" y="658"/>
                    </a:lnTo>
                    <a:lnTo>
                      <a:pt x="201" y="606"/>
                    </a:lnTo>
                    <a:lnTo>
                      <a:pt x="217" y="553"/>
                    </a:lnTo>
                    <a:lnTo>
                      <a:pt x="233" y="501"/>
                    </a:lnTo>
                    <a:lnTo>
                      <a:pt x="250" y="449"/>
                    </a:lnTo>
                    <a:lnTo>
                      <a:pt x="269" y="399"/>
                    </a:lnTo>
                    <a:lnTo>
                      <a:pt x="288" y="347"/>
                    </a:lnTo>
                    <a:lnTo>
                      <a:pt x="308" y="296"/>
                    </a:lnTo>
                    <a:lnTo>
                      <a:pt x="327" y="246"/>
                    </a:lnTo>
                    <a:lnTo>
                      <a:pt x="349" y="196"/>
                    </a:lnTo>
                    <a:lnTo>
                      <a:pt x="369" y="146"/>
                    </a:lnTo>
                    <a:lnTo>
                      <a:pt x="392" y="97"/>
                    </a:lnTo>
                    <a:lnTo>
                      <a:pt x="415" y="49"/>
                    </a:lnTo>
                    <a:lnTo>
                      <a:pt x="438" y="0"/>
                    </a:lnTo>
                    <a:lnTo>
                      <a:pt x="430" y="4"/>
                    </a:lnTo>
                    <a:lnTo>
                      <a:pt x="422" y="10"/>
                    </a:lnTo>
                    <a:lnTo>
                      <a:pt x="414" y="15"/>
                    </a:lnTo>
                    <a:lnTo>
                      <a:pt x="405" y="21"/>
                    </a:lnTo>
                    <a:lnTo>
                      <a:pt x="397" y="25"/>
                    </a:lnTo>
                    <a:lnTo>
                      <a:pt x="389" y="30"/>
                    </a:lnTo>
                    <a:lnTo>
                      <a:pt x="380" y="36"/>
                    </a:lnTo>
                    <a:lnTo>
                      <a:pt x="373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27240" y="2311200"/>
                <a:ext cx="3092400" cy="1371600"/>
              </a:xfrm>
              <a:custGeom>
                <a:avLst/>
                <a:gdLst/>
                <a:ahLst/>
                <a:rect l="l" t="t" r="r" b="b"/>
                <a:pathLst>
                  <a:path w="7792" h="3459">
                    <a:moveTo>
                      <a:pt x="7792" y="1730"/>
                    </a:moveTo>
                    <a:lnTo>
                      <a:pt x="7792" y="1672"/>
                    </a:lnTo>
                    <a:lnTo>
                      <a:pt x="7791" y="1616"/>
                    </a:lnTo>
                    <a:lnTo>
                      <a:pt x="7789" y="1560"/>
                    </a:lnTo>
                    <a:lnTo>
                      <a:pt x="7786" y="1504"/>
                    </a:lnTo>
                    <a:lnTo>
                      <a:pt x="7782" y="1448"/>
                    </a:lnTo>
                    <a:lnTo>
                      <a:pt x="7778" y="1393"/>
                    </a:lnTo>
                    <a:lnTo>
                      <a:pt x="7773" y="1338"/>
                    </a:lnTo>
                    <a:lnTo>
                      <a:pt x="7767" y="1283"/>
                    </a:lnTo>
                    <a:lnTo>
                      <a:pt x="7760" y="1227"/>
                    </a:lnTo>
                    <a:lnTo>
                      <a:pt x="7752" y="1172"/>
                    </a:lnTo>
                    <a:lnTo>
                      <a:pt x="7745" y="1118"/>
                    </a:lnTo>
                    <a:lnTo>
                      <a:pt x="7736" y="1063"/>
                    </a:lnTo>
                    <a:lnTo>
                      <a:pt x="7726" y="1009"/>
                    </a:lnTo>
                    <a:lnTo>
                      <a:pt x="7715" y="956"/>
                    </a:lnTo>
                    <a:lnTo>
                      <a:pt x="7705" y="902"/>
                    </a:lnTo>
                    <a:lnTo>
                      <a:pt x="7693" y="849"/>
                    </a:lnTo>
                    <a:lnTo>
                      <a:pt x="7680" y="797"/>
                    </a:lnTo>
                    <a:lnTo>
                      <a:pt x="7667" y="744"/>
                    </a:lnTo>
                    <a:lnTo>
                      <a:pt x="7653" y="692"/>
                    </a:lnTo>
                    <a:lnTo>
                      <a:pt x="7638" y="640"/>
                    </a:lnTo>
                    <a:lnTo>
                      <a:pt x="7622" y="588"/>
                    </a:lnTo>
                    <a:lnTo>
                      <a:pt x="7606" y="536"/>
                    </a:lnTo>
                    <a:lnTo>
                      <a:pt x="7589" y="486"/>
                    </a:lnTo>
                    <a:lnTo>
                      <a:pt x="7572" y="435"/>
                    </a:lnTo>
                    <a:lnTo>
                      <a:pt x="7553" y="384"/>
                    </a:lnTo>
                    <a:lnTo>
                      <a:pt x="7535" y="334"/>
                    </a:lnTo>
                    <a:lnTo>
                      <a:pt x="7515" y="285"/>
                    </a:lnTo>
                    <a:lnTo>
                      <a:pt x="7495" y="235"/>
                    </a:lnTo>
                    <a:lnTo>
                      <a:pt x="7474" y="185"/>
                    </a:lnTo>
                    <a:lnTo>
                      <a:pt x="7453" y="137"/>
                    </a:lnTo>
                    <a:lnTo>
                      <a:pt x="7430" y="88"/>
                    </a:lnTo>
                    <a:lnTo>
                      <a:pt x="7407" y="41"/>
                    </a:lnTo>
                    <a:lnTo>
                      <a:pt x="7399" y="35"/>
                    </a:lnTo>
                    <a:lnTo>
                      <a:pt x="7391" y="30"/>
                    </a:lnTo>
                    <a:lnTo>
                      <a:pt x="7383" y="25"/>
                    </a:lnTo>
                    <a:lnTo>
                      <a:pt x="7374" y="20"/>
                    </a:lnTo>
                    <a:lnTo>
                      <a:pt x="7366" y="15"/>
                    </a:lnTo>
                    <a:lnTo>
                      <a:pt x="7358" y="9"/>
                    </a:lnTo>
                    <a:lnTo>
                      <a:pt x="7349" y="5"/>
                    </a:lnTo>
                    <a:lnTo>
                      <a:pt x="7340" y="0"/>
                    </a:lnTo>
                    <a:lnTo>
                      <a:pt x="7365" y="48"/>
                    </a:lnTo>
                    <a:lnTo>
                      <a:pt x="7388" y="98"/>
                    </a:lnTo>
                    <a:lnTo>
                      <a:pt x="7412" y="147"/>
                    </a:lnTo>
                    <a:lnTo>
                      <a:pt x="7433" y="198"/>
                    </a:lnTo>
                    <a:lnTo>
                      <a:pt x="7455" y="248"/>
                    </a:lnTo>
                    <a:lnTo>
                      <a:pt x="7475" y="299"/>
                    </a:lnTo>
                    <a:lnTo>
                      <a:pt x="7496" y="351"/>
                    </a:lnTo>
                    <a:lnTo>
                      <a:pt x="7515" y="402"/>
                    </a:lnTo>
                    <a:lnTo>
                      <a:pt x="7534" y="454"/>
                    </a:lnTo>
                    <a:lnTo>
                      <a:pt x="7552" y="506"/>
                    </a:lnTo>
                    <a:lnTo>
                      <a:pt x="7569" y="559"/>
                    </a:lnTo>
                    <a:lnTo>
                      <a:pt x="7586" y="612"/>
                    </a:lnTo>
                    <a:lnTo>
                      <a:pt x="7601" y="665"/>
                    </a:lnTo>
                    <a:lnTo>
                      <a:pt x="7616" y="718"/>
                    </a:lnTo>
                    <a:lnTo>
                      <a:pt x="7630" y="772"/>
                    </a:lnTo>
                    <a:lnTo>
                      <a:pt x="7644" y="827"/>
                    </a:lnTo>
                    <a:lnTo>
                      <a:pt x="7657" y="881"/>
                    </a:lnTo>
                    <a:lnTo>
                      <a:pt x="7669" y="936"/>
                    </a:lnTo>
                    <a:lnTo>
                      <a:pt x="7680" y="991"/>
                    </a:lnTo>
                    <a:lnTo>
                      <a:pt x="7689" y="1046"/>
                    </a:lnTo>
                    <a:lnTo>
                      <a:pt x="7699" y="1101"/>
                    </a:lnTo>
                    <a:lnTo>
                      <a:pt x="7708" y="1157"/>
                    </a:lnTo>
                    <a:lnTo>
                      <a:pt x="7716" y="1213"/>
                    </a:lnTo>
                    <a:lnTo>
                      <a:pt x="7723" y="1270"/>
                    </a:lnTo>
                    <a:lnTo>
                      <a:pt x="7729" y="1327"/>
                    </a:lnTo>
                    <a:lnTo>
                      <a:pt x="7735" y="1383"/>
                    </a:lnTo>
                    <a:lnTo>
                      <a:pt x="7740" y="1440"/>
                    </a:lnTo>
                    <a:lnTo>
                      <a:pt x="7743" y="1497"/>
                    </a:lnTo>
                    <a:lnTo>
                      <a:pt x="7747" y="1556"/>
                    </a:lnTo>
                    <a:lnTo>
                      <a:pt x="7749" y="1613"/>
                    </a:lnTo>
                    <a:lnTo>
                      <a:pt x="7750" y="1671"/>
                    </a:lnTo>
                    <a:lnTo>
                      <a:pt x="7751" y="1730"/>
                    </a:lnTo>
                    <a:lnTo>
                      <a:pt x="7750" y="1794"/>
                    </a:lnTo>
                    <a:lnTo>
                      <a:pt x="7749" y="1859"/>
                    </a:lnTo>
                    <a:lnTo>
                      <a:pt x="7746" y="1923"/>
                    </a:lnTo>
                    <a:lnTo>
                      <a:pt x="7742" y="1987"/>
                    </a:lnTo>
                    <a:lnTo>
                      <a:pt x="7737" y="2050"/>
                    </a:lnTo>
                    <a:lnTo>
                      <a:pt x="7732" y="2114"/>
                    </a:lnTo>
                    <a:lnTo>
                      <a:pt x="7725" y="2178"/>
                    </a:lnTo>
                    <a:lnTo>
                      <a:pt x="7716" y="2241"/>
                    </a:lnTo>
                    <a:lnTo>
                      <a:pt x="7708" y="2303"/>
                    </a:lnTo>
                    <a:lnTo>
                      <a:pt x="7698" y="2365"/>
                    </a:lnTo>
                    <a:lnTo>
                      <a:pt x="7687" y="2427"/>
                    </a:lnTo>
                    <a:lnTo>
                      <a:pt x="7675" y="2489"/>
                    </a:lnTo>
                    <a:lnTo>
                      <a:pt x="7662" y="2549"/>
                    </a:lnTo>
                    <a:lnTo>
                      <a:pt x="7649" y="2610"/>
                    </a:lnTo>
                    <a:lnTo>
                      <a:pt x="7634" y="2670"/>
                    </a:lnTo>
                    <a:lnTo>
                      <a:pt x="7619" y="2731"/>
                    </a:lnTo>
                    <a:lnTo>
                      <a:pt x="7659" y="2742"/>
                    </a:lnTo>
                    <a:lnTo>
                      <a:pt x="7674" y="2681"/>
                    </a:lnTo>
                    <a:lnTo>
                      <a:pt x="7689" y="2620"/>
                    </a:lnTo>
                    <a:lnTo>
                      <a:pt x="7703" y="2558"/>
                    </a:lnTo>
                    <a:lnTo>
                      <a:pt x="7716" y="2496"/>
                    </a:lnTo>
                    <a:lnTo>
                      <a:pt x="7728" y="2435"/>
                    </a:lnTo>
                    <a:lnTo>
                      <a:pt x="7739" y="2372"/>
                    </a:lnTo>
                    <a:lnTo>
                      <a:pt x="7749" y="2309"/>
                    </a:lnTo>
                    <a:lnTo>
                      <a:pt x="7759" y="2246"/>
                    </a:lnTo>
                    <a:lnTo>
                      <a:pt x="7766" y="2182"/>
                    </a:lnTo>
                    <a:lnTo>
                      <a:pt x="7773" y="2118"/>
                    </a:lnTo>
                    <a:lnTo>
                      <a:pt x="7779" y="2055"/>
                    </a:lnTo>
                    <a:lnTo>
                      <a:pt x="7783" y="1990"/>
                    </a:lnTo>
                    <a:lnTo>
                      <a:pt x="7788" y="1925"/>
                    </a:lnTo>
                    <a:lnTo>
                      <a:pt x="7790" y="1860"/>
                    </a:lnTo>
                    <a:lnTo>
                      <a:pt x="7792" y="1794"/>
                    </a:lnTo>
                    <a:lnTo>
                      <a:pt x="7792" y="1730"/>
                    </a:lnTo>
                    <a:close/>
                    <a:moveTo>
                      <a:pt x="385" y="41"/>
                    </a:moveTo>
                    <a:lnTo>
                      <a:pt x="362" y="88"/>
                    </a:lnTo>
                    <a:lnTo>
                      <a:pt x="340" y="137"/>
                    </a:lnTo>
                    <a:lnTo>
                      <a:pt x="318" y="185"/>
                    </a:lnTo>
                    <a:lnTo>
                      <a:pt x="297" y="235"/>
                    </a:lnTo>
                    <a:lnTo>
                      <a:pt x="277" y="285"/>
                    </a:lnTo>
                    <a:lnTo>
                      <a:pt x="257" y="334"/>
                    </a:lnTo>
                    <a:lnTo>
                      <a:pt x="239" y="384"/>
                    </a:lnTo>
                    <a:lnTo>
                      <a:pt x="221" y="435"/>
                    </a:lnTo>
                    <a:lnTo>
                      <a:pt x="203" y="486"/>
                    </a:lnTo>
                    <a:lnTo>
                      <a:pt x="186" y="536"/>
                    </a:lnTo>
                    <a:lnTo>
                      <a:pt x="170" y="588"/>
                    </a:lnTo>
                    <a:lnTo>
                      <a:pt x="155" y="640"/>
                    </a:lnTo>
                    <a:lnTo>
                      <a:pt x="140" y="692"/>
                    </a:lnTo>
                    <a:lnTo>
                      <a:pt x="126" y="744"/>
                    </a:lnTo>
                    <a:lnTo>
                      <a:pt x="113" y="797"/>
                    </a:lnTo>
                    <a:lnTo>
                      <a:pt x="100" y="849"/>
                    </a:lnTo>
                    <a:lnTo>
                      <a:pt x="88" y="902"/>
                    </a:lnTo>
                    <a:lnTo>
                      <a:pt x="77" y="956"/>
                    </a:lnTo>
                    <a:lnTo>
                      <a:pt x="66" y="1009"/>
                    </a:lnTo>
                    <a:lnTo>
                      <a:pt x="56" y="1063"/>
                    </a:lnTo>
                    <a:lnTo>
                      <a:pt x="48" y="1118"/>
                    </a:lnTo>
                    <a:lnTo>
                      <a:pt x="39" y="1172"/>
                    </a:lnTo>
                    <a:lnTo>
                      <a:pt x="33" y="1227"/>
                    </a:lnTo>
                    <a:lnTo>
                      <a:pt x="25" y="1283"/>
                    </a:lnTo>
                    <a:lnTo>
                      <a:pt x="20" y="1338"/>
                    </a:lnTo>
                    <a:lnTo>
                      <a:pt x="14" y="1393"/>
                    </a:lnTo>
                    <a:lnTo>
                      <a:pt x="10" y="1448"/>
                    </a:lnTo>
                    <a:lnTo>
                      <a:pt x="7" y="1504"/>
                    </a:lnTo>
                    <a:lnTo>
                      <a:pt x="4" y="1560"/>
                    </a:lnTo>
                    <a:lnTo>
                      <a:pt x="1" y="1616"/>
                    </a:lnTo>
                    <a:lnTo>
                      <a:pt x="0" y="1672"/>
                    </a:lnTo>
                    <a:lnTo>
                      <a:pt x="0" y="1730"/>
                    </a:lnTo>
                    <a:lnTo>
                      <a:pt x="0" y="1786"/>
                    </a:lnTo>
                    <a:lnTo>
                      <a:pt x="1" y="1842"/>
                    </a:lnTo>
                    <a:lnTo>
                      <a:pt x="4" y="1899"/>
                    </a:lnTo>
                    <a:lnTo>
                      <a:pt x="7" y="1954"/>
                    </a:lnTo>
                    <a:lnTo>
                      <a:pt x="10" y="2010"/>
                    </a:lnTo>
                    <a:lnTo>
                      <a:pt x="14" y="2067"/>
                    </a:lnTo>
                    <a:lnTo>
                      <a:pt x="20" y="2122"/>
                    </a:lnTo>
                    <a:lnTo>
                      <a:pt x="25" y="2177"/>
                    </a:lnTo>
                    <a:lnTo>
                      <a:pt x="33" y="2232"/>
                    </a:lnTo>
                    <a:lnTo>
                      <a:pt x="39" y="2286"/>
                    </a:lnTo>
                    <a:lnTo>
                      <a:pt x="48" y="2341"/>
                    </a:lnTo>
                    <a:lnTo>
                      <a:pt x="56" y="2395"/>
                    </a:lnTo>
                    <a:lnTo>
                      <a:pt x="66" y="2449"/>
                    </a:lnTo>
                    <a:lnTo>
                      <a:pt x="77" y="2503"/>
                    </a:lnTo>
                    <a:lnTo>
                      <a:pt x="88" y="2556"/>
                    </a:lnTo>
                    <a:lnTo>
                      <a:pt x="100" y="2609"/>
                    </a:lnTo>
                    <a:lnTo>
                      <a:pt x="113" y="2662"/>
                    </a:lnTo>
                    <a:lnTo>
                      <a:pt x="126" y="2715"/>
                    </a:lnTo>
                    <a:lnTo>
                      <a:pt x="140" y="2768"/>
                    </a:lnTo>
                    <a:lnTo>
                      <a:pt x="155" y="2819"/>
                    </a:lnTo>
                    <a:lnTo>
                      <a:pt x="170" y="2871"/>
                    </a:lnTo>
                    <a:lnTo>
                      <a:pt x="186" y="2922"/>
                    </a:lnTo>
                    <a:lnTo>
                      <a:pt x="203" y="2974"/>
                    </a:lnTo>
                    <a:lnTo>
                      <a:pt x="221" y="3025"/>
                    </a:lnTo>
                    <a:lnTo>
                      <a:pt x="239" y="3074"/>
                    </a:lnTo>
                    <a:lnTo>
                      <a:pt x="257" y="3125"/>
                    </a:lnTo>
                    <a:lnTo>
                      <a:pt x="277" y="3175"/>
                    </a:lnTo>
                    <a:lnTo>
                      <a:pt x="297" y="3224"/>
                    </a:lnTo>
                    <a:lnTo>
                      <a:pt x="318" y="3273"/>
                    </a:lnTo>
                    <a:lnTo>
                      <a:pt x="340" y="3322"/>
                    </a:lnTo>
                    <a:lnTo>
                      <a:pt x="362" y="3370"/>
                    </a:lnTo>
                    <a:lnTo>
                      <a:pt x="385" y="3419"/>
                    </a:lnTo>
                    <a:lnTo>
                      <a:pt x="394" y="3423"/>
                    </a:lnTo>
                    <a:lnTo>
                      <a:pt x="401" y="3429"/>
                    </a:lnTo>
                    <a:lnTo>
                      <a:pt x="410" y="3434"/>
                    </a:lnTo>
                    <a:lnTo>
                      <a:pt x="418" y="3439"/>
                    </a:lnTo>
                    <a:lnTo>
                      <a:pt x="426" y="3444"/>
                    </a:lnTo>
                    <a:lnTo>
                      <a:pt x="435" y="3449"/>
                    </a:lnTo>
                    <a:lnTo>
                      <a:pt x="443" y="3454"/>
                    </a:lnTo>
                    <a:lnTo>
                      <a:pt x="452" y="3459"/>
                    </a:lnTo>
                    <a:lnTo>
                      <a:pt x="427" y="3410"/>
                    </a:lnTo>
                    <a:lnTo>
                      <a:pt x="403" y="3360"/>
                    </a:lnTo>
                    <a:lnTo>
                      <a:pt x="381" y="3311"/>
                    </a:lnTo>
                    <a:lnTo>
                      <a:pt x="359" y="3261"/>
                    </a:lnTo>
                    <a:lnTo>
                      <a:pt x="337" y="3210"/>
                    </a:lnTo>
                    <a:lnTo>
                      <a:pt x="317" y="3160"/>
                    </a:lnTo>
                    <a:lnTo>
                      <a:pt x="296" y="3109"/>
                    </a:lnTo>
                    <a:lnTo>
                      <a:pt x="277" y="3057"/>
                    </a:lnTo>
                    <a:lnTo>
                      <a:pt x="259" y="3005"/>
                    </a:lnTo>
                    <a:lnTo>
                      <a:pt x="240" y="2953"/>
                    </a:lnTo>
                    <a:lnTo>
                      <a:pt x="223" y="2900"/>
                    </a:lnTo>
                    <a:lnTo>
                      <a:pt x="207" y="2847"/>
                    </a:lnTo>
                    <a:lnTo>
                      <a:pt x="192" y="2795"/>
                    </a:lnTo>
                    <a:lnTo>
                      <a:pt x="176" y="2741"/>
                    </a:lnTo>
                    <a:lnTo>
                      <a:pt x="162" y="2687"/>
                    </a:lnTo>
                    <a:lnTo>
                      <a:pt x="148" y="2633"/>
                    </a:lnTo>
                    <a:lnTo>
                      <a:pt x="135" y="2579"/>
                    </a:lnTo>
                    <a:lnTo>
                      <a:pt x="123" y="2523"/>
                    </a:lnTo>
                    <a:lnTo>
                      <a:pt x="113" y="2468"/>
                    </a:lnTo>
                    <a:lnTo>
                      <a:pt x="102" y="2413"/>
                    </a:lnTo>
                    <a:lnTo>
                      <a:pt x="93" y="2357"/>
                    </a:lnTo>
                    <a:lnTo>
                      <a:pt x="85" y="2301"/>
                    </a:lnTo>
                    <a:lnTo>
                      <a:pt x="76" y="2246"/>
                    </a:lnTo>
                    <a:lnTo>
                      <a:pt x="69" y="2189"/>
                    </a:lnTo>
                    <a:lnTo>
                      <a:pt x="63" y="2133"/>
                    </a:lnTo>
                    <a:lnTo>
                      <a:pt x="58" y="2075"/>
                    </a:lnTo>
                    <a:lnTo>
                      <a:pt x="52" y="2018"/>
                    </a:lnTo>
                    <a:lnTo>
                      <a:pt x="49" y="1961"/>
                    </a:lnTo>
                    <a:lnTo>
                      <a:pt x="46" y="1904"/>
                    </a:lnTo>
                    <a:lnTo>
                      <a:pt x="44" y="1845"/>
                    </a:lnTo>
                    <a:lnTo>
                      <a:pt x="42" y="1788"/>
                    </a:lnTo>
                    <a:lnTo>
                      <a:pt x="41" y="1730"/>
                    </a:lnTo>
                    <a:lnTo>
                      <a:pt x="42" y="1671"/>
                    </a:lnTo>
                    <a:lnTo>
                      <a:pt x="44" y="1613"/>
                    </a:lnTo>
                    <a:lnTo>
                      <a:pt x="46" y="1556"/>
                    </a:lnTo>
                    <a:lnTo>
                      <a:pt x="49" y="1497"/>
                    </a:lnTo>
                    <a:lnTo>
                      <a:pt x="52" y="1440"/>
                    </a:lnTo>
                    <a:lnTo>
                      <a:pt x="58" y="1383"/>
                    </a:lnTo>
                    <a:lnTo>
                      <a:pt x="63" y="1327"/>
                    </a:lnTo>
                    <a:lnTo>
                      <a:pt x="69" y="1270"/>
                    </a:lnTo>
                    <a:lnTo>
                      <a:pt x="76" y="1213"/>
                    </a:lnTo>
                    <a:lnTo>
                      <a:pt x="85" y="1157"/>
                    </a:lnTo>
                    <a:lnTo>
                      <a:pt x="93" y="1101"/>
                    </a:lnTo>
                    <a:lnTo>
                      <a:pt x="102" y="1046"/>
                    </a:lnTo>
                    <a:lnTo>
                      <a:pt x="113" y="991"/>
                    </a:lnTo>
                    <a:lnTo>
                      <a:pt x="123" y="936"/>
                    </a:lnTo>
                    <a:lnTo>
                      <a:pt x="135" y="881"/>
                    </a:lnTo>
                    <a:lnTo>
                      <a:pt x="148" y="827"/>
                    </a:lnTo>
                    <a:lnTo>
                      <a:pt x="162" y="772"/>
                    </a:lnTo>
                    <a:lnTo>
                      <a:pt x="176" y="718"/>
                    </a:lnTo>
                    <a:lnTo>
                      <a:pt x="192" y="665"/>
                    </a:lnTo>
                    <a:lnTo>
                      <a:pt x="207" y="612"/>
                    </a:lnTo>
                    <a:lnTo>
                      <a:pt x="223" y="559"/>
                    </a:lnTo>
                    <a:lnTo>
                      <a:pt x="240" y="506"/>
                    </a:lnTo>
                    <a:lnTo>
                      <a:pt x="259" y="454"/>
                    </a:lnTo>
                    <a:lnTo>
                      <a:pt x="277" y="402"/>
                    </a:lnTo>
                    <a:lnTo>
                      <a:pt x="296" y="351"/>
                    </a:lnTo>
                    <a:lnTo>
                      <a:pt x="317" y="299"/>
                    </a:lnTo>
                    <a:lnTo>
                      <a:pt x="337" y="248"/>
                    </a:lnTo>
                    <a:lnTo>
                      <a:pt x="359" y="198"/>
                    </a:lnTo>
                    <a:lnTo>
                      <a:pt x="381" y="147"/>
                    </a:lnTo>
                    <a:lnTo>
                      <a:pt x="403" y="98"/>
                    </a:lnTo>
                    <a:lnTo>
                      <a:pt x="427" y="48"/>
                    </a:lnTo>
                    <a:lnTo>
                      <a:pt x="452" y="0"/>
                    </a:lnTo>
                    <a:lnTo>
                      <a:pt x="443" y="5"/>
                    </a:lnTo>
                    <a:lnTo>
                      <a:pt x="435" y="9"/>
                    </a:lnTo>
                    <a:lnTo>
                      <a:pt x="426" y="15"/>
                    </a:lnTo>
                    <a:lnTo>
                      <a:pt x="418" y="20"/>
                    </a:lnTo>
                    <a:lnTo>
                      <a:pt x="410" y="25"/>
                    </a:lnTo>
                    <a:lnTo>
                      <a:pt x="401" y="30"/>
                    </a:lnTo>
                    <a:lnTo>
                      <a:pt x="394" y="35"/>
                    </a:lnTo>
                    <a:lnTo>
                      <a:pt x="385" y="41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35160" y="2303280"/>
                <a:ext cx="3076560" cy="1387440"/>
              </a:xfrm>
              <a:custGeom>
                <a:avLst/>
                <a:gdLst/>
                <a:ahLst/>
                <a:rect l="l" t="t" r="r" b="b"/>
                <a:pathLst>
                  <a:path w="7751" h="3498">
                    <a:moveTo>
                      <a:pt x="7751" y="1750"/>
                    </a:moveTo>
                    <a:lnTo>
                      <a:pt x="7749" y="1692"/>
                    </a:lnTo>
                    <a:lnTo>
                      <a:pt x="7748" y="1635"/>
                    </a:lnTo>
                    <a:lnTo>
                      <a:pt x="7746" y="1578"/>
                    </a:lnTo>
                    <a:lnTo>
                      <a:pt x="7744" y="1521"/>
                    </a:lnTo>
                    <a:lnTo>
                      <a:pt x="7740" y="1465"/>
                    </a:lnTo>
                    <a:lnTo>
                      <a:pt x="7735" y="1408"/>
                    </a:lnTo>
                    <a:lnTo>
                      <a:pt x="7730" y="1352"/>
                    </a:lnTo>
                    <a:lnTo>
                      <a:pt x="7724" y="1296"/>
                    </a:lnTo>
                    <a:lnTo>
                      <a:pt x="7717" y="1240"/>
                    </a:lnTo>
                    <a:lnTo>
                      <a:pt x="7709" y="1185"/>
                    </a:lnTo>
                    <a:lnTo>
                      <a:pt x="7701" y="1130"/>
                    </a:lnTo>
                    <a:lnTo>
                      <a:pt x="7691" y="1075"/>
                    </a:lnTo>
                    <a:lnTo>
                      <a:pt x="7681" y="1020"/>
                    </a:lnTo>
                    <a:lnTo>
                      <a:pt x="7671" y="966"/>
                    </a:lnTo>
                    <a:lnTo>
                      <a:pt x="7660" y="912"/>
                    </a:lnTo>
                    <a:lnTo>
                      <a:pt x="7647" y="858"/>
                    </a:lnTo>
                    <a:lnTo>
                      <a:pt x="7634" y="805"/>
                    </a:lnTo>
                    <a:lnTo>
                      <a:pt x="7620" y="751"/>
                    </a:lnTo>
                    <a:lnTo>
                      <a:pt x="7606" y="698"/>
                    </a:lnTo>
                    <a:lnTo>
                      <a:pt x="7591" y="646"/>
                    </a:lnTo>
                    <a:lnTo>
                      <a:pt x="7574" y="593"/>
                    </a:lnTo>
                    <a:lnTo>
                      <a:pt x="7558" y="541"/>
                    </a:lnTo>
                    <a:lnTo>
                      <a:pt x="7541" y="489"/>
                    </a:lnTo>
                    <a:lnTo>
                      <a:pt x="7523" y="439"/>
                    </a:lnTo>
                    <a:lnTo>
                      <a:pt x="7503" y="387"/>
                    </a:lnTo>
                    <a:lnTo>
                      <a:pt x="7484" y="336"/>
                    </a:lnTo>
                    <a:lnTo>
                      <a:pt x="7464" y="286"/>
                    </a:lnTo>
                    <a:lnTo>
                      <a:pt x="7443" y="236"/>
                    </a:lnTo>
                    <a:lnTo>
                      <a:pt x="7421" y="186"/>
                    </a:lnTo>
                    <a:lnTo>
                      <a:pt x="7399" y="137"/>
                    </a:lnTo>
                    <a:lnTo>
                      <a:pt x="7377" y="89"/>
                    </a:lnTo>
                    <a:lnTo>
                      <a:pt x="7353" y="40"/>
                    </a:lnTo>
                    <a:lnTo>
                      <a:pt x="7344" y="35"/>
                    </a:lnTo>
                    <a:lnTo>
                      <a:pt x="7337" y="29"/>
                    </a:lnTo>
                    <a:lnTo>
                      <a:pt x="7328" y="25"/>
                    </a:lnTo>
                    <a:lnTo>
                      <a:pt x="7320" y="20"/>
                    </a:lnTo>
                    <a:lnTo>
                      <a:pt x="7312" y="15"/>
                    </a:lnTo>
                    <a:lnTo>
                      <a:pt x="7303" y="10"/>
                    </a:lnTo>
                    <a:lnTo>
                      <a:pt x="7295" y="5"/>
                    </a:lnTo>
                    <a:lnTo>
                      <a:pt x="7287" y="0"/>
                    </a:lnTo>
                    <a:lnTo>
                      <a:pt x="7312" y="50"/>
                    </a:lnTo>
                    <a:lnTo>
                      <a:pt x="7336" y="99"/>
                    </a:lnTo>
                    <a:lnTo>
                      <a:pt x="7359" y="149"/>
                    </a:lnTo>
                    <a:lnTo>
                      <a:pt x="7382" y="200"/>
                    </a:lnTo>
                    <a:lnTo>
                      <a:pt x="7405" y="251"/>
                    </a:lnTo>
                    <a:lnTo>
                      <a:pt x="7425" y="302"/>
                    </a:lnTo>
                    <a:lnTo>
                      <a:pt x="7447" y="354"/>
                    </a:lnTo>
                    <a:lnTo>
                      <a:pt x="7466" y="406"/>
                    </a:lnTo>
                    <a:lnTo>
                      <a:pt x="7486" y="458"/>
                    </a:lnTo>
                    <a:lnTo>
                      <a:pt x="7504" y="511"/>
                    </a:lnTo>
                    <a:lnTo>
                      <a:pt x="7521" y="565"/>
                    </a:lnTo>
                    <a:lnTo>
                      <a:pt x="7539" y="618"/>
                    </a:lnTo>
                    <a:lnTo>
                      <a:pt x="7555" y="672"/>
                    </a:lnTo>
                    <a:lnTo>
                      <a:pt x="7570" y="726"/>
                    </a:lnTo>
                    <a:lnTo>
                      <a:pt x="7585" y="780"/>
                    </a:lnTo>
                    <a:lnTo>
                      <a:pt x="7599" y="835"/>
                    </a:lnTo>
                    <a:lnTo>
                      <a:pt x="7612" y="890"/>
                    </a:lnTo>
                    <a:lnTo>
                      <a:pt x="7624" y="945"/>
                    </a:lnTo>
                    <a:lnTo>
                      <a:pt x="7636" y="1001"/>
                    </a:lnTo>
                    <a:lnTo>
                      <a:pt x="7646" y="1057"/>
                    </a:lnTo>
                    <a:lnTo>
                      <a:pt x="7657" y="1114"/>
                    </a:lnTo>
                    <a:lnTo>
                      <a:pt x="7665" y="1170"/>
                    </a:lnTo>
                    <a:lnTo>
                      <a:pt x="7674" y="1227"/>
                    </a:lnTo>
                    <a:lnTo>
                      <a:pt x="7680" y="1284"/>
                    </a:lnTo>
                    <a:lnTo>
                      <a:pt x="7687" y="1341"/>
                    </a:lnTo>
                    <a:lnTo>
                      <a:pt x="7693" y="1399"/>
                    </a:lnTo>
                    <a:lnTo>
                      <a:pt x="7698" y="1457"/>
                    </a:lnTo>
                    <a:lnTo>
                      <a:pt x="7702" y="1515"/>
                    </a:lnTo>
                    <a:lnTo>
                      <a:pt x="7705" y="1574"/>
                    </a:lnTo>
                    <a:lnTo>
                      <a:pt x="7707" y="1632"/>
                    </a:lnTo>
                    <a:lnTo>
                      <a:pt x="7708" y="1690"/>
                    </a:lnTo>
                    <a:lnTo>
                      <a:pt x="7708" y="1750"/>
                    </a:lnTo>
                    <a:lnTo>
                      <a:pt x="7708" y="1813"/>
                    </a:lnTo>
                    <a:lnTo>
                      <a:pt x="7706" y="1878"/>
                    </a:lnTo>
                    <a:lnTo>
                      <a:pt x="7704" y="1942"/>
                    </a:lnTo>
                    <a:lnTo>
                      <a:pt x="7700" y="2006"/>
                    </a:lnTo>
                    <a:lnTo>
                      <a:pt x="7695" y="2069"/>
                    </a:lnTo>
                    <a:lnTo>
                      <a:pt x="7690" y="2132"/>
                    </a:lnTo>
                    <a:lnTo>
                      <a:pt x="7682" y="2195"/>
                    </a:lnTo>
                    <a:lnTo>
                      <a:pt x="7675" y="2257"/>
                    </a:lnTo>
                    <a:lnTo>
                      <a:pt x="7666" y="2320"/>
                    </a:lnTo>
                    <a:lnTo>
                      <a:pt x="7657" y="2381"/>
                    </a:lnTo>
                    <a:lnTo>
                      <a:pt x="7646" y="2443"/>
                    </a:lnTo>
                    <a:lnTo>
                      <a:pt x="7634" y="2505"/>
                    </a:lnTo>
                    <a:lnTo>
                      <a:pt x="7621" y="2565"/>
                    </a:lnTo>
                    <a:lnTo>
                      <a:pt x="7608" y="2626"/>
                    </a:lnTo>
                    <a:lnTo>
                      <a:pt x="7593" y="2686"/>
                    </a:lnTo>
                    <a:lnTo>
                      <a:pt x="7578" y="2745"/>
                    </a:lnTo>
                    <a:lnTo>
                      <a:pt x="7618" y="2756"/>
                    </a:lnTo>
                    <a:lnTo>
                      <a:pt x="7634" y="2696"/>
                    </a:lnTo>
                    <a:lnTo>
                      <a:pt x="7648" y="2635"/>
                    </a:lnTo>
                    <a:lnTo>
                      <a:pt x="7662" y="2574"/>
                    </a:lnTo>
                    <a:lnTo>
                      <a:pt x="7675" y="2512"/>
                    </a:lnTo>
                    <a:lnTo>
                      <a:pt x="7687" y="2451"/>
                    </a:lnTo>
                    <a:lnTo>
                      <a:pt x="7698" y="2388"/>
                    </a:lnTo>
                    <a:lnTo>
                      <a:pt x="7707" y="2326"/>
                    </a:lnTo>
                    <a:lnTo>
                      <a:pt x="7716" y="2263"/>
                    </a:lnTo>
                    <a:lnTo>
                      <a:pt x="7725" y="2200"/>
                    </a:lnTo>
                    <a:lnTo>
                      <a:pt x="7731" y="2136"/>
                    </a:lnTo>
                    <a:lnTo>
                      <a:pt x="7736" y="2073"/>
                    </a:lnTo>
                    <a:lnTo>
                      <a:pt x="7742" y="2009"/>
                    </a:lnTo>
                    <a:lnTo>
                      <a:pt x="7745" y="1944"/>
                    </a:lnTo>
                    <a:lnTo>
                      <a:pt x="7748" y="1879"/>
                    </a:lnTo>
                    <a:lnTo>
                      <a:pt x="7749" y="1814"/>
                    </a:lnTo>
                    <a:lnTo>
                      <a:pt x="7751" y="1750"/>
                    </a:lnTo>
                    <a:close/>
                    <a:moveTo>
                      <a:pt x="397" y="40"/>
                    </a:moveTo>
                    <a:lnTo>
                      <a:pt x="374" y="89"/>
                    </a:lnTo>
                    <a:lnTo>
                      <a:pt x="351" y="137"/>
                    </a:lnTo>
                    <a:lnTo>
                      <a:pt x="328" y="186"/>
                    </a:lnTo>
                    <a:lnTo>
                      <a:pt x="308" y="236"/>
                    </a:lnTo>
                    <a:lnTo>
                      <a:pt x="286" y="286"/>
                    </a:lnTo>
                    <a:lnTo>
                      <a:pt x="267" y="336"/>
                    </a:lnTo>
                    <a:lnTo>
                      <a:pt x="247" y="387"/>
                    </a:lnTo>
                    <a:lnTo>
                      <a:pt x="228" y="439"/>
                    </a:lnTo>
                    <a:lnTo>
                      <a:pt x="209" y="489"/>
                    </a:lnTo>
                    <a:lnTo>
                      <a:pt x="192" y="541"/>
                    </a:lnTo>
                    <a:lnTo>
                      <a:pt x="176" y="593"/>
                    </a:lnTo>
                    <a:lnTo>
                      <a:pt x="160" y="646"/>
                    </a:lnTo>
                    <a:lnTo>
                      <a:pt x="145" y="698"/>
                    </a:lnTo>
                    <a:lnTo>
                      <a:pt x="131" y="751"/>
                    </a:lnTo>
                    <a:lnTo>
                      <a:pt x="117" y="805"/>
                    </a:lnTo>
                    <a:lnTo>
                      <a:pt x="104" y="858"/>
                    </a:lnTo>
                    <a:lnTo>
                      <a:pt x="91" y="912"/>
                    </a:lnTo>
                    <a:lnTo>
                      <a:pt x="80" y="966"/>
                    </a:lnTo>
                    <a:lnTo>
                      <a:pt x="69" y="1020"/>
                    </a:lnTo>
                    <a:lnTo>
                      <a:pt x="58" y="1075"/>
                    </a:lnTo>
                    <a:lnTo>
                      <a:pt x="50" y="1130"/>
                    </a:lnTo>
                    <a:lnTo>
                      <a:pt x="41" y="1185"/>
                    </a:lnTo>
                    <a:lnTo>
                      <a:pt x="33" y="1240"/>
                    </a:lnTo>
                    <a:lnTo>
                      <a:pt x="27" y="1296"/>
                    </a:lnTo>
                    <a:lnTo>
                      <a:pt x="20" y="1352"/>
                    </a:lnTo>
                    <a:lnTo>
                      <a:pt x="15" y="1408"/>
                    </a:lnTo>
                    <a:lnTo>
                      <a:pt x="11" y="1465"/>
                    </a:lnTo>
                    <a:lnTo>
                      <a:pt x="6" y="1521"/>
                    </a:lnTo>
                    <a:lnTo>
                      <a:pt x="4" y="1578"/>
                    </a:lnTo>
                    <a:lnTo>
                      <a:pt x="2" y="1635"/>
                    </a:lnTo>
                    <a:lnTo>
                      <a:pt x="1" y="1692"/>
                    </a:lnTo>
                    <a:lnTo>
                      <a:pt x="0" y="1750"/>
                    </a:lnTo>
                    <a:lnTo>
                      <a:pt x="1" y="1807"/>
                    </a:lnTo>
                    <a:lnTo>
                      <a:pt x="2" y="1864"/>
                    </a:lnTo>
                    <a:lnTo>
                      <a:pt x="4" y="1921"/>
                    </a:lnTo>
                    <a:lnTo>
                      <a:pt x="6" y="1978"/>
                    </a:lnTo>
                    <a:lnTo>
                      <a:pt x="11" y="2035"/>
                    </a:lnTo>
                    <a:lnTo>
                      <a:pt x="15" y="2091"/>
                    </a:lnTo>
                    <a:lnTo>
                      <a:pt x="20" y="2147"/>
                    </a:lnTo>
                    <a:lnTo>
                      <a:pt x="27" y="2203"/>
                    </a:lnTo>
                    <a:lnTo>
                      <a:pt x="33" y="2258"/>
                    </a:lnTo>
                    <a:lnTo>
                      <a:pt x="41" y="2315"/>
                    </a:lnTo>
                    <a:lnTo>
                      <a:pt x="50" y="2370"/>
                    </a:lnTo>
                    <a:lnTo>
                      <a:pt x="58" y="2425"/>
                    </a:lnTo>
                    <a:lnTo>
                      <a:pt x="69" y="2479"/>
                    </a:lnTo>
                    <a:lnTo>
                      <a:pt x="80" y="2533"/>
                    </a:lnTo>
                    <a:lnTo>
                      <a:pt x="91" y="2588"/>
                    </a:lnTo>
                    <a:lnTo>
                      <a:pt x="104" y="2641"/>
                    </a:lnTo>
                    <a:lnTo>
                      <a:pt x="117" y="2695"/>
                    </a:lnTo>
                    <a:lnTo>
                      <a:pt x="131" y="2748"/>
                    </a:lnTo>
                    <a:lnTo>
                      <a:pt x="145" y="2801"/>
                    </a:lnTo>
                    <a:lnTo>
                      <a:pt x="160" y="2853"/>
                    </a:lnTo>
                    <a:lnTo>
                      <a:pt x="176" y="2905"/>
                    </a:lnTo>
                    <a:lnTo>
                      <a:pt x="192" y="2958"/>
                    </a:lnTo>
                    <a:lnTo>
                      <a:pt x="209" y="3009"/>
                    </a:lnTo>
                    <a:lnTo>
                      <a:pt x="228" y="3061"/>
                    </a:lnTo>
                    <a:lnTo>
                      <a:pt x="247" y="3112"/>
                    </a:lnTo>
                    <a:lnTo>
                      <a:pt x="267" y="3162"/>
                    </a:lnTo>
                    <a:lnTo>
                      <a:pt x="286" y="3213"/>
                    </a:lnTo>
                    <a:lnTo>
                      <a:pt x="308" y="3263"/>
                    </a:lnTo>
                    <a:lnTo>
                      <a:pt x="328" y="3312"/>
                    </a:lnTo>
                    <a:lnTo>
                      <a:pt x="351" y="3362"/>
                    </a:lnTo>
                    <a:lnTo>
                      <a:pt x="374" y="3411"/>
                    </a:lnTo>
                    <a:lnTo>
                      <a:pt x="397" y="3459"/>
                    </a:lnTo>
                    <a:lnTo>
                      <a:pt x="406" y="3464"/>
                    </a:lnTo>
                    <a:lnTo>
                      <a:pt x="414" y="3469"/>
                    </a:lnTo>
                    <a:lnTo>
                      <a:pt x="422" y="3474"/>
                    </a:lnTo>
                    <a:lnTo>
                      <a:pt x="430" y="3479"/>
                    </a:lnTo>
                    <a:lnTo>
                      <a:pt x="439" y="3484"/>
                    </a:lnTo>
                    <a:lnTo>
                      <a:pt x="447" y="3488"/>
                    </a:lnTo>
                    <a:lnTo>
                      <a:pt x="456" y="3494"/>
                    </a:lnTo>
                    <a:lnTo>
                      <a:pt x="463" y="3498"/>
                    </a:lnTo>
                    <a:lnTo>
                      <a:pt x="439" y="3450"/>
                    </a:lnTo>
                    <a:lnTo>
                      <a:pt x="415" y="3400"/>
                    </a:lnTo>
                    <a:lnTo>
                      <a:pt x="391" y="3349"/>
                    </a:lnTo>
                    <a:lnTo>
                      <a:pt x="368" y="3298"/>
                    </a:lnTo>
                    <a:lnTo>
                      <a:pt x="346" y="3248"/>
                    </a:lnTo>
                    <a:lnTo>
                      <a:pt x="325" y="3197"/>
                    </a:lnTo>
                    <a:lnTo>
                      <a:pt x="303" y="3145"/>
                    </a:lnTo>
                    <a:lnTo>
                      <a:pt x="284" y="3093"/>
                    </a:lnTo>
                    <a:lnTo>
                      <a:pt x="265" y="3040"/>
                    </a:lnTo>
                    <a:lnTo>
                      <a:pt x="246" y="2987"/>
                    </a:lnTo>
                    <a:lnTo>
                      <a:pt x="229" y="2934"/>
                    </a:lnTo>
                    <a:lnTo>
                      <a:pt x="212" y="2880"/>
                    </a:lnTo>
                    <a:lnTo>
                      <a:pt x="195" y="2828"/>
                    </a:lnTo>
                    <a:lnTo>
                      <a:pt x="180" y="2774"/>
                    </a:lnTo>
                    <a:lnTo>
                      <a:pt x="165" y="2718"/>
                    </a:lnTo>
                    <a:lnTo>
                      <a:pt x="151" y="2663"/>
                    </a:lnTo>
                    <a:lnTo>
                      <a:pt x="138" y="2608"/>
                    </a:lnTo>
                    <a:lnTo>
                      <a:pt x="126" y="2553"/>
                    </a:lnTo>
                    <a:lnTo>
                      <a:pt x="114" y="2497"/>
                    </a:lnTo>
                    <a:lnTo>
                      <a:pt x="104" y="2442"/>
                    </a:lnTo>
                    <a:lnTo>
                      <a:pt x="94" y="2386"/>
                    </a:lnTo>
                    <a:lnTo>
                      <a:pt x="85" y="2329"/>
                    </a:lnTo>
                    <a:lnTo>
                      <a:pt x="77" y="2272"/>
                    </a:lnTo>
                    <a:lnTo>
                      <a:pt x="70" y="2215"/>
                    </a:lnTo>
                    <a:lnTo>
                      <a:pt x="64" y="2158"/>
                    </a:lnTo>
                    <a:lnTo>
                      <a:pt x="57" y="2100"/>
                    </a:lnTo>
                    <a:lnTo>
                      <a:pt x="53" y="2042"/>
                    </a:lnTo>
                    <a:lnTo>
                      <a:pt x="48" y="1984"/>
                    </a:lnTo>
                    <a:lnTo>
                      <a:pt x="45" y="1926"/>
                    </a:lnTo>
                    <a:lnTo>
                      <a:pt x="43" y="1867"/>
                    </a:lnTo>
                    <a:lnTo>
                      <a:pt x="42" y="1808"/>
                    </a:lnTo>
                    <a:lnTo>
                      <a:pt x="42" y="1750"/>
                    </a:lnTo>
                    <a:lnTo>
                      <a:pt x="42" y="1690"/>
                    </a:lnTo>
                    <a:lnTo>
                      <a:pt x="43" y="1632"/>
                    </a:lnTo>
                    <a:lnTo>
                      <a:pt x="45" y="1574"/>
                    </a:lnTo>
                    <a:lnTo>
                      <a:pt x="48" y="1515"/>
                    </a:lnTo>
                    <a:lnTo>
                      <a:pt x="53" y="1457"/>
                    </a:lnTo>
                    <a:lnTo>
                      <a:pt x="57" y="1399"/>
                    </a:lnTo>
                    <a:lnTo>
                      <a:pt x="64" y="1341"/>
                    </a:lnTo>
                    <a:lnTo>
                      <a:pt x="70" y="1284"/>
                    </a:lnTo>
                    <a:lnTo>
                      <a:pt x="77" y="1227"/>
                    </a:lnTo>
                    <a:lnTo>
                      <a:pt x="85" y="1170"/>
                    </a:lnTo>
                    <a:lnTo>
                      <a:pt x="94" y="1114"/>
                    </a:lnTo>
                    <a:lnTo>
                      <a:pt x="104" y="1057"/>
                    </a:lnTo>
                    <a:lnTo>
                      <a:pt x="114" y="1001"/>
                    </a:lnTo>
                    <a:lnTo>
                      <a:pt x="126" y="945"/>
                    </a:lnTo>
                    <a:lnTo>
                      <a:pt x="138" y="890"/>
                    </a:lnTo>
                    <a:lnTo>
                      <a:pt x="151" y="835"/>
                    </a:lnTo>
                    <a:lnTo>
                      <a:pt x="165" y="780"/>
                    </a:lnTo>
                    <a:lnTo>
                      <a:pt x="180" y="726"/>
                    </a:lnTo>
                    <a:lnTo>
                      <a:pt x="195" y="672"/>
                    </a:lnTo>
                    <a:lnTo>
                      <a:pt x="212" y="618"/>
                    </a:lnTo>
                    <a:lnTo>
                      <a:pt x="229" y="565"/>
                    </a:lnTo>
                    <a:lnTo>
                      <a:pt x="246" y="511"/>
                    </a:lnTo>
                    <a:lnTo>
                      <a:pt x="265" y="458"/>
                    </a:lnTo>
                    <a:lnTo>
                      <a:pt x="284" y="406"/>
                    </a:lnTo>
                    <a:lnTo>
                      <a:pt x="303" y="354"/>
                    </a:lnTo>
                    <a:lnTo>
                      <a:pt x="325" y="302"/>
                    </a:lnTo>
                    <a:lnTo>
                      <a:pt x="346" y="251"/>
                    </a:lnTo>
                    <a:lnTo>
                      <a:pt x="368" y="200"/>
                    </a:lnTo>
                    <a:lnTo>
                      <a:pt x="391" y="149"/>
                    </a:lnTo>
                    <a:lnTo>
                      <a:pt x="415" y="99"/>
                    </a:lnTo>
                    <a:lnTo>
                      <a:pt x="439" y="50"/>
                    </a:lnTo>
                    <a:lnTo>
                      <a:pt x="463" y="0"/>
                    </a:lnTo>
                    <a:lnTo>
                      <a:pt x="456" y="5"/>
                    </a:lnTo>
                    <a:lnTo>
                      <a:pt x="447" y="10"/>
                    </a:lnTo>
                    <a:lnTo>
                      <a:pt x="439" y="15"/>
                    </a:lnTo>
                    <a:lnTo>
                      <a:pt x="430" y="20"/>
                    </a:lnTo>
                    <a:lnTo>
                      <a:pt x="422" y="25"/>
                    </a:lnTo>
                    <a:lnTo>
                      <a:pt x="414" y="29"/>
                    </a:lnTo>
                    <a:lnTo>
                      <a:pt x="406" y="35"/>
                    </a:lnTo>
                    <a:lnTo>
                      <a:pt x="397" y="40"/>
                    </a:lnTo>
                    <a:close/>
                  </a:path>
                </a:pathLst>
              </a:custGeom>
              <a:solidFill>
                <a:srgbClr val="ccb2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044880" y="2295360"/>
                <a:ext cx="3058920" cy="1403640"/>
              </a:xfrm>
              <a:custGeom>
                <a:avLst/>
                <a:gdLst/>
                <a:ahLst/>
                <a:rect l="l" t="t" r="r" b="b"/>
                <a:pathLst>
                  <a:path w="7710" h="3538">
                    <a:moveTo>
                      <a:pt x="7710" y="1769"/>
                    </a:moveTo>
                    <a:lnTo>
                      <a:pt x="7709" y="1710"/>
                    </a:lnTo>
                    <a:lnTo>
                      <a:pt x="7708" y="1652"/>
                    </a:lnTo>
                    <a:lnTo>
                      <a:pt x="7706" y="1595"/>
                    </a:lnTo>
                    <a:lnTo>
                      <a:pt x="7702" y="1536"/>
                    </a:lnTo>
                    <a:lnTo>
                      <a:pt x="7699" y="1479"/>
                    </a:lnTo>
                    <a:lnTo>
                      <a:pt x="7694" y="1422"/>
                    </a:lnTo>
                    <a:lnTo>
                      <a:pt x="7688" y="1366"/>
                    </a:lnTo>
                    <a:lnTo>
                      <a:pt x="7682" y="1309"/>
                    </a:lnTo>
                    <a:lnTo>
                      <a:pt x="7675" y="1252"/>
                    </a:lnTo>
                    <a:lnTo>
                      <a:pt x="7667" y="1196"/>
                    </a:lnTo>
                    <a:lnTo>
                      <a:pt x="7658" y="1140"/>
                    </a:lnTo>
                    <a:lnTo>
                      <a:pt x="7648" y="1085"/>
                    </a:lnTo>
                    <a:lnTo>
                      <a:pt x="7639" y="1030"/>
                    </a:lnTo>
                    <a:lnTo>
                      <a:pt x="7628" y="975"/>
                    </a:lnTo>
                    <a:lnTo>
                      <a:pt x="7616" y="920"/>
                    </a:lnTo>
                    <a:lnTo>
                      <a:pt x="7603" y="866"/>
                    </a:lnTo>
                    <a:lnTo>
                      <a:pt x="7589" y="811"/>
                    </a:lnTo>
                    <a:lnTo>
                      <a:pt x="7575" y="757"/>
                    </a:lnTo>
                    <a:lnTo>
                      <a:pt x="7560" y="704"/>
                    </a:lnTo>
                    <a:lnTo>
                      <a:pt x="7545" y="651"/>
                    </a:lnTo>
                    <a:lnTo>
                      <a:pt x="7528" y="598"/>
                    </a:lnTo>
                    <a:lnTo>
                      <a:pt x="7511" y="545"/>
                    </a:lnTo>
                    <a:lnTo>
                      <a:pt x="7493" y="493"/>
                    </a:lnTo>
                    <a:lnTo>
                      <a:pt x="7474" y="441"/>
                    </a:lnTo>
                    <a:lnTo>
                      <a:pt x="7455" y="390"/>
                    </a:lnTo>
                    <a:lnTo>
                      <a:pt x="7434" y="338"/>
                    </a:lnTo>
                    <a:lnTo>
                      <a:pt x="7414" y="287"/>
                    </a:lnTo>
                    <a:lnTo>
                      <a:pt x="7392" y="237"/>
                    </a:lnTo>
                    <a:lnTo>
                      <a:pt x="7371" y="186"/>
                    </a:lnTo>
                    <a:lnTo>
                      <a:pt x="7347" y="137"/>
                    </a:lnTo>
                    <a:lnTo>
                      <a:pt x="7324" y="87"/>
                    </a:lnTo>
                    <a:lnTo>
                      <a:pt x="7299" y="39"/>
                    </a:lnTo>
                    <a:lnTo>
                      <a:pt x="7292" y="33"/>
                    </a:lnTo>
                    <a:lnTo>
                      <a:pt x="7283" y="29"/>
                    </a:lnTo>
                    <a:lnTo>
                      <a:pt x="7275" y="23"/>
                    </a:lnTo>
                    <a:lnTo>
                      <a:pt x="7266" y="19"/>
                    </a:lnTo>
                    <a:lnTo>
                      <a:pt x="7258" y="14"/>
                    </a:lnTo>
                    <a:lnTo>
                      <a:pt x="7250" y="9"/>
                    </a:lnTo>
                    <a:lnTo>
                      <a:pt x="7241" y="4"/>
                    </a:lnTo>
                    <a:lnTo>
                      <a:pt x="7232" y="0"/>
                    </a:lnTo>
                    <a:lnTo>
                      <a:pt x="7258" y="49"/>
                    </a:lnTo>
                    <a:lnTo>
                      <a:pt x="7283" y="99"/>
                    </a:lnTo>
                    <a:lnTo>
                      <a:pt x="7307" y="150"/>
                    </a:lnTo>
                    <a:lnTo>
                      <a:pt x="7331" y="201"/>
                    </a:lnTo>
                    <a:lnTo>
                      <a:pt x="7353" y="252"/>
                    </a:lnTo>
                    <a:lnTo>
                      <a:pt x="7376" y="304"/>
                    </a:lnTo>
                    <a:lnTo>
                      <a:pt x="7398" y="356"/>
                    </a:lnTo>
                    <a:lnTo>
                      <a:pt x="7418" y="409"/>
                    </a:lnTo>
                    <a:lnTo>
                      <a:pt x="7438" y="462"/>
                    </a:lnTo>
                    <a:lnTo>
                      <a:pt x="7456" y="515"/>
                    </a:lnTo>
                    <a:lnTo>
                      <a:pt x="7474" y="569"/>
                    </a:lnTo>
                    <a:lnTo>
                      <a:pt x="7493" y="623"/>
                    </a:lnTo>
                    <a:lnTo>
                      <a:pt x="7509" y="678"/>
                    </a:lnTo>
                    <a:lnTo>
                      <a:pt x="7525" y="732"/>
                    </a:lnTo>
                    <a:lnTo>
                      <a:pt x="7540" y="787"/>
                    </a:lnTo>
                    <a:lnTo>
                      <a:pt x="7554" y="843"/>
                    </a:lnTo>
                    <a:lnTo>
                      <a:pt x="7567" y="898"/>
                    </a:lnTo>
                    <a:lnTo>
                      <a:pt x="7580" y="954"/>
                    </a:lnTo>
                    <a:lnTo>
                      <a:pt x="7592" y="1011"/>
                    </a:lnTo>
                    <a:lnTo>
                      <a:pt x="7603" y="1068"/>
                    </a:lnTo>
                    <a:lnTo>
                      <a:pt x="7614" y="1124"/>
                    </a:lnTo>
                    <a:lnTo>
                      <a:pt x="7622" y="1181"/>
                    </a:lnTo>
                    <a:lnTo>
                      <a:pt x="7631" y="1239"/>
                    </a:lnTo>
                    <a:lnTo>
                      <a:pt x="7639" y="1297"/>
                    </a:lnTo>
                    <a:lnTo>
                      <a:pt x="7645" y="1355"/>
                    </a:lnTo>
                    <a:lnTo>
                      <a:pt x="7652" y="1413"/>
                    </a:lnTo>
                    <a:lnTo>
                      <a:pt x="7656" y="1472"/>
                    </a:lnTo>
                    <a:lnTo>
                      <a:pt x="7660" y="1531"/>
                    </a:lnTo>
                    <a:lnTo>
                      <a:pt x="7664" y="1589"/>
                    </a:lnTo>
                    <a:lnTo>
                      <a:pt x="7666" y="1649"/>
                    </a:lnTo>
                    <a:lnTo>
                      <a:pt x="7668" y="1708"/>
                    </a:lnTo>
                    <a:lnTo>
                      <a:pt x="7668" y="1769"/>
                    </a:lnTo>
                    <a:lnTo>
                      <a:pt x="7667" y="1832"/>
                    </a:lnTo>
                    <a:lnTo>
                      <a:pt x="7666" y="1896"/>
                    </a:lnTo>
                    <a:lnTo>
                      <a:pt x="7664" y="1960"/>
                    </a:lnTo>
                    <a:lnTo>
                      <a:pt x="7659" y="2024"/>
                    </a:lnTo>
                    <a:lnTo>
                      <a:pt x="7655" y="2086"/>
                    </a:lnTo>
                    <a:lnTo>
                      <a:pt x="7648" y="2149"/>
                    </a:lnTo>
                    <a:lnTo>
                      <a:pt x="7642" y="2211"/>
                    </a:lnTo>
                    <a:lnTo>
                      <a:pt x="7634" y="2274"/>
                    </a:lnTo>
                    <a:lnTo>
                      <a:pt x="7626" y="2336"/>
                    </a:lnTo>
                    <a:lnTo>
                      <a:pt x="7616" y="2397"/>
                    </a:lnTo>
                    <a:lnTo>
                      <a:pt x="7605" y="2459"/>
                    </a:lnTo>
                    <a:lnTo>
                      <a:pt x="7593" y="2519"/>
                    </a:lnTo>
                    <a:lnTo>
                      <a:pt x="7581" y="2580"/>
                    </a:lnTo>
                    <a:lnTo>
                      <a:pt x="7567" y="2640"/>
                    </a:lnTo>
                    <a:lnTo>
                      <a:pt x="7553" y="2700"/>
                    </a:lnTo>
                    <a:lnTo>
                      <a:pt x="7537" y="2759"/>
                    </a:lnTo>
                    <a:lnTo>
                      <a:pt x="7578" y="2770"/>
                    </a:lnTo>
                    <a:lnTo>
                      <a:pt x="7593" y="2709"/>
                    </a:lnTo>
                    <a:lnTo>
                      <a:pt x="7608" y="2649"/>
                    </a:lnTo>
                    <a:lnTo>
                      <a:pt x="7621" y="2588"/>
                    </a:lnTo>
                    <a:lnTo>
                      <a:pt x="7634" y="2528"/>
                    </a:lnTo>
                    <a:lnTo>
                      <a:pt x="7646" y="2466"/>
                    </a:lnTo>
                    <a:lnTo>
                      <a:pt x="7657" y="2404"/>
                    </a:lnTo>
                    <a:lnTo>
                      <a:pt x="7667" y="2342"/>
                    </a:lnTo>
                    <a:lnTo>
                      <a:pt x="7675" y="2280"/>
                    </a:lnTo>
                    <a:lnTo>
                      <a:pt x="7684" y="2217"/>
                    </a:lnTo>
                    <a:lnTo>
                      <a:pt x="7691" y="2153"/>
                    </a:lnTo>
                    <a:lnTo>
                      <a:pt x="7696" y="2089"/>
                    </a:lnTo>
                    <a:lnTo>
                      <a:pt x="7701" y="2026"/>
                    </a:lnTo>
                    <a:lnTo>
                      <a:pt x="7705" y="1962"/>
                    </a:lnTo>
                    <a:lnTo>
                      <a:pt x="7708" y="1898"/>
                    </a:lnTo>
                    <a:lnTo>
                      <a:pt x="7709" y="1833"/>
                    </a:lnTo>
                    <a:lnTo>
                      <a:pt x="7710" y="1769"/>
                    </a:lnTo>
                    <a:close/>
                    <a:moveTo>
                      <a:pt x="411" y="39"/>
                    </a:moveTo>
                    <a:lnTo>
                      <a:pt x="386" y="87"/>
                    </a:lnTo>
                    <a:lnTo>
                      <a:pt x="362" y="137"/>
                    </a:lnTo>
                    <a:lnTo>
                      <a:pt x="340" y="186"/>
                    </a:lnTo>
                    <a:lnTo>
                      <a:pt x="318" y="237"/>
                    </a:lnTo>
                    <a:lnTo>
                      <a:pt x="296" y="287"/>
                    </a:lnTo>
                    <a:lnTo>
                      <a:pt x="276" y="338"/>
                    </a:lnTo>
                    <a:lnTo>
                      <a:pt x="255" y="390"/>
                    </a:lnTo>
                    <a:lnTo>
                      <a:pt x="236" y="441"/>
                    </a:lnTo>
                    <a:lnTo>
                      <a:pt x="218" y="493"/>
                    </a:lnTo>
                    <a:lnTo>
                      <a:pt x="199" y="545"/>
                    </a:lnTo>
                    <a:lnTo>
                      <a:pt x="182" y="598"/>
                    </a:lnTo>
                    <a:lnTo>
                      <a:pt x="166" y="651"/>
                    </a:lnTo>
                    <a:lnTo>
                      <a:pt x="151" y="704"/>
                    </a:lnTo>
                    <a:lnTo>
                      <a:pt x="135" y="757"/>
                    </a:lnTo>
                    <a:lnTo>
                      <a:pt x="121" y="811"/>
                    </a:lnTo>
                    <a:lnTo>
                      <a:pt x="107" y="866"/>
                    </a:lnTo>
                    <a:lnTo>
                      <a:pt x="94" y="920"/>
                    </a:lnTo>
                    <a:lnTo>
                      <a:pt x="82" y="975"/>
                    </a:lnTo>
                    <a:lnTo>
                      <a:pt x="72" y="1030"/>
                    </a:lnTo>
                    <a:lnTo>
                      <a:pt x="61" y="1085"/>
                    </a:lnTo>
                    <a:lnTo>
                      <a:pt x="52" y="1140"/>
                    </a:lnTo>
                    <a:lnTo>
                      <a:pt x="44" y="1196"/>
                    </a:lnTo>
                    <a:lnTo>
                      <a:pt x="35" y="1252"/>
                    </a:lnTo>
                    <a:lnTo>
                      <a:pt x="28" y="1309"/>
                    </a:lnTo>
                    <a:lnTo>
                      <a:pt x="22" y="1366"/>
                    </a:lnTo>
                    <a:lnTo>
                      <a:pt x="17" y="1422"/>
                    </a:lnTo>
                    <a:lnTo>
                      <a:pt x="11" y="1479"/>
                    </a:lnTo>
                    <a:lnTo>
                      <a:pt x="8" y="1536"/>
                    </a:lnTo>
                    <a:lnTo>
                      <a:pt x="5" y="1595"/>
                    </a:lnTo>
                    <a:lnTo>
                      <a:pt x="3" y="1652"/>
                    </a:lnTo>
                    <a:lnTo>
                      <a:pt x="1" y="1710"/>
                    </a:lnTo>
                    <a:lnTo>
                      <a:pt x="0" y="1769"/>
                    </a:lnTo>
                    <a:lnTo>
                      <a:pt x="1" y="1827"/>
                    </a:lnTo>
                    <a:lnTo>
                      <a:pt x="3" y="1884"/>
                    </a:lnTo>
                    <a:lnTo>
                      <a:pt x="5" y="1943"/>
                    </a:lnTo>
                    <a:lnTo>
                      <a:pt x="8" y="2000"/>
                    </a:lnTo>
                    <a:lnTo>
                      <a:pt x="11" y="2057"/>
                    </a:lnTo>
                    <a:lnTo>
                      <a:pt x="17" y="2114"/>
                    </a:lnTo>
                    <a:lnTo>
                      <a:pt x="22" y="2172"/>
                    </a:lnTo>
                    <a:lnTo>
                      <a:pt x="28" y="2228"/>
                    </a:lnTo>
                    <a:lnTo>
                      <a:pt x="35" y="2285"/>
                    </a:lnTo>
                    <a:lnTo>
                      <a:pt x="44" y="2340"/>
                    </a:lnTo>
                    <a:lnTo>
                      <a:pt x="52" y="2396"/>
                    </a:lnTo>
                    <a:lnTo>
                      <a:pt x="61" y="2452"/>
                    </a:lnTo>
                    <a:lnTo>
                      <a:pt x="72" y="2507"/>
                    </a:lnTo>
                    <a:lnTo>
                      <a:pt x="82" y="2562"/>
                    </a:lnTo>
                    <a:lnTo>
                      <a:pt x="94" y="2618"/>
                    </a:lnTo>
                    <a:lnTo>
                      <a:pt x="107" y="2672"/>
                    </a:lnTo>
                    <a:lnTo>
                      <a:pt x="121" y="2726"/>
                    </a:lnTo>
                    <a:lnTo>
                      <a:pt x="135" y="2780"/>
                    </a:lnTo>
                    <a:lnTo>
                      <a:pt x="151" y="2834"/>
                    </a:lnTo>
                    <a:lnTo>
                      <a:pt x="166" y="2886"/>
                    </a:lnTo>
                    <a:lnTo>
                      <a:pt x="182" y="2939"/>
                    </a:lnTo>
                    <a:lnTo>
                      <a:pt x="199" y="2992"/>
                    </a:lnTo>
                    <a:lnTo>
                      <a:pt x="218" y="3044"/>
                    </a:lnTo>
                    <a:lnTo>
                      <a:pt x="236" y="3096"/>
                    </a:lnTo>
                    <a:lnTo>
                      <a:pt x="255" y="3148"/>
                    </a:lnTo>
                    <a:lnTo>
                      <a:pt x="276" y="3199"/>
                    </a:lnTo>
                    <a:lnTo>
                      <a:pt x="296" y="3249"/>
                    </a:lnTo>
                    <a:lnTo>
                      <a:pt x="318" y="3300"/>
                    </a:lnTo>
                    <a:lnTo>
                      <a:pt x="340" y="3350"/>
                    </a:lnTo>
                    <a:lnTo>
                      <a:pt x="362" y="3399"/>
                    </a:lnTo>
                    <a:lnTo>
                      <a:pt x="386" y="3449"/>
                    </a:lnTo>
                    <a:lnTo>
                      <a:pt x="411" y="3498"/>
                    </a:lnTo>
                    <a:lnTo>
                      <a:pt x="419" y="3503"/>
                    </a:lnTo>
                    <a:lnTo>
                      <a:pt x="427" y="3509"/>
                    </a:lnTo>
                    <a:lnTo>
                      <a:pt x="436" y="3513"/>
                    </a:lnTo>
                    <a:lnTo>
                      <a:pt x="444" y="3518"/>
                    </a:lnTo>
                    <a:lnTo>
                      <a:pt x="452" y="3523"/>
                    </a:lnTo>
                    <a:lnTo>
                      <a:pt x="461" y="3528"/>
                    </a:lnTo>
                    <a:lnTo>
                      <a:pt x="469" y="3532"/>
                    </a:lnTo>
                    <a:lnTo>
                      <a:pt x="478" y="3538"/>
                    </a:lnTo>
                    <a:lnTo>
                      <a:pt x="452" y="3488"/>
                    </a:lnTo>
                    <a:lnTo>
                      <a:pt x="427" y="3437"/>
                    </a:lnTo>
                    <a:lnTo>
                      <a:pt x="402" y="3387"/>
                    </a:lnTo>
                    <a:lnTo>
                      <a:pt x="380" y="3336"/>
                    </a:lnTo>
                    <a:lnTo>
                      <a:pt x="357" y="3285"/>
                    </a:lnTo>
                    <a:lnTo>
                      <a:pt x="334" y="3233"/>
                    </a:lnTo>
                    <a:lnTo>
                      <a:pt x="313" y="3180"/>
                    </a:lnTo>
                    <a:lnTo>
                      <a:pt x="292" y="3128"/>
                    </a:lnTo>
                    <a:lnTo>
                      <a:pt x="273" y="3074"/>
                    </a:lnTo>
                    <a:lnTo>
                      <a:pt x="253" y="3021"/>
                    </a:lnTo>
                    <a:lnTo>
                      <a:pt x="236" y="2967"/>
                    </a:lnTo>
                    <a:lnTo>
                      <a:pt x="218" y="2913"/>
                    </a:lnTo>
                    <a:lnTo>
                      <a:pt x="201" y="2859"/>
                    </a:lnTo>
                    <a:lnTo>
                      <a:pt x="185" y="2804"/>
                    </a:lnTo>
                    <a:lnTo>
                      <a:pt x="170" y="2749"/>
                    </a:lnTo>
                    <a:lnTo>
                      <a:pt x="156" y="2694"/>
                    </a:lnTo>
                    <a:lnTo>
                      <a:pt x="142" y="2638"/>
                    </a:lnTo>
                    <a:lnTo>
                      <a:pt x="130" y="2582"/>
                    </a:lnTo>
                    <a:lnTo>
                      <a:pt x="118" y="2526"/>
                    </a:lnTo>
                    <a:lnTo>
                      <a:pt x="107" y="2470"/>
                    </a:lnTo>
                    <a:lnTo>
                      <a:pt x="97" y="2412"/>
                    </a:lnTo>
                    <a:lnTo>
                      <a:pt x="88" y="2355"/>
                    </a:lnTo>
                    <a:lnTo>
                      <a:pt x="79" y="2298"/>
                    </a:lnTo>
                    <a:lnTo>
                      <a:pt x="72" y="2240"/>
                    </a:lnTo>
                    <a:lnTo>
                      <a:pt x="65" y="2182"/>
                    </a:lnTo>
                    <a:lnTo>
                      <a:pt x="59" y="2124"/>
                    </a:lnTo>
                    <a:lnTo>
                      <a:pt x="54" y="2065"/>
                    </a:lnTo>
                    <a:lnTo>
                      <a:pt x="50" y="2006"/>
                    </a:lnTo>
                    <a:lnTo>
                      <a:pt x="47" y="1947"/>
                    </a:lnTo>
                    <a:lnTo>
                      <a:pt x="45" y="1887"/>
                    </a:lnTo>
                    <a:lnTo>
                      <a:pt x="43" y="1828"/>
                    </a:lnTo>
                    <a:lnTo>
                      <a:pt x="43" y="1769"/>
                    </a:lnTo>
                    <a:lnTo>
                      <a:pt x="43" y="1708"/>
                    </a:lnTo>
                    <a:lnTo>
                      <a:pt x="45" y="1649"/>
                    </a:lnTo>
                    <a:lnTo>
                      <a:pt x="47" y="1589"/>
                    </a:lnTo>
                    <a:lnTo>
                      <a:pt x="50" y="1531"/>
                    </a:lnTo>
                    <a:lnTo>
                      <a:pt x="54" y="1472"/>
                    </a:lnTo>
                    <a:lnTo>
                      <a:pt x="59" y="1413"/>
                    </a:lnTo>
                    <a:lnTo>
                      <a:pt x="65" y="1355"/>
                    </a:lnTo>
                    <a:lnTo>
                      <a:pt x="72" y="1297"/>
                    </a:lnTo>
                    <a:lnTo>
                      <a:pt x="79" y="1239"/>
                    </a:lnTo>
                    <a:lnTo>
                      <a:pt x="88" y="1181"/>
                    </a:lnTo>
                    <a:lnTo>
                      <a:pt x="97" y="1124"/>
                    </a:lnTo>
                    <a:lnTo>
                      <a:pt x="107" y="1068"/>
                    </a:lnTo>
                    <a:lnTo>
                      <a:pt x="118" y="1011"/>
                    </a:lnTo>
                    <a:lnTo>
                      <a:pt x="130" y="954"/>
                    </a:lnTo>
                    <a:lnTo>
                      <a:pt x="142" y="898"/>
                    </a:lnTo>
                    <a:lnTo>
                      <a:pt x="156" y="843"/>
                    </a:lnTo>
                    <a:lnTo>
                      <a:pt x="170" y="787"/>
                    </a:lnTo>
                    <a:lnTo>
                      <a:pt x="185" y="732"/>
                    </a:lnTo>
                    <a:lnTo>
                      <a:pt x="201" y="678"/>
                    </a:lnTo>
                    <a:lnTo>
                      <a:pt x="218" y="623"/>
                    </a:lnTo>
                    <a:lnTo>
                      <a:pt x="236" y="569"/>
                    </a:lnTo>
                    <a:lnTo>
                      <a:pt x="253" y="515"/>
                    </a:lnTo>
                    <a:lnTo>
                      <a:pt x="273" y="462"/>
                    </a:lnTo>
                    <a:lnTo>
                      <a:pt x="292" y="409"/>
                    </a:lnTo>
                    <a:lnTo>
                      <a:pt x="313" y="356"/>
                    </a:lnTo>
                    <a:lnTo>
                      <a:pt x="334" y="304"/>
                    </a:lnTo>
                    <a:lnTo>
                      <a:pt x="357" y="252"/>
                    </a:lnTo>
                    <a:lnTo>
                      <a:pt x="380" y="201"/>
                    </a:lnTo>
                    <a:lnTo>
                      <a:pt x="402" y="150"/>
                    </a:lnTo>
                    <a:lnTo>
                      <a:pt x="427" y="99"/>
                    </a:lnTo>
                    <a:lnTo>
                      <a:pt x="452" y="49"/>
                    </a:lnTo>
                    <a:lnTo>
                      <a:pt x="478" y="0"/>
                    </a:lnTo>
                    <a:lnTo>
                      <a:pt x="469" y="4"/>
                    </a:lnTo>
                    <a:lnTo>
                      <a:pt x="461" y="9"/>
                    </a:lnTo>
                    <a:lnTo>
                      <a:pt x="452" y="14"/>
                    </a:lnTo>
                    <a:lnTo>
                      <a:pt x="444" y="19"/>
                    </a:lnTo>
                    <a:lnTo>
                      <a:pt x="436" y="23"/>
                    </a:lnTo>
                    <a:lnTo>
                      <a:pt x="427" y="29"/>
                    </a:lnTo>
                    <a:lnTo>
                      <a:pt x="419" y="33"/>
                    </a:lnTo>
                    <a:lnTo>
                      <a:pt x="41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52800" y="2287440"/>
                <a:ext cx="3043080" cy="1419480"/>
              </a:xfrm>
              <a:custGeom>
                <a:avLst/>
                <a:gdLst/>
                <a:ahLst/>
                <a:rect l="l" t="t" r="r" b="b"/>
                <a:pathLst>
                  <a:path w="7666" h="3576">
                    <a:moveTo>
                      <a:pt x="7666" y="1789"/>
                    </a:moveTo>
                    <a:lnTo>
                      <a:pt x="7666" y="1729"/>
                    </a:lnTo>
                    <a:lnTo>
                      <a:pt x="7665" y="1671"/>
                    </a:lnTo>
                    <a:lnTo>
                      <a:pt x="7663" y="1613"/>
                    </a:lnTo>
                    <a:lnTo>
                      <a:pt x="7660" y="1554"/>
                    </a:lnTo>
                    <a:lnTo>
                      <a:pt x="7656" y="1496"/>
                    </a:lnTo>
                    <a:lnTo>
                      <a:pt x="7651" y="1438"/>
                    </a:lnTo>
                    <a:lnTo>
                      <a:pt x="7645" y="1380"/>
                    </a:lnTo>
                    <a:lnTo>
                      <a:pt x="7638" y="1323"/>
                    </a:lnTo>
                    <a:lnTo>
                      <a:pt x="7632" y="1266"/>
                    </a:lnTo>
                    <a:lnTo>
                      <a:pt x="7623" y="1209"/>
                    </a:lnTo>
                    <a:lnTo>
                      <a:pt x="7615" y="1153"/>
                    </a:lnTo>
                    <a:lnTo>
                      <a:pt x="7604" y="1096"/>
                    </a:lnTo>
                    <a:lnTo>
                      <a:pt x="7594" y="1040"/>
                    </a:lnTo>
                    <a:lnTo>
                      <a:pt x="7582" y="984"/>
                    </a:lnTo>
                    <a:lnTo>
                      <a:pt x="7570" y="929"/>
                    </a:lnTo>
                    <a:lnTo>
                      <a:pt x="7557" y="874"/>
                    </a:lnTo>
                    <a:lnTo>
                      <a:pt x="7543" y="819"/>
                    </a:lnTo>
                    <a:lnTo>
                      <a:pt x="7528" y="765"/>
                    </a:lnTo>
                    <a:lnTo>
                      <a:pt x="7513" y="711"/>
                    </a:lnTo>
                    <a:lnTo>
                      <a:pt x="7497" y="657"/>
                    </a:lnTo>
                    <a:lnTo>
                      <a:pt x="7479" y="604"/>
                    </a:lnTo>
                    <a:lnTo>
                      <a:pt x="7462" y="550"/>
                    </a:lnTo>
                    <a:lnTo>
                      <a:pt x="7444" y="497"/>
                    </a:lnTo>
                    <a:lnTo>
                      <a:pt x="7424" y="445"/>
                    </a:lnTo>
                    <a:lnTo>
                      <a:pt x="7405" y="393"/>
                    </a:lnTo>
                    <a:lnTo>
                      <a:pt x="7383" y="341"/>
                    </a:lnTo>
                    <a:lnTo>
                      <a:pt x="7363" y="290"/>
                    </a:lnTo>
                    <a:lnTo>
                      <a:pt x="7340" y="239"/>
                    </a:lnTo>
                    <a:lnTo>
                      <a:pt x="7317" y="188"/>
                    </a:lnTo>
                    <a:lnTo>
                      <a:pt x="7294" y="138"/>
                    </a:lnTo>
                    <a:lnTo>
                      <a:pt x="7270" y="89"/>
                    </a:lnTo>
                    <a:lnTo>
                      <a:pt x="7245" y="39"/>
                    </a:lnTo>
                    <a:lnTo>
                      <a:pt x="7236" y="35"/>
                    </a:lnTo>
                    <a:lnTo>
                      <a:pt x="7228" y="29"/>
                    </a:lnTo>
                    <a:lnTo>
                      <a:pt x="7219" y="25"/>
                    </a:lnTo>
                    <a:lnTo>
                      <a:pt x="7211" y="20"/>
                    </a:lnTo>
                    <a:lnTo>
                      <a:pt x="7203" y="15"/>
                    </a:lnTo>
                    <a:lnTo>
                      <a:pt x="7194" y="10"/>
                    </a:lnTo>
                    <a:lnTo>
                      <a:pt x="7186" y="6"/>
                    </a:lnTo>
                    <a:lnTo>
                      <a:pt x="7177" y="0"/>
                    </a:lnTo>
                    <a:lnTo>
                      <a:pt x="7204" y="51"/>
                    </a:lnTo>
                    <a:lnTo>
                      <a:pt x="7229" y="102"/>
                    </a:lnTo>
                    <a:lnTo>
                      <a:pt x="7254" y="152"/>
                    </a:lnTo>
                    <a:lnTo>
                      <a:pt x="7278" y="203"/>
                    </a:lnTo>
                    <a:lnTo>
                      <a:pt x="7302" y="255"/>
                    </a:lnTo>
                    <a:lnTo>
                      <a:pt x="7325" y="308"/>
                    </a:lnTo>
                    <a:lnTo>
                      <a:pt x="7347" y="361"/>
                    </a:lnTo>
                    <a:lnTo>
                      <a:pt x="7367" y="414"/>
                    </a:lnTo>
                    <a:lnTo>
                      <a:pt x="7388" y="467"/>
                    </a:lnTo>
                    <a:lnTo>
                      <a:pt x="7407" y="521"/>
                    </a:lnTo>
                    <a:lnTo>
                      <a:pt x="7427" y="575"/>
                    </a:lnTo>
                    <a:lnTo>
                      <a:pt x="7445" y="630"/>
                    </a:lnTo>
                    <a:lnTo>
                      <a:pt x="7461" y="685"/>
                    </a:lnTo>
                    <a:lnTo>
                      <a:pt x="7478" y="740"/>
                    </a:lnTo>
                    <a:lnTo>
                      <a:pt x="7494" y="796"/>
                    </a:lnTo>
                    <a:lnTo>
                      <a:pt x="7509" y="851"/>
                    </a:lnTo>
                    <a:lnTo>
                      <a:pt x="7522" y="908"/>
                    </a:lnTo>
                    <a:lnTo>
                      <a:pt x="7535" y="965"/>
                    </a:lnTo>
                    <a:lnTo>
                      <a:pt x="7548" y="1022"/>
                    </a:lnTo>
                    <a:lnTo>
                      <a:pt x="7558" y="1079"/>
                    </a:lnTo>
                    <a:lnTo>
                      <a:pt x="7569" y="1136"/>
                    </a:lnTo>
                    <a:lnTo>
                      <a:pt x="7579" y="1195"/>
                    </a:lnTo>
                    <a:lnTo>
                      <a:pt x="7588" y="1253"/>
                    </a:lnTo>
                    <a:lnTo>
                      <a:pt x="7595" y="1311"/>
                    </a:lnTo>
                    <a:lnTo>
                      <a:pt x="7603" y="1370"/>
                    </a:lnTo>
                    <a:lnTo>
                      <a:pt x="7608" y="1429"/>
                    </a:lnTo>
                    <a:lnTo>
                      <a:pt x="7613" y="1488"/>
                    </a:lnTo>
                    <a:lnTo>
                      <a:pt x="7618" y="1548"/>
                    </a:lnTo>
                    <a:lnTo>
                      <a:pt x="7621" y="1607"/>
                    </a:lnTo>
                    <a:lnTo>
                      <a:pt x="7623" y="1668"/>
                    </a:lnTo>
                    <a:lnTo>
                      <a:pt x="7624" y="1728"/>
                    </a:lnTo>
                    <a:lnTo>
                      <a:pt x="7625" y="1789"/>
                    </a:lnTo>
                    <a:lnTo>
                      <a:pt x="7624" y="1852"/>
                    </a:lnTo>
                    <a:lnTo>
                      <a:pt x="7623" y="1916"/>
                    </a:lnTo>
                    <a:lnTo>
                      <a:pt x="7620" y="1979"/>
                    </a:lnTo>
                    <a:lnTo>
                      <a:pt x="7617" y="2042"/>
                    </a:lnTo>
                    <a:lnTo>
                      <a:pt x="7612" y="2105"/>
                    </a:lnTo>
                    <a:lnTo>
                      <a:pt x="7606" y="2167"/>
                    </a:lnTo>
                    <a:lnTo>
                      <a:pt x="7599" y="2229"/>
                    </a:lnTo>
                    <a:lnTo>
                      <a:pt x="7592" y="2291"/>
                    </a:lnTo>
                    <a:lnTo>
                      <a:pt x="7583" y="2352"/>
                    </a:lnTo>
                    <a:lnTo>
                      <a:pt x="7573" y="2414"/>
                    </a:lnTo>
                    <a:lnTo>
                      <a:pt x="7563" y="2474"/>
                    </a:lnTo>
                    <a:lnTo>
                      <a:pt x="7551" y="2535"/>
                    </a:lnTo>
                    <a:lnTo>
                      <a:pt x="7539" y="2595"/>
                    </a:lnTo>
                    <a:lnTo>
                      <a:pt x="7525" y="2655"/>
                    </a:lnTo>
                    <a:lnTo>
                      <a:pt x="7511" y="2714"/>
                    </a:lnTo>
                    <a:lnTo>
                      <a:pt x="7496" y="2774"/>
                    </a:lnTo>
                    <a:lnTo>
                      <a:pt x="7536" y="2784"/>
                    </a:lnTo>
                    <a:lnTo>
                      <a:pt x="7551" y="2725"/>
                    </a:lnTo>
                    <a:lnTo>
                      <a:pt x="7566" y="2665"/>
                    </a:lnTo>
                    <a:lnTo>
                      <a:pt x="7579" y="2604"/>
                    </a:lnTo>
                    <a:lnTo>
                      <a:pt x="7592" y="2544"/>
                    </a:lnTo>
                    <a:lnTo>
                      <a:pt x="7604" y="2482"/>
                    </a:lnTo>
                    <a:lnTo>
                      <a:pt x="7615" y="2420"/>
                    </a:lnTo>
                    <a:lnTo>
                      <a:pt x="7624" y="2359"/>
                    </a:lnTo>
                    <a:lnTo>
                      <a:pt x="7633" y="2296"/>
                    </a:lnTo>
                    <a:lnTo>
                      <a:pt x="7640" y="2234"/>
                    </a:lnTo>
                    <a:lnTo>
                      <a:pt x="7648" y="2171"/>
                    </a:lnTo>
                    <a:lnTo>
                      <a:pt x="7653" y="2108"/>
                    </a:lnTo>
                    <a:lnTo>
                      <a:pt x="7658" y="2045"/>
                    </a:lnTo>
                    <a:lnTo>
                      <a:pt x="7662" y="1981"/>
                    </a:lnTo>
                    <a:lnTo>
                      <a:pt x="7664" y="1917"/>
                    </a:lnTo>
                    <a:lnTo>
                      <a:pt x="7666" y="1852"/>
                    </a:lnTo>
                    <a:lnTo>
                      <a:pt x="7666" y="1789"/>
                    </a:lnTo>
                    <a:close/>
                    <a:moveTo>
                      <a:pt x="421" y="39"/>
                    </a:moveTo>
                    <a:lnTo>
                      <a:pt x="397" y="89"/>
                    </a:lnTo>
                    <a:lnTo>
                      <a:pt x="373" y="138"/>
                    </a:lnTo>
                    <a:lnTo>
                      <a:pt x="349" y="188"/>
                    </a:lnTo>
                    <a:lnTo>
                      <a:pt x="326" y="239"/>
                    </a:lnTo>
                    <a:lnTo>
                      <a:pt x="304" y="290"/>
                    </a:lnTo>
                    <a:lnTo>
                      <a:pt x="283" y="341"/>
                    </a:lnTo>
                    <a:lnTo>
                      <a:pt x="261" y="393"/>
                    </a:lnTo>
                    <a:lnTo>
                      <a:pt x="242" y="445"/>
                    </a:lnTo>
                    <a:lnTo>
                      <a:pt x="223" y="497"/>
                    </a:lnTo>
                    <a:lnTo>
                      <a:pt x="204" y="550"/>
                    </a:lnTo>
                    <a:lnTo>
                      <a:pt x="187" y="604"/>
                    </a:lnTo>
                    <a:lnTo>
                      <a:pt x="170" y="657"/>
                    </a:lnTo>
                    <a:lnTo>
                      <a:pt x="153" y="711"/>
                    </a:lnTo>
                    <a:lnTo>
                      <a:pt x="138" y="765"/>
                    </a:lnTo>
                    <a:lnTo>
                      <a:pt x="123" y="819"/>
                    </a:lnTo>
                    <a:lnTo>
                      <a:pt x="109" y="874"/>
                    </a:lnTo>
                    <a:lnTo>
                      <a:pt x="96" y="929"/>
                    </a:lnTo>
                    <a:lnTo>
                      <a:pt x="84" y="984"/>
                    </a:lnTo>
                    <a:lnTo>
                      <a:pt x="72" y="1040"/>
                    </a:lnTo>
                    <a:lnTo>
                      <a:pt x="62" y="1096"/>
                    </a:lnTo>
                    <a:lnTo>
                      <a:pt x="52" y="1153"/>
                    </a:lnTo>
                    <a:lnTo>
                      <a:pt x="43" y="1209"/>
                    </a:lnTo>
                    <a:lnTo>
                      <a:pt x="35" y="1266"/>
                    </a:lnTo>
                    <a:lnTo>
                      <a:pt x="28" y="1323"/>
                    </a:lnTo>
                    <a:lnTo>
                      <a:pt x="22" y="1380"/>
                    </a:lnTo>
                    <a:lnTo>
                      <a:pt x="15" y="1438"/>
                    </a:lnTo>
                    <a:lnTo>
                      <a:pt x="11" y="1496"/>
                    </a:lnTo>
                    <a:lnTo>
                      <a:pt x="6" y="1554"/>
                    </a:lnTo>
                    <a:lnTo>
                      <a:pt x="3" y="1613"/>
                    </a:lnTo>
                    <a:lnTo>
                      <a:pt x="1" y="1671"/>
                    </a:lnTo>
                    <a:lnTo>
                      <a:pt x="0" y="1729"/>
                    </a:lnTo>
                    <a:lnTo>
                      <a:pt x="0" y="1789"/>
                    </a:lnTo>
                    <a:lnTo>
                      <a:pt x="0" y="1847"/>
                    </a:lnTo>
                    <a:lnTo>
                      <a:pt x="1" y="1906"/>
                    </a:lnTo>
                    <a:lnTo>
                      <a:pt x="3" y="1965"/>
                    </a:lnTo>
                    <a:lnTo>
                      <a:pt x="6" y="2023"/>
                    </a:lnTo>
                    <a:lnTo>
                      <a:pt x="11" y="2081"/>
                    </a:lnTo>
                    <a:lnTo>
                      <a:pt x="15" y="2139"/>
                    </a:lnTo>
                    <a:lnTo>
                      <a:pt x="22" y="2197"/>
                    </a:lnTo>
                    <a:lnTo>
                      <a:pt x="28" y="2254"/>
                    </a:lnTo>
                    <a:lnTo>
                      <a:pt x="35" y="2311"/>
                    </a:lnTo>
                    <a:lnTo>
                      <a:pt x="43" y="2368"/>
                    </a:lnTo>
                    <a:lnTo>
                      <a:pt x="52" y="2425"/>
                    </a:lnTo>
                    <a:lnTo>
                      <a:pt x="62" y="2481"/>
                    </a:lnTo>
                    <a:lnTo>
                      <a:pt x="72" y="2536"/>
                    </a:lnTo>
                    <a:lnTo>
                      <a:pt x="84" y="2592"/>
                    </a:lnTo>
                    <a:lnTo>
                      <a:pt x="96" y="2647"/>
                    </a:lnTo>
                    <a:lnTo>
                      <a:pt x="109" y="2702"/>
                    </a:lnTo>
                    <a:lnTo>
                      <a:pt x="123" y="2757"/>
                    </a:lnTo>
                    <a:lnTo>
                      <a:pt x="138" y="2813"/>
                    </a:lnTo>
                    <a:lnTo>
                      <a:pt x="153" y="2867"/>
                    </a:lnTo>
                    <a:lnTo>
                      <a:pt x="170" y="2919"/>
                    </a:lnTo>
                    <a:lnTo>
                      <a:pt x="187" y="2973"/>
                    </a:lnTo>
                    <a:lnTo>
                      <a:pt x="204" y="3026"/>
                    </a:lnTo>
                    <a:lnTo>
                      <a:pt x="223" y="3079"/>
                    </a:lnTo>
                    <a:lnTo>
                      <a:pt x="242" y="3132"/>
                    </a:lnTo>
                    <a:lnTo>
                      <a:pt x="261" y="3184"/>
                    </a:lnTo>
                    <a:lnTo>
                      <a:pt x="283" y="3236"/>
                    </a:lnTo>
                    <a:lnTo>
                      <a:pt x="304" y="3287"/>
                    </a:lnTo>
                    <a:lnTo>
                      <a:pt x="326" y="3337"/>
                    </a:lnTo>
                    <a:lnTo>
                      <a:pt x="349" y="3388"/>
                    </a:lnTo>
                    <a:lnTo>
                      <a:pt x="373" y="3439"/>
                    </a:lnTo>
                    <a:lnTo>
                      <a:pt x="397" y="3489"/>
                    </a:lnTo>
                    <a:lnTo>
                      <a:pt x="421" y="3537"/>
                    </a:lnTo>
                    <a:lnTo>
                      <a:pt x="430" y="3543"/>
                    </a:lnTo>
                    <a:lnTo>
                      <a:pt x="439" y="3547"/>
                    </a:lnTo>
                    <a:lnTo>
                      <a:pt x="447" y="3552"/>
                    </a:lnTo>
                    <a:lnTo>
                      <a:pt x="455" y="3557"/>
                    </a:lnTo>
                    <a:lnTo>
                      <a:pt x="464" y="3562"/>
                    </a:lnTo>
                    <a:lnTo>
                      <a:pt x="472" y="3566"/>
                    </a:lnTo>
                    <a:lnTo>
                      <a:pt x="481" y="3572"/>
                    </a:lnTo>
                    <a:lnTo>
                      <a:pt x="489" y="3576"/>
                    </a:lnTo>
                    <a:lnTo>
                      <a:pt x="462" y="3526"/>
                    </a:lnTo>
                    <a:lnTo>
                      <a:pt x="438" y="3476"/>
                    </a:lnTo>
                    <a:lnTo>
                      <a:pt x="412" y="3425"/>
                    </a:lnTo>
                    <a:lnTo>
                      <a:pt x="388" y="3373"/>
                    </a:lnTo>
                    <a:lnTo>
                      <a:pt x="364" y="3321"/>
                    </a:lnTo>
                    <a:lnTo>
                      <a:pt x="341" y="3269"/>
                    </a:lnTo>
                    <a:lnTo>
                      <a:pt x="320" y="3216"/>
                    </a:lnTo>
                    <a:lnTo>
                      <a:pt x="298" y="3164"/>
                    </a:lnTo>
                    <a:lnTo>
                      <a:pt x="279" y="3110"/>
                    </a:lnTo>
                    <a:lnTo>
                      <a:pt x="258" y="3056"/>
                    </a:lnTo>
                    <a:lnTo>
                      <a:pt x="240" y="3002"/>
                    </a:lnTo>
                    <a:lnTo>
                      <a:pt x="221" y="2948"/>
                    </a:lnTo>
                    <a:lnTo>
                      <a:pt x="205" y="2892"/>
                    </a:lnTo>
                    <a:lnTo>
                      <a:pt x="188" y="2836"/>
                    </a:lnTo>
                    <a:lnTo>
                      <a:pt x="173" y="2781"/>
                    </a:lnTo>
                    <a:lnTo>
                      <a:pt x="158" y="2725"/>
                    </a:lnTo>
                    <a:lnTo>
                      <a:pt x="145" y="2669"/>
                    </a:lnTo>
                    <a:lnTo>
                      <a:pt x="131" y="2612"/>
                    </a:lnTo>
                    <a:lnTo>
                      <a:pt x="119" y="2555"/>
                    </a:lnTo>
                    <a:lnTo>
                      <a:pt x="108" y="2498"/>
                    </a:lnTo>
                    <a:lnTo>
                      <a:pt x="97" y="2440"/>
                    </a:lnTo>
                    <a:lnTo>
                      <a:pt x="88" y="2383"/>
                    </a:lnTo>
                    <a:lnTo>
                      <a:pt x="79" y="2324"/>
                    </a:lnTo>
                    <a:lnTo>
                      <a:pt x="71" y="2266"/>
                    </a:lnTo>
                    <a:lnTo>
                      <a:pt x="64" y="2207"/>
                    </a:lnTo>
                    <a:lnTo>
                      <a:pt x="58" y="2148"/>
                    </a:lnTo>
                    <a:lnTo>
                      <a:pt x="53" y="2089"/>
                    </a:lnTo>
                    <a:lnTo>
                      <a:pt x="49" y="2030"/>
                    </a:lnTo>
                    <a:lnTo>
                      <a:pt x="45" y="1969"/>
                    </a:lnTo>
                    <a:lnTo>
                      <a:pt x="43" y="1910"/>
                    </a:lnTo>
                    <a:lnTo>
                      <a:pt x="42" y="1849"/>
                    </a:lnTo>
                    <a:lnTo>
                      <a:pt x="41" y="1789"/>
                    </a:lnTo>
                    <a:lnTo>
                      <a:pt x="42" y="1728"/>
                    </a:lnTo>
                    <a:lnTo>
                      <a:pt x="43" y="1668"/>
                    </a:lnTo>
                    <a:lnTo>
                      <a:pt x="45" y="1607"/>
                    </a:lnTo>
                    <a:lnTo>
                      <a:pt x="49" y="1548"/>
                    </a:lnTo>
                    <a:lnTo>
                      <a:pt x="53" y="1488"/>
                    </a:lnTo>
                    <a:lnTo>
                      <a:pt x="58" y="1429"/>
                    </a:lnTo>
                    <a:lnTo>
                      <a:pt x="64" y="1370"/>
                    </a:lnTo>
                    <a:lnTo>
                      <a:pt x="71" y="1311"/>
                    </a:lnTo>
                    <a:lnTo>
                      <a:pt x="79" y="1253"/>
                    </a:lnTo>
                    <a:lnTo>
                      <a:pt x="88" y="1195"/>
                    </a:lnTo>
                    <a:lnTo>
                      <a:pt x="97" y="1136"/>
                    </a:lnTo>
                    <a:lnTo>
                      <a:pt x="108" y="1079"/>
                    </a:lnTo>
                    <a:lnTo>
                      <a:pt x="119" y="1022"/>
                    </a:lnTo>
                    <a:lnTo>
                      <a:pt x="131" y="965"/>
                    </a:lnTo>
                    <a:lnTo>
                      <a:pt x="145" y="908"/>
                    </a:lnTo>
                    <a:lnTo>
                      <a:pt x="158" y="851"/>
                    </a:lnTo>
                    <a:lnTo>
                      <a:pt x="173" y="796"/>
                    </a:lnTo>
                    <a:lnTo>
                      <a:pt x="188" y="740"/>
                    </a:lnTo>
                    <a:lnTo>
                      <a:pt x="205" y="685"/>
                    </a:lnTo>
                    <a:lnTo>
                      <a:pt x="221" y="630"/>
                    </a:lnTo>
                    <a:lnTo>
                      <a:pt x="240" y="575"/>
                    </a:lnTo>
                    <a:lnTo>
                      <a:pt x="258" y="521"/>
                    </a:lnTo>
                    <a:lnTo>
                      <a:pt x="279" y="467"/>
                    </a:lnTo>
                    <a:lnTo>
                      <a:pt x="298" y="414"/>
                    </a:lnTo>
                    <a:lnTo>
                      <a:pt x="320" y="361"/>
                    </a:lnTo>
                    <a:lnTo>
                      <a:pt x="341" y="308"/>
                    </a:lnTo>
                    <a:lnTo>
                      <a:pt x="364" y="255"/>
                    </a:lnTo>
                    <a:lnTo>
                      <a:pt x="388" y="203"/>
                    </a:lnTo>
                    <a:lnTo>
                      <a:pt x="412" y="152"/>
                    </a:lnTo>
                    <a:lnTo>
                      <a:pt x="438" y="102"/>
                    </a:lnTo>
                    <a:lnTo>
                      <a:pt x="462" y="51"/>
                    </a:lnTo>
                    <a:lnTo>
                      <a:pt x="489" y="0"/>
                    </a:lnTo>
                    <a:lnTo>
                      <a:pt x="481" y="6"/>
                    </a:lnTo>
                    <a:lnTo>
                      <a:pt x="472" y="10"/>
                    </a:lnTo>
                    <a:lnTo>
                      <a:pt x="464" y="15"/>
                    </a:lnTo>
                    <a:lnTo>
                      <a:pt x="455" y="20"/>
                    </a:lnTo>
                    <a:lnTo>
                      <a:pt x="447" y="25"/>
                    </a:lnTo>
                    <a:lnTo>
                      <a:pt x="439" y="29"/>
                    </a:lnTo>
                    <a:lnTo>
                      <a:pt x="430" y="34"/>
                    </a:lnTo>
                    <a:lnTo>
                      <a:pt x="421" y="39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060720" y="2279520"/>
                <a:ext cx="3025800" cy="1435320"/>
              </a:xfrm>
              <a:custGeom>
                <a:avLst/>
                <a:gdLst/>
                <a:ahLst/>
                <a:rect l="l" t="t" r="r" b="b"/>
                <a:pathLst>
                  <a:path w="7625" h="3614">
                    <a:moveTo>
                      <a:pt x="7625" y="1807"/>
                    </a:moveTo>
                    <a:lnTo>
                      <a:pt x="7625" y="1746"/>
                    </a:lnTo>
                    <a:lnTo>
                      <a:pt x="7623" y="1687"/>
                    </a:lnTo>
                    <a:lnTo>
                      <a:pt x="7621" y="1627"/>
                    </a:lnTo>
                    <a:lnTo>
                      <a:pt x="7617" y="1569"/>
                    </a:lnTo>
                    <a:lnTo>
                      <a:pt x="7613" y="1510"/>
                    </a:lnTo>
                    <a:lnTo>
                      <a:pt x="7609" y="1451"/>
                    </a:lnTo>
                    <a:lnTo>
                      <a:pt x="7602" y="1393"/>
                    </a:lnTo>
                    <a:lnTo>
                      <a:pt x="7596" y="1335"/>
                    </a:lnTo>
                    <a:lnTo>
                      <a:pt x="7588" y="1277"/>
                    </a:lnTo>
                    <a:lnTo>
                      <a:pt x="7579" y="1219"/>
                    </a:lnTo>
                    <a:lnTo>
                      <a:pt x="7571" y="1162"/>
                    </a:lnTo>
                    <a:lnTo>
                      <a:pt x="7560" y="1106"/>
                    </a:lnTo>
                    <a:lnTo>
                      <a:pt x="7549" y="1049"/>
                    </a:lnTo>
                    <a:lnTo>
                      <a:pt x="7537" y="992"/>
                    </a:lnTo>
                    <a:lnTo>
                      <a:pt x="7524" y="936"/>
                    </a:lnTo>
                    <a:lnTo>
                      <a:pt x="7511" y="881"/>
                    </a:lnTo>
                    <a:lnTo>
                      <a:pt x="7497" y="825"/>
                    </a:lnTo>
                    <a:lnTo>
                      <a:pt x="7482" y="770"/>
                    </a:lnTo>
                    <a:lnTo>
                      <a:pt x="7466" y="716"/>
                    </a:lnTo>
                    <a:lnTo>
                      <a:pt x="7450" y="661"/>
                    </a:lnTo>
                    <a:lnTo>
                      <a:pt x="7431" y="607"/>
                    </a:lnTo>
                    <a:lnTo>
                      <a:pt x="7413" y="553"/>
                    </a:lnTo>
                    <a:lnTo>
                      <a:pt x="7395" y="500"/>
                    </a:lnTo>
                    <a:lnTo>
                      <a:pt x="7375" y="447"/>
                    </a:lnTo>
                    <a:lnTo>
                      <a:pt x="7355" y="394"/>
                    </a:lnTo>
                    <a:lnTo>
                      <a:pt x="7333" y="342"/>
                    </a:lnTo>
                    <a:lnTo>
                      <a:pt x="7310" y="290"/>
                    </a:lnTo>
                    <a:lnTo>
                      <a:pt x="7288" y="239"/>
                    </a:lnTo>
                    <a:lnTo>
                      <a:pt x="7264" y="188"/>
                    </a:lnTo>
                    <a:lnTo>
                      <a:pt x="7240" y="137"/>
                    </a:lnTo>
                    <a:lnTo>
                      <a:pt x="7215" y="87"/>
                    </a:lnTo>
                    <a:lnTo>
                      <a:pt x="7189" y="38"/>
                    </a:lnTo>
                    <a:lnTo>
                      <a:pt x="7181" y="32"/>
                    </a:lnTo>
                    <a:lnTo>
                      <a:pt x="7173" y="28"/>
                    </a:lnTo>
                    <a:lnTo>
                      <a:pt x="7165" y="23"/>
                    </a:lnTo>
                    <a:lnTo>
                      <a:pt x="7156" y="18"/>
                    </a:lnTo>
                    <a:lnTo>
                      <a:pt x="7147" y="14"/>
                    </a:lnTo>
                    <a:lnTo>
                      <a:pt x="7139" y="8"/>
                    </a:lnTo>
                    <a:lnTo>
                      <a:pt x="7131" y="4"/>
                    </a:lnTo>
                    <a:lnTo>
                      <a:pt x="7122" y="0"/>
                    </a:lnTo>
                    <a:lnTo>
                      <a:pt x="7149" y="50"/>
                    </a:lnTo>
                    <a:lnTo>
                      <a:pt x="7175" y="101"/>
                    </a:lnTo>
                    <a:lnTo>
                      <a:pt x="7201" y="152"/>
                    </a:lnTo>
                    <a:lnTo>
                      <a:pt x="7226" y="204"/>
                    </a:lnTo>
                    <a:lnTo>
                      <a:pt x="7250" y="257"/>
                    </a:lnTo>
                    <a:lnTo>
                      <a:pt x="7274" y="310"/>
                    </a:lnTo>
                    <a:lnTo>
                      <a:pt x="7296" y="363"/>
                    </a:lnTo>
                    <a:lnTo>
                      <a:pt x="7318" y="416"/>
                    </a:lnTo>
                    <a:lnTo>
                      <a:pt x="7340" y="470"/>
                    </a:lnTo>
                    <a:lnTo>
                      <a:pt x="7359" y="525"/>
                    </a:lnTo>
                    <a:lnTo>
                      <a:pt x="7378" y="579"/>
                    </a:lnTo>
                    <a:lnTo>
                      <a:pt x="7397" y="634"/>
                    </a:lnTo>
                    <a:lnTo>
                      <a:pt x="7415" y="690"/>
                    </a:lnTo>
                    <a:lnTo>
                      <a:pt x="7431" y="746"/>
                    </a:lnTo>
                    <a:lnTo>
                      <a:pt x="7448" y="802"/>
                    </a:lnTo>
                    <a:lnTo>
                      <a:pt x="7463" y="858"/>
                    </a:lnTo>
                    <a:lnTo>
                      <a:pt x="7477" y="916"/>
                    </a:lnTo>
                    <a:lnTo>
                      <a:pt x="7491" y="973"/>
                    </a:lnTo>
                    <a:lnTo>
                      <a:pt x="7503" y="1030"/>
                    </a:lnTo>
                    <a:lnTo>
                      <a:pt x="7515" y="1088"/>
                    </a:lnTo>
                    <a:lnTo>
                      <a:pt x="7525" y="1147"/>
                    </a:lnTo>
                    <a:lnTo>
                      <a:pt x="7535" y="1205"/>
                    </a:lnTo>
                    <a:lnTo>
                      <a:pt x="7545" y="1265"/>
                    </a:lnTo>
                    <a:lnTo>
                      <a:pt x="7552" y="1323"/>
                    </a:lnTo>
                    <a:lnTo>
                      <a:pt x="7560" y="1382"/>
                    </a:lnTo>
                    <a:lnTo>
                      <a:pt x="7565" y="1443"/>
                    </a:lnTo>
                    <a:lnTo>
                      <a:pt x="7571" y="1502"/>
                    </a:lnTo>
                    <a:lnTo>
                      <a:pt x="7575" y="1563"/>
                    </a:lnTo>
                    <a:lnTo>
                      <a:pt x="7578" y="1623"/>
                    </a:lnTo>
                    <a:lnTo>
                      <a:pt x="7582" y="1685"/>
                    </a:lnTo>
                    <a:lnTo>
                      <a:pt x="7583" y="1745"/>
                    </a:lnTo>
                    <a:lnTo>
                      <a:pt x="7583" y="1807"/>
                    </a:lnTo>
                    <a:lnTo>
                      <a:pt x="7583" y="1869"/>
                    </a:lnTo>
                    <a:lnTo>
                      <a:pt x="7581" y="1933"/>
                    </a:lnTo>
                    <a:lnTo>
                      <a:pt x="7578" y="1996"/>
                    </a:lnTo>
                    <a:lnTo>
                      <a:pt x="7575" y="2058"/>
                    </a:lnTo>
                    <a:lnTo>
                      <a:pt x="7570" y="2121"/>
                    </a:lnTo>
                    <a:lnTo>
                      <a:pt x="7564" y="2183"/>
                    </a:lnTo>
                    <a:lnTo>
                      <a:pt x="7558" y="2245"/>
                    </a:lnTo>
                    <a:lnTo>
                      <a:pt x="7550" y="2307"/>
                    </a:lnTo>
                    <a:lnTo>
                      <a:pt x="7542" y="2367"/>
                    </a:lnTo>
                    <a:lnTo>
                      <a:pt x="7532" y="2429"/>
                    </a:lnTo>
                    <a:lnTo>
                      <a:pt x="7521" y="2489"/>
                    </a:lnTo>
                    <a:lnTo>
                      <a:pt x="7509" y="2549"/>
                    </a:lnTo>
                    <a:lnTo>
                      <a:pt x="7497" y="2609"/>
                    </a:lnTo>
                    <a:lnTo>
                      <a:pt x="7483" y="2669"/>
                    </a:lnTo>
                    <a:lnTo>
                      <a:pt x="7469" y="2728"/>
                    </a:lnTo>
                    <a:lnTo>
                      <a:pt x="7454" y="2786"/>
                    </a:lnTo>
                    <a:lnTo>
                      <a:pt x="7494" y="2797"/>
                    </a:lnTo>
                    <a:lnTo>
                      <a:pt x="7510" y="2738"/>
                    </a:lnTo>
                    <a:lnTo>
                      <a:pt x="7524" y="2678"/>
                    </a:lnTo>
                    <a:lnTo>
                      <a:pt x="7538" y="2618"/>
                    </a:lnTo>
                    <a:lnTo>
                      <a:pt x="7550" y="2557"/>
                    </a:lnTo>
                    <a:lnTo>
                      <a:pt x="7562" y="2497"/>
                    </a:lnTo>
                    <a:lnTo>
                      <a:pt x="7573" y="2435"/>
                    </a:lnTo>
                    <a:lnTo>
                      <a:pt x="7583" y="2374"/>
                    </a:lnTo>
                    <a:lnTo>
                      <a:pt x="7591" y="2312"/>
                    </a:lnTo>
                    <a:lnTo>
                      <a:pt x="7599" y="2249"/>
                    </a:lnTo>
                    <a:lnTo>
                      <a:pt x="7605" y="2187"/>
                    </a:lnTo>
                    <a:lnTo>
                      <a:pt x="7612" y="2124"/>
                    </a:lnTo>
                    <a:lnTo>
                      <a:pt x="7616" y="2062"/>
                    </a:lnTo>
                    <a:lnTo>
                      <a:pt x="7621" y="1998"/>
                    </a:lnTo>
                    <a:lnTo>
                      <a:pt x="7623" y="1934"/>
                    </a:lnTo>
                    <a:lnTo>
                      <a:pt x="7624" y="1870"/>
                    </a:lnTo>
                    <a:lnTo>
                      <a:pt x="7625" y="1807"/>
                    </a:lnTo>
                    <a:close/>
                    <a:moveTo>
                      <a:pt x="435" y="38"/>
                    </a:moveTo>
                    <a:lnTo>
                      <a:pt x="409" y="87"/>
                    </a:lnTo>
                    <a:lnTo>
                      <a:pt x="384" y="137"/>
                    </a:lnTo>
                    <a:lnTo>
                      <a:pt x="359" y="188"/>
                    </a:lnTo>
                    <a:lnTo>
                      <a:pt x="337" y="239"/>
                    </a:lnTo>
                    <a:lnTo>
                      <a:pt x="314" y="290"/>
                    </a:lnTo>
                    <a:lnTo>
                      <a:pt x="291" y="342"/>
                    </a:lnTo>
                    <a:lnTo>
                      <a:pt x="270" y="394"/>
                    </a:lnTo>
                    <a:lnTo>
                      <a:pt x="249" y="447"/>
                    </a:lnTo>
                    <a:lnTo>
                      <a:pt x="230" y="500"/>
                    </a:lnTo>
                    <a:lnTo>
                      <a:pt x="210" y="553"/>
                    </a:lnTo>
                    <a:lnTo>
                      <a:pt x="193" y="607"/>
                    </a:lnTo>
                    <a:lnTo>
                      <a:pt x="175" y="661"/>
                    </a:lnTo>
                    <a:lnTo>
                      <a:pt x="158" y="716"/>
                    </a:lnTo>
                    <a:lnTo>
                      <a:pt x="142" y="770"/>
                    </a:lnTo>
                    <a:lnTo>
                      <a:pt x="127" y="825"/>
                    </a:lnTo>
                    <a:lnTo>
                      <a:pt x="113" y="881"/>
                    </a:lnTo>
                    <a:lnTo>
                      <a:pt x="99" y="936"/>
                    </a:lnTo>
                    <a:lnTo>
                      <a:pt x="87" y="992"/>
                    </a:lnTo>
                    <a:lnTo>
                      <a:pt x="75" y="1049"/>
                    </a:lnTo>
                    <a:lnTo>
                      <a:pt x="64" y="1106"/>
                    </a:lnTo>
                    <a:lnTo>
                      <a:pt x="54" y="1162"/>
                    </a:lnTo>
                    <a:lnTo>
                      <a:pt x="45" y="1219"/>
                    </a:lnTo>
                    <a:lnTo>
                      <a:pt x="36" y="1277"/>
                    </a:lnTo>
                    <a:lnTo>
                      <a:pt x="29" y="1335"/>
                    </a:lnTo>
                    <a:lnTo>
                      <a:pt x="22" y="1393"/>
                    </a:lnTo>
                    <a:lnTo>
                      <a:pt x="16" y="1451"/>
                    </a:lnTo>
                    <a:lnTo>
                      <a:pt x="11" y="1510"/>
                    </a:lnTo>
                    <a:lnTo>
                      <a:pt x="7" y="1569"/>
                    </a:lnTo>
                    <a:lnTo>
                      <a:pt x="4" y="1627"/>
                    </a:lnTo>
                    <a:lnTo>
                      <a:pt x="2" y="1687"/>
                    </a:lnTo>
                    <a:lnTo>
                      <a:pt x="0" y="1746"/>
                    </a:lnTo>
                    <a:lnTo>
                      <a:pt x="0" y="1807"/>
                    </a:lnTo>
                    <a:lnTo>
                      <a:pt x="0" y="1866"/>
                    </a:lnTo>
                    <a:lnTo>
                      <a:pt x="2" y="1925"/>
                    </a:lnTo>
                    <a:lnTo>
                      <a:pt x="4" y="1985"/>
                    </a:lnTo>
                    <a:lnTo>
                      <a:pt x="7" y="2044"/>
                    </a:lnTo>
                    <a:lnTo>
                      <a:pt x="11" y="2103"/>
                    </a:lnTo>
                    <a:lnTo>
                      <a:pt x="16" y="2162"/>
                    </a:lnTo>
                    <a:lnTo>
                      <a:pt x="22" y="2220"/>
                    </a:lnTo>
                    <a:lnTo>
                      <a:pt x="29" y="2278"/>
                    </a:lnTo>
                    <a:lnTo>
                      <a:pt x="36" y="2336"/>
                    </a:lnTo>
                    <a:lnTo>
                      <a:pt x="45" y="2393"/>
                    </a:lnTo>
                    <a:lnTo>
                      <a:pt x="54" y="2450"/>
                    </a:lnTo>
                    <a:lnTo>
                      <a:pt x="64" y="2508"/>
                    </a:lnTo>
                    <a:lnTo>
                      <a:pt x="75" y="2564"/>
                    </a:lnTo>
                    <a:lnTo>
                      <a:pt x="87" y="2620"/>
                    </a:lnTo>
                    <a:lnTo>
                      <a:pt x="99" y="2676"/>
                    </a:lnTo>
                    <a:lnTo>
                      <a:pt x="113" y="2732"/>
                    </a:lnTo>
                    <a:lnTo>
                      <a:pt x="127" y="2787"/>
                    </a:lnTo>
                    <a:lnTo>
                      <a:pt x="142" y="2842"/>
                    </a:lnTo>
                    <a:lnTo>
                      <a:pt x="158" y="2897"/>
                    </a:lnTo>
                    <a:lnTo>
                      <a:pt x="175" y="2951"/>
                    </a:lnTo>
                    <a:lnTo>
                      <a:pt x="193" y="3005"/>
                    </a:lnTo>
                    <a:lnTo>
                      <a:pt x="210" y="3059"/>
                    </a:lnTo>
                    <a:lnTo>
                      <a:pt x="230" y="3112"/>
                    </a:lnTo>
                    <a:lnTo>
                      <a:pt x="249" y="3166"/>
                    </a:lnTo>
                    <a:lnTo>
                      <a:pt x="270" y="3218"/>
                    </a:lnTo>
                    <a:lnTo>
                      <a:pt x="291" y="3271"/>
                    </a:lnTo>
                    <a:lnTo>
                      <a:pt x="314" y="3323"/>
                    </a:lnTo>
                    <a:lnTo>
                      <a:pt x="337" y="3374"/>
                    </a:lnTo>
                    <a:lnTo>
                      <a:pt x="359" y="3425"/>
                    </a:lnTo>
                    <a:lnTo>
                      <a:pt x="384" y="3475"/>
                    </a:lnTo>
                    <a:lnTo>
                      <a:pt x="409" y="3526"/>
                    </a:lnTo>
                    <a:lnTo>
                      <a:pt x="435" y="3576"/>
                    </a:lnTo>
                    <a:lnTo>
                      <a:pt x="444" y="3580"/>
                    </a:lnTo>
                    <a:lnTo>
                      <a:pt x="451" y="3585"/>
                    </a:lnTo>
                    <a:lnTo>
                      <a:pt x="460" y="3590"/>
                    </a:lnTo>
                    <a:lnTo>
                      <a:pt x="468" y="3594"/>
                    </a:lnTo>
                    <a:lnTo>
                      <a:pt x="477" y="3599"/>
                    </a:lnTo>
                    <a:lnTo>
                      <a:pt x="485" y="3604"/>
                    </a:lnTo>
                    <a:lnTo>
                      <a:pt x="493" y="3609"/>
                    </a:lnTo>
                    <a:lnTo>
                      <a:pt x="502" y="3614"/>
                    </a:lnTo>
                    <a:lnTo>
                      <a:pt x="475" y="3563"/>
                    </a:lnTo>
                    <a:lnTo>
                      <a:pt x="449" y="3512"/>
                    </a:lnTo>
                    <a:lnTo>
                      <a:pt x="423" y="3460"/>
                    </a:lnTo>
                    <a:lnTo>
                      <a:pt x="398" y="3408"/>
                    </a:lnTo>
                    <a:lnTo>
                      <a:pt x="373" y="3356"/>
                    </a:lnTo>
                    <a:lnTo>
                      <a:pt x="351" y="3304"/>
                    </a:lnTo>
                    <a:lnTo>
                      <a:pt x="328" y="3251"/>
                    </a:lnTo>
                    <a:lnTo>
                      <a:pt x="306" y="3197"/>
                    </a:lnTo>
                    <a:lnTo>
                      <a:pt x="285" y="3143"/>
                    </a:lnTo>
                    <a:lnTo>
                      <a:pt x="265" y="3089"/>
                    </a:lnTo>
                    <a:lnTo>
                      <a:pt x="246" y="3034"/>
                    </a:lnTo>
                    <a:lnTo>
                      <a:pt x="228" y="2978"/>
                    </a:lnTo>
                    <a:lnTo>
                      <a:pt x="209" y="2923"/>
                    </a:lnTo>
                    <a:lnTo>
                      <a:pt x="193" y="2867"/>
                    </a:lnTo>
                    <a:lnTo>
                      <a:pt x="177" y="2811"/>
                    </a:lnTo>
                    <a:lnTo>
                      <a:pt x="162" y="2754"/>
                    </a:lnTo>
                    <a:lnTo>
                      <a:pt x="148" y="2698"/>
                    </a:lnTo>
                    <a:lnTo>
                      <a:pt x="133" y="2640"/>
                    </a:lnTo>
                    <a:lnTo>
                      <a:pt x="122" y="2582"/>
                    </a:lnTo>
                    <a:lnTo>
                      <a:pt x="110" y="2525"/>
                    </a:lnTo>
                    <a:lnTo>
                      <a:pt x="99" y="2467"/>
                    </a:lnTo>
                    <a:lnTo>
                      <a:pt x="89" y="2407"/>
                    </a:lnTo>
                    <a:lnTo>
                      <a:pt x="79" y="2349"/>
                    </a:lnTo>
                    <a:lnTo>
                      <a:pt x="72" y="2289"/>
                    </a:lnTo>
                    <a:lnTo>
                      <a:pt x="64" y="2230"/>
                    </a:lnTo>
                    <a:lnTo>
                      <a:pt x="59" y="2171"/>
                    </a:lnTo>
                    <a:lnTo>
                      <a:pt x="54" y="2110"/>
                    </a:lnTo>
                    <a:lnTo>
                      <a:pt x="49" y="2050"/>
                    </a:lnTo>
                    <a:lnTo>
                      <a:pt x="46" y="1989"/>
                    </a:lnTo>
                    <a:lnTo>
                      <a:pt x="43" y="1929"/>
                    </a:lnTo>
                    <a:lnTo>
                      <a:pt x="42" y="1867"/>
                    </a:lnTo>
                    <a:lnTo>
                      <a:pt x="42" y="1807"/>
                    </a:lnTo>
                    <a:lnTo>
                      <a:pt x="42" y="1745"/>
                    </a:lnTo>
                    <a:lnTo>
                      <a:pt x="43" y="1685"/>
                    </a:lnTo>
                    <a:lnTo>
                      <a:pt x="46" y="1623"/>
                    </a:lnTo>
                    <a:lnTo>
                      <a:pt x="49" y="1563"/>
                    </a:lnTo>
                    <a:lnTo>
                      <a:pt x="54" y="1502"/>
                    </a:lnTo>
                    <a:lnTo>
                      <a:pt x="59" y="1443"/>
                    </a:lnTo>
                    <a:lnTo>
                      <a:pt x="64" y="1382"/>
                    </a:lnTo>
                    <a:lnTo>
                      <a:pt x="72" y="1323"/>
                    </a:lnTo>
                    <a:lnTo>
                      <a:pt x="79" y="1265"/>
                    </a:lnTo>
                    <a:lnTo>
                      <a:pt x="89" y="1205"/>
                    </a:lnTo>
                    <a:lnTo>
                      <a:pt x="99" y="1147"/>
                    </a:lnTo>
                    <a:lnTo>
                      <a:pt x="110" y="1088"/>
                    </a:lnTo>
                    <a:lnTo>
                      <a:pt x="122" y="1030"/>
                    </a:lnTo>
                    <a:lnTo>
                      <a:pt x="133" y="973"/>
                    </a:lnTo>
                    <a:lnTo>
                      <a:pt x="148" y="916"/>
                    </a:lnTo>
                    <a:lnTo>
                      <a:pt x="162" y="858"/>
                    </a:lnTo>
                    <a:lnTo>
                      <a:pt x="177" y="802"/>
                    </a:lnTo>
                    <a:lnTo>
                      <a:pt x="193" y="746"/>
                    </a:lnTo>
                    <a:lnTo>
                      <a:pt x="209" y="690"/>
                    </a:lnTo>
                    <a:lnTo>
                      <a:pt x="228" y="634"/>
                    </a:lnTo>
                    <a:lnTo>
                      <a:pt x="246" y="579"/>
                    </a:lnTo>
                    <a:lnTo>
                      <a:pt x="265" y="525"/>
                    </a:lnTo>
                    <a:lnTo>
                      <a:pt x="285" y="470"/>
                    </a:lnTo>
                    <a:lnTo>
                      <a:pt x="306" y="416"/>
                    </a:lnTo>
                    <a:lnTo>
                      <a:pt x="328" y="363"/>
                    </a:lnTo>
                    <a:lnTo>
                      <a:pt x="351" y="310"/>
                    </a:lnTo>
                    <a:lnTo>
                      <a:pt x="373" y="257"/>
                    </a:lnTo>
                    <a:lnTo>
                      <a:pt x="398" y="204"/>
                    </a:lnTo>
                    <a:lnTo>
                      <a:pt x="423" y="152"/>
                    </a:lnTo>
                    <a:lnTo>
                      <a:pt x="449" y="101"/>
                    </a:lnTo>
                    <a:lnTo>
                      <a:pt x="475" y="50"/>
                    </a:lnTo>
                    <a:lnTo>
                      <a:pt x="502" y="0"/>
                    </a:lnTo>
                    <a:lnTo>
                      <a:pt x="493" y="4"/>
                    </a:lnTo>
                    <a:lnTo>
                      <a:pt x="485" y="8"/>
                    </a:lnTo>
                    <a:lnTo>
                      <a:pt x="477" y="14"/>
                    </a:lnTo>
                    <a:lnTo>
                      <a:pt x="468" y="18"/>
                    </a:lnTo>
                    <a:lnTo>
                      <a:pt x="460" y="23"/>
                    </a:lnTo>
                    <a:lnTo>
                      <a:pt x="451" y="28"/>
                    </a:lnTo>
                    <a:lnTo>
                      <a:pt x="444" y="32"/>
                    </a:lnTo>
                    <a:lnTo>
                      <a:pt x="435" y="38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068640" y="2273400"/>
                <a:ext cx="3009960" cy="1447560"/>
              </a:xfrm>
              <a:custGeom>
                <a:avLst/>
                <a:gdLst/>
                <a:ahLst/>
                <a:rect l="l" t="t" r="r" b="b"/>
                <a:pathLst>
                  <a:path w="7584" h="3651">
                    <a:moveTo>
                      <a:pt x="7584" y="1826"/>
                    </a:moveTo>
                    <a:lnTo>
                      <a:pt x="7583" y="1765"/>
                    </a:lnTo>
                    <a:lnTo>
                      <a:pt x="7582" y="1705"/>
                    </a:lnTo>
                    <a:lnTo>
                      <a:pt x="7580" y="1644"/>
                    </a:lnTo>
                    <a:lnTo>
                      <a:pt x="7577" y="1585"/>
                    </a:lnTo>
                    <a:lnTo>
                      <a:pt x="7572" y="1525"/>
                    </a:lnTo>
                    <a:lnTo>
                      <a:pt x="7567" y="1466"/>
                    </a:lnTo>
                    <a:lnTo>
                      <a:pt x="7562" y="1407"/>
                    </a:lnTo>
                    <a:lnTo>
                      <a:pt x="7554" y="1348"/>
                    </a:lnTo>
                    <a:lnTo>
                      <a:pt x="7547" y="1290"/>
                    </a:lnTo>
                    <a:lnTo>
                      <a:pt x="7538" y="1232"/>
                    </a:lnTo>
                    <a:lnTo>
                      <a:pt x="7528" y="1173"/>
                    </a:lnTo>
                    <a:lnTo>
                      <a:pt x="7517" y="1116"/>
                    </a:lnTo>
                    <a:lnTo>
                      <a:pt x="7507" y="1059"/>
                    </a:lnTo>
                    <a:lnTo>
                      <a:pt x="7494" y="1002"/>
                    </a:lnTo>
                    <a:lnTo>
                      <a:pt x="7481" y="945"/>
                    </a:lnTo>
                    <a:lnTo>
                      <a:pt x="7468" y="888"/>
                    </a:lnTo>
                    <a:lnTo>
                      <a:pt x="7453" y="833"/>
                    </a:lnTo>
                    <a:lnTo>
                      <a:pt x="7437" y="777"/>
                    </a:lnTo>
                    <a:lnTo>
                      <a:pt x="7420" y="722"/>
                    </a:lnTo>
                    <a:lnTo>
                      <a:pt x="7404" y="667"/>
                    </a:lnTo>
                    <a:lnTo>
                      <a:pt x="7386" y="612"/>
                    </a:lnTo>
                    <a:lnTo>
                      <a:pt x="7366" y="558"/>
                    </a:lnTo>
                    <a:lnTo>
                      <a:pt x="7347" y="504"/>
                    </a:lnTo>
                    <a:lnTo>
                      <a:pt x="7326" y="451"/>
                    </a:lnTo>
                    <a:lnTo>
                      <a:pt x="7306" y="398"/>
                    </a:lnTo>
                    <a:lnTo>
                      <a:pt x="7284" y="345"/>
                    </a:lnTo>
                    <a:lnTo>
                      <a:pt x="7261" y="292"/>
                    </a:lnTo>
                    <a:lnTo>
                      <a:pt x="7237" y="240"/>
                    </a:lnTo>
                    <a:lnTo>
                      <a:pt x="7213" y="189"/>
                    </a:lnTo>
                    <a:lnTo>
                      <a:pt x="7188" y="139"/>
                    </a:lnTo>
                    <a:lnTo>
                      <a:pt x="7163" y="88"/>
                    </a:lnTo>
                    <a:lnTo>
                      <a:pt x="7136" y="37"/>
                    </a:lnTo>
                    <a:lnTo>
                      <a:pt x="7127" y="33"/>
                    </a:lnTo>
                    <a:lnTo>
                      <a:pt x="7120" y="29"/>
                    </a:lnTo>
                    <a:lnTo>
                      <a:pt x="7111" y="23"/>
                    </a:lnTo>
                    <a:lnTo>
                      <a:pt x="7102" y="19"/>
                    </a:lnTo>
                    <a:lnTo>
                      <a:pt x="7094" y="15"/>
                    </a:lnTo>
                    <a:lnTo>
                      <a:pt x="7085" y="9"/>
                    </a:lnTo>
                    <a:lnTo>
                      <a:pt x="7076" y="5"/>
                    </a:lnTo>
                    <a:lnTo>
                      <a:pt x="7068" y="0"/>
                    </a:lnTo>
                    <a:lnTo>
                      <a:pt x="7096" y="51"/>
                    </a:lnTo>
                    <a:lnTo>
                      <a:pt x="7123" y="102"/>
                    </a:lnTo>
                    <a:lnTo>
                      <a:pt x="7150" y="154"/>
                    </a:lnTo>
                    <a:lnTo>
                      <a:pt x="7175" y="207"/>
                    </a:lnTo>
                    <a:lnTo>
                      <a:pt x="7200" y="259"/>
                    </a:lnTo>
                    <a:lnTo>
                      <a:pt x="7223" y="313"/>
                    </a:lnTo>
                    <a:lnTo>
                      <a:pt x="7247" y="366"/>
                    </a:lnTo>
                    <a:lnTo>
                      <a:pt x="7270" y="420"/>
                    </a:lnTo>
                    <a:lnTo>
                      <a:pt x="7292" y="475"/>
                    </a:lnTo>
                    <a:lnTo>
                      <a:pt x="7312" y="530"/>
                    </a:lnTo>
                    <a:lnTo>
                      <a:pt x="7331" y="585"/>
                    </a:lnTo>
                    <a:lnTo>
                      <a:pt x="7351" y="640"/>
                    </a:lnTo>
                    <a:lnTo>
                      <a:pt x="7369" y="696"/>
                    </a:lnTo>
                    <a:lnTo>
                      <a:pt x="7387" y="753"/>
                    </a:lnTo>
                    <a:lnTo>
                      <a:pt x="7403" y="809"/>
                    </a:lnTo>
                    <a:lnTo>
                      <a:pt x="7418" y="867"/>
                    </a:lnTo>
                    <a:lnTo>
                      <a:pt x="7433" y="924"/>
                    </a:lnTo>
                    <a:lnTo>
                      <a:pt x="7447" y="982"/>
                    </a:lnTo>
                    <a:lnTo>
                      <a:pt x="7460" y="1041"/>
                    </a:lnTo>
                    <a:lnTo>
                      <a:pt x="7472" y="1099"/>
                    </a:lnTo>
                    <a:lnTo>
                      <a:pt x="7483" y="1158"/>
                    </a:lnTo>
                    <a:lnTo>
                      <a:pt x="7494" y="1218"/>
                    </a:lnTo>
                    <a:lnTo>
                      <a:pt x="7502" y="1277"/>
                    </a:lnTo>
                    <a:lnTo>
                      <a:pt x="7511" y="1336"/>
                    </a:lnTo>
                    <a:lnTo>
                      <a:pt x="7518" y="1397"/>
                    </a:lnTo>
                    <a:lnTo>
                      <a:pt x="7525" y="1457"/>
                    </a:lnTo>
                    <a:lnTo>
                      <a:pt x="7530" y="1518"/>
                    </a:lnTo>
                    <a:lnTo>
                      <a:pt x="7535" y="1578"/>
                    </a:lnTo>
                    <a:lnTo>
                      <a:pt x="7538" y="1640"/>
                    </a:lnTo>
                    <a:lnTo>
                      <a:pt x="7540" y="1701"/>
                    </a:lnTo>
                    <a:lnTo>
                      <a:pt x="7542" y="1763"/>
                    </a:lnTo>
                    <a:lnTo>
                      <a:pt x="7542" y="1826"/>
                    </a:lnTo>
                    <a:lnTo>
                      <a:pt x="7542" y="1888"/>
                    </a:lnTo>
                    <a:lnTo>
                      <a:pt x="7540" y="1951"/>
                    </a:lnTo>
                    <a:lnTo>
                      <a:pt x="7538" y="2014"/>
                    </a:lnTo>
                    <a:lnTo>
                      <a:pt x="7534" y="2076"/>
                    </a:lnTo>
                    <a:lnTo>
                      <a:pt x="7529" y="2138"/>
                    </a:lnTo>
                    <a:lnTo>
                      <a:pt x="7524" y="2200"/>
                    </a:lnTo>
                    <a:lnTo>
                      <a:pt x="7517" y="2261"/>
                    </a:lnTo>
                    <a:lnTo>
                      <a:pt x="7510" y="2322"/>
                    </a:lnTo>
                    <a:lnTo>
                      <a:pt x="7501" y="2383"/>
                    </a:lnTo>
                    <a:lnTo>
                      <a:pt x="7491" y="2443"/>
                    </a:lnTo>
                    <a:lnTo>
                      <a:pt x="7481" y="2504"/>
                    </a:lnTo>
                    <a:lnTo>
                      <a:pt x="7470" y="2564"/>
                    </a:lnTo>
                    <a:lnTo>
                      <a:pt x="7457" y="2624"/>
                    </a:lnTo>
                    <a:lnTo>
                      <a:pt x="7444" y="2682"/>
                    </a:lnTo>
                    <a:lnTo>
                      <a:pt x="7429" y="2742"/>
                    </a:lnTo>
                    <a:lnTo>
                      <a:pt x="7414" y="2800"/>
                    </a:lnTo>
                    <a:lnTo>
                      <a:pt x="7455" y="2811"/>
                    </a:lnTo>
                    <a:lnTo>
                      <a:pt x="7470" y="2751"/>
                    </a:lnTo>
                    <a:lnTo>
                      <a:pt x="7484" y="2692"/>
                    </a:lnTo>
                    <a:lnTo>
                      <a:pt x="7498" y="2632"/>
                    </a:lnTo>
                    <a:lnTo>
                      <a:pt x="7510" y="2572"/>
                    </a:lnTo>
                    <a:lnTo>
                      <a:pt x="7522" y="2511"/>
                    </a:lnTo>
                    <a:lnTo>
                      <a:pt x="7532" y="2451"/>
                    </a:lnTo>
                    <a:lnTo>
                      <a:pt x="7542" y="2389"/>
                    </a:lnTo>
                    <a:lnTo>
                      <a:pt x="7551" y="2328"/>
                    </a:lnTo>
                    <a:lnTo>
                      <a:pt x="7558" y="2266"/>
                    </a:lnTo>
                    <a:lnTo>
                      <a:pt x="7565" y="2204"/>
                    </a:lnTo>
                    <a:lnTo>
                      <a:pt x="7571" y="2142"/>
                    </a:lnTo>
                    <a:lnTo>
                      <a:pt x="7576" y="2079"/>
                    </a:lnTo>
                    <a:lnTo>
                      <a:pt x="7579" y="2016"/>
                    </a:lnTo>
                    <a:lnTo>
                      <a:pt x="7582" y="1953"/>
                    </a:lnTo>
                    <a:lnTo>
                      <a:pt x="7583" y="1889"/>
                    </a:lnTo>
                    <a:lnTo>
                      <a:pt x="7584" y="1826"/>
                    </a:lnTo>
                    <a:close/>
                    <a:moveTo>
                      <a:pt x="448" y="37"/>
                    </a:moveTo>
                    <a:lnTo>
                      <a:pt x="421" y="88"/>
                    </a:lnTo>
                    <a:lnTo>
                      <a:pt x="397" y="139"/>
                    </a:lnTo>
                    <a:lnTo>
                      <a:pt x="371" y="189"/>
                    </a:lnTo>
                    <a:lnTo>
                      <a:pt x="347" y="240"/>
                    </a:lnTo>
                    <a:lnTo>
                      <a:pt x="323" y="292"/>
                    </a:lnTo>
                    <a:lnTo>
                      <a:pt x="300" y="345"/>
                    </a:lnTo>
                    <a:lnTo>
                      <a:pt x="279" y="398"/>
                    </a:lnTo>
                    <a:lnTo>
                      <a:pt x="257" y="451"/>
                    </a:lnTo>
                    <a:lnTo>
                      <a:pt x="238" y="504"/>
                    </a:lnTo>
                    <a:lnTo>
                      <a:pt x="217" y="558"/>
                    </a:lnTo>
                    <a:lnTo>
                      <a:pt x="199" y="612"/>
                    </a:lnTo>
                    <a:lnTo>
                      <a:pt x="180" y="667"/>
                    </a:lnTo>
                    <a:lnTo>
                      <a:pt x="164" y="722"/>
                    </a:lnTo>
                    <a:lnTo>
                      <a:pt x="147" y="777"/>
                    </a:lnTo>
                    <a:lnTo>
                      <a:pt x="132" y="833"/>
                    </a:lnTo>
                    <a:lnTo>
                      <a:pt x="117" y="888"/>
                    </a:lnTo>
                    <a:lnTo>
                      <a:pt x="104" y="945"/>
                    </a:lnTo>
                    <a:lnTo>
                      <a:pt x="90" y="1002"/>
                    </a:lnTo>
                    <a:lnTo>
                      <a:pt x="78" y="1059"/>
                    </a:lnTo>
                    <a:lnTo>
                      <a:pt x="67" y="1116"/>
                    </a:lnTo>
                    <a:lnTo>
                      <a:pt x="56" y="1173"/>
                    </a:lnTo>
                    <a:lnTo>
                      <a:pt x="47" y="1232"/>
                    </a:lnTo>
                    <a:lnTo>
                      <a:pt x="38" y="1290"/>
                    </a:lnTo>
                    <a:lnTo>
                      <a:pt x="30" y="1348"/>
                    </a:lnTo>
                    <a:lnTo>
                      <a:pt x="23" y="1407"/>
                    </a:lnTo>
                    <a:lnTo>
                      <a:pt x="17" y="1466"/>
                    </a:lnTo>
                    <a:lnTo>
                      <a:pt x="12" y="1525"/>
                    </a:lnTo>
                    <a:lnTo>
                      <a:pt x="8" y="1585"/>
                    </a:lnTo>
                    <a:lnTo>
                      <a:pt x="4" y="1644"/>
                    </a:lnTo>
                    <a:lnTo>
                      <a:pt x="2" y="1705"/>
                    </a:lnTo>
                    <a:lnTo>
                      <a:pt x="1" y="1765"/>
                    </a:lnTo>
                    <a:lnTo>
                      <a:pt x="0" y="1826"/>
                    </a:lnTo>
                    <a:lnTo>
                      <a:pt x="1" y="1886"/>
                    </a:lnTo>
                    <a:lnTo>
                      <a:pt x="2" y="1947"/>
                    </a:lnTo>
                    <a:lnTo>
                      <a:pt x="4" y="2006"/>
                    </a:lnTo>
                    <a:lnTo>
                      <a:pt x="8" y="2067"/>
                    </a:lnTo>
                    <a:lnTo>
                      <a:pt x="12" y="2126"/>
                    </a:lnTo>
                    <a:lnTo>
                      <a:pt x="17" y="2185"/>
                    </a:lnTo>
                    <a:lnTo>
                      <a:pt x="23" y="2244"/>
                    </a:lnTo>
                    <a:lnTo>
                      <a:pt x="30" y="2303"/>
                    </a:lnTo>
                    <a:lnTo>
                      <a:pt x="38" y="2361"/>
                    </a:lnTo>
                    <a:lnTo>
                      <a:pt x="47" y="2420"/>
                    </a:lnTo>
                    <a:lnTo>
                      <a:pt x="56" y="2477"/>
                    </a:lnTo>
                    <a:lnTo>
                      <a:pt x="67" y="2535"/>
                    </a:lnTo>
                    <a:lnTo>
                      <a:pt x="78" y="2592"/>
                    </a:lnTo>
                    <a:lnTo>
                      <a:pt x="90" y="2649"/>
                    </a:lnTo>
                    <a:lnTo>
                      <a:pt x="104" y="2706"/>
                    </a:lnTo>
                    <a:lnTo>
                      <a:pt x="117" y="2762"/>
                    </a:lnTo>
                    <a:lnTo>
                      <a:pt x="132" y="2818"/>
                    </a:lnTo>
                    <a:lnTo>
                      <a:pt x="147" y="2873"/>
                    </a:lnTo>
                    <a:lnTo>
                      <a:pt x="164" y="2929"/>
                    </a:lnTo>
                    <a:lnTo>
                      <a:pt x="180" y="2985"/>
                    </a:lnTo>
                    <a:lnTo>
                      <a:pt x="199" y="3039"/>
                    </a:lnTo>
                    <a:lnTo>
                      <a:pt x="217" y="3093"/>
                    </a:lnTo>
                    <a:lnTo>
                      <a:pt x="238" y="3147"/>
                    </a:lnTo>
                    <a:lnTo>
                      <a:pt x="257" y="3201"/>
                    </a:lnTo>
                    <a:lnTo>
                      <a:pt x="279" y="3253"/>
                    </a:lnTo>
                    <a:lnTo>
                      <a:pt x="300" y="3306"/>
                    </a:lnTo>
                    <a:lnTo>
                      <a:pt x="323" y="3358"/>
                    </a:lnTo>
                    <a:lnTo>
                      <a:pt x="347" y="3410"/>
                    </a:lnTo>
                    <a:lnTo>
                      <a:pt x="371" y="3462"/>
                    </a:lnTo>
                    <a:lnTo>
                      <a:pt x="397" y="3513"/>
                    </a:lnTo>
                    <a:lnTo>
                      <a:pt x="421" y="3563"/>
                    </a:lnTo>
                    <a:lnTo>
                      <a:pt x="448" y="3613"/>
                    </a:lnTo>
                    <a:lnTo>
                      <a:pt x="457" y="3618"/>
                    </a:lnTo>
                    <a:lnTo>
                      <a:pt x="465" y="3623"/>
                    </a:lnTo>
                    <a:lnTo>
                      <a:pt x="473" y="3627"/>
                    </a:lnTo>
                    <a:lnTo>
                      <a:pt x="482" y="3633"/>
                    </a:lnTo>
                    <a:lnTo>
                      <a:pt x="491" y="3637"/>
                    </a:lnTo>
                    <a:lnTo>
                      <a:pt x="499" y="3641"/>
                    </a:lnTo>
                    <a:lnTo>
                      <a:pt x="508" y="3647"/>
                    </a:lnTo>
                    <a:lnTo>
                      <a:pt x="517" y="3651"/>
                    </a:lnTo>
                    <a:lnTo>
                      <a:pt x="488" y="3600"/>
                    </a:lnTo>
                    <a:lnTo>
                      <a:pt x="461" y="3548"/>
                    </a:lnTo>
                    <a:lnTo>
                      <a:pt x="434" y="3496"/>
                    </a:lnTo>
                    <a:lnTo>
                      <a:pt x="410" y="3445"/>
                    </a:lnTo>
                    <a:lnTo>
                      <a:pt x="385" y="3392"/>
                    </a:lnTo>
                    <a:lnTo>
                      <a:pt x="361" y="3339"/>
                    </a:lnTo>
                    <a:lnTo>
                      <a:pt x="337" y="3285"/>
                    </a:lnTo>
                    <a:lnTo>
                      <a:pt x="314" y="3231"/>
                    </a:lnTo>
                    <a:lnTo>
                      <a:pt x="293" y="3177"/>
                    </a:lnTo>
                    <a:lnTo>
                      <a:pt x="272" y="3122"/>
                    </a:lnTo>
                    <a:lnTo>
                      <a:pt x="253" y="3067"/>
                    </a:lnTo>
                    <a:lnTo>
                      <a:pt x="233" y="3010"/>
                    </a:lnTo>
                    <a:lnTo>
                      <a:pt x="215" y="2954"/>
                    </a:lnTo>
                    <a:lnTo>
                      <a:pt x="198" y="2898"/>
                    </a:lnTo>
                    <a:lnTo>
                      <a:pt x="182" y="2841"/>
                    </a:lnTo>
                    <a:lnTo>
                      <a:pt x="166" y="2784"/>
                    </a:lnTo>
                    <a:lnTo>
                      <a:pt x="151" y="2726"/>
                    </a:lnTo>
                    <a:lnTo>
                      <a:pt x="137" y="2668"/>
                    </a:lnTo>
                    <a:lnTo>
                      <a:pt x="124" y="2611"/>
                    </a:lnTo>
                    <a:lnTo>
                      <a:pt x="112" y="2551"/>
                    </a:lnTo>
                    <a:lnTo>
                      <a:pt x="102" y="2493"/>
                    </a:lnTo>
                    <a:lnTo>
                      <a:pt x="91" y="2434"/>
                    </a:lnTo>
                    <a:lnTo>
                      <a:pt x="82" y="2374"/>
                    </a:lnTo>
                    <a:lnTo>
                      <a:pt x="74" y="2314"/>
                    </a:lnTo>
                    <a:lnTo>
                      <a:pt x="66" y="2254"/>
                    </a:lnTo>
                    <a:lnTo>
                      <a:pt x="59" y="2194"/>
                    </a:lnTo>
                    <a:lnTo>
                      <a:pt x="54" y="2133"/>
                    </a:lnTo>
                    <a:lnTo>
                      <a:pt x="50" y="2072"/>
                    </a:lnTo>
                    <a:lnTo>
                      <a:pt x="47" y="2010"/>
                    </a:lnTo>
                    <a:lnTo>
                      <a:pt x="44" y="1949"/>
                    </a:lnTo>
                    <a:lnTo>
                      <a:pt x="42" y="1887"/>
                    </a:lnTo>
                    <a:lnTo>
                      <a:pt x="42" y="1826"/>
                    </a:lnTo>
                    <a:lnTo>
                      <a:pt x="42" y="1763"/>
                    </a:lnTo>
                    <a:lnTo>
                      <a:pt x="44" y="1701"/>
                    </a:lnTo>
                    <a:lnTo>
                      <a:pt x="47" y="1640"/>
                    </a:lnTo>
                    <a:lnTo>
                      <a:pt x="50" y="1578"/>
                    </a:lnTo>
                    <a:lnTo>
                      <a:pt x="54" y="1518"/>
                    </a:lnTo>
                    <a:lnTo>
                      <a:pt x="59" y="1457"/>
                    </a:lnTo>
                    <a:lnTo>
                      <a:pt x="66" y="1397"/>
                    </a:lnTo>
                    <a:lnTo>
                      <a:pt x="74" y="1336"/>
                    </a:lnTo>
                    <a:lnTo>
                      <a:pt x="82" y="1277"/>
                    </a:lnTo>
                    <a:lnTo>
                      <a:pt x="91" y="1218"/>
                    </a:lnTo>
                    <a:lnTo>
                      <a:pt x="102" y="1158"/>
                    </a:lnTo>
                    <a:lnTo>
                      <a:pt x="112" y="1099"/>
                    </a:lnTo>
                    <a:lnTo>
                      <a:pt x="124" y="1041"/>
                    </a:lnTo>
                    <a:lnTo>
                      <a:pt x="137" y="982"/>
                    </a:lnTo>
                    <a:lnTo>
                      <a:pt x="151" y="924"/>
                    </a:lnTo>
                    <a:lnTo>
                      <a:pt x="166" y="867"/>
                    </a:lnTo>
                    <a:lnTo>
                      <a:pt x="182" y="809"/>
                    </a:lnTo>
                    <a:lnTo>
                      <a:pt x="198" y="753"/>
                    </a:lnTo>
                    <a:lnTo>
                      <a:pt x="215" y="696"/>
                    </a:lnTo>
                    <a:lnTo>
                      <a:pt x="233" y="640"/>
                    </a:lnTo>
                    <a:lnTo>
                      <a:pt x="253" y="585"/>
                    </a:lnTo>
                    <a:lnTo>
                      <a:pt x="272" y="530"/>
                    </a:lnTo>
                    <a:lnTo>
                      <a:pt x="293" y="475"/>
                    </a:lnTo>
                    <a:lnTo>
                      <a:pt x="314" y="420"/>
                    </a:lnTo>
                    <a:lnTo>
                      <a:pt x="337" y="366"/>
                    </a:lnTo>
                    <a:lnTo>
                      <a:pt x="361" y="313"/>
                    </a:lnTo>
                    <a:lnTo>
                      <a:pt x="385" y="259"/>
                    </a:lnTo>
                    <a:lnTo>
                      <a:pt x="410" y="207"/>
                    </a:lnTo>
                    <a:lnTo>
                      <a:pt x="434" y="154"/>
                    </a:lnTo>
                    <a:lnTo>
                      <a:pt x="461" y="102"/>
                    </a:lnTo>
                    <a:lnTo>
                      <a:pt x="488" y="51"/>
                    </a:lnTo>
                    <a:lnTo>
                      <a:pt x="517" y="0"/>
                    </a:lnTo>
                    <a:lnTo>
                      <a:pt x="508" y="5"/>
                    </a:lnTo>
                    <a:lnTo>
                      <a:pt x="499" y="9"/>
                    </a:lnTo>
                    <a:lnTo>
                      <a:pt x="491" y="13"/>
                    </a:lnTo>
                    <a:lnTo>
                      <a:pt x="482" y="19"/>
                    </a:lnTo>
                    <a:lnTo>
                      <a:pt x="473" y="23"/>
                    </a:lnTo>
                    <a:lnTo>
                      <a:pt x="465" y="29"/>
                    </a:lnTo>
                    <a:lnTo>
                      <a:pt x="457" y="33"/>
                    </a:lnTo>
                    <a:lnTo>
                      <a:pt x="448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078000" y="2265480"/>
                <a:ext cx="2992680" cy="1463400"/>
              </a:xfrm>
              <a:custGeom>
                <a:avLst/>
                <a:gdLst/>
                <a:ahLst/>
                <a:rect l="l" t="t" r="r" b="b"/>
                <a:pathLst>
                  <a:path w="7541" h="3687">
                    <a:moveTo>
                      <a:pt x="7541" y="1844"/>
                    </a:moveTo>
                    <a:lnTo>
                      <a:pt x="7541" y="1782"/>
                    </a:lnTo>
                    <a:lnTo>
                      <a:pt x="7540" y="1722"/>
                    </a:lnTo>
                    <a:lnTo>
                      <a:pt x="7536" y="1660"/>
                    </a:lnTo>
                    <a:lnTo>
                      <a:pt x="7533" y="1600"/>
                    </a:lnTo>
                    <a:lnTo>
                      <a:pt x="7529" y="1539"/>
                    </a:lnTo>
                    <a:lnTo>
                      <a:pt x="7523" y="1480"/>
                    </a:lnTo>
                    <a:lnTo>
                      <a:pt x="7518" y="1419"/>
                    </a:lnTo>
                    <a:lnTo>
                      <a:pt x="7510" y="1360"/>
                    </a:lnTo>
                    <a:lnTo>
                      <a:pt x="7503" y="1302"/>
                    </a:lnTo>
                    <a:lnTo>
                      <a:pt x="7493" y="1242"/>
                    </a:lnTo>
                    <a:lnTo>
                      <a:pt x="7483" y="1184"/>
                    </a:lnTo>
                    <a:lnTo>
                      <a:pt x="7473" y="1125"/>
                    </a:lnTo>
                    <a:lnTo>
                      <a:pt x="7461" y="1067"/>
                    </a:lnTo>
                    <a:lnTo>
                      <a:pt x="7449" y="1010"/>
                    </a:lnTo>
                    <a:lnTo>
                      <a:pt x="7435" y="953"/>
                    </a:lnTo>
                    <a:lnTo>
                      <a:pt x="7421" y="895"/>
                    </a:lnTo>
                    <a:lnTo>
                      <a:pt x="7406" y="839"/>
                    </a:lnTo>
                    <a:lnTo>
                      <a:pt x="7389" y="783"/>
                    </a:lnTo>
                    <a:lnTo>
                      <a:pt x="7373" y="727"/>
                    </a:lnTo>
                    <a:lnTo>
                      <a:pt x="7355" y="671"/>
                    </a:lnTo>
                    <a:lnTo>
                      <a:pt x="7336" y="616"/>
                    </a:lnTo>
                    <a:lnTo>
                      <a:pt x="7317" y="562"/>
                    </a:lnTo>
                    <a:lnTo>
                      <a:pt x="7298" y="507"/>
                    </a:lnTo>
                    <a:lnTo>
                      <a:pt x="7276" y="453"/>
                    </a:lnTo>
                    <a:lnTo>
                      <a:pt x="7254" y="400"/>
                    </a:lnTo>
                    <a:lnTo>
                      <a:pt x="7232" y="347"/>
                    </a:lnTo>
                    <a:lnTo>
                      <a:pt x="7208" y="294"/>
                    </a:lnTo>
                    <a:lnTo>
                      <a:pt x="7184" y="241"/>
                    </a:lnTo>
                    <a:lnTo>
                      <a:pt x="7159" y="189"/>
                    </a:lnTo>
                    <a:lnTo>
                      <a:pt x="7133" y="138"/>
                    </a:lnTo>
                    <a:lnTo>
                      <a:pt x="7107" y="87"/>
                    </a:lnTo>
                    <a:lnTo>
                      <a:pt x="7080" y="37"/>
                    </a:lnTo>
                    <a:lnTo>
                      <a:pt x="7072" y="31"/>
                    </a:lnTo>
                    <a:lnTo>
                      <a:pt x="7063" y="27"/>
                    </a:lnTo>
                    <a:lnTo>
                      <a:pt x="7054" y="23"/>
                    </a:lnTo>
                    <a:lnTo>
                      <a:pt x="7046" y="18"/>
                    </a:lnTo>
                    <a:lnTo>
                      <a:pt x="7037" y="13"/>
                    </a:lnTo>
                    <a:lnTo>
                      <a:pt x="7030" y="9"/>
                    </a:lnTo>
                    <a:lnTo>
                      <a:pt x="7021" y="4"/>
                    </a:lnTo>
                    <a:lnTo>
                      <a:pt x="7012" y="0"/>
                    </a:lnTo>
                    <a:lnTo>
                      <a:pt x="7040" y="51"/>
                    </a:lnTo>
                    <a:lnTo>
                      <a:pt x="7069" y="103"/>
                    </a:lnTo>
                    <a:lnTo>
                      <a:pt x="7096" y="155"/>
                    </a:lnTo>
                    <a:lnTo>
                      <a:pt x="7121" y="207"/>
                    </a:lnTo>
                    <a:lnTo>
                      <a:pt x="7147" y="260"/>
                    </a:lnTo>
                    <a:lnTo>
                      <a:pt x="7172" y="314"/>
                    </a:lnTo>
                    <a:lnTo>
                      <a:pt x="7196" y="368"/>
                    </a:lnTo>
                    <a:lnTo>
                      <a:pt x="7219" y="423"/>
                    </a:lnTo>
                    <a:lnTo>
                      <a:pt x="7241" y="477"/>
                    </a:lnTo>
                    <a:lnTo>
                      <a:pt x="7262" y="534"/>
                    </a:lnTo>
                    <a:lnTo>
                      <a:pt x="7282" y="589"/>
                    </a:lnTo>
                    <a:lnTo>
                      <a:pt x="7303" y="645"/>
                    </a:lnTo>
                    <a:lnTo>
                      <a:pt x="7321" y="702"/>
                    </a:lnTo>
                    <a:lnTo>
                      <a:pt x="7339" y="759"/>
                    </a:lnTo>
                    <a:lnTo>
                      <a:pt x="7356" y="817"/>
                    </a:lnTo>
                    <a:lnTo>
                      <a:pt x="7372" y="874"/>
                    </a:lnTo>
                    <a:lnTo>
                      <a:pt x="7387" y="932"/>
                    </a:lnTo>
                    <a:lnTo>
                      <a:pt x="7401" y="990"/>
                    </a:lnTo>
                    <a:lnTo>
                      <a:pt x="7414" y="1050"/>
                    </a:lnTo>
                    <a:lnTo>
                      <a:pt x="7427" y="1109"/>
                    </a:lnTo>
                    <a:lnTo>
                      <a:pt x="7438" y="1169"/>
                    </a:lnTo>
                    <a:lnTo>
                      <a:pt x="7449" y="1228"/>
                    </a:lnTo>
                    <a:lnTo>
                      <a:pt x="7459" y="1289"/>
                    </a:lnTo>
                    <a:lnTo>
                      <a:pt x="7467" y="1349"/>
                    </a:lnTo>
                    <a:lnTo>
                      <a:pt x="7475" y="1410"/>
                    </a:lnTo>
                    <a:lnTo>
                      <a:pt x="7481" y="1471"/>
                    </a:lnTo>
                    <a:lnTo>
                      <a:pt x="7487" y="1533"/>
                    </a:lnTo>
                    <a:lnTo>
                      <a:pt x="7491" y="1594"/>
                    </a:lnTo>
                    <a:lnTo>
                      <a:pt x="7495" y="1656"/>
                    </a:lnTo>
                    <a:lnTo>
                      <a:pt x="7497" y="1718"/>
                    </a:lnTo>
                    <a:lnTo>
                      <a:pt x="7499" y="1781"/>
                    </a:lnTo>
                    <a:lnTo>
                      <a:pt x="7500" y="1844"/>
                    </a:lnTo>
                    <a:lnTo>
                      <a:pt x="7499" y="1906"/>
                    </a:lnTo>
                    <a:lnTo>
                      <a:pt x="7497" y="1969"/>
                    </a:lnTo>
                    <a:lnTo>
                      <a:pt x="7495" y="2031"/>
                    </a:lnTo>
                    <a:lnTo>
                      <a:pt x="7491" y="2093"/>
                    </a:lnTo>
                    <a:lnTo>
                      <a:pt x="7487" y="2155"/>
                    </a:lnTo>
                    <a:lnTo>
                      <a:pt x="7481" y="2216"/>
                    </a:lnTo>
                    <a:lnTo>
                      <a:pt x="7475" y="2277"/>
                    </a:lnTo>
                    <a:lnTo>
                      <a:pt x="7467" y="2337"/>
                    </a:lnTo>
                    <a:lnTo>
                      <a:pt x="7459" y="2398"/>
                    </a:lnTo>
                    <a:lnTo>
                      <a:pt x="7449" y="2458"/>
                    </a:lnTo>
                    <a:lnTo>
                      <a:pt x="7438" y="2519"/>
                    </a:lnTo>
                    <a:lnTo>
                      <a:pt x="7427" y="2578"/>
                    </a:lnTo>
                    <a:lnTo>
                      <a:pt x="7414" y="2637"/>
                    </a:lnTo>
                    <a:lnTo>
                      <a:pt x="7401" y="2696"/>
                    </a:lnTo>
                    <a:lnTo>
                      <a:pt x="7387" y="2754"/>
                    </a:lnTo>
                    <a:lnTo>
                      <a:pt x="7372" y="2812"/>
                    </a:lnTo>
                    <a:lnTo>
                      <a:pt x="7412" y="2823"/>
                    </a:lnTo>
                    <a:lnTo>
                      <a:pt x="7427" y="2765"/>
                    </a:lnTo>
                    <a:lnTo>
                      <a:pt x="7441" y="2706"/>
                    </a:lnTo>
                    <a:lnTo>
                      <a:pt x="7455" y="2646"/>
                    </a:lnTo>
                    <a:lnTo>
                      <a:pt x="7467" y="2586"/>
                    </a:lnTo>
                    <a:lnTo>
                      <a:pt x="7479" y="2526"/>
                    </a:lnTo>
                    <a:lnTo>
                      <a:pt x="7490" y="2466"/>
                    </a:lnTo>
                    <a:lnTo>
                      <a:pt x="7500" y="2404"/>
                    </a:lnTo>
                    <a:lnTo>
                      <a:pt x="7508" y="2344"/>
                    </a:lnTo>
                    <a:lnTo>
                      <a:pt x="7516" y="2282"/>
                    </a:lnTo>
                    <a:lnTo>
                      <a:pt x="7522" y="2220"/>
                    </a:lnTo>
                    <a:lnTo>
                      <a:pt x="7528" y="2158"/>
                    </a:lnTo>
                    <a:lnTo>
                      <a:pt x="7533" y="2095"/>
                    </a:lnTo>
                    <a:lnTo>
                      <a:pt x="7536" y="2033"/>
                    </a:lnTo>
                    <a:lnTo>
                      <a:pt x="7539" y="1970"/>
                    </a:lnTo>
                    <a:lnTo>
                      <a:pt x="7541" y="1906"/>
                    </a:lnTo>
                    <a:lnTo>
                      <a:pt x="7541" y="1844"/>
                    </a:lnTo>
                    <a:close/>
                    <a:moveTo>
                      <a:pt x="460" y="37"/>
                    </a:moveTo>
                    <a:lnTo>
                      <a:pt x="433" y="87"/>
                    </a:lnTo>
                    <a:lnTo>
                      <a:pt x="407" y="138"/>
                    </a:lnTo>
                    <a:lnTo>
                      <a:pt x="381" y="189"/>
                    </a:lnTo>
                    <a:lnTo>
                      <a:pt x="356" y="241"/>
                    </a:lnTo>
                    <a:lnTo>
                      <a:pt x="331" y="294"/>
                    </a:lnTo>
                    <a:lnTo>
                      <a:pt x="309" y="347"/>
                    </a:lnTo>
                    <a:lnTo>
                      <a:pt x="286" y="400"/>
                    </a:lnTo>
                    <a:lnTo>
                      <a:pt x="264" y="453"/>
                    </a:lnTo>
                    <a:lnTo>
                      <a:pt x="243" y="507"/>
                    </a:lnTo>
                    <a:lnTo>
                      <a:pt x="223" y="562"/>
                    </a:lnTo>
                    <a:lnTo>
                      <a:pt x="204" y="616"/>
                    </a:lnTo>
                    <a:lnTo>
                      <a:pt x="186" y="671"/>
                    </a:lnTo>
                    <a:lnTo>
                      <a:pt x="167" y="727"/>
                    </a:lnTo>
                    <a:lnTo>
                      <a:pt x="151" y="783"/>
                    </a:lnTo>
                    <a:lnTo>
                      <a:pt x="135" y="839"/>
                    </a:lnTo>
                    <a:lnTo>
                      <a:pt x="120" y="895"/>
                    </a:lnTo>
                    <a:lnTo>
                      <a:pt x="106" y="953"/>
                    </a:lnTo>
                    <a:lnTo>
                      <a:pt x="91" y="1010"/>
                    </a:lnTo>
                    <a:lnTo>
                      <a:pt x="80" y="1067"/>
                    </a:lnTo>
                    <a:lnTo>
                      <a:pt x="68" y="1125"/>
                    </a:lnTo>
                    <a:lnTo>
                      <a:pt x="57" y="1184"/>
                    </a:lnTo>
                    <a:lnTo>
                      <a:pt x="47" y="1242"/>
                    </a:lnTo>
                    <a:lnTo>
                      <a:pt x="37" y="1302"/>
                    </a:lnTo>
                    <a:lnTo>
                      <a:pt x="30" y="1360"/>
                    </a:lnTo>
                    <a:lnTo>
                      <a:pt x="22" y="1419"/>
                    </a:lnTo>
                    <a:lnTo>
                      <a:pt x="17" y="1480"/>
                    </a:lnTo>
                    <a:lnTo>
                      <a:pt x="12" y="1539"/>
                    </a:lnTo>
                    <a:lnTo>
                      <a:pt x="7" y="1600"/>
                    </a:lnTo>
                    <a:lnTo>
                      <a:pt x="4" y="1660"/>
                    </a:lnTo>
                    <a:lnTo>
                      <a:pt x="1" y="1722"/>
                    </a:lnTo>
                    <a:lnTo>
                      <a:pt x="0" y="1782"/>
                    </a:lnTo>
                    <a:lnTo>
                      <a:pt x="0" y="1844"/>
                    </a:lnTo>
                    <a:lnTo>
                      <a:pt x="0" y="1904"/>
                    </a:lnTo>
                    <a:lnTo>
                      <a:pt x="1" y="1966"/>
                    </a:lnTo>
                    <a:lnTo>
                      <a:pt x="4" y="2026"/>
                    </a:lnTo>
                    <a:lnTo>
                      <a:pt x="7" y="2087"/>
                    </a:lnTo>
                    <a:lnTo>
                      <a:pt x="12" y="2147"/>
                    </a:lnTo>
                    <a:lnTo>
                      <a:pt x="17" y="2208"/>
                    </a:lnTo>
                    <a:lnTo>
                      <a:pt x="22" y="2267"/>
                    </a:lnTo>
                    <a:lnTo>
                      <a:pt x="30" y="2326"/>
                    </a:lnTo>
                    <a:lnTo>
                      <a:pt x="37" y="2386"/>
                    </a:lnTo>
                    <a:lnTo>
                      <a:pt x="47" y="2444"/>
                    </a:lnTo>
                    <a:lnTo>
                      <a:pt x="57" y="2504"/>
                    </a:lnTo>
                    <a:lnTo>
                      <a:pt x="68" y="2562"/>
                    </a:lnTo>
                    <a:lnTo>
                      <a:pt x="80" y="2619"/>
                    </a:lnTo>
                    <a:lnTo>
                      <a:pt x="91" y="2677"/>
                    </a:lnTo>
                    <a:lnTo>
                      <a:pt x="106" y="2735"/>
                    </a:lnTo>
                    <a:lnTo>
                      <a:pt x="120" y="2791"/>
                    </a:lnTo>
                    <a:lnTo>
                      <a:pt x="135" y="2848"/>
                    </a:lnTo>
                    <a:lnTo>
                      <a:pt x="151" y="2904"/>
                    </a:lnTo>
                    <a:lnTo>
                      <a:pt x="167" y="2960"/>
                    </a:lnTo>
                    <a:lnTo>
                      <a:pt x="186" y="3015"/>
                    </a:lnTo>
                    <a:lnTo>
                      <a:pt x="204" y="3071"/>
                    </a:lnTo>
                    <a:lnTo>
                      <a:pt x="223" y="3126"/>
                    </a:lnTo>
                    <a:lnTo>
                      <a:pt x="243" y="3180"/>
                    </a:lnTo>
                    <a:lnTo>
                      <a:pt x="264" y="3234"/>
                    </a:lnTo>
                    <a:lnTo>
                      <a:pt x="286" y="3288"/>
                    </a:lnTo>
                    <a:lnTo>
                      <a:pt x="309" y="3341"/>
                    </a:lnTo>
                    <a:lnTo>
                      <a:pt x="331" y="3393"/>
                    </a:lnTo>
                    <a:lnTo>
                      <a:pt x="356" y="3445"/>
                    </a:lnTo>
                    <a:lnTo>
                      <a:pt x="381" y="3497"/>
                    </a:lnTo>
                    <a:lnTo>
                      <a:pt x="407" y="3549"/>
                    </a:lnTo>
                    <a:lnTo>
                      <a:pt x="433" y="3600"/>
                    </a:lnTo>
                    <a:lnTo>
                      <a:pt x="460" y="3651"/>
                    </a:lnTo>
                    <a:lnTo>
                      <a:pt x="469" y="3655"/>
                    </a:lnTo>
                    <a:lnTo>
                      <a:pt x="477" y="3659"/>
                    </a:lnTo>
                    <a:lnTo>
                      <a:pt x="486" y="3665"/>
                    </a:lnTo>
                    <a:lnTo>
                      <a:pt x="495" y="3669"/>
                    </a:lnTo>
                    <a:lnTo>
                      <a:pt x="503" y="3673"/>
                    </a:lnTo>
                    <a:lnTo>
                      <a:pt x="511" y="3678"/>
                    </a:lnTo>
                    <a:lnTo>
                      <a:pt x="519" y="3683"/>
                    </a:lnTo>
                    <a:lnTo>
                      <a:pt x="528" y="3687"/>
                    </a:lnTo>
                    <a:lnTo>
                      <a:pt x="500" y="3635"/>
                    </a:lnTo>
                    <a:lnTo>
                      <a:pt x="472" y="3584"/>
                    </a:lnTo>
                    <a:lnTo>
                      <a:pt x="445" y="3532"/>
                    </a:lnTo>
                    <a:lnTo>
                      <a:pt x="419" y="3479"/>
                    </a:lnTo>
                    <a:lnTo>
                      <a:pt x="393" y="3426"/>
                    </a:lnTo>
                    <a:lnTo>
                      <a:pt x="368" y="3373"/>
                    </a:lnTo>
                    <a:lnTo>
                      <a:pt x="344" y="3318"/>
                    </a:lnTo>
                    <a:lnTo>
                      <a:pt x="322" y="3264"/>
                    </a:lnTo>
                    <a:lnTo>
                      <a:pt x="299" y="3209"/>
                    </a:lnTo>
                    <a:lnTo>
                      <a:pt x="277" y="3154"/>
                    </a:lnTo>
                    <a:lnTo>
                      <a:pt x="258" y="3098"/>
                    </a:lnTo>
                    <a:lnTo>
                      <a:pt x="237" y="3041"/>
                    </a:lnTo>
                    <a:lnTo>
                      <a:pt x="219" y="2985"/>
                    </a:lnTo>
                    <a:lnTo>
                      <a:pt x="202" y="2928"/>
                    </a:lnTo>
                    <a:lnTo>
                      <a:pt x="184" y="2871"/>
                    </a:lnTo>
                    <a:lnTo>
                      <a:pt x="168" y="2812"/>
                    </a:lnTo>
                    <a:lnTo>
                      <a:pt x="153" y="2754"/>
                    </a:lnTo>
                    <a:lnTo>
                      <a:pt x="139" y="2696"/>
                    </a:lnTo>
                    <a:lnTo>
                      <a:pt x="126" y="2637"/>
                    </a:lnTo>
                    <a:lnTo>
                      <a:pt x="113" y="2578"/>
                    </a:lnTo>
                    <a:lnTo>
                      <a:pt x="102" y="2519"/>
                    </a:lnTo>
                    <a:lnTo>
                      <a:pt x="91" y="2458"/>
                    </a:lnTo>
                    <a:lnTo>
                      <a:pt x="82" y="2399"/>
                    </a:lnTo>
                    <a:lnTo>
                      <a:pt x="73" y="2338"/>
                    </a:lnTo>
                    <a:lnTo>
                      <a:pt x="66" y="2277"/>
                    </a:lnTo>
                    <a:lnTo>
                      <a:pt x="59" y="2216"/>
                    </a:lnTo>
                    <a:lnTo>
                      <a:pt x="54" y="2155"/>
                    </a:lnTo>
                    <a:lnTo>
                      <a:pt x="49" y="2093"/>
                    </a:lnTo>
                    <a:lnTo>
                      <a:pt x="45" y="2031"/>
                    </a:lnTo>
                    <a:lnTo>
                      <a:pt x="43" y="1969"/>
                    </a:lnTo>
                    <a:lnTo>
                      <a:pt x="42" y="1906"/>
                    </a:lnTo>
                    <a:lnTo>
                      <a:pt x="41" y="1844"/>
                    </a:lnTo>
                    <a:lnTo>
                      <a:pt x="42" y="1781"/>
                    </a:lnTo>
                    <a:lnTo>
                      <a:pt x="43" y="1718"/>
                    </a:lnTo>
                    <a:lnTo>
                      <a:pt x="45" y="1656"/>
                    </a:lnTo>
                    <a:lnTo>
                      <a:pt x="49" y="1594"/>
                    </a:lnTo>
                    <a:lnTo>
                      <a:pt x="54" y="1533"/>
                    </a:lnTo>
                    <a:lnTo>
                      <a:pt x="59" y="1471"/>
                    </a:lnTo>
                    <a:lnTo>
                      <a:pt x="66" y="1410"/>
                    </a:lnTo>
                    <a:lnTo>
                      <a:pt x="73" y="1349"/>
                    </a:lnTo>
                    <a:lnTo>
                      <a:pt x="82" y="1289"/>
                    </a:lnTo>
                    <a:lnTo>
                      <a:pt x="91" y="1228"/>
                    </a:lnTo>
                    <a:lnTo>
                      <a:pt x="102" y="1169"/>
                    </a:lnTo>
                    <a:lnTo>
                      <a:pt x="113" y="1109"/>
                    </a:lnTo>
                    <a:lnTo>
                      <a:pt x="126" y="1050"/>
                    </a:lnTo>
                    <a:lnTo>
                      <a:pt x="139" y="990"/>
                    </a:lnTo>
                    <a:lnTo>
                      <a:pt x="153" y="932"/>
                    </a:lnTo>
                    <a:lnTo>
                      <a:pt x="168" y="874"/>
                    </a:lnTo>
                    <a:lnTo>
                      <a:pt x="184" y="817"/>
                    </a:lnTo>
                    <a:lnTo>
                      <a:pt x="202" y="759"/>
                    </a:lnTo>
                    <a:lnTo>
                      <a:pt x="219" y="702"/>
                    </a:lnTo>
                    <a:lnTo>
                      <a:pt x="237" y="645"/>
                    </a:lnTo>
                    <a:lnTo>
                      <a:pt x="258" y="589"/>
                    </a:lnTo>
                    <a:lnTo>
                      <a:pt x="277" y="534"/>
                    </a:lnTo>
                    <a:lnTo>
                      <a:pt x="299" y="477"/>
                    </a:lnTo>
                    <a:lnTo>
                      <a:pt x="322" y="423"/>
                    </a:lnTo>
                    <a:lnTo>
                      <a:pt x="344" y="368"/>
                    </a:lnTo>
                    <a:lnTo>
                      <a:pt x="368" y="314"/>
                    </a:lnTo>
                    <a:lnTo>
                      <a:pt x="393" y="260"/>
                    </a:lnTo>
                    <a:lnTo>
                      <a:pt x="419" y="207"/>
                    </a:lnTo>
                    <a:lnTo>
                      <a:pt x="445" y="155"/>
                    </a:lnTo>
                    <a:lnTo>
                      <a:pt x="472" y="103"/>
                    </a:lnTo>
                    <a:lnTo>
                      <a:pt x="500" y="51"/>
                    </a:lnTo>
                    <a:lnTo>
                      <a:pt x="528" y="0"/>
                    </a:lnTo>
                    <a:lnTo>
                      <a:pt x="519" y="4"/>
                    </a:lnTo>
                    <a:lnTo>
                      <a:pt x="511" y="9"/>
                    </a:lnTo>
                    <a:lnTo>
                      <a:pt x="503" y="13"/>
                    </a:lnTo>
                    <a:lnTo>
                      <a:pt x="495" y="18"/>
                    </a:lnTo>
                    <a:lnTo>
                      <a:pt x="486" y="23"/>
                    </a:lnTo>
                    <a:lnTo>
                      <a:pt x="477" y="27"/>
                    </a:lnTo>
                    <a:lnTo>
                      <a:pt x="469" y="31"/>
                    </a:lnTo>
                    <a:lnTo>
                      <a:pt x="460" y="37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086280" y="2259000"/>
                <a:ext cx="2976480" cy="1476360"/>
              </a:xfrm>
              <a:custGeom>
                <a:avLst/>
                <a:gdLst/>
                <a:ahLst/>
                <a:rect l="l" t="t" r="r" b="b"/>
                <a:pathLst>
                  <a:path w="7500" h="3723">
                    <a:moveTo>
                      <a:pt x="7500" y="1862"/>
                    </a:moveTo>
                    <a:lnTo>
                      <a:pt x="7500" y="1799"/>
                    </a:lnTo>
                    <a:lnTo>
                      <a:pt x="7498" y="1737"/>
                    </a:lnTo>
                    <a:lnTo>
                      <a:pt x="7496" y="1676"/>
                    </a:lnTo>
                    <a:lnTo>
                      <a:pt x="7493" y="1614"/>
                    </a:lnTo>
                    <a:lnTo>
                      <a:pt x="7488" y="1554"/>
                    </a:lnTo>
                    <a:lnTo>
                      <a:pt x="7483" y="1493"/>
                    </a:lnTo>
                    <a:lnTo>
                      <a:pt x="7476" y="1433"/>
                    </a:lnTo>
                    <a:lnTo>
                      <a:pt x="7469" y="1372"/>
                    </a:lnTo>
                    <a:lnTo>
                      <a:pt x="7460" y="1313"/>
                    </a:lnTo>
                    <a:lnTo>
                      <a:pt x="7452" y="1254"/>
                    </a:lnTo>
                    <a:lnTo>
                      <a:pt x="7441" y="1194"/>
                    </a:lnTo>
                    <a:lnTo>
                      <a:pt x="7430" y="1135"/>
                    </a:lnTo>
                    <a:lnTo>
                      <a:pt x="7418" y="1077"/>
                    </a:lnTo>
                    <a:lnTo>
                      <a:pt x="7405" y="1018"/>
                    </a:lnTo>
                    <a:lnTo>
                      <a:pt x="7391" y="960"/>
                    </a:lnTo>
                    <a:lnTo>
                      <a:pt x="7376" y="903"/>
                    </a:lnTo>
                    <a:lnTo>
                      <a:pt x="7361" y="845"/>
                    </a:lnTo>
                    <a:lnTo>
                      <a:pt x="7345" y="789"/>
                    </a:lnTo>
                    <a:lnTo>
                      <a:pt x="7327" y="732"/>
                    </a:lnTo>
                    <a:lnTo>
                      <a:pt x="7309" y="676"/>
                    </a:lnTo>
                    <a:lnTo>
                      <a:pt x="7289" y="621"/>
                    </a:lnTo>
                    <a:lnTo>
                      <a:pt x="7270" y="566"/>
                    </a:lnTo>
                    <a:lnTo>
                      <a:pt x="7250" y="511"/>
                    </a:lnTo>
                    <a:lnTo>
                      <a:pt x="7228" y="456"/>
                    </a:lnTo>
                    <a:lnTo>
                      <a:pt x="7205" y="402"/>
                    </a:lnTo>
                    <a:lnTo>
                      <a:pt x="7181" y="349"/>
                    </a:lnTo>
                    <a:lnTo>
                      <a:pt x="7158" y="296"/>
                    </a:lnTo>
                    <a:lnTo>
                      <a:pt x="7133" y="243"/>
                    </a:lnTo>
                    <a:lnTo>
                      <a:pt x="7108" y="190"/>
                    </a:lnTo>
                    <a:lnTo>
                      <a:pt x="7081" y="138"/>
                    </a:lnTo>
                    <a:lnTo>
                      <a:pt x="7054" y="87"/>
                    </a:lnTo>
                    <a:lnTo>
                      <a:pt x="7026" y="36"/>
                    </a:lnTo>
                    <a:lnTo>
                      <a:pt x="7017" y="31"/>
                    </a:lnTo>
                    <a:lnTo>
                      <a:pt x="7009" y="27"/>
                    </a:lnTo>
                    <a:lnTo>
                      <a:pt x="7000" y="22"/>
                    </a:lnTo>
                    <a:lnTo>
                      <a:pt x="6992" y="18"/>
                    </a:lnTo>
                    <a:lnTo>
                      <a:pt x="6984" y="14"/>
                    </a:lnTo>
                    <a:lnTo>
                      <a:pt x="6975" y="8"/>
                    </a:lnTo>
                    <a:lnTo>
                      <a:pt x="6966" y="4"/>
                    </a:lnTo>
                    <a:lnTo>
                      <a:pt x="6958" y="0"/>
                    </a:lnTo>
                    <a:lnTo>
                      <a:pt x="6987" y="52"/>
                    </a:lnTo>
                    <a:lnTo>
                      <a:pt x="7016" y="103"/>
                    </a:lnTo>
                    <a:lnTo>
                      <a:pt x="7043" y="156"/>
                    </a:lnTo>
                    <a:lnTo>
                      <a:pt x="7070" y="209"/>
                    </a:lnTo>
                    <a:lnTo>
                      <a:pt x="7097" y="262"/>
                    </a:lnTo>
                    <a:lnTo>
                      <a:pt x="7122" y="316"/>
                    </a:lnTo>
                    <a:lnTo>
                      <a:pt x="7147" y="371"/>
                    </a:lnTo>
                    <a:lnTo>
                      <a:pt x="7171" y="426"/>
                    </a:lnTo>
                    <a:lnTo>
                      <a:pt x="7193" y="481"/>
                    </a:lnTo>
                    <a:lnTo>
                      <a:pt x="7215" y="538"/>
                    </a:lnTo>
                    <a:lnTo>
                      <a:pt x="7235" y="594"/>
                    </a:lnTo>
                    <a:lnTo>
                      <a:pt x="7256" y="650"/>
                    </a:lnTo>
                    <a:lnTo>
                      <a:pt x="7275" y="707"/>
                    </a:lnTo>
                    <a:lnTo>
                      <a:pt x="7294" y="765"/>
                    </a:lnTo>
                    <a:lnTo>
                      <a:pt x="7311" y="823"/>
                    </a:lnTo>
                    <a:lnTo>
                      <a:pt x="7327" y="881"/>
                    </a:lnTo>
                    <a:lnTo>
                      <a:pt x="7344" y="940"/>
                    </a:lnTo>
                    <a:lnTo>
                      <a:pt x="7358" y="999"/>
                    </a:lnTo>
                    <a:lnTo>
                      <a:pt x="7372" y="1058"/>
                    </a:lnTo>
                    <a:lnTo>
                      <a:pt x="7385" y="1119"/>
                    </a:lnTo>
                    <a:lnTo>
                      <a:pt x="7395" y="1179"/>
                    </a:lnTo>
                    <a:lnTo>
                      <a:pt x="7406" y="1240"/>
                    </a:lnTo>
                    <a:lnTo>
                      <a:pt x="7416" y="1300"/>
                    </a:lnTo>
                    <a:lnTo>
                      <a:pt x="7426" y="1362"/>
                    </a:lnTo>
                    <a:lnTo>
                      <a:pt x="7433" y="1423"/>
                    </a:lnTo>
                    <a:lnTo>
                      <a:pt x="7440" y="1485"/>
                    </a:lnTo>
                    <a:lnTo>
                      <a:pt x="7445" y="1546"/>
                    </a:lnTo>
                    <a:lnTo>
                      <a:pt x="7450" y="1609"/>
                    </a:lnTo>
                    <a:lnTo>
                      <a:pt x="7454" y="1672"/>
                    </a:lnTo>
                    <a:lnTo>
                      <a:pt x="7457" y="1734"/>
                    </a:lnTo>
                    <a:lnTo>
                      <a:pt x="7458" y="1798"/>
                    </a:lnTo>
                    <a:lnTo>
                      <a:pt x="7459" y="1862"/>
                    </a:lnTo>
                    <a:lnTo>
                      <a:pt x="7458" y="1924"/>
                    </a:lnTo>
                    <a:lnTo>
                      <a:pt x="7457" y="1986"/>
                    </a:lnTo>
                    <a:lnTo>
                      <a:pt x="7454" y="2047"/>
                    </a:lnTo>
                    <a:lnTo>
                      <a:pt x="7450" y="2109"/>
                    </a:lnTo>
                    <a:lnTo>
                      <a:pt x="7446" y="2171"/>
                    </a:lnTo>
                    <a:lnTo>
                      <a:pt x="7441" y="2232"/>
                    </a:lnTo>
                    <a:lnTo>
                      <a:pt x="7433" y="2293"/>
                    </a:lnTo>
                    <a:lnTo>
                      <a:pt x="7427" y="2353"/>
                    </a:lnTo>
                    <a:lnTo>
                      <a:pt x="7418" y="2414"/>
                    </a:lnTo>
                    <a:lnTo>
                      <a:pt x="7408" y="2473"/>
                    </a:lnTo>
                    <a:lnTo>
                      <a:pt x="7398" y="2532"/>
                    </a:lnTo>
                    <a:lnTo>
                      <a:pt x="7387" y="2592"/>
                    </a:lnTo>
                    <a:lnTo>
                      <a:pt x="7374" y="2650"/>
                    </a:lnTo>
                    <a:lnTo>
                      <a:pt x="7361" y="2709"/>
                    </a:lnTo>
                    <a:lnTo>
                      <a:pt x="7347" y="2767"/>
                    </a:lnTo>
                    <a:lnTo>
                      <a:pt x="7332" y="2825"/>
                    </a:lnTo>
                    <a:lnTo>
                      <a:pt x="7372" y="2836"/>
                    </a:lnTo>
                    <a:lnTo>
                      <a:pt x="7387" y="2778"/>
                    </a:lnTo>
                    <a:lnTo>
                      <a:pt x="7402" y="2718"/>
                    </a:lnTo>
                    <a:lnTo>
                      <a:pt x="7415" y="2660"/>
                    </a:lnTo>
                    <a:lnTo>
                      <a:pt x="7428" y="2600"/>
                    </a:lnTo>
                    <a:lnTo>
                      <a:pt x="7439" y="2540"/>
                    </a:lnTo>
                    <a:lnTo>
                      <a:pt x="7449" y="2479"/>
                    </a:lnTo>
                    <a:lnTo>
                      <a:pt x="7459" y="2419"/>
                    </a:lnTo>
                    <a:lnTo>
                      <a:pt x="7468" y="2358"/>
                    </a:lnTo>
                    <a:lnTo>
                      <a:pt x="7475" y="2297"/>
                    </a:lnTo>
                    <a:lnTo>
                      <a:pt x="7482" y="2236"/>
                    </a:lnTo>
                    <a:lnTo>
                      <a:pt x="7487" y="2174"/>
                    </a:lnTo>
                    <a:lnTo>
                      <a:pt x="7492" y="2112"/>
                    </a:lnTo>
                    <a:lnTo>
                      <a:pt x="7496" y="2050"/>
                    </a:lnTo>
                    <a:lnTo>
                      <a:pt x="7498" y="1987"/>
                    </a:lnTo>
                    <a:lnTo>
                      <a:pt x="7500" y="1924"/>
                    </a:lnTo>
                    <a:lnTo>
                      <a:pt x="7500" y="1862"/>
                    </a:lnTo>
                    <a:close/>
                    <a:moveTo>
                      <a:pt x="475" y="36"/>
                    </a:moveTo>
                    <a:lnTo>
                      <a:pt x="446" y="87"/>
                    </a:lnTo>
                    <a:lnTo>
                      <a:pt x="419" y="138"/>
                    </a:lnTo>
                    <a:lnTo>
                      <a:pt x="392" y="190"/>
                    </a:lnTo>
                    <a:lnTo>
                      <a:pt x="368" y="243"/>
                    </a:lnTo>
                    <a:lnTo>
                      <a:pt x="343" y="295"/>
                    </a:lnTo>
                    <a:lnTo>
                      <a:pt x="319" y="349"/>
                    </a:lnTo>
                    <a:lnTo>
                      <a:pt x="295" y="402"/>
                    </a:lnTo>
                    <a:lnTo>
                      <a:pt x="272" y="456"/>
                    </a:lnTo>
                    <a:lnTo>
                      <a:pt x="251" y="511"/>
                    </a:lnTo>
                    <a:lnTo>
                      <a:pt x="230" y="566"/>
                    </a:lnTo>
                    <a:lnTo>
                      <a:pt x="211" y="621"/>
                    </a:lnTo>
                    <a:lnTo>
                      <a:pt x="191" y="676"/>
                    </a:lnTo>
                    <a:lnTo>
                      <a:pt x="173" y="732"/>
                    </a:lnTo>
                    <a:lnTo>
                      <a:pt x="156" y="789"/>
                    </a:lnTo>
                    <a:lnTo>
                      <a:pt x="140" y="845"/>
                    </a:lnTo>
                    <a:lnTo>
                      <a:pt x="124" y="903"/>
                    </a:lnTo>
                    <a:lnTo>
                      <a:pt x="109" y="960"/>
                    </a:lnTo>
                    <a:lnTo>
                      <a:pt x="95" y="1018"/>
                    </a:lnTo>
                    <a:lnTo>
                      <a:pt x="82" y="1077"/>
                    </a:lnTo>
                    <a:lnTo>
                      <a:pt x="70" y="1135"/>
                    </a:lnTo>
                    <a:lnTo>
                      <a:pt x="60" y="1194"/>
                    </a:lnTo>
                    <a:lnTo>
                      <a:pt x="49" y="1254"/>
                    </a:lnTo>
                    <a:lnTo>
                      <a:pt x="40" y="1313"/>
                    </a:lnTo>
                    <a:lnTo>
                      <a:pt x="32" y="1372"/>
                    </a:lnTo>
                    <a:lnTo>
                      <a:pt x="24" y="1433"/>
                    </a:lnTo>
                    <a:lnTo>
                      <a:pt x="17" y="1493"/>
                    </a:lnTo>
                    <a:lnTo>
                      <a:pt x="12" y="1554"/>
                    </a:lnTo>
                    <a:lnTo>
                      <a:pt x="8" y="1614"/>
                    </a:lnTo>
                    <a:lnTo>
                      <a:pt x="5" y="1676"/>
                    </a:lnTo>
                    <a:lnTo>
                      <a:pt x="2" y="1737"/>
                    </a:lnTo>
                    <a:lnTo>
                      <a:pt x="0" y="1799"/>
                    </a:lnTo>
                    <a:lnTo>
                      <a:pt x="0" y="1862"/>
                    </a:lnTo>
                    <a:lnTo>
                      <a:pt x="0" y="1923"/>
                    </a:lnTo>
                    <a:lnTo>
                      <a:pt x="2" y="1985"/>
                    </a:lnTo>
                    <a:lnTo>
                      <a:pt x="5" y="2046"/>
                    </a:lnTo>
                    <a:lnTo>
                      <a:pt x="8" y="2108"/>
                    </a:lnTo>
                    <a:lnTo>
                      <a:pt x="12" y="2169"/>
                    </a:lnTo>
                    <a:lnTo>
                      <a:pt x="17" y="2230"/>
                    </a:lnTo>
                    <a:lnTo>
                      <a:pt x="24" y="2290"/>
                    </a:lnTo>
                    <a:lnTo>
                      <a:pt x="32" y="2350"/>
                    </a:lnTo>
                    <a:lnTo>
                      <a:pt x="40" y="2410"/>
                    </a:lnTo>
                    <a:lnTo>
                      <a:pt x="49" y="2470"/>
                    </a:lnTo>
                    <a:lnTo>
                      <a:pt x="60" y="2529"/>
                    </a:lnTo>
                    <a:lnTo>
                      <a:pt x="70" y="2587"/>
                    </a:lnTo>
                    <a:lnTo>
                      <a:pt x="82" y="2647"/>
                    </a:lnTo>
                    <a:lnTo>
                      <a:pt x="95" y="2704"/>
                    </a:lnTo>
                    <a:lnTo>
                      <a:pt x="109" y="2762"/>
                    </a:lnTo>
                    <a:lnTo>
                      <a:pt x="124" y="2820"/>
                    </a:lnTo>
                    <a:lnTo>
                      <a:pt x="140" y="2877"/>
                    </a:lnTo>
                    <a:lnTo>
                      <a:pt x="156" y="2934"/>
                    </a:lnTo>
                    <a:lnTo>
                      <a:pt x="173" y="2990"/>
                    </a:lnTo>
                    <a:lnTo>
                      <a:pt x="191" y="3046"/>
                    </a:lnTo>
                    <a:lnTo>
                      <a:pt x="211" y="3103"/>
                    </a:lnTo>
                    <a:lnTo>
                      <a:pt x="230" y="3158"/>
                    </a:lnTo>
                    <a:lnTo>
                      <a:pt x="251" y="3213"/>
                    </a:lnTo>
                    <a:lnTo>
                      <a:pt x="272" y="3267"/>
                    </a:lnTo>
                    <a:lnTo>
                      <a:pt x="295" y="3321"/>
                    </a:lnTo>
                    <a:lnTo>
                      <a:pt x="319" y="3375"/>
                    </a:lnTo>
                    <a:lnTo>
                      <a:pt x="343" y="3428"/>
                    </a:lnTo>
                    <a:lnTo>
                      <a:pt x="368" y="3481"/>
                    </a:lnTo>
                    <a:lnTo>
                      <a:pt x="392" y="3532"/>
                    </a:lnTo>
                    <a:lnTo>
                      <a:pt x="419" y="3584"/>
                    </a:lnTo>
                    <a:lnTo>
                      <a:pt x="446" y="3636"/>
                    </a:lnTo>
                    <a:lnTo>
                      <a:pt x="475" y="3687"/>
                    </a:lnTo>
                    <a:lnTo>
                      <a:pt x="483" y="3691"/>
                    </a:lnTo>
                    <a:lnTo>
                      <a:pt x="492" y="3696"/>
                    </a:lnTo>
                    <a:lnTo>
                      <a:pt x="499" y="3701"/>
                    </a:lnTo>
                    <a:lnTo>
                      <a:pt x="508" y="3705"/>
                    </a:lnTo>
                    <a:lnTo>
                      <a:pt x="517" y="3710"/>
                    </a:lnTo>
                    <a:lnTo>
                      <a:pt x="525" y="3714"/>
                    </a:lnTo>
                    <a:lnTo>
                      <a:pt x="534" y="3718"/>
                    </a:lnTo>
                    <a:lnTo>
                      <a:pt x="543" y="3723"/>
                    </a:lnTo>
                    <a:lnTo>
                      <a:pt x="513" y="3672"/>
                    </a:lnTo>
                    <a:lnTo>
                      <a:pt x="484" y="3620"/>
                    </a:lnTo>
                    <a:lnTo>
                      <a:pt x="457" y="3567"/>
                    </a:lnTo>
                    <a:lnTo>
                      <a:pt x="430" y="3514"/>
                    </a:lnTo>
                    <a:lnTo>
                      <a:pt x="403" y="3460"/>
                    </a:lnTo>
                    <a:lnTo>
                      <a:pt x="378" y="3406"/>
                    </a:lnTo>
                    <a:lnTo>
                      <a:pt x="354" y="3352"/>
                    </a:lnTo>
                    <a:lnTo>
                      <a:pt x="330" y="3297"/>
                    </a:lnTo>
                    <a:lnTo>
                      <a:pt x="307" y="3241"/>
                    </a:lnTo>
                    <a:lnTo>
                      <a:pt x="285" y="3186"/>
                    </a:lnTo>
                    <a:lnTo>
                      <a:pt x="265" y="3130"/>
                    </a:lnTo>
                    <a:lnTo>
                      <a:pt x="244" y="3072"/>
                    </a:lnTo>
                    <a:lnTo>
                      <a:pt x="225" y="3015"/>
                    </a:lnTo>
                    <a:lnTo>
                      <a:pt x="207" y="2958"/>
                    </a:lnTo>
                    <a:lnTo>
                      <a:pt x="189" y="2900"/>
                    </a:lnTo>
                    <a:lnTo>
                      <a:pt x="173" y="2841"/>
                    </a:lnTo>
                    <a:lnTo>
                      <a:pt x="157" y="2783"/>
                    </a:lnTo>
                    <a:lnTo>
                      <a:pt x="143" y="2724"/>
                    </a:lnTo>
                    <a:lnTo>
                      <a:pt x="129" y="2664"/>
                    </a:lnTo>
                    <a:lnTo>
                      <a:pt x="116" y="2605"/>
                    </a:lnTo>
                    <a:lnTo>
                      <a:pt x="105" y="2544"/>
                    </a:lnTo>
                    <a:lnTo>
                      <a:pt x="94" y="2484"/>
                    </a:lnTo>
                    <a:lnTo>
                      <a:pt x="84" y="2423"/>
                    </a:lnTo>
                    <a:lnTo>
                      <a:pt x="75" y="2362"/>
                    </a:lnTo>
                    <a:lnTo>
                      <a:pt x="67" y="2300"/>
                    </a:lnTo>
                    <a:lnTo>
                      <a:pt x="61" y="2239"/>
                    </a:lnTo>
                    <a:lnTo>
                      <a:pt x="55" y="2176"/>
                    </a:lnTo>
                    <a:lnTo>
                      <a:pt x="50" y="2113"/>
                    </a:lnTo>
                    <a:lnTo>
                      <a:pt x="47" y="2051"/>
                    </a:lnTo>
                    <a:lnTo>
                      <a:pt x="43" y="1988"/>
                    </a:lnTo>
                    <a:lnTo>
                      <a:pt x="42" y="1925"/>
                    </a:lnTo>
                    <a:lnTo>
                      <a:pt x="41" y="1862"/>
                    </a:lnTo>
                    <a:lnTo>
                      <a:pt x="42" y="1798"/>
                    </a:lnTo>
                    <a:lnTo>
                      <a:pt x="43" y="1734"/>
                    </a:lnTo>
                    <a:lnTo>
                      <a:pt x="47" y="1672"/>
                    </a:lnTo>
                    <a:lnTo>
                      <a:pt x="50" y="1609"/>
                    </a:lnTo>
                    <a:lnTo>
                      <a:pt x="55" y="1546"/>
                    </a:lnTo>
                    <a:lnTo>
                      <a:pt x="61" y="1485"/>
                    </a:lnTo>
                    <a:lnTo>
                      <a:pt x="67" y="1423"/>
                    </a:lnTo>
                    <a:lnTo>
                      <a:pt x="75" y="1362"/>
                    </a:lnTo>
                    <a:lnTo>
                      <a:pt x="84" y="1300"/>
                    </a:lnTo>
                    <a:lnTo>
                      <a:pt x="94" y="1240"/>
                    </a:lnTo>
                    <a:lnTo>
                      <a:pt x="105" y="1179"/>
                    </a:lnTo>
                    <a:lnTo>
                      <a:pt x="116" y="1119"/>
                    </a:lnTo>
                    <a:lnTo>
                      <a:pt x="129" y="1058"/>
                    </a:lnTo>
                    <a:lnTo>
                      <a:pt x="143" y="999"/>
                    </a:lnTo>
                    <a:lnTo>
                      <a:pt x="157" y="940"/>
                    </a:lnTo>
                    <a:lnTo>
                      <a:pt x="173" y="881"/>
                    </a:lnTo>
                    <a:lnTo>
                      <a:pt x="189" y="823"/>
                    </a:lnTo>
                    <a:lnTo>
                      <a:pt x="207" y="765"/>
                    </a:lnTo>
                    <a:lnTo>
                      <a:pt x="225" y="707"/>
                    </a:lnTo>
                    <a:lnTo>
                      <a:pt x="244" y="650"/>
                    </a:lnTo>
                    <a:lnTo>
                      <a:pt x="265" y="594"/>
                    </a:lnTo>
                    <a:lnTo>
                      <a:pt x="285" y="538"/>
                    </a:lnTo>
                    <a:lnTo>
                      <a:pt x="307" y="481"/>
                    </a:lnTo>
                    <a:lnTo>
                      <a:pt x="330" y="426"/>
                    </a:lnTo>
                    <a:lnTo>
                      <a:pt x="354" y="371"/>
                    </a:lnTo>
                    <a:lnTo>
                      <a:pt x="378" y="316"/>
                    </a:lnTo>
                    <a:lnTo>
                      <a:pt x="403" y="262"/>
                    </a:lnTo>
                    <a:lnTo>
                      <a:pt x="430" y="209"/>
                    </a:lnTo>
                    <a:lnTo>
                      <a:pt x="457" y="156"/>
                    </a:lnTo>
                    <a:lnTo>
                      <a:pt x="484" y="103"/>
                    </a:lnTo>
                    <a:lnTo>
                      <a:pt x="513" y="52"/>
                    </a:lnTo>
                    <a:lnTo>
                      <a:pt x="543" y="0"/>
                    </a:lnTo>
                    <a:lnTo>
                      <a:pt x="534" y="4"/>
                    </a:lnTo>
                    <a:lnTo>
                      <a:pt x="525" y="8"/>
                    </a:lnTo>
                    <a:lnTo>
                      <a:pt x="517" y="14"/>
                    </a:lnTo>
                    <a:lnTo>
                      <a:pt x="508" y="18"/>
                    </a:lnTo>
                    <a:lnTo>
                      <a:pt x="499" y="22"/>
                    </a:lnTo>
                    <a:lnTo>
                      <a:pt x="492" y="27"/>
                    </a:lnTo>
                    <a:lnTo>
                      <a:pt x="483" y="31"/>
                    </a:lnTo>
                    <a:lnTo>
                      <a:pt x="475" y="36"/>
                    </a:lnTo>
                    <a:close/>
                  </a:path>
                </a:pathLst>
              </a:custGeom>
              <a:solidFill>
                <a:srgbClr val="ccb2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094200" y="2251080"/>
                <a:ext cx="2960640" cy="1492200"/>
              </a:xfrm>
              <a:custGeom>
                <a:avLst/>
                <a:gdLst/>
                <a:ahLst/>
                <a:rect l="l" t="t" r="r" b="b"/>
                <a:pathLst>
                  <a:path w="7459" h="3759">
                    <a:moveTo>
                      <a:pt x="7459" y="1880"/>
                    </a:moveTo>
                    <a:lnTo>
                      <a:pt x="7458" y="1817"/>
                    </a:lnTo>
                    <a:lnTo>
                      <a:pt x="7456" y="1754"/>
                    </a:lnTo>
                    <a:lnTo>
                      <a:pt x="7454" y="1692"/>
                    </a:lnTo>
                    <a:lnTo>
                      <a:pt x="7450" y="1630"/>
                    </a:lnTo>
                    <a:lnTo>
                      <a:pt x="7446" y="1569"/>
                    </a:lnTo>
                    <a:lnTo>
                      <a:pt x="7440" y="1507"/>
                    </a:lnTo>
                    <a:lnTo>
                      <a:pt x="7434" y="1446"/>
                    </a:lnTo>
                    <a:lnTo>
                      <a:pt x="7426" y="1385"/>
                    </a:lnTo>
                    <a:lnTo>
                      <a:pt x="7418" y="1325"/>
                    </a:lnTo>
                    <a:lnTo>
                      <a:pt x="7408" y="1264"/>
                    </a:lnTo>
                    <a:lnTo>
                      <a:pt x="7397" y="1205"/>
                    </a:lnTo>
                    <a:lnTo>
                      <a:pt x="7386" y="1145"/>
                    </a:lnTo>
                    <a:lnTo>
                      <a:pt x="7373" y="1086"/>
                    </a:lnTo>
                    <a:lnTo>
                      <a:pt x="7360" y="1026"/>
                    </a:lnTo>
                    <a:lnTo>
                      <a:pt x="7346" y="968"/>
                    </a:lnTo>
                    <a:lnTo>
                      <a:pt x="7331" y="910"/>
                    </a:lnTo>
                    <a:lnTo>
                      <a:pt x="7315" y="853"/>
                    </a:lnTo>
                    <a:lnTo>
                      <a:pt x="7298" y="795"/>
                    </a:lnTo>
                    <a:lnTo>
                      <a:pt x="7280" y="738"/>
                    </a:lnTo>
                    <a:lnTo>
                      <a:pt x="7262" y="681"/>
                    </a:lnTo>
                    <a:lnTo>
                      <a:pt x="7241" y="625"/>
                    </a:lnTo>
                    <a:lnTo>
                      <a:pt x="7221" y="570"/>
                    </a:lnTo>
                    <a:lnTo>
                      <a:pt x="7200" y="513"/>
                    </a:lnTo>
                    <a:lnTo>
                      <a:pt x="7178" y="459"/>
                    </a:lnTo>
                    <a:lnTo>
                      <a:pt x="7155" y="404"/>
                    </a:lnTo>
                    <a:lnTo>
                      <a:pt x="7131" y="350"/>
                    </a:lnTo>
                    <a:lnTo>
                      <a:pt x="7106" y="296"/>
                    </a:lnTo>
                    <a:lnTo>
                      <a:pt x="7080" y="243"/>
                    </a:lnTo>
                    <a:lnTo>
                      <a:pt x="7055" y="191"/>
                    </a:lnTo>
                    <a:lnTo>
                      <a:pt x="7028" y="139"/>
                    </a:lnTo>
                    <a:lnTo>
                      <a:pt x="6999" y="87"/>
                    </a:lnTo>
                    <a:lnTo>
                      <a:pt x="6971" y="36"/>
                    </a:lnTo>
                    <a:lnTo>
                      <a:pt x="6963" y="32"/>
                    </a:lnTo>
                    <a:lnTo>
                      <a:pt x="6954" y="26"/>
                    </a:lnTo>
                    <a:lnTo>
                      <a:pt x="6945" y="22"/>
                    </a:lnTo>
                    <a:lnTo>
                      <a:pt x="6937" y="18"/>
                    </a:lnTo>
                    <a:lnTo>
                      <a:pt x="6928" y="13"/>
                    </a:lnTo>
                    <a:lnTo>
                      <a:pt x="6919" y="9"/>
                    </a:lnTo>
                    <a:lnTo>
                      <a:pt x="6911" y="5"/>
                    </a:lnTo>
                    <a:lnTo>
                      <a:pt x="6902" y="0"/>
                    </a:lnTo>
                    <a:lnTo>
                      <a:pt x="6932" y="52"/>
                    </a:lnTo>
                    <a:lnTo>
                      <a:pt x="6962" y="104"/>
                    </a:lnTo>
                    <a:lnTo>
                      <a:pt x="6990" y="157"/>
                    </a:lnTo>
                    <a:lnTo>
                      <a:pt x="7018" y="211"/>
                    </a:lnTo>
                    <a:lnTo>
                      <a:pt x="7045" y="265"/>
                    </a:lnTo>
                    <a:lnTo>
                      <a:pt x="7071" y="319"/>
                    </a:lnTo>
                    <a:lnTo>
                      <a:pt x="7096" y="374"/>
                    </a:lnTo>
                    <a:lnTo>
                      <a:pt x="7120" y="429"/>
                    </a:lnTo>
                    <a:lnTo>
                      <a:pt x="7143" y="485"/>
                    </a:lnTo>
                    <a:lnTo>
                      <a:pt x="7166" y="542"/>
                    </a:lnTo>
                    <a:lnTo>
                      <a:pt x="7187" y="599"/>
                    </a:lnTo>
                    <a:lnTo>
                      <a:pt x="7208" y="656"/>
                    </a:lnTo>
                    <a:lnTo>
                      <a:pt x="7229" y="713"/>
                    </a:lnTo>
                    <a:lnTo>
                      <a:pt x="7247" y="772"/>
                    </a:lnTo>
                    <a:lnTo>
                      <a:pt x="7265" y="830"/>
                    </a:lnTo>
                    <a:lnTo>
                      <a:pt x="7281" y="888"/>
                    </a:lnTo>
                    <a:lnTo>
                      <a:pt x="7298" y="948"/>
                    </a:lnTo>
                    <a:lnTo>
                      <a:pt x="7313" y="1008"/>
                    </a:lnTo>
                    <a:lnTo>
                      <a:pt x="7327" y="1068"/>
                    </a:lnTo>
                    <a:lnTo>
                      <a:pt x="7340" y="1128"/>
                    </a:lnTo>
                    <a:lnTo>
                      <a:pt x="7352" y="1190"/>
                    </a:lnTo>
                    <a:lnTo>
                      <a:pt x="7364" y="1250"/>
                    </a:lnTo>
                    <a:lnTo>
                      <a:pt x="7373" y="1312"/>
                    </a:lnTo>
                    <a:lnTo>
                      <a:pt x="7382" y="1373"/>
                    </a:lnTo>
                    <a:lnTo>
                      <a:pt x="7391" y="1436"/>
                    </a:lnTo>
                    <a:lnTo>
                      <a:pt x="7397" y="1498"/>
                    </a:lnTo>
                    <a:lnTo>
                      <a:pt x="7404" y="1561"/>
                    </a:lnTo>
                    <a:lnTo>
                      <a:pt x="7408" y="1624"/>
                    </a:lnTo>
                    <a:lnTo>
                      <a:pt x="7412" y="1687"/>
                    </a:lnTo>
                    <a:lnTo>
                      <a:pt x="7414" y="1751"/>
                    </a:lnTo>
                    <a:lnTo>
                      <a:pt x="7417" y="1815"/>
                    </a:lnTo>
                    <a:lnTo>
                      <a:pt x="7417" y="1880"/>
                    </a:lnTo>
                    <a:lnTo>
                      <a:pt x="7417" y="1941"/>
                    </a:lnTo>
                    <a:lnTo>
                      <a:pt x="7414" y="2003"/>
                    </a:lnTo>
                    <a:lnTo>
                      <a:pt x="7412" y="2064"/>
                    </a:lnTo>
                    <a:lnTo>
                      <a:pt x="7409" y="2126"/>
                    </a:lnTo>
                    <a:lnTo>
                      <a:pt x="7405" y="2187"/>
                    </a:lnTo>
                    <a:lnTo>
                      <a:pt x="7398" y="2248"/>
                    </a:lnTo>
                    <a:lnTo>
                      <a:pt x="7392" y="2308"/>
                    </a:lnTo>
                    <a:lnTo>
                      <a:pt x="7384" y="2368"/>
                    </a:lnTo>
                    <a:lnTo>
                      <a:pt x="7377" y="2428"/>
                    </a:lnTo>
                    <a:lnTo>
                      <a:pt x="7367" y="2488"/>
                    </a:lnTo>
                    <a:lnTo>
                      <a:pt x="7356" y="2547"/>
                    </a:lnTo>
                    <a:lnTo>
                      <a:pt x="7345" y="2605"/>
                    </a:lnTo>
                    <a:lnTo>
                      <a:pt x="7333" y="2664"/>
                    </a:lnTo>
                    <a:lnTo>
                      <a:pt x="7319" y="2722"/>
                    </a:lnTo>
                    <a:lnTo>
                      <a:pt x="7305" y="2780"/>
                    </a:lnTo>
                    <a:lnTo>
                      <a:pt x="7291" y="2838"/>
                    </a:lnTo>
                    <a:lnTo>
                      <a:pt x="7331" y="2848"/>
                    </a:lnTo>
                    <a:lnTo>
                      <a:pt x="7346" y="2790"/>
                    </a:lnTo>
                    <a:lnTo>
                      <a:pt x="7360" y="2732"/>
                    </a:lnTo>
                    <a:lnTo>
                      <a:pt x="7373" y="2673"/>
                    </a:lnTo>
                    <a:lnTo>
                      <a:pt x="7386" y="2614"/>
                    </a:lnTo>
                    <a:lnTo>
                      <a:pt x="7397" y="2555"/>
                    </a:lnTo>
                    <a:lnTo>
                      <a:pt x="7408" y="2494"/>
                    </a:lnTo>
                    <a:lnTo>
                      <a:pt x="7418" y="2434"/>
                    </a:lnTo>
                    <a:lnTo>
                      <a:pt x="7426" y="2373"/>
                    </a:lnTo>
                    <a:lnTo>
                      <a:pt x="7434" y="2313"/>
                    </a:lnTo>
                    <a:lnTo>
                      <a:pt x="7440" y="2252"/>
                    </a:lnTo>
                    <a:lnTo>
                      <a:pt x="7446" y="2191"/>
                    </a:lnTo>
                    <a:lnTo>
                      <a:pt x="7450" y="2129"/>
                    </a:lnTo>
                    <a:lnTo>
                      <a:pt x="7454" y="2067"/>
                    </a:lnTo>
                    <a:lnTo>
                      <a:pt x="7456" y="2005"/>
                    </a:lnTo>
                    <a:lnTo>
                      <a:pt x="7458" y="1942"/>
                    </a:lnTo>
                    <a:lnTo>
                      <a:pt x="7459" y="1880"/>
                    </a:lnTo>
                    <a:close/>
                    <a:moveTo>
                      <a:pt x="487" y="36"/>
                    </a:moveTo>
                    <a:lnTo>
                      <a:pt x="459" y="87"/>
                    </a:lnTo>
                    <a:lnTo>
                      <a:pt x="431" y="139"/>
                    </a:lnTo>
                    <a:lnTo>
                      <a:pt x="404" y="191"/>
                    </a:lnTo>
                    <a:lnTo>
                      <a:pt x="378" y="243"/>
                    </a:lnTo>
                    <a:lnTo>
                      <a:pt x="352" y="296"/>
                    </a:lnTo>
                    <a:lnTo>
                      <a:pt x="327" y="350"/>
                    </a:lnTo>
                    <a:lnTo>
                      <a:pt x="303" y="404"/>
                    </a:lnTo>
                    <a:lnTo>
                      <a:pt x="281" y="459"/>
                    </a:lnTo>
                    <a:lnTo>
                      <a:pt x="258" y="513"/>
                    </a:lnTo>
                    <a:lnTo>
                      <a:pt x="236" y="570"/>
                    </a:lnTo>
                    <a:lnTo>
                      <a:pt x="217" y="625"/>
                    </a:lnTo>
                    <a:lnTo>
                      <a:pt x="196" y="681"/>
                    </a:lnTo>
                    <a:lnTo>
                      <a:pt x="178" y="738"/>
                    </a:lnTo>
                    <a:lnTo>
                      <a:pt x="161" y="795"/>
                    </a:lnTo>
                    <a:lnTo>
                      <a:pt x="143" y="853"/>
                    </a:lnTo>
                    <a:lnTo>
                      <a:pt x="127" y="910"/>
                    </a:lnTo>
                    <a:lnTo>
                      <a:pt x="112" y="968"/>
                    </a:lnTo>
                    <a:lnTo>
                      <a:pt x="98" y="1026"/>
                    </a:lnTo>
                    <a:lnTo>
                      <a:pt x="85" y="1086"/>
                    </a:lnTo>
                    <a:lnTo>
                      <a:pt x="72" y="1145"/>
                    </a:lnTo>
                    <a:lnTo>
                      <a:pt x="61" y="1205"/>
                    </a:lnTo>
                    <a:lnTo>
                      <a:pt x="50" y="1264"/>
                    </a:lnTo>
                    <a:lnTo>
                      <a:pt x="41" y="1325"/>
                    </a:lnTo>
                    <a:lnTo>
                      <a:pt x="32" y="1385"/>
                    </a:lnTo>
                    <a:lnTo>
                      <a:pt x="25" y="1446"/>
                    </a:lnTo>
                    <a:lnTo>
                      <a:pt x="18" y="1507"/>
                    </a:lnTo>
                    <a:lnTo>
                      <a:pt x="13" y="1569"/>
                    </a:lnTo>
                    <a:lnTo>
                      <a:pt x="8" y="1630"/>
                    </a:lnTo>
                    <a:lnTo>
                      <a:pt x="4" y="1692"/>
                    </a:lnTo>
                    <a:lnTo>
                      <a:pt x="2" y="1754"/>
                    </a:lnTo>
                    <a:lnTo>
                      <a:pt x="1" y="1817"/>
                    </a:lnTo>
                    <a:lnTo>
                      <a:pt x="0" y="1880"/>
                    </a:lnTo>
                    <a:lnTo>
                      <a:pt x="1" y="1942"/>
                    </a:lnTo>
                    <a:lnTo>
                      <a:pt x="2" y="2005"/>
                    </a:lnTo>
                    <a:lnTo>
                      <a:pt x="4" y="2067"/>
                    </a:lnTo>
                    <a:lnTo>
                      <a:pt x="8" y="2129"/>
                    </a:lnTo>
                    <a:lnTo>
                      <a:pt x="13" y="2191"/>
                    </a:lnTo>
                    <a:lnTo>
                      <a:pt x="18" y="2252"/>
                    </a:lnTo>
                    <a:lnTo>
                      <a:pt x="25" y="2313"/>
                    </a:lnTo>
                    <a:lnTo>
                      <a:pt x="32" y="2374"/>
                    </a:lnTo>
                    <a:lnTo>
                      <a:pt x="41" y="2435"/>
                    </a:lnTo>
                    <a:lnTo>
                      <a:pt x="50" y="2494"/>
                    </a:lnTo>
                    <a:lnTo>
                      <a:pt x="61" y="2555"/>
                    </a:lnTo>
                    <a:lnTo>
                      <a:pt x="72" y="2614"/>
                    </a:lnTo>
                    <a:lnTo>
                      <a:pt x="85" y="2673"/>
                    </a:lnTo>
                    <a:lnTo>
                      <a:pt x="98" y="2732"/>
                    </a:lnTo>
                    <a:lnTo>
                      <a:pt x="112" y="2790"/>
                    </a:lnTo>
                    <a:lnTo>
                      <a:pt x="127" y="2848"/>
                    </a:lnTo>
                    <a:lnTo>
                      <a:pt x="143" y="2907"/>
                    </a:lnTo>
                    <a:lnTo>
                      <a:pt x="161" y="2964"/>
                    </a:lnTo>
                    <a:lnTo>
                      <a:pt x="178" y="3021"/>
                    </a:lnTo>
                    <a:lnTo>
                      <a:pt x="196" y="3077"/>
                    </a:lnTo>
                    <a:lnTo>
                      <a:pt x="217" y="3134"/>
                    </a:lnTo>
                    <a:lnTo>
                      <a:pt x="236" y="3190"/>
                    </a:lnTo>
                    <a:lnTo>
                      <a:pt x="258" y="3245"/>
                    </a:lnTo>
                    <a:lnTo>
                      <a:pt x="281" y="3300"/>
                    </a:lnTo>
                    <a:lnTo>
                      <a:pt x="303" y="3354"/>
                    </a:lnTo>
                    <a:lnTo>
                      <a:pt x="327" y="3409"/>
                    </a:lnTo>
                    <a:lnTo>
                      <a:pt x="352" y="3462"/>
                    </a:lnTo>
                    <a:lnTo>
                      <a:pt x="378" y="3515"/>
                    </a:lnTo>
                    <a:lnTo>
                      <a:pt x="404" y="3568"/>
                    </a:lnTo>
                    <a:lnTo>
                      <a:pt x="431" y="3620"/>
                    </a:lnTo>
                    <a:lnTo>
                      <a:pt x="459" y="3671"/>
                    </a:lnTo>
                    <a:lnTo>
                      <a:pt x="487" y="3723"/>
                    </a:lnTo>
                    <a:lnTo>
                      <a:pt x="496" y="3728"/>
                    </a:lnTo>
                    <a:lnTo>
                      <a:pt x="504" y="3732"/>
                    </a:lnTo>
                    <a:lnTo>
                      <a:pt x="513" y="3736"/>
                    </a:lnTo>
                    <a:lnTo>
                      <a:pt x="522" y="3741"/>
                    </a:lnTo>
                    <a:lnTo>
                      <a:pt x="530" y="3745"/>
                    </a:lnTo>
                    <a:lnTo>
                      <a:pt x="539" y="3750"/>
                    </a:lnTo>
                    <a:lnTo>
                      <a:pt x="548" y="3755"/>
                    </a:lnTo>
                    <a:lnTo>
                      <a:pt x="556" y="3759"/>
                    </a:lnTo>
                    <a:lnTo>
                      <a:pt x="526" y="3707"/>
                    </a:lnTo>
                    <a:lnTo>
                      <a:pt x="497" y="3654"/>
                    </a:lnTo>
                    <a:lnTo>
                      <a:pt x="469" y="3601"/>
                    </a:lnTo>
                    <a:lnTo>
                      <a:pt x="441" y="3548"/>
                    </a:lnTo>
                    <a:lnTo>
                      <a:pt x="414" y="3494"/>
                    </a:lnTo>
                    <a:lnTo>
                      <a:pt x="388" y="3439"/>
                    </a:lnTo>
                    <a:lnTo>
                      <a:pt x="363" y="3385"/>
                    </a:lnTo>
                    <a:lnTo>
                      <a:pt x="338" y="3329"/>
                    </a:lnTo>
                    <a:lnTo>
                      <a:pt x="314" y="3274"/>
                    </a:lnTo>
                    <a:lnTo>
                      <a:pt x="293" y="3217"/>
                    </a:lnTo>
                    <a:lnTo>
                      <a:pt x="271" y="3161"/>
                    </a:lnTo>
                    <a:lnTo>
                      <a:pt x="249" y="3103"/>
                    </a:lnTo>
                    <a:lnTo>
                      <a:pt x="230" y="3046"/>
                    </a:lnTo>
                    <a:lnTo>
                      <a:pt x="211" y="2988"/>
                    </a:lnTo>
                    <a:lnTo>
                      <a:pt x="193" y="2929"/>
                    </a:lnTo>
                    <a:lnTo>
                      <a:pt x="177" y="2870"/>
                    </a:lnTo>
                    <a:lnTo>
                      <a:pt x="161" y="2811"/>
                    </a:lnTo>
                    <a:lnTo>
                      <a:pt x="146" y="2751"/>
                    </a:lnTo>
                    <a:lnTo>
                      <a:pt x="132" y="2691"/>
                    </a:lnTo>
                    <a:lnTo>
                      <a:pt x="119" y="2630"/>
                    </a:lnTo>
                    <a:lnTo>
                      <a:pt x="106" y="2570"/>
                    </a:lnTo>
                    <a:lnTo>
                      <a:pt x="95" y="2508"/>
                    </a:lnTo>
                    <a:lnTo>
                      <a:pt x="85" y="2447"/>
                    </a:lnTo>
                    <a:lnTo>
                      <a:pt x="76" y="2385"/>
                    </a:lnTo>
                    <a:lnTo>
                      <a:pt x="68" y="2324"/>
                    </a:lnTo>
                    <a:lnTo>
                      <a:pt x="61" y="2261"/>
                    </a:lnTo>
                    <a:lnTo>
                      <a:pt x="55" y="2198"/>
                    </a:lnTo>
                    <a:lnTo>
                      <a:pt x="50" y="2135"/>
                    </a:lnTo>
                    <a:lnTo>
                      <a:pt x="46" y="2071"/>
                    </a:lnTo>
                    <a:lnTo>
                      <a:pt x="44" y="2007"/>
                    </a:lnTo>
                    <a:lnTo>
                      <a:pt x="42" y="1943"/>
                    </a:lnTo>
                    <a:lnTo>
                      <a:pt x="42" y="1880"/>
                    </a:lnTo>
                    <a:lnTo>
                      <a:pt x="42" y="1815"/>
                    </a:lnTo>
                    <a:lnTo>
                      <a:pt x="44" y="1751"/>
                    </a:lnTo>
                    <a:lnTo>
                      <a:pt x="46" y="1687"/>
                    </a:lnTo>
                    <a:lnTo>
                      <a:pt x="50" y="1624"/>
                    </a:lnTo>
                    <a:lnTo>
                      <a:pt x="55" y="1561"/>
                    </a:lnTo>
                    <a:lnTo>
                      <a:pt x="61" y="1498"/>
                    </a:lnTo>
                    <a:lnTo>
                      <a:pt x="68" y="1436"/>
                    </a:lnTo>
                    <a:lnTo>
                      <a:pt x="76" y="1373"/>
                    </a:lnTo>
                    <a:lnTo>
                      <a:pt x="85" y="1312"/>
                    </a:lnTo>
                    <a:lnTo>
                      <a:pt x="95" y="1250"/>
                    </a:lnTo>
                    <a:lnTo>
                      <a:pt x="106" y="1190"/>
                    </a:lnTo>
                    <a:lnTo>
                      <a:pt x="119" y="1128"/>
                    </a:lnTo>
                    <a:lnTo>
                      <a:pt x="132" y="1068"/>
                    </a:lnTo>
                    <a:lnTo>
                      <a:pt x="146" y="1008"/>
                    </a:lnTo>
                    <a:lnTo>
                      <a:pt x="161" y="948"/>
                    </a:lnTo>
                    <a:lnTo>
                      <a:pt x="177" y="888"/>
                    </a:lnTo>
                    <a:lnTo>
                      <a:pt x="193" y="830"/>
                    </a:lnTo>
                    <a:lnTo>
                      <a:pt x="211" y="772"/>
                    </a:lnTo>
                    <a:lnTo>
                      <a:pt x="230" y="713"/>
                    </a:lnTo>
                    <a:lnTo>
                      <a:pt x="249" y="656"/>
                    </a:lnTo>
                    <a:lnTo>
                      <a:pt x="271" y="599"/>
                    </a:lnTo>
                    <a:lnTo>
                      <a:pt x="293" y="542"/>
                    </a:lnTo>
                    <a:lnTo>
                      <a:pt x="314" y="485"/>
                    </a:lnTo>
                    <a:lnTo>
                      <a:pt x="338" y="429"/>
                    </a:lnTo>
                    <a:lnTo>
                      <a:pt x="363" y="374"/>
                    </a:lnTo>
                    <a:lnTo>
                      <a:pt x="388" y="319"/>
                    </a:lnTo>
                    <a:lnTo>
                      <a:pt x="414" y="265"/>
                    </a:lnTo>
                    <a:lnTo>
                      <a:pt x="441" y="211"/>
                    </a:lnTo>
                    <a:lnTo>
                      <a:pt x="469" y="157"/>
                    </a:lnTo>
                    <a:lnTo>
                      <a:pt x="497" y="104"/>
                    </a:lnTo>
                    <a:lnTo>
                      <a:pt x="526" y="52"/>
                    </a:lnTo>
                    <a:lnTo>
                      <a:pt x="556" y="0"/>
                    </a:lnTo>
                    <a:lnTo>
                      <a:pt x="548" y="5"/>
                    </a:lnTo>
                    <a:lnTo>
                      <a:pt x="539" y="9"/>
                    </a:lnTo>
                    <a:lnTo>
                      <a:pt x="530" y="13"/>
                    </a:lnTo>
                    <a:lnTo>
                      <a:pt x="522" y="18"/>
                    </a:lnTo>
                    <a:lnTo>
                      <a:pt x="513" y="22"/>
                    </a:lnTo>
                    <a:lnTo>
                      <a:pt x="504" y="26"/>
                    </a:lnTo>
                    <a:lnTo>
                      <a:pt x="496" y="32"/>
                    </a:lnTo>
                    <a:lnTo>
                      <a:pt x="487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02120" y="2244600"/>
                <a:ext cx="2944800" cy="1505160"/>
              </a:xfrm>
              <a:custGeom>
                <a:avLst/>
                <a:gdLst/>
                <a:ahLst/>
                <a:rect l="l" t="t" r="r" b="b"/>
                <a:pathLst>
                  <a:path w="7418" h="3794">
                    <a:moveTo>
                      <a:pt x="7418" y="1898"/>
                    </a:moveTo>
                    <a:lnTo>
                      <a:pt x="7417" y="1834"/>
                    </a:lnTo>
                    <a:lnTo>
                      <a:pt x="7416" y="1770"/>
                    </a:lnTo>
                    <a:lnTo>
                      <a:pt x="7413" y="1708"/>
                    </a:lnTo>
                    <a:lnTo>
                      <a:pt x="7409" y="1645"/>
                    </a:lnTo>
                    <a:lnTo>
                      <a:pt x="7404" y="1582"/>
                    </a:lnTo>
                    <a:lnTo>
                      <a:pt x="7399" y="1521"/>
                    </a:lnTo>
                    <a:lnTo>
                      <a:pt x="7392" y="1459"/>
                    </a:lnTo>
                    <a:lnTo>
                      <a:pt x="7385" y="1398"/>
                    </a:lnTo>
                    <a:lnTo>
                      <a:pt x="7375" y="1336"/>
                    </a:lnTo>
                    <a:lnTo>
                      <a:pt x="7365" y="1276"/>
                    </a:lnTo>
                    <a:lnTo>
                      <a:pt x="7354" y="1215"/>
                    </a:lnTo>
                    <a:lnTo>
                      <a:pt x="7344" y="1155"/>
                    </a:lnTo>
                    <a:lnTo>
                      <a:pt x="7331" y="1094"/>
                    </a:lnTo>
                    <a:lnTo>
                      <a:pt x="7317" y="1035"/>
                    </a:lnTo>
                    <a:lnTo>
                      <a:pt x="7303" y="976"/>
                    </a:lnTo>
                    <a:lnTo>
                      <a:pt x="7286" y="917"/>
                    </a:lnTo>
                    <a:lnTo>
                      <a:pt x="7270" y="859"/>
                    </a:lnTo>
                    <a:lnTo>
                      <a:pt x="7253" y="801"/>
                    </a:lnTo>
                    <a:lnTo>
                      <a:pt x="7234" y="743"/>
                    </a:lnTo>
                    <a:lnTo>
                      <a:pt x="7215" y="686"/>
                    </a:lnTo>
                    <a:lnTo>
                      <a:pt x="7194" y="630"/>
                    </a:lnTo>
                    <a:lnTo>
                      <a:pt x="7174" y="574"/>
                    </a:lnTo>
                    <a:lnTo>
                      <a:pt x="7152" y="517"/>
                    </a:lnTo>
                    <a:lnTo>
                      <a:pt x="7130" y="462"/>
                    </a:lnTo>
                    <a:lnTo>
                      <a:pt x="7106" y="407"/>
                    </a:lnTo>
                    <a:lnTo>
                      <a:pt x="7081" y="352"/>
                    </a:lnTo>
                    <a:lnTo>
                      <a:pt x="7056" y="298"/>
                    </a:lnTo>
                    <a:lnTo>
                      <a:pt x="7029" y="245"/>
                    </a:lnTo>
                    <a:lnTo>
                      <a:pt x="7002" y="192"/>
                    </a:lnTo>
                    <a:lnTo>
                      <a:pt x="6975" y="139"/>
                    </a:lnTo>
                    <a:lnTo>
                      <a:pt x="6946" y="88"/>
                    </a:lnTo>
                    <a:lnTo>
                      <a:pt x="6917" y="36"/>
                    </a:lnTo>
                    <a:lnTo>
                      <a:pt x="6908" y="31"/>
                    </a:lnTo>
                    <a:lnTo>
                      <a:pt x="6899" y="27"/>
                    </a:lnTo>
                    <a:lnTo>
                      <a:pt x="6891" y="23"/>
                    </a:lnTo>
                    <a:lnTo>
                      <a:pt x="6882" y="18"/>
                    </a:lnTo>
                    <a:lnTo>
                      <a:pt x="6874" y="14"/>
                    </a:lnTo>
                    <a:lnTo>
                      <a:pt x="6865" y="10"/>
                    </a:lnTo>
                    <a:lnTo>
                      <a:pt x="6856" y="4"/>
                    </a:lnTo>
                    <a:lnTo>
                      <a:pt x="6848" y="0"/>
                    </a:lnTo>
                    <a:lnTo>
                      <a:pt x="6878" y="53"/>
                    </a:lnTo>
                    <a:lnTo>
                      <a:pt x="6908" y="106"/>
                    </a:lnTo>
                    <a:lnTo>
                      <a:pt x="6937" y="159"/>
                    </a:lnTo>
                    <a:lnTo>
                      <a:pt x="6966" y="213"/>
                    </a:lnTo>
                    <a:lnTo>
                      <a:pt x="6993" y="267"/>
                    </a:lnTo>
                    <a:lnTo>
                      <a:pt x="7020" y="322"/>
                    </a:lnTo>
                    <a:lnTo>
                      <a:pt x="7046" y="377"/>
                    </a:lnTo>
                    <a:lnTo>
                      <a:pt x="7071" y="433"/>
                    </a:lnTo>
                    <a:lnTo>
                      <a:pt x="7095" y="489"/>
                    </a:lnTo>
                    <a:lnTo>
                      <a:pt x="7119" y="546"/>
                    </a:lnTo>
                    <a:lnTo>
                      <a:pt x="7140" y="603"/>
                    </a:lnTo>
                    <a:lnTo>
                      <a:pt x="7162" y="661"/>
                    </a:lnTo>
                    <a:lnTo>
                      <a:pt x="7183" y="719"/>
                    </a:lnTo>
                    <a:lnTo>
                      <a:pt x="7202" y="778"/>
                    </a:lnTo>
                    <a:lnTo>
                      <a:pt x="7220" y="837"/>
                    </a:lnTo>
                    <a:lnTo>
                      <a:pt x="7238" y="897"/>
                    </a:lnTo>
                    <a:lnTo>
                      <a:pt x="7254" y="956"/>
                    </a:lnTo>
                    <a:lnTo>
                      <a:pt x="7269" y="1016"/>
                    </a:lnTo>
                    <a:lnTo>
                      <a:pt x="7284" y="1077"/>
                    </a:lnTo>
                    <a:lnTo>
                      <a:pt x="7297" y="1138"/>
                    </a:lnTo>
                    <a:lnTo>
                      <a:pt x="7310" y="1200"/>
                    </a:lnTo>
                    <a:lnTo>
                      <a:pt x="7321" y="1262"/>
                    </a:lnTo>
                    <a:lnTo>
                      <a:pt x="7332" y="1323"/>
                    </a:lnTo>
                    <a:lnTo>
                      <a:pt x="7340" y="1386"/>
                    </a:lnTo>
                    <a:lnTo>
                      <a:pt x="7349" y="1448"/>
                    </a:lnTo>
                    <a:lnTo>
                      <a:pt x="7355" y="1512"/>
                    </a:lnTo>
                    <a:lnTo>
                      <a:pt x="7362" y="1576"/>
                    </a:lnTo>
                    <a:lnTo>
                      <a:pt x="7367" y="1640"/>
                    </a:lnTo>
                    <a:lnTo>
                      <a:pt x="7371" y="1703"/>
                    </a:lnTo>
                    <a:lnTo>
                      <a:pt x="7374" y="1768"/>
                    </a:lnTo>
                    <a:lnTo>
                      <a:pt x="7375" y="1833"/>
                    </a:lnTo>
                    <a:lnTo>
                      <a:pt x="7376" y="1898"/>
                    </a:lnTo>
                    <a:lnTo>
                      <a:pt x="7376" y="1959"/>
                    </a:lnTo>
                    <a:lnTo>
                      <a:pt x="7374" y="2021"/>
                    </a:lnTo>
                    <a:lnTo>
                      <a:pt x="7372" y="2081"/>
                    </a:lnTo>
                    <a:lnTo>
                      <a:pt x="7367" y="2143"/>
                    </a:lnTo>
                    <a:lnTo>
                      <a:pt x="7363" y="2203"/>
                    </a:lnTo>
                    <a:lnTo>
                      <a:pt x="7358" y="2264"/>
                    </a:lnTo>
                    <a:lnTo>
                      <a:pt x="7351" y="2323"/>
                    </a:lnTo>
                    <a:lnTo>
                      <a:pt x="7344" y="2384"/>
                    </a:lnTo>
                    <a:lnTo>
                      <a:pt x="7336" y="2443"/>
                    </a:lnTo>
                    <a:lnTo>
                      <a:pt x="7326" y="2502"/>
                    </a:lnTo>
                    <a:lnTo>
                      <a:pt x="7315" y="2561"/>
                    </a:lnTo>
                    <a:lnTo>
                      <a:pt x="7305" y="2619"/>
                    </a:lnTo>
                    <a:lnTo>
                      <a:pt x="7293" y="2677"/>
                    </a:lnTo>
                    <a:lnTo>
                      <a:pt x="7280" y="2736"/>
                    </a:lnTo>
                    <a:lnTo>
                      <a:pt x="7266" y="2793"/>
                    </a:lnTo>
                    <a:lnTo>
                      <a:pt x="7251" y="2850"/>
                    </a:lnTo>
                    <a:lnTo>
                      <a:pt x="7291" y="2861"/>
                    </a:lnTo>
                    <a:lnTo>
                      <a:pt x="7306" y="2803"/>
                    </a:lnTo>
                    <a:lnTo>
                      <a:pt x="7320" y="2745"/>
                    </a:lnTo>
                    <a:lnTo>
                      <a:pt x="7333" y="2686"/>
                    </a:lnTo>
                    <a:lnTo>
                      <a:pt x="7346" y="2628"/>
                    </a:lnTo>
                    <a:lnTo>
                      <a:pt x="7357" y="2568"/>
                    </a:lnTo>
                    <a:lnTo>
                      <a:pt x="7367" y="2509"/>
                    </a:lnTo>
                    <a:lnTo>
                      <a:pt x="7377" y="2450"/>
                    </a:lnTo>
                    <a:lnTo>
                      <a:pt x="7386" y="2389"/>
                    </a:lnTo>
                    <a:lnTo>
                      <a:pt x="7392" y="2329"/>
                    </a:lnTo>
                    <a:lnTo>
                      <a:pt x="7400" y="2268"/>
                    </a:lnTo>
                    <a:lnTo>
                      <a:pt x="7405" y="2207"/>
                    </a:lnTo>
                    <a:lnTo>
                      <a:pt x="7409" y="2145"/>
                    </a:lnTo>
                    <a:lnTo>
                      <a:pt x="7413" y="2083"/>
                    </a:lnTo>
                    <a:lnTo>
                      <a:pt x="7416" y="2022"/>
                    </a:lnTo>
                    <a:lnTo>
                      <a:pt x="7417" y="1960"/>
                    </a:lnTo>
                    <a:lnTo>
                      <a:pt x="7418" y="1898"/>
                    </a:lnTo>
                    <a:close/>
                    <a:moveTo>
                      <a:pt x="502" y="36"/>
                    </a:moveTo>
                    <a:lnTo>
                      <a:pt x="472" y="88"/>
                    </a:lnTo>
                    <a:lnTo>
                      <a:pt x="443" y="139"/>
                    </a:lnTo>
                    <a:lnTo>
                      <a:pt x="416" y="192"/>
                    </a:lnTo>
                    <a:lnTo>
                      <a:pt x="389" y="245"/>
                    </a:lnTo>
                    <a:lnTo>
                      <a:pt x="362" y="298"/>
                    </a:lnTo>
                    <a:lnTo>
                      <a:pt x="337" y="352"/>
                    </a:lnTo>
                    <a:lnTo>
                      <a:pt x="313" y="407"/>
                    </a:lnTo>
                    <a:lnTo>
                      <a:pt x="289" y="462"/>
                    </a:lnTo>
                    <a:lnTo>
                      <a:pt x="266" y="517"/>
                    </a:lnTo>
                    <a:lnTo>
                      <a:pt x="244" y="574"/>
                    </a:lnTo>
                    <a:lnTo>
                      <a:pt x="224" y="630"/>
                    </a:lnTo>
                    <a:lnTo>
                      <a:pt x="203" y="686"/>
                    </a:lnTo>
                    <a:lnTo>
                      <a:pt x="184" y="743"/>
                    </a:lnTo>
                    <a:lnTo>
                      <a:pt x="166" y="801"/>
                    </a:lnTo>
                    <a:lnTo>
                      <a:pt x="148" y="859"/>
                    </a:lnTo>
                    <a:lnTo>
                      <a:pt x="132" y="917"/>
                    </a:lnTo>
                    <a:lnTo>
                      <a:pt x="116" y="976"/>
                    </a:lnTo>
                    <a:lnTo>
                      <a:pt x="102" y="1035"/>
                    </a:lnTo>
                    <a:lnTo>
                      <a:pt x="88" y="1094"/>
                    </a:lnTo>
                    <a:lnTo>
                      <a:pt x="75" y="1155"/>
                    </a:lnTo>
                    <a:lnTo>
                      <a:pt x="64" y="1215"/>
                    </a:lnTo>
                    <a:lnTo>
                      <a:pt x="53" y="1276"/>
                    </a:lnTo>
                    <a:lnTo>
                      <a:pt x="43" y="1336"/>
                    </a:lnTo>
                    <a:lnTo>
                      <a:pt x="34" y="1398"/>
                    </a:lnTo>
                    <a:lnTo>
                      <a:pt x="26" y="1459"/>
                    </a:lnTo>
                    <a:lnTo>
                      <a:pt x="20" y="1521"/>
                    </a:lnTo>
                    <a:lnTo>
                      <a:pt x="14" y="1582"/>
                    </a:lnTo>
                    <a:lnTo>
                      <a:pt x="9" y="1645"/>
                    </a:lnTo>
                    <a:lnTo>
                      <a:pt x="6" y="1708"/>
                    </a:lnTo>
                    <a:lnTo>
                      <a:pt x="2" y="1770"/>
                    </a:lnTo>
                    <a:lnTo>
                      <a:pt x="1" y="1834"/>
                    </a:lnTo>
                    <a:lnTo>
                      <a:pt x="0" y="1898"/>
                    </a:lnTo>
                    <a:lnTo>
                      <a:pt x="1" y="1961"/>
                    </a:lnTo>
                    <a:lnTo>
                      <a:pt x="2" y="2024"/>
                    </a:lnTo>
                    <a:lnTo>
                      <a:pt x="6" y="2087"/>
                    </a:lnTo>
                    <a:lnTo>
                      <a:pt x="9" y="2149"/>
                    </a:lnTo>
                    <a:lnTo>
                      <a:pt x="14" y="2212"/>
                    </a:lnTo>
                    <a:lnTo>
                      <a:pt x="20" y="2275"/>
                    </a:lnTo>
                    <a:lnTo>
                      <a:pt x="26" y="2336"/>
                    </a:lnTo>
                    <a:lnTo>
                      <a:pt x="34" y="2398"/>
                    </a:lnTo>
                    <a:lnTo>
                      <a:pt x="43" y="2459"/>
                    </a:lnTo>
                    <a:lnTo>
                      <a:pt x="53" y="2520"/>
                    </a:lnTo>
                    <a:lnTo>
                      <a:pt x="64" y="2580"/>
                    </a:lnTo>
                    <a:lnTo>
                      <a:pt x="75" y="2641"/>
                    </a:lnTo>
                    <a:lnTo>
                      <a:pt x="88" y="2700"/>
                    </a:lnTo>
                    <a:lnTo>
                      <a:pt x="102" y="2760"/>
                    </a:lnTo>
                    <a:lnTo>
                      <a:pt x="116" y="2819"/>
                    </a:lnTo>
                    <a:lnTo>
                      <a:pt x="132" y="2877"/>
                    </a:lnTo>
                    <a:lnTo>
                      <a:pt x="148" y="2936"/>
                    </a:lnTo>
                    <a:lnTo>
                      <a:pt x="166" y="2994"/>
                    </a:lnTo>
                    <a:lnTo>
                      <a:pt x="184" y="3051"/>
                    </a:lnTo>
                    <a:lnTo>
                      <a:pt x="203" y="3108"/>
                    </a:lnTo>
                    <a:lnTo>
                      <a:pt x="224" y="3166"/>
                    </a:lnTo>
                    <a:lnTo>
                      <a:pt x="244" y="3222"/>
                    </a:lnTo>
                    <a:lnTo>
                      <a:pt x="266" y="3277"/>
                    </a:lnTo>
                    <a:lnTo>
                      <a:pt x="289" y="3333"/>
                    </a:lnTo>
                    <a:lnTo>
                      <a:pt x="313" y="3388"/>
                    </a:lnTo>
                    <a:lnTo>
                      <a:pt x="337" y="3442"/>
                    </a:lnTo>
                    <a:lnTo>
                      <a:pt x="362" y="3496"/>
                    </a:lnTo>
                    <a:lnTo>
                      <a:pt x="389" y="3550"/>
                    </a:lnTo>
                    <a:lnTo>
                      <a:pt x="416" y="3603"/>
                    </a:lnTo>
                    <a:lnTo>
                      <a:pt x="443" y="3656"/>
                    </a:lnTo>
                    <a:lnTo>
                      <a:pt x="472" y="3708"/>
                    </a:lnTo>
                    <a:lnTo>
                      <a:pt x="502" y="3759"/>
                    </a:lnTo>
                    <a:lnTo>
                      <a:pt x="510" y="3764"/>
                    </a:lnTo>
                    <a:lnTo>
                      <a:pt x="519" y="3768"/>
                    </a:lnTo>
                    <a:lnTo>
                      <a:pt x="528" y="3773"/>
                    </a:lnTo>
                    <a:lnTo>
                      <a:pt x="536" y="3777"/>
                    </a:lnTo>
                    <a:lnTo>
                      <a:pt x="545" y="3781"/>
                    </a:lnTo>
                    <a:lnTo>
                      <a:pt x="553" y="3786"/>
                    </a:lnTo>
                    <a:lnTo>
                      <a:pt x="562" y="3790"/>
                    </a:lnTo>
                    <a:lnTo>
                      <a:pt x="571" y="3794"/>
                    </a:lnTo>
                    <a:lnTo>
                      <a:pt x="541" y="3742"/>
                    </a:lnTo>
                    <a:lnTo>
                      <a:pt x="510" y="3689"/>
                    </a:lnTo>
                    <a:lnTo>
                      <a:pt x="480" y="3636"/>
                    </a:lnTo>
                    <a:lnTo>
                      <a:pt x="452" y="3582"/>
                    </a:lnTo>
                    <a:lnTo>
                      <a:pt x="425" y="3528"/>
                    </a:lnTo>
                    <a:lnTo>
                      <a:pt x="398" y="3473"/>
                    </a:lnTo>
                    <a:lnTo>
                      <a:pt x="372" y="3418"/>
                    </a:lnTo>
                    <a:lnTo>
                      <a:pt x="347" y="3362"/>
                    </a:lnTo>
                    <a:lnTo>
                      <a:pt x="323" y="3306"/>
                    </a:lnTo>
                    <a:lnTo>
                      <a:pt x="300" y="3249"/>
                    </a:lnTo>
                    <a:lnTo>
                      <a:pt x="278" y="3192"/>
                    </a:lnTo>
                    <a:lnTo>
                      <a:pt x="256" y="3134"/>
                    </a:lnTo>
                    <a:lnTo>
                      <a:pt x="236" y="3076"/>
                    </a:lnTo>
                    <a:lnTo>
                      <a:pt x="216" y="3018"/>
                    </a:lnTo>
                    <a:lnTo>
                      <a:pt x="198" y="2958"/>
                    </a:lnTo>
                    <a:lnTo>
                      <a:pt x="181" y="2899"/>
                    </a:lnTo>
                    <a:lnTo>
                      <a:pt x="164" y="2838"/>
                    </a:lnTo>
                    <a:lnTo>
                      <a:pt x="149" y="2779"/>
                    </a:lnTo>
                    <a:lnTo>
                      <a:pt x="134" y="2717"/>
                    </a:lnTo>
                    <a:lnTo>
                      <a:pt x="121" y="2657"/>
                    </a:lnTo>
                    <a:lnTo>
                      <a:pt x="108" y="2595"/>
                    </a:lnTo>
                    <a:lnTo>
                      <a:pt x="97" y="2534"/>
                    </a:lnTo>
                    <a:lnTo>
                      <a:pt x="87" y="2471"/>
                    </a:lnTo>
                    <a:lnTo>
                      <a:pt x="78" y="2409"/>
                    </a:lnTo>
                    <a:lnTo>
                      <a:pt x="69" y="2346"/>
                    </a:lnTo>
                    <a:lnTo>
                      <a:pt x="63" y="2283"/>
                    </a:lnTo>
                    <a:lnTo>
                      <a:pt x="56" y="2220"/>
                    </a:lnTo>
                    <a:lnTo>
                      <a:pt x="51" y="2156"/>
                    </a:lnTo>
                    <a:lnTo>
                      <a:pt x="48" y="2091"/>
                    </a:lnTo>
                    <a:lnTo>
                      <a:pt x="45" y="2027"/>
                    </a:lnTo>
                    <a:lnTo>
                      <a:pt x="42" y="1962"/>
                    </a:lnTo>
                    <a:lnTo>
                      <a:pt x="42" y="1898"/>
                    </a:lnTo>
                    <a:lnTo>
                      <a:pt x="42" y="1833"/>
                    </a:lnTo>
                    <a:lnTo>
                      <a:pt x="45" y="1768"/>
                    </a:lnTo>
                    <a:lnTo>
                      <a:pt x="48" y="1703"/>
                    </a:lnTo>
                    <a:lnTo>
                      <a:pt x="51" y="1640"/>
                    </a:lnTo>
                    <a:lnTo>
                      <a:pt x="56" y="1576"/>
                    </a:lnTo>
                    <a:lnTo>
                      <a:pt x="62" y="1512"/>
                    </a:lnTo>
                    <a:lnTo>
                      <a:pt x="69" y="1448"/>
                    </a:lnTo>
                    <a:lnTo>
                      <a:pt x="78" y="1386"/>
                    </a:lnTo>
                    <a:lnTo>
                      <a:pt x="87" y="1323"/>
                    </a:lnTo>
                    <a:lnTo>
                      <a:pt x="97" y="1262"/>
                    </a:lnTo>
                    <a:lnTo>
                      <a:pt x="108" y="1200"/>
                    </a:lnTo>
                    <a:lnTo>
                      <a:pt x="121" y="1138"/>
                    </a:lnTo>
                    <a:lnTo>
                      <a:pt x="134" y="1077"/>
                    </a:lnTo>
                    <a:lnTo>
                      <a:pt x="149" y="1016"/>
                    </a:lnTo>
                    <a:lnTo>
                      <a:pt x="164" y="956"/>
                    </a:lnTo>
                    <a:lnTo>
                      <a:pt x="181" y="897"/>
                    </a:lnTo>
                    <a:lnTo>
                      <a:pt x="198" y="837"/>
                    </a:lnTo>
                    <a:lnTo>
                      <a:pt x="216" y="778"/>
                    </a:lnTo>
                    <a:lnTo>
                      <a:pt x="236" y="719"/>
                    </a:lnTo>
                    <a:lnTo>
                      <a:pt x="256" y="661"/>
                    </a:lnTo>
                    <a:lnTo>
                      <a:pt x="278" y="603"/>
                    </a:lnTo>
                    <a:lnTo>
                      <a:pt x="300" y="546"/>
                    </a:lnTo>
                    <a:lnTo>
                      <a:pt x="323" y="489"/>
                    </a:lnTo>
                    <a:lnTo>
                      <a:pt x="347" y="433"/>
                    </a:lnTo>
                    <a:lnTo>
                      <a:pt x="372" y="377"/>
                    </a:lnTo>
                    <a:lnTo>
                      <a:pt x="398" y="322"/>
                    </a:lnTo>
                    <a:lnTo>
                      <a:pt x="425" y="267"/>
                    </a:lnTo>
                    <a:lnTo>
                      <a:pt x="452" y="213"/>
                    </a:lnTo>
                    <a:lnTo>
                      <a:pt x="480" y="159"/>
                    </a:lnTo>
                    <a:lnTo>
                      <a:pt x="510" y="106"/>
                    </a:lnTo>
                    <a:lnTo>
                      <a:pt x="541" y="53"/>
                    </a:lnTo>
                    <a:lnTo>
                      <a:pt x="571" y="0"/>
                    </a:lnTo>
                    <a:lnTo>
                      <a:pt x="562" y="4"/>
                    </a:lnTo>
                    <a:lnTo>
                      <a:pt x="553" y="10"/>
                    </a:lnTo>
                    <a:lnTo>
                      <a:pt x="545" y="14"/>
                    </a:lnTo>
                    <a:lnTo>
                      <a:pt x="536" y="18"/>
                    </a:lnTo>
                    <a:lnTo>
                      <a:pt x="528" y="23"/>
                    </a:lnTo>
                    <a:lnTo>
                      <a:pt x="519" y="27"/>
                    </a:lnTo>
                    <a:lnTo>
                      <a:pt x="510" y="31"/>
                    </a:lnTo>
                    <a:lnTo>
                      <a:pt x="502" y="36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110040" y="2238480"/>
                <a:ext cx="2927160" cy="1519200"/>
              </a:xfrm>
              <a:custGeom>
                <a:avLst/>
                <a:gdLst/>
                <a:ahLst/>
                <a:rect l="l" t="t" r="r" b="b"/>
                <a:pathLst>
                  <a:path w="7375" h="3827">
                    <a:moveTo>
                      <a:pt x="7375" y="1914"/>
                    </a:moveTo>
                    <a:lnTo>
                      <a:pt x="7375" y="1849"/>
                    </a:lnTo>
                    <a:lnTo>
                      <a:pt x="7372" y="1785"/>
                    </a:lnTo>
                    <a:lnTo>
                      <a:pt x="7370" y="1721"/>
                    </a:lnTo>
                    <a:lnTo>
                      <a:pt x="7366" y="1658"/>
                    </a:lnTo>
                    <a:lnTo>
                      <a:pt x="7362" y="1595"/>
                    </a:lnTo>
                    <a:lnTo>
                      <a:pt x="7355" y="1532"/>
                    </a:lnTo>
                    <a:lnTo>
                      <a:pt x="7349" y="1470"/>
                    </a:lnTo>
                    <a:lnTo>
                      <a:pt x="7340" y="1407"/>
                    </a:lnTo>
                    <a:lnTo>
                      <a:pt x="7331" y="1346"/>
                    </a:lnTo>
                    <a:lnTo>
                      <a:pt x="7322" y="1284"/>
                    </a:lnTo>
                    <a:lnTo>
                      <a:pt x="7310" y="1224"/>
                    </a:lnTo>
                    <a:lnTo>
                      <a:pt x="7298" y="1162"/>
                    </a:lnTo>
                    <a:lnTo>
                      <a:pt x="7285" y="1102"/>
                    </a:lnTo>
                    <a:lnTo>
                      <a:pt x="7271" y="1042"/>
                    </a:lnTo>
                    <a:lnTo>
                      <a:pt x="7256" y="982"/>
                    </a:lnTo>
                    <a:lnTo>
                      <a:pt x="7239" y="922"/>
                    </a:lnTo>
                    <a:lnTo>
                      <a:pt x="7223" y="864"/>
                    </a:lnTo>
                    <a:lnTo>
                      <a:pt x="7205" y="806"/>
                    </a:lnTo>
                    <a:lnTo>
                      <a:pt x="7187" y="747"/>
                    </a:lnTo>
                    <a:lnTo>
                      <a:pt x="7166" y="690"/>
                    </a:lnTo>
                    <a:lnTo>
                      <a:pt x="7145" y="633"/>
                    </a:lnTo>
                    <a:lnTo>
                      <a:pt x="7124" y="576"/>
                    </a:lnTo>
                    <a:lnTo>
                      <a:pt x="7101" y="519"/>
                    </a:lnTo>
                    <a:lnTo>
                      <a:pt x="7078" y="463"/>
                    </a:lnTo>
                    <a:lnTo>
                      <a:pt x="7054" y="408"/>
                    </a:lnTo>
                    <a:lnTo>
                      <a:pt x="7029" y="353"/>
                    </a:lnTo>
                    <a:lnTo>
                      <a:pt x="7003" y="299"/>
                    </a:lnTo>
                    <a:lnTo>
                      <a:pt x="6976" y="245"/>
                    </a:lnTo>
                    <a:lnTo>
                      <a:pt x="6948" y="191"/>
                    </a:lnTo>
                    <a:lnTo>
                      <a:pt x="6920" y="138"/>
                    </a:lnTo>
                    <a:lnTo>
                      <a:pt x="6890" y="86"/>
                    </a:lnTo>
                    <a:lnTo>
                      <a:pt x="6860" y="34"/>
                    </a:lnTo>
                    <a:lnTo>
                      <a:pt x="6852" y="30"/>
                    </a:lnTo>
                    <a:lnTo>
                      <a:pt x="6843" y="26"/>
                    </a:lnTo>
                    <a:lnTo>
                      <a:pt x="6834" y="22"/>
                    </a:lnTo>
                    <a:lnTo>
                      <a:pt x="6826" y="17"/>
                    </a:lnTo>
                    <a:lnTo>
                      <a:pt x="6816" y="13"/>
                    </a:lnTo>
                    <a:lnTo>
                      <a:pt x="6807" y="9"/>
                    </a:lnTo>
                    <a:lnTo>
                      <a:pt x="6799" y="4"/>
                    </a:lnTo>
                    <a:lnTo>
                      <a:pt x="6790" y="0"/>
                    </a:lnTo>
                    <a:lnTo>
                      <a:pt x="6822" y="52"/>
                    </a:lnTo>
                    <a:lnTo>
                      <a:pt x="6853" y="105"/>
                    </a:lnTo>
                    <a:lnTo>
                      <a:pt x="6883" y="159"/>
                    </a:lnTo>
                    <a:lnTo>
                      <a:pt x="6912" y="213"/>
                    </a:lnTo>
                    <a:lnTo>
                      <a:pt x="6940" y="268"/>
                    </a:lnTo>
                    <a:lnTo>
                      <a:pt x="6968" y="323"/>
                    </a:lnTo>
                    <a:lnTo>
                      <a:pt x="6994" y="378"/>
                    </a:lnTo>
                    <a:lnTo>
                      <a:pt x="7020" y="434"/>
                    </a:lnTo>
                    <a:lnTo>
                      <a:pt x="7045" y="491"/>
                    </a:lnTo>
                    <a:lnTo>
                      <a:pt x="7069" y="549"/>
                    </a:lnTo>
                    <a:lnTo>
                      <a:pt x="7091" y="606"/>
                    </a:lnTo>
                    <a:lnTo>
                      <a:pt x="7113" y="664"/>
                    </a:lnTo>
                    <a:lnTo>
                      <a:pt x="7134" y="724"/>
                    </a:lnTo>
                    <a:lnTo>
                      <a:pt x="7154" y="782"/>
                    </a:lnTo>
                    <a:lnTo>
                      <a:pt x="7172" y="842"/>
                    </a:lnTo>
                    <a:lnTo>
                      <a:pt x="7191" y="902"/>
                    </a:lnTo>
                    <a:lnTo>
                      <a:pt x="7208" y="962"/>
                    </a:lnTo>
                    <a:lnTo>
                      <a:pt x="7223" y="1023"/>
                    </a:lnTo>
                    <a:lnTo>
                      <a:pt x="7238" y="1084"/>
                    </a:lnTo>
                    <a:lnTo>
                      <a:pt x="7252" y="1146"/>
                    </a:lnTo>
                    <a:lnTo>
                      <a:pt x="7264" y="1208"/>
                    </a:lnTo>
                    <a:lnTo>
                      <a:pt x="7276" y="1270"/>
                    </a:lnTo>
                    <a:lnTo>
                      <a:pt x="7287" y="1334"/>
                    </a:lnTo>
                    <a:lnTo>
                      <a:pt x="7297" y="1396"/>
                    </a:lnTo>
                    <a:lnTo>
                      <a:pt x="7305" y="1460"/>
                    </a:lnTo>
                    <a:lnTo>
                      <a:pt x="7313" y="1524"/>
                    </a:lnTo>
                    <a:lnTo>
                      <a:pt x="7318" y="1588"/>
                    </a:lnTo>
                    <a:lnTo>
                      <a:pt x="7324" y="1652"/>
                    </a:lnTo>
                    <a:lnTo>
                      <a:pt x="7328" y="1717"/>
                    </a:lnTo>
                    <a:lnTo>
                      <a:pt x="7331" y="1782"/>
                    </a:lnTo>
                    <a:lnTo>
                      <a:pt x="7332" y="1848"/>
                    </a:lnTo>
                    <a:lnTo>
                      <a:pt x="7333" y="1914"/>
                    </a:lnTo>
                    <a:lnTo>
                      <a:pt x="7332" y="1975"/>
                    </a:lnTo>
                    <a:lnTo>
                      <a:pt x="7331" y="2036"/>
                    </a:lnTo>
                    <a:lnTo>
                      <a:pt x="7329" y="2096"/>
                    </a:lnTo>
                    <a:lnTo>
                      <a:pt x="7325" y="2157"/>
                    </a:lnTo>
                    <a:lnTo>
                      <a:pt x="7320" y="2217"/>
                    </a:lnTo>
                    <a:lnTo>
                      <a:pt x="7315" y="2278"/>
                    </a:lnTo>
                    <a:lnTo>
                      <a:pt x="7309" y="2337"/>
                    </a:lnTo>
                    <a:lnTo>
                      <a:pt x="7301" y="2396"/>
                    </a:lnTo>
                    <a:lnTo>
                      <a:pt x="7292" y="2456"/>
                    </a:lnTo>
                    <a:lnTo>
                      <a:pt x="7284" y="2514"/>
                    </a:lnTo>
                    <a:lnTo>
                      <a:pt x="7273" y="2574"/>
                    </a:lnTo>
                    <a:lnTo>
                      <a:pt x="7262" y="2632"/>
                    </a:lnTo>
                    <a:lnTo>
                      <a:pt x="7250" y="2689"/>
                    </a:lnTo>
                    <a:lnTo>
                      <a:pt x="7237" y="2746"/>
                    </a:lnTo>
                    <a:lnTo>
                      <a:pt x="7223" y="2804"/>
                    </a:lnTo>
                    <a:lnTo>
                      <a:pt x="7208" y="2861"/>
                    </a:lnTo>
                    <a:lnTo>
                      <a:pt x="7249" y="2872"/>
                    </a:lnTo>
                    <a:lnTo>
                      <a:pt x="7263" y="2814"/>
                    </a:lnTo>
                    <a:lnTo>
                      <a:pt x="7277" y="2756"/>
                    </a:lnTo>
                    <a:lnTo>
                      <a:pt x="7291" y="2698"/>
                    </a:lnTo>
                    <a:lnTo>
                      <a:pt x="7303" y="2639"/>
                    </a:lnTo>
                    <a:lnTo>
                      <a:pt x="7314" y="2581"/>
                    </a:lnTo>
                    <a:lnTo>
                      <a:pt x="7325" y="2522"/>
                    </a:lnTo>
                    <a:lnTo>
                      <a:pt x="7335" y="2462"/>
                    </a:lnTo>
                    <a:lnTo>
                      <a:pt x="7342" y="2402"/>
                    </a:lnTo>
                    <a:lnTo>
                      <a:pt x="7350" y="2342"/>
                    </a:lnTo>
                    <a:lnTo>
                      <a:pt x="7356" y="2282"/>
                    </a:lnTo>
                    <a:lnTo>
                      <a:pt x="7363" y="2221"/>
                    </a:lnTo>
                    <a:lnTo>
                      <a:pt x="7367" y="2160"/>
                    </a:lnTo>
                    <a:lnTo>
                      <a:pt x="7370" y="2098"/>
                    </a:lnTo>
                    <a:lnTo>
                      <a:pt x="7372" y="2037"/>
                    </a:lnTo>
                    <a:lnTo>
                      <a:pt x="7375" y="1975"/>
                    </a:lnTo>
                    <a:lnTo>
                      <a:pt x="7375" y="1914"/>
                    </a:lnTo>
                    <a:close/>
                    <a:moveTo>
                      <a:pt x="514" y="34"/>
                    </a:moveTo>
                    <a:lnTo>
                      <a:pt x="484" y="86"/>
                    </a:lnTo>
                    <a:lnTo>
                      <a:pt x="455" y="138"/>
                    </a:lnTo>
                    <a:lnTo>
                      <a:pt x="427" y="191"/>
                    </a:lnTo>
                    <a:lnTo>
                      <a:pt x="399" y="245"/>
                    </a:lnTo>
                    <a:lnTo>
                      <a:pt x="372" y="299"/>
                    </a:lnTo>
                    <a:lnTo>
                      <a:pt x="346" y="353"/>
                    </a:lnTo>
                    <a:lnTo>
                      <a:pt x="321" y="408"/>
                    </a:lnTo>
                    <a:lnTo>
                      <a:pt x="296" y="463"/>
                    </a:lnTo>
                    <a:lnTo>
                      <a:pt x="272" y="519"/>
                    </a:lnTo>
                    <a:lnTo>
                      <a:pt x="251" y="576"/>
                    </a:lnTo>
                    <a:lnTo>
                      <a:pt x="229" y="633"/>
                    </a:lnTo>
                    <a:lnTo>
                      <a:pt x="207" y="690"/>
                    </a:lnTo>
                    <a:lnTo>
                      <a:pt x="188" y="747"/>
                    </a:lnTo>
                    <a:lnTo>
                      <a:pt x="169" y="806"/>
                    </a:lnTo>
                    <a:lnTo>
                      <a:pt x="151" y="864"/>
                    </a:lnTo>
                    <a:lnTo>
                      <a:pt x="135" y="922"/>
                    </a:lnTo>
                    <a:lnTo>
                      <a:pt x="119" y="982"/>
                    </a:lnTo>
                    <a:lnTo>
                      <a:pt x="104" y="1042"/>
                    </a:lnTo>
                    <a:lnTo>
                      <a:pt x="90" y="1102"/>
                    </a:lnTo>
                    <a:lnTo>
                      <a:pt x="77" y="1162"/>
                    </a:lnTo>
                    <a:lnTo>
                      <a:pt x="64" y="1224"/>
                    </a:lnTo>
                    <a:lnTo>
                      <a:pt x="53" y="1284"/>
                    </a:lnTo>
                    <a:lnTo>
                      <a:pt x="43" y="1346"/>
                    </a:lnTo>
                    <a:lnTo>
                      <a:pt x="34" y="1407"/>
                    </a:lnTo>
                    <a:lnTo>
                      <a:pt x="26" y="1470"/>
                    </a:lnTo>
                    <a:lnTo>
                      <a:pt x="19" y="1532"/>
                    </a:lnTo>
                    <a:lnTo>
                      <a:pt x="13" y="1595"/>
                    </a:lnTo>
                    <a:lnTo>
                      <a:pt x="8" y="1658"/>
                    </a:lnTo>
                    <a:lnTo>
                      <a:pt x="4" y="1721"/>
                    </a:lnTo>
                    <a:lnTo>
                      <a:pt x="2" y="1785"/>
                    </a:lnTo>
                    <a:lnTo>
                      <a:pt x="0" y="1849"/>
                    </a:lnTo>
                    <a:lnTo>
                      <a:pt x="0" y="1914"/>
                    </a:lnTo>
                    <a:lnTo>
                      <a:pt x="0" y="1977"/>
                    </a:lnTo>
                    <a:lnTo>
                      <a:pt x="2" y="2041"/>
                    </a:lnTo>
                    <a:lnTo>
                      <a:pt x="4" y="2105"/>
                    </a:lnTo>
                    <a:lnTo>
                      <a:pt x="8" y="2169"/>
                    </a:lnTo>
                    <a:lnTo>
                      <a:pt x="13" y="2232"/>
                    </a:lnTo>
                    <a:lnTo>
                      <a:pt x="19" y="2295"/>
                    </a:lnTo>
                    <a:lnTo>
                      <a:pt x="26" y="2358"/>
                    </a:lnTo>
                    <a:lnTo>
                      <a:pt x="34" y="2419"/>
                    </a:lnTo>
                    <a:lnTo>
                      <a:pt x="43" y="2481"/>
                    </a:lnTo>
                    <a:lnTo>
                      <a:pt x="53" y="2542"/>
                    </a:lnTo>
                    <a:lnTo>
                      <a:pt x="64" y="2604"/>
                    </a:lnTo>
                    <a:lnTo>
                      <a:pt x="77" y="2664"/>
                    </a:lnTo>
                    <a:lnTo>
                      <a:pt x="90" y="2725"/>
                    </a:lnTo>
                    <a:lnTo>
                      <a:pt x="104" y="2785"/>
                    </a:lnTo>
                    <a:lnTo>
                      <a:pt x="119" y="2845"/>
                    </a:lnTo>
                    <a:lnTo>
                      <a:pt x="135" y="2904"/>
                    </a:lnTo>
                    <a:lnTo>
                      <a:pt x="151" y="2963"/>
                    </a:lnTo>
                    <a:lnTo>
                      <a:pt x="169" y="3022"/>
                    </a:lnTo>
                    <a:lnTo>
                      <a:pt x="188" y="3080"/>
                    </a:lnTo>
                    <a:lnTo>
                      <a:pt x="207" y="3137"/>
                    </a:lnTo>
                    <a:lnTo>
                      <a:pt x="229" y="3195"/>
                    </a:lnTo>
                    <a:lnTo>
                      <a:pt x="251" y="3251"/>
                    </a:lnTo>
                    <a:lnTo>
                      <a:pt x="272" y="3308"/>
                    </a:lnTo>
                    <a:lnTo>
                      <a:pt x="296" y="3363"/>
                    </a:lnTo>
                    <a:lnTo>
                      <a:pt x="321" y="3419"/>
                    </a:lnTo>
                    <a:lnTo>
                      <a:pt x="346" y="3473"/>
                    </a:lnTo>
                    <a:lnTo>
                      <a:pt x="372" y="3528"/>
                    </a:lnTo>
                    <a:lnTo>
                      <a:pt x="399" y="3582"/>
                    </a:lnTo>
                    <a:lnTo>
                      <a:pt x="427" y="3635"/>
                    </a:lnTo>
                    <a:lnTo>
                      <a:pt x="455" y="3688"/>
                    </a:lnTo>
                    <a:lnTo>
                      <a:pt x="484" y="3741"/>
                    </a:lnTo>
                    <a:lnTo>
                      <a:pt x="514" y="3793"/>
                    </a:lnTo>
                    <a:lnTo>
                      <a:pt x="523" y="3797"/>
                    </a:lnTo>
                    <a:lnTo>
                      <a:pt x="531" y="3802"/>
                    </a:lnTo>
                    <a:lnTo>
                      <a:pt x="540" y="3806"/>
                    </a:lnTo>
                    <a:lnTo>
                      <a:pt x="549" y="3810"/>
                    </a:lnTo>
                    <a:lnTo>
                      <a:pt x="557" y="3814"/>
                    </a:lnTo>
                    <a:lnTo>
                      <a:pt x="567" y="3819"/>
                    </a:lnTo>
                    <a:lnTo>
                      <a:pt x="576" y="3823"/>
                    </a:lnTo>
                    <a:lnTo>
                      <a:pt x="584" y="3827"/>
                    </a:lnTo>
                    <a:lnTo>
                      <a:pt x="552" y="3775"/>
                    </a:lnTo>
                    <a:lnTo>
                      <a:pt x="522" y="3722"/>
                    </a:lnTo>
                    <a:lnTo>
                      <a:pt x="491" y="3669"/>
                    </a:lnTo>
                    <a:lnTo>
                      <a:pt x="462" y="3614"/>
                    </a:lnTo>
                    <a:lnTo>
                      <a:pt x="434" y="3560"/>
                    </a:lnTo>
                    <a:lnTo>
                      <a:pt x="406" y="3505"/>
                    </a:lnTo>
                    <a:lnTo>
                      <a:pt x="380" y="3448"/>
                    </a:lnTo>
                    <a:lnTo>
                      <a:pt x="354" y="3392"/>
                    </a:lnTo>
                    <a:lnTo>
                      <a:pt x="329" y="3336"/>
                    </a:lnTo>
                    <a:lnTo>
                      <a:pt x="306" y="3279"/>
                    </a:lnTo>
                    <a:lnTo>
                      <a:pt x="283" y="3220"/>
                    </a:lnTo>
                    <a:lnTo>
                      <a:pt x="261" y="3162"/>
                    </a:lnTo>
                    <a:lnTo>
                      <a:pt x="240" y="3104"/>
                    </a:lnTo>
                    <a:lnTo>
                      <a:pt x="220" y="3044"/>
                    </a:lnTo>
                    <a:lnTo>
                      <a:pt x="202" y="2985"/>
                    </a:lnTo>
                    <a:lnTo>
                      <a:pt x="184" y="2925"/>
                    </a:lnTo>
                    <a:lnTo>
                      <a:pt x="166" y="2864"/>
                    </a:lnTo>
                    <a:lnTo>
                      <a:pt x="151" y="2804"/>
                    </a:lnTo>
                    <a:lnTo>
                      <a:pt x="136" y="2742"/>
                    </a:lnTo>
                    <a:lnTo>
                      <a:pt x="122" y="2680"/>
                    </a:lnTo>
                    <a:lnTo>
                      <a:pt x="109" y="2619"/>
                    </a:lnTo>
                    <a:lnTo>
                      <a:pt x="98" y="2556"/>
                    </a:lnTo>
                    <a:lnTo>
                      <a:pt x="87" y="2494"/>
                    </a:lnTo>
                    <a:lnTo>
                      <a:pt x="78" y="2430"/>
                    </a:lnTo>
                    <a:lnTo>
                      <a:pt x="69" y="2367"/>
                    </a:lnTo>
                    <a:lnTo>
                      <a:pt x="61" y="2304"/>
                    </a:lnTo>
                    <a:lnTo>
                      <a:pt x="56" y="2239"/>
                    </a:lnTo>
                    <a:lnTo>
                      <a:pt x="51" y="2174"/>
                    </a:lnTo>
                    <a:lnTo>
                      <a:pt x="46" y="2109"/>
                    </a:lnTo>
                    <a:lnTo>
                      <a:pt x="43" y="2044"/>
                    </a:lnTo>
                    <a:lnTo>
                      <a:pt x="42" y="1980"/>
                    </a:lnTo>
                    <a:lnTo>
                      <a:pt x="41" y="1914"/>
                    </a:lnTo>
                    <a:lnTo>
                      <a:pt x="42" y="1848"/>
                    </a:lnTo>
                    <a:lnTo>
                      <a:pt x="43" y="1782"/>
                    </a:lnTo>
                    <a:lnTo>
                      <a:pt x="46" y="1717"/>
                    </a:lnTo>
                    <a:lnTo>
                      <a:pt x="51" y="1652"/>
                    </a:lnTo>
                    <a:lnTo>
                      <a:pt x="56" y="1588"/>
                    </a:lnTo>
                    <a:lnTo>
                      <a:pt x="61" y="1524"/>
                    </a:lnTo>
                    <a:lnTo>
                      <a:pt x="69" y="1460"/>
                    </a:lnTo>
                    <a:lnTo>
                      <a:pt x="78" y="1396"/>
                    </a:lnTo>
                    <a:lnTo>
                      <a:pt x="87" y="1334"/>
                    </a:lnTo>
                    <a:lnTo>
                      <a:pt x="98" y="1270"/>
                    </a:lnTo>
                    <a:lnTo>
                      <a:pt x="109" y="1208"/>
                    </a:lnTo>
                    <a:lnTo>
                      <a:pt x="122" y="1146"/>
                    </a:lnTo>
                    <a:lnTo>
                      <a:pt x="136" y="1084"/>
                    </a:lnTo>
                    <a:lnTo>
                      <a:pt x="151" y="1023"/>
                    </a:lnTo>
                    <a:lnTo>
                      <a:pt x="166" y="962"/>
                    </a:lnTo>
                    <a:lnTo>
                      <a:pt x="184" y="902"/>
                    </a:lnTo>
                    <a:lnTo>
                      <a:pt x="202" y="842"/>
                    </a:lnTo>
                    <a:lnTo>
                      <a:pt x="220" y="782"/>
                    </a:lnTo>
                    <a:lnTo>
                      <a:pt x="240" y="724"/>
                    </a:lnTo>
                    <a:lnTo>
                      <a:pt x="261" y="664"/>
                    </a:lnTo>
                    <a:lnTo>
                      <a:pt x="283" y="606"/>
                    </a:lnTo>
                    <a:lnTo>
                      <a:pt x="306" y="549"/>
                    </a:lnTo>
                    <a:lnTo>
                      <a:pt x="329" y="491"/>
                    </a:lnTo>
                    <a:lnTo>
                      <a:pt x="354" y="434"/>
                    </a:lnTo>
                    <a:lnTo>
                      <a:pt x="380" y="378"/>
                    </a:lnTo>
                    <a:lnTo>
                      <a:pt x="406" y="323"/>
                    </a:lnTo>
                    <a:lnTo>
                      <a:pt x="434" y="268"/>
                    </a:lnTo>
                    <a:lnTo>
                      <a:pt x="462" y="213"/>
                    </a:lnTo>
                    <a:lnTo>
                      <a:pt x="491" y="159"/>
                    </a:lnTo>
                    <a:lnTo>
                      <a:pt x="522" y="105"/>
                    </a:lnTo>
                    <a:lnTo>
                      <a:pt x="552" y="52"/>
                    </a:lnTo>
                    <a:lnTo>
                      <a:pt x="584" y="0"/>
                    </a:lnTo>
                    <a:lnTo>
                      <a:pt x="576" y="4"/>
                    </a:lnTo>
                    <a:lnTo>
                      <a:pt x="567" y="9"/>
                    </a:lnTo>
                    <a:lnTo>
                      <a:pt x="557" y="13"/>
                    </a:lnTo>
                    <a:lnTo>
                      <a:pt x="549" y="17"/>
                    </a:lnTo>
                    <a:lnTo>
                      <a:pt x="540" y="22"/>
                    </a:lnTo>
                    <a:lnTo>
                      <a:pt x="531" y="26"/>
                    </a:lnTo>
                    <a:lnTo>
                      <a:pt x="523" y="30"/>
                    </a:lnTo>
                    <a:lnTo>
                      <a:pt x="514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119400" y="2230560"/>
                <a:ext cx="2909880" cy="1533240"/>
              </a:xfrm>
              <a:custGeom>
                <a:avLst/>
                <a:gdLst/>
                <a:ahLst/>
                <a:rect l="l" t="t" r="r" b="b"/>
                <a:pathLst>
                  <a:path w="7334" h="3862">
                    <a:moveTo>
                      <a:pt x="7334" y="1931"/>
                    </a:moveTo>
                    <a:lnTo>
                      <a:pt x="7333" y="1866"/>
                    </a:lnTo>
                    <a:lnTo>
                      <a:pt x="7332" y="1801"/>
                    </a:lnTo>
                    <a:lnTo>
                      <a:pt x="7329" y="1736"/>
                    </a:lnTo>
                    <a:lnTo>
                      <a:pt x="7325" y="1673"/>
                    </a:lnTo>
                    <a:lnTo>
                      <a:pt x="7320" y="1609"/>
                    </a:lnTo>
                    <a:lnTo>
                      <a:pt x="7313" y="1545"/>
                    </a:lnTo>
                    <a:lnTo>
                      <a:pt x="7307" y="1481"/>
                    </a:lnTo>
                    <a:lnTo>
                      <a:pt x="7298" y="1419"/>
                    </a:lnTo>
                    <a:lnTo>
                      <a:pt x="7290" y="1356"/>
                    </a:lnTo>
                    <a:lnTo>
                      <a:pt x="7279" y="1295"/>
                    </a:lnTo>
                    <a:lnTo>
                      <a:pt x="7268" y="1233"/>
                    </a:lnTo>
                    <a:lnTo>
                      <a:pt x="7255" y="1171"/>
                    </a:lnTo>
                    <a:lnTo>
                      <a:pt x="7242" y="1110"/>
                    </a:lnTo>
                    <a:lnTo>
                      <a:pt x="7227" y="1049"/>
                    </a:lnTo>
                    <a:lnTo>
                      <a:pt x="7212" y="989"/>
                    </a:lnTo>
                    <a:lnTo>
                      <a:pt x="7196" y="930"/>
                    </a:lnTo>
                    <a:lnTo>
                      <a:pt x="7178" y="870"/>
                    </a:lnTo>
                    <a:lnTo>
                      <a:pt x="7160" y="811"/>
                    </a:lnTo>
                    <a:lnTo>
                      <a:pt x="7141" y="752"/>
                    </a:lnTo>
                    <a:lnTo>
                      <a:pt x="7120" y="694"/>
                    </a:lnTo>
                    <a:lnTo>
                      <a:pt x="7098" y="636"/>
                    </a:lnTo>
                    <a:lnTo>
                      <a:pt x="7077" y="579"/>
                    </a:lnTo>
                    <a:lnTo>
                      <a:pt x="7053" y="522"/>
                    </a:lnTo>
                    <a:lnTo>
                      <a:pt x="7029" y="466"/>
                    </a:lnTo>
                    <a:lnTo>
                      <a:pt x="7004" y="410"/>
                    </a:lnTo>
                    <a:lnTo>
                      <a:pt x="6978" y="355"/>
                    </a:lnTo>
                    <a:lnTo>
                      <a:pt x="6951" y="300"/>
                    </a:lnTo>
                    <a:lnTo>
                      <a:pt x="6924" y="246"/>
                    </a:lnTo>
                    <a:lnTo>
                      <a:pt x="6895" y="192"/>
                    </a:lnTo>
                    <a:lnTo>
                      <a:pt x="6866" y="139"/>
                    </a:lnTo>
                    <a:lnTo>
                      <a:pt x="6836" y="86"/>
                    </a:lnTo>
                    <a:lnTo>
                      <a:pt x="6806" y="33"/>
                    </a:lnTo>
                    <a:lnTo>
                      <a:pt x="6797" y="29"/>
                    </a:lnTo>
                    <a:lnTo>
                      <a:pt x="6787" y="24"/>
                    </a:lnTo>
                    <a:lnTo>
                      <a:pt x="6779" y="21"/>
                    </a:lnTo>
                    <a:lnTo>
                      <a:pt x="6770" y="17"/>
                    </a:lnTo>
                    <a:lnTo>
                      <a:pt x="6761" y="13"/>
                    </a:lnTo>
                    <a:lnTo>
                      <a:pt x="6753" y="8"/>
                    </a:lnTo>
                    <a:lnTo>
                      <a:pt x="6744" y="4"/>
                    </a:lnTo>
                    <a:lnTo>
                      <a:pt x="6735" y="0"/>
                    </a:lnTo>
                    <a:lnTo>
                      <a:pt x="6768" y="53"/>
                    </a:lnTo>
                    <a:lnTo>
                      <a:pt x="6799" y="105"/>
                    </a:lnTo>
                    <a:lnTo>
                      <a:pt x="6830" y="159"/>
                    </a:lnTo>
                    <a:lnTo>
                      <a:pt x="6860" y="213"/>
                    </a:lnTo>
                    <a:lnTo>
                      <a:pt x="6889" y="269"/>
                    </a:lnTo>
                    <a:lnTo>
                      <a:pt x="6917" y="325"/>
                    </a:lnTo>
                    <a:lnTo>
                      <a:pt x="6945" y="381"/>
                    </a:lnTo>
                    <a:lnTo>
                      <a:pt x="6971" y="437"/>
                    </a:lnTo>
                    <a:lnTo>
                      <a:pt x="6996" y="494"/>
                    </a:lnTo>
                    <a:lnTo>
                      <a:pt x="7021" y="552"/>
                    </a:lnTo>
                    <a:lnTo>
                      <a:pt x="7044" y="610"/>
                    </a:lnTo>
                    <a:lnTo>
                      <a:pt x="7066" y="669"/>
                    </a:lnTo>
                    <a:lnTo>
                      <a:pt x="7088" y="728"/>
                    </a:lnTo>
                    <a:lnTo>
                      <a:pt x="7108" y="788"/>
                    </a:lnTo>
                    <a:lnTo>
                      <a:pt x="7128" y="847"/>
                    </a:lnTo>
                    <a:lnTo>
                      <a:pt x="7146" y="908"/>
                    </a:lnTo>
                    <a:lnTo>
                      <a:pt x="7163" y="969"/>
                    </a:lnTo>
                    <a:lnTo>
                      <a:pt x="7179" y="1031"/>
                    </a:lnTo>
                    <a:lnTo>
                      <a:pt x="7195" y="1093"/>
                    </a:lnTo>
                    <a:lnTo>
                      <a:pt x="7209" y="1155"/>
                    </a:lnTo>
                    <a:lnTo>
                      <a:pt x="7222" y="1218"/>
                    </a:lnTo>
                    <a:lnTo>
                      <a:pt x="7235" y="1281"/>
                    </a:lnTo>
                    <a:lnTo>
                      <a:pt x="7245" y="1344"/>
                    </a:lnTo>
                    <a:lnTo>
                      <a:pt x="7255" y="1408"/>
                    </a:lnTo>
                    <a:lnTo>
                      <a:pt x="7264" y="1472"/>
                    </a:lnTo>
                    <a:lnTo>
                      <a:pt x="7271" y="1536"/>
                    </a:lnTo>
                    <a:lnTo>
                      <a:pt x="7278" y="1601"/>
                    </a:lnTo>
                    <a:lnTo>
                      <a:pt x="7283" y="1666"/>
                    </a:lnTo>
                    <a:lnTo>
                      <a:pt x="7286" y="1732"/>
                    </a:lnTo>
                    <a:lnTo>
                      <a:pt x="7290" y="1798"/>
                    </a:lnTo>
                    <a:lnTo>
                      <a:pt x="7292" y="1864"/>
                    </a:lnTo>
                    <a:lnTo>
                      <a:pt x="7292" y="1931"/>
                    </a:lnTo>
                    <a:lnTo>
                      <a:pt x="7292" y="1991"/>
                    </a:lnTo>
                    <a:lnTo>
                      <a:pt x="7291" y="2052"/>
                    </a:lnTo>
                    <a:lnTo>
                      <a:pt x="7288" y="2112"/>
                    </a:lnTo>
                    <a:lnTo>
                      <a:pt x="7284" y="2173"/>
                    </a:lnTo>
                    <a:lnTo>
                      <a:pt x="7280" y="2233"/>
                    </a:lnTo>
                    <a:lnTo>
                      <a:pt x="7275" y="2292"/>
                    </a:lnTo>
                    <a:lnTo>
                      <a:pt x="7268" y="2352"/>
                    </a:lnTo>
                    <a:lnTo>
                      <a:pt x="7261" y="2411"/>
                    </a:lnTo>
                    <a:lnTo>
                      <a:pt x="7252" y="2470"/>
                    </a:lnTo>
                    <a:lnTo>
                      <a:pt x="7243" y="2528"/>
                    </a:lnTo>
                    <a:lnTo>
                      <a:pt x="7232" y="2586"/>
                    </a:lnTo>
                    <a:lnTo>
                      <a:pt x="7222" y="2645"/>
                    </a:lnTo>
                    <a:lnTo>
                      <a:pt x="7210" y="2702"/>
                    </a:lnTo>
                    <a:lnTo>
                      <a:pt x="7197" y="2759"/>
                    </a:lnTo>
                    <a:lnTo>
                      <a:pt x="7183" y="2816"/>
                    </a:lnTo>
                    <a:lnTo>
                      <a:pt x="7169" y="2872"/>
                    </a:lnTo>
                    <a:lnTo>
                      <a:pt x="7209" y="2883"/>
                    </a:lnTo>
                    <a:lnTo>
                      <a:pt x="7224" y="2826"/>
                    </a:lnTo>
                    <a:lnTo>
                      <a:pt x="7238" y="2769"/>
                    </a:lnTo>
                    <a:lnTo>
                      <a:pt x="7251" y="2710"/>
                    </a:lnTo>
                    <a:lnTo>
                      <a:pt x="7263" y="2652"/>
                    </a:lnTo>
                    <a:lnTo>
                      <a:pt x="7273" y="2594"/>
                    </a:lnTo>
                    <a:lnTo>
                      <a:pt x="7284" y="2535"/>
                    </a:lnTo>
                    <a:lnTo>
                      <a:pt x="7294" y="2476"/>
                    </a:lnTo>
                    <a:lnTo>
                      <a:pt x="7302" y="2417"/>
                    </a:lnTo>
                    <a:lnTo>
                      <a:pt x="7309" y="2356"/>
                    </a:lnTo>
                    <a:lnTo>
                      <a:pt x="7316" y="2297"/>
                    </a:lnTo>
                    <a:lnTo>
                      <a:pt x="7321" y="2236"/>
                    </a:lnTo>
                    <a:lnTo>
                      <a:pt x="7325" y="2176"/>
                    </a:lnTo>
                    <a:lnTo>
                      <a:pt x="7330" y="2114"/>
                    </a:lnTo>
                    <a:lnTo>
                      <a:pt x="7332" y="2054"/>
                    </a:lnTo>
                    <a:lnTo>
                      <a:pt x="7334" y="1992"/>
                    </a:lnTo>
                    <a:lnTo>
                      <a:pt x="7334" y="1931"/>
                    </a:lnTo>
                    <a:close/>
                    <a:moveTo>
                      <a:pt x="529" y="33"/>
                    </a:moveTo>
                    <a:lnTo>
                      <a:pt x="499" y="86"/>
                    </a:lnTo>
                    <a:lnTo>
                      <a:pt x="468" y="139"/>
                    </a:lnTo>
                    <a:lnTo>
                      <a:pt x="438" y="192"/>
                    </a:lnTo>
                    <a:lnTo>
                      <a:pt x="410" y="246"/>
                    </a:lnTo>
                    <a:lnTo>
                      <a:pt x="383" y="300"/>
                    </a:lnTo>
                    <a:lnTo>
                      <a:pt x="356" y="355"/>
                    </a:lnTo>
                    <a:lnTo>
                      <a:pt x="330" y="410"/>
                    </a:lnTo>
                    <a:lnTo>
                      <a:pt x="305" y="466"/>
                    </a:lnTo>
                    <a:lnTo>
                      <a:pt x="281" y="522"/>
                    </a:lnTo>
                    <a:lnTo>
                      <a:pt x="258" y="579"/>
                    </a:lnTo>
                    <a:lnTo>
                      <a:pt x="236" y="636"/>
                    </a:lnTo>
                    <a:lnTo>
                      <a:pt x="214" y="694"/>
                    </a:lnTo>
                    <a:lnTo>
                      <a:pt x="194" y="752"/>
                    </a:lnTo>
                    <a:lnTo>
                      <a:pt x="174" y="811"/>
                    </a:lnTo>
                    <a:lnTo>
                      <a:pt x="156" y="870"/>
                    </a:lnTo>
                    <a:lnTo>
                      <a:pt x="139" y="930"/>
                    </a:lnTo>
                    <a:lnTo>
                      <a:pt x="122" y="989"/>
                    </a:lnTo>
                    <a:lnTo>
                      <a:pt x="107" y="1049"/>
                    </a:lnTo>
                    <a:lnTo>
                      <a:pt x="92" y="1110"/>
                    </a:lnTo>
                    <a:lnTo>
                      <a:pt x="79" y="1171"/>
                    </a:lnTo>
                    <a:lnTo>
                      <a:pt x="66" y="1233"/>
                    </a:lnTo>
                    <a:lnTo>
                      <a:pt x="55" y="1295"/>
                    </a:lnTo>
                    <a:lnTo>
                      <a:pt x="45" y="1356"/>
                    </a:lnTo>
                    <a:lnTo>
                      <a:pt x="36" y="1419"/>
                    </a:lnTo>
                    <a:lnTo>
                      <a:pt x="27" y="1481"/>
                    </a:lnTo>
                    <a:lnTo>
                      <a:pt x="20" y="1545"/>
                    </a:lnTo>
                    <a:lnTo>
                      <a:pt x="14" y="1609"/>
                    </a:lnTo>
                    <a:lnTo>
                      <a:pt x="9" y="1673"/>
                    </a:lnTo>
                    <a:lnTo>
                      <a:pt x="6" y="1736"/>
                    </a:lnTo>
                    <a:lnTo>
                      <a:pt x="3" y="1801"/>
                    </a:lnTo>
                    <a:lnTo>
                      <a:pt x="0" y="1866"/>
                    </a:lnTo>
                    <a:lnTo>
                      <a:pt x="0" y="1931"/>
                    </a:lnTo>
                    <a:lnTo>
                      <a:pt x="0" y="1995"/>
                    </a:lnTo>
                    <a:lnTo>
                      <a:pt x="3" y="2060"/>
                    </a:lnTo>
                    <a:lnTo>
                      <a:pt x="6" y="2124"/>
                    </a:lnTo>
                    <a:lnTo>
                      <a:pt x="9" y="2189"/>
                    </a:lnTo>
                    <a:lnTo>
                      <a:pt x="14" y="2253"/>
                    </a:lnTo>
                    <a:lnTo>
                      <a:pt x="21" y="2316"/>
                    </a:lnTo>
                    <a:lnTo>
                      <a:pt x="27" y="2379"/>
                    </a:lnTo>
                    <a:lnTo>
                      <a:pt x="36" y="2442"/>
                    </a:lnTo>
                    <a:lnTo>
                      <a:pt x="45" y="2504"/>
                    </a:lnTo>
                    <a:lnTo>
                      <a:pt x="55" y="2567"/>
                    </a:lnTo>
                    <a:lnTo>
                      <a:pt x="66" y="2628"/>
                    </a:lnTo>
                    <a:lnTo>
                      <a:pt x="79" y="2690"/>
                    </a:lnTo>
                    <a:lnTo>
                      <a:pt x="92" y="2750"/>
                    </a:lnTo>
                    <a:lnTo>
                      <a:pt x="107" y="2812"/>
                    </a:lnTo>
                    <a:lnTo>
                      <a:pt x="122" y="2871"/>
                    </a:lnTo>
                    <a:lnTo>
                      <a:pt x="139" y="2932"/>
                    </a:lnTo>
                    <a:lnTo>
                      <a:pt x="156" y="2991"/>
                    </a:lnTo>
                    <a:lnTo>
                      <a:pt x="174" y="3051"/>
                    </a:lnTo>
                    <a:lnTo>
                      <a:pt x="194" y="3109"/>
                    </a:lnTo>
                    <a:lnTo>
                      <a:pt x="214" y="3167"/>
                    </a:lnTo>
                    <a:lnTo>
                      <a:pt x="236" y="3225"/>
                    </a:lnTo>
                    <a:lnTo>
                      <a:pt x="258" y="3282"/>
                    </a:lnTo>
                    <a:lnTo>
                      <a:pt x="281" y="3339"/>
                    </a:lnTo>
                    <a:lnTo>
                      <a:pt x="305" y="3395"/>
                    </a:lnTo>
                    <a:lnTo>
                      <a:pt x="330" y="3451"/>
                    </a:lnTo>
                    <a:lnTo>
                      <a:pt x="356" y="3506"/>
                    </a:lnTo>
                    <a:lnTo>
                      <a:pt x="383" y="3561"/>
                    </a:lnTo>
                    <a:lnTo>
                      <a:pt x="410" y="3615"/>
                    </a:lnTo>
                    <a:lnTo>
                      <a:pt x="438" y="3669"/>
                    </a:lnTo>
                    <a:lnTo>
                      <a:pt x="468" y="3722"/>
                    </a:lnTo>
                    <a:lnTo>
                      <a:pt x="499" y="3775"/>
                    </a:lnTo>
                    <a:lnTo>
                      <a:pt x="529" y="3827"/>
                    </a:lnTo>
                    <a:lnTo>
                      <a:pt x="537" y="3831"/>
                    </a:lnTo>
                    <a:lnTo>
                      <a:pt x="546" y="3836"/>
                    </a:lnTo>
                    <a:lnTo>
                      <a:pt x="556" y="3840"/>
                    </a:lnTo>
                    <a:lnTo>
                      <a:pt x="564" y="3844"/>
                    </a:lnTo>
                    <a:lnTo>
                      <a:pt x="573" y="3849"/>
                    </a:lnTo>
                    <a:lnTo>
                      <a:pt x="582" y="3853"/>
                    </a:lnTo>
                    <a:lnTo>
                      <a:pt x="590" y="3857"/>
                    </a:lnTo>
                    <a:lnTo>
                      <a:pt x="599" y="3862"/>
                    </a:lnTo>
                    <a:lnTo>
                      <a:pt x="567" y="3809"/>
                    </a:lnTo>
                    <a:lnTo>
                      <a:pt x="535" y="3756"/>
                    </a:lnTo>
                    <a:lnTo>
                      <a:pt x="504" y="3702"/>
                    </a:lnTo>
                    <a:lnTo>
                      <a:pt x="474" y="3647"/>
                    </a:lnTo>
                    <a:lnTo>
                      <a:pt x="446" y="3592"/>
                    </a:lnTo>
                    <a:lnTo>
                      <a:pt x="416" y="3537"/>
                    </a:lnTo>
                    <a:lnTo>
                      <a:pt x="389" y="3480"/>
                    </a:lnTo>
                    <a:lnTo>
                      <a:pt x="363" y="3423"/>
                    </a:lnTo>
                    <a:lnTo>
                      <a:pt x="339" y="3366"/>
                    </a:lnTo>
                    <a:lnTo>
                      <a:pt x="314" y="3309"/>
                    </a:lnTo>
                    <a:lnTo>
                      <a:pt x="290" y="3250"/>
                    </a:lnTo>
                    <a:lnTo>
                      <a:pt x="268" y="3192"/>
                    </a:lnTo>
                    <a:lnTo>
                      <a:pt x="247" y="3133"/>
                    </a:lnTo>
                    <a:lnTo>
                      <a:pt x="226" y="3073"/>
                    </a:lnTo>
                    <a:lnTo>
                      <a:pt x="207" y="3013"/>
                    </a:lnTo>
                    <a:lnTo>
                      <a:pt x="188" y="2952"/>
                    </a:lnTo>
                    <a:lnTo>
                      <a:pt x="171" y="2892"/>
                    </a:lnTo>
                    <a:lnTo>
                      <a:pt x="155" y="2830"/>
                    </a:lnTo>
                    <a:lnTo>
                      <a:pt x="140" y="2768"/>
                    </a:lnTo>
                    <a:lnTo>
                      <a:pt x="126" y="2706"/>
                    </a:lnTo>
                    <a:lnTo>
                      <a:pt x="112" y="2643"/>
                    </a:lnTo>
                    <a:lnTo>
                      <a:pt x="100" y="2580"/>
                    </a:lnTo>
                    <a:lnTo>
                      <a:pt x="89" y="2517"/>
                    </a:lnTo>
                    <a:lnTo>
                      <a:pt x="79" y="2453"/>
                    </a:lnTo>
                    <a:lnTo>
                      <a:pt x="71" y="2389"/>
                    </a:lnTo>
                    <a:lnTo>
                      <a:pt x="63" y="2324"/>
                    </a:lnTo>
                    <a:lnTo>
                      <a:pt x="57" y="2259"/>
                    </a:lnTo>
                    <a:lnTo>
                      <a:pt x="51" y="2194"/>
                    </a:lnTo>
                    <a:lnTo>
                      <a:pt x="47" y="2128"/>
                    </a:lnTo>
                    <a:lnTo>
                      <a:pt x="45" y="2062"/>
                    </a:lnTo>
                    <a:lnTo>
                      <a:pt x="43" y="1997"/>
                    </a:lnTo>
                    <a:lnTo>
                      <a:pt x="43" y="1931"/>
                    </a:lnTo>
                    <a:lnTo>
                      <a:pt x="43" y="1864"/>
                    </a:lnTo>
                    <a:lnTo>
                      <a:pt x="45" y="1798"/>
                    </a:lnTo>
                    <a:lnTo>
                      <a:pt x="47" y="1732"/>
                    </a:lnTo>
                    <a:lnTo>
                      <a:pt x="51" y="1666"/>
                    </a:lnTo>
                    <a:lnTo>
                      <a:pt x="57" y="1601"/>
                    </a:lnTo>
                    <a:lnTo>
                      <a:pt x="63" y="1536"/>
                    </a:lnTo>
                    <a:lnTo>
                      <a:pt x="71" y="1472"/>
                    </a:lnTo>
                    <a:lnTo>
                      <a:pt x="79" y="1408"/>
                    </a:lnTo>
                    <a:lnTo>
                      <a:pt x="89" y="1344"/>
                    </a:lnTo>
                    <a:lnTo>
                      <a:pt x="100" y="1281"/>
                    </a:lnTo>
                    <a:lnTo>
                      <a:pt x="112" y="1218"/>
                    </a:lnTo>
                    <a:lnTo>
                      <a:pt x="126" y="1155"/>
                    </a:lnTo>
                    <a:lnTo>
                      <a:pt x="140" y="1093"/>
                    </a:lnTo>
                    <a:lnTo>
                      <a:pt x="155" y="1031"/>
                    </a:lnTo>
                    <a:lnTo>
                      <a:pt x="171" y="969"/>
                    </a:lnTo>
                    <a:lnTo>
                      <a:pt x="188" y="908"/>
                    </a:lnTo>
                    <a:lnTo>
                      <a:pt x="207" y="847"/>
                    </a:lnTo>
                    <a:lnTo>
                      <a:pt x="226" y="788"/>
                    </a:lnTo>
                    <a:lnTo>
                      <a:pt x="247" y="728"/>
                    </a:lnTo>
                    <a:lnTo>
                      <a:pt x="268" y="669"/>
                    </a:lnTo>
                    <a:lnTo>
                      <a:pt x="290" y="610"/>
                    </a:lnTo>
                    <a:lnTo>
                      <a:pt x="314" y="552"/>
                    </a:lnTo>
                    <a:lnTo>
                      <a:pt x="339" y="494"/>
                    </a:lnTo>
                    <a:lnTo>
                      <a:pt x="363" y="437"/>
                    </a:lnTo>
                    <a:lnTo>
                      <a:pt x="389" y="381"/>
                    </a:lnTo>
                    <a:lnTo>
                      <a:pt x="416" y="325"/>
                    </a:lnTo>
                    <a:lnTo>
                      <a:pt x="446" y="269"/>
                    </a:lnTo>
                    <a:lnTo>
                      <a:pt x="474" y="213"/>
                    </a:lnTo>
                    <a:lnTo>
                      <a:pt x="504" y="159"/>
                    </a:lnTo>
                    <a:lnTo>
                      <a:pt x="535" y="105"/>
                    </a:lnTo>
                    <a:lnTo>
                      <a:pt x="567" y="53"/>
                    </a:lnTo>
                    <a:lnTo>
                      <a:pt x="599" y="0"/>
                    </a:lnTo>
                    <a:lnTo>
                      <a:pt x="590" y="4"/>
                    </a:lnTo>
                    <a:lnTo>
                      <a:pt x="582" y="8"/>
                    </a:lnTo>
                    <a:lnTo>
                      <a:pt x="573" y="13"/>
                    </a:lnTo>
                    <a:lnTo>
                      <a:pt x="564" y="17"/>
                    </a:lnTo>
                    <a:lnTo>
                      <a:pt x="556" y="21"/>
                    </a:lnTo>
                    <a:lnTo>
                      <a:pt x="546" y="24"/>
                    </a:lnTo>
                    <a:lnTo>
                      <a:pt x="537" y="29"/>
                    </a:lnTo>
                    <a:lnTo>
                      <a:pt x="529" y="33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127320" y="2224080"/>
                <a:ext cx="2894040" cy="1546200"/>
              </a:xfrm>
              <a:custGeom>
                <a:avLst/>
                <a:gdLst/>
                <a:ahLst/>
                <a:rect l="l" t="t" r="r" b="b"/>
                <a:pathLst>
                  <a:path w="7292" h="3895">
                    <a:moveTo>
                      <a:pt x="7292" y="1948"/>
                    </a:moveTo>
                    <a:lnTo>
                      <a:pt x="7291" y="1882"/>
                    </a:lnTo>
                    <a:lnTo>
                      <a:pt x="7290" y="1816"/>
                    </a:lnTo>
                    <a:lnTo>
                      <a:pt x="7287" y="1751"/>
                    </a:lnTo>
                    <a:lnTo>
                      <a:pt x="7283" y="1686"/>
                    </a:lnTo>
                    <a:lnTo>
                      <a:pt x="7277" y="1622"/>
                    </a:lnTo>
                    <a:lnTo>
                      <a:pt x="7272" y="1558"/>
                    </a:lnTo>
                    <a:lnTo>
                      <a:pt x="7264" y="1494"/>
                    </a:lnTo>
                    <a:lnTo>
                      <a:pt x="7256" y="1430"/>
                    </a:lnTo>
                    <a:lnTo>
                      <a:pt x="7246" y="1368"/>
                    </a:lnTo>
                    <a:lnTo>
                      <a:pt x="7235" y="1304"/>
                    </a:lnTo>
                    <a:lnTo>
                      <a:pt x="7223" y="1242"/>
                    </a:lnTo>
                    <a:lnTo>
                      <a:pt x="7211" y="1180"/>
                    </a:lnTo>
                    <a:lnTo>
                      <a:pt x="7197" y="1118"/>
                    </a:lnTo>
                    <a:lnTo>
                      <a:pt x="7182" y="1057"/>
                    </a:lnTo>
                    <a:lnTo>
                      <a:pt x="7167" y="996"/>
                    </a:lnTo>
                    <a:lnTo>
                      <a:pt x="7150" y="936"/>
                    </a:lnTo>
                    <a:lnTo>
                      <a:pt x="7131" y="876"/>
                    </a:lnTo>
                    <a:lnTo>
                      <a:pt x="7113" y="816"/>
                    </a:lnTo>
                    <a:lnTo>
                      <a:pt x="7093" y="758"/>
                    </a:lnTo>
                    <a:lnTo>
                      <a:pt x="7072" y="698"/>
                    </a:lnTo>
                    <a:lnTo>
                      <a:pt x="7050" y="640"/>
                    </a:lnTo>
                    <a:lnTo>
                      <a:pt x="7028" y="583"/>
                    </a:lnTo>
                    <a:lnTo>
                      <a:pt x="7004" y="525"/>
                    </a:lnTo>
                    <a:lnTo>
                      <a:pt x="6979" y="468"/>
                    </a:lnTo>
                    <a:lnTo>
                      <a:pt x="6953" y="412"/>
                    </a:lnTo>
                    <a:lnTo>
                      <a:pt x="6927" y="357"/>
                    </a:lnTo>
                    <a:lnTo>
                      <a:pt x="6899" y="302"/>
                    </a:lnTo>
                    <a:lnTo>
                      <a:pt x="6871" y="247"/>
                    </a:lnTo>
                    <a:lnTo>
                      <a:pt x="6842" y="193"/>
                    </a:lnTo>
                    <a:lnTo>
                      <a:pt x="6812" y="139"/>
                    </a:lnTo>
                    <a:lnTo>
                      <a:pt x="6781" y="86"/>
                    </a:lnTo>
                    <a:lnTo>
                      <a:pt x="6749" y="34"/>
                    </a:lnTo>
                    <a:lnTo>
                      <a:pt x="6740" y="30"/>
                    </a:lnTo>
                    <a:lnTo>
                      <a:pt x="6732" y="25"/>
                    </a:lnTo>
                    <a:lnTo>
                      <a:pt x="6723" y="21"/>
                    </a:lnTo>
                    <a:lnTo>
                      <a:pt x="6714" y="17"/>
                    </a:lnTo>
                    <a:lnTo>
                      <a:pt x="6706" y="12"/>
                    </a:lnTo>
                    <a:lnTo>
                      <a:pt x="6696" y="8"/>
                    </a:lnTo>
                    <a:lnTo>
                      <a:pt x="6687" y="4"/>
                    </a:lnTo>
                    <a:lnTo>
                      <a:pt x="6679" y="0"/>
                    </a:lnTo>
                    <a:lnTo>
                      <a:pt x="6712" y="53"/>
                    </a:lnTo>
                    <a:lnTo>
                      <a:pt x="6745" y="106"/>
                    </a:lnTo>
                    <a:lnTo>
                      <a:pt x="6777" y="160"/>
                    </a:lnTo>
                    <a:lnTo>
                      <a:pt x="6807" y="215"/>
                    </a:lnTo>
                    <a:lnTo>
                      <a:pt x="6838" y="270"/>
                    </a:lnTo>
                    <a:lnTo>
                      <a:pt x="6866" y="327"/>
                    </a:lnTo>
                    <a:lnTo>
                      <a:pt x="6894" y="383"/>
                    </a:lnTo>
                    <a:lnTo>
                      <a:pt x="6921" y="440"/>
                    </a:lnTo>
                    <a:lnTo>
                      <a:pt x="6947" y="498"/>
                    </a:lnTo>
                    <a:lnTo>
                      <a:pt x="6972" y="556"/>
                    </a:lnTo>
                    <a:lnTo>
                      <a:pt x="6995" y="615"/>
                    </a:lnTo>
                    <a:lnTo>
                      <a:pt x="7019" y="673"/>
                    </a:lnTo>
                    <a:lnTo>
                      <a:pt x="7041" y="734"/>
                    </a:lnTo>
                    <a:lnTo>
                      <a:pt x="7061" y="793"/>
                    </a:lnTo>
                    <a:lnTo>
                      <a:pt x="7082" y="854"/>
                    </a:lnTo>
                    <a:lnTo>
                      <a:pt x="7100" y="915"/>
                    </a:lnTo>
                    <a:lnTo>
                      <a:pt x="7118" y="977"/>
                    </a:lnTo>
                    <a:lnTo>
                      <a:pt x="7135" y="1038"/>
                    </a:lnTo>
                    <a:lnTo>
                      <a:pt x="7151" y="1101"/>
                    </a:lnTo>
                    <a:lnTo>
                      <a:pt x="7165" y="1164"/>
                    </a:lnTo>
                    <a:lnTo>
                      <a:pt x="7178" y="1227"/>
                    </a:lnTo>
                    <a:lnTo>
                      <a:pt x="7191" y="1291"/>
                    </a:lnTo>
                    <a:lnTo>
                      <a:pt x="7202" y="1355"/>
                    </a:lnTo>
                    <a:lnTo>
                      <a:pt x="7212" y="1420"/>
                    </a:lnTo>
                    <a:lnTo>
                      <a:pt x="7221" y="1484"/>
                    </a:lnTo>
                    <a:lnTo>
                      <a:pt x="7229" y="1549"/>
                    </a:lnTo>
                    <a:lnTo>
                      <a:pt x="7235" y="1615"/>
                    </a:lnTo>
                    <a:lnTo>
                      <a:pt x="7241" y="1681"/>
                    </a:lnTo>
                    <a:lnTo>
                      <a:pt x="7245" y="1747"/>
                    </a:lnTo>
                    <a:lnTo>
                      <a:pt x="7248" y="1814"/>
                    </a:lnTo>
                    <a:lnTo>
                      <a:pt x="7250" y="1881"/>
                    </a:lnTo>
                    <a:lnTo>
                      <a:pt x="7250" y="1948"/>
                    </a:lnTo>
                    <a:lnTo>
                      <a:pt x="7250" y="2008"/>
                    </a:lnTo>
                    <a:lnTo>
                      <a:pt x="7248" y="2069"/>
                    </a:lnTo>
                    <a:lnTo>
                      <a:pt x="7246" y="2128"/>
                    </a:lnTo>
                    <a:lnTo>
                      <a:pt x="7243" y="2189"/>
                    </a:lnTo>
                    <a:lnTo>
                      <a:pt x="7238" y="2248"/>
                    </a:lnTo>
                    <a:lnTo>
                      <a:pt x="7233" y="2307"/>
                    </a:lnTo>
                    <a:lnTo>
                      <a:pt x="7227" y="2367"/>
                    </a:lnTo>
                    <a:lnTo>
                      <a:pt x="7219" y="2425"/>
                    </a:lnTo>
                    <a:lnTo>
                      <a:pt x="7210" y="2483"/>
                    </a:lnTo>
                    <a:lnTo>
                      <a:pt x="7202" y="2542"/>
                    </a:lnTo>
                    <a:lnTo>
                      <a:pt x="7191" y="2600"/>
                    </a:lnTo>
                    <a:lnTo>
                      <a:pt x="7180" y="2657"/>
                    </a:lnTo>
                    <a:lnTo>
                      <a:pt x="7168" y="2714"/>
                    </a:lnTo>
                    <a:lnTo>
                      <a:pt x="7155" y="2772"/>
                    </a:lnTo>
                    <a:lnTo>
                      <a:pt x="7142" y="2828"/>
                    </a:lnTo>
                    <a:lnTo>
                      <a:pt x="7127" y="2884"/>
                    </a:lnTo>
                    <a:lnTo>
                      <a:pt x="7167" y="2895"/>
                    </a:lnTo>
                    <a:lnTo>
                      <a:pt x="7182" y="2838"/>
                    </a:lnTo>
                    <a:lnTo>
                      <a:pt x="7196" y="2780"/>
                    </a:lnTo>
                    <a:lnTo>
                      <a:pt x="7209" y="2723"/>
                    </a:lnTo>
                    <a:lnTo>
                      <a:pt x="7221" y="2666"/>
                    </a:lnTo>
                    <a:lnTo>
                      <a:pt x="7232" y="2608"/>
                    </a:lnTo>
                    <a:lnTo>
                      <a:pt x="7243" y="2548"/>
                    </a:lnTo>
                    <a:lnTo>
                      <a:pt x="7251" y="2490"/>
                    </a:lnTo>
                    <a:lnTo>
                      <a:pt x="7260" y="2430"/>
                    </a:lnTo>
                    <a:lnTo>
                      <a:pt x="7268" y="2371"/>
                    </a:lnTo>
                    <a:lnTo>
                      <a:pt x="7274" y="2312"/>
                    </a:lnTo>
                    <a:lnTo>
                      <a:pt x="7279" y="2251"/>
                    </a:lnTo>
                    <a:lnTo>
                      <a:pt x="7284" y="2191"/>
                    </a:lnTo>
                    <a:lnTo>
                      <a:pt x="7288" y="2130"/>
                    </a:lnTo>
                    <a:lnTo>
                      <a:pt x="7290" y="2070"/>
                    </a:lnTo>
                    <a:lnTo>
                      <a:pt x="7291" y="2009"/>
                    </a:lnTo>
                    <a:lnTo>
                      <a:pt x="7292" y="1948"/>
                    </a:lnTo>
                    <a:close/>
                    <a:moveTo>
                      <a:pt x="543" y="34"/>
                    </a:moveTo>
                    <a:lnTo>
                      <a:pt x="511" y="86"/>
                    </a:lnTo>
                    <a:lnTo>
                      <a:pt x="481" y="139"/>
                    </a:lnTo>
                    <a:lnTo>
                      <a:pt x="450" y="193"/>
                    </a:lnTo>
                    <a:lnTo>
                      <a:pt x="421" y="247"/>
                    </a:lnTo>
                    <a:lnTo>
                      <a:pt x="393" y="302"/>
                    </a:lnTo>
                    <a:lnTo>
                      <a:pt x="365" y="357"/>
                    </a:lnTo>
                    <a:lnTo>
                      <a:pt x="339" y="412"/>
                    </a:lnTo>
                    <a:lnTo>
                      <a:pt x="313" y="468"/>
                    </a:lnTo>
                    <a:lnTo>
                      <a:pt x="288" y="525"/>
                    </a:lnTo>
                    <a:lnTo>
                      <a:pt x="265" y="583"/>
                    </a:lnTo>
                    <a:lnTo>
                      <a:pt x="242" y="640"/>
                    </a:lnTo>
                    <a:lnTo>
                      <a:pt x="220" y="698"/>
                    </a:lnTo>
                    <a:lnTo>
                      <a:pt x="199" y="758"/>
                    </a:lnTo>
                    <a:lnTo>
                      <a:pt x="179" y="816"/>
                    </a:lnTo>
                    <a:lnTo>
                      <a:pt x="161" y="876"/>
                    </a:lnTo>
                    <a:lnTo>
                      <a:pt x="143" y="936"/>
                    </a:lnTo>
                    <a:lnTo>
                      <a:pt x="125" y="996"/>
                    </a:lnTo>
                    <a:lnTo>
                      <a:pt x="110" y="1057"/>
                    </a:lnTo>
                    <a:lnTo>
                      <a:pt x="95" y="1118"/>
                    </a:lnTo>
                    <a:lnTo>
                      <a:pt x="81" y="1180"/>
                    </a:lnTo>
                    <a:lnTo>
                      <a:pt x="68" y="1242"/>
                    </a:lnTo>
                    <a:lnTo>
                      <a:pt x="57" y="1304"/>
                    </a:lnTo>
                    <a:lnTo>
                      <a:pt x="46" y="1368"/>
                    </a:lnTo>
                    <a:lnTo>
                      <a:pt x="37" y="1430"/>
                    </a:lnTo>
                    <a:lnTo>
                      <a:pt x="28" y="1494"/>
                    </a:lnTo>
                    <a:lnTo>
                      <a:pt x="20" y="1558"/>
                    </a:lnTo>
                    <a:lnTo>
                      <a:pt x="15" y="1622"/>
                    </a:lnTo>
                    <a:lnTo>
                      <a:pt x="10" y="1686"/>
                    </a:lnTo>
                    <a:lnTo>
                      <a:pt x="5" y="1751"/>
                    </a:lnTo>
                    <a:lnTo>
                      <a:pt x="2" y="1816"/>
                    </a:lnTo>
                    <a:lnTo>
                      <a:pt x="1" y="1882"/>
                    </a:lnTo>
                    <a:lnTo>
                      <a:pt x="0" y="1948"/>
                    </a:lnTo>
                    <a:lnTo>
                      <a:pt x="1" y="2014"/>
                    </a:lnTo>
                    <a:lnTo>
                      <a:pt x="2" y="2078"/>
                    </a:lnTo>
                    <a:lnTo>
                      <a:pt x="5" y="2143"/>
                    </a:lnTo>
                    <a:lnTo>
                      <a:pt x="10" y="2208"/>
                    </a:lnTo>
                    <a:lnTo>
                      <a:pt x="15" y="2273"/>
                    </a:lnTo>
                    <a:lnTo>
                      <a:pt x="20" y="2338"/>
                    </a:lnTo>
                    <a:lnTo>
                      <a:pt x="28" y="2401"/>
                    </a:lnTo>
                    <a:lnTo>
                      <a:pt x="37" y="2464"/>
                    </a:lnTo>
                    <a:lnTo>
                      <a:pt x="46" y="2528"/>
                    </a:lnTo>
                    <a:lnTo>
                      <a:pt x="57" y="2590"/>
                    </a:lnTo>
                    <a:lnTo>
                      <a:pt x="68" y="2653"/>
                    </a:lnTo>
                    <a:lnTo>
                      <a:pt x="81" y="2714"/>
                    </a:lnTo>
                    <a:lnTo>
                      <a:pt x="95" y="2776"/>
                    </a:lnTo>
                    <a:lnTo>
                      <a:pt x="110" y="2838"/>
                    </a:lnTo>
                    <a:lnTo>
                      <a:pt x="125" y="2898"/>
                    </a:lnTo>
                    <a:lnTo>
                      <a:pt x="143" y="2959"/>
                    </a:lnTo>
                    <a:lnTo>
                      <a:pt x="161" y="3019"/>
                    </a:lnTo>
                    <a:lnTo>
                      <a:pt x="179" y="3078"/>
                    </a:lnTo>
                    <a:lnTo>
                      <a:pt x="199" y="3138"/>
                    </a:lnTo>
                    <a:lnTo>
                      <a:pt x="220" y="3196"/>
                    </a:lnTo>
                    <a:lnTo>
                      <a:pt x="242" y="3254"/>
                    </a:lnTo>
                    <a:lnTo>
                      <a:pt x="265" y="3313"/>
                    </a:lnTo>
                    <a:lnTo>
                      <a:pt x="288" y="3370"/>
                    </a:lnTo>
                    <a:lnTo>
                      <a:pt x="313" y="3426"/>
                    </a:lnTo>
                    <a:lnTo>
                      <a:pt x="339" y="3482"/>
                    </a:lnTo>
                    <a:lnTo>
                      <a:pt x="365" y="3539"/>
                    </a:lnTo>
                    <a:lnTo>
                      <a:pt x="393" y="3594"/>
                    </a:lnTo>
                    <a:lnTo>
                      <a:pt x="421" y="3648"/>
                    </a:lnTo>
                    <a:lnTo>
                      <a:pt x="450" y="3703"/>
                    </a:lnTo>
                    <a:lnTo>
                      <a:pt x="481" y="3756"/>
                    </a:lnTo>
                    <a:lnTo>
                      <a:pt x="511" y="3809"/>
                    </a:lnTo>
                    <a:lnTo>
                      <a:pt x="543" y="3861"/>
                    </a:lnTo>
                    <a:lnTo>
                      <a:pt x="552" y="3866"/>
                    </a:lnTo>
                    <a:lnTo>
                      <a:pt x="561" y="3870"/>
                    </a:lnTo>
                    <a:lnTo>
                      <a:pt x="569" y="3874"/>
                    </a:lnTo>
                    <a:lnTo>
                      <a:pt x="578" y="3878"/>
                    </a:lnTo>
                    <a:lnTo>
                      <a:pt x="587" y="3882"/>
                    </a:lnTo>
                    <a:lnTo>
                      <a:pt x="595" y="3886"/>
                    </a:lnTo>
                    <a:lnTo>
                      <a:pt x="605" y="3891"/>
                    </a:lnTo>
                    <a:lnTo>
                      <a:pt x="614" y="3895"/>
                    </a:lnTo>
                    <a:lnTo>
                      <a:pt x="580" y="3842"/>
                    </a:lnTo>
                    <a:lnTo>
                      <a:pt x="548" y="3788"/>
                    </a:lnTo>
                    <a:lnTo>
                      <a:pt x="515" y="3734"/>
                    </a:lnTo>
                    <a:lnTo>
                      <a:pt x="485" y="3679"/>
                    </a:lnTo>
                    <a:lnTo>
                      <a:pt x="455" y="3624"/>
                    </a:lnTo>
                    <a:lnTo>
                      <a:pt x="427" y="3568"/>
                    </a:lnTo>
                    <a:lnTo>
                      <a:pt x="399" y="3512"/>
                    </a:lnTo>
                    <a:lnTo>
                      <a:pt x="372" y="3454"/>
                    </a:lnTo>
                    <a:lnTo>
                      <a:pt x="346" y="3397"/>
                    </a:lnTo>
                    <a:lnTo>
                      <a:pt x="321" y="3339"/>
                    </a:lnTo>
                    <a:lnTo>
                      <a:pt x="297" y="3280"/>
                    </a:lnTo>
                    <a:lnTo>
                      <a:pt x="273" y="3221"/>
                    </a:lnTo>
                    <a:lnTo>
                      <a:pt x="252" y="3162"/>
                    </a:lnTo>
                    <a:lnTo>
                      <a:pt x="231" y="3101"/>
                    </a:lnTo>
                    <a:lnTo>
                      <a:pt x="211" y="3041"/>
                    </a:lnTo>
                    <a:lnTo>
                      <a:pt x="192" y="2979"/>
                    </a:lnTo>
                    <a:lnTo>
                      <a:pt x="174" y="2918"/>
                    </a:lnTo>
                    <a:lnTo>
                      <a:pt x="158" y="2856"/>
                    </a:lnTo>
                    <a:lnTo>
                      <a:pt x="141" y="2793"/>
                    </a:lnTo>
                    <a:lnTo>
                      <a:pt x="127" y="2731"/>
                    </a:lnTo>
                    <a:lnTo>
                      <a:pt x="113" y="2668"/>
                    </a:lnTo>
                    <a:lnTo>
                      <a:pt x="101" y="2604"/>
                    </a:lnTo>
                    <a:lnTo>
                      <a:pt x="91" y="2540"/>
                    </a:lnTo>
                    <a:lnTo>
                      <a:pt x="80" y="2476"/>
                    </a:lnTo>
                    <a:lnTo>
                      <a:pt x="71" y="2411"/>
                    </a:lnTo>
                    <a:lnTo>
                      <a:pt x="64" y="2345"/>
                    </a:lnTo>
                    <a:lnTo>
                      <a:pt x="57" y="2280"/>
                    </a:lnTo>
                    <a:lnTo>
                      <a:pt x="52" y="2214"/>
                    </a:lnTo>
                    <a:lnTo>
                      <a:pt x="47" y="2147"/>
                    </a:lnTo>
                    <a:lnTo>
                      <a:pt x="44" y="2082"/>
                    </a:lnTo>
                    <a:lnTo>
                      <a:pt x="42" y="2015"/>
                    </a:lnTo>
                    <a:lnTo>
                      <a:pt x="42" y="1948"/>
                    </a:lnTo>
                    <a:lnTo>
                      <a:pt x="42" y="1881"/>
                    </a:lnTo>
                    <a:lnTo>
                      <a:pt x="44" y="1814"/>
                    </a:lnTo>
                    <a:lnTo>
                      <a:pt x="47" y="1747"/>
                    </a:lnTo>
                    <a:lnTo>
                      <a:pt x="52" y="1681"/>
                    </a:lnTo>
                    <a:lnTo>
                      <a:pt x="57" y="1615"/>
                    </a:lnTo>
                    <a:lnTo>
                      <a:pt x="64" y="1549"/>
                    </a:lnTo>
                    <a:lnTo>
                      <a:pt x="71" y="1484"/>
                    </a:lnTo>
                    <a:lnTo>
                      <a:pt x="80" y="1420"/>
                    </a:lnTo>
                    <a:lnTo>
                      <a:pt x="91" y="1355"/>
                    </a:lnTo>
                    <a:lnTo>
                      <a:pt x="101" y="1291"/>
                    </a:lnTo>
                    <a:lnTo>
                      <a:pt x="113" y="1227"/>
                    </a:lnTo>
                    <a:lnTo>
                      <a:pt x="127" y="1164"/>
                    </a:lnTo>
                    <a:lnTo>
                      <a:pt x="141" y="1101"/>
                    </a:lnTo>
                    <a:lnTo>
                      <a:pt x="158" y="1038"/>
                    </a:lnTo>
                    <a:lnTo>
                      <a:pt x="174" y="977"/>
                    </a:lnTo>
                    <a:lnTo>
                      <a:pt x="192" y="915"/>
                    </a:lnTo>
                    <a:lnTo>
                      <a:pt x="211" y="854"/>
                    </a:lnTo>
                    <a:lnTo>
                      <a:pt x="231" y="793"/>
                    </a:lnTo>
                    <a:lnTo>
                      <a:pt x="252" y="734"/>
                    </a:lnTo>
                    <a:lnTo>
                      <a:pt x="273" y="673"/>
                    </a:lnTo>
                    <a:lnTo>
                      <a:pt x="297" y="615"/>
                    </a:lnTo>
                    <a:lnTo>
                      <a:pt x="321" y="556"/>
                    </a:lnTo>
                    <a:lnTo>
                      <a:pt x="346" y="498"/>
                    </a:lnTo>
                    <a:lnTo>
                      <a:pt x="372" y="440"/>
                    </a:lnTo>
                    <a:lnTo>
                      <a:pt x="399" y="383"/>
                    </a:lnTo>
                    <a:lnTo>
                      <a:pt x="427" y="327"/>
                    </a:lnTo>
                    <a:lnTo>
                      <a:pt x="455" y="270"/>
                    </a:lnTo>
                    <a:lnTo>
                      <a:pt x="485" y="215"/>
                    </a:lnTo>
                    <a:lnTo>
                      <a:pt x="515" y="160"/>
                    </a:lnTo>
                    <a:lnTo>
                      <a:pt x="548" y="106"/>
                    </a:lnTo>
                    <a:lnTo>
                      <a:pt x="580" y="53"/>
                    </a:lnTo>
                    <a:lnTo>
                      <a:pt x="614" y="0"/>
                    </a:lnTo>
                    <a:lnTo>
                      <a:pt x="605" y="4"/>
                    </a:lnTo>
                    <a:lnTo>
                      <a:pt x="595" y="8"/>
                    </a:lnTo>
                    <a:lnTo>
                      <a:pt x="587" y="12"/>
                    </a:lnTo>
                    <a:lnTo>
                      <a:pt x="578" y="17"/>
                    </a:lnTo>
                    <a:lnTo>
                      <a:pt x="569" y="21"/>
                    </a:lnTo>
                    <a:lnTo>
                      <a:pt x="561" y="25"/>
                    </a:lnTo>
                    <a:lnTo>
                      <a:pt x="552" y="30"/>
                    </a:lnTo>
                    <a:lnTo>
                      <a:pt x="543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135240" y="2217600"/>
                <a:ext cx="2876760" cy="1559160"/>
              </a:xfrm>
              <a:custGeom>
                <a:avLst/>
                <a:gdLst/>
                <a:ahLst/>
                <a:rect l="l" t="t" r="r" b="b"/>
                <a:pathLst>
                  <a:path w="7249" h="3928">
                    <a:moveTo>
                      <a:pt x="7249" y="1965"/>
                    </a:moveTo>
                    <a:lnTo>
                      <a:pt x="7249" y="1898"/>
                    </a:lnTo>
                    <a:lnTo>
                      <a:pt x="7247" y="1832"/>
                    </a:lnTo>
                    <a:lnTo>
                      <a:pt x="7243" y="1766"/>
                    </a:lnTo>
                    <a:lnTo>
                      <a:pt x="7240" y="1700"/>
                    </a:lnTo>
                    <a:lnTo>
                      <a:pt x="7235" y="1635"/>
                    </a:lnTo>
                    <a:lnTo>
                      <a:pt x="7228" y="1570"/>
                    </a:lnTo>
                    <a:lnTo>
                      <a:pt x="7221" y="1506"/>
                    </a:lnTo>
                    <a:lnTo>
                      <a:pt x="7212" y="1442"/>
                    </a:lnTo>
                    <a:lnTo>
                      <a:pt x="7202" y="1378"/>
                    </a:lnTo>
                    <a:lnTo>
                      <a:pt x="7192" y="1315"/>
                    </a:lnTo>
                    <a:lnTo>
                      <a:pt x="7179" y="1252"/>
                    </a:lnTo>
                    <a:lnTo>
                      <a:pt x="7166" y="1189"/>
                    </a:lnTo>
                    <a:lnTo>
                      <a:pt x="7152" y="1127"/>
                    </a:lnTo>
                    <a:lnTo>
                      <a:pt x="7136" y="1065"/>
                    </a:lnTo>
                    <a:lnTo>
                      <a:pt x="7120" y="1003"/>
                    </a:lnTo>
                    <a:lnTo>
                      <a:pt x="7103" y="942"/>
                    </a:lnTo>
                    <a:lnTo>
                      <a:pt x="7085" y="881"/>
                    </a:lnTo>
                    <a:lnTo>
                      <a:pt x="7065" y="822"/>
                    </a:lnTo>
                    <a:lnTo>
                      <a:pt x="7045" y="762"/>
                    </a:lnTo>
                    <a:lnTo>
                      <a:pt x="7023" y="703"/>
                    </a:lnTo>
                    <a:lnTo>
                      <a:pt x="7001" y="644"/>
                    </a:lnTo>
                    <a:lnTo>
                      <a:pt x="6978" y="586"/>
                    </a:lnTo>
                    <a:lnTo>
                      <a:pt x="6953" y="528"/>
                    </a:lnTo>
                    <a:lnTo>
                      <a:pt x="6928" y="471"/>
                    </a:lnTo>
                    <a:lnTo>
                      <a:pt x="6902" y="415"/>
                    </a:lnTo>
                    <a:lnTo>
                      <a:pt x="6874" y="359"/>
                    </a:lnTo>
                    <a:lnTo>
                      <a:pt x="6846" y="303"/>
                    </a:lnTo>
                    <a:lnTo>
                      <a:pt x="6817" y="247"/>
                    </a:lnTo>
                    <a:lnTo>
                      <a:pt x="6787" y="193"/>
                    </a:lnTo>
                    <a:lnTo>
                      <a:pt x="6756" y="139"/>
                    </a:lnTo>
                    <a:lnTo>
                      <a:pt x="6725" y="87"/>
                    </a:lnTo>
                    <a:lnTo>
                      <a:pt x="6692" y="34"/>
                    </a:lnTo>
                    <a:lnTo>
                      <a:pt x="6683" y="29"/>
                    </a:lnTo>
                    <a:lnTo>
                      <a:pt x="6674" y="25"/>
                    </a:lnTo>
                    <a:lnTo>
                      <a:pt x="6665" y="21"/>
                    </a:lnTo>
                    <a:lnTo>
                      <a:pt x="6657" y="16"/>
                    </a:lnTo>
                    <a:lnTo>
                      <a:pt x="6648" y="13"/>
                    </a:lnTo>
                    <a:lnTo>
                      <a:pt x="6638" y="9"/>
                    </a:lnTo>
                    <a:lnTo>
                      <a:pt x="6630" y="4"/>
                    </a:lnTo>
                    <a:lnTo>
                      <a:pt x="6621" y="0"/>
                    </a:lnTo>
                    <a:lnTo>
                      <a:pt x="6656" y="53"/>
                    </a:lnTo>
                    <a:lnTo>
                      <a:pt x="6689" y="107"/>
                    </a:lnTo>
                    <a:lnTo>
                      <a:pt x="6722" y="162"/>
                    </a:lnTo>
                    <a:lnTo>
                      <a:pt x="6753" y="217"/>
                    </a:lnTo>
                    <a:lnTo>
                      <a:pt x="6783" y="272"/>
                    </a:lnTo>
                    <a:lnTo>
                      <a:pt x="6812" y="328"/>
                    </a:lnTo>
                    <a:lnTo>
                      <a:pt x="6841" y="386"/>
                    </a:lnTo>
                    <a:lnTo>
                      <a:pt x="6868" y="443"/>
                    </a:lnTo>
                    <a:lnTo>
                      <a:pt x="6896" y="501"/>
                    </a:lnTo>
                    <a:lnTo>
                      <a:pt x="6921" y="560"/>
                    </a:lnTo>
                    <a:lnTo>
                      <a:pt x="6946" y="619"/>
                    </a:lnTo>
                    <a:lnTo>
                      <a:pt x="6969" y="678"/>
                    </a:lnTo>
                    <a:lnTo>
                      <a:pt x="6992" y="739"/>
                    </a:lnTo>
                    <a:lnTo>
                      <a:pt x="7013" y="799"/>
                    </a:lnTo>
                    <a:lnTo>
                      <a:pt x="7034" y="860"/>
                    </a:lnTo>
                    <a:lnTo>
                      <a:pt x="7053" y="921"/>
                    </a:lnTo>
                    <a:lnTo>
                      <a:pt x="7072" y="984"/>
                    </a:lnTo>
                    <a:lnTo>
                      <a:pt x="7089" y="1047"/>
                    </a:lnTo>
                    <a:lnTo>
                      <a:pt x="7105" y="1109"/>
                    </a:lnTo>
                    <a:lnTo>
                      <a:pt x="7120" y="1173"/>
                    </a:lnTo>
                    <a:lnTo>
                      <a:pt x="7133" y="1237"/>
                    </a:lnTo>
                    <a:lnTo>
                      <a:pt x="7146" y="1302"/>
                    </a:lnTo>
                    <a:lnTo>
                      <a:pt x="7158" y="1365"/>
                    </a:lnTo>
                    <a:lnTo>
                      <a:pt x="7168" y="1431"/>
                    </a:lnTo>
                    <a:lnTo>
                      <a:pt x="7178" y="1496"/>
                    </a:lnTo>
                    <a:lnTo>
                      <a:pt x="7185" y="1562"/>
                    </a:lnTo>
                    <a:lnTo>
                      <a:pt x="7192" y="1629"/>
                    </a:lnTo>
                    <a:lnTo>
                      <a:pt x="7198" y="1695"/>
                    </a:lnTo>
                    <a:lnTo>
                      <a:pt x="7202" y="1762"/>
                    </a:lnTo>
                    <a:lnTo>
                      <a:pt x="7206" y="1829"/>
                    </a:lnTo>
                    <a:lnTo>
                      <a:pt x="7207" y="1897"/>
                    </a:lnTo>
                    <a:lnTo>
                      <a:pt x="7208" y="1965"/>
                    </a:lnTo>
                    <a:lnTo>
                      <a:pt x="7207" y="2025"/>
                    </a:lnTo>
                    <a:lnTo>
                      <a:pt x="7206" y="2085"/>
                    </a:lnTo>
                    <a:lnTo>
                      <a:pt x="7203" y="2145"/>
                    </a:lnTo>
                    <a:lnTo>
                      <a:pt x="7200" y="2204"/>
                    </a:lnTo>
                    <a:lnTo>
                      <a:pt x="7195" y="2264"/>
                    </a:lnTo>
                    <a:lnTo>
                      <a:pt x="7189" y="2322"/>
                    </a:lnTo>
                    <a:lnTo>
                      <a:pt x="7184" y="2380"/>
                    </a:lnTo>
                    <a:lnTo>
                      <a:pt x="7176" y="2440"/>
                    </a:lnTo>
                    <a:lnTo>
                      <a:pt x="7168" y="2497"/>
                    </a:lnTo>
                    <a:lnTo>
                      <a:pt x="7159" y="2555"/>
                    </a:lnTo>
                    <a:lnTo>
                      <a:pt x="7148" y="2613"/>
                    </a:lnTo>
                    <a:lnTo>
                      <a:pt x="7138" y="2670"/>
                    </a:lnTo>
                    <a:lnTo>
                      <a:pt x="7126" y="2727"/>
                    </a:lnTo>
                    <a:lnTo>
                      <a:pt x="7113" y="2783"/>
                    </a:lnTo>
                    <a:lnTo>
                      <a:pt x="7100" y="2839"/>
                    </a:lnTo>
                    <a:lnTo>
                      <a:pt x="7085" y="2896"/>
                    </a:lnTo>
                    <a:lnTo>
                      <a:pt x="7126" y="2906"/>
                    </a:lnTo>
                    <a:lnTo>
                      <a:pt x="7140" y="2850"/>
                    </a:lnTo>
                    <a:lnTo>
                      <a:pt x="7154" y="2793"/>
                    </a:lnTo>
                    <a:lnTo>
                      <a:pt x="7167" y="2736"/>
                    </a:lnTo>
                    <a:lnTo>
                      <a:pt x="7179" y="2679"/>
                    </a:lnTo>
                    <a:lnTo>
                      <a:pt x="7189" y="2620"/>
                    </a:lnTo>
                    <a:lnTo>
                      <a:pt x="7200" y="2562"/>
                    </a:lnTo>
                    <a:lnTo>
                      <a:pt x="7209" y="2504"/>
                    </a:lnTo>
                    <a:lnTo>
                      <a:pt x="7218" y="2445"/>
                    </a:lnTo>
                    <a:lnTo>
                      <a:pt x="7225" y="2386"/>
                    </a:lnTo>
                    <a:lnTo>
                      <a:pt x="7232" y="2326"/>
                    </a:lnTo>
                    <a:lnTo>
                      <a:pt x="7237" y="2267"/>
                    </a:lnTo>
                    <a:lnTo>
                      <a:pt x="7241" y="2207"/>
                    </a:lnTo>
                    <a:lnTo>
                      <a:pt x="7245" y="2146"/>
                    </a:lnTo>
                    <a:lnTo>
                      <a:pt x="7248" y="2086"/>
                    </a:lnTo>
                    <a:lnTo>
                      <a:pt x="7249" y="2025"/>
                    </a:lnTo>
                    <a:lnTo>
                      <a:pt x="7249" y="1965"/>
                    </a:lnTo>
                    <a:close/>
                    <a:moveTo>
                      <a:pt x="556" y="34"/>
                    </a:moveTo>
                    <a:lnTo>
                      <a:pt x="524" y="87"/>
                    </a:lnTo>
                    <a:lnTo>
                      <a:pt x="492" y="139"/>
                    </a:lnTo>
                    <a:lnTo>
                      <a:pt x="461" y="193"/>
                    </a:lnTo>
                    <a:lnTo>
                      <a:pt x="431" y="247"/>
                    </a:lnTo>
                    <a:lnTo>
                      <a:pt x="403" y="303"/>
                    </a:lnTo>
                    <a:lnTo>
                      <a:pt x="373" y="359"/>
                    </a:lnTo>
                    <a:lnTo>
                      <a:pt x="346" y="415"/>
                    </a:lnTo>
                    <a:lnTo>
                      <a:pt x="320" y="471"/>
                    </a:lnTo>
                    <a:lnTo>
                      <a:pt x="296" y="528"/>
                    </a:lnTo>
                    <a:lnTo>
                      <a:pt x="271" y="586"/>
                    </a:lnTo>
                    <a:lnTo>
                      <a:pt x="247" y="644"/>
                    </a:lnTo>
                    <a:lnTo>
                      <a:pt x="225" y="703"/>
                    </a:lnTo>
                    <a:lnTo>
                      <a:pt x="204" y="762"/>
                    </a:lnTo>
                    <a:lnTo>
                      <a:pt x="183" y="822"/>
                    </a:lnTo>
                    <a:lnTo>
                      <a:pt x="164" y="881"/>
                    </a:lnTo>
                    <a:lnTo>
                      <a:pt x="145" y="942"/>
                    </a:lnTo>
                    <a:lnTo>
                      <a:pt x="128" y="1003"/>
                    </a:lnTo>
                    <a:lnTo>
                      <a:pt x="112" y="1065"/>
                    </a:lnTo>
                    <a:lnTo>
                      <a:pt x="97" y="1127"/>
                    </a:lnTo>
                    <a:lnTo>
                      <a:pt x="83" y="1189"/>
                    </a:lnTo>
                    <a:lnTo>
                      <a:pt x="69" y="1252"/>
                    </a:lnTo>
                    <a:lnTo>
                      <a:pt x="57" y="1315"/>
                    </a:lnTo>
                    <a:lnTo>
                      <a:pt x="46" y="1378"/>
                    </a:lnTo>
                    <a:lnTo>
                      <a:pt x="36" y="1442"/>
                    </a:lnTo>
                    <a:lnTo>
                      <a:pt x="28" y="1506"/>
                    </a:lnTo>
                    <a:lnTo>
                      <a:pt x="20" y="1570"/>
                    </a:lnTo>
                    <a:lnTo>
                      <a:pt x="14" y="1635"/>
                    </a:lnTo>
                    <a:lnTo>
                      <a:pt x="8" y="1700"/>
                    </a:lnTo>
                    <a:lnTo>
                      <a:pt x="4" y="1766"/>
                    </a:lnTo>
                    <a:lnTo>
                      <a:pt x="2" y="1832"/>
                    </a:lnTo>
                    <a:lnTo>
                      <a:pt x="0" y="1898"/>
                    </a:lnTo>
                    <a:lnTo>
                      <a:pt x="0" y="1965"/>
                    </a:lnTo>
                    <a:lnTo>
                      <a:pt x="0" y="2031"/>
                    </a:lnTo>
                    <a:lnTo>
                      <a:pt x="2" y="2096"/>
                    </a:lnTo>
                    <a:lnTo>
                      <a:pt x="4" y="2162"/>
                    </a:lnTo>
                    <a:lnTo>
                      <a:pt x="8" y="2228"/>
                    </a:lnTo>
                    <a:lnTo>
                      <a:pt x="14" y="2293"/>
                    </a:lnTo>
                    <a:lnTo>
                      <a:pt x="20" y="2358"/>
                    </a:lnTo>
                    <a:lnTo>
                      <a:pt x="28" y="2423"/>
                    </a:lnTo>
                    <a:lnTo>
                      <a:pt x="36" y="2487"/>
                    </a:lnTo>
                    <a:lnTo>
                      <a:pt x="46" y="2551"/>
                    </a:lnTo>
                    <a:lnTo>
                      <a:pt x="57" y="2614"/>
                    </a:lnTo>
                    <a:lnTo>
                      <a:pt x="69" y="2677"/>
                    </a:lnTo>
                    <a:lnTo>
                      <a:pt x="83" y="2740"/>
                    </a:lnTo>
                    <a:lnTo>
                      <a:pt x="97" y="2802"/>
                    </a:lnTo>
                    <a:lnTo>
                      <a:pt x="112" y="2864"/>
                    </a:lnTo>
                    <a:lnTo>
                      <a:pt x="128" y="2926"/>
                    </a:lnTo>
                    <a:lnTo>
                      <a:pt x="145" y="2986"/>
                    </a:lnTo>
                    <a:lnTo>
                      <a:pt x="164" y="3047"/>
                    </a:lnTo>
                    <a:lnTo>
                      <a:pt x="183" y="3107"/>
                    </a:lnTo>
                    <a:lnTo>
                      <a:pt x="204" y="3167"/>
                    </a:lnTo>
                    <a:lnTo>
                      <a:pt x="225" y="3226"/>
                    </a:lnTo>
                    <a:lnTo>
                      <a:pt x="247" y="3284"/>
                    </a:lnTo>
                    <a:lnTo>
                      <a:pt x="271" y="3343"/>
                    </a:lnTo>
                    <a:lnTo>
                      <a:pt x="296" y="3400"/>
                    </a:lnTo>
                    <a:lnTo>
                      <a:pt x="320" y="3457"/>
                    </a:lnTo>
                    <a:lnTo>
                      <a:pt x="346" y="3514"/>
                    </a:lnTo>
                    <a:lnTo>
                      <a:pt x="373" y="3571"/>
                    </a:lnTo>
                    <a:lnTo>
                      <a:pt x="403" y="3626"/>
                    </a:lnTo>
                    <a:lnTo>
                      <a:pt x="431" y="3681"/>
                    </a:lnTo>
                    <a:lnTo>
                      <a:pt x="461" y="3736"/>
                    </a:lnTo>
                    <a:lnTo>
                      <a:pt x="492" y="3790"/>
                    </a:lnTo>
                    <a:lnTo>
                      <a:pt x="524" y="3843"/>
                    </a:lnTo>
                    <a:lnTo>
                      <a:pt x="556" y="3896"/>
                    </a:lnTo>
                    <a:lnTo>
                      <a:pt x="566" y="3900"/>
                    </a:lnTo>
                    <a:lnTo>
                      <a:pt x="574" y="3903"/>
                    </a:lnTo>
                    <a:lnTo>
                      <a:pt x="583" y="3908"/>
                    </a:lnTo>
                    <a:lnTo>
                      <a:pt x="592" y="3912"/>
                    </a:lnTo>
                    <a:lnTo>
                      <a:pt x="600" y="3916"/>
                    </a:lnTo>
                    <a:lnTo>
                      <a:pt x="610" y="3921"/>
                    </a:lnTo>
                    <a:lnTo>
                      <a:pt x="619" y="3925"/>
                    </a:lnTo>
                    <a:lnTo>
                      <a:pt x="627" y="3928"/>
                    </a:lnTo>
                    <a:lnTo>
                      <a:pt x="593" y="3875"/>
                    </a:lnTo>
                    <a:lnTo>
                      <a:pt x="559" y="3821"/>
                    </a:lnTo>
                    <a:lnTo>
                      <a:pt x="527" y="3767"/>
                    </a:lnTo>
                    <a:lnTo>
                      <a:pt x="495" y="3712"/>
                    </a:lnTo>
                    <a:lnTo>
                      <a:pt x="465" y="3656"/>
                    </a:lnTo>
                    <a:lnTo>
                      <a:pt x="436" y="3600"/>
                    </a:lnTo>
                    <a:lnTo>
                      <a:pt x="407" y="3543"/>
                    </a:lnTo>
                    <a:lnTo>
                      <a:pt x="379" y="3485"/>
                    </a:lnTo>
                    <a:lnTo>
                      <a:pt x="353" y="3428"/>
                    </a:lnTo>
                    <a:lnTo>
                      <a:pt x="327" y="3369"/>
                    </a:lnTo>
                    <a:lnTo>
                      <a:pt x="302" y="3310"/>
                    </a:lnTo>
                    <a:lnTo>
                      <a:pt x="278" y="3250"/>
                    </a:lnTo>
                    <a:lnTo>
                      <a:pt x="257" y="3190"/>
                    </a:lnTo>
                    <a:lnTo>
                      <a:pt x="235" y="3130"/>
                    </a:lnTo>
                    <a:lnTo>
                      <a:pt x="215" y="3068"/>
                    </a:lnTo>
                    <a:lnTo>
                      <a:pt x="195" y="3007"/>
                    </a:lnTo>
                    <a:lnTo>
                      <a:pt x="177" y="2945"/>
                    </a:lnTo>
                    <a:lnTo>
                      <a:pt x="159" y="2883"/>
                    </a:lnTo>
                    <a:lnTo>
                      <a:pt x="143" y="2819"/>
                    </a:lnTo>
                    <a:lnTo>
                      <a:pt x="128" y="2756"/>
                    </a:lnTo>
                    <a:lnTo>
                      <a:pt x="115" y="2692"/>
                    </a:lnTo>
                    <a:lnTo>
                      <a:pt x="102" y="2628"/>
                    </a:lnTo>
                    <a:lnTo>
                      <a:pt x="90" y="2563"/>
                    </a:lnTo>
                    <a:lnTo>
                      <a:pt x="81" y="2498"/>
                    </a:lnTo>
                    <a:lnTo>
                      <a:pt x="71" y="2432"/>
                    </a:lnTo>
                    <a:lnTo>
                      <a:pt x="63" y="2366"/>
                    </a:lnTo>
                    <a:lnTo>
                      <a:pt x="57" y="2301"/>
                    </a:lnTo>
                    <a:lnTo>
                      <a:pt x="50" y="2234"/>
                    </a:lnTo>
                    <a:lnTo>
                      <a:pt x="46" y="2167"/>
                    </a:lnTo>
                    <a:lnTo>
                      <a:pt x="43" y="2100"/>
                    </a:lnTo>
                    <a:lnTo>
                      <a:pt x="42" y="2033"/>
                    </a:lnTo>
                    <a:lnTo>
                      <a:pt x="41" y="1965"/>
                    </a:lnTo>
                    <a:lnTo>
                      <a:pt x="42" y="1897"/>
                    </a:lnTo>
                    <a:lnTo>
                      <a:pt x="43" y="1829"/>
                    </a:lnTo>
                    <a:lnTo>
                      <a:pt x="46" y="1762"/>
                    </a:lnTo>
                    <a:lnTo>
                      <a:pt x="50" y="1695"/>
                    </a:lnTo>
                    <a:lnTo>
                      <a:pt x="57" y="1629"/>
                    </a:lnTo>
                    <a:lnTo>
                      <a:pt x="63" y="1562"/>
                    </a:lnTo>
                    <a:lnTo>
                      <a:pt x="71" y="1496"/>
                    </a:lnTo>
                    <a:lnTo>
                      <a:pt x="81" y="1431"/>
                    </a:lnTo>
                    <a:lnTo>
                      <a:pt x="90" y="1365"/>
                    </a:lnTo>
                    <a:lnTo>
                      <a:pt x="102" y="1302"/>
                    </a:lnTo>
                    <a:lnTo>
                      <a:pt x="115" y="1237"/>
                    </a:lnTo>
                    <a:lnTo>
                      <a:pt x="128" y="1173"/>
                    </a:lnTo>
                    <a:lnTo>
                      <a:pt x="143" y="1109"/>
                    </a:lnTo>
                    <a:lnTo>
                      <a:pt x="159" y="1047"/>
                    </a:lnTo>
                    <a:lnTo>
                      <a:pt x="177" y="984"/>
                    </a:lnTo>
                    <a:lnTo>
                      <a:pt x="195" y="921"/>
                    </a:lnTo>
                    <a:lnTo>
                      <a:pt x="215" y="860"/>
                    </a:lnTo>
                    <a:lnTo>
                      <a:pt x="235" y="799"/>
                    </a:lnTo>
                    <a:lnTo>
                      <a:pt x="257" y="739"/>
                    </a:lnTo>
                    <a:lnTo>
                      <a:pt x="278" y="678"/>
                    </a:lnTo>
                    <a:lnTo>
                      <a:pt x="302" y="619"/>
                    </a:lnTo>
                    <a:lnTo>
                      <a:pt x="327" y="560"/>
                    </a:lnTo>
                    <a:lnTo>
                      <a:pt x="353" y="501"/>
                    </a:lnTo>
                    <a:lnTo>
                      <a:pt x="379" y="443"/>
                    </a:lnTo>
                    <a:lnTo>
                      <a:pt x="407" y="386"/>
                    </a:lnTo>
                    <a:lnTo>
                      <a:pt x="436" y="328"/>
                    </a:lnTo>
                    <a:lnTo>
                      <a:pt x="465" y="272"/>
                    </a:lnTo>
                    <a:lnTo>
                      <a:pt x="495" y="217"/>
                    </a:lnTo>
                    <a:lnTo>
                      <a:pt x="527" y="162"/>
                    </a:lnTo>
                    <a:lnTo>
                      <a:pt x="559" y="107"/>
                    </a:lnTo>
                    <a:lnTo>
                      <a:pt x="593" y="53"/>
                    </a:lnTo>
                    <a:lnTo>
                      <a:pt x="627" y="0"/>
                    </a:lnTo>
                    <a:lnTo>
                      <a:pt x="619" y="4"/>
                    </a:lnTo>
                    <a:lnTo>
                      <a:pt x="610" y="9"/>
                    </a:lnTo>
                    <a:lnTo>
                      <a:pt x="600" y="13"/>
                    </a:lnTo>
                    <a:lnTo>
                      <a:pt x="592" y="16"/>
                    </a:lnTo>
                    <a:lnTo>
                      <a:pt x="583" y="21"/>
                    </a:lnTo>
                    <a:lnTo>
                      <a:pt x="574" y="25"/>
                    </a:lnTo>
                    <a:lnTo>
                      <a:pt x="566" y="29"/>
                    </a:lnTo>
                    <a:lnTo>
                      <a:pt x="556" y="34"/>
                    </a:lnTo>
                    <a:close/>
                  </a:path>
                </a:pathLst>
              </a:custGeom>
              <a:solidFill>
                <a:srgbClr val="ceb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3143160" y="2211480"/>
                <a:ext cx="2860920" cy="1571400"/>
              </a:xfrm>
              <a:custGeom>
                <a:avLst/>
                <a:gdLst/>
                <a:ahLst/>
                <a:rect l="l" t="t" r="r" b="b"/>
                <a:pathLst>
                  <a:path w="7208" h="3960">
                    <a:moveTo>
                      <a:pt x="7208" y="1981"/>
                    </a:moveTo>
                    <a:lnTo>
                      <a:pt x="7208" y="1914"/>
                    </a:lnTo>
                    <a:lnTo>
                      <a:pt x="7206" y="1847"/>
                    </a:lnTo>
                    <a:lnTo>
                      <a:pt x="7203" y="1780"/>
                    </a:lnTo>
                    <a:lnTo>
                      <a:pt x="7199" y="1714"/>
                    </a:lnTo>
                    <a:lnTo>
                      <a:pt x="7193" y="1648"/>
                    </a:lnTo>
                    <a:lnTo>
                      <a:pt x="7187" y="1582"/>
                    </a:lnTo>
                    <a:lnTo>
                      <a:pt x="7179" y="1517"/>
                    </a:lnTo>
                    <a:lnTo>
                      <a:pt x="7170" y="1453"/>
                    </a:lnTo>
                    <a:lnTo>
                      <a:pt x="7160" y="1388"/>
                    </a:lnTo>
                    <a:lnTo>
                      <a:pt x="7149" y="1324"/>
                    </a:lnTo>
                    <a:lnTo>
                      <a:pt x="7136" y="1260"/>
                    </a:lnTo>
                    <a:lnTo>
                      <a:pt x="7123" y="1197"/>
                    </a:lnTo>
                    <a:lnTo>
                      <a:pt x="7109" y="1134"/>
                    </a:lnTo>
                    <a:lnTo>
                      <a:pt x="7093" y="1071"/>
                    </a:lnTo>
                    <a:lnTo>
                      <a:pt x="7076" y="1010"/>
                    </a:lnTo>
                    <a:lnTo>
                      <a:pt x="7058" y="948"/>
                    </a:lnTo>
                    <a:lnTo>
                      <a:pt x="7040" y="887"/>
                    </a:lnTo>
                    <a:lnTo>
                      <a:pt x="7019" y="826"/>
                    </a:lnTo>
                    <a:lnTo>
                      <a:pt x="6999" y="767"/>
                    </a:lnTo>
                    <a:lnTo>
                      <a:pt x="6977" y="706"/>
                    </a:lnTo>
                    <a:lnTo>
                      <a:pt x="6953" y="648"/>
                    </a:lnTo>
                    <a:lnTo>
                      <a:pt x="6930" y="589"/>
                    </a:lnTo>
                    <a:lnTo>
                      <a:pt x="6905" y="531"/>
                    </a:lnTo>
                    <a:lnTo>
                      <a:pt x="6879" y="473"/>
                    </a:lnTo>
                    <a:lnTo>
                      <a:pt x="6852" y="416"/>
                    </a:lnTo>
                    <a:lnTo>
                      <a:pt x="6824" y="360"/>
                    </a:lnTo>
                    <a:lnTo>
                      <a:pt x="6796" y="303"/>
                    </a:lnTo>
                    <a:lnTo>
                      <a:pt x="6765" y="248"/>
                    </a:lnTo>
                    <a:lnTo>
                      <a:pt x="6734" y="193"/>
                    </a:lnTo>
                    <a:lnTo>
                      <a:pt x="6703" y="139"/>
                    </a:lnTo>
                    <a:lnTo>
                      <a:pt x="6670" y="86"/>
                    </a:lnTo>
                    <a:lnTo>
                      <a:pt x="6637" y="33"/>
                    </a:lnTo>
                    <a:lnTo>
                      <a:pt x="6628" y="29"/>
                    </a:lnTo>
                    <a:lnTo>
                      <a:pt x="6619" y="25"/>
                    </a:lnTo>
                    <a:lnTo>
                      <a:pt x="6610" y="20"/>
                    </a:lnTo>
                    <a:lnTo>
                      <a:pt x="6601" y="16"/>
                    </a:lnTo>
                    <a:lnTo>
                      <a:pt x="6592" y="12"/>
                    </a:lnTo>
                    <a:lnTo>
                      <a:pt x="6584" y="9"/>
                    </a:lnTo>
                    <a:lnTo>
                      <a:pt x="6574" y="4"/>
                    </a:lnTo>
                    <a:lnTo>
                      <a:pt x="6565" y="0"/>
                    </a:lnTo>
                    <a:lnTo>
                      <a:pt x="6600" y="54"/>
                    </a:lnTo>
                    <a:lnTo>
                      <a:pt x="6635" y="108"/>
                    </a:lnTo>
                    <a:lnTo>
                      <a:pt x="6668" y="162"/>
                    </a:lnTo>
                    <a:lnTo>
                      <a:pt x="6700" y="218"/>
                    </a:lnTo>
                    <a:lnTo>
                      <a:pt x="6732" y="273"/>
                    </a:lnTo>
                    <a:lnTo>
                      <a:pt x="6762" y="330"/>
                    </a:lnTo>
                    <a:lnTo>
                      <a:pt x="6791" y="388"/>
                    </a:lnTo>
                    <a:lnTo>
                      <a:pt x="6819" y="445"/>
                    </a:lnTo>
                    <a:lnTo>
                      <a:pt x="6846" y="503"/>
                    </a:lnTo>
                    <a:lnTo>
                      <a:pt x="6873" y="563"/>
                    </a:lnTo>
                    <a:lnTo>
                      <a:pt x="6898" y="622"/>
                    </a:lnTo>
                    <a:lnTo>
                      <a:pt x="6923" y="683"/>
                    </a:lnTo>
                    <a:lnTo>
                      <a:pt x="6946" y="743"/>
                    </a:lnTo>
                    <a:lnTo>
                      <a:pt x="6967" y="803"/>
                    </a:lnTo>
                    <a:lnTo>
                      <a:pt x="6989" y="866"/>
                    </a:lnTo>
                    <a:lnTo>
                      <a:pt x="7008" y="928"/>
                    </a:lnTo>
                    <a:lnTo>
                      <a:pt x="7027" y="990"/>
                    </a:lnTo>
                    <a:lnTo>
                      <a:pt x="7045" y="1053"/>
                    </a:lnTo>
                    <a:lnTo>
                      <a:pt x="7061" y="1117"/>
                    </a:lnTo>
                    <a:lnTo>
                      <a:pt x="7076" y="1181"/>
                    </a:lnTo>
                    <a:lnTo>
                      <a:pt x="7091" y="1245"/>
                    </a:lnTo>
                    <a:lnTo>
                      <a:pt x="7104" y="1310"/>
                    </a:lnTo>
                    <a:lnTo>
                      <a:pt x="7115" y="1376"/>
                    </a:lnTo>
                    <a:lnTo>
                      <a:pt x="7126" y="1442"/>
                    </a:lnTo>
                    <a:lnTo>
                      <a:pt x="7136" y="1508"/>
                    </a:lnTo>
                    <a:lnTo>
                      <a:pt x="7143" y="1574"/>
                    </a:lnTo>
                    <a:lnTo>
                      <a:pt x="7151" y="1640"/>
                    </a:lnTo>
                    <a:lnTo>
                      <a:pt x="7156" y="1709"/>
                    </a:lnTo>
                    <a:lnTo>
                      <a:pt x="7161" y="1775"/>
                    </a:lnTo>
                    <a:lnTo>
                      <a:pt x="7164" y="1844"/>
                    </a:lnTo>
                    <a:lnTo>
                      <a:pt x="7166" y="1912"/>
                    </a:lnTo>
                    <a:lnTo>
                      <a:pt x="7167" y="1981"/>
                    </a:lnTo>
                    <a:lnTo>
                      <a:pt x="7166" y="2040"/>
                    </a:lnTo>
                    <a:lnTo>
                      <a:pt x="7165" y="2101"/>
                    </a:lnTo>
                    <a:lnTo>
                      <a:pt x="7162" y="2160"/>
                    </a:lnTo>
                    <a:lnTo>
                      <a:pt x="7159" y="2218"/>
                    </a:lnTo>
                    <a:lnTo>
                      <a:pt x="7154" y="2278"/>
                    </a:lnTo>
                    <a:lnTo>
                      <a:pt x="7149" y="2336"/>
                    </a:lnTo>
                    <a:lnTo>
                      <a:pt x="7142" y="2394"/>
                    </a:lnTo>
                    <a:lnTo>
                      <a:pt x="7136" y="2453"/>
                    </a:lnTo>
                    <a:lnTo>
                      <a:pt x="7127" y="2511"/>
                    </a:lnTo>
                    <a:lnTo>
                      <a:pt x="7119" y="2568"/>
                    </a:lnTo>
                    <a:lnTo>
                      <a:pt x="7108" y="2625"/>
                    </a:lnTo>
                    <a:lnTo>
                      <a:pt x="7097" y="2682"/>
                    </a:lnTo>
                    <a:lnTo>
                      <a:pt x="7085" y="2739"/>
                    </a:lnTo>
                    <a:lnTo>
                      <a:pt x="7073" y="2795"/>
                    </a:lnTo>
                    <a:lnTo>
                      <a:pt x="7059" y="2850"/>
                    </a:lnTo>
                    <a:lnTo>
                      <a:pt x="7045" y="2906"/>
                    </a:lnTo>
                    <a:lnTo>
                      <a:pt x="7085" y="2917"/>
                    </a:lnTo>
                    <a:lnTo>
                      <a:pt x="7100" y="2861"/>
                    </a:lnTo>
                    <a:lnTo>
                      <a:pt x="7113" y="2805"/>
                    </a:lnTo>
                    <a:lnTo>
                      <a:pt x="7126" y="2747"/>
                    </a:lnTo>
                    <a:lnTo>
                      <a:pt x="7138" y="2690"/>
                    </a:lnTo>
                    <a:lnTo>
                      <a:pt x="7149" y="2633"/>
                    </a:lnTo>
                    <a:lnTo>
                      <a:pt x="7160" y="2575"/>
                    </a:lnTo>
                    <a:lnTo>
                      <a:pt x="7168" y="2516"/>
                    </a:lnTo>
                    <a:lnTo>
                      <a:pt x="7177" y="2458"/>
                    </a:lnTo>
                    <a:lnTo>
                      <a:pt x="7185" y="2400"/>
                    </a:lnTo>
                    <a:lnTo>
                      <a:pt x="7191" y="2340"/>
                    </a:lnTo>
                    <a:lnTo>
                      <a:pt x="7196" y="2281"/>
                    </a:lnTo>
                    <a:lnTo>
                      <a:pt x="7201" y="2222"/>
                    </a:lnTo>
                    <a:lnTo>
                      <a:pt x="7204" y="2161"/>
                    </a:lnTo>
                    <a:lnTo>
                      <a:pt x="7206" y="2102"/>
                    </a:lnTo>
                    <a:lnTo>
                      <a:pt x="7208" y="2041"/>
                    </a:lnTo>
                    <a:lnTo>
                      <a:pt x="7208" y="1981"/>
                    </a:lnTo>
                    <a:close/>
                    <a:moveTo>
                      <a:pt x="572" y="33"/>
                    </a:moveTo>
                    <a:lnTo>
                      <a:pt x="538" y="86"/>
                    </a:lnTo>
                    <a:lnTo>
                      <a:pt x="506" y="139"/>
                    </a:lnTo>
                    <a:lnTo>
                      <a:pt x="473" y="193"/>
                    </a:lnTo>
                    <a:lnTo>
                      <a:pt x="443" y="248"/>
                    </a:lnTo>
                    <a:lnTo>
                      <a:pt x="413" y="303"/>
                    </a:lnTo>
                    <a:lnTo>
                      <a:pt x="385" y="360"/>
                    </a:lnTo>
                    <a:lnTo>
                      <a:pt x="357" y="416"/>
                    </a:lnTo>
                    <a:lnTo>
                      <a:pt x="330" y="473"/>
                    </a:lnTo>
                    <a:lnTo>
                      <a:pt x="304" y="531"/>
                    </a:lnTo>
                    <a:lnTo>
                      <a:pt x="279" y="589"/>
                    </a:lnTo>
                    <a:lnTo>
                      <a:pt x="255" y="648"/>
                    </a:lnTo>
                    <a:lnTo>
                      <a:pt x="231" y="706"/>
                    </a:lnTo>
                    <a:lnTo>
                      <a:pt x="210" y="767"/>
                    </a:lnTo>
                    <a:lnTo>
                      <a:pt x="189" y="826"/>
                    </a:lnTo>
                    <a:lnTo>
                      <a:pt x="169" y="887"/>
                    </a:lnTo>
                    <a:lnTo>
                      <a:pt x="150" y="948"/>
                    </a:lnTo>
                    <a:lnTo>
                      <a:pt x="132" y="1010"/>
                    </a:lnTo>
                    <a:lnTo>
                      <a:pt x="116" y="1071"/>
                    </a:lnTo>
                    <a:lnTo>
                      <a:pt x="99" y="1134"/>
                    </a:lnTo>
                    <a:lnTo>
                      <a:pt x="85" y="1197"/>
                    </a:lnTo>
                    <a:lnTo>
                      <a:pt x="71" y="1260"/>
                    </a:lnTo>
                    <a:lnTo>
                      <a:pt x="59" y="1324"/>
                    </a:lnTo>
                    <a:lnTo>
                      <a:pt x="49" y="1388"/>
                    </a:lnTo>
                    <a:lnTo>
                      <a:pt x="38" y="1453"/>
                    </a:lnTo>
                    <a:lnTo>
                      <a:pt x="29" y="1517"/>
                    </a:lnTo>
                    <a:lnTo>
                      <a:pt x="22" y="1582"/>
                    </a:lnTo>
                    <a:lnTo>
                      <a:pt x="15" y="1648"/>
                    </a:lnTo>
                    <a:lnTo>
                      <a:pt x="10" y="1714"/>
                    </a:lnTo>
                    <a:lnTo>
                      <a:pt x="5" y="1780"/>
                    </a:lnTo>
                    <a:lnTo>
                      <a:pt x="2" y="1847"/>
                    </a:lnTo>
                    <a:lnTo>
                      <a:pt x="0" y="1914"/>
                    </a:lnTo>
                    <a:lnTo>
                      <a:pt x="0" y="1981"/>
                    </a:lnTo>
                    <a:lnTo>
                      <a:pt x="0" y="2048"/>
                    </a:lnTo>
                    <a:lnTo>
                      <a:pt x="2" y="2115"/>
                    </a:lnTo>
                    <a:lnTo>
                      <a:pt x="5" y="2180"/>
                    </a:lnTo>
                    <a:lnTo>
                      <a:pt x="10" y="2247"/>
                    </a:lnTo>
                    <a:lnTo>
                      <a:pt x="15" y="2313"/>
                    </a:lnTo>
                    <a:lnTo>
                      <a:pt x="22" y="2378"/>
                    </a:lnTo>
                    <a:lnTo>
                      <a:pt x="29" y="2444"/>
                    </a:lnTo>
                    <a:lnTo>
                      <a:pt x="38" y="2509"/>
                    </a:lnTo>
                    <a:lnTo>
                      <a:pt x="49" y="2573"/>
                    </a:lnTo>
                    <a:lnTo>
                      <a:pt x="59" y="2637"/>
                    </a:lnTo>
                    <a:lnTo>
                      <a:pt x="71" y="2701"/>
                    </a:lnTo>
                    <a:lnTo>
                      <a:pt x="85" y="2764"/>
                    </a:lnTo>
                    <a:lnTo>
                      <a:pt x="99" y="2826"/>
                    </a:lnTo>
                    <a:lnTo>
                      <a:pt x="116" y="2889"/>
                    </a:lnTo>
                    <a:lnTo>
                      <a:pt x="132" y="2952"/>
                    </a:lnTo>
                    <a:lnTo>
                      <a:pt x="150" y="3012"/>
                    </a:lnTo>
                    <a:lnTo>
                      <a:pt x="169" y="3074"/>
                    </a:lnTo>
                    <a:lnTo>
                      <a:pt x="189" y="3134"/>
                    </a:lnTo>
                    <a:lnTo>
                      <a:pt x="210" y="3195"/>
                    </a:lnTo>
                    <a:lnTo>
                      <a:pt x="231" y="3254"/>
                    </a:lnTo>
                    <a:lnTo>
                      <a:pt x="255" y="3313"/>
                    </a:lnTo>
                    <a:lnTo>
                      <a:pt x="279" y="3372"/>
                    </a:lnTo>
                    <a:lnTo>
                      <a:pt x="304" y="3430"/>
                    </a:lnTo>
                    <a:lnTo>
                      <a:pt x="330" y="3487"/>
                    </a:lnTo>
                    <a:lnTo>
                      <a:pt x="357" y="3545"/>
                    </a:lnTo>
                    <a:lnTo>
                      <a:pt x="385" y="3601"/>
                    </a:lnTo>
                    <a:lnTo>
                      <a:pt x="413" y="3657"/>
                    </a:lnTo>
                    <a:lnTo>
                      <a:pt x="443" y="3712"/>
                    </a:lnTo>
                    <a:lnTo>
                      <a:pt x="473" y="3767"/>
                    </a:lnTo>
                    <a:lnTo>
                      <a:pt x="506" y="3821"/>
                    </a:lnTo>
                    <a:lnTo>
                      <a:pt x="538" y="3875"/>
                    </a:lnTo>
                    <a:lnTo>
                      <a:pt x="572" y="3928"/>
                    </a:lnTo>
                    <a:lnTo>
                      <a:pt x="580" y="3932"/>
                    </a:lnTo>
                    <a:lnTo>
                      <a:pt x="589" y="3937"/>
                    </a:lnTo>
                    <a:lnTo>
                      <a:pt x="599" y="3940"/>
                    </a:lnTo>
                    <a:lnTo>
                      <a:pt x="607" y="3944"/>
                    </a:lnTo>
                    <a:lnTo>
                      <a:pt x="616" y="3948"/>
                    </a:lnTo>
                    <a:lnTo>
                      <a:pt x="625" y="3953"/>
                    </a:lnTo>
                    <a:lnTo>
                      <a:pt x="634" y="3957"/>
                    </a:lnTo>
                    <a:lnTo>
                      <a:pt x="643" y="3960"/>
                    </a:lnTo>
                    <a:lnTo>
                      <a:pt x="608" y="3907"/>
                    </a:lnTo>
                    <a:lnTo>
                      <a:pt x="574" y="3853"/>
                    </a:lnTo>
                    <a:lnTo>
                      <a:pt x="540" y="3798"/>
                    </a:lnTo>
                    <a:lnTo>
                      <a:pt x="508" y="3743"/>
                    </a:lnTo>
                    <a:lnTo>
                      <a:pt x="477" y="3687"/>
                    </a:lnTo>
                    <a:lnTo>
                      <a:pt x="446" y="3631"/>
                    </a:lnTo>
                    <a:lnTo>
                      <a:pt x="417" y="3574"/>
                    </a:lnTo>
                    <a:lnTo>
                      <a:pt x="389" y="3515"/>
                    </a:lnTo>
                    <a:lnTo>
                      <a:pt x="361" y="3457"/>
                    </a:lnTo>
                    <a:lnTo>
                      <a:pt x="335" y="3398"/>
                    </a:lnTo>
                    <a:lnTo>
                      <a:pt x="310" y="3338"/>
                    </a:lnTo>
                    <a:lnTo>
                      <a:pt x="285" y="3279"/>
                    </a:lnTo>
                    <a:lnTo>
                      <a:pt x="263" y="3218"/>
                    </a:lnTo>
                    <a:lnTo>
                      <a:pt x="241" y="3157"/>
                    </a:lnTo>
                    <a:lnTo>
                      <a:pt x="219" y="3095"/>
                    </a:lnTo>
                    <a:lnTo>
                      <a:pt x="200" y="3033"/>
                    </a:lnTo>
                    <a:lnTo>
                      <a:pt x="182" y="2970"/>
                    </a:lnTo>
                    <a:lnTo>
                      <a:pt x="163" y="2907"/>
                    </a:lnTo>
                    <a:lnTo>
                      <a:pt x="147" y="2844"/>
                    </a:lnTo>
                    <a:lnTo>
                      <a:pt x="132" y="2780"/>
                    </a:lnTo>
                    <a:lnTo>
                      <a:pt x="118" y="2715"/>
                    </a:lnTo>
                    <a:lnTo>
                      <a:pt x="105" y="2650"/>
                    </a:lnTo>
                    <a:lnTo>
                      <a:pt x="93" y="2585"/>
                    </a:lnTo>
                    <a:lnTo>
                      <a:pt x="82" y="2520"/>
                    </a:lnTo>
                    <a:lnTo>
                      <a:pt x="72" y="2454"/>
                    </a:lnTo>
                    <a:lnTo>
                      <a:pt x="65" y="2387"/>
                    </a:lnTo>
                    <a:lnTo>
                      <a:pt x="57" y="2320"/>
                    </a:lnTo>
                    <a:lnTo>
                      <a:pt x="52" y="2253"/>
                    </a:lnTo>
                    <a:lnTo>
                      <a:pt x="48" y="2185"/>
                    </a:lnTo>
                    <a:lnTo>
                      <a:pt x="44" y="2117"/>
                    </a:lnTo>
                    <a:lnTo>
                      <a:pt x="42" y="2049"/>
                    </a:lnTo>
                    <a:lnTo>
                      <a:pt x="41" y="1981"/>
                    </a:lnTo>
                    <a:lnTo>
                      <a:pt x="42" y="1912"/>
                    </a:lnTo>
                    <a:lnTo>
                      <a:pt x="44" y="1844"/>
                    </a:lnTo>
                    <a:lnTo>
                      <a:pt x="48" y="1775"/>
                    </a:lnTo>
                    <a:lnTo>
                      <a:pt x="52" y="1709"/>
                    </a:lnTo>
                    <a:lnTo>
                      <a:pt x="57" y="1640"/>
                    </a:lnTo>
                    <a:lnTo>
                      <a:pt x="65" y="1574"/>
                    </a:lnTo>
                    <a:lnTo>
                      <a:pt x="72" y="1508"/>
                    </a:lnTo>
                    <a:lnTo>
                      <a:pt x="82" y="1442"/>
                    </a:lnTo>
                    <a:lnTo>
                      <a:pt x="93" y="1376"/>
                    </a:lnTo>
                    <a:lnTo>
                      <a:pt x="105" y="1310"/>
                    </a:lnTo>
                    <a:lnTo>
                      <a:pt x="118" y="1245"/>
                    </a:lnTo>
                    <a:lnTo>
                      <a:pt x="132" y="1181"/>
                    </a:lnTo>
                    <a:lnTo>
                      <a:pt x="147" y="1117"/>
                    </a:lnTo>
                    <a:lnTo>
                      <a:pt x="163" y="1053"/>
                    </a:lnTo>
                    <a:lnTo>
                      <a:pt x="182" y="990"/>
                    </a:lnTo>
                    <a:lnTo>
                      <a:pt x="200" y="928"/>
                    </a:lnTo>
                    <a:lnTo>
                      <a:pt x="219" y="866"/>
                    </a:lnTo>
                    <a:lnTo>
                      <a:pt x="241" y="803"/>
                    </a:lnTo>
                    <a:lnTo>
                      <a:pt x="263" y="743"/>
                    </a:lnTo>
                    <a:lnTo>
                      <a:pt x="285" y="683"/>
                    </a:lnTo>
                    <a:lnTo>
                      <a:pt x="310" y="622"/>
                    </a:lnTo>
                    <a:lnTo>
                      <a:pt x="335" y="563"/>
                    </a:lnTo>
                    <a:lnTo>
                      <a:pt x="361" y="503"/>
                    </a:lnTo>
                    <a:lnTo>
                      <a:pt x="389" y="445"/>
                    </a:lnTo>
                    <a:lnTo>
                      <a:pt x="417" y="388"/>
                    </a:lnTo>
                    <a:lnTo>
                      <a:pt x="446" y="330"/>
                    </a:lnTo>
                    <a:lnTo>
                      <a:pt x="477" y="273"/>
                    </a:lnTo>
                    <a:lnTo>
                      <a:pt x="508" y="218"/>
                    </a:lnTo>
                    <a:lnTo>
                      <a:pt x="540" y="162"/>
                    </a:lnTo>
                    <a:lnTo>
                      <a:pt x="574" y="108"/>
                    </a:lnTo>
                    <a:lnTo>
                      <a:pt x="608" y="54"/>
                    </a:lnTo>
                    <a:lnTo>
                      <a:pt x="643" y="0"/>
                    </a:lnTo>
                    <a:lnTo>
                      <a:pt x="634" y="4"/>
                    </a:lnTo>
                    <a:lnTo>
                      <a:pt x="625" y="9"/>
                    </a:lnTo>
                    <a:lnTo>
                      <a:pt x="616" y="12"/>
                    </a:lnTo>
                    <a:lnTo>
                      <a:pt x="607" y="16"/>
                    </a:lnTo>
                    <a:lnTo>
                      <a:pt x="599" y="20"/>
                    </a:lnTo>
                    <a:lnTo>
                      <a:pt x="589" y="25"/>
                    </a:lnTo>
                    <a:lnTo>
                      <a:pt x="580" y="29"/>
                    </a:lnTo>
                    <a:lnTo>
                      <a:pt x="572" y="33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151080" y="2205000"/>
                <a:ext cx="2845080" cy="1584360"/>
              </a:xfrm>
              <a:custGeom>
                <a:avLst/>
                <a:gdLst/>
                <a:ahLst/>
                <a:rect l="l" t="t" r="r" b="b"/>
                <a:pathLst>
                  <a:path w="7167" h="3993">
                    <a:moveTo>
                      <a:pt x="7167" y="1997"/>
                    </a:moveTo>
                    <a:lnTo>
                      <a:pt x="7166" y="1929"/>
                    </a:lnTo>
                    <a:lnTo>
                      <a:pt x="7165" y="1861"/>
                    </a:lnTo>
                    <a:lnTo>
                      <a:pt x="7161" y="1794"/>
                    </a:lnTo>
                    <a:lnTo>
                      <a:pt x="7157" y="1727"/>
                    </a:lnTo>
                    <a:lnTo>
                      <a:pt x="7151" y="1661"/>
                    </a:lnTo>
                    <a:lnTo>
                      <a:pt x="7144" y="1594"/>
                    </a:lnTo>
                    <a:lnTo>
                      <a:pt x="7137" y="1528"/>
                    </a:lnTo>
                    <a:lnTo>
                      <a:pt x="7127" y="1463"/>
                    </a:lnTo>
                    <a:lnTo>
                      <a:pt x="7117" y="1397"/>
                    </a:lnTo>
                    <a:lnTo>
                      <a:pt x="7105" y="1334"/>
                    </a:lnTo>
                    <a:lnTo>
                      <a:pt x="7092" y="1269"/>
                    </a:lnTo>
                    <a:lnTo>
                      <a:pt x="7079" y="1205"/>
                    </a:lnTo>
                    <a:lnTo>
                      <a:pt x="7064" y="1141"/>
                    </a:lnTo>
                    <a:lnTo>
                      <a:pt x="7048" y="1079"/>
                    </a:lnTo>
                    <a:lnTo>
                      <a:pt x="7031" y="1016"/>
                    </a:lnTo>
                    <a:lnTo>
                      <a:pt x="7012" y="953"/>
                    </a:lnTo>
                    <a:lnTo>
                      <a:pt x="6993" y="892"/>
                    </a:lnTo>
                    <a:lnTo>
                      <a:pt x="6972" y="831"/>
                    </a:lnTo>
                    <a:lnTo>
                      <a:pt x="6951" y="771"/>
                    </a:lnTo>
                    <a:lnTo>
                      <a:pt x="6928" y="710"/>
                    </a:lnTo>
                    <a:lnTo>
                      <a:pt x="6905" y="651"/>
                    </a:lnTo>
                    <a:lnTo>
                      <a:pt x="6880" y="592"/>
                    </a:lnTo>
                    <a:lnTo>
                      <a:pt x="6855" y="533"/>
                    </a:lnTo>
                    <a:lnTo>
                      <a:pt x="6827" y="475"/>
                    </a:lnTo>
                    <a:lnTo>
                      <a:pt x="6800" y="418"/>
                    </a:lnTo>
                    <a:lnTo>
                      <a:pt x="6771" y="360"/>
                    </a:lnTo>
                    <a:lnTo>
                      <a:pt x="6742" y="304"/>
                    </a:lnTo>
                    <a:lnTo>
                      <a:pt x="6712" y="249"/>
                    </a:lnTo>
                    <a:lnTo>
                      <a:pt x="6681" y="194"/>
                    </a:lnTo>
                    <a:lnTo>
                      <a:pt x="6648" y="139"/>
                    </a:lnTo>
                    <a:lnTo>
                      <a:pt x="6615" y="85"/>
                    </a:lnTo>
                    <a:lnTo>
                      <a:pt x="6580" y="32"/>
                    </a:lnTo>
                    <a:lnTo>
                      <a:pt x="6571" y="28"/>
                    </a:lnTo>
                    <a:lnTo>
                      <a:pt x="6562" y="25"/>
                    </a:lnTo>
                    <a:lnTo>
                      <a:pt x="6553" y="20"/>
                    </a:lnTo>
                    <a:lnTo>
                      <a:pt x="6544" y="16"/>
                    </a:lnTo>
                    <a:lnTo>
                      <a:pt x="6536" y="12"/>
                    </a:lnTo>
                    <a:lnTo>
                      <a:pt x="6526" y="8"/>
                    </a:lnTo>
                    <a:lnTo>
                      <a:pt x="6517" y="4"/>
                    </a:lnTo>
                    <a:lnTo>
                      <a:pt x="6509" y="0"/>
                    </a:lnTo>
                    <a:lnTo>
                      <a:pt x="6544" y="54"/>
                    </a:lnTo>
                    <a:lnTo>
                      <a:pt x="6579" y="108"/>
                    </a:lnTo>
                    <a:lnTo>
                      <a:pt x="6614" y="163"/>
                    </a:lnTo>
                    <a:lnTo>
                      <a:pt x="6646" y="219"/>
                    </a:lnTo>
                    <a:lnTo>
                      <a:pt x="6678" y="275"/>
                    </a:lnTo>
                    <a:lnTo>
                      <a:pt x="6710" y="332"/>
                    </a:lnTo>
                    <a:lnTo>
                      <a:pt x="6740" y="390"/>
                    </a:lnTo>
                    <a:lnTo>
                      <a:pt x="6769" y="448"/>
                    </a:lnTo>
                    <a:lnTo>
                      <a:pt x="6797" y="506"/>
                    </a:lnTo>
                    <a:lnTo>
                      <a:pt x="6823" y="566"/>
                    </a:lnTo>
                    <a:lnTo>
                      <a:pt x="6849" y="626"/>
                    </a:lnTo>
                    <a:lnTo>
                      <a:pt x="6874" y="687"/>
                    </a:lnTo>
                    <a:lnTo>
                      <a:pt x="6898" y="747"/>
                    </a:lnTo>
                    <a:lnTo>
                      <a:pt x="6920" y="809"/>
                    </a:lnTo>
                    <a:lnTo>
                      <a:pt x="6942" y="871"/>
                    </a:lnTo>
                    <a:lnTo>
                      <a:pt x="6963" y="934"/>
                    </a:lnTo>
                    <a:lnTo>
                      <a:pt x="6982" y="997"/>
                    </a:lnTo>
                    <a:lnTo>
                      <a:pt x="6999" y="1060"/>
                    </a:lnTo>
                    <a:lnTo>
                      <a:pt x="7017" y="1125"/>
                    </a:lnTo>
                    <a:lnTo>
                      <a:pt x="7033" y="1189"/>
                    </a:lnTo>
                    <a:lnTo>
                      <a:pt x="7047" y="1255"/>
                    </a:lnTo>
                    <a:lnTo>
                      <a:pt x="7060" y="1320"/>
                    </a:lnTo>
                    <a:lnTo>
                      <a:pt x="7073" y="1385"/>
                    </a:lnTo>
                    <a:lnTo>
                      <a:pt x="7084" y="1452"/>
                    </a:lnTo>
                    <a:lnTo>
                      <a:pt x="7093" y="1518"/>
                    </a:lnTo>
                    <a:lnTo>
                      <a:pt x="7101" y="1586"/>
                    </a:lnTo>
                    <a:lnTo>
                      <a:pt x="7108" y="1653"/>
                    </a:lnTo>
                    <a:lnTo>
                      <a:pt x="7115" y="1721"/>
                    </a:lnTo>
                    <a:lnTo>
                      <a:pt x="7119" y="1789"/>
                    </a:lnTo>
                    <a:lnTo>
                      <a:pt x="7122" y="1858"/>
                    </a:lnTo>
                    <a:lnTo>
                      <a:pt x="7125" y="1928"/>
                    </a:lnTo>
                    <a:lnTo>
                      <a:pt x="7125" y="1997"/>
                    </a:lnTo>
                    <a:lnTo>
                      <a:pt x="7125" y="2056"/>
                    </a:lnTo>
                    <a:lnTo>
                      <a:pt x="7122" y="2115"/>
                    </a:lnTo>
                    <a:lnTo>
                      <a:pt x="7120" y="2175"/>
                    </a:lnTo>
                    <a:lnTo>
                      <a:pt x="7117" y="2233"/>
                    </a:lnTo>
                    <a:lnTo>
                      <a:pt x="7113" y="2292"/>
                    </a:lnTo>
                    <a:lnTo>
                      <a:pt x="7107" y="2350"/>
                    </a:lnTo>
                    <a:lnTo>
                      <a:pt x="7101" y="2408"/>
                    </a:lnTo>
                    <a:lnTo>
                      <a:pt x="7094" y="2465"/>
                    </a:lnTo>
                    <a:lnTo>
                      <a:pt x="7086" y="2524"/>
                    </a:lnTo>
                    <a:lnTo>
                      <a:pt x="7077" y="2581"/>
                    </a:lnTo>
                    <a:lnTo>
                      <a:pt x="7067" y="2637"/>
                    </a:lnTo>
                    <a:lnTo>
                      <a:pt x="7055" y="2694"/>
                    </a:lnTo>
                    <a:lnTo>
                      <a:pt x="7045" y="2751"/>
                    </a:lnTo>
                    <a:lnTo>
                      <a:pt x="7032" y="2806"/>
                    </a:lnTo>
                    <a:lnTo>
                      <a:pt x="7018" y="2862"/>
                    </a:lnTo>
                    <a:lnTo>
                      <a:pt x="7004" y="2917"/>
                    </a:lnTo>
                    <a:lnTo>
                      <a:pt x="7044" y="2928"/>
                    </a:lnTo>
                    <a:lnTo>
                      <a:pt x="7059" y="2871"/>
                    </a:lnTo>
                    <a:lnTo>
                      <a:pt x="7072" y="2815"/>
                    </a:lnTo>
                    <a:lnTo>
                      <a:pt x="7085" y="2759"/>
                    </a:lnTo>
                    <a:lnTo>
                      <a:pt x="7097" y="2702"/>
                    </a:lnTo>
                    <a:lnTo>
                      <a:pt x="7107" y="2645"/>
                    </a:lnTo>
                    <a:lnTo>
                      <a:pt x="7118" y="2587"/>
                    </a:lnTo>
                    <a:lnTo>
                      <a:pt x="7127" y="2529"/>
                    </a:lnTo>
                    <a:lnTo>
                      <a:pt x="7135" y="2472"/>
                    </a:lnTo>
                    <a:lnTo>
                      <a:pt x="7143" y="2412"/>
                    </a:lnTo>
                    <a:lnTo>
                      <a:pt x="7148" y="2354"/>
                    </a:lnTo>
                    <a:lnTo>
                      <a:pt x="7154" y="2296"/>
                    </a:lnTo>
                    <a:lnTo>
                      <a:pt x="7159" y="2236"/>
                    </a:lnTo>
                    <a:lnTo>
                      <a:pt x="7162" y="2177"/>
                    </a:lnTo>
                    <a:lnTo>
                      <a:pt x="7165" y="2117"/>
                    </a:lnTo>
                    <a:lnTo>
                      <a:pt x="7166" y="2057"/>
                    </a:lnTo>
                    <a:lnTo>
                      <a:pt x="7167" y="1997"/>
                    </a:lnTo>
                    <a:close/>
                    <a:moveTo>
                      <a:pt x="586" y="32"/>
                    </a:moveTo>
                    <a:lnTo>
                      <a:pt x="552" y="85"/>
                    </a:lnTo>
                    <a:lnTo>
                      <a:pt x="518" y="139"/>
                    </a:lnTo>
                    <a:lnTo>
                      <a:pt x="486" y="194"/>
                    </a:lnTo>
                    <a:lnTo>
                      <a:pt x="454" y="249"/>
                    </a:lnTo>
                    <a:lnTo>
                      <a:pt x="424" y="304"/>
                    </a:lnTo>
                    <a:lnTo>
                      <a:pt x="395" y="360"/>
                    </a:lnTo>
                    <a:lnTo>
                      <a:pt x="366" y="418"/>
                    </a:lnTo>
                    <a:lnTo>
                      <a:pt x="338" y="475"/>
                    </a:lnTo>
                    <a:lnTo>
                      <a:pt x="312" y="533"/>
                    </a:lnTo>
                    <a:lnTo>
                      <a:pt x="286" y="592"/>
                    </a:lnTo>
                    <a:lnTo>
                      <a:pt x="261" y="651"/>
                    </a:lnTo>
                    <a:lnTo>
                      <a:pt x="237" y="710"/>
                    </a:lnTo>
                    <a:lnTo>
                      <a:pt x="216" y="771"/>
                    </a:lnTo>
                    <a:lnTo>
                      <a:pt x="194" y="831"/>
                    </a:lnTo>
                    <a:lnTo>
                      <a:pt x="174" y="892"/>
                    </a:lnTo>
                    <a:lnTo>
                      <a:pt x="154" y="953"/>
                    </a:lnTo>
                    <a:lnTo>
                      <a:pt x="136" y="1016"/>
                    </a:lnTo>
                    <a:lnTo>
                      <a:pt x="118" y="1079"/>
                    </a:lnTo>
                    <a:lnTo>
                      <a:pt x="102" y="1141"/>
                    </a:lnTo>
                    <a:lnTo>
                      <a:pt x="87" y="1205"/>
                    </a:lnTo>
                    <a:lnTo>
                      <a:pt x="74" y="1269"/>
                    </a:lnTo>
                    <a:lnTo>
                      <a:pt x="61" y="1334"/>
                    </a:lnTo>
                    <a:lnTo>
                      <a:pt x="49" y="1397"/>
                    </a:lnTo>
                    <a:lnTo>
                      <a:pt x="40" y="1463"/>
                    </a:lnTo>
                    <a:lnTo>
                      <a:pt x="30" y="1528"/>
                    </a:lnTo>
                    <a:lnTo>
                      <a:pt x="22" y="1594"/>
                    </a:lnTo>
                    <a:lnTo>
                      <a:pt x="15" y="1661"/>
                    </a:lnTo>
                    <a:lnTo>
                      <a:pt x="9" y="1727"/>
                    </a:lnTo>
                    <a:lnTo>
                      <a:pt x="5" y="1794"/>
                    </a:lnTo>
                    <a:lnTo>
                      <a:pt x="2" y="1861"/>
                    </a:lnTo>
                    <a:lnTo>
                      <a:pt x="1" y="1929"/>
                    </a:lnTo>
                    <a:lnTo>
                      <a:pt x="0" y="1997"/>
                    </a:lnTo>
                    <a:lnTo>
                      <a:pt x="1" y="2065"/>
                    </a:lnTo>
                    <a:lnTo>
                      <a:pt x="2" y="2132"/>
                    </a:lnTo>
                    <a:lnTo>
                      <a:pt x="5" y="2199"/>
                    </a:lnTo>
                    <a:lnTo>
                      <a:pt x="9" y="2266"/>
                    </a:lnTo>
                    <a:lnTo>
                      <a:pt x="15" y="2333"/>
                    </a:lnTo>
                    <a:lnTo>
                      <a:pt x="22" y="2398"/>
                    </a:lnTo>
                    <a:lnTo>
                      <a:pt x="30" y="2464"/>
                    </a:lnTo>
                    <a:lnTo>
                      <a:pt x="40" y="2530"/>
                    </a:lnTo>
                    <a:lnTo>
                      <a:pt x="49" y="2595"/>
                    </a:lnTo>
                    <a:lnTo>
                      <a:pt x="61" y="2660"/>
                    </a:lnTo>
                    <a:lnTo>
                      <a:pt x="74" y="2724"/>
                    </a:lnTo>
                    <a:lnTo>
                      <a:pt x="87" y="2788"/>
                    </a:lnTo>
                    <a:lnTo>
                      <a:pt x="102" y="2851"/>
                    </a:lnTo>
                    <a:lnTo>
                      <a:pt x="118" y="2915"/>
                    </a:lnTo>
                    <a:lnTo>
                      <a:pt x="136" y="2977"/>
                    </a:lnTo>
                    <a:lnTo>
                      <a:pt x="154" y="3039"/>
                    </a:lnTo>
                    <a:lnTo>
                      <a:pt x="174" y="3100"/>
                    </a:lnTo>
                    <a:lnTo>
                      <a:pt x="194" y="3162"/>
                    </a:lnTo>
                    <a:lnTo>
                      <a:pt x="216" y="3222"/>
                    </a:lnTo>
                    <a:lnTo>
                      <a:pt x="237" y="3282"/>
                    </a:lnTo>
                    <a:lnTo>
                      <a:pt x="261" y="3342"/>
                    </a:lnTo>
                    <a:lnTo>
                      <a:pt x="286" y="3401"/>
                    </a:lnTo>
                    <a:lnTo>
                      <a:pt x="312" y="3460"/>
                    </a:lnTo>
                    <a:lnTo>
                      <a:pt x="338" y="3517"/>
                    </a:lnTo>
                    <a:lnTo>
                      <a:pt x="366" y="3575"/>
                    </a:lnTo>
                    <a:lnTo>
                      <a:pt x="395" y="3632"/>
                    </a:lnTo>
                    <a:lnTo>
                      <a:pt x="424" y="3688"/>
                    </a:lnTo>
                    <a:lnTo>
                      <a:pt x="454" y="3744"/>
                    </a:lnTo>
                    <a:lnTo>
                      <a:pt x="486" y="3799"/>
                    </a:lnTo>
                    <a:lnTo>
                      <a:pt x="518" y="3853"/>
                    </a:lnTo>
                    <a:lnTo>
                      <a:pt x="552" y="3907"/>
                    </a:lnTo>
                    <a:lnTo>
                      <a:pt x="586" y="3960"/>
                    </a:lnTo>
                    <a:lnTo>
                      <a:pt x="595" y="3964"/>
                    </a:lnTo>
                    <a:lnTo>
                      <a:pt x="605" y="3969"/>
                    </a:lnTo>
                    <a:lnTo>
                      <a:pt x="613" y="3973"/>
                    </a:lnTo>
                    <a:lnTo>
                      <a:pt x="622" y="3976"/>
                    </a:lnTo>
                    <a:lnTo>
                      <a:pt x="631" y="3981"/>
                    </a:lnTo>
                    <a:lnTo>
                      <a:pt x="640" y="3985"/>
                    </a:lnTo>
                    <a:lnTo>
                      <a:pt x="649" y="3988"/>
                    </a:lnTo>
                    <a:lnTo>
                      <a:pt x="658" y="3993"/>
                    </a:lnTo>
                    <a:lnTo>
                      <a:pt x="622" y="3939"/>
                    </a:lnTo>
                    <a:lnTo>
                      <a:pt x="587" y="3885"/>
                    </a:lnTo>
                    <a:lnTo>
                      <a:pt x="553" y="3829"/>
                    </a:lnTo>
                    <a:lnTo>
                      <a:pt x="519" y="3774"/>
                    </a:lnTo>
                    <a:lnTo>
                      <a:pt x="488" y="3718"/>
                    </a:lnTo>
                    <a:lnTo>
                      <a:pt x="457" y="3661"/>
                    </a:lnTo>
                    <a:lnTo>
                      <a:pt x="426" y="3604"/>
                    </a:lnTo>
                    <a:lnTo>
                      <a:pt x="397" y="3545"/>
                    </a:lnTo>
                    <a:lnTo>
                      <a:pt x="369" y="3486"/>
                    </a:lnTo>
                    <a:lnTo>
                      <a:pt x="342" y="3427"/>
                    </a:lnTo>
                    <a:lnTo>
                      <a:pt x="317" y="3367"/>
                    </a:lnTo>
                    <a:lnTo>
                      <a:pt x="292" y="3307"/>
                    </a:lnTo>
                    <a:lnTo>
                      <a:pt x="269" y="3245"/>
                    </a:lnTo>
                    <a:lnTo>
                      <a:pt x="246" y="3184"/>
                    </a:lnTo>
                    <a:lnTo>
                      <a:pt x="224" y="3122"/>
                    </a:lnTo>
                    <a:lnTo>
                      <a:pt x="204" y="3059"/>
                    </a:lnTo>
                    <a:lnTo>
                      <a:pt x="184" y="2996"/>
                    </a:lnTo>
                    <a:lnTo>
                      <a:pt x="167" y="2932"/>
                    </a:lnTo>
                    <a:lnTo>
                      <a:pt x="150" y="2868"/>
                    </a:lnTo>
                    <a:lnTo>
                      <a:pt x="134" y="2803"/>
                    </a:lnTo>
                    <a:lnTo>
                      <a:pt x="120" y="2739"/>
                    </a:lnTo>
                    <a:lnTo>
                      <a:pt x="107" y="2673"/>
                    </a:lnTo>
                    <a:lnTo>
                      <a:pt x="94" y="2607"/>
                    </a:lnTo>
                    <a:lnTo>
                      <a:pt x="83" y="2541"/>
                    </a:lnTo>
                    <a:lnTo>
                      <a:pt x="73" y="2474"/>
                    </a:lnTo>
                    <a:lnTo>
                      <a:pt x="64" y="2407"/>
                    </a:lnTo>
                    <a:lnTo>
                      <a:pt x="58" y="2339"/>
                    </a:lnTo>
                    <a:lnTo>
                      <a:pt x="51" y="2271"/>
                    </a:lnTo>
                    <a:lnTo>
                      <a:pt x="47" y="2203"/>
                    </a:lnTo>
                    <a:lnTo>
                      <a:pt x="44" y="2135"/>
                    </a:lnTo>
                    <a:lnTo>
                      <a:pt x="42" y="2066"/>
                    </a:lnTo>
                    <a:lnTo>
                      <a:pt x="42" y="1997"/>
                    </a:lnTo>
                    <a:lnTo>
                      <a:pt x="42" y="1928"/>
                    </a:lnTo>
                    <a:lnTo>
                      <a:pt x="44" y="1858"/>
                    </a:lnTo>
                    <a:lnTo>
                      <a:pt x="47" y="1789"/>
                    </a:lnTo>
                    <a:lnTo>
                      <a:pt x="51" y="1721"/>
                    </a:lnTo>
                    <a:lnTo>
                      <a:pt x="58" y="1653"/>
                    </a:lnTo>
                    <a:lnTo>
                      <a:pt x="64" y="1586"/>
                    </a:lnTo>
                    <a:lnTo>
                      <a:pt x="73" y="1518"/>
                    </a:lnTo>
                    <a:lnTo>
                      <a:pt x="83" y="1452"/>
                    </a:lnTo>
                    <a:lnTo>
                      <a:pt x="94" y="1385"/>
                    </a:lnTo>
                    <a:lnTo>
                      <a:pt x="107" y="1320"/>
                    </a:lnTo>
                    <a:lnTo>
                      <a:pt x="120" y="1255"/>
                    </a:lnTo>
                    <a:lnTo>
                      <a:pt x="134" y="1189"/>
                    </a:lnTo>
                    <a:lnTo>
                      <a:pt x="150" y="1125"/>
                    </a:lnTo>
                    <a:lnTo>
                      <a:pt x="167" y="1060"/>
                    </a:lnTo>
                    <a:lnTo>
                      <a:pt x="184" y="997"/>
                    </a:lnTo>
                    <a:lnTo>
                      <a:pt x="204" y="934"/>
                    </a:lnTo>
                    <a:lnTo>
                      <a:pt x="224" y="871"/>
                    </a:lnTo>
                    <a:lnTo>
                      <a:pt x="246" y="809"/>
                    </a:lnTo>
                    <a:lnTo>
                      <a:pt x="269" y="747"/>
                    </a:lnTo>
                    <a:lnTo>
                      <a:pt x="292" y="687"/>
                    </a:lnTo>
                    <a:lnTo>
                      <a:pt x="317" y="626"/>
                    </a:lnTo>
                    <a:lnTo>
                      <a:pt x="342" y="566"/>
                    </a:lnTo>
                    <a:lnTo>
                      <a:pt x="369" y="506"/>
                    </a:lnTo>
                    <a:lnTo>
                      <a:pt x="397" y="448"/>
                    </a:lnTo>
                    <a:lnTo>
                      <a:pt x="426" y="390"/>
                    </a:lnTo>
                    <a:lnTo>
                      <a:pt x="457" y="332"/>
                    </a:lnTo>
                    <a:lnTo>
                      <a:pt x="488" y="275"/>
                    </a:lnTo>
                    <a:lnTo>
                      <a:pt x="520" y="219"/>
                    </a:lnTo>
                    <a:lnTo>
                      <a:pt x="553" y="163"/>
                    </a:lnTo>
                    <a:lnTo>
                      <a:pt x="587" y="108"/>
                    </a:lnTo>
                    <a:lnTo>
                      <a:pt x="622" y="54"/>
                    </a:lnTo>
                    <a:lnTo>
                      <a:pt x="658" y="0"/>
                    </a:lnTo>
                    <a:lnTo>
                      <a:pt x="649" y="4"/>
                    </a:lnTo>
                    <a:lnTo>
                      <a:pt x="640" y="8"/>
                    </a:lnTo>
                    <a:lnTo>
                      <a:pt x="631" y="12"/>
                    </a:lnTo>
                    <a:lnTo>
                      <a:pt x="622" y="16"/>
                    </a:lnTo>
                    <a:lnTo>
                      <a:pt x="613" y="20"/>
                    </a:lnTo>
                    <a:lnTo>
                      <a:pt x="605" y="25"/>
                    </a:lnTo>
                    <a:lnTo>
                      <a:pt x="595" y="28"/>
                    </a:lnTo>
                    <a:lnTo>
                      <a:pt x="58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160800" y="2198520"/>
                <a:ext cx="2827080" cy="1597320"/>
              </a:xfrm>
              <a:custGeom>
                <a:avLst/>
                <a:gdLst/>
                <a:ahLst/>
                <a:rect l="l" t="t" r="r" b="b"/>
                <a:pathLst>
                  <a:path w="7126" h="4025">
                    <a:moveTo>
                      <a:pt x="7126" y="2013"/>
                    </a:moveTo>
                    <a:lnTo>
                      <a:pt x="7125" y="1944"/>
                    </a:lnTo>
                    <a:lnTo>
                      <a:pt x="7123" y="1876"/>
                    </a:lnTo>
                    <a:lnTo>
                      <a:pt x="7120" y="1807"/>
                    </a:lnTo>
                    <a:lnTo>
                      <a:pt x="7115" y="1741"/>
                    </a:lnTo>
                    <a:lnTo>
                      <a:pt x="7110" y="1672"/>
                    </a:lnTo>
                    <a:lnTo>
                      <a:pt x="7102" y="1606"/>
                    </a:lnTo>
                    <a:lnTo>
                      <a:pt x="7095" y="1540"/>
                    </a:lnTo>
                    <a:lnTo>
                      <a:pt x="7085" y="1474"/>
                    </a:lnTo>
                    <a:lnTo>
                      <a:pt x="7074" y="1408"/>
                    </a:lnTo>
                    <a:lnTo>
                      <a:pt x="7063" y="1342"/>
                    </a:lnTo>
                    <a:lnTo>
                      <a:pt x="7050" y="1277"/>
                    </a:lnTo>
                    <a:lnTo>
                      <a:pt x="7035" y="1213"/>
                    </a:lnTo>
                    <a:lnTo>
                      <a:pt x="7020" y="1149"/>
                    </a:lnTo>
                    <a:lnTo>
                      <a:pt x="7004" y="1085"/>
                    </a:lnTo>
                    <a:lnTo>
                      <a:pt x="6986" y="1022"/>
                    </a:lnTo>
                    <a:lnTo>
                      <a:pt x="6967" y="960"/>
                    </a:lnTo>
                    <a:lnTo>
                      <a:pt x="6948" y="898"/>
                    </a:lnTo>
                    <a:lnTo>
                      <a:pt x="6926" y="835"/>
                    </a:lnTo>
                    <a:lnTo>
                      <a:pt x="6905" y="775"/>
                    </a:lnTo>
                    <a:lnTo>
                      <a:pt x="6882" y="715"/>
                    </a:lnTo>
                    <a:lnTo>
                      <a:pt x="6857" y="654"/>
                    </a:lnTo>
                    <a:lnTo>
                      <a:pt x="6832" y="595"/>
                    </a:lnTo>
                    <a:lnTo>
                      <a:pt x="6805" y="535"/>
                    </a:lnTo>
                    <a:lnTo>
                      <a:pt x="6778" y="477"/>
                    </a:lnTo>
                    <a:lnTo>
                      <a:pt x="6750" y="420"/>
                    </a:lnTo>
                    <a:lnTo>
                      <a:pt x="6721" y="362"/>
                    </a:lnTo>
                    <a:lnTo>
                      <a:pt x="6691" y="305"/>
                    </a:lnTo>
                    <a:lnTo>
                      <a:pt x="6659" y="250"/>
                    </a:lnTo>
                    <a:lnTo>
                      <a:pt x="6627" y="194"/>
                    </a:lnTo>
                    <a:lnTo>
                      <a:pt x="6594" y="140"/>
                    </a:lnTo>
                    <a:lnTo>
                      <a:pt x="6559" y="86"/>
                    </a:lnTo>
                    <a:lnTo>
                      <a:pt x="6524" y="32"/>
                    </a:lnTo>
                    <a:lnTo>
                      <a:pt x="6516" y="28"/>
                    </a:lnTo>
                    <a:lnTo>
                      <a:pt x="6506" y="24"/>
                    </a:lnTo>
                    <a:lnTo>
                      <a:pt x="6497" y="20"/>
                    </a:lnTo>
                    <a:lnTo>
                      <a:pt x="6488" y="16"/>
                    </a:lnTo>
                    <a:lnTo>
                      <a:pt x="6479" y="13"/>
                    </a:lnTo>
                    <a:lnTo>
                      <a:pt x="6470" y="8"/>
                    </a:lnTo>
                    <a:lnTo>
                      <a:pt x="6461" y="4"/>
                    </a:lnTo>
                    <a:lnTo>
                      <a:pt x="6452" y="0"/>
                    </a:lnTo>
                    <a:lnTo>
                      <a:pt x="6489" y="54"/>
                    </a:lnTo>
                    <a:lnTo>
                      <a:pt x="6524" y="109"/>
                    </a:lnTo>
                    <a:lnTo>
                      <a:pt x="6559" y="164"/>
                    </a:lnTo>
                    <a:lnTo>
                      <a:pt x="6594" y="220"/>
                    </a:lnTo>
                    <a:lnTo>
                      <a:pt x="6626" y="276"/>
                    </a:lnTo>
                    <a:lnTo>
                      <a:pt x="6658" y="333"/>
                    </a:lnTo>
                    <a:lnTo>
                      <a:pt x="6689" y="392"/>
                    </a:lnTo>
                    <a:lnTo>
                      <a:pt x="6719" y="450"/>
                    </a:lnTo>
                    <a:lnTo>
                      <a:pt x="6747" y="509"/>
                    </a:lnTo>
                    <a:lnTo>
                      <a:pt x="6775" y="569"/>
                    </a:lnTo>
                    <a:lnTo>
                      <a:pt x="6801" y="629"/>
                    </a:lnTo>
                    <a:lnTo>
                      <a:pt x="6827" y="690"/>
                    </a:lnTo>
                    <a:lnTo>
                      <a:pt x="6851" y="751"/>
                    </a:lnTo>
                    <a:lnTo>
                      <a:pt x="6874" y="814"/>
                    </a:lnTo>
                    <a:lnTo>
                      <a:pt x="6896" y="877"/>
                    </a:lnTo>
                    <a:lnTo>
                      <a:pt x="6918" y="939"/>
                    </a:lnTo>
                    <a:lnTo>
                      <a:pt x="6937" y="1003"/>
                    </a:lnTo>
                    <a:lnTo>
                      <a:pt x="6956" y="1068"/>
                    </a:lnTo>
                    <a:lnTo>
                      <a:pt x="6973" y="1132"/>
                    </a:lnTo>
                    <a:lnTo>
                      <a:pt x="6989" y="1197"/>
                    </a:lnTo>
                    <a:lnTo>
                      <a:pt x="7004" y="1263"/>
                    </a:lnTo>
                    <a:lnTo>
                      <a:pt x="7018" y="1329"/>
                    </a:lnTo>
                    <a:lnTo>
                      <a:pt x="7030" y="1396"/>
                    </a:lnTo>
                    <a:lnTo>
                      <a:pt x="7041" y="1463"/>
                    </a:lnTo>
                    <a:lnTo>
                      <a:pt x="7052" y="1530"/>
                    </a:lnTo>
                    <a:lnTo>
                      <a:pt x="7060" y="1598"/>
                    </a:lnTo>
                    <a:lnTo>
                      <a:pt x="7067" y="1666"/>
                    </a:lnTo>
                    <a:lnTo>
                      <a:pt x="7073" y="1734"/>
                    </a:lnTo>
                    <a:lnTo>
                      <a:pt x="7078" y="1803"/>
                    </a:lnTo>
                    <a:lnTo>
                      <a:pt x="7082" y="1872"/>
                    </a:lnTo>
                    <a:lnTo>
                      <a:pt x="7083" y="1942"/>
                    </a:lnTo>
                    <a:lnTo>
                      <a:pt x="7084" y="2013"/>
                    </a:lnTo>
                    <a:lnTo>
                      <a:pt x="7084" y="2072"/>
                    </a:lnTo>
                    <a:lnTo>
                      <a:pt x="7082" y="2130"/>
                    </a:lnTo>
                    <a:lnTo>
                      <a:pt x="7080" y="2190"/>
                    </a:lnTo>
                    <a:lnTo>
                      <a:pt x="7077" y="2248"/>
                    </a:lnTo>
                    <a:lnTo>
                      <a:pt x="7072" y="2306"/>
                    </a:lnTo>
                    <a:lnTo>
                      <a:pt x="7067" y="2364"/>
                    </a:lnTo>
                    <a:lnTo>
                      <a:pt x="7060" y="2422"/>
                    </a:lnTo>
                    <a:lnTo>
                      <a:pt x="7054" y="2479"/>
                    </a:lnTo>
                    <a:lnTo>
                      <a:pt x="7045" y="2536"/>
                    </a:lnTo>
                    <a:lnTo>
                      <a:pt x="7037" y="2593"/>
                    </a:lnTo>
                    <a:lnTo>
                      <a:pt x="7027" y="2650"/>
                    </a:lnTo>
                    <a:lnTo>
                      <a:pt x="7016" y="2706"/>
                    </a:lnTo>
                    <a:lnTo>
                      <a:pt x="7004" y="2762"/>
                    </a:lnTo>
                    <a:lnTo>
                      <a:pt x="6991" y="2817"/>
                    </a:lnTo>
                    <a:lnTo>
                      <a:pt x="6978" y="2872"/>
                    </a:lnTo>
                    <a:lnTo>
                      <a:pt x="6964" y="2927"/>
                    </a:lnTo>
                    <a:lnTo>
                      <a:pt x="7004" y="2938"/>
                    </a:lnTo>
                    <a:lnTo>
                      <a:pt x="7018" y="2882"/>
                    </a:lnTo>
                    <a:lnTo>
                      <a:pt x="7032" y="2827"/>
                    </a:lnTo>
                    <a:lnTo>
                      <a:pt x="7044" y="2771"/>
                    </a:lnTo>
                    <a:lnTo>
                      <a:pt x="7056" y="2714"/>
                    </a:lnTo>
                    <a:lnTo>
                      <a:pt x="7067" y="2657"/>
                    </a:lnTo>
                    <a:lnTo>
                      <a:pt x="7078" y="2600"/>
                    </a:lnTo>
                    <a:lnTo>
                      <a:pt x="7086" y="2543"/>
                    </a:lnTo>
                    <a:lnTo>
                      <a:pt x="7095" y="2485"/>
                    </a:lnTo>
                    <a:lnTo>
                      <a:pt x="7101" y="2426"/>
                    </a:lnTo>
                    <a:lnTo>
                      <a:pt x="7108" y="2368"/>
                    </a:lnTo>
                    <a:lnTo>
                      <a:pt x="7113" y="2310"/>
                    </a:lnTo>
                    <a:lnTo>
                      <a:pt x="7118" y="2250"/>
                    </a:lnTo>
                    <a:lnTo>
                      <a:pt x="7121" y="2192"/>
                    </a:lnTo>
                    <a:lnTo>
                      <a:pt x="7124" y="2133"/>
                    </a:lnTo>
                    <a:lnTo>
                      <a:pt x="7125" y="2072"/>
                    </a:lnTo>
                    <a:lnTo>
                      <a:pt x="7126" y="2013"/>
                    </a:lnTo>
                    <a:close/>
                    <a:moveTo>
                      <a:pt x="602" y="32"/>
                    </a:moveTo>
                    <a:lnTo>
                      <a:pt x="567" y="86"/>
                    </a:lnTo>
                    <a:lnTo>
                      <a:pt x="533" y="140"/>
                    </a:lnTo>
                    <a:lnTo>
                      <a:pt x="499" y="194"/>
                    </a:lnTo>
                    <a:lnTo>
                      <a:pt x="467" y="250"/>
                    </a:lnTo>
                    <a:lnTo>
                      <a:pt x="436" y="305"/>
                    </a:lnTo>
                    <a:lnTo>
                      <a:pt x="405" y="362"/>
                    </a:lnTo>
                    <a:lnTo>
                      <a:pt x="376" y="420"/>
                    </a:lnTo>
                    <a:lnTo>
                      <a:pt x="348" y="477"/>
                    </a:lnTo>
                    <a:lnTo>
                      <a:pt x="320" y="535"/>
                    </a:lnTo>
                    <a:lnTo>
                      <a:pt x="294" y="595"/>
                    </a:lnTo>
                    <a:lnTo>
                      <a:pt x="269" y="654"/>
                    </a:lnTo>
                    <a:lnTo>
                      <a:pt x="244" y="715"/>
                    </a:lnTo>
                    <a:lnTo>
                      <a:pt x="222" y="775"/>
                    </a:lnTo>
                    <a:lnTo>
                      <a:pt x="200" y="835"/>
                    </a:lnTo>
                    <a:lnTo>
                      <a:pt x="178" y="898"/>
                    </a:lnTo>
                    <a:lnTo>
                      <a:pt x="159" y="960"/>
                    </a:lnTo>
                    <a:lnTo>
                      <a:pt x="141" y="1022"/>
                    </a:lnTo>
                    <a:lnTo>
                      <a:pt x="122" y="1085"/>
                    </a:lnTo>
                    <a:lnTo>
                      <a:pt x="106" y="1149"/>
                    </a:lnTo>
                    <a:lnTo>
                      <a:pt x="91" y="1213"/>
                    </a:lnTo>
                    <a:lnTo>
                      <a:pt x="77" y="1277"/>
                    </a:lnTo>
                    <a:lnTo>
                      <a:pt x="64" y="1342"/>
                    </a:lnTo>
                    <a:lnTo>
                      <a:pt x="52" y="1408"/>
                    </a:lnTo>
                    <a:lnTo>
                      <a:pt x="41" y="1474"/>
                    </a:lnTo>
                    <a:lnTo>
                      <a:pt x="31" y="1540"/>
                    </a:lnTo>
                    <a:lnTo>
                      <a:pt x="24" y="1606"/>
                    </a:lnTo>
                    <a:lnTo>
                      <a:pt x="16" y="1672"/>
                    </a:lnTo>
                    <a:lnTo>
                      <a:pt x="11" y="1741"/>
                    </a:lnTo>
                    <a:lnTo>
                      <a:pt x="7" y="1807"/>
                    </a:lnTo>
                    <a:lnTo>
                      <a:pt x="3" y="1876"/>
                    </a:lnTo>
                    <a:lnTo>
                      <a:pt x="1" y="1944"/>
                    </a:lnTo>
                    <a:lnTo>
                      <a:pt x="0" y="2013"/>
                    </a:lnTo>
                    <a:lnTo>
                      <a:pt x="1" y="2081"/>
                    </a:lnTo>
                    <a:lnTo>
                      <a:pt x="3" y="2149"/>
                    </a:lnTo>
                    <a:lnTo>
                      <a:pt x="7" y="2217"/>
                    </a:lnTo>
                    <a:lnTo>
                      <a:pt x="11" y="2285"/>
                    </a:lnTo>
                    <a:lnTo>
                      <a:pt x="16" y="2352"/>
                    </a:lnTo>
                    <a:lnTo>
                      <a:pt x="24" y="2419"/>
                    </a:lnTo>
                    <a:lnTo>
                      <a:pt x="31" y="2486"/>
                    </a:lnTo>
                    <a:lnTo>
                      <a:pt x="41" y="2552"/>
                    </a:lnTo>
                    <a:lnTo>
                      <a:pt x="52" y="2617"/>
                    </a:lnTo>
                    <a:lnTo>
                      <a:pt x="64" y="2682"/>
                    </a:lnTo>
                    <a:lnTo>
                      <a:pt x="77" y="2747"/>
                    </a:lnTo>
                    <a:lnTo>
                      <a:pt x="91" y="2812"/>
                    </a:lnTo>
                    <a:lnTo>
                      <a:pt x="106" y="2876"/>
                    </a:lnTo>
                    <a:lnTo>
                      <a:pt x="122" y="2939"/>
                    </a:lnTo>
                    <a:lnTo>
                      <a:pt x="141" y="3002"/>
                    </a:lnTo>
                    <a:lnTo>
                      <a:pt x="159" y="3065"/>
                    </a:lnTo>
                    <a:lnTo>
                      <a:pt x="178" y="3127"/>
                    </a:lnTo>
                    <a:lnTo>
                      <a:pt x="200" y="3189"/>
                    </a:lnTo>
                    <a:lnTo>
                      <a:pt x="222" y="3250"/>
                    </a:lnTo>
                    <a:lnTo>
                      <a:pt x="244" y="3311"/>
                    </a:lnTo>
                    <a:lnTo>
                      <a:pt x="269" y="3370"/>
                    </a:lnTo>
                    <a:lnTo>
                      <a:pt x="294" y="3430"/>
                    </a:lnTo>
                    <a:lnTo>
                      <a:pt x="320" y="3489"/>
                    </a:lnTo>
                    <a:lnTo>
                      <a:pt x="348" y="3547"/>
                    </a:lnTo>
                    <a:lnTo>
                      <a:pt x="376" y="3606"/>
                    </a:lnTo>
                    <a:lnTo>
                      <a:pt x="405" y="3663"/>
                    </a:lnTo>
                    <a:lnTo>
                      <a:pt x="436" y="3719"/>
                    </a:lnTo>
                    <a:lnTo>
                      <a:pt x="467" y="3775"/>
                    </a:lnTo>
                    <a:lnTo>
                      <a:pt x="499" y="3830"/>
                    </a:lnTo>
                    <a:lnTo>
                      <a:pt x="533" y="3885"/>
                    </a:lnTo>
                    <a:lnTo>
                      <a:pt x="567" y="3939"/>
                    </a:lnTo>
                    <a:lnTo>
                      <a:pt x="602" y="3992"/>
                    </a:lnTo>
                    <a:lnTo>
                      <a:pt x="611" y="3997"/>
                    </a:lnTo>
                    <a:lnTo>
                      <a:pt x="620" y="4001"/>
                    </a:lnTo>
                    <a:lnTo>
                      <a:pt x="629" y="4005"/>
                    </a:lnTo>
                    <a:lnTo>
                      <a:pt x="638" y="4009"/>
                    </a:lnTo>
                    <a:lnTo>
                      <a:pt x="647" y="4013"/>
                    </a:lnTo>
                    <a:lnTo>
                      <a:pt x="656" y="4017"/>
                    </a:lnTo>
                    <a:lnTo>
                      <a:pt x="666" y="4020"/>
                    </a:lnTo>
                    <a:lnTo>
                      <a:pt x="674" y="4025"/>
                    </a:lnTo>
                    <a:lnTo>
                      <a:pt x="638" y="3971"/>
                    </a:lnTo>
                    <a:lnTo>
                      <a:pt x="602" y="3917"/>
                    </a:lnTo>
                    <a:lnTo>
                      <a:pt x="567" y="3862"/>
                    </a:lnTo>
                    <a:lnTo>
                      <a:pt x="533" y="3805"/>
                    </a:lnTo>
                    <a:lnTo>
                      <a:pt x="500" y="3748"/>
                    </a:lnTo>
                    <a:lnTo>
                      <a:pt x="468" y="3691"/>
                    </a:lnTo>
                    <a:lnTo>
                      <a:pt x="438" y="3634"/>
                    </a:lnTo>
                    <a:lnTo>
                      <a:pt x="407" y="3575"/>
                    </a:lnTo>
                    <a:lnTo>
                      <a:pt x="379" y="3516"/>
                    </a:lnTo>
                    <a:lnTo>
                      <a:pt x="351" y="3456"/>
                    </a:lnTo>
                    <a:lnTo>
                      <a:pt x="324" y="3396"/>
                    </a:lnTo>
                    <a:lnTo>
                      <a:pt x="299" y="3335"/>
                    </a:lnTo>
                    <a:lnTo>
                      <a:pt x="275" y="3273"/>
                    </a:lnTo>
                    <a:lnTo>
                      <a:pt x="252" y="3211"/>
                    </a:lnTo>
                    <a:lnTo>
                      <a:pt x="230" y="3149"/>
                    </a:lnTo>
                    <a:lnTo>
                      <a:pt x="209" y="3085"/>
                    </a:lnTo>
                    <a:lnTo>
                      <a:pt x="189" y="3021"/>
                    </a:lnTo>
                    <a:lnTo>
                      <a:pt x="171" y="2958"/>
                    </a:lnTo>
                    <a:lnTo>
                      <a:pt x="154" y="2893"/>
                    </a:lnTo>
                    <a:lnTo>
                      <a:pt x="137" y="2828"/>
                    </a:lnTo>
                    <a:lnTo>
                      <a:pt x="122" y="2762"/>
                    </a:lnTo>
                    <a:lnTo>
                      <a:pt x="108" y="2696"/>
                    </a:lnTo>
                    <a:lnTo>
                      <a:pt x="96" y="2629"/>
                    </a:lnTo>
                    <a:lnTo>
                      <a:pt x="85" y="2562"/>
                    </a:lnTo>
                    <a:lnTo>
                      <a:pt x="75" y="2495"/>
                    </a:lnTo>
                    <a:lnTo>
                      <a:pt x="66" y="2427"/>
                    </a:lnTo>
                    <a:lnTo>
                      <a:pt x="60" y="2359"/>
                    </a:lnTo>
                    <a:lnTo>
                      <a:pt x="53" y="2290"/>
                    </a:lnTo>
                    <a:lnTo>
                      <a:pt x="49" y="2221"/>
                    </a:lnTo>
                    <a:lnTo>
                      <a:pt x="44" y="2152"/>
                    </a:lnTo>
                    <a:lnTo>
                      <a:pt x="43" y="2083"/>
                    </a:lnTo>
                    <a:lnTo>
                      <a:pt x="42" y="2013"/>
                    </a:lnTo>
                    <a:lnTo>
                      <a:pt x="43" y="1942"/>
                    </a:lnTo>
                    <a:lnTo>
                      <a:pt x="44" y="1872"/>
                    </a:lnTo>
                    <a:lnTo>
                      <a:pt x="49" y="1803"/>
                    </a:lnTo>
                    <a:lnTo>
                      <a:pt x="53" y="1734"/>
                    </a:lnTo>
                    <a:lnTo>
                      <a:pt x="60" y="1666"/>
                    </a:lnTo>
                    <a:lnTo>
                      <a:pt x="66" y="1598"/>
                    </a:lnTo>
                    <a:lnTo>
                      <a:pt x="75" y="1530"/>
                    </a:lnTo>
                    <a:lnTo>
                      <a:pt x="85" y="1463"/>
                    </a:lnTo>
                    <a:lnTo>
                      <a:pt x="96" y="1396"/>
                    </a:lnTo>
                    <a:lnTo>
                      <a:pt x="108" y="1329"/>
                    </a:lnTo>
                    <a:lnTo>
                      <a:pt x="122" y="1263"/>
                    </a:lnTo>
                    <a:lnTo>
                      <a:pt x="137" y="1197"/>
                    </a:lnTo>
                    <a:lnTo>
                      <a:pt x="154" y="1132"/>
                    </a:lnTo>
                    <a:lnTo>
                      <a:pt x="171" y="1068"/>
                    </a:lnTo>
                    <a:lnTo>
                      <a:pt x="189" y="1003"/>
                    </a:lnTo>
                    <a:lnTo>
                      <a:pt x="209" y="939"/>
                    </a:lnTo>
                    <a:lnTo>
                      <a:pt x="230" y="877"/>
                    </a:lnTo>
                    <a:lnTo>
                      <a:pt x="252" y="814"/>
                    </a:lnTo>
                    <a:lnTo>
                      <a:pt x="275" y="751"/>
                    </a:lnTo>
                    <a:lnTo>
                      <a:pt x="299" y="690"/>
                    </a:lnTo>
                    <a:lnTo>
                      <a:pt x="324" y="629"/>
                    </a:lnTo>
                    <a:lnTo>
                      <a:pt x="351" y="569"/>
                    </a:lnTo>
                    <a:lnTo>
                      <a:pt x="379" y="509"/>
                    </a:lnTo>
                    <a:lnTo>
                      <a:pt x="407" y="450"/>
                    </a:lnTo>
                    <a:lnTo>
                      <a:pt x="438" y="392"/>
                    </a:lnTo>
                    <a:lnTo>
                      <a:pt x="468" y="333"/>
                    </a:lnTo>
                    <a:lnTo>
                      <a:pt x="500" y="276"/>
                    </a:lnTo>
                    <a:lnTo>
                      <a:pt x="533" y="220"/>
                    </a:lnTo>
                    <a:lnTo>
                      <a:pt x="567" y="164"/>
                    </a:lnTo>
                    <a:lnTo>
                      <a:pt x="602" y="109"/>
                    </a:lnTo>
                    <a:lnTo>
                      <a:pt x="638" y="54"/>
                    </a:lnTo>
                    <a:lnTo>
                      <a:pt x="674" y="0"/>
                    </a:lnTo>
                    <a:lnTo>
                      <a:pt x="666" y="4"/>
                    </a:lnTo>
                    <a:lnTo>
                      <a:pt x="656" y="8"/>
                    </a:lnTo>
                    <a:lnTo>
                      <a:pt x="647" y="11"/>
                    </a:lnTo>
                    <a:lnTo>
                      <a:pt x="639" y="16"/>
                    </a:lnTo>
                    <a:lnTo>
                      <a:pt x="629" y="20"/>
                    </a:lnTo>
                    <a:lnTo>
                      <a:pt x="620" y="24"/>
                    </a:lnTo>
                    <a:lnTo>
                      <a:pt x="611" y="28"/>
                    </a:lnTo>
                    <a:lnTo>
                      <a:pt x="602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168720" y="2192400"/>
                <a:ext cx="2811240" cy="1609560"/>
              </a:xfrm>
              <a:custGeom>
                <a:avLst/>
                <a:gdLst/>
                <a:ahLst/>
                <a:rect l="l" t="t" r="r" b="b"/>
                <a:pathLst>
                  <a:path w="7083" h="4056">
                    <a:moveTo>
                      <a:pt x="7083" y="2029"/>
                    </a:moveTo>
                    <a:lnTo>
                      <a:pt x="7083" y="1960"/>
                    </a:lnTo>
                    <a:lnTo>
                      <a:pt x="7080" y="1890"/>
                    </a:lnTo>
                    <a:lnTo>
                      <a:pt x="7077" y="1821"/>
                    </a:lnTo>
                    <a:lnTo>
                      <a:pt x="7073" y="1753"/>
                    </a:lnTo>
                    <a:lnTo>
                      <a:pt x="7066" y="1685"/>
                    </a:lnTo>
                    <a:lnTo>
                      <a:pt x="7059" y="1618"/>
                    </a:lnTo>
                    <a:lnTo>
                      <a:pt x="7051" y="1550"/>
                    </a:lnTo>
                    <a:lnTo>
                      <a:pt x="7042" y="1484"/>
                    </a:lnTo>
                    <a:lnTo>
                      <a:pt x="7031" y="1417"/>
                    </a:lnTo>
                    <a:lnTo>
                      <a:pt x="7018" y="1352"/>
                    </a:lnTo>
                    <a:lnTo>
                      <a:pt x="7005" y="1287"/>
                    </a:lnTo>
                    <a:lnTo>
                      <a:pt x="6991" y="1221"/>
                    </a:lnTo>
                    <a:lnTo>
                      <a:pt x="6975" y="1157"/>
                    </a:lnTo>
                    <a:lnTo>
                      <a:pt x="6957" y="1092"/>
                    </a:lnTo>
                    <a:lnTo>
                      <a:pt x="6940" y="1029"/>
                    </a:lnTo>
                    <a:lnTo>
                      <a:pt x="6921" y="966"/>
                    </a:lnTo>
                    <a:lnTo>
                      <a:pt x="6900" y="903"/>
                    </a:lnTo>
                    <a:lnTo>
                      <a:pt x="6878" y="841"/>
                    </a:lnTo>
                    <a:lnTo>
                      <a:pt x="6856" y="779"/>
                    </a:lnTo>
                    <a:lnTo>
                      <a:pt x="6832" y="719"/>
                    </a:lnTo>
                    <a:lnTo>
                      <a:pt x="6807" y="658"/>
                    </a:lnTo>
                    <a:lnTo>
                      <a:pt x="6781" y="598"/>
                    </a:lnTo>
                    <a:lnTo>
                      <a:pt x="6755" y="538"/>
                    </a:lnTo>
                    <a:lnTo>
                      <a:pt x="6727" y="480"/>
                    </a:lnTo>
                    <a:lnTo>
                      <a:pt x="6698" y="422"/>
                    </a:lnTo>
                    <a:lnTo>
                      <a:pt x="6668" y="364"/>
                    </a:lnTo>
                    <a:lnTo>
                      <a:pt x="6636" y="307"/>
                    </a:lnTo>
                    <a:lnTo>
                      <a:pt x="6604" y="251"/>
                    </a:lnTo>
                    <a:lnTo>
                      <a:pt x="6572" y="195"/>
                    </a:lnTo>
                    <a:lnTo>
                      <a:pt x="6537" y="140"/>
                    </a:lnTo>
                    <a:lnTo>
                      <a:pt x="6502" y="86"/>
                    </a:lnTo>
                    <a:lnTo>
                      <a:pt x="6467" y="32"/>
                    </a:lnTo>
                    <a:lnTo>
                      <a:pt x="6457" y="29"/>
                    </a:lnTo>
                    <a:lnTo>
                      <a:pt x="6448" y="24"/>
                    </a:lnTo>
                    <a:lnTo>
                      <a:pt x="6440" y="20"/>
                    </a:lnTo>
                    <a:lnTo>
                      <a:pt x="6430" y="17"/>
                    </a:lnTo>
                    <a:lnTo>
                      <a:pt x="6421" y="12"/>
                    </a:lnTo>
                    <a:lnTo>
                      <a:pt x="6412" y="9"/>
                    </a:lnTo>
                    <a:lnTo>
                      <a:pt x="6403" y="5"/>
                    </a:lnTo>
                    <a:lnTo>
                      <a:pt x="6393" y="0"/>
                    </a:lnTo>
                    <a:lnTo>
                      <a:pt x="6431" y="54"/>
                    </a:lnTo>
                    <a:lnTo>
                      <a:pt x="6468" y="110"/>
                    </a:lnTo>
                    <a:lnTo>
                      <a:pt x="6503" y="165"/>
                    </a:lnTo>
                    <a:lnTo>
                      <a:pt x="6539" y="221"/>
                    </a:lnTo>
                    <a:lnTo>
                      <a:pt x="6573" y="278"/>
                    </a:lnTo>
                    <a:lnTo>
                      <a:pt x="6605" y="335"/>
                    </a:lnTo>
                    <a:lnTo>
                      <a:pt x="6636" y="394"/>
                    </a:lnTo>
                    <a:lnTo>
                      <a:pt x="6667" y="453"/>
                    </a:lnTo>
                    <a:lnTo>
                      <a:pt x="6696" y="512"/>
                    </a:lnTo>
                    <a:lnTo>
                      <a:pt x="6725" y="573"/>
                    </a:lnTo>
                    <a:lnTo>
                      <a:pt x="6752" y="633"/>
                    </a:lnTo>
                    <a:lnTo>
                      <a:pt x="6778" y="695"/>
                    </a:lnTo>
                    <a:lnTo>
                      <a:pt x="6803" y="756"/>
                    </a:lnTo>
                    <a:lnTo>
                      <a:pt x="6827" y="819"/>
                    </a:lnTo>
                    <a:lnTo>
                      <a:pt x="6849" y="882"/>
                    </a:lnTo>
                    <a:lnTo>
                      <a:pt x="6871" y="945"/>
                    </a:lnTo>
                    <a:lnTo>
                      <a:pt x="6890" y="1010"/>
                    </a:lnTo>
                    <a:lnTo>
                      <a:pt x="6910" y="1075"/>
                    </a:lnTo>
                    <a:lnTo>
                      <a:pt x="6927" y="1140"/>
                    </a:lnTo>
                    <a:lnTo>
                      <a:pt x="6944" y="1206"/>
                    </a:lnTo>
                    <a:lnTo>
                      <a:pt x="6959" y="1272"/>
                    </a:lnTo>
                    <a:lnTo>
                      <a:pt x="6974" y="1339"/>
                    </a:lnTo>
                    <a:lnTo>
                      <a:pt x="6986" y="1406"/>
                    </a:lnTo>
                    <a:lnTo>
                      <a:pt x="6997" y="1474"/>
                    </a:lnTo>
                    <a:lnTo>
                      <a:pt x="7008" y="1542"/>
                    </a:lnTo>
                    <a:lnTo>
                      <a:pt x="7017" y="1610"/>
                    </a:lnTo>
                    <a:lnTo>
                      <a:pt x="7024" y="1679"/>
                    </a:lnTo>
                    <a:lnTo>
                      <a:pt x="7030" y="1748"/>
                    </a:lnTo>
                    <a:lnTo>
                      <a:pt x="7035" y="1817"/>
                    </a:lnTo>
                    <a:lnTo>
                      <a:pt x="7038" y="1887"/>
                    </a:lnTo>
                    <a:lnTo>
                      <a:pt x="7041" y="1957"/>
                    </a:lnTo>
                    <a:lnTo>
                      <a:pt x="7042" y="2029"/>
                    </a:lnTo>
                    <a:lnTo>
                      <a:pt x="7041" y="2087"/>
                    </a:lnTo>
                    <a:lnTo>
                      <a:pt x="7039" y="2146"/>
                    </a:lnTo>
                    <a:lnTo>
                      <a:pt x="7037" y="2205"/>
                    </a:lnTo>
                    <a:lnTo>
                      <a:pt x="7034" y="2262"/>
                    </a:lnTo>
                    <a:lnTo>
                      <a:pt x="7030" y="2320"/>
                    </a:lnTo>
                    <a:lnTo>
                      <a:pt x="7024" y="2378"/>
                    </a:lnTo>
                    <a:lnTo>
                      <a:pt x="7018" y="2436"/>
                    </a:lnTo>
                    <a:lnTo>
                      <a:pt x="7010" y="2492"/>
                    </a:lnTo>
                    <a:lnTo>
                      <a:pt x="7003" y="2549"/>
                    </a:lnTo>
                    <a:lnTo>
                      <a:pt x="6994" y="2605"/>
                    </a:lnTo>
                    <a:lnTo>
                      <a:pt x="6984" y="2662"/>
                    </a:lnTo>
                    <a:lnTo>
                      <a:pt x="6974" y="2718"/>
                    </a:lnTo>
                    <a:lnTo>
                      <a:pt x="6962" y="2773"/>
                    </a:lnTo>
                    <a:lnTo>
                      <a:pt x="6949" y="2829"/>
                    </a:lnTo>
                    <a:lnTo>
                      <a:pt x="6936" y="2883"/>
                    </a:lnTo>
                    <a:lnTo>
                      <a:pt x="6922" y="2938"/>
                    </a:lnTo>
                    <a:lnTo>
                      <a:pt x="6962" y="2949"/>
                    </a:lnTo>
                    <a:lnTo>
                      <a:pt x="6976" y="2894"/>
                    </a:lnTo>
                    <a:lnTo>
                      <a:pt x="6990" y="2838"/>
                    </a:lnTo>
                    <a:lnTo>
                      <a:pt x="7003" y="2783"/>
                    </a:lnTo>
                    <a:lnTo>
                      <a:pt x="7013" y="2726"/>
                    </a:lnTo>
                    <a:lnTo>
                      <a:pt x="7025" y="2669"/>
                    </a:lnTo>
                    <a:lnTo>
                      <a:pt x="7035" y="2613"/>
                    </a:lnTo>
                    <a:lnTo>
                      <a:pt x="7044" y="2556"/>
                    </a:lnTo>
                    <a:lnTo>
                      <a:pt x="7052" y="2497"/>
                    </a:lnTo>
                    <a:lnTo>
                      <a:pt x="7059" y="2440"/>
                    </a:lnTo>
                    <a:lnTo>
                      <a:pt x="7065" y="2382"/>
                    </a:lnTo>
                    <a:lnTo>
                      <a:pt x="7071" y="2324"/>
                    </a:lnTo>
                    <a:lnTo>
                      <a:pt x="7075" y="2265"/>
                    </a:lnTo>
                    <a:lnTo>
                      <a:pt x="7078" y="2207"/>
                    </a:lnTo>
                    <a:lnTo>
                      <a:pt x="7080" y="2147"/>
                    </a:lnTo>
                    <a:lnTo>
                      <a:pt x="7083" y="2088"/>
                    </a:lnTo>
                    <a:lnTo>
                      <a:pt x="7083" y="2029"/>
                    </a:lnTo>
                    <a:close/>
                    <a:moveTo>
                      <a:pt x="616" y="32"/>
                    </a:moveTo>
                    <a:lnTo>
                      <a:pt x="580" y="86"/>
                    </a:lnTo>
                    <a:lnTo>
                      <a:pt x="545" y="140"/>
                    </a:lnTo>
                    <a:lnTo>
                      <a:pt x="511" y="195"/>
                    </a:lnTo>
                    <a:lnTo>
                      <a:pt x="478" y="251"/>
                    </a:lnTo>
                    <a:lnTo>
                      <a:pt x="446" y="307"/>
                    </a:lnTo>
                    <a:lnTo>
                      <a:pt x="415" y="364"/>
                    </a:lnTo>
                    <a:lnTo>
                      <a:pt x="384" y="422"/>
                    </a:lnTo>
                    <a:lnTo>
                      <a:pt x="355" y="480"/>
                    </a:lnTo>
                    <a:lnTo>
                      <a:pt x="327" y="538"/>
                    </a:lnTo>
                    <a:lnTo>
                      <a:pt x="300" y="598"/>
                    </a:lnTo>
                    <a:lnTo>
                      <a:pt x="275" y="658"/>
                    </a:lnTo>
                    <a:lnTo>
                      <a:pt x="250" y="719"/>
                    </a:lnTo>
                    <a:lnTo>
                      <a:pt x="227" y="779"/>
                    </a:lnTo>
                    <a:lnTo>
                      <a:pt x="204" y="841"/>
                    </a:lnTo>
                    <a:lnTo>
                      <a:pt x="182" y="903"/>
                    </a:lnTo>
                    <a:lnTo>
                      <a:pt x="162" y="966"/>
                    </a:lnTo>
                    <a:lnTo>
                      <a:pt x="142" y="1029"/>
                    </a:lnTo>
                    <a:lnTo>
                      <a:pt x="125" y="1092"/>
                    </a:lnTo>
                    <a:lnTo>
                      <a:pt x="108" y="1157"/>
                    </a:lnTo>
                    <a:lnTo>
                      <a:pt x="92" y="1221"/>
                    </a:lnTo>
                    <a:lnTo>
                      <a:pt x="78" y="1287"/>
                    </a:lnTo>
                    <a:lnTo>
                      <a:pt x="65" y="1352"/>
                    </a:lnTo>
                    <a:lnTo>
                      <a:pt x="52" y="1417"/>
                    </a:lnTo>
                    <a:lnTo>
                      <a:pt x="41" y="1484"/>
                    </a:lnTo>
                    <a:lnTo>
                      <a:pt x="31" y="1550"/>
                    </a:lnTo>
                    <a:lnTo>
                      <a:pt x="22" y="1618"/>
                    </a:lnTo>
                    <a:lnTo>
                      <a:pt x="16" y="1685"/>
                    </a:lnTo>
                    <a:lnTo>
                      <a:pt x="9" y="1753"/>
                    </a:lnTo>
                    <a:lnTo>
                      <a:pt x="5" y="1821"/>
                    </a:lnTo>
                    <a:lnTo>
                      <a:pt x="2" y="1890"/>
                    </a:lnTo>
                    <a:lnTo>
                      <a:pt x="0" y="1960"/>
                    </a:lnTo>
                    <a:lnTo>
                      <a:pt x="0" y="2029"/>
                    </a:lnTo>
                    <a:lnTo>
                      <a:pt x="0" y="2098"/>
                    </a:lnTo>
                    <a:lnTo>
                      <a:pt x="2" y="2167"/>
                    </a:lnTo>
                    <a:lnTo>
                      <a:pt x="5" y="2235"/>
                    </a:lnTo>
                    <a:lnTo>
                      <a:pt x="9" y="2303"/>
                    </a:lnTo>
                    <a:lnTo>
                      <a:pt x="16" y="2371"/>
                    </a:lnTo>
                    <a:lnTo>
                      <a:pt x="22" y="2439"/>
                    </a:lnTo>
                    <a:lnTo>
                      <a:pt x="31" y="2506"/>
                    </a:lnTo>
                    <a:lnTo>
                      <a:pt x="41" y="2573"/>
                    </a:lnTo>
                    <a:lnTo>
                      <a:pt x="52" y="2639"/>
                    </a:lnTo>
                    <a:lnTo>
                      <a:pt x="65" y="2705"/>
                    </a:lnTo>
                    <a:lnTo>
                      <a:pt x="78" y="2771"/>
                    </a:lnTo>
                    <a:lnTo>
                      <a:pt x="92" y="2835"/>
                    </a:lnTo>
                    <a:lnTo>
                      <a:pt x="108" y="2900"/>
                    </a:lnTo>
                    <a:lnTo>
                      <a:pt x="125" y="2964"/>
                    </a:lnTo>
                    <a:lnTo>
                      <a:pt x="142" y="3028"/>
                    </a:lnTo>
                    <a:lnTo>
                      <a:pt x="162" y="3091"/>
                    </a:lnTo>
                    <a:lnTo>
                      <a:pt x="182" y="3154"/>
                    </a:lnTo>
                    <a:lnTo>
                      <a:pt x="204" y="3216"/>
                    </a:lnTo>
                    <a:lnTo>
                      <a:pt x="227" y="3277"/>
                    </a:lnTo>
                    <a:lnTo>
                      <a:pt x="250" y="3339"/>
                    </a:lnTo>
                    <a:lnTo>
                      <a:pt x="275" y="3399"/>
                    </a:lnTo>
                    <a:lnTo>
                      <a:pt x="300" y="3459"/>
                    </a:lnTo>
                    <a:lnTo>
                      <a:pt x="327" y="3518"/>
                    </a:lnTo>
                    <a:lnTo>
                      <a:pt x="355" y="3577"/>
                    </a:lnTo>
                    <a:lnTo>
                      <a:pt x="384" y="3636"/>
                    </a:lnTo>
                    <a:lnTo>
                      <a:pt x="415" y="3693"/>
                    </a:lnTo>
                    <a:lnTo>
                      <a:pt x="446" y="3750"/>
                    </a:lnTo>
                    <a:lnTo>
                      <a:pt x="477" y="3806"/>
                    </a:lnTo>
                    <a:lnTo>
                      <a:pt x="511" y="3861"/>
                    </a:lnTo>
                    <a:lnTo>
                      <a:pt x="545" y="3917"/>
                    </a:lnTo>
                    <a:lnTo>
                      <a:pt x="580" y="3971"/>
                    </a:lnTo>
                    <a:lnTo>
                      <a:pt x="616" y="4025"/>
                    </a:lnTo>
                    <a:lnTo>
                      <a:pt x="625" y="4029"/>
                    </a:lnTo>
                    <a:lnTo>
                      <a:pt x="634" y="4032"/>
                    </a:lnTo>
                    <a:lnTo>
                      <a:pt x="643" y="4036"/>
                    </a:lnTo>
                    <a:lnTo>
                      <a:pt x="652" y="4041"/>
                    </a:lnTo>
                    <a:lnTo>
                      <a:pt x="661" y="4044"/>
                    </a:lnTo>
                    <a:lnTo>
                      <a:pt x="671" y="4048"/>
                    </a:lnTo>
                    <a:lnTo>
                      <a:pt x="679" y="4053"/>
                    </a:lnTo>
                    <a:lnTo>
                      <a:pt x="688" y="4056"/>
                    </a:lnTo>
                    <a:lnTo>
                      <a:pt x="651" y="4002"/>
                    </a:lnTo>
                    <a:lnTo>
                      <a:pt x="615" y="3947"/>
                    </a:lnTo>
                    <a:lnTo>
                      <a:pt x="579" y="3892"/>
                    </a:lnTo>
                    <a:lnTo>
                      <a:pt x="543" y="3836"/>
                    </a:lnTo>
                    <a:lnTo>
                      <a:pt x="510" y="3778"/>
                    </a:lnTo>
                    <a:lnTo>
                      <a:pt x="477" y="3721"/>
                    </a:lnTo>
                    <a:lnTo>
                      <a:pt x="446" y="3663"/>
                    </a:lnTo>
                    <a:lnTo>
                      <a:pt x="416" y="3604"/>
                    </a:lnTo>
                    <a:lnTo>
                      <a:pt x="385" y="3545"/>
                    </a:lnTo>
                    <a:lnTo>
                      <a:pt x="357" y="3485"/>
                    </a:lnTo>
                    <a:lnTo>
                      <a:pt x="330" y="3424"/>
                    </a:lnTo>
                    <a:lnTo>
                      <a:pt x="304" y="3362"/>
                    </a:lnTo>
                    <a:lnTo>
                      <a:pt x="280" y="3301"/>
                    </a:lnTo>
                    <a:lnTo>
                      <a:pt x="256" y="3238"/>
                    </a:lnTo>
                    <a:lnTo>
                      <a:pt x="233" y="3175"/>
                    </a:lnTo>
                    <a:lnTo>
                      <a:pt x="212" y="3111"/>
                    </a:lnTo>
                    <a:lnTo>
                      <a:pt x="192" y="3047"/>
                    </a:lnTo>
                    <a:lnTo>
                      <a:pt x="173" y="2982"/>
                    </a:lnTo>
                    <a:lnTo>
                      <a:pt x="155" y="2916"/>
                    </a:lnTo>
                    <a:lnTo>
                      <a:pt x="138" y="2852"/>
                    </a:lnTo>
                    <a:lnTo>
                      <a:pt x="123" y="2785"/>
                    </a:lnTo>
                    <a:lnTo>
                      <a:pt x="109" y="2719"/>
                    </a:lnTo>
                    <a:lnTo>
                      <a:pt x="96" y="2651"/>
                    </a:lnTo>
                    <a:lnTo>
                      <a:pt x="85" y="2584"/>
                    </a:lnTo>
                    <a:lnTo>
                      <a:pt x="74" y="2516"/>
                    </a:lnTo>
                    <a:lnTo>
                      <a:pt x="66" y="2447"/>
                    </a:lnTo>
                    <a:lnTo>
                      <a:pt x="58" y="2379"/>
                    </a:lnTo>
                    <a:lnTo>
                      <a:pt x="52" y="2309"/>
                    </a:lnTo>
                    <a:lnTo>
                      <a:pt x="47" y="2239"/>
                    </a:lnTo>
                    <a:lnTo>
                      <a:pt x="44" y="2169"/>
                    </a:lnTo>
                    <a:lnTo>
                      <a:pt x="42" y="2099"/>
                    </a:lnTo>
                    <a:lnTo>
                      <a:pt x="41" y="2029"/>
                    </a:lnTo>
                    <a:lnTo>
                      <a:pt x="42" y="1957"/>
                    </a:lnTo>
                    <a:lnTo>
                      <a:pt x="44" y="1887"/>
                    </a:lnTo>
                    <a:lnTo>
                      <a:pt x="47" y="1817"/>
                    </a:lnTo>
                    <a:lnTo>
                      <a:pt x="52" y="1748"/>
                    </a:lnTo>
                    <a:lnTo>
                      <a:pt x="58" y="1679"/>
                    </a:lnTo>
                    <a:lnTo>
                      <a:pt x="66" y="1610"/>
                    </a:lnTo>
                    <a:lnTo>
                      <a:pt x="74" y="1542"/>
                    </a:lnTo>
                    <a:lnTo>
                      <a:pt x="85" y="1474"/>
                    </a:lnTo>
                    <a:lnTo>
                      <a:pt x="96" y="1406"/>
                    </a:lnTo>
                    <a:lnTo>
                      <a:pt x="109" y="1339"/>
                    </a:lnTo>
                    <a:lnTo>
                      <a:pt x="123" y="1272"/>
                    </a:lnTo>
                    <a:lnTo>
                      <a:pt x="138" y="1206"/>
                    </a:lnTo>
                    <a:lnTo>
                      <a:pt x="155" y="1140"/>
                    </a:lnTo>
                    <a:lnTo>
                      <a:pt x="173" y="1075"/>
                    </a:lnTo>
                    <a:lnTo>
                      <a:pt x="192" y="1010"/>
                    </a:lnTo>
                    <a:lnTo>
                      <a:pt x="212" y="945"/>
                    </a:lnTo>
                    <a:lnTo>
                      <a:pt x="233" y="882"/>
                    </a:lnTo>
                    <a:lnTo>
                      <a:pt x="256" y="819"/>
                    </a:lnTo>
                    <a:lnTo>
                      <a:pt x="280" y="756"/>
                    </a:lnTo>
                    <a:lnTo>
                      <a:pt x="304" y="695"/>
                    </a:lnTo>
                    <a:lnTo>
                      <a:pt x="330" y="633"/>
                    </a:lnTo>
                    <a:lnTo>
                      <a:pt x="357" y="573"/>
                    </a:lnTo>
                    <a:lnTo>
                      <a:pt x="385" y="512"/>
                    </a:lnTo>
                    <a:lnTo>
                      <a:pt x="416" y="453"/>
                    </a:lnTo>
                    <a:lnTo>
                      <a:pt x="446" y="394"/>
                    </a:lnTo>
                    <a:lnTo>
                      <a:pt x="477" y="335"/>
                    </a:lnTo>
                    <a:lnTo>
                      <a:pt x="510" y="278"/>
                    </a:lnTo>
                    <a:lnTo>
                      <a:pt x="543" y="221"/>
                    </a:lnTo>
                    <a:lnTo>
                      <a:pt x="579" y="165"/>
                    </a:lnTo>
                    <a:lnTo>
                      <a:pt x="615" y="110"/>
                    </a:lnTo>
                    <a:lnTo>
                      <a:pt x="651" y="54"/>
                    </a:lnTo>
                    <a:lnTo>
                      <a:pt x="689" y="0"/>
                    </a:lnTo>
                    <a:lnTo>
                      <a:pt x="679" y="5"/>
                    </a:lnTo>
                    <a:lnTo>
                      <a:pt x="671" y="9"/>
                    </a:lnTo>
                    <a:lnTo>
                      <a:pt x="661" y="12"/>
                    </a:lnTo>
                    <a:lnTo>
                      <a:pt x="652" y="17"/>
                    </a:lnTo>
                    <a:lnTo>
                      <a:pt x="643" y="20"/>
                    </a:lnTo>
                    <a:lnTo>
                      <a:pt x="634" y="24"/>
                    </a:lnTo>
                    <a:lnTo>
                      <a:pt x="625" y="29"/>
                    </a:lnTo>
                    <a:lnTo>
                      <a:pt x="616" y="32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176640" y="2185920"/>
                <a:ext cx="2795400" cy="1622520"/>
              </a:xfrm>
              <a:custGeom>
                <a:avLst/>
                <a:gdLst/>
                <a:ahLst/>
                <a:rect l="l" t="t" r="r" b="b"/>
                <a:pathLst>
                  <a:path w="7042" h="4087">
                    <a:moveTo>
                      <a:pt x="7042" y="2044"/>
                    </a:moveTo>
                    <a:lnTo>
                      <a:pt x="7041" y="1973"/>
                    </a:lnTo>
                    <a:lnTo>
                      <a:pt x="7040" y="1903"/>
                    </a:lnTo>
                    <a:lnTo>
                      <a:pt x="7036" y="1834"/>
                    </a:lnTo>
                    <a:lnTo>
                      <a:pt x="7031" y="1765"/>
                    </a:lnTo>
                    <a:lnTo>
                      <a:pt x="7025" y="1697"/>
                    </a:lnTo>
                    <a:lnTo>
                      <a:pt x="7018" y="1629"/>
                    </a:lnTo>
                    <a:lnTo>
                      <a:pt x="7010" y="1561"/>
                    </a:lnTo>
                    <a:lnTo>
                      <a:pt x="6999" y="1494"/>
                    </a:lnTo>
                    <a:lnTo>
                      <a:pt x="6988" y="1427"/>
                    </a:lnTo>
                    <a:lnTo>
                      <a:pt x="6976" y="1360"/>
                    </a:lnTo>
                    <a:lnTo>
                      <a:pt x="6962" y="1294"/>
                    </a:lnTo>
                    <a:lnTo>
                      <a:pt x="6947" y="1228"/>
                    </a:lnTo>
                    <a:lnTo>
                      <a:pt x="6931" y="1163"/>
                    </a:lnTo>
                    <a:lnTo>
                      <a:pt x="6914" y="1099"/>
                    </a:lnTo>
                    <a:lnTo>
                      <a:pt x="6895" y="1034"/>
                    </a:lnTo>
                    <a:lnTo>
                      <a:pt x="6876" y="970"/>
                    </a:lnTo>
                    <a:lnTo>
                      <a:pt x="6854" y="908"/>
                    </a:lnTo>
                    <a:lnTo>
                      <a:pt x="6832" y="845"/>
                    </a:lnTo>
                    <a:lnTo>
                      <a:pt x="6809" y="782"/>
                    </a:lnTo>
                    <a:lnTo>
                      <a:pt x="6785" y="721"/>
                    </a:lnTo>
                    <a:lnTo>
                      <a:pt x="6759" y="660"/>
                    </a:lnTo>
                    <a:lnTo>
                      <a:pt x="6733" y="600"/>
                    </a:lnTo>
                    <a:lnTo>
                      <a:pt x="6705" y="540"/>
                    </a:lnTo>
                    <a:lnTo>
                      <a:pt x="6677" y="481"/>
                    </a:lnTo>
                    <a:lnTo>
                      <a:pt x="6647" y="423"/>
                    </a:lnTo>
                    <a:lnTo>
                      <a:pt x="6616" y="364"/>
                    </a:lnTo>
                    <a:lnTo>
                      <a:pt x="6584" y="307"/>
                    </a:lnTo>
                    <a:lnTo>
                      <a:pt x="6552" y="251"/>
                    </a:lnTo>
                    <a:lnTo>
                      <a:pt x="6517" y="195"/>
                    </a:lnTo>
                    <a:lnTo>
                      <a:pt x="6482" y="140"/>
                    </a:lnTo>
                    <a:lnTo>
                      <a:pt x="6447" y="85"/>
                    </a:lnTo>
                    <a:lnTo>
                      <a:pt x="6410" y="31"/>
                    </a:lnTo>
                    <a:lnTo>
                      <a:pt x="6400" y="27"/>
                    </a:lnTo>
                    <a:lnTo>
                      <a:pt x="6392" y="23"/>
                    </a:lnTo>
                    <a:lnTo>
                      <a:pt x="6382" y="20"/>
                    </a:lnTo>
                    <a:lnTo>
                      <a:pt x="6373" y="15"/>
                    </a:lnTo>
                    <a:lnTo>
                      <a:pt x="6365" y="12"/>
                    </a:lnTo>
                    <a:lnTo>
                      <a:pt x="6355" y="8"/>
                    </a:lnTo>
                    <a:lnTo>
                      <a:pt x="6346" y="4"/>
                    </a:lnTo>
                    <a:lnTo>
                      <a:pt x="6337" y="0"/>
                    </a:lnTo>
                    <a:lnTo>
                      <a:pt x="6375" y="54"/>
                    </a:lnTo>
                    <a:lnTo>
                      <a:pt x="6413" y="109"/>
                    </a:lnTo>
                    <a:lnTo>
                      <a:pt x="6449" y="164"/>
                    </a:lnTo>
                    <a:lnTo>
                      <a:pt x="6485" y="222"/>
                    </a:lnTo>
                    <a:lnTo>
                      <a:pt x="6519" y="279"/>
                    </a:lnTo>
                    <a:lnTo>
                      <a:pt x="6553" y="336"/>
                    </a:lnTo>
                    <a:lnTo>
                      <a:pt x="6585" y="395"/>
                    </a:lnTo>
                    <a:lnTo>
                      <a:pt x="6616" y="454"/>
                    </a:lnTo>
                    <a:lnTo>
                      <a:pt x="6647" y="514"/>
                    </a:lnTo>
                    <a:lnTo>
                      <a:pt x="6676" y="575"/>
                    </a:lnTo>
                    <a:lnTo>
                      <a:pt x="6703" y="635"/>
                    </a:lnTo>
                    <a:lnTo>
                      <a:pt x="6730" y="698"/>
                    </a:lnTo>
                    <a:lnTo>
                      <a:pt x="6756" y="760"/>
                    </a:lnTo>
                    <a:lnTo>
                      <a:pt x="6780" y="823"/>
                    </a:lnTo>
                    <a:lnTo>
                      <a:pt x="6803" y="887"/>
                    </a:lnTo>
                    <a:lnTo>
                      <a:pt x="6825" y="951"/>
                    </a:lnTo>
                    <a:lnTo>
                      <a:pt x="6845" y="1016"/>
                    </a:lnTo>
                    <a:lnTo>
                      <a:pt x="6865" y="1080"/>
                    </a:lnTo>
                    <a:lnTo>
                      <a:pt x="6883" y="1146"/>
                    </a:lnTo>
                    <a:lnTo>
                      <a:pt x="6901" y="1213"/>
                    </a:lnTo>
                    <a:lnTo>
                      <a:pt x="6916" y="1279"/>
                    </a:lnTo>
                    <a:lnTo>
                      <a:pt x="6931" y="1347"/>
                    </a:lnTo>
                    <a:lnTo>
                      <a:pt x="6944" y="1414"/>
                    </a:lnTo>
                    <a:lnTo>
                      <a:pt x="6956" y="1483"/>
                    </a:lnTo>
                    <a:lnTo>
                      <a:pt x="6965" y="1551"/>
                    </a:lnTo>
                    <a:lnTo>
                      <a:pt x="6975" y="1620"/>
                    </a:lnTo>
                    <a:lnTo>
                      <a:pt x="6983" y="1691"/>
                    </a:lnTo>
                    <a:lnTo>
                      <a:pt x="6989" y="1760"/>
                    </a:lnTo>
                    <a:lnTo>
                      <a:pt x="6995" y="1830"/>
                    </a:lnTo>
                    <a:lnTo>
                      <a:pt x="6998" y="1901"/>
                    </a:lnTo>
                    <a:lnTo>
                      <a:pt x="7000" y="1972"/>
                    </a:lnTo>
                    <a:lnTo>
                      <a:pt x="7000" y="2044"/>
                    </a:lnTo>
                    <a:lnTo>
                      <a:pt x="7000" y="2102"/>
                    </a:lnTo>
                    <a:lnTo>
                      <a:pt x="6999" y="2160"/>
                    </a:lnTo>
                    <a:lnTo>
                      <a:pt x="6996" y="2219"/>
                    </a:lnTo>
                    <a:lnTo>
                      <a:pt x="6992" y="2276"/>
                    </a:lnTo>
                    <a:lnTo>
                      <a:pt x="6988" y="2333"/>
                    </a:lnTo>
                    <a:lnTo>
                      <a:pt x="6984" y="2390"/>
                    </a:lnTo>
                    <a:lnTo>
                      <a:pt x="6977" y="2448"/>
                    </a:lnTo>
                    <a:lnTo>
                      <a:pt x="6970" y="2505"/>
                    </a:lnTo>
                    <a:lnTo>
                      <a:pt x="6962" y="2561"/>
                    </a:lnTo>
                    <a:lnTo>
                      <a:pt x="6954" y="2617"/>
                    </a:lnTo>
                    <a:lnTo>
                      <a:pt x="6944" y="2673"/>
                    </a:lnTo>
                    <a:lnTo>
                      <a:pt x="6933" y="2728"/>
                    </a:lnTo>
                    <a:lnTo>
                      <a:pt x="6921" y="2783"/>
                    </a:lnTo>
                    <a:lnTo>
                      <a:pt x="6909" y="2839"/>
                    </a:lnTo>
                    <a:lnTo>
                      <a:pt x="6895" y="2894"/>
                    </a:lnTo>
                    <a:lnTo>
                      <a:pt x="6881" y="2948"/>
                    </a:lnTo>
                    <a:lnTo>
                      <a:pt x="6922" y="2958"/>
                    </a:lnTo>
                    <a:lnTo>
                      <a:pt x="6936" y="2903"/>
                    </a:lnTo>
                    <a:lnTo>
                      <a:pt x="6949" y="2848"/>
                    </a:lnTo>
                    <a:lnTo>
                      <a:pt x="6962" y="2793"/>
                    </a:lnTo>
                    <a:lnTo>
                      <a:pt x="6974" y="2737"/>
                    </a:lnTo>
                    <a:lnTo>
                      <a:pt x="6985" y="2681"/>
                    </a:lnTo>
                    <a:lnTo>
                      <a:pt x="6995" y="2624"/>
                    </a:lnTo>
                    <a:lnTo>
                      <a:pt x="7003" y="2567"/>
                    </a:lnTo>
                    <a:lnTo>
                      <a:pt x="7012" y="2510"/>
                    </a:lnTo>
                    <a:lnTo>
                      <a:pt x="7018" y="2453"/>
                    </a:lnTo>
                    <a:lnTo>
                      <a:pt x="7025" y="2395"/>
                    </a:lnTo>
                    <a:lnTo>
                      <a:pt x="7030" y="2337"/>
                    </a:lnTo>
                    <a:lnTo>
                      <a:pt x="7035" y="2279"/>
                    </a:lnTo>
                    <a:lnTo>
                      <a:pt x="7038" y="2221"/>
                    </a:lnTo>
                    <a:lnTo>
                      <a:pt x="7040" y="2161"/>
                    </a:lnTo>
                    <a:lnTo>
                      <a:pt x="7042" y="2103"/>
                    </a:lnTo>
                    <a:lnTo>
                      <a:pt x="7042" y="2044"/>
                    </a:lnTo>
                    <a:close/>
                    <a:moveTo>
                      <a:pt x="632" y="31"/>
                    </a:moveTo>
                    <a:lnTo>
                      <a:pt x="596" y="85"/>
                    </a:lnTo>
                    <a:lnTo>
                      <a:pt x="560" y="140"/>
                    </a:lnTo>
                    <a:lnTo>
                      <a:pt x="525" y="195"/>
                    </a:lnTo>
                    <a:lnTo>
                      <a:pt x="491" y="251"/>
                    </a:lnTo>
                    <a:lnTo>
                      <a:pt x="458" y="307"/>
                    </a:lnTo>
                    <a:lnTo>
                      <a:pt x="426" y="364"/>
                    </a:lnTo>
                    <a:lnTo>
                      <a:pt x="396" y="423"/>
                    </a:lnTo>
                    <a:lnTo>
                      <a:pt x="365" y="481"/>
                    </a:lnTo>
                    <a:lnTo>
                      <a:pt x="337" y="540"/>
                    </a:lnTo>
                    <a:lnTo>
                      <a:pt x="309" y="600"/>
                    </a:lnTo>
                    <a:lnTo>
                      <a:pt x="282" y="660"/>
                    </a:lnTo>
                    <a:lnTo>
                      <a:pt x="257" y="721"/>
                    </a:lnTo>
                    <a:lnTo>
                      <a:pt x="233" y="782"/>
                    </a:lnTo>
                    <a:lnTo>
                      <a:pt x="210" y="845"/>
                    </a:lnTo>
                    <a:lnTo>
                      <a:pt x="188" y="908"/>
                    </a:lnTo>
                    <a:lnTo>
                      <a:pt x="167" y="970"/>
                    </a:lnTo>
                    <a:lnTo>
                      <a:pt x="147" y="1034"/>
                    </a:lnTo>
                    <a:lnTo>
                      <a:pt x="129" y="1099"/>
                    </a:lnTo>
                    <a:lnTo>
                      <a:pt x="112" y="1163"/>
                    </a:lnTo>
                    <a:lnTo>
                      <a:pt x="95" y="1228"/>
                    </a:lnTo>
                    <a:lnTo>
                      <a:pt x="80" y="1294"/>
                    </a:lnTo>
                    <a:lnTo>
                      <a:pt x="66" y="1360"/>
                    </a:lnTo>
                    <a:lnTo>
                      <a:pt x="54" y="1427"/>
                    </a:lnTo>
                    <a:lnTo>
                      <a:pt x="43" y="1494"/>
                    </a:lnTo>
                    <a:lnTo>
                      <a:pt x="33" y="1561"/>
                    </a:lnTo>
                    <a:lnTo>
                      <a:pt x="24" y="1629"/>
                    </a:lnTo>
                    <a:lnTo>
                      <a:pt x="18" y="1697"/>
                    </a:lnTo>
                    <a:lnTo>
                      <a:pt x="11" y="1765"/>
                    </a:lnTo>
                    <a:lnTo>
                      <a:pt x="7" y="1834"/>
                    </a:lnTo>
                    <a:lnTo>
                      <a:pt x="2" y="1903"/>
                    </a:lnTo>
                    <a:lnTo>
                      <a:pt x="1" y="1973"/>
                    </a:lnTo>
                    <a:lnTo>
                      <a:pt x="0" y="2044"/>
                    </a:lnTo>
                    <a:lnTo>
                      <a:pt x="1" y="2114"/>
                    </a:lnTo>
                    <a:lnTo>
                      <a:pt x="2" y="2183"/>
                    </a:lnTo>
                    <a:lnTo>
                      <a:pt x="7" y="2252"/>
                    </a:lnTo>
                    <a:lnTo>
                      <a:pt x="11" y="2321"/>
                    </a:lnTo>
                    <a:lnTo>
                      <a:pt x="18" y="2390"/>
                    </a:lnTo>
                    <a:lnTo>
                      <a:pt x="24" y="2458"/>
                    </a:lnTo>
                    <a:lnTo>
                      <a:pt x="33" y="2526"/>
                    </a:lnTo>
                    <a:lnTo>
                      <a:pt x="43" y="2593"/>
                    </a:lnTo>
                    <a:lnTo>
                      <a:pt x="54" y="2660"/>
                    </a:lnTo>
                    <a:lnTo>
                      <a:pt x="66" y="2727"/>
                    </a:lnTo>
                    <a:lnTo>
                      <a:pt x="80" y="2793"/>
                    </a:lnTo>
                    <a:lnTo>
                      <a:pt x="95" y="2859"/>
                    </a:lnTo>
                    <a:lnTo>
                      <a:pt x="112" y="2924"/>
                    </a:lnTo>
                    <a:lnTo>
                      <a:pt x="129" y="2989"/>
                    </a:lnTo>
                    <a:lnTo>
                      <a:pt x="147" y="3052"/>
                    </a:lnTo>
                    <a:lnTo>
                      <a:pt x="167" y="3116"/>
                    </a:lnTo>
                    <a:lnTo>
                      <a:pt x="188" y="3180"/>
                    </a:lnTo>
                    <a:lnTo>
                      <a:pt x="210" y="3242"/>
                    </a:lnTo>
                    <a:lnTo>
                      <a:pt x="233" y="3304"/>
                    </a:lnTo>
                    <a:lnTo>
                      <a:pt x="257" y="3366"/>
                    </a:lnTo>
                    <a:lnTo>
                      <a:pt x="282" y="3427"/>
                    </a:lnTo>
                    <a:lnTo>
                      <a:pt x="309" y="3487"/>
                    </a:lnTo>
                    <a:lnTo>
                      <a:pt x="337" y="3547"/>
                    </a:lnTo>
                    <a:lnTo>
                      <a:pt x="365" y="3606"/>
                    </a:lnTo>
                    <a:lnTo>
                      <a:pt x="396" y="3665"/>
                    </a:lnTo>
                    <a:lnTo>
                      <a:pt x="426" y="3722"/>
                    </a:lnTo>
                    <a:lnTo>
                      <a:pt x="458" y="3779"/>
                    </a:lnTo>
                    <a:lnTo>
                      <a:pt x="491" y="3836"/>
                    </a:lnTo>
                    <a:lnTo>
                      <a:pt x="525" y="3893"/>
                    </a:lnTo>
                    <a:lnTo>
                      <a:pt x="560" y="3948"/>
                    </a:lnTo>
                    <a:lnTo>
                      <a:pt x="596" y="4002"/>
                    </a:lnTo>
                    <a:lnTo>
                      <a:pt x="632" y="4056"/>
                    </a:lnTo>
                    <a:lnTo>
                      <a:pt x="642" y="4060"/>
                    </a:lnTo>
                    <a:lnTo>
                      <a:pt x="651" y="4063"/>
                    </a:lnTo>
                    <a:lnTo>
                      <a:pt x="659" y="4068"/>
                    </a:lnTo>
                    <a:lnTo>
                      <a:pt x="669" y="4071"/>
                    </a:lnTo>
                    <a:lnTo>
                      <a:pt x="678" y="4075"/>
                    </a:lnTo>
                    <a:lnTo>
                      <a:pt x="687" y="4079"/>
                    </a:lnTo>
                    <a:lnTo>
                      <a:pt x="696" y="4083"/>
                    </a:lnTo>
                    <a:lnTo>
                      <a:pt x="706" y="4087"/>
                    </a:lnTo>
                    <a:lnTo>
                      <a:pt x="667" y="4032"/>
                    </a:lnTo>
                    <a:lnTo>
                      <a:pt x="629" y="3978"/>
                    </a:lnTo>
                    <a:lnTo>
                      <a:pt x="592" y="3922"/>
                    </a:lnTo>
                    <a:lnTo>
                      <a:pt x="558" y="3866"/>
                    </a:lnTo>
                    <a:lnTo>
                      <a:pt x="523" y="3808"/>
                    </a:lnTo>
                    <a:lnTo>
                      <a:pt x="490" y="3750"/>
                    </a:lnTo>
                    <a:lnTo>
                      <a:pt x="457" y="3692"/>
                    </a:lnTo>
                    <a:lnTo>
                      <a:pt x="426" y="3632"/>
                    </a:lnTo>
                    <a:lnTo>
                      <a:pt x="396" y="3573"/>
                    </a:lnTo>
                    <a:lnTo>
                      <a:pt x="367" y="3512"/>
                    </a:lnTo>
                    <a:lnTo>
                      <a:pt x="338" y="3451"/>
                    </a:lnTo>
                    <a:lnTo>
                      <a:pt x="313" y="3389"/>
                    </a:lnTo>
                    <a:lnTo>
                      <a:pt x="287" y="3327"/>
                    </a:lnTo>
                    <a:lnTo>
                      <a:pt x="263" y="3264"/>
                    </a:lnTo>
                    <a:lnTo>
                      <a:pt x="239" y="3200"/>
                    </a:lnTo>
                    <a:lnTo>
                      <a:pt x="217" y="3137"/>
                    </a:lnTo>
                    <a:lnTo>
                      <a:pt x="197" y="3072"/>
                    </a:lnTo>
                    <a:lnTo>
                      <a:pt x="177" y="3006"/>
                    </a:lnTo>
                    <a:lnTo>
                      <a:pt x="159" y="2940"/>
                    </a:lnTo>
                    <a:lnTo>
                      <a:pt x="142" y="2874"/>
                    </a:lnTo>
                    <a:lnTo>
                      <a:pt x="126" y="2807"/>
                    </a:lnTo>
                    <a:lnTo>
                      <a:pt x="112" y="2740"/>
                    </a:lnTo>
                    <a:lnTo>
                      <a:pt x="99" y="2672"/>
                    </a:lnTo>
                    <a:lnTo>
                      <a:pt x="87" y="2604"/>
                    </a:lnTo>
                    <a:lnTo>
                      <a:pt x="76" y="2535"/>
                    </a:lnTo>
                    <a:lnTo>
                      <a:pt x="67" y="2466"/>
                    </a:lnTo>
                    <a:lnTo>
                      <a:pt x="60" y="2397"/>
                    </a:lnTo>
                    <a:lnTo>
                      <a:pt x="53" y="2327"/>
                    </a:lnTo>
                    <a:lnTo>
                      <a:pt x="48" y="2256"/>
                    </a:lnTo>
                    <a:lnTo>
                      <a:pt x="45" y="2186"/>
                    </a:lnTo>
                    <a:lnTo>
                      <a:pt x="42" y="2115"/>
                    </a:lnTo>
                    <a:lnTo>
                      <a:pt x="41" y="2044"/>
                    </a:lnTo>
                    <a:lnTo>
                      <a:pt x="42" y="1972"/>
                    </a:lnTo>
                    <a:lnTo>
                      <a:pt x="45" y="1901"/>
                    </a:lnTo>
                    <a:lnTo>
                      <a:pt x="48" y="1830"/>
                    </a:lnTo>
                    <a:lnTo>
                      <a:pt x="53" y="1760"/>
                    </a:lnTo>
                    <a:lnTo>
                      <a:pt x="60" y="1691"/>
                    </a:lnTo>
                    <a:lnTo>
                      <a:pt x="67" y="1620"/>
                    </a:lnTo>
                    <a:lnTo>
                      <a:pt x="76" y="1551"/>
                    </a:lnTo>
                    <a:lnTo>
                      <a:pt x="87" y="1483"/>
                    </a:lnTo>
                    <a:lnTo>
                      <a:pt x="99" y="1414"/>
                    </a:lnTo>
                    <a:lnTo>
                      <a:pt x="112" y="1347"/>
                    </a:lnTo>
                    <a:lnTo>
                      <a:pt x="126" y="1279"/>
                    </a:lnTo>
                    <a:lnTo>
                      <a:pt x="142" y="1213"/>
                    </a:lnTo>
                    <a:lnTo>
                      <a:pt x="159" y="1146"/>
                    </a:lnTo>
                    <a:lnTo>
                      <a:pt x="177" y="1080"/>
                    </a:lnTo>
                    <a:lnTo>
                      <a:pt x="197" y="1016"/>
                    </a:lnTo>
                    <a:lnTo>
                      <a:pt x="217" y="951"/>
                    </a:lnTo>
                    <a:lnTo>
                      <a:pt x="239" y="887"/>
                    </a:lnTo>
                    <a:lnTo>
                      <a:pt x="263" y="823"/>
                    </a:lnTo>
                    <a:lnTo>
                      <a:pt x="287" y="760"/>
                    </a:lnTo>
                    <a:lnTo>
                      <a:pt x="313" y="698"/>
                    </a:lnTo>
                    <a:lnTo>
                      <a:pt x="338" y="635"/>
                    </a:lnTo>
                    <a:lnTo>
                      <a:pt x="367" y="575"/>
                    </a:lnTo>
                    <a:lnTo>
                      <a:pt x="396" y="514"/>
                    </a:lnTo>
                    <a:lnTo>
                      <a:pt x="426" y="454"/>
                    </a:lnTo>
                    <a:lnTo>
                      <a:pt x="457" y="395"/>
                    </a:lnTo>
                    <a:lnTo>
                      <a:pt x="490" y="336"/>
                    </a:lnTo>
                    <a:lnTo>
                      <a:pt x="523" y="279"/>
                    </a:lnTo>
                    <a:lnTo>
                      <a:pt x="558" y="222"/>
                    </a:lnTo>
                    <a:lnTo>
                      <a:pt x="592" y="164"/>
                    </a:lnTo>
                    <a:lnTo>
                      <a:pt x="629" y="109"/>
                    </a:lnTo>
                    <a:lnTo>
                      <a:pt x="667" y="54"/>
                    </a:lnTo>
                    <a:lnTo>
                      <a:pt x="706" y="0"/>
                    </a:lnTo>
                    <a:lnTo>
                      <a:pt x="696" y="4"/>
                    </a:lnTo>
                    <a:lnTo>
                      <a:pt x="687" y="8"/>
                    </a:lnTo>
                    <a:lnTo>
                      <a:pt x="678" y="12"/>
                    </a:lnTo>
                    <a:lnTo>
                      <a:pt x="669" y="15"/>
                    </a:lnTo>
                    <a:lnTo>
                      <a:pt x="659" y="20"/>
                    </a:lnTo>
                    <a:lnTo>
                      <a:pt x="651" y="23"/>
                    </a:lnTo>
                    <a:lnTo>
                      <a:pt x="642" y="27"/>
                    </a:lnTo>
                    <a:lnTo>
                      <a:pt x="632" y="31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84560" y="2181240"/>
                <a:ext cx="2778120" cy="1633320"/>
              </a:xfrm>
              <a:custGeom>
                <a:avLst/>
                <a:gdLst/>
                <a:ahLst/>
                <a:rect l="l" t="t" r="r" b="b"/>
                <a:pathLst>
                  <a:path w="7001" h="4117">
                    <a:moveTo>
                      <a:pt x="7001" y="2059"/>
                    </a:moveTo>
                    <a:lnTo>
                      <a:pt x="7000" y="1987"/>
                    </a:lnTo>
                    <a:lnTo>
                      <a:pt x="6997" y="1917"/>
                    </a:lnTo>
                    <a:lnTo>
                      <a:pt x="6994" y="1847"/>
                    </a:lnTo>
                    <a:lnTo>
                      <a:pt x="6989" y="1778"/>
                    </a:lnTo>
                    <a:lnTo>
                      <a:pt x="6983" y="1709"/>
                    </a:lnTo>
                    <a:lnTo>
                      <a:pt x="6976" y="1640"/>
                    </a:lnTo>
                    <a:lnTo>
                      <a:pt x="6967" y="1572"/>
                    </a:lnTo>
                    <a:lnTo>
                      <a:pt x="6956" y="1504"/>
                    </a:lnTo>
                    <a:lnTo>
                      <a:pt x="6945" y="1436"/>
                    </a:lnTo>
                    <a:lnTo>
                      <a:pt x="6933" y="1369"/>
                    </a:lnTo>
                    <a:lnTo>
                      <a:pt x="6918" y="1302"/>
                    </a:lnTo>
                    <a:lnTo>
                      <a:pt x="6903" y="1236"/>
                    </a:lnTo>
                    <a:lnTo>
                      <a:pt x="6886" y="1170"/>
                    </a:lnTo>
                    <a:lnTo>
                      <a:pt x="6869" y="1105"/>
                    </a:lnTo>
                    <a:lnTo>
                      <a:pt x="6849" y="1040"/>
                    </a:lnTo>
                    <a:lnTo>
                      <a:pt x="6830" y="975"/>
                    </a:lnTo>
                    <a:lnTo>
                      <a:pt x="6808" y="912"/>
                    </a:lnTo>
                    <a:lnTo>
                      <a:pt x="6786" y="849"/>
                    </a:lnTo>
                    <a:lnTo>
                      <a:pt x="6762" y="786"/>
                    </a:lnTo>
                    <a:lnTo>
                      <a:pt x="6737" y="725"/>
                    </a:lnTo>
                    <a:lnTo>
                      <a:pt x="6711" y="663"/>
                    </a:lnTo>
                    <a:lnTo>
                      <a:pt x="6684" y="603"/>
                    </a:lnTo>
                    <a:lnTo>
                      <a:pt x="6655" y="542"/>
                    </a:lnTo>
                    <a:lnTo>
                      <a:pt x="6626" y="483"/>
                    </a:lnTo>
                    <a:lnTo>
                      <a:pt x="6595" y="424"/>
                    </a:lnTo>
                    <a:lnTo>
                      <a:pt x="6564" y="365"/>
                    </a:lnTo>
                    <a:lnTo>
                      <a:pt x="6532" y="308"/>
                    </a:lnTo>
                    <a:lnTo>
                      <a:pt x="6498" y="251"/>
                    </a:lnTo>
                    <a:lnTo>
                      <a:pt x="6462" y="195"/>
                    </a:lnTo>
                    <a:lnTo>
                      <a:pt x="6427" y="140"/>
                    </a:lnTo>
                    <a:lnTo>
                      <a:pt x="6390" y="84"/>
                    </a:lnTo>
                    <a:lnTo>
                      <a:pt x="6352" y="30"/>
                    </a:lnTo>
                    <a:lnTo>
                      <a:pt x="6344" y="27"/>
                    </a:lnTo>
                    <a:lnTo>
                      <a:pt x="6334" y="23"/>
                    </a:lnTo>
                    <a:lnTo>
                      <a:pt x="6325" y="20"/>
                    </a:lnTo>
                    <a:lnTo>
                      <a:pt x="6316" y="15"/>
                    </a:lnTo>
                    <a:lnTo>
                      <a:pt x="6307" y="12"/>
                    </a:lnTo>
                    <a:lnTo>
                      <a:pt x="6297" y="8"/>
                    </a:lnTo>
                    <a:lnTo>
                      <a:pt x="6289" y="3"/>
                    </a:lnTo>
                    <a:lnTo>
                      <a:pt x="6279" y="0"/>
                    </a:lnTo>
                    <a:lnTo>
                      <a:pt x="6319" y="54"/>
                    </a:lnTo>
                    <a:lnTo>
                      <a:pt x="6357" y="109"/>
                    </a:lnTo>
                    <a:lnTo>
                      <a:pt x="6394" y="165"/>
                    </a:lnTo>
                    <a:lnTo>
                      <a:pt x="6430" y="222"/>
                    </a:lnTo>
                    <a:lnTo>
                      <a:pt x="6466" y="280"/>
                    </a:lnTo>
                    <a:lnTo>
                      <a:pt x="6500" y="337"/>
                    </a:lnTo>
                    <a:lnTo>
                      <a:pt x="6533" y="397"/>
                    </a:lnTo>
                    <a:lnTo>
                      <a:pt x="6565" y="456"/>
                    </a:lnTo>
                    <a:lnTo>
                      <a:pt x="6596" y="516"/>
                    </a:lnTo>
                    <a:lnTo>
                      <a:pt x="6626" y="577"/>
                    </a:lnTo>
                    <a:lnTo>
                      <a:pt x="6654" y="638"/>
                    </a:lnTo>
                    <a:lnTo>
                      <a:pt x="6682" y="701"/>
                    </a:lnTo>
                    <a:lnTo>
                      <a:pt x="6708" y="764"/>
                    </a:lnTo>
                    <a:lnTo>
                      <a:pt x="6733" y="827"/>
                    </a:lnTo>
                    <a:lnTo>
                      <a:pt x="6756" y="891"/>
                    </a:lnTo>
                    <a:lnTo>
                      <a:pt x="6779" y="956"/>
                    </a:lnTo>
                    <a:lnTo>
                      <a:pt x="6800" y="1021"/>
                    </a:lnTo>
                    <a:lnTo>
                      <a:pt x="6820" y="1087"/>
                    </a:lnTo>
                    <a:lnTo>
                      <a:pt x="6839" y="1153"/>
                    </a:lnTo>
                    <a:lnTo>
                      <a:pt x="6856" y="1220"/>
                    </a:lnTo>
                    <a:lnTo>
                      <a:pt x="6872" y="1288"/>
                    </a:lnTo>
                    <a:lnTo>
                      <a:pt x="6887" y="1356"/>
                    </a:lnTo>
                    <a:lnTo>
                      <a:pt x="6900" y="1424"/>
                    </a:lnTo>
                    <a:lnTo>
                      <a:pt x="6912" y="1493"/>
                    </a:lnTo>
                    <a:lnTo>
                      <a:pt x="6923" y="1562"/>
                    </a:lnTo>
                    <a:lnTo>
                      <a:pt x="6933" y="1631"/>
                    </a:lnTo>
                    <a:lnTo>
                      <a:pt x="6940" y="1701"/>
                    </a:lnTo>
                    <a:lnTo>
                      <a:pt x="6947" y="1772"/>
                    </a:lnTo>
                    <a:lnTo>
                      <a:pt x="6952" y="1843"/>
                    </a:lnTo>
                    <a:lnTo>
                      <a:pt x="6955" y="1915"/>
                    </a:lnTo>
                    <a:lnTo>
                      <a:pt x="6958" y="1986"/>
                    </a:lnTo>
                    <a:lnTo>
                      <a:pt x="6958" y="2059"/>
                    </a:lnTo>
                    <a:lnTo>
                      <a:pt x="6958" y="2117"/>
                    </a:lnTo>
                    <a:lnTo>
                      <a:pt x="6956" y="2174"/>
                    </a:lnTo>
                    <a:lnTo>
                      <a:pt x="6954" y="2233"/>
                    </a:lnTo>
                    <a:lnTo>
                      <a:pt x="6951" y="2290"/>
                    </a:lnTo>
                    <a:lnTo>
                      <a:pt x="6947" y="2347"/>
                    </a:lnTo>
                    <a:lnTo>
                      <a:pt x="6941" y="2404"/>
                    </a:lnTo>
                    <a:lnTo>
                      <a:pt x="6936" y="2460"/>
                    </a:lnTo>
                    <a:lnTo>
                      <a:pt x="6928" y="2517"/>
                    </a:lnTo>
                    <a:lnTo>
                      <a:pt x="6921" y="2573"/>
                    </a:lnTo>
                    <a:lnTo>
                      <a:pt x="6912" y="2629"/>
                    </a:lnTo>
                    <a:lnTo>
                      <a:pt x="6902" y="2684"/>
                    </a:lnTo>
                    <a:lnTo>
                      <a:pt x="6891" y="2739"/>
                    </a:lnTo>
                    <a:lnTo>
                      <a:pt x="6880" y="2794"/>
                    </a:lnTo>
                    <a:lnTo>
                      <a:pt x="6868" y="2849"/>
                    </a:lnTo>
                    <a:lnTo>
                      <a:pt x="6855" y="2903"/>
                    </a:lnTo>
                    <a:lnTo>
                      <a:pt x="6841" y="2957"/>
                    </a:lnTo>
                    <a:lnTo>
                      <a:pt x="6881" y="2968"/>
                    </a:lnTo>
                    <a:lnTo>
                      <a:pt x="6895" y="2913"/>
                    </a:lnTo>
                    <a:lnTo>
                      <a:pt x="6908" y="2859"/>
                    </a:lnTo>
                    <a:lnTo>
                      <a:pt x="6921" y="2803"/>
                    </a:lnTo>
                    <a:lnTo>
                      <a:pt x="6933" y="2748"/>
                    </a:lnTo>
                    <a:lnTo>
                      <a:pt x="6943" y="2692"/>
                    </a:lnTo>
                    <a:lnTo>
                      <a:pt x="6953" y="2635"/>
                    </a:lnTo>
                    <a:lnTo>
                      <a:pt x="6962" y="2579"/>
                    </a:lnTo>
                    <a:lnTo>
                      <a:pt x="6969" y="2522"/>
                    </a:lnTo>
                    <a:lnTo>
                      <a:pt x="6977" y="2466"/>
                    </a:lnTo>
                    <a:lnTo>
                      <a:pt x="6983" y="2408"/>
                    </a:lnTo>
                    <a:lnTo>
                      <a:pt x="6989" y="2350"/>
                    </a:lnTo>
                    <a:lnTo>
                      <a:pt x="6993" y="2292"/>
                    </a:lnTo>
                    <a:lnTo>
                      <a:pt x="6996" y="2235"/>
                    </a:lnTo>
                    <a:lnTo>
                      <a:pt x="6998" y="2176"/>
                    </a:lnTo>
                    <a:lnTo>
                      <a:pt x="7000" y="2117"/>
                    </a:lnTo>
                    <a:lnTo>
                      <a:pt x="7001" y="2059"/>
                    </a:lnTo>
                    <a:close/>
                    <a:moveTo>
                      <a:pt x="648" y="30"/>
                    </a:moveTo>
                    <a:lnTo>
                      <a:pt x="610" y="84"/>
                    </a:lnTo>
                    <a:lnTo>
                      <a:pt x="574" y="140"/>
                    </a:lnTo>
                    <a:lnTo>
                      <a:pt x="538" y="195"/>
                    </a:lnTo>
                    <a:lnTo>
                      <a:pt x="502" y="251"/>
                    </a:lnTo>
                    <a:lnTo>
                      <a:pt x="469" y="308"/>
                    </a:lnTo>
                    <a:lnTo>
                      <a:pt x="436" y="365"/>
                    </a:lnTo>
                    <a:lnTo>
                      <a:pt x="405" y="424"/>
                    </a:lnTo>
                    <a:lnTo>
                      <a:pt x="375" y="483"/>
                    </a:lnTo>
                    <a:lnTo>
                      <a:pt x="344" y="542"/>
                    </a:lnTo>
                    <a:lnTo>
                      <a:pt x="316" y="603"/>
                    </a:lnTo>
                    <a:lnTo>
                      <a:pt x="289" y="663"/>
                    </a:lnTo>
                    <a:lnTo>
                      <a:pt x="263" y="725"/>
                    </a:lnTo>
                    <a:lnTo>
                      <a:pt x="239" y="786"/>
                    </a:lnTo>
                    <a:lnTo>
                      <a:pt x="215" y="849"/>
                    </a:lnTo>
                    <a:lnTo>
                      <a:pt x="192" y="912"/>
                    </a:lnTo>
                    <a:lnTo>
                      <a:pt x="171" y="975"/>
                    </a:lnTo>
                    <a:lnTo>
                      <a:pt x="151" y="1040"/>
                    </a:lnTo>
                    <a:lnTo>
                      <a:pt x="132" y="1105"/>
                    </a:lnTo>
                    <a:lnTo>
                      <a:pt x="114" y="1170"/>
                    </a:lnTo>
                    <a:lnTo>
                      <a:pt x="97" y="1236"/>
                    </a:lnTo>
                    <a:lnTo>
                      <a:pt x="82" y="1302"/>
                    </a:lnTo>
                    <a:lnTo>
                      <a:pt x="68" y="1369"/>
                    </a:lnTo>
                    <a:lnTo>
                      <a:pt x="55" y="1436"/>
                    </a:lnTo>
                    <a:lnTo>
                      <a:pt x="44" y="1504"/>
                    </a:lnTo>
                    <a:lnTo>
                      <a:pt x="33" y="1572"/>
                    </a:lnTo>
                    <a:lnTo>
                      <a:pt x="25" y="1640"/>
                    </a:lnTo>
                    <a:lnTo>
                      <a:pt x="17" y="1709"/>
                    </a:lnTo>
                    <a:lnTo>
                      <a:pt x="11" y="1778"/>
                    </a:lnTo>
                    <a:lnTo>
                      <a:pt x="6" y="1847"/>
                    </a:lnTo>
                    <a:lnTo>
                      <a:pt x="3" y="1917"/>
                    </a:lnTo>
                    <a:lnTo>
                      <a:pt x="1" y="1987"/>
                    </a:lnTo>
                    <a:lnTo>
                      <a:pt x="0" y="2059"/>
                    </a:lnTo>
                    <a:lnTo>
                      <a:pt x="1" y="2129"/>
                    </a:lnTo>
                    <a:lnTo>
                      <a:pt x="3" y="2199"/>
                    </a:lnTo>
                    <a:lnTo>
                      <a:pt x="6" y="2269"/>
                    </a:lnTo>
                    <a:lnTo>
                      <a:pt x="11" y="2339"/>
                    </a:lnTo>
                    <a:lnTo>
                      <a:pt x="17" y="2409"/>
                    </a:lnTo>
                    <a:lnTo>
                      <a:pt x="25" y="2477"/>
                    </a:lnTo>
                    <a:lnTo>
                      <a:pt x="33" y="2546"/>
                    </a:lnTo>
                    <a:lnTo>
                      <a:pt x="44" y="2614"/>
                    </a:lnTo>
                    <a:lnTo>
                      <a:pt x="55" y="2681"/>
                    </a:lnTo>
                    <a:lnTo>
                      <a:pt x="68" y="2749"/>
                    </a:lnTo>
                    <a:lnTo>
                      <a:pt x="82" y="2815"/>
                    </a:lnTo>
                    <a:lnTo>
                      <a:pt x="97" y="2882"/>
                    </a:lnTo>
                    <a:lnTo>
                      <a:pt x="114" y="2946"/>
                    </a:lnTo>
                    <a:lnTo>
                      <a:pt x="132" y="3012"/>
                    </a:lnTo>
                    <a:lnTo>
                      <a:pt x="151" y="3077"/>
                    </a:lnTo>
                    <a:lnTo>
                      <a:pt x="171" y="3141"/>
                    </a:lnTo>
                    <a:lnTo>
                      <a:pt x="192" y="3205"/>
                    </a:lnTo>
                    <a:lnTo>
                      <a:pt x="215" y="3268"/>
                    </a:lnTo>
                    <a:lnTo>
                      <a:pt x="239" y="3331"/>
                    </a:lnTo>
                    <a:lnTo>
                      <a:pt x="263" y="3392"/>
                    </a:lnTo>
                    <a:lnTo>
                      <a:pt x="289" y="3454"/>
                    </a:lnTo>
                    <a:lnTo>
                      <a:pt x="316" y="3515"/>
                    </a:lnTo>
                    <a:lnTo>
                      <a:pt x="344" y="3575"/>
                    </a:lnTo>
                    <a:lnTo>
                      <a:pt x="375" y="3634"/>
                    </a:lnTo>
                    <a:lnTo>
                      <a:pt x="405" y="3693"/>
                    </a:lnTo>
                    <a:lnTo>
                      <a:pt x="436" y="3751"/>
                    </a:lnTo>
                    <a:lnTo>
                      <a:pt x="469" y="3808"/>
                    </a:lnTo>
                    <a:lnTo>
                      <a:pt x="502" y="3866"/>
                    </a:lnTo>
                    <a:lnTo>
                      <a:pt x="538" y="3922"/>
                    </a:lnTo>
                    <a:lnTo>
                      <a:pt x="574" y="3977"/>
                    </a:lnTo>
                    <a:lnTo>
                      <a:pt x="610" y="4032"/>
                    </a:lnTo>
                    <a:lnTo>
                      <a:pt x="647" y="4086"/>
                    </a:lnTo>
                    <a:lnTo>
                      <a:pt x="657" y="4090"/>
                    </a:lnTo>
                    <a:lnTo>
                      <a:pt x="666" y="4093"/>
                    </a:lnTo>
                    <a:lnTo>
                      <a:pt x="675" y="4098"/>
                    </a:lnTo>
                    <a:lnTo>
                      <a:pt x="685" y="4101"/>
                    </a:lnTo>
                    <a:lnTo>
                      <a:pt x="693" y="4105"/>
                    </a:lnTo>
                    <a:lnTo>
                      <a:pt x="703" y="4110"/>
                    </a:lnTo>
                    <a:lnTo>
                      <a:pt x="712" y="4113"/>
                    </a:lnTo>
                    <a:lnTo>
                      <a:pt x="722" y="4117"/>
                    </a:lnTo>
                    <a:lnTo>
                      <a:pt x="682" y="4062"/>
                    </a:lnTo>
                    <a:lnTo>
                      <a:pt x="644" y="4007"/>
                    </a:lnTo>
                    <a:lnTo>
                      <a:pt x="606" y="3952"/>
                    </a:lnTo>
                    <a:lnTo>
                      <a:pt x="569" y="3895"/>
                    </a:lnTo>
                    <a:lnTo>
                      <a:pt x="535" y="3837"/>
                    </a:lnTo>
                    <a:lnTo>
                      <a:pt x="500" y="3779"/>
                    </a:lnTo>
                    <a:lnTo>
                      <a:pt x="468" y="3721"/>
                    </a:lnTo>
                    <a:lnTo>
                      <a:pt x="435" y="3661"/>
                    </a:lnTo>
                    <a:lnTo>
                      <a:pt x="404" y="3601"/>
                    </a:lnTo>
                    <a:lnTo>
                      <a:pt x="375" y="3539"/>
                    </a:lnTo>
                    <a:lnTo>
                      <a:pt x="346" y="3478"/>
                    </a:lnTo>
                    <a:lnTo>
                      <a:pt x="319" y="3416"/>
                    </a:lnTo>
                    <a:lnTo>
                      <a:pt x="293" y="3354"/>
                    </a:lnTo>
                    <a:lnTo>
                      <a:pt x="268" y="3290"/>
                    </a:lnTo>
                    <a:lnTo>
                      <a:pt x="244" y="3226"/>
                    </a:lnTo>
                    <a:lnTo>
                      <a:pt x="221" y="3161"/>
                    </a:lnTo>
                    <a:lnTo>
                      <a:pt x="200" y="3095"/>
                    </a:lnTo>
                    <a:lnTo>
                      <a:pt x="180" y="3030"/>
                    </a:lnTo>
                    <a:lnTo>
                      <a:pt x="162" y="2964"/>
                    </a:lnTo>
                    <a:lnTo>
                      <a:pt x="145" y="2897"/>
                    </a:lnTo>
                    <a:lnTo>
                      <a:pt x="128" y="2830"/>
                    </a:lnTo>
                    <a:lnTo>
                      <a:pt x="113" y="2762"/>
                    </a:lnTo>
                    <a:lnTo>
                      <a:pt x="100" y="2694"/>
                    </a:lnTo>
                    <a:lnTo>
                      <a:pt x="87" y="2625"/>
                    </a:lnTo>
                    <a:lnTo>
                      <a:pt x="78" y="2555"/>
                    </a:lnTo>
                    <a:lnTo>
                      <a:pt x="68" y="2485"/>
                    </a:lnTo>
                    <a:lnTo>
                      <a:pt x="60" y="2415"/>
                    </a:lnTo>
                    <a:lnTo>
                      <a:pt x="54" y="2345"/>
                    </a:lnTo>
                    <a:lnTo>
                      <a:pt x="48" y="2274"/>
                    </a:lnTo>
                    <a:lnTo>
                      <a:pt x="44" y="2202"/>
                    </a:lnTo>
                    <a:lnTo>
                      <a:pt x="42" y="2131"/>
                    </a:lnTo>
                    <a:lnTo>
                      <a:pt x="42" y="2059"/>
                    </a:lnTo>
                    <a:lnTo>
                      <a:pt x="42" y="1986"/>
                    </a:lnTo>
                    <a:lnTo>
                      <a:pt x="44" y="1915"/>
                    </a:lnTo>
                    <a:lnTo>
                      <a:pt x="48" y="1843"/>
                    </a:lnTo>
                    <a:lnTo>
                      <a:pt x="54" y="1772"/>
                    </a:lnTo>
                    <a:lnTo>
                      <a:pt x="60" y="1701"/>
                    </a:lnTo>
                    <a:lnTo>
                      <a:pt x="68" y="1631"/>
                    </a:lnTo>
                    <a:lnTo>
                      <a:pt x="78" y="1562"/>
                    </a:lnTo>
                    <a:lnTo>
                      <a:pt x="87" y="1493"/>
                    </a:lnTo>
                    <a:lnTo>
                      <a:pt x="100" y="1424"/>
                    </a:lnTo>
                    <a:lnTo>
                      <a:pt x="113" y="1356"/>
                    </a:lnTo>
                    <a:lnTo>
                      <a:pt x="128" y="1288"/>
                    </a:lnTo>
                    <a:lnTo>
                      <a:pt x="145" y="1220"/>
                    </a:lnTo>
                    <a:lnTo>
                      <a:pt x="162" y="1153"/>
                    </a:lnTo>
                    <a:lnTo>
                      <a:pt x="180" y="1087"/>
                    </a:lnTo>
                    <a:lnTo>
                      <a:pt x="200" y="1021"/>
                    </a:lnTo>
                    <a:lnTo>
                      <a:pt x="221" y="956"/>
                    </a:lnTo>
                    <a:lnTo>
                      <a:pt x="244" y="891"/>
                    </a:lnTo>
                    <a:lnTo>
                      <a:pt x="268" y="827"/>
                    </a:lnTo>
                    <a:lnTo>
                      <a:pt x="293" y="764"/>
                    </a:lnTo>
                    <a:lnTo>
                      <a:pt x="319" y="701"/>
                    </a:lnTo>
                    <a:lnTo>
                      <a:pt x="346" y="638"/>
                    </a:lnTo>
                    <a:lnTo>
                      <a:pt x="375" y="577"/>
                    </a:lnTo>
                    <a:lnTo>
                      <a:pt x="404" y="516"/>
                    </a:lnTo>
                    <a:lnTo>
                      <a:pt x="435" y="456"/>
                    </a:lnTo>
                    <a:lnTo>
                      <a:pt x="468" y="397"/>
                    </a:lnTo>
                    <a:lnTo>
                      <a:pt x="500" y="337"/>
                    </a:lnTo>
                    <a:lnTo>
                      <a:pt x="535" y="280"/>
                    </a:lnTo>
                    <a:lnTo>
                      <a:pt x="569" y="222"/>
                    </a:lnTo>
                    <a:lnTo>
                      <a:pt x="606" y="165"/>
                    </a:lnTo>
                    <a:lnTo>
                      <a:pt x="644" y="109"/>
                    </a:lnTo>
                    <a:lnTo>
                      <a:pt x="682" y="54"/>
                    </a:lnTo>
                    <a:lnTo>
                      <a:pt x="722" y="0"/>
                    </a:lnTo>
                    <a:lnTo>
                      <a:pt x="712" y="3"/>
                    </a:lnTo>
                    <a:lnTo>
                      <a:pt x="703" y="8"/>
                    </a:lnTo>
                    <a:lnTo>
                      <a:pt x="693" y="12"/>
                    </a:lnTo>
                    <a:lnTo>
                      <a:pt x="685" y="15"/>
                    </a:lnTo>
                    <a:lnTo>
                      <a:pt x="675" y="20"/>
                    </a:lnTo>
                    <a:lnTo>
                      <a:pt x="666" y="23"/>
                    </a:lnTo>
                    <a:lnTo>
                      <a:pt x="657" y="27"/>
                    </a:lnTo>
                    <a:lnTo>
                      <a:pt x="648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192480" y="2174760"/>
                <a:ext cx="2762280" cy="1644840"/>
              </a:xfrm>
              <a:custGeom>
                <a:avLst/>
                <a:gdLst/>
                <a:ahLst/>
                <a:rect l="l" t="t" r="r" b="b"/>
                <a:pathLst>
                  <a:path w="6959" h="4146">
                    <a:moveTo>
                      <a:pt x="6959" y="2074"/>
                    </a:moveTo>
                    <a:lnTo>
                      <a:pt x="6959" y="2002"/>
                    </a:lnTo>
                    <a:lnTo>
                      <a:pt x="6957" y="1931"/>
                    </a:lnTo>
                    <a:lnTo>
                      <a:pt x="6954" y="1860"/>
                    </a:lnTo>
                    <a:lnTo>
                      <a:pt x="6948" y="1790"/>
                    </a:lnTo>
                    <a:lnTo>
                      <a:pt x="6942" y="1721"/>
                    </a:lnTo>
                    <a:lnTo>
                      <a:pt x="6934" y="1650"/>
                    </a:lnTo>
                    <a:lnTo>
                      <a:pt x="6924" y="1581"/>
                    </a:lnTo>
                    <a:lnTo>
                      <a:pt x="6915" y="1513"/>
                    </a:lnTo>
                    <a:lnTo>
                      <a:pt x="6903" y="1444"/>
                    </a:lnTo>
                    <a:lnTo>
                      <a:pt x="6890" y="1377"/>
                    </a:lnTo>
                    <a:lnTo>
                      <a:pt x="6875" y="1309"/>
                    </a:lnTo>
                    <a:lnTo>
                      <a:pt x="6860" y="1243"/>
                    </a:lnTo>
                    <a:lnTo>
                      <a:pt x="6842" y="1176"/>
                    </a:lnTo>
                    <a:lnTo>
                      <a:pt x="6824" y="1110"/>
                    </a:lnTo>
                    <a:lnTo>
                      <a:pt x="6804" y="1046"/>
                    </a:lnTo>
                    <a:lnTo>
                      <a:pt x="6784" y="981"/>
                    </a:lnTo>
                    <a:lnTo>
                      <a:pt x="6762" y="917"/>
                    </a:lnTo>
                    <a:lnTo>
                      <a:pt x="6739" y="853"/>
                    </a:lnTo>
                    <a:lnTo>
                      <a:pt x="6715" y="790"/>
                    </a:lnTo>
                    <a:lnTo>
                      <a:pt x="6689" y="728"/>
                    </a:lnTo>
                    <a:lnTo>
                      <a:pt x="6662" y="665"/>
                    </a:lnTo>
                    <a:lnTo>
                      <a:pt x="6635" y="605"/>
                    </a:lnTo>
                    <a:lnTo>
                      <a:pt x="6606" y="544"/>
                    </a:lnTo>
                    <a:lnTo>
                      <a:pt x="6575" y="484"/>
                    </a:lnTo>
                    <a:lnTo>
                      <a:pt x="6544" y="425"/>
                    </a:lnTo>
                    <a:lnTo>
                      <a:pt x="6512" y="366"/>
                    </a:lnTo>
                    <a:lnTo>
                      <a:pt x="6478" y="309"/>
                    </a:lnTo>
                    <a:lnTo>
                      <a:pt x="6444" y="252"/>
                    </a:lnTo>
                    <a:lnTo>
                      <a:pt x="6408" y="194"/>
                    </a:lnTo>
                    <a:lnTo>
                      <a:pt x="6372" y="139"/>
                    </a:lnTo>
                    <a:lnTo>
                      <a:pt x="6334" y="84"/>
                    </a:lnTo>
                    <a:lnTo>
                      <a:pt x="6296" y="30"/>
                    </a:lnTo>
                    <a:lnTo>
                      <a:pt x="6287" y="26"/>
                    </a:lnTo>
                    <a:lnTo>
                      <a:pt x="6277" y="23"/>
                    </a:lnTo>
                    <a:lnTo>
                      <a:pt x="6267" y="18"/>
                    </a:lnTo>
                    <a:lnTo>
                      <a:pt x="6259" y="15"/>
                    </a:lnTo>
                    <a:lnTo>
                      <a:pt x="6249" y="11"/>
                    </a:lnTo>
                    <a:lnTo>
                      <a:pt x="6240" y="8"/>
                    </a:lnTo>
                    <a:lnTo>
                      <a:pt x="6231" y="4"/>
                    </a:lnTo>
                    <a:lnTo>
                      <a:pt x="6221" y="0"/>
                    </a:lnTo>
                    <a:lnTo>
                      <a:pt x="6262" y="54"/>
                    </a:lnTo>
                    <a:lnTo>
                      <a:pt x="6301" y="110"/>
                    </a:lnTo>
                    <a:lnTo>
                      <a:pt x="6340" y="166"/>
                    </a:lnTo>
                    <a:lnTo>
                      <a:pt x="6377" y="223"/>
                    </a:lnTo>
                    <a:lnTo>
                      <a:pt x="6413" y="281"/>
                    </a:lnTo>
                    <a:lnTo>
                      <a:pt x="6448" y="339"/>
                    </a:lnTo>
                    <a:lnTo>
                      <a:pt x="6481" y="398"/>
                    </a:lnTo>
                    <a:lnTo>
                      <a:pt x="6515" y="458"/>
                    </a:lnTo>
                    <a:lnTo>
                      <a:pt x="6546" y="518"/>
                    </a:lnTo>
                    <a:lnTo>
                      <a:pt x="6576" y="580"/>
                    </a:lnTo>
                    <a:lnTo>
                      <a:pt x="6606" y="642"/>
                    </a:lnTo>
                    <a:lnTo>
                      <a:pt x="6634" y="704"/>
                    </a:lnTo>
                    <a:lnTo>
                      <a:pt x="6661" y="767"/>
                    </a:lnTo>
                    <a:lnTo>
                      <a:pt x="6686" y="832"/>
                    </a:lnTo>
                    <a:lnTo>
                      <a:pt x="6710" y="895"/>
                    </a:lnTo>
                    <a:lnTo>
                      <a:pt x="6733" y="961"/>
                    </a:lnTo>
                    <a:lnTo>
                      <a:pt x="6755" y="1026"/>
                    </a:lnTo>
                    <a:lnTo>
                      <a:pt x="6775" y="1093"/>
                    </a:lnTo>
                    <a:lnTo>
                      <a:pt x="6795" y="1160"/>
                    </a:lnTo>
                    <a:lnTo>
                      <a:pt x="6813" y="1227"/>
                    </a:lnTo>
                    <a:lnTo>
                      <a:pt x="6829" y="1295"/>
                    </a:lnTo>
                    <a:lnTo>
                      <a:pt x="6844" y="1363"/>
                    </a:lnTo>
                    <a:lnTo>
                      <a:pt x="6858" y="1432"/>
                    </a:lnTo>
                    <a:lnTo>
                      <a:pt x="6870" y="1502"/>
                    </a:lnTo>
                    <a:lnTo>
                      <a:pt x="6881" y="1571"/>
                    </a:lnTo>
                    <a:lnTo>
                      <a:pt x="6891" y="1643"/>
                    </a:lnTo>
                    <a:lnTo>
                      <a:pt x="6900" y="1713"/>
                    </a:lnTo>
                    <a:lnTo>
                      <a:pt x="6906" y="1784"/>
                    </a:lnTo>
                    <a:lnTo>
                      <a:pt x="6911" y="1856"/>
                    </a:lnTo>
                    <a:lnTo>
                      <a:pt x="6915" y="1928"/>
                    </a:lnTo>
                    <a:lnTo>
                      <a:pt x="6917" y="2000"/>
                    </a:lnTo>
                    <a:lnTo>
                      <a:pt x="6918" y="2074"/>
                    </a:lnTo>
                    <a:lnTo>
                      <a:pt x="6917" y="2131"/>
                    </a:lnTo>
                    <a:lnTo>
                      <a:pt x="6916" y="2189"/>
                    </a:lnTo>
                    <a:lnTo>
                      <a:pt x="6914" y="2246"/>
                    </a:lnTo>
                    <a:lnTo>
                      <a:pt x="6910" y="2304"/>
                    </a:lnTo>
                    <a:lnTo>
                      <a:pt x="6906" y="2360"/>
                    </a:lnTo>
                    <a:lnTo>
                      <a:pt x="6901" y="2417"/>
                    </a:lnTo>
                    <a:lnTo>
                      <a:pt x="6895" y="2473"/>
                    </a:lnTo>
                    <a:lnTo>
                      <a:pt x="6888" y="2529"/>
                    </a:lnTo>
                    <a:lnTo>
                      <a:pt x="6880" y="2585"/>
                    </a:lnTo>
                    <a:lnTo>
                      <a:pt x="6871" y="2641"/>
                    </a:lnTo>
                    <a:lnTo>
                      <a:pt x="6862" y="2696"/>
                    </a:lnTo>
                    <a:lnTo>
                      <a:pt x="6851" y="2751"/>
                    </a:lnTo>
                    <a:lnTo>
                      <a:pt x="6839" y="2805"/>
                    </a:lnTo>
                    <a:lnTo>
                      <a:pt x="6827" y="2859"/>
                    </a:lnTo>
                    <a:lnTo>
                      <a:pt x="6814" y="2913"/>
                    </a:lnTo>
                    <a:lnTo>
                      <a:pt x="6800" y="2967"/>
                    </a:lnTo>
                    <a:lnTo>
                      <a:pt x="6840" y="2978"/>
                    </a:lnTo>
                    <a:lnTo>
                      <a:pt x="6854" y="2924"/>
                    </a:lnTo>
                    <a:lnTo>
                      <a:pt x="6868" y="2869"/>
                    </a:lnTo>
                    <a:lnTo>
                      <a:pt x="6880" y="2813"/>
                    </a:lnTo>
                    <a:lnTo>
                      <a:pt x="6892" y="2758"/>
                    </a:lnTo>
                    <a:lnTo>
                      <a:pt x="6903" y="2703"/>
                    </a:lnTo>
                    <a:lnTo>
                      <a:pt x="6913" y="2647"/>
                    </a:lnTo>
                    <a:lnTo>
                      <a:pt x="6921" y="2591"/>
                    </a:lnTo>
                    <a:lnTo>
                      <a:pt x="6929" y="2535"/>
                    </a:lnTo>
                    <a:lnTo>
                      <a:pt x="6936" y="2478"/>
                    </a:lnTo>
                    <a:lnTo>
                      <a:pt x="6943" y="2420"/>
                    </a:lnTo>
                    <a:lnTo>
                      <a:pt x="6947" y="2363"/>
                    </a:lnTo>
                    <a:lnTo>
                      <a:pt x="6951" y="2306"/>
                    </a:lnTo>
                    <a:lnTo>
                      <a:pt x="6955" y="2249"/>
                    </a:lnTo>
                    <a:lnTo>
                      <a:pt x="6958" y="2190"/>
                    </a:lnTo>
                    <a:lnTo>
                      <a:pt x="6959" y="2132"/>
                    </a:lnTo>
                    <a:lnTo>
                      <a:pt x="6959" y="2074"/>
                    </a:lnTo>
                    <a:close/>
                    <a:moveTo>
                      <a:pt x="665" y="30"/>
                    </a:moveTo>
                    <a:lnTo>
                      <a:pt x="626" y="84"/>
                    </a:lnTo>
                    <a:lnTo>
                      <a:pt x="588" y="139"/>
                    </a:lnTo>
                    <a:lnTo>
                      <a:pt x="551" y="194"/>
                    </a:lnTo>
                    <a:lnTo>
                      <a:pt x="517" y="252"/>
                    </a:lnTo>
                    <a:lnTo>
                      <a:pt x="482" y="309"/>
                    </a:lnTo>
                    <a:lnTo>
                      <a:pt x="449" y="366"/>
                    </a:lnTo>
                    <a:lnTo>
                      <a:pt x="416" y="425"/>
                    </a:lnTo>
                    <a:lnTo>
                      <a:pt x="385" y="484"/>
                    </a:lnTo>
                    <a:lnTo>
                      <a:pt x="355" y="544"/>
                    </a:lnTo>
                    <a:lnTo>
                      <a:pt x="326" y="605"/>
                    </a:lnTo>
                    <a:lnTo>
                      <a:pt x="297" y="665"/>
                    </a:lnTo>
                    <a:lnTo>
                      <a:pt x="272" y="728"/>
                    </a:lnTo>
                    <a:lnTo>
                      <a:pt x="246" y="790"/>
                    </a:lnTo>
                    <a:lnTo>
                      <a:pt x="222" y="853"/>
                    </a:lnTo>
                    <a:lnTo>
                      <a:pt x="198" y="917"/>
                    </a:lnTo>
                    <a:lnTo>
                      <a:pt x="176" y="981"/>
                    </a:lnTo>
                    <a:lnTo>
                      <a:pt x="156" y="1046"/>
                    </a:lnTo>
                    <a:lnTo>
                      <a:pt x="136" y="1110"/>
                    </a:lnTo>
                    <a:lnTo>
                      <a:pt x="118" y="1176"/>
                    </a:lnTo>
                    <a:lnTo>
                      <a:pt x="101" y="1243"/>
                    </a:lnTo>
                    <a:lnTo>
                      <a:pt x="85" y="1309"/>
                    </a:lnTo>
                    <a:lnTo>
                      <a:pt x="71" y="1377"/>
                    </a:lnTo>
                    <a:lnTo>
                      <a:pt x="58" y="1444"/>
                    </a:lnTo>
                    <a:lnTo>
                      <a:pt x="46" y="1513"/>
                    </a:lnTo>
                    <a:lnTo>
                      <a:pt x="35" y="1581"/>
                    </a:lnTo>
                    <a:lnTo>
                      <a:pt x="26" y="1650"/>
                    </a:lnTo>
                    <a:lnTo>
                      <a:pt x="19" y="1721"/>
                    </a:lnTo>
                    <a:lnTo>
                      <a:pt x="12" y="1790"/>
                    </a:lnTo>
                    <a:lnTo>
                      <a:pt x="7" y="1860"/>
                    </a:lnTo>
                    <a:lnTo>
                      <a:pt x="4" y="1931"/>
                    </a:lnTo>
                    <a:lnTo>
                      <a:pt x="1" y="2002"/>
                    </a:lnTo>
                    <a:lnTo>
                      <a:pt x="0" y="2074"/>
                    </a:lnTo>
                    <a:lnTo>
                      <a:pt x="1" y="2145"/>
                    </a:lnTo>
                    <a:lnTo>
                      <a:pt x="4" y="2216"/>
                    </a:lnTo>
                    <a:lnTo>
                      <a:pt x="7" y="2286"/>
                    </a:lnTo>
                    <a:lnTo>
                      <a:pt x="12" y="2357"/>
                    </a:lnTo>
                    <a:lnTo>
                      <a:pt x="19" y="2427"/>
                    </a:lnTo>
                    <a:lnTo>
                      <a:pt x="26" y="2496"/>
                    </a:lnTo>
                    <a:lnTo>
                      <a:pt x="35" y="2565"/>
                    </a:lnTo>
                    <a:lnTo>
                      <a:pt x="46" y="2634"/>
                    </a:lnTo>
                    <a:lnTo>
                      <a:pt x="58" y="2702"/>
                    </a:lnTo>
                    <a:lnTo>
                      <a:pt x="71" y="2770"/>
                    </a:lnTo>
                    <a:lnTo>
                      <a:pt x="85" y="2837"/>
                    </a:lnTo>
                    <a:lnTo>
                      <a:pt x="101" y="2904"/>
                    </a:lnTo>
                    <a:lnTo>
                      <a:pt x="118" y="2970"/>
                    </a:lnTo>
                    <a:lnTo>
                      <a:pt x="136" y="3036"/>
                    </a:lnTo>
                    <a:lnTo>
                      <a:pt x="156" y="3102"/>
                    </a:lnTo>
                    <a:lnTo>
                      <a:pt x="176" y="3167"/>
                    </a:lnTo>
                    <a:lnTo>
                      <a:pt x="198" y="3230"/>
                    </a:lnTo>
                    <a:lnTo>
                      <a:pt x="222" y="3294"/>
                    </a:lnTo>
                    <a:lnTo>
                      <a:pt x="246" y="3357"/>
                    </a:lnTo>
                    <a:lnTo>
                      <a:pt x="272" y="3419"/>
                    </a:lnTo>
                    <a:lnTo>
                      <a:pt x="297" y="3481"/>
                    </a:lnTo>
                    <a:lnTo>
                      <a:pt x="326" y="3542"/>
                    </a:lnTo>
                    <a:lnTo>
                      <a:pt x="355" y="3603"/>
                    </a:lnTo>
                    <a:lnTo>
                      <a:pt x="385" y="3662"/>
                    </a:lnTo>
                    <a:lnTo>
                      <a:pt x="416" y="3722"/>
                    </a:lnTo>
                    <a:lnTo>
                      <a:pt x="449" y="3780"/>
                    </a:lnTo>
                    <a:lnTo>
                      <a:pt x="482" y="3838"/>
                    </a:lnTo>
                    <a:lnTo>
                      <a:pt x="517" y="3896"/>
                    </a:lnTo>
                    <a:lnTo>
                      <a:pt x="551" y="3952"/>
                    </a:lnTo>
                    <a:lnTo>
                      <a:pt x="588" y="4008"/>
                    </a:lnTo>
                    <a:lnTo>
                      <a:pt x="626" y="4062"/>
                    </a:lnTo>
                    <a:lnTo>
                      <a:pt x="665" y="4117"/>
                    </a:lnTo>
                    <a:lnTo>
                      <a:pt x="673" y="4120"/>
                    </a:lnTo>
                    <a:lnTo>
                      <a:pt x="683" y="4125"/>
                    </a:lnTo>
                    <a:lnTo>
                      <a:pt x="693" y="4128"/>
                    </a:lnTo>
                    <a:lnTo>
                      <a:pt x="702" y="4132"/>
                    </a:lnTo>
                    <a:lnTo>
                      <a:pt x="711" y="4135"/>
                    </a:lnTo>
                    <a:lnTo>
                      <a:pt x="720" y="4140"/>
                    </a:lnTo>
                    <a:lnTo>
                      <a:pt x="730" y="4143"/>
                    </a:lnTo>
                    <a:lnTo>
                      <a:pt x="739" y="4146"/>
                    </a:lnTo>
                    <a:lnTo>
                      <a:pt x="698" y="4092"/>
                    </a:lnTo>
                    <a:lnTo>
                      <a:pt x="659" y="4037"/>
                    </a:lnTo>
                    <a:lnTo>
                      <a:pt x="621" y="3981"/>
                    </a:lnTo>
                    <a:lnTo>
                      <a:pt x="584" y="3924"/>
                    </a:lnTo>
                    <a:lnTo>
                      <a:pt x="547" y="3866"/>
                    </a:lnTo>
                    <a:lnTo>
                      <a:pt x="512" y="3808"/>
                    </a:lnTo>
                    <a:lnTo>
                      <a:pt x="479" y="3749"/>
                    </a:lnTo>
                    <a:lnTo>
                      <a:pt x="445" y="3689"/>
                    </a:lnTo>
                    <a:lnTo>
                      <a:pt x="414" y="3629"/>
                    </a:lnTo>
                    <a:lnTo>
                      <a:pt x="384" y="3567"/>
                    </a:lnTo>
                    <a:lnTo>
                      <a:pt x="355" y="3506"/>
                    </a:lnTo>
                    <a:lnTo>
                      <a:pt x="327" y="3443"/>
                    </a:lnTo>
                    <a:lnTo>
                      <a:pt x="300" y="3379"/>
                    </a:lnTo>
                    <a:lnTo>
                      <a:pt x="274" y="3316"/>
                    </a:lnTo>
                    <a:lnTo>
                      <a:pt x="250" y="3251"/>
                    </a:lnTo>
                    <a:lnTo>
                      <a:pt x="227" y="3186"/>
                    </a:lnTo>
                    <a:lnTo>
                      <a:pt x="206" y="3120"/>
                    </a:lnTo>
                    <a:lnTo>
                      <a:pt x="185" y="3054"/>
                    </a:lnTo>
                    <a:lnTo>
                      <a:pt x="166" y="2987"/>
                    </a:lnTo>
                    <a:lnTo>
                      <a:pt x="147" y="2919"/>
                    </a:lnTo>
                    <a:lnTo>
                      <a:pt x="131" y="2851"/>
                    </a:lnTo>
                    <a:lnTo>
                      <a:pt x="116" y="2783"/>
                    </a:lnTo>
                    <a:lnTo>
                      <a:pt x="102" y="2714"/>
                    </a:lnTo>
                    <a:lnTo>
                      <a:pt x="90" y="2645"/>
                    </a:lnTo>
                    <a:lnTo>
                      <a:pt x="79" y="2575"/>
                    </a:lnTo>
                    <a:lnTo>
                      <a:pt x="69" y="2505"/>
                    </a:lnTo>
                    <a:lnTo>
                      <a:pt x="61" y="2433"/>
                    </a:lnTo>
                    <a:lnTo>
                      <a:pt x="54" y="2362"/>
                    </a:lnTo>
                    <a:lnTo>
                      <a:pt x="49" y="2291"/>
                    </a:lnTo>
                    <a:lnTo>
                      <a:pt x="46" y="2218"/>
                    </a:lnTo>
                    <a:lnTo>
                      <a:pt x="44" y="2146"/>
                    </a:lnTo>
                    <a:lnTo>
                      <a:pt x="42" y="2074"/>
                    </a:lnTo>
                    <a:lnTo>
                      <a:pt x="44" y="2000"/>
                    </a:lnTo>
                    <a:lnTo>
                      <a:pt x="46" y="1928"/>
                    </a:lnTo>
                    <a:lnTo>
                      <a:pt x="49" y="1856"/>
                    </a:lnTo>
                    <a:lnTo>
                      <a:pt x="54" y="1784"/>
                    </a:lnTo>
                    <a:lnTo>
                      <a:pt x="61" y="1713"/>
                    </a:lnTo>
                    <a:lnTo>
                      <a:pt x="69" y="1643"/>
                    </a:lnTo>
                    <a:lnTo>
                      <a:pt x="79" y="1571"/>
                    </a:lnTo>
                    <a:lnTo>
                      <a:pt x="90" y="1502"/>
                    </a:lnTo>
                    <a:lnTo>
                      <a:pt x="102" y="1432"/>
                    </a:lnTo>
                    <a:lnTo>
                      <a:pt x="116" y="1363"/>
                    </a:lnTo>
                    <a:lnTo>
                      <a:pt x="131" y="1295"/>
                    </a:lnTo>
                    <a:lnTo>
                      <a:pt x="147" y="1227"/>
                    </a:lnTo>
                    <a:lnTo>
                      <a:pt x="166" y="1160"/>
                    </a:lnTo>
                    <a:lnTo>
                      <a:pt x="185" y="1093"/>
                    </a:lnTo>
                    <a:lnTo>
                      <a:pt x="206" y="1026"/>
                    </a:lnTo>
                    <a:lnTo>
                      <a:pt x="227" y="961"/>
                    </a:lnTo>
                    <a:lnTo>
                      <a:pt x="250" y="895"/>
                    </a:lnTo>
                    <a:lnTo>
                      <a:pt x="274" y="832"/>
                    </a:lnTo>
                    <a:lnTo>
                      <a:pt x="300" y="767"/>
                    </a:lnTo>
                    <a:lnTo>
                      <a:pt x="327" y="704"/>
                    </a:lnTo>
                    <a:lnTo>
                      <a:pt x="355" y="642"/>
                    </a:lnTo>
                    <a:lnTo>
                      <a:pt x="384" y="580"/>
                    </a:lnTo>
                    <a:lnTo>
                      <a:pt x="414" y="518"/>
                    </a:lnTo>
                    <a:lnTo>
                      <a:pt x="445" y="458"/>
                    </a:lnTo>
                    <a:lnTo>
                      <a:pt x="479" y="398"/>
                    </a:lnTo>
                    <a:lnTo>
                      <a:pt x="512" y="339"/>
                    </a:lnTo>
                    <a:lnTo>
                      <a:pt x="547" y="281"/>
                    </a:lnTo>
                    <a:lnTo>
                      <a:pt x="584" y="223"/>
                    </a:lnTo>
                    <a:lnTo>
                      <a:pt x="621" y="166"/>
                    </a:lnTo>
                    <a:lnTo>
                      <a:pt x="659" y="110"/>
                    </a:lnTo>
                    <a:lnTo>
                      <a:pt x="698" y="54"/>
                    </a:lnTo>
                    <a:lnTo>
                      <a:pt x="739" y="0"/>
                    </a:lnTo>
                    <a:lnTo>
                      <a:pt x="730" y="4"/>
                    </a:lnTo>
                    <a:lnTo>
                      <a:pt x="720" y="8"/>
                    </a:lnTo>
                    <a:lnTo>
                      <a:pt x="711" y="11"/>
                    </a:lnTo>
                    <a:lnTo>
                      <a:pt x="702" y="15"/>
                    </a:lnTo>
                    <a:lnTo>
                      <a:pt x="693" y="18"/>
                    </a:lnTo>
                    <a:lnTo>
                      <a:pt x="683" y="23"/>
                    </a:lnTo>
                    <a:lnTo>
                      <a:pt x="673" y="26"/>
                    </a:lnTo>
                    <a:lnTo>
                      <a:pt x="665" y="30"/>
                    </a:lnTo>
                    <a:close/>
                  </a:path>
                </a:pathLst>
              </a:custGeom>
              <a:solidFill>
                <a:srgbClr val="ceb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01840" y="2168640"/>
                <a:ext cx="2745000" cy="1657080"/>
              </a:xfrm>
              <a:custGeom>
                <a:avLst/>
                <a:gdLst/>
                <a:ahLst/>
                <a:rect l="l" t="t" r="r" b="b"/>
                <a:pathLst>
                  <a:path w="6916" h="4176">
                    <a:moveTo>
                      <a:pt x="6916" y="2089"/>
                    </a:moveTo>
                    <a:lnTo>
                      <a:pt x="6916" y="2016"/>
                    </a:lnTo>
                    <a:lnTo>
                      <a:pt x="6913" y="1945"/>
                    </a:lnTo>
                    <a:lnTo>
                      <a:pt x="6910" y="1873"/>
                    </a:lnTo>
                    <a:lnTo>
                      <a:pt x="6905" y="1802"/>
                    </a:lnTo>
                    <a:lnTo>
                      <a:pt x="6898" y="1731"/>
                    </a:lnTo>
                    <a:lnTo>
                      <a:pt x="6891" y="1661"/>
                    </a:lnTo>
                    <a:lnTo>
                      <a:pt x="6881" y="1592"/>
                    </a:lnTo>
                    <a:lnTo>
                      <a:pt x="6870" y="1523"/>
                    </a:lnTo>
                    <a:lnTo>
                      <a:pt x="6858" y="1454"/>
                    </a:lnTo>
                    <a:lnTo>
                      <a:pt x="6845" y="1386"/>
                    </a:lnTo>
                    <a:lnTo>
                      <a:pt x="6830" y="1318"/>
                    </a:lnTo>
                    <a:lnTo>
                      <a:pt x="6814" y="1250"/>
                    </a:lnTo>
                    <a:lnTo>
                      <a:pt x="6797" y="1183"/>
                    </a:lnTo>
                    <a:lnTo>
                      <a:pt x="6778" y="1117"/>
                    </a:lnTo>
                    <a:lnTo>
                      <a:pt x="6758" y="1051"/>
                    </a:lnTo>
                    <a:lnTo>
                      <a:pt x="6737" y="986"/>
                    </a:lnTo>
                    <a:lnTo>
                      <a:pt x="6714" y="921"/>
                    </a:lnTo>
                    <a:lnTo>
                      <a:pt x="6691" y="857"/>
                    </a:lnTo>
                    <a:lnTo>
                      <a:pt x="6666" y="794"/>
                    </a:lnTo>
                    <a:lnTo>
                      <a:pt x="6640" y="731"/>
                    </a:lnTo>
                    <a:lnTo>
                      <a:pt x="6612" y="668"/>
                    </a:lnTo>
                    <a:lnTo>
                      <a:pt x="6584" y="607"/>
                    </a:lnTo>
                    <a:lnTo>
                      <a:pt x="6554" y="546"/>
                    </a:lnTo>
                    <a:lnTo>
                      <a:pt x="6523" y="486"/>
                    </a:lnTo>
                    <a:lnTo>
                      <a:pt x="6491" y="427"/>
                    </a:lnTo>
                    <a:lnTo>
                      <a:pt x="6458" y="367"/>
                    </a:lnTo>
                    <a:lnTo>
                      <a:pt x="6424" y="310"/>
                    </a:lnTo>
                    <a:lnTo>
                      <a:pt x="6388" y="252"/>
                    </a:lnTo>
                    <a:lnTo>
                      <a:pt x="6352" y="195"/>
                    </a:lnTo>
                    <a:lnTo>
                      <a:pt x="6315" y="139"/>
                    </a:lnTo>
                    <a:lnTo>
                      <a:pt x="6277" y="84"/>
                    </a:lnTo>
                    <a:lnTo>
                      <a:pt x="6237" y="30"/>
                    </a:lnTo>
                    <a:lnTo>
                      <a:pt x="6227" y="26"/>
                    </a:lnTo>
                    <a:lnTo>
                      <a:pt x="6218" y="23"/>
                    </a:lnTo>
                    <a:lnTo>
                      <a:pt x="6209" y="18"/>
                    </a:lnTo>
                    <a:lnTo>
                      <a:pt x="6199" y="15"/>
                    </a:lnTo>
                    <a:lnTo>
                      <a:pt x="6190" y="11"/>
                    </a:lnTo>
                    <a:lnTo>
                      <a:pt x="6181" y="8"/>
                    </a:lnTo>
                    <a:lnTo>
                      <a:pt x="6171" y="4"/>
                    </a:lnTo>
                    <a:lnTo>
                      <a:pt x="6161" y="0"/>
                    </a:lnTo>
                    <a:lnTo>
                      <a:pt x="6203" y="55"/>
                    </a:lnTo>
                    <a:lnTo>
                      <a:pt x="6243" y="110"/>
                    </a:lnTo>
                    <a:lnTo>
                      <a:pt x="6282" y="166"/>
                    </a:lnTo>
                    <a:lnTo>
                      <a:pt x="6321" y="224"/>
                    </a:lnTo>
                    <a:lnTo>
                      <a:pt x="6358" y="281"/>
                    </a:lnTo>
                    <a:lnTo>
                      <a:pt x="6393" y="340"/>
                    </a:lnTo>
                    <a:lnTo>
                      <a:pt x="6428" y="400"/>
                    </a:lnTo>
                    <a:lnTo>
                      <a:pt x="6462" y="459"/>
                    </a:lnTo>
                    <a:lnTo>
                      <a:pt x="6494" y="521"/>
                    </a:lnTo>
                    <a:lnTo>
                      <a:pt x="6525" y="582"/>
                    </a:lnTo>
                    <a:lnTo>
                      <a:pt x="6556" y="644"/>
                    </a:lnTo>
                    <a:lnTo>
                      <a:pt x="6584" y="707"/>
                    </a:lnTo>
                    <a:lnTo>
                      <a:pt x="6612" y="771"/>
                    </a:lnTo>
                    <a:lnTo>
                      <a:pt x="6638" y="835"/>
                    </a:lnTo>
                    <a:lnTo>
                      <a:pt x="6663" y="901"/>
                    </a:lnTo>
                    <a:lnTo>
                      <a:pt x="6686" y="965"/>
                    </a:lnTo>
                    <a:lnTo>
                      <a:pt x="6708" y="1032"/>
                    </a:lnTo>
                    <a:lnTo>
                      <a:pt x="6730" y="1098"/>
                    </a:lnTo>
                    <a:lnTo>
                      <a:pt x="6749" y="1166"/>
                    </a:lnTo>
                    <a:lnTo>
                      <a:pt x="6767" y="1234"/>
                    </a:lnTo>
                    <a:lnTo>
                      <a:pt x="6784" y="1302"/>
                    </a:lnTo>
                    <a:lnTo>
                      <a:pt x="6800" y="1372"/>
                    </a:lnTo>
                    <a:lnTo>
                      <a:pt x="6814" y="1442"/>
                    </a:lnTo>
                    <a:lnTo>
                      <a:pt x="6827" y="1512"/>
                    </a:lnTo>
                    <a:lnTo>
                      <a:pt x="6838" y="1582"/>
                    </a:lnTo>
                    <a:lnTo>
                      <a:pt x="6847" y="1653"/>
                    </a:lnTo>
                    <a:lnTo>
                      <a:pt x="6856" y="1725"/>
                    </a:lnTo>
                    <a:lnTo>
                      <a:pt x="6862" y="1796"/>
                    </a:lnTo>
                    <a:lnTo>
                      <a:pt x="6868" y="1869"/>
                    </a:lnTo>
                    <a:lnTo>
                      <a:pt x="6872" y="1942"/>
                    </a:lnTo>
                    <a:lnTo>
                      <a:pt x="6874" y="2015"/>
                    </a:lnTo>
                    <a:lnTo>
                      <a:pt x="6875" y="2089"/>
                    </a:lnTo>
                    <a:lnTo>
                      <a:pt x="6874" y="2146"/>
                    </a:lnTo>
                    <a:lnTo>
                      <a:pt x="6873" y="2203"/>
                    </a:lnTo>
                    <a:lnTo>
                      <a:pt x="6871" y="2260"/>
                    </a:lnTo>
                    <a:lnTo>
                      <a:pt x="6868" y="2317"/>
                    </a:lnTo>
                    <a:lnTo>
                      <a:pt x="6863" y="2374"/>
                    </a:lnTo>
                    <a:lnTo>
                      <a:pt x="6858" y="2430"/>
                    </a:lnTo>
                    <a:lnTo>
                      <a:pt x="6852" y="2486"/>
                    </a:lnTo>
                    <a:lnTo>
                      <a:pt x="6845" y="2541"/>
                    </a:lnTo>
                    <a:lnTo>
                      <a:pt x="6838" y="2596"/>
                    </a:lnTo>
                    <a:lnTo>
                      <a:pt x="6829" y="2652"/>
                    </a:lnTo>
                    <a:lnTo>
                      <a:pt x="6819" y="2706"/>
                    </a:lnTo>
                    <a:lnTo>
                      <a:pt x="6808" y="2762"/>
                    </a:lnTo>
                    <a:lnTo>
                      <a:pt x="6798" y="2816"/>
                    </a:lnTo>
                    <a:lnTo>
                      <a:pt x="6785" y="2870"/>
                    </a:lnTo>
                    <a:lnTo>
                      <a:pt x="6772" y="2924"/>
                    </a:lnTo>
                    <a:lnTo>
                      <a:pt x="6758" y="2976"/>
                    </a:lnTo>
                    <a:lnTo>
                      <a:pt x="6799" y="2987"/>
                    </a:lnTo>
                    <a:lnTo>
                      <a:pt x="6813" y="2933"/>
                    </a:lnTo>
                    <a:lnTo>
                      <a:pt x="6826" y="2879"/>
                    </a:lnTo>
                    <a:lnTo>
                      <a:pt x="6838" y="2824"/>
                    </a:lnTo>
                    <a:lnTo>
                      <a:pt x="6849" y="2769"/>
                    </a:lnTo>
                    <a:lnTo>
                      <a:pt x="6860" y="2714"/>
                    </a:lnTo>
                    <a:lnTo>
                      <a:pt x="6870" y="2659"/>
                    </a:lnTo>
                    <a:lnTo>
                      <a:pt x="6879" y="2603"/>
                    </a:lnTo>
                    <a:lnTo>
                      <a:pt x="6886" y="2547"/>
                    </a:lnTo>
                    <a:lnTo>
                      <a:pt x="6894" y="2490"/>
                    </a:lnTo>
                    <a:lnTo>
                      <a:pt x="6899" y="2434"/>
                    </a:lnTo>
                    <a:lnTo>
                      <a:pt x="6905" y="2377"/>
                    </a:lnTo>
                    <a:lnTo>
                      <a:pt x="6909" y="2320"/>
                    </a:lnTo>
                    <a:lnTo>
                      <a:pt x="6912" y="2263"/>
                    </a:lnTo>
                    <a:lnTo>
                      <a:pt x="6914" y="2204"/>
                    </a:lnTo>
                    <a:lnTo>
                      <a:pt x="6916" y="2147"/>
                    </a:lnTo>
                    <a:lnTo>
                      <a:pt x="6916" y="2089"/>
                    </a:lnTo>
                    <a:close/>
                    <a:moveTo>
                      <a:pt x="680" y="30"/>
                    </a:moveTo>
                    <a:lnTo>
                      <a:pt x="640" y="84"/>
                    </a:lnTo>
                    <a:lnTo>
                      <a:pt x="602" y="139"/>
                    </a:lnTo>
                    <a:lnTo>
                      <a:pt x="564" y="195"/>
                    </a:lnTo>
                    <a:lnTo>
                      <a:pt x="527" y="252"/>
                    </a:lnTo>
                    <a:lnTo>
                      <a:pt x="493" y="310"/>
                    </a:lnTo>
                    <a:lnTo>
                      <a:pt x="458" y="367"/>
                    </a:lnTo>
                    <a:lnTo>
                      <a:pt x="426" y="427"/>
                    </a:lnTo>
                    <a:lnTo>
                      <a:pt x="393" y="486"/>
                    </a:lnTo>
                    <a:lnTo>
                      <a:pt x="362" y="546"/>
                    </a:lnTo>
                    <a:lnTo>
                      <a:pt x="333" y="607"/>
                    </a:lnTo>
                    <a:lnTo>
                      <a:pt x="304" y="668"/>
                    </a:lnTo>
                    <a:lnTo>
                      <a:pt x="277" y="731"/>
                    </a:lnTo>
                    <a:lnTo>
                      <a:pt x="251" y="794"/>
                    </a:lnTo>
                    <a:lnTo>
                      <a:pt x="226" y="857"/>
                    </a:lnTo>
                    <a:lnTo>
                      <a:pt x="202" y="921"/>
                    </a:lnTo>
                    <a:lnTo>
                      <a:pt x="179" y="986"/>
                    </a:lnTo>
                    <a:lnTo>
                      <a:pt x="158" y="1051"/>
                    </a:lnTo>
                    <a:lnTo>
                      <a:pt x="138" y="1117"/>
                    </a:lnTo>
                    <a:lnTo>
                      <a:pt x="120" y="1183"/>
                    </a:lnTo>
                    <a:lnTo>
                      <a:pt x="103" y="1250"/>
                    </a:lnTo>
                    <a:lnTo>
                      <a:pt x="86" y="1318"/>
                    </a:lnTo>
                    <a:lnTo>
                      <a:pt x="71" y="1386"/>
                    </a:lnTo>
                    <a:lnTo>
                      <a:pt x="58" y="1454"/>
                    </a:lnTo>
                    <a:lnTo>
                      <a:pt x="45" y="1523"/>
                    </a:lnTo>
                    <a:lnTo>
                      <a:pt x="36" y="1592"/>
                    </a:lnTo>
                    <a:lnTo>
                      <a:pt x="26" y="1661"/>
                    </a:lnTo>
                    <a:lnTo>
                      <a:pt x="18" y="1731"/>
                    </a:lnTo>
                    <a:lnTo>
                      <a:pt x="12" y="1802"/>
                    </a:lnTo>
                    <a:lnTo>
                      <a:pt x="6" y="1873"/>
                    </a:lnTo>
                    <a:lnTo>
                      <a:pt x="2" y="1945"/>
                    </a:lnTo>
                    <a:lnTo>
                      <a:pt x="0" y="2016"/>
                    </a:lnTo>
                    <a:lnTo>
                      <a:pt x="0" y="2089"/>
                    </a:lnTo>
                    <a:lnTo>
                      <a:pt x="0" y="2161"/>
                    </a:lnTo>
                    <a:lnTo>
                      <a:pt x="2" y="2232"/>
                    </a:lnTo>
                    <a:lnTo>
                      <a:pt x="6" y="2304"/>
                    </a:lnTo>
                    <a:lnTo>
                      <a:pt x="12" y="2375"/>
                    </a:lnTo>
                    <a:lnTo>
                      <a:pt x="18" y="2445"/>
                    </a:lnTo>
                    <a:lnTo>
                      <a:pt x="26" y="2515"/>
                    </a:lnTo>
                    <a:lnTo>
                      <a:pt x="36" y="2585"/>
                    </a:lnTo>
                    <a:lnTo>
                      <a:pt x="45" y="2655"/>
                    </a:lnTo>
                    <a:lnTo>
                      <a:pt x="58" y="2724"/>
                    </a:lnTo>
                    <a:lnTo>
                      <a:pt x="71" y="2792"/>
                    </a:lnTo>
                    <a:lnTo>
                      <a:pt x="86" y="2860"/>
                    </a:lnTo>
                    <a:lnTo>
                      <a:pt x="103" y="2927"/>
                    </a:lnTo>
                    <a:lnTo>
                      <a:pt x="120" y="2994"/>
                    </a:lnTo>
                    <a:lnTo>
                      <a:pt x="138" y="3060"/>
                    </a:lnTo>
                    <a:lnTo>
                      <a:pt x="158" y="3125"/>
                    </a:lnTo>
                    <a:lnTo>
                      <a:pt x="179" y="3191"/>
                    </a:lnTo>
                    <a:lnTo>
                      <a:pt x="202" y="3256"/>
                    </a:lnTo>
                    <a:lnTo>
                      <a:pt x="226" y="3320"/>
                    </a:lnTo>
                    <a:lnTo>
                      <a:pt x="251" y="3384"/>
                    </a:lnTo>
                    <a:lnTo>
                      <a:pt x="277" y="3446"/>
                    </a:lnTo>
                    <a:lnTo>
                      <a:pt x="304" y="3508"/>
                    </a:lnTo>
                    <a:lnTo>
                      <a:pt x="333" y="3569"/>
                    </a:lnTo>
                    <a:lnTo>
                      <a:pt x="362" y="3631"/>
                    </a:lnTo>
                    <a:lnTo>
                      <a:pt x="393" y="3691"/>
                    </a:lnTo>
                    <a:lnTo>
                      <a:pt x="426" y="3751"/>
                    </a:lnTo>
                    <a:lnTo>
                      <a:pt x="458" y="3809"/>
                    </a:lnTo>
                    <a:lnTo>
                      <a:pt x="493" y="3867"/>
                    </a:lnTo>
                    <a:lnTo>
                      <a:pt x="527" y="3925"/>
                    </a:lnTo>
                    <a:lnTo>
                      <a:pt x="564" y="3982"/>
                    </a:lnTo>
                    <a:lnTo>
                      <a:pt x="602" y="4037"/>
                    </a:lnTo>
                    <a:lnTo>
                      <a:pt x="640" y="4092"/>
                    </a:lnTo>
                    <a:lnTo>
                      <a:pt x="680" y="4147"/>
                    </a:lnTo>
                    <a:lnTo>
                      <a:pt x="689" y="4150"/>
                    </a:lnTo>
                    <a:lnTo>
                      <a:pt x="698" y="4155"/>
                    </a:lnTo>
                    <a:lnTo>
                      <a:pt x="708" y="4158"/>
                    </a:lnTo>
                    <a:lnTo>
                      <a:pt x="717" y="4162"/>
                    </a:lnTo>
                    <a:lnTo>
                      <a:pt x="726" y="4166"/>
                    </a:lnTo>
                    <a:lnTo>
                      <a:pt x="736" y="4170"/>
                    </a:lnTo>
                    <a:lnTo>
                      <a:pt x="745" y="4173"/>
                    </a:lnTo>
                    <a:lnTo>
                      <a:pt x="755" y="4176"/>
                    </a:lnTo>
                    <a:lnTo>
                      <a:pt x="713" y="4122"/>
                    </a:lnTo>
                    <a:lnTo>
                      <a:pt x="673" y="4067"/>
                    </a:lnTo>
                    <a:lnTo>
                      <a:pt x="634" y="4011"/>
                    </a:lnTo>
                    <a:lnTo>
                      <a:pt x="595" y="3954"/>
                    </a:lnTo>
                    <a:lnTo>
                      <a:pt x="559" y="3896"/>
                    </a:lnTo>
                    <a:lnTo>
                      <a:pt x="523" y="3837"/>
                    </a:lnTo>
                    <a:lnTo>
                      <a:pt x="488" y="3778"/>
                    </a:lnTo>
                    <a:lnTo>
                      <a:pt x="455" y="3717"/>
                    </a:lnTo>
                    <a:lnTo>
                      <a:pt x="422" y="3657"/>
                    </a:lnTo>
                    <a:lnTo>
                      <a:pt x="391" y="3595"/>
                    </a:lnTo>
                    <a:lnTo>
                      <a:pt x="361" y="3533"/>
                    </a:lnTo>
                    <a:lnTo>
                      <a:pt x="333" y="3470"/>
                    </a:lnTo>
                    <a:lnTo>
                      <a:pt x="305" y="3406"/>
                    </a:lnTo>
                    <a:lnTo>
                      <a:pt x="279" y="3341"/>
                    </a:lnTo>
                    <a:lnTo>
                      <a:pt x="254" y="3277"/>
                    </a:lnTo>
                    <a:lnTo>
                      <a:pt x="230" y="3211"/>
                    </a:lnTo>
                    <a:lnTo>
                      <a:pt x="208" y="3145"/>
                    </a:lnTo>
                    <a:lnTo>
                      <a:pt x="187" y="3078"/>
                    </a:lnTo>
                    <a:lnTo>
                      <a:pt x="167" y="3011"/>
                    </a:lnTo>
                    <a:lnTo>
                      <a:pt x="149" y="2943"/>
                    </a:lnTo>
                    <a:lnTo>
                      <a:pt x="132" y="2874"/>
                    </a:lnTo>
                    <a:lnTo>
                      <a:pt x="117" y="2805"/>
                    </a:lnTo>
                    <a:lnTo>
                      <a:pt x="103" y="2736"/>
                    </a:lnTo>
                    <a:lnTo>
                      <a:pt x="90" y="2665"/>
                    </a:lnTo>
                    <a:lnTo>
                      <a:pt x="79" y="2595"/>
                    </a:lnTo>
                    <a:lnTo>
                      <a:pt x="69" y="2524"/>
                    </a:lnTo>
                    <a:lnTo>
                      <a:pt x="60" y="2453"/>
                    </a:lnTo>
                    <a:lnTo>
                      <a:pt x="54" y="2380"/>
                    </a:lnTo>
                    <a:lnTo>
                      <a:pt x="49" y="2308"/>
                    </a:lnTo>
                    <a:lnTo>
                      <a:pt x="44" y="2236"/>
                    </a:lnTo>
                    <a:lnTo>
                      <a:pt x="42" y="2162"/>
                    </a:lnTo>
                    <a:lnTo>
                      <a:pt x="41" y="2089"/>
                    </a:lnTo>
                    <a:lnTo>
                      <a:pt x="42" y="2015"/>
                    </a:lnTo>
                    <a:lnTo>
                      <a:pt x="44" y="1942"/>
                    </a:lnTo>
                    <a:lnTo>
                      <a:pt x="49" y="1868"/>
                    </a:lnTo>
                    <a:lnTo>
                      <a:pt x="54" y="1796"/>
                    </a:lnTo>
                    <a:lnTo>
                      <a:pt x="60" y="1725"/>
                    </a:lnTo>
                    <a:lnTo>
                      <a:pt x="69" y="1653"/>
                    </a:lnTo>
                    <a:lnTo>
                      <a:pt x="79" y="1582"/>
                    </a:lnTo>
                    <a:lnTo>
                      <a:pt x="90" y="1512"/>
                    </a:lnTo>
                    <a:lnTo>
                      <a:pt x="103" y="1442"/>
                    </a:lnTo>
                    <a:lnTo>
                      <a:pt x="117" y="1372"/>
                    </a:lnTo>
                    <a:lnTo>
                      <a:pt x="132" y="1302"/>
                    </a:lnTo>
                    <a:lnTo>
                      <a:pt x="149" y="1234"/>
                    </a:lnTo>
                    <a:lnTo>
                      <a:pt x="167" y="1166"/>
                    </a:lnTo>
                    <a:lnTo>
                      <a:pt x="187" y="1098"/>
                    </a:lnTo>
                    <a:lnTo>
                      <a:pt x="208" y="1032"/>
                    </a:lnTo>
                    <a:lnTo>
                      <a:pt x="230" y="965"/>
                    </a:lnTo>
                    <a:lnTo>
                      <a:pt x="254" y="901"/>
                    </a:lnTo>
                    <a:lnTo>
                      <a:pt x="279" y="835"/>
                    </a:lnTo>
                    <a:lnTo>
                      <a:pt x="305" y="771"/>
                    </a:lnTo>
                    <a:lnTo>
                      <a:pt x="333" y="707"/>
                    </a:lnTo>
                    <a:lnTo>
                      <a:pt x="361" y="644"/>
                    </a:lnTo>
                    <a:lnTo>
                      <a:pt x="391" y="582"/>
                    </a:lnTo>
                    <a:lnTo>
                      <a:pt x="422" y="521"/>
                    </a:lnTo>
                    <a:lnTo>
                      <a:pt x="455" y="459"/>
                    </a:lnTo>
                    <a:lnTo>
                      <a:pt x="488" y="400"/>
                    </a:lnTo>
                    <a:lnTo>
                      <a:pt x="523" y="340"/>
                    </a:lnTo>
                    <a:lnTo>
                      <a:pt x="559" y="281"/>
                    </a:lnTo>
                    <a:lnTo>
                      <a:pt x="595" y="224"/>
                    </a:lnTo>
                    <a:lnTo>
                      <a:pt x="634" y="166"/>
                    </a:lnTo>
                    <a:lnTo>
                      <a:pt x="673" y="110"/>
                    </a:lnTo>
                    <a:lnTo>
                      <a:pt x="713" y="55"/>
                    </a:lnTo>
                    <a:lnTo>
                      <a:pt x="755" y="0"/>
                    </a:lnTo>
                    <a:lnTo>
                      <a:pt x="745" y="4"/>
                    </a:lnTo>
                    <a:lnTo>
                      <a:pt x="736" y="8"/>
                    </a:lnTo>
                    <a:lnTo>
                      <a:pt x="726" y="11"/>
                    </a:lnTo>
                    <a:lnTo>
                      <a:pt x="717" y="15"/>
                    </a:lnTo>
                    <a:lnTo>
                      <a:pt x="708" y="18"/>
                    </a:lnTo>
                    <a:lnTo>
                      <a:pt x="698" y="23"/>
                    </a:lnTo>
                    <a:lnTo>
                      <a:pt x="689" y="26"/>
                    </a:lnTo>
                    <a:lnTo>
                      <a:pt x="680" y="30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209760" y="2162160"/>
                <a:ext cx="2729160" cy="1670040"/>
              </a:xfrm>
              <a:custGeom>
                <a:avLst/>
                <a:gdLst/>
                <a:ahLst/>
                <a:rect l="l" t="t" r="r" b="b"/>
                <a:pathLst>
                  <a:path w="6876" h="4205">
                    <a:moveTo>
                      <a:pt x="6876" y="2103"/>
                    </a:moveTo>
                    <a:lnTo>
                      <a:pt x="6875" y="2029"/>
                    </a:lnTo>
                    <a:lnTo>
                      <a:pt x="6873" y="1957"/>
                    </a:lnTo>
                    <a:lnTo>
                      <a:pt x="6869" y="1885"/>
                    </a:lnTo>
                    <a:lnTo>
                      <a:pt x="6864" y="1813"/>
                    </a:lnTo>
                    <a:lnTo>
                      <a:pt x="6858" y="1742"/>
                    </a:lnTo>
                    <a:lnTo>
                      <a:pt x="6849" y="1672"/>
                    </a:lnTo>
                    <a:lnTo>
                      <a:pt x="6839" y="1600"/>
                    </a:lnTo>
                    <a:lnTo>
                      <a:pt x="6828" y="1531"/>
                    </a:lnTo>
                    <a:lnTo>
                      <a:pt x="6816" y="1461"/>
                    </a:lnTo>
                    <a:lnTo>
                      <a:pt x="6802" y="1392"/>
                    </a:lnTo>
                    <a:lnTo>
                      <a:pt x="6787" y="1324"/>
                    </a:lnTo>
                    <a:lnTo>
                      <a:pt x="6771" y="1256"/>
                    </a:lnTo>
                    <a:lnTo>
                      <a:pt x="6753" y="1189"/>
                    </a:lnTo>
                    <a:lnTo>
                      <a:pt x="6733" y="1122"/>
                    </a:lnTo>
                    <a:lnTo>
                      <a:pt x="6713" y="1055"/>
                    </a:lnTo>
                    <a:lnTo>
                      <a:pt x="6691" y="990"/>
                    </a:lnTo>
                    <a:lnTo>
                      <a:pt x="6668" y="924"/>
                    </a:lnTo>
                    <a:lnTo>
                      <a:pt x="6644" y="861"/>
                    </a:lnTo>
                    <a:lnTo>
                      <a:pt x="6619" y="796"/>
                    </a:lnTo>
                    <a:lnTo>
                      <a:pt x="6592" y="733"/>
                    </a:lnTo>
                    <a:lnTo>
                      <a:pt x="6564" y="671"/>
                    </a:lnTo>
                    <a:lnTo>
                      <a:pt x="6534" y="609"/>
                    </a:lnTo>
                    <a:lnTo>
                      <a:pt x="6504" y="547"/>
                    </a:lnTo>
                    <a:lnTo>
                      <a:pt x="6473" y="487"/>
                    </a:lnTo>
                    <a:lnTo>
                      <a:pt x="6439" y="427"/>
                    </a:lnTo>
                    <a:lnTo>
                      <a:pt x="6406" y="368"/>
                    </a:lnTo>
                    <a:lnTo>
                      <a:pt x="6371" y="310"/>
                    </a:lnTo>
                    <a:lnTo>
                      <a:pt x="6335" y="252"/>
                    </a:lnTo>
                    <a:lnTo>
                      <a:pt x="6298" y="195"/>
                    </a:lnTo>
                    <a:lnTo>
                      <a:pt x="6259" y="139"/>
                    </a:lnTo>
                    <a:lnTo>
                      <a:pt x="6220" y="83"/>
                    </a:lnTo>
                    <a:lnTo>
                      <a:pt x="6179" y="29"/>
                    </a:lnTo>
                    <a:lnTo>
                      <a:pt x="6170" y="26"/>
                    </a:lnTo>
                    <a:lnTo>
                      <a:pt x="6161" y="22"/>
                    </a:lnTo>
                    <a:lnTo>
                      <a:pt x="6151" y="18"/>
                    </a:lnTo>
                    <a:lnTo>
                      <a:pt x="6142" y="14"/>
                    </a:lnTo>
                    <a:lnTo>
                      <a:pt x="6133" y="11"/>
                    </a:lnTo>
                    <a:lnTo>
                      <a:pt x="6123" y="7"/>
                    </a:lnTo>
                    <a:lnTo>
                      <a:pt x="6113" y="3"/>
                    </a:lnTo>
                    <a:lnTo>
                      <a:pt x="6104" y="0"/>
                    </a:lnTo>
                    <a:lnTo>
                      <a:pt x="6147" y="55"/>
                    </a:lnTo>
                    <a:lnTo>
                      <a:pt x="6188" y="110"/>
                    </a:lnTo>
                    <a:lnTo>
                      <a:pt x="6228" y="166"/>
                    </a:lnTo>
                    <a:lnTo>
                      <a:pt x="6266" y="223"/>
                    </a:lnTo>
                    <a:lnTo>
                      <a:pt x="6304" y="282"/>
                    </a:lnTo>
                    <a:lnTo>
                      <a:pt x="6341" y="340"/>
                    </a:lnTo>
                    <a:lnTo>
                      <a:pt x="6377" y="401"/>
                    </a:lnTo>
                    <a:lnTo>
                      <a:pt x="6411" y="461"/>
                    </a:lnTo>
                    <a:lnTo>
                      <a:pt x="6444" y="522"/>
                    </a:lnTo>
                    <a:lnTo>
                      <a:pt x="6476" y="584"/>
                    </a:lnTo>
                    <a:lnTo>
                      <a:pt x="6506" y="647"/>
                    </a:lnTo>
                    <a:lnTo>
                      <a:pt x="6536" y="709"/>
                    </a:lnTo>
                    <a:lnTo>
                      <a:pt x="6564" y="774"/>
                    </a:lnTo>
                    <a:lnTo>
                      <a:pt x="6591" y="839"/>
                    </a:lnTo>
                    <a:lnTo>
                      <a:pt x="6617" y="904"/>
                    </a:lnTo>
                    <a:lnTo>
                      <a:pt x="6640" y="970"/>
                    </a:lnTo>
                    <a:lnTo>
                      <a:pt x="6663" y="1037"/>
                    </a:lnTo>
                    <a:lnTo>
                      <a:pt x="6685" y="1104"/>
                    </a:lnTo>
                    <a:lnTo>
                      <a:pt x="6705" y="1172"/>
                    </a:lnTo>
                    <a:lnTo>
                      <a:pt x="6724" y="1241"/>
                    </a:lnTo>
                    <a:lnTo>
                      <a:pt x="6741" y="1310"/>
                    </a:lnTo>
                    <a:lnTo>
                      <a:pt x="6757" y="1379"/>
                    </a:lnTo>
                    <a:lnTo>
                      <a:pt x="6771" y="1449"/>
                    </a:lnTo>
                    <a:lnTo>
                      <a:pt x="6784" y="1521"/>
                    </a:lnTo>
                    <a:lnTo>
                      <a:pt x="6796" y="1592"/>
                    </a:lnTo>
                    <a:lnTo>
                      <a:pt x="6806" y="1663"/>
                    </a:lnTo>
                    <a:lnTo>
                      <a:pt x="6814" y="1735"/>
                    </a:lnTo>
                    <a:lnTo>
                      <a:pt x="6822" y="1808"/>
                    </a:lnTo>
                    <a:lnTo>
                      <a:pt x="6827" y="1881"/>
                    </a:lnTo>
                    <a:lnTo>
                      <a:pt x="6831" y="1955"/>
                    </a:lnTo>
                    <a:lnTo>
                      <a:pt x="6834" y="2028"/>
                    </a:lnTo>
                    <a:lnTo>
                      <a:pt x="6834" y="2103"/>
                    </a:lnTo>
                    <a:lnTo>
                      <a:pt x="6834" y="2160"/>
                    </a:lnTo>
                    <a:lnTo>
                      <a:pt x="6833" y="2216"/>
                    </a:lnTo>
                    <a:lnTo>
                      <a:pt x="6829" y="2273"/>
                    </a:lnTo>
                    <a:lnTo>
                      <a:pt x="6826" y="2329"/>
                    </a:lnTo>
                    <a:lnTo>
                      <a:pt x="6822" y="2386"/>
                    </a:lnTo>
                    <a:lnTo>
                      <a:pt x="6818" y="2442"/>
                    </a:lnTo>
                    <a:lnTo>
                      <a:pt x="6811" y="2497"/>
                    </a:lnTo>
                    <a:lnTo>
                      <a:pt x="6805" y="2553"/>
                    </a:lnTo>
                    <a:lnTo>
                      <a:pt x="6797" y="2608"/>
                    </a:lnTo>
                    <a:lnTo>
                      <a:pt x="6788" y="2662"/>
                    </a:lnTo>
                    <a:lnTo>
                      <a:pt x="6779" y="2717"/>
                    </a:lnTo>
                    <a:lnTo>
                      <a:pt x="6768" y="2771"/>
                    </a:lnTo>
                    <a:lnTo>
                      <a:pt x="6757" y="2825"/>
                    </a:lnTo>
                    <a:lnTo>
                      <a:pt x="6745" y="2878"/>
                    </a:lnTo>
                    <a:lnTo>
                      <a:pt x="6732" y="2932"/>
                    </a:lnTo>
                    <a:lnTo>
                      <a:pt x="6718" y="2985"/>
                    </a:lnTo>
                    <a:lnTo>
                      <a:pt x="6758" y="2996"/>
                    </a:lnTo>
                    <a:lnTo>
                      <a:pt x="6772" y="2942"/>
                    </a:lnTo>
                    <a:lnTo>
                      <a:pt x="6785" y="2888"/>
                    </a:lnTo>
                    <a:lnTo>
                      <a:pt x="6797" y="2834"/>
                    </a:lnTo>
                    <a:lnTo>
                      <a:pt x="6809" y="2780"/>
                    </a:lnTo>
                    <a:lnTo>
                      <a:pt x="6820" y="2725"/>
                    </a:lnTo>
                    <a:lnTo>
                      <a:pt x="6829" y="2670"/>
                    </a:lnTo>
                    <a:lnTo>
                      <a:pt x="6838" y="2614"/>
                    </a:lnTo>
                    <a:lnTo>
                      <a:pt x="6846" y="2558"/>
                    </a:lnTo>
                    <a:lnTo>
                      <a:pt x="6852" y="2502"/>
                    </a:lnTo>
                    <a:lnTo>
                      <a:pt x="6859" y="2446"/>
                    </a:lnTo>
                    <a:lnTo>
                      <a:pt x="6864" y="2389"/>
                    </a:lnTo>
                    <a:lnTo>
                      <a:pt x="6868" y="2333"/>
                    </a:lnTo>
                    <a:lnTo>
                      <a:pt x="6872" y="2275"/>
                    </a:lnTo>
                    <a:lnTo>
                      <a:pt x="6874" y="2218"/>
                    </a:lnTo>
                    <a:lnTo>
                      <a:pt x="6875" y="2160"/>
                    </a:lnTo>
                    <a:lnTo>
                      <a:pt x="6876" y="2103"/>
                    </a:lnTo>
                    <a:close/>
                    <a:moveTo>
                      <a:pt x="697" y="29"/>
                    </a:moveTo>
                    <a:lnTo>
                      <a:pt x="656" y="83"/>
                    </a:lnTo>
                    <a:lnTo>
                      <a:pt x="617" y="139"/>
                    </a:lnTo>
                    <a:lnTo>
                      <a:pt x="579" y="195"/>
                    </a:lnTo>
                    <a:lnTo>
                      <a:pt x="542" y="252"/>
                    </a:lnTo>
                    <a:lnTo>
                      <a:pt x="505" y="310"/>
                    </a:lnTo>
                    <a:lnTo>
                      <a:pt x="470" y="368"/>
                    </a:lnTo>
                    <a:lnTo>
                      <a:pt x="437" y="427"/>
                    </a:lnTo>
                    <a:lnTo>
                      <a:pt x="403" y="487"/>
                    </a:lnTo>
                    <a:lnTo>
                      <a:pt x="372" y="547"/>
                    </a:lnTo>
                    <a:lnTo>
                      <a:pt x="342" y="609"/>
                    </a:lnTo>
                    <a:lnTo>
                      <a:pt x="313" y="671"/>
                    </a:lnTo>
                    <a:lnTo>
                      <a:pt x="285" y="733"/>
                    </a:lnTo>
                    <a:lnTo>
                      <a:pt x="258" y="796"/>
                    </a:lnTo>
                    <a:lnTo>
                      <a:pt x="232" y="861"/>
                    </a:lnTo>
                    <a:lnTo>
                      <a:pt x="208" y="924"/>
                    </a:lnTo>
                    <a:lnTo>
                      <a:pt x="185" y="990"/>
                    </a:lnTo>
                    <a:lnTo>
                      <a:pt x="164" y="1055"/>
                    </a:lnTo>
                    <a:lnTo>
                      <a:pt x="143" y="1122"/>
                    </a:lnTo>
                    <a:lnTo>
                      <a:pt x="124" y="1189"/>
                    </a:lnTo>
                    <a:lnTo>
                      <a:pt x="105" y="1256"/>
                    </a:lnTo>
                    <a:lnTo>
                      <a:pt x="89" y="1324"/>
                    </a:lnTo>
                    <a:lnTo>
                      <a:pt x="74" y="1392"/>
                    </a:lnTo>
                    <a:lnTo>
                      <a:pt x="60" y="1461"/>
                    </a:lnTo>
                    <a:lnTo>
                      <a:pt x="48" y="1531"/>
                    </a:lnTo>
                    <a:lnTo>
                      <a:pt x="37" y="1600"/>
                    </a:lnTo>
                    <a:lnTo>
                      <a:pt x="27" y="1672"/>
                    </a:lnTo>
                    <a:lnTo>
                      <a:pt x="19" y="1742"/>
                    </a:lnTo>
                    <a:lnTo>
                      <a:pt x="12" y="1813"/>
                    </a:lnTo>
                    <a:lnTo>
                      <a:pt x="7" y="1885"/>
                    </a:lnTo>
                    <a:lnTo>
                      <a:pt x="4" y="1957"/>
                    </a:lnTo>
                    <a:lnTo>
                      <a:pt x="2" y="2029"/>
                    </a:lnTo>
                    <a:lnTo>
                      <a:pt x="0" y="2103"/>
                    </a:lnTo>
                    <a:lnTo>
                      <a:pt x="2" y="2175"/>
                    </a:lnTo>
                    <a:lnTo>
                      <a:pt x="4" y="2247"/>
                    </a:lnTo>
                    <a:lnTo>
                      <a:pt x="7" y="2320"/>
                    </a:lnTo>
                    <a:lnTo>
                      <a:pt x="12" y="2391"/>
                    </a:lnTo>
                    <a:lnTo>
                      <a:pt x="19" y="2462"/>
                    </a:lnTo>
                    <a:lnTo>
                      <a:pt x="27" y="2534"/>
                    </a:lnTo>
                    <a:lnTo>
                      <a:pt x="37" y="2604"/>
                    </a:lnTo>
                    <a:lnTo>
                      <a:pt x="48" y="2674"/>
                    </a:lnTo>
                    <a:lnTo>
                      <a:pt x="60" y="2743"/>
                    </a:lnTo>
                    <a:lnTo>
                      <a:pt x="74" y="2812"/>
                    </a:lnTo>
                    <a:lnTo>
                      <a:pt x="89" y="2880"/>
                    </a:lnTo>
                    <a:lnTo>
                      <a:pt x="105" y="2948"/>
                    </a:lnTo>
                    <a:lnTo>
                      <a:pt x="124" y="3016"/>
                    </a:lnTo>
                    <a:lnTo>
                      <a:pt x="143" y="3083"/>
                    </a:lnTo>
                    <a:lnTo>
                      <a:pt x="164" y="3149"/>
                    </a:lnTo>
                    <a:lnTo>
                      <a:pt x="185" y="3215"/>
                    </a:lnTo>
                    <a:lnTo>
                      <a:pt x="208" y="3280"/>
                    </a:lnTo>
                    <a:lnTo>
                      <a:pt x="232" y="3345"/>
                    </a:lnTo>
                    <a:lnTo>
                      <a:pt x="258" y="3408"/>
                    </a:lnTo>
                    <a:lnTo>
                      <a:pt x="285" y="3472"/>
                    </a:lnTo>
                    <a:lnTo>
                      <a:pt x="313" y="3535"/>
                    </a:lnTo>
                    <a:lnTo>
                      <a:pt x="342" y="3596"/>
                    </a:lnTo>
                    <a:lnTo>
                      <a:pt x="372" y="3658"/>
                    </a:lnTo>
                    <a:lnTo>
                      <a:pt x="403" y="3718"/>
                    </a:lnTo>
                    <a:lnTo>
                      <a:pt x="437" y="3778"/>
                    </a:lnTo>
                    <a:lnTo>
                      <a:pt x="470" y="3837"/>
                    </a:lnTo>
                    <a:lnTo>
                      <a:pt x="505" y="3895"/>
                    </a:lnTo>
                    <a:lnTo>
                      <a:pt x="542" y="3953"/>
                    </a:lnTo>
                    <a:lnTo>
                      <a:pt x="579" y="4010"/>
                    </a:lnTo>
                    <a:lnTo>
                      <a:pt x="617" y="4066"/>
                    </a:lnTo>
                    <a:lnTo>
                      <a:pt x="656" y="4121"/>
                    </a:lnTo>
                    <a:lnTo>
                      <a:pt x="697" y="4175"/>
                    </a:lnTo>
                    <a:lnTo>
                      <a:pt x="706" y="4180"/>
                    </a:lnTo>
                    <a:lnTo>
                      <a:pt x="716" y="4183"/>
                    </a:lnTo>
                    <a:lnTo>
                      <a:pt x="725" y="4187"/>
                    </a:lnTo>
                    <a:lnTo>
                      <a:pt x="734" y="4190"/>
                    </a:lnTo>
                    <a:lnTo>
                      <a:pt x="744" y="4194"/>
                    </a:lnTo>
                    <a:lnTo>
                      <a:pt x="754" y="4198"/>
                    </a:lnTo>
                    <a:lnTo>
                      <a:pt x="762" y="4201"/>
                    </a:lnTo>
                    <a:lnTo>
                      <a:pt x="772" y="4205"/>
                    </a:lnTo>
                    <a:lnTo>
                      <a:pt x="730" y="4150"/>
                    </a:lnTo>
                    <a:lnTo>
                      <a:pt x="689" y="4095"/>
                    </a:lnTo>
                    <a:lnTo>
                      <a:pt x="649" y="4038"/>
                    </a:lnTo>
                    <a:lnTo>
                      <a:pt x="610" y="3981"/>
                    </a:lnTo>
                    <a:lnTo>
                      <a:pt x="572" y="3924"/>
                    </a:lnTo>
                    <a:lnTo>
                      <a:pt x="535" y="3864"/>
                    </a:lnTo>
                    <a:lnTo>
                      <a:pt x="500" y="3805"/>
                    </a:lnTo>
                    <a:lnTo>
                      <a:pt x="465" y="3744"/>
                    </a:lnTo>
                    <a:lnTo>
                      <a:pt x="433" y="3683"/>
                    </a:lnTo>
                    <a:lnTo>
                      <a:pt x="400" y="3621"/>
                    </a:lnTo>
                    <a:lnTo>
                      <a:pt x="370" y="3559"/>
                    </a:lnTo>
                    <a:lnTo>
                      <a:pt x="341" y="3495"/>
                    </a:lnTo>
                    <a:lnTo>
                      <a:pt x="313" y="3431"/>
                    </a:lnTo>
                    <a:lnTo>
                      <a:pt x="286" y="3366"/>
                    </a:lnTo>
                    <a:lnTo>
                      <a:pt x="260" y="3300"/>
                    </a:lnTo>
                    <a:lnTo>
                      <a:pt x="236" y="3235"/>
                    </a:lnTo>
                    <a:lnTo>
                      <a:pt x="213" y="3168"/>
                    </a:lnTo>
                    <a:lnTo>
                      <a:pt x="192" y="3101"/>
                    </a:lnTo>
                    <a:lnTo>
                      <a:pt x="171" y="3033"/>
                    </a:lnTo>
                    <a:lnTo>
                      <a:pt x="153" y="2965"/>
                    </a:lnTo>
                    <a:lnTo>
                      <a:pt x="136" y="2895"/>
                    </a:lnTo>
                    <a:lnTo>
                      <a:pt x="119" y="2825"/>
                    </a:lnTo>
                    <a:lnTo>
                      <a:pt x="105" y="2755"/>
                    </a:lnTo>
                    <a:lnTo>
                      <a:pt x="92" y="2685"/>
                    </a:lnTo>
                    <a:lnTo>
                      <a:pt x="80" y="2614"/>
                    </a:lnTo>
                    <a:lnTo>
                      <a:pt x="71" y="2542"/>
                    </a:lnTo>
                    <a:lnTo>
                      <a:pt x="62" y="2470"/>
                    </a:lnTo>
                    <a:lnTo>
                      <a:pt x="54" y="2398"/>
                    </a:lnTo>
                    <a:lnTo>
                      <a:pt x="49" y="2324"/>
                    </a:lnTo>
                    <a:lnTo>
                      <a:pt x="46" y="2251"/>
                    </a:lnTo>
                    <a:lnTo>
                      <a:pt x="43" y="2177"/>
                    </a:lnTo>
                    <a:lnTo>
                      <a:pt x="43" y="2103"/>
                    </a:lnTo>
                    <a:lnTo>
                      <a:pt x="43" y="2028"/>
                    </a:lnTo>
                    <a:lnTo>
                      <a:pt x="46" y="1955"/>
                    </a:lnTo>
                    <a:lnTo>
                      <a:pt x="49" y="1881"/>
                    </a:lnTo>
                    <a:lnTo>
                      <a:pt x="54" y="1808"/>
                    </a:lnTo>
                    <a:lnTo>
                      <a:pt x="62" y="1735"/>
                    </a:lnTo>
                    <a:lnTo>
                      <a:pt x="71" y="1663"/>
                    </a:lnTo>
                    <a:lnTo>
                      <a:pt x="80" y="1592"/>
                    </a:lnTo>
                    <a:lnTo>
                      <a:pt x="92" y="1521"/>
                    </a:lnTo>
                    <a:lnTo>
                      <a:pt x="105" y="1449"/>
                    </a:lnTo>
                    <a:lnTo>
                      <a:pt x="119" y="1379"/>
                    </a:lnTo>
                    <a:lnTo>
                      <a:pt x="136" y="1310"/>
                    </a:lnTo>
                    <a:lnTo>
                      <a:pt x="153" y="1241"/>
                    </a:lnTo>
                    <a:lnTo>
                      <a:pt x="171" y="1172"/>
                    </a:lnTo>
                    <a:lnTo>
                      <a:pt x="192" y="1104"/>
                    </a:lnTo>
                    <a:lnTo>
                      <a:pt x="213" y="1037"/>
                    </a:lnTo>
                    <a:lnTo>
                      <a:pt x="236" y="970"/>
                    </a:lnTo>
                    <a:lnTo>
                      <a:pt x="260" y="904"/>
                    </a:lnTo>
                    <a:lnTo>
                      <a:pt x="286" y="839"/>
                    </a:lnTo>
                    <a:lnTo>
                      <a:pt x="313" y="774"/>
                    </a:lnTo>
                    <a:lnTo>
                      <a:pt x="341" y="709"/>
                    </a:lnTo>
                    <a:lnTo>
                      <a:pt x="370" y="647"/>
                    </a:lnTo>
                    <a:lnTo>
                      <a:pt x="400" y="584"/>
                    </a:lnTo>
                    <a:lnTo>
                      <a:pt x="433" y="522"/>
                    </a:lnTo>
                    <a:lnTo>
                      <a:pt x="465" y="461"/>
                    </a:lnTo>
                    <a:lnTo>
                      <a:pt x="500" y="401"/>
                    </a:lnTo>
                    <a:lnTo>
                      <a:pt x="535" y="340"/>
                    </a:lnTo>
                    <a:lnTo>
                      <a:pt x="572" y="282"/>
                    </a:lnTo>
                    <a:lnTo>
                      <a:pt x="610" y="223"/>
                    </a:lnTo>
                    <a:lnTo>
                      <a:pt x="649" y="166"/>
                    </a:lnTo>
                    <a:lnTo>
                      <a:pt x="689" y="110"/>
                    </a:lnTo>
                    <a:lnTo>
                      <a:pt x="730" y="55"/>
                    </a:lnTo>
                    <a:lnTo>
                      <a:pt x="772" y="0"/>
                    </a:lnTo>
                    <a:lnTo>
                      <a:pt x="762" y="3"/>
                    </a:lnTo>
                    <a:lnTo>
                      <a:pt x="754" y="7"/>
                    </a:lnTo>
                    <a:lnTo>
                      <a:pt x="744" y="11"/>
                    </a:lnTo>
                    <a:lnTo>
                      <a:pt x="734" y="14"/>
                    </a:lnTo>
                    <a:lnTo>
                      <a:pt x="725" y="18"/>
                    </a:lnTo>
                    <a:lnTo>
                      <a:pt x="716" y="22"/>
                    </a:lnTo>
                    <a:lnTo>
                      <a:pt x="706" y="26"/>
                    </a:lnTo>
                    <a:lnTo>
                      <a:pt x="697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218040" y="2157480"/>
                <a:ext cx="2712960" cy="1679400"/>
              </a:xfrm>
              <a:custGeom>
                <a:avLst/>
                <a:gdLst/>
                <a:ahLst/>
                <a:rect l="l" t="t" r="r" b="b"/>
                <a:pathLst>
                  <a:path w="6834" h="4234">
                    <a:moveTo>
                      <a:pt x="6834" y="2118"/>
                    </a:moveTo>
                    <a:lnTo>
                      <a:pt x="6833" y="2044"/>
                    </a:lnTo>
                    <a:lnTo>
                      <a:pt x="6831" y="1971"/>
                    </a:lnTo>
                    <a:lnTo>
                      <a:pt x="6827" y="1898"/>
                    </a:lnTo>
                    <a:lnTo>
                      <a:pt x="6821" y="1825"/>
                    </a:lnTo>
                    <a:lnTo>
                      <a:pt x="6815" y="1754"/>
                    </a:lnTo>
                    <a:lnTo>
                      <a:pt x="6806" y="1682"/>
                    </a:lnTo>
                    <a:lnTo>
                      <a:pt x="6797" y="1611"/>
                    </a:lnTo>
                    <a:lnTo>
                      <a:pt x="6786" y="1541"/>
                    </a:lnTo>
                    <a:lnTo>
                      <a:pt x="6773" y="1471"/>
                    </a:lnTo>
                    <a:lnTo>
                      <a:pt x="6759" y="1401"/>
                    </a:lnTo>
                    <a:lnTo>
                      <a:pt x="6743" y="1331"/>
                    </a:lnTo>
                    <a:lnTo>
                      <a:pt x="6726" y="1263"/>
                    </a:lnTo>
                    <a:lnTo>
                      <a:pt x="6708" y="1195"/>
                    </a:lnTo>
                    <a:lnTo>
                      <a:pt x="6689" y="1127"/>
                    </a:lnTo>
                    <a:lnTo>
                      <a:pt x="6667" y="1061"/>
                    </a:lnTo>
                    <a:lnTo>
                      <a:pt x="6645" y="994"/>
                    </a:lnTo>
                    <a:lnTo>
                      <a:pt x="6622" y="930"/>
                    </a:lnTo>
                    <a:lnTo>
                      <a:pt x="6597" y="864"/>
                    </a:lnTo>
                    <a:lnTo>
                      <a:pt x="6571" y="800"/>
                    </a:lnTo>
                    <a:lnTo>
                      <a:pt x="6543" y="736"/>
                    </a:lnTo>
                    <a:lnTo>
                      <a:pt x="6515" y="674"/>
                    </a:lnTo>
                    <a:lnTo>
                      <a:pt x="6484" y="611"/>
                    </a:lnTo>
                    <a:lnTo>
                      <a:pt x="6453" y="550"/>
                    </a:lnTo>
                    <a:lnTo>
                      <a:pt x="6421" y="488"/>
                    </a:lnTo>
                    <a:lnTo>
                      <a:pt x="6387" y="429"/>
                    </a:lnTo>
                    <a:lnTo>
                      <a:pt x="6352" y="369"/>
                    </a:lnTo>
                    <a:lnTo>
                      <a:pt x="6317" y="310"/>
                    </a:lnTo>
                    <a:lnTo>
                      <a:pt x="6280" y="253"/>
                    </a:lnTo>
                    <a:lnTo>
                      <a:pt x="6241" y="195"/>
                    </a:lnTo>
                    <a:lnTo>
                      <a:pt x="6202" y="139"/>
                    </a:lnTo>
                    <a:lnTo>
                      <a:pt x="6162" y="84"/>
                    </a:lnTo>
                    <a:lnTo>
                      <a:pt x="6120" y="29"/>
                    </a:lnTo>
                    <a:lnTo>
                      <a:pt x="6112" y="26"/>
                    </a:lnTo>
                    <a:lnTo>
                      <a:pt x="6102" y="21"/>
                    </a:lnTo>
                    <a:lnTo>
                      <a:pt x="6092" y="18"/>
                    </a:lnTo>
                    <a:lnTo>
                      <a:pt x="6082" y="15"/>
                    </a:lnTo>
                    <a:lnTo>
                      <a:pt x="6074" y="11"/>
                    </a:lnTo>
                    <a:lnTo>
                      <a:pt x="6064" y="7"/>
                    </a:lnTo>
                    <a:lnTo>
                      <a:pt x="6054" y="4"/>
                    </a:lnTo>
                    <a:lnTo>
                      <a:pt x="6045" y="0"/>
                    </a:lnTo>
                    <a:lnTo>
                      <a:pt x="6088" y="55"/>
                    </a:lnTo>
                    <a:lnTo>
                      <a:pt x="6130" y="111"/>
                    </a:lnTo>
                    <a:lnTo>
                      <a:pt x="6171" y="167"/>
                    </a:lnTo>
                    <a:lnTo>
                      <a:pt x="6211" y="224"/>
                    </a:lnTo>
                    <a:lnTo>
                      <a:pt x="6250" y="283"/>
                    </a:lnTo>
                    <a:lnTo>
                      <a:pt x="6288" y="342"/>
                    </a:lnTo>
                    <a:lnTo>
                      <a:pt x="6323" y="402"/>
                    </a:lnTo>
                    <a:lnTo>
                      <a:pt x="6359" y="462"/>
                    </a:lnTo>
                    <a:lnTo>
                      <a:pt x="6392" y="524"/>
                    </a:lnTo>
                    <a:lnTo>
                      <a:pt x="6425" y="586"/>
                    </a:lnTo>
                    <a:lnTo>
                      <a:pt x="6456" y="649"/>
                    </a:lnTo>
                    <a:lnTo>
                      <a:pt x="6486" y="713"/>
                    </a:lnTo>
                    <a:lnTo>
                      <a:pt x="6516" y="777"/>
                    </a:lnTo>
                    <a:lnTo>
                      <a:pt x="6543" y="842"/>
                    </a:lnTo>
                    <a:lnTo>
                      <a:pt x="6569" y="909"/>
                    </a:lnTo>
                    <a:lnTo>
                      <a:pt x="6593" y="975"/>
                    </a:lnTo>
                    <a:lnTo>
                      <a:pt x="6617" y="1042"/>
                    </a:lnTo>
                    <a:lnTo>
                      <a:pt x="6639" y="1110"/>
                    </a:lnTo>
                    <a:lnTo>
                      <a:pt x="6659" y="1179"/>
                    </a:lnTo>
                    <a:lnTo>
                      <a:pt x="6679" y="1248"/>
                    </a:lnTo>
                    <a:lnTo>
                      <a:pt x="6697" y="1317"/>
                    </a:lnTo>
                    <a:lnTo>
                      <a:pt x="6713" y="1388"/>
                    </a:lnTo>
                    <a:lnTo>
                      <a:pt x="6727" y="1459"/>
                    </a:lnTo>
                    <a:lnTo>
                      <a:pt x="6741" y="1530"/>
                    </a:lnTo>
                    <a:lnTo>
                      <a:pt x="6753" y="1601"/>
                    </a:lnTo>
                    <a:lnTo>
                      <a:pt x="6763" y="1674"/>
                    </a:lnTo>
                    <a:lnTo>
                      <a:pt x="6772" y="1746"/>
                    </a:lnTo>
                    <a:lnTo>
                      <a:pt x="6779" y="1820"/>
                    </a:lnTo>
                    <a:lnTo>
                      <a:pt x="6785" y="1894"/>
                    </a:lnTo>
                    <a:lnTo>
                      <a:pt x="6789" y="1968"/>
                    </a:lnTo>
                    <a:lnTo>
                      <a:pt x="6791" y="2042"/>
                    </a:lnTo>
                    <a:lnTo>
                      <a:pt x="6792" y="2118"/>
                    </a:lnTo>
                    <a:lnTo>
                      <a:pt x="6792" y="2174"/>
                    </a:lnTo>
                    <a:lnTo>
                      <a:pt x="6790" y="2231"/>
                    </a:lnTo>
                    <a:lnTo>
                      <a:pt x="6788" y="2287"/>
                    </a:lnTo>
                    <a:lnTo>
                      <a:pt x="6785" y="2343"/>
                    </a:lnTo>
                    <a:lnTo>
                      <a:pt x="6780" y="2398"/>
                    </a:lnTo>
                    <a:lnTo>
                      <a:pt x="6776" y="2455"/>
                    </a:lnTo>
                    <a:lnTo>
                      <a:pt x="6770" y="2510"/>
                    </a:lnTo>
                    <a:lnTo>
                      <a:pt x="6763" y="2565"/>
                    </a:lnTo>
                    <a:lnTo>
                      <a:pt x="6756" y="2620"/>
                    </a:lnTo>
                    <a:lnTo>
                      <a:pt x="6747" y="2674"/>
                    </a:lnTo>
                    <a:lnTo>
                      <a:pt x="6737" y="2728"/>
                    </a:lnTo>
                    <a:lnTo>
                      <a:pt x="6726" y="2782"/>
                    </a:lnTo>
                    <a:lnTo>
                      <a:pt x="6716" y="2836"/>
                    </a:lnTo>
                    <a:lnTo>
                      <a:pt x="6704" y="2889"/>
                    </a:lnTo>
                    <a:lnTo>
                      <a:pt x="6691" y="2942"/>
                    </a:lnTo>
                    <a:lnTo>
                      <a:pt x="6677" y="2995"/>
                    </a:lnTo>
                    <a:lnTo>
                      <a:pt x="6717" y="3005"/>
                    </a:lnTo>
                    <a:lnTo>
                      <a:pt x="6731" y="2953"/>
                    </a:lnTo>
                    <a:lnTo>
                      <a:pt x="6744" y="2899"/>
                    </a:lnTo>
                    <a:lnTo>
                      <a:pt x="6757" y="2845"/>
                    </a:lnTo>
                    <a:lnTo>
                      <a:pt x="6767" y="2791"/>
                    </a:lnTo>
                    <a:lnTo>
                      <a:pt x="6778" y="2735"/>
                    </a:lnTo>
                    <a:lnTo>
                      <a:pt x="6788" y="2681"/>
                    </a:lnTo>
                    <a:lnTo>
                      <a:pt x="6797" y="2625"/>
                    </a:lnTo>
                    <a:lnTo>
                      <a:pt x="6804" y="2570"/>
                    </a:lnTo>
                    <a:lnTo>
                      <a:pt x="6811" y="2515"/>
                    </a:lnTo>
                    <a:lnTo>
                      <a:pt x="6817" y="2459"/>
                    </a:lnTo>
                    <a:lnTo>
                      <a:pt x="6822" y="2403"/>
                    </a:lnTo>
                    <a:lnTo>
                      <a:pt x="6827" y="2346"/>
                    </a:lnTo>
                    <a:lnTo>
                      <a:pt x="6830" y="2289"/>
                    </a:lnTo>
                    <a:lnTo>
                      <a:pt x="6832" y="2232"/>
                    </a:lnTo>
                    <a:lnTo>
                      <a:pt x="6833" y="2175"/>
                    </a:lnTo>
                    <a:lnTo>
                      <a:pt x="6834" y="2118"/>
                    </a:lnTo>
                    <a:close/>
                    <a:moveTo>
                      <a:pt x="714" y="29"/>
                    </a:moveTo>
                    <a:lnTo>
                      <a:pt x="672" y="84"/>
                    </a:lnTo>
                    <a:lnTo>
                      <a:pt x="632" y="139"/>
                    </a:lnTo>
                    <a:lnTo>
                      <a:pt x="593" y="195"/>
                    </a:lnTo>
                    <a:lnTo>
                      <a:pt x="554" y="253"/>
                    </a:lnTo>
                    <a:lnTo>
                      <a:pt x="518" y="310"/>
                    </a:lnTo>
                    <a:lnTo>
                      <a:pt x="482" y="369"/>
                    </a:lnTo>
                    <a:lnTo>
                      <a:pt x="447" y="429"/>
                    </a:lnTo>
                    <a:lnTo>
                      <a:pt x="414" y="488"/>
                    </a:lnTo>
                    <a:lnTo>
                      <a:pt x="381" y="550"/>
                    </a:lnTo>
                    <a:lnTo>
                      <a:pt x="350" y="611"/>
                    </a:lnTo>
                    <a:lnTo>
                      <a:pt x="320" y="673"/>
                    </a:lnTo>
                    <a:lnTo>
                      <a:pt x="292" y="736"/>
                    </a:lnTo>
                    <a:lnTo>
                      <a:pt x="264" y="800"/>
                    </a:lnTo>
                    <a:lnTo>
                      <a:pt x="238" y="864"/>
                    </a:lnTo>
                    <a:lnTo>
                      <a:pt x="213" y="930"/>
                    </a:lnTo>
                    <a:lnTo>
                      <a:pt x="189" y="994"/>
                    </a:lnTo>
                    <a:lnTo>
                      <a:pt x="167" y="1061"/>
                    </a:lnTo>
                    <a:lnTo>
                      <a:pt x="146" y="1127"/>
                    </a:lnTo>
                    <a:lnTo>
                      <a:pt x="126" y="1195"/>
                    </a:lnTo>
                    <a:lnTo>
                      <a:pt x="108" y="1263"/>
                    </a:lnTo>
                    <a:lnTo>
                      <a:pt x="91" y="1331"/>
                    </a:lnTo>
                    <a:lnTo>
                      <a:pt x="76" y="1401"/>
                    </a:lnTo>
                    <a:lnTo>
                      <a:pt x="62" y="1471"/>
                    </a:lnTo>
                    <a:lnTo>
                      <a:pt x="49" y="1541"/>
                    </a:lnTo>
                    <a:lnTo>
                      <a:pt x="38" y="1611"/>
                    </a:lnTo>
                    <a:lnTo>
                      <a:pt x="28" y="1682"/>
                    </a:lnTo>
                    <a:lnTo>
                      <a:pt x="19" y="1754"/>
                    </a:lnTo>
                    <a:lnTo>
                      <a:pt x="13" y="1825"/>
                    </a:lnTo>
                    <a:lnTo>
                      <a:pt x="8" y="1898"/>
                    </a:lnTo>
                    <a:lnTo>
                      <a:pt x="3" y="1971"/>
                    </a:lnTo>
                    <a:lnTo>
                      <a:pt x="1" y="2044"/>
                    </a:lnTo>
                    <a:lnTo>
                      <a:pt x="0" y="2118"/>
                    </a:lnTo>
                    <a:lnTo>
                      <a:pt x="1" y="2191"/>
                    </a:lnTo>
                    <a:lnTo>
                      <a:pt x="3" y="2265"/>
                    </a:lnTo>
                    <a:lnTo>
                      <a:pt x="8" y="2337"/>
                    </a:lnTo>
                    <a:lnTo>
                      <a:pt x="13" y="2409"/>
                    </a:lnTo>
                    <a:lnTo>
                      <a:pt x="19" y="2482"/>
                    </a:lnTo>
                    <a:lnTo>
                      <a:pt x="28" y="2553"/>
                    </a:lnTo>
                    <a:lnTo>
                      <a:pt x="38" y="2624"/>
                    </a:lnTo>
                    <a:lnTo>
                      <a:pt x="49" y="2694"/>
                    </a:lnTo>
                    <a:lnTo>
                      <a:pt x="62" y="2765"/>
                    </a:lnTo>
                    <a:lnTo>
                      <a:pt x="76" y="2834"/>
                    </a:lnTo>
                    <a:lnTo>
                      <a:pt x="91" y="2903"/>
                    </a:lnTo>
                    <a:lnTo>
                      <a:pt x="108" y="2972"/>
                    </a:lnTo>
                    <a:lnTo>
                      <a:pt x="126" y="3040"/>
                    </a:lnTo>
                    <a:lnTo>
                      <a:pt x="146" y="3107"/>
                    </a:lnTo>
                    <a:lnTo>
                      <a:pt x="167" y="3174"/>
                    </a:lnTo>
                    <a:lnTo>
                      <a:pt x="189" y="3240"/>
                    </a:lnTo>
                    <a:lnTo>
                      <a:pt x="213" y="3306"/>
                    </a:lnTo>
                    <a:lnTo>
                      <a:pt x="238" y="3370"/>
                    </a:lnTo>
                    <a:lnTo>
                      <a:pt x="264" y="3435"/>
                    </a:lnTo>
                    <a:lnTo>
                      <a:pt x="292" y="3499"/>
                    </a:lnTo>
                    <a:lnTo>
                      <a:pt x="320" y="3562"/>
                    </a:lnTo>
                    <a:lnTo>
                      <a:pt x="350" y="3624"/>
                    </a:lnTo>
                    <a:lnTo>
                      <a:pt x="381" y="3686"/>
                    </a:lnTo>
                    <a:lnTo>
                      <a:pt x="414" y="3746"/>
                    </a:lnTo>
                    <a:lnTo>
                      <a:pt x="447" y="3807"/>
                    </a:lnTo>
                    <a:lnTo>
                      <a:pt x="482" y="3866"/>
                    </a:lnTo>
                    <a:lnTo>
                      <a:pt x="518" y="3925"/>
                    </a:lnTo>
                    <a:lnTo>
                      <a:pt x="554" y="3983"/>
                    </a:lnTo>
                    <a:lnTo>
                      <a:pt x="593" y="4040"/>
                    </a:lnTo>
                    <a:lnTo>
                      <a:pt x="632" y="4096"/>
                    </a:lnTo>
                    <a:lnTo>
                      <a:pt x="672" y="4151"/>
                    </a:lnTo>
                    <a:lnTo>
                      <a:pt x="714" y="4205"/>
                    </a:lnTo>
                    <a:lnTo>
                      <a:pt x="723" y="4210"/>
                    </a:lnTo>
                    <a:lnTo>
                      <a:pt x="733" y="4213"/>
                    </a:lnTo>
                    <a:lnTo>
                      <a:pt x="742" y="4217"/>
                    </a:lnTo>
                    <a:lnTo>
                      <a:pt x="752" y="4220"/>
                    </a:lnTo>
                    <a:lnTo>
                      <a:pt x="761" y="4224"/>
                    </a:lnTo>
                    <a:lnTo>
                      <a:pt x="770" y="4228"/>
                    </a:lnTo>
                    <a:lnTo>
                      <a:pt x="780" y="4231"/>
                    </a:lnTo>
                    <a:lnTo>
                      <a:pt x="790" y="4234"/>
                    </a:lnTo>
                    <a:lnTo>
                      <a:pt x="747" y="4179"/>
                    </a:lnTo>
                    <a:lnTo>
                      <a:pt x="704" y="4124"/>
                    </a:lnTo>
                    <a:lnTo>
                      <a:pt x="663" y="4068"/>
                    </a:lnTo>
                    <a:lnTo>
                      <a:pt x="623" y="4010"/>
                    </a:lnTo>
                    <a:lnTo>
                      <a:pt x="585" y="3953"/>
                    </a:lnTo>
                    <a:lnTo>
                      <a:pt x="547" y="3893"/>
                    </a:lnTo>
                    <a:lnTo>
                      <a:pt x="511" y="3833"/>
                    </a:lnTo>
                    <a:lnTo>
                      <a:pt x="475" y="3772"/>
                    </a:lnTo>
                    <a:lnTo>
                      <a:pt x="442" y="3711"/>
                    </a:lnTo>
                    <a:lnTo>
                      <a:pt x="410" y="3649"/>
                    </a:lnTo>
                    <a:lnTo>
                      <a:pt x="378" y="3585"/>
                    </a:lnTo>
                    <a:lnTo>
                      <a:pt x="348" y="3522"/>
                    </a:lnTo>
                    <a:lnTo>
                      <a:pt x="319" y="3457"/>
                    </a:lnTo>
                    <a:lnTo>
                      <a:pt x="292" y="3392"/>
                    </a:lnTo>
                    <a:lnTo>
                      <a:pt x="266" y="3326"/>
                    </a:lnTo>
                    <a:lnTo>
                      <a:pt x="241" y="3259"/>
                    </a:lnTo>
                    <a:lnTo>
                      <a:pt x="217" y="3192"/>
                    </a:lnTo>
                    <a:lnTo>
                      <a:pt x="196" y="3124"/>
                    </a:lnTo>
                    <a:lnTo>
                      <a:pt x="175" y="3056"/>
                    </a:lnTo>
                    <a:lnTo>
                      <a:pt x="156" y="2987"/>
                    </a:lnTo>
                    <a:lnTo>
                      <a:pt x="137" y="2918"/>
                    </a:lnTo>
                    <a:lnTo>
                      <a:pt x="121" y="2847"/>
                    </a:lnTo>
                    <a:lnTo>
                      <a:pt x="107" y="2776"/>
                    </a:lnTo>
                    <a:lnTo>
                      <a:pt x="93" y="2705"/>
                    </a:lnTo>
                    <a:lnTo>
                      <a:pt x="81" y="2633"/>
                    </a:lnTo>
                    <a:lnTo>
                      <a:pt x="71" y="2560"/>
                    </a:lnTo>
                    <a:lnTo>
                      <a:pt x="63" y="2488"/>
                    </a:lnTo>
                    <a:lnTo>
                      <a:pt x="55" y="2415"/>
                    </a:lnTo>
                    <a:lnTo>
                      <a:pt x="50" y="2341"/>
                    </a:lnTo>
                    <a:lnTo>
                      <a:pt x="45" y="2267"/>
                    </a:lnTo>
                    <a:lnTo>
                      <a:pt x="43" y="2192"/>
                    </a:lnTo>
                    <a:lnTo>
                      <a:pt x="42" y="2118"/>
                    </a:lnTo>
                    <a:lnTo>
                      <a:pt x="43" y="2042"/>
                    </a:lnTo>
                    <a:lnTo>
                      <a:pt x="45" y="1968"/>
                    </a:lnTo>
                    <a:lnTo>
                      <a:pt x="50" y="1894"/>
                    </a:lnTo>
                    <a:lnTo>
                      <a:pt x="55" y="1820"/>
                    </a:lnTo>
                    <a:lnTo>
                      <a:pt x="63" y="1746"/>
                    </a:lnTo>
                    <a:lnTo>
                      <a:pt x="71" y="1674"/>
                    </a:lnTo>
                    <a:lnTo>
                      <a:pt x="81" y="1601"/>
                    </a:lnTo>
                    <a:lnTo>
                      <a:pt x="93" y="1530"/>
                    </a:lnTo>
                    <a:lnTo>
                      <a:pt x="107" y="1459"/>
                    </a:lnTo>
                    <a:lnTo>
                      <a:pt x="121" y="1388"/>
                    </a:lnTo>
                    <a:lnTo>
                      <a:pt x="137" y="1317"/>
                    </a:lnTo>
                    <a:lnTo>
                      <a:pt x="156" y="1248"/>
                    </a:lnTo>
                    <a:lnTo>
                      <a:pt x="175" y="1179"/>
                    </a:lnTo>
                    <a:lnTo>
                      <a:pt x="196" y="1110"/>
                    </a:lnTo>
                    <a:lnTo>
                      <a:pt x="217" y="1042"/>
                    </a:lnTo>
                    <a:lnTo>
                      <a:pt x="241" y="975"/>
                    </a:lnTo>
                    <a:lnTo>
                      <a:pt x="266" y="909"/>
                    </a:lnTo>
                    <a:lnTo>
                      <a:pt x="292" y="842"/>
                    </a:lnTo>
                    <a:lnTo>
                      <a:pt x="319" y="777"/>
                    </a:lnTo>
                    <a:lnTo>
                      <a:pt x="348" y="713"/>
                    </a:lnTo>
                    <a:lnTo>
                      <a:pt x="378" y="649"/>
                    </a:lnTo>
                    <a:lnTo>
                      <a:pt x="410" y="586"/>
                    </a:lnTo>
                    <a:lnTo>
                      <a:pt x="442" y="524"/>
                    </a:lnTo>
                    <a:lnTo>
                      <a:pt x="475" y="462"/>
                    </a:lnTo>
                    <a:lnTo>
                      <a:pt x="511" y="402"/>
                    </a:lnTo>
                    <a:lnTo>
                      <a:pt x="547" y="342"/>
                    </a:lnTo>
                    <a:lnTo>
                      <a:pt x="585" y="283"/>
                    </a:lnTo>
                    <a:lnTo>
                      <a:pt x="623" y="224"/>
                    </a:lnTo>
                    <a:lnTo>
                      <a:pt x="663" y="167"/>
                    </a:lnTo>
                    <a:lnTo>
                      <a:pt x="704" y="111"/>
                    </a:lnTo>
                    <a:lnTo>
                      <a:pt x="747" y="55"/>
                    </a:lnTo>
                    <a:lnTo>
                      <a:pt x="790" y="0"/>
                    </a:lnTo>
                    <a:lnTo>
                      <a:pt x="780" y="4"/>
                    </a:lnTo>
                    <a:lnTo>
                      <a:pt x="770" y="7"/>
                    </a:lnTo>
                    <a:lnTo>
                      <a:pt x="761" y="11"/>
                    </a:lnTo>
                    <a:lnTo>
                      <a:pt x="752" y="15"/>
                    </a:lnTo>
                    <a:lnTo>
                      <a:pt x="742" y="18"/>
                    </a:lnTo>
                    <a:lnTo>
                      <a:pt x="733" y="21"/>
                    </a:lnTo>
                    <a:lnTo>
                      <a:pt x="723" y="26"/>
                    </a:lnTo>
                    <a:lnTo>
                      <a:pt x="714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225960" y="2151000"/>
                <a:ext cx="2695320" cy="1692360"/>
              </a:xfrm>
              <a:custGeom>
                <a:avLst/>
                <a:gdLst/>
                <a:ahLst/>
                <a:rect l="l" t="t" r="r" b="b"/>
                <a:pathLst>
                  <a:path w="6791" h="4263">
                    <a:moveTo>
                      <a:pt x="6791" y="2132"/>
                    </a:moveTo>
                    <a:lnTo>
                      <a:pt x="6791" y="2057"/>
                    </a:lnTo>
                    <a:lnTo>
                      <a:pt x="6788" y="1984"/>
                    </a:lnTo>
                    <a:lnTo>
                      <a:pt x="6784" y="1910"/>
                    </a:lnTo>
                    <a:lnTo>
                      <a:pt x="6779" y="1837"/>
                    </a:lnTo>
                    <a:lnTo>
                      <a:pt x="6771" y="1764"/>
                    </a:lnTo>
                    <a:lnTo>
                      <a:pt x="6763" y="1692"/>
                    </a:lnTo>
                    <a:lnTo>
                      <a:pt x="6753" y="1621"/>
                    </a:lnTo>
                    <a:lnTo>
                      <a:pt x="6741" y="1550"/>
                    </a:lnTo>
                    <a:lnTo>
                      <a:pt x="6728" y="1478"/>
                    </a:lnTo>
                    <a:lnTo>
                      <a:pt x="6714" y="1408"/>
                    </a:lnTo>
                    <a:lnTo>
                      <a:pt x="6698" y="1339"/>
                    </a:lnTo>
                    <a:lnTo>
                      <a:pt x="6681" y="1270"/>
                    </a:lnTo>
                    <a:lnTo>
                      <a:pt x="6662" y="1201"/>
                    </a:lnTo>
                    <a:lnTo>
                      <a:pt x="6642" y="1133"/>
                    </a:lnTo>
                    <a:lnTo>
                      <a:pt x="6620" y="1066"/>
                    </a:lnTo>
                    <a:lnTo>
                      <a:pt x="6597" y="999"/>
                    </a:lnTo>
                    <a:lnTo>
                      <a:pt x="6574" y="933"/>
                    </a:lnTo>
                    <a:lnTo>
                      <a:pt x="6548" y="868"/>
                    </a:lnTo>
                    <a:lnTo>
                      <a:pt x="6521" y="803"/>
                    </a:lnTo>
                    <a:lnTo>
                      <a:pt x="6493" y="738"/>
                    </a:lnTo>
                    <a:lnTo>
                      <a:pt x="6463" y="676"/>
                    </a:lnTo>
                    <a:lnTo>
                      <a:pt x="6433" y="613"/>
                    </a:lnTo>
                    <a:lnTo>
                      <a:pt x="6401" y="551"/>
                    </a:lnTo>
                    <a:lnTo>
                      <a:pt x="6368" y="490"/>
                    </a:lnTo>
                    <a:lnTo>
                      <a:pt x="6334" y="430"/>
                    </a:lnTo>
                    <a:lnTo>
                      <a:pt x="6298" y="369"/>
                    </a:lnTo>
                    <a:lnTo>
                      <a:pt x="6261" y="311"/>
                    </a:lnTo>
                    <a:lnTo>
                      <a:pt x="6223" y="252"/>
                    </a:lnTo>
                    <a:lnTo>
                      <a:pt x="6185" y="195"/>
                    </a:lnTo>
                    <a:lnTo>
                      <a:pt x="6145" y="139"/>
                    </a:lnTo>
                    <a:lnTo>
                      <a:pt x="6104" y="84"/>
                    </a:lnTo>
                    <a:lnTo>
                      <a:pt x="6061" y="29"/>
                    </a:lnTo>
                    <a:lnTo>
                      <a:pt x="6052" y="26"/>
                    </a:lnTo>
                    <a:lnTo>
                      <a:pt x="6042" y="21"/>
                    </a:lnTo>
                    <a:lnTo>
                      <a:pt x="6032" y="18"/>
                    </a:lnTo>
                    <a:lnTo>
                      <a:pt x="6023" y="15"/>
                    </a:lnTo>
                    <a:lnTo>
                      <a:pt x="6014" y="11"/>
                    </a:lnTo>
                    <a:lnTo>
                      <a:pt x="6004" y="7"/>
                    </a:lnTo>
                    <a:lnTo>
                      <a:pt x="5994" y="4"/>
                    </a:lnTo>
                    <a:lnTo>
                      <a:pt x="5985" y="0"/>
                    </a:lnTo>
                    <a:lnTo>
                      <a:pt x="6029" y="55"/>
                    </a:lnTo>
                    <a:lnTo>
                      <a:pt x="6072" y="111"/>
                    </a:lnTo>
                    <a:lnTo>
                      <a:pt x="6113" y="167"/>
                    </a:lnTo>
                    <a:lnTo>
                      <a:pt x="6154" y="224"/>
                    </a:lnTo>
                    <a:lnTo>
                      <a:pt x="6194" y="284"/>
                    </a:lnTo>
                    <a:lnTo>
                      <a:pt x="6232" y="342"/>
                    </a:lnTo>
                    <a:lnTo>
                      <a:pt x="6270" y="403"/>
                    </a:lnTo>
                    <a:lnTo>
                      <a:pt x="6306" y="464"/>
                    </a:lnTo>
                    <a:lnTo>
                      <a:pt x="6340" y="526"/>
                    </a:lnTo>
                    <a:lnTo>
                      <a:pt x="6374" y="588"/>
                    </a:lnTo>
                    <a:lnTo>
                      <a:pt x="6406" y="651"/>
                    </a:lnTo>
                    <a:lnTo>
                      <a:pt x="6436" y="716"/>
                    </a:lnTo>
                    <a:lnTo>
                      <a:pt x="6466" y="781"/>
                    </a:lnTo>
                    <a:lnTo>
                      <a:pt x="6494" y="846"/>
                    </a:lnTo>
                    <a:lnTo>
                      <a:pt x="6521" y="912"/>
                    </a:lnTo>
                    <a:lnTo>
                      <a:pt x="6547" y="979"/>
                    </a:lnTo>
                    <a:lnTo>
                      <a:pt x="6570" y="1047"/>
                    </a:lnTo>
                    <a:lnTo>
                      <a:pt x="6593" y="1115"/>
                    </a:lnTo>
                    <a:lnTo>
                      <a:pt x="6614" y="1185"/>
                    </a:lnTo>
                    <a:lnTo>
                      <a:pt x="6633" y="1254"/>
                    </a:lnTo>
                    <a:lnTo>
                      <a:pt x="6651" y="1324"/>
                    </a:lnTo>
                    <a:lnTo>
                      <a:pt x="6669" y="1395"/>
                    </a:lnTo>
                    <a:lnTo>
                      <a:pt x="6684" y="1466"/>
                    </a:lnTo>
                    <a:lnTo>
                      <a:pt x="6697" y="1539"/>
                    </a:lnTo>
                    <a:lnTo>
                      <a:pt x="6710" y="1611"/>
                    </a:lnTo>
                    <a:lnTo>
                      <a:pt x="6719" y="1683"/>
                    </a:lnTo>
                    <a:lnTo>
                      <a:pt x="6729" y="1757"/>
                    </a:lnTo>
                    <a:lnTo>
                      <a:pt x="6736" y="1831"/>
                    </a:lnTo>
                    <a:lnTo>
                      <a:pt x="6742" y="1906"/>
                    </a:lnTo>
                    <a:lnTo>
                      <a:pt x="6746" y="1980"/>
                    </a:lnTo>
                    <a:lnTo>
                      <a:pt x="6749" y="2056"/>
                    </a:lnTo>
                    <a:lnTo>
                      <a:pt x="6750" y="2132"/>
                    </a:lnTo>
                    <a:lnTo>
                      <a:pt x="6749" y="2188"/>
                    </a:lnTo>
                    <a:lnTo>
                      <a:pt x="6748" y="2244"/>
                    </a:lnTo>
                    <a:lnTo>
                      <a:pt x="6745" y="2300"/>
                    </a:lnTo>
                    <a:lnTo>
                      <a:pt x="6742" y="2355"/>
                    </a:lnTo>
                    <a:lnTo>
                      <a:pt x="6738" y="2411"/>
                    </a:lnTo>
                    <a:lnTo>
                      <a:pt x="6732" y="2466"/>
                    </a:lnTo>
                    <a:lnTo>
                      <a:pt x="6727" y="2522"/>
                    </a:lnTo>
                    <a:lnTo>
                      <a:pt x="6721" y="2576"/>
                    </a:lnTo>
                    <a:lnTo>
                      <a:pt x="6712" y="2631"/>
                    </a:lnTo>
                    <a:lnTo>
                      <a:pt x="6704" y="2685"/>
                    </a:lnTo>
                    <a:lnTo>
                      <a:pt x="6695" y="2739"/>
                    </a:lnTo>
                    <a:lnTo>
                      <a:pt x="6684" y="2792"/>
                    </a:lnTo>
                    <a:lnTo>
                      <a:pt x="6673" y="2846"/>
                    </a:lnTo>
                    <a:lnTo>
                      <a:pt x="6661" y="2898"/>
                    </a:lnTo>
                    <a:lnTo>
                      <a:pt x="6648" y="2950"/>
                    </a:lnTo>
                    <a:lnTo>
                      <a:pt x="6635" y="3003"/>
                    </a:lnTo>
                    <a:lnTo>
                      <a:pt x="6675" y="3014"/>
                    </a:lnTo>
                    <a:lnTo>
                      <a:pt x="6689" y="2961"/>
                    </a:lnTo>
                    <a:lnTo>
                      <a:pt x="6702" y="2907"/>
                    </a:lnTo>
                    <a:lnTo>
                      <a:pt x="6714" y="2854"/>
                    </a:lnTo>
                    <a:lnTo>
                      <a:pt x="6725" y="2800"/>
                    </a:lnTo>
                    <a:lnTo>
                      <a:pt x="6736" y="2746"/>
                    </a:lnTo>
                    <a:lnTo>
                      <a:pt x="6745" y="2691"/>
                    </a:lnTo>
                    <a:lnTo>
                      <a:pt x="6754" y="2637"/>
                    </a:lnTo>
                    <a:lnTo>
                      <a:pt x="6762" y="2582"/>
                    </a:lnTo>
                    <a:lnTo>
                      <a:pt x="6768" y="2526"/>
                    </a:lnTo>
                    <a:lnTo>
                      <a:pt x="6775" y="2471"/>
                    </a:lnTo>
                    <a:lnTo>
                      <a:pt x="6779" y="2415"/>
                    </a:lnTo>
                    <a:lnTo>
                      <a:pt x="6783" y="2358"/>
                    </a:lnTo>
                    <a:lnTo>
                      <a:pt x="6786" y="2302"/>
                    </a:lnTo>
                    <a:lnTo>
                      <a:pt x="6790" y="2245"/>
                    </a:lnTo>
                    <a:lnTo>
                      <a:pt x="6791" y="2189"/>
                    </a:lnTo>
                    <a:lnTo>
                      <a:pt x="6791" y="2132"/>
                    </a:lnTo>
                    <a:close/>
                    <a:moveTo>
                      <a:pt x="729" y="29"/>
                    </a:moveTo>
                    <a:lnTo>
                      <a:pt x="687" y="84"/>
                    </a:lnTo>
                    <a:lnTo>
                      <a:pt x="646" y="139"/>
                    </a:lnTo>
                    <a:lnTo>
                      <a:pt x="606" y="195"/>
                    </a:lnTo>
                    <a:lnTo>
                      <a:pt x="567" y="252"/>
                    </a:lnTo>
                    <a:lnTo>
                      <a:pt x="529" y="311"/>
                    </a:lnTo>
                    <a:lnTo>
                      <a:pt x="492" y="369"/>
                    </a:lnTo>
                    <a:lnTo>
                      <a:pt x="457" y="430"/>
                    </a:lnTo>
                    <a:lnTo>
                      <a:pt x="422" y="490"/>
                    </a:lnTo>
                    <a:lnTo>
                      <a:pt x="390" y="551"/>
                    </a:lnTo>
                    <a:lnTo>
                      <a:pt x="357" y="613"/>
                    </a:lnTo>
                    <a:lnTo>
                      <a:pt x="327" y="676"/>
                    </a:lnTo>
                    <a:lnTo>
                      <a:pt x="298" y="738"/>
                    </a:lnTo>
                    <a:lnTo>
                      <a:pt x="270" y="803"/>
                    </a:lnTo>
                    <a:lnTo>
                      <a:pt x="243" y="868"/>
                    </a:lnTo>
                    <a:lnTo>
                      <a:pt x="217" y="933"/>
                    </a:lnTo>
                    <a:lnTo>
                      <a:pt x="193" y="999"/>
                    </a:lnTo>
                    <a:lnTo>
                      <a:pt x="170" y="1066"/>
                    </a:lnTo>
                    <a:lnTo>
                      <a:pt x="149" y="1133"/>
                    </a:lnTo>
                    <a:lnTo>
                      <a:pt x="128" y="1201"/>
                    </a:lnTo>
                    <a:lnTo>
                      <a:pt x="110" y="1270"/>
                    </a:lnTo>
                    <a:lnTo>
                      <a:pt x="93" y="1339"/>
                    </a:lnTo>
                    <a:lnTo>
                      <a:pt x="76" y="1408"/>
                    </a:lnTo>
                    <a:lnTo>
                      <a:pt x="62" y="1478"/>
                    </a:lnTo>
                    <a:lnTo>
                      <a:pt x="49" y="1550"/>
                    </a:lnTo>
                    <a:lnTo>
                      <a:pt x="37" y="1621"/>
                    </a:lnTo>
                    <a:lnTo>
                      <a:pt x="28" y="1692"/>
                    </a:lnTo>
                    <a:lnTo>
                      <a:pt x="19" y="1764"/>
                    </a:lnTo>
                    <a:lnTo>
                      <a:pt x="11" y="1837"/>
                    </a:lnTo>
                    <a:lnTo>
                      <a:pt x="6" y="1910"/>
                    </a:lnTo>
                    <a:lnTo>
                      <a:pt x="3" y="1984"/>
                    </a:lnTo>
                    <a:lnTo>
                      <a:pt x="0" y="2057"/>
                    </a:lnTo>
                    <a:lnTo>
                      <a:pt x="0" y="2132"/>
                    </a:lnTo>
                    <a:lnTo>
                      <a:pt x="0" y="2206"/>
                    </a:lnTo>
                    <a:lnTo>
                      <a:pt x="3" y="2280"/>
                    </a:lnTo>
                    <a:lnTo>
                      <a:pt x="6" y="2353"/>
                    </a:lnTo>
                    <a:lnTo>
                      <a:pt x="11" y="2427"/>
                    </a:lnTo>
                    <a:lnTo>
                      <a:pt x="19" y="2499"/>
                    </a:lnTo>
                    <a:lnTo>
                      <a:pt x="28" y="2571"/>
                    </a:lnTo>
                    <a:lnTo>
                      <a:pt x="37" y="2643"/>
                    </a:lnTo>
                    <a:lnTo>
                      <a:pt x="49" y="2714"/>
                    </a:lnTo>
                    <a:lnTo>
                      <a:pt x="62" y="2784"/>
                    </a:lnTo>
                    <a:lnTo>
                      <a:pt x="76" y="2854"/>
                    </a:lnTo>
                    <a:lnTo>
                      <a:pt x="93" y="2924"/>
                    </a:lnTo>
                    <a:lnTo>
                      <a:pt x="110" y="2994"/>
                    </a:lnTo>
                    <a:lnTo>
                      <a:pt x="128" y="3062"/>
                    </a:lnTo>
                    <a:lnTo>
                      <a:pt x="149" y="3130"/>
                    </a:lnTo>
                    <a:lnTo>
                      <a:pt x="170" y="3197"/>
                    </a:lnTo>
                    <a:lnTo>
                      <a:pt x="193" y="3264"/>
                    </a:lnTo>
                    <a:lnTo>
                      <a:pt x="217" y="3329"/>
                    </a:lnTo>
                    <a:lnTo>
                      <a:pt x="243" y="3395"/>
                    </a:lnTo>
                    <a:lnTo>
                      <a:pt x="270" y="3460"/>
                    </a:lnTo>
                    <a:lnTo>
                      <a:pt x="298" y="3524"/>
                    </a:lnTo>
                    <a:lnTo>
                      <a:pt x="327" y="3588"/>
                    </a:lnTo>
                    <a:lnTo>
                      <a:pt x="357" y="3650"/>
                    </a:lnTo>
                    <a:lnTo>
                      <a:pt x="390" y="3712"/>
                    </a:lnTo>
                    <a:lnTo>
                      <a:pt x="422" y="3773"/>
                    </a:lnTo>
                    <a:lnTo>
                      <a:pt x="457" y="3834"/>
                    </a:lnTo>
                    <a:lnTo>
                      <a:pt x="492" y="3893"/>
                    </a:lnTo>
                    <a:lnTo>
                      <a:pt x="529" y="3953"/>
                    </a:lnTo>
                    <a:lnTo>
                      <a:pt x="567" y="4010"/>
                    </a:lnTo>
                    <a:lnTo>
                      <a:pt x="606" y="4067"/>
                    </a:lnTo>
                    <a:lnTo>
                      <a:pt x="646" y="4124"/>
                    </a:lnTo>
                    <a:lnTo>
                      <a:pt x="687" y="4179"/>
                    </a:lnTo>
                    <a:lnTo>
                      <a:pt x="729" y="4234"/>
                    </a:lnTo>
                    <a:lnTo>
                      <a:pt x="739" y="4238"/>
                    </a:lnTo>
                    <a:lnTo>
                      <a:pt x="748" y="4241"/>
                    </a:lnTo>
                    <a:lnTo>
                      <a:pt x="758" y="4245"/>
                    </a:lnTo>
                    <a:lnTo>
                      <a:pt x="768" y="4248"/>
                    </a:lnTo>
                    <a:lnTo>
                      <a:pt x="777" y="4252"/>
                    </a:lnTo>
                    <a:lnTo>
                      <a:pt x="786" y="4256"/>
                    </a:lnTo>
                    <a:lnTo>
                      <a:pt x="796" y="4259"/>
                    </a:lnTo>
                    <a:lnTo>
                      <a:pt x="806" y="4263"/>
                    </a:lnTo>
                    <a:lnTo>
                      <a:pt x="761" y="4207"/>
                    </a:lnTo>
                    <a:lnTo>
                      <a:pt x="718" y="4152"/>
                    </a:lnTo>
                    <a:lnTo>
                      <a:pt x="676" y="4095"/>
                    </a:lnTo>
                    <a:lnTo>
                      <a:pt x="636" y="4038"/>
                    </a:lnTo>
                    <a:lnTo>
                      <a:pt x="596" y="3980"/>
                    </a:lnTo>
                    <a:lnTo>
                      <a:pt x="558" y="3920"/>
                    </a:lnTo>
                    <a:lnTo>
                      <a:pt x="520" y="3860"/>
                    </a:lnTo>
                    <a:lnTo>
                      <a:pt x="485" y="3799"/>
                    </a:lnTo>
                    <a:lnTo>
                      <a:pt x="450" y="3738"/>
                    </a:lnTo>
                    <a:lnTo>
                      <a:pt x="417" y="3675"/>
                    </a:lnTo>
                    <a:lnTo>
                      <a:pt x="384" y="3611"/>
                    </a:lnTo>
                    <a:lnTo>
                      <a:pt x="354" y="3548"/>
                    </a:lnTo>
                    <a:lnTo>
                      <a:pt x="325" y="3483"/>
                    </a:lnTo>
                    <a:lnTo>
                      <a:pt x="297" y="3417"/>
                    </a:lnTo>
                    <a:lnTo>
                      <a:pt x="270" y="3350"/>
                    </a:lnTo>
                    <a:lnTo>
                      <a:pt x="244" y="3283"/>
                    </a:lnTo>
                    <a:lnTo>
                      <a:pt x="220" y="3216"/>
                    </a:lnTo>
                    <a:lnTo>
                      <a:pt x="197" y="3147"/>
                    </a:lnTo>
                    <a:lnTo>
                      <a:pt x="177" y="3079"/>
                    </a:lnTo>
                    <a:lnTo>
                      <a:pt x="157" y="3009"/>
                    </a:lnTo>
                    <a:lnTo>
                      <a:pt x="139" y="2938"/>
                    </a:lnTo>
                    <a:lnTo>
                      <a:pt x="122" y="2868"/>
                    </a:lnTo>
                    <a:lnTo>
                      <a:pt x="107" y="2796"/>
                    </a:lnTo>
                    <a:lnTo>
                      <a:pt x="94" y="2725"/>
                    </a:lnTo>
                    <a:lnTo>
                      <a:pt x="81" y="2652"/>
                    </a:lnTo>
                    <a:lnTo>
                      <a:pt x="71" y="2579"/>
                    </a:lnTo>
                    <a:lnTo>
                      <a:pt x="61" y="2505"/>
                    </a:lnTo>
                    <a:lnTo>
                      <a:pt x="54" y="2432"/>
                    </a:lnTo>
                    <a:lnTo>
                      <a:pt x="48" y="2357"/>
                    </a:lnTo>
                    <a:lnTo>
                      <a:pt x="44" y="2283"/>
                    </a:lnTo>
                    <a:lnTo>
                      <a:pt x="42" y="2207"/>
                    </a:lnTo>
                    <a:lnTo>
                      <a:pt x="41" y="2132"/>
                    </a:lnTo>
                    <a:lnTo>
                      <a:pt x="42" y="2056"/>
                    </a:lnTo>
                    <a:lnTo>
                      <a:pt x="44" y="1980"/>
                    </a:lnTo>
                    <a:lnTo>
                      <a:pt x="48" y="1906"/>
                    </a:lnTo>
                    <a:lnTo>
                      <a:pt x="54" y="1831"/>
                    </a:lnTo>
                    <a:lnTo>
                      <a:pt x="61" y="1757"/>
                    </a:lnTo>
                    <a:lnTo>
                      <a:pt x="71" y="1683"/>
                    </a:lnTo>
                    <a:lnTo>
                      <a:pt x="81" y="1611"/>
                    </a:lnTo>
                    <a:lnTo>
                      <a:pt x="94" y="1539"/>
                    </a:lnTo>
                    <a:lnTo>
                      <a:pt x="107" y="1466"/>
                    </a:lnTo>
                    <a:lnTo>
                      <a:pt x="122" y="1395"/>
                    </a:lnTo>
                    <a:lnTo>
                      <a:pt x="139" y="1324"/>
                    </a:lnTo>
                    <a:lnTo>
                      <a:pt x="157" y="1254"/>
                    </a:lnTo>
                    <a:lnTo>
                      <a:pt x="177" y="1185"/>
                    </a:lnTo>
                    <a:lnTo>
                      <a:pt x="197" y="1115"/>
                    </a:lnTo>
                    <a:lnTo>
                      <a:pt x="220" y="1047"/>
                    </a:lnTo>
                    <a:lnTo>
                      <a:pt x="244" y="979"/>
                    </a:lnTo>
                    <a:lnTo>
                      <a:pt x="270" y="912"/>
                    </a:lnTo>
                    <a:lnTo>
                      <a:pt x="297" y="846"/>
                    </a:lnTo>
                    <a:lnTo>
                      <a:pt x="325" y="781"/>
                    </a:lnTo>
                    <a:lnTo>
                      <a:pt x="354" y="716"/>
                    </a:lnTo>
                    <a:lnTo>
                      <a:pt x="384" y="651"/>
                    </a:lnTo>
                    <a:lnTo>
                      <a:pt x="417" y="588"/>
                    </a:lnTo>
                    <a:lnTo>
                      <a:pt x="450" y="526"/>
                    </a:lnTo>
                    <a:lnTo>
                      <a:pt x="485" y="464"/>
                    </a:lnTo>
                    <a:lnTo>
                      <a:pt x="520" y="403"/>
                    </a:lnTo>
                    <a:lnTo>
                      <a:pt x="558" y="342"/>
                    </a:lnTo>
                    <a:lnTo>
                      <a:pt x="596" y="284"/>
                    </a:lnTo>
                    <a:lnTo>
                      <a:pt x="636" y="224"/>
                    </a:lnTo>
                    <a:lnTo>
                      <a:pt x="676" y="167"/>
                    </a:lnTo>
                    <a:lnTo>
                      <a:pt x="718" y="111"/>
                    </a:lnTo>
                    <a:lnTo>
                      <a:pt x="761" y="55"/>
                    </a:lnTo>
                    <a:lnTo>
                      <a:pt x="806" y="0"/>
                    </a:lnTo>
                    <a:lnTo>
                      <a:pt x="796" y="4"/>
                    </a:lnTo>
                    <a:lnTo>
                      <a:pt x="786" y="7"/>
                    </a:lnTo>
                    <a:lnTo>
                      <a:pt x="777" y="11"/>
                    </a:lnTo>
                    <a:lnTo>
                      <a:pt x="768" y="15"/>
                    </a:lnTo>
                    <a:lnTo>
                      <a:pt x="758" y="18"/>
                    </a:lnTo>
                    <a:lnTo>
                      <a:pt x="748" y="21"/>
                    </a:lnTo>
                    <a:lnTo>
                      <a:pt x="739" y="26"/>
                    </a:lnTo>
                    <a:lnTo>
                      <a:pt x="729" y="29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35320" y="2146320"/>
                <a:ext cx="2678040" cy="1701720"/>
              </a:xfrm>
              <a:custGeom>
                <a:avLst/>
                <a:gdLst/>
                <a:ahLst/>
                <a:rect l="l" t="t" r="r" b="b"/>
                <a:pathLst>
                  <a:path w="6750" h="4291">
                    <a:moveTo>
                      <a:pt x="6750" y="2146"/>
                    </a:moveTo>
                    <a:lnTo>
                      <a:pt x="6749" y="2070"/>
                    </a:lnTo>
                    <a:lnTo>
                      <a:pt x="6747" y="1996"/>
                    </a:lnTo>
                    <a:lnTo>
                      <a:pt x="6743" y="1922"/>
                    </a:lnTo>
                    <a:lnTo>
                      <a:pt x="6737" y="1848"/>
                    </a:lnTo>
                    <a:lnTo>
                      <a:pt x="6730" y="1774"/>
                    </a:lnTo>
                    <a:lnTo>
                      <a:pt x="6721" y="1702"/>
                    </a:lnTo>
                    <a:lnTo>
                      <a:pt x="6711" y="1629"/>
                    </a:lnTo>
                    <a:lnTo>
                      <a:pt x="6699" y="1558"/>
                    </a:lnTo>
                    <a:lnTo>
                      <a:pt x="6685" y="1487"/>
                    </a:lnTo>
                    <a:lnTo>
                      <a:pt x="6671" y="1416"/>
                    </a:lnTo>
                    <a:lnTo>
                      <a:pt x="6655" y="1345"/>
                    </a:lnTo>
                    <a:lnTo>
                      <a:pt x="6637" y="1276"/>
                    </a:lnTo>
                    <a:lnTo>
                      <a:pt x="6617" y="1207"/>
                    </a:lnTo>
                    <a:lnTo>
                      <a:pt x="6597" y="1138"/>
                    </a:lnTo>
                    <a:lnTo>
                      <a:pt x="6575" y="1070"/>
                    </a:lnTo>
                    <a:lnTo>
                      <a:pt x="6551" y="1003"/>
                    </a:lnTo>
                    <a:lnTo>
                      <a:pt x="6527" y="937"/>
                    </a:lnTo>
                    <a:lnTo>
                      <a:pt x="6501" y="870"/>
                    </a:lnTo>
                    <a:lnTo>
                      <a:pt x="6474" y="805"/>
                    </a:lnTo>
                    <a:lnTo>
                      <a:pt x="6444" y="741"/>
                    </a:lnTo>
                    <a:lnTo>
                      <a:pt x="6414" y="677"/>
                    </a:lnTo>
                    <a:lnTo>
                      <a:pt x="6383" y="614"/>
                    </a:lnTo>
                    <a:lnTo>
                      <a:pt x="6350" y="552"/>
                    </a:lnTo>
                    <a:lnTo>
                      <a:pt x="6317" y="490"/>
                    </a:lnTo>
                    <a:lnTo>
                      <a:pt x="6281" y="430"/>
                    </a:lnTo>
                    <a:lnTo>
                      <a:pt x="6246" y="370"/>
                    </a:lnTo>
                    <a:lnTo>
                      <a:pt x="6208" y="311"/>
                    </a:lnTo>
                    <a:lnTo>
                      <a:pt x="6169" y="252"/>
                    </a:lnTo>
                    <a:lnTo>
                      <a:pt x="6129" y="195"/>
                    </a:lnTo>
                    <a:lnTo>
                      <a:pt x="6088" y="139"/>
                    </a:lnTo>
                    <a:lnTo>
                      <a:pt x="6046" y="83"/>
                    </a:lnTo>
                    <a:lnTo>
                      <a:pt x="6003" y="28"/>
                    </a:lnTo>
                    <a:lnTo>
                      <a:pt x="5993" y="25"/>
                    </a:lnTo>
                    <a:lnTo>
                      <a:pt x="5983" y="21"/>
                    </a:lnTo>
                    <a:lnTo>
                      <a:pt x="5973" y="17"/>
                    </a:lnTo>
                    <a:lnTo>
                      <a:pt x="5964" y="14"/>
                    </a:lnTo>
                    <a:lnTo>
                      <a:pt x="5954" y="11"/>
                    </a:lnTo>
                    <a:lnTo>
                      <a:pt x="5945" y="7"/>
                    </a:lnTo>
                    <a:lnTo>
                      <a:pt x="5936" y="3"/>
                    </a:lnTo>
                    <a:lnTo>
                      <a:pt x="5926" y="0"/>
                    </a:lnTo>
                    <a:lnTo>
                      <a:pt x="5970" y="55"/>
                    </a:lnTo>
                    <a:lnTo>
                      <a:pt x="6014" y="111"/>
                    </a:lnTo>
                    <a:lnTo>
                      <a:pt x="6058" y="167"/>
                    </a:lnTo>
                    <a:lnTo>
                      <a:pt x="6100" y="225"/>
                    </a:lnTo>
                    <a:lnTo>
                      <a:pt x="6140" y="284"/>
                    </a:lnTo>
                    <a:lnTo>
                      <a:pt x="6179" y="343"/>
                    </a:lnTo>
                    <a:lnTo>
                      <a:pt x="6218" y="404"/>
                    </a:lnTo>
                    <a:lnTo>
                      <a:pt x="6254" y="465"/>
                    </a:lnTo>
                    <a:lnTo>
                      <a:pt x="6289" y="527"/>
                    </a:lnTo>
                    <a:lnTo>
                      <a:pt x="6323" y="589"/>
                    </a:lnTo>
                    <a:lnTo>
                      <a:pt x="6356" y="653"/>
                    </a:lnTo>
                    <a:lnTo>
                      <a:pt x="6388" y="718"/>
                    </a:lnTo>
                    <a:lnTo>
                      <a:pt x="6419" y="784"/>
                    </a:lnTo>
                    <a:lnTo>
                      <a:pt x="6447" y="850"/>
                    </a:lnTo>
                    <a:lnTo>
                      <a:pt x="6475" y="917"/>
                    </a:lnTo>
                    <a:lnTo>
                      <a:pt x="6501" y="984"/>
                    </a:lnTo>
                    <a:lnTo>
                      <a:pt x="6524" y="1052"/>
                    </a:lnTo>
                    <a:lnTo>
                      <a:pt x="6548" y="1121"/>
                    </a:lnTo>
                    <a:lnTo>
                      <a:pt x="6570" y="1190"/>
                    </a:lnTo>
                    <a:lnTo>
                      <a:pt x="6589" y="1260"/>
                    </a:lnTo>
                    <a:lnTo>
                      <a:pt x="6609" y="1331"/>
                    </a:lnTo>
                    <a:lnTo>
                      <a:pt x="6625" y="1403"/>
                    </a:lnTo>
                    <a:lnTo>
                      <a:pt x="6641" y="1474"/>
                    </a:lnTo>
                    <a:lnTo>
                      <a:pt x="6655" y="1547"/>
                    </a:lnTo>
                    <a:lnTo>
                      <a:pt x="6667" y="1620"/>
                    </a:lnTo>
                    <a:lnTo>
                      <a:pt x="6678" y="1693"/>
                    </a:lnTo>
                    <a:lnTo>
                      <a:pt x="6688" y="1768"/>
                    </a:lnTo>
                    <a:lnTo>
                      <a:pt x="6695" y="1842"/>
                    </a:lnTo>
                    <a:lnTo>
                      <a:pt x="6701" y="1918"/>
                    </a:lnTo>
                    <a:lnTo>
                      <a:pt x="6705" y="1993"/>
                    </a:lnTo>
                    <a:lnTo>
                      <a:pt x="6708" y="2069"/>
                    </a:lnTo>
                    <a:lnTo>
                      <a:pt x="6709" y="2146"/>
                    </a:lnTo>
                    <a:lnTo>
                      <a:pt x="6708" y="2202"/>
                    </a:lnTo>
                    <a:lnTo>
                      <a:pt x="6707" y="2257"/>
                    </a:lnTo>
                    <a:lnTo>
                      <a:pt x="6705" y="2313"/>
                    </a:lnTo>
                    <a:lnTo>
                      <a:pt x="6702" y="2368"/>
                    </a:lnTo>
                    <a:lnTo>
                      <a:pt x="6697" y="2423"/>
                    </a:lnTo>
                    <a:lnTo>
                      <a:pt x="6692" y="2478"/>
                    </a:lnTo>
                    <a:lnTo>
                      <a:pt x="6686" y="2533"/>
                    </a:lnTo>
                    <a:lnTo>
                      <a:pt x="6679" y="2587"/>
                    </a:lnTo>
                    <a:lnTo>
                      <a:pt x="6671" y="2641"/>
                    </a:lnTo>
                    <a:lnTo>
                      <a:pt x="6664" y="2695"/>
                    </a:lnTo>
                    <a:lnTo>
                      <a:pt x="6654" y="2748"/>
                    </a:lnTo>
                    <a:lnTo>
                      <a:pt x="6643" y="2802"/>
                    </a:lnTo>
                    <a:lnTo>
                      <a:pt x="6632" y="2855"/>
                    </a:lnTo>
                    <a:lnTo>
                      <a:pt x="6621" y="2907"/>
                    </a:lnTo>
                    <a:lnTo>
                      <a:pt x="6608" y="2960"/>
                    </a:lnTo>
                    <a:lnTo>
                      <a:pt x="6595" y="3012"/>
                    </a:lnTo>
                    <a:lnTo>
                      <a:pt x="6635" y="3023"/>
                    </a:lnTo>
                    <a:lnTo>
                      <a:pt x="6649" y="2970"/>
                    </a:lnTo>
                    <a:lnTo>
                      <a:pt x="6662" y="2917"/>
                    </a:lnTo>
                    <a:lnTo>
                      <a:pt x="6674" y="2864"/>
                    </a:lnTo>
                    <a:lnTo>
                      <a:pt x="6684" y="2810"/>
                    </a:lnTo>
                    <a:lnTo>
                      <a:pt x="6695" y="2756"/>
                    </a:lnTo>
                    <a:lnTo>
                      <a:pt x="6705" y="2702"/>
                    </a:lnTo>
                    <a:lnTo>
                      <a:pt x="6714" y="2648"/>
                    </a:lnTo>
                    <a:lnTo>
                      <a:pt x="6721" y="2593"/>
                    </a:lnTo>
                    <a:lnTo>
                      <a:pt x="6728" y="2538"/>
                    </a:lnTo>
                    <a:lnTo>
                      <a:pt x="6734" y="2483"/>
                    </a:lnTo>
                    <a:lnTo>
                      <a:pt x="6738" y="2426"/>
                    </a:lnTo>
                    <a:lnTo>
                      <a:pt x="6743" y="2371"/>
                    </a:lnTo>
                    <a:lnTo>
                      <a:pt x="6746" y="2315"/>
                    </a:lnTo>
                    <a:lnTo>
                      <a:pt x="6748" y="2259"/>
                    </a:lnTo>
                    <a:lnTo>
                      <a:pt x="6750" y="2202"/>
                    </a:lnTo>
                    <a:lnTo>
                      <a:pt x="6750" y="2146"/>
                    </a:lnTo>
                    <a:close/>
                    <a:moveTo>
                      <a:pt x="748" y="28"/>
                    </a:moveTo>
                    <a:lnTo>
                      <a:pt x="705" y="83"/>
                    </a:lnTo>
                    <a:lnTo>
                      <a:pt x="662" y="139"/>
                    </a:lnTo>
                    <a:lnTo>
                      <a:pt x="621" y="195"/>
                    </a:lnTo>
                    <a:lnTo>
                      <a:pt x="581" y="252"/>
                    </a:lnTo>
                    <a:lnTo>
                      <a:pt x="543" y="311"/>
                    </a:lnTo>
                    <a:lnTo>
                      <a:pt x="505" y="370"/>
                    </a:lnTo>
                    <a:lnTo>
                      <a:pt x="469" y="430"/>
                    </a:lnTo>
                    <a:lnTo>
                      <a:pt x="433" y="490"/>
                    </a:lnTo>
                    <a:lnTo>
                      <a:pt x="400" y="552"/>
                    </a:lnTo>
                    <a:lnTo>
                      <a:pt x="368" y="614"/>
                    </a:lnTo>
                    <a:lnTo>
                      <a:pt x="336" y="677"/>
                    </a:lnTo>
                    <a:lnTo>
                      <a:pt x="306" y="741"/>
                    </a:lnTo>
                    <a:lnTo>
                      <a:pt x="277" y="805"/>
                    </a:lnTo>
                    <a:lnTo>
                      <a:pt x="250" y="870"/>
                    </a:lnTo>
                    <a:lnTo>
                      <a:pt x="224" y="937"/>
                    </a:lnTo>
                    <a:lnTo>
                      <a:pt x="199" y="1003"/>
                    </a:lnTo>
                    <a:lnTo>
                      <a:pt x="175" y="1070"/>
                    </a:lnTo>
                    <a:lnTo>
                      <a:pt x="154" y="1138"/>
                    </a:lnTo>
                    <a:lnTo>
                      <a:pt x="133" y="1207"/>
                    </a:lnTo>
                    <a:lnTo>
                      <a:pt x="114" y="1276"/>
                    </a:lnTo>
                    <a:lnTo>
                      <a:pt x="95" y="1345"/>
                    </a:lnTo>
                    <a:lnTo>
                      <a:pt x="79" y="1416"/>
                    </a:lnTo>
                    <a:lnTo>
                      <a:pt x="65" y="1487"/>
                    </a:lnTo>
                    <a:lnTo>
                      <a:pt x="51" y="1558"/>
                    </a:lnTo>
                    <a:lnTo>
                      <a:pt x="39" y="1629"/>
                    </a:lnTo>
                    <a:lnTo>
                      <a:pt x="29" y="1702"/>
                    </a:lnTo>
                    <a:lnTo>
                      <a:pt x="21" y="1774"/>
                    </a:lnTo>
                    <a:lnTo>
                      <a:pt x="13" y="1848"/>
                    </a:lnTo>
                    <a:lnTo>
                      <a:pt x="8" y="1922"/>
                    </a:lnTo>
                    <a:lnTo>
                      <a:pt x="3" y="1996"/>
                    </a:lnTo>
                    <a:lnTo>
                      <a:pt x="1" y="2070"/>
                    </a:lnTo>
                    <a:lnTo>
                      <a:pt x="0" y="2146"/>
                    </a:lnTo>
                    <a:lnTo>
                      <a:pt x="1" y="2220"/>
                    </a:lnTo>
                    <a:lnTo>
                      <a:pt x="3" y="2295"/>
                    </a:lnTo>
                    <a:lnTo>
                      <a:pt x="8" y="2369"/>
                    </a:lnTo>
                    <a:lnTo>
                      <a:pt x="13" y="2443"/>
                    </a:lnTo>
                    <a:lnTo>
                      <a:pt x="21" y="2516"/>
                    </a:lnTo>
                    <a:lnTo>
                      <a:pt x="29" y="2588"/>
                    </a:lnTo>
                    <a:lnTo>
                      <a:pt x="39" y="2661"/>
                    </a:lnTo>
                    <a:lnTo>
                      <a:pt x="51" y="2733"/>
                    </a:lnTo>
                    <a:lnTo>
                      <a:pt x="65" y="2804"/>
                    </a:lnTo>
                    <a:lnTo>
                      <a:pt x="79" y="2875"/>
                    </a:lnTo>
                    <a:lnTo>
                      <a:pt x="95" y="2946"/>
                    </a:lnTo>
                    <a:lnTo>
                      <a:pt x="114" y="3015"/>
                    </a:lnTo>
                    <a:lnTo>
                      <a:pt x="133" y="3084"/>
                    </a:lnTo>
                    <a:lnTo>
                      <a:pt x="154" y="3152"/>
                    </a:lnTo>
                    <a:lnTo>
                      <a:pt x="175" y="3220"/>
                    </a:lnTo>
                    <a:lnTo>
                      <a:pt x="199" y="3287"/>
                    </a:lnTo>
                    <a:lnTo>
                      <a:pt x="224" y="3354"/>
                    </a:lnTo>
                    <a:lnTo>
                      <a:pt x="250" y="3420"/>
                    </a:lnTo>
                    <a:lnTo>
                      <a:pt x="277" y="3485"/>
                    </a:lnTo>
                    <a:lnTo>
                      <a:pt x="306" y="3550"/>
                    </a:lnTo>
                    <a:lnTo>
                      <a:pt x="336" y="3613"/>
                    </a:lnTo>
                    <a:lnTo>
                      <a:pt x="368" y="3677"/>
                    </a:lnTo>
                    <a:lnTo>
                      <a:pt x="400" y="3739"/>
                    </a:lnTo>
                    <a:lnTo>
                      <a:pt x="433" y="3800"/>
                    </a:lnTo>
                    <a:lnTo>
                      <a:pt x="469" y="3861"/>
                    </a:lnTo>
                    <a:lnTo>
                      <a:pt x="505" y="3921"/>
                    </a:lnTo>
                    <a:lnTo>
                      <a:pt x="543" y="3981"/>
                    </a:lnTo>
                    <a:lnTo>
                      <a:pt x="581" y="4038"/>
                    </a:lnTo>
                    <a:lnTo>
                      <a:pt x="621" y="4096"/>
                    </a:lnTo>
                    <a:lnTo>
                      <a:pt x="662" y="4152"/>
                    </a:lnTo>
                    <a:lnTo>
                      <a:pt x="705" y="4207"/>
                    </a:lnTo>
                    <a:lnTo>
                      <a:pt x="748" y="4262"/>
                    </a:lnTo>
                    <a:lnTo>
                      <a:pt x="758" y="4266"/>
                    </a:lnTo>
                    <a:lnTo>
                      <a:pt x="767" y="4270"/>
                    </a:lnTo>
                    <a:lnTo>
                      <a:pt x="777" y="4273"/>
                    </a:lnTo>
                    <a:lnTo>
                      <a:pt x="787" y="4277"/>
                    </a:lnTo>
                    <a:lnTo>
                      <a:pt x="795" y="4281"/>
                    </a:lnTo>
                    <a:lnTo>
                      <a:pt x="805" y="4284"/>
                    </a:lnTo>
                    <a:lnTo>
                      <a:pt x="815" y="4287"/>
                    </a:lnTo>
                    <a:lnTo>
                      <a:pt x="825" y="4291"/>
                    </a:lnTo>
                    <a:lnTo>
                      <a:pt x="780" y="4235"/>
                    </a:lnTo>
                    <a:lnTo>
                      <a:pt x="736" y="4180"/>
                    </a:lnTo>
                    <a:lnTo>
                      <a:pt x="693" y="4123"/>
                    </a:lnTo>
                    <a:lnTo>
                      <a:pt x="651" y="4066"/>
                    </a:lnTo>
                    <a:lnTo>
                      <a:pt x="611" y="4008"/>
                    </a:lnTo>
                    <a:lnTo>
                      <a:pt x="572" y="3947"/>
                    </a:lnTo>
                    <a:lnTo>
                      <a:pt x="533" y="3888"/>
                    </a:lnTo>
                    <a:lnTo>
                      <a:pt x="496" y="3826"/>
                    </a:lnTo>
                    <a:lnTo>
                      <a:pt x="460" y="3764"/>
                    </a:lnTo>
                    <a:lnTo>
                      <a:pt x="427" y="3701"/>
                    </a:lnTo>
                    <a:lnTo>
                      <a:pt x="393" y="3637"/>
                    </a:lnTo>
                    <a:lnTo>
                      <a:pt x="362" y="3572"/>
                    </a:lnTo>
                    <a:lnTo>
                      <a:pt x="332" y="3508"/>
                    </a:lnTo>
                    <a:lnTo>
                      <a:pt x="304" y="3442"/>
                    </a:lnTo>
                    <a:lnTo>
                      <a:pt x="276" y="3375"/>
                    </a:lnTo>
                    <a:lnTo>
                      <a:pt x="250" y="3308"/>
                    </a:lnTo>
                    <a:lnTo>
                      <a:pt x="226" y="3239"/>
                    </a:lnTo>
                    <a:lnTo>
                      <a:pt x="202" y="3171"/>
                    </a:lnTo>
                    <a:lnTo>
                      <a:pt x="181" y="3100"/>
                    </a:lnTo>
                    <a:lnTo>
                      <a:pt x="161" y="3030"/>
                    </a:lnTo>
                    <a:lnTo>
                      <a:pt x="142" y="2960"/>
                    </a:lnTo>
                    <a:lnTo>
                      <a:pt x="124" y="2889"/>
                    </a:lnTo>
                    <a:lnTo>
                      <a:pt x="109" y="2816"/>
                    </a:lnTo>
                    <a:lnTo>
                      <a:pt x="95" y="2744"/>
                    </a:lnTo>
                    <a:lnTo>
                      <a:pt x="83" y="2671"/>
                    </a:lnTo>
                    <a:lnTo>
                      <a:pt x="73" y="2597"/>
                    </a:lnTo>
                    <a:lnTo>
                      <a:pt x="63" y="2523"/>
                    </a:lnTo>
                    <a:lnTo>
                      <a:pt x="55" y="2448"/>
                    </a:lnTo>
                    <a:lnTo>
                      <a:pt x="50" y="2374"/>
                    </a:lnTo>
                    <a:lnTo>
                      <a:pt x="46" y="2298"/>
                    </a:lnTo>
                    <a:lnTo>
                      <a:pt x="42" y="2222"/>
                    </a:lnTo>
                    <a:lnTo>
                      <a:pt x="41" y="2146"/>
                    </a:lnTo>
                    <a:lnTo>
                      <a:pt x="42" y="2069"/>
                    </a:lnTo>
                    <a:lnTo>
                      <a:pt x="46" y="1993"/>
                    </a:lnTo>
                    <a:lnTo>
                      <a:pt x="50" y="1918"/>
                    </a:lnTo>
                    <a:lnTo>
                      <a:pt x="55" y="1842"/>
                    </a:lnTo>
                    <a:lnTo>
                      <a:pt x="63" y="1768"/>
                    </a:lnTo>
                    <a:lnTo>
                      <a:pt x="73" y="1693"/>
                    </a:lnTo>
                    <a:lnTo>
                      <a:pt x="83" y="1620"/>
                    </a:lnTo>
                    <a:lnTo>
                      <a:pt x="95" y="1547"/>
                    </a:lnTo>
                    <a:lnTo>
                      <a:pt x="109" y="1474"/>
                    </a:lnTo>
                    <a:lnTo>
                      <a:pt x="124" y="1403"/>
                    </a:lnTo>
                    <a:lnTo>
                      <a:pt x="142" y="1331"/>
                    </a:lnTo>
                    <a:lnTo>
                      <a:pt x="161" y="1260"/>
                    </a:lnTo>
                    <a:lnTo>
                      <a:pt x="181" y="1190"/>
                    </a:lnTo>
                    <a:lnTo>
                      <a:pt x="202" y="1121"/>
                    </a:lnTo>
                    <a:lnTo>
                      <a:pt x="226" y="1052"/>
                    </a:lnTo>
                    <a:lnTo>
                      <a:pt x="250" y="984"/>
                    </a:lnTo>
                    <a:lnTo>
                      <a:pt x="276" y="917"/>
                    </a:lnTo>
                    <a:lnTo>
                      <a:pt x="304" y="850"/>
                    </a:lnTo>
                    <a:lnTo>
                      <a:pt x="332" y="784"/>
                    </a:lnTo>
                    <a:lnTo>
                      <a:pt x="362" y="718"/>
                    </a:lnTo>
                    <a:lnTo>
                      <a:pt x="393" y="653"/>
                    </a:lnTo>
                    <a:lnTo>
                      <a:pt x="427" y="589"/>
                    </a:lnTo>
                    <a:lnTo>
                      <a:pt x="460" y="527"/>
                    </a:lnTo>
                    <a:lnTo>
                      <a:pt x="496" y="465"/>
                    </a:lnTo>
                    <a:lnTo>
                      <a:pt x="533" y="404"/>
                    </a:lnTo>
                    <a:lnTo>
                      <a:pt x="572" y="343"/>
                    </a:lnTo>
                    <a:lnTo>
                      <a:pt x="611" y="284"/>
                    </a:lnTo>
                    <a:lnTo>
                      <a:pt x="651" y="225"/>
                    </a:lnTo>
                    <a:lnTo>
                      <a:pt x="693" y="167"/>
                    </a:lnTo>
                    <a:lnTo>
                      <a:pt x="736" y="111"/>
                    </a:lnTo>
                    <a:lnTo>
                      <a:pt x="780" y="55"/>
                    </a:lnTo>
                    <a:lnTo>
                      <a:pt x="825" y="0"/>
                    </a:lnTo>
                    <a:lnTo>
                      <a:pt x="815" y="3"/>
                    </a:lnTo>
                    <a:lnTo>
                      <a:pt x="805" y="7"/>
                    </a:lnTo>
                    <a:lnTo>
                      <a:pt x="795" y="11"/>
                    </a:lnTo>
                    <a:lnTo>
                      <a:pt x="787" y="14"/>
                    </a:lnTo>
                    <a:lnTo>
                      <a:pt x="777" y="17"/>
                    </a:lnTo>
                    <a:lnTo>
                      <a:pt x="767" y="21"/>
                    </a:lnTo>
                    <a:lnTo>
                      <a:pt x="758" y="25"/>
                    </a:lnTo>
                    <a:lnTo>
                      <a:pt x="748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43240" y="2139840"/>
                <a:ext cx="2662200" cy="1714680"/>
              </a:xfrm>
              <a:custGeom>
                <a:avLst/>
                <a:gdLst/>
                <a:ahLst/>
                <a:rect l="l" t="t" r="r" b="b"/>
                <a:pathLst>
                  <a:path w="6709" h="4319">
                    <a:moveTo>
                      <a:pt x="6709" y="2160"/>
                    </a:moveTo>
                    <a:lnTo>
                      <a:pt x="6708" y="2084"/>
                    </a:lnTo>
                    <a:lnTo>
                      <a:pt x="6705" y="2008"/>
                    </a:lnTo>
                    <a:lnTo>
                      <a:pt x="6701" y="1934"/>
                    </a:lnTo>
                    <a:lnTo>
                      <a:pt x="6695" y="1859"/>
                    </a:lnTo>
                    <a:lnTo>
                      <a:pt x="6688" y="1785"/>
                    </a:lnTo>
                    <a:lnTo>
                      <a:pt x="6678" y="1711"/>
                    </a:lnTo>
                    <a:lnTo>
                      <a:pt x="6669" y="1639"/>
                    </a:lnTo>
                    <a:lnTo>
                      <a:pt x="6656" y="1567"/>
                    </a:lnTo>
                    <a:lnTo>
                      <a:pt x="6643" y="1494"/>
                    </a:lnTo>
                    <a:lnTo>
                      <a:pt x="6628" y="1423"/>
                    </a:lnTo>
                    <a:lnTo>
                      <a:pt x="6610" y="1352"/>
                    </a:lnTo>
                    <a:lnTo>
                      <a:pt x="6592" y="1282"/>
                    </a:lnTo>
                    <a:lnTo>
                      <a:pt x="6573" y="1213"/>
                    </a:lnTo>
                    <a:lnTo>
                      <a:pt x="6552" y="1143"/>
                    </a:lnTo>
                    <a:lnTo>
                      <a:pt x="6529" y="1075"/>
                    </a:lnTo>
                    <a:lnTo>
                      <a:pt x="6506" y="1007"/>
                    </a:lnTo>
                    <a:lnTo>
                      <a:pt x="6480" y="940"/>
                    </a:lnTo>
                    <a:lnTo>
                      <a:pt x="6453" y="874"/>
                    </a:lnTo>
                    <a:lnTo>
                      <a:pt x="6425" y="809"/>
                    </a:lnTo>
                    <a:lnTo>
                      <a:pt x="6395" y="744"/>
                    </a:lnTo>
                    <a:lnTo>
                      <a:pt x="6365" y="679"/>
                    </a:lnTo>
                    <a:lnTo>
                      <a:pt x="6333" y="616"/>
                    </a:lnTo>
                    <a:lnTo>
                      <a:pt x="6299" y="554"/>
                    </a:lnTo>
                    <a:lnTo>
                      <a:pt x="6265" y="492"/>
                    </a:lnTo>
                    <a:lnTo>
                      <a:pt x="6229" y="431"/>
                    </a:lnTo>
                    <a:lnTo>
                      <a:pt x="6191" y="370"/>
                    </a:lnTo>
                    <a:lnTo>
                      <a:pt x="6153" y="312"/>
                    </a:lnTo>
                    <a:lnTo>
                      <a:pt x="6113" y="252"/>
                    </a:lnTo>
                    <a:lnTo>
                      <a:pt x="6072" y="195"/>
                    </a:lnTo>
                    <a:lnTo>
                      <a:pt x="6031" y="139"/>
                    </a:lnTo>
                    <a:lnTo>
                      <a:pt x="5988" y="83"/>
                    </a:lnTo>
                    <a:lnTo>
                      <a:pt x="5944" y="28"/>
                    </a:lnTo>
                    <a:lnTo>
                      <a:pt x="5934" y="25"/>
                    </a:lnTo>
                    <a:lnTo>
                      <a:pt x="5924" y="21"/>
                    </a:lnTo>
                    <a:lnTo>
                      <a:pt x="5915" y="17"/>
                    </a:lnTo>
                    <a:lnTo>
                      <a:pt x="5905" y="14"/>
                    </a:lnTo>
                    <a:lnTo>
                      <a:pt x="5895" y="10"/>
                    </a:lnTo>
                    <a:lnTo>
                      <a:pt x="5885" y="7"/>
                    </a:lnTo>
                    <a:lnTo>
                      <a:pt x="5875" y="4"/>
                    </a:lnTo>
                    <a:lnTo>
                      <a:pt x="5865" y="0"/>
                    </a:lnTo>
                    <a:lnTo>
                      <a:pt x="5911" y="55"/>
                    </a:lnTo>
                    <a:lnTo>
                      <a:pt x="5957" y="111"/>
                    </a:lnTo>
                    <a:lnTo>
                      <a:pt x="6000" y="167"/>
                    </a:lnTo>
                    <a:lnTo>
                      <a:pt x="6043" y="225"/>
                    </a:lnTo>
                    <a:lnTo>
                      <a:pt x="6084" y="284"/>
                    </a:lnTo>
                    <a:lnTo>
                      <a:pt x="6124" y="344"/>
                    </a:lnTo>
                    <a:lnTo>
                      <a:pt x="6163" y="405"/>
                    </a:lnTo>
                    <a:lnTo>
                      <a:pt x="6201" y="466"/>
                    </a:lnTo>
                    <a:lnTo>
                      <a:pt x="6238" y="529"/>
                    </a:lnTo>
                    <a:lnTo>
                      <a:pt x="6272" y="592"/>
                    </a:lnTo>
                    <a:lnTo>
                      <a:pt x="6306" y="655"/>
                    </a:lnTo>
                    <a:lnTo>
                      <a:pt x="6338" y="720"/>
                    </a:lnTo>
                    <a:lnTo>
                      <a:pt x="6369" y="786"/>
                    </a:lnTo>
                    <a:lnTo>
                      <a:pt x="6399" y="853"/>
                    </a:lnTo>
                    <a:lnTo>
                      <a:pt x="6427" y="920"/>
                    </a:lnTo>
                    <a:lnTo>
                      <a:pt x="6454" y="988"/>
                    </a:lnTo>
                    <a:lnTo>
                      <a:pt x="6479" y="1056"/>
                    </a:lnTo>
                    <a:lnTo>
                      <a:pt x="6502" y="1126"/>
                    </a:lnTo>
                    <a:lnTo>
                      <a:pt x="6524" y="1195"/>
                    </a:lnTo>
                    <a:lnTo>
                      <a:pt x="6544" y="1267"/>
                    </a:lnTo>
                    <a:lnTo>
                      <a:pt x="6564" y="1338"/>
                    </a:lnTo>
                    <a:lnTo>
                      <a:pt x="6581" y="1410"/>
                    </a:lnTo>
                    <a:lnTo>
                      <a:pt x="6597" y="1483"/>
                    </a:lnTo>
                    <a:lnTo>
                      <a:pt x="6611" y="1556"/>
                    </a:lnTo>
                    <a:lnTo>
                      <a:pt x="6624" y="1629"/>
                    </a:lnTo>
                    <a:lnTo>
                      <a:pt x="6635" y="1704"/>
                    </a:lnTo>
                    <a:lnTo>
                      <a:pt x="6645" y="1778"/>
                    </a:lnTo>
                    <a:lnTo>
                      <a:pt x="6653" y="1854"/>
                    </a:lnTo>
                    <a:lnTo>
                      <a:pt x="6659" y="1930"/>
                    </a:lnTo>
                    <a:lnTo>
                      <a:pt x="6663" y="2005"/>
                    </a:lnTo>
                    <a:lnTo>
                      <a:pt x="6665" y="2082"/>
                    </a:lnTo>
                    <a:lnTo>
                      <a:pt x="6667" y="2160"/>
                    </a:lnTo>
                    <a:lnTo>
                      <a:pt x="6667" y="2215"/>
                    </a:lnTo>
                    <a:lnTo>
                      <a:pt x="6665" y="2271"/>
                    </a:lnTo>
                    <a:lnTo>
                      <a:pt x="6662" y="2326"/>
                    </a:lnTo>
                    <a:lnTo>
                      <a:pt x="6659" y="2381"/>
                    </a:lnTo>
                    <a:lnTo>
                      <a:pt x="6656" y="2436"/>
                    </a:lnTo>
                    <a:lnTo>
                      <a:pt x="6650" y="2490"/>
                    </a:lnTo>
                    <a:lnTo>
                      <a:pt x="6645" y="2544"/>
                    </a:lnTo>
                    <a:lnTo>
                      <a:pt x="6637" y="2598"/>
                    </a:lnTo>
                    <a:lnTo>
                      <a:pt x="6630" y="2652"/>
                    </a:lnTo>
                    <a:lnTo>
                      <a:pt x="6622" y="2706"/>
                    </a:lnTo>
                    <a:lnTo>
                      <a:pt x="6613" y="2759"/>
                    </a:lnTo>
                    <a:lnTo>
                      <a:pt x="6603" y="2812"/>
                    </a:lnTo>
                    <a:lnTo>
                      <a:pt x="6591" y="2864"/>
                    </a:lnTo>
                    <a:lnTo>
                      <a:pt x="6579" y="2917"/>
                    </a:lnTo>
                    <a:lnTo>
                      <a:pt x="6567" y="2969"/>
                    </a:lnTo>
                    <a:lnTo>
                      <a:pt x="6553" y="3020"/>
                    </a:lnTo>
                    <a:lnTo>
                      <a:pt x="6594" y="3031"/>
                    </a:lnTo>
                    <a:lnTo>
                      <a:pt x="6607" y="2978"/>
                    </a:lnTo>
                    <a:lnTo>
                      <a:pt x="6620" y="2926"/>
                    </a:lnTo>
                    <a:lnTo>
                      <a:pt x="6632" y="2874"/>
                    </a:lnTo>
                    <a:lnTo>
                      <a:pt x="6643" y="2820"/>
                    </a:lnTo>
                    <a:lnTo>
                      <a:pt x="6654" y="2767"/>
                    </a:lnTo>
                    <a:lnTo>
                      <a:pt x="6663" y="2713"/>
                    </a:lnTo>
                    <a:lnTo>
                      <a:pt x="6671" y="2659"/>
                    </a:lnTo>
                    <a:lnTo>
                      <a:pt x="6680" y="2604"/>
                    </a:lnTo>
                    <a:lnTo>
                      <a:pt x="6686" y="2550"/>
                    </a:lnTo>
                    <a:lnTo>
                      <a:pt x="6691" y="2494"/>
                    </a:lnTo>
                    <a:lnTo>
                      <a:pt x="6697" y="2439"/>
                    </a:lnTo>
                    <a:lnTo>
                      <a:pt x="6701" y="2383"/>
                    </a:lnTo>
                    <a:lnTo>
                      <a:pt x="6704" y="2328"/>
                    </a:lnTo>
                    <a:lnTo>
                      <a:pt x="6707" y="2272"/>
                    </a:lnTo>
                    <a:lnTo>
                      <a:pt x="6708" y="2216"/>
                    </a:lnTo>
                    <a:lnTo>
                      <a:pt x="6709" y="2160"/>
                    </a:lnTo>
                    <a:close/>
                    <a:moveTo>
                      <a:pt x="765" y="28"/>
                    </a:moveTo>
                    <a:lnTo>
                      <a:pt x="720" y="83"/>
                    </a:lnTo>
                    <a:lnTo>
                      <a:pt x="677" y="139"/>
                    </a:lnTo>
                    <a:lnTo>
                      <a:pt x="635" y="195"/>
                    </a:lnTo>
                    <a:lnTo>
                      <a:pt x="595" y="252"/>
                    </a:lnTo>
                    <a:lnTo>
                      <a:pt x="555" y="312"/>
                    </a:lnTo>
                    <a:lnTo>
                      <a:pt x="517" y="370"/>
                    </a:lnTo>
                    <a:lnTo>
                      <a:pt x="479" y="431"/>
                    </a:lnTo>
                    <a:lnTo>
                      <a:pt x="444" y="492"/>
                    </a:lnTo>
                    <a:lnTo>
                      <a:pt x="409" y="554"/>
                    </a:lnTo>
                    <a:lnTo>
                      <a:pt x="376" y="616"/>
                    </a:lnTo>
                    <a:lnTo>
                      <a:pt x="343" y="679"/>
                    </a:lnTo>
                    <a:lnTo>
                      <a:pt x="313" y="744"/>
                    </a:lnTo>
                    <a:lnTo>
                      <a:pt x="284" y="809"/>
                    </a:lnTo>
                    <a:lnTo>
                      <a:pt x="256" y="874"/>
                    </a:lnTo>
                    <a:lnTo>
                      <a:pt x="229" y="940"/>
                    </a:lnTo>
                    <a:lnTo>
                      <a:pt x="203" y="1007"/>
                    </a:lnTo>
                    <a:lnTo>
                      <a:pt x="179" y="1075"/>
                    </a:lnTo>
                    <a:lnTo>
                      <a:pt x="156" y="1143"/>
                    </a:lnTo>
                    <a:lnTo>
                      <a:pt x="136" y="1213"/>
                    </a:lnTo>
                    <a:lnTo>
                      <a:pt x="116" y="1282"/>
                    </a:lnTo>
                    <a:lnTo>
                      <a:pt x="98" y="1352"/>
                    </a:lnTo>
                    <a:lnTo>
                      <a:pt x="81" y="1423"/>
                    </a:lnTo>
                    <a:lnTo>
                      <a:pt x="66" y="1494"/>
                    </a:lnTo>
                    <a:lnTo>
                      <a:pt x="53" y="1567"/>
                    </a:lnTo>
                    <a:lnTo>
                      <a:pt x="40" y="1639"/>
                    </a:lnTo>
                    <a:lnTo>
                      <a:pt x="30" y="1711"/>
                    </a:lnTo>
                    <a:lnTo>
                      <a:pt x="20" y="1785"/>
                    </a:lnTo>
                    <a:lnTo>
                      <a:pt x="13" y="1859"/>
                    </a:lnTo>
                    <a:lnTo>
                      <a:pt x="7" y="1934"/>
                    </a:lnTo>
                    <a:lnTo>
                      <a:pt x="3" y="2008"/>
                    </a:lnTo>
                    <a:lnTo>
                      <a:pt x="1" y="2084"/>
                    </a:lnTo>
                    <a:lnTo>
                      <a:pt x="0" y="2160"/>
                    </a:lnTo>
                    <a:lnTo>
                      <a:pt x="1" y="2235"/>
                    </a:lnTo>
                    <a:lnTo>
                      <a:pt x="3" y="2311"/>
                    </a:lnTo>
                    <a:lnTo>
                      <a:pt x="7" y="2385"/>
                    </a:lnTo>
                    <a:lnTo>
                      <a:pt x="13" y="2460"/>
                    </a:lnTo>
                    <a:lnTo>
                      <a:pt x="20" y="2533"/>
                    </a:lnTo>
                    <a:lnTo>
                      <a:pt x="30" y="2607"/>
                    </a:lnTo>
                    <a:lnTo>
                      <a:pt x="40" y="2680"/>
                    </a:lnTo>
                    <a:lnTo>
                      <a:pt x="53" y="2753"/>
                    </a:lnTo>
                    <a:lnTo>
                      <a:pt x="66" y="2824"/>
                    </a:lnTo>
                    <a:lnTo>
                      <a:pt x="81" y="2896"/>
                    </a:lnTo>
                    <a:lnTo>
                      <a:pt x="98" y="2966"/>
                    </a:lnTo>
                    <a:lnTo>
                      <a:pt x="116" y="3037"/>
                    </a:lnTo>
                    <a:lnTo>
                      <a:pt x="136" y="3107"/>
                    </a:lnTo>
                    <a:lnTo>
                      <a:pt x="156" y="3175"/>
                    </a:lnTo>
                    <a:lnTo>
                      <a:pt x="179" y="3244"/>
                    </a:lnTo>
                    <a:lnTo>
                      <a:pt x="203" y="3311"/>
                    </a:lnTo>
                    <a:lnTo>
                      <a:pt x="229" y="3378"/>
                    </a:lnTo>
                    <a:lnTo>
                      <a:pt x="256" y="3445"/>
                    </a:lnTo>
                    <a:lnTo>
                      <a:pt x="284" y="3511"/>
                    </a:lnTo>
                    <a:lnTo>
                      <a:pt x="313" y="3576"/>
                    </a:lnTo>
                    <a:lnTo>
                      <a:pt x="343" y="3639"/>
                    </a:lnTo>
                    <a:lnTo>
                      <a:pt x="376" y="3703"/>
                    </a:lnTo>
                    <a:lnTo>
                      <a:pt x="409" y="3766"/>
                    </a:lnTo>
                    <a:lnTo>
                      <a:pt x="444" y="3827"/>
                    </a:lnTo>
                    <a:lnTo>
                      <a:pt x="479" y="3888"/>
                    </a:lnTo>
                    <a:lnTo>
                      <a:pt x="517" y="3948"/>
                    </a:lnTo>
                    <a:lnTo>
                      <a:pt x="555" y="4008"/>
                    </a:lnTo>
                    <a:lnTo>
                      <a:pt x="595" y="4066"/>
                    </a:lnTo>
                    <a:lnTo>
                      <a:pt x="635" y="4123"/>
                    </a:lnTo>
                    <a:lnTo>
                      <a:pt x="677" y="4180"/>
                    </a:lnTo>
                    <a:lnTo>
                      <a:pt x="720" y="4235"/>
                    </a:lnTo>
                    <a:lnTo>
                      <a:pt x="765" y="4291"/>
                    </a:lnTo>
                    <a:lnTo>
                      <a:pt x="774" y="4294"/>
                    </a:lnTo>
                    <a:lnTo>
                      <a:pt x="784" y="4298"/>
                    </a:lnTo>
                    <a:lnTo>
                      <a:pt x="794" y="4301"/>
                    </a:lnTo>
                    <a:lnTo>
                      <a:pt x="804" y="4305"/>
                    </a:lnTo>
                    <a:lnTo>
                      <a:pt x="813" y="4309"/>
                    </a:lnTo>
                    <a:lnTo>
                      <a:pt x="823" y="4312"/>
                    </a:lnTo>
                    <a:lnTo>
                      <a:pt x="833" y="4315"/>
                    </a:lnTo>
                    <a:lnTo>
                      <a:pt x="844" y="4319"/>
                    </a:lnTo>
                    <a:lnTo>
                      <a:pt x="797" y="4264"/>
                    </a:lnTo>
                    <a:lnTo>
                      <a:pt x="752" y="4208"/>
                    </a:lnTo>
                    <a:lnTo>
                      <a:pt x="707" y="4151"/>
                    </a:lnTo>
                    <a:lnTo>
                      <a:pt x="665" y="4093"/>
                    </a:lnTo>
                    <a:lnTo>
                      <a:pt x="624" y="4035"/>
                    </a:lnTo>
                    <a:lnTo>
                      <a:pt x="583" y="3975"/>
                    </a:lnTo>
                    <a:lnTo>
                      <a:pt x="544" y="3915"/>
                    </a:lnTo>
                    <a:lnTo>
                      <a:pt x="508" y="3853"/>
                    </a:lnTo>
                    <a:lnTo>
                      <a:pt x="471" y="3790"/>
                    </a:lnTo>
                    <a:lnTo>
                      <a:pt x="436" y="3727"/>
                    </a:lnTo>
                    <a:lnTo>
                      <a:pt x="403" y="3663"/>
                    </a:lnTo>
                    <a:lnTo>
                      <a:pt x="370" y="3598"/>
                    </a:lnTo>
                    <a:lnTo>
                      <a:pt x="339" y="3532"/>
                    </a:lnTo>
                    <a:lnTo>
                      <a:pt x="310" y="3466"/>
                    </a:lnTo>
                    <a:lnTo>
                      <a:pt x="282" y="3400"/>
                    </a:lnTo>
                    <a:lnTo>
                      <a:pt x="255" y="3331"/>
                    </a:lnTo>
                    <a:lnTo>
                      <a:pt x="230" y="3262"/>
                    </a:lnTo>
                    <a:lnTo>
                      <a:pt x="206" y="3193"/>
                    </a:lnTo>
                    <a:lnTo>
                      <a:pt x="184" y="3123"/>
                    </a:lnTo>
                    <a:lnTo>
                      <a:pt x="164" y="3053"/>
                    </a:lnTo>
                    <a:lnTo>
                      <a:pt x="144" y="2982"/>
                    </a:lnTo>
                    <a:lnTo>
                      <a:pt x="127" y="2909"/>
                    </a:lnTo>
                    <a:lnTo>
                      <a:pt x="111" y="2837"/>
                    </a:lnTo>
                    <a:lnTo>
                      <a:pt x="97" y="2763"/>
                    </a:lnTo>
                    <a:lnTo>
                      <a:pt x="84" y="2690"/>
                    </a:lnTo>
                    <a:lnTo>
                      <a:pt x="73" y="2615"/>
                    </a:lnTo>
                    <a:lnTo>
                      <a:pt x="63" y="2541"/>
                    </a:lnTo>
                    <a:lnTo>
                      <a:pt x="56" y="2465"/>
                    </a:lnTo>
                    <a:lnTo>
                      <a:pt x="49" y="2390"/>
                    </a:lnTo>
                    <a:lnTo>
                      <a:pt x="45" y="2313"/>
                    </a:lnTo>
                    <a:lnTo>
                      <a:pt x="43" y="2236"/>
                    </a:lnTo>
                    <a:lnTo>
                      <a:pt x="42" y="2160"/>
                    </a:lnTo>
                    <a:lnTo>
                      <a:pt x="43" y="2082"/>
                    </a:lnTo>
                    <a:lnTo>
                      <a:pt x="45" y="2005"/>
                    </a:lnTo>
                    <a:lnTo>
                      <a:pt x="49" y="1930"/>
                    </a:lnTo>
                    <a:lnTo>
                      <a:pt x="56" y="1854"/>
                    </a:lnTo>
                    <a:lnTo>
                      <a:pt x="63" y="1778"/>
                    </a:lnTo>
                    <a:lnTo>
                      <a:pt x="73" y="1704"/>
                    </a:lnTo>
                    <a:lnTo>
                      <a:pt x="84" y="1629"/>
                    </a:lnTo>
                    <a:lnTo>
                      <a:pt x="97" y="1556"/>
                    </a:lnTo>
                    <a:lnTo>
                      <a:pt x="111" y="1483"/>
                    </a:lnTo>
                    <a:lnTo>
                      <a:pt x="127" y="1410"/>
                    </a:lnTo>
                    <a:lnTo>
                      <a:pt x="144" y="1338"/>
                    </a:lnTo>
                    <a:lnTo>
                      <a:pt x="164" y="1267"/>
                    </a:lnTo>
                    <a:lnTo>
                      <a:pt x="184" y="1195"/>
                    </a:lnTo>
                    <a:lnTo>
                      <a:pt x="206" y="1126"/>
                    </a:lnTo>
                    <a:lnTo>
                      <a:pt x="230" y="1056"/>
                    </a:lnTo>
                    <a:lnTo>
                      <a:pt x="255" y="988"/>
                    </a:lnTo>
                    <a:lnTo>
                      <a:pt x="282" y="920"/>
                    </a:lnTo>
                    <a:lnTo>
                      <a:pt x="310" y="853"/>
                    </a:lnTo>
                    <a:lnTo>
                      <a:pt x="339" y="786"/>
                    </a:lnTo>
                    <a:lnTo>
                      <a:pt x="370" y="720"/>
                    </a:lnTo>
                    <a:lnTo>
                      <a:pt x="403" y="655"/>
                    </a:lnTo>
                    <a:lnTo>
                      <a:pt x="436" y="592"/>
                    </a:lnTo>
                    <a:lnTo>
                      <a:pt x="471" y="529"/>
                    </a:lnTo>
                    <a:lnTo>
                      <a:pt x="508" y="466"/>
                    </a:lnTo>
                    <a:lnTo>
                      <a:pt x="544" y="405"/>
                    </a:lnTo>
                    <a:lnTo>
                      <a:pt x="583" y="344"/>
                    </a:lnTo>
                    <a:lnTo>
                      <a:pt x="624" y="284"/>
                    </a:lnTo>
                    <a:lnTo>
                      <a:pt x="665" y="225"/>
                    </a:lnTo>
                    <a:lnTo>
                      <a:pt x="707" y="167"/>
                    </a:lnTo>
                    <a:lnTo>
                      <a:pt x="752" y="111"/>
                    </a:lnTo>
                    <a:lnTo>
                      <a:pt x="797" y="55"/>
                    </a:lnTo>
                    <a:lnTo>
                      <a:pt x="844" y="0"/>
                    </a:lnTo>
                    <a:lnTo>
                      <a:pt x="833" y="3"/>
                    </a:lnTo>
                    <a:lnTo>
                      <a:pt x="823" y="7"/>
                    </a:lnTo>
                    <a:lnTo>
                      <a:pt x="813" y="10"/>
                    </a:lnTo>
                    <a:lnTo>
                      <a:pt x="804" y="14"/>
                    </a:lnTo>
                    <a:lnTo>
                      <a:pt x="794" y="17"/>
                    </a:lnTo>
                    <a:lnTo>
                      <a:pt x="784" y="21"/>
                    </a:lnTo>
                    <a:lnTo>
                      <a:pt x="774" y="25"/>
                    </a:lnTo>
                    <a:lnTo>
                      <a:pt x="765" y="28"/>
                    </a:lnTo>
                    <a:close/>
                  </a:path>
                </a:pathLst>
              </a:custGeom>
              <a:solidFill>
                <a:srgbClr val="d2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251160" y="2135160"/>
                <a:ext cx="2646360" cy="1724040"/>
              </a:xfrm>
              <a:custGeom>
                <a:avLst/>
                <a:gdLst/>
                <a:ahLst/>
                <a:rect l="l" t="t" r="r" b="b"/>
                <a:pathLst>
                  <a:path w="6668" h="4346">
                    <a:moveTo>
                      <a:pt x="6668" y="2173"/>
                    </a:moveTo>
                    <a:lnTo>
                      <a:pt x="6667" y="2096"/>
                    </a:lnTo>
                    <a:lnTo>
                      <a:pt x="6664" y="2020"/>
                    </a:lnTo>
                    <a:lnTo>
                      <a:pt x="6660" y="1945"/>
                    </a:lnTo>
                    <a:lnTo>
                      <a:pt x="6654" y="1869"/>
                    </a:lnTo>
                    <a:lnTo>
                      <a:pt x="6647" y="1795"/>
                    </a:lnTo>
                    <a:lnTo>
                      <a:pt x="6637" y="1720"/>
                    </a:lnTo>
                    <a:lnTo>
                      <a:pt x="6626" y="1647"/>
                    </a:lnTo>
                    <a:lnTo>
                      <a:pt x="6614" y="1574"/>
                    </a:lnTo>
                    <a:lnTo>
                      <a:pt x="6600" y="1501"/>
                    </a:lnTo>
                    <a:lnTo>
                      <a:pt x="6584" y="1430"/>
                    </a:lnTo>
                    <a:lnTo>
                      <a:pt x="6568" y="1358"/>
                    </a:lnTo>
                    <a:lnTo>
                      <a:pt x="6548" y="1287"/>
                    </a:lnTo>
                    <a:lnTo>
                      <a:pt x="6529" y="1217"/>
                    </a:lnTo>
                    <a:lnTo>
                      <a:pt x="6507" y="1148"/>
                    </a:lnTo>
                    <a:lnTo>
                      <a:pt x="6483" y="1079"/>
                    </a:lnTo>
                    <a:lnTo>
                      <a:pt x="6460" y="1011"/>
                    </a:lnTo>
                    <a:lnTo>
                      <a:pt x="6434" y="944"/>
                    </a:lnTo>
                    <a:lnTo>
                      <a:pt x="6406" y="877"/>
                    </a:lnTo>
                    <a:lnTo>
                      <a:pt x="6378" y="811"/>
                    </a:lnTo>
                    <a:lnTo>
                      <a:pt x="6347" y="745"/>
                    </a:lnTo>
                    <a:lnTo>
                      <a:pt x="6315" y="680"/>
                    </a:lnTo>
                    <a:lnTo>
                      <a:pt x="6282" y="616"/>
                    </a:lnTo>
                    <a:lnTo>
                      <a:pt x="6248" y="554"/>
                    </a:lnTo>
                    <a:lnTo>
                      <a:pt x="6213" y="492"/>
                    </a:lnTo>
                    <a:lnTo>
                      <a:pt x="6177" y="431"/>
                    </a:lnTo>
                    <a:lnTo>
                      <a:pt x="6138" y="370"/>
                    </a:lnTo>
                    <a:lnTo>
                      <a:pt x="6099" y="311"/>
                    </a:lnTo>
                    <a:lnTo>
                      <a:pt x="6059" y="252"/>
                    </a:lnTo>
                    <a:lnTo>
                      <a:pt x="6017" y="194"/>
                    </a:lnTo>
                    <a:lnTo>
                      <a:pt x="5973" y="138"/>
                    </a:lnTo>
                    <a:lnTo>
                      <a:pt x="5929" y="82"/>
                    </a:lnTo>
                    <a:lnTo>
                      <a:pt x="5885" y="27"/>
                    </a:lnTo>
                    <a:lnTo>
                      <a:pt x="5874" y="23"/>
                    </a:lnTo>
                    <a:lnTo>
                      <a:pt x="5864" y="20"/>
                    </a:lnTo>
                    <a:lnTo>
                      <a:pt x="5855" y="17"/>
                    </a:lnTo>
                    <a:lnTo>
                      <a:pt x="5845" y="13"/>
                    </a:lnTo>
                    <a:lnTo>
                      <a:pt x="5835" y="9"/>
                    </a:lnTo>
                    <a:lnTo>
                      <a:pt x="5825" y="6"/>
                    </a:lnTo>
                    <a:lnTo>
                      <a:pt x="5816" y="3"/>
                    </a:lnTo>
                    <a:lnTo>
                      <a:pt x="5806" y="0"/>
                    </a:lnTo>
                    <a:lnTo>
                      <a:pt x="5852" y="55"/>
                    </a:lnTo>
                    <a:lnTo>
                      <a:pt x="5899" y="110"/>
                    </a:lnTo>
                    <a:lnTo>
                      <a:pt x="5944" y="167"/>
                    </a:lnTo>
                    <a:lnTo>
                      <a:pt x="5987" y="225"/>
                    </a:lnTo>
                    <a:lnTo>
                      <a:pt x="6030" y="284"/>
                    </a:lnTo>
                    <a:lnTo>
                      <a:pt x="6071" y="344"/>
                    </a:lnTo>
                    <a:lnTo>
                      <a:pt x="6111" y="405"/>
                    </a:lnTo>
                    <a:lnTo>
                      <a:pt x="6150" y="466"/>
                    </a:lnTo>
                    <a:lnTo>
                      <a:pt x="6186" y="529"/>
                    </a:lnTo>
                    <a:lnTo>
                      <a:pt x="6222" y="593"/>
                    </a:lnTo>
                    <a:lnTo>
                      <a:pt x="6256" y="657"/>
                    </a:lnTo>
                    <a:lnTo>
                      <a:pt x="6290" y="722"/>
                    </a:lnTo>
                    <a:lnTo>
                      <a:pt x="6321" y="788"/>
                    </a:lnTo>
                    <a:lnTo>
                      <a:pt x="6352" y="855"/>
                    </a:lnTo>
                    <a:lnTo>
                      <a:pt x="6380" y="923"/>
                    </a:lnTo>
                    <a:lnTo>
                      <a:pt x="6408" y="991"/>
                    </a:lnTo>
                    <a:lnTo>
                      <a:pt x="6433" y="1060"/>
                    </a:lnTo>
                    <a:lnTo>
                      <a:pt x="6457" y="1129"/>
                    </a:lnTo>
                    <a:lnTo>
                      <a:pt x="6480" y="1201"/>
                    </a:lnTo>
                    <a:lnTo>
                      <a:pt x="6501" y="1272"/>
                    </a:lnTo>
                    <a:lnTo>
                      <a:pt x="6520" y="1343"/>
                    </a:lnTo>
                    <a:lnTo>
                      <a:pt x="6539" y="1416"/>
                    </a:lnTo>
                    <a:lnTo>
                      <a:pt x="6555" y="1489"/>
                    </a:lnTo>
                    <a:lnTo>
                      <a:pt x="6570" y="1564"/>
                    </a:lnTo>
                    <a:lnTo>
                      <a:pt x="6583" y="1637"/>
                    </a:lnTo>
                    <a:lnTo>
                      <a:pt x="6594" y="1713"/>
                    </a:lnTo>
                    <a:lnTo>
                      <a:pt x="6603" y="1788"/>
                    </a:lnTo>
                    <a:lnTo>
                      <a:pt x="6612" y="1864"/>
                    </a:lnTo>
                    <a:lnTo>
                      <a:pt x="6617" y="1940"/>
                    </a:lnTo>
                    <a:lnTo>
                      <a:pt x="6623" y="2017"/>
                    </a:lnTo>
                    <a:lnTo>
                      <a:pt x="6625" y="2095"/>
                    </a:lnTo>
                    <a:lnTo>
                      <a:pt x="6626" y="2173"/>
                    </a:lnTo>
                    <a:lnTo>
                      <a:pt x="6626" y="2228"/>
                    </a:lnTo>
                    <a:lnTo>
                      <a:pt x="6624" y="2283"/>
                    </a:lnTo>
                    <a:lnTo>
                      <a:pt x="6622" y="2338"/>
                    </a:lnTo>
                    <a:lnTo>
                      <a:pt x="6618" y="2393"/>
                    </a:lnTo>
                    <a:lnTo>
                      <a:pt x="6614" y="2447"/>
                    </a:lnTo>
                    <a:lnTo>
                      <a:pt x="6610" y="2501"/>
                    </a:lnTo>
                    <a:lnTo>
                      <a:pt x="6603" y="2555"/>
                    </a:lnTo>
                    <a:lnTo>
                      <a:pt x="6597" y="2609"/>
                    </a:lnTo>
                    <a:lnTo>
                      <a:pt x="6589" y="2662"/>
                    </a:lnTo>
                    <a:lnTo>
                      <a:pt x="6581" y="2715"/>
                    </a:lnTo>
                    <a:lnTo>
                      <a:pt x="6572" y="2768"/>
                    </a:lnTo>
                    <a:lnTo>
                      <a:pt x="6562" y="2821"/>
                    </a:lnTo>
                    <a:lnTo>
                      <a:pt x="6551" y="2873"/>
                    </a:lnTo>
                    <a:lnTo>
                      <a:pt x="6540" y="2924"/>
                    </a:lnTo>
                    <a:lnTo>
                      <a:pt x="6527" y="2976"/>
                    </a:lnTo>
                    <a:lnTo>
                      <a:pt x="6514" y="3028"/>
                    </a:lnTo>
                    <a:lnTo>
                      <a:pt x="6554" y="3039"/>
                    </a:lnTo>
                    <a:lnTo>
                      <a:pt x="6567" y="2987"/>
                    </a:lnTo>
                    <a:lnTo>
                      <a:pt x="6580" y="2934"/>
                    </a:lnTo>
                    <a:lnTo>
                      <a:pt x="6591" y="2882"/>
                    </a:lnTo>
                    <a:lnTo>
                      <a:pt x="6602" y="2829"/>
                    </a:lnTo>
                    <a:lnTo>
                      <a:pt x="6613" y="2775"/>
                    </a:lnTo>
                    <a:lnTo>
                      <a:pt x="6623" y="2722"/>
                    </a:lnTo>
                    <a:lnTo>
                      <a:pt x="6630" y="2668"/>
                    </a:lnTo>
                    <a:lnTo>
                      <a:pt x="6638" y="2614"/>
                    </a:lnTo>
                    <a:lnTo>
                      <a:pt x="6645" y="2560"/>
                    </a:lnTo>
                    <a:lnTo>
                      <a:pt x="6651" y="2505"/>
                    </a:lnTo>
                    <a:lnTo>
                      <a:pt x="6656" y="2450"/>
                    </a:lnTo>
                    <a:lnTo>
                      <a:pt x="6661" y="2395"/>
                    </a:lnTo>
                    <a:lnTo>
                      <a:pt x="6664" y="2340"/>
                    </a:lnTo>
                    <a:lnTo>
                      <a:pt x="6666" y="2284"/>
                    </a:lnTo>
                    <a:lnTo>
                      <a:pt x="6667" y="2229"/>
                    </a:lnTo>
                    <a:lnTo>
                      <a:pt x="6668" y="2173"/>
                    </a:lnTo>
                    <a:close/>
                    <a:moveTo>
                      <a:pt x="784" y="27"/>
                    </a:moveTo>
                    <a:lnTo>
                      <a:pt x="739" y="82"/>
                    </a:lnTo>
                    <a:lnTo>
                      <a:pt x="695" y="138"/>
                    </a:lnTo>
                    <a:lnTo>
                      <a:pt x="652" y="194"/>
                    </a:lnTo>
                    <a:lnTo>
                      <a:pt x="610" y="252"/>
                    </a:lnTo>
                    <a:lnTo>
                      <a:pt x="570" y="311"/>
                    </a:lnTo>
                    <a:lnTo>
                      <a:pt x="531" y="370"/>
                    </a:lnTo>
                    <a:lnTo>
                      <a:pt x="492" y="431"/>
                    </a:lnTo>
                    <a:lnTo>
                      <a:pt x="455" y="492"/>
                    </a:lnTo>
                    <a:lnTo>
                      <a:pt x="419" y="554"/>
                    </a:lnTo>
                    <a:lnTo>
                      <a:pt x="386" y="616"/>
                    </a:lnTo>
                    <a:lnTo>
                      <a:pt x="352" y="680"/>
                    </a:lnTo>
                    <a:lnTo>
                      <a:pt x="321" y="745"/>
                    </a:lnTo>
                    <a:lnTo>
                      <a:pt x="291" y="811"/>
                    </a:lnTo>
                    <a:lnTo>
                      <a:pt x="263" y="877"/>
                    </a:lnTo>
                    <a:lnTo>
                      <a:pt x="235" y="944"/>
                    </a:lnTo>
                    <a:lnTo>
                      <a:pt x="209" y="1011"/>
                    </a:lnTo>
                    <a:lnTo>
                      <a:pt x="185" y="1079"/>
                    </a:lnTo>
                    <a:lnTo>
                      <a:pt x="161" y="1148"/>
                    </a:lnTo>
                    <a:lnTo>
                      <a:pt x="140" y="1217"/>
                    </a:lnTo>
                    <a:lnTo>
                      <a:pt x="120" y="1287"/>
                    </a:lnTo>
                    <a:lnTo>
                      <a:pt x="101" y="1358"/>
                    </a:lnTo>
                    <a:lnTo>
                      <a:pt x="83" y="1430"/>
                    </a:lnTo>
                    <a:lnTo>
                      <a:pt x="68" y="1501"/>
                    </a:lnTo>
                    <a:lnTo>
                      <a:pt x="54" y="1574"/>
                    </a:lnTo>
                    <a:lnTo>
                      <a:pt x="42" y="1647"/>
                    </a:lnTo>
                    <a:lnTo>
                      <a:pt x="32" y="1720"/>
                    </a:lnTo>
                    <a:lnTo>
                      <a:pt x="22" y="1795"/>
                    </a:lnTo>
                    <a:lnTo>
                      <a:pt x="14" y="1869"/>
                    </a:lnTo>
                    <a:lnTo>
                      <a:pt x="9" y="1945"/>
                    </a:lnTo>
                    <a:lnTo>
                      <a:pt x="5" y="2020"/>
                    </a:lnTo>
                    <a:lnTo>
                      <a:pt x="1" y="2096"/>
                    </a:lnTo>
                    <a:lnTo>
                      <a:pt x="0" y="2173"/>
                    </a:lnTo>
                    <a:lnTo>
                      <a:pt x="1" y="2249"/>
                    </a:lnTo>
                    <a:lnTo>
                      <a:pt x="5" y="2325"/>
                    </a:lnTo>
                    <a:lnTo>
                      <a:pt x="9" y="2401"/>
                    </a:lnTo>
                    <a:lnTo>
                      <a:pt x="14" y="2475"/>
                    </a:lnTo>
                    <a:lnTo>
                      <a:pt x="22" y="2550"/>
                    </a:lnTo>
                    <a:lnTo>
                      <a:pt x="32" y="2624"/>
                    </a:lnTo>
                    <a:lnTo>
                      <a:pt x="42" y="2698"/>
                    </a:lnTo>
                    <a:lnTo>
                      <a:pt x="54" y="2771"/>
                    </a:lnTo>
                    <a:lnTo>
                      <a:pt x="68" y="2843"/>
                    </a:lnTo>
                    <a:lnTo>
                      <a:pt x="83" y="2916"/>
                    </a:lnTo>
                    <a:lnTo>
                      <a:pt x="101" y="2987"/>
                    </a:lnTo>
                    <a:lnTo>
                      <a:pt x="120" y="3057"/>
                    </a:lnTo>
                    <a:lnTo>
                      <a:pt x="140" y="3127"/>
                    </a:lnTo>
                    <a:lnTo>
                      <a:pt x="161" y="3198"/>
                    </a:lnTo>
                    <a:lnTo>
                      <a:pt x="185" y="3266"/>
                    </a:lnTo>
                    <a:lnTo>
                      <a:pt x="209" y="3335"/>
                    </a:lnTo>
                    <a:lnTo>
                      <a:pt x="235" y="3402"/>
                    </a:lnTo>
                    <a:lnTo>
                      <a:pt x="263" y="3469"/>
                    </a:lnTo>
                    <a:lnTo>
                      <a:pt x="291" y="3535"/>
                    </a:lnTo>
                    <a:lnTo>
                      <a:pt x="321" y="3599"/>
                    </a:lnTo>
                    <a:lnTo>
                      <a:pt x="352" y="3664"/>
                    </a:lnTo>
                    <a:lnTo>
                      <a:pt x="386" y="3728"/>
                    </a:lnTo>
                    <a:lnTo>
                      <a:pt x="419" y="3791"/>
                    </a:lnTo>
                    <a:lnTo>
                      <a:pt x="455" y="3853"/>
                    </a:lnTo>
                    <a:lnTo>
                      <a:pt x="492" y="3915"/>
                    </a:lnTo>
                    <a:lnTo>
                      <a:pt x="531" y="3974"/>
                    </a:lnTo>
                    <a:lnTo>
                      <a:pt x="570" y="4035"/>
                    </a:lnTo>
                    <a:lnTo>
                      <a:pt x="610" y="4093"/>
                    </a:lnTo>
                    <a:lnTo>
                      <a:pt x="652" y="4150"/>
                    </a:lnTo>
                    <a:lnTo>
                      <a:pt x="695" y="4207"/>
                    </a:lnTo>
                    <a:lnTo>
                      <a:pt x="739" y="4262"/>
                    </a:lnTo>
                    <a:lnTo>
                      <a:pt x="784" y="4318"/>
                    </a:lnTo>
                    <a:lnTo>
                      <a:pt x="793" y="4321"/>
                    </a:lnTo>
                    <a:lnTo>
                      <a:pt x="804" y="4325"/>
                    </a:lnTo>
                    <a:lnTo>
                      <a:pt x="814" y="4328"/>
                    </a:lnTo>
                    <a:lnTo>
                      <a:pt x="824" y="4332"/>
                    </a:lnTo>
                    <a:lnTo>
                      <a:pt x="833" y="4335"/>
                    </a:lnTo>
                    <a:lnTo>
                      <a:pt x="843" y="4338"/>
                    </a:lnTo>
                    <a:lnTo>
                      <a:pt x="853" y="4342"/>
                    </a:lnTo>
                    <a:lnTo>
                      <a:pt x="862" y="4346"/>
                    </a:lnTo>
                    <a:lnTo>
                      <a:pt x="815" y="4291"/>
                    </a:lnTo>
                    <a:lnTo>
                      <a:pt x="770" y="4234"/>
                    </a:lnTo>
                    <a:lnTo>
                      <a:pt x="724" y="4177"/>
                    </a:lnTo>
                    <a:lnTo>
                      <a:pt x="681" y="4120"/>
                    </a:lnTo>
                    <a:lnTo>
                      <a:pt x="639" y="4061"/>
                    </a:lnTo>
                    <a:lnTo>
                      <a:pt x="598" y="4001"/>
                    </a:lnTo>
                    <a:lnTo>
                      <a:pt x="558" y="3941"/>
                    </a:lnTo>
                    <a:lnTo>
                      <a:pt x="519" y="3878"/>
                    </a:lnTo>
                    <a:lnTo>
                      <a:pt x="482" y="3815"/>
                    </a:lnTo>
                    <a:lnTo>
                      <a:pt x="446" y="3753"/>
                    </a:lnTo>
                    <a:lnTo>
                      <a:pt x="412" y="3688"/>
                    </a:lnTo>
                    <a:lnTo>
                      <a:pt x="378" y="3623"/>
                    </a:lnTo>
                    <a:lnTo>
                      <a:pt x="347" y="3557"/>
                    </a:lnTo>
                    <a:lnTo>
                      <a:pt x="317" y="3490"/>
                    </a:lnTo>
                    <a:lnTo>
                      <a:pt x="289" y="3422"/>
                    </a:lnTo>
                    <a:lnTo>
                      <a:pt x="261" y="3354"/>
                    </a:lnTo>
                    <a:lnTo>
                      <a:pt x="236" y="3285"/>
                    </a:lnTo>
                    <a:lnTo>
                      <a:pt x="211" y="3215"/>
                    </a:lnTo>
                    <a:lnTo>
                      <a:pt x="188" y="3145"/>
                    </a:lnTo>
                    <a:lnTo>
                      <a:pt x="168" y="3073"/>
                    </a:lnTo>
                    <a:lnTo>
                      <a:pt x="148" y="3001"/>
                    </a:lnTo>
                    <a:lnTo>
                      <a:pt x="130" y="2929"/>
                    </a:lnTo>
                    <a:lnTo>
                      <a:pt x="114" y="2855"/>
                    </a:lnTo>
                    <a:lnTo>
                      <a:pt x="99" y="2782"/>
                    </a:lnTo>
                    <a:lnTo>
                      <a:pt x="86" y="2707"/>
                    </a:lnTo>
                    <a:lnTo>
                      <a:pt x="75" y="2633"/>
                    </a:lnTo>
                    <a:lnTo>
                      <a:pt x="65" y="2557"/>
                    </a:lnTo>
                    <a:lnTo>
                      <a:pt x="56" y="2482"/>
                    </a:lnTo>
                    <a:lnTo>
                      <a:pt x="50" y="2405"/>
                    </a:lnTo>
                    <a:lnTo>
                      <a:pt x="46" y="2328"/>
                    </a:lnTo>
                    <a:lnTo>
                      <a:pt x="43" y="2250"/>
                    </a:lnTo>
                    <a:lnTo>
                      <a:pt x="42" y="2173"/>
                    </a:lnTo>
                    <a:lnTo>
                      <a:pt x="43" y="2095"/>
                    </a:lnTo>
                    <a:lnTo>
                      <a:pt x="46" y="2017"/>
                    </a:lnTo>
                    <a:lnTo>
                      <a:pt x="50" y="1940"/>
                    </a:lnTo>
                    <a:lnTo>
                      <a:pt x="56" y="1864"/>
                    </a:lnTo>
                    <a:lnTo>
                      <a:pt x="65" y="1788"/>
                    </a:lnTo>
                    <a:lnTo>
                      <a:pt x="75" y="1713"/>
                    </a:lnTo>
                    <a:lnTo>
                      <a:pt x="86" y="1637"/>
                    </a:lnTo>
                    <a:lnTo>
                      <a:pt x="99" y="1564"/>
                    </a:lnTo>
                    <a:lnTo>
                      <a:pt x="114" y="1489"/>
                    </a:lnTo>
                    <a:lnTo>
                      <a:pt x="130" y="1416"/>
                    </a:lnTo>
                    <a:lnTo>
                      <a:pt x="148" y="1343"/>
                    </a:lnTo>
                    <a:lnTo>
                      <a:pt x="168" y="1272"/>
                    </a:lnTo>
                    <a:lnTo>
                      <a:pt x="188" y="1201"/>
                    </a:lnTo>
                    <a:lnTo>
                      <a:pt x="211" y="1129"/>
                    </a:lnTo>
                    <a:lnTo>
                      <a:pt x="236" y="1060"/>
                    </a:lnTo>
                    <a:lnTo>
                      <a:pt x="261" y="991"/>
                    </a:lnTo>
                    <a:lnTo>
                      <a:pt x="289" y="923"/>
                    </a:lnTo>
                    <a:lnTo>
                      <a:pt x="317" y="855"/>
                    </a:lnTo>
                    <a:lnTo>
                      <a:pt x="347" y="788"/>
                    </a:lnTo>
                    <a:lnTo>
                      <a:pt x="378" y="722"/>
                    </a:lnTo>
                    <a:lnTo>
                      <a:pt x="412" y="657"/>
                    </a:lnTo>
                    <a:lnTo>
                      <a:pt x="446" y="593"/>
                    </a:lnTo>
                    <a:lnTo>
                      <a:pt x="482" y="529"/>
                    </a:lnTo>
                    <a:lnTo>
                      <a:pt x="519" y="466"/>
                    </a:lnTo>
                    <a:lnTo>
                      <a:pt x="558" y="405"/>
                    </a:lnTo>
                    <a:lnTo>
                      <a:pt x="598" y="344"/>
                    </a:lnTo>
                    <a:lnTo>
                      <a:pt x="639" y="284"/>
                    </a:lnTo>
                    <a:lnTo>
                      <a:pt x="681" y="225"/>
                    </a:lnTo>
                    <a:lnTo>
                      <a:pt x="724" y="167"/>
                    </a:lnTo>
                    <a:lnTo>
                      <a:pt x="770" y="110"/>
                    </a:lnTo>
                    <a:lnTo>
                      <a:pt x="816" y="55"/>
                    </a:lnTo>
                    <a:lnTo>
                      <a:pt x="862" y="0"/>
                    </a:lnTo>
                    <a:lnTo>
                      <a:pt x="853" y="3"/>
                    </a:lnTo>
                    <a:lnTo>
                      <a:pt x="843" y="6"/>
                    </a:lnTo>
                    <a:lnTo>
                      <a:pt x="833" y="9"/>
                    </a:lnTo>
                    <a:lnTo>
                      <a:pt x="824" y="13"/>
                    </a:lnTo>
                    <a:lnTo>
                      <a:pt x="814" y="17"/>
                    </a:lnTo>
                    <a:lnTo>
                      <a:pt x="804" y="20"/>
                    </a:lnTo>
                    <a:lnTo>
                      <a:pt x="793" y="23"/>
                    </a:lnTo>
                    <a:lnTo>
                      <a:pt x="784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259080" y="2128680"/>
                <a:ext cx="2629080" cy="1737000"/>
              </a:xfrm>
              <a:custGeom>
                <a:avLst/>
                <a:gdLst/>
                <a:ahLst/>
                <a:rect l="l" t="t" r="r" b="b"/>
                <a:pathLst>
                  <a:path w="6625" h="4373">
                    <a:moveTo>
                      <a:pt x="6625" y="2187"/>
                    </a:moveTo>
                    <a:lnTo>
                      <a:pt x="6623" y="2109"/>
                    </a:lnTo>
                    <a:lnTo>
                      <a:pt x="6621" y="2032"/>
                    </a:lnTo>
                    <a:lnTo>
                      <a:pt x="6617" y="1957"/>
                    </a:lnTo>
                    <a:lnTo>
                      <a:pt x="6611" y="1881"/>
                    </a:lnTo>
                    <a:lnTo>
                      <a:pt x="6603" y="1805"/>
                    </a:lnTo>
                    <a:lnTo>
                      <a:pt x="6593" y="1731"/>
                    </a:lnTo>
                    <a:lnTo>
                      <a:pt x="6582" y="1656"/>
                    </a:lnTo>
                    <a:lnTo>
                      <a:pt x="6569" y="1583"/>
                    </a:lnTo>
                    <a:lnTo>
                      <a:pt x="6555" y="1510"/>
                    </a:lnTo>
                    <a:lnTo>
                      <a:pt x="6539" y="1437"/>
                    </a:lnTo>
                    <a:lnTo>
                      <a:pt x="6522" y="1365"/>
                    </a:lnTo>
                    <a:lnTo>
                      <a:pt x="6502" y="1294"/>
                    </a:lnTo>
                    <a:lnTo>
                      <a:pt x="6482" y="1222"/>
                    </a:lnTo>
                    <a:lnTo>
                      <a:pt x="6460" y="1153"/>
                    </a:lnTo>
                    <a:lnTo>
                      <a:pt x="6437" y="1083"/>
                    </a:lnTo>
                    <a:lnTo>
                      <a:pt x="6412" y="1015"/>
                    </a:lnTo>
                    <a:lnTo>
                      <a:pt x="6385" y="947"/>
                    </a:lnTo>
                    <a:lnTo>
                      <a:pt x="6357" y="880"/>
                    </a:lnTo>
                    <a:lnTo>
                      <a:pt x="6327" y="813"/>
                    </a:lnTo>
                    <a:lnTo>
                      <a:pt x="6296" y="747"/>
                    </a:lnTo>
                    <a:lnTo>
                      <a:pt x="6264" y="682"/>
                    </a:lnTo>
                    <a:lnTo>
                      <a:pt x="6230" y="619"/>
                    </a:lnTo>
                    <a:lnTo>
                      <a:pt x="6196" y="556"/>
                    </a:lnTo>
                    <a:lnTo>
                      <a:pt x="6159" y="493"/>
                    </a:lnTo>
                    <a:lnTo>
                      <a:pt x="6121" y="432"/>
                    </a:lnTo>
                    <a:lnTo>
                      <a:pt x="6082" y="371"/>
                    </a:lnTo>
                    <a:lnTo>
                      <a:pt x="6042" y="311"/>
                    </a:lnTo>
                    <a:lnTo>
                      <a:pt x="6001" y="252"/>
                    </a:lnTo>
                    <a:lnTo>
                      <a:pt x="5958" y="194"/>
                    </a:lnTo>
                    <a:lnTo>
                      <a:pt x="5915" y="138"/>
                    </a:lnTo>
                    <a:lnTo>
                      <a:pt x="5869" y="82"/>
                    </a:lnTo>
                    <a:lnTo>
                      <a:pt x="5823" y="27"/>
                    </a:lnTo>
                    <a:lnTo>
                      <a:pt x="5813" y="23"/>
                    </a:lnTo>
                    <a:lnTo>
                      <a:pt x="5803" y="20"/>
                    </a:lnTo>
                    <a:lnTo>
                      <a:pt x="5794" y="17"/>
                    </a:lnTo>
                    <a:lnTo>
                      <a:pt x="5784" y="14"/>
                    </a:lnTo>
                    <a:lnTo>
                      <a:pt x="5773" y="9"/>
                    </a:lnTo>
                    <a:lnTo>
                      <a:pt x="5763" y="6"/>
                    </a:lnTo>
                    <a:lnTo>
                      <a:pt x="5754" y="3"/>
                    </a:lnTo>
                    <a:lnTo>
                      <a:pt x="5744" y="0"/>
                    </a:lnTo>
                    <a:lnTo>
                      <a:pt x="5791" y="55"/>
                    </a:lnTo>
                    <a:lnTo>
                      <a:pt x="5839" y="111"/>
                    </a:lnTo>
                    <a:lnTo>
                      <a:pt x="5884" y="167"/>
                    </a:lnTo>
                    <a:lnTo>
                      <a:pt x="5930" y="225"/>
                    </a:lnTo>
                    <a:lnTo>
                      <a:pt x="5973" y="285"/>
                    </a:lnTo>
                    <a:lnTo>
                      <a:pt x="6015" y="344"/>
                    </a:lnTo>
                    <a:lnTo>
                      <a:pt x="6055" y="406"/>
                    </a:lnTo>
                    <a:lnTo>
                      <a:pt x="6095" y="467"/>
                    </a:lnTo>
                    <a:lnTo>
                      <a:pt x="6133" y="530"/>
                    </a:lnTo>
                    <a:lnTo>
                      <a:pt x="6170" y="595"/>
                    </a:lnTo>
                    <a:lnTo>
                      <a:pt x="6204" y="658"/>
                    </a:lnTo>
                    <a:lnTo>
                      <a:pt x="6239" y="724"/>
                    </a:lnTo>
                    <a:lnTo>
                      <a:pt x="6271" y="791"/>
                    </a:lnTo>
                    <a:lnTo>
                      <a:pt x="6301" y="858"/>
                    </a:lnTo>
                    <a:lnTo>
                      <a:pt x="6331" y="926"/>
                    </a:lnTo>
                    <a:lnTo>
                      <a:pt x="6359" y="995"/>
                    </a:lnTo>
                    <a:lnTo>
                      <a:pt x="6386" y="1065"/>
                    </a:lnTo>
                    <a:lnTo>
                      <a:pt x="6411" y="1135"/>
                    </a:lnTo>
                    <a:lnTo>
                      <a:pt x="6433" y="1206"/>
                    </a:lnTo>
                    <a:lnTo>
                      <a:pt x="6455" y="1277"/>
                    </a:lnTo>
                    <a:lnTo>
                      <a:pt x="6475" y="1351"/>
                    </a:lnTo>
                    <a:lnTo>
                      <a:pt x="6494" y="1423"/>
                    </a:lnTo>
                    <a:lnTo>
                      <a:pt x="6510" y="1498"/>
                    </a:lnTo>
                    <a:lnTo>
                      <a:pt x="6525" y="1571"/>
                    </a:lnTo>
                    <a:lnTo>
                      <a:pt x="6539" y="1647"/>
                    </a:lnTo>
                    <a:lnTo>
                      <a:pt x="6550" y="1722"/>
                    </a:lnTo>
                    <a:lnTo>
                      <a:pt x="6561" y="1798"/>
                    </a:lnTo>
                    <a:lnTo>
                      <a:pt x="6568" y="1875"/>
                    </a:lnTo>
                    <a:lnTo>
                      <a:pt x="6575" y="1952"/>
                    </a:lnTo>
                    <a:lnTo>
                      <a:pt x="6579" y="2030"/>
                    </a:lnTo>
                    <a:lnTo>
                      <a:pt x="6582" y="2108"/>
                    </a:lnTo>
                    <a:lnTo>
                      <a:pt x="6584" y="2187"/>
                    </a:lnTo>
                    <a:lnTo>
                      <a:pt x="6582" y="2242"/>
                    </a:lnTo>
                    <a:lnTo>
                      <a:pt x="6581" y="2296"/>
                    </a:lnTo>
                    <a:lnTo>
                      <a:pt x="6579" y="2351"/>
                    </a:lnTo>
                    <a:lnTo>
                      <a:pt x="6576" y="2405"/>
                    </a:lnTo>
                    <a:lnTo>
                      <a:pt x="6572" y="2459"/>
                    </a:lnTo>
                    <a:lnTo>
                      <a:pt x="6567" y="2513"/>
                    </a:lnTo>
                    <a:lnTo>
                      <a:pt x="6561" y="2567"/>
                    </a:lnTo>
                    <a:lnTo>
                      <a:pt x="6554" y="2620"/>
                    </a:lnTo>
                    <a:lnTo>
                      <a:pt x="6547" y="2673"/>
                    </a:lnTo>
                    <a:lnTo>
                      <a:pt x="6538" y="2726"/>
                    </a:lnTo>
                    <a:lnTo>
                      <a:pt x="6529" y="2779"/>
                    </a:lnTo>
                    <a:lnTo>
                      <a:pt x="6520" y="2830"/>
                    </a:lnTo>
                    <a:lnTo>
                      <a:pt x="6509" y="2882"/>
                    </a:lnTo>
                    <a:lnTo>
                      <a:pt x="6497" y="2934"/>
                    </a:lnTo>
                    <a:lnTo>
                      <a:pt x="6484" y="2986"/>
                    </a:lnTo>
                    <a:lnTo>
                      <a:pt x="6471" y="3037"/>
                    </a:lnTo>
                    <a:lnTo>
                      <a:pt x="6511" y="3047"/>
                    </a:lnTo>
                    <a:lnTo>
                      <a:pt x="6525" y="2996"/>
                    </a:lnTo>
                    <a:lnTo>
                      <a:pt x="6537" y="2944"/>
                    </a:lnTo>
                    <a:lnTo>
                      <a:pt x="6549" y="2891"/>
                    </a:lnTo>
                    <a:lnTo>
                      <a:pt x="6561" y="2839"/>
                    </a:lnTo>
                    <a:lnTo>
                      <a:pt x="6571" y="2786"/>
                    </a:lnTo>
                    <a:lnTo>
                      <a:pt x="6580" y="2733"/>
                    </a:lnTo>
                    <a:lnTo>
                      <a:pt x="6588" y="2679"/>
                    </a:lnTo>
                    <a:lnTo>
                      <a:pt x="6595" y="2625"/>
                    </a:lnTo>
                    <a:lnTo>
                      <a:pt x="6603" y="2571"/>
                    </a:lnTo>
                    <a:lnTo>
                      <a:pt x="6608" y="2517"/>
                    </a:lnTo>
                    <a:lnTo>
                      <a:pt x="6614" y="2463"/>
                    </a:lnTo>
                    <a:lnTo>
                      <a:pt x="6617" y="2408"/>
                    </a:lnTo>
                    <a:lnTo>
                      <a:pt x="6620" y="2353"/>
                    </a:lnTo>
                    <a:lnTo>
                      <a:pt x="6623" y="2298"/>
                    </a:lnTo>
                    <a:lnTo>
                      <a:pt x="6625" y="2242"/>
                    </a:lnTo>
                    <a:lnTo>
                      <a:pt x="6625" y="2187"/>
                    </a:lnTo>
                    <a:close/>
                    <a:moveTo>
                      <a:pt x="802" y="27"/>
                    </a:moveTo>
                    <a:lnTo>
                      <a:pt x="755" y="82"/>
                    </a:lnTo>
                    <a:lnTo>
                      <a:pt x="710" y="138"/>
                    </a:lnTo>
                    <a:lnTo>
                      <a:pt x="665" y="194"/>
                    </a:lnTo>
                    <a:lnTo>
                      <a:pt x="623" y="252"/>
                    </a:lnTo>
                    <a:lnTo>
                      <a:pt x="582" y="311"/>
                    </a:lnTo>
                    <a:lnTo>
                      <a:pt x="541" y="371"/>
                    </a:lnTo>
                    <a:lnTo>
                      <a:pt x="502" y="432"/>
                    </a:lnTo>
                    <a:lnTo>
                      <a:pt x="466" y="493"/>
                    </a:lnTo>
                    <a:lnTo>
                      <a:pt x="429" y="556"/>
                    </a:lnTo>
                    <a:lnTo>
                      <a:pt x="394" y="619"/>
                    </a:lnTo>
                    <a:lnTo>
                      <a:pt x="361" y="682"/>
                    </a:lnTo>
                    <a:lnTo>
                      <a:pt x="328" y="747"/>
                    </a:lnTo>
                    <a:lnTo>
                      <a:pt x="297" y="813"/>
                    </a:lnTo>
                    <a:lnTo>
                      <a:pt x="268" y="880"/>
                    </a:lnTo>
                    <a:lnTo>
                      <a:pt x="240" y="947"/>
                    </a:lnTo>
                    <a:lnTo>
                      <a:pt x="213" y="1015"/>
                    </a:lnTo>
                    <a:lnTo>
                      <a:pt x="188" y="1083"/>
                    </a:lnTo>
                    <a:lnTo>
                      <a:pt x="164" y="1153"/>
                    </a:lnTo>
                    <a:lnTo>
                      <a:pt x="142" y="1222"/>
                    </a:lnTo>
                    <a:lnTo>
                      <a:pt x="122" y="1294"/>
                    </a:lnTo>
                    <a:lnTo>
                      <a:pt x="102" y="1365"/>
                    </a:lnTo>
                    <a:lnTo>
                      <a:pt x="85" y="1437"/>
                    </a:lnTo>
                    <a:lnTo>
                      <a:pt x="69" y="1510"/>
                    </a:lnTo>
                    <a:lnTo>
                      <a:pt x="55" y="1583"/>
                    </a:lnTo>
                    <a:lnTo>
                      <a:pt x="42" y="1656"/>
                    </a:lnTo>
                    <a:lnTo>
                      <a:pt x="31" y="1731"/>
                    </a:lnTo>
                    <a:lnTo>
                      <a:pt x="21" y="1805"/>
                    </a:lnTo>
                    <a:lnTo>
                      <a:pt x="14" y="1881"/>
                    </a:lnTo>
                    <a:lnTo>
                      <a:pt x="7" y="1957"/>
                    </a:lnTo>
                    <a:lnTo>
                      <a:pt x="3" y="2032"/>
                    </a:lnTo>
                    <a:lnTo>
                      <a:pt x="1" y="2109"/>
                    </a:lnTo>
                    <a:lnTo>
                      <a:pt x="0" y="2187"/>
                    </a:lnTo>
                    <a:lnTo>
                      <a:pt x="1" y="2263"/>
                    </a:lnTo>
                    <a:lnTo>
                      <a:pt x="3" y="2340"/>
                    </a:lnTo>
                    <a:lnTo>
                      <a:pt x="7" y="2417"/>
                    </a:lnTo>
                    <a:lnTo>
                      <a:pt x="14" y="2492"/>
                    </a:lnTo>
                    <a:lnTo>
                      <a:pt x="21" y="2568"/>
                    </a:lnTo>
                    <a:lnTo>
                      <a:pt x="31" y="2642"/>
                    </a:lnTo>
                    <a:lnTo>
                      <a:pt x="42" y="2717"/>
                    </a:lnTo>
                    <a:lnTo>
                      <a:pt x="55" y="2790"/>
                    </a:lnTo>
                    <a:lnTo>
                      <a:pt x="69" y="2864"/>
                    </a:lnTo>
                    <a:lnTo>
                      <a:pt x="85" y="2936"/>
                    </a:lnTo>
                    <a:lnTo>
                      <a:pt x="102" y="3009"/>
                    </a:lnTo>
                    <a:lnTo>
                      <a:pt x="122" y="3080"/>
                    </a:lnTo>
                    <a:lnTo>
                      <a:pt x="142" y="3150"/>
                    </a:lnTo>
                    <a:lnTo>
                      <a:pt x="164" y="3220"/>
                    </a:lnTo>
                    <a:lnTo>
                      <a:pt x="188" y="3289"/>
                    </a:lnTo>
                    <a:lnTo>
                      <a:pt x="213" y="3358"/>
                    </a:lnTo>
                    <a:lnTo>
                      <a:pt x="240" y="3427"/>
                    </a:lnTo>
                    <a:lnTo>
                      <a:pt x="268" y="3493"/>
                    </a:lnTo>
                    <a:lnTo>
                      <a:pt x="297" y="3559"/>
                    </a:lnTo>
                    <a:lnTo>
                      <a:pt x="328" y="3625"/>
                    </a:lnTo>
                    <a:lnTo>
                      <a:pt x="361" y="3690"/>
                    </a:lnTo>
                    <a:lnTo>
                      <a:pt x="394" y="3754"/>
                    </a:lnTo>
                    <a:lnTo>
                      <a:pt x="429" y="3817"/>
                    </a:lnTo>
                    <a:lnTo>
                      <a:pt x="466" y="3880"/>
                    </a:lnTo>
                    <a:lnTo>
                      <a:pt x="502" y="3942"/>
                    </a:lnTo>
                    <a:lnTo>
                      <a:pt x="541" y="4002"/>
                    </a:lnTo>
                    <a:lnTo>
                      <a:pt x="582" y="4062"/>
                    </a:lnTo>
                    <a:lnTo>
                      <a:pt x="623" y="4120"/>
                    </a:lnTo>
                    <a:lnTo>
                      <a:pt x="665" y="4178"/>
                    </a:lnTo>
                    <a:lnTo>
                      <a:pt x="710" y="4235"/>
                    </a:lnTo>
                    <a:lnTo>
                      <a:pt x="755" y="4291"/>
                    </a:lnTo>
                    <a:lnTo>
                      <a:pt x="802" y="4346"/>
                    </a:lnTo>
                    <a:lnTo>
                      <a:pt x="811" y="4349"/>
                    </a:lnTo>
                    <a:lnTo>
                      <a:pt x="821" y="4353"/>
                    </a:lnTo>
                    <a:lnTo>
                      <a:pt x="831" y="4356"/>
                    </a:lnTo>
                    <a:lnTo>
                      <a:pt x="840" y="4360"/>
                    </a:lnTo>
                    <a:lnTo>
                      <a:pt x="851" y="4363"/>
                    </a:lnTo>
                    <a:lnTo>
                      <a:pt x="861" y="4366"/>
                    </a:lnTo>
                    <a:lnTo>
                      <a:pt x="871" y="4369"/>
                    </a:lnTo>
                    <a:lnTo>
                      <a:pt x="880" y="4373"/>
                    </a:lnTo>
                    <a:lnTo>
                      <a:pt x="833" y="4319"/>
                    </a:lnTo>
                    <a:lnTo>
                      <a:pt x="785" y="4262"/>
                    </a:lnTo>
                    <a:lnTo>
                      <a:pt x="740" y="4205"/>
                    </a:lnTo>
                    <a:lnTo>
                      <a:pt x="695" y="4147"/>
                    </a:lnTo>
                    <a:lnTo>
                      <a:pt x="651" y="4089"/>
                    </a:lnTo>
                    <a:lnTo>
                      <a:pt x="609" y="4028"/>
                    </a:lnTo>
                    <a:lnTo>
                      <a:pt x="569" y="3968"/>
                    </a:lnTo>
                    <a:lnTo>
                      <a:pt x="529" y="3905"/>
                    </a:lnTo>
                    <a:lnTo>
                      <a:pt x="491" y="3842"/>
                    </a:lnTo>
                    <a:lnTo>
                      <a:pt x="455" y="3779"/>
                    </a:lnTo>
                    <a:lnTo>
                      <a:pt x="419" y="3714"/>
                    </a:lnTo>
                    <a:lnTo>
                      <a:pt x="386" y="3648"/>
                    </a:lnTo>
                    <a:lnTo>
                      <a:pt x="353" y="3582"/>
                    </a:lnTo>
                    <a:lnTo>
                      <a:pt x="323" y="3515"/>
                    </a:lnTo>
                    <a:lnTo>
                      <a:pt x="293" y="3447"/>
                    </a:lnTo>
                    <a:lnTo>
                      <a:pt x="266" y="3378"/>
                    </a:lnTo>
                    <a:lnTo>
                      <a:pt x="239" y="3308"/>
                    </a:lnTo>
                    <a:lnTo>
                      <a:pt x="214" y="3238"/>
                    </a:lnTo>
                    <a:lnTo>
                      <a:pt x="191" y="3167"/>
                    </a:lnTo>
                    <a:lnTo>
                      <a:pt x="169" y="3095"/>
                    </a:lnTo>
                    <a:lnTo>
                      <a:pt x="149" y="3023"/>
                    </a:lnTo>
                    <a:lnTo>
                      <a:pt x="131" y="2949"/>
                    </a:lnTo>
                    <a:lnTo>
                      <a:pt x="114" y="2876"/>
                    </a:lnTo>
                    <a:lnTo>
                      <a:pt x="99" y="2801"/>
                    </a:lnTo>
                    <a:lnTo>
                      <a:pt x="85" y="2727"/>
                    </a:lnTo>
                    <a:lnTo>
                      <a:pt x="74" y="2651"/>
                    </a:lnTo>
                    <a:lnTo>
                      <a:pt x="64" y="2574"/>
                    </a:lnTo>
                    <a:lnTo>
                      <a:pt x="56" y="2498"/>
                    </a:lnTo>
                    <a:lnTo>
                      <a:pt x="50" y="2421"/>
                    </a:lnTo>
                    <a:lnTo>
                      <a:pt x="45" y="2343"/>
                    </a:lnTo>
                    <a:lnTo>
                      <a:pt x="42" y="2266"/>
                    </a:lnTo>
                    <a:lnTo>
                      <a:pt x="41" y="2187"/>
                    </a:lnTo>
                    <a:lnTo>
                      <a:pt x="42" y="2108"/>
                    </a:lnTo>
                    <a:lnTo>
                      <a:pt x="45" y="2030"/>
                    </a:lnTo>
                    <a:lnTo>
                      <a:pt x="50" y="1952"/>
                    </a:lnTo>
                    <a:lnTo>
                      <a:pt x="56" y="1875"/>
                    </a:lnTo>
                    <a:lnTo>
                      <a:pt x="64" y="1798"/>
                    </a:lnTo>
                    <a:lnTo>
                      <a:pt x="74" y="1722"/>
                    </a:lnTo>
                    <a:lnTo>
                      <a:pt x="85" y="1647"/>
                    </a:lnTo>
                    <a:lnTo>
                      <a:pt x="99" y="1571"/>
                    </a:lnTo>
                    <a:lnTo>
                      <a:pt x="114" y="1498"/>
                    </a:lnTo>
                    <a:lnTo>
                      <a:pt x="131" y="1423"/>
                    </a:lnTo>
                    <a:lnTo>
                      <a:pt x="149" y="1351"/>
                    </a:lnTo>
                    <a:lnTo>
                      <a:pt x="169" y="1277"/>
                    </a:lnTo>
                    <a:lnTo>
                      <a:pt x="191" y="1206"/>
                    </a:lnTo>
                    <a:lnTo>
                      <a:pt x="214" y="1135"/>
                    </a:lnTo>
                    <a:lnTo>
                      <a:pt x="239" y="1065"/>
                    </a:lnTo>
                    <a:lnTo>
                      <a:pt x="266" y="995"/>
                    </a:lnTo>
                    <a:lnTo>
                      <a:pt x="293" y="926"/>
                    </a:lnTo>
                    <a:lnTo>
                      <a:pt x="323" y="858"/>
                    </a:lnTo>
                    <a:lnTo>
                      <a:pt x="353" y="791"/>
                    </a:lnTo>
                    <a:lnTo>
                      <a:pt x="386" y="724"/>
                    </a:lnTo>
                    <a:lnTo>
                      <a:pt x="419" y="658"/>
                    </a:lnTo>
                    <a:lnTo>
                      <a:pt x="455" y="595"/>
                    </a:lnTo>
                    <a:lnTo>
                      <a:pt x="491" y="530"/>
                    </a:lnTo>
                    <a:lnTo>
                      <a:pt x="529" y="467"/>
                    </a:lnTo>
                    <a:lnTo>
                      <a:pt x="569" y="406"/>
                    </a:lnTo>
                    <a:lnTo>
                      <a:pt x="609" y="344"/>
                    </a:lnTo>
                    <a:lnTo>
                      <a:pt x="651" y="285"/>
                    </a:lnTo>
                    <a:lnTo>
                      <a:pt x="695" y="225"/>
                    </a:lnTo>
                    <a:lnTo>
                      <a:pt x="740" y="167"/>
                    </a:lnTo>
                    <a:lnTo>
                      <a:pt x="785" y="111"/>
                    </a:lnTo>
                    <a:lnTo>
                      <a:pt x="833" y="55"/>
                    </a:lnTo>
                    <a:lnTo>
                      <a:pt x="880" y="0"/>
                    </a:lnTo>
                    <a:lnTo>
                      <a:pt x="871" y="3"/>
                    </a:lnTo>
                    <a:lnTo>
                      <a:pt x="861" y="6"/>
                    </a:lnTo>
                    <a:lnTo>
                      <a:pt x="851" y="9"/>
                    </a:lnTo>
                    <a:lnTo>
                      <a:pt x="840" y="14"/>
                    </a:lnTo>
                    <a:lnTo>
                      <a:pt x="831" y="17"/>
                    </a:lnTo>
                    <a:lnTo>
                      <a:pt x="821" y="20"/>
                    </a:lnTo>
                    <a:lnTo>
                      <a:pt x="811" y="23"/>
                    </a:lnTo>
                    <a:lnTo>
                      <a:pt x="802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267000" y="2124000"/>
                <a:ext cx="2613240" cy="1746360"/>
              </a:xfrm>
              <a:custGeom>
                <a:avLst/>
                <a:gdLst/>
                <a:ahLst/>
                <a:rect l="l" t="t" r="r" b="b"/>
                <a:pathLst>
                  <a:path w="6584" h="4400">
                    <a:moveTo>
                      <a:pt x="6584" y="2200"/>
                    </a:moveTo>
                    <a:lnTo>
                      <a:pt x="6583" y="2122"/>
                    </a:lnTo>
                    <a:lnTo>
                      <a:pt x="6581" y="2044"/>
                    </a:lnTo>
                    <a:lnTo>
                      <a:pt x="6575" y="1967"/>
                    </a:lnTo>
                    <a:lnTo>
                      <a:pt x="6570" y="1891"/>
                    </a:lnTo>
                    <a:lnTo>
                      <a:pt x="6561" y="1815"/>
                    </a:lnTo>
                    <a:lnTo>
                      <a:pt x="6552" y="1740"/>
                    </a:lnTo>
                    <a:lnTo>
                      <a:pt x="6541" y="1664"/>
                    </a:lnTo>
                    <a:lnTo>
                      <a:pt x="6528" y="1591"/>
                    </a:lnTo>
                    <a:lnTo>
                      <a:pt x="6513" y="1516"/>
                    </a:lnTo>
                    <a:lnTo>
                      <a:pt x="6497" y="1443"/>
                    </a:lnTo>
                    <a:lnTo>
                      <a:pt x="6478" y="1370"/>
                    </a:lnTo>
                    <a:lnTo>
                      <a:pt x="6459" y="1299"/>
                    </a:lnTo>
                    <a:lnTo>
                      <a:pt x="6438" y="1228"/>
                    </a:lnTo>
                    <a:lnTo>
                      <a:pt x="6415" y="1156"/>
                    </a:lnTo>
                    <a:lnTo>
                      <a:pt x="6391" y="1087"/>
                    </a:lnTo>
                    <a:lnTo>
                      <a:pt x="6366" y="1018"/>
                    </a:lnTo>
                    <a:lnTo>
                      <a:pt x="6338" y="950"/>
                    </a:lnTo>
                    <a:lnTo>
                      <a:pt x="6310" y="882"/>
                    </a:lnTo>
                    <a:lnTo>
                      <a:pt x="6279" y="815"/>
                    </a:lnTo>
                    <a:lnTo>
                      <a:pt x="6248" y="749"/>
                    </a:lnTo>
                    <a:lnTo>
                      <a:pt x="6214" y="684"/>
                    </a:lnTo>
                    <a:lnTo>
                      <a:pt x="6180" y="620"/>
                    </a:lnTo>
                    <a:lnTo>
                      <a:pt x="6144" y="556"/>
                    </a:lnTo>
                    <a:lnTo>
                      <a:pt x="6108" y="493"/>
                    </a:lnTo>
                    <a:lnTo>
                      <a:pt x="6069" y="432"/>
                    </a:lnTo>
                    <a:lnTo>
                      <a:pt x="6029" y="371"/>
                    </a:lnTo>
                    <a:lnTo>
                      <a:pt x="5988" y="311"/>
                    </a:lnTo>
                    <a:lnTo>
                      <a:pt x="5945" y="252"/>
                    </a:lnTo>
                    <a:lnTo>
                      <a:pt x="5902" y="194"/>
                    </a:lnTo>
                    <a:lnTo>
                      <a:pt x="5857" y="137"/>
                    </a:lnTo>
                    <a:lnTo>
                      <a:pt x="5810" y="82"/>
                    </a:lnTo>
                    <a:lnTo>
                      <a:pt x="5764" y="27"/>
                    </a:lnTo>
                    <a:lnTo>
                      <a:pt x="5753" y="23"/>
                    </a:lnTo>
                    <a:lnTo>
                      <a:pt x="5743" y="19"/>
                    </a:lnTo>
                    <a:lnTo>
                      <a:pt x="5734" y="16"/>
                    </a:lnTo>
                    <a:lnTo>
                      <a:pt x="5724" y="13"/>
                    </a:lnTo>
                    <a:lnTo>
                      <a:pt x="5713" y="9"/>
                    </a:lnTo>
                    <a:lnTo>
                      <a:pt x="5703" y="6"/>
                    </a:lnTo>
                    <a:lnTo>
                      <a:pt x="5694" y="3"/>
                    </a:lnTo>
                    <a:lnTo>
                      <a:pt x="5683" y="0"/>
                    </a:lnTo>
                    <a:lnTo>
                      <a:pt x="5733" y="55"/>
                    </a:lnTo>
                    <a:lnTo>
                      <a:pt x="5781" y="110"/>
                    </a:lnTo>
                    <a:lnTo>
                      <a:pt x="5828" y="167"/>
                    </a:lnTo>
                    <a:lnTo>
                      <a:pt x="5873" y="225"/>
                    </a:lnTo>
                    <a:lnTo>
                      <a:pt x="5917" y="285"/>
                    </a:lnTo>
                    <a:lnTo>
                      <a:pt x="5961" y="344"/>
                    </a:lnTo>
                    <a:lnTo>
                      <a:pt x="6003" y="406"/>
                    </a:lnTo>
                    <a:lnTo>
                      <a:pt x="6043" y="468"/>
                    </a:lnTo>
                    <a:lnTo>
                      <a:pt x="6082" y="531"/>
                    </a:lnTo>
                    <a:lnTo>
                      <a:pt x="6118" y="595"/>
                    </a:lnTo>
                    <a:lnTo>
                      <a:pt x="6155" y="661"/>
                    </a:lnTo>
                    <a:lnTo>
                      <a:pt x="6190" y="727"/>
                    </a:lnTo>
                    <a:lnTo>
                      <a:pt x="6222" y="792"/>
                    </a:lnTo>
                    <a:lnTo>
                      <a:pt x="6254" y="860"/>
                    </a:lnTo>
                    <a:lnTo>
                      <a:pt x="6285" y="929"/>
                    </a:lnTo>
                    <a:lnTo>
                      <a:pt x="6313" y="999"/>
                    </a:lnTo>
                    <a:lnTo>
                      <a:pt x="6340" y="1068"/>
                    </a:lnTo>
                    <a:lnTo>
                      <a:pt x="6365" y="1139"/>
                    </a:lnTo>
                    <a:lnTo>
                      <a:pt x="6388" y="1210"/>
                    </a:lnTo>
                    <a:lnTo>
                      <a:pt x="6411" y="1283"/>
                    </a:lnTo>
                    <a:lnTo>
                      <a:pt x="6432" y="1356"/>
                    </a:lnTo>
                    <a:lnTo>
                      <a:pt x="6450" y="1430"/>
                    </a:lnTo>
                    <a:lnTo>
                      <a:pt x="6467" y="1504"/>
                    </a:lnTo>
                    <a:lnTo>
                      <a:pt x="6484" y="1579"/>
                    </a:lnTo>
                    <a:lnTo>
                      <a:pt x="6497" y="1654"/>
                    </a:lnTo>
                    <a:lnTo>
                      <a:pt x="6508" y="1731"/>
                    </a:lnTo>
                    <a:lnTo>
                      <a:pt x="6519" y="1808"/>
                    </a:lnTo>
                    <a:lnTo>
                      <a:pt x="6527" y="1885"/>
                    </a:lnTo>
                    <a:lnTo>
                      <a:pt x="6534" y="1963"/>
                    </a:lnTo>
                    <a:lnTo>
                      <a:pt x="6539" y="2041"/>
                    </a:lnTo>
                    <a:lnTo>
                      <a:pt x="6541" y="2120"/>
                    </a:lnTo>
                    <a:lnTo>
                      <a:pt x="6542" y="2200"/>
                    </a:lnTo>
                    <a:lnTo>
                      <a:pt x="6542" y="2254"/>
                    </a:lnTo>
                    <a:lnTo>
                      <a:pt x="6541" y="2309"/>
                    </a:lnTo>
                    <a:lnTo>
                      <a:pt x="6539" y="2363"/>
                    </a:lnTo>
                    <a:lnTo>
                      <a:pt x="6535" y="2417"/>
                    </a:lnTo>
                    <a:lnTo>
                      <a:pt x="6531" y="2471"/>
                    </a:lnTo>
                    <a:lnTo>
                      <a:pt x="6526" y="2524"/>
                    </a:lnTo>
                    <a:lnTo>
                      <a:pt x="6520" y="2578"/>
                    </a:lnTo>
                    <a:lnTo>
                      <a:pt x="6514" y="2631"/>
                    </a:lnTo>
                    <a:lnTo>
                      <a:pt x="6506" y="2682"/>
                    </a:lnTo>
                    <a:lnTo>
                      <a:pt x="6498" y="2735"/>
                    </a:lnTo>
                    <a:lnTo>
                      <a:pt x="6489" y="2787"/>
                    </a:lnTo>
                    <a:lnTo>
                      <a:pt x="6479" y="2839"/>
                    </a:lnTo>
                    <a:lnTo>
                      <a:pt x="6468" y="2891"/>
                    </a:lnTo>
                    <a:lnTo>
                      <a:pt x="6457" y="2943"/>
                    </a:lnTo>
                    <a:lnTo>
                      <a:pt x="6445" y="2993"/>
                    </a:lnTo>
                    <a:lnTo>
                      <a:pt x="6431" y="3044"/>
                    </a:lnTo>
                    <a:lnTo>
                      <a:pt x="6472" y="3055"/>
                    </a:lnTo>
                    <a:lnTo>
                      <a:pt x="6485" y="3003"/>
                    </a:lnTo>
                    <a:lnTo>
                      <a:pt x="6498" y="2951"/>
                    </a:lnTo>
                    <a:lnTo>
                      <a:pt x="6509" y="2900"/>
                    </a:lnTo>
                    <a:lnTo>
                      <a:pt x="6520" y="2848"/>
                    </a:lnTo>
                    <a:lnTo>
                      <a:pt x="6530" y="2795"/>
                    </a:lnTo>
                    <a:lnTo>
                      <a:pt x="6539" y="2742"/>
                    </a:lnTo>
                    <a:lnTo>
                      <a:pt x="6547" y="2689"/>
                    </a:lnTo>
                    <a:lnTo>
                      <a:pt x="6555" y="2636"/>
                    </a:lnTo>
                    <a:lnTo>
                      <a:pt x="6561" y="2582"/>
                    </a:lnTo>
                    <a:lnTo>
                      <a:pt x="6568" y="2528"/>
                    </a:lnTo>
                    <a:lnTo>
                      <a:pt x="6572" y="2474"/>
                    </a:lnTo>
                    <a:lnTo>
                      <a:pt x="6576" y="2420"/>
                    </a:lnTo>
                    <a:lnTo>
                      <a:pt x="6580" y="2365"/>
                    </a:lnTo>
                    <a:lnTo>
                      <a:pt x="6582" y="2310"/>
                    </a:lnTo>
                    <a:lnTo>
                      <a:pt x="6584" y="2255"/>
                    </a:lnTo>
                    <a:lnTo>
                      <a:pt x="6584" y="2200"/>
                    </a:lnTo>
                    <a:close/>
                    <a:moveTo>
                      <a:pt x="820" y="27"/>
                    </a:moveTo>
                    <a:lnTo>
                      <a:pt x="774" y="82"/>
                    </a:lnTo>
                    <a:lnTo>
                      <a:pt x="728" y="137"/>
                    </a:lnTo>
                    <a:lnTo>
                      <a:pt x="682" y="194"/>
                    </a:lnTo>
                    <a:lnTo>
                      <a:pt x="639" y="252"/>
                    </a:lnTo>
                    <a:lnTo>
                      <a:pt x="597" y="311"/>
                    </a:lnTo>
                    <a:lnTo>
                      <a:pt x="556" y="371"/>
                    </a:lnTo>
                    <a:lnTo>
                      <a:pt x="516" y="432"/>
                    </a:lnTo>
                    <a:lnTo>
                      <a:pt x="477" y="493"/>
                    </a:lnTo>
                    <a:lnTo>
                      <a:pt x="440" y="556"/>
                    </a:lnTo>
                    <a:lnTo>
                      <a:pt x="404" y="620"/>
                    </a:lnTo>
                    <a:lnTo>
                      <a:pt x="370" y="684"/>
                    </a:lnTo>
                    <a:lnTo>
                      <a:pt x="336" y="749"/>
                    </a:lnTo>
                    <a:lnTo>
                      <a:pt x="305" y="815"/>
                    </a:lnTo>
                    <a:lnTo>
                      <a:pt x="275" y="882"/>
                    </a:lnTo>
                    <a:lnTo>
                      <a:pt x="247" y="950"/>
                    </a:lnTo>
                    <a:lnTo>
                      <a:pt x="219" y="1018"/>
                    </a:lnTo>
                    <a:lnTo>
                      <a:pt x="194" y="1087"/>
                    </a:lnTo>
                    <a:lnTo>
                      <a:pt x="169" y="1156"/>
                    </a:lnTo>
                    <a:lnTo>
                      <a:pt x="146" y="1228"/>
                    </a:lnTo>
                    <a:lnTo>
                      <a:pt x="126" y="1299"/>
                    </a:lnTo>
                    <a:lnTo>
                      <a:pt x="106" y="1370"/>
                    </a:lnTo>
                    <a:lnTo>
                      <a:pt x="88" y="1443"/>
                    </a:lnTo>
                    <a:lnTo>
                      <a:pt x="72" y="1516"/>
                    </a:lnTo>
                    <a:lnTo>
                      <a:pt x="57" y="1591"/>
                    </a:lnTo>
                    <a:lnTo>
                      <a:pt x="44" y="1664"/>
                    </a:lnTo>
                    <a:lnTo>
                      <a:pt x="33" y="1740"/>
                    </a:lnTo>
                    <a:lnTo>
                      <a:pt x="23" y="1815"/>
                    </a:lnTo>
                    <a:lnTo>
                      <a:pt x="14" y="1891"/>
                    </a:lnTo>
                    <a:lnTo>
                      <a:pt x="8" y="1967"/>
                    </a:lnTo>
                    <a:lnTo>
                      <a:pt x="4" y="2044"/>
                    </a:lnTo>
                    <a:lnTo>
                      <a:pt x="1" y="2122"/>
                    </a:lnTo>
                    <a:lnTo>
                      <a:pt x="0" y="2200"/>
                    </a:lnTo>
                    <a:lnTo>
                      <a:pt x="1" y="2277"/>
                    </a:lnTo>
                    <a:lnTo>
                      <a:pt x="4" y="2355"/>
                    </a:lnTo>
                    <a:lnTo>
                      <a:pt x="8" y="2432"/>
                    </a:lnTo>
                    <a:lnTo>
                      <a:pt x="14" y="2509"/>
                    </a:lnTo>
                    <a:lnTo>
                      <a:pt x="23" y="2584"/>
                    </a:lnTo>
                    <a:lnTo>
                      <a:pt x="33" y="2660"/>
                    </a:lnTo>
                    <a:lnTo>
                      <a:pt x="44" y="2734"/>
                    </a:lnTo>
                    <a:lnTo>
                      <a:pt x="57" y="2809"/>
                    </a:lnTo>
                    <a:lnTo>
                      <a:pt x="72" y="2882"/>
                    </a:lnTo>
                    <a:lnTo>
                      <a:pt x="88" y="2956"/>
                    </a:lnTo>
                    <a:lnTo>
                      <a:pt x="106" y="3028"/>
                    </a:lnTo>
                    <a:lnTo>
                      <a:pt x="126" y="3100"/>
                    </a:lnTo>
                    <a:lnTo>
                      <a:pt x="146" y="3172"/>
                    </a:lnTo>
                    <a:lnTo>
                      <a:pt x="169" y="3242"/>
                    </a:lnTo>
                    <a:lnTo>
                      <a:pt x="194" y="3312"/>
                    </a:lnTo>
                    <a:lnTo>
                      <a:pt x="219" y="3381"/>
                    </a:lnTo>
                    <a:lnTo>
                      <a:pt x="247" y="3449"/>
                    </a:lnTo>
                    <a:lnTo>
                      <a:pt x="275" y="3517"/>
                    </a:lnTo>
                    <a:lnTo>
                      <a:pt x="305" y="3584"/>
                    </a:lnTo>
                    <a:lnTo>
                      <a:pt x="336" y="3650"/>
                    </a:lnTo>
                    <a:lnTo>
                      <a:pt x="370" y="3715"/>
                    </a:lnTo>
                    <a:lnTo>
                      <a:pt x="404" y="3780"/>
                    </a:lnTo>
                    <a:lnTo>
                      <a:pt x="440" y="3842"/>
                    </a:lnTo>
                    <a:lnTo>
                      <a:pt x="477" y="3905"/>
                    </a:lnTo>
                    <a:lnTo>
                      <a:pt x="516" y="3968"/>
                    </a:lnTo>
                    <a:lnTo>
                      <a:pt x="556" y="4028"/>
                    </a:lnTo>
                    <a:lnTo>
                      <a:pt x="597" y="4088"/>
                    </a:lnTo>
                    <a:lnTo>
                      <a:pt x="639" y="4147"/>
                    </a:lnTo>
                    <a:lnTo>
                      <a:pt x="682" y="4204"/>
                    </a:lnTo>
                    <a:lnTo>
                      <a:pt x="728" y="4261"/>
                    </a:lnTo>
                    <a:lnTo>
                      <a:pt x="773" y="4318"/>
                    </a:lnTo>
                    <a:lnTo>
                      <a:pt x="820" y="4373"/>
                    </a:lnTo>
                    <a:lnTo>
                      <a:pt x="830" y="4376"/>
                    </a:lnTo>
                    <a:lnTo>
                      <a:pt x="841" y="4379"/>
                    </a:lnTo>
                    <a:lnTo>
                      <a:pt x="851" y="4382"/>
                    </a:lnTo>
                    <a:lnTo>
                      <a:pt x="860" y="4386"/>
                    </a:lnTo>
                    <a:lnTo>
                      <a:pt x="871" y="4389"/>
                    </a:lnTo>
                    <a:lnTo>
                      <a:pt x="881" y="4393"/>
                    </a:lnTo>
                    <a:lnTo>
                      <a:pt x="891" y="4396"/>
                    </a:lnTo>
                    <a:lnTo>
                      <a:pt x="901" y="4400"/>
                    </a:lnTo>
                    <a:lnTo>
                      <a:pt x="852" y="4345"/>
                    </a:lnTo>
                    <a:lnTo>
                      <a:pt x="803" y="4288"/>
                    </a:lnTo>
                    <a:lnTo>
                      <a:pt x="757" y="4231"/>
                    </a:lnTo>
                    <a:lnTo>
                      <a:pt x="711" y="4174"/>
                    </a:lnTo>
                    <a:lnTo>
                      <a:pt x="667" y="4115"/>
                    </a:lnTo>
                    <a:lnTo>
                      <a:pt x="624" y="4054"/>
                    </a:lnTo>
                    <a:lnTo>
                      <a:pt x="582" y="3992"/>
                    </a:lnTo>
                    <a:lnTo>
                      <a:pt x="542" y="3931"/>
                    </a:lnTo>
                    <a:lnTo>
                      <a:pt x="503" y="3867"/>
                    </a:lnTo>
                    <a:lnTo>
                      <a:pt x="465" y="3803"/>
                    </a:lnTo>
                    <a:lnTo>
                      <a:pt x="429" y="3739"/>
                    </a:lnTo>
                    <a:lnTo>
                      <a:pt x="395" y="3673"/>
                    </a:lnTo>
                    <a:lnTo>
                      <a:pt x="362" y="3606"/>
                    </a:lnTo>
                    <a:lnTo>
                      <a:pt x="330" y="3538"/>
                    </a:lnTo>
                    <a:lnTo>
                      <a:pt x="300" y="3470"/>
                    </a:lnTo>
                    <a:lnTo>
                      <a:pt x="272" y="3401"/>
                    </a:lnTo>
                    <a:lnTo>
                      <a:pt x="245" y="3330"/>
                    </a:lnTo>
                    <a:lnTo>
                      <a:pt x="220" y="3260"/>
                    </a:lnTo>
                    <a:lnTo>
                      <a:pt x="196" y="3188"/>
                    </a:lnTo>
                    <a:lnTo>
                      <a:pt x="173" y="3116"/>
                    </a:lnTo>
                    <a:lnTo>
                      <a:pt x="153" y="3043"/>
                    </a:lnTo>
                    <a:lnTo>
                      <a:pt x="134" y="2969"/>
                    </a:lnTo>
                    <a:lnTo>
                      <a:pt x="117" y="2895"/>
                    </a:lnTo>
                    <a:lnTo>
                      <a:pt x="101" y="2820"/>
                    </a:lnTo>
                    <a:lnTo>
                      <a:pt x="88" y="2744"/>
                    </a:lnTo>
                    <a:lnTo>
                      <a:pt x="76" y="2668"/>
                    </a:lnTo>
                    <a:lnTo>
                      <a:pt x="65" y="2592"/>
                    </a:lnTo>
                    <a:lnTo>
                      <a:pt x="58" y="2514"/>
                    </a:lnTo>
                    <a:lnTo>
                      <a:pt x="50" y="2436"/>
                    </a:lnTo>
                    <a:lnTo>
                      <a:pt x="46" y="2357"/>
                    </a:lnTo>
                    <a:lnTo>
                      <a:pt x="42" y="2279"/>
                    </a:lnTo>
                    <a:lnTo>
                      <a:pt x="42" y="2200"/>
                    </a:lnTo>
                    <a:lnTo>
                      <a:pt x="42" y="2120"/>
                    </a:lnTo>
                    <a:lnTo>
                      <a:pt x="46" y="2041"/>
                    </a:lnTo>
                    <a:lnTo>
                      <a:pt x="50" y="1963"/>
                    </a:lnTo>
                    <a:lnTo>
                      <a:pt x="58" y="1885"/>
                    </a:lnTo>
                    <a:lnTo>
                      <a:pt x="65" y="1808"/>
                    </a:lnTo>
                    <a:lnTo>
                      <a:pt x="76" y="1731"/>
                    </a:lnTo>
                    <a:lnTo>
                      <a:pt x="88" y="1654"/>
                    </a:lnTo>
                    <a:lnTo>
                      <a:pt x="101" y="1579"/>
                    </a:lnTo>
                    <a:lnTo>
                      <a:pt x="117" y="1504"/>
                    </a:lnTo>
                    <a:lnTo>
                      <a:pt x="134" y="1430"/>
                    </a:lnTo>
                    <a:lnTo>
                      <a:pt x="153" y="1356"/>
                    </a:lnTo>
                    <a:lnTo>
                      <a:pt x="173" y="1283"/>
                    </a:lnTo>
                    <a:lnTo>
                      <a:pt x="196" y="1210"/>
                    </a:lnTo>
                    <a:lnTo>
                      <a:pt x="220" y="1139"/>
                    </a:lnTo>
                    <a:lnTo>
                      <a:pt x="245" y="1068"/>
                    </a:lnTo>
                    <a:lnTo>
                      <a:pt x="272" y="999"/>
                    </a:lnTo>
                    <a:lnTo>
                      <a:pt x="300" y="929"/>
                    </a:lnTo>
                    <a:lnTo>
                      <a:pt x="330" y="860"/>
                    </a:lnTo>
                    <a:lnTo>
                      <a:pt x="362" y="792"/>
                    </a:lnTo>
                    <a:lnTo>
                      <a:pt x="395" y="727"/>
                    </a:lnTo>
                    <a:lnTo>
                      <a:pt x="429" y="661"/>
                    </a:lnTo>
                    <a:lnTo>
                      <a:pt x="465" y="595"/>
                    </a:lnTo>
                    <a:lnTo>
                      <a:pt x="503" y="531"/>
                    </a:lnTo>
                    <a:lnTo>
                      <a:pt x="542" y="468"/>
                    </a:lnTo>
                    <a:lnTo>
                      <a:pt x="582" y="406"/>
                    </a:lnTo>
                    <a:lnTo>
                      <a:pt x="624" y="344"/>
                    </a:lnTo>
                    <a:lnTo>
                      <a:pt x="667" y="285"/>
                    </a:lnTo>
                    <a:lnTo>
                      <a:pt x="711" y="225"/>
                    </a:lnTo>
                    <a:lnTo>
                      <a:pt x="757" y="167"/>
                    </a:lnTo>
                    <a:lnTo>
                      <a:pt x="803" y="110"/>
                    </a:lnTo>
                    <a:lnTo>
                      <a:pt x="852" y="55"/>
                    </a:lnTo>
                    <a:lnTo>
                      <a:pt x="901" y="0"/>
                    </a:lnTo>
                    <a:lnTo>
                      <a:pt x="891" y="3"/>
                    </a:lnTo>
                    <a:lnTo>
                      <a:pt x="881" y="6"/>
                    </a:lnTo>
                    <a:lnTo>
                      <a:pt x="871" y="9"/>
                    </a:lnTo>
                    <a:lnTo>
                      <a:pt x="860" y="13"/>
                    </a:lnTo>
                    <a:lnTo>
                      <a:pt x="851" y="16"/>
                    </a:lnTo>
                    <a:lnTo>
                      <a:pt x="841" y="19"/>
                    </a:lnTo>
                    <a:lnTo>
                      <a:pt x="830" y="23"/>
                    </a:lnTo>
                    <a:lnTo>
                      <a:pt x="820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274920" y="2119320"/>
                <a:ext cx="2597400" cy="1755720"/>
              </a:xfrm>
              <a:custGeom>
                <a:avLst/>
                <a:gdLst/>
                <a:ahLst/>
                <a:rect l="l" t="t" r="r" b="b"/>
                <a:pathLst>
                  <a:path w="6543" h="4426">
                    <a:moveTo>
                      <a:pt x="6543" y="2213"/>
                    </a:moveTo>
                    <a:lnTo>
                      <a:pt x="6541" y="2134"/>
                    </a:lnTo>
                    <a:lnTo>
                      <a:pt x="6538" y="2056"/>
                    </a:lnTo>
                    <a:lnTo>
                      <a:pt x="6534" y="1978"/>
                    </a:lnTo>
                    <a:lnTo>
                      <a:pt x="6527" y="1901"/>
                    </a:lnTo>
                    <a:lnTo>
                      <a:pt x="6520" y="1824"/>
                    </a:lnTo>
                    <a:lnTo>
                      <a:pt x="6509" y="1748"/>
                    </a:lnTo>
                    <a:lnTo>
                      <a:pt x="6498" y="1673"/>
                    </a:lnTo>
                    <a:lnTo>
                      <a:pt x="6484" y="1597"/>
                    </a:lnTo>
                    <a:lnTo>
                      <a:pt x="6469" y="1524"/>
                    </a:lnTo>
                    <a:lnTo>
                      <a:pt x="6453" y="1449"/>
                    </a:lnTo>
                    <a:lnTo>
                      <a:pt x="6434" y="1377"/>
                    </a:lnTo>
                    <a:lnTo>
                      <a:pt x="6414" y="1303"/>
                    </a:lnTo>
                    <a:lnTo>
                      <a:pt x="6392" y="1232"/>
                    </a:lnTo>
                    <a:lnTo>
                      <a:pt x="6370" y="1161"/>
                    </a:lnTo>
                    <a:lnTo>
                      <a:pt x="6345" y="1091"/>
                    </a:lnTo>
                    <a:lnTo>
                      <a:pt x="6318" y="1021"/>
                    </a:lnTo>
                    <a:lnTo>
                      <a:pt x="6290" y="952"/>
                    </a:lnTo>
                    <a:lnTo>
                      <a:pt x="6260" y="884"/>
                    </a:lnTo>
                    <a:lnTo>
                      <a:pt x="6230" y="817"/>
                    </a:lnTo>
                    <a:lnTo>
                      <a:pt x="6198" y="750"/>
                    </a:lnTo>
                    <a:lnTo>
                      <a:pt x="6163" y="684"/>
                    </a:lnTo>
                    <a:lnTo>
                      <a:pt x="6129" y="621"/>
                    </a:lnTo>
                    <a:lnTo>
                      <a:pt x="6092" y="556"/>
                    </a:lnTo>
                    <a:lnTo>
                      <a:pt x="6054" y="493"/>
                    </a:lnTo>
                    <a:lnTo>
                      <a:pt x="6014" y="432"/>
                    </a:lnTo>
                    <a:lnTo>
                      <a:pt x="5974" y="370"/>
                    </a:lnTo>
                    <a:lnTo>
                      <a:pt x="5932" y="311"/>
                    </a:lnTo>
                    <a:lnTo>
                      <a:pt x="5889" y="251"/>
                    </a:lnTo>
                    <a:lnTo>
                      <a:pt x="5843" y="193"/>
                    </a:lnTo>
                    <a:lnTo>
                      <a:pt x="5798" y="137"/>
                    </a:lnTo>
                    <a:lnTo>
                      <a:pt x="5750" y="81"/>
                    </a:lnTo>
                    <a:lnTo>
                      <a:pt x="5703" y="26"/>
                    </a:lnTo>
                    <a:lnTo>
                      <a:pt x="5692" y="22"/>
                    </a:lnTo>
                    <a:lnTo>
                      <a:pt x="5682" y="19"/>
                    </a:lnTo>
                    <a:lnTo>
                      <a:pt x="5673" y="16"/>
                    </a:lnTo>
                    <a:lnTo>
                      <a:pt x="5662" y="13"/>
                    </a:lnTo>
                    <a:lnTo>
                      <a:pt x="5652" y="9"/>
                    </a:lnTo>
                    <a:lnTo>
                      <a:pt x="5641" y="6"/>
                    </a:lnTo>
                    <a:lnTo>
                      <a:pt x="5632" y="3"/>
                    </a:lnTo>
                    <a:lnTo>
                      <a:pt x="5622" y="0"/>
                    </a:lnTo>
                    <a:lnTo>
                      <a:pt x="5672" y="54"/>
                    </a:lnTo>
                    <a:lnTo>
                      <a:pt x="5721" y="110"/>
                    </a:lnTo>
                    <a:lnTo>
                      <a:pt x="5769" y="167"/>
                    </a:lnTo>
                    <a:lnTo>
                      <a:pt x="5815" y="225"/>
                    </a:lnTo>
                    <a:lnTo>
                      <a:pt x="5861" y="285"/>
                    </a:lnTo>
                    <a:lnTo>
                      <a:pt x="5905" y="344"/>
                    </a:lnTo>
                    <a:lnTo>
                      <a:pt x="5947" y="406"/>
                    </a:lnTo>
                    <a:lnTo>
                      <a:pt x="5988" y="468"/>
                    </a:lnTo>
                    <a:lnTo>
                      <a:pt x="6028" y="532"/>
                    </a:lnTo>
                    <a:lnTo>
                      <a:pt x="6067" y="596"/>
                    </a:lnTo>
                    <a:lnTo>
                      <a:pt x="6104" y="662"/>
                    </a:lnTo>
                    <a:lnTo>
                      <a:pt x="6139" y="728"/>
                    </a:lnTo>
                    <a:lnTo>
                      <a:pt x="6173" y="795"/>
                    </a:lnTo>
                    <a:lnTo>
                      <a:pt x="6205" y="863"/>
                    </a:lnTo>
                    <a:lnTo>
                      <a:pt x="6236" y="932"/>
                    </a:lnTo>
                    <a:lnTo>
                      <a:pt x="6265" y="1001"/>
                    </a:lnTo>
                    <a:lnTo>
                      <a:pt x="6293" y="1072"/>
                    </a:lnTo>
                    <a:lnTo>
                      <a:pt x="6319" y="1143"/>
                    </a:lnTo>
                    <a:lnTo>
                      <a:pt x="6344" y="1215"/>
                    </a:lnTo>
                    <a:lnTo>
                      <a:pt x="6366" y="1288"/>
                    </a:lnTo>
                    <a:lnTo>
                      <a:pt x="6387" y="1362"/>
                    </a:lnTo>
                    <a:lnTo>
                      <a:pt x="6406" y="1436"/>
                    </a:lnTo>
                    <a:lnTo>
                      <a:pt x="6424" y="1511"/>
                    </a:lnTo>
                    <a:lnTo>
                      <a:pt x="6440" y="1586"/>
                    </a:lnTo>
                    <a:lnTo>
                      <a:pt x="6454" y="1663"/>
                    </a:lnTo>
                    <a:lnTo>
                      <a:pt x="6466" y="1740"/>
                    </a:lnTo>
                    <a:lnTo>
                      <a:pt x="6477" y="1817"/>
                    </a:lnTo>
                    <a:lnTo>
                      <a:pt x="6485" y="1895"/>
                    </a:lnTo>
                    <a:lnTo>
                      <a:pt x="6492" y="1974"/>
                    </a:lnTo>
                    <a:lnTo>
                      <a:pt x="6496" y="2053"/>
                    </a:lnTo>
                    <a:lnTo>
                      <a:pt x="6499" y="2133"/>
                    </a:lnTo>
                    <a:lnTo>
                      <a:pt x="6500" y="2213"/>
                    </a:lnTo>
                    <a:lnTo>
                      <a:pt x="6500" y="2267"/>
                    </a:lnTo>
                    <a:lnTo>
                      <a:pt x="6498" y="2321"/>
                    </a:lnTo>
                    <a:lnTo>
                      <a:pt x="6496" y="2375"/>
                    </a:lnTo>
                    <a:lnTo>
                      <a:pt x="6493" y="2429"/>
                    </a:lnTo>
                    <a:lnTo>
                      <a:pt x="6490" y="2482"/>
                    </a:lnTo>
                    <a:lnTo>
                      <a:pt x="6484" y="2535"/>
                    </a:lnTo>
                    <a:lnTo>
                      <a:pt x="6479" y="2587"/>
                    </a:lnTo>
                    <a:lnTo>
                      <a:pt x="6472" y="2640"/>
                    </a:lnTo>
                    <a:lnTo>
                      <a:pt x="6465" y="2693"/>
                    </a:lnTo>
                    <a:lnTo>
                      <a:pt x="6456" y="2745"/>
                    </a:lnTo>
                    <a:lnTo>
                      <a:pt x="6447" y="2797"/>
                    </a:lnTo>
                    <a:lnTo>
                      <a:pt x="6438" y="2849"/>
                    </a:lnTo>
                    <a:lnTo>
                      <a:pt x="6427" y="2900"/>
                    </a:lnTo>
                    <a:lnTo>
                      <a:pt x="6415" y="2950"/>
                    </a:lnTo>
                    <a:lnTo>
                      <a:pt x="6403" y="3001"/>
                    </a:lnTo>
                    <a:lnTo>
                      <a:pt x="6390" y="3052"/>
                    </a:lnTo>
                    <a:lnTo>
                      <a:pt x="6430" y="3063"/>
                    </a:lnTo>
                    <a:lnTo>
                      <a:pt x="6443" y="3012"/>
                    </a:lnTo>
                    <a:lnTo>
                      <a:pt x="6456" y="2960"/>
                    </a:lnTo>
                    <a:lnTo>
                      <a:pt x="6468" y="2908"/>
                    </a:lnTo>
                    <a:lnTo>
                      <a:pt x="6479" y="2856"/>
                    </a:lnTo>
                    <a:lnTo>
                      <a:pt x="6488" y="2805"/>
                    </a:lnTo>
                    <a:lnTo>
                      <a:pt x="6497" y="2752"/>
                    </a:lnTo>
                    <a:lnTo>
                      <a:pt x="6506" y="2699"/>
                    </a:lnTo>
                    <a:lnTo>
                      <a:pt x="6513" y="2646"/>
                    </a:lnTo>
                    <a:lnTo>
                      <a:pt x="6520" y="2593"/>
                    </a:lnTo>
                    <a:lnTo>
                      <a:pt x="6526" y="2539"/>
                    </a:lnTo>
                    <a:lnTo>
                      <a:pt x="6531" y="2485"/>
                    </a:lnTo>
                    <a:lnTo>
                      <a:pt x="6535" y="2431"/>
                    </a:lnTo>
                    <a:lnTo>
                      <a:pt x="6538" y="2377"/>
                    </a:lnTo>
                    <a:lnTo>
                      <a:pt x="6540" y="2322"/>
                    </a:lnTo>
                    <a:lnTo>
                      <a:pt x="6541" y="2268"/>
                    </a:lnTo>
                    <a:lnTo>
                      <a:pt x="6543" y="2213"/>
                    </a:lnTo>
                    <a:close/>
                    <a:moveTo>
                      <a:pt x="839" y="26"/>
                    </a:moveTo>
                    <a:lnTo>
                      <a:pt x="792" y="81"/>
                    </a:lnTo>
                    <a:lnTo>
                      <a:pt x="744" y="137"/>
                    </a:lnTo>
                    <a:lnTo>
                      <a:pt x="699" y="193"/>
                    </a:lnTo>
                    <a:lnTo>
                      <a:pt x="654" y="251"/>
                    </a:lnTo>
                    <a:lnTo>
                      <a:pt x="610" y="311"/>
                    </a:lnTo>
                    <a:lnTo>
                      <a:pt x="568" y="370"/>
                    </a:lnTo>
                    <a:lnTo>
                      <a:pt x="528" y="432"/>
                    </a:lnTo>
                    <a:lnTo>
                      <a:pt x="488" y="493"/>
                    </a:lnTo>
                    <a:lnTo>
                      <a:pt x="450" y="556"/>
                    </a:lnTo>
                    <a:lnTo>
                      <a:pt x="414" y="621"/>
                    </a:lnTo>
                    <a:lnTo>
                      <a:pt x="378" y="684"/>
                    </a:lnTo>
                    <a:lnTo>
                      <a:pt x="345" y="750"/>
                    </a:lnTo>
                    <a:lnTo>
                      <a:pt x="312" y="817"/>
                    </a:lnTo>
                    <a:lnTo>
                      <a:pt x="282" y="884"/>
                    </a:lnTo>
                    <a:lnTo>
                      <a:pt x="252" y="952"/>
                    </a:lnTo>
                    <a:lnTo>
                      <a:pt x="225" y="1021"/>
                    </a:lnTo>
                    <a:lnTo>
                      <a:pt x="198" y="1091"/>
                    </a:lnTo>
                    <a:lnTo>
                      <a:pt x="173" y="1161"/>
                    </a:lnTo>
                    <a:lnTo>
                      <a:pt x="150" y="1232"/>
                    </a:lnTo>
                    <a:lnTo>
                      <a:pt x="128" y="1303"/>
                    </a:lnTo>
                    <a:lnTo>
                      <a:pt x="108" y="1377"/>
                    </a:lnTo>
                    <a:lnTo>
                      <a:pt x="90" y="1449"/>
                    </a:lnTo>
                    <a:lnTo>
                      <a:pt x="73" y="1524"/>
                    </a:lnTo>
                    <a:lnTo>
                      <a:pt x="58" y="1597"/>
                    </a:lnTo>
                    <a:lnTo>
                      <a:pt x="44" y="1673"/>
                    </a:lnTo>
                    <a:lnTo>
                      <a:pt x="33" y="1748"/>
                    </a:lnTo>
                    <a:lnTo>
                      <a:pt x="23" y="1824"/>
                    </a:lnTo>
                    <a:lnTo>
                      <a:pt x="15" y="1901"/>
                    </a:lnTo>
                    <a:lnTo>
                      <a:pt x="9" y="1978"/>
                    </a:lnTo>
                    <a:lnTo>
                      <a:pt x="4" y="2056"/>
                    </a:lnTo>
                    <a:lnTo>
                      <a:pt x="1" y="2134"/>
                    </a:lnTo>
                    <a:lnTo>
                      <a:pt x="0" y="2213"/>
                    </a:lnTo>
                    <a:lnTo>
                      <a:pt x="1" y="2292"/>
                    </a:lnTo>
                    <a:lnTo>
                      <a:pt x="4" y="2369"/>
                    </a:lnTo>
                    <a:lnTo>
                      <a:pt x="9" y="2447"/>
                    </a:lnTo>
                    <a:lnTo>
                      <a:pt x="15" y="2524"/>
                    </a:lnTo>
                    <a:lnTo>
                      <a:pt x="23" y="2600"/>
                    </a:lnTo>
                    <a:lnTo>
                      <a:pt x="33" y="2677"/>
                    </a:lnTo>
                    <a:lnTo>
                      <a:pt x="44" y="2753"/>
                    </a:lnTo>
                    <a:lnTo>
                      <a:pt x="58" y="2827"/>
                    </a:lnTo>
                    <a:lnTo>
                      <a:pt x="73" y="2902"/>
                    </a:lnTo>
                    <a:lnTo>
                      <a:pt x="90" y="2975"/>
                    </a:lnTo>
                    <a:lnTo>
                      <a:pt x="108" y="3049"/>
                    </a:lnTo>
                    <a:lnTo>
                      <a:pt x="128" y="3121"/>
                    </a:lnTo>
                    <a:lnTo>
                      <a:pt x="150" y="3193"/>
                    </a:lnTo>
                    <a:lnTo>
                      <a:pt x="173" y="3264"/>
                    </a:lnTo>
                    <a:lnTo>
                      <a:pt x="198" y="3334"/>
                    </a:lnTo>
                    <a:lnTo>
                      <a:pt x="225" y="3404"/>
                    </a:lnTo>
                    <a:lnTo>
                      <a:pt x="252" y="3473"/>
                    </a:lnTo>
                    <a:lnTo>
                      <a:pt x="282" y="3541"/>
                    </a:lnTo>
                    <a:lnTo>
                      <a:pt x="312" y="3608"/>
                    </a:lnTo>
                    <a:lnTo>
                      <a:pt x="345" y="3674"/>
                    </a:lnTo>
                    <a:lnTo>
                      <a:pt x="378" y="3740"/>
                    </a:lnTo>
                    <a:lnTo>
                      <a:pt x="414" y="3805"/>
                    </a:lnTo>
                    <a:lnTo>
                      <a:pt x="450" y="3868"/>
                    </a:lnTo>
                    <a:lnTo>
                      <a:pt x="488" y="3931"/>
                    </a:lnTo>
                    <a:lnTo>
                      <a:pt x="528" y="3994"/>
                    </a:lnTo>
                    <a:lnTo>
                      <a:pt x="568" y="4054"/>
                    </a:lnTo>
                    <a:lnTo>
                      <a:pt x="610" y="4115"/>
                    </a:lnTo>
                    <a:lnTo>
                      <a:pt x="654" y="4173"/>
                    </a:lnTo>
                    <a:lnTo>
                      <a:pt x="699" y="4231"/>
                    </a:lnTo>
                    <a:lnTo>
                      <a:pt x="744" y="4288"/>
                    </a:lnTo>
                    <a:lnTo>
                      <a:pt x="792" y="4345"/>
                    </a:lnTo>
                    <a:lnTo>
                      <a:pt x="839" y="4399"/>
                    </a:lnTo>
                    <a:lnTo>
                      <a:pt x="850" y="4403"/>
                    </a:lnTo>
                    <a:lnTo>
                      <a:pt x="860" y="4406"/>
                    </a:lnTo>
                    <a:lnTo>
                      <a:pt x="870" y="4409"/>
                    </a:lnTo>
                    <a:lnTo>
                      <a:pt x="880" y="4413"/>
                    </a:lnTo>
                    <a:lnTo>
                      <a:pt x="890" y="4416"/>
                    </a:lnTo>
                    <a:lnTo>
                      <a:pt x="900" y="4419"/>
                    </a:lnTo>
                    <a:lnTo>
                      <a:pt x="911" y="4422"/>
                    </a:lnTo>
                    <a:lnTo>
                      <a:pt x="920" y="4426"/>
                    </a:lnTo>
                    <a:lnTo>
                      <a:pt x="871" y="4371"/>
                    </a:lnTo>
                    <a:lnTo>
                      <a:pt x="821" y="4314"/>
                    </a:lnTo>
                    <a:lnTo>
                      <a:pt x="774" y="4258"/>
                    </a:lnTo>
                    <a:lnTo>
                      <a:pt x="727" y="4200"/>
                    </a:lnTo>
                    <a:lnTo>
                      <a:pt x="682" y="4140"/>
                    </a:lnTo>
                    <a:lnTo>
                      <a:pt x="637" y="4080"/>
                    </a:lnTo>
                    <a:lnTo>
                      <a:pt x="595" y="4018"/>
                    </a:lnTo>
                    <a:lnTo>
                      <a:pt x="553" y="3957"/>
                    </a:lnTo>
                    <a:lnTo>
                      <a:pt x="514" y="3893"/>
                    </a:lnTo>
                    <a:lnTo>
                      <a:pt x="475" y="3828"/>
                    </a:lnTo>
                    <a:lnTo>
                      <a:pt x="439" y="3764"/>
                    </a:lnTo>
                    <a:lnTo>
                      <a:pt x="403" y="3698"/>
                    </a:lnTo>
                    <a:lnTo>
                      <a:pt x="369" y="3630"/>
                    </a:lnTo>
                    <a:lnTo>
                      <a:pt x="337" y="3562"/>
                    </a:lnTo>
                    <a:lnTo>
                      <a:pt x="307" y="3494"/>
                    </a:lnTo>
                    <a:lnTo>
                      <a:pt x="276" y="3423"/>
                    </a:lnTo>
                    <a:lnTo>
                      <a:pt x="249" y="3353"/>
                    </a:lnTo>
                    <a:lnTo>
                      <a:pt x="224" y="3282"/>
                    </a:lnTo>
                    <a:lnTo>
                      <a:pt x="199" y="3210"/>
                    </a:lnTo>
                    <a:lnTo>
                      <a:pt x="176" y="3137"/>
                    </a:lnTo>
                    <a:lnTo>
                      <a:pt x="155" y="3064"/>
                    </a:lnTo>
                    <a:lnTo>
                      <a:pt x="136" y="2989"/>
                    </a:lnTo>
                    <a:lnTo>
                      <a:pt x="119" y="2914"/>
                    </a:lnTo>
                    <a:lnTo>
                      <a:pt x="103" y="2838"/>
                    </a:lnTo>
                    <a:lnTo>
                      <a:pt x="88" y="2762"/>
                    </a:lnTo>
                    <a:lnTo>
                      <a:pt x="77" y="2686"/>
                    </a:lnTo>
                    <a:lnTo>
                      <a:pt x="66" y="2608"/>
                    </a:lnTo>
                    <a:lnTo>
                      <a:pt x="57" y="2530"/>
                    </a:lnTo>
                    <a:lnTo>
                      <a:pt x="51" y="2451"/>
                    </a:lnTo>
                    <a:lnTo>
                      <a:pt x="45" y="2373"/>
                    </a:lnTo>
                    <a:lnTo>
                      <a:pt x="43" y="2293"/>
                    </a:lnTo>
                    <a:lnTo>
                      <a:pt x="42" y="2213"/>
                    </a:lnTo>
                    <a:lnTo>
                      <a:pt x="43" y="2133"/>
                    </a:lnTo>
                    <a:lnTo>
                      <a:pt x="45" y="2053"/>
                    </a:lnTo>
                    <a:lnTo>
                      <a:pt x="51" y="1974"/>
                    </a:lnTo>
                    <a:lnTo>
                      <a:pt x="57" y="1895"/>
                    </a:lnTo>
                    <a:lnTo>
                      <a:pt x="66" y="1817"/>
                    </a:lnTo>
                    <a:lnTo>
                      <a:pt x="77" y="1740"/>
                    </a:lnTo>
                    <a:lnTo>
                      <a:pt x="88" y="1663"/>
                    </a:lnTo>
                    <a:lnTo>
                      <a:pt x="103" y="1586"/>
                    </a:lnTo>
                    <a:lnTo>
                      <a:pt x="119" y="1511"/>
                    </a:lnTo>
                    <a:lnTo>
                      <a:pt x="136" y="1436"/>
                    </a:lnTo>
                    <a:lnTo>
                      <a:pt x="155" y="1362"/>
                    </a:lnTo>
                    <a:lnTo>
                      <a:pt x="176" y="1288"/>
                    </a:lnTo>
                    <a:lnTo>
                      <a:pt x="199" y="1215"/>
                    </a:lnTo>
                    <a:lnTo>
                      <a:pt x="224" y="1143"/>
                    </a:lnTo>
                    <a:lnTo>
                      <a:pt x="249" y="1072"/>
                    </a:lnTo>
                    <a:lnTo>
                      <a:pt x="278" y="1001"/>
                    </a:lnTo>
                    <a:lnTo>
                      <a:pt x="307" y="932"/>
                    </a:lnTo>
                    <a:lnTo>
                      <a:pt x="337" y="863"/>
                    </a:lnTo>
                    <a:lnTo>
                      <a:pt x="369" y="795"/>
                    </a:lnTo>
                    <a:lnTo>
                      <a:pt x="403" y="728"/>
                    </a:lnTo>
                    <a:lnTo>
                      <a:pt x="439" y="662"/>
                    </a:lnTo>
                    <a:lnTo>
                      <a:pt x="475" y="596"/>
                    </a:lnTo>
                    <a:lnTo>
                      <a:pt x="514" y="532"/>
                    </a:lnTo>
                    <a:lnTo>
                      <a:pt x="553" y="468"/>
                    </a:lnTo>
                    <a:lnTo>
                      <a:pt x="595" y="406"/>
                    </a:lnTo>
                    <a:lnTo>
                      <a:pt x="637" y="344"/>
                    </a:lnTo>
                    <a:lnTo>
                      <a:pt x="682" y="285"/>
                    </a:lnTo>
                    <a:lnTo>
                      <a:pt x="727" y="225"/>
                    </a:lnTo>
                    <a:lnTo>
                      <a:pt x="774" y="167"/>
                    </a:lnTo>
                    <a:lnTo>
                      <a:pt x="821" y="110"/>
                    </a:lnTo>
                    <a:lnTo>
                      <a:pt x="871" y="54"/>
                    </a:lnTo>
                    <a:lnTo>
                      <a:pt x="920" y="0"/>
                    </a:lnTo>
                    <a:lnTo>
                      <a:pt x="911" y="3"/>
                    </a:lnTo>
                    <a:lnTo>
                      <a:pt x="900" y="6"/>
                    </a:lnTo>
                    <a:lnTo>
                      <a:pt x="890" y="9"/>
                    </a:lnTo>
                    <a:lnTo>
                      <a:pt x="880" y="13"/>
                    </a:lnTo>
                    <a:lnTo>
                      <a:pt x="870" y="16"/>
                    </a:lnTo>
                    <a:lnTo>
                      <a:pt x="860" y="19"/>
                    </a:lnTo>
                    <a:lnTo>
                      <a:pt x="850" y="22"/>
                    </a:lnTo>
                    <a:lnTo>
                      <a:pt x="839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284640" y="2112840"/>
                <a:ext cx="2579760" cy="1768680"/>
              </a:xfrm>
              <a:custGeom>
                <a:avLst/>
                <a:gdLst/>
                <a:ahLst/>
                <a:rect l="l" t="t" r="r" b="b"/>
                <a:pathLst>
                  <a:path w="6500" h="4453">
                    <a:moveTo>
                      <a:pt x="6500" y="2227"/>
                    </a:moveTo>
                    <a:lnTo>
                      <a:pt x="6499" y="2147"/>
                    </a:lnTo>
                    <a:lnTo>
                      <a:pt x="6497" y="2068"/>
                    </a:lnTo>
                    <a:lnTo>
                      <a:pt x="6492" y="1990"/>
                    </a:lnTo>
                    <a:lnTo>
                      <a:pt x="6485" y="1912"/>
                    </a:lnTo>
                    <a:lnTo>
                      <a:pt x="6477" y="1835"/>
                    </a:lnTo>
                    <a:lnTo>
                      <a:pt x="6466" y="1758"/>
                    </a:lnTo>
                    <a:lnTo>
                      <a:pt x="6455" y="1681"/>
                    </a:lnTo>
                    <a:lnTo>
                      <a:pt x="6442" y="1606"/>
                    </a:lnTo>
                    <a:lnTo>
                      <a:pt x="6425" y="1531"/>
                    </a:lnTo>
                    <a:lnTo>
                      <a:pt x="6408" y="1457"/>
                    </a:lnTo>
                    <a:lnTo>
                      <a:pt x="6390" y="1383"/>
                    </a:lnTo>
                    <a:lnTo>
                      <a:pt x="6369" y="1310"/>
                    </a:lnTo>
                    <a:lnTo>
                      <a:pt x="6346" y="1237"/>
                    </a:lnTo>
                    <a:lnTo>
                      <a:pt x="6323" y="1166"/>
                    </a:lnTo>
                    <a:lnTo>
                      <a:pt x="6298" y="1095"/>
                    </a:lnTo>
                    <a:lnTo>
                      <a:pt x="6271" y="1026"/>
                    </a:lnTo>
                    <a:lnTo>
                      <a:pt x="6243" y="956"/>
                    </a:lnTo>
                    <a:lnTo>
                      <a:pt x="6212" y="887"/>
                    </a:lnTo>
                    <a:lnTo>
                      <a:pt x="6180" y="819"/>
                    </a:lnTo>
                    <a:lnTo>
                      <a:pt x="6148" y="754"/>
                    </a:lnTo>
                    <a:lnTo>
                      <a:pt x="6113" y="688"/>
                    </a:lnTo>
                    <a:lnTo>
                      <a:pt x="6076" y="622"/>
                    </a:lnTo>
                    <a:lnTo>
                      <a:pt x="6040" y="558"/>
                    </a:lnTo>
                    <a:lnTo>
                      <a:pt x="6001" y="495"/>
                    </a:lnTo>
                    <a:lnTo>
                      <a:pt x="5961" y="433"/>
                    </a:lnTo>
                    <a:lnTo>
                      <a:pt x="5919" y="371"/>
                    </a:lnTo>
                    <a:lnTo>
                      <a:pt x="5875" y="312"/>
                    </a:lnTo>
                    <a:lnTo>
                      <a:pt x="5831" y="252"/>
                    </a:lnTo>
                    <a:lnTo>
                      <a:pt x="5786" y="194"/>
                    </a:lnTo>
                    <a:lnTo>
                      <a:pt x="5739" y="137"/>
                    </a:lnTo>
                    <a:lnTo>
                      <a:pt x="5691" y="82"/>
                    </a:lnTo>
                    <a:lnTo>
                      <a:pt x="5641" y="27"/>
                    </a:lnTo>
                    <a:lnTo>
                      <a:pt x="5631" y="23"/>
                    </a:lnTo>
                    <a:lnTo>
                      <a:pt x="5621" y="20"/>
                    </a:lnTo>
                    <a:lnTo>
                      <a:pt x="5611" y="17"/>
                    </a:lnTo>
                    <a:lnTo>
                      <a:pt x="5601" y="14"/>
                    </a:lnTo>
                    <a:lnTo>
                      <a:pt x="5590" y="9"/>
                    </a:lnTo>
                    <a:lnTo>
                      <a:pt x="5580" y="6"/>
                    </a:lnTo>
                    <a:lnTo>
                      <a:pt x="5570" y="3"/>
                    </a:lnTo>
                    <a:lnTo>
                      <a:pt x="5559" y="0"/>
                    </a:lnTo>
                    <a:lnTo>
                      <a:pt x="5611" y="55"/>
                    </a:lnTo>
                    <a:lnTo>
                      <a:pt x="5661" y="111"/>
                    </a:lnTo>
                    <a:lnTo>
                      <a:pt x="5710" y="168"/>
                    </a:lnTo>
                    <a:lnTo>
                      <a:pt x="5758" y="225"/>
                    </a:lnTo>
                    <a:lnTo>
                      <a:pt x="5804" y="285"/>
                    </a:lnTo>
                    <a:lnTo>
                      <a:pt x="5849" y="345"/>
                    </a:lnTo>
                    <a:lnTo>
                      <a:pt x="5893" y="407"/>
                    </a:lnTo>
                    <a:lnTo>
                      <a:pt x="5935" y="470"/>
                    </a:lnTo>
                    <a:lnTo>
                      <a:pt x="5976" y="533"/>
                    </a:lnTo>
                    <a:lnTo>
                      <a:pt x="6015" y="598"/>
                    </a:lnTo>
                    <a:lnTo>
                      <a:pt x="6053" y="664"/>
                    </a:lnTo>
                    <a:lnTo>
                      <a:pt x="6088" y="730"/>
                    </a:lnTo>
                    <a:lnTo>
                      <a:pt x="6123" y="798"/>
                    </a:lnTo>
                    <a:lnTo>
                      <a:pt x="6156" y="866"/>
                    </a:lnTo>
                    <a:lnTo>
                      <a:pt x="6188" y="935"/>
                    </a:lnTo>
                    <a:lnTo>
                      <a:pt x="6218" y="1005"/>
                    </a:lnTo>
                    <a:lnTo>
                      <a:pt x="6246" y="1076"/>
                    </a:lnTo>
                    <a:lnTo>
                      <a:pt x="6273" y="1148"/>
                    </a:lnTo>
                    <a:lnTo>
                      <a:pt x="6298" y="1221"/>
                    </a:lnTo>
                    <a:lnTo>
                      <a:pt x="6321" y="1295"/>
                    </a:lnTo>
                    <a:lnTo>
                      <a:pt x="6342" y="1368"/>
                    </a:lnTo>
                    <a:lnTo>
                      <a:pt x="6363" y="1443"/>
                    </a:lnTo>
                    <a:lnTo>
                      <a:pt x="6380" y="1518"/>
                    </a:lnTo>
                    <a:lnTo>
                      <a:pt x="6396" y="1595"/>
                    </a:lnTo>
                    <a:lnTo>
                      <a:pt x="6411" y="1672"/>
                    </a:lnTo>
                    <a:lnTo>
                      <a:pt x="6423" y="1749"/>
                    </a:lnTo>
                    <a:lnTo>
                      <a:pt x="6434" y="1827"/>
                    </a:lnTo>
                    <a:lnTo>
                      <a:pt x="6443" y="1906"/>
                    </a:lnTo>
                    <a:lnTo>
                      <a:pt x="6450" y="1986"/>
                    </a:lnTo>
                    <a:lnTo>
                      <a:pt x="6455" y="2066"/>
                    </a:lnTo>
                    <a:lnTo>
                      <a:pt x="6458" y="2146"/>
                    </a:lnTo>
                    <a:lnTo>
                      <a:pt x="6459" y="2227"/>
                    </a:lnTo>
                    <a:lnTo>
                      <a:pt x="6458" y="2281"/>
                    </a:lnTo>
                    <a:lnTo>
                      <a:pt x="6457" y="2335"/>
                    </a:lnTo>
                    <a:lnTo>
                      <a:pt x="6455" y="2388"/>
                    </a:lnTo>
                    <a:lnTo>
                      <a:pt x="6451" y="2441"/>
                    </a:lnTo>
                    <a:lnTo>
                      <a:pt x="6448" y="2495"/>
                    </a:lnTo>
                    <a:lnTo>
                      <a:pt x="6443" y="2546"/>
                    </a:lnTo>
                    <a:lnTo>
                      <a:pt x="6437" y="2599"/>
                    </a:lnTo>
                    <a:lnTo>
                      <a:pt x="6431" y="2652"/>
                    </a:lnTo>
                    <a:lnTo>
                      <a:pt x="6423" y="2704"/>
                    </a:lnTo>
                    <a:lnTo>
                      <a:pt x="6415" y="2756"/>
                    </a:lnTo>
                    <a:lnTo>
                      <a:pt x="6406" y="2807"/>
                    </a:lnTo>
                    <a:lnTo>
                      <a:pt x="6396" y="2858"/>
                    </a:lnTo>
                    <a:lnTo>
                      <a:pt x="6385" y="2909"/>
                    </a:lnTo>
                    <a:lnTo>
                      <a:pt x="6375" y="2960"/>
                    </a:lnTo>
                    <a:lnTo>
                      <a:pt x="6362" y="3010"/>
                    </a:lnTo>
                    <a:lnTo>
                      <a:pt x="6349" y="3060"/>
                    </a:lnTo>
                    <a:lnTo>
                      <a:pt x="6389" y="3071"/>
                    </a:lnTo>
                    <a:lnTo>
                      <a:pt x="6403" y="3020"/>
                    </a:lnTo>
                    <a:lnTo>
                      <a:pt x="6415" y="2970"/>
                    </a:lnTo>
                    <a:lnTo>
                      <a:pt x="6426" y="2918"/>
                    </a:lnTo>
                    <a:lnTo>
                      <a:pt x="6437" y="2866"/>
                    </a:lnTo>
                    <a:lnTo>
                      <a:pt x="6447" y="2814"/>
                    </a:lnTo>
                    <a:lnTo>
                      <a:pt x="6456" y="2762"/>
                    </a:lnTo>
                    <a:lnTo>
                      <a:pt x="6464" y="2709"/>
                    </a:lnTo>
                    <a:lnTo>
                      <a:pt x="6472" y="2658"/>
                    </a:lnTo>
                    <a:lnTo>
                      <a:pt x="6478" y="2605"/>
                    </a:lnTo>
                    <a:lnTo>
                      <a:pt x="6484" y="2551"/>
                    </a:lnTo>
                    <a:lnTo>
                      <a:pt x="6489" y="2498"/>
                    </a:lnTo>
                    <a:lnTo>
                      <a:pt x="6493" y="2444"/>
                    </a:lnTo>
                    <a:lnTo>
                      <a:pt x="6497" y="2390"/>
                    </a:lnTo>
                    <a:lnTo>
                      <a:pt x="6499" y="2336"/>
                    </a:lnTo>
                    <a:lnTo>
                      <a:pt x="6500" y="2281"/>
                    </a:lnTo>
                    <a:lnTo>
                      <a:pt x="6500" y="2227"/>
                    </a:lnTo>
                    <a:close/>
                    <a:moveTo>
                      <a:pt x="859" y="27"/>
                    </a:moveTo>
                    <a:lnTo>
                      <a:pt x="810" y="82"/>
                    </a:lnTo>
                    <a:lnTo>
                      <a:pt x="761" y="137"/>
                    </a:lnTo>
                    <a:lnTo>
                      <a:pt x="715" y="194"/>
                    </a:lnTo>
                    <a:lnTo>
                      <a:pt x="669" y="252"/>
                    </a:lnTo>
                    <a:lnTo>
                      <a:pt x="625" y="312"/>
                    </a:lnTo>
                    <a:lnTo>
                      <a:pt x="582" y="371"/>
                    </a:lnTo>
                    <a:lnTo>
                      <a:pt x="540" y="433"/>
                    </a:lnTo>
                    <a:lnTo>
                      <a:pt x="500" y="495"/>
                    </a:lnTo>
                    <a:lnTo>
                      <a:pt x="461" y="558"/>
                    </a:lnTo>
                    <a:lnTo>
                      <a:pt x="424" y="622"/>
                    </a:lnTo>
                    <a:lnTo>
                      <a:pt x="387" y="688"/>
                    </a:lnTo>
                    <a:lnTo>
                      <a:pt x="353" y="754"/>
                    </a:lnTo>
                    <a:lnTo>
                      <a:pt x="320" y="819"/>
                    </a:lnTo>
                    <a:lnTo>
                      <a:pt x="288" y="887"/>
                    </a:lnTo>
                    <a:lnTo>
                      <a:pt x="258" y="956"/>
                    </a:lnTo>
                    <a:lnTo>
                      <a:pt x="230" y="1026"/>
                    </a:lnTo>
                    <a:lnTo>
                      <a:pt x="203" y="1095"/>
                    </a:lnTo>
                    <a:lnTo>
                      <a:pt x="178" y="1166"/>
                    </a:lnTo>
                    <a:lnTo>
                      <a:pt x="154" y="1237"/>
                    </a:lnTo>
                    <a:lnTo>
                      <a:pt x="131" y="1310"/>
                    </a:lnTo>
                    <a:lnTo>
                      <a:pt x="111" y="1383"/>
                    </a:lnTo>
                    <a:lnTo>
                      <a:pt x="92" y="1457"/>
                    </a:lnTo>
                    <a:lnTo>
                      <a:pt x="75" y="1531"/>
                    </a:lnTo>
                    <a:lnTo>
                      <a:pt x="59" y="1606"/>
                    </a:lnTo>
                    <a:lnTo>
                      <a:pt x="46" y="1681"/>
                    </a:lnTo>
                    <a:lnTo>
                      <a:pt x="34" y="1758"/>
                    </a:lnTo>
                    <a:lnTo>
                      <a:pt x="23" y="1835"/>
                    </a:lnTo>
                    <a:lnTo>
                      <a:pt x="16" y="1912"/>
                    </a:lnTo>
                    <a:lnTo>
                      <a:pt x="8" y="1990"/>
                    </a:lnTo>
                    <a:lnTo>
                      <a:pt x="4" y="2068"/>
                    </a:lnTo>
                    <a:lnTo>
                      <a:pt x="0" y="2147"/>
                    </a:lnTo>
                    <a:lnTo>
                      <a:pt x="0" y="2227"/>
                    </a:lnTo>
                    <a:lnTo>
                      <a:pt x="0" y="2306"/>
                    </a:lnTo>
                    <a:lnTo>
                      <a:pt x="4" y="2384"/>
                    </a:lnTo>
                    <a:lnTo>
                      <a:pt x="8" y="2463"/>
                    </a:lnTo>
                    <a:lnTo>
                      <a:pt x="16" y="2541"/>
                    </a:lnTo>
                    <a:lnTo>
                      <a:pt x="23" y="2619"/>
                    </a:lnTo>
                    <a:lnTo>
                      <a:pt x="34" y="2695"/>
                    </a:lnTo>
                    <a:lnTo>
                      <a:pt x="46" y="2771"/>
                    </a:lnTo>
                    <a:lnTo>
                      <a:pt x="59" y="2847"/>
                    </a:lnTo>
                    <a:lnTo>
                      <a:pt x="75" y="2922"/>
                    </a:lnTo>
                    <a:lnTo>
                      <a:pt x="92" y="2996"/>
                    </a:lnTo>
                    <a:lnTo>
                      <a:pt x="111" y="3070"/>
                    </a:lnTo>
                    <a:lnTo>
                      <a:pt x="131" y="3143"/>
                    </a:lnTo>
                    <a:lnTo>
                      <a:pt x="154" y="3215"/>
                    </a:lnTo>
                    <a:lnTo>
                      <a:pt x="178" y="3287"/>
                    </a:lnTo>
                    <a:lnTo>
                      <a:pt x="203" y="3357"/>
                    </a:lnTo>
                    <a:lnTo>
                      <a:pt x="230" y="3428"/>
                    </a:lnTo>
                    <a:lnTo>
                      <a:pt x="258" y="3497"/>
                    </a:lnTo>
                    <a:lnTo>
                      <a:pt x="288" y="3565"/>
                    </a:lnTo>
                    <a:lnTo>
                      <a:pt x="320" y="3633"/>
                    </a:lnTo>
                    <a:lnTo>
                      <a:pt x="353" y="3700"/>
                    </a:lnTo>
                    <a:lnTo>
                      <a:pt x="387" y="3766"/>
                    </a:lnTo>
                    <a:lnTo>
                      <a:pt x="424" y="3830"/>
                    </a:lnTo>
                    <a:lnTo>
                      <a:pt x="461" y="3894"/>
                    </a:lnTo>
                    <a:lnTo>
                      <a:pt x="500" y="3958"/>
                    </a:lnTo>
                    <a:lnTo>
                      <a:pt x="540" y="4019"/>
                    </a:lnTo>
                    <a:lnTo>
                      <a:pt x="582" y="4081"/>
                    </a:lnTo>
                    <a:lnTo>
                      <a:pt x="625" y="4142"/>
                    </a:lnTo>
                    <a:lnTo>
                      <a:pt x="669" y="4201"/>
                    </a:lnTo>
                    <a:lnTo>
                      <a:pt x="715" y="4258"/>
                    </a:lnTo>
                    <a:lnTo>
                      <a:pt x="761" y="4315"/>
                    </a:lnTo>
                    <a:lnTo>
                      <a:pt x="810" y="4372"/>
                    </a:lnTo>
                    <a:lnTo>
                      <a:pt x="859" y="4427"/>
                    </a:lnTo>
                    <a:lnTo>
                      <a:pt x="869" y="4430"/>
                    </a:lnTo>
                    <a:lnTo>
                      <a:pt x="879" y="4433"/>
                    </a:lnTo>
                    <a:lnTo>
                      <a:pt x="890" y="4436"/>
                    </a:lnTo>
                    <a:lnTo>
                      <a:pt x="899" y="4440"/>
                    </a:lnTo>
                    <a:lnTo>
                      <a:pt x="910" y="4443"/>
                    </a:lnTo>
                    <a:lnTo>
                      <a:pt x="920" y="4446"/>
                    </a:lnTo>
                    <a:lnTo>
                      <a:pt x="931" y="4449"/>
                    </a:lnTo>
                    <a:lnTo>
                      <a:pt x="941" y="4453"/>
                    </a:lnTo>
                    <a:lnTo>
                      <a:pt x="890" y="4397"/>
                    </a:lnTo>
                    <a:lnTo>
                      <a:pt x="839" y="4342"/>
                    </a:lnTo>
                    <a:lnTo>
                      <a:pt x="790" y="4285"/>
                    </a:lnTo>
                    <a:lnTo>
                      <a:pt x="743" y="4227"/>
                    </a:lnTo>
                    <a:lnTo>
                      <a:pt x="696" y="4167"/>
                    </a:lnTo>
                    <a:lnTo>
                      <a:pt x="651" y="4107"/>
                    </a:lnTo>
                    <a:lnTo>
                      <a:pt x="608" y="4045"/>
                    </a:lnTo>
                    <a:lnTo>
                      <a:pt x="566" y="3983"/>
                    </a:lnTo>
                    <a:lnTo>
                      <a:pt x="525" y="3919"/>
                    </a:lnTo>
                    <a:lnTo>
                      <a:pt x="486" y="3855"/>
                    </a:lnTo>
                    <a:lnTo>
                      <a:pt x="448" y="3789"/>
                    </a:lnTo>
                    <a:lnTo>
                      <a:pt x="412" y="3722"/>
                    </a:lnTo>
                    <a:lnTo>
                      <a:pt x="378" y="3656"/>
                    </a:lnTo>
                    <a:lnTo>
                      <a:pt x="344" y="3586"/>
                    </a:lnTo>
                    <a:lnTo>
                      <a:pt x="313" y="3517"/>
                    </a:lnTo>
                    <a:lnTo>
                      <a:pt x="282" y="3447"/>
                    </a:lnTo>
                    <a:lnTo>
                      <a:pt x="254" y="3377"/>
                    </a:lnTo>
                    <a:lnTo>
                      <a:pt x="227" y="3305"/>
                    </a:lnTo>
                    <a:lnTo>
                      <a:pt x="203" y="3232"/>
                    </a:lnTo>
                    <a:lnTo>
                      <a:pt x="180" y="3159"/>
                    </a:lnTo>
                    <a:lnTo>
                      <a:pt x="158" y="3084"/>
                    </a:lnTo>
                    <a:lnTo>
                      <a:pt x="138" y="3010"/>
                    </a:lnTo>
                    <a:lnTo>
                      <a:pt x="120" y="2934"/>
                    </a:lnTo>
                    <a:lnTo>
                      <a:pt x="104" y="2857"/>
                    </a:lnTo>
                    <a:lnTo>
                      <a:pt x="89" y="2781"/>
                    </a:lnTo>
                    <a:lnTo>
                      <a:pt x="77" y="2704"/>
                    </a:lnTo>
                    <a:lnTo>
                      <a:pt x="66" y="2625"/>
                    </a:lnTo>
                    <a:lnTo>
                      <a:pt x="58" y="2546"/>
                    </a:lnTo>
                    <a:lnTo>
                      <a:pt x="50" y="2468"/>
                    </a:lnTo>
                    <a:lnTo>
                      <a:pt x="46" y="2388"/>
                    </a:lnTo>
                    <a:lnTo>
                      <a:pt x="43" y="2308"/>
                    </a:lnTo>
                    <a:lnTo>
                      <a:pt x="42" y="2227"/>
                    </a:lnTo>
                    <a:lnTo>
                      <a:pt x="43" y="2146"/>
                    </a:lnTo>
                    <a:lnTo>
                      <a:pt x="46" y="2066"/>
                    </a:lnTo>
                    <a:lnTo>
                      <a:pt x="50" y="1986"/>
                    </a:lnTo>
                    <a:lnTo>
                      <a:pt x="58" y="1906"/>
                    </a:lnTo>
                    <a:lnTo>
                      <a:pt x="66" y="1827"/>
                    </a:lnTo>
                    <a:lnTo>
                      <a:pt x="77" y="1749"/>
                    </a:lnTo>
                    <a:lnTo>
                      <a:pt x="89" y="1672"/>
                    </a:lnTo>
                    <a:lnTo>
                      <a:pt x="104" y="1595"/>
                    </a:lnTo>
                    <a:lnTo>
                      <a:pt x="120" y="1518"/>
                    </a:lnTo>
                    <a:lnTo>
                      <a:pt x="138" y="1443"/>
                    </a:lnTo>
                    <a:lnTo>
                      <a:pt x="158" y="1368"/>
                    </a:lnTo>
                    <a:lnTo>
                      <a:pt x="180" y="1295"/>
                    </a:lnTo>
                    <a:lnTo>
                      <a:pt x="203" y="1221"/>
                    </a:lnTo>
                    <a:lnTo>
                      <a:pt x="227" y="1148"/>
                    </a:lnTo>
                    <a:lnTo>
                      <a:pt x="254" y="1076"/>
                    </a:lnTo>
                    <a:lnTo>
                      <a:pt x="282" y="1005"/>
                    </a:lnTo>
                    <a:lnTo>
                      <a:pt x="313" y="935"/>
                    </a:lnTo>
                    <a:lnTo>
                      <a:pt x="344" y="866"/>
                    </a:lnTo>
                    <a:lnTo>
                      <a:pt x="378" y="798"/>
                    </a:lnTo>
                    <a:lnTo>
                      <a:pt x="412" y="730"/>
                    </a:lnTo>
                    <a:lnTo>
                      <a:pt x="448" y="664"/>
                    </a:lnTo>
                    <a:lnTo>
                      <a:pt x="486" y="598"/>
                    </a:lnTo>
                    <a:lnTo>
                      <a:pt x="525" y="533"/>
                    </a:lnTo>
                    <a:lnTo>
                      <a:pt x="566" y="470"/>
                    </a:lnTo>
                    <a:lnTo>
                      <a:pt x="608" y="407"/>
                    </a:lnTo>
                    <a:lnTo>
                      <a:pt x="651" y="345"/>
                    </a:lnTo>
                    <a:lnTo>
                      <a:pt x="696" y="285"/>
                    </a:lnTo>
                    <a:lnTo>
                      <a:pt x="743" y="225"/>
                    </a:lnTo>
                    <a:lnTo>
                      <a:pt x="790" y="168"/>
                    </a:lnTo>
                    <a:lnTo>
                      <a:pt x="839" y="111"/>
                    </a:lnTo>
                    <a:lnTo>
                      <a:pt x="890" y="55"/>
                    </a:lnTo>
                    <a:lnTo>
                      <a:pt x="942" y="0"/>
                    </a:lnTo>
                    <a:lnTo>
                      <a:pt x="931" y="3"/>
                    </a:lnTo>
                    <a:lnTo>
                      <a:pt x="920" y="6"/>
                    </a:lnTo>
                    <a:lnTo>
                      <a:pt x="910" y="9"/>
                    </a:lnTo>
                    <a:lnTo>
                      <a:pt x="899" y="13"/>
                    </a:lnTo>
                    <a:lnTo>
                      <a:pt x="890" y="17"/>
                    </a:lnTo>
                    <a:lnTo>
                      <a:pt x="879" y="20"/>
                    </a:lnTo>
                    <a:lnTo>
                      <a:pt x="869" y="23"/>
                    </a:lnTo>
                    <a:lnTo>
                      <a:pt x="859" y="27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292560" y="2108160"/>
                <a:ext cx="2563560" cy="1778040"/>
              </a:xfrm>
              <a:custGeom>
                <a:avLst/>
                <a:gdLst/>
                <a:ahLst/>
                <a:rect l="l" t="t" r="r" b="b"/>
                <a:pathLst>
                  <a:path w="6458" h="4478">
                    <a:moveTo>
                      <a:pt x="6458" y="2239"/>
                    </a:moveTo>
                    <a:lnTo>
                      <a:pt x="6457" y="2159"/>
                    </a:lnTo>
                    <a:lnTo>
                      <a:pt x="6454" y="2079"/>
                    </a:lnTo>
                    <a:lnTo>
                      <a:pt x="6450" y="2000"/>
                    </a:lnTo>
                    <a:lnTo>
                      <a:pt x="6443" y="1921"/>
                    </a:lnTo>
                    <a:lnTo>
                      <a:pt x="6435" y="1843"/>
                    </a:lnTo>
                    <a:lnTo>
                      <a:pt x="6424" y="1766"/>
                    </a:lnTo>
                    <a:lnTo>
                      <a:pt x="6412" y="1689"/>
                    </a:lnTo>
                    <a:lnTo>
                      <a:pt x="6398" y="1612"/>
                    </a:lnTo>
                    <a:lnTo>
                      <a:pt x="6382" y="1537"/>
                    </a:lnTo>
                    <a:lnTo>
                      <a:pt x="6364" y="1462"/>
                    </a:lnTo>
                    <a:lnTo>
                      <a:pt x="6345" y="1388"/>
                    </a:lnTo>
                    <a:lnTo>
                      <a:pt x="6324" y="1314"/>
                    </a:lnTo>
                    <a:lnTo>
                      <a:pt x="6302" y="1241"/>
                    </a:lnTo>
                    <a:lnTo>
                      <a:pt x="6277" y="1169"/>
                    </a:lnTo>
                    <a:lnTo>
                      <a:pt x="6251" y="1098"/>
                    </a:lnTo>
                    <a:lnTo>
                      <a:pt x="6223" y="1027"/>
                    </a:lnTo>
                    <a:lnTo>
                      <a:pt x="6194" y="958"/>
                    </a:lnTo>
                    <a:lnTo>
                      <a:pt x="6163" y="889"/>
                    </a:lnTo>
                    <a:lnTo>
                      <a:pt x="6131" y="821"/>
                    </a:lnTo>
                    <a:lnTo>
                      <a:pt x="6097" y="754"/>
                    </a:lnTo>
                    <a:lnTo>
                      <a:pt x="6062" y="688"/>
                    </a:lnTo>
                    <a:lnTo>
                      <a:pt x="6025" y="622"/>
                    </a:lnTo>
                    <a:lnTo>
                      <a:pt x="5986" y="558"/>
                    </a:lnTo>
                    <a:lnTo>
                      <a:pt x="5946" y="494"/>
                    </a:lnTo>
                    <a:lnTo>
                      <a:pt x="5905" y="432"/>
                    </a:lnTo>
                    <a:lnTo>
                      <a:pt x="5863" y="370"/>
                    </a:lnTo>
                    <a:lnTo>
                      <a:pt x="5819" y="311"/>
                    </a:lnTo>
                    <a:lnTo>
                      <a:pt x="5773" y="251"/>
                    </a:lnTo>
                    <a:lnTo>
                      <a:pt x="5727" y="193"/>
                    </a:lnTo>
                    <a:lnTo>
                      <a:pt x="5679" y="136"/>
                    </a:lnTo>
                    <a:lnTo>
                      <a:pt x="5630" y="80"/>
                    </a:lnTo>
                    <a:lnTo>
                      <a:pt x="5580" y="26"/>
                    </a:lnTo>
                    <a:lnTo>
                      <a:pt x="5569" y="23"/>
                    </a:lnTo>
                    <a:lnTo>
                      <a:pt x="5559" y="18"/>
                    </a:lnTo>
                    <a:lnTo>
                      <a:pt x="5549" y="15"/>
                    </a:lnTo>
                    <a:lnTo>
                      <a:pt x="5538" y="12"/>
                    </a:lnTo>
                    <a:lnTo>
                      <a:pt x="5528" y="8"/>
                    </a:lnTo>
                    <a:lnTo>
                      <a:pt x="5517" y="6"/>
                    </a:lnTo>
                    <a:lnTo>
                      <a:pt x="5507" y="3"/>
                    </a:lnTo>
                    <a:lnTo>
                      <a:pt x="5497" y="0"/>
                    </a:lnTo>
                    <a:lnTo>
                      <a:pt x="5550" y="54"/>
                    </a:lnTo>
                    <a:lnTo>
                      <a:pt x="5600" y="110"/>
                    </a:lnTo>
                    <a:lnTo>
                      <a:pt x="5651" y="167"/>
                    </a:lnTo>
                    <a:lnTo>
                      <a:pt x="5700" y="226"/>
                    </a:lnTo>
                    <a:lnTo>
                      <a:pt x="5747" y="285"/>
                    </a:lnTo>
                    <a:lnTo>
                      <a:pt x="5793" y="345"/>
                    </a:lnTo>
                    <a:lnTo>
                      <a:pt x="5837" y="407"/>
                    </a:lnTo>
                    <a:lnTo>
                      <a:pt x="5880" y="470"/>
                    </a:lnTo>
                    <a:lnTo>
                      <a:pt x="5922" y="533"/>
                    </a:lnTo>
                    <a:lnTo>
                      <a:pt x="5962" y="598"/>
                    </a:lnTo>
                    <a:lnTo>
                      <a:pt x="6000" y="664"/>
                    </a:lnTo>
                    <a:lnTo>
                      <a:pt x="6038" y="731"/>
                    </a:lnTo>
                    <a:lnTo>
                      <a:pt x="6074" y="798"/>
                    </a:lnTo>
                    <a:lnTo>
                      <a:pt x="6107" y="867"/>
                    </a:lnTo>
                    <a:lnTo>
                      <a:pt x="6140" y="937"/>
                    </a:lnTo>
                    <a:lnTo>
                      <a:pt x="6170" y="1007"/>
                    </a:lnTo>
                    <a:lnTo>
                      <a:pt x="6199" y="1079"/>
                    </a:lnTo>
                    <a:lnTo>
                      <a:pt x="6226" y="1151"/>
                    </a:lnTo>
                    <a:lnTo>
                      <a:pt x="6252" y="1225"/>
                    </a:lnTo>
                    <a:lnTo>
                      <a:pt x="6276" y="1298"/>
                    </a:lnTo>
                    <a:lnTo>
                      <a:pt x="6297" y="1373"/>
                    </a:lnTo>
                    <a:lnTo>
                      <a:pt x="6318" y="1448"/>
                    </a:lnTo>
                    <a:lnTo>
                      <a:pt x="6336" y="1525"/>
                    </a:lnTo>
                    <a:lnTo>
                      <a:pt x="6354" y="1601"/>
                    </a:lnTo>
                    <a:lnTo>
                      <a:pt x="6368" y="1679"/>
                    </a:lnTo>
                    <a:lnTo>
                      <a:pt x="6381" y="1757"/>
                    </a:lnTo>
                    <a:lnTo>
                      <a:pt x="6391" y="1836"/>
                    </a:lnTo>
                    <a:lnTo>
                      <a:pt x="6401" y="1916"/>
                    </a:lnTo>
                    <a:lnTo>
                      <a:pt x="6408" y="1996"/>
                    </a:lnTo>
                    <a:lnTo>
                      <a:pt x="6413" y="2076"/>
                    </a:lnTo>
                    <a:lnTo>
                      <a:pt x="6416" y="2157"/>
                    </a:lnTo>
                    <a:lnTo>
                      <a:pt x="6417" y="2239"/>
                    </a:lnTo>
                    <a:lnTo>
                      <a:pt x="6416" y="2292"/>
                    </a:lnTo>
                    <a:lnTo>
                      <a:pt x="6415" y="2346"/>
                    </a:lnTo>
                    <a:lnTo>
                      <a:pt x="6413" y="2399"/>
                    </a:lnTo>
                    <a:lnTo>
                      <a:pt x="6410" y="2451"/>
                    </a:lnTo>
                    <a:lnTo>
                      <a:pt x="6405" y="2504"/>
                    </a:lnTo>
                    <a:lnTo>
                      <a:pt x="6401" y="2557"/>
                    </a:lnTo>
                    <a:lnTo>
                      <a:pt x="6396" y="2609"/>
                    </a:lnTo>
                    <a:lnTo>
                      <a:pt x="6389" y="2661"/>
                    </a:lnTo>
                    <a:lnTo>
                      <a:pt x="6382" y="2713"/>
                    </a:lnTo>
                    <a:lnTo>
                      <a:pt x="6373" y="2765"/>
                    </a:lnTo>
                    <a:lnTo>
                      <a:pt x="6364" y="2815"/>
                    </a:lnTo>
                    <a:lnTo>
                      <a:pt x="6355" y="2866"/>
                    </a:lnTo>
                    <a:lnTo>
                      <a:pt x="6344" y="2917"/>
                    </a:lnTo>
                    <a:lnTo>
                      <a:pt x="6333" y="2967"/>
                    </a:lnTo>
                    <a:lnTo>
                      <a:pt x="6321" y="3017"/>
                    </a:lnTo>
                    <a:lnTo>
                      <a:pt x="6308" y="3067"/>
                    </a:lnTo>
                    <a:lnTo>
                      <a:pt x="6348" y="3078"/>
                    </a:lnTo>
                    <a:lnTo>
                      <a:pt x="6361" y="3027"/>
                    </a:lnTo>
                    <a:lnTo>
                      <a:pt x="6373" y="2976"/>
                    </a:lnTo>
                    <a:lnTo>
                      <a:pt x="6385" y="2926"/>
                    </a:lnTo>
                    <a:lnTo>
                      <a:pt x="6396" y="2875"/>
                    </a:lnTo>
                    <a:lnTo>
                      <a:pt x="6405" y="2823"/>
                    </a:lnTo>
                    <a:lnTo>
                      <a:pt x="6414" y="2771"/>
                    </a:lnTo>
                    <a:lnTo>
                      <a:pt x="6423" y="2719"/>
                    </a:lnTo>
                    <a:lnTo>
                      <a:pt x="6430" y="2666"/>
                    </a:lnTo>
                    <a:lnTo>
                      <a:pt x="6437" y="2613"/>
                    </a:lnTo>
                    <a:lnTo>
                      <a:pt x="6442" y="2561"/>
                    </a:lnTo>
                    <a:lnTo>
                      <a:pt x="6448" y="2508"/>
                    </a:lnTo>
                    <a:lnTo>
                      <a:pt x="6451" y="2455"/>
                    </a:lnTo>
                    <a:lnTo>
                      <a:pt x="6454" y="2401"/>
                    </a:lnTo>
                    <a:lnTo>
                      <a:pt x="6456" y="2347"/>
                    </a:lnTo>
                    <a:lnTo>
                      <a:pt x="6458" y="2293"/>
                    </a:lnTo>
                    <a:lnTo>
                      <a:pt x="6458" y="2239"/>
                    </a:lnTo>
                    <a:close/>
                    <a:moveTo>
                      <a:pt x="878" y="26"/>
                    </a:moveTo>
                    <a:lnTo>
                      <a:pt x="829" y="80"/>
                    </a:lnTo>
                    <a:lnTo>
                      <a:pt x="779" y="136"/>
                    </a:lnTo>
                    <a:lnTo>
                      <a:pt x="732" y="193"/>
                    </a:lnTo>
                    <a:lnTo>
                      <a:pt x="685" y="251"/>
                    </a:lnTo>
                    <a:lnTo>
                      <a:pt x="640" y="311"/>
                    </a:lnTo>
                    <a:lnTo>
                      <a:pt x="595" y="370"/>
                    </a:lnTo>
                    <a:lnTo>
                      <a:pt x="553" y="432"/>
                    </a:lnTo>
                    <a:lnTo>
                      <a:pt x="511" y="494"/>
                    </a:lnTo>
                    <a:lnTo>
                      <a:pt x="472" y="558"/>
                    </a:lnTo>
                    <a:lnTo>
                      <a:pt x="433" y="622"/>
                    </a:lnTo>
                    <a:lnTo>
                      <a:pt x="397" y="688"/>
                    </a:lnTo>
                    <a:lnTo>
                      <a:pt x="361" y="754"/>
                    </a:lnTo>
                    <a:lnTo>
                      <a:pt x="327" y="821"/>
                    </a:lnTo>
                    <a:lnTo>
                      <a:pt x="295" y="889"/>
                    </a:lnTo>
                    <a:lnTo>
                      <a:pt x="265" y="958"/>
                    </a:lnTo>
                    <a:lnTo>
                      <a:pt x="234" y="1027"/>
                    </a:lnTo>
                    <a:lnTo>
                      <a:pt x="207" y="1098"/>
                    </a:lnTo>
                    <a:lnTo>
                      <a:pt x="182" y="1169"/>
                    </a:lnTo>
                    <a:lnTo>
                      <a:pt x="157" y="1241"/>
                    </a:lnTo>
                    <a:lnTo>
                      <a:pt x="134" y="1314"/>
                    </a:lnTo>
                    <a:lnTo>
                      <a:pt x="113" y="1388"/>
                    </a:lnTo>
                    <a:lnTo>
                      <a:pt x="94" y="1462"/>
                    </a:lnTo>
                    <a:lnTo>
                      <a:pt x="77" y="1537"/>
                    </a:lnTo>
                    <a:lnTo>
                      <a:pt x="61" y="1612"/>
                    </a:lnTo>
                    <a:lnTo>
                      <a:pt x="46" y="1689"/>
                    </a:lnTo>
                    <a:lnTo>
                      <a:pt x="35" y="1766"/>
                    </a:lnTo>
                    <a:lnTo>
                      <a:pt x="24" y="1843"/>
                    </a:lnTo>
                    <a:lnTo>
                      <a:pt x="15" y="1921"/>
                    </a:lnTo>
                    <a:lnTo>
                      <a:pt x="9" y="2000"/>
                    </a:lnTo>
                    <a:lnTo>
                      <a:pt x="3" y="2079"/>
                    </a:lnTo>
                    <a:lnTo>
                      <a:pt x="1" y="2159"/>
                    </a:lnTo>
                    <a:lnTo>
                      <a:pt x="0" y="2239"/>
                    </a:lnTo>
                    <a:lnTo>
                      <a:pt x="1" y="2319"/>
                    </a:lnTo>
                    <a:lnTo>
                      <a:pt x="3" y="2399"/>
                    </a:lnTo>
                    <a:lnTo>
                      <a:pt x="9" y="2477"/>
                    </a:lnTo>
                    <a:lnTo>
                      <a:pt x="15" y="2556"/>
                    </a:lnTo>
                    <a:lnTo>
                      <a:pt x="24" y="2634"/>
                    </a:lnTo>
                    <a:lnTo>
                      <a:pt x="35" y="2712"/>
                    </a:lnTo>
                    <a:lnTo>
                      <a:pt x="46" y="2788"/>
                    </a:lnTo>
                    <a:lnTo>
                      <a:pt x="61" y="2864"/>
                    </a:lnTo>
                    <a:lnTo>
                      <a:pt x="77" y="2940"/>
                    </a:lnTo>
                    <a:lnTo>
                      <a:pt x="94" y="3015"/>
                    </a:lnTo>
                    <a:lnTo>
                      <a:pt x="113" y="3090"/>
                    </a:lnTo>
                    <a:lnTo>
                      <a:pt x="134" y="3163"/>
                    </a:lnTo>
                    <a:lnTo>
                      <a:pt x="157" y="3236"/>
                    </a:lnTo>
                    <a:lnTo>
                      <a:pt x="182" y="3308"/>
                    </a:lnTo>
                    <a:lnTo>
                      <a:pt x="207" y="3379"/>
                    </a:lnTo>
                    <a:lnTo>
                      <a:pt x="234" y="3449"/>
                    </a:lnTo>
                    <a:lnTo>
                      <a:pt x="265" y="3520"/>
                    </a:lnTo>
                    <a:lnTo>
                      <a:pt x="295" y="3588"/>
                    </a:lnTo>
                    <a:lnTo>
                      <a:pt x="327" y="3656"/>
                    </a:lnTo>
                    <a:lnTo>
                      <a:pt x="361" y="3724"/>
                    </a:lnTo>
                    <a:lnTo>
                      <a:pt x="397" y="3790"/>
                    </a:lnTo>
                    <a:lnTo>
                      <a:pt x="433" y="3854"/>
                    </a:lnTo>
                    <a:lnTo>
                      <a:pt x="472" y="3919"/>
                    </a:lnTo>
                    <a:lnTo>
                      <a:pt x="511" y="3983"/>
                    </a:lnTo>
                    <a:lnTo>
                      <a:pt x="553" y="4044"/>
                    </a:lnTo>
                    <a:lnTo>
                      <a:pt x="595" y="4106"/>
                    </a:lnTo>
                    <a:lnTo>
                      <a:pt x="640" y="4166"/>
                    </a:lnTo>
                    <a:lnTo>
                      <a:pt x="685" y="4226"/>
                    </a:lnTo>
                    <a:lnTo>
                      <a:pt x="732" y="4284"/>
                    </a:lnTo>
                    <a:lnTo>
                      <a:pt x="779" y="4340"/>
                    </a:lnTo>
                    <a:lnTo>
                      <a:pt x="829" y="4397"/>
                    </a:lnTo>
                    <a:lnTo>
                      <a:pt x="878" y="4452"/>
                    </a:lnTo>
                    <a:lnTo>
                      <a:pt x="889" y="4455"/>
                    </a:lnTo>
                    <a:lnTo>
                      <a:pt x="899" y="4458"/>
                    </a:lnTo>
                    <a:lnTo>
                      <a:pt x="910" y="4461"/>
                    </a:lnTo>
                    <a:lnTo>
                      <a:pt x="921" y="4465"/>
                    </a:lnTo>
                    <a:lnTo>
                      <a:pt x="930" y="4468"/>
                    </a:lnTo>
                    <a:lnTo>
                      <a:pt x="941" y="4471"/>
                    </a:lnTo>
                    <a:lnTo>
                      <a:pt x="951" y="4474"/>
                    </a:lnTo>
                    <a:lnTo>
                      <a:pt x="962" y="4478"/>
                    </a:lnTo>
                    <a:lnTo>
                      <a:pt x="909" y="4422"/>
                    </a:lnTo>
                    <a:lnTo>
                      <a:pt x="858" y="4367"/>
                    </a:lnTo>
                    <a:lnTo>
                      <a:pt x="807" y="4310"/>
                    </a:lnTo>
                    <a:lnTo>
                      <a:pt x="759" y="4252"/>
                    </a:lnTo>
                    <a:lnTo>
                      <a:pt x="711" y="4192"/>
                    </a:lnTo>
                    <a:lnTo>
                      <a:pt x="666" y="4132"/>
                    </a:lnTo>
                    <a:lnTo>
                      <a:pt x="621" y="4070"/>
                    </a:lnTo>
                    <a:lnTo>
                      <a:pt x="578" y="4008"/>
                    </a:lnTo>
                    <a:lnTo>
                      <a:pt x="536" y="3944"/>
                    </a:lnTo>
                    <a:lnTo>
                      <a:pt x="496" y="3879"/>
                    </a:lnTo>
                    <a:lnTo>
                      <a:pt x="457" y="3813"/>
                    </a:lnTo>
                    <a:lnTo>
                      <a:pt x="420" y="3746"/>
                    </a:lnTo>
                    <a:lnTo>
                      <a:pt x="385" y="3678"/>
                    </a:lnTo>
                    <a:lnTo>
                      <a:pt x="351" y="3609"/>
                    </a:lnTo>
                    <a:lnTo>
                      <a:pt x="319" y="3540"/>
                    </a:lnTo>
                    <a:lnTo>
                      <a:pt x="289" y="3470"/>
                    </a:lnTo>
                    <a:lnTo>
                      <a:pt x="259" y="3398"/>
                    </a:lnTo>
                    <a:lnTo>
                      <a:pt x="232" y="3325"/>
                    </a:lnTo>
                    <a:lnTo>
                      <a:pt x="206" y="3253"/>
                    </a:lnTo>
                    <a:lnTo>
                      <a:pt x="183" y="3178"/>
                    </a:lnTo>
                    <a:lnTo>
                      <a:pt x="161" y="3104"/>
                    </a:lnTo>
                    <a:lnTo>
                      <a:pt x="140" y="3028"/>
                    </a:lnTo>
                    <a:lnTo>
                      <a:pt x="122" y="2953"/>
                    </a:lnTo>
                    <a:lnTo>
                      <a:pt x="105" y="2876"/>
                    </a:lnTo>
                    <a:lnTo>
                      <a:pt x="91" y="2798"/>
                    </a:lnTo>
                    <a:lnTo>
                      <a:pt x="78" y="2720"/>
                    </a:lnTo>
                    <a:lnTo>
                      <a:pt x="67" y="2642"/>
                    </a:lnTo>
                    <a:lnTo>
                      <a:pt x="57" y="2562"/>
                    </a:lnTo>
                    <a:lnTo>
                      <a:pt x="51" y="2482"/>
                    </a:lnTo>
                    <a:lnTo>
                      <a:pt x="45" y="2401"/>
                    </a:lnTo>
                    <a:lnTo>
                      <a:pt x="42" y="2320"/>
                    </a:lnTo>
                    <a:lnTo>
                      <a:pt x="41" y="2239"/>
                    </a:lnTo>
                    <a:lnTo>
                      <a:pt x="42" y="2157"/>
                    </a:lnTo>
                    <a:lnTo>
                      <a:pt x="45" y="2076"/>
                    </a:lnTo>
                    <a:lnTo>
                      <a:pt x="51" y="1996"/>
                    </a:lnTo>
                    <a:lnTo>
                      <a:pt x="57" y="1916"/>
                    </a:lnTo>
                    <a:lnTo>
                      <a:pt x="67" y="1836"/>
                    </a:lnTo>
                    <a:lnTo>
                      <a:pt x="78" y="1757"/>
                    </a:lnTo>
                    <a:lnTo>
                      <a:pt x="91" y="1679"/>
                    </a:lnTo>
                    <a:lnTo>
                      <a:pt x="105" y="1601"/>
                    </a:lnTo>
                    <a:lnTo>
                      <a:pt x="122" y="1525"/>
                    </a:lnTo>
                    <a:lnTo>
                      <a:pt x="140" y="1448"/>
                    </a:lnTo>
                    <a:lnTo>
                      <a:pt x="161" y="1373"/>
                    </a:lnTo>
                    <a:lnTo>
                      <a:pt x="183" y="1298"/>
                    </a:lnTo>
                    <a:lnTo>
                      <a:pt x="206" y="1225"/>
                    </a:lnTo>
                    <a:lnTo>
                      <a:pt x="232" y="1151"/>
                    </a:lnTo>
                    <a:lnTo>
                      <a:pt x="259" y="1079"/>
                    </a:lnTo>
                    <a:lnTo>
                      <a:pt x="289" y="1007"/>
                    </a:lnTo>
                    <a:lnTo>
                      <a:pt x="319" y="937"/>
                    </a:lnTo>
                    <a:lnTo>
                      <a:pt x="351" y="867"/>
                    </a:lnTo>
                    <a:lnTo>
                      <a:pt x="385" y="798"/>
                    </a:lnTo>
                    <a:lnTo>
                      <a:pt x="420" y="731"/>
                    </a:lnTo>
                    <a:lnTo>
                      <a:pt x="457" y="664"/>
                    </a:lnTo>
                    <a:lnTo>
                      <a:pt x="496" y="598"/>
                    </a:lnTo>
                    <a:lnTo>
                      <a:pt x="536" y="533"/>
                    </a:lnTo>
                    <a:lnTo>
                      <a:pt x="578" y="470"/>
                    </a:lnTo>
                    <a:lnTo>
                      <a:pt x="621" y="407"/>
                    </a:lnTo>
                    <a:lnTo>
                      <a:pt x="666" y="345"/>
                    </a:lnTo>
                    <a:lnTo>
                      <a:pt x="711" y="285"/>
                    </a:lnTo>
                    <a:lnTo>
                      <a:pt x="759" y="226"/>
                    </a:lnTo>
                    <a:lnTo>
                      <a:pt x="807" y="167"/>
                    </a:lnTo>
                    <a:lnTo>
                      <a:pt x="858" y="110"/>
                    </a:lnTo>
                    <a:lnTo>
                      <a:pt x="909" y="54"/>
                    </a:lnTo>
                    <a:lnTo>
                      <a:pt x="962" y="0"/>
                    </a:lnTo>
                    <a:lnTo>
                      <a:pt x="951" y="3"/>
                    </a:lnTo>
                    <a:lnTo>
                      <a:pt x="941" y="6"/>
                    </a:lnTo>
                    <a:lnTo>
                      <a:pt x="930" y="8"/>
                    </a:lnTo>
                    <a:lnTo>
                      <a:pt x="921" y="12"/>
                    </a:lnTo>
                    <a:lnTo>
                      <a:pt x="910" y="15"/>
                    </a:lnTo>
                    <a:lnTo>
                      <a:pt x="899" y="18"/>
                    </a:lnTo>
                    <a:lnTo>
                      <a:pt x="889" y="23"/>
                    </a:lnTo>
                    <a:lnTo>
                      <a:pt x="878" y="26"/>
                    </a:lnTo>
                    <a:close/>
                  </a:path>
                </a:pathLst>
              </a:custGeom>
              <a:solidFill>
                <a:srgbClr val="d2ba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300480" y="2103480"/>
                <a:ext cx="2546280" cy="1787400"/>
              </a:xfrm>
              <a:custGeom>
                <a:avLst/>
                <a:gdLst/>
                <a:ahLst/>
                <a:rect l="l" t="t" r="r" b="b"/>
                <a:pathLst>
                  <a:path w="6417" h="4503">
                    <a:moveTo>
                      <a:pt x="6417" y="2252"/>
                    </a:moveTo>
                    <a:lnTo>
                      <a:pt x="6416" y="2171"/>
                    </a:lnTo>
                    <a:lnTo>
                      <a:pt x="6413" y="2091"/>
                    </a:lnTo>
                    <a:lnTo>
                      <a:pt x="6408" y="2011"/>
                    </a:lnTo>
                    <a:lnTo>
                      <a:pt x="6401" y="1931"/>
                    </a:lnTo>
                    <a:lnTo>
                      <a:pt x="6392" y="1852"/>
                    </a:lnTo>
                    <a:lnTo>
                      <a:pt x="6381" y="1774"/>
                    </a:lnTo>
                    <a:lnTo>
                      <a:pt x="6369" y="1697"/>
                    </a:lnTo>
                    <a:lnTo>
                      <a:pt x="6354" y="1620"/>
                    </a:lnTo>
                    <a:lnTo>
                      <a:pt x="6338" y="1543"/>
                    </a:lnTo>
                    <a:lnTo>
                      <a:pt x="6321" y="1468"/>
                    </a:lnTo>
                    <a:lnTo>
                      <a:pt x="6300" y="1393"/>
                    </a:lnTo>
                    <a:lnTo>
                      <a:pt x="6279" y="1320"/>
                    </a:lnTo>
                    <a:lnTo>
                      <a:pt x="6256" y="1246"/>
                    </a:lnTo>
                    <a:lnTo>
                      <a:pt x="6231" y="1173"/>
                    </a:lnTo>
                    <a:lnTo>
                      <a:pt x="6204" y="1101"/>
                    </a:lnTo>
                    <a:lnTo>
                      <a:pt x="6176" y="1030"/>
                    </a:lnTo>
                    <a:lnTo>
                      <a:pt x="6146" y="960"/>
                    </a:lnTo>
                    <a:lnTo>
                      <a:pt x="6114" y="891"/>
                    </a:lnTo>
                    <a:lnTo>
                      <a:pt x="6081" y="823"/>
                    </a:lnTo>
                    <a:lnTo>
                      <a:pt x="6046" y="755"/>
                    </a:lnTo>
                    <a:lnTo>
                      <a:pt x="6011" y="689"/>
                    </a:lnTo>
                    <a:lnTo>
                      <a:pt x="5973" y="623"/>
                    </a:lnTo>
                    <a:lnTo>
                      <a:pt x="5934" y="558"/>
                    </a:lnTo>
                    <a:lnTo>
                      <a:pt x="5893" y="495"/>
                    </a:lnTo>
                    <a:lnTo>
                      <a:pt x="5851" y="432"/>
                    </a:lnTo>
                    <a:lnTo>
                      <a:pt x="5807" y="370"/>
                    </a:lnTo>
                    <a:lnTo>
                      <a:pt x="5762" y="310"/>
                    </a:lnTo>
                    <a:lnTo>
                      <a:pt x="5716" y="250"/>
                    </a:lnTo>
                    <a:lnTo>
                      <a:pt x="5668" y="193"/>
                    </a:lnTo>
                    <a:lnTo>
                      <a:pt x="5619" y="136"/>
                    </a:lnTo>
                    <a:lnTo>
                      <a:pt x="5569" y="80"/>
                    </a:lnTo>
                    <a:lnTo>
                      <a:pt x="5517" y="25"/>
                    </a:lnTo>
                    <a:lnTo>
                      <a:pt x="5507" y="21"/>
                    </a:lnTo>
                    <a:lnTo>
                      <a:pt x="5496" y="18"/>
                    </a:lnTo>
                    <a:lnTo>
                      <a:pt x="5485" y="15"/>
                    </a:lnTo>
                    <a:lnTo>
                      <a:pt x="5476" y="12"/>
                    </a:lnTo>
                    <a:lnTo>
                      <a:pt x="5465" y="9"/>
                    </a:lnTo>
                    <a:lnTo>
                      <a:pt x="5454" y="5"/>
                    </a:lnTo>
                    <a:lnTo>
                      <a:pt x="5443" y="2"/>
                    </a:lnTo>
                    <a:lnTo>
                      <a:pt x="5434" y="0"/>
                    </a:lnTo>
                    <a:lnTo>
                      <a:pt x="5488" y="54"/>
                    </a:lnTo>
                    <a:lnTo>
                      <a:pt x="5539" y="110"/>
                    </a:lnTo>
                    <a:lnTo>
                      <a:pt x="5590" y="166"/>
                    </a:lnTo>
                    <a:lnTo>
                      <a:pt x="5641" y="225"/>
                    </a:lnTo>
                    <a:lnTo>
                      <a:pt x="5689" y="284"/>
                    </a:lnTo>
                    <a:lnTo>
                      <a:pt x="5736" y="344"/>
                    </a:lnTo>
                    <a:lnTo>
                      <a:pt x="5781" y="407"/>
                    </a:lnTo>
                    <a:lnTo>
                      <a:pt x="5826" y="470"/>
                    </a:lnTo>
                    <a:lnTo>
                      <a:pt x="5868" y="533"/>
                    </a:lnTo>
                    <a:lnTo>
                      <a:pt x="5909" y="598"/>
                    </a:lnTo>
                    <a:lnTo>
                      <a:pt x="5949" y="665"/>
                    </a:lnTo>
                    <a:lnTo>
                      <a:pt x="5987" y="732"/>
                    </a:lnTo>
                    <a:lnTo>
                      <a:pt x="6022" y="800"/>
                    </a:lnTo>
                    <a:lnTo>
                      <a:pt x="6058" y="869"/>
                    </a:lnTo>
                    <a:lnTo>
                      <a:pt x="6091" y="939"/>
                    </a:lnTo>
                    <a:lnTo>
                      <a:pt x="6122" y="1010"/>
                    </a:lnTo>
                    <a:lnTo>
                      <a:pt x="6152" y="1082"/>
                    </a:lnTo>
                    <a:lnTo>
                      <a:pt x="6180" y="1154"/>
                    </a:lnTo>
                    <a:lnTo>
                      <a:pt x="6206" y="1229"/>
                    </a:lnTo>
                    <a:lnTo>
                      <a:pt x="6230" y="1303"/>
                    </a:lnTo>
                    <a:lnTo>
                      <a:pt x="6253" y="1378"/>
                    </a:lnTo>
                    <a:lnTo>
                      <a:pt x="6273" y="1455"/>
                    </a:lnTo>
                    <a:lnTo>
                      <a:pt x="6293" y="1531"/>
                    </a:lnTo>
                    <a:lnTo>
                      <a:pt x="6310" y="1608"/>
                    </a:lnTo>
                    <a:lnTo>
                      <a:pt x="6325" y="1687"/>
                    </a:lnTo>
                    <a:lnTo>
                      <a:pt x="6338" y="1766"/>
                    </a:lnTo>
                    <a:lnTo>
                      <a:pt x="6349" y="1846"/>
                    </a:lnTo>
                    <a:lnTo>
                      <a:pt x="6358" y="1926"/>
                    </a:lnTo>
                    <a:lnTo>
                      <a:pt x="6366" y="2005"/>
                    </a:lnTo>
                    <a:lnTo>
                      <a:pt x="6370" y="2088"/>
                    </a:lnTo>
                    <a:lnTo>
                      <a:pt x="6374" y="2170"/>
                    </a:lnTo>
                    <a:lnTo>
                      <a:pt x="6375" y="2252"/>
                    </a:lnTo>
                    <a:lnTo>
                      <a:pt x="6375" y="2305"/>
                    </a:lnTo>
                    <a:lnTo>
                      <a:pt x="6374" y="2358"/>
                    </a:lnTo>
                    <a:lnTo>
                      <a:pt x="6371" y="2410"/>
                    </a:lnTo>
                    <a:lnTo>
                      <a:pt x="6368" y="2463"/>
                    </a:lnTo>
                    <a:lnTo>
                      <a:pt x="6364" y="2515"/>
                    </a:lnTo>
                    <a:lnTo>
                      <a:pt x="6360" y="2568"/>
                    </a:lnTo>
                    <a:lnTo>
                      <a:pt x="6354" y="2620"/>
                    </a:lnTo>
                    <a:lnTo>
                      <a:pt x="6348" y="2671"/>
                    </a:lnTo>
                    <a:lnTo>
                      <a:pt x="6340" y="2723"/>
                    </a:lnTo>
                    <a:lnTo>
                      <a:pt x="6331" y="2773"/>
                    </a:lnTo>
                    <a:lnTo>
                      <a:pt x="6323" y="2824"/>
                    </a:lnTo>
                    <a:lnTo>
                      <a:pt x="6313" y="2875"/>
                    </a:lnTo>
                    <a:lnTo>
                      <a:pt x="6302" y="2926"/>
                    </a:lnTo>
                    <a:lnTo>
                      <a:pt x="6291" y="2975"/>
                    </a:lnTo>
                    <a:lnTo>
                      <a:pt x="6280" y="3025"/>
                    </a:lnTo>
                    <a:lnTo>
                      <a:pt x="6267" y="3075"/>
                    </a:lnTo>
                    <a:lnTo>
                      <a:pt x="6307" y="3085"/>
                    </a:lnTo>
                    <a:lnTo>
                      <a:pt x="6320" y="3035"/>
                    </a:lnTo>
                    <a:lnTo>
                      <a:pt x="6333" y="2985"/>
                    </a:lnTo>
                    <a:lnTo>
                      <a:pt x="6343" y="2934"/>
                    </a:lnTo>
                    <a:lnTo>
                      <a:pt x="6354" y="2883"/>
                    </a:lnTo>
                    <a:lnTo>
                      <a:pt x="6364" y="2832"/>
                    </a:lnTo>
                    <a:lnTo>
                      <a:pt x="6373" y="2781"/>
                    </a:lnTo>
                    <a:lnTo>
                      <a:pt x="6381" y="2729"/>
                    </a:lnTo>
                    <a:lnTo>
                      <a:pt x="6389" y="2677"/>
                    </a:lnTo>
                    <a:lnTo>
                      <a:pt x="6395" y="2624"/>
                    </a:lnTo>
                    <a:lnTo>
                      <a:pt x="6401" y="2571"/>
                    </a:lnTo>
                    <a:lnTo>
                      <a:pt x="6406" y="2520"/>
                    </a:lnTo>
                    <a:lnTo>
                      <a:pt x="6409" y="2466"/>
                    </a:lnTo>
                    <a:lnTo>
                      <a:pt x="6413" y="2413"/>
                    </a:lnTo>
                    <a:lnTo>
                      <a:pt x="6415" y="2360"/>
                    </a:lnTo>
                    <a:lnTo>
                      <a:pt x="6416" y="2306"/>
                    </a:lnTo>
                    <a:lnTo>
                      <a:pt x="6417" y="2252"/>
                    </a:lnTo>
                    <a:close/>
                    <a:moveTo>
                      <a:pt x="900" y="25"/>
                    </a:moveTo>
                    <a:lnTo>
                      <a:pt x="848" y="80"/>
                    </a:lnTo>
                    <a:lnTo>
                      <a:pt x="797" y="136"/>
                    </a:lnTo>
                    <a:lnTo>
                      <a:pt x="748" y="193"/>
                    </a:lnTo>
                    <a:lnTo>
                      <a:pt x="701" y="250"/>
                    </a:lnTo>
                    <a:lnTo>
                      <a:pt x="654" y="310"/>
                    </a:lnTo>
                    <a:lnTo>
                      <a:pt x="609" y="370"/>
                    </a:lnTo>
                    <a:lnTo>
                      <a:pt x="566" y="432"/>
                    </a:lnTo>
                    <a:lnTo>
                      <a:pt x="524" y="495"/>
                    </a:lnTo>
                    <a:lnTo>
                      <a:pt x="483" y="558"/>
                    </a:lnTo>
                    <a:lnTo>
                      <a:pt x="444" y="623"/>
                    </a:lnTo>
                    <a:lnTo>
                      <a:pt x="406" y="689"/>
                    </a:lnTo>
                    <a:lnTo>
                      <a:pt x="370" y="755"/>
                    </a:lnTo>
                    <a:lnTo>
                      <a:pt x="336" y="823"/>
                    </a:lnTo>
                    <a:lnTo>
                      <a:pt x="302" y="891"/>
                    </a:lnTo>
                    <a:lnTo>
                      <a:pt x="271" y="960"/>
                    </a:lnTo>
                    <a:lnTo>
                      <a:pt x="240" y="1030"/>
                    </a:lnTo>
                    <a:lnTo>
                      <a:pt x="212" y="1101"/>
                    </a:lnTo>
                    <a:lnTo>
                      <a:pt x="185" y="1173"/>
                    </a:lnTo>
                    <a:lnTo>
                      <a:pt x="161" y="1246"/>
                    </a:lnTo>
                    <a:lnTo>
                      <a:pt x="138" y="1320"/>
                    </a:lnTo>
                    <a:lnTo>
                      <a:pt x="116" y="1393"/>
                    </a:lnTo>
                    <a:lnTo>
                      <a:pt x="96" y="1468"/>
                    </a:lnTo>
                    <a:lnTo>
                      <a:pt x="78" y="1543"/>
                    </a:lnTo>
                    <a:lnTo>
                      <a:pt x="62" y="1620"/>
                    </a:lnTo>
                    <a:lnTo>
                      <a:pt x="47" y="1697"/>
                    </a:lnTo>
                    <a:lnTo>
                      <a:pt x="35" y="1774"/>
                    </a:lnTo>
                    <a:lnTo>
                      <a:pt x="24" y="1852"/>
                    </a:lnTo>
                    <a:lnTo>
                      <a:pt x="16" y="1931"/>
                    </a:lnTo>
                    <a:lnTo>
                      <a:pt x="8" y="2011"/>
                    </a:lnTo>
                    <a:lnTo>
                      <a:pt x="4" y="2091"/>
                    </a:lnTo>
                    <a:lnTo>
                      <a:pt x="1" y="2171"/>
                    </a:lnTo>
                    <a:lnTo>
                      <a:pt x="0" y="2252"/>
                    </a:lnTo>
                    <a:lnTo>
                      <a:pt x="1" y="2333"/>
                    </a:lnTo>
                    <a:lnTo>
                      <a:pt x="4" y="2413"/>
                    </a:lnTo>
                    <a:lnTo>
                      <a:pt x="8" y="2493"/>
                    </a:lnTo>
                    <a:lnTo>
                      <a:pt x="16" y="2571"/>
                    </a:lnTo>
                    <a:lnTo>
                      <a:pt x="24" y="2650"/>
                    </a:lnTo>
                    <a:lnTo>
                      <a:pt x="35" y="2729"/>
                    </a:lnTo>
                    <a:lnTo>
                      <a:pt x="47" y="2806"/>
                    </a:lnTo>
                    <a:lnTo>
                      <a:pt x="62" y="2882"/>
                    </a:lnTo>
                    <a:lnTo>
                      <a:pt x="78" y="2959"/>
                    </a:lnTo>
                    <a:lnTo>
                      <a:pt x="96" y="3035"/>
                    </a:lnTo>
                    <a:lnTo>
                      <a:pt x="116" y="3109"/>
                    </a:lnTo>
                    <a:lnTo>
                      <a:pt x="138" y="3184"/>
                    </a:lnTo>
                    <a:lnTo>
                      <a:pt x="161" y="3257"/>
                    </a:lnTo>
                    <a:lnTo>
                      <a:pt x="185" y="3330"/>
                    </a:lnTo>
                    <a:lnTo>
                      <a:pt x="212" y="3402"/>
                    </a:lnTo>
                    <a:lnTo>
                      <a:pt x="240" y="3472"/>
                    </a:lnTo>
                    <a:lnTo>
                      <a:pt x="271" y="3542"/>
                    </a:lnTo>
                    <a:lnTo>
                      <a:pt x="302" y="3611"/>
                    </a:lnTo>
                    <a:lnTo>
                      <a:pt x="336" y="3681"/>
                    </a:lnTo>
                    <a:lnTo>
                      <a:pt x="370" y="3747"/>
                    </a:lnTo>
                    <a:lnTo>
                      <a:pt x="406" y="3814"/>
                    </a:lnTo>
                    <a:lnTo>
                      <a:pt x="444" y="3880"/>
                    </a:lnTo>
                    <a:lnTo>
                      <a:pt x="483" y="3944"/>
                    </a:lnTo>
                    <a:lnTo>
                      <a:pt x="524" y="4008"/>
                    </a:lnTo>
                    <a:lnTo>
                      <a:pt x="566" y="4070"/>
                    </a:lnTo>
                    <a:lnTo>
                      <a:pt x="609" y="4132"/>
                    </a:lnTo>
                    <a:lnTo>
                      <a:pt x="654" y="4192"/>
                    </a:lnTo>
                    <a:lnTo>
                      <a:pt x="701" y="4252"/>
                    </a:lnTo>
                    <a:lnTo>
                      <a:pt x="748" y="4310"/>
                    </a:lnTo>
                    <a:lnTo>
                      <a:pt x="797" y="4367"/>
                    </a:lnTo>
                    <a:lnTo>
                      <a:pt x="848" y="4422"/>
                    </a:lnTo>
                    <a:lnTo>
                      <a:pt x="899" y="4478"/>
                    </a:lnTo>
                    <a:lnTo>
                      <a:pt x="909" y="4481"/>
                    </a:lnTo>
                    <a:lnTo>
                      <a:pt x="920" y="4484"/>
                    </a:lnTo>
                    <a:lnTo>
                      <a:pt x="931" y="4487"/>
                    </a:lnTo>
                    <a:lnTo>
                      <a:pt x="941" y="4491"/>
                    </a:lnTo>
                    <a:lnTo>
                      <a:pt x="951" y="4494"/>
                    </a:lnTo>
                    <a:lnTo>
                      <a:pt x="962" y="4497"/>
                    </a:lnTo>
                    <a:lnTo>
                      <a:pt x="972" y="4500"/>
                    </a:lnTo>
                    <a:lnTo>
                      <a:pt x="983" y="4503"/>
                    </a:lnTo>
                    <a:lnTo>
                      <a:pt x="929" y="4449"/>
                    </a:lnTo>
                    <a:lnTo>
                      <a:pt x="877" y="4393"/>
                    </a:lnTo>
                    <a:lnTo>
                      <a:pt x="825" y="4336"/>
                    </a:lnTo>
                    <a:lnTo>
                      <a:pt x="775" y="4278"/>
                    </a:lnTo>
                    <a:lnTo>
                      <a:pt x="728" y="4218"/>
                    </a:lnTo>
                    <a:lnTo>
                      <a:pt x="680" y="4158"/>
                    </a:lnTo>
                    <a:lnTo>
                      <a:pt x="635" y="4096"/>
                    </a:lnTo>
                    <a:lnTo>
                      <a:pt x="591" y="4034"/>
                    </a:lnTo>
                    <a:lnTo>
                      <a:pt x="548" y="3969"/>
                    </a:lnTo>
                    <a:lnTo>
                      <a:pt x="507" y="3904"/>
                    </a:lnTo>
                    <a:lnTo>
                      <a:pt x="467" y="3838"/>
                    </a:lnTo>
                    <a:lnTo>
                      <a:pt x="430" y="3771"/>
                    </a:lnTo>
                    <a:lnTo>
                      <a:pt x="393" y="3703"/>
                    </a:lnTo>
                    <a:lnTo>
                      <a:pt x="358" y="3634"/>
                    </a:lnTo>
                    <a:lnTo>
                      <a:pt x="326" y="3564"/>
                    </a:lnTo>
                    <a:lnTo>
                      <a:pt x="295" y="3493"/>
                    </a:lnTo>
                    <a:lnTo>
                      <a:pt x="264" y="3420"/>
                    </a:lnTo>
                    <a:lnTo>
                      <a:pt x="236" y="3348"/>
                    </a:lnTo>
                    <a:lnTo>
                      <a:pt x="210" y="3274"/>
                    </a:lnTo>
                    <a:lnTo>
                      <a:pt x="186" y="3200"/>
                    </a:lnTo>
                    <a:lnTo>
                      <a:pt x="164" y="3124"/>
                    </a:lnTo>
                    <a:lnTo>
                      <a:pt x="142" y="3049"/>
                    </a:lnTo>
                    <a:lnTo>
                      <a:pt x="124" y="2972"/>
                    </a:lnTo>
                    <a:lnTo>
                      <a:pt x="107" y="2894"/>
                    </a:lnTo>
                    <a:lnTo>
                      <a:pt x="91" y="2817"/>
                    </a:lnTo>
                    <a:lnTo>
                      <a:pt x="78" y="2738"/>
                    </a:lnTo>
                    <a:lnTo>
                      <a:pt x="68" y="2658"/>
                    </a:lnTo>
                    <a:lnTo>
                      <a:pt x="58" y="2578"/>
                    </a:lnTo>
                    <a:lnTo>
                      <a:pt x="50" y="2497"/>
                    </a:lnTo>
                    <a:lnTo>
                      <a:pt x="46" y="2416"/>
                    </a:lnTo>
                    <a:lnTo>
                      <a:pt x="43" y="2334"/>
                    </a:lnTo>
                    <a:lnTo>
                      <a:pt x="42" y="2252"/>
                    </a:lnTo>
                    <a:lnTo>
                      <a:pt x="43" y="2170"/>
                    </a:lnTo>
                    <a:lnTo>
                      <a:pt x="46" y="2088"/>
                    </a:lnTo>
                    <a:lnTo>
                      <a:pt x="50" y="2005"/>
                    </a:lnTo>
                    <a:lnTo>
                      <a:pt x="58" y="1926"/>
                    </a:lnTo>
                    <a:lnTo>
                      <a:pt x="68" y="1846"/>
                    </a:lnTo>
                    <a:lnTo>
                      <a:pt x="78" y="1766"/>
                    </a:lnTo>
                    <a:lnTo>
                      <a:pt x="91" y="1687"/>
                    </a:lnTo>
                    <a:lnTo>
                      <a:pt x="107" y="1608"/>
                    </a:lnTo>
                    <a:lnTo>
                      <a:pt x="124" y="1531"/>
                    </a:lnTo>
                    <a:lnTo>
                      <a:pt x="142" y="1455"/>
                    </a:lnTo>
                    <a:lnTo>
                      <a:pt x="164" y="1378"/>
                    </a:lnTo>
                    <a:lnTo>
                      <a:pt x="186" y="1303"/>
                    </a:lnTo>
                    <a:lnTo>
                      <a:pt x="210" y="1229"/>
                    </a:lnTo>
                    <a:lnTo>
                      <a:pt x="236" y="1154"/>
                    </a:lnTo>
                    <a:lnTo>
                      <a:pt x="264" y="1082"/>
                    </a:lnTo>
                    <a:lnTo>
                      <a:pt x="295" y="1010"/>
                    </a:lnTo>
                    <a:lnTo>
                      <a:pt x="326" y="939"/>
                    </a:lnTo>
                    <a:lnTo>
                      <a:pt x="358" y="869"/>
                    </a:lnTo>
                    <a:lnTo>
                      <a:pt x="393" y="800"/>
                    </a:lnTo>
                    <a:lnTo>
                      <a:pt x="430" y="732"/>
                    </a:lnTo>
                    <a:lnTo>
                      <a:pt x="467" y="665"/>
                    </a:lnTo>
                    <a:lnTo>
                      <a:pt x="507" y="598"/>
                    </a:lnTo>
                    <a:lnTo>
                      <a:pt x="548" y="533"/>
                    </a:lnTo>
                    <a:lnTo>
                      <a:pt x="591" y="470"/>
                    </a:lnTo>
                    <a:lnTo>
                      <a:pt x="635" y="407"/>
                    </a:lnTo>
                    <a:lnTo>
                      <a:pt x="680" y="344"/>
                    </a:lnTo>
                    <a:lnTo>
                      <a:pt x="728" y="284"/>
                    </a:lnTo>
                    <a:lnTo>
                      <a:pt x="775" y="225"/>
                    </a:lnTo>
                    <a:lnTo>
                      <a:pt x="825" y="166"/>
                    </a:lnTo>
                    <a:lnTo>
                      <a:pt x="877" y="110"/>
                    </a:lnTo>
                    <a:lnTo>
                      <a:pt x="929" y="54"/>
                    </a:lnTo>
                    <a:lnTo>
                      <a:pt x="983" y="0"/>
                    </a:lnTo>
                    <a:lnTo>
                      <a:pt x="973" y="2"/>
                    </a:lnTo>
                    <a:lnTo>
                      <a:pt x="962" y="5"/>
                    </a:lnTo>
                    <a:lnTo>
                      <a:pt x="951" y="9"/>
                    </a:lnTo>
                    <a:lnTo>
                      <a:pt x="941" y="12"/>
                    </a:lnTo>
                    <a:lnTo>
                      <a:pt x="931" y="15"/>
                    </a:lnTo>
                    <a:lnTo>
                      <a:pt x="920" y="18"/>
                    </a:lnTo>
                    <a:lnTo>
                      <a:pt x="909" y="21"/>
                    </a:lnTo>
                    <a:lnTo>
                      <a:pt x="900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308400" y="2098800"/>
                <a:ext cx="2530440" cy="1796760"/>
              </a:xfrm>
              <a:custGeom>
                <a:avLst/>
                <a:gdLst/>
                <a:ahLst/>
                <a:rect l="l" t="t" r="r" b="b"/>
                <a:pathLst>
                  <a:path w="6376" h="4528">
                    <a:moveTo>
                      <a:pt x="6376" y="2265"/>
                    </a:moveTo>
                    <a:lnTo>
                      <a:pt x="6375" y="2183"/>
                    </a:lnTo>
                    <a:lnTo>
                      <a:pt x="6372" y="2102"/>
                    </a:lnTo>
                    <a:lnTo>
                      <a:pt x="6367" y="2022"/>
                    </a:lnTo>
                    <a:lnTo>
                      <a:pt x="6360" y="1942"/>
                    </a:lnTo>
                    <a:lnTo>
                      <a:pt x="6350" y="1862"/>
                    </a:lnTo>
                    <a:lnTo>
                      <a:pt x="6340" y="1783"/>
                    </a:lnTo>
                    <a:lnTo>
                      <a:pt x="6327" y="1705"/>
                    </a:lnTo>
                    <a:lnTo>
                      <a:pt x="6313" y="1627"/>
                    </a:lnTo>
                    <a:lnTo>
                      <a:pt x="6295" y="1551"/>
                    </a:lnTo>
                    <a:lnTo>
                      <a:pt x="6277" y="1474"/>
                    </a:lnTo>
                    <a:lnTo>
                      <a:pt x="6256" y="1399"/>
                    </a:lnTo>
                    <a:lnTo>
                      <a:pt x="6235" y="1324"/>
                    </a:lnTo>
                    <a:lnTo>
                      <a:pt x="6211" y="1251"/>
                    </a:lnTo>
                    <a:lnTo>
                      <a:pt x="6185" y="1177"/>
                    </a:lnTo>
                    <a:lnTo>
                      <a:pt x="6158" y="1105"/>
                    </a:lnTo>
                    <a:lnTo>
                      <a:pt x="6129" y="1033"/>
                    </a:lnTo>
                    <a:lnTo>
                      <a:pt x="6099" y="963"/>
                    </a:lnTo>
                    <a:lnTo>
                      <a:pt x="6066" y="893"/>
                    </a:lnTo>
                    <a:lnTo>
                      <a:pt x="6033" y="824"/>
                    </a:lnTo>
                    <a:lnTo>
                      <a:pt x="5997" y="757"/>
                    </a:lnTo>
                    <a:lnTo>
                      <a:pt x="5959" y="690"/>
                    </a:lnTo>
                    <a:lnTo>
                      <a:pt x="5921" y="624"/>
                    </a:lnTo>
                    <a:lnTo>
                      <a:pt x="5881" y="559"/>
                    </a:lnTo>
                    <a:lnTo>
                      <a:pt x="5839" y="496"/>
                    </a:lnTo>
                    <a:lnTo>
                      <a:pt x="5796" y="433"/>
                    </a:lnTo>
                    <a:lnTo>
                      <a:pt x="5752" y="371"/>
                    </a:lnTo>
                    <a:lnTo>
                      <a:pt x="5706" y="311"/>
                    </a:lnTo>
                    <a:lnTo>
                      <a:pt x="5659" y="252"/>
                    </a:lnTo>
                    <a:lnTo>
                      <a:pt x="5610" y="193"/>
                    </a:lnTo>
                    <a:lnTo>
                      <a:pt x="5559" y="136"/>
                    </a:lnTo>
                    <a:lnTo>
                      <a:pt x="5509" y="80"/>
                    </a:lnTo>
                    <a:lnTo>
                      <a:pt x="5456" y="26"/>
                    </a:lnTo>
                    <a:lnTo>
                      <a:pt x="5445" y="23"/>
                    </a:lnTo>
                    <a:lnTo>
                      <a:pt x="5434" y="19"/>
                    </a:lnTo>
                    <a:lnTo>
                      <a:pt x="5424" y="16"/>
                    </a:lnTo>
                    <a:lnTo>
                      <a:pt x="5414" y="13"/>
                    </a:lnTo>
                    <a:lnTo>
                      <a:pt x="5403" y="10"/>
                    </a:lnTo>
                    <a:lnTo>
                      <a:pt x="5392" y="6"/>
                    </a:lnTo>
                    <a:lnTo>
                      <a:pt x="5381" y="3"/>
                    </a:lnTo>
                    <a:lnTo>
                      <a:pt x="5370" y="0"/>
                    </a:lnTo>
                    <a:lnTo>
                      <a:pt x="5425" y="54"/>
                    </a:lnTo>
                    <a:lnTo>
                      <a:pt x="5479" y="110"/>
                    </a:lnTo>
                    <a:lnTo>
                      <a:pt x="5531" y="167"/>
                    </a:lnTo>
                    <a:lnTo>
                      <a:pt x="5582" y="226"/>
                    </a:lnTo>
                    <a:lnTo>
                      <a:pt x="5632" y="285"/>
                    </a:lnTo>
                    <a:lnTo>
                      <a:pt x="5680" y="346"/>
                    </a:lnTo>
                    <a:lnTo>
                      <a:pt x="5727" y="407"/>
                    </a:lnTo>
                    <a:lnTo>
                      <a:pt x="5772" y="470"/>
                    </a:lnTo>
                    <a:lnTo>
                      <a:pt x="5816" y="535"/>
                    </a:lnTo>
                    <a:lnTo>
                      <a:pt x="5858" y="599"/>
                    </a:lnTo>
                    <a:lnTo>
                      <a:pt x="5898" y="666"/>
                    </a:lnTo>
                    <a:lnTo>
                      <a:pt x="5937" y="733"/>
                    </a:lnTo>
                    <a:lnTo>
                      <a:pt x="5973" y="802"/>
                    </a:lnTo>
                    <a:lnTo>
                      <a:pt x="6009" y="871"/>
                    </a:lnTo>
                    <a:lnTo>
                      <a:pt x="6044" y="942"/>
                    </a:lnTo>
                    <a:lnTo>
                      <a:pt x="6075" y="1013"/>
                    </a:lnTo>
                    <a:lnTo>
                      <a:pt x="6105" y="1085"/>
                    </a:lnTo>
                    <a:lnTo>
                      <a:pt x="6134" y="1159"/>
                    </a:lnTo>
                    <a:lnTo>
                      <a:pt x="6161" y="1233"/>
                    </a:lnTo>
                    <a:lnTo>
                      <a:pt x="6186" y="1308"/>
                    </a:lnTo>
                    <a:lnTo>
                      <a:pt x="6209" y="1383"/>
                    </a:lnTo>
                    <a:lnTo>
                      <a:pt x="6230" y="1460"/>
                    </a:lnTo>
                    <a:lnTo>
                      <a:pt x="6250" y="1538"/>
                    </a:lnTo>
                    <a:lnTo>
                      <a:pt x="6267" y="1616"/>
                    </a:lnTo>
                    <a:lnTo>
                      <a:pt x="6282" y="1694"/>
                    </a:lnTo>
                    <a:lnTo>
                      <a:pt x="6296" y="1774"/>
                    </a:lnTo>
                    <a:lnTo>
                      <a:pt x="6307" y="1854"/>
                    </a:lnTo>
                    <a:lnTo>
                      <a:pt x="6317" y="1935"/>
                    </a:lnTo>
                    <a:lnTo>
                      <a:pt x="6324" y="2016"/>
                    </a:lnTo>
                    <a:lnTo>
                      <a:pt x="6330" y="2098"/>
                    </a:lnTo>
                    <a:lnTo>
                      <a:pt x="6333" y="2182"/>
                    </a:lnTo>
                    <a:lnTo>
                      <a:pt x="6334" y="2265"/>
                    </a:lnTo>
                    <a:lnTo>
                      <a:pt x="6334" y="2318"/>
                    </a:lnTo>
                    <a:lnTo>
                      <a:pt x="6332" y="2371"/>
                    </a:lnTo>
                    <a:lnTo>
                      <a:pt x="6330" y="2422"/>
                    </a:lnTo>
                    <a:lnTo>
                      <a:pt x="6328" y="2475"/>
                    </a:lnTo>
                    <a:lnTo>
                      <a:pt x="6323" y="2527"/>
                    </a:lnTo>
                    <a:lnTo>
                      <a:pt x="6319" y="2579"/>
                    </a:lnTo>
                    <a:lnTo>
                      <a:pt x="6313" y="2630"/>
                    </a:lnTo>
                    <a:lnTo>
                      <a:pt x="6306" y="2682"/>
                    </a:lnTo>
                    <a:lnTo>
                      <a:pt x="6300" y="2732"/>
                    </a:lnTo>
                    <a:lnTo>
                      <a:pt x="6291" y="2783"/>
                    </a:lnTo>
                    <a:lnTo>
                      <a:pt x="6282" y="2834"/>
                    </a:lnTo>
                    <a:lnTo>
                      <a:pt x="6273" y="2884"/>
                    </a:lnTo>
                    <a:lnTo>
                      <a:pt x="6263" y="2934"/>
                    </a:lnTo>
                    <a:lnTo>
                      <a:pt x="6251" y="2984"/>
                    </a:lnTo>
                    <a:lnTo>
                      <a:pt x="6239" y="3033"/>
                    </a:lnTo>
                    <a:lnTo>
                      <a:pt x="6226" y="3082"/>
                    </a:lnTo>
                    <a:lnTo>
                      <a:pt x="6267" y="3093"/>
                    </a:lnTo>
                    <a:lnTo>
                      <a:pt x="6280" y="3043"/>
                    </a:lnTo>
                    <a:lnTo>
                      <a:pt x="6292" y="2993"/>
                    </a:lnTo>
                    <a:lnTo>
                      <a:pt x="6303" y="2943"/>
                    </a:lnTo>
                    <a:lnTo>
                      <a:pt x="6314" y="2892"/>
                    </a:lnTo>
                    <a:lnTo>
                      <a:pt x="6323" y="2841"/>
                    </a:lnTo>
                    <a:lnTo>
                      <a:pt x="6332" y="2791"/>
                    </a:lnTo>
                    <a:lnTo>
                      <a:pt x="6341" y="2739"/>
                    </a:lnTo>
                    <a:lnTo>
                      <a:pt x="6348" y="2687"/>
                    </a:lnTo>
                    <a:lnTo>
                      <a:pt x="6355" y="2635"/>
                    </a:lnTo>
                    <a:lnTo>
                      <a:pt x="6360" y="2583"/>
                    </a:lnTo>
                    <a:lnTo>
                      <a:pt x="6364" y="2530"/>
                    </a:lnTo>
                    <a:lnTo>
                      <a:pt x="6369" y="2477"/>
                    </a:lnTo>
                    <a:lnTo>
                      <a:pt x="6372" y="2425"/>
                    </a:lnTo>
                    <a:lnTo>
                      <a:pt x="6374" y="2372"/>
                    </a:lnTo>
                    <a:lnTo>
                      <a:pt x="6375" y="2318"/>
                    </a:lnTo>
                    <a:lnTo>
                      <a:pt x="6376" y="2265"/>
                    </a:lnTo>
                    <a:close/>
                    <a:moveTo>
                      <a:pt x="921" y="26"/>
                    </a:moveTo>
                    <a:lnTo>
                      <a:pt x="868" y="80"/>
                    </a:lnTo>
                    <a:lnTo>
                      <a:pt x="817" y="136"/>
                    </a:lnTo>
                    <a:lnTo>
                      <a:pt x="766" y="193"/>
                    </a:lnTo>
                    <a:lnTo>
                      <a:pt x="718" y="252"/>
                    </a:lnTo>
                    <a:lnTo>
                      <a:pt x="670" y="311"/>
                    </a:lnTo>
                    <a:lnTo>
                      <a:pt x="625" y="371"/>
                    </a:lnTo>
                    <a:lnTo>
                      <a:pt x="580" y="433"/>
                    </a:lnTo>
                    <a:lnTo>
                      <a:pt x="537" y="496"/>
                    </a:lnTo>
                    <a:lnTo>
                      <a:pt x="495" y="559"/>
                    </a:lnTo>
                    <a:lnTo>
                      <a:pt x="455" y="624"/>
                    </a:lnTo>
                    <a:lnTo>
                      <a:pt x="416" y="690"/>
                    </a:lnTo>
                    <a:lnTo>
                      <a:pt x="379" y="757"/>
                    </a:lnTo>
                    <a:lnTo>
                      <a:pt x="344" y="824"/>
                    </a:lnTo>
                    <a:lnTo>
                      <a:pt x="310" y="893"/>
                    </a:lnTo>
                    <a:lnTo>
                      <a:pt x="278" y="963"/>
                    </a:lnTo>
                    <a:lnTo>
                      <a:pt x="248" y="1033"/>
                    </a:lnTo>
                    <a:lnTo>
                      <a:pt x="218" y="1105"/>
                    </a:lnTo>
                    <a:lnTo>
                      <a:pt x="191" y="1177"/>
                    </a:lnTo>
                    <a:lnTo>
                      <a:pt x="165" y="1251"/>
                    </a:lnTo>
                    <a:lnTo>
                      <a:pt x="142" y="1324"/>
                    </a:lnTo>
                    <a:lnTo>
                      <a:pt x="120" y="1399"/>
                    </a:lnTo>
                    <a:lnTo>
                      <a:pt x="99" y="1474"/>
                    </a:lnTo>
                    <a:lnTo>
                      <a:pt x="81" y="1551"/>
                    </a:lnTo>
                    <a:lnTo>
                      <a:pt x="64" y="1627"/>
                    </a:lnTo>
                    <a:lnTo>
                      <a:pt x="50" y="1705"/>
                    </a:lnTo>
                    <a:lnTo>
                      <a:pt x="37" y="1783"/>
                    </a:lnTo>
                    <a:lnTo>
                      <a:pt x="26" y="1862"/>
                    </a:lnTo>
                    <a:lnTo>
                      <a:pt x="16" y="1942"/>
                    </a:lnTo>
                    <a:lnTo>
                      <a:pt x="10" y="2022"/>
                    </a:lnTo>
                    <a:lnTo>
                      <a:pt x="4" y="2102"/>
                    </a:lnTo>
                    <a:lnTo>
                      <a:pt x="1" y="2183"/>
                    </a:lnTo>
                    <a:lnTo>
                      <a:pt x="0" y="2265"/>
                    </a:lnTo>
                    <a:lnTo>
                      <a:pt x="1" y="2346"/>
                    </a:lnTo>
                    <a:lnTo>
                      <a:pt x="4" y="2427"/>
                    </a:lnTo>
                    <a:lnTo>
                      <a:pt x="10" y="2508"/>
                    </a:lnTo>
                    <a:lnTo>
                      <a:pt x="16" y="2588"/>
                    </a:lnTo>
                    <a:lnTo>
                      <a:pt x="26" y="2668"/>
                    </a:lnTo>
                    <a:lnTo>
                      <a:pt x="37" y="2746"/>
                    </a:lnTo>
                    <a:lnTo>
                      <a:pt x="50" y="2824"/>
                    </a:lnTo>
                    <a:lnTo>
                      <a:pt x="64" y="2902"/>
                    </a:lnTo>
                    <a:lnTo>
                      <a:pt x="81" y="2979"/>
                    </a:lnTo>
                    <a:lnTo>
                      <a:pt x="99" y="3054"/>
                    </a:lnTo>
                    <a:lnTo>
                      <a:pt x="120" y="3130"/>
                    </a:lnTo>
                    <a:lnTo>
                      <a:pt x="142" y="3204"/>
                    </a:lnTo>
                    <a:lnTo>
                      <a:pt x="165" y="3279"/>
                    </a:lnTo>
                    <a:lnTo>
                      <a:pt x="191" y="3351"/>
                    </a:lnTo>
                    <a:lnTo>
                      <a:pt x="218" y="3424"/>
                    </a:lnTo>
                    <a:lnTo>
                      <a:pt x="248" y="3496"/>
                    </a:lnTo>
                    <a:lnTo>
                      <a:pt x="278" y="3566"/>
                    </a:lnTo>
                    <a:lnTo>
                      <a:pt x="310" y="3635"/>
                    </a:lnTo>
                    <a:lnTo>
                      <a:pt x="344" y="3704"/>
                    </a:lnTo>
                    <a:lnTo>
                      <a:pt x="379" y="3772"/>
                    </a:lnTo>
                    <a:lnTo>
                      <a:pt x="416" y="3839"/>
                    </a:lnTo>
                    <a:lnTo>
                      <a:pt x="455" y="3905"/>
                    </a:lnTo>
                    <a:lnTo>
                      <a:pt x="495" y="3970"/>
                    </a:lnTo>
                    <a:lnTo>
                      <a:pt x="537" y="4034"/>
                    </a:lnTo>
                    <a:lnTo>
                      <a:pt x="580" y="4096"/>
                    </a:lnTo>
                    <a:lnTo>
                      <a:pt x="625" y="4158"/>
                    </a:lnTo>
                    <a:lnTo>
                      <a:pt x="670" y="4218"/>
                    </a:lnTo>
                    <a:lnTo>
                      <a:pt x="718" y="4278"/>
                    </a:lnTo>
                    <a:lnTo>
                      <a:pt x="766" y="4336"/>
                    </a:lnTo>
                    <a:lnTo>
                      <a:pt x="817" y="4393"/>
                    </a:lnTo>
                    <a:lnTo>
                      <a:pt x="868" y="4448"/>
                    </a:lnTo>
                    <a:lnTo>
                      <a:pt x="921" y="4504"/>
                    </a:lnTo>
                    <a:lnTo>
                      <a:pt x="931" y="4507"/>
                    </a:lnTo>
                    <a:lnTo>
                      <a:pt x="942" y="4510"/>
                    </a:lnTo>
                    <a:lnTo>
                      <a:pt x="952" y="4513"/>
                    </a:lnTo>
                    <a:lnTo>
                      <a:pt x="963" y="4516"/>
                    </a:lnTo>
                    <a:lnTo>
                      <a:pt x="974" y="4520"/>
                    </a:lnTo>
                    <a:lnTo>
                      <a:pt x="984" y="4523"/>
                    </a:lnTo>
                    <a:lnTo>
                      <a:pt x="995" y="4525"/>
                    </a:lnTo>
                    <a:lnTo>
                      <a:pt x="1006" y="4528"/>
                    </a:lnTo>
                    <a:lnTo>
                      <a:pt x="951" y="4474"/>
                    </a:lnTo>
                    <a:lnTo>
                      <a:pt x="897" y="4419"/>
                    </a:lnTo>
                    <a:lnTo>
                      <a:pt x="845" y="4362"/>
                    </a:lnTo>
                    <a:lnTo>
                      <a:pt x="793" y="4304"/>
                    </a:lnTo>
                    <a:lnTo>
                      <a:pt x="745" y="4244"/>
                    </a:lnTo>
                    <a:lnTo>
                      <a:pt x="696" y="4184"/>
                    </a:lnTo>
                    <a:lnTo>
                      <a:pt x="649" y="4121"/>
                    </a:lnTo>
                    <a:lnTo>
                      <a:pt x="604" y="4059"/>
                    </a:lnTo>
                    <a:lnTo>
                      <a:pt x="561" y="3995"/>
                    </a:lnTo>
                    <a:lnTo>
                      <a:pt x="519" y="3929"/>
                    </a:lnTo>
                    <a:lnTo>
                      <a:pt x="479" y="3863"/>
                    </a:lnTo>
                    <a:lnTo>
                      <a:pt x="440" y="3795"/>
                    </a:lnTo>
                    <a:lnTo>
                      <a:pt x="403" y="3727"/>
                    </a:lnTo>
                    <a:lnTo>
                      <a:pt x="367" y="3658"/>
                    </a:lnTo>
                    <a:lnTo>
                      <a:pt x="333" y="3587"/>
                    </a:lnTo>
                    <a:lnTo>
                      <a:pt x="302" y="3515"/>
                    </a:lnTo>
                    <a:lnTo>
                      <a:pt x="271" y="3443"/>
                    </a:lnTo>
                    <a:lnTo>
                      <a:pt x="242" y="3370"/>
                    </a:lnTo>
                    <a:lnTo>
                      <a:pt x="215" y="3296"/>
                    </a:lnTo>
                    <a:lnTo>
                      <a:pt x="190" y="3220"/>
                    </a:lnTo>
                    <a:lnTo>
                      <a:pt x="168" y="3145"/>
                    </a:lnTo>
                    <a:lnTo>
                      <a:pt x="146" y="3068"/>
                    </a:lnTo>
                    <a:lnTo>
                      <a:pt x="126" y="2992"/>
                    </a:lnTo>
                    <a:lnTo>
                      <a:pt x="109" y="2913"/>
                    </a:lnTo>
                    <a:lnTo>
                      <a:pt x="94" y="2834"/>
                    </a:lnTo>
                    <a:lnTo>
                      <a:pt x="80" y="2755"/>
                    </a:lnTo>
                    <a:lnTo>
                      <a:pt x="69" y="2674"/>
                    </a:lnTo>
                    <a:lnTo>
                      <a:pt x="59" y="2594"/>
                    </a:lnTo>
                    <a:lnTo>
                      <a:pt x="52" y="2512"/>
                    </a:lnTo>
                    <a:lnTo>
                      <a:pt x="47" y="2430"/>
                    </a:lnTo>
                    <a:lnTo>
                      <a:pt x="43" y="2348"/>
                    </a:lnTo>
                    <a:lnTo>
                      <a:pt x="42" y="2265"/>
                    </a:lnTo>
                    <a:lnTo>
                      <a:pt x="43" y="2182"/>
                    </a:lnTo>
                    <a:lnTo>
                      <a:pt x="47" y="2098"/>
                    </a:lnTo>
                    <a:lnTo>
                      <a:pt x="52" y="2016"/>
                    </a:lnTo>
                    <a:lnTo>
                      <a:pt x="59" y="1935"/>
                    </a:lnTo>
                    <a:lnTo>
                      <a:pt x="69" y="1854"/>
                    </a:lnTo>
                    <a:lnTo>
                      <a:pt x="80" y="1774"/>
                    </a:lnTo>
                    <a:lnTo>
                      <a:pt x="94" y="1694"/>
                    </a:lnTo>
                    <a:lnTo>
                      <a:pt x="109" y="1616"/>
                    </a:lnTo>
                    <a:lnTo>
                      <a:pt x="126" y="1538"/>
                    </a:lnTo>
                    <a:lnTo>
                      <a:pt x="146" y="1460"/>
                    </a:lnTo>
                    <a:lnTo>
                      <a:pt x="168" y="1383"/>
                    </a:lnTo>
                    <a:lnTo>
                      <a:pt x="190" y="1308"/>
                    </a:lnTo>
                    <a:lnTo>
                      <a:pt x="215" y="1233"/>
                    </a:lnTo>
                    <a:lnTo>
                      <a:pt x="242" y="1159"/>
                    </a:lnTo>
                    <a:lnTo>
                      <a:pt x="271" y="1085"/>
                    </a:lnTo>
                    <a:lnTo>
                      <a:pt x="302" y="1013"/>
                    </a:lnTo>
                    <a:lnTo>
                      <a:pt x="333" y="942"/>
                    </a:lnTo>
                    <a:lnTo>
                      <a:pt x="367" y="871"/>
                    </a:lnTo>
                    <a:lnTo>
                      <a:pt x="403" y="802"/>
                    </a:lnTo>
                    <a:lnTo>
                      <a:pt x="440" y="733"/>
                    </a:lnTo>
                    <a:lnTo>
                      <a:pt x="479" y="666"/>
                    </a:lnTo>
                    <a:lnTo>
                      <a:pt x="519" y="599"/>
                    </a:lnTo>
                    <a:lnTo>
                      <a:pt x="561" y="535"/>
                    </a:lnTo>
                    <a:lnTo>
                      <a:pt x="604" y="470"/>
                    </a:lnTo>
                    <a:lnTo>
                      <a:pt x="649" y="407"/>
                    </a:lnTo>
                    <a:lnTo>
                      <a:pt x="696" y="346"/>
                    </a:lnTo>
                    <a:lnTo>
                      <a:pt x="745" y="285"/>
                    </a:lnTo>
                    <a:lnTo>
                      <a:pt x="793" y="226"/>
                    </a:lnTo>
                    <a:lnTo>
                      <a:pt x="845" y="167"/>
                    </a:lnTo>
                    <a:lnTo>
                      <a:pt x="897" y="110"/>
                    </a:lnTo>
                    <a:lnTo>
                      <a:pt x="951" y="54"/>
                    </a:lnTo>
                    <a:lnTo>
                      <a:pt x="1006" y="0"/>
                    </a:lnTo>
                    <a:lnTo>
                      <a:pt x="995" y="3"/>
                    </a:lnTo>
                    <a:lnTo>
                      <a:pt x="984" y="6"/>
                    </a:lnTo>
                    <a:lnTo>
                      <a:pt x="974" y="10"/>
                    </a:lnTo>
                    <a:lnTo>
                      <a:pt x="963" y="13"/>
                    </a:lnTo>
                    <a:lnTo>
                      <a:pt x="952" y="16"/>
                    </a:lnTo>
                    <a:lnTo>
                      <a:pt x="942" y="19"/>
                    </a:lnTo>
                    <a:lnTo>
                      <a:pt x="931" y="23"/>
                    </a:lnTo>
                    <a:lnTo>
                      <a:pt x="921" y="26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17760" y="2093760"/>
                <a:ext cx="2513160" cy="1806840"/>
              </a:xfrm>
              <a:custGeom>
                <a:avLst/>
                <a:gdLst/>
                <a:ahLst/>
                <a:rect l="l" t="t" r="r" b="b"/>
                <a:pathLst>
                  <a:path w="6333" h="4553">
                    <a:moveTo>
                      <a:pt x="6333" y="2277"/>
                    </a:moveTo>
                    <a:lnTo>
                      <a:pt x="6332" y="2195"/>
                    </a:lnTo>
                    <a:lnTo>
                      <a:pt x="6328" y="2113"/>
                    </a:lnTo>
                    <a:lnTo>
                      <a:pt x="6324" y="2030"/>
                    </a:lnTo>
                    <a:lnTo>
                      <a:pt x="6316" y="1951"/>
                    </a:lnTo>
                    <a:lnTo>
                      <a:pt x="6307" y="1871"/>
                    </a:lnTo>
                    <a:lnTo>
                      <a:pt x="6296" y="1791"/>
                    </a:lnTo>
                    <a:lnTo>
                      <a:pt x="6283" y="1712"/>
                    </a:lnTo>
                    <a:lnTo>
                      <a:pt x="6268" y="1633"/>
                    </a:lnTo>
                    <a:lnTo>
                      <a:pt x="6251" y="1556"/>
                    </a:lnTo>
                    <a:lnTo>
                      <a:pt x="6231" y="1480"/>
                    </a:lnTo>
                    <a:lnTo>
                      <a:pt x="6211" y="1403"/>
                    </a:lnTo>
                    <a:lnTo>
                      <a:pt x="6188" y="1328"/>
                    </a:lnTo>
                    <a:lnTo>
                      <a:pt x="6164" y="1254"/>
                    </a:lnTo>
                    <a:lnTo>
                      <a:pt x="6138" y="1179"/>
                    </a:lnTo>
                    <a:lnTo>
                      <a:pt x="6110" y="1107"/>
                    </a:lnTo>
                    <a:lnTo>
                      <a:pt x="6080" y="1035"/>
                    </a:lnTo>
                    <a:lnTo>
                      <a:pt x="6049" y="964"/>
                    </a:lnTo>
                    <a:lnTo>
                      <a:pt x="6016" y="894"/>
                    </a:lnTo>
                    <a:lnTo>
                      <a:pt x="5980" y="825"/>
                    </a:lnTo>
                    <a:lnTo>
                      <a:pt x="5945" y="757"/>
                    </a:lnTo>
                    <a:lnTo>
                      <a:pt x="5907" y="690"/>
                    </a:lnTo>
                    <a:lnTo>
                      <a:pt x="5867" y="623"/>
                    </a:lnTo>
                    <a:lnTo>
                      <a:pt x="5826" y="558"/>
                    </a:lnTo>
                    <a:lnTo>
                      <a:pt x="5784" y="495"/>
                    </a:lnTo>
                    <a:lnTo>
                      <a:pt x="5739" y="432"/>
                    </a:lnTo>
                    <a:lnTo>
                      <a:pt x="5694" y="369"/>
                    </a:lnTo>
                    <a:lnTo>
                      <a:pt x="5647" y="309"/>
                    </a:lnTo>
                    <a:lnTo>
                      <a:pt x="5599" y="250"/>
                    </a:lnTo>
                    <a:lnTo>
                      <a:pt x="5548" y="191"/>
                    </a:lnTo>
                    <a:lnTo>
                      <a:pt x="5497" y="135"/>
                    </a:lnTo>
                    <a:lnTo>
                      <a:pt x="5446" y="79"/>
                    </a:lnTo>
                    <a:lnTo>
                      <a:pt x="5392" y="25"/>
                    </a:lnTo>
                    <a:lnTo>
                      <a:pt x="5381" y="22"/>
                    </a:lnTo>
                    <a:lnTo>
                      <a:pt x="5370" y="18"/>
                    </a:lnTo>
                    <a:lnTo>
                      <a:pt x="5359" y="15"/>
                    </a:lnTo>
                    <a:lnTo>
                      <a:pt x="5348" y="12"/>
                    </a:lnTo>
                    <a:lnTo>
                      <a:pt x="5338" y="9"/>
                    </a:lnTo>
                    <a:lnTo>
                      <a:pt x="5327" y="5"/>
                    </a:lnTo>
                    <a:lnTo>
                      <a:pt x="5316" y="2"/>
                    </a:lnTo>
                    <a:lnTo>
                      <a:pt x="5305" y="0"/>
                    </a:lnTo>
                    <a:lnTo>
                      <a:pt x="5361" y="54"/>
                    </a:lnTo>
                    <a:lnTo>
                      <a:pt x="5416" y="109"/>
                    </a:lnTo>
                    <a:lnTo>
                      <a:pt x="5469" y="166"/>
                    </a:lnTo>
                    <a:lnTo>
                      <a:pt x="5522" y="224"/>
                    </a:lnTo>
                    <a:lnTo>
                      <a:pt x="5572" y="284"/>
                    </a:lnTo>
                    <a:lnTo>
                      <a:pt x="5622" y="345"/>
                    </a:lnTo>
                    <a:lnTo>
                      <a:pt x="5669" y="406"/>
                    </a:lnTo>
                    <a:lnTo>
                      <a:pt x="5716" y="470"/>
                    </a:lnTo>
                    <a:lnTo>
                      <a:pt x="5760" y="534"/>
                    </a:lnTo>
                    <a:lnTo>
                      <a:pt x="5803" y="599"/>
                    </a:lnTo>
                    <a:lnTo>
                      <a:pt x="5844" y="666"/>
                    </a:lnTo>
                    <a:lnTo>
                      <a:pt x="5884" y="733"/>
                    </a:lnTo>
                    <a:lnTo>
                      <a:pt x="5922" y="802"/>
                    </a:lnTo>
                    <a:lnTo>
                      <a:pt x="5959" y="873"/>
                    </a:lnTo>
                    <a:lnTo>
                      <a:pt x="5993" y="943"/>
                    </a:lnTo>
                    <a:lnTo>
                      <a:pt x="6026" y="1015"/>
                    </a:lnTo>
                    <a:lnTo>
                      <a:pt x="6057" y="1088"/>
                    </a:lnTo>
                    <a:lnTo>
                      <a:pt x="6086" y="1161"/>
                    </a:lnTo>
                    <a:lnTo>
                      <a:pt x="6113" y="1237"/>
                    </a:lnTo>
                    <a:lnTo>
                      <a:pt x="6139" y="1311"/>
                    </a:lnTo>
                    <a:lnTo>
                      <a:pt x="6163" y="1388"/>
                    </a:lnTo>
                    <a:lnTo>
                      <a:pt x="6185" y="1466"/>
                    </a:lnTo>
                    <a:lnTo>
                      <a:pt x="6205" y="1543"/>
                    </a:lnTo>
                    <a:lnTo>
                      <a:pt x="6222" y="1622"/>
                    </a:lnTo>
                    <a:lnTo>
                      <a:pt x="6239" y="1701"/>
                    </a:lnTo>
                    <a:lnTo>
                      <a:pt x="6253" y="1782"/>
                    </a:lnTo>
                    <a:lnTo>
                      <a:pt x="6265" y="1863"/>
                    </a:lnTo>
                    <a:lnTo>
                      <a:pt x="6274" y="1944"/>
                    </a:lnTo>
                    <a:lnTo>
                      <a:pt x="6282" y="2026"/>
                    </a:lnTo>
                    <a:lnTo>
                      <a:pt x="6287" y="2109"/>
                    </a:lnTo>
                    <a:lnTo>
                      <a:pt x="6291" y="2192"/>
                    </a:lnTo>
                    <a:lnTo>
                      <a:pt x="6292" y="2277"/>
                    </a:lnTo>
                    <a:lnTo>
                      <a:pt x="6291" y="2329"/>
                    </a:lnTo>
                    <a:lnTo>
                      <a:pt x="6289" y="2381"/>
                    </a:lnTo>
                    <a:lnTo>
                      <a:pt x="6287" y="2433"/>
                    </a:lnTo>
                    <a:lnTo>
                      <a:pt x="6284" y="2485"/>
                    </a:lnTo>
                    <a:lnTo>
                      <a:pt x="6281" y="2537"/>
                    </a:lnTo>
                    <a:lnTo>
                      <a:pt x="6275" y="2589"/>
                    </a:lnTo>
                    <a:lnTo>
                      <a:pt x="6270" y="2640"/>
                    </a:lnTo>
                    <a:lnTo>
                      <a:pt x="6264" y="2690"/>
                    </a:lnTo>
                    <a:lnTo>
                      <a:pt x="6257" y="2741"/>
                    </a:lnTo>
                    <a:lnTo>
                      <a:pt x="6248" y="2792"/>
                    </a:lnTo>
                    <a:lnTo>
                      <a:pt x="6240" y="2842"/>
                    </a:lnTo>
                    <a:lnTo>
                      <a:pt x="6230" y="2892"/>
                    </a:lnTo>
                    <a:lnTo>
                      <a:pt x="6220" y="2942"/>
                    </a:lnTo>
                    <a:lnTo>
                      <a:pt x="6208" y="2991"/>
                    </a:lnTo>
                    <a:lnTo>
                      <a:pt x="6197" y="3040"/>
                    </a:lnTo>
                    <a:lnTo>
                      <a:pt x="6185" y="3089"/>
                    </a:lnTo>
                    <a:lnTo>
                      <a:pt x="6225" y="3100"/>
                    </a:lnTo>
                    <a:lnTo>
                      <a:pt x="6238" y="3050"/>
                    </a:lnTo>
                    <a:lnTo>
                      <a:pt x="6249" y="3000"/>
                    </a:lnTo>
                    <a:lnTo>
                      <a:pt x="6260" y="2951"/>
                    </a:lnTo>
                    <a:lnTo>
                      <a:pt x="6271" y="2900"/>
                    </a:lnTo>
                    <a:lnTo>
                      <a:pt x="6281" y="2849"/>
                    </a:lnTo>
                    <a:lnTo>
                      <a:pt x="6289" y="2798"/>
                    </a:lnTo>
                    <a:lnTo>
                      <a:pt x="6298" y="2748"/>
                    </a:lnTo>
                    <a:lnTo>
                      <a:pt x="6306" y="2696"/>
                    </a:lnTo>
                    <a:lnTo>
                      <a:pt x="6312" y="2645"/>
                    </a:lnTo>
                    <a:lnTo>
                      <a:pt x="6318" y="2593"/>
                    </a:lnTo>
                    <a:lnTo>
                      <a:pt x="6322" y="2540"/>
                    </a:lnTo>
                    <a:lnTo>
                      <a:pt x="6326" y="2488"/>
                    </a:lnTo>
                    <a:lnTo>
                      <a:pt x="6329" y="2435"/>
                    </a:lnTo>
                    <a:lnTo>
                      <a:pt x="6332" y="2383"/>
                    </a:lnTo>
                    <a:lnTo>
                      <a:pt x="6333" y="2330"/>
                    </a:lnTo>
                    <a:lnTo>
                      <a:pt x="6333" y="2277"/>
                    </a:lnTo>
                    <a:close/>
                    <a:moveTo>
                      <a:pt x="941" y="25"/>
                    </a:moveTo>
                    <a:lnTo>
                      <a:pt x="887" y="79"/>
                    </a:lnTo>
                    <a:lnTo>
                      <a:pt x="835" y="135"/>
                    </a:lnTo>
                    <a:lnTo>
                      <a:pt x="783" y="191"/>
                    </a:lnTo>
                    <a:lnTo>
                      <a:pt x="733" y="250"/>
                    </a:lnTo>
                    <a:lnTo>
                      <a:pt x="686" y="309"/>
                    </a:lnTo>
                    <a:lnTo>
                      <a:pt x="638" y="369"/>
                    </a:lnTo>
                    <a:lnTo>
                      <a:pt x="593" y="432"/>
                    </a:lnTo>
                    <a:lnTo>
                      <a:pt x="549" y="495"/>
                    </a:lnTo>
                    <a:lnTo>
                      <a:pt x="506" y="558"/>
                    </a:lnTo>
                    <a:lnTo>
                      <a:pt x="465" y="623"/>
                    </a:lnTo>
                    <a:lnTo>
                      <a:pt x="425" y="690"/>
                    </a:lnTo>
                    <a:lnTo>
                      <a:pt x="388" y="757"/>
                    </a:lnTo>
                    <a:lnTo>
                      <a:pt x="351" y="825"/>
                    </a:lnTo>
                    <a:lnTo>
                      <a:pt x="316" y="894"/>
                    </a:lnTo>
                    <a:lnTo>
                      <a:pt x="284" y="964"/>
                    </a:lnTo>
                    <a:lnTo>
                      <a:pt x="253" y="1035"/>
                    </a:lnTo>
                    <a:lnTo>
                      <a:pt x="222" y="1107"/>
                    </a:lnTo>
                    <a:lnTo>
                      <a:pt x="194" y="1179"/>
                    </a:lnTo>
                    <a:lnTo>
                      <a:pt x="168" y="1254"/>
                    </a:lnTo>
                    <a:lnTo>
                      <a:pt x="144" y="1328"/>
                    </a:lnTo>
                    <a:lnTo>
                      <a:pt x="122" y="1403"/>
                    </a:lnTo>
                    <a:lnTo>
                      <a:pt x="100" y="1480"/>
                    </a:lnTo>
                    <a:lnTo>
                      <a:pt x="82" y="1556"/>
                    </a:lnTo>
                    <a:lnTo>
                      <a:pt x="65" y="1633"/>
                    </a:lnTo>
                    <a:lnTo>
                      <a:pt x="49" y="1712"/>
                    </a:lnTo>
                    <a:lnTo>
                      <a:pt x="36" y="1791"/>
                    </a:lnTo>
                    <a:lnTo>
                      <a:pt x="26" y="1871"/>
                    </a:lnTo>
                    <a:lnTo>
                      <a:pt x="16" y="1951"/>
                    </a:lnTo>
                    <a:lnTo>
                      <a:pt x="8" y="2030"/>
                    </a:lnTo>
                    <a:lnTo>
                      <a:pt x="4" y="2113"/>
                    </a:lnTo>
                    <a:lnTo>
                      <a:pt x="1" y="2195"/>
                    </a:lnTo>
                    <a:lnTo>
                      <a:pt x="0" y="2277"/>
                    </a:lnTo>
                    <a:lnTo>
                      <a:pt x="1" y="2359"/>
                    </a:lnTo>
                    <a:lnTo>
                      <a:pt x="4" y="2441"/>
                    </a:lnTo>
                    <a:lnTo>
                      <a:pt x="8" y="2522"/>
                    </a:lnTo>
                    <a:lnTo>
                      <a:pt x="16" y="2603"/>
                    </a:lnTo>
                    <a:lnTo>
                      <a:pt x="26" y="2683"/>
                    </a:lnTo>
                    <a:lnTo>
                      <a:pt x="36" y="2763"/>
                    </a:lnTo>
                    <a:lnTo>
                      <a:pt x="49" y="2842"/>
                    </a:lnTo>
                    <a:lnTo>
                      <a:pt x="65" y="2919"/>
                    </a:lnTo>
                    <a:lnTo>
                      <a:pt x="82" y="2997"/>
                    </a:lnTo>
                    <a:lnTo>
                      <a:pt x="100" y="3074"/>
                    </a:lnTo>
                    <a:lnTo>
                      <a:pt x="122" y="3149"/>
                    </a:lnTo>
                    <a:lnTo>
                      <a:pt x="144" y="3225"/>
                    </a:lnTo>
                    <a:lnTo>
                      <a:pt x="168" y="3299"/>
                    </a:lnTo>
                    <a:lnTo>
                      <a:pt x="194" y="3373"/>
                    </a:lnTo>
                    <a:lnTo>
                      <a:pt x="222" y="3445"/>
                    </a:lnTo>
                    <a:lnTo>
                      <a:pt x="253" y="3518"/>
                    </a:lnTo>
                    <a:lnTo>
                      <a:pt x="284" y="3589"/>
                    </a:lnTo>
                    <a:lnTo>
                      <a:pt x="316" y="3659"/>
                    </a:lnTo>
                    <a:lnTo>
                      <a:pt x="351" y="3728"/>
                    </a:lnTo>
                    <a:lnTo>
                      <a:pt x="388" y="3796"/>
                    </a:lnTo>
                    <a:lnTo>
                      <a:pt x="425" y="3863"/>
                    </a:lnTo>
                    <a:lnTo>
                      <a:pt x="465" y="3929"/>
                    </a:lnTo>
                    <a:lnTo>
                      <a:pt x="506" y="3994"/>
                    </a:lnTo>
                    <a:lnTo>
                      <a:pt x="549" y="4059"/>
                    </a:lnTo>
                    <a:lnTo>
                      <a:pt x="593" y="4121"/>
                    </a:lnTo>
                    <a:lnTo>
                      <a:pt x="638" y="4183"/>
                    </a:lnTo>
                    <a:lnTo>
                      <a:pt x="686" y="4243"/>
                    </a:lnTo>
                    <a:lnTo>
                      <a:pt x="733" y="4303"/>
                    </a:lnTo>
                    <a:lnTo>
                      <a:pt x="783" y="4361"/>
                    </a:lnTo>
                    <a:lnTo>
                      <a:pt x="835" y="4418"/>
                    </a:lnTo>
                    <a:lnTo>
                      <a:pt x="887" y="4474"/>
                    </a:lnTo>
                    <a:lnTo>
                      <a:pt x="941" y="4528"/>
                    </a:lnTo>
                    <a:lnTo>
                      <a:pt x="952" y="4532"/>
                    </a:lnTo>
                    <a:lnTo>
                      <a:pt x="962" y="4535"/>
                    </a:lnTo>
                    <a:lnTo>
                      <a:pt x="973" y="4538"/>
                    </a:lnTo>
                    <a:lnTo>
                      <a:pt x="984" y="4541"/>
                    </a:lnTo>
                    <a:lnTo>
                      <a:pt x="995" y="4544"/>
                    </a:lnTo>
                    <a:lnTo>
                      <a:pt x="1006" y="4547"/>
                    </a:lnTo>
                    <a:lnTo>
                      <a:pt x="1016" y="4550"/>
                    </a:lnTo>
                    <a:lnTo>
                      <a:pt x="1027" y="4553"/>
                    </a:lnTo>
                    <a:lnTo>
                      <a:pt x="971" y="4499"/>
                    </a:lnTo>
                    <a:lnTo>
                      <a:pt x="916" y="4443"/>
                    </a:lnTo>
                    <a:lnTo>
                      <a:pt x="863" y="4387"/>
                    </a:lnTo>
                    <a:lnTo>
                      <a:pt x="810" y="4329"/>
                    </a:lnTo>
                    <a:lnTo>
                      <a:pt x="760" y="4269"/>
                    </a:lnTo>
                    <a:lnTo>
                      <a:pt x="711" y="4209"/>
                    </a:lnTo>
                    <a:lnTo>
                      <a:pt x="663" y="4146"/>
                    </a:lnTo>
                    <a:lnTo>
                      <a:pt x="617" y="4084"/>
                    </a:lnTo>
                    <a:lnTo>
                      <a:pt x="572" y="4019"/>
                    </a:lnTo>
                    <a:lnTo>
                      <a:pt x="529" y="3954"/>
                    </a:lnTo>
                    <a:lnTo>
                      <a:pt x="488" y="3887"/>
                    </a:lnTo>
                    <a:lnTo>
                      <a:pt x="448" y="3819"/>
                    </a:lnTo>
                    <a:lnTo>
                      <a:pt x="410" y="3751"/>
                    </a:lnTo>
                    <a:lnTo>
                      <a:pt x="374" y="3681"/>
                    </a:lnTo>
                    <a:lnTo>
                      <a:pt x="339" y="3609"/>
                    </a:lnTo>
                    <a:lnTo>
                      <a:pt x="307" y="3538"/>
                    </a:lnTo>
                    <a:lnTo>
                      <a:pt x="275" y="3465"/>
                    </a:lnTo>
                    <a:lnTo>
                      <a:pt x="246" y="3391"/>
                    </a:lnTo>
                    <a:lnTo>
                      <a:pt x="219" y="3317"/>
                    </a:lnTo>
                    <a:lnTo>
                      <a:pt x="193" y="3241"/>
                    </a:lnTo>
                    <a:lnTo>
                      <a:pt x="169" y="3164"/>
                    </a:lnTo>
                    <a:lnTo>
                      <a:pt x="148" y="3088"/>
                    </a:lnTo>
                    <a:lnTo>
                      <a:pt x="127" y="3010"/>
                    </a:lnTo>
                    <a:lnTo>
                      <a:pt x="110" y="2931"/>
                    </a:lnTo>
                    <a:lnTo>
                      <a:pt x="94" y="2851"/>
                    </a:lnTo>
                    <a:lnTo>
                      <a:pt x="80" y="2771"/>
                    </a:lnTo>
                    <a:lnTo>
                      <a:pt x="68" y="2690"/>
                    </a:lnTo>
                    <a:lnTo>
                      <a:pt x="58" y="2608"/>
                    </a:lnTo>
                    <a:lnTo>
                      <a:pt x="50" y="2526"/>
                    </a:lnTo>
                    <a:lnTo>
                      <a:pt x="45" y="2444"/>
                    </a:lnTo>
                    <a:lnTo>
                      <a:pt x="42" y="2360"/>
                    </a:lnTo>
                    <a:lnTo>
                      <a:pt x="41" y="2277"/>
                    </a:lnTo>
                    <a:lnTo>
                      <a:pt x="42" y="2192"/>
                    </a:lnTo>
                    <a:lnTo>
                      <a:pt x="45" y="2109"/>
                    </a:lnTo>
                    <a:lnTo>
                      <a:pt x="50" y="2026"/>
                    </a:lnTo>
                    <a:lnTo>
                      <a:pt x="58" y="1944"/>
                    </a:lnTo>
                    <a:lnTo>
                      <a:pt x="68" y="1863"/>
                    </a:lnTo>
                    <a:lnTo>
                      <a:pt x="80" y="1782"/>
                    </a:lnTo>
                    <a:lnTo>
                      <a:pt x="94" y="1701"/>
                    </a:lnTo>
                    <a:lnTo>
                      <a:pt x="110" y="1622"/>
                    </a:lnTo>
                    <a:lnTo>
                      <a:pt x="127" y="1543"/>
                    </a:lnTo>
                    <a:lnTo>
                      <a:pt x="148" y="1466"/>
                    </a:lnTo>
                    <a:lnTo>
                      <a:pt x="169" y="1388"/>
                    </a:lnTo>
                    <a:lnTo>
                      <a:pt x="193" y="1311"/>
                    </a:lnTo>
                    <a:lnTo>
                      <a:pt x="219" y="1237"/>
                    </a:lnTo>
                    <a:lnTo>
                      <a:pt x="246" y="1161"/>
                    </a:lnTo>
                    <a:lnTo>
                      <a:pt x="275" y="1088"/>
                    </a:lnTo>
                    <a:lnTo>
                      <a:pt x="307" y="1015"/>
                    </a:lnTo>
                    <a:lnTo>
                      <a:pt x="339" y="943"/>
                    </a:lnTo>
                    <a:lnTo>
                      <a:pt x="374" y="873"/>
                    </a:lnTo>
                    <a:lnTo>
                      <a:pt x="410" y="802"/>
                    </a:lnTo>
                    <a:lnTo>
                      <a:pt x="448" y="733"/>
                    </a:lnTo>
                    <a:lnTo>
                      <a:pt x="488" y="666"/>
                    </a:lnTo>
                    <a:lnTo>
                      <a:pt x="529" y="599"/>
                    </a:lnTo>
                    <a:lnTo>
                      <a:pt x="572" y="534"/>
                    </a:lnTo>
                    <a:lnTo>
                      <a:pt x="617" y="470"/>
                    </a:lnTo>
                    <a:lnTo>
                      <a:pt x="663" y="406"/>
                    </a:lnTo>
                    <a:lnTo>
                      <a:pt x="711" y="345"/>
                    </a:lnTo>
                    <a:lnTo>
                      <a:pt x="760" y="284"/>
                    </a:lnTo>
                    <a:lnTo>
                      <a:pt x="810" y="224"/>
                    </a:lnTo>
                    <a:lnTo>
                      <a:pt x="863" y="166"/>
                    </a:lnTo>
                    <a:lnTo>
                      <a:pt x="916" y="109"/>
                    </a:lnTo>
                    <a:lnTo>
                      <a:pt x="971" y="54"/>
                    </a:lnTo>
                    <a:lnTo>
                      <a:pt x="1027" y="0"/>
                    </a:lnTo>
                    <a:lnTo>
                      <a:pt x="1016" y="2"/>
                    </a:lnTo>
                    <a:lnTo>
                      <a:pt x="1006" y="5"/>
                    </a:lnTo>
                    <a:lnTo>
                      <a:pt x="995" y="9"/>
                    </a:lnTo>
                    <a:lnTo>
                      <a:pt x="984" y="12"/>
                    </a:lnTo>
                    <a:lnTo>
                      <a:pt x="973" y="15"/>
                    </a:lnTo>
                    <a:lnTo>
                      <a:pt x="962" y="18"/>
                    </a:lnTo>
                    <a:lnTo>
                      <a:pt x="952" y="22"/>
                    </a:lnTo>
                    <a:lnTo>
                      <a:pt x="941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25680" y="2089080"/>
                <a:ext cx="2497320" cy="1816200"/>
              </a:xfrm>
              <a:custGeom>
                <a:avLst/>
                <a:gdLst/>
                <a:ahLst/>
                <a:rect l="l" t="t" r="r" b="b"/>
                <a:pathLst>
                  <a:path w="6292" h="4578">
                    <a:moveTo>
                      <a:pt x="6292" y="2290"/>
                    </a:moveTo>
                    <a:lnTo>
                      <a:pt x="6291" y="2207"/>
                    </a:lnTo>
                    <a:lnTo>
                      <a:pt x="6288" y="2123"/>
                    </a:lnTo>
                    <a:lnTo>
                      <a:pt x="6282" y="2041"/>
                    </a:lnTo>
                    <a:lnTo>
                      <a:pt x="6275" y="1960"/>
                    </a:lnTo>
                    <a:lnTo>
                      <a:pt x="6265" y="1879"/>
                    </a:lnTo>
                    <a:lnTo>
                      <a:pt x="6254" y="1799"/>
                    </a:lnTo>
                    <a:lnTo>
                      <a:pt x="6240" y="1719"/>
                    </a:lnTo>
                    <a:lnTo>
                      <a:pt x="6225" y="1641"/>
                    </a:lnTo>
                    <a:lnTo>
                      <a:pt x="6208" y="1563"/>
                    </a:lnTo>
                    <a:lnTo>
                      <a:pt x="6188" y="1485"/>
                    </a:lnTo>
                    <a:lnTo>
                      <a:pt x="6167" y="1408"/>
                    </a:lnTo>
                    <a:lnTo>
                      <a:pt x="6144" y="1333"/>
                    </a:lnTo>
                    <a:lnTo>
                      <a:pt x="6119" y="1258"/>
                    </a:lnTo>
                    <a:lnTo>
                      <a:pt x="6092" y="1184"/>
                    </a:lnTo>
                    <a:lnTo>
                      <a:pt x="6063" y="1110"/>
                    </a:lnTo>
                    <a:lnTo>
                      <a:pt x="6033" y="1038"/>
                    </a:lnTo>
                    <a:lnTo>
                      <a:pt x="6002" y="967"/>
                    </a:lnTo>
                    <a:lnTo>
                      <a:pt x="5967" y="896"/>
                    </a:lnTo>
                    <a:lnTo>
                      <a:pt x="5931" y="827"/>
                    </a:lnTo>
                    <a:lnTo>
                      <a:pt x="5895" y="758"/>
                    </a:lnTo>
                    <a:lnTo>
                      <a:pt x="5856" y="691"/>
                    </a:lnTo>
                    <a:lnTo>
                      <a:pt x="5816" y="624"/>
                    </a:lnTo>
                    <a:lnTo>
                      <a:pt x="5774" y="560"/>
                    </a:lnTo>
                    <a:lnTo>
                      <a:pt x="5730" y="495"/>
                    </a:lnTo>
                    <a:lnTo>
                      <a:pt x="5685" y="432"/>
                    </a:lnTo>
                    <a:lnTo>
                      <a:pt x="5638" y="371"/>
                    </a:lnTo>
                    <a:lnTo>
                      <a:pt x="5590" y="310"/>
                    </a:lnTo>
                    <a:lnTo>
                      <a:pt x="5540" y="251"/>
                    </a:lnTo>
                    <a:lnTo>
                      <a:pt x="5489" y="192"/>
                    </a:lnTo>
                    <a:lnTo>
                      <a:pt x="5437" y="135"/>
                    </a:lnTo>
                    <a:lnTo>
                      <a:pt x="5383" y="79"/>
                    </a:lnTo>
                    <a:lnTo>
                      <a:pt x="5328" y="25"/>
                    </a:lnTo>
                    <a:lnTo>
                      <a:pt x="5318" y="22"/>
                    </a:lnTo>
                    <a:lnTo>
                      <a:pt x="5307" y="18"/>
                    </a:lnTo>
                    <a:lnTo>
                      <a:pt x="5296" y="16"/>
                    </a:lnTo>
                    <a:lnTo>
                      <a:pt x="5285" y="13"/>
                    </a:lnTo>
                    <a:lnTo>
                      <a:pt x="5274" y="10"/>
                    </a:lnTo>
                    <a:lnTo>
                      <a:pt x="5263" y="7"/>
                    </a:lnTo>
                    <a:lnTo>
                      <a:pt x="5253" y="3"/>
                    </a:lnTo>
                    <a:lnTo>
                      <a:pt x="5242" y="0"/>
                    </a:lnTo>
                    <a:lnTo>
                      <a:pt x="5299" y="54"/>
                    </a:lnTo>
                    <a:lnTo>
                      <a:pt x="5355" y="109"/>
                    </a:lnTo>
                    <a:lnTo>
                      <a:pt x="5409" y="166"/>
                    </a:lnTo>
                    <a:lnTo>
                      <a:pt x="5463" y="225"/>
                    </a:lnTo>
                    <a:lnTo>
                      <a:pt x="5515" y="284"/>
                    </a:lnTo>
                    <a:lnTo>
                      <a:pt x="5565" y="345"/>
                    </a:lnTo>
                    <a:lnTo>
                      <a:pt x="5614" y="407"/>
                    </a:lnTo>
                    <a:lnTo>
                      <a:pt x="5661" y="470"/>
                    </a:lnTo>
                    <a:lnTo>
                      <a:pt x="5707" y="535"/>
                    </a:lnTo>
                    <a:lnTo>
                      <a:pt x="5751" y="601"/>
                    </a:lnTo>
                    <a:lnTo>
                      <a:pt x="5793" y="668"/>
                    </a:lnTo>
                    <a:lnTo>
                      <a:pt x="5833" y="736"/>
                    </a:lnTo>
                    <a:lnTo>
                      <a:pt x="5872" y="805"/>
                    </a:lnTo>
                    <a:lnTo>
                      <a:pt x="5910" y="874"/>
                    </a:lnTo>
                    <a:lnTo>
                      <a:pt x="5945" y="945"/>
                    </a:lnTo>
                    <a:lnTo>
                      <a:pt x="5979" y="1017"/>
                    </a:lnTo>
                    <a:lnTo>
                      <a:pt x="6010" y="1091"/>
                    </a:lnTo>
                    <a:lnTo>
                      <a:pt x="6040" y="1165"/>
                    </a:lnTo>
                    <a:lnTo>
                      <a:pt x="6068" y="1240"/>
                    </a:lnTo>
                    <a:lnTo>
                      <a:pt x="6094" y="1317"/>
                    </a:lnTo>
                    <a:lnTo>
                      <a:pt x="6119" y="1393"/>
                    </a:lnTo>
                    <a:lnTo>
                      <a:pt x="6141" y="1471"/>
                    </a:lnTo>
                    <a:lnTo>
                      <a:pt x="6161" y="1550"/>
                    </a:lnTo>
                    <a:lnTo>
                      <a:pt x="6180" y="1629"/>
                    </a:lnTo>
                    <a:lnTo>
                      <a:pt x="6196" y="1710"/>
                    </a:lnTo>
                    <a:lnTo>
                      <a:pt x="6210" y="1791"/>
                    </a:lnTo>
                    <a:lnTo>
                      <a:pt x="6223" y="1872"/>
                    </a:lnTo>
                    <a:lnTo>
                      <a:pt x="6233" y="1954"/>
                    </a:lnTo>
                    <a:lnTo>
                      <a:pt x="6240" y="2037"/>
                    </a:lnTo>
                    <a:lnTo>
                      <a:pt x="6246" y="2120"/>
                    </a:lnTo>
                    <a:lnTo>
                      <a:pt x="6249" y="2204"/>
                    </a:lnTo>
                    <a:lnTo>
                      <a:pt x="6250" y="2290"/>
                    </a:lnTo>
                    <a:lnTo>
                      <a:pt x="6250" y="2342"/>
                    </a:lnTo>
                    <a:lnTo>
                      <a:pt x="6249" y="2393"/>
                    </a:lnTo>
                    <a:lnTo>
                      <a:pt x="6247" y="2445"/>
                    </a:lnTo>
                    <a:lnTo>
                      <a:pt x="6244" y="2497"/>
                    </a:lnTo>
                    <a:lnTo>
                      <a:pt x="6239" y="2549"/>
                    </a:lnTo>
                    <a:lnTo>
                      <a:pt x="6235" y="2600"/>
                    </a:lnTo>
                    <a:lnTo>
                      <a:pt x="6229" y="2650"/>
                    </a:lnTo>
                    <a:lnTo>
                      <a:pt x="6223" y="2701"/>
                    </a:lnTo>
                    <a:lnTo>
                      <a:pt x="6217" y="2751"/>
                    </a:lnTo>
                    <a:lnTo>
                      <a:pt x="6208" y="2802"/>
                    </a:lnTo>
                    <a:lnTo>
                      <a:pt x="6199" y="2851"/>
                    </a:lnTo>
                    <a:lnTo>
                      <a:pt x="6190" y="2901"/>
                    </a:lnTo>
                    <a:lnTo>
                      <a:pt x="6180" y="2950"/>
                    </a:lnTo>
                    <a:lnTo>
                      <a:pt x="6169" y="2999"/>
                    </a:lnTo>
                    <a:lnTo>
                      <a:pt x="6157" y="3048"/>
                    </a:lnTo>
                    <a:lnTo>
                      <a:pt x="6144" y="3096"/>
                    </a:lnTo>
                    <a:lnTo>
                      <a:pt x="6184" y="3107"/>
                    </a:lnTo>
                    <a:lnTo>
                      <a:pt x="6197" y="3058"/>
                    </a:lnTo>
                    <a:lnTo>
                      <a:pt x="6209" y="3009"/>
                    </a:lnTo>
                    <a:lnTo>
                      <a:pt x="6221" y="2959"/>
                    </a:lnTo>
                    <a:lnTo>
                      <a:pt x="6231" y="2909"/>
                    </a:lnTo>
                    <a:lnTo>
                      <a:pt x="6240" y="2859"/>
                    </a:lnTo>
                    <a:lnTo>
                      <a:pt x="6249" y="2808"/>
                    </a:lnTo>
                    <a:lnTo>
                      <a:pt x="6258" y="2757"/>
                    </a:lnTo>
                    <a:lnTo>
                      <a:pt x="6264" y="2707"/>
                    </a:lnTo>
                    <a:lnTo>
                      <a:pt x="6271" y="2655"/>
                    </a:lnTo>
                    <a:lnTo>
                      <a:pt x="6277" y="2604"/>
                    </a:lnTo>
                    <a:lnTo>
                      <a:pt x="6281" y="2552"/>
                    </a:lnTo>
                    <a:lnTo>
                      <a:pt x="6286" y="2500"/>
                    </a:lnTo>
                    <a:lnTo>
                      <a:pt x="6288" y="2447"/>
                    </a:lnTo>
                    <a:lnTo>
                      <a:pt x="6290" y="2396"/>
                    </a:lnTo>
                    <a:lnTo>
                      <a:pt x="6292" y="2343"/>
                    </a:lnTo>
                    <a:lnTo>
                      <a:pt x="6292" y="2290"/>
                    </a:lnTo>
                    <a:close/>
                    <a:moveTo>
                      <a:pt x="964" y="25"/>
                    </a:moveTo>
                    <a:lnTo>
                      <a:pt x="909" y="79"/>
                    </a:lnTo>
                    <a:lnTo>
                      <a:pt x="855" y="135"/>
                    </a:lnTo>
                    <a:lnTo>
                      <a:pt x="803" y="192"/>
                    </a:lnTo>
                    <a:lnTo>
                      <a:pt x="751" y="251"/>
                    </a:lnTo>
                    <a:lnTo>
                      <a:pt x="703" y="310"/>
                    </a:lnTo>
                    <a:lnTo>
                      <a:pt x="654" y="371"/>
                    </a:lnTo>
                    <a:lnTo>
                      <a:pt x="607" y="432"/>
                    </a:lnTo>
                    <a:lnTo>
                      <a:pt x="562" y="495"/>
                    </a:lnTo>
                    <a:lnTo>
                      <a:pt x="519" y="560"/>
                    </a:lnTo>
                    <a:lnTo>
                      <a:pt x="477" y="624"/>
                    </a:lnTo>
                    <a:lnTo>
                      <a:pt x="437" y="691"/>
                    </a:lnTo>
                    <a:lnTo>
                      <a:pt x="398" y="758"/>
                    </a:lnTo>
                    <a:lnTo>
                      <a:pt x="361" y="827"/>
                    </a:lnTo>
                    <a:lnTo>
                      <a:pt x="325" y="896"/>
                    </a:lnTo>
                    <a:lnTo>
                      <a:pt x="291" y="967"/>
                    </a:lnTo>
                    <a:lnTo>
                      <a:pt x="260" y="1038"/>
                    </a:lnTo>
                    <a:lnTo>
                      <a:pt x="229" y="1110"/>
                    </a:lnTo>
                    <a:lnTo>
                      <a:pt x="200" y="1184"/>
                    </a:lnTo>
                    <a:lnTo>
                      <a:pt x="173" y="1258"/>
                    </a:lnTo>
                    <a:lnTo>
                      <a:pt x="148" y="1333"/>
                    </a:lnTo>
                    <a:lnTo>
                      <a:pt x="126" y="1408"/>
                    </a:lnTo>
                    <a:lnTo>
                      <a:pt x="104" y="1485"/>
                    </a:lnTo>
                    <a:lnTo>
                      <a:pt x="84" y="1563"/>
                    </a:lnTo>
                    <a:lnTo>
                      <a:pt x="67" y="1641"/>
                    </a:lnTo>
                    <a:lnTo>
                      <a:pt x="52" y="1719"/>
                    </a:lnTo>
                    <a:lnTo>
                      <a:pt x="38" y="1799"/>
                    </a:lnTo>
                    <a:lnTo>
                      <a:pt x="27" y="1879"/>
                    </a:lnTo>
                    <a:lnTo>
                      <a:pt x="17" y="1960"/>
                    </a:lnTo>
                    <a:lnTo>
                      <a:pt x="10" y="2041"/>
                    </a:lnTo>
                    <a:lnTo>
                      <a:pt x="5" y="2123"/>
                    </a:lnTo>
                    <a:lnTo>
                      <a:pt x="1" y="2207"/>
                    </a:lnTo>
                    <a:lnTo>
                      <a:pt x="0" y="2290"/>
                    </a:lnTo>
                    <a:lnTo>
                      <a:pt x="1" y="2373"/>
                    </a:lnTo>
                    <a:lnTo>
                      <a:pt x="5" y="2455"/>
                    </a:lnTo>
                    <a:lnTo>
                      <a:pt x="10" y="2537"/>
                    </a:lnTo>
                    <a:lnTo>
                      <a:pt x="17" y="2619"/>
                    </a:lnTo>
                    <a:lnTo>
                      <a:pt x="27" y="2699"/>
                    </a:lnTo>
                    <a:lnTo>
                      <a:pt x="38" y="2780"/>
                    </a:lnTo>
                    <a:lnTo>
                      <a:pt x="52" y="2859"/>
                    </a:lnTo>
                    <a:lnTo>
                      <a:pt x="67" y="2938"/>
                    </a:lnTo>
                    <a:lnTo>
                      <a:pt x="84" y="3017"/>
                    </a:lnTo>
                    <a:lnTo>
                      <a:pt x="104" y="3093"/>
                    </a:lnTo>
                    <a:lnTo>
                      <a:pt x="126" y="3170"/>
                    </a:lnTo>
                    <a:lnTo>
                      <a:pt x="148" y="3245"/>
                    </a:lnTo>
                    <a:lnTo>
                      <a:pt x="173" y="3321"/>
                    </a:lnTo>
                    <a:lnTo>
                      <a:pt x="200" y="3395"/>
                    </a:lnTo>
                    <a:lnTo>
                      <a:pt x="229" y="3468"/>
                    </a:lnTo>
                    <a:lnTo>
                      <a:pt x="260" y="3540"/>
                    </a:lnTo>
                    <a:lnTo>
                      <a:pt x="291" y="3612"/>
                    </a:lnTo>
                    <a:lnTo>
                      <a:pt x="325" y="3683"/>
                    </a:lnTo>
                    <a:lnTo>
                      <a:pt x="361" y="3752"/>
                    </a:lnTo>
                    <a:lnTo>
                      <a:pt x="398" y="3820"/>
                    </a:lnTo>
                    <a:lnTo>
                      <a:pt x="437" y="3888"/>
                    </a:lnTo>
                    <a:lnTo>
                      <a:pt x="477" y="3954"/>
                    </a:lnTo>
                    <a:lnTo>
                      <a:pt x="519" y="4020"/>
                    </a:lnTo>
                    <a:lnTo>
                      <a:pt x="562" y="4084"/>
                    </a:lnTo>
                    <a:lnTo>
                      <a:pt x="607" y="4146"/>
                    </a:lnTo>
                    <a:lnTo>
                      <a:pt x="654" y="4209"/>
                    </a:lnTo>
                    <a:lnTo>
                      <a:pt x="703" y="4269"/>
                    </a:lnTo>
                    <a:lnTo>
                      <a:pt x="751" y="4329"/>
                    </a:lnTo>
                    <a:lnTo>
                      <a:pt x="803" y="4387"/>
                    </a:lnTo>
                    <a:lnTo>
                      <a:pt x="855" y="4444"/>
                    </a:lnTo>
                    <a:lnTo>
                      <a:pt x="909" y="4499"/>
                    </a:lnTo>
                    <a:lnTo>
                      <a:pt x="964" y="4553"/>
                    </a:lnTo>
                    <a:lnTo>
                      <a:pt x="975" y="4557"/>
                    </a:lnTo>
                    <a:lnTo>
                      <a:pt x="986" y="4560"/>
                    </a:lnTo>
                    <a:lnTo>
                      <a:pt x="996" y="4563"/>
                    </a:lnTo>
                    <a:lnTo>
                      <a:pt x="1007" y="4566"/>
                    </a:lnTo>
                    <a:lnTo>
                      <a:pt x="1018" y="4570"/>
                    </a:lnTo>
                    <a:lnTo>
                      <a:pt x="1029" y="4573"/>
                    </a:lnTo>
                    <a:lnTo>
                      <a:pt x="1040" y="4575"/>
                    </a:lnTo>
                    <a:lnTo>
                      <a:pt x="1050" y="4578"/>
                    </a:lnTo>
                    <a:lnTo>
                      <a:pt x="993" y="4524"/>
                    </a:lnTo>
                    <a:lnTo>
                      <a:pt x="937" y="4469"/>
                    </a:lnTo>
                    <a:lnTo>
                      <a:pt x="883" y="4413"/>
                    </a:lnTo>
                    <a:lnTo>
                      <a:pt x="829" y="4355"/>
                    </a:lnTo>
                    <a:lnTo>
                      <a:pt x="777" y="4295"/>
                    </a:lnTo>
                    <a:lnTo>
                      <a:pt x="727" y="4234"/>
                    </a:lnTo>
                    <a:lnTo>
                      <a:pt x="679" y="4172"/>
                    </a:lnTo>
                    <a:lnTo>
                      <a:pt x="631" y="4108"/>
                    </a:lnTo>
                    <a:lnTo>
                      <a:pt x="586" y="4045"/>
                    </a:lnTo>
                    <a:lnTo>
                      <a:pt x="542" y="3979"/>
                    </a:lnTo>
                    <a:lnTo>
                      <a:pt x="499" y="3912"/>
                    </a:lnTo>
                    <a:lnTo>
                      <a:pt x="459" y="3844"/>
                    </a:lnTo>
                    <a:lnTo>
                      <a:pt x="421" y="3775"/>
                    </a:lnTo>
                    <a:lnTo>
                      <a:pt x="383" y="3704"/>
                    </a:lnTo>
                    <a:lnTo>
                      <a:pt x="347" y="3633"/>
                    </a:lnTo>
                    <a:lnTo>
                      <a:pt x="314" y="3561"/>
                    </a:lnTo>
                    <a:lnTo>
                      <a:pt x="282" y="3487"/>
                    </a:lnTo>
                    <a:lnTo>
                      <a:pt x="252" y="3414"/>
                    </a:lnTo>
                    <a:lnTo>
                      <a:pt x="224" y="3338"/>
                    </a:lnTo>
                    <a:lnTo>
                      <a:pt x="198" y="3263"/>
                    </a:lnTo>
                    <a:lnTo>
                      <a:pt x="173" y="3185"/>
                    </a:lnTo>
                    <a:lnTo>
                      <a:pt x="151" y="3107"/>
                    </a:lnTo>
                    <a:lnTo>
                      <a:pt x="131" y="3029"/>
                    </a:lnTo>
                    <a:lnTo>
                      <a:pt x="113" y="2950"/>
                    </a:lnTo>
                    <a:lnTo>
                      <a:pt x="96" y="2870"/>
                    </a:lnTo>
                    <a:lnTo>
                      <a:pt x="82" y="2789"/>
                    </a:lnTo>
                    <a:lnTo>
                      <a:pt x="69" y="2707"/>
                    </a:lnTo>
                    <a:lnTo>
                      <a:pt x="60" y="2624"/>
                    </a:lnTo>
                    <a:lnTo>
                      <a:pt x="52" y="2541"/>
                    </a:lnTo>
                    <a:lnTo>
                      <a:pt x="47" y="2458"/>
                    </a:lnTo>
                    <a:lnTo>
                      <a:pt x="43" y="2374"/>
                    </a:lnTo>
                    <a:lnTo>
                      <a:pt x="42" y="2290"/>
                    </a:lnTo>
                    <a:lnTo>
                      <a:pt x="43" y="2204"/>
                    </a:lnTo>
                    <a:lnTo>
                      <a:pt x="47" y="2120"/>
                    </a:lnTo>
                    <a:lnTo>
                      <a:pt x="52" y="2037"/>
                    </a:lnTo>
                    <a:lnTo>
                      <a:pt x="60" y="1954"/>
                    </a:lnTo>
                    <a:lnTo>
                      <a:pt x="69" y="1872"/>
                    </a:lnTo>
                    <a:lnTo>
                      <a:pt x="82" y="1791"/>
                    </a:lnTo>
                    <a:lnTo>
                      <a:pt x="96" y="1710"/>
                    </a:lnTo>
                    <a:lnTo>
                      <a:pt x="113" y="1629"/>
                    </a:lnTo>
                    <a:lnTo>
                      <a:pt x="131" y="1550"/>
                    </a:lnTo>
                    <a:lnTo>
                      <a:pt x="151" y="1471"/>
                    </a:lnTo>
                    <a:lnTo>
                      <a:pt x="173" y="1393"/>
                    </a:lnTo>
                    <a:lnTo>
                      <a:pt x="198" y="1317"/>
                    </a:lnTo>
                    <a:lnTo>
                      <a:pt x="224" y="1240"/>
                    </a:lnTo>
                    <a:lnTo>
                      <a:pt x="252" y="1165"/>
                    </a:lnTo>
                    <a:lnTo>
                      <a:pt x="282" y="1091"/>
                    </a:lnTo>
                    <a:lnTo>
                      <a:pt x="314" y="1017"/>
                    </a:lnTo>
                    <a:lnTo>
                      <a:pt x="347" y="945"/>
                    </a:lnTo>
                    <a:lnTo>
                      <a:pt x="383" y="874"/>
                    </a:lnTo>
                    <a:lnTo>
                      <a:pt x="421" y="805"/>
                    </a:lnTo>
                    <a:lnTo>
                      <a:pt x="459" y="736"/>
                    </a:lnTo>
                    <a:lnTo>
                      <a:pt x="499" y="668"/>
                    </a:lnTo>
                    <a:lnTo>
                      <a:pt x="542" y="601"/>
                    </a:lnTo>
                    <a:lnTo>
                      <a:pt x="586" y="535"/>
                    </a:lnTo>
                    <a:lnTo>
                      <a:pt x="631" y="470"/>
                    </a:lnTo>
                    <a:lnTo>
                      <a:pt x="679" y="407"/>
                    </a:lnTo>
                    <a:lnTo>
                      <a:pt x="727" y="345"/>
                    </a:lnTo>
                    <a:lnTo>
                      <a:pt x="777" y="284"/>
                    </a:lnTo>
                    <a:lnTo>
                      <a:pt x="829" y="225"/>
                    </a:lnTo>
                    <a:lnTo>
                      <a:pt x="883" y="166"/>
                    </a:lnTo>
                    <a:lnTo>
                      <a:pt x="937" y="109"/>
                    </a:lnTo>
                    <a:lnTo>
                      <a:pt x="993" y="54"/>
                    </a:lnTo>
                    <a:lnTo>
                      <a:pt x="1050" y="0"/>
                    </a:lnTo>
                    <a:lnTo>
                      <a:pt x="1040" y="3"/>
                    </a:lnTo>
                    <a:lnTo>
                      <a:pt x="1029" y="7"/>
                    </a:lnTo>
                    <a:lnTo>
                      <a:pt x="1018" y="10"/>
                    </a:lnTo>
                    <a:lnTo>
                      <a:pt x="1007" y="13"/>
                    </a:lnTo>
                    <a:lnTo>
                      <a:pt x="996" y="16"/>
                    </a:lnTo>
                    <a:lnTo>
                      <a:pt x="986" y="18"/>
                    </a:lnTo>
                    <a:lnTo>
                      <a:pt x="975" y="22"/>
                    </a:lnTo>
                    <a:lnTo>
                      <a:pt x="964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333600" y="2084400"/>
                <a:ext cx="2481480" cy="1825560"/>
              </a:xfrm>
              <a:custGeom>
                <a:avLst/>
                <a:gdLst/>
                <a:ahLst/>
                <a:rect l="l" t="t" r="r" b="b"/>
                <a:pathLst>
                  <a:path w="6251" h="4602">
                    <a:moveTo>
                      <a:pt x="6251" y="2302"/>
                    </a:moveTo>
                    <a:lnTo>
                      <a:pt x="6250" y="2217"/>
                    </a:lnTo>
                    <a:lnTo>
                      <a:pt x="6246" y="2134"/>
                    </a:lnTo>
                    <a:lnTo>
                      <a:pt x="6241" y="2051"/>
                    </a:lnTo>
                    <a:lnTo>
                      <a:pt x="6233" y="1969"/>
                    </a:lnTo>
                    <a:lnTo>
                      <a:pt x="6224" y="1888"/>
                    </a:lnTo>
                    <a:lnTo>
                      <a:pt x="6212" y="1807"/>
                    </a:lnTo>
                    <a:lnTo>
                      <a:pt x="6198" y="1726"/>
                    </a:lnTo>
                    <a:lnTo>
                      <a:pt x="6181" y="1647"/>
                    </a:lnTo>
                    <a:lnTo>
                      <a:pt x="6164" y="1568"/>
                    </a:lnTo>
                    <a:lnTo>
                      <a:pt x="6144" y="1491"/>
                    </a:lnTo>
                    <a:lnTo>
                      <a:pt x="6122" y="1413"/>
                    </a:lnTo>
                    <a:lnTo>
                      <a:pt x="6098" y="1336"/>
                    </a:lnTo>
                    <a:lnTo>
                      <a:pt x="6072" y="1262"/>
                    </a:lnTo>
                    <a:lnTo>
                      <a:pt x="6045" y="1186"/>
                    </a:lnTo>
                    <a:lnTo>
                      <a:pt x="6016" y="1113"/>
                    </a:lnTo>
                    <a:lnTo>
                      <a:pt x="5985" y="1040"/>
                    </a:lnTo>
                    <a:lnTo>
                      <a:pt x="5952" y="968"/>
                    </a:lnTo>
                    <a:lnTo>
                      <a:pt x="5918" y="898"/>
                    </a:lnTo>
                    <a:lnTo>
                      <a:pt x="5881" y="827"/>
                    </a:lnTo>
                    <a:lnTo>
                      <a:pt x="5843" y="758"/>
                    </a:lnTo>
                    <a:lnTo>
                      <a:pt x="5803" y="691"/>
                    </a:lnTo>
                    <a:lnTo>
                      <a:pt x="5762" y="624"/>
                    </a:lnTo>
                    <a:lnTo>
                      <a:pt x="5719" y="559"/>
                    </a:lnTo>
                    <a:lnTo>
                      <a:pt x="5675" y="495"/>
                    </a:lnTo>
                    <a:lnTo>
                      <a:pt x="5628" y="431"/>
                    </a:lnTo>
                    <a:lnTo>
                      <a:pt x="5581" y="370"/>
                    </a:lnTo>
                    <a:lnTo>
                      <a:pt x="5531" y="309"/>
                    </a:lnTo>
                    <a:lnTo>
                      <a:pt x="5481" y="249"/>
                    </a:lnTo>
                    <a:lnTo>
                      <a:pt x="5428" y="191"/>
                    </a:lnTo>
                    <a:lnTo>
                      <a:pt x="5375" y="134"/>
                    </a:lnTo>
                    <a:lnTo>
                      <a:pt x="5320" y="79"/>
                    </a:lnTo>
                    <a:lnTo>
                      <a:pt x="5264" y="25"/>
                    </a:lnTo>
                    <a:lnTo>
                      <a:pt x="5253" y="22"/>
                    </a:lnTo>
                    <a:lnTo>
                      <a:pt x="5242" y="19"/>
                    </a:lnTo>
                    <a:lnTo>
                      <a:pt x="5232" y="15"/>
                    </a:lnTo>
                    <a:lnTo>
                      <a:pt x="5220" y="12"/>
                    </a:lnTo>
                    <a:lnTo>
                      <a:pt x="5209" y="9"/>
                    </a:lnTo>
                    <a:lnTo>
                      <a:pt x="5198" y="7"/>
                    </a:lnTo>
                    <a:lnTo>
                      <a:pt x="5187" y="3"/>
                    </a:lnTo>
                    <a:lnTo>
                      <a:pt x="5176" y="0"/>
                    </a:lnTo>
                    <a:lnTo>
                      <a:pt x="5235" y="54"/>
                    </a:lnTo>
                    <a:lnTo>
                      <a:pt x="5292" y="109"/>
                    </a:lnTo>
                    <a:lnTo>
                      <a:pt x="5347" y="165"/>
                    </a:lnTo>
                    <a:lnTo>
                      <a:pt x="5402" y="224"/>
                    </a:lnTo>
                    <a:lnTo>
                      <a:pt x="5455" y="283"/>
                    </a:lnTo>
                    <a:lnTo>
                      <a:pt x="5506" y="344"/>
                    </a:lnTo>
                    <a:lnTo>
                      <a:pt x="5556" y="406"/>
                    </a:lnTo>
                    <a:lnTo>
                      <a:pt x="5604" y="469"/>
                    </a:lnTo>
                    <a:lnTo>
                      <a:pt x="5651" y="534"/>
                    </a:lnTo>
                    <a:lnTo>
                      <a:pt x="5696" y="600"/>
                    </a:lnTo>
                    <a:lnTo>
                      <a:pt x="5740" y="667"/>
                    </a:lnTo>
                    <a:lnTo>
                      <a:pt x="5781" y="736"/>
                    </a:lnTo>
                    <a:lnTo>
                      <a:pt x="5821" y="805"/>
                    </a:lnTo>
                    <a:lnTo>
                      <a:pt x="5859" y="875"/>
                    </a:lnTo>
                    <a:lnTo>
                      <a:pt x="5895" y="946"/>
                    </a:lnTo>
                    <a:lnTo>
                      <a:pt x="5930" y="1020"/>
                    </a:lnTo>
                    <a:lnTo>
                      <a:pt x="5962" y="1093"/>
                    </a:lnTo>
                    <a:lnTo>
                      <a:pt x="5993" y="1168"/>
                    </a:lnTo>
                    <a:lnTo>
                      <a:pt x="6022" y="1243"/>
                    </a:lnTo>
                    <a:lnTo>
                      <a:pt x="6049" y="1320"/>
                    </a:lnTo>
                    <a:lnTo>
                      <a:pt x="6073" y="1398"/>
                    </a:lnTo>
                    <a:lnTo>
                      <a:pt x="6097" y="1475"/>
                    </a:lnTo>
                    <a:lnTo>
                      <a:pt x="6118" y="1555"/>
                    </a:lnTo>
                    <a:lnTo>
                      <a:pt x="6136" y="1635"/>
                    </a:lnTo>
                    <a:lnTo>
                      <a:pt x="6153" y="1716"/>
                    </a:lnTo>
                    <a:lnTo>
                      <a:pt x="6167" y="1797"/>
                    </a:lnTo>
                    <a:lnTo>
                      <a:pt x="6180" y="1880"/>
                    </a:lnTo>
                    <a:lnTo>
                      <a:pt x="6190" y="1963"/>
                    </a:lnTo>
                    <a:lnTo>
                      <a:pt x="6199" y="2047"/>
                    </a:lnTo>
                    <a:lnTo>
                      <a:pt x="6204" y="2131"/>
                    </a:lnTo>
                    <a:lnTo>
                      <a:pt x="6207" y="2216"/>
                    </a:lnTo>
                    <a:lnTo>
                      <a:pt x="6208" y="2302"/>
                    </a:lnTo>
                    <a:lnTo>
                      <a:pt x="6208" y="2354"/>
                    </a:lnTo>
                    <a:lnTo>
                      <a:pt x="6207" y="2405"/>
                    </a:lnTo>
                    <a:lnTo>
                      <a:pt x="6205" y="2456"/>
                    </a:lnTo>
                    <a:lnTo>
                      <a:pt x="6202" y="2508"/>
                    </a:lnTo>
                    <a:lnTo>
                      <a:pt x="6198" y="2559"/>
                    </a:lnTo>
                    <a:lnTo>
                      <a:pt x="6193" y="2609"/>
                    </a:lnTo>
                    <a:lnTo>
                      <a:pt x="6188" y="2660"/>
                    </a:lnTo>
                    <a:lnTo>
                      <a:pt x="6181" y="2710"/>
                    </a:lnTo>
                    <a:lnTo>
                      <a:pt x="6175" y="2761"/>
                    </a:lnTo>
                    <a:lnTo>
                      <a:pt x="6166" y="2810"/>
                    </a:lnTo>
                    <a:lnTo>
                      <a:pt x="6158" y="2859"/>
                    </a:lnTo>
                    <a:lnTo>
                      <a:pt x="6149" y="2909"/>
                    </a:lnTo>
                    <a:lnTo>
                      <a:pt x="6138" y="2957"/>
                    </a:lnTo>
                    <a:lnTo>
                      <a:pt x="6127" y="3006"/>
                    </a:lnTo>
                    <a:lnTo>
                      <a:pt x="6116" y="3054"/>
                    </a:lnTo>
                    <a:lnTo>
                      <a:pt x="6103" y="3103"/>
                    </a:lnTo>
                    <a:lnTo>
                      <a:pt x="6144" y="3114"/>
                    </a:lnTo>
                    <a:lnTo>
                      <a:pt x="6156" y="3065"/>
                    </a:lnTo>
                    <a:lnTo>
                      <a:pt x="6167" y="3016"/>
                    </a:lnTo>
                    <a:lnTo>
                      <a:pt x="6179" y="2967"/>
                    </a:lnTo>
                    <a:lnTo>
                      <a:pt x="6189" y="2917"/>
                    </a:lnTo>
                    <a:lnTo>
                      <a:pt x="6199" y="2867"/>
                    </a:lnTo>
                    <a:lnTo>
                      <a:pt x="6207" y="2817"/>
                    </a:lnTo>
                    <a:lnTo>
                      <a:pt x="6216" y="2766"/>
                    </a:lnTo>
                    <a:lnTo>
                      <a:pt x="6223" y="2715"/>
                    </a:lnTo>
                    <a:lnTo>
                      <a:pt x="6229" y="2665"/>
                    </a:lnTo>
                    <a:lnTo>
                      <a:pt x="6234" y="2614"/>
                    </a:lnTo>
                    <a:lnTo>
                      <a:pt x="6240" y="2562"/>
                    </a:lnTo>
                    <a:lnTo>
                      <a:pt x="6243" y="2510"/>
                    </a:lnTo>
                    <a:lnTo>
                      <a:pt x="6246" y="2458"/>
                    </a:lnTo>
                    <a:lnTo>
                      <a:pt x="6248" y="2406"/>
                    </a:lnTo>
                    <a:lnTo>
                      <a:pt x="6250" y="2354"/>
                    </a:lnTo>
                    <a:lnTo>
                      <a:pt x="6251" y="2302"/>
                    </a:lnTo>
                    <a:close/>
                    <a:moveTo>
                      <a:pt x="986" y="25"/>
                    </a:moveTo>
                    <a:lnTo>
                      <a:pt x="930" y="79"/>
                    </a:lnTo>
                    <a:lnTo>
                      <a:pt x="875" y="134"/>
                    </a:lnTo>
                    <a:lnTo>
                      <a:pt x="822" y="191"/>
                    </a:lnTo>
                    <a:lnTo>
                      <a:pt x="769" y="249"/>
                    </a:lnTo>
                    <a:lnTo>
                      <a:pt x="719" y="309"/>
                    </a:lnTo>
                    <a:lnTo>
                      <a:pt x="670" y="370"/>
                    </a:lnTo>
                    <a:lnTo>
                      <a:pt x="622" y="431"/>
                    </a:lnTo>
                    <a:lnTo>
                      <a:pt x="576" y="495"/>
                    </a:lnTo>
                    <a:lnTo>
                      <a:pt x="531" y="559"/>
                    </a:lnTo>
                    <a:lnTo>
                      <a:pt x="488" y="624"/>
                    </a:lnTo>
                    <a:lnTo>
                      <a:pt x="447" y="691"/>
                    </a:lnTo>
                    <a:lnTo>
                      <a:pt x="407" y="758"/>
                    </a:lnTo>
                    <a:lnTo>
                      <a:pt x="369" y="827"/>
                    </a:lnTo>
                    <a:lnTo>
                      <a:pt x="333" y="898"/>
                    </a:lnTo>
                    <a:lnTo>
                      <a:pt x="298" y="968"/>
                    </a:lnTo>
                    <a:lnTo>
                      <a:pt x="266" y="1040"/>
                    </a:lnTo>
                    <a:lnTo>
                      <a:pt x="234" y="1113"/>
                    </a:lnTo>
                    <a:lnTo>
                      <a:pt x="205" y="1186"/>
                    </a:lnTo>
                    <a:lnTo>
                      <a:pt x="178" y="1262"/>
                    </a:lnTo>
                    <a:lnTo>
                      <a:pt x="152" y="1336"/>
                    </a:lnTo>
                    <a:lnTo>
                      <a:pt x="128" y="1413"/>
                    </a:lnTo>
                    <a:lnTo>
                      <a:pt x="107" y="1491"/>
                    </a:lnTo>
                    <a:lnTo>
                      <a:pt x="86" y="1568"/>
                    </a:lnTo>
                    <a:lnTo>
                      <a:pt x="69" y="1647"/>
                    </a:lnTo>
                    <a:lnTo>
                      <a:pt x="53" y="1726"/>
                    </a:lnTo>
                    <a:lnTo>
                      <a:pt x="39" y="1807"/>
                    </a:lnTo>
                    <a:lnTo>
                      <a:pt x="27" y="1888"/>
                    </a:lnTo>
                    <a:lnTo>
                      <a:pt x="17" y="1969"/>
                    </a:lnTo>
                    <a:lnTo>
                      <a:pt x="9" y="2051"/>
                    </a:lnTo>
                    <a:lnTo>
                      <a:pt x="4" y="2134"/>
                    </a:lnTo>
                    <a:lnTo>
                      <a:pt x="1" y="2217"/>
                    </a:lnTo>
                    <a:lnTo>
                      <a:pt x="0" y="2302"/>
                    </a:lnTo>
                    <a:lnTo>
                      <a:pt x="1" y="2385"/>
                    </a:lnTo>
                    <a:lnTo>
                      <a:pt x="4" y="2469"/>
                    </a:lnTo>
                    <a:lnTo>
                      <a:pt x="9" y="2551"/>
                    </a:lnTo>
                    <a:lnTo>
                      <a:pt x="17" y="2633"/>
                    </a:lnTo>
                    <a:lnTo>
                      <a:pt x="27" y="2715"/>
                    </a:lnTo>
                    <a:lnTo>
                      <a:pt x="39" y="2796"/>
                    </a:lnTo>
                    <a:lnTo>
                      <a:pt x="53" y="2876"/>
                    </a:lnTo>
                    <a:lnTo>
                      <a:pt x="69" y="2956"/>
                    </a:lnTo>
                    <a:lnTo>
                      <a:pt x="86" y="3035"/>
                    </a:lnTo>
                    <a:lnTo>
                      <a:pt x="107" y="3113"/>
                    </a:lnTo>
                    <a:lnTo>
                      <a:pt x="128" y="3189"/>
                    </a:lnTo>
                    <a:lnTo>
                      <a:pt x="152" y="3266"/>
                    </a:lnTo>
                    <a:lnTo>
                      <a:pt x="178" y="3342"/>
                    </a:lnTo>
                    <a:lnTo>
                      <a:pt x="205" y="3416"/>
                    </a:lnTo>
                    <a:lnTo>
                      <a:pt x="234" y="3490"/>
                    </a:lnTo>
                    <a:lnTo>
                      <a:pt x="266" y="3563"/>
                    </a:lnTo>
                    <a:lnTo>
                      <a:pt x="298" y="3634"/>
                    </a:lnTo>
                    <a:lnTo>
                      <a:pt x="333" y="3706"/>
                    </a:lnTo>
                    <a:lnTo>
                      <a:pt x="369" y="3776"/>
                    </a:lnTo>
                    <a:lnTo>
                      <a:pt x="407" y="3844"/>
                    </a:lnTo>
                    <a:lnTo>
                      <a:pt x="447" y="3912"/>
                    </a:lnTo>
                    <a:lnTo>
                      <a:pt x="488" y="3979"/>
                    </a:lnTo>
                    <a:lnTo>
                      <a:pt x="531" y="4044"/>
                    </a:lnTo>
                    <a:lnTo>
                      <a:pt x="576" y="4109"/>
                    </a:lnTo>
                    <a:lnTo>
                      <a:pt x="622" y="4171"/>
                    </a:lnTo>
                    <a:lnTo>
                      <a:pt x="670" y="4234"/>
                    </a:lnTo>
                    <a:lnTo>
                      <a:pt x="719" y="4294"/>
                    </a:lnTo>
                    <a:lnTo>
                      <a:pt x="769" y="4354"/>
                    </a:lnTo>
                    <a:lnTo>
                      <a:pt x="822" y="4412"/>
                    </a:lnTo>
                    <a:lnTo>
                      <a:pt x="875" y="4468"/>
                    </a:lnTo>
                    <a:lnTo>
                      <a:pt x="930" y="4524"/>
                    </a:lnTo>
                    <a:lnTo>
                      <a:pt x="986" y="4578"/>
                    </a:lnTo>
                    <a:lnTo>
                      <a:pt x="997" y="4582"/>
                    </a:lnTo>
                    <a:lnTo>
                      <a:pt x="1008" y="4585"/>
                    </a:lnTo>
                    <a:lnTo>
                      <a:pt x="1019" y="4588"/>
                    </a:lnTo>
                    <a:lnTo>
                      <a:pt x="1031" y="4590"/>
                    </a:lnTo>
                    <a:lnTo>
                      <a:pt x="1041" y="4593"/>
                    </a:lnTo>
                    <a:lnTo>
                      <a:pt x="1052" y="4597"/>
                    </a:lnTo>
                    <a:lnTo>
                      <a:pt x="1063" y="4600"/>
                    </a:lnTo>
                    <a:lnTo>
                      <a:pt x="1075" y="4602"/>
                    </a:lnTo>
                    <a:lnTo>
                      <a:pt x="1015" y="4549"/>
                    </a:lnTo>
                    <a:lnTo>
                      <a:pt x="958" y="4494"/>
                    </a:lnTo>
                    <a:lnTo>
                      <a:pt x="902" y="4437"/>
                    </a:lnTo>
                    <a:lnTo>
                      <a:pt x="848" y="4380"/>
                    </a:lnTo>
                    <a:lnTo>
                      <a:pt x="795" y="4320"/>
                    </a:lnTo>
                    <a:lnTo>
                      <a:pt x="744" y="4259"/>
                    </a:lnTo>
                    <a:lnTo>
                      <a:pt x="693" y="4197"/>
                    </a:lnTo>
                    <a:lnTo>
                      <a:pt x="646" y="4133"/>
                    </a:lnTo>
                    <a:lnTo>
                      <a:pt x="599" y="4069"/>
                    </a:lnTo>
                    <a:lnTo>
                      <a:pt x="554" y="4003"/>
                    </a:lnTo>
                    <a:lnTo>
                      <a:pt x="511" y="3936"/>
                    </a:lnTo>
                    <a:lnTo>
                      <a:pt x="469" y="3868"/>
                    </a:lnTo>
                    <a:lnTo>
                      <a:pt x="430" y="3799"/>
                    </a:lnTo>
                    <a:lnTo>
                      <a:pt x="391" y="3727"/>
                    </a:lnTo>
                    <a:lnTo>
                      <a:pt x="355" y="3656"/>
                    </a:lnTo>
                    <a:lnTo>
                      <a:pt x="321" y="3584"/>
                    </a:lnTo>
                    <a:lnTo>
                      <a:pt x="288" y="3510"/>
                    </a:lnTo>
                    <a:lnTo>
                      <a:pt x="257" y="3435"/>
                    </a:lnTo>
                    <a:lnTo>
                      <a:pt x="228" y="3359"/>
                    </a:lnTo>
                    <a:lnTo>
                      <a:pt x="202" y="3282"/>
                    </a:lnTo>
                    <a:lnTo>
                      <a:pt x="177" y="3206"/>
                    </a:lnTo>
                    <a:lnTo>
                      <a:pt x="153" y="3127"/>
                    </a:lnTo>
                    <a:lnTo>
                      <a:pt x="133" y="3048"/>
                    </a:lnTo>
                    <a:lnTo>
                      <a:pt x="114" y="2968"/>
                    </a:lnTo>
                    <a:lnTo>
                      <a:pt x="97" y="2887"/>
                    </a:lnTo>
                    <a:lnTo>
                      <a:pt x="83" y="2805"/>
                    </a:lnTo>
                    <a:lnTo>
                      <a:pt x="70" y="2723"/>
                    </a:lnTo>
                    <a:lnTo>
                      <a:pt x="60" y="2640"/>
                    </a:lnTo>
                    <a:lnTo>
                      <a:pt x="52" y="2557"/>
                    </a:lnTo>
                    <a:lnTo>
                      <a:pt x="46" y="2472"/>
                    </a:lnTo>
                    <a:lnTo>
                      <a:pt x="43" y="2387"/>
                    </a:lnTo>
                    <a:lnTo>
                      <a:pt x="42" y="2302"/>
                    </a:lnTo>
                    <a:lnTo>
                      <a:pt x="43" y="2216"/>
                    </a:lnTo>
                    <a:lnTo>
                      <a:pt x="46" y="2131"/>
                    </a:lnTo>
                    <a:lnTo>
                      <a:pt x="52" y="2047"/>
                    </a:lnTo>
                    <a:lnTo>
                      <a:pt x="60" y="1963"/>
                    </a:lnTo>
                    <a:lnTo>
                      <a:pt x="70" y="1880"/>
                    </a:lnTo>
                    <a:lnTo>
                      <a:pt x="83" y="1797"/>
                    </a:lnTo>
                    <a:lnTo>
                      <a:pt x="97" y="1716"/>
                    </a:lnTo>
                    <a:lnTo>
                      <a:pt x="114" y="1635"/>
                    </a:lnTo>
                    <a:lnTo>
                      <a:pt x="133" y="1555"/>
                    </a:lnTo>
                    <a:lnTo>
                      <a:pt x="153" y="1475"/>
                    </a:lnTo>
                    <a:lnTo>
                      <a:pt x="177" y="1398"/>
                    </a:lnTo>
                    <a:lnTo>
                      <a:pt x="202" y="1320"/>
                    </a:lnTo>
                    <a:lnTo>
                      <a:pt x="228" y="1243"/>
                    </a:lnTo>
                    <a:lnTo>
                      <a:pt x="257" y="1168"/>
                    </a:lnTo>
                    <a:lnTo>
                      <a:pt x="288" y="1093"/>
                    </a:lnTo>
                    <a:lnTo>
                      <a:pt x="321" y="1020"/>
                    </a:lnTo>
                    <a:lnTo>
                      <a:pt x="355" y="946"/>
                    </a:lnTo>
                    <a:lnTo>
                      <a:pt x="391" y="875"/>
                    </a:lnTo>
                    <a:lnTo>
                      <a:pt x="430" y="805"/>
                    </a:lnTo>
                    <a:lnTo>
                      <a:pt x="469" y="736"/>
                    </a:lnTo>
                    <a:lnTo>
                      <a:pt x="511" y="667"/>
                    </a:lnTo>
                    <a:lnTo>
                      <a:pt x="554" y="600"/>
                    </a:lnTo>
                    <a:lnTo>
                      <a:pt x="599" y="534"/>
                    </a:lnTo>
                    <a:lnTo>
                      <a:pt x="646" y="469"/>
                    </a:lnTo>
                    <a:lnTo>
                      <a:pt x="695" y="406"/>
                    </a:lnTo>
                    <a:lnTo>
                      <a:pt x="744" y="344"/>
                    </a:lnTo>
                    <a:lnTo>
                      <a:pt x="795" y="283"/>
                    </a:lnTo>
                    <a:lnTo>
                      <a:pt x="848" y="224"/>
                    </a:lnTo>
                    <a:lnTo>
                      <a:pt x="902" y="165"/>
                    </a:lnTo>
                    <a:lnTo>
                      <a:pt x="958" y="109"/>
                    </a:lnTo>
                    <a:lnTo>
                      <a:pt x="1015" y="54"/>
                    </a:lnTo>
                    <a:lnTo>
                      <a:pt x="1075" y="0"/>
                    </a:lnTo>
                    <a:lnTo>
                      <a:pt x="1063" y="3"/>
                    </a:lnTo>
                    <a:lnTo>
                      <a:pt x="1052" y="7"/>
                    </a:lnTo>
                    <a:lnTo>
                      <a:pt x="1041" y="9"/>
                    </a:lnTo>
                    <a:lnTo>
                      <a:pt x="1031" y="12"/>
                    </a:lnTo>
                    <a:lnTo>
                      <a:pt x="1019" y="15"/>
                    </a:lnTo>
                    <a:lnTo>
                      <a:pt x="1008" y="19"/>
                    </a:lnTo>
                    <a:lnTo>
                      <a:pt x="997" y="22"/>
                    </a:lnTo>
                    <a:lnTo>
                      <a:pt x="986" y="25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341520" y="2079720"/>
                <a:ext cx="2463840" cy="1836720"/>
              </a:xfrm>
              <a:custGeom>
                <a:avLst/>
                <a:gdLst/>
                <a:ahLst/>
                <a:rect l="l" t="t" r="r" b="b"/>
                <a:pathLst>
                  <a:path w="6208" h="4627">
                    <a:moveTo>
                      <a:pt x="6208" y="2314"/>
                    </a:moveTo>
                    <a:lnTo>
                      <a:pt x="6207" y="2228"/>
                    </a:lnTo>
                    <a:lnTo>
                      <a:pt x="6204" y="2144"/>
                    </a:lnTo>
                    <a:lnTo>
                      <a:pt x="6198" y="2061"/>
                    </a:lnTo>
                    <a:lnTo>
                      <a:pt x="6191" y="1978"/>
                    </a:lnTo>
                    <a:lnTo>
                      <a:pt x="6181" y="1896"/>
                    </a:lnTo>
                    <a:lnTo>
                      <a:pt x="6168" y="1815"/>
                    </a:lnTo>
                    <a:lnTo>
                      <a:pt x="6154" y="1734"/>
                    </a:lnTo>
                    <a:lnTo>
                      <a:pt x="6138" y="1653"/>
                    </a:lnTo>
                    <a:lnTo>
                      <a:pt x="6119" y="1574"/>
                    </a:lnTo>
                    <a:lnTo>
                      <a:pt x="6099" y="1495"/>
                    </a:lnTo>
                    <a:lnTo>
                      <a:pt x="6077" y="1417"/>
                    </a:lnTo>
                    <a:lnTo>
                      <a:pt x="6052" y="1341"/>
                    </a:lnTo>
                    <a:lnTo>
                      <a:pt x="6026" y="1264"/>
                    </a:lnTo>
                    <a:lnTo>
                      <a:pt x="5998" y="1189"/>
                    </a:lnTo>
                    <a:lnTo>
                      <a:pt x="5968" y="1115"/>
                    </a:lnTo>
                    <a:lnTo>
                      <a:pt x="5937" y="1041"/>
                    </a:lnTo>
                    <a:lnTo>
                      <a:pt x="5903" y="969"/>
                    </a:lnTo>
                    <a:lnTo>
                      <a:pt x="5868" y="898"/>
                    </a:lnTo>
                    <a:lnTo>
                      <a:pt x="5830" y="829"/>
                    </a:lnTo>
                    <a:lnTo>
                      <a:pt x="5791" y="760"/>
                    </a:lnTo>
                    <a:lnTo>
                      <a:pt x="5751" y="692"/>
                    </a:lnTo>
                    <a:lnTo>
                      <a:pt x="5709" y="625"/>
                    </a:lnTo>
                    <a:lnTo>
                      <a:pt x="5665" y="559"/>
                    </a:lnTo>
                    <a:lnTo>
                      <a:pt x="5619" y="494"/>
                    </a:lnTo>
                    <a:lnTo>
                      <a:pt x="5572" y="431"/>
                    </a:lnTo>
                    <a:lnTo>
                      <a:pt x="5523" y="369"/>
                    </a:lnTo>
                    <a:lnTo>
                      <a:pt x="5473" y="308"/>
                    </a:lnTo>
                    <a:lnTo>
                      <a:pt x="5421" y="249"/>
                    </a:lnTo>
                    <a:lnTo>
                      <a:pt x="5367" y="190"/>
                    </a:lnTo>
                    <a:lnTo>
                      <a:pt x="5313" y="133"/>
                    </a:lnTo>
                    <a:lnTo>
                      <a:pt x="5257" y="78"/>
                    </a:lnTo>
                    <a:lnTo>
                      <a:pt x="5200" y="24"/>
                    </a:lnTo>
                    <a:lnTo>
                      <a:pt x="5188" y="21"/>
                    </a:lnTo>
                    <a:lnTo>
                      <a:pt x="5177" y="19"/>
                    </a:lnTo>
                    <a:lnTo>
                      <a:pt x="5166" y="15"/>
                    </a:lnTo>
                    <a:lnTo>
                      <a:pt x="5155" y="12"/>
                    </a:lnTo>
                    <a:lnTo>
                      <a:pt x="5144" y="9"/>
                    </a:lnTo>
                    <a:lnTo>
                      <a:pt x="5133" y="6"/>
                    </a:lnTo>
                    <a:lnTo>
                      <a:pt x="5121" y="4"/>
                    </a:lnTo>
                    <a:lnTo>
                      <a:pt x="5110" y="0"/>
                    </a:lnTo>
                    <a:lnTo>
                      <a:pt x="5170" y="53"/>
                    </a:lnTo>
                    <a:lnTo>
                      <a:pt x="5229" y="108"/>
                    </a:lnTo>
                    <a:lnTo>
                      <a:pt x="5285" y="166"/>
                    </a:lnTo>
                    <a:lnTo>
                      <a:pt x="5341" y="223"/>
                    </a:lnTo>
                    <a:lnTo>
                      <a:pt x="5395" y="282"/>
                    </a:lnTo>
                    <a:lnTo>
                      <a:pt x="5448" y="343"/>
                    </a:lnTo>
                    <a:lnTo>
                      <a:pt x="5499" y="405"/>
                    </a:lnTo>
                    <a:lnTo>
                      <a:pt x="5548" y="469"/>
                    </a:lnTo>
                    <a:lnTo>
                      <a:pt x="5596" y="534"/>
                    </a:lnTo>
                    <a:lnTo>
                      <a:pt x="5642" y="600"/>
                    </a:lnTo>
                    <a:lnTo>
                      <a:pt x="5686" y="667"/>
                    </a:lnTo>
                    <a:lnTo>
                      <a:pt x="5729" y="736"/>
                    </a:lnTo>
                    <a:lnTo>
                      <a:pt x="5769" y="805"/>
                    </a:lnTo>
                    <a:lnTo>
                      <a:pt x="5808" y="876"/>
                    </a:lnTo>
                    <a:lnTo>
                      <a:pt x="5846" y="947"/>
                    </a:lnTo>
                    <a:lnTo>
                      <a:pt x="5881" y="1021"/>
                    </a:lnTo>
                    <a:lnTo>
                      <a:pt x="5914" y="1095"/>
                    </a:lnTo>
                    <a:lnTo>
                      <a:pt x="5947" y="1170"/>
                    </a:lnTo>
                    <a:lnTo>
                      <a:pt x="5976" y="1247"/>
                    </a:lnTo>
                    <a:lnTo>
                      <a:pt x="6003" y="1323"/>
                    </a:lnTo>
                    <a:lnTo>
                      <a:pt x="6029" y="1402"/>
                    </a:lnTo>
                    <a:lnTo>
                      <a:pt x="6052" y="1481"/>
                    </a:lnTo>
                    <a:lnTo>
                      <a:pt x="6073" y="1561"/>
                    </a:lnTo>
                    <a:lnTo>
                      <a:pt x="6092" y="1641"/>
                    </a:lnTo>
                    <a:lnTo>
                      <a:pt x="6110" y="1723"/>
                    </a:lnTo>
                    <a:lnTo>
                      <a:pt x="6125" y="1805"/>
                    </a:lnTo>
                    <a:lnTo>
                      <a:pt x="6138" y="1888"/>
                    </a:lnTo>
                    <a:lnTo>
                      <a:pt x="6148" y="1971"/>
                    </a:lnTo>
                    <a:lnTo>
                      <a:pt x="6156" y="2057"/>
                    </a:lnTo>
                    <a:lnTo>
                      <a:pt x="6162" y="2141"/>
                    </a:lnTo>
                    <a:lnTo>
                      <a:pt x="6166" y="2227"/>
                    </a:lnTo>
                    <a:lnTo>
                      <a:pt x="6167" y="2314"/>
                    </a:lnTo>
                    <a:lnTo>
                      <a:pt x="6166" y="2364"/>
                    </a:lnTo>
                    <a:lnTo>
                      <a:pt x="6165" y="2416"/>
                    </a:lnTo>
                    <a:lnTo>
                      <a:pt x="6163" y="2467"/>
                    </a:lnTo>
                    <a:lnTo>
                      <a:pt x="6160" y="2518"/>
                    </a:lnTo>
                    <a:lnTo>
                      <a:pt x="6156" y="2569"/>
                    </a:lnTo>
                    <a:lnTo>
                      <a:pt x="6152" y="2619"/>
                    </a:lnTo>
                    <a:lnTo>
                      <a:pt x="6146" y="2669"/>
                    </a:lnTo>
                    <a:lnTo>
                      <a:pt x="6140" y="2720"/>
                    </a:lnTo>
                    <a:lnTo>
                      <a:pt x="6133" y="2769"/>
                    </a:lnTo>
                    <a:lnTo>
                      <a:pt x="6125" y="2818"/>
                    </a:lnTo>
                    <a:lnTo>
                      <a:pt x="6116" y="2868"/>
                    </a:lnTo>
                    <a:lnTo>
                      <a:pt x="6108" y="2916"/>
                    </a:lnTo>
                    <a:lnTo>
                      <a:pt x="6097" y="2965"/>
                    </a:lnTo>
                    <a:lnTo>
                      <a:pt x="6086" y="3014"/>
                    </a:lnTo>
                    <a:lnTo>
                      <a:pt x="6074" y="3061"/>
                    </a:lnTo>
                    <a:lnTo>
                      <a:pt x="6062" y="3110"/>
                    </a:lnTo>
                    <a:lnTo>
                      <a:pt x="6102" y="3120"/>
                    </a:lnTo>
                    <a:lnTo>
                      <a:pt x="6115" y="3072"/>
                    </a:lnTo>
                    <a:lnTo>
                      <a:pt x="6127" y="3023"/>
                    </a:lnTo>
                    <a:lnTo>
                      <a:pt x="6138" y="2974"/>
                    </a:lnTo>
                    <a:lnTo>
                      <a:pt x="6148" y="2925"/>
                    </a:lnTo>
                    <a:lnTo>
                      <a:pt x="6157" y="2875"/>
                    </a:lnTo>
                    <a:lnTo>
                      <a:pt x="6166" y="2826"/>
                    </a:lnTo>
                    <a:lnTo>
                      <a:pt x="6175" y="2775"/>
                    </a:lnTo>
                    <a:lnTo>
                      <a:pt x="6181" y="2725"/>
                    </a:lnTo>
                    <a:lnTo>
                      <a:pt x="6187" y="2674"/>
                    </a:lnTo>
                    <a:lnTo>
                      <a:pt x="6193" y="2624"/>
                    </a:lnTo>
                    <a:lnTo>
                      <a:pt x="6197" y="2573"/>
                    </a:lnTo>
                    <a:lnTo>
                      <a:pt x="6202" y="2521"/>
                    </a:lnTo>
                    <a:lnTo>
                      <a:pt x="6205" y="2469"/>
                    </a:lnTo>
                    <a:lnTo>
                      <a:pt x="6207" y="2417"/>
                    </a:lnTo>
                    <a:lnTo>
                      <a:pt x="6208" y="2366"/>
                    </a:lnTo>
                    <a:lnTo>
                      <a:pt x="6208" y="2314"/>
                    </a:lnTo>
                    <a:close/>
                    <a:moveTo>
                      <a:pt x="1008" y="24"/>
                    </a:moveTo>
                    <a:lnTo>
                      <a:pt x="951" y="78"/>
                    </a:lnTo>
                    <a:lnTo>
                      <a:pt x="895" y="133"/>
                    </a:lnTo>
                    <a:lnTo>
                      <a:pt x="841" y="190"/>
                    </a:lnTo>
                    <a:lnTo>
                      <a:pt x="787" y="249"/>
                    </a:lnTo>
                    <a:lnTo>
                      <a:pt x="735" y="308"/>
                    </a:lnTo>
                    <a:lnTo>
                      <a:pt x="685" y="369"/>
                    </a:lnTo>
                    <a:lnTo>
                      <a:pt x="637" y="431"/>
                    </a:lnTo>
                    <a:lnTo>
                      <a:pt x="589" y="494"/>
                    </a:lnTo>
                    <a:lnTo>
                      <a:pt x="544" y="559"/>
                    </a:lnTo>
                    <a:lnTo>
                      <a:pt x="500" y="625"/>
                    </a:lnTo>
                    <a:lnTo>
                      <a:pt x="457" y="692"/>
                    </a:lnTo>
                    <a:lnTo>
                      <a:pt x="417" y="760"/>
                    </a:lnTo>
                    <a:lnTo>
                      <a:pt x="379" y="829"/>
                    </a:lnTo>
                    <a:lnTo>
                      <a:pt x="341" y="898"/>
                    </a:lnTo>
                    <a:lnTo>
                      <a:pt x="305" y="969"/>
                    </a:lnTo>
                    <a:lnTo>
                      <a:pt x="272" y="1041"/>
                    </a:lnTo>
                    <a:lnTo>
                      <a:pt x="240" y="1115"/>
                    </a:lnTo>
                    <a:lnTo>
                      <a:pt x="210" y="1189"/>
                    </a:lnTo>
                    <a:lnTo>
                      <a:pt x="182" y="1264"/>
                    </a:lnTo>
                    <a:lnTo>
                      <a:pt x="156" y="1341"/>
                    </a:lnTo>
                    <a:lnTo>
                      <a:pt x="131" y="1417"/>
                    </a:lnTo>
                    <a:lnTo>
                      <a:pt x="109" y="1495"/>
                    </a:lnTo>
                    <a:lnTo>
                      <a:pt x="89" y="1574"/>
                    </a:lnTo>
                    <a:lnTo>
                      <a:pt x="71" y="1653"/>
                    </a:lnTo>
                    <a:lnTo>
                      <a:pt x="54" y="1734"/>
                    </a:lnTo>
                    <a:lnTo>
                      <a:pt x="40" y="1815"/>
                    </a:lnTo>
                    <a:lnTo>
                      <a:pt x="27" y="1896"/>
                    </a:lnTo>
                    <a:lnTo>
                      <a:pt x="18" y="1978"/>
                    </a:lnTo>
                    <a:lnTo>
                      <a:pt x="10" y="2061"/>
                    </a:lnTo>
                    <a:lnTo>
                      <a:pt x="5" y="2144"/>
                    </a:lnTo>
                    <a:lnTo>
                      <a:pt x="1" y="2228"/>
                    </a:lnTo>
                    <a:lnTo>
                      <a:pt x="0" y="2314"/>
                    </a:lnTo>
                    <a:lnTo>
                      <a:pt x="1" y="2398"/>
                    </a:lnTo>
                    <a:lnTo>
                      <a:pt x="5" y="2482"/>
                    </a:lnTo>
                    <a:lnTo>
                      <a:pt x="10" y="2565"/>
                    </a:lnTo>
                    <a:lnTo>
                      <a:pt x="18" y="2648"/>
                    </a:lnTo>
                    <a:lnTo>
                      <a:pt x="27" y="2731"/>
                    </a:lnTo>
                    <a:lnTo>
                      <a:pt x="40" y="2813"/>
                    </a:lnTo>
                    <a:lnTo>
                      <a:pt x="54" y="2894"/>
                    </a:lnTo>
                    <a:lnTo>
                      <a:pt x="71" y="2974"/>
                    </a:lnTo>
                    <a:lnTo>
                      <a:pt x="89" y="3053"/>
                    </a:lnTo>
                    <a:lnTo>
                      <a:pt x="109" y="3131"/>
                    </a:lnTo>
                    <a:lnTo>
                      <a:pt x="131" y="3209"/>
                    </a:lnTo>
                    <a:lnTo>
                      <a:pt x="156" y="3287"/>
                    </a:lnTo>
                    <a:lnTo>
                      <a:pt x="182" y="3362"/>
                    </a:lnTo>
                    <a:lnTo>
                      <a:pt x="210" y="3438"/>
                    </a:lnTo>
                    <a:lnTo>
                      <a:pt x="240" y="3511"/>
                    </a:lnTo>
                    <a:lnTo>
                      <a:pt x="272" y="3585"/>
                    </a:lnTo>
                    <a:lnTo>
                      <a:pt x="305" y="3657"/>
                    </a:lnTo>
                    <a:lnTo>
                      <a:pt x="341" y="3728"/>
                    </a:lnTo>
                    <a:lnTo>
                      <a:pt x="379" y="3799"/>
                    </a:lnTo>
                    <a:lnTo>
                      <a:pt x="417" y="3868"/>
                    </a:lnTo>
                    <a:lnTo>
                      <a:pt x="457" y="3936"/>
                    </a:lnTo>
                    <a:lnTo>
                      <a:pt x="500" y="4003"/>
                    </a:lnTo>
                    <a:lnTo>
                      <a:pt x="544" y="4069"/>
                    </a:lnTo>
                    <a:lnTo>
                      <a:pt x="589" y="4132"/>
                    </a:lnTo>
                    <a:lnTo>
                      <a:pt x="637" y="4196"/>
                    </a:lnTo>
                    <a:lnTo>
                      <a:pt x="685" y="4258"/>
                    </a:lnTo>
                    <a:lnTo>
                      <a:pt x="735" y="4319"/>
                    </a:lnTo>
                    <a:lnTo>
                      <a:pt x="787" y="4379"/>
                    </a:lnTo>
                    <a:lnTo>
                      <a:pt x="841" y="4437"/>
                    </a:lnTo>
                    <a:lnTo>
                      <a:pt x="895" y="4493"/>
                    </a:lnTo>
                    <a:lnTo>
                      <a:pt x="951" y="4548"/>
                    </a:lnTo>
                    <a:lnTo>
                      <a:pt x="1008" y="4602"/>
                    </a:lnTo>
                    <a:lnTo>
                      <a:pt x="1019" y="4605"/>
                    </a:lnTo>
                    <a:lnTo>
                      <a:pt x="1031" y="4609"/>
                    </a:lnTo>
                    <a:lnTo>
                      <a:pt x="1042" y="4612"/>
                    </a:lnTo>
                    <a:lnTo>
                      <a:pt x="1053" y="4614"/>
                    </a:lnTo>
                    <a:lnTo>
                      <a:pt x="1065" y="4617"/>
                    </a:lnTo>
                    <a:lnTo>
                      <a:pt x="1075" y="4621"/>
                    </a:lnTo>
                    <a:lnTo>
                      <a:pt x="1087" y="4624"/>
                    </a:lnTo>
                    <a:lnTo>
                      <a:pt x="1098" y="4627"/>
                    </a:lnTo>
                    <a:lnTo>
                      <a:pt x="1039" y="4573"/>
                    </a:lnTo>
                    <a:lnTo>
                      <a:pt x="979" y="4518"/>
                    </a:lnTo>
                    <a:lnTo>
                      <a:pt x="923" y="4462"/>
                    </a:lnTo>
                    <a:lnTo>
                      <a:pt x="867" y="4403"/>
                    </a:lnTo>
                    <a:lnTo>
                      <a:pt x="813" y="4344"/>
                    </a:lnTo>
                    <a:lnTo>
                      <a:pt x="760" y="4284"/>
                    </a:lnTo>
                    <a:lnTo>
                      <a:pt x="709" y="4222"/>
                    </a:lnTo>
                    <a:lnTo>
                      <a:pt x="661" y="4158"/>
                    </a:lnTo>
                    <a:lnTo>
                      <a:pt x="612" y="4094"/>
                    </a:lnTo>
                    <a:lnTo>
                      <a:pt x="567" y="4028"/>
                    </a:lnTo>
                    <a:lnTo>
                      <a:pt x="522" y="3960"/>
                    </a:lnTo>
                    <a:lnTo>
                      <a:pt x="479" y="3892"/>
                    </a:lnTo>
                    <a:lnTo>
                      <a:pt x="439" y="3821"/>
                    </a:lnTo>
                    <a:lnTo>
                      <a:pt x="400" y="3751"/>
                    </a:lnTo>
                    <a:lnTo>
                      <a:pt x="362" y="3679"/>
                    </a:lnTo>
                    <a:lnTo>
                      <a:pt x="327" y="3605"/>
                    </a:lnTo>
                    <a:lnTo>
                      <a:pt x="294" y="3532"/>
                    </a:lnTo>
                    <a:lnTo>
                      <a:pt x="262" y="3456"/>
                    </a:lnTo>
                    <a:lnTo>
                      <a:pt x="233" y="3381"/>
                    </a:lnTo>
                    <a:lnTo>
                      <a:pt x="206" y="3303"/>
                    </a:lnTo>
                    <a:lnTo>
                      <a:pt x="180" y="3225"/>
                    </a:lnTo>
                    <a:lnTo>
                      <a:pt x="156" y="3146"/>
                    </a:lnTo>
                    <a:lnTo>
                      <a:pt x="134" y="3066"/>
                    </a:lnTo>
                    <a:lnTo>
                      <a:pt x="116" y="2985"/>
                    </a:lnTo>
                    <a:lnTo>
                      <a:pt x="99" y="2904"/>
                    </a:lnTo>
                    <a:lnTo>
                      <a:pt x="84" y="2821"/>
                    </a:lnTo>
                    <a:lnTo>
                      <a:pt x="71" y="2739"/>
                    </a:lnTo>
                    <a:lnTo>
                      <a:pt x="61" y="2655"/>
                    </a:lnTo>
                    <a:lnTo>
                      <a:pt x="52" y="2571"/>
                    </a:lnTo>
                    <a:lnTo>
                      <a:pt x="47" y="2485"/>
                    </a:lnTo>
                    <a:lnTo>
                      <a:pt x="42" y="2400"/>
                    </a:lnTo>
                    <a:lnTo>
                      <a:pt x="41" y="2314"/>
                    </a:lnTo>
                    <a:lnTo>
                      <a:pt x="42" y="2227"/>
                    </a:lnTo>
                    <a:lnTo>
                      <a:pt x="47" y="2141"/>
                    </a:lnTo>
                    <a:lnTo>
                      <a:pt x="52" y="2057"/>
                    </a:lnTo>
                    <a:lnTo>
                      <a:pt x="61" y="1971"/>
                    </a:lnTo>
                    <a:lnTo>
                      <a:pt x="71" y="1888"/>
                    </a:lnTo>
                    <a:lnTo>
                      <a:pt x="84" y="1805"/>
                    </a:lnTo>
                    <a:lnTo>
                      <a:pt x="99" y="1723"/>
                    </a:lnTo>
                    <a:lnTo>
                      <a:pt x="116" y="1641"/>
                    </a:lnTo>
                    <a:lnTo>
                      <a:pt x="134" y="1561"/>
                    </a:lnTo>
                    <a:lnTo>
                      <a:pt x="156" y="1481"/>
                    </a:lnTo>
                    <a:lnTo>
                      <a:pt x="180" y="1402"/>
                    </a:lnTo>
                    <a:lnTo>
                      <a:pt x="206" y="1323"/>
                    </a:lnTo>
                    <a:lnTo>
                      <a:pt x="233" y="1247"/>
                    </a:lnTo>
                    <a:lnTo>
                      <a:pt x="262" y="1170"/>
                    </a:lnTo>
                    <a:lnTo>
                      <a:pt x="294" y="1095"/>
                    </a:lnTo>
                    <a:lnTo>
                      <a:pt x="327" y="1021"/>
                    </a:lnTo>
                    <a:lnTo>
                      <a:pt x="362" y="947"/>
                    </a:lnTo>
                    <a:lnTo>
                      <a:pt x="400" y="876"/>
                    </a:lnTo>
                    <a:lnTo>
                      <a:pt x="439" y="805"/>
                    </a:lnTo>
                    <a:lnTo>
                      <a:pt x="479" y="736"/>
                    </a:lnTo>
                    <a:lnTo>
                      <a:pt x="522" y="667"/>
                    </a:lnTo>
                    <a:lnTo>
                      <a:pt x="567" y="600"/>
                    </a:lnTo>
                    <a:lnTo>
                      <a:pt x="612" y="534"/>
                    </a:lnTo>
                    <a:lnTo>
                      <a:pt x="661" y="469"/>
                    </a:lnTo>
                    <a:lnTo>
                      <a:pt x="709" y="405"/>
                    </a:lnTo>
                    <a:lnTo>
                      <a:pt x="760" y="343"/>
                    </a:lnTo>
                    <a:lnTo>
                      <a:pt x="813" y="282"/>
                    </a:lnTo>
                    <a:lnTo>
                      <a:pt x="867" y="223"/>
                    </a:lnTo>
                    <a:lnTo>
                      <a:pt x="923" y="166"/>
                    </a:lnTo>
                    <a:lnTo>
                      <a:pt x="979" y="108"/>
                    </a:lnTo>
                    <a:lnTo>
                      <a:pt x="1039" y="53"/>
                    </a:lnTo>
                    <a:lnTo>
                      <a:pt x="1098" y="0"/>
                    </a:lnTo>
                    <a:lnTo>
                      <a:pt x="1087" y="4"/>
                    </a:lnTo>
                    <a:lnTo>
                      <a:pt x="1075" y="6"/>
                    </a:lnTo>
                    <a:lnTo>
                      <a:pt x="1065" y="9"/>
                    </a:lnTo>
                    <a:lnTo>
                      <a:pt x="1053" y="12"/>
                    </a:lnTo>
                    <a:lnTo>
                      <a:pt x="1042" y="15"/>
                    </a:lnTo>
                    <a:lnTo>
                      <a:pt x="1031" y="19"/>
                    </a:lnTo>
                    <a:lnTo>
                      <a:pt x="1019" y="21"/>
                    </a:lnTo>
                    <a:lnTo>
                      <a:pt x="1008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349800" y="2074680"/>
                <a:ext cx="2447640" cy="1844640"/>
              </a:xfrm>
              <a:custGeom>
                <a:avLst/>
                <a:gdLst/>
                <a:ahLst/>
                <a:rect l="l" t="t" r="r" b="b"/>
                <a:pathLst>
                  <a:path w="6166" h="4650">
                    <a:moveTo>
                      <a:pt x="6166" y="2326"/>
                    </a:moveTo>
                    <a:lnTo>
                      <a:pt x="6165" y="2240"/>
                    </a:lnTo>
                    <a:lnTo>
                      <a:pt x="6162" y="2155"/>
                    </a:lnTo>
                    <a:lnTo>
                      <a:pt x="6156" y="2071"/>
                    </a:lnTo>
                    <a:lnTo>
                      <a:pt x="6148" y="1987"/>
                    </a:lnTo>
                    <a:lnTo>
                      <a:pt x="6138" y="1904"/>
                    </a:lnTo>
                    <a:lnTo>
                      <a:pt x="6125" y="1821"/>
                    </a:lnTo>
                    <a:lnTo>
                      <a:pt x="6111" y="1740"/>
                    </a:lnTo>
                    <a:lnTo>
                      <a:pt x="6094" y="1659"/>
                    </a:lnTo>
                    <a:lnTo>
                      <a:pt x="6076" y="1579"/>
                    </a:lnTo>
                    <a:lnTo>
                      <a:pt x="6055" y="1499"/>
                    </a:lnTo>
                    <a:lnTo>
                      <a:pt x="6031" y="1422"/>
                    </a:lnTo>
                    <a:lnTo>
                      <a:pt x="6007" y="1344"/>
                    </a:lnTo>
                    <a:lnTo>
                      <a:pt x="5980" y="1267"/>
                    </a:lnTo>
                    <a:lnTo>
                      <a:pt x="5951" y="1192"/>
                    </a:lnTo>
                    <a:lnTo>
                      <a:pt x="5920" y="1117"/>
                    </a:lnTo>
                    <a:lnTo>
                      <a:pt x="5888" y="1044"/>
                    </a:lnTo>
                    <a:lnTo>
                      <a:pt x="5853" y="970"/>
                    </a:lnTo>
                    <a:lnTo>
                      <a:pt x="5817" y="899"/>
                    </a:lnTo>
                    <a:lnTo>
                      <a:pt x="5779" y="829"/>
                    </a:lnTo>
                    <a:lnTo>
                      <a:pt x="5739" y="760"/>
                    </a:lnTo>
                    <a:lnTo>
                      <a:pt x="5698" y="691"/>
                    </a:lnTo>
                    <a:lnTo>
                      <a:pt x="5654" y="624"/>
                    </a:lnTo>
                    <a:lnTo>
                      <a:pt x="5609" y="558"/>
                    </a:lnTo>
                    <a:lnTo>
                      <a:pt x="5562" y="493"/>
                    </a:lnTo>
                    <a:lnTo>
                      <a:pt x="5514" y="430"/>
                    </a:lnTo>
                    <a:lnTo>
                      <a:pt x="5464" y="368"/>
                    </a:lnTo>
                    <a:lnTo>
                      <a:pt x="5413" y="307"/>
                    </a:lnTo>
                    <a:lnTo>
                      <a:pt x="5360" y="248"/>
                    </a:lnTo>
                    <a:lnTo>
                      <a:pt x="5305" y="189"/>
                    </a:lnTo>
                    <a:lnTo>
                      <a:pt x="5250" y="133"/>
                    </a:lnTo>
                    <a:lnTo>
                      <a:pt x="5193" y="78"/>
                    </a:lnTo>
                    <a:lnTo>
                      <a:pt x="5134" y="24"/>
                    </a:lnTo>
                    <a:lnTo>
                      <a:pt x="5123" y="21"/>
                    </a:lnTo>
                    <a:lnTo>
                      <a:pt x="5111" y="18"/>
                    </a:lnTo>
                    <a:lnTo>
                      <a:pt x="5100" y="16"/>
                    </a:lnTo>
                    <a:lnTo>
                      <a:pt x="5088" y="12"/>
                    </a:lnTo>
                    <a:lnTo>
                      <a:pt x="5077" y="9"/>
                    </a:lnTo>
                    <a:lnTo>
                      <a:pt x="5065" y="6"/>
                    </a:lnTo>
                    <a:lnTo>
                      <a:pt x="5055" y="4"/>
                    </a:lnTo>
                    <a:lnTo>
                      <a:pt x="5043" y="0"/>
                    </a:lnTo>
                    <a:lnTo>
                      <a:pt x="5104" y="53"/>
                    </a:lnTo>
                    <a:lnTo>
                      <a:pt x="5164" y="108"/>
                    </a:lnTo>
                    <a:lnTo>
                      <a:pt x="5222" y="165"/>
                    </a:lnTo>
                    <a:lnTo>
                      <a:pt x="5279" y="222"/>
                    </a:lnTo>
                    <a:lnTo>
                      <a:pt x="5334" y="281"/>
                    </a:lnTo>
                    <a:lnTo>
                      <a:pt x="5389" y="342"/>
                    </a:lnTo>
                    <a:lnTo>
                      <a:pt x="5440" y="404"/>
                    </a:lnTo>
                    <a:lnTo>
                      <a:pt x="5491" y="468"/>
                    </a:lnTo>
                    <a:lnTo>
                      <a:pt x="5540" y="533"/>
                    </a:lnTo>
                    <a:lnTo>
                      <a:pt x="5587" y="599"/>
                    </a:lnTo>
                    <a:lnTo>
                      <a:pt x="5633" y="667"/>
                    </a:lnTo>
                    <a:lnTo>
                      <a:pt x="5676" y="735"/>
                    </a:lnTo>
                    <a:lnTo>
                      <a:pt x="5718" y="805"/>
                    </a:lnTo>
                    <a:lnTo>
                      <a:pt x="5758" y="876"/>
                    </a:lnTo>
                    <a:lnTo>
                      <a:pt x="5796" y="949"/>
                    </a:lnTo>
                    <a:lnTo>
                      <a:pt x="5832" y="1022"/>
                    </a:lnTo>
                    <a:lnTo>
                      <a:pt x="5866" y="1097"/>
                    </a:lnTo>
                    <a:lnTo>
                      <a:pt x="5899" y="1172"/>
                    </a:lnTo>
                    <a:lnTo>
                      <a:pt x="5929" y="1249"/>
                    </a:lnTo>
                    <a:lnTo>
                      <a:pt x="5957" y="1327"/>
                    </a:lnTo>
                    <a:lnTo>
                      <a:pt x="5983" y="1406"/>
                    </a:lnTo>
                    <a:lnTo>
                      <a:pt x="6008" y="1485"/>
                    </a:lnTo>
                    <a:lnTo>
                      <a:pt x="6029" y="1565"/>
                    </a:lnTo>
                    <a:lnTo>
                      <a:pt x="6049" y="1647"/>
                    </a:lnTo>
                    <a:lnTo>
                      <a:pt x="6066" y="1730"/>
                    </a:lnTo>
                    <a:lnTo>
                      <a:pt x="6082" y="1813"/>
                    </a:lnTo>
                    <a:lnTo>
                      <a:pt x="6095" y="1896"/>
                    </a:lnTo>
                    <a:lnTo>
                      <a:pt x="6106" y="1980"/>
                    </a:lnTo>
                    <a:lnTo>
                      <a:pt x="6114" y="2065"/>
                    </a:lnTo>
                    <a:lnTo>
                      <a:pt x="6120" y="2152"/>
                    </a:lnTo>
                    <a:lnTo>
                      <a:pt x="6123" y="2238"/>
                    </a:lnTo>
                    <a:lnTo>
                      <a:pt x="6125" y="2326"/>
                    </a:lnTo>
                    <a:lnTo>
                      <a:pt x="6124" y="2376"/>
                    </a:lnTo>
                    <a:lnTo>
                      <a:pt x="6123" y="2427"/>
                    </a:lnTo>
                    <a:lnTo>
                      <a:pt x="6121" y="2478"/>
                    </a:lnTo>
                    <a:lnTo>
                      <a:pt x="6118" y="2529"/>
                    </a:lnTo>
                    <a:lnTo>
                      <a:pt x="6115" y="2579"/>
                    </a:lnTo>
                    <a:lnTo>
                      <a:pt x="6110" y="2629"/>
                    </a:lnTo>
                    <a:lnTo>
                      <a:pt x="6105" y="2679"/>
                    </a:lnTo>
                    <a:lnTo>
                      <a:pt x="6098" y="2729"/>
                    </a:lnTo>
                    <a:lnTo>
                      <a:pt x="6091" y="2778"/>
                    </a:lnTo>
                    <a:lnTo>
                      <a:pt x="6083" y="2827"/>
                    </a:lnTo>
                    <a:lnTo>
                      <a:pt x="6075" y="2875"/>
                    </a:lnTo>
                    <a:lnTo>
                      <a:pt x="6066" y="2924"/>
                    </a:lnTo>
                    <a:lnTo>
                      <a:pt x="6055" y="2973"/>
                    </a:lnTo>
                    <a:lnTo>
                      <a:pt x="6044" y="3021"/>
                    </a:lnTo>
                    <a:lnTo>
                      <a:pt x="6034" y="3069"/>
                    </a:lnTo>
                    <a:lnTo>
                      <a:pt x="6021" y="3116"/>
                    </a:lnTo>
                    <a:lnTo>
                      <a:pt x="6061" y="3127"/>
                    </a:lnTo>
                    <a:lnTo>
                      <a:pt x="6074" y="3078"/>
                    </a:lnTo>
                    <a:lnTo>
                      <a:pt x="6085" y="3030"/>
                    </a:lnTo>
                    <a:lnTo>
                      <a:pt x="6096" y="2981"/>
                    </a:lnTo>
                    <a:lnTo>
                      <a:pt x="6107" y="2933"/>
                    </a:lnTo>
                    <a:lnTo>
                      <a:pt x="6116" y="2883"/>
                    </a:lnTo>
                    <a:lnTo>
                      <a:pt x="6124" y="2834"/>
                    </a:lnTo>
                    <a:lnTo>
                      <a:pt x="6133" y="2785"/>
                    </a:lnTo>
                    <a:lnTo>
                      <a:pt x="6139" y="2734"/>
                    </a:lnTo>
                    <a:lnTo>
                      <a:pt x="6146" y="2684"/>
                    </a:lnTo>
                    <a:lnTo>
                      <a:pt x="6151" y="2633"/>
                    </a:lnTo>
                    <a:lnTo>
                      <a:pt x="6156" y="2583"/>
                    </a:lnTo>
                    <a:lnTo>
                      <a:pt x="6160" y="2532"/>
                    </a:lnTo>
                    <a:lnTo>
                      <a:pt x="6163" y="2480"/>
                    </a:lnTo>
                    <a:lnTo>
                      <a:pt x="6165" y="2429"/>
                    </a:lnTo>
                    <a:lnTo>
                      <a:pt x="6166" y="2378"/>
                    </a:lnTo>
                    <a:lnTo>
                      <a:pt x="6166" y="2326"/>
                    </a:lnTo>
                    <a:close/>
                    <a:moveTo>
                      <a:pt x="1033" y="24"/>
                    </a:moveTo>
                    <a:lnTo>
                      <a:pt x="973" y="78"/>
                    </a:lnTo>
                    <a:lnTo>
                      <a:pt x="916" y="133"/>
                    </a:lnTo>
                    <a:lnTo>
                      <a:pt x="860" y="189"/>
                    </a:lnTo>
                    <a:lnTo>
                      <a:pt x="806" y="248"/>
                    </a:lnTo>
                    <a:lnTo>
                      <a:pt x="753" y="307"/>
                    </a:lnTo>
                    <a:lnTo>
                      <a:pt x="702" y="368"/>
                    </a:lnTo>
                    <a:lnTo>
                      <a:pt x="653" y="430"/>
                    </a:lnTo>
                    <a:lnTo>
                      <a:pt x="604" y="493"/>
                    </a:lnTo>
                    <a:lnTo>
                      <a:pt x="557" y="558"/>
                    </a:lnTo>
                    <a:lnTo>
                      <a:pt x="512" y="624"/>
                    </a:lnTo>
                    <a:lnTo>
                      <a:pt x="469" y="691"/>
                    </a:lnTo>
                    <a:lnTo>
                      <a:pt x="427" y="759"/>
                    </a:lnTo>
                    <a:lnTo>
                      <a:pt x="388" y="829"/>
                    </a:lnTo>
                    <a:lnTo>
                      <a:pt x="349" y="899"/>
                    </a:lnTo>
                    <a:lnTo>
                      <a:pt x="313" y="970"/>
                    </a:lnTo>
                    <a:lnTo>
                      <a:pt x="279" y="1044"/>
                    </a:lnTo>
                    <a:lnTo>
                      <a:pt x="246" y="1117"/>
                    </a:lnTo>
                    <a:lnTo>
                      <a:pt x="215" y="1192"/>
                    </a:lnTo>
                    <a:lnTo>
                      <a:pt x="186" y="1267"/>
                    </a:lnTo>
                    <a:lnTo>
                      <a:pt x="160" y="1344"/>
                    </a:lnTo>
                    <a:lnTo>
                      <a:pt x="135" y="1422"/>
                    </a:lnTo>
                    <a:lnTo>
                      <a:pt x="111" y="1499"/>
                    </a:lnTo>
                    <a:lnTo>
                      <a:pt x="91" y="1579"/>
                    </a:lnTo>
                    <a:lnTo>
                      <a:pt x="72" y="1659"/>
                    </a:lnTo>
                    <a:lnTo>
                      <a:pt x="55" y="1740"/>
                    </a:lnTo>
                    <a:lnTo>
                      <a:pt x="41" y="1821"/>
                    </a:lnTo>
                    <a:lnTo>
                      <a:pt x="28" y="1904"/>
                    </a:lnTo>
                    <a:lnTo>
                      <a:pt x="18" y="1987"/>
                    </a:lnTo>
                    <a:lnTo>
                      <a:pt x="10" y="2071"/>
                    </a:lnTo>
                    <a:lnTo>
                      <a:pt x="4" y="2155"/>
                    </a:lnTo>
                    <a:lnTo>
                      <a:pt x="1" y="2240"/>
                    </a:lnTo>
                    <a:lnTo>
                      <a:pt x="0" y="2326"/>
                    </a:lnTo>
                    <a:lnTo>
                      <a:pt x="1" y="2411"/>
                    </a:lnTo>
                    <a:lnTo>
                      <a:pt x="4" y="2496"/>
                    </a:lnTo>
                    <a:lnTo>
                      <a:pt x="10" y="2581"/>
                    </a:lnTo>
                    <a:lnTo>
                      <a:pt x="18" y="2664"/>
                    </a:lnTo>
                    <a:lnTo>
                      <a:pt x="28" y="2747"/>
                    </a:lnTo>
                    <a:lnTo>
                      <a:pt x="41" y="2829"/>
                    </a:lnTo>
                    <a:lnTo>
                      <a:pt x="55" y="2911"/>
                    </a:lnTo>
                    <a:lnTo>
                      <a:pt x="72" y="2992"/>
                    </a:lnTo>
                    <a:lnTo>
                      <a:pt x="91" y="3072"/>
                    </a:lnTo>
                    <a:lnTo>
                      <a:pt x="111" y="3151"/>
                    </a:lnTo>
                    <a:lnTo>
                      <a:pt x="135" y="3230"/>
                    </a:lnTo>
                    <a:lnTo>
                      <a:pt x="160" y="3306"/>
                    </a:lnTo>
                    <a:lnTo>
                      <a:pt x="186" y="3383"/>
                    </a:lnTo>
                    <a:lnTo>
                      <a:pt x="215" y="3459"/>
                    </a:lnTo>
                    <a:lnTo>
                      <a:pt x="246" y="3534"/>
                    </a:lnTo>
                    <a:lnTo>
                      <a:pt x="279" y="3608"/>
                    </a:lnTo>
                    <a:lnTo>
                      <a:pt x="313" y="3680"/>
                    </a:lnTo>
                    <a:lnTo>
                      <a:pt x="349" y="3751"/>
                    </a:lnTo>
                    <a:lnTo>
                      <a:pt x="388" y="3823"/>
                    </a:lnTo>
                    <a:lnTo>
                      <a:pt x="427" y="3892"/>
                    </a:lnTo>
                    <a:lnTo>
                      <a:pt x="469" y="3960"/>
                    </a:lnTo>
                    <a:lnTo>
                      <a:pt x="512" y="4027"/>
                    </a:lnTo>
                    <a:lnTo>
                      <a:pt x="557" y="4093"/>
                    </a:lnTo>
                    <a:lnTo>
                      <a:pt x="604" y="4157"/>
                    </a:lnTo>
                    <a:lnTo>
                      <a:pt x="653" y="4221"/>
                    </a:lnTo>
                    <a:lnTo>
                      <a:pt x="702" y="4283"/>
                    </a:lnTo>
                    <a:lnTo>
                      <a:pt x="753" y="4344"/>
                    </a:lnTo>
                    <a:lnTo>
                      <a:pt x="806" y="4404"/>
                    </a:lnTo>
                    <a:lnTo>
                      <a:pt x="860" y="4461"/>
                    </a:lnTo>
                    <a:lnTo>
                      <a:pt x="916" y="4518"/>
                    </a:lnTo>
                    <a:lnTo>
                      <a:pt x="973" y="4573"/>
                    </a:lnTo>
                    <a:lnTo>
                      <a:pt x="1033" y="4626"/>
                    </a:lnTo>
                    <a:lnTo>
                      <a:pt x="1044" y="4629"/>
                    </a:lnTo>
                    <a:lnTo>
                      <a:pt x="1056" y="4633"/>
                    </a:lnTo>
                    <a:lnTo>
                      <a:pt x="1066" y="4636"/>
                    </a:lnTo>
                    <a:lnTo>
                      <a:pt x="1078" y="4639"/>
                    </a:lnTo>
                    <a:lnTo>
                      <a:pt x="1089" y="4641"/>
                    </a:lnTo>
                    <a:lnTo>
                      <a:pt x="1101" y="4644"/>
                    </a:lnTo>
                    <a:lnTo>
                      <a:pt x="1112" y="4648"/>
                    </a:lnTo>
                    <a:lnTo>
                      <a:pt x="1124" y="4650"/>
                    </a:lnTo>
                    <a:lnTo>
                      <a:pt x="1062" y="4597"/>
                    </a:lnTo>
                    <a:lnTo>
                      <a:pt x="1003" y="4543"/>
                    </a:lnTo>
                    <a:lnTo>
                      <a:pt x="944" y="4487"/>
                    </a:lnTo>
                    <a:lnTo>
                      <a:pt x="887" y="4428"/>
                    </a:lnTo>
                    <a:lnTo>
                      <a:pt x="832" y="4369"/>
                    </a:lnTo>
                    <a:lnTo>
                      <a:pt x="778" y="4309"/>
                    </a:lnTo>
                    <a:lnTo>
                      <a:pt x="726" y="4247"/>
                    </a:lnTo>
                    <a:lnTo>
                      <a:pt x="675" y="4183"/>
                    </a:lnTo>
                    <a:lnTo>
                      <a:pt x="627" y="4118"/>
                    </a:lnTo>
                    <a:lnTo>
                      <a:pt x="579" y="4052"/>
                    </a:lnTo>
                    <a:lnTo>
                      <a:pt x="534" y="3985"/>
                    </a:lnTo>
                    <a:lnTo>
                      <a:pt x="490" y="3915"/>
                    </a:lnTo>
                    <a:lnTo>
                      <a:pt x="448" y="3845"/>
                    </a:lnTo>
                    <a:lnTo>
                      <a:pt x="408" y="3774"/>
                    </a:lnTo>
                    <a:lnTo>
                      <a:pt x="370" y="3702"/>
                    </a:lnTo>
                    <a:lnTo>
                      <a:pt x="334" y="3628"/>
                    </a:lnTo>
                    <a:lnTo>
                      <a:pt x="300" y="3554"/>
                    </a:lnTo>
                    <a:lnTo>
                      <a:pt x="268" y="3478"/>
                    </a:lnTo>
                    <a:lnTo>
                      <a:pt x="238" y="3401"/>
                    </a:lnTo>
                    <a:lnTo>
                      <a:pt x="209" y="3324"/>
                    </a:lnTo>
                    <a:lnTo>
                      <a:pt x="184" y="3245"/>
                    </a:lnTo>
                    <a:lnTo>
                      <a:pt x="159" y="3166"/>
                    </a:lnTo>
                    <a:lnTo>
                      <a:pt x="137" y="3085"/>
                    </a:lnTo>
                    <a:lnTo>
                      <a:pt x="118" y="3004"/>
                    </a:lnTo>
                    <a:lnTo>
                      <a:pt x="100" y="2922"/>
                    </a:lnTo>
                    <a:lnTo>
                      <a:pt x="84" y="2839"/>
                    </a:lnTo>
                    <a:lnTo>
                      <a:pt x="71" y="2754"/>
                    </a:lnTo>
                    <a:lnTo>
                      <a:pt x="60" y="2670"/>
                    </a:lnTo>
                    <a:lnTo>
                      <a:pt x="53" y="2585"/>
                    </a:lnTo>
                    <a:lnTo>
                      <a:pt x="46" y="2500"/>
                    </a:lnTo>
                    <a:lnTo>
                      <a:pt x="43" y="2412"/>
                    </a:lnTo>
                    <a:lnTo>
                      <a:pt x="41" y="2326"/>
                    </a:lnTo>
                    <a:lnTo>
                      <a:pt x="43" y="2238"/>
                    </a:lnTo>
                    <a:lnTo>
                      <a:pt x="46" y="2152"/>
                    </a:lnTo>
                    <a:lnTo>
                      <a:pt x="53" y="2065"/>
                    </a:lnTo>
                    <a:lnTo>
                      <a:pt x="60" y="1980"/>
                    </a:lnTo>
                    <a:lnTo>
                      <a:pt x="71" y="1896"/>
                    </a:lnTo>
                    <a:lnTo>
                      <a:pt x="84" y="1813"/>
                    </a:lnTo>
                    <a:lnTo>
                      <a:pt x="100" y="1730"/>
                    </a:lnTo>
                    <a:lnTo>
                      <a:pt x="118" y="1647"/>
                    </a:lnTo>
                    <a:lnTo>
                      <a:pt x="137" y="1565"/>
                    </a:lnTo>
                    <a:lnTo>
                      <a:pt x="159" y="1485"/>
                    </a:lnTo>
                    <a:lnTo>
                      <a:pt x="184" y="1406"/>
                    </a:lnTo>
                    <a:lnTo>
                      <a:pt x="209" y="1327"/>
                    </a:lnTo>
                    <a:lnTo>
                      <a:pt x="238" y="1249"/>
                    </a:lnTo>
                    <a:lnTo>
                      <a:pt x="268" y="1172"/>
                    </a:lnTo>
                    <a:lnTo>
                      <a:pt x="300" y="1097"/>
                    </a:lnTo>
                    <a:lnTo>
                      <a:pt x="334" y="1022"/>
                    </a:lnTo>
                    <a:lnTo>
                      <a:pt x="370" y="949"/>
                    </a:lnTo>
                    <a:lnTo>
                      <a:pt x="408" y="876"/>
                    </a:lnTo>
                    <a:lnTo>
                      <a:pt x="448" y="805"/>
                    </a:lnTo>
                    <a:lnTo>
                      <a:pt x="490" y="735"/>
                    </a:lnTo>
                    <a:lnTo>
                      <a:pt x="534" y="667"/>
                    </a:lnTo>
                    <a:lnTo>
                      <a:pt x="579" y="599"/>
                    </a:lnTo>
                    <a:lnTo>
                      <a:pt x="627" y="533"/>
                    </a:lnTo>
                    <a:lnTo>
                      <a:pt x="675" y="468"/>
                    </a:lnTo>
                    <a:lnTo>
                      <a:pt x="726" y="404"/>
                    </a:lnTo>
                    <a:lnTo>
                      <a:pt x="778" y="342"/>
                    </a:lnTo>
                    <a:lnTo>
                      <a:pt x="832" y="281"/>
                    </a:lnTo>
                    <a:lnTo>
                      <a:pt x="887" y="222"/>
                    </a:lnTo>
                    <a:lnTo>
                      <a:pt x="944" y="165"/>
                    </a:lnTo>
                    <a:lnTo>
                      <a:pt x="1003" y="108"/>
                    </a:lnTo>
                    <a:lnTo>
                      <a:pt x="1062" y="53"/>
                    </a:lnTo>
                    <a:lnTo>
                      <a:pt x="1124" y="0"/>
                    </a:lnTo>
                    <a:lnTo>
                      <a:pt x="1112" y="4"/>
                    </a:lnTo>
                    <a:lnTo>
                      <a:pt x="1101" y="6"/>
                    </a:lnTo>
                    <a:lnTo>
                      <a:pt x="1089" y="9"/>
                    </a:lnTo>
                    <a:lnTo>
                      <a:pt x="1078" y="12"/>
                    </a:lnTo>
                    <a:lnTo>
                      <a:pt x="1066" y="16"/>
                    </a:lnTo>
                    <a:lnTo>
                      <a:pt x="1056" y="18"/>
                    </a:lnTo>
                    <a:lnTo>
                      <a:pt x="1044" y="21"/>
                    </a:lnTo>
                    <a:lnTo>
                      <a:pt x="1033" y="24"/>
                    </a:lnTo>
                    <a:close/>
                  </a:path>
                </a:pathLst>
              </a:custGeom>
              <a:solidFill>
                <a:srgbClr val="d5b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359160" y="2070000"/>
                <a:ext cx="2430360" cy="1854360"/>
              </a:xfrm>
              <a:custGeom>
                <a:avLst/>
                <a:gdLst/>
                <a:ahLst/>
                <a:rect l="l" t="t" r="r" b="b"/>
                <a:pathLst>
                  <a:path w="6126" h="4673">
                    <a:moveTo>
                      <a:pt x="6126" y="2337"/>
                    </a:moveTo>
                    <a:lnTo>
                      <a:pt x="6125" y="2250"/>
                    </a:lnTo>
                    <a:lnTo>
                      <a:pt x="6121" y="2164"/>
                    </a:lnTo>
                    <a:lnTo>
                      <a:pt x="6115" y="2080"/>
                    </a:lnTo>
                    <a:lnTo>
                      <a:pt x="6107" y="1994"/>
                    </a:lnTo>
                    <a:lnTo>
                      <a:pt x="6097" y="1911"/>
                    </a:lnTo>
                    <a:lnTo>
                      <a:pt x="6084" y="1828"/>
                    </a:lnTo>
                    <a:lnTo>
                      <a:pt x="6069" y="1746"/>
                    </a:lnTo>
                    <a:lnTo>
                      <a:pt x="6051" y="1664"/>
                    </a:lnTo>
                    <a:lnTo>
                      <a:pt x="6032" y="1584"/>
                    </a:lnTo>
                    <a:lnTo>
                      <a:pt x="6011" y="1504"/>
                    </a:lnTo>
                    <a:lnTo>
                      <a:pt x="5988" y="1425"/>
                    </a:lnTo>
                    <a:lnTo>
                      <a:pt x="5962" y="1346"/>
                    </a:lnTo>
                    <a:lnTo>
                      <a:pt x="5935" y="1270"/>
                    </a:lnTo>
                    <a:lnTo>
                      <a:pt x="5906" y="1193"/>
                    </a:lnTo>
                    <a:lnTo>
                      <a:pt x="5873" y="1118"/>
                    </a:lnTo>
                    <a:lnTo>
                      <a:pt x="5841" y="1044"/>
                    </a:lnTo>
                    <a:lnTo>
                      <a:pt x="5805" y="970"/>
                    </a:lnTo>
                    <a:lnTo>
                      <a:pt x="5767" y="899"/>
                    </a:lnTo>
                    <a:lnTo>
                      <a:pt x="5728" y="828"/>
                    </a:lnTo>
                    <a:lnTo>
                      <a:pt x="5688" y="759"/>
                    </a:lnTo>
                    <a:lnTo>
                      <a:pt x="5645" y="690"/>
                    </a:lnTo>
                    <a:lnTo>
                      <a:pt x="5601" y="623"/>
                    </a:lnTo>
                    <a:lnTo>
                      <a:pt x="5555" y="557"/>
                    </a:lnTo>
                    <a:lnTo>
                      <a:pt x="5507" y="492"/>
                    </a:lnTo>
                    <a:lnTo>
                      <a:pt x="5458" y="428"/>
                    </a:lnTo>
                    <a:lnTo>
                      <a:pt x="5407" y="366"/>
                    </a:lnTo>
                    <a:lnTo>
                      <a:pt x="5354" y="305"/>
                    </a:lnTo>
                    <a:lnTo>
                      <a:pt x="5300" y="246"/>
                    </a:lnTo>
                    <a:lnTo>
                      <a:pt x="5244" y="189"/>
                    </a:lnTo>
                    <a:lnTo>
                      <a:pt x="5188" y="131"/>
                    </a:lnTo>
                    <a:lnTo>
                      <a:pt x="5129" y="76"/>
                    </a:lnTo>
                    <a:lnTo>
                      <a:pt x="5069" y="23"/>
                    </a:lnTo>
                    <a:lnTo>
                      <a:pt x="5057" y="20"/>
                    </a:lnTo>
                    <a:lnTo>
                      <a:pt x="5045" y="17"/>
                    </a:lnTo>
                    <a:lnTo>
                      <a:pt x="5035" y="15"/>
                    </a:lnTo>
                    <a:lnTo>
                      <a:pt x="5023" y="11"/>
                    </a:lnTo>
                    <a:lnTo>
                      <a:pt x="5011" y="8"/>
                    </a:lnTo>
                    <a:lnTo>
                      <a:pt x="5000" y="5"/>
                    </a:lnTo>
                    <a:lnTo>
                      <a:pt x="4988" y="3"/>
                    </a:lnTo>
                    <a:lnTo>
                      <a:pt x="4976" y="0"/>
                    </a:lnTo>
                    <a:lnTo>
                      <a:pt x="5039" y="52"/>
                    </a:lnTo>
                    <a:lnTo>
                      <a:pt x="5101" y="106"/>
                    </a:lnTo>
                    <a:lnTo>
                      <a:pt x="5160" y="163"/>
                    </a:lnTo>
                    <a:lnTo>
                      <a:pt x="5218" y="220"/>
                    </a:lnTo>
                    <a:lnTo>
                      <a:pt x="5275" y="279"/>
                    </a:lnTo>
                    <a:lnTo>
                      <a:pt x="5330" y="340"/>
                    </a:lnTo>
                    <a:lnTo>
                      <a:pt x="5383" y="402"/>
                    </a:lnTo>
                    <a:lnTo>
                      <a:pt x="5434" y="466"/>
                    </a:lnTo>
                    <a:lnTo>
                      <a:pt x="5484" y="531"/>
                    </a:lnTo>
                    <a:lnTo>
                      <a:pt x="5533" y="597"/>
                    </a:lnTo>
                    <a:lnTo>
                      <a:pt x="5579" y="665"/>
                    </a:lnTo>
                    <a:lnTo>
                      <a:pt x="5624" y="734"/>
                    </a:lnTo>
                    <a:lnTo>
                      <a:pt x="5667" y="804"/>
                    </a:lnTo>
                    <a:lnTo>
                      <a:pt x="5708" y="875"/>
                    </a:lnTo>
                    <a:lnTo>
                      <a:pt x="5747" y="949"/>
                    </a:lnTo>
                    <a:lnTo>
                      <a:pt x="5783" y="1022"/>
                    </a:lnTo>
                    <a:lnTo>
                      <a:pt x="5819" y="1098"/>
                    </a:lnTo>
                    <a:lnTo>
                      <a:pt x="5852" y="1174"/>
                    </a:lnTo>
                    <a:lnTo>
                      <a:pt x="5883" y="1251"/>
                    </a:lnTo>
                    <a:lnTo>
                      <a:pt x="5912" y="1329"/>
                    </a:lnTo>
                    <a:lnTo>
                      <a:pt x="5939" y="1409"/>
                    </a:lnTo>
                    <a:lnTo>
                      <a:pt x="5964" y="1489"/>
                    </a:lnTo>
                    <a:lnTo>
                      <a:pt x="5985" y="1570"/>
                    </a:lnTo>
                    <a:lnTo>
                      <a:pt x="6006" y="1652"/>
                    </a:lnTo>
                    <a:lnTo>
                      <a:pt x="6024" y="1735"/>
                    </a:lnTo>
                    <a:lnTo>
                      <a:pt x="6040" y="1818"/>
                    </a:lnTo>
                    <a:lnTo>
                      <a:pt x="6054" y="1903"/>
                    </a:lnTo>
                    <a:lnTo>
                      <a:pt x="6064" y="1988"/>
                    </a:lnTo>
                    <a:lnTo>
                      <a:pt x="6073" y="2074"/>
                    </a:lnTo>
                    <a:lnTo>
                      <a:pt x="6080" y="2161"/>
                    </a:lnTo>
                    <a:lnTo>
                      <a:pt x="6083" y="2248"/>
                    </a:lnTo>
                    <a:lnTo>
                      <a:pt x="6084" y="2337"/>
                    </a:lnTo>
                    <a:lnTo>
                      <a:pt x="6084" y="2387"/>
                    </a:lnTo>
                    <a:lnTo>
                      <a:pt x="6083" y="2438"/>
                    </a:lnTo>
                    <a:lnTo>
                      <a:pt x="6081" y="2488"/>
                    </a:lnTo>
                    <a:lnTo>
                      <a:pt x="6077" y="2539"/>
                    </a:lnTo>
                    <a:lnTo>
                      <a:pt x="6074" y="2588"/>
                    </a:lnTo>
                    <a:lnTo>
                      <a:pt x="6069" y="2638"/>
                    </a:lnTo>
                    <a:lnTo>
                      <a:pt x="6063" y="2688"/>
                    </a:lnTo>
                    <a:lnTo>
                      <a:pt x="6058" y="2737"/>
                    </a:lnTo>
                    <a:lnTo>
                      <a:pt x="6050" y="2786"/>
                    </a:lnTo>
                    <a:lnTo>
                      <a:pt x="6043" y="2835"/>
                    </a:lnTo>
                    <a:lnTo>
                      <a:pt x="6034" y="2883"/>
                    </a:lnTo>
                    <a:lnTo>
                      <a:pt x="6025" y="2932"/>
                    </a:lnTo>
                    <a:lnTo>
                      <a:pt x="6016" y="2979"/>
                    </a:lnTo>
                    <a:lnTo>
                      <a:pt x="6005" y="3027"/>
                    </a:lnTo>
                    <a:lnTo>
                      <a:pt x="5993" y="3074"/>
                    </a:lnTo>
                    <a:lnTo>
                      <a:pt x="5981" y="3122"/>
                    </a:lnTo>
                    <a:lnTo>
                      <a:pt x="6021" y="3133"/>
                    </a:lnTo>
                    <a:lnTo>
                      <a:pt x="6033" y="3084"/>
                    </a:lnTo>
                    <a:lnTo>
                      <a:pt x="6045" y="3037"/>
                    </a:lnTo>
                    <a:lnTo>
                      <a:pt x="6056" y="2988"/>
                    </a:lnTo>
                    <a:lnTo>
                      <a:pt x="6067" y="2939"/>
                    </a:lnTo>
                    <a:lnTo>
                      <a:pt x="6075" y="2891"/>
                    </a:lnTo>
                    <a:lnTo>
                      <a:pt x="6084" y="2841"/>
                    </a:lnTo>
                    <a:lnTo>
                      <a:pt x="6092" y="2792"/>
                    </a:lnTo>
                    <a:lnTo>
                      <a:pt x="6099" y="2743"/>
                    </a:lnTo>
                    <a:lnTo>
                      <a:pt x="6105" y="2692"/>
                    </a:lnTo>
                    <a:lnTo>
                      <a:pt x="6111" y="2642"/>
                    </a:lnTo>
                    <a:lnTo>
                      <a:pt x="6115" y="2592"/>
                    </a:lnTo>
                    <a:lnTo>
                      <a:pt x="6119" y="2541"/>
                    </a:lnTo>
                    <a:lnTo>
                      <a:pt x="6122" y="2490"/>
                    </a:lnTo>
                    <a:lnTo>
                      <a:pt x="6124" y="2439"/>
                    </a:lnTo>
                    <a:lnTo>
                      <a:pt x="6125" y="2387"/>
                    </a:lnTo>
                    <a:lnTo>
                      <a:pt x="6126" y="2337"/>
                    </a:lnTo>
                    <a:close/>
                    <a:moveTo>
                      <a:pt x="1057" y="23"/>
                    </a:moveTo>
                    <a:lnTo>
                      <a:pt x="998" y="76"/>
                    </a:lnTo>
                    <a:lnTo>
                      <a:pt x="938" y="131"/>
                    </a:lnTo>
                    <a:lnTo>
                      <a:pt x="882" y="189"/>
                    </a:lnTo>
                    <a:lnTo>
                      <a:pt x="826" y="246"/>
                    </a:lnTo>
                    <a:lnTo>
                      <a:pt x="772" y="305"/>
                    </a:lnTo>
                    <a:lnTo>
                      <a:pt x="719" y="366"/>
                    </a:lnTo>
                    <a:lnTo>
                      <a:pt x="668" y="428"/>
                    </a:lnTo>
                    <a:lnTo>
                      <a:pt x="620" y="492"/>
                    </a:lnTo>
                    <a:lnTo>
                      <a:pt x="571" y="557"/>
                    </a:lnTo>
                    <a:lnTo>
                      <a:pt x="526" y="623"/>
                    </a:lnTo>
                    <a:lnTo>
                      <a:pt x="481" y="690"/>
                    </a:lnTo>
                    <a:lnTo>
                      <a:pt x="438" y="759"/>
                    </a:lnTo>
                    <a:lnTo>
                      <a:pt x="398" y="828"/>
                    </a:lnTo>
                    <a:lnTo>
                      <a:pt x="359" y="899"/>
                    </a:lnTo>
                    <a:lnTo>
                      <a:pt x="321" y="970"/>
                    </a:lnTo>
                    <a:lnTo>
                      <a:pt x="286" y="1044"/>
                    </a:lnTo>
                    <a:lnTo>
                      <a:pt x="253" y="1118"/>
                    </a:lnTo>
                    <a:lnTo>
                      <a:pt x="221" y="1193"/>
                    </a:lnTo>
                    <a:lnTo>
                      <a:pt x="192" y="1270"/>
                    </a:lnTo>
                    <a:lnTo>
                      <a:pt x="165" y="1346"/>
                    </a:lnTo>
                    <a:lnTo>
                      <a:pt x="139" y="1425"/>
                    </a:lnTo>
                    <a:lnTo>
                      <a:pt x="115" y="1504"/>
                    </a:lnTo>
                    <a:lnTo>
                      <a:pt x="93" y="1584"/>
                    </a:lnTo>
                    <a:lnTo>
                      <a:pt x="75" y="1664"/>
                    </a:lnTo>
                    <a:lnTo>
                      <a:pt x="58" y="1746"/>
                    </a:lnTo>
                    <a:lnTo>
                      <a:pt x="43" y="1828"/>
                    </a:lnTo>
                    <a:lnTo>
                      <a:pt x="30" y="1911"/>
                    </a:lnTo>
                    <a:lnTo>
                      <a:pt x="20" y="1994"/>
                    </a:lnTo>
                    <a:lnTo>
                      <a:pt x="11" y="2080"/>
                    </a:lnTo>
                    <a:lnTo>
                      <a:pt x="6" y="2164"/>
                    </a:lnTo>
                    <a:lnTo>
                      <a:pt x="1" y="2250"/>
                    </a:lnTo>
                    <a:lnTo>
                      <a:pt x="0" y="2337"/>
                    </a:lnTo>
                    <a:lnTo>
                      <a:pt x="1" y="2423"/>
                    </a:lnTo>
                    <a:lnTo>
                      <a:pt x="6" y="2508"/>
                    </a:lnTo>
                    <a:lnTo>
                      <a:pt x="11" y="2594"/>
                    </a:lnTo>
                    <a:lnTo>
                      <a:pt x="20" y="2678"/>
                    </a:lnTo>
                    <a:lnTo>
                      <a:pt x="30" y="2762"/>
                    </a:lnTo>
                    <a:lnTo>
                      <a:pt x="43" y="2844"/>
                    </a:lnTo>
                    <a:lnTo>
                      <a:pt x="58" y="2927"/>
                    </a:lnTo>
                    <a:lnTo>
                      <a:pt x="75" y="3008"/>
                    </a:lnTo>
                    <a:lnTo>
                      <a:pt x="93" y="3089"/>
                    </a:lnTo>
                    <a:lnTo>
                      <a:pt x="115" y="3169"/>
                    </a:lnTo>
                    <a:lnTo>
                      <a:pt x="139" y="3248"/>
                    </a:lnTo>
                    <a:lnTo>
                      <a:pt x="165" y="3326"/>
                    </a:lnTo>
                    <a:lnTo>
                      <a:pt x="192" y="3404"/>
                    </a:lnTo>
                    <a:lnTo>
                      <a:pt x="221" y="3479"/>
                    </a:lnTo>
                    <a:lnTo>
                      <a:pt x="253" y="3555"/>
                    </a:lnTo>
                    <a:lnTo>
                      <a:pt x="286" y="3628"/>
                    </a:lnTo>
                    <a:lnTo>
                      <a:pt x="321" y="3702"/>
                    </a:lnTo>
                    <a:lnTo>
                      <a:pt x="359" y="3774"/>
                    </a:lnTo>
                    <a:lnTo>
                      <a:pt x="398" y="3844"/>
                    </a:lnTo>
                    <a:lnTo>
                      <a:pt x="438" y="3915"/>
                    </a:lnTo>
                    <a:lnTo>
                      <a:pt x="481" y="3983"/>
                    </a:lnTo>
                    <a:lnTo>
                      <a:pt x="526" y="4051"/>
                    </a:lnTo>
                    <a:lnTo>
                      <a:pt x="571" y="4117"/>
                    </a:lnTo>
                    <a:lnTo>
                      <a:pt x="620" y="4181"/>
                    </a:lnTo>
                    <a:lnTo>
                      <a:pt x="668" y="4245"/>
                    </a:lnTo>
                    <a:lnTo>
                      <a:pt x="719" y="4307"/>
                    </a:lnTo>
                    <a:lnTo>
                      <a:pt x="772" y="4367"/>
                    </a:lnTo>
                    <a:lnTo>
                      <a:pt x="826" y="4426"/>
                    </a:lnTo>
                    <a:lnTo>
                      <a:pt x="882" y="4485"/>
                    </a:lnTo>
                    <a:lnTo>
                      <a:pt x="938" y="4541"/>
                    </a:lnTo>
                    <a:lnTo>
                      <a:pt x="998" y="4596"/>
                    </a:lnTo>
                    <a:lnTo>
                      <a:pt x="1057" y="4650"/>
                    </a:lnTo>
                    <a:lnTo>
                      <a:pt x="1069" y="4652"/>
                    </a:lnTo>
                    <a:lnTo>
                      <a:pt x="1080" y="4655"/>
                    </a:lnTo>
                    <a:lnTo>
                      <a:pt x="1092" y="4659"/>
                    </a:lnTo>
                    <a:lnTo>
                      <a:pt x="1104" y="4662"/>
                    </a:lnTo>
                    <a:lnTo>
                      <a:pt x="1116" y="4664"/>
                    </a:lnTo>
                    <a:lnTo>
                      <a:pt x="1126" y="4667"/>
                    </a:lnTo>
                    <a:lnTo>
                      <a:pt x="1138" y="4671"/>
                    </a:lnTo>
                    <a:lnTo>
                      <a:pt x="1150" y="4673"/>
                    </a:lnTo>
                    <a:lnTo>
                      <a:pt x="1087" y="4621"/>
                    </a:lnTo>
                    <a:lnTo>
                      <a:pt x="1026" y="4566"/>
                    </a:lnTo>
                    <a:lnTo>
                      <a:pt x="966" y="4510"/>
                    </a:lnTo>
                    <a:lnTo>
                      <a:pt x="908" y="4452"/>
                    </a:lnTo>
                    <a:lnTo>
                      <a:pt x="852" y="4393"/>
                    </a:lnTo>
                    <a:lnTo>
                      <a:pt x="797" y="4333"/>
                    </a:lnTo>
                    <a:lnTo>
                      <a:pt x="744" y="4271"/>
                    </a:lnTo>
                    <a:lnTo>
                      <a:pt x="692" y="4207"/>
                    </a:lnTo>
                    <a:lnTo>
                      <a:pt x="641" y="4141"/>
                    </a:lnTo>
                    <a:lnTo>
                      <a:pt x="594" y="4075"/>
                    </a:lnTo>
                    <a:lnTo>
                      <a:pt x="547" y="4007"/>
                    </a:lnTo>
                    <a:lnTo>
                      <a:pt x="503" y="3938"/>
                    </a:lnTo>
                    <a:lnTo>
                      <a:pt x="460" y="3868"/>
                    </a:lnTo>
                    <a:lnTo>
                      <a:pt x="419" y="3797"/>
                    </a:lnTo>
                    <a:lnTo>
                      <a:pt x="380" y="3724"/>
                    </a:lnTo>
                    <a:lnTo>
                      <a:pt x="343" y="3650"/>
                    </a:lnTo>
                    <a:lnTo>
                      <a:pt x="307" y="3575"/>
                    </a:lnTo>
                    <a:lnTo>
                      <a:pt x="275" y="3499"/>
                    </a:lnTo>
                    <a:lnTo>
                      <a:pt x="244" y="3422"/>
                    </a:lnTo>
                    <a:lnTo>
                      <a:pt x="214" y="3343"/>
                    </a:lnTo>
                    <a:lnTo>
                      <a:pt x="187" y="3264"/>
                    </a:lnTo>
                    <a:lnTo>
                      <a:pt x="162" y="3184"/>
                    </a:lnTo>
                    <a:lnTo>
                      <a:pt x="141" y="3103"/>
                    </a:lnTo>
                    <a:lnTo>
                      <a:pt x="120" y="3021"/>
                    </a:lnTo>
                    <a:lnTo>
                      <a:pt x="102" y="2938"/>
                    </a:lnTo>
                    <a:lnTo>
                      <a:pt x="87" y="2854"/>
                    </a:lnTo>
                    <a:lnTo>
                      <a:pt x="73" y="2770"/>
                    </a:lnTo>
                    <a:lnTo>
                      <a:pt x="62" y="2684"/>
                    </a:lnTo>
                    <a:lnTo>
                      <a:pt x="53" y="2598"/>
                    </a:lnTo>
                    <a:lnTo>
                      <a:pt x="47" y="2512"/>
                    </a:lnTo>
                    <a:lnTo>
                      <a:pt x="44" y="2424"/>
                    </a:lnTo>
                    <a:lnTo>
                      <a:pt x="43" y="2337"/>
                    </a:lnTo>
                    <a:lnTo>
                      <a:pt x="44" y="2248"/>
                    </a:lnTo>
                    <a:lnTo>
                      <a:pt x="47" y="2161"/>
                    </a:lnTo>
                    <a:lnTo>
                      <a:pt x="53" y="2074"/>
                    </a:lnTo>
                    <a:lnTo>
                      <a:pt x="62" y="1988"/>
                    </a:lnTo>
                    <a:lnTo>
                      <a:pt x="73" y="1903"/>
                    </a:lnTo>
                    <a:lnTo>
                      <a:pt x="87" y="1818"/>
                    </a:lnTo>
                    <a:lnTo>
                      <a:pt x="102" y="1735"/>
                    </a:lnTo>
                    <a:lnTo>
                      <a:pt x="120" y="1652"/>
                    </a:lnTo>
                    <a:lnTo>
                      <a:pt x="141" y="1570"/>
                    </a:lnTo>
                    <a:lnTo>
                      <a:pt x="162" y="1489"/>
                    </a:lnTo>
                    <a:lnTo>
                      <a:pt x="187" y="1408"/>
                    </a:lnTo>
                    <a:lnTo>
                      <a:pt x="214" y="1329"/>
                    </a:lnTo>
                    <a:lnTo>
                      <a:pt x="244" y="1251"/>
                    </a:lnTo>
                    <a:lnTo>
                      <a:pt x="275" y="1174"/>
                    </a:lnTo>
                    <a:lnTo>
                      <a:pt x="307" y="1098"/>
                    </a:lnTo>
                    <a:lnTo>
                      <a:pt x="343" y="1022"/>
                    </a:lnTo>
                    <a:lnTo>
                      <a:pt x="380" y="949"/>
                    </a:lnTo>
                    <a:lnTo>
                      <a:pt x="419" y="875"/>
                    </a:lnTo>
                    <a:lnTo>
                      <a:pt x="460" y="804"/>
                    </a:lnTo>
                    <a:lnTo>
                      <a:pt x="503" y="734"/>
                    </a:lnTo>
                    <a:lnTo>
                      <a:pt x="547" y="665"/>
                    </a:lnTo>
                    <a:lnTo>
                      <a:pt x="594" y="597"/>
                    </a:lnTo>
                    <a:lnTo>
                      <a:pt x="641" y="531"/>
                    </a:lnTo>
                    <a:lnTo>
                      <a:pt x="692" y="466"/>
                    </a:lnTo>
                    <a:lnTo>
                      <a:pt x="744" y="402"/>
                    </a:lnTo>
                    <a:lnTo>
                      <a:pt x="797" y="340"/>
                    </a:lnTo>
                    <a:lnTo>
                      <a:pt x="852" y="279"/>
                    </a:lnTo>
                    <a:lnTo>
                      <a:pt x="908" y="220"/>
                    </a:lnTo>
                    <a:lnTo>
                      <a:pt x="966" y="163"/>
                    </a:lnTo>
                    <a:lnTo>
                      <a:pt x="1026" y="106"/>
                    </a:lnTo>
                    <a:lnTo>
                      <a:pt x="1087" y="52"/>
                    </a:lnTo>
                    <a:lnTo>
                      <a:pt x="1150" y="0"/>
                    </a:lnTo>
                    <a:lnTo>
                      <a:pt x="1138" y="3"/>
                    </a:lnTo>
                    <a:lnTo>
                      <a:pt x="1126" y="5"/>
                    </a:lnTo>
                    <a:lnTo>
                      <a:pt x="1116" y="8"/>
                    </a:lnTo>
                    <a:lnTo>
                      <a:pt x="1104" y="11"/>
                    </a:lnTo>
                    <a:lnTo>
                      <a:pt x="1092" y="15"/>
                    </a:lnTo>
                    <a:lnTo>
                      <a:pt x="1080" y="17"/>
                    </a:lnTo>
                    <a:lnTo>
                      <a:pt x="1069" y="20"/>
                    </a:lnTo>
                    <a:lnTo>
                      <a:pt x="105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3367080" y="2065320"/>
                <a:ext cx="2414520" cy="1863720"/>
              </a:xfrm>
              <a:custGeom>
                <a:avLst/>
                <a:gdLst/>
                <a:ahLst/>
                <a:rect l="l" t="t" r="r" b="b"/>
                <a:pathLst>
                  <a:path w="6084" h="4696">
                    <a:moveTo>
                      <a:pt x="6084" y="2348"/>
                    </a:moveTo>
                    <a:lnTo>
                      <a:pt x="6082" y="2260"/>
                    </a:lnTo>
                    <a:lnTo>
                      <a:pt x="6079" y="2174"/>
                    </a:lnTo>
                    <a:lnTo>
                      <a:pt x="6073" y="2087"/>
                    </a:lnTo>
                    <a:lnTo>
                      <a:pt x="6065" y="2002"/>
                    </a:lnTo>
                    <a:lnTo>
                      <a:pt x="6054" y="1918"/>
                    </a:lnTo>
                    <a:lnTo>
                      <a:pt x="6041" y="1835"/>
                    </a:lnTo>
                    <a:lnTo>
                      <a:pt x="6025" y="1752"/>
                    </a:lnTo>
                    <a:lnTo>
                      <a:pt x="6008" y="1669"/>
                    </a:lnTo>
                    <a:lnTo>
                      <a:pt x="5988" y="1587"/>
                    </a:lnTo>
                    <a:lnTo>
                      <a:pt x="5967" y="1507"/>
                    </a:lnTo>
                    <a:lnTo>
                      <a:pt x="5942" y="1428"/>
                    </a:lnTo>
                    <a:lnTo>
                      <a:pt x="5916" y="1349"/>
                    </a:lnTo>
                    <a:lnTo>
                      <a:pt x="5888" y="1271"/>
                    </a:lnTo>
                    <a:lnTo>
                      <a:pt x="5858" y="1194"/>
                    </a:lnTo>
                    <a:lnTo>
                      <a:pt x="5825" y="1119"/>
                    </a:lnTo>
                    <a:lnTo>
                      <a:pt x="5791" y="1044"/>
                    </a:lnTo>
                    <a:lnTo>
                      <a:pt x="5755" y="971"/>
                    </a:lnTo>
                    <a:lnTo>
                      <a:pt x="5717" y="898"/>
                    </a:lnTo>
                    <a:lnTo>
                      <a:pt x="5677" y="827"/>
                    </a:lnTo>
                    <a:lnTo>
                      <a:pt x="5635" y="757"/>
                    </a:lnTo>
                    <a:lnTo>
                      <a:pt x="5592" y="689"/>
                    </a:lnTo>
                    <a:lnTo>
                      <a:pt x="5546" y="621"/>
                    </a:lnTo>
                    <a:lnTo>
                      <a:pt x="5499" y="555"/>
                    </a:lnTo>
                    <a:lnTo>
                      <a:pt x="5450" y="490"/>
                    </a:lnTo>
                    <a:lnTo>
                      <a:pt x="5399" y="426"/>
                    </a:lnTo>
                    <a:lnTo>
                      <a:pt x="5348" y="364"/>
                    </a:lnTo>
                    <a:lnTo>
                      <a:pt x="5293" y="303"/>
                    </a:lnTo>
                    <a:lnTo>
                      <a:pt x="5238" y="244"/>
                    </a:lnTo>
                    <a:lnTo>
                      <a:pt x="5181" y="187"/>
                    </a:lnTo>
                    <a:lnTo>
                      <a:pt x="5123" y="130"/>
                    </a:lnTo>
                    <a:lnTo>
                      <a:pt x="5063" y="75"/>
                    </a:lnTo>
                    <a:lnTo>
                      <a:pt x="5002" y="22"/>
                    </a:lnTo>
                    <a:lnTo>
                      <a:pt x="4990" y="19"/>
                    </a:lnTo>
                    <a:lnTo>
                      <a:pt x="4979" y="17"/>
                    </a:lnTo>
                    <a:lnTo>
                      <a:pt x="4967" y="14"/>
                    </a:lnTo>
                    <a:lnTo>
                      <a:pt x="4955" y="11"/>
                    </a:lnTo>
                    <a:lnTo>
                      <a:pt x="4943" y="7"/>
                    </a:lnTo>
                    <a:lnTo>
                      <a:pt x="4932" y="5"/>
                    </a:lnTo>
                    <a:lnTo>
                      <a:pt x="4920" y="2"/>
                    </a:lnTo>
                    <a:lnTo>
                      <a:pt x="4908" y="0"/>
                    </a:lnTo>
                    <a:lnTo>
                      <a:pt x="4971" y="52"/>
                    </a:lnTo>
                    <a:lnTo>
                      <a:pt x="5034" y="106"/>
                    </a:lnTo>
                    <a:lnTo>
                      <a:pt x="5096" y="162"/>
                    </a:lnTo>
                    <a:lnTo>
                      <a:pt x="5155" y="219"/>
                    </a:lnTo>
                    <a:lnTo>
                      <a:pt x="5212" y="278"/>
                    </a:lnTo>
                    <a:lnTo>
                      <a:pt x="5270" y="339"/>
                    </a:lnTo>
                    <a:lnTo>
                      <a:pt x="5324" y="400"/>
                    </a:lnTo>
                    <a:lnTo>
                      <a:pt x="5377" y="464"/>
                    </a:lnTo>
                    <a:lnTo>
                      <a:pt x="5427" y="529"/>
                    </a:lnTo>
                    <a:lnTo>
                      <a:pt x="5477" y="596"/>
                    </a:lnTo>
                    <a:lnTo>
                      <a:pt x="5525" y="664"/>
                    </a:lnTo>
                    <a:lnTo>
                      <a:pt x="5570" y="733"/>
                    </a:lnTo>
                    <a:lnTo>
                      <a:pt x="5614" y="803"/>
                    </a:lnTo>
                    <a:lnTo>
                      <a:pt x="5657" y="876"/>
                    </a:lnTo>
                    <a:lnTo>
                      <a:pt x="5697" y="948"/>
                    </a:lnTo>
                    <a:lnTo>
                      <a:pt x="5734" y="1023"/>
                    </a:lnTo>
                    <a:lnTo>
                      <a:pt x="5770" y="1098"/>
                    </a:lnTo>
                    <a:lnTo>
                      <a:pt x="5805" y="1175"/>
                    </a:lnTo>
                    <a:lnTo>
                      <a:pt x="5836" y="1253"/>
                    </a:lnTo>
                    <a:lnTo>
                      <a:pt x="5865" y="1331"/>
                    </a:lnTo>
                    <a:lnTo>
                      <a:pt x="5893" y="1411"/>
                    </a:lnTo>
                    <a:lnTo>
                      <a:pt x="5918" y="1492"/>
                    </a:lnTo>
                    <a:lnTo>
                      <a:pt x="5942" y="1573"/>
                    </a:lnTo>
                    <a:lnTo>
                      <a:pt x="5962" y="1656"/>
                    </a:lnTo>
                    <a:lnTo>
                      <a:pt x="5981" y="1740"/>
                    </a:lnTo>
                    <a:lnTo>
                      <a:pt x="5997" y="1825"/>
                    </a:lnTo>
                    <a:lnTo>
                      <a:pt x="6011" y="1910"/>
                    </a:lnTo>
                    <a:lnTo>
                      <a:pt x="6022" y="1996"/>
                    </a:lnTo>
                    <a:lnTo>
                      <a:pt x="6030" y="2083"/>
                    </a:lnTo>
                    <a:lnTo>
                      <a:pt x="6037" y="2171"/>
                    </a:lnTo>
                    <a:lnTo>
                      <a:pt x="6041" y="2258"/>
                    </a:lnTo>
                    <a:lnTo>
                      <a:pt x="6042" y="2348"/>
                    </a:lnTo>
                    <a:lnTo>
                      <a:pt x="6042" y="2397"/>
                    </a:lnTo>
                    <a:lnTo>
                      <a:pt x="6040" y="2448"/>
                    </a:lnTo>
                    <a:lnTo>
                      <a:pt x="6039" y="2498"/>
                    </a:lnTo>
                    <a:lnTo>
                      <a:pt x="6036" y="2549"/>
                    </a:lnTo>
                    <a:lnTo>
                      <a:pt x="6031" y="2597"/>
                    </a:lnTo>
                    <a:lnTo>
                      <a:pt x="6027" y="2647"/>
                    </a:lnTo>
                    <a:lnTo>
                      <a:pt x="6022" y="2697"/>
                    </a:lnTo>
                    <a:lnTo>
                      <a:pt x="6016" y="2745"/>
                    </a:lnTo>
                    <a:lnTo>
                      <a:pt x="6009" y="2794"/>
                    </a:lnTo>
                    <a:lnTo>
                      <a:pt x="6001" y="2842"/>
                    </a:lnTo>
                    <a:lnTo>
                      <a:pt x="5993" y="2890"/>
                    </a:lnTo>
                    <a:lnTo>
                      <a:pt x="5984" y="2938"/>
                    </a:lnTo>
                    <a:lnTo>
                      <a:pt x="5974" y="2986"/>
                    </a:lnTo>
                    <a:lnTo>
                      <a:pt x="5963" y="3033"/>
                    </a:lnTo>
                    <a:lnTo>
                      <a:pt x="5952" y="3080"/>
                    </a:lnTo>
                    <a:lnTo>
                      <a:pt x="5940" y="3127"/>
                    </a:lnTo>
                    <a:lnTo>
                      <a:pt x="5980" y="3138"/>
                    </a:lnTo>
                    <a:lnTo>
                      <a:pt x="5993" y="3091"/>
                    </a:lnTo>
                    <a:lnTo>
                      <a:pt x="6003" y="3043"/>
                    </a:lnTo>
                    <a:lnTo>
                      <a:pt x="6014" y="2995"/>
                    </a:lnTo>
                    <a:lnTo>
                      <a:pt x="6025" y="2946"/>
                    </a:lnTo>
                    <a:lnTo>
                      <a:pt x="6034" y="2897"/>
                    </a:lnTo>
                    <a:lnTo>
                      <a:pt x="6042" y="2849"/>
                    </a:lnTo>
                    <a:lnTo>
                      <a:pt x="6050" y="2800"/>
                    </a:lnTo>
                    <a:lnTo>
                      <a:pt x="6057" y="2751"/>
                    </a:lnTo>
                    <a:lnTo>
                      <a:pt x="6064" y="2701"/>
                    </a:lnTo>
                    <a:lnTo>
                      <a:pt x="6069" y="2651"/>
                    </a:lnTo>
                    <a:lnTo>
                      <a:pt x="6074" y="2601"/>
                    </a:lnTo>
                    <a:lnTo>
                      <a:pt x="6077" y="2551"/>
                    </a:lnTo>
                    <a:lnTo>
                      <a:pt x="6080" y="2500"/>
                    </a:lnTo>
                    <a:lnTo>
                      <a:pt x="6082" y="2449"/>
                    </a:lnTo>
                    <a:lnTo>
                      <a:pt x="6083" y="2398"/>
                    </a:lnTo>
                    <a:lnTo>
                      <a:pt x="6084" y="2348"/>
                    </a:lnTo>
                    <a:close/>
                    <a:moveTo>
                      <a:pt x="1083" y="22"/>
                    </a:moveTo>
                    <a:lnTo>
                      <a:pt x="1021" y="75"/>
                    </a:lnTo>
                    <a:lnTo>
                      <a:pt x="962" y="130"/>
                    </a:lnTo>
                    <a:lnTo>
                      <a:pt x="903" y="187"/>
                    </a:lnTo>
                    <a:lnTo>
                      <a:pt x="846" y="244"/>
                    </a:lnTo>
                    <a:lnTo>
                      <a:pt x="791" y="303"/>
                    </a:lnTo>
                    <a:lnTo>
                      <a:pt x="737" y="364"/>
                    </a:lnTo>
                    <a:lnTo>
                      <a:pt x="685" y="426"/>
                    </a:lnTo>
                    <a:lnTo>
                      <a:pt x="634" y="490"/>
                    </a:lnTo>
                    <a:lnTo>
                      <a:pt x="586" y="555"/>
                    </a:lnTo>
                    <a:lnTo>
                      <a:pt x="538" y="621"/>
                    </a:lnTo>
                    <a:lnTo>
                      <a:pt x="493" y="689"/>
                    </a:lnTo>
                    <a:lnTo>
                      <a:pt x="449" y="757"/>
                    </a:lnTo>
                    <a:lnTo>
                      <a:pt x="407" y="827"/>
                    </a:lnTo>
                    <a:lnTo>
                      <a:pt x="367" y="898"/>
                    </a:lnTo>
                    <a:lnTo>
                      <a:pt x="329" y="971"/>
                    </a:lnTo>
                    <a:lnTo>
                      <a:pt x="293" y="1044"/>
                    </a:lnTo>
                    <a:lnTo>
                      <a:pt x="259" y="1119"/>
                    </a:lnTo>
                    <a:lnTo>
                      <a:pt x="227" y="1194"/>
                    </a:lnTo>
                    <a:lnTo>
                      <a:pt x="197" y="1271"/>
                    </a:lnTo>
                    <a:lnTo>
                      <a:pt x="168" y="1349"/>
                    </a:lnTo>
                    <a:lnTo>
                      <a:pt x="143" y="1428"/>
                    </a:lnTo>
                    <a:lnTo>
                      <a:pt x="118" y="1507"/>
                    </a:lnTo>
                    <a:lnTo>
                      <a:pt x="96" y="1587"/>
                    </a:lnTo>
                    <a:lnTo>
                      <a:pt x="77" y="1669"/>
                    </a:lnTo>
                    <a:lnTo>
                      <a:pt x="59" y="1752"/>
                    </a:lnTo>
                    <a:lnTo>
                      <a:pt x="43" y="1835"/>
                    </a:lnTo>
                    <a:lnTo>
                      <a:pt x="30" y="1918"/>
                    </a:lnTo>
                    <a:lnTo>
                      <a:pt x="19" y="2002"/>
                    </a:lnTo>
                    <a:lnTo>
                      <a:pt x="12" y="2087"/>
                    </a:lnTo>
                    <a:lnTo>
                      <a:pt x="5" y="2174"/>
                    </a:lnTo>
                    <a:lnTo>
                      <a:pt x="2" y="2260"/>
                    </a:lnTo>
                    <a:lnTo>
                      <a:pt x="0" y="2348"/>
                    </a:lnTo>
                    <a:lnTo>
                      <a:pt x="2" y="2434"/>
                    </a:lnTo>
                    <a:lnTo>
                      <a:pt x="5" y="2522"/>
                    </a:lnTo>
                    <a:lnTo>
                      <a:pt x="12" y="2607"/>
                    </a:lnTo>
                    <a:lnTo>
                      <a:pt x="19" y="2692"/>
                    </a:lnTo>
                    <a:lnTo>
                      <a:pt x="30" y="2776"/>
                    </a:lnTo>
                    <a:lnTo>
                      <a:pt x="43" y="2861"/>
                    </a:lnTo>
                    <a:lnTo>
                      <a:pt x="59" y="2944"/>
                    </a:lnTo>
                    <a:lnTo>
                      <a:pt x="77" y="3026"/>
                    </a:lnTo>
                    <a:lnTo>
                      <a:pt x="96" y="3107"/>
                    </a:lnTo>
                    <a:lnTo>
                      <a:pt x="118" y="3188"/>
                    </a:lnTo>
                    <a:lnTo>
                      <a:pt x="143" y="3267"/>
                    </a:lnTo>
                    <a:lnTo>
                      <a:pt x="168" y="3346"/>
                    </a:lnTo>
                    <a:lnTo>
                      <a:pt x="197" y="3423"/>
                    </a:lnTo>
                    <a:lnTo>
                      <a:pt x="227" y="3500"/>
                    </a:lnTo>
                    <a:lnTo>
                      <a:pt x="259" y="3576"/>
                    </a:lnTo>
                    <a:lnTo>
                      <a:pt x="293" y="3650"/>
                    </a:lnTo>
                    <a:lnTo>
                      <a:pt x="329" y="3724"/>
                    </a:lnTo>
                    <a:lnTo>
                      <a:pt x="367" y="3796"/>
                    </a:lnTo>
                    <a:lnTo>
                      <a:pt x="407" y="3867"/>
                    </a:lnTo>
                    <a:lnTo>
                      <a:pt x="449" y="3937"/>
                    </a:lnTo>
                    <a:lnTo>
                      <a:pt x="493" y="4007"/>
                    </a:lnTo>
                    <a:lnTo>
                      <a:pt x="538" y="4074"/>
                    </a:lnTo>
                    <a:lnTo>
                      <a:pt x="586" y="4140"/>
                    </a:lnTo>
                    <a:lnTo>
                      <a:pt x="634" y="4205"/>
                    </a:lnTo>
                    <a:lnTo>
                      <a:pt x="685" y="4269"/>
                    </a:lnTo>
                    <a:lnTo>
                      <a:pt x="737" y="4331"/>
                    </a:lnTo>
                    <a:lnTo>
                      <a:pt x="791" y="4391"/>
                    </a:lnTo>
                    <a:lnTo>
                      <a:pt x="846" y="4450"/>
                    </a:lnTo>
                    <a:lnTo>
                      <a:pt x="903" y="4509"/>
                    </a:lnTo>
                    <a:lnTo>
                      <a:pt x="962" y="4565"/>
                    </a:lnTo>
                    <a:lnTo>
                      <a:pt x="1021" y="4619"/>
                    </a:lnTo>
                    <a:lnTo>
                      <a:pt x="1083" y="4672"/>
                    </a:lnTo>
                    <a:lnTo>
                      <a:pt x="1095" y="4675"/>
                    </a:lnTo>
                    <a:lnTo>
                      <a:pt x="1105" y="4678"/>
                    </a:lnTo>
                    <a:lnTo>
                      <a:pt x="1117" y="4682"/>
                    </a:lnTo>
                    <a:lnTo>
                      <a:pt x="1129" y="4684"/>
                    </a:lnTo>
                    <a:lnTo>
                      <a:pt x="1141" y="4687"/>
                    </a:lnTo>
                    <a:lnTo>
                      <a:pt x="1153" y="4690"/>
                    </a:lnTo>
                    <a:lnTo>
                      <a:pt x="1165" y="4692"/>
                    </a:lnTo>
                    <a:lnTo>
                      <a:pt x="1177" y="4696"/>
                    </a:lnTo>
                    <a:lnTo>
                      <a:pt x="1113" y="4643"/>
                    </a:lnTo>
                    <a:lnTo>
                      <a:pt x="1050" y="4589"/>
                    </a:lnTo>
                    <a:lnTo>
                      <a:pt x="989" y="4534"/>
                    </a:lnTo>
                    <a:lnTo>
                      <a:pt x="929" y="4476"/>
                    </a:lnTo>
                    <a:lnTo>
                      <a:pt x="871" y="4417"/>
                    </a:lnTo>
                    <a:lnTo>
                      <a:pt x="815" y="4356"/>
                    </a:lnTo>
                    <a:lnTo>
                      <a:pt x="761" y="4294"/>
                    </a:lnTo>
                    <a:lnTo>
                      <a:pt x="708" y="4230"/>
                    </a:lnTo>
                    <a:lnTo>
                      <a:pt x="657" y="4165"/>
                    </a:lnTo>
                    <a:lnTo>
                      <a:pt x="607" y="4099"/>
                    </a:lnTo>
                    <a:lnTo>
                      <a:pt x="560" y="4031"/>
                    </a:lnTo>
                    <a:lnTo>
                      <a:pt x="514" y="3962"/>
                    </a:lnTo>
                    <a:lnTo>
                      <a:pt x="470" y="3891"/>
                    </a:lnTo>
                    <a:lnTo>
                      <a:pt x="428" y="3820"/>
                    </a:lnTo>
                    <a:lnTo>
                      <a:pt x="388" y="3746"/>
                    </a:lnTo>
                    <a:lnTo>
                      <a:pt x="350" y="3672"/>
                    </a:lnTo>
                    <a:lnTo>
                      <a:pt x="314" y="3596"/>
                    </a:lnTo>
                    <a:lnTo>
                      <a:pt x="280" y="3521"/>
                    </a:lnTo>
                    <a:lnTo>
                      <a:pt x="248" y="3443"/>
                    </a:lnTo>
                    <a:lnTo>
                      <a:pt x="218" y="3364"/>
                    </a:lnTo>
                    <a:lnTo>
                      <a:pt x="191" y="3284"/>
                    </a:lnTo>
                    <a:lnTo>
                      <a:pt x="166" y="3203"/>
                    </a:lnTo>
                    <a:lnTo>
                      <a:pt x="143" y="3121"/>
                    </a:lnTo>
                    <a:lnTo>
                      <a:pt x="122" y="3038"/>
                    </a:lnTo>
                    <a:lnTo>
                      <a:pt x="104" y="2955"/>
                    </a:lnTo>
                    <a:lnTo>
                      <a:pt x="87" y="2870"/>
                    </a:lnTo>
                    <a:lnTo>
                      <a:pt x="73" y="2785"/>
                    </a:lnTo>
                    <a:lnTo>
                      <a:pt x="63" y="2699"/>
                    </a:lnTo>
                    <a:lnTo>
                      <a:pt x="54" y="2612"/>
                    </a:lnTo>
                    <a:lnTo>
                      <a:pt x="47" y="2525"/>
                    </a:lnTo>
                    <a:lnTo>
                      <a:pt x="43" y="2436"/>
                    </a:lnTo>
                    <a:lnTo>
                      <a:pt x="42" y="2348"/>
                    </a:lnTo>
                    <a:lnTo>
                      <a:pt x="43" y="2258"/>
                    </a:lnTo>
                    <a:lnTo>
                      <a:pt x="47" y="2171"/>
                    </a:lnTo>
                    <a:lnTo>
                      <a:pt x="54" y="2083"/>
                    </a:lnTo>
                    <a:lnTo>
                      <a:pt x="63" y="1996"/>
                    </a:lnTo>
                    <a:lnTo>
                      <a:pt x="73" y="1910"/>
                    </a:lnTo>
                    <a:lnTo>
                      <a:pt x="87" y="1825"/>
                    </a:lnTo>
                    <a:lnTo>
                      <a:pt x="104" y="1740"/>
                    </a:lnTo>
                    <a:lnTo>
                      <a:pt x="122" y="1656"/>
                    </a:lnTo>
                    <a:lnTo>
                      <a:pt x="143" y="1573"/>
                    </a:lnTo>
                    <a:lnTo>
                      <a:pt x="166" y="1492"/>
                    </a:lnTo>
                    <a:lnTo>
                      <a:pt x="191" y="1411"/>
                    </a:lnTo>
                    <a:lnTo>
                      <a:pt x="218" y="1331"/>
                    </a:lnTo>
                    <a:lnTo>
                      <a:pt x="248" y="1253"/>
                    </a:lnTo>
                    <a:lnTo>
                      <a:pt x="280" y="1175"/>
                    </a:lnTo>
                    <a:lnTo>
                      <a:pt x="314" y="1098"/>
                    </a:lnTo>
                    <a:lnTo>
                      <a:pt x="350" y="1023"/>
                    </a:lnTo>
                    <a:lnTo>
                      <a:pt x="388" y="948"/>
                    </a:lnTo>
                    <a:lnTo>
                      <a:pt x="428" y="876"/>
                    </a:lnTo>
                    <a:lnTo>
                      <a:pt x="470" y="803"/>
                    </a:lnTo>
                    <a:lnTo>
                      <a:pt x="514" y="733"/>
                    </a:lnTo>
                    <a:lnTo>
                      <a:pt x="560" y="664"/>
                    </a:lnTo>
                    <a:lnTo>
                      <a:pt x="607" y="596"/>
                    </a:lnTo>
                    <a:lnTo>
                      <a:pt x="657" y="529"/>
                    </a:lnTo>
                    <a:lnTo>
                      <a:pt x="708" y="464"/>
                    </a:lnTo>
                    <a:lnTo>
                      <a:pt x="761" y="400"/>
                    </a:lnTo>
                    <a:lnTo>
                      <a:pt x="815" y="339"/>
                    </a:lnTo>
                    <a:lnTo>
                      <a:pt x="871" y="278"/>
                    </a:lnTo>
                    <a:lnTo>
                      <a:pt x="929" y="219"/>
                    </a:lnTo>
                    <a:lnTo>
                      <a:pt x="989" y="162"/>
                    </a:lnTo>
                    <a:lnTo>
                      <a:pt x="1050" y="106"/>
                    </a:lnTo>
                    <a:lnTo>
                      <a:pt x="1113" y="52"/>
                    </a:lnTo>
                    <a:lnTo>
                      <a:pt x="1177" y="0"/>
                    </a:lnTo>
                    <a:lnTo>
                      <a:pt x="1165" y="2"/>
                    </a:lnTo>
                    <a:lnTo>
                      <a:pt x="1153" y="5"/>
                    </a:lnTo>
                    <a:lnTo>
                      <a:pt x="1141" y="7"/>
                    </a:lnTo>
                    <a:lnTo>
                      <a:pt x="1129" y="11"/>
                    </a:lnTo>
                    <a:lnTo>
                      <a:pt x="1117" y="14"/>
                    </a:lnTo>
                    <a:lnTo>
                      <a:pt x="1105" y="17"/>
                    </a:lnTo>
                    <a:lnTo>
                      <a:pt x="1095" y="19"/>
                    </a:lnTo>
                    <a:lnTo>
                      <a:pt x="1083" y="22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3375000" y="2060640"/>
                <a:ext cx="2397240" cy="1873080"/>
              </a:xfrm>
              <a:custGeom>
                <a:avLst/>
                <a:gdLst/>
                <a:ahLst/>
                <a:rect l="l" t="t" r="r" b="b"/>
                <a:pathLst>
                  <a:path w="6041" h="4719">
                    <a:moveTo>
                      <a:pt x="6041" y="2360"/>
                    </a:moveTo>
                    <a:lnTo>
                      <a:pt x="6040" y="2271"/>
                    </a:lnTo>
                    <a:lnTo>
                      <a:pt x="6037" y="2184"/>
                    </a:lnTo>
                    <a:lnTo>
                      <a:pt x="6030" y="2097"/>
                    </a:lnTo>
                    <a:lnTo>
                      <a:pt x="6021" y="2011"/>
                    </a:lnTo>
                    <a:lnTo>
                      <a:pt x="6011" y="1926"/>
                    </a:lnTo>
                    <a:lnTo>
                      <a:pt x="5997" y="1841"/>
                    </a:lnTo>
                    <a:lnTo>
                      <a:pt x="5981" y="1758"/>
                    </a:lnTo>
                    <a:lnTo>
                      <a:pt x="5963" y="1675"/>
                    </a:lnTo>
                    <a:lnTo>
                      <a:pt x="5942" y="1593"/>
                    </a:lnTo>
                    <a:lnTo>
                      <a:pt x="5921" y="1512"/>
                    </a:lnTo>
                    <a:lnTo>
                      <a:pt x="5896" y="1432"/>
                    </a:lnTo>
                    <a:lnTo>
                      <a:pt x="5869" y="1352"/>
                    </a:lnTo>
                    <a:lnTo>
                      <a:pt x="5840" y="1274"/>
                    </a:lnTo>
                    <a:lnTo>
                      <a:pt x="5809" y="1197"/>
                    </a:lnTo>
                    <a:lnTo>
                      <a:pt x="5776" y="1121"/>
                    </a:lnTo>
                    <a:lnTo>
                      <a:pt x="5740" y="1045"/>
                    </a:lnTo>
                    <a:lnTo>
                      <a:pt x="5704" y="972"/>
                    </a:lnTo>
                    <a:lnTo>
                      <a:pt x="5665" y="898"/>
                    </a:lnTo>
                    <a:lnTo>
                      <a:pt x="5624" y="827"/>
                    </a:lnTo>
                    <a:lnTo>
                      <a:pt x="5581" y="757"/>
                    </a:lnTo>
                    <a:lnTo>
                      <a:pt x="5536" y="688"/>
                    </a:lnTo>
                    <a:lnTo>
                      <a:pt x="5490" y="620"/>
                    </a:lnTo>
                    <a:lnTo>
                      <a:pt x="5441" y="554"/>
                    </a:lnTo>
                    <a:lnTo>
                      <a:pt x="5391" y="489"/>
                    </a:lnTo>
                    <a:lnTo>
                      <a:pt x="5340" y="425"/>
                    </a:lnTo>
                    <a:lnTo>
                      <a:pt x="5287" y="363"/>
                    </a:lnTo>
                    <a:lnTo>
                      <a:pt x="5232" y="302"/>
                    </a:lnTo>
                    <a:lnTo>
                      <a:pt x="5175" y="243"/>
                    </a:lnTo>
                    <a:lnTo>
                      <a:pt x="5117" y="186"/>
                    </a:lnTo>
                    <a:lnTo>
                      <a:pt x="5058" y="129"/>
                    </a:lnTo>
                    <a:lnTo>
                      <a:pt x="4996" y="75"/>
                    </a:lnTo>
                    <a:lnTo>
                      <a:pt x="4933" y="23"/>
                    </a:lnTo>
                    <a:lnTo>
                      <a:pt x="4921" y="19"/>
                    </a:lnTo>
                    <a:lnTo>
                      <a:pt x="4910" y="17"/>
                    </a:lnTo>
                    <a:lnTo>
                      <a:pt x="4898" y="14"/>
                    </a:lnTo>
                    <a:lnTo>
                      <a:pt x="4886" y="11"/>
                    </a:lnTo>
                    <a:lnTo>
                      <a:pt x="4873" y="9"/>
                    </a:lnTo>
                    <a:lnTo>
                      <a:pt x="4861" y="5"/>
                    </a:lnTo>
                    <a:lnTo>
                      <a:pt x="4849" y="2"/>
                    </a:lnTo>
                    <a:lnTo>
                      <a:pt x="4837" y="0"/>
                    </a:lnTo>
                    <a:lnTo>
                      <a:pt x="4903" y="52"/>
                    </a:lnTo>
                    <a:lnTo>
                      <a:pt x="4967" y="106"/>
                    </a:lnTo>
                    <a:lnTo>
                      <a:pt x="5029" y="161"/>
                    </a:lnTo>
                    <a:lnTo>
                      <a:pt x="5090" y="218"/>
                    </a:lnTo>
                    <a:lnTo>
                      <a:pt x="5149" y="276"/>
                    </a:lnTo>
                    <a:lnTo>
                      <a:pt x="5207" y="337"/>
                    </a:lnTo>
                    <a:lnTo>
                      <a:pt x="5263" y="399"/>
                    </a:lnTo>
                    <a:lnTo>
                      <a:pt x="5317" y="463"/>
                    </a:lnTo>
                    <a:lnTo>
                      <a:pt x="5369" y="528"/>
                    </a:lnTo>
                    <a:lnTo>
                      <a:pt x="5420" y="595"/>
                    </a:lnTo>
                    <a:lnTo>
                      <a:pt x="5468" y="663"/>
                    </a:lnTo>
                    <a:lnTo>
                      <a:pt x="5516" y="732"/>
                    </a:lnTo>
                    <a:lnTo>
                      <a:pt x="5560" y="803"/>
                    </a:lnTo>
                    <a:lnTo>
                      <a:pt x="5603" y="875"/>
                    </a:lnTo>
                    <a:lnTo>
                      <a:pt x="5644" y="948"/>
                    </a:lnTo>
                    <a:lnTo>
                      <a:pt x="5683" y="1024"/>
                    </a:lnTo>
                    <a:lnTo>
                      <a:pt x="5720" y="1099"/>
                    </a:lnTo>
                    <a:lnTo>
                      <a:pt x="5754" y="1176"/>
                    </a:lnTo>
                    <a:lnTo>
                      <a:pt x="5788" y="1255"/>
                    </a:lnTo>
                    <a:lnTo>
                      <a:pt x="5818" y="1334"/>
                    </a:lnTo>
                    <a:lnTo>
                      <a:pt x="5846" y="1415"/>
                    </a:lnTo>
                    <a:lnTo>
                      <a:pt x="5872" y="1496"/>
                    </a:lnTo>
                    <a:lnTo>
                      <a:pt x="5896" y="1579"/>
                    </a:lnTo>
                    <a:lnTo>
                      <a:pt x="5918" y="1662"/>
                    </a:lnTo>
                    <a:lnTo>
                      <a:pt x="5936" y="1746"/>
                    </a:lnTo>
                    <a:lnTo>
                      <a:pt x="5952" y="1832"/>
                    </a:lnTo>
                    <a:lnTo>
                      <a:pt x="5967" y="1918"/>
                    </a:lnTo>
                    <a:lnTo>
                      <a:pt x="5978" y="2004"/>
                    </a:lnTo>
                    <a:lnTo>
                      <a:pt x="5988" y="2092"/>
                    </a:lnTo>
                    <a:lnTo>
                      <a:pt x="5994" y="2180"/>
                    </a:lnTo>
                    <a:lnTo>
                      <a:pt x="5998" y="2270"/>
                    </a:lnTo>
                    <a:lnTo>
                      <a:pt x="6000" y="2360"/>
                    </a:lnTo>
                    <a:lnTo>
                      <a:pt x="5999" y="2409"/>
                    </a:lnTo>
                    <a:lnTo>
                      <a:pt x="5998" y="2459"/>
                    </a:lnTo>
                    <a:lnTo>
                      <a:pt x="5995" y="2509"/>
                    </a:lnTo>
                    <a:lnTo>
                      <a:pt x="5993" y="2558"/>
                    </a:lnTo>
                    <a:lnTo>
                      <a:pt x="5989" y="2608"/>
                    </a:lnTo>
                    <a:lnTo>
                      <a:pt x="5985" y="2657"/>
                    </a:lnTo>
                    <a:lnTo>
                      <a:pt x="5979" y="2705"/>
                    </a:lnTo>
                    <a:lnTo>
                      <a:pt x="5974" y="2754"/>
                    </a:lnTo>
                    <a:lnTo>
                      <a:pt x="5966" y="2802"/>
                    </a:lnTo>
                    <a:lnTo>
                      <a:pt x="5959" y="2851"/>
                    </a:lnTo>
                    <a:lnTo>
                      <a:pt x="5950" y="2899"/>
                    </a:lnTo>
                    <a:lnTo>
                      <a:pt x="5941" y="2946"/>
                    </a:lnTo>
                    <a:lnTo>
                      <a:pt x="5932" y="2994"/>
                    </a:lnTo>
                    <a:lnTo>
                      <a:pt x="5921" y="3040"/>
                    </a:lnTo>
                    <a:lnTo>
                      <a:pt x="5910" y="3088"/>
                    </a:lnTo>
                    <a:lnTo>
                      <a:pt x="5897" y="3134"/>
                    </a:lnTo>
                    <a:lnTo>
                      <a:pt x="5938" y="3145"/>
                    </a:lnTo>
                    <a:lnTo>
                      <a:pt x="5950" y="3097"/>
                    </a:lnTo>
                    <a:lnTo>
                      <a:pt x="5962" y="3050"/>
                    </a:lnTo>
                    <a:lnTo>
                      <a:pt x="5973" y="3002"/>
                    </a:lnTo>
                    <a:lnTo>
                      <a:pt x="5982" y="2955"/>
                    </a:lnTo>
                    <a:lnTo>
                      <a:pt x="5991" y="2906"/>
                    </a:lnTo>
                    <a:lnTo>
                      <a:pt x="6000" y="2858"/>
                    </a:lnTo>
                    <a:lnTo>
                      <a:pt x="6007" y="2809"/>
                    </a:lnTo>
                    <a:lnTo>
                      <a:pt x="6015" y="2760"/>
                    </a:lnTo>
                    <a:lnTo>
                      <a:pt x="6020" y="2711"/>
                    </a:lnTo>
                    <a:lnTo>
                      <a:pt x="6026" y="2661"/>
                    </a:lnTo>
                    <a:lnTo>
                      <a:pt x="6031" y="2611"/>
                    </a:lnTo>
                    <a:lnTo>
                      <a:pt x="6034" y="2562"/>
                    </a:lnTo>
                    <a:lnTo>
                      <a:pt x="6038" y="2511"/>
                    </a:lnTo>
                    <a:lnTo>
                      <a:pt x="6040" y="2461"/>
                    </a:lnTo>
                    <a:lnTo>
                      <a:pt x="6041" y="2410"/>
                    </a:lnTo>
                    <a:lnTo>
                      <a:pt x="6041" y="2360"/>
                    </a:lnTo>
                    <a:close/>
                    <a:moveTo>
                      <a:pt x="1107" y="23"/>
                    </a:moveTo>
                    <a:lnTo>
                      <a:pt x="1044" y="75"/>
                    </a:lnTo>
                    <a:lnTo>
                      <a:pt x="983" y="129"/>
                    </a:lnTo>
                    <a:lnTo>
                      <a:pt x="923" y="186"/>
                    </a:lnTo>
                    <a:lnTo>
                      <a:pt x="865" y="243"/>
                    </a:lnTo>
                    <a:lnTo>
                      <a:pt x="809" y="302"/>
                    </a:lnTo>
                    <a:lnTo>
                      <a:pt x="754" y="363"/>
                    </a:lnTo>
                    <a:lnTo>
                      <a:pt x="701" y="425"/>
                    </a:lnTo>
                    <a:lnTo>
                      <a:pt x="649" y="489"/>
                    </a:lnTo>
                    <a:lnTo>
                      <a:pt x="598" y="554"/>
                    </a:lnTo>
                    <a:lnTo>
                      <a:pt x="551" y="620"/>
                    </a:lnTo>
                    <a:lnTo>
                      <a:pt x="504" y="688"/>
                    </a:lnTo>
                    <a:lnTo>
                      <a:pt x="460" y="757"/>
                    </a:lnTo>
                    <a:lnTo>
                      <a:pt x="417" y="827"/>
                    </a:lnTo>
                    <a:lnTo>
                      <a:pt x="376" y="898"/>
                    </a:lnTo>
                    <a:lnTo>
                      <a:pt x="337" y="972"/>
                    </a:lnTo>
                    <a:lnTo>
                      <a:pt x="300" y="1045"/>
                    </a:lnTo>
                    <a:lnTo>
                      <a:pt x="264" y="1121"/>
                    </a:lnTo>
                    <a:lnTo>
                      <a:pt x="232" y="1197"/>
                    </a:lnTo>
                    <a:lnTo>
                      <a:pt x="201" y="1274"/>
                    </a:lnTo>
                    <a:lnTo>
                      <a:pt x="171" y="1352"/>
                    </a:lnTo>
                    <a:lnTo>
                      <a:pt x="144" y="1431"/>
                    </a:lnTo>
                    <a:lnTo>
                      <a:pt x="119" y="1512"/>
                    </a:lnTo>
                    <a:lnTo>
                      <a:pt x="98" y="1593"/>
                    </a:lnTo>
                    <a:lnTo>
                      <a:pt x="77" y="1675"/>
                    </a:lnTo>
                    <a:lnTo>
                      <a:pt x="59" y="1758"/>
                    </a:lnTo>
                    <a:lnTo>
                      <a:pt x="44" y="1841"/>
                    </a:lnTo>
                    <a:lnTo>
                      <a:pt x="30" y="1926"/>
                    </a:lnTo>
                    <a:lnTo>
                      <a:pt x="19" y="2011"/>
                    </a:lnTo>
                    <a:lnTo>
                      <a:pt x="10" y="2097"/>
                    </a:lnTo>
                    <a:lnTo>
                      <a:pt x="4" y="2184"/>
                    </a:lnTo>
                    <a:lnTo>
                      <a:pt x="1" y="2271"/>
                    </a:lnTo>
                    <a:lnTo>
                      <a:pt x="0" y="2360"/>
                    </a:lnTo>
                    <a:lnTo>
                      <a:pt x="1" y="2447"/>
                    </a:lnTo>
                    <a:lnTo>
                      <a:pt x="4" y="2535"/>
                    </a:lnTo>
                    <a:lnTo>
                      <a:pt x="10" y="2621"/>
                    </a:lnTo>
                    <a:lnTo>
                      <a:pt x="19" y="2707"/>
                    </a:lnTo>
                    <a:lnTo>
                      <a:pt x="30" y="2793"/>
                    </a:lnTo>
                    <a:lnTo>
                      <a:pt x="44" y="2877"/>
                    </a:lnTo>
                    <a:lnTo>
                      <a:pt x="59" y="2961"/>
                    </a:lnTo>
                    <a:lnTo>
                      <a:pt x="77" y="3044"/>
                    </a:lnTo>
                    <a:lnTo>
                      <a:pt x="98" y="3126"/>
                    </a:lnTo>
                    <a:lnTo>
                      <a:pt x="119" y="3207"/>
                    </a:lnTo>
                    <a:lnTo>
                      <a:pt x="144" y="3287"/>
                    </a:lnTo>
                    <a:lnTo>
                      <a:pt x="171" y="3366"/>
                    </a:lnTo>
                    <a:lnTo>
                      <a:pt x="201" y="3445"/>
                    </a:lnTo>
                    <a:lnTo>
                      <a:pt x="232" y="3522"/>
                    </a:lnTo>
                    <a:lnTo>
                      <a:pt x="264" y="3598"/>
                    </a:lnTo>
                    <a:lnTo>
                      <a:pt x="300" y="3673"/>
                    </a:lnTo>
                    <a:lnTo>
                      <a:pt x="337" y="3747"/>
                    </a:lnTo>
                    <a:lnTo>
                      <a:pt x="376" y="3820"/>
                    </a:lnTo>
                    <a:lnTo>
                      <a:pt x="417" y="3891"/>
                    </a:lnTo>
                    <a:lnTo>
                      <a:pt x="460" y="3961"/>
                    </a:lnTo>
                    <a:lnTo>
                      <a:pt x="504" y="4030"/>
                    </a:lnTo>
                    <a:lnTo>
                      <a:pt x="551" y="4098"/>
                    </a:lnTo>
                    <a:lnTo>
                      <a:pt x="598" y="4164"/>
                    </a:lnTo>
                    <a:lnTo>
                      <a:pt x="649" y="4230"/>
                    </a:lnTo>
                    <a:lnTo>
                      <a:pt x="701" y="4294"/>
                    </a:lnTo>
                    <a:lnTo>
                      <a:pt x="754" y="4356"/>
                    </a:lnTo>
                    <a:lnTo>
                      <a:pt x="809" y="4416"/>
                    </a:lnTo>
                    <a:lnTo>
                      <a:pt x="865" y="4475"/>
                    </a:lnTo>
                    <a:lnTo>
                      <a:pt x="923" y="4533"/>
                    </a:lnTo>
                    <a:lnTo>
                      <a:pt x="983" y="4589"/>
                    </a:lnTo>
                    <a:lnTo>
                      <a:pt x="1044" y="4644"/>
                    </a:lnTo>
                    <a:lnTo>
                      <a:pt x="1107" y="4696"/>
                    </a:lnTo>
                    <a:lnTo>
                      <a:pt x="1119" y="4699"/>
                    </a:lnTo>
                    <a:lnTo>
                      <a:pt x="1131" y="4702"/>
                    </a:lnTo>
                    <a:lnTo>
                      <a:pt x="1143" y="4705"/>
                    </a:lnTo>
                    <a:lnTo>
                      <a:pt x="1155" y="4708"/>
                    </a:lnTo>
                    <a:lnTo>
                      <a:pt x="1167" y="4711"/>
                    </a:lnTo>
                    <a:lnTo>
                      <a:pt x="1179" y="4714"/>
                    </a:lnTo>
                    <a:lnTo>
                      <a:pt x="1191" y="4716"/>
                    </a:lnTo>
                    <a:lnTo>
                      <a:pt x="1203" y="4719"/>
                    </a:lnTo>
                    <a:lnTo>
                      <a:pt x="1137" y="4668"/>
                    </a:lnTo>
                    <a:lnTo>
                      <a:pt x="1074" y="4614"/>
                    </a:lnTo>
                    <a:lnTo>
                      <a:pt x="1011" y="4559"/>
                    </a:lnTo>
                    <a:lnTo>
                      <a:pt x="950" y="4501"/>
                    </a:lnTo>
                    <a:lnTo>
                      <a:pt x="891" y="4442"/>
                    </a:lnTo>
                    <a:lnTo>
                      <a:pt x="834" y="4381"/>
                    </a:lnTo>
                    <a:lnTo>
                      <a:pt x="778" y="4320"/>
                    </a:lnTo>
                    <a:lnTo>
                      <a:pt x="724" y="4256"/>
                    </a:lnTo>
                    <a:lnTo>
                      <a:pt x="671" y="4191"/>
                    </a:lnTo>
                    <a:lnTo>
                      <a:pt x="621" y="4124"/>
                    </a:lnTo>
                    <a:lnTo>
                      <a:pt x="572" y="4056"/>
                    </a:lnTo>
                    <a:lnTo>
                      <a:pt x="525" y="3986"/>
                    </a:lnTo>
                    <a:lnTo>
                      <a:pt x="480" y="3916"/>
                    </a:lnTo>
                    <a:lnTo>
                      <a:pt x="437" y="3844"/>
                    </a:lnTo>
                    <a:lnTo>
                      <a:pt x="396" y="3770"/>
                    </a:lnTo>
                    <a:lnTo>
                      <a:pt x="357" y="3696"/>
                    </a:lnTo>
                    <a:lnTo>
                      <a:pt x="320" y="3620"/>
                    </a:lnTo>
                    <a:lnTo>
                      <a:pt x="286" y="3542"/>
                    </a:lnTo>
                    <a:lnTo>
                      <a:pt x="252" y="3465"/>
                    </a:lnTo>
                    <a:lnTo>
                      <a:pt x="222" y="3385"/>
                    </a:lnTo>
                    <a:lnTo>
                      <a:pt x="194" y="3305"/>
                    </a:lnTo>
                    <a:lnTo>
                      <a:pt x="168" y="3223"/>
                    </a:lnTo>
                    <a:lnTo>
                      <a:pt x="144" y="3141"/>
                    </a:lnTo>
                    <a:lnTo>
                      <a:pt x="123" y="3057"/>
                    </a:lnTo>
                    <a:lnTo>
                      <a:pt x="104" y="2973"/>
                    </a:lnTo>
                    <a:lnTo>
                      <a:pt x="87" y="2888"/>
                    </a:lnTo>
                    <a:lnTo>
                      <a:pt x="73" y="2801"/>
                    </a:lnTo>
                    <a:lnTo>
                      <a:pt x="62" y="2714"/>
                    </a:lnTo>
                    <a:lnTo>
                      <a:pt x="52" y="2626"/>
                    </a:lnTo>
                    <a:lnTo>
                      <a:pt x="46" y="2538"/>
                    </a:lnTo>
                    <a:lnTo>
                      <a:pt x="42" y="2449"/>
                    </a:lnTo>
                    <a:lnTo>
                      <a:pt x="41" y="2360"/>
                    </a:lnTo>
                    <a:lnTo>
                      <a:pt x="42" y="2270"/>
                    </a:lnTo>
                    <a:lnTo>
                      <a:pt x="46" y="2180"/>
                    </a:lnTo>
                    <a:lnTo>
                      <a:pt x="52" y="2092"/>
                    </a:lnTo>
                    <a:lnTo>
                      <a:pt x="62" y="2004"/>
                    </a:lnTo>
                    <a:lnTo>
                      <a:pt x="73" y="1918"/>
                    </a:lnTo>
                    <a:lnTo>
                      <a:pt x="87" y="1832"/>
                    </a:lnTo>
                    <a:lnTo>
                      <a:pt x="104" y="1746"/>
                    </a:lnTo>
                    <a:lnTo>
                      <a:pt x="123" y="1662"/>
                    </a:lnTo>
                    <a:lnTo>
                      <a:pt x="144" y="1579"/>
                    </a:lnTo>
                    <a:lnTo>
                      <a:pt x="168" y="1496"/>
                    </a:lnTo>
                    <a:lnTo>
                      <a:pt x="194" y="1415"/>
                    </a:lnTo>
                    <a:lnTo>
                      <a:pt x="222" y="1334"/>
                    </a:lnTo>
                    <a:lnTo>
                      <a:pt x="252" y="1255"/>
                    </a:lnTo>
                    <a:lnTo>
                      <a:pt x="286" y="1176"/>
                    </a:lnTo>
                    <a:lnTo>
                      <a:pt x="320" y="1099"/>
                    </a:lnTo>
                    <a:lnTo>
                      <a:pt x="357" y="1024"/>
                    </a:lnTo>
                    <a:lnTo>
                      <a:pt x="396" y="948"/>
                    </a:lnTo>
                    <a:lnTo>
                      <a:pt x="437" y="875"/>
                    </a:lnTo>
                    <a:lnTo>
                      <a:pt x="480" y="803"/>
                    </a:lnTo>
                    <a:lnTo>
                      <a:pt x="525" y="732"/>
                    </a:lnTo>
                    <a:lnTo>
                      <a:pt x="572" y="663"/>
                    </a:lnTo>
                    <a:lnTo>
                      <a:pt x="621" y="595"/>
                    </a:lnTo>
                    <a:lnTo>
                      <a:pt x="671" y="528"/>
                    </a:lnTo>
                    <a:lnTo>
                      <a:pt x="724" y="463"/>
                    </a:lnTo>
                    <a:lnTo>
                      <a:pt x="778" y="399"/>
                    </a:lnTo>
                    <a:lnTo>
                      <a:pt x="834" y="337"/>
                    </a:lnTo>
                    <a:lnTo>
                      <a:pt x="891" y="276"/>
                    </a:lnTo>
                    <a:lnTo>
                      <a:pt x="950" y="218"/>
                    </a:lnTo>
                    <a:lnTo>
                      <a:pt x="1011" y="161"/>
                    </a:lnTo>
                    <a:lnTo>
                      <a:pt x="1074" y="106"/>
                    </a:lnTo>
                    <a:lnTo>
                      <a:pt x="1137" y="52"/>
                    </a:lnTo>
                    <a:lnTo>
                      <a:pt x="1203" y="0"/>
                    </a:lnTo>
                    <a:lnTo>
                      <a:pt x="1191" y="2"/>
                    </a:lnTo>
                    <a:lnTo>
                      <a:pt x="1179" y="5"/>
                    </a:lnTo>
                    <a:lnTo>
                      <a:pt x="1167" y="9"/>
                    </a:lnTo>
                    <a:lnTo>
                      <a:pt x="1155" y="11"/>
                    </a:lnTo>
                    <a:lnTo>
                      <a:pt x="1143" y="14"/>
                    </a:lnTo>
                    <a:lnTo>
                      <a:pt x="1131" y="17"/>
                    </a:lnTo>
                    <a:lnTo>
                      <a:pt x="1119" y="19"/>
                    </a:lnTo>
                    <a:lnTo>
                      <a:pt x="1107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382920" y="2057400"/>
                <a:ext cx="2381400" cy="1881000"/>
              </a:xfrm>
              <a:custGeom>
                <a:avLst/>
                <a:gdLst/>
                <a:ahLst/>
                <a:rect l="l" t="t" r="r" b="b"/>
                <a:pathLst>
                  <a:path w="6000" h="4741">
                    <a:moveTo>
                      <a:pt x="6000" y="2371"/>
                    </a:moveTo>
                    <a:lnTo>
                      <a:pt x="5999" y="2281"/>
                    </a:lnTo>
                    <a:lnTo>
                      <a:pt x="5995" y="2194"/>
                    </a:lnTo>
                    <a:lnTo>
                      <a:pt x="5988" y="2106"/>
                    </a:lnTo>
                    <a:lnTo>
                      <a:pt x="5980" y="2019"/>
                    </a:lnTo>
                    <a:lnTo>
                      <a:pt x="5969" y="1933"/>
                    </a:lnTo>
                    <a:lnTo>
                      <a:pt x="5955" y="1848"/>
                    </a:lnTo>
                    <a:lnTo>
                      <a:pt x="5939" y="1763"/>
                    </a:lnTo>
                    <a:lnTo>
                      <a:pt x="5920" y="1679"/>
                    </a:lnTo>
                    <a:lnTo>
                      <a:pt x="5900" y="1596"/>
                    </a:lnTo>
                    <a:lnTo>
                      <a:pt x="5876" y="1515"/>
                    </a:lnTo>
                    <a:lnTo>
                      <a:pt x="5851" y="1434"/>
                    </a:lnTo>
                    <a:lnTo>
                      <a:pt x="5823" y="1354"/>
                    </a:lnTo>
                    <a:lnTo>
                      <a:pt x="5794" y="1276"/>
                    </a:lnTo>
                    <a:lnTo>
                      <a:pt x="5763" y="1198"/>
                    </a:lnTo>
                    <a:lnTo>
                      <a:pt x="5728" y="1121"/>
                    </a:lnTo>
                    <a:lnTo>
                      <a:pt x="5692" y="1046"/>
                    </a:lnTo>
                    <a:lnTo>
                      <a:pt x="5655" y="971"/>
                    </a:lnTo>
                    <a:lnTo>
                      <a:pt x="5615" y="899"/>
                    </a:lnTo>
                    <a:lnTo>
                      <a:pt x="5572" y="826"/>
                    </a:lnTo>
                    <a:lnTo>
                      <a:pt x="5528" y="756"/>
                    </a:lnTo>
                    <a:lnTo>
                      <a:pt x="5483" y="687"/>
                    </a:lnTo>
                    <a:lnTo>
                      <a:pt x="5435" y="619"/>
                    </a:lnTo>
                    <a:lnTo>
                      <a:pt x="5385" y="552"/>
                    </a:lnTo>
                    <a:lnTo>
                      <a:pt x="5335" y="487"/>
                    </a:lnTo>
                    <a:lnTo>
                      <a:pt x="5282" y="423"/>
                    </a:lnTo>
                    <a:lnTo>
                      <a:pt x="5228" y="362"/>
                    </a:lnTo>
                    <a:lnTo>
                      <a:pt x="5170" y="301"/>
                    </a:lnTo>
                    <a:lnTo>
                      <a:pt x="5113" y="242"/>
                    </a:lnTo>
                    <a:lnTo>
                      <a:pt x="5054" y="185"/>
                    </a:lnTo>
                    <a:lnTo>
                      <a:pt x="4992" y="129"/>
                    </a:lnTo>
                    <a:lnTo>
                      <a:pt x="4929" y="75"/>
                    </a:lnTo>
                    <a:lnTo>
                      <a:pt x="4866" y="23"/>
                    </a:lnTo>
                    <a:lnTo>
                      <a:pt x="4854" y="20"/>
                    </a:lnTo>
                    <a:lnTo>
                      <a:pt x="4842" y="16"/>
                    </a:lnTo>
                    <a:lnTo>
                      <a:pt x="4829" y="14"/>
                    </a:lnTo>
                    <a:lnTo>
                      <a:pt x="4817" y="11"/>
                    </a:lnTo>
                    <a:lnTo>
                      <a:pt x="4805" y="8"/>
                    </a:lnTo>
                    <a:lnTo>
                      <a:pt x="4793" y="5"/>
                    </a:lnTo>
                    <a:lnTo>
                      <a:pt x="4780" y="2"/>
                    </a:lnTo>
                    <a:lnTo>
                      <a:pt x="4768" y="0"/>
                    </a:lnTo>
                    <a:lnTo>
                      <a:pt x="4835" y="51"/>
                    </a:lnTo>
                    <a:lnTo>
                      <a:pt x="4901" y="105"/>
                    </a:lnTo>
                    <a:lnTo>
                      <a:pt x="4965" y="160"/>
                    </a:lnTo>
                    <a:lnTo>
                      <a:pt x="5027" y="216"/>
                    </a:lnTo>
                    <a:lnTo>
                      <a:pt x="5087" y="275"/>
                    </a:lnTo>
                    <a:lnTo>
                      <a:pt x="5147" y="336"/>
                    </a:lnTo>
                    <a:lnTo>
                      <a:pt x="5204" y="398"/>
                    </a:lnTo>
                    <a:lnTo>
                      <a:pt x="5259" y="461"/>
                    </a:lnTo>
                    <a:lnTo>
                      <a:pt x="5313" y="526"/>
                    </a:lnTo>
                    <a:lnTo>
                      <a:pt x="5365" y="593"/>
                    </a:lnTo>
                    <a:lnTo>
                      <a:pt x="5415" y="661"/>
                    </a:lnTo>
                    <a:lnTo>
                      <a:pt x="5462" y="731"/>
                    </a:lnTo>
                    <a:lnTo>
                      <a:pt x="5509" y="801"/>
                    </a:lnTo>
                    <a:lnTo>
                      <a:pt x="5553" y="875"/>
                    </a:lnTo>
                    <a:lnTo>
                      <a:pt x="5594" y="948"/>
                    </a:lnTo>
                    <a:lnTo>
                      <a:pt x="5634" y="1023"/>
                    </a:lnTo>
                    <a:lnTo>
                      <a:pt x="5672" y="1100"/>
                    </a:lnTo>
                    <a:lnTo>
                      <a:pt x="5707" y="1177"/>
                    </a:lnTo>
                    <a:lnTo>
                      <a:pt x="5741" y="1256"/>
                    </a:lnTo>
                    <a:lnTo>
                      <a:pt x="5772" y="1336"/>
                    </a:lnTo>
                    <a:lnTo>
                      <a:pt x="5801" y="1417"/>
                    </a:lnTo>
                    <a:lnTo>
                      <a:pt x="5828" y="1499"/>
                    </a:lnTo>
                    <a:lnTo>
                      <a:pt x="5852" y="1582"/>
                    </a:lnTo>
                    <a:lnTo>
                      <a:pt x="5874" y="1667"/>
                    </a:lnTo>
                    <a:lnTo>
                      <a:pt x="5893" y="1752"/>
                    </a:lnTo>
                    <a:lnTo>
                      <a:pt x="5911" y="1837"/>
                    </a:lnTo>
                    <a:lnTo>
                      <a:pt x="5925" y="1925"/>
                    </a:lnTo>
                    <a:lnTo>
                      <a:pt x="5938" y="2012"/>
                    </a:lnTo>
                    <a:lnTo>
                      <a:pt x="5946" y="2101"/>
                    </a:lnTo>
                    <a:lnTo>
                      <a:pt x="5953" y="2190"/>
                    </a:lnTo>
                    <a:lnTo>
                      <a:pt x="5957" y="2280"/>
                    </a:lnTo>
                    <a:lnTo>
                      <a:pt x="5958" y="2371"/>
                    </a:lnTo>
                    <a:lnTo>
                      <a:pt x="5958" y="2420"/>
                    </a:lnTo>
                    <a:lnTo>
                      <a:pt x="5957" y="2470"/>
                    </a:lnTo>
                    <a:lnTo>
                      <a:pt x="5955" y="2519"/>
                    </a:lnTo>
                    <a:lnTo>
                      <a:pt x="5952" y="2568"/>
                    </a:lnTo>
                    <a:lnTo>
                      <a:pt x="5948" y="2617"/>
                    </a:lnTo>
                    <a:lnTo>
                      <a:pt x="5944" y="2666"/>
                    </a:lnTo>
                    <a:lnTo>
                      <a:pt x="5939" y="2714"/>
                    </a:lnTo>
                    <a:lnTo>
                      <a:pt x="5932" y="2763"/>
                    </a:lnTo>
                    <a:lnTo>
                      <a:pt x="5926" y="2810"/>
                    </a:lnTo>
                    <a:lnTo>
                      <a:pt x="5918" y="2858"/>
                    </a:lnTo>
                    <a:lnTo>
                      <a:pt x="5910" y="2905"/>
                    </a:lnTo>
                    <a:lnTo>
                      <a:pt x="5901" y="2953"/>
                    </a:lnTo>
                    <a:lnTo>
                      <a:pt x="5891" y="3000"/>
                    </a:lnTo>
                    <a:lnTo>
                      <a:pt x="5880" y="3047"/>
                    </a:lnTo>
                    <a:lnTo>
                      <a:pt x="5870" y="3093"/>
                    </a:lnTo>
                    <a:lnTo>
                      <a:pt x="5858" y="3140"/>
                    </a:lnTo>
                    <a:lnTo>
                      <a:pt x="5898" y="3150"/>
                    </a:lnTo>
                    <a:lnTo>
                      <a:pt x="5910" y="3103"/>
                    </a:lnTo>
                    <a:lnTo>
                      <a:pt x="5921" y="3056"/>
                    </a:lnTo>
                    <a:lnTo>
                      <a:pt x="5932" y="3009"/>
                    </a:lnTo>
                    <a:lnTo>
                      <a:pt x="5942" y="2961"/>
                    </a:lnTo>
                    <a:lnTo>
                      <a:pt x="5951" y="2913"/>
                    </a:lnTo>
                    <a:lnTo>
                      <a:pt x="5959" y="2865"/>
                    </a:lnTo>
                    <a:lnTo>
                      <a:pt x="5967" y="2817"/>
                    </a:lnTo>
                    <a:lnTo>
                      <a:pt x="5974" y="2768"/>
                    </a:lnTo>
                    <a:lnTo>
                      <a:pt x="5980" y="2720"/>
                    </a:lnTo>
                    <a:lnTo>
                      <a:pt x="5985" y="2670"/>
                    </a:lnTo>
                    <a:lnTo>
                      <a:pt x="5989" y="2620"/>
                    </a:lnTo>
                    <a:lnTo>
                      <a:pt x="5994" y="2572"/>
                    </a:lnTo>
                    <a:lnTo>
                      <a:pt x="5997" y="2521"/>
                    </a:lnTo>
                    <a:lnTo>
                      <a:pt x="5998" y="2471"/>
                    </a:lnTo>
                    <a:lnTo>
                      <a:pt x="6000" y="2420"/>
                    </a:lnTo>
                    <a:lnTo>
                      <a:pt x="6000" y="2371"/>
                    </a:lnTo>
                    <a:close/>
                    <a:moveTo>
                      <a:pt x="1135" y="23"/>
                    </a:moveTo>
                    <a:lnTo>
                      <a:pt x="1071" y="75"/>
                    </a:lnTo>
                    <a:lnTo>
                      <a:pt x="1008" y="129"/>
                    </a:lnTo>
                    <a:lnTo>
                      <a:pt x="947" y="185"/>
                    </a:lnTo>
                    <a:lnTo>
                      <a:pt x="887" y="242"/>
                    </a:lnTo>
                    <a:lnTo>
                      <a:pt x="829" y="301"/>
                    </a:lnTo>
                    <a:lnTo>
                      <a:pt x="773" y="362"/>
                    </a:lnTo>
                    <a:lnTo>
                      <a:pt x="719" y="423"/>
                    </a:lnTo>
                    <a:lnTo>
                      <a:pt x="666" y="487"/>
                    </a:lnTo>
                    <a:lnTo>
                      <a:pt x="615" y="552"/>
                    </a:lnTo>
                    <a:lnTo>
                      <a:pt x="565" y="619"/>
                    </a:lnTo>
                    <a:lnTo>
                      <a:pt x="518" y="687"/>
                    </a:lnTo>
                    <a:lnTo>
                      <a:pt x="472" y="756"/>
                    </a:lnTo>
                    <a:lnTo>
                      <a:pt x="428" y="826"/>
                    </a:lnTo>
                    <a:lnTo>
                      <a:pt x="386" y="899"/>
                    </a:lnTo>
                    <a:lnTo>
                      <a:pt x="346" y="971"/>
                    </a:lnTo>
                    <a:lnTo>
                      <a:pt x="308" y="1046"/>
                    </a:lnTo>
                    <a:lnTo>
                      <a:pt x="272" y="1121"/>
                    </a:lnTo>
                    <a:lnTo>
                      <a:pt x="238" y="1198"/>
                    </a:lnTo>
                    <a:lnTo>
                      <a:pt x="206" y="1276"/>
                    </a:lnTo>
                    <a:lnTo>
                      <a:pt x="176" y="1354"/>
                    </a:lnTo>
                    <a:lnTo>
                      <a:pt x="149" y="1434"/>
                    </a:lnTo>
                    <a:lnTo>
                      <a:pt x="124" y="1515"/>
                    </a:lnTo>
                    <a:lnTo>
                      <a:pt x="101" y="1596"/>
                    </a:lnTo>
                    <a:lnTo>
                      <a:pt x="80" y="1679"/>
                    </a:lnTo>
                    <a:lnTo>
                      <a:pt x="62" y="1763"/>
                    </a:lnTo>
                    <a:lnTo>
                      <a:pt x="45" y="1848"/>
                    </a:lnTo>
                    <a:lnTo>
                      <a:pt x="31" y="1933"/>
                    </a:lnTo>
                    <a:lnTo>
                      <a:pt x="21" y="2019"/>
                    </a:lnTo>
                    <a:lnTo>
                      <a:pt x="12" y="2106"/>
                    </a:lnTo>
                    <a:lnTo>
                      <a:pt x="5" y="2194"/>
                    </a:lnTo>
                    <a:lnTo>
                      <a:pt x="1" y="2281"/>
                    </a:lnTo>
                    <a:lnTo>
                      <a:pt x="0" y="2371"/>
                    </a:lnTo>
                    <a:lnTo>
                      <a:pt x="1" y="2459"/>
                    </a:lnTo>
                    <a:lnTo>
                      <a:pt x="5" y="2548"/>
                    </a:lnTo>
                    <a:lnTo>
                      <a:pt x="12" y="2635"/>
                    </a:lnTo>
                    <a:lnTo>
                      <a:pt x="21" y="2722"/>
                    </a:lnTo>
                    <a:lnTo>
                      <a:pt x="31" y="2808"/>
                    </a:lnTo>
                    <a:lnTo>
                      <a:pt x="45" y="2893"/>
                    </a:lnTo>
                    <a:lnTo>
                      <a:pt x="62" y="2978"/>
                    </a:lnTo>
                    <a:lnTo>
                      <a:pt x="80" y="3061"/>
                    </a:lnTo>
                    <a:lnTo>
                      <a:pt x="101" y="3144"/>
                    </a:lnTo>
                    <a:lnTo>
                      <a:pt x="124" y="3226"/>
                    </a:lnTo>
                    <a:lnTo>
                      <a:pt x="149" y="3307"/>
                    </a:lnTo>
                    <a:lnTo>
                      <a:pt x="176" y="3387"/>
                    </a:lnTo>
                    <a:lnTo>
                      <a:pt x="206" y="3466"/>
                    </a:lnTo>
                    <a:lnTo>
                      <a:pt x="238" y="3544"/>
                    </a:lnTo>
                    <a:lnTo>
                      <a:pt x="272" y="3619"/>
                    </a:lnTo>
                    <a:lnTo>
                      <a:pt x="308" y="3695"/>
                    </a:lnTo>
                    <a:lnTo>
                      <a:pt x="346" y="3769"/>
                    </a:lnTo>
                    <a:lnTo>
                      <a:pt x="386" y="3843"/>
                    </a:lnTo>
                    <a:lnTo>
                      <a:pt x="428" y="3914"/>
                    </a:lnTo>
                    <a:lnTo>
                      <a:pt x="472" y="3985"/>
                    </a:lnTo>
                    <a:lnTo>
                      <a:pt x="518" y="4054"/>
                    </a:lnTo>
                    <a:lnTo>
                      <a:pt x="565" y="4122"/>
                    </a:lnTo>
                    <a:lnTo>
                      <a:pt x="615" y="4188"/>
                    </a:lnTo>
                    <a:lnTo>
                      <a:pt x="666" y="4253"/>
                    </a:lnTo>
                    <a:lnTo>
                      <a:pt x="719" y="4317"/>
                    </a:lnTo>
                    <a:lnTo>
                      <a:pt x="773" y="4379"/>
                    </a:lnTo>
                    <a:lnTo>
                      <a:pt x="829" y="4440"/>
                    </a:lnTo>
                    <a:lnTo>
                      <a:pt x="887" y="4499"/>
                    </a:lnTo>
                    <a:lnTo>
                      <a:pt x="947" y="4557"/>
                    </a:lnTo>
                    <a:lnTo>
                      <a:pt x="1008" y="4612"/>
                    </a:lnTo>
                    <a:lnTo>
                      <a:pt x="1071" y="4666"/>
                    </a:lnTo>
                    <a:lnTo>
                      <a:pt x="1135" y="4719"/>
                    </a:lnTo>
                    <a:lnTo>
                      <a:pt x="1147" y="4722"/>
                    </a:lnTo>
                    <a:lnTo>
                      <a:pt x="1158" y="4724"/>
                    </a:lnTo>
                    <a:lnTo>
                      <a:pt x="1170" y="4727"/>
                    </a:lnTo>
                    <a:lnTo>
                      <a:pt x="1183" y="4730"/>
                    </a:lnTo>
                    <a:lnTo>
                      <a:pt x="1195" y="4733"/>
                    </a:lnTo>
                    <a:lnTo>
                      <a:pt x="1207" y="4736"/>
                    </a:lnTo>
                    <a:lnTo>
                      <a:pt x="1220" y="4738"/>
                    </a:lnTo>
                    <a:lnTo>
                      <a:pt x="1232" y="4741"/>
                    </a:lnTo>
                    <a:lnTo>
                      <a:pt x="1165" y="4689"/>
                    </a:lnTo>
                    <a:lnTo>
                      <a:pt x="1099" y="4637"/>
                    </a:lnTo>
                    <a:lnTo>
                      <a:pt x="1035" y="4581"/>
                    </a:lnTo>
                    <a:lnTo>
                      <a:pt x="974" y="4524"/>
                    </a:lnTo>
                    <a:lnTo>
                      <a:pt x="913" y="4466"/>
                    </a:lnTo>
                    <a:lnTo>
                      <a:pt x="854" y="4405"/>
                    </a:lnTo>
                    <a:lnTo>
                      <a:pt x="796" y="4344"/>
                    </a:lnTo>
                    <a:lnTo>
                      <a:pt x="741" y="4280"/>
                    </a:lnTo>
                    <a:lnTo>
                      <a:pt x="687" y="4214"/>
                    </a:lnTo>
                    <a:lnTo>
                      <a:pt x="635" y="4148"/>
                    </a:lnTo>
                    <a:lnTo>
                      <a:pt x="586" y="4079"/>
                    </a:lnTo>
                    <a:lnTo>
                      <a:pt x="538" y="4010"/>
                    </a:lnTo>
                    <a:lnTo>
                      <a:pt x="492" y="3939"/>
                    </a:lnTo>
                    <a:lnTo>
                      <a:pt x="447" y="3866"/>
                    </a:lnTo>
                    <a:lnTo>
                      <a:pt x="405" y="3793"/>
                    </a:lnTo>
                    <a:lnTo>
                      <a:pt x="366" y="3717"/>
                    </a:lnTo>
                    <a:lnTo>
                      <a:pt x="329" y="3641"/>
                    </a:lnTo>
                    <a:lnTo>
                      <a:pt x="293" y="3563"/>
                    </a:lnTo>
                    <a:lnTo>
                      <a:pt x="259" y="3485"/>
                    </a:lnTo>
                    <a:lnTo>
                      <a:pt x="228" y="3405"/>
                    </a:lnTo>
                    <a:lnTo>
                      <a:pt x="199" y="3323"/>
                    </a:lnTo>
                    <a:lnTo>
                      <a:pt x="172" y="3241"/>
                    </a:lnTo>
                    <a:lnTo>
                      <a:pt x="148" y="3158"/>
                    </a:lnTo>
                    <a:lnTo>
                      <a:pt x="126" y="3075"/>
                    </a:lnTo>
                    <a:lnTo>
                      <a:pt x="107" y="2990"/>
                    </a:lnTo>
                    <a:lnTo>
                      <a:pt x="90" y="2903"/>
                    </a:lnTo>
                    <a:lnTo>
                      <a:pt x="75" y="2817"/>
                    </a:lnTo>
                    <a:lnTo>
                      <a:pt x="63" y="2729"/>
                    </a:lnTo>
                    <a:lnTo>
                      <a:pt x="54" y="2641"/>
                    </a:lnTo>
                    <a:lnTo>
                      <a:pt x="48" y="2551"/>
                    </a:lnTo>
                    <a:lnTo>
                      <a:pt x="43" y="2461"/>
                    </a:lnTo>
                    <a:lnTo>
                      <a:pt x="42" y="2371"/>
                    </a:lnTo>
                    <a:lnTo>
                      <a:pt x="43" y="2280"/>
                    </a:lnTo>
                    <a:lnTo>
                      <a:pt x="48" y="2190"/>
                    </a:lnTo>
                    <a:lnTo>
                      <a:pt x="54" y="2101"/>
                    </a:lnTo>
                    <a:lnTo>
                      <a:pt x="63" y="2012"/>
                    </a:lnTo>
                    <a:lnTo>
                      <a:pt x="75" y="1925"/>
                    </a:lnTo>
                    <a:lnTo>
                      <a:pt x="90" y="1837"/>
                    </a:lnTo>
                    <a:lnTo>
                      <a:pt x="107" y="1752"/>
                    </a:lnTo>
                    <a:lnTo>
                      <a:pt x="126" y="1667"/>
                    </a:lnTo>
                    <a:lnTo>
                      <a:pt x="148" y="1582"/>
                    </a:lnTo>
                    <a:lnTo>
                      <a:pt x="172" y="1499"/>
                    </a:lnTo>
                    <a:lnTo>
                      <a:pt x="199" y="1417"/>
                    </a:lnTo>
                    <a:lnTo>
                      <a:pt x="228" y="1336"/>
                    </a:lnTo>
                    <a:lnTo>
                      <a:pt x="259" y="1256"/>
                    </a:lnTo>
                    <a:lnTo>
                      <a:pt x="293" y="1177"/>
                    </a:lnTo>
                    <a:lnTo>
                      <a:pt x="329" y="1100"/>
                    </a:lnTo>
                    <a:lnTo>
                      <a:pt x="366" y="1023"/>
                    </a:lnTo>
                    <a:lnTo>
                      <a:pt x="405" y="948"/>
                    </a:lnTo>
                    <a:lnTo>
                      <a:pt x="447" y="875"/>
                    </a:lnTo>
                    <a:lnTo>
                      <a:pt x="492" y="801"/>
                    </a:lnTo>
                    <a:lnTo>
                      <a:pt x="538" y="731"/>
                    </a:lnTo>
                    <a:lnTo>
                      <a:pt x="586" y="661"/>
                    </a:lnTo>
                    <a:lnTo>
                      <a:pt x="635" y="593"/>
                    </a:lnTo>
                    <a:lnTo>
                      <a:pt x="687" y="526"/>
                    </a:lnTo>
                    <a:lnTo>
                      <a:pt x="741" y="461"/>
                    </a:lnTo>
                    <a:lnTo>
                      <a:pt x="796" y="398"/>
                    </a:lnTo>
                    <a:lnTo>
                      <a:pt x="854" y="336"/>
                    </a:lnTo>
                    <a:lnTo>
                      <a:pt x="913" y="275"/>
                    </a:lnTo>
                    <a:lnTo>
                      <a:pt x="974" y="216"/>
                    </a:lnTo>
                    <a:lnTo>
                      <a:pt x="1035" y="160"/>
                    </a:lnTo>
                    <a:lnTo>
                      <a:pt x="1099" y="105"/>
                    </a:lnTo>
                    <a:lnTo>
                      <a:pt x="1165" y="51"/>
                    </a:lnTo>
                    <a:lnTo>
                      <a:pt x="1232" y="0"/>
                    </a:lnTo>
                    <a:lnTo>
                      <a:pt x="1220" y="2"/>
                    </a:lnTo>
                    <a:lnTo>
                      <a:pt x="1207" y="5"/>
                    </a:lnTo>
                    <a:lnTo>
                      <a:pt x="1195" y="8"/>
                    </a:lnTo>
                    <a:lnTo>
                      <a:pt x="1183" y="11"/>
                    </a:lnTo>
                    <a:lnTo>
                      <a:pt x="1170" y="14"/>
                    </a:lnTo>
                    <a:lnTo>
                      <a:pt x="1158" y="16"/>
                    </a:lnTo>
                    <a:lnTo>
                      <a:pt x="1147" y="20"/>
                    </a:lnTo>
                    <a:lnTo>
                      <a:pt x="1135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390840" y="2052720"/>
                <a:ext cx="2365560" cy="1890720"/>
              </a:xfrm>
              <a:custGeom>
                <a:avLst/>
                <a:gdLst/>
                <a:ahLst/>
                <a:rect l="l" t="t" r="r" b="b"/>
                <a:pathLst>
                  <a:path w="5959" h="4765">
                    <a:moveTo>
                      <a:pt x="5959" y="2383"/>
                    </a:moveTo>
                    <a:lnTo>
                      <a:pt x="5957" y="2293"/>
                    </a:lnTo>
                    <a:lnTo>
                      <a:pt x="5953" y="2203"/>
                    </a:lnTo>
                    <a:lnTo>
                      <a:pt x="5947" y="2115"/>
                    </a:lnTo>
                    <a:lnTo>
                      <a:pt x="5937" y="2027"/>
                    </a:lnTo>
                    <a:lnTo>
                      <a:pt x="5926" y="1941"/>
                    </a:lnTo>
                    <a:lnTo>
                      <a:pt x="5911" y="1855"/>
                    </a:lnTo>
                    <a:lnTo>
                      <a:pt x="5895" y="1769"/>
                    </a:lnTo>
                    <a:lnTo>
                      <a:pt x="5877" y="1685"/>
                    </a:lnTo>
                    <a:lnTo>
                      <a:pt x="5855" y="1602"/>
                    </a:lnTo>
                    <a:lnTo>
                      <a:pt x="5831" y="1519"/>
                    </a:lnTo>
                    <a:lnTo>
                      <a:pt x="5805" y="1438"/>
                    </a:lnTo>
                    <a:lnTo>
                      <a:pt x="5777" y="1357"/>
                    </a:lnTo>
                    <a:lnTo>
                      <a:pt x="5747" y="1278"/>
                    </a:lnTo>
                    <a:lnTo>
                      <a:pt x="5713" y="1199"/>
                    </a:lnTo>
                    <a:lnTo>
                      <a:pt x="5679" y="1122"/>
                    </a:lnTo>
                    <a:lnTo>
                      <a:pt x="5642" y="1047"/>
                    </a:lnTo>
                    <a:lnTo>
                      <a:pt x="5603" y="971"/>
                    </a:lnTo>
                    <a:lnTo>
                      <a:pt x="5562" y="898"/>
                    </a:lnTo>
                    <a:lnTo>
                      <a:pt x="5519" y="826"/>
                    </a:lnTo>
                    <a:lnTo>
                      <a:pt x="5475" y="755"/>
                    </a:lnTo>
                    <a:lnTo>
                      <a:pt x="5427" y="686"/>
                    </a:lnTo>
                    <a:lnTo>
                      <a:pt x="5379" y="618"/>
                    </a:lnTo>
                    <a:lnTo>
                      <a:pt x="5328" y="551"/>
                    </a:lnTo>
                    <a:lnTo>
                      <a:pt x="5276" y="486"/>
                    </a:lnTo>
                    <a:lnTo>
                      <a:pt x="5222" y="422"/>
                    </a:lnTo>
                    <a:lnTo>
                      <a:pt x="5166" y="360"/>
                    </a:lnTo>
                    <a:lnTo>
                      <a:pt x="5108" y="299"/>
                    </a:lnTo>
                    <a:lnTo>
                      <a:pt x="5049" y="241"/>
                    </a:lnTo>
                    <a:lnTo>
                      <a:pt x="4988" y="184"/>
                    </a:lnTo>
                    <a:lnTo>
                      <a:pt x="4926" y="129"/>
                    </a:lnTo>
                    <a:lnTo>
                      <a:pt x="4862" y="75"/>
                    </a:lnTo>
                    <a:lnTo>
                      <a:pt x="4796" y="23"/>
                    </a:lnTo>
                    <a:lnTo>
                      <a:pt x="4783" y="20"/>
                    </a:lnTo>
                    <a:lnTo>
                      <a:pt x="4771" y="16"/>
                    </a:lnTo>
                    <a:lnTo>
                      <a:pt x="4758" y="14"/>
                    </a:lnTo>
                    <a:lnTo>
                      <a:pt x="4746" y="11"/>
                    </a:lnTo>
                    <a:lnTo>
                      <a:pt x="4733" y="9"/>
                    </a:lnTo>
                    <a:lnTo>
                      <a:pt x="4722" y="6"/>
                    </a:lnTo>
                    <a:lnTo>
                      <a:pt x="4709" y="3"/>
                    </a:lnTo>
                    <a:lnTo>
                      <a:pt x="4697" y="0"/>
                    </a:lnTo>
                    <a:lnTo>
                      <a:pt x="4765" y="51"/>
                    </a:lnTo>
                    <a:lnTo>
                      <a:pt x="4832" y="104"/>
                    </a:lnTo>
                    <a:lnTo>
                      <a:pt x="4898" y="159"/>
                    </a:lnTo>
                    <a:lnTo>
                      <a:pt x="4961" y="215"/>
                    </a:lnTo>
                    <a:lnTo>
                      <a:pt x="5023" y="273"/>
                    </a:lnTo>
                    <a:lnTo>
                      <a:pt x="5084" y="334"/>
                    </a:lnTo>
                    <a:lnTo>
                      <a:pt x="5142" y="395"/>
                    </a:lnTo>
                    <a:lnTo>
                      <a:pt x="5199" y="459"/>
                    </a:lnTo>
                    <a:lnTo>
                      <a:pt x="5254" y="525"/>
                    </a:lnTo>
                    <a:lnTo>
                      <a:pt x="5307" y="591"/>
                    </a:lnTo>
                    <a:lnTo>
                      <a:pt x="5358" y="660"/>
                    </a:lnTo>
                    <a:lnTo>
                      <a:pt x="5408" y="729"/>
                    </a:lnTo>
                    <a:lnTo>
                      <a:pt x="5454" y="802"/>
                    </a:lnTo>
                    <a:lnTo>
                      <a:pt x="5500" y="874"/>
                    </a:lnTo>
                    <a:lnTo>
                      <a:pt x="5543" y="948"/>
                    </a:lnTo>
                    <a:lnTo>
                      <a:pt x="5584" y="1024"/>
                    </a:lnTo>
                    <a:lnTo>
                      <a:pt x="5623" y="1101"/>
                    </a:lnTo>
                    <a:lnTo>
                      <a:pt x="5659" y="1178"/>
                    </a:lnTo>
                    <a:lnTo>
                      <a:pt x="5694" y="1257"/>
                    </a:lnTo>
                    <a:lnTo>
                      <a:pt x="5725" y="1338"/>
                    </a:lnTo>
                    <a:lnTo>
                      <a:pt x="5756" y="1420"/>
                    </a:lnTo>
                    <a:lnTo>
                      <a:pt x="5783" y="1502"/>
                    </a:lnTo>
                    <a:lnTo>
                      <a:pt x="5807" y="1587"/>
                    </a:lnTo>
                    <a:lnTo>
                      <a:pt x="5830" y="1671"/>
                    </a:lnTo>
                    <a:lnTo>
                      <a:pt x="5850" y="1757"/>
                    </a:lnTo>
                    <a:lnTo>
                      <a:pt x="5868" y="1844"/>
                    </a:lnTo>
                    <a:lnTo>
                      <a:pt x="5882" y="1932"/>
                    </a:lnTo>
                    <a:lnTo>
                      <a:pt x="5895" y="2021"/>
                    </a:lnTo>
                    <a:lnTo>
                      <a:pt x="5905" y="2109"/>
                    </a:lnTo>
                    <a:lnTo>
                      <a:pt x="5911" y="2200"/>
                    </a:lnTo>
                    <a:lnTo>
                      <a:pt x="5916" y="2291"/>
                    </a:lnTo>
                    <a:lnTo>
                      <a:pt x="5917" y="2383"/>
                    </a:lnTo>
                    <a:lnTo>
                      <a:pt x="5917" y="2432"/>
                    </a:lnTo>
                    <a:lnTo>
                      <a:pt x="5916" y="2481"/>
                    </a:lnTo>
                    <a:lnTo>
                      <a:pt x="5913" y="2530"/>
                    </a:lnTo>
                    <a:lnTo>
                      <a:pt x="5910" y="2579"/>
                    </a:lnTo>
                    <a:lnTo>
                      <a:pt x="5907" y="2628"/>
                    </a:lnTo>
                    <a:lnTo>
                      <a:pt x="5903" y="2675"/>
                    </a:lnTo>
                    <a:lnTo>
                      <a:pt x="5897" y="2724"/>
                    </a:lnTo>
                    <a:lnTo>
                      <a:pt x="5891" y="2771"/>
                    </a:lnTo>
                    <a:lnTo>
                      <a:pt x="5884" y="2819"/>
                    </a:lnTo>
                    <a:lnTo>
                      <a:pt x="5877" y="2867"/>
                    </a:lnTo>
                    <a:lnTo>
                      <a:pt x="5869" y="2914"/>
                    </a:lnTo>
                    <a:lnTo>
                      <a:pt x="5859" y="2960"/>
                    </a:lnTo>
                    <a:lnTo>
                      <a:pt x="5850" y="3008"/>
                    </a:lnTo>
                    <a:lnTo>
                      <a:pt x="5840" y="3053"/>
                    </a:lnTo>
                    <a:lnTo>
                      <a:pt x="5828" y="3100"/>
                    </a:lnTo>
                    <a:lnTo>
                      <a:pt x="5816" y="3146"/>
                    </a:lnTo>
                    <a:lnTo>
                      <a:pt x="5856" y="3157"/>
                    </a:lnTo>
                    <a:lnTo>
                      <a:pt x="5869" y="3111"/>
                    </a:lnTo>
                    <a:lnTo>
                      <a:pt x="5880" y="3063"/>
                    </a:lnTo>
                    <a:lnTo>
                      <a:pt x="5891" y="3017"/>
                    </a:lnTo>
                    <a:lnTo>
                      <a:pt x="5900" y="2969"/>
                    </a:lnTo>
                    <a:lnTo>
                      <a:pt x="5909" y="2922"/>
                    </a:lnTo>
                    <a:lnTo>
                      <a:pt x="5918" y="2874"/>
                    </a:lnTo>
                    <a:lnTo>
                      <a:pt x="5925" y="2825"/>
                    </a:lnTo>
                    <a:lnTo>
                      <a:pt x="5933" y="2777"/>
                    </a:lnTo>
                    <a:lnTo>
                      <a:pt x="5938" y="2728"/>
                    </a:lnTo>
                    <a:lnTo>
                      <a:pt x="5944" y="2680"/>
                    </a:lnTo>
                    <a:lnTo>
                      <a:pt x="5948" y="2631"/>
                    </a:lnTo>
                    <a:lnTo>
                      <a:pt x="5952" y="2581"/>
                    </a:lnTo>
                    <a:lnTo>
                      <a:pt x="5954" y="2532"/>
                    </a:lnTo>
                    <a:lnTo>
                      <a:pt x="5957" y="2482"/>
                    </a:lnTo>
                    <a:lnTo>
                      <a:pt x="5958" y="2432"/>
                    </a:lnTo>
                    <a:lnTo>
                      <a:pt x="5959" y="2383"/>
                    </a:lnTo>
                    <a:close/>
                    <a:moveTo>
                      <a:pt x="1162" y="23"/>
                    </a:moveTo>
                    <a:lnTo>
                      <a:pt x="1096" y="75"/>
                    </a:lnTo>
                    <a:lnTo>
                      <a:pt x="1033" y="129"/>
                    </a:lnTo>
                    <a:lnTo>
                      <a:pt x="970" y="184"/>
                    </a:lnTo>
                    <a:lnTo>
                      <a:pt x="909" y="241"/>
                    </a:lnTo>
                    <a:lnTo>
                      <a:pt x="850" y="299"/>
                    </a:lnTo>
                    <a:lnTo>
                      <a:pt x="793" y="360"/>
                    </a:lnTo>
                    <a:lnTo>
                      <a:pt x="737" y="422"/>
                    </a:lnTo>
                    <a:lnTo>
                      <a:pt x="683" y="486"/>
                    </a:lnTo>
                    <a:lnTo>
                      <a:pt x="630" y="551"/>
                    </a:lnTo>
                    <a:lnTo>
                      <a:pt x="580" y="618"/>
                    </a:lnTo>
                    <a:lnTo>
                      <a:pt x="531" y="686"/>
                    </a:lnTo>
                    <a:lnTo>
                      <a:pt x="484" y="755"/>
                    </a:lnTo>
                    <a:lnTo>
                      <a:pt x="439" y="826"/>
                    </a:lnTo>
                    <a:lnTo>
                      <a:pt x="396" y="898"/>
                    </a:lnTo>
                    <a:lnTo>
                      <a:pt x="355" y="971"/>
                    </a:lnTo>
                    <a:lnTo>
                      <a:pt x="316" y="1047"/>
                    </a:lnTo>
                    <a:lnTo>
                      <a:pt x="279" y="1122"/>
                    </a:lnTo>
                    <a:lnTo>
                      <a:pt x="245" y="1199"/>
                    </a:lnTo>
                    <a:lnTo>
                      <a:pt x="211" y="1278"/>
                    </a:lnTo>
                    <a:lnTo>
                      <a:pt x="181" y="1357"/>
                    </a:lnTo>
                    <a:lnTo>
                      <a:pt x="153" y="1438"/>
                    </a:lnTo>
                    <a:lnTo>
                      <a:pt x="127" y="1519"/>
                    </a:lnTo>
                    <a:lnTo>
                      <a:pt x="103" y="1602"/>
                    </a:lnTo>
                    <a:lnTo>
                      <a:pt x="82" y="1685"/>
                    </a:lnTo>
                    <a:lnTo>
                      <a:pt x="63" y="1769"/>
                    </a:lnTo>
                    <a:lnTo>
                      <a:pt x="46" y="1855"/>
                    </a:lnTo>
                    <a:lnTo>
                      <a:pt x="32" y="1941"/>
                    </a:lnTo>
                    <a:lnTo>
                      <a:pt x="21" y="2027"/>
                    </a:lnTo>
                    <a:lnTo>
                      <a:pt x="11" y="2115"/>
                    </a:lnTo>
                    <a:lnTo>
                      <a:pt x="5" y="2203"/>
                    </a:lnTo>
                    <a:lnTo>
                      <a:pt x="1" y="2293"/>
                    </a:lnTo>
                    <a:lnTo>
                      <a:pt x="0" y="2383"/>
                    </a:lnTo>
                    <a:lnTo>
                      <a:pt x="1" y="2472"/>
                    </a:lnTo>
                    <a:lnTo>
                      <a:pt x="5" y="2561"/>
                    </a:lnTo>
                    <a:lnTo>
                      <a:pt x="11" y="2649"/>
                    </a:lnTo>
                    <a:lnTo>
                      <a:pt x="21" y="2737"/>
                    </a:lnTo>
                    <a:lnTo>
                      <a:pt x="32" y="2824"/>
                    </a:lnTo>
                    <a:lnTo>
                      <a:pt x="46" y="2911"/>
                    </a:lnTo>
                    <a:lnTo>
                      <a:pt x="63" y="2996"/>
                    </a:lnTo>
                    <a:lnTo>
                      <a:pt x="82" y="3080"/>
                    </a:lnTo>
                    <a:lnTo>
                      <a:pt x="103" y="3164"/>
                    </a:lnTo>
                    <a:lnTo>
                      <a:pt x="127" y="3246"/>
                    </a:lnTo>
                    <a:lnTo>
                      <a:pt x="153" y="3328"/>
                    </a:lnTo>
                    <a:lnTo>
                      <a:pt x="181" y="3408"/>
                    </a:lnTo>
                    <a:lnTo>
                      <a:pt x="211" y="3488"/>
                    </a:lnTo>
                    <a:lnTo>
                      <a:pt x="245" y="3565"/>
                    </a:lnTo>
                    <a:lnTo>
                      <a:pt x="279" y="3643"/>
                    </a:lnTo>
                    <a:lnTo>
                      <a:pt x="316" y="3719"/>
                    </a:lnTo>
                    <a:lnTo>
                      <a:pt x="355" y="3793"/>
                    </a:lnTo>
                    <a:lnTo>
                      <a:pt x="396" y="3867"/>
                    </a:lnTo>
                    <a:lnTo>
                      <a:pt x="439" y="3939"/>
                    </a:lnTo>
                    <a:lnTo>
                      <a:pt x="484" y="4009"/>
                    </a:lnTo>
                    <a:lnTo>
                      <a:pt x="531" y="4079"/>
                    </a:lnTo>
                    <a:lnTo>
                      <a:pt x="580" y="4147"/>
                    </a:lnTo>
                    <a:lnTo>
                      <a:pt x="630" y="4214"/>
                    </a:lnTo>
                    <a:lnTo>
                      <a:pt x="683" y="4279"/>
                    </a:lnTo>
                    <a:lnTo>
                      <a:pt x="737" y="4343"/>
                    </a:lnTo>
                    <a:lnTo>
                      <a:pt x="793" y="4404"/>
                    </a:lnTo>
                    <a:lnTo>
                      <a:pt x="850" y="4465"/>
                    </a:lnTo>
                    <a:lnTo>
                      <a:pt x="909" y="4524"/>
                    </a:lnTo>
                    <a:lnTo>
                      <a:pt x="970" y="4582"/>
                    </a:lnTo>
                    <a:lnTo>
                      <a:pt x="1033" y="4637"/>
                    </a:lnTo>
                    <a:lnTo>
                      <a:pt x="1096" y="4691"/>
                    </a:lnTo>
                    <a:lnTo>
                      <a:pt x="1162" y="4742"/>
                    </a:lnTo>
                    <a:lnTo>
                      <a:pt x="1174" y="4745"/>
                    </a:lnTo>
                    <a:lnTo>
                      <a:pt x="1187" y="4748"/>
                    </a:lnTo>
                    <a:lnTo>
                      <a:pt x="1199" y="4751"/>
                    </a:lnTo>
                    <a:lnTo>
                      <a:pt x="1212" y="4753"/>
                    </a:lnTo>
                    <a:lnTo>
                      <a:pt x="1224" y="4757"/>
                    </a:lnTo>
                    <a:lnTo>
                      <a:pt x="1237" y="4759"/>
                    </a:lnTo>
                    <a:lnTo>
                      <a:pt x="1250" y="4762"/>
                    </a:lnTo>
                    <a:lnTo>
                      <a:pt x="1262" y="4765"/>
                    </a:lnTo>
                    <a:lnTo>
                      <a:pt x="1194" y="4713"/>
                    </a:lnTo>
                    <a:lnTo>
                      <a:pt x="1127" y="4660"/>
                    </a:lnTo>
                    <a:lnTo>
                      <a:pt x="1061" y="4606"/>
                    </a:lnTo>
                    <a:lnTo>
                      <a:pt x="997" y="4549"/>
                    </a:lnTo>
                    <a:lnTo>
                      <a:pt x="935" y="4491"/>
                    </a:lnTo>
                    <a:lnTo>
                      <a:pt x="875" y="4430"/>
                    </a:lnTo>
                    <a:lnTo>
                      <a:pt x="816" y="4369"/>
                    </a:lnTo>
                    <a:lnTo>
                      <a:pt x="759" y="4305"/>
                    </a:lnTo>
                    <a:lnTo>
                      <a:pt x="704" y="4240"/>
                    </a:lnTo>
                    <a:lnTo>
                      <a:pt x="651" y="4173"/>
                    </a:lnTo>
                    <a:lnTo>
                      <a:pt x="600" y="4105"/>
                    </a:lnTo>
                    <a:lnTo>
                      <a:pt x="551" y="4035"/>
                    </a:lnTo>
                    <a:lnTo>
                      <a:pt x="504" y="3964"/>
                    </a:lnTo>
                    <a:lnTo>
                      <a:pt x="459" y="3891"/>
                    </a:lnTo>
                    <a:lnTo>
                      <a:pt x="416" y="3817"/>
                    </a:lnTo>
                    <a:lnTo>
                      <a:pt x="375" y="3741"/>
                    </a:lnTo>
                    <a:lnTo>
                      <a:pt x="336" y="3665"/>
                    </a:lnTo>
                    <a:lnTo>
                      <a:pt x="299" y="3587"/>
                    </a:lnTo>
                    <a:lnTo>
                      <a:pt x="264" y="3507"/>
                    </a:lnTo>
                    <a:lnTo>
                      <a:pt x="233" y="3427"/>
                    </a:lnTo>
                    <a:lnTo>
                      <a:pt x="203" y="3345"/>
                    </a:lnTo>
                    <a:lnTo>
                      <a:pt x="176" y="3262"/>
                    </a:lnTo>
                    <a:lnTo>
                      <a:pt x="151" y="3179"/>
                    </a:lnTo>
                    <a:lnTo>
                      <a:pt x="128" y="3093"/>
                    </a:lnTo>
                    <a:lnTo>
                      <a:pt x="109" y="3008"/>
                    </a:lnTo>
                    <a:lnTo>
                      <a:pt x="90" y="2921"/>
                    </a:lnTo>
                    <a:lnTo>
                      <a:pt x="76" y="2833"/>
                    </a:lnTo>
                    <a:lnTo>
                      <a:pt x="63" y="2744"/>
                    </a:lnTo>
                    <a:lnTo>
                      <a:pt x="54" y="2655"/>
                    </a:lnTo>
                    <a:lnTo>
                      <a:pt x="47" y="2565"/>
                    </a:lnTo>
                    <a:lnTo>
                      <a:pt x="43" y="2474"/>
                    </a:lnTo>
                    <a:lnTo>
                      <a:pt x="42" y="2383"/>
                    </a:lnTo>
                    <a:lnTo>
                      <a:pt x="43" y="2291"/>
                    </a:lnTo>
                    <a:lnTo>
                      <a:pt x="47" y="2200"/>
                    </a:lnTo>
                    <a:lnTo>
                      <a:pt x="54" y="2109"/>
                    </a:lnTo>
                    <a:lnTo>
                      <a:pt x="63" y="2021"/>
                    </a:lnTo>
                    <a:lnTo>
                      <a:pt x="76" y="1932"/>
                    </a:lnTo>
                    <a:lnTo>
                      <a:pt x="90" y="1844"/>
                    </a:lnTo>
                    <a:lnTo>
                      <a:pt x="109" y="1757"/>
                    </a:lnTo>
                    <a:lnTo>
                      <a:pt x="128" y="1671"/>
                    </a:lnTo>
                    <a:lnTo>
                      <a:pt x="151" y="1587"/>
                    </a:lnTo>
                    <a:lnTo>
                      <a:pt x="176" y="1502"/>
                    </a:lnTo>
                    <a:lnTo>
                      <a:pt x="203" y="1420"/>
                    </a:lnTo>
                    <a:lnTo>
                      <a:pt x="233" y="1338"/>
                    </a:lnTo>
                    <a:lnTo>
                      <a:pt x="264" y="1257"/>
                    </a:lnTo>
                    <a:lnTo>
                      <a:pt x="299" y="1178"/>
                    </a:lnTo>
                    <a:lnTo>
                      <a:pt x="336" y="1101"/>
                    </a:lnTo>
                    <a:lnTo>
                      <a:pt x="375" y="1024"/>
                    </a:lnTo>
                    <a:lnTo>
                      <a:pt x="416" y="948"/>
                    </a:lnTo>
                    <a:lnTo>
                      <a:pt x="459" y="874"/>
                    </a:lnTo>
                    <a:lnTo>
                      <a:pt x="504" y="802"/>
                    </a:lnTo>
                    <a:lnTo>
                      <a:pt x="551" y="729"/>
                    </a:lnTo>
                    <a:lnTo>
                      <a:pt x="600" y="660"/>
                    </a:lnTo>
                    <a:lnTo>
                      <a:pt x="651" y="591"/>
                    </a:lnTo>
                    <a:lnTo>
                      <a:pt x="704" y="525"/>
                    </a:lnTo>
                    <a:lnTo>
                      <a:pt x="759" y="459"/>
                    </a:lnTo>
                    <a:lnTo>
                      <a:pt x="816" y="395"/>
                    </a:lnTo>
                    <a:lnTo>
                      <a:pt x="875" y="334"/>
                    </a:lnTo>
                    <a:lnTo>
                      <a:pt x="935" y="273"/>
                    </a:lnTo>
                    <a:lnTo>
                      <a:pt x="997" y="215"/>
                    </a:lnTo>
                    <a:lnTo>
                      <a:pt x="1061" y="159"/>
                    </a:lnTo>
                    <a:lnTo>
                      <a:pt x="1127" y="104"/>
                    </a:lnTo>
                    <a:lnTo>
                      <a:pt x="1194" y="51"/>
                    </a:lnTo>
                    <a:lnTo>
                      <a:pt x="1262" y="0"/>
                    </a:lnTo>
                    <a:lnTo>
                      <a:pt x="1250" y="3"/>
                    </a:lnTo>
                    <a:lnTo>
                      <a:pt x="1237" y="6"/>
                    </a:lnTo>
                    <a:lnTo>
                      <a:pt x="1225" y="9"/>
                    </a:lnTo>
                    <a:lnTo>
                      <a:pt x="1212" y="11"/>
                    </a:lnTo>
                    <a:lnTo>
                      <a:pt x="1199" y="14"/>
                    </a:lnTo>
                    <a:lnTo>
                      <a:pt x="1187" y="16"/>
                    </a:lnTo>
                    <a:lnTo>
                      <a:pt x="1174" y="20"/>
                    </a:lnTo>
                    <a:lnTo>
                      <a:pt x="1162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00560" y="2047680"/>
                <a:ext cx="2347920" cy="1898640"/>
              </a:xfrm>
              <a:custGeom>
                <a:avLst/>
                <a:gdLst/>
                <a:ahLst/>
                <a:rect l="l" t="t" r="r" b="b"/>
                <a:pathLst>
                  <a:path w="5916" h="4786">
                    <a:moveTo>
                      <a:pt x="5916" y="2394"/>
                    </a:moveTo>
                    <a:lnTo>
                      <a:pt x="5915" y="2303"/>
                    </a:lnTo>
                    <a:lnTo>
                      <a:pt x="5911" y="2213"/>
                    </a:lnTo>
                    <a:lnTo>
                      <a:pt x="5904" y="2124"/>
                    </a:lnTo>
                    <a:lnTo>
                      <a:pt x="5896" y="2035"/>
                    </a:lnTo>
                    <a:lnTo>
                      <a:pt x="5883" y="1948"/>
                    </a:lnTo>
                    <a:lnTo>
                      <a:pt x="5869" y="1860"/>
                    </a:lnTo>
                    <a:lnTo>
                      <a:pt x="5851" y="1775"/>
                    </a:lnTo>
                    <a:lnTo>
                      <a:pt x="5832" y="1690"/>
                    </a:lnTo>
                    <a:lnTo>
                      <a:pt x="5810" y="1605"/>
                    </a:lnTo>
                    <a:lnTo>
                      <a:pt x="5786" y="1522"/>
                    </a:lnTo>
                    <a:lnTo>
                      <a:pt x="5759" y="1440"/>
                    </a:lnTo>
                    <a:lnTo>
                      <a:pt x="5730" y="1359"/>
                    </a:lnTo>
                    <a:lnTo>
                      <a:pt x="5699" y="1279"/>
                    </a:lnTo>
                    <a:lnTo>
                      <a:pt x="5665" y="1200"/>
                    </a:lnTo>
                    <a:lnTo>
                      <a:pt x="5630" y="1123"/>
                    </a:lnTo>
                    <a:lnTo>
                      <a:pt x="5592" y="1046"/>
                    </a:lnTo>
                    <a:lnTo>
                      <a:pt x="5552" y="971"/>
                    </a:lnTo>
                    <a:lnTo>
                      <a:pt x="5511" y="898"/>
                    </a:lnTo>
                    <a:lnTo>
                      <a:pt x="5467" y="824"/>
                    </a:lnTo>
                    <a:lnTo>
                      <a:pt x="5420" y="754"/>
                    </a:lnTo>
                    <a:lnTo>
                      <a:pt x="5373" y="684"/>
                    </a:lnTo>
                    <a:lnTo>
                      <a:pt x="5323" y="616"/>
                    </a:lnTo>
                    <a:lnTo>
                      <a:pt x="5271" y="549"/>
                    </a:lnTo>
                    <a:lnTo>
                      <a:pt x="5217" y="484"/>
                    </a:lnTo>
                    <a:lnTo>
                      <a:pt x="5162" y="421"/>
                    </a:lnTo>
                    <a:lnTo>
                      <a:pt x="5105" y="359"/>
                    </a:lnTo>
                    <a:lnTo>
                      <a:pt x="5045" y="298"/>
                    </a:lnTo>
                    <a:lnTo>
                      <a:pt x="4985" y="239"/>
                    </a:lnTo>
                    <a:lnTo>
                      <a:pt x="4923" y="183"/>
                    </a:lnTo>
                    <a:lnTo>
                      <a:pt x="4859" y="128"/>
                    </a:lnTo>
                    <a:lnTo>
                      <a:pt x="4793" y="74"/>
                    </a:lnTo>
                    <a:lnTo>
                      <a:pt x="4726" y="23"/>
                    </a:lnTo>
                    <a:lnTo>
                      <a:pt x="4714" y="20"/>
                    </a:lnTo>
                    <a:lnTo>
                      <a:pt x="4701" y="17"/>
                    </a:lnTo>
                    <a:lnTo>
                      <a:pt x="4689" y="14"/>
                    </a:lnTo>
                    <a:lnTo>
                      <a:pt x="4676" y="11"/>
                    </a:lnTo>
                    <a:lnTo>
                      <a:pt x="4663" y="9"/>
                    </a:lnTo>
                    <a:lnTo>
                      <a:pt x="4650" y="6"/>
                    </a:lnTo>
                    <a:lnTo>
                      <a:pt x="4637" y="4"/>
                    </a:lnTo>
                    <a:lnTo>
                      <a:pt x="4624" y="0"/>
                    </a:lnTo>
                    <a:lnTo>
                      <a:pt x="4694" y="51"/>
                    </a:lnTo>
                    <a:lnTo>
                      <a:pt x="4763" y="103"/>
                    </a:lnTo>
                    <a:lnTo>
                      <a:pt x="4830" y="158"/>
                    </a:lnTo>
                    <a:lnTo>
                      <a:pt x="4895" y="214"/>
                    </a:lnTo>
                    <a:lnTo>
                      <a:pt x="4959" y="271"/>
                    </a:lnTo>
                    <a:lnTo>
                      <a:pt x="5020" y="332"/>
                    </a:lnTo>
                    <a:lnTo>
                      <a:pt x="5081" y="394"/>
                    </a:lnTo>
                    <a:lnTo>
                      <a:pt x="5138" y="457"/>
                    </a:lnTo>
                    <a:lnTo>
                      <a:pt x="5194" y="522"/>
                    </a:lnTo>
                    <a:lnTo>
                      <a:pt x="5249" y="589"/>
                    </a:lnTo>
                    <a:lnTo>
                      <a:pt x="5301" y="658"/>
                    </a:lnTo>
                    <a:lnTo>
                      <a:pt x="5352" y="728"/>
                    </a:lnTo>
                    <a:lnTo>
                      <a:pt x="5401" y="800"/>
                    </a:lnTo>
                    <a:lnTo>
                      <a:pt x="5447" y="872"/>
                    </a:lnTo>
                    <a:lnTo>
                      <a:pt x="5492" y="946"/>
                    </a:lnTo>
                    <a:lnTo>
                      <a:pt x="5533" y="1023"/>
                    </a:lnTo>
                    <a:lnTo>
                      <a:pt x="5573" y="1100"/>
                    </a:lnTo>
                    <a:lnTo>
                      <a:pt x="5610" y="1179"/>
                    </a:lnTo>
                    <a:lnTo>
                      <a:pt x="5646" y="1259"/>
                    </a:lnTo>
                    <a:lnTo>
                      <a:pt x="5678" y="1340"/>
                    </a:lnTo>
                    <a:lnTo>
                      <a:pt x="5709" y="1422"/>
                    </a:lnTo>
                    <a:lnTo>
                      <a:pt x="5737" y="1506"/>
                    </a:lnTo>
                    <a:lnTo>
                      <a:pt x="5763" y="1590"/>
                    </a:lnTo>
                    <a:lnTo>
                      <a:pt x="5785" y="1675"/>
                    </a:lnTo>
                    <a:lnTo>
                      <a:pt x="5806" y="1762"/>
                    </a:lnTo>
                    <a:lnTo>
                      <a:pt x="5824" y="1849"/>
                    </a:lnTo>
                    <a:lnTo>
                      <a:pt x="5839" y="1938"/>
                    </a:lnTo>
                    <a:lnTo>
                      <a:pt x="5852" y="2028"/>
                    </a:lnTo>
                    <a:lnTo>
                      <a:pt x="5862" y="2118"/>
                    </a:lnTo>
                    <a:lnTo>
                      <a:pt x="5870" y="2209"/>
                    </a:lnTo>
                    <a:lnTo>
                      <a:pt x="5874" y="2301"/>
                    </a:lnTo>
                    <a:lnTo>
                      <a:pt x="5875" y="2394"/>
                    </a:lnTo>
                    <a:lnTo>
                      <a:pt x="5874" y="2442"/>
                    </a:lnTo>
                    <a:lnTo>
                      <a:pt x="5873" y="2491"/>
                    </a:lnTo>
                    <a:lnTo>
                      <a:pt x="5871" y="2539"/>
                    </a:lnTo>
                    <a:lnTo>
                      <a:pt x="5869" y="2588"/>
                    </a:lnTo>
                    <a:lnTo>
                      <a:pt x="5865" y="2637"/>
                    </a:lnTo>
                    <a:lnTo>
                      <a:pt x="5860" y="2684"/>
                    </a:lnTo>
                    <a:lnTo>
                      <a:pt x="5856" y="2733"/>
                    </a:lnTo>
                    <a:lnTo>
                      <a:pt x="5849" y="2780"/>
                    </a:lnTo>
                    <a:lnTo>
                      <a:pt x="5843" y="2828"/>
                    </a:lnTo>
                    <a:lnTo>
                      <a:pt x="5835" y="2874"/>
                    </a:lnTo>
                    <a:lnTo>
                      <a:pt x="5828" y="2921"/>
                    </a:lnTo>
                    <a:lnTo>
                      <a:pt x="5818" y="2968"/>
                    </a:lnTo>
                    <a:lnTo>
                      <a:pt x="5808" y="3014"/>
                    </a:lnTo>
                    <a:lnTo>
                      <a:pt x="5798" y="3060"/>
                    </a:lnTo>
                    <a:lnTo>
                      <a:pt x="5786" y="3105"/>
                    </a:lnTo>
                    <a:lnTo>
                      <a:pt x="5776" y="3152"/>
                    </a:lnTo>
                    <a:lnTo>
                      <a:pt x="5816" y="3163"/>
                    </a:lnTo>
                    <a:lnTo>
                      <a:pt x="5828" y="3116"/>
                    </a:lnTo>
                    <a:lnTo>
                      <a:pt x="5838" y="3070"/>
                    </a:lnTo>
                    <a:lnTo>
                      <a:pt x="5849" y="3023"/>
                    </a:lnTo>
                    <a:lnTo>
                      <a:pt x="5859" y="2976"/>
                    </a:lnTo>
                    <a:lnTo>
                      <a:pt x="5868" y="2928"/>
                    </a:lnTo>
                    <a:lnTo>
                      <a:pt x="5876" y="2881"/>
                    </a:lnTo>
                    <a:lnTo>
                      <a:pt x="5884" y="2833"/>
                    </a:lnTo>
                    <a:lnTo>
                      <a:pt x="5890" y="2786"/>
                    </a:lnTo>
                    <a:lnTo>
                      <a:pt x="5897" y="2737"/>
                    </a:lnTo>
                    <a:lnTo>
                      <a:pt x="5902" y="2689"/>
                    </a:lnTo>
                    <a:lnTo>
                      <a:pt x="5906" y="2640"/>
                    </a:lnTo>
                    <a:lnTo>
                      <a:pt x="5910" y="2591"/>
                    </a:lnTo>
                    <a:lnTo>
                      <a:pt x="5913" y="2542"/>
                    </a:lnTo>
                    <a:lnTo>
                      <a:pt x="5915" y="2493"/>
                    </a:lnTo>
                    <a:lnTo>
                      <a:pt x="5916" y="2443"/>
                    </a:lnTo>
                    <a:lnTo>
                      <a:pt x="5916" y="2394"/>
                    </a:lnTo>
                    <a:close/>
                    <a:moveTo>
                      <a:pt x="1190" y="23"/>
                    </a:moveTo>
                    <a:lnTo>
                      <a:pt x="1123" y="74"/>
                    </a:lnTo>
                    <a:lnTo>
                      <a:pt x="1057" y="128"/>
                    </a:lnTo>
                    <a:lnTo>
                      <a:pt x="993" y="183"/>
                    </a:lnTo>
                    <a:lnTo>
                      <a:pt x="932" y="239"/>
                    </a:lnTo>
                    <a:lnTo>
                      <a:pt x="871" y="298"/>
                    </a:lnTo>
                    <a:lnTo>
                      <a:pt x="812" y="359"/>
                    </a:lnTo>
                    <a:lnTo>
                      <a:pt x="754" y="421"/>
                    </a:lnTo>
                    <a:lnTo>
                      <a:pt x="699" y="484"/>
                    </a:lnTo>
                    <a:lnTo>
                      <a:pt x="645" y="549"/>
                    </a:lnTo>
                    <a:lnTo>
                      <a:pt x="593" y="616"/>
                    </a:lnTo>
                    <a:lnTo>
                      <a:pt x="544" y="684"/>
                    </a:lnTo>
                    <a:lnTo>
                      <a:pt x="496" y="754"/>
                    </a:lnTo>
                    <a:lnTo>
                      <a:pt x="450" y="824"/>
                    </a:lnTo>
                    <a:lnTo>
                      <a:pt x="405" y="898"/>
                    </a:lnTo>
                    <a:lnTo>
                      <a:pt x="363" y="971"/>
                    </a:lnTo>
                    <a:lnTo>
                      <a:pt x="324" y="1046"/>
                    </a:lnTo>
                    <a:lnTo>
                      <a:pt x="287" y="1123"/>
                    </a:lnTo>
                    <a:lnTo>
                      <a:pt x="251" y="1200"/>
                    </a:lnTo>
                    <a:lnTo>
                      <a:pt x="217" y="1279"/>
                    </a:lnTo>
                    <a:lnTo>
                      <a:pt x="186" y="1359"/>
                    </a:lnTo>
                    <a:lnTo>
                      <a:pt x="157" y="1440"/>
                    </a:lnTo>
                    <a:lnTo>
                      <a:pt x="130" y="1522"/>
                    </a:lnTo>
                    <a:lnTo>
                      <a:pt x="106" y="1605"/>
                    </a:lnTo>
                    <a:lnTo>
                      <a:pt x="84" y="1690"/>
                    </a:lnTo>
                    <a:lnTo>
                      <a:pt x="65" y="1775"/>
                    </a:lnTo>
                    <a:lnTo>
                      <a:pt x="48" y="1860"/>
                    </a:lnTo>
                    <a:lnTo>
                      <a:pt x="33" y="1948"/>
                    </a:lnTo>
                    <a:lnTo>
                      <a:pt x="21" y="2035"/>
                    </a:lnTo>
                    <a:lnTo>
                      <a:pt x="12" y="2124"/>
                    </a:lnTo>
                    <a:lnTo>
                      <a:pt x="6" y="2213"/>
                    </a:lnTo>
                    <a:lnTo>
                      <a:pt x="1" y="2303"/>
                    </a:lnTo>
                    <a:lnTo>
                      <a:pt x="0" y="2394"/>
                    </a:lnTo>
                    <a:lnTo>
                      <a:pt x="1" y="2484"/>
                    </a:lnTo>
                    <a:lnTo>
                      <a:pt x="6" y="2574"/>
                    </a:lnTo>
                    <a:lnTo>
                      <a:pt x="12" y="2664"/>
                    </a:lnTo>
                    <a:lnTo>
                      <a:pt x="21" y="2752"/>
                    </a:lnTo>
                    <a:lnTo>
                      <a:pt x="33" y="2840"/>
                    </a:lnTo>
                    <a:lnTo>
                      <a:pt x="48" y="2926"/>
                    </a:lnTo>
                    <a:lnTo>
                      <a:pt x="65" y="3013"/>
                    </a:lnTo>
                    <a:lnTo>
                      <a:pt x="84" y="3098"/>
                    </a:lnTo>
                    <a:lnTo>
                      <a:pt x="106" y="3181"/>
                    </a:lnTo>
                    <a:lnTo>
                      <a:pt x="130" y="3264"/>
                    </a:lnTo>
                    <a:lnTo>
                      <a:pt x="157" y="3346"/>
                    </a:lnTo>
                    <a:lnTo>
                      <a:pt x="186" y="3428"/>
                    </a:lnTo>
                    <a:lnTo>
                      <a:pt x="217" y="3508"/>
                    </a:lnTo>
                    <a:lnTo>
                      <a:pt x="251" y="3586"/>
                    </a:lnTo>
                    <a:lnTo>
                      <a:pt x="287" y="3664"/>
                    </a:lnTo>
                    <a:lnTo>
                      <a:pt x="324" y="3740"/>
                    </a:lnTo>
                    <a:lnTo>
                      <a:pt x="363" y="3816"/>
                    </a:lnTo>
                    <a:lnTo>
                      <a:pt x="405" y="3889"/>
                    </a:lnTo>
                    <a:lnTo>
                      <a:pt x="450" y="3962"/>
                    </a:lnTo>
                    <a:lnTo>
                      <a:pt x="496" y="4033"/>
                    </a:lnTo>
                    <a:lnTo>
                      <a:pt x="544" y="4102"/>
                    </a:lnTo>
                    <a:lnTo>
                      <a:pt x="593" y="4171"/>
                    </a:lnTo>
                    <a:lnTo>
                      <a:pt x="645" y="4237"/>
                    </a:lnTo>
                    <a:lnTo>
                      <a:pt x="699" y="4303"/>
                    </a:lnTo>
                    <a:lnTo>
                      <a:pt x="754" y="4367"/>
                    </a:lnTo>
                    <a:lnTo>
                      <a:pt x="812" y="4428"/>
                    </a:lnTo>
                    <a:lnTo>
                      <a:pt x="871" y="4489"/>
                    </a:lnTo>
                    <a:lnTo>
                      <a:pt x="932" y="4547"/>
                    </a:lnTo>
                    <a:lnTo>
                      <a:pt x="993" y="4604"/>
                    </a:lnTo>
                    <a:lnTo>
                      <a:pt x="1057" y="4660"/>
                    </a:lnTo>
                    <a:lnTo>
                      <a:pt x="1123" y="4712"/>
                    </a:lnTo>
                    <a:lnTo>
                      <a:pt x="1190" y="4764"/>
                    </a:lnTo>
                    <a:lnTo>
                      <a:pt x="1203" y="4768"/>
                    </a:lnTo>
                    <a:lnTo>
                      <a:pt x="1215" y="4770"/>
                    </a:lnTo>
                    <a:lnTo>
                      <a:pt x="1228" y="4773"/>
                    </a:lnTo>
                    <a:lnTo>
                      <a:pt x="1241" y="4775"/>
                    </a:lnTo>
                    <a:lnTo>
                      <a:pt x="1254" y="4778"/>
                    </a:lnTo>
                    <a:lnTo>
                      <a:pt x="1267" y="4780"/>
                    </a:lnTo>
                    <a:lnTo>
                      <a:pt x="1280" y="4784"/>
                    </a:lnTo>
                    <a:lnTo>
                      <a:pt x="1293" y="4786"/>
                    </a:lnTo>
                    <a:lnTo>
                      <a:pt x="1222" y="4736"/>
                    </a:lnTo>
                    <a:lnTo>
                      <a:pt x="1153" y="4683"/>
                    </a:lnTo>
                    <a:lnTo>
                      <a:pt x="1086" y="4629"/>
                    </a:lnTo>
                    <a:lnTo>
                      <a:pt x="1021" y="4573"/>
                    </a:lnTo>
                    <a:lnTo>
                      <a:pt x="958" y="4515"/>
                    </a:lnTo>
                    <a:lnTo>
                      <a:pt x="896" y="4454"/>
                    </a:lnTo>
                    <a:lnTo>
                      <a:pt x="835" y="4393"/>
                    </a:lnTo>
                    <a:lnTo>
                      <a:pt x="778" y="4330"/>
                    </a:lnTo>
                    <a:lnTo>
                      <a:pt x="721" y="4264"/>
                    </a:lnTo>
                    <a:lnTo>
                      <a:pt x="667" y="4197"/>
                    </a:lnTo>
                    <a:lnTo>
                      <a:pt x="615" y="4129"/>
                    </a:lnTo>
                    <a:lnTo>
                      <a:pt x="564" y="4059"/>
                    </a:lnTo>
                    <a:lnTo>
                      <a:pt x="516" y="3988"/>
                    </a:lnTo>
                    <a:lnTo>
                      <a:pt x="469" y="3914"/>
                    </a:lnTo>
                    <a:lnTo>
                      <a:pt x="425" y="3840"/>
                    </a:lnTo>
                    <a:lnTo>
                      <a:pt x="383" y="3764"/>
                    </a:lnTo>
                    <a:lnTo>
                      <a:pt x="344" y="3686"/>
                    </a:lnTo>
                    <a:lnTo>
                      <a:pt x="306" y="3608"/>
                    </a:lnTo>
                    <a:lnTo>
                      <a:pt x="270" y="3528"/>
                    </a:lnTo>
                    <a:lnTo>
                      <a:pt x="238" y="3447"/>
                    </a:lnTo>
                    <a:lnTo>
                      <a:pt x="208" y="3365"/>
                    </a:lnTo>
                    <a:lnTo>
                      <a:pt x="180" y="3281"/>
                    </a:lnTo>
                    <a:lnTo>
                      <a:pt x="154" y="3197"/>
                    </a:lnTo>
                    <a:lnTo>
                      <a:pt x="131" y="3111"/>
                    </a:lnTo>
                    <a:lnTo>
                      <a:pt x="110" y="3024"/>
                    </a:lnTo>
                    <a:lnTo>
                      <a:pt x="92" y="2937"/>
                    </a:lnTo>
                    <a:lnTo>
                      <a:pt x="77" y="2848"/>
                    </a:lnTo>
                    <a:lnTo>
                      <a:pt x="64" y="2759"/>
                    </a:lnTo>
                    <a:lnTo>
                      <a:pt x="54" y="2669"/>
                    </a:lnTo>
                    <a:lnTo>
                      <a:pt x="47" y="2577"/>
                    </a:lnTo>
                    <a:lnTo>
                      <a:pt x="42" y="2485"/>
                    </a:lnTo>
                    <a:lnTo>
                      <a:pt x="41" y="2394"/>
                    </a:lnTo>
                    <a:lnTo>
                      <a:pt x="42" y="2301"/>
                    </a:lnTo>
                    <a:lnTo>
                      <a:pt x="47" y="2209"/>
                    </a:lnTo>
                    <a:lnTo>
                      <a:pt x="54" y="2118"/>
                    </a:lnTo>
                    <a:lnTo>
                      <a:pt x="64" y="2028"/>
                    </a:lnTo>
                    <a:lnTo>
                      <a:pt x="77" y="1938"/>
                    </a:lnTo>
                    <a:lnTo>
                      <a:pt x="92" y="1849"/>
                    </a:lnTo>
                    <a:lnTo>
                      <a:pt x="110" y="1762"/>
                    </a:lnTo>
                    <a:lnTo>
                      <a:pt x="131" y="1675"/>
                    </a:lnTo>
                    <a:lnTo>
                      <a:pt x="154" y="1590"/>
                    </a:lnTo>
                    <a:lnTo>
                      <a:pt x="180" y="1506"/>
                    </a:lnTo>
                    <a:lnTo>
                      <a:pt x="208" y="1422"/>
                    </a:lnTo>
                    <a:lnTo>
                      <a:pt x="238" y="1340"/>
                    </a:lnTo>
                    <a:lnTo>
                      <a:pt x="270" y="1259"/>
                    </a:lnTo>
                    <a:lnTo>
                      <a:pt x="306" y="1179"/>
                    </a:lnTo>
                    <a:lnTo>
                      <a:pt x="344" y="1100"/>
                    </a:lnTo>
                    <a:lnTo>
                      <a:pt x="383" y="1023"/>
                    </a:lnTo>
                    <a:lnTo>
                      <a:pt x="425" y="946"/>
                    </a:lnTo>
                    <a:lnTo>
                      <a:pt x="469" y="872"/>
                    </a:lnTo>
                    <a:lnTo>
                      <a:pt x="516" y="800"/>
                    </a:lnTo>
                    <a:lnTo>
                      <a:pt x="564" y="728"/>
                    </a:lnTo>
                    <a:lnTo>
                      <a:pt x="615" y="658"/>
                    </a:lnTo>
                    <a:lnTo>
                      <a:pt x="667" y="589"/>
                    </a:lnTo>
                    <a:lnTo>
                      <a:pt x="721" y="522"/>
                    </a:lnTo>
                    <a:lnTo>
                      <a:pt x="778" y="457"/>
                    </a:lnTo>
                    <a:lnTo>
                      <a:pt x="835" y="394"/>
                    </a:lnTo>
                    <a:lnTo>
                      <a:pt x="896" y="332"/>
                    </a:lnTo>
                    <a:lnTo>
                      <a:pt x="958" y="271"/>
                    </a:lnTo>
                    <a:lnTo>
                      <a:pt x="1021" y="214"/>
                    </a:lnTo>
                    <a:lnTo>
                      <a:pt x="1086" y="158"/>
                    </a:lnTo>
                    <a:lnTo>
                      <a:pt x="1153" y="103"/>
                    </a:lnTo>
                    <a:lnTo>
                      <a:pt x="1222" y="51"/>
                    </a:lnTo>
                    <a:lnTo>
                      <a:pt x="1293" y="0"/>
                    </a:lnTo>
                    <a:lnTo>
                      <a:pt x="1280" y="4"/>
                    </a:lnTo>
                    <a:lnTo>
                      <a:pt x="1267" y="6"/>
                    </a:lnTo>
                    <a:lnTo>
                      <a:pt x="1254" y="9"/>
                    </a:lnTo>
                    <a:lnTo>
                      <a:pt x="1241" y="11"/>
                    </a:lnTo>
                    <a:lnTo>
                      <a:pt x="1228" y="14"/>
                    </a:lnTo>
                    <a:lnTo>
                      <a:pt x="1216" y="17"/>
                    </a:lnTo>
                    <a:lnTo>
                      <a:pt x="1203" y="20"/>
                    </a:lnTo>
                    <a:lnTo>
                      <a:pt x="1190" y="23"/>
                    </a:lnTo>
                    <a:close/>
                  </a:path>
                </a:pathLst>
              </a:custGeom>
              <a:solidFill>
                <a:srgbClr val="d5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408480" y="2043000"/>
                <a:ext cx="2332080" cy="1908360"/>
              </a:xfrm>
              <a:custGeom>
                <a:avLst/>
                <a:gdLst/>
                <a:ahLst/>
                <a:rect l="l" t="t" r="r" b="b"/>
                <a:pathLst>
                  <a:path w="5875" h="4808">
                    <a:moveTo>
                      <a:pt x="5875" y="2404"/>
                    </a:moveTo>
                    <a:lnTo>
                      <a:pt x="5874" y="2312"/>
                    </a:lnTo>
                    <a:lnTo>
                      <a:pt x="5869" y="2221"/>
                    </a:lnTo>
                    <a:lnTo>
                      <a:pt x="5863" y="2130"/>
                    </a:lnTo>
                    <a:lnTo>
                      <a:pt x="5853" y="2042"/>
                    </a:lnTo>
                    <a:lnTo>
                      <a:pt x="5840" y="1953"/>
                    </a:lnTo>
                    <a:lnTo>
                      <a:pt x="5826" y="1865"/>
                    </a:lnTo>
                    <a:lnTo>
                      <a:pt x="5808" y="1778"/>
                    </a:lnTo>
                    <a:lnTo>
                      <a:pt x="5788" y="1692"/>
                    </a:lnTo>
                    <a:lnTo>
                      <a:pt x="5765" y="1608"/>
                    </a:lnTo>
                    <a:lnTo>
                      <a:pt x="5741" y="1523"/>
                    </a:lnTo>
                    <a:lnTo>
                      <a:pt x="5714" y="1441"/>
                    </a:lnTo>
                    <a:lnTo>
                      <a:pt x="5683" y="1359"/>
                    </a:lnTo>
                    <a:lnTo>
                      <a:pt x="5652" y="1278"/>
                    </a:lnTo>
                    <a:lnTo>
                      <a:pt x="5617" y="1199"/>
                    </a:lnTo>
                    <a:lnTo>
                      <a:pt x="5581" y="1122"/>
                    </a:lnTo>
                    <a:lnTo>
                      <a:pt x="5542" y="1045"/>
                    </a:lnTo>
                    <a:lnTo>
                      <a:pt x="5501" y="969"/>
                    </a:lnTo>
                    <a:lnTo>
                      <a:pt x="5458" y="895"/>
                    </a:lnTo>
                    <a:lnTo>
                      <a:pt x="5412" y="823"/>
                    </a:lnTo>
                    <a:lnTo>
                      <a:pt x="5366" y="750"/>
                    </a:lnTo>
                    <a:lnTo>
                      <a:pt x="5316" y="681"/>
                    </a:lnTo>
                    <a:lnTo>
                      <a:pt x="5265" y="612"/>
                    </a:lnTo>
                    <a:lnTo>
                      <a:pt x="5212" y="546"/>
                    </a:lnTo>
                    <a:lnTo>
                      <a:pt x="5157" y="480"/>
                    </a:lnTo>
                    <a:lnTo>
                      <a:pt x="5100" y="416"/>
                    </a:lnTo>
                    <a:lnTo>
                      <a:pt x="5042" y="355"/>
                    </a:lnTo>
                    <a:lnTo>
                      <a:pt x="4981" y="294"/>
                    </a:lnTo>
                    <a:lnTo>
                      <a:pt x="4919" y="236"/>
                    </a:lnTo>
                    <a:lnTo>
                      <a:pt x="4856" y="180"/>
                    </a:lnTo>
                    <a:lnTo>
                      <a:pt x="4790" y="125"/>
                    </a:lnTo>
                    <a:lnTo>
                      <a:pt x="4723" y="72"/>
                    </a:lnTo>
                    <a:lnTo>
                      <a:pt x="4655" y="21"/>
                    </a:lnTo>
                    <a:lnTo>
                      <a:pt x="4642" y="18"/>
                    </a:lnTo>
                    <a:lnTo>
                      <a:pt x="4629" y="16"/>
                    </a:lnTo>
                    <a:lnTo>
                      <a:pt x="4616" y="13"/>
                    </a:lnTo>
                    <a:lnTo>
                      <a:pt x="4603" y="10"/>
                    </a:lnTo>
                    <a:lnTo>
                      <a:pt x="4590" y="7"/>
                    </a:lnTo>
                    <a:lnTo>
                      <a:pt x="4577" y="5"/>
                    </a:lnTo>
                    <a:lnTo>
                      <a:pt x="4564" y="2"/>
                    </a:lnTo>
                    <a:lnTo>
                      <a:pt x="4551" y="0"/>
                    </a:lnTo>
                    <a:lnTo>
                      <a:pt x="4622" y="49"/>
                    </a:lnTo>
                    <a:lnTo>
                      <a:pt x="4693" y="101"/>
                    </a:lnTo>
                    <a:lnTo>
                      <a:pt x="4761" y="155"/>
                    </a:lnTo>
                    <a:lnTo>
                      <a:pt x="4828" y="211"/>
                    </a:lnTo>
                    <a:lnTo>
                      <a:pt x="4892" y="269"/>
                    </a:lnTo>
                    <a:lnTo>
                      <a:pt x="4956" y="328"/>
                    </a:lnTo>
                    <a:lnTo>
                      <a:pt x="5018" y="389"/>
                    </a:lnTo>
                    <a:lnTo>
                      <a:pt x="5077" y="453"/>
                    </a:lnTo>
                    <a:lnTo>
                      <a:pt x="5134" y="519"/>
                    </a:lnTo>
                    <a:lnTo>
                      <a:pt x="5191" y="586"/>
                    </a:lnTo>
                    <a:lnTo>
                      <a:pt x="5245" y="654"/>
                    </a:lnTo>
                    <a:lnTo>
                      <a:pt x="5297" y="724"/>
                    </a:lnTo>
                    <a:lnTo>
                      <a:pt x="5346" y="797"/>
                    </a:lnTo>
                    <a:lnTo>
                      <a:pt x="5394" y="869"/>
                    </a:lnTo>
                    <a:lnTo>
                      <a:pt x="5439" y="945"/>
                    </a:lnTo>
                    <a:lnTo>
                      <a:pt x="5482" y="1020"/>
                    </a:lnTo>
                    <a:lnTo>
                      <a:pt x="5522" y="1098"/>
                    </a:lnTo>
                    <a:lnTo>
                      <a:pt x="5561" y="1178"/>
                    </a:lnTo>
                    <a:lnTo>
                      <a:pt x="5597" y="1258"/>
                    </a:lnTo>
                    <a:lnTo>
                      <a:pt x="5632" y="1340"/>
                    </a:lnTo>
                    <a:lnTo>
                      <a:pt x="5663" y="1423"/>
                    </a:lnTo>
                    <a:lnTo>
                      <a:pt x="5691" y="1506"/>
                    </a:lnTo>
                    <a:lnTo>
                      <a:pt x="5718" y="1592"/>
                    </a:lnTo>
                    <a:lnTo>
                      <a:pt x="5742" y="1678"/>
                    </a:lnTo>
                    <a:lnTo>
                      <a:pt x="5762" y="1765"/>
                    </a:lnTo>
                    <a:lnTo>
                      <a:pt x="5781" y="1854"/>
                    </a:lnTo>
                    <a:lnTo>
                      <a:pt x="5797" y="1944"/>
                    </a:lnTo>
                    <a:lnTo>
                      <a:pt x="5810" y="2034"/>
                    </a:lnTo>
                    <a:lnTo>
                      <a:pt x="5820" y="2125"/>
                    </a:lnTo>
                    <a:lnTo>
                      <a:pt x="5827" y="2217"/>
                    </a:lnTo>
                    <a:lnTo>
                      <a:pt x="5831" y="2310"/>
                    </a:lnTo>
                    <a:lnTo>
                      <a:pt x="5834" y="2404"/>
                    </a:lnTo>
                    <a:lnTo>
                      <a:pt x="5832" y="2452"/>
                    </a:lnTo>
                    <a:lnTo>
                      <a:pt x="5831" y="2501"/>
                    </a:lnTo>
                    <a:lnTo>
                      <a:pt x="5829" y="2549"/>
                    </a:lnTo>
                    <a:lnTo>
                      <a:pt x="5827" y="2597"/>
                    </a:lnTo>
                    <a:lnTo>
                      <a:pt x="5823" y="2645"/>
                    </a:lnTo>
                    <a:lnTo>
                      <a:pt x="5818" y="2693"/>
                    </a:lnTo>
                    <a:lnTo>
                      <a:pt x="5814" y="2740"/>
                    </a:lnTo>
                    <a:lnTo>
                      <a:pt x="5808" y="2787"/>
                    </a:lnTo>
                    <a:lnTo>
                      <a:pt x="5801" y="2835"/>
                    </a:lnTo>
                    <a:lnTo>
                      <a:pt x="5794" y="2881"/>
                    </a:lnTo>
                    <a:lnTo>
                      <a:pt x="5786" y="2927"/>
                    </a:lnTo>
                    <a:lnTo>
                      <a:pt x="5776" y="2974"/>
                    </a:lnTo>
                    <a:lnTo>
                      <a:pt x="5768" y="3019"/>
                    </a:lnTo>
                    <a:lnTo>
                      <a:pt x="5757" y="3066"/>
                    </a:lnTo>
                    <a:lnTo>
                      <a:pt x="5746" y="3111"/>
                    </a:lnTo>
                    <a:lnTo>
                      <a:pt x="5734" y="3156"/>
                    </a:lnTo>
                    <a:lnTo>
                      <a:pt x="5774" y="3167"/>
                    </a:lnTo>
                    <a:lnTo>
                      <a:pt x="5786" y="3121"/>
                    </a:lnTo>
                    <a:lnTo>
                      <a:pt x="5798" y="3074"/>
                    </a:lnTo>
                    <a:lnTo>
                      <a:pt x="5808" y="3029"/>
                    </a:lnTo>
                    <a:lnTo>
                      <a:pt x="5817" y="2981"/>
                    </a:lnTo>
                    <a:lnTo>
                      <a:pt x="5827" y="2935"/>
                    </a:lnTo>
                    <a:lnTo>
                      <a:pt x="5835" y="2888"/>
                    </a:lnTo>
                    <a:lnTo>
                      <a:pt x="5842" y="2840"/>
                    </a:lnTo>
                    <a:lnTo>
                      <a:pt x="5849" y="2792"/>
                    </a:lnTo>
                    <a:lnTo>
                      <a:pt x="5855" y="2745"/>
                    </a:lnTo>
                    <a:lnTo>
                      <a:pt x="5861" y="2696"/>
                    </a:lnTo>
                    <a:lnTo>
                      <a:pt x="5865" y="2649"/>
                    </a:lnTo>
                    <a:lnTo>
                      <a:pt x="5868" y="2600"/>
                    </a:lnTo>
                    <a:lnTo>
                      <a:pt x="5871" y="2551"/>
                    </a:lnTo>
                    <a:lnTo>
                      <a:pt x="5874" y="2502"/>
                    </a:lnTo>
                    <a:lnTo>
                      <a:pt x="5875" y="2453"/>
                    </a:lnTo>
                    <a:lnTo>
                      <a:pt x="5875" y="2404"/>
                    </a:lnTo>
                    <a:close/>
                    <a:moveTo>
                      <a:pt x="1220" y="21"/>
                    </a:moveTo>
                    <a:lnTo>
                      <a:pt x="1152" y="72"/>
                    </a:lnTo>
                    <a:lnTo>
                      <a:pt x="1085" y="125"/>
                    </a:lnTo>
                    <a:lnTo>
                      <a:pt x="1019" y="180"/>
                    </a:lnTo>
                    <a:lnTo>
                      <a:pt x="955" y="236"/>
                    </a:lnTo>
                    <a:lnTo>
                      <a:pt x="893" y="294"/>
                    </a:lnTo>
                    <a:lnTo>
                      <a:pt x="833" y="355"/>
                    </a:lnTo>
                    <a:lnTo>
                      <a:pt x="774" y="416"/>
                    </a:lnTo>
                    <a:lnTo>
                      <a:pt x="717" y="480"/>
                    </a:lnTo>
                    <a:lnTo>
                      <a:pt x="662" y="546"/>
                    </a:lnTo>
                    <a:lnTo>
                      <a:pt x="609" y="612"/>
                    </a:lnTo>
                    <a:lnTo>
                      <a:pt x="558" y="681"/>
                    </a:lnTo>
                    <a:lnTo>
                      <a:pt x="509" y="750"/>
                    </a:lnTo>
                    <a:lnTo>
                      <a:pt x="462" y="823"/>
                    </a:lnTo>
                    <a:lnTo>
                      <a:pt x="417" y="895"/>
                    </a:lnTo>
                    <a:lnTo>
                      <a:pt x="374" y="969"/>
                    </a:lnTo>
                    <a:lnTo>
                      <a:pt x="333" y="1045"/>
                    </a:lnTo>
                    <a:lnTo>
                      <a:pt x="294" y="1122"/>
                    </a:lnTo>
                    <a:lnTo>
                      <a:pt x="257" y="1199"/>
                    </a:lnTo>
                    <a:lnTo>
                      <a:pt x="222" y="1278"/>
                    </a:lnTo>
                    <a:lnTo>
                      <a:pt x="191" y="1359"/>
                    </a:lnTo>
                    <a:lnTo>
                      <a:pt x="161" y="1441"/>
                    </a:lnTo>
                    <a:lnTo>
                      <a:pt x="134" y="1523"/>
                    </a:lnTo>
                    <a:lnTo>
                      <a:pt x="109" y="1608"/>
                    </a:lnTo>
                    <a:lnTo>
                      <a:pt x="86" y="1692"/>
                    </a:lnTo>
                    <a:lnTo>
                      <a:pt x="67" y="1778"/>
                    </a:lnTo>
                    <a:lnTo>
                      <a:pt x="48" y="1865"/>
                    </a:lnTo>
                    <a:lnTo>
                      <a:pt x="34" y="1953"/>
                    </a:lnTo>
                    <a:lnTo>
                      <a:pt x="21" y="2042"/>
                    </a:lnTo>
                    <a:lnTo>
                      <a:pt x="12" y="2130"/>
                    </a:lnTo>
                    <a:lnTo>
                      <a:pt x="5" y="2221"/>
                    </a:lnTo>
                    <a:lnTo>
                      <a:pt x="1" y="2312"/>
                    </a:lnTo>
                    <a:lnTo>
                      <a:pt x="0" y="2404"/>
                    </a:lnTo>
                    <a:lnTo>
                      <a:pt x="1" y="2495"/>
                    </a:lnTo>
                    <a:lnTo>
                      <a:pt x="5" y="2586"/>
                    </a:lnTo>
                    <a:lnTo>
                      <a:pt x="12" y="2676"/>
                    </a:lnTo>
                    <a:lnTo>
                      <a:pt x="21" y="2765"/>
                    </a:lnTo>
                    <a:lnTo>
                      <a:pt x="34" y="2854"/>
                    </a:lnTo>
                    <a:lnTo>
                      <a:pt x="48" y="2942"/>
                    </a:lnTo>
                    <a:lnTo>
                      <a:pt x="67" y="3029"/>
                    </a:lnTo>
                    <a:lnTo>
                      <a:pt x="86" y="3114"/>
                    </a:lnTo>
                    <a:lnTo>
                      <a:pt x="109" y="3200"/>
                    </a:lnTo>
                    <a:lnTo>
                      <a:pt x="134" y="3283"/>
                    </a:lnTo>
                    <a:lnTo>
                      <a:pt x="161" y="3366"/>
                    </a:lnTo>
                    <a:lnTo>
                      <a:pt x="191" y="3448"/>
                    </a:lnTo>
                    <a:lnTo>
                      <a:pt x="222" y="3528"/>
                    </a:lnTo>
                    <a:lnTo>
                      <a:pt x="257" y="3608"/>
                    </a:lnTo>
                    <a:lnTo>
                      <a:pt x="294" y="3686"/>
                    </a:lnTo>
                    <a:lnTo>
                      <a:pt x="333" y="3762"/>
                    </a:lnTo>
                    <a:lnTo>
                      <a:pt x="374" y="3838"/>
                    </a:lnTo>
                    <a:lnTo>
                      <a:pt x="417" y="3912"/>
                    </a:lnTo>
                    <a:lnTo>
                      <a:pt x="462" y="3985"/>
                    </a:lnTo>
                    <a:lnTo>
                      <a:pt x="509" y="4056"/>
                    </a:lnTo>
                    <a:lnTo>
                      <a:pt x="558" y="4126"/>
                    </a:lnTo>
                    <a:lnTo>
                      <a:pt x="609" y="4194"/>
                    </a:lnTo>
                    <a:lnTo>
                      <a:pt x="662" y="4261"/>
                    </a:lnTo>
                    <a:lnTo>
                      <a:pt x="717" y="4326"/>
                    </a:lnTo>
                    <a:lnTo>
                      <a:pt x="774" y="4390"/>
                    </a:lnTo>
                    <a:lnTo>
                      <a:pt x="833" y="4451"/>
                    </a:lnTo>
                    <a:lnTo>
                      <a:pt x="893" y="4512"/>
                    </a:lnTo>
                    <a:lnTo>
                      <a:pt x="955" y="4570"/>
                    </a:lnTo>
                    <a:lnTo>
                      <a:pt x="1019" y="4627"/>
                    </a:lnTo>
                    <a:lnTo>
                      <a:pt x="1085" y="4681"/>
                    </a:lnTo>
                    <a:lnTo>
                      <a:pt x="1152" y="4734"/>
                    </a:lnTo>
                    <a:lnTo>
                      <a:pt x="1220" y="4786"/>
                    </a:lnTo>
                    <a:lnTo>
                      <a:pt x="1233" y="4788"/>
                    </a:lnTo>
                    <a:lnTo>
                      <a:pt x="1246" y="4792"/>
                    </a:lnTo>
                    <a:lnTo>
                      <a:pt x="1259" y="4794"/>
                    </a:lnTo>
                    <a:lnTo>
                      <a:pt x="1272" y="4797"/>
                    </a:lnTo>
                    <a:lnTo>
                      <a:pt x="1285" y="4799"/>
                    </a:lnTo>
                    <a:lnTo>
                      <a:pt x="1297" y="4802"/>
                    </a:lnTo>
                    <a:lnTo>
                      <a:pt x="1310" y="4805"/>
                    </a:lnTo>
                    <a:lnTo>
                      <a:pt x="1323" y="4808"/>
                    </a:lnTo>
                    <a:lnTo>
                      <a:pt x="1252" y="4758"/>
                    </a:lnTo>
                    <a:lnTo>
                      <a:pt x="1182" y="4706"/>
                    </a:lnTo>
                    <a:lnTo>
                      <a:pt x="1114" y="4652"/>
                    </a:lnTo>
                    <a:lnTo>
                      <a:pt x="1047" y="4596"/>
                    </a:lnTo>
                    <a:lnTo>
                      <a:pt x="982" y="4538"/>
                    </a:lnTo>
                    <a:lnTo>
                      <a:pt x="918" y="4478"/>
                    </a:lnTo>
                    <a:lnTo>
                      <a:pt x="857" y="4417"/>
                    </a:lnTo>
                    <a:lnTo>
                      <a:pt x="797" y="4353"/>
                    </a:lnTo>
                    <a:lnTo>
                      <a:pt x="739" y="4288"/>
                    </a:lnTo>
                    <a:lnTo>
                      <a:pt x="684" y="4221"/>
                    </a:lnTo>
                    <a:lnTo>
                      <a:pt x="630" y="4152"/>
                    </a:lnTo>
                    <a:lnTo>
                      <a:pt x="578" y="4082"/>
                    </a:lnTo>
                    <a:lnTo>
                      <a:pt x="528" y="4011"/>
                    </a:lnTo>
                    <a:lnTo>
                      <a:pt x="481" y="3937"/>
                    </a:lnTo>
                    <a:lnTo>
                      <a:pt x="435" y="3863"/>
                    </a:lnTo>
                    <a:lnTo>
                      <a:pt x="392" y="3786"/>
                    </a:lnTo>
                    <a:lnTo>
                      <a:pt x="352" y="3708"/>
                    </a:lnTo>
                    <a:lnTo>
                      <a:pt x="313" y="3629"/>
                    </a:lnTo>
                    <a:lnTo>
                      <a:pt x="276" y="3548"/>
                    </a:lnTo>
                    <a:lnTo>
                      <a:pt x="243" y="3467"/>
                    </a:lnTo>
                    <a:lnTo>
                      <a:pt x="212" y="3384"/>
                    </a:lnTo>
                    <a:lnTo>
                      <a:pt x="182" y="3300"/>
                    </a:lnTo>
                    <a:lnTo>
                      <a:pt x="156" y="3215"/>
                    </a:lnTo>
                    <a:lnTo>
                      <a:pt x="133" y="3128"/>
                    </a:lnTo>
                    <a:lnTo>
                      <a:pt x="112" y="3041"/>
                    </a:lnTo>
                    <a:lnTo>
                      <a:pt x="94" y="2952"/>
                    </a:lnTo>
                    <a:lnTo>
                      <a:pt x="78" y="2864"/>
                    </a:lnTo>
                    <a:lnTo>
                      <a:pt x="65" y="2773"/>
                    </a:lnTo>
                    <a:lnTo>
                      <a:pt x="55" y="2681"/>
                    </a:lnTo>
                    <a:lnTo>
                      <a:pt x="47" y="2589"/>
                    </a:lnTo>
                    <a:lnTo>
                      <a:pt x="43" y="2497"/>
                    </a:lnTo>
                    <a:lnTo>
                      <a:pt x="41" y="2404"/>
                    </a:lnTo>
                    <a:lnTo>
                      <a:pt x="43" y="2310"/>
                    </a:lnTo>
                    <a:lnTo>
                      <a:pt x="47" y="2217"/>
                    </a:lnTo>
                    <a:lnTo>
                      <a:pt x="55" y="2125"/>
                    </a:lnTo>
                    <a:lnTo>
                      <a:pt x="65" y="2034"/>
                    </a:lnTo>
                    <a:lnTo>
                      <a:pt x="78" y="1944"/>
                    </a:lnTo>
                    <a:lnTo>
                      <a:pt x="94" y="1854"/>
                    </a:lnTo>
                    <a:lnTo>
                      <a:pt x="112" y="1765"/>
                    </a:lnTo>
                    <a:lnTo>
                      <a:pt x="133" y="1678"/>
                    </a:lnTo>
                    <a:lnTo>
                      <a:pt x="156" y="1592"/>
                    </a:lnTo>
                    <a:lnTo>
                      <a:pt x="182" y="1506"/>
                    </a:lnTo>
                    <a:lnTo>
                      <a:pt x="212" y="1423"/>
                    </a:lnTo>
                    <a:lnTo>
                      <a:pt x="243" y="1340"/>
                    </a:lnTo>
                    <a:lnTo>
                      <a:pt x="276" y="1258"/>
                    </a:lnTo>
                    <a:lnTo>
                      <a:pt x="313" y="1178"/>
                    </a:lnTo>
                    <a:lnTo>
                      <a:pt x="352" y="1098"/>
                    </a:lnTo>
                    <a:lnTo>
                      <a:pt x="392" y="1020"/>
                    </a:lnTo>
                    <a:lnTo>
                      <a:pt x="435" y="945"/>
                    </a:lnTo>
                    <a:lnTo>
                      <a:pt x="481" y="869"/>
                    </a:lnTo>
                    <a:lnTo>
                      <a:pt x="528" y="797"/>
                    </a:lnTo>
                    <a:lnTo>
                      <a:pt x="578" y="724"/>
                    </a:lnTo>
                    <a:lnTo>
                      <a:pt x="630" y="654"/>
                    </a:lnTo>
                    <a:lnTo>
                      <a:pt x="684" y="586"/>
                    </a:lnTo>
                    <a:lnTo>
                      <a:pt x="739" y="519"/>
                    </a:lnTo>
                    <a:lnTo>
                      <a:pt x="797" y="453"/>
                    </a:lnTo>
                    <a:lnTo>
                      <a:pt x="857" y="389"/>
                    </a:lnTo>
                    <a:lnTo>
                      <a:pt x="918" y="328"/>
                    </a:lnTo>
                    <a:lnTo>
                      <a:pt x="982" y="269"/>
                    </a:lnTo>
                    <a:lnTo>
                      <a:pt x="1047" y="211"/>
                    </a:lnTo>
                    <a:lnTo>
                      <a:pt x="1114" y="155"/>
                    </a:lnTo>
                    <a:lnTo>
                      <a:pt x="1182" y="101"/>
                    </a:lnTo>
                    <a:lnTo>
                      <a:pt x="1252" y="49"/>
                    </a:lnTo>
                    <a:lnTo>
                      <a:pt x="1323" y="0"/>
                    </a:lnTo>
                    <a:lnTo>
                      <a:pt x="1310" y="2"/>
                    </a:lnTo>
                    <a:lnTo>
                      <a:pt x="1297" y="5"/>
                    </a:lnTo>
                    <a:lnTo>
                      <a:pt x="1285" y="7"/>
                    </a:lnTo>
                    <a:lnTo>
                      <a:pt x="1272" y="10"/>
                    </a:lnTo>
                    <a:lnTo>
                      <a:pt x="1259" y="13"/>
                    </a:lnTo>
                    <a:lnTo>
                      <a:pt x="1246" y="16"/>
                    </a:lnTo>
                    <a:lnTo>
                      <a:pt x="1233" y="18"/>
                    </a:lnTo>
                    <a:lnTo>
                      <a:pt x="1220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16400" y="2038320"/>
                <a:ext cx="2316240" cy="1917720"/>
              </a:xfrm>
              <a:custGeom>
                <a:avLst/>
                <a:gdLst/>
                <a:ahLst/>
                <a:rect l="l" t="t" r="r" b="b"/>
                <a:pathLst>
                  <a:path w="5834" h="4828">
                    <a:moveTo>
                      <a:pt x="5834" y="2415"/>
                    </a:moveTo>
                    <a:lnTo>
                      <a:pt x="5833" y="2322"/>
                    </a:lnTo>
                    <a:lnTo>
                      <a:pt x="5829" y="2230"/>
                    </a:lnTo>
                    <a:lnTo>
                      <a:pt x="5821" y="2139"/>
                    </a:lnTo>
                    <a:lnTo>
                      <a:pt x="5811" y="2049"/>
                    </a:lnTo>
                    <a:lnTo>
                      <a:pt x="5798" y="1959"/>
                    </a:lnTo>
                    <a:lnTo>
                      <a:pt x="5783" y="1870"/>
                    </a:lnTo>
                    <a:lnTo>
                      <a:pt x="5765" y="1783"/>
                    </a:lnTo>
                    <a:lnTo>
                      <a:pt x="5744" y="1696"/>
                    </a:lnTo>
                    <a:lnTo>
                      <a:pt x="5722" y="1611"/>
                    </a:lnTo>
                    <a:lnTo>
                      <a:pt x="5696" y="1527"/>
                    </a:lnTo>
                    <a:lnTo>
                      <a:pt x="5668" y="1443"/>
                    </a:lnTo>
                    <a:lnTo>
                      <a:pt x="5637" y="1361"/>
                    </a:lnTo>
                    <a:lnTo>
                      <a:pt x="5605" y="1280"/>
                    </a:lnTo>
                    <a:lnTo>
                      <a:pt x="5569" y="1200"/>
                    </a:lnTo>
                    <a:lnTo>
                      <a:pt x="5532" y="1121"/>
                    </a:lnTo>
                    <a:lnTo>
                      <a:pt x="5492" y="1044"/>
                    </a:lnTo>
                    <a:lnTo>
                      <a:pt x="5451" y="967"/>
                    </a:lnTo>
                    <a:lnTo>
                      <a:pt x="5406" y="893"/>
                    </a:lnTo>
                    <a:lnTo>
                      <a:pt x="5360" y="821"/>
                    </a:lnTo>
                    <a:lnTo>
                      <a:pt x="5311" y="749"/>
                    </a:lnTo>
                    <a:lnTo>
                      <a:pt x="5260" y="679"/>
                    </a:lnTo>
                    <a:lnTo>
                      <a:pt x="5208" y="610"/>
                    </a:lnTo>
                    <a:lnTo>
                      <a:pt x="5153" y="543"/>
                    </a:lnTo>
                    <a:lnTo>
                      <a:pt x="5097" y="478"/>
                    </a:lnTo>
                    <a:lnTo>
                      <a:pt x="5039" y="415"/>
                    </a:lnTo>
                    <a:lnTo>
                      <a:pt x="4979" y="353"/>
                    </a:lnTo>
                    <a:lnTo>
                      <a:pt x="4918" y="292"/>
                    </a:lnTo>
                    <a:lnTo>
                      <a:pt x="4854" y="235"/>
                    </a:lnTo>
                    <a:lnTo>
                      <a:pt x="4789" y="179"/>
                    </a:lnTo>
                    <a:lnTo>
                      <a:pt x="4722" y="124"/>
                    </a:lnTo>
                    <a:lnTo>
                      <a:pt x="4653" y="72"/>
                    </a:lnTo>
                    <a:lnTo>
                      <a:pt x="4583" y="21"/>
                    </a:lnTo>
                    <a:lnTo>
                      <a:pt x="4570" y="18"/>
                    </a:lnTo>
                    <a:lnTo>
                      <a:pt x="4557" y="16"/>
                    </a:lnTo>
                    <a:lnTo>
                      <a:pt x="4543" y="13"/>
                    </a:lnTo>
                    <a:lnTo>
                      <a:pt x="4530" y="11"/>
                    </a:lnTo>
                    <a:lnTo>
                      <a:pt x="4517" y="7"/>
                    </a:lnTo>
                    <a:lnTo>
                      <a:pt x="4503" y="5"/>
                    </a:lnTo>
                    <a:lnTo>
                      <a:pt x="4490" y="2"/>
                    </a:lnTo>
                    <a:lnTo>
                      <a:pt x="4477" y="0"/>
                    </a:lnTo>
                    <a:lnTo>
                      <a:pt x="4550" y="48"/>
                    </a:lnTo>
                    <a:lnTo>
                      <a:pt x="4622" y="100"/>
                    </a:lnTo>
                    <a:lnTo>
                      <a:pt x="4692" y="153"/>
                    </a:lnTo>
                    <a:lnTo>
                      <a:pt x="4760" y="209"/>
                    </a:lnTo>
                    <a:lnTo>
                      <a:pt x="4827" y="267"/>
                    </a:lnTo>
                    <a:lnTo>
                      <a:pt x="4892" y="326"/>
                    </a:lnTo>
                    <a:lnTo>
                      <a:pt x="4955" y="388"/>
                    </a:lnTo>
                    <a:lnTo>
                      <a:pt x="5016" y="450"/>
                    </a:lnTo>
                    <a:lnTo>
                      <a:pt x="5076" y="516"/>
                    </a:lnTo>
                    <a:lnTo>
                      <a:pt x="5133" y="583"/>
                    </a:lnTo>
                    <a:lnTo>
                      <a:pt x="5188" y="651"/>
                    </a:lnTo>
                    <a:lnTo>
                      <a:pt x="5241" y="722"/>
                    </a:lnTo>
                    <a:lnTo>
                      <a:pt x="5292" y="794"/>
                    </a:lnTo>
                    <a:lnTo>
                      <a:pt x="5340" y="867"/>
                    </a:lnTo>
                    <a:lnTo>
                      <a:pt x="5387" y="943"/>
                    </a:lnTo>
                    <a:lnTo>
                      <a:pt x="5431" y="1019"/>
                    </a:lnTo>
                    <a:lnTo>
                      <a:pt x="5473" y="1097"/>
                    </a:lnTo>
                    <a:lnTo>
                      <a:pt x="5513" y="1177"/>
                    </a:lnTo>
                    <a:lnTo>
                      <a:pt x="5550" y="1258"/>
                    </a:lnTo>
                    <a:lnTo>
                      <a:pt x="5584" y="1340"/>
                    </a:lnTo>
                    <a:lnTo>
                      <a:pt x="5617" y="1424"/>
                    </a:lnTo>
                    <a:lnTo>
                      <a:pt x="5646" y="1509"/>
                    </a:lnTo>
                    <a:lnTo>
                      <a:pt x="5673" y="1595"/>
                    </a:lnTo>
                    <a:lnTo>
                      <a:pt x="5698" y="1682"/>
                    </a:lnTo>
                    <a:lnTo>
                      <a:pt x="5720" y="1770"/>
                    </a:lnTo>
                    <a:lnTo>
                      <a:pt x="5739" y="1860"/>
                    </a:lnTo>
                    <a:lnTo>
                      <a:pt x="5755" y="1950"/>
                    </a:lnTo>
                    <a:lnTo>
                      <a:pt x="5768" y="2041"/>
                    </a:lnTo>
                    <a:lnTo>
                      <a:pt x="5779" y="2133"/>
                    </a:lnTo>
                    <a:lnTo>
                      <a:pt x="5787" y="2226"/>
                    </a:lnTo>
                    <a:lnTo>
                      <a:pt x="5791" y="2320"/>
                    </a:lnTo>
                    <a:lnTo>
                      <a:pt x="5792" y="2415"/>
                    </a:lnTo>
                    <a:lnTo>
                      <a:pt x="5792" y="2463"/>
                    </a:lnTo>
                    <a:lnTo>
                      <a:pt x="5791" y="2511"/>
                    </a:lnTo>
                    <a:lnTo>
                      <a:pt x="5789" y="2559"/>
                    </a:lnTo>
                    <a:lnTo>
                      <a:pt x="5785" y="2607"/>
                    </a:lnTo>
                    <a:lnTo>
                      <a:pt x="5782" y="2654"/>
                    </a:lnTo>
                    <a:lnTo>
                      <a:pt x="5778" y="2702"/>
                    </a:lnTo>
                    <a:lnTo>
                      <a:pt x="5773" y="2748"/>
                    </a:lnTo>
                    <a:lnTo>
                      <a:pt x="5767" y="2796"/>
                    </a:lnTo>
                    <a:lnTo>
                      <a:pt x="5761" y="2842"/>
                    </a:lnTo>
                    <a:lnTo>
                      <a:pt x="5753" y="2889"/>
                    </a:lnTo>
                    <a:lnTo>
                      <a:pt x="5745" y="2935"/>
                    </a:lnTo>
                    <a:lnTo>
                      <a:pt x="5736" y="2981"/>
                    </a:lnTo>
                    <a:lnTo>
                      <a:pt x="5727" y="3026"/>
                    </a:lnTo>
                    <a:lnTo>
                      <a:pt x="5716" y="3071"/>
                    </a:lnTo>
                    <a:lnTo>
                      <a:pt x="5706" y="3117"/>
                    </a:lnTo>
                    <a:lnTo>
                      <a:pt x="5694" y="3161"/>
                    </a:lnTo>
                    <a:lnTo>
                      <a:pt x="5735" y="3173"/>
                    </a:lnTo>
                    <a:lnTo>
                      <a:pt x="5745" y="3126"/>
                    </a:lnTo>
                    <a:lnTo>
                      <a:pt x="5757" y="3081"/>
                    </a:lnTo>
                    <a:lnTo>
                      <a:pt x="5767" y="3035"/>
                    </a:lnTo>
                    <a:lnTo>
                      <a:pt x="5777" y="2989"/>
                    </a:lnTo>
                    <a:lnTo>
                      <a:pt x="5787" y="2942"/>
                    </a:lnTo>
                    <a:lnTo>
                      <a:pt x="5794" y="2895"/>
                    </a:lnTo>
                    <a:lnTo>
                      <a:pt x="5802" y="2849"/>
                    </a:lnTo>
                    <a:lnTo>
                      <a:pt x="5808" y="2801"/>
                    </a:lnTo>
                    <a:lnTo>
                      <a:pt x="5815" y="2754"/>
                    </a:lnTo>
                    <a:lnTo>
                      <a:pt x="5819" y="2705"/>
                    </a:lnTo>
                    <a:lnTo>
                      <a:pt x="5824" y="2658"/>
                    </a:lnTo>
                    <a:lnTo>
                      <a:pt x="5828" y="2609"/>
                    </a:lnTo>
                    <a:lnTo>
                      <a:pt x="5830" y="2560"/>
                    </a:lnTo>
                    <a:lnTo>
                      <a:pt x="5832" y="2512"/>
                    </a:lnTo>
                    <a:lnTo>
                      <a:pt x="5833" y="2463"/>
                    </a:lnTo>
                    <a:lnTo>
                      <a:pt x="5834" y="2415"/>
                    </a:lnTo>
                    <a:close/>
                    <a:moveTo>
                      <a:pt x="1252" y="21"/>
                    </a:moveTo>
                    <a:lnTo>
                      <a:pt x="1181" y="72"/>
                    </a:lnTo>
                    <a:lnTo>
                      <a:pt x="1112" y="124"/>
                    </a:lnTo>
                    <a:lnTo>
                      <a:pt x="1045" y="179"/>
                    </a:lnTo>
                    <a:lnTo>
                      <a:pt x="980" y="235"/>
                    </a:lnTo>
                    <a:lnTo>
                      <a:pt x="917" y="292"/>
                    </a:lnTo>
                    <a:lnTo>
                      <a:pt x="855" y="353"/>
                    </a:lnTo>
                    <a:lnTo>
                      <a:pt x="794" y="415"/>
                    </a:lnTo>
                    <a:lnTo>
                      <a:pt x="737" y="478"/>
                    </a:lnTo>
                    <a:lnTo>
                      <a:pt x="680" y="543"/>
                    </a:lnTo>
                    <a:lnTo>
                      <a:pt x="626" y="610"/>
                    </a:lnTo>
                    <a:lnTo>
                      <a:pt x="574" y="679"/>
                    </a:lnTo>
                    <a:lnTo>
                      <a:pt x="523" y="749"/>
                    </a:lnTo>
                    <a:lnTo>
                      <a:pt x="475" y="821"/>
                    </a:lnTo>
                    <a:lnTo>
                      <a:pt x="428" y="893"/>
                    </a:lnTo>
                    <a:lnTo>
                      <a:pt x="384" y="967"/>
                    </a:lnTo>
                    <a:lnTo>
                      <a:pt x="343" y="1044"/>
                    </a:lnTo>
                    <a:lnTo>
                      <a:pt x="303" y="1121"/>
                    </a:lnTo>
                    <a:lnTo>
                      <a:pt x="265" y="1200"/>
                    </a:lnTo>
                    <a:lnTo>
                      <a:pt x="229" y="1280"/>
                    </a:lnTo>
                    <a:lnTo>
                      <a:pt x="197" y="1361"/>
                    </a:lnTo>
                    <a:lnTo>
                      <a:pt x="167" y="1443"/>
                    </a:lnTo>
                    <a:lnTo>
                      <a:pt x="139" y="1527"/>
                    </a:lnTo>
                    <a:lnTo>
                      <a:pt x="113" y="1611"/>
                    </a:lnTo>
                    <a:lnTo>
                      <a:pt x="90" y="1696"/>
                    </a:lnTo>
                    <a:lnTo>
                      <a:pt x="69" y="1783"/>
                    </a:lnTo>
                    <a:lnTo>
                      <a:pt x="51" y="1870"/>
                    </a:lnTo>
                    <a:lnTo>
                      <a:pt x="36" y="1959"/>
                    </a:lnTo>
                    <a:lnTo>
                      <a:pt x="23" y="2049"/>
                    </a:lnTo>
                    <a:lnTo>
                      <a:pt x="13" y="2139"/>
                    </a:lnTo>
                    <a:lnTo>
                      <a:pt x="6" y="2230"/>
                    </a:lnTo>
                    <a:lnTo>
                      <a:pt x="1" y="2322"/>
                    </a:lnTo>
                    <a:lnTo>
                      <a:pt x="0" y="2415"/>
                    </a:lnTo>
                    <a:lnTo>
                      <a:pt x="1" y="2506"/>
                    </a:lnTo>
                    <a:lnTo>
                      <a:pt x="6" y="2598"/>
                    </a:lnTo>
                    <a:lnTo>
                      <a:pt x="13" y="2690"/>
                    </a:lnTo>
                    <a:lnTo>
                      <a:pt x="23" y="2780"/>
                    </a:lnTo>
                    <a:lnTo>
                      <a:pt x="36" y="2869"/>
                    </a:lnTo>
                    <a:lnTo>
                      <a:pt x="51" y="2958"/>
                    </a:lnTo>
                    <a:lnTo>
                      <a:pt x="69" y="3045"/>
                    </a:lnTo>
                    <a:lnTo>
                      <a:pt x="90" y="3132"/>
                    </a:lnTo>
                    <a:lnTo>
                      <a:pt x="113" y="3218"/>
                    </a:lnTo>
                    <a:lnTo>
                      <a:pt x="139" y="3302"/>
                    </a:lnTo>
                    <a:lnTo>
                      <a:pt x="167" y="3386"/>
                    </a:lnTo>
                    <a:lnTo>
                      <a:pt x="197" y="3468"/>
                    </a:lnTo>
                    <a:lnTo>
                      <a:pt x="229" y="3549"/>
                    </a:lnTo>
                    <a:lnTo>
                      <a:pt x="265" y="3629"/>
                    </a:lnTo>
                    <a:lnTo>
                      <a:pt x="303" y="3707"/>
                    </a:lnTo>
                    <a:lnTo>
                      <a:pt x="343" y="3785"/>
                    </a:lnTo>
                    <a:lnTo>
                      <a:pt x="384" y="3861"/>
                    </a:lnTo>
                    <a:lnTo>
                      <a:pt x="428" y="3935"/>
                    </a:lnTo>
                    <a:lnTo>
                      <a:pt x="475" y="4009"/>
                    </a:lnTo>
                    <a:lnTo>
                      <a:pt x="523" y="4080"/>
                    </a:lnTo>
                    <a:lnTo>
                      <a:pt x="574" y="4150"/>
                    </a:lnTo>
                    <a:lnTo>
                      <a:pt x="626" y="4218"/>
                    </a:lnTo>
                    <a:lnTo>
                      <a:pt x="680" y="4285"/>
                    </a:lnTo>
                    <a:lnTo>
                      <a:pt x="737" y="4351"/>
                    </a:lnTo>
                    <a:lnTo>
                      <a:pt x="794" y="4414"/>
                    </a:lnTo>
                    <a:lnTo>
                      <a:pt x="855" y="4476"/>
                    </a:lnTo>
                    <a:lnTo>
                      <a:pt x="917" y="4536"/>
                    </a:lnTo>
                    <a:lnTo>
                      <a:pt x="980" y="4594"/>
                    </a:lnTo>
                    <a:lnTo>
                      <a:pt x="1045" y="4650"/>
                    </a:lnTo>
                    <a:lnTo>
                      <a:pt x="1112" y="4704"/>
                    </a:lnTo>
                    <a:lnTo>
                      <a:pt x="1181" y="4757"/>
                    </a:lnTo>
                    <a:lnTo>
                      <a:pt x="1252" y="4807"/>
                    </a:lnTo>
                    <a:lnTo>
                      <a:pt x="1265" y="4810"/>
                    </a:lnTo>
                    <a:lnTo>
                      <a:pt x="1277" y="4813"/>
                    </a:lnTo>
                    <a:lnTo>
                      <a:pt x="1290" y="4816"/>
                    </a:lnTo>
                    <a:lnTo>
                      <a:pt x="1304" y="4819"/>
                    </a:lnTo>
                    <a:lnTo>
                      <a:pt x="1317" y="4821"/>
                    </a:lnTo>
                    <a:lnTo>
                      <a:pt x="1331" y="4824"/>
                    </a:lnTo>
                    <a:lnTo>
                      <a:pt x="1344" y="4826"/>
                    </a:lnTo>
                    <a:lnTo>
                      <a:pt x="1357" y="4828"/>
                    </a:lnTo>
                    <a:lnTo>
                      <a:pt x="1284" y="4780"/>
                    </a:lnTo>
                    <a:lnTo>
                      <a:pt x="1213" y="4729"/>
                    </a:lnTo>
                    <a:lnTo>
                      <a:pt x="1142" y="4675"/>
                    </a:lnTo>
                    <a:lnTo>
                      <a:pt x="1074" y="4620"/>
                    </a:lnTo>
                    <a:lnTo>
                      <a:pt x="1007" y="4563"/>
                    </a:lnTo>
                    <a:lnTo>
                      <a:pt x="943" y="4502"/>
                    </a:lnTo>
                    <a:lnTo>
                      <a:pt x="880" y="4442"/>
                    </a:lnTo>
                    <a:lnTo>
                      <a:pt x="818" y="4378"/>
                    </a:lnTo>
                    <a:lnTo>
                      <a:pt x="759" y="4313"/>
                    </a:lnTo>
                    <a:lnTo>
                      <a:pt x="702" y="4246"/>
                    </a:lnTo>
                    <a:lnTo>
                      <a:pt x="646" y="4177"/>
                    </a:lnTo>
                    <a:lnTo>
                      <a:pt x="593" y="4107"/>
                    </a:lnTo>
                    <a:lnTo>
                      <a:pt x="543" y="4035"/>
                    </a:lnTo>
                    <a:lnTo>
                      <a:pt x="494" y="3961"/>
                    </a:lnTo>
                    <a:lnTo>
                      <a:pt x="448" y="3886"/>
                    </a:lnTo>
                    <a:lnTo>
                      <a:pt x="403" y="3809"/>
                    </a:lnTo>
                    <a:lnTo>
                      <a:pt x="361" y="3731"/>
                    </a:lnTo>
                    <a:lnTo>
                      <a:pt x="321" y="3651"/>
                    </a:lnTo>
                    <a:lnTo>
                      <a:pt x="284" y="3570"/>
                    </a:lnTo>
                    <a:lnTo>
                      <a:pt x="250" y="3488"/>
                    </a:lnTo>
                    <a:lnTo>
                      <a:pt x="217" y="3405"/>
                    </a:lnTo>
                    <a:lnTo>
                      <a:pt x="187" y="3320"/>
                    </a:lnTo>
                    <a:lnTo>
                      <a:pt x="160" y="3234"/>
                    </a:lnTo>
                    <a:lnTo>
                      <a:pt x="136" y="3147"/>
                    </a:lnTo>
                    <a:lnTo>
                      <a:pt x="115" y="3058"/>
                    </a:lnTo>
                    <a:lnTo>
                      <a:pt x="95" y="2970"/>
                    </a:lnTo>
                    <a:lnTo>
                      <a:pt x="79" y="2879"/>
                    </a:lnTo>
                    <a:lnTo>
                      <a:pt x="66" y="2788"/>
                    </a:lnTo>
                    <a:lnTo>
                      <a:pt x="55" y="2695"/>
                    </a:lnTo>
                    <a:lnTo>
                      <a:pt x="48" y="2603"/>
                    </a:lnTo>
                    <a:lnTo>
                      <a:pt x="43" y="2509"/>
                    </a:lnTo>
                    <a:lnTo>
                      <a:pt x="42" y="2415"/>
                    </a:lnTo>
                    <a:lnTo>
                      <a:pt x="43" y="2320"/>
                    </a:lnTo>
                    <a:lnTo>
                      <a:pt x="48" y="2226"/>
                    </a:lnTo>
                    <a:lnTo>
                      <a:pt x="55" y="2133"/>
                    </a:lnTo>
                    <a:lnTo>
                      <a:pt x="66" y="2041"/>
                    </a:lnTo>
                    <a:lnTo>
                      <a:pt x="79" y="1950"/>
                    </a:lnTo>
                    <a:lnTo>
                      <a:pt x="95" y="1860"/>
                    </a:lnTo>
                    <a:lnTo>
                      <a:pt x="115" y="1770"/>
                    </a:lnTo>
                    <a:lnTo>
                      <a:pt x="136" y="1682"/>
                    </a:lnTo>
                    <a:lnTo>
                      <a:pt x="160" y="1595"/>
                    </a:lnTo>
                    <a:lnTo>
                      <a:pt x="187" y="1509"/>
                    </a:lnTo>
                    <a:lnTo>
                      <a:pt x="217" y="1424"/>
                    </a:lnTo>
                    <a:lnTo>
                      <a:pt x="250" y="1340"/>
                    </a:lnTo>
                    <a:lnTo>
                      <a:pt x="284" y="1258"/>
                    </a:lnTo>
                    <a:lnTo>
                      <a:pt x="321" y="1177"/>
                    </a:lnTo>
                    <a:lnTo>
                      <a:pt x="361" y="1097"/>
                    </a:lnTo>
                    <a:lnTo>
                      <a:pt x="403" y="1019"/>
                    </a:lnTo>
                    <a:lnTo>
                      <a:pt x="448" y="943"/>
                    </a:lnTo>
                    <a:lnTo>
                      <a:pt x="494" y="867"/>
                    </a:lnTo>
                    <a:lnTo>
                      <a:pt x="543" y="794"/>
                    </a:lnTo>
                    <a:lnTo>
                      <a:pt x="593" y="722"/>
                    </a:lnTo>
                    <a:lnTo>
                      <a:pt x="646" y="651"/>
                    </a:lnTo>
                    <a:lnTo>
                      <a:pt x="702" y="583"/>
                    </a:lnTo>
                    <a:lnTo>
                      <a:pt x="759" y="516"/>
                    </a:lnTo>
                    <a:lnTo>
                      <a:pt x="818" y="450"/>
                    </a:lnTo>
                    <a:lnTo>
                      <a:pt x="880" y="388"/>
                    </a:lnTo>
                    <a:lnTo>
                      <a:pt x="943" y="326"/>
                    </a:lnTo>
                    <a:lnTo>
                      <a:pt x="1007" y="267"/>
                    </a:lnTo>
                    <a:lnTo>
                      <a:pt x="1074" y="209"/>
                    </a:lnTo>
                    <a:lnTo>
                      <a:pt x="1142" y="153"/>
                    </a:lnTo>
                    <a:lnTo>
                      <a:pt x="1213" y="100"/>
                    </a:lnTo>
                    <a:lnTo>
                      <a:pt x="1284" y="48"/>
                    </a:lnTo>
                    <a:lnTo>
                      <a:pt x="1357" y="0"/>
                    </a:lnTo>
                    <a:lnTo>
                      <a:pt x="1344" y="2"/>
                    </a:lnTo>
                    <a:lnTo>
                      <a:pt x="1331" y="5"/>
                    </a:lnTo>
                    <a:lnTo>
                      <a:pt x="1317" y="7"/>
                    </a:lnTo>
                    <a:lnTo>
                      <a:pt x="1304" y="11"/>
                    </a:lnTo>
                    <a:lnTo>
                      <a:pt x="1292" y="13"/>
                    </a:lnTo>
                    <a:lnTo>
                      <a:pt x="1277" y="16"/>
                    </a:lnTo>
                    <a:lnTo>
                      <a:pt x="1265" y="18"/>
                    </a:lnTo>
                    <a:lnTo>
                      <a:pt x="1252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424320" y="2035080"/>
                <a:ext cx="2298600" cy="1925640"/>
              </a:xfrm>
              <a:custGeom>
                <a:avLst/>
                <a:gdLst/>
                <a:ahLst/>
                <a:rect l="l" t="t" r="r" b="b"/>
                <a:pathLst>
                  <a:path w="5793" h="4851">
                    <a:moveTo>
                      <a:pt x="5793" y="2426"/>
                    </a:moveTo>
                    <a:lnTo>
                      <a:pt x="5790" y="2332"/>
                    </a:lnTo>
                    <a:lnTo>
                      <a:pt x="5786" y="2239"/>
                    </a:lnTo>
                    <a:lnTo>
                      <a:pt x="5779" y="2147"/>
                    </a:lnTo>
                    <a:lnTo>
                      <a:pt x="5769" y="2056"/>
                    </a:lnTo>
                    <a:lnTo>
                      <a:pt x="5756" y="1966"/>
                    </a:lnTo>
                    <a:lnTo>
                      <a:pt x="5740" y="1876"/>
                    </a:lnTo>
                    <a:lnTo>
                      <a:pt x="5721" y="1787"/>
                    </a:lnTo>
                    <a:lnTo>
                      <a:pt x="5701" y="1700"/>
                    </a:lnTo>
                    <a:lnTo>
                      <a:pt x="5677" y="1614"/>
                    </a:lnTo>
                    <a:lnTo>
                      <a:pt x="5650" y="1528"/>
                    </a:lnTo>
                    <a:lnTo>
                      <a:pt x="5622" y="1445"/>
                    </a:lnTo>
                    <a:lnTo>
                      <a:pt x="5591" y="1362"/>
                    </a:lnTo>
                    <a:lnTo>
                      <a:pt x="5556" y="1280"/>
                    </a:lnTo>
                    <a:lnTo>
                      <a:pt x="5520" y="1200"/>
                    </a:lnTo>
                    <a:lnTo>
                      <a:pt x="5481" y="1120"/>
                    </a:lnTo>
                    <a:lnTo>
                      <a:pt x="5441" y="1042"/>
                    </a:lnTo>
                    <a:lnTo>
                      <a:pt x="5398" y="967"/>
                    </a:lnTo>
                    <a:lnTo>
                      <a:pt x="5353" y="891"/>
                    </a:lnTo>
                    <a:lnTo>
                      <a:pt x="5305" y="819"/>
                    </a:lnTo>
                    <a:lnTo>
                      <a:pt x="5256" y="746"/>
                    </a:lnTo>
                    <a:lnTo>
                      <a:pt x="5204" y="676"/>
                    </a:lnTo>
                    <a:lnTo>
                      <a:pt x="5150" y="608"/>
                    </a:lnTo>
                    <a:lnTo>
                      <a:pt x="5093" y="541"/>
                    </a:lnTo>
                    <a:lnTo>
                      <a:pt x="5036" y="475"/>
                    </a:lnTo>
                    <a:lnTo>
                      <a:pt x="4977" y="411"/>
                    </a:lnTo>
                    <a:lnTo>
                      <a:pt x="4915" y="350"/>
                    </a:lnTo>
                    <a:lnTo>
                      <a:pt x="4851" y="291"/>
                    </a:lnTo>
                    <a:lnTo>
                      <a:pt x="4787" y="233"/>
                    </a:lnTo>
                    <a:lnTo>
                      <a:pt x="4720" y="177"/>
                    </a:lnTo>
                    <a:lnTo>
                      <a:pt x="4652" y="123"/>
                    </a:lnTo>
                    <a:lnTo>
                      <a:pt x="4581" y="71"/>
                    </a:lnTo>
                    <a:lnTo>
                      <a:pt x="4510" y="22"/>
                    </a:lnTo>
                    <a:lnTo>
                      <a:pt x="4496" y="18"/>
                    </a:lnTo>
                    <a:lnTo>
                      <a:pt x="4482" y="16"/>
                    </a:lnTo>
                    <a:lnTo>
                      <a:pt x="4468" y="13"/>
                    </a:lnTo>
                    <a:lnTo>
                      <a:pt x="4455" y="11"/>
                    </a:lnTo>
                    <a:lnTo>
                      <a:pt x="4441" y="8"/>
                    </a:lnTo>
                    <a:lnTo>
                      <a:pt x="4427" y="5"/>
                    </a:lnTo>
                    <a:lnTo>
                      <a:pt x="4413" y="2"/>
                    </a:lnTo>
                    <a:lnTo>
                      <a:pt x="4400" y="0"/>
                    </a:lnTo>
                    <a:lnTo>
                      <a:pt x="4474" y="49"/>
                    </a:lnTo>
                    <a:lnTo>
                      <a:pt x="4548" y="99"/>
                    </a:lnTo>
                    <a:lnTo>
                      <a:pt x="4620" y="151"/>
                    </a:lnTo>
                    <a:lnTo>
                      <a:pt x="4690" y="206"/>
                    </a:lnTo>
                    <a:lnTo>
                      <a:pt x="4758" y="264"/>
                    </a:lnTo>
                    <a:lnTo>
                      <a:pt x="4825" y="323"/>
                    </a:lnTo>
                    <a:lnTo>
                      <a:pt x="4889" y="384"/>
                    </a:lnTo>
                    <a:lnTo>
                      <a:pt x="4953" y="447"/>
                    </a:lnTo>
                    <a:lnTo>
                      <a:pt x="5013" y="512"/>
                    </a:lnTo>
                    <a:lnTo>
                      <a:pt x="5072" y="579"/>
                    </a:lnTo>
                    <a:lnTo>
                      <a:pt x="5129" y="648"/>
                    </a:lnTo>
                    <a:lnTo>
                      <a:pt x="5183" y="718"/>
                    </a:lnTo>
                    <a:lnTo>
                      <a:pt x="5235" y="791"/>
                    </a:lnTo>
                    <a:lnTo>
                      <a:pt x="5286" y="865"/>
                    </a:lnTo>
                    <a:lnTo>
                      <a:pt x="5333" y="941"/>
                    </a:lnTo>
                    <a:lnTo>
                      <a:pt x="5379" y="1017"/>
                    </a:lnTo>
                    <a:lnTo>
                      <a:pt x="5422" y="1096"/>
                    </a:lnTo>
                    <a:lnTo>
                      <a:pt x="5463" y="1176"/>
                    </a:lnTo>
                    <a:lnTo>
                      <a:pt x="5501" y="1257"/>
                    </a:lnTo>
                    <a:lnTo>
                      <a:pt x="5536" y="1340"/>
                    </a:lnTo>
                    <a:lnTo>
                      <a:pt x="5570" y="1425"/>
                    </a:lnTo>
                    <a:lnTo>
                      <a:pt x="5600" y="1511"/>
                    </a:lnTo>
                    <a:lnTo>
                      <a:pt x="5628" y="1597"/>
                    </a:lnTo>
                    <a:lnTo>
                      <a:pt x="5653" y="1685"/>
                    </a:lnTo>
                    <a:lnTo>
                      <a:pt x="5676" y="1774"/>
                    </a:lnTo>
                    <a:lnTo>
                      <a:pt x="5695" y="1864"/>
                    </a:lnTo>
                    <a:lnTo>
                      <a:pt x="5712" y="1956"/>
                    </a:lnTo>
                    <a:lnTo>
                      <a:pt x="5726" y="2048"/>
                    </a:lnTo>
                    <a:lnTo>
                      <a:pt x="5736" y="2141"/>
                    </a:lnTo>
                    <a:lnTo>
                      <a:pt x="5744" y="2235"/>
                    </a:lnTo>
                    <a:lnTo>
                      <a:pt x="5749" y="2330"/>
                    </a:lnTo>
                    <a:lnTo>
                      <a:pt x="5750" y="2426"/>
                    </a:lnTo>
                    <a:lnTo>
                      <a:pt x="5750" y="2473"/>
                    </a:lnTo>
                    <a:lnTo>
                      <a:pt x="5749" y="2521"/>
                    </a:lnTo>
                    <a:lnTo>
                      <a:pt x="5747" y="2569"/>
                    </a:lnTo>
                    <a:lnTo>
                      <a:pt x="5744" y="2616"/>
                    </a:lnTo>
                    <a:lnTo>
                      <a:pt x="5741" y="2663"/>
                    </a:lnTo>
                    <a:lnTo>
                      <a:pt x="5736" y="2711"/>
                    </a:lnTo>
                    <a:lnTo>
                      <a:pt x="5731" y="2757"/>
                    </a:lnTo>
                    <a:lnTo>
                      <a:pt x="5726" y="2804"/>
                    </a:lnTo>
                    <a:lnTo>
                      <a:pt x="5719" y="2850"/>
                    </a:lnTo>
                    <a:lnTo>
                      <a:pt x="5712" y="2897"/>
                    </a:lnTo>
                    <a:lnTo>
                      <a:pt x="5704" y="2942"/>
                    </a:lnTo>
                    <a:lnTo>
                      <a:pt x="5695" y="2987"/>
                    </a:lnTo>
                    <a:lnTo>
                      <a:pt x="5686" y="3033"/>
                    </a:lnTo>
                    <a:lnTo>
                      <a:pt x="5675" y="3078"/>
                    </a:lnTo>
                    <a:lnTo>
                      <a:pt x="5664" y="3122"/>
                    </a:lnTo>
                    <a:lnTo>
                      <a:pt x="5653" y="3167"/>
                    </a:lnTo>
                    <a:lnTo>
                      <a:pt x="5693" y="3178"/>
                    </a:lnTo>
                    <a:lnTo>
                      <a:pt x="5705" y="3133"/>
                    </a:lnTo>
                    <a:lnTo>
                      <a:pt x="5716" y="3088"/>
                    </a:lnTo>
                    <a:lnTo>
                      <a:pt x="5727" y="3041"/>
                    </a:lnTo>
                    <a:lnTo>
                      <a:pt x="5735" y="2996"/>
                    </a:lnTo>
                    <a:lnTo>
                      <a:pt x="5745" y="2949"/>
                    </a:lnTo>
                    <a:lnTo>
                      <a:pt x="5753" y="2903"/>
                    </a:lnTo>
                    <a:lnTo>
                      <a:pt x="5760" y="2857"/>
                    </a:lnTo>
                    <a:lnTo>
                      <a:pt x="5767" y="2809"/>
                    </a:lnTo>
                    <a:lnTo>
                      <a:pt x="5773" y="2762"/>
                    </a:lnTo>
                    <a:lnTo>
                      <a:pt x="5777" y="2715"/>
                    </a:lnTo>
                    <a:lnTo>
                      <a:pt x="5782" y="2667"/>
                    </a:lnTo>
                    <a:lnTo>
                      <a:pt x="5786" y="2619"/>
                    </a:lnTo>
                    <a:lnTo>
                      <a:pt x="5788" y="2571"/>
                    </a:lnTo>
                    <a:lnTo>
                      <a:pt x="5790" y="2523"/>
                    </a:lnTo>
                    <a:lnTo>
                      <a:pt x="5791" y="2474"/>
                    </a:lnTo>
                    <a:lnTo>
                      <a:pt x="5793" y="2426"/>
                    </a:lnTo>
                    <a:close/>
                    <a:moveTo>
                      <a:pt x="1282" y="22"/>
                    </a:moveTo>
                    <a:lnTo>
                      <a:pt x="1211" y="71"/>
                    </a:lnTo>
                    <a:lnTo>
                      <a:pt x="1141" y="123"/>
                    </a:lnTo>
                    <a:lnTo>
                      <a:pt x="1073" y="177"/>
                    </a:lnTo>
                    <a:lnTo>
                      <a:pt x="1006" y="233"/>
                    </a:lnTo>
                    <a:lnTo>
                      <a:pt x="941" y="291"/>
                    </a:lnTo>
                    <a:lnTo>
                      <a:pt x="877" y="350"/>
                    </a:lnTo>
                    <a:lnTo>
                      <a:pt x="816" y="411"/>
                    </a:lnTo>
                    <a:lnTo>
                      <a:pt x="756" y="475"/>
                    </a:lnTo>
                    <a:lnTo>
                      <a:pt x="698" y="541"/>
                    </a:lnTo>
                    <a:lnTo>
                      <a:pt x="643" y="608"/>
                    </a:lnTo>
                    <a:lnTo>
                      <a:pt x="589" y="676"/>
                    </a:lnTo>
                    <a:lnTo>
                      <a:pt x="537" y="746"/>
                    </a:lnTo>
                    <a:lnTo>
                      <a:pt x="487" y="819"/>
                    </a:lnTo>
                    <a:lnTo>
                      <a:pt x="440" y="891"/>
                    </a:lnTo>
                    <a:lnTo>
                      <a:pt x="394" y="967"/>
                    </a:lnTo>
                    <a:lnTo>
                      <a:pt x="351" y="1042"/>
                    </a:lnTo>
                    <a:lnTo>
                      <a:pt x="311" y="1120"/>
                    </a:lnTo>
                    <a:lnTo>
                      <a:pt x="272" y="1200"/>
                    </a:lnTo>
                    <a:lnTo>
                      <a:pt x="235" y="1280"/>
                    </a:lnTo>
                    <a:lnTo>
                      <a:pt x="202" y="1362"/>
                    </a:lnTo>
                    <a:lnTo>
                      <a:pt x="171" y="1445"/>
                    </a:lnTo>
                    <a:lnTo>
                      <a:pt x="141" y="1528"/>
                    </a:lnTo>
                    <a:lnTo>
                      <a:pt x="115" y="1614"/>
                    </a:lnTo>
                    <a:lnTo>
                      <a:pt x="92" y="1700"/>
                    </a:lnTo>
                    <a:lnTo>
                      <a:pt x="71" y="1787"/>
                    </a:lnTo>
                    <a:lnTo>
                      <a:pt x="53" y="1876"/>
                    </a:lnTo>
                    <a:lnTo>
                      <a:pt x="37" y="1966"/>
                    </a:lnTo>
                    <a:lnTo>
                      <a:pt x="24" y="2056"/>
                    </a:lnTo>
                    <a:lnTo>
                      <a:pt x="14" y="2147"/>
                    </a:lnTo>
                    <a:lnTo>
                      <a:pt x="6" y="2239"/>
                    </a:lnTo>
                    <a:lnTo>
                      <a:pt x="2" y="2332"/>
                    </a:lnTo>
                    <a:lnTo>
                      <a:pt x="0" y="2426"/>
                    </a:lnTo>
                    <a:lnTo>
                      <a:pt x="2" y="2519"/>
                    </a:lnTo>
                    <a:lnTo>
                      <a:pt x="6" y="2611"/>
                    </a:lnTo>
                    <a:lnTo>
                      <a:pt x="14" y="2703"/>
                    </a:lnTo>
                    <a:lnTo>
                      <a:pt x="24" y="2795"/>
                    </a:lnTo>
                    <a:lnTo>
                      <a:pt x="37" y="2886"/>
                    </a:lnTo>
                    <a:lnTo>
                      <a:pt x="53" y="2974"/>
                    </a:lnTo>
                    <a:lnTo>
                      <a:pt x="71" y="3063"/>
                    </a:lnTo>
                    <a:lnTo>
                      <a:pt x="92" y="3150"/>
                    </a:lnTo>
                    <a:lnTo>
                      <a:pt x="115" y="3237"/>
                    </a:lnTo>
                    <a:lnTo>
                      <a:pt x="141" y="3322"/>
                    </a:lnTo>
                    <a:lnTo>
                      <a:pt x="171" y="3406"/>
                    </a:lnTo>
                    <a:lnTo>
                      <a:pt x="202" y="3489"/>
                    </a:lnTo>
                    <a:lnTo>
                      <a:pt x="235" y="3570"/>
                    </a:lnTo>
                    <a:lnTo>
                      <a:pt x="272" y="3651"/>
                    </a:lnTo>
                    <a:lnTo>
                      <a:pt x="311" y="3730"/>
                    </a:lnTo>
                    <a:lnTo>
                      <a:pt x="351" y="3808"/>
                    </a:lnTo>
                    <a:lnTo>
                      <a:pt x="394" y="3885"/>
                    </a:lnTo>
                    <a:lnTo>
                      <a:pt x="440" y="3959"/>
                    </a:lnTo>
                    <a:lnTo>
                      <a:pt x="487" y="4033"/>
                    </a:lnTo>
                    <a:lnTo>
                      <a:pt x="537" y="4104"/>
                    </a:lnTo>
                    <a:lnTo>
                      <a:pt x="589" y="4174"/>
                    </a:lnTo>
                    <a:lnTo>
                      <a:pt x="643" y="4243"/>
                    </a:lnTo>
                    <a:lnTo>
                      <a:pt x="698" y="4310"/>
                    </a:lnTo>
                    <a:lnTo>
                      <a:pt x="756" y="4375"/>
                    </a:lnTo>
                    <a:lnTo>
                      <a:pt x="816" y="4439"/>
                    </a:lnTo>
                    <a:lnTo>
                      <a:pt x="877" y="4500"/>
                    </a:lnTo>
                    <a:lnTo>
                      <a:pt x="941" y="4560"/>
                    </a:lnTo>
                    <a:lnTo>
                      <a:pt x="1006" y="4618"/>
                    </a:lnTo>
                    <a:lnTo>
                      <a:pt x="1073" y="4674"/>
                    </a:lnTo>
                    <a:lnTo>
                      <a:pt x="1141" y="4728"/>
                    </a:lnTo>
                    <a:lnTo>
                      <a:pt x="1211" y="4780"/>
                    </a:lnTo>
                    <a:lnTo>
                      <a:pt x="1282" y="4830"/>
                    </a:lnTo>
                    <a:lnTo>
                      <a:pt x="1296" y="4832"/>
                    </a:lnTo>
                    <a:lnTo>
                      <a:pt x="1310" y="4835"/>
                    </a:lnTo>
                    <a:lnTo>
                      <a:pt x="1325" y="4837"/>
                    </a:lnTo>
                    <a:lnTo>
                      <a:pt x="1338" y="4841"/>
                    </a:lnTo>
                    <a:lnTo>
                      <a:pt x="1352" y="4843"/>
                    </a:lnTo>
                    <a:lnTo>
                      <a:pt x="1366" y="4846"/>
                    </a:lnTo>
                    <a:lnTo>
                      <a:pt x="1380" y="4848"/>
                    </a:lnTo>
                    <a:lnTo>
                      <a:pt x="1393" y="4851"/>
                    </a:lnTo>
                    <a:lnTo>
                      <a:pt x="1318" y="4803"/>
                    </a:lnTo>
                    <a:lnTo>
                      <a:pt x="1245" y="4752"/>
                    </a:lnTo>
                    <a:lnTo>
                      <a:pt x="1172" y="4699"/>
                    </a:lnTo>
                    <a:lnTo>
                      <a:pt x="1102" y="4644"/>
                    </a:lnTo>
                    <a:lnTo>
                      <a:pt x="1034" y="4587"/>
                    </a:lnTo>
                    <a:lnTo>
                      <a:pt x="967" y="4528"/>
                    </a:lnTo>
                    <a:lnTo>
                      <a:pt x="902" y="4467"/>
                    </a:lnTo>
                    <a:lnTo>
                      <a:pt x="839" y="4403"/>
                    </a:lnTo>
                    <a:lnTo>
                      <a:pt x="779" y="4338"/>
                    </a:lnTo>
                    <a:lnTo>
                      <a:pt x="721" y="4271"/>
                    </a:lnTo>
                    <a:lnTo>
                      <a:pt x="663" y="4203"/>
                    </a:lnTo>
                    <a:lnTo>
                      <a:pt x="609" y="4132"/>
                    </a:lnTo>
                    <a:lnTo>
                      <a:pt x="556" y="4060"/>
                    </a:lnTo>
                    <a:lnTo>
                      <a:pt x="507" y="3986"/>
                    </a:lnTo>
                    <a:lnTo>
                      <a:pt x="459" y="3911"/>
                    </a:lnTo>
                    <a:lnTo>
                      <a:pt x="414" y="3834"/>
                    </a:lnTo>
                    <a:lnTo>
                      <a:pt x="370" y="3755"/>
                    </a:lnTo>
                    <a:lnTo>
                      <a:pt x="329" y="3675"/>
                    </a:lnTo>
                    <a:lnTo>
                      <a:pt x="292" y="3593"/>
                    </a:lnTo>
                    <a:lnTo>
                      <a:pt x="256" y="3510"/>
                    </a:lnTo>
                    <a:lnTo>
                      <a:pt x="222" y="3426"/>
                    </a:lnTo>
                    <a:lnTo>
                      <a:pt x="192" y="3340"/>
                    </a:lnTo>
                    <a:lnTo>
                      <a:pt x="164" y="3254"/>
                    </a:lnTo>
                    <a:lnTo>
                      <a:pt x="139" y="3165"/>
                    </a:lnTo>
                    <a:lnTo>
                      <a:pt x="117" y="3077"/>
                    </a:lnTo>
                    <a:lnTo>
                      <a:pt x="97" y="2986"/>
                    </a:lnTo>
                    <a:lnTo>
                      <a:pt x="81" y="2895"/>
                    </a:lnTo>
                    <a:lnTo>
                      <a:pt x="67" y="2803"/>
                    </a:lnTo>
                    <a:lnTo>
                      <a:pt x="56" y="2710"/>
                    </a:lnTo>
                    <a:lnTo>
                      <a:pt x="48" y="2616"/>
                    </a:lnTo>
                    <a:lnTo>
                      <a:pt x="43" y="2521"/>
                    </a:lnTo>
                    <a:lnTo>
                      <a:pt x="42" y="2426"/>
                    </a:lnTo>
                    <a:lnTo>
                      <a:pt x="43" y="2330"/>
                    </a:lnTo>
                    <a:lnTo>
                      <a:pt x="48" y="2235"/>
                    </a:lnTo>
                    <a:lnTo>
                      <a:pt x="56" y="2141"/>
                    </a:lnTo>
                    <a:lnTo>
                      <a:pt x="67" y="2048"/>
                    </a:lnTo>
                    <a:lnTo>
                      <a:pt x="81" y="1956"/>
                    </a:lnTo>
                    <a:lnTo>
                      <a:pt x="97" y="1864"/>
                    </a:lnTo>
                    <a:lnTo>
                      <a:pt x="117" y="1774"/>
                    </a:lnTo>
                    <a:lnTo>
                      <a:pt x="139" y="1685"/>
                    </a:lnTo>
                    <a:lnTo>
                      <a:pt x="164" y="1597"/>
                    </a:lnTo>
                    <a:lnTo>
                      <a:pt x="192" y="1511"/>
                    </a:lnTo>
                    <a:lnTo>
                      <a:pt x="222" y="1425"/>
                    </a:lnTo>
                    <a:lnTo>
                      <a:pt x="256" y="1340"/>
                    </a:lnTo>
                    <a:lnTo>
                      <a:pt x="292" y="1257"/>
                    </a:lnTo>
                    <a:lnTo>
                      <a:pt x="329" y="1176"/>
                    </a:lnTo>
                    <a:lnTo>
                      <a:pt x="370" y="1096"/>
                    </a:lnTo>
                    <a:lnTo>
                      <a:pt x="414" y="1017"/>
                    </a:lnTo>
                    <a:lnTo>
                      <a:pt x="459" y="941"/>
                    </a:lnTo>
                    <a:lnTo>
                      <a:pt x="507" y="865"/>
                    </a:lnTo>
                    <a:lnTo>
                      <a:pt x="556" y="791"/>
                    </a:lnTo>
                    <a:lnTo>
                      <a:pt x="609" y="718"/>
                    </a:lnTo>
                    <a:lnTo>
                      <a:pt x="663" y="648"/>
                    </a:lnTo>
                    <a:lnTo>
                      <a:pt x="721" y="579"/>
                    </a:lnTo>
                    <a:lnTo>
                      <a:pt x="779" y="512"/>
                    </a:lnTo>
                    <a:lnTo>
                      <a:pt x="839" y="447"/>
                    </a:lnTo>
                    <a:lnTo>
                      <a:pt x="902" y="384"/>
                    </a:lnTo>
                    <a:lnTo>
                      <a:pt x="967" y="323"/>
                    </a:lnTo>
                    <a:lnTo>
                      <a:pt x="1034" y="264"/>
                    </a:lnTo>
                    <a:lnTo>
                      <a:pt x="1102" y="206"/>
                    </a:lnTo>
                    <a:lnTo>
                      <a:pt x="1172" y="151"/>
                    </a:lnTo>
                    <a:lnTo>
                      <a:pt x="1245" y="99"/>
                    </a:lnTo>
                    <a:lnTo>
                      <a:pt x="1318" y="49"/>
                    </a:lnTo>
                    <a:lnTo>
                      <a:pt x="1393" y="0"/>
                    </a:lnTo>
                    <a:lnTo>
                      <a:pt x="1380" y="2"/>
                    </a:lnTo>
                    <a:lnTo>
                      <a:pt x="1366" y="5"/>
                    </a:lnTo>
                    <a:lnTo>
                      <a:pt x="1352" y="8"/>
                    </a:lnTo>
                    <a:lnTo>
                      <a:pt x="1338" y="11"/>
                    </a:lnTo>
                    <a:lnTo>
                      <a:pt x="1325" y="13"/>
                    </a:lnTo>
                    <a:lnTo>
                      <a:pt x="1310" y="16"/>
                    </a:lnTo>
                    <a:lnTo>
                      <a:pt x="1296" y="18"/>
                    </a:lnTo>
                    <a:lnTo>
                      <a:pt x="1282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433680" y="2030400"/>
                <a:ext cx="2281320" cy="1933560"/>
              </a:xfrm>
              <a:custGeom>
                <a:avLst/>
                <a:gdLst/>
                <a:ahLst/>
                <a:rect l="l" t="t" r="r" b="b"/>
                <a:pathLst>
                  <a:path w="5750" h="4872">
                    <a:moveTo>
                      <a:pt x="5750" y="2437"/>
                    </a:moveTo>
                    <a:lnTo>
                      <a:pt x="5749" y="2342"/>
                    </a:lnTo>
                    <a:lnTo>
                      <a:pt x="5745" y="2248"/>
                    </a:lnTo>
                    <a:lnTo>
                      <a:pt x="5737" y="2155"/>
                    </a:lnTo>
                    <a:lnTo>
                      <a:pt x="5726" y="2063"/>
                    </a:lnTo>
                    <a:lnTo>
                      <a:pt x="5713" y="1972"/>
                    </a:lnTo>
                    <a:lnTo>
                      <a:pt x="5697" y="1882"/>
                    </a:lnTo>
                    <a:lnTo>
                      <a:pt x="5678" y="1792"/>
                    </a:lnTo>
                    <a:lnTo>
                      <a:pt x="5656" y="1704"/>
                    </a:lnTo>
                    <a:lnTo>
                      <a:pt x="5631" y="1617"/>
                    </a:lnTo>
                    <a:lnTo>
                      <a:pt x="5604" y="1531"/>
                    </a:lnTo>
                    <a:lnTo>
                      <a:pt x="5575" y="1446"/>
                    </a:lnTo>
                    <a:lnTo>
                      <a:pt x="5542" y="1362"/>
                    </a:lnTo>
                    <a:lnTo>
                      <a:pt x="5508" y="1280"/>
                    </a:lnTo>
                    <a:lnTo>
                      <a:pt x="5471" y="1199"/>
                    </a:lnTo>
                    <a:lnTo>
                      <a:pt x="5431" y="1119"/>
                    </a:lnTo>
                    <a:lnTo>
                      <a:pt x="5389" y="1041"/>
                    </a:lnTo>
                    <a:lnTo>
                      <a:pt x="5345" y="965"/>
                    </a:lnTo>
                    <a:lnTo>
                      <a:pt x="5298" y="889"/>
                    </a:lnTo>
                    <a:lnTo>
                      <a:pt x="5250" y="816"/>
                    </a:lnTo>
                    <a:lnTo>
                      <a:pt x="5199" y="744"/>
                    </a:lnTo>
                    <a:lnTo>
                      <a:pt x="5146" y="673"/>
                    </a:lnTo>
                    <a:lnTo>
                      <a:pt x="5091" y="605"/>
                    </a:lnTo>
                    <a:lnTo>
                      <a:pt x="5034" y="538"/>
                    </a:lnTo>
                    <a:lnTo>
                      <a:pt x="4974" y="472"/>
                    </a:lnTo>
                    <a:lnTo>
                      <a:pt x="4913" y="410"/>
                    </a:lnTo>
                    <a:lnTo>
                      <a:pt x="4850" y="348"/>
                    </a:lnTo>
                    <a:lnTo>
                      <a:pt x="4785" y="289"/>
                    </a:lnTo>
                    <a:lnTo>
                      <a:pt x="4718" y="231"/>
                    </a:lnTo>
                    <a:lnTo>
                      <a:pt x="4650" y="175"/>
                    </a:lnTo>
                    <a:lnTo>
                      <a:pt x="4580" y="122"/>
                    </a:lnTo>
                    <a:lnTo>
                      <a:pt x="4508" y="70"/>
                    </a:lnTo>
                    <a:lnTo>
                      <a:pt x="4435" y="22"/>
                    </a:lnTo>
                    <a:lnTo>
                      <a:pt x="4421" y="20"/>
                    </a:lnTo>
                    <a:lnTo>
                      <a:pt x="4407" y="16"/>
                    </a:lnTo>
                    <a:lnTo>
                      <a:pt x="4392" y="14"/>
                    </a:lnTo>
                    <a:lnTo>
                      <a:pt x="4378" y="11"/>
                    </a:lnTo>
                    <a:lnTo>
                      <a:pt x="4364" y="9"/>
                    </a:lnTo>
                    <a:lnTo>
                      <a:pt x="4350" y="6"/>
                    </a:lnTo>
                    <a:lnTo>
                      <a:pt x="4336" y="3"/>
                    </a:lnTo>
                    <a:lnTo>
                      <a:pt x="4321" y="0"/>
                    </a:lnTo>
                    <a:lnTo>
                      <a:pt x="4398" y="48"/>
                    </a:lnTo>
                    <a:lnTo>
                      <a:pt x="4474" y="98"/>
                    </a:lnTo>
                    <a:lnTo>
                      <a:pt x="4547" y="150"/>
                    </a:lnTo>
                    <a:lnTo>
                      <a:pt x="4620" y="204"/>
                    </a:lnTo>
                    <a:lnTo>
                      <a:pt x="4690" y="262"/>
                    </a:lnTo>
                    <a:lnTo>
                      <a:pt x="4758" y="320"/>
                    </a:lnTo>
                    <a:lnTo>
                      <a:pt x="4824" y="381"/>
                    </a:lnTo>
                    <a:lnTo>
                      <a:pt x="4889" y="444"/>
                    </a:lnTo>
                    <a:lnTo>
                      <a:pt x="4950" y="509"/>
                    </a:lnTo>
                    <a:lnTo>
                      <a:pt x="5011" y="576"/>
                    </a:lnTo>
                    <a:lnTo>
                      <a:pt x="5069" y="645"/>
                    </a:lnTo>
                    <a:lnTo>
                      <a:pt x="5125" y="715"/>
                    </a:lnTo>
                    <a:lnTo>
                      <a:pt x="5179" y="788"/>
                    </a:lnTo>
                    <a:lnTo>
                      <a:pt x="5230" y="862"/>
                    </a:lnTo>
                    <a:lnTo>
                      <a:pt x="5280" y="938"/>
                    </a:lnTo>
                    <a:lnTo>
                      <a:pt x="5326" y="1015"/>
                    </a:lnTo>
                    <a:lnTo>
                      <a:pt x="5371" y="1094"/>
                    </a:lnTo>
                    <a:lnTo>
                      <a:pt x="5413" y="1175"/>
                    </a:lnTo>
                    <a:lnTo>
                      <a:pt x="5452" y="1257"/>
                    </a:lnTo>
                    <a:lnTo>
                      <a:pt x="5488" y="1340"/>
                    </a:lnTo>
                    <a:lnTo>
                      <a:pt x="5523" y="1426"/>
                    </a:lnTo>
                    <a:lnTo>
                      <a:pt x="5554" y="1512"/>
                    </a:lnTo>
                    <a:lnTo>
                      <a:pt x="5582" y="1600"/>
                    </a:lnTo>
                    <a:lnTo>
                      <a:pt x="5608" y="1688"/>
                    </a:lnTo>
                    <a:lnTo>
                      <a:pt x="5632" y="1778"/>
                    </a:lnTo>
                    <a:lnTo>
                      <a:pt x="5652" y="1870"/>
                    </a:lnTo>
                    <a:lnTo>
                      <a:pt x="5669" y="1961"/>
                    </a:lnTo>
                    <a:lnTo>
                      <a:pt x="5683" y="2054"/>
                    </a:lnTo>
                    <a:lnTo>
                      <a:pt x="5694" y="2148"/>
                    </a:lnTo>
                    <a:lnTo>
                      <a:pt x="5702" y="2243"/>
                    </a:lnTo>
                    <a:lnTo>
                      <a:pt x="5707" y="2339"/>
                    </a:lnTo>
                    <a:lnTo>
                      <a:pt x="5709" y="2437"/>
                    </a:lnTo>
                    <a:lnTo>
                      <a:pt x="5708" y="2484"/>
                    </a:lnTo>
                    <a:lnTo>
                      <a:pt x="5707" y="2532"/>
                    </a:lnTo>
                    <a:lnTo>
                      <a:pt x="5705" y="2579"/>
                    </a:lnTo>
                    <a:lnTo>
                      <a:pt x="5702" y="2626"/>
                    </a:lnTo>
                    <a:lnTo>
                      <a:pt x="5699" y="2673"/>
                    </a:lnTo>
                    <a:lnTo>
                      <a:pt x="5695" y="2720"/>
                    </a:lnTo>
                    <a:lnTo>
                      <a:pt x="5689" y="2766"/>
                    </a:lnTo>
                    <a:lnTo>
                      <a:pt x="5684" y="2813"/>
                    </a:lnTo>
                    <a:lnTo>
                      <a:pt x="5678" y="2858"/>
                    </a:lnTo>
                    <a:lnTo>
                      <a:pt x="5670" y="2903"/>
                    </a:lnTo>
                    <a:lnTo>
                      <a:pt x="5662" y="2950"/>
                    </a:lnTo>
                    <a:lnTo>
                      <a:pt x="5654" y="2994"/>
                    </a:lnTo>
                    <a:lnTo>
                      <a:pt x="5644" y="3039"/>
                    </a:lnTo>
                    <a:lnTo>
                      <a:pt x="5634" y="3084"/>
                    </a:lnTo>
                    <a:lnTo>
                      <a:pt x="5624" y="3129"/>
                    </a:lnTo>
                    <a:lnTo>
                      <a:pt x="5612" y="3172"/>
                    </a:lnTo>
                    <a:lnTo>
                      <a:pt x="5652" y="3183"/>
                    </a:lnTo>
                    <a:lnTo>
                      <a:pt x="5664" y="3139"/>
                    </a:lnTo>
                    <a:lnTo>
                      <a:pt x="5674" y="3093"/>
                    </a:lnTo>
                    <a:lnTo>
                      <a:pt x="5685" y="3048"/>
                    </a:lnTo>
                    <a:lnTo>
                      <a:pt x="5694" y="3003"/>
                    </a:lnTo>
                    <a:lnTo>
                      <a:pt x="5703" y="2957"/>
                    </a:lnTo>
                    <a:lnTo>
                      <a:pt x="5711" y="2911"/>
                    </a:lnTo>
                    <a:lnTo>
                      <a:pt x="5719" y="2864"/>
                    </a:lnTo>
                    <a:lnTo>
                      <a:pt x="5725" y="2818"/>
                    </a:lnTo>
                    <a:lnTo>
                      <a:pt x="5731" y="2770"/>
                    </a:lnTo>
                    <a:lnTo>
                      <a:pt x="5736" y="2724"/>
                    </a:lnTo>
                    <a:lnTo>
                      <a:pt x="5740" y="2676"/>
                    </a:lnTo>
                    <a:lnTo>
                      <a:pt x="5743" y="2629"/>
                    </a:lnTo>
                    <a:lnTo>
                      <a:pt x="5747" y="2581"/>
                    </a:lnTo>
                    <a:lnTo>
                      <a:pt x="5749" y="2533"/>
                    </a:lnTo>
                    <a:lnTo>
                      <a:pt x="5750" y="2485"/>
                    </a:lnTo>
                    <a:lnTo>
                      <a:pt x="5750" y="2437"/>
                    </a:lnTo>
                    <a:close/>
                    <a:moveTo>
                      <a:pt x="1315" y="22"/>
                    </a:moveTo>
                    <a:lnTo>
                      <a:pt x="1242" y="70"/>
                    </a:lnTo>
                    <a:lnTo>
                      <a:pt x="1171" y="122"/>
                    </a:lnTo>
                    <a:lnTo>
                      <a:pt x="1100" y="175"/>
                    </a:lnTo>
                    <a:lnTo>
                      <a:pt x="1032" y="231"/>
                    </a:lnTo>
                    <a:lnTo>
                      <a:pt x="965" y="289"/>
                    </a:lnTo>
                    <a:lnTo>
                      <a:pt x="901" y="348"/>
                    </a:lnTo>
                    <a:lnTo>
                      <a:pt x="838" y="410"/>
                    </a:lnTo>
                    <a:lnTo>
                      <a:pt x="776" y="472"/>
                    </a:lnTo>
                    <a:lnTo>
                      <a:pt x="717" y="538"/>
                    </a:lnTo>
                    <a:lnTo>
                      <a:pt x="660" y="605"/>
                    </a:lnTo>
                    <a:lnTo>
                      <a:pt x="604" y="673"/>
                    </a:lnTo>
                    <a:lnTo>
                      <a:pt x="551" y="744"/>
                    </a:lnTo>
                    <a:lnTo>
                      <a:pt x="501" y="816"/>
                    </a:lnTo>
                    <a:lnTo>
                      <a:pt x="452" y="889"/>
                    </a:lnTo>
                    <a:lnTo>
                      <a:pt x="406" y="965"/>
                    </a:lnTo>
                    <a:lnTo>
                      <a:pt x="361" y="1041"/>
                    </a:lnTo>
                    <a:lnTo>
                      <a:pt x="319" y="1119"/>
                    </a:lnTo>
                    <a:lnTo>
                      <a:pt x="279" y="1199"/>
                    </a:lnTo>
                    <a:lnTo>
                      <a:pt x="242" y="1280"/>
                    </a:lnTo>
                    <a:lnTo>
                      <a:pt x="208" y="1362"/>
                    </a:lnTo>
                    <a:lnTo>
                      <a:pt x="175" y="1446"/>
                    </a:lnTo>
                    <a:lnTo>
                      <a:pt x="145" y="1531"/>
                    </a:lnTo>
                    <a:lnTo>
                      <a:pt x="118" y="1617"/>
                    </a:lnTo>
                    <a:lnTo>
                      <a:pt x="94" y="1704"/>
                    </a:lnTo>
                    <a:lnTo>
                      <a:pt x="73" y="1792"/>
                    </a:lnTo>
                    <a:lnTo>
                      <a:pt x="53" y="1882"/>
                    </a:lnTo>
                    <a:lnTo>
                      <a:pt x="37" y="1972"/>
                    </a:lnTo>
                    <a:lnTo>
                      <a:pt x="24" y="2063"/>
                    </a:lnTo>
                    <a:lnTo>
                      <a:pt x="13" y="2155"/>
                    </a:lnTo>
                    <a:lnTo>
                      <a:pt x="6" y="2248"/>
                    </a:lnTo>
                    <a:lnTo>
                      <a:pt x="1" y="2342"/>
                    </a:lnTo>
                    <a:lnTo>
                      <a:pt x="0" y="2437"/>
                    </a:lnTo>
                    <a:lnTo>
                      <a:pt x="1" y="2531"/>
                    </a:lnTo>
                    <a:lnTo>
                      <a:pt x="6" y="2625"/>
                    </a:lnTo>
                    <a:lnTo>
                      <a:pt x="13" y="2717"/>
                    </a:lnTo>
                    <a:lnTo>
                      <a:pt x="24" y="2810"/>
                    </a:lnTo>
                    <a:lnTo>
                      <a:pt x="37" y="2901"/>
                    </a:lnTo>
                    <a:lnTo>
                      <a:pt x="53" y="2992"/>
                    </a:lnTo>
                    <a:lnTo>
                      <a:pt x="73" y="3080"/>
                    </a:lnTo>
                    <a:lnTo>
                      <a:pt x="94" y="3169"/>
                    </a:lnTo>
                    <a:lnTo>
                      <a:pt x="118" y="3256"/>
                    </a:lnTo>
                    <a:lnTo>
                      <a:pt x="145" y="3342"/>
                    </a:lnTo>
                    <a:lnTo>
                      <a:pt x="175" y="3427"/>
                    </a:lnTo>
                    <a:lnTo>
                      <a:pt x="208" y="3510"/>
                    </a:lnTo>
                    <a:lnTo>
                      <a:pt x="242" y="3592"/>
                    </a:lnTo>
                    <a:lnTo>
                      <a:pt x="279" y="3673"/>
                    </a:lnTo>
                    <a:lnTo>
                      <a:pt x="319" y="3753"/>
                    </a:lnTo>
                    <a:lnTo>
                      <a:pt x="361" y="3831"/>
                    </a:lnTo>
                    <a:lnTo>
                      <a:pt x="406" y="3908"/>
                    </a:lnTo>
                    <a:lnTo>
                      <a:pt x="452" y="3983"/>
                    </a:lnTo>
                    <a:lnTo>
                      <a:pt x="501" y="4057"/>
                    </a:lnTo>
                    <a:lnTo>
                      <a:pt x="551" y="4129"/>
                    </a:lnTo>
                    <a:lnTo>
                      <a:pt x="604" y="4199"/>
                    </a:lnTo>
                    <a:lnTo>
                      <a:pt x="660" y="4268"/>
                    </a:lnTo>
                    <a:lnTo>
                      <a:pt x="717" y="4335"/>
                    </a:lnTo>
                    <a:lnTo>
                      <a:pt x="776" y="4400"/>
                    </a:lnTo>
                    <a:lnTo>
                      <a:pt x="838" y="4464"/>
                    </a:lnTo>
                    <a:lnTo>
                      <a:pt x="901" y="4524"/>
                    </a:lnTo>
                    <a:lnTo>
                      <a:pt x="965" y="4585"/>
                    </a:lnTo>
                    <a:lnTo>
                      <a:pt x="1032" y="4642"/>
                    </a:lnTo>
                    <a:lnTo>
                      <a:pt x="1100" y="4697"/>
                    </a:lnTo>
                    <a:lnTo>
                      <a:pt x="1171" y="4751"/>
                    </a:lnTo>
                    <a:lnTo>
                      <a:pt x="1242" y="4802"/>
                    </a:lnTo>
                    <a:lnTo>
                      <a:pt x="1315" y="4850"/>
                    </a:lnTo>
                    <a:lnTo>
                      <a:pt x="1329" y="4854"/>
                    </a:lnTo>
                    <a:lnTo>
                      <a:pt x="1344" y="4857"/>
                    </a:lnTo>
                    <a:lnTo>
                      <a:pt x="1359" y="4859"/>
                    </a:lnTo>
                    <a:lnTo>
                      <a:pt x="1373" y="4861"/>
                    </a:lnTo>
                    <a:lnTo>
                      <a:pt x="1387" y="4865"/>
                    </a:lnTo>
                    <a:lnTo>
                      <a:pt x="1401" y="4867"/>
                    </a:lnTo>
                    <a:lnTo>
                      <a:pt x="1415" y="4870"/>
                    </a:lnTo>
                    <a:lnTo>
                      <a:pt x="1429" y="4872"/>
                    </a:lnTo>
                    <a:lnTo>
                      <a:pt x="1352" y="4825"/>
                    </a:lnTo>
                    <a:lnTo>
                      <a:pt x="1277" y="4775"/>
                    </a:lnTo>
                    <a:lnTo>
                      <a:pt x="1203" y="4723"/>
                    </a:lnTo>
                    <a:lnTo>
                      <a:pt x="1131" y="4668"/>
                    </a:lnTo>
                    <a:lnTo>
                      <a:pt x="1060" y="4612"/>
                    </a:lnTo>
                    <a:lnTo>
                      <a:pt x="992" y="4552"/>
                    </a:lnTo>
                    <a:lnTo>
                      <a:pt x="926" y="4492"/>
                    </a:lnTo>
                    <a:lnTo>
                      <a:pt x="862" y="4429"/>
                    </a:lnTo>
                    <a:lnTo>
                      <a:pt x="800" y="4364"/>
                    </a:lnTo>
                    <a:lnTo>
                      <a:pt x="740" y="4298"/>
                    </a:lnTo>
                    <a:lnTo>
                      <a:pt x="681" y="4228"/>
                    </a:lnTo>
                    <a:lnTo>
                      <a:pt x="625" y="4157"/>
                    </a:lnTo>
                    <a:lnTo>
                      <a:pt x="571" y="4085"/>
                    </a:lnTo>
                    <a:lnTo>
                      <a:pt x="520" y="4011"/>
                    </a:lnTo>
                    <a:lnTo>
                      <a:pt x="470" y="3935"/>
                    </a:lnTo>
                    <a:lnTo>
                      <a:pt x="424" y="3858"/>
                    </a:lnTo>
                    <a:lnTo>
                      <a:pt x="380" y="3778"/>
                    </a:lnTo>
                    <a:lnTo>
                      <a:pt x="338" y="3698"/>
                    </a:lnTo>
                    <a:lnTo>
                      <a:pt x="299" y="3616"/>
                    </a:lnTo>
                    <a:lnTo>
                      <a:pt x="262" y="3532"/>
                    </a:lnTo>
                    <a:lnTo>
                      <a:pt x="227" y="3448"/>
                    </a:lnTo>
                    <a:lnTo>
                      <a:pt x="196" y="3361"/>
                    </a:lnTo>
                    <a:lnTo>
                      <a:pt x="168" y="3274"/>
                    </a:lnTo>
                    <a:lnTo>
                      <a:pt x="142" y="3185"/>
                    </a:lnTo>
                    <a:lnTo>
                      <a:pt x="118" y="3094"/>
                    </a:lnTo>
                    <a:lnTo>
                      <a:pt x="99" y="3004"/>
                    </a:lnTo>
                    <a:lnTo>
                      <a:pt x="81" y="2912"/>
                    </a:lnTo>
                    <a:lnTo>
                      <a:pt x="67" y="2818"/>
                    </a:lnTo>
                    <a:lnTo>
                      <a:pt x="57" y="2724"/>
                    </a:lnTo>
                    <a:lnTo>
                      <a:pt x="48" y="2629"/>
                    </a:lnTo>
                    <a:lnTo>
                      <a:pt x="44" y="2533"/>
                    </a:lnTo>
                    <a:lnTo>
                      <a:pt x="41" y="2437"/>
                    </a:lnTo>
                    <a:lnTo>
                      <a:pt x="44" y="2339"/>
                    </a:lnTo>
                    <a:lnTo>
                      <a:pt x="48" y="2243"/>
                    </a:lnTo>
                    <a:lnTo>
                      <a:pt x="57" y="2148"/>
                    </a:lnTo>
                    <a:lnTo>
                      <a:pt x="67" y="2054"/>
                    </a:lnTo>
                    <a:lnTo>
                      <a:pt x="81" y="1961"/>
                    </a:lnTo>
                    <a:lnTo>
                      <a:pt x="99" y="1870"/>
                    </a:lnTo>
                    <a:lnTo>
                      <a:pt x="118" y="1778"/>
                    </a:lnTo>
                    <a:lnTo>
                      <a:pt x="142" y="1688"/>
                    </a:lnTo>
                    <a:lnTo>
                      <a:pt x="168" y="1600"/>
                    </a:lnTo>
                    <a:lnTo>
                      <a:pt x="196" y="1512"/>
                    </a:lnTo>
                    <a:lnTo>
                      <a:pt x="227" y="1426"/>
                    </a:lnTo>
                    <a:lnTo>
                      <a:pt x="262" y="1340"/>
                    </a:lnTo>
                    <a:lnTo>
                      <a:pt x="299" y="1257"/>
                    </a:lnTo>
                    <a:lnTo>
                      <a:pt x="338" y="1175"/>
                    </a:lnTo>
                    <a:lnTo>
                      <a:pt x="380" y="1094"/>
                    </a:lnTo>
                    <a:lnTo>
                      <a:pt x="424" y="1015"/>
                    </a:lnTo>
                    <a:lnTo>
                      <a:pt x="470" y="938"/>
                    </a:lnTo>
                    <a:lnTo>
                      <a:pt x="520" y="862"/>
                    </a:lnTo>
                    <a:lnTo>
                      <a:pt x="571" y="788"/>
                    </a:lnTo>
                    <a:lnTo>
                      <a:pt x="625" y="715"/>
                    </a:lnTo>
                    <a:lnTo>
                      <a:pt x="681" y="645"/>
                    </a:lnTo>
                    <a:lnTo>
                      <a:pt x="740" y="576"/>
                    </a:lnTo>
                    <a:lnTo>
                      <a:pt x="800" y="509"/>
                    </a:lnTo>
                    <a:lnTo>
                      <a:pt x="862" y="444"/>
                    </a:lnTo>
                    <a:lnTo>
                      <a:pt x="926" y="381"/>
                    </a:lnTo>
                    <a:lnTo>
                      <a:pt x="992" y="320"/>
                    </a:lnTo>
                    <a:lnTo>
                      <a:pt x="1060" y="262"/>
                    </a:lnTo>
                    <a:lnTo>
                      <a:pt x="1131" y="204"/>
                    </a:lnTo>
                    <a:lnTo>
                      <a:pt x="1203" y="150"/>
                    </a:lnTo>
                    <a:lnTo>
                      <a:pt x="1277" y="98"/>
                    </a:lnTo>
                    <a:lnTo>
                      <a:pt x="1352" y="48"/>
                    </a:lnTo>
                    <a:lnTo>
                      <a:pt x="1429" y="0"/>
                    </a:lnTo>
                    <a:lnTo>
                      <a:pt x="1415" y="3"/>
                    </a:lnTo>
                    <a:lnTo>
                      <a:pt x="1401" y="6"/>
                    </a:lnTo>
                    <a:lnTo>
                      <a:pt x="1387" y="9"/>
                    </a:lnTo>
                    <a:lnTo>
                      <a:pt x="1373" y="11"/>
                    </a:lnTo>
                    <a:lnTo>
                      <a:pt x="1359" y="14"/>
                    </a:lnTo>
                    <a:lnTo>
                      <a:pt x="1344" y="16"/>
                    </a:lnTo>
                    <a:lnTo>
                      <a:pt x="1329" y="20"/>
                    </a:lnTo>
                    <a:lnTo>
                      <a:pt x="1315" y="22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441600" y="2027160"/>
                <a:ext cx="2265480" cy="1941480"/>
              </a:xfrm>
              <a:custGeom>
                <a:avLst/>
                <a:gdLst/>
                <a:ahLst/>
                <a:rect l="l" t="t" r="r" b="b"/>
                <a:pathLst>
                  <a:path w="5708" h="4893">
                    <a:moveTo>
                      <a:pt x="5708" y="2447"/>
                    </a:moveTo>
                    <a:lnTo>
                      <a:pt x="5707" y="2351"/>
                    </a:lnTo>
                    <a:lnTo>
                      <a:pt x="5702" y="2256"/>
                    </a:lnTo>
                    <a:lnTo>
                      <a:pt x="5694" y="2162"/>
                    </a:lnTo>
                    <a:lnTo>
                      <a:pt x="5684" y="2069"/>
                    </a:lnTo>
                    <a:lnTo>
                      <a:pt x="5670" y="1977"/>
                    </a:lnTo>
                    <a:lnTo>
                      <a:pt x="5653" y="1885"/>
                    </a:lnTo>
                    <a:lnTo>
                      <a:pt x="5634" y="1795"/>
                    </a:lnTo>
                    <a:lnTo>
                      <a:pt x="5611" y="1706"/>
                    </a:lnTo>
                    <a:lnTo>
                      <a:pt x="5586" y="1618"/>
                    </a:lnTo>
                    <a:lnTo>
                      <a:pt x="5558" y="1532"/>
                    </a:lnTo>
                    <a:lnTo>
                      <a:pt x="5528" y="1446"/>
                    </a:lnTo>
                    <a:lnTo>
                      <a:pt x="5494" y="1361"/>
                    </a:lnTo>
                    <a:lnTo>
                      <a:pt x="5459" y="1278"/>
                    </a:lnTo>
                    <a:lnTo>
                      <a:pt x="5421" y="1197"/>
                    </a:lnTo>
                    <a:lnTo>
                      <a:pt x="5380" y="1117"/>
                    </a:lnTo>
                    <a:lnTo>
                      <a:pt x="5337" y="1038"/>
                    </a:lnTo>
                    <a:lnTo>
                      <a:pt x="5291" y="962"/>
                    </a:lnTo>
                    <a:lnTo>
                      <a:pt x="5244" y="886"/>
                    </a:lnTo>
                    <a:lnTo>
                      <a:pt x="5193" y="812"/>
                    </a:lnTo>
                    <a:lnTo>
                      <a:pt x="5141" y="739"/>
                    </a:lnTo>
                    <a:lnTo>
                      <a:pt x="5087" y="669"/>
                    </a:lnTo>
                    <a:lnTo>
                      <a:pt x="5030" y="600"/>
                    </a:lnTo>
                    <a:lnTo>
                      <a:pt x="4971" y="533"/>
                    </a:lnTo>
                    <a:lnTo>
                      <a:pt x="4911" y="468"/>
                    </a:lnTo>
                    <a:lnTo>
                      <a:pt x="4847" y="405"/>
                    </a:lnTo>
                    <a:lnTo>
                      <a:pt x="4783" y="344"/>
                    </a:lnTo>
                    <a:lnTo>
                      <a:pt x="4716" y="285"/>
                    </a:lnTo>
                    <a:lnTo>
                      <a:pt x="4648" y="227"/>
                    </a:lnTo>
                    <a:lnTo>
                      <a:pt x="4578" y="172"/>
                    </a:lnTo>
                    <a:lnTo>
                      <a:pt x="4506" y="120"/>
                    </a:lnTo>
                    <a:lnTo>
                      <a:pt x="4432" y="70"/>
                    </a:lnTo>
                    <a:lnTo>
                      <a:pt x="4358" y="21"/>
                    </a:lnTo>
                    <a:lnTo>
                      <a:pt x="4343" y="18"/>
                    </a:lnTo>
                    <a:lnTo>
                      <a:pt x="4329" y="16"/>
                    </a:lnTo>
                    <a:lnTo>
                      <a:pt x="4313" y="13"/>
                    </a:lnTo>
                    <a:lnTo>
                      <a:pt x="4299" y="10"/>
                    </a:lnTo>
                    <a:lnTo>
                      <a:pt x="4284" y="8"/>
                    </a:lnTo>
                    <a:lnTo>
                      <a:pt x="4270" y="5"/>
                    </a:lnTo>
                    <a:lnTo>
                      <a:pt x="4255" y="3"/>
                    </a:lnTo>
                    <a:lnTo>
                      <a:pt x="4241" y="0"/>
                    </a:lnTo>
                    <a:lnTo>
                      <a:pt x="4320" y="47"/>
                    </a:lnTo>
                    <a:lnTo>
                      <a:pt x="4397" y="96"/>
                    </a:lnTo>
                    <a:lnTo>
                      <a:pt x="4472" y="147"/>
                    </a:lnTo>
                    <a:lnTo>
                      <a:pt x="4547" y="201"/>
                    </a:lnTo>
                    <a:lnTo>
                      <a:pt x="4618" y="258"/>
                    </a:lnTo>
                    <a:lnTo>
                      <a:pt x="4688" y="316"/>
                    </a:lnTo>
                    <a:lnTo>
                      <a:pt x="4756" y="376"/>
                    </a:lnTo>
                    <a:lnTo>
                      <a:pt x="4822" y="439"/>
                    </a:lnTo>
                    <a:lnTo>
                      <a:pt x="4887" y="504"/>
                    </a:lnTo>
                    <a:lnTo>
                      <a:pt x="4949" y="571"/>
                    </a:lnTo>
                    <a:lnTo>
                      <a:pt x="5008" y="639"/>
                    </a:lnTo>
                    <a:lnTo>
                      <a:pt x="5067" y="710"/>
                    </a:lnTo>
                    <a:lnTo>
                      <a:pt x="5122" y="782"/>
                    </a:lnTo>
                    <a:lnTo>
                      <a:pt x="5175" y="857"/>
                    </a:lnTo>
                    <a:lnTo>
                      <a:pt x="5224" y="934"/>
                    </a:lnTo>
                    <a:lnTo>
                      <a:pt x="5273" y="1011"/>
                    </a:lnTo>
                    <a:lnTo>
                      <a:pt x="5318" y="1091"/>
                    </a:lnTo>
                    <a:lnTo>
                      <a:pt x="5362" y="1172"/>
                    </a:lnTo>
                    <a:lnTo>
                      <a:pt x="5403" y="1254"/>
                    </a:lnTo>
                    <a:lnTo>
                      <a:pt x="5440" y="1339"/>
                    </a:lnTo>
                    <a:lnTo>
                      <a:pt x="5475" y="1425"/>
                    </a:lnTo>
                    <a:lnTo>
                      <a:pt x="5507" y="1511"/>
                    </a:lnTo>
                    <a:lnTo>
                      <a:pt x="5537" y="1600"/>
                    </a:lnTo>
                    <a:lnTo>
                      <a:pt x="5564" y="1690"/>
                    </a:lnTo>
                    <a:lnTo>
                      <a:pt x="5587" y="1780"/>
                    </a:lnTo>
                    <a:lnTo>
                      <a:pt x="5608" y="1873"/>
                    </a:lnTo>
                    <a:lnTo>
                      <a:pt x="5626" y="1966"/>
                    </a:lnTo>
                    <a:lnTo>
                      <a:pt x="5640" y="2060"/>
                    </a:lnTo>
                    <a:lnTo>
                      <a:pt x="5652" y="2155"/>
                    </a:lnTo>
                    <a:lnTo>
                      <a:pt x="5660" y="2251"/>
                    </a:lnTo>
                    <a:lnTo>
                      <a:pt x="5665" y="2348"/>
                    </a:lnTo>
                    <a:lnTo>
                      <a:pt x="5666" y="2447"/>
                    </a:lnTo>
                    <a:lnTo>
                      <a:pt x="5666" y="2494"/>
                    </a:lnTo>
                    <a:lnTo>
                      <a:pt x="5665" y="2541"/>
                    </a:lnTo>
                    <a:lnTo>
                      <a:pt x="5663" y="2588"/>
                    </a:lnTo>
                    <a:lnTo>
                      <a:pt x="5661" y="2635"/>
                    </a:lnTo>
                    <a:lnTo>
                      <a:pt x="5657" y="2681"/>
                    </a:lnTo>
                    <a:lnTo>
                      <a:pt x="5653" y="2727"/>
                    </a:lnTo>
                    <a:lnTo>
                      <a:pt x="5648" y="2774"/>
                    </a:lnTo>
                    <a:lnTo>
                      <a:pt x="5643" y="2819"/>
                    </a:lnTo>
                    <a:lnTo>
                      <a:pt x="5636" y="2865"/>
                    </a:lnTo>
                    <a:lnTo>
                      <a:pt x="5628" y="2910"/>
                    </a:lnTo>
                    <a:lnTo>
                      <a:pt x="5621" y="2955"/>
                    </a:lnTo>
                    <a:lnTo>
                      <a:pt x="5612" y="3001"/>
                    </a:lnTo>
                    <a:lnTo>
                      <a:pt x="5603" y="3045"/>
                    </a:lnTo>
                    <a:lnTo>
                      <a:pt x="5593" y="3089"/>
                    </a:lnTo>
                    <a:lnTo>
                      <a:pt x="5582" y="3134"/>
                    </a:lnTo>
                    <a:lnTo>
                      <a:pt x="5570" y="3177"/>
                    </a:lnTo>
                    <a:lnTo>
                      <a:pt x="5611" y="3188"/>
                    </a:lnTo>
                    <a:lnTo>
                      <a:pt x="5622" y="3143"/>
                    </a:lnTo>
                    <a:lnTo>
                      <a:pt x="5633" y="3099"/>
                    </a:lnTo>
                    <a:lnTo>
                      <a:pt x="5644" y="3054"/>
                    </a:lnTo>
                    <a:lnTo>
                      <a:pt x="5653" y="3008"/>
                    </a:lnTo>
                    <a:lnTo>
                      <a:pt x="5662" y="2963"/>
                    </a:lnTo>
                    <a:lnTo>
                      <a:pt x="5670" y="2918"/>
                    </a:lnTo>
                    <a:lnTo>
                      <a:pt x="5677" y="2871"/>
                    </a:lnTo>
                    <a:lnTo>
                      <a:pt x="5684" y="2825"/>
                    </a:lnTo>
                    <a:lnTo>
                      <a:pt x="5689" y="2778"/>
                    </a:lnTo>
                    <a:lnTo>
                      <a:pt x="5694" y="2732"/>
                    </a:lnTo>
                    <a:lnTo>
                      <a:pt x="5699" y="2684"/>
                    </a:lnTo>
                    <a:lnTo>
                      <a:pt x="5702" y="2637"/>
                    </a:lnTo>
                    <a:lnTo>
                      <a:pt x="5705" y="2590"/>
                    </a:lnTo>
                    <a:lnTo>
                      <a:pt x="5707" y="2542"/>
                    </a:lnTo>
                    <a:lnTo>
                      <a:pt x="5708" y="2494"/>
                    </a:lnTo>
                    <a:lnTo>
                      <a:pt x="5708" y="2447"/>
                    </a:lnTo>
                    <a:close/>
                    <a:moveTo>
                      <a:pt x="1351" y="21"/>
                    </a:moveTo>
                    <a:lnTo>
                      <a:pt x="1276" y="70"/>
                    </a:lnTo>
                    <a:lnTo>
                      <a:pt x="1203" y="120"/>
                    </a:lnTo>
                    <a:lnTo>
                      <a:pt x="1130" y="172"/>
                    </a:lnTo>
                    <a:lnTo>
                      <a:pt x="1060" y="227"/>
                    </a:lnTo>
                    <a:lnTo>
                      <a:pt x="992" y="285"/>
                    </a:lnTo>
                    <a:lnTo>
                      <a:pt x="925" y="344"/>
                    </a:lnTo>
                    <a:lnTo>
                      <a:pt x="860" y="405"/>
                    </a:lnTo>
                    <a:lnTo>
                      <a:pt x="797" y="468"/>
                    </a:lnTo>
                    <a:lnTo>
                      <a:pt x="737" y="533"/>
                    </a:lnTo>
                    <a:lnTo>
                      <a:pt x="679" y="600"/>
                    </a:lnTo>
                    <a:lnTo>
                      <a:pt x="621" y="669"/>
                    </a:lnTo>
                    <a:lnTo>
                      <a:pt x="567" y="739"/>
                    </a:lnTo>
                    <a:lnTo>
                      <a:pt x="514" y="812"/>
                    </a:lnTo>
                    <a:lnTo>
                      <a:pt x="465" y="886"/>
                    </a:lnTo>
                    <a:lnTo>
                      <a:pt x="417" y="962"/>
                    </a:lnTo>
                    <a:lnTo>
                      <a:pt x="372" y="1038"/>
                    </a:lnTo>
                    <a:lnTo>
                      <a:pt x="328" y="1117"/>
                    </a:lnTo>
                    <a:lnTo>
                      <a:pt x="287" y="1197"/>
                    </a:lnTo>
                    <a:lnTo>
                      <a:pt x="250" y="1278"/>
                    </a:lnTo>
                    <a:lnTo>
                      <a:pt x="214" y="1361"/>
                    </a:lnTo>
                    <a:lnTo>
                      <a:pt x="180" y="1446"/>
                    </a:lnTo>
                    <a:lnTo>
                      <a:pt x="150" y="1532"/>
                    </a:lnTo>
                    <a:lnTo>
                      <a:pt x="122" y="1618"/>
                    </a:lnTo>
                    <a:lnTo>
                      <a:pt x="97" y="1706"/>
                    </a:lnTo>
                    <a:lnTo>
                      <a:pt x="75" y="1795"/>
                    </a:lnTo>
                    <a:lnTo>
                      <a:pt x="55" y="1885"/>
                    </a:lnTo>
                    <a:lnTo>
                      <a:pt x="39" y="1977"/>
                    </a:lnTo>
                    <a:lnTo>
                      <a:pt x="25" y="2069"/>
                    </a:lnTo>
                    <a:lnTo>
                      <a:pt x="14" y="2162"/>
                    </a:lnTo>
                    <a:lnTo>
                      <a:pt x="6" y="2256"/>
                    </a:lnTo>
                    <a:lnTo>
                      <a:pt x="1" y="2351"/>
                    </a:lnTo>
                    <a:lnTo>
                      <a:pt x="0" y="2447"/>
                    </a:lnTo>
                    <a:lnTo>
                      <a:pt x="1" y="2542"/>
                    </a:lnTo>
                    <a:lnTo>
                      <a:pt x="6" y="2637"/>
                    </a:lnTo>
                    <a:lnTo>
                      <a:pt x="14" y="2731"/>
                    </a:lnTo>
                    <a:lnTo>
                      <a:pt x="25" y="2824"/>
                    </a:lnTo>
                    <a:lnTo>
                      <a:pt x="39" y="2916"/>
                    </a:lnTo>
                    <a:lnTo>
                      <a:pt x="55" y="3007"/>
                    </a:lnTo>
                    <a:lnTo>
                      <a:pt x="75" y="3098"/>
                    </a:lnTo>
                    <a:lnTo>
                      <a:pt x="97" y="3186"/>
                    </a:lnTo>
                    <a:lnTo>
                      <a:pt x="122" y="3275"/>
                    </a:lnTo>
                    <a:lnTo>
                      <a:pt x="150" y="3361"/>
                    </a:lnTo>
                    <a:lnTo>
                      <a:pt x="180" y="3447"/>
                    </a:lnTo>
                    <a:lnTo>
                      <a:pt x="214" y="3531"/>
                    </a:lnTo>
                    <a:lnTo>
                      <a:pt x="250" y="3614"/>
                    </a:lnTo>
                    <a:lnTo>
                      <a:pt x="287" y="3696"/>
                    </a:lnTo>
                    <a:lnTo>
                      <a:pt x="328" y="3776"/>
                    </a:lnTo>
                    <a:lnTo>
                      <a:pt x="372" y="3855"/>
                    </a:lnTo>
                    <a:lnTo>
                      <a:pt x="417" y="3932"/>
                    </a:lnTo>
                    <a:lnTo>
                      <a:pt x="465" y="4007"/>
                    </a:lnTo>
                    <a:lnTo>
                      <a:pt x="514" y="4081"/>
                    </a:lnTo>
                    <a:lnTo>
                      <a:pt x="567" y="4153"/>
                    </a:lnTo>
                    <a:lnTo>
                      <a:pt x="621" y="4224"/>
                    </a:lnTo>
                    <a:lnTo>
                      <a:pt x="679" y="4292"/>
                    </a:lnTo>
                    <a:lnTo>
                      <a:pt x="737" y="4359"/>
                    </a:lnTo>
                    <a:lnTo>
                      <a:pt x="797" y="4424"/>
                    </a:lnTo>
                    <a:lnTo>
                      <a:pt x="860" y="4488"/>
                    </a:lnTo>
                    <a:lnTo>
                      <a:pt x="925" y="4549"/>
                    </a:lnTo>
                    <a:lnTo>
                      <a:pt x="992" y="4608"/>
                    </a:lnTo>
                    <a:lnTo>
                      <a:pt x="1060" y="4665"/>
                    </a:lnTo>
                    <a:lnTo>
                      <a:pt x="1130" y="4720"/>
                    </a:lnTo>
                    <a:lnTo>
                      <a:pt x="1203" y="4773"/>
                    </a:lnTo>
                    <a:lnTo>
                      <a:pt x="1276" y="4824"/>
                    </a:lnTo>
                    <a:lnTo>
                      <a:pt x="1351" y="4872"/>
                    </a:lnTo>
                    <a:lnTo>
                      <a:pt x="1366" y="4875"/>
                    </a:lnTo>
                    <a:lnTo>
                      <a:pt x="1380" y="4878"/>
                    </a:lnTo>
                    <a:lnTo>
                      <a:pt x="1395" y="4880"/>
                    </a:lnTo>
                    <a:lnTo>
                      <a:pt x="1409" y="4882"/>
                    </a:lnTo>
                    <a:lnTo>
                      <a:pt x="1424" y="4885"/>
                    </a:lnTo>
                    <a:lnTo>
                      <a:pt x="1438" y="4887"/>
                    </a:lnTo>
                    <a:lnTo>
                      <a:pt x="1453" y="4891"/>
                    </a:lnTo>
                    <a:lnTo>
                      <a:pt x="1467" y="4893"/>
                    </a:lnTo>
                    <a:lnTo>
                      <a:pt x="1388" y="4846"/>
                    </a:lnTo>
                    <a:lnTo>
                      <a:pt x="1312" y="4797"/>
                    </a:lnTo>
                    <a:lnTo>
                      <a:pt x="1236" y="4746"/>
                    </a:lnTo>
                    <a:lnTo>
                      <a:pt x="1162" y="4692"/>
                    </a:lnTo>
                    <a:lnTo>
                      <a:pt x="1090" y="4636"/>
                    </a:lnTo>
                    <a:lnTo>
                      <a:pt x="1020" y="4578"/>
                    </a:lnTo>
                    <a:lnTo>
                      <a:pt x="952" y="4517"/>
                    </a:lnTo>
                    <a:lnTo>
                      <a:pt x="886" y="4454"/>
                    </a:lnTo>
                    <a:lnTo>
                      <a:pt x="821" y="4390"/>
                    </a:lnTo>
                    <a:lnTo>
                      <a:pt x="760" y="4323"/>
                    </a:lnTo>
                    <a:lnTo>
                      <a:pt x="700" y="4254"/>
                    </a:lnTo>
                    <a:lnTo>
                      <a:pt x="642" y="4183"/>
                    </a:lnTo>
                    <a:lnTo>
                      <a:pt x="587" y="4110"/>
                    </a:lnTo>
                    <a:lnTo>
                      <a:pt x="534" y="4035"/>
                    </a:lnTo>
                    <a:lnTo>
                      <a:pt x="483" y="3960"/>
                    </a:lnTo>
                    <a:lnTo>
                      <a:pt x="435" y="3882"/>
                    </a:lnTo>
                    <a:lnTo>
                      <a:pt x="390" y="3802"/>
                    </a:lnTo>
                    <a:lnTo>
                      <a:pt x="347" y="3721"/>
                    </a:lnTo>
                    <a:lnTo>
                      <a:pt x="306" y="3638"/>
                    </a:lnTo>
                    <a:lnTo>
                      <a:pt x="268" y="3554"/>
                    </a:lnTo>
                    <a:lnTo>
                      <a:pt x="233" y="3468"/>
                    </a:lnTo>
                    <a:lnTo>
                      <a:pt x="201" y="3381"/>
                    </a:lnTo>
                    <a:lnTo>
                      <a:pt x="172" y="3292"/>
                    </a:lnTo>
                    <a:lnTo>
                      <a:pt x="145" y="3203"/>
                    </a:lnTo>
                    <a:lnTo>
                      <a:pt x="121" y="3112"/>
                    </a:lnTo>
                    <a:lnTo>
                      <a:pt x="100" y="3020"/>
                    </a:lnTo>
                    <a:lnTo>
                      <a:pt x="82" y="2927"/>
                    </a:lnTo>
                    <a:lnTo>
                      <a:pt x="68" y="2832"/>
                    </a:lnTo>
                    <a:lnTo>
                      <a:pt x="56" y="2737"/>
                    </a:lnTo>
                    <a:lnTo>
                      <a:pt x="49" y="2641"/>
                    </a:lnTo>
                    <a:lnTo>
                      <a:pt x="43" y="2544"/>
                    </a:lnTo>
                    <a:lnTo>
                      <a:pt x="41" y="2447"/>
                    </a:lnTo>
                    <a:lnTo>
                      <a:pt x="43" y="2348"/>
                    </a:lnTo>
                    <a:lnTo>
                      <a:pt x="49" y="2251"/>
                    </a:lnTo>
                    <a:lnTo>
                      <a:pt x="56" y="2155"/>
                    </a:lnTo>
                    <a:lnTo>
                      <a:pt x="68" y="2060"/>
                    </a:lnTo>
                    <a:lnTo>
                      <a:pt x="82" y="1966"/>
                    </a:lnTo>
                    <a:lnTo>
                      <a:pt x="100" y="1873"/>
                    </a:lnTo>
                    <a:lnTo>
                      <a:pt x="121" y="1780"/>
                    </a:lnTo>
                    <a:lnTo>
                      <a:pt x="145" y="1690"/>
                    </a:lnTo>
                    <a:lnTo>
                      <a:pt x="172" y="1600"/>
                    </a:lnTo>
                    <a:lnTo>
                      <a:pt x="201" y="1511"/>
                    </a:lnTo>
                    <a:lnTo>
                      <a:pt x="233" y="1425"/>
                    </a:lnTo>
                    <a:lnTo>
                      <a:pt x="268" y="1339"/>
                    </a:lnTo>
                    <a:lnTo>
                      <a:pt x="306" y="1254"/>
                    </a:lnTo>
                    <a:lnTo>
                      <a:pt x="347" y="1172"/>
                    </a:lnTo>
                    <a:lnTo>
                      <a:pt x="390" y="1091"/>
                    </a:lnTo>
                    <a:lnTo>
                      <a:pt x="435" y="1011"/>
                    </a:lnTo>
                    <a:lnTo>
                      <a:pt x="483" y="934"/>
                    </a:lnTo>
                    <a:lnTo>
                      <a:pt x="534" y="857"/>
                    </a:lnTo>
                    <a:lnTo>
                      <a:pt x="587" y="782"/>
                    </a:lnTo>
                    <a:lnTo>
                      <a:pt x="642" y="710"/>
                    </a:lnTo>
                    <a:lnTo>
                      <a:pt x="700" y="639"/>
                    </a:lnTo>
                    <a:lnTo>
                      <a:pt x="760" y="571"/>
                    </a:lnTo>
                    <a:lnTo>
                      <a:pt x="821" y="504"/>
                    </a:lnTo>
                    <a:lnTo>
                      <a:pt x="886" y="439"/>
                    </a:lnTo>
                    <a:lnTo>
                      <a:pt x="952" y="376"/>
                    </a:lnTo>
                    <a:lnTo>
                      <a:pt x="1020" y="316"/>
                    </a:lnTo>
                    <a:lnTo>
                      <a:pt x="1090" y="258"/>
                    </a:lnTo>
                    <a:lnTo>
                      <a:pt x="1162" y="201"/>
                    </a:lnTo>
                    <a:lnTo>
                      <a:pt x="1236" y="147"/>
                    </a:lnTo>
                    <a:lnTo>
                      <a:pt x="1312" y="96"/>
                    </a:lnTo>
                    <a:lnTo>
                      <a:pt x="1388" y="47"/>
                    </a:lnTo>
                    <a:lnTo>
                      <a:pt x="1467" y="0"/>
                    </a:lnTo>
                    <a:lnTo>
                      <a:pt x="1453" y="3"/>
                    </a:lnTo>
                    <a:lnTo>
                      <a:pt x="1438" y="5"/>
                    </a:lnTo>
                    <a:lnTo>
                      <a:pt x="1424" y="8"/>
                    </a:lnTo>
                    <a:lnTo>
                      <a:pt x="1409" y="10"/>
                    </a:lnTo>
                    <a:lnTo>
                      <a:pt x="1395" y="13"/>
                    </a:lnTo>
                    <a:lnTo>
                      <a:pt x="1380" y="16"/>
                    </a:lnTo>
                    <a:lnTo>
                      <a:pt x="1366" y="18"/>
                    </a:lnTo>
                    <a:lnTo>
                      <a:pt x="1351" y="21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449520" y="2022480"/>
                <a:ext cx="2249640" cy="1949400"/>
              </a:xfrm>
              <a:custGeom>
                <a:avLst/>
                <a:gdLst/>
                <a:ahLst/>
                <a:rect l="l" t="t" r="r" b="b"/>
                <a:pathLst>
                  <a:path w="5668" h="4913">
                    <a:moveTo>
                      <a:pt x="5668" y="2457"/>
                    </a:moveTo>
                    <a:lnTo>
                      <a:pt x="5666" y="2359"/>
                    </a:lnTo>
                    <a:lnTo>
                      <a:pt x="5661" y="2263"/>
                    </a:lnTo>
                    <a:lnTo>
                      <a:pt x="5653" y="2168"/>
                    </a:lnTo>
                    <a:lnTo>
                      <a:pt x="5642" y="2074"/>
                    </a:lnTo>
                    <a:lnTo>
                      <a:pt x="5628" y="1981"/>
                    </a:lnTo>
                    <a:lnTo>
                      <a:pt x="5611" y="1890"/>
                    </a:lnTo>
                    <a:lnTo>
                      <a:pt x="5591" y="1798"/>
                    </a:lnTo>
                    <a:lnTo>
                      <a:pt x="5567" y="1708"/>
                    </a:lnTo>
                    <a:lnTo>
                      <a:pt x="5541" y="1620"/>
                    </a:lnTo>
                    <a:lnTo>
                      <a:pt x="5513" y="1532"/>
                    </a:lnTo>
                    <a:lnTo>
                      <a:pt x="5482" y="1446"/>
                    </a:lnTo>
                    <a:lnTo>
                      <a:pt x="5447" y="1360"/>
                    </a:lnTo>
                    <a:lnTo>
                      <a:pt x="5411" y="1277"/>
                    </a:lnTo>
                    <a:lnTo>
                      <a:pt x="5372" y="1195"/>
                    </a:lnTo>
                    <a:lnTo>
                      <a:pt x="5330" y="1114"/>
                    </a:lnTo>
                    <a:lnTo>
                      <a:pt x="5285" y="1035"/>
                    </a:lnTo>
                    <a:lnTo>
                      <a:pt x="5239" y="958"/>
                    </a:lnTo>
                    <a:lnTo>
                      <a:pt x="5189" y="882"/>
                    </a:lnTo>
                    <a:lnTo>
                      <a:pt x="5138" y="808"/>
                    </a:lnTo>
                    <a:lnTo>
                      <a:pt x="5084" y="735"/>
                    </a:lnTo>
                    <a:lnTo>
                      <a:pt x="5028" y="665"/>
                    </a:lnTo>
                    <a:lnTo>
                      <a:pt x="4970" y="596"/>
                    </a:lnTo>
                    <a:lnTo>
                      <a:pt x="4909" y="529"/>
                    </a:lnTo>
                    <a:lnTo>
                      <a:pt x="4848" y="464"/>
                    </a:lnTo>
                    <a:lnTo>
                      <a:pt x="4783" y="401"/>
                    </a:lnTo>
                    <a:lnTo>
                      <a:pt x="4717" y="340"/>
                    </a:lnTo>
                    <a:lnTo>
                      <a:pt x="4649" y="282"/>
                    </a:lnTo>
                    <a:lnTo>
                      <a:pt x="4579" y="224"/>
                    </a:lnTo>
                    <a:lnTo>
                      <a:pt x="4506" y="170"/>
                    </a:lnTo>
                    <a:lnTo>
                      <a:pt x="4433" y="118"/>
                    </a:lnTo>
                    <a:lnTo>
                      <a:pt x="4357" y="68"/>
                    </a:lnTo>
                    <a:lnTo>
                      <a:pt x="4280" y="20"/>
                    </a:lnTo>
                    <a:lnTo>
                      <a:pt x="4265" y="18"/>
                    </a:lnTo>
                    <a:lnTo>
                      <a:pt x="4250" y="16"/>
                    </a:lnTo>
                    <a:lnTo>
                      <a:pt x="4235" y="13"/>
                    </a:lnTo>
                    <a:lnTo>
                      <a:pt x="4220" y="10"/>
                    </a:lnTo>
                    <a:lnTo>
                      <a:pt x="4205" y="7"/>
                    </a:lnTo>
                    <a:lnTo>
                      <a:pt x="4190" y="5"/>
                    </a:lnTo>
                    <a:lnTo>
                      <a:pt x="4175" y="3"/>
                    </a:lnTo>
                    <a:lnTo>
                      <a:pt x="4159" y="0"/>
                    </a:lnTo>
                    <a:lnTo>
                      <a:pt x="4241" y="46"/>
                    </a:lnTo>
                    <a:lnTo>
                      <a:pt x="4320" y="94"/>
                    </a:lnTo>
                    <a:lnTo>
                      <a:pt x="4398" y="144"/>
                    </a:lnTo>
                    <a:lnTo>
                      <a:pt x="4474" y="197"/>
                    </a:lnTo>
                    <a:lnTo>
                      <a:pt x="4547" y="253"/>
                    </a:lnTo>
                    <a:lnTo>
                      <a:pt x="4620" y="311"/>
                    </a:lnTo>
                    <a:lnTo>
                      <a:pt x="4689" y="371"/>
                    </a:lnTo>
                    <a:lnTo>
                      <a:pt x="4757" y="434"/>
                    </a:lnTo>
                    <a:lnTo>
                      <a:pt x="4823" y="499"/>
                    </a:lnTo>
                    <a:lnTo>
                      <a:pt x="4887" y="566"/>
                    </a:lnTo>
                    <a:lnTo>
                      <a:pt x="4948" y="634"/>
                    </a:lnTo>
                    <a:lnTo>
                      <a:pt x="5008" y="705"/>
                    </a:lnTo>
                    <a:lnTo>
                      <a:pt x="5064" y="777"/>
                    </a:lnTo>
                    <a:lnTo>
                      <a:pt x="5119" y="852"/>
                    </a:lnTo>
                    <a:lnTo>
                      <a:pt x="5171" y="928"/>
                    </a:lnTo>
                    <a:lnTo>
                      <a:pt x="5221" y="1007"/>
                    </a:lnTo>
                    <a:lnTo>
                      <a:pt x="5267" y="1087"/>
                    </a:lnTo>
                    <a:lnTo>
                      <a:pt x="5311" y="1169"/>
                    </a:lnTo>
                    <a:lnTo>
                      <a:pt x="5353" y="1252"/>
                    </a:lnTo>
                    <a:lnTo>
                      <a:pt x="5392" y="1337"/>
                    </a:lnTo>
                    <a:lnTo>
                      <a:pt x="5428" y="1423"/>
                    </a:lnTo>
                    <a:lnTo>
                      <a:pt x="5462" y="1512"/>
                    </a:lnTo>
                    <a:lnTo>
                      <a:pt x="5492" y="1600"/>
                    </a:lnTo>
                    <a:lnTo>
                      <a:pt x="5520" y="1691"/>
                    </a:lnTo>
                    <a:lnTo>
                      <a:pt x="5544" y="1783"/>
                    </a:lnTo>
                    <a:lnTo>
                      <a:pt x="5565" y="1876"/>
                    </a:lnTo>
                    <a:lnTo>
                      <a:pt x="5584" y="1971"/>
                    </a:lnTo>
                    <a:lnTo>
                      <a:pt x="5599" y="2066"/>
                    </a:lnTo>
                    <a:lnTo>
                      <a:pt x="5611" y="2162"/>
                    </a:lnTo>
                    <a:lnTo>
                      <a:pt x="5619" y="2259"/>
                    </a:lnTo>
                    <a:lnTo>
                      <a:pt x="5625" y="2357"/>
                    </a:lnTo>
                    <a:lnTo>
                      <a:pt x="5626" y="2457"/>
                    </a:lnTo>
                    <a:lnTo>
                      <a:pt x="5626" y="2503"/>
                    </a:lnTo>
                    <a:lnTo>
                      <a:pt x="5625" y="2551"/>
                    </a:lnTo>
                    <a:lnTo>
                      <a:pt x="5623" y="2597"/>
                    </a:lnTo>
                    <a:lnTo>
                      <a:pt x="5619" y="2644"/>
                    </a:lnTo>
                    <a:lnTo>
                      <a:pt x="5616" y="2689"/>
                    </a:lnTo>
                    <a:lnTo>
                      <a:pt x="5612" y="2735"/>
                    </a:lnTo>
                    <a:lnTo>
                      <a:pt x="5607" y="2781"/>
                    </a:lnTo>
                    <a:lnTo>
                      <a:pt x="5602" y="2826"/>
                    </a:lnTo>
                    <a:lnTo>
                      <a:pt x="5595" y="2871"/>
                    </a:lnTo>
                    <a:lnTo>
                      <a:pt x="5588" y="2917"/>
                    </a:lnTo>
                    <a:lnTo>
                      <a:pt x="5580" y="2962"/>
                    </a:lnTo>
                    <a:lnTo>
                      <a:pt x="5572" y="3006"/>
                    </a:lnTo>
                    <a:lnTo>
                      <a:pt x="5562" y="3051"/>
                    </a:lnTo>
                    <a:lnTo>
                      <a:pt x="5552" y="3095"/>
                    </a:lnTo>
                    <a:lnTo>
                      <a:pt x="5541" y="3138"/>
                    </a:lnTo>
                    <a:lnTo>
                      <a:pt x="5531" y="3181"/>
                    </a:lnTo>
                    <a:lnTo>
                      <a:pt x="5571" y="3192"/>
                    </a:lnTo>
                    <a:lnTo>
                      <a:pt x="5583" y="3149"/>
                    </a:lnTo>
                    <a:lnTo>
                      <a:pt x="5593" y="3104"/>
                    </a:lnTo>
                    <a:lnTo>
                      <a:pt x="5603" y="3059"/>
                    </a:lnTo>
                    <a:lnTo>
                      <a:pt x="5613" y="3014"/>
                    </a:lnTo>
                    <a:lnTo>
                      <a:pt x="5621" y="2970"/>
                    </a:lnTo>
                    <a:lnTo>
                      <a:pt x="5629" y="2923"/>
                    </a:lnTo>
                    <a:lnTo>
                      <a:pt x="5637" y="2878"/>
                    </a:lnTo>
                    <a:lnTo>
                      <a:pt x="5643" y="2833"/>
                    </a:lnTo>
                    <a:lnTo>
                      <a:pt x="5648" y="2786"/>
                    </a:lnTo>
                    <a:lnTo>
                      <a:pt x="5654" y="2740"/>
                    </a:lnTo>
                    <a:lnTo>
                      <a:pt x="5658" y="2693"/>
                    </a:lnTo>
                    <a:lnTo>
                      <a:pt x="5661" y="2646"/>
                    </a:lnTo>
                    <a:lnTo>
                      <a:pt x="5664" y="2599"/>
                    </a:lnTo>
                    <a:lnTo>
                      <a:pt x="5666" y="2552"/>
                    </a:lnTo>
                    <a:lnTo>
                      <a:pt x="5667" y="2504"/>
                    </a:lnTo>
                    <a:lnTo>
                      <a:pt x="5668" y="2457"/>
                    </a:lnTo>
                    <a:close/>
                    <a:moveTo>
                      <a:pt x="1388" y="20"/>
                    </a:moveTo>
                    <a:lnTo>
                      <a:pt x="1311" y="68"/>
                    </a:lnTo>
                    <a:lnTo>
                      <a:pt x="1236" y="118"/>
                    </a:lnTo>
                    <a:lnTo>
                      <a:pt x="1162" y="170"/>
                    </a:lnTo>
                    <a:lnTo>
                      <a:pt x="1090" y="224"/>
                    </a:lnTo>
                    <a:lnTo>
                      <a:pt x="1019" y="282"/>
                    </a:lnTo>
                    <a:lnTo>
                      <a:pt x="951" y="340"/>
                    </a:lnTo>
                    <a:lnTo>
                      <a:pt x="885" y="401"/>
                    </a:lnTo>
                    <a:lnTo>
                      <a:pt x="821" y="464"/>
                    </a:lnTo>
                    <a:lnTo>
                      <a:pt x="759" y="529"/>
                    </a:lnTo>
                    <a:lnTo>
                      <a:pt x="699" y="596"/>
                    </a:lnTo>
                    <a:lnTo>
                      <a:pt x="640" y="665"/>
                    </a:lnTo>
                    <a:lnTo>
                      <a:pt x="584" y="735"/>
                    </a:lnTo>
                    <a:lnTo>
                      <a:pt x="530" y="808"/>
                    </a:lnTo>
                    <a:lnTo>
                      <a:pt x="479" y="882"/>
                    </a:lnTo>
                    <a:lnTo>
                      <a:pt x="429" y="958"/>
                    </a:lnTo>
                    <a:lnTo>
                      <a:pt x="383" y="1035"/>
                    </a:lnTo>
                    <a:lnTo>
                      <a:pt x="339" y="1114"/>
                    </a:lnTo>
                    <a:lnTo>
                      <a:pt x="297" y="1195"/>
                    </a:lnTo>
                    <a:lnTo>
                      <a:pt x="258" y="1277"/>
                    </a:lnTo>
                    <a:lnTo>
                      <a:pt x="221" y="1360"/>
                    </a:lnTo>
                    <a:lnTo>
                      <a:pt x="186" y="1446"/>
                    </a:lnTo>
                    <a:lnTo>
                      <a:pt x="155" y="1532"/>
                    </a:lnTo>
                    <a:lnTo>
                      <a:pt x="127" y="1620"/>
                    </a:lnTo>
                    <a:lnTo>
                      <a:pt x="101" y="1708"/>
                    </a:lnTo>
                    <a:lnTo>
                      <a:pt x="77" y="1798"/>
                    </a:lnTo>
                    <a:lnTo>
                      <a:pt x="58" y="1890"/>
                    </a:lnTo>
                    <a:lnTo>
                      <a:pt x="40" y="1981"/>
                    </a:lnTo>
                    <a:lnTo>
                      <a:pt x="26" y="2074"/>
                    </a:lnTo>
                    <a:lnTo>
                      <a:pt x="16" y="2168"/>
                    </a:lnTo>
                    <a:lnTo>
                      <a:pt x="7" y="2263"/>
                    </a:lnTo>
                    <a:lnTo>
                      <a:pt x="3" y="2359"/>
                    </a:lnTo>
                    <a:lnTo>
                      <a:pt x="0" y="2457"/>
                    </a:lnTo>
                    <a:lnTo>
                      <a:pt x="3" y="2553"/>
                    </a:lnTo>
                    <a:lnTo>
                      <a:pt x="7" y="2649"/>
                    </a:lnTo>
                    <a:lnTo>
                      <a:pt x="16" y="2744"/>
                    </a:lnTo>
                    <a:lnTo>
                      <a:pt x="26" y="2838"/>
                    </a:lnTo>
                    <a:lnTo>
                      <a:pt x="40" y="2932"/>
                    </a:lnTo>
                    <a:lnTo>
                      <a:pt x="58" y="3024"/>
                    </a:lnTo>
                    <a:lnTo>
                      <a:pt x="77" y="3114"/>
                    </a:lnTo>
                    <a:lnTo>
                      <a:pt x="101" y="3205"/>
                    </a:lnTo>
                    <a:lnTo>
                      <a:pt x="127" y="3294"/>
                    </a:lnTo>
                    <a:lnTo>
                      <a:pt x="155" y="3381"/>
                    </a:lnTo>
                    <a:lnTo>
                      <a:pt x="186" y="3468"/>
                    </a:lnTo>
                    <a:lnTo>
                      <a:pt x="221" y="3552"/>
                    </a:lnTo>
                    <a:lnTo>
                      <a:pt x="258" y="3636"/>
                    </a:lnTo>
                    <a:lnTo>
                      <a:pt x="297" y="3718"/>
                    </a:lnTo>
                    <a:lnTo>
                      <a:pt x="339" y="3798"/>
                    </a:lnTo>
                    <a:lnTo>
                      <a:pt x="383" y="3878"/>
                    </a:lnTo>
                    <a:lnTo>
                      <a:pt x="429" y="3955"/>
                    </a:lnTo>
                    <a:lnTo>
                      <a:pt x="479" y="4031"/>
                    </a:lnTo>
                    <a:lnTo>
                      <a:pt x="530" y="4105"/>
                    </a:lnTo>
                    <a:lnTo>
                      <a:pt x="584" y="4177"/>
                    </a:lnTo>
                    <a:lnTo>
                      <a:pt x="640" y="4248"/>
                    </a:lnTo>
                    <a:lnTo>
                      <a:pt x="699" y="4318"/>
                    </a:lnTo>
                    <a:lnTo>
                      <a:pt x="759" y="4384"/>
                    </a:lnTo>
                    <a:lnTo>
                      <a:pt x="821" y="4449"/>
                    </a:lnTo>
                    <a:lnTo>
                      <a:pt x="885" y="4512"/>
                    </a:lnTo>
                    <a:lnTo>
                      <a:pt x="951" y="4572"/>
                    </a:lnTo>
                    <a:lnTo>
                      <a:pt x="1019" y="4632"/>
                    </a:lnTo>
                    <a:lnTo>
                      <a:pt x="1090" y="4688"/>
                    </a:lnTo>
                    <a:lnTo>
                      <a:pt x="1162" y="4743"/>
                    </a:lnTo>
                    <a:lnTo>
                      <a:pt x="1236" y="4795"/>
                    </a:lnTo>
                    <a:lnTo>
                      <a:pt x="1311" y="4845"/>
                    </a:lnTo>
                    <a:lnTo>
                      <a:pt x="1388" y="4892"/>
                    </a:lnTo>
                    <a:lnTo>
                      <a:pt x="1403" y="4895"/>
                    </a:lnTo>
                    <a:lnTo>
                      <a:pt x="1418" y="4897"/>
                    </a:lnTo>
                    <a:lnTo>
                      <a:pt x="1433" y="4900"/>
                    </a:lnTo>
                    <a:lnTo>
                      <a:pt x="1448" y="4903"/>
                    </a:lnTo>
                    <a:lnTo>
                      <a:pt x="1464" y="4905"/>
                    </a:lnTo>
                    <a:lnTo>
                      <a:pt x="1479" y="4907"/>
                    </a:lnTo>
                    <a:lnTo>
                      <a:pt x="1494" y="4910"/>
                    </a:lnTo>
                    <a:lnTo>
                      <a:pt x="1509" y="4913"/>
                    </a:lnTo>
                    <a:lnTo>
                      <a:pt x="1428" y="4867"/>
                    </a:lnTo>
                    <a:lnTo>
                      <a:pt x="1348" y="4819"/>
                    </a:lnTo>
                    <a:lnTo>
                      <a:pt x="1270" y="4768"/>
                    </a:lnTo>
                    <a:lnTo>
                      <a:pt x="1194" y="4715"/>
                    </a:lnTo>
                    <a:lnTo>
                      <a:pt x="1121" y="4660"/>
                    </a:lnTo>
                    <a:lnTo>
                      <a:pt x="1049" y="4602"/>
                    </a:lnTo>
                    <a:lnTo>
                      <a:pt x="979" y="4541"/>
                    </a:lnTo>
                    <a:lnTo>
                      <a:pt x="911" y="4480"/>
                    </a:lnTo>
                    <a:lnTo>
                      <a:pt x="845" y="4415"/>
                    </a:lnTo>
                    <a:lnTo>
                      <a:pt x="782" y="4348"/>
                    </a:lnTo>
                    <a:lnTo>
                      <a:pt x="720" y="4279"/>
                    </a:lnTo>
                    <a:lnTo>
                      <a:pt x="661" y="4208"/>
                    </a:lnTo>
                    <a:lnTo>
                      <a:pt x="604" y="4135"/>
                    </a:lnTo>
                    <a:lnTo>
                      <a:pt x="549" y="4060"/>
                    </a:lnTo>
                    <a:lnTo>
                      <a:pt x="498" y="3984"/>
                    </a:lnTo>
                    <a:lnTo>
                      <a:pt x="448" y="3906"/>
                    </a:lnTo>
                    <a:lnTo>
                      <a:pt x="401" y="3826"/>
                    </a:lnTo>
                    <a:lnTo>
                      <a:pt x="357" y="3744"/>
                    </a:lnTo>
                    <a:lnTo>
                      <a:pt x="315" y="3661"/>
                    </a:lnTo>
                    <a:lnTo>
                      <a:pt x="276" y="3576"/>
                    </a:lnTo>
                    <a:lnTo>
                      <a:pt x="240" y="3489"/>
                    </a:lnTo>
                    <a:lnTo>
                      <a:pt x="207" y="3402"/>
                    </a:lnTo>
                    <a:lnTo>
                      <a:pt x="177" y="3312"/>
                    </a:lnTo>
                    <a:lnTo>
                      <a:pt x="149" y="3221"/>
                    </a:lnTo>
                    <a:lnTo>
                      <a:pt x="125" y="3130"/>
                    </a:lnTo>
                    <a:lnTo>
                      <a:pt x="103" y="3037"/>
                    </a:lnTo>
                    <a:lnTo>
                      <a:pt x="85" y="2943"/>
                    </a:lnTo>
                    <a:lnTo>
                      <a:pt x="70" y="2848"/>
                    </a:lnTo>
                    <a:lnTo>
                      <a:pt x="58" y="2752"/>
                    </a:lnTo>
                    <a:lnTo>
                      <a:pt x="49" y="2653"/>
                    </a:lnTo>
                    <a:lnTo>
                      <a:pt x="44" y="2556"/>
                    </a:lnTo>
                    <a:lnTo>
                      <a:pt x="43" y="2457"/>
                    </a:lnTo>
                    <a:lnTo>
                      <a:pt x="44" y="2357"/>
                    </a:lnTo>
                    <a:lnTo>
                      <a:pt x="49" y="2259"/>
                    </a:lnTo>
                    <a:lnTo>
                      <a:pt x="58" y="2162"/>
                    </a:lnTo>
                    <a:lnTo>
                      <a:pt x="70" y="2066"/>
                    </a:lnTo>
                    <a:lnTo>
                      <a:pt x="85" y="1971"/>
                    </a:lnTo>
                    <a:lnTo>
                      <a:pt x="103" y="1876"/>
                    </a:lnTo>
                    <a:lnTo>
                      <a:pt x="125" y="1783"/>
                    </a:lnTo>
                    <a:lnTo>
                      <a:pt x="149" y="1691"/>
                    </a:lnTo>
                    <a:lnTo>
                      <a:pt x="177" y="1600"/>
                    </a:lnTo>
                    <a:lnTo>
                      <a:pt x="207" y="1512"/>
                    </a:lnTo>
                    <a:lnTo>
                      <a:pt x="240" y="1423"/>
                    </a:lnTo>
                    <a:lnTo>
                      <a:pt x="276" y="1337"/>
                    </a:lnTo>
                    <a:lnTo>
                      <a:pt x="315" y="1252"/>
                    </a:lnTo>
                    <a:lnTo>
                      <a:pt x="357" y="1169"/>
                    </a:lnTo>
                    <a:lnTo>
                      <a:pt x="401" y="1087"/>
                    </a:lnTo>
                    <a:lnTo>
                      <a:pt x="448" y="1007"/>
                    </a:lnTo>
                    <a:lnTo>
                      <a:pt x="498" y="928"/>
                    </a:lnTo>
                    <a:lnTo>
                      <a:pt x="549" y="852"/>
                    </a:lnTo>
                    <a:lnTo>
                      <a:pt x="604" y="777"/>
                    </a:lnTo>
                    <a:lnTo>
                      <a:pt x="661" y="705"/>
                    </a:lnTo>
                    <a:lnTo>
                      <a:pt x="720" y="634"/>
                    </a:lnTo>
                    <a:lnTo>
                      <a:pt x="782" y="566"/>
                    </a:lnTo>
                    <a:lnTo>
                      <a:pt x="845" y="499"/>
                    </a:lnTo>
                    <a:lnTo>
                      <a:pt x="911" y="434"/>
                    </a:lnTo>
                    <a:lnTo>
                      <a:pt x="979" y="371"/>
                    </a:lnTo>
                    <a:lnTo>
                      <a:pt x="1049" y="311"/>
                    </a:lnTo>
                    <a:lnTo>
                      <a:pt x="1121" y="253"/>
                    </a:lnTo>
                    <a:lnTo>
                      <a:pt x="1194" y="197"/>
                    </a:lnTo>
                    <a:lnTo>
                      <a:pt x="1270" y="144"/>
                    </a:lnTo>
                    <a:lnTo>
                      <a:pt x="1348" y="94"/>
                    </a:lnTo>
                    <a:lnTo>
                      <a:pt x="1428" y="46"/>
                    </a:lnTo>
                    <a:lnTo>
                      <a:pt x="1509" y="0"/>
                    </a:lnTo>
                    <a:lnTo>
                      <a:pt x="1494" y="3"/>
                    </a:lnTo>
                    <a:lnTo>
                      <a:pt x="1479" y="5"/>
                    </a:lnTo>
                    <a:lnTo>
                      <a:pt x="1464" y="7"/>
                    </a:lnTo>
                    <a:lnTo>
                      <a:pt x="1448" y="10"/>
                    </a:lnTo>
                    <a:lnTo>
                      <a:pt x="1433" y="13"/>
                    </a:lnTo>
                    <a:lnTo>
                      <a:pt x="1418" y="16"/>
                    </a:lnTo>
                    <a:lnTo>
                      <a:pt x="1403" y="18"/>
                    </a:lnTo>
                    <a:lnTo>
                      <a:pt x="1388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457440" y="2017800"/>
                <a:ext cx="2232000" cy="1958760"/>
              </a:xfrm>
              <a:custGeom>
                <a:avLst/>
                <a:gdLst/>
                <a:ahLst/>
                <a:rect l="l" t="t" r="r" b="b"/>
                <a:pathLst>
                  <a:path w="5625" h="4933">
                    <a:moveTo>
                      <a:pt x="5625" y="2467"/>
                    </a:moveTo>
                    <a:lnTo>
                      <a:pt x="5624" y="2368"/>
                    </a:lnTo>
                    <a:lnTo>
                      <a:pt x="5619" y="2271"/>
                    </a:lnTo>
                    <a:lnTo>
                      <a:pt x="5611" y="2175"/>
                    </a:lnTo>
                    <a:lnTo>
                      <a:pt x="5599" y="2080"/>
                    </a:lnTo>
                    <a:lnTo>
                      <a:pt x="5585" y="1986"/>
                    </a:lnTo>
                    <a:lnTo>
                      <a:pt x="5567" y="1893"/>
                    </a:lnTo>
                    <a:lnTo>
                      <a:pt x="5546" y="1800"/>
                    </a:lnTo>
                    <a:lnTo>
                      <a:pt x="5523" y="1710"/>
                    </a:lnTo>
                    <a:lnTo>
                      <a:pt x="5496" y="1620"/>
                    </a:lnTo>
                    <a:lnTo>
                      <a:pt x="5466" y="1531"/>
                    </a:lnTo>
                    <a:lnTo>
                      <a:pt x="5434" y="1445"/>
                    </a:lnTo>
                    <a:lnTo>
                      <a:pt x="5399" y="1359"/>
                    </a:lnTo>
                    <a:lnTo>
                      <a:pt x="5362" y="1274"/>
                    </a:lnTo>
                    <a:lnTo>
                      <a:pt x="5321" y="1192"/>
                    </a:lnTo>
                    <a:lnTo>
                      <a:pt x="5277" y="1111"/>
                    </a:lnTo>
                    <a:lnTo>
                      <a:pt x="5232" y="1031"/>
                    </a:lnTo>
                    <a:lnTo>
                      <a:pt x="5183" y="954"/>
                    </a:lnTo>
                    <a:lnTo>
                      <a:pt x="5134" y="877"/>
                    </a:lnTo>
                    <a:lnTo>
                      <a:pt x="5081" y="802"/>
                    </a:lnTo>
                    <a:lnTo>
                      <a:pt x="5026" y="730"/>
                    </a:lnTo>
                    <a:lnTo>
                      <a:pt x="4967" y="659"/>
                    </a:lnTo>
                    <a:lnTo>
                      <a:pt x="4908" y="591"/>
                    </a:lnTo>
                    <a:lnTo>
                      <a:pt x="4846" y="524"/>
                    </a:lnTo>
                    <a:lnTo>
                      <a:pt x="4781" y="459"/>
                    </a:lnTo>
                    <a:lnTo>
                      <a:pt x="4715" y="396"/>
                    </a:lnTo>
                    <a:lnTo>
                      <a:pt x="4647" y="336"/>
                    </a:lnTo>
                    <a:lnTo>
                      <a:pt x="4577" y="278"/>
                    </a:lnTo>
                    <a:lnTo>
                      <a:pt x="4506" y="221"/>
                    </a:lnTo>
                    <a:lnTo>
                      <a:pt x="4431" y="167"/>
                    </a:lnTo>
                    <a:lnTo>
                      <a:pt x="4356" y="116"/>
                    </a:lnTo>
                    <a:lnTo>
                      <a:pt x="4279" y="67"/>
                    </a:lnTo>
                    <a:lnTo>
                      <a:pt x="4200" y="20"/>
                    </a:lnTo>
                    <a:lnTo>
                      <a:pt x="4184" y="17"/>
                    </a:lnTo>
                    <a:lnTo>
                      <a:pt x="4169" y="15"/>
                    </a:lnTo>
                    <a:lnTo>
                      <a:pt x="4153" y="12"/>
                    </a:lnTo>
                    <a:lnTo>
                      <a:pt x="4137" y="10"/>
                    </a:lnTo>
                    <a:lnTo>
                      <a:pt x="4122" y="8"/>
                    </a:lnTo>
                    <a:lnTo>
                      <a:pt x="4106" y="4"/>
                    </a:lnTo>
                    <a:lnTo>
                      <a:pt x="4091" y="2"/>
                    </a:lnTo>
                    <a:lnTo>
                      <a:pt x="4075" y="0"/>
                    </a:lnTo>
                    <a:lnTo>
                      <a:pt x="4158" y="44"/>
                    </a:lnTo>
                    <a:lnTo>
                      <a:pt x="4239" y="92"/>
                    </a:lnTo>
                    <a:lnTo>
                      <a:pt x="4319" y="141"/>
                    </a:lnTo>
                    <a:lnTo>
                      <a:pt x="4397" y="193"/>
                    </a:lnTo>
                    <a:lnTo>
                      <a:pt x="4472" y="248"/>
                    </a:lnTo>
                    <a:lnTo>
                      <a:pt x="4547" y="306"/>
                    </a:lnTo>
                    <a:lnTo>
                      <a:pt x="4618" y="366"/>
                    </a:lnTo>
                    <a:lnTo>
                      <a:pt x="4688" y="428"/>
                    </a:lnTo>
                    <a:lnTo>
                      <a:pt x="4757" y="492"/>
                    </a:lnTo>
                    <a:lnTo>
                      <a:pt x="4821" y="558"/>
                    </a:lnTo>
                    <a:lnTo>
                      <a:pt x="4885" y="627"/>
                    </a:lnTo>
                    <a:lnTo>
                      <a:pt x="4946" y="699"/>
                    </a:lnTo>
                    <a:lnTo>
                      <a:pt x="5005" y="771"/>
                    </a:lnTo>
                    <a:lnTo>
                      <a:pt x="5061" y="847"/>
                    </a:lnTo>
                    <a:lnTo>
                      <a:pt x="5114" y="923"/>
                    </a:lnTo>
                    <a:lnTo>
                      <a:pt x="5165" y="1002"/>
                    </a:lnTo>
                    <a:lnTo>
                      <a:pt x="5214" y="1082"/>
                    </a:lnTo>
                    <a:lnTo>
                      <a:pt x="5260" y="1165"/>
                    </a:lnTo>
                    <a:lnTo>
                      <a:pt x="5302" y="1248"/>
                    </a:lnTo>
                    <a:lnTo>
                      <a:pt x="5343" y="1335"/>
                    </a:lnTo>
                    <a:lnTo>
                      <a:pt x="5380" y="1421"/>
                    </a:lnTo>
                    <a:lnTo>
                      <a:pt x="5415" y="1510"/>
                    </a:lnTo>
                    <a:lnTo>
                      <a:pt x="5446" y="1601"/>
                    </a:lnTo>
                    <a:lnTo>
                      <a:pt x="5474" y="1692"/>
                    </a:lnTo>
                    <a:lnTo>
                      <a:pt x="5500" y="1785"/>
                    </a:lnTo>
                    <a:lnTo>
                      <a:pt x="5522" y="1879"/>
                    </a:lnTo>
                    <a:lnTo>
                      <a:pt x="5540" y="1974"/>
                    </a:lnTo>
                    <a:lnTo>
                      <a:pt x="5556" y="2070"/>
                    </a:lnTo>
                    <a:lnTo>
                      <a:pt x="5568" y="2168"/>
                    </a:lnTo>
                    <a:lnTo>
                      <a:pt x="5577" y="2267"/>
                    </a:lnTo>
                    <a:lnTo>
                      <a:pt x="5582" y="2366"/>
                    </a:lnTo>
                    <a:lnTo>
                      <a:pt x="5584" y="2467"/>
                    </a:lnTo>
                    <a:lnTo>
                      <a:pt x="5584" y="2513"/>
                    </a:lnTo>
                    <a:lnTo>
                      <a:pt x="5582" y="2560"/>
                    </a:lnTo>
                    <a:lnTo>
                      <a:pt x="5581" y="2606"/>
                    </a:lnTo>
                    <a:lnTo>
                      <a:pt x="5578" y="2651"/>
                    </a:lnTo>
                    <a:lnTo>
                      <a:pt x="5574" y="2698"/>
                    </a:lnTo>
                    <a:lnTo>
                      <a:pt x="5570" y="2743"/>
                    </a:lnTo>
                    <a:lnTo>
                      <a:pt x="5566" y="2789"/>
                    </a:lnTo>
                    <a:lnTo>
                      <a:pt x="5559" y="2834"/>
                    </a:lnTo>
                    <a:lnTo>
                      <a:pt x="5554" y="2878"/>
                    </a:lnTo>
                    <a:lnTo>
                      <a:pt x="5546" y="2924"/>
                    </a:lnTo>
                    <a:lnTo>
                      <a:pt x="5539" y="2968"/>
                    </a:lnTo>
                    <a:lnTo>
                      <a:pt x="5530" y="3012"/>
                    </a:lnTo>
                    <a:lnTo>
                      <a:pt x="5520" y="3056"/>
                    </a:lnTo>
                    <a:lnTo>
                      <a:pt x="5511" y="3100"/>
                    </a:lnTo>
                    <a:lnTo>
                      <a:pt x="5501" y="3143"/>
                    </a:lnTo>
                    <a:lnTo>
                      <a:pt x="5489" y="3186"/>
                    </a:lnTo>
                    <a:lnTo>
                      <a:pt x="5529" y="3197"/>
                    </a:lnTo>
                    <a:lnTo>
                      <a:pt x="5541" y="3154"/>
                    </a:lnTo>
                    <a:lnTo>
                      <a:pt x="5552" y="3109"/>
                    </a:lnTo>
                    <a:lnTo>
                      <a:pt x="5562" y="3065"/>
                    </a:lnTo>
                    <a:lnTo>
                      <a:pt x="5571" y="3021"/>
                    </a:lnTo>
                    <a:lnTo>
                      <a:pt x="5580" y="2975"/>
                    </a:lnTo>
                    <a:lnTo>
                      <a:pt x="5587" y="2930"/>
                    </a:lnTo>
                    <a:lnTo>
                      <a:pt x="5595" y="2885"/>
                    </a:lnTo>
                    <a:lnTo>
                      <a:pt x="5602" y="2839"/>
                    </a:lnTo>
                    <a:lnTo>
                      <a:pt x="5607" y="2794"/>
                    </a:lnTo>
                    <a:lnTo>
                      <a:pt x="5612" y="2747"/>
                    </a:lnTo>
                    <a:lnTo>
                      <a:pt x="5616" y="2701"/>
                    </a:lnTo>
                    <a:lnTo>
                      <a:pt x="5620" y="2655"/>
                    </a:lnTo>
                    <a:lnTo>
                      <a:pt x="5622" y="2608"/>
                    </a:lnTo>
                    <a:lnTo>
                      <a:pt x="5624" y="2561"/>
                    </a:lnTo>
                    <a:lnTo>
                      <a:pt x="5625" y="2514"/>
                    </a:lnTo>
                    <a:lnTo>
                      <a:pt x="5625" y="2467"/>
                    </a:lnTo>
                    <a:close/>
                    <a:moveTo>
                      <a:pt x="1426" y="20"/>
                    </a:moveTo>
                    <a:lnTo>
                      <a:pt x="1347" y="67"/>
                    </a:lnTo>
                    <a:lnTo>
                      <a:pt x="1271" y="116"/>
                    </a:lnTo>
                    <a:lnTo>
                      <a:pt x="1195" y="167"/>
                    </a:lnTo>
                    <a:lnTo>
                      <a:pt x="1121" y="221"/>
                    </a:lnTo>
                    <a:lnTo>
                      <a:pt x="1049" y="278"/>
                    </a:lnTo>
                    <a:lnTo>
                      <a:pt x="979" y="336"/>
                    </a:lnTo>
                    <a:lnTo>
                      <a:pt x="911" y="396"/>
                    </a:lnTo>
                    <a:lnTo>
                      <a:pt x="845" y="459"/>
                    </a:lnTo>
                    <a:lnTo>
                      <a:pt x="780" y="524"/>
                    </a:lnTo>
                    <a:lnTo>
                      <a:pt x="719" y="591"/>
                    </a:lnTo>
                    <a:lnTo>
                      <a:pt x="659" y="659"/>
                    </a:lnTo>
                    <a:lnTo>
                      <a:pt x="601" y="730"/>
                    </a:lnTo>
                    <a:lnTo>
                      <a:pt x="546" y="802"/>
                    </a:lnTo>
                    <a:lnTo>
                      <a:pt x="493" y="877"/>
                    </a:lnTo>
                    <a:lnTo>
                      <a:pt x="442" y="954"/>
                    </a:lnTo>
                    <a:lnTo>
                      <a:pt x="394" y="1031"/>
                    </a:lnTo>
                    <a:lnTo>
                      <a:pt x="349" y="1111"/>
                    </a:lnTo>
                    <a:lnTo>
                      <a:pt x="306" y="1192"/>
                    </a:lnTo>
                    <a:lnTo>
                      <a:pt x="265" y="1274"/>
                    </a:lnTo>
                    <a:lnTo>
                      <a:pt x="227" y="1359"/>
                    </a:lnTo>
                    <a:lnTo>
                      <a:pt x="192" y="1445"/>
                    </a:lnTo>
                    <a:lnTo>
                      <a:pt x="160" y="1531"/>
                    </a:lnTo>
                    <a:lnTo>
                      <a:pt x="131" y="1620"/>
                    </a:lnTo>
                    <a:lnTo>
                      <a:pt x="104" y="1710"/>
                    </a:lnTo>
                    <a:lnTo>
                      <a:pt x="80" y="1800"/>
                    </a:lnTo>
                    <a:lnTo>
                      <a:pt x="59" y="1893"/>
                    </a:lnTo>
                    <a:lnTo>
                      <a:pt x="41" y="1986"/>
                    </a:lnTo>
                    <a:lnTo>
                      <a:pt x="27" y="2080"/>
                    </a:lnTo>
                    <a:lnTo>
                      <a:pt x="15" y="2175"/>
                    </a:lnTo>
                    <a:lnTo>
                      <a:pt x="8" y="2271"/>
                    </a:lnTo>
                    <a:lnTo>
                      <a:pt x="2" y="2368"/>
                    </a:lnTo>
                    <a:lnTo>
                      <a:pt x="0" y="2467"/>
                    </a:lnTo>
                    <a:lnTo>
                      <a:pt x="2" y="2564"/>
                    </a:lnTo>
                    <a:lnTo>
                      <a:pt x="8" y="2661"/>
                    </a:lnTo>
                    <a:lnTo>
                      <a:pt x="15" y="2757"/>
                    </a:lnTo>
                    <a:lnTo>
                      <a:pt x="27" y="2852"/>
                    </a:lnTo>
                    <a:lnTo>
                      <a:pt x="41" y="2947"/>
                    </a:lnTo>
                    <a:lnTo>
                      <a:pt x="59" y="3040"/>
                    </a:lnTo>
                    <a:lnTo>
                      <a:pt x="80" y="3132"/>
                    </a:lnTo>
                    <a:lnTo>
                      <a:pt x="104" y="3223"/>
                    </a:lnTo>
                    <a:lnTo>
                      <a:pt x="131" y="3312"/>
                    </a:lnTo>
                    <a:lnTo>
                      <a:pt x="160" y="3401"/>
                    </a:lnTo>
                    <a:lnTo>
                      <a:pt x="192" y="3488"/>
                    </a:lnTo>
                    <a:lnTo>
                      <a:pt x="227" y="3574"/>
                    </a:lnTo>
                    <a:lnTo>
                      <a:pt x="265" y="3658"/>
                    </a:lnTo>
                    <a:lnTo>
                      <a:pt x="306" y="3741"/>
                    </a:lnTo>
                    <a:lnTo>
                      <a:pt x="349" y="3822"/>
                    </a:lnTo>
                    <a:lnTo>
                      <a:pt x="394" y="3902"/>
                    </a:lnTo>
                    <a:lnTo>
                      <a:pt x="442" y="3980"/>
                    </a:lnTo>
                    <a:lnTo>
                      <a:pt x="493" y="4055"/>
                    </a:lnTo>
                    <a:lnTo>
                      <a:pt x="546" y="4130"/>
                    </a:lnTo>
                    <a:lnTo>
                      <a:pt x="601" y="4203"/>
                    </a:lnTo>
                    <a:lnTo>
                      <a:pt x="659" y="4274"/>
                    </a:lnTo>
                    <a:lnTo>
                      <a:pt x="719" y="4343"/>
                    </a:lnTo>
                    <a:lnTo>
                      <a:pt x="780" y="4410"/>
                    </a:lnTo>
                    <a:lnTo>
                      <a:pt x="845" y="4474"/>
                    </a:lnTo>
                    <a:lnTo>
                      <a:pt x="911" y="4537"/>
                    </a:lnTo>
                    <a:lnTo>
                      <a:pt x="979" y="4598"/>
                    </a:lnTo>
                    <a:lnTo>
                      <a:pt x="1049" y="4656"/>
                    </a:lnTo>
                    <a:lnTo>
                      <a:pt x="1121" y="4712"/>
                    </a:lnTo>
                    <a:lnTo>
                      <a:pt x="1195" y="4766"/>
                    </a:lnTo>
                    <a:lnTo>
                      <a:pt x="1271" y="4817"/>
                    </a:lnTo>
                    <a:lnTo>
                      <a:pt x="1347" y="4866"/>
                    </a:lnTo>
                    <a:lnTo>
                      <a:pt x="1426" y="4913"/>
                    </a:lnTo>
                    <a:lnTo>
                      <a:pt x="1443" y="4915"/>
                    </a:lnTo>
                    <a:lnTo>
                      <a:pt x="1458" y="4918"/>
                    </a:lnTo>
                    <a:lnTo>
                      <a:pt x="1474" y="4920"/>
                    </a:lnTo>
                    <a:lnTo>
                      <a:pt x="1489" y="4923"/>
                    </a:lnTo>
                    <a:lnTo>
                      <a:pt x="1504" y="4926"/>
                    </a:lnTo>
                    <a:lnTo>
                      <a:pt x="1520" y="4928"/>
                    </a:lnTo>
                    <a:lnTo>
                      <a:pt x="1535" y="4930"/>
                    </a:lnTo>
                    <a:lnTo>
                      <a:pt x="1552" y="4933"/>
                    </a:lnTo>
                    <a:lnTo>
                      <a:pt x="1468" y="4888"/>
                    </a:lnTo>
                    <a:lnTo>
                      <a:pt x="1387" y="4842"/>
                    </a:lnTo>
                    <a:lnTo>
                      <a:pt x="1307" y="4792"/>
                    </a:lnTo>
                    <a:lnTo>
                      <a:pt x="1230" y="4739"/>
                    </a:lnTo>
                    <a:lnTo>
                      <a:pt x="1153" y="4684"/>
                    </a:lnTo>
                    <a:lnTo>
                      <a:pt x="1079" y="4627"/>
                    </a:lnTo>
                    <a:lnTo>
                      <a:pt x="1007" y="4567"/>
                    </a:lnTo>
                    <a:lnTo>
                      <a:pt x="938" y="4505"/>
                    </a:lnTo>
                    <a:lnTo>
                      <a:pt x="870" y="4441"/>
                    </a:lnTo>
                    <a:lnTo>
                      <a:pt x="804" y="4374"/>
                    </a:lnTo>
                    <a:lnTo>
                      <a:pt x="741" y="4305"/>
                    </a:lnTo>
                    <a:lnTo>
                      <a:pt x="680" y="4235"/>
                    </a:lnTo>
                    <a:lnTo>
                      <a:pt x="621" y="4161"/>
                    </a:lnTo>
                    <a:lnTo>
                      <a:pt x="565" y="4087"/>
                    </a:lnTo>
                    <a:lnTo>
                      <a:pt x="512" y="4010"/>
                    </a:lnTo>
                    <a:lnTo>
                      <a:pt x="461" y="3931"/>
                    </a:lnTo>
                    <a:lnTo>
                      <a:pt x="413" y="3850"/>
                    </a:lnTo>
                    <a:lnTo>
                      <a:pt x="366" y="3768"/>
                    </a:lnTo>
                    <a:lnTo>
                      <a:pt x="324" y="3684"/>
                    </a:lnTo>
                    <a:lnTo>
                      <a:pt x="283" y="3599"/>
                    </a:lnTo>
                    <a:lnTo>
                      <a:pt x="246" y="3511"/>
                    </a:lnTo>
                    <a:lnTo>
                      <a:pt x="212" y="3422"/>
                    </a:lnTo>
                    <a:lnTo>
                      <a:pt x="180" y="3333"/>
                    </a:lnTo>
                    <a:lnTo>
                      <a:pt x="152" y="3241"/>
                    </a:lnTo>
                    <a:lnTo>
                      <a:pt x="126" y="3148"/>
                    </a:lnTo>
                    <a:lnTo>
                      <a:pt x="105" y="3054"/>
                    </a:lnTo>
                    <a:lnTo>
                      <a:pt x="85" y="2959"/>
                    </a:lnTo>
                    <a:lnTo>
                      <a:pt x="70" y="2862"/>
                    </a:lnTo>
                    <a:lnTo>
                      <a:pt x="58" y="2765"/>
                    </a:lnTo>
                    <a:lnTo>
                      <a:pt x="50" y="2666"/>
                    </a:lnTo>
                    <a:lnTo>
                      <a:pt x="44" y="2567"/>
                    </a:lnTo>
                    <a:lnTo>
                      <a:pt x="42" y="2467"/>
                    </a:lnTo>
                    <a:lnTo>
                      <a:pt x="44" y="2366"/>
                    </a:lnTo>
                    <a:lnTo>
                      <a:pt x="50" y="2267"/>
                    </a:lnTo>
                    <a:lnTo>
                      <a:pt x="58" y="2168"/>
                    </a:lnTo>
                    <a:lnTo>
                      <a:pt x="70" y="2070"/>
                    </a:lnTo>
                    <a:lnTo>
                      <a:pt x="85" y="1974"/>
                    </a:lnTo>
                    <a:lnTo>
                      <a:pt x="105" y="1879"/>
                    </a:lnTo>
                    <a:lnTo>
                      <a:pt x="126" y="1785"/>
                    </a:lnTo>
                    <a:lnTo>
                      <a:pt x="152" y="1692"/>
                    </a:lnTo>
                    <a:lnTo>
                      <a:pt x="180" y="1601"/>
                    </a:lnTo>
                    <a:lnTo>
                      <a:pt x="212" y="1510"/>
                    </a:lnTo>
                    <a:lnTo>
                      <a:pt x="246" y="1421"/>
                    </a:lnTo>
                    <a:lnTo>
                      <a:pt x="283" y="1335"/>
                    </a:lnTo>
                    <a:lnTo>
                      <a:pt x="324" y="1248"/>
                    </a:lnTo>
                    <a:lnTo>
                      <a:pt x="366" y="1165"/>
                    </a:lnTo>
                    <a:lnTo>
                      <a:pt x="413" y="1082"/>
                    </a:lnTo>
                    <a:lnTo>
                      <a:pt x="461" y="1002"/>
                    </a:lnTo>
                    <a:lnTo>
                      <a:pt x="512" y="923"/>
                    </a:lnTo>
                    <a:lnTo>
                      <a:pt x="565" y="847"/>
                    </a:lnTo>
                    <a:lnTo>
                      <a:pt x="621" y="771"/>
                    </a:lnTo>
                    <a:lnTo>
                      <a:pt x="681" y="699"/>
                    </a:lnTo>
                    <a:lnTo>
                      <a:pt x="741" y="627"/>
                    </a:lnTo>
                    <a:lnTo>
                      <a:pt x="804" y="558"/>
                    </a:lnTo>
                    <a:lnTo>
                      <a:pt x="870" y="492"/>
                    </a:lnTo>
                    <a:lnTo>
                      <a:pt x="938" y="428"/>
                    </a:lnTo>
                    <a:lnTo>
                      <a:pt x="1007" y="366"/>
                    </a:lnTo>
                    <a:lnTo>
                      <a:pt x="1079" y="306"/>
                    </a:lnTo>
                    <a:lnTo>
                      <a:pt x="1154" y="248"/>
                    </a:lnTo>
                    <a:lnTo>
                      <a:pt x="1230" y="193"/>
                    </a:lnTo>
                    <a:lnTo>
                      <a:pt x="1307" y="141"/>
                    </a:lnTo>
                    <a:lnTo>
                      <a:pt x="1387" y="92"/>
                    </a:lnTo>
                    <a:lnTo>
                      <a:pt x="1468" y="44"/>
                    </a:lnTo>
                    <a:lnTo>
                      <a:pt x="1552" y="0"/>
                    </a:lnTo>
                    <a:lnTo>
                      <a:pt x="1535" y="2"/>
                    </a:lnTo>
                    <a:lnTo>
                      <a:pt x="1520" y="4"/>
                    </a:lnTo>
                    <a:lnTo>
                      <a:pt x="1504" y="8"/>
                    </a:lnTo>
                    <a:lnTo>
                      <a:pt x="1489" y="10"/>
                    </a:lnTo>
                    <a:lnTo>
                      <a:pt x="1474" y="12"/>
                    </a:lnTo>
                    <a:lnTo>
                      <a:pt x="1458" y="15"/>
                    </a:lnTo>
                    <a:lnTo>
                      <a:pt x="1443" y="17"/>
                    </a:lnTo>
                    <a:lnTo>
                      <a:pt x="1426" y="20"/>
                    </a:lnTo>
                    <a:close/>
                  </a:path>
                </a:pathLst>
              </a:custGeom>
              <a:solidFill>
                <a:srgbClr val="d9c4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65360" y="2014560"/>
                <a:ext cx="2216160" cy="1965240"/>
              </a:xfrm>
              <a:custGeom>
                <a:avLst/>
                <a:gdLst/>
                <a:ahLst/>
                <a:rect l="l" t="t" r="r" b="b"/>
                <a:pathLst>
                  <a:path w="5583" h="4953">
                    <a:moveTo>
                      <a:pt x="5583" y="2477"/>
                    </a:moveTo>
                    <a:lnTo>
                      <a:pt x="5582" y="2377"/>
                    </a:lnTo>
                    <a:lnTo>
                      <a:pt x="5576" y="2279"/>
                    </a:lnTo>
                    <a:lnTo>
                      <a:pt x="5568" y="2182"/>
                    </a:lnTo>
                    <a:lnTo>
                      <a:pt x="5556" y="2086"/>
                    </a:lnTo>
                    <a:lnTo>
                      <a:pt x="5541" y="1991"/>
                    </a:lnTo>
                    <a:lnTo>
                      <a:pt x="5522" y="1896"/>
                    </a:lnTo>
                    <a:lnTo>
                      <a:pt x="5501" y="1803"/>
                    </a:lnTo>
                    <a:lnTo>
                      <a:pt x="5477" y="1711"/>
                    </a:lnTo>
                    <a:lnTo>
                      <a:pt x="5449" y="1620"/>
                    </a:lnTo>
                    <a:lnTo>
                      <a:pt x="5419" y="1532"/>
                    </a:lnTo>
                    <a:lnTo>
                      <a:pt x="5385" y="1443"/>
                    </a:lnTo>
                    <a:lnTo>
                      <a:pt x="5349" y="1357"/>
                    </a:lnTo>
                    <a:lnTo>
                      <a:pt x="5310" y="1272"/>
                    </a:lnTo>
                    <a:lnTo>
                      <a:pt x="5268" y="1189"/>
                    </a:lnTo>
                    <a:lnTo>
                      <a:pt x="5224" y="1107"/>
                    </a:lnTo>
                    <a:lnTo>
                      <a:pt x="5178" y="1027"/>
                    </a:lnTo>
                    <a:lnTo>
                      <a:pt x="5128" y="948"/>
                    </a:lnTo>
                    <a:lnTo>
                      <a:pt x="5076" y="872"/>
                    </a:lnTo>
                    <a:lnTo>
                      <a:pt x="5021" y="797"/>
                    </a:lnTo>
                    <a:lnTo>
                      <a:pt x="4965" y="725"/>
                    </a:lnTo>
                    <a:lnTo>
                      <a:pt x="4905" y="654"/>
                    </a:lnTo>
                    <a:lnTo>
                      <a:pt x="4844" y="586"/>
                    </a:lnTo>
                    <a:lnTo>
                      <a:pt x="4780" y="519"/>
                    </a:lnTo>
                    <a:lnTo>
                      <a:pt x="4714" y="454"/>
                    </a:lnTo>
                    <a:lnTo>
                      <a:pt x="4646" y="391"/>
                    </a:lnTo>
                    <a:lnTo>
                      <a:pt x="4577" y="331"/>
                    </a:lnTo>
                    <a:lnTo>
                      <a:pt x="4504" y="273"/>
                    </a:lnTo>
                    <a:lnTo>
                      <a:pt x="4431" y="217"/>
                    </a:lnTo>
                    <a:lnTo>
                      <a:pt x="4355" y="164"/>
                    </a:lnTo>
                    <a:lnTo>
                      <a:pt x="4277" y="114"/>
                    </a:lnTo>
                    <a:lnTo>
                      <a:pt x="4198" y="66"/>
                    </a:lnTo>
                    <a:lnTo>
                      <a:pt x="4116" y="20"/>
                    </a:lnTo>
                    <a:lnTo>
                      <a:pt x="4100" y="18"/>
                    </a:lnTo>
                    <a:lnTo>
                      <a:pt x="4084" y="15"/>
                    </a:lnTo>
                    <a:lnTo>
                      <a:pt x="4068" y="12"/>
                    </a:lnTo>
                    <a:lnTo>
                      <a:pt x="4052" y="10"/>
                    </a:lnTo>
                    <a:lnTo>
                      <a:pt x="4035" y="8"/>
                    </a:lnTo>
                    <a:lnTo>
                      <a:pt x="4019" y="5"/>
                    </a:lnTo>
                    <a:lnTo>
                      <a:pt x="4002" y="2"/>
                    </a:lnTo>
                    <a:lnTo>
                      <a:pt x="3986" y="0"/>
                    </a:lnTo>
                    <a:lnTo>
                      <a:pt x="4071" y="43"/>
                    </a:lnTo>
                    <a:lnTo>
                      <a:pt x="4155" y="89"/>
                    </a:lnTo>
                    <a:lnTo>
                      <a:pt x="4237" y="137"/>
                    </a:lnTo>
                    <a:lnTo>
                      <a:pt x="4317" y="189"/>
                    </a:lnTo>
                    <a:lnTo>
                      <a:pt x="4395" y="243"/>
                    </a:lnTo>
                    <a:lnTo>
                      <a:pt x="4471" y="300"/>
                    </a:lnTo>
                    <a:lnTo>
                      <a:pt x="4545" y="360"/>
                    </a:lnTo>
                    <a:lnTo>
                      <a:pt x="4617" y="421"/>
                    </a:lnTo>
                    <a:lnTo>
                      <a:pt x="4687" y="485"/>
                    </a:lnTo>
                    <a:lnTo>
                      <a:pt x="4755" y="552"/>
                    </a:lnTo>
                    <a:lnTo>
                      <a:pt x="4820" y="620"/>
                    </a:lnTo>
                    <a:lnTo>
                      <a:pt x="4883" y="691"/>
                    </a:lnTo>
                    <a:lnTo>
                      <a:pt x="4943" y="765"/>
                    </a:lnTo>
                    <a:lnTo>
                      <a:pt x="5000" y="839"/>
                    </a:lnTo>
                    <a:lnTo>
                      <a:pt x="5057" y="917"/>
                    </a:lnTo>
                    <a:lnTo>
                      <a:pt x="5108" y="996"/>
                    </a:lnTo>
                    <a:lnTo>
                      <a:pt x="5159" y="1077"/>
                    </a:lnTo>
                    <a:lnTo>
                      <a:pt x="5206" y="1160"/>
                    </a:lnTo>
                    <a:lnTo>
                      <a:pt x="5250" y="1244"/>
                    </a:lnTo>
                    <a:lnTo>
                      <a:pt x="5292" y="1331"/>
                    </a:lnTo>
                    <a:lnTo>
                      <a:pt x="5330" y="1419"/>
                    </a:lnTo>
                    <a:lnTo>
                      <a:pt x="5366" y="1509"/>
                    </a:lnTo>
                    <a:lnTo>
                      <a:pt x="5398" y="1600"/>
                    </a:lnTo>
                    <a:lnTo>
                      <a:pt x="5427" y="1693"/>
                    </a:lnTo>
                    <a:lnTo>
                      <a:pt x="5454" y="1785"/>
                    </a:lnTo>
                    <a:lnTo>
                      <a:pt x="5477" y="1882"/>
                    </a:lnTo>
                    <a:lnTo>
                      <a:pt x="5496" y="1978"/>
                    </a:lnTo>
                    <a:lnTo>
                      <a:pt x="5513" y="2075"/>
                    </a:lnTo>
                    <a:lnTo>
                      <a:pt x="5524" y="2174"/>
                    </a:lnTo>
                    <a:lnTo>
                      <a:pt x="5534" y="2274"/>
                    </a:lnTo>
                    <a:lnTo>
                      <a:pt x="5540" y="2375"/>
                    </a:lnTo>
                    <a:lnTo>
                      <a:pt x="5542" y="2477"/>
                    </a:lnTo>
                    <a:lnTo>
                      <a:pt x="5541" y="2523"/>
                    </a:lnTo>
                    <a:lnTo>
                      <a:pt x="5540" y="2568"/>
                    </a:lnTo>
                    <a:lnTo>
                      <a:pt x="5537" y="2615"/>
                    </a:lnTo>
                    <a:lnTo>
                      <a:pt x="5535" y="2660"/>
                    </a:lnTo>
                    <a:lnTo>
                      <a:pt x="5532" y="2706"/>
                    </a:lnTo>
                    <a:lnTo>
                      <a:pt x="5528" y="2751"/>
                    </a:lnTo>
                    <a:lnTo>
                      <a:pt x="5522" y="2796"/>
                    </a:lnTo>
                    <a:lnTo>
                      <a:pt x="5517" y="2841"/>
                    </a:lnTo>
                    <a:lnTo>
                      <a:pt x="5510" y="2886"/>
                    </a:lnTo>
                    <a:lnTo>
                      <a:pt x="5504" y="2930"/>
                    </a:lnTo>
                    <a:lnTo>
                      <a:pt x="5496" y="2975"/>
                    </a:lnTo>
                    <a:lnTo>
                      <a:pt x="5488" y="3018"/>
                    </a:lnTo>
                    <a:lnTo>
                      <a:pt x="5479" y="3062"/>
                    </a:lnTo>
                    <a:lnTo>
                      <a:pt x="5469" y="3105"/>
                    </a:lnTo>
                    <a:lnTo>
                      <a:pt x="5458" y="3148"/>
                    </a:lnTo>
                    <a:lnTo>
                      <a:pt x="5448" y="3191"/>
                    </a:lnTo>
                    <a:lnTo>
                      <a:pt x="5488" y="3201"/>
                    </a:lnTo>
                    <a:lnTo>
                      <a:pt x="5498" y="3158"/>
                    </a:lnTo>
                    <a:lnTo>
                      <a:pt x="5509" y="3115"/>
                    </a:lnTo>
                    <a:lnTo>
                      <a:pt x="5519" y="3071"/>
                    </a:lnTo>
                    <a:lnTo>
                      <a:pt x="5529" y="3026"/>
                    </a:lnTo>
                    <a:lnTo>
                      <a:pt x="5537" y="2982"/>
                    </a:lnTo>
                    <a:lnTo>
                      <a:pt x="5545" y="2937"/>
                    </a:lnTo>
                    <a:lnTo>
                      <a:pt x="5552" y="2891"/>
                    </a:lnTo>
                    <a:lnTo>
                      <a:pt x="5559" y="2846"/>
                    </a:lnTo>
                    <a:lnTo>
                      <a:pt x="5564" y="2801"/>
                    </a:lnTo>
                    <a:lnTo>
                      <a:pt x="5569" y="2755"/>
                    </a:lnTo>
                    <a:lnTo>
                      <a:pt x="5573" y="2709"/>
                    </a:lnTo>
                    <a:lnTo>
                      <a:pt x="5576" y="2664"/>
                    </a:lnTo>
                    <a:lnTo>
                      <a:pt x="5580" y="2617"/>
                    </a:lnTo>
                    <a:lnTo>
                      <a:pt x="5582" y="2571"/>
                    </a:lnTo>
                    <a:lnTo>
                      <a:pt x="5583" y="2523"/>
                    </a:lnTo>
                    <a:lnTo>
                      <a:pt x="5583" y="2477"/>
                    </a:lnTo>
                    <a:close/>
                    <a:moveTo>
                      <a:pt x="1466" y="20"/>
                    </a:moveTo>
                    <a:lnTo>
                      <a:pt x="1385" y="66"/>
                    </a:lnTo>
                    <a:lnTo>
                      <a:pt x="1305" y="114"/>
                    </a:lnTo>
                    <a:lnTo>
                      <a:pt x="1227" y="164"/>
                    </a:lnTo>
                    <a:lnTo>
                      <a:pt x="1151" y="217"/>
                    </a:lnTo>
                    <a:lnTo>
                      <a:pt x="1078" y="273"/>
                    </a:lnTo>
                    <a:lnTo>
                      <a:pt x="1006" y="331"/>
                    </a:lnTo>
                    <a:lnTo>
                      <a:pt x="936" y="391"/>
                    </a:lnTo>
                    <a:lnTo>
                      <a:pt x="868" y="454"/>
                    </a:lnTo>
                    <a:lnTo>
                      <a:pt x="802" y="519"/>
                    </a:lnTo>
                    <a:lnTo>
                      <a:pt x="739" y="586"/>
                    </a:lnTo>
                    <a:lnTo>
                      <a:pt x="677" y="654"/>
                    </a:lnTo>
                    <a:lnTo>
                      <a:pt x="618" y="725"/>
                    </a:lnTo>
                    <a:lnTo>
                      <a:pt x="561" y="797"/>
                    </a:lnTo>
                    <a:lnTo>
                      <a:pt x="506" y="872"/>
                    </a:lnTo>
                    <a:lnTo>
                      <a:pt x="455" y="948"/>
                    </a:lnTo>
                    <a:lnTo>
                      <a:pt x="405" y="1027"/>
                    </a:lnTo>
                    <a:lnTo>
                      <a:pt x="358" y="1107"/>
                    </a:lnTo>
                    <a:lnTo>
                      <a:pt x="314" y="1189"/>
                    </a:lnTo>
                    <a:lnTo>
                      <a:pt x="272" y="1272"/>
                    </a:lnTo>
                    <a:lnTo>
                      <a:pt x="233" y="1357"/>
                    </a:lnTo>
                    <a:lnTo>
                      <a:pt x="197" y="1443"/>
                    </a:lnTo>
                    <a:lnTo>
                      <a:pt x="164" y="1532"/>
                    </a:lnTo>
                    <a:lnTo>
                      <a:pt x="134" y="1620"/>
                    </a:lnTo>
                    <a:lnTo>
                      <a:pt x="106" y="1711"/>
                    </a:lnTo>
                    <a:lnTo>
                      <a:pt x="82" y="1803"/>
                    </a:lnTo>
                    <a:lnTo>
                      <a:pt x="60" y="1896"/>
                    </a:lnTo>
                    <a:lnTo>
                      <a:pt x="42" y="1991"/>
                    </a:lnTo>
                    <a:lnTo>
                      <a:pt x="27" y="2086"/>
                    </a:lnTo>
                    <a:lnTo>
                      <a:pt x="15" y="2182"/>
                    </a:lnTo>
                    <a:lnTo>
                      <a:pt x="6" y="2279"/>
                    </a:lnTo>
                    <a:lnTo>
                      <a:pt x="1" y="2377"/>
                    </a:lnTo>
                    <a:lnTo>
                      <a:pt x="0" y="2477"/>
                    </a:lnTo>
                    <a:lnTo>
                      <a:pt x="1" y="2576"/>
                    </a:lnTo>
                    <a:lnTo>
                      <a:pt x="6" y="2673"/>
                    </a:lnTo>
                    <a:lnTo>
                      <a:pt x="15" y="2772"/>
                    </a:lnTo>
                    <a:lnTo>
                      <a:pt x="27" y="2868"/>
                    </a:lnTo>
                    <a:lnTo>
                      <a:pt x="42" y="2963"/>
                    </a:lnTo>
                    <a:lnTo>
                      <a:pt x="60" y="3057"/>
                    </a:lnTo>
                    <a:lnTo>
                      <a:pt x="82" y="3150"/>
                    </a:lnTo>
                    <a:lnTo>
                      <a:pt x="106" y="3241"/>
                    </a:lnTo>
                    <a:lnTo>
                      <a:pt x="134" y="3332"/>
                    </a:lnTo>
                    <a:lnTo>
                      <a:pt x="164" y="3422"/>
                    </a:lnTo>
                    <a:lnTo>
                      <a:pt x="197" y="3509"/>
                    </a:lnTo>
                    <a:lnTo>
                      <a:pt x="233" y="3596"/>
                    </a:lnTo>
                    <a:lnTo>
                      <a:pt x="272" y="3681"/>
                    </a:lnTo>
                    <a:lnTo>
                      <a:pt x="314" y="3764"/>
                    </a:lnTo>
                    <a:lnTo>
                      <a:pt x="358" y="3846"/>
                    </a:lnTo>
                    <a:lnTo>
                      <a:pt x="405" y="3926"/>
                    </a:lnTo>
                    <a:lnTo>
                      <a:pt x="455" y="4004"/>
                    </a:lnTo>
                    <a:lnTo>
                      <a:pt x="506" y="4080"/>
                    </a:lnTo>
                    <a:lnTo>
                      <a:pt x="561" y="4155"/>
                    </a:lnTo>
                    <a:lnTo>
                      <a:pt x="618" y="4228"/>
                    </a:lnTo>
                    <a:lnTo>
                      <a:pt x="677" y="4299"/>
                    </a:lnTo>
                    <a:lnTo>
                      <a:pt x="739" y="4368"/>
                    </a:lnTo>
                    <a:lnTo>
                      <a:pt x="802" y="4435"/>
                    </a:lnTo>
                    <a:lnTo>
                      <a:pt x="868" y="4500"/>
                    </a:lnTo>
                    <a:lnTo>
                      <a:pt x="936" y="4561"/>
                    </a:lnTo>
                    <a:lnTo>
                      <a:pt x="1006" y="4622"/>
                    </a:lnTo>
                    <a:lnTo>
                      <a:pt x="1078" y="4680"/>
                    </a:lnTo>
                    <a:lnTo>
                      <a:pt x="1151" y="4735"/>
                    </a:lnTo>
                    <a:lnTo>
                      <a:pt x="1227" y="4788"/>
                    </a:lnTo>
                    <a:lnTo>
                      <a:pt x="1305" y="4839"/>
                    </a:lnTo>
                    <a:lnTo>
                      <a:pt x="1385" y="4887"/>
                    </a:lnTo>
                    <a:lnTo>
                      <a:pt x="1466" y="4933"/>
                    </a:lnTo>
                    <a:lnTo>
                      <a:pt x="1482" y="4936"/>
                    </a:lnTo>
                    <a:lnTo>
                      <a:pt x="1498" y="4938"/>
                    </a:lnTo>
                    <a:lnTo>
                      <a:pt x="1515" y="4940"/>
                    </a:lnTo>
                    <a:lnTo>
                      <a:pt x="1531" y="4943"/>
                    </a:lnTo>
                    <a:lnTo>
                      <a:pt x="1547" y="4946"/>
                    </a:lnTo>
                    <a:lnTo>
                      <a:pt x="1563" y="4948"/>
                    </a:lnTo>
                    <a:lnTo>
                      <a:pt x="1579" y="4951"/>
                    </a:lnTo>
                    <a:lnTo>
                      <a:pt x="1597" y="4953"/>
                    </a:lnTo>
                    <a:lnTo>
                      <a:pt x="1511" y="4910"/>
                    </a:lnTo>
                    <a:lnTo>
                      <a:pt x="1427" y="4863"/>
                    </a:lnTo>
                    <a:lnTo>
                      <a:pt x="1345" y="4815"/>
                    </a:lnTo>
                    <a:lnTo>
                      <a:pt x="1265" y="4763"/>
                    </a:lnTo>
                    <a:lnTo>
                      <a:pt x="1187" y="4709"/>
                    </a:lnTo>
                    <a:lnTo>
                      <a:pt x="1111" y="4653"/>
                    </a:lnTo>
                    <a:lnTo>
                      <a:pt x="1037" y="4593"/>
                    </a:lnTo>
                    <a:lnTo>
                      <a:pt x="965" y="4532"/>
                    </a:lnTo>
                    <a:lnTo>
                      <a:pt x="895" y="4467"/>
                    </a:lnTo>
                    <a:lnTo>
                      <a:pt x="827" y="4401"/>
                    </a:lnTo>
                    <a:lnTo>
                      <a:pt x="762" y="4332"/>
                    </a:lnTo>
                    <a:lnTo>
                      <a:pt x="700" y="4261"/>
                    </a:lnTo>
                    <a:lnTo>
                      <a:pt x="639" y="4188"/>
                    </a:lnTo>
                    <a:lnTo>
                      <a:pt x="582" y="4113"/>
                    </a:lnTo>
                    <a:lnTo>
                      <a:pt x="526" y="4036"/>
                    </a:lnTo>
                    <a:lnTo>
                      <a:pt x="474" y="3956"/>
                    </a:lnTo>
                    <a:lnTo>
                      <a:pt x="423" y="3875"/>
                    </a:lnTo>
                    <a:lnTo>
                      <a:pt x="377" y="3793"/>
                    </a:lnTo>
                    <a:lnTo>
                      <a:pt x="332" y="3708"/>
                    </a:lnTo>
                    <a:lnTo>
                      <a:pt x="290" y="3621"/>
                    </a:lnTo>
                    <a:lnTo>
                      <a:pt x="251" y="3534"/>
                    </a:lnTo>
                    <a:lnTo>
                      <a:pt x="217" y="3444"/>
                    </a:lnTo>
                    <a:lnTo>
                      <a:pt x="184" y="3354"/>
                    </a:lnTo>
                    <a:lnTo>
                      <a:pt x="154" y="3261"/>
                    </a:lnTo>
                    <a:lnTo>
                      <a:pt x="128" y="3167"/>
                    </a:lnTo>
                    <a:lnTo>
                      <a:pt x="106" y="3072"/>
                    </a:lnTo>
                    <a:lnTo>
                      <a:pt x="86" y="2976"/>
                    </a:lnTo>
                    <a:lnTo>
                      <a:pt x="70" y="2877"/>
                    </a:lnTo>
                    <a:lnTo>
                      <a:pt x="58" y="2779"/>
                    </a:lnTo>
                    <a:lnTo>
                      <a:pt x="48" y="2679"/>
                    </a:lnTo>
                    <a:lnTo>
                      <a:pt x="43" y="2578"/>
                    </a:lnTo>
                    <a:lnTo>
                      <a:pt x="41" y="2477"/>
                    </a:lnTo>
                    <a:lnTo>
                      <a:pt x="43" y="2375"/>
                    </a:lnTo>
                    <a:lnTo>
                      <a:pt x="48" y="2274"/>
                    </a:lnTo>
                    <a:lnTo>
                      <a:pt x="58" y="2174"/>
                    </a:lnTo>
                    <a:lnTo>
                      <a:pt x="70" y="2075"/>
                    </a:lnTo>
                    <a:lnTo>
                      <a:pt x="86" y="1978"/>
                    </a:lnTo>
                    <a:lnTo>
                      <a:pt x="106" y="1882"/>
                    </a:lnTo>
                    <a:lnTo>
                      <a:pt x="128" y="1785"/>
                    </a:lnTo>
                    <a:lnTo>
                      <a:pt x="154" y="1693"/>
                    </a:lnTo>
                    <a:lnTo>
                      <a:pt x="184" y="1600"/>
                    </a:lnTo>
                    <a:lnTo>
                      <a:pt x="217" y="1509"/>
                    </a:lnTo>
                    <a:lnTo>
                      <a:pt x="251" y="1419"/>
                    </a:lnTo>
                    <a:lnTo>
                      <a:pt x="290" y="1331"/>
                    </a:lnTo>
                    <a:lnTo>
                      <a:pt x="332" y="1244"/>
                    </a:lnTo>
                    <a:lnTo>
                      <a:pt x="377" y="1160"/>
                    </a:lnTo>
                    <a:lnTo>
                      <a:pt x="423" y="1077"/>
                    </a:lnTo>
                    <a:lnTo>
                      <a:pt x="474" y="996"/>
                    </a:lnTo>
                    <a:lnTo>
                      <a:pt x="526" y="917"/>
                    </a:lnTo>
                    <a:lnTo>
                      <a:pt x="582" y="839"/>
                    </a:lnTo>
                    <a:lnTo>
                      <a:pt x="639" y="765"/>
                    </a:lnTo>
                    <a:lnTo>
                      <a:pt x="700" y="691"/>
                    </a:lnTo>
                    <a:lnTo>
                      <a:pt x="762" y="620"/>
                    </a:lnTo>
                    <a:lnTo>
                      <a:pt x="827" y="552"/>
                    </a:lnTo>
                    <a:lnTo>
                      <a:pt x="895" y="485"/>
                    </a:lnTo>
                    <a:lnTo>
                      <a:pt x="965" y="421"/>
                    </a:lnTo>
                    <a:lnTo>
                      <a:pt x="1037" y="360"/>
                    </a:lnTo>
                    <a:lnTo>
                      <a:pt x="1111" y="300"/>
                    </a:lnTo>
                    <a:lnTo>
                      <a:pt x="1187" y="243"/>
                    </a:lnTo>
                    <a:lnTo>
                      <a:pt x="1265" y="189"/>
                    </a:lnTo>
                    <a:lnTo>
                      <a:pt x="1345" y="137"/>
                    </a:lnTo>
                    <a:lnTo>
                      <a:pt x="1427" y="89"/>
                    </a:lnTo>
                    <a:lnTo>
                      <a:pt x="1511" y="43"/>
                    </a:lnTo>
                    <a:lnTo>
                      <a:pt x="1597" y="0"/>
                    </a:lnTo>
                    <a:lnTo>
                      <a:pt x="1579" y="2"/>
                    </a:lnTo>
                    <a:lnTo>
                      <a:pt x="1563" y="5"/>
                    </a:lnTo>
                    <a:lnTo>
                      <a:pt x="1547" y="8"/>
                    </a:lnTo>
                    <a:lnTo>
                      <a:pt x="1531" y="10"/>
                    </a:lnTo>
                    <a:lnTo>
                      <a:pt x="1515" y="12"/>
                    </a:lnTo>
                    <a:lnTo>
                      <a:pt x="1498" y="15"/>
                    </a:lnTo>
                    <a:lnTo>
                      <a:pt x="1482" y="18"/>
                    </a:lnTo>
                    <a:lnTo>
                      <a:pt x="1466" y="20"/>
                    </a:lnTo>
                    <a:close/>
                    <a:moveTo>
                      <a:pt x="3997" y="4948"/>
                    </a:moveTo>
                    <a:lnTo>
                      <a:pt x="3998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5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lnTo>
                      <a:pt x="3997" y="494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475080" y="2011320"/>
                <a:ext cx="2198520" cy="1973160"/>
              </a:xfrm>
              <a:custGeom>
                <a:avLst/>
                <a:gdLst/>
                <a:ahLst/>
                <a:rect l="l" t="t" r="r" b="b"/>
                <a:pathLst>
                  <a:path w="5542" h="4972">
                    <a:moveTo>
                      <a:pt x="5542" y="2486"/>
                    </a:moveTo>
                    <a:lnTo>
                      <a:pt x="5540" y="2385"/>
                    </a:lnTo>
                    <a:lnTo>
                      <a:pt x="5535" y="2286"/>
                    </a:lnTo>
                    <a:lnTo>
                      <a:pt x="5526" y="2187"/>
                    </a:lnTo>
                    <a:lnTo>
                      <a:pt x="5514" y="2089"/>
                    </a:lnTo>
                    <a:lnTo>
                      <a:pt x="5498" y="1993"/>
                    </a:lnTo>
                    <a:lnTo>
                      <a:pt x="5480" y="1898"/>
                    </a:lnTo>
                    <a:lnTo>
                      <a:pt x="5458" y="1804"/>
                    </a:lnTo>
                    <a:lnTo>
                      <a:pt x="5432" y="1711"/>
                    </a:lnTo>
                    <a:lnTo>
                      <a:pt x="5404" y="1620"/>
                    </a:lnTo>
                    <a:lnTo>
                      <a:pt x="5373" y="1529"/>
                    </a:lnTo>
                    <a:lnTo>
                      <a:pt x="5338" y="1440"/>
                    </a:lnTo>
                    <a:lnTo>
                      <a:pt x="5301" y="1354"/>
                    </a:lnTo>
                    <a:lnTo>
                      <a:pt x="5260" y="1267"/>
                    </a:lnTo>
                    <a:lnTo>
                      <a:pt x="5218" y="1184"/>
                    </a:lnTo>
                    <a:lnTo>
                      <a:pt x="5172" y="1101"/>
                    </a:lnTo>
                    <a:lnTo>
                      <a:pt x="5123" y="1021"/>
                    </a:lnTo>
                    <a:lnTo>
                      <a:pt x="5072" y="942"/>
                    </a:lnTo>
                    <a:lnTo>
                      <a:pt x="5019" y="866"/>
                    </a:lnTo>
                    <a:lnTo>
                      <a:pt x="4963" y="790"/>
                    </a:lnTo>
                    <a:lnTo>
                      <a:pt x="4904" y="718"/>
                    </a:lnTo>
                    <a:lnTo>
                      <a:pt x="4843" y="646"/>
                    </a:lnTo>
                    <a:lnTo>
                      <a:pt x="4779" y="577"/>
                    </a:lnTo>
                    <a:lnTo>
                      <a:pt x="4715" y="511"/>
                    </a:lnTo>
                    <a:lnTo>
                      <a:pt x="4646" y="447"/>
                    </a:lnTo>
                    <a:lnTo>
                      <a:pt x="4576" y="385"/>
                    </a:lnTo>
                    <a:lnTo>
                      <a:pt x="4505" y="325"/>
                    </a:lnTo>
                    <a:lnTo>
                      <a:pt x="4430" y="267"/>
                    </a:lnTo>
                    <a:lnTo>
                      <a:pt x="4355" y="212"/>
                    </a:lnTo>
                    <a:lnTo>
                      <a:pt x="4277" y="160"/>
                    </a:lnTo>
                    <a:lnTo>
                      <a:pt x="4197" y="111"/>
                    </a:lnTo>
                    <a:lnTo>
                      <a:pt x="4116" y="63"/>
                    </a:lnTo>
                    <a:lnTo>
                      <a:pt x="4033" y="19"/>
                    </a:lnTo>
                    <a:lnTo>
                      <a:pt x="4015" y="17"/>
                    </a:lnTo>
                    <a:lnTo>
                      <a:pt x="3999" y="14"/>
                    </a:lnTo>
                    <a:lnTo>
                      <a:pt x="3982" y="11"/>
                    </a:lnTo>
                    <a:lnTo>
                      <a:pt x="3965" y="9"/>
                    </a:lnTo>
                    <a:lnTo>
                      <a:pt x="3947" y="6"/>
                    </a:lnTo>
                    <a:lnTo>
                      <a:pt x="3930" y="4"/>
                    </a:lnTo>
                    <a:lnTo>
                      <a:pt x="3913" y="2"/>
                    </a:lnTo>
                    <a:lnTo>
                      <a:pt x="3895" y="0"/>
                    </a:lnTo>
                    <a:lnTo>
                      <a:pt x="3984" y="41"/>
                    </a:lnTo>
                    <a:lnTo>
                      <a:pt x="4069" y="86"/>
                    </a:lnTo>
                    <a:lnTo>
                      <a:pt x="4154" y="133"/>
                    </a:lnTo>
                    <a:lnTo>
                      <a:pt x="4237" y="183"/>
                    </a:lnTo>
                    <a:lnTo>
                      <a:pt x="4317" y="237"/>
                    </a:lnTo>
                    <a:lnTo>
                      <a:pt x="4396" y="293"/>
                    </a:lnTo>
                    <a:lnTo>
                      <a:pt x="4471" y="352"/>
                    </a:lnTo>
                    <a:lnTo>
                      <a:pt x="4546" y="413"/>
                    </a:lnTo>
                    <a:lnTo>
                      <a:pt x="4617" y="477"/>
                    </a:lnTo>
                    <a:lnTo>
                      <a:pt x="4688" y="543"/>
                    </a:lnTo>
                    <a:lnTo>
                      <a:pt x="4755" y="612"/>
                    </a:lnTo>
                    <a:lnTo>
                      <a:pt x="4819" y="682"/>
                    </a:lnTo>
                    <a:lnTo>
                      <a:pt x="4882" y="756"/>
                    </a:lnTo>
                    <a:lnTo>
                      <a:pt x="4941" y="831"/>
                    </a:lnTo>
                    <a:lnTo>
                      <a:pt x="4999" y="909"/>
                    </a:lnTo>
                    <a:lnTo>
                      <a:pt x="5053" y="988"/>
                    </a:lnTo>
                    <a:lnTo>
                      <a:pt x="5105" y="1070"/>
                    </a:lnTo>
                    <a:lnTo>
                      <a:pt x="5153" y="1153"/>
                    </a:lnTo>
                    <a:lnTo>
                      <a:pt x="5200" y="1238"/>
                    </a:lnTo>
                    <a:lnTo>
                      <a:pt x="5242" y="1326"/>
                    </a:lnTo>
                    <a:lnTo>
                      <a:pt x="5282" y="1414"/>
                    </a:lnTo>
                    <a:lnTo>
                      <a:pt x="5319" y="1505"/>
                    </a:lnTo>
                    <a:lnTo>
                      <a:pt x="5352" y="1597"/>
                    </a:lnTo>
                    <a:lnTo>
                      <a:pt x="5382" y="1691"/>
                    </a:lnTo>
                    <a:lnTo>
                      <a:pt x="5409" y="1786"/>
                    </a:lnTo>
                    <a:lnTo>
                      <a:pt x="5433" y="1882"/>
                    </a:lnTo>
                    <a:lnTo>
                      <a:pt x="5454" y="1980"/>
                    </a:lnTo>
                    <a:lnTo>
                      <a:pt x="5470" y="2079"/>
                    </a:lnTo>
                    <a:lnTo>
                      <a:pt x="5484" y="2179"/>
                    </a:lnTo>
                    <a:lnTo>
                      <a:pt x="5493" y="2280"/>
                    </a:lnTo>
                    <a:lnTo>
                      <a:pt x="5499" y="2382"/>
                    </a:lnTo>
                    <a:lnTo>
                      <a:pt x="5500" y="2486"/>
                    </a:lnTo>
                    <a:lnTo>
                      <a:pt x="5500" y="2531"/>
                    </a:lnTo>
                    <a:lnTo>
                      <a:pt x="5499" y="2577"/>
                    </a:lnTo>
                    <a:lnTo>
                      <a:pt x="5497" y="2623"/>
                    </a:lnTo>
                    <a:lnTo>
                      <a:pt x="5495" y="2668"/>
                    </a:lnTo>
                    <a:lnTo>
                      <a:pt x="5491" y="2714"/>
                    </a:lnTo>
                    <a:lnTo>
                      <a:pt x="5487" y="2758"/>
                    </a:lnTo>
                    <a:lnTo>
                      <a:pt x="5482" y="2803"/>
                    </a:lnTo>
                    <a:lnTo>
                      <a:pt x="5476" y="2847"/>
                    </a:lnTo>
                    <a:lnTo>
                      <a:pt x="5470" y="2892"/>
                    </a:lnTo>
                    <a:lnTo>
                      <a:pt x="5463" y="2936"/>
                    </a:lnTo>
                    <a:lnTo>
                      <a:pt x="5456" y="2979"/>
                    </a:lnTo>
                    <a:lnTo>
                      <a:pt x="5447" y="3022"/>
                    </a:lnTo>
                    <a:lnTo>
                      <a:pt x="5438" y="3067"/>
                    </a:lnTo>
                    <a:lnTo>
                      <a:pt x="5429" y="3109"/>
                    </a:lnTo>
                    <a:lnTo>
                      <a:pt x="5418" y="3152"/>
                    </a:lnTo>
                    <a:lnTo>
                      <a:pt x="5407" y="3194"/>
                    </a:lnTo>
                    <a:lnTo>
                      <a:pt x="5447" y="3205"/>
                    </a:lnTo>
                    <a:lnTo>
                      <a:pt x="5459" y="3162"/>
                    </a:lnTo>
                    <a:lnTo>
                      <a:pt x="5469" y="3119"/>
                    </a:lnTo>
                    <a:lnTo>
                      <a:pt x="5478" y="3075"/>
                    </a:lnTo>
                    <a:lnTo>
                      <a:pt x="5488" y="3031"/>
                    </a:lnTo>
                    <a:lnTo>
                      <a:pt x="5497" y="2987"/>
                    </a:lnTo>
                    <a:lnTo>
                      <a:pt x="5504" y="2943"/>
                    </a:lnTo>
                    <a:lnTo>
                      <a:pt x="5512" y="2897"/>
                    </a:lnTo>
                    <a:lnTo>
                      <a:pt x="5517" y="2853"/>
                    </a:lnTo>
                    <a:lnTo>
                      <a:pt x="5524" y="2808"/>
                    </a:lnTo>
                    <a:lnTo>
                      <a:pt x="5528" y="2762"/>
                    </a:lnTo>
                    <a:lnTo>
                      <a:pt x="5532" y="2717"/>
                    </a:lnTo>
                    <a:lnTo>
                      <a:pt x="5536" y="2670"/>
                    </a:lnTo>
                    <a:lnTo>
                      <a:pt x="5539" y="2625"/>
                    </a:lnTo>
                    <a:lnTo>
                      <a:pt x="5540" y="2579"/>
                    </a:lnTo>
                    <a:lnTo>
                      <a:pt x="5542" y="2532"/>
                    </a:lnTo>
                    <a:lnTo>
                      <a:pt x="5542" y="2486"/>
                    </a:lnTo>
                    <a:close/>
                    <a:moveTo>
                      <a:pt x="1510" y="19"/>
                    </a:moveTo>
                    <a:lnTo>
                      <a:pt x="1426" y="63"/>
                    </a:lnTo>
                    <a:lnTo>
                      <a:pt x="1345" y="111"/>
                    </a:lnTo>
                    <a:lnTo>
                      <a:pt x="1265" y="160"/>
                    </a:lnTo>
                    <a:lnTo>
                      <a:pt x="1188" y="212"/>
                    </a:lnTo>
                    <a:lnTo>
                      <a:pt x="1112" y="267"/>
                    </a:lnTo>
                    <a:lnTo>
                      <a:pt x="1037" y="325"/>
                    </a:lnTo>
                    <a:lnTo>
                      <a:pt x="965" y="385"/>
                    </a:lnTo>
                    <a:lnTo>
                      <a:pt x="896" y="447"/>
                    </a:lnTo>
                    <a:lnTo>
                      <a:pt x="828" y="511"/>
                    </a:lnTo>
                    <a:lnTo>
                      <a:pt x="762" y="577"/>
                    </a:lnTo>
                    <a:lnTo>
                      <a:pt x="699" y="646"/>
                    </a:lnTo>
                    <a:lnTo>
                      <a:pt x="639" y="718"/>
                    </a:lnTo>
                    <a:lnTo>
                      <a:pt x="579" y="790"/>
                    </a:lnTo>
                    <a:lnTo>
                      <a:pt x="523" y="866"/>
                    </a:lnTo>
                    <a:lnTo>
                      <a:pt x="470" y="942"/>
                    </a:lnTo>
                    <a:lnTo>
                      <a:pt x="419" y="1021"/>
                    </a:lnTo>
                    <a:lnTo>
                      <a:pt x="371" y="1101"/>
                    </a:lnTo>
                    <a:lnTo>
                      <a:pt x="324" y="1184"/>
                    </a:lnTo>
                    <a:lnTo>
                      <a:pt x="282" y="1267"/>
                    </a:lnTo>
                    <a:lnTo>
                      <a:pt x="241" y="1354"/>
                    </a:lnTo>
                    <a:lnTo>
                      <a:pt x="204" y="1440"/>
                    </a:lnTo>
                    <a:lnTo>
                      <a:pt x="170" y="1529"/>
                    </a:lnTo>
                    <a:lnTo>
                      <a:pt x="138" y="1620"/>
                    </a:lnTo>
                    <a:lnTo>
                      <a:pt x="110" y="1711"/>
                    </a:lnTo>
                    <a:lnTo>
                      <a:pt x="84" y="1804"/>
                    </a:lnTo>
                    <a:lnTo>
                      <a:pt x="63" y="1898"/>
                    </a:lnTo>
                    <a:lnTo>
                      <a:pt x="43" y="1993"/>
                    </a:lnTo>
                    <a:lnTo>
                      <a:pt x="28" y="2089"/>
                    </a:lnTo>
                    <a:lnTo>
                      <a:pt x="16" y="2187"/>
                    </a:lnTo>
                    <a:lnTo>
                      <a:pt x="8" y="2286"/>
                    </a:lnTo>
                    <a:lnTo>
                      <a:pt x="2" y="2385"/>
                    </a:lnTo>
                    <a:lnTo>
                      <a:pt x="0" y="2486"/>
                    </a:lnTo>
                    <a:lnTo>
                      <a:pt x="2" y="2586"/>
                    </a:lnTo>
                    <a:lnTo>
                      <a:pt x="8" y="2685"/>
                    </a:lnTo>
                    <a:lnTo>
                      <a:pt x="16" y="2784"/>
                    </a:lnTo>
                    <a:lnTo>
                      <a:pt x="28" y="2881"/>
                    </a:lnTo>
                    <a:lnTo>
                      <a:pt x="43" y="2978"/>
                    </a:lnTo>
                    <a:lnTo>
                      <a:pt x="63" y="3073"/>
                    </a:lnTo>
                    <a:lnTo>
                      <a:pt x="84" y="3167"/>
                    </a:lnTo>
                    <a:lnTo>
                      <a:pt x="110" y="3260"/>
                    </a:lnTo>
                    <a:lnTo>
                      <a:pt x="138" y="3352"/>
                    </a:lnTo>
                    <a:lnTo>
                      <a:pt x="170" y="3441"/>
                    </a:lnTo>
                    <a:lnTo>
                      <a:pt x="204" y="3530"/>
                    </a:lnTo>
                    <a:lnTo>
                      <a:pt x="241" y="3618"/>
                    </a:lnTo>
                    <a:lnTo>
                      <a:pt x="282" y="3703"/>
                    </a:lnTo>
                    <a:lnTo>
                      <a:pt x="324" y="3787"/>
                    </a:lnTo>
                    <a:lnTo>
                      <a:pt x="371" y="3869"/>
                    </a:lnTo>
                    <a:lnTo>
                      <a:pt x="419" y="3950"/>
                    </a:lnTo>
                    <a:lnTo>
                      <a:pt x="470" y="4029"/>
                    </a:lnTo>
                    <a:lnTo>
                      <a:pt x="523" y="4106"/>
                    </a:lnTo>
                    <a:lnTo>
                      <a:pt x="579" y="4180"/>
                    </a:lnTo>
                    <a:lnTo>
                      <a:pt x="638" y="4254"/>
                    </a:lnTo>
                    <a:lnTo>
                      <a:pt x="699" y="4324"/>
                    </a:lnTo>
                    <a:lnTo>
                      <a:pt x="762" y="4393"/>
                    </a:lnTo>
                    <a:lnTo>
                      <a:pt x="828" y="4460"/>
                    </a:lnTo>
                    <a:lnTo>
                      <a:pt x="896" y="4524"/>
                    </a:lnTo>
                    <a:lnTo>
                      <a:pt x="965" y="4586"/>
                    </a:lnTo>
                    <a:lnTo>
                      <a:pt x="1037" y="4646"/>
                    </a:lnTo>
                    <a:lnTo>
                      <a:pt x="1111" y="4703"/>
                    </a:lnTo>
                    <a:lnTo>
                      <a:pt x="1188" y="4758"/>
                    </a:lnTo>
                    <a:lnTo>
                      <a:pt x="1265" y="4811"/>
                    </a:lnTo>
                    <a:lnTo>
                      <a:pt x="1345" y="4861"/>
                    </a:lnTo>
                    <a:lnTo>
                      <a:pt x="1426" y="4907"/>
                    </a:lnTo>
                    <a:lnTo>
                      <a:pt x="1510" y="4952"/>
                    </a:lnTo>
                    <a:lnTo>
                      <a:pt x="1527" y="4955"/>
                    </a:lnTo>
                    <a:lnTo>
                      <a:pt x="1543" y="4957"/>
                    </a:lnTo>
                    <a:lnTo>
                      <a:pt x="1560" y="4960"/>
                    </a:lnTo>
                    <a:lnTo>
                      <a:pt x="1578" y="4962"/>
                    </a:lnTo>
                    <a:lnTo>
                      <a:pt x="1595" y="4964"/>
                    </a:lnTo>
                    <a:lnTo>
                      <a:pt x="1612" y="4966"/>
                    </a:lnTo>
                    <a:lnTo>
                      <a:pt x="1630" y="4970"/>
                    </a:lnTo>
                    <a:lnTo>
                      <a:pt x="1647" y="4972"/>
                    </a:lnTo>
                    <a:lnTo>
                      <a:pt x="1558" y="4930"/>
                    </a:lnTo>
                    <a:lnTo>
                      <a:pt x="1473" y="4885"/>
                    </a:lnTo>
                    <a:lnTo>
                      <a:pt x="1389" y="4838"/>
                    </a:lnTo>
                    <a:lnTo>
                      <a:pt x="1305" y="4787"/>
                    </a:lnTo>
                    <a:lnTo>
                      <a:pt x="1225" y="4734"/>
                    </a:lnTo>
                    <a:lnTo>
                      <a:pt x="1147" y="4678"/>
                    </a:lnTo>
                    <a:lnTo>
                      <a:pt x="1071" y="4620"/>
                    </a:lnTo>
                    <a:lnTo>
                      <a:pt x="996" y="4558"/>
                    </a:lnTo>
                    <a:lnTo>
                      <a:pt x="925" y="4494"/>
                    </a:lnTo>
                    <a:lnTo>
                      <a:pt x="855" y="4428"/>
                    </a:lnTo>
                    <a:lnTo>
                      <a:pt x="788" y="4359"/>
                    </a:lnTo>
                    <a:lnTo>
                      <a:pt x="723" y="4288"/>
                    </a:lnTo>
                    <a:lnTo>
                      <a:pt x="660" y="4215"/>
                    </a:lnTo>
                    <a:lnTo>
                      <a:pt x="601" y="4139"/>
                    </a:lnTo>
                    <a:lnTo>
                      <a:pt x="544" y="4062"/>
                    </a:lnTo>
                    <a:lnTo>
                      <a:pt x="490" y="3983"/>
                    </a:lnTo>
                    <a:lnTo>
                      <a:pt x="438" y="3900"/>
                    </a:lnTo>
                    <a:lnTo>
                      <a:pt x="389" y="3817"/>
                    </a:lnTo>
                    <a:lnTo>
                      <a:pt x="343" y="3732"/>
                    </a:lnTo>
                    <a:lnTo>
                      <a:pt x="301" y="3646"/>
                    </a:lnTo>
                    <a:lnTo>
                      <a:pt x="261" y="3556"/>
                    </a:lnTo>
                    <a:lnTo>
                      <a:pt x="224" y="3465"/>
                    </a:lnTo>
                    <a:lnTo>
                      <a:pt x="190" y="3373"/>
                    </a:lnTo>
                    <a:lnTo>
                      <a:pt x="160" y="3281"/>
                    </a:lnTo>
                    <a:lnTo>
                      <a:pt x="132" y="3186"/>
                    </a:lnTo>
                    <a:lnTo>
                      <a:pt x="109" y="3088"/>
                    </a:lnTo>
                    <a:lnTo>
                      <a:pt x="89" y="2991"/>
                    </a:lnTo>
                    <a:lnTo>
                      <a:pt x="73" y="2892"/>
                    </a:lnTo>
                    <a:lnTo>
                      <a:pt x="58" y="2792"/>
                    </a:lnTo>
                    <a:lnTo>
                      <a:pt x="50" y="2691"/>
                    </a:lnTo>
                    <a:lnTo>
                      <a:pt x="43" y="2588"/>
                    </a:lnTo>
                    <a:lnTo>
                      <a:pt x="42" y="2486"/>
                    </a:lnTo>
                    <a:lnTo>
                      <a:pt x="43" y="2382"/>
                    </a:lnTo>
                    <a:lnTo>
                      <a:pt x="50" y="2280"/>
                    </a:lnTo>
                    <a:lnTo>
                      <a:pt x="58" y="2179"/>
                    </a:lnTo>
                    <a:lnTo>
                      <a:pt x="73" y="2079"/>
                    </a:lnTo>
                    <a:lnTo>
                      <a:pt x="89" y="1980"/>
                    </a:lnTo>
                    <a:lnTo>
                      <a:pt x="109" y="1882"/>
                    </a:lnTo>
                    <a:lnTo>
                      <a:pt x="132" y="1786"/>
                    </a:lnTo>
                    <a:lnTo>
                      <a:pt x="160" y="1691"/>
                    </a:lnTo>
                    <a:lnTo>
                      <a:pt x="190" y="1597"/>
                    </a:lnTo>
                    <a:lnTo>
                      <a:pt x="224" y="1505"/>
                    </a:lnTo>
                    <a:lnTo>
                      <a:pt x="261" y="1414"/>
                    </a:lnTo>
                    <a:lnTo>
                      <a:pt x="301" y="1326"/>
                    </a:lnTo>
                    <a:lnTo>
                      <a:pt x="343" y="1238"/>
                    </a:lnTo>
                    <a:lnTo>
                      <a:pt x="389" y="1153"/>
                    </a:lnTo>
                    <a:lnTo>
                      <a:pt x="438" y="1070"/>
                    </a:lnTo>
                    <a:lnTo>
                      <a:pt x="490" y="988"/>
                    </a:lnTo>
                    <a:lnTo>
                      <a:pt x="544" y="909"/>
                    </a:lnTo>
                    <a:lnTo>
                      <a:pt x="601" y="831"/>
                    </a:lnTo>
                    <a:lnTo>
                      <a:pt x="660" y="756"/>
                    </a:lnTo>
                    <a:lnTo>
                      <a:pt x="723" y="682"/>
                    </a:lnTo>
                    <a:lnTo>
                      <a:pt x="788" y="612"/>
                    </a:lnTo>
                    <a:lnTo>
                      <a:pt x="855" y="543"/>
                    </a:lnTo>
                    <a:lnTo>
                      <a:pt x="925" y="477"/>
                    </a:lnTo>
                    <a:lnTo>
                      <a:pt x="996" y="413"/>
                    </a:lnTo>
                    <a:lnTo>
                      <a:pt x="1071" y="352"/>
                    </a:lnTo>
                    <a:lnTo>
                      <a:pt x="1147" y="293"/>
                    </a:lnTo>
                    <a:lnTo>
                      <a:pt x="1225" y="237"/>
                    </a:lnTo>
                    <a:lnTo>
                      <a:pt x="1305" y="183"/>
                    </a:lnTo>
                    <a:lnTo>
                      <a:pt x="1389" y="133"/>
                    </a:lnTo>
                    <a:lnTo>
                      <a:pt x="1473" y="86"/>
                    </a:lnTo>
                    <a:lnTo>
                      <a:pt x="1558" y="41"/>
                    </a:lnTo>
                    <a:lnTo>
                      <a:pt x="1647" y="0"/>
                    </a:lnTo>
                    <a:lnTo>
                      <a:pt x="1630" y="2"/>
                    </a:lnTo>
                    <a:lnTo>
                      <a:pt x="1612" y="4"/>
                    </a:lnTo>
                    <a:lnTo>
                      <a:pt x="1595" y="6"/>
                    </a:lnTo>
                    <a:lnTo>
                      <a:pt x="1578" y="9"/>
                    </a:lnTo>
                    <a:lnTo>
                      <a:pt x="1560" y="11"/>
                    </a:lnTo>
                    <a:lnTo>
                      <a:pt x="1543" y="14"/>
                    </a:lnTo>
                    <a:lnTo>
                      <a:pt x="1527" y="17"/>
                    </a:lnTo>
                    <a:lnTo>
                      <a:pt x="1510" y="19"/>
                    </a:lnTo>
                    <a:close/>
                    <a:moveTo>
                      <a:pt x="3968" y="4937"/>
                    </a:moveTo>
                    <a:lnTo>
                      <a:pt x="3978" y="4957"/>
                    </a:lnTo>
                    <a:lnTo>
                      <a:pt x="3969" y="4958"/>
                    </a:lnTo>
                    <a:lnTo>
                      <a:pt x="3960" y="4959"/>
                    </a:lnTo>
                    <a:lnTo>
                      <a:pt x="3952" y="4960"/>
                    </a:lnTo>
                    <a:lnTo>
                      <a:pt x="3943" y="4961"/>
                    </a:lnTo>
                    <a:lnTo>
                      <a:pt x="3934" y="4962"/>
                    </a:lnTo>
                    <a:lnTo>
                      <a:pt x="3926" y="4963"/>
                    </a:lnTo>
                    <a:lnTo>
                      <a:pt x="3917" y="4964"/>
                    </a:lnTo>
                    <a:lnTo>
                      <a:pt x="3908" y="4965"/>
                    </a:lnTo>
                    <a:lnTo>
                      <a:pt x="3916" y="4962"/>
                    </a:lnTo>
                    <a:lnTo>
                      <a:pt x="3924" y="4959"/>
                    </a:lnTo>
                    <a:lnTo>
                      <a:pt x="3931" y="4956"/>
                    </a:lnTo>
                    <a:lnTo>
                      <a:pt x="3939" y="4951"/>
                    </a:lnTo>
                    <a:lnTo>
                      <a:pt x="3946" y="4948"/>
                    </a:lnTo>
                    <a:lnTo>
                      <a:pt x="3953" y="4945"/>
                    </a:lnTo>
                    <a:lnTo>
                      <a:pt x="3960" y="4942"/>
                    </a:lnTo>
                    <a:lnTo>
                      <a:pt x="3968" y="4937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483000" y="2006640"/>
                <a:ext cx="2182680" cy="1981080"/>
              </a:xfrm>
              <a:custGeom>
                <a:avLst/>
                <a:gdLst/>
                <a:ahLst/>
                <a:rect l="l" t="t" r="r" b="b"/>
                <a:pathLst>
                  <a:path w="5501" h="4993">
                    <a:moveTo>
                      <a:pt x="5501" y="2497"/>
                    </a:moveTo>
                    <a:lnTo>
                      <a:pt x="5499" y="2395"/>
                    </a:lnTo>
                    <a:lnTo>
                      <a:pt x="5493" y="2294"/>
                    </a:lnTo>
                    <a:lnTo>
                      <a:pt x="5483" y="2194"/>
                    </a:lnTo>
                    <a:lnTo>
                      <a:pt x="5472" y="2095"/>
                    </a:lnTo>
                    <a:lnTo>
                      <a:pt x="5455" y="1998"/>
                    </a:lnTo>
                    <a:lnTo>
                      <a:pt x="5436" y="1902"/>
                    </a:lnTo>
                    <a:lnTo>
                      <a:pt x="5413" y="1805"/>
                    </a:lnTo>
                    <a:lnTo>
                      <a:pt x="5386" y="1713"/>
                    </a:lnTo>
                    <a:lnTo>
                      <a:pt x="5357" y="1620"/>
                    </a:lnTo>
                    <a:lnTo>
                      <a:pt x="5325" y="1529"/>
                    </a:lnTo>
                    <a:lnTo>
                      <a:pt x="5289" y="1439"/>
                    </a:lnTo>
                    <a:lnTo>
                      <a:pt x="5251" y="1351"/>
                    </a:lnTo>
                    <a:lnTo>
                      <a:pt x="5209" y="1264"/>
                    </a:lnTo>
                    <a:lnTo>
                      <a:pt x="5165" y="1180"/>
                    </a:lnTo>
                    <a:lnTo>
                      <a:pt x="5118" y="1097"/>
                    </a:lnTo>
                    <a:lnTo>
                      <a:pt x="5067" y="1016"/>
                    </a:lnTo>
                    <a:lnTo>
                      <a:pt x="5016" y="937"/>
                    </a:lnTo>
                    <a:lnTo>
                      <a:pt x="4959" y="859"/>
                    </a:lnTo>
                    <a:lnTo>
                      <a:pt x="4902" y="785"/>
                    </a:lnTo>
                    <a:lnTo>
                      <a:pt x="4842" y="711"/>
                    </a:lnTo>
                    <a:lnTo>
                      <a:pt x="4779" y="640"/>
                    </a:lnTo>
                    <a:lnTo>
                      <a:pt x="4713" y="572"/>
                    </a:lnTo>
                    <a:lnTo>
                      <a:pt x="4646" y="505"/>
                    </a:lnTo>
                    <a:lnTo>
                      <a:pt x="4576" y="441"/>
                    </a:lnTo>
                    <a:lnTo>
                      <a:pt x="4504" y="380"/>
                    </a:lnTo>
                    <a:lnTo>
                      <a:pt x="4430" y="320"/>
                    </a:lnTo>
                    <a:lnTo>
                      <a:pt x="4354" y="263"/>
                    </a:lnTo>
                    <a:lnTo>
                      <a:pt x="4276" y="209"/>
                    </a:lnTo>
                    <a:lnTo>
                      <a:pt x="4196" y="157"/>
                    </a:lnTo>
                    <a:lnTo>
                      <a:pt x="4114" y="109"/>
                    </a:lnTo>
                    <a:lnTo>
                      <a:pt x="4030" y="63"/>
                    </a:lnTo>
                    <a:lnTo>
                      <a:pt x="3945" y="20"/>
                    </a:lnTo>
                    <a:lnTo>
                      <a:pt x="3927" y="17"/>
                    </a:lnTo>
                    <a:lnTo>
                      <a:pt x="3909" y="15"/>
                    </a:lnTo>
                    <a:lnTo>
                      <a:pt x="3891" y="13"/>
                    </a:lnTo>
                    <a:lnTo>
                      <a:pt x="3872" y="9"/>
                    </a:lnTo>
                    <a:lnTo>
                      <a:pt x="3854" y="7"/>
                    </a:lnTo>
                    <a:lnTo>
                      <a:pt x="3837" y="5"/>
                    </a:lnTo>
                    <a:lnTo>
                      <a:pt x="3818" y="3"/>
                    </a:lnTo>
                    <a:lnTo>
                      <a:pt x="3800" y="0"/>
                    </a:lnTo>
                    <a:lnTo>
                      <a:pt x="3891" y="40"/>
                    </a:lnTo>
                    <a:lnTo>
                      <a:pt x="3979" y="83"/>
                    </a:lnTo>
                    <a:lnTo>
                      <a:pt x="4066" y="129"/>
                    </a:lnTo>
                    <a:lnTo>
                      <a:pt x="4151" y="179"/>
                    </a:lnTo>
                    <a:lnTo>
                      <a:pt x="4234" y="231"/>
                    </a:lnTo>
                    <a:lnTo>
                      <a:pt x="4314" y="287"/>
                    </a:lnTo>
                    <a:lnTo>
                      <a:pt x="4393" y="344"/>
                    </a:lnTo>
                    <a:lnTo>
                      <a:pt x="4470" y="405"/>
                    </a:lnTo>
                    <a:lnTo>
                      <a:pt x="4544" y="468"/>
                    </a:lnTo>
                    <a:lnTo>
                      <a:pt x="4617" y="534"/>
                    </a:lnTo>
                    <a:lnTo>
                      <a:pt x="4686" y="603"/>
                    </a:lnTo>
                    <a:lnTo>
                      <a:pt x="4753" y="674"/>
                    </a:lnTo>
                    <a:lnTo>
                      <a:pt x="4818" y="747"/>
                    </a:lnTo>
                    <a:lnTo>
                      <a:pt x="4879" y="823"/>
                    </a:lnTo>
                    <a:lnTo>
                      <a:pt x="4939" y="900"/>
                    </a:lnTo>
                    <a:lnTo>
                      <a:pt x="4995" y="980"/>
                    </a:lnTo>
                    <a:lnTo>
                      <a:pt x="5048" y="1064"/>
                    </a:lnTo>
                    <a:lnTo>
                      <a:pt x="5099" y="1147"/>
                    </a:lnTo>
                    <a:lnTo>
                      <a:pt x="5146" y="1233"/>
                    </a:lnTo>
                    <a:lnTo>
                      <a:pt x="5191" y="1322"/>
                    </a:lnTo>
                    <a:lnTo>
                      <a:pt x="5232" y="1411"/>
                    </a:lnTo>
                    <a:lnTo>
                      <a:pt x="5271" y="1502"/>
                    </a:lnTo>
                    <a:lnTo>
                      <a:pt x="5305" y="1596"/>
                    </a:lnTo>
                    <a:lnTo>
                      <a:pt x="5336" y="1690"/>
                    </a:lnTo>
                    <a:lnTo>
                      <a:pt x="5365" y="1786"/>
                    </a:lnTo>
                    <a:lnTo>
                      <a:pt x="5389" y="1884"/>
                    </a:lnTo>
                    <a:lnTo>
                      <a:pt x="5410" y="1984"/>
                    </a:lnTo>
                    <a:lnTo>
                      <a:pt x="5427" y="2083"/>
                    </a:lnTo>
                    <a:lnTo>
                      <a:pt x="5441" y="2186"/>
                    </a:lnTo>
                    <a:lnTo>
                      <a:pt x="5451" y="2288"/>
                    </a:lnTo>
                    <a:lnTo>
                      <a:pt x="5456" y="2392"/>
                    </a:lnTo>
                    <a:lnTo>
                      <a:pt x="5459" y="2497"/>
                    </a:lnTo>
                    <a:lnTo>
                      <a:pt x="5459" y="2542"/>
                    </a:lnTo>
                    <a:lnTo>
                      <a:pt x="5457" y="2587"/>
                    </a:lnTo>
                    <a:lnTo>
                      <a:pt x="5455" y="2633"/>
                    </a:lnTo>
                    <a:lnTo>
                      <a:pt x="5453" y="2677"/>
                    </a:lnTo>
                    <a:lnTo>
                      <a:pt x="5449" y="2722"/>
                    </a:lnTo>
                    <a:lnTo>
                      <a:pt x="5446" y="2767"/>
                    </a:lnTo>
                    <a:lnTo>
                      <a:pt x="5440" y="2811"/>
                    </a:lnTo>
                    <a:lnTo>
                      <a:pt x="5435" y="2855"/>
                    </a:lnTo>
                    <a:lnTo>
                      <a:pt x="5428" y="2900"/>
                    </a:lnTo>
                    <a:lnTo>
                      <a:pt x="5422" y="2943"/>
                    </a:lnTo>
                    <a:lnTo>
                      <a:pt x="5414" y="2987"/>
                    </a:lnTo>
                    <a:lnTo>
                      <a:pt x="5406" y="3030"/>
                    </a:lnTo>
                    <a:lnTo>
                      <a:pt x="5397" y="3072"/>
                    </a:lnTo>
                    <a:lnTo>
                      <a:pt x="5387" y="3116"/>
                    </a:lnTo>
                    <a:lnTo>
                      <a:pt x="5376" y="3158"/>
                    </a:lnTo>
                    <a:lnTo>
                      <a:pt x="5366" y="3200"/>
                    </a:lnTo>
                    <a:lnTo>
                      <a:pt x="5407" y="3211"/>
                    </a:lnTo>
                    <a:lnTo>
                      <a:pt x="5417" y="3168"/>
                    </a:lnTo>
                    <a:lnTo>
                      <a:pt x="5428" y="3125"/>
                    </a:lnTo>
                    <a:lnTo>
                      <a:pt x="5438" y="3082"/>
                    </a:lnTo>
                    <a:lnTo>
                      <a:pt x="5447" y="3038"/>
                    </a:lnTo>
                    <a:lnTo>
                      <a:pt x="5455" y="2995"/>
                    </a:lnTo>
                    <a:lnTo>
                      <a:pt x="5463" y="2950"/>
                    </a:lnTo>
                    <a:lnTo>
                      <a:pt x="5469" y="2906"/>
                    </a:lnTo>
                    <a:lnTo>
                      <a:pt x="5476" y="2861"/>
                    </a:lnTo>
                    <a:lnTo>
                      <a:pt x="5481" y="2816"/>
                    </a:lnTo>
                    <a:lnTo>
                      <a:pt x="5487" y="2771"/>
                    </a:lnTo>
                    <a:lnTo>
                      <a:pt x="5491" y="2726"/>
                    </a:lnTo>
                    <a:lnTo>
                      <a:pt x="5494" y="2680"/>
                    </a:lnTo>
                    <a:lnTo>
                      <a:pt x="5496" y="2635"/>
                    </a:lnTo>
                    <a:lnTo>
                      <a:pt x="5499" y="2588"/>
                    </a:lnTo>
                    <a:lnTo>
                      <a:pt x="5500" y="2543"/>
                    </a:lnTo>
                    <a:lnTo>
                      <a:pt x="5501" y="2497"/>
                    </a:lnTo>
                    <a:close/>
                    <a:moveTo>
                      <a:pt x="1556" y="20"/>
                    </a:moveTo>
                    <a:lnTo>
                      <a:pt x="1470" y="63"/>
                    </a:lnTo>
                    <a:lnTo>
                      <a:pt x="1386" y="109"/>
                    </a:lnTo>
                    <a:lnTo>
                      <a:pt x="1304" y="157"/>
                    </a:lnTo>
                    <a:lnTo>
                      <a:pt x="1224" y="209"/>
                    </a:lnTo>
                    <a:lnTo>
                      <a:pt x="1146" y="263"/>
                    </a:lnTo>
                    <a:lnTo>
                      <a:pt x="1070" y="320"/>
                    </a:lnTo>
                    <a:lnTo>
                      <a:pt x="996" y="380"/>
                    </a:lnTo>
                    <a:lnTo>
                      <a:pt x="924" y="441"/>
                    </a:lnTo>
                    <a:lnTo>
                      <a:pt x="854" y="505"/>
                    </a:lnTo>
                    <a:lnTo>
                      <a:pt x="786" y="572"/>
                    </a:lnTo>
                    <a:lnTo>
                      <a:pt x="721" y="640"/>
                    </a:lnTo>
                    <a:lnTo>
                      <a:pt x="659" y="711"/>
                    </a:lnTo>
                    <a:lnTo>
                      <a:pt x="598" y="785"/>
                    </a:lnTo>
                    <a:lnTo>
                      <a:pt x="541" y="859"/>
                    </a:lnTo>
                    <a:lnTo>
                      <a:pt x="485" y="937"/>
                    </a:lnTo>
                    <a:lnTo>
                      <a:pt x="433" y="1016"/>
                    </a:lnTo>
                    <a:lnTo>
                      <a:pt x="382" y="1097"/>
                    </a:lnTo>
                    <a:lnTo>
                      <a:pt x="336" y="1180"/>
                    </a:lnTo>
                    <a:lnTo>
                      <a:pt x="291" y="1264"/>
                    </a:lnTo>
                    <a:lnTo>
                      <a:pt x="249" y="1351"/>
                    </a:lnTo>
                    <a:lnTo>
                      <a:pt x="211" y="1439"/>
                    </a:lnTo>
                    <a:lnTo>
                      <a:pt x="176" y="1529"/>
                    </a:lnTo>
                    <a:lnTo>
                      <a:pt x="143" y="1620"/>
                    </a:lnTo>
                    <a:lnTo>
                      <a:pt x="113" y="1713"/>
                    </a:lnTo>
                    <a:lnTo>
                      <a:pt x="87" y="1805"/>
                    </a:lnTo>
                    <a:lnTo>
                      <a:pt x="65" y="1902"/>
                    </a:lnTo>
                    <a:lnTo>
                      <a:pt x="45" y="1998"/>
                    </a:lnTo>
                    <a:lnTo>
                      <a:pt x="29" y="2095"/>
                    </a:lnTo>
                    <a:lnTo>
                      <a:pt x="17" y="2194"/>
                    </a:lnTo>
                    <a:lnTo>
                      <a:pt x="7" y="2294"/>
                    </a:lnTo>
                    <a:lnTo>
                      <a:pt x="2" y="2395"/>
                    </a:lnTo>
                    <a:lnTo>
                      <a:pt x="0" y="2497"/>
                    </a:lnTo>
                    <a:lnTo>
                      <a:pt x="2" y="2598"/>
                    </a:lnTo>
                    <a:lnTo>
                      <a:pt x="7" y="2699"/>
                    </a:lnTo>
                    <a:lnTo>
                      <a:pt x="17" y="2799"/>
                    </a:lnTo>
                    <a:lnTo>
                      <a:pt x="29" y="2897"/>
                    </a:lnTo>
                    <a:lnTo>
                      <a:pt x="45" y="2996"/>
                    </a:lnTo>
                    <a:lnTo>
                      <a:pt x="65" y="3092"/>
                    </a:lnTo>
                    <a:lnTo>
                      <a:pt x="87" y="3187"/>
                    </a:lnTo>
                    <a:lnTo>
                      <a:pt x="113" y="3281"/>
                    </a:lnTo>
                    <a:lnTo>
                      <a:pt x="143" y="3374"/>
                    </a:lnTo>
                    <a:lnTo>
                      <a:pt x="176" y="3464"/>
                    </a:lnTo>
                    <a:lnTo>
                      <a:pt x="210" y="3554"/>
                    </a:lnTo>
                    <a:lnTo>
                      <a:pt x="249" y="3641"/>
                    </a:lnTo>
                    <a:lnTo>
                      <a:pt x="291" y="3728"/>
                    </a:lnTo>
                    <a:lnTo>
                      <a:pt x="336" y="3813"/>
                    </a:lnTo>
                    <a:lnTo>
                      <a:pt x="382" y="3895"/>
                    </a:lnTo>
                    <a:lnTo>
                      <a:pt x="433" y="3976"/>
                    </a:lnTo>
                    <a:lnTo>
                      <a:pt x="485" y="4056"/>
                    </a:lnTo>
                    <a:lnTo>
                      <a:pt x="541" y="4133"/>
                    </a:lnTo>
                    <a:lnTo>
                      <a:pt x="598" y="4208"/>
                    </a:lnTo>
                    <a:lnTo>
                      <a:pt x="659" y="4281"/>
                    </a:lnTo>
                    <a:lnTo>
                      <a:pt x="721" y="4352"/>
                    </a:lnTo>
                    <a:lnTo>
                      <a:pt x="786" y="4421"/>
                    </a:lnTo>
                    <a:lnTo>
                      <a:pt x="854" y="4487"/>
                    </a:lnTo>
                    <a:lnTo>
                      <a:pt x="924" y="4552"/>
                    </a:lnTo>
                    <a:lnTo>
                      <a:pt x="996" y="4613"/>
                    </a:lnTo>
                    <a:lnTo>
                      <a:pt x="1070" y="4673"/>
                    </a:lnTo>
                    <a:lnTo>
                      <a:pt x="1146" y="4729"/>
                    </a:lnTo>
                    <a:lnTo>
                      <a:pt x="1224" y="4783"/>
                    </a:lnTo>
                    <a:lnTo>
                      <a:pt x="1304" y="4835"/>
                    </a:lnTo>
                    <a:lnTo>
                      <a:pt x="1386" y="4883"/>
                    </a:lnTo>
                    <a:lnTo>
                      <a:pt x="1470" y="4930"/>
                    </a:lnTo>
                    <a:lnTo>
                      <a:pt x="1556" y="4973"/>
                    </a:lnTo>
                    <a:lnTo>
                      <a:pt x="1573" y="4975"/>
                    </a:lnTo>
                    <a:lnTo>
                      <a:pt x="1591" y="4979"/>
                    </a:lnTo>
                    <a:lnTo>
                      <a:pt x="1610" y="4981"/>
                    </a:lnTo>
                    <a:lnTo>
                      <a:pt x="1628" y="4983"/>
                    </a:lnTo>
                    <a:lnTo>
                      <a:pt x="1645" y="4986"/>
                    </a:lnTo>
                    <a:lnTo>
                      <a:pt x="1664" y="4988"/>
                    </a:lnTo>
                    <a:lnTo>
                      <a:pt x="1682" y="4990"/>
                    </a:lnTo>
                    <a:lnTo>
                      <a:pt x="1700" y="4993"/>
                    </a:lnTo>
                    <a:lnTo>
                      <a:pt x="1610" y="4953"/>
                    </a:lnTo>
                    <a:lnTo>
                      <a:pt x="1521" y="4909"/>
                    </a:lnTo>
                    <a:lnTo>
                      <a:pt x="1435" y="4863"/>
                    </a:lnTo>
                    <a:lnTo>
                      <a:pt x="1349" y="4813"/>
                    </a:lnTo>
                    <a:lnTo>
                      <a:pt x="1266" y="4761"/>
                    </a:lnTo>
                    <a:lnTo>
                      <a:pt x="1185" y="4706"/>
                    </a:lnTo>
                    <a:lnTo>
                      <a:pt x="1107" y="4648"/>
                    </a:lnTo>
                    <a:lnTo>
                      <a:pt x="1031" y="4588"/>
                    </a:lnTo>
                    <a:lnTo>
                      <a:pt x="956" y="4524"/>
                    </a:lnTo>
                    <a:lnTo>
                      <a:pt x="884" y="4458"/>
                    </a:lnTo>
                    <a:lnTo>
                      <a:pt x="814" y="4390"/>
                    </a:lnTo>
                    <a:lnTo>
                      <a:pt x="747" y="4319"/>
                    </a:lnTo>
                    <a:lnTo>
                      <a:pt x="683" y="4245"/>
                    </a:lnTo>
                    <a:lnTo>
                      <a:pt x="621" y="4170"/>
                    </a:lnTo>
                    <a:lnTo>
                      <a:pt x="562" y="4092"/>
                    </a:lnTo>
                    <a:lnTo>
                      <a:pt x="505" y="4012"/>
                    </a:lnTo>
                    <a:lnTo>
                      <a:pt x="452" y="3930"/>
                    </a:lnTo>
                    <a:lnTo>
                      <a:pt x="402" y="3846"/>
                    </a:lnTo>
                    <a:lnTo>
                      <a:pt x="354" y="3759"/>
                    </a:lnTo>
                    <a:lnTo>
                      <a:pt x="310" y="3672"/>
                    </a:lnTo>
                    <a:lnTo>
                      <a:pt x="269" y="3582"/>
                    </a:lnTo>
                    <a:lnTo>
                      <a:pt x="230" y="3490"/>
                    </a:lnTo>
                    <a:lnTo>
                      <a:pt x="195" y="3397"/>
                    </a:lnTo>
                    <a:lnTo>
                      <a:pt x="164" y="3302"/>
                    </a:lnTo>
                    <a:lnTo>
                      <a:pt x="136" y="3206"/>
                    </a:lnTo>
                    <a:lnTo>
                      <a:pt x="111" y="3109"/>
                    </a:lnTo>
                    <a:lnTo>
                      <a:pt x="90" y="3010"/>
                    </a:lnTo>
                    <a:lnTo>
                      <a:pt x="73" y="2909"/>
                    </a:lnTo>
                    <a:lnTo>
                      <a:pt x="59" y="2808"/>
                    </a:lnTo>
                    <a:lnTo>
                      <a:pt x="49" y="2705"/>
                    </a:lnTo>
                    <a:lnTo>
                      <a:pt x="44" y="2601"/>
                    </a:lnTo>
                    <a:lnTo>
                      <a:pt x="42" y="2497"/>
                    </a:lnTo>
                    <a:lnTo>
                      <a:pt x="44" y="2392"/>
                    </a:lnTo>
                    <a:lnTo>
                      <a:pt x="49" y="2288"/>
                    </a:lnTo>
                    <a:lnTo>
                      <a:pt x="59" y="2186"/>
                    </a:lnTo>
                    <a:lnTo>
                      <a:pt x="73" y="2083"/>
                    </a:lnTo>
                    <a:lnTo>
                      <a:pt x="90" y="1984"/>
                    </a:lnTo>
                    <a:lnTo>
                      <a:pt x="111" y="1884"/>
                    </a:lnTo>
                    <a:lnTo>
                      <a:pt x="136" y="1786"/>
                    </a:lnTo>
                    <a:lnTo>
                      <a:pt x="164" y="1690"/>
                    </a:lnTo>
                    <a:lnTo>
                      <a:pt x="195" y="1596"/>
                    </a:lnTo>
                    <a:lnTo>
                      <a:pt x="230" y="1502"/>
                    </a:lnTo>
                    <a:lnTo>
                      <a:pt x="269" y="1411"/>
                    </a:lnTo>
                    <a:lnTo>
                      <a:pt x="310" y="1322"/>
                    </a:lnTo>
                    <a:lnTo>
                      <a:pt x="354" y="1233"/>
                    </a:lnTo>
                    <a:lnTo>
                      <a:pt x="402" y="1147"/>
                    </a:lnTo>
                    <a:lnTo>
                      <a:pt x="452" y="1064"/>
                    </a:lnTo>
                    <a:lnTo>
                      <a:pt x="505" y="980"/>
                    </a:lnTo>
                    <a:lnTo>
                      <a:pt x="562" y="900"/>
                    </a:lnTo>
                    <a:lnTo>
                      <a:pt x="621" y="823"/>
                    </a:lnTo>
                    <a:lnTo>
                      <a:pt x="683" y="747"/>
                    </a:lnTo>
                    <a:lnTo>
                      <a:pt x="747" y="674"/>
                    </a:lnTo>
                    <a:lnTo>
                      <a:pt x="814" y="603"/>
                    </a:lnTo>
                    <a:lnTo>
                      <a:pt x="884" y="534"/>
                    </a:lnTo>
                    <a:lnTo>
                      <a:pt x="956" y="468"/>
                    </a:lnTo>
                    <a:lnTo>
                      <a:pt x="1031" y="405"/>
                    </a:lnTo>
                    <a:lnTo>
                      <a:pt x="1107" y="344"/>
                    </a:lnTo>
                    <a:lnTo>
                      <a:pt x="1185" y="287"/>
                    </a:lnTo>
                    <a:lnTo>
                      <a:pt x="1266" y="231"/>
                    </a:lnTo>
                    <a:lnTo>
                      <a:pt x="1349" y="179"/>
                    </a:lnTo>
                    <a:lnTo>
                      <a:pt x="1435" y="129"/>
                    </a:lnTo>
                    <a:lnTo>
                      <a:pt x="1521" y="83"/>
                    </a:lnTo>
                    <a:lnTo>
                      <a:pt x="1610" y="40"/>
                    </a:lnTo>
                    <a:lnTo>
                      <a:pt x="1700" y="0"/>
                    </a:lnTo>
                    <a:lnTo>
                      <a:pt x="1682" y="3"/>
                    </a:lnTo>
                    <a:lnTo>
                      <a:pt x="1664" y="5"/>
                    </a:lnTo>
                    <a:lnTo>
                      <a:pt x="1645" y="7"/>
                    </a:lnTo>
                    <a:lnTo>
                      <a:pt x="1628" y="9"/>
                    </a:lnTo>
                    <a:lnTo>
                      <a:pt x="1610" y="13"/>
                    </a:lnTo>
                    <a:lnTo>
                      <a:pt x="1591" y="15"/>
                    </a:lnTo>
                    <a:lnTo>
                      <a:pt x="1573" y="17"/>
                    </a:lnTo>
                    <a:lnTo>
                      <a:pt x="1556" y="20"/>
                    </a:lnTo>
                    <a:close/>
                    <a:moveTo>
                      <a:pt x="3954" y="4968"/>
                    </a:moveTo>
                    <a:lnTo>
                      <a:pt x="3954" y="4968"/>
                    </a:lnTo>
                    <a:lnTo>
                      <a:pt x="3954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56" y="4968"/>
                    </a:lnTo>
                    <a:lnTo>
                      <a:pt x="3937" y="4930"/>
                    </a:lnTo>
                    <a:lnTo>
                      <a:pt x="3923" y="4937"/>
                    </a:lnTo>
                    <a:lnTo>
                      <a:pt x="3908" y="4944"/>
                    </a:lnTo>
                    <a:lnTo>
                      <a:pt x="3893" y="4952"/>
                    </a:lnTo>
                    <a:lnTo>
                      <a:pt x="3878" y="4958"/>
                    </a:lnTo>
                    <a:lnTo>
                      <a:pt x="3863" y="4966"/>
                    </a:lnTo>
                    <a:lnTo>
                      <a:pt x="3847" y="4972"/>
                    </a:lnTo>
                    <a:lnTo>
                      <a:pt x="3832" y="4979"/>
                    </a:lnTo>
                    <a:lnTo>
                      <a:pt x="3817" y="4985"/>
                    </a:lnTo>
                    <a:lnTo>
                      <a:pt x="3835" y="4983"/>
                    </a:lnTo>
                    <a:lnTo>
                      <a:pt x="3852" y="4981"/>
                    </a:lnTo>
                    <a:lnTo>
                      <a:pt x="3869" y="4979"/>
                    </a:lnTo>
                    <a:lnTo>
                      <a:pt x="3886" y="4976"/>
                    </a:lnTo>
                    <a:lnTo>
                      <a:pt x="3904" y="4974"/>
                    </a:lnTo>
                    <a:lnTo>
                      <a:pt x="3921" y="4972"/>
                    </a:lnTo>
                    <a:lnTo>
                      <a:pt x="3937" y="4970"/>
                    </a:lnTo>
                    <a:lnTo>
                      <a:pt x="3954" y="4968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90920" y="2003400"/>
                <a:ext cx="2166840" cy="1989000"/>
              </a:xfrm>
              <a:custGeom>
                <a:avLst/>
                <a:gdLst/>
                <a:ahLst/>
                <a:rect l="l" t="t" r="r" b="b"/>
                <a:pathLst>
                  <a:path w="5458" h="5011">
                    <a:moveTo>
                      <a:pt x="5458" y="2506"/>
                    </a:moveTo>
                    <a:lnTo>
                      <a:pt x="5457" y="2402"/>
                    </a:lnTo>
                    <a:lnTo>
                      <a:pt x="5451" y="2300"/>
                    </a:lnTo>
                    <a:lnTo>
                      <a:pt x="5442" y="2199"/>
                    </a:lnTo>
                    <a:lnTo>
                      <a:pt x="5428" y="2099"/>
                    </a:lnTo>
                    <a:lnTo>
                      <a:pt x="5412" y="2000"/>
                    </a:lnTo>
                    <a:lnTo>
                      <a:pt x="5391" y="1902"/>
                    </a:lnTo>
                    <a:lnTo>
                      <a:pt x="5367" y="1806"/>
                    </a:lnTo>
                    <a:lnTo>
                      <a:pt x="5340" y="1711"/>
                    </a:lnTo>
                    <a:lnTo>
                      <a:pt x="5310" y="1617"/>
                    </a:lnTo>
                    <a:lnTo>
                      <a:pt x="5277" y="1525"/>
                    </a:lnTo>
                    <a:lnTo>
                      <a:pt x="5240" y="1434"/>
                    </a:lnTo>
                    <a:lnTo>
                      <a:pt x="5200" y="1346"/>
                    </a:lnTo>
                    <a:lnTo>
                      <a:pt x="5158" y="1258"/>
                    </a:lnTo>
                    <a:lnTo>
                      <a:pt x="5111" y="1173"/>
                    </a:lnTo>
                    <a:lnTo>
                      <a:pt x="5063" y="1090"/>
                    </a:lnTo>
                    <a:lnTo>
                      <a:pt x="5011" y="1009"/>
                    </a:lnTo>
                    <a:lnTo>
                      <a:pt x="4957" y="929"/>
                    </a:lnTo>
                    <a:lnTo>
                      <a:pt x="4899" y="851"/>
                    </a:lnTo>
                    <a:lnTo>
                      <a:pt x="4840" y="776"/>
                    </a:lnTo>
                    <a:lnTo>
                      <a:pt x="4777" y="702"/>
                    </a:lnTo>
                    <a:lnTo>
                      <a:pt x="4713" y="632"/>
                    </a:lnTo>
                    <a:lnTo>
                      <a:pt x="4646" y="563"/>
                    </a:lnTo>
                    <a:lnTo>
                      <a:pt x="4575" y="497"/>
                    </a:lnTo>
                    <a:lnTo>
                      <a:pt x="4504" y="433"/>
                    </a:lnTo>
                    <a:lnTo>
                      <a:pt x="4429" y="372"/>
                    </a:lnTo>
                    <a:lnTo>
                      <a:pt x="4354" y="313"/>
                    </a:lnTo>
                    <a:lnTo>
                      <a:pt x="4275" y="257"/>
                    </a:lnTo>
                    <a:lnTo>
                      <a:pt x="4195" y="203"/>
                    </a:lnTo>
                    <a:lnTo>
                      <a:pt x="4112" y="153"/>
                    </a:lnTo>
                    <a:lnTo>
                      <a:pt x="4027" y="106"/>
                    </a:lnTo>
                    <a:lnTo>
                      <a:pt x="3942" y="61"/>
                    </a:lnTo>
                    <a:lnTo>
                      <a:pt x="3853" y="20"/>
                    </a:lnTo>
                    <a:lnTo>
                      <a:pt x="3835" y="16"/>
                    </a:lnTo>
                    <a:lnTo>
                      <a:pt x="3816" y="14"/>
                    </a:lnTo>
                    <a:lnTo>
                      <a:pt x="3796" y="12"/>
                    </a:lnTo>
                    <a:lnTo>
                      <a:pt x="3777" y="9"/>
                    </a:lnTo>
                    <a:lnTo>
                      <a:pt x="3757" y="7"/>
                    </a:lnTo>
                    <a:lnTo>
                      <a:pt x="3738" y="4"/>
                    </a:lnTo>
                    <a:lnTo>
                      <a:pt x="3718" y="2"/>
                    </a:lnTo>
                    <a:lnTo>
                      <a:pt x="3699" y="0"/>
                    </a:lnTo>
                    <a:lnTo>
                      <a:pt x="3793" y="38"/>
                    </a:lnTo>
                    <a:lnTo>
                      <a:pt x="3884" y="79"/>
                    </a:lnTo>
                    <a:lnTo>
                      <a:pt x="3973" y="124"/>
                    </a:lnTo>
                    <a:lnTo>
                      <a:pt x="4062" y="172"/>
                    </a:lnTo>
                    <a:lnTo>
                      <a:pt x="4147" y="224"/>
                    </a:lnTo>
                    <a:lnTo>
                      <a:pt x="4231" y="278"/>
                    </a:lnTo>
                    <a:lnTo>
                      <a:pt x="4313" y="335"/>
                    </a:lnTo>
                    <a:lnTo>
                      <a:pt x="4392" y="394"/>
                    </a:lnTo>
                    <a:lnTo>
                      <a:pt x="4468" y="458"/>
                    </a:lnTo>
                    <a:lnTo>
                      <a:pt x="4543" y="523"/>
                    </a:lnTo>
                    <a:lnTo>
                      <a:pt x="4615" y="592"/>
                    </a:lnTo>
                    <a:lnTo>
                      <a:pt x="4684" y="662"/>
                    </a:lnTo>
                    <a:lnTo>
                      <a:pt x="4751" y="736"/>
                    </a:lnTo>
                    <a:lnTo>
                      <a:pt x="4815" y="811"/>
                    </a:lnTo>
                    <a:lnTo>
                      <a:pt x="4877" y="890"/>
                    </a:lnTo>
                    <a:lnTo>
                      <a:pt x="4935" y="970"/>
                    </a:lnTo>
                    <a:lnTo>
                      <a:pt x="4990" y="1053"/>
                    </a:lnTo>
                    <a:lnTo>
                      <a:pt x="5043" y="1137"/>
                    </a:lnTo>
                    <a:lnTo>
                      <a:pt x="5092" y="1225"/>
                    </a:lnTo>
                    <a:lnTo>
                      <a:pt x="5138" y="1313"/>
                    </a:lnTo>
                    <a:lnTo>
                      <a:pt x="5181" y="1404"/>
                    </a:lnTo>
                    <a:lnTo>
                      <a:pt x="5220" y="1497"/>
                    </a:lnTo>
                    <a:lnTo>
                      <a:pt x="5257" y="1591"/>
                    </a:lnTo>
                    <a:lnTo>
                      <a:pt x="5290" y="1687"/>
                    </a:lnTo>
                    <a:lnTo>
                      <a:pt x="5319" y="1784"/>
                    </a:lnTo>
                    <a:lnTo>
                      <a:pt x="5345" y="1884"/>
                    </a:lnTo>
                    <a:lnTo>
                      <a:pt x="5366" y="1984"/>
                    </a:lnTo>
                    <a:lnTo>
                      <a:pt x="5385" y="2086"/>
                    </a:lnTo>
                    <a:lnTo>
                      <a:pt x="5399" y="2189"/>
                    </a:lnTo>
                    <a:lnTo>
                      <a:pt x="5408" y="2293"/>
                    </a:lnTo>
                    <a:lnTo>
                      <a:pt x="5415" y="2399"/>
                    </a:lnTo>
                    <a:lnTo>
                      <a:pt x="5417" y="2506"/>
                    </a:lnTo>
                    <a:lnTo>
                      <a:pt x="5416" y="2551"/>
                    </a:lnTo>
                    <a:lnTo>
                      <a:pt x="5415" y="2595"/>
                    </a:lnTo>
                    <a:lnTo>
                      <a:pt x="5414" y="2641"/>
                    </a:lnTo>
                    <a:lnTo>
                      <a:pt x="5411" y="2685"/>
                    </a:lnTo>
                    <a:lnTo>
                      <a:pt x="5407" y="2729"/>
                    </a:lnTo>
                    <a:lnTo>
                      <a:pt x="5403" y="2774"/>
                    </a:lnTo>
                    <a:lnTo>
                      <a:pt x="5399" y="2818"/>
                    </a:lnTo>
                    <a:lnTo>
                      <a:pt x="5393" y="2862"/>
                    </a:lnTo>
                    <a:lnTo>
                      <a:pt x="5387" y="2905"/>
                    </a:lnTo>
                    <a:lnTo>
                      <a:pt x="5380" y="2948"/>
                    </a:lnTo>
                    <a:lnTo>
                      <a:pt x="5373" y="2992"/>
                    </a:lnTo>
                    <a:lnTo>
                      <a:pt x="5364" y="3035"/>
                    </a:lnTo>
                    <a:lnTo>
                      <a:pt x="5355" y="3077"/>
                    </a:lnTo>
                    <a:lnTo>
                      <a:pt x="5346" y="3120"/>
                    </a:lnTo>
                    <a:lnTo>
                      <a:pt x="5336" y="3162"/>
                    </a:lnTo>
                    <a:lnTo>
                      <a:pt x="5325" y="3203"/>
                    </a:lnTo>
                    <a:lnTo>
                      <a:pt x="5365" y="3214"/>
                    </a:lnTo>
                    <a:lnTo>
                      <a:pt x="5376" y="3172"/>
                    </a:lnTo>
                    <a:lnTo>
                      <a:pt x="5387" y="3129"/>
                    </a:lnTo>
                    <a:lnTo>
                      <a:pt x="5396" y="3087"/>
                    </a:lnTo>
                    <a:lnTo>
                      <a:pt x="5405" y="3042"/>
                    </a:lnTo>
                    <a:lnTo>
                      <a:pt x="5414" y="2999"/>
                    </a:lnTo>
                    <a:lnTo>
                      <a:pt x="5421" y="2956"/>
                    </a:lnTo>
                    <a:lnTo>
                      <a:pt x="5428" y="2912"/>
                    </a:lnTo>
                    <a:lnTo>
                      <a:pt x="5434" y="2867"/>
                    </a:lnTo>
                    <a:lnTo>
                      <a:pt x="5440" y="2823"/>
                    </a:lnTo>
                    <a:lnTo>
                      <a:pt x="5445" y="2778"/>
                    </a:lnTo>
                    <a:lnTo>
                      <a:pt x="5449" y="2734"/>
                    </a:lnTo>
                    <a:lnTo>
                      <a:pt x="5453" y="2688"/>
                    </a:lnTo>
                    <a:lnTo>
                      <a:pt x="5455" y="2643"/>
                    </a:lnTo>
                    <a:lnTo>
                      <a:pt x="5457" y="2597"/>
                    </a:lnTo>
                    <a:lnTo>
                      <a:pt x="5458" y="2551"/>
                    </a:lnTo>
                    <a:lnTo>
                      <a:pt x="5458" y="2506"/>
                    </a:lnTo>
                    <a:close/>
                    <a:moveTo>
                      <a:pt x="1605" y="20"/>
                    </a:moveTo>
                    <a:lnTo>
                      <a:pt x="1516" y="61"/>
                    </a:lnTo>
                    <a:lnTo>
                      <a:pt x="1431" y="106"/>
                    </a:lnTo>
                    <a:lnTo>
                      <a:pt x="1347" y="153"/>
                    </a:lnTo>
                    <a:lnTo>
                      <a:pt x="1263" y="203"/>
                    </a:lnTo>
                    <a:lnTo>
                      <a:pt x="1183" y="257"/>
                    </a:lnTo>
                    <a:lnTo>
                      <a:pt x="1105" y="313"/>
                    </a:lnTo>
                    <a:lnTo>
                      <a:pt x="1029" y="372"/>
                    </a:lnTo>
                    <a:lnTo>
                      <a:pt x="954" y="433"/>
                    </a:lnTo>
                    <a:lnTo>
                      <a:pt x="883" y="497"/>
                    </a:lnTo>
                    <a:lnTo>
                      <a:pt x="813" y="563"/>
                    </a:lnTo>
                    <a:lnTo>
                      <a:pt x="746" y="632"/>
                    </a:lnTo>
                    <a:lnTo>
                      <a:pt x="681" y="702"/>
                    </a:lnTo>
                    <a:lnTo>
                      <a:pt x="618" y="776"/>
                    </a:lnTo>
                    <a:lnTo>
                      <a:pt x="559" y="851"/>
                    </a:lnTo>
                    <a:lnTo>
                      <a:pt x="502" y="929"/>
                    </a:lnTo>
                    <a:lnTo>
                      <a:pt x="448" y="1009"/>
                    </a:lnTo>
                    <a:lnTo>
                      <a:pt x="396" y="1090"/>
                    </a:lnTo>
                    <a:lnTo>
                      <a:pt x="347" y="1173"/>
                    </a:lnTo>
                    <a:lnTo>
                      <a:pt x="301" y="1258"/>
                    </a:lnTo>
                    <a:lnTo>
                      <a:pt x="259" y="1346"/>
                    </a:lnTo>
                    <a:lnTo>
                      <a:pt x="219" y="1434"/>
                    </a:lnTo>
                    <a:lnTo>
                      <a:pt x="182" y="1525"/>
                    </a:lnTo>
                    <a:lnTo>
                      <a:pt x="148" y="1617"/>
                    </a:lnTo>
                    <a:lnTo>
                      <a:pt x="118" y="1711"/>
                    </a:lnTo>
                    <a:lnTo>
                      <a:pt x="90" y="1806"/>
                    </a:lnTo>
                    <a:lnTo>
                      <a:pt x="67" y="1902"/>
                    </a:lnTo>
                    <a:lnTo>
                      <a:pt x="47" y="2000"/>
                    </a:lnTo>
                    <a:lnTo>
                      <a:pt x="31" y="2099"/>
                    </a:lnTo>
                    <a:lnTo>
                      <a:pt x="16" y="2199"/>
                    </a:lnTo>
                    <a:lnTo>
                      <a:pt x="8" y="2300"/>
                    </a:lnTo>
                    <a:lnTo>
                      <a:pt x="1" y="2402"/>
                    </a:lnTo>
                    <a:lnTo>
                      <a:pt x="0" y="2506"/>
                    </a:lnTo>
                    <a:lnTo>
                      <a:pt x="1" y="2608"/>
                    </a:lnTo>
                    <a:lnTo>
                      <a:pt x="8" y="2711"/>
                    </a:lnTo>
                    <a:lnTo>
                      <a:pt x="16" y="2812"/>
                    </a:lnTo>
                    <a:lnTo>
                      <a:pt x="31" y="2912"/>
                    </a:lnTo>
                    <a:lnTo>
                      <a:pt x="47" y="3011"/>
                    </a:lnTo>
                    <a:lnTo>
                      <a:pt x="67" y="3108"/>
                    </a:lnTo>
                    <a:lnTo>
                      <a:pt x="90" y="3206"/>
                    </a:lnTo>
                    <a:lnTo>
                      <a:pt x="118" y="3301"/>
                    </a:lnTo>
                    <a:lnTo>
                      <a:pt x="148" y="3393"/>
                    </a:lnTo>
                    <a:lnTo>
                      <a:pt x="182" y="3485"/>
                    </a:lnTo>
                    <a:lnTo>
                      <a:pt x="219" y="3576"/>
                    </a:lnTo>
                    <a:lnTo>
                      <a:pt x="259" y="3665"/>
                    </a:lnTo>
                    <a:lnTo>
                      <a:pt x="301" y="3752"/>
                    </a:lnTo>
                    <a:lnTo>
                      <a:pt x="347" y="3837"/>
                    </a:lnTo>
                    <a:lnTo>
                      <a:pt x="396" y="3920"/>
                    </a:lnTo>
                    <a:lnTo>
                      <a:pt x="448" y="4003"/>
                    </a:lnTo>
                    <a:lnTo>
                      <a:pt x="502" y="4082"/>
                    </a:lnTo>
                    <a:lnTo>
                      <a:pt x="559" y="4159"/>
                    </a:lnTo>
                    <a:lnTo>
                      <a:pt x="618" y="4235"/>
                    </a:lnTo>
                    <a:lnTo>
                      <a:pt x="681" y="4308"/>
                    </a:lnTo>
                    <a:lnTo>
                      <a:pt x="746" y="4379"/>
                    </a:lnTo>
                    <a:lnTo>
                      <a:pt x="813" y="4448"/>
                    </a:lnTo>
                    <a:lnTo>
                      <a:pt x="883" y="4514"/>
                    </a:lnTo>
                    <a:lnTo>
                      <a:pt x="954" y="4578"/>
                    </a:lnTo>
                    <a:lnTo>
                      <a:pt x="1029" y="4640"/>
                    </a:lnTo>
                    <a:lnTo>
                      <a:pt x="1105" y="4698"/>
                    </a:lnTo>
                    <a:lnTo>
                      <a:pt x="1183" y="4754"/>
                    </a:lnTo>
                    <a:lnTo>
                      <a:pt x="1263" y="4807"/>
                    </a:lnTo>
                    <a:lnTo>
                      <a:pt x="1347" y="4858"/>
                    </a:lnTo>
                    <a:lnTo>
                      <a:pt x="1431" y="4905"/>
                    </a:lnTo>
                    <a:lnTo>
                      <a:pt x="1516" y="4950"/>
                    </a:lnTo>
                    <a:lnTo>
                      <a:pt x="1605" y="4992"/>
                    </a:lnTo>
                    <a:lnTo>
                      <a:pt x="1623" y="4994"/>
                    </a:lnTo>
                    <a:lnTo>
                      <a:pt x="1643" y="4997"/>
                    </a:lnTo>
                    <a:lnTo>
                      <a:pt x="1662" y="4999"/>
                    </a:lnTo>
                    <a:lnTo>
                      <a:pt x="1682" y="5002"/>
                    </a:lnTo>
                    <a:lnTo>
                      <a:pt x="1701" y="5004"/>
                    </a:lnTo>
                    <a:lnTo>
                      <a:pt x="1721" y="5007"/>
                    </a:lnTo>
                    <a:lnTo>
                      <a:pt x="1740" y="5009"/>
                    </a:lnTo>
                    <a:lnTo>
                      <a:pt x="1759" y="5011"/>
                    </a:lnTo>
                    <a:lnTo>
                      <a:pt x="1665" y="4973"/>
                    </a:lnTo>
                    <a:lnTo>
                      <a:pt x="1575" y="4931"/>
                    </a:lnTo>
                    <a:lnTo>
                      <a:pt x="1485" y="4887"/>
                    </a:lnTo>
                    <a:lnTo>
                      <a:pt x="1396" y="4838"/>
                    </a:lnTo>
                    <a:lnTo>
                      <a:pt x="1311" y="4788"/>
                    </a:lnTo>
                    <a:lnTo>
                      <a:pt x="1228" y="4734"/>
                    </a:lnTo>
                    <a:lnTo>
                      <a:pt x="1146" y="4676"/>
                    </a:lnTo>
                    <a:lnTo>
                      <a:pt x="1067" y="4616"/>
                    </a:lnTo>
                    <a:lnTo>
                      <a:pt x="990" y="4553"/>
                    </a:lnTo>
                    <a:lnTo>
                      <a:pt x="916" y="4487"/>
                    </a:lnTo>
                    <a:lnTo>
                      <a:pt x="843" y="4419"/>
                    </a:lnTo>
                    <a:lnTo>
                      <a:pt x="774" y="4348"/>
                    </a:lnTo>
                    <a:lnTo>
                      <a:pt x="707" y="4275"/>
                    </a:lnTo>
                    <a:lnTo>
                      <a:pt x="643" y="4199"/>
                    </a:lnTo>
                    <a:lnTo>
                      <a:pt x="582" y="4121"/>
                    </a:lnTo>
                    <a:lnTo>
                      <a:pt x="523" y="4040"/>
                    </a:lnTo>
                    <a:lnTo>
                      <a:pt x="468" y="3958"/>
                    </a:lnTo>
                    <a:lnTo>
                      <a:pt x="415" y="3873"/>
                    </a:lnTo>
                    <a:lnTo>
                      <a:pt x="367" y="3787"/>
                    </a:lnTo>
                    <a:lnTo>
                      <a:pt x="320" y="3697"/>
                    </a:lnTo>
                    <a:lnTo>
                      <a:pt x="277" y="3606"/>
                    </a:lnTo>
                    <a:lnTo>
                      <a:pt x="238" y="3514"/>
                    </a:lnTo>
                    <a:lnTo>
                      <a:pt x="201" y="3419"/>
                    </a:lnTo>
                    <a:lnTo>
                      <a:pt x="169" y="3324"/>
                    </a:lnTo>
                    <a:lnTo>
                      <a:pt x="140" y="3226"/>
                    </a:lnTo>
                    <a:lnTo>
                      <a:pt x="114" y="3128"/>
                    </a:lnTo>
                    <a:lnTo>
                      <a:pt x="92" y="3026"/>
                    </a:lnTo>
                    <a:lnTo>
                      <a:pt x="74" y="2925"/>
                    </a:lnTo>
                    <a:lnTo>
                      <a:pt x="60" y="2822"/>
                    </a:lnTo>
                    <a:lnTo>
                      <a:pt x="50" y="2717"/>
                    </a:lnTo>
                    <a:lnTo>
                      <a:pt x="44" y="2612"/>
                    </a:lnTo>
                    <a:lnTo>
                      <a:pt x="41" y="2506"/>
                    </a:lnTo>
                    <a:lnTo>
                      <a:pt x="44" y="2399"/>
                    </a:lnTo>
                    <a:lnTo>
                      <a:pt x="50" y="2293"/>
                    </a:lnTo>
                    <a:lnTo>
                      <a:pt x="60" y="2189"/>
                    </a:lnTo>
                    <a:lnTo>
                      <a:pt x="74" y="2086"/>
                    </a:lnTo>
                    <a:lnTo>
                      <a:pt x="92" y="1984"/>
                    </a:lnTo>
                    <a:lnTo>
                      <a:pt x="114" y="1884"/>
                    </a:lnTo>
                    <a:lnTo>
                      <a:pt x="140" y="1784"/>
                    </a:lnTo>
                    <a:lnTo>
                      <a:pt x="169" y="1687"/>
                    </a:lnTo>
                    <a:lnTo>
                      <a:pt x="201" y="1591"/>
                    </a:lnTo>
                    <a:lnTo>
                      <a:pt x="238" y="1497"/>
                    </a:lnTo>
                    <a:lnTo>
                      <a:pt x="277" y="1404"/>
                    </a:lnTo>
                    <a:lnTo>
                      <a:pt x="320" y="1313"/>
                    </a:lnTo>
                    <a:lnTo>
                      <a:pt x="367" y="1225"/>
                    </a:lnTo>
                    <a:lnTo>
                      <a:pt x="415" y="1137"/>
                    </a:lnTo>
                    <a:lnTo>
                      <a:pt x="468" y="1053"/>
                    </a:lnTo>
                    <a:lnTo>
                      <a:pt x="523" y="970"/>
                    </a:lnTo>
                    <a:lnTo>
                      <a:pt x="582" y="890"/>
                    </a:lnTo>
                    <a:lnTo>
                      <a:pt x="643" y="811"/>
                    </a:lnTo>
                    <a:lnTo>
                      <a:pt x="707" y="736"/>
                    </a:lnTo>
                    <a:lnTo>
                      <a:pt x="774" y="662"/>
                    </a:lnTo>
                    <a:lnTo>
                      <a:pt x="843" y="592"/>
                    </a:lnTo>
                    <a:lnTo>
                      <a:pt x="916" y="523"/>
                    </a:lnTo>
                    <a:lnTo>
                      <a:pt x="990" y="458"/>
                    </a:lnTo>
                    <a:lnTo>
                      <a:pt x="1067" y="394"/>
                    </a:lnTo>
                    <a:lnTo>
                      <a:pt x="1146" y="335"/>
                    </a:lnTo>
                    <a:lnTo>
                      <a:pt x="1228" y="278"/>
                    </a:lnTo>
                    <a:lnTo>
                      <a:pt x="1311" y="224"/>
                    </a:lnTo>
                    <a:lnTo>
                      <a:pt x="1396" y="172"/>
                    </a:lnTo>
                    <a:lnTo>
                      <a:pt x="1485" y="124"/>
                    </a:lnTo>
                    <a:lnTo>
                      <a:pt x="1575" y="79"/>
                    </a:lnTo>
                    <a:lnTo>
                      <a:pt x="1665" y="38"/>
                    </a:lnTo>
                    <a:lnTo>
                      <a:pt x="1759" y="0"/>
                    </a:lnTo>
                    <a:lnTo>
                      <a:pt x="1740" y="2"/>
                    </a:lnTo>
                    <a:lnTo>
                      <a:pt x="1721" y="4"/>
                    </a:lnTo>
                    <a:lnTo>
                      <a:pt x="1701" y="7"/>
                    </a:lnTo>
                    <a:lnTo>
                      <a:pt x="1682" y="9"/>
                    </a:lnTo>
                    <a:lnTo>
                      <a:pt x="1662" y="12"/>
                    </a:lnTo>
                    <a:lnTo>
                      <a:pt x="1643" y="14"/>
                    </a:lnTo>
                    <a:lnTo>
                      <a:pt x="1623" y="16"/>
                    </a:lnTo>
                    <a:lnTo>
                      <a:pt x="1605" y="20"/>
                    </a:lnTo>
                    <a:close/>
                    <a:moveTo>
                      <a:pt x="3866" y="4985"/>
                    </a:moveTo>
                    <a:lnTo>
                      <a:pt x="3874" y="4982"/>
                    </a:lnTo>
                    <a:lnTo>
                      <a:pt x="3882" y="4979"/>
                    </a:lnTo>
                    <a:lnTo>
                      <a:pt x="3889" y="4976"/>
                    </a:lnTo>
                    <a:lnTo>
                      <a:pt x="3897" y="4971"/>
                    </a:lnTo>
                    <a:lnTo>
                      <a:pt x="3904" y="4968"/>
                    </a:lnTo>
                    <a:lnTo>
                      <a:pt x="3911" y="4965"/>
                    </a:lnTo>
                    <a:lnTo>
                      <a:pt x="3918" y="4962"/>
                    </a:lnTo>
                    <a:lnTo>
                      <a:pt x="3926" y="4957"/>
                    </a:lnTo>
                    <a:lnTo>
                      <a:pt x="3908" y="4921"/>
                    </a:lnTo>
                    <a:lnTo>
                      <a:pt x="3885" y="4931"/>
                    </a:lnTo>
                    <a:lnTo>
                      <a:pt x="3861" y="4942"/>
                    </a:lnTo>
                    <a:lnTo>
                      <a:pt x="3838" y="4953"/>
                    </a:lnTo>
                    <a:lnTo>
                      <a:pt x="3815" y="4964"/>
                    </a:lnTo>
                    <a:lnTo>
                      <a:pt x="3791" y="4973"/>
                    </a:lnTo>
                    <a:lnTo>
                      <a:pt x="3767" y="4984"/>
                    </a:lnTo>
                    <a:lnTo>
                      <a:pt x="3743" y="4994"/>
                    </a:lnTo>
                    <a:lnTo>
                      <a:pt x="3719" y="5004"/>
                    </a:lnTo>
                    <a:lnTo>
                      <a:pt x="3738" y="5002"/>
                    </a:lnTo>
                    <a:lnTo>
                      <a:pt x="3757" y="4999"/>
                    </a:lnTo>
                    <a:lnTo>
                      <a:pt x="3776" y="4997"/>
                    </a:lnTo>
                    <a:lnTo>
                      <a:pt x="3794" y="4995"/>
                    </a:lnTo>
                    <a:lnTo>
                      <a:pt x="3812" y="4993"/>
                    </a:lnTo>
                    <a:lnTo>
                      <a:pt x="3831" y="4990"/>
                    </a:lnTo>
                    <a:lnTo>
                      <a:pt x="3849" y="4988"/>
                    </a:lnTo>
                    <a:lnTo>
                      <a:pt x="3866" y="4985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98840" y="1998720"/>
                <a:ext cx="2149560" cy="1996920"/>
              </a:xfrm>
              <a:custGeom>
                <a:avLst/>
                <a:gdLst/>
                <a:ahLst/>
                <a:rect l="l" t="t" r="r" b="b"/>
                <a:pathLst>
                  <a:path w="5417" h="5031">
                    <a:moveTo>
                      <a:pt x="5417" y="2516"/>
                    </a:moveTo>
                    <a:lnTo>
                      <a:pt x="5414" y="2411"/>
                    </a:lnTo>
                    <a:lnTo>
                      <a:pt x="5409" y="2307"/>
                    </a:lnTo>
                    <a:lnTo>
                      <a:pt x="5399" y="2205"/>
                    </a:lnTo>
                    <a:lnTo>
                      <a:pt x="5385" y="2102"/>
                    </a:lnTo>
                    <a:lnTo>
                      <a:pt x="5368" y="2003"/>
                    </a:lnTo>
                    <a:lnTo>
                      <a:pt x="5347" y="1903"/>
                    </a:lnTo>
                    <a:lnTo>
                      <a:pt x="5323" y="1805"/>
                    </a:lnTo>
                    <a:lnTo>
                      <a:pt x="5294" y="1709"/>
                    </a:lnTo>
                    <a:lnTo>
                      <a:pt x="5263" y="1615"/>
                    </a:lnTo>
                    <a:lnTo>
                      <a:pt x="5229" y="1521"/>
                    </a:lnTo>
                    <a:lnTo>
                      <a:pt x="5190" y="1430"/>
                    </a:lnTo>
                    <a:lnTo>
                      <a:pt x="5149" y="1341"/>
                    </a:lnTo>
                    <a:lnTo>
                      <a:pt x="5104" y="1252"/>
                    </a:lnTo>
                    <a:lnTo>
                      <a:pt x="5057" y="1166"/>
                    </a:lnTo>
                    <a:lnTo>
                      <a:pt x="5006" y="1083"/>
                    </a:lnTo>
                    <a:lnTo>
                      <a:pt x="4953" y="999"/>
                    </a:lnTo>
                    <a:lnTo>
                      <a:pt x="4897" y="919"/>
                    </a:lnTo>
                    <a:lnTo>
                      <a:pt x="4837" y="842"/>
                    </a:lnTo>
                    <a:lnTo>
                      <a:pt x="4776" y="766"/>
                    </a:lnTo>
                    <a:lnTo>
                      <a:pt x="4711" y="693"/>
                    </a:lnTo>
                    <a:lnTo>
                      <a:pt x="4644" y="622"/>
                    </a:lnTo>
                    <a:lnTo>
                      <a:pt x="4575" y="553"/>
                    </a:lnTo>
                    <a:lnTo>
                      <a:pt x="4502" y="487"/>
                    </a:lnTo>
                    <a:lnTo>
                      <a:pt x="4428" y="424"/>
                    </a:lnTo>
                    <a:lnTo>
                      <a:pt x="4351" y="363"/>
                    </a:lnTo>
                    <a:lnTo>
                      <a:pt x="4272" y="306"/>
                    </a:lnTo>
                    <a:lnTo>
                      <a:pt x="4192" y="250"/>
                    </a:lnTo>
                    <a:lnTo>
                      <a:pt x="4109" y="198"/>
                    </a:lnTo>
                    <a:lnTo>
                      <a:pt x="4024" y="148"/>
                    </a:lnTo>
                    <a:lnTo>
                      <a:pt x="3937" y="102"/>
                    </a:lnTo>
                    <a:lnTo>
                      <a:pt x="3849" y="59"/>
                    </a:lnTo>
                    <a:lnTo>
                      <a:pt x="3758" y="19"/>
                    </a:lnTo>
                    <a:lnTo>
                      <a:pt x="3737" y="17"/>
                    </a:lnTo>
                    <a:lnTo>
                      <a:pt x="3717" y="14"/>
                    </a:lnTo>
                    <a:lnTo>
                      <a:pt x="3696" y="11"/>
                    </a:lnTo>
                    <a:lnTo>
                      <a:pt x="3676" y="9"/>
                    </a:lnTo>
                    <a:lnTo>
                      <a:pt x="3654" y="7"/>
                    </a:lnTo>
                    <a:lnTo>
                      <a:pt x="3634" y="5"/>
                    </a:lnTo>
                    <a:lnTo>
                      <a:pt x="3613" y="3"/>
                    </a:lnTo>
                    <a:lnTo>
                      <a:pt x="3593" y="0"/>
                    </a:lnTo>
                    <a:lnTo>
                      <a:pt x="3689" y="36"/>
                    </a:lnTo>
                    <a:lnTo>
                      <a:pt x="3784" y="76"/>
                    </a:lnTo>
                    <a:lnTo>
                      <a:pt x="3876" y="119"/>
                    </a:lnTo>
                    <a:lnTo>
                      <a:pt x="3968" y="166"/>
                    </a:lnTo>
                    <a:lnTo>
                      <a:pt x="4056" y="215"/>
                    </a:lnTo>
                    <a:lnTo>
                      <a:pt x="4143" y="268"/>
                    </a:lnTo>
                    <a:lnTo>
                      <a:pt x="4227" y="324"/>
                    </a:lnTo>
                    <a:lnTo>
                      <a:pt x="4309" y="384"/>
                    </a:lnTo>
                    <a:lnTo>
                      <a:pt x="4389" y="445"/>
                    </a:lnTo>
                    <a:lnTo>
                      <a:pt x="4466" y="511"/>
                    </a:lnTo>
                    <a:lnTo>
                      <a:pt x="4540" y="579"/>
                    </a:lnTo>
                    <a:lnTo>
                      <a:pt x="4613" y="649"/>
                    </a:lnTo>
                    <a:lnTo>
                      <a:pt x="4682" y="723"/>
                    </a:lnTo>
                    <a:lnTo>
                      <a:pt x="4749" y="800"/>
                    </a:lnTo>
                    <a:lnTo>
                      <a:pt x="4813" y="877"/>
                    </a:lnTo>
                    <a:lnTo>
                      <a:pt x="4873" y="958"/>
                    </a:lnTo>
                    <a:lnTo>
                      <a:pt x="4930" y="1041"/>
                    </a:lnTo>
                    <a:lnTo>
                      <a:pt x="4985" y="1128"/>
                    </a:lnTo>
                    <a:lnTo>
                      <a:pt x="5036" y="1215"/>
                    </a:lnTo>
                    <a:lnTo>
                      <a:pt x="5085" y="1305"/>
                    </a:lnTo>
                    <a:lnTo>
                      <a:pt x="5129" y="1397"/>
                    </a:lnTo>
                    <a:lnTo>
                      <a:pt x="5170" y="1491"/>
                    </a:lnTo>
                    <a:lnTo>
                      <a:pt x="5208" y="1586"/>
                    </a:lnTo>
                    <a:lnTo>
                      <a:pt x="5243" y="1683"/>
                    </a:lnTo>
                    <a:lnTo>
                      <a:pt x="5273" y="1782"/>
                    </a:lnTo>
                    <a:lnTo>
                      <a:pt x="5300" y="1883"/>
                    </a:lnTo>
                    <a:lnTo>
                      <a:pt x="5323" y="1985"/>
                    </a:lnTo>
                    <a:lnTo>
                      <a:pt x="5341" y="2089"/>
                    </a:lnTo>
                    <a:lnTo>
                      <a:pt x="5356" y="2194"/>
                    </a:lnTo>
                    <a:lnTo>
                      <a:pt x="5367" y="2300"/>
                    </a:lnTo>
                    <a:lnTo>
                      <a:pt x="5372" y="2407"/>
                    </a:lnTo>
                    <a:lnTo>
                      <a:pt x="5375" y="2516"/>
                    </a:lnTo>
                    <a:lnTo>
                      <a:pt x="5374" y="2560"/>
                    </a:lnTo>
                    <a:lnTo>
                      <a:pt x="5373" y="2605"/>
                    </a:lnTo>
                    <a:lnTo>
                      <a:pt x="5371" y="2650"/>
                    </a:lnTo>
                    <a:lnTo>
                      <a:pt x="5369" y="2694"/>
                    </a:lnTo>
                    <a:lnTo>
                      <a:pt x="5366" y="2738"/>
                    </a:lnTo>
                    <a:lnTo>
                      <a:pt x="5361" y="2781"/>
                    </a:lnTo>
                    <a:lnTo>
                      <a:pt x="5357" y="2826"/>
                    </a:lnTo>
                    <a:lnTo>
                      <a:pt x="5352" y="2869"/>
                    </a:lnTo>
                    <a:lnTo>
                      <a:pt x="5345" y="2912"/>
                    </a:lnTo>
                    <a:lnTo>
                      <a:pt x="5339" y="2955"/>
                    </a:lnTo>
                    <a:lnTo>
                      <a:pt x="5331" y="2998"/>
                    </a:lnTo>
                    <a:lnTo>
                      <a:pt x="5323" y="3041"/>
                    </a:lnTo>
                    <a:lnTo>
                      <a:pt x="5314" y="3083"/>
                    </a:lnTo>
                    <a:lnTo>
                      <a:pt x="5304" y="3125"/>
                    </a:lnTo>
                    <a:lnTo>
                      <a:pt x="5294" y="3167"/>
                    </a:lnTo>
                    <a:lnTo>
                      <a:pt x="5284" y="3208"/>
                    </a:lnTo>
                    <a:lnTo>
                      <a:pt x="5324" y="3219"/>
                    </a:lnTo>
                    <a:lnTo>
                      <a:pt x="5334" y="3177"/>
                    </a:lnTo>
                    <a:lnTo>
                      <a:pt x="5345" y="3135"/>
                    </a:lnTo>
                    <a:lnTo>
                      <a:pt x="5355" y="3091"/>
                    </a:lnTo>
                    <a:lnTo>
                      <a:pt x="5364" y="3049"/>
                    </a:lnTo>
                    <a:lnTo>
                      <a:pt x="5372" y="3006"/>
                    </a:lnTo>
                    <a:lnTo>
                      <a:pt x="5380" y="2962"/>
                    </a:lnTo>
                    <a:lnTo>
                      <a:pt x="5386" y="2919"/>
                    </a:lnTo>
                    <a:lnTo>
                      <a:pt x="5393" y="2874"/>
                    </a:lnTo>
                    <a:lnTo>
                      <a:pt x="5398" y="2830"/>
                    </a:lnTo>
                    <a:lnTo>
                      <a:pt x="5404" y="2786"/>
                    </a:lnTo>
                    <a:lnTo>
                      <a:pt x="5407" y="2741"/>
                    </a:lnTo>
                    <a:lnTo>
                      <a:pt x="5411" y="2696"/>
                    </a:lnTo>
                    <a:lnTo>
                      <a:pt x="5413" y="2652"/>
                    </a:lnTo>
                    <a:lnTo>
                      <a:pt x="5415" y="2606"/>
                    </a:lnTo>
                    <a:lnTo>
                      <a:pt x="5417" y="2561"/>
                    </a:lnTo>
                    <a:lnTo>
                      <a:pt x="5417" y="2516"/>
                    </a:lnTo>
                    <a:close/>
                    <a:moveTo>
                      <a:pt x="1658" y="19"/>
                    </a:moveTo>
                    <a:lnTo>
                      <a:pt x="1568" y="59"/>
                    </a:lnTo>
                    <a:lnTo>
                      <a:pt x="1479" y="102"/>
                    </a:lnTo>
                    <a:lnTo>
                      <a:pt x="1393" y="148"/>
                    </a:lnTo>
                    <a:lnTo>
                      <a:pt x="1307" y="198"/>
                    </a:lnTo>
                    <a:lnTo>
                      <a:pt x="1224" y="250"/>
                    </a:lnTo>
                    <a:lnTo>
                      <a:pt x="1143" y="306"/>
                    </a:lnTo>
                    <a:lnTo>
                      <a:pt x="1065" y="363"/>
                    </a:lnTo>
                    <a:lnTo>
                      <a:pt x="989" y="424"/>
                    </a:lnTo>
                    <a:lnTo>
                      <a:pt x="914" y="487"/>
                    </a:lnTo>
                    <a:lnTo>
                      <a:pt x="842" y="553"/>
                    </a:lnTo>
                    <a:lnTo>
                      <a:pt x="772" y="622"/>
                    </a:lnTo>
                    <a:lnTo>
                      <a:pt x="705" y="693"/>
                    </a:lnTo>
                    <a:lnTo>
                      <a:pt x="641" y="766"/>
                    </a:lnTo>
                    <a:lnTo>
                      <a:pt x="579" y="842"/>
                    </a:lnTo>
                    <a:lnTo>
                      <a:pt x="520" y="919"/>
                    </a:lnTo>
                    <a:lnTo>
                      <a:pt x="463" y="999"/>
                    </a:lnTo>
                    <a:lnTo>
                      <a:pt x="410" y="1083"/>
                    </a:lnTo>
                    <a:lnTo>
                      <a:pt x="360" y="1166"/>
                    </a:lnTo>
                    <a:lnTo>
                      <a:pt x="312" y="1252"/>
                    </a:lnTo>
                    <a:lnTo>
                      <a:pt x="268" y="1341"/>
                    </a:lnTo>
                    <a:lnTo>
                      <a:pt x="227" y="1430"/>
                    </a:lnTo>
                    <a:lnTo>
                      <a:pt x="188" y="1521"/>
                    </a:lnTo>
                    <a:lnTo>
                      <a:pt x="153" y="1615"/>
                    </a:lnTo>
                    <a:lnTo>
                      <a:pt x="122" y="1709"/>
                    </a:lnTo>
                    <a:lnTo>
                      <a:pt x="94" y="1805"/>
                    </a:lnTo>
                    <a:lnTo>
                      <a:pt x="69" y="1903"/>
                    </a:lnTo>
                    <a:lnTo>
                      <a:pt x="48" y="2003"/>
                    </a:lnTo>
                    <a:lnTo>
                      <a:pt x="31" y="2102"/>
                    </a:lnTo>
                    <a:lnTo>
                      <a:pt x="17" y="2205"/>
                    </a:lnTo>
                    <a:lnTo>
                      <a:pt x="7" y="2307"/>
                    </a:lnTo>
                    <a:lnTo>
                      <a:pt x="2" y="2411"/>
                    </a:lnTo>
                    <a:lnTo>
                      <a:pt x="0" y="2516"/>
                    </a:lnTo>
                    <a:lnTo>
                      <a:pt x="2" y="2620"/>
                    </a:lnTo>
                    <a:lnTo>
                      <a:pt x="7" y="2724"/>
                    </a:lnTo>
                    <a:lnTo>
                      <a:pt x="17" y="2827"/>
                    </a:lnTo>
                    <a:lnTo>
                      <a:pt x="31" y="2928"/>
                    </a:lnTo>
                    <a:lnTo>
                      <a:pt x="48" y="3029"/>
                    </a:lnTo>
                    <a:lnTo>
                      <a:pt x="69" y="3128"/>
                    </a:lnTo>
                    <a:lnTo>
                      <a:pt x="94" y="3225"/>
                    </a:lnTo>
                    <a:lnTo>
                      <a:pt x="122" y="3321"/>
                    </a:lnTo>
                    <a:lnTo>
                      <a:pt x="153" y="3416"/>
                    </a:lnTo>
                    <a:lnTo>
                      <a:pt x="188" y="3509"/>
                    </a:lnTo>
                    <a:lnTo>
                      <a:pt x="227" y="3601"/>
                    </a:lnTo>
                    <a:lnTo>
                      <a:pt x="268" y="3691"/>
                    </a:lnTo>
                    <a:lnTo>
                      <a:pt x="312" y="3778"/>
                    </a:lnTo>
                    <a:lnTo>
                      <a:pt x="360" y="3865"/>
                    </a:lnTo>
                    <a:lnTo>
                      <a:pt x="410" y="3949"/>
                    </a:lnTo>
                    <a:lnTo>
                      <a:pt x="463" y="4031"/>
                    </a:lnTo>
                    <a:lnTo>
                      <a:pt x="520" y="4111"/>
                    </a:lnTo>
                    <a:lnTo>
                      <a:pt x="579" y="4189"/>
                    </a:lnTo>
                    <a:lnTo>
                      <a:pt x="641" y="4264"/>
                    </a:lnTo>
                    <a:lnTo>
                      <a:pt x="705" y="4338"/>
                    </a:lnTo>
                    <a:lnTo>
                      <a:pt x="772" y="4409"/>
                    </a:lnTo>
                    <a:lnTo>
                      <a:pt x="842" y="4477"/>
                    </a:lnTo>
                    <a:lnTo>
                      <a:pt x="914" y="4543"/>
                    </a:lnTo>
                    <a:lnTo>
                      <a:pt x="989" y="4607"/>
                    </a:lnTo>
                    <a:lnTo>
                      <a:pt x="1065" y="4667"/>
                    </a:lnTo>
                    <a:lnTo>
                      <a:pt x="1143" y="4725"/>
                    </a:lnTo>
                    <a:lnTo>
                      <a:pt x="1224" y="4780"/>
                    </a:lnTo>
                    <a:lnTo>
                      <a:pt x="1307" y="4832"/>
                    </a:lnTo>
                    <a:lnTo>
                      <a:pt x="1393" y="4882"/>
                    </a:lnTo>
                    <a:lnTo>
                      <a:pt x="1479" y="4928"/>
                    </a:lnTo>
                    <a:lnTo>
                      <a:pt x="1568" y="4972"/>
                    </a:lnTo>
                    <a:lnTo>
                      <a:pt x="1658" y="5012"/>
                    </a:lnTo>
                    <a:lnTo>
                      <a:pt x="1679" y="5014"/>
                    </a:lnTo>
                    <a:lnTo>
                      <a:pt x="1700" y="5017"/>
                    </a:lnTo>
                    <a:lnTo>
                      <a:pt x="1720" y="5019"/>
                    </a:lnTo>
                    <a:lnTo>
                      <a:pt x="1741" y="5021"/>
                    </a:lnTo>
                    <a:lnTo>
                      <a:pt x="1762" y="5023"/>
                    </a:lnTo>
                    <a:lnTo>
                      <a:pt x="1783" y="5027"/>
                    </a:lnTo>
                    <a:lnTo>
                      <a:pt x="1803" y="5029"/>
                    </a:lnTo>
                    <a:lnTo>
                      <a:pt x="1824" y="5031"/>
                    </a:lnTo>
                    <a:lnTo>
                      <a:pt x="1728" y="4994"/>
                    </a:lnTo>
                    <a:lnTo>
                      <a:pt x="1633" y="4955"/>
                    </a:lnTo>
                    <a:lnTo>
                      <a:pt x="1540" y="4912"/>
                    </a:lnTo>
                    <a:lnTo>
                      <a:pt x="1449" y="4866"/>
                    </a:lnTo>
                    <a:lnTo>
                      <a:pt x="1360" y="4816"/>
                    </a:lnTo>
                    <a:lnTo>
                      <a:pt x="1274" y="4763"/>
                    </a:lnTo>
                    <a:lnTo>
                      <a:pt x="1189" y="4707"/>
                    </a:lnTo>
                    <a:lnTo>
                      <a:pt x="1107" y="4648"/>
                    </a:lnTo>
                    <a:lnTo>
                      <a:pt x="1027" y="4585"/>
                    </a:lnTo>
                    <a:lnTo>
                      <a:pt x="951" y="4520"/>
                    </a:lnTo>
                    <a:lnTo>
                      <a:pt x="876" y="4452"/>
                    </a:lnTo>
                    <a:lnTo>
                      <a:pt x="804" y="4381"/>
                    </a:lnTo>
                    <a:lnTo>
                      <a:pt x="735" y="4307"/>
                    </a:lnTo>
                    <a:lnTo>
                      <a:pt x="668" y="4232"/>
                    </a:lnTo>
                    <a:lnTo>
                      <a:pt x="604" y="4153"/>
                    </a:lnTo>
                    <a:lnTo>
                      <a:pt x="543" y="4072"/>
                    </a:lnTo>
                    <a:lnTo>
                      <a:pt x="486" y="3989"/>
                    </a:lnTo>
                    <a:lnTo>
                      <a:pt x="431" y="3903"/>
                    </a:lnTo>
                    <a:lnTo>
                      <a:pt x="380" y="3816"/>
                    </a:lnTo>
                    <a:lnTo>
                      <a:pt x="332" y="3726"/>
                    </a:lnTo>
                    <a:lnTo>
                      <a:pt x="287" y="3635"/>
                    </a:lnTo>
                    <a:lnTo>
                      <a:pt x="246" y="3541"/>
                    </a:lnTo>
                    <a:lnTo>
                      <a:pt x="208" y="3444"/>
                    </a:lnTo>
                    <a:lnTo>
                      <a:pt x="174" y="3347"/>
                    </a:lnTo>
                    <a:lnTo>
                      <a:pt x="144" y="3248"/>
                    </a:lnTo>
                    <a:lnTo>
                      <a:pt x="117" y="3147"/>
                    </a:lnTo>
                    <a:lnTo>
                      <a:pt x="94" y="3046"/>
                    </a:lnTo>
                    <a:lnTo>
                      <a:pt x="75" y="2942"/>
                    </a:lnTo>
                    <a:lnTo>
                      <a:pt x="60" y="2838"/>
                    </a:lnTo>
                    <a:lnTo>
                      <a:pt x="50" y="2732"/>
                    </a:lnTo>
                    <a:lnTo>
                      <a:pt x="43" y="2624"/>
                    </a:lnTo>
                    <a:lnTo>
                      <a:pt x="41" y="2516"/>
                    </a:lnTo>
                    <a:lnTo>
                      <a:pt x="43" y="2407"/>
                    </a:lnTo>
                    <a:lnTo>
                      <a:pt x="50" y="2300"/>
                    </a:lnTo>
                    <a:lnTo>
                      <a:pt x="60" y="2194"/>
                    </a:lnTo>
                    <a:lnTo>
                      <a:pt x="75" y="2089"/>
                    </a:lnTo>
                    <a:lnTo>
                      <a:pt x="94" y="1985"/>
                    </a:lnTo>
                    <a:lnTo>
                      <a:pt x="117" y="1883"/>
                    </a:lnTo>
                    <a:lnTo>
                      <a:pt x="144" y="1782"/>
                    </a:lnTo>
                    <a:lnTo>
                      <a:pt x="174" y="1683"/>
                    </a:lnTo>
                    <a:lnTo>
                      <a:pt x="208" y="1586"/>
                    </a:lnTo>
                    <a:lnTo>
                      <a:pt x="246" y="1491"/>
                    </a:lnTo>
                    <a:lnTo>
                      <a:pt x="287" y="1397"/>
                    </a:lnTo>
                    <a:lnTo>
                      <a:pt x="332" y="1305"/>
                    </a:lnTo>
                    <a:lnTo>
                      <a:pt x="380" y="1215"/>
                    </a:lnTo>
                    <a:lnTo>
                      <a:pt x="431" y="1128"/>
                    </a:lnTo>
                    <a:lnTo>
                      <a:pt x="486" y="1041"/>
                    </a:lnTo>
                    <a:lnTo>
                      <a:pt x="543" y="958"/>
                    </a:lnTo>
                    <a:lnTo>
                      <a:pt x="604" y="877"/>
                    </a:lnTo>
                    <a:lnTo>
                      <a:pt x="668" y="800"/>
                    </a:lnTo>
                    <a:lnTo>
                      <a:pt x="735" y="723"/>
                    </a:lnTo>
                    <a:lnTo>
                      <a:pt x="804" y="649"/>
                    </a:lnTo>
                    <a:lnTo>
                      <a:pt x="876" y="579"/>
                    </a:lnTo>
                    <a:lnTo>
                      <a:pt x="951" y="511"/>
                    </a:lnTo>
                    <a:lnTo>
                      <a:pt x="1027" y="445"/>
                    </a:lnTo>
                    <a:lnTo>
                      <a:pt x="1107" y="384"/>
                    </a:lnTo>
                    <a:lnTo>
                      <a:pt x="1189" y="324"/>
                    </a:lnTo>
                    <a:lnTo>
                      <a:pt x="1274" y="268"/>
                    </a:lnTo>
                    <a:lnTo>
                      <a:pt x="1360" y="215"/>
                    </a:lnTo>
                    <a:lnTo>
                      <a:pt x="1449" y="166"/>
                    </a:lnTo>
                    <a:lnTo>
                      <a:pt x="1540" y="119"/>
                    </a:lnTo>
                    <a:lnTo>
                      <a:pt x="1633" y="76"/>
                    </a:lnTo>
                    <a:lnTo>
                      <a:pt x="1728" y="36"/>
                    </a:lnTo>
                    <a:lnTo>
                      <a:pt x="1824" y="0"/>
                    </a:lnTo>
                    <a:lnTo>
                      <a:pt x="1803" y="3"/>
                    </a:lnTo>
                    <a:lnTo>
                      <a:pt x="1783" y="5"/>
                    </a:lnTo>
                    <a:lnTo>
                      <a:pt x="1762" y="7"/>
                    </a:lnTo>
                    <a:lnTo>
                      <a:pt x="1741" y="9"/>
                    </a:lnTo>
                    <a:lnTo>
                      <a:pt x="1720" y="11"/>
                    </a:lnTo>
                    <a:lnTo>
                      <a:pt x="1700" y="14"/>
                    </a:lnTo>
                    <a:lnTo>
                      <a:pt x="1679" y="17"/>
                    </a:lnTo>
                    <a:lnTo>
                      <a:pt x="1658" y="19"/>
                    </a:lnTo>
                    <a:close/>
                    <a:moveTo>
                      <a:pt x="3775" y="5004"/>
                    </a:moveTo>
                    <a:lnTo>
                      <a:pt x="3790" y="4998"/>
                    </a:lnTo>
                    <a:lnTo>
                      <a:pt x="3805" y="4991"/>
                    </a:lnTo>
                    <a:lnTo>
                      <a:pt x="3821" y="4985"/>
                    </a:lnTo>
                    <a:lnTo>
                      <a:pt x="3836" y="4977"/>
                    </a:lnTo>
                    <a:lnTo>
                      <a:pt x="3851" y="4971"/>
                    </a:lnTo>
                    <a:lnTo>
                      <a:pt x="3866" y="4963"/>
                    </a:lnTo>
                    <a:lnTo>
                      <a:pt x="3881" y="4956"/>
                    </a:lnTo>
                    <a:lnTo>
                      <a:pt x="3895" y="4949"/>
                    </a:lnTo>
                    <a:lnTo>
                      <a:pt x="3878" y="4911"/>
                    </a:lnTo>
                    <a:lnTo>
                      <a:pt x="3845" y="4927"/>
                    </a:lnTo>
                    <a:lnTo>
                      <a:pt x="3813" y="4941"/>
                    </a:lnTo>
                    <a:lnTo>
                      <a:pt x="3781" y="4956"/>
                    </a:lnTo>
                    <a:lnTo>
                      <a:pt x="3748" y="4971"/>
                    </a:lnTo>
                    <a:lnTo>
                      <a:pt x="3716" y="4985"/>
                    </a:lnTo>
                    <a:lnTo>
                      <a:pt x="3682" y="4998"/>
                    </a:lnTo>
                    <a:lnTo>
                      <a:pt x="3649" y="5010"/>
                    </a:lnTo>
                    <a:lnTo>
                      <a:pt x="3615" y="5022"/>
                    </a:lnTo>
                    <a:lnTo>
                      <a:pt x="3636" y="5020"/>
                    </a:lnTo>
                    <a:lnTo>
                      <a:pt x="3655" y="5018"/>
                    </a:lnTo>
                    <a:lnTo>
                      <a:pt x="3676" y="5016"/>
                    </a:lnTo>
                    <a:lnTo>
                      <a:pt x="3695" y="5014"/>
                    </a:lnTo>
                    <a:lnTo>
                      <a:pt x="3716" y="5012"/>
                    </a:lnTo>
                    <a:lnTo>
                      <a:pt x="3735" y="5009"/>
                    </a:lnTo>
                    <a:lnTo>
                      <a:pt x="3755" y="5007"/>
                    </a:lnTo>
                    <a:lnTo>
                      <a:pt x="3775" y="5004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506760" y="1995480"/>
                <a:ext cx="2133720" cy="2003400"/>
              </a:xfrm>
              <a:custGeom>
                <a:avLst/>
                <a:gdLst/>
                <a:ahLst/>
                <a:rect l="l" t="t" r="r" b="b"/>
                <a:pathLst>
                  <a:path w="5376" h="5049">
                    <a:moveTo>
                      <a:pt x="5376" y="2525"/>
                    </a:moveTo>
                    <a:lnTo>
                      <a:pt x="5374" y="2418"/>
                    </a:lnTo>
                    <a:lnTo>
                      <a:pt x="5367" y="2312"/>
                    </a:lnTo>
                    <a:lnTo>
                      <a:pt x="5358" y="2208"/>
                    </a:lnTo>
                    <a:lnTo>
                      <a:pt x="5344" y="2105"/>
                    </a:lnTo>
                    <a:lnTo>
                      <a:pt x="5325" y="2003"/>
                    </a:lnTo>
                    <a:lnTo>
                      <a:pt x="5304" y="1903"/>
                    </a:lnTo>
                    <a:lnTo>
                      <a:pt x="5278" y="1803"/>
                    </a:lnTo>
                    <a:lnTo>
                      <a:pt x="5249" y="1706"/>
                    </a:lnTo>
                    <a:lnTo>
                      <a:pt x="5216" y="1610"/>
                    </a:lnTo>
                    <a:lnTo>
                      <a:pt x="5179" y="1516"/>
                    </a:lnTo>
                    <a:lnTo>
                      <a:pt x="5140" y="1423"/>
                    </a:lnTo>
                    <a:lnTo>
                      <a:pt x="5097" y="1332"/>
                    </a:lnTo>
                    <a:lnTo>
                      <a:pt x="5051" y="1244"/>
                    </a:lnTo>
                    <a:lnTo>
                      <a:pt x="5002" y="1156"/>
                    </a:lnTo>
                    <a:lnTo>
                      <a:pt x="4949" y="1072"/>
                    </a:lnTo>
                    <a:lnTo>
                      <a:pt x="4894" y="989"/>
                    </a:lnTo>
                    <a:lnTo>
                      <a:pt x="4836" y="909"/>
                    </a:lnTo>
                    <a:lnTo>
                      <a:pt x="4774" y="830"/>
                    </a:lnTo>
                    <a:lnTo>
                      <a:pt x="4710" y="755"/>
                    </a:lnTo>
                    <a:lnTo>
                      <a:pt x="4643" y="681"/>
                    </a:lnTo>
                    <a:lnTo>
                      <a:pt x="4574" y="611"/>
                    </a:lnTo>
                    <a:lnTo>
                      <a:pt x="4502" y="542"/>
                    </a:lnTo>
                    <a:lnTo>
                      <a:pt x="4427" y="477"/>
                    </a:lnTo>
                    <a:lnTo>
                      <a:pt x="4351" y="413"/>
                    </a:lnTo>
                    <a:lnTo>
                      <a:pt x="4272" y="354"/>
                    </a:lnTo>
                    <a:lnTo>
                      <a:pt x="4190" y="297"/>
                    </a:lnTo>
                    <a:lnTo>
                      <a:pt x="4106" y="243"/>
                    </a:lnTo>
                    <a:lnTo>
                      <a:pt x="4021" y="191"/>
                    </a:lnTo>
                    <a:lnTo>
                      <a:pt x="3932" y="143"/>
                    </a:lnTo>
                    <a:lnTo>
                      <a:pt x="3843" y="98"/>
                    </a:lnTo>
                    <a:lnTo>
                      <a:pt x="3752" y="57"/>
                    </a:lnTo>
                    <a:lnTo>
                      <a:pt x="3658" y="19"/>
                    </a:lnTo>
                    <a:lnTo>
                      <a:pt x="3636" y="16"/>
                    </a:lnTo>
                    <a:lnTo>
                      <a:pt x="3614" y="14"/>
                    </a:lnTo>
                    <a:lnTo>
                      <a:pt x="3591" y="12"/>
                    </a:lnTo>
                    <a:lnTo>
                      <a:pt x="3568" y="8"/>
                    </a:lnTo>
                    <a:lnTo>
                      <a:pt x="3547" y="6"/>
                    </a:lnTo>
                    <a:lnTo>
                      <a:pt x="3524" y="4"/>
                    </a:lnTo>
                    <a:lnTo>
                      <a:pt x="3501" y="2"/>
                    </a:lnTo>
                    <a:lnTo>
                      <a:pt x="3479" y="0"/>
                    </a:lnTo>
                    <a:lnTo>
                      <a:pt x="3578" y="33"/>
                    </a:lnTo>
                    <a:lnTo>
                      <a:pt x="3676" y="71"/>
                    </a:lnTo>
                    <a:lnTo>
                      <a:pt x="3773" y="112"/>
                    </a:lnTo>
                    <a:lnTo>
                      <a:pt x="3867" y="156"/>
                    </a:lnTo>
                    <a:lnTo>
                      <a:pt x="3959" y="204"/>
                    </a:lnTo>
                    <a:lnTo>
                      <a:pt x="4049" y="256"/>
                    </a:lnTo>
                    <a:lnTo>
                      <a:pt x="4137" y="311"/>
                    </a:lnTo>
                    <a:lnTo>
                      <a:pt x="4222" y="369"/>
                    </a:lnTo>
                    <a:lnTo>
                      <a:pt x="4305" y="431"/>
                    </a:lnTo>
                    <a:lnTo>
                      <a:pt x="4385" y="495"/>
                    </a:lnTo>
                    <a:lnTo>
                      <a:pt x="4463" y="563"/>
                    </a:lnTo>
                    <a:lnTo>
                      <a:pt x="4539" y="634"/>
                    </a:lnTo>
                    <a:lnTo>
                      <a:pt x="4610" y="707"/>
                    </a:lnTo>
                    <a:lnTo>
                      <a:pt x="4680" y="784"/>
                    </a:lnTo>
                    <a:lnTo>
                      <a:pt x="4746" y="863"/>
                    </a:lnTo>
                    <a:lnTo>
                      <a:pt x="4810" y="944"/>
                    </a:lnTo>
                    <a:lnTo>
                      <a:pt x="4869" y="1028"/>
                    </a:lnTo>
                    <a:lnTo>
                      <a:pt x="4927" y="1114"/>
                    </a:lnTo>
                    <a:lnTo>
                      <a:pt x="4981" y="1203"/>
                    </a:lnTo>
                    <a:lnTo>
                      <a:pt x="5030" y="1293"/>
                    </a:lnTo>
                    <a:lnTo>
                      <a:pt x="5077" y="1386"/>
                    </a:lnTo>
                    <a:lnTo>
                      <a:pt x="5120" y="1481"/>
                    </a:lnTo>
                    <a:lnTo>
                      <a:pt x="5160" y="1579"/>
                    </a:lnTo>
                    <a:lnTo>
                      <a:pt x="5196" y="1677"/>
                    </a:lnTo>
                    <a:lnTo>
                      <a:pt x="5227" y="1777"/>
                    </a:lnTo>
                    <a:lnTo>
                      <a:pt x="5255" y="1880"/>
                    </a:lnTo>
                    <a:lnTo>
                      <a:pt x="5279" y="1984"/>
                    </a:lnTo>
                    <a:lnTo>
                      <a:pt x="5298" y="2089"/>
                    </a:lnTo>
                    <a:lnTo>
                      <a:pt x="5314" y="2196"/>
                    </a:lnTo>
                    <a:lnTo>
                      <a:pt x="5325" y="2304"/>
                    </a:lnTo>
                    <a:lnTo>
                      <a:pt x="5332" y="2413"/>
                    </a:lnTo>
                    <a:lnTo>
                      <a:pt x="5334" y="2525"/>
                    </a:lnTo>
                    <a:lnTo>
                      <a:pt x="5334" y="2569"/>
                    </a:lnTo>
                    <a:lnTo>
                      <a:pt x="5333" y="2613"/>
                    </a:lnTo>
                    <a:lnTo>
                      <a:pt x="5331" y="2658"/>
                    </a:lnTo>
                    <a:lnTo>
                      <a:pt x="5328" y="2702"/>
                    </a:lnTo>
                    <a:lnTo>
                      <a:pt x="5325" y="2745"/>
                    </a:lnTo>
                    <a:lnTo>
                      <a:pt x="5321" y="2788"/>
                    </a:lnTo>
                    <a:lnTo>
                      <a:pt x="5317" y="2832"/>
                    </a:lnTo>
                    <a:lnTo>
                      <a:pt x="5311" y="2876"/>
                    </a:lnTo>
                    <a:lnTo>
                      <a:pt x="5305" y="2918"/>
                    </a:lnTo>
                    <a:lnTo>
                      <a:pt x="5298" y="2961"/>
                    </a:lnTo>
                    <a:lnTo>
                      <a:pt x="5291" y="3003"/>
                    </a:lnTo>
                    <a:lnTo>
                      <a:pt x="5283" y="3045"/>
                    </a:lnTo>
                    <a:lnTo>
                      <a:pt x="5273" y="3087"/>
                    </a:lnTo>
                    <a:lnTo>
                      <a:pt x="5265" y="3129"/>
                    </a:lnTo>
                    <a:lnTo>
                      <a:pt x="5254" y="3171"/>
                    </a:lnTo>
                    <a:lnTo>
                      <a:pt x="5243" y="3212"/>
                    </a:lnTo>
                    <a:lnTo>
                      <a:pt x="5284" y="3222"/>
                    </a:lnTo>
                    <a:lnTo>
                      <a:pt x="5295" y="3181"/>
                    </a:lnTo>
                    <a:lnTo>
                      <a:pt x="5305" y="3139"/>
                    </a:lnTo>
                    <a:lnTo>
                      <a:pt x="5314" y="3096"/>
                    </a:lnTo>
                    <a:lnTo>
                      <a:pt x="5323" y="3054"/>
                    </a:lnTo>
                    <a:lnTo>
                      <a:pt x="5332" y="3011"/>
                    </a:lnTo>
                    <a:lnTo>
                      <a:pt x="5339" y="2967"/>
                    </a:lnTo>
                    <a:lnTo>
                      <a:pt x="5346" y="2924"/>
                    </a:lnTo>
                    <a:lnTo>
                      <a:pt x="5352" y="2881"/>
                    </a:lnTo>
                    <a:lnTo>
                      <a:pt x="5358" y="2837"/>
                    </a:lnTo>
                    <a:lnTo>
                      <a:pt x="5362" y="2793"/>
                    </a:lnTo>
                    <a:lnTo>
                      <a:pt x="5366" y="2748"/>
                    </a:lnTo>
                    <a:lnTo>
                      <a:pt x="5370" y="2704"/>
                    </a:lnTo>
                    <a:lnTo>
                      <a:pt x="5373" y="2660"/>
                    </a:lnTo>
                    <a:lnTo>
                      <a:pt x="5374" y="2614"/>
                    </a:lnTo>
                    <a:lnTo>
                      <a:pt x="5375" y="2570"/>
                    </a:lnTo>
                    <a:lnTo>
                      <a:pt x="5376" y="2525"/>
                    </a:lnTo>
                    <a:close/>
                    <a:moveTo>
                      <a:pt x="1718" y="19"/>
                    </a:moveTo>
                    <a:lnTo>
                      <a:pt x="1624" y="57"/>
                    </a:lnTo>
                    <a:lnTo>
                      <a:pt x="1534" y="98"/>
                    </a:lnTo>
                    <a:lnTo>
                      <a:pt x="1444" y="143"/>
                    </a:lnTo>
                    <a:lnTo>
                      <a:pt x="1355" y="191"/>
                    </a:lnTo>
                    <a:lnTo>
                      <a:pt x="1270" y="243"/>
                    </a:lnTo>
                    <a:lnTo>
                      <a:pt x="1187" y="297"/>
                    </a:lnTo>
                    <a:lnTo>
                      <a:pt x="1105" y="354"/>
                    </a:lnTo>
                    <a:lnTo>
                      <a:pt x="1026" y="413"/>
                    </a:lnTo>
                    <a:lnTo>
                      <a:pt x="949" y="477"/>
                    </a:lnTo>
                    <a:lnTo>
                      <a:pt x="875" y="542"/>
                    </a:lnTo>
                    <a:lnTo>
                      <a:pt x="802" y="611"/>
                    </a:lnTo>
                    <a:lnTo>
                      <a:pt x="733" y="681"/>
                    </a:lnTo>
                    <a:lnTo>
                      <a:pt x="666" y="755"/>
                    </a:lnTo>
                    <a:lnTo>
                      <a:pt x="602" y="830"/>
                    </a:lnTo>
                    <a:lnTo>
                      <a:pt x="541" y="909"/>
                    </a:lnTo>
                    <a:lnTo>
                      <a:pt x="482" y="989"/>
                    </a:lnTo>
                    <a:lnTo>
                      <a:pt x="427" y="1072"/>
                    </a:lnTo>
                    <a:lnTo>
                      <a:pt x="374" y="1156"/>
                    </a:lnTo>
                    <a:lnTo>
                      <a:pt x="326" y="1244"/>
                    </a:lnTo>
                    <a:lnTo>
                      <a:pt x="279" y="1332"/>
                    </a:lnTo>
                    <a:lnTo>
                      <a:pt x="236" y="1423"/>
                    </a:lnTo>
                    <a:lnTo>
                      <a:pt x="197" y="1516"/>
                    </a:lnTo>
                    <a:lnTo>
                      <a:pt x="160" y="1610"/>
                    </a:lnTo>
                    <a:lnTo>
                      <a:pt x="128" y="1706"/>
                    </a:lnTo>
                    <a:lnTo>
                      <a:pt x="99" y="1803"/>
                    </a:lnTo>
                    <a:lnTo>
                      <a:pt x="73" y="1903"/>
                    </a:lnTo>
                    <a:lnTo>
                      <a:pt x="51" y="2003"/>
                    </a:lnTo>
                    <a:lnTo>
                      <a:pt x="33" y="2105"/>
                    </a:lnTo>
                    <a:lnTo>
                      <a:pt x="19" y="2208"/>
                    </a:lnTo>
                    <a:lnTo>
                      <a:pt x="9" y="2312"/>
                    </a:lnTo>
                    <a:lnTo>
                      <a:pt x="3" y="2418"/>
                    </a:lnTo>
                    <a:lnTo>
                      <a:pt x="0" y="2525"/>
                    </a:lnTo>
                    <a:lnTo>
                      <a:pt x="3" y="2631"/>
                    </a:lnTo>
                    <a:lnTo>
                      <a:pt x="9" y="2736"/>
                    </a:lnTo>
                    <a:lnTo>
                      <a:pt x="19" y="2841"/>
                    </a:lnTo>
                    <a:lnTo>
                      <a:pt x="33" y="2944"/>
                    </a:lnTo>
                    <a:lnTo>
                      <a:pt x="51" y="3045"/>
                    </a:lnTo>
                    <a:lnTo>
                      <a:pt x="73" y="3147"/>
                    </a:lnTo>
                    <a:lnTo>
                      <a:pt x="99" y="3245"/>
                    </a:lnTo>
                    <a:lnTo>
                      <a:pt x="128" y="3343"/>
                    </a:lnTo>
                    <a:lnTo>
                      <a:pt x="160" y="3438"/>
                    </a:lnTo>
                    <a:lnTo>
                      <a:pt x="197" y="3533"/>
                    </a:lnTo>
                    <a:lnTo>
                      <a:pt x="236" y="3625"/>
                    </a:lnTo>
                    <a:lnTo>
                      <a:pt x="279" y="3716"/>
                    </a:lnTo>
                    <a:lnTo>
                      <a:pt x="326" y="3806"/>
                    </a:lnTo>
                    <a:lnTo>
                      <a:pt x="374" y="3892"/>
                    </a:lnTo>
                    <a:lnTo>
                      <a:pt x="427" y="3977"/>
                    </a:lnTo>
                    <a:lnTo>
                      <a:pt x="482" y="4059"/>
                    </a:lnTo>
                    <a:lnTo>
                      <a:pt x="541" y="4140"/>
                    </a:lnTo>
                    <a:lnTo>
                      <a:pt x="602" y="4218"/>
                    </a:lnTo>
                    <a:lnTo>
                      <a:pt x="666" y="4294"/>
                    </a:lnTo>
                    <a:lnTo>
                      <a:pt x="733" y="4367"/>
                    </a:lnTo>
                    <a:lnTo>
                      <a:pt x="802" y="4438"/>
                    </a:lnTo>
                    <a:lnTo>
                      <a:pt x="875" y="4506"/>
                    </a:lnTo>
                    <a:lnTo>
                      <a:pt x="949" y="4572"/>
                    </a:lnTo>
                    <a:lnTo>
                      <a:pt x="1026" y="4635"/>
                    </a:lnTo>
                    <a:lnTo>
                      <a:pt x="1105" y="4695"/>
                    </a:lnTo>
                    <a:lnTo>
                      <a:pt x="1187" y="4753"/>
                    </a:lnTo>
                    <a:lnTo>
                      <a:pt x="1270" y="4807"/>
                    </a:lnTo>
                    <a:lnTo>
                      <a:pt x="1355" y="4857"/>
                    </a:lnTo>
                    <a:lnTo>
                      <a:pt x="1444" y="4906"/>
                    </a:lnTo>
                    <a:lnTo>
                      <a:pt x="1534" y="4950"/>
                    </a:lnTo>
                    <a:lnTo>
                      <a:pt x="1624" y="4992"/>
                    </a:lnTo>
                    <a:lnTo>
                      <a:pt x="1718" y="5030"/>
                    </a:lnTo>
                    <a:lnTo>
                      <a:pt x="1740" y="5032"/>
                    </a:lnTo>
                    <a:lnTo>
                      <a:pt x="1763" y="5036"/>
                    </a:lnTo>
                    <a:lnTo>
                      <a:pt x="1785" y="5038"/>
                    </a:lnTo>
                    <a:lnTo>
                      <a:pt x="1808" y="5040"/>
                    </a:lnTo>
                    <a:lnTo>
                      <a:pt x="1830" y="5042"/>
                    </a:lnTo>
                    <a:lnTo>
                      <a:pt x="1852" y="5044"/>
                    </a:lnTo>
                    <a:lnTo>
                      <a:pt x="1875" y="5046"/>
                    </a:lnTo>
                    <a:lnTo>
                      <a:pt x="1898" y="5049"/>
                    </a:lnTo>
                    <a:lnTo>
                      <a:pt x="1798" y="5015"/>
                    </a:lnTo>
                    <a:lnTo>
                      <a:pt x="1700" y="4978"/>
                    </a:lnTo>
                    <a:lnTo>
                      <a:pt x="1604" y="4937"/>
                    </a:lnTo>
                    <a:lnTo>
                      <a:pt x="1510" y="4893"/>
                    </a:lnTo>
                    <a:lnTo>
                      <a:pt x="1417" y="4845"/>
                    </a:lnTo>
                    <a:lnTo>
                      <a:pt x="1327" y="4793"/>
                    </a:lnTo>
                    <a:lnTo>
                      <a:pt x="1240" y="4738"/>
                    </a:lnTo>
                    <a:lnTo>
                      <a:pt x="1154" y="4679"/>
                    </a:lnTo>
                    <a:lnTo>
                      <a:pt x="1071" y="4618"/>
                    </a:lnTo>
                    <a:lnTo>
                      <a:pt x="991" y="4553"/>
                    </a:lnTo>
                    <a:lnTo>
                      <a:pt x="913" y="4486"/>
                    </a:lnTo>
                    <a:lnTo>
                      <a:pt x="838" y="4415"/>
                    </a:lnTo>
                    <a:lnTo>
                      <a:pt x="766" y="4341"/>
                    </a:lnTo>
                    <a:lnTo>
                      <a:pt x="696" y="4266"/>
                    </a:lnTo>
                    <a:lnTo>
                      <a:pt x="630" y="4187"/>
                    </a:lnTo>
                    <a:lnTo>
                      <a:pt x="567" y="4106"/>
                    </a:lnTo>
                    <a:lnTo>
                      <a:pt x="507" y="4022"/>
                    </a:lnTo>
                    <a:lnTo>
                      <a:pt x="450" y="3935"/>
                    </a:lnTo>
                    <a:lnTo>
                      <a:pt x="396" y="3847"/>
                    </a:lnTo>
                    <a:lnTo>
                      <a:pt x="346" y="3756"/>
                    </a:lnTo>
                    <a:lnTo>
                      <a:pt x="300" y="3663"/>
                    </a:lnTo>
                    <a:lnTo>
                      <a:pt x="256" y="3568"/>
                    </a:lnTo>
                    <a:lnTo>
                      <a:pt x="216" y="3471"/>
                    </a:lnTo>
                    <a:lnTo>
                      <a:pt x="181" y="3371"/>
                    </a:lnTo>
                    <a:lnTo>
                      <a:pt x="149" y="3271"/>
                    </a:lnTo>
                    <a:lnTo>
                      <a:pt x="121" y="3168"/>
                    </a:lnTo>
                    <a:lnTo>
                      <a:pt x="98" y="3065"/>
                    </a:lnTo>
                    <a:lnTo>
                      <a:pt x="78" y="2960"/>
                    </a:lnTo>
                    <a:lnTo>
                      <a:pt x="62" y="2853"/>
                    </a:lnTo>
                    <a:lnTo>
                      <a:pt x="51" y="2744"/>
                    </a:lnTo>
                    <a:lnTo>
                      <a:pt x="45" y="2635"/>
                    </a:lnTo>
                    <a:lnTo>
                      <a:pt x="42" y="2525"/>
                    </a:lnTo>
                    <a:lnTo>
                      <a:pt x="45" y="2413"/>
                    </a:lnTo>
                    <a:lnTo>
                      <a:pt x="51" y="2304"/>
                    </a:lnTo>
                    <a:lnTo>
                      <a:pt x="62" y="2196"/>
                    </a:lnTo>
                    <a:lnTo>
                      <a:pt x="78" y="2089"/>
                    </a:lnTo>
                    <a:lnTo>
                      <a:pt x="98" y="1984"/>
                    </a:lnTo>
                    <a:lnTo>
                      <a:pt x="121" y="1880"/>
                    </a:lnTo>
                    <a:lnTo>
                      <a:pt x="149" y="1777"/>
                    </a:lnTo>
                    <a:lnTo>
                      <a:pt x="181" y="1677"/>
                    </a:lnTo>
                    <a:lnTo>
                      <a:pt x="216" y="1579"/>
                    </a:lnTo>
                    <a:lnTo>
                      <a:pt x="256" y="1481"/>
                    </a:lnTo>
                    <a:lnTo>
                      <a:pt x="300" y="1386"/>
                    </a:lnTo>
                    <a:lnTo>
                      <a:pt x="346" y="1293"/>
                    </a:lnTo>
                    <a:lnTo>
                      <a:pt x="396" y="1203"/>
                    </a:lnTo>
                    <a:lnTo>
                      <a:pt x="450" y="1114"/>
                    </a:lnTo>
                    <a:lnTo>
                      <a:pt x="507" y="1028"/>
                    </a:lnTo>
                    <a:lnTo>
                      <a:pt x="567" y="944"/>
                    </a:lnTo>
                    <a:lnTo>
                      <a:pt x="630" y="863"/>
                    </a:lnTo>
                    <a:lnTo>
                      <a:pt x="696" y="784"/>
                    </a:lnTo>
                    <a:lnTo>
                      <a:pt x="766" y="707"/>
                    </a:lnTo>
                    <a:lnTo>
                      <a:pt x="838" y="634"/>
                    </a:lnTo>
                    <a:lnTo>
                      <a:pt x="913" y="563"/>
                    </a:lnTo>
                    <a:lnTo>
                      <a:pt x="991" y="495"/>
                    </a:lnTo>
                    <a:lnTo>
                      <a:pt x="1071" y="431"/>
                    </a:lnTo>
                    <a:lnTo>
                      <a:pt x="1154" y="369"/>
                    </a:lnTo>
                    <a:lnTo>
                      <a:pt x="1240" y="311"/>
                    </a:lnTo>
                    <a:lnTo>
                      <a:pt x="1327" y="256"/>
                    </a:lnTo>
                    <a:lnTo>
                      <a:pt x="1417" y="204"/>
                    </a:lnTo>
                    <a:lnTo>
                      <a:pt x="1510" y="156"/>
                    </a:lnTo>
                    <a:lnTo>
                      <a:pt x="1604" y="112"/>
                    </a:lnTo>
                    <a:lnTo>
                      <a:pt x="1700" y="71"/>
                    </a:lnTo>
                    <a:lnTo>
                      <a:pt x="1798" y="33"/>
                    </a:lnTo>
                    <a:lnTo>
                      <a:pt x="1898" y="0"/>
                    </a:lnTo>
                    <a:lnTo>
                      <a:pt x="1875" y="2"/>
                    </a:lnTo>
                    <a:lnTo>
                      <a:pt x="1852" y="4"/>
                    </a:lnTo>
                    <a:lnTo>
                      <a:pt x="1830" y="6"/>
                    </a:lnTo>
                    <a:lnTo>
                      <a:pt x="1808" y="8"/>
                    </a:lnTo>
                    <a:lnTo>
                      <a:pt x="1785" y="12"/>
                    </a:lnTo>
                    <a:lnTo>
                      <a:pt x="1763" y="14"/>
                    </a:lnTo>
                    <a:lnTo>
                      <a:pt x="1740" y="16"/>
                    </a:lnTo>
                    <a:lnTo>
                      <a:pt x="1718" y="19"/>
                    </a:lnTo>
                    <a:close/>
                    <a:moveTo>
                      <a:pt x="3678" y="5023"/>
                    </a:moveTo>
                    <a:lnTo>
                      <a:pt x="3702" y="5013"/>
                    </a:lnTo>
                    <a:lnTo>
                      <a:pt x="3726" y="5003"/>
                    </a:lnTo>
                    <a:lnTo>
                      <a:pt x="3750" y="4992"/>
                    </a:lnTo>
                    <a:lnTo>
                      <a:pt x="3774" y="4983"/>
                    </a:lnTo>
                    <a:lnTo>
                      <a:pt x="3797" y="4972"/>
                    </a:lnTo>
                    <a:lnTo>
                      <a:pt x="3820" y="4961"/>
                    </a:lnTo>
                    <a:lnTo>
                      <a:pt x="3844" y="4950"/>
                    </a:lnTo>
                    <a:lnTo>
                      <a:pt x="3867" y="4940"/>
                    </a:lnTo>
                    <a:lnTo>
                      <a:pt x="3848" y="4902"/>
                    </a:lnTo>
                    <a:lnTo>
                      <a:pt x="3806" y="4922"/>
                    </a:lnTo>
                    <a:lnTo>
                      <a:pt x="3764" y="4941"/>
                    </a:lnTo>
                    <a:lnTo>
                      <a:pt x="3722" y="4960"/>
                    </a:lnTo>
                    <a:lnTo>
                      <a:pt x="3678" y="4977"/>
                    </a:lnTo>
                    <a:lnTo>
                      <a:pt x="3635" y="4995"/>
                    </a:lnTo>
                    <a:lnTo>
                      <a:pt x="3591" y="5011"/>
                    </a:lnTo>
                    <a:lnTo>
                      <a:pt x="3547" y="5026"/>
                    </a:lnTo>
                    <a:lnTo>
                      <a:pt x="3502" y="5041"/>
                    </a:lnTo>
                    <a:lnTo>
                      <a:pt x="3525" y="5039"/>
                    </a:lnTo>
                    <a:lnTo>
                      <a:pt x="3547" y="5037"/>
                    </a:lnTo>
                    <a:lnTo>
                      <a:pt x="3569" y="5035"/>
                    </a:lnTo>
                    <a:lnTo>
                      <a:pt x="3591" y="5032"/>
                    </a:lnTo>
                    <a:lnTo>
                      <a:pt x="3613" y="5029"/>
                    </a:lnTo>
                    <a:lnTo>
                      <a:pt x="3635" y="5027"/>
                    </a:lnTo>
                    <a:lnTo>
                      <a:pt x="3657" y="5025"/>
                    </a:lnTo>
                    <a:lnTo>
                      <a:pt x="3678" y="5023"/>
                    </a:lnTo>
                    <a:close/>
                  </a:path>
                </a:pathLst>
              </a:custGeom>
              <a:solidFill>
                <a:srgbClr val="d9c4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514680" y="1990800"/>
                <a:ext cx="2117880" cy="2012760"/>
              </a:xfrm>
              <a:custGeom>
                <a:avLst/>
                <a:gdLst/>
                <a:ahLst/>
                <a:rect l="l" t="t" r="r" b="b"/>
                <a:pathLst>
                  <a:path w="5334" h="5068">
                    <a:moveTo>
                      <a:pt x="5334" y="2535"/>
                    </a:moveTo>
                    <a:lnTo>
                      <a:pt x="5331" y="2426"/>
                    </a:lnTo>
                    <a:lnTo>
                      <a:pt x="5326" y="2319"/>
                    </a:lnTo>
                    <a:lnTo>
                      <a:pt x="5315" y="2213"/>
                    </a:lnTo>
                    <a:lnTo>
                      <a:pt x="5300" y="2108"/>
                    </a:lnTo>
                    <a:lnTo>
                      <a:pt x="5282" y="2004"/>
                    </a:lnTo>
                    <a:lnTo>
                      <a:pt x="5259" y="1902"/>
                    </a:lnTo>
                    <a:lnTo>
                      <a:pt x="5232" y="1801"/>
                    </a:lnTo>
                    <a:lnTo>
                      <a:pt x="5202" y="1702"/>
                    </a:lnTo>
                    <a:lnTo>
                      <a:pt x="5167" y="1605"/>
                    </a:lnTo>
                    <a:lnTo>
                      <a:pt x="5129" y="1510"/>
                    </a:lnTo>
                    <a:lnTo>
                      <a:pt x="5088" y="1416"/>
                    </a:lnTo>
                    <a:lnTo>
                      <a:pt x="5044" y="1324"/>
                    </a:lnTo>
                    <a:lnTo>
                      <a:pt x="4995" y="1234"/>
                    </a:lnTo>
                    <a:lnTo>
                      <a:pt x="4944" y="1147"/>
                    </a:lnTo>
                    <a:lnTo>
                      <a:pt x="4889" y="1060"/>
                    </a:lnTo>
                    <a:lnTo>
                      <a:pt x="4832" y="977"/>
                    </a:lnTo>
                    <a:lnTo>
                      <a:pt x="4772" y="896"/>
                    </a:lnTo>
                    <a:lnTo>
                      <a:pt x="4708" y="819"/>
                    </a:lnTo>
                    <a:lnTo>
                      <a:pt x="4641" y="742"/>
                    </a:lnTo>
                    <a:lnTo>
                      <a:pt x="4572" y="668"/>
                    </a:lnTo>
                    <a:lnTo>
                      <a:pt x="4499" y="598"/>
                    </a:lnTo>
                    <a:lnTo>
                      <a:pt x="4425" y="530"/>
                    </a:lnTo>
                    <a:lnTo>
                      <a:pt x="4348" y="464"/>
                    </a:lnTo>
                    <a:lnTo>
                      <a:pt x="4268" y="403"/>
                    </a:lnTo>
                    <a:lnTo>
                      <a:pt x="4186" y="343"/>
                    </a:lnTo>
                    <a:lnTo>
                      <a:pt x="4102" y="287"/>
                    </a:lnTo>
                    <a:lnTo>
                      <a:pt x="4015" y="234"/>
                    </a:lnTo>
                    <a:lnTo>
                      <a:pt x="3927" y="185"/>
                    </a:lnTo>
                    <a:lnTo>
                      <a:pt x="3835" y="138"/>
                    </a:lnTo>
                    <a:lnTo>
                      <a:pt x="3743" y="95"/>
                    </a:lnTo>
                    <a:lnTo>
                      <a:pt x="3648" y="55"/>
                    </a:lnTo>
                    <a:lnTo>
                      <a:pt x="3552" y="19"/>
                    </a:lnTo>
                    <a:lnTo>
                      <a:pt x="3527" y="16"/>
                    </a:lnTo>
                    <a:lnTo>
                      <a:pt x="3501" y="14"/>
                    </a:lnTo>
                    <a:lnTo>
                      <a:pt x="3476" y="12"/>
                    </a:lnTo>
                    <a:lnTo>
                      <a:pt x="3451" y="10"/>
                    </a:lnTo>
                    <a:lnTo>
                      <a:pt x="3425" y="6"/>
                    </a:lnTo>
                    <a:lnTo>
                      <a:pt x="3400" y="4"/>
                    </a:lnTo>
                    <a:lnTo>
                      <a:pt x="3375" y="2"/>
                    </a:lnTo>
                    <a:lnTo>
                      <a:pt x="3350" y="0"/>
                    </a:lnTo>
                    <a:lnTo>
                      <a:pt x="3453" y="30"/>
                    </a:lnTo>
                    <a:lnTo>
                      <a:pt x="3556" y="65"/>
                    </a:lnTo>
                    <a:lnTo>
                      <a:pt x="3656" y="104"/>
                    </a:lnTo>
                    <a:lnTo>
                      <a:pt x="3755" y="146"/>
                    </a:lnTo>
                    <a:lnTo>
                      <a:pt x="3851" y="192"/>
                    </a:lnTo>
                    <a:lnTo>
                      <a:pt x="3945" y="242"/>
                    </a:lnTo>
                    <a:lnTo>
                      <a:pt x="4036" y="296"/>
                    </a:lnTo>
                    <a:lnTo>
                      <a:pt x="4125" y="352"/>
                    </a:lnTo>
                    <a:lnTo>
                      <a:pt x="4212" y="412"/>
                    </a:lnTo>
                    <a:lnTo>
                      <a:pt x="4296" y="477"/>
                    </a:lnTo>
                    <a:lnTo>
                      <a:pt x="4377" y="544"/>
                    </a:lnTo>
                    <a:lnTo>
                      <a:pt x="4456" y="614"/>
                    </a:lnTo>
                    <a:lnTo>
                      <a:pt x="4532" y="688"/>
                    </a:lnTo>
                    <a:lnTo>
                      <a:pt x="4604" y="763"/>
                    </a:lnTo>
                    <a:lnTo>
                      <a:pt x="4674" y="843"/>
                    </a:lnTo>
                    <a:lnTo>
                      <a:pt x="4740" y="925"/>
                    </a:lnTo>
                    <a:lnTo>
                      <a:pt x="4804" y="1010"/>
                    </a:lnTo>
                    <a:lnTo>
                      <a:pt x="4863" y="1097"/>
                    </a:lnTo>
                    <a:lnTo>
                      <a:pt x="4920" y="1187"/>
                    </a:lnTo>
                    <a:lnTo>
                      <a:pt x="4973" y="1279"/>
                    </a:lnTo>
                    <a:lnTo>
                      <a:pt x="5022" y="1373"/>
                    </a:lnTo>
                    <a:lnTo>
                      <a:pt x="5068" y="1470"/>
                    </a:lnTo>
                    <a:lnTo>
                      <a:pt x="5109" y="1568"/>
                    </a:lnTo>
                    <a:lnTo>
                      <a:pt x="5146" y="1669"/>
                    </a:lnTo>
                    <a:lnTo>
                      <a:pt x="5180" y="1771"/>
                    </a:lnTo>
                    <a:lnTo>
                      <a:pt x="5209" y="1876"/>
                    </a:lnTo>
                    <a:lnTo>
                      <a:pt x="5234" y="1982"/>
                    </a:lnTo>
                    <a:lnTo>
                      <a:pt x="5255" y="2090"/>
                    </a:lnTo>
                    <a:lnTo>
                      <a:pt x="5271" y="2199"/>
                    </a:lnTo>
                    <a:lnTo>
                      <a:pt x="5283" y="2309"/>
                    </a:lnTo>
                    <a:lnTo>
                      <a:pt x="5290" y="2421"/>
                    </a:lnTo>
                    <a:lnTo>
                      <a:pt x="5292" y="2535"/>
                    </a:lnTo>
                    <a:lnTo>
                      <a:pt x="5292" y="2579"/>
                    </a:lnTo>
                    <a:lnTo>
                      <a:pt x="5291" y="2622"/>
                    </a:lnTo>
                    <a:lnTo>
                      <a:pt x="5289" y="2666"/>
                    </a:lnTo>
                    <a:lnTo>
                      <a:pt x="5287" y="2710"/>
                    </a:lnTo>
                    <a:lnTo>
                      <a:pt x="5284" y="2753"/>
                    </a:lnTo>
                    <a:lnTo>
                      <a:pt x="5279" y="2797"/>
                    </a:lnTo>
                    <a:lnTo>
                      <a:pt x="5275" y="2839"/>
                    </a:lnTo>
                    <a:lnTo>
                      <a:pt x="5270" y="2882"/>
                    </a:lnTo>
                    <a:lnTo>
                      <a:pt x="5263" y="2925"/>
                    </a:lnTo>
                    <a:lnTo>
                      <a:pt x="5257" y="2968"/>
                    </a:lnTo>
                    <a:lnTo>
                      <a:pt x="5249" y="3010"/>
                    </a:lnTo>
                    <a:lnTo>
                      <a:pt x="5242" y="3051"/>
                    </a:lnTo>
                    <a:lnTo>
                      <a:pt x="5233" y="3093"/>
                    </a:lnTo>
                    <a:lnTo>
                      <a:pt x="5223" y="3134"/>
                    </a:lnTo>
                    <a:lnTo>
                      <a:pt x="5213" y="3175"/>
                    </a:lnTo>
                    <a:lnTo>
                      <a:pt x="5203" y="3216"/>
                    </a:lnTo>
                    <a:lnTo>
                      <a:pt x="5243" y="3227"/>
                    </a:lnTo>
                    <a:lnTo>
                      <a:pt x="5253" y="3186"/>
                    </a:lnTo>
                    <a:lnTo>
                      <a:pt x="5263" y="3144"/>
                    </a:lnTo>
                    <a:lnTo>
                      <a:pt x="5273" y="3102"/>
                    </a:lnTo>
                    <a:lnTo>
                      <a:pt x="5282" y="3060"/>
                    </a:lnTo>
                    <a:lnTo>
                      <a:pt x="5290" y="3017"/>
                    </a:lnTo>
                    <a:lnTo>
                      <a:pt x="5298" y="2974"/>
                    </a:lnTo>
                    <a:lnTo>
                      <a:pt x="5304" y="2931"/>
                    </a:lnTo>
                    <a:lnTo>
                      <a:pt x="5311" y="2888"/>
                    </a:lnTo>
                    <a:lnTo>
                      <a:pt x="5316" y="2845"/>
                    </a:lnTo>
                    <a:lnTo>
                      <a:pt x="5320" y="2800"/>
                    </a:lnTo>
                    <a:lnTo>
                      <a:pt x="5325" y="2757"/>
                    </a:lnTo>
                    <a:lnTo>
                      <a:pt x="5328" y="2713"/>
                    </a:lnTo>
                    <a:lnTo>
                      <a:pt x="5330" y="2669"/>
                    </a:lnTo>
                    <a:lnTo>
                      <a:pt x="5332" y="2624"/>
                    </a:lnTo>
                    <a:lnTo>
                      <a:pt x="5333" y="2579"/>
                    </a:lnTo>
                    <a:lnTo>
                      <a:pt x="5334" y="2535"/>
                    </a:lnTo>
                    <a:close/>
                    <a:moveTo>
                      <a:pt x="1783" y="19"/>
                    </a:moveTo>
                    <a:lnTo>
                      <a:pt x="1687" y="55"/>
                    </a:lnTo>
                    <a:lnTo>
                      <a:pt x="1592" y="95"/>
                    </a:lnTo>
                    <a:lnTo>
                      <a:pt x="1499" y="138"/>
                    </a:lnTo>
                    <a:lnTo>
                      <a:pt x="1408" y="185"/>
                    </a:lnTo>
                    <a:lnTo>
                      <a:pt x="1319" y="234"/>
                    </a:lnTo>
                    <a:lnTo>
                      <a:pt x="1233" y="287"/>
                    </a:lnTo>
                    <a:lnTo>
                      <a:pt x="1148" y="343"/>
                    </a:lnTo>
                    <a:lnTo>
                      <a:pt x="1066" y="403"/>
                    </a:lnTo>
                    <a:lnTo>
                      <a:pt x="986" y="464"/>
                    </a:lnTo>
                    <a:lnTo>
                      <a:pt x="910" y="530"/>
                    </a:lnTo>
                    <a:lnTo>
                      <a:pt x="835" y="598"/>
                    </a:lnTo>
                    <a:lnTo>
                      <a:pt x="763" y="668"/>
                    </a:lnTo>
                    <a:lnTo>
                      <a:pt x="694" y="742"/>
                    </a:lnTo>
                    <a:lnTo>
                      <a:pt x="627" y="819"/>
                    </a:lnTo>
                    <a:lnTo>
                      <a:pt x="563" y="896"/>
                    </a:lnTo>
                    <a:lnTo>
                      <a:pt x="502" y="977"/>
                    </a:lnTo>
                    <a:lnTo>
                      <a:pt x="445" y="1060"/>
                    </a:lnTo>
                    <a:lnTo>
                      <a:pt x="390" y="1147"/>
                    </a:lnTo>
                    <a:lnTo>
                      <a:pt x="339" y="1234"/>
                    </a:lnTo>
                    <a:lnTo>
                      <a:pt x="291" y="1324"/>
                    </a:lnTo>
                    <a:lnTo>
                      <a:pt x="246" y="1416"/>
                    </a:lnTo>
                    <a:lnTo>
                      <a:pt x="205" y="1510"/>
                    </a:lnTo>
                    <a:lnTo>
                      <a:pt x="167" y="1605"/>
                    </a:lnTo>
                    <a:lnTo>
                      <a:pt x="133" y="1702"/>
                    </a:lnTo>
                    <a:lnTo>
                      <a:pt x="103" y="1801"/>
                    </a:lnTo>
                    <a:lnTo>
                      <a:pt x="76" y="1902"/>
                    </a:lnTo>
                    <a:lnTo>
                      <a:pt x="53" y="2004"/>
                    </a:lnTo>
                    <a:lnTo>
                      <a:pt x="34" y="2108"/>
                    </a:lnTo>
                    <a:lnTo>
                      <a:pt x="19" y="2213"/>
                    </a:lnTo>
                    <a:lnTo>
                      <a:pt x="9" y="2319"/>
                    </a:lnTo>
                    <a:lnTo>
                      <a:pt x="2" y="2426"/>
                    </a:lnTo>
                    <a:lnTo>
                      <a:pt x="0" y="2535"/>
                    </a:lnTo>
                    <a:lnTo>
                      <a:pt x="2" y="2643"/>
                    </a:lnTo>
                    <a:lnTo>
                      <a:pt x="9" y="2751"/>
                    </a:lnTo>
                    <a:lnTo>
                      <a:pt x="19" y="2857"/>
                    </a:lnTo>
                    <a:lnTo>
                      <a:pt x="34" y="2961"/>
                    </a:lnTo>
                    <a:lnTo>
                      <a:pt x="53" y="3065"/>
                    </a:lnTo>
                    <a:lnTo>
                      <a:pt x="76" y="3166"/>
                    </a:lnTo>
                    <a:lnTo>
                      <a:pt x="103" y="3267"/>
                    </a:lnTo>
                    <a:lnTo>
                      <a:pt x="133" y="3366"/>
                    </a:lnTo>
                    <a:lnTo>
                      <a:pt x="167" y="3463"/>
                    </a:lnTo>
                    <a:lnTo>
                      <a:pt x="205" y="3560"/>
                    </a:lnTo>
                    <a:lnTo>
                      <a:pt x="246" y="3654"/>
                    </a:lnTo>
                    <a:lnTo>
                      <a:pt x="291" y="3745"/>
                    </a:lnTo>
                    <a:lnTo>
                      <a:pt x="339" y="3835"/>
                    </a:lnTo>
                    <a:lnTo>
                      <a:pt x="390" y="3922"/>
                    </a:lnTo>
                    <a:lnTo>
                      <a:pt x="445" y="4008"/>
                    </a:lnTo>
                    <a:lnTo>
                      <a:pt x="502" y="4091"/>
                    </a:lnTo>
                    <a:lnTo>
                      <a:pt x="563" y="4172"/>
                    </a:lnTo>
                    <a:lnTo>
                      <a:pt x="627" y="4251"/>
                    </a:lnTo>
                    <a:lnTo>
                      <a:pt x="694" y="4326"/>
                    </a:lnTo>
                    <a:lnTo>
                      <a:pt x="763" y="4400"/>
                    </a:lnTo>
                    <a:lnTo>
                      <a:pt x="835" y="4471"/>
                    </a:lnTo>
                    <a:lnTo>
                      <a:pt x="910" y="4539"/>
                    </a:lnTo>
                    <a:lnTo>
                      <a:pt x="986" y="4604"/>
                    </a:lnTo>
                    <a:lnTo>
                      <a:pt x="1066" y="4667"/>
                    </a:lnTo>
                    <a:lnTo>
                      <a:pt x="1148" y="4726"/>
                    </a:lnTo>
                    <a:lnTo>
                      <a:pt x="1233" y="4782"/>
                    </a:lnTo>
                    <a:lnTo>
                      <a:pt x="1319" y="4835"/>
                    </a:lnTo>
                    <a:lnTo>
                      <a:pt x="1408" y="4885"/>
                    </a:lnTo>
                    <a:lnTo>
                      <a:pt x="1499" y="4931"/>
                    </a:lnTo>
                    <a:lnTo>
                      <a:pt x="1592" y="4974"/>
                    </a:lnTo>
                    <a:lnTo>
                      <a:pt x="1687" y="5013"/>
                    </a:lnTo>
                    <a:lnTo>
                      <a:pt x="1783" y="5050"/>
                    </a:lnTo>
                    <a:lnTo>
                      <a:pt x="1808" y="5052"/>
                    </a:lnTo>
                    <a:lnTo>
                      <a:pt x="1834" y="5054"/>
                    </a:lnTo>
                    <a:lnTo>
                      <a:pt x="1858" y="5058"/>
                    </a:lnTo>
                    <a:lnTo>
                      <a:pt x="1883" y="5060"/>
                    </a:lnTo>
                    <a:lnTo>
                      <a:pt x="1908" y="5062"/>
                    </a:lnTo>
                    <a:lnTo>
                      <a:pt x="1934" y="5064"/>
                    </a:lnTo>
                    <a:lnTo>
                      <a:pt x="1959" y="5066"/>
                    </a:lnTo>
                    <a:lnTo>
                      <a:pt x="1985" y="5068"/>
                    </a:lnTo>
                    <a:lnTo>
                      <a:pt x="1881" y="5038"/>
                    </a:lnTo>
                    <a:lnTo>
                      <a:pt x="1778" y="5004"/>
                    </a:lnTo>
                    <a:lnTo>
                      <a:pt x="1678" y="4966"/>
                    </a:lnTo>
                    <a:lnTo>
                      <a:pt x="1580" y="4924"/>
                    </a:lnTo>
                    <a:lnTo>
                      <a:pt x="1483" y="4877"/>
                    </a:lnTo>
                    <a:lnTo>
                      <a:pt x="1389" y="4828"/>
                    </a:lnTo>
                    <a:lnTo>
                      <a:pt x="1299" y="4774"/>
                    </a:lnTo>
                    <a:lnTo>
                      <a:pt x="1209" y="4716"/>
                    </a:lnTo>
                    <a:lnTo>
                      <a:pt x="1123" y="4656"/>
                    </a:lnTo>
                    <a:lnTo>
                      <a:pt x="1038" y="4592"/>
                    </a:lnTo>
                    <a:lnTo>
                      <a:pt x="957" y="4525"/>
                    </a:lnTo>
                    <a:lnTo>
                      <a:pt x="878" y="4455"/>
                    </a:lnTo>
                    <a:lnTo>
                      <a:pt x="803" y="4381"/>
                    </a:lnTo>
                    <a:lnTo>
                      <a:pt x="730" y="4305"/>
                    </a:lnTo>
                    <a:lnTo>
                      <a:pt x="660" y="4226"/>
                    </a:lnTo>
                    <a:lnTo>
                      <a:pt x="594" y="4144"/>
                    </a:lnTo>
                    <a:lnTo>
                      <a:pt x="530" y="4059"/>
                    </a:lnTo>
                    <a:lnTo>
                      <a:pt x="471" y="3972"/>
                    </a:lnTo>
                    <a:lnTo>
                      <a:pt x="415" y="3883"/>
                    </a:lnTo>
                    <a:lnTo>
                      <a:pt x="362" y="3790"/>
                    </a:lnTo>
                    <a:lnTo>
                      <a:pt x="312" y="3696"/>
                    </a:lnTo>
                    <a:lnTo>
                      <a:pt x="267" y="3600"/>
                    </a:lnTo>
                    <a:lnTo>
                      <a:pt x="226" y="3500"/>
                    </a:lnTo>
                    <a:lnTo>
                      <a:pt x="188" y="3400"/>
                    </a:lnTo>
                    <a:lnTo>
                      <a:pt x="154" y="3297"/>
                    </a:lnTo>
                    <a:lnTo>
                      <a:pt x="125" y="3193"/>
                    </a:lnTo>
                    <a:lnTo>
                      <a:pt x="100" y="3087"/>
                    </a:lnTo>
                    <a:lnTo>
                      <a:pt x="80" y="2980"/>
                    </a:lnTo>
                    <a:lnTo>
                      <a:pt x="64" y="2871"/>
                    </a:lnTo>
                    <a:lnTo>
                      <a:pt x="52" y="2759"/>
                    </a:lnTo>
                    <a:lnTo>
                      <a:pt x="44" y="2648"/>
                    </a:lnTo>
                    <a:lnTo>
                      <a:pt x="42" y="2535"/>
                    </a:lnTo>
                    <a:lnTo>
                      <a:pt x="44" y="2421"/>
                    </a:lnTo>
                    <a:lnTo>
                      <a:pt x="52" y="2309"/>
                    </a:lnTo>
                    <a:lnTo>
                      <a:pt x="64" y="2199"/>
                    </a:lnTo>
                    <a:lnTo>
                      <a:pt x="80" y="2090"/>
                    </a:lnTo>
                    <a:lnTo>
                      <a:pt x="100" y="1982"/>
                    </a:lnTo>
                    <a:lnTo>
                      <a:pt x="125" y="1876"/>
                    </a:lnTo>
                    <a:lnTo>
                      <a:pt x="154" y="1771"/>
                    </a:lnTo>
                    <a:lnTo>
                      <a:pt x="188" y="1669"/>
                    </a:lnTo>
                    <a:lnTo>
                      <a:pt x="226" y="1568"/>
                    </a:lnTo>
                    <a:lnTo>
                      <a:pt x="267" y="1470"/>
                    </a:lnTo>
                    <a:lnTo>
                      <a:pt x="312" y="1373"/>
                    </a:lnTo>
                    <a:lnTo>
                      <a:pt x="362" y="1279"/>
                    </a:lnTo>
                    <a:lnTo>
                      <a:pt x="415" y="1187"/>
                    </a:lnTo>
                    <a:lnTo>
                      <a:pt x="471" y="1097"/>
                    </a:lnTo>
                    <a:lnTo>
                      <a:pt x="530" y="1010"/>
                    </a:lnTo>
                    <a:lnTo>
                      <a:pt x="594" y="925"/>
                    </a:lnTo>
                    <a:lnTo>
                      <a:pt x="660" y="843"/>
                    </a:lnTo>
                    <a:lnTo>
                      <a:pt x="730" y="763"/>
                    </a:lnTo>
                    <a:lnTo>
                      <a:pt x="803" y="688"/>
                    </a:lnTo>
                    <a:lnTo>
                      <a:pt x="878" y="614"/>
                    </a:lnTo>
                    <a:lnTo>
                      <a:pt x="957" y="544"/>
                    </a:lnTo>
                    <a:lnTo>
                      <a:pt x="1038" y="477"/>
                    </a:lnTo>
                    <a:lnTo>
                      <a:pt x="1123" y="412"/>
                    </a:lnTo>
                    <a:lnTo>
                      <a:pt x="1209" y="352"/>
                    </a:lnTo>
                    <a:lnTo>
                      <a:pt x="1299" y="296"/>
                    </a:lnTo>
                    <a:lnTo>
                      <a:pt x="1389" y="242"/>
                    </a:lnTo>
                    <a:lnTo>
                      <a:pt x="1483" y="192"/>
                    </a:lnTo>
                    <a:lnTo>
                      <a:pt x="1580" y="146"/>
                    </a:lnTo>
                    <a:lnTo>
                      <a:pt x="1678" y="104"/>
                    </a:lnTo>
                    <a:lnTo>
                      <a:pt x="1778" y="65"/>
                    </a:lnTo>
                    <a:lnTo>
                      <a:pt x="1881" y="30"/>
                    </a:lnTo>
                    <a:lnTo>
                      <a:pt x="1985" y="0"/>
                    </a:lnTo>
                    <a:lnTo>
                      <a:pt x="1959" y="2"/>
                    </a:lnTo>
                    <a:lnTo>
                      <a:pt x="1934" y="4"/>
                    </a:lnTo>
                    <a:lnTo>
                      <a:pt x="1909" y="6"/>
                    </a:lnTo>
                    <a:lnTo>
                      <a:pt x="1883" y="10"/>
                    </a:lnTo>
                    <a:lnTo>
                      <a:pt x="1858" y="12"/>
                    </a:lnTo>
                    <a:lnTo>
                      <a:pt x="1834" y="14"/>
                    </a:lnTo>
                    <a:lnTo>
                      <a:pt x="1808" y="16"/>
                    </a:lnTo>
                    <a:lnTo>
                      <a:pt x="1783" y="19"/>
                    </a:lnTo>
                    <a:close/>
                    <a:moveTo>
                      <a:pt x="3574" y="5041"/>
                    </a:moveTo>
                    <a:lnTo>
                      <a:pt x="3608" y="5029"/>
                    </a:lnTo>
                    <a:lnTo>
                      <a:pt x="3641" y="5017"/>
                    </a:lnTo>
                    <a:lnTo>
                      <a:pt x="3675" y="5004"/>
                    </a:lnTo>
                    <a:lnTo>
                      <a:pt x="3707" y="4990"/>
                    </a:lnTo>
                    <a:lnTo>
                      <a:pt x="3740" y="4975"/>
                    </a:lnTo>
                    <a:lnTo>
                      <a:pt x="3772" y="4960"/>
                    </a:lnTo>
                    <a:lnTo>
                      <a:pt x="3804" y="4946"/>
                    </a:lnTo>
                    <a:lnTo>
                      <a:pt x="3837" y="4930"/>
                    </a:lnTo>
                    <a:lnTo>
                      <a:pt x="3818" y="4893"/>
                    </a:lnTo>
                    <a:lnTo>
                      <a:pt x="3766" y="4918"/>
                    </a:lnTo>
                    <a:lnTo>
                      <a:pt x="3712" y="4942"/>
                    </a:lnTo>
                    <a:lnTo>
                      <a:pt x="3657" y="4965"/>
                    </a:lnTo>
                    <a:lnTo>
                      <a:pt x="3602" y="4986"/>
                    </a:lnTo>
                    <a:lnTo>
                      <a:pt x="3546" y="5007"/>
                    </a:lnTo>
                    <a:lnTo>
                      <a:pt x="3491" y="5026"/>
                    </a:lnTo>
                    <a:lnTo>
                      <a:pt x="3434" y="5045"/>
                    </a:lnTo>
                    <a:lnTo>
                      <a:pt x="3377" y="5061"/>
                    </a:lnTo>
                    <a:lnTo>
                      <a:pt x="3401" y="5059"/>
                    </a:lnTo>
                    <a:lnTo>
                      <a:pt x="3426" y="5056"/>
                    </a:lnTo>
                    <a:lnTo>
                      <a:pt x="3451" y="5054"/>
                    </a:lnTo>
                    <a:lnTo>
                      <a:pt x="3476" y="5052"/>
                    </a:lnTo>
                    <a:lnTo>
                      <a:pt x="3501" y="5049"/>
                    </a:lnTo>
                    <a:lnTo>
                      <a:pt x="3526" y="5047"/>
                    </a:lnTo>
                    <a:lnTo>
                      <a:pt x="3549" y="5045"/>
                    </a:lnTo>
                    <a:lnTo>
                      <a:pt x="3574" y="5041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24400" y="1987560"/>
                <a:ext cx="2100240" cy="2019240"/>
              </a:xfrm>
              <a:custGeom>
                <a:avLst/>
                <a:gdLst/>
                <a:ahLst/>
                <a:rect l="l" t="t" r="r" b="b"/>
                <a:pathLst>
                  <a:path w="5292" h="5087">
                    <a:moveTo>
                      <a:pt x="5292" y="2544"/>
                    </a:moveTo>
                    <a:lnTo>
                      <a:pt x="5290" y="2432"/>
                    </a:lnTo>
                    <a:lnTo>
                      <a:pt x="5283" y="2323"/>
                    </a:lnTo>
                    <a:lnTo>
                      <a:pt x="5272" y="2215"/>
                    </a:lnTo>
                    <a:lnTo>
                      <a:pt x="5256" y="2108"/>
                    </a:lnTo>
                    <a:lnTo>
                      <a:pt x="5237" y="2003"/>
                    </a:lnTo>
                    <a:lnTo>
                      <a:pt x="5213" y="1899"/>
                    </a:lnTo>
                    <a:lnTo>
                      <a:pt x="5185" y="1796"/>
                    </a:lnTo>
                    <a:lnTo>
                      <a:pt x="5154" y="1696"/>
                    </a:lnTo>
                    <a:lnTo>
                      <a:pt x="5118" y="1598"/>
                    </a:lnTo>
                    <a:lnTo>
                      <a:pt x="5078" y="1500"/>
                    </a:lnTo>
                    <a:lnTo>
                      <a:pt x="5035" y="1405"/>
                    </a:lnTo>
                    <a:lnTo>
                      <a:pt x="4988" y="1312"/>
                    </a:lnTo>
                    <a:lnTo>
                      <a:pt x="4939" y="1222"/>
                    </a:lnTo>
                    <a:lnTo>
                      <a:pt x="4885" y="1133"/>
                    </a:lnTo>
                    <a:lnTo>
                      <a:pt x="4827" y="1047"/>
                    </a:lnTo>
                    <a:lnTo>
                      <a:pt x="4768" y="963"/>
                    </a:lnTo>
                    <a:lnTo>
                      <a:pt x="4704" y="882"/>
                    </a:lnTo>
                    <a:lnTo>
                      <a:pt x="4638" y="803"/>
                    </a:lnTo>
                    <a:lnTo>
                      <a:pt x="4568" y="726"/>
                    </a:lnTo>
                    <a:lnTo>
                      <a:pt x="4497" y="653"/>
                    </a:lnTo>
                    <a:lnTo>
                      <a:pt x="4421" y="582"/>
                    </a:lnTo>
                    <a:lnTo>
                      <a:pt x="4343" y="514"/>
                    </a:lnTo>
                    <a:lnTo>
                      <a:pt x="4263" y="450"/>
                    </a:lnTo>
                    <a:lnTo>
                      <a:pt x="4180" y="388"/>
                    </a:lnTo>
                    <a:lnTo>
                      <a:pt x="4095" y="330"/>
                    </a:lnTo>
                    <a:lnTo>
                      <a:pt x="4007" y="275"/>
                    </a:lnTo>
                    <a:lnTo>
                      <a:pt x="3917" y="223"/>
                    </a:lnTo>
                    <a:lnTo>
                      <a:pt x="3825" y="175"/>
                    </a:lnTo>
                    <a:lnTo>
                      <a:pt x="3731" y="131"/>
                    </a:lnTo>
                    <a:lnTo>
                      <a:pt x="3634" y="90"/>
                    </a:lnTo>
                    <a:lnTo>
                      <a:pt x="3536" y="52"/>
                    </a:lnTo>
                    <a:lnTo>
                      <a:pt x="3437" y="19"/>
                    </a:lnTo>
                    <a:lnTo>
                      <a:pt x="3407" y="16"/>
                    </a:lnTo>
                    <a:lnTo>
                      <a:pt x="3378" y="13"/>
                    </a:lnTo>
                    <a:lnTo>
                      <a:pt x="3349" y="11"/>
                    </a:lnTo>
                    <a:lnTo>
                      <a:pt x="3320" y="9"/>
                    </a:lnTo>
                    <a:lnTo>
                      <a:pt x="3291" y="7"/>
                    </a:lnTo>
                    <a:lnTo>
                      <a:pt x="3262" y="5"/>
                    </a:lnTo>
                    <a:lnTo>
                      <a:pt x="3232" y="2"/>
                    </a:lnTo>
                    <a:lnTo>
                      <a:pt x="3203" y="0"/>
                    </a:lnTo>
                    <a:lnTo>
                      <a:pt x="3311" y="26"/>
                    </a:lnTo>
                    <a:lnTo>
                      <a:pt x="3418" y="58"/>
                    </a:lnTo>
                    <a:lnTo>
                      <a:pt x="3524" y="92"/>
                    </a:lnTo>
                    <a:lnTo>
                      <a:pt x="3627" y="131"/>
                    </a:lnTo>
                    <a:lnTo>
                      <a:pt x="3727" y="175"/>
                    </a:lnTo>
                    <a:lnTo>
                      <a:pt x="3827" y="223"/>
                    </a:lnTo>
                    <a:lnTo>
                      <a:pt x="3923" y="275"/>
                    </a:lnTo>
                    <a:lnTo>
                      <a:pt x="4017" y="330"/>
                    </a:lnTo>
                    <a:lnTo>
                      <a:pt x="4108" y="389"/>
                    </a:lnTo>
                    <a:lnTo>
                      <a:pt x="4196" y="452"/>
                    </a:lnTo>
                    <a:lnTo>
                      <a:pt x="4283" y="519"/>
                    </a:lnTo>
                    <a:lnTo>
                      <a:pt x="4365" y="588"/>
                    </a:lnTo>
                    <a:lnTo>
                      <a:pt x="4445" y="661"/>
                    </a:lnTo>
                    <a:lnTo>
                      <a:pt x="4521" y="738"/>
                    </a:lnTo>
                    <a:lnTo>
                      <a:pt x="4595" y="818"/>
                    </a:lnTo>
                    <a:lnTo>
                      <a:pt x="4665" y="900"/>
                    </a:lnTo>
                    <a:lnTo>
                      <a:pt x="4732" y="985"/>
                    </a:lnTo>
                    <a:lnTo>
                      <a:pt x="4796" y="1074"/>
                    </a:lnTo>
                    <a:lnTo>
                      <a:pt x="4855" y="1165"/>
                    </a:lnTo>
                    <a:lnTo>
                      <a:pt x="4912" y="1258"/>
                    </a:lnTo>
                    <a:lnTo>
                      <a:pt x="4963" y="1355"/>
                    </a:lnTo>
                    <a:lnTo>
                      <a:pt x="5011" y="1453"/>
                    </a:lnTo>
                    <a:lnTo>
                      <a:pt x="5055" y="1553"/>
                    </a:lnTo>
                    <a:lnTo>
                      <a:pt x="5095" y="1656"/>
                    </a:lnTo>
                    <a:lnTo>
                      <a:pt x="5131" y="1761"/>
                    </a:lnTo>
                    <a:lnTo>
                      <a:pt x="5162" y="1868"/>
                    </a:lnTo>
                    <a:lnTo>
                      <a:pt x="5188" y="1977"/>
                    </a:lnTo>
                    <a:lnTo>
                      <a:pt x="5211" y="2087"/>
                    </a:lnTo>
                    <a:lnTo>
                      <a:pt x="5228" y="2199"/>
                    </a:lnTo>
                    <a:lnTo>
                      <a:pt x="5240" y="2313"/>
                    </a:lnTo>
                    <a:lnTo>
                      <a:pt x="5248" y="2427"/>
                    </a:lnTo>
                    <a:lnTo>
                      <a:pt x="5251" y="2544"/>
                    </a:lnTo>
                    <a:lnTo>
                      <a:pt x="5250" y="2587"/>
                    </a:lnTo>
                    <a:lnTo>
                      <a:pt x="5249" y="2631"/>
                    </a:lnTo>
                    <a:lnTo>
                      <a:pt x="5248" y="2674"/>
                    </a:lnTo>
                    <a:lnTo>
                      <a:pt x="5244" y="2718"/>
                    </a:lnTo>
                    <a:lnTo>
                      <a:pt x="5241" y="2761"/>
                    </a:lnTo>
                    <a:lnTo>
                      <a:pt x="5238" y="2804"/>
                    </a:lnTo>
                    <a:lnTo>
                      <a:pt x="5232" y="2846"/>
                    </a:lnTo>
                    <a:lnTo>
                      <a:pt x="5228" y="2888"/>
                    </a:lnTo>
                    <a:lnTo>
                      <a:pt x="5222" y="2931"/>
                    </a:lnTo>
                    <a:lnTo>
                      <a:pt x="5215" y="2972"/>
                    </a:lnTo>
                    <a:lnTo>
                      <a:pt x="5208" y="3015"/>
                    </a:lnTo>
                    <a:lnTo>
                      <a:pt x="5200" y="3057"/>
                    </a:lnTo>
                    <a:lnTo>
                      <a:pt x="5191" y="3098"/>
                    </a:lnTo>
                    <a:lnTo>
                      <a:pt x="5182" y="3139"/>
                    </a:lnTo>
                    <a:lnTo>
                      <a:pt x="5172" y="3180"/>
                    </a:lnTo>
                    <a:lnTo>
                      <a:pt x="5161" y="3220"/>
                    </a:lnTo>
                    <a:lnTo>
                      <a:pt x="5201" y="3231"/>
                    </a:lnTo>
                    <a:lnTo>
                      <a:pt x="5212" y="3190"/>
                    </a:lnTo>
                    <a:lnTo>
                      <a:pt x="5223" y="3148"/>
                    </a:lnTo>
                    <a:lnTo>
                      <a:pt x="5231" y="3106"/>
                    </a:lnTo>
                    <a:lnTo>
                      <a:pt x="5241" y="3064"/>
                    </a:lnTo>
                    <a:lnTo>
                      <a:pt x="5249" y="3022"/>
                    </a:lnTo>
                    <a:lnTo>
                      <a:pt x="5256" y="2980"/>
                    </a:lnTo>
                    <a:lnTo>
                      <a:pt x="5263" y="2937"/>
                    </a:lnTo>
                    <a:lnTo>
                      <a:pt x="5269" y="2895"/>
                    </a:lnTo>
                    <a:lnTo>
                      <a:pt x="5275" y="2851"/>
                    </a:lnTo>
                    <a:lnTo>
                      <a:pt x="5279" y="2807"/>
                    </a:lnTo>
                    <a:lnTo>
                      <a:pt x="5283" y="2764"/>
                    </a:lnTo>
                    <a:lnTo>
                      <a:pt x="5286" y="2721"/>
                    </a:lnTo>
                    <a:lnTo>
                      <a:pt x="5289" y="2677"/>
                    </a:lnTo>
                    <a:lnTo>
                      <a:pt x="5291" y="2632"/>
                    </a:lnTo>
                    <a:lnTo>
                      <a:pt x="5292" y="2588"/>
                    </a:lnTo>
                    <a:lnTo>
                      <a:pt x="5292" y="2544"/>
                    </a:lnTo>
                    <a:close/>
                    <a:moveTo>
                      <a:pt x="1856" y="19"/>
                    </a:moveTo>
                    <a:lnTo>
                      <a:pt x="1756" y="52"/>
                    </a:lnTo>
                    <a:lnTo>
                      <a:pt x="1658" y="90"/>
                    </a:lnTo>
                    <a:lnTo>
                      <a:pt x="1562" y="131"/>
                    </a:lnTo>
                    <a:lnTo>
                      <a:pt x="1468" y="175"/>
                    </a:lnTo>
                    <a:lnTo>
                      <a:pt x="1375" y="223"/>
                    </a:lnTo>
                    <a:lnTo>
                      <a:pt x="1285" y="275"/>
                    </a:lnTo>
                    <a:lnTo>
                      <a:pt x="1198" y="330"/>
                    </a:lnTo>
                    <a:lnTo>
                      <a:pt x="1112" y="388"/>
                    </a:lnTo>
                    <a:lnTo>
                      <a:pt x="1029" y="450"/>
                    </a:lnTo>
                    <a:lnTo>
                      <a:pt x="949" y="514"/>
                    </a:lnTo>
                    <a:lnTo>
                      <a:pt x="871" y="582"/>
                    </a:lnTo>
                    <a:lnTo>
                      <a:pt x="796" y="653"/>
                    </a:lnTo>
                    <a:lnTo>
                      <a:pt x="724" y="726"/>
                    </a:lnTo>
                    <a:lnTo>
                      <a:pt x="654" y="803"/>
                    </a:lnTo>
                    <a:lnTo>
                      <a:pt x="588" y="882"/>
                    </a:lnTo>
                    <a:lnTo>
                      <a:pt x="525" y="963"/>
                    </a:lnTo>
                    <a:lnTo>
                      <a:pt x="465" y="1047"/>
                    </a:lnTo>
                    <a:lnTo>
                      <a:pt x="408" y="1133"/>
                    </a:lnTo>
                    <a:lnTo>
                      <a:pt x="354" y="1222"/>
                    </a:lnTo>
                    <a:lnTo>
                      <a:pt x="304" y="1312"/>
                    </a:lnTo>
                    <a:lnTo>
                      <a:pt x="258" y="1405"/>
                    </a:lnTo>
                    <a:lnTo>
                      <a:pt x="214" y="1500"/>
                    </a:lnTo>
                    <a:lnTo>
                      <a:pt x="174" y="1598"/>
                    </a:lnTo>
                    <a:lnTo>
                      <a:pt x="139" y="1696"/>
                    </a:lnTo>
                    <a:lnTo>
                      <a:pt x="107" y="1796"/>
                    </a:lnTo>
                    <a:lnTo>
                      <a:pt x="79" y="1899"/>
                    </a:lnTo>
                    <a:lnTo>
                      <a:pt x="56" y="2003"/>
                    </a:lnTo>
                    <a:lnTo>
                      <a:pt x="36" y="2108"/>
                    </a:lnTo>
                    <a:lnTo>
                      <a:pt x="20" y="2215"/>
                    </a:lnTo>
                    <a:lnTo>
                      <a:pt x="9" y="2323"/>
                    </a:lnTo>
                    <a:lnTo>
                      <a:pt x="3" y="2432"/>
                    </a:lnTo>
                    <a:lnTo>
                      <a:pt x="0" y="2544"/>
                    </a:lnTo>
                    <a:lnTo>
                      <a:pt x="3" y="2654"/>
                    </a:lnTo>
                    <a:lnTo>
                      <a:pt x="9" y="2763"/>
                    </a:lnTo>
                    <a:lnTo>
                      <a:pt x="20" y="2872"/>
                    </a:lnTo>
                    <a:lnTo>
                      <a:pt x="36" y="2979"/>
                    </a:lnTo>
                    <a:lnTo>
                      <a:pt x="56" y="3084"/>
                    </a:lnTo>
                    <a:lnTo>
                      <a:pt x="79" y="3187"/>
                    </a:lnTo>
                    <a:lnTo>
                      <a:pt x="107" y="3290"/>
                    </a:lnTo>
                    <a:lnTo>
                      <a:pt x="139" y="3390"/>
                    </a:lnTo>
                    <a:lnTo>
                      <a:pt x="174" y="3490"/>
                    </a:lnTo>
                    <a:lnTo>
                      <a:pt x="214" y="3587"/>
                    </a:lnTo>
                    <a:lnTo>
                      <a:pt x="258" y="3682"/>
                    </a:lnTo>
                    <a:lnTo>
                      <a:pt x="304" y="3775"/>
                    </a:lnTo>
                    <a:lnTo>
                      <a:pt x="354" y="3866"/>
                    </a:lnTo>
                    <a:lnTo>
                      <a:pt x="408" y="3954"/>
                    </a:lnTo>
                    <a:lnTo>
                      <a:pt x="465" y="4041"/>
                    </a:lnTo>
                    <a:lnTo>
                      <a:pt x="525" y="4125"/>
                    </a:lnTo>
                    <a:lnTo>
                      <a:pt x="588" y="4206"/>
                    </a:lnTo>
                    <a:lnTo>
                      <a:pt x="654" y="4285"/>
                    </a:lnTo>
                    <a:lnTo>
                      <a:pt x="724" y="4360"/>
                    </a:lnTo>
                    <a:lnTo>
                      <a:pt x="796" y="4434"/>
                    </a:lnTo>
                    <a:lnTo>
                      <a:pt x="871" y="4505"/>
                    </a:lnTo>
                    <a:lnTo>
                      <a:pt x="949" y="4572"/>
                    </a:lnTo>
                    <a:lnTo>
                      <a:pt x="1029" y="4637"/>
                    </a:lnTo>
                    <a:lnTo>
                      <a:pt x="1112" y="4698"/>
                    </a:lnTo>
                    <a:lnTo>
                      <a:pt x="1198" y="4757"/>
                    </a:lnTo>
                    <a:lnTo>
                      <a:pt x="1285" y="4812"/>
                    </a:lnTo>
                    <a:lnTo>
                      <a:pt x="1375" y="4864"/>
                    </a:lnTo>
                    <a:lnTo>
                      <a:pt x="1468" y="4912"/>
                    </a:lnTo>
                    <a:lnTo>
                      <a:pt x="1562" y="4956"/>
                    </a:lnTo>
                    <a:lnTo>
                      <a:pt x="1658" y="4997"/>
                    </a:lnTo>
                    <a:lnTo>
                      <a:pt x="1756" y="5034"/>
                    </a:lnTo>
                    <a:lnTo>
                      <a:pt x="1856" y="5068"/>
                    </a:lnTo>
                    <a:lnTo>
                      <a:pt x="1885" y="5071"/>
                    </a:lnTo>
                    <a:lnTo>
                      <a:pt x="1914" y="5073"/>
                    </a:lnTo>
                    <a:lnTo>
                      <a:pt x="1943" y="5076"/>
                    </a:lnTo>
                    <a:lnTo>
                      <a:pt x="1972" y="5078"/>
                    </a:lnTo>
                    <a:lnTo>
                      <a:pt x="2002" y="5081"/>
                    </a:lnTo>
                    <a:lnTo>
                      <a:pt x="2031" y="5083"/>
                    </a:lnTo>
                    <a:lnTo>
                      <a:pt x="2060" y="5085"/>
                    </a:lnTo>
                    <a:lnTo>
                      <a:pt x="2089" y="5087"/>
                    </a:lnTo>
                    <a:lnTo>
                      <a:pt x="1981" y="5060"/>
                    </a:lnTo>
                    <a:lnTo>
                      <a:pt x="1874" y="5030"/>
                    </a:lnTo>
                    <a:lnTo>
                      <a:pt x="1768" y="4994"/>
                    </a:lnTo>
                    <a:lnTo>
                      <a:pt x="1666" y="4955"/>
                    </a:lnTo>
                    <a:lnTo>
                      <a:pt x="1564" y="4912"/>
                    </a:lnTo>
                    <a:lnTo>
                      <a:pt x="1466" y="4865"/>
                    </a:lnTo>
                    <a:lnTo>
                      <a:pt x="1370" y="4813"/>
                    </a:lnTo>
                    <a:lnTo>
                      <a:pt x="1276" y="4757"/>
                    </a:lnTo>
                    <a:lnTo>
                      <a:pt x="1185" y="4698"/>
                    </a:lnTo>
                    <a:lnTo>
                      <a:pt x="1096" y="4635"/>
                    </a:lnTo>
                    <a:lnTo>
                      <a:pt x="1010" y="4569"/>
                    </a:lnTo>
                    <a:lnTo>
                      <a:pt x="928" y="4498"/>
                    </a:lnTo>
                    <a:lnTo>
                      <a:pt x="848" y="4425"/>
                    </a:lnTo>
                    <a:lnTo>
                      <a:pt x="771" y="4349"/>
                    </a:lnTo>
                    <a:lnTo>
                      <a:pt x="697" y="4270"/>
                    </a:lnTo>
                    <a:lnTo>
                      <a:pt x="627" y="4187"/>
                    </a:lnTo>
                    <a:lnTo>
                      <a:pt x="560" y="4101"/>
                    </a:lnTo>
                    <a:lnTo>
                      <a:pt x="496" y="4014"/>
                    </a:lnTo>
                    <a:lnTo>
                      <a:pt x="437" y="3922"/>
                    </a:lnTo>
                    <a:lnTo>
                      <a:pt x="381" y="3829"/>
                    </a:lnTo>
                    <a:lnTo>
                      <a:pt x="329" y="3733"/>
                    </a:lnTo>
                    <a:lnTo>
                      <a:pt x="281" y="3634"/>
                    </a:lnTo>
                    <a:lnTo>
                      <a:pt x="237" y="3534"/>
                    </a:lnTo>
                    <a:lnTo>
                      <a:pt x="197" y="3430"/>
                    </a:lnTo>
                    <a:lnTo>
                      <a:pt x="161" y="3326"/>
                    </a:lnTo>
                    <a:lnTo>
                      <a:pt x="130" y="3219"/>
                    </a:lnTo>
                    <a:lnTo>
                      <a:pt x="104" y="3111"/>
                    </a:lnTo>
                    <a:lnTo>
                      <a:pt x="82" y="3001"/>
                    </a:lnTo>
                    <a:lnTo>
                      <a:pt x="64" y="2888"/>
                    </a:lnTo>
                    <a:lnTo>
                      <a:pt x="52" y="2775"/>
                    </a:lnTo>
                    <a:lnTo>
                      <a:pt x="45" y="2659"/>
                    </a:lnTo>
                    <a:lnTo>
                      <a:pt x="42" y="2544"/>
                    </a:lnTo>
                    <a:lnTo>
                      <a:pt x="45" y="2427"/>
                    </a:lnTo>
                    <a:lnTo>
                      <a:pt x="52" y="2313"/>
                    </a:lnTo>
                    <a:lnTo>
                      <a:pt x="64" y="2199"/>
                    </a:lnTo>
                    <a:lnTo>
                      <a:pt x="82" y="2087"/>
                    </a:lnTo>
                    <a:lnTo>
                      <a:pt x="104" y="1977"/>
                    </a:lnTo>
                    <a:lnTo>
                      <a:pt x="130" y="1868"/>
                    </a:lnTo>
                    <a:lnTo>
                      <a:pt x="161" y="1761"/>
                    </a:lnTo>
                    <a:lnTo>
                      <a:pt x="197" y="1656"/>
                    </a:lnTo>
                    <a:lnTo>
                      <a:pt x="237" y="1553"/>
                    </a:lnTo>
                    <a:lnTo>
                      <a:pt x="281" y="1453"/>
                    </a:lnTo>
                    <a:lnTo>
                      <a:pt x="329" y="1355"/>
                    </a:lnTo>
                    <a:lnTo>
                      <a:pt x="381" y="1258"/>
                    </a:lnTo>
                    <a:lnTo>
                      <a:pt x="437" y="1165"/>
                    </a:lnTo>
                    <a:lnTo>
                      <a:pt x="496" y="1074"/>
                    </a:lnTo>
                    <a:lnTo>
                      <a:pt x="560" y="985"/>
                    </a:lnTo>
                    <a:lnTo>
                      <a:pt x="627" y="900"/>
                    </a:lnTo>
                    <a:lnTo>
                      <a:pt x="697" y="818"/>
                    </a:lnTo>
                    <a:lnTo>
                      <a:pt x="771" y="738"/>
                    </a:lnTo>
                    <a:lnTo>
                      <a:pt x="848" y="661"/>
                    </a:lnTo>
                    <a:lnTo>
                      <a:pt x="928" y="588"/>
                    </a:lnTo>
                    <a:lnTo>
                      <a:pt x="1010" y="519"/>
                    </a:lnTo>
                    <a:lnTo>
                      <a:pt x="1096" y="452"/>
                    </a:lnTo>
                    <a:lnTo>
                      <a:pt x="1185" y="389"/>
                    </a:lnTo>
                    <a:lnTo>
                      <a:pt x="1276" y="330"/>
                    </a:lnTo>
                    <a:lnTo>
                      <a:pt x="1370" y="275"/>
                    </a:lnTo>
                    <a:lnTo>
                      <a:pt x="1466" y="223"/>
                    </a:lnTo>
                    <a:lnTo>
                      <a:pt x="1564" y="175"/>
                    </a:lnTo>
                    <a:lnTo>
                      <a:pt x="1666" y="131"/>
                    </a:lnTo>
                    <a:lnTo>
                      <a:pt x="1768" y="92"/>
                    </a:lnTo>
                    <a:lnTo>
                      <a:pt x="1874" y="58"/>
                    </a:lnTo>
                    <a:lnTo>
                      <a:pt x="1981" y="26"/>
                    </a:lnTo>
                    <a:lnTo>
                      <a:pt x="2089" y="0"/>
                    </a:lnTo>
                    <a:lnTo>
                      <a:pt x="2060" y="2"/>
                    </a:lnTo>
                    <a:lnTo>
                      <a:pt x="2031" y="5"/>
                    </a:lnTo>
                    <a:lnTo>
                      <a:pt x="2002" y="7"/>
                    </a:lnTo>
                    <a:lnTo>
                      <a:pt x="1972" y="9"/>
                    </a:lnTo>
                    <a:lnTo>
                      <a:pt x="1943" y="11"/>
                    </a:lnTo>
                    <a:lnTo>
                      <a:pt x="1914" y="13"/>
                    </a:lnTo>
                    <a:lnTo>
                      <a:pt x="1885" y="16"/>
                    </a:lnTo>
                    <a:lnTo>
                      <a:pt x="1856" y="19"/>
                    </a:lnTo>
                    <a:close/>
                    <a:moveTo>
                      <a:pt x="3460" y="5060"/>
                    </a:moveTo>
                    <a:lnTo>
                      <a:pt x="3505" y="5045"/>
                    </a:lnTo>
                    <a:lnTo>
                      <a:pt x="3549" y="5030"/>
                    </a:lnTo>
                    <a:lnTo>
                      <a:pt x="3593" y="5014"/>
                    </a:lnTo>
                    <a:lnTo>
                      <a:pt x="3636" y="4996"/>
                    </a:lnTo>
                    <a:lnTo>
                      <a:pt x="3680" y="4979"/>
                    </a:lnTo>
                    <a:lnTo>
                      <a:pt x="3722" y="4960"/>
                    </a:lnTo>
                    <a:lnTo>
                      <a:pt x="3764" y="4941"/>
                    </a:lnTo>
                    <a:lnTo>
                      <a:pt x="3806" y="4921"/>
                    </a:lnTo>
                    <a:lnTo>
                      <a:pt x="3788" y="4883"/>
                    </a:lnTo>
                    <a:lnTo>
                      <a:pt x="3722" y="4914"/>
                    </a:lnTo>
                    <a:lnTo>
                      <a:pt x="3654" y="4945"/>
                    </a:lnTo>
                    <a:lnTo>
                      <a:pt x="3586" y="4972"/>
                    </a:lnTo>
                    <a:lnTo>
                      <a:pt x="3517" y="4997"/>
                    </a:lnTo>
                    <a:lnTo>
                      <a:pt x="3446" y="5021"/>
                    </a:lnTo>
                    <a:lnTo>
                      <a:pt x="3375" y="5043"/>
                    </a:lnTo>
                    <a:lnTo>
                      <a:pt x="3339" y="5054"/>
                    </a:lnTo>
                    <a:lnTo>
                      <a:pt x="3303" y="5063"/>
                    </a:lnTo>
                    <a:lnTo>
                      <a:pt x="3267" y="5072"/>
                    </a:lnTo>
                    <a:lnTo>
                      <a:pt x="3230" y="5081"/>
                    </a:lnTo>
                    <a:lnTo>
                      <a:pt x="3259" y="5078"/>
                    </a:lnTo>
                    <a:lnTo>
                      <a:pt x="3289" y="5076"/>
                    </a:lnTo>
                    <a:lnTo>
                      <a:pt x="3317" y="5074"/>
                    </a:lnTo>
                    <a:lnTo>
                      <a:pt x="3346" y="5071"/>
                    </a:lnTo>
                    <a:lnTo>
                      <a:pt x="3375" y="5069"/>
                    </a:lnTo>
                    <a:lnTo>
                      <a:pt x="3403" y="5065"/>
                    </a:lnTo>
                    <a:lnTo>
                      <a:pt x="3432" y="5063"/>
                    </a:lnTo>
                    <a:lnTo>
                      <a:pt x="3460" y="5060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532320" y="1984320"/>
                <a:ext cx="2084400" cy="2025720"/>
              </a:xfrm>
              <a:custGeom>
                <a:avLst/>
                <a:gdLst/>
                <a:ahLst/>
                <a:rect l="l" t="t" r="r" b="b"/>
                <a:pathLst>
                  <a:path w="5250" h="5105">
                    <a:moveTo>
                      <a:pt x="5250" y="2553"/>
                    </a:moveTo>
                    <a:lnTo>
                      <a:pt x="5248" y="2439"/>
                    </a:lnTo>
                    <a:lnTo>
                      <a:pt x="5241" y="2327"/>
                    </a:lnTo>
                    <a:lnTo>
                      <a:pt x="5229" y="2217"/>
                    </a:lnTo>
                    <a:lnTo>
                      <a:pt x="5213" y="2108"/>
                    </a:lnTo>
                    <a:lnTo>
                      <a:pt x="5192" y="2000"/>
                    </a:lnTo>
                    <a:lnTo>
                      <a:pt x="5167" y="1894"/>
                    </a:lnTo>
                    <a:lnTo>
                      <a:pt x="5138" y="1789"/>
                    </a:lnTo>
                    <a:lnTo>
                      <a:pt x="5104" y="1687"/>
                    </a:lnTo>
                    <a:lnTo>
                      <a:pt x="5067" y="1586"/>
                    </a:lnTo>
                    <a:lnTo>
                      <a:pt x="5026" y="1488"/>
                    </a:lnTo>
                    <a:lnTo>
                      <a:pt x="4980" y="1391"/>
                    </a:lnTo>
                    <a:lnTo>
                      <a:pt x="4931" y="1297"/>
                    </a:lnTo>
                    <a:lnTo>
                      <a:pt x="4878" y="1205"/>
                    </a:lnTo>
                    <a:lnTo>
                      <a:pt x="4821" y="1115"/>
                    </a:lnTo>
                    <a:lnTo>
                      <a:pt x="4762" y="1028"/>
                    </a:lnTo>
                    <a:lnTo>
                      <a:pt x="4698" y="943"/>
                    </a:lnTo>
                    <a:lnTo>
                      <a:pt x="4632" y="861"/>
                    </a:lnTo>
                    <a:lnTo>
                      <a:pt x="4562" y="781"/>
                    </a:lnTo>
                    <a:lnTo>
                      <a:pt x="4490" y="706"/>
                    </a:lnTo>
                    <a:lnTo>
                      <a:pt x="4414" y="632"/>
                    </a:lnTo>
                    <a:lnTo>
                      <a:pt x="4335" y="562"/>
                    </a:lnTo>
                    <a:lnTo>
                      <a:pt x="4254" y="495"/>
                    </a:lnTo>
                    <a:lnTo>
                      <a:pt x="4170" y="430"/>
                    </a:lnTo>
                    <a:lnTo>
                      <a:pt x="4083" y="370"/>
                    </a:lnTo>
                    <a:lnTo>
                      <a:pt x="3994" y="314"/>
                    </a:lnTo>
                    <a:lnTo>
                      <a:pt x="3903" y="260"/>
                    </a:lnTo>
                    <a:lnTo>
                      <a:pt x="3809" y="210"/>
                    </a:lnTo>
                    <a:lnTo>
                      <a:pt x="3713" y="164"/>
                    </a:lnTo>
                    <a:lnTo>
                      <a:pt x="3614" y="122"/>
                    </a:lnTo>
                    <a:lnTo>
                      <a:pt x="3514" y="83"/>
                    </a:lnTo>
                    <a:lnTo>
                      <a:pt x="3411" y="48"/>
                    </a:lnTo>
                    <a:lnTo>
                      <a:pt x="3308" y="18"/>
                    </a:lnTo>
                    <a:lnTo>
                      <a:pt x="3272" y="16"/>
                    </a:lnTo>
                    <a:lnTo>
                      <a:pt x="3236" y="13"/>
                    </a:lnTo>
                    <a:lnTo>
                      <a:pt x="3201" y="10"/>
                    </a:lnTo>
                    <a:lnTo>
                      <a:pt x="3164" y="8"/>
                    </a:lnTo>
                    <a:lnTo>
                      <a:pt x="3128" y="6"/>
                    </a:lnTo>
                    <a:lnTo>
                      <a:pt x="3093" y="4"/>
                    </a:lnTo>
                    <a:lnTo>
                      <a:pt x="3056" y="2"/>
                    </a:lnTo>
                    <a:lnTo>
                      <a:pt x="3020" y="0"/>
                    </a:lnTo>
                    <a:lnTo>
                      <a:pt x="3135" y="20"/>
                    </a:lnTo>
                    <a:lnTo>
                      <a:pt x="3248" y="46"/>
                    </a:lnTo>
                    <a:lnTo>
                      <a:pt x="3360" y="76"/>
                    </a:lnTo>
                    <a:lnTo>
                      <a:pt x="3470" y="111"/>
                    </a:lnTo>
                    <a:lnTo>
                      <a:pt x="3577" y="151"/>
                    </a:lnTo>
                    <a:lnTo>
                      <a:pt x="3681" y="195"/>
                    </a:lnTo>
                    <a:lnTo>
                      <a:pt x="3784" y="245"/>
                    </a:lnTo>
                    <a:lnTo>
                      <a:pt x="3885" y="298"/>
                    </a:lnTo>
                    <a:lnTo>
                      <a:pt x="3982" y="355"/>
                    </a:lnTo>
                    <a:lnTo>
                      <a:pt x="4077" y="416"/>
                    </a:lnTo>
                    <a:lnTo>
                      <a:pt x="4169" y="481"/>
                    </a:lnTo>
                    <a:lnTo>
                      <a:pt x="4257" y="550"/>
                    </a:lnTo>
                    <a:lnTo>
                      <a:pt x="4343" y="624"/>
                    </a:lnTo>
                    <a:lnTo>
                      <a:pt x="4425" y="699"/>
                    </a:lnTo>
                    <a:lnTo>
                      <a:pt x="4504" y="779"/>
                    </a:lnTo>
                    <a:lnTo>
                      <a:pt x="4579" y="862"/>
                    </a:lnTo>
                    <a:lnTo>
                      <a:pt x="4651" y="950"/>
                    </a:lnTo>
                    <a:lnTo>
                      <a:pt x="4719" y="1040"/>
                    </a:lnTo>
                    <a:lnTo>
                      <a:pt x="4782" y="1131"/>
                    </a:lnTo>
                    <a:lnTo>
                      <a:pt x="4843" y="1228"/>
                    </a:lnTo>
                    <a:lnTo>
                      <a:pt x="4899" y="1326"/>
                    </a:lnTo>
                    <a:lnTo>
                      <a:pt x="4951" y="1426"/>
                    </a:lnTo>
                    <a:lnTo>
                      <a:pt x="4998" y="1530"/>
                    </a:lnTo>
                    <a:lnTo>
                      <a:pt x="5041" y="1636"/>
                    </a:lnTo>
                    <a:lnTo>
                      <a:pt x="5080" y="1744"/>
                    </a:lnTo>
                    <a:lnTo>
                      <a:pt x="5113" y="1854"/>
                    </a:lnTo>
                    <a:lnTo>
                      <a:pt x="5141" y="1965"/>
                    </a:lnTo>
                    <a:lnTo>
                      <a:pt x="5165" y="2080"/>
                    </a:lnTo>
                    <a:lnTo>
                      <a:pt x="5184" y="2195"/>
                    </a:lnTo>
                    <a:lnTo>
                      <a:pt x="5197" y="2313"/>
                    </a:lnTo>
                    <a:lnTo>
                      <a:pt x="5206" y="2432"/>
                    </a:lnTo>
                    <a:lnTo>
                      <a:pt x="5208" y="2553"/>
                    </a:lnTo>
                    <a:lnTo>
                      <a:pt x="5208" y="2596"/>
                    </a:lnTo>
                    <a:lnTo>
                      <a:pt x="5207" y="2639"/>
                    </a:lnTo>
                    <a:lnTo>
                      <a:pt x="5205" y="2682"/>
                    </a:lnTo>
                    <a:lnTo>
                      <a:pt x="5203" y="2725"/>
                    </a:lnTo>
                    <a:lnTo>
                      <a:pt x="5200" y="2768"/>
                    </a:lnTo>
                    <a:lnTo>
                      <a:pt x="5196" y="2811"/>
                    </a:lnTo>
                    <a:lnTo>
                      <a:pt x="5191" y="2853"/>
                    </a:lnTo>
                    <a:lnTo>
                      <a:pt x="5186" y="2895"/>
                    </a:lnTo>
                    <a:lnTo>
                      <a:pt x="5180" y="2937"/>
                    </a:lnTo>
                    <a:lnTo>
                      <a:pt x="5174" y="2978"/>
                    </a:lnTo>
                    <a:lnTo>
                      <a:pt x="5166" y="3020"/>
                    </a:lnTo>
                    <a:lnTo>
                      <a:pt x="5159" y="3061"/>
                    </a:lnTo>
                    <a:lnTo>
                      <a:pt x="5150" y="3102"/>
                    </a:lnTo>
                    <a:lnTo>
                      <a:pt x="5140" y="3143"/>
                    </a:lnTo>
                    <a:lnTo>
                      <a:pt x="5130" y="3183"/>
                    </a:lnTo>
                    <a:lnTo>
                      <a:pt x="5121" y="3223"/>
                    </a:lnTo>
                    <a:lnTo>
                      <a:pt x="5161" y="3234"/>
                    </a:lnTo>
                    <a:lnTo>
                      <a:pt x="5171" y="3193"/>
                    </a:lnTo>
                    <a:lnTo>
                      <a:pt x="5181" y="3152"/>
                    </a:lnTo>
                    <a:lnTo>
                      <a:pt x="5191" y="3111"/>
                    </a:lnTo>
                    <a:lnTo>
                      <a:pt x="5200" y="3069"/>
                    </a:lnTo>
                    <a:lnTo>
                      <a:pt x="5207" y="3028"/>
                    </a:lnTo>
                    <a:lnTo>
                      <a:pt x="5215" y="2986"/>
                    </a:lnTo>
                    <a:lnTo>
                      <a:pt x="5221" y="2943"/>
                    </a:lnTo>
                    <a:lnTo>
                      <a:pt x="5228" y="2900"/>
                    </a:lnTo>
                    <a:lnTo>
                      <a:pt x="5233" y="2857"/>
                    </a:lnTo>
                    <a:lnTo>
                      <a:pt x="5237" y="2815"/>
                    </a:lnTo>
                    <a:lnTo>
                      <a:pt x="5242" y="2771"/>
                    </a:lnTo>
                    <a:lnTo>
                      <a:pt x="5245" y="2728"/>
                    </a:lnTo>
                    <a:lnTo>
                      <a:pt x="5247" y="2684"/>
                    </a:lnTo>
                    <a:lnTo>
                      <a:pt x="5249" y="2640"/>
                    </a:lnTo>
                    <a:lnTo>
                      <a:pt x="5250" y="2597"/>
                    </a:lnTo>
                    <a:lnTo>
                      <a:pt x="5250" y="2553"/>
                    </a:lnTo>
                    <a:close/>
                    <a:moveTo>
                      <a:pt x="1943" y="18"/>
                    </a:moveTo>
                    <a:lnTo>
                      <a:pt x="1839" y="48"/>
                    </a:lnTo>
                    <a:lnTo>
                      <a:pt x="1736" y="83"/>
                    </a:lnTo>
                    <a:lnTo>
                      <a:pt x="1636" y="122"/>
                    </a:lnTo>
                    <a:lnTo>
                      <a:pt x="1538" y="164"/>
                    </a:lnTo>
                    <a:lnTo>
                      <a:pt x="1441" y="210"/>
                    </a:lnTo>
                    <a:lnTo>
                      <a:pt x="1347" y="260"/>
                    </a:lnTo>
                    <a:lnTo>
                      <a:pt x="1257" y="314"/>
                    </a:lnTo>
                    <a:lnTo>
                      <a:pt x="1167" y="370"/>
                    </a:lnTo>
                    <a:lnTo>
                      <a:pt x="1081" y="430"/>
                    </a:lnTo>
                    <a:lnTo>
                      <a:pt x="996" y="495"/>
                    </a:lnTo>
                    <a:lnTo>
                      <a:pt x="915" y="562"/>
                    </a:lnTo>
                    <a:lnTo>
                      <a:pt x="836" y="632"/>
                    </a:lnTo>
                    <a:lnTo>
                      <a:pt x="761" y="706"/>
                    </a:lnTo>
                    <a:lnTo>
                      <a:pt x="688" y="781"/>
                    </a:lnTo>
                    <a:lnTo>
                      <a:pt x="618" y="861"/>
                    </a:lnTo>
                    <a:lnTo>
                      <a:pt x="552" y="943"/>
                    </a:lnTo>
                    <a:lnTo>
                      <a:pt x="488" y="1028"/>
                    </a:lnTo>
                    <a:lnTo>
                      <a:pt x="429" y="1115"/>
                    </a:lnTo>
                    <a:lnTo>
                      <a:pt x="373" y="1205"/>
                    </a:lnTo>
                    <a:lnTo>
                      <a:pt x="320" y="1297"/>
                    </a:lnTo>
                    <a:lnTo>
                      <a:pt x="270" y="1391"/>
                    </a:lnTo>
                    <a:lnTo>
                      <a:pt x="225" y="1488"/>
                    </a:lnTo>
                    <a:lnTo>
                      <a:pt x="184" y="1586"/>
                    </a:lnTo>
                    <a:lnTo>
                      <a:pt x="146" y="1687"/>
                    </a:lnTo>
                    <a:lnTo>
                      <a:pt x="112" y="1789"/>
                    </a:lnTo>
                    <a:lnTo>
                      <a:pt x="83" y="1894"/>
                    </a:lnTo>
                    <a:lnTo>
                      <a:pt x="58" y="2000"/>
                    </a:lnTo>
                    <a:lnTo>
                      <a:pt x="38" y="2108"/>
                    </a:lnTo>
                    <a:lnTo>
                      <a:pt x="22" y="2217"/>
                    </a:lnTo>
                    <a:lnTo>
                      <a:pt x="10" y="2327"/>
                    </a:lnTo>
                    <a:lnTo>
                      <a:pt x="2" y="2439"/>
                    </a:lnTo>
                    <a:lnTo>
                      <a:pt x="0" y="2553"/>
                    </a:lnTo>
                    <a:lnTo>
                      <a:pt x="2" y="2666"/>
                    </a:lnTo>
                    <a:lnTo>
                      <a:pt x="10" y="2777"/>
                    </a:lnTo>
                    <a:lnTo>
                      <a:pt x="22" y="2889"/>
                    </a:lnTo>
                    <a:lnTo>
                      <a:pt x="38" y="2998"/>
                    </a:lnTo>
                    <a:lnTo>
                      <a:pt x="58" y="3105"/>
                    </a:lnTo>
                    <a:lnTo>
                      <a:pt x="83" y="3211"/>
                    </a:lnTo>
                    <a:lnTo>
                      <a:pt x="112" y="3315"/>
                    </a:lnTo>
                    <a:lnTo>
                      <a:pt x="146" y="3418"/>
                    </a:lnTo>
                    <a:lnTo>
                      <a:pt x="184" y="3518"/>
                    </a:lnTo>
                    <a:lnTo>
                      <a:pt x="225" y="3618"/>
                    </a:lnTo>
                    <a:lnTo>
                      <a:pt x="270" y="3714"/>
                    </a:lnTo>
                    <a:lnTo>
                      <a:pt x="320" y="3808"/>
                    </a:lnTo>
                    <a:lnTo>
                      <a:pt x="373" y="3901"/>
                    </a:lnTo>
                    <a:lnTo>
                      <a:pt x="429" y="3990"/>
                    </a:lnTo>
                    <a:lnTo>
                      <a:pt x="488" y="4077"/>
                    </a:lnTo>
                    <a:lnTo>
                      <a:pt x="552" y="4162"/>
                    </a:lnTo>
                    <a:lnTo>
                      <a:pt x="618" y="4244"/>
                    </a:lnTo>
                    <a:lnTo>
                      <a:pt x="688" y="4323"/>
                    </a:lnTo>
                    <a:lnTo>
                      <a:pt x="761" y="4399"/>
                    </a:lnTo>
                    <a:lnTo>
                      <a:pt x="836" y="4473"/>
                    </a:lnTo>
                    <a:lnTo>
                      <a:pt x="915" y="4543"/>
                    </a:lnTo>
                    <a:lnTo>
                      <a:pt x="996" y="4610"/>
                    </a:lnTo>
                    <a:lnTo>
                      <a:pt x="1081" y="4674"/>
                    </a:lnTo>
                    <a:lnTo>
                      <a:pt x="1167" y="4734"/>
                    </a:lnTo>
                    <a:lnTo>
                      <a:pt x="1257" y="4792"/>
                    </a:lnTo>
                    <a:lnTo>
                      <a:pt x="1347" y="4846"/>
                    </a:lnTo>
                    <a:lnTo>
                      <a:pt x="1441" y="4895"/>
                    </a:lnTo>
                    <a:lnTo>
                      <a:pt x="1538" y="4942"/>
                    </a:lnTo>
                    <a:lnTo>
                      <a:pt x="1636" y="4984"/>
                    </a:lnTo>
                    <a:lnTo>
                      <a:pt x="1736" y="5022"/>
                    </a:lnTo>
                    <a:lnTo>
                      <a:pt x="1839" y="5056"/>
                    </a:lnTo>
                    <a:lnTo>
                      <a:pt x="1943" y="5086"/>
                    </a:lnTo>
                    <a:lnTo>
                      <a:pt x="1978" y="5090"/>
                    </a:lnTo>
                    <a:lnTo>
                      <a:pt x="2014" y="5092"/>
                    </a:lnTo>
                    <a:lnTo>
                      <a:pt x="2050" y="5094"/>
                    </a:lnTo>
                    <a:lnTo>
                      <a:pt x="2085" y="5097"/>
                    </a:lnTo>
                    <a:lnTo>
                      <a:pt x="2122" y="5099"/>
                    </a:lnTo>
                    <a:lnTo>
                      <a:pt x="2158" y="5101"/>
                    </a:lnTo>
                    <a:lnTo>
                      <a:pt x="2195" y="5103"/>
                    </a:lnTo>
                    <a:lnTo>
                      <a:pt x="2230" y="5105"/>
                    </a:lnTo>
                    <a:lnTo>
                      <a:pt x="2116" y="5084"/>
                    </a:lnTo>
                    <a:lnTo>
                      <a:pt x="2002" y="5059"/>
                    </a:lnTo>
                    <a:lnTo>
                      <a:pt x="1890" y="5029"/>
                    </a:lnTo>
                    <a:lnTo>
                      <a:pt x="1781" y="4993"/>
                    </a:lnTo>
                    <a:lnTo>
                      <a:pt x="1674" y="4954"/>
                    </a:lnTo>
                    <a:lnTo>
                      <a:pt x="1568" y="4909"/>
                    </a:lnTo>
                    <a:lnTo>
                      <a:pt x="1465" y="4861"/>
                    </a:lnTo>
                    <a:lnTo>
                      <a:pt x="1366" y="4808"/>
                    </a:lnTo>
                    <a:lnTo>
                      <a:pt x="1269" y="4750"/>
                    </a:lnTo>
                    <a:lnTo>
                      <a:pt x="1173" y="4689"/>
                    </a:lnTo>
                    <a:lnTo>
                      <a:pt x="1082" y="4623"/>
                    </a:lnTo>
                    <a:lnTo>
                      <a:pt x="993" y="4554"/>
                    </a:lnTo>
                    <a:lnTo>
                      <a:pt x="908" y="4482"/>
                    </a:lnTo>
                    <a:lnTo>
                      <a:pt x="826" y="4405"/>
                    </a:lnTo>
                    <a:lnTo>
                      <a:pt x="747" y="4325"/>
                    </a:lnTo>
                    <a:lnTo>
                      <a:pt x="671" y="4242"/>
                    </a:lnTo>
                    <a:lnTo>
                      <a:pt x="600" y="4155"/>
                    </a:lnTo>
                    <a:lnTo>
                      <a:pt x="532" y="4066"/>
                    </a:lnTo>
                    <a:lnTo>
                      <a:pt x="468" y="3973"/>
                    </a:lnTo>
                    <a:lnTo>
                      <a:pt x="407" y="3878"/>
                    </a:lnTo>
                    <a:lnTo>
                      <a:pt x="351" y="3780"/>
                    </a:lnTo>
                    <a:lnTo>
                      <a:pt x="299" y="3679"/>
                    </a:lnTo>
                    <a:lnTo>
                      <a:pt x="253" y="3575"/>
                    </a:lnTo>
                    <a:lnTo>
                      <a:pt x="210" y="3470"/>
                    </a:lnTo>
                    <a:lnTo>
                      <a:pt x="171" y="3362"/>
                    </a:lnTo>
                    <a:lnTo>
                      <a:pt x="137" y="3251"/>
                    </a:lnTo>
                    <a:lnTo>
                      <a:pt x="109" y="3139"/>
                    </a:lnTo>
                    <a:lnTo>
                      <a:pt x="85" y="3026"/>
                    </a:lnTo>
                    <a:lnTo>
                      <a:pt x="66" y="2909"/>
                    </a:lnTo>
                    <a:lnTo>
                      <a:pt x="53" y="2791"/>
                    </a:lnTo>
                    <a:lnTo>
                      <a:pt x="44" y="2673"/>
                    </a:lnTo>
                    <a:lnTo>
                      <a:pt x="42" y="2553"/>
                    </a:lnTo>
                    <a:lnTo>
                      <a:pt x="44" y="2432"/>
                    </a:lnTo>
                    <a:lnTo>
                      <a:pt x="53" y="2313"/>
                    </a:lnTo>
                    <a:lnTo>
                      <a:pt x="66" y="2195"/>
                    </a:lnTo>
                    <a:lnTo>
                      <a:pt x="85" y="2080"/>
                    </a:lnTo>
                    <a:lnTo>
                      <a:pt x="109" y="1965"/>
                    </a:lnTo>
                    <a:lnTo>
                      <a:pt x="137" y="1854"/>
                    </a:lnTo>
                    <a:lnTo>
                      <a:pt x="171" y="1744"/>
                    </a:lnTo>
                    <a:lnTo>
                      <a:pt x="210" y="1636"/>
                    </a:lnTo>
                    <a:lnTo>
                      <a:pt x="253" y="1530"/>
                    </a:lnTo>
                    <a:lnTo>
                      <a:pt x="299" y="1426"/>
                    </a:lnTo>
                    <a:lnTo>
                      <a:pt x="351" y="1326"/>
                    </a:lnTo>
                    <a:lnTo>
                      <a:pt x="407" y="1228"/>
                    </a:lnTo>
                    <a:lnTo>
                      <a:pt x="468" y="1131"/>
                    </a:lnTo>
                    <a:lnTo>
                      <a:pt x="532" y="1040"/>
                    </a:lnTo>
                    <a:lnTo>
                      <a:pt x="600" y="950"/>
                    </a:lnTo>
                    <a:lnTo>
                      <a:pt x="671" y="862"/>
                    </a:lnTo>
                    <a:lnTo>
                      <a:pt x="747" y="779"/>
                    </a:lnTo>
                    <a:lnTo>
                      <a:pt x="826" y="699"/>
                    </a:lnTo>
                    <a:lnTo>
                      <a:pt x="908" y="624"/>
                    </a:lnTo>
                    <a:lnTo>
                      <a:pt x="993" y="550"/>
                    </a:lnTo>
                    <a:lnTo>
                      <a:pt x="1082" y="481"/>
                    </a:lnTo>
                    <a:lnTo>
                      <a:pt x="1173" y="416"/>
                    </a:lnTo>
                    <a:lnTo>
                      <a:pt x="1269" y="355"/>
                    </a:lnTo>
                    <a:lnTo>
                      <a:pt x="1366" y="298"/>
                    </a:lnTo>
                    <a:lnTo>
                      <a:pt x="1466" y="245"/>
                    </a:lnTo>
                    <a:lnTo>
                      <a:pt x="1568" y="195"/>
                    </a:lnTo>
                    <a:lnTo>
                      <a:pt x="1674" y="151"/>
                    </a:lnTo>
                    <a:lnTo>
                      <a:pt x="1781" y="111"/>
                    </a:lnTo>
                    <a:lnTo>
                      <a:pt x="1890" y="76"/>
                    </a:lnTo>
                    <a:lnTo>
                      <a:pt x="2002" y="46"/>
                    </a:lnTo>
                    <a:lnTo>
                      <a:pt x="2116" y="20"/>
                    </a:lnTo>
                    <a:lnTo>
                      <a:pt x="2230" y="0"/>
                    </a:lnTo>
                    <a:lnTo>
                      <a:pt x="2195" y="2"/>
                    </a:lnTo>
                    <a:lnTo>
                      <a:pt x="2158" y="4"/>
                    </a:lnTo>
                    <a:lnTo>
                      <a:pt x="2122" y="6"/>
                    </a:lnTo>
                    <a:lnTo>
                      <a:pt x="2087" y="8"/>
                    </a:lnTo>
                    <a:lnTo>
                      <a:pt x="2050" y="10"/>
                    </a:lnTo>
                    <a:lnTo>
                      <a:pt x="2014" y="13"/>
                    </a:lnTo>
                    <a:lnTo>
                      <a:pt x="1978" y="16"/>
                    </a:lnTo>
                    <a:lnTo>
                      <a:pt x="1943" y="18"/>
                    </a:lnTo>
                    <a:close/>
                    <a:moveTo>
                      <a:pt x="3335" y="5079"/>
                    </a:moveTo>
                    <a:lnTo>
                      <a:pt x="3392" y="5063"/>
                    </a:lnTo>
                    <a:lnTo>
                      <a:pt x="3449" y="5044"/>
                    </a:lnTo>
                    <a:lnTo>
                      <a:pt x="3504" y="5025"/>
                    </a:lnTo>
                    <a:lnTo>
                      <a:pt x="3560" y="5004"/>
                    </a:lnTo>
                    <a:lnTo>
                      <a:pt x="3615" y="4983"/>
                    </a:lnTo>
                    <a:lnTo>
                      <a:pt x="3670" y="4960"/>
                    </a:lnTo>
                    <a:lnTo>
                      <a:pt x="3724" y="4936"/>
                    </a:lnTo>
                    <a:lnTo>
                      <a:pt x="3776" y="4911"/>
                    </a:lnTo>
                    <a:lnTo>
                      <a:pt x="3758" y="4874"/>
                    </a:lnTo>
                    <a:lnTo>
                      <a:pt x="3716" y="4894"/>
                    </a:lnTo>
                    <a:lnTo>
                      <a:pt x="3674" y="4914"/>
                    </a:lnTo>
                    <a:lnTo>
                      <a:pt x="3631" y="4932"/>
                    </a:lnTo>
                    <a:lnTo>
                      <a:pt x="3587" y="4949"/>
                    </a:lnTo>
                    <a:lnTo>
                      <a:pt x="3544" y="4966"/>
                    </a:lnTo>
                    <a:lnTo>
                      <a:pt x="3500" y="4983"/>
                    </a:lnTo>
                    <a:lnTo>
                      <a:pt x="3456" y="4998"/>
                    </a:lnTo>
                    <a:lnTo>
                      <a:pt x="3411" y="5013"/>
                    </a:lnTo>
                    <a:lnTo>
                      <a:pt x="3366" y="5027"/>
                    </a:lnTo>
                    <a:lnTo>
                      <a:pt x="3321" y="5040"/>
                    </a:lnTo>
                    <a:lnTo>
                      <a:pt x="3275" y="5052"/>
                    </a:lnTo>
                    <a:lnTo>
                      <a:pt x="3229" y="5064"/>
                    </a:lnTo>
                    <a:lnTo>
                      <a:pt x="3182" y="5074"/>
                    </a:lnTo>
                    <a:lnTo>
                      <a:pt x="3136" y="5084"/>
                    </a:lnTo>
                    <a:lnTo>
                      <a:pt x="3089" y="5093"/>
                    </a:lnTo>
                    <a:lnTo>
                      <a:pt x="3042" y="5101"/>
                    </a:lnTo>
                    <a:lnTo>
                      <a:pt x="3078" y="5099"/>
                    </a:lnTo>
                    <a:lnTo>
                      <a:pt x="3115" y="5096"/>
                    </a:lnTo>
                    <a:lnTo>
                      <a:pt x="3152" y="5094"/>
                    </a:lnTo>
                    <a:lnTo>
                      <a:pt x="3189" y="5092"/>
                    </a:lnTo>
                    <a:lnTo>
                      <a:pt x="3225" y="5089"/>
                    </a:lnTo>
                    <a:lnTo>
                      <a:pt x="3262" y="5085"/>
                    </a:lnTo>
                    <a:lnTo>
                      <a:pt x="3298" y="5082"/>
                    </a:lnTo>
                    <a:lnTo>
                      <a:pt x="3335" y="5079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540240" y="1981080"/>
                <a:ext cx="2066760" cy="2033640"/>
              </a:xfrm>
              <a:custGeom>
                <a:avLst/>
                <a:gdLst/>
                <a:ahLst/>
                <a:rect l="l" t="t" r="r" b="b"/>
                <a:pathLst>
                  <a:path w="5209" h="5123">
                    <a:moveTo>
                      <a:pt x="5209" y="2562"/>
                    </a:moveTo>
                    <a:lnTo>
                      <a:pt x="5206" y="2445"/>
                    </a:lnTo>
                    <a:lnTo>
                      <a:pt x="5198" y="2331"/>
                    </a:lnTo>
                    <a:lnTo>
                      <a:pt x="5186" y="2217"/>
                    </a:lnTo>
                    <a:lnTo>
                      <a:pt x="5169" y="2105"/>
                    </a:lnTo>
                    <a:lnTo>
                      <a:pt x="5146" y="1995"/>
                    </a:lnTo>
                    <a:lnTo>
                      <a:pt x="5120" y="1886"/>
                    </a:lnTo>
                    <a:lnTo>
                      <a:pt x="5089" y="1779"/>
                    </a:lnTo>
                    <a:lnTo>
                      <a:pt x="5053" y="1674"/>
                    </a:lnTo>
                    <a:lnTo>
                      <a:pt x="5013" y="1571"/>
                    </a:lnTo>
                    <a:lnTo>
                      <a:pt x="4969" y="1471"/>
                    </a:lnTo>
                    <a:lnTo>
                      <a:pt x="4921" y="1373"/>
                    </a:lnTo>
                    <a:lnTo>
                      <a:pt x="4870" y="1276"/>
                    </a:lnTo>
                    <a:lnTo>
                      <a:pt x="4813" y="1183"/>
                    </a:lnTo>
                    <a:lnTo>
                      <a:pt x="4754" y="1092"/>
                    </a:lnTo>
                    <a:lnTo>
                      <a:pt x="4690" y="1003"/>
                    </a:lnTo>
                    <a:lnTo>
                      <a:pt x="4623" y="918"/>
                    </a:lnTo>
                    <a:lnTo>
                      <a:pt x="4553" y="836"/>
                    </a:lnTo>
                    <a:lnTo>
                      <a:pt x="4479" y="756"/>
                    </a:lnTo>
                    <a:lnTo>
                      <a:pt x="4403" y="679"/>
                    </a:lnTo>
                    <a:lnTo>
                      <a:pt x="4323" y="606"/>
                    </a:lnTo>
                    <a:lnTo>
                      <a:pt x="4241" y="537"/>
                    </a:lnTo>
                    <a:lnTo>
                      <a:pt x="4154" y="470"/>
                    </a:lnTo>
                    <a:lnTo>
                      <a:pt x="4066" y="407"/>
                    </a:lnTo>
                    <a:lnTo>
                      <a:pt x="3975" y="348"/>
                    </a:lnTo>
                    <a:lnTo>
                      <a:pt x="3881" y="293"/>
                    </a:lnTo>
                    <a:lnTo>
                      <a:pt x="3785" y="241"/>
                    </a:lnTo>
                    <a:lnTo>
                      <a:pt x="3685" y="193"/>
                    </a:lnTo>
                    <a:lnTo>
                      <a:pt x="3585" y="149"/>
                    </a:lnTo>
                    <a:lnTo>
                      <a:pt x="3482" y="110"/>
                    </a:lnTo>
                    <a:lnTo>
                      <a:pt x="3376" y="76"/>
                    </a:lnTo>
                    <a:lnTo>
                      <a:pt x="3269" y="44"/>
                    </a:lnTo>
                    <a:lnTo>
                      <a:pt x="3161" y="18"/>
                    </a:lnTo>
                    <a:lnTo>
                      <a:pt x="3092" y="14"/>
                    </a:lnTo>
                    <a:lnTo>
                      <a:pt x="3023" y="11"/>
                    </a:lnTo>
                    <a:lnTo>
                      <a:pt x="2954" y="7"/>
                    </a:lnTo>
                    <a:lnTo>
                      <a:pt x="2885" y="4"/>
                    </a:lnTo>
                    <a:lnTo>
                      <a:pt x="2814" y="2"/>
                    </a:lnTo>
                    <a:lnTo>
                      <a:pt x="2745" y="1"/>
                    </a:lnTo>
                    <a:lnTo>
                      <a:pt x="2675" y="0"/>
                    </a:lnTo>
                    <a:lnTo>
                      <a:pt x="2604" y="0"/>
                    </a:lnTo>
                    <a:lnTo>
                      <a:pt x="2533" y="0"/>
                    </a:lnTo>
                    <a:lnTo>
                      <a:pt x="2463" y="1"/>
                    </a:lnTo>
                    <a:lnTo>
                      <a:pt x="2393" y="2"/>
                    </a:lnTo>
                    <a:lnTo>
                      <a:pt x="2324" y="4"/>
                    </a:lnTo>
                    <a:lnTo>
                      <a:pt x="2255" y="7"/>
                    </a:lnTo>
                    <a:lnTo>
                      <a:pt x="2185" y="11"/>
                    </a:lnTo>
                    <a:lnTo>
                      <a:pt x="2116" y="14"/>
                    </a:lnTo>
                    <a:lnTo>
                      <a:pt x="2047" y="18"/>
                    </a:lnTo>
                    <a:lnTo>
                      <a:pt x="1939" y="44"/>
                    </a:lnTo>
                    <a:lnTo>
                      <a:pt x="1832" y="76"/>
                    </a:lnTo>
                    <a:lnTo>
                      <a:pt x="1726" y="110"/>
                    </a:lnTo>
                    <a:lnTo>
                      <a:pt x="1624" y="149"/>
                    </a:lnTo>
                    <a:lnTo>
                      <a:pt x="1522" y="193"/>
                    </a:lnTo>
                    <a:lnTo>
                      <a:pt x="1424" y="241"/>
                    </a:lnTo>
                    <a:lnTo>
                      <a:pt x="1328" y="293"/>
                    </a:lnTo>
                    <a:lnTo>
                      <a:pt x="1234" y="348"/>
                    </a:lnTo>
                    <a:lnTo>
                      <a:pt x="1143" y="407"/>
                    </a:lnTo>
                    <a:lnTo>
                      <a:pt x="1054" y="470"/>
                    </a:lnTo>
                    <a:lnTo>
                      <a:pt x="968" y="537"/>
                    </a:lnTo>
                    <a:lnTo>
                      <a:pt x="886" y="606"/>
                    </a:lnTo>
                    <a:lnTo>
                      <a:pt x="806" y="679"/>
                    </a:lnTo>
                    <a:lnTo>
                      <a:pt x="729" y="756"/>
                    </a:lnTo>
                    <a:lnTo>
                      <a:pt x="655" y="836"/>
                    </a:lnTo>
                    <a:lnTo>
                      <a:pt x="585" y="918"/>
                    </a:lnTo>
                    <a:lnTo>
                      <a:pt x="518" y="1003"/>
                    </a:lnTo>
                    <a:lnTo>
                      <a:pt x="454" y="1092"/>
                    </a:lnTo>
                    <a:lnTo>
                      <a:pt x="395" y="1183"/>
                    </a:lnTo>
                    <a:lnTo>
                      <a:pt x="339" y="1276"/>
                    </a:lnTo>
                    <a:lnTo>
                      <a:pt x="287" y="1373"/>
                    </a:lnTo>
                    <a:lnTo>
                      <a:pt x="239" y="1471"/>
                    </a:lnTo>
                    <a:lnTo>
                      <a:pt x="195" y="1571"/>
                    </a:lnTo>
                    <a:lnTo>
                      <a:pt x="155" y="1674"/>
                    </a:lnTo>
                    <a:lnTo>
                      <a:pt x="119" y="1779"/>
                    </a:lnTo>
                    <a:lnTo>
                      <a:pt x="88" y="1886"/>
                    </a:lnTo>
                    <a:lnTo>
                      <a:pt x="62" y="1995"/>
                    </a:lnTo>
                    <a:lnTo>
                      <a:pt x="40" y="2105"/>
                    </a:lnTo>
                    <a:lnTo>
                      <a:pt x="22" y="2217"/>
                    </a:lnTo>
                    <a:lnTo>
                      <a:pt x="10" y="2331"/>
                    </a:lnTo>
                    <a:lnTo>
                      <a:pt x="3" y="2445"/>
                    </a:lnTo>
                    <a:lnTo>
                      <a:pt x="0" y="2562"/>
                    </a:lnTo>
                    <a:lnTo>
                      <a:pt x="3" y="2677"/>
                    </a:lnTo>
                    <a:lnTo>
                      <a:pt x="10" y="2793"/>
                    </a:lnTo>
                    <a:lnTo>
                      <a:pt x="22" y="2906"/>
                    </a:lnTo>
                    <a:lnTo>
                      <a:pt x="40" y="3019"/>
                    </a:lnTo>
                    <a:lnTo>
                      <a:pt x="62" y="3129"/>
                    </a:lnTo>
                    <a:lnTo>
                      <a:pt x="88" y="3237"/>
                    </a:lnTo>
                    <a:lnTo>
                      <a:pt x="119" y="3344"/>
                    </a:lnTo>
                    <a:lnTo>
                      <a:pt x="155" y="3448"/>
                    </a:lnTo>
                    <a:lnTo>
                      <a:pt x="195" y="3552"/>
                    </a:lnTo>
                    <a:lnTo>
                      <a:pt x="239" y="3652"/>
                    </a:lnTo>
                    <a:lnTo>
                      <a:pt x="287" y="3751"/>
                    </a:lnTo>
                    <a:lnTo>
                      <a:pt x="339" y="3847"/>
                    </a:lnTo>
                    <a:lnTo>
                      <a:pt x="395" y="3940"/>
                    </a:lnTo>
                    <a:lnTo>
                      <a:pt x="454" y="4032"/>
                    </a:lnTo>
                    <a:lnTo>
                      <a:pt x="518" y="4119"/>
                    </a:lnTo>
                    <a:lnTo>
                      <a:pt x="585" y="4205"/>
                    </a:lnTo>
                    <a:lnTo>
                      <a:pt x="655" y="4288"/>
                    </a:lnTo>
                    <a:lnTo>
                      <a:pt x="729" y="4367"/>
                    </a:lnTo>
                    <a:lnTo>
                      <a:pt x="806" y="4443"/>
                    </a:lnTo>
                    <a:lnTo>
                      <a:pt x="886" y="4516"/>
                    </a:lnTo>
                    <a:lnTo>
                      <a:pt x="968" y="4587"/>
                    </a:lnTo>
                    <a:lnTo>
                      <a:pt x="1054" y="4653"/>
                    </a:lnTo>
                    <a:lnTo>
                      <a:pt x="1143" y="4716"/>
                    </a:lnTo>
                    <a:lnTo>
                      <a:pt x="1234" y="4775"/>
                    </a:lnTo>
                    <a:lnTo>
                      <a:pt x="1328" y="4831"/>
                    </a:lnTo>
                    <a:lnTo>
                      <a:pt x="1424" y="4883"/>
                    </a:lnTo>
                    <a:lnTo>
                      <a:pt x="1522" y="4930"/>
                    </a:lnTo>
                    <a:lnTo>
                      <a:pt x="1624" y="4973"/>
                    </a:lnTo>
                    <a:lnTo>
                      <a:pt x="1726" y="5012"/>
                    </a:lnTo>
                    <a:lnTo>
                      <a:pt x="1832" y="5048"/>
                    </a:lnTo>
                    <a:lnTo>
                      <a:pt x="1939" y="5078"/>
                    </a:lnTo>
                    <a:lnTo>
                      <a:pt x="2047" y="5105"/>
                    </a:lnTo>
                    <a:lnTo>
                      <a:pt x="2116" y="5109"/>
                    </a:lnTo>
                    <a:lnTo>
                      <a:pt x="2185" y="5113"/>
                    </a:lnTo>
                    <a:lnTo>
                      <a:pt x="2255" y="5116"/>
                    </a:lnTo>
                    <a:lnTo>
                      <a:pt x="2324" y="5118"/>
                    </a:lnTo>
                    <a:lnTo>
                      <a:pt x="2393" y="5120"/>
                    </a:lnTo>
                    <a:lnTo>
                      <a:pt x="2463" y="5121"/>
                    </a:lnTo>
                    <a:lnTo>
                      <a:pt x="2533" y="5122"/>
                    </a:lnTo>
                    <a:lnTo>
                      <a:pt x="2604" y="5123"/>
                    </a:lnTo>
                    <a:lnTo>
                      <a:pt x="2676" y="5122"/>
                    </a:lnTo>
                    <a:lnTo>
                      <a:pt x="2750" y="5121"/>
                    </a:lnTo>
                    <a:lnTo>
                      <a:pt x="2822" y="5119"/>
                    </a:lnTo>
                    <a:lnTo>
                      <a:pt x="2895" y="5117"/>
                    </a:lnTo>
                    <a:lnTo>
                      <a:pt x="2969" y="5113"/>
                    </a:lnTo>
                    <a:lnTo>
                      <a:pt x="3042" y="5108"/>
                    </a:lnTo>
                    <a:lnTo>
                      <a:pt x="3115" y="5104"/>
                    </a:lnTo>
                    <a:lnTo>
                      <a:pt x="3188" y="5099"/>
                    </a:lnTo>
                    <a:lnTo>
                      <a:pt x="3225" y="5090"/>
                    </a:lnTo>
                    <a:lnTo>
                      <a:pt x="3261" y="5081"/>
                    </a:lnTo>
                    <a:lnTo>
                      <a:pt x="3297" y="5072"/>
                    </a:lnTo>
                    <a:lnTo>
                      <a:pt x="3333" y="5061"/>
                    </a:lnTo>
                    <a:lnTo>
                      <a:pt x="3404" y="5039"/>
                    </a:lnTo>
                    <a:lnTo>
                      <a:pt x="3475" y="5015"/>
                    </a:lnTo>
                    <a:lnTo>
                      <a:pt x="3544" y="4990"/>
                    </a:lnTo>
                    <a:lnTo>
                      <a:pt x="3612" y="4963"/>
                    </a:lnTo>
                    <a:lnTo>
                      <a:pt x="3680" y="4932"/>
                    </a:lnTo>
                    <a:lnTo>
                      <a:pt x="3746" y="4901"/>
                    </a:lnTo>
                    <a:lnTo>
                      <a:pt x="3727" y="4864"/>
                    </a:lnTo>
                    <a:lnTo>
                      <a:pt x="3664" y="4894"/>
                    </a:lnTo>
                    <a:lnTo>
                      <a:pt x="3599" y="4923"/>
                    </a:lnTo>
                    <a:lnTo>
                      <a:pt x="3533" y="4950"/>
                    </a:lnTo>
                    <a:lnTo>
                      <a:pt x="3466" y="4974"/>
                    </a:lnTo>
                    <a:lnTo>
                      <a:pt x="3398" y="4997"/>
                    </a:lnTo>
                    <a:lnTo>
                      <a:pt x="3330" y="5019"/>
                    </a:lnTo>
                    <a:lnTo>
                      <a:pt x="3260" y="5038"/>
                    </a:lnTo>
                    <a:lnTo>
                      <a:pt x="3189" y="5055"/>
                    </a:lnTo>
                    <a:lnTo>
                      <a:pt x="3119" y="5072"/>
                    </a:lnTo>
                    <a:lnTo>
                      <a:pt x="3048" y="5085"/>
                    </a:lnTo>
                    <a:lnTo>
                      <a:pt x="2975" y="5096"/>
                    </a:lnTo>
                    <a:lnTo>
                      <a:pt x="2902" y="5106"/>
                    </a:lnTo>
                    <a:lnTo>
                      <a:pt x="2828" y="5113"/>
                    </a:lnTo>
                    <a:lnTo>
                      <a:pt x="2754" y="5118"/>
                    </a:lnTo>
                    <a:lnTo>
                      <a:pt x="2717" y="5120"/>
                    </a:lnTo>
                    <a:lnTo>
                      <a:pt x="2679" y="5121"/>
                    </a:lnTo>
                    <a:lnTo>
                      <a:pt x="2641" y="5122"/>
                    </a:lnTo>
                    <a:lnTo>
                      <a:pt x="2604" y="5122"/>
                    </a:lnTo>
                    <a:lnTo>
                      <a:pt x="2472" y="5119"/>
                    </a:lnTo>
                    <a:lnTo>
                      <a:pt x="2342" y="5109"/>
                    </a:lnTo>
                    <a:lnTo>
                      <a:pt x="2214" y="5093"/>
                    </a:lnTo>
                    <a:lnTo>
                      <a:pt x="2088" y="5071"/>
                    </a:lnTo>
                    <a:lnTo>
                      <a:pt x="1964" y="5042"/>
                    </a:lnTo>
                    <a:lnTo>
                      <a:pt x="1842" y="5008"/>
                    </a:lnTo>
                    <a:lnTo>
                      <a:pt x="1723" y="4968"/>
                    </a:lnTo>
                    <a:lnTo>
                      <a:pt x="1606" y="4921"/>
                    </a:lnTo>
                    <a:lnTo>
                      <a:pt x="1493" y="4871"/>
                    </a:lnTo>
                    <a:lnTo>
                      <a:pt x="1383" y="4813"/>
                    </a:lnTo>
                    <a:lnTo>
                      <a:pt x="1276" y="4752"/>
                    </a:lnTo>
                    <a:lnTo>
                      <a:pt x="1172" y="4685"/>
                    </a:lnTo>
                    <a:lnTo>
                      <a:pt x="1071" y="4614"/>
                    </a:lnTo>
                    <a:lnTo>
                      <a:pt x="974" y="4538"/>
                    </a:lnTo>
                    <a:lnTo>
                      <a:pt x="881" y="4457"/>
                    </a:lnTo>
                    <a:lnTo>
                      <a:pt x="793" y="4373"/>
                    </a:lnTo>
                    <a:lnTo>
                      <a:pt x="707" y="4283"/>
                    </a:lnTo>
                    <a:lnTo>
                      <a:pt x="626" y="4190"/>
                    </a:lnTo>
                    <a:lnTo>
                      <a:pt x="551" y="4094"/>
                    </a:lnTo>
                    <a:lnTo>
                      <a:pt x="479" y="3994"/>
                    </a:lnTo>
                    <a:lnTo>
                      <a:pt x="412" y="3890"/>
                    </a:lnTo>
                    <a:lnTo>
                      <a:pt x="351" y="3782"/>
                    </a:lnTo>
                    <a:lnTo>
                      <a:pt x="295" y="3672"/>
                    </a:lnTo>
                    <a:lnTo>
                      <a:pt x="243" y="3559"/>
                    </a:lnTo>
                    <a:lnTo>
                      <a:pt x="197" y="3442"/>
                    </a:lnTo>
                    <a:lnTo>
                      <a:pt x="156" y="3323"/>
                    </a:lnTo>
                    <a:lnTo>
                      <a:pt x="123" y="3201"/>
                    </a:lnTo>
                    <a:lnTo>
                      <a:pt x="94" y="3078"/>
                    </a:lnTo>
                    <a:lnTo>
                      <a:pt x="71" y="2952"/>
                    </a:lnTo>
                    <a:lnTo>
                      <a:pt x="55" y="2823"/>
                    </a:lnTo>
                    <a:lnTo>
                      <a:pt x="45" y="2693"/>
                    </a:lnTo>
                    <a:lnTo>
                      <a:pt x="42" y="2562"/>
                    </a:lnTo>
                    <a:lnTo>
                      <a:pt x="45" y="2430"/>
                    </a:lnTo>
                    <a:lnTo>
                      <a:pt x="55" y="2299"/>
                    </a:lnTo>
                    <a:lnTo>
                      <a:pt x="71" y="2172"/>
                    </a:lnTo>
                    <a:lnTo>
                      <a:pt x="94" y="2045"/>
                    </a:lnTo>
                    <a:lnTo>
                      <a:pt x="123" y="1921"/>
                    </a:lnTo>
                    <a:lnTo>
                      <a:pt x="156" y="1800"/>
                    </a:lnTo>
                    <a:lnTo>
                      <a:pt x="197" y="1680"/>
                    </a:lnTo>
                    <a:lnTo>
                      <a:pt x="243" y="1565"/>
                    </a:lnTo>
                    <a:lnTo>
                      <a:pt x="295" y="1451"/>
                    </a:lnTo>
                    <a:lnTo>
                      <a:pt x="351" y="1340"/>
                    </a:lnTo>
                    <a:lnTo>
                      <a:pt x="412" y="1233"/>
                    </a:lnTo>
                    <a:lnTo>
                      <a:pt x="479" y="1130"/>
                    </a:lnTo>
                    <a:lnTo>
                      <a:pt x="551" y="1029"/>
                    </a:lnTo>
                    <a:lnTo>
                      <a:pt x="626" y="932"/>
                    </a:lnTo>
                    <a:lnTo>
                      <a:pt x="707" y="839"/>
                    </a:lnTo>
                    <a:lnTo>
                      <a:pt x="793" y="751"/>
                    </a:lnTo>
                    <a:lnTo>
                      <a:pt x="881" y="665"/>
                    </a:lnTo>
                    <a:lnTo>
                      <a:pt x="974" y="585"/>
                    </a:lnTo>
                    <a:lnTo>
                      <a:pt x="1071" y="509"/>
                    </a:lnTo>
                    <a:lnTo>
                      <a:pt x="1172" y="437"/>
                    </a:lnTo>
                    <a:lnTo>
                      <a:pt x="1276" y="370"/>
                    </a:lnTo>
                    <a:lnTo>
                      <a:pt x="1383" y="309"/>
                    </a:lnTo>
                    <a:lnTo>
                      <a:pt x="1493" y="253"/>
                    </a:lnTo>
                    <a:lnTo>
                      <a:pt x="1606" y="201"/>
                    </a:lnTo>
                    <a:lnTo>
                      <a:pt x="1723" y="155"/>
                    </a:lnTo>
                    <a:lnTo>
                      <a:pt x="1842" y="115"/>
                    </a:lnTo>
                    <a:lnTo>
                      <a:pt x="1964" y="81"/>
                    </a:lnTo>
                    <a:lnTo>
                      <a:pt x="2088" y="52"/>
                    </a:lnTo>
                    <a:lnTo>
                      <a:pt x="2214" y="29"/>
                    </a:lnTo>
                    <a:lnTo>
                      <a:pt x="2342" y="13"/>
                    </a:lnTo>
                    <a:lnTo>
                      <a:pt x="2472" y="3"/>
                    </a:lnTo>
                    <a:lnTo>
                      <a:pt x="2604" y="0"/>
                    </a:lnTo>
                    <a:lnTo>
                      <a:pt x="2737" y="3"/>
                    </a:lnTo>
                    <a:lnTo>
                      <a:pt x="2866" y="13"/>
                    </a:lnTo>
                    <a:lnTo>
                      <a:pt x="2995" y="29"/>
                    </a:lnTo>
                    <a:lnTo>
                      <a:pt x="3120" y="52"/>
                    </a:lnTo>
                    <a:lnTo>
                      <a:pt x="3244" y="81"/>
                    </a:lnTo>
                    <a:lnTo>
                      <a:pt x="3367" y="115"/>
                    </a:lnTo>
                    <a:lnTo>
                      <a:pt x="3485" y="155"/>
                    </a:lnTo>
                    <a:lnTo>
                      <a:pt x="3602" y="201"/>
                    </a:lnTo>
                    <a:lnTo>
                      <a:pt x="3716" y="253"/>
                    </a:lnTo>
                    <a:lnTo>
                      <a:pt x="3826" y="309"/>
                    </a:lnTo>
                    <a:lnTo>
                      <a:pt x="3933" y="370"/>
                    </a:lnTo>
                    <a:lnTo>
                      <a:pt x="4036" y="437"/>
                    </a:lnTo>
                    <a:lnTo>
                      <a:pt x="4137" y="509"/>
                    </a:lnTo>
                    <a:lnTo>
                      <a:pt x="4234" y="585"/>
                    </a:lnTo>
                    <a:lnTo>
                      <a:pt x="4327" y="665"/>
                    </a:lnTo>
                    <a:lnTo>
                      <a:pt x="4416" y="751"/>
                    </a:lnTo>
                    <a:lnTo>
                      <a:pt x="4501" y="839"/>
                    </a:lnTo>
                    <a:lnTo>
                      <a:pt x="4581" y="932"/>
                    </a:lnTo>
                    <a:lnTo>
                      <a:pt x="4658" y="1029"/>
                    </a:lnTo>
                    <a:lnTo>
                      <a:pt x="4729" y="1130"/>
                    </a:lnTo>
                    <a:lnTo>
                      <a:pt x="4796" y="1233"/>
                    </a:lnTo>
                    <a:lnTo>
                      <a:pt x="4858" y="1340"/>
                    </a:lnTo>
                    <a:lnTo>
                      <a:pt x="4914" y="1451"/>
                    </a:lnTo>
                    <a:lnTo>
                      <a:pt x="4966" y="1565"/>
                    </a:lnTo>
                    <a:lnTo>
                      <a:pt x="5011" y="1680"/>
                    </a:lnTo>
                    <a:lnTo>
                      <a:pt x="5051" y="1800"/>
                    </a:lnTo>
                    <a:lnTo>
                      <a:pt x="5086" y="1921"/>
                    </a:lnTo>
                    <a:lnTo>
                      <a:pt x="5115" y="2045"/>
                    </a:lnTo>
                    <a:lnTo>
                      <a:pt x="5138" y="2172"/>
                    </a:lnTo>
                    <a:lnTo>
                      <a:pt x="5154" y="2299"/>
                    </a:lnTo>
                    <a:lnTo>
                      <a:pt x="5163" y="2430"/>
                    </a:lnTo>
                    <a:lnTo>
                      <a:pt x="5167" y="2562"/>
                    </a:lnTo>
                    <a:lnTo>
                      <a:pt x="5167" y="2605"/>
                    </a:lnTo>
                    <a:lnTo>
                      <a:pt x="5166" y="2647"/>
                    </a:lnTo>
                    <a:lnTo>
                      <a:pt x="5163" y="2690"/>
                    </a:lnTo>
                    <a:lnTo>
                      <a:pt x="5161" y="2732"/>
                    </a:lnTo>
                    <a:lnTo>
                      <a:pt x="5158" y="2776"/>
                    </a:lnTo>
                    <a:lnTo>
                      <a:pt x="5154" y="2818"/>
                    </a:lnTo>
                    <a:lnTo>
                      <a:pt x="5149" y="2860"/>
                    </a:lnTo>
                    <a:lnTo>
                      <a:pt x="5144" y="2901"/>
                    </a:lnTo>
                    <a:lnTo>
                      <a:pt x="5139" y="2943"/>
                    </a:lnTo>
                    <a:lnTo>
                      <a:pt x="5132" y="2984"/>
                    </a:lnTo>
                    <a:lnTo>
                      <a:pt x="5125" y="3025"/>
                    </a:lnTo>
                    <a:lnTo>
                      <a:pt x="5117" y="3066"/>
                    </a:lnTo>
                    <a:lnTo>
                      <a:pt x="5108" y="3107"/>
                    </a:lnTo>
                    <a:lnTo>
                      <a:pt x="5100" y="3147"/>
                    </a:lnTo>
                    <a:lnTo>
                      <a:pt x="5090" y="3187"/>
                    </a:lnTo>
                    <a:lnTo>
                      <a:pt x="5079" y="3227"/>
                    </a:lnTo>
                    <a:lnTo>
                      <a:pt x="5119" y="3238"/>
                    </a:lnTo>
                    <a:lnTo>
                      <a:pt x="5130" y="3198"/>
                    </a:lnTo>
                    <a:lnTo>
                      <a:pt x="5140" y="3157"/>
                    </a:lnTo>
                    <a:lnTo>
                      <a:pt x="5149" y="3116"/>
                    </a:lnTo>
                    <a:lnTo>
                      <a:pt x="5158" y="3075"/>
                    </a:lnTo>
                    <a:lnTo>
                      <a:pt x="5166" y="3033"/>
                    </a:lnTo>
                    <a:lnTo>
                      <a:pt x="5173" y="2990"/>
                    </a:lnTo>
                    <a:lnTo>
                      <a:pt x="5180" y="2949"/>
                    </a:lnTo>
                    <a:lnTo>
                      <a:pt x="5186" y="2906"/>
                    </a:lnTo>
                    <a:lnTo>
                      <a:pt x="5190" y="2864"/>
                    </a:lnTo>
                    <a:lnTo>
                      <a:pt x="5196" y="2822"/>
                    </a:lnTo>
                    <a:lnTo>
                      <a:pt x="5199" y="2779"/>
                    </a:lnTo>
                    <a:lnTo>
                      <a:pt x="5202" y="2736"/>
                    </a:lnTo>
                    <a:lnTo>
                      <a:pt x="5206" y="2692"/>
                    </a:lnTo>
                    <a:lnTo>
                      <a:pt x="5207" y="2649"/>
                    </a:lnTo>
                    <a:lnTo>
                      <a:pt x="5208" y="2605"/>
                    </a:lnTo>
                    <a:lnTo>
                      <a:pt x="5209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549600" y="1981080"/>
                <a:ext cx="2049480" cy="2033640"/>
              </a:xfrm>
              <a:custGeom>
                <a:avLst/>
                <a:gdLst/>
                <a:ahLst/>
                <a:rect l="l" t="t" r="r" b="b"/>
                <a:pathLst>
                  <a:path w="5166" h="5123">
                    <a:moveTo>
                      <a:pt x="5166" y="2562"/>
                    </a:moveTo>
                    <a:lnTo>
                      <a:pt x="5164" y="2441"/>
                    </a:lnTo>
                    <a:lnTo>
                      <a:pt x="5155" y="2322"/>
                    </a:lnTo>
                    <a:lnTo>
                      <a:pt x="5142" y="2204"/>
                    </a:lnTo>
                    <a:lnTo>
                      <a:pt x="5123" y="2089"/>
                    </a:lnTo>
                    <a:lnTo>
                      <a:pt x="5099" y="1974"/>
                    </a:lnTo>
                    <a:lnTo>
                      <a:pt x="5071" y="1863"/>
                    </a:lnTo>
                    <a:lnTo>
                      <a:pt x="5038" y="1753"/>
                    </a:lnTo>
                    <a:lnTo>
                      <a:pt x="4999" y="1645"/>
                    </a:lnTo>
                    <a:lnTo>
                      <a:pt x="4956" y="1539"/>
                    </a:lnTo>
                    <a:lnTo>
                      <a:pt x="4909" y="1435"/>
                    </a:lnTo>
                    <a:lnTo>
                      <a:pt x="4857" y="1335"/>
                    </a:lnTo>
                    <a:lnTo>
                      <a:pt x="4801" y="1237"/>
                    </a:lnTo>
                    <a:lnTo>
                      <a:pt x="4740" y="1140"/>
                    </a:lnTo>
                    <a:lnTo>
                      <a:pt x="4677" y="1049"/>
                    </a:lnTo>
                    <a:lnTo>
                      <a:pt x="4609" y="959"/>
                    </a:lnTo>
                    <a:lnTo>
                      <a:pt x="4537" y="871"/>
                    </a:lnTo>
                    <a:lnTo>
                      <a:pt x="4462" y="788"/>
                    </a:lnTo>
                    <a:lnTo>
                      <a:pt x="4383" y="708"/>
                    </a:lnTo>
                    <a:lnTo>
                      <a:pt x="4301" y="633"/>
                    </a:lnTo>
                    <a:lnTo>
                      <a:pt x="4215" y="559"/>
                    </a:lnTo>
                    <a:lnTo>
                      <a:pt x="4127" y="490"/>
                    </a:lnTo>
                    <a:lnTo>
                      <a:pt x="4035" y="425"/>
                    </a:lnTo>
                    <a:lnTo>
                      <a:pt x="3940" y="364"/>
                    </a:lnTo>
                    <a:lnTo>
                      <a:pt x="3843" y="307"/>
                    </a:lnTo>
                    <a:lnTo>
                      <a:pt x="3742" y="254"/>
                    </a:lnTo>
                    <a:lnTo>
                      <a:pt x="3639" y="204"/>
                    </a:lnTo>
                    <a:lnTo>
                      <a:pt x="3535" y="160"/>
                    </a:lnTo>
                    <a:lnTo>
                      <a:pt x="3428" y="120"/>
                    </a:lnTo>
                    <a:lnTo>
                      <a:pt x="3318" y="85"/>
                    </a:lnTo>
                    <a:lnTo>
                      <a:pt x="3206" y="55"/>
                    </a:lnTo>
                    <a:lnTo>
                      <a:pt x="3093" y="29"/>
                    </a:lnTo>
                    <a:lnTo>
                      <a:pt x="2978" y="9"/>
                    </a:lnTo>
                    <a:lnTo>
                      <a:pt x="2928" y="7"/>
                    </a:lnTo>
                    <a:lnTo>
                      <a:pt x="2880" y="5"/>
                    </a:lnTo>
                    <a:lnTo>
                      <a:pt x="2831" y="3"/>
                    </a:lnTo>
                    <a:lnTo>
                      <a:pt x="2781" y="2"/>
                    </a:lnTo>
                    <a:lnTo>
                      <a:pt x="2732" y="1"/>
                    </a:lnTo>
                    <a:lnTo>
                      <a:pt x="2682" y="1"/>
                    </a:lnTo>
                    <a:lnTo>
                      <a:pt x="2633" y="0"/>
                    </a:lnTo>
                    <a:lnTo>
                      <a:pt x="2583" y="0"/>
                    </a:lnTo>
                    <a:lnTo>
                      <a:pt x="2533" y="0"/>
                    </a:lnTo>
                    <a:lnTo>
                      <a:pt x="2483" y="1"/>
                    </a:lnTo>
                    <a:lnTo>
                      <a:pt x="2435" y="1"/>
                    </a:lnTo>
                    <a:lnTo>
                      <a:pt x="2385" y="2"/>
                    </a:lnTo>
                    <a:lnTo>
                      <a:pt x="2335" y="3"/>
                    </a:lnTo>
                    <a:lnTo>
                      <a:pt x="2287" y="5"/>
                    </a:lnTo>
                    <a:lnTo>
                      <a:pt x="2238" y="7"/>
                    </a:lnTo>
                    <a:lnTo>
                      <a:pt x="2188" y="9"/>
                    </a:lnTo>
                    <a:lnTo>
                      <a:pt x="2074" y="29"/>
                    </a:lnTo>
                    <a:lnTo>
                      <a:pt x="1960" y="55"/>
                    </a:lnTo>
                    <a:lnTo>
                      <a:pt x="1848" y="85"/>
                    </a:lnTo>
                    <a:lnTo>
                      <a:pt x="1739" y="120"/>
                    </a:lnTo>
                    <a:lnTo>
                      <a:pt x="1632" y="160"/>
                    </a:lnTo>
                    <a:lnTo>
                      <a:pt x="1526" y="204"/>
                    </a:lnTo>
                    <a:lnTo>
                      <a:pt x="1424" y="254"/>
                    </a:lnTo>
                    <a:lnTo>
                      <a:pt x="1324" y="307"/>
                    </a:lnTo>
                    <a:lnTo>
                      <a:pt x="1227" y="364"/>
                    </a:lnTo>
                    <a:lnTo>
                      <a:pt x="1131" y="425"/>
                    </a:lnTo>
                    <a:lnTo>
                      <a:pt x="1040" y="490"/>
                    </a:lnTo>
                    <a:lnTo>
                      <a:pt x="951" y="559"/>
                    </a:lnTo>
                    <a:lnTo>
                      <a:pt x="866" y="633"/>
                    </a:lnTo>
                    <a:lnTo>
                      <a:pt x="784" y="708"/>
                    </a:lnTo>
                    <a:lnTo>
                      <a:pt x="705" y="788"/>
                    </a:lnTo>
                    <a:lnTo>
                      <a:pt x="629" y="871"/>
                    </a:lnTo>
                    <a:lnTo>
                      <a:pt x="558" y="959"/>
                    </a:lnTo>
                    <a:lnTo>
                      <a:pt x="490" y="1049"/>
                    </a:lnTo>
                    <a:lnTo>
                      <a:pt x="426" y="1140"/>
                    </a:lnTo>
                    <a:lnTo>
                      <a:pt x="365" y="1237"/>
                    </a:lnTo>
                    <a:lnTo>
                      <a:pt x="309" y="1335"/>
                    </a:lnTo>
                    <a:lnTo>
                      <a:pt x="257" y="1435"/>
                    </a:lnTo>
                    <a:lnTo>
                      <a:pt x="211" y="1539"/>
                    </a:lnTo>
                    <a:lnTo>
                      <a:pt x="168" y="1645"/>
                    </a:lnTo>
                    <a:lnTo>
                      <a:pt x="129" y="1753"/>
                    </a:lnTo>
                    <a:lnTo>
                      <a:pt x="95" y="1863"/>
                    </a:lnTo>
                    <a:lnTo>
                      <a:pt x="67" y="1974"/>
                    </a:lnTo>
                    <a:lnTo>
                      <a:pt x="43" y="2089"/>
                    </a:lnTo>
                    <a:lnTo>
                      <a:pt x="24" y="2204"/>
                    </a:lnTo>
                    <a:lnTo>
                      <a:pt x="11" y="2322"/>
                    </a:lnTo>
                    <a:lnTo>
                      <a:pt x="2" y="2441"/>
                    </a:lnTo>
                    <a:lnTo>
                      <a:pt x="0" y="2562"/>
                    </a:lnTo>
                    <a:lnTo>
                      <a:pt x="2" y="2682"/>
                    </a:lnTo>
                    <a:lnTo>
                      <a:pt x="11" y="2800"/>
                    </a:lnTo>
                    <a:lnTo>
                      <a:pt x="24" y="2918"/>
                    </a:lnTo>
                    <a:lnTo>
                      <a:pt x="43" y="3035"/>
                    </a:lnTo>
                    <a:lnTo>
                      <a:pt x="67" y="3148"/>
                    </a:lnTo>
                    <a:lnTo>
                      <a:pt x="95" y="3260"/>
                    </a:lnTo>
                    <a:lnTo>
                      <a:pt x="129" y="3371"/>
                    </a:lnTo>
                    <a:lnTo>
                      <a:pt x="168" y="3479"/>
                    </a:lnTo>
                    <a:lnTo>
                      <a:pt x="211" y="3584"/>
                    </a:lnTo>
                    <a:lnTo>
                      <a:pt x="257" y="3688"/>
                    </a:lnTo>
                    <a:lnTo>
                      <a:pt x="309" y="3789"/>
                    </a:lnTo>
                    <a:lnTo>
                      <a:pt x="365" y="3887"/>
                    </a:lnTo>
                    <a:lnTo>
                      <a:pt x="426" y="3982"/>
                    </a:lnTo>
                    <a:lnTo>
                      <a:pt x="490" y="4075"/>
                    </a:lnTo>
                    <a:lnTo>
                      <a:pt x="558" y="4164"/>
                    </a:lnTo>
                    <a:lnTo>
                      <a:pt x="629" y="4251"/>
                    </a:lnTo>
                    <a:lnTo>
                      <a:pt x="705" y="4334"/>
                    </a:lnTo>
                    <a:lnTo>
                      <a:pt x="784" y="4414"/>
                    </a:lnTo>
                    <a:lnTo>
                      <a:pt x="866" y="4491"/>
                    </a:lnTo>
                    <a:lnTo>
                      <a:pt x="951" y="4563"/>
                    </a:lnTo>
                    <a:lnTo>
                      <a:pt x="1040" y="4632"/>
                    </a:lnTo>
                    <a:lnTo>
                      <a:pt x="1131" y="4698"/>
                    </a:lnTo>
                    <a:lnTo>
                      <a:pt x="1227" y="4759"/>
                    </a:lnTo>
                    <a:lnTo>
                      <a:pt x="1324" y="4817"/>
                    </a:lnTo>
                    <a:lnTo>
                      <a:pt x="1423" y="4870"/>
                    </a:lnTo>
                    <a:lnTo>
                      <a:pt x="1526" y="4918"/>
                    </a:lnTo>
                    <a:lnTo>
                      <a:pt x="1632" y="4963"/>
                    </a:lnTo>
                    <a:lnTo>
                      <a:pt x="1739" y="5002"/>
                    </a:lnTo>
                    <a:lnTo>
                      <a:pt x="1848" y="5038"/>
                    </a:lnTo>
                    <a:lnTo>
                      <a:pt x="1960" y="5068"/>
                    </a:lnTo>
                    <a:lnTo>
                      <a:pt x="2074" y="5093"/>
                    </a:lnTo>
                    <a:lnTo>
                      <a:pt x="2188" y="5114"/>
                    </a:lnTo>
                    <a:lnTo>
                      <a:pt x="2238" y="5116"/>
                    </a:lnTo>
                    <a:lnTo>
                      <a:pt x="2287" y="5118"/>
                    </a:lnTo>
                    <a:lnTo>
                      <a:pt x="2335" y="5119"/>
                    </a:lnTo>
                    <a:lnTo>
                      <a:pt x="2385" y="5120"/>
                    </a:lnTo>
                    <a:lnTo>
                      <a:pt x="2435" y="5121"/>
                    </a:lnTo>
                    <a:lnTo>
                      <a:pt x="2483" y="5122"/>
                    </a:lnTo>
                    <a:lnTo>
                      <a:pt x="2533" y="5122"/>
                    </a:lnTo>
                    <a:lnTo>
                      <a:pt x="2583" y="5123"/>
                    </a:lnTo>
                    <a:lnTo>
                      <a:pt x="2635" y="5122"/>
                    </a:lnTo>
                    <a:lnTo>
                      <a:pt x="2686" y="5122"/>
                    </a:lnTo>
                    <a:lnTo>
                      <a:pt x="2738" y="5121"/>
                    </a:lnTo>
                    <a:lnTo>
                      <a:pt x="2790" y="5119"/>
                    </a:lnTo>
                    <a:lnTo>
                      <a:pt x="2843" y="5118"/>
                    </a:lnTo>
                    <a:lnTo>
                      <a:pt x="2895" y="5116"/>
                    </a:lnTo>
                    <a:lnTo>
                      <a:pt x="2947" y="5113"/>
                    </a:lnTo>
                    <a:lnTo>
                      <a:pt x="3000" y="5110"/>
                    </a:lnTo>
                    <a:lnTo>
                      <a:pt x="3047" y="5102"/>
                    </a:lnTo>
                    <a:lnTo>
                      <a:pt x="3094" y="5093"/>
                    </a:lnTo>
                    <a:lnTo>
                      <a:pt x="3140" y="5083"/>
                    </a:lnTo>
                    <a:lnTo>
                      <a:pt x="3187" y="5073"/>
                    </a:lnTo>
                    <a:lnTo>
                      <a:pt x="3233" y="5061"/>
                    </a:lnTo>
                    <a:lnTo>
                      <a:pt x="3279" y="5049"/>
                    </a:lnTo>
                    <a:lnTo>
                      <a:pt x="3324" y="5036"/>
                    </a:lnTo>
                    <a:lnTo>
                      <a:pt x="3369" y="5022"/>
                    </a:lnTo>
                    <a:lnTo>
                      <a:pt x="3414" y="5007"/>
                    </a:lnTo>
                    <a:lnTo>
                      <a:pt x="3458" y="4992"/>
                    </a:lnTo>
                    <a:lnTo>
                      <a:pt x="3502" y="4975"/>
                    </a:lnTo>
                    <a:lnTo>
                      <a:pt x="3545" y="4958"/>
                    </a:lnTo>
                    <a:lnTo>
                      <a:pt x="3589" y="4941"/>
                    </a:lnTo>
                    <a:lnTo>
                      <a:pt x="3632" y="4923"/>
                    </a:lnTo>
                    <a:lnTo>
                      <a:pt x="3674" y="4903"/>
                    </a:lnTo>
                    <a:lnTo>
                      <a:pt x="3716" y="4883"/>
                    </a:lnTo>
                    <a:lnTo>
                      <a:pt x="3698" y="4845"/>
                    </a:lnTo>
                    <a:lnTo>
                      <a:pt x="3634" y="4875"/>
                    </a:lnTo>
                    <a:lnTo>
                      <a:pt x="3569" y="4903"/>
                    </a:lnTo>
                    <a:lnTo>
                      <a:pt x="3504" y="4930"/>
                    </a:lnTo>
                    <a:lnTo>
                      <a:pt x="3437" y="4955"/>
                    </a:lnTo>
                    <a:lnTo>
                      <a:pt x="3370" y="4978"/>
                    </a:lnTo>
                    <a:lnTo>
                      <a:pt x="3302" y="4999"/>
                    </a:lnTo>
                    <a:lnTo>
                      <a:pt x="3233" y="5018"/>
                    </a:lnTo>
                    <a:lnTo>
                      <a:pt x="3164" y="5035"/>
                    </a:lnTo>
                    <a:lnTo>
                      <a:pt x="3094" y="5051"/>
                    </a:lnTo>
                    <a:lnTo>
                      <a:pt x="3022" y="5064"/>
                    </a:lnTo>
                    <a:lnTo>
                      <a:pt x="2951" y="5076"/>
                    </a:lnTo>
                    <a:lnTo>
                      <a:pt x="2879" y="5085"/>
                    </a:lnTo>
                    <a:lnTo>
                      <a:pt x="2805" y="5092"/>
                    </a:lnTo>
                    <a:lnTo>
                      <a:pt x="2732" y="5098"/>
                    </a:lnTo>
                    <a:lnTo>
                      <a:pt x="2658" y="5101"/>
                    </a:lnTo>
                    <a:lnTo>
                      <a:pt x="2583" y="5102"/>
                    </a:lnTo>
                    <a:lnTo>
                      <a:pt x="2452" y="5099"/>
                    </a:lnTo>
                    <a:lnTo>
                      <a:pt x="2323" y="5089"/>
                    </a:lnTo>
                    <a:lnTo>
                      <a:pt x="2196" y="5073"/>
                    </a:lnTo>
                    <a:lnTo>
                      <a:pt x="2070" y="5050"/>
                    </a:lnTo>
                    <a:lnTo>
                      <a:pt x="1948" y="5022"/>
                    </a:lnTo>
                    <a:lnTo>
                      <a:pt x="1827" y="4987"/>
                    </a:lnTo>
                    <a:lnTo>
                      <a:pt x="1710" y="4947"/>
                    </a:lnTo>
                    <a:lnTo>
                      <a:pt x="1594" y="4902"/>
                    </a:lnTo>
                    <a:lnTo>
                      <a:pt x="1482" y="4851"/>
                    </a:lnTo>
                    <a:lnTo>
                      <a:pt x="1371" y="4795"/>
                    </a:lnTo>
                    <a:lnTo>
                      <a:pt x="1265" y="4735"/>
                    </a:lnTo>
                    <a:lnTo>
                      <a:pt x="1162" y="4668"/>
                    </a:lnTo>
                    <a:lnTo>
                      <a:pt x="1062" y="4597"/>
                    </a:lnTo>
                    <a:lnTo>
                      <a:pt x="966" y="4522"/>
                    </a:lnTo>
                    <a:lnTo>
                      <a:pt x="874" y="4442"/>
                    </a:lnTo>
                    <a:lnTo>
                      <a:pt x="786" y="4358"/>
                    </a:lnTo>
                    <a:lnTo>
                      <a:pt x="701" y="4269"/>
                    </a:lnTo>
                    <a:lnTo>
                      <a:pt x="621" y="4177"/>
                    </a:lnTo>
                    <a:lnTo>
                      <a:pt x="547" y="4081"/>
                    </a:lnTo>
                    <a:lnTo>
                      <a:pt x="476" y="3982"/>
                    </a:lnTo>
                    <a:lnTo>
                      <a:pt x="410" y="3879"/>
                    </a:lnTo>
                    <a:lnTo>
                      <a:pt x="348" y="3772"/>
                    </a:lnTo>
                    <a:lnTo>
                      <a:pt x="292" y="3663"/>
                    </a:lnTo>
                    <a:lnTo>
                      <a:pt x="241" y="3550"/>
                    </a:lnTo>
                    <a:lnTo>
                      <a:pt x="196" y="3435"/>
                    </a:lnTo>
                    <a:lnTo>
                      <a:pt x="156" y="3317"/>
                    </a:lnTo>
                    <a:lnTo>
                      <a:pt x="121" y="3197"/>
                    </a:lnTo>
                    <a:lnTo>
                      <a:pt x="93" y="3074"/>
                    </a:lnTo>
                    <a:lnTo>
                      <a:pt x="70" y="2948"/>
                    </a:lnTo>
                    <a:lnTo>
                      <a:pt x="54" y="2821"/>
                    </a:lnTo>
                    <a:lnTo>
                      <a:pt x="44" y="2692"/>
                    </a:lnTo>
                    <a:lnTo>
                      <a:pt x="41" y="2562"/>
                    </a:lnTo>
                    <a:lnTo>
                      <a:pt x="44" y="2431"/>
                    </a:lnTo>
                    <a:lnTo>
                      <a:pt x="54" y="2301"/>
                    </a:lnTo>
                    <a:lnTo>
                      <a:pt x="70" y="2175"/>
                    </a:lnTo>
                    <a:lnTo>
                      <a:pt x="93" y="2050"/>
                    </a:lnTo>
                    <a:lnTo>
                      <a:pt x="121" y="1927"/>
                    </a:lnTo>
                    <a:lnTo>
                      <a:pt x="156" y="1806"/>
                    </a:lnTo>
                    <a:lnTo>
                      <a:pt x="196" y="1688"/>
                    </a:lnTo>
                    <a:lnTo>
                      <a:pt x="241" y="1572"/>
                    </a:lnTo>
                    <a:lnTo>
                      <a:pt x="292" y="1460"/>
                    </a:lnTo>
                    <a:lnTo>
                      <a:pt x="348" y="1351"/>
                    </a:lnTo>
                    <a:lnTo>
                      <a:pt x="410" y="1244"/>
                    </a:lnTo>
                    <a:lnTo>
                      <a:pt x="476" y="1141"/>
                    </a:lnTo>
                    <a:lnTo>
                      <a:pt x="547" y="1041"/>
                    </a:lnTo>
                    <a:lnTo>
                      <a:pt x="621" y="945"/>
                    </a:lnTo>
                    <a:lnTo>
                      <a:pt x="701" y="853"/>
                    </a:lnTo>
                    <a:lnTo>
                      <a:pt x="786" y="765"/>
                    </a:lnTo>
                    <a:lnTo>
                      <a:pt x="874" y="681"/>
                    </a:lnTo>
                    <a:lnTo>
                      <a:pt x="966" y="601"/>
                    </a:lnTo>
                    <a:lnTo>
                      <a:pt x="1062" y="526"/>
                    </a:lnTo>
                    <a:lnTo>
                      <a:pt x="1162" y="455"/>
                    </a:lnTo>
                    <a:lnTo>
                      <a:pt x="1265" y="389"/>
                    </a:lnTo>
                    <a:lnTo>
                      <a:pt x="1371" y="327"/>
                    </a:lnTo>
                    <a:lnTo>
                      <a:pt x="1482" y="271"/>
                    </a:lnTo>
                    <a:lnTo>
                      <a:pt x="1594" y="220"/>
                    </a:lnTo>
                    <a:lnTo>
                      <a:pt x="1710" y="175"/>
                    </a:lnTo>
                    <a:lnTo>
                      <a:pt x="1827" y="135"/>
                    </a:lnTo>
                    <a:lnTo>
                      <a:pt x="1948" y="100"/>
                    </a:lnTo>
                    <a:lnTo>
                      <a:pt x="2070" y="72"/>
                    </a:lnTo>
                    <a:lnTo>
                      <a:pt x="2196" y="50"/>
                    </a:lnTo>
                    <a:lnTo>
                      <a:pt x="2323" y="33"/>
                    </a:lnTo>
                    <a:lnTo>
                      <a:pt x="2452" y="24"/>
                    </a:lnTo>
                    <a:lnTo>
                      <a:pt x="2583" y="20"/>
                    </a:lnTo>
                    <a:lnTo>
                      <a:pt x="2714" y="24"/>
                    </a:lnTo>
                    <a:lnTo>
                      <a:pt x="2843" y="33"/>
                    </a:lnTo>
                    <a:lnTo>
                      <a:pt x="2971" y="50"/>
                    </a:lnTo>
                    <a:lnTo>
                      <a:pt x="3096" y="72"/>
                    </a:lnTo>
                    <a:lnTo>
                      <a:pt x="3218" y="100"/>
                    </a:lnTo>
                    <a:lnTo>
                      <a:pt x="3339" y="135"/>
                    </a:lnTo>
                    <a:lnTo>
                      <a:pt x="3457" y="175"/>
                    </a:lnTo>
                    <a:lnTo>
                      <a:pt x="3572" y="220"/>
                    </a:lnTo>
                    <a:lnTo>
                      <a:pt x="3685" y="271"/>
                    </a:lnTo>
                    <a:lnTo>
                      <a:pt x="3795" y="327"/>
                    </a:lnTo>
                    <a:lnTo>
                      <a:pt x="3901" y="389"/>
                    </a:lnTo>
                    <a:lnTo>
                      <a:pt x="4005" y="455"/>
                    </a:lnTo>
                    <a:lnTo>
                      <a:pt x="4104" y="526"/>
                    </a:lnTo>
                    <a:lnTo>
                      <a:pt x="4200" y="601"/>
                    </a:lnTo>
                    <a:lnTo>
                      <a:pt x="4292" y="681"/>
                    </a:lnTo>
                    <a:lnTo>
                      <a:pt x="4381" y="765"/>
                    </a:lnTo>
                    <a:lnTo>
                      <a:pt x="4465" y="853"/>
                    </a:lnTo>
                    <a:lnTo>
                      <a:pt x="4545" y="945"/>
                    </a:lnTo>
                    <a:lnTo>
                      <a:pt x="4619" y="1041"/>
                    </a:lnTo>
                    <a:lnTo>
                      <a:pt x="4691" y="1141"/>
                    </a:lnTo>
                    <a:lnTo>
                      <a:pt x="4757" y="1244"/>
                    </a:lnTo>
                    <a:lnTo>
                      <a:pt x="4818" y="1351"/>
                    </a:lnTo>
                    <a:lnTo>
                      <a:pt x="4874" y="1460"/>
                    </a:lnTo>
                    <a:lnTo>
                      <a:pt x="4925" y="1572"/>
                    </a:lnTo>
                    <a:lnTo>
                      <a:pt x="4971" y="1688"/>
                    </a:lnTo>
                    <a:lnTo>
                      <a:pt x="5011" y="1806"/>
                    </a:lnTo>
                    <a:lnTo>
                      <a:pt x="5045" y="1927"/>
                    </a:lnTo>
                    <a:lnTo>
                      <a:pt x="5073" y="2050"/>
                    </a:lnTo>
                    <a:lnTo>
                      <a:pt x="5096" y="2175"/>
                    </a:lnTo>
                    <a:lnTo>
                      <a:pt x="5112" y="2301"/>
                    </a:lnTo>
                    <a:lnTo>
                      <a:pt x="5122" y="2431"/>
                    </a:lnTo>
                    <a:lnTo>
                      <a:pt x="5125" y="2562"/>
                    </a:lnTo>
                    <a:lnTo>
                      <a:pt x="5124" y="2604"/>
                    </a:lnTo>
                    <a:lnTo>
                      <a:pt x="5123" y="2647"/>
                    </a:lnTo>
                    <a:lnTo>
                      <a:pt x="5122" y="2689"/>
                    </a:lnTo>
                    <a:lnTo>
                      <a:pt x="5120" y="2731"/>
                    </a:lnTo>
                    <a:lnTo>
                      <a:pt x="5117" y="2773"/>
                    </a:lnTo>
                    <a:lnTo>
                      <a:pt x="5112" y="2815"/>
                    </a:lnTo>
                    <a:lnTo>
                      <a:pt x="5108" y="2857"/>
                    </a:lnTo>
                    <a:lnTo>
                      <a:pt x="5102" y="2899"/>
                    </a:lnTo>
                    <a:lnTo>
                      <a:pt x="5097" y="2940"/>
                    </a:lnTo>
                    <a:lnTo>
                      <a:pt x="5091" y="2981"/>
                    </a:lnTo>
                    <a:lnTo>
                      <a:pt x="5083" y="3022"/>
                    </a:lnTo>
                    <a:lnTo>
                      <a:pt x="5075" y="3062"/>
                    </a:lnTo>
                    <a:lnTo>
                      <a:pt x="5067" y="3103"/>
                    </a:lnTo>
                    <a:lnTo>
                      <a:pt x="5058" y="3143"/>
                    </a:lnTo>
                    <a:lnTo>
                      <a:pt x="5048" y="3183"/>
                    </a:lnTo>
                    <a:lnTo>
                      <a:pt x="5038" y="3222"/>
                    </a:lnTo>
                    <a:lnTo>
                      <a:pt x="5079" y="3232"/>
                    </a:lnTo>
                    <a:lnTo>
                      <a:pt x="5088" y="3192"/>
                    </a:lnTo>
                    <a:lnTo>
                      <a:pt x="5098" y="3152"/>
                    </a:lnTo>
                    <a:lnTo>
                      <a:pt x="5108" y="3111"/>
                    </a:lnTo>
                    <a:lnTo>
                      <a:pt x="5117" y="3070"/>
                    </a:lnTo>
                    <a:lnTo>
                      <a:pt x="5124" y="3029"/>
                    </a:lnTo>
                    <a:lnTo>
                      <a:pt x="5132" y="2987"/>
                    </a:lnTo>
                    <a:lnTo>
                      <a:pt x="5138" y="2946"/>
                    </a:lnTo>
                    <a:lnTo>
                      <a:pt x="5144" y="2904"/>
                    </a:lnTo>
                    <a:lnTo>
                      <a:pt x="5149" y="2862"/>
                    </a:lnTo>
                    <a:lnTo>
                      <a:pt x="5154" y="2820"/>
                    </a:lnTo>
                    <a:lnTo>
                      <a:pt x="5158" y="2777"/>
                    </a:lnTo>
                    <a:lnTo>
                      <a:pt x="5161" y="2734"/>
                    </a:lnTo>
                    <a:lnTo>
                      <a:pt x="5163" y="2691"/>
                    </a:lnTo>
                    <a:lnTo>
                      <a:pt x="5165" y="2648"/>
                    </a:lnTo>
                    <a:lnTo>
                      <a:pt x="5166" y="2605"/>
                    </a:lnTo>
                    <a:lnTo>
                      <a:pt x="5166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57520" y="1981080"/>
                <a:ext cx="2033640" cy="2032200"/>
              </a:xfrm>
              <a:custGeom>
                <a:avLst/>
                <a:gdLst/>
                <a:ahLst/>
                <a:rect l="l" t="t" r="r" b="b"/>
                <a:pathLst>
                  <a:path w="5125" h="5122">
                    <a:moveTo>
                      <a:pt x="5125" y="2562"/>
                    </a:moveTo>
                    <a:lnTo>
                      <a:pt x="5121" y="2430"/>
                    </a:lnTo>
                    <a:lnTo>
                      <a:pt x="5112" y="2299"/>
                    </a:lnTo>
                    <a:lnTo>
                      <a:pt x="5096" y="2172"/>
                    </a:lnTo>
                    <a:lnTo>
                      <a:pt x="5073" y="2045"/>
                    </a:lnTo>
                    <a:lnTo>
                      <a:pt x="5044" y="1921"/>
                    </a:lnTo>
                    <a:lnTo>
                      <a:pt x="5009" y="1800"/>
                    </a:lnTo>
                    <a:lnTo>
                      <a:pt x="4969" y="1680"/>
                    </a:lnTo>
                    <a:lnTo>
                      <a:pt x="4924" y="1565"/>
                    </a:lnTo>
                    <a:lnTo>
                      <a:pt x="4872" y="1451"/>
                    </a:lnTo>
                    <a:lnTo>
                      <a:pt x="4816" y="1340"/>
                    </a:lnTo>
                    <a:lnTo>
                      <a:pt x="4754" y="1233"/>
                    </a:lnTo>
                    <a:lnTo>
                      <a:pt x="4687" y="1130"/>
                    </a:lnTo>
                    <a:lnTo>
                      <a:pt x="4616" y="1029"/>
                    </a:lnTo>
                    <a:lnTo>
                      <a:pt x="4539" y="932"/>
                    </a:lnTo>
                    <a:lnTo>
                      <a:pt x="4459" y="839"/>
                    </a:lnTo>
                    <a:lnTo>
                      <a:pt x="4374" y="751"/>
                    </a:lnTo>
                    <a:lnTo>
                      <a:pt x="4285" y="665"/>
                    </a:lnTo>
                    <a:lnTo>
                      <a:pt x="4192" y="585"/>
                    </a:lnTo>
                    <a:lnTo>
                      <a:pt x="4095" y="509"/>
                    </a:lnTo>
                    <a:lnTo>
                      <a:pt x="3994" y="437"/>
                    </a:lnTo>
                    <a:lnTo>
                      <a:pt x="3891" y="370"/>
                    </a:lnTo>
                    <a:lnTo>
                      <a:pt x="3784" y="309"/>
                    </a:lnTo>
                    <a:lnTo>
                      <a:pt x="3674" y="253"/>
                    </a:lnTo>
                    <a:lnTo>
                      <a:pt x="3560" y="201"/>
                    </a:lnTo>
                    <a:lnTo>
                      <a:pt x="3443" y="155"/>
                    </a:lnTo>
                    <a:lnTo>
                      <a:pt x="3325" y="115"/>
                    </a:lnTo>
                    <a:lnTo>
                      <a:pt x="3202" y="81"/>
                    </a:lnTo>
                    <a:lnTo>
                      <a:pt x="3078" y="52"/>
                    </a:lnTo>
                    <a:lnTo>
                      <a:pt x="2953" y="29"/>
                    </a:lnTo>
                    <a:lnTo>
                      <a:pt x="2824" y="13"/>
                    </a:lnTo>
                    <a:lnTo>
                      <a:pt x="2695" y="3"/>
                    </a:lnTo>
                    <a:lnTo>
                      <a:pt x="2562" y="0"/>
                    </a:lnTo>
                    <a:lnTo>
                      <a:pt x="2430" y="3"/>
                    </a:lnTo>
                    <a:lnTo>
                      <a:pt x="2300" y="13"/>
                    </a:lnTo>
                    <a:lnTo>
                      <a:pt x="2172" y="29"/>
                    </a:lnTo>
                    <a:lnTo>
                      <a:pt x="2046" y="52"/>
                    </a:lnTo>
                    <a:lnTo>
                      <a:pt x="1922" y="81"/>
                    </a:lnTo>
                    <a:lnTo>
                      <a:pt x="1800" y="115"/>
                    </a:lnTo>
                    <a:lnTo>
                      <a:pt x="1681" y="155"/>
                    </a:lnTo>
                    <a:lnTo>
                      <a:pt x="1564" y="201"/>
                    </a:lnTo>
                    <a:lnTo>
                      <a:pt x="1451" y="253"/>
                    </a:lnTo>
                    <a:lnTo>
                      <a:pt x="1341" y="309"/>
                    </a:lnTo>
                    <a:lnTo>
                      <a:pt x="1234" y="370"/>
                    </a:lnTo>
                    <a:lnTo>
                      <a:pt x="1130" y="437"/>
                    </a:lnTo>
                    <a:lnTo>
                      <a:pt x="1029" y="509"/>
                    </a:lnTo>
                    <a:lnTo>
                      <a:pt x="932" y="585"/>
                    </a:lnTo>
                    <a:lnTo>
                      <a:pt x="839" y="665"/>
                    </a:lnTo>
                    <a:lnTo>
                      <a:pt x="751" y="751"/>
                    </a:lnTo>
                    <a:lnTo>
                      <a:pt x="665" y="839"/>
                    </a:lnTo>
                    <a:lnTo>
                      <a:pt x="584" y="932"/>
                    </a:lnTo>
                    <a:lnTo>
                      <a:pt x="509" y="1029"/>
                    </a:lnTo>
                    <a:lnTo>
                      <a:pt x="437" y="1130"/>
                    </a:lnTo>
                    <a:lnTo>
                      <a:pt x="370" y="1233"/>
                    </a:lnTo>
                    <a:lnTo>
                      <a:pt x="309" y="1340"/>
                    </a:lnTo>
                    <a:lnTo>
                      <a:pt x="253" y="1451"/>
                    </a:lnTo>
                    <a:lnTo>
                      <a:pt x="201" y="1565"/>
                    </a:lnTo>
                    <a:lnTo>
                      <a:pt x="155" y="1680"/>
                    </a:lnTo>
                    <a:lnTo>
                      <a:pt x="115" y="1800"/>
                    </a:lnTo>
                    <a:lnTo>
                      <a:pt x="81" y="1921"/>
                    </a:lnTo>
                    <a:lnTo>
                      <a:pt x="52" y="2045"/>
                    </a:lnTo>
                    <a:lnTo>
                      <a:pt x="29" y="2172"/>
                    </a:lnTo>
                    <a:lnTo>
                      <a:pt x="13" y="2299"/>
                    </a:lnTo>
                    <a:lnTo>
                      <a:pt x="3" y="2430"/>
                    </a:lnTo>
                    <a:lnTo>
                      <a:pt x="0" y="2562"/>
                    </a:lnTo>
                    <a:lnTo>
                      <a:pt x="3" y="2693"/>
                    </a:lnTo>
                    <a:lnTo>
                      <a:pt x="13" y="2823"/>
                    </a:lnTo>
                    <a:lnTo>
                      <a:pt x="29" y="2952"/>
                    </a:lnTo>
                    <a:lnTo>
                      <a:pt x="52" y="3078"/>
                    </a:lnTo>
                    <a:lnTo>
                      <a:pt x="81" y="3201"/>
                    </a:lnTo>
                    <a:lnTo>
                      <a:pt x="115" y="3323"/>
                    </a:lnTo>
                    <a:lnTo>
                      <a:pt x="155" y="3442"/>
                    </a:lnTo>
                    <a:lnTo>
                      <a:pt x="201" y="3559"/>
                    </a:lnTo>
                    <a:lnTo>
                      <a:pt x="253" y="3672"/>
                    </a:lnTo>
                    <a:lnTo>
                      <a:pt x="309" y="3782"/>
                    </a:lnTo>
                    <a:lnTo>
                      <a:pt x="370" y="3890"/>
                    </a:lnTo>
                    <a:lnTo>
                      <a:pt x="437" y="3994"/>
                    </a:lnTo>
                    <a:lnTo>
                      <a:pt x="509" y="4094"/>
                    </a:lnTo>
                    <a:lnTo>
                      <a:pt x="584" y="4190"/>
                    </a:lnTo>
                    <a:lnTo>
                      <a:pt x="665" y="4283"/>
                    </a:lnTo>
                    <a:lnTo>
                      <a:pt x="751" y="4373"/>
                    </a:lnTo>
                    <a:lnTo>
                      <a:pt x="839" y="4457"/>
                    </a:lnTo>
                    <a:lnTo>
                      <a:pt x="932" y="4538"/>
                    </a:lnTo>
                    <a:lnTo>
                      <a:pt x="1029" y="4614"/>
                    </a:lnTo>
                    <a:lnTo>
                      <a:pt x="1130" y="4685"/>
                    </a:lnTo>
                    <a:lnTo>
                      <a:pt x="1234" y="4752"/>
                    </a:lnTo>
                    <a:lnTo>
                      <a:pt x="1341" y="4813"/>
                    </a:lnTo>
                    <a:lnTo>
                      <a:pt x="1451" y="4871"/>
                    </a:lnTo>
                    <a:lnTo>
                      <a:pt x="1564" y="4921"/>
                    </a:lnTo>
                    <a:lnTo>
                      <a:pt x="1681" y="4968"/>
                    </a:lnTo>
                    <a:lnTo>
                      <a:pt x="1800" y="5008"/>
                    </a:lnTo>
                    <a:lnTo>
                      <a:pt x="1922" y="5042"/>
                    </a:lnTo>
                    <a:lnTo>
                      <a:pt x="2046" y="5071"/>
                    </a:lnTo>
                    <a:lnTo>
                      <a:pt x="2172" y="5093"/>
                    </a:lnTo>
                    <a:lnTo>
                      <a:pt x="2300" y="5109"/>
                    </a:lnTo>
                    <a:lnTo>
                      <a:pt x="2430" y="5119"/>
                    </a:lnTo>
                    <a:lnTo>
                      <a:pt x="2562" y="5122"/>
                    </a:lnTo>
                    <a:lnTo>
                      <a:pt x="2599" y="5122"/>
                    </a:lnTo>
                    <a:lnTo>
                      <a:pt x="2637" y="5121"/>
                    </a:lnTo>
                    <a:lnTo>
                      <a:pt x="2675" y="5120"/>
                    </a:lnTo>
                    <a:lnTo>
                      <a:pt x="2712" y="5118"/>
                    </a:lnTo>
                    <a:lnTo>
                      <a:pt x="2786" y="5113"/>
                    </a:lnTo>
                    <a:lnTo>
                      <a:pt x="2860" y="5106"/>
                    </a:lnTo>
                    <a:lnTo>
                      <a:pt x="2933" y="5096"/>
                    </a:lnTo>
                    <a:lnTo>
                      <a:pt x="3006" y="5085"/>
                    </a:lnTo>
                    <a:lnTo>
                      <a:pt x="3077" y="5072"/>
                    </a:lnTo>
                    <a:lnTo>
                      <a:pt x="3147" y="5055"/>
                    </a:lnTo>
                    <a:lnTo>
                      <a:pt x="3218" y="5038"/>
                    </a:lnTo>
                    <a:lnTo>
                      <a:pt x="3288" y="5019"/>
                    </a:lnTo>
                    <a:lnTo>
                      <a:pt x="3356" y="4997"/>
                    </a:lnTo>
                    <a:lnTo>
                      <a:pt x="3424" y="4974"/>
                    </a:lnTo>
                    <a:lnTo>
                      <a:pt x="3491" y="4950"/>
                    </a:lnTo>
                    <a:lnTo>
                      <a:pt x="3557" y="4923"/>
                    </a:lnTo>
                    <a:lnTo>
                      <a:pt x="3622" y="4894"/>
                    </a:lnTo>
                    <a:lnTo>
                      <a:pt x="3685" y="4864"/>
                    </a:lnTo>
                    <a:lnTo>
                      <a:pt x="3667" y="4826"/>
                    </a:lnTo>
                    <a:lnTo>
                      <a:pt x="3604" y="4857"/>
                    </a:lnTo>
                    <a:lnTo>
                      <a:pt x="3541" y="4885"/>
                    </a:lnTo>
                    <a:lnTo>
                      <a:pt x="3476" y="4911"/>
                    </a:lnTo>
                    <a:lnTo>
                      <a:pt x="3410" y="4936"/>
                    </a:lnTo>
                    <a:lnTo>
                      <a:pt x="3343" y="4958"/>
                    </a:lnTo>
                    <a:lnTo>
                      <a:pt x="3276" y="4979"/>
                    </a:lnTo>
                    <a:lnTo>
                      <a:pt x="3208" y="4998"/>
                    </a:lnTo>
                    <a:lnTo>
                      <a:pt x="3139" y="5015"/>
                    </a:lnTo>
                    <a:lnTo>
                      <a:pt x="3068" y="5031"/>
                    </a:lnTo>
                    <a:lnTo>
                      <a:pt x="2998" y="5044"/>
                    </a:lnTo>
                    <a:lnTo>
                      <a:pt x="2927" y="5055"/>
                    </a:lnTo>
                    <a:lnTo>
                      <a:pt x="2856" y="5064"/>
                    </a:lnTo>
                    <a:lnTo>
                      <a:pt x="2783" y="5072"/>
                    </a:lnTo>
                    <a:lnTo>
                      <a:pt x="2710" y="5077"/>
                    </a:lnTo>
                    <a:lnTo>
                      <a:pt x="2636" y="5080"/>
                    </a:lnTo>
                    <a:lnTo>
                      <a:pt x="2562" y="5081"/>
                    </a:lnTo>
                    <a:lnTo>
                      <a:pt x="2432" y="5078"/>
                    </a:lnTo>
                    <a:lnTo>
                      <a:pt x="2304" y="5068"/>
                    </a:lnTo>
                    <a:lnTo>
                      <a:pt x="2178" y="5052"/>
                    </a:lnTo>
                    <a:lnTo>
                      <a:pt x="2054" y="5029"/>
                    </a:lnTo>
                    <a:lnTo>
                      <a:pt x="1932" y="5001"/>
                    </a:lnTo>
                    <a:lnTo>
                      <a:pt x="1813" y="4968"/>
                    </a:lnTo>
                    <a:lnTo>
                      <a:pt x="1695" y="4928"/>
                    </a:lnTo>
                    <a:lnTo>
                      <a:pt x="1581" y="4884"/>
                    </a:lnTo>
                    <a:lnTo>
                      <a:pt x="1469" y="4833"/>
                    </a:lnTo>
                    <a:lnTo>
                      <a:pt x="1360" y="4777"/>
                    </a:lnTo>
                    <a:lnTo>
                      <a:pt x="1255" y="4716"/>
                    </a:lnTo>
                    <a:lnTo>
                      <a:pt x="1153" y="4650"/>
                    </a:lnTo>
                    <a:lnTo>
                      <a:pt x="1054" y="4580"/>
                    </a:lnTo>
                    <a:lnTo>
                      <a:pt x="958" y="4506"/>
                    </a:lnTo>
                    <a:lnTo>
                      <a:pt x="867" y="4427"/>
                    </a:lnTo>
                    <a:lnTo>
                      <a:pt x="780" y="4343"/>
                    </a:lnTo>
                    <a:lnTo>
                      <a:pt x="697" y="4255"/>
                    </a:lnTo>
                    <a:lnTo>
                      <a:pt x="617" y="4164"/>
                    </a:lnTo>
                    <a:lnTo>
                      <a:pt x="542" y="4069"/>
                    </a:lnTo>
                    <a:lnTo>
                      <a:pt x="472" y="3970"/>
                    </a:lnTo>
                    <a:lnTo>
                      <a:pt x="406" y="3868"/>
                    </a:lnTo>
                    <a:lnTo>
                      <a:pt x="345" y="3763"/>
                    </a:lnTo>
                    <a:lnTo>
                      <a:pt x="290" y="3654"/>
                    </a:lnTo>
                    <a:lnTo>
                      <a:pt x="240" y="3542"/>
                    </a:lnTo>
                    <a:lnTo>
                      <a:pt x="194" y="3428"/>
                    </a:lnTo>
                    <a:lnTo>
                      <a:pt x="154" y="3311"/>
                    </a:lnTo>
                    <a:lnTo>
                      <a:pt x="121" y="3191"/>
                    </a:lnTo>
                    <a:lnTo>
                      <a:pt x="93" y="3069"/>
                    </a:lnTo>
                    <a:lnTo>
                      <a:pt x="70" y="2945"/>
                    </a:lnTo>
                    <a:lnTo>
                      <a:pt x="54" y="2819"/>
                    </a:lnTo>
                    <a:lnTo>
                      <a:pt x="44" y="2691"/>
                    </a:lnTo>
                    <a:lnTo>
                      <a:pt x="41" y="2562"/>
                    </a:lnTo>
                    <a:lnTo>
                      <a:pt x="44" y="2432"/>
                    </a:lnTo>
                    <a:lnTo>
                      <a:pt x="54" y="2304"/>
                    </a:lnTo>
                    <a:lnTo>
                      <a:pt x="70" y="2177"/>
                    </a:lnTo>
                    <a:lnTo>
                      <a:pt x="93" y="2054"/>
                    </a:lnTo>
                    <a:lnTo>
                      <a:pt x="121" y="1932"/>
                    </a:lnTo>
                    <a:lnTo>
                      <a:pt x="154" y="1812"/>
                    </a:lnTo>
                    <a:lnTo>
                      <a:pt x="194" y="1696"/>
                    </a:lnTo>
                    <a:lnTo>
                      <a:pt x="240" y="1581"/>
                    </a:lnTo>
                    <a:lnTo>
                      <a:pt x="290" y="1469"/>
                    </a:lnTo>
                    <a:lnTo>
                      <a:pt x="345" y="1361"/>
                    </a:lnTo>
                    <a:lnTo>
                      <a:pt x="406" y="1255"/>
                    </a:lnTo>
                    <a:lnTo>
                      <a:pt x="472" y="1152"/>
                    </a:lnTo>
                    <a:lnTo>
                      <a:pt x="542" y="1054"/>
                    </a:lnTo>
                    <a:lnTo>
                      <a:pt x="617" y="959"/>
                    </a:lnTo>
                    <a:lnTo>
                      <a:pt x="697" y="867"/>
                    </a:lnTo>
                    <a:lnTo>
                      <a:pt x="780" y="780"/>
                    </a:lnTo>
                    <a:lnTo>
                      <a:pt x="867" y="697"/>
                    </a:lnTo>
                    <a:lnTo>
                      <a:pt x="958" y="617"/>
                    </a:lnTo>
                    <a:lnTo>
                      <a:pt x="1054" y="542"/>
                    </a:lnTo>
                    <a:lnTo>
                      <a:pt x="1153" y="472"/>
                    </a:lnTo>
                    <a:lnTo>
                      <a:pt x="1255" y="406"/>
                    </a:lnTo>
                    <a:lnTo>
                      <a:pt x="1360" y="346"/>
                    </a:lnTo>
                    <a:lnTo>
                      <a:pt x="1469" y="290"/>
                    </a:lnTo>
                    <a:lnTo>
                      <a:pt x="1581" y="240"/>
                    </a:lnTo>
                    <a:lnTo>
                      <a:pt x="1695" y="194"/>
                    </a:lnTo>
                    <a:lnTo>
                      <a:pt x="1813" y="155"/>
                    </a:lnTo>
                    <a:lnTo>
                      <a:pt x="1932" y="121"/>
                    </a:lnTo>
                    <a:lnTo>
                      <a:pt x="2054" y="93"/>
                    </a:lnTo>
                    <a:lnTo>
                      <a:pt x="2178" y="71"/>
                    </a:lnTo>
                    <a:lnTo>
                      <a:pt x="2304" y="55"/>
                    </a:lnTo>
                    <a:lnTo>
                      <a:pt x="2432" y="45"/>
                    </a:lnTo>
                    <a:lnTo>
                      <a:pt x="2562" y="42"/>
                    </a:lnTo>
                    <a:lnTo>
                      <a:pt x="2692" y="45"/>
                    </a:lnTo>
                    <a:lnTo>
                      <a:pt x="2820" y="55"/>
                    </a:lnTo>
                    <a:lnTo>
                      <a:pt x="2946" y="71"/>
                    </a:lnTo>
                    <a:lnTo>
                      <a:pt x="3071" y="93"/>
                    </a:lnTo>
                    <a:lnTo>
                      <a:pt x="3192" y="121"/>
                    </a:lnTo>
                    <a:lnTo>
                      <a:pt x="3312" y="155"/>
                    </a:lnTo>
                    <a:lnTo>
                      <a:pt x="3429" y="194"/>
                    </a:lnTo>
                    <a:lnTo>
                      <a:pt x="3544" y="240"/>
                    </a:lnTo>
                    <a:lnTo>
                      <a:pt x="3655" y="290"/>
                    </a:lnTo>
                    <a:lnTo>
                      <a:pt x="3763" y="346"/>
                    </a:lnTo>
                    <a:lnTo>
                      <a:pt x="3869" y="406"/>
                    </a:lnTo>
                    <a:lnTo>
                      <a:pt x="3972" y="472"/>
                    </a:lnTo>
                    <a:lnTo>
                      <a:pt x="4070" y="542"/>
                    </a:lnTo>
                    <a:lnTo>
                      <a:pt x="4165" y="617"/>
                    </a:lnTo>
                    <a:lnTo>
                      <a:pt x="4257" y="697"/>
                    </a:lnTo>
                    <a:lnTo>
                      <a:pt x="4345" y="780"/>
                    </a:lnTo>
                    <a:lnTo>
                      <a:pt x="4428" y="867"/>
                    </a:lnTo>
                    <a:lnTo>
                      <a:pt x="4508" y="959"/>
                    </a:lnTo>
                    <a:lnTo>
                      <a:pt x="4582" y="1054"/>
                    </a:lnTo>
                    <a:lnTo>
                      <a:pt x="4652" y="1152"/>
                    </a:lnTo>
                    <a:lnTo>
                      <a:pt x="4718" y="1255"/>
                    </a:lnTo>
                    <a:lnTo>
                      <a:pt x="4779" y="1361"/>
                    </a:lnTo>
                    <a:lnTo>
                      <a:pt x="4834" y="1469"/>
                    </a:lnTo>
                    <a:lnTo>
                      <a:pt x="4885" y="1581"/>
                    </a:lnTo>
                    <a:lnTo>
                      <a:pt x="4930" y="1696"/>
                    </a:lnTo>
                    <a:lnTo>
                      <a:pt x="4970" y="1812"/>
                    </a:lnTo>
                    <a:lnTo>
                      <a:pt x="5004" y="1932"/>
                    </a:lnTo>
                    <a:lnTo>
                      <a:pt x="5032" y="2054"/>
                    </a:lnTo>
                    <a:lnTo>
                      <a:pt x="5054" y="2177"/>
                    </a:lnTo>
                    <a:lnTo>
                      <a:pt x="5070" y="2304"/>
                    </a:lnTo>
                    <a:lnTo>
                      <a:pt x="5079" y="2432"/>
                    </a:lnTo>
                    <a:lnTo>
                      <a:pt x="5084" y="2562"/>
                    </a:lnTo>
                    <a:lnTo>
                      <a:pt x="5083" y="2604"/>
                    </a:lnTo>
                    <a:lnTo>
                      <a:pt x="5081" y="2646"/>
                    </a:lnTo>
                    <a:lnTo>
                      <a:pt x="5080" y="2688"/>
                    </a:lnTo>
                    <a:lnTo>
                      <a:pt x="5077" y="2730"/>
                    </a:lnTo>
                    <a:lnTo>
                      <a:pt x="5074" y="2771"/>
                    </a:lnTo>
                    <a:lnTo>
                      <a:pt x="5071" y="2813"/>
                    </a:lnTo>
                    <a:lnTo>
                      <a:pt x="5066" y="2854"/>
                    </a:lnTo>
                    <a:lnTo>
                      <a:pt x="5061" y="2895"/>
                    </a:lnTo>
                    <a:lnTo>
                      <a:pt x="5056" y="2936"/>
                    </a:lnTo>
                    <a:lnTo>
                      <a:pt x="5049" y="2977"/>
                    </a:lnTo>
                    <a:lnTo>
                      <a:pt x="5041" y="3017"/>
                    </a:lnTo>
                    <a:lnTo>
                      <a:pt x="5034" y="3057"/>
                    </a:lnTo>
                    <a:lnTo>
                      <a:pt x="5025" y="3097"/>
                    </a:lnTo>
                    <a:lnTo>
                      <a:pt x="5017" y="3137"/>
                    </a:lnTo>
                    <a:lnTo>
                      <a:pt x="5007" y="3177"/>
                    </a:lnTo>
                    <a:lnTo>
                      <a:pt x="4997" y="3216"/>
                    </a:lnTo>
                    <a:lnTo>
                      <a:pt x="5037" y="3227"/>
                    </a:lnTo>
                    <a:lnTo>
                      <a:pt x="5048" y="3187"/>
                    </a:lnTo>
                    <a:lnTo>
                      <a:pt x="5058" y="3147"/>
                    </a:lnTo>
                    <a:lnTo>
                      <a:pt x="5066" y="3107"/>
                    </a:lnTo>
                    <a:lnTo>
                      <a:pt x="5075" y="3066"/>
                    </a:lnTo>
                    <a:lnTo>
                      <a:pt x="5083" y="3025"/>
                    </a:lnTo>
                    <a:lnTo>
                      <a:pt x="5090" y="2984"/>
                    </a:lnTo>
                    <a:lnTo>
                      <a:pt x="5097" y="2943"/>
                    </a:lnTo>
                    <a:lnTo>
                      <a:pt x="5102" y="2901"/>
                    </a:lnTo>
                    <a:lnTo>
                      <a:pt x="5107" y="2860"/>
                    </a:lnTo>
                    <a:lnTo>
                      <a:pt x="5112" y="2818"/>
                    </a:lnTo>
                    <a:lnTo>
                      <a:pt x="5116" y="2776"/>
                    </a:lnTo>
                    <a:lnTo>
                      <a:pt x="5119" y="2732"/>
                    </a:lnTo>
                    <a:lnTo>
                      <a:pt x="5121" y="2690"/>
                    </a:lnTo>
                    <a:lnTo>
                      <a:pt x="5124" y="2647"/>
                    </a:lnTo>
                    <a:lnTo>
                      <a:pt x="5125" y="2605"/>
                    </a:lnTo>
                    <a:lnTo>
                      <a:pt x="5125" y="2562"/>
                    </a:lnTo>
                    <a:close/>
                  </a:path>
                </a:pathLst>
              </a:custGeom>
              <a:solidFill>
                <a:srgbClr val="dbc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565440" y="1989000"/>
                <a:ext cx="2017800" cy="2016360"/>
              </a:xfrm>
              <a:custGeom>
                <a:avLst/>
                <a:gdLst/>
                <a:ahLst/>
                <a:rect l="l" t="t" r="r" b="b"/>
                <a:pathLst>
                  <a:path w="5084" h="5082">
                    <a:moveTo>
                      <a:pt x="5084" y="2542"/>
                    </a:moveTo>
                    <a:lnTo>
                      <a:pt x="5081" y="2411"/>
                    </a:lnTo>
                    <a:lnTo>
                      <a:pt x="5071" y="2281"/>
                    </a:lnTo>
                    <a:lnTo>
                      <a:pt x="5055" y="2155"/>
                    </a:lnTo>
                    <a:lnTo>
                      <a:pt x="5032" y="2030"/>
                    </a:lnTo>
                    <a:lnTo>
                      <a:pt x="5004" y="1907"/>
                    </a:lnTo>
                    <a:lnTo>
                      <a:pt x="4970" y="1786"/>
                    </a:lnTo>
                    <a:lnTo>
                      <a:pt x="4930" y="1668"/>
                    </a:lnTo>
                    <a:lnTo>
                      <a:pt x="4884" y="1552"/>
                    </a:lnTo>
                    <a:lnTo>
                      <a:pt x="4833" y="1440"/>
                    </a:lnTo>
                    <a:lnTo>
                      <a:pt x="4777" y="1331"/>
                    </a:lnTo>
                    <a:lnTo>
                      <a:pt x="4716" y="1224"/>
                    </a:lnTo>
                    <a:lnTo>
                      <a:pt x="4650" y="1121"/>
                    </a:lnTo>
                    <a:lnTo>
                      <a:pt x="4578" y="1021"/>
                    </a:lnTo>
                    <a:lnTo>
                      <a:pt x="4504" y="925"/>
                    </a:lnTo>
                    <a:lnTo>
                      <a:pt x="4424" y="833"/>
                    </a:lnTo>
                    <a:lnTo>
                      <a:pt x="4340" y="745"/>
                    </a:lnTo>
                    <a:lnTo>
                      <a:pt x="4251" y="661"/>
                    </a:lnTo>
                    <a:lnTo>
                      <a:pt x="4159" y="581"/>
                    </a:lnTo>
                    <a:lnTo>
                      <a:pt x="4063" y="506"/>
                    </a:lnTo>
                    <a:lnTo>
                      <a:pt x="3964" y="435"/>
                    </a:lnTo>
                    <a:lnTo>
                      <a:pt x="3860" y="369"/>
                    </a:lnTo>
                    <a:lnTo>
                      <a:pt x="3754" y="307"/>
                    </a:lnTo>
                    <a:lnTo>
                      <a:pt x="3644" y="251"/>
                    </a:lnTo>
                    <a:lnTo>
                      <a:pt x="3531" y="200"/>
                    </a:lnTo>
                    <a:lnTo>
                      <a:pt x="3416" y="155"/>
                    </a:lnTo>
                    <a:lnTo>
                      <a:pt x="3298" y="115"/>
                    </a:lnTo>
                    <a:lnTo>
                      <a:pt x="3177" y="80"/>
                    </a:lnTo>
                    <a:lnTo>
                      <a:pt x="3055" y="52"/>
                    </a:lnTo>
                    <a:lnTo>
                      <a:pt x="2930" y="30"/>
                    </a:lnTo>
                    <a:lnTo>
                      <a:pt x="2802" y="13"/>
                    </a:lnTo>
                    <a:lnTo>
                      <a:pt x="2673" y="4"/>
                    </a:lnTo>
                    <a:lnTo>
                      <a:pt x="2542" y="0"/>
                    </a:lnTo>
                    <a:lnTo>
                      <a:pt x="2411" y="4"/>
                    </a:lnTo>
                    <a:lnTo>
                      <a:pt x="2282" y="13"/>
                    </a:lnTo>
                    <a:lnTo>
                      <a:pt x="2155" y="30"/>
                    </a:lnTo>
                    <a:lnTo>
                      <a:pt x="2029" y="52"/>
                    </a:lnTo>
                    <a:lnTo>
                      <a:pt x="1907" y="80"/>
                    </a:lnTo>
                    <a:lnTo>
                      <a:pt x="1786" y="115"/>
                    </a:lnTo>
                    <a:lnTo>
                      <a:pt x="1669" y="155"/>
                    </a:lnTo>
                    <a:lnTo>
                      <a:pt x="1553" y="200"/>
                    </a:lnTo>
                    <a:lnTo>
                      <a:pt x="1441" y="251"/>
                    </a:lnTo>
                    <a:lnTo>
                      <a:pt x="1330" y="307"/>
                    </a:lnTo>
                    <a:lnTo>
                      <a:pt x="1224" y="369"/>
                    </a:lnTo>
                    <a:lnTo>
                      <a:pt x="1121" y="435"/>
                    </a:lnTo>
                    <a:lnTo>
                      <a:pt x="1021" y="506"/>
                    </a:lnTo>
                    <a:lnTo>
                      <a:pt x="925" y="581"/>
                    </a:lnTo>
                    <a:lnTo>
                      <a:pt x="833" y="661"/>
                    </a:lnTo>
                    <a:lnTo>
                      <a:pt x="745" y="745"/>
                    </a:lnTo>
                    <a:lnTo>
                      <a:pt x="660" y="833"/>
                    </a:lnTo>
                    <a:lnTo>
                      <a:pt x="580" y="925"/>
                    </a:lnTo>
                    <a:lnTo>
                      <a:pt x="506" y="1021"/>
                    </a:lnTo>
                    <a:lnTo>
                      <a:pt x="435" y="1121"/>
                    </a:lnTo>
                    <a:lnTo>
                      <a:pt x="369" y="1224"/>
                    </a:lnTo>
                    <a:lnTo>
                      <a:pt x="307" y="1331"/>
                    </a:lnTo>
                    <a:lnTo>
                      <a:pt x="251" y="1440"/>
                    </a:lnTo>
                    <a:lnTo>
                      <a:pt x="200" y="1552"/>
                    </a:lnTo>
                    <a:lnTo>
                      <a:pt x="155" y="1668"/>
                    </a:lnTo>
                    <a:lnTo>
                      <a:pt x="115" y="1786"/>
                    </a:lnTo>
                    <a:lnTo>
                      <a:pt x="80" y="1907"/>
                    </a:lnTo>
                    <a:lnTo>
                      <a:pt x="52" y="2030"/>
                    </a:lnTo>
                    <a:lnTo>
                      <a:pt x="29" y="2155"/>
                    </a:lnTo>
                    <a:lnTo>
                      <a:pt x="13" y="2281"/>
                    </a:lnTo>
                    <a:lnTo>
                      <a:pt x="3" y="2411"/>
                    </a:lnTo>
                    <a:lnTo>
                      <a:pt x="0" y="2542"/>
                    </a:lnTo>
                    <a:lnTo>
                      <a:pt x="3" y="2672"/>
                    </a:lnTo>
                    <a:lnTo>
                      <a:pt x="13" y="2801"/>
                    </a:lnTo>
                    <a:lnTo>
                      <a:pt x="29" y="2928"/>
                    </a:lnTo>
                    <a:lnTo>
                      <a:pt x="52" y="3054"/>
                    </a:lnTo>
                    <a:lnTo>
                      <a:pt x="80" y="3177"/>
                    </a:lnTo>
                    <a:lnTo>
                      <a:pt x="115" y="3297"/>
                    </a:lnTo>
                    <a:lnTo>
                      <a:pt x="155" y="3415"/>
                    </a:lnTo>
                    <a:lnTo>
                      <a:pt x="200" y="3530"/>
                    </a:lnTo>
                    <a:lnTo>
                      <a:pt x="251" y="3643"/>
                    </a:lnTo>
                    <a:lnTo>
                      <a:pt x="307" y="3752"/>
                    </a:lnTo>
                    <a:lnTo>
                      <a:pt x="369" y="3859"/>
                    </a:lnTo>
                    <a:lnTo>
                      <a:pt x="435" y="3962"/>
                    </a:lnTo>
                    <a:lnTo>
                      <a:pt x="506" y="4061"/>
                    </a:lnTo>
                    <a:lnTo>
                      <a:pt x="580" y="4157"/>
                    </a:lnTo>
                    <a:lnTo>
                      <a:pt x="660" y="4249"/>
                    </a:lnTo>
                    <a:lnTo>
                      <a:pt x="745" y="4338"/>
                    </a:lnTo>
                    <a:lnTo>
                      <a:pt x="833" y="4422"/>
                    </a:lnTo>
                    <a:lnTo>
                      <a:pt x="925" y="4502"/>
                    </a:lnTo>
                    <a:lnTo>
                      <a:pt x="1021" y="4577"/>
                    </a:lnTo>
                    <a:lnTo>
                      <a:pt x="1121" y="4648"/>
                    </a:lnTo>
                    <a:lnTo>
                      <a:pt x="1224" y="4715"/>
                    </a:lnTo>
                    <a:lnTo>
                      <a:pt x="1330" y="4775"/>
                    </a:lnTo>
                    <a:lnTo>
                      <a:pt x="1441" y="4831"/>
                    </a:lnTo>
                    <a:lnTo>
                      <a:pt x="1553" y="4882"/>
                    </a:lnTo>
                    <a:lnTo>
                      <a:pt x="1669" y="4927"/>
                    </a:lnTo>
                    <a:lnTo>
                      <a:pt x="1786" y="4967"/>
                    </a:lnTo>
                    <a:lnTo>
                      <a:pt x="1907" y="5002"/>
                    </a:lnTo>
                    <a:lnTo>
                      <a:pt x="2029" y="5030"/>
                    </a:lnTo>
                    <a:lnTo>
                      <a:pt x="2155" y="5053"/>
                    </a:lnTo>
                    <a:lnTo>
                      <a:pt x="2282" y="5069"/>
                    </a:lnTo>
                    <a:lnTo>
                      <a:pt x="2411" y="5079"/>
                    </a:lnTo>
                    <a:lnTo>
                      <a:pt x="2542" y="5082"/>
                    </a:lnTo>
                    <a:lnTo>
                      <a:pt x="2617" y="5081"/>
                    </a:lnTo>
                    <a:lnTo>
                      <a:pt x="2691" y="5078"/>
                    </a:lnTo>
                    <a:lnTo>
                      <a:pt x="2764" y="5072"/>
                    </a:lnTo>
                    <a:lnTo>
                      <a:pt x="2838" y="5065"/>
                    </a:lnTo>
                    <a:lnTo>
                      <a:pt x="2910" y="5056"/>
                    </a:lnTo>
                    <a:lnTo>
                      <a:pt x="2981" y="5044"/>
                    </a:lnTo>
                    <a:lnTo>
                      <a:pt x="3053" y="5031"/>
                    </a:lnTo>
                    <a:lnTo>
                      <a:pt x="3123" y="5015"/>
                    </a:lnTo>
                    <a:lnTo>
                      <a:pt x="3192" y="4998"/>
                    </a:lnTo>
                    <a:lnTo>
                      <a:pt x="3261" y="4979"/>
                    </a:lnTo>
                    <a:lnTo>
                      <a:pt x="3329" y="4958"/>
                    </a:lnTo>
                    <a:lnTo>
                      <a:pt x="3396" y="4935"/>
                    </a:lnTo>
                    <a:lnTo>
                      <a:pt x="3463" y="4910"/>
                    </a:lnTo>
                    <a:lnTo>
                      <a:pt x="3528" y="4883"/>
                    </a:lnTo>
                    <a:lnTo>
                      <a:pt x="3593" y="4855"/>
                    </a:lnTo>
                    <a:lnTo>
                      <a:pt x="3657" y="4825"/>
                    </a:lnTo>
                    <a:lnTo>
                      <a:pt x="3638" y="4788"/>
                    </a:lnTo>
                    <a:lnTo>
                      <a:pt x="3576" y="4817"/>
                    </a:lnTo>
                    <a:lnTo>
                      <a:pt x="3512" y="4845"/>
                    </a:lnTo>
                    <a:lnTo>
                      <a:pt x="3448" y="4871"/>
                    </a:lnTo>
                    <a:lnTo>
                      <a:pt x="3382" y="4895"/>
                    </a:lnTo>
                    <a:lnTo>
                      <a:pt x="3316" y="4918"/>
                    </a:lnTo>
                    <a:lnTo>
                      <a:pt x="3249" y="4939"/>
                    </a:lnTo>
                    <a:lnTo>
                      <a:pt x="3182" y="4958"/>
                    </a:lnTo>
                    <a:lnTo>
                      <a:pt x="3113" y="4975"/>
                    </a:lnTo>
                    <a:lnTo>
                      <a:pt x="3044" y="4990"/>
                    </a:lnTo>
                    <a:lnTo>
                      <a:pt x="2975" y="5003"/>
                    </a:lnTo>
                    <a:lnTo>
                      <a:pt x="2904" y="5015"/>
                    </a:lnTo>
                    <a:lnTo>
                      <a:pt x="2832" y="5024"/>
                    </a:lnTo>
                    <a:lnTo>
                      <a:pt x="2761" y="5031"/>
                    </a:lnTo>
                    <a:lnTo>
                      <a:pt x="2689" y="5036"/>
                    </a:lnTo>
                    <a:lnTo>
                      <a:pt x="2615" y="5040"/>
                    </a:lnTo>
                    <a:lnTo>
                      <a:pt x="2542" y="5041"/>
                    </a:lnTo>
                    <a:lnTo>
                      <a:pt x="2413" y="5038"/>
                    </a:lnTo>
                    <a:lnTo>
                      <a:pt x="2287" y="5028"/>
                    </a:lnTo>
                    <a:lnTo>
                      <a:pt x="2161" y="5012"/>
                    </a:lnTo>
                    <a:lnTo>
                      <a:pt x="2038" y="4990"/>
                    </a:lnTo>
                    <a:lnTo>
                      <a:pt x="1917" y="4962"/>
                    </a:lnTo>
                    <a:lnTo>
                      <a:pt x="1798" y="4928"/>
                    </a:lnTo>
                    <a:lnTo>
                      <a:pt x="1683" y="4889"/>
                    </a:lnTo>
                    <a:lnTo>
                      <a:pt x="1569" y="4844"/>
                    </a:lnTo>
                    <a:lnTo>
                      <a:pt x="1458" y="4793"/>
                    </a:lnTo>
                    <a:lnTo>
                      <a:pt x="1351" y="4738"/>
                    </a:lnTo>
                    <a:lnTo>
                      <a:pt x="1246" y="4679"/>
                    </a:lnTo>
                    <a:lnTo>
                      <a:pt x="1145" y="4613"/>
                    </a:lnTo>
                    <a:lnTo>
                      <a:pt x="1046" y="4544"/>
                    </a:lnTo>
                    <a:lnTo>
                      <a:pt x="952" y="4469"/>
                    </a:lnTo>
                    <a:lnTo>
                      <a:pt x="861" y="4391"/>
                    </a:lnTo>
                    <a:lnTo>
                      <a:pt x="774" y="4309"/>
                    </a:lnTo>
                    <a:lnTo>
                      <a:pt x="692" y="4221"/>
                    </a:lnTo>
                    <a:lnTo>
                      <a:pt x="613" y="4131"/>
                    </a:lnTo>
                    <a:lnTo>
                      <a:pt x="538" y="4036"/>
                    </a:lnTo>
                    <a:lnTo>
                      <a:pt x="469" y="3938"/>
                    </a:lnTo>
                    <a:lnTo>
                      <a:pt x="404" y="3838"/>
                    </a:lnTo>
                    <a:lnTo>
                      <a:pt x="344" y="3733"/>
                    </a:lnTo>
                    <a:lnTo>
                      <a:pt x="289" y="3625"/>
                    </a:lnTo>
                    <a:lnTo>
                      <a:pt x="239" y="3514"/>
                    </a:lnTo>
                    <a:lnTo>
                      <a:pt x="194" y="3400"/>
                    </a:lnTo>
                    <a:lnTo>
                      <a:pt x="155" y="3285"/>
                    </a:lnTo>
                    <a:lnTo>
                      <a:pt x="121" y="3166"/>
                    </a:lnTo>
                    <a:lnTo>
                      <a:pt x="93" y="3045"/>
                    </a:lnTo>
                    <a:lnTo>
                      <a:pt x="70" y="2922"/>
                    </a:lnTo>
                    <a:lnTo>
                      <a:pt x="55" y="2797"/>
                    </a:lnTo>
                    <a:lnTo>
                      <a:pt x="46" y="2670"/>
                    </a:lnTo>
                    <a:lnTo>
                      <a:pt x="42" y="2542"/>
                    </a:lnTo>
                    <a:lnTo>
                      <a:pt x="46" y="2413"/>
                    </a:lnTo>
                    <a:lnTo>
                      <a:pt x="55" y="2286"/>
                    </a:lnTo>
                    <a:lnTo>
                      <a:pt x="70" y="2160"/>
                    </a:lnTo>
                    <a:lnTo>
                      <a:pt x="93" y="2037"/>
                    </a:lnTo>
                    <a:lnTo>
                      <a:pt x="121" y="1917"/>
                    </a:lnTo>
                    <a:lnTo>
                      <a:pt x="155" y="1799"/>
                    </a:lnTo>
                    <a:lnTo>
                      <a:pt x="194" y="1682"/>
                    </a:lnTo>
                    <a:lnTo>
                      <a:pt x="239" y="1569"/>
                    </a:lnTo>
                    <a:lnTo>
                      <a:pt x="289" y="1458"/>
                    </a:lnTo>
                    <a:lnTo>
                      <a:pt x="344" y="1350"/>
                    </a:lnTo>
                    <a:lnTo>
                      <a:pt x="404" y="1246"/>
                    </a:lnTo>
                    <a:lnTo>
                      <a:pt x="469" y="1144"/>
                    </a:lnTo>
                    <a:lnTo>
                      <a:pt x="538" y="1046"/>
                    </a:lnTo>
                    <a:lnTo>
                      <a:pt x="613" y="952"/>
                    </a:lnTo>
                    <a:lnTo>
                      <a:pt x="692" y="861"/>
                    </a:lnTo>
                    <a:lnTo>
                      <a:pt x="774" y="775"/>
                    </a:lnTo>
                    <a:lnTo>
                      <a:pt x="861" y="692"/>
                    </a:lnTo>
                    <a:lnTo>
                      <a:pt x="952" y="613"/>
                    </a:lnTo>
                    <a:lnTo>
                      <a:pt x="1046" y="539"/>
                    </a:lnTo>
                    <a:lnTo>
                      <a:pt x="1145" y="469"/>
                    </a:lnTo>
                    <a:lnTo>
                      <a:pt x="1246" y="404"/>
                    </a:lnTo>
                    <a:lnTo>
                      <a:pt x="1351" y="344"/>
                    </a:lnTo>
                    <a:lnTo>
                      <a:pt x="1458" y="289"/>
                    </a:lnTo>
                    <a:lnTo>
                      <a:pt x="1569" y="239"/>
                    </a:lnTo>
                    <a:lnTo>
                      <a:pt x="1683" y="194"/>
                    </a:lnTo>
                    <a:lnTo>
                      <a:pt x="1798" y="155"/>
                    </a:lnTo>
                    <a:lnTo>
                      <a:pt x="1917" y="121"/>
                    </a:lnTo>
                    <a:lnTo>
                      <a:pt x="2038" y="93"/>
                    </a:lnTo>
                    <a:lnTo>
                      <a:pt x="2161" y="72"/>
                    </a:lnTo>
                    <a:lnTo>
                      <a:pt x="2287" y="56"/>
                    </a:lnTo>
                    <a:lnTo>
                      <a:pt x="2413" y="46"/>
                    </a:lnTo>
                    <a:lnTo>
                      <a:pt x="2542" y="43"/>
                    </a:lnTo>
                    <a:lnTo>
                      <a:pt x="2671" y="46"/>
                    </a:lnTo>
                    <a:lnTo>
                      <a:pt x="2798" y="56"/>
                    </a:lnTo>
                    <a:lnTo>
                      <a:pt x="2923" y="72"/>
                    </a:lnTo>
                    <a:lnTo>
                      <a:pt x="3046" y="93"/>
                    </a:lnTo>
                    <a:lnTo>
                      <a:pt x="3167" y="121"/>
                    </a:lnTo>
                    <a:lnTo>
                      <a:pt x="3285" y="155"/>
                    </a:lnTo>
                    <a:lnTo>
                      <a:pt x="3402" y="194"/>
                    </a:lnTo>
                    <a:lnTo>
                      <a:pt x="3515" y="239"/>
                    </a:lnTo>
                    <a:lnTo>
                      <a:pt x="3627" y="289"/>
                    </a:lnTo>
                    <a:lnTo>
                      <a:pt x="3733" y="344"/>
                    </a:lnTo>
                    <a:lnTo>
                      <a:pt x="3838" y="404"/>
                    </a:lnTo>
                    <a:lnTo>
                      <a:pt x="3940" y="469"/>
                    </a:lnTo>
                    <a:lnTo>
                      <a:pt x="4038" y="539"/>
                    </a:lnTo>
                    <a:lnTo>
                      <a:pt x="4132" y="613"/>
                    </a:lnTo>
                    <a:lnTo>
                      <a:pt x="4223" y="692"/>
                    </a:lnTo>
                    <a:lnTo>
                      <a:pt x="4310" y="775"/>
                    </a:lnTo>
                    <a:lnTo>
                      <a:pt x="4393" y="861"/>
                    </a:lnTo>
                    <a:lnTo>
                      <a:pt x="4471" y="952"/>
                    </a:lnTo>
                    <a:lnTo>
                      <a:pt x="4546" y="1046"/>
                    </a:lnTo>
                    <a:lnTo>
                      <a:pt x="4615" y="1144"/>
                    </a:lnTo>
                    <a:lnTo>
                      <a:pt x="4680" y="1246"/>
                    </a:lnTo>
                    <a:lnTo>
                      <a:pt x="4741" y="1350"/>
                    </a:lnTo>
                    <a:lnTo>
                      <a:pt x="4796" y="1458"/>
                    </a:lnTo>
                    <a:lnTo>
                      <a:pt x="4845" y="1569"/>
                    </a:lnTo>
                    <a:lnTo>
                      <a:pt x="4891" y="1682"/>
                    </a:lnTo>
                    <a:lnTo>
                      <a:pt x="4930" y="1799"/>
                    </a:lnTo>
                    <a:lnTo>
                      <a:pt x="4963" y="1917"/>
                    </a:lnTo>
                    <a:lnTo>
                      <a:pt x="4991" y="2037"/>
                    </a:lnTo>
                    <a:lnTo>
                      <a:pt x="5014" y="2160"/>
                    </a:lnTo>
                    <a:lnTo>
                      <a:pt x="5029" y="2286"/>
                    </a:lnTo>
                    <a:lnTo>
                      <a:pt x="5039" y="2413"/>
                    </a:lnTo>
                    <a:lnTo>
                      <a:pt x="5042" y="2542"/>
                    </a:lnTo>
                    <a:lnTo>
                      <a:pt x="5042" y="2584"/>
                    </a:lnTo>
                    <a:lnTo>
                      <a:pt x="5041" y="2625"/>
                    </a:lnTo>
                    <a:lnTo>
                      <a:pt x="5039" y="2667"/>
                    </a:lnTo>
                    <a:lnTo>
                      <a:pt x="5037" y="2709"/>
                    </a:lnTo>
                    <a:lnTo>
                      <a:pt x="5033" y="2750"/>
                    </a:lnTo>
                    <a:lnTo>
                      <a:pt x="5030" y="2791"/>
                    </a:lnTo>
                    <a:lnTo>
                      <a:pt x="5026" y="2832"/>
                    </a:lnTo>
                    <a:lnTo>
                      <a:pt x="5020" y="2873"/>
                    </a:lnTo>
                    <a:lnTo>
                      <a:pt x="5015" y="2913"/>
                    </a:lnTo>
                    <a:lnTo>
                      <a:pt x="5009" y="2954"/>
                    </a:lnTo>
                    <a:lnTo>
                      <a:pt x="5001" y="2994"/>
                    </a:lnTo>
                    <a:lnTo>
                      <a:pt x="4993" y="3034"/>
                    </a:lnTo>
                    <a:lnTo>
                      <a:pt x="4986" y="3073"/>
                    </a:lnTo>
                    <a:lnTo>
                      <a:pt x="4976" y="3113"/>
                    </a:lnTo>
                    <a:lnTo>
                      <a:pt x="4966" y="3152"/>
                    </a:lnTo>
                    <a:lnTo>
                      <a:pt x="4957" y="3191"/>
                    </a:lnTo>
                    <a:lnTo>
                      <a:pt x="4997" y="3202"/>
                    </a:lnTo>
                    <a:lnTo>
                      <a:pt x="5007" y="3163"/>
                    </a:lnTo>
                    <a:lnTo>
                      <a:pt x="5017" y="3123"/>
                    </a:lnTo>
                    <a:lnTo>
                      <a:pt x="5026" y="3083"/>
                    </a:lnTo>
                    <a:lnTo>
                      <a:pt x="5034" y="3042"/>
                    </a:lnTo>
                    <a:lnTo>
                      <a:pt x="5042" y="3002"/>
                    </a:lnTo>
                    <a:lnTo>
                      <a:pt x="5050" y="2961"/>
                    </a:lnTo>
                    <a:lnTo>
                      <a:pt x="5056" y="2920"/>
                    </a:lnTo>
                    <a:lnTo>
                      <a:pt x="5061" y="2879"/>
                    </a:lnTo>
                    <a:lnTo>
                      <a:pt x="5067" y="2837"/>
                    </a:lnTo>
                    <a:lnTo>
                      <a:pt x="5071" y="2795"/>
                    </a:lnTo>
                    <a:lnTo>
                      <a:pt x="5076" y="2753"/>
                    </a:lnTo>
                    <a:lnTo>
                      <a:pt x="5079" y="2711"/>
                    </a:lnTo>
                    <a:lnTo>
                      <a:pt x="5081" y="2669"/>
                    </a:lnTo>
                    <a:lnTo>
                      <a:pt x="5082" y="2627"/>
                    </a:lnTo>
                    <a:lnTo>
                      <a:pt x="5083" y="2584"/>
                    </a:lnTo>
                    <a:lnTo>
                      <a:pt x="5084" y="2542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573360" y="1996920"/>
                <a:ext cx="2001960" cy="2000520"/>
              </a:xfrm>
              <a:custGeom>
                <a:avLst/>
                <a:gdLst/>
                <a:ahLst/>
                <a:rect l="l" t="t" r="r" b="b"/>
                <a:pathLst>
                  <a:path w="5043" h="5039">
                    <a:moveTo>
                      <a:pt x="5043" y="2520"/>
                    </a:moveTo>
                    <a:lnTo>
                      <a:pt x="5038" y="2390"/>
                    </a:lnTo>
                    <a:lnTo>
                      <a:pt x="5029" y="2262"/>
                    </a:lnTo>
                    <a:lnTo>
                      <a:pt x="5013" y="2135"/>
                    </a:lnTo>
                    <a:lnTo>
                      <a:pt x="4991" y="2012"/>
                    </a:lnTo>
                    <a:lnTo>
                      <a:pt x="4963" y="1890"/>
                    </a:lnTo>
                    <a:lnTo>
                      <a:pt x="4929" y="1770"/>
                    </a:lnTo>
                    <a:lnTo>
                      <a:pt x="4889" y="1654"/>
                    </a:lnTo>
                    <a:lnTo>
                      <a:pt x="4844" y="1539"/>
                    </a:lnTo>
                    <a:lnTo>
                      <a:pt x="4793" y="1427"/>
                    </a:lnTo>
                    <a:lnTo>
                      <a:pt x="4738" y="1319"/>
                    </a:lnTo>
                    <a:lnTo>
                      <a:pt x="4677" y="1213"/>
                    </a:lnTo>
                    <a:lnTo>
                      <a:pt x="4611" y="1110"/>
                    </a:lnTo>
                    <a:lnTo>
                      <a:pt x="4541" y="1012"/>
                    </a:lnTo>
                    <a:lnTo>
                      <a:pt x="4467" y="917"/>
                    </a:lnTo>
                    <a:lnTo>
                      <a:pt x="4387" y="825"/>
                    </a:lnTo>
                    <a:lnTo>
                      <a:pt x="4304" y="738"/>
                    </a:lnTo>
                    <a:lnTo>
                      <a:pt x="4216" y="655"/>
                    </a:lnTo>
                    <a:lnTo>
                      <a:pt x="4124" y="575"/>
                    </a:lnTo>
                    <a:lnTo>
                      <a:pt x="4029" y="500"/>
                    </a:lnTo>
                    <a:lnTo>
                      <a:pt x="3931" y="430"/>
                    </a:lnTo>
                    <a:lnTo>
                      <a:pt x="3828" y="364"/>
                    </a:lnTo>
                    <a:lnTo>
                      <a:pt x="3722" y="304"/>
                    </a:lnTo>
                    <a:lnTo>
                      <a:pt x="3614" y="248"/>
                    </a:lnTo>
                    <a:lnTo>
                      <a:pt x="3503" y="198"/>
                    </a:lnTo>
                    <a:lnTo>
                      <a:pt x="3388" y="152"/>
                    </a:lnTo>
                    <a:lnTo>
                      <a:pt x="3271" y="113"/>
                    </a:lnTo>
                    <a:lnTo>
                      <a:pt x="3151" y="79"/>
                    </a:lnTo>
                    <a:lnTo>
                      <a:pt x="3030" y="51"/>
                    </a:lnTo>
                    <a:lnTo>
                      <a:pt x="2905" y="29"/>
                    </a:lnTo>
                    <a:lnTo>
                      <a:pt x="2779" y="13"/>
                    </a:lnTo>
                    <a:lnTo>
                      <a:pt x="2651" y="3"/>
                    </a:lnTo>
                    <a:lnTo>
                      <a:pt x="2521" y="0"/>
                    </a:lnTo>
                    <a:lnTo>
                      <a:pt x="2391" y="3"/>
                    </a:lnTo>
                    <a:lnTo>
                      <a:pt x="2263" y="13"/>
                    </a:lnTo>
                    <a:lnTo>
                      <a:pt x="2137" y="29"/>
                    </a:lnTo>
                    <a:lnTo>
                      <a:pt x="2013" y="51"/>
                    </a:lnTo>
                    <a:lnTo>
                      <a:pt x="1891" y="79"/>
                    </a:lnTo>
                    <a:lnTo>
                      <a:pt x="1772" y="113"/>
                    </a:lnTo>
                    <a:lnTo>
                      <a:pt x="1654" y="152"/>
                    </a:lnTo>
                    <a:lnTo>
                      <a:pt x="1540" y="198"/>
                    </a:lnTo>
                    <a:lnTo>
                      <a:pt x="1428" y="248"/>
                    </a:lnTo>
                    <a:lnTo>
                      <a:pt x="1319" y="304"/>
                    </a:lnTo>
                    <a:lnTo>
                      <a:pt x="1214" y="364"/>
                    </a:lnTo>
                    <a:lnTo>
                      <a:pt x="1112" y="430"/>
                    </a:lnTo>
                    <a:lnTo>
                      <a:pt x="1013" y="500"/>
                    </a:lnTo>
                    <a:lnTo>
                      <a:pt x="917" y="575"/>
                    </a:lnTo>
                    <a:lnTo>
                      <a:pt x="826" y="655"/>
                    </a:lnTo>
                    <a:lnTo>
                      <a:pt x="739" y="738"/>
                    </a:lnTo>
                    <a:lnTo>
                      <a:pt x="656" y="825"/>
                    </a:lnTo>
                    <a:lnTo>
                      <a:pt x="576" y="917"/>
                    </a:lnTo>
                    <a:lnTo>
                      <a:pt x="501" y="1012"/>
                    </a:lnTo>
                    <a:lnTo>
                      <a:pt x="431" y="1110"/>
                    </a:lnTo>
                    <a:lnTo>
                      <a:pt x="365" y="1213"/>
                    </a:lnTo>
                    <a:lnTo>
                      <a:pt x="304" y="1319"/>
                    </a:lnTo>
                    <a:lnTo>
                      <a:pt x="249" y="1427"/>
                    </a:lnTo>
                    <a:lnTo>
                      <a:pt x="199" y="1539"/>
                    </a:lnTo>
                    <a:lnTo>
                      <a:pt x="153" y="1654"/>
                    </a:lnTo>
                    <a:lnTo>
                      <a:pt x="113" y="1770"/>
                    </a:lnTo>
                    <a:lnTo>
                      <a:pt x="80" y="1890"/>
                    </a:lnTo>
                    <a:lnTo>
                      <a:pt x="52" y="2012"/>
                    </a:lnTo>
                    <a:lnTo>
                      <a:pt x="29" y="2135"/>
                    </a:lnTo>
                    <a:lnTo>
                      <a:pt x="13" y="2262"/>
                    </a:lnTo>
                    <a:lnTo>
                      <a:pt x="3" y="2390"/>
                    </a:lnTo>
                    <a:lnTo>
                      <a:pt x="0" y="2520"/>
                    </a:lnTo>
                    <a:lnTo>
                      <a:pt x="3" y="2649"/>
                    </a:lnTo>
                    <a:lnTo>
                      <a:pt x="13" y="2777"/>
                    </a:lnTo>
                    <a:lnTo>
                      <a:pt x="29" y="2903"/>
                    </a:lnTo>
                    <a:lnTo>
                      <a:pt x="52" y="3027"/>
                    </a:lnTo>
                    <a:lnTo>
                      <a:pt x="80" y="3149"/>
                    </a:lnTo>
                    <a:lnTo>
                      <a:pt x="113" y="3269"/>
                    </a:lnTo>
                    <a:lnTo>
                      <a:pt x="153" y="3386"/>
                    </a:lnTo>
                    <a:lnTo>
                      <a:pt x="199" y="3500"/>
                    </a:lnTo>
                    <a:lnTo>
                      <a:pt x="249" y="3612"/>
                    </a:lnTo>
                    <a:lnTo>
                      <a:pt x="304" y="3721"/>
                    </a:lnTo>
                    <a:lnTo>
                      <a:pt x="365" y="3826"/>
                    </a:lnTo>
                    <a:lnTo>
                      <a:pt x="431" y="3928"/>
                    </a:lnTo>
                    <a:lnTo>
                      <a:pt x="501" y="4027"/>
                    </a:lnTo>
                    <a:lnTo>
                      <a:pt x="576" y="4122"/>
                    </a:lnTo>
                    <a:lnTo>
                      <a:pt x="656" y="4213"/>
                    </a:lnTo>
                    <a:lnTo>
                      <a:pt x="739" y="4301"/>
                    </a:lnTo>
                    <a:lnTo>
                      <a:pt x="826" y="4385"/>
                    </a:lnTo>
                    <a:lnTo>
                      <a:pt x="917" y="4464"/>
                    </a:lnTo>
                    <a:lnTo>
                      <a:pt x="1013" y="4538"/>
                    </a:lnTo>
                    <a:lnTo>
                      <a:pt x="1112" y="4608"/>
                    </a:lnTo>
                    <a:lnTo>
                      <a:pt x="1214" y="4674"/>
                    </a:lnTo>
                    <a:lnTo>
                      <a:pt x="1319" y="4735"/>
                    </a:lnTo>
                    <a:lnTo>
                      <a:pt x="1428" y="4791"/>
                    </a:lnTo>
                    <a:lnTo>
                      <a:pt x="1540" y="4842"/>
                    </a:lnTo>
                    <a:lnTo>
                      <a:pt x="1654" y="4886"/>
                    </a:lnTo>
                    <a:lnTo>
                      <a:pt x="1772" y="4926"/>
                    </a:lnTo>
                    <a:lnTo>
                      <a:pt x="1891" y="4959"/>
                    </a:lnTo>
                    <a:lnTo>
                      <a:pt x="2013" y="4987"/>
                    </a:lnTo>
                    <a:lnTo>
                      <a:pt x="2137" y="5010"/>
                    </a:lnTo>
                    <a:lnTo>
                      <a:pt x="2263" y="5026"/>
                    </a:lnTo>
                    <a:lnTo>
                      <a:pt x="2391" y="5036"/>
                    </a:lnTo>
                    <a:lnTo>
                      <a:pt x="2521" y="5039"/>
                    </a:lnTo>
                    <a:lnTo>
                      <a:pt x="2595" y="5038"/>
                    </a:lnTo>
                    <a:lnTo>
                      <a:pt x="2669" y="5035"/>
                    </a:lnTo>
                    <a:lnTo>
                      <a:pt x="2742" y="5030"/>
                    </a:lnTo>
                    <a:lnTo>
                      <a:pt x="2815" y="5022"/>
                    </a:lnTo>
                    <a:lnTo>
                      <a:pt x="2886" y="5013"/>
                    </a:lnTo>
                    <a:lnTo>
                      <a:pt x="2957" y="5002"/>
                    </a:lnTo>
                    <a:lnTo>
                      <a:pt x="3027" y="4989"/>
                    </a:lnTo>
                    <a:lnTo>
                      <a:pt x="3098" y="4973"/>
                    </a:lnTo>
                    <a:lnTo>
                      <a:pt x="3167" y="4956"/>
                    </a:lnTo>
                    <a:lnTo>
                      <a:pt x="3235" y="4937"/>
                    </a:lnTo>
                    <a:lnTo>
                      <a:pt x="3302" y="4916"/>
                    </a:lnTo>
                    <a:lnTo>
                      <a:pt x="3369" y="4894"/>
                    </a:lnTo>
                    <a:lnTo>
                      <a:pt x="3435" y="4869"/>
                    </a:lnTo>
                    <a:lnTo>
                      <a:pt x="3500" y="4843"/>
                    </a:lnTo>
                    <a:lnTo>
                      <a:pt x="3563" y="4815"/>
                    </a:lnTo>
                    <a:lnTo>
                      <a:pt x="3626" y="4784"/>
                    </a:lnTo>
                    <a:lnTo>
                      <a:pt x="3608" y="4747"/>
                    </a:lnTo>
                    <a:lnTo>
                      <a:pt x="3546" y="4777"/>
                    </a:lnTo>
                    <a:lnTo>
                      <a:pt x="3483" y="4804"/>
                    </a:lnTo>
                    <a:lnTo>
                      <a:pt x="3420" y="4830"/>
                    </a:lnTo>
                    <a:lnTo>
                      <a:pt x="3355" y="4854"/>
                    </a:lnTo>
                    <a:lnTo>
                      <a:pt x="3289" y="4876"/>
                    </a:lnTo>
                    <a:lnTo>
                      <a:pt x="3223" y="4897"/>
                    </a:lnTo>
                    <a:lnTo>
                      <a:pt x="3156" y="4915"/>
                    </a:lnTo>
                    <a:lnTo>
                      <a:pt x="3088" y="4932"/>
                    </a:lnTo>
                    <a:lnTo>
                      <a:pt x="3019" y="4948"/>
                    </a:lnTo>
                    <a:lnTo>
                      <a:pt x="2950" y="4960"/>
                    </a:lnTo>
                    <a:lnTo>
                      <a:pt x="2880" y="4971"/>
                    </a:lnTo>
                    <a:lnTo>
                      <a:pt x="2809" y="4981"/>
                    </a:lnTo>
                    <a:lnTo>
                      <a:pt x="2738" y="4989"/>
                    </a:lnTo>
                    <a:lnTo>
                      <a:pt x="2667" y="4993"/>
                    </a:lnTo>
                    <a:lnTo>
                      <a:pt x="2594" y="4996"/>
                    </a:lnTo>
                    <a:lnTo>
                      <a:pt x="2521" y="4997"/>
                    </a:lnTo>
                    <a:lnTo>
                      <a:pt x="2393" y="4994"/>
                    </a:lnTo>
                    <a:lnTo>
                      <a:pt x="2268" y="4984"/>
                    </a:lnTo>
                    <a:lnTo>
                      <a:pt x="2144" y="4969"/>
                    </a:lnTo>
                    <a:lnTo>
                      <a:pt x="2021" y="4948"/>
                    </a:lnTo>
                    <a:lnTo>
                      <a:pt x="1901" y="4919"/>
                    </a:lnTo>
                    <a:lnTo>
                      <a:pt x="1784" y="4886"/>
                    </a:lnTo>
                    <a:lnTo>
                      <a:pt x="1669" y="4847"/>
                    </a:lnTo>
                    <a:lnTo>
                      <a:pt x="1556" y="4803"/>
                    </a:lnTo>
                    <a:lnTo>
                      <a:pt x="1447" y="4753"/>
                    </a:lnTo>
                    <a:lnTo>
                      <a:pt x="1340" y="4698"/>
                    </a:lnTo>
                    <a:lnTo>
                      <a:pt x="1236" y="4639"/>
                    </a:lnTo>
                    <a:lnTo>
                      <a:pt x="1135" y="4574"/>
                    </a:lnTo>
                    <a:lnTo>
                      <a:pt x="1038" y="4505"/>
                    </a:lnTo>
                    <a:lnTo>
                      <a:pt x="944" y="4431"/>
                    </a:lnTo>
                    <a:lnTo>
                      <a:pt x="854" y="4354"/>
                    </a:lnTo>
                    <a:lnTo>
                      <a:pt x="768" y="4271"/>
                    </a:lnTo>
                    <a:lnTo>
                      <a:pt x="686" y="4186"/>
                    </a:lnTo>
                    <a:lnTo>
                      <a:pt x="608" y="4095"/>
                    </a:lnTo>
                    <a:lnTo>
                      <a:pt x="535" y="4003"/>
                    </a:lnTo>
                    <a:lnTo>
                      <a:pt x="465" y="3905"/>
                    </a:lnTo>
                    <a:lnTo>
                      <a:pt x="401" y="3805"/>
                    </a:lnTo>
                    <a:lnTo>
                      <a:pt x="341" y="3700"/>
                    </a:lnTo>
                    <a:lnTo>
                      <a:pt x="286" y="3594"/>
                    </a:lnTo>
                    <a:lnTo>
                      <a:pt x="236" y="3484"/>
                    </a:lnTo>
                    <a:lnTo>
                      <a:pt x="192" y="3372"/>
                    </a:lnTo>
                    <a:lnTo>
                      <a:pt x="153" y="3256"/>
                    </a:lnTo>
                    <a:lnTo>
                      <a:pt x="120" y="3139"/>
                    </a:lnTo>
                    <a:lnTo>
                      <a:pt x="93" y="3019"/>
                    </a:lnTo>
                    <a:lnTo>
                      <a:pt x="70" y="2897"/>
                    </a:lnTo>
                    <a:lnTo>
                      <a:pt x="55" y="2772"/>
                    </a:lnTo>
                    <a:lnTo>
                      <a:pt x="45" y="2647"/>
                    </a:lnTo>
                    <a:lnTo>
                      <a:pt x="42" y="2520"/>
                    </a:lnTo>
                    <a:lnTo>
                      <a:pt x="45" y="2392"/>
                    </a:lnTo>
                    <a:lnTo>
                      <a:pt x="55" y="2266"/>
                    </a:lnTo>
                    <a:lnTo>
                      <a:pt x="70" y="2142"/>
                    </a:lnTo>
                    <a:lnTo>
                      <a:pt x="93" y="2020"/>
                    </a:lnTo>
                    <a:lnTo>
                      <a:pt x="120" y="1900"/>
                    </a:lnTo>
                    <a:lnTo>
                      <a:pt x="153" y="1782"/>
                    </a:lnTo>
                    <a:lnTo>
                      <a:pt x="192" y="1668"/>
                    </a:lnTo>
                    <a:lnTo>
                      <a:pt x="236" y="1555"/>
                    </a:lnTo>
                    <a:lnTo>
                      <a:pt x="286" y="1445"/>
                    </a:lnTo>
                    <a:lnTo>
                      <a:pt x="341" y="1338"/>
                    </a:lnTo>
                    <a:lnTo>
                      <a:pt x="401" y="1234"/>
                    </a:lnTo>
                    <a:lnTo>
                      <a:pt x="465" y="1134"/>
                    </a:lnTo>
                    <a:lnTo>
                      <a:pt x="535" y="1037"/>
                    </a:lnTo>
                    <a:lnTo>
                      <a:pt x="608" y="943"/>
                    </a:lnTo>
                    <a:lnTo>
                      <a:pt x="686" y="853"/>
                    </a:lnTo>
                    <a:lnTo>
                      <a:pt x="768" y="767"/>
                    </a:lnTo>
                    <a:lnTo>
                      <a:pt x="854" y="685"/>
                    </a:lnTo>
                    <a:lnTo>
                      <a:pt x="944" y="607"/>
                    </a:lnTo>
                    <a:lnTo>
                      <a:pt x="1038" y="534"/>
                    </a:lnTo>
                    <a:lnTo>
                      <a:pt x="1135" y="464"/>
                    </a:lnTo>
                    <a:lnTo>
                      <a:pt x="1236" y="400"/>
                    </a:lnTo>
                    <a:lnTo>
                      <a:pt x="1340" y="340"/>
                    </a:lnTo>
                    <a:lnTo>
                      <a:pt x="1447" y="285"/>
                    </a:lnTo>
                    <a:lnTo>
                      <a:pt x="1556" y="237"/>
                    </a:lnTo>
                    <a:lnTo>
                      <a:pt x="1669" y="191"/>
                    </a:lnTo>
                    <a:lnTo>
                      <a:pt x="1784" y="152"/>
                    </a:lnTo>
                    <a:lnTo>
                      <a:pt x="1901" y="119"/>
                    </a:lnTo>
                    <a:lnTo>
                      <a:pt x="2021" y="92"/>
                    </a:lnTo>
                    <a:lnTo>
                      <a:pt x="2144" y="70"/>
                    </a:lnTo>
                    <a:lnTo>
                      <a:pt x="2268" y="54"/>
                    </a:lnTo>
                    <a:lnTo>
                      <a:pt x="2393" y="44"/>
                    </a:lnTo>
                    <a:lnTo>
                      <a:pt x="2521" y="41"/>
                    </a:lnTo>
                    <a:lnTo>
                      <a:pt x="2649" y="44"/>
                    </a:lnTo>
                    <a:lnTo>
                      <a:pt x="2775" y="54"/>
                    </a:lnTo>
                    <a:lnTo>
                      <a:pt x="2899" y="70"/>
                    </a:lnTo>
                    <a:lnTo>
                      <a:pt x="3021" y="92"/>
                    </a:lnTo>
                    <a:lnTo>
                      <a:pt x="3141" y="119"/>
                    </a:lnTo>
                    <a:lnTo>
                      <a:pt x="3259" y="152"/>
                    </a:lnTo>
                    <a:lnTo>
                      <a:pt x="3373" y="191"/>
                    </a:lnTo>
                    <a:lnTo>
                      <a:pt x="3487" y="237"/>
                    </a:lnTo>
                    <a:lnTo>
                      <a:pt x="3596" y="285"/>
                    </a:lnTo>
                    <a:lnTo>
                      <a:pt x="3703" y="340"/>
                    </a:lnTo>
                    <a:lnTo>
                      <a:pt x="3806" y="400"/>
                    </a:lnTo>
                    <a:lnTo>
                      <a:pt x="3907" y="464"/>
                    </a:lnTo>
                    <a:lnTo>
                      <a:pt x="4004" y="534"/>
                    </a:lnTo>
                    <a:lnTo>
                      <a:pt x="4098" y="607"/>
                    </a:lnTo>
                    <a:lnTo>
                      <a:pt x="4188" y="685"/>
                    </a:lnTo>
                    <a:lnTo>
                      <a:pt x="4274" y="767"/>
                    </a:lnTo>
                    <a:lnTo>
                      <a:pt x="4356" y="853"/>
                    </a:lnTo>
                    <a:lnTo>
                      <a:pt x="4434" y="943"/>
                    </a:lnTo>
                    <a:lnTo>
                      <a:pt x="4508" y="1037"/>
                    </a:lnTo>
                    <a:lnTo>
                      <a:pt x="4577" y="1134"/>
                    </a:lnTo>
                    <a:lnTo>
                      <a:pt x="4642" y="1234"/>
                    </a:lnTo>
                    <a:lnTo>
                      <a:pt x="4701" y="1338"/>
                    </a:lnTo>
                    <a:lnTo>
                      <a:pt x="4756" y="1445"/>
                    </a:lnTo>
                    <a:lnTo>
                      <a:pt x="4806" y="1555"/>
                    </a:lnTo>
                    <a:lnTo>
                      <a:pt x="4850" y="1668"/>
                    </a:lnTo>
                    <a:lnTo>
                      <a:pt x="4889" y="1782"/>
                    </a:lnTo>
                    <a:lnTo>
                      <a:pt x="4923" y="1900"/>
                    </a:lnTo>
                    <a:lnTo>
                      <a:pt x="4950" y="2020"/>
                    </a:lnTo>
                    <a:lnTo>
                      <a:pt x="4972" y="2142"/>
                    </a:lnTo>
                    <a:lnTo>
                      <a:pt x="4988" y="2266"/>
                    </a:lnTo>
                    <a:lnTo>
                      <a:pt x="4997" y="2392"/>
                    </a:lnTo>
                    <a:lnTo>
                      <a:pt x="5000" y="2520"/>
                    </a:lnTo>
                    <a:lnTo>
                      <a:pt x="5000" y="2561"/>
                    </a:lnTo>
                    <a:lnTo>
                      <a:pt x="4999" y="2603"/>
                    </a:lnTo>
                    <a:lnTo>
                      <a:pt x="4997" y="2644"/>
                    </a:lnTo>
                    <a:lnTo>
                      <a:pt x="4995" y="2685"/>
                    </a:lnTo>
                    <a:lnTo>
                      <a:pt x="4992" y="2726"/>
                    </a:lnTo>
                    <a:lnTo>
                      <a:pt x="4989" y="2767"/>
                    </a:lnTo>
                    <a:lnTo>
                      <a:pt x="4984" y="2808"/>
                    </a:lnTo>
                    <a:lnTo>
                      <a:pt x="4979" y="2848"/>
                    </a:lnTo>
                    <a:lnTo>
                      <a:pt x="4973" y="2888"/>
                    </a:lnTo>
                    <a:lnTo>
                      <a:pt x="4967" y="2928"/>
                    </a:lnTo>
                    <a:lnTo>
                      <a:pt x="4959" y="2968"/>
                    </a:lnTo>
                    <a:lnTo>
                      <a:pt x="4952" y="3008"/>
                    </a:lnTo>
                    <a:lnTo>
                      <a:pt x="4944" y="3047"/>
                    </a:lnTo>
                    <a:lnTo>
                      <a:pt x="4935" y="3086"/>
                    </a:lnTo>
                    <a:lnTo>
                      <a:pt x="4926" y="3124"/>
                    </a:lnTo>
                    <a:lnTo>
                      <a:pt x="4915" y="3163"/>
                    </a:lnTo>
                    <a:lnTo>
                      <a:pt x="4956" y="3174"/>
                    </a:lnTo>
                    <a:lnTo>
                      <a:pt x="4966" y="3135"/>
                    </a:lnTo>
                    <a:lnTo>
                      <a:pt x="4976" y="3095"/>
                    </a:lnTo>
                    <a:lnTo>
                      <a:pt x="4984" y="3055"/>
                    </a:lnTo>
                    <a:lnTo>
                      <a:pt x="4993" y="3015"/>
                    </a:lnTo>
                    <a:lnTo>
                      <a:pt x="5000" y="2975"/>
                    </a:lnTo>
                    <a:lnTo>
                      <a:pt x="5008" y="2935"/>
                    </a:lnTo>
                    <a:lnTo>
                      <a:pt x="5015" y="2894"/>
                    </a:lnTo>
                    <a:lnTo>
                      <a:pt x="5020" y="2853"/>
                    </a:lnTo>
                    <a:lnTo>
                      <a:pt x="5025" y="2812"/>
                    </a:lnTo>
                    <a:lnTo>
                      <a:pt x="5030" y="2771"/>
                    </a:lnTo>
                    <a:lnTo>
                      <a:pt x="5033" y="2729"/>
                    </a:lnTo>
                    <a:lnTo>
                      <a:pt x="5036" y="2688"/>
                    </a:lnTo>
                    <a:lnTo>
                      <a:pt x="5039" y="2646"/>
                    </a:lnTo>
                    <a:lnTo>
                      <a:pt x="5040" y="2604"/>
                    </a:lnTo>
                    <a:lnTo>
                      <a:pt x="5042" y="2562"/>
                    </a:lnTo>
                    <a:lnTo>
                      <a:pt x="5043" y="2520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581280" y="2004840"/>
                <a:ext cx="1984320" cy="1984320"/>
              </a:xfrm>
              <a:custGeom>
                <a:avLst/>
                <a:gdLst/>
                <a:ahLst/>
                <a:rect l="l" t="t" r="r" b="b"/>
                <a:pathLst>
                  <a:path w="5000" h="4998">
                    <a:moveTo>
                      <a:pt x="5000" y="2499"/>
                    </a:moveTo>
                    <a:lnTo>
                      <a:pt x="4997" y="2370"/>
                    </a:lnTo>
                    <a:lnTo>
                      <a:pt x="4987" y="2243"/>
                    </a:lnTo>
                    <a:lnTo>
                      <a:pt x="4972" y="2117"/>
                    </a:lnTo>
                    <a:lnTo>
                      <a:pt x="4949" y="1994"/>
                    </a:lnTo>
                    <a:lnTo>
                      <a:pt x="4921" y="1874"/>
                    </a:lnTo>
                    <a:lnTo>
                      <a:pt x="4888" y="1756"/>
                    </a:lnTo>
                    <a:lnTo>
                      <a:pt x="4849" y="1639"/>
                    </a:lnTo>
                    <a:lnTo>
                      <a:pt x="4803" y="1526"/>
                    </a:lnTo>
                    <a:lnTo>
                      <a:pt x="4754" y="1415"/>
                    </a:lnTo>
                    <a:lnTo>
                      <a:pt x="4699" y="1307"/>
                    </a:lnTo>
                    <a:lnTo>
                      <a:pt x="4638" y="1203"/>
                    </a:lnTo>
                    <a:lnTo>
                      <a:pt x="4573" y="1101"/>
                    </a:lnTo>
                    <a:lnTo>
                      <a:pt x="4504" y="1003"/>
                    </a:lnTo>
                    <a:lnTo>
                      <a:pt x="4429" y="909"/>
                    </a:lnTo>
                    <a:lnTo>
                      <a:pt x="4351" y="818"/>
                    </a:lnTo>
                    <a:lnTo>
                      <a:pt x="4268" y="732"/>
                    </a:lnTo>
                    <a:lnTo>
                      <a:pt x="4181" y="649"/>
                    </a:lnTo>
                    <a:lnTo>
                      <a:pt x="4090" y="570"/>
                    </a:lnTo>
                    <a:lnTo>
                      <a:pt x="3996" y="496"/>
                    </a:lnTo>
                    <a:lnTo>
                      <a:pt x="3898" y="426"/>
                    </a:lnTo>
                    <a:lnTo>
                      <a:pt x="3796" y="361"/>
                    </a:lnTo>
                    <a:lnTo>
                      <a:pt x="3691" y="301"/>
                    </a:lnTo>
                    <a:lnTo>
                      <a:pt x="3585" y="246"/>
                    </a:lnTo>
                    <a:lnTo>
                      <a:pt x="3473" y="196"/>
                    </a:lnTo>
                    <a:lnTo>
                      <a:pt x="3360" y="151"/>
                    </a:lnTo>
                    <a:lnTo>
                      <a:pt x="3243" y="112"/>
                    </a:lnTo>
                    <a:lnTo>
                      <a:pt x="3125" y="78"/>
                    </a:lnTo>
                    <a:lnTo>
                      <a:pt x="3004" y="50"/>
                    </a:lnTo>
                    <a:lnTo>
                      <a:pt x="2881" y="29"/>
                    </a:lnTo>
                    <a:lnTo>
                      <a:pt x="2756" y="13"/>
                    </a:lnTo>
                    <a:lnTo>
                      <a:pt x="2629" y="3"/>
                    </a:lnTo>
                    <a:lnTo>
                      <a:pt x="2500" y="0"/>
                    </a:lnTo>
                    <a:lnTo>
                      <a:pt x="2371" y="3"/>
                    </a:lnTo>
                    <a:lnTo>
                      <a:pt x="2245" y="13"/>
                    </a:lnTo>
                    <a:lnTo>
                      <a:pt x="2119" y="29"/>
                    </a:lnTo>
                    <a:lnTo>
                      <a:pt x="1996" y="50"/>
                    </a:lnTo>
                    <a:lnTo>
                      <a:pt x="1875" y="78"/>
                    </a:lnTo>
                    <a:lnTo>
                      <a:pt x="1756" y="112"/>
                    </a:lnTo>
                    <a:lnTo>
                      <a:pt x="1641" y="151"/>
                    </a:lnTo>
                    <a:lnTo>
                      <a:pt x="1527" y="196"/>
                    </a:lnTo>
                    <a:lnTo>
                      <a:pt x="1416" y="246"/>
                    </a:lnTo>
                    <a:lnTo>
                      <a:pt x="1309" y="301"/>
                    </a:lnTo>
                    <a:lnTo>
                      <a:pt x="1204" y="361"/>
                    </a:lnTo>
                    <a:lnTo>
                      <a:pt x="1103" y="426"/>
                    </a:lnTo>
                    <a:lnTo>
                      <a:pt x="1004" y="496"/>
                    </a:lnTo>
                    <a:lnTo>
                      <a:pt x="910" y="570"/>
                    </a:lnTo>
                    <a:lnTo>
                      <a:pt x="819" y="649"/>
                    </a:lnTo>
                    <a:lnTo>
                      <a:pt x="732" y="732"/>
                    </a:lnTo>
                    <a:lnTo>
                      <a:pt x="650" y="818"/>
                    </a:lnTo>
                    <a:lnTo>
                      <a:pt x="571" y="909"/>
                    </a:lnTo>
                    <a:lnTo>
                      <a:pt x="496" y="1003"/>
                    </a:lnTo>
                    <a:lnTo>
                      <a:pt x="427" y="1101"/>
                    </a:lnTo>
                    <a:lnTo>
                      <a:pt x="362" y="1203"/>
                    </a:lnTo>
                    <a:lnTo>
                      <a:pt x="302" y="1307"/>
                    </a:lnTo>
                    <a:lnTo>
                      <a:pt x="247" y="1415"/>
                    </a:lnTo>
                    <a:lnTo>
                      <a:pt x="197" y="1526"/>
                    </a:lnTo>
                    <a:lnTo>
                      <a:pt x="152" y="1639"/>
                    </a:lnTo>
                    <a:lnTo>
                      <a:pt x="113" y="1756"/>
                    </a:lnTo>
                    <a:lnTo>
                      <a:pt x="79" y="1874"/>
                    </a:lnTo>
                    <a:lnTo>
                      <a:pt x="51" y="1994"/>
                    </a:lnTo>
                    <a:lnTo>
                      <a:pt x="28" y="2117"/>
                    </a:lnTo>
                    <a:lnTo>
                      <a:pt x="13" y="2243"/>
                    </a:lnTo>
                    <a:lnTo>
                      <a:pt x="4" y="2370"/>
                    </a:lnTo>
                    <a:lnTo>
                      <a:pt x="0" y="2499"/>
                    </a:lnTo>
                    <a:lnTo>
                      <a:pt x="4" y="2627"/>
                    </a:lnTo>
                    <a:lnTo>
                      <a:pt x="13" y="2754"/>
                    </a:lnTo>
                    <a:lnTo>
                      <a:pt x="28" y="2879"/>
                    </a:lnTo>
                    <a:lnTo>
                      <a:pt x="51" y="3002"/>
                    </a:lnTo>
                    <a:lnTo>
                      <a:pt x="79" y="3123"/>
                    </a:lnTo>
                    <a:lnTo>
                      <a:pt x="113" y="3242"/>
                    </a:lnTo>
                    <a:lnTo>
                      <a:pt x="152" y="3357"/>
                    </a:lnTo>
                    <a:lnTo>
                      <a:pt x="197" y="3471"/>
                    </a:lnTo>
                    <a:lnTo>
                      <a:pt x="247" y="3582"/>
                    </a:lnTo>
                    <a:lnTo>
                      <a:pt x="302" y="3690"/>
                    </a:lnTo>
                    <a:lnTo>
                      <a:pt x="362" y="3795"/>
                    </a:lnTo>
                    <a:lnTo>
                      <a:pt x="427" y="3895"/>
                    </a:lnTo>
                    <a:lnTo>
                      <a:pt x="496" y="3993"/>
                    </a:lnTo>
                    <a:lnTo>
                      <a:pt x="571" y="4088"/>
                    </a:lnTo>
                    <a:lnTo>
                      <a:pt x="650" y="4178"/>
                    </a:lnTo>
                    <a:lnTo>
                      <a:pt x="732" y="4266"/>
                    </a:lnTo>
                    <a:lnTo>
                      <a:pt x="819" y="4348"/>
                    </a:lnTo>
                    <a:lnTo>
                      <a:pt x="910" y="4426"/>
                    </a:lnTo>
                    <a:lnTo>
                      <a:pt x="1004" y="4501"/>
                    </a:lnTo>
                    <a:lnTo>
                      <a:pt x="1103" y="4570"/>
                    </a:lnTo>
                    <a:lnTo>
                      <a:pt x="1204" y="4636"/>
                    </a:lnTo>
                    <a:lnTo>
                      <a:pt x="1309" y="4695"/>
                    </a:lnTo>
                    <a:lnTo>
                      <a:pt x="1416" y="4750"/>
                    </a:lnTo>
                    <a:lnTo>
                      <a:pt x="1527" y="4801"/>
                    </a:lnTo>
                    <a:lnTo>
                      <a:pt x="1641" y="4846"/>
                    </a:lnTo>
                    <a:lnTo>
                      <a:pt x="1756" y="4885"/>
                    </a:lnTo>
                    <a:lnTo>
                      <a:pt x="1875" y="4919"/>
                    </a:lnTo>
                    <a:lnTo>
                      <a:pt x="1996" y="4947"/>
                    </a:lnTo>
                    <a:lnTo>
                      <a:pt x="2119" y="4969"/>
                    </a:lnTo>
                    <a:lnTo>
                      <a:pt x="2245" y="4985"/>
                    </a:lnTo>
                    <a:lnTo>
                      <a:pt x="2371" y="4995"/>
                    </a:lnTo>
                    <a:lnTo>
                      <a:pt x="2500" y="4998"/>
                    </a:lnTo>
                    <a:lnTo>
                      <a:pt x="2573" y="4997"/>
                    </a:lnTo>
                    <a:lnTo>
                      <a:pt x="2647" y="4993"/>
                    </a:lnTo>
                    <a:lnTo>
                      <a:pt x="2719" y="4988"/>
                    </a:lnTo>
                    <a:lnTo>
                      <a:pt x="2790" y="4981"/>
                    </a:lnTo>
                    <a:lnTo>
                      <a:pt x="2862" y="4972"/>
                    </a:lnTo>
                    <a:lnTo>
                      <a:pt x="2933" y="4960"/>
                    </a:lnTo>
                    <a:lnTo>
                      <a:pt x="3002" y="4947"/>
                    </a:lnTo>
                    <a:lnTo>
                      <a:pt x="3071" y="4932"/>
                    </a:lnTo>
                    <a:lnTo>
                      <a:pt x="3140" y="4915"/>
                    </a:lnTo>
                    <a:lnTo>
                      <a:pt x="3207" y="4896"/>
                    </a:lnTo>
                    <a:lnTo>
                      <a:pt x="3274" y="4875"/>
                    </a:lnTo>
                    <a:lnTo>
                      <a:pt x="3340" y="4852"/>
                    </a:lnTo>
                    <a:lnTo>
                      <a:pt x="3406" y="4828"/>
                    </a:lnTo>
                    <a:lnTo>
                      <a:pt x="3470" y="4802"/>
                    </a:lnTo>
                    <a:lnTo>
                      <a:pt x="3534" y="4774"/>
                    </a:lnTo>
                    <a:lnTo>
                      <a:pt x="3596" y="4745"/>
                    </a:lnTo>
                    <a:lnTo>
                      <a:pt x="3578" y="4707"/>
                    </a:lnTo>
                    <a:lnTo>
                      <a:pt x="3516" y="4736"/>
                    </a:lnTo>
                    <a:lnTo>
                      <a:pt x="3454" y="4763"/>
                    </a:lnTo>
                    <a:lnTo>
                      <a:pt x="3391" y="4789"/>
                    </a:lnTo>
                    <a:lnTo>
                      <a:pt x="3326" y="4813"/>
                    </a:lnTo>
                    <a:lnTo>
                      <a:pt x="3261" y="4836"/>
                    </a:lnTo>
                    <a:lnTo>
                      <a:pt x="3196" y="4856"/>
                    </a:lnTo>
                    <a:lnTo>
                      <a:pt x="3130" y="4875"/>
                    </a:lnTo>
                    <a:lnTo>
                      <a:pt x="3062" y="4891"/>
                    </a:lnTo>
                    <a:lnTo>
                      <a:pt x="2993" y="4906"/>
                    </a:lnTo>
                    <a:lnTo>
                      <a:pt x="2925" y="4919"/>
                    </a:lnTo>
                    <a:lnTo>
                      <a:pt x="2856" y="4930"/>
                    </a:lnTo>
                    <a:lnTo>
                      <a:pt x="2786" y="4939"/>
                    </a:lnTo>
                    <a:lnTo>
                      <a:pt x="2716" y="4946"/>
                    </a:lnTo>
                    <a:lnTo>
                      <a:pt x="2644" y="4951"/>
                    </a:lnTo>
                    <a:lnTo>
                      <a:pt x="2572" y="4955"/>
                    </a:lnTo>
                    <a:lnTo>
                      <a:pt x="2500" y="4956"/>
                    </a:lnTo>
                    <a:lnTo>
                      <a:pt x="2373" y="4952"/>
                    </a:lnTo>
                    <a:lnTo>
                      <a:pt x="2249" y="4943"/>
                    </a:lnTo>
                    <a:lnTo>
                      <a:pt x="2126" y="4928"/>
                    </a:lnTo>
                    <a:lnTo>
                      <a:pt x="2005" y="4906"/>
                    </a:lnTo>
                    <a:lnTo>
                      <a:pt x="1886" y="4878"/>
                    </a:lnTo>
                    <a:lnTo>
                      <a:pt x="1769" y="4846"/>
                    </a:lnTo>
                    <a:lnTo>
                      <a:pt x="1655" y="4807"/>
                    </a:lnTo>
                    <a:lnTo>
                      <a:pt x="1543" y="4762"/>
                    </a:lnTo>
                    <a:lnTo>
                      <a:pt x="1434" y="4714"/>
                    </a:lnTo>
                    <a:lnTo>
                      <a:pt x="1328" y="4659"/>
                    </a:lnTo>
                    <a:lnTo>
                      <a:pt x="1226" y="4600"/>
                    </a:lnTo>
                    <a:lnTo>
                      <a:pt x="1125" y="4536"/>
                    </a:lnTo>
                    <a:lnTo>
                      <a:pt x="1029" y="4468"/>
                    </a:lnTo>
                    <a:lnTo>
                      <a:pt x="936" y="4394"/>
                    </a:lnTo>
                    <a:lnTo>
                      <a:pt x="848" y="4317"/>
                    </a:lnTo>
                    <a:lnTo>
                      <a:pt x="762" y="4236"/>
                    </a:lnTo>
                    <a:lnTo>
                      <a:pt x="680" y="4151"/>
                    </a:lnTo>
                    <a:lnTo>
                      <a:pt x="603" y="4061"/>
                    </a:lnTo>
                    <a:lnTo>
                      <a:pt x="530" y="3969"/>
                    </a:lnTo>
                    <a:lnTo>
                      <a:pt x="462" y="3872"/>
                    </a:lnTo>
                    <a:lnTo>
                      <a:pt x="398" y="3773"/>
                    </a:lnTo>
                    <a:lnTo>
                      <a:pt x="339" y="3669"/>
                    </a:lnTo>
                    <a:lnTo>
                      <a:pt x="285" y="3564"/>
                    </a:lnTo>
                    <a:lnTo>
                      <a:pt x="235" y="3454"/>
                    </a:lnTo>
                    <a:lnTo>
                      <a:pt x="191" y="3343"/>
                    </a:lnTo>
                    <a:lnTo>
                      <a:pt x="153" y="3229"/>
                    </a:lnTo>
                    <a:lnTo>
                      <a:pt x="119" y="3112"/>
                    </a:lnTo>
                    <a:lnTo>
                      <a:pt x="92" y="2993"/>
                    </a:lnTo>
                    <a:lnTo>
                      <a:pt x="70" y="2872"/>
                    </a:lnTo>
                    <a:lnTo>
                      <a:pt x="54" y="2749"/>
                    </a:lnTo>
                    <a:lnTo>
                      <a:pt x="45" y="2625"/>
                    </a:lnTo>
                    <a:lnTo>
                      <a:pt x="41" y="2499"/>
                    </a:lnTo>
                    <a:lnTo>
                      <a:pt x="45" y="2372"/>
                    </a:lnTo>
                    <a:lnTo>
                      <a:pt x="54" y="2247"/>
                    </a:lnTo>
                    <a:lnTo>
                      <a:pt x="70" y="2124"/>
                    </a:lnTo>
                    <a:lnTo>
                      <a:pt x="92" y="2003"/>
                    </a:lnTo>
                    <a:lnTo>
                      <a:pt x="119" y="1884"/>
                    </a:lnTo>
                    <a:lnTo>
                      <a:pt x="153" y="1768"/>
                    </a:lnTo>
                    <a:lnTo>
                      <a:pt x="191" y="1653"/>
                    </a:lnTo>
                    <a:lnTo>
                      <a:pt x="235" y="1542"/>
                    </a:lnTo>
                    <a:lnTo>
                      <a:pt x="285" y="1433"/>
                    </a:lnTo>
                    <a:lnTo>
                      <a:pt x="339" y="1327"/>
                    </a:lnTo>
                    <a:lnTo>
                      <a:pt x="398" y="1224"/>
                    </a:lnTo>
                    <a:lnTo>
                      <a:pt x="462" y="1125"/>
                    </a:lnTo>
                    <a:lnTo>
                      <a:pt x="530" y="1028"/>
                    </a:lnTo>
                    <a:lnTo>
                      <a:pt x="603" y="936"/>
                    </a:lnTo>
                    <a:lnTo>
                      <a:pt x="680" y="846"/>
                    </a:lnTo>
                    <a:lnTo>
                      <a:pt x="762" y="761"/>
                    </a:lnTo>
                    <a:lnTo>
                      <a:pt x="848" y="680"/>
                    </a:lnTo>
                    <a:lnTo>
                      <a:pt x="936" y="602"/>
                    </a:lnTo>
                    <a:lnTo>
                      <a:pt x="1029" y="530"/>
                    </a:lnTo>
                    <a:lnTo>
                      <a:pt x="1125" y="461"/>
                    </a:lnTo>
                    <a:lnTo>
                      <a:pt x="1226" y="397"/>
                    </a:lnTo>
                    <a:lnTo>
                      <a:pt x="1328" y="338"/>
                    </a:lnTo>
                    <a:lnTo>
                      <a:pt x="1434" y="284"/>
                    </a:lnTo>
                    <a:lnTo>
                      <a:pt x="1543" y="234"/>
                    </a:lnTo>
                    <a:lnTo>
                      <a:pt x="1655" y="191"/>
                    </a:lnTo>
                    <a:lnTo>
                      <a:pt x="1769" y="152"/>
                    </a:lnTo>
                    <a:lnTo>
                      <a:pt x="1886" y="118"/>
                    </a:lnTo>
                    <a:lnTo>
                      <a:pt x="2005" y="91"/>
                    </a:lnTo>
                    <a:lnTo>
                      <a:pt x="2126" y="70"/>
                    </a:lnTo>
                    <a:lnTo>
                      <a:pt x="2249" y="54"/>
                    </a:lnTo>
                    <a:lnTo>
                      <a:pt x="2373" y="44"/>
                    </a:lnTo>
                    <a:lnTo>
                      <a:pt x="2500" y="41"/>
                    </a:lnTo>
                    <a:lnTo>
                      <a:pt x="2627" y="44"/>
                    </a:lnTo>
                    <a:lnTo>
                      <a:pt x="2751" y="54"/>
                    </a:lnTo>
                    <a:lnTo>
                      <a:pt x="2875" y="70"/>
                    </a:lnTo>
                    <a:lnTo>
                      <a:pt x="2996" y="91"/>
                    </a:lnTo>
                    <a:lnTo>
                      <a:pt x="3114" y="118"/>
                    </a:lnTo>
                    <a:lnTo>
                      <a:pt x="3231" y="152"/>
                    </a:lnTo>
                    <a:lnTo>
                      <a:pt x="3346" y="191"/>
                    </a:lnTo>
                    <a:lnTo>
                      <a:pt x="3457" y="234"/>
                    </a:lnTo>
                    <a:lnTo>
                      <a:pt x="3566" y="284"/>
                    </a:lnTo>
                    <a:lnTo>
                      <a:pt x="3672" y="338"/>
                    </a:lnTo>
                    <a:lnTo>
                      <a:pt x="3775" y="397"/>
                    </a:lnTo>
                    <a:lnTo>
                      <a:pt x="3875" y="461"/>
                    </a:lnTo>
                    <a:lnTo>
                      <a:pt x="3971" y="530"/>
                    </a:lnTo>
                    <a:lnTo>
                      <a:pt x="4064" y="602"/>
                    </a:lnTo>
                    <a:lnTo>
                      <a:pt x="4153" y="680"/>
                    </a:lnTo>
                    <a:lnTo>
                      <a:pt x="4238" y="761"/>
                    </a:lnTo>
                    <a:lnTo>
                      <a:pt x="4320" y="846"/>
                    </a:lnTo>
                    <a:lnTo>
                      <a:pt x="4397" y="936"/>
                    </a:lnTo>
                    <a:lnTo>
                      <a:pt x="4471" y="1028"/>
                    </a:lnTo>
                    <a:lnTo>
                      <a:pt x="4539" y="1125"/>
                    </a:lnTo>
                    <a:lnTo>
                      <a:pt x="4602" y="1224"/>
                    </a:lnTo>
                    <a:lnTo>
                      <a:pt x="4662" y="1327"/>
                    </a:lnTo>
                    <a:lnTo>
                      <a:pt x="4716" y="1433"/>
                    </a:lnTo>
                    <a:lnTo>
                      <a:pt x="4766" y="1542"/>
                    </a:lnTo>
                    <a:lnTo>
                      <a:pt x="4810" y="1653"/>
                    </a:lnTo>
                    <a:lnTo>
                      <a:pt x="4848" y="1768"/>
                    </a:lnTo>
                    <a:lnTo>
                      <a:pt x="4881" y="1884"/>
                    </a:lnTo>
                    <a:lnTo>
                      <a:pt x="4908" y="2003"/>
                    </a:lnTo>
                    <a:lnTo>
                      <a:pt x="4930" y="2124"/>
                    </a:lnTo>
                    <a:lnTo>
                      <a:pt x="4946" y="2247"/>
                    </a:lnTo>
                    <a:lnTo>
                      <a:pt x="4956" y="2372"/>
                    </a:lnTo>
                    <a:lnTo>
                      <a:pt x="4959" y="2499"/>
                    </a:lnTo>
                    <a:lnTo>
                      <a:pt x="4958" y="2540"/>
                    </a:lnTo>
                    <a:lnTo>
                      <a:pt x="4957" y="2581"/>
                    </a:lnTo>
                    <a:lnTo>
                      <a:pt x="4956" y="2622"/>
                    </a:lnTo>
                    <a:lnTo>
                      <a:pt x="4954" y="2663"/>
                    </a:lnTo>
                    <a:lnTo>
                      <a:pt x="4950" y="2704"/>
                    </a:lnTo>
                    <a:lnTo>
                      <a:pt x="4946" y="2744"/>
                    </a:lnTo>
                    <a:lnTo>
                      <a:pt x="4942" y="2784"/>
                    </a:lnTo>
                    <a:lnTo>
                      <a:pt x="4937" y="2824"/>
                    </a:lnTo>
                    <a:lnTo>
                      <a:pt x="4932" y="2864"/>
                    </a:lnTo>
                    <a:lnTo>
                      <a:pt x="4925" y="2904"/>
                    </a:lnTo>
                    <a:lnTo>
                      <a:pt x="4918" y="2944"/>
                    </a:lnTo>
                    <a:lnTo>
                      <a:pt x="4910" y="2983"/>
                    </a:lnTo>
                    <a:lnTo>
                      <a:pt x="4903" y="3021"/>
                    </a:lnTo>
                    <a:lnTo>
                      <a:pt x="4894" y="3060"/>
                    </a:lnTo>
                    <a:lnTo>
                      <a:pt x="4884" y="3099"/>
                    </a:lnTo>
                    <a:lnTo>
                      <a:pt x="4875" y="3137"/>
                    </a:lnTo>
                    <a:lnTo>
                      <a:pt x="4915" y="3148"/>
                    </a:lnTo>
                    <a:lnTo>
                      <a:pt x="4924" y="3109"/>
                    </a:lnTo>
                    <a:lnTo>
                      <a:pt x="4934" y="3070"/>
                    </a:lnTo>
                    <a:lnTo>
                      <a:pt x="4944" y="3030"/>
                    </a:lnTo>
                    <a:lnTo>
                      <a:pt x="4951" y="2991"/>
                    </a:lnTo>
                    <a:lnTo>
                      <a:pt x="4959" y="2951"/>
                    </a:lnTo>
                    <a:lnTo>
                      <a:pt x="4967" y="2911"/>
                    </a:lnTo>
                    <a:lnTo>
                      <a:pt x="4973" y="2870"/>
                    </a:lnTo>
                    <a:lnTo>
                      <a:pt x="4978" y="2830"/>
                    </a:lnTo>
                    <a:lnTo>
                      <a:pt x="4984" y="2789"/>
                    </a:lnTo>
                    <a:lnTo>
                      <a:pt x="4988" y="2748"/>
                    </a:lnTo>
                    <a:lnTo>
                      <a:pt x="4991" y="2707"/>
                    </a:lnTo>
                    <a:lnTo>
                      <a:pt x="4995" y="2666"/>
                    </a:lnTo>
                    <a:lnTo>
                      <a:pt x="4997" y="2624"/>
                    </a:lnTo>
                    <a:lnTo>
                      <a:pt x="4999" y="2582"/>
                    </a:lnTo>
                    <a:lnTo>
                      <a:pt x="5000" y="2541"/>
                    </a:lnTo>
                    <a:lnTo>
                      <a:pt x="5000" y="249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589200" y="2014560"/>
                <a:ext cx="1968480" cy="1966680"/>
              </a:xfrm>
              <a:custGeom>
                <a:avLst/>
                <a:gdLst/>
                <a:ahLst/>
                <a:rect l="l" t="t" r="r" b="b"/>
                <a:pathLst>
                  <a:path w="4958" h="4956">
                    <a:moveTo>
                      <a:pt x="4958" y="2479"/>
                    </a:moveTo>
                    <a:lnTo>
                      <a:pt x="4955" y="2351"/>
                    </a:lnTo>
                    <a:lnTo>
                      <a:pt x="4946" y="2225"/>
                    </a:lnTo>
                    <a:lnTo>
                      <a:pt x="4930" y="2101"/>
                    </a:lnTo>
                    <a:lnTo>
                      <a:pt x="4908" y="1979"/>
                    </a:lnTo>
                    <a:lnTo>
                      <a:pt x="4881" y="1859"/>
                    </a:lnTo>
                    <a:lnTo>
                      <a:pt x="4847" y="1741"/>
                    </a:lnTo>
                    <a:lnTo>
                      <a:pt x="4808" y="1627"/>
                    </a:lnTo>
                    <a:lnTo>
                      <a:pt x="4764" y="1514"/>
                    </a:lnTo>
                    <a:lnTo>
                      <a:pt x="4714" y="1404"/>
                    </a:lnTo>
                    <a:lnTo>
                      <a:pt x="4659" y="1297"/>
                    </a:lnTo>
                    <a:lnTo>
                      <a:pt x="4600" y="1193"/>
                    </a:lnTo>
                    <a:lnTo>
                      <a:pt x="4535" y="1093"/>
                    </a:lnTo>
                    <a:lnTo>
                      <a:pt x="4466" y="996"/>
                    </a:lnTo>
                    <a:lnTo>
                      <a:pt x="4392" y="902"/>
                    </a:lnTo>
                    <a:lnTo>
                      <a:pt x="4314" y="812"/>
                    </a:lnTo>
                    <a:lnTo>
                      <a:pt x="4232" y="726"/>
                    </a:lnTo>
                    <a:lnTo>
                      <a:pt x="4146" y="644"/>
                    </a:lnTo>
                    <a:lnTo>
                      <a:pt x="4056" y="566"/>
                    </a:lnTo>
                    <a:lnTo>
                      <a:pt x="3962" y="493"/>
                    </a:lnTo>
                    <a:lnTo>
                      <a:pt x="3865" y="423"/>
                    </a:lnTo>
                    <a:lnTo>
                      <a:pt x="3764" y="359"/>
                    </a:lnTo>
                    <a:lnTo>
                      <a:pt x="3661" y="299"/>
                    </a:lnTo>
                    <a:lnTo>
                      <a:pt x="3554" y="244"/>
                    </a:lnTo>
                    <a:lnTo>
                      <a:pt x="3445" y="196"/>
                    </a:lnTo>
                    <a:lnTo>
                      <a:pt x="3331" y="150"/>
                    </a:lnTo>
                    <a:lnTo>
                      <a:pt x="3217" y="111"/>
                    </a:lnTo>
                    <a:lnTo>
                      <a:pt x="3099" y="78"/>
                    </a:lnTo>
                    <a:lnTo>
                      <a:pt x="2979" y="51"/>
                    </a:lnTo>
                    <a:lnTo>
                      <a:pt x="2857" y="29"/>
                    </a:lnTo>
                    <a:lnTo>
                      <a:pt x="2733" y="13"/>
                    </a:lnTo>
                    <a:lnTo>
                      <a:pt x="2607" y="3"/>
                    </a:lnTo>
                    <a:lnTo>
                      <a:pt x="2479" y="0"/>
                    </a:lnTo>
                    <a:lnTo>
                      <a:pt x="2351" y="3"/>
                    </a:lnTo>
                    <a:lnTo>
                      <a:pt x="2226" y="13"/>
                    </a:lnTo>
                    <a:lnTo>
                      <a:pt x="2102" y="29"/>
                    </a:lnTo>
                    <a:lnTo>
                      <a:pt x="1979" y="51"/>
                    </a:lnTo>
                    <a:lnTo>
                      <a:pt x="1859" y="78"/>
                    </a:lnTo>
                    <a:lnTo>
                      <a:pt x="1742" y="111"/>
                    </a:lnTo>
                    <a:lnTo>
                      <a:pt x="1627" y="150"/>
                    </a:lnTo>
                    <a:lnTo>
                      <a:pt x="1514" y="196"/>
                    </a:lnTo>
                    <a:lnTo>
                      <a:pt x="1405" y="244"/>
                    </a:lnTo>
                    <a:lnTo>
                      <a:pt x="1298" y="299"/>
                    </a:lnTo>
                    <a:lnTo>
                      <a:pt x="1194" y="359"/>
                    </a:lnTo>
                    <a:lnTo>
                      <a:pt x="1093" y="423"/>
                    </a:lnTo>
                    <a:lnTo>
                      <a:pt x="996" y="493"/>
                    </a:lnTo>
                    <a:lnTo>
                      <a:pt x="902" y="566"/>
                    </a:lnTo>
                    <a:lnTo>
                      <a:pt x="812" y="644"/>
                    </a:lnTo>
                    <a:lnTo>
                      <a:pt x="726" y="726"/>
                    </a:lnTo>
                    <a:lnTo>
                      <a:pt x="644" y="812"/>
                    </a:lnTo>
                    <a:lnTo>
                      <a:pt x="566" y="902"/>
                    </a:lnTo>
                    <a:lnTo>
                      <a:pt x="493" y="996"/>
                    </a:lnTo>
                    <a:lnTo>
                      <a:pt x="423" y="1093"/>
                    </a:lnTo>
                    <a:lnTo>
                      <a:pt x="359" y="1193"/>
                    </a:lnTo>
                    <a:lnTo>
                      <a:pt x="299" y="1297"/>
                    </a:lnTo>
                    <a:lnTo>
                      <a:pt x="244" y="1404"/>
                    </a:lnTo>
                    <a:lnTo>
                      <a:pt x="194" y="1514"/>
                    </a:lnTo>
                    <a:lnTo>
                      <a:pt x="150" y="1627"/>
                    </a:lnTo>
                    <a:lnTo>
                      <a:pt x="111" y="1741"/>
                    </a:lnTo>
                    <a:lnTo>
                      <a:pt x="78" y="1859"/>
                    </a:lnTo>
                    <a:lnTo>
                      <a:pt x="51" y="1979"/>
                    </a:lnTo>
                    <a:lnTo>
                      <a:pt x="28" y="2101"/>
                    </a:lnTo>
                    <a:lnTo>
                      <a:pt x="13" y="2225"/>
                    </a:lnTo>
                    <a:lnTo>
                      <a:pt x="3" y="2351"/>
                    </a:lnTo>
                    <a:lnTo>
                      <a:pt x="0" y="2479"/>
                    </a:lnTo>
                    <a:lnTo>
                      <a:pt x="3" y="2606"/>
                    </a:lnTo>
                    <a:lnTo>
                      <a:pt x="13" y="2731"/>
                    </a:lnTo>
                    <a:lnTo>
                      <a:pt x="28" y="2856"/>
                    </a:lnTo>
                    <a:lnTo>
                      <a:pt x="51" y="2978"/>
                    </a:lnTo>
                    <a:lnTo>
                      <a:pt x="78" y="3098"/>
                    </a:lnTo>
                    <a:lnTo>
                      <a:pt x="111" y="3215"/>
                    </a:lnTo>
                    <a:lnTo>
                      <a:pt x="150" y="3331"/>
                    </a:lnTo>
                    <a:lnTo>
                      <a:pt x="194" y="3443"/>
                    </a:lnTo>
                    <a:lnTo>
                      <a:pt x="244" y="3553"/>
                    </a:lnTo>
                    <a:lnTo>
                      <a:pt x="299" y="3659"/>
                    </a:lnTo>
                    <a:lnTo>
                      <a:pt x="359" y="3764"/>
                    </a:lnTo>
                    <a:lnTo>
                      <a:pt x="423" y="3864"/>
                    </a:lnTo>
                    <a:lnTo>
                      <a:pt x="493" y="3962"/>
                    </a:lnTo>
                    <a:lnTo>
                      <a:pt x="566" y="4054"/>
                    </a:lnTo>
                    <a:lnTo>
                      <a:pt x="644" y="4145"/>
                    </a:lnTo>
                    <a:lnTo>
                      <a:pt x="726" y="4230"/>
                    </a:lnTo>
                    <a:lnTo>
                      <a:pt x="812" y="4313"/>
                    </a:lnTo>
                    <a:lnTo>
                      <a:pt x="902" y="4390"/>
                    </a:lnTo>
                    <a:lnTo>
                      <a:pt x="996" y="4464"/>
                    </a:lnTo>
                    <a:lnTo>
                      <a:pt x="1093" y="4533"/>
                    </a:lnTo>
                    <a:lnTo>
                      <a:pt x="1194" y="4598"/>
                    </a:lnTo>
                    <a:lnTo>
                      <a:pt x="1298" y="4657"/>
                    </a:lnTo>
                    <a:lnTo>
                      <a:pt x="1405" y="4712"/>
                    </a:lnTo>
                    <a:lnTo>
                      <a:pt x="1514" y="4762"/>
                    </a:lnTo>
                    <a:lnTo>
                      <a:pt x="1627" y="4806"/>
                    </a:lnTo>
                    <a:lnTo>
                      <a:pt x="1742" y="4845"/>
                    </a:lnTo>
                    <a:lnTo>
                      <a:pt x="1859" y="4878"/>
                    </a:lnTo>
                    <a:lnTo>
                      <a:pt x="1979" y="4907"/>
                    </a:lnTo>
                    <a:lnTo>
                      <a:pt x="2102" y="4928"/>
                    </a:lnTo>
                    <a:lnTo>
                      <a:pt x="2226" y="4943"/>
                    </a:lnTo>
                    <a:lnTo>
                      <a:pt x="2351" y="4953"/>
                    </a:lnTo>
                    <a:lnTo>
                      <a:pt x="2479" y="4956"/>
                    </a:lnTo>
                    <a:lnTo>
                      <a:pt x="2552" y="4955"/>
                    </a:lnTo>
                    <a:lnTo>
                      <a:pt x="2625" y="4952"/>
                    </a:lnTo>
                    <a:lnTo>
                      <a:pt x="2696" y="4948"/>
                    </a:lnTo>
                    <a:lnTo>
                      <a:pt x="2767" y="4940"/>
                    </a:lnTo>
                    <a:lnTo>
                      <a:pt x="2838" y="4930"/>
                    </a:lnTo>
                    <a:lnTo>
                      <a:pt x="2908" y="4919"/>
                    </a:lnTo>
                    <a:lnTo>
                      <a:pt x="2977" y="4907"/>
                    </a:lnTo>
                    <a:lnTo>
                      <a:pt x="3046" y="4891"/>
                    </a:lnTo>
                    <a:lnTo>
                      <a:pt x="3114" y="4874"/>
                    </a:lnTo>
                    <a:lnTo>
                      <a:pt x="3181" y="4856"/>
                    </a:lnTo>
                    <a:lnTo>
                      <a:pt x="3247" y="4835"/>
                    </a:lnTo>
                    <a:lnTo>
                      <a:pt x="3313" y="4813"/>
                    </a:lnTo>
                    <a:lnTo>
                      <a:pt x="3378" y="4789"/>
                    </a:lnTo>
                    <a:lnTo>
                      <a:pt x="3441" y="4763"/>
                    </a:lnTo>
                    <a:lnTo>
                      <a:pt x="3504" y="4736"/>
                    </a:lnTo>
                    <a:lnTo>
                      <a:pt x="3566" y="4706"/>
                    </a:lnTo>
                    <a:lnTo>
                      <a:pt x="3548" y="4669"/>
                    </a:lnTo>
                    <a:lnTo>
                      <a:pt x="3487" y="4697"/>
                    </a:lnTo>
                    <a:lnTo>
                      <a:pt x="3425" y="4724"/>
                    </a:lnTo>
                    <a:lnTo>
                      <a:pt x="3363" y="4750"/>
                    </a:lnTo>
                    <a:lnTo>
                      <a:pt x="3299" y="4774"/>
                    </a:lnTo>
                    <a:lnTo>
                      <a:pt x="3234" y="4795"/>
                    </a:lnTo>
                    <a:lnTo>
                      <a:pt x="3169" y="4816"/>
                    </a:lnTo>
                    <a:lnTo>
                      <a:pt x="3103" y="4834"/>
                    </a:lnTo>
                    <a:lnTo>
                      <a:pt x="3036" y="4850"/>
                    </a:lnTo>
                    <a:lnTo>
                      <a:pt x="2969" y="4865"/>
                    </a:lnTo>
                    <a:lnTo>
                      <a:pt x="2901" y="4878"/>
                    </a:lnTo>
                    <a:lnTo>
                      <a:pt x="2832" y="4889"/>
                    </a:lnTo>
                    <a:lnTo>
                      <a:pt x="2763" y="4899"/>
                    </a:lnTo>
                    <a:lnTo>
                      <a:pt x="2693" y="4905"/>
                    </a:lnTo>
                    <a:lnTo>
                      <a:pt x="2622" y="4911"/>
                    </a:lnTo>
                    <a:lnTo>
                      <a:pt x="2551" y="4914"/>
                    </a:lnTo>
                    <a:lnTo>
                      <a:pt x="2479" y="4915"/>
                    </a:lnTo>
                    <a:lnTo>
                      <a:pt x="2353" y="4912"/>
                    </a:lnTo>
                    <a:lnTo>
                      <a:pt x="2230" y="4902"/>
                    </a:lnTo>
                    <a:lnTo>
                      <a:pt x="2108" y="4887"/>
                    </a:lnTo>
                    <a:lnTo>
                      <a:pt x="1988" y="4865"/>
                    </a:lnTo>
                    <a:lnTo>
                      <a:pt x="1870" y="4838"/>
                    </a:lnTo>
                    <a:lnTo>
                      <a:pt x="1755" y="4805"/>
                    </a:lnTo>
                    <a:lnTo>
                      <a:pt x="1641" y="4767"/>
                    </a:lnTo>
                    <a:lnTo>
                      <a:pt x="1530" y="4723"/>
                    </a:lnTo>
                    <a:lnTo>
                      <a:pt x="1422" y="4674"/>
                    </a:lnTo>
                    <a:lnTo>
                      <a:pt x="1317" y="4620"/>
                    </a:lnTo>
                    <a:lnTo>
                      <a:pt x="1215" y="4562"/>
                    </a:lnTo>
                    <a:lnTo>
                      <a:pt x="1116" y="4498"/>
                    </a:lnTo>
                    <a:lnTo>
                      <a:pt x="1021" y="4431"/>
                    </a:lnTo>
                    <a:lnTo>
                      <a:pt x="929" y="4359"/>
                    </a:lnTo>
                    <a:lnTo>
                      <a:pt x="841" y="4282"/>
                    </a:lnTo>
                    <a:lnTo>
                      <a:pt x="755" y="4201"/>
                    </a:lnTo>
                    <a:lnTo>
                      <a:pt x="675" y="4117"/>
                    </a:lnTo>
                    <a:lnTo>
                      <a:pt x="599" y="4028"/>
                    </a:lnTo>
                    <a:lnTo>
                      <a:pt x="526" y="3937"/>
                    </a:lnTo>
                    <a:lnTo>
                      <a:pt x="458" y="3841"/>
                    </a:lnTo>
                    <a:lnTo>
                      <a:pt x="394" y="3742"/>
                    </a:lnTo>
                    <a:lnTo>
                      <a:pt x="336" y="3640"/>
                    </a:lnTo>
                    <a:lnTo>
                      <a:pt x="282" y="3535"/>
                    </a:lnTo>
                    <a:lnTo>
                      <a:pt x="233" y="3427"/>
                    </a:lnTo>
                    <a:lnTo>
                      <a:pt x="189" y="3316"/>
                    </a:lnTo>
                    <a:lnTo>
                      <a:pt x="151" y="3203"/>
                    </a:lnTo>
                    <a:lnTo>
                      <a:pt x="119" y="3088"/>
                    </a:lnTo>
                    <a:lnTo>
                      <a:pt x="91" y="2969"/>
                    </a:lnTo>
                    <a:lnTo>
                      <a:pt x="70" y="2849"/>
                    </a:lnTo>
                    <a:lnTo>
                      <a:pt x="54" y="2727"/>
                    </a:lnTo>
                    <a:lnTo>
                      <a:pt x="44" y="2604"/>
                    </a:lnTo>
                    <a:lnTo>
                      <a:pt x="42" y="2479"/>
                    </a:lnTo>
                    <a:lnTo>
                      <a:pt x="44" y="2353"/>
                    </a:lnTo>
                    <a:lnTo>
                      <a:pt x="54" y="2229"/>
                    </a:lnTo>
                    <a:lnTo>
                      <a:pt x="70" y="2107"/>
                    </a:lnTo>
                    <a:lnTo>
                      <a:pt x="91" y="1987"/>
                    </a:lnTo>
                    <a:lnTo>
                      <a:pt x="119" y="1870"/>
                    </a:lnTo>
                    <a:lnTo>
                      <a:pt x="151" y="1754"/>
                    </a:lnTo>
                    <a:lnTo>
                      <a:pt x="189" y="1641"/>
                    </a:lnTo>
                    <a:lnTo>
                      <a:pt x="233" y="1530"/>
                    </a:lnTo>
                    <a:lnTo>
                      <a:pt x="282" y="1422"/>
                    </a:lnTo>
                    <a:lnTo>
                      <a:pt x="336" y="1317"/>
                    </a:lnTo>
                    <a:lnTo>
                      <a:pt x="394" y="1215"/>
                    </a:lnTo>
                    <a:lnTo>
                      <a:pt x="458" y="1116"/>
                    </a:lnTo>
                    <a:lnTo>
                      <a:pt x="526" y="1021"/>
                    </a:lnTo>
                    <a:lnTo>
                      <a:pt x="599" y="929"/>
                    </a:lnTo>
                    <a:lnTo>
                      <a:pt x="675" y="840"/>
                    </a:lnTo>
                    <a:lnTo>
                      <a:pt x="755" y="756"/>
                    </a:lnTo>
                    <a:lnTo>
                      <a:pt x="841" y="675"/>
                    </a:lnTo>
                    <a:lnTo>
                      <a:pt x="929" y="598"/>
                    </a:lnTo>
                    <a:lnTo>
                      <a:pt x="1021" y="526"/>
                    </a:lnTo>
                    <a:lnTo>
                      <a:pt x="1116" y="458"/>
                    </a:lnTo>
                    <a:lnTo>
                      <a:pt x="1215" y="394"/>
                    </a:lnTo>
                    <a:lnTo>
                      <a:pt x="1317" y="336"/>
                    </a:lnTo>
                    <a:lnTo>
                      <a:pt x="1422" y="282"/>
                    </a:lnTo>
                    <a:lnTo>
                      <a:pt x="1530" y="233"/>
                    </a:lnTo>
                    <a:lnTo>
                      <a:pt x="1641" y="190"/>
                    </a:lnTo>
                    <a:lnTo>
                      <a:pt x="1755" y="151"/>
                    </a:lnTo>
                    <a:lnTo>
                      <a:pt x="1870" y="119"/>
                    </a:lnTo>
                    <a:lnTo>
                      <a:pt x="1988" y="92"/>
                    </a:lnTo>
                    <a:lnTo>
                      <a:pt x="2108" y="70"/>
                    </a:lnTo>
                    <a:lnTo>
                      <a:pt x="2230" y="54"/>
                    </a:lnTo>
                    <a:lnTo>
                      <a:pt x="2353" y="45"/>
                    </a:lnTo>
                    <a:lnTo>
                      <a:pt x="2479" y="42"/>
                    </a:lnTo>
                    <a:lnTo>
                      <a:pt x="2605" y="45"/>
                    </a:lnTo>
                    <a:lnTo>
                      <a:pt x="2728" y="54"/>
                    </a:lnTo>
                    <a:lnTo>
                      <a:pt x="2850" y="70"/>
                    </a:lnTo>
                    <a:lnTo>
                      <a:pt x="2970" y="92"/>
                    </a:lnTo>
                    <a:lnTo>
                      <a:pt x="3088" y="119"/>
                    </a:lnTo>
                    <a:lnTo>
                      <a:pt x="3204" y="151"/>
                    </a:lnTo>
                    <a:lnTo>
                      <a:pt x="3317" y="190"/>
                    </a:lnTo>
                    <a:lnTo>
                      <a:pt x="3428" y="233"/>
                    </a:lnTo>
                    <a:lnTo>
                      <a:pt x="3535" y="282"/>
                    </a:lnTo>
                    <a:lnTo>
                      <a:pt x="3641" y="336"/>
                    </a:lnTo>
                    <a:lnTo>
                      <a:pt x="3743" y="394"/>
                    </a:lnTo>
                    <a:lnTo>
                      <a:pt x="3842" y="458"/>
                    </a:lnTo>
                    <a:lnTo>
                      <a:pt x="3937" y="526"/>
                    </a:lnTo>
                    <a:lnTo>
                      <a:pt x="4029" y="598"/>
                    </a:lnTo>
                    <a:lnTo>
                      <a:pt x="4118" y="675"/>
                    </a:lnTo>
                    <a:lnTo>
                      <a:pt x="4203" y="756"/>
                    </a:lnTo>
                    <a:lnTo>
                      <a:pt x="4283" y="840"/>
                    </a:lnTo>
                    <a:lnTo>
                      <a:pt x="4360" y="929"/>
                    </a:lnTo>
                    <a:lnTo>
                      <a:pt x="4432" y="1021"/>
                    </a:lnTo>
                    <a:lnTo>
                      <a:pt x="4500" y="1116"/>
                    </a:lnTo>
                    <a:lnTo>
                      <a:pt x="4564" y="1215"/>
                    </a:lnTo>
                    <a:lnTo>
                      <a:pt x="4622" y="1317"/>
                    </a:lnTo>
                    <a:lnTo>
                      <a:pt x="4676" y="1422"/>
                    </a:lnTo>
                    <a:lnTo>
                      <a:pt x="4725" y="1530"/>
                    </a:lnTo>
                    <a:lnTo>
                      <a:pt x="4768" y="1641"/>
                    </a:lnTo>
                    <a:lnTo>
                      <a:pt x="4807" y="1754"/>
                    </a:lnTo>
                    <a:lnTo>
                      <a:pt x="4840" y="1870"/>
                    </a:lnTo>
                    <a:lnTo>
                      <a:pt x="4868" y="1987"/>
                    </a:lnTo>
                    <a:lnTo>
                      <a:pt x="4888" y="2107"/>
                    </a:lnTo>
                    <a:lnTo>
                      <a:pt x="4904" y="2229"/>
                    </a:lnTo>
                    <a:lnTo>
                      <a:pt x="4913" y="2353"/>
                    </a:lnTo>
                    <a:lnTo>
                      <a:pt x="4916" y="2479"/>
                    </a:lnTo>
                    <a:lnTo>
                      <a:pt x="4916" y="2520"/>
                    </a:lnTo>
                    <a:lnTo>
                      <a:pt x="4915" y="2561"/>
                    </a:lnTo>
                    <a:lnTo>
                      <a:pt x="4914" y="2601"/>
                    </a:lnTo>
                    <a:lnTo>
                      <a:pt x="4911" y="2642"/>
                    </a:lnTo>
                    <a:lnTo>
                      <a:pt x="4909" y="2682"/>
                    </a:lnTo>
                    <a:lnTo>
                      <a:pt x="4904" y="2722"/>
                    </a:lnTo>
                    <a:lnTo>
                      <a:pt x="4900" y="2762"/>
                    </a:lnTo>
                    <a:lnTo>
                      <a:pt x="4896" y="2802"/>
                    </a:lnTo>
                    <a:lnTo>
                      <a:pt x="4889" y="2842"/>
                    </a:lnTo>
                    <a:lnTo>
                      <a:pt x="4884" y="2880"/>
                    </a:lnTo>
                    <a:lnTo>
                      <a:pt x="4876" y="2919"/>
                    </a:lnTo>
                    <a:lnTo>
                      <a:pt x="4869" y="2958"/>
                    </a:lnTo>
                    <a:lnTo>
                      <a:pt x="4861" y="2997"/>
                    </a:lnTo>
                    <a:lnTo>
                      <a:pt x="4853" y="3036"/>
                    </a:lnTo>
                    <a:lnTo>
                      <a:pt x="4843" y="3074"/>
                    </a:lnTo>
                    <a:lnTo>
                      <a:pt x="4833" y="3112"/>
                    </a:lnTo>
                    <a:lnTo>
                      <a:pt x="4873" y="3122"/>
                    </a:lnTo>
                    <a:lnTo>
                      <a:pt x="4884" y="3083"/>
                    </a:lnTo>
                    <a:lnTo>
                      <a:pt x="4893" y="3045"/>
                    </a:lnTo>
                    <a:lnTo>
                      <a:pt x="4902" y="3006"/>
                    </a:lnTo>
                    <a:lnTo>
                      <a:pt x="4910" y="2967"/>
                    </a:lnTo>
                    <a:lnTo>
                      <a:pt x="4917" y="2927"/>
                    </a:lnTo>
                    <a:lnTo>
                      <a:pt x="4925" y="2887"/>
                    </a:lnTo>
                    <a:lnTo>
                      <a:pt x="4931" y="2847"/>
                    </a:lnTo>
                    <a:lnTo>
                      <a:pt x="4937" y="2807"/>
                    </a:lnTo>
                    <a:lnTo>
                      <a:pt x="4942" y="2767"/>
                    </a:lnTo>
                    <a:lnTo>
                      <a:pt x="4947" y="2726"/>
                    </a:lnTo>
                    <a:lnTo>
                      <a:pt x="4950" y="2685"/>
                    </a:lnTo>
                    <a:lnTo>
                      <a:pt x="4953" y="2644"/>
                    </a:lnTo>
                    <a:lnTo>
                      <a:pt x="4955" y="2603"/>
                    </a:lnTo>
                    <a:lnTo>
                      <a:pt x="4957" y="2562"/>
                    </a:lnTo>
                    <a:lnTo>
                      <a:pt x="4958" y="2520"/>
                    </a:lnTo>
                    <a:lnTo>
                      <a:pt x="4958" y="2479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598920" y="2022480"/>
                <a:ext cx="1950840" cy="1949400"/>
              </a:xfrm>
              <a:custGeom>
                <a:avLst/>
                <a:gdLst/>
                <a:ahLst/>
                <a:rect l="l" t="t" r="r" b="b"/>
                <a:pathLst>
                  <a:path w="4918" h="4915">
                    <a:moveTo>
                      <a:pt x="4918" y="2458"/>
                    </a:moveTo>
                    <a:lnTo>
                      <a:pt x="4915" y="2331"/>
                    </a:lnTo>
                    <a:lnTo>
                      <a:pt x="4905" y="2206"/>
                    </a:lnTo>
                    <a:lnTo>
                      <a:pt x="4889" y="2083"/>
                    </a:lnTo>
                    <a:lnTo>
                      <a:pt x="4867" y="1962"/>
                    </a:lnTo>
                    <a:lnTo>
                      <a:pt x="4840" y="1843"/>
                    </a:lnTo>
                    <a:lnTo>
                      <a:pt x="4807" y="1727"/>
                    </a:lnTo>
                    <a:lnTo>
                      <a:pt x="4769" y="1612"/>
                    </a:lnTo>
                    <a:lnTo>
                      <a:pt x="4725" y="1501"/>
                    </a:lnTo>
                    <a:lnTo>
                      <a:pt x="4675" y="1392"/>
                    </a:lnTo>
                    <a:lnTo>
                      <a:pt x="4621" y="1286"/>
                    </a:lnTo>
                    <a:lnTo>
                      <a:pt x="4561" y="1183"/>
                    </a:lnTo>
                    <a:lnTo>
                      <a:pt x="4498" y="1084"/>
                    </a:lnTo>
                    <a:lnTo>
                      <a:pt x="4430" y="987"/>
                    </a:lnTo>
                    <a:lnTo>
                      <a:pt x="4356" y="895"/>
                    </a:lnTo>
                    <a:lnTo>
                      <a:pt x="4279" y="805"/>
                    </a:lnTo>
                    <a:lnTo>
                      <a:pt x="4197" y="720"/>
                    </a:lnTo>
                    <a:lnTo>
                      <a:pt x="4112" y="639"/>
                    </a:lnTo>
                    <a:lnTo>
                      <a:pt x="4023" y="561"/>
                    </a:lnTo>
                    <a:lnTo>
                      <a:pt x="3930" y="489"/>
                    </a:lnTo>
                    <a:lnTo>
                      <a:pt x="3834" y="420"/>
                    </a:lnTo>
                    <a:lnTo>
                      <a:pt x="3734" y="356"/>
                    </a:lnTo>
                    <a:lnTo>
                      <a:pt x="3631" y="297"/>
                    </a:lnTo>
                    <a:lnTo>
                      <a:pt x="3525" y="243"/>
                    </a:lnTo>
                    <a:lnTo>
                      <a:pt x="3416" y="193"/>
                    </a:lnTo>
                    <a:lnTo>
                      <a:pt x="3305" y="150"/>
                    </a:lnTo>
                    <a:lnTo>
                      <a:pt x="3190" y="111"/>
                    </a:lnTo>
                    <a:lnTo>
                      <a:pt x="3073" y="77"/>
                    </a:lnTo>
                    <a:lnTo>
                      <a:pt x="2955" y="50"/>
                    </a:lnTo>
                    <a:lnTo>
                      <a:pt x="2834" y="29"/>
                    </a:lnTo>
                    <a:lnTo>
                      <a:pt x="2710" y="13"/>
                    </a:lnTo>
                    <a:lnTo>
                      <a:pt x="2586" y="3"/>
                    </a:lnTo>
                    <a:lnTo>
                      <a:pt x="2459" y="0"/>
                    </a:lnTo>
                    <a:lnTo>
                      <a:pt x="2332" y="3"/>
                    </a:lnTo>
                    <a:lnTo>
                      <a:pt x="2208" y="13"/>
                    </a:lnTo>
                    <a:lnTo>
                      <a:pt x="2085" y="29"/>
                    </a:lnTo>
                    <a:lnTo>
                      <a:pt x="1964" y="50"/>
                    </a:lnTo>
                    <a:lnTo>
                      <a:pt x="1845" y="77"/>
                    </a:lnTo>
                    <a:lnTo>
                      <a:pt x="1728" y="111"/>
                    </a:lnTo>
                    <a:lnTo>
                      <a:pt x="1614" y="150"/>
                    </a:lnTo>
                    <a:lnTo>
                      <a:pt x="1502" y="193"/>
                    </a:lnTo>
                    <a:lnTo>
                      <a:pt x="1393" y="243"/>
                    </a:lnTo>
                    <a:lnTo>
                      <a:pt x="1287" y="297"/>
                    </a:lnTo>
                    <a:lnTo>
                      <a:pt x="1185" y="356"/>
                    </a:lnTo>
                    <a:lnTo>
                      <a:pt x="1084" y="420"/>
                    </a:lnTo>
                    <a:lnTo>
                      <a:pt x="988" y="489"/>
                    </a:lnTo>
                    <a:lnTo>
                      <a:pt x="895" y="561"/>
                    </a:lnTo>
                    <a:lnTo>
                      <a:pt x="807" y="639"/>
                    </a:lnTo>
                    <a:lnTo>
                      <a:pt x="721" y="720"/>
                    </a:lnTo>
                    <a:lnTo>
                      <a:pt x="639" y="805"/>
                    </a:lnTo>
                    <a:lnTo>
                      <a:pt x="562" y="895"/>
                    </a:lnTo>
                    <a:lnTo>
                      <a:pt x="489" y="987"/>
                    </a:lnTo>
                    <a:lnTo>
                      <a:pt x="421" y="1084"/>
                    </a:lnTo>
                    <a:lnTo>
                      <a:pt x="357" y="1183"/>
                    </a:lnTo>
                    <a:lnTo>
                      <a:pt x="298" y="1286"/>
                    </a:lnTo>
                    <a:lnTo>
                      <a:pt x="244" y="1392"/>
                    </a:lnTo>
                    <a:lnTo>
                      <a:pt x="194" y="1501"/>
                    </a:lnTo>
                    <a:lnTo>
                      <a:pt x="150" y="1612"/>
                    </a:lnTo>
                    <a:lnTo>
                      <a:pt x="112" y="1727"/>
                    </a:lnTo>
                    <a:lnTo>
                      <a:pt x="78" y="1843"/>
                    </a:lnTo>
                    <a:lnTo>
                      <a:pt x="51" y="1962"/>
                    </a:lnTo>
                    <a:lnTo>
                      <a:pt x="29" y="2083"/>
                    </a:lnTo>
                    <a:lnTo>
                      <a:pt x="13" y="2206"/>
                    </a:lnTo>
                    <a:lnTo>
                      <a:pt x="4" y="2331"/>
                    </a:lnTo>
                    <a:lnTo>
                      <a:pt x="0" y="2458"/>
                    </a:lnTo>
                    <a:lnTo>
                      <a:pt x="4" y="2584"/>
                    </a:lnTo>
                    <a:lnTo>
                      <a:pt x="13" y="2708"/>
                    </a:lnTo>
                    <a:lnTo>
                      <a:pt x="29" y="2831"/>
                    </a:lnTo>
                    <a:lnTo>
                      <a:pt x="51" y="2952"/>
                    </a:lnTo>
                    <a:lnTo>
                      <a:pt x="78" y="3071"/>
                    </a:lnTo>
                    <a:lnTo>
                      <a:pt x="112" y="3188"/>
                    </a:lnTo>
                    <a:lnTo>
                      <a:pt x="150" y="3302"/>
                    </a:lnTo>
                    <a:lnTo>
                      <a:pt x="194" y="3413"/>
                    </a:lnTo>
                    <a:lnTo>
                      <a:pt x="244" y="3523"/>
                    </a:lnTo>
                    <a:lnTo>
                      <a:pt x="298" y="3628"/>
                    </a:lnTo>
                    <a:lnTo>
                      <a:pt x="357" y="3732"/>
                    </a:lnTo>
                    <a:lnTo>
                      <a:pt x="421" y="3831"/>
                    </a:lnTo>
                    <a:lnTo>
                      <a:pt x="489" y="3928"/>
                    </a:lnTo>
                    <a:lnTo>
                      <a:pt x="562" y="4020"/>
                    </a:lnTo>
                    <a:lnTo>
                      <a:pt x="639" y="4110"/>
                    </a:lnTo>
                    <a:lnTo>
                      <a:pt x="721" y="4195"/>
                    </a:lnTo>
                    <a:lnTo>
                      <a:pt x="807" y="4276"/>
                    </a:lnTo>
                    <a:lnTo>
                      <a:pt x="895" y="4353"/>
                    </a:lnTo>
                    <a:lnTo>
                      <a:pt x="988" y="4427"/>
                    </a:lnTo>
                    <a:lnTo>
                      <a:pt x="1084" y="4495"/>
                    </a:lnTo>
                    <a:lnTo>
                      <a:pt x="1185" y="4559"/>
                    </a:lnTo>
                    <a:lnTo>
                      <a:pt x="1287" y="4618"/>
                    </a:lnTo>
                    <a:lnTo>
                      <a:pt x="1393" y="4673"/>
                    </a:lnTo>
                    <a:lnTo>
                      <a:pt x="1502" y="4721"/>
                    </a:lnTo>
                    <a:lnTo>
                      <a:pt x="1614" y="4766"/>
                    </a:lnTo>
                    <a:lnTo>
                      <a:pt x="1728" y="4805"/>
                    </a:lnTo>
                    <a:lnTo>
                      <a:pt x="1845" y="4837"/>
                    </a:lnTo>
                    <a:lnTo>
                      <a:pt x="1964" y="4865"/>
                    </a:lnTo>
                    <a:lnTo>
                      <a:pt x="2085" y="4887"/>
                    </a:lnTo>
                    <a:lnTo>
                      <a:pt x="2208" y="4902"/>
                    </a:lnTo>
                    <a:lnTo>
                      <a:pt x="2332" y="4911"/>
                    </a:lnTo>
                    <a:lnTo>
                      <a:pt x="2459" y="4915"/>
                    </a:lnTo>
                    <a:lnTo>
                      <a:pt x="2531" y="4914"/>
                    </a:lnTo>
                    <a:lnTo>
                      <a:pt x="2603" y="4910"/>
                    </a:lnTo>
                    <a:lnTo>
                      <a:pt x="2675" y="4905"/>
                    </a:lnTo>
                    <a:lnTo>
                      <a:pt x="2745" y="4898"/>
                    </a:lnTo>
                    <a:lnTo>
                      <a:pt x="2815" y="4889"/>
                    </a:lnTo>
                    <a:lnTo>
                      <a:pt x="2884" y="4878"/>
                    </a:lnTo>
                    <a:lnTo>
                      <a:pt x="2952" y="4865"/>
                    </a:lnTo>
                    <a:lnTo>
                      <a:pt x="3021" y="4850"/>
                    </a:lnTo>
                    <a:lnTo>
                      <a:pt x="3089" y="4834"/>
                    </a:lnTo>
                    <a:lnTo>
                      <a:pt x="3155" y="4815"/>
                    </a:lnTo>
                    <a:lnTo>
                      <a:pt x="3220" y="4795"/>
                    </a:lnTo>
                    <a:lnTo>
                      <a:pt x="3285" y="4772"/>
                    </a:lnTo>
                    <a:lnTo>
                      <a:pt x="3350" y="4748"/>
                    </a:lnTo>
                    <a:lnTo>
                      <a:pt x="3413" y="4722"/>
                    </a:lnTo>
                    <a:lnTo>
                      <a:pt x="3475" y="4695"/>
                    </a:lnTo>
                    <a:lnTo>
                      <a:pt x="3537" y="4666"/>
                    </a:lnTo>
                    <a:lnTo>
                      <a:pt x="3519" y="4628"/>
                    </a:lnTo>
                    <a:lnTo>
                      <a:pt x="3458" y="4658"/>
                    </a:lnTo>
                    <a:lnTo>
                      <a:pt x="3397" y="4685"/>
                    </a:lnTo>
                    <a:lnTo>
                      <a:pt x="3335" y="4709"/>
                    </a:lnTo>
                    <a:lnTo>
                      <a:pt x="3271" y="4733"/>
                    </a:lnTo>
                    <a:lnTo>
                      <a:pt x="3207" y="4755"/>
                    </a:lnTo>
                    <a:lnTo>
                      <a:pt x="3143" y="4775"/>
                    </a:lnTo>
                    <a:lnTo>
                      <a:pt x="3078" y="4793"/>
                    </a:lnTo>
                    <a:lnTo>
                      <a:pt x="3012" y="4810"/>
                    </a:lnTo>
                    <a:lnTo>
                      <a:pt x="2945" y="4824"/>
                    </a:lnTo>
                    <a:lnTo>
                      <a:pt x="2877" y="4837"/>
                    </a:lnTo>
                    <a:lnTo>
                      <a:pt x="2809" y="4848"/>
                    </a:lnTo>
                    <a:lnTo>
                      <a:pt x="2740" y="4857"/>
                    </a:lnTo>
                    <a:lnTo>
                      <a:pt x="2670" y="4864"/>
                    </a:lnTo>
                    <a:lnTo>
                      <a:pt x="2600" y="4869"/>
                    </a:lnTo>
                    <a:lnTo>
                      <a:pt x="2530" y="4873"/>
                    </a:lnTo>
                    <a:lnTo>
                      <a:pt x="2459" y="4873"/>
                    </a:lnTo>
                    <a:lnTo>
                      <a:pt x="2334" y="4870"/>
                    </a:lnTo>
                    <a:lnTo>
                      <a:pt x="2212" y="4861"/>
                    </a:lnTo>
                    <a:lnTo>
                      <a:pt x="2091" y="4846"/>
                    </a:lnTo>
                    <a:lnTo>
                      <a:pt x="1972" y="4824"/>
                    </a:lnTo>
                    <a:lnTo>
                      <a:pt x="1856" y="4797"/>
                    </a:lnTo>
                    <a:lnTo>
                      <a:pt x="1740" y="4765"/>
                    </a:lnTo>
                    <a:lnTo>
                      <a:pt x="1628" y="4727"/>
                    </a:lnTo>
                    <a:lnTo>
                      <a:pt x="1519" y="4684"/>
                    </a:lnTo>
                    <a:lnTo>
                      <a:pt x="1412" y="4635"/>
                    </a:lnTo>
                    <a:lnTo>
                      <a:pt x="1307" y="4582"/>
                    </a:lnTo>
                    <a:lnTo>
                      <a:pt x="1206" y="4524"/>
                    </a:lnTo>
                    <a:lnTo>
                      <a:pt x="1108" y="4460"/>
                    </a:lnTo>
                    <a:lnTo>
                      <a:pt x="1013" y="4393"/>
                    </a:lnTo>
                    <a:lnTo>
                      <a:pt x="922" y="4322"/>
                    </a:lnTo>
                    <a:lnTo>
                      <a:pt x="835" y="4245"/>
                    </a:lnTo>
                    <a:lnTo>
                      <a:pt x="750" y="4165"/>
                    </a:lnTo>
                    <a:lnTo>
                      <a:pt x="670" y="4082"/>
                    </a:lnTo>
                    <a:lnTo>
                      <a:pt x="595" y="3993"/>
                    </a:lnTo>
                    <a:lnTo>
                      <a:pt x="522" y="3903"/>
                    </a:lnTo>
                    <a:lnTo>
                      <a:pt x="455" y="3808"/>
                    </a:lnTo>
                    <a:lnTo>
                      <a:pt x="393" y="3710"/>
                    </a:lnTo>
                    <a:lnTo>
                      <a:pt x="334" y="3609"/>
                    </a:lnTo>
                    <a:lnTo>
                      <a:pt x="280" y="3504"/>
                    </a:lnTo>
                    <a:lnTo>
                      <a:pt x="233" y="3397"/>
                    </a:lnTo>
                    <a:lnTo>
                      <a:pt x="190" y="3288"/>
                    </a:lnTo>
                    <a:lnTo>
                      <a:pt x="151" y="3176"/>
                    </a:lnTo>
                    <a:lnTo>
                      <a:pt x="118" y="3061"/>
                    </a:lnTo>
                    <a:lnTo>
                      <a:pt x="91" y="2945"/>
                    </a:lnTo>
                    <a:lnTo>
                      <a:pt x="71" y="2825"/>
                    </a:lnTo>
                    <a:lnTo>
                      <a:pt x="54" y="2704"/>
                    </a:lnTo>
                    <a:lnTo>
                      <a:pt x="46" y="2582"/>
                    </a:lnTo>
                    <a:lnTo>
                      <a:pt x="43" y="2458"/>
                    </a:lnTo>
                    <a:lnTo>
                      <a:pt x="46" y="2333"/>
                    </a:lnTo>
                    <a:lnTo>
                      <a:pt x="54" y="2210"/>
                    </a:lnTo>
                    <a:lnTo>
                      <a:pt x="71" y="2089"/>
                    </a:lnTo>
                    <a:lnTo>
                      <a:pt x="91" y="1971"/>
                    </a:lnTo>
                    <a:lnTo>
                      <a:pt x="118" y="1854"/>
                    </a:lnTo>
                    <a:lnTo>
                      <a:pt x="151" y="1739"/>
                    </a:lnTo>
                    <a:lnTo>
                      <a:pt x="190" y="1627"/>
                    </a:lnTo>
                    <a:lnTo>
                      <a:pt x="233" y="1517"/>
                    </a:lnTo>
                    <a:lnTo>
                      <a:pt x="280" y="1410"/>
                    </a:lnTo>
                    <a:lnTo>
                      <a:pt x="334" y="1306"/>
                    </a:lnTo>
                    <a:lnTo>
                      <a:pt x="393" y="1205"/>
                    </a:lnTo>
                    <a:lnTo>
                      <a:pt x="455" y="1107"/>
                    </a:lnTo>
                    <a:lnTo>
                      <a:pt x="522" y="1013"/>
                    </a:lnTo>
                    <a:lnTo>
                      <a:pt x="595" y="921"/>
                    </a:lnTo>
                    <a:lnTo>
                      <a:pt x="670" y="833"/>
                    </a:lnTo>
                    <a:lnTo>
                      <a:pt x="750" y="749"/>
                    </a:lnTo>
                    <a:lnTo>
                      <a:pt x="835" y="669"/>
                    </a:lnTo>
                    <a:lnTo>
                      <a:pt x="922" y="594"/>
                    </a:lnTo>
                    <a:lnTo>
                      <a:pt x="1013" y="521"/>
                    </a:lnTo>
                    <a:lnTo>
                      <a:pt x="1108" y="454"/>
                    </a:lnTo>
                    <a:lnTo>
                      <a:pt x="1206" y="392"/>
                    </a:lnTo>
                    <a:lnTo>
                      <a:pt x="1307" y="333"/>
                    </a:lnTo>
                    <a:lnTo>
                      <a:pt x="1412" y="280"/>
                    </a:lnTo>
                    <a:lnTo>
                      <a:pt x="1519" y="232"/>
                    </a:lnTo>
                    <a:lnTo>
                      <a:pt x="1628" y="189"/>
                    </a:lnTo>
                    <a:lnTo>
                      <a:pt x="1740" y="151"/>
                    </a:lnTo>
                    <a:lnTo>
                      <a:pt x="1856" y="117"/>
                    </a:lnTo>
                    <a:lnTo>
                      <a:pt x="1972" y="90"/>
                    </a:lnTo>
                    <a:lnTo>
                      <a:pt x="2091" y="70"/>
                    </a:lnTo>
                    <a:lnTo>
                      <a:pt x="2212" y="55"/>
                    </a:lnTo>
                    <a:lnTo>
                      <a:pt x="2334" y="45"/>
                    </a:lnTo>
                    <a:lnTo>
                      <a:pt x="2459" y="42"/>
                    </a:lnTo>
                    <a:lnTo>
                      <a:pt x="2584" y="45"/>
                    </a:lnTo>
                    <a:lnTo>
                      <a:pt x="2706" y="55"/>
                    </a:lnTo>
                    <a:lnTo>
                      <a:pt x="2827" y="70"/>
                    </a:lnTo>
                    <a:lnTo>
                      <a:pt x="2946" y="90"/>
                    </a:lnTo>
                    <a:lnTo>
                      <a:pt x="3063" y="117"/>
                    </a:lnTo>
                    <a:lnTo>
                      <a:pt x="3178" y="151"/>
                    </a:lnTo>
                    <a:lnTo>
                      <a:pt x="3290" y="189"/>
                    </a:lnTo>
                    <a:lnTo>
                      <a:pt x="3400" y="232"/>
                    </a:lnTo>
                    <a:lnTo>
                      <a:pt x="3507" y="280"/>
                    </a:lnTo>
                    <a:lnTo>
                      <a:pt x="3612" y="333"/>
                    </a:lnTo>
                    <a:lnTo>
                      <a:pt x="3712" y="392"/>
                    </a:lnTo>
                    <a:lnTo>
                      <a:pt x="3810" y="454"/>
                    </a:lnTo>
                    <a:lnTo>
                      <a:pt x="3905" y="521"/>
                    </a:lnTo>
                    <a:lnTo>
                      <a:pt x="3996" y="594"/>
                    </a:lnTo>
                    <a:lnTo>
                      <a:pt x="4084" y="669"/>
                    </a:lnTo>
                    <a:lnTo>
                      <a:pt x="4168" y="749"/>
                    </a:lnTo>
                    <a:lnTo>
                      <a:pt x="4248" y="833"/>
                    </a:lnTo>
                    <a:lnTo>
                      <a:pt x="4324" y="921"/>
                    </a:lnTo>
                    <a:lnTo>
                      <a:pt x="4396" y="1013"/>
                    </a:lnTo>
                    <a:lnTo>
                      <a:pt x="4463" y="1107"/>
                    </a:lnTo>
                    <a:lnTo>
                      <a:pt x="4526" y="1205"/>
                    </a:lnTo>
                    <a:lnTo>
                      <a:pt x="4584" y="1306"/>
                    </a:lnTo>
                    <a:lnTo>
                      <a:pt x="4638" y="1410"/>
                    </a:lnTo>
                    <a:lnTo>
                      <a:pt x="4686" y="1517"/>
                    </a:lnTo>
                    <a:lnTo>
                      <a:pt x="4729" y="1627"/>
                    </a:lnTo>
                    <a:lnTo>
                      <a:pt x="4768" y="1739"/>
                    </a:lnTo>
                    <a:lnTo>
                      <a:pt x="4800" y="1854"/>
                    </a:lnTo>
                    <a:lnTo>
                      <a:pt x="4827" y="1971"/>
                    </a:lnTo>
                    <a:lnTo>
                      <a:pt x="4848" y="2089"/>
                    </a:lnTo>
                    <a:lnTo>
                      <a:pt x="4864" y="2210"/>
                    </a:lnTo>
                    <a:lnTo>
                      <a:pt x="4873" y="2333"/>
                    </a:lnTo>
                    <a:lnTo>
                      <a:pt x="4876" y="2458"/>
                    </a:lnTo>
                    <a:lnTo>
                      <a:pt x="4876" y="2498"/>
                    </a:lnTo>
                    <a:lnTo>
                      <a:pt x="4875" y="2539"/>
                    </a:lnTo>
                    <a:lnTo>
                      <a:pt x="4873" y="2579"/>
                    </a:lnTo>
                    <a:lnTo>
                      <a:pt x="4870" y="2619"/>
                    </a:lnTo>
                    <a:lnTo>
                      <a:pt x="4867" y="2659"/>
                    </a:lnTo>
                    <a:lnTo>
                      <a:pt x="4864" y="2699"/>
                    </a:lnTo>
                    <a:lnTo>
                      <a:pt x="4860" y="2738"/>
                    </a:lnTo>
                    <a:lnTo>
                      <a:pt x="4855" y="2777"/>
                    </a:lnTo>
                    <a:lnTo>
                      <a:pt x="4849" y="2817"/>
                    </a:lnTo>
                    <a:lnTo>
                      <a:pt x="4843" y="2856"/>
                    </a:lnTo>
                    <a:lnTo>
                      <a:pt x="4836" y="2895"/>
                    </a:lnTo>
                    <a:lnTo>
                      <a:pt x="4829" y="2933"/>
                    </a:lnTo>
                    <a:lnTo>
                      <a:pt x="4821" y="2972"/>
                    </a:lnTo>
                    <a:lnTo>
                      <a:pt x="4812" y="3010"/>
                    </a:lnTo>
                    <a:lnTo>
                      <a:pt x="4803" y="3047"/>
                    </a:lnTo>
                    <a:lnTo>
                      <a:pt x="4794" y="3085"/>
                    </a:lnTo>
                    <a:lnTo>
                      <a:pt x="4834" y="3096"/>
                    </a:lnTo>
                    <a:lnTo>
                      <a:pt x="4843" y="3058"/>
                    </a:lnTo>
                    <a:lnTo>
                      <a:pt x="4853" y="3019"/>
                    </a:lnTo>
                    <a:lnTo>
                      <a:pt x="4862" y="2980"/>
                    </a:lnTo>
                    <a:lnTo>
                      <a:pt x="4869" y="2942"/>
                    </a:lnTo>
                    <a:lnTo>
                      <a:pt x="4877" y="2903"/>
                    </a:lnTo>
                    <a:lnTo>
                      <a:pt x="4884" y="2863"/>
                    </a:lnTo>
                    <a:lnTo>
                      <a:pt x="4891" y="2823"/>
                    </a:lnTo>
                    <a:lnTo>
                      <a:pt x="4896" y="2783"/>
                    </a:lnTo>
                    <a:lnTo>
                      <a:pt x="4901" y="2743"/>
                    </a:lnTo>
                    <a:lnTo>
                      <a:pt x="4905" y="2703"/>
                    </a:lnTo>
                    <a:lnTo>
                      <a:pt x="4909" y="2663"/>
                    </a:lnTo>
                    <a:lnTo>
                      <a:pt x="4913" y="2622"/>
                    </a:lnTo>
                    <a:lnTo>
                      <a:pt x="4915" y="2581"/>
                    </a:lnTo>
                    <a:lnTo>
                      <a:pt x="4916" y="2540"/>
                    </a:lnTo>
                    <a:lnTo>
                      <a:pt x="4917" y="2499"/>
                    </a:lnTo>
                    <a:lnTo>
                      <a:pt x="4918" y="2458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606840" y="2030400"/>
                <a:ext cx="1935000" cy="1933560"/>
              </a:xfrm>
              <a:custGeom>
                <a:avLst/>
                <a:gdLst/>
                <a:ahLst/>
                <a:rect l="l" t="t" r="r" b="b"/>
                <a:pathLst>
                  <a:path w="4874" h="4873">
                    <a:moveTo>
                      <a:pt x="4874" y="2437"/>
                    </a:moveTo>
                    <a:lnTo>
                      <a:pt x="4871" y="2311"/>
                    </a:lnTo>
                    <a:lnTo>
                      <a:pt x="4862" y="2187"/>
                    </a:lnTo>
                    <a:lnTo>
                      <a:pt x="4846" y="2065"/>
                    </a:lnTo>
                    <a:lnTo>
                      <a:pt x="4826" y="1945"/>
                    </a:lnTo>
                    <a:lnTo>
                      <a:pt x="4798" y="1828"/>
                    </a:lnTo>
                    <a:lnTo>
                      <a:pt x="4765" y="1712"/>
                    </a:lnTo>
                    <a:lnTo>
                      <a:pt x="4726" y="1599"/>
                    </a:lnTo>
                    <a:lnTo>
                      <a:pt x="4683" y="1488"/>
                    </a:lnTo>
                    <a:lnTo>
                      <a:pt x="4634" y="1380"/>
                    </a:lnTo>
                    <a:lnTo>
                      <a:pt x="4580" y="1275"/>
                    </a:lnTo>
                    <a:lnTo>
                      <a:pt x="4522" y="1173"/>
                    </a:lnTo>
                    <a:lnTo>
                      <a:pt x="4458" y="1074"/>
                    </a:lnTo>
                    <a:lnTo>
                      <a:pt x="4390" y="979"/>
                    </a:lnTo>
                    <a:lnTo>
                      <a:pt x="4318" y="887"/>
                    </a:lnTo>
                    <a:lnTo>
                      <a:pt x="4241" y="798"/>
                    </a:lnTo>
                    <a:lnTo>
                      <a:pt x="4161" y="714"/>
                    </a:lnTo>
                    <a:lnTo>
                      <a:pt x="4076" y="633"/>
                    </a:lnTo>
                    <a:lnTo>
                      <a:pt x="3987" y="556"/>
                    </a:lnTo>
                    <a:lnTo>
                      <a:pt x="3895" y="484"/>
                    </a:lnTo>
                    <a:lnTo>
                      <a:pt x="3800" y="416"/>
                    </a:lnTo>
                    <a:lnTo>
                      <a:pt x="3701" y="352"/>
                    </a:lnTo>
                    <a:lnTo>
                      <a:pt x="3599" y="294"/>
                    </a:lnTo>
                    <a:lnTo>
                      <a:pt x="3493" y="240"/>
                    </a:lnTo>
                    <a:lnTo>
                      <a:pt x="3386" y="191"/>
                    </a:lnTo>
                    <a:lnTo>
                      <a:pt x="3275" y="148"/>
                    </a:lnTo>
                    <a:lnTo>
                      <a:pt x="3162" y="109"/>
                    </a:lnTo>
                    <a:lnTo>
                      <a:pt x="3046" y="77"/>
                    </a:lnTo>
                    <a:lnTo>
                      <a:pt x="2928" y="50"/>
                    </a:lnTo>
                    <a:lnTo>
                      <a:pt x="2808" y="28"/>
                    </a:lnTo>
                    <a:lnTo>
                      <a:pt x="2686" y="12"/>
                    </a:lnTo>
                    <a:lnTo>
                      <a:pt x="2563" y="3"/>
                    </a:lnTo>
                    <a:lnTo>
                      <a:pt x="2437" y="0"/>
                    </a:lnTo>
                    <a:lnTo>
                      <a:pt x="2311" y="3"/>
                    </a:lnTo>
                    <a:lnTo>
                      <a:pt x="2188" y="12"/>
                    </a:lnTo>
                    <a:lnTo>
                      <a:pt x="2066" y="28"/>
                    </a:lnTo>
                    <a:lnTo>
                      <a:pt x="1946" y="50"/>
                    </a:lnTo>
                    <a:lnTo>
                      <a:pt x="1828" y="77"/>
                    </a:lnTo>
                    <a:lnTo>
                      <a:pt x="1713" y="109"/>
                    </a:lnTo>
                    <a:lnTo>
                      <a:pt x="1599" y="148"/>
                    </a:lnTo>
                    <a:lnTo>
                      <a:pt x="1488" y="191"/>
                    </a:lnTo>
                    <a:lnTo>
                      <a:pt x="1380" y="240"/>
                    </a:lnTo>
                    <a:lnTo>
                      <a:pt x="1275" y="294"/>
                    </a:lnTo>
                    <a:lnTo>
                      <a:pt x="1173" y="352"/>
                    </a:lnTo>
                    <a:lnTo>
                      <a:pt x="1074" y="416"/>
                    </a:lnTo>
                    <a:lnTo>
                      <a:pt x="979" y="484"/>
                    </a:lnTo>
                    <a:lnTo>
                      <a:pt x="887" y="556"/>
                    </a:lnTo>
                    <a:lnTo>
                      <a:pt x="799" y="633"/>
                    </a:lnTo>
                    <a:lnTo>
                      <a:pt x="713" y="714"/>
                    </a:lnTo>
                    <a:lnTo>
                      <a:pt x="633" y="798"/>
                    </a:lnTo>
                    <a:lnTo>
                      <a:pt x="557" y="887"/>
                    </a:lnTo>
                    <a:lnTo>
                      <a:pt x="484" y="979"/>
                    </a:lnTo>
                    <a:lnTo>
                      <a:pt x="416" y="1074"/>
                    </a:lnTo>
                    <a:lnTo>
                      <a:pt x="352" y="1173"/>
                    </a:lnTo>
                    <a:lnTo>
                      <a:pt x="294" y="1275"/>
                    </a:lnTo>
                    <a:lnTo>
                      <a:pt x="240" y="1380"/>
                    </a:lnTo>
                    <a:lnTo>
                      <a:pt x="191" y="1488"/>
                    </a:lnTo>
                    <a:lnTo>
                      <a:pt x="147" y="1599"/>
                    </a:lnTo>
                    <a:lnTo>
                      <a:pt x="109" y="1712"/>
                    </a:lnTo>
                    <a:lnTo>
                      <a:pt x="77" y="1828"/>
                    </a:lnTo>
                    <a:lnTo>
                      <a:pt x="49" y="1945"/>
                    </a:lnTo>
                    <a:lnTo>
                      <a:pt x="28" y="2065"/>
                    </a:lnTo>
                    <a:lnTo>
                      <a:pt x="12" y="2187"/>
                    </a:lnTo>
                    <a:lnTo>
                      <a:pt x="2" y="2311"/>
                    </a:lnTo>
                    <a:lnTo>
                      <a:pt x="0" y="2437"/>
                    </a:lnTo>
                    <a:lnTo>
                      <a:pt x="2" y="2562"/>
                    </a:lnTo>
                    <a:lnTo>
                      <a:pt x="12" y="2685"/>
                    </a:lnTo>
                    <a:lnTo>
                      <a:pt x="28" y="2807"/>
                    </a:lnTo>
                    <a:lnTo>
                      <a:pt x="49" y="2927"/>
                    </a:lnTo>
                    <a:lnTo>
                      <a:pt x="77" y="3046"/>
                    </a:lnTo>
                    <a:lnTo>
                      <a:pt x="109" y="3161"/>
                    </a:lnTo>
                    <a:lnTo>
                      <a:pt x="147" y="3274"/>
                    </a:lnTo>
                    <a:lnTo>
                      <a:pt x="191" y="3385"/>
                    </a:lnTo>
                    <a:lnTo>
                      <a:pt x="240" y="3493"/>
                    </a:lnTo>
                    <a:lnTo>
                      <a:pt x="294" y="3598"/>
                    </a:lnTo>
                    <a:lnTo>
                      <a:pt x="352" y="3700"/>
                    </a:lnTo>
                    <a:lnTo>
                      <a:pt x="416" y="3799"/>
                    </a:lnTo>
                    <a:lnTo>
                      <a:pt x="484" y="3895"/>
                    </a:lnTo>
                    <a:lnTo>
                      <a:pt x="557" y="3986"/>
                    </a:lnTo>
                    <a:lnTo>
                      <a:pt x="633" y="4075"/>
                    </a:lnTo>
                    <a:lnTo>
                      <a:pt x="713" y="4159"/>
                    </a:lnTo>
                    <a:lnTo>
                      <a:pt x="799" y="4240"/>
                    </a:lnTo>
                    <a:lnTo>
                      <a:pt x="887" y="4317"/>
                    </a:lnTo>
                    <a:lnTo>
                      <a:pt x="979" y="4389"/>
                    </a:lnTo>
                    <a:lnTo>
                      <a:pt x="1074" y="4456"/>
                    </a:lnTo>
                    <a:lnTo>
                      <a:pt x="1173" y="4520"/>
                    </a:lnTo>
                    <a:lnTo>
                      <a:pt x="1275" y="4578"/>
                    </a:lnTo>
                    <a:lnTo>
                      <a:pt x="1380" y="4632"/>
                    </a:lnTo>
                    <a:lnTo>
                      <a:pt x="1488" y="4681"/>
                    </a:lnTo>
                    <a:lnTo>
                      <a:pt x="1599" y="4725"/>
                    </a:lnTo>
                    <a:lnTo>
                      <a:pt x="1713" y="4763"/>
                    </a:lnTo>
                    <a:lnTo>
                      <a:pt x="1828" y="4796"/>
                    </a:lnTo>
                    <a:lnTo>
                      <a:pt x="1946" y="4823"/>
                    </a:lnTo>
                    <a:lnTo>
                      <a:pt x="2066" y="4845"/>
                    </a:lnTo>
                    <a:lnTo>
                      <a:pt x="2188" y="4860"/>
                    </a:lnTo>
                    <a:lnTo>
                      <a:pt x="2311" y="4870"/>
                    </a:lnTo>
                    <a:lnTo>
                      <a:pt x="2437" y="4873"/>
                    </a:lnTo>
                    <a:lnTo>
                      <a:pt x="2509" y="4872"/>
                    </a:lnTo>
                    <a:lnTo>
                      <a:pt x="2580" y="4869"/>
                    </a:lnTo>
                    <a:lnTo>
                      <a:pt x="2651" y="4863"/>
                    </a:lnTo>
                    <a:lnTo>
                      <a:pt x="2721" y="4857"/>
                    </a:lnTo>
                    <a:lnTo>
                      <a:pt x="2790" y="4847"/>
                    </a:lnTo>
                    <a:lnTo>
                      <a:pt x="2859" y="4836"/>
                    </a:lnTo>
                    <a:lnTo>
                      <a:pt x="2927" y="4823"/>
                    </a:lnTo>
                    <a:lnTo>
                      <a:pt x="2994" y="4808"/>
                    </a:lnTo>
                    <a:lnTo>
                      <a:pt x="3061" y="4792"/>
                    </a:lnTo>
                    <a:lnTo>
                      <a:pt x="3127" y="4774"/>
                    </a:lnTo>
                    <a:lnTo>
                      <a:pt x="3192" y="4753"/>
                    </a:lnTo>
                    <a:lnTo>
                      <a:pt x="3257" y="4732"/>
                    </a:lnTo>
                    <a:lnTo>
                      <a:pt x="3321" y="4708"/>
                    </a:lnTo>
                    <a:lnTo>
                      <a:pt x="3383" y="4682"/>
                    </a:lnTo>
                    <a:lnTo>
                      <a:pt x="3445" y="4655"/>
                    </a:lnTo>
                    <a:lnTo>
                      <a:pt x="3506" y="4627"/>
                    </a:lnTo>
                    <a:lnTo>
                      <a:pt x="3488" y="4589"/>
                    </a:lnTo>
                    <a:lnTo>
                      <a:pt x="3427" y="4617"/>
                    </a:lnTo>
                    <a:lnTo>
                      <a:pt x="3367" y="4644"/>
                    </a:lnTo>
                    <a:lnTo>
                      <a:pt x="3305" y="4669"/>
                    </a:lnTo>
                    <a:lnTo>
                      <a:pt x="3243" y="4693"/>
                    </a:lnTo>
                    <a:lnTo>
                      <a:pt x="3179" y="4714"/>
                    </a:lnTo>
                    <a:lnTo>
                      <a:pt x="3115" y="4734"/>
                    </a:lnTo>
                    <a:lnTo>
                      <a:pt x="3050" y="4752"/>
                    </a:lnTo>
                    <a:lnTo>
                      <a:pt x="2984" y="4768"/>
                    </a:lnTo>
                    <a:lnTo>
                      <a:pt x="2919" y="4782"/>
                    </a:lnTo>
                    <a:lnTo>
                      <a:pt x="2852" y="4795"/>
                    </a:lnTo>
                    <a:lnTo>
                      <a:pt x="2783" y="4806"/>
                    </a:lnTo>
                    <a:lnTo>
                      <a:pt x="2715" y="4815"/>
                    </a:lnTo>
                    <a:lnTo>
                      <a:pt x="2647" y="4822"/>
                    </a:lnTo>
                    <a:lnTo>
                      <a:pt x="2577" y="4827"/>
                    </a:lnTo>
                    <a:lnTo>
                      <a:pt x="2508" y="4830"/>
                    </a:lnTo>
                    <a:lnTo>
                      <a:pt x="2437" y="4831"/>
                    </a:lnTo>
                    <a:lnTo>
                      <a:pt x="2313" y="4828"/>
                    </a:lnTo>
                    <a:lnTo>
                      <a:pt x="2192" y="4819"/>
                    </a:lnTo>
                    <a:lnTo>
                      <a:pt x="2073" y="4804"/>
                    </a:lnTo>
                    <a:lnTo>
                      <a:pt x="1955" y="4782"/>
                    </a:lnTo>
                    <a:lnTo>
                      <a:pt x="1838" y="4755"/>
                    </a:lnTo>
                    <a:lnTo>
                      <a:pt x="1725" y="4724"/>
                    </a:lnTo>
                    <a:lnTo>
                      <a:pt x="1613" y="4686"/>
                    </a:lnTo>
                    <a:lnTo>
                      <a:pt x="1504" y="4643"/>
                    </a:lnTo>
                    <a:lnTo>
                      <a:pt x="1398" y="4596"/>
                    </a:lnTo>
                    <a:lnTo>
                      <a:pt x="1296" y="4543"/>
                    </a:lnTo>
                    <a:lnTo>
                      <a:pt x="1195" y="4484"/>
                    </a:lnTo>
                    <a:lnTo>
                      <a:pt x="1098" y="4422"/>
                    </a:lnTo>
                    <a:lnTo>
                      <a:pt x="1004" y="4356"/>
                    </a:lnTo>
                    <a:lnTo>
                      <a:pt x="913" y="4285"/>
                    </a:lnTo>
                    <a:lnTo>
                      <a:pt x="827" y="4209"/>
                    </a:lnTo>
                    <a:lnTo>
                      <a:pt x="743" y="4130"/>
                    </a:lnTo>
                    <a:lnTo>
                      <a:pt x="663" y="4047"/>
                    </a:lnTo>
                    <a:lnTo>
                      <a:pt x="588" y="3959"/>
                    </a:lnTo>
                    <a:lnTo>
                      <a:pt x="518" y="3869"/>
                    </a:lnTo>
                    <a:lnTo>
                      <a:pt x="451" y="3776"/>
                    </a:lnTo>
                    <a:lnTo>
                      <a:pt x="388" y="3679"/>
                    </a:lnTo>
                    <a:lnTo>
                      <a:pt x="331" y="3578"/>
                    </a:lnTo>
                    <a:lnTo>
                      <a:pt x="278" y="3475"/>
                    </a:lnTo>
                    <a:lnTo>
                      <a:pt x="229" y="3369"/>
                    </a:lnTo>
                    <a:lnTo>
                      <a:pt x="187" y="3260"/>
                    </a:lnTo>
                    <a:lnTo>
                      <a:pt x="149" y="3148"/>
                    </a:lnTo>
                    <a:lnTo>
                      <a:pt x="117" y="3035"/>
                    </a:lnTo>
                    <a:lnTo>
                      <a:pt x="90" y="2919"/>
                    </a:lnTo>
                    <a:lnTo>
                      <a:pt x="69" y="2801"/>
                    </a:lnTo>
                    <a:lnTo>
                      <a:pt x="54" y="2681"/>
                    </a:lnTo>
                    <a:lnTo>
                      <a:pt x="44" y="2560"/>
                    </a:lnTo>
                    <a:lnTo>
                      <a:pt x="41" y="2437"/>
                    </a:lnTo>
                    <a:lnTo>
                      <a:pt x="44" y="2314"/>
                    </a:lnTo>
                    <a:lnTo>
                      <a:pt x="54" y="2192"/>
                    </a:lnTo>
                    <a:lnTo>
                      <a:pt x="69" y="2072"/>
                    </a:lnTo>
                    <a:lnTo>
                      <a:pt x="90" y="1954"/>
                    </a:lnTo>
                    <a:lnTo>
                      <a:pt x="117" y="1838"/>
                    </a:lnTo>
                    <a:lnTo>
                      <a:pt x="149" y="1724"/>
                    </a:lnTo>
                    <a:lnTo>
                      <a:pt x="187" y="1613"/>
                    </a:lnTo>
                    <a:lnTo>
                      <a:pt x="229" y="1505"/>
                    </a:lnTo>
                    <a:lnTo>
                      <a:pt x="278" y="1398"/>
                    </a:lnTo>
                    <a:lnTo>
                      <a:pt x="331" y="1295"/>
                    </a:lnTo>
                    <a:lnTo>
                      <a:pt x="388" y="1195"/>
                    </a:lnTo>
                    <a:lnTo>
                      <a:pt x="451" y="1097"/>
                    </a:lnTo>
                    <a:lnTo>
                      <a:pt x="518" y="1004"/>
                    </a:lnTo>
                    <a:lnTo>
                      <a:pt x="588" y="913"/>
                    </a:lnTo>
                    <a:lnTo>
                      <a:pt x="663" y="826"/>
                    </a:lnTo>
                    <a:lnTo>
                      <a:pt x="743" y="743"/>
                    </a:lnTo>
                    <a:lnTo>
                      <a:pt x="827" y="663"/>
                    </a:lnTo>
                    <a:lnTo>
                      <a:pt x="913" y="589"/>
                    </a:lnTo>
                    <a:lnTo>
                      <a:pt x="1004" y="518"/>
                    </a:lnTo>
                    <a:lnTo>
                      <a:pt x="1098" y="451"/>
                    </a:lnTo>
                    <a:lnTo>
                      <a:pt x="1195" y="388"/>
                    </a:lnTo>
                    <a:lnTo>
                      <a:pt x="1296" y="331"/>
                    </a:lnTo>
                    <a:lnTo>
                      <a:pt x="1398" y="278"/>
                    </a:lnTo>
                    <a:lnTo>
                      <a:pt x="1504" y="230"/>
                    </a:lnTo>
                    <a:lnTo>
                      <a:pt x="1613" y="187"/>
                    </a:lnTo>
                    <a:lnTo>
                      <a:pt x="1725" y="149"/>
                    </a:lnTo>
                    <a:lnTo>
                      <a:pt x="1838" y="117"/>
                    </a:lnTo>
                    <a:lnTo>
                      <a:pt x="1955" y="90"/>
                    </a:lnTo>
                    <a:lnTo>
                      <a:pt x="2073" y="69"/>
                    </a:lnTo>
                    <a:lnTo>
                      <a:pt x="2192" y="54"/>
                    </a:lnTo>
                    <a:lnTo>
                      <a:pt x="2313" y="44"/>
                    </a:lnTo>
                    <a:lnTo>
                      <a:pt x="2437" y="41"/>
                    </a:lnTo>
                    <a:lnTo>
                      <a:pt x="2561" y="44"/>
                    </a:lnTo>
                    <a:lnTo>
                      <a:pt x="2682" y="54"/>
                    </a:lnTo>
                    <a:lnTo>
                      <a:pt x="2802" y="69"/>
                    </a:lnTo>
                    <a:lnTo>
                      <a:pt x="2920" y="90"/>
                    </a:lnTo>
                    <a:lnTo>
                      <a:pt x="3036" y="117"/>
                    </a:lnTo>
                    <a:lnTo>
                      <a:pt x="3150" y="149"/>
                    </a:lnTo>
                    <a:lnTo>
                      <a:pt x="3261" y="187"/>
                    </a:lnTo>
                    <a:lnTo>
                      <a:pt x="3370" y="230"/>
                    </a:lnTo>
                    <a:lnTo>
                      <a:pt x="3476" y="278"/>
                    </a:lnTo>
                    <a:lnTo>
                      <a:pt x="3579" y="331"/>
                    </a:lnTo>
                    <a:lnTo>
                      <a:pt x="3679" y="388"/>
                    </a:lnTo>
                    <a:lnTo>
                      <a:pt x="3777" y="451"/>
                    </a:lnTo>
                    <a:lnTo>
                      <a:pt x="3871" y="518"/>
                    </a:lnTo>
                    <a:lnTo>
                      <a:pt x="3961" y="589"/>
                    </a:lnTo>
                    <a:lnTo>
                      <a:pt x="4048" y="663"/>
                    </a:lnTo>
                    <a:lnTo>
                      <a:pt x="4131" y="743"/>
                    </a:lnTo>
                    <a:lnTo>
                      <a:pt x="4211" y="826"/>
                    </a:lnTo>
                    <a:lnTo>
                      <a:pt x="4285" y="913"/>
                    </a:lnTo>
                    <a:lnTo>
                      <a:pt x="4357" y="1004"/>
                    </a:lnTo>
                    <a:lnTo>
                      <a:pt x="4424" y="1097"/>
                    </a:lnTo>
                    <a:lnTo>
                      <a:pt x="4486" y="1195"/>
                    </a:lnTo>
                    <a:lnTo>
                      <a:pt x="4544" y="1295"/>
                    </a:lnTo>
                    <a:lnTo>
                      <a:pt x="4597" y="1398"/>
                    </a:lnTo>
                    <a:lnTo>
                      <a:pt x="4645" y="1505"/>
                    </a:lnTo>
                    <a:lnTo>
                      <a:pt x="4687" y="1613"/>
                    </a:lnTo>
                    <a:lnTo>
                      <a:pt x="4725" y="1724"/>
                    </a:lnTo>
                    <a:lnTo>
                      <a:pt x="4758" y="1838"/>
                    </a:lnTo>
                    <a:lnTo>
                      <a:pt x="4785" y="1954"/>
                    </a:lnTo>
                    <a:lnTo>
                      <a:pt x="4805" y="2072"/>
                    </a:lnTo>
                    <a:lnTo>
                      <a:pt x="4820" y="2192"/>
                    </a:lnTo>
                    <a:lnTo>
                      <a:pt x="4830" y="2314"/>
                    </a:lnTo>
                    <a:lnTo>
                      <a:pt x="4833" y="2437"/>
                    </a:lnTo>
                    <a:lnTo>
                      <a:pt x="4833" y="2477"/>
                    </a:lnTo>
                    <a:lnTo>
                      <a:pt x="4832" y="2517"/>
                    </a:lnTo>
                    <a:lnTo>
                      <a:pt x="4830" y="2557"/>
                    </a:lnTo>
                    <a:lnTo>
                      <a:pt x="4828" y="2597"/>
                    </a:lnTo>
                    <a:lnTo>
                      <a:pt x="4825" y="2636"/>
                    </a:lnTo>
                    <a:lnTo>
                      <a:pt x="4821" y="2675"/>
                    </a:lnTo>
                    <a:lnTo>
                      <a:pt x="4817" y="2715"/>
                    </a:lnTo>
                    <a:lnTo>
                      <a:pt x="4812" y="2754"/>
                    </a:lnTo>
                    <a:lnTo>
                      <a:pt x="4806" y="2793"/>
                    </a:lnTo>
                    <a:lnTo>
                      <a:pt x="4801" y="2832"/>
                    </a:lnTo>
                    <a:lnTo>
                      <a:pt x="4793" y="2870"/>
                    </a:lnTo>
                    <a:lnTo>
                      <a:pt x="4787" y="2909"/>
                    </a:lnTo>
                    <a:lnTo>
                      <a:pt x="4778" y="2946"/>
                    </a:lnTo>
                    <a:lnTo>
                      <a:pt x="4770" y="2984"/>
                    </a:lnTo>
                    <a:lnTo>
                      <a:pt x="4761" y="3022"/>
                    </a:lnTo>
                    <a:lnTo>
                      <a:pt x="4751" y="3059"/>
                    </a:lnTo>
                    <a:lnTo>
                      <a:pt x="4791" y="3070"/>
                    </a:lnTo>
                    <a:lnTo>
                      <a:pt x="4801" y="3032"/>
                    </a:lnTo>
                    <a:lnTo>
                      <a:pt x="4811" y="2994"/>
                    </a:lnTo>
                    <a:lnTo>
                      <a:pt x="4819" y="2955"/>
                    </a:lnTo>
                    <a:lnTo>
                      <a:pt x="4827" y="2916"/>
                    </a:lnTo>
                    <a:lnTo>
                      <a:pt x="4834" y="2877"/>
                    </a:lnTo>
                    <a:lnTo>
                      <a:pt x="4842" y="2838"/>
                    </a:lnTo>
                    <a:lnTo>
                      <a:pt x="4847" y="2800"/>
                    </a:lnTo>
                    <a:lnTo>
                      <a:pt x="4854" y="2760"/>
                    </a:lnTo>
                    <a:lnTo>
                      <a:pt x="4858" y="2720"/>
                    </a:lnTo>
                    <a:lnTo>
                      <a:pt x="4862" y="2680"/>
                    </a:lnTo>
                    <a:lnTo>
                      <a:pt x="4867" y="2640"/>
                    </a:lnTo>
                    <a:lnTo>
                      <a:pt x="4869" y="2600"/>
                    </a:lnTo>
                    <a:lnTo>
                      <a:pt x="4872" y="2559"/>
                    </a:lnTo>
                    <a:lnTo>
                      <a:pt x="4873" y="2519"/>
                    </a:lnTo>
                    <a:lnTo>
                      <a:pt x="4874" y="2478"/>
                    </a:lnTo>
                    <a:lnTo>
                      <a:pt x="4874" y="2437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614760" y="2038320"/>
                <a:ext cx="1917720" cy="1917720"/>
              </a:xfrm>
              <a:custGeom>
                <a:avLst/>
                <a:gdLst/>
                <a:ahLst/>
                <a:rect l="l" t="t" r="r" b="b"/>
                <a:pathLst>
                  <a:path w="4833" h="4831">
                    <a:moveTo>
                      <a:pt x="4833" y="2416"/>
                    </a:moveTo>
                    <a:lnTo>
                      <a:pt x="4830" y="2291"/>
                    </a:lnTo>
                    <a:lnTo>
                      <a:pt x="4821" y="2168"/>
                    </a:lnTo>
                    <a:lnTo>
                      <a:pt x="4805" y="2047"/>
                    </a:lnTo>
                    <a:lnTo>
                      <a:pt x="4784" y="1929"/>
                    </a:lnTo>
                    <a:lnTo>
                      <a:pt x="4757" y="1812"/>
                    </a:lnTo>
                    <a:lnTo>
                      <a:pt x="4725" y="1697"/>
                    </a:lnTo>
                    <a:lnTo>
                      <a:pt x="4686" y="1585"/>
                    </a:lnTo>
                    <a:lnTo>
                      <a:pt x="4643" y="1475"/>
                    </a:lnTo>
                    <a:lnTo>
                      <a:pt x="4595" y="1368"/>
                    </a:lnTo>
                    <a:lnTo>
                      <a:pt x="4541" y="1264"/>
                    </a:lnTo>
                    <a:lnTo>
                      <a:pt x="4483" y="1163"/>
                    </a:lnTo>
                    <a:lnTo>
                      <a:pt x="4420" y="1065"/>
                    </a:lnTo>
                    <a:lnTo>
                      <a:pt x="4353" y="971"/>
                    </a:lnTo>
                    <a:lnTo>
                      <a:pt x="4281" y="879"/>
                    </a:lnTo>
                    <a:lnTo>
                      <a:pt x="4205" y="791"/>
                    </a:lnTo>
                    <a:lnTo>
                      <a:pt x="4125" y="707"/>
                    </a:lnTo>
                    <a:lnTo>
                      <a:pt x="4041" y="627"/>
                    </a:lnTo>
                    <a:lnTo>
                      <a:pt x="3953" y="552"/>
                    </a:lnTo>
                    <a:lnTo>
                      <a:pt x="3862" y="479"/>
                    </a:lnTo>
                    <a:lnTo>
                      <a:pt x="3767" y="412"/>
                    </a:lnTo>
                    <a:lnTo>
                      <a:pt x="3669" y="350"/>
                    </a:lnTo>
                    <a:lnTo>
                      <a:pt x="3569" y="291"/>
                    </a:lnTo>
                    <a:lnTo>
                      <a:pt x="3464" y="238"/>
                    </a:lnTo>
                    <a:lnTo>
                      <a:pt x="3357" y="190"/>
                    </a:lnTo>
                    <a:lnTo>
                      <a:pt x="3247" y="147"/>
                    </a:lnTo>
                    <a:lnTo>
                      <a:pt x="3135" y="109"/>
                    </a:lnTo>
                    <a:lnTo>
                      <a:pt x="3020" y="75"/>
                    </a:lnTo>
                    <a:lnTo>
                      <a:pt x="2903" y="48"/>
                    </a:lnTo>
                    <a:lnTo>
                      <a:pt x="2784" y="28"/>
                    </a:lnTo>
                    <a:lnTo>
                      <a:pt x="2663" y="13"/>
                    </a:lnTo>
                    <a:lnTo>
                      <a:pt x="2541" y="3"/>
                    </a:lnTo>
                    <a:lnTo>
                      <a:pt x="2416" y="0"/>
                    </a:lnTo>
                    <a:lnTo>
                      <a:pt x="2291" y="3"/>
                    </a:lnTo>
                    <a:lnTo>
                      <a:pt x="2169" y="13"/>
                    </a:lnTo>
                    <a:lnTo>
                      <a:pt x="2048" y="28"/>
                    </a:lnTo>
                    <a:lnTo>
                      <a:pt x="1929" y="48"/>
                    </a:lnTo>
                    <a:lnTo>
                      <a:pt x="1813" y="75"/>
                    </a:lnTo>
                    <a:lnTo>
                      <a:pt x="1697" y="109"/>
                    </a:lnTo>
                    <a:lnTo>
                      <a:pt x="1585" y="147"/>
                    </a:lnTo>
                    <a:lnTo>
                      <a:pt x="1476" y="190"/>
                    </a:lnTo>
                    <a:lnTo>
                      <a:pt x="1369" y="238"/>
                    </a:lnTo>
                    <a:lnTo>
                      <a:pt x="1264" y="291"/>
                    </a:lnTo>
                    <a:lnTo>
                      <a:pt x="1163" y="350"/>
                    </a:lnTo>
                    <a:lnTo>
                      <a:pt x="1065" y="412"/>
                    </a:lnTo>
                    <a:lnTo>
                      <a:pt x="970" y="479"/>
                    </a:lnTo>
                    <a:lnTo>
                      <a:pt x="879" y="552"/>
                    </a:lnTo>
                    <a:lnTo>
                      <a:pt x="792" y="627"/>
                    </a:lnTo>
                    <a:lnTo>
                      <a:pt x="707" y="707"/>
                    </a:lnTo>
                    <a:lnTo>
                      <a:pt x="627" y="791"/>
                    </a:lnTo>
                    <a:lnTo>
                      <a:pt x="552" y="879"/>
                    </a:lnTo>
                    <a:lnTo>
                      <a:pt x="479" y="971"/>
                    </a:lnTo>
                    <a:lnTo>
                      <a:pt x="412" y="1065"/>
                    </a:lnTo>
                    <a:lnTo>
                      <a:pt x="350" y="1163"/>
                    </a:lnTo>
                    <a:lnTo>
                      <a:pt x="291" y="1264"/>
                    </a:lnTo>
                    <a:lnTo>
                      <a:pt x="237" y="1368"/>
                    </a:lnTo>
                    <a:lnTo>
                      <a:pt x="190" y="1475"/>
                    </a:lnTo>
                    <a:lnTo>
                      <a:pt x="147" y="1585"/>
                    </a:lnTo>
                    <a:lnTo>
                      <a:pt x="108" y="1697"/>
                    </a:lnTo>
                    <a:lnTo>
                      <a:pt x="75" y="1812"/>
                    </a:lnTo>
                    <a:lnTo>
                      <a:pt x="48" y="1929"/>
                    </a:lnTo>
                    <a:lnTo>
                      <a:pt x="28" y="2047"/>
                    </a:lnTo>
                    <a:lnTo>
                      <a:pt x="11" y="2168"/>
                    </a:lnTo>
                    <a:lnTo>
                      <a:pt x="3" y="2291"/>
                    </a:lnTo>
                    <a:lnTo>
                      <a:pt x="0" y="2416"/>
                    </a:lnTo>
                    <a:lnTo>
                      <a:pt x="3" y="2540"/>
                    </a:lnTo>
                    <a:lnTo>
                      <a:pt x="11" y="2662"/>
                    </a:lnTo>
                    <a:lnTo>
                      <a:pt x="28" y="2783"/>
                    </a:lnTo>
                    <a:lnTo>
                      <a:pt x="48" y="2903"/>
                    </a:lnTo>
                    <a:lnTo>
                      <a:pt x="75" y="3019"/>
                    </a:lnTo>
                    <a:lnTo>
                      <a:pt x="108" y="3134"/>
                    </a:lnTo>
                    <a:lnTo>
                      <a:pt x="147" y="3246"/>
                    </a:lnTo>
                    <a:lnTo>
                      <a:pt x="190" y="3355"/>
                    </a:lnTo>
                    <a:lnTo>
                      <a:pt x="237" y="3462"/>
                    </a:lnTo>
                    <a:lnTo>
                      <a:pt x="291" y="3567"/>
                    </a:lnTo>
                    <a:lnTo>
                      <a:pt x="350" y="3668"/>
                    </a:lnTo>
                    <a:lnTo>
                      <a:pt x="412" y="3766"/>
                    </a:lnTo>
                    <a:lnTo>
                      <a:pt x="479" y="3861"/>
                    </a:lnTo>
                    <a:lnTo>
                      <a:pt x="552" y="3951"/>
                    </a:lnTo>
                    <a:lnTo>
                      <a:pt x="627" y="4040"/>
                    </a:lnTo>
                    <a:lnTo>
                      <a:pt x="707" y="4123"/>
                    </a:lnTo>
                    <a:lnTo>
                      <a:pt x="792" y="4203"/>
                    </a:lnTo>
                    <a:lnTo>
                      <a:pt x="879" y="4280"/>
                    </a:lnTo>
                    <a:lnTo>
                      <a:pt x="970" y="4351"/>
                    </a:lnTo>
                    <a:lnTo>
                      <a:pt x="1065" y="4418"/>
                    </a:lnTo>
                    <a:lnTo>
                      <a:pt x="1163" y="4482"/>
                    </a:lnTo>
                    <a:lnTo>
                      <a:pt x="1264" y="4540"/>
                    </a:lnTo>
                    <a:lnTo>
                      <a:pt x="1369" y="4593"/>
                    </a:lnTo>
                    <a:lnTo>
                      <a:pt x="1476" y="4642"/>
                    </a:lnTo>
                    <a:lnTo>
                      <a:pt x="1585" y="4685"/>
                    </a:lnTo>
                    <a:lnTo>
                      <a:pt x="1697" y="4723"/>
                    </a:lnTo>
                    <a:lnTo>
                      <a:pt x="1813" y="4755"/>
                    </a:lnTo>
                    <a:lnTo>
                      <a:pt x="1929" y="4782"/>
                    </a:lnTo>
                    <a:lnTo>
                      <a:pt x="2048" y="4804"/>
                    </a:lnTo>
                    <a:lnTo>
                      <a:pt x="2169" y="4819"/>
                    </a:lnTo>
                    <a:lnTo>
                      <a:pt x="2291" y="4828"/>
                    </a:lnTo>
                    <a:lnTo>
                      <a:pt x="2416" y="4831"/>
                    </a:lnTo>
                    <a:lnTo>
                      <a:pt x="2487" y="4831"/>
                    </a:lnTo>
                    <a:lnTo>
                      <a:pt x="2557" y="4827"/>
                    </a:lnTo>
                    <a:lnTo>
                      <a:pt x="2627" y="4822"/>
                    </a:lnTo>
                    <a:lnTo>
                      <a:pt x="2697" y="4815"/>
                    </a:lnTo>
                    <a:lnTo>
                      <a:pt x="2766" y="4806"/>
                    </a:lnTo>
                    <a:lnTo>
                      <a:pt x="2834" y="4795"/>
                    </a:lnTo>
                    <a:lnTo>
                      <a:pt x="2902" y="4782"/>
                    </a:lnTo>
                    <a:lnTo>
                      <a:pt x="2969" y="4768"/>
                    </a:lnTo>
                    <a:lnTo>
                      <a:pt x="3035" y="4751"/>
                    </a:lnTo>
                    <a:lnTo>
                      <a:pt x="3100" y="4733"/>
                    </a:lnTo>
                    <a:lnTo>
                      <a:pt x="3164" y="4713"/>
                    </a:lnTo>
                    <a:lnTo>
                      <a:pt x="3228" y="4691"/>
                    </a:lnTo>
                    <a:lnTo>
                      <a:pt x="3292" y="4667"/>
                    </a:lnTo>
                    <a:lnTo>
                      <a:pt x="3354" y="4643"/>
                    </a:lnTo>
                    <a:lnTo>
                      <a:pt x="3415" y="4616"/>
                    </a:lnTo>
                    <a:lnTo>
                      <a:pt x="3476" y="4586"/>
                    </a:lnTo>
                    <a:lnTo>
                      <a:pt x="3457" y="4550"/>
                    </a:lnTo>
                    <a:lnTo>
                      <a:pt x="3398" y="4578"/>
                    </a:lnTo>
                    <a:lnTo>
                      <a:pt x="3337" y="4604"/>
                    </a:lnTo>
                    <a:lnTo>
                      <a:pt x="3277" y="4629"/>
                    </a:lnTo>
                    <a:lnTo>
                      <a:pt x="3214" y="4651"/>
                    </a:lnTo>
                    <a:lnTo>
                      <a:pt x="3151" y="4673"/>
                    </a:lnTo>
                    <a:lnTo>
                      <a:pt x="3088" y="4693"/>
                    </a:lnTo>
                    <a:lnTo>
                      <a:pt x="3024" y="4711"/>
                    </a:lnTo>
                    <a:lnTo>
                      <a:pt x="2959" y="4727"/>
                    </a:lnTo>
                    <a:lnTo>
                      <a:pt x="2893" y="4741"/>
                    </a:lnTo>
                    <a:lnTo>
                      <a:pt x="2827" y="4754"/>
                    </a:lnTo>
                    <a:lnTo>
                      <a:pt x="2760" y="4765"/>
                    </a:lnTo>
                    <a:lnTo>
                      <a:pt x="2692" y="4773"/>
                    </a:lnTo>
                    <a:lnTo>
                      <a:pt x="2624" y="4781"/>
                    </a:lnTo>
                    <a:lnTo>
                      <a:pt x="2555" y="4785"/>
                    </a:lnTo>
                    <a:lnTo>
                      <a:pt x="2486" y="4788"/>
                    </a:lnTo>
                    <a:lnTo>
                      <a:pt x="2416" y="4790"/>
                    </a:lnTo>
                    <a:lnTo>
                      <a:pt x="2294" y="4786"/>
                    </a:lnTo>
                    <a:lnTo>
                      <a:pt x="2174" y="4778"/>
                    </a:lnTo>
                    <a:lnTo>
                      <a:pt x="2055" y="4763"/>
                    </a:lnTo>
                    <a:lnTo>
                      <a:pt x="1938" y="4741"/>
                    </a:lnTo>
                    <a:lnTo>
                      <a:pt x="1822" y="4715"/>
                    </a:lnTo>
                    <a:lnTo>
                      <a:pt x="1710" y="4683"/>
                    </a:lnTo>
                    <a:lnTo>
                      <a:pt x="1600" y="4646"/>
                    </a:lnTo>
                    <a:lnTo>
                      <a:pt x="1492" y="4603"/>
                    </a:lnTo>
                    <a:lnTo>
                      <a:pt x="1387" y="4555"/>
                    </a:lnTo>
                    <a:lnTo>
                      <a:pt x="1284" y="4503"/>
                    </a:lnTo>
                    <a:lnTo>
                      <a:pt x="1185" y="4446"/>
                    </a:lnTo>
                    <a:lnTo>
                      <a:pt x="1089" y="4383"/>
                    </a:lnTo>
                    <a:lnTo>
                      <a:pt x="995" y="4318"/>
                    </a:lnTo>
                    <a:lnTo>
                      <a:pt x="905" y="4247"/>
                    </a:lnTo>
                    <a:lnTo>
                      <a:pt x="820" y="4173"/>
                    </a:lnTo>
                    <a:lnTo>
                      <a:pt x="736" y="4094"/>
                    </a:lnTo>
                    <a:lnTo>
                      <a:pt x="658" y="4012"/>
                    </a:lnTo>
                    <a:lnTo>
                      <a:pt x="583" y="3926"/>
                    </a:lnTo>
                    <a:lnTo>
                      <a:pt x="513" y="3836"/>
                    </a:lnTo>
                    <a:lnTo>
                      <a:pt x="447" y="3743"/>
                    </a:lnTo>
                    <a:lnTo>
                      <a:pt x="385" y="3647"/>
                    </a:lnTo>
                    <a:lnTo>
                      <a:pt x="328" y="3546"/>
                    </a:lnTo>
                    <a:lnTo>
                      <a:pt x="275" y="3445"/>
                    </a:lnTo>
                    <a:lnTo>
                      <a:pt x="228" y="3339"/>
                    </a:lnTo>
                    <a:lnTo>
                      <a:pt x="185" y="3232"/>
                    </a:lnTo>
                    <a:lnTo>
                      <a:pt x="148" y="3121"/>
                    </a:lnTo>
                    <a:lnTo>
                      <a:pt x="116" y="3009"/>
                    </a:lnTo>
                    <a:lnTo>
                      <a:pt x="89" y="2894"/>
                    </a:lnTo>
                    <a:lnTo>
                      <a:pt x="69" y="2776"/>
                    </a:lnTo>
                    <a:lnTo>
                      <a:pt x="54" y="2658"/>
                    </a:lnTo>
                    <a:lnTo>
                      <a:pt x="44" y="2538"/>
                    </a:lnTo>
                    <a:lnTo>
                      <a:pt x="41" y="2416"/>
                    </a:lnTo>
                    <a:lnTo>
                      <a:pt x="44" y="2294"/>
                    </a:lnTo>
                    <a:lnTo>
                      <a:pt x="54" y="2173"/>
                    </a:lnTo>
                    <a:lnTo>
                      <a:pt x="69" y="2054"/>
                    </a:lnTo>
                    <a:lnTo>
                      <a:pt x="89" y="1937"/>
                    </a:lnTo>
                    <a:lnTo>
                      <a:pt x="116" y="1822"/>
                    </a:lnTo>
                    <a:lnTo>
                      <a:pt x="148" y="1709"/>
                    </a:lnTo>
                    <a:lnTo>
                      <a:pt x="185" y="1599"/>
                    </a:lnTo>
                    <a:lnTo>
                      <a:pt x="228" y="1491"/>
                    </a:lnTo>
                    <a:lnTo>
                      <a:pt x="275" y="1386"/>
                    </a:lnTo>
                    <a:lnTo>
                      <a:pt x="328" y="1284"/>
                    </a:lnTo>
                    <a:lnTo>
                      <a:pt x="385" y="1184"/>
                    </a:lnTo>
                    <a:lnTo>
                      <a:pt x="447" y="1088"/>
                    </a:lnTo>
                    <a:lnTo>
                      <a:pt x="513" y="995"/>
                    </a:lnTo>
                    <a:lnTo>
                      <a:pt x="583" y="906"/>
                    </a:lnTo>
                    <a:lnTo>
                      <a:pt x="658" y="819"/>
                    </a:lnTo>
                    <a:lnTo>
                      <a:pt x="736" y="736"/>
                    </a:lnTo>
                    <a:lnTo>
                      <a:pt x="820" y="659"/>
                    </a:lnTo>
                    <a:lnTo>
                      <a:pt x="905" y="584"/>
                    </a:lnTo>
                    <a:lnTo>
                      <a:pt x="995" y="513"/>
                    </a:lnTo>
                    <a:lnTo>
                      <a:pt x="1089" y="447"/>
                    </a:lnTo>
                    <a:lnTo>
                      <a:pt x="1185" y="385"/>
                    </a:lnTo>
                    <a:lnTo>
                      <a:pt x="1284" y="328"/>
                    </a:lnTo>
                    <a:lnTo>
                      <a:pt x="1387" y="275"/>
                    </a:lnTo>
                    <a:lnTo>
                      <a:pt x="1492" y="228"/>
                    </a:lnTo>
                    <a:lnTo>
                      <a:pt x="1600" y="185"/>
                    </a:lnTo>
                    <a:lnTo>
                      <a:pt x="1710" y="148"/>
                    </a:lnTo>
                    <a:lnTo>
                      <a:pt x="1822" y="116"/>
                    </a:lnTo>
                    <a:lnTo>
                      <a:pt x="1938" y="89"/>
                    </a:lnTo>
                    <a:lnTo>
                      <a:pt x="2055" y="69"/>
                    </a:lnTo>
                    <a:lnTo>
                      <a:pt x="2174" y="54"/>
                    </a:lnTo>
                    <a:lnTo>
                      <a:pt x="2294" y="44"/>
                    </a:lnTo>
                    <a:lnTo>
                      <a:pt x="2416" y="42"/>
                    </a:lnTo>
                    <a:lnTo>
                      <a:pt x="2539" y="44"/>
                    </a:lnTo>
                    <a:lnTo>
                      <a:pt x="2659" y="54"/>
                    </a:lnTo>
                    <a:lnTo>
                      <a:pt x="2778" y="69"/>
                    </a:lnTo>
                    <a:lnTo>
                      <a:pt x="2894" y="89"/>
                    </a:lnTo>
                    <a:lnTo>
                      <a:pt x="3010" y="116"/>
                    </a:lnTo>
                    <a:lnTo>
                      <a:pt x="3122" y="148"/>
                    </a:lnTo>
                    <a:lnTo>
                      <a:pt x="3233" y="185"/>
                    </a:lnTo>
                    <a:lnTo>
                      <a:pt x="3341" y="228"/>
                    </a:lnTo>
                    <a:lnTo>
                      <a:pt x="3445" y="275"/>
                    </a:lnTo>
                    <a:lnTo>
                      <a:pt x="3548" y="328"/>
                    </a:lnTo>
                    <a:lnTo>
                      <a:pt x="3647" y="385"/>
                    </a:lnTo>
                    <a:lnTo>
                      <a:pt x="3744" y="447"/>
                    </a:lnTo>
                    <a:lnTo>
                      <a:pt x="3838" y="513"/>
                    </a:lnTo>
                    <a:lnTo>
                      <a:pt x="3927" y="584"/>
                    </a:lnTo>
                    <a:lnTo>
                      <a:pt x="4013" y="659"/>
                    </a:lnTo>
                    <a:lnTo>
                      <a:pt x="4096" y="736"/>
                    </a:lnTo>
                    <a:lnTo>
                      <a:pt x="4174" y="819"/>
                    </a:lnTo>
                    <a:lnTo>
                      <a:pt x="4249" y="906"/>
                    </a:lnTo>
                    <a:lnTo>
                      <a:pt x="4320" y="995"/>
                    </a:lnTo>
                    <a:lnTo>
                      <a:pt x="4385" y="1088"/>
                    </a:lnTo>
                    <a:lnTo>
                      <a:pt x="4447" y="1184"/>
                    </a:lnTo>
                    <a:lnTo>
                      <a:pt x="4504" y="1284"/>
                    </a:lnTo>
                    <a:lnTo>
                      <a:pt x="4557" y="1386"/>
                    </a:lnTo>
                    <a:lnTo>
                      <a:pt x="4605" y="1491"/>
                    </a:lnTo>
                    <a:lnTo>
                      <a:pt x="4647" y="1599"/>
                    </a:lnTo>
                    <a:lnTo>
                      <a:pt x="4685" y="1709"/>
                    </a:lnTo>
                    <a:lnTo>
                      <a:pt x="4716" y="1822"/>
                    </a:lnTo>
                    <a:lnTo>
                      <a:pt x="4743" y="1937"/>
                    </a:lnTo>
                    <a:lnTo>
                      <a:pt x="4764" y="2054"/>
                    </a:lnTo>
                    <a:lnTo>
                      <a:pt x="4779" y="2173"/>
                    </a:lnTo>
                    <a:lnTo>
                      <a:pt x="4789" y="2294"/>
                    </a:lnTo>
                    <a:lnTo>
                      <a:pt x="4792" y="2416"/>
                    </a:lnTo>
                    <a:lnTo>
                      <a:pt x="4791" y="2456"/>
                    </a:lnTo>
                    <a:lnTo>
                      <a:pt x="4790" y="2496"/>
                    </a:lnTo>
                    <a:lnTo>
                      <a:pt x="4789" y="2534"/>
                    </a:lnTo>
                    <a:lnTo>
                      <a:pt x="4786" y="2574"/>
                    </a:lnTo>
                    <a:lnTo>
                      <a:pt x="4783" y="2613"/>
                    </a:lnTo>
                    <a:lnTo>
                      <a:pt x="4780" y="2652"/>
                    </a:lnTo>
                    <a:lnTo>
                      <a:pt x="4776" y="2691"/>
                    </a:lnTo>
                    <a:lnTo>
                      <a:pt x="4770" y="2730"/>
                    </a:lnTo>
                    <a:lnTo>
                      <a:pt x="4765" y="2769"/>
                    </a:lnTo>
                    <a:lnTo>
                      <a:pt x="4759" y="2807"/>
                    </a:lnTo>
                    <a:lnTo>
                      <a:pt x="4752" y="2846"/>
                    </a:lnTo>
                    <a:lnTo>
                      <a:pt x="4745" y="2883"/>
                    </a:lnTo>
                    <a:lnTo>
                      <a:pt x="4737" y="2921"/>
                    </a:lnTo>
                    <a:lnTo>
                      <a:pt x="4729" y="2958"/>
                    </a:lnTo>
                    <a:lnTo>
                      <a:pt x="4719" y="2996"/>
                    </a:lnTo>
                    <a:lnTo>
                      <a:pt x="4710" y="3032"/>
                    </a:lnTo>
                    <a:lnTo>
                      <a:pt x="4751" y="3043"/>
                    </a:lnTo>
                    <a:lnTo>
                      <a:pt x="4760" y="3005"/>
                    </a:lnTo>
                    <a:lnTo>
                      <a:pt x="4769" y="2968"/>
                    </a:lnTo>
                    <a:lnTo>
                      <a:pt x="4778" y="2930"/>
                    </a:lnTo>
                    <a:lnTo>
                      <a:pt x="4786" y="2891"/>
                    </a:lnTo>
                    <a:lnTo>
                      <a:pt x="4793" y="2853"/>
                    </a:lnTo>
                    <a:lnTo>
                      <a:pt x="4800" y="2814"/>
                    </a:lnTo>
                    <a:lnTo>
                      <a:pt x="4806" y="2775"/>
                    </a:lnTo>
                    <a:lnTo>
                      <a:pt x="4812" y="2735"/>
                    </a:lnTo>
                    <a:lnTo>
                      <a:pt x="4817" y="2696"/>
                    </a:lnTo>
                    <a:lnTo>
                      <a:pt x="4821" y="2657"/>
                    </a:lnTo>
                    <a:lnTo>
                      <a:pt x="4824" y="2617"/>
                    </a:lnTo>
                    <a:lnTo>
                      <a:pt x="4827" y="2577"/>
                    </a:lnTo>
                    <a:lnTo>
                      <a:pt x="4830" y="2537"/>
                    </a:lnTo>
                    <a:lnTo>
                      <a:pt x="4832" y="2497"/>
                    </a:lnTo>
                    <a:lnTo>
                      <a:pt x="4833" y="2456"/>
                    </a:lnTo>
                    <a:lnTo>
                      <a:pt x="4833" y="2416"/>
                    </a:lnTo>
                    <a:close/>
                  </a:path>
                </a:pathLst>
              </a:custGeom>
              <a:solidFill>
                <a:srgbClr val="dbc8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622680" y="2046240"/>
                <a:ext cx="1901880" cy="1901880"/>
              </a:xfrm>
              <a:custGeom>
                <a:avLst/>
                <a:gdLst/>
                <a:ahLst/>
                <a:rect l="l" t="t" r="r" b="b"/>
                <a:pathLst>
                  <a:path w="4792" h="4790">
                    <a:moveTo>
                      <a:pt x="4792" y="2396"/>
                    </a:moveTo>
                    <a:lnTo>
                      <a:pt x="4789" y="2273"/>
                    </a:lnTo>
                    <a:lnTo>
                      <a:pt x="4779" y="2151"/>
                    </a:lnTo>
                    <a:lnTo>
                      <a:pt x="4764" y="2031"/>
                    </a:lnTo>
                    <a:lnTo>
                      <a:pt x="4744" y="1913"/>
                    </a:lnTo>
                    <a:lnTo>
                      <a:pt x="4717" y="1797"/>
                    </a:lnTo>
                    <a:lnTo>
                      <a:pt x="4684" y="1683"/>
                    </a:lnTo>
                    <a:lnTo>
                      <a:pt x="4646" y="1572"/>
                    </a:lnTo>
                    <a:lnTo>
                      <a:pt x="4604" y="1464"/>
                    </a:lnTo>
                    <a:lnTo>
                      <a:pt x="4556" y="1357"/>
                    </a:lnTo>
                    <a:lnTo>
                      <a:pt x="4503" y="1254"/>
                    </a:lnTo>
                    <a:lnTo>
                      <a:pt x="4445" y="1154"/>
                    </a:lnTo>
                    <a:lnTo>
                      <a:pt x="4383" y="1056"/>
                    </a:lnTo>
                    <a:lnTo>
                      <a:pt x="4316" y="963"/>
                    </a:lnTo>
                    <a:lnTo>
                      <a:pt x="4244" y="872"/>
                    </a:lnTo>
                    <a:lnTo>
                      <a:pt x="4170" y="785"/>
                    </a:lnTo>
                    <a:lnTo>
                      <a:pt x="4090" y="702"/>
                    </a:lnTo>
                    <a:lnTo>
                      <a:pt x="4007" y="622"/>
                    </a:lnTo>
                    <a:lnTo>
                      <a:pt x="3920" y="548"/>
                    </a:lnTo>
                    <a:lnTo>
                      <a:pt x="3830" y="477"/>
                    </a:lnTo>
                    <a:lnTo>
                      <a:pt x="3736" y="410"/>
                    </a:lnTo>
                    <a:lnTo>
                      <a:pt x="3638" y="347"/>
                    </a:lnTo>
                    <a:lnTo>
                      <a:pt x="3538" y="290"/>
                    </a:lnTo>
                    <a:lnTo>
                      <a:pt x="3435" y="237"/>
                    </a:lnTo>
                    <a:lnTo>
                      <a:pt x="3329" y="189"/>
                    </a:lnTo>
                    <a:lnTo>
                      <a:pt x="3220" y="146"/>
                    </a:lnTo>
                    <a:lnTo>
                      <a:pt x="3109" y="108"/>
                    </a:lnTo>
                    <a:lnTo>
                      <a:pt x="2995" y="76"/>
                    </a:lnTo>
                    <a:lnTo>
                      <a:pt x="2879" y="49"/>
                    </a:lnTo>
                    <a:lnTo>
                      <a:pt x="2761" y="28"/>
                    </a:lnTo>
                    <a:lnTo>
                      <a:pt x="2641" y="13"/>
                    </a:lnTo>
                    <a:lnTo>
                      <a:pt x="2520" y="3"/>
                    </a:lnTo>
                    <a:lnTo>
                      <a:pt x="2396" y="0"/>
                    </a:lnTo>
                    <a:lnTo>
                      <a:pt x="2272" y="3"/>
                    </a:lnTo>
                    <a:lnTo>
                      <a:pt x="2151" y="13"/>
                    </a:lnTo>
                    <a:lnTo>
                      <a:pt x="2032" y="28"/>
                    </a:lnTo>
                    <a:lnTo>
                      <a:pt x="1914" y="49"/>
                    </a:lnTo>
                    <a:lnTo>
                      <a:pt x="1797" y="76"/>
                    </a:lnTo>
                    <a:lnTo>
                      <a:pt x="1684" y="108"/>
                    </a:lnTo>
                    <a:lnTo>
                      <a:pt x="1572" y="146"/>
                    </a:lnTo>
                    <a:lnTo>
                      <a:pt x="1463" y="189"/>
                    </a:lnTo>
                    <a:lnTo>
                      <a:pt x="1357" y="237"/>
                    </a:lnTo>
                    <a:lnTo>
                      <a:pt x="1255" y="290"/>
                    </a:lnTo>
                    <a:lnTo>
                      <a:pt x="1154" y="347"/>
                    </a:lnTo>
                    <a:lnTo>
                      <a:pt x="1057" y="410"/>
                    </a:lnTo>
                    <a:lnTo>
                      <a:pt x="963" y="477"/>
                    </a:lnTo>
                    <a:lnTo>
                      <a:pt x="872" y="548"/>
                    </a:lnTo>
                    <a:lnTo>
                      <a:pt x="786" y="622"/>
                    </a:lnTo>
                    <a:lnTo>
                      <a:pt x="702" y="702"/>
                    </a:lnTo>
                    <a:lnTo>
                      <a:pt x="622" y="785"/>
                    </a:lnTo>
                    <a:lnTo>
                      <a:pt x="547" y="872"/>
                    </a:lnTo>
                    <a:lnTo>
                      <a:pt x="477" y="963"/>
                    </a:lnTo>
                    <a:lnTo>
                      <a:pt x="410" y="1056"/>
                    </a:lnTo>
                    <a:lnTo>
                      <a:pt x="347" y="1154"/>
                    </a:lnTo>
                    <a:lnTo>
                      <a:pt x="290" y="1254"/>
                    </a:lnTo>
                    <a:lnTo>
                      <a:pt x="237" y="1357"/>
                    </a:lnTo>
                    <a:lnTo>
                      <a:pt x="188" y="1464"/>
                    </a:lnTo>
                    <a:lnTo>
                      <a:pt x="146" y="1572"/>
                    </a:lnTo>
                    <a:lnTo>
                      <a:pt x="108" y="1683"/>
                    </a:lnTo>
                    <a:lnTo>
                      <a:pt x="76" y="1797"/>
                    </a:lnTo>
                    <a:lnTo>
                      <a:pt x="49" y="1913"/>
                    </a:lnTo>
                    <a:lnTo>
                      <a:pt x="28" y="2031"/>
                    </a:lnTo>
                    <a:lnTo>
                      <a:pt x="13" y="2151"/>
                    </a:lnTo>
                    <a:lnTo>
                      <a:pt x="3" y="2273"/>
                    </a:lnTo>
                    <a:lnTo>
                      <a:pt x="0" y="2396"/>
                    </a:lnTo>
                    <a:lnTo>
                      <a:pt x="3" y="2519"/>
                    </a:lnTo>
                    <a:lnTo>
                      <a:pt x="13" y="2640"/>
                    </a:lnTo>
                    <a:lnTo>
                      <a:pt x="28" y="2760"/>
                    </a:lnTo>
                    <a:lnTo>
                      <a:pt x="49" y="2878"/>
                    </a:lnTo>
                    <a:lnTo>
                      <a:pt x="76" y="2994"/>
                    </a:lnTo>
                    <a:lnTo>
                      <a:pt x="108" y="3107"/>
                    </a:lnTo>
                    <a:lnTo>
                      <a:pt x="146" y="3219"/>
                    </a:lnTo>
                    <a:lnTo>
                      <a:pt x="188" y="3328"/>
                    </a:lnTo>
                    <a:lnTo>
                      <a:pt x="237" y="3434"/>
                    </a:lnTo>
                    <a:lnTo>
                      <a:pt x="290" y="3537"/>
                    </a:lnTo>
                    <a:lnTo>
                      <a:pt x="347" y="3638"/>
                    </a:lnTo>
                    <a:lnTo>
                      <a:pt x="410" y="3735"/>
                    </a:lnTo>
                    <a:lnTo>
                      <a:pt x="477" y="3828"/>
                    </a:lnTo>
                    <a:lnTo>
                      <a:pt x="547" y="3918"/>
                    </a:lnTo>
                    <a:lnTo>
                      <a:pt x="622" y="4006"/>
                    </a:lnTo>
                    <a:lnTo>
                      <a:pt x="702" y="4089"/>
                    </a:lnTo>
                    <a:lnTo>
                      <a:pt x="786" y="4168"/>
                    </a:lnTo>
                    <a:lnTo>
                      <a:pt x="872" y="4244"/>
                    </a:lnTo>
                    <a:lnTo>
                      <a:pt x="963" y="4315"/>
                    </a:lnTo>
                    <a:lnTo>
                      <a:pt x="1057" y="4381"/>
                    </a:lnTo>
                    <a:lnTo>
                      <a:pt x="1154" y="4443"/>
                    </a:lnTo>
                    <a:lnTo>
                      <a:pt x="1255" y="4502"/>
                    </a:lnTo>
                    <a:lnTo>
                      <a:pt x="1357" y="4555"/>
                    </a:lnTo>
                    <a:lnTo>
                      <a:pt x="1463" y="4602"/>
                    </a:lnTo>
                    <a:lnTo>
                      <a:pt x="1572" y="4645"/>
                    </a:lnTo>
                    <a:lnTo>
                      <a:pt x="1684" y="4682"/>
                    </a:lnTo>
                    <a:lnTo>
                      <a:pt x="1797" y="4714"/>
                    </a:lnTo>
                    <a:lnTo>
                      <a:pt x="1914" y="4741"/>
                    </a:lnTo>
                    <a:lnTo>
                      <a:pt x="2032" y="4763"/>
                    </a:lnTo>
                    <a:lnTo>
                      <a:pt x="2151" y="4778"/>
                    </a:lnTo>
                    <a:lnTo>
                      <a:pt x="2272" y="4787"/>
                    </a:lnTo>
                    <a:lnTo>
                      <a:pt x="2396" y="4790"/>
                    </a:lnTo>
                    <a:lnTo>
                      <a:pt x="2467" y="4789"/>
                    </a:lnTo>
                    <a:lnTo>
                      <a:pt x="2536" y="4786"/>
                    </a:lnTo>
                    <a:lnTo>
                      <a:pt x="2606" y="4781"/>
                    </a:lnTo>
                    <a:lnTo>
                      <a:pt x="2674" y="4774"/>
                    </a:lnTo>
                    <a:lnTo>
                      <a:pt x="2742" y="4765"/>
                    </a:lnTo>
                    <a:lnTo>
                      <a:pt x="2811" y="4754"/>
                    </a:lnTo>
                    <a:lnTo>
                      <a:pt x="2878" y="4741"/>
                    </a:lnTo>
                    <a:lnTo>
                      <a:pt x="2943" y="4727"/>
                    </a:lnTo>
                    <a:lnTo>
                      <a:pt x="3009" y="4711"/>
                    </a:lnTo>
                    <a:lnTo>
                      <a:pt x="3074" y="4693"/>
                    </a:lnTo>
                    <a:lnTo>
                      <a:pt x="3138" y="4673"/>
                    </a:lnTo>
                    <a:lnTo>
                      <a:pt x="3202" y="4652"/>
                    </a:lnTo>
                    <a:lnTo>
                      <a:pt x="3264" y="4628"/>
                    </a:lnTo>
                    <a:lnTo>
                      <a:pt x="3326" y="4603"/>
                    </a:lnTo>
                    <a:lnTo>
                      <a:pt x="3386" y="4576"/>
                    </a:lnTo>
                    <a:lnTo>
                      <a:pt x="3447" y="4548"/>
                    </a:lnTo>
                    <a:lnTo>
                      <a:pt x="3429" y="4510"/>
                    </a:lnTo>
                    <a:lnTo>
                      <a:pt x="3369" y="4538"/>
                    </a:lnTo>
                    <a:lnTo>
                      <a:pt x="3310" y="4564"/>
                    </a:lnTo>
                    <a:lnTo>
                      <a:pt x="3249" y="4589"/>
                    </a:lnTo>
                    <a:lnTo>
                      <a:pt x="3188" y="4612"/>
                    </a:lnTo>
                    <a:lnTo>
                      <a:pt x="3125" y="4633"/>
                    </a:lnTo>
                    <a:lnTo>
                      <a:pt x="3062" y="4653"/>
                    </a:lnTo>
                    <a:lnTo>
                      <a:pt x="2999" y="4671"/>
                    </a:lnTo>
                    <a:lnTo>
                      <a:pt x="2934" y="4686"/>
                    </a:lnTo>
                    <a:lnTo>
                      <a:pt x="2869" y="4701"/>
                    </a:lnTo>
                    <a:lnTo>
                      <a:pt x="2803" y="4713"/>
                    </a:lnTo>
                    <a:lnTo>
                      <a:pt x="2737" y="4724"/>
                    </a:lnTo>
                    <a:lnTo>
                      <a:pt x="2670" y="4733"/>
                    </a:lnTo>
                    <a:lnTo>
                      <a:pt x="2602" y="4739"/>
                    </a:lnTo>
                    <a:lnTo>
                      <a:pt x="2534" y="4745"/>
                    </a:lnTo>
                    <a:lnTo>
                      <a:pt x="2466" y="4748"/>
                    </a:lnTo>
                    <a:lnTo>
                      <a:pt x="2396" y="4749"/>
                    </a:lnTo>
                    <a:lnTo>
                      <a:pt x="2275" y="4746"/>
                    </a:lnTo>
                    <a:lnTo>
                      <a:pt x="2156" y="4736"/>
                    </a:lnTo>
                    <a:lnTo>
                      <a:pt x="2038" y="4722"/>
                    </a:lnTo>
                    <a:lnTo>
                      <a:pt x="1921" y="4700"/>
                    </a:lnTo>
                    <a:lnTo>
                      <a:pt x="1808" y="4674"/>
                    </a:lnTo>
                    <a:lnTo>
                      <a:pt x="1697" y="4643"/>
                    </a:lnTo>
                    <a:lnTo>
                      <a:pt x="1586" y="4605"/>
                    </a:lnTo>
                    <a:lnTo>
                      <a:pt x="1479" y="4563"/>
                    </a:lnTo>
                    <a:lnTo>
                      <a:pt x="1376" y="4517"/>
                    </a:lnTo>
                    <a:lnTo>
                      <a:pt x="1274" y="4465"/>
                    </a:lnTo>
                    <a:lnTo>
                      <a:pt x="1176" y="4408"/>
                    </a:lnTo>
                    <a:lnTo>
                      <a:pt x="1080" y="4346"/>
                    </a:lnTo>
                    <a:lnTo>
                      <a:pt x="988" y="4281"/>
                    </a:lnTo>
                    <a:lnTo>
                      <a:pt x="899" y="4211"/>
                    </a:lnTo>
                    <a:lnTo>
                      <a:pt x="814" y="4138"/>
                    </a:lnTo>
                    <a:lnTo>
                      <a:pt x="732" y="4059"/>
                    </a:lnTo>
                    <a:lnTo>
                      <a:pt x="654" y="3978"/>
                    </a:lnTo>
                    <a:lnTo>
                      <a:pt x="579" y="3893"/>
                    </a:lnTo>
                    <a:lnTo>
                      <a:pt x="510" y="3803"/>
                    </a:lnTo>
                    <a:lnTo>
                      <a:pt x="444" y="3711"/>
                    </a:lnTo>
                    <a:lnTo>
                      <a:pt x="383" y="3616"/>
                    </a:lnTo>
                    <a:lnTo>
                      <a:pt x="326" y="3517"/>
                    </a:lnTo>
                    <a:lnTo>
                      <a:pt x="275" y="3415"/>
                    </a:lnTo>
                    <a:lnTo>
                      <a:pt x="227" y="3312"/>
                    </a:lnTo>
                    <a:lnTo>
                      <a:pt x="185" y="3205"/>
                    </a:lnTo>
                    <a:lnTo>
                      <a:pt x="148" y="3096"/>
                    </a:lnTo>
                    <a:lnTo>
                      <a:pt x="116" y="2983"/>
                    </a:lnTo>
                    <a:lnTo>
                      <a:pt x="90" y="2870"/>
                    </a:lnTo>
                    <a:lnTo>
                      <a:pt x="69" y="2754"/>
                    </a:lnTo>
                    <a:lnTo>
                      <a:pt x="54" y="2637"/>
                    </a:lnTo>
                    <a:lnTo>
                      <a:pt x="45" y="2517"/>
                    </a:lnTo>
                    <a:lnTo>
                      <a:pt x="42" y="2396"/>
                    </a:lnTo>
                    <a:lnTo>
                      <a:pt x="45" y="2275"/>
                    </a:lnTo>
                    <a:lnTo>
                      <a:pt x="54" y="2155"/>
                    </a:lnTo>
                    <a:lnTo>
                      <a:pt x="69" y="2037"/>
                    </a:lnTo>
                    <a:lnTo>
                      <a:pt x="90" y="1922"/>
                    </a:lnTo>
                    <a:lnTo>
                      <a:pt x="116" y="1807"/>
                    </a:lnTo>
                    <a:lnTo>
                      <a:pt x="148" y="1696"/>
                    </a:lnTo>
                    <a:lnTo>
                      <a:pt x="185" y="1587"/>
                    </a:lnTo>
                    <a:lnTo>
                      <a:pt x="227" y="1480"/>
                    </a:lnTo>
                    <a:lnTo>
                      <a:pt x="275" y="1375"/>
                    </a:lnTo>
                    <a:lnTo>
                      <a:pt x="326" y="1274"/>
                    </a:lnTo>
                    <a:lnTo>
                      <a:pt x="383" y="1175"/>
                    </a:lnTo>
                    <a:lnTo>
                      <a:pt x="444" y="1080"/>
                    </a:lnTo>
                    <a:lnTo>
                      <a:pt x="510" y="987"/>
                    </a:lnTo>
                    <a:lnTo>
                      <a:pt x="579" y="899"/>
                    </a:lnTo>
                    <a:lnTo>
                      <a:pt x="654" y="813"/>
                    </a:lnTo>
                    <a:lnTo>
                      <a:pt x="732" y="731"/>
                    </a:lnTo>
                    <a:lnTo>
                      <a:pt x="814" y="654"/>
                    </a:lnTo>
                    <a:lnTo>
                      <a:pt x="899" y="579"/>
                    </a:lnTo>
                    <a:lnTo>
                      <a:pt x="988" y="510"/>
                    </a:lnTo>
                    <a:lnTo>
                      <a:pt x="1080" y="444"/>
                    </a:lnTo>
                    <a:lnTo>
                      <a:pt x="1176" y="383"/>
                    </a:lnTo>
                    <a:lnTo>
                      <a:pt x="1274" y="326"/>
                    </a:lnTo>
                    <a:lnTo>
                      <a:pt x="1376" y="275"/>
                    </a:lnTo>
                    <a:lnTo>
                      <a:pt x="1479" y="227"/>
                    </a:lnTo>
                    <a:lnTo>
                      <a:pt x="1586" y="185"/>
                    </a:lnTo>
                    <a:lnTo>
                      <a:pt x="1697" y="148"/>
                    </a:lnTo>
                    <a:lnTo>
                      <a:pt x="1808" y="116"/>
                    </a:lnTo>
                    <a:lnTo>
                      <a:pt x="1921" y="90"/>
                    </a:lnTo>
                    <a:lnTo>
                      <a:pt x="2038" y="69"/>
                    </a:lnTo>
                    <a:lnTo>
                      <a:pt x="2156" y="54"/>
                    </a:lnTo>
                    <a:lnTo>
                      <a:pt x="2275" y="46"/>
                    </a:lnTo>
                    <a:lnTo>
                      <a:pt x="2396" y="42"/>
                    </a:lnTo>
                    <a:lnTo>
                      <a:pt x="2518" y="46"/>
                    </a:lnTo>
                    <a:lnTo>
                      <a:pt x="2637" y="54"/>
                    </a:lnTo>
                    <a:lnTo>
                      <a:pt x="2754" y="69"/>
                    </a:lnTo>
                    <a:lnTo>
                      <a:pt x="2871" y="90"/>
                    </a:lnTo>
                    <a:lnTo>
                      <a:pt x="2985" y="116"/>
                    </a:lnTo>
                    <a:lnTo>
                      <a:pt x="3096" y="148"/>
                    </a:lnTo>
                    <a:lnTo>
                      <a:pt x="3206" y="185"/>
                    </a:lnTo>
                    <a:lnTo>
                      <a:pt x="3313" y="227"/>
                    </a:lnTo>
                    <a:lnTo>
                      <a:pt x="3417" y="275"/>
                    </a:lnTo>
                    <a:lnTo>
                      <a:pt x="3518" y="326"/>
                    </a:lnTo>
                    <a:lnTo>
                      <a:pt x="3617" y="383"/>
                    </a:lnTo>
                    <a:lnTo>
                      <a:pt x="3713" y="444"/>
                    </a:lnTo>
                    <a:lnTo>
                      <a:pt x="3805" y="510"/>
                    </a:lnTo>
                    <a:lnTo>
                      <a:pt x="3893" y="579"/>
                    </a:lnTo>
                    <a:lnTo>
                      <a:pt x="3979" y="654"/>
                    </a:lnTo>
                    <a:lnTo>
                      <a:pt x="4061" y="731"/>
                    </a:lnTo>
                    <a:lnTo>
                      <a:pt x="4139" y="813"/>
                    </a:lnTo>
                    <a:lnTo>
                      <a:pt x="4213" y="899"/>
                    </a:lnTo>
                    <a:lnTo>
                      <a:pt x="4282" y="987"/>
                    </a:lnTo>
                    <a:lnTo>
                      <a:pt x="4348" y="1080"/>
                    </a:lnTo>
                    <a:lnTo>
                      <a:pt x="4410" y="1175"/>
                    </a:lnTo>
                    <a:lnTo>
                      <a:pt x="4466" y="1274"/>
                    </a:lnTo>
                    <a:lnTo>
                      <a:pt x="4518" y="1375"/>
                    </a:lnTo>
                    <a:lnTo>
                      <a:pt x="4565" y="1480"/>
                    </a:lnTo>
                    <a:lnTo>
                      <a:pt x="4608" y="1587"/>
                    </a:lnTo>
                    <a:lnTo>
                      <a:pt x="4644" y="1696"/>
                    </a:lnTo>
                    <a:lnTo>
                      <a:pt x="4677" y="1807"/>
                    </a:lnTo>
                    <a:lnTo>
                      <a:pt x="4703" y="1922"/>
                    </a:lnTo>
                    <a:lnTo>
                      <a:pt x="4723" y="2037"/>
                    </a:lnTo>
                    <a:lnTo>
                      <a:pt x="4738" y="2155"/>
                    </a:lnTo>
                    <a:lnTo>
                      <a:pt x="4747" y="2275"/>
                    </a:lnTo>
                    <a:lnTo>
                      <a:pt x="4750" y="2396"/>
                    </a:lnTo>
                    <a:lnTo>
                      <a:pt x="4750" y="2435"/>
                    </a:lnTo>
                    <a:lnTo>
                      <a:pt x="4749" y="2475"/>
                    </a:lnTo>
                    <a:lnTo>
                      <a:pt x="4748" y="2513"/>
                    </a:lnTo>
                    <a:lnTo>
                      <a:pt x="4745" y="2553"/>
                    </a:lnTo>
                    <a:lnTo>
                      <a:pt x="4743" y="2592"/>
                    </a:lnTo>
                    <a:lnTo>
                      <a:pt x="4738" y="2630"/>
                    </a:lnTo>
                    <a:lnTo>
                      <a:pt x="4735" y="2669"/>
                    </a:lnTo>
                    <a:lnTo>
                      <a:pt x="4730" y="2708"/>
                    </a:lnTo>
                    <a:lnTo>
                      <a:pt x="4724" y="2746"/>
                    </a:lnTo>
                    <a:lnTo>
                      <a:pt x="4719" y="2783"/>
                    </a:lnTo>
                    <a:lnTo>
                      <a:pt x="4712" y="2821"/>
                    </a:lnTo>
                    <a:lnTo>
                      <a:pt x="4705" y="2859"/>
                    </a:lnTo>
                    <a:lnTo>
                      <a:pt x="4697" y="2897"/>
                    </a:lnTo>
                    <a:lnTo>
                      <a:pt x="4689" y="2934"/>
                    </a:lnTo>
                    <a:lnTo>
                      <a:pt x="4680" y="2970"/>
                    </a:lnTo>
                    <a:lnTo>
                      <a:pt x="4670" y="3007"/>
                    </a:lnTo>
                    <a:lnTo>
                      <a:pt x="4710" y="3018"/>
                    </a:lnTo>
                    <a:lnTo>
                      <a:pt x="4720" y="2981"/>
                    </a:lnTo>
                    <a:lnTo>
                      <a:pt x="4729" y="2943"/>
                    </a:lnTo>
                    <a:lnTo>
                      <a:pt x="4737" y="2905"/>
                    </a:lnTo>
                    <a:lnTo>
                      <a:pt x="4746" y="2868"/>
                    </a:lnTo>
                    <a:lnTo>
                      <a:pt x="4752" y="2829"/>
                    </a:lnTo>
                    <a:lnTo>
                      <a:pt x="4760" y="2791"/>
                    </a:lnTo>
                    <a:lnTo>
                      <a:pt x="4765" y="2752"/>
                    </a:lnTo>
                    <a:lnTo>
                      <a:pt x="4771" y="2713"/>
                    </a:lnTo>
                    <a:lnTo>
                      <a:pt x="4776" y="2674"/>
                    </a:lnTo>
                    <a:lnTo>
                      <a:pt x="4780" y="2634"/>
                    </a:lnTo>
                    <a:lnTo>
                      <a:pt x="4784" y="2595"/>
                    </a:lnTo>
                    <a:lnTo>
                      <a:pt x="4787" y="2556"/>
                    </a:lnTo>
                    <a:lnTo>
                      <a:pt x="4789" y="2516"/>
                    </a:lnTo>
                    <a:lnTo>
                      <a:pt x="4791" y="2476"/>
                    </a:lnTo>
                    <a:lnTo>
                      <a:pt x="4792" y="2436"/>
                    </a:lnTo>
                    <a:lnTo>
                      <a:pt x="4792" y="2396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630600" y="2055600"/>
                <a:ext cx="1886040" cy="1884600"/>
              </a:xfrm>
              <a:custGeom>
                <a:avLst/>
                <a:gdLst/>
                <a:ahLst/>
                <a:rect l="l" t="t" r="r" b="b"/>
                <a:pathLst>
                  <a:path w="4751" h="4748">
                    <a:moveTo>
                      <a:pt x="4751" y="2374"/>
                    </a:moveTo>
                    <a:lnTo>
                      <a:pt x="4748" y="2252"/>
                    </a:lnTo>
                    <a:lnTo>
                      <a:pt x="4738" y="2131"/>
                    </a:lnTo>
                    <a:lnTo>
                      <a:pt x="4723" y="2012"/>
                    </a:lnTo>
                    <a:lnTo>
                      <a:pt x="4702" y="1895"/>
                    </a:lnTo>
                    <a:lnTo>
                      <a:pt x="4675" y="1780"/>
                    </a:lnTo>
                    <a:lnTo>
                      <a:pt x="4644" y="1667"/>
                    </a:lnTo>
                    <a:lnTo>
                      <a:pt x="4606" y="1557"/>
                    </a:lnTo>
                    <a:lnTo>
                      <a:pt x="4564" y="1449"/>
                    </a:lnTo>
                    <a:lnTo>
                      <a:pt x="4516" y="1344"/>
                    </a:lnTo>
                    <a:lnTo>
                      <a:pt x="4463" y="1242"/>
                    </a:lnTo>
                    <a:lnTo>
                      <a:pt x="4406" y="1142"/>
                    </a:lnTo>
                    <a:lnTo>
                      <a:pt x="4344" y="1046"/>
                    </a:lnTo>
                    <a:lnTo>
                      <a:pt x="4279" y="953"/>
                    </a:lnTo>
                    <a:lnTo>
                      <a:pt x="4208" y="864"/>
                    </a:lnTo>
                    <a:lnTo>
                      <a:pt x="4133" y="777"/>
                    </a:lnTo>
                    <a:lnTo>
                      <a:pt x="4055" y="694"/>
                    </a:lnTo>
                    <a:lnTo>
                      <a:pt x="3972" y="617"/>
                    </a:lnTo>
                    <a:lnTo>
                      <a:pt x="3886" y="542"/>
                    </a:lnTo>
                    <a:lnTo>
                      <a:pt x="3797" y="471"/>
                    </a:lnTo>
                    <a:lnTo>
                      <a:pt x="3703" y="405"/>
                    </a:lnTo>
                    <a:lnTo>
                      <a:pt x="3606" y="343"/>
                    </a:lnTo>
                    <a:lnTo>
                      <a:pt x="3507" y="286"/>
                    </a:lnTo>
                    <a:lnTo>
                      <a:pt x="3404" y="233"/>
                    </a:lnTo>
                    <a:lnTo>
                      <a:pt x="3300" y="186"/>
                    </a:lnTo>
                    <a:lnTo>
                      <a:pt x="3192" y="143"/>
                    </a:lnTo>
                    <a:lnTo>
                      <a:pt x="3081" y="106"/>
                    </a:lnTo>
                    <a:lnTo>
                      <a:pt x="2969" y="74"/>
                    </a:lnTo>
                    <a:lnTo>
                      <a:pt x="2853" y="47"/>
                    </a:lnTo>
                    <a:lnTo>
                      <a:pt x="2737" y="27"/>
                    </a:lnTo>
                    <a:lnTo>
                      <a:pt x="2618" y="12"/>
                    </a:lnTo>
                    <a:lnTo>
                      <a:pt x="2498" y="2"/>
                    </a:lnTo>
                    <a:lnTo>
                      <a:pt x="2375" y="0"/>
                    </a:lnTo>
                    <a:lnTo>
                      <a:pt x="2253" y="2"/>
                    </a:lnTo>
                    <a:lnTo>
                      <a:pt x="2133" y="12"/>
                    </a:lnTo>
                    <a:lnTo>
                      <a:pt x="2014" y="27"/>
                    </a:lnTo>
                    <a:lnTo>
                      <a:pt x="1897" y="47"/>
                    </a:lnTo>
                    <a:lnTo>
                      <a:pt x="1781" y="74"/>
                    </a:lnTo>
                    <a:lnTo>
                      <a:pt x="1669" y="106"/>
                    </a:lnTo>
                    <a:lnTo>
                      <a:pt x="1559" y="143"/>
                    </a:lnTo>
                    <a:lnTo>
                      <a:pt x="1451" y="186"/>
                    </a:lnTo>
                    <a:lnTo>
                      <a:pt x="1346" y="233"/>
                    </a:lnTo>
                    <a:lnTo>
                      <a:pt x="1243" y="286"/>
                    </a:lnTo>
                    <a:lnTo>
                      <a:pt x="1144" y="343"/>
                    </a:lnTo>
                    <a:lnTo>
                      <a:pt x="1048" y="405"/>
                    </a:lnTo>
                    <a:lnTo>
                      <a:pt x="954" y="471"/>
                    </a:lnTo>
                    <a:lnTo>
                      <a:pt x="864" y="542"/>
                    </a:lnTo>
                    <a:lnTo>
                      <a:pt x="779" y="617"/>
                    </a:lnTo>
                    <a:lnTo>
                      <a:pt x="695" y="694"/>
                    </a:lnTo>
                    <a:lnTo>
                      <a:pt x="617" y="777"/>
                    </a:lnTo>
                    <a:lnTo>
                      <a:pt x="542" y="864"/>
                    </a:lnTo>
                    <a:lnTo>
                      <a:pt x="472" y="953"/>
                    </a:lnTo>
                    <a:lnTo>
                      <a:pt x="406" y="1046"/>
                    </a:lnTo>
                    <a:lnTo>
                      <a:pt x="344" y="1142"/>
                    </a:lnTo>
                    <a:lnTo>
                      <a:pt x="287" y="1242"/>
                    </a:lnTo>
                    <a:lnTo>
                      <a:pt x="234" y="1344"/>
                    </a:lnTo>
                    <a:lnTo>
                      <a:pt x="187" y="1449"/>
                    </a:lnTo>
                    <a:lnTo>
                      <a:pt x="144" y="1557"/>
                    </a:lnTo>
                    <a:lnTo>
                      <a:pt x="107" y="1667"/>
                    </a:lnTo>
                    <a:lnTo>
                      <a:pt x="75" y="1780"/>
                    </a:lnTo>
                    <a:lnTo>
                      <a:pt x="48" y="1895"/>
                    </a:lnTo>
                    <a:lnTo>
                      <a:pt x="28" y="2012"/>
                    </a:lnTo>
                    <a:lnTo>
                      <a:pt x="13" y="2131"/>
                    </a:lnTo>
                    <a:lnTo>
                      <a:pt x="3" y="2252"/>
                    </a:lnTo>
                    <a:lnTo>
                      <a:pt x="0" y="2374"/>
                    </a:lnTo>
                    <a:lnTo>
                      <a:pt x="3" y="2496"/>
                    </a:lnTo>
                    <a:lnTo>
                      <a:pt x="13" y="2616"/>
                    </a:lnTo>
                    <a:lnTo>
                      <a:pt x="28" y="2735"/>
                    </a:lnTo>
                    <a:lnTo>
                      <a:pt x="48" y="2852"/>
                    </a:lnTo>
                    <a:lnTo>
                      <a:pt x="75" y="2967"/>
                    </a:lnTo>
                    <a:lnTo>
                      <a:pt x="107" y="3079"/>
                    </a:lnTo>
                    <a:lnTo>
                      <a:pt x="144" y="3190"/>
                    </a:lnTo>
                    <a:lnTo>
                      <a:pt x="187" y="3297"/>
                    </a:lnTo>
                    <a:lnTo>
                      <a:pt x="234" y="3403"/>
                    </a:lnTo>
                    <a:lnTo>
                      <a:pt x="287" y="3504"/>
                    </a:lnTo>
                    <a:lnTo>
                      <a:pt x="344" y="3605"/>
                    </a:lnTo>
                    <a:lnTo>
                      <a:pt x="406" y="3701"/>
                    </a:lnTo>
                    <a:lnTo>
                      <a:pt x="472" y="3794"/>
                    </a:lnTo>
                    <a:lnTo>
                      <a:pt x="542" y="3884"/>
                    </a:lnTo>
                    <a:lnTo>
                      <a:pt x="617" y="3970"/>
                    </a:lnTo>
                    <a:lnTo>
                      <a:pt x="695" y="4052"/>
                    </a:lnTo>
                    <a:lnTo>
                      <a:pt x="779" y="4131"/>
                    </a:lnTo>
                    <a:lnTo>
                      <a:pt x="864" y="4205"/>
                    </a:lnTo>
                    <a:lnTo>
                      <a:pt x="954" y="4276"/>
                    </a:lnTo>
                    <a:lnTo>
                      <a:pt x="1048" y="4341"/>
                    </a:lnTo>
                    <a:lnTo>
                      <a:pt x="1144" y="4404"/>
                    </a:lnTo>
                    <a:lnTo>
                      <a:pt x="1243" y="4461"/>
                    </a:lnTo>
                    <a:lnTo>
                      <a:pt x="1346" y="4513"/>
                    </a:lnTo>
                    <a:lnTo>
                      <a:pt x="1451" y="4561"/>
                    </a:lnTo>
                    <a:lnTo>
                      <a:pt x="1559" y="4604"/>
                    </a:lnTo>
                    <a:lnTo>
                      <a:pt x="1669" y="4641"/>
                    </a:lnTo>
                    <a:lnTo>
                      <a:pt x="1781" y="4673"/>
                    </a:lnTo>
                    <a:lnTo>
                      <a:pt x="1897" y="4699"/>
                    </a:lnTo>
                    <a:lnTo>
                      <a:pt x="2014" y="4721"/>
                    </a:lnTo>
                    <a:lnTo>
                      <a:pt x="2133" y="4736"/>
                    </a:lnTo>
                    <a:lnTo>
                      <a:pt x="2253" y="4744"/>
                    </a:lnTo>
                    <a:lnTo>
                      <a:pt x="2375" y="4748"/>
                    </a:lnTo>
                    <a:lnTo>
                      <a:pt x="2445" y="4746"/>
                    </a:lnTo>
                    <a:lnTo>
                      <a:pt x="2514" y="4743"/>
                    </a:lnTo>
                    <a:lnTo>
                      <a:pt x="2583" y="4739"/>
                    </a:lnTo>
                    <a:lnTo>
                      <a:pt x="2651" y="4731"/>
                    </a:lnTo>
                    <a:lnTo>
                      <a:pt x="2719" y="4723"/>
                    </a:lnTo>
                    <a:lnTo>
                      <a:pt x="2786" y="4712"/>
                    </a:lnTo>
                    <a:lnTo>
                      <a:pt x="2852" y="4700"/>
                    </a:lnTo>
                    <a:lnTo>
                      <a:pt x="2918" y="4685"/>
                    </a:lnTo>
                    <a:lnTo>
                      <a:pt x="2983" y="4669"/>
                    </a:lnTo>
                    <a:lnTo>
                      <a:pt x="3048" y="4651"/>
                    </a:lnTo>
                    <a:lnTo>
                      <a:pt x="3110" y="4631"/>
                    </a:lnTo>
                    <a:lnTo>
                      <a:pt x="3173" y="4609"/>
                    </a:lnTo>
                    <a:lnTo>
                      <a:pt x="3236" y="4587"/>
                    </a:lnTo>
                    <a:lnTo>
                      <a:pt x="3296" y="4562"/>
                    </a:lnTo>
                    <a:lnTo>
                      <a:pt x="3357" y="4536"/>
                    </a:lnTo>
                    <a:lnTo>
                      <a:pt x="3416" y="4508"/>
                    </a:lnTo>
                    <a:lnTo>
                      <a:pt x="3398" y="4470"/>
                    </a:lnTo>
                    <a:lnTo>
                      <a:pt x="3340" y="4498"/>
                    </a:lnTo>
                    <a:lnTo>
                      <a:pt x="3280" y="4524"/>
                    </a:lnTo>
                    <a:lnTo>
                      <a:pt x="3221" y="4548"/>
                    </a:lnTo>
                    <a:lnTo>
                      <a:pt x="3159" y="4570"/>
                    </a:lnTo>
                    <a:lnTo>
                      <a:pt x="3098" y="4592"/>
                    </a:lnTo>
                    <a:lnTo>
                      <a:pt x="3036" y="4611"/>
                    </a:lnTo>
                    <a:lnTo>
                      <a:pt x="2972" y="4629"/>
                    </a:lnTo>
                    <a:lnTo>
                      <a:pt x="2908" y="4645"/>
                    </a:lnTo>
                    <a:lnTo>
                      <a:pt x="2844" y="4659"/>
                    </a:lnTo>
                    <a:lnTo>
                      <a:pt x="2779" y="4671"/>
                    </a:lnTo>
                    <a:lnTo>
                      <a:pt x="2713" y="4682"/>
                    </a:lnTo>
                    <a:lnTo>
                      <a:pt x="2646" y="4690"/>
                    </a:lnTo>
                    <a:lnTo>
                      <a:pt x="2579" y="4697"/>
                    </a:lnTo>
                    <a:lnTo>
                      <a:pt x="2512" y="4702"/>
                    </a:lnTo>
                    <a:lnTo>
                      <a:pt x="2444" y="4704"/>
                    </a:lnTo>
                    <a:lnTo>
                      <a:pt x="2375" y="4705"/>
                    </a:lnTo>
                    <a:lnTo>
                      <a:pt x="2255" y="4703"/>
                    </a:lnTo>
                    <a:lnTo>
                      <a:pt x="2137" y="4694"/>
                    </a:lnTo>
                    <a:lnTo>
                      <a:pt x="2020" y="4678"/>
                    </a:lnTo>
                    <a:lnTo>
                      <a:pt x="1905" y="4658"/>
                    </a:lnTo>
                    <a:lnTo>
                      <a:pt x="1792" y="4632"/>
                    </a:lnTo>
                    <a:lnTo>
                      <a:pt x="1681" y="4601"/>
                    </a:lnTo>
                    <a:lnTo>
                      <a:pt x="1573" y="4564"/>
                    </a:lnTo>
                    <a:lnTo>
                      <a:pt x="1467" y="4523"/>
                    </a:lnTo>
                    <a:lnTo>
                      <a:pt x="1363" y="4475"/>
                    </a:lnTo>
                    <a:lnTo>
                      <a:pt x="1263" y="4425"/>
                    </a:lnTo>
                    <a:lnTo>
                      <a:pt x="1166" y="4368"/>
                    </a:lnTo>
                    <a:lnTo>
                      <a:pt x="1070" y="4307"/>
                    </a:lnTo>
                    <a:lnTo>
                      <a:pt x="979" y="4242"/>
                    </a:lnTo>
                    <a:lnTo>
                      <a:pt x="891" y="4173"/>
                    </a:lnTo>
                    <a:lnTo>
                      <a:pt x="807" y="4100"/>
                    </a:lnTo>
                    <a:lnTo>
                      <a:pt x="726" y="4023"/>
                    </a:lnTo>
                    <a:lnTo>
                      <a:pt x="648" y="3942"/>
                    </a:lnTo>
                    <a:lnTo>
                      <a:pt x="574" y="3857"/>
                    </a:lnTo>
                    <a:lnTo>
                      <a:pt x="505" y="3769"/>
                    </a:lnTo>
                    <a:lnTo>
                      <a:pt x="440" y="3677"/>
                    </a:lnTo>
                    <a:lnTo>
                      <a:pt x="380" y="3583"/>
                    </a:lnTo>
                    <a:lnTo>
                      <a:pt x="324" y="3485"/>
                    </a:lnTo>
                    <a:lnTo>
                      <a:pt x="272" y="3385"/>
                    </a:lnTo>
                    <a:lnTo>
                      <a:pt x="225" y="3281"/>
                    </a:lnTo>
                    <a:lnTo>
                      <a:pt x="183" y="3175"/>
                    </a:lnTo>
                    <a:lnTo>
                      <a:pt x="147" y="3067"/>
                    </a:lnTo>
                    <a:lnTo>
                      <a:pt x="115" y="2956"/>
                    </a:lnTo>
                    <a:lnTo>
                      <a:pt x="89" y="2843"/>
                    </a:lnTo>
                    <a:lnTo>
                      <a:pt x="69" y="2729"/>
                    </a:lnTo>
                    <a:lnTo>
                      <a:pt x="54" y="2612"/>
                    </a:lnTo>
                    <a:lnTo>
                      <a:pt x="45" y="2494"/>
                    </a:lnTo>
                    <a:lnTo>
                      <a:pt x="42" y="2374"/>
                    </a:lnTo>
                    <a:lnTo>
                      <a:pt x="45" y="2254"/>
                    </a:lnTo>
                    <a:lnTo>
                      <a:pt x="54" y="2135"/>
                    </a:lnTo>
                    <a:lnTo>
                      <a:pt x="69" y="2018"/>
                    </a:lnTo>
                    <a:lnTo>
                      <a:pt x="89" y="1904"/>
                    </a:lnTo>
                    <a:lnTo>
                      <a:pt x="115" y="1790"/>
                    </a:lnTo>
                    <a:lnTo>
                      <a:pt x="147" y="1680"/>
                    </a:lnTo>
                    <a:lnTo>
                      <a:pt x="183" y="1571"/>
                    </a:lnTo>
                    <a:lnTo>
                      <a:pt x="225" y="1465"/>
                    </a:lnTo>
                    <a:lnTo>
                      <a:pt x="272" y="1363"/>
                    </a:lnTo>
                    <a:lnTo>
                      <a:pt x="324" y="1261"/>
                    </a:lnTo>
                    <a:lnTo>
                      <a:pt x="380" y="1164"/>
                    </a:lnTo>
                    <a:lnTo>
                      <a:pt x="440" y="1069"/>
                    </a:lnTo>
                    <a:lnTo>
                      <a:pt x="505" y="978"/>
                    </a:lnTo>
                    <a:lnTo>
                      <a:pt x="574" y="890"/>
                    </a:lnTo>
                    <a:lnTo>
                      <a:pt x="648" y="806"/>
                    </a:lnTo>
                    <a:lnTo>
                      <a:pt x="726" y="725"/>
                    </a:lnTo>
                    <a:lnTo>
                      <a:pt x="807" y="647"/>
                    </a:lnTo>
                    <a:lnTo>
                      <a:pt x="891" y="573"/>
                    </a:lnTo>
                    <a:lnTo>
                      <a:pt x="979" y="504"/>
                    </a:lnTo>
                    <a:lnTo>
                      <a:pt x="1070" y="439"/>
                    </a:lnTo>
                    <a:lnTo>
                      <a:pt x="1166" y="379"/>
                    </a:lnTo>
                    <a:lnTo>
                      <a:pt x="1263" y="323"/>
                    </a:lnTo>
                    <a:lnTo>
                      <a:pt x="1363" y="271"/>
                    </a:lnTo>
                    <a:lnTo>
                      <a:pt x="1467" y="224"/>
                    </a:lnTo>
                    <a:lnTo>
                      <a:pt x="1573" y="182"/>
                    </a:lnTo>
                    <a:lnTo>
                      <a:pt x="1681" y="146"/>
                    </a:lnTo>
                    <a:lnTo>
                      <a:pt x="1792" y="114"/>
                    </a:lnTo>
                    <a:lnTo>
                      <a:pt x="1905" y="88"/>
                    </a:lnTo>
                    <a:lnTo>
                      <a:pt x="2020" y="68"/>
                    </a:lnTo>
                    <a:lnTo>
                      <a:pt x="2137" y="53"/>
                    </a:lnTo>
                    <a:lnTo>
                      <a:pt x="2255" y="44"/>
                    </a:lnTo>
                    <a:lnTo>
                      <a:pt x="2375" y="41"/>
                    </a:lnTo>
                    <a:lnTo>
                      <a:pt x="2496" y="44"/>
                    </a:lnTo>
                    <a:lnTo>
                      <a:pt x="2613" y="53"/>
                    </a:lnTo>
                    <a:lnTo>
                      <a:pt x="2730" y="68"/>
                    </a:lnTo>
                    <a:lnTo>
                      <a:pt x="2846" y="88"/>
                    </a:lnTo>
                    <a:lnTo>
                      <a:pt x="2958" y="114"/>
                    </a:lnTo>
                    <a:lnTo>
                      <a:pt x="3069" y="146"/>
                    </a:lnTo>
                    <a:lnTo>
                      <a:pt x="3177" y="182"/>
                    </a:lnTo>
                    <a:lnTo>
                      <a:pt x="3283" y="224"/>
                    </a:lnTo>
                    <a:lnTo>
                      <a:pt x="3387" y="271"/>
                    </a:lnTo>
                    <a:lnTo>
                      <a:pt x="3488" y="323"/>
                    </a:lnTo>
                    <a:lnTo>
                      <a:pt x="3585" y="379"/>
                    </a:lnTo>
                    <a:lnTo>
                      <a:pt x="3680" y="439"/>
                    </a:lnTo>
                    <a:lnTo>
                      <a:pt x="3771" y="504"/>
                    </a:lnTo>
                    <a:lnTo>
                      <a:pt x="3859" y="573"/>
                    </a:lnTo>
                    <a:lnTo>
                      <a:pt x="3944" y="647"/>
                    </a:lnTo>
                    <a:lnTo>
                      <a:pt x="4025" y="725"/>
                    </a:lnTo>
                    <a:lnTo>
                      <a:pt x="4102" y="806"/>
                    </a:lnTo>
                    <a:lnTo>
                      <a:pt x="4176" y="890"/>
                    </a:lnTo>
                    <a:lnTo>
                      <a:pt x="4245" y="978"/>
                    </a:lnTo>
                    <a:lnTo>
                      <a:pt x="4310" y="1069"/>
                    </a:lnTo>
                    <a:lnTo>
                      <a:pt x="4370" y="1164"/>
                    </a:lnTo>
                    <a:lnTo>
                      <a:pt x="4427" y="1261"/>
                    </a:lnTo>
                    <a:lnTo>
                      <a:pt x="4478" y="1363"/>
                    </a:lnTo>
                    <a:lnTo>
                      <a:pt x="4525" y="1465"/>
                    </a:lnTo>
                    <a:lnTo>
                      <a:pt x="4567" y="1571"/>
                    </a:lnTo>
                    <a:lnTo>
                      <a:pt x="4604" y="1680"/>
                    </a:lnTo>
                    <a:lnTo>
                      <a:pt x="4635" y="1790"/>
                    </a:lnTo>
                    <a:lnTo>
                      <a:pt x="4661" y="1904"/>
                    </a:lnTo>
                    <a:lnTo>
                      <a:pt x="4682" y="2018"/>
                    </a:lnTo>
                    <a:lnTo>
                      <a:pt x="4697" y="2135"/>
                    </a:lnTo>
                    <a:lnTo>
                      <a:pt x="4705" y="2254"/>
                    </a:lnTo>
                    <a:lnTo>
                      <a:pt x="4709" y="2374"/>
                    </a:lnTo>
                    <a:lnTo>
                      <a:pt x="4709" y="2413"/>
                    </a:lnTo>
                    <a:lnTo>
                      <a:pt x="4708" y="2451"/>
                    </a:lnTo>
                    <a:lnTo>
                      <a:pt x="4705" y="2490"/>
                    </a:lnTo>
                    <a:lnTo>
                      <a:pt x="4703" y="2529"/>
                    </a:lnTo>
                    <a:lnTo>
                      <a:pt x="4701" y="2568"/>
                    </a:lnTo>
                    <a:lnTo>
                      <a:pt x="4697" y="2607"/>
                    </a:lnTo>
                    <a:lnTo>
                      <a:pt x="4692" y="2645"/>
                    </a:lnTo>
                    <a:lnTo>
                      <a:pt x="4688" y="2683"/>
                    </a:lnTo>
                    <a:lnTo>
                      <a:pt x="4683" y="2720"/>
                    </a:lnTo>
                    <a:lnTo>
                      <a:pt x="4677" y="2758"/>
                    </a:lnTo>
                    <a:lnTo>
                      <a:pt x="4671" y="2796"/>
                    </a:lnTo>
                    <a:lnTo>
                      <a:pt x="4663" y="2833"/>
                    </a:lnTo>
                    <a:lnTo>
                      <a:pt x="4656" y="2870"/>
                    </a:lnTo>
                    <a:lnTo>
                      <a:pt x="4647" y="2907"/>
                    </a:lnTo>
                    <a:lnTo>
                      <a:pt x="4638" y="2943"/>
                    </a:lnTo>
                    <a:lnTo>
                      <a:pt x="4629" y="2980"/>
                    </a:lnTo>
                    <a:lnTo>
                      <a:pt x="4669" y="2990"/>
                    </a:lnTo>
                    <a:lnTo>
                      <a:pt x="4678" y="2954"/>
                    </a:lnTo>
                    <a:lnTo>
                      <a:pt x="4688" y="2916"/>
                    </a:lnTo>
                    <a:lnTo>
                      <a:pt x="4696" y="2879"/>
                    </a:lnTo>
                    <a:lnTo>
                      <a:pt x="4704" y="2841"/>
                    </a:lnTo>
                    <a:lnTo>
                      <a:pt x="4711" y="2804"/>
                    </a:lnTo>
                    <a:lnTo>
                      <a:pt x="4718" y="2765"/>
                    </a:lnTo>
                    <a:lnTo>
                      <a:pt x="4724" y="2727"/>
                    </a:lnTo>
                    <a:lnTo>
                      <a:pt x="4729" y="2688"/>
                    </a:lnTo>
                    <a:lnTo>
                      <a:pt x="4735" y="2649"/>
                    </a:lnTo>
                    <a:lnTo>
                      <a:pt x="4739" y="2610"/>
                    </a:lnTo>
                    <a:lnTo>
                      <a:pt x="4742" y="2571"/>
                    </a:lnTo>
                    <a:lnTo>
                      <a:pt x="4745" y="2532"/>
                    </a:lnTo>
                    <a:lnTo>
                      <a:pt x="4748" y="2492"/>
                    </a:lnTo>
                    <a:lnTo>
                      <a:pt x="4749" y="2454"/>
                    </a:lnTo>
                    <a:lnTo>
                      <a:pt x="4750" y="2414"/>
                    </a:lnTo>
                    <a:lnTo>
                      <a:pt x="4751" y="237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639960" y="2063520"/>
                <a:ext cx="1868760" cy="1868760"/>
              </a:xfrm>
              <a:custGeom>
                <a:avLst/>
                <a:gdLst/>
                <a:ahLst/>
                <a:rect l="l" t="t" r="r" b="b"/>
                <a:pathLst>
                  <a:path w="4708" h="4707">
                    <a:moveTo>
                      <a:pt x="4708" y="2354"/>
                    </a:moveTo>
                    <a:lnTo>
                      <a:pt x="4705" y="2233"/>
                    </a:lnTo>
                    <a:lnTo>
                      <a:pt x="4696" y="2113"/>
                    </a:lnTo>
                    <a:lnTo>
                      <a:pt x="4681" y="1995"/>
                    </a:lnTo>
                    <a:lnTo>
                      <a:pt x="4661" y="1880"/>
                    </a:lnTo>
                    <a:lnTo>
                      <a:pt x="4635" y="1765"/>
                    </a:lnTo>
                    <a:lnTo>
                      <a:pt x="4602" y="1654"/>
                    </a:lnTo>
                    <a:lnTo>
                      <a:pt x="4566" y="1545"/>
                    </a:lnTo>
                    <a:lnTo>
                      <a:pt x="4523" y="1438"/>
                    </a:lnTo>
                    <a:lnTo>
                      <a:pt x="4476" y="1333"/>
                    </a:lnTo>
                    <a:lnTo>
                      <a:pt x="4424" y="1232"/>
                    </a:lnTo>
                    <a:lnTo>
                      <a:pt x="4368" y="1133"/>
                    </a:lnTo>
                    <a:lnTo>
                      <a:pt x="4306" y="1038"/>
                    </a:lnTo>
                    <a:lnTo>
                      <a:pt x="4240" y="945"/>
                    </a:lnTo>
                    <a:lnTo>
                      <a:pt x="4171" y="857"/>
                    </a:lnTo>
                    <a:lnTo>
                      <a:pt x="4097" y="771"/>
                    </a:lnTo>
                    <a:lnTo>
                      <a:pt x="4019" y="689"/>
                    </a:lnTo>
                    <a:lnTo>
                      <a:pt x="3937" y="612"/>
                    </a:lnTo>
                    <a:lnTo>
                      <a:pt x="3851" y="537"/>
                    </a:lnTo>
                    <a:lnTo>
                      <a:pt x="3763" y="468"/>
                    </a:lnTo>
                    <a:lnTo>
                      <a:pt x="3671" y="402"/>
                    </a:lnTo>
                    <a:lnTo>
                      <a:pt x="3575" y="341"/>
                    </a:lnTo>
                    <a:lnTo>
                      <a:pt x="3476" y="284"/>
                    </a:lnTo>
                    <a:lnTo>
                      <a:pt x="3375" y="233"/>
                    </a:lnTo>
                    <a:lnTo>
                      <a:pt x="3271" y="185"/>
                    </a:lnTo>
                    <a:lnTo>
                      <a:pt x="3164" y="143"/>
                    </a:lnTo>
                    <a:lnTo>
                      <a:pt x="3054" y="106"/>
                    </a:lnTo>
                    <a:lnTo>
                      <a:pt x="2943" y="74"/>
                    </a:lnTo>
                    <a:lnTo>
                      <a:pt x="2829" y="48"/>
                    </a:lnTo>
                    <a:lnTo>
                      <a:pt x="2712" y="27"/>
                    </a:lnTo>
                    <a:lnTo>
                      <a:pt x="2595" y="12"/>
                    </a:lnTo>
                    <a:lnTo>
                      <a:pt x="2476" y="4"/>
                    </a:lnTo>
                    <a:lnTo>
                      <a:pt x="2354" y="0"/>
                    </a:lnTo>
                    <a:lnTo>
                      <a:pt x="2233" y="4"/>
                    </a:lnTo>
                    <a:lnTo>
                      <a:pt x="2114" y="12"/>
                    </a:lnTo>
                    <a:lnTo>
                      <a:pt x="1996" y="27"/>
                    </a:lnTo>
                    <a:lnTo>
                      <a:pt x="1879" y="48"/>
                    </a:lnTo>
                    <a:lnTo>
                      <a:pt x="1766" y="74"/>
                    </a:lnTo>
                    <a:lnTo>
                      <a:pt x="1655" y="106"/>
                    </a:lnTo>
                    <a:lnTo>
                      <a:pt x="1544" y="143"/>
                    </a:lnTo>
                    <a:lnTo>
                      <a:pt x="1437" y="185"/>
                    </a:lnTo>
                    <a:lnTo>
                      <a:pt x="1334" y="233"/>
                    </a:lnTo>
                    <a:lnTo>
                      <a:pt x="1232" y="284"/>
                    </a:lnTo>
                    <a:lnTo>
                      <a:pt x="1134" y="341"/>
                    </a:lnTo>
                    <a:lnTo>
                      <a:pt x="1038" y="402"/>
                    </a:lnTo>
                    <a:lnTo>
                      <a:pt x="946" y="468"/>
                    </a:lnTo>
                    <a:lnTo>
                      <a:pt x="857" y="537"/>
                    </a:lnTo>
                    <a:lnTo>
                      <a:pt x="772" y="612"/>
                    </a:lnTo>
                    <a:lnTo>
                      <a:pt x="690" y="689"/>
                    </a:lnTo>
                    <a:lnTo>
                      <a:pt x="612" y="771"/>
                    </a:lnTo>
                    <a:lnTo>
                      <a:pt x="537" y="857"/>
                    </a:lnTo>
                    <a:lnTo>
                      <a:pt x="468" y="945"/>
                    </a:lnTo>
                    <a:lnTo>
                      <a:pt x="402" y="1038"/>
                    </a:lnTo>
                    <a:lnTo>
                      <a:pt x="341" y="1133"/>
                    </a:lnTo>
                    <a:lnTo>
                      <a:pt x="284" y="1232"/>
                    </a:lnTo>
                    <a:lnTo>
                      <a:pt x="233" y="1333"/>
                    </a:lnTo>
                    <a:lnTo>
                      <a:pt x="185" y="1438"/>
                    </a:lnTo>
                    <a:lnTo>
                      <a:pt x="143" y="1545"/>
                    </a:lnTo>
                    <a:lnTo>
                      <a:pt x="106" y="1654"/>
                    </a:lnTo>
                    <a:lnTo>
                      <a:pt x="74" y="1765"/>
                    </a:lnTo>
                    <a:lnTo>
                      <a:pt x="48" y="1880"/>
                    </a:lnTo>
                    <a:lnTo>
                      <a:pt x="27" y="1995"/>
                    </a:lnTo>
                    <a:lnTo>
                      <a:pt x="12" y="2113"/>
                    </a:lnTo>
                    <a:lnTo>
                      <a:pt x="3" y="2233"/>
                    </a:lnTo>
                    <a:lnTo>
                      <a:pt x="0" y="2354"/>
                    </a:lnTo>
                    <a:lnTo>
                      <a:pt x="3" y="2475"/>
                    </a:lnTo>
                    <a:lnTo>
                      <a:pt x="12" y="2595"/>
                    </a:lnTo>
                    <a:lnTo>
                      <a:pt x="27" y="2712"/>
                    </a:lnTo>
                    <a:lnTo>
                      <a:pt x="48" y="2828"/>
                    </a:lnTo>
                    <a:lnTo>
                      <a:pt x="74" y="2941"/>
                    </a:lnTo>
                    <a:lnTo>
                      <a:pt x="106" y="3054"/>
                    </a:lnTo>
                    <a:lnTo>
                      <a:pt x="143" y="3163"/>
                    </a:lnTo>
                    <a:lnTo>
                      <a:pt x="185" y="3270"/>
                    </a:lnTo>
                    <a:lnTo>
                      <a:pt x="233" y="3373"/>
                    </a:lnTo>
                    <a:lnTo>
                      <a:pt x="284" y="3475"/>
                    </a:lnTo>
                    <a:lnTo>
                      <a:pt x="341" y="3574"/>
                    </a:lnTo>
                    <a:lnTo>
                      <a:pt x="402" y="3669"/>
                    </a:lnTo>
                    <a:lnTo>
                      <a:pt x="468" y="3761"/>
                    </a:lnTo>
                    <a:lnTo>
                      <a:pt x="537" y="3851"/>
                    </a:lnTo>
                    <a:lnTo>
                      <a:pt x="612" y="3936"/>
                    </a:lnTo>
                    <a:lnTo>
                      <a:pt x="690" y="4017"/>
                    </a:lnTo>
                    <a:lnTo>
                      <a:pt x="772" y="4096"/>
                    </a:lnTo>
                    <a:lnTo>
                      <a:pt x="857" y="4169"/>
                    </a:lnTo>
                    <a:lnTo>
                      <a:pt x="946" y="4239"/>
                    </a:lnTo>
                    <a:lnTo>
                      <a:pt x="1038" y="4304"/>
                    </a:lnTo>
                    <a:lnTo>
                      <a:pt x="1134" y="4366"/>
                    </a:lnTo>
                    <a:lnTo>
                      <a:pt x="1232" y="4423"/>
                    </a:lnTo>
                    <a:lnTo>
                      <a:pt x="1334" y="4475"/>
                    </a:lnTo>
                    <a:lnTo>
                      <a:pt x="1437" y="4521"/>
                    </a:lnTo>
                    <a:lnTo>
                      <a:pt x="1544" y="4563"/>
                    </a:lnTo>
                    <a:lnTo>
                      <a:pt x="1655" y="4601"/>
                    </a:lnTo>
                    <a:lnTo>
                      <a:pt x="1766" y="4632"/>
                    </a:lnTo>
                    <a:lnTo>
                      <a:pt x="1879" y="4658"/>
                    </a:lnTo>
                    <a:lnTo>
                      <a:pt x="1996" y="4680"/>
                    </a:lnTo>
                    <a:lnTo>
                      <a:pt x="2114" y="4694"/>
                    </a:lnTo>
                    <a:lnTo>
                      <a:pt x="2233" y="4704"/>
                    </a:lnTo>
                    <a:lnTo>
                      <a:pt x="2354" y="4707"/>
                    </a:lnTo>
                    <a:lnTo>
                      <a:pt x="2424" y="4706"/>
                    </a:lnTo>
                    <a:lnTo>
                      <a:pt x="2492" y="4703"/>
                    </a:lnTo>
                    <a:lnTo>
                      <a:pt x="2560" y="4697"/>
                    </a:lnTo>
                    <a:lnTo>
                      <a:pt x="2628" y="4691"/>
                    </a:lnTo>
                    <a:lnTo>
                      <a:pt x="2695" y="4682"/>
                    </a:lnTo>
                    <a:lnTo>
                      <a:pt x="2761" y="4671"/>
                    </a:lnTo>
                    <a:lnTo>
                      <a:pt x="2827" y="4659"/>
                    </a:lnTo>
                    <a:lnTo>
                      <a:pt x="2892" y="4644"/>
                    </a:lnTo>
                    <a:lnTo>
                      <a:pt x="2957" y="4629"/>
                    </a:lnTo>
                    <a:lnTo>
                      <a:pt x="3020" y="4611"/>
                    </a:lnTo>
                    <a:lnTo>
                      <a:pt x="3083" y="4591"/>
                    </a:lnTo>
                    <a:lnTo>
                      <a:pt x="3146" y="4570"/>
                    </a:lnTo>
                    <a:lnTo>
                      <a:pt x="3207" y="4547"/>
                    </a:lnTo>
                    <a:lnTo>
                      <a:pt x="3268" y="4522"/>
                    </a:lnTo>
                    <a:lnTo>
                      <a:pt x="3327" y="4496"/>
                    </a:lnTo>
                    <a:lnTo>
                      <a:pt x="3387" y="4468"/>
                    </a:lnTo>
                    <a:lnTo>
                      <a:pt x="3368" y="4432"/>
                    </a:lnTo>
                    <a:lnTo>
                      <a:pt x="3310" y="4459"/>
                    </a:lnTo>
                    <a:lnTo>
                      <a:pt x="3252" y="4485"/>
                    </a:lnTo>
                    <a:lnTo>
                      <a:pt x="3192" y="4508"/>
                    </a:lnTo>
                    <a:lnTo>
                      <a:pt x="3132" y="4531"/>
                    </a:lnTo>
                    <a:lnTo>
                      <a:pt x="3070" y="4551"/>
                    </a:lnTo>
                    <a:lnTo>
                      <a:pt x="3008" y="4571"/>
                    </a:lnTo>
                    <a:lnTo>
                      <a:pt x="2946" y="4588"/>
                    </a:lnTo>
                    <a:lnTo>
                      <a:pt x="2883" y="4604"/>
                    </a:lnTo>
                    <a:lnTo>
                      <a:pt x="2818" y="4618"/>
                    </a:lnTo>
                    <a:lnTo>
                      <a:pt x="2755" y="4630"/>
                    </a:lnTo>
                    <a:lnTo>
                      <a:pt x="2689" y="4641"/>
                    </a:lnTo>
                    <a:lnTo>
                      <a:pt x="2623" y="4650"/>
                    </a:lnTo>
                    <a:lnTo>
                      <a:pt x="2557" y="4656"/>
                    </a:lnTo>
                    <a:lnTo>
                      <a:pt x="2490" y="4661"/>
                    </a:lnTo>
                    <a:lnTo>
                      <a:pt x="2422" y="4664"/>
                    </a:lnTo>
                    <a:lnTo>
                      <a:pt x="2354" y="4665"/>
                    </a:lnTo>
                    <a:lnTo>
                      <a:pt x="2235" y="4662"/>
                    </a:lnTo>
                    <a:lnTo>
                      <a:pt x="2118" y="4653"/>
                    </a:lnTo>
                    <a:lnTo>
                      <a:pt x="2002" y="4638"/>
                    </a:lnTo>
                    <a:lnTo>
                      <a:pt x="1888" y="4618"/>
                    </a:lnTo>
                    <a:lnTo>
                      <a:pt x="1777" y="4593"/>
                    </a:lnTo>
                    <a:lnTo>
                      <a:pt x="1666" y="4561"/>
                    </a:lnTo>
                    <a:lnTo>
                      <a:pt x="1559" y="4524"/>
                    </a:lnTo>
                    <a:lnTo>
                      <a:pt x="1454" y="4483"/>
                    </a:lnTo>
                    <a:lnTo>
                      <a:pt x="1352" y="4437"/>
                    </a:lnTo>
                    <a:lnTo>
                      <a:pt x="1251" y="4386"/>
                    </a:lnTo>
                    <a:lnTo>
                      <a:pt x="1155" y="4330"/>
                    </a:lnTo>
                    <a:lnTo>
                      <a:pt x="1061" y="4271"/>
                    </a:lnTo>
                    <a:lnTo>
                      <a:pt x="971" y="4206"/>
                    </a:lnTo>
                    <a:lnTo>
                      <a:pt x="883" y="4137"/>
                    </a:lnTo>
                    <a:lnTo>
                      <a:pt x="799" y="4064"/>
                    </a:lnTo>
                    <a:lnTo>
                      <a:pt x="719" y="3988"/>
                    </a:lnTo>
                    <a:lnTo>
                      <a:pt x="642" y="3908"/>
                    </a:lnTo>
                    <a:lnTo>
                      <a:pt x="570" y="3824"/>
                    </a:lnTo>
                    <a:lnTo>
                      <a:pt x="501" y="3736"/>
                    </a:lnTo>
                    <a:lnTo>
                      <a:pt x="437" y="3645"/>
                    </a:lnTo>
                    <a:lnTo>
                      <a:pt x="376" y="3552"/>
                    </a:lnTo>
                    <a:lnTo>
                      <a:pt x="321" y="3455"/>
                    </a:lnTo>
                    <a:lnTo>
                      <a:pt x="269" y="3356"/>
                    </a:lnTo>
                    <a:lnTo>
                      <a:pt x="223" y="3253"/>
                    </a:lnTo>
                    <a:lnTo>
                      <a:pt x="182" y="3149"/>
                    </a:lnTo>
                    <a:lnTo>
                      <a:pt x="145" y="3041"/>
                    </a:lnTo>
                    <a:lnTo>
                      <a:pt x="115" y="2931"/>
                    </a:lnTo>
                    <a:lnTo>
                      <a:pt x="89" y="2819"/>
                    </a:lnTo>
                    <a:lnTo>
                      <a:pt x="68" y="2706"/>
                    </a:lnTo>
                    <a:lnTo>
                      <a:pt x="53" y="2590"/>
                    </a:lnTo>
                    <a:lnTo>
                      <a:pt x="45" y="2472"/>
                    </a:lnTo>
                    <a:lnTo>
                      <a:pt x="41" y="2354"/>
                    </a:lnTo>
                    <a:lnTo>
                      <a:pt x="45" y="2235"/>
                    </a:lnTo>
                    <a:lnTo>
                      <a:pt x="53" y="2117"/>
                    </a:lnTo>
                    <a:lnTo>
                      <a:pt x="68" y="2002"/>
                    </a:lnTo>
                    <a:lnTo>
                      <a:pt x="89" y="1887"/>
                    </a:lnTo>
                    <a:lnTo>
                      <a:pt x="115" y="1776"/>
                    </a:lnTo>
                    <a:lnTo>
                      <a:pt x="145" y="1666"/>
                    </a:lnTo>
                    <a:lnTo>
                      <a:pt x="182" y="1559"/>
                    </a:lnTo>
                    <a:lnTo>
                      <a:pt x="223" y="1454"/>
                    </a:lnTo>
                    <a:lnTo>
                      <a:pt x="269" y="1351"/>
                    </a:lnTo>
                    <a:lnTo>
                      <a:pt x="321" y="1252"/>
                    </a:lnTo>
                    <a:lnTo>
                      <a:pt x="376" y="1155"/>
                    </a:lnTo>
                    <a:lnTo>
                      <a:pt x="437" y="1061"/>
                    </a:lnTo>
                    <a:lnTo>
                      <a:pt x="501" y="970"/>
                    </a:lnTo>
                    <a:lnTo>
                      <a:pt x="570" y="883"/>
                    </a:lnTo>
                    <a:lnTo>
                      <a:pt x="642" y="800"/>
                    </a:lnTo>
                    <a:lnTo>
                      <a:pt x="719" y="719"/>
                    </a:lnTo>
                    <a:lnTo>
                      <a:pt x="799" y="642"/>
                    </a:lnTo>
                    <a:lnTo>
                      <a:pt x="883" y="570"/>
                    </a:lnTo>
                    <a:lnTo>
                      <a:pt x="971" y="501"/>
                    </a:lnTo>
                    <a:lnTo>
                      <a:pt x="1061" y="437"/>
                    </a:lnTo>
                    <a:lnTo>
                      <a:pt x="1155" y="376"/>
                    </a:lnTo>
                    <a:lnTo>
                      <a:pt x="1251" y="321"/>
                    </a:lnTo>
                    <a:lnTo>
                      <a:pt x="1352" y="270"/>
                    </a:lnTo>
                    <a:lnTo>
                      <a:pt x="1454" y="224"/>
                    </a:lnTo>
                    <a:lnTo>
                      <a:pt x="1559" y="182"/>
                    </a:lnTo>
                    <a:lnTo>
                      <a:pt x="1666" y="146"/>
                    </a:lnTo>
                    <a:lnTo>
                      <a:pt x="1777" y="115"/>
                    </a:lnTo>
                    <a:lnTo>
                      <a:pt x="1888" y="89"/>
                    </a:lnTo>
                    <a:lnTo>
                      <a:pt x="2002" y="68"/>
                    </a:lnTo>
                    <a:lnTo>
                      <a:pt x="2118" y="53"/>
                    </a:lnTo>
                    <a:lnTo>
                      <a:pt x="2235" y="45"/>
                    </a:lnTo>
                    <a:lnTo>
                      <a:pt x="2354" y="41"/>
                    </a:lnTo>
                    <a:lnTo>
                      <a:pt x="2474" y="45"/>
                    </a:lnTo>
                    <a:lnTo>
                      <a:pt x="2590" y="53"/>
                    </a:lnTo>
                    <a:lnTo>
                      <a:pt x="2706" y="68"/>
                    </a:lnTo>
                    <a:lnTo>
                      <a:pt x="2820" y="89"/>
                    </a:lnTo>
                    <a:lnTo>
                      <a:pt x="2932" y="115"/>
                    </a:lnTo>
                    <a:lnTo>
                      <a:pt x="3042" y="146"/>
                    </a:lnTo>
                    <a:lnTo>
                      <a:pt x="3149" y="182"/>
                    </a:lnTo>
                    <a:lnTo>
                      <a:pt x="3255" y="224"/>
                    </a:lnTo>
                    <a:lnTo>
                      <a:pt x="3356" y="270"/>
                    </a:lnTo>
                    <a:lnTo>
                      <a:pt x="3457" y="321"/>
                    </a:lnTo>
                    <a:lnTo>
                      <a:pt x="3553" y="376"/>
                    </a:lnTo>
                    <a:lnTo>
                      <a:pt x="3647" y="437"/>
                    </a:lnTo>
                    <a:lnTo>
                      <a:pt x="3738" y="501"/>
                    </a:lnTo>
                    <a:lnTo>
                      <a:pt x="3825" y="570"/>
                    </a:lnTo>
                    <a:lnTo>
                      <a:pt x="3909" y="642"/>
                    </a:lnTo>
                    <a:lnTo>
                      <a:pt x="3990" y="719"/>
                    </a:lnTo>
                    <a:lnTo>
                      <a:pt x="4066" y="800"/>
                    </a:lnTo>
                    <a:lnTo>
                      <a:pt x="4139" y="883"/>
                    </a:lnTo>
                    <a:lnTo>
                      <a:pt x="4207" y="970"/>
                    </a:lnTo>
                    <a:lnTo>
                      <a:pt x="4272" y="1061"/>
                    </a:lnTo>
                    <a:lnTo>
                      <a:pt x="4332" y="1155"/>
                    </a:lnTo>
                    <a:lnTo>
                      <a:pt x="4387" y="1252"/>
                    </a:lnTo>
                    <a:lnTo>
                      <a:pt x="4439" y="1351"/>
                    </a:lnTo>
                    <a:lnTo>
                      <a:pt x="4486" y="1454"/>
                    </a:lnTo>
                    <a:lnTo>
                      <a:pt x="4527" y="1559"/>
                    </a:lnTo>
                    <a:lnTo>
                      <a:pt x="4562" y="1666"/>
                    </a:lnTo>
                    <a:lnTo>
                      <a:pt x="4594" y="1776"/>
                    </a:lnTo>
                    <a:lnTo>
                      <a:pt x="4620" y="1887"/>
                    </a:lnTo>
                    <a:lnTo>
                      <a:pt x="4640" y="2002"/>
                    </a:lnTo>
                    <a:lnTo>
                      <a:pt x="4655" y="2117"/>
                    </a:lnTo>
                    <a:lnTo>
                      <a:pt x="4664" y="2235"/>
                    </a:lnTo>
                    <a:lnTo>
                      <a:pt x="4667" y="2354"/>
                    </a:lnTo>
                    <a:lnTo>
                      <a:pt x="4666" y="2393"/>
                    </a:lnTo>
                    <a:lnTo>
                      <a:pt x="4666" y="2431"/>
                    </a:lnTo>
                    <a:lnTo>
                      <a:pt x="4664" y="2469"/>
                    </a:lnTo>
                    <a:lnTo>
                      <a:pt x="4662" y="2508"/>
                    </a:lnTo>
                    <a:lnTo>
                      <a:pt x="4658" y="2546"/>
                    </a:lnTo>
                    <a:lnTo>
                      <a:pt x="4655" y="2585"/>
                    </a:lnTo>
                    <a:lnTo>
                      <a:pt x="4651" y="2623"/>
                    </a:lnTo>
                    <a:lnTo>
                      <a:pt x="4647" y="2660"/>
                    </a:lnTo>
                    <a:lnTo>
                      <a:pt x="4641" y="2697"/>
                    </a:lnTo>
                    <a:lnTo>
                      <a:pt x="4636" y="2735"/>
                    </a:lnTo>
                    <a:lnTo>
                      <a:pt x="4629" y="2772"/>
                    </a:lnTo>
                    <a:lnTo>
                      <a:pt x="4622" y="2808"/>
                    </a:lnTo>
                    <a:lnTo>
                      <a:pt x="4614" y="2845"/>
                    </a:lnTo>
                    <a:lnTo>
                      <a:pt x="4605" y="2882"/>
                    </a:lnTo>
                    <a:lnTo>
                      <a:pt x="4597" y="2919"/>
                    </a:lnTo>
                    <a:lnTo>
                      <a:pt x="4587" y="2954"/>
                    </a:lnTo>
                    <a:lnTo>
                      <a:pt x="4628" y="2965"/>
                    </a:lnTo>
                    <a:lnTo>
                      <a:pt x="4638" y="2928"/>
                    </a:lnTo>
                    <a:lnTo>
                      <a:pt x="4647" y="2892"/>
                    </a:lnTo>
                    <a:lnTo>
                      <a:pt x="4655" y="2855"/>
                    </a:lnTo>
                    <a:lnTo>
                      <a:pt x="4663" y="2817"/>
                    </a:lnTo>
                    <a:lnTo>
                      <a:pt x="4670" y="2779"/>
                    </a:lnTo>
                    <a:lnTo>
                      <a:pt x="4677" y="2741"/>
                    </a:lnTo>
                    <a:lnTo>
                      <a:pt x="4682" y="2704"/>
                    </a:lnTo>
                    <a:lnTo>
                      <a:pt x="4688" y="2666"/>
                    </a:lnTo>
                    <a:lnTo>
                      <a:pt x="4693" y="2627"/>
                    </a:lnTo>
                    <a:lnTo>
                      <a:pt x="4696" y="2588"/>
                    </a:lnTo>
                    <a:lnTo>
                      <a:pt x="4701" y="2550"/>
                    </a:lnTo>
                    <a:lnTo>
                      <a:pt x="4703" y="2511"/>
                    </a:lnTo>
                    <a:lnTo>
                      <a:pt x="4706" y="2471"/>
                    </a:lnTo>
                    <a:lnTo>
                      <a:pt x="4707" y="2433"/>
                    </a:lnTo>
                    <a:lnTo>
                      <a:pt x="4708" y="2393"/>
                    </a:lnTo>
                    <a:lnTo>
                      <a:pt x="4708" y="2354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648240" y="2071800"/>
                <a:ext cx="1852560" cy="1850760"/>
              </a:xfrm>
              <a:custGeom>
                <a:avLst/>
                <a:gdLst/>
                <a:ahLst/>
                <a:rect l="l" t="t" r="r" b="b"/>
                <a:pathLst>
                  <a:path w="4667" h="4664">
                    <a:moveTo>
                      <a:pt x="4667" y="2333"/>
                    </a:moveTo>
                    <a:lnTo>
                      <a:pt x="4663" y="2213"/>
                    </a:lnTo>
                    <a:lnTo>
                      <a:pt x="4655" y="2094"/>
                    </a:lnTo>
                    <a:lnTo>
                      <a:pt x="4640" y="1977"/>
                    </a:lnTo>
                    <a:lnTo>
                      <a:pt x="4619" y="1863"/>
                    </a:lnTo>
                    <a:lnTo>
                      <a:pt x="4593" y="1749"/>
                    </a:lnTo>
                    <a:lnTo>
                      <a:pt x="4562" y="1639"/>
                    </a:lnTo>
                    <a:lnTo>
                      <a:pt x="4525" y="1530"/>
                    </a:lnTo>
                    <a:lnTo>
                      <a:pt x="4483" y="1424"/>
                    </a:lnTo>
                    <a:lnTo>
                      <a:pt x="4436" y="1322"/>
                    </a:lnTo>
                    <a:lnTo>
                      <a:pt x="4385" y="1220"/>
                    </a:lnTo>
                    <a:lnTo>
                      <a:pt x="4328" y="1123"/>
                    </a:lnTo>
                    <a:lnTo>
                      <a:pt x="4268" y="1028"/>
                    </a:lnTo>
                    <a:lnTo>
                      <a:pt x="4203" y="937"/>
                    </a:lnTo>
                    <a:lnTo>
                      <a:pt x="4134" y="849"/>
                    </a:lnTo>
                    <a:lnTo>
                      <a:pt x="4060" y="765"/>
                    </a:lnTo>
                    <a:lnTo>
                      <a:pt x="3983" y="684"/>
                    </a:lnTo>
                    <a:lnTo>
                      <a:pt x="3902" y="606"/>
                    </a:lnTo>
                    <a:lnTo>
                      <a:pt x="3817" y="532"/>
                    </a:lnTo>
                    <a:lnTo>
                      <a:pt x="3729" y="463"/>
                    </a:lnTo>
                    <a:lnTo>
                      <a:pt x="3638" y="398"/>
                    </a:lnTo>
                    <a:lnTo>
                      <a:pt x="3543" y="338"/>
                    </a:lnTo>
                    <a:lnTo>
                      <a:pt x="3446" y="282"/>
                    </a:lnTo>
                    <a:lnTo>
                      <a:pt x="3345" y="230"/>
                    </a:lnTo>
                    <a:lnTo>
                      <a:pt x="3241" y="183"/>
                    </a:lnTo>
                    <a:lnTo>
                      <a:pt x="3135" y="141"/>
                    </a:lnTo>
                    <a:lnTo>
                      <a:pt x="3027" y="105"/>
                    </a:lnTo>
                    <a:lnTo>
                      <a:pt x="2916" y="73"/>
                    </a:lnTo>
                    <a:lnTo>
                      <a:pt x="2804" y="47"/>
                    </a:lnTo>
                    <a:lnTo>
                      <a:pt x="2688" y="27"/>
                    </a:lnTo>
                    <a:lnTo>
                      <a:pt x="2571" y="12"/>
                    </a:lnTo>
                    <a:lnTo>
                      <a:pt x="2454" y="3"/>
                    </a:lnTo>
                    <a:lnTo>
                      <a:pt x="2333" y="0"/>
                    </a:lnTo>
                    <a:lnTo>
                      <a:pt x="2213" y="3"/>
                    </a:lnTo>
                    <a:lnTo>
                      <a:pt x="2095" y="12"/>
                    </a:lnTo>
                    <a:lnTo>
                      <a:pt x="1978" y="27"/>
                    </a:lnTo>
                    <a:lnTo>
                      <a:pt x="1863" y="47"/>
                    </a:lnTo>
                    <a:lnTo>
                      <a:pt x="1750" y="73"/>
                    </a:lnTo>
                    <a:lnTo>
                      <a:pt x="1639" y="105"/>
                    </a:lnTo>
                    <a:lnTo>
                      <a:pt x="1531" y="141"/>
                    </a:lnTo>
                    <a:lnTo>
                      <a:pt x="1425" y="183"/>
                    </a:lnTo>
                    <a:lnTo>
                      <a:pt x="1321" y="230"/>
                    </a:lnTo>
                    <a:lnTo>
                      <a:pt x="1221" y="282"/>
                    </a:lnTo>
                    <a:lnTo>
                      <a:pt x="1124" y="338"/>
                    </a:lnTo>
                    <a:lnTo>
                      <a:pt x="1028" y="398"/>
                    </a:lnTo>
                    <a:lnTo>
                      <a:pt x="937" y="463"/>
                    </a:lnTo>
                    <a:lnTo>
                      <a:pt x="849" y="532"/>
                    </a:lnTo>
                    <a:lnTo>
                      <a:pt x="765" y="606"/>
                    </a:lnTo>
                    <a:lnTo>
                      <a:pt x="684" y="684"/>
                    </a:lnTo>
                    <a:lnTo>
                      <a:pt x="606" y="765"/>
                    </a:lnTo>
                    <a:lnTo>
                      <a:pt x="532" y="849"/>
                    </a:lnTo>
                    <a:lnTo>
                      <a:pt x="463" y="937"/>
                    </a:lnTo>
                    <a:lnTo>
                      <a:pt x="398" y="1028"/>
                    </a:lnTo>
                    <a:lnTo>
                      <a:pt x="338" y="1123"/>
                    </a:lnTo>
                    <a:lnTo>
                      <a:pt x="282" y="1220"/>
                    </a:lnTo>
                    <a:lnTo>
                      <a:pt x="230" y="1322"/>
                    </a:lnTo>
                    <a:lnTo>
                      <a:pt x="183" y="1424"/>
                    </a:lnTo>
                    <a:lnTo>
                      <a:pt x="141" y="1530"/>
                    </a:lnTo>
                    <a:lnTo>
                      <a:pt x="105" y="1639"/>
                    </a:lnTo>
                    <a:lnTo>
                      <a:pt x="73" y="1749"/>
                    </a:lnTo>
                    <a:lnTo>
                      <a:pt x="47" y="1863"/>
                    </a:lnTo>
                    <a:lnTo>
                      <a:pt x="27" y="1977"/>
                    </a:lnTo>
                    <a:lnTo>
                      <a:pt x="12" y="2094"/>
                    </a:lnTo>
                    <a:lnTo>
                      <a:pt x="3" y="2213"/>
                    </a:lnTo>
                    <a:lnTo>
                      <a:pt x="0" y="2333"/>
                    </a:lnTo>
                    <a:lnTo>
                      <a:pt x="3" y="2453"/>
                    </a:lnTo>
                    <a:lnTo>
                      <a:pt x="12" y="2571"/>
                    </a:lnTo>
                    <a:lnTo>
                      <a:pt x="27" y="2688"/>
                    </a:lnTo>
                    <a:lnTo>
                      <a:pt x="47" y="2802"/>
                    </a:lnTo>
                    <a:lnTo>
                      <a:pt x="73" y="2915"/>
                    </a:lnTo>
                    <a:lnTo>
                      <a:pt x="105" y="3026"/>
                    </a:lnTo>
                    <a:lnTo>
                      <a:pt x="141" y="3134"/>
                    </a:lnTo>
                    <a:lnTo>
                      <a:pt x="183" y="3240"/>
                    </a:lnTo>
                    <a:lnTo>
                      <a:pt x="230" y="3344"/>
                    </a:lnTo>
                    <a:lnTo>
                      <a:pt x="282" y="3444"/>
                    </a:lnTo>
                    <a:lnTo>
                      <a:pt x="338" y="3542"/>
                    </a:lnTo>
                    <a:lnTo>
                      <a:pt x="398" y="3636"/>
                    </a:lnTo>
                    <a:lnTo>
                      <a:pt x="463" y="3728"/>
                    </a:lnTo>
                    <a:lnTo>
                      <a:pt x="532" y="3816"/>
                    </a:lnTo>
                    <a:lnTo>
                      <a:pt x="606" y="3901"/>
                    </a:lnTo>
                    <a:lnTo>
                      <a:pt x="684" y="3982"/>
                    </a:lnTo>
                    <a:lnTo>
                      <a:pt x="765" y="4059"/>
                    </a:lnTo>
                    <a:lnTo>
                      <a:pt x="849" y="4132"/>
                    </a:lnTo>
                    <a:lnTo>
                      <a:pt x="937" y="4201"/>
                    </a:lnTo>
                    <a:lnTo>
                      <a:pt x="1028" y="4266"/>
                    </a:lnTo>
                    <a:lnTo>
                      <a:pt x="1124" y="4327"/>
                    </a:lnTo>
                    <a:lnTo>
                      <a:pt x="1221" y="4384"/>
                    </a:lnTo>
                    <a:lnTo>
                      <a:pt x="1321" y="4434"/>
                    </a:lnTo>
                    <a:lnTo>
                      <a:pt x="1425" y="4482"/>
                    </a:lnTo>
                    <a:lnTo>
                      <a:pt x="1531" y="4523"/>
                    </a:lnTo>
                    <a:lnTo>
                      <a:pt x="1639" y="4560"/>
                    </a:lnTo>
                    <a:lnTo>
                      <a:pt x="1750" y="4591"/>
                    </a:lnTo>
                    <a:lnTo>
                      <a:pt x="1863" y="4617"/>
                    </a:lnTo>
                    <a:lnTo>
                      <a:pt x="1978" y="4637"/>
                    </a:lnTo>
                    <a:lnTo>
                      <a:pt x="2095" y="4653"/>
                    </a:lnTo>
                    <a:lnTo>
                      <a:pt x="2213" y="4662"/>
                    </a:lnTo>
                    <a:lnTo>
                      <a:pt x="2333" y="4664"/>
                    </a:lnTo>
                    <a:lnTo>
                      <a:pt x="2402" y="4663"/>
                    </a:lnTo>
                    <a:lnTo>
                      <a:pt x="2470" y="4661"/>
                    </a:lnTo>
                    <a:lnTo>
                      <a:pt x="2537" y="4656"/>
                    </a:lnTo>
                    <a:lnTo>
                      <a:pt x="2604" y="4649"/>
                    </a:lnTo>
                    <a:lnTo>
                      <a:pt x="2671" y="4641"/>
                    </a:lnTo>
                    <a:lnTo>
                      <a:pt x="2737" y="4630"/>
                    </a:lnTo>
                    <a:lnTo>
                      <a:pt x="2802" y="4618"/>
                    </a:lnTo>
                    <a:lnTo>
                      <a:pt x="2866" y="4604"/>
                    </a:lnTo>
                    <a:lnTo>
                      <a:pt x="2930" y="4588"/>
                    </a:lnTo>
                    <a:lnTo>
                      <a:pt x="2994" y="4570"/>
                    </a:lnTo>
                    <a:lnTo>
                      <a:pt x="3056" y="4551"/>
                    </a:lnTo>
                    <a:lnTo>
                      <a:pt x="3117" y="4529"/>
                    </a:lnTo>
                    <a:lnTo>
                      <a:pt x="3179" y="4507"/>
                    </a:lnTo>
                    <a:lnTo>
                      <a:pt x="3238" y="4483"/>
                    </a:lnTo>
                    <a:lnTo>
                      <a:pt x="3298" y="4457"/>
                    </a:lnTo>
                    <a:lnTo>
                      <a:pt x="3356" y="4429"/>
                    </a:lnTo>
                    <a:lnTo>
                      <a:pt x="3338" y="4391"/>
                    </a:lnTo>
                    <a:lnTo>
                      <a:pt x="3280" y="4418"/>
                    </a:lnTo>
                    <a:lnTo>
                      <a:pt x="3222" y="4444"/>
                    </a:lnTo>
                    <a:lnTo>
                      <a:pt x="3164" y="4468"/>
                    </a:lnTo>
                    <a:lnTo>
                      <a:pt x="3104" y="4491"/>
                    </a:lnTo>
                    <a:lnTo>
                      <a:pt x="3043" y="4511"/>
                    </a:lnTo>
                    <a:lnTo>
                      <a:pt x="2982" y="4530"/>
                    </a:lnTo>
                    <a:lnTo>
                      <a:pt x="2919" y="4548"/>
                    </a:lnTo>
                    <a:lnTo>
                      <a:pt x="2857" y="4563"/>
                    </a:lnTo>
                    <a:lnTo>
                      <a:pt x="2794" y="4577"/>
                    </a:lnTo>
                    <a:lnTo>
                      <a:pt x="2729" y="4589"/>
                    </a:lnTo>
                    <a:lnTo>
                      <a:pt x="2664" y="4600"/>
                    </a:lnTo>
                    <a:lnTo>
                      <a:pt x="2600" y="4608"/>
                    </a:lnTo>
                    <a:lnTo>
                      <a:pt x="2534" y="4615"/>
                    </a:lnTo>
                    <a:lnTo>
                      <a:pt x="2468" y="4619"/>
                    </a:lnTo>
                    <a:lnTo>
                      <a:pt x="2401" y="4622"/>
                    </a:lnTo>
                    <a:lnTo>
                      <a:pt x="2333" y="4623"/>
                    </a:lnTo>
                    <a:lnTo>
                      <a:pt x="2215" y="4620"/>
                    </a:lnTo>
                    <a:lnTo>
                      <a:pt x="2099" y="4611"/>
                    </a:lnTo>
                    <a:lnTo>
                      <a:pt x="1984" y="4596"/>
                    </a:lnTo>
                    <a:lnTo>
                      <a:pt x="1871" y="4577"/>
                    </a:lnTo>
                    <a:lnTo>
                      <a:pt x="1760" y="4551"/>
                    </a:lnTo>
                    <a:lnTo>
                      <a:pt x="1652" y="4520"/>
                    </a:lnTo>
                    <a:lnTo>
                      <a:pt x="1545" y="4484"/>
                    </a:lnTo>
                    <a:lnTo>
                      <a:pt x="1441" y="4443"/>
                    </a:lnTo>
                    <a:lnTo>
                      <a:pt x="1340" y="4398"/>
                    </a:lnTo>
                    <a:lnTo>
                      <a:pt x="1241" y="4347"/>
                    </a:lnTo>
                    <a:lnTo>
                      <a:pt x="1145" y="4292"/>
                    </a:lnTo>
                    <a:lnTo>
                      <a:pt x="1052" y="4232"/>
                    </a:lnTo>
                    <a:lnTo>
                      <a:pt x="963" y="4168"/>
                    </a:lnTo>
                    <a:lnTo>
                      <a:pt x="875" y="4100"/>
                    </a:lnTo>
                    <a:lnTo>
                      <a:pt x="792" y="4028"/>
                    </a:lnTo>
                    <a:lnTo>
                      <a:pt x="713" y="3953"/>
                    </a:lnTo>
                    <a:lnTo>
                      <a:pt x="637" y="3873"/>
                    </a:lnTo>
                    <a:lnTo>
                      <a:pt x="565" y="3790"/>
                    </a:lnTo>
                    <a:lnTo>
                      <a:pt x="497" y="3703"/>
                    </a:lnTo>
                    <a:lnTo>
                      <a:pt x="433" y="3614"/>
                    </a:lnTo>
                    <a:lnTo>
                      <a:pt x="374" y="3521"/>
                    </a:lnTo>
                    <a:lnTo>
                      <a:pt x="319" y="3425"/>
                    </a:lnTo>
                    <a:lnTo>
                      <a:pt x="268" y="3325"/>
                    </a:lnTo>
                    <a:lnTo>
                      <a:pt x="221" y="3224"/>
                    </a:lnTo>
                    <a:lnTo>
                      <a:pt x="180" y="3120"/>
                    </a:lnTo>
                    <a:lnTo>
                      <a:pt x="145" y="3013"/>
                    </a:lnTo>
                    <a:lnTo>
                      <a:pt x="113" y="2905"/>
                    </a:lnTo>
                    <a:lnTo>
                      <a:pt x="88" y="2794"/>
                    </a:lnTo>
                    <a:lnTo>
                      <a:pt x="68" y="2682"/>
                    </a:lnTo>
                    <a:lnTo>
                      <a:pt x="53" y="2567"/>
                    </a:lnTo>
                    <a:lnTo>
                      <a:pt x="44" y="2450"/>
                    </a:lnTo>
                    <a:lnTo>
                      <a:pt x="42" y="2333"/>
                    </a:lnTo>
                    <a:lnTo>
                      <a:pt x="44" y="2215"/>
                    </a:lnTo>
                    <a:lnTo>
                      <a:pt x="53" y="2098"/>
                    </a:lnTo>
                    <a:lnTo>
                      <a:pt x="68" y="1984"/>
                    </a:lnTo>
                    <a:lnTo>
                      <a:pt x="88" y="1870"/>
                    </a:lnTo>
                    <a:lnTo>
                      <a:pt x="113" y="1760"/>
                    </a:lnTo>
                    <a:lnTo>
                      <a:pt x="145" y="1651"/>
                    </a:lnTo>
                    <a:lnTo>
                      <a:pt x="180" y="1545"/>
                    </a:lnTo>
                    <a:lnTo>
                      <a:pt x="221" y="1441"/>
                    </a:lnTo>
                    <a:lnTo>
                      <a:pt x="268" y="1339"/>
                    </a:lnTo>
                    <a:lnTo>
                      <a:pt x="319" y="1241"/>
                    </a:lnTo>
                    <a:lnTo>
                      <a:pt x="374" y="1145"/>
                    </a:lnTo>
                    <a:lnTo>
                      <a:pt x="433" y="1052"/>
                    </a:lnTo>
                    <a:lnTo>
                      <a:pt x="497" y="962"/>
                    </a:lnTo>
                    <a:lnTo>
                      <a:pt x="565" y="876"/>
                    </a:lnTo>
                    <a:lnTo>
                      <a:pt x="637" y="793"/>
                    </a:lnTo>
                    <a:lnTo>
                      <a:pt x="713" y="713"/>
                    </a:lnTo>
                    <a:lnTo>
                      <a:pt x="792" y="637"/>
                    </a:lnTo>
                    <a:lnTo>
                      <a:pt x="875" y="565"/>
                    </a:lnTo>
                    <a:lnTo>
                      <a:pt x="963" y="497"/>
                    </a:lnTo>
                    <a:lnTo>
                      <a:pt x="1052" y="433"/>
                    </a:lnTo>
                    <a:lnTo>
                      <a:pt x="1145" y="374"/>
                    </a:lnTo>
                    <a:lnTo>
                      <a:pt x="1241" y="318"/>
                    </a:lnTo>
                    <a:lnTo>
                      <a:pt x="1340" y="268"/>
                    </a:lnTo>
                    <a:lnTo>
                      <a:pt x="1441" y="221"/>
                    </a:lnTo>
                    <a:lnTo>
                      <a:pt x="1545" y="180"/>
                    </a:lnTo>
                    <a:lnTo>
                      <a:pt x="1652" y="145"/>
                    </a:lnTo>
                    <a:lnTo>
                      <a:pt x="1760" y="114"/>
                    </a:lnTo>
                    <a:lnTo>
                      <a:pt x="1871" y="88"/>
                    </a:lnTo>
                    <a:lnTo>
                      <a:pt x="1984" y="68"/>
                    </a:lnTo>
                    <a:lnTo>
                      <a:pt x="2099" y="54"/>
                    </a:lnTo>
                    <a:lnTo>
                      <a:pt x="2215" y="44"/>
                    </a:lnTo>
                    <a:lnTo>
                      <a:pt x="2333" y="42"/>
                    </a:lnTo>
                    <a:lnTo>
                      <a:pt x="2452" y="44"/>
                    </a:lnTo>
                    <a:lnTo>
                      <a:pt x="2567" y="54"/>
                    </a:lnTo>
                    <a:lnTo>
                      <a:pt x="2682" y="68"/>
                    </a:lnTo>
                    <a:lnTo>
                      <a:pt x="2795" y="88"/>
                    </a:lnTo>
                    <a:lnTo>
                      <a:pt x="2905" y="114"/>
                    </a:lnTo>
                    <a:lnTo>
                      <a:pt x="3014" y="145"/>
                    </a:lnTo>
                    <a:lnTo>
                      <a:pt x="3121" y="180"/>
                    </a:lnTo>
                    <a:lnTo>
                      <a:pt x="3225" y="221"/>
                    </a:lnTo>
                    <a:lnTo>
                      <a:pt x="3327" y="268"/>
                    </a:lnTo>
                    <a:lnTo>
                      <a:pt x="3425" y="318"/>
                    </a:lnTo>
                    <a:lnTo>
                      <a:pt x="3521" y="374"/>
                    </a:lnTo>
                    <a:lnTo>
                      <a:pt x="3614" y="433"/>
                    </a:lnTo>
                    <a:lnTo>
                      <a:pt x="3704" y="497"/>
                    </a:lnTo>
                    <a:lnTo>
                      <a:pt x="3791" y="565"/>
                    </a:lnTo>
                    <a:lnTo>
                      <a:pt x="3875" y="637"/>
                    </a:lnTo>
                    <a:lnTo>
                      <a:pt x="3953" y="713"/>
                    </a:lnTo>
                    <a:lnTo>
                      <a:pt x="4029" y="793"/>
                    </a:lnTo>
                    <a:lnTo>
                      <a:pt x="4101" y="876"/>
                    </a:lnTo>
                    <a:lnTo>
                      <a:pt x="4170" y="962"/>
                    </a:lnTo>
                    <a:lnTo>
                      <a:pt x="4233" y="1052"/>
                    </a:lnTo>
                    <a:lnTo>
                      <a:pt x="4293" y="1145"/>
                    </a:lnTo>
                    <a:lnTo>
                      <a:pt x="4348" y="1241"/>
                    </a:lnTo>
                    <a:lnTo>
                      <a:pt x="4399" y="1339"/>
                    </a:lnTo>
                    <a:lnTo>
                      <a:pt x="4445" y="1441"/>
                    </a:lnTo>
                    <a:lnTo>
                      <a:pt x="4486" y="1545"/>
                    </a:lnTo>
                    <a:lnTo>
                      <a:pt x="4522" y="1651"/>
                    </a:lnTo>
                    <a:lnTo>
                      <a:pt x="4553" y="1760"/>
                    </a:lnTo>
                    <a:lnTo>
                      <a:pt x="4578" y="1870"/>
                    </a:lnTo>
                    <a:lnTo>
                      <a:pt x="4599" y="1984"/>
                    </a:lnTo>
                    <a:lnTo>
                      <a:pt x="4613" y="2098"/>
                    </a:lnTo>
                    <a:lnTo>
                      <a:pt x="4622" y="2215"/>
                    </a:lnTo>
                    <a:lnTo>
                      <a:pt x="4624" y="2333"/>
                    </a:lnTo>
                    <a:lnTo>
                      <a:pt x="4624" y="2370"/>
                    </a:lnTo>
                    <a:lnTo>
                      <a:pt x="4623" y="2409"/>
                    </a:lnTo>
                    <a:lnTo>
                      <a:pt x="4622" y="2447"/>
                    </a:lnTo>
                    <a:lnTo>
                      <a:pt x="4620" y="2486"/>
                    </a:lnTo>
                    <a:lnTo>
                      <a:pt x="4617" y="2524"/>
                    </a:lnTo>
                    <a:lnTo>
                      <a:pt x="4614" y="2562"/>
                    </a:lnTo>
                    <a:lnTo>
                      <a:pt x="4609" y="2598"/>
                    </a:lnTo>
                    <a:lnTo>
                      <a:pt x="4605" y="2636"/>
                    </a:lnTo>
                    <a:lnTo>
                      <a:pt x="4600" y="2673"/>
                    </a:lnTo>
                    <a:lnTo>
                      <a:pt x="4594" y="2711"/>
                    </a:lnTo>
                    <a:lnTo>
                      <a:pt x="4588" y="2747"/>
                    </a:lnTo>
                    <a:lnTo>
                      <a:pt x="4580" y="2784"/>
                    </a:lnTo>
                    <a:lnTo>
                      <a:pt x="4573" y="2820"/>
                    </a:lnTo>
                    <a:lnTo>
                      <a:pt x="4565" y="2856"/>
                    </a:lnTo>
                    <a:lnTo>
                      <a:pt x="4555" y="2892"/>
                    </a:lnTo>
                    <a:lnTo>
                      <a:pt x="4547" y="2928"/>
                    </a:lnTo>
                    <a:lnTo>
                      <a:pt x="4587" y="2939"/>
                    </a:lnTo>
                    <a:lnTo>
                      <a:pt x="4596" y="2902"/>
                    </a:lnTo>
                    <a:lnTo>
                      <a:pt x="4605" y="2866"/>
                    </a:lnTo>
                    <a:lnTo>
                      <a:pt x="4614" y="2829"/>
                    </a:lnTo>
                    <a:lnTo>
                      <a:pt x="4621" y="2792"/>
                    </a:lnTo>
                    <a:lnTo>
                      <a:pt x="4629" y="2755"/>
                    </a:lnTo>
                    <a:lnTo>
                      <a:pt x="4635" y="2717"/>
                    </a:lnTo>
                    <a:lnTo>
                      <a:pt x="4641" y="2679"/>
                    </a:lnTo>
                    <a:lnTo>
                      <a:pt x="4646" y="2642"/>
                    </a:lnTo>
                    <a:lnTo>
                      <a:pt x="4650" y="2604"/>
                    </a:lnTo>
                    <a:lnTo>
                      <a:pt x="4655" y="2566"/>
                    </a:lnTo>
                    <a:lnTo>
                      <a:pt x="4659" y="2527"/>
                    </a:lnTo>
                    <a:lnTo>
                      <a:pt x="4661" y="2488"/>
                    </a:lnTo>
                    <a:lnTo>
                      <a:pt x="4663" y="2449"/>
                    </a:lnTo>
                    <a:lnTo>
                      <a:pt x="4666" y="2410"/>
                    </a:lnTo>
                    <a:lnTo>
                      <a:pt x="4667" y="2372"/>
                    </a:lnTo>
                    <a:lnTo>
                      <a:pt x="4667" y="233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56160" y="2079720"/>
                <a:ext cx="1836720" cy="1834920"/>
              </a:xfrm>
              <a:custGeom>
                <a:avLst/>
                <a:gdLst/>
                <a:ahLst/>
                <a:rect l="l" t="t" r="r" b="b"/>
                <a:pathLst>
                  <a:path w="4626" h="4624">
                    <a:moveTo>
                      <a:pt x="4626" y="2313"/>
                    </a:moveTo>
                    <a:lnTo>
                      <a:pt x="4623" y="2194"/>
                    </a:lnTo>
                    <a:lnTo>
                      <a:pt x="4614" y="2076"/>
                    </a:lnTo>
                    <a:lnTo>
                      <a:pt x="4599" y="1961"/>
                    </a:lnTo>
                    <a:lnTo>
                      <a:pt x="4579" y="1846"/>
                    </a:lnTo>
                    <a:lnTo>
                      <a:pt x="4553" y="1735"/>
                    </a:lnTo>
                    <a:lnTo>
                      <a:pt x="4521" y="1625"/>
                    </a:lnTo>
                    <a:lnTo>
                      <a:pt x="4486" y="1518"/>
                    </a:lnTo>
                    <a:lnTo>
                      <a:pt x="4445" y="1413"/>
                    </a:lnTo>
                    <a:lnTo>
                      <a:pt x="4398" y="1310"/>
                    </a:lnTo>
                    <a:lnTo>
                      <a:pt x="4346" y="1211"/>
                    </a:lnTo>
                    <a:lnTo>
                      <a:pt x="4291" y="1114"/>
                    </a:lnTo>
                    <a:lnTo>
                      <a:pt x="4231" y="1020"/>
                    </a:lnTo>
                    <a:lnTo>
                      <a:pt x="4166" y="929"/>
                    </a:lnTo>
                    <a:lnTo>
                      <a:pt x="4098" y="842"/>
                    </a:lnTo>
                    <a:lnTo>
                      <a:pt x="4025" y="759"/>
                    </a:lnTo>
                    <a:lnTo>
                      <a:pt x="3949" y="678"/>
                    </a:lnTo>
                    <a:lnTo>
                      <a:pt x="3868" y="601"/>
                    </a:lnTo>
                    <a:lnTo>
                      <a:pt x="3784" y="529"/>
                    </a:lnTo>
                    <a:lnTo>
                      <a:pt x="3697" y="460"/>
                    </a:lnTo>
                    <a:lnTo>
                      <a:pt x="3606" y="396"/>
                    </a:lnTo>
                    <a:lnTo>
                      <a:pt x="3512" y="335"/>
                    </a:lnTo>
                    <a:lnTo>
                      <a:pt x="3416" y="280"/>
                    </a:lnTo>
                    <a:lnTo>
                      <a:pt x="3315" y="229"/>
                    </a:lnTo>
                    <a:lnTo>
                      <a:pt x="3214" y="183"/>
                    </a:lnTo>
                    <a:lnTo>
                      <a:pt x="3108" y="141"/>
                    </a:lnTo>
                    <a:lnTo>
                      <a:pt x="3001" y="105"/>
                    </a:lnTo>
                    <a:lnTo>
                      <a:pt x="2891" y="74"/>
                    </a:lnTo>
                    <a:lnTo>
                      <a:pt x="2779" y="48"/>
                    </a:lnTo>
                    <a:lnTo>
                      <a:pt x="2665" y="27"/>
                    </a:lnTo>
                    <a:lnTo>
                      <a:pt x="2549" y="12"/>
                    </a:lnTo>
                    <a:lnTo>
                      <a:pt x="2433" y="4"/>
                    </a:lnTo>
                    <a:lnTo>
                      <a:pt x="2313" y="0"/>
                    </a:lnTo>
                    <a:lnTo>
                      <a:pt x="2194" y="4"/>
                    </a:lnTo>
                    <a:lnTo>
                      <a:pt x="2077" y="12"/>
                    </a:lnTo>
                    <a:lnTo>
                      <a:pt x="1961" y="27"/>
                    </a:lnTo>
                    <a:lnTo>
                      <a:pt x="1847" y="48"/>
                    </a:lnTo>
                    <a:lnTo>
                      <a:pt x="1736" y="74"/>
                    </a:lnTo>
                    <a:lnTo>
                      <a:pt x="1625" y="105"/>
                    </a:lnTo>
                    <a:lnTo>
                      <a:pt x="1518" y="141"/>
                    </a:lnTo>
                    <a:lnTo>
                      <a:pt x="1413" y="183"/>
                    </a:lnTo>
                    <a:lnTo>
                      <a:pt x="1311" y="229"/>
                    </a:lnTo>
                    <a:lnTo>
                      <a:pt x="1210" y="280"/>
                    </a:lnTo>
                    <a:lnTo>
                      <a:pt x="1114" y="335"/>
                    </a:lnTo>
                    <a:lnTo>
                      <a:pt x="1020" y="396"/>
                    </a:lnTo>
                    <a:lnTo>
                      <a:pt x="930" y="460"/>
                    </a:lnTo>
                    <a:lnTo>
                      <a:pt x="842" y="529"/>
                    </a:lnTo>
                    <a:lnTo>
                      <a:pt x="758" y="601"/>
                    </a:lnTo>
                    <a:lnTo>
                      <a:pt x="678" y="678"/>
                    </a:lnTo>
                    <a:lnTo>
                      <a:pt x="601" y="759"/>
                    </a:lnTo>
                    <a:lnTo>
                      <a:pt x="529" y="842"/>
                    </a:lnTo>
                    <a:lnTo>
                      <a:pt x="460" y="929"/>
                    </a:lnTo>
                    <a:lnTo>
                      <a:pt x="396" y="1020"/>
                    </a:lnTo>
                    <a:lnTo>
                      <a:pt x="335" y="1114"/>
                    </a:lnTo>
                    <a:lnTo>
                      <a:pt x="280" y="1211"/>
                    </a:lnTo>
                    <a:lnTo>
                      <a:pt x="228" y="1310"/>
                    </a:lnTo>
                    <a:lnTo>
                      <a:pt x="182" y="1413"/>
                    </a:lnTo>
                    <a:lnTo>
                      <a:pt x="141" y="1518"/>
                    </a:lnTo>
                    <a:lnTo>
                      <a:pt x="104" y="1625"/>
                    </a:lnTo>
                    <a:lnTo>
                      <a:pt x="74" y="1735"/>
                    </a:lnTo>
                    <a:lnTo>
                      <a:pt x="48" y="1846"/>
                    </a:lnTo>
                    <a:lnTo>
                      <a:pt x="27" y="1961"/>
                    </a:lnTo>
                    <a:lnTo>
                      <a:pt x="12" y="2076"/>
                    </a:lnTo>
                    <a:lnTo>
                      <a:pt x="4" y="2194"/>
                    </a:lnTo>
                    <a:lnTo>
                      <a:pt x="0" y="2313"/>
                    </a:lnTo>
                    <a:lnTo>
                      <a:pt x="4" y="2431"/>
                    </a:lnTo>
                    <a:lnTo>
                      <a:pt x="12" y="2549"/>
                    </a:lnTo>
                    <a:lnTo>
                      <a:pt x="27" y="2665"/>
                    </a:lnTo>
                    <a:lnTo>
                      <a:pt x="48" y="2778"/>
                    </a:lnTo>
                    <a:lnTo>
                      <a:pt x="74" y="2890"/>
                    </a:lnTo>
                    <a:lnTo>
                      <a:pt x="104" y="3000"/>
                    </a:lnTo>
                    <a:lnTo>
                      <a:pt x="141" y="3108"/>
                    </a:lnTo>
                    <a:lnTo>
                      <a:pt x="182" y="3212"/>
                    </a:lnTo>
                    <a:lnTo>
                      <a:pt x="228" y="3315"/>
                    </a:lnTo>
                    <a:lnTo>
                      <a:pt x="280" y="3414"/>
                    </a:lnTo>
                    <a:lnTo>
                      <a:pt x="335" y="3511"/>
                    </a:lnTo>
                    <a:lnTo>
                      <a:pt x="396" y="3604"/>
                    </a:lnTo>
                    <a:lnTo>
                      <a:pt x="460" y="3695"/>
                    </a:lnTo>
                    <a:lnTo>
                      <a:pt x="529" y="3783"/>
                    </a:lnTo>
                    <a:lnTo>
                      <a:pt x="601" y="3867"/>
                    </a:lnTo>
                    <a:lnTo>
                      <a:pt x="678" y="3947"/>
                    </a:lnTo>
                    <a:lnTo>
                      <a:pt x="758" y="4023"/>
                    </a:lnTo>
                    <a:lnTo>
                      <a:pt x="842" y="4096"/>
                    </a:lnTo>
                    <a:lnTo>
                      <a:pt x="930" y="4165"/>
                    </a:lnTo>
                    <a:lnTo>
                      <a:pt x="1020" y="4230"/>
                    </a:lnTo>
                    <a:lnTo>
                      <a:pt x="1114" y="4289"/>
                    </a:lnTo>
                    <a:lnTo>
                      <a:pt x="1210" y="4345"/>
                    </a:lnTo>
                    <a:lnTo>
                      <a:pt x="1311" y="4396"/>
                    </a:lnTo>
                    <a:lnTo>
                      <a:pt x="1413" y="4442"/>
                    </a:lnTo>
                    <a:lnTo>
                      <a:pt x="1518" y="4483"/>
                    </a:lnTo>
                    <a:lnTo>
                      <a:pt x="1625" y="4520"/>
                    </a:lnTo>
                    <a:lnTo>
                      <a:pt x="1736" y="4552"/>
                    </a:lnTo>
                    <a:lnTo>
                      <a:pt x="1847" y="4577"/>
                    </a:lnTo>
                    <a:lnTo>
                      <a:pt x="1961" y="4597"/>
                    </a:lnTo>
                    <a:lnTo>
                      <a:pt x="2077" y="4612"/>
                    </a:lnTo>
                    <a:lnTo>
                      <a:pt x="2194" y="4621"/>
                    </a:lnTo>
                    <a:lnTo>
                      <a:pt x="2313" y="4624"/>
                    </a:lnTo>
                    <a:lnTo>
                      <a:pt x="2381" y="4623"/>
                    </a:lnTo>
                    <a:lnTo>
                      <a:pt x="2449" y="4620"/>
                    </a:lnTo>
                    <a:lnTo>
                      <a:pt x="2516" y="4615"/>
                    </a:lnTo>
                    <a:lnTo>
                      <a:pt x="2582" y="4609"/>
                    </a:lnTo>
                    <a:lnTo>
                      <a:pt x="2648" y="4600"/>
                    </a:lnTo>
                    <a:lnTo>
                      <a:pt x="2714" y="4589"/>
                    </a:lnTo>
                    <a:lnTo>
                      <a:pt x="2777" y="4577"/>
                    </a:lnTo>
                    <a:lnTo>
                      <a:pt x="2842" y="4563"/>
                    </a:lnTo>
                    <a:lnTo>
                      <a:pt x="2905" y="4547"/>
                    </a:lnTo>
                    <a:lnTo>
                      <a:pt x="2967" y="4530"/>
                    </a:lnTo>
                    <a:lnTo>
                      <a:pt x="3029" y="4510"/>
                    </a:lnTo>
                    <a:lnTo>
                      <a:pt x="3091" y="4490"/>
                    </a:lnTo>
                    <a:lnTo>
                      <a:pt x="3151" y="4467"/>
                    </a:lnTo>
                    <a:lnTo>
                      <a:pt x="3211" y="4444"/>
                    </a:lnTo>
                    <a:lnTo>
                      <a:pt x="3269" y="4418"/>
                    </a:lnTo>
                    <a:lnTo>
                      <a:pt x="3327" y="4391"/>
                    </a:lnTo>
                    <a:lnTo>
                      <a:pt x="3309" y="4353"/>
                    </a:lnTo>
                    <a:lnTo>
                      <a:pt x="3252" y="4380"/>
                    </a:lnTo>
                    <a:lnTo>
                      <a:pt x="3194" y="4405"/>
                    </a:lnTo>
                    <a:lnTo>
                      <a:pt x="3136" y="4428"/>
                    </a:lnTo>
                    <a:lnTo>
                      <a:pt x="3077" y="4451"/>
                    </a:lnTo>
                    <a:lnTo>
                      <a:pt x="3016" y="4472"/>
                    </a:lnTo>
                    <a:lnTo>
                      <a:pt x="2956" y="4490"/>
                    </a:lnTo>
                    <a:lnTo>
                      <a:pt x="2894" y="4507"/>
                    </a:lnTo>
                    <a:lnTo>
                      <a:pt x="2832" y="4522"/>
                    </a:lnTo>
                    <a:lnTo>
                      <a:pt x="2770" y="4536"/>
                    </a:lnTo>
                    <a:lnTo>
                      <a:pt x="2706" y="4548"/>
                    </a:lnTo>
                    <a:lnTo>
                      <a:pt x="2642" y="4559"/>
                    </a:lnTo>
                    <a:lnTo>
                      <a:pt x="2577" y="4567"/>
                    </a:lnTo>
                    <a:lnTo>
                      <a:pt x="2511" y="4574"/>
                    </a:lnTo>
                    <a:lnTo>
                      <a:pt x="2447" y="4579"/>
                    </a:lnTo>
                    <a:lnTo>
                      <a:pt x="2380" y="4582"/>
                    </a:lnTo>
                    <a:lnTo>
                      <a:pt x="2313" y="4582"/>
                    </a:lnTo>
                    <a:lnTo>
                      <a:pt x="2196" y="4580"/>
                    </a:lnTo>
                    <a:lnTo>
                      <a:pt x="2081" y="4571"/>
                    </a:lnTo>
                    <a:lnTo>
                      <a:pt x="1967" y="4556"/>
                    </a:lnTo>
                    <a:lnTo>
                      <a:pt x="1856" y="4536"/>
                    </a:lnTo>
                    <a:lnTo>
                      <a:pt x="1745" y="4510"/>
                    </a:lnTo>
                    <a:lnTo>
                      <a:pt x="1638" y="4480"/>
                    </a:lnTo>
                    <a:lnTo>
                      <a:pt x="1532" y="4445"/>
                    </a:lnTo>
                    <a:lnTo>
                      <a:pt x="1429" y="4404"/>
                    </a:lnTo>
                    <a:lnTo>
                      <a:pt x="1328" y="4358"/>
                    </a:lnTo>
                    <a:lnTo>
                      <a:pt x="1231" y="4309"/>
                    </a:lnTo>
                    <a:lnTo>
                      <a:pt x="1136" y="4253"/>
                    </a:lnTo>
                    <a:lnTo>
                      <a:pt x="1043" y="4195"/>
                    </a:lnTo>
                    <a:lnTo>
                      <a:pt x="954" y="4131"/>
                    </a:lnTo>
                    <a:lnTo>
                      <a:pt x="869" y="4064"/>
                    </a:lnTo>
                    <a:lnTo>
                      <a:pt x="786" y="3992"/>
                    </a:lnTo>
                    <a:lnTo>
                      <a:pt x="707" y="3918"/>
                    </a:lnTo>
                    <a:lnTo>
                      <a:pt x="632" y="3839"/>
                    </a:lnTo>
                    <a:lnTo>
                      <a:pt x="561" y="3757"/>
                    </a:lnTo>
                    <a:lnTo>
                      <a:pt x="493" y="3670"/>
                    </a:lnTo>
                    <a:lnTo>
                      <a:pt x="430" y="3582"/>
                    </a:lnTo>
                    <a:lnTo>
                      <a:pt x="371" y="3490"/>
                    </a:lnTo>
                    <a:lnTo>
                      <a:pt x="316" y="3395"/>
                    </a:lnTo>
                    <a:lnTo>
                      <a:pt x="266" y="3297"/>
                    </a:lnTo>
                    <a:lnTo>
                      <a:pt x="221" y="3196"/>
                    </a:lnTo>
                    <a:lnTo>
                      <a:pt x="180" y="3092"/>
                    </a:lnTo>
                    <a:lnTo>
                      <a:pt x="144" y="2988"/>
                    </a:lnTo>
                    <a:lnTo>
                      <a:pt x="114" y="2880"/>
                    </a:lnTo>
                    <a:lnTo>
                      <a:pt x="89" y="2770"/>
                    </a:lnTo>
                    <a:lnTo>
                      <a:pt x="68" y="2658"/>
                    </a:lnTo>
                    <a:lnTo>
                      <a:pt x="54" y="2545"/>
                    </a:lnTo>
                    <a:lnTo>
                      <a:pt x="46" y="2429"/>
                    </a:lnTo>
                    <a:lnTo>
                      <a:pt x="42" y="2313"/>
                    </a:lnTo>
                    <a:lnTo>
                      <a:pt x="46" y="2196"/>
                    </a:lnTo>
                    <a:lnTo>
                      <a:pt x="54" y="2080"/>
                    </a:lnTo>
                    <a:lnTo>
                      <a:pt x="68" y="1967"/>
                    </a:lnTo>
                    <a:lnTo>
                      <a:pt x="89" y="1855"/>
                    </a:lnTo>
                    <a:lnTo>
                      <a:pt x="114" y="1746"/>
                    </a:lnTo>
                    <a:lnTo>
                      <a:pt x="144" y="1638"/>
                    </a:lnTo>
                    <a:lnTo>
                      <a:pt x="180" y="1532"/>
                    </a:lnTo>
                    <a:lnTo>
                      <a:pt x="221" y="1429"/>
                    </a:lnTo>
                    <a:lnTo>
                      <a:pt x="266" y="1329"/>
                    </a:lnTo>
                    <a:lnTo>
                      <a:pt x="316" y="1231"/>
                    </a:lnTo>
                    <a:lnTo>
                      <a:pt x="371" y="1135"/>
                    </a:lnTo>
                    <a:lnTo>
                      <a:pt x="430" y="1044"/>
                    </a:lnTo>
                    <a:lnTo>
                      <a:pt x="493" y="954"/>
                    </a:lnTo>
                    <a:lnTo>
                      <a:pt x="561" y="869"/>
                    </a:lnTo>
                    <a:lnTo>
                      <a:pt x="632" y="787"/>
                    </a:lnTo>
                    <a:lnTo>
                      <a:pt x="707" y="708"/>
                    </a:lnTo>
                    <a:lnTo>
                      <a:pt x="786" y="632"/>
                    </a:lnTo>
                    <a:lnTo>
                      <a:pt x="869" y="561"/>
                    </a:lnTo>
                    <a:lnTo>
                      <a:pt x="954" y="494"/>
                    </a:lnTo>
                    <a:lnTo>
                      <a:pt x="1043" y="430"/>
                    </a:lnTo>
                    <a:lnTo>
                      <a:pt x="1136" y="371"/>
                    </a:lnTo>
                    <a:lnTo>
                      <a:pt x="1231" y="317"/>
                    </a:lnTo>
                    <a:lnTo>
                      <a:pt x="1328" y="266"/>
                    </a:lnTo>
                    <a:lnTo>
                      <a:pt x="1429" y="221"/>
                    </a:lnTo>
                    <a:lnTo>
                      <a:pt x="1532" y="181"/>
                    </a:lnTo>
                    <a:lnTo>
                      <a:pt x="1638" y="145"/>
                    </a:lnTo>
                    <a:lnTo>
                      <a:pt x="1745" y="114"/>
                    </a:lnTo>
                    <a:lnTo>
                      <a:pt x="1856" y="89"/>
                    </a:lnTo>
                    <a:lnTo>
                      <a:pt x="1967" y="68"/>
                    </a:lnTo>
                    <a:lnTo>
                      <a:pt x="2081" y="54"/>
                    </a:lnTo>
                    <a:lnTo>
                      <a:pt x="2196" y="46"/>
                    </a:lnTo>
                    <a:lnTo>
                      <a:pt x="2313" y="43"/>
                    </a:lnTo>
                    <a:lnTo>
                      <a:pt x="2430" y="46"/>
                    </a:lnTo>
                    <a:lnTo>
                      <a:pt x="2545" y="54"/>
                    </a:lnTo>
                    <a:lnTo>
                      <a:pt x="2659" y="68"/>
                    </a:lnTo>
                    <a:lnTo>
                      <a:pt x="2771" y="89"/>
                    </a:lnTo>
                    <a:lnTo>
                      <a:pt x="2881" y="114"/>
                    </a:lnTo>
                    <a:lnTo>
                      <a:pt x="2988" y="145"/>
                    </a:lnTo>
                    <a:lnTo>
                      <a:pt x="3094" y="181"/>
                    </a:lnTo>
                    <a:lnTo>
                      <a:pt x="3197" y="221"/>
                    </a:lnTo>
                    <a:lnTo>
                      <a:pt x="3298" y="266"/>
                    </a:lnTo>
                    <a:lnTo>
                      <a:pt x="3395" y="317"/>
                    </a:lnTo>
                    <a:lnTo>
                      <a:pt x="3490" y="371"/>
                    </a:lnTo>
                    <a:lnTo>
                      <a:pt x="3582" y="430"/>
                    </a:lnTo>
                    <a:lnTo>
                      <a:pt x="3672" y="494"/>
                    </a:lnTo>
                    <a:lnTo>
                      <a:pt x="3757" y="561"/>
                    </a:lnTo>
                    <a:lnTo>
                      <a:pt x="3841" y="632"/>
                    </a:lnTo>
                    <a:lnTo>
                      <a:pt x="3919" y="708"/>
                    </a:lnTo>
                    <a:lnTo>
                      <a:pt x="3994" y="787"/>
                    </a:lnTo>
                    <a:lnTo>
                      <a:pt x="4065" y="869"/>
                    </a:lnTo>
                    <a:lnTo>
                      <a:pt x="4133" y="954"/>
                    </a:lnTo>
                    <a:lnTo>
                      <a:pt x="4196" y="1044"/>
                    </a:lnTo>
                    <a:lnTo>
                      <a:pt x="4255" y="1135"/>
                    </a:lnTo>
                    <a:lnTo>
                      <a:pt x="4309" y="1231"/>
                    </a:lnTo>
                    <a:lnTo>
                      <a:pt x="4360" y="1329"/>
                    </a:lnTo>
                    <a:lnTo>
                      <a:pt x="4406" y="1429"/>
                    </a:lnTo>
                    <a:lnTo>
                      <a:pt x="4447" y="1532"/>
                    </a:lnTo>
                    <a:lnTo>
                      <a:pt x="4482" y="1638"/>
                    </a:lnTo>
                    <a:lnTo>
                      <a:pt x="4513" y="1746"/>
                    </a:lnTo>
                    <a:lnTo>
                      <a:pt x="4537" y="1855"/>
                    </a:lnTo>
                    <a:lnTo>
                      <a:pt x="4558" y="1967"/>
                    </a:lnTo>
                    <a:lnTo>
                      <a:pt x="4572" y="2080"/>
                    </a:lnTo>
                    <a:lnTo>
                      <a:pt x="4581" y="2196"/>
                    </a:lnTo>
                    <a:lnTo>
                      <a:pt x="4584" y="2313"/>
                    </a:lnTo>
                    <a:lnTo>
                      <a:pt x="4584" y="2350"/>
                    </a:lnTo>
                    <a:lnTo>
                      <a:pt x="4583" y="2388"/>
                    </a:lnTo>
                    <a:lnTo>
                      <a:pt x="4582" y="2426"/>
                    </a:lnTo>
                    <a:lnTo>
                      <a:pt x="4579" y="2464"/>
                    </a:lnTo>
                    <a:lnTo>
                      <a:pt x="4576" y="2502"/>
                    </a:lnTo>
                    <a:lnTo>
                      <a:pt x="4573" y="2539"/>
                    </a:lnTo>
                    <a:lnTo>
                      <a:pt x="4569" y="2576"/>
                    </a:lnTo>
                    <a:lnTo>
                      <a:pt x="4564" y="2613"/>
                    </a:lnTo>
                    <a:lnTo>
                      <a:pt x="4559" y="2651"/>
                    </a:lnTo>
                    <a:lnTo>
                      <a:pt x="4554" y="2687"/>
                    </a:lnTo>
                    <a:lnTo>
                      <a:pt x="4547" y="2723"/>
                    </a:lnTo>
                    <a:lnTo>
                      <a:pt x="4540" y="2760"/>
                    </a:lnTo>
                    <a:lnTo>
                      <a:pt x="4532" y="2795"/>
                    </a:lnTo>
                    <a:lnTo>
                      <a:pt x="4525" y="2831"/>
                    </a:lnTo>
                    <a:lnTo>
                      <a:pt x="4516" y="2867"/>
                    </a:lnTo>
                    <a:lnTo>
                      <a:pt x="4506" y="2902"/>
                    </a:lnTo>
                    <a:lnTo>
                      <a:pt x="4546" y="2913"/>
                    </a:lnTo>
                    <a:lnTo>
                      <a:pt x="4556" y="2878"/>
                    </a:lnTo>
                    <a:lnTo>
                      <a:pt x="4564" y="2841"/>
                    </a:lnTo>
                    <a:lnTo>
                      <a:pt x="4573" y="2804"/>
                    </a:lnTo>
                    <a:lnTo>
                      <a:pt x="4581" y="2767"/>
                    </a:lnTo>
                    <a:lnTo>
                      <a:pt x="4588" y="2731"/>
                    </a:lnTo>
                    <a:lnTo>
                      <a:pt x="4595" y="2694"/>
                    </a:lnTo>
                    <a:lnTo>
                      <a:pt x="4600" y="2656"/>
                    </a:lnTo>
                    <a:lnTo>
                      <a:pt x="4606" y="2619"/>
                    </a:lnTo>
                    <a:lnTo>
                      <a:pt x="4610" y="2582"/>
                    </a:lnTo>
                    <a:lnTo>
                      <a:pt x="4614" y="2544"/>
                    </a:lnTo>
                    <a:lnTo>
                      <a:pt x="4617" y="2505"/>
                    </a:lnTo>
                    <a:lnTo>
                      <a:pt x="4621" y="2467"/>
                    </a:lnTo>
                    <a:lnTo>
                      <a:pt x="4623" y="2428"/>
                    </a:lnTo>
                    <a:lnTo>
                      <a:pt x="4625" y="2390"/>
                    </a:lnTo>
                    <a:lnTo>
                      <a:pt x="4625" y="2352"/>
                    </a:lnTo>
                    <a:lnTo>
                      <a:pt x="4626" y="2313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664080" y="2089080"/>
                <a:ext cx="1819080" cy="1817640"/>
              </a:xfrm>
              <a:custGeom>
                <a:avLst/>
                <a:gdLst/>
                <a:ahLst/>
                <a:rect l="l" t="t" r="r" b="b"/>
                <a:pathLst>
                  <a:path w="4582" h="4581">
                    <a:moveTo>
                      <a:pt x="4582" y="2291"/>
                    </a:moveTo>
                    <a:lnTo>
                      <a:pt x="4580" y="2173"/>
                    </a:lnTo>
                    <a:lnTo>
                      <a:pt x="4571" y="2056"/>
                    </a:lnTo>
                    <a:lnTo>
                      <a:pt x="4557" y="1942"/>
                    </a:lnTo>
                    <a:lnTo>
                      <a:pt x="4536" y="1828"/>
                    </a:lnTo>
                    <a:lnTo>
                      <a:pt x="4511" y="1718"/>
                    </a:lnTo>
                    <a:lnTo>
                      <a:pt x="4480" y="1609"/>
                    </a:lnTo>
                    <a:lnTo>
                      <a:pt x="4444" y="1503"/>
                    </a:lnTo>
                    <a:lnTo>
                      <a:pt x="4403" y="1399"/>
                    </a:lnTo>
                    <a:lnTo>
                      <a:pt x="4357" y="1297"/>
                    </a:lnTo>
                    <a:lnTo>
                      <a:pt x="4306" y="1199"/>
                    </a:lnTo>
                    <a:lnTo>
                      <a:pt x="4251" y="1103"/>
                    </a:lnTo>
                    <a:lnTo>
                      <a:pt x="4191" y="1010"/>
                    </a:lnTo>
                    <a:lnTo>
                      <a:pt x="4128" y="920"/>
                    </a:lnTo>
                    <a:lnTo>
                      <a:pt x="4059" y="834"/>
                    </a:lnTo>
                    <a:lnTo>
                      <a:pt x="3987" y="751"/>
                    </a:lnTo>
                    <a:lnTo>
                      <a:pt x="3911" y="671"/>
                    </a:lnTo>
                    <a:lnTo>
                      <a:pt x="3833" y="595"/>
                    </a:lnTo>
                    <a:lnTo>
                      <a:pt x="3749" y="523"/>
                    </a:lnTo>
                    <a:lnTo>
                      <a:pt x="3662" y="455"/>
                    </a:lnTo>
                    <a:lnTo>
                      <a:pt x="3572" y="391"/>
                    </a:lnTo>
                    <a:lnTo>
                      <a:pt x="3479" y="332"/>
                    </a:lnTo>
                    <a:lnTo>
                      <a:pt x="3383" y="276"/>
                    </a:lnTo>
                    <a:lnTo>
                      <a:pt x="3285" y="226"/>
                    </a:lnTo>
                    <a:lnTo>
                      <a:pt x="3183" y="179"/>
                    </a:lnTo>
                    <a:lnTo>
                      <a:pt x="3079" y="138"/>
                    </a:lnTo>
                    <a:lnTo>
                      <a:pt x="2972" y="103"/>
                    </a:lnTo>
                    <a:lnTo>
                      <a:pt x="2863" y="72"/>
                    </a:lnTo>
                    <a:lnTo>
                      <a:pt x="2753" y="46"/>
                    </a:lnTo>
                    <a:lnTo>
                      <a:pt x="2640" y="26"/>
                    </a:lnTo>
                    <a:lnTo>
                      <a:pt x="2525" y="12"/>
                    </a:lnTo>
                    <a:lnTo>
                      <a:pt x="2410" y="2"/>
                    </a:lnTo>
                    <a:lnTo>
                      <a:pt x="2291" y="0"/>
                    </a:lnTo>
                    <a:lnTo>
                      <a:pt x="2173" y="2"/>
                    </a:lnTo>
                    <a:lnTo>
                      <a:pt x="2057" y="12"/>
                    </a:lnTo>
                    <a:lnTo>
                      <a:pt x="1942" y="26"/>
                    </a:lnTo>
                    <a:lnTo>
                      <a:pt x="1829" y="46"/>
                    </a:lnTo>
                    <a:lnTo>
                      <a:pt x="1718" y="72"/>
                    </a:lnTo>
                    <a:lnTo>
                      <a:pt x="1610" y="103"/>
                    </a:lnTo>
                    <a:lnTo>
                      <a:pt x="1503" y="138"/>
                    </a:lnTo>
                    <a:lnTo>
                      <a:pt x="1399" y="179"/>
                    </a:lnTo>
                    <a:lnTo>
                      <a:pt x="1298" y="226"/>
                    </a:lnTo>
                    <a:lnTo>
                      <a:pt x="1199" y="276"/>
                    </a:lnTo>
                    <a:lnTo>
                      <a:pt x="1103" y="332"/>
                    </a:lnTo>
                    <a:lnTo>
                      <a:pt x="1010" y="391"/>
                    </a:lnTo>
                    <a:lnTo>
                      <a:pt x="921" y="455"/>
                    </a:lnTo>
                    <a:lnTo>
                      <a:pt x="833" y="523"/>
                    </a:lnTo>
                    <a:lnTo>
                      <a:pt x="750" y="595"/>
                    </a:lnTo>
                    <a:lnTo>
                      <a:pt x="671" y="671"/>
                    </a:lnTo>
                    <a:lnTo>
                      <a:pt x="595" y="751"/>
                    </a:lnTo>
                    <a:lnTo>
                      <a:pt x="523" y="834"/>
                    </a:lnTo>
                    <a:lnTo>
                      <a:pt x="455" y="920"/>
                    </a:lnTo>
                    <a:lnTo>
                      <a:pt x="391" y="1010"/>
                    </a:lnTo>
                    <a:lnTo>
                      <a:pt x="332" y="1103"/>
                    </a:lnTo>
                    <a:lnTo>
                      <a:pt x="277" y="1199"/>
                    </a:lnTo>
                    <a:lnTo>
                      <a:pt x="226" y="1297"/>
                    </a:lnTo>
                    <a:lnTo>
                      <a:pt x="179" y="1399"/>
                    </a:lnTo>
                    <a:lnTo>
                      <a:pt x="138" y="1503"/>
                    </a:lnTo>
                    <a:lnTo>
                      <a:pt x="103" y="1609"/>
                    </a:lnTo>
                    <a:lnTo>
                      <a:pt x="71" y="1718"/>
                    </a:lnTo>
                    <a:lnTo>
                      <a:pt x="46" y="1828"/>
                    </a:lnTo>
                    <a:lnTo>
                      <a:pt x="26" y="1942"/>
                    </a:lnTo>
                    <a:lnTo>
                      <a:pt x="11" y="2056"/>
                    </a:lnTo>
                    <a:lnTo>
                      <a:pt x="2" y="2173"/>
                    </a:lnTo>
                    <a:lnTo>
                      <a:pt x="0" y="2291"/>
                    </a:lnTo>
                    <a:lnTo>
                      <a:pt x="2" y="2408"/>
                    </a:lnTo>
                    <a:lnTo>
                      <a:pt x="11" y="2525"/>
                    </a:lnTo>
                    <a:lnTo>
                      <a:pt x="26" y="2640"/>
                    </a:lnTo>
                    <a:lnTo>
                      <a:pt x="46" y="2752"/>
                    </a:lnTo>
                    <a:lnTo>
                      <a:pt x="71" y="2863"/>
                    </a:lnTo>
                    <a:lnTo>
                      <a:pt x="103" y="2971"/>
                    </a:lnTo>
                    <a:lnTo>
                      <a:pt x="138" y="3078"/>
                    </a:lnTo>
                    <a:lnTo>
                      <a:pt x="179" y="3182"/>
                    </a:lnTo>
                    <a:lnTo>
                      <a:pt x="226" y="3283"/>
                    </a:lnTo>
                    <a:lnTo>
                      <a:pt x="277" y="3383"/>
                    </a:lnTo>
                    <a:lnTo>
                      <a:pt x="332" y="3479"/>
                    </a:lnTo>
                    <a:lnTo>
                      <a:pt x="391" y="3572"/>
                    </a:lnTo>
                    <a:lnTo>
                      <a:pt x="455" y="3661"/>
                    </a:lnTo>
                    <a:lnTo>
                      <a:pt x="523" y="3748"/>
                    </a:lnTo>
                    <a:lnTo>
                      <a:pt x="595" y="3831"/>
                    </a:lnTo>
                    <a:lnTo>
                      <a:pt x="671" y="3911"/>
                    </a:lnTo>
                    <a:lnTo>
                      <a:pt x="750" y="3986"/>
                    </a:lnTo>
                    <a:lnTo>
                      <a:pt x="833" y="4058"/>
                    </a:lnTo>
                    <a:lnTo>
                      <a:pt x="921" y="4126"/>
                    </a:lnTo>
                    <a:lnTo>
                      <a:pt x="1010" y="4190"/>
                    </a:lnTo>
                    <a:lnTo>
                      <a:pt x="1103" y="4250"/>
                    </a:lnTo>
                    <a:lnTo>
                      <a:pt x="1199" y="4305"/>
                    </a:lnTo>
                    <a:lnTo>
                      <a:pt x="1298" y="4356"/>
                    </a:lnTo>
                    <a:lnTo>
                      <a:pt x="1399" y="4401"/>
                    </a:lnTo>
                    <a:lnTo>
                      <a:pt x="1503" y="4442"/>
                    </a:lnTo>
                    <a:lnTo>
                      <a:pt x="1610" y="4478"/>
                    </a:lnTo>
                    <a:lnTo>
                      <a:pt x="1718" y="4509"/>
                    </a:lnTo>
                    <a:lnTo>
                      <a:pt x="1829" y="4535"/>
                    </a:lnTo>
                    <a:lnTo>
                      <a:pt x="1942" y="4554"/>
                    </a:lnTo>
                    <a:lnTo>
                      <a:pt x="2057" y="4569"/>
                    </a:lnTo>
                    <a:lnTo>
                      <a:pt x="2173" y="4578"/>
                    </a:lnTo>
                    <a:lnTo>
                      <a:pt x="2291" y="4581"/>
                    </a:lnTo>
                    <a:lnTo>
                      <a:pt x="2359" y="4580"/>
                    </a:lnTo>
                    <a:lnTo>
                      <a:pt x="2426" y="4577"/>
                    </a:lnTo>
                    <a:lnTo>
                      <a:pt x="2492" y="4573"/>
                    </a:lnTo>
                    <a:lnTo>
                      <a:pt x="2558" y="4566"/>
                    </a:lnTo>
                    <a:lnTo>
                      <a:pt x="2622" y="4558"/>
                    </a:lnTo>
                    <a:lnTo>
                      <a:pt x="2687" y="4547"/>
                    </a:lnTo>
                    <a:lnTo>
                      <a:pt x="2752" y="4535"/>
                    </a:lnTo>
                    <a:lnTo>
                      <a:pt x="2815" y="4521"/>
                    </a:lnTo>
                    <a:lnTo>
                      <a:pt x="2877" y="4506"/>
                    </a:lnTo>
                    <a:lnTo>
                      <a:pt x="2940" y="4488"/>
                    </a:lnTo>
                    <a:lnTo>
                      <a:pt x="3001" y="4469"/>
                    </a:lnTo>
                    <a:lnTo>
                      <a:pt x="3062" y="4449"/>
                    </a:lnTo>
                    <a:lnTo>
                      <a:pt x="3122" y="4426"/>
                    </a:lnTo>
                    <a:lnTo>
                      <a:pt x="3180" y="4402"/>
                    </a:lnTo>
                    <a:lnTo>
                      <a:pt x="3238" y="4376"/>
                    </a:lnTo>
                    <a:lnTo>
                      <a:pt x="3296" y="4349"/>
                    </a:lnTo>
                    <a:lnTo>
                      <a:pt x="3277" y="4312"/>
                    </a:lnTo>
                    <a:lnTo>
                      <a:pt x="3221" y="4338"/>
                    </a:lnTo>
                    <a:lnTo>
                      <a:pt x="3164" y="4363"/>
                    </a:lnTo>
                    <a:lnTo>
                      <a:pt x="3106" y="4387"/>
                    </a:lnTo>
                    <a:lnTo>
                      <a:pt x="3048" y="4409"/>
                    </a:lnTo>
                    <a:lnTo>
                      <a:pt x="2988" y="4429"/>
                    </a:lnTo>
                    <a:lnTo>
                      <a:pt x="2928" y="4449"/>
                    </a:lnTo>
                    <a:lnTo>
                      <a:pt x="2867" y="4465"/>
                    </a:lnTo>
                    <a:lnTo>
                      <a:pt x="2805" y="4481"/>
                    </a:lnTo>
                    <a:lnTo>
                      <a:pt x="2743" y="4494"/>
                    </a:lnTo>
                    <a:lnTo>
                      <a:pt x="2681" y="4506"/>
                    </a:lnTo>
                    <a:lnTo>
                      <a:pt x="2617" y="4517"/>
                    </a:lnTo>
                    <a:lnTo>
                      <a:pt x="2553" y="4524"/>
                    </a:lnTo>
                    <a:lnTo>
                      <a:pt x="2488" y="4531"/>
                    </a:lnTo>
                    <a:lnTo>
                      <a:pt x="2422" y="4536"/>
                    </a:lnTo>
                    <a:lnTo>
                      <a:pt x="2358" y="4538"/>
                    </a:lnTo>
                    <a:lnTo>
                      <a:pt x="2291" y="4539"/>
                    </a:lnTo>
                    <a:lnTo>
                      <a:pt x="2175" y="4537"/>
                    </a:lnTo>
                    <a:lnTo>
                      <a:pt x="2062" y="4527"/>
                    </a:lnTo>
                    <a:lnTo>
                      <a:pt x="1948" y="4513"/>
                    </a:lnTo>
                    <a:lnTo>
                      <a:pt x="1838" y="4494"/>
                    </a:lnTo>
                    <a:lnTo>
                      <a:pt x="1729" y="4469"/>
                    </a:lnTo>
                    <a:lnTo>
                      <a:pt x="1622" y="4439"/>
                    </a:lnTo>
                    <a:lnTo>
                      <a:pt x="1518" y="4403"/>
                    </a:lnTo>
                    <a:lnTo>
                      <a:pt x="1415" y="4363"/>
                    </a:lnTo>
                    <a:lnTo>
                      <a:pt x="1316" y="4318"/>
                    </a:lnTo>
                    <a:lnTo>
                      <a:pt x="1219" y="4268"/>
                    </a:lnTo>
                    <a:lnTo>
                      <a:pt x="1125" y="4214"/>
                    </a:lnTo>
                    <a:lnTo>
                      <a:pt x="1033" y="4156"/>
                    </a:lnTo>
                    <a:lnTo>
                      <a:pt x="945" y="4093"/>
                    </a:lnTo>
                    <a:lnTo>
                      <a:pt x="860" y="4026"/>
                    </a:lnTo>
                    <a:lnTo>
                      <a:pt x="778" y="3955"/>
                    </a:lnTo>
                    <a:lnTo>
                      <a:pt x="700" y="3880"/>
                    </a:lnTo>
                    <a:lnTo>
                      <a:pt x="626" y="3803"/>
                    </a:lnTo>
                    <a:lnTo>
                      <a:pt x="555" y="3721"/>
                    </a:lnTo>
                    <a:lnTo>
                      <a:pt x="488" y="3636"/>
                    </a:lnTo>
                    <a:lnTo>
                      <a:pt x="426" y="3548"/>
                    </a:lnTo>
                    <a:lnTo>
                      <a:pt x="367" y="3457"/>
                    </a:lnTo>
                    <a:lnTo>
                      <a:pt x="312" y="3362"/>
                    </a:lnTo>
                    <a:lnTo>
                      <a:pt x="262" y="3266"/>
                    </a:lnTo>
                    <a:lnTo>
                      <a:pt x="218" y="3165"/>
                    </a:lnTo>
                    <a:lnTo>
                      <a:pt x="177" y="3064"/>
                    </a:lnTo>
                    <a:lnTo>
                      <a:pt x="143" y="2959"/>
                    </a:lnTo>
                    <a:lnTo>
                      <a:pt x="112" y="2852"/>
                    </a:lnTo>
                    <a:lnTo>
                      <a:pt x="86" y="2743"/>
                    </a:lnTo>
                    <a:lnTo>
                      <a:pt x="67" y="2633"/>
                    </a:lnTo>
                    <a:lnTo>
                      <a:pt x="53" y="2521"/>
                    </a:lnTo>
                    <a:lnTo>
                      <a:pt x="44" y="2406"/>
                    </a:lnTo>
                    <a:lnTo>
                      <a:pt x="41" y="2291"/>
                    </a:lnTo>
                    <a:lnTo>
                      <a:pt x="44" y="2175"/>
                    </a:lnTo>
                    <a:lnTo>
                      <a:pt x="53" y="2061"/>
                    </a:lnTo>
                    <a:lnTo>
                      <a:pt x="67" y="1948"/>
                    </a:lnTo>
                    <a:lnTo>
                      <a:pt x="86" y="1837"/>
                    </a:lnTo>
                    <a:lnTo>
                      <a:pt x="112" y="1728"/>
                    </a:lnTo>
                    <a:lnTo>
                      <a:pt x="143" y="1622"/>
                    </a:lnTo>
                    <a:lnTo>
                      <a:pt x="177" y="1517"/>
                    </a:lnTo>
                    <a:lnTo>
                      <a:pt x="218" y="1415"/>
                    </a:lnTo>
                    <a:lnTo>
                      <a:pt x="262" y="1315"/>
                    </a:lnTo>
                    <a:lnTo>
                      <a:pt x="312" y="1218"/>
                    </a:lnTo>
                    <a:lnTo>
                      <a:pt x="367" y="1124"/>
                    </a:lnTo>
                    <a:lnTo>
                      <a:pt x="426" y="1032"/>
                    </a:lnTo>
                    <a:lnTo>
                      <a:pt x="488" y="945"/>
                    </a:lnTo>
                    <a:lnTo>
                      <a:pt x="555" y="860"/>
                    </a:lnTo>
                    <a:lnTo>
                      <a:pt x="626" y="779"/>
                    </a:lnTo>
                    <a:lnTo>
                      <a:pt x="700" y="700"/>
                    </a:lnTo>
                    <a:lnTo>
                      <a:pt x="778" y="625"/>
                    </a:lnTo>
                    <a:lnTo>
                      <a:pt x="860" y="555"/>
                    </a:lnTo>
                    <a:lnTo>
                      <a:pt x="945" y="488"/>
                    </a:lnTo>
                    <a:lnTo>
                      <a:pt x="1033" y="426"/>
                    </a:lnTo>
                    <a:lnTo>
                      <a:pt x="1125" y="367"/>
                    </a:lnTo>
                    <a:lnTo>
                      <a:pt x="1219" y="313"/>
                    </a:lnTo>
                    <a:lnTo>
                      <a:pt x="1316" y="264"/>
                    </a:lnTo>
                    <a:lnTo>
                      <a:pt x="1415" y="218"/>
                    </a:lnTo>
                    <a:lnTo>
                      <a:pt x="1518" y="178"/>
                    </a:lnTo>
                    <a:lnTo>
                      <a:pt x="1622" y="143"/>
                    </a:lnTo>
                    <a:lnTo>
                      <a:pt x="1729" y="112"/>
                    </a:lnTo>
                    <a:lnTo>
                      <a:pt x="1838" y="87"/>
                    </a:lnTo>
                    <a:lnTo>
                      <a:pt x="1948" y="67"/>
                    </a:lnTo>
                    <a:lnTo>
                      <a:pt x="2062" y="53"/>
                    </a:lnTo>
                    <a:lnTo>
                      <a:pt x="2175" y="44"/>
                    </a:lnTo>
                    <a:lnTo>
                      <a:pt x="2291" y="41"/>
                    </a:lnTo>
                    <a:lnTo>
                      <a:pt x="2407" y="44"/>
                    </a:lnTo>
                    <a:lnTo>
                      <a:pt x="2521" y="53"/>
                    </a:lnTo>
                    <a:lnTo>
                      <a:pt x="2634" y="67"/>
                    </a:lnTo>
                    <a:lnTo>
                      <a:pt x="2744" y="87"/>
                    </a:lnTo>
                    <a:lnTo>
                      <a:pt x="2854" y="112"/>
                    </a:lnTo>
                    <a:lnTo>
                      <a:pt x="2961" y="143"/>
                    </a:lnTo>
                    <a:lnTo>
                      <a:pt x="3064" y="178"/>
                    </a:lnTo>
                    <a:lnTo>
                      <a:pt x="3167" y="218"/>
                    </a:lnTo>
                    <a:lnTo>
                      <a:pt x="3266" y="264"/>
                    </a:lnTo>
                    <a:lnTo>
                      <a:pt x="3364" y="313"/>
                    </a:lnTo>
                    <a:lnTo>
                      <a:pt x="3458" y="367"/>
                    </a:lnTo>
                    <a:lnTo>
                      <a:pt x="3549" y="426"/>
                    </a:lnTo>
                    <a:lnTo>
                      <a:pt x="3637" y="488"/>
                    </a:lnTo>
                    <a:lnTo>
                      <a:pt x="3722" y="555"/>
                    </a:lnTo>
                    <a:lnTo>
                      <a:pt x="3804" y="625"/>
                    </a:lnTo>
                    <a:lnTo>
                      <a:pt x="3882" y="700"/>
                    </a:lnTo>
                    <a:lnTo>
                      <a:pt x="3957" y="779"/>
                    </a:lnTo>
                    <a:lnTo>
                      <a:pt x="4027" y="860"/>
                    </a:lnTo>
                    <a:lnTo>
                      <a:pt x="4094" y="945"/>
                    </a:lnTo>
                    <a:lnTo>
                      <a:pt x="4157" y="1032"/>
                    </a:lnTo>
                    <a:lnTo>
                      <a:pt x="4215" y="1124"/>
                    </a:lnTo>
                    <a:lnTo>
                      <a:pt x="4270" y="1218"/>
                    </a:lnTo>
                    <a:lnTo>
                      <a:pt x="4319" y="1315"/>
                    </a:lnTo>
                    <a:lnTo>
                      <a:pt x="4364" y="1415"/>
                    </a:lnTo>
                    <a:lnTo>
                      <a:pt x="4404" y="1517"/>
                    </a:lnTo>
                    <a:lnTo>
                      <a:pt x="4440" y="1622"/>
                    </a:lnTo>
                    <a:lnTo>
                      <a:pt x="4470" y="1728"/>
                    </a:lnTo>
                    <a:lnTo>
                      <a:pt x="4496" y="1837"/>
                    </a:lnTo>
                    <a:lnTo>
                      <a:pt x="4515" y="1948"/>
                    </a:lnTo>
                    <a:lnTo>
                      <a:pt x="4530" y="2061"/>
                    </a:lnTo>
                    <a:lnTo>
                      <a:pt x="4538" y="2175"/>
                    </a:lnTo>
                    <a:lnTo>
                      <a:pt x="4541" y="2291"/>
                    </a:lnTo>
                    <a:lnTo>
                      <a:pt x="4541" y="2328"/>
                    </a:lnTo>
                    <a:lnTo>
                      <a:pt x="4540" y="2366"/>
                    </a:lnTo>
                    <a:lnTo>
                      <a:pt x="4538" y="2403"/>
                    </a:lnTo>
                    <a:lnTo>
                      <a:pt x="4536" y="2441"/>
                    </a:lnTo>
                    <a:lnTo>
                      <a:pt x="4534" y="2479"/>
                    </a:lnTo>
                    <a:lnTo>
                      <a:pt x="4531" y="2515"/>
                    </a:lnTo>
                    <a:lnTo>
                      <a:pt x="4526" y="2552"/>
                    </a:lnTo>
                    <a:lnTo>
                      <a:pt x="4522" y="2589"/>
                    </a:lnTo>
                    <a:lnTo>
                      <a:pt x="4517" y="2625"/>
                    </a:lnTo>
                    <a:lnTo>
                      <a:pt x="4511" y="2661"/>
                    </a:lnTo>
                    <a:lnTo>
                      <a:pt x="4505" y="2698"/>
                    </a:lnTo>
                    <a:lnTo>
                      <a:pt x="4497" y="2733"/>
                    </a:lnTo>
                    <a:lnTo>
                      <a:pt x="4490" y="2769"/>
                    </a:lnTo>
                    <a:lnTo>
                      <a:pt x="4482" y="2805"/>
                    </a:lnTo>
                    <a:lnTo>
                      <a:pt x="4473" y="2840"/>
                    </a:lnTo>
                    <a:lnTo>
                      <a:pt x="4465" y="2875"/>
                    </a:lnTo>
                    <a:lnTo>
                      <a:pt x="4505" y="2886"/>
                    </a:lnTo>
                    <a:lnTo>
                      <a:pt x="4513" y="2850"/>
                    </a:lnTo>
                    <a:lnTo>
                      <a:pt x="4523" y="2814"/>
                    </a:lnTo>
                    <a:lnTo>
                      <a:pt x="4531" y="2778"/>
                    </a:lnTo>
                    <a:lnTo>
                      <a:pt x="4538" y="2742"/>
                    </a:lnTo>
                    <a:lnTo>
                      <a:pt x="4546" y="2705"/>
                    </a:lnTo>
                    <a:lnTo>
                      <a:pt x="4552" y="2669"/>
                    </a:lnTo>
                    <a:lnTo>
                      <a:pt x="4558" y="2631"/>
                    </a:lnTo>
                    <a:lnTo>
                      <a:pt x="4563" y="2594"/>
                    </a:lnTo>
                    <a:lnTo>
                      <a:pt x="4567" y="2556"/>
                    </a:lnTo>
                    <a:lnTo>
                      <a:pt x="4572" y="2520"/>
                    </a:lnTo>
                    <a:lnTo>
                      <a:pt x="4575" y="2482"/>
                    </a:lnTo>
                    <a:lnTo>
                      <a:pt x="4578" y="2444"/>
                    </a:lnTo>
                    <a:lnTo>
                      <a:pt x="4580" y="2405"/>
                    </a:lnTo>
                    <a:lnTo>
                      <a:pt x="4581" y="2367"/>
                    </a:lnTo>
                    <a:lnTo>
                      <a:pt x="4582" y="2328"/>
                    </a:lnTo>
                    <a:lnTo>
                      <a:pt x="4582" y="2291"/>
                    </a:lnTo>
                    <a:close/>
                  </a:path>
                </a:pathLst>
              </a:custGeom>
              <a:solidFill>
                <a:srgbClr val="dfc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673440" y="2097000"/>
                <a:ext cx="1801800" cy="1800360"/>
              </a:xfrm>
              <a:custGeom>
                <a:avLst/>
                <a:gdLst/>
                <a:ahLst/>
                <a:rect l="l" t="t" r="r" b="b"/>
                <a:pathLst>
                  <a:path w="4542" h="4539">
                    <a:moveTo>
                      <a:pt x="4542" y="2270"/>
                    </a:moveTo>
                    <a:lnTo>
                      <a:pt x="4539" y="2153"/>
                    </a:lnTo>
                    <a:lnTo>
                      <a:pt x="4530" y="2037"/>
                    </a:lnTo>
                    <a:lnTo>
                      <a:pt x="4516" y="1924"/>
                    </a:lnTo>
                    <a:lnTo>
                      <a:pt x="4495" y="1812"/>
                    </a:lnTo>
                    <a:lnTo>
                      <a:pt x="4471" y="1703"/>
                    </a:lnTo>
                    <a:lnTo>
                      <a:pt x="4440" y="1595"/>
                    </a:lnTo>
                    <a:lnTo>
                      <a:pt x="4405" y="1489"/>
                    </a:lnTo>
                    <a:lnTo>
                      <a:pt x="4364" y="1386"/>
                    </a:lnTo>
                    <a:lnTo>
                      <a:pt x="4318" y="1286"/>
                    </a:lnTo>
                    <a:lnTo>
                      <a:pt x="4267" y="1188"/>
                    </a:lnTo>
                    <a:lnTo>
                      <a:pt x="4213" y="1092"/>
                    </a:lnTo>
                    <a:lnTo>
                      <a:pt x="4154" y="1001"/>
                    </a:lnTo>
                    <a:lnTo>
                      <a:pt x="4091" y="911"/>
                    </a:lnTo>
                    <a:lnTo>
                      <a:pt x="4023" y="826"/>
                    </a:lnTo>
                    <a:lnTo>
                      <a:pt x="3952" y="744"/>
                    </a:lnTo>
                    <a:lnTo>
                      <a:pt x="3877" y="665"/>
                    </a:lnTo>
                    <a:lnTo>
                      <a:pt x="3799" y="589"/>
                    </a:lnTo>
                    <a:lnTo>
                      <a:pt x="3715" y="518"/>
                    </a:lnTo>
                    <a:lnTo>
                      <a:pt x="3630" y="451"/>
                    </a:lnTo>
                    <a:lnTo>
                      <a:pt x="3540" y="387"/>
                    </a:lnTo>
                    <a:lnTo>
                      <a:pt x="3448" y="328"/>
                    </a:lnTo>
                    <a:lnTo>
                      <a:pt x="3353" y="274"/>
                    </a:lnTo>
                    <a:lnTo>
                      <a:pt x="3256" y="223"/>
                    </a:lnTo>
                    <a:lnTo>
                      <a:pt x="3155" y="178"/>
                    </a:lnTo>
                    <a:lnTo>
                      <a:pt x="3052" y="138"/>
                    </a:lnTo>
                    <a:lnTo>
                      <a:pt x="2946" y="102"/>
                    </a:lnTo>
                    <a:lnTo>
                      <a:pt x="2839" y="71"/>
                    </a:lnTo>
                    <a:lnTo>
                      <a:pt x="2729" y="46"/>
                    </a:lnTo>
                    <a:lnTo>
                      <a:pt x="2617" y="25"/>
                    </a:lnTo>
                    <a:lnTo>
                      <a:pt x="2503" y="11"/>
                    </a:lnTo>
                    <a:lnTo>
                      <a:pt x="2388" y="3"/>
                    </a:lnTo>
                    <a:lnTo>
                      <a:pt x="2271" y="0"/>
                    </a:lnTo>
                    <a:lnTo>
                      <a:pt x="2154" y="3"/>
                    </a:lnTo>
                    <a:lnTo>
                      <a:pt x="2039" y="11"/>
                    </a:lnTo>
                    <a:lnTo>
                      <a:pt x="1925" y="25"/>
                    </a:lnTo>
                    <a:lnTo>
                      <a:pt x="1814" y="46"/>
                    </a:lnTo>
                    <a:lnTo>
                      <a:pt x="1703" y="71"/>
                    </a:lnTo>
                    <a:lnTo>
                      <a:pt x="1596" y="102"/>
                    </a:lnTo>
                    <a:lnTo>
                      <a:pt x="1490" y="138"/>
                    </a:lnTo>
                    <a:lnTo>
                      <a:pt x="1387" y="178"/>
                    </a:lnTo>
                    <a:lnTo>
                      <a:pt x="1286" y="223"/>
                    </a:lnTo>
                    <a:lnTo>
                      <a:pt x="1189" y="274"/>
                    </a:lnTo>
                    <a:lnTo>
                      <a:pt x="1094" y="328"/>
                    </a:lnTo>
                    <a:lnTo>
                      <a:pt x="1001" y="387"/>
                    </a:lnTo>
                    <a:lnTo>
                      <a:pt x="912" y="451"/>
                    </a:lnTo>
                    <a:lnTo>
                      <a:pt x="827" y="518"/>
                    </a:lnTo>
                    <a:lnTo>
                      <a:pt x="744" y="589"/>
                    </a:lnTo>
                    <a:lnTo>
                      <a:pt x="665" y="665"/>
                    </a:lnTo>
                    <a:lnTo>
                      <a:pt x="590" y="744"/>
                    </a:lnTo>
                    <a:lnTo>
                      <a:pt x="519" y="826"/>
                    </a:lnTo>
                    <a:lnTo>
                      <a:pt x="451" y="911"/>
                    </a:lnTo>
                    <a:lnTo>
                      <a:pt x="388" y="1001"/>
                    </a:lnTo>
                    <a:lnTo>
                      <a:pt x="329" y="1092"/>
                    </a:lnTo>
                    <a:lnTo>
                      <a:pt x="274" y="1188"/>
                    </a:lnTo>
                    <a:lnTo>
                      <a:pt x="224" y="1286"/>
                    </a:lnTo>
                    <a:lnTo>
                      <a:pt x="179" y="1386"/>
                    </a:lnTo>
                    <a:lnTo>
                      <a:pt x="138" y="1489"/>
                    </a:lnTo>
                    <a:lnTo>
                      <a:pt x="102" y="1595"/>
                    </a:lnTo>
                    <a:lnTo>
                      <a:pt x="72" y="1703"/>
                    </a:lnTo>
                    <a:lnTo>
                      <a:pt x="47" y="1812"/>
                    </a:lnTo>
                    <a:lnTo>
                      <a:pt x="26" y="1924"/>
                    </a:lnTo>
                    <a:lnTo>
                      <a:pt x="12" y="2037"/>
                    </a:lnTo>
                    <a:lnTo>
                      <a:pt x="4" y="2153"/>
                    </a:lnTo>
                    <a:lnTo>
                      <a:pt x="0" y="2270"/>
                    </a:lnTo>
                    <a:lnTo>
                      <a:pt x="4" y="2386"/>
                    </a:lnTo>
                    <a:lnTo>
                      <a:pt x="12" y="2502"/>
                    </a:lnTo>
                    <a:lnTo>
                      <a:pt x="26" y="2615"/>
                    </a:lnTo>
                    <a:lnTo>
                      <a:pt x="47" y="2727"/>
                    </a:lnTo>
                    <a:lnTo>
                      <a:pt x="72" y="2837"/>
                    </a:lnTo>
                    <a:lnTo>
                      <a:pt x="102" y="2945"/>
                    </a:lnTo>
                    <a:lnTo>
                      <a:pt x="138" y="3049"/>
                    </a:lnTo>
                    <a:lnTo>
                      <a:pt x="179" y="3153"/>
                    </a:lnTo>
                    <a:lnTo>
                      <a:pt x="224" y="3254"/>
                    </a:lnTo>
                    <a:lnTo>
                      <a:pt x="274" y="3352"/>
                    </a:lnTo>
                    <a:lnTo>
                      <a:pt x="329" y="3447"/>
                    </a:lnTo>
                    <a:lnTo>
                      <a:pt x="388" y="3539"/>
                    </a:lnTo>
                    <a:lnTo>
                      <a:pt x="451" y="3627"/>
                    </a:lnTo>
                    <a:lnTo>
                      <a:pt x="519" y="3714"/>
                    </a:lnTo>
                    <a:lnTo>
                      <a:pt x="590" y="3796"/>
                    </a:lnTo>
                    <a:lnTo>
                      <a:pt x="665" y="3875"/>
                    </a:lnTo>
                    <a:lnTo>
                      <a:pt x="744" y="3949"/>
                    </a:lnTo>
                    <a:lnTo>
                      <a:pt x="827" y="4021"/>
                    </a:lnTo>
                    <a:lnTo>
                      <a:pt x="912" y="4088"/>
                    </a:lnTo>
                    <a:lnTo>
                      <a:pt x="1001" y="4152"/>
                    </a:lnTo>
                    <a:lnTo>
                      <a:pt x="1094" y="4210"/>
                    </a:lnTo>
                    <a:lnTo>
                      <a:pt x="1189" y="4266"/>
                    </a:lnTo>
                    <a:lnTo>
                      <a:pt x="1286" y="4315"/>
                    </a:lnTo>
                    <a:lnTo>
                      <a:pt x="1387" y="4361"/>
                    </a:lnTo>
                    <a:lnTo>
                      <a:pt x="1490" y="4402"/>
                    </a:lnTo>
                    <a:lnTo>
                      <a:pt x="1596" y="4437"/>
                    </a:lnTo>
                    <a:lnTo>
                      <a:pt x="1703" y="4467"/>
                    </a:lnTo>
                    <a:lnTo>
                      <a:pt x="1814" y="4493"/>
                    </a:lnTo>
                    <a:lnTo>
                      <a:pt x="1925" y="4513"/>
                    </a:lnTo>
                    <a:lnTo>
                      <a:pt x="2039" y="4528"/>
                    </a:lnTo>
                    <a:lnTo>
                      <a:pt x="2154" y="4537"/>
                    </a:lnTo>
                    <a:lnTo>
                      <a:pt x="2271" y="4539"/>
                    </a:lnTo>
                    <a:lnTo>
                      <a:pt x="2338" y="4539"/>
                    </a:lnTo>
                    <a:lnTo>
                      <a:pt x="2405" y="4536"/>
                    </a:lnTo>
                    <a:lnTo>
                      <a:pt x="2469" y="4531"/>
                    </a:lnTo>
                    <a:lnTo>
                      <a:pt x="2535" y="4524"/>
                    </a:lnTo>
                    <a:lnTo>
                      <a:pt x="2600" y="4516"/>
                    </a:lnTo>
                    <a:lnTo>
                      <a:pt x="2664" y="4505"/>
                    </a:lnTo>
                    <a:lnTo>
                      <a:pt x="2728" y="4493"/>
                    </a:lnTo>
                    <a:lnTo>
                      <a:pt x="2790" y="4479"/>
                    </a:lnTo>
                    <a:lnTo>
                      <a:pt x="2852" y="4464"/>
                    </a:lnTo>
                    <a:lnTo>
                      <a:pt x="2914" y="4447"/>
                    </a:lnTo>
                    <a:lnTo>
                      <a:pt x="2974" y="4429"/>
                    </a:lnTo>
                    <a:lnTo>
                      <a:pt x="3035" y="4408"/>
                    </a:lnTo>
                    <a:lnTo>
                      <a:pt x="3094" y="4385"/>
                    </a:lnTo>
                    <a:lnTo>
                      <a:pt x="3152" y="4362"/>
                    </a:lnTo>
                    <a:lnTo>
                      <a:pt x="3210" y="4337"/>
                    </a:lnTo>
                    <a:lnTo>
                      <a:pt x="3267" y="4310"/>
                    </a:lnTo>
                    <a:lnTo>
                      <a:pt x="3249" y="4272"/>
                    </a:lnTo>
                    <a:lnTo>
                      <a:pt x="3192" y="4299"/>
                    </a:lnTo>
                    <a:lnTo>
                      <a:pt x="3136" y="4324"/>
                    </a:lnTo>
                    <a:lnTo>
                      <a:pt x="3079" y="4347"/>
                    </a:lnTo>
                    <a:lnTo>
                      <a:pt x="3021" y="4368"/>
                    </a:lnTo>
                    <a:lnTo>
                      <a:pt x="2962" y="4389"/>
                    </a:lnTo>
                    <a:lnTo>
                      <a:pt x="2902" y="4407"/>
                    </a:lnTo>
                    <a:lnTo>
                      <a:pt x="2841" y="4424"/>
                    </a:lnTo>
                    <a:lnTo>
                      <a:pt x="2781" y="4439"/>
                    </a:lnTo>
                    <a:lnTo>
                      <a:pt x="2719" y="4452"/>
                    </a:lnTo>
                    <a:lnTo>
                      <a:pt x="2656" y="4464"/>
                    </a:lnTo>
                    <a:lnTo>
                      <a:pt x="2594" y="4474"/>
                    </a:lnTo>
                    <a:lnTo>
                      <a:pt x="2530" y="4483"/>
                    </a:lnTo>
                    <a:lnTo>
                      <a:pt x="2466" y="4489"/>
                    </a:lnTo>
                    <a:lnTo>
                      <a:pt x="2401" y="4493"/>
                    </a:lnTo>
                    <a:lnTo>
                      <a:pt x="2337" y="4497"/>
                    </a:lnTo>
                    <a:lnTo>
                      <a:pt x="2271" y="4498"/>
                    </a:lnTo>
                    <a:lnTo>
                      <a:pt x="2156" y="4494"/>
                    </a:lnTo>
                    <a:lnTo>
                      <a:pt x="2044" y="4486"/>
                    </a:lnTo>
                    <a:lnTo>
                      <a:pt x="1931" y="4472"/>
                    </a:lnTo>
                    <a:lnTo>
                      <a:pt x="1822" y="4452"/>
                    </a:lnTo>
                    <a:lnTo>
                      <a:pt x="1714" y="4428"/>
                    </a:lnTo>
                    <a:lnTo>
                      <a:pt x="1608" y="4397"/>
                    </a:lnTo>
                    <a:lnTo>
                      <a:pt x="1505" y="4363"/>
                    </a:lnTo>
                    <a:lnTo>
                      <a:pt x="1403" y="4323"/>
                    </a:lnTo>
                    <a:lnTo>
                      <a:pt x="1305" y="4277"/>
                    </a:lnTo>
                    <a:lnTo>
                      <a:pt x="1208" y="4229"/>
                    </a:lnTo>
                    <a:lnTo>
                      <a:pt x="1116" y="4175"/>
                    </a:lnTo>
                    <a:lnTo>
                      <a:pt x="1025" y="4118"/>
                    </a:lnTo>
                    <a:lnTo>
                      <a:pt x="937" y="4055"/>
                    </a:lnTo>
                    <a:lnTo>
                      <a:pt x="853" y="3989"/>
                    </a:lnTo>
                    <a:lnTo>
                      <a:pt x="772" y="3919"/>
                    </a:lnTo>
                    <a:lnTo>
                      <a:pt x="695" y="3845"/>
                    </a:lnTo>
                    <a:lnTo>
                      <a:pt x="621" y="3768"/>
                    </a:lnTo>
                    <a:lnTo>
                      <a:pt x="552" y="3687"/>
                    </a:lnTo>
                    <a:lnTo>
                      <a:pt x="485" y="3602"/>
                    </a:lnTo>
                    <a:lnTo>
                      <a:pt x="423" y="3515"/>
                    </a:lnTo>
                    <a:lnTo>
                      <a:pt x="365" y="3425"/>
                    </a:lnTo>
                    <a:lnTo>
                      <a:pt x="311" y="3331"/>
                    </a:lnTo>
                    <a:lnTo>
                      <a:pt x="262" y="3235"/>
                    </a:lnTo>
                    <a:lnTo>
                      <a:pt x="218" y="3137"/>
                    </a:lnTo>
                    <a:lnTo>
                      <a:pt x="178" y="3035"/>
                    </a:lnTo>
                    <a:lnTo>
                      <a:pt x="142" y="2932"/>
                    </a:lnTo>
                    <a:lnTo>
                      <a:pt x="112" y="2826"/>
                    </a:lnTo>
                    <a:lnTo>
                      <a:pt x="87" y="2719"/>
                    </a:lnTo>
                    <a:lnTo>
                      <a:pt x="67" y="2609"/>
                    </a:lnTo>
                    <a:lnTo>
                      <a:pt x="53" y="2498"/>
                    </a:lnTo>
                    <a:lnTo>
                      <a:pt x="45" y="2384"/>
                    </a:lnTo>
                    <a:lnTo>
                      <a:pt x="41" y="2270"/>
                    </a:lnTo>
                    <a:lnTo>
                      <a:pt x="45" y="2155"/>
                    </a:lnTo>
                    <a:lnTo>
                      <a:pt x="53" y="2042"/>
                    </a:lnTo>
                    <a:lnTo>
                      <a:pt x="67" y="1931"/>
                    </a:lnTo>
                    <a:lnTo>
                      <a:pt x="87" y="1820"/>
                    </a:lnTo>
                    <a:lnTo>
                      <a:pt x="112" y="1712"/>
                    </a:lnTo>
                    <a:lnTo>
                      <a:pt x="142" y="1607"/>
                    </a:lnTo>
                    <a:lnTo>
                      <a:pt x="178" y="1503"/>
                    </a:lnTo>
                    <a:lnTo>
                      <a:pt x="218" y="1402"/>
                    </a:lnTo>
                    <a:lnTo>
                      <a:pt x="262" y="1303"/>
                    </a:lnTo>
                    <a:lnTo>
                      <a:pt x="311" y="1207"/>
                    </a:lnTo>
                    <a:lnTo>
                      <a:pt x="365" y="1114"/>
                    </a:lnTo>
                    <a:lnTo>
                      <a:pt x="423" y="1023"/>
                    </a:lnTo>
                    <a:lnTo>
                      <a:pt x="485" y="936"/>
                    </a:lnTo>
                    <a:lnTo>
                      <a:pt x="552" y="852"/>
                    </a:lnTo>
                    <a:lnTo>
                      <a:pt x="621" y="772"/>
                    </a:lnTo>
                    <a:lnTo>
                      <a:pt x="695" y="694"/>
                    </a:lnTo>
                    <a:lnTo>
                      <a:pt x="772" y="621"/>
                    </a:lnTo>
                    <a:lnTo>
                      <a:pt x="853" y="550"/>
                    </a:lnTo>
                    <a:lnTo>
                      <a:pt x="937" y="483"/>
                    </a:lnTo>
                    <a:lnTo>
                      <a:pt x="1025" y="422"/>
                    </a:lnTo>
                    <a:lnTo>
                      <a:pt x="1116" y="363"/>
                    </a:lnTo>
                    <a:lnTo>
                      <a:pt x="1208" y="311"/>
                    </a:lnTo>
                    <a:lnTo>
                      <a:pt x="1305" y="261"/>
                    </a:lnTo>
                    <a:lnTo>
                      <a:pt x="1403" y="217"/>
                    </a:lnTo>
                    <a:lnTo>
                      <a:pt x="1505" y="177"/>
                    </a:lnTo>
                    <a:lnTo>
                      <a:pt x="1608" y="141"/>
                    </a:lnTo>
                    <a:lnTo>
                      <a:pt x="1714" y="112"/>
                    </a:lnTo>
                    <a:lnTo>
                      <a:pt x="1822" y="86"/>
                    </a:lnTo>
                    <a:lnTo>
                      <a:pt x="1931" y="66"/>
                    </a:lnTo>
                    <a:lnTo>
                      <a:pt x="2044" y="52"/>
                    </a:lnTo>
                    <a:lnTo>
                      <a:pt x="2156" y="44"/>
                    </a:lnTo>
                    <a:lnTo>
                      <a:pt x="2271" y="42"/>
                    </a:lnTo>
                    <a:lnTo>
                      <a:pt x="2386" y="44"/>
                    </a:lnTo>
                    <a:lnTo>
                      <a:pt x="2499" y="52"/>
                    </a:lnTo>
                    <a:lnTo>
                      <a:pt x="2611" y="66"/>
                    </a:lnTo>
                    <a:lnTo>
                      <a:pt x="2720" y="86"/>
                    </a:lnTo>
                    <a:lnTo>
                      <a:pt x="2828" y="112"/>
                    </a:lnTo>
                    <a:lnTo>
                      <a:pt x="2934" y="141"/>
                    </a:lnTo>
                    <a:lnTo>
                      <a:pt x="3038" y="177"/>
                    </a:lnTo>
                    <a:lnTo>
                      <a:pt x="3138" y="217"/>
                    </a:lnTo>
                    <a:lnTo>
                      <a:pt x="3238" y="261"/>
                    </a:lnTo>
                    <a:lnTo>
                      <a:pt x="3334" y="311"/>
                    </a:lnTo>
                    <a:lnTo>
                      <a:pt x="3427" y="363"/>
                    </a:lnTo>
                    <a:lnTo>
                      <a:pt x="3518" y="422"/>
                    </a:lnTo>
                    <a:lnTo>
                      <a:pt x="3605" y="483"/>
                    </a:lnTo>
                    <a:lnTo>
                      <a:pt x="3689" y="550"/>
                    </a:lnTo>
                    <a:lnTo>
                      <a:pt x="3770" y="621"/>
                    </a:lnTo>
                    <a:lnTo>
                      <a:pt x="3847" y="694"/>
                    </a:lnTo>
                    <a:lnTo>
                      <a:pt x="3922" y="772"/>
                    </a:lnTo>
                    <a:lnTo>
                      <a:pt x="3991" y="852"/>
                    </a:lnTo>
                    <a:lnTo>
                      <a:pt x="4058" y="936"/>
                    </a:lnTo>
                    <a:lnTo>
                      <a:pt x="4119" y="1023"/>
                    </a:lnTo>
                    <a:lnTo>
                      <a:pt x="4178" y="1114"/>
                    </a:lnTo>
                    <a:lnTo>
                      <a:pt x="4232" y="1207"/>
                    </a:lnTo>
                    <a:lnTo>
                      <a:pt x="4280" y="1303"/>
                    </a:lnTo>
                    <a:lnTo>
                      <a:pt x="4325" y="1402"/>
                    </a:lnTo>
                    <a:lnTo>
                      <a:pt x="4365" y="1503"/>
                    </a:lnTo>
                    <a:lnTo>
                      <a:pt x="4400" y="1607"/>
                    </a:lnTo>
                    <a:lnTo>
                      <a:pt x="4431" y="1712"/>
                    </a:lnTo>
                    <a:lnTo>
                      <a:pt x="4455" y="1820"/>
                    </a:lnTo>
                    <a:lnTo>
                      <a:pt x="4475" y="1931"/>
                    </a:lnTo>
                    <a:lnTo>
                      <a:pt x="4489" y="2042"/>
                    </a:lnTo>
                    <a:lnTo>
                      <a:pt x="4498" y="2155"/>
                    </a:lnTo>
                    <a:lnTo>
                      <a:pt x="4501" y="2270"/>
                    </a:lnTo>
                    <a:lnTo>
                      <a:pt x="4500" y="2306"/>
                    </a:lnTo>
                    <a:lnTo>
                      <a:pt x="4499" y="2344"/>
                    </a:lnTo>
                    <a:lnTo>
                      <a:pt x="4498" y="2381"/>
                    </a:lnTo>
                    <a:lnTo>
                      <a:pt x="4495" y="2419"/>
                    </a:lnTo>
                    <a:lnTo>
                      <a:pt x="4492" y="2455"/>
                    </a:lnTo>
                    <a:lnTo>
                      <a:pt x="4489" y="2492"/>
                    </a:lnTo>
                    <a:lnTo>
                      <a:pt x="4486" y="2529"/>
                    </a:lnTo>
                    <a:lnTo>
                      <a:pt x="4481" y="2565"/>
                    </a:lnTo>
                    <a:lnTo>
                      <a:pt x="4476" y="2601"/>
                    </a:lnTo>
                    <a:lnTo>
                      <a:pt x="4471" y="2637"/>
                    </a:lnTo>
                    <a:lnTo>
                      <a:pt x="4464" y="2673"/>
                    </a:lnTo>
                    <a:lnTo>
                      <a:pt x="4457" y="2708"/>
                    </a:lnTo>
                    <a:lnTo>
                      <a:pt x="4450" y="2744"/>
                    </a:lnTo>
                    <a:lnTo>
                      <a:pt x="4441" y="2779"/>
                    </a:lnTo>
                    <a:lnTo>
                      <a:pt x="4433" y="2814"/>
                    </a:lnTo>
                    <a:lnTo>
                      <a:pt x="4424" y="2849"/>
                    </a:lnTo>
                    <a:lnTo>
                      <a:pt x="4464" y="2859"/>
                    </a:lnTo>
                    <a:lnTo>
                      <a:pt x="4474" y="2824"/>
                    </a:lnTo>
                    <a:lnTo>
                      <a:pt x="4483" y="2788"/>
                    </a:lnTo>
                    <a:lnTo>
                      <a:pt x="4490" y="2752"/>
                    </a:lnTo>
                    <a:lnTo>
                      <a:pt x="4498" y="2717"/>
                    </a:lnTo>
                    <a:lnTo>
                      <a:pt x="4505" y="2680"/>
                    </a:lnTo>
                    <a:lnTo>
                      <a:pt x="4512" y="2644"/>
                    </a:lnTo>
                    <a:lnTo>
                      <a:pt x="4517" y="2608"/>
                    </a:lnTo>
                    <a:lnTo>
                      <a:pt x="4522" y="2570"/>
                    </a:lnTo>
                    <a:lnTo>
                      <a:pt x="4527" y="2533"/>
                    </a:lnTo>
                    <a:lnTo>
                      <a:pt x="4531" y="2496"/>
                    </a:lnTo>
                    <a:lnTo>
                      <a:pt x="4534" y="2459"/>
                    </a:lnTo>
                    <a:lnTo>
                      <a:pt x="4537" y="2421"/>
                    </a:lnTo>
                    <a:lnTo>
                      <a:pt x="4540" y="2383"/>
                    </a:lnTo>
                    <a:lnTo>
                      <a:pt x="4541" y="2345"/>
                    </a:lnTo>
                    <a:lnTo>
                      <a:pt x="4542" y="2307"/>
                    </a:lnTo>
                    <a:lnTo>
                      <a:pt x="4542" y="227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681360" y="2104920"/>
                <a:ext cx="1785960" cy="1784520"/>
              </a:xfrm>
              <a:custGeom>
                <a:avLst/>
                <a:gdLst/>
                <a:ahLst/>
                <a:rect l="l" t="t" r="r" b="b"/>
                <a:pathLst>
                  <a:path w="4500" h="4498">
                    <a:moveTo>
                      <a:pt x="4500" y="2250"/>
                    </a:moveTo>
                    <a:lnTo>
                      <a:pt x="4497" y="2134"/>
                    </a:lnTo>
                    <a:lnTo>
                      <a:pt x="4489" y="2020"/>
                    </a:lnTo>
                    <a:lnTo>
                      <a:pt x="4474" y="1907"/>
                    </a:lnTo>
                    <a:lnTo>
                      <a:pt x="4455" y="1796"/>
                    </a:lnTo>
                    <a:lnTo>
                      <a:pt x="4429" y="1687"/>
                    </a:lnTo>
                    <a:lnTo>
                      <a:pt x="4399" y="1581"/>
                    </a:lnTo>
                    <a:lnTo>
                      <a:pt x="4363" y="1476"/>
                    </a:lnTo>
                    <a:lnTo>
                      <a:pt x="4323" y="1374"/>
                    </a:lnTo>
                    <a:lnTo>
                      <a:pt x="4278" y="1274"/>
                    </a:lnTo>
                    <a:lnTo>
                      <a:pt x="4229" y="1177"/>
                    </a:lnTo>
                    <a:lnTo>
                      <a:pt x="4174" y="1083"/>
                    </a:lnTo>
                    <a:lnTo>
                      <a:pt x="4116" y="991"/>
                    </a:lnTo>
                    <a:lnTo>
                      <a:pt x="4053" y="904"/>
                    </a:lnTo>
                    <a:lnTo>
                      <a:pt x="3986" y="819"/>
                    </a:lnTo>
                    <a:lnTo>
                      <a:pt x="3916" y="738"/>
                    </a:lnTo>
                    <a:lnTo>
                      <a:pt x="3841" y="659"/>
                    </a:lnTo>
                    <a:lnTo>
                      <a:pt x="3763" y="584"/>
                    </a:lnTo>
                    <a:lnTo>
                      <a:pt x="3681" y="514"/>
                    </a:lnTo>
                    <a:lnTo>
                      <a:pt x="3596" y="447"/>
                    </a:lnTo>
                    <a:lnTo>
                      <a:pt x="3508" y="385"/>
                    </a:lnTo>
                    <a:lnTo>
                      <a:pt x="3417" y="326"/>
                    </a:lnTo>
                    <a:lnTo>
                      <a:pt x="3323" y="272"/>
                    </a:lnTo>
                    <a:lnTo>
                      <a:pt x="3225" y="223"/>
                    </a:lnTo>
                    <a:lnTo>
                      <a:pt x="3126" y="177"/>
                    </a:lnTo>
                    <a:lnTo>
                      <a:pt x="3023" y="137"/>
                    </a:lnTo>
                    <a:lnTo>
                      <a:pt x="2920" y="102"/>
                    </a:lnTo>
                    <a:lnTo>
                      <a:pt x="2813" y="71"/>
                    </a:lnTo>
                    <a:lnTo>
                      <a:pt x="2703" y="46"/>
                    </a:lnTo>
                    <a:lnTo>
                      <a:pt x="2593" y="26"/>
                    </a:lnTo>
                    <a:lnTo>
                      <a:pt x="2480" y="12"/>
                    </a:lnTo>
                    <a:lnTo>
                      <a:pt x="2366" y="3"/>
                    </a:lnTo>
                    <a:lnTo>
                      <a:pt x="2250" y="0"/>
                    </a:lnTo>
                    <a:lnTo>
                      <a:pt x="2134" y="3"/>
                    </a:lnTo>
                    <a:lnTo>
                      <a:pt x="2021" y="12"/>
                    </a:lnTo>
                    <a:lnTo>
                      <a:pt x="1907" y="26"/>
                    </a:lnTo>
                    <a:lnTo>
                      <a:pt x="1797" y="46"/>
                    </a:lnTo>
                    <a:lnTo>
                      <a:pt x="1688" y="71"/>
                    </a:lnTo>
                    <a:lnTo>
                      <a:pt x="1581" y="102"/>
                    </a:lnTo>
                    <a:lnTo>
                      <a:pt x="1477" y="137"/>
                    </a:lnTo>
                    <a:lnTo>
                      <a:pt x="1374" y="177"/>
                    </a:lnTo>
                    <a:lnTo>
                      <a:pt x="1275" y="223"/>
                    </a:lnTo>
                    <a:lnTo>
                      <a:pt x="1178" y="272"/>
                    </a:lnTo>
                    <a:lnTo>
                      <a:pt x="1084" y="326"/>
                    </a:lnTo>
                    <a:lnTo>
                      <a:pt x="992" y="385"/>
                    </a:lnTo>
                    <a:lnTo>
                      <a:pt x="904" y="447"/>
                    </a:lnTo>
                    <a:lnTo>
                      <a:pt x="819" y="514"/>
                    </a:lnTo>
                    <a:lnTo>
                      <a:pt x="737" y="584"/>
                    </a:lnTo>
                    <a:lnTo>
                      <a:pt x="659" y="659"/>
                    </a:lnTo>
                    <a:lnTo>
                      <a:pt x="585" y="738"/>
                    </a:lnTo>
                    <a:lnTo>
                      <a:pt x="514" y="819"/>
                    </a:lnTo>
                    <a:lnTo>
                      <a:pt x="447" y="904"/>
                    </a:lnTo>
                    <a:lnTo>
                      <a:pt x="385" y="991"/>
                    </a:lnTo>
                    <a:lnTo>
                      <a:pt x="326" y="1083"/>
                    </a:lnTo>
                    <a:lnTo>
                      <a:pt x="271" y="1177"/>
                    </a:lnTo>
                    <a:lnTo>
                      <a:pt x="221" y="1274"/>
                    </a:lnTo>
                    <a:lnTo>
                      <a:pt x="177" y="1374"/>
                    </a:lnTo>
                    <a:lnTo>
                      <a:pt x="136" y="1476"/>
                    </a:lnTo>
                    <a:lnTo>
                      <a:pt x="102" y="1581"/>
                    </a:lnTo>
                    <a:lnTo>
                      <a:pt x="71" y="1687"/>
                    </a:lnTo>
                    <a:lnTo>
                      <a:pt x="45" y="1796"/>
                    </a:lnTo>
                    <a:lnTo>
                      <a:pt x="26" y="1907"/>
                    </a:lnTo>
                    <a:lnTo>
                      <a:pt x="12" y="2020"/>
                    </a:lnTo>
                    <a:lnTo>
                      <a:pt x="3" y="2134"/>
                    </a:lnTo>
                    <a:lnTo>
                      <a:pt x="0" y="2250"/>
                    </a:lnTo>
                    <a:lnTo>
                      <a:pt x="3" y="2365"/>
                    </a:lnTo>
                    <a:lnTo>
                      <a:pt x="12" y="2480"/>
                    </a:lnTo>
                    <a:lnTo>
                      <a:pt x="26" y="2592"/>
                    </a:lnTo>
                    <a:lnTo>
                      <a:pt x="45" y="2702"/>
                    </a:lnTo>
                    <a:lnTo>
                      <a:pt x="71" y="2811"/>
                    </a:lnTo>
                    <a:lnTo>
                      <a:pt x="102" y="2918"/>
                    </a:lnTo>
                    <a:lnTo>
                      <a:pt x="136" y="3023"/>
                    </a:lnTo>
                    <a:lnTo>
                      <a:pt x="177" y="3124"/>
                    </a:lnTo>
                    <a:lnTo>
                      <a:pt x="221" y="3225"/>
                    </a:lnTo>
                    <a:lnTo>
                      <a:pt x="271" y="3321"/>
                    </a:lnTo>
                    <a:lnTo>
                      <a:pt x="326" y="3416"/>
                    </a:lnTo>
                    <a:lnTo>
                      <a:pt x="385" y="3507"/>
                    </a:lnTo>
                    <a:lnTo>
                      <a:pt x="447" y="3595"/>
                    </a:lnTo>
                    <a:lnTo>
                      <a:pt x="514" y="3680"/>
                    </a:lnTo>
                    <a:lnTo>
                      <a:pt x="585" y="3762"/>
                    </a:lnTo>
                    <a:lnTo>
                      <a:pt x="659" y="3839"/>
                    </a:lnTo>
                    <a:lnTo>
                      <a:pt x="737" y="3914"/>
                    </a:lnTo>
                    <a:lnTo>
                      <a:pt x="819" y="3985"/>
                    </a:lnTo>
                    <a:lnTo>
                      <a:pt x="904" y="4052"/>
                    </a:lnTo>
                    <a:lnTo>
                      <a:pt x="992" y="4115"/>
                    </a:lnTo>
                    <a:lnTo>
                      <a:pt x="1084" y="4173"/>
                    </a:lnTo>
                    <a:lnTo>
                      <a:pt x="1178" y="4227"/>
                    </a:lnTo>
                    <a:lnTo>
                      <a:pt x="1275" y="4277"/>
                    </a:lnTo>
                    <a:lnTo>
                      <a:pt x="1374" y="4322"/>
                    </a:lnTo>
                    <a:lnTo>
                      <a:pt x="1477" y="4362"/>
                    </a:lnTo>
                    <a:lnTo>
                      <a:pt x="1581" y="4398"/>
                    </a:lnTo>
                    <a:lnTo>
                      <a:pt x="1688" y="4428"/>
                    </a:lnTo>
                    <a:lnTo>
                      <a:pt x="1797" y="4453"/>
                    </a:lnTo>
                    <a:lnTo>
                      <a:pt x="1907" y="4472"/>
                    </a:lnTo>
                    <a:lnTo>
                      <a:pt x="2021" y="4486"/>
                    </a:lnTo>
                    <a:lnTo>
                      <a:pt x="2134" y="4496"/>
                    </a:lnTo>
                    <a:lnTo>
                      <a:pt x="2250" y="4498"/>
                    </a:lnTo>
                    <a:lnTo>
                      <a:pt x="2317" y="4497"/>
                    </a:lnTo>
                    <a:lnTo>
                      <a:pt x="2381" y="4495"/>
                    </a:lnTo>
                    <a:lnTo>
                      <a:pt x="2447" y="4490"/>
                    </a:lnTo>
                    <a:lnTo>
                      <a:pt x="2512" y="4483"/>
                    </a:lnTo>
                    <a:lnTo>
                      <a:pt x="2576" y="4476"/>
                    </a:lnTo>
                    <a:lnTo>
                      <a:pt x="2640" y="4465"/>
                    </a:lnTo>
                    <a:lnTo>
                      <a:pt x="2702" y="4453"/>
                    </a:lnTo>
                    <a:lnTo>
                      <a:pt x="2764" y="4440"/>
                    </a:lnTo>
                    <a:lnTo>
                      <a:pt x="2826" y="4424"/>
                    </a:lnTo>
                    <a:lnTo>
                      <a:pt x="2887" y="4408"/>
                    </a:lnTo>
                    <a:lnTo>
                      <a:pt x="2947" y="4388"/>
                    </a:lnTo>
                    <a:lnTo>
                      <a:pt x="3007" y="4368"/>
                    </a:lnTo>
                    <a:lnTo>
                      <a:pt x="3065" y="4346"/>
                    </a:lnTo>
                    <a:lnTo>
                      <a:pt x="3123" y="4322"/>
                    </a:lnTo>
                    <a:lnTo>
                      <a:pt x="3180" y="4297"/>
                    </a:lnTo>
                    <a:lnTo>
                      <a:pt x="3236" y="4271"/>
                    </a:lnTo>
                    <a:lnTo>
                      <a:pt x="3219" y="4234"/>
                    </a:lnTo>
                    <a:lnTo>
                      <a:pt x="3163" y="4260"/>
                    </a:lnTo>
                    <a:lnTo>
                      <a:pt x="3108" y="4284"/>
                    </a:lnTo>
                    <a:lnTo>
                      <a:pt x="3050" y="4307"/>
                    </a:lnTo>
                    <a:lnTo>
                      <a:pt x="2993" y="4329"/>
                    </a:lnTo>
                    <a:lnTo>
                      <a:pt x="2935" y="4349"/>
                    </a:lnTo>
                    <a:lnTo>
                      <a:pt x="2875" y="4368"/>
                    </a:lnTo>
                    <a:lnTo>
                      <a:pt x="2816" y="4384"/>
                    </a:lnTo>
                    <a:lnTo>
                      <a:pt x="2755" y="4399"/>
                    </a:lnTo>
                    <a:lnTo>
                      <a:pt x="2694" y="4412"/>
                    </a:lnTo>
                    <a:lnTo>
                      <a:pt x="2632" y="4424"/>
                    </a:lnTo>
                    <a:lnTo>
                      <a:pt x="2569" y="4433"/>
                    </a:lnTo>
                    <a:lnTo>
                      <a:pt x="2507" y="4442"/>
                    </a:lnTo>
                    <a:lnTo>
                      <a:pt x="2443" y="4449"/>
                    </a:lnTo>
                    <a:lnTo>
                      <a:pt x="2379" y="4453"/>
                    </a:lnTo>
                    <a:lnTo>
                      <a:pt x="2316" y="4456"/>
                    </a:lnTo>
                    <a:lnTo>
                      <a:pt x="2250" y="4457"/>
                    </a:lnTo>
                    <a:lnTo>
                      <a:pt x="2136" y="4454"/>
                    </a:lnTo>
                    <a:lnTo>
                      <a:pt x="2025" y="4445"/>
                    </a:lnTo>
                    <a:lnTo>
                      <a:pt x="1914" y="4431"/>
                    </a:lnTo>
                    <a:lnTo>
                      <a:pt x="1806" y="4412"/>
                    </a:lnTo>
                    <a:lnTo>
                      <a:pt x="1699" y="4387"/>
                    </a:lnTo>
                    <a:lnTo>
                      <a:pt x="1594" y="4358"/>
                    </a:lnTo>
                    <a:lnTo>
                      <a:pt x="1491" y="4323"/>
                    </a:lnTo>
                    <a:lnTo>
                      <a:pt x="1391" y="4283"/>
                    </a:lnTo>
                    <a:lnTo>
                      <a:pt x="1292" y="4239"/>
                    </a:lnTo>
                    <a:lnTo>
                      <a:pt x="1197" y="4190"/>
                    </a:lnTo>
                    <a:lnTo>
                      <a:pt x="1105" y="4138"/>
                    </a:lnTo>
                    <a:lnTo>
                      <a:pt x="1016" y="4080"/>
                    </a:lnTo>
                    <a:lnTo>
                      <a:pt x="929" y="4019"/>
                    </a:lnTo>
                    <a:lnTo>
                      <a:pt x="845" y="3953"/>
                    </a:lnTo>
                    <a:lnTo>
                      <a:pt x="765" y="3884"/>
                    </a:lnTo>
                    <a:lnTo>
                      <a:pt x="688" y="3810"/>
                    </a:lnTo>
                    <a:lnTo>
                      <a:pt x="616" y="3734"/>
                    </a:lnTo>
                    <a:lnTo>
                      <a:pt x="546" y="3654"/>
                    </a:lnTo>
                    <a:lnTo>
                      <a:pt x="481" y="3571"/>
                    </a:lnTo>
                    <a:lnTo>
                      <a:pt x="419" y="3483"/>
                    </a:lnTo>
                    <a:lnTo>
                      <a:pt x="362" y="3394"/>
                    </a:lnTo>
                    <a:lnTo>
                      <a:pt x="308" y="3302"/>
                    </a:lnTo>
                    <a:lnTo>
                      <a:pt x="259" y="3207"/>
                    </a:lnTo>
                    <a:lnTo>
                      <a:pt x="215" y="3108"/>
                    </a:lnTo>
                    <a:lnTo>
                      <a:pt x="176" y="3008"/>
                    </a:lnTo>
                    <a:lnTo>
                      <a:pt x="142" y="2906"/>
                    </a:lnTo>
                    <a:lnTo>
                      <a:pt x="111" y="2802"/>
                    </a:lnTo>
                    <a:lnTo>
                      <a:pt x="86" y="2695"/>
                    </a:lnTo>
                    <a:lnTo>
                      <a:pt x="67" y="2586"/>
                    </a:lnTo>
                    <a:lnTo>
                      <a:pt x="53" y="2475"/>
                    </a:lnTo>
                    <a:lnTo>
                      <a:pt x="44" y="2363"/>
                    </a:lnTo>
                    <a:lnTo>
                      <a:pt x="42" y="2250"/>
                    </a:lnTo>
                    <a:lnTo>
                      <a:pt x="44" y="2136"/>
                    </a:lnTo>
                    <a:lnTo>
                      <a:pt x="53" y="2024"/>
                    </a:lnTo>
                    <a:lnTo>
                      <a:pt x="67" y="1914"/>
                    </a:lnTo>
                    <a:lnTo>
                      <a:pt x="86" y="1805"/>
                    </a:lnTo>
                    <a:lnTo>
                      <a:pt x="111" y="1698"/>
                    </a:lnTo>
                    <a:lnTo>
                      <a:pt x="142" y="1593"/>
                    </a:lnTo>
                    <a:lnTo>
                      <a:pt x="176" y="1490"/>
                    </a:lnTo>
                    <a:lnTo>
                      <a:pt x="215" y="1390"/>
                    </a:lnTo>
                    <a:lnTo>
                      <a:pt x="259" y="1293"/>
                    </a:lnTo>
                    <a:lnTo>
                      <a:pt x="308" y="1198"/>
                    </a:lnTo>
                    <a:lnTo>
                      <a:pt x="362" y="1105"/>
                    </a:lnTo>
                    <a:lnTo>
                      <a:pt x="419" y="1015"/>
                    </a:lnTo>
                    <a:lnTo>
                      <a:pt x="481" y="929"/>
                    </a:lnTo>
                    <a:lnTo>
                      <a:pt x="546" y="846"/>
                    </a:lnTo>
                    <a:lnTo>
                      <a:pt x="616" y="766"/>
                    </a:lnTo>
                    <a:lnTo>
                      <a:pt x="688" y="689"/>
                    </a:lnTo>
                    <a:lnTo>
                      <a:pt x="765" y="616"/>
                    </a:lnTo>
                    <a:lnTo>
                      <a:pt x="845" y="547"/>
                    </a:lnTo>
                    <a:lnTo>
                      <a:pt x="929" y="481"/>
                    </a:lnTo>
                    <a:lnTo>
                      <a:pt x="1016" y="419"/>
                    </a:lnTo>
                    <a:lnTo>
                      <a:pt x="1105" y="362"/>
                    </a:lnTo>
                    <a:lnTo>
                      <a:pt x="1197" y="309"/>
                    </a:lnTo>
                    <a:lnTo>
                      <a:pt x="1292" y="259"/>
                    </a:lnTo>
                    <a:lnTo>
                      <a:pt x="1391" y="215"/>
                    </a:lnTo>
                    <a:lnTo>
                      <a:pt x="1491" y="176"/>
                    </a:lnTo>
                    <a:lnTo>
                      <a:pt x="1594" y="142"/>
                    </a:lnTo>
                    <a:lnTo>
                      <a:pt x="1699" y="111"/>
                    </a:lnTo>
                    <a:lnTo>
                      <a:pt x="1806" y="86"/>
                    </a:lnTo>
                    <a:lnTo>
                      <a:pt x="1914" y="67"/>
                    </a:lnTo>
                    <a:lnTo>
                      <a:pt x="2025" y="53"/>
                    </a:lnTo>
                    <a:lnTo>
                      <a:pt x="2136" y="45"/>
                    </a:lnTo>
                    <a:lnTo>
                      <a:pt x="2250" y="42"/>
                    </a:lnTo>
                    <a:lnTo>
                      <a:pt x="2364" y="45"/>
                    </a:lnTo>
                    <a:lnTo>
                      <a:pt x="2475" y="53"/>
                    </a:lnTo>
                    <a:lnTo>
                      <a:pt x="2587" y="67"/>
                    </a:lnTo>
                    <a:lnTo>
                      <a:pt x="2695" y="86"/>
                    </a:lnTo>
                    <a:lnTo>
                      <a:pt x="2802" y="111"/>
                    </a:lnTo>
                    <a:lnTo>
                      <a:pt x="2907" y="142"/>
                    </a:lnTo>
                    <a:lnTo>
                      <a:pt x="3009" y="176"/>
                    </a:lnTo>
                    <a:lnTo>
                      <a:pt x="3110" y="215"/>
                    </a:lnTo>
                    <a:lnTo>
                      <a:pt x="3208" y="259"/>
                    </a:lnTo>
                    <a:lnTo>
                      <a:pt x="3303" y="309"/>
                    </a:lnTo>
                    <a:lnTo>
                      <a:pt x="3395" y="362"/>
                    </a:lnTo>
                    <a:lnTo>
                      <a:pt x="3485" y="419"/>
                    </a:lnTo>
                    <a:lnTo>
                      <a:pt x="3571" y="481"/>
                    </a:lnTo>
                    <a:lnTo>
                      <a:pt x="3654" y="547"/>
                    </a:lnTo>
                    <a:lnTo>
                      <a:pt x="3735" y="616"/>
                    </a:lnTo>
                    <a:lnTo>
                      <a:pt x="3812" y="689"/>
                    </a:lnTo>
                    <a:lnTo>
                      <a:pt x="3884" y="766"/>
                    </a:lnTo>
                    <a:lnTo>
                      <a:pt x="3955" y="846"/>
                    </a:lnTo>
                    <a:lnTo>
                      <a:pt x="4020" y="929"/>
                    </a:lnTo>
                    <a:lnTo>
                      <a:pt x="4081" y="1015"/>
                    </a:lnTo>
                    <a:lnTo>
                      <a:pt x="4138" y="1105"/>
                    </a:lnTo>
                    <a:lnTo>
                      <a:pt x="4192" y="1198"/>
                    </a:lnTo>
                    <a:lnTo>
                      <a:pt x="4241" y="1293"/>
                    </a:lnTo>
                    <a:lnTo>
                      <a:pt x="4285" y="1390"/>
                    </a:lnTo>
                    <a:lnTo>
                      <a:pt x="4324" y="1490"/>
                    </a:lnTo>
                    <a:lnTo>
                      <a:pt x="4359" y="1593"/>
                    </a:lnTo>
                    <a:lnTo>
                      <a:pt x="4389" y="1698"/>
                    </a:lnTo>
                    <a:lnTo>
                      <a:pt x="4414" y="1805"/>
                    </a:lnTo>
                    <a:lnTo>
                      <a:pt x="4433" y="1914"/>
                    </a:lnTo>
                    <a:lnTo>
                      <a:pt x="4447" y="2024"/>
                    </a:lnTo>
                    <a:lnTo>
                      <a:pt x="4456" y="2136"/>
                    </a:lnTo>
                    <a:lnTo>
                      <a:pt x="4458" y="2250"/>
                    </a:lnTo>
                    <a:lnTo>
                      <a:pt x="4458" y="2286"/>
                    </a:lnTo>
                    <a:lnTo>
                      <a:pt x="4457" y="2323"/>
                    </a:lnTo>
                    <a:lnTo>
                      <a:pt x="4456" y="2361"/>
                    </a:lnTo>
                    <a:lnTo>
                      <a:pt x="4454" y="2397"/>
                    </a:lnTo>
                    <a:lnTo>
                      <a:pt x="4451" y="2433"/>
                    </a:lnTo>
                    <a:lnTo>
                      <a:pt x="4447" y="2470"/>
                    </a:lnTo>
                    <a:lnTo>
                      <a:pt x="4444" y="2506"/>
                    </a:lnTo>
                    <a:lnTo>
                      <a:pt x="4439" y="2542"/>
                    </a:lnTo>
                    <a:lnTo>
                      <a:pt x="4434" y="2578"/>
                    </a:lnTo>
                    <a:lnTo>
                      <a:pt x="4428" y="2614"/>
                    </a:lnTo>
                    <a:lnTo>
                      <a:pt x="4423" y="2649"/>
                    </a:lnTo>
                    <a:lnTo>
                      <a:pt x="4415" y="2684"/>
                    </a:lnTo>
                    <a:lnTo>
                      <a:pt x="4409" y="2719"/>
                    </a:lnTo>
                    <a:lnTo>
                      <a:pt x="4400" y="2754"/>
                    </a:lnTo>
                    <a:lnTo>
                      <a:pt x="4392" y="2789"/>
                    </a:lnTo>
                    <a:lnTo>
                      <a:pt x="4383" y="2823"/>
                    </a:lnTo>
                    <a:lnTo>
                      <a:pt x="4424" y="2834"/>
                    </a:lnTo>
                    <a:lnTo>
                      <a:pt x="4432" y="2799"/>
                    </a:lnTo>
                    <a:lnTo>
                      <a:pt x="4441" y="2764"/>
                    </a:lnTo>
                    <a:lnTo>
                      <a:pt x="4449" y="2728"/>
                    </a:lnTo>
                    <a:lnTo>
                      <a:pt x="4456" y="2692"/>
                    </a:lnTo>
                    <a:lnTo>
                      <a:pt x="4464" y="2657"/>
                    </a:lnTo>
                    <a:lnTo>
                      <a:pt x="4470" y="2620"/>
                    </a:lnTo>
                    <a:lnTo>
                      <a:pt x="4476" y="2584"/>
                    </a:lnTo>
                    <a:lnTo>
                      <a:pt x="4481" y="2548"/>
                    </a:lnTo>
                    <a:lnTo>
                      <a:pt x="4485" y="2511"/>
                    </a:lnTo>
                    <a:lnTo>
                      <a:pt x="4490" y="2474"/>
                    </a:lnTo>
                    <a:lnTo>
                      <a:pt x="4493" y="2438"/>
                    </a:lnTo>
                    <a:lnTo>
                      <a:pt x="4495" y="2400"/>
                    </a:lnTo>
                    <a:lnTo>
                      <a:pt x="4497" y="2362"/>
                    </a:lnTo>
                    <a:lnTo>
                      <a:pt x="4499" y="2325"/>
                    </a:lnTo>
                    <a:lnTo>
                      <a:pt x="4500" y="2287"/>
                    </a:lnTo>
                    <a:lnTo>
                      <a:pt x="4500" y="2250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689280" y="2112840"/>
                <a:ext cx="1770120" cy="1768680"/>
              </a:xfrm>
              <a:custGeom>
                <a:avLst/>
                <a:gdLst/>
                <a:ahLst/>
                <a:rect l="l" t="t" r="r" b="b"/>
                <a:pathLst>
                  <a:path w="4460" h="4456">
                    <a:moveTo>
                      <a:pt x="4460" y="2228"/>
                    </a:moveTo>
                    <a:lnTo>
                      <a:pt x="4457" y="2113"/>
                    </a:lnTo>
                    <a:lnTo>
                      <a:pt x="4448" y="2000"/>
                    </a:lnTo>
                    <a:lnTo>
                      <a:pt x="4434" y="1889"/>
                    </a:lnTo>
                    <a:lnTo>
                      <a:pt x="4414" y="1778"/>
                    </a:lnTo>
                    <a:lnTo>
                      <a:pt x="4390" y="1670"/>
                    </a:lnTo>
                    <a:lnTo>
                      <a:pt x="4359" y="1565"/>
                    </a:lnTo>
                    <a:lnTo>
                      <a:pt x="4324" y="1461"/>
                    </a:lnTo>
                    <a:lnTo>
                      <a:pt x="4284" y="1360"/>
                    </a:lnTo>
                    <a:lnTo>
                      <a:pt x="4239" y="1261"/>
                    </a:lnTo>
                    <a:lnTo>
                      <a:pt x="4191" y="1165"/>
                    </a:lnTo>
                    <a:lnTo>
                      <a:pt x="4137" y="1072"/>
                    </a:lnTo>
                    <a:lnTo>
                      <a:pt x="4078" y="981"/>
                    </a:lnTo>
                    <a:lnTo>
                      <a:pt x="4017" y="894"/>
                    </a:lnTo>
                    <a:lnTo>
                      <a:pt x="3950" y="810"/>
                    </a:lnTo>
                    <a:lnTo>
                      <a:pt x="3881" y="730"/>
                    </a:lnTo>
                    <a:lnTo>
                      <a:pt x="3806" y="652"/>
                    </a:lnTo>
                    <a:lnTo>
                      <a:pt x="3729" y="579"/>
                    </a:lnTo>
                    <a:lnTo>
                      <a:pt x="3648" y="508"/>
                    </a:lnTo>
                    <a:lnTo>
                      <a:pt x="3564" y="441"/>
                    </a:lnTo>
                    <a:lnTo>
                      <a:pt x="3477" y="380"/>
                    </a:lnTo>
                    <a:lnTo>
                      <a:pt x="3386" y="321"/>
                    </a:lnTo>
                    <a:lnTo>
                      <a:pt x="3293" y="269"/>
                    </a:lnTo>
                    <a:lnTo>
                      <a:pt x="3197" y="219"/>
                    </a:lnTo>
                    <a:lnTo>
                      <a:pt x="3097" y="175"/>
                    </a:lnTo>
                    <a:lnTo>
                      <a:pt x="2997" y="135"/>
                    </a:lnTo>
                    <a:lnTo>
                      <a:pt x="2893" y="99"/>
                    </a:lnTo>
                    <a:lnTo>
                      <a:pt x="2787" y="70"/>
                    </a:lnTo>
                    <a:lnTo>
                      <a:pt x="2679" y="44"/>
                    </a:lnTo>
                    <a:lnTo>
                      <a:pt x="2570" y="24"/>
                    </a:lnTo>
                    <a:lnTo>
                      <a:pt x="2458" y="10"/>
                    </a:lnTo>
                    <a:lnTo>
                      <a:pt x="2345" y="2"/>
                    </a:lnTo>
                    <a:lnTo>
                      <a:pt x="2230" y="0"/>
                    </a:lnTo>
                    <a:lnTo>
                      <a:pt x="2115" y="2"/>
                    </a:lnTo>
                    <a:lnTo>
                      <a:pt x="2003" y="10"/>
                    </a:lnTo>
                    <a:lnTo>
                      <a:pt x="1890" y="24"/>
                    </a:lnTo>
                    <a:lnTo>
                      <a:pt x="1781" y="44"/>
                    </a:lnTo>
                    <a:lnTo>
                      <a:pt x="1673" y="70"/>
                    </a:lnTo>
                    <a:lnTo>
                      <a:pt x="1567" y="99"/>
                    </a:lnTo>
                    <a:lnTo>
                      <a:pt x="1464" y="135"/>
                    </a:lnTo>
                    <a:lnTo>
                      <a:pt x="1362" y="175"/>
                    </a:lnTo>
                    <a:lnTo>
                      <a:pt x="1264" y="219"/>
                    </a:lnTo>
                    <a:lnTo>
                      <a:pt x="1167" y="269"/>
                    </a:lnTo>
                    <a:lnTo>
                      <a:pt x="1075" y="321"/>
                    </a:lnTo>
                    <a:lnTo>
                      <a:pt x="984" y="380"/>
                    </a:lnTo>
                    <a:lnTo>
                      <a:pt x="896" y="441"/>
                    </a:lnTo>
                    <a:lnTo>
                      <a:pt x="812" y="508"/>
                    </a:lnTo>
                    <a:lnTo>
                      <a:pt x="731" y="579"/>
                    </a:lnTo>
                    <a:lnTo>
                      <a:pt x="654" y="652"/>
                    </a:lnTo>
                    <a:lnTo>
                      <a:pt x="580" y="730"/>
                    </a:lnTo>
                    <a:lnTo>
                      <a:pt x="511" y="810"/>
                    </a:lnTo>
                    <a:lnTo>
                      <a:pt x="444" y="894"/>
                    </a:lnTo>
                    <a:lnTo>
                      <a:pt x="382" y="981"/>
                    </a:lnTo>
                    <a:lnTo>
                      <a:pt x="324" y="1072"/>
                    </a:lnTo>
                    <a:lnTo>
                      <a:pt x="270" y="1165"/>
                    </a:lnTo>
                    <a:lnTo>
                      <a:pt x="221" y="1261"/>
                    </a:lnTo>
                    <a:lnTo>
                      <a:pt x="177" y="1360"/>
                    </a:lnTo>
                    <a:lnTo>
                      <a:pt x="137" y="1461"/>
                    </a:lnTo>
                    <a:lnTo>
                      <a:pt x="101" y="1565"/>
                    </a:lnTo>
                    <a:lnTo>
                      <a:pt x="71" y="1670"/>
                    </a:lnTo>
                    <a:lnTo>
                      <a:pt x="46" y="1778"/>
                    </a:lnTo>
                    <a:lnTo>
                      <a:pt x="26" y="1889"/>
                    </a:lnTo>
                    <a:lnTo>
                      <a:pt x="12" y="2000"/>
                    </a:lnTo>
                    <a:lnTo>
                      <a:pt x="4" y="2113"/>
                    </a:lnTo>
                    <a:lnTo>
                      <a:pt x="0" y="2228"/>
                    </a:lnTo>
                    <a:lnTo>
                      <a:pt x="4" y="2342"/>
                    </a:lnTo>
                    <a:lnTo>
                      <a:pt x="12" y="2456"/>
                    </a:lnTo>
                    <a:lnTo>
                      <a:pt x="26" y="2567"/>
                    </a:lnTo>
                    <a:lnTo>
                      <a:pt x="46" y="2677"/>
                    </a:lnTo>
                    <a:lnTo>
                      <a:pt x="71" y="2784"/>
                    </a:lnTo>
                    <a:lnTo>
                      <a:pt x="101" y="2890"/>
                    </a:lnTo>
                    <a:lnTo>
                      <a:pt x="137" y="2993"/>
                    </a:lnTo>
                    <a:lnTo>
                      <a:pt x="177" y="3095"/>
                    </a:lnTo>
                    <a:lnTo>
                      <a:pt x="221" y="3193"/>
                    </a:lnTo>
                    <a:lnTo>
                      <a:pt x="270" y="3289"/>
                    </a:lnTo>
                    <a:lnTo>
                      <a:pt x="324" y="3383"/>
                    </a:lnTo>
                    <a:lnTo>
                      <a:pt x="382" y="3473"/>
                    </a:lnTo>
                    <a:lnTo>
                      <a:pt x="444" y="3560"/>
                    </a:lnTo>
                    <a:lnTo>
                      <a:pt x="511" y="3645"/>
                    </a:lnTo>
                    <a:lnTo>
                      <a:pt x="580" y="3726"/>
                    </a:lnTo>
                    <a:lnTo>
                      <a:pt x="654" y="3803"/>
                    </a:lnTo>
                    <a:lnTo>
                      <a:pt x="731" y="3877"/>
                    </a:lnTo>
                    <a:lnTo>
                      <a:pt x="812" y="3947"/>
                    </a:lnTo>
                    <a:lnTo>
                      <a:pt x="896" y="4013"/>
                    </a:lnTo>
                    <a:lnTo>
                      <a:pt x="984" y="4076"/>
                    </a:lnTo>
                    <a:lnTo>
                      <a:pt x="1075" y="4133"/>
                    </a:lnTo>
                    <a:lnTo>
                      <a:pt x="1167" y="4187"/>
                    </a:lnTo>
                    <a:lnTo>
                      <a:pt x="1264" y="4235"/>
                    </a:lnTo>
                    <a:lnTo>
                      <a:pt x="1362" y="4281"/>
                    </a:lnTo>
                    <a:lnTo>
                      <a:pt x="1464" y="4321"/>
                    </a:lnTo>
                    <a:lnTo>
                      <a:pt x="1567" y="4355"/>
                    </a:lnTo>
                    <a:lnTo>
                      <a:pt x="1673" y="4386"/>
                    </a:lnTo>
                    <a:lnTo>
                      <a:pt x="1781" y="4410"/>
                    </a:lnTo>
                    <a:lnTo>
                      <a:pt x="1890" y="4430"/>
                    </a:lnTo>
                    <a:lnTo>
                      <a:pt x="2003" y="4444"/>
                    </a:lnTo>
                    <a:lnTo>
                      <a:pt x="2115" y="4452"/>
                    </a:lnTo>
                    <a:lnTo>
                      <a:pt x="2230" y="4456"/>
                    </a:lnTo>
                    <a:lnTo>
                      <a:pt x="2296" y="4455"/>
                    </a:lnTo>
                    <a:lnTo>
                      <a:pt x="2360" y="4451"/>
                    </a:lnTo>
                    <a:lnTo>
                      <a:pt x="2425" y="4447"/>
                    </a:lnTo>
                    <a:lnTo>
                      <a:pt x="2489" y="4441"/>
                    </a:lnTo>
                    <a:lnTo>
                      <a:pt x="2553" y="4432"/>
                    </a:lnTo>
                    <a:lnTo>
                      <a:pt x="2615" y="4422"/>
                    </a:lnTo>
                    <a:lnTo>
                      <a:pt x="2678" y="4410"/>
                    </a:lnTo>
                    <a:lnTo>
                      <a:pt x="2740" y="4397"/>
                    </a:lnTo>
                    <a:lnTo>
                      <a:pt x="2800" y="4382"/>
                    </a:lnTo>
                    <a:lnTo>
                      <a:pt x="2861" y="4365"/>
                    </a:lnTo>
                    <a:lnTo>
                      <a:pt x="2921" y="4347"/>
                    </a:lnTo>
                    <a:lnTo>
                      <a:pt x="2980" y="4326"/>
                    </a:lnTo>
                    <a:lnTo>
                      <a:pt x="3038" y="4305"/>
                    </a:lnTo>
                    <a:lnTo>
                      <a:pt x="3095" y="4282"/>
                    </a:lnTo>
                    <a:lnTo>
                      <a:pt x="3151" y="4257"/>
                    </a:lnTo>
                    <a:lnTo>
                      <a:pt x="3208" y="4230"/>
                    </a:lnTo>
                    <a:lnTo>
                      <a:pt x="3189" y="4193"/>
                    </a:lnTo>
                    <a:lnTo>
                      <a:pt x="3134" y="4219"/>
                    </a:lnTo>
                    <a:lnTo>
                      <a:pt x="3079" y="4243"/>
                    </a:lnTo>
                    <a:lnTo>
                      <a:pt x="3023" y="4266"/>
                    </a:lnTo>
                    <a:lnTo>
                      <a:pt x="2965" y="4287"/>
                    </a:lnTo>
                    <a:lnTo>
                      <a:pt x="2908" y="4307"/>
                    </a:lnTo>
                    <a:lnTo>
                      <a:pt x="2849" y="4325"/>
                    </a:lnTo>
                    <a:lnTo>
                      <a:pt x="2790" y="4341"/>
                    </a:lnTo>
                    <a:lnTo>
                      <a:pt x="2730" y="4356"/>
                    </a:lnTo>
                    <a:lnTo>
                      <a:pt x="2669" y="4369"/>
                    </a:lnTo>
                    <a:lnTo>
                      <a:pt x="2609" y="4381"/>
                    </a:lnTo>
                    <a:lnTo>
                      <a:pt x="2546" y="4391"/>
                    </a:lnTo>
                    <a:lnTo>
                      <a:pt x="2485" y="4400"/>
                    </a:lnTo>
                    <a:lnTo>
                      <a:pt x="2422" y="4406"/>
                    </a:lnTo>
                    <a:lnTo>
                      <a:pt x="2358" y="4410"/>
                    </a:lnTo>
                    <a:lnTo>
                      <a:pt x="2294" y="4414"/>
                    </a:lnTo>
                    <a:lnTo>
                      <a:pt x="2230" y="4414"/>
                    </a:lnTo>
                    <a:lnTo>
                      <a:pt x="2117" y="4411"/>
                    </a:lnTo>
                    <a:lnTo>
                      <a:pt x="2006" y="4403"/>
                    </a:lnTo>
                    <a:lnTo>
                      <a:pt x="1897" y="4389"/>
                    </a:lnTo>
                    <a:lnTo>
                      <a:pt x="1789" y="4369"/>
                    </a:lnTo>
                    <a:lnTo>
                      <a:pt x="1684" y="4346"/>
                    </a:lnTo>
                    <a:lnTo>
                      <a:pt x="1579" y="4315"/>
                    </a:lnTo>
                    <a:lnTo>
                      <a:pt x="1478" y="4282"/>
                    </a:lnTo>
                    <a:lnTo>
                      <a:pt x="1378" y="4242"/>
                    </a:lnTo>
                    <a:lnTo>
                      <a:pt x="1282" y="4199"/>
                    </a:lnTo>
                    <a:lnTo>
                      <a:pt x="1187" y="4150"/>
                    </a:lnTo>
                    <a:lnTo>
                      <a:pt x="1096" y="4097"/>
                    </a:lnTo>
                    <a:lnTo>
                      <a:pt x="1008" y="4041"/>
                    </a:lnTo>
                    <a:lnTo>
                      <a:pt x="921" y="3979"/>
                    </a:lnTo>
                    <a:lnTo>
                      <a:pt x="839" y="3915"/>
                    </a:lnTo>
                    <a:lnTo>
                      <a:pt x="759" y="3846"/>
                    </a:lnTo>
                    <a:lnTo>
                      <a:pt x="683" y="3773"/>
                    </a:lnTo>
                    <a:lnTo>
                      <a:pt x="611" y="3698"/>
                    </a:lnTo>
                    <a:lnTo>
                      <a:pt x="542" y="3619"/>
                    </a:lnTo>
                    <a:lnTo>
                      <a:pt x="477" y="3536"/>
                    </a:lnTo>
                    <a:lnTo>
                      <a:pt x="417" y="3450"/>
                    </a:lnTo>
                    <a:lnTo>
                      <a:pt x="359" y="3362"/>
                    </a:lnTo>
                    <a:lnTo>
                      <a:pt x="306" y="3270"/>
                    </a:lnTo>
                    <a:lnTo>
                      <a:pt x="259" y="3175"/>
                    </a:lnTo>
                    <a:lnTo>
                      <a:pt x="214" y="3079"/>
                    </a:lnTo>
                    <a:lnTo>
                      <a:pt x="176" y="2979"/>
                    </a:lnTo>
                    <a:lnTo>
                      <a:pt x="141" y="2878"/>
                    </a:lnTo>
                    <a:lnTo>
                      <a:pt x="112" y="2774"/>
                    </a:lnTo>
                    <a:lnTo>
                      <a:pt x="87" y="2668"/>
                    </a:lnTo>
                    <a:lnTo>
                      <a:pt x="67" y="2560"/>
                    </a:lnTo>
                    <a:lnTo>
                      <a:pt x="53" y="2451"/>
                    </a:lnTo>
                    <a:lnTo>
                      <a:pt x="46" y="2340"/>
                    </a:lnTo>
                    <a:lnTo>
                      <a:pt x="43" y="2228"/>
                    </a:lnTo>
                    <a:lnTo>
                      <a:pt x="46" y="2115"/>
                    </a:lnTo>
                    <a:lnTo>
                      <a:pt x="53" y="2004"/>
                    </a:lnTo>
                    <a:lnTo>
                      <a:pt x="67" y="1894"/>
                    </a:lnTo>
                    <a:lnTo>
                      <a:pt x="87" y="1787"/>
                    </a:lnTo>
                    <a:lnTo>
                      <a:pt x="112" y="1681"/>
                    </a:lnTo>
                    <a:lnTo>
                      <a:pt x="141" y="1578"/>
                    </a:lnTo>
                    <a:lnTo>
                      <a:pt x="176" y="1476"/>
                    </a:lnTo>
                    <a:lnTo>
                      <a:pt x="214" y="1377"/>
                    </a:lnTo>
                    <a:lnTo>
                      <a:pt x="259" y="1279"/>
                    </a:lnTo>
                    <a:lnTo>
                      <a:pt x="306" y="1185"/>
                    </a:lnTo>
                    <a:lnTo>
                      <a:pt x="359" y="1094"/>
                    </a:lnTo>
                    <a:lnTo>
                      <a:pt x="417" y="1005"/>
                    </a:lnTo>
                    <a:lnTo>
                      <a:pt x="477" y="919"/>
                    </a:lnTo>
                    <a:lnTo>
                      <a:pt x="542" y="837"/>
                    </a:lnTo>
                    <a:lnTo>
                      <a:pt x="611" y="757"/>
                    </a:lnTo>
                    <a:lnTo>
                      <a:pt x="683" y="681"/>
                    </a:lnTo>
                    <a:lnTo>
                      <a:pt x="759" y="609"/>
                    </a:lnTo>
                    <a:lnTo>
                      <a:pt x="839" y="540"/>
                    </a:lnTo>
                    <a:lnTo>
                      <a:pt x="921" y="475"/>
                    </a:lnTo>
                    <a:lnTo>
                      <a:pt x="1008" y="414"/>
                    </a:lnTo>
                    <a:lnTo>
                      <a:pt x="1096" y="357"/>
                    </a:lnTo>
                    <a:lnTo>
                      <a:pt x="1187" y="305"/>
                    </a:lnTo>
                    <a:lnTo>
                      <a:pt x="1282" y="257"/>
                    </a:lnTo>
                    <a:lnTo>
                      <a:pt x="1378" y="212"/>
                    </a:lnTo>
                    <a:lnTo>
                      <a:pt x="1478" y="174"/>
                    </a:lnTo>
                    <a:lnTo>
                      <a:pt x="1579" y="139"/>
                    </a:lnTo>
                    <a:lnTo>
                      <a:pt x="1684" y="110"/>
                    </a:lnTo>
                    <a:lnTo>
                      <a:pt x="1789" y="85"/>
                    </a:lnTo>
                    <a:lnTo>
                      <a:pt x="1897" y="66"/>
                    </a:lnTo>
                    <a:lnTo>
                      <a:pt x="2006" y="53"/>
                    </a:lnTo>
                    <a:lnTo>
                      <a:pt x="2117" y="44"/>
                    </a:lnTo>
                    <a:lnTo>
                      <a:pt x="2230" y="41"/>
                    </a:lnTo>
                    <a:lnTo>
                      <a:pt x="2343" y="44"/>
                    </a:lnTo>
                    <a:lnTo>
                      <a:pt x="2453" y="53"/>
                    </a:lnTo>
                    <a:lnTo>
                      <a:pt x="2564" y="66"/>
                    </a:lnTo>
                    <a:lnTo>
                      <a:pt x="2671" y="85"/>
                    </a:lnTo>
                    <a:lnTo>
                      <a:pt x="2776" y="110"/>
                    </a:lnTo>
                    <a:lnTo>
                      <a:pt x="2880" y="139"/>
                    </a:lnTo>
                    <a:lnTo>
                      <a:pt x="2983" y="174"/>
                    </a:lnTo>
                    <a:lnTo>
                      <a:pt x="3081" y="212"/>
                    </a:lnTo>
                    <a:lnTo>
                      <a:pt x="3178" y="257"/>
                    </a:lnTo>
                    <a:lnTo>
                      <a:pt x="3272" y="305"/>
                    </a:lnTo>
                    <a:lnTo>
                      <a:pt x="3364" y="357"/>
                    </a:lnTo>
                    <a:lnTo>
                      <a:pt x="3453" y="414"/>
                    </a:lnTo>
                    <a:lnTo>
                      <a:pt x="3539" y="475"/>
                    </a:lnTo>
                    <a:lnTo>
                      <a:pt x="3621" y="540"/>
                    </a:lnTo>
                    <a:lnTo>
                      <a:pt x="3701" y="609"/>
                    </a:lnTo>
                    <a:lnTo>
                      <a:pt x="3777" y="681"/>
                    </a:lnTo>
                    <a:lnTo>
                      <a:pt x="3849" y="757"/>
                    </a:lnTo>
                    <a:lnTo>
                      <a:pt x="3919" y="837"/>
                    </a:lnTo>
                    <a:lnTo>
                      <a:pt x="3983" y="919"/>
                    </a:lnTo>
                    <a:lnTo>
                      <a:pt x="4044" y="1005"/>
                    </a:lnTo>
                    <a:lnTo>
                      <a:pt x="4101" y="1094"/>
                    </a:lnTo>
                    <a:lnTo>
                      <a:pt x="4154" y="1185"/>
                    </a:lnTo>
                    <a:lnTo>
                      <a:pt x="4202" y="1279"/>
                    </a:lnTo>
                    <a:lnTo>
                      <a:pt x="4246" y="1377"/>
                    </a:lnTo>
                    <a:lnTo>
                      <a:pt x="4285" y="1476"/>
                    </a:lnTo>
                    <a:lnTo>
                      <a:pt x="4319" y="1578"/>
                    </a:lnTo>
                    <a:lnTo>
                      <a:pt x="4349" y="1681"/>
                    </a:lnTo>
                    <a:lnTo>
                      <a:pt x="4373" y="1787"/>
                    </a:lnTo>
                    <a:lnTo>
                      <a:pt x="4393" y="1894"/>
                    </a:lnTo>
                    <a:lnTo>
                      <a:pt x="4407" y="2004"/>
                    </a:lnTo>
                    <a:lnTo>
                      <a:pt x="4414" y="2115"/>
                    </a:lnTo>
                    <a:lnTo>
                      <a:pt x="4418" y="2228"/>
                    </a:lnTo>
                    <a:lnTo>
                      <a:pt x="4418" y="2264"/>
                    </a:lnTo>
                    <a:lnTo>
                      <a:pt x="4417" y="2301"/>
                    </a:lnTo>
                    <a:lnTo>
                      <a:pt x="4414" y="2338"/>
                    </a:lnTo>
                    <a:lnTo>
                      <a:pt x="4413" y="2373"/>
                    </a:lnTo>
                    <a:lnTo>
                      <a:pt x="4410" y="2410"/>
                    </a:lnTo>
                    <a:lnTo>
                      <a:pt x="4407" y="2446"/>
                    </a:lnTo>
                    <a:lnTo>
                      <a:pt x="4403" y="2481"/>
                    </a:lnTo>
                    <a:lnTo>
                      <a:pt x="4398" y="2517"/>
                    </a:lnTo>
                    <a:lnTo>
                      <a:pt x="4394" y="2553"/>
                    </a:lnTo>
                    <a:lnTo>
                      <a:pt x="4387" y="2588"/>
                    </a:lnTo>
                    <a:lnTo>
                      <a:pt x="4382" y="2623"/>
                    </a:lnTo>
                    <a:lnTo>
                      <a:pt x="4376" y="2659"/>
                    </a:lnTo>
                    <a:lnTo>
                      <a:pt x="4368" y="2693"/>
                    </a:lnTo>
                    <a:lnTo>
                      <a:pt x="4360" y="2728"/>
                    </a:lnTo>
                    <a:lnTo>
                      <a:pt x="4352" y="2762"/>
                    </a:lnTo>
                    <a:lnTo>
                      <a:pt x="4343" y="2796"/>
                    </a:lnTo>
                    <a:lnTo>
                      <a:pt x="4383" y="2807"/>
                    </a:lnTo>
                    <a:lnTo>
                      <a:pt x="4392" y="2772"/>
                    </a:lnTo>
                    <a:lnTo>
                      <a:pt x="4400" y="2737"/>
                    </a:lnTo>
                    <a:lnTo>
                      <a:pt x="4409" y="2702"/>
                    </a:lnTo>
                    <a:lnTo>
                      <a:pt x="4416" y="2666"/>
                    </a:lnTo>
                    <a:lnTo>
                      <a:pt x="4423" y="2631"/>
                    </a:lnTo>
                    <a:lnTo>
                      <a:pt x="4430" y="2595"/>
                    </a:lnTo>
                    <a:lnTo>
                      <a:pt x="4435" y="2559"/>
                    </a:lnTo>
                    <a:lnTo>
                      <a:pt x="4440" y="2523"/>
                    </a:lnTo>
                    <a:lnTo>
                      <a:pt x="4445" y="2487"/>
                    </a:lnTo>
                    <a:lnTo>
                      <a:pt x="4448" y="2450"/>
                    </a:lnTo>
                    <a:lnTo>
                      <a:pt x="4451" y="2413"/>
                    </a:lnTo>
                    <a:lnTo>
                      <a:pt x="4454" y="2377"/>
                    </a:lnTo>
                    <a:lnTo>
                      <a:pt x="4457" y="2339"/>
                    </a:lnTo>
                    <a:lnTo>
                      <a:pt x="4458" y="2302"/>
                    </a:lnTo>
                    <a:lnTo>
                      <a:pt x="4459" y="2264"/>
                    </a:lnTo>
                    <a:lnTo>
                      <a:pt x="4460" y="222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697200" y="2120760"/>
                <a:ext cx="1752840" cy="1752840"/>
              </a:xfrm>
              <a:custGeom>
                <a:avLst/>
                <a:gdLst/>
                <a:ahLst/>
                <a:rect l="l" t="t" r="r" b="b"/>
                <a:pathLst>
                  <a:path w="4416" h="4415">
                    <a:moveTo>
                      <a:pt x="4416" y="2208"/>
                    </a:moveTo>
                    <a:lnTo>
                      <a:pt x="4414" y="2094"/>
                    </a:lnTo>
                    <a:lnTo>
                      <a:pt x="4405" y="1982"/>
                    </a:lnTo>
                    <a:lnTo>
                      <a:pt x="4391" y="1872"/>
                    </a:lnTo>
                    <a:lnTo>
                      <a:pt x="4372" y="1763"/>
                    </a:lnTo>
                    <a:lnTo>
                      <a:pt x="4347" y="1656"/>
                    </a:lnTo>
                    <a:lnTo>
                      <a:pt x="4317" y="1551"/>
                    </a:lnTo>
                    <a:lnTo>
                      <a:pt x="4282" y="1448"/>
                    </a:lnTo>
                    <a:lnTo>
                      <a:pt x="4243" y="1348"/>
                    </a:lnTo>
                    <a:lnTo>
                      <a:pt x="4199" y="1251"/>
                    </a:lnTo>
                    <a:lnTo>
                      <a:pt x="4150" y="1156"/>
                    </a:lnTo>
                    <a:lnTo>
                      <a:pt x="4096" y="1063"/>
                    </a:lnTo>
                    <a:lnTo>
                      <a:pt x="4039" y="973"/>
                    </a:lnTo>
                    <a:lnTo>
                      <a:pt x="3978" y="887"/>
                    </a:lnTo>
                    <a:lnTo>
                      <a:pt x="3913" y="804"/>
                    </a:lnTo>
                    <a:lnTo>
                      <a:pt x="3842" y="724"/>
                    </a:lnTo>
                    <a:lnTo>
                      <a:pt x="3770" y="647"/>
                    </a:lnTo>
                    <a:lnTo>
                      <a:pt x="3693" y="574"/>
                    </a:lnTo>
                    <a:lnTo>
                      <a:pt x="3612" y="505"/>
                    </a:lnTo>
                    <a:lnTo>
                      <a:pt x="3529" y="439"/>
                    </a:lnTo>
                    <a:lnTo>
                      <a:pt x="3443" y="377"/>
                    </a:lnTo>
                    <a:lnTo>
                      <a:pt x="3353" y="320"/>
                    </a:lnTo>
                    <a:lnTo>
                      <a:pt x="3261" y="267"/>
                    </a:lnTo>
                    <a:lnTo>
                      <a:pt x="3166" y="217"/>
                    </a:lnTo>
                    <a:lnTo>
                      <a:pt x="3068" y="173"/>
                    </a:lnTo>
                    <a:lnTo>
                      <a:pt x="2967" y="134"/>
                    </a:lnTo>
                    <a:lnTo>
                      <a:pt x="2865" y="100"/>
                    </a:lnTo>
                    <a:lnTo>
                      <a:pt x="2760" y="69"/>
                    </a:lnTo>
                    <a:lnTo>
                      <a:pt x="2653" y="44"/>
                    </a:lnTo>
                    <a:lnTo>
                      <a:pt x="2545" y="25"/>
                    </a:lnTo>
                    <a:lnTo>
                      <a:pt x="2433" y="11"/>
                    </a:lnTo>
                    <a:lnTo>
                      <a:pt x="2322" y="3"/>
                    </a:lnTo>
                    <a:lnTo>
                      <a:pt x="2208" y="0"/>
                    </a:lnTo>
                    <a:lnTo>
                      <a:pt x="2094" y="3"/>
                    </a:lnTo>
                    <a:lnTo>
                      <a:pt x="1983" y="11"/>
                    </a:lnTo>
                    <a:lnTo>
                      <a:pt x="1872" y="25"/>
                    </a:lnTo>
                    <a:lnTo>
                      <a:pt x="1764" y="44"/>
                    </a:lnTo>
                    <a:lnTo>
                      <a:pt x="1657" y="69"/>
                    </a:lnTo>
                    <a:lnTo>
                      <a:pt x="1552" y="100"/>
                    </a:lnTo>
                    <a:lnTo>
                      <a:pt x="1449" y="134"/>
                    </a:lnTo>
                    <a:lnTo>
                      <a:pt x="1349" y="173"/>
                    </a:lnTo>
                    <a:lnTo>
                      <a:pt x="1250" y="217"/>
                    </a:lnTo>
                    <a:lnTo>
                      <a:pt x="1155" y="267"/>
                    </a:lnTo>
                    <a:lnTo>
                      <a:pt x="1063" y="320"/>
                    </a:lnTo>
                    <a:lnTo>
                      <a:pt x="974" y="377"/>
                    </a:lnTo>
                    <a:lnTo>
                      <a:pt x="887" y="439"/>
                    </a:lnTo>
                    <a:lnTo>
                      <a:pt x="803" y="505"/>
                    </a:lnTo>
                    <a:lnTo>
                      <a:pt x="723" y="574"/>
                    </a:lnTo>
                    <a:lnTo>
                      <a:pt x="646" y="647"/>
                    </a:lnTo>
                    <a:lnTo>
                      <a:pt x="574" y="724"/>
                    </a:lnTo>
                    <a:lnTo>
                      <a:pt x="504" y="804"/>
                    </a:lnTo>
                    <a:lnTo>
                      <a:pt x="439" y="887"/>
                    </a:lnTo>
                    <a:lnTo>
                      <a:pt x="377" y="973"/>
                    </a:lnTo>
                    <a:lnTo>
                      <a:pt x="320" y="1063"/>
                    </a:lnTo>
                    <a:lnTo>
                      <a:pt x="266" y="1156"/>
                    </a:lnTo>
                    <a:lnTo>
                      <a:pt x="217" y="1251"/>
                    </a:lnTo>
                    <a:lnTo>
                      <a:pt x="173" y="1348"/>
                    </a:lnTo>
                    <a:lnTo>
                      <a:pt x="134" y="1448"/>
                    </a:lnTo>
                    <a:lnTo>
                      <a:pt x="100" y="1551"/>
                    </a:lnTo>
                    <a:lnTo>
                      <a:pt x="69" y="1656"/>
                    </a:lnTo>
                    <a:lnTo>
                      <a:pt x="44" y="1763"/>
                    </a:lnTo>
                    <a:lnTo>
                      <a:pt x="25" y="1872"/>
                    </a:lnTo>
                    <a:lnTo>
                      <a:pt x="11" y="1982"/>
                    </a:lnTo>
                    <a:lnTo>
                      <a:pt x="2" y="2094"/>
                    </a:lnTo>
                    <a:lnTo>
                      <a:pt x="0" y="2208"/>
                    </a:lnTo>
                    <a:lnTo>
                      <a:pt x="2" y="2321"/>
                    </a:lnTo>
                    <a:lnTo>
                      <a:pt x="11" y="2433"/>
                    </a:lnTo>
                    <a:lnTo>
                      <a:pt x="25" y="2544"/>
                    </a:lnTo>
                    <a:lnTo>
                      <a:pt x="44" y="2653"/>
                    </a:lnTo>
                    <a:lnTo>
                      <a:pt x="69" y="2760"/>
                    </a:lnTo>
                    <a:lnTo>
                      <a:pt x="100" y="2864"/>
                    </a:lnTo>
                    <a:lnTo>
                      <a:pt x="134" y="2966"/>
                    </a:lnTo>
                    <a:lnTo>
                      <a:pt x="173" y="3066"/>
                    </a:lnTo>
                    <a:lnTo>
                      <a:pt x="217" y="3165"/>
                    </a:lnTo>
                    <a:lnTo>
                      <a:pt x="266" y="3260"/>
                    </a:lnTo>
                    <a:lnTo>
                      <a:pt x="320" y="3352"/>
                    </a:lnTo>
                    <a:lnTo>
                      <a:pt x="377" y="3441"/>
                    </a:lnTo>
                    <a:lnTo>
                      <a:pt x="439" y="3529"/>
                    </a:lnTo>
                    <a:lnTo>
                      <a:pt x="504" y="3612"/>
                    </a:lnTo>
                    <a:lnTo>
                      <a:pt x="574" y="3692"/>
                    </a:lnTo>
                    <a:lnTo>
                      <a:pt x="646" y="3768"/>
                    </a:lnTo>
                    <a:lnTo>
                      <a:pt x="723" y="3842"/>
                    </a:lnTo>
                    <a:lnTo>
                      <a:pt x="803" y="3911"/>
                    </a:lnTo>
                    <a:lnTo>
                      <a:pt x="887" y="3977"/>
                    </a:lnTo>
                    <a:lnTo>
                      <a:pt x="974" y="4038"/>
                    </a:lnTo>
                    <a:lnTo>
                      <a:pt x="1063" y="4096"/>
                    </a:lnTo>
                    <a:lnTo>
                      <a:pt x="1155" y="4148"/>
                    </a:lnTo>
                    <a:lnTo>
                      <a:pt x="1250" y="4197"/>
                    </a:lnTo>
                    <a:lnTo>
                      <a:pt x="1349" y="4241"/>
                    </a:lnTo>
                    <a:lnTo>
                      <a:pt x="1449" y="4281"/>
                    </a:lnTo>
                    <a:lnTo>
                      <a:pt x="1552" y="4316"/>
                    </a:lnTo>
                    <a:lnTo>
                      <a:pt x="1657" y="4345"/>
                    </a:lnTo>
                    <a:lnTo>
                      <a:pt x="1764" y="4370"/>
                    </a:lnTo>
                    <a:lnTo>
                      <a:pt x="1872" y="4389"/>
                    </a:lnTo>
                    <a:lnTo>
                      <a:pt x="1983" y="4403"/>
                    </a:lnTo>
                    <a:lnTo>
                      <a:pt x="2094" y="4412"/>
                    </a:lnTo>
                    <a:lnTo>
                      <a:pt x="2208" y="4415"/>
                    </a:lnTo>
                    <a:lnTo>
                      <a:pt x="2274" y="4414"/>
                    </a:lnTo>
                    <a:lnTo>
                      <a:pt x="2337" y="4411"/>
                    </a:lnTo>
                    <a:lnTo>
                      <a:pt x="2401" y="4407"/>
                    </a:lnTo>
                    <a:lnTo>
                      <a:pt x="2465" y="4400"/>
                    </a:lnTo>
                    <a:lnTo>
                      <a:pt x="2527" y="4391"/>
                    </a:lnTo>
                    <a:lnTo>
                      <a:pt x="2590" y="4382"/>
                    </a:lnTo>
                    <a:lnTo>
                      <a:pt x="2652" y="4370"/>
                    </a:lnTo>
                    <a:lnTo>
                      <a:pt x="2713" y="4357"/>
                    </a:lnTo>
                    <a:lnTo>
                      <a:pt x="2774" y="4342"/>
                    </a:lnTo>
                    <a:lnTo>
                      <a:pt x="2833" y="4326"/>
                    </a:lnTo>
                    <a:lnTo>
                      <a:pt x="2893" y="4307"/>
                    </a:lnTo>
                    <a:lnTo>
                      <a:pt x="2951" y="4287"/>
                    </a:lnTo>
                    <a:lnTo>
                      <a:pt x="3008" y="4265"/>
                    </a:lnTo>
                    <a:lnTo>
                      <a:pt x="3066" y="4242"/>
                    </a:lnTo>
                    <a:lnTo>
                      <a:pt x="3121" y="4218"/>
                    </a:lnTo>
                    <a:lnTo>
                      <a:pt x="3177" y="4192"/>
                    </a:lnTo>
                    <a:lnTo>
                      <a:pt x="3159" y="4154"/>
                    </a:lnTo>
                    <a:lnTo>
                      <a:pt x="3103" y="4180"/>
                    </a:lnTo>
                    <a:lnTo>
                      <a:pt x="3049" y="4204"/>
                    </a:lnTo>
                    <a:lnTo>
                      <a:pt x="2993" y="4226"/>
                    </a:lnTo>
                    <a:lnTo>
                      <a:pt x="2937" y="4248"/>
                    </a:lnTo>
                    <a:lnTo>
                      <a:pt x="2880" y="4267"/>
                    </a:lnTo>
                    <a:lnTo>
                      <a:pt x="2821" y="4286"/>
                    </a:lnTo>
                    <a:lnTo>
                      <a:pt x="2763" y="4302"/>
                    </a:lnTo>
                    <a:lnTo>
                      <a:pt x="2704" y="4316"/>
                    </a:lnTo>
                    <a:lnTo>
                      <a:pt x="2643" y="4330"/>
                    </a:lnTo>
                    <a:lnTo>
                      <a:pt x="2583" y="4341"/>
                    </a:lnTo>
                    <a:lnTo>
                      <a:pt x="2522" y="4350"/>
                    </a:lnTo>
                    <a:lnTo>
                      <a:pt x="2460" y="4359"/>
                    </a:lnTo>
                    <a:lnTo>
                      <a:pt x="2398" y="4366"/>
                    </a:lnTo>
                    <a:lnTo>
                      <a:pt x="2335" y="4370"/>
                    </a:lnTo>
                    <a:lnTo>
                      <a:pt x="2271" y="4372"/>
                    </a:lnTo>
                    <a:lnTo>
                      <a:pt x="2208" y="4373"/>
                    </a:lnTo>
                    <a:lnTo>
                      <a:pt x="2096" y="4370"/>
                    </a:lnTo>
                    <a:lnTo>
                      <a:pt x="1986" y="4362"/>
                    </a:lnTo>
                    <a:lnTo>
                      <a:pt x="1878" y="4348"/>
                    </a:lnTo>
                    <a:lnTo>
                      <a:pt x="1771" y="4329"/>
                    </a:lnTo>
                    <a:lnTo>
                      <a:pt x="1666" y="4305"/>
                    </a:lnTo>
                    <a:lnTo>
                      <a:pt x="1564" y="4276"/>
                    </a:lnTo>
                    <a:lnTo>
                      <a:pt x="1463" y="4241"/>
                    </a:lnTo>
                    <a:lnTo>
                      <a:pt x="1365" y="4202"/>
                    </a:lnTo>
                    <a:lnTo>
                      <a:pt x="1269" y="4159"/>
                    </a:lnTo>
                    <a:lnTo>
                      <a:pt x="1176" y="4112"/>
                    </a:lnTo>
                    <a:lnTo>
                      <a:pt x="1085" y="4060"/>
                    </a:lnTo>
                    <a:lnTo>
                      <a:pt x="996" y="4004"/>
                    </a:lnTo>
                    <a:lnTo>
                      <a:pt x="912" y="3943"/>
                    </a:lnTo>
                    <a:lnTo>
                      <a:pt x="830" y="3878"/>
                    </a:lnTo>
                    <a:lnTo>
                      <a:pt x="751" y="3810"/>
                    </a:lnTo>
                    <a:lnTo>
                      <a:pt x="677" y="3739"/>
                    </a:lnTo>
                    <a:lnTo>
                      <a:pt x="604" y="3664"/>
                    </a:lnTo>
                    <a:lnTo>
                      <a:pt x="536" y="3585"/>
                    </a:lnTo>
                    <a:lnTo>
                      <a:pt x="472" y="3504"/>
                    </a:lnTo>
                    <a:lnTo>
                      <a:pt x="412" y="3418"/>
                    </a:lnTo>
                    <a:lnTo>
                      <a:pt x="356" y="3331"/>
                    </a:lnTo>
                    <a:lnTo>
                      <a:pt x="303" y="3240"/>
                    </a:lnTo>
                    <a:lnTo>
                      <a:pt x="255" y="3146"/>
                    </a:lnTo>
                    <a:lnTo>
                      <a:pt x="212" y="3050"/>
                    </a:lnTo>
                    <a:lnTo>
                      <a:pt x="173" y="2952"/>
                    </a:lnTo>
                    <a:lnTo>
                      <a:pt x="138" y="2851"/>
                    </a:lnTo>
                    <a:lnTo>
                      <a:pt x="109" y="2749"/>
                    </a:lnTo>
                    <a:lnTo>
                      <a:pt x="85" y="2644"/>
                    </a:lnTo>
                    <a:lnTo>
                      <a:pt x="66" y="2537"/>
                    </a:lnTo>
                    <a:lnTo>
                      <a:pt x="53" y="2429"/>
                    </a:lnTo>
                    <a:lnTo>
                      <a:pt x="44" y="2319"/>
                    </a:lnTo>
                    <a:lnTo>
                      <a:pt x="41" y="2208"/>
                    </a:lnTo>
                    <a:lnTo>
                      <a:pt x="44" y="2096"/>
                    </a:lnTo>
                    <a:lnTo>
                      <a:pt x="53" y="1986"/>
                    </a:lnTo>
                    <a:lnTo>
                      <a:pt x="66" y="1877"/>
                    </a:lnTo>
                    <a:lnTo>
                      <a:pt x="85" y="1771"/>
                    </a:lnTo>
                    <a:lnTo>
                      <a:pt x="109" y="1667"/>
                    </a:lnTo>
                    <a:lnTo>
                      <a:pt x="138" y="1563"/>
                    </a:lnTo>
                    <a:lnTo>
                      <a:pt x="173" y="1462"/>
                    </a:lnTo>
                    <a:lnTo>
                      <a:pt x="212" y="1364"/>
                    </a:lnTo>
                    <a:lnTo>
                      <a:pt x="255" y="1268"/>
                    </a:lnTo>
                    <a:lnTo>
                      <a:pt x="303" y="1175"/>
                    </a:lnTo>
                    <a:lnTo>
                      <a:pt x="356" y="1084"/>
                    </a:lnTo>
                    <a:lnTo>
                      <a:pt x="412" y="997"/>
                    </a:lnTo>
                    <a:lnTo>
                      <a:pt x="472" y="912"/>
                    </a:lnTo>
                    <a:lnTo>
                      <a:pt x="536" y="830"/>
                    </a:lnTo>
                    <a:lnTo>
                      <a:pt x="604" y="751"/>
                    </a:lnTo>
                    <a:lnTo>
                      <a:pt x="677" y="676"/>
                    </a:lnTo>
                    <a:lnTo>
                      <a:pt x="751" y="604"/>
                    </a:lnTo>
                    <a:lnTo>
                      <a:pt x="830" y="536"/>
                    </a:lnTo>
                    <a:lnTo>
                      <a:pt x="912" y="472"/>
                    </a:lnTo>
                    <a:lnTo>
                      <a:pt x="996" y="412"/>
                    </a:lnTo>
                    <a:lnTo>
                      <a:pt x="1085" y="355"/>
                    </a:lnTo>
                    <a:lnTo>
                      <a:pt x="1176" y="303"/>
                    </a:lnTo>
                    <a:lnTo>
                      <a:pt x="1269" y="255"/>
                    </a:lnTo>
                    <a:lnTo>
                      <a:pt x="1365" y="212"/>
                    </a:lnTo>
                    <a:lnTo>
                      <a:pt x="1463" y="173"/>
                    </a:lnTo>
                    <a:lnTo>
                      <a:pt x="1564" y="139"/>
                    </a:lnTo>
                    <a:lnTo>
                      <a:pt x="1666" y="110"/>
                    </a:lnTo>
                    <a:lnTo>
                      <a:pt x="1771" y="85"/>
                    </a:lnTo>
                    <a:lnTo>
                      <a:pt x="1878" y="67"/>
                    </a:lnTo>
                    <a:lnTo>
                      <a:pt x="1986" y="53"/>
                    </a:lnTo>
                    <a:lnTo>
                      <a:pt x="2096" y="44"/>
                    </a:lnTo>
                    <a:lnTo>
                      <a:pt x="2208" y="41"/>
                    </a:lnTo>
                    <a:lnTo>
                      <a:pt x="2320" y="44"/>
                    </a:lnTo>
                    <a:lnTo>
                      <a:pt x="2429" y="53"/>
                    </a:lnTo>
                    <a:lnTo>
                      <a:pt x="2538" y="67"/>
                    </a:lnTo>
                    <a:lnTo>
                      <a:pt x="2645" y="85"/>
                    </a:lnTo>
                    <a:lnTo>
                      <a:pt x="2750" y="110"/>
                    </a:lnTo>
                    <a:lnTo>
                      <a:pt x="2853" y="139"/>
                    </a:lnTo>
                    <a:lnTo>
                      <a:pt x="2953" y="173"/>
                    </a:lnTo>
                    <a:lnTo>
                      <a:pt x="3052" y="212"/>
                    </a:lnTo>
                    <a:lnTo>
                      <a:pt x="3148" y="255"/>
                    </a:lnTo>
                    <a:lnTo>
                      <a:pt x="3241" y="303"/>
                    </a:lnTo>
                    <a:lnTo>
                      <a:pt x="3331" y="355"/>
                    </a:lnTo>
                    <a:lnTo>
                      <a:pt x="3420" y="412"/>
                    </a:lnTo>
                    <a:lnTo>
                      <a:pt x="3504" y="472"/>
                    </a:lnTo>
                    <a:lnTo>
                      <a:pt x="3586" y="536"/>
                    </a:lnTo>
                    <a:lnTo>
                      <a:pt x="3665" y="604"/>
                    </a:lnTo>
                    <a:lnTo>
                      <a:pt x="3740" y="676"/>
                    </a:lnTo>
                    <a:lnTo>
                      <a:pt x="3812" y="751"/>
                    </a:lnTo>
                    <a:lnTo>
                      <a:pt x="3880" y="830"/>
                    </a:lnTo>
                    <a:lnTo>
                      <a:pt x="3944" y="912"/>
                    </a:lnTo>
                    <a:lnTo>
                      <a:pt x="4005" y="997"/>
                    </a:lnTo>
                    <a:lnTo>
                      <a:pt x="4061" y="1084"/>
                    </a:lnTo>
                    <a:lnTo>
                      <a:pt x="4114" y="1175"/>
                    </a:lnTo>
                    <a:lnTo>
                      <a:pt x="4161" y="1268"/>
                    </a:lnTo>
                    <a:lnTo>
                      <a:pt x="4204" y="1364"/>
                    </a:lnTo>
                    <a:lnTo>
                      <a:pt x="4243" y="1462"/>
                    </a:lnTo>
                    <a:lnTo>
                      <a:pt x="4278" y="1563"/>
                    </a:lnTo>
                    <a:lnTo>
                      <a:pt x="4307" y="1667"/>
                    </a:lnTo>
                    <a:lnTo>
                      <a:pt x="4331" y="1771"/>
                    </a:lnTo>
                    <a:lnTo>
                      <a:pt x="4350" y="1877"/>
                    </a:lnTo>
                    <a:lnTo>
                      <a:pt x="4363" y="1986"/>
                    </a:lnTo>
                    <a:lnTo>
                      <a:pt x="4372" y="2096"/>
                    </a:lnTo>
                    <a:lnTo>
                      <a:pt x="4375" y="2208"/>
                    </a:lnTo>
                    <a:lnTo>
                      <a:pt x="4374" y="2244"/>
                    </a:lnTo>
                    <a:lnTo>
                      <a:pt x="4374" y="2280"/>
                    </a:lnTo>
                    <a:lnTo>
                      <a:pt x="4372" y="2317"/>
                    </a:lnTo>
                    <a:lnTo>
                      <a:pt x="4370" y="2352"/>
                    </a:lnTo>
                    <a:lnTo>
                      <a:pt x="4368" y="2388"/>
                    </a:lnTo>
                    <a:lnTo>
                      <a:pt x="4364" y="2424"/>
                    </a:lnTo>
                    <a:lnTo>
                      <a:pt x="4360" y="2459"/>
                    </a:lnTo>
                    <a:lnTo>
                      <a:pt x="4356" y="2495"/>
                    </a:lnTo>
                    <a:lnTo>
                      <a:pt x="4351" y="2530"/>
                    </a:lnTo>
                    <a:lnTo>
                      <a:pt x="4345" y="2565"/>
                    </a:lnTo>
                    <a:lnTo>
                      <a:pt x="4340" y="2600"/>
                    </a:lnTo>
                    <a:lnTo>
                      <a:pt x="4333" y="2634"/>
                    </a:lnTo>
                    <a:lnTo>
                      <a:pt x="4325" y="2669"/>
                    </a:lnTo>
                    <a:lnTo>
                      <a:pt x="4318" y="2702"/>
                    </a:lnTo>
                    <a:lnTo>
                      <a:pt x="4309" y="2737"/>
                    </a:lnTo>
                    <a:lnTo>
                      <a:pt x="4301" y="2770"/>
                    </a:lnTo>
                    <a:lnTo>
                      <a:pt x="4341" y="2781"/>
                    </a:lnTo>
                    <a:lnTo>
                      <a:pt x="4350" y="2747"/>
                    </a:lnTo>
                    <a:lnTo>
                      <a:pt x="4358" y="2712"/>
                    </a:lnTo>
                    <a:lnTo>
                      <a:pt x="4367" y="2677"/>
                    </a:lnTo>
                    <a:lnTo>
                      <a:pt x="4373" y="2642"/>
                    </a:lnTo>
                    <a:lnTo>
                      <a:pt x="4381" y="2607"/>
                    </a:lnTo>
                    <a:lnTo>
                      <a:pt x="4386" y="2572"/>
                    </a:lnTo>
                    <a:lnTo>
                      <a:pt x="4392" y="2536"/>
                    </a:lnTo>
                    <a:lnTo>
                      <a:pt x="4397" y="2500"/>
                    </a:lnTo>
                    <a:lnTo>
                      <a:pt x="4402" y="2464"/>
                    </a:lnTo>
                    <a:lnTo>
                      <a:pt x="4405" y="2428"/>
                    </a:lnTo>
                    <a:lnTo>
                      <a:pt x="4409" y="2391"/>
                    </a:lnTo>
                    <a:lnTo>
                      <a:pt x="4412" y="2355"/>
                    </a:lnTo>
                    <a:lnTo>
                      <a:pt x="4414" y="2319"/>
                    </a:lnTo>
                    <a:lnTo>
                      <a:pt x="4415" y="2281"/>
                    </a:lnTo>
                    <a:lnTo>
                      <a:pt x="4416" y="2244"/>
                    </a:lnTo>
                    <a:lnTo>
                      <a:pt x="4416" y="2208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05120" y="2128680"/>
                <a:ext cx="1737000" cy="1737000"/>
              </a:xfrm>
              <a:custGeom>
                <a:avLst/>
                <a:gdLst/>
                <a:ahLst/>
                <a:rect l="l" t="t" r="r" b="b"/>
                <a:pathLst>
                  <a:path w="4375" h="4373">
                    <a:moveTo>
                      <a:pt x="4375" y="2187"/>
                    </a:moveTo>
                    <a:lnTo>
                      <a:pt x="4371" y="2074"/>
                    </a:lnTo>
                    <a:lnTo>
                      <a:pt x="4364" y="1963"/>
                    </a:lnTo>
                    <a:lnTo>
                      <a:pt x="4350" y="1853"/>
                    </a:lnTo>
                    <a:lnTo>
                      <a:pt x="4330" y="1746"/>
                    </a:lnTo>
                    <a:lnTo>
                      <a:pt x="4306" y="1640"/>
                    </a:lnTo>
                    <a:lnTo>
                      <a:pt x="4276" y="1537"/>
                    </a:lnTo>
                    <a:lnTo>
                      <a:pt x="4242" y="1435"/>
                    </a:lnTo>
                    <a:lnTo>
                      <a:pt x="4203" y="1336"/>
                    </a:lnTo>
                    <a:lnTo>
                      <a:pt x="4159" y="1238"/>
                    </a:lnTo>
                    <a:lnTo>
                      <a:pt x="4111" y="1144"/>
                    </a:lnTo>
                    <a:lnTo>
                      <a:pt x="4058" y="1053"/>
                    </a:lnTo>
                    <a:lnTo>
                      <a:pt x="4001" y="964"/>
                    </a:lnTo>
                    <a:lnTo>
                      <a:pt x="3940" y="878"/>
                    </a:lnTo>
                    <a:lnTo>
                      <a:pt x="3876" y="796"/>
                    </a:lnTo>
                    <a:lnTo>
                      <a:pt x="3806" y="716"/>
                    </a:lnTo>
                    <a:lnTo>
                      <a:pt x="3734" y="640"/>
                    </a:lnTo>
                    <a:lnTo>
                      <a:pt x="3658" y="568"/>
                    </a:lnTo>
                    <a:lnTo>
                      <a:pt x="3578" y="499"/>
                    </a:lnTo>
                    <a:lnTo>
                      <a:pt x="3496" y="434"/>
                    </a:lnTo>
                    <a:lnTo>
                      <a:pt x="3410" y="373"/>
                    </a:lnTo>
                    <a:lnTo>
                      <a:pt x="3321" y="316"/>
                    </a:lnTo>
                    <a:lnTo>
                      <a:pt x="3229" y="264"/>
                    </a:lnTo>
                    <a:lnTo>
                      <a:pt x="3135" y="216"/>
                    </a:lnTo>
                    <a:lnTo>
                      <a:pt x="3038" y="171"/>
                    </a:lnTo>
                    <a:lnTo>
                      <a:pt x="2940" y="133"/>
                    </a:lnTo>
                    <a:lnTo>
                      <a:pt x="2837" y="98"/>
                    </a:lnTo>
                    <a:lnTo>
                      <a:pt x="2733" y="69"/>
                    </a:lnTo>
                    <a:lnTo>
                      <a:pt x="2628" y="44"/>
                    </a:lnTo>
                    <a:lnTo>
                      <a:pt x="2521" y="25"/>
                    </a:lnTo>
                    <a:lnTo>
                      <a:pt x="2410" y="12"/>
                    </a:lnTo>
                    <a:lnTo>
                      <a:pt x="2300" y="3"/>
                    </a:lnTo>
                    <a:lnTo>
                      <a:pt x="2187" y="0"/>
                    </a:lnTo>
                    <a:lnTo>
                      <a:pt x="2074" y="3"/>
                    </a:lnTo>
                    <a:lnTo>
                      <a:pt x="1963" y="12"/>
                    </a:lnTo>
                    <a:lnTo>
                      <a:pt x="1854" y="25"/>
                    </a:lnTo>
                    <a:lnTo>
                      <a:pt x="1746" y="44"/>
                    </a:lnTo>
                    <a:lnTo>
                      <a:pt x="1641" y="69"/>
                    </a:lnTo>
                    <a:lnTo>
                      <a:pt x="1536" y="98"/>
                    </a:lnTo>
                    <a:lnTo>
                      <a:pt x="1435" y="133"/>
                    </a:lnTo>
                    <a:lnTo>
                      <a:pt x="1335" y="171"/>
                    </a:lnTo>
                    <a:lnTo>
                      <a:pt x="1239" y="216"/>
                    </a:lnTo>
                    <a:lnTo>
                      <a:pt x="1144" y="264"/>
                    </a:lnTo>
                    <a:lnTo>
                      <a:pt x="1053" y="316"/>
                    </a:lnTo>
                    <a:lnTo>
                      <a:pt x="965" y="373"/>
                    </a:lnTo>
                    <a:lnTo>
                      <a:pt x="878" y="434"/>
                    </a:lnTo>
                    <a:lnTo>
                      <a:pt x="796" y="499"/>
                    </a:lnTo>
                    <a:lnTo>
                      <a:pt x="716" y="568"/>
                    </a:lnTo>
                    <a:lnTo>
                      <a:pt x="640" y="640"/>
                    </a:lnTo>
                    <a:lnTo>
                      <a:pt x="568" y="716"/>
                    </a:lnTo>
                    <a:lnTo>
                      <a:pt x="499" y="796"/>
                    </a:lnTo>
                    <a:lnTo>
                      <a:pt x="434" y="878"/>
                    </a:lnTo>
                    <a:lnTo>
                      <a:pt x="374" y="964"/>
                    </a:lnTo>
                    <a:lnTo>
                      <a:pt x="316" y="1053"/>
                    </a:lnTo>
                    <a:lnTo>
                      <a:pt x="263" y="1144"/>
                    </a:lnTo>
                    <a:lnTo>
                      <a:pt x="216" y="1238"/>
                    </a:lnTo>
                    <a:lnTo>
                      <a:pt x="171" y="1336"/>
                    </a:lnTo>
                    <a:lnTo>
                      <a:pt x="133" y="1435"/>
                    </a:lnTo>
                    <a:lnTo>
                      <a:pt x="98" y="1537"/>
                    </a:lnTo>
                    <a:lnTo>
                      <a:pt x="69" y="1640"/>
                    </a:lnTo>
                    <a:lnTo>
                      <a:pt x="44" y="1746"/>
                    </a:lnTo>
                    <a:lnTo>
                      <a:pt x="24" y="1853"/>
                    </a:lnTo>
                    <a:lnTo>
                      <a:pt x="10" y="1963"/>
                    </a:lnTo>
                    <a:lnTo>
                      <a:pt x="3" y="2074"/>
                    </a:lnTo>
                    <a:lnTo>
                      <a:pt x="0" y="2187"/>
                    </a:lnTo>
                    <a:lnTo>
                      <a:pt x="3" y="2299"/>
                    </a:lnTo>
                    <a:lnTo>
                      <a:pt x="10" y="2410"/>
                    </a:lnTo>
                    <a:lnTo>
                      <a:pt x="24" y="2519"/>
                    </a:lnTo>
                    <a:lnTo>
                      <a:pt x="44" y="2627"/>
                    </a:lnTo>
                    <a:lnTo>
                      <a:pt x="69" y="2733"/>
                    </a:lnTo>
                    <a:lnTo>
                      <a:pt x="98" y="2837"/>
                    </a:lnTo>
                    <a:lnTo>
                      <a:pt x="133" y="2938"/>
                    </a:lnTo>
                    <a:lnTo>
                      <a:pt x="171" y="3038"/>
                    </a:lnTo>
                    <a:lnTo>
                      <a:pt x="216" y="3134"/>
                    </a:lnTo>
                    <a:lnTo>
                      <a:pt x="263" y="3229"/>
                    </a:lnTo>
                    <a:lnTo>
                      <a:pt x="316" y="3321"/>
                    </a:lnTo>
                    <a:lnTo>
                      <a:pt x="374" y="3409"/>
                    </a:lnTo>
                    <a:lnTo>
                      <a:pt x="434" y="3495"/>
                    </a:lnTo>
                    <a:lnTo>
                      <a:pt x="499" y="3578"/>
                    </a:lnTo>
                    <a:lnTo>
                      <a:pt x="568" y="3657"/>
                    </a:lnTo>
                    <a:lnTo>
                      <a:pt x="640" y="3732"/>
                    </a:lnTo>
                    <a:lnTo>
                      <a:pt x="716" y="3805"/>
                    </a:lnTo>
                    <a:lnTo>
                      <a:pt x="796" y="3874"/>
                    </a:lnTo>
                    <a:lnTo>
                      <a:pt x="878" y="3938"/>
                    </a:lnTo>
                    <a:lnTo>
                      <a:pt x="965" y="4000"/>
                    </a:lnTo>
                    <a:lnTo>
                      <a:pt x="1053" y="4056"/>
                    </a:lnTo>
                    <a:lnTo>
                      <a:pt x="1144" y="4109"/>
                    </a:lnTo>
                    <a:lnTo>
                      <a:pt x="1239" y="4158"/>
                    </a:lnTo>
                    <a:lnTo>
                      <a:pt x="1335" y="4201"/>
                    </a:lnTo>
                    <a:lnTo>
                      <a:pt x="1435" y="4241"/>
                    </a:lnTo>
                    <a:lnTo>
                      <a:pt x="1536" y="4274"/>
                    </a:lnTo>
                    <a:lnTo>
                      <a:pt x="1641" y="4305"/>
                    </a:lnTo>
                    <a:lnTo>
                      <a:pt x="1746" y="4328"/>
                    </a:lnTo>
                    <a:lnTo>
                      <a:pt x="1854" y="4348"/>
                    </a:lnTo>
                    <a:lnTo>
                      <a:pt x="1963" y="4362"/>
                    </a:lnTo>
                    <a:lnTo>
                      <a:pt x="2074" y="4370"/>
                    </a:lnTo>
                    <a:lnTo>
                      <a:pt x="2187" y="4373"/>
                    </a:lnTo>
                    <a:lnTo>
                      <a:pt x="2251" y="4373"/>
                    </a:lnTo>
                    <a:lnTo>
                      <a:pt x="2315" y="4369"/>
                    </a:lnTo>
                    <a:lnTo>
                      <a:pt x="2379" y="4365"/>
                    </a:lnTo>
                    <a:lnTo>
                      <a:pt x="2442" y="4359"/>
                    </a:lnTo>
                    <a:lnTo>
                      <a:pt x="2503" y="4350"/>
                    </a:lnTo>
                    <a:lnTo>
                      <a:pt x="2566" y="4340"/>
                    </a:lnTo>
                    <a:lnTo>
                      <a:pt x="2626" y="4328"/>
                    </a:lnTo>
                    <a:lnTo>
                      <a:pt x="2687" y="4315"/>
                    </a:lnTo>
                    <a:lnTo>
                      <a:pt x="2747" y="4300"/>
                    </a:lnTo>
                    <a:lnTo>
                      <a:pt x="2806" y="4284"/>
                    </a:lnTo>
                    <a:lnTo>
                      <a:pt x="2865" y="4266"/>
                    </a:lnTo>
                    <a:lnTo>
                      <a:pt x="2922" y="4246"/>
                    </a:lnTo>
                    <a:lnTo>
                      <a:pt x="2980" y="4225"/>
                    </a:lnTo>
                    <a:lnTo>
                      <a:pt x="3036" y="4202"/>
                    </a:lnTo>
                    <a:lnTo>
                      <a:pt x="3091" y="4178"/>
                    </a:lnTo>
                    <a:lnTo>
                      <a:pt x="3146" y="4152"/>
                    </a:lnTo>
                    <a:lnTo>
                      <a:pt x="3128" y="4114"/>
                    </a:lnTo>
                    <a:lnTo>
                      <a:pt x="3075" y="4140"/>
                    </a:lnTo>
                    <a:lnTo>
                      <a:pt x="3020" y="4164"/>
                    </a:lnTo>
                    <a:lnTo>
                      <a:pt x="2965" y="4186"/>
                    </a:lnTo>
                    <a:lnTo>
                      <a:pt x="2908" y="4207"/>
                    </a:lnTo>
                    <a:lnTo>
                      <a:pt x="2852" y="4227"/>
                    </a:lnTo>
                    <a:lnTo>
                      <a:pt x="2794" y="4244"/>
                    </a:lnTo>
                    <a:lnTo>
                      <a:pt x="2737" y="4260"/>
                    </a:lnTo>
                    <a:lnTo>
                      <a:pt x="2677" y="4275"/>
                    </a:lnTo>
                    <a:lnTo>
                      <a:pt x="2618" y="4288"/>
                    </a:lnTo>
                    <a:lnTo>
                      <a:pt x="2558" y="4299"/>
                    </a:lnTo>
                    <a:lnTo>
                      <a:pt x="2498" y="4309"/>
                    </a:lnTo>
                    <a:lnTo>
                      <a:pt x="2436" y="4318"/>
                    </a:lnTo>
                    <a:lnTo>
                      <a:pt x="2375" y="4323"/>
                    </a:lnTo>
                    <a:lnTo>
                      <a:pt x="2313" y="4327"/>
                    </a:lnTo>
                    <a:lnTo>
                      <a:pt x="2250" y="4330"/>
                    </a:lnTo>
                    <a:lnTo>
                      <a:pt x="2187" y="4332"/>
                    </a:lnTo>
                    <a:lnTo>
                      <a:pt x="2076" y="4328"/>
                    </a:lnTo>
                    <a:lnTo>
                      <a:pt x="1967" y="4321"/>
                    </a:lnTo>
                    <a:lnTo>
                      <a:pt x="1860" y="4307"/>
                    </a:lnTo>
                    <a:lnTo>
                      <a:pt x="1754" y="4287"/>
                    </a:lnTo>
                    <a:lnTo>
                      <a:pt x="1651" y="4264"/>
                    </a:lnTo>
                    <a:lnTo>
                      <a:pt x="1549" y="4235"/>
                    </a:lnTo>
                    <a:lnTo>
                      <a:pt x="1450" y="4201"/>
                    </a:lnTo>
                    <a:lnTo>
                      <a:pt x="1351" y="4163"/>
                    </a:lnTo>
                    <a:lnTo>
                      <a:pt x="1257" y="4120"/>
                    </a:lnTo>
                    <a:lnTo>
                      <a:pt x="1164" y="4072"/>
                    </a:lnTo>
                    <a:lnTo>
                      <a:pt x="1075" y="4021"/>
                    </a:lnTo>
                    <a:lnTo>
                      <a:pt x="987" y="3965"/>
                    </a:lnTo>
                    <a:lnTo>
                      <a:pt x="903" y="3905"/>
                    </a:lnTo>
                    <a:lnTo>
                      <a:pt x="822" y="3841"/>
                    </a:lnTo>
                    <a:lnTo>
                      <a:pt x="744" y="3774"/>
                    </a:lnTo>
                    <a:lnTo>
                      <a:pt x="670" y="3703"/>
                    </a:lnTo>
                    <a:lnTo>
                      <a:pt x="598" y="3628"/>
                    </a:lnTo>
                    <a:lnTo>
                      <a:pt x="531" y="3551"/>
                    </a:lnTo>
                    <a:lnTo>
                      <a:pt x="468" y="3470"/>
                    </a:lnTo>
                    <a:lnTo>
                      <a:pt x="408" y="3385"/>
                    </a:lnTo>
                    <a:lnTo>
                      <a:pt x="352" y="3299"/>
                    </a:lnTo>
                    <a:lnTo>
                      <a:pt x="300" y="3208"/>
                    </a:lnTo>
                    <a:lnTo>
                      <a:pt x="252" y="3117"/>
                    </a:lnTo>
                    <a:lnTo>
                      <a:pt x="210" y="3022"/>
                    </a:lnTo>
                    <a:lnTo>
                      <a:pt x="171" y="2924"/>
                    </a:lnTo>
                    <a:lnTo>
                      <a:pt x="138" y="2824"/>
                    </a:lnTo>
                    <a:lnTo>
                      <a:pt x="109" y="2722"/>
                    </a:lnTo>
                    <a:lnTo>
                      <a:pt x="85" y="2619"/>
                    </a:lnTo>
                    <a:lnTo>
                      <a:pt x="66" y="2513"/>
                    </a:lnTo>
                    <a:lnTo>
                      <a:pt x="53" y="2406"/>
                    </a:lnTo>
                    <a:lnTo>
                      <a:pt x="44" y="2297"/>
                    </a:lnTo>
                    <a:lnTo>
                      <a:pt x="42" y="2187"/>
                    </a:lnTo>
                    <a:lnTo>
                      <a:pt x="44" y="2077"/>
                    </a:lnTo>
                    <a:lnTo>
                      <a:pt x="53" y="1967"/>
                    </a:lnTo>
                    <a:lnTo>
                      <a:pt x="66" y="1859"/>
                    </a:lnTo>
                    <a:lnTo>
                      <a:pt x="85" y="1755"/>
                    </a:lnTo>
                    <a:lnTo>
                      <a:pt x="109" y="1650"/>
                    </a:lnTo>
                    <a:lnTo>
                      <a:pt x="138" y="1548"/>
                    </a:lnTo>
                    <a:lnTo>
                      <a:pt x="171" y="1449"/>
                    </a:lnTo>
                    <a:lnTo>
                      <a:pt x="210" y="1352"/>
                    </a:lnTo>
                    <a:lnTo>
                      <a:pt x="252" y="1257"/>
                    </a:lnTo>
                    <a:lnTo>
                      <a:pt x="300" y="1164"/>
                    </a:lnTo>
                    <a:lnTo>
                      <a:pt x="352" y="1074"/>
                    </a:lnTo>
                    <a:lnTo>
                      <a:pt x="408" y="987"/>
                    </a:lnTo>
                    <a:lnTo>
                      <a:pt x="468" y="904"/>
                    </a:lnTo>
                    <a:lnTo>
                      <a:pt x="531" y="822"/>
                    </a:lnTo>
                    <a:lnTo>
                      <a:pt x="598" y="744"/>
                    </a:lnTo>
                    <a:lnTo>
                      <a:pt x="670" y="669"/>
                    </a:lnTo>
                    <a:lnTo>
                      <a:pt x="744" y="599"/>
                    </a:lnTo>
                    <a:lnTo>
                      <a:pt x="822" y="531"/>
                    </a:lnTo>
                    <a:lnTo>
                      <a:pt x="903" y="467"/>
                    </a:lnTo>
                    <a:lnTo>
                      <a:pt x="987" y="408"/>
                    </a:lnTo>
                    <a:lnTo>
                      <a:pt x="1075" y="352"/>
                    </a:lnTo>
                    <a:lnTo>
                      <a:pt x="1164" y="300"/>
                    </a:lnTo>
                    <a:lnTo>
                      <a:pt x="1257" y="253"/>
                    </a:lnTo>
                    <a:lnTo>
                      <a:pt x="1351" y="210"/>
                    </a:lnTo>
                    <a:lnTo>
                      <a:pt x="1450" y="171"/>
                    </a:lnTo>
                    <a:lnTo>
                      <a:pt x="1549" y="138"/>
                    </a:lnTo>
                    <a:lnTo>
                      <a:pt x="1651" y="109"/>
                    </a:lnTo>
                    <a:lnTo>
                      <a:pt x="1754" y="85"/>
                    </a:lnTo>
                    <a:lnTo>
                      <a:pt x="1860" y="67"/>
                    </a:lnTo>
                    <a:lnTo>
                      <a:pt x="1967" y="53"/>
                    </a:lnTo>
                    <a:lnTo>
                      <a:pt x="2076" y="44"/>
                    </a:lnTo>
                    <a:lnTo>
                      <a:pt x="2187" y="42"/>
                    </a:lnTo>
                    <a:lnTo>
                      <a:pt x="2298" y="44"/>
                    </a:lnTo>
                    <a:lnTo>
                      <a:pt x="2407" y="53"/>
                    </a:lnTo>
                    <a:lnTo>
                      <a:pt x="2514" y="67"/>
                    </a:lnTo>
                    <a:lnTo>
                      <a:pt x="2620" y="85"/>
                    </a:lnTo>
                    <a:lnTo>
                      <a:pt x="2724" y="109"/>
                    </a:lnTo>
                    <a:lnTo>
                      <a:pt x="2825" y="138"/>
                    </a:lnTo>
                    <a:lnTo>
                      <a:pt x="2925" y="171"/>
                    </a:lnTo>
                    <a:lnTo>
                      <a:pt x="3022" y="210"/>
                    </a:lnTo>
                    <a:lnTo>
                      <a:pt x="3117" y="253"/>
                    </a:lnTo>
                    <a:lnTo>
                      <a:pt x="3210" y="300"/>
                    </a:lnTo>
                    <a:lnTo>
                      <a:pt x="3300" y="352"/>
                    </a:lnTo>
                    <a:lnTo>
                      <a:pt x="3387" y="408"/>
                    </a:lnTo>
                    <a:lnTo>
                      <a:pt x="3471" y="467"/>
                    </a:lnTo>
                    <a:lnTo>
                      <a:pt x="3552" y="531"/>
                    </a:lnTo>
                    <a:lnTo>
                      <a:pt x="3630" y="599"/>
                    </a:lnTo>
                    <a:lnTo>
                      <a:pt x="3705" y="669"/>
                    </a:lnTo>
                    <a:lnTo>
                      <a:pt x="3775" y="744"/>
                    </a:lnTo>
                    <a:lnTo>
                      <a:pt x="3843" y="822"/>
                    </a:lnTo>
                    <a:lnTo>
                      <a:pt x="3907" y="904"/>
                    </a:lnTo>
                    <a:lnTo>
                      <a:pt x="3966" y="987"/>
                    </a:lnTo>
                    <a:lnTo>
                      <a:pt x="4022" y="1074"/>
                    </a:lnTo>
                    <a:lnTo>
                      <a:pt x="4074" y="1164"/>
                    </a:lnTo>
                    <a:lnTo>
                      <a:pt x="4122" y="1257"/>
                    </a:lnTo>
                    <a:lnTo>
                      <a:pt x="4164" y="1352"/>
                    </a:lnTo>
                    <a:lnTo>
                      <a:pt x="4203" y="1449"/>
                    </a:lnTo>
                    <a:lnTo>
                      <a:pt x="4236" y="1548"/>
                    </a:lnTo>
                    <a:lnTo>
                      <a:pt x="4266" y="1650"/>
                    </a:lnTo>
                    <a:lnTo>
                      <a:pt x="4289" y="1755"/>
                    </a:lnTo>
                    <a:lnTo>
                      <a:pt x="4309" y="1859"/>
                    </a:lnTo>
                    <a:lnTo>
                      <a:pt x="4322" y="1967"/>
                    </a:lnTo>
                    <a:lnTo>
                      <a:pt x="4330" y="2077"/>
                    </a:lnTo>
                    <a:lnTo>
                      <a:pt x="4333" y="2187"/>
                    </a:lnTo>
                    <a:lnTo>
                      <a:pt x="4333" y="2222"/>
                    </a:lnTo>
                    <a:lnTo>
                      <a:pt x="4332" y="2258"/>
                    </a:lnTo>
                    <a:lnTo>
                      <a:pt x="4330" y="2295"/>
                    </a:lnTo>
                    <a:lnTo>
                      <a:pt x="4328" y="2330"/>
                    </a:lnTo>
                    <a:lnTo>
                      <a:pt x="4326" y="2365"/>
                    </a:lnTo>
                    <a:lnTo>
                      <a:pt x="4323" y="2401"/>
                    </a:lnTo>
                    <a:lnTo>
                      <a:pt x="4319" y="2436"/>
                    </a:lnTo>
                    <a:lnTo>
                      <a:pt x="4314" y="2471"/>
                    </a:lnTo>
                    <a:lnTo>
                      <a:pt x="4310" y="2505"/>
                    </a:lnTo>
                    <a:lnTo>
                      <a:pt x="4303" y="2540"/>
                    </a:lnTo>
                    <a:lnTo>
                      <a:pt x="4298" y="2574"/>
                    </a:lnTo>
                    <a:lnTo>
                      <a:pt x="4292" y="2609"/>
                    </a:lnTo>
                    <a:lnTo>
                      <a:pt x="4284" y="2644"/>
                    </a:lnTo>
                    <a:lnTo>
                      <a:pt x="4276" y="2677"/>
                    </a:lnTo>
                    <a:lnTo>
                      <a:pt x="4269" y="2710"/>
                    </a:lnTo>
                    <a:lnTo>
                      <a:pt x="4260" y="2744"/>
                    </a:lnTo>
                    <a:lnTo>
                      <a:pt x="4300" y="2755"/>
                    </a:lnTo>
                    <a:lnTo>
                      <a:pt x="4309" y="2721"/>
                    </a:lnTo>
                    <a:lnTo>
                      <a:pt x="4317" y="2687"/>
                    </a:lnTo>
                    <a:lnTo>
                      <a:pt x="4325" y="2652"/>
                    </a:lnTo>
                    <a:lnTo>
                      <a:pt x="4333" y="2618"/>
                    </a:lnTo>
                    <a:lnTo>
                      <a:pt x="4339" y="2582"/>
                    </a:lnTo>
                    <a:lnTo>
                      <a:pt x="4344" y="2547"/>
                    </a:lnTo>
                    <a:lnTo>
                      <a:pt x="4351" y="2512"/>
                    </a:lnTo>
                    <a:lnTo>
                      <a:pt x="4355" y="2476"/>
                    </a:lnTo>
                    <a:lnTo>
                      <a:pt x="4360" y="2440"/>
                    </a:lnTo>
                    <a:lnTo>
                      <a:pt x="4364" y="2405"/>
                    </a:lnTo>
                    <a:lnTo>
                      <a:pt x="4367" y="2369"/>
                    </a:lnTo>
                    <a:lnTo>
                      <a:pt x="4370" y="2332"/>
                    </a:lnTo>
                    <a:lnTo>
                      <a:pt x="4371" y="2297"/>
                    </a:lnTo>
                    <a:lnTo>
                      <a:pt x="4374" y="2260"/>
                    </a:lnTo>
                    <a:lnTo>
                      <a:pt x="4375" y="2223"/>
                    </a:lnTo>
                    <a:lnTo>
                      <a:pt x="4375" y="218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714840" y="2138400"/>
                <a:ext cx="1719000" cy="1719000"/>
              </a:xfrm>
              <a:custGeom>
                <a:avLst/>
                <a:gdLst/>
                <a:ahLst/>
                <a:rect l="l" t="t" r="r" b="b"/>
                <a:pathLst>
                  <a:path w="4334" h="4332">
                    <a:moveTo>
                      <a:pt x="4334" y="2167"/>
                    </a:moveTo>
                    <a:lnTo>
                      <a:pt x="4331" y="2055"/>
                    </a:lnTo>
                    <a:lnTo>
                      <a:pt x="4322" y="1945"/>
                    </a:lnTo>
                    <a:lnTo>
                      <a:pt x="4309" y="1836"/>
                    </a:lnTo>
                    <a:lnTo>
                      <a:pt x="4290" y="1730"/>
                    </a:lnTo>
                    <a:lnTo>
                      <a:pt x="4266" y="1626"/>
                    </a:lnTo>
                    <a:lnTo>
                      <a:pt x="4237" y="1522"/>
                    </a:lnTo>
                    <a:lnTo>
                      <a:pt x="4202" y="1421"/>
                    </a:lnTo>
                    <a:lnTo>
                      <a:pt x="4163" y="1323"/>
                    </a:lnTo>
                    <a:lnTo>
                      <a:pt x="4120" y="1227"/>
                    </a:lnTo>
                    <a:lnTo>
                      <a:pt x="4073" y="1134"/>
                    </a:lnTo>
                    <a:lnTo>
                      <a:pt x="4020" y="1043"/>
                    </a:lnTo>
                    <a:lnTo>
                      <a:pt x="3964" y="956"/>
                    </a:lnTo>
                    <a:lnTo>
                      <a:pt x="3903" y="871"/>
                    </a:lnTo>
                    <a:lnTo>
                      <a:pt x="3839" y="789"/>
                    </a:lnTo>
                    <a:lnTo>
                      <a:pt x="3771" y="710"/>
                    </a:lnTo>
                    <a:lnTo>
                      <a:pt x="3699" y="635"/>
                    </a:lnTo>
                    <a:lnTo>
                      <a:pt x="3624" y="563"/>
                    </a:lnTo>
                    <a:lnTo>
                      <a:pt x="3545" y="495"/>
                    </a:lnTo>
                    <a:lnTo>
                      <a:pt x="3463" y="431"/>
                    </a:lnTo>
                    <a:lnTo>
                      <a:pt x="3379" y="371"/>
                    </a:lnTo>
                    <a:lnTo>
                      <a:pt x="3290" y="314"/>
                    </a:lnTo>
                    <a:lnTo>
                      <a:pt x="3200" y="262"/>
                    </a:lnTo>
                    <a:lnTo>
                      <a:pt x="3107" y="214"/>
                    </a:lnTo>
                    <a:lnTo>
                      <a:pt x="3011" y="171"/>
                    </a:lnTo>
                    <a:lnTo>
                      <a:pt x="2912" y="132"/>
                    </a:lnTo>
                    <a:lnTo>
                      <a:pt x="2812" y="98"/>
                    </a:lnTo>
                    <a:lnTo>
                      <a:pt x="2709" y="69"/>
                    </a:lnTo>
                    <a:lnTo>
                      <a:pt x="2604" y="44"/>
                    </a:lnTo>
                    <a:lnTo>
                      <a:pt x="2497" y="26"/>
                    </a:lnTo>
                    <a:lnTo>
                      <a:pt x="2388" y="12"/>
                    </a:lnTo>
                    <a:lnTo>
                      <a:pt x="2279" y="3"/>
                    </a:lnTo>
                    <a:lnTo>
                      <a:pt x="2167" y="0"/>
                    </a:lnTo>
                    <a:lnTo>
                      <a:pt x="2055" y="3"/>
                    </a:lnTo>
                    <a:lnTo>
                      <a:pt x="1945" y="12"/>
                    </a:lnTo>
                    <a:lnTo>
                      <a:pt x="1837" y="26"/>
                    </a:lnTo>
                    <a:lnTo>
                      <a:pt x="1730" y="44"/>
                    </a:lnTo>
                    <a:lnTo>
                      <a:pt x="1625" y="69"/>
                    </a:lnTo>
                    <a:lnTo>
                      <a:pt x="1523" y="98"/>
                    </a:lnTo>
                    <a:lnTo>
                      <a:pt x="1422" y="132"/>
                    </a:lnTo>
                    <a:lnTo>
                      <a:pt x="1324" y="171"/>
                    </a:lnTo>
                    <a:lnTo>
                      <a:pt x="1228" y="214"/>
                    </a:lnTo>
                    <a:lnTo>
                      <a:pt x="1135" y="262"/>
                    </a:lnTo>
                    <a:lnTo>
                      <a:pt x="1044" y="314"/>
                    </a:lnTo>
                    <a:lnTo>
                      <a:pt x="955" y="371"/>
                    </a:lnTo>
                    <a:lnTo>
                      <a:pt x="871" y="431"/>
                    </a:lnTo>
                    <a:lnTo>
                      <a:pt x="789" y="495"/>
                    </a:lnTo>
                    <a:lnTo>
                      <a:pt x="710" y="563"/>
                    </a:lnTo>
                    <a:lnTo>
                      <a:pt x="636" y="635"/>
                    </a:lnTo>
                    <a:lnTo>
                      <a:pt x="563" y="710"/>
                    </a:lnTo>
                    <a:lnTo>
                      <a:pt x="495" y="789"/>
                    </a:lnTo>
                    <a:lnTo>
                      <a:pt x="431" y="871"/>
                    </a:lnTo>
                    <a:lnTo>
                      <a:pt x="371" y="956"/>
                    </a:lnTo>
                    <a:lnTo>
                      <a:pt x="315" y="1043"/>
                    </a:lnTo>
                    <a:lnTo>
                      <a:pt x="262" y="1134"/>
                    </a:lnTo>
                    <a:lnTo>
                      <a:pt x="214" y="1227"/>
                    </a:lnTo>
                    <a:lnTo>
                      <a:pt x="171" y="1323"/>
                    </a:lnTo>
                    <a:lnTo>
                      <a:pt x="132" y="1421"/>
                    </a:lnTo>
                    <a:lnTo>
                      <a:pt x="97" y="1522"/>
                    </a:lnTo>
                    <a:lnTo>
                      <a:pt x="68" y="1626"/>
                    </a:lnTo>
                    <a:lnTo>
                      <a:pt x="44" y="1730"/>
                    </a:lnTo>
                    <a:lnTo>
                      <a:pt x="25" y="1836"/>
                    </a:lnTo>
                    <a:lnTo>
                      <a:pt x="12" y="1945"/>
                    </a:lnTo>
                    <a:lnTo>
                      <a:pt x="3" y="2055"/>
                    </a:lnTo>
                    <a:lnTo>
                      <a:pt x="0" y="2167"/>
                    </a:lnTo>
                    <a:lnTo>
                      <a:pt x="3" y="2278"/>
                    </a:lnTo>
                    <a:lnTo>
                      <a:pt x="12" y="2388"/>
                    </a:lnTo>
                    <a:lnTo>
                      <a:pt x="25" y="2496"/>
                    </a:lnTo>
                    <a:lnTo>
                      <a:pt x="44" y="2603"/>
                    </a:lnTo>
                    <a:lnTo>
                      <a:pt x="68" y="2708"/>
                    </a:lnTo>
                    <a:lnTo>
                      <a:pt x="97" y="2810"/>
                    </a:lnTo>
                    <a:lnTo>
                      <a:pt x="132" y="2911"/>
                    </a:lnTo>
                    <a:lnTo>
                      <a:pt x="171" y="3009"/>
                    </a:lnTo>
                    <a:lnTo>
                      <a:pt x="214" y="3105"/>
                    </a:lnTo>
                    <a:lnTo>
                      <a:pt x="262" y="3199"/>
                    </a:lnTo>
                    <a:lnTo>
                      <a:pt x="315" y="3290"/>
                    </a:lnTo>
                    <a:lnTo>
                      <a:pt x="371" y="3377"/>
                    </a:lnTo>
                    <a:lnTo>
                      <a:pt x="431" y="3463"/>
                    </a:lnTo>
                    <a:lnTo>
                      <a:pt x="495" y="3544"/>
                    </a:lnTo>
                    <a:lnTo>
                      <a:pt x="563" y="3623"/>
                    </a:lnTo>
                    <a:lnTo>
                      <a:pt x="636" y="3698"/>
                    </a:lnTo>
                    <a:lnTo>
                      <a:pt x="710" y="3769"/>
                    </a:lnTo>
                    <a:lnTo>
                      <a:pt x="789" y="3837"/>
                    </a:lnTo>
                    <a:lnTo>
                      <a:pt x="871" y="3902"/>
                    </a:lnTo>
                    <a:lnTo>
                      <a:pt x="955" y="3963"/>
                    </a:lnTo>
                    <a:lnTo>
                      <a:pt x="1044" y="4019"/>
                    </a:lnTo>
                    <a:lnTo>
                      <a:pt x="1135" y="4071"/>
                    </a:lnTo>
                    <a:lnTo>
                      <a:pt x="1228" y="4118"/>
                    </a:lnTo>
                    <a:lnTo>
                      <a:pt x="1324" y="4161"/>
                    </a:lnTo>
                    <a:lnTo>
                      <a:pt x="1422" y="4200"/>
                    </a:lnTo>
                    <a:lnTo>
                      <a:pt x="1523" y="4235"/>
                    </a:lnTo>
                    <a:lnTo>
                      <a:pt x="1625" y="4264"/>
                    </a:lnTo>
                    <a:lnTo>
                      <a:pt x="1730" y="4288"/>
                    </a:lnTo>
                    <a:lnTo>
                      <a:pt x="1837" y="4307"/>
                    </a:lnTo>
                    <a:lnTo>
                      <a:pt x="1945" y="4321"/>
                    </a:lnTo>
                    <a:lnTo>
                      <a:pt x="2055" y="4329"/>
                    </a:lnTo>
                    <a:lnTo>
                      <a:pt x="2167" y="4332"/>
                    </a:lnTo>
                    <a:lnTo>
                      <a:pt x="2230" y="4331"/>
                    </a:lnTo>
                    <a:lnTo>
                      <a:pt x="2294" y="4329"/>
                    </a:lnTo>
                    <a:lnTo>
                      <a:pt x="2357" y="4325"/>
                    </a:lnTo>
                    <a:lnTo>
                      <a:pt x="2419" y="4318"/>
                    </a:lnTo>
                    <a:lnTo>
                      <a:pt x="2481" y="4309"/>
                    </a:lnTo>
                    <a:lnTo>
                      <a:pt x="2542" y="4300"/>
                    </a:lnTo>
                    <a:lnTo>
                      <a:pt x="2602" y="4289"/>
                    </a:lnTo>
                    <a:lnTo>
                      <a:pt x="2663" y="4275"/>
                    </a:lnTo>
                    <a:lnTo>
                      <a:pt x="2722" y="4261"/>
                    </a:lnTo>
                    <a:lnTo>
                      <a:pt x="2780" y="4245"/>
                    </a:lnTo>
                    <a:lnTo>
                      <a:pt x="2839" y="4226"/>
                    </a:lnTo>
                    <a:lnTo>
                      <a:pt x="2896" y="4207"/>
                    </a:lnTo>
                    <a:lnTo>
                      <a:pt x="2952" y="4185"/>
                    </a:lnTo>
                    <a:lnTo>
                      <a:pt x="3008" y="4163"/>
                    </a:lnTo>
                    <a:lnTo>
                      <a:pt x="3062" y="4139"/>
                    </a:lnTo>
                    <a:lnTo>
                      <a:pt x="3118" y="4113"/>
                    </a:lnTo>
                    <a:lnTo>
                      <a:pt x="3099" y="4076"/>
                    </a:lnTo>
                    <a:lnTo>
                      <a:pt x="3046" y="4101"/>
                    </a:lnTo>
                    <a:lnTo>
                      <a:pt x="2992" y="4125"/>
                    </a:lnTo>
                    <a:lnTo>
                      <a:pt x="2937" y="4146"/>
                    </a:lnTo>
                    <a:lnTo>
                      <a:pt x="2882" y="4167"/>
                    </a:lnTo>
                    <a:lnTo>
                      <a:pt x="2826" y="4186"/>
                    </a:lnTo>
                    <a:lnTo>
                      <a:pt x="2769" y="4205"/>
                    </a:lnTo>
                    <a:lnTo>
                      <a:pt x="2711" y="4220"/>
                    </a:lnTo>
                    <a:lnTo>
                      <a:pt x="2653" y="4235"/>
                    </a:lnTo>
                    <a:lnTo>
                      <a:pt x="2595" y="4248"/>
                    </a:lnTo>
                    <a:lnTo>
                      <a:pt x="2535" y="4259"/>
                    </a:lnTo>
                    <a:lnTo>
                      <a:pt x="2475" y="4268"/>
                    </a:lnTo>
                    <a:lnTo>
                      <a:pt x="2414" y="4276"/>
                    </a:lnTo>
                    <a:lnTo>
                      <a:pt x="2354" y="4282"/>
                    </a:lnTo>
                    <a:lnTo>
                      <a:pt x="2292" y="4287"/>
                    </a:lnTo>
                    <a:lnTo>
                      <a:pt x="2229" y="4290"/>
                    </a:lnTo>
                    <a:lnTo>
                      <a:pt x="2167" y="4291"/>
                    </a:lnTo>
                    <a:lnTo>
                      <a:pt x="2058" y="4288"/>
                    </a:lnTo>
                    <a:lnTo>
                      <a:pt x="1949" y="4279"/>
                    </a:lnTo>
                    <a:lnTo>
                      <a:pt x="1844" y="4266"/>
                    </a:lnTo>
                    <a:lnTo>
                      <a:pt x="1739" y="4248"/>
                    </a:lnTo>
                    <a:lnTo>
                      <a:pt x="1636" y="4224"/>
                    </a:lnTo>
                    <a:lnTo>
                      <a:pt x="1536" y="4195"/>
                    </a:lnTo>
                    <a:lnTo>
                      <a:pt x="1436" y="4161"/>
                    </a:lnTo>
                    <a:lnTo>
                      <a:pt x="1340" y="4124"/>
                    </a:lnTo>
                    <a:lnTo>
                      <a:pt x="1246" y="4082"/>
                    </a:lnTo>
                    <a:lnTo>
                      <a:pt x="1154" y="4034"/>
                    </a:lnTo>
                    <a:lnTo>
                      <a:pt x="1066" y="3983"/>
                    </a:lnTo>
                    <a:lnTo>
                      <a:pt x="979" y="3928"/>
                    </a:lnTo>
                    <a:lnTo>
                      <a:pt x="896" y="3869"/>
                    </a:lnTo>
                    <a:lnTo>
                      <a:pt x="816" y="3805"/>
                    </a:lnTo>
                    <a:lnTo>
                      <a:pt x="738" y="3739"/>
                    </a:lnTo>
                    <a:lnTo>
                      <a:pt x="665" y="3668"/>
                    </a:lnTo>
                    <a:lnTo>
                      <a:pt x="594" y="3594"/>
                    </a:lnTo>
                    <a:lnTo>
                      <a:pt x="527" y="3518"/>
                    </a:lnTo>
                    <a:lnTo>
                      <a:pt x="465" y="3437"/>
                    </a:lnTo>
                    <a:lnTo>
                      <a:pt x="405" y="3354"/>
                    </a:lnTo>
                    <a:lnTo>
                      <a:pt x="350" y="3268"/>
                    </a:lnTo>
                    <a:lnTo>
                      <a:pt x="298" y="3179"/>
                    </a:lnTo>
                    <a:lnTo>
                      <a:pt x="252" y="3087"/>
                    </a:lnTo>
                    <a:lnTo>
                      <a:pt x="209" y="2993"/>
                    </a:lnTo>
                    <a:lnTo>
                      <a:pt x="171" y="2897"/>
                    </a:lnTo>
                    <a:lnTo>
                      <a:pt x="137" y="2798"/>
                    </a:lnTo>
                    <a:lnTo>
                      <a:pt x="109" y="2697"/>
                    </a:lnTo>
                    <a:lnTo>
                      <a:pt x="86" y="2594"/>
                    </a:lnTo>
                    <a:lnTo>
                      <a:pt x="66" y="2490"/>
                    </a:lnTo>
                    <a:lnTo>
                      <a:pt x="53" y="2384"/>
                    </a:lnTo>
                    <a:lnTo>
                      <a:pt x="44" y="2276"/>
                    </a:lnTo>
                    <a:lnTo>
                      <a:pt x="42" y="2167"/>
                    </a:lnTo>
                    <a:lnTo>
                      <a:pt x="44" y="2058"/>
                    </a:lnTo>
                    <a:lnTo>
                      <a:pt x="53" y="1950"/>
                    </a:lnTo>
                    <a:lnTo>
                      <a:pt x="66" y="1843"/>
                    </a:lnTo>
                    <a:lnTo>
                      <a:pt x="86" y="1738"/>
                    </a:lnTo>
                    <a:lnTo>
                      <a:pt x="109" y="1635"/>
                    </a:lnTo>
                    <a:lnTo>
                      <a:pt x="137" y="1535"/>
                    </a:lnTo>
                    <a:lnTo>
                      <a:pt x="171" y="1437"/>
                    </a:lnTo>
                    <a:lnTo>
                      <a:pt x="209" y="1339"/>
                    </a:lnTo>
                    <a:lnTo>
                      <a:pt x="252" y="1245"/>
                    </a:lnTo>
                    <a:lnTo>
                      <a:pt x="298" y="1154"/>
                    </a:lnTo>
                    <a:lnTo>
                      <a:pt x="350" y="1065"/>
                    </a:lnTo>
                    <a:lnTo>
                      <a:pt x="405" y="979"/>
                    </a:lnTo>
                    <a:lnTo>
                      <a:pt x="465" y="896"/>
                    </a:lnTo>
                    <a:lnTo>
                      <a:pt x="527" y="816"/>
                    </a:lnTo>
                    <a:lnTo>
                      <a:pt x="594" y="738"/>
                    </a:lnTo>
                    <a:lnTo>
                      <a:pt x="665" y="664"/>
                    </a:lnTo>
                    <a:lnTo>
                      <a:pt x="738" y="594"/>
                    </a:lnTo>
                    <a:lnTo>
                      <a:pt x="816" y="527"/>
                    </a:lnTo>
                    <a:lnTo>
                      <a:pt x="896" y="465"/>
                    </a:lnTo>
                    <a:lnTo>
                      <a:pt x="979" y="405"/>
                    </a:lnTo>
                    <a:lnTo>
                      <a:pt x="1066" y="350"/>
                    </a:lnTo>
                    <a:lnTo>
                      <a:pt x="1154" y="298"/>
                    </a:lnTo>
                    <a:lnTo>
                      <a:pt x="1246" y="252"/>
                    </a:lnTo>
                    <a:lnTo>
                      <a:pt x="1340" y="210"/>
                    </a:lnTo>
                    <a:lnTo>
                      <a:pt x="1436" y="171"/>
                    </a:lnTo>
                    <a:lnTo>
                      <a:pt x="1536" y="137"/>
                    </a:lnTo>
                    <a:lnTo>
                      <a:pt x="1636" y="109"/>
                    </a:lnTo>
                    <a:lnTo>
                      <a:pt x="1739" y="86"/>
                    </a:lnTo>
                    <a:lnTo>
                      <a:pt x="1844" y="67"/>
                    </a:lnTo>
                    <a:lnTo>
                      <a:pt x="1949" y="53"/>
                    </a:lnTo>
                    <a:lnTo>
                      <a:pt x="2058" y="46"/>
                    </a:lnTo>
                    <a:lnTo>
                      <a:pt x="2167" y="42"/>
                    </a:lnTo>
                    <a:lnTo>
                      <a:pt x="2277" y="46"/>
                    </a:lnTo>
                    <a:lnTo>
                      <a:pt x="2385" y="53"/>
                    </a:lnTo>
                    <a:lnTo>
                      <a:pt x="2491" y="67"/>
                    </a:lnTo>
                    <a:lnTo>
                      <a:pt x="2596" y="86"/>
                    </a:lnTo>
                    <a:lnTo>
                      <a:pt x="2698" y="109"/>
                    </a:lnTo>
                    <a:lnTo>
                      <a:pt x="2799" y="137"/>
                    </a:lnTo>
                    <a:lnTo>
                      <a:pt x="2898" y="171"/>
                    </a:lnTo>
                    <a:lnTo>
                      <a:pt x="2994" y="210"/>
                    </a:lnTo>
                    <a:lnTo>
                      <a:pt x="3088" y="252"/>
                    </a:lnTo>
                    <a:lnTo>
                      <a:pt x="3180" y="298"/>
                    </a:lnTo>
                    <a:lnTo>
                      <a:pt x="3269" y="350"/>
                    </a:lnTo>
                    <a:lnTo>
                      <a:pt x="3355" y="405"/>
                    </a:lnTo>
                    <a:lnTo>
                      <a:pt x="3438" y="465"/>
                    </a:lnTo>
                    <a:lnTo>
                      <a:pt x="3518" y="527"/>
                    </a:lnTo>
                    <a:lnTo>
                      <a:pt x="3596" y="594"/>
                    </a:lnTo>
                    <a:lnTo>
                      <a:pt x="3670" y="664"/>
                    </a:lnTo>
                    <a:lnTo>
                      <a:pt x="3740" y="738"/>
                    </a:lnTo>
                    <a:lnTo>
                      <a:pt x="3807" y="816"/>
                    </a:lnTo>
                    <a:lnTo>
                      <a:pt x="3870" y="896"/>
                    </a:lnTo>
                    <a:lnTo>
                      <a:pt x="3929" y="979"/>
                    </a:lnTo>
                    <a:lnTo>
                      <a:pt x="3984" y="1065"/>
                    </a:lnTo>
                    <a:lnTo>
                      <a:pt x="4036" y="1154"/>
                    </a:lnTo>
                    <a:lnTo>
                      <a:pt x="4082" y="1245"/>
                    </a:lnTo>
                    <a:lnTo>
                      <a:pt x="4126" y="1339"/>
                    </a:lnTo>
                    <a:lnTo>
                      <a:pt x="4163" y="1437"/>
                    </a:lnTo>
                    <a:lnTo>
                      <a:pt x="4197" y="1535"/>
                    </a:lnTo>
                    <a:lnTo>
                      <a:pt x="4225" y="1635"/>
                    </a:lnTo>
                    <a:lnTo>
                      <a:pt x="4249" y="1738"/>
                    </a:lnTo>
                    <a:lnTo>
                      <a:pt x="4268" y="1843"/>
                    </a:lnTo>
                    <a:lnTo>
                      <a:pt x="4281" y="1950"/>
                    </a:lnTo>
                    <a:lnTo>
                      <a:pt x="4290" y="2058"/>
                    </a:lnTo>
                    <a:lnTo>
                      <a:pt x="4292" y="2167"/>
                    </a:lnTo>
                    <a:lnTo>
                      <a:pt x="4292" y="2202"/>
                    </a:lnTo>
                    <a:lnTo>
                      <a:pt x="4291" y="2238"/>
                    </a:lnTo>
                    <a:lnTo>
                      <a:pt x="4290" y="2274"/>
                    </a:lnTo>
                    <a:lnTo>
                      <a:pt x="4288" y="2308"/>
                    </a:lnTo>
                    <a:lnTo>
                      <a:pt x="4284" y="2344"/>
                    </a:lnTo>
                    <a:lnTo>
                      <a:pt x="4281" y="2378"/>
                    </a:lnTo>
                    <a:lnTo>
                      <a:pt x="4278" y="2414"/>
                    </a:lnTo>
                    <a:lnTo>
                      <a:pt x="4274" y="2449"/>
                    </a:lnTo>
                    <a:lnTo>
                      <a:pt x="4268" y="2483"/>
                    </a:lnTo>
                    <a:lnTo>
                      <a:pt x="4263" y="2517"/>
                    </a:lnTo>
                    <a:lnTo>
                      <a:pt x="4257" y="2551"/>
                    </a:lnTo>
                    <a:lnTo>
                      <a:pt x="4251" y="2585"/>
                    </a:lnTo>
                    <a:lnTo>
                      <a:pt x="4243" y="2618"/>
                    </a:lnTo>
                    <a:lnTo>
                      <a:pt x="4236" y="2653"/>
                    </a:lnTo>
                    <a:lnTo>
                      <a:pt x="4228" y="2685"/>
                    </a:lnTo>
                    <a:lnTo>
                      <a:pt x="4220" y="2719"/>
                    </a:lnTo>
                    <a:lnTo>
                      <a:pt x="4260" y="2729"/>
                    </a:lnTo>
                    <a:lnTo>
                      <a:pt x="4268" y="2696"/>
                    </a:lnTo>
                    <a:lnTo>
                      <a:pt x="4277" y="2661"/>
                    </a:lnTo>
                    <a:lnTo>
                      <a:pt x="4284" y="2628"/>
                    </a:lnTo>
                    <a:lnTo>
                      <a:pt x="4292" y="2593"/>
                    </a:lnTo>
                    <a:lnTo>
                      <a:pt x="4299" y="2559"/>
                    </a:lnTo>
                    <a:lnTo>
                      <a:pt x="4304" y="2524"/>
                    </a:lnTo>
                    <a:lnTo>
                      <a:pt x="4310" y="2489"/>
                    </a:lnTo>
                    <a:lnTo>
                      <a:pt x="4315" y="2454"/>
                    </a:lnTo>
                    <a:lnTo>
                      <a:pt x="4319" y="2418"/>
                    </a:lnTo>
                    <a:lnTo>
                      <a:pt x="4323" y="2383"/>
                    </a:lnTo>
                    <a:lnTo>
                      <a:pt x="4327" y="2347"/>
                    </a:lnTo>
                    <a:lnTo>
                      <a:pt x="4329" y="2311"/>
                    </a:lnTo>
                    <a:lnTo>
                      <a:pt x="4331" y="2276"/>
                    </a:lnTo>
                    <a:lnTo>
                      <a:pt x="4333" y="2239"/>
                    </a:lnTo>
                    <a:lnTo>
                      <a:pt x="4333" y="2203"/>
                    </a:lnTo>
                    <a:lnTo>
                      <a:pt x="4334" y="2167"/>
                    </a:lnTo>
                    <a:close/>
                  </a:path>
                </a:pathLst>
              </a:custGeom>
              <a:solidFill>
                <a:srgbClr val="dfc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22760" y="2146320"/>
                <a:ext cx="1703160" cy="1701720"/>
              </a:xfrm>
              <a:custGeom>
                <a:avLst/>
                <a:gdLst/>
                <a:ahLst/>
                <a:rect l="l" t="t" r="r" b="b"/>
                <a:pathLst>
                  <a:path w="4291" h="4290">
                    <a:moveTo>
                      <a:pt x="4291" y="2145"/>
                    </a:moveTo>
                    <a:lnTo>
                      <a:pt x="4288" y="2035"/>
                    </a:lnTo>
                    <a:lnTo>
                      <a:pt x="4280" y="1925"/>
                    </a:lnTo>
                    <a:lnTo>
                      <a:pt x="4267" y="1817"/>
                    </a:lnTo>
                    <a:lnTo>
                      <a:pt x="4247" y="1713"/>
                    </a:lnTo>
                    <a:lnTo>
                      <a:pt x="4224" y="1608"/>
                    </a:lnTo>
                    <a:lnTo>
                      <a:pt x="4194" y="1506"/>
                    </a:lnTo>
                    <a:lnTo>
                      <a:pt x="4161" y="1407"/>
                    </a:lnTo>
                    <a:lnTo>
                      <a:pt x="4122" y="1310"/>
                    </a:lnTo>
                    <a:lnTo>
                      <a:pt x="4080" y="1215"/>
                    </a:lnTo>
                    <a:lnTo>
                      <a:pt x="4032" y="1122"/>
                    </a:lnTo>
                    <a:lnTo>
                      <a:pt x="3980" y="1032"/>
                    </a:lnTo>
                    <a:lnTo>
                      <a:pt x="3924" y="945"/>
                    </a:lnTo>
                    <a:lnTo>
                      <a:pt x="3865" y="862"/>
                    </a:lnTo>
                    <a:lnTo>
                      <a:pt x="3801" y="780"/>
                    </a:lnTo>
                    <a:lnTo>
                      <a:pt x="3733" y="702"/>
                    </a:lnTo>
                    <a:lnTo>
                      <a:pt x="3663" y="627"/>
                    </a:lnTo>
                    <a:lnTo>
                      <a:pt x="3588" y="557"/>
                    </a:lnTo>
                    <a:lnTo>
                      <a:pt x="3510" y="489"/>
                    </a:lnTo>
                    <a:lnTo>
                      <a:pt x="3429" y="425"/>
                    </a:lnTo>
                    <a:lnTo>
                      <a:pt x="3345" y="366"/>
                    </a:lnTo>
                    <a:lnTo>
                      <a:pt x="3258" y="310"/>
                    </a:lnTo>
                    <a:lnTo>
                      <a:pt x="3168" y="258"/>
                    </a:lnTo>
                    <a:lnTo>
                      <a:pt x="3075" y="211"/>
                    </a:lnTo>
                    <a:lnTo>
                      <a:pt x="2980" y="168"/>
                    </a:lnTo>
                    <a:lnTo>
                      <a:pt x="2883" y="129"/>
                    </a:lnTo>
                    <a:lnTo>
                      <a:pt x="2783" y="96"/>
                    </a:lnTo>
                    <a:lnTo>
                      <a:pt x="2682" y="67"/>
                    </a:lnTo>
                    <a:lnTo>
                      <a:pt x="2578" y="43"/>
                    </a:lnTo>
                    <a:lnTo>
                      <a:pt x="2472" y="25"/>
                    </a:lnTo>
                    <a:lnTo>
                      <a:pt x="2365" y="11"/>
                    </a:lnTo>
                    <a:lnTo>
                      <a:pt x="2256" y="2"/>
                    </a:lnTo>
                    <a:lnTo>
                      <a:pt x="2145" y="0"/>
                    </a:lnTo>
                    <a:lnTo>
                      <a:pt x="2034" y="2"/>
                    </a:lnTo>
                    <a:lnTo>
                      <a:pt x="1925" y="11"/>
                    </a:lnTo>
                    <a:lnTo>
                      <a:pt x="1818" y="25"/>
                    </a:lnTo>
                    <a:lnTo>
                      <a:pt x="1712" y="43"/>
                    </a:lnTo>
                    <a:lnTo>
                      <a:pt x="1609" y="67"/>
                    </a:lnTo>
                    <a:lnTo>
                      <a:pt x="1507" y="96"/>
                    </a:lnTo>
                    <a:lnTo>
                      <a:pt x="1408" y="129"/>
                    </a:lnTo>
                    <a:lnTo>
                      <a:pt x="1309" y="168"/>
                    </a:lnTo>
                    <a:lnTo>
                      <a:pt x="1215" y="211"/>
                    </a:lnTo>
                    <a:lnTo>
                      <a:pt x="1122" y="258"/>
                    </a:lnTo>
                    <a:lnTo>
                      <a:pt x="1033" y="310"/>
                    </a:lnTo>
                    <a:lnTo>
                      <a:pt x="945" y="366"/>
                    </a:lnTo>
                    <a:lnTo>
                      <a:pt x="861" y="425"/>
                    </a:lnTo>
                    <a:lnTo>
                      <a:pt x="780" y="489"/>
                    </a:lnTo>
                    <a:lnTo>
                      <a:pt x="702" y="557"/>
                    </a:lnTo>
                    <a:lnTo>
                      <a:pt x="628" y="627"/>
                    </a:lnTo>
                    <a:lnTo>
                      <a:pt x="556" y="702"/>
                    </a:lnTo>
                    <a:lnTo>
                      <a:pt x="489" y="780"/>
                    </a:lnTo>
                    <a:lnTo>
                      <a:pt x="426" y="862"/>
                    </a:lnTo>
                    <a:lnTo>
                      <a:pt x="366" y="945"/>
                    </a:lnTo>
                    <a:lnTo>
                      <a:pt x="310" y="1032"/>
                    </a:lnTo>
                    <a:lnTo>
                      <a:pt x="258" y="1122"/>
                    </a:lnTo>
                    <a:lnTo>
                      <a:pt x="210" y="1215"/>
                    </a:lnTo>
                    <a:lnTo>
                      <a:pt x="168" y="1310"/>
                    </a:lnTo>
                    <a:lnTo>
                      <a:pt x="129" y="1407"/>
                    </a:lnTo>
                    <a:lnTo>
                      <a:pt x="96" y="1506"/>
                    </a:lnTo>
                    <a:lnTo>
                      <a:pt x="67" y="1608"/>
                    </a:lnTo>
                    <a:lnTo>
                      <a:pt x="43" y="1713"/>
                    </a:lnTo>
                    <a:lnTo>
                      <a:pt x="24" y="1817"/>
                    </a:lnTo>
                    <a:lnTo>
                      <a:pt x="11" y="1925"/>
                    </a:lnTo>
                    <a:lnTo>
                      <a:pt x="2" y="2035"/>
                    </a:lnTo>
                    <a:lnTo>
                      <a:pt x="0" y="2145"/>
                    </a:lnTo>
                    <a:lnTo>
                      <a:pt x="2" y="2255"/>
                    </a:lnTo>
                    <a:lnTo>
                      <a:pt x="11" y="2364"/>
                    </a:lnTo>
                    <a:lnTo>
                      <a:pt x="24" y="2471"/>
                    </a:lnTo>
                    <a:lnTo>
                      <a:pt x="43" y="2577"/>
                    </a:lnTo>
                    <a:lnTo>
                      <a:pt x="67" y="2680"/>
                    </a:lnTo>
                    <a:lnTo>
                      <a:pt x="96" y="2782"/>
                    </a:lnTo>
                    <a:lnTo>
                      <a:pt x="129" y="2882"/>
                    </a:lnTo>
                    <a:lnTo>
                      <a:pt x="168" y="2980"/>
                    </a:lnTo>
                    <a:lnTo>
                      <a:pt x="210" y="3075"/>
                    </a:lnTo>
                    <a:lnTo>
                      <a:pt x="258" y="3166"/>
                    </a:lnTo>
                    <a:lnTo>
                      <a:pt x="310" y="3257"/>
                    </a:lnTo>
                    <a:lnTo>
                      <a:pt x="366" y="3343"/>
                    </a:lnTo>
                    <a:lnTo>
                      <a:pt x="426" y="3428"/>
                    </a:lnTo>
                    <a:lnTo>
                      <a:pt x="489" y="3509"/>
                    </a:lnTo>
                    <a:lnTo>
                      <a:pt x="556" y="3586"/>
                    </a:lnTo>
                    <a:lnTo>
                      <a:pt x="628" y="3661"/>
                    </a:lnTo>
                    <a:lnTo>
                      <a:pt x="702" y="3732"/>
                    </a:lnTo>
                    <a:lnTo>
                      <a:pt x="780" y="3799"/>
                    </a:lnTo>
                    <a:lnTo>
                      <a:pt x="861" y="3863"/>
                    </a:lnTo>
                    <a:lnTo>
                      <a:pt x="945" y="3923"/>
                    </a:lnTo>
                    <a:lnTo>
                      <a:pt x="1033" y="3979"/>
                    </a:lnTo>
                    <a:lnTo>
                      <a:pt x="1122" y="4030"/>
                    </a:lnTo>
                    <a:lnTo>
                      <a:pt x="1215" y="4078"/>
                    </a:lnTo>
                    <a:lnTo>
                      <a:pt x="1309" y="4121"/>
                    </a:lnTo>
                    <a:lnTo>
                      <a:pt x="1408" y="4159"/>
                    </a:lnTo>
                    <a:lnTo>
                      <a:pt x="1507" y="4193"/>
                    </a:lnTo>
                    <a:lnTo>
                      <a:pt x="1609" y="4222"/>
                    </a:lnTo>
                    <a:lnTo>
                      <a:pt x="1712" y="4245"/>
                    </a:lnTo>
                    <a:lnTo>
                      <a:pt x="1818" y="4265"/>
                    </a:lnTo>
                    <a:lnTo>
                      <a:pt x="1925" y="4279"/>
                    </a:lnTo>
                    <a:lnTo>
                      <a:pt x="2034" y="4286"/>
                    </a:lnTo>
                    <a:lnTo>
                      <a:pt x="2145" y="4290"/>
                    </a:lnTo>
                    <a:lnTo>
                      <a:pt x="2208" y="4288"/>
                    </a:lnTo>
                    <a:lnTo>
                      <a:pt x="2271" y="4285"/>
                    </a:lnTo>
                    <a:lnTo>
                      <a:pt x="2333" y="4281"/>
                    </a:lnTo>
                    <a:lnTo>
                      <a:pt x="2394" y="4276"/>
                    </a:lnTo>
                    <a:lnTo>
                      <a:pt x="2456" y="4267"/>
                    </a:lnTo>
                    <a:lnTo>
                      <a:pt x="2516" y="4257"/>
                    </a:lnTo>
                    <a:lnTo>
                      <a:pt x="2576" y="4246"/>
                    </a:lnTo>
                    <a:lnTo>
                      <a:pt x="2635" y="4233"/>
                    </a:lnTo>
                    <a:lnTo>
                      <a:pt x="2695" y="4218"/>
                    </a:lnTo>
                    <a:lnTo>
                      <a:pt x="2752" y="4202"/>
                    </a:lnTo>
                    <a:lnTo>
                      <a:pt x="2810" y="4185"/>
                    </a:lnTo>
                    <a:lnTo>
                      <a:pt x="2866" y="4165"/>
                    </a:lnTo>
                    <a:lnTo>
                      <a:pt x="2923" y="4144"/>
                    </a:lnTo>
                    <a:lnTo>
                      <a:pt x="2978" y="4122"/>
                    </a:lnTo>
                    <a:lnTo>
                      <a:pt x="3033" y="4098"/>
                    </a:lnTo>
                    <a:lnTo>
                      <a:pt x="3086" y="4072"/>
                    </a:lnTo>
                    <a:lnTo>
                      <a:pt x="3067" y="4035"/>
                    </a:lnTo>
                    <a:lnTo>
                      <a:pt x="3016" y="4060"/>
                    </a:lnTo>
                    <a:lnTo>
                      <a:pt x="2962" y="4083"/>
                    </a:lnTo>
                    <a:lnTo>
                      <a:pt x="2908" y="4105"/>
                    </a:lnTo>
                    <a:lnTo>
                      <a:pt x="2852" y="4125"/>
                    </a:lnTo>
                    <a:lnTo>
                      <a:pt x="2797" y="4145"/>
                    </a:lnTo>
                    <a:lnTo>
                      <a:pt x="2741" y="4162"/>
                    </a:lnTo>
                    <a:lnTo>
                      <a:pt x="2684" y="4178"/>
                    </a:lnTo>
                    <a:lnTo>
                      <a:pt x="2627" y="4192"/>
                    </a:lnTo>
                    <a:lnTo>
                      <a:pt x="2568" y="4205"/>
                    </a:lnTo>
                    <a:lnTo>
                      <a:pt x="2509" y="4216"/>
                    </a:lnTo>
                    <a:lnTo>
                      <a:pt x="2449" y="4226"/>
                    </a:lnTo>
                    <a:lnTo>
                      <a:pt x="2390" y="4233"/>
                    </a:lnTo>
                    <a:lnTo>
                      <a:pt x="2329" y="4240"/>
                    </a:lnTo>
                    <a:lnTo>
                      <a:pt x="2269" y="4244"/>
                    </a:lnTo>
                    <a:lnTo>
                      <a:pt x="2207" y="4246"/>
                    </a:lnTo>
                    <a:lnTo>
                      <a:pt x="2145" y="4247"/>
                    </a:lnTo>
                    <a:lnTo>
                      <a:pt x="2037" y="4245"/>
                    </a:lnTo>
                    <a:lnTo>
                      <a:pt x="1930" y="4237"/>
                    </a:lnTo>
                    <a:lnTo>
                      <a:pt x="1825" y="4224"/>
                    </a:lnTo>
                    <a:lnTo>
                      <a:pt x="1721" y="4205"/>
                    </a:lnTo>
                    <a:lnTo>
                      <a:pt x="1620" y="4182"/>
                    </a:lnTo>
                    <a:lnTo>
                      <a:pt x="1519" y="4153"/>
                    </a:lnTo>
                    <a:lnTo>
                      <a:pt x="1422" y="4120"/>
                    </a:lnTo>
                    <a:lnTo>
                      <a:pt x="1326" y="4082"/>
                    </a:lnTo>
                    <a:lnTo>
                      <a:pt x="1233" y="4040"/>
                    </a:lnTo>
                    <a:lnTo>
                      <a:pt x="1142" y="3994"/>
                    </a:lnTo>
                    <a:lnTo>
                      <a:pt x="1054" y="3943"/>
                    </a:lnTo>
                    <a:lnTo>
                      <a:pt x="969" y="3889"/>
                    </a:lnTo>
                    <a:lnTo>
                      <a:pt x="886" y="3829"/>
                    </a:lnTo>
                    <a:lnTo>
                      <a:pt x="807" y="3768"/>
                    </a:lnTo>
                    <a:lnTo>
                      <a:pt x="730" y="3701"/>
                    </a:lnTo>
                    <a:lnTo>
                      <a:pt x="657" y="3632"/>
                    </a:lnTo>
                    <a:lnTo>
                      <a:pt x="588" y="3558"/>
                    </a:lnTo>
                    <a:lnTo>
                      <a:pt x="522" y="3483"/>
                    </a:lnTo>
                    <a:lnTo>
                      <a:pt x="459" y="3403"/>
                    </a:lnTo>
                    <a:lnTo>
                      <a:pt x="401" y="3321"/>
                    </a:lnTo>
                    <a:lnTo>
                      <a:pt x="346" y="3235"/>
                    </a:lnTo>
                    <a:lnTo>
                      <a:pt x="295" y="3147"/>
                    </a:lnTo>
                    <a:lnTo>
                      <a:pt x="248" y="3056"/>
                    </a:lnTo>
                    <a:lnTo>
                      <a:pt x="206" y="2963"/>
                    </a:lnTo>
                    <a:lnTo>
                      <a:pt x="168" y="2867"/>
                    </a:lnTo>
                    <a:lnTo>
                      <a:pt x="136" y="2770"/>
                    </a:lnTo>
                    <a:lnTo>
                      <a:pt x="107" y="2670"/>
                    </a:lnTo>
                    <a:lnTo>
                      <a:pt x="84" y="2568"/>
                    </a:lnTo>
                    <a:lnTo>
                      <a:pt x="65" y="2464"/>
                    </a:lnTo>
                    <a:lnTo>
                      <a:pt x="52" y="2360"/>
                    </a:lnTo>
                    <a:lnTo>
                      <a:pt x="44" y="2253"/>
                    </a:lnTo>
                    <a:lnTo>
                      <a:pt x="41" y="2145"/>
                    </a:lnTo>
                    <a:lnTo>
                      <a:pt x="44" y="2037"/>
                    </a:lnTo>
                    <a:lnTo>
                      <a:pt x="52" y="1930"/>
                    </a:lnTo>
                    <a:lnTo>
                      <a:pt x="65" y="1824"/>
                    </a:lnTo>
                    <a:lnTo>
                      <a:pt x="84" y="1720"/>
                    </a:lnTo>
                    <a:lnTo>
                      <a:pt x="107" y="1619"/>
                    </a:lnTo>
                    <a:lnTo>
                      <a:pt x="136" y="1519"/>
                    </a:lnTo>
                    <a:lnTo>
                      <a:pt x="168" y="1421"/>
                    </a:lnTo>
                    <a:lnTo>
                      <a:pt x="206" y="1326"/>
                    </a:lnTo>
                    <a:lnTo>
                      <a:pt x="248" y="1232"/>
                    </a:lnTo>
                    <a:lnTo>
                      <a:pt x="295" y="1142"/>
                    </a:lnTo>
                    <a:lnTo>
                      <a:pt x="346" y="1054"/>
                    </a:lnTo>
                    <a:lnTo>
                      <a:pt x="401" y="969"/>
                    </a:lnTo>
                    <a:lnTo>
                      <a:pt x="459" y="886"/>
                    </a:lnTo>
                    <a:lnTo>
                      <a:pt x="522" y="807"/>
                    </a:lnTo>
                    <a:lnTo>
                      <a:pt x="588" y="730"/>
                    </a:lnTo>
                    <a:lnTo>
                      <a:pt x="657" y="658"/>
                    </a:lnTo>
                    <a:lnTo>
                      <a:pt x="730" y="587"/>
                    </a:lnTo>
                    <a:lnTo>
                      <a:pt x="807" y="521"/>
                    </a:lnTo>
                    <a:lnTo>
                      <a:pt x="886" y="459"/>
                    </a:lnTo>
                    <a:lnTo>
                      <a:pt x="969" y="400"/>
                    </a:lnTo>
                    <a:lnTo>
                      <a:pt x="1054" y="345"/>
                    </a:lnTo>
                    <a:lnTo>
                      <a:pt x="1142" y="295"/>
                    </a:lnTo>
                    <a:lnTo>
                      <a:pt x="1233" y="248"/>
                    </a:lnTo>
                    <a:lnTo>
                      <a:pt x="1326" y="206"/>
                    </a:lnTo>
                    <a:lnTo>
                      <a:pt x="1422" y="168"/>
                    </a:lnTo>
                    <a:lnTo>
                      <a:pt x="1519" y="136"/>
                    </a:lnTo>
                    <a:lnTo>
                      <a:pt x="1620" y="108"/>
                    </a:lnTo>
                    <a:lnTo>
                      <a:pt x="1721" y="84"/>
                    </a:lnTo>
                    <a:lnTo>
                      <a:pt x="1825" y="66"/>
                    </a:lnTo>
                    <a:lnTo>
                      <a:pt x="1930" y="52"/>
                    </a:lnTo>
                    <a:lnTo>
                      <a:pt x="2037" y="44"/>
                    </a:lnTo>
                    <a:lnTo>
                      <a:pt x="2145" y="41"/>
                    </a:lnTo>
                    <a:lnTo>
                      <a:pt x="2254" y="44"/>
                    </a:lnTo>
                    <a:lnTo>
                      <a:pt x="2361" y="52"/>
                    </a:lnTo>
                    <a:lnTo>
                      <a:pt x="2466" y="66"/>
                    </a:lnTo>
                    <a:lnTo>
                      <a:pt x="2569" y="84"/>
                    </a:lnTo>
                    <a:lnTo>
                      <a:pt x="2671" y="108"/>
                    </a:lnTo>
                    <a:lnTo>
                      <a:pt x="2771" y="136"/>
                    </a:lnTo>
                    <a:lnTo>
                      <a:pt x="2869" y="168"/>
                    </a:lnTo>
                    <a:lnTo>
                      <a:pt x="2964" y="206"/>
                    </a:lnTo>
                    <a:lnTo>
                      <a:pt x="3058" y="248"/>
                    </a:lnTo>
                    <a:lnTo>
                      <a:pt x="3148" y="295"/>
                    </a:lnTo>
                    <a:lnTo>
                      <a:pt x="3236" y="345"/>
                    </a:lnTo>
                    <a:lnTo>
                      <a:pt x="3321" y="400"/>
                    </a:lnTo>
                    <a:lnTo>
                      <a:pt x="3405" y="459"/>
                    </a:lnTo>
                    <a:lnTo>
                      <a:pt x="3483" y="521"/>
                    </a:lnTo>
                    <a:lnTo>
                      <a:pt x="3560" y="587"/>
                    </a:lnTo>
                    <a:lnTo>
                      <a:pt x="3633" y="658"/>
                    </a:lnTo>
                    <a:lnTo>
                      <a:pt x="3703" y="730"/>
                    </a:lnTo>
                    <a:lnTo>
                      <a:pt x="3769" y="807"/>
                    </a:lnTo>
                    <a:lnTo>
                      <a:pt x="3831" y="886"/>
                    </a:lnTo>
                    <a:lnTo>
                      <a:pt x="3890" y="969"/>
                    </a:lnTo>
                    <a:lnTo>
                      <a:pt x="3945" y="1054"/>
                    </a:lnTo>
                    <a:lnTo>
                      <a:pt x="3996" y="1142"/>
                    </a:lnTo>
                    <a:lnTo>
                      <a:pt x="4042" y="1232"/>
                    </a:lnTo>
                    <a:lnTo>
                      <a:pt x="4084" y="1326"/>
                    </a:lnTo>
                    <a:lnTo>
                      <a:pt x="4122" y="1421"/>
                    </a:lnTo>
                    <a:lnTo>
                      <a:pt x="4154" y="1519"/>
                    </a:lnTo>
                    <a:lnTo>
                      <a:pt x="4184" y="1619"/>
                    </a:lnTo>
                    <a:lnTo>
                      <a:pt x="4206" y="1720"/>
                    </a:lnTo>
                    <a:lnTo>
                      <a:pt x="4225" y="1824"/>
                    </a:lnTo>
                    <a:lnTo>
                      <a:pt x="4239" y="1930"/>
                    </a:lnTo>
                    <a:lnTo>
                      <a:pt x="4246" y="2037"/>
                    </a:lnTo>
                    <a:lnTo>
                      <a:pt x="4250" y="2145"/>
                    </a:lnTo>
                    <a:lnTo>
                      <a:pt x="4250" y="2180"/>
                    </a:lnTo>
                    <a:lnTo>
                      <a:pt x="4248" y="2215"/>
                    </a:lnTo>
                    <a:lnTo>
                      <a:pt x="4246" y="2251"/>
                    </a:lnTo>
                    <a:lnTo>
                      <a:pt x="4245" y="2285"/>
                    </a:lnTo>
                    <a:lnTo>
                      <a:pt x="4242" y="2320"/>
                    </a:lnTo>
                    <a:lnTo>
                      <a:pt x="4239" y="2354"/>
                    </a:lnTo>
                    <a:lnTo>
                      <a:pt x="4235" y="2389"/>
                    </a:lnTo>
                    <a:lnTo>
                      <a:pt x="4231" y="2423"/>
                    </a:lnTo>
                    <a:lnTo>
                      <a:pt x="4226" y="2458"/>
                    </a:lnTo>
                    <a:lnTo>
                      <a:pt x="4220" y="2491"/>
                    </a:lnTo>
                    <a:lnTo>
                      <a:pt x="4215" y="2525"/>
                    </a:lnTo>
                    <a:lnTo>
                      <a:pt x="4208" y="2558"/>
                    </a:lnTo>
                    <a:lnTo>
                      <a:pt x="4202" y="2592"/>
                    </a:lnTo>
                    <a:lnTo>
                      <a:pt x="4194" y="2625"/>
                    </a:lnTo>
                    <a:lnTo>
                      <a:pt x="4186" y="2659"/>
                    </a:lnTo>
                    <a:lnTo>
                      <a:pt x="4177" y="2691"/>
                    </a:lnTo>
                    <a:lnTo>
                      <a:pt x="4218" y="2702"/>
                    </a:lnTo>
                    <a:lnTo>
                      <a:pt x="4227" y="2668"/>
                    </a:lnTo>
                    <a:lnTo>
                      <a:pt x="4234" y="2635"/>
                    </a:lnTo>
                    <a:lnTo>
                      <a:pt x="4242" y="2602"/>
                    </a:lnTo>
                    <a:lnTo>
                      <a:pt x="4250" y="2567"/>
                    </a:lnTo>
                    <a:lnTo>
                      <a:pt x="4256" y="2532"/>
                    </a:lnTo>
                    <a:lnTo>
                      <a:pt x="4261" y="2498"/>
                    </a:lnTo>
                    <a:lnTo>
                      <a:pt x="4268" y="2463"/>
                    </a:lnTo>
                    <a:lnTo>
                      <a:pt x="4272" y="2429"/>
                    </a:lnTo>
                    <a:lnTo>
                      <a:pt x="4277" y="2394"/>
                    </a:lnTo>
                    <a:lnTo>
                      <a:pt x="4281" y="2359"/>
                    </a:lnTo>
                    <a:lnTo>
                      <a:pt x="4284" y="2323"/>
                    </a:lnTo>
                    <a:lnTo>
                      <a:pt x="4286" y="2288"/>
                    </a:lnTo>
                    <a:lnTo>
                      <a:pt x="4288" y="2253"/>
                    </a:lnTo>
                    <a:lnTo>
                      <a:pt x="4290" y="2216"/>
                    </a:lnTo>
                    <a:lnTo>
                      <a:pt x="4291" y="2180"/>
                    </a:lnTo>
                    <a:lnTo>
                      <a:pt x="4291" y="214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30680" y="2154240"/>
                <a:ext cx="1687320" cy="1685880"/>
              </a:xfrm>
              <a:custGeom>
                <a:avLst/>
                <a:gdLst/>
                <a:ahLst/>
                <a:rect l="l" t="t" r="r" b="b"/>
                <a:pathLst>
                  <a:path w="4250" h="4249">
                    <a:moveTo>
                      <a:pt x="4250" y="2125"/>
                    </a:moveTo>
                    <a:lnTo>
                      <a:pt x="4248" y="2016"/>
                    </a:lnTo>
                    <a:lnTo>
                      <a:pt x="4239" y="1908"/>
                    </a:lnTo>
                    <a:lnTo>
                      <a:pt x="4226" y="1801"/>
                    </a:lnTo>
                    <a:lnTo>
                      <a:pt x="4207" y="1696"/>
                    </a:lnTo>
                    <a:lnTo>
                      <a:pt x="4183" y="1593"/>
                    </a:lnTo>
                    <a:lnTo>
                      <a:pt x="4155" y="1493"/>
                    </a:lnTo>
                    <a:lnTo>
                      <a:pt x="4121" y="1395"/>
                    </a:lnTo>
                    <a:lnTo>
                      <a:pt x="4084" y="1297"/>
                    </a:lnTo>
                    <a:lnTo>
                      <a:pt x="4040" y="1203"/>
                    </a:lnTo>
                    <a:lnTo>
                      <a:pt x="3994" y="1112"/>
                    </a:lnTo>
                    <a:lnTo>
                      <a:pt x="3942" y="1023"/>
                    </a:lnTo>
                    <a:lnTo>
                      <a:pt x="3887" y="937"/>
                    </a:lnTo>
                    <a:lnTo>
                      <a:pt x="3828" y="854"/>
                    </a:lnTo>
                    <a:lnTo>
                      <a:pt x="3765" y="774"/>
                    </a:lnTo>
                    <a:lnTo>
                      <a:pt x="3698" y="696"/>
                    </a:lnTo>
                    <a:lnTo>
                      <a:pt x="3628" y="622"/>
                    </a:lnTo>
                    <a:lnTo>
                      <a:pt x="3554" y="552"/>
                    </a:lnTo>
                    <a:lnTo>
                      <a:pt x="3476" y="485"/>
                    </a:lnTo>
                    <a:lnTo>
                      <a:pt x="3396" y="423"/>
                    </a:lnTo>
                    <a:lnTo>
                      <a:pt x="3313" y="363"/>
                    </a:lnTo>
                    <a:lnTo>
                      <a:pt x="3227" y="308"/>
                    </a:lnTo>
                    <a:lnTo>
                      <a:pt x="3138" y="256"/>
                    </a:lnTo>
                    <a:lnTo>
                      <a:pt x="3046" y="210"/>
                    </a:lnTo>
                    <a:lnTo>
                      <a:pt x="2952" y="168"/>
                    </a:lnTo>
                    <a:lnTo>
                      <a:pt x="2856" y="129"/>
                    </a:lnTo>
                    <a:lnTo>
                      <a:pt x="2757" y="95"/>
                    </a:lnTo>
                    <a:lnTo>
                      <a:pt x="2656" y="67"/>
                    </a:lnTo>
                    <a:lnTo>
                      <a:pt x="2554" y="44"/>
                    </a:lnTo>
                    <a:lnTo>
                      <a:pt x="2449" y="25"/>
                    </a:lnTo>
                    <a:lnTo>
                      <a:pt x="2343" y="11"/>
                    </a:lnTo>
                    <a:lnTo>
                      <a:pt x="2235" y="4"/>
                    </a:lnTo>
                    <a:lnTo>
                      <a:pt x="2125" y="0"/>
                    </a:lnTo>
                    <a:lnTo>
                      <a:pt x="2016" y="4"/>
                    </a:lnTo>
                    <a:lnTo>
                      <a:pt x="1907" y="11"/>
                    </a:lnTo>
                    <a:lnTo>
                      <a:pt x="1802" y="25"/>
                    </a:lnTo>
                    <a:lnTo>
                      <a:pt x="1697" y="44"/>
                    </a:lnTo>
                    <a:lnTo>
                      <a:pt x="1594" y="67"/>
                    </a:lnTo>
                    <a:lnTo>
                      <a:pt x="1494" y="95"/>
                    </a:lnTo>
                    <a:lnTo>
                      <a:pt x="1394" y="129"/>
                    </a:lnTo>
                    <a:lnTo>
                      <a:pt x="1298" y="168"/>
                    </a:lnTo>
                    <a:lnTo>
                      <a:pt x="1204" y="210"/>
                    </a:lnTo>
                    <a:lnTo>
                      <a:pt x="1112" y="256"/>
                    </a:lnTo>
                    <a:lnTo>
                      <a:pt x="1024" y="308"/>
                    </a:lnTo>
                    <a:lnTo>
                      <a:pt x="937" y="363"/>
                    </a:lnTo>
                    <a:lnTo>
                      <a:pt x="854" y="423"/>
                    </a:lnTo>
                    <a:lnTo>
                      <a:pt x="774" y="485"/>
                    </a:lnTo>
                    <a:lnTo>
                      <a:pt x="696" y="552"/>
                    </a:lnTo>
                    <a:lnTo>
                      <a:pt x="623" y="622"/>
                    </a:lnTo>
                    <a:lnTo>
                      <a:pt x="552" y="696"/>
                    </a:lnTo>
                    <a:lnTo>
                      <a:pt x="485" y="774"/>
                    </a:lnTo>
                    <a:lnTo>
                      <a:pt x="423" y="854"/>
                    </a:lnTo>
                    <a:lnTo>
                      <a:pt x="363" y="937"/>
                    </a:lnTo>
                    <a:lnTo>
                      <a:pt x="308" y="1023"/>
                    </a:lnTo>
                    <a:lnTo>
                      <a:pt x="256" y="1112"/>
                    </a:lnTo>
                    <a:lnTo>
                      <a:pt x="210" y="1203"/>
                    </a:lnTo>
                    <a:lnTo>
                      <a:pt x="167" y="1297"/>
                    </a:lnTo>
                    <a:lnTo>
                      <a:pt x="129" y="1395"/>
                    </a:lnTo>
                    <a:lnTo>
                      <a:pt x="95" y="1493"/>
                    </a:lnTo>
                    <a:lnTo>
                      <a:pt x="67" y="1593"/>
                    </a:lnTo>
                    <a:lnTo>
                      <a:pt x="44" y="1696"/>
                    </a:lnTo>
                    <a:lnTo>
                      <a:pt x="24" y="1801"/>
                    </a:lnTo>
                    <a:lnTo>
                      <a:pt x="11" y="1908"/>
                    </a:lnTo>
                    <a:lnTo>
                      <a:pt x="2" y="2016"/>
                    </a:lnTo>
                    <a:lnTo>
                      <a:pt x="0" y="2125"/>
                    </a:lnTo>
                    <a:lnTo>
                      <a:pt x="2" y="2234"/>
                    </a:lnTo>
                    <a:lnTo>
                      <a:pt x="11" y="2342"/>
                    </a:lnTo>
                    <a:lnTo>
                      <a:pt x="24" y="2448"/>
                    </a:lnTo>
                    <a:lnTo>
                      <a:pt x="44" y="2552"/>
                    </a:lnTo>
                    <a:lnTo>
                      <a:pt x="67" y="2655"/>
                    </a:lnTo>
                    <a:lnTo>
                      <a:pt x="95" y="2756"/>
                    </a:lnTo>
                    <a:lnTo>
                      <a:pt x="129" y="2855"/>
                    </a:lnTo>
                    <a:lnTo>
                      <a:pt x="167" y="2951"/>
                    </a:lnTo>
                    <a:lnTo>
                      <a:pt x="210" y="3045"/>
                    </a:lnTo>
                    <a:lnTo>
                      <a:pt x="256" y="3137"/>
                    </a:lnTo>
                    <a:lnTo>
                      <a:pt x="308" y="3226"/>
                    </a:lnTo>
                    <a:lnTo>
                      <a:pt x="363" y="3312"/>
                    </a:lnTo>
                    <a:lnTo>
                      <a:pt x="423" y="3395"/>
                    </a:lnTo>
                    <a:lnTo>
                      <a:pt x="485" y="3476"/>
                    </a:lnTo>
                    <a:lnTo>
                      <a:pt x="552" y="3552"/>
                    </a:lnTo>
                    <a:lnTo>
                      <a:pt x="623" y="3626"/>
                    </a:lnTo>
                    <a:lnTo>
                      <a:pt x="696" y="3697"/>
                    </a:lnTo>
                    <a:lnTo>
                      <a:pt x="774" y="3763"/>
                    </a:lnTo>
                    <a:lnTo>
                      <a:pt x="854" y="3827"/>
                    </a:lnTo>
                    <a:lnTo>
                      <a:pt x="937" y="3886"/>
                    </a:lnTo>
                    <a:lnTo>
                      <a:pt x="1024" y="3941"/>
                    </a:lnTo>
                    <a:lnTo>
                      <a:pt x="1112" y="3992"/>
                    </a:lnTo>
                    <a:lnTo>
                      <a:pt x="1204" y="4040"/>
                    </a:lnTo>
                    <a:lnTo>
                      <a:pt x="1298" y="4082"/>
                    </a:lnTo>
                    <a:lnTo>
                      <a:pt x="1394" y="4119"/>
                    </a:lnTo>
                    <a:lnTo>
                      <a:pt x="1494" y="4153"/>
                    </a:lnTo>
                    <a:lnTo>
                      <a:pt x="1594" y="4182"/>
                    </a:lnTo>
                    <a:lnTo>
                      <a:pt x="1697" y="4206"/>
                    </a:lnTo>
                    <a:lnTo>
                      <a:pt x="1802" y="4224"/>
                    </a:lnTo>
                    <a:lnTo>
                      <a:pt x="1907" y="4237"/>
                    </a:lnTo>
                    <a:lnTo>
                      <a:pt x="2016" y="4246"/>
                    </a:lnTo>
                    <a:lnTo>
                      <a:pt x="2125" y="4249"/>
                    </a:lnTo>
                    <a:lnTo>
                      <a:pt x="2187" y="4248"/>
                    </a:lnTo>
                    <a:lnTo>
                      <a:pt x="2250" y="4245"/>
                    </a:lnTo>
                    <a:lnTo>
                      <a:pt x="2312" y="4240"/>
                    </a:lnTo>
                    <a:lnTo>
                      <a:pt x="2372" y="4234"/>
                    </a:lnTo>
                    <a:lnTo>
                      <a:pt x="2433" y="4226"/>
                    </a:lnTo>
                    <a:lnTo>
                      <a:pt x="2493" y="4217"/>
                    </a:lnTo>
                    <a:lnTo>
                      <a:pt x="2553" y="4206"/>
                    </a:lnTo>
                    <a:lnTo>
                      <a:pt x="2611" y="4193"/>
                    </a:lnTo>
                    <a:lnTo>
                      <a:pt x="2669" y="4178"/>
                    </a:lnTo>
                    <a:lnTo>
                      <a:pt x="2727" y="4163"/>
                    </a:lnTo>
                    <a:lnTo>
                      <a:pt x="2784" y="4144"/>
                    </a:lnTo>
                    <a:lnTo>
                      <a:pt x="2840" y="4125"/>
                    </a:lnTo>
                    <a:lnTo>
                      <a:pt x="2895" y="4104"/>
                    </a:lnTo>
                    <a:lnTo>
                      <a:pt x="2950" y="4083"/>
                    </a:lnTo>
                    <a:lnTo>
                      <a:pt x="3004" y="4059"/>
                    </a:lnTo>
                    <a:lnTo>
                      <a:pt x="3057" y="4034"/>
                    </a:lnTo>
                    <a:lnTo>
                      <a:pt x="3039" y="3996"/>
                    </a:lnTo>
                    <a:lnTo>
                      <a:pt x="2987" y="4021"/>
                    </a:lnTo>
                    <a:lnTo>
                      <a:pt x="2934" y="4044"/>
                    </a:lnTo>
                    <a:lnTo>
                      <a:pt x="2880" y="4065"/>
                    </a:lnTo>
                    <a:lnTo>
                      <a:pt x="2826" y="4086"/>
                    </a:lnTo>
                    <a:lnTo>
                      <a:pt x="2771" y="4105"/>
                    </a:lnTo>
                    <a:lnTo>
                      <a:pt x="2715" y="4123"/>
                    </a:lnTo>
                    <a:lnTo>
                      <a:pt x="2658" y="4138"/>
                    </a:lnTo>
                    <a:lnTo>
                      <a:pt x="2601" y="4152"/>
                    </a:lnTo>
                    <a:lnTo>
                      <a:pt x="2544" y="4165"/>
                    </a:lnTo>
                    <a:lnTo>
                      <a:pt x="2486" y="4176"/>
                    </a:lnTo>
                    <a:lnTo>
                      <a:pt x="2426" y="4185"/>
                    </a:lnTo>
                    <a:lnTo>
                      <a:pt x="2368" y="4193"/>
                    </a:lnTo>
                    <a:lnTo>
                      <a:pt x="2307" y="4199"/>
                    </a:lnTo>
                    <a:lnTo>
                      <a:pt x="2247" y="4204"/>
                    </a:lnTo>
                    <a:lnTo>
                      <a:pt x="2186" y="4206"/>
                    </a:lnTo>
                    <a:lnTo>
                      <a:pt x="2125" y="4207"/>
                    </a:lnTo>
                    <a:lnTo>
                      <a:pt x="2018" y="4204"/>
                    </a:lnTo>
                    <a:lnTo>
                      <a:pt x="1912" y="4196"/>
                    </a:lnTo>
                    <a:lnTo>
                      <a:pt x="1808" y="4183"/>
                    </a:lnTo>
                    <a:lnTo>
                      <a:pt x="1705" y="4165"/>
                    </a:lnTo>
                    <a:lnTo>
                      <a:pt x="1605" y="4141"/>
                    </a:lnTo>
                    <a:lnTo>
                      <a:pt x="1505" y="4113"/>
                    </a:lnTo>
                    <a:lnTo>
                      <a:pt x="1409" y="4081"/>
                    </a:lnTo>
                    <a:lnTo>
                      <a:pt x="1314" y="4043"/>
                    </a:lnTo>
                    <a:lnTo>
                      <a:pt x="1222" y="4002"/>
                    </a:lnTo>
                    <a:lnTo>
                      <a:pt x="1132" y="3955"/>
                    </a:lnTo>
                    <a:lnTo>
                      <a:pt x="1045" y="3906"/>
                    </a:lnTo>
                    <a:lnTo>
                      <a:pt x="960" y="3852"/>
                    </a:lnTo>
                    <a:lnTo>
                      <a:pt x="879" y="3793"/>
                    </a:lnTo>
                    <a:lnTo>
                      <a:pt x="800" y="3732"/>
                    </a:lnTo>
                    <a:lnTo>
                      <a:pt x="724" y="3666"/>
                    </a:lnTo>
                    <a:lnTo>
                      <a:pt x="652" y="3597"/>
                    </a:lnTo>
                    <a:lnTo>
                      <a:pt x="583" y="3524"/>
                    </a:lnTo>
                    <a:lnTo>
                      <a:pt x="518" y="3449"/>
                    </a:lnTo>
                    <a:lnTo>
                      <a:pt x="455" y="3370"/>
                    </a:lnTo>
                    <a:lnTo>
                      <a:pt x="398" y="3289"/>
                    </a:lnTo>
                    <a:lnTo>
                      <a:pt x="343" y="3205"/>
                    </a:lnTo>
                    <a:lnTo>
                      <a:pt x="293" y="3117"/>
                    </a:lnTo>
                    <a:lnTo>
                      <a:pt x="247" y="3028"/>
                    </a:lnTo>
                    <a:lnTo>
                      <a:pt x="206" y="2935"/>
                    </a:lnTo>
                    <a:lnTo>
                      <a:pt x="168" y="2841"/>
                    </a:lnTo>
                    <a:lnTo>
                      <a:pt x="135" y="2744"/>
                    </a:lnTo>
                    <a:lnTo>
                      <a:pt x="107" y="2645"/>
                    </a:lnTo>
                    <a:lnTo>
                      <a:pt x="85" y="2544"/>
                    </a:lnTo>
                    <a:lnTo>
                      <a:pt x="66" y="2441"/>
                    </a:lnTo>
                    <a:lnTo>
                      <a:pt x="52" y="2337"/>
                    </a:lnTo>
                    <a:lnTo>
                      <a:pt x="45" y="2232"/>
                    </a:lnTo>
                    <a:lnTo>
                      <a:pt x="41" y="2125"/>
                    </a:lnTo>
                    <a:lnTo>
                      <a:pt x="45" y="2018"/>
                    </a:lnTo>
                    <a:lnTo>
                      <a:pt x="52" y="1912"/>
                    </a:lnTo>
                    <a:lnTo>
                      <a:pt x="66" y="1807"/>
                    </a:lnTo>
                    <a:lnTo>
                      <a:pt x="85" y="1705"/>
                    </a:lnTo>
                    <a:lnTo>
                      <a:pt x="107" y="1604"/>
                    </a:lnTo>
                    <a:lnTo>
                      <a:pt x="135" y="1505"/>
                    </a:lnTo>
                    <a:lnTo>
                      <a:pt x="168" y="1409"/>
                    </a:lnTo>
                    <a:lnTo>
                      <a:pt x="206" y="1314"/>
                    </a:lnTo>
                    <a:lnTo>
                      <a:pt x="247" y="1222"/>
                    </a:lnTo>
                    <a:lnTo>
                      <a:pt x="293" y="1132"/>
                    </a:lnTo>
                    <a:lnTo>
                      <a:pt x="343" y="1045"/>
                    </a:lnTo>
                    <a:lnTo>
                      <a:pt x="398" y="960"/>
                    </a:lnTo>
                    <a:lnTo>
                      <a:pt x="455" y="878"/>
                    </a:lnTo>
                    <a:lnTo>
                      <a:pt x="518" y="800"/>
                    </a:lnTo>
                    <a:lnTo>
                      <a:pt x="583" y="724"/>
                    </a:lnTo>
                    <a:lnTo>
                      <a:pt x="652" y="652"/>
                    </a:lnTo>
                    <a:lnTo>
                      <a:pt x="724" y="582"/>
                    </a:lnTo>
                    <a:lnTo>
                      <a:pt x="800" y="518"/>
                    </a:lnTo>
                    <a:lnTo>
                      <a:pt x="879" y="456"/>
                    </a:lnTo>
                    <a:lnTo>
                      <a:pt x="960" y="398"/>
                    </a:lnTo>
                    <a:lnTo>
                      <a:pt x="1045" y="344"/>
                    </a:lnTo>
                    <a:lnTo>
                      <a:pt x="1132" y="293"/>
                    </a:lnTo>
                    <a:lnTo>
                      <a:pt x="1222" y="248"/>
                    </a:lnTo>
                    <a:lnTo>
                      <a:pt x="1314" y="206"/>
                    </a:lnTo>
                    <a:lnTo>
                      <a:pt x="1409" y="169"/>
                    </a:lnTo>
                    <a:lnTo>
                      <a:pt x="1505" y="135"/>
                    </a:lnTo>
                    <a:lnTo>
                      <a:pt x="1605" y="107"/>
                    </a:lnTo>
                    <a:lnTo>
                      <a:pt x="1705" y="85"/>
                    </a:lnTo>
                    <a:lnTo>
                      <a:pt x="1808" y="66"/>
                    </a:lnTo>
                    <a:lnTo>
                      <a:pt x="1912" y="53"/>
                    </a:lnTo>
                    <a:lnTo>
                      <a:pt x="2018" y="45"/>
                    </a:lnTo>
                    <a:lnTo>
                      <a:pt x="2125" y="42"/>
                    </a:lnTo>
                    <a:lnTo>
                      <a:pt x="2233" y="45"/>
                    </a:lnTo>
                    <a:lnTo>
                      <a:pt x="2339" y="53"/>
                    </a:lnTo>
                    <a:lnTo>
                      <a:pt x="2442" y="66"/>
                    </a:lnTo>
                    <a:lnTo>
                      <a:pt x="2545" y="85"/>
                    </a:lnTo>
                    <a:lnTo>
                      <a:pt x="2645" y="107"/>
                    </a:lnTo>
                    <a:lnTo>
                      <a:pt x="2745" y="135"/>
                    </a:lnTo>
                    <a:lnTo>
                      <a:pt x="2841" y="169"/>
                    </a:lnTo>
                    <a:lnTo>
                      <a:pt x="2936" y="206"/>
                    </a:lnTo>
                    <a:lnTo>
                      <a:pt x="3028" y="248"/>
                    </a:lnTo>
                    <a:lnTo>
                      <a:pt x="3118" y="293"/>
                    </a:lnTo>
                    <a:lnTo>
                      <a:pt x="3205" y="344"/>
                    </a:lnTo>
                    <a:lnTo>
                      <a:pt x="3289" y="398"/>
                    </a:lnTo>
                    <a:lnTo>
                      <a:pt x="3372" y="456"/>
                    </a:lnTo>
                    <a:lnTo>
                      <a:pt x="3450" y="518"/>
                    </a:lnTo>
                    <a:lnTo>
                      <a:pt x="3526" y="582"/>
                    </a:lnTo>
                    <a:lnTo>
                      <a:pt x="3598" y="652"/>
                    </a:lnTo>
                    <a:lnTo>
                      <a:pt x="3668" y="724"/>
                    </a:lnTo>
                    <a:lnTo>
                      <a:pt x="3732" y="800"/>
                    </a:lnTo>
                    <a:lnTo>
                      <a:pt x="3795" y="878"/>
                    </a:lnTo>
                    <a:lnTo>
                      <a:pt x="3852" y="960"/>
                    </a:lnTo>
                    <a:lnTo>
                      <a:pt x="3906" y="1045"/>
                    </a:lnTo>
                    <a:lnTo>
                      <a:pt x="3957" y="1132"/>
                    </a:lnTo>
                    <a:lnTo>
                      <a:pt x="4003" y="1222"/>
                    </a:lnTo>
                    <a:lnTo>
                      <a:pt x="4045" y="1314"/>
                    </a:lnTo>
                    <a:lnTo>
                      <a:pt x="4083" y="1409"/>
                    </a:lnTo>
                    <a:lnTo>
                      <a:pt x="4115" y="1505"/>
                    </a:lnTo>
                    <a:lnTo>
                      <a:pt x="4143" y="1604"/>
                    </a:lnTo>
                    <a:lnTo>
                      <a:pt x="4166" y="1705"/>
                    </a:lnTo>
                    <a:lnTo>
                      <a:pt x="4184" y="1807"/>
                    </a:lnTo>
                    <a:lnTo>
                      <a:pt x="4198" y="1912"/>
                    </a:lnTo>
                    <a:lnTo>
                      <a:pt x="4206" y="2018"/>
                    </a:lnTo>
                    <a:lnTo>
                      <a:pt x="4209" y="2125"/>
                    </a:lnTo>
                    <a:lnTo>
                      <a:pt x="4208" y="2159"/>
                    </a:lnTo>
                    <a:lnTo>
                      <a:pt x="4208" y="2195"/>
                    </a:lnTo>
                    <a:lnTo>
                      <a:pt x="4206" y="2229"/>
                    </a:lnTo>
                    <a:lnTo>
                      <a:pt x="4204" y="2264"/>
                    </a:lnTo>
                    <a:lnTo>
                      <a:pt x="4201" y="2299"/>
                    </a:lnTo>
                    <a:lnTo>
                      <a:pt x="4198" y="2332"/>
                    </a:lnTo>
                    <a:lnTo>
                      <a:pt x="4195" y="2367"/>
                    </a:lnTo>
                    <a:lnTo>
                      <a:pt x="4191" y="2400"/>
                    </a:lnTo>
                    <a:lnTo>
                      <a:pt x="4185" y="2435"/>
                    </a:lnTo>
                    <a:lnTo>
                      <a:pt x="4180" y="2468"/>
                    </a:lnTo>
                    <a:lnTo>
                      <a:pt x="4174" y="2502"/>
                    </a:lnTo>
                    <a:lnTo>
                      <a:pt x="4168" y="2535"/>
                    </a:lnTo>
                    <a:lnTo>
                      <a:pt x="4161" y="2567"/>
                    </a:lnTo>
                    <a:lnTo>
                      <a:pt x="4154" y="2601"/>
                    </a:lnTo>
                    <a:lnTo>
                      <a:pt x="4145" y="2633"/>
                    </a:lnTo>
                    <a:lnTo>
                      <a:pt x="4138" y="2666"/>
                    </a:lnTo>
                    <a:lnTo>
                      <a:pt x="4178" y="2677"/>
                    </a:lnTo>
                    <a:lnTo>
                      <a:pt x="4186" y="2643"/>
                    </a:lnTo>
                    <a:lnTo>
                      <a:pt x="4194" y="2611"/>
                    </a:lnTo>
                    <a:lnTo>
                      <a:pt x="4201" y="2576"/>
                    </a:lnTo>
                    <a:lnTo>
                      <a:pt x="4209" y="2543"/>
                    </a:lnTo>
                    <a:lnTo>
                      <a:pt x="4215" y="2509"/>
                    </a:lnTo>
                    <a:lnTo>
                      <a:pt x="4221" y="2475"/>
                    </a:lnTo>
                    <a:lnTo>
                      <a:pt x="4226" y="2441"/>
                    </a:lnTo>
                    <a:lnTo>
                      <a:pt x="4232" y="2407"/>
                    </a:lnTo>
                    <a:lnTo>
                      <a:pt x="4236" y="2372"/>
                    </a:lnTo>
                    <a:lnTo>
                      <a:pt x="4239" y="2336"/>
                    </a:lnTo>
                    <a:lnTo>
                      <a:pt x="4242" y="2302"/>
                    </a:lnTo>
                    <a:lnTo>
                      <a:pt x="4246" y="2266"/>
                    </a:lnTo>
                    <a:lnTo>
                      <a:pt x="4248" y="2232"/>
                    </a:lnTo>
                    <a:lnTo>
                      <a:pt x="4249" y="2196"/>
                    </a:lnTo>
                    <a:lnTo>
                      <a:pt x="4250" y="2160"/>
                    </a:lnTo>
                    <a:lnTo>
                      <a:pt x="4250" y="2125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38600" y="2162160"/>
                <a:ext cx="1670040" cy="1670040"/>
              </a:xfrm>
              <a:custGeom>
                <a:avLst/>
                <a:gdLst/>
                <a:ahLst/>
                <a:rect l="l" t="t" r="r" b="b"/>
                <a:pathLst>
                  <a:path w="4209" h="4206">
                    <a:moveTo>
                      <a:pt x="4209" y="2104"/>
                    </a:moveTo>
                    <a:lnTo>
                      <a:pt x="4205" y="1996"/>
                    </a:lnTo>
                    <a:lnTo>
                      <a:pt x="4198" y="1889"/>
                    </a:lnTo>
                    <a:lnTo>
                      <a:pt x="4184" y="1783"/>
                    </a:lnTo>
                    <a:lnTo>
                      <a:pt x="4165" y="1679"/>
                    </a:lnTo>
                    <a:lnTo>
                      <a:pt x="4143" y="1578"/>
                    </a:lnTo>
                    <a:lnTo>
                      <a:pt x="4113" y="1478"/>
                    </a:lnTo>
                    <a:lnTo>
                      <a:pt x="4081" y="1380"/>
                    </a:lnTo>
                    <a:lnTo>
                      <a:pt x="4043" y="1285"/>
                    </a:lnTo>
                    <a:lnTo>
                      <a:pt x="4001" y="1191"/>
                    </a:lnTo>
                    <a:lnTo>
                      <a:pt x="3955" y="1101"/>
                    </a:lnTo>
                    <a:lnTo>
                      <a:pt x="3904" y="1013"/>
                    </a:lnTo>
                    <a:lnTo>
                      <a:pt x="3849" y="928"/>
                    </a:lnTo>
                    <a:lnTo>
                      <a:pt x="3790" y="845"/>
                    </a:lnTo>
                    <a:lnTo>
                      <a:pt x="3728" y="766"/>
                    </a:lnTo>
                    <a:lnTo>
                      <a:pt x="3662" y="689"/>
                    </a:lnTo>
                    <a:lnTo>
                      <a:pt x="3592" y="617"/>
                    </a:lnTo>
                    <a:lnTo>
                      <a:pt x="3519" y="546"/>
                    </a:lnTo>
                    <a:lnTo>
                      <a:pt x="3442" y="480"/>
                    </a:lnTo>
                    <a:lnTo>
                      <a:pt x="3364" y="418"/>
                    </a:lnTo>
                    <a:lnTo>
                      <a:pt x="3280" y="359"/>
                    </a:lnTo>
                    <a:lnTo>
                      <a:pt x="3195" y="304"/>
                    </a:lnTo>
                    <a:lnTo>
                      <a:pt x="3107" y="254"/>
                    </a:lnTo>
                    <a:lnTo>
                      <a:pt x="3017" y="207"/>
                    </a:lnTo>
                    <a:lnTo>
                      <a:pt x="2923" y="165"/>
                    </a:lnTo>
                    <a:lnTo>
                      <a:pt x="2828" y="127"/>
                    </a:lnTo>
                    <a:lnTo>
                      <a:pt x="2730" y="95"/>
                    </a:lnTo>
                    <a:lnTo>
                      <a:pt x="2630" y="67"/>
                    </a:lnTo>
                    <a:lnTo>
                      <a:pt x="2528" y="43"/>
                    </a:lnTo>
                    <a:lnTo>
                      <a:pt x="2425" y="25"/>
                    </a:lnTo>
                    <a:lnTo>
                      <a:pt x="2320" y="11"/>
                    </a:lnTo>
                    <a:lnTo>
                      <a:pt x="2213" y="3"/>
                    </a:lnTo>
                    <a:lnTo>
                      <a:pt x="2104" y="0"/>
                    </a:lnTo>
                    <a:lnTo>
                      <a:pt x="1996" y="3"/>
                    </a:lnTo>
                    <a:lnTo>
                      <a:pt x="1889" y="11"/>
                    </a:lnTo>
                    <a:lnTo>
                      <a:pt x="1784" y="25"/>
                    </a:lnTo>
                    <a:lnTo>
                      <a:pt x="1680" y="43"/>
                    </a:lnTo>
                    <a:lnTo>
                      <a:pt x="1579" y="67"/>
                    </a:lnTo>
                    <a:lnTo>
                      <a:pt x="1478" y="95"/>
                    </a:lnTo>
                    <a:lnTo>
                      <a:pt x="1381" y="127"/>
                    </a:lnTo>
                    <a:lnTo>
                      <a:pt x="1285" y="165"/>
                    </a:lnTo>
                    <a:lnTo>
                      <a:pt x="1192" y="207"/>
                    </a:lnTo>
                    <a:lnTo>
                      <a:pt x="1101" y="254"/>
                    </a:lnTo>
                    <a:lnTo>
                      <a:pt x="1013" y="304"/>
                    </a:lnTo>
                    <a:lnTo>
                      <a:pt x="928" y="359"/>
                    </a:lnTo>
                    <a:lnTo>
                      <a:pt x="845" y="418"/>
                    </a:lnTo>
                    <a:lnTo>
                      <a:pt x="766" y="480"/>
                    </a:lnTo>
                    <a:lnTo>
                      <a:pt x="689" y="546"/>
                    </a:lnTo>
                    <a:lnTo>
                      <a:pt x="616" y="617"/>
                    </a:lnTo>
                    <a:lnTo>
                      <a:pt x="547" y="689"/>
                    </a:lnTo>
                    <a:lnTo>
                      <a:pt x="481" y="766"/>
                    </a:lnTo>
                    <a:lnTo>
                      <a:pt x="418" y="845"/>
                    </a:lnTo>
                    <a:lnTo>
                      <a:pt x="360" y="928"/>
                    </a:lnTo>
                    <a:lnTo>
                      <a:pt x="305" y="1013"/>
                    </a:lnTo>
                    <a:lnTo>
                      <a:pt x="254" y="1101"/>
                    </a:lnTo>
                    <a:lnTo>
                      <a:pt x="207" y="1191"/>
                    </a:lnTo>
                    <a:lnTo>
                      <a:pt x="165" y="1285"/>
                    </a:lnTo>
                    <a:lnTo>
                      <a:pt x="127" y="1380"/>
                    </a:lnTo>
                    <a:lnTo>
                      <a:pt x="95" y="1478"/>
                    </a:lnTo>
                    <a:lnTo>
                      <a:pt x="66" y="1578"/>
                    </a:lnTo>
                    <a:lnTo>
                      <a:pt x="43" y="1679"/>
                    </a:lnTo>
                    <a:lnTo>
                      <a:pt x="24" y="1783"/>
                    </a:lnTo>
                    <a:lnTo>
                      <a:pt x="11" y="1889"/>
                    </a:lnTo>
                    <a:lnTo>
                      <a:pt x="3" y="1996"/>
                    </a:lnTo>
                    <a:lnTo>
                      <a:pt x="0" y="2104"/>
                    </a:lnTo>
                    <a:lnTo>
                      <a:pt x="3" y="2212"/>
                    </a:lnTo>
                    <a:lnTo>
                      <a:pt x="11" y="2319"/>
                    </a:lnTo>
                    <a:lnTo>
                      <a:pt x="24" y="2423"/>
                    </a:lnTo>
                    <a:lnTo>
                      <a:pt x="43" y="2527"/>
                    </a:lnTo>
                    <a:lnTo>
                      <a:pt x="66" y="2629"/>
                    </a:lnTo>
                    <a:lnTo>
                      <a:pt x="95" y="2729"/>
                    </a:lnTo>
                    <a:lnTo>
                      <a:pt x="127" y="2826"/>
                    </a:lnTo>
                    <a:lnTo>
                      <a:pt x="165" y="2922"/>
                    </a:lnTo>
                    <a:lnTo>
                      <a:pt x="207" y="3015"/>
                    </a:lnTo>
                    <a:lnTo>
                      <a:pt x="254" y="3106"/>
                    </a:lnTo>
                    <a:lnTo>
                      <a:pt x="305" y="3194"/>
                    </a:lnTo>
                    <a:lnTo>
                      <a:pt x="360" y="3280"/>
                    </a:lnTo>
                    <a:lnTo>
                      <a:pt x="418" y="3362"/>
                    </a:lnTo>
                    <a:lnTo>
                      <a:pt x="481" y="3442"/>
                    </a:lnTo>
                    <a:lnTo>
                      <a:pt x="547" y="3517"/>
                    </a:lnTo>
                    <a:lnTo>
                      <a:pt x="616" y="3591"/>
                    </a:lnTo>
                    <a:lnTo>
                      <a:pt x="689" y="3660"/>
                    </a:lnTo>
                    <a:lnTo>
                      <a:pt x="766" y="3727"/>
                    </a:lnTo>
                    <a:lnTo>
                      <a:pt x="845" y="3788"/>
                    </a:lnTo>
                    <a:lnTo>
                      <a:pt x="928" y="3848"/>
                    </a:lnTo>
                    <a:lnTo>
                      <a:pt x="1013" y="3902"/>
                    </a:lnTo>
                    <a:lnTo>
                      <a:pt x="1101" y="3953"/>
                    </a:lnTo>
                    <a:lnTo>
                      <a:pt x="1192" y="3999"/>
                    </a:lnTo>
                    <a:lnTo>
                      <a:pt x="1285" y="4041"/>
                    </a:lnTo>
                    <a:lnTo>
                      <a:pt x="1381" y="4079"/>
                    </a:lnTo>
                    <a:lnTo>
                      <a:pt x="1478" y="4112"/>
                    </a:lnTo>
                    <a:lnTo>
                      <a:pt x="1579" y="4141"/>
                    </a:lnTo>
                    <a:lnTo>
                      <a:pt x="1680" y="4164"/>
                    </a:lnTo>
                    <a:lnTo>
                      <a:pt x="1784" y="4183"/>
                    </a:lnTo>
                    <a:lnTo>
                      <a:pt x="1889" y="4196"/>
                    </a:lnTo>
                    <a:lnTo>
                      <a:pt x="1996" y="4204"/>
                    </a:lnTo>
                    <a:lnTo>
                      <a:pt x="2104" y="4206"/>
                    </a:lnTo>
                    <a:lnTo>
                      <a:pt x="2166" y="4205"/>
                    </a:lnTo>
                    <a:lnTo>
                      <a:pt x="2228" y="4203"/>
                    </a:lnTo>
                    <a:lnTo>
                      <a:pt x="2288" y="4199"/>
                    </a:lnTo>
                    <a:lnTo>
                      <a:pt x="2349" y="4192"/>
                    </a:lnTo>
                    <a:lnTo>
                      <a:pt x="2408" y="4185"/>
                    </a:lnTo>
                    <a:lnTo>
                      <a:pt x="2468" y="4175"/>
                    </a:lnTo>
                    <a:lnTo>
                      <a:pt x="2527" y="4164"/>
                    </a:lnTo>
                    <a:lnTo>
                      <a:pt x="2586" y="4151"/>
                    </a:lnTo>
                    <a:lnTo>
                      <a:pt x="2643" y="4137"/>
                    </a:lnTo>
                    <a:lnTo>
                      <a:pt x="2700" y="4121"/>
                    </a:lnTo>
                    <a:lnTo>
                      <a:pt x="2756" y="4104"/>
                    </a:lnTo>
                    <a:lnTo>
                      <a:pt x="2811" y="4084"/>
                    </a:lnTo>
                    <a:lnTo>
                      <a:pt x="2867" y="4064"/>
                    </a:lnTo>
                    <a:lnTo>
                      <a:pt x="2921" y="4042"/>
                    </a:lnTo>
                    <a:lnTo>
                      <a:pt x="2975" y="4019"/>
                    </a:lnTo>
                    <a:lnTo>
                      <a:pt x="3026" y="3994"/>
                    </a:lnTo>
                    <a:lnTo>
                      <a:pt x="3008" y="3957"/>
                    </a:lnTo>
                    <a:lnTo>
                      <a:pt x="2957" y="3981"/>
                    </a:lnTo>
                    <a:lnTo>
                      <a:pt x="2904" y="4003"/>
                    </a:lnTo>
                    <a:lnTo>
                      <a:pt x="2851" y="4025"/>
                    </a:lnTo>
                    <a:lnTo>
                      <a:pt x="2797" y="4046"/>
                    </a:lnTo>
                    <a:lnTo>
                      <a:pt x="2743" y="4064"/>
                    </a:lnTo>
                    <a:lnTo>
                      <a:pt x="2688" y="4081"/>
                    </a:lnTo>
                    <a:lnTo>
                      <a:pt x="2632" y="4097"/>
                    </a:lnTo>
                    <a:lnTo>
                      <a:pt x="2576" y="4111"/>
                    </a:lnTo>
                    <a:lnTo>
                      <a:pt x="2519" y="4123"/>
                    </a:lnTo>
                    <a:lnTo>
                      <a:pt x="2461" y="4134"/>
                    </a:lnTo>
                    <a:lnTo>
                      <a:pt x="2403" y="4144"/>
                    </a:lnTo>
                    <a:lnTo>
                      <a:pt x="2344" y="4151"/>
                    </a:lnTo>
                    <a:lnTo>
                      <a:pt x="2285" y="4157"/>
                    </a:lnTo>
                    <a:lnTo>
                      <a:pt x="2225" y="4161"/>
                    </a:lnTo>
                    <a:lnTo>
                      <a:pt x="2165" y="4164"/>
                    </a:lnTo>
                    <a:lnTo>
                      <a:pt x="2104" y="4165"/>
                    </a:lnTo>
                    <a:lnTo>
                      <a:pt x="1998" y="4162"/>
                    </a:lnTo>
                    <a:lnTo>
                      <a:pt x="1893" y="4155"/>
                    </a:lnTo>
                    <a:lnTo>
                      <a:pt x="1790" y="4142"/>
                    </a:lnTo>
                    <a:lnTo>
                      <a:pt x="1689" y="4123"/>
                    </a:lnTo>
                    <a:lnTo>
                      <a:pt x="1588" y="4101"/>
                    </a:lnTo>
                    <a:lnTo>
                      <a:pt x="1491" y="4073"/>
                    </a:lnTo>
                    <a:lnTo>
                      <a:pt x="1395" y="4040"/>
                    </a:lnTo>
                    <a:lnTo>
                      <a:pt x="1302" y="4003"/>
                    </a:lnTo>
                    <a:lnTo>
                      <a:pt x="1210" y="3961"/>
                    </a:lnTo>
                    <a:lnTo>
                      <a:pt x="1121" y="3916"/>
                    </a:lnTo>
                    <a:lnTo>
                      <a:pt x="1035" y="3866"/>
                    </a:lnTo>
                    <a:lnTo>
                      <a:pt x="951" y="3813"/>
                    </a:lnTo>
                    <a:lnTo>
                      <a:pt x="870" y="3755"/>
                    </a:lnTo>
                    <a:lnTo>
                      <a:pt x="792" y="3695"/>
                    </a:lnTo>
                    <a:lnTo>
                      <a:pt x="717" y="3630"/>
                    </a:lnTo>
                    <a:lnTo>
                      <a:pt x="646" y="3562"/>
                    </a:lnTo>
                    <a:lnTo>
                      <a:pt x="578" y="3489"/>
                    </a:lnTo>
                    <a:lnTo>
                      <a:pt x="513" y="3415"/>
                    </a:lnTo>
                    <a:lnTo>
                      <a:pt x="452" y="3337"/>
                    </a:lnTo>
                    <a:lnTo>
                      <a:pt x="394" y="3256"/>
                    </a:lnTo>
                    <a:lnTo>
                      <a:pt x="340" y="3173"/>
                    </a:lnTo>
                    <a:lnTo>
                      <a:pt x="291" y="3086"/>
                    </a:lnTo>
                    <a:lnTo>
                      <a:pt x="245" y="2997"/>
                    </a:lnTo>
                    <a:lnTo>
                      <a:pt x="204" y="2906"/>
                    </a:lnTo>
                    <a:lnTo>
                      <a:pt x="166" y="2812"/>
                    </a:lnTo>
                    <a:lnTo>
                      <a:pt x="134" y="2716"/>
                    </a:lnTo>
                    <a:lnTo>
                      <a:pt x="107" y="2619"/>
                    </a:lnTo>
                    <a:lnTo>
                      <a:pt x="83" y="2518"/>
                    </a:lnTo>
                    <a:lnTo>
                      <a:pt x="66" y="2417"/>
                    </a:lnTo>
                    <a:lnTo>
                      <a:pt x="52" y="2314"/>
                    </a:lnTo>
                    <a:lnTo>
                      <a:pt x="44" y="2210"/>
                    </a:lnTo>
                    <a:lnTo>
                      <a:pt x="42" y="2104"/>
                    </a:lnTo>
                    <a:lnTo>
                      <a:pt x="44" y="1998"/>
                    </a:lnTo>
                    <a:lnTo>
                      <a:pt x="52" y="1893"/>
                    </a:lnTo>
                    <a:lnTo>
                      <a:pt x="66" y="1789"/>
                    </a:lnTo>
                    <a:lnTo>
                      <a:pt x="83" y="1688"/>
                    </a:lnTo>
                    <a:lnTo>
                      <a:pt x="107" y="1589"/>
                    </a:lnTo>
                    <a:lnTo>
                      <a:pt x="134" y="1490"/>
                    </a:lnTo>
                    <a:lnTo>
                      <a:pt x="166" y="1394"/>
                    </a:lnTo>
                    <a:lnTo>
                      <a:pt x="204" y="1301"/>
                    </a:lnTo>
                    <a:lnTo>
                      <a:pt x="245" y="1209"/>
                    </a:lnTo>
                    <a:lnTo>
                      <a:pt x="291" y="1121"/>
                    </a:lnTo>
                    <a:lnTo>
                      <a:pt x="340" y="1034"/>
                    </a:lnTo>
                    <a:lnTo>
                      <a:pt x="394" y="951"/>
                    </a:lnTo>
                    <a:lnTo>
                      <a:pt x="452" y="870"/>
                    </a:lnTo>
                    <a:lnTo>
                      <a:pt x="513" y="793"/>
                    </a:lnTo>
                    <a:lnTo>
                      <a:pt x="578" y="717"/>
                    </a:lnTo>
                    <a:lnTo>
                      <a:pt x="646" y="646"/>
                    </a:lnTo>
                    <a:lnTo>
                      <a:pt x="717" y="578"/>
                    </a:lnTo>
                    <a:lnTo>
                      <a:pt x="792" y="513"/>
                    </a:lnTo>
                    <a:lnTo>
                      <a:pt x="870" y="451"/>
                    </a:lnTo>
                    <a:lnTo>
                      <a:pt x="951" y="394"/>
                    </a:lnTo>
                    <a:lnTo>
                      <a:pt x="1035" y="340"/>
                    </a:lnTo>
                    <a:lnTo>
                      <a:pt x="1121" y="290"/>
                    </a:lnTo>
                    <a:lnTo>
                      <a:pt x="1210" y="245"/>
                    </a:lnTo>
                    <a:lnTo>
                      <a:pt x="1302" y="204"/>
                    </a:lnTo>
                    <a:lnTo>
                      <a:pt x="1395" y="167"/>
                    </a:lnTo>
                    <a:lnTo>
                      <a:pt x="1491" y="135"/>
                    </a:lnTo>
                    <a:lnTo>
                      <a:pt x="1588" y="107"/>
                    </a:lnTo>
                    <a:lnTo>
                      <a:pt x="1689" y="84"/>
                    </a:lnTo>
                    <a:lnTo>
                      <a:pt x="1790" y="66"/>
                    </a:lnTo>
                    <a:lnTo>
                      <a:pt x="1893" y="53"/>
                    </a:lnTo>
                    <a:lnTo>
                      <a:pt x="1998" y="44"/>
                    </a:lnTo>
                    <a:lnTo>
                      <a:pt x="2104" y="42"/>
                    </a:lnTo>
                    <a:lnTo>
                      <a:pt x="2211" y="44"/>
                    </a:lnTo>
                    <a:lnTo>
                      <a:pt x="2315" y="53"/>
                    </a:lnTo>
                    <a:lnTo>
                      <a:pt x="2418" y="66"/>
                    </a:lnTo>
                    <a:lnTo>
                      <a:pt x="2520" y="84"/>
                    </a:lnTo>
                    <a:lnTo>
                      <a:pt x="2619" y="107"/>
                    </a:lnTo>
                    <a:lnTo>
                      <a:pt x="2717" y="135"/>
                    </a:lnTo>
                    <a:lnTo>
                      <a:pt x="2814" y="167"/>
                    </a:lnTo>
                    <a:lnTo>
                      <a:pt x="2906" y="204"/>
                    </a:lnTo>
                    <a:lnTo>
                      <a:pt x="2998" y="245"/>
                    </a:lnTo>
                    <a:lnTo>
                      <a:pt x="3087" y="290"/>
                    </a:lnTo>
                    <a:lnTo>
                      <a:pt x="3173" y="340"/>
                    </a:lnTo>
                    <a:lnTo>
                      <a:pt x="3258" y="394"/>
                    </a:lnTo>
                    <a:lnTo>
                      <a:pt x="3339" y="451"/>
                    </a:lnTo>
                    <a:lnTo>
                      <a:pt x="3416" y="513"/>
                    </a:lnTo>
                    <a:lnTo>
                      <a:pt x="3491" y="578"/>
                    </a:lnTo>
                    <a:lnTo>
                      <a:pt x="3562" y="646"/>
                    </a:lnTo>
                    <a:lnTo>
                      <a:pt x="3630" y="717"/>
                    </a:lnTo>
                    <a:lnTo>
                      <a:pt x="3695" y="793"/>
                    </a:lnTo>
                    <a:lnTo>
                      <a:pt x="3757" y="870"/>
                    </a:lnTo>
                    <a:lnTo>
                      <a:pt x="3814" y="951"/>
                    </a:lnTo>
                    <a:lnTo>
                      <a:pt x="3868" y="1034"/>
                    </a:lnTo>
                    <a:lnTo>
                      <a:pt x="3918" y="1121"/>
                    </a:lnTo>
                    <a:lnTo>
                      <a:pt x="3963" y="1209"/>
                    </a:lnTo>
                    <a:lnTo>
                      <a:pt x="4004" y="1301"/>
                    </a:lnTo>
                    <a:lnTo>
                      <a:pt x="4041" y="1394"/>
                    </a:lnTo>
                    <a:lnTo>
                      <a:pt x="4075" y="1490"/>
                    </a:lnTo>
                    <a:lnTo>
                      <a:pt x="4102" y="1589"/>
                    </a:lnTo>
                    <a:lnTo>
                      <a:pt x="4125" y="1688"/>
                    </a:lnTo>
                    <a:lnTo>
                      <a:pt x="4143" y="1789"/>
                    </a:lnTo>
                    <a:lnTo>
                      <a:pt x="4156" y="1893"/>
                    </a:lnTo>
                    <a:lnTo>
                      <a:pt x="4164" y="1998"/>
                    </a:lnTo>
                    <a:lnTo>
                      <a:pt x="4166" y="2104"/>
                    </a:lnTo>
                    <a:lnTo>
                      <a:pt x="4166" y="2138"/>
                    </a:lnTo>
                    <a:lnTo>
                      <a:pt x="4165" y="2173"/>
                    </a:lnTo>
                    <a:lnTo>
                      <a:pt x="4164" y="2207"/>
                    </a:lnTo>
                    <a:lnTo>
                      <a:pt x="4162" y="2241"/>
                    </a:lnTo>
                    <a:lnTo>
                      <a:pt x="4160" y="2275"/>
                    </a:lnTo>
                    <a:lnTo>
                      <a:pt x="4157" y="2309"/>
                    </a:lnTo>
                    <a:lnTo>
                      <a:pt x="4152" y="2343"/>
                    </a:lnTo>
                    <a:lnTo>
                      <a:pt x="4149" y="2377"/>
                    </a:lnTo>
                    <a:lnTo>
                      <a:pt x="4144" y="2410"/>
                    </a:lnTo>
                    <a:lnTo>
                      <a:pt x="4138" y="2444"/>
                    </a:lnTo>
                    <a:lnTo>
                      <a:pt x="4133" y="2476"/>
                    </a:lnTo>
                    <a:lnTo>
                      <a:pt x="4126" y="2510"/>
                    </a:lnTo>
                    <a:lnTo>
                      <a:pt x="4112" y="2575"/>
                    </a:lnTo>
                    <a:lnTo>
                      <a:pt x="4096" y="2639"/>
                    </a:lnTo>
                    <a:lnTo>
                      <a:pt x="4136" y="2650"/>
                    </a:lnTo>
                    <a:lnTo>
                      <a:pt x="4145" y="2618"/>
                    </a:lnTo>
                    <a:lnTo>
                      <a:pt x="4153" y="2584"/>
                    </a:lnTo>
                    <a:lnTo>
                      <a:pt x="4161" y="2551"/>
                    </a:lnTo>
                    <a:lnTo>
                      <a:pt x="4167" y="2517"/>
                    </a:lnTo>
                    <a:lnTo>
                      <a:pt x="4174" y="2484"/>
                    </a:lnTo>
                    <a:lnTo>
                      <a:pt x="4179" y="2450"/>
                    </a:lnTo>
                    <a:lnTo>
                      <a:pt x="4185" y="2417"/>
                    </a:lnTo>
                    <a:lnTo>
                      <a:pt x="4190" y="2382"/>
                    </a:lnTo>
                    <a:lnTo>
                      <a:pt x="4194" y="2348"/>
                    </a:lnTo>
                    <a:lnTo>
                      <a:pt x="4198" y="2313"/>
                    </a:lnTo>
                    <a:lnTo>
                      <a:pt x="4201" y="2279"/>
                    </a:lnTo>
                    <a:lnTo>
                      <a:pt x="4204" y="2244"/>
                    </a:lnTo>
                    <a:lnTo>
                      <a:pt x="4205" y="2210"/>
                    </a:lnTo>
                    <a:lnTo>
                      <a:pt x="4207" y="2174"/>
                    </a:lnTo>
                    <a:lnTo>
                      <a:pt x="4209" y="2139"/>
                    </a:lnTo>
                    <a:lnTo>
                      <a:pt x="4209" y="2104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746520" y="2171520"/>
                <a:ext cx="1654200" cy="1652760"/>
              </a:xfrm>
              <a:custGeom>
                <a:avLst/>
                <a:gdLst/>
                <a:ahLst/>
                <a:rect l="l" t="t" r="r" b="b"/>
                <a:pathLst>
                  <a:path w="4168" h="4165">
                    <a:moveTo>
                      <a:pt x="4168" y="2083"/>
                    </a:moveTo>
                    <a:lnTo>
                      <a:pt x="4165" y="1976"/>
                    </a:lnTo>
                    <a:lnTo>
                      <a:pt x="4157" y="1870"/>
                    </a:lnTo>
                    <a:lnTo>
                      <a:pt x="4143" y="1765"/>
                    </a:lnTo>
                    <a:lnTo>
                      <a:pt x="4125" y="1663"/>
                    </a:lnTo>
                    <a:lnTo>
                      <a:pt x="4102" y="1562"/>
                    </a:lnTo>
                    <a:lnTo>
                      <a:pt x="4074" y="1463"/>
                    </a:lnTo>
                    <a:lnTo>
                      <a:pt x="4042" y="1367"/>
                    </a:lnTo>
                    <a:lnTo>
                      <a:pt x="4004" y="1272"/>
                    </a:lnTo>
                    <a:lnTo>
                      <a:pt x="3962" y="1180"/>
                    </a:lnTo>
                    <a:lnTo>
                      <a:pt x="3916" y="1090"/>
                    </a:lnTo>
                    <a:lnTo>
                      <a:pt x="3865" y="1003"/>
                    </a:lnTo>
                    <a:lnTo>
                      <a:pt x="3811" y="918"/>
                    </a:lnTo>
                    <a:lnTo>
                      <a:pt x="3754" y="836"/>
                    </a:lnTo>
                    <a:lnTo>
                      <a:pt x="3691" y="758"/>
                    </a:lnTo>
                    <a:lnTo>
                      <a:pt x="3627" y="682"/>
                    </a:lnTo>
                    <a:lnTo>
                      <a:pt x="3557" y="610"/>
                    </a:lnTo>
                    <a:lnTo>
                      <a:pt x="3485" y="540"/>
                    </a:lnTo>
                    <a:lnTo>
                      <a:pt x="3409" y="476"/>
                    </a:lnTo>
                    <a:lnTo>
                      <a:pt x="3331" y="414"/>
                    </a:lnTo>
                    <a:lnTo>
                      <a:pt x="3248" y="356"/>
                    </a:lnTo>
                    <a:lnTo>
                      <a:pt x="3164" y="302"/>
                    </a:lnTo>
                    <a:lnTo>
                      <a:pt x="3077" y="251"/>
                    </a:lnTo>
                    <a:lnTo>
                      <a:pt x="2987" y="206"/>
                    </a:lnTo>
                    <a:lnTo>
                      <a:pt x="2895" y="164"/>
                    </a:lnTo>
                    <a:lnTo>
                      <a:pt x="2800" y="127"/>
                    </a:lnTo>
                    <a:lnTo>
                      <a:pt x="2704" y="93"/>
                    </a:lnTo>
                    <a:lnTo>
                      <a:pt x="2604" y="65"/>
                    </a:lnTo>
                    <a:lnTo>
                      <a:pt x="2504" y="43"/>
                    </a:lnTo>
                    <a:lnTo>
                      <a:pt x="2401" y="24"/>
                    </a:lnTo>
                    <a:lnTo>
                      <a:pt x="2298" y="11"/>
                    </a:lnTo>
                    <a:lnTo>
                      <a:pt x="2192" y="3"/>
                    </a:lnTo>
                    <a:lnTo>
                      <a:pt x="2084" y="0"/>
                    </a:lnTo>
                    <a:lnTo>
                      <a:pt x="1977" y="3"/>
                    </a:lnTo>
                    <a:lnTo>
                      <a:pt x="1871" y="11"/>
                    </a:lnTo>
                    <a:lnTo>
                      <a:pt x="1767" y="24"/>
                    </a:lnTo>
                    <a:lnTo>
                      <a:pt x="1664" y="43"/>
                    </a:lnTo>
                    <a:lnTo>
                      <a:pt x="1564" y="65"/>
                    </a:lnTo>
                    <a:lnTo>
                      <a:pt x="1464" y="93"/>
                    </a:lnTo>
                    <a:lnTo>
                      <a:pt x="1368" y="127"/>
                    </a:lnTo>
                    <a:lnTo>
                      <a:pt x="1273" y="164"/>
                    </a:lnTo>
                    <a:lnTo>
                      <a:pt x="1181" y="206"/>
                    </a:lnTo>
                    <a:lnTo>
                      <a:pt x="1091" y="251"/>
                    </a:lnTo>
                    <a:lnTo>
                      <a:pt x="1004" y="302"/>
                    </a:lnTo>
                    <a:lnTo>
                      <a:pt x="919" y="356"/>
                    </a:lnTo>
                    <a:lnTo>
                      <a:pt x="838" y="414"/>
                    </a:lnTo>
                    <a:lnTo>
                      <a:pt x="759" y="476"/>
                    </a:lnTo>
                    <a:lnTo>
                      <a:pt x="683" y="540"/>
                    </a:lnTo>
                    <a:lnTo>
                      <a:pt x="611" y="610"/>
                    </a:lnTo>
                    <a:lnTo>
                      <a:pt x="542" y="682"/>
                    </a:lnTo>
                    <a:lnTo>
                      <a:pt x="477" y="758"/>
                    </a:lnTo>
                    <a:lnTo>
                      <a:pt x="414" y="836"/>
                    </a:lnTo>
                    <a:lnTo>
                      <a:pt x="357" y="918"/>
                    </a:lnTo>
                    <a:lnTo>
                      <a:pt x="302" y="1003"/>
                    </a:lnTo>
                    <a:lnTo>
                      <a:pt x="252" y="1090"/>
                    </a:lnTo>
                    <a:lnTo>
                      <a:pt x="206" y="1180"/>
                    </a:lnTo>
                    <a:lnTo>
                      <a:pt x="165" y="1272"/>
                    </a:lnTo>
                    <a:lnTo>
                      <a:pt x="127" y="1367"/>
                    </a:lnTo>
                    <a:lnTo>
                      <a:pt x="94" y="1463"/>
                    </a:lnTo>
                    <a:lnTo>
                      <a:pt x="66" y="1562"/>
                    </a:lnTo>
                    <a:lnTo>
                      <a:pt x="44" y="1663"/>
                    </a:lnTo>
                    <a:lnTo>
                      <a:pt x="25" y="1765"/>
                    </a:lnTo>
                    <a:lnTo>
                      <a:pt x="11" y="1870"/>
                    </a:lnTo>
                    <a:lnTo>
                      <a:pt x="4" y="1976"/>
                    </a:lnTo>
                    <a:lnTo>
                      <a:pt x="0" y="2083"/>
                    </a:lnTo>
                    <a:lnTo>
                      <a:pt x="4" y="2190"/>
                    </a:lnTo>
                    <a:lnTo>
                      <a:pt x="11" y="2295"/>
                    </a:lnTo>
                    <a:lnTo>
                      <a:pt x="25" y="2399"/>
                    </a:lnTo>
                    <a:lnTo>
                      <a:pt x="44" y="2502"/>
                    </a:lnTo>
                    <a:lnTo>
                      <a:pt x="66" y="2603"/>
                    </a:lnTo>
                    <a:lnTo>
                      <a:pt x="94" y="2702"/>
                    </a:lnTo>
                    <a:lnTo>
                      <a:pt x="127" y="2799"/>
                    </a:lnTo>
                    <a:lnTo>
                      <a:pt x="165" y="2893"/>
                    </a:lnTo>
                    <a:lnTo>
                      <a:pt x="206" y="2986"/>
                    </a:lnTo>
                    <a:lnTo>
                      <a:pt x="252" y="3075"/>
                    </a:lnTo>
                    <a:lnTo>
                      <a:pt x="302" y="3163"/>
                    </a:lnTo>
                    <a:lnTo>
                      <a:pt x="357" y="3247"/>
                    </a:lnTo>
                    <a:lnTo>
                      <a:pt x="414" y="3328"/>
                    </a:lnTo>
                    <a:lnTo>
                      <a:pt x="477" y="3407"/>
                    </a:lnTo>
                    <a:lnTo>
                      <a:pt x="542" y="3482"/>
                    </a:lnTo>
                    <a:lnTo>
                      <a:pt x="611" y="3555"/>
                    </a:lnTo>
                    <a:lnTo>
                      <a:pt x="683" y="3624"/>
                    </a:lnTo>
                    <a:lnTo>
                      <a:pt x="759" y="3690"/>
                    </a:lnTo>
                    <a:lnTo>
                      <a:pt x="838" y="3751"/>
                    </a:lnTo>
                    <a:lnTo>
                      <a:pt x="919" y="3810"/>
                    </a:lnTo>
                    <a:lnTo>
                      <a:pt x="1004" y="3864"/>
                    </a:lnTo>
                    <a:lnTo>
                      <a:pt x="1091" y="3913"/>
                    </a:lnTo>
                    <a:lnTo>
                      <a:pt x="1181" y="3960"/>
                    </a:lnTo>
                    <a:lnTo>
                      <a:pt x="1273" y="4001"/>
                    </a:lnTo>
                    <a:lnTo>
                      <a:pt x="1368" y="4039"/>
                    </a:lnTo>
                    <a:lnTo>
                      <a:pt x="1464" y="4071"/>
                    </a:lnTo>
                    <a:lnTo>
                      <a:pt x="1564" y="4099"/>
                    </a:lnTo>
                    <a:lnTo>
                      <a:pt x="1664" y="4123"/>
                    </a:lnTo>
                    <a:lnTo>
                      <a:pt x="1767" y="4141"/>
                    </a:lnTo>
                    <a:lnTo>
                      <a:pt x="1871" y="4154"/>
                    </a:lnTo>
                    <a:lnTo>
                      <a:pt x="1977" y="4162"/>
                    </a:lnTo>
                    <a:lnTo>
                      <a:pt x="2084" y="4165"/>
                    </a:lnTo>
                    <a:lnTo>
                      <a:pt x="2145" y="4164"/>
                    </a:lnTo>
                    <a:lnTo>
                      <a:pt x="2206" y="4162"/>
                    </a:lnTo>
                    <a:lnTo>
                      <a:pt x="2266" y="4157"/>
                    </a:lnTo>
                    <a:lnTo>
                      <a:pt x="2327" y="4151"/>
                    </a:lnTo>
                    <a:lnTo>
                      <a:pt x="2385" y="4143"/>
                    </a:lnTo>
                    <a:lnTo>
                      <a:pt x="2445" y="4134"/>
                    </a:lnTo>
                    <a:lnTo>
                      <a:pt x="2503" y="4123"/>
                    </a:lnTo>
                    <a:lnTo>
                      <a:pt x="2560" y="4110"/>
                    </a:lnTo>
                    <a:lnTo>
                      <a:pt x="2617" y="4096"/>
                    </a:lnTo>
                    <a:lnTo>
                      <a:pt x="2674" y="4081"/>
                    </a:lnTo>
                    <a:lnTo>
                      <a:pt x="2730" y="4063"/>
                    </a:lnTo>
                    <a:lnTo>
                      <a:pt x="2785" y="4044"/>
                    </a:lnTo>
                    <a:lnTo>
                      <a:pt x="2839" y="4023"/>
                    </a:lnTo>
                    <a:lnTo>
                      <a:pt x="2893" y="4002"/>
                    </a:lnTo>
                    <a:lnTo>
                      <a:pt x="2946" y="3979"/>
                    </a:lnTo>
                    <a:lnTo>
                      <a:pt x="2998" y="3954"/>
                    </a:lnTo>
                    <a:lnTo>
                      <a:pt x="2979" y="3917"/>
                    </a:lnTo>
                    <a:lnTo>
                      <a:pt x="2929" y="3941"/>
                    </a:lnTo>
                    <a:lnTo>
                      <a:pt x="2877" y="3964"/>
                    </a:lnTo>
                    <a:lnTo>
                      <a:pt x="2824" y="3985"/>
                    </a:lnTo>
                    <a:lnTo>
                      <a:pt x="2771" y="4005"/>
                    </a:lnTo>
                    <a:lnTo>
                      <a:pt x="2717" y="4023"/>
                    </a:lnTo>
                    <a:lnTo>
                      <a:pt x="2662" y="4041"/>
                    </a:lnTo>
                    <a:lnTo>
                      <a:pt x="2607" y="4056"/>
                    </a:lnTo>
                    <a:lnTo>
                      <a:pt x="2550" y="4070"/>
                    </a:lnTo>
                    <a:lnTo>
                      <a:pt x="2494" y="4082"/>
                    </a:lnTo>
                    <a:lnTo>
                      <a:pt x="2437" y="4093"/>
                    </a:lnTo>
                    <a:lnTo>
                      <a:pt x="2380" y="4102"/>
                    </a:lnTo>
                    <a:lnTo>
                      <a:pt x="2321" y="4110"/>
                    </a:lnTo>
                    <a:lnTo>
                      <a:pt x="2263" y="4115"/>
                    </a:lnTo>
                    <a:lnTo>
                      <a:pt x="2204" y="4120"/>
                    </a:lnTo>
                    <a:lnTo>
                      <a:pt x="2144" y="4123"/>
                    </a:lnTo>
                    <a:lnTo>
                      <a:pt x="2084" y="4123"/>
                    </a:lnTo>
                    <a:lnTo>
                      <a:pt x="1979" y="4121"/>
                    </a:lnTo>
                    <a:lnTo>
                      <a:pt x="1875" y="4113"/>
                    </a:lnTo>
                    <a:lnTo>
                      <a:pt x="1774" y="4100"/>
                    </a:lnTo>
                    <a:lnTo>
                      <a:pt x="1673" y="4082"/>
                    </a:lnTo>
                    <a:lnTo>
                      <a:pt x="1574" y="4059"/>
                    </a:lnTo>
                    <a:lnTo>
                      <a:pt x="1477" y="4031"/>
                    </a:lnTo>
                    <a:lnTo>
                      <a:pt x="1382" y="4000"/>
                    </a:lnTo>
                    <a:lnTo>
                      <a:pt x="1289" y="3963"/>
                    </a:lnTo>
                    <a:lnTo>
                      <a:pt x="1199" y="3922"/>
                    </a:lnTo>
                    <a:lnTo>
                      <a:pt x="1111" y="3877"/>
                    </a:lnTo>
                    <a:lnTo>
                      <a:pt x="1026" y="3828"/>
                    </a:lnTo>
                    <a:lnTo>
                      <a:pt x="943" y="3775"/>
                    </a:lnTo>
                    <a:lnTo>
                      <a:pt x="863" y="3718"/>
                    </a:lnTo>
                    <a:lnTo>
                      <a:pt x="786" y="3657"/>
                    </a:lnTo>
                    <a:lnTo>
                      <a:pt x="711" y="3593"/>
                    </a:lnTo>
                    <a:lnTo>
                      <a:pt x="640" y="3526"/>
                    </a:lnTo>
                    <a:lnTo>
                      <a:pt x="573" y="3454"/>
                    </a:lnTo>
                    <a:lnTo>
                      <a:pt x="508" y="3381"/>
                    </a:lnTo>
                    <a:lnTo>
                      <a:pt x="448" y="3303"/>
                    </a:lnTo>
                    <a:lnTo>
                      <a:pt x="392" y="3223"/>
                    </a:lnTo>
                    <a:lnTo>
                      <a:pt x="337" y="3141"/>
                    </a:lnTo>
                    <a:lnTo>
                      <a:pt x="289" y="3055"/>
                    </a:lnTo>
                    <a:lnTo>
                      <a:pt x="243" y="2967"/>
                    </a:lnTo>
                    <a:lnTo>
                      <a:pt x="202" y="2876"/>
                    </a:lnTo>
                    <a:lnTo>
                      <a:pt x="167" y="2784"/>
                    </a:lnTo>
                    <a:lnTo>
                      <a:pt x="134" y="2690"/>
                    </a:lnTo>
                    <a:lnTo>
                      <a:pt x="106" y="2592"/>
                    </a:lnTo>
                    <a:lnTo>
                      <a:pt x="84" y="2494"/>
                    </a:lnTo>
                    <a:lnTo>
                      <a:pt x="66" y="2394"/>
                    </a:lnTo>
                    <a:lnTo>
                      <a:pt x="53" y="2291"/>
                    </a:lnTo>
                    <a:lnTo>
                      <a:pt x="45" y="2187"/>
                    </a:lnTo>
                    <a:lnTo>
                      <a:pt x="43" y="2083"/>
                    </a:lnTo>
                    <a:lnTo>
                      <a:pt x="45" y="1978"/>
                    </a:lnTo>
                    <a:lnTo>
                      <a:pt x="53" y="1874"/>
                    </a:lnTo>
                    <a:lnTo>
                      <a:pt x="66" y="1772"/>
                    </a:lnTo>
                    <a:lnTo>
                      <a:pt x="84" y="1671"/>
                    </a:lnTo>
                    <a:lnTo>
                      <a:pt x="106" y="1573"/>
                    </a:lnTo>
                    <a:lnTo>
                      <a:pt x="134" y="1476"/>
                    </a:lnTo>
                    <a:lnTo>
                      <a:pt x="167" y="1381"/>
                    </a:lnTo>
                    <a:lnTo>
                      <a:pt x="202" y="1288"/>
                    </a:lnTo>
                    <a:lnTo>
                      <a:pt x="243" y="1198"/>
                    </a:lnTo>
                    <a:lnTo>
                      <a:pt x="289" y="1110"/>
                    </a:lnTo>
                    <a:lnTo>
                      <a:pt x="337" y="1024"/>
                    </a:lnTo>
                    <a:lnTo>
                      <a:pt x="392" y="941"/>
                    </a:lnTo>
                    <a:lnTo>
                      <a:pt x="448" y="861"/>
                    </a:lnTo>
                    <a:lnTo>
                      <a:pt x="508" y="785"/>
                    </a:lnTo>
                    <a:lnTo>
                      <a:pt x="573" y="710"/>
                    </a:lnTo>
                    <a:lnTo>
                      <a:pt x="640" y="640"/>
                    </a:lnTo>
                    <a:lnTo>
                      <a:pt x="711" y="572"/>
                    </a:lnTo>
                    <a:lnTo>
                      <a:pt x="786" y="508"/>
                    </a:lnTo>
                    <a:lnTo>
                      <a:pt x="863" y="448"/>
                    </a:lnTo>
                    <a:lnTo>
                      <a:pt x="943" y="390"/>
                    </a:lnTo>
                    <a:lnTo>
                      <a:pt x="1026" y="337"/>
                    </a:lnTo>
                    <a:lnTo>
                      <a:pt x="1111" y="288"/>
                    </a:lnTo>
                    <a:lnTo>
                      <a:pt x="1199" y="242"/>
                    </a:lnTo>
                    <a:lnTo>
                      <a:pt x="1289" y="202"/>
                    </a:lnTo>
                    <a:lnTo>
                      <a:pt x="1382" y="166"/>
                    </a:lnTo>
                    <a:lnTo>
                      <a:pt x="1477" y="133"/>
                    </a:lnTo>
                    <a:lnTo>
                      <a:pt x="1574" y="106"/>
                    </a:lnTo>
                    <a:lnTo>
                      <a:pt x="1673" y="84"/>
                    </a:lnTo>
                    <a:lnTo>
                      <a:pt x="1774" y="65"/>
                    </a:lnTo>
                    <a:lnTo>
                      <a:pt x="1875" y="52"/>
                    </a:lnTo>
                    <a:lnTo>
                      <a:pt x="1979" y="45"/>
                    </a:lnTo>
                    <a:lnTo>
                      <a:pt x="2084" y="41"/>
                    </a:lnTo>
                    <a:lnTo>
                      <a:pt x="2190" y="45"/>
                    </a:lnTo>
                    <a:lnTo>
                      <a:pt x="2293" y="52"/>
                    </a:lnTo>
                    <a:lnTo>
                      <a:pt x="2395" y="65"/>
                    </a:lnTo>
                    <a:lnTo>
                      <a:pt x="2495" y="84"/>
                    </a:lnTo>
                    <a:lnTo>
                      <a:pt x="2595" y="106"/>
                    </a:lnTo>
                    <a:lnTo>
                      <a:pt x="2691" y="133"/>
                    </a:lnTo>
                    <a:lnTo>
                      <a:pt x="2786" y="166"/>
                    </a:lnTo>
                    <a:lnTo>
                      <a:pt x="2879" y="202"/>
                    </a:lnTo>
                    <a:lnTo>
                      <a:pt x="2970" y="242"/>
                    </a:lnTo>
                    <a:lnTo>
                      <a:pt x="3057" y="288"/>
                    </a:lnTo>
                    <a:lnTo>
                      <a:pt x="3143" y="337"/>
                    </a:lnTo>
                    <a:lnTo>
                      <a:pt x="3226" y="390"/>
                    </a:lnTo>
                    <a:lnTo>
                      <a:pt x="3306" y="448"/>
                    </a:lnTo>
                    <a:lnTo>
                      <a:pt x="3382" y="508"/>
                    </a:lnTo>
                    <a:lnTo>
                      <a:pt x="3457" y="572"/>
                    </a:lnTo>
                    <a:lnTo>
                      <a:pt x="3528" y="640"/>
                    </a:lnTo>
                    <a:lnTo>
                      <a:pt x="3595" y="710"/>
                    </a:lnTo>
                    <a:lnTo>
                      <a:pt x="3660" y="785"/>
                    </a:lnTo>
                    <a:lnTo>
                      <a:pt x="3721" y="861"/>
                    </a:lnTo>
                    <a:lnTo>
                      <a:pt x="3777" y="941"/>
                    </a:lnTo>
                    <a:lnTo>
                      <a:pt x="3830" y="1024"/>
                    </a:lnTo>
                    <a:lnTo>
                      <a:pt x="3879" y="1110"/>
                    </a:lnTo>
                    <a:lnTo>
                      <a:pt x="3925" y="1198"/>
                    </a:lnTo>
                    <a:lnTo>
                      <a:pt x="3966" y="1288"/>
                    </a:lnTo>
                    <a:lnTo>
                      <a:pt x="4002" y="1381"/>
                    </a:lnTo>
                    <a:lnTo>
                      <a:pt x="4034" y="1476"/>
                    </a:lnTo>
                    <a:lnTo>
                      <a:pt x="4062" y="1573"/>
                    </a:lnTo>
                    <a:lnTo>
                      <a:pt x="4085" y="1671"/>
                    </a:lnTo>
                    <a:lnTo>
                      <a:pt x="4102" y="1772"/>
                    </a:lnTo>
                    <a:lnTo>
                      <a:pt x="4115" y="1874"/>
                    </a:lnTo>
                    <a:lnTo>
                      <a:pt x="4124" y="1978"/>
                    </a:lnTo>
                    <a:lnTo>
                      <a:pt x="4126" y="2083"/>
                    </a:lnTo>
                    <a:lnTo>
                      <a:pt x="4126" y="2117"/>
                    </a:lnTo>
                    <a:lnTo>
                      <a:pt x="4125" y="2151"/>
                    </a:lnTo>
                    <a:lnTo>
                      <a:pt x="4124" y="2185"/>
                    </a:lnTo>
                    <a:lnTo>
                      <a:pt x="4122" y="2219"/>
                    </a:lnTo>
                    <a:lnTo>
                      <a:pt x="4119" y="2252"/>
                    </a:lnTo>
                    <a:lnTo>
                      <a:pt x="4116" y="2287"/>
                    </a:lnTo>
                    <a:lnTo>
                      <a:pt x="4112" y="2320"/>
                    </a:lnTo>
                    <a:lnTo>
                      <a:pt x="4107" y="2353"/>
                    </a:lnTo>
                    <a:lnTo>
                      <a:pt x="4103" y="2386"/>
                    </a:lnTo>
                    <a:lnTo>
                      <a:pt x="4098" y="2420"/>
                    </a:lnTo>
                    <a:lnTo>
                      <a:pt x="4092" y="2452"/>
                    </a:lnTo>
                    <a:lnTo>
                      <a:pt x="4086" y="2484"/>
                    </a:lnTo>
                    <a:lnTo>
                      <a:pt x="4072" y="2549"/>
                    </a:lnTo>
                    <a:lnTo>
                      <a:pt x="4056" y="2613"/>
                    </a:lnTo>
                    <a:lnTo>
                      <a:pt x="4097" y="2624"/>
                    </a:lnTo>
                    <a:lnTo>
                      <a:pt x="4104" y="2591"/>
                    </a:lnTo>
                    <a:lnTo>
                      <a:pt x="4113" y="2559"/>
                    </a:lnTo>
                    <a:lnTo>
                      <a:pt x="4120" y="2525"/>
                    </a:lnTo>
                    <a:lnTo>
                      <a:pt x="4127" y="2493"/>
                    </a:lnTo>
                    <a:lnTo>
                      <a:pt x="4133" y="2460"/>
                    </a:lnTo>
                    <a:lnTo>
                      <a:pt x="4139" y="2426"/>
                    </a:lnTo>
                    <a:lnTo>
                      <a:pt x="4144" y="2393"/>
                    </a:lnTo>
                    <a:lnTo>
                      <a:pt x="4150" y="2358"/>
                    </a:lnTo>
                    <a:lnTo>
                      <a:pt x="4154" y="2325"/>
                    </a:lnTo>
                    <a:lnTo>
                      <a:pt x="4157" y="2290"/>
                    </a:lnTo>
                    <a:lnTo>
                      <a:pt x="4160" y="2257"/>
                    </a:lnTo>
                    <a:lnTo>
                      <a:pt x="4163" y="2222"/>
                    </a:lnTo>
                    <a:lnTo>
                      <a:pt x="4165" y="2187"/>
                    </a:lnTo>
                    <a:lnTo>
                      <a:pt x="4167" y="2153"/>
                    </a:lnTo>
                    <a:lnTo>
                      <a:pt x="4167" y="2117"/>
                    </a:lnTo>
                    <a:lnTo>
                      <a:pt x="4168" y="2083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5880" y="2179440"/>
                <a:ext cx="1636920" cy="1636920"/>
              </a:xfrm>
              <a:custGeom>
                <a:avLst/>
                <a:gdLst/>
                <a:ahLst/>
                <a:rect l="l" t="t" r="r" b="b"/>
                <a:pathLst>
                  <a:path w="4124" h="4123">
                    <a:moveTo>
                      <a:pt x="4124" y="2062"/>
                    </a:moveTo>
                    <a:lnTo>
                      <a:pt x="4122" y="1956"/>
                    </a:lnTo>
                    <a:lnTo>
                      <a:pt x="4114" y="1851"/>
                    </a:lnTo>
                    <a:lnTo>
                      <a:pt x="4101" y="1747"/>
                    </a:lnTo>
                    <a:lnTo>
                      <a:pt x="4083" y="1646"/>
                    </a:lnTo>
                    <a:lnTo>
                      <a:pt x="4060" y="1547"/>
                    </a:lnTo>
                    <a:lnTo>
                      <a:pt x="4031" y="1448"/>
                    </a:lnTo>
                    <a:lnTo>
                      <a:pt x="3999" y="1352"/>
                    </a:lnTo>
                    <a:lnTo>
                      <a:pt x="3962" y="1259"/>
                    </a:lnTo>
                    <a:lnTo>
                      <a:pt x="3921" y="1167"/>
                    </a:lnTo>
                    <a:lnTo>
                      <a:pt x="3876" y="1079"/>
                    </a:lnTo>
                    <a:lnTo>
                      <a:pt x="3826" y="992"/>
                    </a:lnTo>
                    <a:lnTo>
                      <a:pt x="3772" y="909"/>
                    </a:lnTo>
                    <a:lnTo>
                      <a:pt x="3715" y="828"/>
                    </a:lnTo>
                    <a:lnTo>
                      <a:pt x="3653" y="751"/>
                    </a:lnTo>
                    <a:lnTo>
                      <a:pt x="3588" y="675"/>
                    </a:lnTo>
                    <a:lnTo>
                      <a:pt x="3520" y="604"/>
                    </a:lnTo>
                    <a:lnTo>
                      <a:pt x="3449" y="536"/>
                    </a:lnTo>
                    <a:lnTo>
                      <a:pt x="3374" y="471"/>
                    </a:lnTo>
                    <a:lnTo>
                      <a:pt x="3297" y="409"/>
                    </a:lnTo>
                    <a:lnTo>
                      <a:pt x="3216" y="352"/>
                    </a:lnTo>
                    <a:lnTo>
                      <a:pt x="3131" y="298"/>
                    </a:lnTo>
                    <a:lnTo>
                      <a:pt x="3045" y="248"/>
                    </a:lnTo>
                    <a:lnTo>
                      <a:pt x="2956" y="203"/>
                    </a:lnTo>
                    <a:lnTo>
                      <a:pt x="2864" y="162"/>
                    </a:lnTo>
                    <a:lnTo>
                      <a:pt x="2772" y="125"/>
                    </a:lnTo>
                    <a:lnTo>
                      <a:pt x="2675" y="93"/>
                    </a:lnTo>
                    <a:lnTo>
                      <a:pt x="2577" y="65"/>
                    </a:lnTo>
                    <a:lnTo>
                      <a:pt x="2478" y="42"/>
                    </a:lnTo>
                    <a:lnTo>
                      <a:pt x="2376" y="24"/>
                    </a:lnTo>
                    <a:lnTo>
                      <a:pt x="2273" y="11"/>
                    </a:lnTo>
                    <a:lnTo>
                      <a:pt x="2169" y="2"/>
                    </a:lnTo>
                    <a:lnTo>
                      <a:pt x="2062" y="0"/>
                    </a:lnTo>
                    <a:lnTo>
                      <a:pt x="1956" y="2"/>
                    </a:lnTo>
                    <a:lnTo>
                      <a:pt x="1851" y="11"/>
                    </a:lnTo>
                    <a:lnTo>
                      <a:pt x="1748" y="24"/>
                    </a:lnTo>
                    <a:lnTo>
                      <a:pt x="1647" y="42"/>
                    </a:lnTo>
                    <a:lnTo>
                      <a:pt x="1546" y="65"/>
                    </a:lnTo>
                    <a:lnTo>
                      <a:pt x="1449" y="93"/>
                    </a:lnTo>
                    <a:lnTo>
                      <a:pt x="1353" y="125"/>
                    </a:lnTo>
                    <a:lnTo>
                      <a:pt x="1260" y="162"/>
                    </a:lnTo>
                    <a:lnTo>
                      <a:pt x="1168" y="203"/>
                    </a:lnTo>
                    <a:lnTo>
                      <a:pt x="1079" y="248"/>
                    </a:lnTo>
                    <a:lnTo>
                      <a:pt x="993" y="298"/>
                    </a:lnTo>
                    <a:lnTo>
                      <a:pt x="909" y="352"/>
                    </a:lnTo>
                    <a:lnTo>
                      <a:pt x="828" y="409"/>
                    </a:lnTo>
                    <a:lnTo>
                      <a:pt x="750" y="471"/>
                    </a:lnTo>
                    <a:lnTo>
                      <a:pt x="675" y="536"/>
                    </a:lnTo>
                    <a:lnTo>
                      <a:pt x="604" y="604"/>
                    </a:lnTo>
                    <a:lnTo>
                      <a:pt x="536" y="675"/>
                    </a:lnTo>
                    <a:lnTo>
                      <a:pt x="471" y="751"/>
                    </a:lnTo>
                    <a:lnTo>
                      <a:pt x="410" y="828"/>
                    </a:lnTo>
                    <a:lnTo>
                      <a:pt x="352" y="909"/>
                    </a:lnTo>
                    <a:lnTo>
                      <a:pt x="298" y="992"/>
                    </a:lnTo>
                    <a:lnTo>
                      <a:pt x="249" y="1079"/>
                    </a:lnTo>
                    <a:lnTo>
                      <a:pt x="203" y="1167"/>
                    </a:lnTo>
                    <a:lnTo>
                      <a:pt x="162" y="1259"/>
                    </a:lnTo>
                    <a:lnTo>
                      <a:pt x="124" y="1352"/>
                    </a:lnTo>
                    <a:lnTo>
                      <a:pt x="92" y="1448"/>
                    </a:lnTo>
                    <a:lnTo>
                      <a:pt x="65" y="1547"/>
                    </a:lnTo>
                    <a:lnTo>
                      <a:pt x="41" y="1646"/>
                    </a:lnTo>
                    <a:lnTo>
                      <a:pt x="24" y="1747"/>
                    </a:lnTo>
                    <a:lnTo>
                      <a:pt x="10" y="1851"/>
                    </a:lnTo>
                    <a:lnTo>
                      <a:pt x="2" y="1956"/>
                    </a:lnTo>
                    <a:lnTo>
                      <a:pt x="0" y="2062"/>
                    </a:lnTo>
                    <a:lnTo>
                      <a:pt x="2" y="2168"/>
                    </a:lnTo>
                    <a:lnTo>
                      <a:pt x="10" y="2272"/>
                    </a:lnTo>
                    <a:lnTo>
                      <a:pt x="24" y="2375"/>
                    </a:lnTo>
                    <a:lnTo>
                      <a:pt x="41" y="2476"/>
                    </a:lnTo>
                    <a:lnTo>
                      <a:pt x="65" y="2577"/>
                    </a:lnTo>
                    <a:lnTo>
                      <a:pt x="92" y="2674"/>
                    </a:lnTo>
                    <a:lnTo>
                      <a:pt x="124" y="2770"/>
                    </a:lnTo>
                    <a:lnTo>
                      <a:pt x="162" y="2864"/>
                    </a:lnTo>
                    <a:lnTo>
                      <a:pt x="203" y="2955"/>
                    </a:lnTo>
                    <a:lnTo>
                      <a:pt x="249" y="3044"/>
                    </a:lnTo>
                    <a:lnTo>
                      <a:pt x="298" y="3131"/>
                    </a:lnTo>
                    <a:lnTo>
                      <a:pt x="352" y="3214"/>
                    </a:lnTo>
                    <a:lnTo>
                      <a:pt x="410" y="3295"/>
                    </a:lnTo>
                    <a:lnTo>
                      <a:pt x="471" y="3373"/>
                    </a:lnTo>
                    <a:lnTo>
                      <a:pt x="536" y="3447"/>
                    </a:lnTo>
                    <a:lnTo>
                      <a:pt x="604" y="3520"/>
                    </a:lnTo>
                    <a:lnTo>
                      <a:pt x="675" y="3588"/>
                    </a:lnTo>
                    <a:lnTo>
                      <a:pt x="750" y="3653"/>
                    </a:lnTo>
                    <a:lnTo>
                      <a:pt x="828" y="3713"/>
                    </a:lnTo>
                    <a:lnTo>
                      <a:pt x="909" y="3771"/>
                    </a:lnTo>
                    <a:lnTo>
                      <a:pt x="993" y="3824"/>
                    </a:lnTo>
                    <a:lnTo>
                      <a:pt x="1079" y="3874"/>
                    </a:lnTo>
                    <a:lnTo>
                      <a:pt x="1168" y="3919"/>
                    </a:lnTo>
                    <a:lnTo>
                      <a:pt x="1260" y="3961"/>
                    </a:lnTo>
                    <a:lnTo>
                      <a:pt x="1353" y="3998"/>
                    </a:lnTo>
                    <a:lnTo>
                      <a:pt x="1449" y="4031"/>
                    </a:lnTo>
                    <a:lnTo>
                      <a:pt x="1546" y="4059"/>
                    </a:lnTo>
                    <a:lnTo>
                      <a:pt x="1647" y="4081"/>
                    </a:lnTo>
                    <a:lnTo>
                      <a:pt x="1748" y="4100"/>
                    </a:lnTo>
                    <a:lnTo>
                      <a:pt x="1851" y="4113"/>
                    </a:lnTo>
                    <a:lnTo>
                      <a:pt x="1956" y="4120"/>
                    </a:lnTo>
                    <a:lnTo>
                      <a:pt x="2062" y="4123"/>
                    </a:lnTo>
                    <a:lnTo>
                      <a:pt x="2123" y="4122"/>
                    </a:lnTo>
                    <a:lnTo>
                      <a:pt x="2183" y="4119"/>
                    </a:lnTo>
                    <a:lnTo>
                      <a:pt x="2243" y="4115"/>
                    </a:lnTo>
                    <a:lnTo>
                      <a:pt x="2302" y="4109"/>
                    </a:lnTo>
                    <a:lnTo>
                      <a:pt x="2361" y="4102"/>
                    </a:lnTo>
                    <a:lnTo>
                      <a:pt x="2419" y="4092"/>
                    </a:lnTo>
                    <a:lnTo>
                      <a:pt x="2477" y="4081"/>
                    </a:lnTo>
                    <a:lnTo>
                      <a:pt x="2534" y="4069"/>
                    </a:lnTo>
                    <a:lnTo>
                      <a:pt x="2590" y="4055"/>
                    </a:lnTo>
                    <a:lnTo>
                      <a:pt x="2646" y="4039"/>
                    </a:lnTo>
                    <a:lnTo>
                      <a:pt x="2701" y="4022"/>
                    </a:lnTo>
                    <a:lnTo>
                      <a:pt x="2755" y="4004"/>
                    </a:lnTo>
                    <a:lnTo>
                      <a:pt x="2809" y="3983"/>
                    </a:lnTo>
                    <a:lnTo>
                      <a:pt x="2862" y="3961"/>
                    </a:lnTo>
                    <a:lnTo>
                      <a:pt x="2915" y="3939"/>
                    </a:lnTo>
                    <a:lnTo>
                      <a:pt x="2966" y="3915"/>
                    </a:lnTo>
                    <a:lnTo>
                      <a:pt x="2948" y="3877"/>
                    </a:lnTo>
                    <a:lnTo>
                      <a:pt x="2898" y="3901"/>
                    </a:lnTo>
                    <a:lnTo>
                      <a:pt x="2846" y="3924"/>
                    </a:lnTo>
                    <a:lnTo>
                      <a:pt x="2794" y="3944"/>
                    </a:lnTo>
                    <a:lnTo>
                      <a:pt x="2741" y="3965"/>
                    </a:lnTo>
                    <a:lnTo>
                      <a:pt x="2688" y="3983"/>
                    </a:lnTo>
                    <a:lnTo>
                      <a:pt x="2634" y="3999"/>
                    </a:lnTo>
                    <a:lnTo>
                      <a:pt x="2579" y="4014"/>
                    </a:lnTo>
                    <a:lnTo>
                      <a:pt x="2524" y="4028"/>
                    </a:lnTo>
                    <a:lnTo>
                      <a:pt x="2468" y="4040"/>
                    </a:lnTo>
                    <a:lnTo>
                      <a:pt x="2412" y="4051"/>
                    </a:lnTo>
                    <a:lnTo>
                      <a:pt x="2354" y="4061"/>
                    </a:lnTo>
                    <a:lnTo>
                      <a:pt x="2297" y="4068"/>
                    </a:lnTo>
                    <a:lnTo>
                      <a:pt x="2239" y="4074"/>
                    </a:lnTo>
                    <a:lnTo>
                      <a:pt x="2181" y="4078"/>
                    </a:lnTo>
                    <a:lnTo>
                      <a:pt x="2121" y="4080"/>
                    </a:lnTo>
                    <a:lnTo>
                      <a:pt x="2062" y="4081"/>
                    </a:lnTo>
                    <a:lnTo>
                      <a:pt x="1958" y="4079"/>
                    </a:lnTo>
                    <a:lnTo>
                      <a:pt x="1855" y="4070"/>
                    </a:lnTo>
                    <a:lnTo>
                      <a:pt x="1755" y="4059"/>
                    </a:lnTo>
                    <a:lnTo>
                      <a:pt x="1655" y="4040"/>
                    </a:lnTo>
                    <a:lnTo>
                      <a:pt x="1557" y="4018"/>
                    </a:lnTo>
                    <a:lnTo>
                      <a:pt x="1461" y="3991"/>
                    </a:lnTo>
                    <a:lnTo>
                      <a:pt x="1367" y="3959"/>
                    </a:lnTo>
                    <a:lnTo>
                      <a:pt x="1276" y="3923"/>
                    </a:lnTo>
                    <a:lnTo>
                      <a:pt x="1186" y="3883"/>
                    </a:lnTo>
                    <a:lnTo>
                      <a:pt x="1099" y="3837"/>
                    </a:lnTo>
                    <a:lnTo>
                      <a:pt x="1015" y="3789"/>
                    </a:lnTo>
                    <a:lnTo>
                      <a:pt x="932" y="3737"/>
                    </a:lnTo>
                    <a:lnTo>
                      <a:pt x="853" y="3681"/>
                    </a:lnTo>
                    <a:lnTo>
                      <a:pt x="777" y="3620"/>
                    </a:lnTo>
                    <a:lnTo>
                      <a:pt x="703" y="3556"/>
                    </a:lnTo>
                    <a:lnTo>
                      <a:pt x="633" y="3489"/>
                    </a:lnTo>
                    <a:lnTo>
                      <a:pt x="566" y="3419"/>
                    </a:lnTo>
                    <a:lnTo>
                      <a:pt x="502" y="3346"/>
                    </a:lnTo>
                    <a:lnTo>
                      <a:pt x="443" y="3270"/>
                    </a:lnTo>
                    <a:lnTo>
                      <a:pt x="387" y="3190"/>
                    </a:lnTo>
                    <a:lnTo>
                      <a:pt x="334" y="3109"/>
                    </a:lnTo>
                    <a:lnTo>
                      <a:pt x="285" y="3024"/>
                    </a:lnTo>
                    <a:lnTo>
                      <a:pt x="241" y="2938"/>
                    </a:lnTo>
                    <a:lnTo>
                      <a:pt x="200" y="2848"/>
                    </a:lnTo>
                    <a:lnTo>
                      <a:pt x="164" y="2756"/>
                    </a:lnTo>
                    <a:lnTo>
                      <a:pt x="132" y="2662"/>
                    </a:lnTo>
                    <a:lnTo>
                      <a:pt x="105" y="2566"/>
                    </a:lnTo>
                    <a:lnTo>
                      <a:pt x="82" y="2469"/>
                    </a:lnTo>
                    <a:lnTo>
                      <a:pt x="65" y="2369"/>
                    </a:lnTo>
                    <a:lnTo>
                      <a:pt x="52" y="2268"/>
                    </a:lnTo>
                    <a:lnTo>
                      <a:pt x="44" y="2165"/>
                    </a:lnTo>
                    <a:lnTo>
                      <a:pt x="41" y="2062"/>
                    </a:lnTo>
                    <a:lnTo>
                      <a:pt x="44" y="1958"/>
                    </a:lnTo>
                    <a:lnTo>
                      <a:pt x="52" y="1855"/>
                    </a:lnTo>
                    <a:lnTo>
                      <a:pt x="65" y="1754"/>
                    </a:lnTo>
                    <a:lnTo>
                      <a:pt x="82" y="1655"/>
                    </a:lnTo>
                    <a:lnTo>
                      <a:pt x="105" y="1556"/>
                    </a:lnTo>
                    <a:lnTo>
                      <a:pt x="132" y="1461"/>
                    </a:lnTo>
                    <a:lnTo>
                      <a:pt x="164" y="1367"/>
                    </a:lnTo>
                    <a:lnTo>
                      <a:pt x="200" y="1275"/>
                    </a:lnTo>
                    <a:lnTo>
                      <a:pt x="241" y="1186"/>
                    </a:lnTo>
                    <a:lnTo>
                      <a:pt x="285" y="1098"/>
                    </a:lnTo>
                    <a:lnTo>
                      <a:pt x="334" y="1014"/>
                    </a:lnTo>
                    <a:lnTo>
                      <a:pt x="387" y="932"/>
                    </a:lnTo>
                    <a:lnTo>
                      <a:pt x="443" y="853"/>
                    </a:lnTo>
                    <a:lnTo>
                      <a:pt x="502" y="776"/>
                    </a:lnTo>
                    <a:lnTo>
                      <a:pt x="566" y="703"/>
                    </a:lnTo>
                    <a:lnTo>
                      <a:pt x="633" y="633"/>
                    </a:lnTo>
                    <a:lnTo>
                      <a:pt x="703" y="566"/>
                    </a:lnTo>
                    <a:lnTo>
                      <a:pt x="777" y="503"/>
                    </a:lnTo>
                    <a:lnTo>
                      <a:pt x="853" y="443"/>
                    </a:lnTo>
                    <a:lnTo>
                      <a:pt x="932" y="387"/>
                    </a:lnTo>
                    <a:lnTo>
                      <a:pt x="1015" y="334"/>
                    </a:lnTo>
                    <a:lnTo>
                      <a:pt x="1099" y="285"/>
                    </a:lnTo>
                    <a:lnTo>
                      <a:pt x="1186" y="241"/>
                    </a:lnTo>
                    <a:lnTo>
                      <a:pt x="1276" y="200"/>
                    </a:lnTo>
                    <a:lnTo>
                      <a:pt x="1367" y="164"/>
                    </a:lnTo>
                    <a:lnTo>
                      <a:pt x="1461" y="132"/>
                    </a:lnTo>
                    <a:lnTo>
                      <a:pt x="1557" y="105"/>
                    </a:lnTo>
                    <a:lnTo>
                      <a:pt x="1655" y="82"/>
                    </a:lnTo>
                    <a:lnTo>
                      <a:pt x="1755" y="65"/>
                    </a:lnTo>
                    <a:lnTo>
                      <a:pt x="1855" y="52"/>
                    </a:lnTo>
                    <a:lnTo>
                      <a:pt x="1958" y="44"/>
                    </a:lnTo>
                    <a:lnTo>
                      <a:pt x="2062" y="41"/>
                    </a:lnTo>
                    <a:lnTo>
                      <a:pt x="2166" y="44"/>
                    </a:lnTo>
                    <a:lnTo>
                      <a:pt x="2269" y="52"/>
                    </a:lnTo>
                    <a:lnTo>
                      <a:pt x="2370" y="65"/>
                    </a:lnTo>
                    <a:lnTo>
                      <a:pt x="2469" y="82"/>
                    </a:lnTo>
                    <a:lnTo>
                      <a:pt x="2567" y="105"/>
                    </a:lnTo>
                    <a:lnTo>
                      <a:pt x="2664" y="132"/>
                    </a:lnTo>
                    <a:lnTo>
                      <a:pt x="2758" y="164"/>
                    </a:lnTo>
                    <a:lnTo>
                      <a:pt x="2848" y="200"/>
                    </a:lnTo>
                    <a:lnTo>
                      <a:pt x="2938" y="241"/>
                    </a:lnTo>
                    <a:lnTo>
                      <a:pt x="3025" y="285"/>
                    </a:lnTo>
                    <a:lnTo>
                      <a:pt x="3110" y="334"/>
                    </a:lnTo>
                    <a:lnTo>
                      <a:pt x="3192" y="387"/>
                    </a:lnTo>
                    <a:lnTo>
                      <a:pt x="3271" y="443"/>
                    </a:lnTo>
                    <a:lnTo>
                      <a:pt x="3347" y="503"/>
                    </a:lnTo>
                    <a:lnTo>
                      <a:pt x="3421" y="566"/>
                    </a:lnTo>
                    <a:lnTo>
                      <a:pt x="3491" y="633"/>
                    </a:lnTo>
                    <a:lnTo>
                      <a:pt x="3558" y="703"/>
                    </a:lnTo>
                    <a:lnTo>
                      <a:pt x="3622" y="776"/>
                    </a:lnTo>
                    <a:lnTo>
                      <a:pt x="3681" y="853"/>
                    </a:lnTo>
                    <a:lnTo>
                      <a:pt x="3738" y="932"/>
                    </a:lnTo>
                    <a:lnTo>
                      <a:pt x="3791" y="1014"/>
                    </a:lnTo>
                    <a:lnTo>
                      <a:pt x="3839" y="1098"/>
                    </a:lnTo>
                    <a:lnTo>
                      <a:pt x="3883" y="1186"/>
                    </a:lnTo>
                    <a:lnTo>
                      <a:pt x="3924" y="1275"/>
                    </a:lnTo>
                    <a:lnTo>
                      <a:pt x="3960" y="1367"/>
                    </a:lnTo>
                    <a:lnTo>
                      <a:pt x="3993" y="1461"/>
                    </a:lnTo>
                    <a:lnTo>
                      <a:pt x="4020" y="1556"/>
                    </a:lnTo>
                    <a:lnTo>
                      <a:pt x="4042" y="1655"/>
                    </a:lnTo>
                    <a:lnTo>
                      <a:pt x="4060" y="1754"/>
                    </a:lnTo>
                    <a:lnTo>
                      <a:pt x="4073" y="1855"/>
                    </a:lnTo>
                    <a:lnTo>
                      <a:pt x="4080" y="1958"/>
                    </a:lnTo>
                    <a:lnTo>
                      <a:pt x="4083" y="2062"/>
                    </a:lnTo>
                    <a:lnTo>
                      <a:pt x="4083" y="2095"/>
                    </a:lnTo>
                    <a:lnTo>
                      <a:pt x="4082" y="2130"/>
                    </a:lnTo>
                    <a:lnTo>
                      <a:pt x="4080" y="2163"/>
                    </a:lnTo>
                    <a:lnTo>
                      <a:pt x="4079" y="2197"/>
                    </a:lnTo>
                    <a:lnTo>
                      <a:pt x="4076" y="2230"/>
                    </a:lnTo>
                    <a:lnTo>
                      <a:pt x="4074" y="2264"/>
                    </a:lnTo>
                    <a:lnTo>
                      <a:pt x="4069" y="2296"/>
                    </a:lnTo>
                    <a:lnTo>
                      <a:pt x="4065" y="2330"/>
                    </a:lnTo>
                    <a:lnTo>
                      <a:pt x="4055" y="2394"/>
                    </a:lnTo>
                    <a:lnTo>
                      <a:pt x="4043" y="2459"/>
                    </a:lnTo>
                    <a:lnTo>
                      <a:pt x="4029" y="2523"/>
                    </a:lnTo>
                    <a:lnTo>
                      <a:pt x="4014" y="2587"/>
                    </a:lnTo>
                    <a:lnTo>
                      <a:pt x="4054" y="2597"/>
                    </a:lnTo>
                    <a:lnTo>
                      <a:pt x="4070" y="2533"/>
                    </a:lnTo>
                    <a:lnTo>
                      <a:pt x="4084" y="2468"/>
                    </a:lnTo>
                    <a:lnTo>
                      <a:pt x="4091" y="2434"/>
                    </a:lnTo>
                    <a:lnTo>
                      <a:pt x="4096" y="2402"/>
                    </a:lnTo>
                    <a:lnTo>
                      <a:pt x="4102" y="2368"/>
                    </a:lnTo>
                    <a:lnTo>
                      <a:pt x="4107" y="2335"/>
                    </a:lnTo>
                    <a:lnTo>
                      <a:pt x="4110" y="2301"/>
                    </a:lnTo>
                    <a:lnTo>
                      <a:pt x="4115" y="2267"/>
                    </a:lnTo>
                    <a:lnTo>
                      <a:pt x="4118" y="2233"/>
                    </a:lnTo>
                    <a:lnTo>
                      <a:pt x="4120" y="2199"/>
                    </a:lnTo>
                    <a:lnTo>
                      <a:pt x="4122" y="2165"/>
                    </a:lnTo>
                    <a:lnTo>
                      <a:pt x="4123" y="2131"/>
                    </a:lnTo>
                    <a:lnTo>
                      <a:pt x="4124" y="2096"/>
                    </a:lnTo>
                    <a:lnTo>
                      <a:pt x="4124" y="206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63800" y="2187360"/>
                <a:ext cx="1621080" cy="1619280"/>
              </a:xfrm>
              <a:custGeom>
                <a:avLst/>
                <a:gdLst/>
                <a:ahLst/>
                <a:rect l="l" t="t" r="r" b="b"/>
                <a:pathLst>
                  <a:path w="4083" h="4082">
                    <a:moveTo>
                      <a:pt x="4083" y="2042"/>
                    </a:moveTo>
                    <a:lnTo>
                      <a:pt x="4081" y="1937"/>
                    </a:lnTo>
                    <a:lnTo>
                      <a:pt x="4072" y="1833"/>
                    </a:lnTo>
                    <a:lnTo>
                      <a:pt x="4059" y="1731"/>
                    </a:lnTo>
                    <a:lnTo>
                      <a:pt x="4042" y="1630"/>
                    </a:lnTo>
                    <a:lnTo>
                      <a:pt x="4019" y="1532"/>
                    </a:lnTo>
                    <a:lnTo>
                      <a:pt x="3991" y="1435"/>
                    </a:lnTo>
                    <a:lnTo>
                      <a:pt x="3959" y="1340"/>
                    </a:lnTo>
                    <a:lnTo>
                      <a:pt x="3923" y="1247"/>
                    </a:lnTo>
                    <a:lnTo>
                      <a:pt x="3882" y="1157"/>
                    </a:lnTo>
                    <a:lnTo>
                      <a:pt x="3836" y="1069"/>
                    </a:lnTo>
                    <a:lnTo>
                      <a:pt x="3787" y="983"/>
                    </a:lnTo>
                    <a:lnTo>
                      <a:pt x="3734" y="900"/>
                    </a:lnTo>
                    <a:lnTo>
                      <a:pt x="3678" y="820"/>
                    </a:lnTo>
                    <a:lnTo>
                      <a:pt x="3617" y="744"/>
                    </a:lnTo>
                    <a:lnTo>
                      <a:pt x="3552" y="669"/>
                    </a:lnTo>
                    <a:lnTo>
                      <a:pt x="3485" y="599"/>
                    </a:lnTo>
                    <a:lnTo>
                      <a:pt x="3414" y="531"/>
                    </a:lnTo>
                    <a:lnTo>
                      <a:pt x="3339" y="467"/>
                    </a:lnTo>
                    <a:lnTo>
                      <a:pt x="3263" y="407"/>
                    </a:lnTo>
                    <a:lnTo>
                      <a:pt x="3183" y="349"/>
                    </a:lnTo>
                    <a:lnTo>
                      <a:pt x="3100" y="296"/>
                    </a:lnTo>
                    <a:lnTo>
                      <a:pt x="3014" y="247"/>
                    </a:lnTo>
                    <a:lnTo>
                      <a:pt x="2927" y="201"/>
                    </a:lnTo>
                    <a:lnTo>
                      <a:pt x="2836" y="161"/>
                    </a:lnTo>
                    <a:lnTo>
                      <a:pt x="2743" y="125"/>
                    </a:lnTo>
                    <a:lnTo>
                      <a:pt x="2648" y="92"/>
                    </a:lnTo>
                    <a:lnTo>
                      <a:pt x="2552" y="65"/>
                    </a:lnTo>
                    <a:lnTo>
                      <a:pt x="2452" y="43"/>
                    </a:lnTo>
                    <a:lnTo>
                      <a:pt x="2352" y="24"/>
                    </a:lnTo>
                    <a:lnTo>
                      <a:pt x="2250" y="11"/>
                    </a:lnTo>
                    <a:lnTo>
                      <a:pt x="2147" y="4"/>
                    </a:lnTo>
                    <a:lnTo>
                      <a:pt x="2041" y="0"/>
                    </a:lnTo>
                    <a:lnTo>
                      <a:pt x="1936" y="4"/>
                    </a:lnTo>
                    <a:lnTo>
                      <a:pt x="1832" y="11"/>
                    </a:lnTo>
                    <a:lnTo>
                      <a:pt x="1731" y="24"/>
                    </a:lnTo>
                    <a:lnTo>
                      <a:pt x="1630" y="43"/>
                    </a:lnTo>
                    <a:lnTo>
                      <a:pt x="1531" y="65"/>
                    </a:lnTo>
                    <a:lnTo>
                      <a:pt x="1434" y="92"/>
                    </a:lnTo>
                    <a:lnTo>
                      <a:pt x="1339" y="125"/>
                    </a:lnTo>
                    <a:lnTo>
                      <a:pt x="1246" y="161"/>
                    </a:lnTo>
                    <a:lnTo>
                      <a:pt x="1156" y="201"/>
                    </a:lnTo>
                    <a:lnTo>
                      <a:pt x="1068" y="247"/>
                    </a:lnTo>
                    <a:lnTo>
                      <a:pt x="983" y="296"/>
                    </a:lnTo>
                    <a:lnTo>
                      <a:pt x="900" y="349"/>
                    </a:lnTo>
                    <a:lnTo>
                      <a:pt x="820" y="407"/>
                    </a:lnTo>
                    <a:lnTo>
                      <a:pt x="743" y="467"/>
                    </a:lnTo>
                    <a:lnTo>
                      <a:pt x="668" y="531"/>
                    </a:lnTo>
                    <a:lnTo>
                      <a:pt x="597" y="599"/>
                    </a:lnTo>
                    <a:lnTo>
                      <a:pt x="530" y="669"/>
                    </a:lnTo>
                    <a:lnTo>
                      <a:pt x="465" y="744"/>
                    </a:lnTo>
                    <a:lnTo>
                      <a:pt x="405" y="820"/>
                    </a:lnTo>
                    <a:lnTo>
                      <a:pt x="349" y="900"/>
                    </a:lnTo>
                    <a:lnTo>
                      <a:pt x="294" y="983"/>
                    </a:lnTo>
                    <a:lnTo>
                      <a:pt x="246" y="1069"/>
                    </a:lnTo>
                    <a:lnTo>
                      <a:pt x="200" y="1157"/>
                    </a:lnTo>
                    <a:lnTo>
                      <a:pt x="159" y="1247"/>
                    </a:lnTo>
                    <a:lnTo>
                      <a:pt x="124" y="1340"/>
                    </a:lnTo>
                    <a:lnTo>
                      <a:pt x="91" y="1435"/>
                    </a:lnTo>
                    <a:lnTo>
                      <a:pt x="63" y="1532"/>
                    </a:lnTo>
                    <a:lnTo>
                      <a:pt x="41" y="1630"/>
                    </a:lnTo>
                    <a:lnTo>
                      <a:pt x="23" y="1731"/>
                    </a:lnTo>
                    <a:lnTo>
                      <a:pt x="10" y="1833"/>
                    </a:lnTo>
                    <a:lnTo>
                      <a:pt x="2" y="1937"/>
                    </a:lnTo>
                    <a:lnTo>
                      <a:pt x="0" y="2042"/>
                    </a:lnTo>
                    <a:lnTo>
                      <a:pt x="2" y="2146"/>
                    </a:lnTo>
                    <a:lnTo>
                      <a:pt x="10" y="2250"/>
                    </a:lnTo>
                    <a:lnTo>
                      <a:pt x="23" y="2353"/>
                    </a:lnTo>
                    <a:lnTo>
                      <a:pt x="41" y="2453"/>
                    </a:lnTo>
                    <a:lnTo>
                      <a:pt x="63" y="2551"/>
                    </a:lnTo>
                    <a:lnTo>
                      <a:pt x="91" y="2649"/>
                    </a:lnTo>
                    <a:lnTo>
                      <a:pt x="124" y="2743"/>
                    </a:lnTo>
                    <a:lnTo>
                      <a:pt x="159" y="2835"/>
                    </a:lnTo>
                    <a:lnTo>
                      <a:pt x="200" y="2926"/>
                    </a:lnTo>
                    <a:lnTo>
                      <a:pt x="246" y="3014"/>
                    </a:lnTo>
                    <a:lnTo>
                      <a:pt x="294" y="3100"/>
                    </a:lnTo>
                    <a:lnTo>
                      <a:pt x="349" y="3182"/>
                    </a:lnTo>
                    <a:lnTo>
                      <a:pt x="405" y="3262"/>
                    </a:lnTo>
                    <a:lnTo>
                      <a:pt x="465" y="3340"/>
                    </a:lnTo>
                    <a:lnTo>
                      <a:pt x="530" y="3413"/>
                    </a:lnTo>
                    <a:lnTo>
                      <a:pt x="597" y="3485"/>
                    </a:lnTo>
                    <a:lnTo>
                      <a:pt x="668" y="3552"/>
                    </a:lnTo>
                    <a:lnTo>
                      <a:pt x="743" y="3616"/>
                    </a:lnTo>
                    <a:lnTo>
                      <a:pt x="820" y="3677"/>
                    </a:lnTo>
                    <a:lnTo>
                      <a:pt x="900" y="3734"/>
                    </a:lnTo>
                    <a:lnTo>
                      <a:pt x="983" y="3787"/>
                    </a:lnTo>
                    <a:lnTo>
                      <a:pt x="1068" y="3836"/>
                    </a:lnTo>
                    <a:lnTo>
                      <a:pt x="1156" y="3881"/>
                    </a:lnTo>
                    <a:lnTo>
                      <a:pt x="1246" y="3922"/>
                    </a:lnTo>
                    <a:lnTo>
                      <a:pt x="1339" y="3959"/>
                    </a:lnTo>
                    <a:lnTo>
                      <a:pt x="1434" y="3990"/>
                    </a:lnTo>
                    <a:lnTo>
                      <a:pt x="1531" y="4018"/>
                    </a:lnTo>
                    <a:lnTo>
                      <a:pt x="1630" y="4041"/>
                    </a:lnTo>
                    <a:lnTo>
                      <a:pt x="1731" y="4059"/>
                    </a:lnTo>
                    <a:lnTo>
                      <a:pt x="1832" y="4072"/>
                    </a:lnTo>
                    <a:lnTo>
                      <a:pt x="1936" y="4080"/>
                    </a:lnTo>
                    <a:lnTo>
                      <a:pt x="2041" y="4082"/>
                    </a:lnTo>
                    <a:lnTo>
                      <a:pt x="2101" y="4082"/>
                    </a:lnTo>
                    <a:lnTo>
                      <a:pt x="2161" y="4079"/>
                    </a:lnTo>
                    <a:lnTo>
                      <a:pt x="2220" y="4074"/>
                    </a:lnTo>
                    <a:lnTo>
                      <a:pt x="2278" y="4069"/>
                    </a:lnTo>
                    <a:lnTo>
                      <a:pt x="2337" y="4061"/>
                    </a:lnTo>
                    <a:lnTo>
                      <a:pt x="2394" y="4052"/>
                    </a:lnTo>
                    <a:lnTo>
                      <a:pt x="2451" y="4041"/>
                    </a:lnTo>
                    <a:lnTo>
                      <a:pt x="2507" y="4029"/>
                    </a:lnTo>
                    <a:lnTo>
                      <a:pt x="2564" y="4015"/>
                    </a:lnTo>
                    <a:lnTo>
                      <a:pt x="2619" y="4000"/>
                    </a:lnTo>
                    <a:lnTo>
                      <a:pt x="2674" y="3982"/>
                    </a:lnTo>
                    <a:lnTo>
                      <a:pt x="2728" y="3964"/>
                    </a:lnTo>
                    <a:lnTo>
                      <a:pt x="2781" y="3944"/>
                    </a:lnTo>
                    <a:lnTo>
                      <a:pt x="2834" y="3923"/>
                    </a:lnTo>
                    <a:lnTo>
                      <a:pt x="2886" y="3900"/>
                    </a:lnTo>
                    <a:lnTo>
                      <a:pt x="2936" y="3876"/>
                    </a:lnTo>
                    <a:lnTo>
                      <a:pt x="2918" y="3839"/>
                    </a:lnTo>
                    <a:lnTo>
                      <a:pt x="2868" y="3863"/>
                    </a:lnTo>
                    <a:lnTo>
                      <a:pt x="2818" y="3884"/>
                    </a:lnTo>
                    <a:lnTo>
                      <a:pt x="2766" y="3905"/>
                    </a:lnTo>
                    <a:lnTo>
                      <a:pt x="2714" y="3925"/>
                    </a:lnTo>
                    <a:lnTo>
                      <a:pt x="2661" y="3942"/>
                    </a:lnTo>
                    <a:lnTo>
                      <a:pt x="2607" y="3960"/>
                    </a:lnTo>
                    <a:lnTo>
                      <a:pt x="2553" y="3975"/>
                    </a:lnTo>
                    <a:lnTo>
                      <a:pt x="2499" y="3988"/>
                    </a:lnTo>
                    <a:lnTo>
                      <a:pt x="2443" y="4000"/>
                    </a:lnTo>
                    <a:lnTo>
                      <a:pt x="2387" y="4011"/>
                    </a:lnTo>
                    <a:lnTo>
                      <a:pt x="2330" y="4020"/>
                    </a:lnTo>
                    <a:lnTo>
                      <a:pt x="2274" y="4027"/>
                    </a:lnTo>
                    <a:lnTo>
                      <a:pt x="2216" y="4033"/>
                    </a:lnTo>
                    <a:lnTo>
                      <a:pt x="2158" y="4038"/>
                    </a:lnTo>
                    <a:lnTo>
                      <a:pt x="2100" y="4040"/>
                    </a:lnTo>
                    <a:lnTo>
                      <a:pt x="2041" y="4041"/>
                    </a:lnTo>
                    <a:lnTo>
                      <a:pt x="1938" y="4038"/>
                    </a:lnTo>
                    <a:lnTo>
                      <a:pt x="1836" y="4030"/>
                    </a:lnTo>
                    <a:lnTo>
                      <a:pt x="1737" y="4018"/>
                    </a:lnTo>
                    <a:lnTo>
                      <a:pt x="1638" y="4000"/>
                    </a:lnTo>
                    <a:lnTo>
                      <a:pt x="1541" y="3978"/>
                    </a:lnTo>
                    <a:lnTo>
                      <a:pt x="1446" y="3951"/>
                    </a:lnTo>
                    <a:lnTo>
                      <a:pt x="1353" y="3920"/>
                    </a:lnTo>
                    <a:lnTo>
                      <a:pt x="1263" y="3883"/>
                    </a:lnTo>
                    <a:lnTo>
                      <a:pt x="1174" y="3843"/>
                    </a:lnTo>
                    <a:lnTo>
                      <a:pt x="1088" y="3799"/>
                    </a:lnTo>
                    <a:lnTo>
                      <a:pt x="1004" y="3751"/>
                    </a:lnTo>
                    <a:lnTo>
                      <a:pt x="923" y="3699"/>
                    </a:lnTo>
                    <a:lnTo>
                      <a:pt x="844" y="3643"/>
                    </a:lnTo>
                    <a:lnTo>
                      <a:pt x="769" y="3584"/>
                    </a:lnTo>
                    <a:lnTo>
                      <a:pt x="696" y="3521"/>
                    </a:lnTo>
                    <a:lnTo>
                      <a:pt x="627" y="3455"/>
                    </a:lnTo>
                    <a:lnTo>
                      <a:pt x="560" y="3385"/>
                    </a:lnTo>
                    <a:lnTo>
                      <a:pt x="498" y="3313"/>
                    </a:lnTo>
                    <a:lnTo>
                      <a:pt x="438" y="3237"/>
                    </a:lnTo>
                    <a:lnTo>
                      <a:pt x="383" y="3159"/>
                    </a:lnTo>
                    <a:lnTo>
                      <a:pt x="330" y="3078"/>
                    </a:lnTo>
                    <a:lnTo>
                      <a:pt x="283" y="2994"/>
                    </a:lnTo>
                    <a:lnTo>
                      <a:pt x="238" y="2908"/>
                    </a:lnTo>
                    <a:lnTo>
                      <a:pt x="198" y="2819"/>
                    </a:lnTo>
                    <a:lnTo>
                      <a:pt x="163" y="2729"/>
                    </a:lnTo>
                    <a:lnTo>
                      <a:pt x="131" y="2636"/>
                    </a:lnTo>
                    <a:lnTo>
                      <a:pt x="104" y="2541"/>
                    </a:lnTo>
                    <a:lnTo>
                      <a:pt x="82" y="2445"/>
                    </a:lnTo>
                    <a:lnTo>
                      <a:pt x="64" y="2346"/>
                    </a:lnTo>
                    <a:lnTo>
                      <a:pt x="51" y="2246"/>
                    </a:lnTo>
                    <a:lnTo>
                      <a:pt x="44" y="2144"/>
                    </a:lnTo>
                    <a:lnTo>
                      <a:pt x="41" y="2042"/>
                    </a:lnTo>
                    <a:lnTo>
                      <a:pt x="44" y="1939"/>
                    </a:lnTo>
                    <a:lnTo>
                      <a:pt x="51" y="1838"/>
                    </a:lnTo>
                    <a:lnTo>
                      <a:pt x="64" y="1737"/>
                    </a:lnTo>
                    <a:lnTo>
                      <a:pt x="82" y="1639"/>
                    </a:lnTo>
                    <a:lnTo>
                      <a:pt x="104" y="1542"/>
                    </a:lnTo>
                    <a:lnTo>
                      <a:pt x="131" y="1447"/>
                    </a:lnTo>
                    <a:lnTo>
                      <a:pt x="163" y="1354"/>
                    </a:lnTo>
                    <a:lnTo>
                      <a:pt x="198" y="1263"/>
                    </a:lnTo>
                    <a:lnTo>
                      <a:pt x="238" y="1174"/>
                    </a:lnTo>
                    <a:lnTo>
                      <a:pt x="283" y="1088"/>
                    </a:lnTo>
                    <a:lnTo>
                      <a:pt x="330" y="1005"/>
                    </a:lnTo>
                    <a:lnTo>
                      <a:pt x="383" y="924"/>
                    </a:lnTo>
                    <a:lnTo>
                      <a:pt x="438" y="845"/>
                    </a:lnTo>
                    <a:lnTo>
                      <a:pt x="498" y="769"/>
                    </a:lnTo>
                    <a:lnTo>
                      <a:pt x="560" y="697"/>
                    </a:lnTo>
                    <a:lnTo>
                      <a:pt x="627" y="628"/>
                    </a:lnTo>
                    <a:lnTo>
                      <a:pt x="696" y="562"/>
                    </a:lnTo>
                    <a:lnTo>
                      <a:pt x="769" y="498"/>
                    </a:lnTo>
                    <a:lnTo>
                      <a:pt x="844" y="439"/>
                    </a:lnTo>
                    <a:lnTo>
                      <a:pt x="923" y="384"/>
                    </a:lnTo>
                    <a:lnTo>
                      <a:pt x="1004" y="332"/>
                    </a:lnTo>
                    <a:lnTo>
                      <a:pt x="1088" y="283"/>
                    </a:lnTo>
                    <a:lnTo>
                      <a:pt x="1174" y="239"/>
                    </a:lnTo>
                    <a:lnTo>
                      <a:pt x="1263" y="199"/>
                    </a:lnTo>
                    <a:lnTo>
                      <a:pt x="1353" y="164"/>
                    </a:lnTo>
                    <a:lnTo>
                      <a:pt x="1446" y="132"/>
                    </a:lnTo>
                    <a:lnTo>
                      <a:pt x="1541" y="105"/>
                    </a:lnTo>
                    <a:lnTo>
                      <a:pt x="1638" y="83"/>
                    </a:lnTo>
                    <a:lnTo>
                      <a:pt x="1737" y="65"/>
                    </a:lnTo>
                    <a:lnTo>
                      <a:pt x="1836" y="52"/>
                    </a:lnTo>
                    <a:lnTo>
                      <a:pt x="1938" y="45"/>
                    </a:lnTo>
                    <a:lnTo>
                      <a:pt x="2041" y="43"/>
                    </a:lnTo>
                    <a:lnTo>
                      <a:pt x="2144" y="45"/>
                    </a:lnTo>
                    <a:lnTo>
                      <a:pt x="2246" y="52"/>
                    </a:lnTo>
                    <a:lnTo>
                      <a:pt x="2345" y="65"/>
                    </a:lnTo>
                    <a:lnTo>
                      <a:pt x="2444" y="83"/>
                    </a:lnTo>
                    <a:lnTo>
                      <a:pt x="2541" y="105"/>
                    </a:lnTo>
                    <a:lnTo>
                      <a:pt x="2636" y="132"/>
                    </a:lnTo>
                    <a:lnTo>
                      <a:pt x="2729" y="164"/>
                    </a:lnTo>
                    <a:lnTo>
                      <a:pt x="2820" y="199"/>
                    </a:lnTo>
                    <a:lnTo>
                      <a:pt x="2908" y="239"/>
                    </a:lnTo>
                    <a:lnTo>
                      <a:pt x="2995" y="283"/>
                    </a:lnTo>
                    <a:lnTo>
                      <a:pt x="3078" y="332"/>
                    </a:lnTo>
                    <a:lnTo>
                      <a:pt x="3159" y="384"/>
                    </a:lnTo>
                    <a:lnTo>
                      <a:pt x="3238" y="439"/>
                    </a:lnTo>
                    <a:lnTo>
                      <a:pt x="3314" y="498"/>
                    </a:lnTo>
                    <a:lnTo>
                      <a:pt x="3386" y="562"/>
                    </a:lnTo>
                    <a:lnTo>
                      <a:pt x="3455" y="628"/>
                    </a:lnTo>
                    <a:lnTo>
                      <a:pt x="3522" y="697"/>
                    </a:lnTo>
                    <a:lnTo>
                      <a:pt x="3585" y="769"/>
                    </a:lnTo>
                    <a:lnTo>
                      <a:pt x="3644" y="845"/>
                    </a:lnTo>
                    <a:lnTo>
                      <a:pt x="3699" y="924"/>
                    </a:lnTo>
                    <a:lnTo>
                      <a:pt x="3751" y="1005"/>
                    </a:lnTo>
                    <a:lnTo>
                      <a:pt x="3800" y="1088"/>
                    </a:lnTo>
                    <a:lnTo>
                      <a:pt x="3844" y="1174"/>
                    </a:lnTo>
                    <a:lnTo>
                      <a:pt x="3884" y="1263"/>
                    </a:lnTo>
                    <a:lnTo>
                      <a:pt x="3920" y="1354"/>
                    </a:lnTo>
                    <a:lnTo>
                      <a:pt x="3951" y="1447"/>
                    </a:lnTo>
                    <a:lnTo>
                      <a:pt x="3978" y="1542"/>
                    </a:lnTo>
                    <a:lnTo>
                      <a:pt x="4001" y="1639"/>
                    </a:lnTo>
                    <a:lnTo>
                      <a:pt x="4018" y="1737"/>
                    </a:lnTo>
                    <a:lnTo>
                      <a:pt x="4031" y="1838"/>
                    </a:lnTo>
                    <a:lnTo>
                      <a:pt x="4039" y="1939"/>
                    </a:lnTo>
                    <a:lnTo>
                      <a:pt x="4041" y="2042"/>
                    </a:lnTo>
                    <a:lnTo>
                      <a:pt x="4041" y="2075"/>
                    </a:lnTo>
                    <a:lnTo>
                      <a:pt x="4040" y="2109"/>
                    </a:lnTo>
                    <a:lnTo>
                      <a:pt x="4039" y="2142"/>
                    </a:lnTo>
                    <a:lnTo>
                      <a:pt x="4036" y="2176"/>
                    </a:lnTo>
                    <a:lnTo>
                      <a:pt x="4034" y="2208"/>
                    </a:lnTo>
                    <a:lnTo>
                      <a:pt x="4031" y="2241"/>
                    </a:lnTo>
                    <a:lnTo>
                      <a:pt x="4028" y="2274"/>
                    </a:lnTo>
                    <a:lnTo>
                      <a:pt x="4023" y="2306"/>
                    </a:lnTo>
                    <a:lnTo>
                      <a:pt x="4014" y="2371"/>
                    </a:lnTo>
                    <a:lnTo>
                      <a:pt x="4002" y="2435"/>
                    </a:lnTo>
                    <a:lnTo>
                      <a:pt x="3989" y="2499"/>
                    </a:lnTo>
                    <a:lnTo>
                      <a:pt x="3973" y="2561"/>
                    </a:lnTo>
                    <a:lnTo>
                      <a:pt x="4013" y="2572"/>
                    </a:lnTo>
                    <a:lnTo>
                      <a:pt x="4029" y="2508"/>
                    </a:lnTo>
                    <a:lnTo>
                      <a:pt x="4043" y="2443"/>
                    </a:lnTo>
                    <a:lnTo>
                      <a:pt x="4049" y="2411"/>
                    </a:lnTo>
                    <a:lnTo>
                      <a:pt x="4055" y="2379"/>
                    </a:lnTo>
                    <a:lnTo>
                      <a:pt x="4060" y="2345"/>
                    </a:lnTo>
                    <a:lnTo>
                      <a:pt x="4066" y="2312"/>
                    </a:lnTo>
                    <a:lnTo>
                      <a:pt x="4069" y="2279"/>
                    </a:lnTo>
                    <a:lnTo>
                      <a:pt x="4073" y="2246"/>
                    </a:lnTo>
                    <a:lnTo>
                      <a:pt x="4076" y="2211"/>
                    </a:lnTo>
                    <a:lnTo>
                      <a:pt x="4079" y="2178"/>
                    </a:lnTo>
                    <a:lnTo>
                      <a:pt x="4081" y="2144"/>
                    </a:lnTo>
                    <a:lnTo>
                      <a:pt x="4082" y="2110"/>
                    </a:lnTo>
                    <a:lnTo>
                      <a:pt x="4083" y="2076"/>
                    </a:lnTo>
                    <a:lnTo>
                      <a:pt x="4083" y="2042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72080" y="2195640"/>
                <a:ext cx="1604880" cy="1603080"/>
              </a:xfrm>
              <a:custGeom>
                <a:avLst/>
                <a:gdLst/>
                <a:ahLst/>
                <a:rect l="l" t="t" r="r" b="b"/>
                <a:pathLst>
                  <a:path w="4042" h="4040">
                    <a:moveTo>
                      <a:pt x="4042" y="2021"/>
                    </a:moveTo>
                    <a:lnTo>
                      <a:pt x="4039" y="1917"/>
                    </a:lnTo>
                    <a:lnTo>
                      <a:pt x="4032" y="1814"/>
                    </a:lnTo>
                    <a:lnTo>
                      <a:pt x="4019" y="1713"/>
                    </a:lnTo>
                    <a:lnTo>
                      <a:pt x="4001" y="1614"/>
                    </a:lnTo>
                    <a:lnTo>
                      <a:pt x="3979" y="1515"/>
                    </a:lnTo>
                    <a:lnTo>
                      <a:pt x="3952" y="1420"/>
                    </a:lnTo>
                    <a:lnTo>
                      <a:pt x="3919" y="1326"/>
                    </a:lnTo>
                    <a:lnTo>
                      <a:pt x="3883" y="1234"/>
                    </a:lnTo>
                    <a:lnTo>
                      <a:pt x="3842" y="1145"/>
                    </a:lnTo>
                    <a:lnTo>
                      <a:pt x="3798" y="1057"/>
                    </a:lnTo>
                    <a:lnTo>
                      <a:pt x="3750" y="973"/>
                    </a:lnTo>
                    <a:lnTo>
                      <a:pt x="3697" y="891"/>
                    </a:lnTo>
                    <a:lnTo>
                      <a:pt x="3640" y="812"/>
                    </a:lnTo>
                    <a:lnTo>
                      <a:pt x="3581" y="735"/>
                    </a:lnTo>
                    <a:lnTo>
                      <a:pt x="3517" y="662"/>
                    </a:lnTo>
                    <a:lnTo>
                      <a:pt x="3450" y="592"/>
                    </a:lnTo>
                    <a:lnTo>
                      <a:pt x="3380" y="525"/>
                    </a:lnTo>
                    <a:lnTo>
                      <a:pt x="3306" y="462"/>
                    </a:lnTo>
                    <a:lnTo>
                      <a:pt x="3230" y="402"/>
                    </a:lnTo>
                    <a:lnTo>
                      <a:pt x="3151" y="346"/>
                    </a:lnTo>
                    <a:lnTo>
                      <a:pt x="3069" y="293"/>
                    </a:lnTo>
                    <a:lnTo>
                      <a:pt x="2984" y="244"/>
                    </a:lnTo>
                    <a:lnTo>
                      <a:pt x="2897" y="200"/>
                    </a:lnTo>
                    <a:lnTo>
                      <a:pt x="2807" y="159"/>
                    </a:lnTo>
                    <a:lnTo>
                      <a:pt x="2717" y="123"/>
                    </a:lnTo>
                    <a:lnTo>
                      <a:pt x="2623" y="91"/>
                    </a:lnTo>
                    <a:lnTo>
                      <a:pt x="2526" y="64"/>
                    </a:lnTo>
                    <a:lnTo>
                      <a:pt x="2428" y="41"/>
                    </a:lnTo>
                    <a:lnTo>
                      <a:pt x="2329" y="24"/>
                    </a:lnTo>
                    <a:lnTo>
                      <a:pt x="2228" y="11"/>
                    </a:lnTo>
                    <a:lnTo>
                      <a:pt x="2125" y="3"/>
                    </a:lnTo>
                    <a:lnTo>
                      <a:pt x="2021" y="0"/>
                    </a:lnTo>
                    <a:lnTo>
                      <a:pt x="1917" y="3"/>
                    </a:lnTo>
                    <a:lnTo>
                      <a:pt x="1814" y="11"/>
                    </a:lnTo>
                    <a:lnTo>
                      <a:pt x="1714" y="24"/>
                    </a:lnTo>
                    <a:lnTo>
                      <a:pt x="1614" y="41"/>
                    </a:lnTo>
                    <a:lnTo>
                      <a:pt x="1516" y="64"/>
                    </a:lnTo>
                    <a:lnTo>
                      <a:pt x="1420" y="91"/>
                    </a:lnTo>
                    <a:lnTo>
                      <a:pt x="1326" y="123"/>
                    </a:lnTo>
                    <a:lnTo>
                      <a:pt x="1235" y="159"/>
                    </a:lnTo>
                    <a:lnTo>
                      <a:pt x="1145" y="200"/>
                    </a:lnTo>
                    <a:lnTo>
                      <a:pt x="1058" y="244"/>
                    </a:lnTo>
                    <a:lnTo>
                      <a:pt x="974" y="293"/>
                    </a:lnTo>
                    <a:lnTo>
                      <a:pt x="891" y="346"/>
                    </a:lnTo>
                    <a:lnTo>
                      <a:pt x="812" y="402"/>
                    </a:lnTo>
                    <a:lnTo>
                      <a:pt x="736" y="462"/>
                    </a:lnTo>
                    <a:lnTo>
                      <a:pt x="662" y="525"/>
                    </a:lnTo>
                    <a:lnTo>
                      <a:pt x="592" y="592"/>
                    </a:lnTo>
                    <a:lnTo>
                      <a:pt x="525" y="662"/>
                    </a:lnTo>
                    <a:lnTo>
                      <a:pt x="461" y="735"/>
                    </a:lnTo>
                    <a:lnTo>
                      <a:pt x="402" y="812"/>
                    </a:lnTo>
                    <a:lnTo>
                      <a:pt x="346" y="891"/>
                    </a:lnTo>
                    <a:lnTo>
                      <a:pt x="293" y="973"/>
                    </a:lnTo>
                    <a:lnTo>
                      <a:pt x="244" y="1057"/>
                    </a:lnTo>
                    <a:lnTo>
                      <a:pt x="200" y="1145"/>
                    </a:lnTo>
                    <a:lnTo>
                      <a:pt x="159" y="1234"/>
                    </a:lnTo>
                    <a:lnTo>
                      <a:pt x="123" y="1326"/>
                    </a:lnTo>
                    <a:lnTo>
                      <a:pt x="91" y="1420"/>
                    </a:lnTo>
                    <a:lnTo>
                      <a:pt x="64" y="1515"/>
                    </a:lnTo>
                    <a:lnTo>
                      <a:pt x="41" y="1614"/>
                    </a:lnTo>
                    <a:lnTo>
                      <a:pt x="24" y="1713"/>
                    </a:lnTo>
                    <a:lnTo>
                      <a:pt x="11" y="1814"/>
                    </a:lnTo>
                    <a:lnTo>
                      <a:pt x="3" y="1917"/>
                    </a:lnTo>
                    <a:lnTo>
                      <a:pt x="0" y="2021"/>
                    </a:lnTo>
                    <a:lnTo>
                      <a:pt x="3" y="2124"/>
                    </a:lnTo>
                    <a:lnTo>
                      <a:pt x="11" y="2227"/>
                    </a:lnTo>
                    <a:lnTo>
                      <a:pt x="24" y="2328"/>
                    </a:lnTo>
                    <a:lnTo>
                      <a:pt x="41" y="2428"/>
                    </a:lnTo>
                    <a:lnTo>
                      <a:pt x="64" y="2525"/>
                    </a:lnTo>
                    <a:lnTo>
                      <a:pt x="91" y="2621"/>
                    </a:lnTo>
                    <a:lnTo>
                      <a:pt x="123" y="2715"/>
                    </a:lnTo>
                    <a:lnTo>
                      <a:pt x="159" y="2807"/>
                    </a:lnTo>
                    <a:lnTo>
                      <a:pt x="200" y="2897"/>
                    </a:lnTo>
                    <a:lnTo>
                      <a:pt x="244" y="2983"/>
                    </a:lnTo>
                    <a:lnTo>
                      <a:pt x="293" y="3068"/>
                    </a:lnTo>
                    <a:lnTo>
                      <a:pt x="346" y="3149"/>
                    </a:lnTo>
                    <a:lnTo>
                      <a:pt x="402" y="3229"/>
                    </a:lnTo>
                    <a:lnTo>
                      <a:pt x="461" y="3305"/>
                    </a:lnTo>
                    <a:lnTo>
                      <a:pt x="525" y="3378"/>
                    </a:lnTo>
                    <a:lnTo>
                      <a:pt x="592" y="3448"/>
                    </a:lnTo>
                    <a:lnTo>
                      <a:pt x="662" y="3515"/>
                    </a:lnTo>
                    <a:lnTo>
                      <a:pt x="736" y="3579"/>
                    </a:lnTo>
                    <a:lnTo>
                      <a:pt x="812" y="3640"/>
                    </a:lnTo>
                    <a:lnTo>
                      <a:pt x="891" y="3696"/>
                    </a:lnTo>
                    <a:lnTo>
                      <a:pt x="974" y="3748"/>
                    </a:lnTo>
                    <a:lnTo>
                      <a:pt x="1058" y="3796"/>
                    </a:lnTo>
                    <a:lnTo>
                      <a:pt x="1145" y="3842"/>
                    </a:lnTo>
                    <a:lnTo>
                      <a:pt x="1235" y="3882"/>
                    </a:lnTo>
                    <a:lnTo>
                      <a:pt x="1326" y="3918"/>
                    </a:lnTo>
                    <a:lnTo>
                      <a:pt x="1420" y="3950"/>
                    </a:lnTo>
                    <a:lnTo>
                      <a:pt x="1516" y="3977"/>
                    </a:lnTo>
                    <a:lnTo>
                      <a:pt x="1614" y="3999"/>
                    </a:lnTo>
                    <a:lnTo>
                      <a:pt x="1714" y="4018"/>
                    </a:lnTo>
                    <a:lnTo>
                      <a:pt x="1814" y="4029"/>
                    </a:lnTo>
                    <a:lnTo>
                      <a:pt x="1917" y="4038"/>
                    </a:lnTo>
                    <a:lnTo>
                      <a:pt x="2021" y="4040"/>
                    </a:lnTo>
                    <a:lnTo>
                      <a:pt x="2080" y="4039"/>
                    </a:lnTo>
                    <a:lnTo>
                      <a:pt x="2140" y="4037"/>
                    </a:lnTo>
                    <a:lnTo>
                      <a:pt x="2198" y="4033"/>
                    </a:lnTo>
                    <a:lnTo>
                      <a:pt x="2256" y="4027"/>
                    </a:lnTo>
                    <a:lnTo>
                      <a:pt x="2313" y="4020"/>
                    </a:lnTo>
                    <a:lnTo>
                      <a:pt x="2371" y="4010"/>
                    </a:lnTo>
                    <a:lnTo>
                      <a:pt x="2427" y="3999"/>
                    </a:lnTo>
                    <a:lnTo>
                      <a:pt x="2483" y="3987"/>
                    </a:lnTo>
                    <a:lnTo>
                      <a:pt x="2538" y="3973"/>
                    </a:lnTo>
                    <a:lnTo>
                      <a:pt x="2593" y="3958"/>
                    </a:lnTo>
                    <a:lnTo>
                      <a:pt x="2647" y="3942"/>
                    </a:lnTo>
                    <a:lnTo>
                      <a:pt x="2700" y="3924"/>
                    </a:lnTo>
                    <a:lnTo>
                      <a:pt x="2753" y="3903"/>
                    </a:lnTo>
                    <a:lnTo>
                      <a:pt x="2805" y="3883"/>
                    </a:lnTo>
                    <a:lnTo>
                      <a:pt x="2857" y="3860"/>
                    </a:lnTo>
                    <a:lnTo>
                      <a:pt x="2907" y="3836"/>
                    </a:lnTo>
                    <a:lnTo>
                      <a:pt x="2889" y="3798"/>
                    </a:lnTo>
                    <a:lnTo>
                      <a:pt x="2840" y="3822"/>
                    </a:lnTo>
                    <a:lnTo>
                      <a:pt x="2789" y="3844"/>
                    </a:lnTo>
                    <a:lnTo>
                      <a:pt x="2738" y="3865"/>
                    </a:lnTo>
                    <a:lnTo>
                      <a:pt x="2686" y="3884"/>
                    </a:lnTo>
                    <a:lnTo>
                      <a:pt x="2634" y="3902"/>
                    </a:lnTo>
                    <a:lnTo>
                      <a:pt x="2581" y="3918"/>
                    </a:lnTo>
                    <a:lnTo>
                      <a:pt x="2527" y="3933"/>
                    </a:lnTo>
                    <a:lnTo>
                      <a:pt x="2473" y="3946"/>
                    </a:lnTo>
                    <a:lnTo>
                      <a:pt x="2418" y="3959"/>
                    </a:lnTo>
                    <a:lnTo>
                      <a:pt x="2363" y="3969"/>
                    </a:lnTo>
                    <a:lnTo>
                      <a:pt x="2308" y="3978"/>
                    </a:lnTo>
                    <a:lnTo>
                      <a:pt x="2251" y="3985"/>
                    </a:lnTo>
                    <a:lnTo>
                      <a:pt x="2195" y="3992"/>
                    </a:lnTo>
                    <a:lnTo>
                      <a:pt x="2137" y="3995"/>
                    </a:lnTo>
                    <a:lnTo>
                      <a:pt x="2079" y="3998"/>
                    </a:lnTo>
                    <a:lnTo>
                      <a:pt x="2021" y="3999"/>
                    </a:lnTo>
                    <a:lnTo>
                      <a:pt x="1919" y="3996"/>
                    </a:lnTo>
                    <a:lnTo>
                      <a:pt x="1819" y="3988"/>
                    </a:lnTo>
                    <a:lnTo>
                      <a:pt x="1720" y="3975"/>
                    </a:lnTo>
                    <a:lnTo>
                      <a:pt x="1622" y="3958"/>
                    </a:lnTo>
                    <a:lnTo>
                      <a:pt x="1527" y="3937"/>
                    </a:lnTo>
                    <a:lnTo>
                      <a:pt x="1433" y="3910"/>
                    </a:lnTo>
                    <a:lnTo>
                      <a:pt x="1341" y="3878"/>
                    </a:lnTo>
                    <a:lnTo>
                      <a:pt x="1251" y="3844"/>
                    </a:lnTo>
                    <a:lnTo>
                      <a:pt x="1163" y="3804"/>
                    </a:lnTo>
                    <a:lnTo>
                      <a:pt x="1077" y="3759"/>
                    </a:lnTo>
                    <a:lnTo>
                      <a:pt x="995" y="3712"/>
                    </a:lnTo>
                    <a:lnTo>
                      <a:pt x="914" y="3661"/>
                    </a:lnTo>
                    <a:lnTo>
                      <a:pt x="837" y="3606"/>
                    </a:lnTo>
                    <a:lnTo>
                      <a:pt x="762" y="3547"/>
                    </a:lnTo>
                    <a:lnTo>
                      <a:pt x="691" y="3485"/>
                    </a:lnTo>
                    <a:lnTo>
                      <a:pt x="621" y="3419"/>
                    </a:lnTo>
                    <a:lnTo>
                      <a:pt x="557" y="3350"/>
                    </a:lnTo>
                    <a:lnTo>
                      <a:pt x="494" y="3279"/>
                    </a:lnTo>
                    <a:lnTo>
                      <a:pt x="435" y="3204"/>
                    </a:lnTo>
                    <a:lnTo>
                      <a:pt x="380" y="3127"/>
                    </a:lnTo>
                    <a:lnTo>
                      <a:pt x="329" y="3047"/>
                    </a:lnTo>
                    <a:lnTo>
                      <a:pt x="281" y="2964"/>
                    </a:lnTo>
                    <a:lnTo>
                      <a:pt x="237" y="2878"/>
                    </a:lnTo>
                    <a:lnTo>
                      <a:pt x="198" y="2791"/>
                    </a:lnTo>
                    <a:lnTo>
                      <a:pt x="162" y="2701"/>
                    </a:lnTo>
                    <a:lnTo>
                      <a:pt x="131" y="2608"/>
                    </a:lnTo>
                    <a:lnTo>
                      <a:pt x="104" y="2515"/>
                    </a:lnTo>
                    <a:lnTo>
                      <a:pt x="82" y="2419"/>
                    </a:lnTo>
                    <a:lnTo>
                      <a:pt x="65" y="2322"/>
                    </a:lnTo>
                    <a:lnTo>
                      <a:pt x="52" y="2223"/>
                    </a:lnTo>
                    <a:lnTo>
                      <a:pt x="44" y="2122"/>
                    </a:lnTo>
                    <a:lnTo>
                      <a:pt x="42" y="2021"/>
                    </a:lnTo>
                    <a:lnTo>
                      <a:pt x="44" y="1918"/>
                    </a:lnTo>
                    <a:lnTo>
                      <a:pt x="52" y="1818"/>
                    </a:lnTo>
                    <a:lnTo>
                      <a:pt x="65" y="1719"/>
                    </a:lnTo>
                    <a:lnTo>
                      <a:pt x="82" y="1622"/>
                    </a:lnTo>
                    <a:lnTo>
                      <a:pt x="104" y="1526"/>
                    </a:lnTo>
                    <a:lnTo>
                      <a:pt x="131" y="1432"/>
                    </a:lnTo>
                    <a:lnTo>
                      <a:pt x="162" y="1340"/>
                    </a:lnTo>
                    <a:lnTo>
                      <a:pt x="198" y="1251"/>
                    </a:lnTo>
                    <a:lnTo>
                      <a:pt x="237" y="1163"/>
                    </a:lnTo>
                    <a:lnTo>
                      <a:pt x="281" y="1078"/>
                    </a:lnTo>
                    <a:lnTo>
                      <a:pt x="329" y="995"/>
                    </a:lnTo>
                    <a:lnTo>
                      <a:pt x="380" y="915"/>
                    </a:lnTo>
                    <a:lnTo>
                      <a:pt x="435" y="837"/>
                    </a:lnTo>
                    <a:lnTo>
                      <a:pt x="494" y="762"/>
                    </a:lnTo>
                    <a:lnTo>
                      <a:pt x="557" y="690"/>
                    </a:lnTo>
                    <a:lnTo>
                      <a:pt x="621" y="622"/>
                    </a:lnTo>
                    <a:lnTo>
                      <a:pt x="691" y="556"/>
                    </a:lnTo>
                    <a:lnTo>
                      <a:pt x="762" y="494"/>
                    </a:lnTo>
                    <a:lnTo>
                      <a:pt x="837" y="435"/>
                    </a:lnTo>
                    <a:lnTo>
                      <a:pt x="914" y="380"/>
                    </a:lnTo>
                    <a:lnTo>
                      <a:pt x="995" y="328"/>
                    </a:lnTo>
                    <a:lnTo>
                      <a:pt x="1077" y="281"/>
                    </a:lnTo>
                    <a:lnTo>
                      <a:pt x="1163" y="238"/>
                    </a:lnTo>
                    <a:lnTo>
                      <a:pt x="1251" y="198"/>
                    </a:lnTo>
                    <a:lnTo>
                      <a:pt x="1341" y="162"/>
                    </a:lnTo>
                    <a:lnTo>
                      <a:pt x="1433" y="131"/>
                    </a:lnTo>
                    <a:lnTo>
                      <a:pt x="1527" y="105"/>
                    </a:lnTo>
                    <a:lnTo>
                      <a:pt x="1622" y="82"/>
                    </a:lnTo>
                    <a:lnTo>
                      <a:pt x="1720" y="65"/>
                    </a:lnTo>
                    <a:lnTo>
                      <a:pt x="1819" y="52"/>
                    </a:lnTo>
                    <a:lnTo>
                      <a:pt x="1919" y="44"/>
                    </a:lnTo>
                    <a:lnTo>
                      <a:pt x="2021" y="42"/>
                    </a:lnTo>
                    <a:lnTo>
                      <a:pt x="2123" y="44"/>
                    </a:lnTo>
                    <a:lnTo>
                      <a:pt x="2224" y="52"/>
                    </a:lnTo>
                    <a:lnTo>
                      <a:pt x="2322" y="65"/>
                    </a:lnTo>
                    <a:lnTo>
                      <a:pt x="2420" y="82"/>
                    </a:lnTo>
                    <a:lnTo>
                      <a:pt x="2516" y="105"/>
                    </a:lnTo>
                    <a:lnTo>
                      <a:pt x="2610" y="131"/>
                    </a:lnTo>
                    <a:lnTo>
                      <a:pt x="2701" y="162"/>
                    </a:lnTo>
                    <a:lnTo>
                      <a:pt x="2791" y="198"/>
                    </a:lnTo>
                    <a:lnTo>
                      <a:pt x="2880" y="238"/>
                    </a:lnTo>
                    <a:lnTo>
                      <a:pt x="2965" y="281"/>
                    </a:lnTo>
                    <a:lnTo>
                      <a:pt x="3047" y="328"/>
                    </a:lnTo>
                    <a:lnTo>
                      <a:pt x="3128" y="380"/>
                    </a:lnTo>
                    <a:lnTo>
                      <a:pt x="3205" y="435"/>
                    </a:lnTo>
                    <a:lnTo>
                      <a:pt x="3281" y="494"/>
                    </a:lnTo>
                    <a:lnTo>
                      <a:pt x="3352" y="556"/>
                    </a:lnTo>
                    <a:lnTo>
                      <a:pt x="3421" y="622"/>
                    </a:lnTo>
                    <a:lnTo>
                      <a:pt x="3486" y="690"/>
                    </a:lnTo>
                    <a:lnTo>
                      <a:pt x="3549" y="762"/>
                    </a:lnTo>
                    <a:lnTo>
                      <a:pt x="3607" y="837"/>
                    </a:lnTo>
                    <a:lnTo>
                      <a:pt x="3662" y="915"/>
                    </a:lnTo>
                    <a:lnTo>
                      <a:pt x="3714" y="995"/>
                    </a:lnTo>
                    <a:lnTo>
                      <a:pt x="3761" y="1078"/>
                    </a:lnTo>
                    <a:lnTo>
                      <a:pt x="3806" y="1163"/>
                    </a:lnTo>
                    <a:lnTo>
                      <a:pt x="3845" y="1251"/>
                    </a:lnTo>
                    <a:lnTo>
                      <a:pt x="3880" y="1340"/>
                    </a:lnTo>
                    <a:lnTo>
                      <a:pt x="3912" y="1432"/>
                    </a:lnTo>
                    <a:lnTo>
                      <a:pt x="3939" y="1526"/>
                    </a:lnTo>
                    <a:lnTo>
                      <a:pt x="3960" y="1622"/>
                    </a:lnTo>
                    <a:lnTo>
                      <a:pt x="3977" y="1719"/>
                    </a:lnTo>
                    <a:lnTo>
                      <a:pt x="3990" y="1818"/>
                    </a:lnTo>
                    <a:lnTo>
                      <a:pt x="3998" y="1918"/>
                    </a:lnTo>
                    <a:lnTo>
                      <a:pt x="4000" y="2021"/>
                    </a:lnTo>
                    <a:lnTo>
                      <a:pt x="4000" y="2054"/>
                    </a:lnTo>
                    <a:lnTo>
                      <a:pt x="3999" y="2087"/>
                    </a:lnTo>
                    <a:lnTo>
                      <a:pt x="3998" y="2120"/>
                    </a:lnTo>
                    <a:lnTo>
                      <a:pt x="3996" y="2152"/>
                    </a:lnTo>
                    <a:lnTo>
                      <a:pt x="3990" y="2218"/>
                    </a:lnTo>
                    <a:lnTo>
                      <a:pt x="3983" y="2283"/>
                    </a:lnTo>
                    <a:lnTo>
                      <a:pt x="3973" y="2347"/>
                    </a:lnTo>
                    <a:lnTo>
                      <a:pt x="3962" y="2411"/>
                    </a:lnTo>
                    <a:lnTo>
                      <a:pt x="3948" y="2473"/>
                    </a:lnTo>
                    <a:lnTo>
                      <a:pt x="3933" y="2535"/>
                    </a:lnTo>
                    <a:lnTo>
                      <a:pt x="3973" y="2546"/>
                    </a:lnTo>
                    <a:lnTo>
                      <a:pt x="3988" y="2482"/>
                    </a:lnTo>
                    <a:lnTo>
                      <a:pt x="4002" y="2418"/>
                    </a:lnTo>
                    <a:lnTo>
                      <a:pt x="4014" y="2353"/>
                    </a:lnTo>
                    <a:lnTo>
                      <a:pt x="4024" y="2289"/>
                    </a:lnTo>
                    <a:lnTo>
                      <a:pt x="4028" y="2255"/>
                    </a:lnTo>
                    <a:lnTo>
                      <a:pt x="4033" y="2223"/>
                    </a:lnTo>
                    <a:lnTo>
                      <a:pt x="4035" y="2189"/>
                    </a:lnTo>
                    <a:lnTo>
                      <a:pt x="4038" y="2156"/>
                    </a:lnTo>
                    <a:lnTo>
                      <a:pt x="4039" y="2122"/>
                    </a:lnTo>
                    <a:lnTo>
                      <a:pt x="4041" y="2089"/>
                    </a:lnTo>
                    <a:lnTo>
                      <a:pt x="4042" y="2054"/>
                    </a:lnTo>
                    <a:lnTo>
                      <a:pt x="4042" y="2021"/>
                    </a:lnTo>
                    <a:close/>
                  </a:path>
                </a:pathLst>
              </a:custGeom>
              <a:solidFill>
                <a:srgbClr val="e4d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80000" y="2203560"/>
                <a:ext cx="1587240" cy="1587240"/>
              </a:xfrm>
              <a:custGeom>
                <a:avLst/>
                <a:gdLst/>
                <a:ahLst/>
                <a:rect l="l" t="t" r="r" b="b"/>
                <a:pathLst>
                  <a:path w="4000" h="3998">
                    <a:moveTo>
                      <a:pt x="4000" y="1999"/>
                    </a:moveTo>
                    <a:lnTo>
                      <a:pt x="3998" y="1896"/>
                    </a:lnTo>
                    <a:lnTo>
                      <a:pt x="3990" y="1795"/>
                    </a:lnTo>
                    <a:lnTo>
                      <a:pt x="3977" y="1694"/>
                    </a:lnTo>
                    <a:lnTo>
                      <a:pt x="3960" y="1596"/>
                    </a:lnTo>
                    <a:lnTo>
                      <a:pt x="3937" y="1499"/>
                    </a:lnTo>
                    <a:lnTo>
                      <a:pt x="3910" y="1404"/>
                    </a:lnTo>
                    <a:lnTo>
                      <a:pt x="3879" y="1311"/>
                    </a:lnTo>
                    <a:lnTo>
                      <a:pt x="3843" y="1220"/>
                    </a:lnTo>
                    <a:lnTo>
                      <a:pt x="3803" y="1131"/>
                    </a:lnTo>
                    <a:lnTo>
                      <a:pt x="3759" y="1045"/>
                    </a:lnTo>
                    <a:lnTo>
                      <a:pt x="3710" y="962"/>
                    </a:lnTo>
                    <a:lnTo>
                      <a:pt x="3658" y="881"/>
                    </a:lnTo>
                    <a:lnTo>
                      <a:pt x="3603" y="802"/>
                    </a:lnTo>
                    <a:lnTo>
                      <a:pt x="3544" y="726"/>
                    </a:lnTo>
                    <a:lnTo>
                      <a:pt x="3481" y="654"/>
                    </a:lnTo>
                    <a:lnTo>
                      <a:pt x="3414" y="585"/>
                    </a:lnTo>
                    <a:lnTo>
                      <a:pt x="3345" y="519"/>
                    </a:lnTo>
                    <a:lnTo>
                      <a:pt x="3273" y="455"/>
                    </a:lnTo>
                    <a:lnTo>
                      <a:pt x="3197" y="396"/>
                    </a:lnTo>
                    <a:lnTo>
                      <a:pt x="3118" y="341"/>
                    </a:lnTo>
                    <a:lnTo>
                      <a:pt x="3037" y="289"/>
                    </a:lnTo>
                    <a:lnTo>
                      <a:pt x="2954" y="240"/>
                    </a:lnTo>
                    <a:lnTo>
                      <a:pt x="2867" y="196"/>
                    </a:lnTo>
                    <a:lnTo>
                      <a:pt x="2779" y="156"/>
                    </a:lnTo>
                    <a:lnTo>
                      <a:pt x="2688" y="121"/>
                    </a:lnTo>
                    <a:lnTo>
                      <a:pt x="2595" y="89"/>
                    </a:lnTo>
                    <a:lnTo>
                      <a:pt x="2500" y="62"/>
                    </a:lnTo>
                    <a:lnTo>
                      <a:pt x="2403" y="40"/>
                    </a:lnTo>
                    <a:lnTo>
                      <a:pt x="2304" y="22"/>
                    </a:lnTo>
                    <a:lnTo>
                      <a:pt x="2205" y="9"/>
                    </a:lnTo>
                    <a:lnTo>
                      <a:pt x="2103" y="2"/>
                    </a:lnTo>
                    <a:lnTo>
                      <a:pt x="2000" y="0"/>
                    </a:lnTo>
                    <a:lnTo>
                      <a:pt x="1897" y="2"/>
                    </a:lnTo>
                    <a:lnTo>
                      <a:pt x="1795" y="9"/>
                    </a:lnTo>
                    <a:lnTo>
                      <a:pt x="1696" y="22"/>
                    </a:lnTo>
                    <a:lnTo>
                      <a:pt x="1597" y="40"/>
                    </a:lnTo>
                    <a:lnTo>
                      <a:pt x="1500" y="62"/>
                    </a:lnTo>
                    <a:lnTo>
                      <a:pt x="1405" y="89"/>
                    </a:lnTo>
                    <a:lnTo>
                      <a:pt x="1312" y="121"/>
                    </a:lnTo>
                    <a:lnTo>
                      <a:pt x="1222" y="156"/>
                    </a:lnTo>
                    <a:lnTo>
                      <a:pt x="1133" y="196"/>
                    </a:lnTo>
                    <a:lnTo>
                      <a:pt x="1047" y="240"/>
                    </a:lnTo>
                    <a:lnTo>
                      <a:pt x="963" y="289"/>
                    </a:lnTo>
                    <a:lnTo>
                      <a:pt x="882" y="341"/>
                    </a:lnTo>
                    <a:lnTo>
                      <a:pt x="803" y="396"/>
                    </a:lnTo>
                    <a:lnTo>
                      <a:pt x="728" y="455"/>
                    </a:lnTo>
                    <a:lnTo>
                      <a:pt x="655" y="519"/>
                    </a:lnTo>
                    <a:lnTo>
                      <a:pt x="586" y="585"/>
                    </a:lnTo>
                    <a:lnTo>
                      <a:pt x="519" y="654"/>
                    </a:lnTo>
                    <a:lnTo>
                      <a:pt x="457" y="726"/>
                    </a:lnTo>
                    <a:lnTo>
                      <a:pt x="397" y="802"/>
                    </a:lnTo>
                    <a:lnTo>
                      <a:pt x="342" y="881"/>
                    </a:lnTo>
                    <a:lnTo>
                      <a:pt x="289" y="962"/>
                    </a:lnTo>
                    <a:lnTo>
                      <a:pt x="242" y="1045"/>
                    </a:lnTo>
                    <a:lnTo>
                      <a:pt x="197" y="1131"/>
                    </a:lnTo>
                    <a:lnTo>
                      <a:pt x="157" y="1220"/>
                    </a:lnTo>
                    <a:lnTo>
                      <a:pt x="122" y="1311"/>
                    </a:lnTo>
                    <a:lnTo>
                      <a:pt x="90" y="1404"/>
                    </a:lnTo>
                    <a:lnTo>
                      <a:pt x="63" y="1499"/>
                    </a:lnTo>
                    <a:lnTo>
                      <a:pt x="41" y="1596"/>
                    </a:lnTo>
                    <a:lnTo>
                      <a:pt x="23" y="1694"/>
                    </a:lnTo>
                    <a:lnTo>
                      <a:pt x="10" y="1795"/>
                    </a:lnTo>
                    <a:lnTo>
                      <a:pt x="3" y="1896"/>
                    </a:lnTo>
                    <a:lnTo>
                      <a:pt x="0" y="1999"/>
                    </a:lnTo>
                    <a:lnTo>
                      <a:pt x="3" y="2101"/>
                    </a:lnTo>
                    <a:lnTo>
                      <a:pt x="10" y="2203"/>
                    </a:lnTo>
                    <a:lnTo>
                      <a:pt x="23" y="2303"/>
                    </a:lnTo>
                    <a:lnTo>
                      <a:pt x="41" y="2402"/>
                    </a:lnTo>
                    <a:lnTo>
                      <a:pt x="63" y="2498"/>
                    </a:lnTo>
                    <a:lnTo>
                      <a:pt x="90" y="2593"/>
                    </a:lnTo>
                    <a:lnTo>
                      <a:pt x="122" y="2686"/>
                    </a:lnTo>
                    <a:lnTo>
                      <a:pt x="157" y="2776"/>
                    </a:lnTo>
                    <a:lnTo>
                      <a:pt x="197" y="2865"/>
                    </a:lnTo>
                    <a:lnTo>
                      <a:pt x="242" y="2951"/>
                    </a:lnTo>
                    <a:lnTo>
                      <a:pt x="289" y="3035"/>
                    </a:lnTo>
                    <a:lnTo>
                      <a:pt x="342" y="3116"/>
                    </a:lnTo>
                    <a:lnTo>
                      <a:pt x="397" y="3194"/>
                    </a:lnTo>
                    <a:lnTo>
                      <a:pt x="457" y="3270"/>
                    </a:lnTo>
                    <a:lnTo>
                      <a:pt x="519" y="3342"/>
                    </a:lnTo>
                    <a:lnTo>
                      <a:pt x="586" y="3412"/>
                    </a:lnTo>
                    <a:lnTo>
                      <a:pt x="655" y="3478"/>
                    </a:lnTo>
                    <a:lnTo>
                      <a:pt x="728" y="3541"/>
                    </a:lnTo>
                    <a:lnTo>
                      <a:pt x="803" y="3600"/>
                    </a:lnTo>
                    <a:lnTo>
                      <a:pt x="882" y="3656"/>
                    </a:lnTo>
                    <a:lnTo>
                      <a:pt x="963" y="3708"/>
                    </a:lnTo>
                    <a:lnTo>
                      <a:pt x="1047" y="3756"/>
                    </a:lnTo>
                    <a:lnTo>
                      <a:pt x="1133" y="3800"/>
                    </a:lnTo>
                    <a:lnTo>
                      <a:pt x="1222" y="3840"/>
                    </a:lnTo>
                    <a:lnTo>
                      <a:pt x="1312" y="3877"/>
                    </a:lnTo>
                    <a:lnTo>
                      <a:pt x="1405" y="3908"/>
                    </a:lnTo>
                    <a:lnTo>
                      <a:pt x="1500" y="3935"/>
                    </a:lnTo>
                    <a:lnTo>
                      <a:pt x="1597" y="3957"/>
                    </a:lnTo>
                    <a:lnTo>
                      <a:pt x="1696" y="3975"/>
                    </a:lnTo>
                    <a:lnTo>
                      <a:pt x="1795" y="3987"/>
                    </a:lnTo>
                    <a:lnTo>
                      <a:pt x="1897" y="3995"/>
                    </a:lnTo>
                    <a:lnTo>
                      <a:pt x="2000" y="3998"/>
                    </a:lnTo>
                    <a:lnTo>
                      <a:pt x="2059" y="3997"/>
                    </a:lnTo>
                    <a:lnTo>
                      <a:pt x="2117" y="3995"/>
                    </a:lnTo>
                    <a:lnTo>
                      <a:pt x="2175" y="3990"/>
                    </a:lnTo>
                    <a:lnTo>
                      <a:pt x="2233" y="3984"/>
                    </a:lnTo>
                    <a:lnTo>
                      <a:pt x="2289" y="3977"/>
                    </a:lnTo>
                    <a:lnTo>
                      <a:pt x="2346" y="3968"/>
                    </a:lnTo>
                    <a:lnTo>
                      <a:pt x="2402" y="3957"/>
                    </a:lnTo>
                    <a:lnTo>
                      <a:pt x="2458" y="3945"/>
                    </a:lnTo>
                    <a:lnTo>
                      <a:pt x="2512" y="3932"/>
                    </a:lnTo>
                    <a:lnTo>
                      <a:pt x="2566" y="3917"/>
                    </a:lnTo>
                    <a:lnTo>
                      <a:pt x="2620" y="3899"/>
                    </a:lnTo>
                    <a:lnTo>
                      <a:pt x="2673" y="3882"/>
                    </a:lnTo>
                    <a:lnTo>
                      <a:pt x="2725" y="3862"/>
                    </a:lnTo>
                    <a:lnTo>
                      <a:pt x="2777" y="3841"/>
                    </a:lnTo>
                    <a:lnTo>
                      <a:pt x="2827" y="3820"/>
                    </a:lnTo>
                    <a:lnTo>
                      <a:pt x="2877" y="3796"/>
                    </a:lnTo>
                    <a:lnTo>
                      <a:pt x="2859" y="3758"/>
                    </a:lnTo>
                    <a:lnTo>
                      <a:pt x="2810" y="3781"/>
                    </a:lnTo>
                    <a:lnTo>
                      <a:pt x="2760" y="3803"/>
                    </a:lnTo>
                    <a:lnTo>
                      <a:pt x="2710" y="3824"/>
                    </a:lnTo>
                    <a:lnTo>
                      <a:pt x="2659" y="3842"/>
                    </a:lnTo>
                    <a:lnTo>
                      <a:pt x="2607" y="3861"/>
                    </a:lnTo>
                    <a:lnTo>
                      <a:pt x="2554" y="3877"/>
                    </a:lnTo>
                    <a:lnTo>
                      <a:pt x="2501" y="3891"/>
                    </a:lnTo>
                    <a:lnTo>
                      <a:pt x="2448" y="3905"/>
                    </a:lnTo>
                    <a:lnTo>
                      <a:pt x="2394" y="3917"/>
                    </a:lnTo>
                    <a:lnTo>
                      <a:pt x="2339" y="3926"/>
                    </a:lnTo>
                    <a:lnTo>
                      <a:pt x="2284" y="3935"/>
                    </a:lnTo>
                    <a:lnTo>
                      <a:pt x="2228" y="3943"/>
                    </a:lnTo>
                    <a:lnTo>
                      <a:pt x="2171" y="3948"/>
                    </a:lnTo>
                    <a:lnTo>
                      <a:pt x="2115" y="3952"/>
                    </a:lnTo>
                    <a:lnTo>
                      <a:pt x="2058" y="3956"/>
                    </a:lnTo>
                    <a:lnTo>
                      <a:pt x="2000" y="3956"/>
                    </a:lnTo>
                    <a:lnTo>
                      <a:pt x="1899" y="3953"/>
                    </a:lnTo>
                    <a:lnTo>
                      <a:pt x="1800" y="3946"/>
                    </a:lnTo>
                    <a:lnTo>
                      <a:pt x="1701" y="3933"/>
                    </a:lnTo>
                    <a:lnTo>
                      <a:pt x="1605" y="3916"/>
                    </a:lnTo>
                    <a:lnTo>
                      <a:pt x="1511" y="3894"/>
                    </a:lnTo>
                    <a:lnTo>
                      <a:pt x="1418" y="3868"/>
                    </a:lnTo>
                    <a:lnTo>
                      <a:pt x="1326" y="3837"/>
                    </a:lnTo>
                    <a:lnTo>
                      <a:pt x="1238" y="3802"/>
                    </a:lnTo>
                    <a:lnTo>
                      <a:pt x="1151" y="3763"/>
                    </a:lnTo>
                    <a:lnTo>
                      <a:pt x="1067" y="3719"/>
                    </a:lnTo>
                    <a:lnTo>
                      <a:pt x="985" y="3673"/>
                    </a:lnTo>
                    <a:lnTo>
                      <a:pt x="905" y="3622"/>
                    </a:lnTo>
                    <a:lnTo>
                      <a:pt x="828" y="3567"/>
                    </a:lnTo>
                    <a:lnTo>
                      <a:pt x="755" y="3509"/>
                    </a:lnTo>
                    <a:lnTo>
                      <a:pt x="684" y="3447"/>
                    </a:lnTo>
                    <a:lnTo>
                      <a:pt x="615" y="3382"/>
                    </a:lnTo>
                    <a:lnTo>
                      <a:pt x="551" y="3314"/>
                    </a:lnTo>
                    <a:lnTo>
                      <a:pt x="489" y="3244"/>
                    </a:lnTo>
                    <a:lnTo>
                      <a:pt x="431" y="3169"/>
                    </a:lnTo>
                    <a:lnTo>
                      <a:pt x="377" y="3093"/>
                    </a:lnTo>
                    <a:lnTo>
                      <a:pt x="325" y="3014"/>
                    </a:lnTo>
                    <a:lnTo>
                      <a:pt x="278" y="2932"/>
                    </a:lnTo>
                    <a:lnTo>
                      <a:pt x="235" y="2848"/>
                    </a:lnTo>
                    <a:lnTo>
                      <a:pt x="195" y="2760"/>
                    </a:lnTo>
                    <a:lnTo>
                      <a:pt x="161" y="2672"/>
                    </a:lnTo>
                    <a:lnTo>
                      <a:pt x="130" y="2581"/>
                    </a:lnTo>
                    <a:lnTo>
                      <a:pt x="103" y="2488"/>
                    </a:lnTo>
                    <a:lnTo>
                      <a:pt x="82" y="2393"/>
                    </a:lnTo>
                    <a:lnTo>
                      <a:pt x="64" y="2297"/>
                    </a:lnTo>
                    <a:lnTo>
                      <a:pt x="51" y="2198"/>
                    </a:lnTo>
                    <a:lnTo>
                      <a:pt x="44" y="2099"/>
                    </a:lnTo>
                    <a:lnTo>
                      <a:pt x="42" y="1999"/>
                    </a:lnTo>
                    <a:lnTo>
                      <a:pt x="44" y="1897"/>
                    </a:lnTo>
                    <a:lnTo>
                      <a:pt x="51" y="1798"/>
                    </a:lnTo>
                    <a:lnTo>
                      <a:pt x="64" y="1701"/>
                    </a:lnTo>
                    <a:lnTo>
                      <a:pt x="82" y="1603"/>
                    </a:lnTo>
                    <a:lnTo>
                      <a:pt x="103" y="1509"/>
                    </a:lnTo>
                    <a:lnTo>
                      <a:pt x="130" y="1417"/>
                    </a:lnTo>
                    <a:lnTo>
                      <a:pt x="161" y="1326"/>
                    </a:lnTo>
                    <a:lnTo>
                      <a:pt x="195" y="1236"/>
                    </a:lnTo>
                    <a:lnTo>
                      <a:pt x="235" y="1150"/>
                    </a:lnTo>
                    <a:lnTo>
                      <a:pt x="278" y="1066"/>
                    </a:lnTo>
                    <a:lnTo>
                      <a:pt x="325" y="983"/>
                    </a:lnTo>
                    <a:lnTo>
                      <a:pt x="377" y="904"/>
                    </a:lnTo>
                    <a:lnTo>
                      <a:pt x="431" y="827"/>
                    </a:lnTo>
                    <a:lnTo>
                      <a:pt x="489" y="753"/>
                    </a:lnTo>
                    <a:lnTo>
                      <a:pt x="551" y="682"/>
                    </a:lnTo>
                    <a:lnTo>
                      <a:pt x="615" y="614"/>
                    </a:lnTo>
                    <a:lnTo>
                      <a:pt x="684" y="549"/>
                    </a:lnTo>
                    <a:lnTo>
                      <a:pt x="755" y="488"/>
                    </a:lnTo>
                    <a:lnTo>
                      <a:pt x="828" y="429"/>
                    </a:lnTo>
                    <a:lnTo>
                      <a:pt x="905" y="375"/>
                    </a:lnTo>
                    <a:lnTo>
                      <a:pt x="985" y="325"/>
                    </a:lnTo>
                    <a:lnTo>
                      <a:pt x="1067" y="277"/>
                    </a:lnTo>
                    <a:lnTo>
                      <a:pt x="1151" y="234"/>
                    </a:lnTo>
                    <a:lnTo>
                      <a:pt x="1238" y="195"/>
                    </a:lnTo>
                    <a:lnTo>
                      <a:pt x="1326" y="159"/>
                    </a:lnTo>
                    <a:lnTo>
                      <a:pt x="1418" y="129"/>
                    </a:lnTo>
                    <a:lnTo>
                      <a:pt x="1511" y="102"/>
                    </a:lnTo>
                    <a:lnTo>
                      <a:pt x="1605" y="81"/>
                    </a:lnTo>
                    <a:lnTo>
                      <a:pt x="1701" y="63"/>
                    </a:lnTo>
                    <a:lnTo>
                      <a:pt x="1800" y="51"/>
                    </a:lnTo>
                    <a:lnTo>
                      <a:pt x="1899" y="44"/>
                    </a:lnTo>
                    <a:lnTo>
                      <a:pt x="2000" y="41"/>
                    </a:lnTo>
                    <a:lnTo>
                      <a:pt x="2101" y="44"/>
                    </a:lnTo>
                    <a:lnTo>
                      <a:pt x="2201" y="51"/>
                    </a:lnTo>
                    <a:lnTo>
                      <a:pt x="2298" y="63"/>
                    </a:lnTo>
                    <a:lnTo>
                      <a:pt x="2395" y="81"/>
                    </a:lnTo>
                    <a:lnTo>
                      <a:pt x="2489" y="102"/>
                    </a:lnTo>
                    <a:lnTo>
                      <a:pt x="2582" y="129"/>
                    </a:lnTo>
                    <a:lnTo>
                      <a:pt x="2674" y="159"/>
                    </a:lnTo>
                    <a:lnTo>
                      <a:pt x="2763" y="195"/>
                    </a:lnTo>
                    <a:lnTo>
                      <a:pt x="2849" y="234"/>
                    </a:lnTo>
                    <a:lnTo>
                      <a:pt x="2933" y="277"/>
                    </a:lnTo>
                    <a:lnTo>
                      <a:pt x="3015" y="325"/>
                    </a:lnTo>
                    <a:lnTo>
                      <a:pt x="3095" y="375"/>
                    </a:lnTo>
                    <a:lnTo>
                      <a:pt x="3172" y="429"/>
                    </a:lnTo>
                    <a:lnTo>
                      <a:pt x="3246" y="488"/>
                    </a:lnTo>
                    <a:lnTo>
                      <a:pt x="3317" y="549"/>
                    </a:lnTo>
                    <a:lnTo>
                      <a:pt x="3385" y="614"/>
                    </a:lnTo>
                    <a:lnTo>
                      <a:pt x="3450" y="682"/>
                    </a:lnTo>
                    <a:lnTo>
                      <a:pt x="3511" y="753"/>
                    </a:lnTo>
                    <a:lnTo>
                      <a:pt x="3570" y="827"/>
                    </a:lnTo>
                    <a:lnTo>
                      <a:pt x="3624" y="904"/>
                    </a:lnTo>
                    <a:lnTo>
                      <a:pt x="3676" y="983"/>
                    </a:lnTo>
                    <a:lnTo>
                      <a:pt x="3722" y="1066"/>
                    </a:lnTo>
                    <a:lnTo>
                      <a:pt x="3765" y="1150"/>
                    </a:lnTo>
                    <a:lnTo>
                      <a:pt x="3804" y="1236"/>
                    </a:lnTo>
                    <a:lnTo>
                      <a:pt x="3840" y="1326"/>
                    </a:lnTo>
                    <a:lnTo>
                      <a:pt x="3870" y="1417"/>
                    </a:lnTo>
                    <a:lnTo>
                      <a:pt x="3897" y="1509"/>
                    </a:lnTo>
                    <a:lnTo>
                      <a:pt x="3919" y="1603"/>
                    </a:lnTo>
                    <a:lnTo>
                      <a:pt x="3936" y="1701"/>
                    </a:lnTo>
                    <a:lnTo>
                      <a:pt x="3949" y="1798"/>
                    </a:lnTo>
                    <a:lnTo>
                      <a:pt x="3956" y="1897"/>
                    </a:lnTo>
                    <a:lnTo>
                      <a:pt x="3959" y="1999"/>
                    </a:lnTo>
                    <a:lnTo>
                      <a:pt x="3959" y="2031"/>
                    </a:lnTo>
                    <a:lnTo>
                      <a:pt x="3958" y="2065"/>
                    </a:lnTo>
                    <a:lnTo>
                      <a:pt x="3956" y="2097"/>
                    </a:lnTo>
                    <a:lnTo>
                      <a:pt x="3954" y="2129"/>
                    </a:lnTo>
                    <a:lnTo>
                      <a:pt x="3949" y="2194"/>
                    </a:lnTo>
                    <a:lnTo>
                      <a:pt x="3941" y="2258"/>
                    </a:lnTo>
                    <a:lnTo>
                      <a:pt x="3932" y="2322"/>
                    </a:lnTo>
                    <a:lnTo>
                      <a:pt x="3921" y="2384"/>
                    </a:lnTo>
                    <a:lnTo>
                      <a:pt x="3907" y="2446"/>
                    </a:lnTo>
                    <a:lnTo>
                      <a:pt x="3892" y="2507"/>
                    </a:lnTo>
                    <a:lnTo>
                      <a:pt x="3932" y="2518"/>
                    </a:lnTo>
                    <a:lnTo>
                      <a:pt x="3948" y="2456"/>
                    </a:lnTo>
                    <a:lnTo>
                      <a:pt x="3961" y="2392"/>
                    </a:lnTo>
                    <a:lnTo>
                      <a:pt x="3973" y="2328"/>
                    </a:lnTo>
                    <a:lnTo>
                      <a:pt x="3982" y="2263"/>
                    </a:lnTo>
                    <a:lnTo>
                      <a:pt x="3987" y="2231"/>
                    </a:lnTo>
                    <a:lnTo>
                      <a:pt x="3990" y="2198"/>
                    </a:lnTo>
                    <a:lnTo>
                      <a:pt x="3993" y="2165"/>
                    </a:lnTo>
                    <a:lnTo>
                      <a:pt x="3995" y="2133"/>
                    </a:lnTo>
                    <a:lnTo>
                      <a:pt x="3998" y="2099"/>
                    </a:lnTo>
                    <a:lnTo>
                      <a:pt x="3999" y="2066"/>
                    </a:lnTo>
                    <a:lnTo>
                      <a:pt x="4000" y="2032"/>
                    </a:lnTo>
                    <a:lnTo>
                      <a:pt x="4000" y="199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89360" y="2212920"/>
                <a:ext cx="1569960" cy="1569960"/>
              </a:xfrm>
              <a:custGeom>
                <a:avLst/>
                <a:gdLst/>
                <a:ahLst/>
                <a:rect l="l" t="t" r="r" b="b"/>
                <a:pathLst>
                  <a:path w="3958" h="3957">
                    <a:moveTo>
                      <a:pt x="3958" y="1979"/>
                    </a:moveTo>
                    <a:lnTo>
                      <a:pt x="3956" y="1876"/>
                    </a:lnTo>
                    <a:lnTo>
                      <a:pt x="3948" y="1776"/>
                    </a:lnTo>
                    <a:lnTo>
                      <a:pt x="3935" y="1677"/>
                    </a:lnTo>
                    <a:lnTo>
                      <a:pt x="3918" y="1580"/>
                    </a:lnTo>
                    <a:lnTo>
                      <a:pt x="3897" y="1484"/>
                    </a:lnTo>
                    <a:lnTo>
                      <a:pt x="3870" y="1390"/>
                    </a:lnTo>
                    <a:lnTo>
                      <a:pt x="3838" y="1298"/>
                    </a:lnTo>
                    <a:lnTo>
                      <a:pt x="3803" y="1209"/>
                    </a:lnTo>
                    <a:lnTo>
                      <a:pt x="3764" y="1121"/>
                    </a:lnTo>
                    <a:lnTo>
                      <a:pt x="3719" y="1036"/>
                    </a:lnTo>
                    <a:lnTo>
                      <a:pt x="3672" y="953"/>
                    </a:lnTo>
                    <a:lnTo>
                      <a:pt x="3620" y="873"/>
                    </a:lnTo>
                    <a:lnTo>
                      <a:pt x="3565" y="795"/>
                    </a:lnTo>
                    <a:lnTo>
                      <a:pt x="3507" y="720"/>
                    </a:lnTo>
                    <a:lnTo>
                      <a:pt x="3444" y="648"/>
                    </a:lnTo>
                    <a:lnTo>
                      <a:pt x="3379" y="580"/>
                    </a:lnTo>
                    <a:lnTo>
                      <a:pt x="3310" y="514"/>
                    </a:lnTo>
                    <a:lnTo>
                      <a:pt x="3239" y="452"/>
                    </a:lnTo>
                    <a:lnTo>
                      <a:pt x="3163" y="393"/>
                    </a:lnTo>
                    <a:lnTo>
                      <a:pt x="3086" y="338"/>
                    </a:lnTo>
                    <a:lnTo>
                      <a:pt x="3005" y="286"/>
                    </a:lnTo>
                    <a:lnTo>
                      <a:pt x="2923" y="239"/>
                    </a:lnTo>
                    <a:lnTo>
                      <a:pt x="2838" y="196"/>
                    </a:lnTo>
                    <a:lnTo>
                      <a:pt x="2749" y="156"/>
                    </a:lnTo>
                    <a:lnTo>
                      <a:pt x="2659" y="120"/>
                    </a:lnTo>
                    <a:lnTo>
                      <a:pt x="2568" y="89"/>
                    </a:lnTo>
                    <a:lnTo>
                      <a:pt x="2474" y="63"/>
                    </a:lnTo>
                    <a:lnTo>
                      <a:pt x="2378" y="40"/>
                    </a:lnTo>
                    <a:lnTo>
                      <a:pt x="2280" y="23"/>
                    </a:lnTo>
                    <a:lnTo>
                      <a:pt x="2182" y="10"/>
                    </a:lnTo>
                    <a:lnTo>
                      <a:pt x="2081" y="2"/>
                    </a:lnTo>
                    <a:lnTo>
                      <a:pt x="1979" y="0"/>
                    </a:lnTo>
                    <a:lnTo>
                      <a:pt x="1877" y="2"/>
                    </a:lnTo>
                    <a:lnTo>
                      <a:pt x="1777" y="10"/>
                    </a:lnTo>
                    <a:lnTo>
                      <a:pt x="1678" y="23"/>
                    </a:lnTo>
                    <a:lnTo>
                      <a:pt x="1580" y="40"/>
                    </a:lnTo>
                    <a:lnTo>
                      <a:pt x="1485" y="63"/>
                    </a:lnTo>
                    <a:lnTo>
                      <a:pt x="1391" y="89"/>
                    </a:lnTo>
                    <a:lnTo>
                      <a:pt x="1299" y="120"/>
                    </a:lnTo>
                    <a:lnTo>
                      <a:pt x="1209" y="156"/>
                    </a:lnTo>
                    <a:lnTo>
                      <a:pt x="1121" y="196"/>
                    </a:lnTo>
                    <a:lnTo>
                      <a:pt x="1035" y="239"/>
                    </a:lnTo>
                    <a:lnTo>
                      <a:pt x="953" y="286"/>
                    </a:lnTo>
                    <a:lnTo>
                      <a:pt x="872" y="338"/>
                    </a:lnTo>
                    <a:lnTo>
                      <a:pt x="795" y="393"/>
                    </a:lnTo>
                    <a:lnTo>
                      <a:pt x="720" y="452"/>
                    </a:lnTo>
                    <a:lnTo>
                      <a:pt x="649" y="514"/>
                    </a:lnTo>
                    <a:lnTo>
                      <a:pt x="579" y="580"/>
                    </a:lnTo>
                    <a:lnTo>
                      <a:pt x="515" y="648"/>
                    </a:lnTo>
                    <a:lnTo>
                      <a:pt x="452" y="720"/>
                    </a:lnTo>
                    <a:lnTo>
                      <a:pt x="393" y="795"/>
                    </a:lnTo>
                    <a:lnTo>
                      <a:pt x="338" y="873"/>
                    </a:lnTo>
                    <a:lnTo>
                      <a:pt x="287" y="953"/>
                    </a:lnTo>
                    <a:lnTo>
                      <a:pt x="239" y="1036"/>
                    </a:lnTo>
                    <a:lnTo>
                      <a:pt x="195" y="1121"/>
                    </a:lnTo>
                    <a:lnTo>
                      <a:pt x="156" y="1209"/>
                    </a:lnTo>
                    <a:lnTo>
                      <a:pt x="120" y="1298"/>
                    </a:lnTo>
                    <a:lnTo>
                      <a:pt x="89" y="1390"/>
                    </a:lnTo>
                    <a:lnTo>
                      <a:pt x="62" y="1484"/>
                    </a:lnTo>
                    <a:lnTo>
                      <a:pt x="40" y="1580"/>
                    </a:lnTo>
                    <a:lnTo>
                      <a:pt x="23" y="1677"/>
                    </a:lnTo>
                    <a:lnTo>
                      <a:pt x="10" y="1776"/>
                    </a:lnTo>
                    <a:lnTo>
                      <a:pt x="2" y="1876"/>
                    </a:lnTo>
                    <a:lnTo>
                      <a:pt x="0" y="1979"/>
                    </a:lnTo>
                    <a:lnTo>
                      <a:pt x="2" y="2080"/>
                    </a:lnTo>
                    <a:lnTo>
                      <a:pt x="10" y="2181"/>
                    </a:lnTo>
                    <a:lnTo>
                      <a:pt x="23" y="2280"/>
                    </a:lnTo>
                    <a:lnTo>
                      <a:pt x="40" y="2377"/>
                    </a:lnTo>
                    <a:lnTo>
                      <a:pt x="62" y="2473"/>
                    </a:lnTo>
                    <a:lnTo>
                      <a:pt x="89" y="2566"/>
                    </a:lnTo>
                    <a:lnTo>
                      <a:pt x="120" y="2659"/>
                    </a:lnTo>
                    <a:lnTo>
                      <a:pt x="156" y="2749"/>
                    </a:lnTo>
                    <a:lnTo>
                      <a:pt x="195" y="2836"/>
                    </a:lnTo>
                    <a:lnTo>
                      <a:pt x="239" y="2922"/>
                    </a:lnTo>
                    <a:lnTo>
                      <a:pt x="287" y="3005"/>
                    </a:lnTo>
                    <a:lnTo>
                      <a:pt x="338" y="3085"/>
                    </a:lnTo>
                    <a:lnTo>
                      <a:pt x="393" y="3162"/>
                    </a:lnTo>
                    <a:lnTo>
                      <a:pt x="452" y="3237"/>
                    </a:lnTo>
                    <a:lnTo>
                      <a:pt x="515" y="3308"/>
                    </a:lnTo>
                    <a:lnTo>
                      <a:pt x="579" y="3377"/>
                    </a:lnTo>
                    <a:lnTo>
                      <a:pt x="649" y="3443"/>
                    </a:lnTo>
                    <a:lnTo>
                      <a:pt x="720" y="3505"/>
                    </a:lnTo>
                    <a:lnTo>
                      <a:pt x="795" y="3564"/>
                    </a:lnTo>
                    <a:lnTo>
                      <a:pt x="872" y="3619"/>
                    </a:lnTo>
                    <a:lnTo>
                      <a:pt x="953" y="3670"/>
                    </a:lnTo>
                    <a:lnTo>
                      <a:pt x="1035" y="3717"/>
                    </a:lnTo>
                    <a:lnTo>
                      <a:pt x="1121" y="3762"/>
                    </a:lnTo>
                    <a:lnTo>
                      <a:pt x="1209" y="3802"/>
                    </a:lnTo>
                    <a:lnTo>
                      <a:pt x="1299" y="3836"/>
                    </a:lnTo>
                    <a:lnTo>
                      <a:pt x="1391" y="3868"/>
                    </a:lnTo>
                    <a:lnTo>
                      <a:pt x="1485" y="3895"/>
                    </a:lnTo>
                    <a:lnTo>
                      <a:pt x="1580" y="3916"/>
                    </a:lnTo>
                    <a:lnTo>
                      <a:pt x="1678" y="3933"/>
                    </a:lnTo>
                    <a:lnTo>
                      <a:pt x="1777" y="3946"/>
                    </a:lnTo>
                    <a:lnTo>
                      <a:pt x="1877" y="3954"/>
                    </a:lnTo>
                    <a:lnTo>
                      <a:pt x="1979" y="3957"/>
                    </a:lnTo>
                    <a:lnTo>
                      <a:pt x="2037" y="3956"/>
                    </a:lnTo>
                    <a:lnTo>
                      <a:pt x="2095" y="3953"/>
                    </a:lnTo>
                    <a:lnTo>
                      <a:pt x="2153" y="3950"/>
                    </a:lnTo>
                    <a:lnTo>
                      <a:pt x="2209" y="3943"/>
                    </a:lnTo>
                    <a:lnTo>
                      <a:pt x="2266" y="3936"/>
                    </a:lnTo>
                    <a:lnTo>
                      <a:pt x="2321" y="3927"/>
                    </a:lnTo>
                    <a:lnTo>
                      <a:pt x="2376" y="3917"/>
                    </a:lnTo>
                    <a:lnTo>
                      <a:pt x="2431" y="3904"/>
                    </a:lnTo>
                    <a:lnTo>
                      <a:pt x="2485" y="3891"/>
                    </a:lnTo>
                    <a:lnTo>
                      <a:pt x="2539" y="3876"/>
                    </a:lnTo>
                    <a:lnTo>
                      <a:pt x="2592" y="3860"/>
                    </a:lnTo>
                    <a:lnTo>
                      <a:pt x="2644" y="3842"/>
                    </a:lnTo>
                    <a:lnTo>
                      <a:pt x="2696" y="3823"/>
                    </a:lnTo>
                    <a:lnTo>
                      <a:pt x="2747" y="3802"/>
                    </a:lnTo>
                    <a:lnTo>
                      <a:pt x="2798" y="3780"/>
                    </a:lnTo>
                    <a:lnTo>
                      <a:pt x="2847" y="3756"/>
                    </a:lnTo>
                    <a:lnTo>
                      <a:pt x="2829" y="3720"/>
                    </a:lnTo>
                    <a:lnTo>
                      <a:pt x="2780" y="3742"/>
                    </a:lnTo>
                    <a:lnTo>
                      <a:pt x="2731" y="3764"/>
                    </a:lnTo>
                    <a:lnTo>
                      <a:pt x="2681" y="3784"/>
                    </a:lnTo>
                    <a:lnTo>
                      <a:pt x="2630" y="3803"/>
                    </a:lnTo>
                    <a:lnTo>
                      <a:pt x="2579" y="3820"/>
                    </a:lnTo>
                    <a:lnTo>
                      <a:pt x="2528" y="3836"/>
                    </a:lnTo>
                    <a:lnTo>
                      <a:pt x="2475" y="3851"/>
                    </a:lnTo>
                    <a:lnTo>
                      <a:pt x="2422" y="3864"/>
                    </a:lnTo>
                    <a:lnTo>
                      <a:pt x="2369" y="3876"/>
                    </a:lnTo>
                    <a:lnTo>
                      <a:pt x="2315" y="3886"/>
                    </a:lnTo>
                    <a:lnTo>
                      <a:pt x="2260" y="3895"/>
                    </a:lnTo>
                    <a:lnTo>
                      <a:pt x="2204" y="3902"/>
                    </a:lnTo>
                    <a:lnTo>
                      <a:pt x="2148" y="3908"/>
                    </a:lnTo>
                    <a:lnTo>
                      <a:pt x="2092" y="3912"/>
                    </a:lnTo>
                    <a:lnTo>
                      <a:pt x="2036" y="3914"/>
                    </a:lnTo>
                    <a:lnTo>
                      <a:pt x="1979" y="3915"/>
                    </a:lnTo>
                    <a:lnTo>
                      <a:pt x="1879" y="3913"/>
                    </a:lnTo>
                    <a:lnTo>
                      <a:pt x="1781" y="3905"/>
                    </a:lnTo>
                    <a:lnTo>
                      <a:pt x="1684" y="3892"/>
                    </a:lnTo>
                    <a:lnTo>
                      <a:pt x="1589" y="3876"/>
                    </a:lnTo>
                    <a:lnTo>
                      <a:pt x="1495" y="3855"/>
                    </a:lnTo>
                    <a:lnTo>
                      <a:pt x="1403" y="3828"/>
                    </a:lnTo>
                    <a:lnTo>
                      <a:pt x="1313" y="3797"/>
                    </a:lnTo>
                    <a:lnTo>
                      <a:pt x="1226" y="3763"/>
                    </a:lnTo>
                    <a:lnTo>
                      <a:pt x="1139" y="3724"/>
                    </a:lnTo>
                    <a:lnTo>
                      <a:pt x="1056" y="3682"/>
                    </a:lnTo>
                    <a:lnTo>
                      <a:pt x="975" y="3634"/>
                    </a:lnTo>
                    <a:lnTo>
                      <a:pt x="896" y="3585"/>
                    </a:lnTo>
                    <a:lnTo>
                      <a:pt x="820" y="3531"/>
                    </a:lnTo>
                    <a:lnTo>
                      <a:pt x="747" y="3472"/>
                    </a:lnTo>
                    <a:lnTo>
                      <a:pt x="677" y="3412"/>
                    </a:lnTo>
                    <a:lnTo>
                      <a:pt x="610" y="3348"/>
                    </a:lnTo>
                    <a:lnTo>
                      <a:pt x="545" y="3280"/>
                    </a:lnTo>
                    <a:lnTo>
                      <a:pt x="484" y="3210"/>
                    </a:lnTo>
                    <a:lnTo>
                      <a:pt x="427" y="3138"/>
                    </a:lnTo>
                    <a:lnTo>
                      <a:pt x="373" y="3061"/>
                    </a:lnTo>
                    <a:lnTo>
                      <a:pt x="322" y="2983"/>
                    </a:lnTo>
                    <a:lnTo>
                      <a:pt x="276" y="2901"/>
                    </a:lnTo>
                    <a:lnTo>
                      <a:pt x="232" y="2818"/>
                    </a:lnTo>
                    <a:lnTo>
                      <a:pt x="194" y="2733"/>
                    </a:lnTo>
                    <a:lnTo>
                      <a:pt x="159" y="2644"/>
                    </a:lnTo>
                    <a:lnTo>
                      <a:pt x="129" y="2554"/>
                    </a:lnTo>
                    <a:lnTo>
                      <a:pt x="103" y="2463"/>
                    </a:lnTo>
                    <a:lnTo>
                      <a:pt x="81" y="2369"/>
                    </a:lnTo>
                    <a:lnTo>
                      <a:pt x="64" y="2274"/>
                    </a:lnTo>
                    <a:lnTo>
                      <a:pt x="52" y="2176"/>
                    </a:lnTo>
                    <a:lnTo>
                      <a:pt x="44" y="2078"/>
                    </a:lnTo>
                    <a:lnTo>
                      <a:pt x="41" y="1979"/>
                    </a:lnTo>
                    <a:lnTo>
                      <a:pt x="44" y="1878"/>
                    </a:lnTo>
                    <a:lnTo>
                      <a:pt x="52" y="1780"/>
                    </a:lnTo>
                    <a:lnTo>
                      <a:pt x="64" y="1684"/>
                    </a:lnTo>
                    <a:lnTo>
                      <a:pt x="81" y="1588"/>
                    </a:lnTo>
                    <a:lnTo>
                      <a:pt x="103" y="1495"/>
                    </a:lnTo>
                    <a:lnTo>
                      <a:pt x="129" y="1403"/>
                    </a:lnTo>
                    <a:lnTo>
                      <a:pt x="159" y="1312"/>
                    </a:lnTo>
                    <a:lnTo>
                      <a:pt x="194" y="1225"/>
                    </a:lnTo>
                    <a:lnTo>
                      <a:pt x="232" y="1138"/>
                    </a:lnTo>
                    <a:lnTo>
                      <a:pt x="276" y="1055"/>
                    </a:lnTo>
                    <a:lnTo>
                      <a:pt x="322" y="974"/>
                    </a:lnTo>
                    <a:lnTo>
                      <a:pt x="373" y="895"/>
                    </a:lnTo>
                    <a:lnTo>
                      <a:pt x="427" y="820"/>
                    </a:lnTo>
                    <a:lnTo>
                      <a:pt x="484" y="746"/>
                    </a:lnTo>
                    <a:lnTo>
                      <a:pt x="545" y="676"/>
                    </a:lnTo>
                    <a:lnTo>
                      <a:pt x="610" y="609"/>
                    </a:lnTo>
                    <a:lnTo>
                      <a:pt x="677" y="544"/>
                    </a:lnTo>
                    <a:lnTo>
                      <a:pt x="747" y="484"/>
                    </a:lnTo>
                    <a:lnTo>
                      <a:pt x="820" y="427"/>
                    </a:lnTo>
                    <a:lnTo>
                      <a:pt x="896" y="373"/>
                    </a:lnTo>
                    <a:lnTo>
                      <a:pt x="975" y="322"/>
                    </a:lnTo>
                    <a:lnTo>
                      <a:pt x="1056" y="276"/>
                    </a:lnTo>
                    <a:lnTo>
                      <a:pt x="1139" y="232"/>
                    </a:lnTo>
                    <a:lnTo>
                      <a:pt x="1226" y="193"/>
                    </a:lnTo>
                    <a:lnTo>
                      <a:pt x="1313" y="159"/>
                    </a:lnTo>
                    <a:lnTo>
                      <a:pt x="1403" y="129"/>
                    </a:lnTo>
                    <a:lnTo>
                      <a:pt x="1495" y="103"/>
                    </a:lnTo>
                    <a:lnTo>
                      <a:pt x="1589" y="81"/>
                    </a:lnTo>
                    <a:lnTo>
                      <a:pt x="1684" y="64"/>
                    </a:lnTo>
                    <a:lnTo>
                      <a:pt x="1781" y="52"/>
                    </a:lnTo>
                    <a:lnTo>
                      <a:pt x="1879" y="44"/>
                    </a:lnTo>
                    <a:lnTo>
                      <a:pt x="1979" y="42"/>
                    </a:lnTo>
                    <a:lnTo>
                      <a:pt x="2079" y="44"/>
                    </a:lnTo>
                    <a:lnTo>
                      <a:pt x="2177" y="52"/>
                    </a:lnTo>
                    <a:lnTo>
                      <a:pt x="2275" y="64"/>
                    </a:lnTo>
                    <a:lnTo>
                      <a:pt x="2370" y="81"/>
                    </a:lnTo>
                    <a:lnTo>
                      <a:pt x="2464" y="103"/>
                    </a:lnTo>
                    <a:lnTo>
                      <a:pt x="2556" y="129"/>
                    </a:lnTo>
                    <a:lnTo>
                      <a:pt x="2645" y="159"/>
                    </a:lnTo>
                    <a:lnTo>
                      <a:pt x="2733" y="193"/>
                    </a:lnTo>
                    <a:lnTo>
                      <a:pt x="2819" y="232"/>
                    </a:lnTo>
                    <a:lnTo>
                      <a:pt x="2903" y="276"/>
                    </a:lnTo>
                    <a:lnTo>
                      <a:pt x="2984" y="322"/>
                    </a:lnTo>
                    <a:lnTo>
                      <a:pt x="3062" y="373"/>
                    </a:lnTo>
                    <a:lnTo>
                      <a:pt x="3138" y="427"/>
                    </a:lnTo>
                    <a:lnTo>
                      <a:pt x="3212" y="484"/>
                    </a:lnTo>
                    <a:lnTo>
                      <a:pt x="3282" y="544"/>
                    </a:lnTo>
                    <a:lnTo>
                      <a:pt x="3349" y="609"/>
                    </a:lnTo>
                    <a:lnTo>
                      <a:pt x="3414" y="676"/>
                    </a:lnTo>
                    <a:lnTo>
                      <a:pt x="3474" y="746"/>
                    </a:lnTo>
                    <a:lnTo>
                      <a:pt x="3531" y="820"/>
                    </a:lnTo>
                    <a:lnTo>
                      <a:pt x="3585" y="895"/>
                    </a:lnTo>
                    <a:lnTo>
                      <a:pt x="3636" y="974"/>
                    </a:lnTo>
                    <a:lnTo>
                      <a:pt x="3683" y="1055"/>
                    </a:lnTo>
                    <a:lnTo>
                      <a:pt x="3726" y="1138"/>
                    </a:lnTo>
                    <a:lnTo>
                      <a:pt x="3765" y="1225"/>
                    </a:lnTo>
                    <a:lnTo>
                      <a:pt x="3799" y="1312"/>
                    </a:lnTo>
                    <a:lnTo>
                      <a:pt x="3830" y="1403"/>
                    </a:lnTo>
                    <a:lnTo>
                      <a:pt x="3856" y="1495"/>
                    </a:lnTo>
                    <a:lnTo>
                      <a:pt x="3877" y="1588"/>
                    </a:lnTo>
                    <a:lnTo>
                      <a:pt x="3894" y="1684"/>
                    </a:lnTo>
                    <a:lnTo>
                      <a:pt x="3906" y="1780"/>
                    </a:lnTo>
                    <a:lnTo>
                      <a:pt x="3914" y="1878"/>
                    </a:lnTo>
                    <a:lnTo>
                      <a:pt x="3917" y="1979"/>
                    </a:lnTo>
                    <a:lnTo>
                      <a:pt x="3916" y="2043"/>
                    </a:lnTo>
                    <a:lnTo>
                      <a:pt x="3913" y="2108"/>
                    </a:lnTo>
                    <a:lnTo>
                      <a:pt x="3907" y="2172"/>
                    </a:lnTo>
                    <a:lnTo>
                      <a:pt x="3900" y="2236"/>
                    </a:lnTo>
                    <a:lnTo>
                      <a:pt x="3890" y="2298"/>
                    </a:lnTo>
                    <a:lnTo>
                      <a:pt x="3879" y="2360"/>
                    </a:lnTo>
                    <a:lnTo>
                      <a:pt x="3865" y="2421"/>
                    </a:lnTo>
                    <a:lnTo>
                      <a:pt x="3850" y="2482"/>
                    </a:lnTo>
                    <a:lnTo>
                      <a:pt x="3891" y="2493"/>
                    </a:lnTo>
                    <a:lnTo>
                      <a:pt x="3906" y="2431"/>
                    </a:lnTo>
                    <a:lnTo>
                      <a:pt x="3920" y="2369"/>
                    </a:lnTo>
                    <a:lnTo>
                      <a:pt x="3931" y="2305"/>
                    </a:lnTo>
                    <a:lnTo>
                      <a:pt x="3941" y="2241"/>
                    </a:lnTo>
                    <a:lnTo>
                      <a:pt x="3948" y="2176"/>
                    </a:lnTo>
                    <a:lnTo>
                      <a:pt x="3954" y="2110"/>
                    </a:lnTo>
                    <a:lnTo>
                      <a:pt x="3956" y="2078"/>
                    </a:lnTo>
                    <a:lnTo>
                      <a:pt x="3957" y="2045"/>
                    </a:lnTo>
                    <a:lnTo>
                      <a:pt x="3958" y="2012"/>
                    </a:lnTo>
                    <a:lnTo>
                      <a:pt x="3958" y="1979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797280" y="2220840"/>
                <a:ext cx="1554120" cy="1552680"/>
              </a:xfrm>
              <a:custGeom>
                <a:avLst/>
                <a:gdLst/>
                <a:ahLst/>
                <a:rect l="l" t="t" r="r" b="b"/>
                <a:pathLst>
                  <a:path w="3917" h="3915">
                    <a:moveTo>
                      <a:pt x="3917" y="1958"/>
                    </a:moveTo>
                    <a:lnTo>
                      <a:pt x="3914" y="1856"/>
                    </a:lnTo>
                    <a:lnTo>
                      <a:pt x="3907" y="1757"/>
                    </a:lnTo>
                    <a:lnTo>
                      <a:pt x="3894" y="1660"/>
                    </a:lnTo>
                    <a:lnTo>
                      <a:pt x="3877" y="1562"/>
                    </a:lnTo>
                    <a:lnTo>
                      <a:pt x="3855" y="1468"/>
                    </a:lnTo>
                    <a:lnTo>
                      <a:pt x="3828" y="1376"/>
                    </a:lnTo>
                    <a:lnTo>
                      <a:pt x="3798" y="1285"/>
                    </a:lnTo>
                    <a:lnTo>
                      <a:pt x="3762" y="1195"/>
                    </a:lnTo>
                    <a:lnTo>
                      <a:pt x="3723" y="1109"/>
                    </a:lnTo>
                    <a:lnTo>
                      <a:pt x="3680" y="1025"/>
                    </a:lnTo>
                    <a:lnTo>
                      <a:pt x="3634" y="942"/>
                    </a:lnTo>
                    <a:lnTo>
                      <a:pt x="3582" y="863"/>
                    </a:lnTo>
                    <a:lnTo>
                      <a:pt x="3528" y="786"/>
                    </a:lnTo>
                    <a:lnTo>
                      <a:pt x="3469" y="712"/>
                    </a:lnTo>
                    <a:lnTo>
                      <a:pt x="3408" y="641"/>
                    </a:lnTo>
                    <a:lnTo>
                      <a:pt x="3343" y="573"/>
                    </a:lnTo>
                    <a:lnTo>
                      <a:pt x="3275" y="508"/>
                    </a:lnTo>
                    <a:lnTo>
                      <a:pt x="3204" y="447"/>
                    </a:lnTo>
                    <a:lnTo>
                      <a:pt x="3130" y="388"/>
                    </a:lnTo>
                    <a:lnTo>
                      <a:pt x="3053" y="334"/>
                    </a:lnTo>
                    <a:lnTo>
                      <a:pt x="2973" y="284"/>
                    </a:lnTo>
                    <a:lnTo>
                      <a:pt x="2891" y="236"/>
                    </a:lnTo>
                    <a:lnTo>
                      <a:pt x="2807" y="193"/>
                    </a:lnTo>
                    <a:lnTo>
                      <a:pt x="2721" y="154"/>
                    </a:lnTo>
                    <a:lnTo>
                      <a:pt x="2632" y="118"/>
                    </a:lnTo>
                    <a:lnTo>
                      <a:pt x="2540" y="88"/>
                    </a:lnTo>
                    <a:lnTo>
                      <a:pt x="2447" y="61"/>
                    </a:lnTo>
                    <a:lnTo>
                      <a:pt x="2353" y="40"/>
                    </a:lnTo>
                    <a:lnTo>
                      <a:pt x="2256" y="22"/>
                    </a:lnTo>
                    <a:lnTo>
                      <a:pt x="2159" y="10"/>
                    </a:lnTo>
                    <a:lnTo>
                      <a:pt x="2059" y="3"/>
                    </a:lnTo>
                    <a:lnTo>
                      <a:pt x="1958" y="0"/>
                    </a:lnTo>
                    <a:lnTo>
                      <a:pt x="1857" y="3"/>
                    </a:lnTo>
                    <a:lnTo>
                      <a:pt x="1758" y="10"/>
                    </a:lnTo>
                    <a:lnTo>
                      <a:pt x="1659" y="22"/>
                    </a:lnTo>
                    <a:lnTo>
                      <a:pt x="1563" y="40"/>
                    </a:lnTo>
                    <a:lnTo>
                      <a:pt x="1469" y="61"/>
                    </a:lnTo>
                    <a:lnTo>
                      <a:pt x="1376" y="88"/>
                    </a:lnTo>
                    <a:lnTo>
                      <a:pt x="1284" y="118"/>
                    </a:lnTo>
                    <a:lnTo>
                      <a:pt x="1196" y="154"/>
                    </a:lnTo>
                    <a:lnTo>
                      <a:pt x="1109" y="193"/>
                    </a:lnTo>
                    <a:lnTo>
                      <a:pt x="1025" y="236"/>
                    </a:lnTo>
                    <a:lnTo>
                      <a:pt x="943" y="284"/>
                    </a:lnTo>
                    <a:lnTo>
                      <a:pt x="863" y="334"/>
                    </a:lnTo>
                    <a:lnTo>
                      <a:pt x="786" y="388"/>
                    </a:lnTo>
                    <a:lnTo>
                      <a:pt x="713" y="447"/>
                    </a:lnTo>
                    <a:lnTo>
                      <a:pt x="642" y="508"/>
                    </a:lnTo>
                    <a:lnTo>
                      <a:pt x="573" y="573"/>
                    </a:lnTo>
                    <a:lnTo>
                      <a:pt x="509" y="641"/>
                    </a:lnTo>
                    <a:lnTo>
                      <a:pt x="447" y="712"/>
                    </a:lnTo>
                    <a:lnTo>
                      <a:pt x="389" y="786"/>
                    </a:lnTo>
                    <a:lnTo>
                      <a:pt x="335" y="863"/>
                    </a:lnTo>
                    <a:lnTo>
                      <a:pt x="283" y="942"/>
                    </a:lnTo>
                    <a:lnTo>
                      <a:pt x="236" y="1025"/>
                    </a:lnTo>
                    <a:lnTo>
                      <a:pt x="193" y="1109"/>
                    </a:lnTo>
                    <a:lnTo>
                      <a:pt x="153" y="1195"/>
                    </a:lnTo>
                    <a:lnTo>
                      <a:pt x="119" y="1285"/>
                    </a:lnTo>
                    <a:lnTo>
                      <a:pt x="88" y="1376"/>
                    </a:lnTo>
                    <a:lnTo>
                      <a:pt x="61" y="1468"/>
                    </a:lnTo>
                    <a:lnTo>
                      <a:pt x="40" y="1562"/>
                    </a:lnTo>
                    <a:lnTo>
                      <a:pt x="22" y="1660"/>
                    </a:lnTo>
                    <a:lnTo>
                      <a:pt x="9" y="1757"/>
                    </a:lnTo>
                    <a:lnTo>
                      <a:pt x="2" y="1856"/>
                    </a:lnTo>
                    <a:lnTo>
                      <a:pt x="0" y="1958"/>
                    </a:lnTo>
                    <a:lnTo>
                      <a:pt x="2" y="2058"/>
                    </a:lnTo>
                    <a:lnTo>
                      <a:pt x="9" y="2157"/>
                    </a:lnTo>
                    <a:lnTo>
                      <a:pt x="22" y="2256"/>
                    </a:lnTo>
                    <a:lnTo>
                      <a:pt x="40" y="2352"/>
                    </a:lnTo>
                    <a:lnTo>
                      <a:pt x="61" y="2447"/>
                    </a:lnTo>
                    <a:lnTo>
                      <a:pt x="88" y="2540"/>
                    </a:lnTo>
                    <a:lnTo>
                      <a:pt x="119" y="2631"/>
                    </a:lnTo>
                    <a:lnTo>
                      <a:pt x="153" y="2719"/>
                    </a:lnTo>
                    <a:lnTo>
                      <a:pt x="193" y="2807"/>
                    </a:lnTo>
                    <a:lnTo>
                      <a:pt x="236" y="2891"/>
                    </a:lnTo>
                    <a:lnTo>
                      <a:pt x="283" y="2973"/>
                    </a:lnTo>
                    <a:lnTo>
                      <a:pt x="335" y="3052"/>
                    </a:lnTo>
                    <a:lnTo>
                      <a:pt x="389" y="3128"/>
                    </a:lnTo>
                    <a:lnTo>
                      <a:pt x="447" y="3203"/>
                    </a:lnTo>
                    <a:lnTo>
                      <a:pt x="509" y="3273"/>
                    </a:lnTo>
                    <a:lnTo>
                      <a:pt x="573" y="3341"/>
                    </a:lnTo>
                    <a:lnTo>
                      <a:pt x="642" y="3406"/>
                    </a:lnTo>
                    <a:lnTo>
                      <a:pt x="713" y="3468"/>
                    </a:lnTo>
                    <a:lnTo>
                      <a:pt x="786" y="3526"/>
                    </a:lnTo>
                    <a:lnTo>
                      <a:pt x="863" y="3581"/>
                    </a:lnTo>
                    <a:lnTo>
                      <a:pt x="943" y="3632"/>
                    </a:lnTo>
                    <a:lnTo>
                      <a:pt x="1025" y="3678"/>
                    </a:lnTo>
                    <a:lnTo>
                      <a:pt x="1109" y="3722"/>
                    </a:lnTo>
                    <a:lnTo>
                      <a:pt x="1196" y="3761"/>
                    </a:lnTo>
                    <a:lnTo>
                      <a:pt x="1284" y="3796"/>
                    </a:lnTo>
                    <a:lnTo>
                      <a:pt x="1376" y="3827"/>
                    </a:lnTo>
                    <a:lnTo>
                      <a:pt x="1469" y="3853"/>
                    </a:lnTo>
                    <a:lnTo>
                      <a:pt x="1563" y="3875"/>
                    </a:lnTo>
                    <a:lnTo>
                      <a:pt x="1659" y="3892"/>
                    </a:lnTo>
                    <a:lnTo>
                      <a:pt x="1758" y="3905"/>
                    </a:lnTo>
                    <a:lnTo>
                      <a:pt x="1857" y="3912"/>
                    </a:lnTo>
                    <a:lnTo>
                      <a:pt x="1958" y="3915"/>
                    </a:lnTo>
                    <a:lnTo>
                      <a:pt x="2016" y="3915"/>
                    </a:lnTo>
                    <a:lnTo>
                      <a:pt x="2073" y="3911"/>
                    </a:lnTo>
                    <a:lnTo>
                      <a:pt x="2129" y="3907"/>
                    </a:lnTo>
                    <a:lnTo>
                      <a:pt x="2186" y="3902"/>
                    </a:lnTo>
                    <a:lnTo>
                      <a:pt x="2242" y="3894"/>
                    </a:lnTo>
                    <a:lnTo>
                      <a:pt x="2297" y="3885"/>
                    </a:lnTo>
                    <a:lnTo>
                      <a:pt x="2352" y="3876"/>
                    </a:lnTo>
                    <a:lnTo>
                      <a:pt x="2406" y="3864"/>
                    </a:lnTo>
                    <a:lnTo>
                      <a:pt x="2459" y="3850"/>
                    </a:lnTo>
                    <a:lnTo>
                      <a:pt x="2512" y="3836"/>
                    </a:lnTo>
                    <a:lnTo>
                      <a:pt x="2565" y="3820"/>
                    </a:lnTo>
                    <a:lnTo>
                      <a:pt x="2617" y="3801"/>
                    </a:lnTo>
                    <a:lnTo>
                      <a:pt x="2668" y="3783"/>
                    </a:lnTo>
                    <a:lnTo>
                      <a:pt x="2718" y="3762"/>
                    </a:lnTo>
                    <a:lnTo>
                      <a:pt x="2768" y="3740"/>
                    </a:lnTo>
                    <a:lnTo>
                      <a:pt x="2817" y="3717"/>
                    </a:lnTo>
                    <a:lnTo>
                      <a:pt x="2798" y="3679"/>
                    </a:lnTo>
                    <a:lnTo>
                      <a:pt x="2751" y="3702"/>
                    </a:lnTo>
                    <a:lnTo>
                      <a:pt x="2702" y="3723"/>
                    </a:lnTo>
                    <a:lnTo>
                      <a:pt x="2652" y="3744"/>
                    </a:lnTo>
                    <a:lnTo>
                      <a:pt x="2603" y="3762"/>
                    </a:lnTo>
                    <a:lnTo>
                      <a:pt x="2552" y="3780"/>
                    </a:lnTo>
                    <a:lnTo>
                      <a:pt x="2500" y="3796"/>
                    </a:lnTo>
                    <a:lnTo>
                      <a:pt x="2448" y="3810"/>
                    </a:lnTo>
                    <a:lnTo>
                      <a:pt x="2396" y="3823"/>
                    </a:lnTo>
                    <a:lnTo>
                      <a:pt x="2343" y="3835"/>
                    </a:lnTo>
                    <a:lnTo>
                      <a:pt x="2289" y="3844"/>
                    </a:lnTo>
                    <a:lnTo>
                      <a:pt x="2235" y="3853"/>
                    </a:lnTo>
                    <a:lnTo>
                      <a:pt x="2181" y="3861"/>
                    </a:lnTo>
                    <a:lnTo>
                      <a:pt x="2126" y="3866"/>
                    </a:lnTo>
                    <a:lnTo>
                      <a:pt x="2070" y="3870"/>
                    </a:lnTo>
                    <a:lnTo>
                      <a:pt x="2015" y="3873"/>
                    </a:lnTo>
                    <a:lnTo>
                      <a:pt x="1958" y="3874"/>
                    </a:lnTo>
                    <a:lnTo>
                      <a:pt x="1859" y="3870"/>
                    </a:lnTo>
                    <a:lnTo>
                      <a:pt x="1762" y="3864"/>
                    </a:lnTo>
                    <a:lnTo>
                      <a:pt x="1666" y="3851"/>
                    </a:lnTo>
                    <a:lnTo>
                      <a:pt x="1572" y="3835"/>
                    </a:lnTo>
                    <a:lnTo>
                      <a:pt x="1479" y="3813"/>
                    </a:lnTo>
                    <a:lnTo>
                      <a:pt x="1388" y="3787"/>
                    </a:lnTo>
                    <a:lnTo>
                      <a:pt x="1300" y="3757"/>
                    </a:lnTo>
                    <a:lnTo>
                      <a:pt x="1212" y="3722"/>
                    </a:lnTo>
                    <a:lnTo>
                      <a:pt x="1127" y="3685"/>
                    </a:lnTo>
                    <a:lnTo>
                      <a:pt x="1045" y="3642"/>
                    </a:lnTo>
                    <a:lnTo>
                      <a:pt x="965" y="3596"/>
                    </a:lnTo>
                    <a:lnTo>
                      <a:pt x="887" y="3546"/>
                    </a:lnTo>
                    <a:lnTo>
                      <a:pt x="811" y="3492"/>
                    </a:lnTo>
                    <a:lnTo>
                      <a:pt x="739" y="3436"/>
                    </a:lnTo>
                    <a:lnTo>
                      <a:pt x="670" y="3376"/>
                    </a:lnTo>
                    <a:lnTo>
                      <a:pt x="603" y="3312"/>
                    </a:lnTo>
                    <a:lnTo>
                      <a:pt x="539" y="3246"/>
                    </a:lnTo>
                    <a:lnTo>
                      <a:pt x="479" y="3176"/>
                    </a:lnTo>
                    <a:lnTo>
                      <a:pt x="422" y="3104"/>
                    </a:lnTo>
                    <a:lnTo>
                      <a:pt x="369" y="3029"/>
                    </a:lnTo>
                    <a:lnTo>
                      <a:pt x="318" y="2951"/>
                    </a:lnTo>
                    <a:lnTo>
                      <a:pt x="273" y="2870"/>
                    </a:lnTo>
                    <a:lnTo>
                      <a:pt x="231" y="2788"/>
                    </a:lnTo>
                    <a:lnTo>
                      <a:pt x="192" y="2703"/>
                    </a:lnTo>
                    <a:lnTo>
                      <a:pt x="157" y="2616"/>
                    </a:lnTo>
                    <a:lnTo>
                      <a:pt x="127" y="2527"/>
                    </a:lnTo>
                    <a:lnTo>
                      <a:pt x="101" y="2436"/>
                    </a:lnTo>
                    <a:lnTo>
                      <a:pt x="81" y="2343"/>
                    </a:lnTo>
                    <a:lnTo>
                      <a:pt x="63" y="2249"/>
                    </a:lnTo>
                    <a:lnTo>
                      <a:pt x="52" y="2153"/>
                    </a:lnTo>
                    <a:lnTo>
                      <a:pt x="44" y="2056"/>
                    </a:lnTo>
                    <a:lnTo>
                      <a:pt x="42" y="1958"/>
                    </a:lnTo>
                    <a:lnTo>
                      <a:pt x="44" y="1858"/>
                    </a:lnTo>
                    <a:lnTo>
                      <a:pt x="52" y="1761"/>
                    </a:lnTo>
                    <a:lnTo>
                      <a:pt x="63" y="1666"/>
                    </a:lnTo>
                    <a:lnTo>
                      <a:pt x="81" y="1571"/>
                    </a:lnTo>
                    <a:lnTo>
                      <a:pt x="101" y="1478"/>
                    </a:lnTo>
                    <a:lnTo>
                      <a:pt x="127" y="1387"/>
                    </a:lnTo>
                    <a:lnTo>
                      <a:pt x="157" y="1299"/>
                    </a:lnTo>
                    <a:lnTo>
                      <a:pt x="192" y="1211"/>
                    </a:lnTo>
                    <a:lnTo>
                      <a:pt x="231" y="1127"/>
                    </a:lnTo>
                    <a:lnTo>
                      <a:pt x="273" y="1044"/>
                    </a:lnTo>
                    <a:lnTo>
                      <a:pt x="318" y="964"/>
                    </a:lnTo>
                    <a:lnTo>
                      <a:pt x="369" y="886"/>
                    </a:lnTo>
                    <a:lnTo>
                      <a:pt x="422" y="811"/>
                    </a:lnTo>
                    <a:lnTo>
                      <a:pt x="479" y="738"/>
                    </a:lnTo>
                    <a:lnTo>
                      <a:pt x="539" y="669"/>
                    </a:lnTo>
                    <a:lnTo>
                      <a:pt x="603" y="602"/>
                    </a:lnTo>
                    <a:lnTo>
                      <a:pt x="670" y="540"/>
                    </a:lnTo>
                    <a:lnTo>
                      <a:pt x="739" y="479"/>
                    </a:lnTo>
                    <a:lnTo>
                      <a:pt x="811" y="422"/>
                    </a:lnTo>
                    <a:lnTo>
                      <a:pt x="887" y="369"/>
                    </a:lnTo>
                    <a:lnTo>
                      <a:pt x="965" y="319"/>
                    </a:lnTo>
                    <a:lnTo>
                      <a:pt x="1045" y="273"/>
                    </a:lnTo>
                    <a:lnTo>
                      <a:pt x="1127" y="231"/>
                    </a:lnTo>
                    <a:lnTo>
                      <a:pt x="1212" y="192"/>
                    </a:lnTo>
                    <a:lnTo>
                      <a:pt x="1300" y="157"/>
                    </a:lnTo>
                    <a:lnTo>
                      <a:pt x="1388" y="128"/>
                    </a:lnTo>
                    <a:lnTo>
                      <a:pt x="1479" y="102"/>
                    </a:lnTo>
                    <a:lnTo>
                      <a:pt x="1572" y="81"/>
                    </a:lnTo>
                    <a:lnTo>
                      <a:pt x="1666" y="63"/>
                    </a:lnTo>
                    <a:lnTo>
                      <a:pt x="1762" y="51"/>
                    </a:lnTo>
                    <a:lnTo>
                      <a:pt x="1859" y="44"/>
                    </a:lnTo>
                    <a:lnTo>
                      <a:pt x="1958" y="42"/>
                    </a:lnTo>
                    <a:lnTo>
                      <a:pt x="2057" y="44"/>
                    </a:lnTo>
                    <a:lnTo>
                      <a:pt x="2154" y="51"/>
                    </a:lnTo>
                    <a:lnTo>
                      <a:pt x="2250" y="63"/>
                    </a:lnTo>
                    <a:lnTo>
                      <a:pt x="2344" y="81"/>
                    </a:lnTo>
                    <a:lnTo>
                      <a:pt x="2437" y="102"/>
                    </a:lnTo>
                    <a:lnTo>
                      <a:pt x="2528" y="128"/>
                    </a:lnTo>
                    <a:lnTo>
                      <a:pt x="2617" y="157"/>
                    </a:lnTo>
                    <a:lnTo>
                      <a:pt x="2704" y="192"/>
                    </a:lnTo>
                    <a:lnTo>
                      <a:pt x="2789" y="231"/>
                    </a:lnTo>
                    <a:lnTo>
                      <a:pt x="2872" y="273"/>
                    </a:lnTo>
                    <a:lnTo>
                      <a:pt x="2952" y="319"/>
                    </a:lnTo>
                    <a:lnTo>
                      <a:pt x="3030" y="369"/>
                    </a:lnTo>
                    <a:lnTo>
                      <a:pt x="3105" y="422"/>
                    </a:lnTo>
                    <a:lnTo>
                      <a:pt x="3178" y="479"/>
                    </a:lnTo>
                    <a:lnTo>
                      <a:pt x="3247" y="540"/>
                    </a:lnTo>
                    <a:lnTo>
                      <a:pt x="3314" y="602"/>
                    </a:lnTo>
                    <a:lnTo>
                      <a:pt x="3377" y="669"/>
                    </a:lnTo>
                    <a:lnTo>
                      <a:pt x="3437" y="738"/>
                    </a:lnTo>
                    <a:lnTo>
                      <a:pt x="3494" y="811"/>
                    </a:lnTo>
                    <a:lnTo>
                      <a:pt x="3547" y="886"/>
                    </a:lnTo>
                    <a:lnTo>
                      <a:pt x="3598" y="964"/>
                    </a:lnTo>
                    <a:lnTo>
                      <a:pt x="3643" y="1044"/>
                    </a:lnTo>
                    <a:lnTo>
                      <a:pt x="3685" y="1127"/>
                    </a:lnTo>
                    <a:lnTo>
                      <a:pt x="3724" y="1211"/>
                    </a:lnTo>
                    <a:lnTo>
                      <a:pt x="3759" y="1299"/>
                    </a:lnTo>
                    <a:lnTo>
                      <a:pt x="3789" y="1387"/>
                    </a:lnTo>
                    <a:lnTo>
                      <a:pt x="3815" y="1478"/>
                    </a:lnTo>
                    <a:lnTo>
                      <a:pt x="3836" y="1571"/>
                    </a:lnTo>
                    <a:lnTo>
                      <a:pt x="3853" y="1666"/>
                    </a:lnTo>
                    <a:lnTo>
                      <a:pt x="3865" y="1761"/>
                    </a:lnTo>
                    <a:lnTo>
                      <a:pt x="3872" y="1858"/>
                    </a:lnTo>
                    <a:lnTo>
                      <a:pt x="3875" y="1958"/>
                    </a:lnTo>
                    <a:lnTo>
                      <a:pt x="3873" y="2021"/>
                    </a:lnTo>
                    <a:lnTo>
                      <a:pt x="3870" y="2085"/>
                    </a:lnTo>
                    <a:lnTo>
                      <a:pt x="3866" y="2149"/>
                    </a:lnTo>
                    <a:lnTo>
                      <a:pt x="3858" y="2211"/>
                    </a:lnTo>
                    <a:lnTo>
                      <a:pt x="3849" y="2273"/>
                    </a:lnTo>
                    <a:lnTo>
                      <a:pt x="3838" y="2335"/>
                    </a:lnTo>
                    <a:lnTo>
                      <a:pt x="3825" y="2395"/>
                    </a:lnTo>
                    <a:lnTo>
                      <a:pt x="3810" y="2456"/>
                    </a:lnTo>
                    <a:lnTo>
                      <a:pt x="3850" y="2466"/>
                    </a:lnTo>
                    <a:lnTo>
                      <a:pt x="3865" y="2405"/>
                    </a:lnTo>
                    <a:lnTo>
                      <a:pt x="3879" y="2343"/>
                    </a:lnTo>
                    <a:lnTo>
                      <a:pt x="3890" y="2281"/>
                    </a:lnTo>
                    <a:lnTo>
                      <a:pt x="3899" y="2217"/>
                    </a:lnTo>
                    <a:lnTo>
                      <a:pt x="3907" y="2153"/>
                    </a:lnTo>
                    <a:lnTo>
                      <a:pt x="3912" y="2088"/>
                    </a:lnTo>
                    <a:lnTo>
                      <a:pt x="3914" y="2056"/>
                    </a:lnTo>
                    <a:lnTo>
                      <a:pt x="3916" y="2024"/>
                    </a:lnTo>
                    <a:lnTo>
                      <a:pt x="3917" y="1990"/>
                    </a:lnTo>
                    <a:lnTo>
                      <a:pt x="3917" y="1958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5200" y="2228760"/>
                <a:ext cx="1538280" cy="1536840"/>
              </a:xfrm>
              <a:custGeom>
                <a:avLst/>
                <a:gdLst/>
                <a:ahLst/>
                <a:rect l="l" t="t" r="r" b="b"/>
                <a:pathLst>
                  <a:path w="3876" h="3873">
                    <a:moveTo>
                      <a:pt x="3876" y="1937"/>
                    </a:moveTo>
                    <a:lnTo>
                      <a:pt x="3873" y="1836"/>
                    </a:lnTo>
                    <a:lnTo>
                      <a:pt x="3865" y="1738"/>
                    </a:lnTo>
                    <a:lnTo>
                      <a:pt x="3853" y="1642"/>
                    </a:lnTo>
                    <a:lnTo>
                      <a:pt x="3836" y="1546"/>
                    </a:lnTo>
                    <a:lnTo>
                      <a:pt x="3815" y="1453"/>
                    </a:lnTo>
                    <a:lnTo>
                      <a:pt x="3789" y="1361"/>
                    </a:lnTo>
                    <a:lnTo>
                      <a:pt x="3758" y="1270"/>
                    </a:lnTo>
                    <a:lnTo>
                      <a:pt x="3724" y="1183"/>
                    </a:lnTo>
                    <a:lnTo>
                      <a:pt x="3685" y="1096"/>
                    </a:lnTo>
                    <a:lnTo>
                      <a:pt x="3642" y="1013"/>
                    </a:lnTo>
                    <a:lnTo>
                      <a:pt x="3595" y="932"/>
                    </a:lnTo>
                    <a:lnTo>
                      <a:pt x="3544" y="853"/>
                    </a:lnTo>
                    <a:lnTo>
                      <a:pt x="3490" y="778"/>
                    </a:lnTo>
                    <a:lnTo>
                      <a:pt x="3433" y="704"/>
                    </a:lnTo>
                    <a:lnTo>
                      <a:pt x="3373" y="634"/>
                    </a:lnTo>
                    <a:lnTo>
                      <a:pt x="3308" y="567"/>
                    </a:lnTo>
                    <a:lnTo>
                      <a:pt x="3241" y="502"/>
                    </a:lnTo>
                    <a:lnTo>
                      <a:pt x="3171" y="442"/>
                    </a:lnTo>
                    <a:lnTo>
                      <a:pt x="3097" y="385"/>
                    </a:lnTo>
                    <a:lnTo>
                      <a:pt x="3021" y="331"/>
                    </a:lnTo>
                    <a:lnTo>
                      <a:pt x="2943" y="280"/>
                    </a:lnTo>
                    <a:lnTo>
                      <a:pt x="2862" y="234"/>
                    </a:lnTo>
                    <a:lnTo>
                      <a:pt x="2778" y="190"/>
                    </a:lnTo>
                    <a:lnTo>
                      <a:pt x="2692" y="151"/>
                    </a:lnTo>
                    <a:lnTo>
                      <a:pt x="2604" y="117"/>
                    </a:lnTo>
                    <a:lnTo>
                      <a:pt x="2515" y="87"/>
                    </a:lnTo>
                    <a:lnTo>
                      <a:pt x="2423" y="61"/>
                    </a:lnTo>
                    <a:lnTo>
                      <a:pt x="2329" y="39"/>
                    </a:lnTo>
                    <a:lnTo>
                      <a:pt x="2234" y="22"/>
                    </a:lnTo>
                    <a:lnTo>
                      <a:pt x="2136" y="10"/>
                    </a:lnTo>
                    <a:lnTo>
                      <a:pt x="2038" y="2"/>
                    </a:lnTo>
                    <a:lnTo>
                      <a:pt x="1938" y="0"/>
                    </a:lnTo>
                    <a:lnTo>
                      <a:pt x="1838" y="2"/>
                    </a:lnTo>
                    <a:lnTo>
                      <a:pt x="1740" y="10"/>
                    </a:lnTo>
                    <a:lnTo>
                      <a:pt x="1643" y="22"/>
                    </a:lnTo>
                    <a:lnTo>
                      <a:pt x="1548" y="39"/>
                    </a:lnTo>
                    <a:lnTo>
                      <a:pt x="1454" y="61"/>
                    </a:lnTo>
                    <a:lnTo>
                      <a:pt x="1362" y="87"/>
                    </a:lnTo>
                    <a:lnTo>
                      <a:pt x="1272" y="117"/>
                    </a:lnTo>
                    <a:lnTo>
                      <a:pt x="1185" y="151"/>
                    </a:lnTo>
                    <a:lnTo>
                      <a:pt x="1098" y="190"/>
                    </a:lnTo>
                    <a:lnTo>
                      <a:pt x="1015" y="234"/>
                    </a:lnTo>
                    <a:lnTo>
                      <a:pt x="934" y="280"/>
                    </a:lnTo>
                    <a:lnTo>
                      <a:pt x="855" y="331"/>
                    </a:lnTo>
                    <a:lnTo>
                      <a:pt x="779" y="385"/>
                    </a:lnTo>
                    <a:lnTo>
                      <a:pt x="706" y="442"/>
                    </a:lnTo>
                    <a:lnTo>
                      <a:pt x="636" y="502"/>
                    </a:lnTo>
                    <a:lnTo>
                      <a:pt x="569" y="567"/>
                    </a:lnTo>
                    <a:lnTo>
                      <a:pt x="504" y="634"/>
                    </a:lnTo>
                    <a:lnTo>
                      <a:pt x="443" y="704"/>
                    </a:lnTo>
                    <a:lnTo>
                      <a:pt x="386" y="778"/>
                    </a:lnTo>
                    <a:lnTo>
                      <a:pt x="332" y="853"/>
                    </a:lnTo>
                    <a:lnTo>
                      <a:pt x="281" y="932"/>
                    </a:lnTo>
                    <a:lnTo>
                      <a:pt x="235" y="1013"/>
                    </a:lnTo>
                    <a:lnTo>
                      <a:pt x="191" y="1096"/>
                    </a:lnTo>
                    <a:lnTo>
                      <a:pt x="153" y="1183"/>
                    </a:lnTo>
                    <a:lnTo>
                      <a:pt x="118" y="1270"/>
                    </a:lnTo>
                    <a:lnTo>
                      <a:pt x="88" y="1361"/>
                    </a:lnTo>
                    <a:lnTo>
                      <a:pt x="62" y="1453"/>
                    </a:lnTo>
                    <a:lnTo>
                      <a:pt x="40" y="1546"/>
                    </a:lnTo>
                    <a:lnTo>
                      <a:pt x="23" y="1642"/>
                    </a:lnTo>
                    <a:lnTo>
                      <a:pt x="11" y="1738"/>
                    </a:lnTo>
                    <a:lnTo>
                      <a:pt x="3" y="1836"/>
                    </a:lnTo>
                    <a:lnTo>
                      <a:pt x="0" y="1937"/>
                    </a:lnTo>
                    <a:lnTo>
                      <a:pt x="3" y="2036"/>
                    </a:lnTo>
                    <a:lnTo>
                      <a:pt x="11" y="2134"/>
                    </a:lnTo>
                    <a:lnTo>
                      <a:pt x="23" y="2232"/>
                    </a:lnTo>
                    <a:lnTo>
                      <a:pt x="40" y="2327"/>
                    </a:lnTo>
                    <a:lnTo>
                      <a:pt x="62" y="2421"/>
                    </a:lnTo>
                    <a:lnTo>
                      <a:pt x="88" y="2512"/>
                    </a:lnTo>
                    <a:lnTo>
                      <a:pt x="118" y="2602"/>
                    </a:lnTo>
                    <a:lnTo>
                      <a:pt x="153" y="2691"/>
                    </a:lnTo>
                    <a:lnTo>
                      <a:pt x="191" y="2776"/>
                    </a:lnTo>
                    <a:lnTo>
                      <a:pt x="235" y="2859"/>
                    </a:lnTo>
                    <a:lnTo>
                      <a:pt x="281" y="2941"/>
                    </a:lnTo>
                    <a:lnTo>
                      <a:pt x="332" y="3019"/>
                    </a:lnTo>
                    <a:lnTo>
                      <a:pt x="386" y="3096"/>
                    </a:lnTo>
                    <a:lnTo>
                      <a:pt x="443" y="3168"/>
                    </a:lnTo>
                    <a:lnTo>
                      <a:pt x="504" y="3238"/>
                    </a:lnTo>
                    <a:lnTo>
                      <a:pt x="569" y="3306"/>
                    </a:lnTo>
                    <a:lnTo>
                      <a:pt x="636" y="3370"/>
                    </a:lnTo>
                    <a:lnTo>
                      <a:pt x="706" y="3430"/>
                    </a:lnTo>
                    <a:lnTo>
                      <a:pt x="779" y="3489"/>
                    </a:lnTo>
                    <a:lnTo>
                      <a:pt x="855" y="3543"/>
                    </a:lnTo>
                    <a:lnTo>
                      <a:pt x="934" y="3592"/>
                    </a:lnTo>
                    <a:lnTo>
                      <a:pt x="1015" y="3640"/>
                    </a:lnTo>
                    <a:lnTo>
                      <a:pt x="1098" y="3682"/>
                    </a:lnTo>
                    <a:lnTo>
                      <a:pt x="1185" y="3721"/>
                    </a:lnTo>
                    <a:lnTo>
                      <a:pt x="1272" y="3755"/>
                    </a:lnTo>
                    <a:lnTo>
                      <a:pt x="1362" y="3786"/>
                    </a:lnTo>
                    <a:lnTo>
                      <a:pt x="1454" y="3813"/>
                    </a:lnTo>
                    <a:lnTo>
                      <a:pt x="1548" y="3834"/>
                    </a:lnTo>
                    <a:lnTo>
                      <a:pt x="1643" y="3850"/>
                    </a:lnTo>
                    <a:lnTo>
                      <a:pt x="1740" y="3863"/>
                    </a:lnTo>
                    <a:lnTo>
                      <a:pt x="1838" y="3871"/>
                    </a:lnTo>
                    <a:lnTo>
                      <a:pt x="1938" y="3873"/>
                    </a:lnTo>
                    <a:lnTo>
                      <a:pt x="1995" y="3872"/>
                    </a:lnTo>
                    <a:lnTo>
                      <a:pt x="2051" y="3870"/>
                    </a:lnTo>
                    <a:lnTo>
                      <a:pt x="2107" y="3866"/>
                    </a:lnTo>
                    <a:lnTo>
                      <a:pt x="2163" y="3860"/>
                    </a:lnTo>
                    <a:lnTo>
                      <a:pt x="2219" y="3853"/>
                    </a:lnTo>
                    <a:lnTo>
                      <a:pt x="2274" y="3844"/>
                    </a:lnTo>
                    <a:lnTo>
                      <a:pt x="2328" y="3834"/>
                    </a:lnTo>
                    <a:lnTo>
                      <a:pt x="2381" y="3822"/>
                    </a:lnTo>
                    <a:lnTo>
                      <a:pt x="2434" y="3809"/>
                    </a:lnTo>
                    <a:lnTo>
                      <a:pt x="2487" y="3794"/>
                    </a:lnTo>
                    <a:lnTo>
                      <a:pt x="2538" y="3778"/>
                    </a:lnTo>
                    <a:lnTo>
                      <a:pt x="2589" y="3761"/>
                    </a:lnTo>
                    <a:lnTo>
                      <a:pt x="2640" y="3742"/>
                    </a:lnTo>
                    <a:lnTo>
                      <a:pt x="2690" y="3722"/>
                    </a:lnTo>
                    <a:lnTo>
                      <a:pt x="2739" y="3700"/>
                    </a:lnTo>
                    <a:lnTo>
                      <a:pt x="2788" y="3678"/>
                    </a:lnTo>
                    <a:lnTo>
                      <a:pt x="2770" y="3640"/>
                    </a:lnTo>
                    <a:lnTo>
                      <a:pt x="2722" y="3663"/>
                    </a:lnTo>
                    <a:lnTo>
                      <a:pt x="2673" y="3683"/>
                    </a:lnTo>
                    <a:lnTo>
                      <a:pt x="2625" y="3704"/>
                    </a:lnTo>
                    <a:lnTo>
                      <a:pt x="2575" y="3722"/>
                    </a:lnTo>
                    <a:lnTo>
                      <a:pt x="2525" y="3739"/>
                    </a:lnTo>
                    <a:lnTo>
                      <a:pt x="2475" y="3754"/>
                    </a:lnTo>
                    <a:lnTo>
                      <a:pt x="2424" y="3768"/>
                    </a:lnTo>
                    <a:lnTo>
                      <a:pt x="2371" y="3781"/>
                    </a:lnTo>
                    <a:lnTo>
                      <a:pt x="2319" y="3793"/>
                    </a:lnTo>
                    <a:lnTo>
                      <a:pt x="2266" y="3803"/>
                    </a:lnTo>
                    <a:lnTo>
                      <a:pt x="2212" y="3812"/>
                    </a:lnTo>
                    <a:lnTo>
                      <a:pt x="2158" y="3819"/>
                    </a:lnTo>
                    <a:lnTo>
                      <a:pt x="2104" y="3825"/>
                    </a:lnTo>
                    <a:lnTo>
                      <a:pt x="2049" y="3828"/>
                    </a:lnTo>
                    <a:lnTo>
                      <a:pt x="1994" y="3831"/>
                    </a:lnTo>
                    <a:lnTo>
                      <a:pt x="1938" y="3831"/>
                    </a:lnTo>
                    <a:lnTo>
                      <a:pt x="1840" y="3829"/>
                    </a:lnTo>
                    <a:lnTo>
                      <a:pt x="1744" y="3821"/>
                    </a:lnTo>
                    <a:lnTo>
                      <a:pt x="1649" y="3809"/>
                    </a:lnTo>
                    <a:lnTo>
                      <a:pt x="1556" y="3793"/>
                    </a:lnTo>
                    <a:lnTo>
                      <a:pt x="1464" y="3772"/>
                    </a:lnTo>
                    <a:lnTo>
                      <a:pt x="1375" y="3747"/>
                    </a:lnTo>
                    <a:lnTo>
                      <a:pt x="1286" y="3717"/>
                    </a:lnTo>
                    <a:lnTo>
                      <a:pt x="1201" y="3683"/>
                    </a:lnTo>
                    <a:lnTo>
                      <a:pt x="1116" y="3644"/>
                    </a:lnTo>
                    <a:lnTo>
                      <a:pt x="1034" y="3603"/>
                    </a:lnTo>
                    <a:lnTo>
                      <a:pt x="955" y="3557"/>
                    </a:lnTo>
                    <a:lnTo>
                      <a:pt x="878" y="3508"/>
                    </a:lnTo>
                    <a:lnTo>
                      <a:pt x="804" y="3455"/>
                    </a:lnTo>
                    <a:lnTo>
                      <a:pt x="732" y="3399"/>
                    </a:lnTo>
                    <a:lnTo>
                      <a:pt x="664" y="3340"/>
                    </a:lnTo>
                    <a:lnTo>
                      <a:pt x="598" y="3276"/>
                    </a:lnTo>
                    <a:lnTo>
                      <a:pt x="535" y="3211"/>
                    </a:lnTo>
                    <a:lnTo>
                      <a:pt x="476" y="3142"/>
                    </a:lnTo>
                    <a:lnTo>
                      <a:pt x="418" y="3071"/>
                    </a:lnTo>
                    <a:lnTo>
                      <a:pt x="367" y="2996"/>
                    </a:lnTo>
                    <a:lnTo>
                      <a:pt x="317" y="2919"/>
                    </a:lnTo>
                    <a:lnTo>
                      <a:pt x="271" y="2840"/>
                    </a:lnTo>
                    <a:lnTo>
                      <a:pt x="229" y="2757"/>
                    </a:lnTo>
                    <a:lnTo>
                      <a:pt x="191" y="2674"/>
                    </a:lnTo>
                    <a:lnTo>
                      <a:pt x="157" y="2588"/>
                    </a:lnTo>
                    <a:lnTo>
                      <a:pt x="128" y="2500"/>
                    </a:lnTo>
                    <a:lnTo>
                      <a:pt x="102" y="2410"/>
                    </a:lnTo>
                    <a:lnTo>
                      <a:pt x="81" y="2318"/>
                    </a:lnTo>
                    <a:lnTo>
                      <a:pt x="64" y="2225"/>
                    </a:lnTo>
                    <a:lnTo>
                      <a:pt x="52" y="2130"/>
                    </a:lnTo>
                    <a:lnTo>
                      <a:pt x="45" y="2034"/>
                    </a:lnTo>
                    <a:lnTo>
                      <a:pt x="42" y="1937"/>
                    </a:lnTo>
                    <a:lnTo>
                      <a:pt x="45" y="1838"/>
                    </a:lnTo>
                    <a:lnTo>
                      <a:pt x="52" y="1742"/>
                    </a:lnTo>
                    <a:lnTo>
                      <a:pt x="64" y="1648"/>
                    </a:lnTo>
                    <a:lnTo>
                      <a:pt x="81" y="1554"/>
                    </a:lnTo>
                    <a:lnTo>
                      <a:pt x="102" y="1463"/>
                    </a:lnTo>
                    <a:lnTo>
                      <a:pt x="128" y="1373"/>
                    </a:lnTo>
                    <a:lnTo>
                      <a:pt x="157" y="1284"/>
                    </a:lnTo>
                    <a:lnTo>
                      <a:pt x="191" y="1199"/>
                    </a:lnTo>
                    <a:lnTo>
                      <a:pt x="229" y="1115"/>
                    </a:lnTo>
                    <a:lnTo>
                      <a:pt x="271" y="1033"/>
                    </a:lnTo>
                    <a:lnTo>
                      <a:pt x="317" y="954"/>
                    </a:lnTo>
                    <a:lnTo>
                      <a:pt x="367" y="877"/>
                    </a:lnTo>
                    <a:lnTo>
                      <a:pt x="418" y="803"/>
                    </a:lnTo>
                    <a:lnTo>
                      <a:pt x="476" y="731"/>
                    </a:lnTo>
                    <a:lnTo>
                      <a:pt x="535" y="662"/>
                    </a:lnTo>
                    <a:lnTo>
                      <a:pt x="598" y="596"/>
                    </a:lnTo>
                    <a:lnTo>
                      <a:pt x="664" y="534"/>
                    </a:lnTo>
                    <a:lnTo>
                      <a:pt x="732" y="474"/>
                    </a:lnTo>
                    <a:lnTo>
                      <a:pt x="804" y="418"/>
                    </a:lnTo>
                    <a:lnTo>
                      <a:pt x="878" y="365"/>
                    </a:lnTo>
                    <a:lnTo>
                      <a:pt x="955" y="316"/>
                    </a:lnTo>
                    <a:lnTo>
                      <a:pt x="1034" y="270"/>
                    </a:lnTo>
                    <a:lnTo>
                      <a:pt x="1116" y="228"/>
                    </a:lnTo>
                    <a:lnTo>
                      <a:pt x="1201" y="190"/>
                    </a:lnTo>
                    <a:lnTo>
                      <a:pt x="1286" y="157"/>
                    </a:lnTo>
                    <a:lnTo>
                      <a:pt x="1375" y="127"/>
                    </a:lnTo>
                    <a:lnTo>
                      <a:pt x="1464" y="101"/>
                    </a:lnTo>
                    <a:lnTo>
                      <a:pt x="1556" y="80"/>
                    </a:lnTo>
                    <a:lnTo>
                      <a:pt x="1649" y="63"/>
                    </a:lnTo>
                    <a:lnTo>
                      <a:pt x="1744" y="51"/>
                    </a:lnTo>
                    <a:lnTo>
                      <a:pt x="1840" y="43"/>
                    </a:lnTo>
                    <a:lnTo>
                      <a:pt x="1938" y="41"/>
                    </a:lnTo>
                    <a:lnTo>
                      <a:pt x="2036" y="43"/>
                    </a:lnTo>
                    <a:lnTo>
                      <a:pt x="2132" y="51"/>
                    </a:lnTo>
                    <a:lnTo>
                      <a:pt x="2227" y="63"/>
                    </a:lnTo>
                    <a:lnTo>
                      <a:pt x="2320" y="80"/>
                    </a:lnTo>
                    <a:lnTo>
                      <a:pt x="2412" y="101"/>
                    </a:lnTo>
                    <a:lnTo>
                      <a:pt x="2502" y="127"/>
                    </a:lnTo>
                    <a:lnTo>
                      <a:pt x="2590" y="157"/>
                    </a:lnTo>
                    <a:lnTo>
                      <a:pt x="2676" y="190"/>
                    </a:lnTo>
                    <a:lnTo>
                      <a:pt x="2760" y="228"/>
                    </a:lnTo>
                    <a:lnTo>
                      <a:pt x="2842" y="270"/>
                    </a:lnTo>
                    <a:lnTo>
                      <a:pt x="2921" y="316"/>
                    </a:lnTo>
                    <a:lnTo>
                      <a:pt x="2998" y="365"/>
                    </a:lnTo>
                    <a:lnTo>
                      <a:pt x="3072" y="418"/>
                    </a:lnTo>
                    <a:lnTo>
                      <a:pt x="3145" y="474"/>
                    </a:lnTo>
                    <a:lnTo>
                      <a:pt x="3213" y="534"/>
                    </a:lnTo>
                    <a:lnTo>
                      <a:pt x="3279" y="596"/>
                    </a:lnTo>
                    <a:lnTo>
                      <a:pt x="3341" y="662"/>
                    </a:lnTo>
                    <a:lnTo>
                      <a:pt x="3401" y="731"/>
                    </a:lnTo>
                    <a:lnTo>
                      <a:pt x="3457" y="803"/>
                    </a:lnTo>
                    <a:lnTo>
                      <a:pt x="3510" y="877"/>
                    </a:lnTo>
                    <a:lnTo>
                      <a:pt x="3560" y="954"/>
                    </a:lnTo>
                    <a:lnTo>
                      <a:pt x="3605" y="1033"/>
                    </a:lnTo>
                    <a:lnTo>
                      <a:pt x="3647" y="1115"/>
                    </a:lnTo>
                    <a:lnTo>
                      <a:pt x="3685" y="1199"/>
                    </a:lnTo>
                    <a:lnTo>
                      <a:pt x="3719" y="1284"/>
                    </a:lnTo>
                    <a:lnTo>
                      <a:pt x="3749" y="1373"/>
                    </a:lnTo>
                    <a:lnTo>
                      <a:pt x="3775" y="1463"/>
                    </a:lnTo>
                    <a:lnTo>
                      <a:pt x="3795" y="1554"/>
                    </a:lnTo>
                    <a:lnTo>
                      <a:pt x="3812" y="1648"/>
                    </a:lnTo>
                    <a:lnTo>
                      <a:pt x="3824" y="1742"/>
                    </a:lnTo>
                    <a:lnTo>
                      <a:pt x="3832" y="1838"/>
                    </a:lnTo>
                    <a:lnTo>
                      <a:pt x="3834" y="1937"/>
                    </a:lnTo>
                    <a:lnTo>
                      <a:pt x="3833" y="2000"/>
                    </a:lnTo>
                    <a:lnTo>
                      <a:pt x="3830" y="2063"/>
                    </a:lnTo>
                    <a:lnTo>
                      <a:pt x="3824" y="2126"/>
                    </a:lnTo>
                    <a:lnTo>
                      <a:pt x="3818" y="2187"/>
                    </a:lnTo>
                    <a:lnTo>
                      <a:pt x="3808" y="2249"/>
                    </a:lnTo>
                    <a:lnTo>
                      <a:pt x="3797" y="2309"/>
                    </a:lnTo>
                    <a:lnTo>
                      <a:pt x="3784" y="2370"/>
                    </a:lnTo>
                    <a:lnTo>
                      <a:pt x="3769" y="2429"/>
                    </a:lnTo>
                    <a:lnTo>
                      <a:pt x="3809" y="2440"/>
                    </a:lnTo>
                    <a:lnTo>
                      <a:pt x="3824" y="2379"/>
                    </a:lnTo>
                    <a:lnTo>
                      <a:pt x="3838" y="2318"/>
                    </a:lnTo>
                    <a:lnTo>
                      <a:pt x="3849" y="2256"/>
                    </a:lnTo>
                    <a:lnTo>
                      <a:pt x="3859" y="2194"/>
                    </a:lnTo>
                    <a:lnTo>
                      <a:pt x="3866" y="2130"/>
                    </a:lnTo>
                    <a:lnTo>
                      <a:pt x="3872" y="2066"/>
                    </a:lnTo>
                    <a:lnTo>
                      <a:pt x="3875" y="2001"/>
                    </a:lnTo>
                    <a:lnTo>
                      <a:pt x="3876" y="1937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13120" y="2236680"/>
                <a:ext cx="1521000" cy="1521000"/>
              </a:xfrm>
              <a:custGeom>
                <a:avLst/>
                <a:gdLst/>
                <a:ahLst/>
                <a:rect l="l" t="t" r="r" b="b"/>
                <a:pathLst>
                  <a:path w="3833" h="3832">
                    <a:moveTo>
                      <a:pt x="3833" y="1916"/>
                    </a:moveTo>
                    <a:lnTo>
                      <a:pt x="3830" y="1816"/>
                    </a:lnTo>
                    <a:lnTo>
                      <a:pt x="3823" y="1719"/>
                    </a:lnTo>
                    <a:lnTo>
                      <a:pt x="3811" y="1624"/>
                    </a:lnTo>
                    <a:lnTo>
                      <a:pt x="3794" y="1529"/>
                    </a:lnTo>
                    <a:lnTo>
                      <a:pt x="3773" y="1436"/>
                    </a:lnTo>
                    <a:lnTo>
                      <a:pt x="3747" y="1345"/>
                    </a:lnTo>
                    <a:lnTo>
                      <a:pt x="3717" y="1257"/>
                    </a:lnTo>
                    <a:lnTo>
                      <a:pt x="3682" y="1169"/>
                    </a:lnTo>
                    <a:lnTo>
                      <a:pt x="3643" y="1085"/>
                    </a:lnTo>
                    <a:lnTo>
                      <a:pt x="3601" y="1002"/>
                    </a:lnTo>
                    <a:lnTo>
                      <a:pt x="3556" y="922"/>
                    </a:lnTo>
                    <a:lnTo>
                      <a:pt x="3505" y="844"/>
                    </a:lnTo>
                    <a:lnTo>
                      <a:pt x="3452" y="769"/>
                    </a:lnTo>
                    <a:lnTo>
                      <a:pt x="3395" y="696"/>
                    </a:lnTo>
                    <a:lnTo>
                      <a:pt x="3335" y="627"/>
                    </a:lnTo>
                    <a:lnTo>
                      <a:pt x="3272" y="560"/>
                    </a:lnTo>
                    <a:lnTo>
                      <a:pt x="3205" y="498"/>
                    </a:lnTo>
                    <a:lnTo>
                      <a:pt x="3136" y="437"/>
                    </a:lnTo>
                    <a:lnTo>
                      <a:pt x="3063" y="380"/>
                    </a:lnTo>
                    <a:lnTo>
                      <a:pt x="2988" y="327"/>
                    </a:lnTo>
                    <a:lnTo>
                      <a:pt x="2910" y="277"/>
                    </a:lnTo>
                    <a:lnTo>
                      <a:pt x="2830" y="231"/>
                    </a:lnTo>
                    <a:lnTo>
                      <a:pt x="2747" y="189"/>
                    </a:lnTo>
                    <a:lnTo>
                      <a:pt x="2662" y="150"/>
                    </a:lnTo>
                    <a:lnTo>
                      <a:pt x="2575" y="115"/>
                    </a:lnTo>
                    <a:lnTo>
                      <a:pt x="2486" y="86"/>
                    </a:lnTo>
                    <a:lnTo>
                      <a:pt x="2395" y="60"/>
                    </a:lnTo>
                    <a:lnTo>
                      <a:pt x="2302" y="39"/>
                    </a:lnTo>
                    <a:lnTo>
                      <a:pt x="2208" y="21"/>
                    </a:lnTo>
                    <a:lnTo>
                      <a:pt x="2112" y="9"/>
                    </a:lnTo>
                    <a:lnTo>
                      <a:pt x="2015" y="2"/>
                    </a:lnTo>
                    <a:lnTo>
                      <a:pt x="1916" y="0"/>
                    </a:lnTo>
                    <a:lnTo>
                      <a:pt x="1817" y="2"/>
                    </a:lnTo>
                    <a:lnTo>
                      <a:pt x="1720" y="9"/>
                    </a:lnTo>
                    <a:lnTo>
                      <a:pt x="1624" y="21"/>
                    </a:lnTo>
                    <a:lnTo>
                      <a:pt x="1530" y="39"/>
                    </a:lnTo>
                    <a:lnTo>
                      <a:pt x="1437" y="60"/>
                    </a:lnTo>
                    <a:lnTo>
                      <a:pt x="1346" y="86"/>
                    </a:lnTo>
                    <a:lnTo>
                      <a:pt x="1258" y="115"/>
                    </a:lnTo>
                    <a:lnTo>
                      <a:pt x="1170" y="150"/>
                    </a:lnTo>
                    <a:lnTo>
                      <a:pt x="1085" y="189"/>
                    </a:lnTo>
                    <a:lnTo>
                      <a:pt x="1003" y="231"/>
                    </a:lnTo>
                    <a:lnTo>
                      <a:pt x="923" y="277"/>
                    </a:lnTo>
                    <a:lnTo>
                      <a:pt x="845" y="327"/>
                    </a:lnTo>
                    <a:lnTo>
                      <a:pt x="769" y="380"/>
                    </a:lnTo>
                    <a:lnTo>
                      <a:pt x="697" y="437"/>
                    </a:lnTo>
                    <a:lnTo>
                      <a:pt x="628" y="498"/>
                    </a:lnTo>
                    <a:lnTo>
                      <a:pt x="561" y="560"/>
                    </a:lnTo>
                    <a:lnTo>
                      <a:pt x="497" y="627"/>
                    </a:lnTo>
                    <a:lnTo>
                      <a:pt x="437" y="696"/>
                    </a:lnTo>
                    <a:lnTo>
                      <a:pt x="380" y="769"/>
                    </a:lnTo>
                    <a:lnTo>
                      <a:pt x="327" y="844"/>
                    </a:lnTo>
                    <a:lnTo>
                      <a:pt x="276" y="922"/>
                    </a:lnTo>
                    <a:lnTo>
                      <a:pt x="231" y="1002"/>
                    </a:lnTo>
                    <a:lnTo>
                      <a:pt x="189" y="1085"/>
                    </a:lnTo>
                    <a:lnTo>
                      <a:pt x="150" y="1169"/>
                    </a:lnTo>
                    <a:lnTo>
                      <a:pt x="115" y="1257"/>
                    </a:lnTo>
                    <a:lnTo>
                      <a:pt x="85" y="1345"/>
                    </a:lnTo>
                    <a:lnTo>
                      <a:pt x="59" y="1436"/>
                    </a:lnTo>
                    <a:lnTo>
                      <a:pt x="39" y="1529"/>
                    </a:lnTo>
                    <a:lnTo>
                      <a:pt x="21" y="1624"/>
                    </a:lnTo>
                    <a:lnTo>
                      <a:pt x="10" y="1719"/>
                    </a:lnTo>
                    <a:lnTo>
                      <a:pt x="2" y="1816"/>
                    </a:lnTo>
                    <a:lnTo>
                      <a:pt x="0" y="1916"/>
                    </a:lnTo>
                    <a:lnTo>
                      <a:pt x="2" y="2014"/>
                    </a:lnTo>
                    <a:lnTo>
                      <a:pt x="10" y="2111"/>
                    </a:lnTo>
                    <a:lnTo>
                      <a:pt x="21" y="2207"/>
                    </a:lnTo>
                    <a:lnTo>
                      <a:pt x="39" y="2301"/>
                    </a:lnTo>
                    <a:lnTo>
                      <a:pt x="59" y="2394"/>
                    </a:lnTo>
                    <a:lnTo>
                      <a:pt x="85" y="2485"/>
                    </a:lnTo>
                    <a:lnTo>
                      <a:pt x="115" y="2574"/>
                    </a:lnTo>
                    <a:lnTo>
                      <a:pt x="150" y="2661"/>
                    </a:lnTo>
                    <a:lnTo>
                      <a:pt x="189" y="2746"/>
                    </a:lnTo>
                    <a:lnTo>
                      <a:pt x="231" y="2828"/>
                    </a:lnTo>
                    <a:lnTo>
                      <a:pt x="276" y="2909"/>
                    </a:lnTo>
                    <a:lnTo>
                      <a:pt x="327" y="2987"/>
                    </a:lnTo>
                    <a:lnTo>
                      <a:pt x="380" y="3062"/>
                    </a:lnTo>
                    <a:lnTo>
                      <a:pt x="437" y="3134"/>
                    </a:lnTo>
                    <a:lnTo>
                      <a:pt x="497" y="3204"/>
                    </a:lnTo>
                    <a:lnTo>
                      <a:pt x="561" y="3270"/>
                    </a:lnTo>
                    <a:lnTo>
                      <a:pt x="628" y="3334"/>
                    </a:lnTo>
                    <a:lnTo>
                      <a:pt x="697" y="3394"/>
                    </a:lnTo>
                    <a:lnTo>
                      <a:pt x="769" y="3450"/>
                    </a:lnTo>
                    <a:lnTo>
                      <a:pt x="845" y="3504"/>
                    </a:lnTo>
                    <a:lnTo>
                      <a:pt x="923" y="3554"/>
                    </a:lnTo>
                    <a:lnTo>
                      <a:pt x="1003" y="3600"/>
                    </a:lnTo>
                    <a:lnTo>
                      <a:pt x="1085" y="3643"/>
                    </a:lnTo>
                    <a:lnTo>
                      <a:pt x="1170" y="3680"/>
                    </a:lnTo>
                    <a:lnTo>
                      <a:pt x="1258" y="3715"/>
                    </a:lnTo>
                    <a:lnTo>
                      <a:pt x="1346" y="3745"/>
                    </a:lnTo>
                    <a:lnTo>
                      <a:pt x="1437" y="3771"/>
                    </a:lnTo>
                    <a:lnTo>
                      <a:pt x="1530" y="3793"/>
                    </a:lnTo>
                    <a:lnTo>
                      <a:pt x="1624" y="3809"/>
                    </a:lnTo>
                    <a:lnTo>
                      <a:pt x="1720" y="3822"/>
                    </a:lnTo>
                    <a:lnTo>
                      <a:pt x="1817" y="3828"/>
                    </a:lnTo>
                    <a:lnTo>
                      <a:pt x="1916" y="3832"/>
                    </a:lnTo>
                    <a:lnTo>
                      <a:pt x="1973" y="3831"/>
                    </a:lnTo>
                    <a:lnTo>
                      <a:pt x="2028" y="3828"/>
                    </a:lnTo>
                    <a:lnTo>
                      <a:pt x="2084" y="3824"/>
                    </a:lnTo>
                    <a:lnTo>
                      <a:pt x="2139" y="3819"/>
                    </a:lnTo>
                    <a:lnTo>
                      <a:pt x="2193" y="3811"/>
                    </a:lnTo>
                    <a:lnTo>
                      <a:pt x="2247" y="3802"/>
                    </a:lnTo>
                    <a:lnTo>
                      <a:pt x="2301" y="3793"/>
                    </a:lnTo>
                    <a:lnTo>
                      <a:pt x="2354" y="3781"/>
                    </a:lnTo>
                    <a:lnTo>
                      <a:pt x="2406" y="3768"/>
                    </a:lnTo>
                    <a:lnTo>
                      <a:pt x="2458" y="3754"/>
                    </a:lnTo>
                    <a:lnTo>
                      <a:pt x="2510" y="3738"/>
                    </a:lnTo>
                    <a:lnTo>
                      <a:pt x="2561" y="3720"/>
                    </a:lnTo>
                    <a:lnTo>
                      <a:pt x="2610" y="3702"/>
                    </a:lnTo>
                    <a:lnTo>
                      <a:pt x="2660" y="3681"/>
                    </a:lnTo>
                    <a:lnTo>
                      <a:pt x="2709" y="3660"/>
                    </a:lnTo>
                    <a:lnTo>
                      <a:pt x="2756" y="3637"/>
                    </a:lnTo>
                    <a:lnTo>
                      <a:pt x="2738" y="3600"/>
                    </a:lnTo>
                    <a:lnTo>
                      <a:pt x="2691" y="3622"/>
                    </a:lnTo>
                    <a:lnTo>
                      <a:pt x="2644" y="3644"/>
                    </a:lnTo>
                    <a:lnTo>
                      <a:pt x="2595" y="3663"/>
                    </a:lnTo>
                    <a:lnTo>
                      <a:pt x="2547" y="3681"/>
                    </a:lnTo>
                    <a:lnTo>
                      <a:pt x="2497" y="3698"/>
                    </a:lnTo>
                    <a:lnTo>
                      <a:pt x="2447" y="3714"/>
                    </a:lnTo>
                    <a:lnTo>
                      <a:pt x="2396" y="3728"/>
                    </a:lnTo>
                    <a:lnTo>
                      <a:pt x="2345" y="3741"/>
                    </a:lnTo>
                    <a:lnTo>
                      <a:pt x="2293" y="3752"/>
                    </a:lnTo>
                    <a:lnTo>
                      <a:pt x="2241" y="3761"/>
                    </a:lnTo>
                    <a:lnTo>
                      <a:pt x="2188" y="3770"/>
                    </a:lnTo>
                    <a:lnTo>
                      <a:pt x="2134" y="3778"/>
                    </a:lnTo>
                    <a:lnTo>
                      <a:pt x="2080" y="3783"/>
                    </a:lnTo>
                    <a:lnTo>
                      <a:pt x="2026" y="3786"/>
                    </a:lnTo>
                    <a:lnTo>
                      <a:pt x="1971" y="3788"/>
                    </a:lnTo>
                    <a:lnTo>
                      <a:pt x="1916" y="3789"/>
                    </a:lnTo>
                    <a:lnTo>
                      <a:pt x="1819" y="3787"/>
                    </a:lnTo>
                    <a:lnTo>
                      <a:pt x="1724" y="3780"/>
                    </a:lnTo>
                    <a:lnTo>
                      <a:pt x="1630" y="3768"/>
                    </a:lnTo>
                    <a:lnTo>
                      <a:pt x="1539" y="3752"/>
                    </a:lnTo>
                    <a:lnTo>
                      <a:pt x="1448" y="3731"/>
                    </a:lnTo>
                    <a:lnTo>
                      <a:pt x="1358" y="3705"/>
                    </a:lnTo>
                    <a:lnTo>
                      <a:pt x="1272" y="3676"/>
                    </a:lnTo>
                    <a:lnTo>
                      <a:pt x="1186" y="3643"/>
                    </a:lnTo>
                    <a:lnTo>
                      <a:pt x="1103" y="3605"/>
                    </a:lnTo>
                    <a:lnTo>
                      <a:pt x="1022" y="3564"/>
                    </a:lnTo>
                    <a:lnTo>
                      <a:pt x="944" y="3518"/>
                    </a:lnTo>
                    <a:lnTo>
                      <a:pt x="868" y="3470"/>
                    </a:lnTo>
                    <a:lnTo>
                      <a:pt x="794" y="3417"/>
                    </a:lnTo>
                    <a:lnTo>
                      <a:pt x="724" y="3362"/>
                    </a:lnTo>
                    <a:lnTo>
                      <a:pt x="656" y="3302"/>
                    </a:lnTo>
                    <a:lnTo>
                      <a:pt x="590" y="3241"/>
                    </a:lnTo>
                    <a:lnTo>
                      <a:pt x="528" y="3176"/>
                    </a:lnTo>
                    <a:lnTo>
                      <a:pt x="469" y="3108"/>
                    </a:lnTo>
                    <a:lnTo>
                      <a:pt x="414" y="3037"/>
                    </a:lnTo>
                    <a:lnTo>
                      <a:pt x="362" y="2963"/>
                    </a:lnTo>
                    <a:lnTo>
                      <a:pt x="312" y="2888"/>
                    </a:lnTo>
                    <a:lnTo>
                      <a:pt x="268" y="2809"/>
                    </a:lnTo>
                    <a:lnTo>
                      <a:pt x="226" y="2728"/>
                    </a:lnTo>
                    <a:lnTo>
                      <a:pt x="189" y="2645"/>
                    </a:lnTo>
                    <a:lnTo>
                      <a:pt x="154" y="2559"/>
                    </a:lnTo>
                    <a:lnTo>
                      <a:pt x="125" y="2473"/>
                    </a:lnTo>
                    <a:lnTo>
                      <a:pt x="100" y="2383"/>
                    </a:lnTo>
                    <a:lnTo>
                      <a:pt x="79" y="2293"/>
                    </a:lnTo>
                    <a:lnTo>
                      <a:pt x="63" y="2201"/>
                    </a:lnTo>
                    <a:lnTo>
                      <a:pt x="51" y="2107"/>
                    </a:lnTo>
                    <a:lnTo>
                      <a:pt x="43" y="2012"/>
                    </a:lnTo>
                    <a:lnTo>
                      <a:pt x="41" y="1916"/>
                    </a:lnTo>
                    <a:lnTo>
                      <a:pt x="43" y="1818"/>
                    </a:lnTo>
                    <a:lnTo>
                      <a:pt x="51" y="1723"/>
                    </a:lnTo>
                    <a:lnTo>
                      <a:pt x="63" y="1629"/>
                    </a:lnTo>
                    <a:lnTo>
                      <a:pt x="79" y="1538"/>
                    </a:lnTo>
                    <a:lnTo>
                      <a:pt x="100" y="1447"/>
                    </a:lnTo>
                    <a:lnTo>
                      <a:pt x="125" y="1358"/>
                    </a:lnTo>
                    <a:lnTo>
                      <a:pt x="154" y="1271"/>
                    </a:lnTo>
                    <a:lnTo>
                      <a:pt x="189" y="1186"/>
                    </a:lnTo>
                    <a:lnTo>
                      <a:pt x="226" y="1102"/>
                    </a:lnTo>
                    <a:lnTo>
                      <a:pt x="268" y="1023"/>
                    </a:lnTo>
                    <a:lnTo>
                      <a:pt x="312" y="944"/>
                    </a:lnTo>
                    <a:lnTo>
                      <a:pt x="362" y="868"/>
                    </a:lnTo>
                    <a:lnTo>
                      <a:pt x="414" y="794"/>
                    </a:lnTo>
                    <a:lnTo>
                      <a:pt x="469" y="723"/>
                    </a:lnTo>
                    <a:lnTo>
                      <a:pt x="528" y="655"/>
                    </a:lnTo>
                    <a:lnTo>
                      <a:pt x="590" y="591"/>
                    </a:lnTo>
                    <a:lnTo>
                      <a:pt x="656" y="528"/>
                    </a:lnTo>
                    <a:lnTo>
                      <a:pt x="724" y="470"/>
                    </a:lnTo>
                    <a:lnTo>
                      <a:pt x="794" y="413"/>
                    </a:lnTo>
                    <a:lnTo>
                      <a:pt x="868" y="362"/>
                    </a:lnTo>
                    <a:lnTo>
                      <a:pt x="944" y="313"/>
                    </a:lnTo>
                    <a:lnTo>
                      <a:pt x="1022" y="268"/>
                    </a:lnTo>
                    <a:lnTo>
                      <a:pt x="1103" y="227"/>
                    </a:lnTo>
                    <a:lnTo>
                      <a:pt x="1186" y="189"/>
                    </a:lnTo>
                    <a:lnTo>
                      <a:pt x="1272" y="155"/>
                    </a:lnTo>
                    <a:lnTo>
                      <a:pt x="1358" y="125"/>
                    </a:lnTo>
                    <a:lnTo>
                      <a:pt x="1448" y="100"/>
                    </a:lnTo>
                    <a:lnTo>
                      <a:pt x="1539" y="80"/>
                    </a:lnTo>
                    <a:lnTo>
                      <a:pt x="1630" y="62"/>
                    </a:lnTo>
                    <a:lnTo>
                      <a:pt x="1724" y="51"/>
                    </a:lnTo>
                    <a:lnTo>
                      <a:pt x="1819" y="44"/>
                    </a:lnTo>
                    <a:lnTo>
                      <a:pt x="1916" y="41"/>
                    </a:lnTo>
                    <a:lnTo>
                      <a:pt x="2013" y="44"/>
                    </a:lnTo>
                    <a:lnTo>
                      <a:pt x="2108" y="51"/>
                    </a:lnTo>
                    <a:lnTo>
                      <a:pt x="2202" y="62"/>
                    </a:lnTo>
                    <a:lnTo>
                      <a:pt x="2294" y="80"/>
                    </a:lnTo>
                    <a:lnTo>
                      <a:pt x="2385" y="100"/>
                    </a:lnTo>
                    <a:lnTo>
                      <a:pt x="2473" y="125"/>
                    </a:lnTo>
                    <a:lnTo>
                      <a:pt x="2561" y="155"/>
                    </a:lnTo>
                    <a:lnTo>
                      <a:pt x="2646" y="189"/>
                    </a:lnTo>
                    <a:lnTo>
                      <a:pt x="2729" y="227"/>
                    </a:lnTo>
                    <a:lnTo>
                      <a:pt x="2810" y="268"/>
                    </a:lnTo>
                    <a:lnTo>
                      <a:pt x="2888" y="313"/>
                    </a:lnTo>
                    <a:lnTo>
                      <a:pt x="2965" y="362"/>
                    </a:lnTo>
                    <a:lnTo>
                      <a:pt x="3038" y="413"/>
                    </a:lnTo>
                    <a:lnTo>
                      <a:pt x="3109" y="470"/>
                    </a:lnTo>
                    <a:lnTo>
                      <a:pt x="3177" y="528"/>
                    </a:lnTo>
                    <a:lnTo>
                      <a:pt x="3243" y="591"/>
                    </a:lnTo>
                    <a:lnTo>
                      <a:pt x="3304" y="655"/>
                    </a:lnTo>
                    <a:lnTo>
                      <a:pt x="3364" y="723"/>
                    </a:lnTo>
                    <a:lnTo>
                      <a:pt x="3419" y="794"/>
                    </a:lnTo>
                    <a:lnTo>
                      <a:pt x="3471" y="868"/>
                    </a:lnTo>
                    <a:lnTo>
                      <a:pt x="3520" y="944"/>
                    </a:lnTo>
                    <a:lnTo>
                      <a:pt x="3565" y="1023"/>
                    </a:lnTo>
                    <a:lnTo>
                      <a:pt x="3607" y="1102"/>
                    </a:lnTo>
                    <a:lnTo>
                      <a:pt x="3643" y="1186"/>
                    </a:lnTo>
                    <a:lnTo>
                      <a:pt x="3677" y="1271"/>
                    </a:lnTo>
                    <a:lnTo>
                      <a:pt x="3707" y="1358"/>
                    </a:lnTo>
                    <a:lnTo>
                      <a:pt x="3732" y="1447"/>
                    </a:lnTo>
                    <a:lnTo>
                      <a:pt x="3754" y="1538"/>
                    </a:lnTo>
                    <a:lnTo>
                      <a:pt x="3770" y="1629"/>
                    </a:lnTo>
                    <a:lnTo>
                      <a:pt x="3782" y="1723"/>
                    </a:lnTo>
                    <a:lnTo>
                      <a:pt x="3789" y="1818"/>
                    </a:lnTo>
                    <a:lnTo>
                      <a:pt x="3791" y="1916"/>
                    </a:lnTo>
                    <a:lnTo>
                      <a:pt x="3790" y="1978"/>
                    </a:lnTo>
                    <a:lnTo>
                      <a:pt x="3787" y="2041"/>
                    </a:lnTo>
                    <a:lnTo>
                      <a:pt x="3782" y="2103"/>
                    </a:lnTo>
                    <a:lnTo>
                      <a:pt x="3775" y="2164"/>
                    </a:lnTo>
                    <a:lnTo>
                      <a:pt x="3766" y="2225"/>
                    </a:lnTo>
                    <a:lnTo>
                      <a:pt x="3755" y="2285"/>
                    </a:lnTo>
                    <a:lnTo>
                      <a:pt x="3742" y="2344"/>
                    </a:lnTo>
                    <a:lnTo>
                      <a:pt x="3727" y="2403"/>
                    </a:lnTo>
                    <a:lnTo>
                      <a:pt x="3768" y="2414"/>
                    </a:lnTo>
                    <a:lnTo>
                      <a:pt x="3783" y="2353"/>
                    </a:lnTo>
                    <a:lnTo>
                      <a:pt x="3796" y="2293"/>
                    </a:lnTo>
                    <a:lnTo>
                      <a:pt x="3807" y="2231"/>
                    </a:lnTo>
                    <a:lnTo>
                      <a:pt x="3816" y="2169"/>
                    </a:lnTo>
                    <a:lnTo>
                      <a:pt x="3824" y="2107"/>
                    </a:lnTo>
                    <a:lnTo>
                      <a:pt x="3828" y="2043"/>
                    </a:lnTo>
                    <a:lnTo>
                      <a:pt x="3831" y="1979"/>
                    </a:lnTo>
                    <a:lnTo>
                      <a:pt x="3833" y="191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821040" y="2244600"/>
                <a:ext cx="1505160" cy="1505160"/>
              </a:xfrm>
              <a:custGeom>
                <a:avLst/>
                <a:gdLst/>
                <a:ahLst/>
                <a:rect l="l" t="t" r="r" b="b"/>
                <a:pathLst>
                  <a:path w="3792" h="3790">
                    <a:moveTo>
                      <a:pt x="3792" y="1896"/>
                    </a:moveTo>
                    <a:lnTo>
                      <a:pt x="3790" y="1797"/>
                    </a:lnTo>
                    <a:lnTo>
                      <a:pt x="3782" y="1701"/>
                    </a:lnTo>
                    <a:lnTo>
                      <a:pt x="3770" y="1607"/>
                    </a:lnTo>
                    <a:lnTo>
                      <a:pt x="3753" y="1513"/>
                    </a:lnTo>
                    <a:lnTo>
                      <a:pt x="3733" y="1422"/>
                    </a:lnTo>
                    <a:lnTo>
                      <a:pt x="3707" y="1332"/>
                    </a:lnTo>
                    <a:lnTo>
                      <a:pt x="3677" y="1243"/>
                    </a:lnTo>
                    <a:lnTo>
                      <a:pt x="3643" y="1158"/>
                    </a:lnTo>
                    <a:lnTo>
                      <a:pt x="3605" y="1074"/>
                    </a:lnTo>
                    <a:lnTo>
                      <a:pt x="3563" y="992"/>
                    </a:lnTo>
                    <a:lnTo>
                      <a:pt x="3518" y="913"/>
                    </a:lnTo>
                    <a:lnTo>
                      <a:pt x="3468" y="836"/>
                    </a:lnTo>
                    <a:lnTo>
                      <a:pt x="3415" y="762"/>
                    </a:lnTo>
                    <a:lnTo>
                      <a:pt x="3359" y="690"/>
                    </a:lnTo>
                    <a:lnTo>
                      <a:pt x="3299" y="621"/>
                    </a:lnTo>
                    <a:lnTo>
                      <a:pt x="3237" y="555"/>
                    </a:lnTo>
                    <a:lnTo>
                      <a:pt x="3171" y="493"/>
                    </a:lnTo>
                    <a:lnTo>
                      <a:pt x="3103" y="433"/>
                    </a:lnTo>
                    <a:lnTo>
                      <a:pt x="3030" y="377"/>
                    </a:lnTo>
                    <a:lnTo>
                      <a:pt x="2956" y="324"/>
                    </a:lnTo>
                    <a:lnTo>
                      <a:pt x="2879" y="275"/>
                    </a:lnTo>
                    <a:lnTo>
                      <a:pt x="2800" y="229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8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6" y="0"/>
                    </a:lnTo>
                    <a:lnTo>
                      <a:pt x="1798" y="2"/>
                    </a:lnTo>
                    <a:lnTo>
                      <a:pt x="1702" y="10"/>
                    </a:lnTo>
                    <a:lnTo>
                      <a:pt x="1607" y="22"/>
                    </a:lnTo>
                    <a:lnTo>
                      <a:pt x="1514" y="39"/>
                    </a:lnTo>
                    <a:lnTo>
                      <a:pt x="1422" y="60"/>
                    </a:lnTo>
                    <a:lnTo>
                      <a:pt x="1333" y="86"/>
                    </a:lnTo>
                    <a:lnTo>
                      <a:pt x="1244" y="116"/>
                    </a:lnTo>
                    <a:lnTo>
                      <a:pt x="1159" y="149"/>
                    </a:lnTo>
                    <a:lnTo>
                      <a:pt x="1074" y="187"/>
                    </a:lnTo>
                    <a:lnTo>
                      <a:pt x="992" y="229"/>
                    </a:lnTo>
                    <a:lnTo>
                      <a:pt x="913" y="275"/>
                    </a:lnTo>
                    <a:lnTo>
                      <a:pt x="836" y="324"/>
                    </a:lnTo>
                    <a:lnTo>
                      <a:pt x="762" y="377"/>
                    </a:lnTo>
                    <a:lnTo>
                      <a:pt x="690" y="433"/>
                    </a:lnTo>
                    <a:lnTo>
                      <a:pt x="622" y="493"/>
                    </a:lnTo>
                    <a:lnTo>
                      <a:pt x="556" y="555"/>
                    </a:lnTo>
                    <a:lnTo>
                      <a:pt x="493" y="621"/>
                    </a:lnTo>
                    <a:lnTo>
                      <a:pt x="434" y="690"/>
                    </a:lnTo>
                    <a:lnTo>
                      <a:pt x="376" y="762"/>
                    </a:lnTo>
                    <a:lnTo>
                      <a:pt x="325" y="836"/>
                    </a:lnTo>
                    <a:lnTo>
                      <a:pt x="275" y="913"/>
                    </a:lnTo>
                    <a:lnTo>
                      <a:pt x="229" y="992"/>
                    </a:lnTo>
                    <a:lnTo>
                      <a:pt x="187" y="1074"/>
                    </a:lnTo>
                    <a:lnTo>
                      <a:pt x="149" y="1158"/>
                    </a:lnTo>
                    <a:lnTo>
                      <a:pt x="115" y="1243"/>
                    </a:lnTo>
                    <a:lnTo>
                      <a:pt x="86" y="1332"/>
                    </a:lnTo>
                    <a:lnTo>
                      <a:pt x="60" y="1422"/>
                    </a:lnTo>
                    <a:lnTo>
                      <a:pt x="39" y="1513"/>
                    </a:lnTo>
                    <a:lnTo>
                      <a:pt x="22" y="1607"/>
                    </a:lnTo>
                    <a:lnTo>
                      <a:pt x="10" y="1701"/>
                    </a:lnTo>
                    <a:lnTo>
                      <a:pt x="3" y="1797"/>
                    </a:lnTo>
                    <a:lnTo>
                      <a:pt x="0" y="1896"/>
                    </a:lnTo>
                    <a:lnTo>
                      <a:pt x="3" y="1993"/>
                    </a:lnTo>
                    <a:lnTo>
                      <a:pt x="10" y="2089"/>
                    </a:lnTo>
                    <a:lnTo>
                      <a:pt x="22" y="2184"/>
                    </a:lnTo>
                    <a:lnTo>
                      <a:pt x="39" y="2277"/>
                    </a:lnTo>
                    <a:lnTo>
                      <a:pt x="60" y="2369"/>
                    </a:lnTo>
                    <a:lnTo>
                      <a:pt x="86" y="2459"/>
                    </a:lnTo>
                    <a:lnTo>
                      <a:pt x="115" y="2547"/>
                    </a:lnTo>
                    <a:lnTo>
                      <a:pt x="149" y="2633"/>
                    </a:lnTo>
                    <a:lnTo>
                      <a:pt x="187" y="2716"/>
                    </a:lnTo>
                    <a:lnTo>
                      <a:pt x="229" y="2799"/>
                    </a:lnTo>
                    <a:lnTo>
                      <a:pt x="275" y="2878"/>
                    </a:lnTo>
                    <a:lnTo>
                      <a:pt x="325" y="2955"/>
                    </a:lnTo>
                    <a:lnTo>
                      <a:pt x="376" y="3030"/>
                    </a:lnTo>
                    <a:lnTo>
                      <a:pt x="434" y="3101"/>
                    </a:lnTo>
                    <a:lnTo>
                      <a:pt x="493" y="3170"/>
                    </a:lnTo>
                    <a:lnTo>
                      <a:pt x="556" y="3235"/>
                    </a:lnTo>
                    <a:lnTo>
                      <a:pt x="622" y="3299"/>
                    </a:lnTo>
                    <a:lnTo>
                      <a:pt x="690" y="3358"/>
                    </a:lnTo>
                    <a:lnTo>
                      <a:pt x="762" y="3414"/>
                    </a:lnTo>
                    <a:lnTo>
                      <a:pt x="836" y="3467"/>
                    </a:lnTo>
                    <a:lnTo>
                      <a:pt x="913" y="3516"/>
                    </a:lnTo>
                    <a:lnTo>
                      <a:pt x="992" y="3562"/>
                    </a:lnTo>
                    <a:lnTo>
                      <a:pt x="1074" y="3603"/>
                    </a:lnTo>
                    <a:lnTo>
                      <a:pt x="1159" y="3642"/>
                    </a:lnTo>
                    <a:lnTo>
                      <a:pt x="1244" y="3676"/>
                    </a:lnTo>
                    <a:lnTo>
                      <a:pt x="1333" y="3706"/>
                    </a:lnTo>
                    <a:lnTo>
                      <a:pt x="1422" y="3731"/>
                    </a:lnTo>
                    <a:lnTo>
                      <a:pt x="1514" y="3752"/>
                    </a:lnTo>
                    <a:lnTo>
                      <a:pt x="1607" y="3768"/>
                    </a:lnTo>
                    <a:lnTo>
                      <a:pt x="1702" y="3780"/>
                    </a:lnTo>
                    <a:lnTo>
                      <a:pt x="1798" y="3788"/>
                    </a:lnTo>
                    <a:lnTo>
                      <a:pt x="1896" y="3790"/>
                    </a:lnTo>
                    <a:lnTo>
                      <a:pt x="1952" y="3790"/>
                    </a:lnTo>
                    <a:lnTo>
                      <a:pt x="2007" y="3787"/>
                    </a:lnTo>
                    <a:lnTo>
                      <a:pt x="2062" y="3784"/>
                    </a:lnTo>
                    <a:lnTo>
                      <a:pt x="2116" y="3778"/>
                    </a:lnTo>
                    <a:lnTo>
                      <a:pt x="2170" y="3771"/>
                    </a:lnTo>
                    <a:lnTo>
                      <a:pt x="2224" y="3762"/>
                    </a:lnTo>
                    <a:lnTo>
                      <a:pt x="2277" y="3752"/>
                    </a:lnTo>
                    <a:lnTo>
                      <a:pt x="2329" y="3740"/>
                    </a:lnTo>
                    <a:lnTo>
                      <a:pt x="2382" y="3727"/>
                    </a:lnTo>
                    <a:lnTo>
                      <a:pt x="2433" y="3713"/>
                    </a:lnTo>
                    <a:lnTo>
                      <a:pt x="2483" y="3698"/>
                    </a:lnTo>
                    <a:lnTo>
                      <a:pt x="2533" y="3681"/>
                    </a:lnTo>
                    <a:lnTo>
                      <a:pt x="2583" y="3663"/>
                    </a:lnTo>
                    <a:lnTo>
                      <a:pt x="2631" y="3642"/>
                    </a:lnTo>
                    <a:lnTo>
                      <a:pt x="2680" y="3622"/>
                    </a:lnTo>
                    <a:lnTo>
                      <a:pt x="2728" y="3599"/>
                    </a:lnTo>
                    <a:lnTo>
                      <a:pt x="2709" y="3561"/>
                    </a:lnTo>
                    <a:lnTo>
                      <a:pt x="2663" y="3584"/>
                    </a:lnTo>
                    <a:lnTo>
                      <a:pt x="2615" y="3604"/>
                    </a:lnTo>
                    <a:lnTo>
                      <a:pt x="2568" y="3624"/>
                    </a:lnTo>
                    <a:lnTo>
                      <a:pt x="2519" y="3641"/>
                    </a:lnTo>
                    <a:lnTo>
                      <a:pt x="2470" y="3658"/>
                    </a:lnTo>
                    <a:lnTo>
                      <a:pt x="2421" y="3673"/>
                    </a:lnTo>
                    <a:lnTo>
                      <a:pt x="2371" y="3687"/>
                    </a:lnTo>
                    <a:lnTo>
                      <a:pt x="2320" y="3700"/>
                    </a:lnTo>
                    <a:lnTo>
                      <a:pt x="2268" y="3711"/>
                    </a:lnTo>
                    <a:lnTo>
                      <a:pt x="2217" y="3721"/>
                    </a:lnTo>
                    <a:lnTo>
                      <a:pt x="2165" y="3730"/>
                    </a:lnTo>
                    <a:lnTo>
                      <a:pt x="2112" y="3736"/>
                    </a:lnTo>
                    <a:lnTo>
                      <a:pt x="2059" y="3741"/>
                    </a:lnTo>
                    <a:lnTo>
                      <a:pt x="2005" y="3746"/>
                    </a:lnTo>
                    <a:lnTo>
                      <a:pt x="1951" y="3748"/>
                    </a:lnTo>
                    <a:lnTo>
                      <a:pt x="1896" y="3749"/>
                    </a:lnTo>
                    <a:lnTo>
                      <a:pt x="1801" y="3747"/>
                    </a:lnTo>
                    <a:lnTo>
                      <a:pt x="1707" y="3739"/>
                    </a:lnTo>
                    <a:lnTo>
                      <a:pt x="1614" y="3727"/>
                    </a:lnTo>
                    <a:lnTo>
                      <a:pt x="1523" y="3711"/>
                    </a:lnTo>
                    <a:lnTo>
                      <a:pt x="1433" y="3691"/>
                    </a:lnTo>
                    <a:lnTo>
                      <a:pt x="1345" y="3666"/>
                    </a:lnTo>
                    <a:lnTo>
                      <a:pt x="1258" y="3637"/>
                    </a:lnTo>
                    <a:lnTo>
                      <a:pt x="1175" y="3603"/>
                    </a:lnTo>
                    <a:lnTo>
                      <a:pt x="1093" y="3566"/>
                    </a:lnTo>
                    <a:lnTo>
                      <a:pt x="1013" y="3525"/>
                    </a:lnTo>
                    <a:lnTo>
                      <a:pt x="935" y="3480"/>
                    </a:lnTo>
                    <a:lnTo>
                      <a:pt x="859" y="3433"/>
                    </a:lnTo>
                    <a:lnTo>
                      <a:pt x="787" y="3381"/>
                    </a:lnTo>
                    <a:lnTo>
                      <a:pt x="717" y="3326"/>
                    </a:lnTo>
                    <a:lnTo>
                      <a:pt x="650" y="3267"/>
                    </a:lnTo>
                    <a:lnTo>
                      <a:pt x="585" y="3206"/>
                    </a:lnTo>
                    <a:lnTo>
                      <a:pt x="523" y="3142"/>
                    </a:lnTo>
                    <a:lnTo>
                      <a:pt x="465" y="3074"/>
                    </a:lnTo>
                    <a:lnTo>
                      <a:pt x="410" y="3004"/>
                    </a:lnTo>
                    <a:lnTo>
                      <a:pt x="359" y="2931"/>
                    </a:lnTo>
                    <a:lnTo>
                      <a:pt x="310" y="2857"/>
                    </a:lnTo>
                    <a:lnTo>
                      <a:pt x="266" y="2779"/>
                    </a:lnTo>
                    <a:lnTo>
                      <a:pt x="225" y="2699"/>
                    </a:lnTo>
                    <a:lnTo>
                      <a:pt x="187" y="2617"/>
                    </a:lnTo>
                    <a:lnTo>
                      <a:pt x="155" y="2533"/>
                    </a:lnTo>
                    <a:lnTo>
                      <a:pt x="126" y="2446"/>
                    </a:lnTo>
                    <a:lnTo>
                      <a:pt x="100" y="2359"/>
                    </a:lnTo>
                    <a:lnTo>
                      <a:pt x="79" y="2269"/>
                    </a:lnTo>
                    <a:lnTo>
                      <a:pt x="63" y="2178"/>
                    </a:lnTo>
                    <a:lnTo>
                      <a:pt x="51" y="2085"/>
                    </a:lnTo>
                    <a:lnTo>
                      <a:pt x="45" y="1991"/>
                    </a:lnTo>
                    <a:lnTo>
                      <a:pt x="41" y="1896"/>
                    </a:lnTo>
                    <a:lnTo>
                      <a:pt x="45" y="1800"/>
                    </a:lnTo>
                    <a:lnTo>
                      <a:pt x="51" y="1706"/>
                    </a:lnTo>
                    <a:lnTo>
                      <a:pt x="63" y="1613"/>
                    </a:lnTo>
                    <a:lnTo>
                      <a:pt x="79" y="1522"/>
                    </a:lnTo>
                    <a:lnTo>
                      <a:pt x="100" y="1432"/>
                    </a:lnTo>
                    <a:lnTo>
                      <a:pt x="126" y="1344"/>
                    </a:lnTo>
                    <a:lnTo>
                      <a:pt x="155" y="1258"/>
                    </a:lnTo>
                    <a:lnTo>
                      <a:pt x="187" y="1174"/>
                    </a:lnTo>
                    <a:lnTo>
                      <a:pt x="225" y="1092"/>
                    </a:lnTo>
                    <a:lnTo>
                      <a:pt x="266" y="1012"/>
                    </a:lnTo>
                    <a:lnTo>
                      <a:pt x="310" y="934"/>
                    </a:lnTo>
                    <a:lnTo>
                      <a:pt x="359" y="859"/>
                    </a:lnTo>
                    <a:lnTo>
                      <a:pt x="410" y="787"/>
                    </a:lnTo>
                    <a:lnTo>
                      <a:pt x="465" y="716"/>
                    </a:lnTo>
                    <a:lnTo>
                      <a:pt x="523" y="649"/>
                    </a:lnTo>
                    <a:lnTo>
                      <a:pt x="585" y="585"/>
                    </a:lnTo>
                    <a:lnTo>
                      <a:pt x="650" y="524"/>
                    </a:lnTo>
                    <a:lnTo>
                      <a:pt x="717" y="466"/>
                    </a:lnTo>
                    <a:lnTo>
                      <a:pt x="787" y="411"/>
                    </a:lnTo>
                    <a:lnTo>
                      <a:pt x="859" y="359"/>
                    </a:lnTo>
                    <a:lnTo>
                      <a:pt x="935" y="310"/>
                    </a:lnTo>
                    <a:lnTo>
                      <a:pt x="1013" y="266"/>
                    </a:lnTo>
                    <a:lnTo>
                      <a:pt x="1093" y="225"/>
                    </a:lnTo>
                    <a:lnTo>
                      <a:pt x="1175" y="188"/>
                    </a:lnTo>
                    <a:lnTo>
                      <a:pt x="1258" y="155"/>
                    </a:lnTo>
                    <a:lnTo>
                      <a:pt x="1345" y="126"/>
                    </a:lnTo>
                    <a:lnTo>
                      <a:pt x="1433" y="101"/>
                    </a:lnTo>
                    <a:lnTo>
                      <a:pt x="1523" y="80"/>
                    </a:lnTo>
                    <a:lnTo>
                      <a:pt x="1614" y="63"/>
                    </a:lnTo>
                    <a:lnTo>
                      <a:pt x="1707" y="52"/>
                    </a:lnTo>
                    <a:lnTo>
                      <a:pt x="1801" y="45"/>
                    </a:lnTo>
                    <a:lnTo>
                      <a:pt x="1896" y="42"/>
                    </a:lnTo>
                    <a:lnTo>
                      <a:pt x="1992" y="45"/>
                    </a:lnTo>
                    <a:lnTo>
                      <a:pt x="2086" y="52"/>
                    </a:lnTo>
                    <a:lnTo>
                      <a:pt x="2179" y="63"/>
                    </a:lnTo>
                    <a:lnTo>
                      <a:pt x="2270" y="80"/>
                    </a:lnTo>
                    <a:lnTo>
                      <a:pt x="2359" y="101"/>
                    </a:lnTo>
                    <a:lnTo>
                      <a:pt x="2448" y="126"/>
                    </a:lnTo>
                    <a:lnTo>
                      <a:pt x="2533" y="155"/>
                    </a:lnTo>
                    <a:lnTo>
                      <a:pt x="2617" y="188"/>
                    </a:lnTo>
                    <a:lnTo>
                      <a:pt x="2700" y="225"/>
                    </a:lnTo>
                    <a:lnTo>
                      <a:pt x="2780" y="266"/>
                    </a:lnTo>
                    <a:lnTo>
                      <a:pt x="2857" y="310"/>
                    </a:lnTo>
                    <a:lnTo>
                      <a:pt x="2933" y="359"/>
                    </a:lnTo>
                    <a:lnTo>
                      <a:pt x="3005" y="411"/>
                    </a:lnTo>
                    <a:lnTo>
                      <a:pt x="3076" y="466"/>
                    </a:lnTo>
                    <a:lnTo>
                      <a:pt x="3143" y="524"/>
                    </a:lnTo>
                    <a:lnTo>
                      <a:pt x="3207" y="585"/>
                    </a:lnTo>
                    <a:lnTo>
                      <a:pt x="3269" y="649"/>
                    </a:lnTo>
                    <a:lnTo>
                      <a:pt x="3327" y="716"/>
                    </a:lnTo>
                    <a:lnTo>
                      <a:pt x="3382" y="787"/>
                    </a:lnTo>
                    <a:lnTo>
                      <a:pt x="3433" y="859"/>
                    </a:lnTo>
                    <a:lnTo>
                      <a:pt x="3482" y="934"/>
                    </a:lnTo>
                    <a:lnTo>
                      <a:pt x="3526" y="1012"/>
                    </a:lnTo>
                    <a:lnTo>
                      <a:pt x="3567" y="1092"/>
                    </a:lnTo>
                    <a:lnTo>
                      <a:pt x="3605" y="1174"/>
                    </a:lnTo>
                    <a:lnTo>
                      <a:pt x="3637" y="1258"/>
                    </a:lnTo>
                    <a:lnTo>
                      <a:pt x="3667" y="1344"/>
                    </a:lnTo>
                    <a:lnTo>
                      <a:pt x="3691" y="1432"/>
                    </a:lnTo>
                    <a:lnTo>
                      <a:pt x="3713" y="1522"/>
                    </a:lnTo>
                    <a:lnTo>
                      <a:pt x="3729" y="1613"/>
                    </a:lnTo>
                    <a:lnTo>
                      <a:pt x="3741" y="1706"/>
                    </a:lnTo>
                    <a:lnTo>
                      <a:pt x="3748" y="1800"/>
                    </a:lnTo>
                    <a:lnTo>
                      <a:pt x="3751" y="1896"/>
                    </a:lnTo>
                    <a:lnTo>
                      <a:pt x="3750" y="1957"/>
                    </a:lnTo>
                    <a:lnTo>
                      <a:pt x="3747" y="2020"/>
                    </a:lnTo>
                    <a:lnTo>
                      <a:pt x="3741" y="2080"/>
                    </a:lnTo>
                    <a:lnTo>
                      <a:pt x="3734" y="2141"/>
                    </a:lnTo>
                    <a:lnTo>
                      <a:pt x="3725" y="2201"/>
                    </a:lnTo>
                    <a:lnTo>
                      <a:pt x="3714" y="2261"/>
                    </a:lnTo>
                    <a:lnTo>
                      <a:pt x="3701" y="2319"/>
                    </a:lnTo>
                    <a:lnTo>
                      <a:pt x="3687" y="2377"/>
                    </a:lnTo>
                    <a:lnTo>
                      <a:pt x="3727" y="2388"/>
                    </a:lnTo>
                    <a:lnTo>
                      <a:pt x="3742" y="2329"/>
                    </a:lnTo>
                    <a:lnTo>
                      <a:pt x="3755" y="2268"/>
                    </a:lnTo>
                    <a:lnTo>
                      <a:pt x="3766" y="2208"/>
                    </a:lnTo>
                    <a:lnTo>
                      <a:pt x="3776" y="2146"/>
                    </a:lnTo>
                    <a:lnTo>
                      <a:pt x="3782" y="2085"/>
                    </a:lnTo>
                    <a:lnTo>
                      <a:pt x="3788" y="2022"/>
                    </a:lnTo>
                    <a:lnTo>
                      <a:pt x="3791" y="1959"/>
                    </a:lnTo>
                    <a:lnTo>
                      <a:pt x="3792" y="1896"/>
                    </a:lnTo>
                    <a:close/>
                  </a:path>
                </a:pathLst>
              </a:custGeom>
              <a:solidFill>
                <a:srgbClr val="e4d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828960" y="2252520"/>
                <a:ext cx="1489320" cy="1489320"/>
              </a:xfrm>
              <a:custGeom>
                <a:avLst/>
                <a:gdLst/>
                <a:ahLst/>
                <a:rect l="l" t="t" r="r" b="b"/>
                <a:pathLst>
                  <a:path w="3750" h="3748">
                    <a:moveTo>
                      <a:pt x="3750" y="1875"/>
                    </a:moveTo>
                    <a:lnTo>
                      <a:pt x="3748" y="1777"/>
                    </a:lnTo>
                    <a:lnTo>
                      <a:pt x="3741" y="1682"/>
                    </a:lnTo>
                    <a:lnTo>
                      <a:pt x="3729" y="1588"/>
                    </a:lnTo>
                    <a:lnTo>
                      <a:pt x="3713" y="1497"/>
                    </a:lnTo>
                    <a:lnTo>
                      <a:pt x="3691" y="1406"/>
                    </a:lnTo>
                    <a:lnTo>
                      <a:pt x="3666" y="1317"/>
                    </a:lnTo>
                    <a:lnTo>
                      <a:pt x="3636" y="1230"/>
                    </a:lnTo>
                    <a:lnTo>
                      <a:pt x="3602" y="1145"/>
                    </a:lnTo>
                    <a:lnTo>
                      <a:pt x="3566" y="1061"/>
                    </a:lnTo>
                    <a:lnTo>
                      <a:pt x="3524" y="982"/>
                    </a:lnTo>
                    <a:lnTo>
                      <a:pt x="3479" y="903"/>
                    </a:lnTo>
                    <a:lnTo>
                      <a:pt x="3430" y="827"/>
                    </a:lnTo>
                    <a:lnTo>
                      <a:pt x="3378" y="753"/>
                    </a:lnTo>
                    <a:lnTo>
                      <a:pt x="3323" y="682"/>
                    </a:lnTo>
                    <a:lnTo>
                      <a:pt x="3263" y="614"/>
                    </a:lnTo>
                    <a:lnTo>
                      <a:pt x="3202" y="550"/>
                    </a:lnTo>
                    <a:lnTo>
                      <a:pt x="3136" y="487"/>
                    </a:lnTo>
                    <a:lnTo>
                      <a:pt x="3068" y="429"/>
                    </a:lnTo>
                    <a:lnTo>
                      <a:pt x="2997" y="372"/>
                    </a:lnTo>
                    <a:lnTo>
                      <a:pt x="2924" y="321"/>
                    </a:lnTo>
                    <a:lnTo>
                      <a:pt x="2847" y="272"/>
                    </a:lnTo>
                    <a:lnTo>
                      <a:pt x="2769" y="227"/>
                    </a:lnTo>
                    <a:lnTo>
                      <a:pt x="2688" y="186"/>
                    </a:lnTo>
                    <a:lnTo>
                      <a:pt x="2605" y="148"/>
                    </a:lnTo>
                    <a:lnTo>
                      <a:pt x="2520" y="114"/>
                    </a:lnTo>
                    <a:lnTo>
                      <a:pt x="2432" y="84"/>
                    </a:lnTo>
                    <a:lnTo>
                      <a:pt x="2344" y="59"/>
                    </a:lnTo>
                    <a:lnTo>
                      <a:pt x="2253" y="39"/>
                    </a:lnTo>
                    <a:lnTo>
                      <a:pt x="2161" y="21"/>
                    </a:lnTo>
                    <a:lnTo>
                      <a:pt x="2067" y="10"/>
                    </a:lnTo>
                    <a:lnTo>
                      <a:pt x="1972" y="3"/>
                    </a:lnTo>
                    <a:lnTo>
                      <a:pt x="1875" y="0"/>
                    </a:lnTo>
                    <a:lnTo>
                      <a:pt x="1778" y="3"/>
                    </a:lnTo>
                    <a:lnTo>
                      <a:pt x="1683" y="10"/>
                    </a:lnTo>
                    <a:lnTo>
                      <a:pt x="1589" y="21"/>
                    </a:lnTo>
                    <a:lnTo>
                      <a:pt x="1498" y="39"/>
                    </a:lnTo>
                    <a:lnTo>
                      <a:pt x="1407" y="59"/>
                    </a:lnTo>
                    <a:lnTo>
                      <a:pt x="1317" y="84"/>
                    </a:lnTo>
                    <a:lnTo>
                      <a:pt x="1231" y="114"/>
                    </a:lnTo>
                    <a:lnTo>
                      <a:pt x="1145" y="148"/>
                    </a:lnTo>
                    <a:lnTo>
                      <a:pt x="1062" y="186"/>
                    </a:lnTo>
                    <a:lnTo>
                      <a:pt x="981" y="227"/>
                    </a:lnTo>
                    <a:lnTo>
                      <a:pt x="903" y="272"/>
                    </a:lnTo>
                    <a:lnTo>
                      <a:pt x="827" y="321"/>
                    </a:lnTo>
                    <a:lnTo>
                      <a:pt x="753" y="372"/>
                    </a:lnTo>
                    <a:lnTo>
                      <a:pt x="683" y="429"/>
                    </a:lnTo>
                    <a:lnTo>
                      <a:pt x="615" y="487"/>
                    </a:lnTo>
                    <a:lnTo>
                      <a:pt x="549" y="550"/>
                    </a:lnTo>
                    <a:lnTo>
                      <a:pt x="487" y="614"/>
                    </a:lnTo>
                    <a:lnTo>
                      <a:pt x="428" y="682"/>
                    </a:lnTo>
                    <a:lnTo>
                      <a:pt x="373" y="753"/>
                    </a:lnTo>
                    <a:lnTo>
                      <a:pt x="321" y="827"/>
                    </a:lnTo>
                    <a:lnTo>
                      <a:pt x="271" y="903"/>
                    </a:lnTo>
                    <a:lnTo>
                      <a:pt x="227" y="982"/>
                    </a:lnTo>
                    <a:lnTo>
                      <a:pt x="185" y="1061"/>
                    </a:lnTo>
                    <a:lnTo>
                      <a:pt x="148" y="1145"/>
                    </a:lnTo>
                    <a:lnTo>
                      <a:pt x="113" y="1230"/>
                    </a:lnTo>
                    <a:lnTo>
                      <a:pt x="84" y="1317"/>
                    </a:lnTo>
                    <a:lnTo>
                      <a:pt x="59" y="1406"/>
                    </a:lnTo>
                    <a:lnTo>
                      <a:pt x="38" y="1497"/>
                    </a:lnTo>
                    <a:lnTo>
                      <a:pt x="22" y="1588"/>
                    </a:lnTo>
                    <a:lnTo>
                      <a:pt x="10" y="1682"/>
                    </a:lnTo>
                    <a:lnTo>
                      <a:pt x="2" y="1777"/>
                    </a:lnTo>
                    <a:lnTo>
                      <a:pt x="0" y="1875"/>
                    </a:lnTo>
                    <a:lnTo>
                      <a:pt x="2" y="1971"/>
                    </a:lnTo>
                    <a:lnTo>
                      <a:pt x="10" y="2066"/>
                    </a:lnTo>
                    <a:lnTo>
                      <a:pt x="22" y="2160"/>
                    </a:lnTo>
                    <a:lnTo>
                      <a:pt x="38" y="2252"/>
                    </a:lnTo>
                    <a:lnTo>
                      <a:pt x="59" y="2342"/>
                    </a:lnTo>
                    <a:lnTo>
                      <a:pt x="84" y="2432"/>
                    </a:lnTo>
                    <a:lnTo>
                      <a:pt x="113" y="2518"/>
                    </a:lnTo>
                    <a:lnTo>
                      <a:pt x="148" y="2604"/>
                    </a:lnTo>
                    <a:lnTo>
                      <a:pt x="185" y="2687"/>
                    </a:lnTo>
                    <a:lnTo>
                      <a:pt x="227" y="2768"/>
                    </a:lnTo>
                    <a:lnTo>
                      <a:pt x="271" y="2847"/>
                    </a:lnTo>
                    <a:lnTo>
                      <a:pt x="321" y="2922"/>
                    </a:lnTo>
                    <a:lnTo>
                      <a:pt x="373" y="2996"/>
                    </a:lnTo>
                    <a:lnTo>
                      <a:pt x="428" y="3067"/>
                    </a:lnTo>
                    <a:lnTo>
                      <a:pt x="487" y="3135"/>
                    </a:lnTo>
                    <a:lnTo>
                      <a:pt x="549" y="3200"/>
                    </a:lnTo>
                    <a:lnTo>
                      <a:pt x="615" y="3261"/>
                    </a:lnTo>
                    <a:lnTo>
                      <a:pt x="683" y="3321"/>
                    </a:lnTo>
                    <a:lnTo>
                      <a:pt x="753" y="3376"/>
                    </a:lnTo>
                    <a:lnTo>
                      <a:pt x="827" y="3429"/>
                    </a:lnTo>
                    <a:lnTo>
                      <a:pt x="903" y="3477"/>
                    </a:lnTo>
                    <a:lnTo>
                      <a:pt x="981" y="3523"/>
                    </a:lnTo>
                    <a:lnTo>
                      <a:pt x="1062" y="3564"/>
                    </a:lnTo>
                    <a:lnTo>
                      <a:pt x="1145" y="3602"/>
                    </a:lnTo>
                    <a:lnTo>
                      <a:pt x="1231" y="3635"/>
                    </a:lnTo>
                    <a:lnTo>
                      <a:pt x="1317" y="3664"/>
                    </a:lnTo>
                    <a:lnTo>
                      <a:pt x="1407" y="3690"/>
                    </a:lnTo>
                    <a:lnTo>
                      <a:pt x="1498" y="3711"/>
                    </a:lnTo>
                    <a:lnTo>
                      <a:pt x="1589" y="3727"/>
                    </a:lnTo>
                    <a:lnTo>
                      <a:pt x="1683" y="3739"/>
                    </a:lnTo>
                    <a:lnTo>
                      <a:pt x="1778" y="3746"/>
                    </a:lnTo>
                    <a:lnTo>
                      <a:pt x="1875" y="3748"/>
                    </a:lnTo>
                    <a:lnTo>
                      <a:pt x="1930" y="3747"/>
                    </a:lnTo>
                    <a:lnTo>
                      <a:pt x="1985" y="3745"/>
                    </a:lnTo>
                    <a:lnTo>
                      <a:pt x="2039" y="3742"/>
                    </a:lnTo>
                    <a:lnTo>
                      <a:pt x="2093" y="3737"/>
                    </a:lnTo>
                    <a:lnTo>
                      <a:pt x="2147" y="3729"/>
                    </a:lnTo>
                    <a:lnTo>
                      <a:pt x="2200" y="3720"/>
                    </a:lnTo>
                    <a:lnTo>
                      <a:pt x="2252" y="3711"/>
                    </a:lnTo>
                    <a:lnTo>
                      <a:pt x="2304" y="3700"/>
                    </a:lnTo>
                    <a:lnTo>
                      <a:pt x="2355" y="3687"/>
                    </a:lnTo>
                    <a:lnTo>
                      <a:pt x="2406" y="3673"/>
                    </a:lnTo>
                    <a:lnTo>
                      <a:pt x="2456" y="3657"/>
                    </a:lnTo>
                    <a:lnTo>
                      <a:pt x="2506" y="3640"/>
                    </a:lnTo>
                    <a:lnTo>
                      <a:pt x="2554" y="3622"/>
                    </a:lnTo>
                    <a:lnTo>
                      <a:pt x="2603" y="3603"/>
                    </a:lnTo>
                    <a:lnTo>
                      <a:pt x="2650" y="3581"/>
                    </a:lnTo>
                    <a:lnTo>
                      <a:pt x="2697" y="3559"/>
                    </a:lnTo>
                    <a:lnTo>
                      <a:pt x="2679" y="3522"/>
                    </a:lnTo>
                    <a:lnTo>
                      <a:pt x="2633" y="3543"/>
                    </a:lnTo>
                    <a:lnTo>
                      <a:pt x="2587" y="3564"/>
                    </a:lnTo>
                    <a:lnTo>
                      <a:pt x="2539" y="3583"/>
                    </a:lnTo>
                    <a:lnTo>
                      <a:pt x="2492" y="3601"/>
                    </a:lnTo>
                    <a:lnTo>
                      <a:pt x="2443" y="3618"/>
                    </a:lnTo>
                    <a:lnTo>
                      <a:pt x="2394" y="3633"/>
                    </a:lnTo>
                    <a:lnTo>
                      <a:pt x="2345" y="3646"/>
                    </a:lnTo>
                    <a:lnTo>
                      <a:pt x="2294" y="3659"/>
                    </a:lnTo>
                    <a:lnTo>
                      <a:pt x="2243" y="3670"/>
                    </a:lnTo>
                    <a:lnTo>
                      <a:pt x="2192" y="3679"/>
                    </a:lnTo>
                    <a:lnTo>
                      <a:pt x="2140" y="3688"/>
                    </a:lnTo>
                    <a:lnTo>
                      <a:pt x="2089" y="3694"/>
                    </a:lnTo>
                    <a:lnTo>
                      <a:pt x="2036" y="3700"/>
                    </a:lnTo>
                    <a:lnTo>
                      <a:pt x="1983" y="3704"/>
                    </a:lnTo>
                    <a:lnTo>
                      <a:pt x="1929" y="3706"/>
                    </a:lnTo>
                    <a:lnTo>
                      <a:pt x="1875" y="3707"/>
                    </a:lnTo>
                    <a:lnTo>
                      <a:pt x="1781" y="3704"/>
                    </a:lnTo>
                    <a:lnTo>
                      <a:pt x="1688" y="3698"/>
                    </a:lnTo>
                    <a:lnTo>
                      <a:pt x="1596" y="3686"/>
                    </a:lnTo>
                    <a:lnTo>
                      <a:pt x="1506" y="3670"/>
                    </a:lnTo>
                    <a:lnTo>
                      <a:pt x="1416" y="3649"/>
                    </a:lnTo>
                    <a:lnTo>
                      <a:pt x="1330" y="3624"/>
                    </a:lnTo>
                    <a:lnTo>
                      <a:pt x="1245" y="3596"/>
                    </a:lnTo>
                    <a:lnTo>
                      <a:pt x="1161" y="3563"/>
                    </a:lnTo>
                    <a:lnTo>
                      <a:pt x="1080" y="3526"/>
                    </a:lnTo>
                    <a:lnTo>
                      <a:pt x="1002" y="3486"/>
                    </a:lnTo>
                    <a:lnTo>
                      <a:pt x="925" y="3442"/>
                    </a:lnTo>
                    <a:lnTo>
                      <a:pt x="850" y="3394"/>
                    </a:lnTo>
                    <a:lnTo>
                      <a:pt x="778" y="3342"/>
                    </a:lnTo>
                    <a:lnTo>
                      <a:pt x="709" y="3288"/>
                    </a:lnTo>
                    <a:lnTo>
                      <a:pt x="643" y="3231"/>
                    </a:lnTo>
                    <a:lnTo>
                      <a:pt x="579" y="3171"/>
                    </a:lnTo>
                    <a:lnTo>
                      <a:pt x="519" y="3107"/>
                    </a:lnTo>
                    <a:lnTo>
                      <a:pt x="460" y="3040"/>
                    </a:lnTo>
                    <a:lnTo>
                      <a:pt x="406" y="2971"/>
                    </a:lnTo>
                    <a:lnTo>
                      <a:pt x="355" y="2899"/>
                    </a:lnTo>
                    <a:lnTo>
                      <a:pt x="307" y="2825"/>
                    </a:lnTo>
                    <a:lnTo>
                      <a:pt x="264" y="2748"/>
                    </a:lnTo>
                    <a:lnTo>
                      <a:pt x="223" y="2668"/>
                    </a:lnTo>
                    <a:lnTo>
                      <a:pt x="186" y="2587"/>
                    </a:lnTo>
                    <a:lnTo>
                      <a:pt x="153" y="2504"/>
                    </a:lnTo>
                    <a:lnTo>
                      <a:pt x="124" y="2419"/>
                    </a:lnTo>
                    <a:lnTo>
                      <a:pt x="99" y="2333"/>
                    </a:lnTo>
                    <a:lnTo>
                      <a:pt x="79" y="2244"/>
                    </a:lnTo>
                    <a:lnTo>
                      <a:pt x="63" y="2153"/>
                    </a:lnTo>
                    <a:lnTo>
                      <a:pt x="51" y="2062"/>
                    </a:lnTo>
                    <a:lnTo>
                      <a:pt x="44" y="1969"/>
                    </a:lnTo>
                    <a:lnTo>
                      <a:pt x="42" y="1875"/>
                    </a:lnTo>
                    <a:lnTo>
                      <a:pt x="44" y="1780"/>
                    </a:lnTo>
                    <a:lnTo>
                      <a:pt x="51" y="1687"/>
                    </a:lnTo>
                    <a:lnTo>
                      <a:pt x="63" y="1595"/>
                    </a:lnTo>
                    <a:lnTo>
                      <a:pt x="79" y="1505"/>
                    </a:lnTo>
                    <a:lnTo>
                      <a:pt x="99" y="1417"/>
                    </a:lnTo>
                    <a:lnTo>
                      <a:pt x="124" y="1329"/>
                    </a:lnTo>
                    <a:lnTo>
                      <a:pt x="153" y="1244"/>
                    </a:lnTo>
                    <a:lnTo>
                      <a:pt x="186" y="1161"/>
                    </a:lnTo>
                    <a:lnTo>
                      <a:pt x="223" y="1080"/>
                    </a:lnTo>
                    <a:lnTo>
                      <a:pt x="264" y="1001"/>
                    </a:lnTo>
                    <a:lnTo>
                      <a:pt x="307" y="924"/>
                    </a:lnTo>
                    <a:lnTo>
                      <a:pt x="355" y="850"/>
                    </a:lnTo>
                    <a:lnTo>
                      <a:pt x="406" y="778"/>
                    </a:lnTo>
                    <a:lnTo>
                      <a:pt x="460" y="708"/>
                    </a:lnTo>
                    <a:lnTo>
                      <a:pt x="519" y="642"/>
                    </a:lnTo>
                    <a:lnTo>
                      <a:pt x="579" y="579"/>
                    </a:lnTo>
                    <a:lnTo>
                      <a:pt x="643" y="518"/>
                    </a:lnTo>
                    <a:lnTo>
                      <a:pt x="709" y="460"/>
                    </a:lnTo>
                    <a:lnTo>
                      <a:pt x="778" y="406"/>
                    </a:lnTo>
                    <a:lnTo>
                      <a:pt x="850" y="355"/>
                    </a:lnTo>
                    <a:lnTo>
                      <a:pt x="925" y="308"/>
                    </a:lnTo>
                    <a:lnTo>
                      <a:pt x="1002" y="263"/>
                    </a:lnTo>
                    <a:lnTo>
                      <a:pt x="1080" y="222"/>
                    </a:lnTo>
                    <a:lnTo>
                      <a:pt x="1161" y="186"/>
                    </a:lnTo>
                    <a:lnTo>
                      <a:pt x="1245" y="153"/>
                    </a:lnTo>
                    <a:lnTo>
                      <a:pt x="1330" y="124"/>
                    </a:lnTo>
                    <a:lnTo>
                      <a:pt x="1416" y="99"/>
                    </a:lnTo>
                    <a:lnTo>
                      <a:pt x="1506" y="79"/>
                    </a:lnTo>
                    <a:lnTo>
                      <a:pt x="1596" y="62"/>
                    </a:lnTo>
                    <a:lnTo>
                      <a:pt x="1688" y="52"/>
                    </a:lnTo>
                    <a:lnTo>
                      <a:pt x="1781" y="44"/>
                    </a:lnTo>
                    <a:lnTo>
                      <a:pt x="1875" y="42"/>
                    </a:lnTo>
                    <a:lnTo>
                      <a:pt x="1970" y="44"/>
                    </a:lnTo>
                    <a:lnTo>
                      <a:pt x="2063" y="52"/>
                    </a:lnTo>
                    <a:lnTo>
                      <a:pt x="2155" y="62"/>
                    </a:lnTo>
                    <a:lnTo>
                      <a:pt x="2244" y="79"/>
                    </a:lnTo>
                    <a:lnTo>
                      <a:pt x="2333" y="99"/>
                    </a:lnTo>
                    <a:lnTo>
                      <a:pt x="2420" y="124"/>
                    </a:lnTo>
                    <a:lnTo>
                      <a:pt x="2506" y="153"/>
                    </a:lnTo>
                    <a:lnTo>
                      <a:pt x="2589" y="186"/>
                    </a:lnTo>
                    <a:lnTo>
                      <a:pt x="2670" y="222"/>
                    </a:lnTo>
                    <a:lnTo>
                      <a:pt x="2749" y="263"/>
                    </a:lnTo>
                    <a:lnTo>
                      <a:pt x="2826" y="308"/>
                    </a:lnTo>
                    <a:lnTo>
                      <a:pt x="2900" y="355"/>
                    </a:lnTo>
                    <a:lnTo>
                      <a:pt x="2972" y="406"/>
                    </a:lnTo>
                    <a:lnTo>
                      <a:pt x="3042" y="460"/>
                    </a:lnTo>
                    <a:lnTo>
                      <a:pt x="3108" y="518"/>
                    </a:lnTo>
                    <a:lnTo>
                      <a:pt x="3171" y="579"/>
                    </a:lnTo>
                    <a:lnTo>
                      <a:pt x="3232" y="642"/>
                    </a:lnTo>
                    <a:lnTo>
                      <a:pt x="3290" y="708"/>
                    </a:lnTo>
                    <a:lnTo>
                      <a:pt x="3344" y="778"/>
                    </a:lnTo>
                    <a:lnTo>
                      <a:pt x="3395" y="850"/>
                    </a:lnTo>
                    <a:lnTo>
                      <a:pt x="3444" y="924"/>
                    </a:lnTo>
                    <a:lnTo>
                      <a:pt x="3487" y="1001"/>
                    </a:lnTo>
                    <a:lnTo>
                      <a:pt x="3528" y="1080"/>
                    </a:lnTo>
                    <a:lnTo>
                      <a:pt x="3565" y="1161"/>
                    </a:lnTo>
                    <a:lnTo>
                      <a:pt x="3597" y="1244"/>
                    </a:lnTo>
                    <a:lnTo>
                      <a:pt x="3626" y="1329"/>
                    </a:lnTo>
                    <a:lnTo>
                      <a:pt x="3651" y="1417"/>
                    </a:lnTo>
                    <a:lnTo>
                      <a:pt x="3672" y="1505"/>
                    </a:lnTo>
                    <a:lnTo>
                      <a:pt x="3688" y="1595"/>
                    </a:lnTo>
                    <a:lnTo>
                      <a:pt x="3699" y="1687"/>
                    </a:lnTo>
                    <a:lnTo>
                      <a:pt x="3706" y="1780"/>
                    </a:lnTo>
                    <a:lnTo>
                      <a:pt x="3708" y="1875"/>
                    </a:lnTo>
                    <a:lnTo>
                      <a:pt x="3707" y="1936"/>
                    </a:lnTo>
                    <a:lnTo>
                      <a:pt x="3704" y="1997"/>
                    </a:lnTo>
                    <a:lnTo>
                      <a:pt x="3700" y="2057"/>
                    </a:lnTo>
                    <a:lnTo>
                      <a:pt x="3692" y="2118"/>
                    </a:lnTo>
                    <a:lnTo>
                      <a:pt x="3683" y="2177"/>
                    </a:lnTo>
                    <a:lnTo>
                      <a:pt x="3673" y="2235"/>
                    </a:lnTo>
                    <a:lnTo>
                      <a:pt x="3661" y="2294"/>
                    </a:lnTo>
                    <a:lnTo>
                      <a:pt x="3646" y="2351"/>
                    </a:lnTo>
                    <a:lnTo>
                      <a:pt x="3686" y="2362"/>
                    </a:lnTo>
                    <a:lnTo>
                      <a:pt x="3701" y="2303"/>
                    </a:lnTo>
                    <a:lnTo>
                      <a:pt x="3714" y="2244"/>
                    </a:lnTo>
                    <a:lnTo>
                      <a:pt x="3725" y="2184"/>
                    </a:lnTo>
                    <a:lnTo>
                      <a:pt x="3734" y="2123"/>
                    </a:lnTo>
                    <a:lnTo>
                      <a:pt x="3741" y="2062"/>
                    </a:lnTo>
                    <a:lnTo>
                      <a:pt x="3746" y="2000"/>
                    </a:lnTo>
                    <a:lnTo>
                      <a:pt x="3749" y="1937"/>
                    </a:lnTo>
                    <a:lnTo>
                      <a:pt x="3750" y="1875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838680" y="2262240"/>
                <a:ext cx="1471680" cy="1469880"/>
              </a:xfrm>
              <a:custGeom>
                <a:avLst/>
                <a:gdLst/>
                <a:ahLst/>
                <a:rect l="l" t="t" r="r" b="b"/>
                <a:pathLst>
                  <a:path w="3710" h="3707">
                    <a:moveTo>
                      <a:pt x="3710" y="1854"/>
                    </a:moveTo>
                    <a:lnTo>
                      <a:pt x="3707" y="1758"/>
                    </a:lnTo>
                    <a:lnTo>
                      <a:pt x="3700" y="1664"/>
                    </a:lnTo>
                    <a:lnTo>
                      <a:pt x="3688" y="1571"/>
                    </a:lnTo>
                    <a:lnTo>
                      <a:pt x="3672" y="1480"/>
                    </a:lnTo>
                    <a:lnTo>
                      <a:pt x="3650" y="1390"/>
                    </a:lnTo>
                    <a:lnTo>
                      <a:pt x="3626" y="1302"/>
                    </a:lnTo>
                    <a:lnTo>
                      <a:pt x="3596" y="1216"/>
                    </a:lnTo>
                    <a:lnTo>
                      <a:pt x="3564" y="1132"/>
                    </a:lnTo>
                    <a:lnTo>
                      <a:pt x="3526" y="1050"/>
                    </a:lnTo>
                    <a:lnTo>
                      <a:pt x="3485" y="970"/>
                    </a:lnTo>
                    <a:lnTo>
                      <a:pt x="3441" y="892"/>
                    </a:lnTo>
                    <a:lnTo>
                      <a:pt x="3392" y="817"/>
                    </a:lnTo>
                    <a:lnTo>
                      <a:pt x="3341" y="745"/>
                    </a:lnTo>
                    <a:lnTo>
                      <a:pt x="3286" y="674"/>
                    </a:lnTo>
                    <a:lnTo>
                      <a:pt x="3228" y="607"/>
                    </a:lnTo>
                    <a:lnTo>
                      <a:pt x="3166" y="543"/>
                    </a:lnTo>
                    <a:lnTo>
                      <a:pt x="3102" y="481"/>
                    </a:lnTo>
                    <a:lnTo>
                      <a:pt x="3035" y="424"/>
                    </a:lnTo>
                    <a:lnTo>
                      <a:pt x="2964" y="369"/>
                    </a:lnTo>
                    <a:lnTo>
                      <a:pt x="2892" y="317"/>
                    </a:lnTo>
                    <a:lnTo>
                      <a:pt x="2816" y="268"/>
                    </a:lnTo>
                    <a:lnTo>
                      <a:pt x="2739" y="224"/>
                    </a:lnTo>
                    <a:lnTo>
                      <a:pt x="2659" y="183"/>
                    </a:lnTo>
                    <a:lnTo>
                      <a:pt x="2576" y="146"/>
                    </a:lnTo>
                    <a:lnTo>
                      <a:pt x="2492" y="113"/>
                    </a:lnTo>
                    <a:lnTo>
                      <a:pt x="2407" y="84"/>
                    </a:lnTo>
                    <a:lnTo>
                      <a:pt x="2318" y="59"/>
                    </a:lnTo>
                    <a:lnTo>
                      <a:pt x="2229" y="38"/>
                    </a:lnTo>
                    <a:lnTo>
                      <a:pt x="2138" y="21"/>
                    </a:lnTo>
                    <a:lnTo>
                      <a:pt x="2045" y="10"/>
                    </a:lnTo>
                    <a:lnTo>
                      <a:pt x="1951" y="3"/>
                    </a:lnTo>
                    <a:lnTo>
                      <a:pt x="1855" y="0"/>
                    </a:lnTo>
                    <a:lnTo>
                      <a:pt x="1760" y="3"/>
                    </a:lnTo>
                    <a:lnTo>
                      <a:pt x="1666" y="10"/>
                    </a:lnTo>
                    <a:lnTo>
                      <a:pt x="1573" y="21"/>
                    </a:lnTo>
                    <a:lnTo>
                      <a:pt x="1482" y="38"/>
                    </a:lnTo>
                    <a:lnTo>
                      <a:pt x="1392" y="59"/>
                    </a:lnTo>
                    <a:lnTo>
                      <a:pt x="1304" y="84"/>
                    </a:lnTo>
                    <a:lnTo>
                      <a:pt x="1217" y="113"/>
                    </a:lnTo>
                    <a:lnTo>
                      <a:pt x="1134" y="146"/>
                    </a:lnTo>
                    <a:lnTo>
                      <a:pt x="1052" y="183"/>
                    </a:lnTo>
                    <a:lnTo>
                      <a:pt x="972" y="224"/>
                    </a:lnTo>
                    <a:lnTo>
                      <a:pt x="894" y="268"/>
                    </a:lnTo>
                    <a:lnTo>
                      <a:pt x="818" y="317"/>
                    </a:lnTo>
                    <a:lnTo>
                      <a:pt x="746" y="369"/>
                    </a:lnTo>
                    <a:lnTo>
                      <a:pt x="676" y="424"/>
                    </a:lnTo>
                    <a:lnTo>
                      <a:pt x="609" y="481"/>
                    </a:lnTo>
                    <a:lnTo>
                      <a:pt x="544" y="543"/>
                    </a:lnTo>
                    <a:lnTo>
                      <a:pt x="482" y="607"/>
                    </a:lnTo>
                    <a:lnTo>
                      <a:pt x="424" y="674"/>
                    </a:lnTo>
                    <a:lnTo>
                      <a:pt x="369" y="745"/>
                    </a:lnTo>
                    <a:lnTo>
                      <a:pt x="318" y="817"/>
                    </a:lnTo>
                    <a:lnTo>
                      <a:pt x="269" y="892"/>
                    </a:lnTo>
                    <a:lnTo>
                      <a:pt x="225" y="970"/>
                    </a:lnTo>
                    <a:lnTo>
                      <a:pt x="184" y="1050"/>
                    </a:lnTo>
                    <a:lnTo>
                      <a:pt x="146" y="1132"/>
                    </a:lnTo>
                    <a:lnTo>
                      <a:pt x="114" y="1216"/>
                    </a:lnTo>
                    <a:lnTo>
                      <a:pt x="85" y="1302"/>
                    </a:lnTo>
                    <a:lnTo>
                      <a:pt x="59" y="1390"/>
                    </a:lnTo>
                    <a:lnTo>
                      <a:pt x="38" y="1480"/>
                    </a:lnTo>
                    <a:lnTo>
                      <a:pt x="22" y="1571"/>
                    </a:lnTo>
                    <a:lnTo>
                      <a:pt x="10" y="1664"/>
                    </a:lnTo>
                    <a:lnTo>
                      <a:pt x="4" y="1758"/>
                    </a:lnTo>
                    <a:lnTo>
                      <a:pt x="0" y="1854"/>
                    </a:lnTo>
                    <a:lnTo>
                      <a:pt x="4" y="1949"/>
                    </a:lnTo>
                    <a:lnTo>
                      <a:pt x="10" y="2043"/>
                    </a:lnTo>
                    <a:lnTo>
                      <a:pt x="22" y="2136"/>
                    </a:lnTo>
                    <a:lnTo>
                      <a:pt x="38" y="2227"/>
                    </a:lnTo>
                    <a:lnTo>
                      <a:pt x="59" y="2317"/>
                    </a:lnTo>
                    <a:lnTo>
                      <a:pt x="85" y="2404"/>
                    </a:lnTo>
                    <a:lnTo>
                      <a:pt x="114" y="2491"/>
                    </a:lnTo>
                    <a:lnTo>
                      <a:pt x="146" y="2575"/>
                    </a:lnTo>
                    <a:lnTo>
                      <a:pt x="184" y="2657"/>
                    </a:lnTo>
                    <a:lnTo>
                      <a:pt x="225" y="2737"/>
                    </a:lnTo>
                    <a:lnTo>
                      <a:pt x="269" y="2815"/>
                    </a:lnTo>
                    <a:lnTo>
                      <a:pt x="318" y="2889"/>
                    </a:lnTo>
                    <a:lnTo>
                      <a:pt x="369" y="2962"/>
                    </a:lnTo>
                    <a:lnTo>
                      <a:pt x="424" y="3032"/>
                    </a:lnTo>
                    <a:lnTo>
                      <a:pt x="482" y="3100"/>
                    </a:lnTo>
                    <a:lnTo>
                      <a:pt x="544" y="3164"/>
                    </a:lnTo>
                    <a:lnTo>
                      <a:pt x="609" y="3225"/>
                    </a:lnTo>
                    <a:lnTo>
                      <a:pt x="676" y="3284"/>
                    </a:lnTo>
                    <a:lnTo>
                      <a:pt x="746" y="3339"/>
                    </a:lnTo>
                    <a:lnTo>
                      <a:pt x="818" y="3391"/>
                    </a:lnTo>
                    <a:lnTo>
                      <a:pt x="894" y="3438"/>
                    </a:lnTo>
                    <a:lnTo>
                      <a:pt x="972" y="3483"/>
                    </a:lnTo>
                    <a:lnTo>
                      <a:pt x="1052" y="3524"/>
                    </a:lnTo>
                    <a:lnTo>
                      <a:pt x="1134" y="3561"/>
                    </a:lnTo>
                    <a:lnTo>
                      <a:pt x="1217" y="3595"/>
                    </a:lnTo>
                    <a:lnTo>
                      <a:pt x="1304" y="3624"/>
                    </a:lnTo>
                    <a:lnTo>
                      <a:pt x="1392" y="3649"/>
                    </a:lnTo>
                    <a:lnTo>
                      <a:pt x="1482" y="3669"/>
                    </a:lnTo>
                    <a:lnTo>
                      <a:pt x="1573" y="3685"/>
                    </a:lnTo>
                    <a:lnTo>
                      <a:pt x="1666" y="3697"/>
                    </a:lnTo>
                    <a:lnTo>
                      <a:pt x="1760" y="3705"/>
                    </a:lnTo>
                    <a:lnTo>
                      <a:pt x="1855" y="3707"/>
                    </a:lnTo>
                    <a:lnTo>
                      <a:pt x="1910" y="3706"/>
                    </a:lnTo>
                    <a:lnTo>
                      <a:pt x="1964" y="3704"/>
                    </a:lnTo>
                    <a:lnTo>
                      <a:pt x="2018" y="3699"/>
                    </a:lnTo>
                    <a:lnTo>
                      <a:pt x="2071" y="3694"/>
                    </a:lnTo>
                    <a:lnTo>
                      <a:pt x="2124" y="3688"/>
                    </a:lnTo>
                    <a:lnTo>
                      <a:pt x="2176" y="3679"/>
                    </a:lnTo>
                    <a:lnTo>
                      <a:pt x="2227" y="3669"/>
                    </a:lnTo>
                    <a:lnTo>
                      <a:pt x="2279" y="3658"/>
                    </a:lnTo>
                    <a:lnTo>
                      <a:pt x="2330" y="3645"/>
                    </a:lnTo>
                    <a:lnTo>
                      <a:pt x="2380" y="3631"/>
                    </a:lnTo>
                    <a:lnTo>
                      <a:pt x="2429" y="3616"/>
                    </a:lnTo>
                    <a:lnTo>
                      <a:pt x="2478" y="3599"/>
                    </a:lnTo>
                    <a:lnTo>
                      <a:pt x="2527" y="3582"/>
                    </a:lnTo>
                    <a:lnTo>
                      <a:pt x="2574" y="3562"/>
                    </a:lnTo>
                    <a:lnTo>
                      <a:pt x="2622" y="3542"/>
                    </a:lnTo>
                    <a:lnTo>
                      <a:pt x="2668" y="3519"/>
                    </a:lnTo>
                    <a:lnTo>
                      <a:pt x="2650" y="3482"/>
                    </a:lnTo>
                    <a:lnTo>
                      <a:pt x="2605" y="3504"/>
                    </a:lnTo>
                    <a:lnTo>
                      <a:pt x="2558" y="3523"/>
                    </a:lnTo>
                    <a:lnTo>
                      <a:pt x="2512" y="3543"/>
                    </a:lnTo>
                    <a:lnTo>
                      <a:pt x="2464" y="3560"/>
                    </a:lnTo>
                    <a:lnTo>
                      <a:pt x="2417" y="3576"/>
                    </a:lnTo>
                    <a:lnTo>
                      <a:pt x="2368" y="3591"/>
                    </a:lnTo>
                    <a:lnTo>
                      <a:pt x="2319" y="3605"/>
                    </a:lnTo>
                    <a:lnTo>
                      <a:pt x="2270" y="3617"/>
                    </a:lnTo>
                    <a:lnTo>
                      <a:pt x="2219" y="3628"/>
                    </a:lnTo>
                    <a:lnTo>
                      <a:pt x="2169" y="3638"/>
                    </a:lnTo>
                    <a:lnTo>
                      <a:pt x="2117" y="3646"/>
                    </a:lnTo>
                    <a:lnTo>
                      <a:pt x="2065" y="3653"/>
                    </a:lnTo>
                    <a:lnTo>
                      <a:pt x="2013" y="3658"/>
                    </a:lnTo>
                    <a:lnTo>
                      <a:pt x="1962" y="3662"/>
                    </a:lnTo>
                    <a:lnTo>
                      <a:pt x="1909" y="3665"/>
                    </a:lnTo>
                    <a:lnTo>
                      <a:pt x="1855" y="3665"/>
                    </a:lnTo>
                    <a:lnTo>
                      <a:pt x="1762" y="3663"/>
                    </a:lnTo>
                    <a:lnTo>
                      <a:pt x="1670" y="3656"/>
                    </a:lnTo>
                    <a:lnTo>
                      <a:pt x="1579" y="3644"/>
                    </a:lnTo>
                    <a:lnTo>
                      <a:pt x="1489" y="3628"/>
                    </a:lnTo>
                    <a:lnTo>
                      <a:pt x="1402" y="3608"/>
                    </a:lnTo>
                    <a:lnTo>
                      <a:pt x="1317" y="3584"/>
                    </a:lnTo>
                    <a:lnTo>
                      <a:pt x="1232" y="3556"/>
                    </a:lnTo>
                    <a:lnTo>
                      <a:pt x="1150" y="3522"/>
                    </a:lnTo>
                    <a:lnTo>
                      <a:pt x="1069" y="3487"/>
                    </a:lnTo>
                    <a:lnTo>
                      <a:pt x="991" y="3447"/>
                    </a:lnTo>
                    <a:lnTo>
                      <a:pt x="916" y="3402"/>
                    </a:lnTo>
                    <a:lnTo>
                      <a:pt x="842" y="3356"/>
                    </a:lnTo>
                    <a:lnTo>
                      <a:pt x="771" y="3305"/>
                    </a:lnTo>
                    <a:lnTo>
                      <a:pt x="702" y="3251"/>
                    </a:lnTo>
                    <a:lnTo>
                      <a:pt x="637" y="3194"/>
                    </a:lnTo>
                    <a:lnTo>
                      <a:pt x="573" y="3135"/>
                    </a:lnTo>
                    <a:lnTo>
                      <a:pt x="514" y="3072"/>
                    </a:lnTo>
                    <a:lnTo>
                      <a:pt x="456" y="3006"/>
                    </a:lnTo>
                    <a:lnTo>
                      <a:pt x="402" y="2937"/>
                    </a:lnTo>
                    <a:lnTo>
                      <a:pt x="353" y="2867"/>
                    </a:lnTo>
                    <a:lnTo>
                      <a:pt x="305" y="2793"/>
                    </a:lnTo>
                    <a:lnTo>
                      <a:pt x="261" y="2717"/>
                    </a:lnTo>
                    <a:lnTo>
                      <a:pt x="221" y="2639"/>
                    </a:lnTo>
                    <a:lnTo>
                      <a:pt x="185" y="2559"/>
                    </a:lnTo>
                    <a:lnTo>
                      <a:pt x="153" y="2477"/>
                    </a:lnTo>
                    <a:lnTo>
                      <a:pt x="124" y="2393"/>
                    </a:lnTo>
                    <a:lnTo>
                      <a:pt x="100" y="2306"/>
                    </a:lnTo>
                    <a:lnTo>
                      <a:pt x="79" y="2219"/>
                    </a:lnTo>
                    <a:lnTo>
                      <a:pt x="63" y="2129"/>
                    </a:lnTo>
                    <a:lnTo>
                      <a:pt x="52" y="2038"/>
                    </a:lnTo>
                    <a:lnTo>
                      <a:pt x="45" y="1947"/>
                    </a:lnTo>
                    <a:lnTo>
                      <a:pt x="43" y="1854"/>
                    </a:lnTo>
                    <a:lnTo>
                      <a:pt x="45" y="1760"/>
                    </a:lnTo>
                    <a:lnTo>
                      <a:pt x="52" y="1668"/>
                    </a:lnTo>
                    <a:lnTo>
                      <a:pt x="63" y="1577"/>
                    </a:lnTo>
                    <a:lnTo>
                      <a:pt x="79" y="1489"/>
                    </a:lnTo>
                    <a:lnTo>
                      <a:pt x="100" y="1401"/>
                    </a:lnTo>
                    <a:lnTo>
                      <a:pt x="124" y="1315"/>
                    </a:lnTo>
                    <a:lnTo>
                      <a:pt x="153" y="1231"/>
                    </a:lnTo>
                    <a:lnTo>
                      <a:pt x="185" y="1148"/>
                    </a:lnTo>
                    <a:lnTo>
                      <a:pt x="221" y="1069"/>
                    </a:lnTo>
                    <a:lnTo>
                      <a:pt x="261" y="990"/>
                    </a:lnTo>
                    <a:lnTo>
                      <a:pt x="305" y="914"/>
                    </a:lnTo>
                    <a:lnTo>
                      <a:pt x="353" y="841"/>
                    </a:lnTo>
                    <a:lnTo>
                      <a:pt x="402" y="769"/>
                    </a:lnTo>
                    <a:lnTo>
                      <a:pt x="456" y="701"/>
                    </a:lnTo>
                    <a:lnTo>
                      <a:pt x="514" y="635"/>
                    </a:lnTo>
                    <a:lnTo>
                      <a:pt x="573" y="573"/>
                    </a:lnTo>
                    <a:lnTo>
                      <a:pt x="637" y="512"/>
                    </a:lnTo>
                    <a:lnTo>
                      <a:pt x="702" y="455"/>
                    </a:lnTo>
                    <a:lnTo>
                      <a:pt x="771" y="402"/>
                    </a:lnTo>
                    <a:lnTo>
                      <a:pt x="842" y="351"/>
                    </a:lnTo>
                    <a:lnTo>
                      <a:pt x="916" y="304"/>
                    </a:lnTo>
                    <a:lnTo>
                      <a:pt x="991" y="261"/>
                    </a:lnTo>
                    <a:lnTo>
                      <a:pt x="1069" y="221"/>
                    </a:lnTo>
                    <a:lnTo>
                      <a:pt x="1150" y="184"/>
                    </a:lnTo>
                    <a:lnTo>
                      <a:pt x="1232" y="152"/>
                    </a:lnTo>
                    <a:lnTo>
                      <a:pt x="1317" y="124"/>
                    </a:lnTo>
                    <a:lnTo>
                      <a:pt x="1402" y="99"/>
                    </a:lnTo>
                    <a:lnTo>
                      <a:pt x="1489" y="78"/>
                    </a:lnTo>
                    <a:lnTo>
                      <a:pt x="1579" y="63"/>
                    </a:lnTo>
                    <a:lnTo>
                      <a:pt x="1670" y="51"/>
                    </a:lnTo>
                    <a:lnTo>
                      <a:pt x="1762" y="44"/>
                    </a:lnTo>
                    <a:lnTo>
                      <a:pt x="1855" y="41"/>
                    </a:lnTo>
                    <a:lnTo>
                      <a:pt x="1949" y="44"/>
                    </a:lnTo>
                    <a:lnTo>
                      <a:pt x="2040" y="51"/>
                    </a:lnTo>
                    <a:lnTo>
                      <a:pt x="2131" y="63"/>
                    </a:lnTo>
                    <a:lnTo>
                      <a:pt x="2221" y="78"/>
                    </a:lnTo>
                    <a:lnTo>
                      <a:pt x="2308" y="99"/>
                    </a:lnTo>
                    <a:lnTo>
                      <a:pt x="2394" y="124"/>
                    </a:lnTo>
                    <a:lnTo>
                      <a:pt x="2478" y="152"/>
                    </a:lnTo>
                    <a:lnTo>
                      <a:pt x="2560" y="184"/>
                    </a:lnTo>
                    <a:lnTo>
                      <a:pt x="2641" y="221"/>
                    </a:lnTo>
                    <a:lnTo>
                      <a:pt x="2719" y="261"/>
                    </a:lnTo>
                    <a:lnTo>
                      <a:pt x="2795" y="304"/>
                    </a:lnTo>
                    <a:lnTo>
                      <a:pt x="2868" y="351"/>
                    </a:lnTo>
                    <a:lnTo>
                      <a:pt x="2940" y="402"/>
                    </a:lnTo>
                    <a:lnTo>
                      <a:pt x="3008" y="455"/>
                    </a:lnTo>
                    <a:lnTo>
                      <a:pt x="3073" y="512"/>
                    </a:lnTo>
                    <a:lnTo>
                      <a:pt x="3137" y="573"/>
                    </a:lnTo>
                    <a:lnTo>
                      <a:pt x="3197" y="635"/>
                    </a:lnTo>
                    <a:lnTo>
                      <a:pt x="3254" y="701"/>
                    </a:lnTo>
                    <a:lnTo>
                      <a:pt x="3308" y="769"/>
                    </a:lnTo>
                    <a:lnTo>
                      <a:pt x="3358" y="841"/>
                    </a:lnTo>
                    <a:lnTo>
                      <a:pt x="3405" y="914"/>
                    </a:lnTo>
                    <a:lnTo>
                      <a:pt x="3448" y="990"/>
                    </a:lnTo>
                    <a:lnTo>
                      <a:pt x="3489" y="1069"/>
                    </a:lnTo>
                    <a:lnTo>
                      <a:pt x="3525" y="1148"/>
                    </a:lnTo>
                    <a:lnTo>
                      <a:pt x="3558" y="1231"/>
                    </a:lnTo>
                    <a:lnTo>
                      <a:pt x="3587" y="1315"/>
                    </a:lnTo>
                    <a:lnTo>
                      <a:pt x="3611" y="1401"/>
                    </a:lnTo>
                    <a:lnTo>
                      <a:pt x="3631" y="1489"/>
                    </a:lnTo>
                    <a:lnTo>
                      <a:pt x="3647" y="1577"/>
                    </a:lnTo>
                    <a:lnTo>
                      <a:pt x="3658" y="1668"/>
                    </a:lnTo>
                    <a:lnTo>
                      <a:pt x="3666" y="1760"/>
                    </a:lnTo>
                    <a:lnTo>
                      <a:pt x="3668" y="1854"/>
                    </a:lnTo>
                    <a:lnTo>
                      <a:pt x="3667" y="1914"/>
                    </a:lnTo>
                    <a:lnTo>
                      <a:pt x="3663" y="1975"/>
                    </a:lnTo>
                    <a:lnTo>
                      <a:pt x="3659" y="2034"/>
                    </a:lnTo>
                    <a:lnTo>
                      <a:pt x="3652" y="2093"/>
                    </a:lnTo>
                    <a:lnTo>
                      <a:pt x="3643" y="2153"/>
                    </a:lnTo>
                    <a:lnTo>
                      <a:pt x="3632" y="2210"/>
                    </a:lnTo>
                    <a:lnTo>
                      <a:pt x="3620" y="2267"/>
                    </a:lnTo>
                    <a:lnTo>
                      <a:pt x="3606" y="2325"/>
                    </a:lnTo>
                    <a:lnTo>
                      <a:pt x="3646" y="2335"/>
                    </a:lnTo>
                    <a:lnTo>
                      <a:pt x="3660" y="2277"/>
                    </a:lnTo>
                    <a:lnTo>
                      <a:pt x="3673" y="2219"/>
                    </a:lnTo>
                    <a:lnTo>
                      <a:pt x="3684" y="2159"/>
                    </a:lnTo>
                    <a:lnTo>
                      <a:pt x="3693" y="2099"/>
                    </a:lnTo>
                    <a:lnTo>
                      <a:pt x="3700" y="2038"/>
                    </a:lnTo>
                    <a:lnTo>
                      <a:pt x="3706" y="1978"/>
                    </a:lnTo>
                    <a:lnTo>
                      <a:pt x="3709" y="1915"/>
                    </a:lnTo>
                    <a:lnTo>
                      <a:pt x="3710" y="1854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846600" y="2270160"/>
                <a:ext cx="1455480" cy="1454040"/>
              </a:xfrm>
              <a:custGeom>
                <a:avLst/>
                <a:gdLst/>
                <a:ahLst/>
                <a:rect l="l" t="t" r="r" b="b"/>
                <a:pathLst>
                  <a:path w="3666" h="3665">
                    <a:moveTo>
                      <a:pt x="3666" y="1833"/>
                    </a:moveTo>
                    <a:lnTo>
                      <a:pt x="3664" y="1738"/>
                    </a:lnTo>
                    <a:lnTo>
                      <a:pt x="3657" y="1645"/>
                    </a:lnTo>
                    <a:lnTo>
                      <a:pt x="3646" y="1553"/>
                    </a:lnTo>
                    <a:lnTo>
                      <a:pt x="3630" y="1463"/>
                    </a:lnTo>
                    <a:lnTo>
                      <a:pt x="3609" y="1375"/>
                    </a:lnTo>
                    <a:lnTo>
                      <a:pt x="3584" y="1287"/>
                    </a:lnTo>
                    <a:lnTo>
                      <a:pt x="3555" y="1202"/>
                    </a:lnTo>
                    <a:lnTo>
                      <a:pt x="3523" y="1119"/>
                    </a:lnTo>
                    <a:lnTo>
                      <a:pt x="3486" y="1038"/>
                    </a:lnTo>
                    <a:lnTo>
                      <a:pt x="3445" y="959"/>
                    </a:lnTo>
                    <a:lnTo>
                      <a:pt x="3402" y="882"/>
                    </a:lnTo>
                    <a:lnTo>
                      <a:pt x="3353" y="808"/>
                    </a:lnTo>
                    <a:lnTo>
                      <a:pt x="3302" y="736"/>
                    </a:lnTo>
                    <a:lnTo>
                      <a:pt x="3248" y="666"/>
                    </a:lnTo>
                    <a:lnTo>
                      <a:pt x="3190" y="600"/>
                    </a:lnTo>
                    <a:lnTo>
                      <a:pt x="3129" y="537"/>
                    </a:lnTo>
                    <a:lnTo>
                      <a:pt x="3066" y="476"/>
                    </a:lnTo>
                    <a:lnTo>
                      <a:pt x="3000" y="418"/>
                    </a:lnTo>
                    <a:lnTo>
                      <a:pt x="2930" y="364"/>
                    </a:lnTo>
                    <a:lnTo>
                      <a:pt x="2858" y="313"/>
                    </a:lnTo>
                    <a:lnTo>
                      <a:pt x="2784" y="266"/>
                    </a:lnTo>
                    <a:lnTo>
                      <a:pt x="2707" y="221"/>
                    </a:lnTo>
                    <a:lnTo>
                      <a:pt x="2628" y="180"/>
                    </a:lnTo>
                    <a:lnTo>
                      <a:pt x="2547" y="144"/>
                    </a:lnTo>
                    <a:lnTo>
                      <a:pt x="2464" y="111"/>
                    </a:lnTo>
                    <a:lnTo>
                      <a:pt x="2378" y="82"/>
                    </a:lnTo>
                    <a:lnTo>
                      <a:pt x="2291" y="57"/>
                    </a:lnTo>
                    <a:lnTo>
                      <a:pt x="2202" y="37"/>
                    </a:lnTo>
                    <a:lnTo>
                      <a:pt x="2113" y="20"/>
                    </a:lnTo>
                    <a:lnTo>
                      <a:pt x="2021" y="10"/>
                    </a:lnTo>
                    <a:lnTo>
                      <a:pt x="1928" y="2"/>
                    </a:lnTo>
                    <a:lnTo>
                      <a:pt x="1833" y="0"/>
                    </a:lnTo>
                    <a:lnTo>
                      <a:pt x="1739" y="2"/>
                    </a:lnTo>
                    <a:lnTo>
                      <a:pt x="1646" y="10"/>
                    </a:lnTo>
                    <a:lnTo>
                      <a:pt x="1554" y="20"/>
                    </a:lnTo>
                    <a:lnTo>
                      <a:pt x="1464" y="37"/>
                    </a:lnTo>
                    <a:lnTo>
                      <a:pt x="1374" y="57"/>
                    </a:lnTo>
                    <a:lnTo>
                      <a:pt x="1288" y="82"/>
                    </a:lnTo>
                    <a:lnTo>
                      <a:pt x="1203" y="111"/>
                    </a:lnTo>
                    <a:lnTo>
                      <a:pt x="1119" y="144"/>
                    </a:lnTo>
                    <a:lnTo>
                      <a:pt x="1038" y="180"/>
                    </a:lnTo>
                    <a:lnTo>
                      <a:pt x="960" y="221"/>
                    </a:lnTo>
                    <a:lnTo>
                      <a:pt x="883" y="266"/>
                    </a:lnTo>
                    <a:lnTo>
                      <a:pt x="808" y="313"/>
                    </a:lnTo>
                    <a:lnTo>
                      <a:pt x="736" y="364"/>
                    </a:lnTo>
                    <a:lnTo>
                      <a:pt x="667" y="418"/>
                    </a:lnTo>
                    <a:lnTo>
                      <a:pt x="601" y="476"/>
                    </a:lnTo>
                    <a:lnTo>
                      <a:pt x="537" y="537"/>
                    </a:lnTo>
                    <a:lnTo>
                      <a:pt x="477" y="600"/>
                    </a:lnTo>
                    <a:lnTo>
                      <a:pt x="418" y="666"/>
                    </a:lnTo>
                    <a:lnTo>
                      <a:pt x="364" y="736"/>
                    </a:lnTo>
                    <a:lnTo>
                      <a:pt x="313" y="808"/>
                    </a:lnTo>
                    <a:lnTo>
                      <a:pt x="265" y="882"/>
                    </a:lnTo>
                    <a:lnTo>
                      <a:pt x="222" y="959"/>
                    </a:lnTo>
                    <a:lnTo>
                      <a:pt x="181" y="1038"/>
                    </a:lnTo>
                    <a:lnTo>
                      <a:pt x="144" y="1119"/>
                    </a:lnTo>
                    <a:lnTo>
                      <a:pt x="111" y="1202"/>
                    </a:lnTo>
                    <a:lnTo>
                      <a:pt x="82" y="1287"/>
                    </a:lnTo>
                    <a:lnTo>
                      <a:pt x="57" y="1375"/>
                    </a:lnTo>
                    <a:lnTo>
                      <a:pt x="37" y="1463"/>
                    </a:lnTo>
                    <a:lnTo>
                      <a:pt x="21" y="1553"/>
                    </a:lnTo>
                    <a:lnTo>
                      <a:pt x="9" y="1645"/>
                    </a:lnTo>
                    <a:lnTo>
                      <a:pt x="2" y="1738"/>
                    </a:lnTo>
                    <a:lnTo>
                      <a:pt x="0" y="1833"/>
                    </a:lnTo>
                    <a:lnTo>
                      <a:pt x="2" y="1927"/>
                    </a:lnTo>
                    <a:lnTo>
                      <a:pt x="9" y="2020"/>
                    </a:lnTo>
                    <a:lnTo>
                      <a:pt x="21" y="2111"/>
                    </a:lnTo>
                    <a:lnTo>
                      <a:pt x="37" y="2202"/>
                    </a:lnTo>
                    <a:lnTo>
                      <a:pt x="57" y="2291"/>
                    </a:lnTo>
                    <a:lnTo>
                      <a:pt x="82" y="2377"/>
                    </a:lnTo>
                    <a:lnTo>
                      <a:pt x="111" y="2462"/>
                    </a:lnTo>
                    <a:lnTo>
                      <a:pt x="144" y="2545"/>
                    </a:lnTo>
                    <a:lnTo>
                      <a:pt x="181" y="2626"/>
                    </a:lnTo>
                    <a:lnTo>
                      <a:pt x="222" y="2706"/>
                    </a:lnTo>
                    <a:lnTo>
                      <a:pt x="265" y="2783"/>
                    </a:lnTo>
                    <a:lnTo>
                      <a:pt x="313" y="2857"/>
                    </a:lnTo>
                    <a:lnTo>
                      <a:pt x="364" y="2929"/>
                    </a:lnTo>
                    <a:lnTo>
                      <a:pt x="418" y="2998"/>
                    </a:lnTo>
                    <a:lnTo>
                      <a:pt x="477" y="3065"/>
                    </a:lnTo>
                    <a:lnTo>
                      <a:pt x="537" y="3129"/>
                    </a:lnTo>
                    <a:lnTo>
                      <a:pt x="601" y="3189"/>
                    </a:lnTo>
                    <a:lnTo>
                      <a:pt x="667" y="3246"/>
                    </a:lnTo>
                    <a:lnTo>
                      <a:pt x="736" y="3300"/>
                    </a:lnTo>
                    <a:lnTo>
                      <a:pt x="808" y="3352"/>
                    </a:lnTo>
                    <a:lnTo>
                      <a:pt x="883" y="3400"/>
                    </a:lnTo>
                    <a:lnTo>
                      <a:pt x="960" y="3444"/>
                    </a:lnTo>
                    <a:lnTo>
                      <a:pt x="1038" y="3484"/>
                    </a:lnTo>
                    <a:lnTo>
                      <a:pt x="1119" y="3521"/>
                    </a:lnTo>
                    <a:lnTo>
                      <a:pt x="1203" y="3554"/>
                    </a:lnTo>
                    <a:lnTo>
                      <a:pt x="1288" y="3582"/>
                    </a:lnTo>
                    <a:lnTo>
                      <a:pt x="1374" y="3607"/>
                    </a:lnTo>
                    <a:lnTo>
                      <a:pt x="1464" y="3628"/>
                    </a:lnTo>
                    <a:lnTo>
                      <a:pt x="1554" y="3644"/>
                    </a:lnTo>
                    <a:lnTo>
                      <a:pt x="1646" y="3656"/>
                    </a:lnTo>
                    <a:lnTo>
                      <a:pt x="1739" y="3662"/>
                    </a:lnTo>
                    <a:lnTo>
                      <a:pt x="1833" y="3665"/>
                    </a:lnTo>
                    <a:lnTo>
                      <a:pt x="1887" y="3664"/>
                    </a:lnTo>
                    <a:lnTo>
                      <a:pt x="1941" y="3662"/>
                    </a:lnTo>
                    <a:lnTo>
                      <a:pt x="1994" y="3658"/>
                    </a:lnTo>
                    <a:lnTo>
                      <a:pt x="2047" y="3652"/>
                    </a:lnTo>
                    <a:lnTo>
                      <a:pt x="2098" y="3646"/>
                    </a:lnTo>
                    <a:lnTo>
                      <a:pt x="2150" y="3637"/>
                    </a:lnTo>
                    <a:lnTo>
                      <a:pt x="2201" y="3628"/>
                    </a:lnTo>
                    <a:lnTo>
                      <a:pt x="2252" y="3617"/>
                    </a:lnTo>
                    <a:lnTo>
                      <a:pt x="2303" y="3604"/>
                    </a:lnTo>
                    <a:lnTo>
                      <a:pt x="2352" y="3591"/>
                    </a:lnTo>
                    <a:lnTo>
                      <a:pt x="2401" y="3576"/>
                    </a:lnTo>
                    <a:lnTo>
                      <a:pt x="2450" y="3559"/>
                    </a:lnTo>
                    <a:lnTo>
                      <a:pt x="2497" y="3541"/>
                    </a:lnTo>
                    <a:lnTo>
                      <a:pt x="2545" y="3522"/>
                    </a:lnTo>
                    <a:lnTo>
                      <a:pt x="2591" y="3501"/>
                    </a:lnTo>
                    <a:lnTo>
                      <a:pt x="2637" y="3480"/>
                    </a:lnTo>
                    <a:lnTo>
                      <a:pt x="2618" y="3442"/>
                    </a:lnTo>
                    <a:lnTo>
                      <a:pt x="2574" y="3463"/>
                    </a:lnTo>
                    <a:lnTo>
                      <a:pt x="2529" y="3483"/>
                    </a:lnTo>
                    <a:lnTo>
                      <a:pt x="2482" y="3502"/>
                    </a:lnTo>
                    <a:lnTo>
                      <a:pt x="2436" y="3520"/>
                    </a:lnTo>
                    <a:lnTo>
                      <a:pt x="2388" y="3536"/>
                    </a:lnTo>
                    <a:lnTo>
                      <a:pt x="2340" y="3551"/>
                    </a:lnTo>
                    <a:lnTo>
                      <a:pt x="2292" y="3564"/>
                    </a:lnTo>
                    <a:lnTo>
                      <a:pt x="2242" y="3576"/>
                    </a:lnTo>
                    <a:lnTo>
                      <a:pt x="2194" y="3588"/>
                    </a:lnTo>
                    <a:lnTo>
                      <a:pt x="2143" y="3596"/>
                    </a:lnTo>
                    <a:lnTo>
                      <a:pt x="2092" y="3605"/>
                    </a:lnTo>
                    <a:lnTo>
                      <a:pt x="2041" y="3611"/>
                    </a:lnTo>
                    <a:lnTo>
                      <a:pt x="1990" y="3617"/>
                    </a:lnTo>
                    <a:lnTo>
                      <a:pt x="1939" y="3620"/>
                    </a:lnTo>
                    <a:lnTo>
                      <a:pt x="1886" y="3622"/>
                    </a:lnTo>
                    <a:lnTo>
                      <a:pt x="1833" y="3623"/>
                    </a:lnTo>
                    <a:lnTo>
                      <a:pt x="1741" y="3621"/>
                    </a:lnTo>
                    <a:lnTo>
                      <a:pt x="1650" y="3614"/>
                    </a:lnTo>
                    <a:lnTo>
                      <a:pt x="1560" y="3603"/>
                    </a:lnTo>
                    <a:lnTo>
                      <a:pt x="1472" y="3587"/>
                    </a:lnTo>
                    <a:lnTo>
                      <a:pt x="1385" y="3567"/>
                    </a:lnTo>
                    <a:lnTo>
                      <a:pt x="1300" y="3542"/>
                    </a:lnTo>
                    <a:lnTo>
                      <a:pt x="1217" y="3514"/>
                    </a:lnTo>
                    <a:lnTo>
                      <a:pt x="1136" y="3483"/>
                    </a:lnTo>
                    <a:lnTo>
                      <a:pt x="1057" y="3446"/>
                    </a:lnTo>
                    <a:lnTo>
                      <a:pt x="979" y="3407"/>
                    </a:lnTo>
                    <a:lnTo>
                      <a:pt x="904" y="3364"/>
                    </a:lnTo>
                    <a:lnTo>
                      <a:pt x="831" y="3318"/>
                    </a:lnTo>
                    <a:lnTo>
                      <a:pt x="761" y="3268"/>
                    </a:lnTo>
                    <a:lnTo>
                      <a:pt x="694" y="3214"/>
                    </a:lnTo>
                    <a:lnTo>
                      <a:pt x="629" y="3158"/>
                    </a:lnTo>
                    <a:lnTo>
                      <a:pt x="566" y="3098"/>
                    </a:lnTo>
                    <a:lnTo>
                      <a:pt x="507" y="3037"/>
                    </a:lnTo>
                    <a:lnTo>
                      <a:pt x="451" y="2972"/>
                    </a:lnTo>
                    <a:lnTo>
                      <a:pt x="398" y="2904"/>
                    </a:lnTo>
                    <a:lnTo>
                      <a:pt x="347" y="2834"/>
                    </a:lnTo>
                    <a:lnTo>
                      <a:pt x="300" y="2761"/>
                    </a:lnTo>
                    <a:lnTo>
                      <a:pt x="257" y="2686"/>
                    </a:lnTo>
                    <a:lnTo>
                      <a:pt x="218" y="2609"/>
                    </a:lnTo>
                    <a:lnTo>
                      <a:pt x="183" y="2529"/>
                    </a:lnTo>
                    <a:lnTo>
                      <a:pt x="150" y="2448"/>
                    </a:lnTo>
                    <a:lnTo>
                      <a:pt x="122" y="2365"/>
                    </a:lnTo>
                    <a:lnTo>
                      <a:pt x="97" y="2280"/>
                    </a:lnTo>
                    <a:lnTo>
                      <a:pt x="78" y="2193"/>
                    </a:lnTo>
                    <a:lnTo>
                      <a:pt x="62" y="2105"/>
                    </a:lnTo>
                    <a:lnTo>
                      <a:pt x="51" y="2015"/>
                    </a:lnTo>
                    <a:lnTo>
                      <a:pt x="43" y="1924"/>
                    </a:lnTo>
                    <a:lnTo>
                      <a:pt x="41" y="1833"/>
                    </a:lnTo>
                    <a:lnTo>
                      <a:pt x="43" y="1740"/>
                    </a:lnTo>
                    <a:lnTo>
                      <a:pt x="51" y="1649"/>
                    </a:lnTo>
                    <a:lnTo>
                      <a:pt x="62" y="1559"/>
                    </a:lnTo>
                    <a:lnTo>
                      <a:pt x="78" y="1472"/>
                    </a:lnTo>
                    <a:lnTo>
                      <a:pt x="97" y="1384"/>
                    </a:lnTo>
                    <a:lnTo>
                      <a:pt x="122" y="1300"/>
                    </a:lnTo>
                    <a:lnTo>
                      <a:pt x="150" y="1217"/>
                    </a:lnTo>
                    <a:lnTo>
                      <a:pt x="183" y="1135"/>
                    </a:lnTo>
                    <a:lnTo>
                      <a:pt x="218" y="1056"/>
                    </a:lnTo>
                    <a:lnTo>
                      <a:pt x="257" y="978"/>
                    </a:lnTo>
                    <a:lnTo>
                      <a:pt x="300" y="904"/>
                    </a:lnTo>
                    <a:lnTo>
                      <a:pt x="347" y="832"/>
                    </a:lnTo>
                    <a:lnTo>
                      <a:pt x="398" y="761"/>
                    </a:lnTo>
                    <a:lnTo>
                      <a:pt x="451" y="693"/>
                    </a:lnTo>
                    <a:lnTo>
                      <a:pt x="507" y="628"/>
                    </a:lnTo>
                    <a:lnTo>
                      <a:pt x="566" y="566"/>
                    </a:lnTo>
                    <a:lnTo>
                      <a:pt x="629" y="506"/>
                    </a:lnTo>
                    <a:lnTo>
                      <a:pt x="694" y="450"/>
                    </a:lnTo>
                    <a:lnTo>
                      <a:pt x="761" y="397"/>
                    </a:lnTo>
                    <a:lnTo>
                      <a:pt x="831" y="348"/>
                    </a:lnTo>
                    <a:lnTo>
                      <a:pt x="904" y="301"/>
                    </a:lnTo>
                    <a:lnTo>
                      <a:pt x="979" y="258"/>
                    </a:lnTo>
                    <a:lnTo>
                      <a:pt x="1057" y="218"/>
                    </a:lnTo>
                    <a:lnTo>
                      <a:pt x="1136" y="182"/>
                    </a:lnTo>
                    <a:lnTo>
                      <a:pt x="1217" y="150"/>
                    </a:lnTo>
                    <a:lnTo>
                      <a:pt x="1300" y="122"/>
                    </a:lnTo>
                    <a:lnTo>
                      <a:pt x="1385" y="98"/>
                    </a:lnTo>
                    <a:lnTo>
                      <a:pt x="1472" y="78"/>
                    </a:lnTo>
                    <a:lnTo>
                      <a:pt x="1560" y="63"/>
                    </a:lnTo>
                    <a:lnTo>
                      <a:pt x="1650" y="51"/>
                    </a:lnTo>
                    <a:lnTo>
                      <a:pt x="1741" y="44"/>
                    </a:lnTo>
                    <a:lnTo>
                      <a:pt x="1833" y="41"/>
                    </a:lnTo>
                    <a:lnTo>
                      <a:pt x="1926" y="44"/>
                    </a:lnTo>
                    <a:lnTo>
                      <a:pt x="2016" y="51"/>
                    </a:lnTo>
                    <a:lnTo>
                      <a:pt x="2106" y="63"/>
                    </a:lnTo>
                    <a:lnTo>
                      <a:pt x="2195" y="78"/>
                    </a:lnTo>
                    <a:lnTo>
                      <a:pt x="2281" y="98"/>
                    </a:lnTo>
                    <a:lnTo>
                      <a:pt x="2366" y="122"/>
                    </a:lnTo>
                    <a:lnTo>
                      <a:pt x="2450" y="150"/>
                    </a:lnTo>
                    <a:lnTo>
                      <a:pt x="2531" y="182"/>
                    </a:lnTo>
                    <a:lnTo>
                      <a:pt x="2610" y="218"/>
                    </a:lnTo>
                    <a:lnTo>
                      <a:pt x="2687" y="258"/>
                    </a:lnTo>
                    <a:lnTo>
                      <a:pt x="2762" y="301"/>
                    </a:lnTo>
                    <a:lnTo>
                      <a:pt x="2835" y="348"/>
                    </a:lnTo>
                    <a:lnTo>
                      <a:pt x="2906" y="397"/>
                    </a:lnTo>
                    <a:lnTo>
                      <a:pt x="2973" y="450"/>
                    </a:lnTo>
                    <a:lnTo>
                      <a:pt x="3037" y="506"/>
                    </a:lnTo>
                    <a:lnTo>
                      <a:pt x="3100" y="566"/>
                    </a:lnTo>
                    <a:lnTo>
                      <a:pt x="3160" y="628"/>
                    </a:lnTo>
                    <a:lnTo>
                      <a:pt x="3216" y="693"/>
                    </a:lnTo>
                    <a:lnTo>
                      <a:pt x="3269" y="761"/>
                    </a:lnTo>
                    <a:lnTo>
                      <a:pt x="3318" y="832"/>
                    </a:lnTo>
                    <a:lnTo>
                      <a:pt x="3366" y="904"/>
                    </a:lnTo>
                    <a:lnTo>
                      <a:pt x="3409" y="978"/>
                    </a:lnTo>
                    <a:lnTo>
                      <a:pt x="3448" y="1056"/>
                    </a:lnTo>
                    <a:lnTo>
                      <a:pt x="3484" y="1135"/>
                    </a:lnTo>
                    <a:lnTo>
                      <a:pt x="3516" y="1217"/>
                    </a:lnTo>
                    <a:lnTo>
                      <a:pt x="3544" y="1300"/>
                    </a:lnTo>
                    <a:lnTo>
                      <a:pt x="3568" y="1384"/>
                    </a:lnTo>
                    <a:lnTo>
                      <a:pt x="3589" y="1472"/>
                    </a:lnTo>
                    <a:lnTo>
                      <a:pt x="3605" y="1559"/>
                    </a:lnTo>
                    <a:lnTo>
                      <a:pt x="3616" y="1649"/>
                    </a:lnTo>
                    <a:lnTo>
                      <a:pt x="3623" y="1740"/>
                    </a:lnTo>
                    <a:lnTo>
                      <a:pt x="3625" y="1833"/>
                    </a:lnTo>
                    <a:lnTo>
                      <a:pt x="3624" y="1892"/>
                    </a:lnTo>
                    <a:lnTo>
                      <a:pt x="3621" y="1953"/>
                    </a:lnTo>
                    <a:lnTo>
                      <a:pt x="3616" y="2011"/>
                    </a:lnTo>
                    <a:lnTo>
                      <a:pt x="3609" y="2070"/>
                    </a:lnTo>
                    <a:lnTo>
                      <a:pt x="3600" y="2128"/>
                    </a:lnTo>
                    <a:lnTo>
                      <a:pt x="3590" y="2185"/>
                    </a:lnTo>
                    <a:lnTo>
                      <a:pt x="3578" y="2242"/>
                    </a:lnTo>
                    <a:lnTo>
                      <a:pt x="3564" y="2298"/>
                    </a:lnTo>
                    <a:lnTo>
                      <a:pt x="3604" y="2309"/>
                    </a:lnTo>
                    <a:lnTo>
                      <a:pt x="3619" y="2252"/>
                    </a:lnTo>
                    <a:lnTo>
                      <a:pt x="3631" y="2193"/>
                    </a:lnTo>
                    <a:lnTo>
                      <a:pt x="3641" y="2135"/>
                    </a:lnTo>
                    <a:lnTo>
                      <a:pt x="3650" y="2076"/>
                    </a:lnTo>
                    <a:lnTo>
                      <a:pt x="3658" y="2015"/>
                    </a:lnTo>
                    <a:lnTo>
                      <a:pt x="3662" y="1955"/>
                    </a:lnTo>
                    <a:lnTo>
                      <a:pt x="3665" y="1894"/>
                    </a:lnTo>
                    <a:lnTo>
                      <a:pt x="3666" y="183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854520" y="2278080"/>
                <a:ext cx="1438200" cy="1438200"/>
              </a:xfrm>
              <a:custGeom>
                <a:avLst/>
                <a:gdLst/>
                <a:ahLst/>
                <a:rect l="l" t="t" r="r" b="b"/>
                <a:pathLst>
                  <a:path w="3625" h="3624">
                    <a:moveTo>
                      <a:pt x="3625" y="1813"/>
                    </a:moveTo>
                    <a:lnTo>
                      <a:pt x="3623" y="1719"/>
                    </a:lnTo>
                    <a:lnTo>
                      <a:pt x="3615" y="1627"/>
                    </a:lnTo>
                    <a:lnTo>
                      <a:pt x="3604" y="1536"/>
                    </a:lnTo>
                    <a:lnTo>
                      <a:pt x="3588" y="1448"/>
                    </a:lnTo>
                    <a:lnTo>
                      <a:pt x="3568" y="1360"/>
                    </a:lnTo>
                    <a:lnTo>
                      <a:pt x="3544" y="1274"/>
                    </a:lnTo>
                    <a:lnTo>
                      <a:pt x="3515" y="1190"/>
                    </a:lnTo>
                    <a:lnTo>
                      <a:pt x="3482" y="1107"/>
                    </a:lnTo>
                    <a:lnTo>
                      <a:pt x="3446" y="1028"/>
                    </a:lnTo>
                    <a:lnTo>
                      <a:pt x="3405" y="949"/>
                    </a:lnTo>
                    <a:lnTo>
                      <a:pt x="3362" y="873"/>
                    </a:lnTo>
                    <a:lnTo>
                      <a:pt x="3315" y="800"/>
                    </a:lnTo>
                    <a:lnTo>
                      <a:pt x="3265" y="728"/>
                    </a:lnTo>
                    <a:lnTo>
                      <a:pt x="3211" y="660"/>
                    </a:lnTo>
                    <a:lnTo>
                      <a:pt x="3154" y="594"/>
                    </a:lnTo>
                    <a:lnTo>
                      <a:pt x="3094" y="532"/>
                    </a:lnTo>
                    <a:lnTo>
                      <a:pt x="3030" y="471"/>
                    </a:lnTo>
                    <a:lnTo>
                      <a:pt x="2965" y="414"/>
                    </a:lnTo>
                    <a:lnTo>
                      <a:pt x="2897" y="361"/>
                    </a:lnTo>
                    <a:lnTo>
                      <a:pt x="2825" y="310"/>
                    </a:lnTo>
                    <a:lnTo>
                      <a:pt x="2752" y="263"/>
                    </a:lnTo>
                    <a:lnTo>
                      <a:pt x="2676" y="220"/>
                    </a:lnTo>
                    <a:lnTo>
                      <a:pt x="2598" y="180"/>
                    </a:lnTo>
                    <a:lnTo>
                      <a:pt x="2517" y="143"/>
                    </a:lnTo>
                    <a:lnTo>
                      <a:pt x="2435" y="111"/>
                    </a:lnTo>
                    <a:lnTo>
                      <a:pt x="2351" y="83"/>
                    </a:lnTo>
                    <a:lnTo>
                      <a:pt x="2265" y="58"/>
                    </a:lnTo>
                    <a:lnTo>
                      <a:pt x="2178" y="37"/>
                    </a:lnTo>
                    <a:lnTo>
                      <a:pt x="2088" y="22"/>
                    </a:lnTo>
                    <a:lnTo>
                      <a:pt x="1997" y="10"/>
                    </a:lnTo>
                    <a:lnTo>
                      <a:pt x="1906" y="3"/>
                    </a:lnTo>
                    <a:lnTo>
                      <a:pt x="1812" y="0"/>
                    </a:lnTo>
                    <a:lnTo>
                      <a:pt x="1719" y="3"/>
                    </a:lnTo>
                    <a:lnTo>
                      <a:pt x="1627" y="10"/>
                    </a:lnTo>
                    <a:lnTo>
                      <a:pt x="1536" y="22"/>
                    </a:lnTo>
                    <a:lnTo>
                      <a:pt x="1446" y="37"/>
                    </a:lnTo>
                    <a:lnTo>
                      <a:pt x="1359" y="58"/>
                    </a:lnTo>
                    <a:lnTo>
                      <a:pt x="1274" y="83"/>
                    </a:lnTo>
                    <a:lnTo>
                      <a:pt x="1189" y="111"/>
                    </a:lnTo>
                    <a:lnTo>
                      <a:pt x="1107" y="143"/>
                    </a:lnTo>
                    <a:lnTo>
                      <a:pt x="1026" y="180"/>
                    </a:lnTo>
                    <a:lnTo>
                      <a:pt x="948" y="220"/>
                    </a:lnTo>
                    <a:lnTo>
                      <a:pt x="873" y="263"/>
                    </a:lnTo>
                    <a:lnTo>
                      <a:pt x="799" y="310"/>
                    </a:lnTo>
                    <a:lnTo>
                      <a:pt x="728" y="361"/>
                    </a:lnTo>
                    <a:lnTo>
                      <a:pt x="659" y="414"/>
                    </a:lnTo>
                    <a:lnTo>
                      <a:pt x="594" y="471"/>
                    </a:lnTo>
                    <a:lnTo>
                      <a:pt x="530" y="532"/>
                    </a:lnTo>
                    <a:lnTo>
                      <a:pt x="471" y="594"/>
                    </a:lnTo>
                    <a:lnTo>
                      <a:pt x="413" y="660"/>
                    </a:lnTo>
                    <a:lnTo>
                      <a:pt x="359" y="728"/>
                    </a:lnTo>
                    <a:lnTo>
                      <a:pt x="310" y="800"/>
                    </a:lnTo>
                    <a:lnTo>
                      <a:pt x="262" y="873"/>
                    </a:lnTo>
                    <a:lnTo>
                      <a:pt x="218" y="949"/>
                    </a:lnTo>
                    <a:lnTo>
                      <a:pt x="178" y="1028"/>
                    </a:lnTo>
                    <a:lnTo>
                      <a:pt x="142" y="1107"/>
                    </a:lnTo>
                    <a:lnTo>
                      <a:pt x="110" y="1190"/>
                    </a:lnTo>
                    <a:lnTo>
                      <a:pt x="81" y="1274"/>
                    </a:lnTo>
                    <a:lnTo>
                      <a:pt x="57" y="1360"/>
                    </a:lnTo>
                    <a:lnTo>
                      <a:pt x="36" y="1448"/>
                    </a:lnTo>
                    <a:lnTo>
                      <a:pt x="20" y="1536"/>
                    </a:lnTo>
                    <a:lnTo>
                      <a:pt x="9" y="1627"/>
                    </a:lnTo>
                    <a:lnTo>
                      <a:pt x="2" y="1719"/>
                    </a:lnTo>
                    <a:lnTo>
                      <a:pt x="0" y="1813"/>
                    </a:lnTo>
                    <a:lnTo>
                      <a:pt x="2" y="1906"/>
                    </a:lnTo>
                    <a:lnTo>
                      <a:pt x="9" y="1997"/>
                    </a:lnTo>
                    <a:lnTo>
                      <a:pt x="20" y="2088"/>
                    </a:lnTo>
                    <a:lnTo>
                      <a:pt x="36" y="2178"/>
                    </a:lnTo>
                    <a:lnTo>
                      <a:pt x="57" y="2265"/>
                    </a:lnTo>
                    <a:lnTo>
                      <a:pt x="81" y="2352"/>
                    </a:lnTo>
                    <a:lnTo>
                      <a:pt x="110" y="2436"/>
                    </a:lnTo>
                    <a:lnTo>
                      <a:pt x="142" y="2518"/>
                    </a:lnTo>
                    <a:lnTo>
                      <a:pt x="178" y="2598"/>
                    </a:lnTo>
                    <a:lnTo>
                      <a:pt x="218" y="2676"/>
                    </a:lnTo>
                    <a:lnTo>
                      <a:pt x="262" y="2752"/>
                    </a:lnTo>
                    <a:lnTo>
                      <a:pt x="310" y="2826"/>
                    </a:lnTo>
                    <a:lnTo>
                      <a:pt x="359" y="2896"/>
                    </a:lnTo>
                    <a:lnTo>
                      <a:pt x="413" y="2965"/>
                    </a:lnTo>
                    <a:lnTo>
                      <a:pt x="471" y="3031"/>
                    </a:lnTo>
                    <a:lnTo>
                      <a:pt x="530" y="3094"/>
                    </a:lnTo>
                    <a:lnTo>
                      <a:pt x="594" y="3153"/>
                    </a:lnTo>
                    <a:lnTo>
                      <a:pt x="659" y="3210"/>
                    </a:lnTo>
                    <a:lnTo>
                      <a:pt x="728" y="3264"/>
                    </a:lnTo>
                    <a:lnTo>
                      <a:pt x="799" y="3315"/>
                    </a:lnTo>
                    <a:lnTo>
                      <a:pt x="873" y="3361"/>
                    </a:lnTo>
                    <a:lnTo>
                      <a:pt x="948" y="3406"/>
                    </a:lnTo>
                    <a:lnTo>
                      <a:pt x="1026" y="3446"/>
                    </a:lnTo>
                    <a:lnTo>
                      <a:pt x="1107" y="3481"/>
                    </a:lnTo>
                    <a:lnTo>
                      <a:pt x="1189" y="3515"/>
                    </a:lnTo>
                    <a:lnTo>
                      <a:pt x="1274" y="3543"/>
                    </a:lnTo>
                    <a:lnTo>
                      <a:pt x="1359" y="3567"/>
                    </a:lnTo>
                    <a:lnTo>
                      <a:pt x="1446" y="3587"/>
                    </a:lnTo>
                    <a:lnTo>
                      <a:pt x="1536" y="3603"/>
                    </a:lnTo>
                    <a:lnTo>
                      <a:pt x="1627" y="3615"/>
                    </a:lnTo>
                    <a:lnTo>
                      <a:pt x="1719" y="3622"/>
                    </a:lnTo>
                    <a:lnTo>
                      <a:pt x="1812" y="3624"/>
                    </a:lnTo>
                    <a:lnTo>
                      <a:pt x="1866" y="3624"/>
                    </a:lnTo>
                    <a:lnTo>
                      <a:pt x="1919" y="3621"/>
                    </a:lnTo>
                    <a:lnTo>
                      <a:pt x="1970" y="3617"/>
                    </a:lnTo>
                    <a:lnTo>
                      <a:pt x="2022" y="3612"/>
                    </a:lnTo>
                    <a:lnTo>
                      <a:pt x="2074" y="3605"/>
                    </a:lnTo>
                    <a:lnTo>
                      <a:pt x="2126" y="3597"/>
                    </a:lnTo>
                    <a:lnTo>
                      <a:pt x="2176" y="3587"/>
                    </a:lnTo>
                    <a:lnTo>
                      <a:pt x="2227" y="3576"/>
                    </a:lnTo>
                    <a:lnTo>
                      <a:pt x="2276" y="3564"/>
                    </a:lnTo>
                    <a:lnTo>
                      <a:pt x="2325" y="3550"/>
                    </a:lnTo>
                    <a:lnTo>
                      <a:pt x="2374" y="3535"/>
                    </a:lnTo>
                    <a:lnTo>
                      <a:pt x="2421" y="3519"/>
                    </a:lnTo>
                    <a:lnTo>
                      <a:pt x="2469" y="3502"/>
                    </a:lnTo>
                    <a:lnTo>
                      <a:pt x="2515" y="3482"/>
                    </a:lnTo>
                    <a:lnTo>
                      <a:pt x="2562" y="3463"/>
                    </a:lnTo>
                    <a:lnTo>
                      <a:pt x="2607" y="3441"/>
                    </a:lnTo>
                    <a:lnTo>
                      <a:pt x="2589" y="3404"/>
                    </a:lnTo>
                    <a:lnTo>
                      <a:pt x="2544" y="3424"/>
                    </a:lnTo>
                    <a:lnTo>
                      <a:pt x="2499" y="3445"/>
                    </a:lnTo>
                    <a:lnTo>
                      <a:pt x="2453" y="3463"/>
                    </a:lnTo>
                    <a:lnTo>
                      <a:pt x="2407" y="3480"/>
                    </a:lnTo>
                    <a:lnTo>
                      <a:pt x="2361" y="3496"/>
                    </a:lnTo>
                    <a:lnTo>
                      <a:pt x="2313" y="3510"/>
                    </a:lnTo>
                    <a:lnTo>
                      <a:pt x="2265" y="3524"/>
                    </a:lnTo>
                    <a:lnTo>
                      <a:pt x="2217" y="3536"/>
                    </a:lnTo>
                    <a:lnTo>
                      <a:pt x="2168" y="3547"/>
                    </a:lnTo>
                    <a:lnTo>
                      <a:pt x="2119" y="3556"/>
                    </a:lnTo>
                    <a:lnTo>
                      <a:pt x="2069" y="3564"/>
                    </a:lnTo>
                    <a:lnTo>
                      <a:pt x="2018" y="3571"/>
                    </a:lnTo>
                    <a:lnTo>
                      <a:pt x="1967" y="3576"/>
                    </a:lnTo>
                    <a:lnTo>
                      <a:pt x="1915" y="3580"/>
                    </a:lnTo>
                    <a:lnTo>
                      <a:pt x="1865" y="3582"/>
                    </a:lnTo>
                    <a:lnTo>
                      <a:pt x="1812" y="3583"/>
                    </a:lnTo>
                    <a:lnTo>
                      <a:pt x="1721" y="3581"/>
                    </a:lnTo>
                    <a:lnTo>
                      <a:pt x="1631" y="3573"/>
                    </a:lnTo>
                    <a:lnTo>
                      <a:pt x="1543" y="3562"/>
                    </a:lnTo>
                    <a:lnTo>
                      <a:pt x="1455" y="3546"/>
                    </a:lnTo>
                    <a:lnTo>
                      <a:pt x="1370" y="3527"/>
                    </a:lnTo>
                    <a:lnTo>
                      <a:pt x="1285" y="3503"/>
                    </a:lnTo>
                    <a:lnTo>
                      <a:pt x="1203" y="3475"/>
                    </a:lnTo>
                    <a:lnTo>
                      <a:pt x="1123" y="3443"/>
                    </a:lnTo>
                    <a:lnTo>
                      <a:pt x="1044" y="3408"/>
                    </a:lnTo>
                    <a:lnTo>
                      <a:pt x="968" y="3369"/>
                    </a:lnTo>
                    <a:lnTo>
                      <a:pt x="894" y="3326"/>
                    </a:lnTo>
                    <a:lnTo>
                      <a:pt x="822" y="3280"/>
                    </a:lnTo>
                    <a:lnTo>
                      <a:pt x="753" y="3231"/>
                    </a:lnTo>
                    <a:lnTo>
                      <a:pt x="686" y="3178"/>
                    </a:lnTo>
                    <a:lnTo>
                      <a:pt x="622" y="3123"/>
                    </a:lnTo>
                    <a:lnTo>
                      <a:pt x="560" y="3064"/>
                    </a:lnTo>
                    <a:lnTo>
                      <a:pt x="501" y="3003"/>
                    </a:lnTo>
                    <a:lnTo>
                      <a:pt x="446" y="2938"/>
                    </a:lnTo>
                    <a:lnTo>
                      <a:pt x="393" y="2871"/>
                    </a:lnTo>
                    <a:lnTo>
                      <a:pt x="343" y="2802"/>
                    </a:lnTo>
                    <a:lnTo>
                      <a:pt x="298" y="2731"/>
                    </a:lnTo>
                    <a:lnTo>
                      <a:pt x="255" y="2656"/>
                    </a:lnTo>
                    <a:lnTo>
                      <a:pt x="216" y="2579"/>
                    </a:lnTo>
                    <a:lnTo>
                      <a:pt x="180" y="2502"/>
                    </a:lnTo>
                    <a:lnTo>
                      <a:pt x="149" y="2421"/>
                    </a:lnTo>
                    <a:lnTo>
                      <a:pt x="121" y="2339"/>
                    </a:lnTo>
                    <a:lnTo>
                      <a:pt x="97" y="2254"/>
                    </a:lnTo>
                    <a:lnTo>
                      <a:pt x="77" y="2169"/>
                    </a:lnTo>
                    <a:lnTo>
                      <a:pt x="61" y="2082"/>
                    </a:lnTo>
                    <a:lnTo>
                      <a:pt x="50" y="1993"/>
                    </a:lnTo>
                    <a:lnTo>
                      <a:pt x="44" y="1903"/>
                    </a:lnTo>
                    <a:lnTo>
                      <a:pt x="42" y="1813"/>
                    </a:lnTo>
                    <a:lnTo>
                      <a:pt x="44" y="1721"/>
                    </a:lnTo>
                    <a:lnTo>
                      <a:pt x="50" y="1631"/>
                    </a:lnTo>
                    <a:lnTo>
                      <a:pt x="61" y="1543"/>
                    </a:lnTo>
                    <a:lnTo>
                      <a:pt x="77" y="1455"/>
                    </a:lnTo>
                    <a:lnTo>
                      <a:pt x="97" y="1370"/>
                    </a:lnTo>
                    <a:lnTo>
                      <a:pt x="121" y="1286"/>
                    </a:lnTo>
                    <a:lnTo>
                      <a:pt x="149" y="1204"/>
                    </a:lnTo>
                    <a:lnTo>
                      <a:pt x="180" y="1124"/>
                    </a:lnTo>
                    <a:lnTo>
                      <a:pt x="216" y="1045"/>
                    </a:lnTo>
                    <a:lnTo>
                      <a:pt x="255" y="969"/>
                    </a:lnTo>
                    <a:lnTo>
                      <a:pt x="298" y="895"/>
                    </a:lnTo>
                    <a:lnTo>
                      <a:pt x="343" y="822"/>
                    </a:lnTo>
                    <a:lnTo>
                      <a:pt x="393" y="753"/>
                    </a:lnTo>
                    <a:lnTo>
                      <a:pt x="446" y="686"/>
                    </a:lnTo>
                    <a:lnTo>
                      <a:pt x="501" y="623"/>
                    </a:lnTo>
                    <a:lnTo>
                      <a:pt x="560" y="561"/>
                    </a:lnTo>
                    <a:lnTo>
                      <a:pt x="622" y="503"/>
                    </a:lnTo>
                    <a:lnTo>
                      <a:pt x="686" y="446"/>
                    </a:lnTo>
                    <a:lnTo>
                      <a:pt x="753" y="394"/>
                    </a:lnTo>
                    <a:lnTo>
                      <a:pt x="822" y="345"/>
                    </a:lnTo>
                    <a:lnTo>
                      <a:pt x="894" y="299"/>
                    </a:lnTo>
                    <a:lnTo>
                      <a:pt x="968" y="256"/>
                    </a:lnTo>
                    <a:lnTo>
                      <a:pt x="1044" y="216"/>
                    </a:lnTo>
                    <a:lnTo>
                      <a:pt x="1123" y="182"/>
                    </a:lnTo>
                    <a:lnTo>
                      <a:pt x="1203" y="149"/>
                    </a:lnTo>
                    <a:lnTo>
                      <a:pt x="1285" y="121"/>
                    </a:lnTo>
                    <a:lnTo>
                      <a:pt x="1370" y="98"/>
                    </a:lnTo>
                    <a:lnTo>
                      <a:pt x="1455" y="78"/>
                    </a:lnTo>
                    <a:lnTo>
                      <a:pt x="1543" y="63"/>
                    </a:lnTo>
                    <a:lnTo>
                      <a:pt x="1631" y="51"/>
                    </a:lnTo>
                    <a:lnTo>
                      <a:pt x="1721" y="45"/>
                    </a:lnTo>
                    <a:lnTo>
                      <a:pt x="1812" y="43"/>
                    </a:lnTo>
                    <a:lnTo>
                      <a:pt x="1903" y="45"/>
                    </a:lnTo>
                    <a:lnTo>
                      <a:pt x="1993" y="51"/>
                    </a:lnTo>
                    <a:lnTo>
                      <a:pt x="2082" y="63"/>
                    </a:lnTo>
                    <a:lnTo>
                      <a:pt x="2169" y="78"/>
                    </a:lnTo>
                    <a:lnTo>
                      <a:pt x="2255" y="98"/>
                    </a:lnTo>
                    <a:lnTo>
                      <a:pt x="2339" y="121"/>
                    </a:lnTo>
                    <a:lnTo>
                      <a:pt x="2421" y="149"/>
                    </a:lnTo>
                    <a:lnTo>
                      <a:pt x="2501" y="182"/>
                    </a:lnTo>
                    <a:lnTo>
                      <a:pt x="2580" y="216"/>
                    </a:lnTo>
                    <a:lnTo>
                      <a:pt x="2657" y="256"/>
                    </a:lnTo>
                    <a:lnTo>
                      <a:pt x="2730" y="299"/>
                    </a:lnTo>
                    <a:lnTo>
                      <a:pt x="2802" y="345"/>
                    </a:lnTo>
                    <a:lnTo>
                      <a:pt x="2872" y="394"/>
                    </a:lnTo>
                    <a:lnTo>
                      <a:pt x="2939" y="446"/>
                    </a:lnTo>
                    <a:lnTo>
                      <a:pt x="3002" y="503"/>
                    </a:lnTo>
                    <a:lnTo>
                      <a:pt x="3064" y="561"/>
                    </a:lnTo>
                    <a:lnTo>
                      <a:pt x="3123" y="623"/>
                    </a:lnTo>
                    <a:lnTo>
                      <a:pt x="3179" y="686"/>
                    </a:lnTo>
                    <a:lnTo>
                      <a:pt x="3231" y="753"/>
                    </a:lnTo>
                    <a:lnTo>
                      <a:pt x="3280" y="822"/>
                    </a:lnTo>
                    <a:lnTo>
                      <a:pt x="3327" y="895"/>
                    </a:lnTo>
                    <a:lnTo>
                      <a:pt x="3370" y="969"/>
                    </a:lnTo>
                    <a:lnTo>
                      <a:pt x="3409" y="1045"/>
                    </a:lnTo>
                    <a:lnTo>
                      <a:pt x="3444" y="1124"/>
                    </a:lnTo>
                    <a:lnTo>
                      <a:pt x="3476" y="1204"/>
                    </a:lnTo>
                    <a:lnTo>
                      <a:pt x="3504" y="1286"/>
                    </a:lnTo>
                    <a:lnTo>
                      <a:pt x="3528" y="1370"/>
                    </a:lnTo>
                    <a:lnTo>
                      <a:pt x="3547" y="1455"/>
                    </a:lnTo>
                    <a:lnTo>
                      <a:pt x="3563" y="1543"/>
                    </a:lnTo>
                    <a:lnTo>
                      <a:pt x="3574" y="1631"/>
                    </a:lnTo>
                    <a:lnTo>
                      <a:pt x="3580" y="1721"/>
                    </a:lnTo>
                    <a:lnTo>
                      <a:pt x="3583" y="1813"/>
                    </a:lnTo>
                    <a:lnTo>
                      <a:pt x="3582" y="1872"/>
                    </a:lnTo>
                    <a:lnTo>
                      <a:pt x="3579" y="1930"/>
                    </a:lnTo>
                    <a:lnTo>
                      <a:pt x="3574" y="1990"/>
                    </a:lnTo>
                    <a:lnTo>
                      <a:pt x="3568" y="2047"/>
                    </a:lnTo>
                    <a:lnTo>
                      <a:pt x="3559" y="2104"/>
                    </a:lnTo>
                    <a:lnTo>
                      <a:pt x="3548" y="2162"/>
                    </a:lnTo>
                    <a:lnTo>
                      <a:pt x="3536" y="2218"/>
                    </a:lnTo>
                    <a:lnTo>
                      <a:pt x="3522" y="2273"/>
                    </a:lnTo>
                    <a:lnTo>
                      <a:pt x="3563" y="2284"/>
                    </a:lnTo>
                    <a:lnTo>
                      <a:pt x="3577" y="2226"/>
                    </a:lnTo>
                    <a:lnTo>
                      <a:pt x="3589" y="2169"/>
                    </a:lnTo>
                    <a:lnTo>
                      <a:pt x="3600" y="2112"/>
                    </a:lnTo>
                    <a:lnTo>
                      <a:pt x="3609" y="2052"/>
                    </a:lnTo>
                    <a:lnTo>
                      <a:pt x="3616" y="1993"/>
                    </a:lnTo>
                    <a:lnTo>
                      <a:pt x="3620" y="1934"/>
                    </a:lnTo>
                    <a:lnTo>
                      <a:pt x="3624" y="1873"/>
                    </a:lnTo>
                    <a:lnTo>
                      <a:pt x="3625" y="1813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62440" y="2286000"/>
                <a:ext cx="1422360" cy="1422360"/>
              </a:xfrm>
              <a:custGeom>
                <a:avLst/>
                <a:gdLst/>
                <a:ahLst/>
                <a:rect l="l" t="t" r="r" b="b"/>
                <a:pathLst>
                  <a:path w="3584" h="3582">
                    <a:moveTo>
                      <a:pt x="3584" y="1792"/>
                    </a:moveTo>
                    <a:lnTo>
                      <a:pt x="3582" y="1699"/>
                    </a:lnTo>
                    <a:lnTo>
                      <a:pt x="3575" y="1608"/>
                    </a:lnTo>
                    <a:lnTo>
                      <a:pt x="3564" y="1518"/>
                    </a:lnTo>
                    <a:lnTo>
                      <a:pt x="3548" y="1431"/>
                    </a:lnTo>
                    <a:lnTo>
                      <a:pt x="3527" y="1343"/>
                    </a:lnTo>
                    <a:lnTo>
                      <a:pt x="3503" y="1259"/>
                    </a:lnTo>
                    <a:lnTo>
                      <a:pt x="3475" y="1176"/>
                    </a:lnTo>
                    <a:lnTo>
                      <a:pt x="3443" y="1094"/>
                    </a:lnTo>
                    <a:lnTo>
                      <a:pt x="3407" y="1015"/>
                    </a:lnTo>
                    <a:lnTo>
                      <a:pt x="3368" y="937"/>
                    </a:lnTo>
                    <a:lnTo>
                      <a:pt x="3325" y="863"/>
                    </a:lnTo>
                    <a:lnTo>
                      <a:pt x="3277" y="791"/>
                    </a:lnTo>
                    <a:lnTo>
                      <a:pt x="3228" y="720"/>
                    </a:lnTo>
                    <a:lnTo>
                      <a:pt x="3175" y="652"/>
                    </a:lnTo>
                    <a:lnTo>
                      <a:pt x="3119" y="587"/>
                    </a:lnTo>
                    <a:lnTo>
                      <a:pt x="3059" y="525"/>
                    </a:lnTo>
                    <a:lnTo>
                      <a:pt x="2996" y="465"/>
                    </a:lnTo>
                    <a:lnTo>
                      <a:pt x="2932" y="409"/>
                    </a:lnTo>
                    <a:lnTo>
                      <a:pt x="2865" y="356"/>
                    </a:lnTo>
                    <a:lnTo>
                      <a:pt x="2794" y="307"/>
                    </a:lnTo>
                    <a:lnTo>
                      <a:pt x="2721" y="260"/>
                    </a:lnTo>
                    <a:lnTo>
                      <a:pt x="2646" y="217"/>
                    </a:lnTo>
                    <a:lnTo>
                      <a:pt x="2569" y="177"/>
                    </a:lnTo>
                    <a:lnTo>
                      <a:pt x="2490" y="141"/>
                    </a:lnTo>
                    <a:lnTo>
                      <a:pt x="2409" y="109"/>
                    </a:lnTo>
                    <a:lnTo>
                      <a:pt x="2325" y="81"/>
                    </a:lnTo>
                    <a:lnTo>
                      <a:pt x="2240" y="57"/>
                    </a:lnTo>
                    <a:lnTo>
                      <a:pt x="2154" y="37"/>
                    </a:lnTo>
                    <a:lnTo>
                      <a:pt x="2065" y="22"/>
                    </a:lnTo>
                    <a:lnTo>
                      <a:pt x="1975" y="10"/>
                    </a:lnTo>
                    <a:lnTo>
                      <a:pt x="1885" y="3"/>
                    </a:lnTo>
                    <a:lnTo>
                      <a:pt x="1792" y="0"/>
                    </a:lnTo>
                    <a:lnTo>
                      <a:pt x="1700" y="3"/>
                    </a:lnTo>
                    <a:lnTo>
                      <a:pt x="1609" y="10"/>
                    </a:lnTo>
                    <a:lnTo>
                      <a:pt x="1519" y="22"/>
                    </a:lnTo>
                    <a:lnTo>
                      <a:pt x="1431" y="37"/>
                    </a:lnTo>
                    <a:lnTo>
                      <a:pt x="1344" y="57"/>
                    </a:lnTo>
                    <a:lnTo>
                      <a:pt x="1259" y="81"/>
                    </a:lnTo>
                    <a:lnTo>
                      <a:pt x="1176" y="109"/>
                    </a:lnTo>
                    <a:lnTo>
                      <a:pt x="1095" y="141"/>
                    </a:lnTo>
                    <a:lnTo>
                      <a:pt x="1016" y="177"/>
                    </a:lnTo>
                    <a:lnTo>
                      <a:pt x="938" y="217"/>
                    </a:lnTo>
                    <a:lnTo>
                      <a:pt x="863" y="260"/>
                    </a:lnTo>
                    <a:lnTo>
                      <a:pt x="790" y="307"/>
                    </a:lnTo>
                    <a:lnTo>
                      <a:pt x="720" y="356"/>
                    </a:lnTo>
                    <a:lnTo>
                      <a:pt x="653" y="409"/>
                    </a:lnTo>
                    <a:lnTo>
                      <a:pt x="588" y="465"/>
                    </a:lnTo>
                    <a:lnTo>
                      <a:pt x="525" y="525"/>
                    </a:lnTo>
                    <a:lnTo>
                      <a:pt x="466" y="587"/>
                    </a:lnTo>
                    <a:lnTo>
                      <a:pt x="410" y="652"/>
                    </a:lnTo>
                    <a:lnTo>
                      <a:pt x="357" y="720"/>
                    </a:lnTo>
                    <a:lnTo>
                      <a:pt x="306" y="791"/>
                    </a:lnTo>
                    <a:lnTo>
                      <a:pt x="259" y="863"/>
                    </a:lnTo>
                    <a:lnTo>
                      <a:pt x="216" y="937"/>
                    </a:lnTo>
                    <a:lnTo>
                      <a:pt x="177" y="1015"/>
                    </a:lnTo>
                    <a:lnTo>
                      <a:pt x="142" y="1094"/>
                    </a:lnTo>
                    <a:lnTo>
                      <a:pt x="109" y="1176"/>
                    </a:lnTo>
                    <a:lnTo>
                      <a:pt x="81" y="1259"/>
                    </a:lnTo>
                    <a:lnTo>
                      <a:pt x="56" y="1343"/>
                    </a:lnTo>
                    <a:lnTo>
                      <a:pt x="37" y="1431"/>
                    </a:lnTo>
                    <a:lnTo>
                      <a:pt x="21" y="1518"/>
                    </a:lnTo>
                    <a:lnTo>
                      <a:pt x="10" y="1608"/>
                    </a:lnTo>
                    <a:lnTo>
                      <a:pt x="2" y="1699"/>
                    </a:lnTo>
                    <a:lnTo>
                      <a:pt x="0" y="1792"/>
                    </a:lnTo>
                    <a:lnTo>
                      <a:pt x="2" y="1883"/>
                    </a:lnTo>
                    <a:lnTo>
                      <a:pt x="10" y="1974"/>
                    </a:lnTo>
                    <a:lnTo>
                      <a:pt x="21" y="2064"/>
                    </a:lnTo>
                    <a:lnTo>
                      <a:pt x="37" y="2152"/>
                    </a:lnTo>
                    <a:lnTo>
                      <a:pt x="56" y="2239"/>
                    </a:lnTo>
                    <a:lnTo>
                      <a:pt x="81" y="2324"/>
                    </a:lnTo>
                    <a:lnTo>
                      <a:pt x="109" y="2407"/>
                    </a:lnTo>
                    <a:lnTo>
                      <a:pt x="142" y="2488"/>
                    </a:lnTo>
                    <a:lnTo>
                      <a:pt x="177" y="2568"/>
                    </a:lnTo>
                    <a:lnTo>
                      <a:pt x="216" y="2645"/>
                    </a:lnTo>
                    <a:lnTo>
                      <a:pt x="259" y="2720"/>
                    </a:lnTo>
                    <a:lnTo>
                      <a:pt x="306" y="2793"/>
                    </a:lnTo>
                    <a:lnTo>
                      <a:pt x="357" y="2863"/>
                    </a:lnTo>
                    <a:lnTo>
                      <a:pt x="410" y="2931"/>
                    </a:lnTo>
                    <a:lnTo>
                      <a:pt x="466" y="2996"/>
                    </a:lnTo>
                    <a:lnTo>
                      <a:pt x="525" y="3057"/>
                    </a:lnTo>
                    <a:lnTo>
                      <a:pt x="588" y="3117"/>
                    </a:lnTo>
                    <a:lnTo>
                      <a:pt x="653" y="3173"/>
                    </a:lnTo>
                    <a:lnTo>
                      <a:pt x="720" y="3227"/>
                    </a:lnTo>
                    <a:lnTo>
                      <a:pt x="790" y="3277"/>
                    </a:lnTo>
                    <a:lnTo>
                      <a:pt x="863" y="3323"/>
                    </a:lnTo>
                    <a:lnTo>
                      <a:pt x="938" y="3366"/>
                    </a:lnTo>
                    <a:lnTo>
                      <a:pt x="1016" y="3405"/>
                    </a:lnTo>
                    <a:lnTo>
                      <a:pt x="1095" y="3442"/>
                    </a:lnTo>
                    <a:lnTo>
                      <a:pt x="1176" y="3473"/>
                    </a:lnTo>
                    <a:lnTo>
                      <a:pt x="1259" y="3501"/>
                    </a:lnTo>
                    <a:lnTo>
                      <a:pt x="1344" y="3526"/>
                    </a:lnTo>
                    <a:lnTo>
                      <a:pt x="1431" y="3546"/>
                    </a:lnTo>
                    <a:lnTo>
                      <a:pt x="1519" y="3562"/>
                    </a:lnTo>
                    <a:lnTo>
                      <a:pt x="1609" y="3573"/>
                    </a:lnTo>
                    <a:lnTo>
                      <a:pt x="1700" y="3580"/>
                    </a:lnTo>
                    <a:lnTo>
                      <a:pt x="1792" y="3582"/>
                    </a:lnTo>
                    <a:lnTo>
                      <a:pt x="1845" y="3581"/>
                    </a:lnTo>
                    <a:lnTo>
                      <a:pt x="1898" y="3579"/>
                    </a:lnTo>
                    <a:lnTo>
                      <a:pt x="1949" y="3576"/>
                    </a:lnTo>
                    <a:lnTo>
                      <a:pt x="2000" y="3570"/>
                    </a:lnTo>
                    <a:lnTo>
                      <a:pt x="2051" y="3564"/>
                    </a:lnTo>
                    <a:lnTo>
                      <a:pt x="2102" y="3555"/>
                    </a:lnTo>
                    <a:lnTo>
                      <a:pt x="2153" y="3547"/>
                    </a:lnTo>
                    <a:lnTo>
                      <a:pt x="2201" y="3535"/>
                    </a:lnTo>
                    <a:lnTo>
                      <a:pt x="2251" y="3523"/>
                    </a:lnTo>
                    <a:lnTo>
                      <a:pt x="2299" y="3510"/>
                    </a:lnTo>
                    <a:lnTo>
                      <a:pt x="2347" y="3495"/>
                    </a:lnTo>
                    <a:lnTo>
                      <a:pt x="2395" y="3479"/>
                    </a:lnTo>
                    <a:lnTo>
                      <a:pt x="2441" y="3461"/>
                    </a:lnTo>
                    <a:lnTo>
                      <a:pt x="2488" y="3442"/>
                    </a:lnTo>
                    <a:lnTo>
                      <a:pt x="2533" y="3422"/>
                    </a:lnTo>
                    <a:lnTo>
                      <a:pt x="2577" y="3401"/>
                    </a:lnTo>
                    <a:lnTo>
                      <a:pt x="2560" y="3364"/>
                    </a:lnTo>
                    <a:lnTo>
                      <a:pt x="2516" y="3385"/>
                    </a:lnTo>
                    <a:lnTo>
                      <a:pt x="2471" y="3404"/>
                    </a:lnTo>
                    <a:lnTo>
                      <a:pt x="2426" y="3422"/>
                    </a:lnTo>
                    <a:lnTo>
                      <a:pt x="2381" y="3440"/>
                    </a:lnTo>
                    <a:lnTo>
                      <a:pt x="2334" y="3455"/>
                    </a:lnTo>
                    <a:lnTo>
                      <a:pt x="2288" y="3470"/>
                    </a:lnTo>
                    <a:lnTo>
                      <a:pt x="2240" y="3483"/>
                    </a:lnTo>
                    <a:lnTo>
                      <a:pt x="2193" y="3495"/>
                    </a:lnTo>
                    <a:lnTo>
                      <a:pt x="2144" y="3506"/>
                    </a:lnTo>
                    <a:lnTo>
                      <a:pt x="2095" y="3514"/>
                    </a:lnTo>
                    <a:lnTo>
                      <a:pt x="2046" y="3523"/>
                    </a:lnTo>
                    <a:lnTo>
                      <a:pt x="1996" y="3529"/>
                    </a:lnTo>
                    <a:lnTo>
                      <a:pt x="1945" y="3534"/>
                    </a:lnTo>
                    <a:lnTo>
                      <a:pt x="1894" y="3538"/>
                    </a:lnTo>
                    <a:lnTo>
                      <a:pt x="1844" y="3540"/>
                    </a:lnTo>
                    <a:lnTo>
                      <a:pt x="1792" y="3540"/>
                    </a:lnTo>
                    <a:lnTo>
                      <a:pt x="1702" y="3538"/>
                    </a:lnTo>
                    <a:lnTo>
                      <a:pt x="1613" y="3532"/>
                    </a:lnTo>
                    <a:lnTo>
                      <a:pt x="1526" y="3521"/>
                    </a:lnTo>
                    <a:lnTo>
                      <a:pt x="1439" y="3506"/>
                    </a:lnTo>
                    <a:lnTo>
                      <a:pt x="1355" y="3485"/>
                    </a:lnTo>
                    <a:lnTo>
                      <a:pt x="1272" y="3462"/>
                    </a:lnTo>
                    <a:lnTo>
                      <a:pt x="1191" y="3434"/>
                    </a:lnTo>
                    <a:lnTo>
                      <a:pt x="1111" y="3403"/>
                    </a:lnTo>
                    <a:lnTo>
                      <a:pt x="1033" y="3368"/>
                    </a:lnTo>
                    <a:lnTo>
                      <a:pt x="957" y="3330"/>
                    </a:lnTo>
                    <a:lnTo>
                      <a:pt x="885" y="3287"/>
                    </a:lnTo>
                    <a:lnTo>
                      <a:pt x="814" y="3242"/>
                    </a:lnTo>
                    <a:lnTo>
                      <a:pt x="745" y="3194"/>
                    </a:lnTo>
                    <a:lnTo>
                      <a:pt x="679" y="3142"/>
                    </a:lnTo>
                    <a:lnTo>
                      <a:pt x="615" y="3087"/>
                    </a:lnTo>
                    <a:lnTo>
                      <a:pt x="554" y="3028"/>
                    </a:lnTo>
                    <a:lnTo>
                      <a:pt x="497" y="2968"/>
                    </a:lnTo>
                    <a:lnTo>
                      <a:pt x="442" y="2904"/>
                    </a:lnTo>
                    <a:lnTo>
                      <a:pt x="390" y="2838"/>
                    </a:lnTo>
                    <a:lnTo>
                      <a:pt x="340" y="2769"/>
                    </a:lnTo>
                    <a:lnTo>
                      <a:pt x="295" y="2699"/>
                    </a:lnTo>
                    <a:lnTo>
                      <a:pt x="253" y="2625"/>
                    </a:lnTo>
                    <a:lnTo>
                      <a:pt x="215" y="2550"/>
                    </a:lnTo>
                    <a:lnTo>
                      <a:pt x="179" y="2472"/>
                    </a:lnTo>
                    <a:lnTo>
                      <a:pt x="148" y="2393"/>
                    </a:lnTo>
                    <a:lnTo>
                      <a:pt x="121" y="2311"/>
                    </a:lnTo>
                    <a:lnTo>
                      <a:pt x="97" y="2229"/>
                    </a:lnTo>
                    <a:lnTo>
                      <a:pt x="78" y="2144"/>
                    </a:lnTo>
                    <a:lnTo>
                      <a:pt x="63" y="2057"/>
                    </a:lnTo>
                    <a:lnTo>
                      <a:pt x="51" y="1970"/>
                    </a:lnTo>
                    <a:lnTo>
                      <a:pt x="44" y="1881"/>
                    </a:lnTo>
                    <a:lnTo>
                      <a:pt x="42" y="1792"/>
                    </a:lnTo>
                    <a:lnTo>
                      <a:pt x="44" y="1701"/>
                    </a:lnTo>
                    <a:lnTo>
                      <a:pt x="51" y="1612"/>
                    </a:lnTo>
                    <a:lnTo>
                      <a:pt x="63" y="1525"/>
                    </a:lnTo>
                    <a:lnTo>
                      <a:pt x="78" y="1439"/>
                    </a:lnTo>
                    <a:lnTo>
                      <a:pt x="97" y="1354"/>
                    </a:lnTo>
                    <a:lnTo>
                      <a:pt x="121" y="1271"/>
                    </a:lnTo>
                    <a:lnTo>
                      <a:pt x="148" y="1190"/>
                    </a:lnTo>
                    <a:lnTo>
                      <a:pt x="179" y="1110"/>
                    </a:lnTo>
                    <a:lnTo>
                      <a:pt x="215" y="1034"/>
                    </a:lnTo>
                    <a:lnTo>
                      <a:pt x="253" y="958"/>
                    </a:lnTo>
                    <a:lnTo>
                      <a:pt x="295" y="884"/>
                    </a:lnTo>
                    <a:lnTo>
                      <a:pt x="340" y="813"/>
                    </a:lnTo>
                    <a:lnTo>
                      <a:pt x="390" y="745"/>
                    </a:lnTo>
                    <a:lnTo>
                      <a:pt x="442" y="679"/>
                    </a:lnTo>
                    <a:lnTo>
                      <a:pt x="497" y="616"/>
                    </a:lnTo>
                    <a:lnTo>
                      <a:pt x="554" y="554"/>
                    </a:lnTo>
                    <a:lnTo>
                      <a:pt x="615" y="497"/>
                    </a:lnTo>
                    <a:lnTo>
                      <a:pt x="679" y="442"/>
                    </a:lnTo>
                    <a:lnTo>
                      <a:pt x="745" y="390"/>
                    </a:lnTo>
                    <a:lnTo>
                      <a:pt x="814" y="341"/>
                    </a:lnTo>
                    <a:lnTo>
                      <a:pt x="885" y="296"/>
                    </a:lnTo>
                    <a:lnTo>
                      <a:pt x="957" y="254"/>
                    </a:lnTo>
                    <a:lnTo>
                      <a:pt x="1033" y="215"/>
                    </a:lnTo>
                    <a:lnTo>
                      <a:pt x="1111" y="179"/>
                    </a:lnTo>
                    <a:lnTo>
                      <a:pt x="1191" y="148"/>
                    </a:lnTo>
                    <a:lnTo>
                      <a:pt x="1272" y="121"/>
                    </a:lnTo>
                    <a:lnTo>
                      <a:pt x="1355" y="97"/>
                    </a:lnTo>
                    <a:lnTo>
                      <a:pt x="1439" y="78"/>
                    </a:lnTo>
                    <a:lnTo>
                      <a:pt x="1526" y="63"/>
                    </a:lnTo>
                    <a:lnTo>
                      <a:pt x="1613" y="51"/>
                    </a:lnTo>
                    <a:lnTo>
                      <a:pt x="1702" y="44"/>
                    </a:lnTo>
                    <a:lnTo>
                      <a:pt x="1792" y="42"/>
                    </a:lnTo>
                    <a:lnTo>
                      <a:pt x="1882" y="44"/>
                    </a:lnTo>
                    <a:lnTo>
                      <a:pt x="1971" y="51"/>
                    </a:lnTo>
                    <a:lnTo>
                      <a:pt x="2059" y="63"/>
                    </a:lnTo>
                    <a:lnTo>
                      <a:pt x="2145" y="78"/>
                    </a:lnTo>
                    <a:lnTo>
                      <a:pt x="2229" y="97"/>
                    </a:lnTo>
                    <a:lnTo>
                      <a:pt x="2312" y="121"/>
                    </a:lnTo>
                    <a:lnTo>
                      <a:pt x="2394" y="148"/>
                    </a:lnTo>
                    <a:lnTo>
                      <a:pt x="2473" y="179"/>
                    </a:lnTo>
                    <a:lnTo>
                      <a:pt x="2551" y="215"/>
                    </a:lnTo>
                    <a:lnTo>
                      <a:pt x="2626" y="254"/>
                    </a:lnTo>
                    <a:lnTo>
                      <a:pt x="2699" y="296"/>
                    </a:lnTo>
                    <a:lnTo>
                      <a:pt x="2771" y="341"/>
                    </a:lnTo>
                    <a:lnTo>
                      <a:pt x="2839" y="390"/>
                    </a:lnTo>
                    <a:lnTo>
                      <a:pt x="2906" y="442"/>
                    </a:lnTo>
                    <a:lnTo>
                      <a:pt x="2968" y="497"/>
                    </a:lnTo>
                    <a:lnTo>
                      <a:pt x="3030" y="554"/>
                    </a:lnTo>
                    <a:lnTo>
                      <a:pt x="3087" y="616"/>
                    </a:lnTo>
                    <a:lnTo>
                      <a:pt x="3142" y="679"/>
                    </a:lnTo>
                    <a:lnTo>
                      <a:pt x="3194" y="745"/>
                    </a:lnTo>
                    <a:lnTo>
                      <a:pt x="3243" y="813"/>
                    </a:lnTo>
                    <a:lnTo>
                      <a:pt x="3289" y="884"/>
                    </a:lnTo>
                    <a:lnTo>
                      <a:pt x="3331" y="958"/>
                    </a:lnTo>
                    <a:lnTo>
                      <a:pt x="3369" y="1034"/>
                    </a:lnTo>
                    <a:lnTo>
                      <a:pt x="3405" y="1110"/>
                    </a:lnTo>
                    <a:lnTo>
                      <a:pt x="3436" y="1190"/>
                    </a:lnTo>
                    <a:lnTo>
                      <a:pt x="3463" y="1271"/>
                    </a:lnTo>
                    <a:lnTo>
                      <a:pt x="3487" y="1354"/>
                    </a:lnTo>
                    <a:lnTo>
                      <a:pt x="3506" y="1439"/>
                    </a:lnTo>
                    <a:lnTo>
                      <a:pt x="3522" y="1525"/>
                    </a:lnTo>
                    <a:lnTo>
                      <a:pt x="3533" y="1612"/>
                    </a:lnTo>
                    <a:lnTo>
                      <a:pt x="3540" y="1701"/>
                    </a:lnTo>
                    <a:lnTo>
                      <a:pt x="3542" y="1792"/>
                    </a:lnTo>
                    <a:lnTo>
                      <a:pt x="3541" y="1850"/>
                    </a:lnTo>
                    <a:lnTo>
                      <a:pt x="3539" y="1908"/>
                    </a:lnTo>
                    <a:lnTo>
                      <a:pt x="3533" y="1967"/>
                    </a:lnTo>
                    <a:lnTo>
                      <a:pt x="3527" y="2024"/>
                    </a:lnTo>
                    <a:lnTo>
                      <a:pt x="3518" y="2080"/>
                    </a:lnTo>
                    <a:lnTo>
                      <a:pt x="3509" y="2136"/>
                    </a:lnTo>
                    <a:lnTo>
                      <a:pt x="3496" y="2191"/>
                    </a:lnTo>
                    <a:lnTo>
                      <a:pt x="3483" y="2246"/>
                    </a:lnTo>
                    <a:lnTo>
                      <a:pt x="3523" y="2257"/>
                    </a:lnTo>
                    <a:lnTo>
                      <a:pt x="3537" y="2201"/>
                    </a:lnTo>
                    <a:lnTo>
                      <a:pt x="3549" y="2144"/>
                    </a:lnTo>
                    <a:lnTo>
                      <a:pt x="3559" y="2087"/>
                    </a:lnTo>
                    <a:lnTo>
                      <a:pt x="3568" y="2029"/>
                    </a:lnTo>
                    <a:lnTo>
                      <a:pt x="3575" y="1970"/>
                    </a:lnTo>
                    <a:lnTo>
                      <a:pt x="3580" y="1912"/>
                    </a:lnTo>
                    <a:lnTo>
                      <a:pt x="3583" y="1851"/>
                    </a:lnTo>
                    <a:lnTo>
                      <a:pt x="3584" y="1792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871800" y="2295360"/>
                <a:ext cx="1405080" cy="1405080"/>
              </a:xfrm>
              <a:custGeom>
                <a:avLst/>
                <a:gdLst/>
                <a:ahLst/>
                <a:rect l="l" t="t" r="r" b="b"/>
                <a:pathLst>
                  <a:path w="3541" h="3540">
                    <a:moveTo>
                      <a:pt x="3541" y="1770"/>
                    </a:moveTo>
                    <a:lnTo>
                      <a:pt x="3538" y="1678"/>
                    </a:lnTo>
                    <a:lnTo>
                      <a:pt x="3532" y="1588"/>
                    </a:lnTo>
                    <a:lnTo>
                      <a:pt x="3521" y="1500"/>
                    </a:lnTo>
                    <a:lnTo>
                      <a:pt x="3505" y="1412"/>
                    </a:lnTo>
                    <a:lnTo>
                      <a:pt x="3486" y="1327"/>
                    </a:lnTo>
                    <a:lnTo>
                      <a:pt x="3462" y="1243"/>
                    </a:lnTo>
                    <a:lnTo>
                      <a:pt x="3434" y="1161"/>
                    </a:lnTo>
                    <a:lnTo>
                      <a:pt x="3402" y="1081"/>
                    </a:lnTo>
                    <a:lnTo>
                      <a:pt x="3367" y="1002"/>
                    </a:lnTo>
                    <a:lnTo>
                      <a:pt x="3328" y="926"/>
                    </a:lnTo>
                    <a:lnTo>
                      <a:pt x="3285" y="852"/>
                    </a:lnTo>
                    <a:lnTo>
                      <a:pt x="3238" y="779"/>
                    </a:lnTo>
                    <a:lnTo>
                      <a:pt x="3189" y="710"/>
                    </a:lnTo>
                    <a:lnTo>
                      <a:pt x="3137" y="643"/>
                    </a:lnTo>
                    <a:lnTo>
                      <a:pt x="3081" y="580"/>
                    </a:lnTo>
                    <a:lnTo>
                      <a:pt x="3022" y="518"/>
                    </a:lnTo>
                    <a:lnTo>
                      <a:pt x="2960" y="460"/>
                    </a:lnTo>
                    <a:lnTo>
                      <a:pt x="2897" y="403"/>
                    </a:lnTo>
                    <a:lnTo>
                      <a:pt x="2830" y="351"/>
                    </a:lnTo>
                    <a:lnTo>
                      <a:pt x="2760" y="302"/>
                    </a:lnTo>
                    <a:lnTo>
                      <a:pt x="2688" y="256"/>
                    </a:lnTo>
                    <a:lnTo>
                      <a:pt x="2615" y="213"/>
                    </a:lnTo>
                    <a:lnTo>
                      <a:pt x="2538" y="173"/>
                    </a:lnTo>
                    <a:lnTo>
                      <a:pt x="2459" y="139"/>
                    </a:lnTo>
                    <a:lnTo>
                      <a:pt x="2379" y="106"/>
                    </a:lnTo>
                    <a:lnTo>
                      <a:pt x="2297" y="78"/>
                    </a:lnTo>
                    <a:lnTo>
                      <a:pt x="2213" y="55"/>
                    </a:lnTo>
                    <a:lnTo>
                      <a:pt x="2127" y="35"/>
                    </a:lnTo>
                    <a:lnTo>
                      <a:pt x="2040" y="20"/>
                    </a:lnTo>
                    <a:lnTo>
                      <a:pt x="1951" y="8"/>
                    </a:lnTo>
                    <a:lnTo>
                      <a:pt x="1861" y="2"/>
                    </a:lnTo>
                    <a:lnTo>
                      <a:pt x="1770" y="0"/>
                    </a:lnTo>
                    <a:lnTo>
                      <a:pt x="1679" y="2"/>
                    </a:lnTo>
                    <a:lnTo>
                      <a:pt x="1589" y="8"/>
                    </a:lnTo>
                    <a:lnTo>
                      <a:pt x="1501" y="20"/>
                    </a:lnTo>
                    <a:lnTo>
                      <a:pt x="1413" y="35"/>
                    </a:lnTo>
                    <a:lnTo>
                      <a:pt x="1328" y="55"/>
                    </a:lnTo>
                    <a:lnTo>
                      <a:pt x="1243" y="78"/>
                    </a:lnTo>
                    <a:lnTo>
                      <a:pt x="1161" y="106"/>
                    </a:lnTo>
                    <a:lnTo>
                      <a:pt x="1081" y="139"/>
                    </a:lnTo>
                    <a:lnTo>
                      <a:pt x="1002" y="173"/>
                    </a:lnTo>
                    <a:lnTo>
                      <a:pt x="926" y="213"/>
                    </a:lnTo>
                    <a:lnTo>
                      <a:pt x="852" y="256"/>
                    </a:lnTo>
                    <a:lnTo>
                      <a:pt x="780" y="302"/>
                    </a:lnTo>
                    <a:lnTo>
                      <a:pt x="711" y="351"/>
                    </a:lnTo>
                    <a:lnTo>
                      <a:pt x="644" y="403"/>
                    </a:lnTo>
                    <a:lnTo>
                      <a:pt x="580" y="460"/>
                    </a:lnTo>
                    <a:lnTo>
                      <a:pt x="518" y="518"/>
                    </a:lnTo>
                    <a:lnTo>
                      <a:pt x="459" y="580"/>
                    </a:lnTo>
                    <a:lnTo>
                      <a:pt x="404" y="643"/>
                    </a:lnTo>
                    <a:lnTo>
                      <a:pt x="351" y="710"/>
                    </a:lnTo>
                    <a:lnTo>
                      <a:pt x="301" y="779"/>
                    </a:lnTo>
                    <a:lnTo>
                      <a:pt x="256" y="852"/>
                    </a:lnTo>
                    <a:lnTo>
                      <a:pt x="213" y="926"/>
                    </a:lnTo>
                    <a:lnTo>
                      <a:pt x="174" y="1002"/>
                    </a:lnTo>
                    <a:lnTo>
                      <a:pt x="138" y="1081"/>
                    </a:lnTo>
                    <a:lnTo>
                      <a:pt x="107" y="1161"/>
                    </a:lnTo>
                    <a:lnTo>
                      <a:pt x="79" y="1243"/>
                    </a:lnTo>
                    <a:lnTo>
                      <a:pt x="55" y="1327"/>
                    </a:lnTo>
                    <a:lnTo>
                      <a:pt x="35" y="1412"/>
                    </a:lnTo>
                    <a:lnTo>
                      <a:pt x="19" y="1500"/>
                    </a:lnTo>
                    <a:lnTo>
                      <a:pt x="8" y="1588"/>
                    </a:lnTo>
                    <a:lnTo>
                      <a:pt x="2" y="1678"/>
                    </a:lnTo>
                    <a:lnTo>
                      <a:pt x="0" y="1770"/>
                    </a:lnTo>
                    <a:lnTo>
                      <a:pt x="2" y="1860"/>
                    </a:lnTo>
                    <a:lnTo>
                      <a:pt x="8" y="1950"/>
                    </a:lnTo>
                    <a:lnTo>
                      <a:pt x="19" y="2039"/>
                    </a:lnTo>
                    <a:lnTo>
                      <a:pt x="35" y="2126"/>
                    </a:lnTo>
                    <a:lnTo>
                      <a:pt x="55" y="2211"/>
                    </a:lnTo>
                    <a:lnTo>
                      <a:pt x="79" y="2296"/>
                    </a:lnTo>
                    <a:lnTo>
                      <a:pt x="107" y="2378"/>
                    </a:lnTo>
                    <a:lnTo>
                      <a:pt x="138" y="2459"/>
                    </a:lnTo>
                    <a:lnTo>
                      <a:pt x="174" y="2536"/>
                    </a:lnTo>
                    <a:lnTo>
                      <a:pt x="213" y="2613"/>
                    </a:lnTo>
                    <a:lnTo>
                      <a:pt x="256" y="2688"/>
                    </a:lnTo>
                    <a:lnTo>
                      <a:pt x="301" y="2759"/>
                    </a:lnTo>
                    <a:lnTo>
                      <a:pt x="351" y="2828"/>
                    </a:lnTo>
                    <a:lnTo>
                      <a:pt x="404" y="2895"/>
                    </a:lnTo>
                    <a:lnTo>
                      <a:pt x="459" y="2960"/>
                    </a:lnTo>
                    <a:lnTo>
                      <a:pt x="518" y="3021"/>
                    </a:lnTo>
                    <a:lnTo>
                      <a:pt x="580" y="3080"/>
                    </a:lnTo>
                    <a:lnTo>
                      <a:pt x="644" y="3135"/>
                    </a:lnTo>
                    <a:lnTo>
                      <a:pt x="711" y="3188"/>
                    </a:lnTo>
                    <a:lnTo>
                      <a:pt x="780" y="3237"/>
                    </a:lnTo>
                    <a:lnTo>
                      <a:pt x="852" y="3283"/>
                    </a:lnTo>
                    <a:lnTo>
                      <a:pt x="926" y="3326"/>
                    </a:lnTo>
                    <a:lnTo>
                      <a:pt x="1002" y="3365"/>
                    </a:lnTo>
                    <a:lnTo>
                      <a:pt x="1081" y="3400"/>
                    </a:lnTo>
                    <a:lnTo>
                      <a:pt x="1161" y="3432"/>
                    </a:lnTo>
                    <a:lnTo>
                      <a:pt x="1243" y="3460"/>
                    </a:lnTo>
                    <a:lnTo>
                      <a:pt x="1328" y="3484"/>
                    </a:lnTo>
                    <a:lnTo>
                      <a:pt x="1413" y="3503"/>
                    </a:lnTo>
                    <a:lnTo>
                      <a:pt x="1501" y="3519"/>
                    </a:lnTo>
                    <a:lnTo>
                      <a:pt x="1589" y="3530"/>
                    </a:lnTo>
                    <a:lnTo>
                      <a:pt x="1679" y="3538"/>
                    </a:lnTo>
                    <a:lnTo>
                      <a:pt x="1770" y="3540"/>
                    </a:lnTo>
                    <a:lnTo>
                      <a:pt x="1823" y="3539"/>
                    </a:lnTo>
                    <a:lnTo>
                      <a:pt x="1873" y="3537"/>
                    </a:lnTo>
                    <a:lnTo>
                      <a:pt x="1925" y="3533"/>
                    </a:lnTo>
                    <a:lnTo>
                      <a:pt x="1976" y="3528"/>
                    </a:lnTo>
                    <a:lnTo>
                      <a:pt x="2027" y="3521"/>
                    </a:lnTo>
                    <a:lnTo>
                      <a:pt x="2077" y="3513"/>
                    </a:lnTo>
                    <a:lnTo>
                      <a:pt x="2126" y="3504"/>
                    </a:lnTo>
                    <a:lnTo>
                      <a:pt x="2175" y="3493"/>
                    </a:lnTo>
                    <a:lnTo>
                      <a:pt x="2223" y="3481"/>
                    </a:lnTo>
                    <a:lnTo>
                      <a:pt x="2271" y="3467"/>
                    </a:lnTo>
                    <a:lnTo>
                      <a:pt x="2319" y="3453"/>
                    </a:lnTo>
                    <a:lnTo>
                      <a:pt x="2365" y="3437"/>
                    </a:lnTo>
                    <a:lnTo>
                      <a:pt x="2411" y="3420"/>
                    </a:lnTo>
                    <a:lnTo>
                      <a:pt x="2457" y="3402"/>
                    </a:lnTo>
                    <a:lnTo>
                      <a:pt x="2502" y="3381"/>
                    </a:lnTo>
                    <a:lnTo>
                      <a:pt x="2547" y="3361"/>
                    </a:lnTo>
                    <a:lnTo>
                      <a:pt x="2528" y="3323"/>
                    </a:lnTo>
                    <a:lnTo>
                      <a:pt x="2485" y="3343"/>
                    </a:lnTo>
                    <a:lnTo>
                      <a:pt x="2441" y="3363"/>
                    </a:lnTo>
                    <a:lnTo>
                      <a:pt x="2396" y="3381"/>
                    </a:lnTo>
                    <a:lnTo>
                      <a:pt x="2351" y="3397"/>
                    </a:lnTo>
                    <a:lnTo>
                      <a:pt x="2306" y="3413"/>
                    </a:lnTo>
                    <a:lnTo>
                      <a:pt x="2259" y="3427"/>
                    </a:lnTo>
                    <a:lnTo>
                      <a:pt x="2213" y="3440"/>
                    </a:lnTo>
                    <a:lnTo>
                      <a:pt x="2165" y="3452"/>
                    </a:lnTo>
                    <a:lnTo>
                      <a:pt x="2118" y="3463"/>
                    </a:lnTo>
                    <a:lnTo>
                      <a:pt x="2069" y="3472"/>
                    </a:lnTo>
                    <a:lnTo>
                      <a:pt x="2020" y="3480"/>
                    </a:lnTo>
                    <a:lnTo>
                      <a:pt x="1971" y="3486"/>
                    </a:lnTo>
                    <a:lnTo>
                      <a:pt x="1922" y="3491"/>
                    </a:lnTo>
                    <a:lnTo>
                      <a:pt x="1871" y="3494"/>
                    </a:lnTo>
                    <a:lnTo>
                      <a:pt x="1822" y="3497"/>
                    </a:lnTo>
                    <a:lnTo>
                      <a:pt x="1770" y="3498"/>
                    </a:lnTo>
                    <a:lnTo>
                      <a:pt x="1681" y="3496"/>
                    </a:lnTo>
                    <a:lnTo>
                      <a:pt x="1594" y="3489"/>
                    </a:lnTo>
                    <a:lnTo>
                      <a:pt x="1507" y="3478"/>
                    </a:lnTo>
                    <a:lnTo>
                      <a:pt x="1422" y="3463"/>
                    </a:lnTo>
                    <a:lnTo>
                      <a:pt x="1339" y="3444"/>
                    </a:lnTo>
                    <a:lnTo>
                      <a:pt x="1256" y="3420"/>
                    </a:lnTo>
                    <a:lnTo>
                      <a:pt x="1175" y="3393"/>
                    </a:lnTo>
                    <a:lnTo>
                      <a:pt x="1098" y="3362"/>
                    </a:lnTo>
                    <a:lnTo>
                      <a:pt x="1021" y="3327"/>
                    </a:lnTo>
                    <a:lnTo>
                      <a:pt x="946" y="3289"/>
                    </a:lnTo>
                    <a:lnTo>
                      <a:pt x="874" y="3247"/>
                    </a:lnTo>
                    <a:lnTo>
                      <a:pt x="804" y="3203"/>
                    </a:lnTo>
                    <a:lnTo>
                      <a:pt x="736" y="3154"/>
                    </a:lnTo>
                    <a:lnTo>
                      <a:pt x="671" y="3103"/>
                    </a:lnTo>
                    <a:lnTo>
                      <a:pt x="607" y="3048"/>
                    </a:lnTo>
                    <a:lnTo>
                      <a:pt x="548" y="2991"/>
                    </a:lnTo>
                    <a:lnTo>
                      <a:pt x="490" y="2932"/>
                    </a:lnTo>
                    <a:lnTo>
                      <a:pt x="436" y="2869"/>
                    </a:lnTo>
                    <a:lnTo>
                      <a:pt x="384" y="2803"/>
                    </a:lnTo>
                    <a:lnTo>
                      <a:pt x="336" y="2736"/>
                    </a:lnTo>
                    <a:lnTo>
                      <a:pt x="291" y="2666"/>
                    </a:lnTo>
                    <a:lnTo>
                      <a:pt x="249" y="2594"/>
                    </a:lnTo>
                    <a:lnTo>
                      <a:pt x="212" y="2519"/>
                    </a:lnTo>
                    <a:lnTo>
                      <a:pt x="177" y="2443"/>
                    </a:lnTo>
                    <a:lnTo>
                      <a:pt x="146" y="2364"/>
                    </a:lnTo>
                    <a:lnTo>
                      <a:pt x="119" y="2284"/>
                    </a:lnTo>
                    <a:lnTo>
                      <a:pt x="96" y="2202"/>
                    </a:lnTo>
                    <a:lnTo>
                      <a:pt x="76" y="2117"/>
                    </a:lnTo>
                    <a:lnTo>
                      <a:pt x="61" y="2032"/>
                    </a:lnTo>
                    <a:lnTo>
                      <a:pt x="49" y="1946"/>
                    </a:lnTo>
                    <a:lnTo>
                      <a:pt x="43" y="1858"/>
                    </a:lnTo>
                    <a:lnTo>
                      <a:pt x="41" y="1770"/>
                    </a:lnTo>
                    <a:lnTo>
                      <a:pt x="43" y="1680"/>
                    </a:lnTo>
                    <a:lnTo>
                      <a:pt x="49" y="1593"/>
                    </a:lnTo>
                    <a:lnTo>
                      <a:pt x="61" y="1506"/>
                    </a:lnTo>
                    <a:lnTo>
                      <a:pt x="76" y="1421"/>
                    </a:lnTo>
                    <a:lnTo>
                      <a:pt x="96" y="1338"/>
                    </a:lnTo>
                    <a:lnTo>
                      <a:pt x="119" y="1256"/>
                    </a:lnTo>
                    <a:lnTo>
                      <a:pt x="146" y="1176"/>
                    </a:lnTo>
                    <a:lnTo>
                      <a:pt x="177" y="1097"/>
                    </a:lnTo>
                    <a:lnTo>
                      <a:pt x="212" y="1020"/>
                    </a:lnTo>
                    <a:lnTo>
                      <a:pt x="249" y="946"/>
                    </a:lnTo>
                    <a:lnTo>
                      <a:pt x="291" y="873"/>
                    </a:lnTo>
                    <a:lnTo>
                      <a:pt x="336" y="803"/>
                    </a:lnTo>
                    <a:lnTo>
                      <a:pt x="384" y="735"/>
                    </a:lnTo>
                    <a:lnTo>
                      <a:pt x="436" y="670"/>
                    </a:lnTo>
                    <a:lnTo>
                      <a:pt x="490" y="608"/>
                    </a:lnTo>
                    <a:lnTo>
                      <a:pt x="548" y="547"/>
                    </a:lnTo>
                    <a:lnTo>
                      <a:pt x="607" y="490"/>
                    </a:lnTo>
                    <a:lnTo>
                      <a:pt x="671" y="436"/>
                    </a:lnTo>
                    <a:lnTo>
                      <a:pt x="736" y="384"/>
                    </a:lnTo>
                    <a:lnTo>
                      <a:pt x="804" y="337"/>
                    </a:lnTo>
                    <a:lnTo>
                      <a:pt x="874" y="291"/>
                    </a:lnTo>
                    <a:lnTo>
                      <a:pt x="946" y="250"/>
                    </a:lnTo>
                    <a:lnTo>
                      <a:pt x="1021" y="211"/>
                    </a:lnTo>
                    <a:lnTo>
                      <a:pt x="1098" y="177"/>
                    </a:lnTo>
                    <a:lnTo>
                      <a:pt x="1175" y="145"/>
                    </a:lnTo>
                    <a:lnTo>
                      <a:pt x="1256" y="118"/>
                    </a:lnTo>
                    <a:lnTo>
                      <a:pt x="1339" y="96"/>
                    </a:lnTo>
                    <a:lnTo>
                      <a:pt x="1422" y="76"/>
                    </a:lnTo>
                    <a:lnTo>
                      <a:pt x="1507" y="61"/>
                    </a:lnTo>
                    <a:lnTo>
                      <a:pt x="1594" y="50"/>
                    </a:lnTo>
                    <a:lnTo>
                      <a:pt x="1681" y="43"/>
                    </a:lnTo>
                    <a:lnTo>
                      <a:pt x="1770" y="41"/>
                    </a:lnTo>
                    <a:lnTo>
                      <a:pt x="1859" y="43"/>
                    </a:lnTo>
                    <a:lnTo>
                      <a:pt x="1947" y="50"/>
                    </a:lnTo>
                    <a:lnTo>
                      <a:pt x="2033" y="61"/>
                    </a:lnTo>
                    <a:lnTo>
                      <a:pt x="2119" y="76"/>
                    </a:lnTo>
                    <a:lnTo>
                      <a:pt x="2202" y="96"/>
                    </a:lnTo>
                    <a:lnTo>
                      <a:pt x="2284" y="118"/>
                    </a:lnTo>
                    <a:lnTo>
                      <a:pt x="2365" y="145"/>
                    </a:lnTo>
                    <a:lnTo>
                      <a:pt x="2443" y="177"/>
                    </a:lnTo>
                    <a:lnTo>
                      <a:pt x="2520" y="211"/>
                    </a:lnTo>
                    <a:lnTo>
                      <a:pt x="2594" y="250"/>
                    </a:lnTo>
                    <a:lnTo>
                      <a:pt x="2666" y="291"/>
                    </a:lnTo>
                    <a:lnTo>
                      <a:pt x="2737" y="337"/>
                    </a:lnTo>
                    <a:lnTo>
                      <a:pt x="2805" y="384"/>
                    </a:lnTo>
                    <a:lnTo>
                      <a:pt x="2870" y="436"/>
                    </a:lnTo>
                    <a:lnTo>
                      <a:pt x="2932" y="490"/>
                    </a:lnTo>
                    <a:lnTo>
                      <a:pt x="2993" y="547"/>
                    </a:lnTo>
                    <a:lnTo>
                      <a:pt x="3050" y="608"/>
                    </a:lnTo>
                    <a:lnTo>
                      <a:pt x="3104" y="670"/>
                    </a:lnTo>
                    <a:lnTo>
                      <a:pt x="3156" y="735"/>
                    </a:lnTo>
                    <a:lnTo>
                      <a:pt x="3204" y="803"/>
                    </a:lnTo>
                    <a:lnTo>
                      <a:pt x="3249" y="873"/>
                    </a:lnTo>
                    <a:lnTo>
                      <a:pt x="3291" y="946"/>
                    </a:lnTo>
                    <a:lnTo>
                      <a:pt x="3329" y="1020"/>
                    </a:lnTo>
                    <a:lnTo>
                      <a:pt x="3363" y="1097"/>
                    </a:lnTo>
                    <a:lnTo>
                      <a:pt x="3395" y="1176"/>
                    </a:lnTo>
                    <a:lnTo>
                      <a:pt x="3422" y="1256"/>
                    </a:lnTo>
                    <a:lnTo>
                      <a:pt x="3444" y="1338"/>
                    </a:lnTo>
                    <a:lnTo>
                      <a:pt x="3464" y="1421"/>
                    </a:lnTo>
                    <a:lnTo>
                      <a:pt x="3479" y="1506"/>
                    </a:lnTo>
                    <a:lnTo>
                      <a:pt x="3491" y="1593"/>
                    </a:lnTo>
                    <a:lnTo>
                      <a:pt x="3497" y="1680"/>
                    </a:lnTo>
                    <a:lnTo>
                      <a:pt x="3500" y="1770"/>
                    </a:lnTo>
                    <a:lnTo>
                      <a:pt x="3499" y="1828"/>
                    </a:lnTo>
                    <a:lnTo>
                      <a:pt x="3495" y="1885"/>
                    </a:lnTo>
                    <a:lnTo>
                      <a:pt x="3491" y="1942"/>
                    </a:lnTo>
                    <a:lnTo>
                      <a:pt x="3484" y="1999"/>
                    </a:lnTo>
                    <a:lnTo>
                      <a:pt x="3476" y="2055"/>
                    </a:lnTo>
                    <a:lnTo>
                      <a:pt x="3466" y="2110"/>
                    </a:lnTo>
                    <a:lnTo>
                      <a:pt x="3454" y="2165"/>
                    </a:lnTo>
                    <a:lnTo>
                      <a:pt x="3440" y="2219"/>
                    </a:lnTo>
                    <a:lnTo>
                      <a:pt x="3480" y="2230"/>
                    </a:lnTo>
                    <a:lnTo>
                      <a:pt x="3494" y="2175"/>
                    </a:lnTo>
                    <a:lnTo>
                      <a:pt x="3506" y="2119"/>
                    </a:lnTo>
                    <a:lnTo>
                      <a:pt x="3517" y="2061"/>
                    </a:lnTo>
                    <a:lnTo>
                      <a:pt x="3526" y="2004"/>
                    </a:lnTo>
                    <a:lnTo>
                      <a:pt x="3532" y="1947"/>
                    </a:lnTo>
                    <a:lnTo>
                      <a:pt x="3537" y="1887"/>
                    </a:lnTo>
                    <a:lnTo>
                      <a:pt x="3540" y="1829"/>
                    </a:lnTo>
                    <a:lnTo>
                      <a:pt x="3541" y="177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879720" y="2303280"/>
                <a:ext cx="1389240" cy="1387440"/>
              </a:xfrm>
              <a:custGeom>
                <a:avLst/>
                <a:gdLst/>
                <a:ahLst/>
                <a:rect l="l" t="t" r="r" b="b"/>
                <a:pathLst>
                  <a:path w="3500" h="3498">
                    <a:moveTo>
                      <a:pt x="3500" y="1750"/>
                    </a:moveTo>
                    <a:lnTo>
                      <a:pt x="3498" y="1659"/>
                    </a:lnTo>
                    <a:lnTo>
                      <a:pt x="3491" y="1570"/>
                    </a:lnTo>
                    <a:lnTo>
                      <a:pt x="3480" y="1483"/>
                    </a:lnTo>
                    <a:lnTo>
                      <a:pt x="3464" y="1397"/>
                    </a:lnTo>
                    <a:lnTo>
                      <a:pt x="3445" y="1312"/>
                    </a:lnTo>
                    <a:lnTo>
                      <a:pt x="3421" y="1229"/>
                    </a:lnTo>
                    <a:lnTo>
                      <a:pt x="3394" y="1148"/>
                    </a:lnTo>
                    <a:lnTo>
                      <a:pt x="3363" y="1068"/>
                    </a:lnTo>
                    <a:lnTo>
                      <a:pt x="3327" y="992"/>
                    </a:lnTo>
                    <a:lnTo>
                      <a:pt x="3289" y="916"/>
                    </a:lnTo>
                    <a:lnTo>
                      <a:pt x="3247" y="842"/>
                    </a:lnTo>
                    <a:lnTo>
                      <a:pt x="3201" y="771"/>
                    </a:lnTo>
                    <a:lnTo>
                      <a:pt x="3152" y="703"/>
                    </a:lnTo>
                    <a:lnTo>
                      <a:pt x="3100" y="637"/>
                    </a:lnTo>
                    <a:lnTo>
                      <a:pt x="3045" y="574"/>
                    </a:lnTo>
                    <a:lnTo>
                      <a:pt x="2988" y="512"/>
                    </a:lnTo>
                    <a:lnTo>
                      <a:pt x="2926" y="455"/>
                    </a:lnTo>
                    <a:lnTo>
                      <a:pt x="2864" y="400"/>
                    </a:lnTo>
                    <a:lnTo>
                      <a:pt x="2797" y="348"/>
                    </a:lnTo>
                    <a:lnTo>
                      <a:pt x="2729" y="299"/>
                    </a:lnTo>
                    <a:lnTo>
                      <a:pt x="2657" y="254"/>
                    </a:lnTo>
                    <a:lnTo>
                      <a:pt x="2584" y="212"/>
                    </a:lnTo>
                    <a:lnTo>
                      <a:pt x="2509" y="173"/>
                    </a:lnTo>
                    <a:lnTo>
                      <a:pt x="2431" y="137"/>
                    </a:lnTo>
                    <a:lnTo>
                      <a:pt x="2352" y="106"/>
                    </a:lnTo>
                    <a:lnTo>
                      <a:pt x="2270" y="79"/>
                    </a:lnTo>
                    <a:lnTo>
                      <a:pt x="2187" y="55"/>
                    </a:lnTo>
                    <a:lnTo>
                      <a:pt x="2103" y="36"/>
                    </a:lnTo>
                    <a:lnTo>
                      <a:pt x="2017" y="21"/>
                    </a:lnTo>
                    <a:lnTo>
                      <a:pt x="1929" y="9"/>
                    </a:lnTo>
                    <a:lnTo>
                      <a:pt x="1840" y="2"/>
                    </a:lnTo>
                    <a:lnTo>
                      <a:pt x="1750" y="0"/>
                    </a:lnTo>
                    <a:lnTo>
                      <a:pt x="1660" y="2"/>
                    </a:lnTo>
                    <a:lnTo>
                      <a:pt x="1571" y="9"/>
                    </a:lnTo>
                    <a:lnTo>
                      <a:pt x="1484" y="21"/>
                    </a:lnTo>
                    <a:lnTo>
                      <a:pt x="1397" y="36"/>
                    </a:lnTo>
                    <a:lnTo>
                      <a:pt x="1313" y="55"/>
                    </a:lnTo>
                    <a:lnTo>
                      <a:pt x="1230" y="79"/>
                    </a:lnTo>
                    <a:lnTo>
                      <a:pt x="1149" y="106"/>
                    </a:lnTo>
                    <a:lnTo>
                      <a:pt x="1069" y="137"/>
                    </a:lnTo>
                    <a:lnTo>
                      <a:pt x="991" y="173"/>
                    </a:lnTo>
                    <a:lnTo>
                      <a:pt x="915" y="212"/>
                    </a:lnTo>
                    <a:lnTo>
                      <a:pt x="843" y="254"/>
                    </a:lnTo>
                    <a:lnTo>
                      <a:pt x="772" y="299"/>
                    </a:lnTo>
                    <a:lnTo>
                      <a:pt x="703" y="348"/>
                    </a:lnTo>
                    <a:lnTo>
                      <a:pt x="637" y="400"/>
                    </a:lnTo>
                    <a:lnTo>
                      <a:pt x="573" y="455"/>
                    </a:lnTo>
                    <a:lnTo>
                      <a:pt x="512" y="512"/>
                    </a:lnTo>
                    <a:lnTo>
                      <a:pt x="455" y="574"/>
                    </a:lnTo>
                    <a:lnTo>
                      <a:pt x="400" y="637"/>
                    </a:lnTo>
                    <a:lnTo>
                      <a:pt x="348" y="703"/>
                    </a:lnTo>
                    <a:lnTo>
                      <a:pt x="298" y="771"/>
                    </a:lnTo>
                    <a:lnTo>
                      <a:pt x="253" y="842"/>
                    </a:lnTo>
                    <a:lnTo>
                      <a:pt x="211" y="916"/>
                    </a:lnTo>
                    <a:lnTo>
                      <a:pt x="173" y="992"/>
                    </a:lnTo>
                    <a:lnTo>
                      <a:pt x="137" y="1068"/>
                    </a:lnTo>
                    <a:lnTo>
                      <a:pt x="106" y="1148"/>
                    </a:lnTo>
                    <a:lnTo>
                      <a:pt x="79" y="1229"/>
                    </a:lnTo>
                    <a:lnTo>
                      <a:pt x="55" y="1312"/>
                    </a:lnTo>
                    <a:lnTo>
                      <a:pt x="36" y="1397"/>
                    </a:lnTo>
                    <a:lnTo>
                      <a:pt x="21" y="1483"/>
                    </a:lnTo>
                    <a:lnTo>
                      <a:pt x="9" y="1570"/>
                    </a:lnTo>
                    <a:lnTo>
                      <a:pt x="2" y="1659"/>
                    </a:lnTo>
                    <a:lnTo>
                      <a:pt x="0" y="1750"/>
                    </a:lnTo>
                    <a:lnTo>
                      <a:pt x="2" y="1839"/>
                    </a:lnTo>
                    <a:lnTo>
                      <a:pt x="9" y="1928"/>
                    </a:lnTo>
                    <a:lnTo>
                      <a:pt x="21" y="2015"/>
                    </a:lnTo>
                    <a:lnTo>
                      <a:pt x="36" y="2102"/>
                    </a:lnTo>
                    <a:lnTo>
                      <a:pt x="55" y="2187"/>
                    </a:lnTo>
                    <a:lnTo>
                      <a:pt x="79" y="2269"/>
                    </a:lnTo>
                    <a:lnTo>
                      <a:pt x="106" y="2351"/>
                    </a:lnTo>
                    <a:lnTo>
                      <a:pt x="137" y="2430"/>
                    </a:lnTo>
                    <a:lnTo>
                      <a:pt x="173" y="2508"/>
                    </a:lnTo>
                    <a:lnTo>
                      <a:pt x="211" y="2583"/>
                    </a:lnTo>
                    <a:lnTo>
                      <a:pt x="253" y="2657"/>
                    </a:lnTo>
                    <a:lnTo>
                      <a:pt x="298" y="2727"/>
                    </a:lnTo>
                    <a:lnTo>
                      <a:pt x="348" y="2796"/>
                    </a:lnTo>
                    <a:lnTo>
                      <a:pt x="400" y="2862"/>
                    </a:lnTo>
                    <a:lnTo>
                      <a:pt x="455" y="2926"/>
                    </a:lnTo>
                    <a:lnTo>
                      <a:pt x="512" y="2986"/>
                    </a:lnTo>
                    <a:lnTo>
                      <a:pt x="573" y="3045"/>
                    </a:lnTo>
                    <a:lnTo>
                      <a:pt x="637" y="3100"/>
                    </a:lnTo>
                    <a:lnTo>
                      <a:pt x="703" y="3152"/>
                    </a:lnTo>
                    <a:lnTo>
                      <a:pt x="772" y="3200"/>
                    </a:lnTo>
                    <a:lnTo>
                      <a:pt x="843" y="3245"/>
                    </a:lnTo>
                    <a:lnTo>
                      <a:pt x="915" y="3288"/>
                    </a:lnTo>
                    <a:lnTo>
                      <a:pt x="991" y="3326"/>
                    </a:lnTo>
                    <a:lnTo>
                      <a:pt x="1069" y="3361"/>
                    </a:lnTo>
                    <a:lnTo>
                      <a:pt x="1149" y="3392"/>
                    </a:lnTo>
                    <a:lnTo>
                      <a:pt x="1230" y="3420"/>
                    </a:lnTo>
                    <a:lnTo>
                      <a:pt x="1313" y="3443"/>
                    </a:lnTo>
                    <a:lnTo>
                      <a:pt x="1397" y="3464"/>
                    </a:lnTo>
                    <a:lnTo>
                      <a:pt x="1484" y="3479"/>
                    </a:lnTo>
                    <a:lnTo>
                      <a:pt x="1571" y="3490"/>
                    </a:lnTo>
                    <a:lnTo>
                      <a:pt x="1660" y="3496"/>
                    </a:lnTo>
                    <a:lnTo>
                      <a:pt x="1750" y="3498"/>
                    </a:lnTo>
                    <a:lnTo>
                      <a:pt x="1802" y="3498"/>
                    </a:lnTo>
                    <a:lnTo>
                      <a:pt x="1852" y="3496"/>
                    </a:lnTo>
                    <a:lnTo>
                      <a:pt x="1903" y="3492"/>
                    </a:lnTo>
                    <a:lnTo>
                      <a:pt x="1954" y="3487"/>
                    </a:lnTo>
                    <a:lnTo>
                      <a:pt x="2004" y="3481"/>
                    </a:lnTo>
                    <a:lnTo>
                      <a:pt x="2053" y="3472"/>
                    </a:lnTo>
                    <a:lnTo>
                      <a:pt x="2102" y="3464"/>
                    </a:lnTo>
                    <a:lnTo>
                      <a:pt x="2151" y="3453"/>
                    </a:lnTo>
                    <a:lnTo>
                      <a:pt x="2198" y="3441"/>
                    </a:lnTo>
                    <a:lnTo>
                      <a:pt x="2246" y="3428"/>
                    </a:lnTo>
                    <a:lnTo>
                      <a:pt x="2292" y="3413"/>
                    </a:lnTo>
                    <a:lnTo>
                      <a:pt x="2339" y="3398"/>
                    </a:lnTo>
                    <a:lnTo>
                      <a:pt x="2384" y="3380"/>
                    </a:lnTo>
                    <a:lnTo>
                      <a:pt x="2429" y="3362"/>
                    </a:lnTo>
                    <a:lnTo>
                      <a:pt x="2474" y="3343"/>
                    </a:lnTo>
                    <a:lnTo>
                      <a:pt x="2518" y="3322"/>
                    </a:lnTo>
                    <a:lnTo>
                      <a:pt x="2500" y="3284"/>
                    </a:lnTo>
                    <a:lnTo>
                      <a:pt x="2456" y="3305"/>
                    </a:lnTo>
                    <a:lnTo>
                      <a:pt x="2413" y="3323"/>
                    </a:lnTo>
                    <a:lnTo>
                      <a:pt x="2369" y="3342"/>
                    </a:lnTo>
                    <a:lnTo>
                      <a:pt x="2324" y="3358"/>
                    </a:lnTo>
                    <a:lnTo>
                      <a:pt x="2279" y="3374"/>
                    </a:lnTo>
                    <a:lnTo>
                      <a:pt x="2234" y="3388"/>
                    </a:lnTo>
                    <a:lnTo>
                      <a:pt x="2187" y="3401"/>
                    </a:lnTo>
                    <a:lnTo>
                      <a:pt x="2141" y="3412"/>
                    </a:lnTo>
                    <a:lnTo>
                      <a:pt x="2093" y="3423"/>
                    </a:lnTo>
                    <a:lnTo>
                      <a:pt x="2046" y="3431"/>
                    </a:lnTo>
                    <a:lnTo>
                      <a:pt x="1997" y="3439"/>
                    </a:lnTo>
                    <a:lnTo>
                      <a:pt x="1948" y="3445"/>
                    </a:lnTo>
                    <a:lnTo>
                      <a:pt x="1900" y="3451"/>
                    </a:lnTo>
                    <a:lnTo>
                      <a:pt x="1850" y="3454"/>
                    </a:lnTo>
                    <a:lnTo>
                      <a:pt x="1800" y="3456"/>
                    </a:lnTo>
                    <a:lnTo>
                      <a:pt x="1750" y="3457"/>
                    </a:lnTo>
                    <a:lnTo>
                      <a:pt x="1662" y="3455"/>
                    </a:lnTo>
                    <a:lnTo>
                      <a:pt x="1576" y="3449"/>
                    </a:lnTo>
                    <a:lnTo>
                      <a:pt x="1490" y="3438"/>
                    </a:lnTo>
                    <a:lnTo>
                      <a:pt x="1406" y="3423"/>
                    </a:lnTo>
                    <a:lnTo>
                      <a:pt x="1323" y="3403"/>
                    </a:lnTo>
                    <a:lnTo>
                      <a:pt x="1242" y="3380"/>
                    </a:lnTo>
                    <a:lnTo>
                      <a:pt x="1163" y="3353"/>
                    </a:lnTo>
                    <a:lnTo>
                      <a:pt x="1085" y="3323"/>
                    </a:lnTo>
                    <a:lnTo>
                      <a:pt x="1009" y="3289"/>
                    </a:lnTo>
                    <a:lnTo>
                      <a:pt x="936" y="3251"/>
                    </a:lnTo>
                    <a:lnTo>
                      <a:pt x="865" y="3210"/>
                    </a:lnTo>
                    <a:lnTo>
                      <a:pt x="796" y="3166"/>
                    </a:lnTo>
                    <a:lnTo>
                      <a:pt x="729" y="3118"/>
                    </a:lnTo>
                    <a:lnTo>
                      <a:pt x="664" y="3067"/>
                    </a:lnTo>
                    <a:lnTo>
                      <a:pt x="601" y="3013"/>
                    </a:lnTo>
                    <a:lnTo>
                      <a:pt x="543" y="2957"/>
                    </a:lnTo>
                    <a:lnTo>
                      <a:pt x="485" y="2898"/>
                    </a:lnTo>
                    <a:lnTo>
                      <a:pt x="431" y="2835"/>
                    </a:lnTo>
                    <a:lnTo>
                      <a:pt x="382" y="2771"/>
                    </a:lnTo>
                    <a:lnTo>
                      <a:pt x="333" y="2704"/>
                    </a:lnTo>
                    <a:lnTo>
                      <a:pt x="289" y="2635"/>
                    </a:lnTo>
                    <a:lnTo>
                      <a:pt x="248" y="2563"/>
                    </a:lnTo>
                    <a:lnTo>
                      <a:pt x="210" y="2489"/>
                    </a:lnTo>
                    <a:lnTo>
                      <a:pt x="176" y="2414"/>
                    </a:lnTo>
                    <a:lnTo>
                      <a:pt x="145" y="2336"/>
                    </a:lnTo>
                    <a:lnTo>
                      <a:pt x="118" y="2257"/>
                    </a:lnTo>
                    <a:lnTo>
                      <a:pt x="95" y="2176"/>
                    </a:lnTo>
                    <a:lnTo>
                      <a:pt x="77" y="2093"/>
                    </a:lnTo>
                    <a:lnTo>
                      <a:pt x="62" y="2010"/>
                    </a:lnTo>
                    <a:lnTo>
                      <a:pt x="51" y="1924"/>
                    </a:lnTo>
                    <a:lnTo>
                      <a:pt x="43" y="1837"/>
                    </a:lnTo>
                    <a:lnTo>
                      <a:pt x="41" y="1750"/>
                    </a:lnTo>
                    <a:lnTo>
                      <a:pt x="43" y="1661"/>
                    </a:lnTo>
                    <a:lnTo>
                      <a:pt x="51" y="1575"/>
                    </a:lnTo>
                    <a:lnTo>
                      <a:pt x="62" y="1489"/>
                    </a:lnTo>
                    <a:lnTo>
                      <a:pt x="77" y="1405"/>
                    </a:lnTo>
                    <a:lnTo>
                      <a:pt x="95" y="1323"/>
                    </a:lnTo>
                    <a:lnTo>
                      <a:pt x="118" y="1242"/>
                    </a:lnTo>
                    <a:lnTo>
                      <a:pt x="145" y="1162"/>
                    </a:lnTo>
                    <a:lnTo>
                      <a:pt x="176" y="1084"/>
                    </a:lnTo>
                    <a:lnTo>
                      <a:pt x="210" y="1009"/>
                    </a:lnTo>
                    <a:lnTo>
                      <a:pt x="248" y="935"/>
                    </a:lnTo>
                    <a:lnTo>
                      <a:pt x="289" y="864"/>
                    </a:lnTo>
                    <a:lnTo>
                      <a:pt x="333" y="795"/>
                    </a:lnTo>
                    <a:lnTo>
                      <a:pt x="382" y="728"/>
                    </a:lnTo>
                    <a:lnTo>
                      <a:pt x="431" y="663"/>
                    </a:lnTo>
                    <a:lnTo>
                      <a:pt x="485" y="602"/>
                    </a:lnTo>
                    <a:lnTo>
                      <a:pt x="543" y="542"/>
                    </a:lnTo>
                    <a:lnTo>
                      <a:pt x="601" y="485"/>
                    </a:lnTo>
                    <a:lnTo>
                      <a:pt x="664" y="432"/>
                    </a:lnTo>
                    <a:lnTo>
                      <a:pt x="729" y="381"/>
                    </a:lnTo>
                    <a:lnTo>
                      <a:pt x="796" y="334"/>
                    </a:lnTo>
                    <a:lnTo>
                      <a:pt x="865" y="290"/>
                    </a:lnTo>
                    <a:lnTo>
                      <a:pt x="936" y="247"/>
                    </a:lnTo>
                    <a:lnTo>
                      <a:pt x="1009" y="211"/>
                    </a:lnTo>
                    <a:lnTo>
                      <a:pt x="1085" y="176"/>
                    </a:lnTo>
                    <a:lnTo>
                      <a:pt x="1163" y="146"/>
                    </a:lnTo>
                    <a:lnTo>
                      <a:pt x="1242" y="119"/>
                    </a:lnTo>
                    <a:lnTo>
                      <a:pt x="1323" y="95"/>
                    </a:lnTo>
                    <a:lnTo>
                      <a:pt x="1406" y="77"/>
                    </a:lnTo>
                    <a:lnTo>
                      <a:pt x="1490" y="62"/>
                    </a:lnTo>
                    <a:lnTo>
                      <a:pt x="1576" y="51"/>
                    </a:lnTo>
                    <a:lnTo>
                      <a:pt x="1662" y="44"/>
                    </a:lnTo>
                    <a:lnTo>
                      <a:pt x="1750" y="42"/>
                    </a:lnTo>
                    <a:lnTo>
                      <a:pt x="1838" y="44"/>
                    </a:lnTo>
                    <a:lnTo>
                      <a:pt x="1925" y="51"/>
                    </a:lnTo>
                    <a:lnTo>
                      <a:pt x="2010" y="62"/>
                    </a:lnTo>
                    <a:lnTo>
                      <a:pt x="2094" y="77"/>
                    </a:lnTo>
                    <a:lnTo>
                      <a:pt x="2178" y="95"/>
                    </a:lnTo>
                    <a:lnTo>
                      <a:pt x="2259" y="119"/>
                    </a:lnTo>
                    <a:lnTo>
                      <a:pt x="2337" y="146"/>
                    </a:lnTo>
                    <a:lnTo>
                      <a:pt x="2415" y="176"/>
                    </a:lnTo>
                    <a:lnTo>
                      <a:pt x="2491" y="211"/>
                    </a:lnTo>
                    <a:lnTo>
                      <a:pt x="2564" y="247"/>
                    </a:lnTo>
                    <a:lnTo>
                      <a:pt x="2636" y="290"/>
                    </a:lnTo>
                    <a:lnTo>
                      <a:pt x="2705" y="334"/>
                    </a:lnTo>
                    <a:lnTo>
                      <a:pt x="2772" y="381"/>
                    </a:lnTo>
                    <a:lnTo>
                      <a:pt x="2837" y="432"/>
                    </a:lnTo>
                    <a:lnTo>
                      <a:pt x="2899" y="485"/>
                    </a:lnTo>
                    <a:lnTo>
                      <a:pt x="2958" y="542"/>
                    </a:lnTo>
                    <a:lnTo>
                      <a:pt x="3015" y="602"/>
                    </a:lnTo>
                    <a:lnTo>
                      <a:pt x="3068" y="663"/>
                    </a:lnTo>
                    <a:lnTo>
                      <a:pt x="3119" y="728"/>
                    </a:lnTo>
                    <a:lnTo>
                      <a:pt x="3167" y="795"/>
                    </a:lnTo>
                    <a:lnTo>
                      <a:pt x="3212" y="864"/>
                    </a:lnTo>
                    <a:lnTo>
                      <a:pt x="3253" y="935"/>
                    </a:lnTo>
                    <a:lnTo>
                      <a:pt x="3290" y="1009"/>
                    </a:lnTo>
                    <a:lnTo>
                      <a:pt x="3324" y="1084"/>
                    </a:lnTo>
                    <a:lnTo>
                      <a:pt x="3355" y="1162"/>
                    </a:lnTo>
                    <a:lnTo>
                      <a:pt x="3381" y="1242"/>
                    </a:lnTo>
                    <a:lnTo>
                      <a:pt x="3405" y="1323"/>
                    </a:lnTo>
                    <a:lnTo>
                      <a:pt x="3423" y="1405"/>
                    </a:lnTo>
                    <a:lnTo>
                      <a:pt x="3439" y="1489"/>
                    </a:lnTo>
                    <a:lnTo>
                      <a:pt x="3449" y="1575"/>
                    </a:lnTo>
                    <a:lnTo>
                      <a:pt x="3456" y="1661"/>
                    </a:lnTo>
                    <a:lnTo>
                      <a:pt x="3459" y="1750"/>
                    </a:lnTo>
                    <a:lnTo>
                      <a:pt x="3458" y="1807"/>
                    </a:lnTo>
                    <a:lnTo>
                      <a:pt x="3455" y="1864"/>
                    </a:lnTo>
                    <a:lnTo>
                      <a:pt x="3450" y="1920"/>
                    </a:lnTo>
                    <a:lnTo>
                      <a:pt x="3444" y="1975"/>
                    </a:lnTo>
                    <a:lnTo>
                      <a:pt x="3435" y="2032"/>
                    </a:lnTo>
                    <a:lnTo>
                      <a:pt x="3426" y="2086"/>
                    </a:lnTo>
                    <a:lnTo>
                      <a:pt x="3414" y="2140"/>
                    </a:lnTo>
                    <a:lnTo>
                      <a:pt x="3400" y="2194"/>
                    </a:lnTo>
                    <a:lnTo>
                      <a:pt x="3441" y="2204"/>
                    </a:lnTo>
                    <a:lnTo>
                      <a:pt x="3454" y="2149"/>
                    </a:lnTo>
                    <a:lnTo>
                      <a:pt x="3467" y="2094"/>
                    </a:lnTo>
                    <a:lnTo>
                      <a:pt x="3476" y="2038"/>
                    </a:lnTo>
                    <a:lnTo>
                      <a:pt x="3485" y="1982"/>
                    </a:lnTo>
                    <a:lnTo>
                      <a:pt x="3491" y="1925"/>
                    </a:lnTo>
                    <a:lnTo>
                      <a:pt x="3497" y="1866"/>
                    </a:lnTo>
                    <a:lnTo>
                      <a:pt x="3499" y="1808"/>
                    </a:lnTo>
                    <a:lnTo>
                      <a:pt x="3500" y="1750"/>
                    </a:lnTo>
                    <a:close/>
                  </a:path>
                </a:pathLst>
              </a:custGeom>
              <a:solidFill>
                <a:srgbClr val="e6d7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887640" y="2311200"/>
                <a:ext cx="1373400" cy="1371600"/>
              </a:xfrm>
              <a:custGeom>
                <a:avLst/>
                <a:gdLst/>
                <a:ahLst/>
                <a:rect l="l" t="t" r="r" b="b"/>
                <a:pathLst>
                  <a:path w="3459" h="3457">
                    <a:moveTo>
                      <a:pt x="3459" y="1729"/>
                    </a:moveTo>
                    <a:lnTo>
                      <a:pt x="3456" y="1639"/>
                    </a:lnTo>
                    <a:lnTo>
                      <a:pt x="3450" y="1552"/>
                    </a:lnTo>
                    <a:lnTo>
                      <a:pt x="3438" y="1465"/>
                    </a:lnTo>
                    <a:lnTo>
                      <a:pt x="3423" y="1380"/>
                    </a:lnTo>
                    <a:lnTo>
                      <a:pt x="3403" y="1297"/>
                    </a:lnTo>
                    <a:lnTo>
                      <a:pt x="3381" y="1215"/>
                    </a:lnTo>
                    <a:lnTo>
                      <a:pt x="3354" y="1135"/>
                    </a:lnTo>
                    <a:lnTo>
                      <a:pt x="3322" y="1056"/>
                    </a:lnTo>
                    <a:lnTo>
                      <a:pt x="3288" y="979"/>
                    </a:lnTo>
                    <a:lnTo>
                      <a:pt x="3250" y="905"/>
                    </a:lnTo>
                    <a:lnTo>
                      <a:pt x="3208" y="832"/>
                    </a:lnTo>
                    <a:lnTo>
                      <a:pt x="3163" y="762"/>
                    </a:lnTo>
                    <a:lnTo>
                      <a:pt x="3115" y="694"/>
                    </a:lnTo>
                    <a:lnTo>
                      <a:pt x="3063" y="629"/>
                    </a:lnTo>
                    <a:lnTo>
                      <a:pt x="3009" y="567"/>
                    </a:lnTo>
                    <a:lnTo>
                      <a:pt x="2952" y="506"/>
                    </a:lnTo>
                    <a:lnTo>
                      <a:pt x="2891" y="449"/>
                    </a:lnTo>
                    <a:lnTo>
                      <a:pt x="2829" y="395"/>
                    </a:lnTo>
                    <a:lnTo>
                      <a:pt x="2764" y="343"/>
                    </a:lnTo>
                    <a:lnTo>
                      <a:pt x="2696" y="296"/>
                    </a:lnTo>
                    <a:lnTo>
                      <a:pt x="2625" y="250"/>
                    </a:lnTo>
                    <a:lnTo>
                      <a:pt x="2553" y="209"/>
                    </a:lnTo>
                    <a:lnTo>
                      <a:pt x="2479" y="170"/>
                    </a:lnTo>
                    <a:lnTo>
                      <a:pt x="2402" y="136"/>
                    </a:lnTo>
                    <a:lnTo>
                      <a:pt x="2324" y="104"/>
                    </a:lnTo>
                    <a:lnTo>
                      <a:pt x="2243" y="77"/>
                    </a:lnTo>
                    <a:lnTo>
                      <a:pt x="2161" y="55"/>
                    </a:lnTo>
                    <a:lnTo>
                      <a:pt x="2078" y="35"/>
                    </a:lnTo>
                    <a:lnTo>
                      <a:pt x="1992" y="20"/>
                    </a:lnTo>
                    <a:lnTo>
                      <a:pt x="1906" y="9"/>
                    </a:lnTo>
                    <a:lnTo>
                      <a:pt x="1818" y="2"/>
                    </a:lnTo>
                    <a:lnTo>
                      <a:pt x="1729" y="0"/>
                    </a:lnTo>
                    <a:lnTo>
                      <a:pt x="1640" y="2"/>
                    </a:lnTo>
                    <a:lnTo>
                      <a:pt x="1553" y="9"/>
                    </a:lnTo>
                    <a:lnTo>
                      <a:pt x="1466" y="20"/>
                    </a:lnTo>
                    <a:lnTo>
                      <a:pt x="1381" y="35"/>
                    </a:lnTo>
                    <a:lnTo>
                      <a:pt x="1298" y="55"/>
                    </a:lnTo>
                    <a:lnTo>
                      <a:pt x="1215" y="77"/>
                    </a:lnTo>
                    <a:lnTo>
                      <a:pt x="1134" y="104"/>
                    </a:lnTo>
                    <a:lnTo>
                      <a:pt x="1057" y="136"/>
                    </a:lnTo>
                    <a:lnTo>
                      <a:pt x="980" y="170"/>
                    </a:lnTo>
                    <a:lnTo>
                      <a:pt x="905" y="209"/>
                    </a:lnTo>
                    <a:lnTo>
                      <a:pt x="833" y="250"/>
                    </a:lnTo>
                    <a:lnTo>
                      <a:pt x="763" y="296"/>
                    </a:lnTo>
                    <a:lnTo>
                      <a:pt x="695" y="343"/>
                    </a:lnTo>
                    <a:lnTo>
                      <a:pt x="630" y="395"/>
                    </a:lnTo>
                    <a:lnTo>
                      <a:pt x="566" y="449"/>
                    </a:lnTo>
                    <a:lnTo>
                      <a:pt x="507" y="506"/>
                    </a:lnTo>
                    <a:lnTo>
                      <a:pt x="449" y="567"/>
                    </a:lnTo>
                    <a:lnTo>
                      <a:pt x="395" y="629"/>
                    </a:lnTo>
                    <a:lnTo>
                      <a:pt x="343" y="694"/>
                    </a:lnTo>
                    <a:lnTo>
                      <a:pt x="295" y="762"/>
                    </a:lnTo>
                    <a:lnTo>
                      <a:pt x="250" y="832"/>
                    </a:lnTo>
                    <a:lnTo>
                      <a:pt x="208" y="905"/>
                    </a:lnTo>
                    <a:lnTo>
                      <a:pt x="171" y="979"/>
                    </a:lnTo>
                    <a:lnTo>
                      <a:pt x="136" y="1056"/>
                    </a:lnTo>
                    <a:lnTo>
                      <a:pt x="105" y="1135"/>
                    </a:lnTo>
                    <a:lnTo>
                      <a:pt x="78" y="1215"/>
                    </a:lnTo>
                    <a:lnTo>
                      <a:pt x="55" y="1297"/>
                    </a:lnTo>
                    <a:lnTo>
                      <a:pt x="35" y="1380"/>
                    </a:lnTo>
                    <a:lnTo>
                      <a:pt x="20" y="1465"/>
                    </a:lnTo>
                    <a:lnTo>
                      <a:pt x="8" y="1552"/>
                    </a:lnTo>
                    <a:lnTo>
                      <a:pt x="2" y="1639"/>
                    </a:lnTo>
                    <a:lnTo>
                      <a:pt x="0" y="1729"/>
                    </a:lnTo>
                    <a:lnTo>
                      <a:pt x="2" y="1817"/>
                    </a:lnTo>
                    <a:lnTo>
                      <a:pt x="8" y="1905"/>
                    </a:lnTo>
                    <a:lnTo>
                      <a:pt x="20" y="1991"/>
                    </a:lnTo>
                    <a:lnTo>
                      <a:pt x="35" y="2076"/>
                    </a:lnTo>
                    <a:lnTo>
                      <a:pt x="55" y="2161"/>
                    </a:lnTo>
                    <a:lnTo>
                      <a:pt x="78" y="2243"/>
                    </a:lnTo>
                    <a:lnTo>
                      <a:pt x="105" y="2323"/>
                    </a:lnTo>
                    <a:lnTo>
                      <a:pt x="136" y="2402"/>
                    </a:lnTo>
                    <a:lnTo>
                      <a:pt x="171" y="2478"/>
                    </a:lnTo>
                    <a:lnTo>
                      <a:pt x="208" y="2553"/>
                    </a:lnTo>
                    <a:lnTo>
                      <a:pt x="250" y="2625"/>
                    </a:lnTo>
                    <a:lnTo>
                      <a:pt x="295" y="2695"/>
                    </a:lnTo>
                    <a:lnTo>
                      <a:pt x="343" y="2762"/>
                    </a:lnTo>
                    <a:lnTo>
                      <a:pt x="395" y="2828"/>
                    </a:lnTo>
                    <a:lnTo>
                      <a:pt x="449" y="2891"/>
                    </a:lnTo>
                    <a:lnTo>
                      <a:pt x="507" y="2950"/>
                    </a:lnTo>
                    <a:lnTo>
                      <a:pt x="566" y="3007"/>
                    </a:lnTo>
                    <a:lnTo>
                      <a:pt x="630" y="3062"/>
                    </a:lnTo>
                    <a:lnTo>
                      <a:pt x="695" y="3113"/>
                    </a:lnTo>
                    <a:lnTo>
                      <a:pt x="763" y="3162"/>
                    </a:lnTo>
                    <a:lnTo>
                      <a:pt x="833" y="3206"/>
                    </a:lnTo>
                    <a:lnTo>
                      <a:pt x="905" y="3248"/>
                    </a:lnTo>
                    <a:lnTo>
                      <a:pt x="980" y="3286"/>
                    </a:lnTo>
                    <a:lnTo>
                      <a:pt x="1057" y="3321"/>
                    </a:lnTo>
                    <a:lnTo>
                      <a:pt x="1134" y="3352"/>
                    </a:lnTo>
                    <a:lnTo>
                      <a:pt x="1215" y="3379"/>
                    </a:lnTo>
                    <a:lnTo>
                      <a:pt x="1298" y="3403"/>
                    </a:lnTo>
                    <a:lnTo>
                      <a:pt x="1381" y="3422"/>
                    </a:lnTo>
                    <a:lnTo>
                      <a:pt x="1466" y="3437"/>
                    </a:lnTo>
                    <a:lnTo>
                      <a:pt x="1553" y="3448"/>
                    </a:lnTo>
                    <a:lnTo>
                      <a:pt x="1640" y="3455"/>
                    </a:lnTo>
                    <a:lnTo>
                      <a:pt x="1729" y="3457"/>
                    </a:lnTo>
                    <a:lnTo>
                      <a:pt x="1781" y="3456"/>
                    </a:lnTo>
                    <a:lnTo>
                      <a:pt x="1830" y="3453"/>
                    </a:lnTo>
                    <a:lnTo>
                      <a:pt x="1881" y="3450"/>
                    </a:lnTo>
                    <a:lnTo>
                      <a:pt x="1930" y="3445"/>
                    </a:lnTo>
                    <a:lnTo>
                      <a:pt x="1979" y="3439"/>
                    </a:lnTo>
                    <a:lnTo>
                      <a:pt x="2028" y="3431"/>
                    </a:lnTo>
                    <a:lnTo>
                      <a:pt x="2077" y="3422"/>
                    </a:lnTo>
                    <a:lnTo>
                      <a:pt x="2124" y="3411"/>
                    </a:lnTo>
                    <a:lnTo>
                      <a:pt x="2172" y="3399"/>
                    </a:lnTo>
                    <a:lnTo>
                      <a:pt x="2218" y="3386"/>
                    </a:lnTo>
                    <a:lnTo>
                      <a:pt x="2265" y="3372"/>
                    </a:lnTo>
                    <a:lnTo>
                      <a:pt x="2310" y="3356"/>
                    </a:lnTo>
                    <a:lnTo>
                      <a:pt x="2355" y="3340"/>
                    </a:lnTo>
                    <a:lnTo>
                      <a:pt x="2400" y="3322"/>
                    </a:lnTo>
                    <a:lnTo>
                      <a:pt x="2444" y="3302"/>
                    </a:lnTo>
                    <a:lnTo>
                      <a:pt x="2487" y="3282"/>
                    </a:lnTo>
                    <a:lnTo>
                      <a:pt x="2469" y="3245"/>
                    </a:lnTo>
                    <a:lnTo>
                      <a:pt x="2427" y="3264"/>
                    </a:lnTo>
                    <a:lnTo>
                      <a:pt x="2383" y="3284"/>
                    </a:lnTo>
                    <a:lnTo>
                      <a:pt x="2340" y="3301"/>
                    </a:lnTo>
                    <a:lnTo>
                      <a:pt x="2297" y="3317"/>
                    </a:lnTo>
                    <a:lnTo>
                      <a:pt x="2252" y="3332"/>
                    </a:lnTo>
                    <a:lnTo>
                      <a:pt x="2206" y="3347"/>
                    </a:lnTo>
                    <a:lnTo>
                      <a:pt x="2161" y="3359"/>
                    </a:lnTo>
                    <a:lnTo>
                      <a:pt x="2114" y="3371"/>
                    </a:lnTo>
                    <a:lnTo>
                      <a:pt x="2068" y="3381"/>
                    </a:lnTo>
                    <a:lnTo>
                      <a:pt x="2021" y="3390"/>
                    </a:lnTo>
                    <a:lnTo>
                      <a:pt x="1973" y="3397"/>
                    </a:lnTo>
                    <a:lnTo>
                      <a:pt x="1925" y="3404"/>
                    </a:lnTo>
                    <a:lnTo>
                      <a:pt x="1877" y="3409"/>
                    </a:lnTo>
                    <a:lnTo>
                      <a:pt x="1828" y="3412"/>
                    </a:lnTo>
                    <a:lnTo>
                      <a:pt x="1778" y="3415"/>
                    </a:lnTo>
                    <a:lnTo>
                      <a:pt x="1729" y="3416"/>
                    </a:lnTo>
                    <a:lnTo>
                      <a:pt x="1642" y="3413"/>
                    </a:lnTo>
                    <a:lnTo>
                      <a:pt x="1557" y="3407"/>
                    </a:lnTo>
                    <a:lnTo>
                      <a:pt x="1473" y="3396"/>
                    </a:lnTo>
                    <a:lnTo>
                      <a:pt x="1389" y="3381"/>
                    </a:lnTo>
                    <a:lnTo>
                      <a:pt x="1307" y="3362"/>
                    </a:lnTo>
                    <a:lnTo>
                      <a:pt x="1227" y="3339"/>
                    </a:lnTo>
                    <a:lnTo>
                      <a:pt x="1149" y="3313"/>
                    </a:lnTo>
                    <a:lnTo>
                      <a:pt x="1073" y="3283"/>
                    </a:lnTo>
                    <a:lnTo>
                      <a:pt x="997" y="3249"/>
                    </a:lnTo>
                    <a:lnTo>
                      <a:pt x="925" y="3212"/>
                    </a:lnTo>
                    <a:lnTo>
                      <a:pt x="854" y="3170"/>
                    </a:lnTo>
                    <a:lnTo>
                      <a:pt x="785" y="3127"/>
                    </a:lnTo>
                    <a:lnTo>
                      <a:pt x="719" y="3080"/>
                    </a:lnTo>
                    <a:lnTo>
                      <a:pt x="656" y="3030"/>
                    </a:lnTo>
                    <a:lnTo>
                      <a:pt x="594" y="2977"/>
                    </a:lnTo>
                    <a:lnTo>
                      <a:pt x="536" y="2921"/>
                    </a:lnTo>
                    <a:lnTo>
                      <a:pt x="480" y="2863"/>
                    </a:lnTo>
                    <a:lnTo>
                      <a:pt x="427" y="2801"/>
                    </a:lnTo>
                    <a:lnTo>
                      <a:pt x="377" y="2737"/>
                    </a:lnTo>
                    <a:lnTo>
                      <a:pt x="329" y="2672"/>
                    </a:lnTo>
                    <a:lnTo>
                      <a:pt x="286" y="2603"/>
                    </a:lnTo>
                    <a:lnTo>
                      <a:pt x="245" y="2532"/>
                    </a:lnTo>
                    <a:lnTo>
                      <a:pt x="208" y="2460"/>
                    </a:lnTo>
                    <a:lnTo>
                      <a:pt x="174" y="2385"/>
                    </a:lnTo>
                    <a:lnTo>
                      <a:pt x="143" y="2309"/>
                    </a:lnTo>
                    <a:lnTo>
                      <a:pt x="118" y="2230"/>
                    </a:lnTo>
                    <a:lnTo>
                      <a:pt x="95" y="2150"/>
                    </a:lnTo>
                    <a:lnTo>
                      <a:pt x="75" y="2069"/>
                    </a:lnTo>
                    <a:lnTo>
                      <a:pt x="61" y="1986"/>
                    </a:lnTo>
                    <a:lnTo>
                      <a:pt x="51" y="1900"/>
                    </a:lnTo>
                    <a:lnTo>
                      <a:pt x="44" y="1815"/>
                    </a:lnTo>
                    <a:lnTo>
                      <a:pt x="42" y="1729"/>
                    </a:lnTo>
                    <a:lnTo>
                      <a:pt x="44" y="1641"/>
                    </a:lnTo>
                    <a:lnTo>
                      <a:pt x="51" y="1556"/>
                    </a:lnTo>
                    <a:lnTo>
                      <a:pt x="61" y="1472"/>
                    </a:lnTo>
                    <a:lnTo>
                      <a:pt x="75" y="1388"/>
                    </a:lnTo>
                    <a:lnTo>
                      <a:pt x="95" y="1306"/>
                    </a:lnTo>
                    <a:lnTo>
                      <a:pt x="118" y="1226"/>
                    </a:lnTo>
                    <a:lnTo>
                      <a:pt x="143" y="1149"/>
                    </a:lnTo>
                    <a:lnTo>
                      <a:pt x="174" y="1072"/>
                    </a:lnTo>
                    <a:lnTo>
                      <a:pt x="208" y="998"/>
                    </a:lnTo>
                    <a:lnTo>
                      <a:pt x="245" y="924"/>
                    </a:lnTo>
                    <a:lnTo>
                      <a:pt x="286" y="854"/>
                    </a:lnTo>
                    <a:lnTo>
                      <a:pt x="329" y="786"/>
                    </a:lnTo>
                    <a:lnTo>
                      <a:pt x="377" y="719"/>
                    </a:lnTo>
                    <a:lnTo>
                      <a:pt x="427" y="655"/>
                    </a:lnTo>
                    <a:lnTo>
                      <a:pt x="480" y="595"/>
                    </a:lnTo>
                    <a:lnTo>
                      <a:pt x="536" y="535"/>
                    </a:lnTo>
                    <a:lnTo>
                      <a:pt x="594" y="480"/>
                    </a:lnTo>
                    <a:lnTo>
                      <a:pt x="656" y="427"/>
                    </a:lnTo>
                    <a:lnTo>
                      <a:pt x="719" y="377"/>
                    </a:lnTo>
                    <a:lnTo>
                      <a:pt x="785" y="330"/>
                    </a:lnTo>
                    <a:lnTo>
                      <a:pt x="854" y="286"/>
                    </a:lnTo>
                    <a:lnTo>
                      <a:pt x="925" y="245"/>
                    </a:lnTo>
                    <a:lnTo>
                      <a:pt x="997" y="208"/>
                    </a:lnTo>
                    <a:lnTo>
                      <a:pt x="1073" y="175"/>
                    </a:lnTo>
                    <a:lnTo>
                      <a:pt x="1149" y="144"/>
                    </a:lnTo>
                    <a:lnTo>
                      <a:pt x="1227" y="117"/>
                    </a:lnTo>
                    <a:lnTo>
                      <a:pt x="1307" y="95"/>
                    </a:lnTo>
                    <a:lnTo>
                      <a:pt x="1389" y="76"/>
                    </a:lnTo>
                    <a:lnTo>
                      <a:pt x="1473" y="61"/>
                    </a:lnTo>
                    <a:lnTo>
                      <a:pt x="1557" y="50"/>
                    </a:lnTo>
                    <a:lnTo>
                      <a:pt x="1642" y="44"/>
                    </a:lnTo>
                    <a:lnTo>
                      <a:pt x="1729" y="42"/>
                    </a:lnTo>
                    <a:lnTo>
                      <a:pt x="1816" y="44"/>
                    </a:lnTo>
                    <a:lnTo>
                      <a:pt x="1902" y="50"/>
                    </a:lnTo>
                    <a:lnTo>
                      <a:pt x="1986" y="61"/>
                    </a:lnTo>
                    <a:lnTo>
                      <a:pt x="2069" y="76"/>
                    </a:lnTo>
                    <a:lnTo>
                      <a:pt x="2151" y="95"/>
                    </a:lnTo>
                    <a:lnTo>
                      <a:pt x="2231" y="117"/>
                    </a:lnTo>
                    <a:lnTo>
                      <a:pt x="2309" y="144"/>
                    </a:lnTo>
                    <a:lnTo>
                      <a:pt x="2386" y="175"/>
                    </a:lnTo>
                    <a:lnTo>
                      <a:pt x="2461" y="208"/>
                    </a:lnTo>
                    <a:lnTo>
                      <a:pt x="2534" y="245"/>
                    </a:lnTo>
                    <a:lnTo>
                      <a:pt x="2604" y="286"/>
                    </a:lnTo>
                    <a:lnTo>
                      <a:pt x="2673" y="330"/>
                    </a:lnTo>
                    <a:lnTo>
                      <a:pt x="2739" y="377"/>
                    </a:lnTo>
                    <a:lnTo>
                      <a:pt x="2803" y="427"/>
                    </a:lnTo>
                    <a:lnTo>
                      <a:pt x="2864" y="480"/>
                    </a:lnTo>
                    <a:lnTo>
                      <a:pt x="2923" y="535"/>
                    </a:lnTo>
                    <a:lnTo>
                      <a:pt x="2979" y="595"/>
                    </a:lnTo>
                    <a:lnTo>
                      <a:pt x="3032" y="655"/>
                    </a:lnTo>
                    <a:lnTo>
                      <a:pt x="3081" y="719"/>
                    </a:lnTo>
                    <a:lnTo>
                      <a:pt x="3129" y="786"/>
                    </a:lnTo>
                    <a:lnTo>
                      <a:pt x="3172" y="854"/>
                    </a:lnTo>
                    <a:lnTo>
                      <a:pt x="3213" y="924"/>
                    </a:lnTo>
                    <a:lnTo>
                      <a:pt x="3250" y="998"/>
                    </a:lnTo>
                    <a:lnTo>
                      <a:pt x="3285" y="1072"/>
                    </a:lnTo>
                    <a:lnTo>
                      <a:pt x="3314" y="1149"/>
                    </a:lnTo>
                    <a:lnTo>
                      <a:pt x="3341" y="1226"/>
                    </a:lnTo>
                    <a:lnTo>
                      <a:pt x="3363" y="1306"/>
                    </a:lnTo>
                    <a:lnTo>
                      <a:pt x="3383" y="1388"/>
                    </a:lnTo>
                    <a:lnTo>
                      <a:pt x="3397" y="1472"/>
                    </a:lnTo>
                    <a:lnTo>
                      <a:pt x="3408" y="1556"/>
                    </a:lnTo>
                    <a:lnTo>
                      <a:pt x="3414" y="1641"/>
                    </a:lnTo>
                    <a:lnTo>
                      <a:pt x="3416" y="1729"/>
                    </a:lnTo>
                    <a:lnTo>
                      <a:pt x="3415" y="1785"/>
                    </a:lnTo>
                    <a:lnTo>
                      <a:pt x="3413" y="1841"/>
                    </a:lnTo>
                    <a:lnTo>
                      <a:pt x="3409" y="1897"/>
                    </a:lnTo>
                    <a:lnTo>
                      <a:pt x="3402" y="1952"/>
                    </a:lnTo>
                    <a:lnTo>
                      <a:pt x="3394" y="2006"/>
                    </a:lnTo>
                    <a:lnTo>
                      <a:pt x="3384" y="2060"/>
                    </a:lnTo>
                    <a:lnTo>
                      <a:pt x="3372" y="2114"/>
                    </a:lnTo>
                    <a:lnTo>
                      <a:pt x="3359" y="2167"/>
                    </a:lnTo>
                    <a:lnTo>
                      <a:pt x="3399" y="2178"/>
                    </a:lnTo>
                    <a:lnTo>
                      <a:pt x="3413" y="2124"/>
                    </a:lnTo>
                    <a:lnTo>
                      <a:pt x="3425" y="2069"/>
                    </a:lnTo>
                    <a:lnTo>
                      <a:pt x="3435" y="2014"/>
                    </a:lnTo>
                    <a:lnTo>
                      <a:pt x="3443" y="1958"/>
                    </a:lnTo>
                    <a:lnTo>
                      <a:pt x="3450" y="1901"/>
                    </a:lnTo>
                    <a:lnTo>
                      <a:pt x="3454" y="1844"/>
                    </a:lnTo>
                    <a:lnTo>
                      <a:pt x="3458" y="1787"/>
                    </a:lnTo>
                    <a:lnTo>
                      <a:pt x="3459" y="1729"/>
                    </a:lnTo>
                    <a:close/>
                  </a:path>
                </a:pathLst>
              </a:custGeom>
              <a:solidFill>
                <a:srgbClr val="e6d7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3895560" y="2319120"/>
              <a:ext cx="1357560" cy="1355760"/>
            </a:xfrm>
            <a:custGeom>
              <a:avLst/>
              <a:gdLst/>
              <a:ahLst/>
              <a:rect l="l" t="t" r="r" b="b"/>
              <a:pathLst>
                <a:path w="3418" h="3415">
                  <a:moveTo>
                    <a:pt x="3418" y="1708"/>
                  </a:moveTo>
                  <a:lnTo>
                    <a:pt x="3415" y="1619"/>
                  </a:lnTo>
                  <a:lnTo>
                    <a:pt x="3408" y="1533"/>
                  </a:lnTo>
                  <a:lnTo>
                    <a:pt x="3398" y="1447"/>
                  </a:lnTo>
                  <a:lnTo>
                    <a:pt x="3382" y="1363"/>
                  </a:lnTo>
                  <a:lnTo>
                    <a:pt x="3364" y="1281"/>
                  </a:lnTo>
                  <a:lnTo>
                    <a:pt x="3340" y="1200"/>
                  </a:lnTo>
                  <a:lnTo>
                    <a:pt x="3314" y="1120"/>
                  </a:lnTo>
                  <a:lnTo>
                    <a:pt x="3283" y="1042"/>
                  </a:lnTo>
                  <a:lnTo>
                    <a:pt x="3249" y="967"/>
                  </a:lnTo>
                  <a:lnTo>
                    <a:pt x="3212" y="893"/>
                  </a:lnTo>
                  <a:lnTo>
                    <a:pt x="3171" y="822"/>
                  </a:lnTo>
                  <a:lnTo>
                    <a:pt x="3126" y="753"/>
                  </a:lnTo>
                  <a:lnTo>
                    <a:pt x="3078" y="686"/>
                  </a:lnTo>
                  <a:lnTo>
                    <a:pt x="3027" y="621"/>
                  </a:lnTo>
                  <a:lnTo>
                    <a:pt x="2974" y="560"/>
                  </a:lnTo>
                  <a:lnTo>
                    <a:pt x="2917" y="500"/>
                  </a:lnTo>
                  <a:lnTo>
                    <a:pt x="2858" y="443"/>
                  </a:lnTo>
                  <a:lnTo>
                    <a:pt x="2796" y="390"/>
                  </a:lnTo>
                  <a:lnTo>
                    <a:pt x="2731" y="339"/>
                  </a:lnTo>
                  <a:lnTo>
                    <a:pt x="2664" y="292"/>
                  </a:lnTo>
                  <a:lnTo>
                    <a:pt x="2595" y="248"/>
                  </a:lnTo>
                  <a:lnTo>
                    <a:pt x="2523" y="205"/>
                  </a:lnTo>
                  <a:lnTo>
                    <a:pt x="2450" y="169"/>
                  </a:lnTo>
                  <a:lnTo>
                    <a:pt x="2374" y="134"/>
                  </a:lnTo>
                  <a:lnTo>
                    <a:pt x="2296" y="104"/>
                  </a:lnTo>
                  <a:lnTo>
                    <a:pt x="2218" y="77"/>
                  </a:lnTo>
                  <a:lnTo>
                    <a:pt x="2137" y="53"/>
                  </a:lnTo>
                  <a:lnTo>
                    <a:pt x="2053" y="35"/>
                  </a:lnTo>
                  <a:lnTo>
                    <a:pt x="1969" y="20"/>
                  </a:lnTo>
                  <a:lnTo>
                    <a:pt x="1884" y="9"/>
                  </a:lnTo>
                  <a:lnTo>
                    <a:pt x="1797" y="2"/>
                  </a:lnTo>
                  <a:lnTo>
                    <a:pt x="1709" y="0"/>
                  </a:lnTo>
                  <a:lnTo>
                    <a:pt x="1621" y="2"/>
                  </a:lnTo>
                  <a:lnTo>
                    <a:pt x="1535" y="9"/>
                  </a:lnTo>
                  <a:lnTo>
                    <a:pt x="1449" y="20"/>
                  </a:lnTo>
                  <a:lnTo>
                    <a:pt x="1365" y="35"/>
                  </a:lnTo>
                  <a:lnTo>
                    <a:pt x="1282" y="53"/>
                  </a:lnTo>
                  <a:lnTo>
                    <a:pt x="1201" y="77"/>
                  </a:lnTo>
                  <a:lnTo>
                    <a:pt x="1122" y="104"/>
                  </a:lnTo>
                  <a:lnTo>
                    <a:pt x="1044" y="134"/>
                  </a:lnTo>
                  <a:lnTo>
                    <a:pt x="968" y="169"/>
                  </a:lnTo>
                  <a:lnTo>
                    <a:pt x="895" y="205"/>
                  </a:lnTo>
                  <a:lnTo>
                    <a:pt x="824" y="248"/>
                  </a:lnTo>
                  <a:lnTo>
                    <a:pt x="755" y="292"/>
                  </a:lnTo>
                  <a:lnTo>
                    <a:pt x="688" y="339"/>
                  </a:lnTo>
                  <a:lnTo>
                    <a:pt x="623" y="390"/>
                  </a:lnTo>
                  <a:lnTo>
                    <a:pt x="560" y="443"/>
                  </a:lnTo>
                  <a:lnTo>
                    <a:pt x="502" y="500"/>
                  </a:lnTo>
                  <a:lnTo>
                    <a:pt x="444" y="560"/>
                  </a:lnTo>
                  <a:lnTo>
                    <a:pt x="390" y="621"/>
                  </a:lnTo>
                  <a:lnTo>
                    <a:pt x="341" y="686"/>
                  </a:lnTo>
                  <a:lnTo>
                    <a:pt x="292" y="753"/>
                  </a:lnTo>
                  <a:lnTo>
                    <a:pt x="248" y="822"/>
                  </a:lnTo>
                  <a:lnTo>
                    <a:pt x="207" y="893"/>
                  </a:lnTo>
                  <a:lnTo>
                    <a:pt x="169" y="967"/>
                  </a:lnTo>
                  <a:lnTo>
                    <a:pt x="135" y="1042"/>
                  </a:lnTo>
                  <a:lnTo>
                    <a:pt x="104" y="1120"/>
                  </a:lnTo>
                  <a:lnTo>
                    <a:pt x="77" y="1200"/>
                  </a:lnTo>
                  <a:lnTo>
                    <a:pt x="54" y="1281"/>
                  </a:lnTo>
                  <a:lnTo>
                    <a:pt x="36" y="1363"/>
                  </a:lnTo>
                  <a:lnTo>
                    <a:pt x="21" y="1447"/>
                  </a:lnTo>
                  <a:lnTo>
                    <a:pt x="10" y="1533"/>
                  </a:lnTo>
                  <a:lnTo>
                    <a:pt x="2" y="1619"/>
                  </a:lnTo>
                  <a:lnTo>
                    <a:pt x="0" y="1708"/>
                  </a:lnTo>
                  <a:lnTo>
                    <a:pt x="2" y="1795"/>
                  </a:lnTo>
                  <a:lnTo>
                    <a:pt x="10" y="1882"/>
                  </a:lnTo>
                  <a:lnTo>
                    <a:pt x="21" y="1968"/>
                  </a:lnTo>
                  <a:lnTo>
                    <a:pt x="36" y="2051"/>
                  </a:lnTo>
                  <a:lnTo>
                    <a:pt x="54" y="2134"/>
                  </a:lnTo>
                  <a:lnTo>
                    <a:pt x="77" y="2215"/>
                  </a:lnTo>
                  <a:lnTo>
                    <a:pt x="104" y="2294"/>
                  </a:lnTo>
                  <a:lnTo>
                    <a:pt x="135" y="2372"/>
                  </a:lnTo>
                  <a:lnTo>
                    <a:pt x="169" y="2447"/>
                  </a:lnTo>
                  <a:lnTo>
                    <a:pt x="207" y="2521"/>
                  </a:lnTo>
                  <a:lnTo>
                    <a:pt x="248" y="2593"/>
                  </a:lnTo>
                  <a:lnTo>
                    <a:pt x="292" y="2662"/>
                  </a:lnTo>
                  <a:lnTo>
                    <a:pt x="341" y="2729"/>
                  </a:lnTo>
                  <a:lnTo>
                    <a:pt x="390" y="2793"/>
                  </a:lnTo>
                  <a:lnTo>
                    <a:pt x="444" y="2856"/>
                  </a:lnTo>
                  <a:lnTo>
                    <a:pt x="502" y="2915"/>
                  </a:lnTo>
                  <a:lnTo>
                    <a:pt x="560" y="2971"/>
                  </a:lnTo>
                  <a:lnTo>
                    <a:pt x="623" y="3025"/>
                  </a:lnTo>
                  <a:lnTo>
                    <a:pt x="688" y="3076"/>
                  </a:lnTo>
                  <a:lnTo>
                    <a:pt x="755" y="3124"/>
                  </a:lnTo>
                  <a:lnTo>
                    <a:pt x="824" y="3168"/>
                  </a:lnTo>
                  <a:lnTo>
                    <a:pt x="895" y="3209"/>
                  </a:lnTo>
                  <a:lnTo>
                    <a:pt x="968" y="3247"/>
                  </a:lnTo>
                  <a:lnTo>
                    <a:pt x="1044" y="3281"/>
                  </a:lnTo>
                  <a:lnTo>
                    <a:pt x="1122" y="3311"/>
                  </a:lnTo>
                  <a:lnTo>
                    <a:pt x="1201" y="3338"/>
                  </a:lnTo>
                  <a:lnTo>
                    <a:pt x="1282" y="3361"/>
                  </a:lnTo>
                  <a:lnTo>
                    <a:pt x="1365" y="3381"/>
                  </a:lnTo>
                  <a:lnTo>
                    <a:pt x="1449" y="3396"/>
                  </a:lnTo>
                  <a:lnTo>
                    <a:pt x="1535" y="3407"/>
                  </a:lnTo>
                  <a:lnTo>
                    <a:pt x="1621" y="3413"/>
                  </a:lnTo>
                  <a:lnTo>
                    <a:pt x="1709" y="3415"/>
                  </a:lnTo>
                  <a:lnTo>
                    <a:pt x="1759" y="3414"/>
                  </a:lnTo>
                  <a:lnTo>
                    <a:pt x="1809" y="3412"/>
                  </a:lnTo>
                  <a:lnTo>
                    <a:pt x="1859" y="3409"/>
                  </a:lnTo>
                  <a:lnTo>
                    <a:pt x="1907" y="3403"/>
                  </a:lnTo>
                  <a:lnTo>
                    <a:pt x="1956" y="3397"/>
                  </a:lnTo>
                  <a:lnTo>
                    <a:pt x="2005" y="3389"/>
                  </a:lnTo>
                  <a:lnTo>
                    <a:pt x="2052" y="3381"/>
                  </a:lnTo>
                  <a:lnTo>
                    <a:pt x="2100" y="3370"/>
                  </a:lnTo>
                  <a:lnTo>
                    <a:pt x="2146" y="3359"/>
                  </a:lnTo>
                  <a:lnTo>
                    <a:pt x="2193" y="3346"/>
                  </a:lnTo>
                  <a:lnTo>
                    <a:pt x="2238" y="3332"/>
                  </a:lnTo>
                  <a:lnTo>
                    <a:pt x="2283" y="3316"/>
                  </a:lnTo>
                  <a:lnTo>
                    <a:pt x="2328" y="3300"/>
                  </a:lnTo>
                  <a:lnTo>
                    <a:pt x="2372" y="3281"/>
                  </a:lnTo>
                  <a:lnTo>
                    <a:pt x="2415" y="3263"/>
                  </a:lnTo>
                  <a:lnTo>
                    <a:pt x="2459" y="3242"/>
                  </a:lnTo>
                  <a:lnTo>
                    <a:pt x="2440" y="3205"/>
                  </a:lnTo>
                  <a:lnTo>
                    <a:pt x="2398" y="3225"/>
                  </a:lnTo>
                  <a:lnTo>
                    <a:pt x="2356" y="3243"/>
                  </a:lnTo>
                  <a:lnTo>
                    <a:pt x="2313" y="3261"/>
                  </a:lnTo>
                  <a:lnTo>
                    <a:pt x="2269" y="3277"/>
                  </a:lnTo>
                  <a:lnTo>
                    <a:pt x="2225" y="3292"/>
                  </a:lnTo>
                  <a:lnTo>
                    <a:pt x="2181" y="3306"/>
                  </a:lnTo>
                  <a:lnTo>
                    <a:pt x="2135" y="3318"/>
                  </a:lnTo>
                  <a:lnTo>
                    <a:pt x="2090" y="3330"/>
                  </a:lnTo>
                  <a:lnTo>
                    <a:pt x="2044" y="3340"/>
                  </a:lnTo>
                  <a:lnTo>
                    <a:pt x="1997" y="3348"/>
                  </a:lnTo>
                  <a:lnTo>
                    <a:pt x="1951" y="3356"/>
                  </a:lnTo>
                  <a:lnTo>
                    <a:pt x="1903" y="3362"/>
                  </a:lnTo>
                  <a:lnTo>
                    <a:pt x="1855" y="3367"/>
                  </a:lnTo>
                  <a:lnTo>
                    <a:pt x="1807" y="3371"/>
                  </a:lnTo>
                  <a:lnTo>
                    <a:pt x="1758" y="3373"/>
                  </a:lnTo>
                  <a:lnTo>
                    <a:pt x="1709" y="3373"/>
                  </a:lnTo>
                  <a:lnTo>
                    <a:pt x="1623" y="3371"/>
                  </a:lnTo>
                  <a:lnTo>
                    <a:pt x="1539" y="3364"/>
                  </a:lnTo>
                  <a:lnTo>
                    <a:pt x="1456" y="3355"/>
                  </a:lnTo>
                  <a:lnTo>
                    <a:pt x="1374" y="3340"/>
                  </a:lnTo>
                  <a:lnTo>
                    <a:pt x="1293" y="3321"/>
                  </a:lnTo>
                  <a:lnTo>
                    <a:pt x="1214" y="3299"/>
                  </a:lnTo>
                  <a:lnTo>
                    <a:pt x="1136" y="3273"/>
                  </a:lnTo>
                  <a:lnTo>
                    <a:pt x="1060" y="3242"/>
                  </a:lnTo>
                  <a:lnTo>
                    <a:pt x="987" y="3209"/>
                  </a:lnTo>
                  <a:lnTo>
                    <a:pt x="914" y="3172"/>
                  </a:lnTo>
                  <a:lnTo>
                    <a:pt x="845" y="3132"/>
                  </a:lnTo>
                  <a:lnTo>
                    <a:pt x="777" y="3089"/>
                  </a:lnTo>
                  <a:lnTo>
                    <a:pt x="712" y="3043"/>
                  </a:lnTo>
                  <a:lnTo>
                    <a:pt x="649" y="2993"/>
                  </a:lnTo>
                  <a:lnTo>
                    <a:pt x="588" y="2941"/>
                  </a:lnTo>
                  <a:lnTo>
                    <a:pt x="531" y="2885"/>
                  </a:lnTo>
                  <a:lnTo>
                    <a:pt x="476" y="2828"/>
                  </a:lnTo>
                  <a:lnTo>
                    <a:pt x="423" y="2767"/>
                  </a:lnTo>
                  <a:lnTo>
                    <a:pt x="373" y="2705"/>
                  </a:lnTo>
                  <a:lnTo>
                    <a:pt x="327" y="2639"/>
                  </a:lnTo>
                  <a:lnTo>
                    <a:pt x="283" y="2572"/>
                  </a:lnTo>
                  <a:lnTo>
                    <a:pt x="243" y="2501"/>
                  </a:lnTo>
                  <a:lnTo>
                    <a:pt x="207" y="2429"/>
                  </a:lnTo>
                  <a:lnTo>
                    <a:pt x="173" y="2356"/>
                  </a:lnTo>
                  <a:lnTo>
                    <a:pt x="144" y="2280"/>
                  </a:lnTo>
                  <a:lnTo>
                    <a:pt x="117" y="2202"/>
                  </a:lnTo>
                  <a:lnTo>
                    <a:pt x="95" y="2123"/>
                  </a:lnTo>
                  <a:lnTo>
                    <a:pt x="76" y="2044"/>
                  </a:lnTo>
                  <a:lnTo>
                    <a:pt x="62" y="1961"/>
                  </a:lnTo>
                  <a:lnTo>
                    <a:pt x="51" y="1877"/>
                  </a:lnTo>
                  <a:lnTo>
                    <a:pt x="45" y="1793"/>
                  </a:lnTo>
                  <a:lnTo>
                    <a:pt x="42" y="1708"/>
                  </a:lnTo>
                  <a:lnTo>
                    <a:pt x="45" y="1621"/>
                  </a:lnTo>
                  <a:lnTo>
                    <a:pt x="51" y="1537"/>
                  </a:lnTo>
                  <a:lnTo>
                    <a:pt x="62" y="1454"/>
                  </a:lnTo>
                  <a:lnTo>
                    <a:pt x="76" y="1372"/>
                  </a:lnTo>
                  <a:lnTo>
                    <a:pt x="95" y="1291"/>
                  </a:lnTo>
                  <a:lnTo>
                    <a:pt x="117" y="1212"/>
                  </a:lnTo>
                  <a:lnTo>
                    <a:pt x="144" y="1134"/>
                  </a:lnTo>
                  <a:lnTo>
                    <a:pt x="173" y="1059"/>
                  </a:lnTo>
                  <a:lnTo>
                    <a:pt x="207" y="985"/>
                  </a:lnTo>
                  <a:lnTo>
                    <a:pt x="243" y="914"/>
                  </a:lnTo>
                  <a:lnTo>
                    <a:pt x="283" y="844"/>
                  </a:lnTo>
                  <a:lnTo>
                    <a:pt x="327" y="776"/>
                  </a:lnTo>
                  <a:lnTo>
                    <a:pt x="373" y="711"/>
                  </a:lnTo>
                  <a:lnTo>
                    <a:pt x="423" y="648"/>
                  </a:lnTo>
                  <a:lnTo>
                    <a:pt x="476" y="588"/>
                  </a:lnTo>
                  <a:lnTo>
                    <a:pt x="531" y="529"/>
                  </a:lnTo>
                  <a:lnTo>
                    <a:pt x="588" y="474"/>
                  </a:lnTo>
                  <a:lnTo>
                    <a:pt x="649" y="421"/>
                  </a:lnTo>
                  <a:lnTo>
                    <a:pt x="712" y="373"/>
                  </a:lnTo>
                  <a:lnTo>
                    <a:pt x="777" y="326"/>
                  </a:lnTo>
                  <a:lnTo>
                    <a:pt x="845" y="283"/>
                  </a:lnTo>
                  <a:lnTo>
                    <a:pt x="914" y="242"/>
                  </a:lnTo>
                  <a:lnTo>
                    <a:pt x="987" y="205"/>
                  </a:lnTo>
                  <a:lnTo>
                    <a:pt x="1060" y="172"/>
                  </a:lnTo>
                  <a:lnTo>
                    <a:pt x="1136" y="143"/>
                  </a:lnTo>
                  <a:lnTo>
                    <a:pt x="1214" y="117"/>
                  </a:lnTo>
                  <a:lnTo>
                    <a:pt x="1293" y="94"/>
                  </a:lnTo>
                  <a:lnTo>
                    <a:pt x="1374" y="76"/>
                  </a:lnTo>
                  <a:lnTo>
                    <a:pt x="1456" y="61"/>
                  </a:lnTo>
                  <a:lnTo>
                    <a:pt x="1539" y="50"/>
                  </a:lnTo>
                  <a:lnTo>
                    <a:pt x="1623" y="43"/>
                  </a:lnTo>
                  <a:lnTo>
                    <a:pt x="1709" y="41"/>
                  </a:lnTo>
                  <a:lnTo>
                    <a:pt x="1795" y="43"/>
                  </a:lnTo>
                  <a:lnTo>
                    <a:pt x="1879" y="50"/>
                  </a:lnTo>
                  <a:lnTo>
                    <a:pt x="1963" y="61"/>
                  </a:lnTo>
                  <a:lnTo>
                    <a:pt x="2045" y="76"/>
                  </a:lnTo>
                  <a:lnTo>
                    <a:pt x="2126" y="94"/>
                  </a:lnTo>
                  <a:lnTo>
                    <a:pt x="2205" y="117"/>
                  </a:lnTo>
                  <a:lnTo>
                    <a:pt x="2282" y="143"/>
                  </a:lnTo>
                  <a:lnTo>
                    <a:pt x="2358" y="172"/>
                  </a:lnTo>
                  <a:lnTo>
                    <a:pt x="2432" y="205"/>
                  </a:lnTo>
                  <a:lnTo>
                    <a:pt x="2504" y="242"/>
                  </a:lnTo>
                  <a:lnTo>
                    <a:pt x="2573" y="283"/>
                  </a:lnTo>
                  <a:lnTo>
                    <a:pt x="2641" y="326"/>
                  </a:lnTo>
                  <a:lnTo>
                    <a:pt x="2706" y="373"/>
                  </a:lnTo>
                  <a:lnTo>
                    <a:pt x="2770" y="421"/>
                  </a:lnTo>
                  <a:lnTo>
                    <a:pt x="2830" y="474"/>
                  </a:lnTo>
                  <a:lnTo>
                    <a:pt x="2888" y="529"/>
                  </a:lnTo>
                  <a:lnTo>
                    <a:pt x="2943" y="588"/>
                  </a:lnTo>
                  <a:lnTo>
                    <a:pt x="2996" y="648"/>
                  </a:lnTo>
                  <a:lnTo>
                    <a:pt x="3045" y="711"/>
                  </a:lnTo>
                  <a:lnTo>
                    <a:pt x="3092" y="776"/>
                  </a:lnTo>
                  <a:lnTo>
                    <a:pt x="3135" y="844"/>
                  </a:lnTo>
                  <a:lnTo>
                    <a:pt x="3175" y="914"/>
                  </a:lnTo>
                  <a:lnTo>
                    <a:pt x="3212" y="985"/>
                  </a:lnTo>
                  <a:lnTo>
                    <a:pt x="3245" y="1059"/>
                  </a:lnTo>
                  <a:lnTo>
                    <a:pt x="3274" y="1134"/>
                  </a:lnTo>
                  <a:lnTo>
                    <a:pt x="3301" y="1212"/>
                  </a:lnTo>
                  <a:lnTo>
                    <a:pt x="3323" y="1291"/>
                  </a:lnTo>
                  <a:lnTo>
                    <a:pt x="3342" y="1372"/>
                  </a:lnTo>
                  <a:lnTo>
                    <a:pt x="3356" y="1454"/>
                  </a:lnTo>
                  <a:lnTo>
                    <a:pt x="3367" y="1537"/>
                  </a:lnTo>
                  <a:lnTo>
                    <a:pt x="3374" y="1621"/>
                  </a:lnTo>
                  <a:lnTo>
                    <a:pt x="3376" y="1708"/>
                  </a:lnTo>
                  <a:lnTo>
                    <a:pt x="3375" y="1764"/>
                  </a:lnTo>
                  <a:lnTo>
                    <a:pt x="3373" y="1819"/>
                  </a:lnTo>
                  <a:lnTo>
                    <a:pt x="3367" y="1874"/>
                  </a:lnTo>
                  <a:lnTo>
                    <a:pt x="3361" y="1928"/>
                  </a:lnTo>
                  <a:lnTo>
                    <a:pt x="3353" y="1982"/>
                  </a:lnTo>
                  <a:lnTo>
                    <a:pt x="3343" y="2036"/>
                  </a:lnTo>
                  <a:lnTo>
                    <a:pt x="3332" y="2089"/>
                  </a:lnTo>
                  <a:lnTo>
                    <a:pt x="3319" y="2141"/>
                  </a:lnTo>
                  <a:lnTo>
                    <a:pt x="3359" y="2152"/>
                  </a:lnTo>
                  <a:lnTo>
                    <a:pt x="3373" y="2098"/>
                  </a:lnTo>
                  <a:lnTo>
                    <a:pt x="3385" y="2044"/>
                  </a:lnTo>
                  <a:lnTo>
                    <a:pt x="3394" y="1990"/>
                  </a:lnTo>
                  <a:lnTo>
                    <a:pt x="3403" y="1933"/>
                  </a:lnTo>
                  <a:lnTo>
                    <a:pt x="3409" y="1878"/>
                  </a:lnTo>
                  <a:lnTo>
                    <a:pt x="3414" y="1822"/>
                  </a:lnTo>
                  <a:lnTo>
                    <a:pt x="3417" y="1765"/>
                  </a:lnTo>
                  <a:lnTo>
                    <a:pt x="3418" y="1708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903840" y="2327400"/>
              <a:ext cx="1339560" cy="1339560"/>
            </a:xfrm>
            <a:custGeom>
              <a:avLst/>
              <a:gdLst/>
              <a:ahLst/>
              <a:rect l="l" t="t" r="r" b="b"/>
              <a:pathLst>
                <a:path w="3374" h="3374">
                  <a:moveTo>
                    <a:pt x="3374" y="1687"/>
                  </a:moveTo>
                  <a:lnTo>
                    <a:pt x="3372" y="1599"/>
                  </a:lnTo>
                  <a:lnTo>
                    <a:pt x="3366" y="1514"/>
                  </a:lnTo>
                  <a:lnTo>
                    <a:pt x="3355" y="1430"/>
                  </a:lnTo>
                  <a:lnTo>
                    <a:pt x="3341" y="1346"/>
                  </a:lnTo>
                  <a:lnTo>
                    <a:pt x="3321" y="1264"/>
                  </a:lnTo>
                  <a:lnTo>
                    <a:pt x="3299" y="1184"/>
                  </a:lnTo>
                  <a:lnTo>
                    <a:pt x="3272" y="1107"/>
                  </a:lnTo>
                  <a:lnTo>
                    <a:pt x="3243" y="1030"/>
                  </a:lnTo>
                  <a:lnTo>
                    <a:pt x="3208" y="956"/>
                  </a:lnTo>
                  <a:lnTo>
                    <a:pt x="3171" y="882"/>
                  </a:lnTo>
                  <a:lnTo>
                    <a:pt x="3130" y="812"/>
                  </a:lnTo>
                  <a:lnTo>
                    <a:pt x="3087" y="744"/>
                  </a:lnTo>
                  <a:lnTo>
                    <a:pt x="3039" y="677"/>
                  </a:lnTo>
                  <a:lnTo>
                    <a:pt x="2990" y="613"/>
                  </a:lnTo>
                  <a:lnTo>
                    <a:pt x="2937" y="553"/>
                  </a:lnTo>
                  <a:lnTo>
                    <a:pt x="2881" y="493"/>
                  </a:lnTo>
                  <a:lnTo>
                    <a:pt x="2822" y="438"/>
                  </a:lnTo>
                  <a:lnTo>
                    <a:pt x="2761" y="385"/>
                  </a:lnTo>
                  <a:lnTo>
                    <a:pt x="2697" y="335"/>
                  </a:lnTo>
                  <a:lnTo>
                    <a:pt x="2631" y="288"/>
                  </a:lnTo>
                  <a:lnTo>
                    <a:pt x="2562" y="244"/>
                  </a:lnTo>
                  <a:lnTo>
                    <a:pt x="2492" y="203"/>
                  </a:lnTo>
                  <a:lnTo>
                    <a:pt x="2419" y="166"/>
                  </a:lnTo>
                  <a:lnTo>
                    <a:pt x="2344" y="133"/>
                  </a:lnTo>
                  <a:lnTo>
                    <a:pt x="2267" y="102"/>
                  </a:lnTo>
                  <a:lnTo>
                    <a:pt x="2189" y="75"/>
                  </a:lnTo>
                  <a:lnTo>
                    <a:pt x="2109" y="53"/>
                  </a:lnTo>
                  <a:lnTo>
                    <a:pt x="2027" y="34"/>
                  </a:lnTo>
                  <a:lnTo>
                    <a:pt x="1944" y="19"/>
                  </a:lnTo>
                  <a:lnTo>
                    <a:pt x="1860" y="8"/>
                  </a:lnTo>
                  <a:lnTo>
                    <a:pt x="1774" y="2"/>
                  </a:lnTo>
                  <a:lnTo>
                    <a:pt x="1687" y="0"/>
                  </a:lnTo>
                  <a:lnTo>
                    <a:pt x="1600" y="2"/>
                  </a:lnTo>
                  <a:lnTo>
                    <a:pt x="1515" y="8"/>
                  </a:lnTo>
                  <a:lnTo>
                    <a:pt x="1431" y="19"/>
                  </a:lnTo>
                  <a:lnTo>
                    <a:pt x="1347" y="34"/>
                  </a:lnTo>
                  <a:lnTo>
                    <a:pt x="1265" y="53"/>
                  </a:lnTo>
                  <a:lnTo>
                    <a:pt x="1185" y="75"/>
                  </a:lnTo>
                  <a:lnTo>
                    <a:pt x="1107" y="102"/>
                  </a:lnTo>
                  <a:lnTo>
                    <a:pt x="1031" y="133"/>
                  </a:lnTo>
                  <a:lnTo>
                    <a:pt x="955" y="166"/>
                  </a:lnTo>
                  <a:lnTo>
                    <a:pt x="883" y="203"/>
                  </a:lnTo>
                  <a:lnTo>
                    <a:pt x="812" y="244"/>
                  </a:lnTo>
                  <a:lnTo>
                    <a:pt x="743" y="288"/>
                  </a:lnTo>
                  <a:lnTo>
                    <a:pt x="677" y="335"/>
                  </a:lnTo>
                  <a:lnTo>
                    <a:pt x="614" y="385"/>
                  </a:lnTo>
                  <a:lnTo>
                    <a:pt x="552" y="438"/>
                  </a:lnTo>
                  <a:lnTo>
                    <a:pt x="494" y="493"/>
                  </a:lnTo>
                  <a:lnTo>
                    <a:pt x="438" y="553"/>
                  </a:lnTo>
                  <a:lnTo>
                    <a:pt x="385" y="613"/>
                  </a:lnTo>
                  <a:lnTo>
                    <a:pt x="335" y="677"/>
                  </a:lnTo>
                  <a:lnTo>
                    <a:pt x="287" y="744"/>
                  </a:lnTo>
                  <a:lnTo>
                    <a:pt x="244" y="812"/>
                  </a:lnTo>
                  <a:lnTo>
                    <a:pt x="203" y="882"/>
                  </a:lnTo>
                  <a:lnTo>
                    <a:pt x="166" y="956"/>
                  </a:lnTo>
                  <a:lnTo>
                    <a:pt x="132" y="1030"/>
                  </a:lnTo>
                  <a:lnTo>
                    <a:pt x="101" y="1107"/>
                  </a:lnTo>
                  <a:lnTo>
                    <a:pt x="76" y="1184"/>
                  </a:lnTo>
                  <a:lnTo>
                    <a:pt x="53" y="1264"/>
                  </a:lnTo>
                  <a:lnTo>
                    <a:pt x="33" y="1346"/>
                  </a:lnTo>
                  <a:lnTo>
                    <a:pt x="19" y="1430"/>
                  </a:lnTo>
                  <a:lnTo>
                    <a:pt x="9" y="1514"/>
                  </a:lnTo>
                  <a:lnTo>
                    <a:pt x="2" y="1599"/>
                  </a:lnTo>
                  <a:lnTo>
                    <a:pt x="0" y="1687"/>
                  </a:lnTo>
                  <a:lnTo>
                    <a:pt x="2" y="1773"/>
                  </a:lnTo>
                  <a:lnTo>
                    <a:pt x="9" y="1858"/>
                  </a:lnTo>
                  <a:lnTo>
                    <a:pt x="19" y="1944"/>
                  </a:lnTo>
                  <a:lnTo>
                    <a:pt x="33" y="2027"/>
                  </a:lnTo>
                  <a:lnTo>
                    <a:pt x="53" y="2108"/>
                  </a:lnTo>
                  <a:lnTo>
                    <a:pt x="76" y="2188"/>
                  </a:lnTo>
                  <a:lnTo>
                    <a:pt x="101" y="2267"/>
                  </a:lnTo>
                  <a:lnTo>
                    <a:pt x="132" y="2343"/>
                  </a:lnTo>
                  <a:lnTo>
                    <a:pt x="166" y="2418"/>
                  </a:lnTo>
                  <a:lnTo>
                    <a:pt x="203" y="2490"/>
                  </a:lnTo>
                  <a:lnTo>
                    <a:pt x="244" y="2561"/>
                  </a:lnTo>
                  <a:lnTo>
                    <a:pt x="287" y="2630"/>
                  </a:lnTo>
                  <a:lnTo>
                    <a:pt x="335" y="2695"/>
                  </a:lnTo>
                  <a:lnTo>
                    <a:pt x="385" y="2759"/>
                  </a:lnTo>
                  <a:lnTo>
                    <a:pt x="438" y="2821"/>
                  </a:lnTo>
                  <a:lnTo>
                    <a:pt x="494" y="2879"/>
                  </a:lnTo>
                  <a:lnTo>
                    <a:pt x="552" y="2935"/>
                  </a:lnTo>
                  <a:lnTo>
                    <a:pt x="614" y="2988"/>
                  </a:lnTo>
                  <a:lnTo>
                    <a:pt x="677" y="3038"/>
                  </a:lnTo>
                  <a:lnTo>
                    <a:pt x="743" y="3085"/>
                  </a:lnTo>
                  <a:lnTo>
                    <a:pt x="812" y="3128"/>
                  </a:lnTo>
                  <a:lnTo>
                    <a:pt x="883" y="3170"/>
                  </a:lnTo>
                  <a:lnTo>
                    <a:pt x="955" y="3207"/>
                  </a:lnTo>
                  <a:lnTo>
                    <a:pt x="1031" y="3241"/>
                  </a:lnTo>
                  <a:lnTo>
                    <a:pt x="1107" y="3271"/>
                  </a:lnTo>
                  <a:lnTo>
                    <a:pt x="1185" y="3297"/>
                  </a:lnTo>
                  <a:lnTo>
                    <a:pt x="1265" y="3320"/>
                  </a:lnTo>
                  <a:lnTo>
                    <a:pt x="1347" y="3339"/>
                  </a:lnTo>
                  <a:lnTo>
                    <a:pt x="1431" y="3354"/>
                  </a:lnTo>
                  <a:lnTo>
                    <a:pt x="1515" y="3365"/>
                  </a:lnTo>
                  <a:lnTo>
                    <a:pt x="1600" y="3371"/>
                  </a:lnTo>
                  <a:lnTo>
                    <a:pt x="1687" y="3374"/>
                  </a:lnTo>
                  <a:lnTo>
                    <a:pt x="1736" y="3373"/>
                  </a:lnTo>
                  <a:lnTo>
                    <a:pt x="1786" y="3370"/>
                  </a:lnTo>
                  <a:lnTo>
                    <a:pt x="1835" y="3367"/>
                  </a:lnTo>
                  <a:lnTo>
                    <a:pt x="1883" y="3362"/>
                  </a:lnTo>
                  <a:lnTo>
                    <a:pt x="1931" y="3355"/>
                  </a:lnTo>
                  <a:lnTo>
                    <a:pt x="1979" y="3348"/>
                  </a:lnTo>
                  <a:lnTo>
                    <a:pt x="2026" y="3339"/>
                  </a:lnTo>
                  <a:lnTo>
                    <a:pt x="2072" y="3329"/>
                  </a:lnTo>
                  <a:lnTo>
                    <a:pt x="2119" y="3317"/>
                  </a:lnTo>
                  <a:lnTo>
                    <a:pt x="2164" y="3305"/>
                  </a:lnTo>
                  <a:lnTo>
                    <a:pt x="2210" y="3290"/>
                  </a:lnTo>
                  <a:lnTo>
                    <a:pt x="2255" y="3275"/>
                  </a:lnTo>
                  <a:lnTo>
                    <a:pt x="2298" y="3259"/>
                  </a:lnTo>
                  <a:lnTo>
                    <a:pt x="2343" y="3242"/>
                  </a:lnTo>
                  <a:lnTo>
                    <a:pt x="2385" y="3222"/>
                  </a:lnTo>
                  <a:lnTo>
                    <a:pt x="2427" y="3203"/>
                  </a:lnTo>
                  <a:lnTo>
                    <a:pt x="2408" y="3165"/>
                  </a:lnTo>
                  <a:lnTo>
                    <a:pt x="2367" y="3185"/>
                  </a:lnTo>
                  <a:lnTo>
                    <a:pt x="2326" y="3203"/>
                  </a:lnTo>
                  <a:lnTo>
                    <a:pt x="2283" y="3220"/>
                  </a:lnTo>
                  <a:lnTo>
                    <a:pt x="2241" y="3236"/>
                  </a:lnTo>
                  <a:lnTo>
                    <a:pt x="2197" y="3251"/>
                  </a:lnTo>
                  <a:lnTo>
                    <a:pt x="2153" y="3265"/>
                  </a:lnTo>
                  <a:lnTo>
                    <a:pt x="2108" y="3278"/>
                  </a:lnTo>
                  <a:lnTo>
                    <a:pt x="2064" y="3288"/>
                  </a:lnTo>
                  <a:lnTo>
                    <a:pt x="2017" y="3298"/>
                  </a:lnTo>
                  <a:lnTo>
                    <a:pt x="1972" y="3307"/>
                  </a:lnTo>
                  <a:lnTo>
                    <a:pt x="1925" y="3314"/>
                  </a:lnTo>
                  <a:lnTo>
                    <a:pt x="1879" y="3321"/>
                  </a:lnTo>
                  <a:lnTo>
                    <a:pt x="1831" y="3325"/>
                  </a:lnTo>
                  <a:lnTo>
                    <a:pt x="1784" y="3328"/>
                  </a:lnTo>
                  <a:lnTo>
                    <a:pt x="1735" y="3330"/>
                  </a:lnTo>
                  <a:lnTo>
                    <a:pt x="1687" y="3332"/>
                  </a:lnTo>
                  <a:lnTo>
                    <a:pt x="1602" y="3329"/>
                  </a:lnTo>
                  <a:lnTo>
                    <a:pt x="1519" y="3323"/>
                  </a:lnTo>
                  <a:lnTo>
                    <a:pt x="1437" y="3312"/>
                  </a:lnTo>
                  <a:lnTo>
                    <a:pt x="1356" y="3298"/>
                  </a:lnTo>
                  <a:lnTo>
                    <a:pt x="1276" y="3280"/>
                  </a:lnTo>
                  <a:lnTo>
                    <a:pt x="1198" y="3258"/>
                  </a:lnTo>
                  <a:lnTo>
                    <a:pt x="1122" y="3232"/>
                  </a:lnTo>
                  <a:lnTo>
                    <a:pt x="1047" y="3202"/>
                  </a:lnTo>
                  <a:lnTo>
                    <a:pt x="973" y="3170"/>
                  </a:lnTo>
                  <a:lnTo>
                    <a:pt x="902" y="3133"/>
                  </a:lnTo>
                  <a:lnTo>
                    <a:pt x="834" y="3094"/>
                  </a:lnTo>
                  <a:lnTo>
                    <a:pt x="767" y="3051"/>
                  </a:lnTo>
                  <a:lnTo>
                    <a:pt x="702" y="3004"/>
                  </a:lnTo>
                  <a:lnTo>
                    <a:pt x="641" y="2956"/>
                  </a:lnTo>
                  <a:lnTo>
                    <a:pt x="580" y="2904"/>
                  </a:lnTo>
                  <a:lnTo>
                    <a:pt x="523" y="2850"/>
                  </a:lnTo>
                  <a:lnTo>
                    <a:pt x="469" y="2793"/>
                  </a:lnTo>
                  <a:lnTo>
                    <a:pt x="417" y="2733"/>
                  </a:lnTo>
                  <a:lnTo>
                    <a:pt x="368" y="2671"/>
                  </a:lnTo>
                  <a:lnTo>
                    <a:pt x="322" y="2606"/>
                  </a:lnTo>
                  <a:lnTo>
                    <a:pt x="280" y="2540"/>
                  </a:lnTo>
                  <a:lnTo>
                    <a:pt x="240" y="2471"/>
                  </a:lnTo>
                  <a:lnTo>
                    <a:pt x="203" y="2399"/>
                  </a:lnTo>
                  <a:lnTo>
                    <a:pt x="171" y="2327"/>
                  </a:lnTo>
                  <a:lnTo>
                    <a:pt x="141" y="2252"/>
                  </a:lnTo>
                  <a:lnTo>
                    <a:pt x="116" y="2176"/>
                  </a:lnTo>
                  <a:lnTo>
                    <a:pt x="93" y="2097"/>
                  </a:lnTo>
                  <a:lnTo>
                    <a:pt x="74" y="2018"/>
                  </a:lnTo>
                  <a:lnTo>
                    <a:pt x="60" y="1937"/>
                  </a:lnTo>
                  <a:lnTo>
                    <a:pt x="50" y="1854"/>
                  </a:lnTo>
                  <a:lnTo>
                    <a:pt x="43" y="1771"/>
                  </a:lnTo>
                  <a:lnTo>
                    <a:pt x="41" y="1687"/>
                  </a:lnTo>
                  <a:lnTo>
                    <a:pt x="43" y="1601"/>
                  </a:lnTo>
                  <a:lnTo>
                    <a:pt x="50" y="1518"/>
                  </a:lnTo>
                  <a:lnTo>
                    <a:pt x="60" y="1436"/>
                  </a:lnTo>
                  <a:lnTo>
                    <a:pt x="74" y="1355"/>
                  </a:lnTo>
                  <a:lnTo>
                    <a:pt x="93" y="1275"/>
                  </a:lnTo>
                  <a:lnTo>
                    <a:pt x="116" y="1197"/>
                  </a:lnTo>
                  <a:lnTo>
                    <a:pt x="141" y="1121"/>
                  </a:lnTo>
                  <a:lnTo>
                    <a:pt x="171" y="1046"/>
                  </a:lnTo>
                  <a:lnTo>
                    <a:pt x="203" y="973"/>
                  </a:lnTo>
                  <a:lnTo>
                    <a:pt x="240" y="903"/>
                  </a:lnTo>
                  <a:lnTo>
                    <a:pt x="280" y="833"/>
                  </a:lnTo>
                  <a:lnTo>
                    <a:pt x="322" y="767"/>
                  </a:lnTo>
                  <a:lnTo>
                    <a:pt x="368" y="702"/>
                  </a:lnTo>
                  <a:lnTo>
                    <a:pt x="417" y="640"/>
                  </a:lnTo>
                  <a:lnTo>
                    <a:pt x="469" y="581"/>
                  </a:lnTo>
                  <a:lnTo>
                    <a:pt x="523" y="524"/>
                  </a:lnTo>
                  <a:lnTo>
                    <a:pt x="580" y="468"/>
                  </a:lnTo>
                  <a:lnTo>
                    <a:pt x="641" y="417"/>
                  </a:lnTo>
                  <a:lnTo>
                    <a:pt x="702" y="368"/>
                  </a:lnTo>
                  <a:lnTo>
                    <a:pt x="767" y="323"/>
                  </a:lnTo>
                  <a:lnTo>
                    <a:pt x="834" y="279"/>
                  </a:lnTo>
                  <a:lnTo>
                    <a:pt x="902" y="239"/>
                  </a:lnTo>
                  <a:lnTo>
                    <a:pt x="973" y="204"/>
                  </a:lnTo>
                  <a:lnTo>
                    <a:pt x="1047" y="170"/>
                  </a:lnTo>
                  <a:lnTo>
                    <a:pt x="1122" y="141"/>
                  </a:lnTo>
                  <a:lnTo>
                    <a:pt x="1198" y="115"/>
                  </a:lnTo>
                  <a:lnTo>
                    <a:pt x="1276" y="93"/>
                  </a:lnTo>
                  <a:lnTo>
                    <a:pt x="1356" y="74"/>
                  </a:lnTo>
                  <a:lnTo>
                    <a:pt x="1437" y="60"/>
                  </a:lnTo>
                  <a:lnTo>
                    <a:pt x="1519" y="49"/>
                  </a:lnTo>
                  <a:lnTo>
                    <a:pt x="1602" y="43"/>
                  </a:lnTo>
                  <a:lnTo>
                    <a:pt x="1687" y="41"/>
                  </a:lnTo>
                  <a:lnTo>
                    <a:pt x="1772" y="43"/>
                  </a:lnTo>
                  <a:lnTo>
                    <a:pt x="1855" y="49"/>
                  </a:lnTo>
                  <a:lnTo>
                    <a:pt x="1937" y="60"/>
                  </a:lnTo>
                  <a:lnTo>
                    <a:pt x="2018" y="74"/>
                  </a:lnTo>
                  <a:lnTo>
                    <a:pt x="2098" y="93"/>
                  </a:lnTo>
                  <a:lnTo>
                    <a:pt x="2176" y="115"/>
                  </a:lnTo>
                  <a:lnTo>
                    <a:pt x="2253" y="141"/>
                  </a:lnTo>
                  <a:lnTo>
                    <a:pt x="2327" y="170"/>
                  </a:lnTo>
                  <a:lnTo>
                    <a:pt x="2401" y="204"/>
                  </a:lnTo>
                  <a:lnTo>
                    <a:pt x="2471" y="239"/>
                  </a:lnTo>
                  <a:lnTo>
                    <a:pt x="2540" y="279"/>
                  </a:lnTo>
                  <a:lnTo>
                    <a:pt x="2607" y="323"/>
                  </a:lnTo>
                  <a:lnTo>
                    <a:pt x="2672" y="368"/>
                  </a:lnTo>
                  <a:lnTo>
                    <a:pt x="2734" y="417"/>
                  </a:lnTo>
                  <a:lnTo>
                    <a:pt x="2794" y="468"/>
                  </a:lnTo>
                  <a:lnTo>
                    <a:pt x="2851" y="524"/>
                  </a:lnTo>
                  <a:lnTo>
                    <a:pt x="2905" y="581"/>
                  </a:lnTo>
                  <a:lnTo>
                    <a:pt x="2957" y="640"/>
                  </a:lnTo>
                  <a:lnTo>
                    <a:pt x="3006" y="702"/>
                  </a:lnTo>
                  <a:lnTo>
                    <a:pt x="3052" y="767"/>
                  </a:lnTo>
                  <a:lnTo>
                    <a:pt x="3095" y="833"/>
                  </a:lnTo>
                  <a:lnTo>
                    <a:pt x="3135" y="903"/>
                  </a:lnTo>
                  <a:lnTo>
                    <a:pt x="3170" y="973"/>
                  </a:lnTo>
                  <a:lnTo>
                    <a:pt x="3204" y="1046"/>
                  </a:lnTo>
                  <a:lnTo>
                    <a:pt x="3233" y="1121"/>
                  </a:lnTo>
                  <a:lnTo>
                    <a:pt x="3259" y="1197"/>
                  </a:lnTo>
                  <a:lnTo>
                    <a:pt x="3282" y="1275"/>
                  </a:lnTo>
                  <a:lnTo>
                    <a:pt x="3300" y="1355"/>
                  </a:lnTo>
                  <a:lnTo>
                    <a:pt x="3314" y="1436"/>
                  </a:lnTo>
                  <a:lnTo>
                    <a:pt x="3325" y="1518"/>
                  </a:lnTo>
                  <a:lnTo>
                    <a:pt x="3331" y="1601"/>
                  </a:lnTo>
                  <a:lnTo>
                    <a:pt x="3333" y="1687"/>
                  </a:lnTo>
                  <a:lnTo>
                    <a:pt x="3332" y="1742"/>
                  </a:lnTo>
                  <a:lnTo>
                    <a:pt x="3329" y="1797"/>
                  </a:lnTo>
                  <a:lnTo>
                    <a:pt x="3325" y="1851"/>
                  </a:lnTo>
                  <a:lnTo>
                    <a:pt x="3318" y="1905"/>
                  </a:lnTo>
                  <a:lnTo>
                    <a:pt x="3311" y="1958"/>
                  </a:lnTo>
                  <a:lnTo>
                    <a:pt x="3301" y="2011"/>
                  </a:lnTo>
                  <a:lnTo>
                    <a:pt x="3290" y="2063"/>
                  </a:lnTo>
                  <a:lnTo>
                    <a:pt x="3277" y="2114"/>
                  </a:lnTo>
                  <a:lnTo>
                    <a:pt x="3317" y="2125"/>
                  </a:lnTo>
                  <a:lnTo>
                    <a:pt x="3330" y="2072"/>
                  </a:lnTo>
                  <a:lnTo>
                    <a:pt x="3342" y="2018"/>
                  </a:lnTo>
                  <a:lnTo>
                    <a:pt x="3352" y="1964"/>
                  </a:lnTo>
                  <a:lnTo>
                    <a:pt x="3360" y="1910"/>
                  </a:lnTo>
                  <a:lnTo>
                    <a:pt x="3367" y="1855"/>
                  </a:lnTo>
                  <a:lnTo>
                    <a:pt x="3371" y="1799"/>
                  </a:lnTo>
                  <a:lnTo>
                    <a:pt x="3373" y="1743"/>
                  </a:lnTo>
                  <a:lnTo>
                    <a:pt x="3374" y="168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913200" y="2336760"/>
              <a:ext cx="1322280" cy="1322280"/>
            </a:xfrm>
            <a:custGeom>
              <a:avLst/>
              <a:gdLst/>
              <a:ahLst/>
              <a:rect l="l" t="t" r="r" b="b"/>
              <a:pathLst>
                <a:path w="3334" h="3332">
                  <a:moveTo>
                    <a:pt x="3334" y="1667"/>
                  </a:moveTo>
                  <a:lnTo>
                    <a:pt x="3332" y="1580"/>
                  </a:lnTo>
                  <a:lnTo>
                    <a:pt x="3325" y="1496"/>
                  </a:lnTo>
                  <a:lnTo>
                    <a:pt x="3314" y="1413"/>
                  </a:lnTo>
                  <a:lnTo>
                    <a:pt x="3300" y="1331"/>
                  </a:lnTo>
                  <a:lnTo>
                    <a:pt x="3281" y="1250"/>
                  </a:lnTo>
                  <a:lnTo>
                    <a:pt x="3259" y="1171"/>
                  </a:lnTo>
                  <a:lnTo>
                    <a:pt x="3232" y="1093"/>
                  </a:lnTo>
                  <a:lnTo>
                    <a:pt x="3203" y="1018"/>
                  </a:lnTo>
                  <a:lnTo>
                    <a:pt x="3170" y="944"/>
                  </a:lnTo>
                  <a:lnTo>
                    <a:pt x="3133" y="873"/>
                  </a:lnTo>
                  <a:lnTo>
                    <a:pt x="3093" y="803"/>
                  </a:lnTo>
                  <a:lnTo>
                    <a:pt x="3050" y="735"/>
                  </a:lnTo>
                  <a:lnTo>
                    <a:pt x="3003" y="670"/>
                  </a:lnTo>
                  <a:lnTo>
                    <a:pt x="2954" y="607"/>
                  </a:lnTo>
                  <a:lnTo>
                    <a:pt x="2901" y="547"/>
                  </a:lnTo>
                  <a:lnTo>
                    <a:pt x="2846" y="488"/>
                  </a:lnTo>
                  <a:lnTo>
                    <a:pt x="2788" y="433"/>
                  </a:lnTo>
                  <a:lnTo>
                    <a:pt x="2728" y="380"/>
                  </a:lnTo>
                  <a:lnTo>
                    <a:pt x="2664" y="332"/>
                  </a:lnTo>
                  <a:lnTo>
                    <a:pt x="2599" y="285"/>
                  </a:lnTo>
                  <a:lnTo>
                    <a:pt x="2531" y="242"/>
                  </a:lnTo>
                  <a:lnTo>
                    <a:pt x="2462" y="201"/>
                  </a:lnTo>
                  <a:lnTo>
                    <a:pt x="2390" y="164"/>
                  </a:lnTo>
                  <a:lnTo>
                    <a:pt x="2316" y="131"/>
                  </a:lnTo>
                  <a:lnTo>
                    <a:pt x="2240" y="102"/>
                  </a:lnTo>
                  <a:lnTo>
                    <a:pt x="2163" y="76"/>
                  </a:lnTo>
                  <a:lnTo>
                    <a:pt x="2084" y="53"/>
                  </a:lnTo>
                  <a:lnTo>
                    <a:pt x="2003" y="35"/>
                  </a:lnTo>
                  <a:lnTo>
                    <a:pt x="1921" y="20"/>
                  </a:lnTo>
                  <a:lnTo>
                    <a:pt x="1837" y="9"/>
                  </a:lnTo>
                  <a:lnTo>
                    <a:pt x="1753" y="2"/>
                  </a:lnTo>
                  <a:lnTo>
                    <a:pt x="1667" y="0"/>
                  </a:lnTo>
                  <a:lnTo>
                    <a:pt x="1581" y="2"/>
                  </a:lnTo>
                  <a:lnTo>
                    <a:pt x="1497" y="9"/>
                  </a:lnTo>
                  <a:lnTo>
                    <a:pt x="1414" y="20"/>
                  </a:lnTo>
                  <a:lnTo>
                    <a:pt x="1332" y="35"/>
                  </a:lnTo>
                  <a:lnTo>
                    <a:pt x="1251" y="53"/>
                  </a:lnTo>
                  <a:lnTo>
                    <a:pt x="1172" y="76"/>
                  </a:lnTo>
                  <a:lnTo>
                    <a:pt x="1094" y="102"/>
                  </a:lnTo>
                  <a:lnTo>
                    <a:pt x="1018" y="131"/>
                  </a:lnTo>
                  <a:lnTo>
                    <a:pt x="945" y="164"/>
                  </a:lnTo>
                  <a:lnTo>
                    <a:pt x="872" y="201"/>
                  </a:lnTo>
                  <a:lnTo>
                    <a:pt x="803" y="242"/>
                  </a:lnTo>
                  <a:lnTo>
                    <a:pt x="735" y="285"/>
                  </a:lnTo>
                  <a:lnTo>
                    <a:pt x="670" y="332"/>
                  </a:lnTo>
                  <a:lnTo>
                    <a:pt x="607" y="380"/>
                  </a:lnTo>
                  <a:lnTo>
                    <a:pt x="546" y="433"/>
                  </a:lnTo>
                  <a:lnTo>
                    <a:pt x="489" y="488"/>
                  </a:lnTo>
                  <a:lnTo>
                    <a:pt x="434" y="547"/>
                  </a:lnTo>
                  <a:lnTo>
                    <a:pt x="381" y="607"/>
                  </a:lnTo>
                  <a:lnTo>
                    <a:pt x="331" y="670"/>
                  </a:lnTo>
                  <a:lnTo>
                    <a:pt x="285" y="735"/>
                  </a:lnTo>
                  <a:lnTo>
                    <a:pt x="241" y="803"/>
                  </a:lnTo>
                  <a:lnTo>
                    <a:pt x="201" y="873"/>
                  </a:lnTo>
                  <a:lnTo>
                    <a:pt x="165" y="944"/>
                  </a:lnTo>
                  <a:lnTo>
                    <a:pt x="131" y="1018"/>
                  </a:lnTo>
                  <a:lnTo>
                    <a:pt x="102" y="1093"/>
                  </a:lnTo>
                  <a:lnTo>
                    <a:pt x="75" y="1171"/>
                  </a:lnTo>
                  <a:lnTo>
                    <a:pt x="53" y="1250"/>
                  </a:lnTo>
                  <a:lnTo>
                    <a:pt x="34" y="1331"/>
                  </a:lnTo>
                  <a:lnTo>
                    <a:pt x="20" y="1413"/>
                  </a:lnTo>
                  <a:lnTo>
                    <a:pt x="9" y="1496"/>
                  </a:lnTo>
                  <a:lnTo>
                    <a:pt x="3" y="1580"/>
                  </a:lnTo>
                  <a:lnTo>
                    <a:pt x="0" y="1667"/>
                  </a:lnTo>
                  <a:lnTo>
                    <a:pt x="3" y="1752"/>
                  </a:lnTo>
                  <a:lnTo>
                    <a:pt x="9" y="1836"/>
                  </a:lnTo>
                  <a:lnTo>
                    <a:pt x="20" y="1920"/>
                  </a:lnTo>
                  <a:lnTo>
                    <a:pt x="34" y="2003"/>
                  </a:lnTo>
                  <a:lnTo>
                    <a:pt x="53" y="2082"/>
                  </a:lnTo>
                  <a:lnTo>
                    <a:pt x="75" y="2161"/>
                  </a:lnTo>
                  <a:lnTo>
                    <a:pt x="102" y="2239"/>
                  </a:lnTo>
                  <a:lnTo>
                    <a:pt x="131" y="2315"/>
                  </a:lnTo>
                  <a:lnTo>
                    <a:pt x="165" y="2388"/>
                  </a:lnTo>
                  <a:lnTo>
                    <a:pt x="201" y="2460"/>
                  </a:lnTo>
                  <a:lnTo>
                    <a:pt x="241" y="2531"/>
                  </a:lnTo>
                  <a:lnTo>
                    <a:pt x="285" y="2598"/>
                  </a:lnTo>
                  <a:lnTo>
                    <a:pt x="331" y="2664"/>
                  </a:lnTo>
                  <a:lnTo>
                    <a:pt x="381" y="2726"/>
                  </a:lnTo>
                  <a:lnTo>
                    <a:pt x="434" y="2787"/>
                  </a:lnTo>
                  <a:lnTo>
                    <a:pt x="489" y="2844"/>
                  </a:lnTo>
                  <a:lnTo>
                    <a:pt x="546" y="2900"/>
                  </a:lnTo>
                  <a:lnTo>
                    <a:pt x="607" y="2952"/>
                  </a:lnTo>
                  <a:lnTo>
                    <a:pt x="670" y="3002"/>
                  </a:lnTo>
                  <a:lnTo>
                    <a:pt x="735" y="3048"/>
                  </a:lnTo>
                  <a:lnTo>
                    <a:pt x="803" y="3091"/>
                  </a:lnTo>
                  <a:lnTo>
                    <a:pt x="872" y="3131"/>
                  </a:lnTo>
                  <a:lnTo>
                    <a:pt x="945" y="3168"/>
                  </a:lnTo>
                  <a:lnTo>
                    <a:pt x="1018" y="3201"/>
                  </a:lnTo>
                  <a:lnTo>
                    <a:pt x="1094" y="3232"/>
                  </a:lnTo>
                  <a:lnTo>
                    <a:pt x="1172" y="3258"/>
                  </a:lnTo>
                  <a:lnTo>
                    <a:pt x="1251" y="3280"/>
                  </a:lnTo>
                  <a:lnTo>
                    <a:pt x="1332" y="3299"/>
                  </a:lnTo>
                  <a:lnTo>
                    <a:pt x="1414" y="3314"/>
                  </a:lnTo>
                  <a:lnTo>
                    <a:pt x="1497" y="3323"/>
                  </a:lnTo>
                  <a:lnTo>
                    <a:pt x="1581" y="3330"/>
                  </a:lnTo>
                  <a:lnTo>
                    <a:pt x="1667" y="3332"/>
                  </a:lnTo>
                  <a:lnTo>
                    <a:pt x="1716" y="3332"/>
                  </a:lnTo>
                  <a:lnTo>
                    <a:pt x="1765" y="3330"/>
                  </a:lnTo>
                  <a:lnTo>
                    <a:pt x="1813" y="3326"/>
                  </a:lnTo>
                  <a:lnTo>
                    <a:pt x="1861" y="3321"/>
                  </a:lnTo>
                  <a:lnTo>
                    <a:pt x="1909" y="3315"/>
                  </a:lnTo>
                  <a:lnTo>
                    <a:pt x="1955" y="3307"/>
                  </a:lnTo>
                  <a:lnTo>
                    <a:pt x="2002" y="3299"/>
                  </a:lnTo>
                  <a:lnTo>
                    <a:pt x="2048" y="3289"/>
                  </a:lnTo>
                  <a:lnTo>
                    <a:pt x="2093" y="3277"/>
                  </a:lnTo>
                  <a:lnTo>
                    <a:pt x="2139" y="3265"/>
                  </a:lnTo>
                  <a:lnTo>
                    <a:pt x="2183" y="3251"/>
                  </a:lnTo>
                  <a:lnTo>
                    <a:pt x="2227" y="3236"/>
                  </a:lnTo>
                  <a:lnTo>
                    <a:pt x="2271" y="3220"/>
                  </a:lnTo>
                  <a:lnTo>
                    <a:pt x="2314" y="3202"/>
                  </a:lnTo>
                  <a:lnTo>
                    <a:pt x="2356" y="3184"/>
                  </a:lnTo>
                  <a:lnTo>
                    <a:pt x="2398" y="3164"/>
                  </a:lnTo>
                  <a:lnTo>
                    <a:pt x="2380" y="3127"/>
                  </a:lnTo>
                  <a:lnTo>
                    <a:pt x="2339" y="3146"/>
                  </a:lnTo>
                  <a:lnTo>
                    <a:pt x="2298" y="3164"/>
                  </a:lnTo>
                  <a:lnTo>
                    <a:pt x="2256" y="3181"/>
                  </a:lnTo>
                  <a:lnTo>
                    <a:pt x="2213" y="3197"/>
                  </a:lnTo>
                  <a:lnTo>
                    <a:pt x="2170" y="3211"/>
                  </a:lnTo>
                  <a:lnTo>
                    <a:pt x="2127" y="3225"/>
                  </a:lnTo>
                  <a:lnTo>
                    <a:pt x="2083" y="3237"/>
                  </a:lnTo>
                  <a:lnTo>
                    <a:pt x="2038" y="3248"/>
                  </a:lnTo>
                  <a:lnTo>
                    <a:pt x="1994" y="3258"/>
                  </a:lnTo>
                  <a:lnTo>
                    <a:pt x="1949" y="3266"/>
                  </a:lnTo>
                  <a:lnTo>
                    <a:pt x="1902" y="3274"/>
                  </a:lnTo>
                  <a:lnTo>
                    <a:pt x="1856" y="3280"/>
                  </a:lnTo>
                  <a:lnTo>
                    <a:pt x="1809" y="3285"/>
                  </a:lnTo>
                  <a:lnTo>
                    <a:pt x="1763" y="3288"/>
                  </a:lnTo>
                  <a:lnTo>
                    <a:pt x="1715" y="3290"/>
                  </a:lnTo>
                  <a:lnTo>
                    <a:pt x="1667" y="3291"/>
                  </a:lnTo>
                  <a:lnTo>
                    <a:pt x="1583" y="3289"/>
                  </a:lnTo>
                  <a:lnTo>
                    <a:pt x="1501" y="3282"/>
                  </a:lnTo>
                  <a:lnTo>
                    <a:pt x="1419" y="3272"/>
                  </a:lnTo>
                  <a:lnTo>
                    <a:pt x="1339" y="3258"/>
                  </a:lnTo>
                  <a:lnTo>
                    <a:pt x="1261" y="3239"/>
                  </a:lnTo>
                  <a:lnTo>
                    <a:pt x="1184" y="3218"/>
                  </a:lnTo>
                  <a:lnTo>
                    <a:pt x="1108" y="3192"/>
                  </a:lnTo>
                  <a:lnTo>
                    <a:pt x="1035" y="3164"/>
                  </a:lnTo>
                  <a:lnTo>
                    <a:pt x="962" y="3130"/>
                  </a:lnTo>
                  <a:lnTo>
                    <a:pt x="893" y="3094"/>
                  </a:lnTo>
                  <a:lnTo>
                    <a:pt x="825" y="3056"/>
                  </a:lnTo>
                  <a:lnTo>
                    <a:pt x="759" y="3013"/>
                  </a:lnTo>
                  <a:lnTo>
                    <a:pt x="695" y="2968"/>
                  </a:lnTo>
                  <a:lnTo>
                    <a:pt x="634" y="2919"/>
                  </a:lnTo>
                  <a:lnTo>
                    <a:pt x="574" y="2869"/>
                  </a:lnTo>
                  <a:lnTo>
                    <a:pt x="518" y="2815"/>
                  </a:lnTo>
                  <a:lnTo>
                    <a:pt x="464" y="2759"/>
                  </a:lnTo>
                  <a:lnTo>
                    <a:pt x="413" y="2699"/>
                  </a:lnTo>
                  <a:lnTo>
                    <a:pt x="365" y="2639"/>
                  </a:lnTo>
                  <a:lnTo>
                    <a:pt x="319" y="2575"/>
                  </a:lnTo>
                  <a:lnTo>
                    <a:pt x="277" y="2509"/>
                  </a:lnTo>
                  <a:lnTo>
                    <a:pt x="238" y="2441"/>
                  </a:lnTo>
                  <a:lnTo>
                    <a:pt x="203" y="2371"/>
                  </a:lnTo>
                  <a:lnTo>
                    <a:pt x="170" y="2298"/>
                  </a:lnTo>
                  <a:lnTo>
                    <a:pt x="141" y="2225"/>
                  </a:lnTo>
                  <a:lnTo>
                    <a:pt x="115" y="2149"/>
                  </a:lnTo>
                  <a:lnTo>
                    <a:pt x="93" y="2073"/>
                  </a:lnTo>
                  <a:lnTo>
                    <a:pt x="75" y="1994"/>
                  </a:lnTo>
                  <a:lnTo>
                    <a:pt x="61" y="1914"/>
                  </a:lnTo>
                  <a:lnTo>
                    <a:pt x="50" y="1833"/>
                  </a:lnTo>
                  <a:lnTo>
                    <a:pt x="44" y="1750"/>
                  </a:lnTo>
                  <a:lnTo>
                    <a:pt x="43" y="1667"/>
                  </a:lnTo>
                  <a:lnTo>
                    <a:pt x="44" y="1582"/>
                  </a:lnTo>
                  <a:lnTo>
                    <a:pt x="50" y="1500"/>
                  </a:lnTo>
                  <a:lnTo>
                    <a:pt x="61" y="1419"/>
                  </a:lnTo>
                  <a:lnTo>
                    <a:pt x="75" y="1339"/>
                  </a:lnTo>
                  <a:lnTo>
                    <a:pt x="93" y="1261"/>
                  </a:lnTo>
                  <a:lnTo>
                    <a:pt x="115" y="1184"/>
                  </a:lnTo>
                  <a:lnTo>
                    <a:pt x="141" y="1108"/>
                  </a:lnTo>
                  <a:lnTo>
                    <a:pt x="170" y="1034"/>
                  </a:lnTo>
                  <a:lnTo>
                    <a:pt x="203" y="963"/>
                  </a:lnTo>
                  <a:lnTo>
                    <a:pt x="238" y="892"/>
                  </a:lnTo>
                  <a:lnTo>
                    <a:pt x="277" y="824"/>
                  </a:lnTo>
                  <a:lnTo>
                    <a:pt x="319" y="758"/>
                  </a:lnTo>
                  <a:lnTo>
                    <a:pt x="365" y="695"/>
                  </a:lnTo>
                  <a:lnTo>
                    <a:pt x="413" y="633"/>
                  </a:lnTo>
                  <a:lnTo>
                    <a:pt x="464" y="575"/>
                  </a:lnTo>
                  <a:lnTo>
                    <a:pt x="518" y="518"/>
                  </a:lnTo>
                  <a:lnTo>
                    <a:pt x="574" y="464"/>
                  </a:lnTo>
                  <a:lnTo>
                    <a:pt x="634" y="413"/>
                  </a:lnTo>
                  <a:lnTo>
                    <a:pt x="695" y="365"/>
                  </a:lnTo>
                  <a:lnTo>
                    <a:pt x="759" y="320"/>
                  </a:lnTo>
                  <a:lnTo>
                    <a:pt x="825" y="278"/>
                  </a:lnTo>
                  <a:lnTo>
                    <a:pt x="893" y="238"/>
                  </a:lnTo>
                  <a:lnTo>
                    <a:pt x="962" y="202"/>
                  </a:lnTo>
                  <a:lnTo>
                    <a:pt x="1035" y="170"/>
                  </a:lnTo>
                  <a:lnTo>
                    <a:pt x="1108" y="141"/>
                  </a:lnTo>
                  <a:lnTo>
                    <a:pt x="1184" y="115"/>
                  </a:lnTo>
                  <a:lnTo>
                    <a:pt x="1261" y="93"/>
                  </a:lnTo>
                  <a:lnTo>
                    <a:pt x="1339" y="75"/>
                  </a:lnTo>
                  <a:lnTo>
                    <a:pt x="1419" y="61"/>
                  </a:lnTo>
                  <a:lnTo>
                    <a:pt x="1501" y="51"/>
                  </a:lnTo>
                  <a:lnTo>
                    <a:pt x="1583" y="45"/>
                  </a:lnTo>
                  <a:lnTo>
                    <a:pt x="1667" y="42"/>
                  </a:lnTo>
                  <a:lnTo>
                    <a:pt x="1751" y="45"/>
                  </a:lnTo>
                  <a:lnTo>
                    <a:pt x="1833" y="51"/>
                  </a:lnTo>
                  <a:lnTo>
                    <a:pt x="1914" y="61"/>
                  </a:lnTo>
                  <a:lnTo>
                    <a:pt x="1995" y="75"/>
                  </a:lnTo>
                  <a:lnTo>
                    <a:pt x="2073" y="93"/>
                  </a:lnTo>
                  <a:lnTo>
                    <a:pt x="2151" y="115"/>
                  </a:lnTo>
                  <a:lnTo>
                    <a:pt x="2226" y="141"/>
                  </a:lnTo>
                  <a:lnTo>
                    <a:pt x="2300" y="170"/>
                  </a:lnTo>
                  <a:lnTo>
                    <a:pt x="2371" y="202"/>
                  </a:lnTo>
                  <a:lnTo>
                    <a:pt x="2441" y="238"/>
                  </a:lnTo>
                  <a:lnTo>
                    <a:pt x="2509" y="278"/>
                  </a:lnTo>
                  <a:lnTo>
                    <a:pt x="2575" y="320"/>
                  </a:lnTo>
                  <a:lnTo>
                    <a:pt x="2639" y="365"/>
                  </a:lnTo>
                  <a:lnTo>
                    <a:pt x="2701" y="413"/>
                  </a:lnTo>
                  <a:lnTo>
                    <a:pt x="2760" y="464"/>
                  </a:lnTo>
                  <a:lnTo>
                    <a:pt x="2816" y="518"/>
                  </a:lnTo>
                  <a:lnTo>
                    <a:pt x="2870" y="575"/>
                  </a:lnTo>
                  <a:lnTo>
                    <a:pt x="2921" y="633"/>
                  </a:lnTo>
                  <a:lnTo>
                    <a:pt x="2970" y="695"/>
                  </a:lnTo>
                  <a:lnTo>
                    <a:pt x="3015" y="758"/>
                  </a:lnTo>
                  <a:lnTo>
                    <a:pt x="3057" y="824"/>
                  </a:lnTo>
                  <a:lnTo>
                    <a:pt x="3096" y="892"/>
                  </a:lnTo>
                  <a:lnTo>
                    <a:pt x="3132" y="963"/>
                  </a:lnTo>
                  <a:lnTo>
                    <a:pt x="3164" y="1034"/>
                  </a:lnTo>
                  <a:lnTo>
                    <a:pt x="3193" y="1108"/>
                  </a:lnTo>
                  <a:lnTo>
                    <a:pt x="3219" y="1184"/>
                  </a:lnTo>
                  <a:lnTo>
                    <a:pt x="3241" y="1261"/>
                  </a:lnTo>
                  <a:lnTo>
                    <a:pt x="3259" y="1339"/>
                  </a:lnTo>
                  <a:lnTo>
                    <a:pt x="3273" y="1419"/>
                  </a:lnTo>
                  <a:lnTo>
                    <a:pt x="3284" y="1500"/>
                  </a:lnTo>
                  <a:lnTo>
                    <a:pt x="3290" y="1582"/>
                  </a:lnTo>
                  <a:lnTo>
                    <a:pt x="3292" y="1667"/>
                  </a:lnTo>
                  <a:lnTo>
                    <a:pt x="3292" y="1721"/>
                  </a:lnTo>
                  <a:lnTo>
                    <a:pt x="3289" y="1775"/>
                  </a:lnTo>
                  <a:lnTo>
                    <a:pt x="3284" y="1829"/>
                  </a:lnTo>
                  <a:lnTo>
                    <a:pt x="3278" y="1882"/>
                  </a:lnTo>
                  <a:lnTo>
                    <a:pt x="3270" y="1935"/>
                  </a:lnTo>
                  <a:lnTo>
                    <a:pt x="3260" y="1986"/>
                  </a:lnTo>
                  <a:lnTo>
                    <a:pt x="3250" y="2038"/>
                  </a:lnTo>
                  <a:lnTo>
                    <a:pt x="3237" y="2089"/>
                  </a:lnTo>
                  <a:lnTo>
                    <a:pt x="3277" y="2100"/>
                  </a:lnTo>
                  <a:lnTo>
                    <a:pt x="3290" y="2048"/>
                  </a:lnTo>
                  <a:lnTo>
                    <a:pt x="3301" y="1995"/>
                  </a:lnTo>
                  <a:lnTo>
                    <a:pt x="3311" y="1941"/>
                  </a:lnTo>
                  <a:lnTo>
                    <a:pt x="3319" y="1887"/>
                  </a:lnTo>
                  <a:lnTo>
                    <a:pt x="3325" y="1833"/>
                  </a:lnTo>
                  <a:lnTo>
                    <a:pt x="3331" y="1778"/>
                  </a:lnTo>
                  <a:lnTo>
                    <a:pt x="3333" y="1723"/>
                  </a:lnTo>
                  <a:lnTo>
                    <a:pt x="3334" y="1667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921120" y="2344680"/>
              <a:ext cx="1306440" cy="1305000"/>
            </a:xfrm>
            <a:custGeom>
              <a:avLst/>
              <a:gdLst/>
              <a:ahLst/>
              <a:rect l="l" t="t" r="r" b="b"/>
              <a:pathLst>
                <a:path w="3292" h="3291">
                  <a:moveTo>
                    <a:pt x="3292" y="1646"/>
                  </a:moveTo>
                  <a:lnTo>
                    <a:pt x="3290" y="1560"/>
                  </a:lnTo>
                  <a:lnTo>
                    <a:pt x="3284" y="1477"/>
                  </a:lnTo>
                  <a:lnTo>
                    <a:pt x="3273" y="1395"/>
                  </a:lnTo>
                  <a:lnTo>
                    <a:pt x="3259" y="1314"/>
                  </a:lnTo>
                  <a:lnTo>
                    <a:pt x="3241" y="1234"/>
                  </a:lnTo>
                  <a:lnTo>
                    <a:pt x="3218" y="1156"/>
                  </a:lnTo>
                  <a:lnTo>
                    <a:pt x="3192" y="1080"/>
                  </a:lnTo>
                  <a:lnTo>
                    <a:pt x="3163" y="1005"/>
                  </a:lnTo>
                  <a:lnTo>
                    <a:pt x="3129" y="932"/>
                  </a:lnTo>
                  <a:lnTo>
                    <a:pt x="3094" y="862"/>
                  </a:lnTo>
                  <a:lnTo>
                    <a:pt x="3054" y="792"/>
                  </a:lnTo>
                  <a:lnTo>
                    <a:pt x="3011" y="726"/>
                  </a:lnTo>
                  <a:lnTo>
                    <a:pt x="2965" y="661"/>
                  </a:lnTo>
                  <a:lnTo>
                    <a:pt x="2916" y="599"/>
                  </a:lnTo>
                  <a:lnTo>
                    <a:pt x="2864" y="540"/>
                  </a:lnTo>
                  <a:lnTo>
                    <a:pt x="2810" y="483"/>
                  </a:lnTo>
                  <a:lnTo>
                    <a:pt x="2753" y="427"/>
                  </a:lnTo>
                  <a:lnTo>
                    <a:pt x="2693" y="376"/>
                  </a:lnTo>
                  <a:lnTo>
                    <a:pt x="2631" y="327"/>
                  </a:lnTo>
                  <a:lnTo>
                    <a:pt x="2566" y="282"/>
                  </a:lnTo>
                  <a:lnTo>
                    <a:pt x="2499" y="238"/>
                  </a:lnTo>
                  <a:lnTo>
                    <a:pt x="2430" y="198"/>
                  </a:lnTo>
                  <a:lnTo>
                    <a:pt x="2360" y="163"/>
                  </a:lnTo>
                  <a:lnTo>
                    <a:pt x="2286" y="129"/>
                  </a:lnTo>
                  <a:lnTo>
                    <a:pt x="2212" y="100"/>
                  </a:lnTo>
                  <a:lnTo>
                    <a:pt x="2135" y="74"/>
                  </a:lnTo>
                  <a:lnTo>
                    <a:pt x="2057" y="52"/>
                  </a:lnTo>
                  <a:lnTo>
                    <a:pt x="1977" y="33"/>
                  </a:lnTo>
                  <a:lnTo>
                    <a:pt x="1896" y="19"/>
                  </a:lnTo>
                  <a:lnTo>
                    <a:pt x="1814" y="8"/>
                  </a:lnTo>
                  <a:lnTo>
                    <a:pt x="1731" y="2"/>
                  </a:lnTo>
                  <a:lnTo>
                    <a:pt x="1646" y="0"/>
                  </a:lnTo>
                  <a:lnTo>
                    <a:pt x="1561" y="2"/>
                  </a:lnTo>
                  <a:lnTo>
                    <a:pt x="1478" y="8"/>
                  </a:lnTo>
                  <a:lnTo>
                    <a:pt x="1396" y="19"/>
                  </a:lnTo>
                  <a:lnTo>
                    <a:pt x="1315" y="33"/>
                  </a:lnTo>
                  <a:lnTo>
                    <a:pt x="1235" y="52"/>
                  </a:lnTo>
                  <a:lnTo>
                    <a:pt x="1157" y="74"/>
                  </a:lnTo>
                  <a:lnTo>
                    <a:pt x="1081" y="100"/>
                  </a:lnTo>
                  <a:lnTo>
                    <a:pt x="1006" y="129"/>
                  </a:lnTo>
                  <a:lnTo>
                    <a:pt x="932" y="163"/>
                  </a:lnTo>
                  <a:lnTo>
                    <a:pt x="861" y="198"/>
                  </a:lnTo>
                  <a:lnTo>
                    <a:pt x="793" y="238"/>
                  </a:lnTo>
                  <a:lnTo>
                    <a:pt x="726" y="282"/>
                  </a:lnTo>
                  <a:lnTo>
                    <a:pt x="661" y="327"/>
                  </a:lnTo>
                  <a:lnTo>
                    <a:pt x="600" y="376"/>
                  </a:lnTo>
                  <a:lnTo>
                    <a:pt x="539" y="427"/>
                  </a:lnTo>
                  <a:lnTo>
                    <a:pt x="482" y="483"/>
                  </a:lnTo>
                  <a:lnTo>
                    <a:pt x="428" y="540"/>
                  </a:lnTo>
                  <a:lnTo>
                    <a:pt x="376" y="599"/>
                  </a:lnTo>
                  <a:lnTo>
                    <a:pt x="327" y="661"/>
                  </a:lnTo>
                  <a:lnTo>
                    <a:pt x="281" y="726"/>
                  </a:lnTo>
                  <a:lnTo>
                    <a:pt x="239" y="792"/>
                  </a:lnTo>
                  <a:lnTo>
                    <a:pt x="199" y="862"/>
                  </a:lnTo>
                  <a:lnTo>
                    <a:pt x="162" y="932"/>
                  </a:lnTo>
                  <a:lnTo>
                    <a:pt x="130" y="1005"/>
                  </a:lnTo>
                  <a:lnTo>
                    <a:pt x="100" y="1080"/>
                  </a:lnTo>
                  <a:lnTo>
                    <a:pt x="75" y="1156"/>
                  </a:lnTo>
                  <a:lnTo>
                    <a:pt x="52" y="1234"/>
                  </a:lnTo>
                  <a:lnTo>
                    <a:pt x="33" y="1314"/>
                  </a:lnTo>
                  <a:lnTo>
                    <a:pt x="19" y="1395"/>
                  </a:lnTo>
                  <a:lnTo>
                    <a:pt x="9" y="1477"/>
                  </a:lnTo>
                  <a:lnTo>
                    <a:pt x="2" y="1560"/>
                  </a:lnTo>
                  <a:lnTo>
                    <a:pt x="0" y="1646"/>
                  </a:lnTo>
                  <a:lnTo>
                    <a:pt x="2" y="1730"/>
                  </a:lnTo>
                  <a:lnTo>
                    <a:pt x="9" y="1813"/>
                  </a:lnTo>
                  <a:lnTo>
                    <a:pt x="19" y="1896"/>
                  </a:lnTo>
                  <a:lnTo>
                    <a:pt x="33" y="1977"/>
                  </a:lnTo>
                  <a:lnTo>
                    <a:pt x="52" y="2056"/>
                  </a:lnTo>
                  <a:lnTo>
                    <a:pt x="75" y="2135"/>
                  </a:lnTo>
                  <a:lnTo>
                    <a:pt x="100" y="2211"/>
                  </a:lnTo>
                  <a:lnTo>
                    <a:pt x="130" y="2286"/>
                  </a:lnTo>
                  <a:lnTo>
                    <a:pt x="162" y="2358"/>
                  </a:lnTo>
                  <a:lnTo>
                    <a:pt x="199" y="2430"/>
                  </a:lnTo>
                  <a:lnTo>
                    <a:pt x="239" y="2499"/>
                  </a:lnTo>
                  <a:lnTo>
                    <a:pt x="281" y="2565"/>
                  </a:lnTo>
                  <a:lnTo>
                    <a:pt x="327" y="2630"/>
                  </a:lnTo>
                  <a:lnTo>
                    <a:pt x="376" y="2692"/>
                  </a:lnTo>
                  <a:lnTo>
                    <a:pt x="428" y="2752"/>
                  </a:lnTo>
                  <a:lnTo>
                    <a:pt x="482" y="2809"/>
                  </a:lnTo>
                  <a:lnTo>
                    <a:pt x="539" y="2863"/>
                  </a:lnTo>
                  <a:lnTo>
                    <a:pt x="600" y="2915"/>
                  </a:lnTo>
                  <a:lnTo>
                    <a:pt x="661" y="2963"/>
                  </a:lnTo>
                  <a:lnTo>
                    <a:pt x="726" y="3010"/>
                  </a:lnTo>
                  <a:lnTo>
                    <a:pt x="793" y="3053"/>
                  </a:lnTo>
                  <a:lnTo>
                    <a:pt x="861" y="3092"/>
                  </a:lnTo>
                  <a:lnTo>
                    <a:pt x="932" y="3129"/>
                  </a:lnTo>
                  <a:lnTo>
                    <a:pt x="1006" y="3161"/>
                  </a:lnTo>
                  <a:lnTo>
                    <a:pt x="1081" y="3191"/>
                  </a:lnTo>
                  <a:lnTo>
                    <a:pt x="1157" y="3217"/>
                  </a:lnTo>
                  <a:lnTo>
                    <a:pt x="1235" y="3239"/>
                  </a:lnTo>
                  <a:lnTo>
                    <a:pt x="1315" y="3257"/>
                  </a:lnTo>
                  <a:lnTo>
                    <a:pt x="1396" y="3271"/>
                  </a:lnTo>
                  <a:lnTo>
                    <a:pt x="1478" y="3282"/>
                  </a:lnTo>
                  <a:lnTo>
                    <a:pt x="1561" y="3288"/>
                  </a:lnTo>
                  <a:lnTo>
                    <a:pt x="1646" y="3291"/>
                  </a:lnTo>
                  <a:lnTo>
                    <a:pt x="1694" y="3289"/>
                  </a:lnTo>
                  <a:lnTo>
                    <a:pt x="1743" y="3287"/>
                  </a:lnTo>
                  <a:lnTo>
                    <a:pt x="1790" y="3284"/>
                  </a:lnTo>
                  <a:lnTo>
                    <a:pt x="1838" y="3280"/>
                  </a:lnTo>
                  <a:lnTo>
                    <a:pt x="1884" y="3273"/>
                  </a:lnTo>
                  <a:lnTo>
                    <a:pt x="1931" y="3266"/>
                  </a:lnTo>
                  <a:lnTo>
                    <a:pt x="1976" y="3257"/>
                  </a:lnTo>
                  <a:lnTo>
                    <a:pt x="2023" y="3247"/>
                  </a:lnTo>
                  <a:lnTo>
                    <a:pt x="2067" y="3237"/>
                  </a:lnTo>
                  <a:lnTo>
                    <a:pt x="2112" y="3224"/>
                  </a:lnTo>
                  <a:lnTo>
                    <a:pt x="2156" y="3210"/>
                  </a:lnTo>
                  <a:lnTo>
                    <a:pt x="2200" y="3195"/>
                  </a:lnTo>
                  <a:lnTo>
                    <a:pt x="2242" y="3179"/>
                  </a:lnTo>
                  <a:lnTo>
                    <a:pt x="2285" y="3162"/>
                  </a:lnTo>
                  <a:lnTo>
                    <a:pt x="2326" y="3144"/>
                  </a:lnTo>
                  <a:lnTo>
                    <a:pt x="2367" y="3124"/>
                  </a:lnTo>
                  <a:lnTo>
                    <a:pt x="2349" y="3086"/>
                  </a:lnTo>
                  <a:lnTo>
                    <a:pt x="2309" y="3106"/>
                  </a:lnTo>
                  <a:lnTo>
                    <a:pt x="2269" y="3123"/>
                  </a:lnTo>
                  <a:lnTo>
                    <a:pt x="2227" y="3140"/>
                  </a:lnTo>
                  <a:lnTo>
                    <a:pt x="2186" y="3156"/>
                  </a:lnTo>
                  <a:lnTo>
                    <a:pt x="2143" y="3171"/>
                  </a:lnTo>
                  <a:lnTo>
                    <a:pt x="2101" y="3184"/>
                  </a:lnTo>
                  <a:lnTo>
                    <a:pt x="2056" y="3195"/>
                  </a:lnTo>
                  <a:lnTo>
                    <a:pt x="2013" y="3206"/>
                  </a:lnTo>
                  <a:lnTo>
                    <a:pt x="1969" y="3216"/>
                  </a:lnTo>
                  <a:lnTo>
                    <a:pt x="1923" y="3225"/>
                  </a:lnTo>
                  <a:lnTo>
                    <a:pt x="1878" y="3232"/>
                  </a:lnTo>
                  <a:lnTo>
                    <a:pt x="1833" y="3239"/>
                  </a:lnTo>
                  <a:lnTo>
                    <a:pt x="1786" y="3243"/>
                  </a:lnTo>
                  <a:lnTo>
                    <a:pt x="1740" y="3246"/>
                  </a:lnTo>
                  <a:lnTo>
                    <a:pt x="1693" y="3248"/>
                  </a:lnTo>
                  <a:lnTo>
                    <a:pt x="1646" y="3248"/>
                  </a:lnTo>
                  <a:lnTo>
                    <a:pt x="1564" y="3247"/>
                  </a:lnTo>
                  <a:lnTo>
                    <a:pt x="1482" y="3241"/>
                  </a:lnTo>
                  <a:lnTo>
                    <a:pt x="1401" y="3230"/>
                  </a:lnTo>
                  <a:lnTo>
                    <a:pt x="1323" y="3216"/>
                  </a:lnTo>
                  <a:lnTo>
                    <a:pt x="1245" y="3199"/>
                  </a:lnTo>
                  <a:lnTo>
                    <a:pt x="1169" y="3177"/>
                  </a:lnTo>
                  <a:lnTo>
                    <a:pt x="1095" y="3151"/>
                  </a:lnTo>
                  <a:lnTo>
                    <a:pt x="1022" y="3123"/>
                  </a:lnTo>
                  <a:lnTo>
                    <a:pt x="951" y="3091"/>
                  </a:lnTo>
                  <a:lnTo>
                    <a:pt x="882" y="3055"/>
                  </a:lnTo>
                  <a:lnTo>
                    <a:pt x="815" y="3017"/>
                  </a:lnTo>
                  <a:lnTo>
                    <a:pt x="749" y="2975"/>
                  </a:lnTo>
                  <a:lnTo>
                    <a:pt x="686" y="2930"/>
                  </a:lnTo>
                  <a:lnTo>
                    <a:pt x="626" y="2882"/>
                  </a:lnTo>
                  <a:lnTo>
                    <a:pt x="567" y="2833"/>
                  </a:lnTo>
                  <a:lnTo>
                    <a:pt x="512" y="2780"/>
                  </a:lnTo>
                  <a:lnTo>
                    <a:pt x="459" y="2724"/>
                  </a:lnTo>
                  <a:lnTo>
                    <a:pt x="408" y="2665"/>
                  </a:lnTo>
                  <a:lnTo>
                    <a:pt x="361" y="2605"/>
                  </a:lnTo>
                  <a:lnTo>
                    <a:pt x="316" y="2542"/>
                  </a:lnTo>
                  <a:lnTo>
                    <a:pt x="274" y="2477"/>
                  </a:lnTo>
                  <a:lnTo>
                    <a:pt x="236" y="2409"/>
                  </a:lnTo>
                  <a:lnTo>
                    <a:pt x="200" y="2340"/>
                  </a:lnTo>
                  <a:lnTo>
                    <a:pt x="169" y="2270"/>
                  </a:lnTo>
                  <a:lnTo>
                    <a:pt x="139" y="2196"/>
                  </a:lnTo>
                  <a:lnTo>
                    <a:pt x="115" y="2122"/>
                  </a:lnTo>
                  <a:lnTo>
                    <a:pt x="93" y="2046"/>
                  </a:lnTo>
                  <a:lnTo>
                    <a:pt x="75" y="1969"/>
                  </a:lnTo>
                  <a:lnTo>
                    <a:pt x="60" y="1890"/>
                  </a:lnTo>
                  <a:lnTo>
                    <a:pt x="50" y="1810"/>
                  </a:lnTo>
                  <a:lnTo>
                    <a:pt x="44" y="1728"/>
                  </a:lnTo>
                  <a:lnTo>
                    <a:pt x="42" y="1646"/>
                  </a:lnTo>
                  <a:lnTo>
                    <a:pt x="44" y="1563"/>
                  </a:lnTo>
                  <a:lnTo>
                    <a:pt x="50" y="1482"/>
                  </a:lnTo>
                  <a:lnTo>
                    <a:pt x="60" y="1402"/>
                  </a:lnTo>
                  <a:lnTo>
                    <a:pt x="75" y="1323"/>
                  </a:lnTo>
                  <a:lnTo>
                    <a:pt x="93" y="1245"/>
                  </a:lnTo>
                  <a:lnTo>
                    <a:pt x="115" y="1168"/>
                  </a:lnTo>
                  <a:lnTo>
                    <a:pt x="139" y="1094"/>
                  </a:lnTo>
                  <a:lnTo>
                    <a:pt x="169" y="1021"/>
                  </a:lnTo>
                  <a:lnTo>
                    <a:pt x="200" y="950"/>
                  </a:lnTo>
                  <a:lnTo>
                    <a:pt x="236" y="881"/>
                  </a:lnTo>
                  <a:lnTo>
                    <a:pt x="274" y="814"/>
                  </a:lnTo>
                  <a:lnTo>
                    <a:pt x="316" y="749"/>
                  </a:lnTo>
                  <a:lnTo>
                    <a:pt x="361" y="686"/>
                  </a:lnTo>
                  <a:lnTo>
                    <a:pt x="408" y="625"/>
                  </a:lnTo>
                  <a:lnTo>
                    <a:pt x="459" y="567"/>
                  </a:lnTo>
                  <a:lnTo>
                    <a:pt x="512" y="512"/>
                  </a:lnTo>
                  <a:lnTo>
                    <a:pt x="567" y="459"/>
                  </a:lnTo>
                  <a:lnTo>
                    <a:pt x="626" y="408"/>
                  </a:lnTo>
                  <a:lnTo>
                    <a:pt x="686" y="360"/>
                  </a:lnTo>
                  <a:lnTo>
                    <a:pt x="749" y="316"/>
                  </a:lnTo>
                  <a:lnTo>
                    <a:pt x="815" y="274"/>
                  </a:lnTo>
                  <a:lnTo>
                    <a:pt x="882" y="235"/>
                  </a:lnTo>
                  <a:lnTo>
                    <a:pt x="951" y="200"/>
                  </a:lnTo>
                  <a:lnTo>
                    <a:pt x="1022" y="168"/>
                  </a:lnTo>
                  <a:lnTo>
                    <a:pt x="1095" y="139"/>
                  </a:lnTo>
                  <a:lnTo>
                    <a:pt x="1169" y="114"/>
                  </a:lnTo>
                  <a:lnTo>
                    <a:pt x="1245" y="93"/>
                  </a:lnTo>
                  <a:lnTo>
                    <a:pt x="1323" y="74"/>
                  </a:lnTo>
                  <a:lnTo>
                    <a:pt x="1401" y="60"/>
                  </a:lnTo>
                  <a:lnTo>
                    <a:pt x="1482" y="51"/>
                  </a:lnTo>
                  <a:lnTo>
                    <a:pt x="1564" y="44"/>
                  </a:lnTo>
                  <a:lnTo>
                    <a:pt x="1646" y="42"/>
                  </a:lnTo>
                  <a:lnTo>
                    <a:pt x="1729" y="44"/>
                  </a:lnTo>
                  <a:lnTo>
                    <a:pt x="1810" y="51"/>
                  </a:lnTo>
                  <a:lnTo>
                    <a:pt x="1891" y="60"/>
                  </a:lnTo>
                  <a:lnTo>
                    <a:pt x="1970" y="74"/>
                  </a:lnTo>
                  <a:lnTo>
                    <a:pt x="2047" y="93"/>
                  </a:lnTo>
                  <a:lnTo>
                    <a:pt x="2123" y="114"/>
                  </a:lnTo>
                  <a:lnTo>
                    <a:pt x="2198" y="139"/>
                  </a:lnTo>
                  <a:lnTo>
                    <a:pt x="2270" y="168"/>
                  </a:lnTo>
                  <a:lnTo>
                    <a:pt x="2342" y="200"/>
                  </a:lnTo>
                  <a:lnTo>
                    <a:pt x="2411" y="235"/>
                  </a:lnTo>
                  <a:lnTo>
                    <a:pt x="2478" y="274"/>
                  </a:lnTo>
                  <a:lnTo>
                    <a:pt x="2544" y="316"/>
                  </a:lnTo>
                  <a:lnTo>
                    <a:pt x="2606" y="360"/>
                  </a:lnTo>
                  <a:lnTo>
                    <a:pt x="2667" y="408"/>
                  </a:lnTo>
                  <a:lnTo>
                    <a:pt x="2725" y="459"/>
                  </a:lnTo>
                  <a:lnTo>
                    <a:pt x="2780" y="512"/>
                  </a:lnTo>
                  <a:lnTo>
                    <a:pt x="2833" y="567"/>
                  </a:lnTo>
                  <a:lnTo>
                    <a:pt x="2884" y="625"/>
                  </a:lnTo>
                  <a:lnTo>
                    <a:pt x="2931" y="686"/>
                  </a:lnTo>
                  <a:lnTo>
                    <a:pt x="2977" y="749"/>
                  </a:lnTo>
                  <a:lnTo>
                    <a:pt x="3018" y="814"/>
                  </a:lnTo>
                  <a:lnTo>
                    <a:pt x="3057" y="881"/>
                  </a:lnTo>
                  <a:lnTo>
                    <a:pt x="3092" y="950"/>
                  </a:lnTo>
                  <a:lnTo>
                    <a:pt x="3124" y="1021"/>
                  </a:lnTo>
                  <a:lnTo>
                    <a:pt x="3153" y="1094"/>
                  </a:lnTo>
                  <a:lnTo>
                    <a:pt x="3178" y="1168"/>
                  </a:lnTo>
                  <a:lnTo>
                    <a:pt x="3199" y="1245"/>
                  </a:lnTo>
                  <a:lnTo>
                    <a:pt x="3218" y="1323"/>
                  </a:lnTo>
                  <a:lnTo>
                    <a:pt x="3232" y="1402"/>
                  </a:lnTo>
                  <a:lnTo>
                    <a:pt x="3242" y="1482"/>
                  </a:lnTo>
                  <a:lnTo>
                    <a:pt x="3248" y="1563"/>
                  </a:lnTo>
                  <a:lnTo>
                    <a:pt x="3250" y="1646"/>
                  </a:lnTo>
                  <a:lnTo>
                    <a:pt x="3249" y="1700"/>
                  </a:lnTo>
                  <a:lnTo>
                    <a:pt x="3247" y="1753"/>
                  </a:lnTo>
                  <a:lnTo>
                    <a:pt x="3243" y="1806"/>
                  </a:lnTo>
                  <a:lnTo>
                    <a:pt x="3236" y="1858"/>
                  </a:lnTo>
                  <a:lnTo>
                    <a:pt x="3229" y="1910"/>
                  </a:lnTo>
                  <a:lnTo>
                    <a:pt x="3219" y="1961"/>
                  </a:lnTo>
                  <a:lnTo>
                    <a:pt x="3208" y="2012"/>
                  </a:lnTo>
                  <a:lnTo>
                    <a:pt x="3195" y="2063"/>
                  </a:lnTo>
                  <a:lnTo>
                    <a:pt x="3236" y="2073"/>
                  </a:lnTo>
                  <a:lnTo>
                    <a:pt x="3249" y="2022"/>
                  </a:lnTo>
                  <a:lnTo>
                    <a:pt x="3260" y="1970"/>
                  </a:lnTo>
                  <a:lnTo>
                    <a:pt x="3270" y="1917"/>
                  </a:lnTo>
                  <a:lnTo>
                    <a:pt x="3277" y="1864"/>
                  </a:lnTo>
                  <a:lnTo>
                    <a:pt x="3284" y="1810"/>
                  </a:lnTo>
                  <a:lnTo>
                    <a:pt x="3288" y="1756"/>
                  </a:lnTo>
                  <a:lnTo>
                    <a:pt x="3291" y="1701"/>
                  </a:lnTo>
                  <a:lnTo>
                    <a:pt x="3292" y="1646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929040" y="2352600"/>
              <a:ext cx="1289160" cy="1289160"/>
            </a:xfrm>
            <a:custGeom>
              <a:avLst/>
              <a:gdLst/>
              <a:ahLst/>
              <a:rect l="l" t="t" r="r" b="b"/>
              <a:pathLst>
                <a:path w="3249" h="3249">
                  <a:moveTo>
                    <a:pt x="3249" y="1625"/>
                  </a:moveTo>
                  <a:lnTo>
                    <a:pt x="3247" y="1540"/>
                  </a:lnTo>
                  <a:lnTo>
                    <a:pt x="3241" y="1458"/>
                  </a:lnTo>
                  <a:lnTo>
                    <a:pt x="3230" y="1377"/>
                  </a:lnTo>
                  <a:lnTo>
                    <a:pt x="3216" y="1297"/>
                  </a:lnTo>
                  <a:lnTo>
                    <a:pt x="3198" y="1219"/>
                  </a:lnTo>
                  <a:lnTo>
                    <a:pt x="3176" y="1142"/>
                  </a:lnTo>
                  <a:lnTo>
                    <a:pt x="3150" y="1066"/>
                  </a:lnTo>
                  <a:lnTo>
                    <a:pt x="3121" y="992"/>
                  </a:lnTo>
                  <a:lnTo>
                    <a:pt x="3089" y="921"/>
                  </a:lnTo>
                  <a:lnTo>
                    <a:pt x="3053" y="850"/>
                  </a:lnTo>
                  <a:lnTo>
                    <a:pt x="3014" y="782"/>
                  </a:lnTo>
                  <a:lnTo>
                    <a:pt x="2972" y="716"/>
                  </a:lnTo>
                  <a:lnTo>
                    <a:pt x="2927" y="653"/>
                  </a:lnTo>
                  <a:lnTo>
                    <a:pt x="2878" y="591"/>
                  </a:lnTo>
                  <a:lnTo>
                    <a:pt x="2827" y="533"/>
                  </a:lnTo>
                  <a:lnTo>
                    <a:pt x="2773" y="476"/>
                  </a:lnTo>
                  <a:lnTo>
                    <a:pt x="2717" y="422"/>
                  </a:lnTo>
                  <a:lnTo>
                    <a:pt x="2658" y="371"/>
                  </a:lnTo>
                  <a:lnTo>
                    <a:pt x="2596" y="323"/>
                  </a:lnTo>
                  <a:lnTo>
                    <a:pt x="2532" y="278"/>
                  </a:lnTo>
                  <a:lnTo>
                    <a:pt x="2466" y="236"/>
                  </a:lnTo>
                  <a:lnTo>
                    <a:pt x="2398" y="196"/>
                  </a:lnTo>
                  <a:lnTo>
                    <a:pt x="2328" y="160"/>
                  </a:lnTo>
                  <a:lnTo>
                    <a:pt x="2257" y="128"/>
                  </a:lnTo>
                  <a:lnTo>
                    <a:pt x="2183" y="99"/>
                  </a:lnTo>
                  <a:lnTo>
                    <a:pt x="2108" y="73"/>
                  </a:lnTo>
                  <a:lnTo>
                    <a:pt x="2030" y="51"/>
                  </a:lnTo>
                  <a:lnTo>
                    <a:pt x="1952" y="33"/>
                  </a:lnTo>
                  <a:lnTo>
                    <a:pt x="1871" y="19"/>
                  </a:lnTo>
                  <a:lnTo>
                    <a:pt x="1790" y="9"/>
                  </a:lnTo>
                  <a:lnTo>
                    <a:pt x="1708" y="3"/>
                  </a:lnTo>
                  <a:lnTo>
                    <a:pt x="1624" y="0"/>
                  </a:lnTo>
                  <a:lnTo>
                    <a:pt x="1540" y="3"/>
                  </a:lnTo>
                  <a:lnTo>
                    <a:pt x="1458" y="9"/>
                  </a:lnTo>
                  <a:lnTo>
                    <a:pt x="1376" y="19"/>
                  </a:lnTo>
                  <a:lnTo>
                    <a:pt x="1296" y="33"/>
                  </a:lnTo>
                  <a:lnTo>
                    <a:pt x="1218" y="51"/>
                  </a:lnTo>
                  <a:lnTo>
                    <a:pt x="1141" y="73"/>
                  </a:lnTo>
                  <a:lnTo>
                    <a:pt x="1065" y="99"/>
                  </a:lnTo>
                  <a:lnTo>
                    <a:pt x="992" y="128"/>
                  </a:lnTo>
                  <a:lnTo>
                    <a:pt x="919" y="160"/>
                  </a:lnTo>
                  <a:lnTo>
                    <a:pt x="850" y="196"/>
                  </a:lnTo>
                  <a:lnTo>
                    <a:pt x="782" y="236"/>
                  </a:lnTo>
                  <a:lnTo>
                    <a:pt x="716" y="278"/>
                  </a:lnTo>
                  <a:lnTo>
                    <a:pt x="652" y="323"/>
                  </a:lnTo>
                  <a:lnTo>
                    <a:pt x="591" y="371"/>
                  </a:lnTo>
                  <a:lnTo>
                    <a:pt x="531" y="422"/>
                  </a:lnTo>
                  <a:lnTo>
                    <a:pt x="475" y="476"/>
                  </a:lnTo>
                  <a:lnTo>
                    <a:pt x="421" y="533"/>
                  </a:lnTo>
                  <a:lnTo>
                    <a:pt x="370" y="591"/>
                  </a:lnTo>
                  <a:lnTo>
                    <a:pt x="322" y="653"/>
                  </a:lnTo>
                  <a:lnTo>
                    <a:pt x="276" y="716"/>
                  </a:lnTo>
                  <a:lnTo>
                    <a:pt x="234" y="782"/>
                  </a:lnTo>
                  <a:lnTo>
                    <a:pt x="195" y="850"/>
                  </a:lnTo>
                  <a:lnTo>
                    <a:pt x="160" y="921"/>
                  </a:lnTo>
                  <a:lnTo>
                    <a:pt x="127" y="992"/>
                  </a:lnTo>
                  <a:lnTo>
                    <a:pt x="98" y="1066"/>
                  </a:lnTo>
                  <a:lnTo>
                    <a:pt x="72" y="1142"/>
                  </a:lnTo>
                  <a:lnTo>
                    <a:pt x="50" y="1219"/>
                  </a:lnTo>
                  <a:lnTo>
                    <a:pt x="32" y="1297"/>
                  </a:lnTo>
                  <a:lnTo>
                    <a:pt x="18" y="1377"/>
                  </a:lnTo>
                  <a:lnTo>
                    <a:pt x="7" y="1458"/>
                  </a:lnTo>
                  <a:lnTo>
                    <a:pt x="1" y="1540"/>
                  </a:lnTo>
                  <a:lnTo>
                    <a:pt x="0" y="1625"/>
                  </a:lnTo>
                  <a:lnTo>
                    <a:pt x="1" y="1708"/>
                  </a:lnTo>
                  <a:lnTo>
                    <a:pt x="7" y="1791"/>
                  </a:lnTo>
                  <a:lnTo>
                    <a:pt x="18" y="1872"/>
                  </a:lnTo>
                  <a:lnTo>
                    <a:pt x="32" y="1952"/>
                  </a:lnTo>
                  <a:lnTo>
                    <a:pt x="50" y="2031"/>
                  </a:lnTo>
                  <a:lnTo>
                    <a:pt x="72" y="2107"/>
                  </a:lnTo>
                  <a:lnTo>
                    <a:pt x="98" y="2183"/>
                  </a:lnTo>
                  <a:lnTo>
                    <a:pt x="127" y="2256"/>
                  </a:lnTo>
                  <a:lnTo>
                    <a:pt x="160" y="2329"/>
                  </a:lnTo>
                  <a:lnTo>
                    <a:pt x="195" y="2399"/>
                  </a:lnTo>
                  <a:lnTo>
                    <a:pt x="234" y="2467"/>
                  </a:lnTo>
                  <a:lnTo>
                    <a:pt x="276" y="2533"/>
                  </a:lnTo>
                  <a:lnTo>
                    <a:pt x="322" y="2597"/>
                  </a:lnTo>
                  <a:lnTo>
                    <a:pt x="370" y="2657"/>
                  </a:lnTo>
                  <a:lnTo>
                    <a:pt x="421" y="2717"/>
                  </a:lnTo>
                  <a:lnTo>
                    <a:pt x="475" y="2773"/>
                  </a:lnTo>
                  <a:lnTo>
                    <a:pt x="531" y="2827"/>
                  </a:lnTo>
                  <a:lnTo>
                    <a:pt x="591" y="2877"/>
                  </a:lnTo>
                  <a:lnTo>
                    <a:pt x="652" y="2926"/>
                  </a:lnTo>
                  <a:lnTo>
                    <a:pt x="716" y="2971"/>
                  </a:lnTo>
                  <a:lnTo>
                    <a:pt x="782" y="3014"/>
                  </a:lnTo>
                  <a:lnTo>
                    <a:pt x="850" y="3052"/>
                  </a:lnTo>
                  <a:lnTo>
                    <a:pt x="919" y="3088"/>
                  </a:lnTo>
                  <a:lnTo>
                    <a:pt x="992" y="3122"/>
                  </a:lnTo>
                  <a:lnTo>
                    <a:pt x="1065" y="3150"/>
                  </a:lnTo>
                  <a:lnTo>
                    <a:pt x="1141" y="3176"/>
                  </a:lnTo>
                  <a:lnTo>
                    <a:pt x="1218" y="3197"/>
                  </a:lnTo>
                  <a:lnTo>
                    <a:pt x="1296" y="3216"/>
                  </a:lnTo>
                  <a:lnTo>
                    <a:pt x="1376" y="3230"/>
                  </a:lnTo>
                  <a:lnTo>
                    <a:pt x="1458" y="3240"/>
                  </a:lnTo>
                  <a:lnTo>
                    <a:pt x="1540" y="3247"/>
                  </a:lnTo>
                  <a:lnTo>
                    <a:pt x="1624" y="3249"/>
                  </a:lnTo>
                  <a:lnTo>
                    <a:pt x="1672" y="3248"/>
                  </a:lnTo>
                  <a:lnTo>
                    <a:pt x="1720" y="3246"/>
                  </a:lnTo>
                  <a:lnTo>
                    <a:pt x="1766" y="3243"/>
                  </a:lnTo>
                  <a:lnTo>
                    <a:pt x="1813" y="3238"/>
                  </a:lnTo>
                  <a:lnTo>
                    <a:pt x="1859" y="3232"/>
                  </a:lnTo>
                  <a:lnTo>
                    <a:pt x="1906" y="3224"/>
                  </a:lnTo>
                  <a:lnTo>
                    <a:pt x="1951" y="3216"/>
                  </a:lnTo>
                  <a:lnTo>
                    <a:pt x="1995" y="3206"/>
                  </a:lnTo>
                  <a:lnTo>
                    <a:pt x="2040" y="3195"/>
                  </a:lnTo>
                  <a:lnTo>
                    <a:pt x="2084" y="3183"/>
                  </a:lnTo>
                  <a:lnTo>
                    <a:pt x="2127" y="3169"/>
                  </a:lnTo>
                  <a:lnTo>
                    <a:pt x="2170" y="3155"/>
                  </a:lnTo>
                  <a:lnTo>
                    <a:pt x="2213" y="3139"/>
                  </a:lnTo>
                  <a:lnTo>
                    <a:pt x="2255" y="3122"/>
                  </a:lnTo>
                  <a:lnTo>
                    <a:pt x="2296" y="3104"/>
                  </a:lnTo>
                  <a:lnTo>
                    <a:pt x="2337" y="3085"/>
                  </a:lnTo>
                  <a:lnTo>
                    <a:pt x="2318" y="3047"/>
                  </a:lnTo>
                  <a:lnTo>
                    <a:pt x="2278" y="3065"/>
                  </a:lnTo>
                  <a:lnTo>
                    <a:pt x="2238" y="3084"/>
                  </a:lnTo>
                  <a:lnTo>
                    <a:pt x="2197" y="3100"/>
                  </a:lnTo>
                  <a:lnTo>
                    <a:pt x="2156" y="3115"/>
                  </a:lnTo>
                  <a:lnTo>
                    <a:pt x="2114" y="3129"/>
                  </a:lnTo>
                  <a:lnTo>
                    <a:pt x="2072" y="3143"/>
                  </a:lnTo>
                  <a:lnTo>
                    <a:pt x="2029" y="3155"/>
                  </a:lnTo>
                  <a:lnTo>
                    <a:pt x="1986" y="3166"/>
                  </a:lnTo>
                  <a:lnTo>
                    <a:pt x="1942" y="3176"/>
                  </a:lnTo>
                  <a:lnTo>
                    <a:pt x="1898" y="3183"/>
                  </a:lnTo>
                  <a:lnTo>
                    <a:pt x="1854" y="3191"/>
                  </a:lnTo>
                  <a:lnTo>
                    <a:pt x="1808" y="3196"/>
                  </a:lnTo>
                  <a:lnTo>
                    <a:pt x="1763" y="3201"/>
                  </a:lnTo>
                  <a:lnTo>
                    <a:pt x="1717" y="3205"/>
                  </a:lnTo>
                  <a:lnTo>
                    <a:pt x="1671" y="3207"/>
                  </a:lnTo>
                  <a:lnTo>
                    <a:pt x="1624" y="3207"/>
                  </a:lnTo>
                  <a:lnTo>
                    <a:pt x="1543" y="3205"/>
                  </a:lnTo>
                  <a:lnTo>
                    <a:pt x="1463" y="3199"/>
                  </a:lnTo>
                  <a:lnTo>
                    <a:pt x="1383" y="3189"/>
                  </a:lnTo>
                  <a:lnTo>
                    <a:pt x="1305" y="3174"/>
                  </a:lnTo>
                  <a:lnTo>
                    <a:pt x="1228" y="3157"/>
                  </a:lnTo>
                  <a:lnTo>
                    <a:pt x="1154" y="3136"/>
                  </a:lnTo>
                  <a:lnTo>
                    <a:pt x="1080" y="3111"/>
                  </a:lnTo>
                  <a:lnTo>
                    <a:pt x="1008" y="3083"/>
                  </a:lnTo>
                  <a:lnTo>
                    <a:pt x="938" y="3051"/>
                  </a:lnTo>
                  <a:lnTo>
                    <a:pt x="869" y="3016"/>
                  </a:lnTo>
                  <a:lnTo>
                    <a:pt x="804" y="2978"/>
                  </a:lnTo>
                  <a:lnTo>
                    <a:pt x="739" y="2937"/>
                  </a:lnTo>
                  <a:lnTo>
                    <a:pt x="677" y="2893"/>
                  </a:lnTo>
                  <a:lnTo>
                    <a:pt x="617" y="2846"/>
                  </a:lnTo>
                  <a:lnTo>
                    <a:pt x="559" y="2795"/>
                  </a:lnTo>
                  <a:lnTo>
                    <a:pt x="504" y="2744"/>
                  </a:lnTo>
                  <a:lnTo>
                    <a:pt x="452" y="2688"/>
                  </a:lnTo>
                  <a:lnTo>
                    <a:pt x="403" y="2631"/>
                  </a:lnTo>
                  <a:lnTo>
                    <a:pt x="355" y="2572"/>
                  </a:lnTo>
                  <a:lnTo>
                    <a:pt x="311" y="2509"/>
                  </a:lnTo>
                  <a:lnTo>
                    <a:pt x="270" y="2445"/>
                  </a:lnTo>
                  <a:lnTo>
                    <a:pt x="232" y="2379"/>
                  </a:lnTo>
                  <a:lnTo>
                    <a:pt x="197" y="2310"/>
                  </a:lnTo>
                  <a:lnTo>
                    <a:pt x="165" y="2240"/>
                  </a:lnTo>
                  <a:lnTo>
                    <a:pt x="137" y="2169"/>
                  </a:lnTo>
                  <a:lnTo>
                    <a:pt x="112" y="2096"/>
                  </a:lnTo>
                  <a:lnTo>
                    <a:pt x="90" y="2020"/>
                  </a:lnTo>
                  <a:lnTo>
                    <a:pt x="73" y="1943"/>
                  </a:lnTo>
                  <a:lnTo>
                    <a:pt x="59" y="1866"/>
                  </a:lnTo>
                  <a:lnTo>
                    <a:pt x="49" y="1787"/>
                  </a:lnTo>
                  <a:lnTo>
                    <a:pt x="43" y="1706"/>
                  </a:lnTo>
                  <a:lnTo>
                    <a:pt x="41" y="1625"/>
                  </a:lnTo>
                  <a:lnTo>
                    <a:pt x="43" y="1543"/>
                  </a:lnTo>
                  <a:lnTo>
                    <a:pt x="49" y="1463"/>
                  </a:lnTo>
                  <a:lnTo>
                    <a:pt x="59" y="1384"/>
                  </a:lnTo>
                  <a:lnTo>
                    <a:pt x="73" y="1305"/>
                  </a:lnTo>
                  <a:lnTo>
                    <a:pt x="90" y="1229"/>
                  </a:lnTo>
                  <a:lnTo>
                    <a:pt x="112" y="1154"/>
                  </a:lnTo>
                  <a:lnTo>
                    <a:pt x="137" y="1080"/>
                  </a:lnTo>
                  <a:lnTo>
                    <a:pt x="165" y="1008"/>
                  </a:lnTo>
                  <a:lnTo>
                    <a:pt x="197" y="938"/>
                  </a:lnTo>
                  <a:lnTo>
                    <a:pt x="232" y="870"/>
                  </a:lnTo>
                  <a:lnTo>
                    <a:pt x="270" y="804"/>
                  </a:lnTo>
                  <a:lnTo>
                    <a:pt x="311" y="739"/>
                  </a:lnTo>
                  <a:lnTo>
                    <a:pt x="355" y="678"/>
                  </a:lnTo>
                  <a:lnTo>
                    <a:pt x="403" y="618"/>
                  </a:lnTo>
                  <a:lnTo>
                    <a:pt x="452" y="560"/>
                  </a:lnTo>
                  <a:lnTo>
                    <a:pt x="504" y="506"/>
                  </a:lnTo>
                  <a:lnTo>
                    <a:pt x="559" y="453"/>
                  </a:lnTo>
                  <a:lnTo>
                    <a:pt x="617" y="403"/>
                  </a:lnTo>
                  <a:lnTo>
                    <a:pt x="677" y="356"/>
                  </a:lnTo>
                  <a:lnTo>
                    <a:pt x="739" y="312"/>
                  </a:lnTo>
                  <a:lnTo>
                    <a:pt x="804" y="270"/>
                  </a:lnTo>
                  <a:lnTo>
                    <a:pt x="869" y="233"/>
                  </a:lnTo>
                  <a:lnTo>
                    <a:pt x="938" y="198"/>
                  </a:lnTo>
                  <a:lnTo>
                    <a:pt x="1008" y="166"/>
                  </a:lnTo>
                  <a:lnTo>
                    <a:pt x="1080" y="138"/>
                  </a:lnTo>
                  <a:lnTo>
                    <a:pt x="1154" y="113"/>
                  </a:lnTo>
                  <a:lnTo>
                    <a:pt x="1228" y="91"/>
                  </a:lnTo>
                  <a:lnTo>
                    <a:pt x="1305" y="74"/>
                  </a:lnTo>
                  <a:lnTo>
                    <a:pt x="1383" y="60"/>
                  </a:lnTo>
                  <a:lnTo>
                    <a:pt x="1463" y="50"/>
                  </a:lnTo>
                  <a:lnTo>
                    <a:pt x="1543" y="44"/>
                  </a:lnTo>
                  <a:lnTo>
                    <a:pt x="1624" y="41"/>
                  </a:lnTo>
                  <a:lnTo>
                    <a:pt x="1706" y="44"/>
                  </a:lnTo>
                  <a:lnTo>
                    <a:pt x="1786" y="50"/>
                  </a:lnTo>
                  <a:lnTo>
                    <a:pt x="1866" y="60"/>
                  </a:lnTo>
                  <a:lnTo>
                    <a:pt x="1943" y="74"/>
                  </a:lnTo>
                  <a:lnTo>
                    <a:pt x="2020" y="91"/>
                  </a:lnTo>
                  <a:lnTo>
                    <a:pt x="2095" y="113"/>
                  </a:lnTo>
                  <a:lnTo>
                    <a:pt x="2168" y="138"/>
                  </a:lnTo>
                  <a:lnTo>
                    <a:pt x="2241" y="166"/>
                  </a:lnTo>
                  <a:lnTo>
                    <a:pt x="2311" y="198"/>
                  </a:lnTo>
                  <a:lnTo>
                    <a:pt x="2379" y="233"/>
                  </a:lnTo>
                  <a:lnTo>
                    <a:pt x="2445" y="270"/>
                  </a:lnTo>
                  <a:lnTo>
                    <a:pt x="2510" y="312"/>
                  </a:lnTo>
                  <a:lnTo>
                    <a:pt x="2571" y="356"/>
                  </a:lnTo>
                  <a:lnTo>
                    <a:pt x="2632" y="403"/>
                  </a:lnTo>
                  <a:lnTo>
                    <a:pt x="2689" y="453"/>
                  </a:lnTo>
                  <a:lnTo>
                    <a:pt x="2744" y="506"/>
                  </a:lnTo>
                  <a:lnTo>
                    <a:pt x="2796" y="560"/>
                  </a:lnTo>
                  <a:lnTo>
                    <a:pt x="2846" y="618"/>
                  </a:lnTo>
                  <a:lnTo>
                    <a:pt x="2893" y="678"/>
                  </a:lnTo>
                  <a:lnTo>
                    <a:pt x="2938" y="739"/>
                  </a:lnTo>
                  <a:lnTo>
                    <a:pt x="2979" y="804"/>
                  </a:lnTo>
                  <a:lnTo>
                    <a:pt x="3016" y="870"/>
                  </a:lnTo>
                  <a:lnTo>
                    <a:pt x="3051" y="938"/>
                  </a:lnTo>
                  <a:lnTo>
                    <a:pt x="3083" y="1008"/>
                  </a:lnTo>
                  <a:lnTo>
                    <a:pt x="3112" y="1080"/>
                  </a:lnTo>
                  <a:lnTo>
                    <a:pt x="3136" y="1154"/>
                  </a:lnTo>
                  <a:lnTo>
                    <a:pt x="3158" y="1229"/>
                  </a:lnTo>
                  <a:lnTo>
                    <a:pt x="3175" y="1305"/>
                  </a:lnTo>
                  <a:lnTo>
                    <a:pt x="3189" y="1384"/>
                  </a:lnTo>
                  <a:lnTo>
                    <a:pt x="3199" y="1463"/>
                  </a:lnTo>
                  <a:lnTo>
                    <a:pt x="3206" y="1543"/>
                  </a:lnTo>
                  <a:lnTo>
                    <a:pt x="3208" y="1625"/>
                  </a:lnTo>
                  <a:lnTo>
                    <a:pt x="3207" y="1678"/>
                  </a:lnTo>
                  <a:lnTo>
                    <a:pt x="3204" y="1731"/>
                  </a:lnTo>
                  <a:lnTo>
                    <a:pt x="3200" y="1782"/>
                  </a:lnTo>
                  <a:lnTo>
                    <a:pt x="3194" y="1834"/>
                  </a:lnTo>
                  <a:lnTo>
                    <a:pt x="3186" y="1886"/>
                  </a:lnTo>
                  <a:lnTo>
                    <a:pt x="3176" y="1936"/>
                  </a:lnTo>
                  <a:lnTo>
                    <a:pt x="3166" y="1986"/>
                  </a:lnTo>
                  <a:lnTo>
                    <a:pt x="3154" y="2036"/>
                  </a:lnTo>
                  <a:lnTo>
                    <a:pt x="3194" y="2047"/>
                  </a:lnTo>
                  <a:lnTo>
                    <a:pt x="3207" y="1996"/>
                  </a:lnTo>
                  <a:lnTo>
                    <a:pt x="3217" y="1944"/>
                  </a:lnTo>
                  <a:lnTo>
                    <a:pt x="3227" y="1893"/>
                  </a:lnTo>
                  <a:lnTo>
                    <a:pt x="3235" y="1840"/>
                  </a:lnTo>
                  <a:lnTo>
                    <a:pt x="3241" y="1787"/>
                  </a:lnTo>
                  <a:lnTo>
                    <a:pt x="3246" y="1733"/>
                  </a:lnTo>
                  <a:lnTo>
                    <a:pt x="3249" y="1679"/>
                  </a:lnTo>
                  <a:lnTo>
                    <a:pt x="3249" y="1625"/>
                  </a:lnTo>
                  <a:close/>
                </a:path>
              </a:pathLst>
            </a:custGeom>
            <a:solidFill>
              <a:srgbClr val="e6d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936960" y="2360520"/>
              <a:ext cx="1273320" cy="1273320"/>
            </a:xfrm>
            <a:custGeom>
              <a:avLst/>
              <a:gdLst/>
              <a:ahLst/>
              <a:rect l="l" t="t" r="r" b="b"/>
              <a:pathLst>
                <a:path w="3208" h="3206">
                  <a:moveTo>
                    <a:pt x="3208" y="1604"/>
                  </a:moveTo>
                  <a:lnTo>
                    <a:pt x="3206" y="1521"/>
                  </a:lnTo>
                  <a:lnTo>
                    <a:pt x="3200" y="1440"/>
                  </a:lnTo>
                  <a:lnTo>
                    <a:pt x="3190" y="1360"/>
                  </a:lnTo>
                  <a:lnTo>
                    <a:pt x="3176" y="1281"/>
                  </a:lnTo>
                  <a:lnTo>
                    <a:pt x="3157" y="1203"/>
                  </a:lnTo>
                  <a:lnTo>
                    <a:pt x="3136" y="1126"/>
                  </a:lnTo>
                  <a:lnTo>
                    <a:pt x="3111" y="1052"/>
                  </a:lnTo>
                  <a:lnTo>
                    <a:pt x="3082" y="979"/>
                  </a:lnTo>
                  <a:lnTo>
                    <a:pt x="3050" y="908"/>
                  </a:lnTo>
                  <a:lnTo>
                    <a:pt x="3015" y="839"/>
                  </a:lnTo>
                  <a:lnTo>
                    <a:pt x="2976" y="772"/>
                  </a:lnTo>
                  <a:lnTo>
                    <a:pt x="2935" y="707"/>
                  </a:lnTo>
                  <a:lnTo>
                    <a:pt x="2889" y="644"/>
                  </a:lnTo>
                  <a:lnTo>
                    <a:pt x="2842" y="583"/>
                  </a:lnTo>
                  <a:lnTo>
                    <a:pt x="2791" y="525"/>
                  </a:lnTo>
                  <a:lnTo>
                    <a:pt x="2738" y="470"/>
                  </a:lnTo>
                  <a:lnTo>
                    <a:pt x="2683" y="417"/>
                  </a:lnTo>
                  <a:lnTo>
                    <a:pt x="2625" y="366"/>
                  </a:lnTo>
                  <a:lnTo>
                    <a:pt x="2564" y="318"/>
                  </a:lnTo>
                  <a:lnTo>
                    <a:pt x="2502" y="274"/>
                  </a:lnTo>
                  <a:lnTo>
                    <a:pt x="2436" y="232"/>
                  </a:lnTo>
                  <a:lnTo>
                    <a:pt x="2369" y="193"/>
                  </a:lnTo>
                  <a:lnTo>
                    <a:pt x="2300" y="158"/>
                  </a:lnTo>
                  <a:lnTo>
                    <a:pt x="2228" y="126"/>
                  </a:lnTo>
                  <a:lnTo>
                    <a:pt x="2156" y="97"/>
                  </a:lnTo>
                  <a:lnTo>
                    <a:pt x="2081" y="72"/>
                  </a:lnTo>
                  <a:lnTo>
                    <a:pt x="2005" y="51"/>
                  </a:lnTo>
                  <a:lnTo>
                    <a:pt x="1928" y="32"/>
                  </a:lnTo>
                  <a:lnTo>
                    <a:pt x="1849" y="18"/>
                  </a:lnTo>
                  <a:lnTo>
                    <a:pt x="1768" y="9"/>
                  </a:lnTo>
                  <a:lnTo>
                    <a:pt x="1687" y="2"/>
                  </a:lnTo>
                  <a:lnTo>
                    <a:pt x="1604" y="0"/>
                  </a:lnTo>
                  <a:lnTo>
                    <a:pt x="1522" y="2"/>
                  </a:lnTo>
                  <a:lnTo>
                    <a:pt x="1440" y="9"/>
                  </a:lnTo>
                  <a:lnTo>
                    <a:pt x="1359" y="18"/>
                  </a:lnTo>
                  <a:lnTo>
                    <a:pt x="1281" y="32"/>
                  </a:lnTo>
                  <a:lnTo>
                    <a:pt x="1203" y="51"/>
                  </a:lnTo>
                  <a:lnTo>
                    <a:pt x="1127" y="72"/>
                  </a:lnTo>
                  <a:lnTo>
                    <a:pt x="1053" y="97"/>
                  </a:lnTo>
                  <a:lnTo>
                    <a:pt x="980" y="126"/>
                  </a:lnTo>
                  <a:lnTo>
                    <a:pt x="909" y="158"/>
                  </a:lnTo>
                  <a:lnTo>
                    <a:pt x="840" y="193"/>
                  </a:lnTo>
                  <a:lnTo>
                    <a:pt x="773" y="232"/>
                  </a:lnTo>
                  <a:lnTo>
                    <a:pt x="707" y="274"/>
                  </a:lnTo>
                  <a:lnTo>
                    <a:pt x="644" y="318"/>
                  </a:lnTo>
                  <a:lnTo>
                    <a:pt x="584" y="366"/>
                  </a:lnTo>
                  <a:lnTo>
                    <a:pt x="525" y="417"/>
                  </a:lnTo>
                  <a:lnTo>
                    <a:pt x="470" y="470"/>
                  </a:lnTo>
                  <a:lnTo>
                    <a:pt x="417" y="525"/>
                  </a:lnTo>
                  <a:lnTo>
                    <a:pt x="366" y="583"/>
                  </a:lnTo>
                  <a:lnTo>
                    <a:pt x="319" y="644"/>
                  </a:lnTo>
                  <a:lnTo>
                    <a:pt x="274" y="707"/>
                  </a:lnTo>
                  <a:lnTo>
                    <a:pt x="232" y="772"/>
                  </a:lnTo>
                  <a:lnTo>
                    <a:pt x="194" y="839"/>
                  </a:lnTo>
                  <a:lnTo>
                    <a:pt x="158" y="908"/>
                  </a:lnTo>
                  <a:lnTo>
                    <a:pt x="127" y="979"/>
                  </a:lnTo>
                  <a:lnTo>
                    <a:pt x="97" y="1052"/>
                  </a:lnTo>
                  <a:lnTo>
                    <a:pt x="73" y="1126"/>
                  </a:lnTo>
                  <a:lnTo>
                    <a:pt x="51" y="1203"/>
                  </a:lnTo>
                  <a:lnTo>
                    <a:pt x="33" y="1281"/>
                  </a:lnTo>
                  <a:lnTo>
                    <a:pt x="18" y="1360"/>
                  </a:lnTo>
                  <a:lnTo>
                    <a:pt x="8" y="1440"/>
                  </a:lnTo>
                  <a:lnTo>
                    <a:pt x="2" y="1521"/>
                  </a:lnTo>
                  <a:lnTo>
                    <a:pt x="0" y="1604"/>
                  </a:lnTo>
                  <a:lnTo>
                    <a:pt x="2" y="1686"/>
                  </a:lnTo>
                  <a:lnTo>
                    <a:pt x="8" y="1768"/>
                  </a:lnTo>
                  <a:lnTo>
                    <a:pt x="18" y="1848"/>
                  </a:lnTo>
                  <a:lnTo>
                    <a:pt x="33" y="1927"/>
                  </a:lnTo>
                  <a:lnTo>
                    <a:pt x="51" y="2004"/>
                  </a:lnTo>
                  <a:lnTo>
                    <a:pt x="73" y="2080"/>
                  </a:lnTo>
                  <a:lnTo>
                    <a:pt x="97" y="2154"/>
                  </a:lnTo>
                  <a:lnTo>
                    <a:pt x="127" y="2228"/>
                  </a:lnTo>
                  <a:lnTo>
                    <a:pt x="158" y="2298"/>
                  </a:lnTo>
                  <a:lnTo>
                    <a:pt x="194" y="2367"/>
                  </a:lnTo>
                  <a:lnTo>
                    <a:pt x="232" y="2435"/>
                  </a:lnTo>
                  <a:lnTo>
                    <a:pt x="274" y="2500"/>
                  </a:lnTo>
                  <a:lnTo>
                    <a:pt x="319" y="2563"/>
                  </a:lnTo>
                  <a:lnTo>
                    <a:pt x="366" y="2623"/>
                  </a:lnTo>
                  <a:lnTo>
                    <a:pt x="417" y="2682"/>
                  </a:lnTo>
                  <a:lnTo>
                    <a:pt x="470" y="2738"/>
                  </a:lnTo>
                  <a:lnTo>
                    <a:pt x="525" y="2791"/>
                  </a:lnTo>
                  <a:lnTo>
                    <a:pt x="584" y="2840"/>
                  </a:lnTo>
                  <a:lnTo>
                    <a:pt x="644" y="2888"/>
                  </a:lnTo>
                  <a:lnTo>
                    <a:pt x="707" y="2933"/>
                  </a:lnTo>
                  <a:lnTo>
                    <a:pt x="773" y="2975"/>
                  </a:lnTo>
                  <a:lnTo>
                    <a:pt x="840" y="3013"/>
                  </a:lnTo>
                  <a:lnTo>
                    <a:pt x="909" y="3049"/>
                  </a:lnTo>
                  <a:lnTo>
                    <a:pt x="980" y="3081"/>
                  </a:lnTo>
                  <a:lnTo>
                    <a:pt x="1053" y="3109"/>
                  </a:lnTo>
                  <a:lnTo>
                    <a:pt x="1127" y="3135"/>
                  </a:lnTo>
                  <a:lnTo>
                    <a:pt x="1203" y="3157"/>
                  </a:lnTo>
                  <a:lnTo>
                    <a:pt x="1281" y="3174"/>
                  </a:lnTo>
                  <a:lnTo>
                    <a:pt x="1359" y="3188"/>
                  </a:lnTo>
                  <a:lnTo>
                    <a:pt x="1440" y="3199"/>
                  </a:lnTo>
                  <a:lnTo>
                    <a:pt x="1522" y="3205"/>
                  </a:lnTo>
                  <a:lnTo>
                    <a:pt x="1604" y="3206"/>
                  </a:lnTo>
                  <a:lnTo>
                    <a:pt x="1651" y="3206"/>
                  </a:lnTo>
                  <a:lnTo>
                    <a:pt x="1698" y="3204"/>
                  </a:lnTo>
                  <a:lnTo>
                    <a:pt x="1744" y="3201"/>
                  </a:lnTo>
                  <a:lnTo>
                    <a:pt x="1791" y="3197"/>
                  </a:lnTo>
                  <a:lnTo>
                    <a:pt x="1836" y="3190"/>
                  </a:lnTo>
                  <a:lnTo>
                    <a:pt x="1881" y="3183"/>
                  </a:lnTo>
                  <a:lnTo>
                    <a:pt x="1927" y="3174"/>
                  </a:lnTo>
                  <a:lnTo>
                    <a:pt x="1971" y="3164"/>
                  </a:lnTo>
                  <a:lnTo>
                    <a:pt x="2014" y="3153"/>
                  </a:lnTo>
                  <a:lnTo>
                    <a:pt x="2059" y="3142"/>
                  </a:lnTo>
                  <a:lnTo>
                    <a:pt x="2101" y="3129"/>
                  </a:lnTo>
                  <a:lnTo>
                    <a:pt x="2144" y="3114"/>
                  </a:lnTo>
                  <a:lnTo>
                    <a:pt x="2185" y="3098"/>
                  </a:lnTo>
                  <a:lnTo>
                    <a:pt x="2227" y="3081"/>
                  </a:lnTo>
                  <a:lnTo>
                    <a:pt x="2267" y="3064"/>
                  </a:lnTo>
                  <a:lnTo>
                    <a:pt x="2307" y="3044"/>
                  </a:lnTo>
                  <a:lnTo>
                    <a:pt x="2289" y="3008"/>
                  </a:lnTo>
                  <a:lnTo>
                    <a:pt x="2250" y="3026"/>
                  </a:lnTo>
                  <a:lnTo>
                    <a:pt x="2211" y="3043"/>
                  </a:lnTo>
                  <a:lnTo>
                    <a:pt x="2170" y="3060"/>
                  </a:lnTo>
                  <a:lnTo>
                    <a:pt x="2130" y="3075"/>
                  </a:lnTo>
                  <a:lnTo>
                    <a:pt x="2088" y="3089"/>
                  </a:lnTo>
                  <a:lnTo>
                    <a:pt x="2047" y="3102"/>
                  </a:lnTo>
                  <a:lnTo>
                    <a:pt x="2005" y="3114"/>
                  </a:lnTo>
                  <a:lnTo>
                    <a:pt x="1961" y="3124"/>
                  </a:lnTo>
                  <a:lnTo>
                    <a:pt x="1918" y="3134"/>
                  </a:lnTo>
                  <a:lnTo>
                    <a:pt x="1875" y="3142"/>
                  </a:lnTo>
                  <a:lnTo>
                    <a:pt x="1831" y="3149"/>
                  </a:lnTo>
                  <a:lnTo>
                    <a:pt x="1786" y="3155"/>
                  </a:lnTo>
                  <a:lnTo>
                    <a:pt x="1741" y="3159"/>
                  </a:lnTo>
                  <a:lnTo>
                    <a:pt x="1695" y="3162"/>
                  </a:lnTo>
                  <a:lnTo>
                    <a:pt x="1650" y="3164"/>
                  </a:lnTo>
                  <a:lnTo>
                    <a:pt x="1604" y="3165"/>
                  </a:lnTo>
                  <a:lnTo>
                    <a:pt x="1524" y="3163"/>
                  </a:lnTo>
                  <a:lnTo>
                    <a:pt x="1445" y="3157"/>
                  </a:lnTo>
                  <a:lnTo>
                    <a:pt x="1366" y="3147"/>
                  </a:lnTo>
                  <a:lnTo>
                    <a:pt x="1289" y="3134"/>
                  </a:lnTo>
                  <a:lnTo>
                    <a:pt x="1214" y="3116"/>
                  </a:lnTo>
                  <a:lnTo>
                    <a:pt x="1139" y="3095"/>
                  </a:lnTo>
                  <a:lnTo>
                    <a:pt x="1067" y="3070"/>
                  </a:lnTo>
                  <a:lnTo>
                    <a:pt x="996" y="3042"/>
                  </a:lnTo>
                  <a:lnTo>
                    <a:pt x="927" y="3011"/>
                  </a:lnTo>
                  <a:lnTo>
                    <a:pt x="859" y="2976"/>
                  </a:lnTo>
                  <a:lnTo>
                    <a:pt x="794" y="2940"/>
                  </a:lnTo>
                  <a:lnTo>
                    <a:pt x="731" y="2899"/>
                  </a:lnTo>
                  <a:lnTo>
                    <a:pt x="669" y="2855"/>
                  </a:lnTo>
                  <a:lnTo>
                    <a:pt x="611" y="2809"/>
                  </a:lnTo>
                  <a:lnTo>
                    <a:pt x="553" y="2759"/>
                  </a:lnTo>
                  <a:lnTo>
                    <a:pt x="499" y="2707"/>
                  </a:lnTo>
                  <a:lnTo>
                    <a:pt x="447" y="2653"/>
                  </a:lnTo>
                  <a:lnTo>
                    <a:pt x="399" y="2597"/>
                  </a:lnTo>
                  <a:lnTo>
                    <a:pt x="352" y="2538"/>
                  </a:lnTo>
                  <a:lnTo>
                    <a:pt x="308" y="2476"/>
                  </a:lnTo>
                  <a:lnTo>
                    <a:pt x="268" y="2414"/>
                  </a:lnTo>
                  <a:lnTo>
                    <a:pt x="230" y="2348"/>
                  </a:lnTo>
                  <a:lnTo>
                    <a:pt x="196" y="2281"/>
                  </a:lnTo>
                  <a:lnTo>
                    <a:pt x="164" y="2212"/>
                  </a:lnTo>
                  <a:lnTo>
                    <a:pt x="136" y="2140"/>
                  </a:lnTo>
                  <a:lnTo>
                    <a:pt x="111" y="2068"/>
                  </a:lnTo>
                  <a:lnTo>
                    <a:pt x="91" y="1994"/>
                  </a:lnTo>
                  <a:lnTo>
                    <a:pt x="74" y="1918"/>
                  </a:lnTo>
                  <a:lnTo>
                    <a:pt x="60" y="1841"/>
                  </a:lnTo>
                  <a:lnTo>
                    <a:pt x="50" y="1764"/>
                  </a:lnTo>
                  <a:lnTo>
                    <a:pt x="43" y="1684"/>
                  </a:lnTo>
                  <a:lnTo>
                    <a:pt x="41" y="1604"/>
                  </a:lnTo>
                  <a:lnTo>
                    <a:pt x="43" y="1523"/>
                  </a:lnTo>
                  <a:lnTo>
                    <a:pt x="50" y="1444"/>
                  </a:lnTo>
                  <a:lnTo>
                    <a:pt x="60" y="1366"/>
                  </a:lnTo>
                  <a:lnTo>
                    <a:pt x="74" y="1288"/>
                  </a:lnTo>
                  <a:lnTo>
                    <a:pt x="91" y="1213"/>
                  </a:lnTo>
                  <a:lnTo>
                    <a:pt x="111" y="1139"/>
                  </a:lnTo>
                  <a:lnTo>
                    <a:pt x="136" y="1067"/>
                  </a:lnTo>
                  <a:lnTo>
                    <a:pt x="164" y="996"/>
                  </a:lnTo>
                  <a:lnTo>
                    <a:pt x="196" y="927"/>
                  </a:lnTo>
                  <a:lnTo>
                    <a:pt x="230" y="858"/>
                  </a:lnTo>
                  <a:lnTo>
                    <a:pt x="268" y="794"/>
                  </a:lnTo>
                  <a:lnTo>
                    <a:pt x="308" y="730"/>
                  </a:lnTo>
                  <a:lnTo>
                    <a:pt x="352" y="669"/>
                  </a:lnTo>
                  <a:lnTo>
                    <a:pt x="399" y="610"/>
                  </a:lnTo>
                  <a:lnTo>
                    <a:pt x="447" y="553"/>
                  </a:lnTo>
                  <a:lnTo>
                    <a:pt x="499" y="499"/>
                  </a:lnTo>
                  <a:lnTo>
                    <a:pt x="553" y="447"/>
                  </a:lnTo>
                  <a:lnTo>
                    <a:pt x="611" y="398"/>
                  </a:lnTo>
                  <a:lnTo>
                    <a:pt x="669" y="352"/>
                  </a:lnTo>
                  <a:lnTo>
                    <a:pt x="731" y="309"/>
                  </a:lnTo>
                  <a:lnTo>
                    <a:pt x="794" y="268"/>
                  </a:lnTo>
                  <a:lnTo>
                    <a:pt x="859" y="230"/>
                  </a:lnTo>
                  <a:lnTo>
                    <a:pt x="927" y="195"/>
                  </a:lnTo>
                  <a:lnTo>
                    <a:pt x="996" y="164"/>
                  </a:lnTo>
                  <a:lnTo>
                    <a:pt x="1067" y="136"/>
                  </a:lnTo>
                  <a:lnTo>
                    <a:pt x="1139" y="112"/>
                  </a:lnTo>
                  <a:lnTo>
                    <a:pt x="1214" y="91"/>
                  </a:lnTo>
                  <a:lnTo>
                    <a:pt x="1289" y="73"/>
                  </a:lnTo>
                  <a:lnTo>
                    <a:pt x="1366" y="59"/>
                  </a:lnTo>
                  <a:lnTo>
                    <a:pt x="1445" y="50"/>
                  </a:lnTo>
                  <a:lnTo>
                    <a:pt x="1524" y="43"/>
                  </a:lnTo>
                  <a:lnTo>
                    <a:pt x="1604" y="42"/>
                  </a:lnTo>
                  <a:lnTo>
                    <a:pt x="1685" y="43"/>
                  </a:lnTo>
                  <a:lnTo>
                    <a:pt x="1764" y="50"/>
                  </a:lnTo>
                  <a:lnTo>
                    <a:pt x="1842" y="59"/>
                  </a:lnTo>
                  <a:lnTo>
                    <a:pt x="1919" y="73"/>
                  </a:lnTo>
                  <a:lnTo>
                    <a:pt x="1995" y="91"/>
                  </a:lnTo>
                  <a:lnTo>
                    <a:pt x="2068" y="112"/>
                  </a:lnTo>
                  <a:lnTo>
                    <a:pt x="2142" y="136"/>
                  </a:lnTo>
                  <a:lnTo>
                    <a:pt x="2212" y="164"/>
                  </a:lnTo>
                  <a:lnTo>
                    <a:pt x="2281" y="195"/>
                  </a:lnTo>
                  <a:lnTo>
                    <a:pt x="2349" y="230"/>
                  </a:lnTo>
                  <a:lnTo>
                    <a:pt x="2414" y="268"/>
                  </a:lnTo>
                  <a:lnTo>
                    <a:pt x="2478" y="309"/>
                  </a:lnTo>
                  <a:lnTo>
                    <a:pt x="2539" y="352"/>
                  </a:lnTo>
                  <a:lnTo>
                    <a:pt x="2598" y="398"/>
                  </a:lnTo>
                  <a:lnTo>
                    <a:pt x="2655" y="447"/>
                  </a:lnTo>
                  <a:lnTo>
                    <a:pt x="2709" y="499"/>
                  </a:lnTo>
                  <a:lnTo>
                    <a:pt x="2761" y="553"/>
                  </a:lnTo>
                  <a:lnTo>
                    <a:pt x="2810" y="610"/>
                  </a:lnTo>
                  <a:lnTo>
                    <a:pt x="2856" y="669"/>
                  </a:lnTo>
                  <a:lnTo>
                    <a:pt x="2900" y="730"/>
                  </a:lnTo>
                  <a:lnTo>
                    <a:pt x="2940" y="794"/>
                  </a:lnTo>
                  <a:lnTo>
                    <a:pt x="2978" y="858"/>
                  </a:lnTo>
                  <a:lnTo>
                    <a:pt x="3013" y="927"/>
                  </a:lnTo>
                  <a:lnTo>
                    <a:pt x="3044" y="996"/>
                  </a:lnTo>
                  <a:lnTo>
                    <a:pt x="3072" y="1067"/>
                  </a:lnTo>
                  <a:lnTo>
                    <a:pt x="3097" y="1139"/>
                  </a:lnTo>
                  <a:lnTo>
                    <a:pt x="3117" y="1213"/>
                  </a:lnTo>
                  <a:lnTo>
                    <a:pt x="3135" y="1288"/>
                  </a:lnTo>
                  <a:lnTo>
                    <a:pt x="3149" y="1366"/>
                  </a:lnTo>
                  <a:lnTo>
                    <a:pt x="3159" y="1444"/>
                  </a:lnTo>
                  <a:lnTo>
                    <a:pt x="3165" y="1523"/>
                  </a:lnTo>
                  <a:lnTo>
                    <a:pt x="3167" y="1604"/>
                  </a:lnTo>
                  <a:lnTo>
                    <a:pt x="3166" y="1656"/>
                  </a:lnTo>
                  <a:lnTo>
                    <a:pt x="3163" y="1707"/>
                  </a:lnTo>
                  <a:lnTo>
                    <a:pt x="3159" y="1759"/>
                  </a:lnTo>
                  <a:lnTo>
                    <a:pt x="3153" y="1811"/>
                  </a:lnTo>
                  <a:lnTo>
                    <a:pt x="3146" y="1861"/>
                  </a:lnTo>
                  <a:lnTo>
                    <a:pt x="3136" y="1911"/>
                  </a:lnTo>
                  <a:lnTo>
                    <a:pt x="3125" y="1960"/>
                  </a:lnTo>
                  <a:lnTo>
                    <a:pt x="3113" y="2010"/>
                  </a:lnTo>
                  <a:lnTo>
                    <a:pt x="3153" y="2021"/>
                  </a:lnTo>
                  <a:lnTo>
                    <a:pt x="3166" y="1970"/>
                  </a:lnTo>
                  <a:lnTo>
                    <a:pt x="3177" y="1919"/>
                  </a:lnTo>
                  <a:lnTo>
                    <a:pt x="3187" y="1868"/>
                  </a:lnTo>
                  <a:lnTo>
                    <a:pt x="3194" y="1816"/>
                  </a:lnTo>
                  <a:lnTo>
                    <a:pt x="3201" y="1764"/>
                  </a:lnTo>
                  <a:lnTo>
                    <a:pt x="3205" y="1711"/>
                  </a:lnTo>
                  <a:lnTo>
                    <a:pt x="3207" y="1658"/>
                  </a:lnTo>
                  <a:lnTo>
                    <a:pt x="3208" y="160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944880" y="2368440"/>
              <a:ext cx="1257480" cy="1257480"/>
            </a:xfrm>
            <a:custGeom>
              <a:avLst/>
              <a:gdLst/>
              <a:ahLst/>
              <a:rect l="l" t="t" r="r" b="b"/>
              <a:pathLst>
                <a:path w="3167" h="3166">
                  <a:moveTo>
                    <a:pt x="3167" y="1584"/>
                  </a:moveTo>
                  <a:lnTo>
                    <a:pt x="3165" y="1502"/>
                  </a:lnTo>
                  <a:lnTo>
                    <a:pt x="3158" y="1422"/>
                  </a:lnTo>
                  <a:lnTo>
                    <a:pt x="3148" y="1343"/>
                  </a:lnTo>
                  <a:lnTo>
                    <a:pt x="3134" y="1264"/>
                  </a:lnTo>
                  <a:lnTo>
                    <a:pt x="3117" y="1188"/>
                  </a:lnTo>
                  <a:lnTo>
                    <a:pt x="3095" y="1113"/>
                  </a:lnTo>
                  <a:lnTo>
                    <a:pt x="3071" y="1039"/>
                  </a:lnTo>
                  <a:lnTo>
                    <a:pt x="3042" y="967"/>
                  </a:lnTo>
                  <a:lnTo>
                    <a:pt x="3010" y="897"/>
                  </a:lnTo>
                  <a:lnTo>
                    <a:pt x="2975" y="829"/>
                  </a:lnTo>
                  <a:lnTo>
                    <a:pt x="2938" y="763"/>
                  </a:lnTo>
                  <a:lnTo>
                    <a:pt x="2897" y="698"/>
                  </a:lnTo>
                  <a:lnTo>
                    <a:pt x="2852" y="637"/>
                  </a:lnTo>
                  <a:lnTo>
                    <a:pt x="2805" y="577"/>
                  </a:lnTo>
                  <a:lnTo>
                    <a:pt x="2755" y="519"/>
                  </a:lnTo>
                  <a:lnTo>
                    <a:pt x="2703" y="465"/>
                  </a:lnTo>
                  <a:lnTo>
                    <a:pt x="2648" y="412"/>
                  </a:lnTo>
                  <a:lnTo>
                    <a:pt x="2591" y="362"/>
                  </a:lnTo>
                  <a:lnTo>
                    <a:pt x="2530" y="315"/>
                  </a:lnTo>
                  <a:lnTo>
                    <a:pt x="2469" y="271"/>
                  </a:lnTo>
                  <a:lnTo>
                    <a:pt x="2404" y="229"/>
                  </a:lnTo>
                  <a:lnTo>
                    <a:pt x="2338" y="192"/>
                  </a:lnTo>
                  <a:lnTo>
                    <a:pt x="2270" y="157"/>
                  </a:lnTo>
                  <a:lnTo>
                    <a:pt x="2200" y="125"/>
                  </a:lnTo>
                  <a:lnTo>
                    <a:pt x="2127" y="97"/>
                  </a:lnTo>
                  <a:lnTo>
                    <a:pt x="2054" y="72"/>
                  </a:lnTo>
                  <a:lnTo>
                    <a:pt x="1979" y="50"/>
                  </a:lnTo>
                  <a:lnTo>
                    <a:pt x="1902" y="33"/>
                  </a:lnTo>
                  <a:lnTo>
                    <a:pt x="1825" y="19"/>
                  </a:lnTo>
                  <a:lnTo>
                    <a:pt x="1745" y="9"/>
                  </a:lnTo>
                  <a:lnTo>
                    <a:pt x="1665" y="3"/>
                  </a:lnTo>
                  <a:lnTo>
                    <a:pt x="1583" y="0"/>
                  </a:lnTo>
                  <a:lnTo>
                    <a:pt x="1502" y="3"/>
                  </a:lnTo>
                  <a:lnTo>
                    <a:pt x="1422" y="9"/>
                  </a:lnTo>
                  <a:lnTo>
                    <a:pt x="1342" y="19"/>
                  </a:lnTo>
                  <a:lnTo>
                    <a:pt x="1264" y="33"/>
                  </a:lnTo>
                  <a:lnTo>
                    <a:pt x="1187" y="50"/>
                  </a:lnTo>
                  <a:lnTo>
                    <a:pt x="1113" y="72"/>
                  </a:lnTo>
                  <a:lnTo>
                    <a:pt x="1039" y="97"/>
                  </a:lnTo>
                  <a:lnTo>
                    <a:pt x="967" y="125"/>
                  </a:lnTo>
                  <a:lnTo>
                    <a:pt x="897" y="157"/>
                  </a:lnTo>
                  <a:lnTo>
                    <a:pt x="828" y="192"/>
                  </a:lnTo>
                  <a:lnTo>
                    <a:pt x="763" y="229"/>
                  </a:lnTo>
                  <a:lnTo>
                    <a:pt x="698" y="271"/>
                  </a:lnTo>
                  <a:lnTo>
                    <a:pt x="636" y="315"/>
                  </a:lnTo>
                  <a:lnTo>
                    <a:pt x="576" y="362"/>
                  </a:lnTo>
                  <a:lnTo>
                    <a:pt x="518" y="412"/>
                  </a:lnTo>
                  <a:lnTo>
                    <a:pt x="463" y="465"/>
                  </a:lnTo>
                  <a:lnTo>
                    <a:pt x="411" y="519"/>
                  </a:lnTo>
                  <a:lnTo>
                    <a:pt x="362" y="577"/>
                  </a:lnTo>
                  <a:lnTo>
                    <a:pt x="314" y="637"/>
                  </a:lnTo>
                  <a:lnTo>
                    <a:pt x="270" y="698"/>
                  </a:lnTo>
                  <a:lnTo>
                    <a:pt x="229" y="763"/>
                  </a:lnTo>
                  <a:lnTo>
                    <a:pt x="191" y="829"/>
                  </a:lnTo>
                  <a:lnTo>
                    <a:pt x="156" y="897"/>
                  </a:lnTo>
                  <a:lnTo>
                    <a:pt x="124" y="967"/>
                  </a:lnTo>
                  <a:lnTo>
                    <a:pt x="96" y="1039"/>
                  </a:lnTo>
                  <a:lnTo>
                    <a:pt x="71" y="1113"/>
                  </a:lnTo>
                  <a:lnTo>
                    <a:pt x="49" y="1188"/>
                  </a:lnTo>
                  <a:lnTo>
                    <a:pt x="32" y="1264"/>
                  </a:lnTo>
                  <a:lnTo>
                    <a:pt x="18" y="1343"/>
                  </a:lnTo>
                  <a:lnTo>
                    <a:pt x="8" y="1422"/>
                  </a:lnTo>
                  <a:lnTo>
                    <a:pt x="2" y="1502"/>
                  </a:lnTo>
                  <a:lnTo>
                    <a:pt x="0" y="1584"/>
                  </a:lnTo>
                  <a:lnTo>
                    <a:pt x="2" y="1665"/>
                  </a:lnTo>
                  <a:lnTo>
                    <a:pt x="8" y="1746"/>
                  </a:lnTo>
                  <a:lnTo>
                    <a:pt x="18" y="1825"/>
                  </a:lnTo>
                  <a:lnTo>
                    <a:pt x="32" y="1902"/>
                  </a:lnTo>
                  <a:lnTo>
                    <a:pt x="49" y="1979"/>
                  </a:lnTo>
                  <a:lnTo>
                    <a:pt x="71" y="2055"/>
                  </a:lnTo>
                  <a:lnTo>
                    <a:pt x="96" y="2128"/>
                  </a:lnTo>
                  <a:lnTo>
                    <a:pt x="124" y="2199"/>
                  </a:lnTo>
                  <a:lnTo>
                    <a:pt x="156" y="2269"/>
                  </a:lnTo>
                  <a:lnTo>
                    <a:pt x="191" y="2338"/>
                  </a:lnTo>
                  <a:lnTo>
                    <a:pt x="229" y="2404"/>
                  </a:lnTo>
                  <a:lnTo>
                    <a:pt x="270" y="2468"/>
                  </a:lnTo>
                  <a:lnTo>
                    <a:pt x="314" y="2531"/>
                  </a:lnTo>
                  <a:lnTo>
                    <a:pt x="362" y="2590"/>
                  </a:lnTo>
                  <a:lnTo>
                    <a:pt x="411" y="2647"/>
                  </a:lnTo>
                  <a:lnTo>
                    <a:pt x="463" y="2703"/>
                  </a:lnTo>
                  <a:lnTo>
                    <a:pt x="518" y="2754"/>
                  </a:lnTo>
                  <a:lnTo>
                    <a:pt x="576" y="2805"/>
                  </a:lnTo>
                  <a:lnTo>
                    <a:pt x="636" y="2852"/>
                  </a:lnTo>
                  <a:lnTo>
                    <a:pt x="698" y="2896"/>
                  </a:lnTo>
                  <a:lnTo>
                    <a:pt x="763" y="2937"/>
                  </a:lnTo>
                  <a:lnTo>
                    <a:pt x="828" y="2975"/>
                  </a:lnTo>
                  <a:lnTo>
                    <a:pt x="897" y="3010"/>
                  </a:lnTo>
                  <a:lnTo>
                    <a:pt x="967" y="3042"/>
                  </a:lnTo>
                  <a:lnTo>
                    <a:pt x="1039" y="3070"/>
                  </a:lnTo>
                  <a:lnTo>
                    <a:pt x="1113" y="3095"/>
                  </a:lnTo>
                  <a:lnTo>
                    <a:pt x="1187" y="3116"/>
                  </a:lnTo>
                  <a:lnTo>
                    <a:pt x="1264" y="3133"/>
                  </a:lnTo>
                  <a:lnTo>
                    <a:pt x="1342" y="3148"/>
                  </a:lnTo>
                  <a:lnTo>
                    <a:pt x="1422" y="3158"/>
                  </a:lnTo>
                  <a:lnTo>
                    <a:pt x="1502" y="3164"/>
                  </a:lnTo>
                  <a:lnTo>
                    <a:pt x="1583" y="3166"/>
                  </a:lnTo>
                  <a:lnTo>
                    <a:pt x="1630" y="3166"/>
                  </a:lnTo>
                  <a:lnTo>
                    <a:pt x="1676" y="3164"/>
                  </a:lnTo>
                  <a:lnTo>
                    <a:pt x="1722" y="3160"/>
                  </a:lnTo>
                  <a:lnTo>
                    <a:pt x="1767" y="3155"/>
                  </a:lnTo>
                  <a:lnTo>
                    <a:pt x="1813" y="3150"/>
                  </a:lnTo>
                  <a:lnTo>
                    <a:pt x="1857" y="3142"/>
                  </a:lnTo>
                  <a:lnTo>
                    <a:pt x="1901" y="3135"/>
                  </a:lnTo>
                  <a:lnTo>
                    <a:pt x="1945" y="3125"/>
                  </a:lnTo>
                  <a:lnTo>
                    <a:pt x="1988" y="3114"/>
                  </a:lnTo>
                  <a:lnTo>
                    <a:pt x="2031" y="3102"/>
                  </a:lnTo>
                  <a:lnTo>
                    <a:pt x="2073" y="3088"/>
                  </a:lnTo>
                  <a:lnTo>
                    <a:pt x="2115" y="3074"/>
                  </a:lnTo>
                  <a:lnTo>
                    <a:pt x="2156" y="3059"/>
                  </a:lnTo>
                  <a:lnTo>
                    <a:pt x="2197" y="3043"/>
                  </a:lnTo>
                  <a:lnTo>
                    <a:pt x="2237" y="3024"/>
                  </a:lnTo>
                  <a:lnTo>
                    <a:pt x="2277" y="3006"/>
                  </a:lnTo>
                  <a:lnTo>
                    <a:pt x="2259" y="2968"/>
                  </a:lnTo>
                  <a:lnTo>
                    <a:pt x="2220" y="2987"/>
                  </a:lnTo>
                  <a:lnTo>
                    <a:pt x="2181" y="3004"/>
                  </a:lnTo>
                  <a:lnTo>
                    <a:pt x="2141" y="3020"/>
                  </a:lnTo>
                  <a:lnTo>
                    <a:pt x="2101" y="3035"/>
                  </a:lnTo>
                  <a:lnTo>
                    <a:pt x="2060" y="3049"/>
                  </a:lnTo>
                  <a:lnTo>
                    <a:pt x="2019" y="3062"/>
                  </a:lnTo>
                  <a:lnTo>
                    <a:pt x="1978" y="3073"/>
                  </a:lnTo>
                  <a:lnTo>
                    <a:pt x="1936" y="3084"/>
                  </a:lnTo>
                  <a:lnTo>
                    <a:pt x="1893" y="3094"/>
                  </a:lnTo>
                  <a:lnTo>
                    <a:pt x="1850" y="3101"/>
                  </a:lnTo>
                  <a:lnTo>
                    <a:pt x="1806" y="3109"/>
                  </a:lnTo>
                  <a:lnTo>
                    <a:pt x="1762" y="3114"/>
                  </a:lnTo>
                  <a:lnTo>
                    <a:pt x="1718" y="3118"/>
                  </a:lnTo>
                  <a:lnTo>
                    <a:pt x="1673" y="3122"/>
                  </a:lnTo>
                  <a:lnTo>
                    <a:pt x="1628" y="3124"/>
                  </a:lnTo>
                  <a:lnTo>
                    <a:pt x="1583" y="3125"/>
                  </a:lnTo>
                  <a:lnTo>
                    <a:pt x="1504" y="3123"/>
                  </a:lnTo>
                  <a:lnTo>
                    <a:pt x="1426" y="3116"/>
                  </a:lnTo>
                  <a:lnTo>
                    <a:pt x="1348" y="3106"/>
                  </a:lnTo>
                  <a:lnTo>
                    <a:pt x="1273" y="3094"/>
                  </a:lnTo>
                  <a:lnTo>
                    <a:pt x="1198" y="3076"/>
                  </a:lnTo>
                  <a:lnTo>
                    <a:pt x="1124" y="3055"/>
                  </a:lnTo>
                  <a:lnTo>
                    <a:pt x="1053" y="3031"/>
                  </a:lnTo>
                  <a:lnTo>
                    <a:pt x="983" y="3003"/>
                  </a:lnTo>
                  <a:lnTo>
                    <a:pt x="915" y="2973"/>
                  </a:lnTo>
                  <a:lnTo>
                    <a:pt x="848" y="2938"/>
                  </a:lnTo>
                  <a:lnTo>
                    <a:pt x="784" y="2901"/>
                  </a:lnTo>
                  <a:lnTo>
                    <a:pt x="721" y="2861"/>
                  </a:lnTo>
                  <a:lnTo>
                    <a:pt x="661" y="2818"/>
                  </a:lnTo>
                  <a:lnTo>
                    <a:pt x="603" y="2773"/>
                  </a:lnTo>
                  <a:lnTo>
                    <a:pt x="546" y="2724"/>
                  </a:lnTo>
                  <a:lnTo>
                    <a:pt x="493" y="2673"/>
                  </a:lnTo>
                  <a:lnTo>
                    <a:pt x="442" y="2619"/>
                  </a:lnTo>
                  <a:lnTo>
                    <a:pt x="393" y="2563"/>
                  </a:lnTo>
                  <a:lnTo>
                    <a:pt x="348" y="2505"/>
                  </a:lnTo>
                  <a:lnTo>
                    <a:pt x="304" y="2446"/>
                  </a:lnTo>
                  <a:lnTo>
                    <a:pt x="264" y="2383"/>
                  </a:lnTo>
                  <a:lnTo>
                    <a:pt x="228" y="2318"/>
                  </a:lnTo>
                  <a:lnTo>
                    <a:pt x="193" y="2251"/>
                  </a:lnTo>
                  <a:lnTo>
                    <a:pt x="163" y="2183"/>
                  </a:lnTo>
                  <a:lnTo>
                    <a:pt x="135" y="2113"/>
                  </a:lnTo>
                  <a:lnTo>
                    <a:pt x="111" y="2042"/>
                  </a:lnTo>
                  <a:lnTo>
                    <a:pt x="90" y="1968"/>
                  </a:lnTo>
                  <a:lnTo>
                    <a:pt x="73" y="1894"/>
                  </a:lnTo>
                  <a:lnTo>
                    <a:pt x="59" y="1818"/>
                  </a:lnTo>
                  <a:lnTo>
                    <a:pt x="49" y="1741"/>
                  </a:lnTo>
                  <a:lnTo>
                    <a:pt x="44" y="1663"/>
                  </a:lnTo>
                  <a:lnTo>
                    <a:pt x="42" y="1584"/>
                  </a:lnTo>
                  <a:lnTo>
                    <a:pt x="44" y="1504"/>
                  </a:lnTo>
                  <a:lnTo>
                    <a:pt x="49" y="1426"/>
                  </a:lnTo>
                  <a:lnTo>
                    <a:pt x="59" y="1348"/>
                  </a:lnTo>
                  <a:lnTo>
                    <a:pt x="73" y="1273"/>
                  </a:lnTo>
                  <a:lnTo>
                    <a:pt x="90" y="1198"/>
                  </a:lnTo>
                  <a:lnTo>
                    <a:pt x="111" y="1125"/>
                  </a:lnTo>
                  <a:lnTo>
                    <a:pt x="135" y="1053"/>
                  </a:lnTo>
                  <a:lnTo>
                    <a:pt x="163" y="983"/>
                  </a:lnTo>
                  <a:lnTo>
                    <a:pt x="193" y="915"/>
                  </a:lnTo>
                  <a:lnTo>
                    <a:pt x="228" y="849"/>
                  </a:lnTo>
                  <a:lnTo>
                    <a:pt x="264" y="784"/>
                  </a:lnTo>
                  <a:lnTo>
                    <a:pt x="304" y="722"/>
                  </a:lnTo>
                  <a:lnTo>
                    <a:pt x="348" y="661"/>
                  </a:lnTo>
                  <a:lnTo>
                    <a:pt x="393" y="603"/>
                  </a:lnTo>
                  <a:lnTo>
                    <a:pt x="442" y="547"/>
                  </a:lnTo>
                  <a:lnTo>
                    <a:pt x="493" y="494"/>
                  </a:lnTo>
                  <a:lnTo>
                    <a:pt x="546" y="443"/>
                  </a:lnTo>
                  <a:lnTo>
                    <a:pt x="603" y="395"/>
                  </a:lnTo>
                  <a:lnTo>
                    <a:pt x="661" y="348"/>
                  </a:lnTo>
                  <a:lnTo>
                    <a:pt x="721" y="306"/>
                  </a:lnTo>
                  <a:lnTo>
                    <a:pt x="784" y="265"/>
                  </a:lnTo>
                  <a:lnTo>
                    <a:pt x="848" y="228"/>
                  </a:lnTo>
                  <a:lnTo>
                    <a:pt x="915" y="195"/>
                  </a:lnTo>
                  <a:lnTo>
                    <a:pt x="983" y="163"/>
                  </a:lnTo>
                  <a:lnTo>
                    <a:pt x="1053" y="135"/>
                  </a:lnTo>
                  <a:lnTo>
                    <a:pt x="1124" y="112"/>
                  </a:lnTo>
                  <a:lnTo>
                    <a:pt x="1198" y="91"/>
                  </a:lnTo>
                  <a:lnTo>
                    <a:pt x="1273" y="74"/>
                  </a:lnTo>
                  <a:lnTo>
                    <a:pt x="1348" y="60"/>
                  </a:lnTo>
                  <a:lnTo>
                    <a:pt x="1426" y="50"/>
                  </a:lnTo>
                  <a:lnTo>
                    <a:pt x="1504" y="45"/>
                  </a:lnTo>
                  <a:lnTo>
                    <a:pt x="1583" y="43"/>
                  </a:lnTo>
                  <a:lnTo>
                    <a:pt x="1663" y="45"/>
                  </a:lnTo>
                  <a:lnTo>
                    <a:pt x="1740" y="50"/>
                  </a:lnTo>
                  <a:lnTo>
                    <a:pt x="1818" y="60"/>
                  </a:lnTo>
                  <a:lnTo>
                    <a:pt x="1894" y="74"/>
                  </a:lnTo>
                  <a:lnTo>
                    <a:pt x="1968" y="91"/>
                  </a:lnTo>
                  <a:lnTo>
                    <a:pt x="2042" y="112"/>
                  </a:lnTo>
                  <a:lnTo>
                    <a:pt x="2113" y="135"/>
                  </a:lnTo>
                  <a:lnTo>
                    <a:pt x="2183" y="163"/>
                  </a:lnTo>
                  <a:lnTo>
                    <a:pt x="2251" y="195"/>
                  </a:lnTo>
                  <a:lnTo>
                    <a:pt x="2318" y="228"/>
                  </a:lnTo>
                  <a:lnTo>
                    <a:pt x="2382" y="265"/>
                  </a:lnTo>
                  <a:lnTo>
                    <a:pt x="2445" y="306"/>
                  </a:lnTo>
                  <a:lnTo>
                    <a:pt x="2505" y="348"/>
                  </a:lnTo>
                  <a:lnTo>
                    <a:pt x="2564" y="395"/>
                  </a:lnTo>
                  <a:lnTo>
                    <a:pt x="2620" y="443"/>
                  </a:lnTo>
                  <a:lnTo>
                    <a:pt x="2673" y="494"/>
                  </a:lnTo>
                  <a:lnTo>
                    <a:pt x="2725" y="547"/>
                  </a:lnTo>
                  <a:lnTo>
                    <a:pt x="2772" y="603"/>
                  </a:lnTo>
                  <a:lnTo>
                    <a:pt x="2819" y="661"/>
                  </a:lnTo>
                  <a:lnTo>
                    <a:pt x="2862" y="722"/>
                  </a:lnTo>
                  <a:lnTo>
                    <a:pt x="2902" y="784"/>
                  </a:lnTo>
                  <a:lnTo>
                    <a:pt x="2939" y="849"/>
                  </a:lnTo>
                  <a:lnTo>
                    <a:pt x="2973" y="915"/>
                  </a:lnTo>
                  <a:lnTo>
                    <a:pt x="3004" y="983"/>
                  </a:lnTo>
                  <a:lnTo>
                    <a:pt x="3032" y="1053"/>
                  </a:lnTo>
                  <a:lnTo>
                    <a:pt x="3055" y="1125"/>
                  </a:lnTo>
                  <a:lnTo>
                    <a:pt x="3076" y="1198"/>
                  </a:lnTo>
                  <a:lnTo>
                    <a:pt x="3093" y="1273"/>
                  </a:lnTo>
                  <a:lnTo>
                    <a:pt x="3107" y="1348"/>
                  </a:lnTo>
                  <a:lnTo>
                    <a:pt x="3117" y="1426"/>
                  </a:lnTo>
                  <a:lnTo>
                    <a:pt x="3122" y="1504"/>
                  </a:lnTo>
                  <a:lnTo>
                    <a:pt x="3125" y="1584"/>
                  </a:lnTo>
                  <a:lnTo>
                    <a:pt x="3125" y="1636"/>
                  </a:lnTo>
                  <a:lnTo>
                    <a:pt x="3121" y="1686"/>
                  </a:lnTo>
                  <a:lnTo>
                    <a:pt x="3117" y="1737"/>
                  </a:lnTo>
                  <a:lnTo>
                    <a:pt x="3112" y="1788"/>
                  </a:lnTo>
                  <a:lnTo>
                    <a:pt x="3104" y="1837"/>
                  </a:lnTo>
                  <a:lnTo>
                    <a:pt x="3095" y="1887"/>
                  </a:lnTo>
                  <a:lnTo>
                    <a:pt x="3085" y="1936"/>
                  </a:lnTo>
                  <a:lnTo>
                    <a:pt x="3072" y="1984"/>
                  </a:lnTo>
                  <a:lnTo>
                    <a:pt x="3113" y="1995"/>
                  </a:lnTo>
                  <a:lnTo>
                    <a:pt x="3125" y="1945"/>
                  </a:lnTo>
                  <a:lnTo>
                    <a:pt x="3135" y="1895"/>
                  </a:lnTo>
                  <a:lnTo>
                    <a:pt x="3145" y="1845"/>
                  </a:lnTo>
                  <a:lnTo>
                    <a:pt x="3153" y="1793"/>
                  </a:lnTo>
                  <a:lnTo>
                    <a:pt x="3159" y="1741"/>
                  </a:lnTo>
                  <a:lnTo>
                    <a:pt x="3163" y="1690"/>
                  </a:lnTo>
                  <a:lnTo>
                    <a:pt x="3166" y="1637"/>
                  </a:lnTo>
                  <a:lnTo>
                    <a:pt x="3167" y="1584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954600" y="2378160"/>
              <a:ext cx="1239840" cy="1239840"/>
            </a:xfrm>
            <a:custGeom>
              <a:avLst/>
              <a:gdLst/>
              <a:ahLst/>
              <a:rect l="l" t="t" r="r" b="b"/>
              <a:pathLst>
                <a:path w="3126" h="3123">
                  <a:moveTo>
                    <a:pt x="3126" y="1562"/>
                  </a:moveTo>
                  <a:lnTo>
                    <a:pt x="3124" y="1481"/>
                  </a:lnTo>
                  <a:lnTo>
                    <a:pt x="3118" y="1402"/>
                  </a:lnTo>
                  <a:lnTo>
                    <a:pt x="3108" y="1324"/>
                  </a:lnTo>
                  <a:lnTo>
                    <a:pt x="3094" y="1246"/>
                  </a:lnTo>
                  <a:lnTo>
                    <a:pt x="3076" y="1171"/>
                  </a:lnTo>
                  <a:lnTo>
                    <a:pt x="3056" y="1097"/>
                  </a:lnTo>
                  <a:lnTo>
                    <a:pt x="3031" y="1025"/>
                  </a:lnTo>
                  <a:lnTo>
                    <a:pt x="3003" y="954"/>
                  </a:lnTo>
                  <a:lnTo>
                    <a:pt x="2972" y="885"/>
                  </a:lnTo>
                  <a:lnTo>
                    <a:pt x="2937" y="816"/>
                  </a:lnTo>
                  <a:lnTo>
                    <a:pt x="2899" y="752"/>
                  </a:lnTo>
                  <a:lnTo>
                    <a:pt x="2859" y="688"/>
                  </a:lnTo>
                  <a:lnTo>
                    <a:pt x="2815" y="627"/>
                  </a:lnTo>
                  <a:lnTo>
                    <a:pt x="2769" y="568"/>
                  </a:lnTo>
                  <a:lnTo>
                    <a:pt x="2720" y="511"/>
                  </a:lnTo>
                  <a:lnTo>
                    <a:pt x="2668" y="457"/>
                  </a:lnTo>
                  <a:lnTo>
                    <a:pt x="2614" y="405"/>
                  </a:lnTo>
                  <a:lnTo>
                    <a:pt x="2557" y="356"/>
                  </a:lnTo>
                  <a:lnTo>
                    <a:pt x="2498" y="310"/>
                  </a:lnTo>
                  <a:lnTo>
                    <a:pt x="2437" y="267"/>
                  </a:lnTo>
                  <a:lnTo>
                    <a:pt x="2373" y="226"/>
                  </a:lnTo>
                  <a:lnTo>
                    <a:pt x="2308" y="188"/>
                  </a:lnTo>
                  <a:lnTo>
                    <a:pt x="2240" y="153"/>
                  </a:lnTo>
                  <a:lnTo>
                    <a:pt x="2171" y="122"/>
                  </a:lnTo>
                  <a:lnTo>
                    <a:pt x="2101" y="94"/>
                  </a:lnTo>
                  <a:lnTo>
                    <a:pt x="2027" y="70"/>
                  </a:lnTo>
                  <a:lnTo>
                    <a:pt x="1954" y="49"/>
                  </a:lnTo>
                  <a:lnTo>
                    <a:pt x="1878" y="31"/>
                  </a:lnTo>
                  <a:lnTo>
                    <a:pt x="1801" y="17"/>
                  </a:lnTo>
                  <a:lnTo>
                    <a:pt x="1723" y="8"/>
                  </a:lnTo>
                  <a:lnTo>
                    <a:pt x="1644" y="1"/>
                  </a:lnTo>
                  <a:lnTo>
                    <a:pt x="1563" y="0"/>
                  </a:lnTo>
                  <a:lnTo>
                    <a:pt x="1483" y="1"/>
                  </a:lnTo>
                  <a:lnTo>
                    <a:pt x="1404" y="8"/>
                  </a:lnTo>
                  <a:lnTo>
                    <a:pt x="1325" y="17"/>
                  </a:lnTo>
                  <a:lnTo>
                    <a:pt x="1248" y="31"/>
                  </a:lnTo>
                  <a:lnTo>
                    <a:pt x="1173" y="49"/>
                  </a:lnTo>
                  <a:lnTo>
                    <a:pt x="1098" y="70"/>
                  </a:lnTo>
                  <a:lnTo>
                    <a:pt x="1026" y="94"/>
                  </a:lnTo>
                  <a:lnTo>
                    <a:pt x="955" y="122"/>
                  </a:lnTo>
                  <a:lnTo>
                    <a:pt x="886" y="153"/>
                  </a:lnTo>
                  <a:lnTo>
                    <a:pt x="818" y="188"/>
                  </a:lnTo>
                  <a:lnTo>
                    <a:pt x="753" y="226"/>
                  </a:lnTo>
                  <a:lnTo>
                    <a:pt x="690" y="267"/>
                  </a:lnTo>
                  <a:lnTo>
                    <a:pt x="628" y="310"/>
                  </a:lnTo>
                  <a:lnTo>
                    <a:pt x="570" y="356"/>
                  </a:lnTo>
                  <a:lnTo>
                    <a:pt x="512" y="405"/>
                  </a:lnTo>
                  <a:lnTo>
                    <a:pt x="458" y="457"/>
                  </a:lnTo>
                  <a:lnTo>
                    <a:pt x="406" y="511"/>
                  </a:lnTo>
                  <a:lnTo>
                    <a:pt x="358" y="568"/>
                  </a:lnTo>
                  <a:lnTo>
                    <a:pt x="311" y="627"/>
                  </a:lnTo>
                  <a:lnTo>
                    <a:pt x="267" y="688"/>
                  </a:lnTo>
                  <a:lnTo>
                    <a:pt x="227" y="752"/>
                  </a:lnTo>
                  <a:lnTo>
                    <a:pt x="189" y="816"/>
                  </a:lnTo>
                  <a:lnTo>
                    <a:pt x="155" y="885"/>
                  </a:lnTo>
                  <a:lnTo>
                    <a:pt x="123" y="954"/>
                  </a:lnTo>
                  <a:lnTo>
                    <a:pt x="95" y="1025"/>
                  </a:lnTo>
                  <a:lnTo>
                    <a:pt x="70" y="1097"/>
                  </a:lnTo>
                  <a:lnTo>
                    <a:pt x="50" y="1171"/>
                  </a:lnTo>
                  <a:lnTo>
                    <a:pt x="33" y="1246"/>
                  </a:lnTo>
                  <a:lnTo>
                    <a:pt x="19" y="1324"/>
                  </a:lnTo>
                  <a:lnTo>
                    <a:pt x="9" y="1402"/>
                  </a:lnTo>
                  <a:lnTo>
                    <a:pt x="2" y="1481"/>
                  </a:lnTo>
                  <a:lnTo>
                    <a:pt x="0" y="1562"/>
                  </a:lnTo>
                  <a:lnTo>
                    <a:pt x="2" y="1642"/>
                  </a:lnTo>
                  <a:lnTo>
                    <a:pt x="9" y="1722"/>
                  </a:lnTo>
                  <a:lnTo>
                    <a:pt x="19" y="1799"/>
                  </a:lnTo>
                  <a:lnTo>
                    <a:pt x="33" y="1876"/>
                  </a:lnTo>
                  <a:lnTo>
                    <a:pt x="50" y="1952"/>
                  </a:lnTo>
                  <a:lnTo>
                    <a:pt x="70" y="2026"/>
                  </a:lnTo>
                  <a:lnTo>
                    <a:pt x="95" y="2098"/>
                  </a:lnTo>
                  <a:lnTo>
                    <a:pt x="123" y="2170"/>
                  </a:lnTo>
                  <a:lnTo>
                    <a:pt x="155" y="2239"/>
                  </a:lnTo>
                  <a:lnTo>
                    <a:pt x="189" y="2306"/>
                  </a:lnTo>
                  <a:lnTo>
                    <a:pt x="227" y="2372"/>
                  </a:lnTo>
                  <a:lnTo>
                    <a:pt x="267" y="2434"/>
                  </a:lnTo>
                  <a:lnTo>
                    <a:pt x="311" y="2496"/>
                  </a:lnTo>
                  <a:lnTo>
                    <a:pt x="358" y="2555"/>
                  </a:lnTo>
                  <a:lnTo>
                    <a:pt x="406" y="2611"/>
                  </a:lnTo>
                  <a:lnTo>
                    <a:pt x="458" y="2665"/>
                  </a:lnTo>
                  <a:lnTo>
                    <a:pt x="512" y="2717"/>
                  </a:lnTo>
                  <a:lnTo>
                    <a:pt x="570" y="2767"/>
                  </a:lnTo>
                  <a:lnTo>
                    <a:pt x="628" y="2813"/>
                  </a:lnTo>
                  <a:lnTo>
                    <a:pt x="690" y="2857"/>
                  </a:lnTo>
                  <a:lnTo>
                    <a:pt x="753" y="2898"/>
                  </a:lnTo>
                  <a:lnTo>
                    <a:pt x="818" y="2934"/>
                  </a:lnTo>
                  <a:lnTo>
                    <a:pt x="886" y="2969"/>
                  </a:lnTo>
                  <a:lnTo>
                    <a:pt x="955" y="3000"/>
                  </a:lnTo>
                  <a:lnTo>
                    <a:pt x="1026" y="3028"/>
                  </a:lnTo>
                  <a:lnTo>
                    <a:pt x="1098" y="3053"/>
                  </a:lnTo>
                  <a:lnTo>
                    <a:pt x="1173" y="3074"/>
                  </a:lnTo>
                  <a:lnTo>
                    <a:pt x="1248" y="3092"/>
                  </a:lnTo>
                  <a:lnTo>
                    <a:pt x="1325" y="3105"/>
                  </a:lnTo>
                  <a:lnTo>
                    <a:pt x="1404" y="3115"/>
                  </a:lnTo>
                  <a:lnTo>
                    <a:pt x="1483" y="3121"/>
                  </a:lnTo>
                  <a:lnTo>
                    <a:pt x="1563" y="3123"/>
                  </a:lnTo>
                  <a:lnTo>
                    <a:pt x="1609" y="3122"/>
                  </a:lnTo>
                  <a:lnTo>
                    <a:pt x="1654" y="3120"/>
                  </a:lnTo>
                  <a:lnTo>
                    <a:pt x="1700" y="3117"/>
                  </a:lnTo>
                  <a:lnTo>
                    <a:pt x="1745" y="3113"/>
                  </a:lnTo>
                  <a:lnTo>
                    <a:pt x="1790" y="3107"/>
                  </a:lnTo>
                  <a:lnTo>
                    <a:pt x="1834" y="3100"/>
                  </a:lnTo>
                  <a:lnTo>
                    <a:pt x="1877" y="3092"/>
                  </a:lnTo>
                  <a:lnTo>
                    <a:pt x="1920" y="3082"/>
                  </a:lnTo>
                  <a:lnTo>
                    <a:pt x="1964" y="3072"/>
                  </a:lnTo>
                  <a:lnTo>
                    <a:pt x="2006" y="3060"/>
                  </a:lnTo>
                  <a:lnTo>
                    <a:pt x="2047" y="3047"/>
                  </a:lnTo>
                  <a:lnTo>
                    <a:pt x="2089" y="3033"/>
                  </a:lnTo>
                  <a:lnTo>
                    <a:pt x="2129" y="3018"/>
                  </a:lnTo>
                  <a:lnTo>
                    <a:pt x="2170" y="3001"/>
                  </a:lnTo>
                  <a:lnTo>
                    <a:pt x="2209" y="2984"/>
                  </a:lnTo>
                  <a:lnTo>
                    <a:pt x="2248" y="2966"/>
                  </a:lnTo>
                  <a:lnTo>
                    <a:pt x="2230" y="2928"/>
                  </a:lnTo>
                  <a:lnTo>
                    <a:pt x="2192" y="2946"/>
                  </a:lnTo>
                  <a:lnTo>
                    <a:pt x="2154" y="2962"/>
                  </a:lnTo>
                  <a:lnTo>
                    <a:pt x="2114" y="2979"/>
                  </a:lnTo>
                  <a:lnTo>
                    <a:pt x="2075" y="2994"/>
                  </a:lnTo>
                  <a:lnTo>
                    <a:pt x="2034" y="3007"/>
                  </a:lnTo>
                  <a:lnTo>
                    <a:pt x="1994" y="3020"/>
                  </a:lnTo>
                  <a:lnTo>
                    <a:pt x="1953" y="3032"/>
                  </a:lnTo>
                  <a:lnTo>
                    <a:pt x="1911" y="3041"/>
                  </a:lnTo>
                  <a:lnTo>
                    <a:pt x="1868" y="3051"/>
                  </a:lnTo>
                  <a:lnTo>
                    <a:pt x="1826" y="3059"/>
                  </a:lnTo>
                  <a:lnTo>
                    <a:pt x="1783" y="3066"/>
                  </a:lnTo>
                  <a:lnTo>
                    <a:pt x="1740" y="3072"/>
                  </a:lnTo>
                  <a:lnTo>
                    <a:pt x="1697" y="3076"/>
                  </a:lnTo>
                  <a:lnTo>
                    <a:pt x="1652" y="3079"/>
                  </a:lnTo>
                  <a:lnTo>
                    <a:pt x="1608" y="3081"/>
                  </a:lnTo>
                  <a:lnTo>
                    <a:pt x="1563" y="3081"/>
                  </a:lnTo>
                  <a:lnTo>
                    <a:pt x="1485" y="3080"/>
                  </a:lnTo>
                  <a:lnTo>
                    <a:pt x="1408" y="3074"/>
                  </a:lnTo>
                  <a:lnTo>
                    <a:pt x="1331" y="3064"/>
                  </a:lnTo>
                  <a:lnTo>
                    <a:pt x="1257" y="3051"/>
                  </a:lnTo>
                  <a:lnTo>
                    <a:pt x="1183" y="3034"/>
                  </a:lnTo>
                  <a:lnTo>
                    <a:pt x="1111" y="3013"/>
                  </a:lnTo>
                  <a:lnTo>
                    <a:pt x="1041" y="2989"/>
                  </a:lnTo>
                  <a:lnTo>
                    <a:pt x="972" y="2962"/>
                  </a:lnTo>
                  <a:lnTo>
                    <a:pt x="904" y="2932"/>
                  </a:lnTo>
                  <a:lnTo>
                    <a:pt x="839" y="2898"/>
                  </a:lnTo>
                  <a:lnTo>
                    <a:pt x="775" y="2862"/>
                  </a:lnTo>
                  <a:lnTo>
                    <a:pt x="713" y="2822"/>
                  </a:lnTo>
                  <a:lnTo>
                    <a:pt x="653" y="2780"/>
                  </a:lnTo>
                  <a:lnTo>
                    <a:pt x="596" y="2735"/>
                  </a:lnTo>
                  <a:lnTo>
                    <a:pt x="540" y="2687"/>
                  </a:lnTo>
                  <a:lnTo>
                    <a:pt x="488" y="2636"/>
                  </a:lnTo>
                  <a:lnTo>
                    <a:pt x="438" y="2583"/>
                  </a:lnTo>
                  <a:lnTo>
                    <a:pt x="389" y="2528"/>
                  </a:lnTo>
                  <a:lnTo>
                    <a:pt x="345" y="2471"/>
                  </a:lnTo>
                  <a:lnTo>
                    <a:pt x="302" y="2412"/>
                  </a:lnTo>
                  <a:lnTo>
                    <a:pt x="263" y="2350"/>
                  </a:lnTo>
                  <a:lnTo>
                    <a:pt x="226" y="2286"/>
                  </a:lnTo>
                  <a:lnTo>
                    <a:pt x="193" y="2220"/>
                  </a:lnTo>
                  <a:lnTo>
                    <a:pt x="162" y="2154"/>
                  </a:lnTo>
                  <a:lnTo>
                    <a:pt x="134" y="2084"/>
                  </a:lnTo>
                  <a:lnTo>
                    <a:pt x="110" y="2013"/>
                  </a:lnTo>
                  <a:lnTo>
                    <a:pt x="90" y="1942"/>
                  </a:lnTo>
                  <a:lnTo>
                    <a:pt x="74" y="1867"/>
                  </a:lnTo>
                  <a:lnTo>
                    <a:pt x="60" y="1793"/>
                  </a:lnTo>
                  <a:lnTo>
                    <a:pt x="50" y="1717"/>
                  </a:lnTo>
                  <a:lnTo>
                    <a:pt x="44" y="1639"/>
                  </a:lnTo>
                  <a:lnTo>
                    <a:pt x="42" y="1562"/>
                  </a:lnTo>
                  <a:lnTo>
                    <a:pt x="44" y="1483"/>
                  </a:lnTo>
                  <a:lnTo>
                    <a:pt x="50" y="1406"/>
                  </a:lnTo>
                  <a:lnTo>
                    <a:pt x="60" y="1329"/>
                  </a:lnTo>
                  <a:lnTo>
                    <a:pt x="74" y="1255"/>
                  </a:lnTo>
                  <a:lnTo>
                    <a:pt x="90" y="1182"/>
                  </a:lnTo>
                  <a:lnTo>
                    <a:pt x="110" y="1109"/>
                  </a:lnTo>
                  <a:lnTo>
                    <a:pt x="134" y="1039"/>
                  </a:lnTo>
                  <a:lnTo>
                    <a:pt x="162" y="970"/>
                  </a:lnTo>
                  <a:lnTo>
                    <a:pt x="193" y="903"/>
                  </a:lnTo>
                  <a:lnTo>
                    <a:pt x="226" y="837"/>
                  </a:lnTo>
                  <a:lnTo>
                    <a:pt x="263" y="773"/>
                  </a:lnTo>
                  <a:lnTo>
                    <a:pt x="302" y="712"/>
                  </a:lnTo>
                  <a:lnTo>
                    <a:pt x="345" y="652"/>
                  </a:lnTo>
                  <a:lnTo>
                    <a:pt x="389" y="594"/>
                  </a:lnTo>
                  <a:lnTo>
                    <a:pt x="438" y="539"/>
                  </a:lnTo>
                  <a:lnTo>
                    <a:pt x="488" y="486"/>
                  </a:lnTo>
                  <a:lnTo>
                    <a:pt x="540" y="436"/>
                  </a:lnTo>
                  <a:lnTo>
                    <a:pt x="596" y="389"/>
                  </a:lnTo>
                  <a:lnTo>
                    <a:pt x="653" y="343"/>
                  </a:lnTo>
                  <a:lnTo>
                    <a:pt x="713" y="301"/>
                  </a:lnTo>
                  <a:lnTo>
                    <a:pt x="775" y="261"/>
                  </a:lnTo>
                  <a:lnTo>
                    <a:pt x="839" y="225"/>
                  </a:lnTo>
                  <a:lnTo>
                    <a:pt x="904" y="191"/>
                  </a:lnTo>
                  <a:lnTo>
                    <a:pt x="972" y="161"/>
                  </a:lnTo>
                  <a:lnTo>
                    <a:pt x="1041" y="134"/>
                  </a:lnTo>
                  <a:lnTo>
                    <a:pt x="1111" y="109"/>
                  </a:lnTo>
                  <a:lnTo>
                    <a:pt x="1183" y="90"/>
                  </a:lnTo>
                  <a:lnTo>
                    <a:pt x="1257" y="72"/>
                  </a:lnTo>
                  <a:lnTo>
                    <a:pt x="1331" y="58"/>
                  </a:lnTo>
                  <a:lnTo>
                    <a:pt x="1408" y="49"/>
                  </a:lnTo>
                  <a:lnTo>
                    <a:pt x="1485" y="43"/>
                  </a:lnTo>
                  <a:lnTo>
                    <a:pt x="1563" y="41"/>
                  </a:lnTo>
                  <a:lnTo>
                    <a:pt x="1642" y="43"/>
                  </a:lnTo>
                  <a:lnTo>
                    <a:pt x="1718" y="49"/>
                  </a:lnTo>
                  <a:lnTo>
                    <a:pt x="1795" y="58"/>
                  </a:lnTo>
                  <a:lnTo>
                    <a:pt x="1870" y="72"/>
                  </a:lnTo>
                  <a:lnTo>
                    <a:pt x="1943" y="90"/>
                  </a:lnTo>
                  <a:lnTo>
                    <a:pt x="2015" y="109"/>
                  </a:lnTo>
                  <a:lnTo>
                    <a:pt x="2086" y="134"/>
                  </a:lnTo>
                  <a:lnTo>
                    <a:pt x="2155" y="161"/>
                  </a:lnTo>
                  <a:lnTo>
                    <a:pt x="2223" y="191"/>
                  </a:lnTo>
                  <a:lnTo>
                    <a:pt x="2288" y="225"/>
                  </a:lnTo>
                  <a:lnTo>
                    <a:pt x="2351" y="261"/>
                  </a:lnTo>
                  <a:lnTo>
                    <a:pt x="2413" y="301"/>
                  </a:lnTo>
                  <a:lnTo>
                    <a:pt x="2474" y="343"/>
                  </a:lnTo>
                  <a:lnTo>
                    <a:pt x="2531" y="389"/>
                  </a:lnTo>
                  <a:lnTo>
                    <a:pt x="2586" y="436"/>
                  </a:lnTo>
                  <a:lnTo>
                    <a:pt x="2639" y="486"/>
                  </a:lnTo>
                  <a:lnTo>
                    <a:pt x="2689" y="539"/>
                  </a:lnTo>
                  <a:lnTo>
                    <a:pt x="2737" y="594"/>
                  </a:lnTo>
                  <a:lnTo>
                    <a:pt x="2781" y="652"/>
                  </a:lnTo>
                  <a:lnTo>
                    <a:pt x="2825" y="712"/>
                  </a:lnTo>
                  <a:lnTo>
                    <a:pt x="2864" y="773"/>
                  </a:lnTo>
                  <a:lnTo>
                    <a:pt x="2900" y="837"/>
                  </a:lnTo>
                  <a:lnTo>
                    <a:pt x="2934" y="903"/>
                  </a:lnTo>
                  <a:lnTo>
                    <a:pt x="2964" y="970"/>
                  </a:lnTo>
                  <a:lnTo>
                    <a:pt x="2992" y="1039"/>
                  </a:lnTo>
                  <a:lnTo>
                    <a:pt x="3016" y="1109"/>
                  </a:lnTo>
                  <a:lnTo>
                    <a:pt x="3036" y="1182"/>
                  </a:lnTo>
                  <a:lnTo>
                    <a:pt x="3053" y="1255"/>
                  </a:lnTo>
                  <a:lnTo>
                    <a:pt x="3067" y="1329"/>
                  </a:lnTo>
                  <a:lnTo>
                    <a:pt x="3076" y="1406"/>
                  </a:lnTo>
                  <a:lnTo>
                    <a:pt x="3082" y="1483"/>
                  </a:lnTo>
                  <a:lnTo>
                    <a:pt x="3084" y="1562"/>
                  </a:lnTo>
                  <a:lnTo>
                    <a:pt x="3083" y="1612"/>
                  </a:lnTo>
                  <a:lnTo>
                    <a:pt x="3081" y="1663"/>
                  </a:lnTo>
                  <a:lnTo>
                    <a:pt x="3076" y="1713"/>
                  </a:lnTo>
                  <a:lnTo>
                    <a:pt x="3071" y="1763"/>
                  </a:lnTo>
                  <a:lnTo>
                    <a:pt x="3064" y="1812"/>
                  </a:lnTo>
                  <a:lnTo>
                    <a:pt x="3055" y="1861"/>
                  </a:lnTo>
                  <a:lnTo>
                    <a:pt x="3044" y="1909"/>
                  </a:lnTo>
                  <a:lnTo>
                    <a:pt x="3032" y="1957"/>
                  </a:lnTo>
                  <a:lnTo>
                    <a:pt x="3072" y="1968"/>
                  </a:lnTo>
                  <a:lnTo>
                    <a:pt x="3084" y="1918"/>
                  </a:lnTo>
                  <a:lnTo>
                    <a:pt x="3095" y="1869"/>
                  </a:lnTo>
                  <a:lnTo>
                    <a:pt x="3105" y="1819"/>
                  </a:lnTo>
                  <a:lnTo>
                    <a:pt x="3112" y="1769"/>
                  </a:lnTo>
                  <a:lnTo>
                    <a:pt x="3118" y="1717"/>
                  </a:lnTo>
                  <a:lnTo>
                    <a:pt x="3122" y="1665"/>
                  </a:lnTo>
                  <a:lnTo>
                    <a:pt x="3125" y="1614"/>
                  </a:lnTo>
                  <a:lnTo>
                    <a:pt x="3126" y="1562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62520" y="2386080"/>
              <a:ext cx="1224000" cy="1222200"/>
            </a:xfrm>
            <a:custGeom>
              <a:avLst/>
              <a:gdLst/>
              <a:ahLst/>
              <a:rect l="l" t="t" r="r" b="b"/>
              <a:pathLst>
                <a:path w="3083" h="3082">
                  <a:moveTo>
                    <a:pt x="3083" y="1541"/>
                  </a:moveTo>
                  <a:lnTo>
                    <a:pt x="3080" y="1461"/>
                  </a:lnTo>
                  <a:lnTo>
                    <a:pt x="3075" y="1383"/>
                  </a:lnTo>
                  <a:lnTo>
                    <a:pt x="3065" y="1305"/>
                  </a:lnTo>
                  <a:lnTo>
                    <a:pt x="3051" y="1230"/>
                  </a:lnTo>
                  <a:lnTo>
                    <a:pt x="3034" y="1155"/>
                  </a:lnTo>
                  <a:lnTo>
                    <a:pt x="3013" y="1082"/>
                  </a:lnTo>
                  <a:lnTo>
                    <a:pt x="2990" y="1010"/>
                  </a:lnTo>
                  <a:lnTo>
                    <a:pt x="2962" y="940"/>
                  </a:lnTo>
                  <a:lnTo>
                    <a:pt x="2931" y="872"/>
                  </a:lnTo>
                  <a:lnTo>
                    <a:pt x="2897" y="806"/>
                  </a:lnTo>
                  <a:lnTo>
                    <a:pt x="2860" y="741"/>
                  </a:lnTo>
                  <a:lnTo>
                    <a:pt x="2820" y="679"/>
                  </a:lnTo>
                  <a:lnTo>
                    <a:pt x="2777" y="618"/>
                  </a:lnTo>
                  <a:lnTo>
                    <a:pt x="2730" y="560"/>
                  </a:lnTo>
                  <a:lnTo>
                    <a:pt x="2683" y="504"/>
                  </a:lnTo>
                  <a:lnTo>
                    <a:pt x="2631" y="451"/>
                  </a:lnTo>
                  <a:lnTo>
                    <a:pt x="2578" y="400"/>
                  </a:lnTo>
                  <a:lnTo>
                    <a:pt x="2522" y="352"/>
                  </a:lnTo>
                  <a:lnTo>
                    <a:pt x="2463" y="305"/>
                  </a:lnTo>
                  <a:lnTo>
                    <a:pt x="2403" y="263"/>
                  </a:lnTo>
                  <a:lnTo>
                    <a:pt x="2340" y="222"/>
                  </a:lnTo>
                  <a:lnTo>
                    <a:pt x="2276" y="185"/>
                  </a:lnTo>
                  <a:lnTo>
                    <a:pt x="2209" y="152"/>
                  </a:lnTo>
                  <a:lnTo>
                    <a:pt x="2141" y="120"/>
                  </a:lnTo>
                  <a:lnTo>
                    <a:pt x="2071" y="92"/>
                  </a:lnTo>
                  <a:lnTo>
                    <a:pt x="2000" y="69"/>
                  </a:lnTo>
                  <a:lnTo>
                    <a:pt x="1926" y="48"/>
                  </a:lnTo>
                  <a:lnTo>
                    <a:pt x="1852" y="31"/>
                  </a:lnTo>
                  <a:lnTo>
                    <a:pt x="1776" y="17"/>
                  </a:lnTo>
                  <a:lnTo>
                    <a:pt x="1698" y="7"/>
                  </a:lnTo>
                  <a:lnTo>
                    <a:pt x="1621" y="2"/>
                  </a:lnTo>
                  <a:lnTo>
                    <a:pt x="1541" y="0"/>
                  </a:lnTo>
                  <a:lnTo>
                    <a:pt x="1462" y="2"/>
                  </a:lnTo>
                  <a:lnTo>
                    <a:pt x="1384" y="7"/>
                  </a:lnTo>
                  <a:lnTo>
                    <a:pt x="1306" y="17"/>
                  </a:lnTo>
                  <a:lnTo>
                    <a:pt x="1231" y="31"/>
                  </a:lnTo>
                  <a:lnTo>
                    <a:pt x="1156" y="48"/>
                  </a:lnTo>
                  <a:lnTo>
                    <a:pt x="1082" y="69"/>
                  </a:lnTo>
                  <a:lnTo>
                    <a:pt x="1011" y="92"/>
                  </a:lnTo>
                  <a:lnTo>
                    <a:pt x="941" y="120"/>
                  </a:lnTo>
                  <a:lnTo>
                    <a:pt x="873" y="152"/>
                  </a:lnTo>
                  <a:lnTo>
                    <a:pt x="806" y="185"/>
                  </a:lnTo>
                  <a:lnTo>
                    <a:pt x="742" y="222"/>
                  </a:lnTo>
                  <a:lnTo>
                    <a:pt x="679" y="263"/>
                  </a:lnTo>
                  <a:lnTo>
                    <a:pt x="619" y="305"/>
                  </a:lnTo>
                  <a:lnTo>
                    <a:pt x="561" y="352"/>
                  </a:lnTo>
                  <a:lnTo>
                    <a:pt x="504" y="400"/>
                  </a:lnTo>
                  <a:lnTo>
                    <a:pt x="451" y="451"/>
                  </a:lnTo>
                  <a:lnTo>
                    <a:pt x="400" y="504"/>
                  </a:lnTo>
                  <a:lnTo>
                    <a:pt x="351" y="560"/>
                  </a:lnTo>
                  <a:lnTo>
                    <a:pt x="306" y="618"/>
                  </a:lnTo>
                  <a:lnTo>
                    <a:pt x="262" y="679"/>
                  </a:lnTo>
                  <a:lnTo>
                    <a:pt x="222" y="741"/>
                  </a:lnTo>
                  <a:lnTo>
                    <a:pt x="186" y="806"/>
                  </a:lnTo>
                  <a:lnTo>
                    <a:pt x="151" y="872"/>
                  </a:lnTo>
                  <a:lnTo>
                    <a:pt x="121" y="940"/>
                  </a:lnTo>
                  <a:lnTo>
                    <a:pt x="93" y="1010"/>
                  </a:lnTo>
                  <a:lnTo>
                    <a:pt x="69" y="1082"/>
                  </a:lnTo>
                  <a:lnTo>
                    <a:pt x="48" y="1155"/>
                  </a:lnTo>
                  <a:lnTo>
                    <a:pt x="31" y="1230"/>
                  </a:lnTo>
                  <a:lnTo>
                    <a:pt x="17" y="1305"/>
                  </a:lnTo>
                  <a:lnTo>
                    <a:pt x="7" y="1383"/>
                  </a:lnTo>
                  <a:lnTo>
                    <a:pt x="2" y="1461"/>
                  </a:lnTo>
                  <a:lnTo>
                    <a:pt x="0" y="1541"/>
                  </a:lnTo>
                  <a:lnTo>
                    <a:pt x="2" y="1620"/>
                  </a:lnTo>
                  <a:lnTo>
                    <a:pt x="7" y="1698"/>
                  </a:lnTo>
                  <a:lnTo>
                    <a:pt x="17" y="1775"/>
                  </a:lnTo>
                  <a:lnTo>
                    <a:pt x="31" y="1851"/>
                  </a:lnTo>
                  <a:lnTo>
                    <a:pt x="48" y="1925"/>
                  </a:lnTo>
                  <a:lnTo>
                    <a:pt x="69" y="1999"/>
                  </a:lnTo>
                  <a:lnTo>
                    <a:pt x="93" y="2070"/>
                  </a:lnTo>
                  <a:lnTo>
                    <a:pt x="121" y="2140"/>
                  </a:lnTo>
                  <a:lnTo>
                    <a:pt x="151" y="2208"/>
                  </a:lnTo>
                  <a:lnTo>
                    <a:pt x="186" y="2275"/>
                  </a:lnTo>
                  <a:lnTo>
                    <a:pt x="222" y="2340"/>
                  </a:lnTo>
                  <a:lnTo>
                    <a:pt x="262" y="2403"/>
                  </a:lnTo>
                  <a:lnTo>
                    <a:pt x="306" y="2462"/>
                  </a:lnTo>
                  <a:lnTo>
                    <a:pt x="351" y="2520"/>
                  </a:lnTo>
                  <a:lnTo>
                    <a:pt x="400" y="2576"/>
                  </a:lnTo>
                  <a:lnTo>
                    <a:pt x="451" y="2630"/>
                  </a:lnTo>
                  <a:lnTo>
                    <a:pt x="504" y="2681"/>
                  </a:lnTo>
                  <a:lnTo>
                    <a:pt x="561" y="2730"/>
                  </a:lnTo>
                  <a:lnTo>
                    <a:pt x="619" y="2775"/>
                  </a:lnTo>
                  <a:lnTo>
                    <a:pt x="679" y="2818"/>
                  </a:lnTo>
                  <a:lnTo>
                    <a:pt x="742" y="2858"/>
                  </a:lnTo>
                  <a:lnTo>
                    <a:pt x="806" y="2895"/>
                  </a:lnTo>
                  <a:lnTo>
                    <a:pt x="873" y="2930"/>
                  </a:lnTo>
                  <a:lnTo>
                    <a:pt x="941" y="2960"/>
                  </a:lnTo>
                  <a:lnTo>
                    <a:pt x="1011" y="2988"/>
                  </a:lnTo>
                  <a:lnTo>
                    <a:pt x="1082" y="3012"/>
                  </a:lnTo>
                  <a:lnTo>
                    <a:pt x="1156" y="3033"/>
                  </a:lnTo>
                  <a:lnTo>
                    <a:pt x="1231" y="3051"/>
                  </a:lnTo>
                  <a:lnTo>
                    <a:pt x="1306" y="3063"/>
                  </a:lnTo>
                  <a:lnTo>
                    <a:pt x="1384" y="3073"/>
                  </a:lnTo>
                  <a:lnTo>
                    <a:pt x="1462" y="3080"/>
                  </a:lnTo>
                  <a:lnTo>
                    <a:pt x="1541" y="3082"/>
                  </a:lnTo>
                  <a:lnTo>
                    <a:pt x="1586" y="3081"/>
                  </a:lnTo>
                  <a:lnTo>
                    <a:pt x="1631" y="3079"/>
                  </a:lnTo>
                  <a:lnTo>
                    <a:pt x="1676" y="3075"/>
                  </a:lnTo>
                  <a:lnTo>
                    <a:pt x="1720" y="3071"/>
                  </a:lnTo>
                  <a:lnTo>
                    <a:pt x="1764" y="3066"/>
                  </a:lnTo>
                  <a:lnTo>
                    <a:pt x="1808" y="3058"/>
                  </a:lnTo>
                  <a:lnTo>
                    <a:pt x="1851" y="3051"/>
                  </a:lnTo>
                  <a:lnTo>
                    <a:pt x="1894" y="3041"/>
                  </a:lnTo>
                  <a:lnTo>
                    <a:pt x="1936" y="3030"/>
                  </a:lnTo>
                  <a:lnTo>
                    <a:pt x="1977" y="3019"/>
                  </a:lnTo>
                  <a:lnTo>
                    <a:pt x="2018" y="3006"/>
                  </a:lnTo>
                  <a:lnTo>
                    <a:pt x="2059" y="2992"/>
                  </a:lnTo>
                  <a:lnTo>
                    <a:pt x="2099" y="2977"/>
                  </a:lnTo>
                  <a:lnTo>
                    <a:pt x="2139" y="2961"/>
                  </a:lnTo>
                  <a:lnTo>
                    <a:pt x="2178" y="2944"/>
                  </a:lnTo>
                  <a:lnTo>
                    <a:pt x="2217" y="2925"/>
                  </a:lnTo>
                  <a:lnTo>
                    <a:pt x="2199" y="2889"/>
                  </a:lnTo>
                  <a:lnTo>
                    <a:pt x="2161" y="2906"/>
                  </a:lnTo>
                  <a:lnTo>
                    <a:pt x="2123" y="2923"/>
                  </a:lnTo>
                  <a:lnTo>
                    <a:pt x="2084" y="2938"/>
                  </a:lnTo>
                  <a:lnTo>
                    <a:pt x="2045" y="2953"/>
                  </a:lnTo>
                  <a:lnTo>
                    <a:pt x="2005" y="2966"/>
                  </a:lnTo>
                  <a:lnTo>
                    <a:pt x="1965" y="2979"/>
                  </a:lnTo>
                  <a:lnTo>
                    <a:pt x="1925" y="2990"/>
                  </a:lnTo>
                  <a:lnTo>
                    <a:pt x="1884" y="3001"/>
                  </a:lnTo>
                  <a:lnTo>
                    <a:pt x="1842" y="3009"/>
                  </a:lnTo>
                  <a:lnTo>
                    <a:pt x="1801" y="3017"/>
                  </a:lnTo>
                  <a:lnTo>
                    <a:pt x="1758" y="3025"/>
                  </a:lnTo>
                  <a:lnTo>
                    <a:pt x="1716" y="3030"/>
                  </a:lnTo>
                  <a:lnTo>
                    <a:pt x="1672" y="3034"/>
                  </a:lnTo>
                  <a:lnTo>
                    <a:pt x="1629" y="3038"/>
                  </a:lnTo>
                  <a:lnTo>
                    <a:pt x="1585" y="3039"/>
                  </a:lnTo>
                  <a:lnTo>
                    <a:pt x="1541" y="3040"/>
                  </a:lnTo>
                  <a:lnTo>
                    <a:pt x="1464" y="3038"/>
                  </a:lnTo>
                  <a:lnTo>
                    <a:pt x="1388" y="3032"/>
                  </a:lnTo>
                  <a:lnTo>
                    <a:pt x="1313" y="3022"/>
                  </a:lnTo>
                  <a:lnTo>
                    <a:pt x="1239" y="3009"/>
                  </a:lnTo>
                  <a:lnTo>
                    <a:pt x="1167" y="2992"/>
                  </a:lnTo>
                  <a:lnTo>
                    <a:pt x="1095" y="2973"/>
                  </a:lnTo>
                  <a:lnTo>
                    <a:pt x="1025" y="2949"/>
                  </a:lnTo>
                  <a:lnTo>
                    <a:pt x="957" y="2922"/>
                  </a:lnTo>
                  <a:lnTo>
                    <a:pt x="891" y="2892"/>
                  </a:lnTo>
                  <a:lnTo>
                    <a:pt x="826" y="2858"/>
                  </a:lnTo>
                  <a:lnTo>
                    <a:pt x="764" y="2823"/>
                  </a:lnTo>
                  <a:lnTo>
                    <a:pt x="702" y="2784"/>
                  </a:lnTo>
                  <a:lnTo>
                    <a:pt x="644" y="2742"/>
                  </a:lnTo>
                  <a:lnTo>
                    <a:pt x="587" y="2697"/>
                  </a:lnTo>
                  <a:lnTo>
                    <a:pt x="533" y="2650"/>
                  </a:lnTo>
                  <a:lnTo>
                    <a:pt x="481" y="2600"/>
                  </a:lnTo>
                  <a:lnTo>
                    <a:pt x="431" y="2548"/>
                  </a:lnTo>
                  <a:lnTo>
                    <a:pt x="383" y="2494"/>
                  </a:lnTo>
                  <a:lnTo>
                    <a:pt x="339" y="2437"/>
                  </a:lnTo>
                  <a:lnTo>
                    <a:pt x="297" y="2379"/>
                  </a:lnTo>
                  <a:lnTo>
                    <a:pt x="258" y="2318"/>
                  </a:lnTo>
                  <a:lnTo>
                    <a:pt x="222" y="2255"/>
                  </a:lnTo>
                  <a:lnTo>
                    <a:pt x="189" y="2191"/>
                  </a:lnTo>
                  <a:lnTo>
                    <a:pt x="159" y="2124"/>
                  </a:lnTo>
                  <a:lnTo>
                    <a:pt x="132" y="2056"/>
                  </a:lnTo>
                  <a:lnTo>
                    <a:pt x="109" y="1987"/>
                  </a:lnTo>
                  <a:lnTo>
                    <a:pt x="88" y="1915"/>
                  </a:lnTo>
                  <a:lnTo>
                    <a:pt x="71" y="1843"/>
                  </a:lnTo>
                  <a:lnTo>
                    <a:pt x="58" y="1769"/>
                  </a:lnTo>
                  <a:lnTo>
                    <a:pt x="48" y="1694"/>
                  </a:lnTo>
                  <a:lnTo>
                    <a:pt x="43" y="1617"/>
                  </a:lnTo>
                  <a:lnTo>
                    <a:pt x="41" y="1541"/>
                  </a:lnTo>
                  <a:lnTo>
                    <a:pt x="43" y="1463"/>
                  </a:lnTo>
                  <a:lnTo>
                    <a:pt x="48" y="1387"/>
                  </a:lnTo>
                  <a:lnTo>
                    <a:pt x="58" y="1312"/>
                  </a:lnTo>
                  <a:lnTo>
                    <a:pt x="71" y="1238"/>
                  </a:lnTo>
                  <a:lnTo>
                    <a:pt x="88" y="1166"/>
                  </a:lnTo>
                  <a:lnTo>
                    <a:pt x="109" y="1095"/>
                  </a:lnTo>
                  <a:lnTo>
                    <a:pt x="132" y="1024"/>
                  </a:lnTo>
                  <a:lnTo>
                    <a:pt x="159" y="956"/>
                  </a:lnTo>
                  <a:lnTo>
                    <a:pt x="189" y="891"/>
                  </a:lnTo>
                  <a:lnTo>
                    <a:pt x="222" y="826"/>
                  </a:lnTo>
                  <a:lnTo>
                    <a:pt x="258" y="763"/>
                  </a:lnTo>
                  <a:lnTo>
                    <a:pt x="297" y="703"/>
                  </a:lnTo>
                  <a:lnTo>
                    <a:pt x="339" y="643"/>
                  </a:lnTo>
                  <a:lnTo>
                    <a:pt x="383" y="587"/>
                  </a:lnTo>
                  <a:lnTo>
                    <a:pt x="431" y="532"/>
                  </a:lnTo>
                  <a:lnTo>
                    <a:pt x="481" y="480"/>
                  </a:lnTo>
                  <a:lnTo>
                    <a:pt x="533" y="430"/>
                  </a:lnTo>
                  <a:lnTo>
                    <a:pt x="587" y="384"/>
                  </a:lnTo>
                  <a:lnTo>
                    <a:pt x="644" y="339"/>
                  </a:lnTo>
                  <a:lnTo>
                    <a:pt x="702" y="298"/>
                  </a:lnTo>
                  <a:lnTo>
                    <a:pt x="764" y="258"/>
                  </a:lnTo>
                  <a:lnTo>
                    <a:pt x="826" y="222"/>
                  </a:lnTo>
                  <a:lnTo>
                    <a:pt x="891" y="189"/>
                  </a:lnTo>
                  <a:lnTo>
                    <a:pt x="957" y="159"/>
                  </a:lnTo>
                  <a:lnTo>
                    <a:pt x="1025" y="132"/>
                  </a:lnTo>
                  <a:lnTo>
                    <a:pt x="1095" y="109"/>
                  </a:lnTo>
                  <a:lnTo>
                    <a:pt x="1167" y="88"/>
                  </a:lnTo>
                  <a:lnTo>
                    <a:pt x="1239" y="72"/>
                  </a:lnTo>
                  <a:lnTo>
                    <a:pt x="1313" y="58"/>
                  </a:lnTo>
                  <a:lnTo>
                    <a:pt x="1388" y="49"/>
                  </a:lnTo>
                  <a:lnTo>
                    <a:pt x="1464" y="43"/>
                  </a:lnTo>
                  <a:lnTo>
                    <a:pt x="1541" y="41"/>
                  </a:lnTo>
                  <a:lnTo>
                    <a:pt x="1618" y="43"/>
                  </a:lnTo>
                  <a:lnTo>
                    <a:pt x="1694" y="49"/>
                  </a:lnTo>
                  <a:lnTo>
                    <a:pt x="1770" y="58"/>
                  </a:lnTo>
                  <a:lnTo>
                    <a:pt x="1843" y="72"/>
                  </a:lnTo>
                  <a:lnTo>
                    <a:pt x="1916" y="88"/>
                  </a:lnTo>
                  <a:lnTo>
                    <a:pt x="1987" y="109"/>
                  </a:lnTo>
                  <a:lnTo>
                    <a:pt x="2057" y="132"/>
                  </a:lnTo>
                  <a:lnTo>
                    <a:pt x="2125" y="159"/>
                  </a:lnTo>
                  <a:lnTo>
                    <a:pt x="2191" y="189"/>
                  </a:lnTo>
                  <a:lnTo>
                    <a:pt x="2256" y="222"/>
                  </a:lnTo>
                  <a:lnTo>
                    <a:pt x="2319" y="258"/>
                  </a:lnTo>
                  <a:lnTo>
                    <a:pt x="2380" y="298"/>
                  </a:lnTo>
                  <a:lnTo>
                    <a:pt x="2439" y="339"/>
                  </a:lnTo>
                  <a:lnTo>
                    <a:pt x="2496" y="384"/>
                  </a:lnTo>
                  <a:lnTo>
                    <a:pt x="2550" y="430"/>
                  </a:lnTo>
                  <a:lnTo>
                    <a:pt x="2602" y="480"/>
                  </a:lnTo>
                  <a:lnTo>
                    <a:pt x="2651" y="532"/>
                  </a:lnTo>
                  <a:lnTo>
                    <a:pt x="2699" y="587"/>
                  </a:lnTo>
                  <a:lnTo>
                    <a:pt x="2743" y="643"/>
                  </a:lnTo>
                  <a:lnTo>
                    <a:pt x="2785" y="703"/>
                  </a:lnTo>
                  <a:lnTo>
                    <a:pt x="2824" y="763"/>
                  </a:lnTo>
                  <a:lnTo>
                    <a:pt x="2860" y="826"/>
                  </a:lnTo>
                  <a:lnTo>
                    <a:pt x="2893" y="891"/>
                  </a:lnTo>
                  <a:lnTo>
                    <a:pt x="2924" y="956"/>
                  </a:lnTo>
                  <a:lnTo>
                    <a:pt x="2950" y="1024"/>
                  </a:lnTo>
                  <a:lnTo>
                    <a:pt x="2973" y="1095"/>
                  </a:lnTo>
                  <a:lnTo>
                    <a:pt x="2994" y="1166"/>
                  </a:lnTo>
                  <a:lnTo>
                    <a:pt x="3011" y="1238"/>
                  </a:lnTo>
                  <a:lnTo>
                    <a:pt x="3024" y="1312"/>
                  </a:lnTo>
                  <a:lnTo>
                    <a:pt x="3034" y="1387"/>
                  </a:lnTo>
                  <a:lnTo>
                    <a:pt x="3039" y="1463"/>
                  </a:lnTo>
                  <a:lnTo>
                    <a:pt x="3042" y="1541"/>
                  </a:lnTo>
                  <a:lnTo>
                    <a:pt x="3040" y="1590"/>
                  </a:lnTo>
                  <a:lnTo>
                    <a:pt x="3038" y="1641"/>
                  </a:lnTo>
                  <a:lnTo>
                    <a:pt x="3034" y="1690"/>
                  </a:lnTo>
                  <a:lnTo>
                    <a:pt x="3029" y="1739"/>
                  </a:lnTo>
                  <a:lnTo>
                    <a:pt x="3021" y="1788"/>
                  </a:lnTo>
                  <a:lnTo>
                    <a:pt x="3012" y="1836"/>
                  </a:lnTo>
                  <a:lnTo>
                    <a:pt x="3002" y="1883"/>
                  </a:lnTo>
                  <a:lnTo>
                    <a:pt x="2990" y="1931"/>
                  </a:lnTo>
                  <a:lnTo>
                    <a:pt x="3030" y="1941"/>
                  </a:lnTo>
                  <a:lnTo>
                    <a:pt x="3043" y="1893"/>
                  </a:lnTo>
                  <a:lnTo>
                    <a:pt x="3052" y="1844"/>
                  </a:lnTo>
                  <a:lnTo>
                    <a:pt x="3062" y="1794"/>
                  </a:lnTo>
                  <a:lnTo>
                    <a:pt x="3070" y="1745"/>
                  </a:lnTo>
                  <a:lnTo>
                    <a:pt x="3075" y="1694"/>
                  </a:lnTo>
                  <a:lnTo>
                    <a:pt x="3079" y="1643"/>
                  </a:lnTo>
                  <a:lnTo>
                    <a:pt x="3081" y="1593"/>
                  </a:lnTo>
                  <a:lnTo>
                    <a:pt x="3083" y="154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70440" y="2394000"/>
              <a:ext cx="1208160" cy="1206360"/>
            </a:xfrm>
            <a:custGeom>
              <a:avLst/>
              <a:gdLst/>
              <a:ahLst/>
              <a:rect l="l" t="t" r="r" b="b"/>
              <a:pathLst>
                <a:path w="3042" h="3040">
                  <a:moveTo>
                    <a:pt x="3042" y="1521"/>
                  </a:moveTo>
                  <a:lnTo>
                    <a:pt x="3040" y="1442"/>
                  </a:lnTo>
                  <a:lnTo>
                    <a:pt x="3034" y="1365"/>
                  </a:lnTo>
                  <a:lnTo>
                    <a:pt x="3025" y="1288"/>
                  </a:lnTo>
                  <a:lnTo>
                    <a:pt x="3011" y="1214"/>
                  </a:lnTo>
                  <a:lnTo>
                    <a:pt x="2994" y="1141"/>
                  </a:lnTo>
                  <a:lnTo>
                    <a:pt x="2974" y="1068"/>
                  </a:lnTo>
                  <a:lnTo>
                    <a:pt x="2950" y="998"/>
                  </a:lnTo>
                  <a:lnTo>
                    <a:pt x="2922" y="929"/>
                  </a:lnTo>
                  <a:lnTo>
                    <a:pt x="2892" y="862"/>
                  </a:lnTo>
                  <a:lnTo>
                    <a:pt x="2858" y="796"/>
                  </a:lnTo>
                  <a:lnTo>
                    <a:pt x="2822" y="732"/>
                  </a:lnTo>
                  <a:lnTo>
                    <a:pt x="2783" y="671"/>
                  </a:lnTo>
                  <a:lnTo>
                    <a:pt x="2739" y="611"/>
                  </a:lnTo>
                  <a:lnTo>
                    <a:pt x="2695" y="553"/>
                  </a:lnTo>
                  <a:lnTo>
                    <a:pt x="2647" y="498"/>
                  </a:lnTo>
                  <a:lnTo>
                    <a:pt x="2597" y="445"/>
                  </a:lnTo>
                  <a:lnTo>
                    <a:pt x="2544" y="395"/>
                  </a:lnTo>
                  <a:lnTo>
                    <a:pt x="2489" y="348"/>
                  </a:lnTo>
                  <a:lnTo>
                    <a:pt x="2432" y="302"/>
                  </a:lnTo>
                  <a:lnTo>
                    <a:pt x="2371" y="260"/>
                  </a:lnTo>
                  <a:lnTo>
                    <a:pt x="2309" y="220"/>
                  </a:lnTo>
                  <a:lnTo>
                    <a:pt x="2246" y="184"/>
                  </a:lnTo>
                  <a:lnTo>
                    <a:pt x="2181" y="150"/>
                  </a:lnTo>
                  <a:lnTo>
                    <a:pt x="2113" y="120"/>
                  </a:lnTo>
                  <a:lnTo>
                    <a:pt x="2044" y="93"/>
                  </a:lnTo>
                  <a:lnTo>
                    <a:pt x="1973" y="68"/>
                  </a:lnTo>
                  <a:lnTo>
                    <a:pt x="1901" y="48"/>
                  </a:lnTo>
                  <a:lnTo>
                    <a:pt x="1828" y="31"/>
                  </a:lnTo>
                  <a:lnTo>
                    <a:pt x="1753" y="17"/>
                  </a:lnTo>
                  <a:lnTo>
                    <a:pt x="1676" y="8"/>
                  </a:lnTo>
                  <a:lnTo>
                    <a:pt x="1600" y="2"/>
                  </a:lnTo>
                  <a:lnTo>
                    <a:pt x="1521" y="0"/>
                  </a:lnTo>
                  <a:lnTo>
                    <a:pt x="1443" y="2"/>
                  </a:lnTo>
                  <a:lnTo>
                    <a:pt x="1366" y="8"/>
                  </a:lnTo>
                  <a:lnTo>
                    <a:pt x="1289" y="17"/>
                  </a:lnTo>
                  <a:lnTo>
                    <a:pt x="1215" y="31"/>
                  </a:lnTo>
                  <a:lnTo>
                    <a:pt x="1141" y="48"/>
                  </a:lnTo>
                  <a:lnTo>
                    <a:pt x="1069" y="68"/>
                  </a:lnTo>
                  <a:lnTo>
                    <a:pt x="999" y="93"/>
                  </a:lnTo>
                  <a:lnTo>
                    <a:pt x="930" y="120"/>
                  </a:lnTo>
                  <a:lnTo>
                    <a:pt x="862" y="150"/>
                  </a:lnTo>
                  <a:lnTo>
                    <a:pt x="797" y="184"/>
                  </a:lnTo>
                  <a:lnTo>
                    <a:pt x="733" y="220"/>
                  </a:lnTo>
                  <a:lnTo>
                    <a:pt x="671" y="260"/>
                  </a:lnTo>
                  <a:lnTo>
                    <a:pt x="611" y="302"/>
                  </a:lnTo>
                  <a:lnTo>
                    <a:pt x="554" y="348"/>
                  </a:lnTo>
                  <a:lnTo>
                    <a:pt x="498" y="395"/>
                  </a:lnTo>
                  <a:lnTo>
                    <a:pt x="446" y="445"/>
                  </a:lnTo>
                  <a:lnTo>
                    <a:pt x="396" y="498"/>
                  </a:lnTo>
                  <a:lnTo>
                    <a:pt x="347" y="553"/>
                  </a:lnTo>
                  <a:lnTo>
                    <a:pt x="303" y="611"/>
                  </a:lnTo>
                  <a:lnTo>
                    <a:pt x="260" y="671"/>
                  </a:lnTo>
                  <a:lnTo>
                    <a:pt x="221" y="732"/>
                  </a:lnTo>
                  <a:lnTo>
                    <a:pt x="184" y="796"/>
                  </a:lnTo>
                  <a:lnTo>
                    <a:pt x="151" y="862"/>
                  </a:lnTo>
                  <a:lnTo>
                    <a:pt x="120" y="929"/>
                  </a:lnTo>
                  <a:lnTo>
                    <a:pt x="92" y="998"/>
                  </a:lnTo>
                  <a:lnTo>
                    <a:pt x="68" y="1068"/>
                  </a:lnTo>
                  <a:lnTo>
                    <a:pt x="48" y="1141"/>
                  </a:lnTo>
                  <a:lnTo>
                    <a:pt x="32" y="1214"/>
                  </a:lnTo>
                  <a:lnTo>
                    <a:pt x="18" y="1288"/>
                  </a:lnTo>
                  <a:lnTo>
                    <a:pt x="8" y="1365"/>
                  </a:lnTo>
                  <a:lnTo>
                    <a:pt x="2" y="1442"/>
                  </a:lnTo>
                  <a:lnTo>
                    <a:pt x="0" y="1521"/>
                  </a:lnTo>
                  <a:lnTo>
                    <a:pt x="2" y="1598"/>
                  </a:lnTo>
                  <a:lnTo>
                    <a:pt x="8" y="1676"/>
                  </a:lnTo>
                  <a:lnTo>
                    <a:pt x="18" y="1752"/>
                  </a:lnTo>
                  <a:lnTo>
                    <a:pt x="32" y="1826"/>
                  </a:lnTo>
                  <a:lnTo>
                    <a:pt x="48" y="1901"/>
                  </a:lnTo>
                  <a:lnTo>
                    <a:pt x="68" y="1972"/>
                  </a:lnTo>
                  <a:lnTo>
                    <a:pt x="92" y="2043"/>
                  </a:lnTo>
                  <a:lnTo>
                    <a:pt x="120" y="2113"/>
                  </a:lnTo>
                  <a:lnTo>
                    <a:pt x="151" y="2179"/>
                  </a:lnTo>
                  <a:lnTo>
                    <a:pt x="184" y="2245"/>
                  </a:lnTo>
                  <a:lnTo>
                    <a:pt x="221" y="2309"/>
                  </a:lnTo>
                  <a:lnTo>
                    <a:pt x="260" y="2371"/>
                  </a:lnTo>
                  <a:lnTo>
                    <a:pt x="303" y="2430"/>
                  </a:lnTo>
                  <a:lnTo>
                    <a:pt x="347" y="2487"/>
                  </a:lnTo>
                  <a:lnTo>
                    <a:pt x="396" y="2542"/>
                  </a:lnTo>
                  <a:lnTo>
                    <a:pt x="446" y="2595"/>
                  </a:lnTo>
                  <a:lnTo>
                    <a:pt x="498" y="2646"/>
                  </a:lnTo>
                  <a:lnTo>
                    <a:pt x="554" y="2694"/>
                  </a:lnTo>
                  <a:lnTo>
                    <a:pt x="611" y="2739"/>
                  </a:lnTo>
                  <a:lnTo>
                    <a:pt x="671" y="2781"/>
                  </a:lnTo>
                  <a:lnTo>
                    <a:pt x="733" y="2821"/>
                  </a:lnTo>
                  <a:lnTo>
                    <a:pt x="797" y="2857"/>
                  </a:lnTo>
                  <a:lnTo>
                    <a:pt x="862" y="2891"/>
                  </a:lnTo>
                  <a:lnTo>
                    <a:pt x="930" y="2921"/>
                  </a:lnTo>
                  <a:lnTo>
                    <a:pt x="999" y="2948"/>
                  </a:lnTo>
                  <a:lnTo>
                    <a:pt x="1069" y="2972"/>
                  </a:lnTo>
                  <a:lnTo>
                    <a:pt x="1141" y="2993"/>
                  </a:lnTo>
                  <a:lnTo>
                    <a:pt x="1215" y="3010"/>
                  </a:lnTo>
                  <a:lnTo>
                    <a:pt x="1289" y="3023"/>
                  </a:lnTo>
                  <a:lnTo>
                    <a:pt x="1366" y="3033"/>
                  </a:lnTo>
                  <a:lnTo>
                    <a:pt x="1443" y="3039"/>
                  </a:lnTo>
                  <a:lnTo>
                    <a:pt x="1521" y="3040"/>
                  </a:lnTo>
                  <a:lnTo>
                    <a:pt x="1566" y="3040"/>
                  </a:lnTo>
                  <a:lnTo>
                    <a:pt x="1610" y="3038"/>
                  </a:lnTo>
                  <a:lnTo>
                    <a:pt x="1655" y="3035"/>
                  </a:lnTo>
                  <a:lnTo>
                    <a:pt x="1698" y="3031"/>
                  </a:lnTo>
                  <a:lnTo>
                    <a:pt x="1741" y="3025"/>
                  </a:lnTo>
                  <a:lnTo>
                    <a:pt x="1784" y="3018"/>
                  </a:lnTo>
                  <a:lnTo>
                    <a:pt x="1826" y="3010"/>
                  </a:lnTo>
                  <a:lnTo>
                    <a:pt x="1869" y="3000"/>
                  </a:lnTo>
                  <a:lnTo>
                    <a:pt x="1911" y="2991"/>
                  </a:lnTo>
                  <a:lnTo>
                    <a:pt x="1952" y="2979"/>
                  </a:lnTo>
                  <a:lnTo>
                    <a:pt x="1992" y="2966"/>
                  </a:lnTo>
                  <a:lnTo>
                    <a:pt x="2033" y="2953"/>
                  </a:lnTo>
                  <a:lnTo>
                    <a:pt x="2072" y="2938"/>
                  </a:lnTo>
                  <a:lnTo>
                    <a:pt x="2112" y="2921"/>
                  </a:lnTo>
                  <a:lnTo>
                    <a:pt x="2150" y="2905"/>
                  </a:lnTo>
                  <a:lnTo>
                    <a:pt x="2188" y="2887"/>
                  </a:lnTo>
                  <a:lnTo>
                    <a:pt x="2170" y="2849"/>
                  </a:lnTo>
                  <a:lnTo>
                    <a:pt x="2132" y="2867"/>
                  </a:lnTo>
                  <a:lnTo>
                    <a:pt x="2095" y="2884"/>
                  </a:lnTo>
                  <a:lnTo>
                    <a:pt x="2057" y="2899"/>
                  </a:lnTo>
                  <a:lnTo>
                    <a:pt x="2019" y="2913"/>
                  </a:lnTo>
                  <a:lnTo>
                    <a:pt x="1980" y="2927"/>
                  </a:lnTo>
                  <a:lnTo>
                    <a:pt x="1940" y="2939"/>
                  </a:lnTo>
                  <a:lnTo>
                    <a:pt x="1900" y="2951"/>
                  </a:lnTo>
                  <a:lnTo>
                    <a:pt x="1859" y="2960"/>
                  </a:lnTo>
                  <a:lnTo>
                    <a:pt x="1818" y="2969"/>
                  </a:lnTo>
                  <a:lnTo>
                    <a:pt x="1777" y="2977"/>
                  </a:lnTo>
                  <a:lnTo>
                    <a:pt x="1736" y="2984"/>
                  </a:lnTo>
                  <a:lnTo>
                    <a:pt x="1694" y="2989"/>
                  </a:lnTo>
                  <a:lnTo>
                    <a:pt x="1650" y="2994"/>
                  </a:lnTo>
                  <a:lnTo>
                    <a:pt x="1608" y="2996"/>
                  </a:lnTo>
                  <a:lnTo>
                    <a:pt x="1565" y="2998"/>
                  </a:lnTo>
                  <a:lnTo>
                    <a:pt x="1521" y="2999"/>
                  </a:lnTo>
                  <a:lnTo>
                    <a:pt x="1445" y="2997"/>
                  </a:lnTo>
                  <a:lnTo>
                    <a:pt x="1370" y="2992"/>
                  </a:lnTo>
                  <a:lnTo>
                    <a:pt x="1296" y="2982"/>
                  </a:lnTo>
                  <a:lnTo>
                    <a:pt x="1223" y="2969"/>
                  </a:lnTo>
                  <a:lnTo>
                    <a:pt x="1151" y="2953"/>
                  </a:lnTo>
                  <a:lnTo>
                    <a:pt x="1081" y="2932"/>
                  </a:lnTo>
                  <a:lnTo>
                    <a:pt x="1013" y="2910"/>
                  </a:lnTo>
                  <a:lnTo>
                    <a:pt x="946" y="2883"/>
                  </a:lnTo>
                  <a:lnTo>
                    <a:pt x="880" y="2853"/>
                  </a:lnTo>
                  <a:lnTo>
                    <a:pt x="816" y="2821"/>
                  </a:lnTo>
                  <a:lnTo>
                    <a:pt x="755" y="2785"/>
                  </a:lnTo>
                  <a:lnTo>
                    <a:pt x="694" y="2746"/>
                  </a:lnTo>
                  <a:lnTo>
                    <a:pt x="636" y="2705"/>
                  </a:lnTo>
                  <a:lnTo>
                    <a:pt x="581" y="2661"/>
                  </a:lnTo>
                  <a:lnTo>
                    <a:pt x="527" y="2615"/>
                  </a:lnTo>
                  <a:lnTo>
                    <a:pt x="475" y="2566"/>
                  </a:lnTo>
                  <a:lnTo>
                    <a:pt x="426" y="2514"/>
                  </a:lnTo>
                  <a:lnTo>
                    <a:pt x="380" y="2461"/>
                  </a:lnTo>
                  <a:lnTo>
                    <a:pt x="335" y="2405"/>
                  </a:lnTo>
                  <a:lnTo>
                    <a:pt x="294" y="2347"/>
                  </a:lnTo>
                  <a:lnTo>
                    <a:pt x="256" y="2287"/>
                  </a:lnTo>
                  <a:lnTo>
                    <a:pt x="221" y="2225"/>
                  </a:lnTo>
                  <a:lnTo>
                    <a:pt x="187" y="2161"/>
                  </a:lnTo>
                  <a:lnTo>
                    <a:pt x="158" y="2096"/>
                  </a:lnTo>
                  <a:lnTo>
                    <a:pt x="132" y="2028"/>
                  </a:lnTo>
                  <a:lnTo>
                    <a:pt x="108" y="1960"/>
                  </a:lnTo>
                  <a:lnTo>
                    <a:pt x="89" y="1890"/>
                  </a:lnTo>
                  <a:lnTo>
                    <a:pt x="72" y="1819"/>
                  </a:lnTo>
                  <a:lnTo>
                    <a:pt x="59" y="1745"/>
                  </a:lnTo>
                  <a:lnTo>
                    <a:pt x="50" y="1672"/>
                  </a:lnTo>
                  <a:lnTo>
                    <a:pt x="44" y="1596"/>
                  </a:lnTo>
                  <a:lnTo>
                    <a:pt x="42" y="1521"/>
                  </a:lnTo>
                  <a:lnTo>
                    <a:pt x="44" y="1444"/>
                  </a:lnTo>
                  <a:lnTo>
                    <a:pt x="50" y="1369"/>
                  </a:lnTo>
                  <a:lnTo>
                    <a:pt x="59" y="1295"/>
                  </a:lnTo>
                  <a:lnTo>
                    <a:pt x="72" y="1223"/>
                  </a:lnTo>
                  <a:lnTo>
                    <a:pt x="89" y="1151"/>
                  </a:lnTo>
                  <a:lnTo>
                    <a:pt x="108" y="1081"/>
                  </a:lnTo>
                  <a:lnTo>
                    <a:pt x="132" y="1012"/>
                  </a:lnTo>
                  <a:lnTo>
                    <a:pt x="158" y="945"/>
                  </a:lnTo>
                  <a:lnTo>
                    <a:pt x="187" y="879"/>
                  </a:lnTo>
                  <a:lnTo>
                    <a:pt x="221" y="815"/>
                  </a:lnTo>
                  <a:lnTo>
                    <a:pt x="256" y="754"/>
                  </a:lnTo>
                  <a:lnTo>
                    <a:pt x="294" y="693"/>
                  </a:lnTo>
                  <a:lnTo>
                    <a:pt x="335" y="636"/>
                  </a:lnTo>
                  <a:lnTo>
                    <a:pt x="380" y="580"/>
                  </a:lnTo>
                  <a:lnTo>
                    <a:pt x="426" y="526"/>
                  </a:lnTo>
                  <a:lnTo>
                    <a:pt x="475" y="475"/>
                  </a:lnTo>
                  <a:lnTo>
                    <a:pt x="527" y="426"/>
                  </a:lnTo>
                  <a:lnTo>
                    <a:pt x="581" y="379"/>
                  </a:lnTo>
                  <a:lnTo>
                    <a:pt x="636" y="336"/>
                  </a:lnTo>
                  <a:lnTo>
                    <a:pt x="694" y="295"/>
                  </a:lnTo>
                  <a:lnTo>
                    <a:pt x="755" y="256"/>
                  </a:lnTo>
                  <a:lnTo>
                    <a:pt x="816" y="220"/>
                  </a:lnTo>
                  <a:lnTo>
                    <a:pt x="880" y="188"/>
                  </a:lnTo>
                  <a:lnTo>
                    <a:pt x="946" y="158"/>
                  </a:lnTo>
                  <a:lnTo>
                    <a:pt x="1013" y="132"/>
                  </a:lnTo>
                  <a:lnTo>
                    <a:pt x="1081" y="108"/>
                  </a:lnTo>
                  <a:lnTo>
                    <a:pt x="1151" y="89"/>
                  </a:lnTo>
                  <a:lnTo>
                    <a:pt x="1223" y="72"/>
                  </a:lnTo>
                  <a:lnTo>
                    <a:pt x="1296" y="59"/>
                  </a:lnTo>
                  <a:lnTo>
                    <a:pt x="1370" y="50"/>
                  </a:lnTo>
                  <a:lnTo>
                    <a:pt x="1445" y="44"/>
                  </a:lnTo>
                  <a:lnTo>
                    <a:pt x="1521" y="42"/>
                  </a:lnTo>
                  <a:lnTo>
                    <a:pt x="1597" y="44"/>
                  </a:lnTo>
                  <a:lnTo>
                    <a:pt x="1672" y="50"/>
                  </a:lnTo>
                  <a:lnTo>
                    <a:pt x="1746" y="59"/>
                  </a:lnTo>
                  <a:lnTo>
                    <a:pt x="1819" y="72"/>
                  </a:lnTo>
                  <a:lnTo>
                    <a:pt x="1891" y="89"/>
                  </a:lnTo>
                  <a:lnTo>
                    <a:pt x="1962" y="108"/>
                  </a:lnTo>
                  <a:lnTo>
                    <a:pt x="2030" y="132"/>
                  </a:lnTo>
                  <a:lnTo>
                    <a:pt x="2097" y="158"/>
                  </a:lnTo>
                  <a:lnTo>
                    <a:pt x="2162" y="188"/>
                  </a:lnTo>
                  <a:lnTo>
                    <a:pt x="2226" y="220"/>
                  </a:lnTo>
                  <a:lnTo>
                    <a:pt x="2288" y="256"/>
                  </a:lnTo>
                  <a:lnTo>
                    <a:pt x="2348" y="295"/>
                  </a:lnTo>
                  <a:lnTo>
                    <a:pt x="2407" y="336"/>
                  </a:lnTo>
                  <a:lnTo>
                    <a:pt x="2462" y="379"/>
                  </a:lnTo>
                  <a:lnTo>
                    <a:pt x="2516" y="426"/>
                  </a:lnTo>
                  <a:lnTo>
                    <a:pt x="2567" y="475"/>
                  </a:lnTo>
                  <a:lnTo>
                    <a:pt x="2616" y="526"/>
                  </a:lnTo>
                  <a:lnTo>
                    <a:pt x="2663" y="580"/>
                  </a:lnTo>
                  <a:lnTo>
                    <a:pt x="2706" y="636"/>
                  </a:lnTo>
                  <a:lnTo>
                    <a:pt x="2748" y="693"/>
                  </a:lnTo>
                  <a:lnTo>
                    <a:pt x="2786" y="754"/>
                  </a:lnTo>
                  <a:lnTo>
                    <a:pt x="2822" y="815"/>
                  </a:lnTo>
                  <a:lnTo>
                    <a:pt x="2854" y="879"/>
                  </a:lnTo>
                  <a:lnTo>
                    <a:pt x="2884" y="945"/>
                  </a:lnTo>
                  <a:lnTo>
                    <a:pt x="2910" y="1012"/>
                  </a:lnTo>
                  <a:lnTo>
                    <a:pt x="2934" y="1081"/>
                  </a:lnTo>
                  <a:lnTo>
                    <a:pt x="2953" y="1151"/>
                  </a:lnTo>
                  <a:lnTo>
                    <a:pt x="2971" y="1223"/>
                  </a:lnTo>
                  <a:lnTo>
                    <a:pt x="2984" y="1295"/>
                  </a:lnTo>
                  <a:lnTo>
                    <a:pt x="2992" y="1369"/>
                  </a:lnTo>
                  <a:lnTo>
                    <a:pt x="2999" y="1444"/>
                  </a:lnTo>
                  <a:lnTo>
                    <a:pt x="3000" y="1521"/>
                  </a:lnTo>
                  <a:lnTo>
                    <a:pt x="3000" y="1570"/>
                  </a:lnTo>
                  <a:lnTo>
                    <a:pt x="2997" y="1619"/>
                  </a:lnTo>
                  <a:lnTo>
                    <a:pt x="2993" y="1669"/>
                  </a:lnTo>
                  <a:lnTo>
                    <a:pt x="2987" y="1716"/>
                  </a:lnTo>
                  <a:lnTo>
                    <a:pt x="2980" y="1765"/>
                  </a:lnTo>
                  <a:lnTo>
                    <a:pt x="2972" y="1811"/>
                  </a:lnTo>
                  <a:lnTo>
                    <a:pt x="2961" y="1859"/>
                  </a:lnTo>
                  <a:lnTo>
                    <a:pt x="2950" y="1905"/>
                  </a:lnTo>
                  <a:lnTo>
                    <a:pt x="2990" y="1916"/>
                  </a:lnTo>
                  <a:lnTo>
                    <a:pt x="3002" y="1868"/>
                  </a:lnTo>
                  <a:lnTo>
                    <a:pt x="3013" y="1820"/>
                  </a:lnTo>
                  <a:lnTo>
                    <a:pt x="3022" y="1771"/>
                  </a:lnTo>
                  <a:lnTo>
                    <a:pt x="3029" y="1722"/>
                  </a:lnTo>
                  <a:lnTo>
                    <a:pt x="3034" y="1672"/>
                  </a:lnTo>
                  <a:lnTo>
                    <a:pt x="3039" y="1622"/>
                  </a:lnTo>
                  <a:lnTo>
                    <a:pt x="3041" y="1571"/>
                  </a:lnTo>
                  <a:lnTo>
                    <a:pt x="3042" y="1521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78360" y="2401920"/>
              <a:ext cx="1190520" cy="1190520"/>
            </a:xfrm>
            <a:custGeom>
              <a:avLst/>
              <a:gdLst/>
              <a:ahLst/>
              <a:rect l="l" t="t" r="r" b="b"/>
              <a:pathLst>
                <a:path w="3001" h="2999">
                  <a:moveTo>
                    <a:pt x="3001" y="1500"/>
                  </a:moveTo>
                  <a:lnTo>
                    <a:pt x="2998" y="1422"/>
                  </a:lnTo>
                  <a:lnTo>
                    <a:pt x="2993" y="1346"/>
                  </a:lnTo>
                  <a:lnTo>
                    <a:pt x="2983" y="1271"/>
                  </a:lnTo>
                  <a:lnTo>
                    <a:pt x="2970" y="1197"/>
                  </a:lnTo>
                  <a:lnTo>
                    <a:pt x="2953" y="1125"/>
                  </a:lnTo>
                  <a:lnTo>
                    <a:pt x="2932" y="1054"/>
                  </a:lnTo>
                  <a:lnTo>
                    <a:pt x="2909" y="983"/>
                  </a:lnTo>
                  <a:lnTo>
                    <a:pt x="2883" y="915"/>
                  </a:lnTo>
                  <a:lnTo>
                    <a:pt x="2852" y="850"/>
                  </a:lnTo>
                  <a:lnTo>
                    <a:pt x="2819" y="785"/>
                  </a:lnTo>
                  <a:lnTo>
                    <a:pt x="2783" y="722"/>
                  </a:lnTo>
                  <a:lnTo>
                    <a:pt x="2744" y="662"/>
                  </a:lnTo>
                  <a:lnTo>
                    <a:pt x="2702" y="602"/>
                  </a:lnTo>
                  <a:lnTo>
                    <a:pt x="2658" y="546"/>
                  </a:lnTo>
                  <a:lnTo>
                    <a:pt x="2610" y="491"/>
                  </a:lnTo>
                  <a:lnTo>
                    <a:pt x="2561" y="439"/>
                  </a:lnTo>
                  <a:lnTo>
                    <a:pt x="2509" y="389"/>
                  </a:lnTo>
                  <a:lnTo>
                    <a:pt x="2455" y="343"/>
                  </a:lnTo>
                  <a:lnTo>
                    <a:pt x="2398" y="298"/>
                  </a:lnTo>
                  <a:lnTo>
                    <a:pt x="2339" y="257"/>
                  </a:lnTo>
                  <a:lnTo>
                    <a:pt x="2278" y="217"/>
                  </a:lnTo>
                  <a:lnTo>
                    <a:pt x="2215" y="181"/>
                  </a:lnTo>
                  <a:lnTo>
                    <a:pt x="2150" y="148"/>
                  </a:lnTo>
                  <a:lnTo>
                    <a:pt x="2084" y="118"/>
                  </a:lnTo>
                  <a:lnTo>
                    <a:pt x="2016" y="91"/>
                  </a:lnTo>
                  <a:lnTo>
                    <a:pt x="1946" y="68"/>
                  </a:lnTo>
                  <a:lnTo>
                    <a:pt x="1875" y="47"/>
                  </a:lnTo>
                  <a:lnTo>
                    <a:pt x="1802" y="31"/>
                  </a:lnTo>
                  <a:lnTo>
                    <a:pt x="1729" y="17"/>
                  </a:lnTo>
                  <a:lnTo>
                    <a:pt x="1653" y="8"/>
                  </a:lnTo>
                  <a:lnTo>
                    <a:pt x="1577" y="2"/>
                  </a:lnTo>
                  <a:lnTo>
                    <a:pt x="1500" y="0"/>
                  </a:lnTo>
                  <a:lnTo>
                    <a:pt x="1423" y="2"/>
                  </a:lnTo>
                  <a:lnTo>
                    <a:pt x="1347" y="8"/>
                  </a:lnTo>
                  <a:lnTo>
                    <a:pt x="1272" y="17"/>
                  </a:lnTo>
                  <a:lnTo>
                    <a:pt x="1198" y="31"/>
                  </a:lnTo>
                  <a:lnTo>
                    <a:pt x="1126" y="47"/>
                  </a:lnTo>
                  <a:lnTo>
                    <a:pt x="1054" y="68"/>
                  </a:lnTo>
                  <a:lnTo>
                    <a:pt x="984" y="91"/>
                  </a:lnTo>
                  <a:lnTo>
                    <a:pt x="916" y="118"/>
                  </a:lnTo>
                  <a:lnTo>
                    <a:pt x="850" y="148"/>
                  </a:lnTo>
                  <a:lnTo>
                    <a:pt x="785" y="181"/>
                  </a:lnTo>
                  <a:lnTo>
                    <a:pt x="723" y="217"/>
                  </a:lnTo>
                  <a:lnTo>
                    <a:pt x="661" y="257"/>
                  </a:lnTo>
                  <a:lnTo>
                    <a:pt x="603" y="298"/>
                  </a:lnTo>
                  <a:lnTo>
                    <a:pt x="546" y="343"/>
                  </a:lnTo>
                  <a:lnTo>
                    <a:pt x="492" y="389"/>
                  </a:lnTo>
                  <a:lnTo>
                    <a:pt x="440" y="439"/>
                  </a:lnTo>
                  <a:lnTo>
                    <a:pt x="390" y="491"/>
                  </a:lnTo>
                  <a:lnTo>
                    <a:pt x="342" y="546"/>
                  </a:lnTo>
                  <a:lnTo>
                    <a:pt x="298" y="602"/>
                  </a:lnTo>
                  <a:lnTo>
                    <a:pt x="256" y="662"/>
                  </a:lnTo>
                  <a:lnTo>
                    <a:pt x="217" y="722"/>
                  </a:lnTo>
                  <a:lnTo>
                    <a:pt x="181" y="785"/>
                  </a:lnTo>
                  <a:lnTo>
                    <a:pt x="148" y="850"/>
                  </a:lnTo>
                  <a:lnTo>
                    <a:pt x="118" y="915"/>
                  </a:lnTo>
                  <a:lnTo>
                    <a:pt x="91" y="983"/>
                  </a:lnTo>
                  <a:lnTo>
                    <a:pt x="68" y="1054"/>
                  </a:lnTo>
                  <a:lnTo>
                    <a:pt x="47" y="1125"/>
                  </a:lnTo>
                  <a:lnTo>
                    <a:pt x="30" y="1197"/>
                  </a:lnTo>
                  <a:lnTo>
                    <a:pt x="17" y="1271"/>
                  </a:lnTo>
                  <a:lnTo>
                    <a:pt x="7" y="1346"/>
                  </a:lnTo>
                  <a:lnTo>
                    <a:pt x="2" y="1422"/>
                  </a:lnTo>
                  <a:lnTo>
                    <a:pt x="0" y="1500"/>
                  </a:lnTo>
                  <a:lnTo>
                    <a:pt x="2" y="1576"/>
                  </a:lnTo>
                  <a:lnTo>
                    <a:pt x="7" y="1653"/>
                  </a:lnTo>
                  <a:lnTo>
                    <a:pt x="17" y="1728"/>
                  </a:lnTo>
                  <a:lnTo>
                    <a:pt x="30" y="1802"/>
                  </a:lnTo>
                  <a:lnTo>
                    <a:pt x="47" y="1874"/>
                  </a:lnTo>
                  <a:lnTo>
                    <a:pt x="68" y="1946"/>
                  </a:lnTo>
                  <a:lnTo>
                    <a:pt x="91" y="2015"/>
                  </a:lnTo>
                  <a:lnTo>
                    <a:pt x="118" y="2083"/>
                  </a:lnTo>
                  <a:lnTo>
                    <a:pt x="148" y="2150"/>
                  </a:lnTo>
                  <a:lnTo>
                    <a:pt x="181" y="2214"/>
                  </a:lnTo>
                  <a:lnTo>
                    <a:pt x="217" y="2277"/>
                  </a:lnTo>
                  <a:lnTo>
                    <a:pt x="256" y="2338"/>
                  </a:lnTo>
                  <a:lnTo>
                    <a:pt x="298" y="2396"/>
                  </a:lnTo>
                  <a:lnTo>
                    <a:pt x="342" y="2453"/>
                  </a:lnTo>
                  <a:lnTo>
                    <a:pt x="390" y="2507"/>
                  </a:lnTo>
                  <a:lnTo>
                    <a:pt x="440" y="2559"/>
                  </a:lnTo>
                  <a:lnTo>
                    <a:pt x="492" y="2609"/>
                  </a:lnTo>
                  <a:lnTo>
                    <a:pt x="546" y="2656"/>
                  </a:lnTo>
                  <a:lnTo>
                    <a:pt x="603" y="2701"/>
                  </a:lnTo>
                  <a:lnTo>
                    <a:pt x="661" y="2743"/>
                  </a:lnTo>
                  <a:lnTo>
                    <a:pt x="723" y="2782"/>
                  </a:lnTo>
                  <a:lnTo>
                    <a:pt x="785" y="2817"/>
                  </a:lnTo>
                  <a:lnTo>
                    <a:pt x="850" y="2851"/>
                  </a:lnTo>
                  <a:lnTo>
                    <a:pt x="916" y="2881"/>
                  </a:lnTo>
                  <a:lnTo>
                    <a:pt x="984" y="2908"/>
                  </a:lnTo>
                  <a:lnTo>
                    <a:pt x="1054" y="2932"/>
                  </a:lnTo>
                  <a:lnTo>
                    <a:pt x="1126" y="2951"/>
                  </a:lnTo>
                  <a:lnTo>
                    <a:pt x="1198" y="2968"/>
                  </a:lnTo>
                  <a:lnTo>
                    <a:pt x="1272" y="2981"/>
                  </a:lnTo>
                  <a:lnTo>
                    <a:pt x="1347" y="2991"/>
                  </a:lnTo>
                  <a:lnTo>
                    <a:pt x="1423" y="2997"/>
                  </a:lnTo>
                  <a:lnTo>
                    <a:pt x="1500" y="2999"/>
                  </a:lnTo>
                  <a:lnTo>
                    <a:pt x="1544" y="2998"/>
                  </a:lnTo>
                  <a:lnTo>
                    <a:pt x="1588" y="2997"/>
                  </a:lnTo>
                  <a:lnTo>
                    <a:pt x="1631" y="2993"/>
                  </a:lnTo>
                  <a:lnTo>
                    <a:pt x="1675" y="2989"/>
                  </a:lnTo>
                  <a:lnTo>
                    <a:pt x="1717" y="2984"/>
                  </a:lnTo>
                  <a:lnTo>
                    <a:pt x="1760" y="2976"/>
                  </a:lnTo>
                  <a:lnTo>
                    <a:pt x="1801" y="2968"/>
                  </a:lnTo>
                  <a:lnTo>
                    <a:pt x="1843" y="2960"/>
                  </a:lnTo>
                  <a:lnTo>
                    <a:pt x="1884" y="2949"/>
                  </a:lnTo>
                  <a:lnTo>
                    <a:pt x="1924" y="2938"/>
                  </a:lnTo>
                  <a:lnTo>
                    <a:pt x="1964" y="2925"/>
                  </a:lnTo>
                  <a:lnTo>
                    <a:pt x="2004" y="2912"/>
                  </a:lnTo>
                  <a:lnTo>
                    <a:pt x="2043" y="2897"/>
                  </a:lnTo>
                  <a:lnTo>
                    <a:pt x="2082" y="2882"/>
                  </a:lnTo>
                  <a:lnTo>
                    <a:pt x="2120" y="2865"/>
                  </a:lnTo>
                  <a:lnTo>
                    <a:pt x="2158" y="2848"/>
                  </a:lnTo>
                  <a:lnTo>
                    <a:pt x="2139" y="2810"/>
                  </a:lnTo>
                  <a:lnTo>
                    <a:pt x="2103" y="2827"/>
                  </a:lnTo>
                  <a:lnTo>
                    <a:pt x="2066" y="2843"/>
                  </a:lnTo>
                  <a:lnTo>
                    <a:pt x="2028" y="2858"/>
                  </a:lnTo>
                  <a:lnTo>
                    <a:pt x="1990" y="2872"/>
                  </a:lnTo>
                  <a:lnTo>
                    <a:pt x="1952" y="2885"/>
                  </a:lnTo>
                  <a:lnTo>
                    <a:pt x="1912" y="2898"/>
                  </a:lnTo>
                  <a:lnTo>
                    <a:pt x="1874" y="2909"/>
                  </a:lnTo>
                  <a:lnTo>
                    <a:pt x="1834" y="2919"/>
                  </a:lnTo>
                  <a:lnTo>
                    <a:pt x="1794" y="2927"/>
                  </a:lnTo>
                  <a:lnTo>
                    <a:pt x="1752" y="2935"/>
                  </a:lnTo>
                  <a:lnTo>
                    <a:pt x="1711" y="2941"/>
                  </a:lnTo>
                  <a:lnTo>
                    <a:pt x="1669" y="2947"/>
                  </a:lnTo>
                  <a:lnTo>
                    <a:pt x="1628" y="2951"/>
                  </a:lnTo>
                  <a:lnTo>
                    <a:pt x="1586" y="2954"/>
                  </a:lnTo>
                  <a:lnTo>
                    <a:pt x="1543" y="2957"/>
                  </a:lnTo>
                  <a:lnTo>
                    <a:pt x="1500" y="2957"/>
                  </a:lnTo>
                  <a:lnTo>
                    <a:pt x="1425" y="2956"/>
                  </a:lnTo>
                  <a:lnTo>
                    <a:pt x="1351" y="2950"/>
                  </a:lnTo>
                  <a:lnTo>
                    <a:pt x="1278" y="2940"/>
                  </a:lnTo>
                  <a:lnTo>
                    <a:pt x="1206" y="2927"/>
                  </a:lnTo>
                  <a:lnTo>
                    <a:pt x="1136" y="2911"/>
                  </a:lnTo>
                  <a:lnTo>
                    <a:pt x="1066" y="2892"/>
                  </a:lnTo>
                  <a:lnTo>
                    <a:pt x="998" y="2869"/>
                  </a:lnTo>
                  <a:lnTo>
                    <a:pt x="932" y="2842"/>
                  </a:lnTo>
                  <a:lnTo>
                    <a:pt x="868" y="2813"/>
                  </a:lnTo>
                  <a:lnTo>
                    <a:pt x="805" y="2782"/>
                  </a:lnTo>
                  <a:lnTo>
                    <a:pt x="744" y="2746"/>
                  </a:lnTo>
                  <a:lnTo>
                    <a:pt x="685" y="2708"/>
                  </a:lnTo>
                  <a:lnTo>
                    <a:pt x="628" y="2667"/>
                  </a:lnTo>
                  <a:lnTo>
                    <a:pt x="573" y="2624"/>
                  </a:lnTo>
                  <a:lnTo>
                    <a:pt x="520" y="2579"/>
                  </a:lnTo>
                  <a:lnTo>
                    <a:pt x="469" y="2530"/>
                  </a:lnTo>
                  <a:lnTo>
                    <a:pt x="420" y="2479"/>
                  </a:lnTo>
                  <a:lnTo>
                    <a:pt x="375" y="2426"/>
                  </a:lnTo>
                  <a:lnTo>
                    <a:pt x="332" y="2371"/>
                  </a:lnTo>
                  <a:lnTo>
                    <a:pt x="291" y="2314"/>
                  </a:lnTo>
                  <a:lnTo>
                    <a:pt x="253" y="2256"/>
                  </a:lnTo>
                  <a:lnTo>
                    <a:pt x="218" y="2194"/>
                  </a:lnTo>
                  <a:lnTo>
                    <a:pt x="186" y="2131"/>
                  </a:lnTo>
                  <a:lnTo>
                    <a:pt x="157" y="2067"/>
                  </a:lnTo>
                  <a:lnTo>
                    <a:pt x="131" y="2001"/>
                  </a:lnTo>
                  <a:lnTo>
                    <a:pt x="107" y="1933"/>
                  </a:lnTo>
                  <a:lnTo>
                    <a:pt x="87" y="1864"/>
                  </a:lnTo>
                  <a:lnTo>
                    <a:pt x="71" y="1793"/>
                  </a:lnTo>
                  <a:lnTo>
                    <a:pt x="58" y="1721"/>
                  </a:lnTo>
                  <a:lnTo>
                    <a:pt x="50" y="1649"/>
                  </a:lnTo>
                  <a:lnTo>
                    <a:pt x="44" y="1574"/>
                  </a:lnTo>
                  <a:lnTo>
                    <a:pt x="42" y="1500"/>
                  </a:lnTo>
                  <a:lnTo>
                    <a:pt x="44" y="1424"/>
                  </a:lnTo>
                  <a:lnTo>
                    <a:pt x="50" y="1351"/>
                  </a:lnTo>
                  <a:lnTo>
                    <a:pt x="58" y="1277"/>
                  </a:lnTo>
                  <a:lnTo>
                    <a:pt x="71" y="1206"/>
                  </a:lnTo>
                  <a:lnTo>
                    <a:pt x="87" y="1135"/>
                  </a:lnTo>
                  <a:lnTo>
                    <a:pt x="107" y="1066"/>
                  </a:lnTo>
                  <a:lnTo>
                    <a:pt x="131" y="999"/>
                  </a:lnTo>
                  <a:lnTo>
                    <a:pt x="157" y="932"/>
                  </a:lnTo>
                  <a:lnTo>
                    <a:pt x="186" y="868"/>
                  </a:lnTo>
                  <a:lnTo>
                    <a:pt x="218" y="804"/>
                  </a:lnTo>
                  <a:lnTo>
                    <a:pt x="253" y="744"/>
                  </a:lnTo>
                  <a:lnTo>
                    <a:pt x="291" y="684"/>
                  </a:lnTo>
                  <a:lnTo>
                    <a:pt x="332" y="627"/>
                  </a:lnTo>
                  <a:lnTo>
                    <a:pt x="375" y="572"/>
                  </a:lnTo>
                  <a:lnTo>
                    <a:pt x="420" y="519"/>
                  </a:lnTo>
                  <a:lnTo>
                    <a:pt x="469" y="468"/>
                  </a:lnTo>
                  <a:lnTo>
                    <a:pt x="520" y="421"/>
                  </a:lnTo>
                  <a:lnTo>
                    <a:pt x="573" y="374"/>
                  </a:lnTo>
                  <a:lnTo>
                    <a:pt x="628" y="331"/>
                  </a:lnTo>
                  <a:lnTo>
                    <a:pt x="685" y="291"/>
                  </a:lnTo>
                  <a:lnTo>
                    <a:pt x="744" y="252"/>
                  </a:lnTo>
                  <a:lnTo>
                    <a:pt x="805" y="218"/>
                  </a:lnTo>
                  <a:lnTo>
                    <a:pt x="868" y="185"/>
                  </a:lnTo>
                  <a:lnTo>
                    <a:pt x="932" y="156"/>
                  </a:lnTo>
                  <a:lnTo>
                    <a:pt x="998" y="130"/>
                  </a:lnTo>
                  <a:lnTo>
                    <a:pt x="1066" y="108"/>
                  </a:lnTo>
                  <a:lnTo>
                    <a:pt x="1136" y="88"/>
                  </a:lnTo>
                  <a:lnTo>
                    <a:pt x="1206" y="71"/>
                  </a:lnTo>
                  <a:lnTo>
                    <a:pt x="1278" y="59"/>
                  </a:lnTo>
                  <a:lnTo>
                    <a:pt x="1351" y="49"/>
                  </a:lnTo>
                  <a:lnTo>
                    <a:pt x="1425" y="44"/>
                  </a:lnTo>
                  <a:lnTo>
                    <a:pt x="1500" y="42"/>
                  </a:lnTo>
                  <a:lnTo>
                    <a:pt x="1575" y="44"/>
                  </a:lnTo>
                  <a:lnTo>
                    <a:pt x="1649" y="49"/>
                  </a:lnTo>
                  <a:lnTo>
                    <a:pt x="1722" y="59"/>
                  </a:lnTo>
                  <a:lnTo>
                    <a:pt x="1794" y="71"/>
                  </a:lnTo>
                  <a:lnTo>
                    <a:pt x="1865" y="88"/>
                  </a:lnTo>
                  <a:lnTo>
                    <a:pt x="1934" y="108"/>
                  </a:lnTo>
                  <a:lnTo>
                    <a:pt x="2002" y="130"/>
                  </a:lnTo>
                  <a:lnTo>
                    <a:pt x="2068" y="156"/>
                  </a:lnTo>
                  <a:lnTo>
                    <a:pt x="2133" y="185"/>
                  </a:lnTo>
                  <a:lnTo>
                    <a:pt x="2196" y="218"/>
                  </a:lnTo>
                  <a:lnTo>
                    <a:pt x="2256" y="252"/>
                  </a:lnTo>
                  <a:lnTo>
                    <a:pt x="2315" y="291"/>
                  </a:lnTo>
                  <a:lnTo>
                    <a:pt x="2373" y="331"/>
                  </a:lnTo>
                  <a:lnTo>
                    <a:pt x="2428" y="374"/>
                  </a:lnTo>
                  <a:lnTo>
                    <a:pt x="2481" y="421"/>
                  </a:lnTo>
                  <a:lnTo>
                    <a:pt x="2532" y="468"/>
                  </a:lnTo>
                  <a:lnTo>
                    <a:pt x="2580" y="519"/>
                  </a:lnTo>
                  <a:lnTo>
                    <a:pt x="2626" y="572"/>
                  </a:lnTo>
                  <a:lnTo>
                    <a:pt x="2669" y="627"/>
                  </a:lnTo>
                  <a:lnTo>
                    <a:pt x="2710" y="684"/>
                  </a:lnTo>
                  <a:lnTo>
                    <a:pt x="2748" y="744"/>
                  </a:lnTo>
                  <a:lnTo>
                    <a:pt x="2782" y="804"/>
                  </a:lnTo>
                  <a:lnTo>
                    <a:pt x="2815" y="868"/>
                  </a:lnTo>
                  <a:lnTo>
                    <a:pt x="2844" y="932"/>
                  </a:lnTo>
                  <a:lnTo>
                    <a:pt x="2870" y="999"/>
                  </a:lnTo>
                  <a:lnTo>
                    <a:pt x="2892" y="1066"/>
                  </a:lnTo>
                  <a:lnTo>
                    <a:pt x="2913" y="1135"/>
                  </a:lnTo>
                  <a:lnTo>
                    <a:pt x="2929" y="1206"/>
                  </a:lnTo>
                  <a:lnTo>
                    <a:pt x="2942" y="1277"/>
                  </a:lnTo>
                  <a:lnTo>
                    <a:pt x="2951" y="1351"/>
                  </a:lnTo>
                  <a:lnTo>
                    <a:pt x="2956" y="1424"/>
                  </a:lnTo>
                  <a:lnTo>
                    <a:pt x="2958" y="1500"/>
                  </a:lnTo>
                  <a:lnTo>
                    <a:pt x="2957" y="1548"/>
                  </a:lnTo>
                  <a:lnTo>
                    <a:pt x="2955" y="1597"/>
                  </a:lnTo>
                  <a:lnTo>
                    <a:pt x="2951" y="1645"/>
                  </a:lnTo>
                  <a:lnTo>
                    <a:pt x="2945" y="1693"/>
                  </a:lnTo>
                  <a:lnTo>
                    <a:pt x="2939" y="1739"/>
                  </a:lnTo>
                  <a:lnTo>
                    <a:pt x="2930" y="1787"/>
                  </a:lnTo>
                  <a:lnTo>
                    <a:pt x="2921" y="1832"/>
                  </a:lnTo>
                  <a:lnTo>
                    <a:pt x="2909" y="1879"/>
                  </a:lnTo>
                  <a:lnTo>
                    <a:pt x="2949" y="1890"/>
                  </a:lnTo>
                  <a:lnTo>
                    <a:pt x="2961" y="1842"/>
                  </a:lnTo>
                  <a:lnTo>
                    <a:pt x="2971" y="1795"/>
                  </a:lnTo>
                  <a:lnTo>
                    <a:pt x="2980" y="1747"/>
                  </a:lnTo>
                  <a:lnTo>
                    <a:pt x="2988" y="1698"/>
                  </a:lnTo>
                  <a:lnTo>
                    <a:pt x="2993" y="1649"/>
                  </a:lnTo>
                  <a:lnTo>
                    <a:pt x="2997" y="1600"/>
                  </a:lnTo>
                  <a:lnTo>
                    <a:pt x="2999" y="1549"/>
                  </a:lnTo>
                  <a:lnTo>
                    <a:pt x="3001" y="1500"/>
                  </a:lnTo>
                  <a:close/>
                </a:path>
              </a:pathLst>
            </a:custGeom>
            <a:solidFill>
              <a:srgbClr val="ead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987720" y="2411280"/>
              <a:ext cx="1173240" cy="1173240"/>
            </a:xfrm>
            <a:custGeom>
              <a:avLst/>
              <a:gdLst/>
              <a:ahLst/>
              <a:rect l="l" t="t" r="r" b="b"/>
              <a:pathLst>
                <a:path w="2958" h="2957">
                  <a:moveTo>
                    <a:pt x="2958" y="1479"/>
                  </a:moveTo>
                  <a:lnTo>
                    <a:pt x="2957" y="1402"/>
                  </a:lnTo>
                  <a:lnTo>
                    <a:pt x="2950" y="1327"/>
                  </a:lnTo>
                  <a:lnTo>
                    <a:pt x="2942" y="1253"/>
                  </a:lnTo>
                  <a:lnTo>
                    <a:pt x="2929" y="1181"/>
                  </a:lnTo>
                  <a:lnTo>
                    <a:pt x="2911" y="1109"/>
                  </a:lnTo>
                  <a:lnTo>
                    <a:pt x="2892" y="1039"/>
                  </a:lnTo>
                  <a:lnTo>
                    <a:pt x="2868" y="970"/>
                  </a:lnTo>
                  <a:lnTo>
                    <a:pt x="2842" y="903"/>
                  </a:lnTo>
                  <a:lnTo>
                    <a:pt x="2812" y="837"/>
                  </a:lnTo>
                  <a:lnTo>
                    <a:pt x="2780" y="773"/>
                  </a:lnTo>
                  <a:lnTo>
                    <a:pt x="2744" y="712"/>
                  </a:lnTo>
                  <a:lnTo>
                    <a:pt x="2706" y="651"/>
                  </a:lnTo>
                  <a:lnTo>
                    <a:pt x="2664" y="594"/>
                  </a:lnTo>
                  <a:lnTo>
                    <a:pt x="2621" y="538"/>
                  </a:lnTo>
                  <a:lnTo>
                    <a:pt x="2574" y="484"/>
                  </a:lnTo>
                  <a:lnTo>
                    <a:pt x="2525" y="433"/>
                  </a:lnTo>
                  <a:lnTo>
                    <a:pt x="2474" y="384"/>
                  </a:lnTo>
                  <a:lnTo>
                    <a:pt x="2420" y="337"/>
                  </a:lnTo>
                  <a:lnTo>
                    <a:pt x="2365" y="294"/>
                  </a:lnTo>
                  <a:lnTo>
                    <a:pt x="2306" y="253"/>
                  </a:lnTo>
                  <a:lnTo>
                    <a:pt x="2246" y="214"/>
                  </a:lnTo>
                  <a:lnTo>
                    <a:pt x="2184" y="178"/>
                  </a:lnTo>
                  <a:lnTo>
                    <a:pt x="2120" y="146"/>
                  </a:lnTo>
                  <a:lnTo>
                    <a:pt x="2055" y="116"/>
                  </a:lnTo>
                  <a:lnTo>
                    <a:pt x="1988" y="90"/>
                  </a:lnTo>
                  <a:lnTo>
                    <a:pt x="1920" y="66"/>
                  </a:lnTo>
                  <a:lnTo>
                    <a:pt x="1849" y="47"/>
                  </a:lnTo>
                  <a:lnTo>
                    <a:pt x="1777" y="30"/>
                  </a:lnTo>
                  <a:lnTo>
                    <a:pt x="1704" y="17"/>
                  </a:lnTo>
                  <a:lnTo>
                    <a:pt x="1630" y="8"/>
                  </a:lnTo>
                  <a:lnTo>
                    <a:pt x="1555" y="2"/>
                  </a:lnTo>
                  <a:lnTo>
                    <a:pt x="1479" y="0"/>
                  </a:lnTo>
                  <a:lnTo>
                    <a:pt x="1403" y="2"/>
                  </a:lnTo>
                  <a:lnTo>
                    <a:pt x="1328" y="8"/>
                  </a:lnTo>
                  <a:lnTo>
                    <a:pt x="1254" y="17"/>
                  </a:lnTo>
                  <a:lnTo>
                    <a:pt x="1181" y="30"/>
                  </a:lnTo>
                  <a:lnTo>
                    <a:pt x="1109" y="47"/>
                  </a:lnTo>
                  <a:lnTo>
                    <a:pt x="1039" y="66"/>
                  </a:lnTo>
                  <a:lnTo>
                    <a:pt x="971" y="90"/>
                  </a:lnTo>
                  <a:lnTo>
                    <a:pt x="904" y="116"/>
                  </a:lnTo>
                  <a:lnTo>
                    <a:pt x="838" y="146"/>
                  </a:lnTo>
                  <a:lnTo>
                    <a:pt x="774" y="178"/>
                  </a:lnTo>
                  <a:lnTo>
                    <a:pt x="713" y="214"/>
                  </a:lnTo>
                  <a:lnTo>
                    <a:pt x="652" y="253"/>
                  </a:lnTo>
                  <a:lnTo>
                    <a:pt x="594" y="294"/>
                  </a:lnTo>
                  <a:lnTo>
                    <a:pt x="539" y="337"/>
                  </a:lnTo>
                  <a:lnTo>
                    <a:pt x="485" y="384"/>
                  </a:lnTo>
                  <a:lnTo>
                    <a:pt x="433" y="433"/>
                  </a:lnTo>
                  <a:lnTo>
                    <a:pt x="384" y="484"/>
                  </a:lnTo>
                  <a:lnTo>
                    <a:pt x="338" y="538"/>
                  </a:lnTo>
                  <a:lnTo>
                    <a:pt x="293" y="594"/>
                  </a:lnTo>
                  <a:lnTo>
                    <a:pt x="252" y="651"/>
                  </a:lnTo>
                  <a:lnTo>
                    <a:pt x="214" y="712"/>
                  </a:lnTo>
                  <a:lnTo>
                    <a:pt x="179" y="773"/>
                  </a:lnTo>
                  <a:lnTo>
                    <a:pt x="145" y="837"/>
                  </a:lnTo>
                  <a:lnTo>
                    <a:pt x="116" y="903"/>
                  </a:lnTo>
                  <a:lnTo>
                    <a:pt x="90" y="970"/>
                  </a:lnTo>
                  <a:lnTo>
                    <a:pt x="66" y="1039"/>
                  </a:lnTo>
                  <a:lnTo>
                    <a:pt x="47" y="1109"/>
                  </a:lnTo>
                  <a:lnTo>
                    <a:pt x="30" y="1181"/>
                  </a:lnTo>
                  <a:lnTo>
                    <a:pt x="17" y="1253"/>
                  </a:lnTo>
                  <a:lnTo>
                    <a:pt x="8" y="1327"/>
                  </a:lnTo>
                  <a:lnTo>
                    <a:pt x="2" y="1402"/>
                  </a:lnTo>
                  <a:lnTo>
                    <a:pt x="0" y="1479"/>
                  </a:lnTo>
                  <a:lnTo>
                    <a:pt x="2" y="1554"/>
                  </a:lnTo>
                  <a:lnTo>
                    <a:pt x="8" y="1630"/>
                  </a:lnTo>
                  <a:lnTo>
                    <a:pt x="17" y="1703"/>
                  </a:lnTo>
                  <a:lnTo>
                    <a:pt x="30" y="1777"/>
                  </a:lnTo>
                  <a:lnTo>
                    <a:pt x="47" y="1848"/>
                  </a:lnTo>
                  <a:lnTo>
                    <a:pt x="66" y="1918"/>
                  </a:lnTo>
                  <a:lnTo>
                    <a:pt x="90" y="1986"/>
                  </a:lnTo>
                  <a:lnTo>
                    <a:pt x="116" y="2054"/>
                  </a:lnTo>
                  <a:lnTo>
                    <a:pt x="145" y="2119"/>
                  </a:lnTo>
                  <a:lnTo>
                    <a:pt x="179" y="2183"/>
                  </a:lnTo>
                  <a:lnTo>
                    <a:pt x="214" y="2245"/>
                  </a:lnTo>
                  <a:lnTo>
                    <a:pt x="252" y="2305"/>
                  </a:lnTo>
                  <a:lnTo>
                    <a:pt x="293" y="2363"/>
                  </a:lnTo>
                  <a:lnTo>
                    <a:pt x="338" y="2419"/>
                  </a:lnTo>
                  <a:lnTo>
                    <a:pt x="384" y="2472"/>
                  </a:lnTo>
                  <a:lnTo>
                    <a:pt x="433" y="2524"/>
                  </a:lnTo>
                  <a:lnTo>
                    <a:pt x="485" y="2573"/>
                  </a:lnTo>
                  <a:lnTo>
                    <a:pt x="539" y="2619"/>
                  </a:lnTo>
                  <a:lnTo>
                    <a:pt x="594" y="2663"/>
                  </a:lnTo>
                  <a:lnTo>
                    <a:pt x="652" y="2704"/>
                  </a:lnTo>
                  <a:lnTo>
                    <a:pt x="713" y="2743"/>
                  </a:lnTo>
                  <a:lnTo>
                    <a:pt x="774" y="2779"/>
                  </a:lnTo>
                  <a:lnTo>
                    <a:pt x="838" y="2811"/>
                  </a:lnTo>
                  <a:lnTo>
                    <a:pt x="904" y="2841"/>
                  </a:lnTo>
                  <a:lnTo>
                    <a:pt x="971" y="2868"/>
                  </a:lnTo>
                  <a:lnTo>
                    <a:pt x="1039" y="2890"/>
                  </a:lnTo>
                  <a:lnTo>
                    <a:pt x="1109" y="2911"/>
                  </a:lnTo>
                  <a:lnTo>
                    <a:pt x="1181" y="2927"/>
                  </a:lnTo>
                  <a:lnTo>
                    <a:pt x="1254" y="2940"/>
                  </a:lnTo>
                  <a:lnTo>
                    <a:pt x="1328" y="2950"/>
                  </a:lnTo>
                  <a:lnTo>
                    <a:pt x="1403" y="2955"/>
                  </a:lnTo>
                  <a:lnTo>
                    <a:pt x="1479" y="2957"/>
                  </a:lnTo>
                  <a:lnTo>
                    <a:pt x="1523" y="2956"/>
                  </a:lnTo>
                  <a:lnTo>
                    <a:pt x="1566" y="2954"/>
                  </a:lnTo>
                  <a:lnTo>
                    <a:pt x="1608" y="2952"/>
                  </a:lnTo>
                  <a:lnTo>
                    <a:pt x="1652" y="2947"/>
                  </a:lnTo>
                  <a:lnTo>
                    <a:pt x="1694" y="2942"/>
                  </a:lnTo>
                  <a:lnTo>
                    <a:pt x="1735" y="2935"/>
                  </a:lnTo>
                  <a:lnTo>
                    <a:pt x="1776" y="2927"/>
                  </a:lnTo>
                  <a:lnTo>
                    <a:pt x="1817" y="2918"/>
                  </a:lnTo>
                  <a:lnTo>
                    <a:pt x="1858" y="2909"/>
                  </a:lnTo>
                  <a:lnTo>
                    <a:pt x="1898" y="2897"/>
                  </a:lnTo>
                  <a:lnTo>
                    <a:pt x="1938" y="2885"/>
                  </a:lnTo>
                  <a:lnTo>
                    <a:pt x="1977" y="2871"/>
                  </a:lnTo>
                  <a:lnTo>
                    <a:pt x="2015" y="2857"/>
                  </a:lnTo>
                  <a:lnTo>
                    <a:pt x="2053" y="2842"/>
                  </a:lnTo>
                  <a:lnTo>
                    <a:pt x="2090" y="2825"/>
                  </a:lnTo>
                  <a:lnTo>
                    <a:pt x="2128" y="2807"/>
                  </a:lnTo>
                  <a:lnTo>
                    <a:pt x="2110" y="2770"/>
                  </a:lnTo>
                  <a:lnTo>
                    <a:pt x="2073" y="2787"/>
                  </a:lnTo>
                  <a:lnTo>
                    <a:pt x="2037" y="2803"/>
                  </a:lnTo>
                  <a:lnTo>
                    <a:pt x="1999" y="2818"/>
                  </a:lnTo>
                  <a:lnTo>
                    <a:pt x="1963" y="2832"/>
                  </a:lnTo>
                  <a:lnTo>
                    <a:pt x="1925" y="2845"/>
                  </a:lnTo>
                  <a:lnTo>
                    <a:pt x="1886" y="2857"/>
                  </a:lnTo>
                  <a:lnTo>
                    <a:pt x="1847" y="2868"/>
                  </a:lnTo>
                  <a:lnTo>
                    <a:pt x="1808" y="2877"/>
                  </a:lnTo>
                  <a:lnTo>
                    <a:pt x="1768" y="2886"/>
                  </a:lnTo>
                  <a:lnTo>
                    <a:pt x="1728" y="2893"/>
                  </a:lnTo>
                  <a:lnTo>
                    <a:pt x="1687" y="2900"/>
                  </a:lnTo>
                  <a:lnTo>
                    <a:pt x="1646" y="2905"/>
                  </a:lnTo>
                  <a:lnTo>
                    <a:pt x="1605" y="2910"/>
                  </a:lnTo>
                  <a:lnTo>
                    <a:pt x="1563" y="2913"/>
                  </a:lnTo>
                  <a:lnTo>
                    <a:pt x="1522" y="2915"/>
                  </a:lnTo>
                  <a:lnTo>
                    <a:pt x="1479" y="2915"/>
                  </a:lnTo>
                  <a:lnTo>
                    <a:pt x="1405" y="2913"/>
                  </a:lnTo>
                  <a:lnTo>
                    <a:pt x="1332" y="2908"/>
                  </a:lnTo>
                  <a:lnTo>
                    <a:pt x="1260" y="2899"/>
                  </a:lnTo>
                  <a:lnTo>
                    <a:pt x="1189" y="2886"/>
                  </a:lnTo>
                  <a:lnTo>
                    <a:pt x="1120" y="2870"/>
                  </a:lnTo>
                  <a:lnTo>
                    <a:pt x="1052" y="2850"/>
                  </a:lnTo>
                  <a:lnTo>
                    <a:pt x="985" y="2828"/>
                  </a:lnTo>
                  <a:lnTo>
                    <a:pt x="920" y="2803"/>
                  </a:lnTo>
                  <a:lnTo>
                    <a:pt x="856" y="2774"/>
                  </a:lnTo>
                  <a:lnTo>
                    <a:pt x="794" y="2742"/>
                  </a:lnTo>
                  <a:lnTo>
                    <a:pt x="734" y="2708"/>
                  </a:lnTo>
                  <a:lnTo>
                    <a:pt x="676" y="2670"/>
                  </a:lnTo>
                  <a:lnTo>
                    <a:pt x="619" y="2630"/>
                  </a:lnTo>
                  <a:lnTo>
                    <a:pt x="565" y="2587"/>
                  </a:lnTo>
                  <a:lnTo>
                    <a:pt x="513" y="2542"/>
                  </a:lnTo>
                  <a:lnTo>
                    <a:pt x="463" y="2495"/>
                  </a:lnTo>
                  <a:lnTo>
                    <a:pt x="415" y="2444"/>
                  </a:lnTo>
                  <a:lnTo>
                    <a:pt x="370" y="2392"/>
                  </a:lnTo>
                  <a:lnTo>
                    <a:pt x="327" y="2338"/>
                  </a:lnTo>
                  <a:lnTo>
                    <a:pt x="287" y="2282"/>
                  </a:lnTo>
                  <a:lnTo>
                    <a:pt x="250" y="2224"/>
                  </a:lnTo>
                  <a:lnTo>
                    <a:pt x="215" y="2163"/>
                  </a:lnTo>
                  <a:lnTo>
                    <a:pt x="183" y="2102"/>
                  </a:lnTo>
                  <a:lnTo>
                    <a:pt x="155" y="2038"/>
                  </a:lnTo>
                  <a:lnTo>
                    <a:pt x="129" y="1972"/>
                  </a:lnTo>
                  <a:lnTo>
                    <a:pt x="106" y="1905"/>
                  </a:lnTo>
                  <a:lnTo>
                    <a:pt x="87" y="1837"/>
                  </a:lnTo>
                  <a:lnTo>
                    <a:pt x="71" y="1768"/>
                  </a:lnTo>
                  <a:lnTo>
                    <a:pt x="58" y="1697"/>
                  </a:lnTo>
                  <a:lnTo>
                    <a:pt x="49" y="1626"/>
                  </a:lnTo>
                  <a:lnTo>
                    <a:pt x="44" y="1552"/>
                  </a:lnTo>
                  <a:lnTo>
                    <a:pt x="42" y="1479"/>
                  </a:lnTo>
                  <a:lnTo>
                    <a:pt x="44" y="1404"/>
                  </a:lnTo>
                  <a:lnTo>
                    <a:pt x="49" y="1332"/>
                  </a:lnTo>
                  <a:lnTo>
                    <a:pt x="58" y="1259"/>
                  </a:lnTo>
                  <a:lnTo>
                    <a:pt x="71" y="1189"/>
                  </a:lnTo>
                  <a:lnTo>
                    <a:pt x="87" y="1119"/>
                  </a:lnTo>
                  <a:lnTo>
                    <a:pt x="106" y="1051"/>
                  </a:lnTo>
                  <a:lnTo>
                    <a:pt x="129" y="984"/>
                  </a:lnTo>
                  <a:lnTo>
                    <a:pt x="155" y="919"/>
                  </a:lnTo>
                  <a:lnTo>
                    <a:pt x="183" y="856"/>
                  </a:lnTo>
                  <a:lnTo>
                    <a:pt x="215" y="794"/>
                  </a:lnTo>
                  <a:lnTo>
                    <a:pt x="250" y="733"/>
                  </a:lnTo>
                  <a:lnTo>
                    <a:pt x="287" y="675"/>
                  </a:lnTo>
                  <a:lnTo>
                    <a:pt x="327" y="619"/>
                  </a:lnTo>
                  <a:lnTo>
                    <a:pt x="370" y="564"/>
                  </a:lnTo>
                  <a:lnTo>
                    <a:pt x="415" y="512"/>
                  </a:lnTo>
                  <a:lnTo>
                    <a:pt x="463" y="462"/>
                  </a:lnTo>
                  <a:lnTo>
                    <a:pt x="513" y="415"/>
                  </a:lnTo>
                  <a:lnTo>
                    <a:pt x="565" y="370"/>
                  </a:lnTo>
                  <a:lnTo>
                    <a:pt x="619" y="327"/>
                  </a:lnTo>
                  <a:lnTo>
                    <a:pt x="676" y="287"/>
                  </a:lnTo>
                  <a:lnTo>
                    <a:pt x="734" y="250"/>
                  </a:lnTo>
                  <a:lnTo>
                    <a:pt x="794" y="215"/>
                  </a:lnTo>
                  <a:lnTo>
                    <a:pt x="856" y="184"/>
                  </a:lnTo>
                  <a:lnTo>
                    <a:pt x="920" y="155"/>
                  </a:lnTo>
                  <a:lnTo>
                    <a:pt x="985" y="129"/>
                  </a:lnTo>
                  <a:lnTo>
                    <a:pt x="1052" y="106"/>
                  </a:lnTo>
                  <a:lnTo>
                    <a:pt x="1120" y="87"/>
                  </a:lnTo>
                  <a:lnTo>
                    <a:pt x="1189" y="70"/>
                  </a:lnTo>
                  <a:lnTo>
                    <a:pt x="1260" y="58"/>
                  </a:lnTo>
                  <a:lnTo>
                    <a:pt x="1332" y="49"/>
                  </a:lnTo>
                  <a:lnTo>
                    <a:pt x="1405" y="43"/>
                  </a:lnTo>
                  <a:lnTo>
                    <a:pt x="1479" y="41"/>
                  </a:lnTo>
                  <a:lnTo>
                    <a:pt x="1553" y="43"/>
                  </a:lnTo>
                  <a:lnTo>
                    <a:pt x="1626" y="49"/>
                  </a:lnTo>
                  <a:lnTo>
                    <a:pt x="1698" y="58"/>
                  </a:lnTo>
                  <a:lnTo>
                    <a:pt x="1769" y="70"/>
                  </a:lnTo>
                  <a:lnTo>
                    <a:pt x="1838" y="87"/>
                  </a:lnTo>
                  <a:lnTo>
                    <a:pt x="1907" y="106"/>
                  </a:lnTo>
                  <a:lnTo>
                    <a:pt x="1974" y="129"/>
                  </a:lnTo>
                  <a:lnTo>
                    <a:pt x="2038" y="155"/>
                  </a:lnTo>
                  <a:lnTo>
                    <a:pt x="2102" y="184"/>
                  </a:lnTo>
                  <a:lnTo>
                    <a:pt x="2165" y="215"/>
                  </a:lnTo>
                  <a:lnTo>
                    <a:pt x="2224" y="250"/>
                  </a:lnTo>
                  <a:lnTo>
                    <a:pt x="2283" y="287"/>
                  </a:lnTo>
                  <a:lnTo>
                    <a:pt x="2339" y="327"/>
                  </a:lnTo>
                  <a:lnTo>
                    <a:pt x="2394" y="370"/>
                  </a:lnTo>
                  <a:lnTo>
                    <a:pt x="2446" y="415"/>
                  </a:lnTo>
                  <a:lnTo>
                    <a:pt x="2495" y="462"/>
                  </a:lnTo>
                  <a:lnTo>
                    <a:pt x="2543" y="512"/>
                  </a:lnTo>
                  <a:lnTo>
                    <a:pt x="2588" y="564"/>
                  </a:lnTo>
                  <a:lnTo>
                    <a:pt x="2632" y="619"/>
                  </a:lnTo>
                  <a:lnTo>
                    <a:pt x="2672" y="675"/>
                  </a:lnTo>
                  <a:lnTo>
                    <a:pt x="2708" y="733"/>
                  </a:lnTo>
                  <a:lnTo>
                    <a:pt x="2743" y="794"/>
                  </a:lnTo>
                  <a:lnTo>
                    <a:pt x="2775" y="856"/>
                  </a:lnTo>
                  <a:lnTo>
                    <a:pt x="2803" y="919"/>
                  </a:lnTo>
                  <a:lnTo>
                    <a:pt x="2829" y="984"/>
                  </a:lnTo>
                  <a:lnTo>
                    <a:pt x="2852" y="1051"/>
                  </a:lnTo>
                  <a:lnTo>
                    <a:pt x="2871" y="1119"/>
                  </a:lnTo>
                  <a:lnTo>
                    <a:pt x="2888" y="1189"/>
                  </a:lnTo>
                  <a:lnTo>
                    <a:pt x="2901" y="1259"/>
                  </a:lnTo>
                  <a:lnTo>
                    <a:pt x="2909" y="1332"/>
                  </a:lnTo>
                  <a:lnTo>
                    <a:pt x="2915" y="1404"/>
                  </a:lnTo>
                  <a:lnTo>
                    <a:pt x="2917" y="1479"/>
                  </a:lnTo>
                  <a:lnTo>
                    <a:pt x="2916" y="1526"/>
                  </a:lnTo>
                  <a:lnTo>
                    <a:pt x="2914" y="1575"/>
                  </a:lnTo>
                  <a:lnTo>
                    <a:pt x="2909" y="1622"/>
                  </a:lnTo>
                  <a:lnTo>
                    <a:pt x="2904" y="1669"/>
                  </a:lnTo>
                  <a:lnTo>
                    <a:pt x="2897" y="1715"/>
                  </a:lnTo>
                  <a:lnTo>
                    <a:pt x="2889" y="1762"/>
                  </a:lnTo>
                  <a:lnTo>
                    <a:pt x="2879" y="1807"/>
                  </a:lnTo>
                  <a:lnTo>
                    <a:pt x="2867" y="1852"/>
                  </a:lnTo>
                  <a:lnTo>
                    <a:pt x="2908" y="1863"/>
                  </a:lnTo>
                  <a:lnTo>
                    <a:pt x="2919" y="1817"/>
                  </a:lnTo>
                  <a:lnTo>
                    <a:pt x="2930" y="1769"/>
                  </a:lnTo>
                  <a:lnTo>
                    <a:pt x="2938" y="1723"/>
                  </a:lnTo>
                  <a:lnTo>
                    <a:pt x="2945" y="1674"/>
                  </a:lnTo>
                  <a:lnTo>
                    <a:pt x="2951" y="1627"/>
                  </a:lnTo>
                  <a:lnTo>
                    <a:pt x="2955" y="1577"/>
                  </a:lnTo>
                  <a:lnTo>
                    <a:pt x="2958" y="1528"/>
                  </a:lnTo>
                  <a:lnTo>
                    <a:pt x="2958" y="1479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995640" y="2419200"/>
              <a:ext cx="1157400" cy="1155960"/>
            </a:xfrm>
            <a:custGeom>
              <a:avLst/>
              <a:gdLst/>
              <a:ahLst/>
              <a:rect l="l" t="t" r="r" b="b"/>
              <a:pathLst>
                <a:path w="2916" h="2915">
                  <a:moveTo>
                    <a:pt x="2916" y="1458"/>
                  </a:moveTo>
                  <a:lnTo>
                    <a:pt x="2914" y="1382"/>
                  </a:lnTo>
                  <a:lnTo>
                    <a:pt x="2909" y="1309"/>
                  </a:lnTo>
                  <a:lnTo>
                    <a:pt x="2900" y="1235"/>
                  </a:lnTo>
                  <a:lnTo>
                    <a:pt x="2887" y="1164"/>
                  </a:lnTo>
                  <a:lnTo>
                    <a:pt x="2871" y="1093"/>
                  </a:lnTo>
                  <a:lnTo>
                    <a:pt x="2850" y="1024"/>
                  </a:lnTo>
                  <a:lnTo>
                    <a:pt x="2828" y="957"/>
                  </a:lnTo>
                  <a:lnTo>
                    <a:pt x="2802" y="890"/>
                  </a:lnTo>
                  <a:lnTo>
                    <a:pt x="2773" y="826"/>
                  </a:lnTo>
                  <a:lnTo>
                    <a:pt x="2740" y="762"/>
                  </a:lnTo>
                  <a:lnTo>
                    <a:pt x="2706" y="702"/>
                  </a:lnTo>
                  <a:lnTo>
                    <a:pt x="2668" y="642"/>
                  </a:lnTo>
                  <a:lnTo>
                    <a:pt x="2627" y="585"/>
                  </a:lnTo>
                  <a:lnTo>
                    <a:pt x="2584" y="530"/>
                  </a:lnTo>
                  <a:lnTo>
                    <a:pt x="2538" y="477"/>
                  </a:lnTo>
                  <a:lnTo>
                    <a:pt x="2490" y="426"/>
                  </a:lnTo>
                  <a:lnTo>
                    <a:pt x="2439" y="379"/>
                  </a:lnTo>
                  <a:lnTo>
                    <a:pt x="2386" y="332"/>
                  </a:lnTo>
                  <a:lnTo>
                    <a:pt x="2331" y="289"/>
                  </a:lnTo>
                  <a:lnTo>
                    <a:pt x="2273" y="249"/>
                  </a:lnTo>
                  <a:lnTo>
                    <a:pt x="2214" y="210"/>
                  </a:lnTo>
                  <a:lnTo>
                    <a:pt x="2154" y="176"/>
                  </a:lnTo>
                  <a:lnTo>
                    <a:pt x="2091" y="143"/>
                  </a:lnTo>
                  <a:lnTo>
                    <a:pt x="2026" y="114"/>
                  </a:lnTo>
                  <a:lnTo>
                    <a:pt x="1960" y="88"/>
                  </a:lnTo>
                  <a:lnTo>
                    <a:pt x="1892" y="66"/>
                  </a:lnTo>
                  <a:lnTo>
                    <a:pt x="1823" y="46"/>
                  </a:lnTo>
                  <a:lnTo>
                    <a:pt x="1752" y="29"/>
                  </a:lnTo>
                  <a:lnTo>
                    <a:pt x="1680" y="17"/>
                  </a:lnTo>
                  <a:lnTo>
                    <a:pt x="1607" y="7"/>
                  </a:lnTo>
                  <a:lnTo>
                    <a:pt x="1533" y="2"/>
                  </a:lnTo>
                  <a:lnTo>
                    <a:pt x="1458" y="0"/>
                  </a:lnTo>
                  <a:lnTo>
                    <a:pt x="1383" y="2"/>
                  </a:lnTo>
                  <a:lnTo>
                    <a:pt x="1309" y="7"/>
                  </a:lnTo>
                  <a:lnTo>
                    <a:pt x="1236" y="17"/>
                  </a:lnTo>
                  <a:lnTo>
                    <a:pt x="1164" y="29"/>
                  </a:lnTo>
                  <a:lnTo>
                    <a:pt x="1094" y="46"/>
                  </a:lnTo>
                  <a:lnTo>
                    <a:pt x="1024" y="66"/>
                  </a:lnTo>
                  <a:lnTo>
                    <a:pt x="956" y="88"/>
                  </a:lnTo>
                  <a:lnTo>
                    <a:pt x="890" y="114"/>
                  </a:lnTo>
                  <a:lnTo>
                    <a:pt x="826" y="143"/>
                  </a:lnTo>
                  <a:lnTo>
                    <a:pt x="763" y="176"/>
                  </a:lnTo>
                  <a:lnTo>
                    <a:pt x="702" y="210"/>
                  </a:lnTo>
                  <a:lnTo>
                    <a:pt x="643" y="249"/>
                  </a:lnTo>
                  <a:lnTo>
                    <a:pt x="586" y="289"/>
                  </a:lnTo>
                  <a:lnTo>
                    <a:pt x="531" y="332"/>
                  </a:lnTo>
                  <a:lnTo>
                    <a:pt x="478" y="379"/>
                  </a:lnTo>
                  <a:lnTo>
                    <a:pt x="427" y="426"/>
                  </a:lnTo>
                  <a:lnTo>
                    <a:pt x="378" y="477"/>
                  </a:lnTo>
                  <a:lnTo>
                    <a:pt x="333" y="530"/>
                  </a:lnTo>
                  <a:lnTo>
                    <a:pt x="290" y="585"/>
                  </a:lnTo>
                  <a:lnTo>
                    <a:pt x="249" y="642"/>
                  </a:lnTo>
                  <a:lnTo>
                    <a:pt x="211" y="702"/>
                  </a:lnTo>
                  <a:lnTo>
                    <a:pt x="176" y="762"/>
                  </a:lnTo>
                  <a:lnTo>
                    <a:pt x="144" y="826"/>
                  </a:lnTo>
                  <a:lnTo>
                    <a:pt x="115" y="890"/>
                  </a:lnTo>
                  <a:lnTo>
                    <a:pt x="89" y="957"/>
                  </a:lnTo>
                  <a:lnTo>
                    <a:pt x="65" y="1024"/>
                  </a:lnTo>
                  <a:lnTo>
                    <a:pt x="45" y="1093"/>
                  </a:lnTo>
                  <a:lnTo>
                    <a:pt x="29" y="1164"/>
                  </a:lnTo>
                  <a:lnTo>
                    <a:pt x="16" y="1235"/>
                  </a:lnTo>
                  <a:lnTo>
                    <a:pt x="8" y="1309"/>
                  </a:lnTo>
                  <a:lnTo>
                    <a:pt x="2" y="1382"/>
                  </a:lnTo>
                  <a:lnTo>
                    <a:pt x="0" y="1458"/>
                  </a:lnTo>
                  <a:lnTo>
                    <a:pt x="2" y="1532"/>
                  </a:lnTo>
                  <a:lnTo>
                    <a:pt x="8" y="1607"/>
                  </a:lnTo>
                  <a:lnTo>
                    <a:pt x="16" y="1679"/>
                  </a:lnTo>
                  <a:lnTo>
                    <a:pt x="29" y="1751"/>
                  </a:lnTo>
                  <a:lnTo>
                    <a:pt x="45" y="1822"/>
                  </a:lnTo>
                  <a:lnTo>
                    <a:pt x="65" y="1891"/>
                  </a:lnTo>
                  <a:lnTo>
                    <a:pt x="89" y="1959"/>
                  </a:lnTo>
                  <a:lnTo>
                    <a:pt x="115" y="2025"/>
                  </a:lnTo>
                  <a:lnTo>
                    <a:pt x="144" y="2089"/>
                  </a:lnTo>
                  <a:lnTo>
                    <a:pt x="176" y="2152"/>
                  </a:lnTo>
                  <a:lnTo>
                    <a:pt x="211" y="2214"/>
                  </a:lnTo>
                  <a:lnTo>
                    <a:pt x="249" y="2272"/>
                  </a:lnTo>
                  <a:lnTo>
                    <a:pt x="290" y="2329"/>
                  </a:lnTo>
                  <a:lnTo>
                    <a:pt x="333" y="2384"/>
                  </a:lnTo>
                  <a:lnTo>
                    <a:pt x="378" y="2437"/>
                  </a:lnTo>
                  <a:lnTo>
                    <a:pt x="427" y="2488"/>
                  </a:lnTo>
                  <a:lnTo>
                    <a:pt x="478" y="2537"/>
                  </a:lnTo>
                  <a:lnTo>
                    <a:pt x="531" y="2582"/>
                  </a:lnTo>
                  <a:lnTo>
                    <a:pt x="586" y="2625"/>
                  </a:lnTo>
                  <a:lnTo>
                    <a:pt x="643" y="2666"/>
                  </a:lnTo>
                  <a:lnTo>
                    <a:pt x="702" y="2704"/>
                  </a:lnTo>
                  <a:lnTo>
                    <a:pt x="763" y="2740"/>
                  </a:lnTo>
                  <a:lnTo>
                    <a:pt x="826" y="2771"/>
                  </a:lnTo>
                  <a:lnTo>
                    <a:pt x="890" y="2800"/>
                  </a:lnTo>
                  <a:lnTo>
                    <a:pt x="956" y="2827"/>
                  </a:lnTo>
                  <a:lnTo>
                    <a:pt x="1024" y="2850"/>
                  </a:lnTo>
                  <a:lnTo>
                    <a:pt x="1094" y="2869"/>
                  </a:lnTo>
                  <a:lnTo>
                    <a:pt x="1164" y="2885"/>
                  </a:lnTo>
                  <a:lnTo>
                    <a:pt x="1236" y="2898"/>
                  </a:lnTo>
                  <a:lnTo>
                    <a:pt x="1309" y="2908"/>
                  </a:lnTo>
                  <a:lnTo>
                    <a:pt x="1383" y="2914"/>
                  </a:lnTo>
                  <a:lnTo>
                    <a:pt x="1458" y="2915"/>
                  </a:lnTo>
                  <a:lnTo>
                    <a:pt x="1501" y="2915"/>
                  </a:lnTo>
                  <a:lnTo>
                    <a:pt x="1544" y="2912"/>
                  </a:lnTo>
                  <a:lnTo>
                    <a:pt x="1586" y="2909"/>
                  </a:lnTo>
                  <a:lnTo>
                    <a:pt x="1627" y="2905"/>
                  </a:lnTo>
                  <a:lnTo>
                    <a:pt x="1669" y="2899"/>
                  </a:lnTo>
                  <a:lnTo>
                    <a:pt x="1710" y="2893"/>
                  </a:lnTo>
                  <a:lnTo>
                    <a:pt x="1752" y="2885"/>
                  </a:lnTo>
                  <a:lnTo>
                    <a:pt x="1792" y="2877"/>
                  </a:lnTo>
                  <a:lnTo>
                    <a:pt x="1832" y="2867"/>
                  </a:lnTo>
                  <a:lnTo>
                    <a:pt x="1870" y="2856"/>
                  </a:lnTo>
                  <a:lnTo>
                    <a:pt x="1910" y="2843"/>
                  </a:lnTo>
                  <a:lnTo>
                    <a:pt x="1948" y="2830"/>
                  </a:lnTo>
                  <a:lnTo>
                    <a:pt x="1986" y="2816"/>
                  </a:lnTo>
                  <a:lnTo>
                    <a:pt x="2024" y="2801"/>
                  </a:lnTo>
                  <a:lnTo>
                    <a:pt x="2061" y="2785"/>
                  </a:lnTo>
                  <a:lnTo>
                    <a:pt x="2097" y="2768"/>
                  </a:lnTo>
                  <a:lnTo>
                    <a:pt x="2079" y="2730"/>
                  </a:lnTo>
                  <a:lnTo>
                    <a:pt x="2044" y="2747"/>
                  </a:lnTo>
                  <a:lnTo>
                    <a:pt x="2008" y="2762"/>
                  </a:lnTo>
                  <a:lnTo>
                    <a:pt x="1971" y="2777"/>
                  </a:lnTo>
                  <a:lnTo>
                    <a:pt x="1934" y="2791"/>
                  </a:lnTo>
                  <a:lnTo>
                    <a:pt x="1897" y="2804"/>
                  </a:lnTo>
                  <a:lnTo>
                    <a:pt x="1860" y="2816"/>
                  </a:lnTo>
                  <a:lnTo>
                    <a:pt x="1821" y="2827"/>
                  </a:lnTo>
                  <a:lnTo>
                    <a:pt x="1782" y="2837"/>
                  </a:lnTo>
                  <a:lnTo>
                    <a:pt x="1743" y="2844"/>
                  </a:lnTo>
                  <a:lnTo>
                    <a:pt x="1703" y="2852"/>
                  </a:lnTo>
                  <a:lnTo>
                    <a:pt x="1663" y="2858"/>
                  </a:lnTo>
                  <a:lnTo>
                    <a:pt x="1623" y="2864"/>
                  </a:lnTo>
                  <a:lnTo>
                    <a:pt x="1582" y="2868"/>
                  </a:lnTo>
                  <a:lnTo>
                    <a:pt x="1541" y="2871"/>
                  </a:lnTo>
                  <a:lnTo>
                    <a:pt x="1500" y="2872"/>
                  </a:lnTo>
                  <a:lnTo>
                    <a:pt x="1458" y="2874"/>
                  </a:lnTo>
                  <a:lnTo>
                    <a:pt x="1385" y="2871"/>
                  </a:lnTo>
                  <a:lnTo>
                    <a:pt x="1313" y="2866"/>
                  </a:lnTo>
                  <a:lnTo>
                    <a:pt x="1243" y="2857"/>
                  </a:lnTo>
                  <a:lnTo>
                    <a:pt x="1172" y="2844"/>
                  </a:lnTo>
                  <a:lnTo>
                    <a:pt x="1104" y="2829"/>
                  </a:lnTo>
                  <a:lnTo>
                    <a:pt x="1037" y="2810"/>
                  </a:lnTo>
                  <a:lnTo>
                    <a:pt x="971" y="2787"/>
                  </a:lnTo>
                  <a:lnTo>
                    <a:pt x="907" y="2762"/>
                  </a:lnTo>
                  <a:lnTo>
                    <a:pt x="844" y="2734"/>
                  </a:lnTo>
                  <a:lnTo>
                    <a:pt x="783" y="2703"/>
                  </a:lnTo>
                  <a:lnTo>
                    <a:pt x="724" y="2668"/>
                  </a:lnTo>
                  <a:lnTo>
                    <a:pt x="666" y="2632"/>
                  </a:lnTo>
                  <a:lnTo>
                    <a:pt x="611" y="2592"/>
                  </a:lnTo>
                  <a:lnTo>
                    <a:pt x="556" y="2551"/>
                  </a:lnTo>
                  <a:lnTo>
                    <a:pt x="506" y="2505"/>
                  </a:lnTo>
                  <a:lnTo>
                    <a:pt x="456" y="2459"/>
                  </a:lnTo>
                  <a:lnTo>
                    <a:pt x="410" y="2409"/>
                  </a:lnTo>
                  <a:lnTo>
                    <a:pt x="365" y="2358"/>
                  </a:lnTo>
                  <a:lnTo>
                    <a:pt x="323" y="2304"/>
                  </a:lnTo>
                  <a:lnTo>
                    <a:pt x="283" y="2249"/>
                  </a:lnTo>
                  <a:lnTo>
                    <a:pt x="246" y="2192"/>
                  </a:lnTo>
                  <a:lnTo>
                    <a:pt x="213" y="2133"/>
                  </a:lnTo>
                  <a:lnTo>
                    <a:pt x="182" y="2071"/>
                  </a:lnTo>
                  <a:lnTo>
                    <a:pt x="152" y="2008"/>
                  </a:lnTo>
                  <a:lnTo>
                    <a:pt x="128" y="1945"/>
                  </a:lnTo>
                  <a:lnTo>
                    <a:pt x="105" y="1879"/>
                  </a:lnTo>
                  <a:lnTo>
                    <a:pt x="86" y="1811"/>
                  </a:lnTo>
                  <a:lnTo>
                    <a:pt x="70" y="1743"/>
                  </a:lnTo>
                  <a:lnTo>
                    <a:pt x="57" y="1673"/>
                  </a:lnTo>
                  <a:lnTo>
                    <a:pt x="49" y="1602"/>
                  </a:lnTo>
                  <a:lnTo>
                    <a:pt x="43" y="1530"/>
                  </a:lnTo>
                  <a:lnTo>
                    <a:pt x="41" y="1458"/>
                  </a:lnTo>
                  <a:lnTo>
                    <a:pt x="43" y="1384"/>
                  </a:lnTo>
                  <a:lnTo>
                    <a:pt x="49" y="1313"/>
                  </a:lnTo>
                  <a:lnTo>
                    <a:pt x="57" y="1242"/>
                  </a:lnTo>
                  <a:lnTo>
                    <a:pt x="70" y="1173"/>
                  </a:lnTo>
                  <a:lnTo>
                    <a:pt x="86" y="1103"/>
                  </a:lnTo>
                  <a:lnTo>
                    <a:pt x="105" y="1036"/>
                  </a:lnTo>
                  <a:lnTo>
                    <a:pt x="128" y="971"/>
                  </a:lnTo>
                  <a:lnTo>
                    <a:pt x="152" y="906"/>
                  </a:lnTo>
                  <a:lnTo>
                    <a:pt x="182" y="843"/>
                  </a:lnTo>
                  <a:lnTo>
                    <a:pt x="213" y="783"/>
                  </a:lnTo>
                  <a:lnTo>
                    <a:pt x="246" y="723"/>
                  </a:lnTo>
                  <a:lnTo>
                    <a:pt x="283" y="666"/>
                  </a:lnTo>
                  <a:lnTo>
                    <a:pt x="323" y="610"/>
                  </a:lnTo>
                  <a:lnTo>
                    <a:pt x="365" y="557"/>
                  </a:lnTo>
                  <a:lnTo>
                    <a:pt x="410" y="505"/>
                  </a:lnTo>
                  <a:lnTo>
                    <a:pt x="456" y="457"/>
                  </a:lnTo>
                  <a:lnTo>
                    <a:pt x="506" y="409"/>
                  </a:lnTo>
                  <a:lnTo>
                    <a:pt x="556" y="365"/>
                  </a:lnTo>
                  <a:lnTo>
                    <a:pt x="611" y="323"/>
                  </a:lnTo>
                  <a:lnTo>
                    <a:pt x="666" y="284"/>
                  </a:lnTo>
                  <a:lnTo>
                    <a:pt x="724" y="246"/>
                  </a:lnTo>
                  <a:lnTo>
                    <a:pt x="783" y="212"/>
                  </a:lnTo>
                  <a:lnTo>
                    <a:pt x="844" y="181"/>
                  </a:lnTo>
                  <a:lnTo>
                    <a:pt x="907" y="153"/>
                  </a:lnTo>
                  <a:lnTo>
                    <a:pt x="971" y="127"/>
                  </a:lnTo>
                  <a:lnTo>
                    <a:pt x="1037" y="106"/>
                  </a:lnTo>
                  <a:lnTo>
                    <a:pt x="1104" y="86"/>
                  </a:lnTo>
                  <a:lnTo>
                    <a:pt x="1172" y="70"/>
                  </a:lnTo>
                  <a:lnTo>
                    <a:pt x="1243" y="58"/>
                  </a:lnTo>
                  <a:lnTo>
                    <a:pt x="1313" y="48"/>
                  </a:lnTo>
                  <a:lnTo>
                    <a:pt x="1385" y="43"/>
                  </a:lnTo>
                  <a:lnTo>
                    <a:pt x="1458" y="42"/>
                  </a:lnTo>
                  <a:lnTo>
                    <a:pt x="1531" y="43"/>
                  </a:lnTo>
                  <a:lnTo>
                    <a:pt x="1604" y="48"/>
                  </a:lnTo>
                  <a:lnTo>
                    <a:pt x="1674" y="58"/>
                  </a:lnTo>
                  <a:lnTo>
                    <a:pt x="1744" y="70"/>
                  </a:lnTo>
                  <a:lnTo>
                    <a:pt x="1812" y="86"/>
                  </a:lnTo>
                  <a:lnTo>
                    <a:pt x="1879" y="106"/>
                  </a:lnTo>
                  <a:lnTo>
                    <a:pt x="1945" y="127"/>
                  </a:lnTo>
                  <a:lnTo>
                    <a:pt x="2010" y="153"/>
                  </a:lnTo>
                  <a:lnTo>
                    <a:pt x="2072" y="181"/>
                  </a:lnTo>
                  <a:lnTo>
                    <a:pt x="2133" y="212"/>
                  </a:lnTo>
                  <a:lnTo>
                    <a:pt x="2192" y="246"/>
                  </a:lnTo>
                  <a:lnTo>
                    <a:pt x="2251" y="284"/>
                  </a:lnTo>
                  <a:lnTo>
                    <a:pt x="2306" y="323"/>
                  </a:lnTo>
                  <a:lnTo>
                    <a:pt x="2359" y="365"/>
                  </a:lnTo>
                  <a:lnTo>
                    <a:pt x="2411" y="409"/>
                  </a:lnTo>
                  <a:lnTo>
                    <a:pt x="2460" y="457"/>
                  </a:lnTo>
                  <a:lnTo>
                    <a:pt x="2507" y="505"/>
                  </a:lnTo>
                  <a:lnTo>
                    <a:pt x="2551" y="557"/>
                  </a:lnTo>
                  <a:lnTo>
                    <a:pt x="2593" y="610"/>
                  </a:lnTo>
                  <a:lnTo>
                    <a:pt x="2633" y="666"/>
                  </a:lnTo>
                  <a:lnTo>
                    <a:pt x="2670" y="723"/>
                  </a:lnTo>
                  <a:lnTo>
                    <a:pt x="2704" y="783"/>
                  </a:lnTo>
                  <a:lnTo>
                    <a:pt x="2735" y="843"/>
                  </a:lnTo>
                  <a:lnTo>
                    <a:pt x="2764" y="906"/>
                  </a:lnTo>
                  <a:lnTo>
                    <a:pt x="2789" y="971"/>
                  </a:lnTo>
                  <a:lnTo>
                    <a:pt x="2812" y="1036"/>
                  </a:lnTo>
                  <a:lnTo>
                    <a:pt x="2830" y="1103"/>
                  </a:lnTo>
                  <a:lnTo>
                    <a:pt x="2846" y="1173"/>
                  </a:lnTo>
                  <a:lnTo>
                    <a:pt x="2858" y="1242"/>
                  </a:lnTo>
                  <a:lnTo>
                    <a:pt x="2868" y="1313"/>
                  </a:lnTo>
                  <a:lnTo>
                    <a:pt x="2873" y="1384"/>
                  </a:lnTo>
                  <a:lnTo>
                    <a:pt x="2875" y="1458"/>
                  </a:lnTo>
                  <a:lnTo>
                    <a:pt x="2874" y="1505"/>
                  </a:lnTo>
                  <a:lnTo>
                    <a:pt x="2872" y="1552"/>
                  </a:lnTo>
                  <a:lnTo>
                    <a:pt x="2868" y="1599"/>
                  </a:lnTo>
                  <a:lnTo>
                    <a:pt x="2862" y="1646"/>
                  </a:lnTo>
                  <a:lnTo>
                    <a:pt x="2856" y="1691"/>
                  </a:lnTo>
                  <a:lnTo>
                    <a:pt x="2847" y="1736"/>
                  </a:lnTo>
                  <a:lnTo>
                    <a:pt x="2837" y="1782"/>
                  </a:lnTo>
                  <a:lnTo>
                    <a:pt x="2827" y="1826"/>
                  </a:lnTo>
                  <a:lnTo>
                    <a:pt x="2867" y="1837"/>
                  </a:lnTo>
                  <a:lnTo>
                    <a:pt x="2879" y="1790"/>
                  </a:lnTo>
                  <a:lnTo>
                    <a:pt x="2888" y="1745"/>
                  </a:lnTo>
                  <a:lnTo>
                    <a:pt x="2897" y="1697"/>
                  </a:lnTo>
                  <a:lnTo>
                    <a:pt x="2903" y="1651"/>
                  </a:lnTo>
                  <a:lnTo>
                    <a:pt x="2909" y="1603"/>
                  </a:lnTo>
                  <a:lnTo>
                    <a:pt x="2913" y="1555"/>
                  </a:lnTo>
                  <a:lnTo>
                    <a:pt x="2915" y="1506"/>
                  </a:lnTo>
                  <a:lnTo>
                    <a:pt x="2916" y="145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03560" y="2427120"/>
              <a:ext cx="1141560" cy="1140120"/>
            </a:xfrm>
            <a:custGeom>
              <a:avLst/>
              <a:gdLst/>
              <a:ahLst/>
              <a:rect l="l" t="t" r="r" b="b"/>
              <a:pathLst>
                <a:path w="2875" h="2874">
                  <a:moveTo>
                    <a:pt x="2875" y="1438"/>
                  </a:moveTo>
                  <a:lnTo>
                    <a:pt x="2873" y="1363"/>
                  </a:lnTo>
                  <a:lnTo>
                    <a:pt x="2867" y="1291"/>
                  </a:lnTo>
                  <a:lnTo>
                    <a:pt x="2859" y="1218"/>
                  </a:lnTo>
                  <a:lnTo>
                    <a:pt x="2846" y="1148"/>
                  </a:lnTo>
                  <a:lnTo>
                    <a:pt x="2829" y="1078"/>
                  </a:lnTo>
                  <a:lnTo>
                    <a:pt x="2810" y="1010"/>
                  </a:lnTo>
                  <a:lnTo>
                    <a:pt x="2787" y="943"/>
                  </a:lnTo>
                  <a:lnTo>
                    <a:pt x="2761" y="878"/>
                  </a:lnTo>
                  <a:lnTo>
                    <a:pt x="2733" y="815"/>
                  </a:lnTo>
                  <a:lnTo>
                    <a:pt x="2701" y="753"/>
                  </a:lnTo>
                  <a:lnTo>
                    <a:pt x="2666" y="692"/>
                  </a:lnTo>
                  <a:lnTo>
                    <a:pt x="2630" y="634"/>
                  </a:lnTo>
                  <a:lnTo>
                    <a:pt x="2590" y="578"/>
                  </a:lnTo>
                  <a:lnTo>
                    <a:pt x="2546" y="523"/>
                  </a:lnTo>
                  <a:lnTo>
                    <a:pt x="2501" y="471"/>
                  </a:lnTo>
                  <a:lnTo>
                    <a:pt x="2453" y="421"/>
                  </a:lnTo>
                  <a:lnTo>
                    <a:pt x="2404" y="374"/>
                  </a:lnTo>
                  <a:lnTo>
                    <a:pt x="2352" y="329"/>
                  </a:lnTo>
                  <a:lnTo>
                    <a:pt x="2297" y="286"/>
                  </a:lnTo>
                  <a:lnTo>
                    <a:pt x="2241" y="246"/>
                  </a:lnTo>
                  <a:lnTo>
                    <a:pt x="2182" y="209"/>
                  </a:lnTo>
                  <a:lnTo>
                    <a:pt x="2123" y="174"/>
                  </a:lnTo>
                  <a:lnTo>
                    <a:pt x="2060" y="143"/>
                  </a:lnTo>
                  <a:lnTo>
                    <a:pt x="1996" y="114"/>
                  </a:lnTo>
                  <a:lnTo>
                    <a:pt x="1932" y="88"/>
                  </a:lnTo>
                  <a:lnTo>
                    <a:pt x="1865" y="65"/>
                  </a:lnTo>
                  <a:lnTo>
                    <a:pt x="1796" y="46"/>
                  </a:lnTo>
                  <a:lnTo>
                    <a:pt x="1727" y="29"/>
                  </a:lnTo>
                  <a:lnTo>
                    <a:pt x="1656" y="17"/>
                  </a:lnTo>
                  <a:lnTo>
                    <a:pt x="1584" y="8"/>
                  </a:lnTo>
                  <a:lnTo>
                    <a:pt x="1511" y="2"/>
                  </a:lnTo>
                  <a:lnTo>
                    <a:pt x="1437" y="0"/>
                  </a:lnTo>
                  <a:lnTo>
                    <a:pt x="1363" y="2"/>
                  </a:lnTo>
                  <a:lnTo>
                    <a:pt x="1290" y="8"/>
                  </a:lnTo>
                  <a:lnTo>
                    <a:pt x="1218" y="17"/>
                  </a:lnTo>
                  <a:lnTo>
                    <a:pt x="1147" y="29"/>
                  </a:lnTo>
                  <a:lnTo>
                    <a:pt x="1078" y="46"/>
                  </a:lnTo>
                  <a:lnTo>
                    <a:pt x="1010" y="65"/>
                  </a:lnTo>
                  <a:lnTo>
                    <a:pt x="943" y="88"/>
                  </a:lnTo>
                  <a:lnTo>
                    <a:pt x="878" y="114"/>
                  </a:lnTo>
                  <a:lnTo>
                    <a:pt x="814" y="143"/>
                  </a:lnTo>
                  <a:lnTo>
                    <a:pt x="752" y="174"/>
                  </a:lnTo>
                  <a:lnTo>
                    <a:pt x="692" y="209"/>
                  </a:lnTo>
                  <a:lnTo>
                    <a:pt x="634" y="246"/>
                  </a:lnTo>
                  <a:lnTo>
                    <a:pt x="577" y="286"/>
                  </a:lnTo>
                  <a:lnTo>
                    <a:pt x="523" y="329"/>
                  </a:lnTo>
                  <a:lnTo>
                    <a:pt x="471" y="374"/>
                  </a:lnTo>
                  <a:lnTo>
                    <a:pt x="421" y="421"/>
                  </a:lnTo>
                  <a:lnTo>
                    <a:pt x="373" y="471"/>
                  </a:lnTo>
                  <a:lnTo>
                    <a:pt x="328" y="523"/>
                  </a:lnTo>
                  <a:lnTo>
                    <a:pt x="285" y="578"/>
                  </a:lnTo>
                  <a:lnTo>
                    <a:pt x="245" y="634"/>
                  </a:lnTo>
                  <a:lnTo>
                    <a:pt x="208" y="692"/>
                  </a:lnTo>
                  <a:lnTo>
                    <a:pt x="173" y="753"/>
                  </a:lnTo>
                  <a:lnTo>
                    <a:pt x="141" y="815"/>
                  </a:lnTo>
                  <a:lnTo>
                    <a:pt x="113" y="878"/>
                  </a:lnTo>
                  <a:lnTo>
                    <a:pt x="87" y="943"/>
                  </a:lnTo>
                  <a:lnTo>
                    <a:pt x="64" y="1010"/>
                  </a:lnTo>
                  <a:lnTo>
                    <a:pt x="45" y="1078"/>
                  </a:lnTo>
                  <a:lnTo>
                    <a:pt x="29" y="1148"/>
                  </a:lnTo>
                  <a:lnTo>
                    <a:pt x="16" y="1218"/>
                  </a:lnTo>
                  <a:lnTo>
                    <a:pt x="7" y="1291"/>
                  </a:lnTo>
                  <a:lnTo>
                    <a:pt x="2" y="1363"/>
                  </a:lnTo>
                  <a:lnTo>
                    <a:pt x="0" y="1438"/>
                  </a:lnTo>
                  <a:lnTo>
                    <a:pt x="2" y="1511"/>
                  </a:lnTo>
                  <a:lnTo>
                    <a:pt x="7" y="1585"/>
                  </a:lnTo>
                  <a:lnTo>
                    <a:pt x="16" y="1656"/>
                  </a:lnTo>
                  <a:lnTo>
                    <a:pt x="29" y="1727"/>
                  </a:lnTo>
                  <a:lnTo>
                    <a:pt x="45" y="1796"/>
                  </a:lnTo>
                  <a:lnTo>
                    <a:pt x="64" y="1864"/>
                  </a:lnTo>
                  <a:lnTo>
                    <a:pt x="87" y="1931"/>
                  </a:lnTo>
                  <a:lnTo>
                    <a:pt x="113" y="1997"/>
                  </a:lnTo>
                  <a:lnTo>
                    <a:pt x="141" y="2061"/>
                  </a:lnTo>
                  <a:lnTo>
                    <a:pt x="173" y="2122"/>
                  </a:lnTo>
                  <a:lnTo>
                    <a:pt x="208" y="2183"/>
                  </a:lnTo>
                  <a:lnTo>
                    <a:pt x="245" y="2241"/>
                  </a:lnTo>
                  <a:lnTo>
                    <a:pt x="285" y="2297"/>
                  </a:lnTo>
                  <a:lnTo>
                    <a:pt x="328" y="2351"/>
                  </a:lnTo>
                  <a:lnTo>
                    <a:pt x="373" y="2403"/>
                  </a:lnTo>
                  <a:lnTo>
                    <a:pt x="421" y="2454"/>
                  </a:lnTo>
                  <a:lnTo>
                    <a:pt x="471" y="2501"/>
                  </a:lnTo>
                  <a:lnTo>
                    <a:pt x="523" y="2546"/>
                  </a:lnTo>
                  <a:lnTo>
                    <a:pt x="577" y="2589"/>
                  </a:lnTo>
                  <a:lnTo>
                    <a:pt x="634" y="2629"/>
                  </a:lnTo>
                  <a:lnTo>
                    <a:pt x="692" y="2667"/>
                  </a:lnTo>
                  <a:lnTo>
                    <a:pt x="752" y="2701"/>
                  </a:lnTo>
                  <a:lnTo>
                    <a:pt x="814" y="2733"/>
                  </a:lnTo>
                  <a:lnTo>
                    <a:pt x="878" y="2762"/>
                  </a:lnTo>
                  <a:lnTo>
                    <a:pt x="943" y="2787"/>
                  </a:lnTo>
                  <a:lnTo>
                    <a:pt x="1010" y="2809"/>
                  </a:lnTo>
                  <a:lnTo>
                    <a:pt x="1078" y="2829"/>
                  </a:lnTo>
                  <a:lnTo>
                    <a:pt x="1147" y="2845"/>
                  </a:lnTo>
                  <a:lnTo>
                    <a:pt x="1218" y="2858"/>
                  </a:lnTo>
                  <a:lnTo>
                    <a:pt x="1290" y="2867"/>
                  </a:lnTo>
                  <a:lnTo>
                    <a:pt x="1363" y="2872"/>
                  </a:lnTo>
                  <a:lnTo>
                    <a:pt x="1437" y="2874"/>
                  </a:lnTo>
                  <a:lnTo>
                    <a:pt x="1480" y="2874"/>
                  </a:lnTo>
                  <a:lnTo>
                    <a:pt x="1521" y="2872"/>
                  </a:lnTo>
                  <a:lnTo>
                    <a:pt x="1563" y="2869"/>
                  </a:lnTo>
                  <a:lnTo>
                    <a:pt x="1604" y="2864"/>
                  </a:lnTo>
                  <a:lnTo>
                    <a:pt x="1645" y="2859"/>
                  </a:lnTo>
                  <a:lnTo>
                    <a:pt x="1686" y="2852"/>
                  </a:lnTo>
                  <a:lnTo>
                    <a:pt x="1726" y="2845"/>
                  </a:lnTo>
                  <a:lnTo>
                    <a:pt x="1766" y="2836"/>
                  </a:lnTo>
                  <a:lnTo>
                    <a:pt x="1805" y="2827"/>
                  </a:lnTo>
                  <a:lnTo>
                    <a:pt x="1844" y="2816"/>
                  </a:lnTo>
                  <a:lnTo>
                    <a:pt x="1883" y="2804"/>
                  </a:lnTo>
                  <a:lnTo>
                    <a:pt x="1921" y="2791"/>
                  </a:lnTo>
                  <a:lnTo>
                    <a:pt x="1957" y="2777"/>
                  </a:lnTo>
                  <a:lnTo>
                    <a:pt x="1995" y="2762"/>
                  </a:lnTo>
                  <a:lnTo>
                    <a:pt x="2031" y="2746"/>
                  </a:lnTo>
                  <a:lnTo>
                    <a:pt x="2068" y="2729"/>
                  </a:lnTo>
                  <a:lnTo>
                    <a:pt x="2049" y="2692"/>
                  </a:lnTo>
                  <a:lnTo>
                    <a:pt x="2015" y="2708"/>
                  </a:lnTo>
                  <a:lnTo>
                    <a:pt x="1979" y="2724"/>
                  </a:lnTo>
                  <a:lnTo>
                    <a:pt x="1942" y="2738"/>
                  </a:lnTo>
                  <a:lnTo>
                    <a:pt x="1907" y="2752"/>
                  </a:lnTo>
                  <a:lnTo>
                    <a:pt x="1870" y="2764"/>
                  </a:lnTo>
                  <a:lnTo>
                    <a:pt x="1832" y="2776"/>
                  </a:lnTo>
                  <a:lnTo>
                    <a:pt x="1794" y="2787"/>
                  </a:lnTo>
                  <a:lnTo>
                    <a:pt x="1756" y="2796"/>
                  </a:lnTo>
                  <a:lnTo>
                    <a:pt x="1718" y="2805"/>
                  </a:lnTo>
                  <a:lnTo>
                    <a:pt x="1679" y="2811"/>
                  </a:lnTo>
                  <a:lnTo>
                    <a:pt x="1639" y="2818"/>
                  </a:lnTo>
                  <a:lnTo>
                    <a:pt x="1600" y="2823"/>
                  </a:lnTo>
                  <a:lnTo>
                    <a:pt x="1560" y="2828"/>
                  </a:lnTo>
                  <a:lnTo>
                    <a:pt x="1519" y="2830"/>
                  </a:lnTo>
                  <a:lnTo>
                    <a:pt x="1478" y="2832"/>
                  </a:lnTo>
                  <a:lnTo>
                    <a:pt x="1437" y="2833"/>
                  </a:lnTo>
                  <a:lnTo>
                    <a:pt x="1365" y="2831"/>
                  </a:lnTo>
                  <a:lnTo>
                    <a:pt x="1294" y="2825"/>
                  </a:lnTo>
                  <a:lnTo>
                    <a:pt x="1225" y="2817"/>
                  </a:lnTo>
                  <a:lnTo>
                    <a:pt x="1156" y="2804"/>
                  </a:lnTo>
                  <a:lnTo>
                    <a:pt x="1089" y="2789"/>
                  </a:lnTo>
                  <a:lnTo>
                    <a:pt x="1022" y="2770"/>
                  </a:lnTo>
                  <a:lnTo>
                    <a:pt x="957" y="2748"/>
                  </a:lnTo>
                  <a:lnTo>
                    <a:pt x="894" y="2723"/>
                  </a:lnTo>
                  <a:lnTo>
                    <a:pt x="832" y="2695"/>
                  </a:lnTo>
                  <a:lnTo>
                    <a:pt x="772" y="2665"/>
                  </a:lnTo>
                  <a:lnTo>
                    <a:pt x="714" y="2631"/>
                  </a:lnTo>
                  <a:lnTo>
                    <a:pt x="656" y="2594"/>
                  </a:lnTo>
                  <a:lnTo>
                    <a:pt x="602" y="2555"/>
                  </a:lnTo>
                  <a:lnTo>
                    <a:pt x="550" y="2514"/>
                  </a:lnTo>
                  <a:lnTo>
                    <a:pt x="499" y="2470"/>
                  </a:lnTo>
                  <a:lnTo>
                    <a:pt x="450" y="2424"/>
                  </a:lnTo>
                  <a:lnTo>
                    <a:pt x="404" y="2375"/>
                  </a:lnTo>
                  <a:lnTo>
                    <a:pt x="360" y="2325"/>
                  </a:lnTo>
                  <a:lnTo>
                    <a:pt x="318" y="2273"/>
                  </a:lnTo>
                  <a:lnTo>
                    <a:pt x="279" y="2217"/>
                  </a:lnTo>
                  <a:lnTo>
                    <a:pt x="244" y="2161"/>
                  </a:lnTo>
                  <a:lnTo>
                    <a:pt x="210" y="2103"/>
                  </a:lnTo>
                  <a:lnTo>
                    <a:pt x="179" y="2042"/>
                  </a:lnTo>
                  <a:lnTo>
                    <a:pt x="151" y="1981"/>
                  </a:lnTo>
                  <a:lnTo>
                    <a:pt x="126" y="1917"/>
                  </a:lnTo>
                  <a:lnTo>
                    <a:pt x="104" y="1852"/>
                  </a:lnTo>
                  <a:lnTo>
                    <a:pt x="85" y="1787"/>
                  </a:lnTo>
                  <a:lnTo>
                    <a:pt x="70" y="1718"/>
                  </a:lnTo>
                  <a:lnTo>
                    <a:pt x="58" y="1649"/>
                  </a:lnTo>
                  <a:lnTo>
                    <a:pt x="48" y="1580"/>
                  </a:lnTo>
                  <a:lnTo>
                    <a:pt x="43" y="1509"/>
                  </a:lnTo>
                  <a:lnTo>
                    <a:pt x="42" y="1438"/>
                  </a:lnTo>
                  <a:lnTo>
                    <a:pt x="43" y="1365"/>
                  </a:lnTo>
                  <a:lnTo>
                    <a:pt x="48" y="1295"/>
                  </a:lnTo>
                  <a:lnTo>
                    <a:pt x="58" y="1225"/>
                  </a:lnTo>
                  <a:lnTo>
                    <a:pt x="70" y="1156"/>
                  </a:lnTo>
                  <a:lnTo>
                    <a:pt x="85" y="1089"/>
                  </a:lnTo>
                  <a:lnTo>
                    <a:pt x="104" y="1023"/>
                  </a:lnTo>
                  <a:lnTo>
                    <a:pt x="126" y="958"/>
                  </a:lnTo>
                  <a:lnTo>
                    <a:pt x="151" y="894"/>
                  </a:lnTo>
                  <a:lnTo>
                    <a:pt x="179" y="833"/>
                  </a:lnTo>
                  <a:lnTo>
                    <a:pt x="210" y="772"/>
                  </a:lnTo>
                  <a:lnTo>
                    <a:pt x="244" y="714"/>
                  </a:lnTo>
                  <a:lnTo>
                    <a:pt x="279" y="657"/>
                  </a:lnTo>
                  <a:lnTo>
                    <a:pt x="318" y="603"/>
                  </a:lnTo>
                  <a:lnTo>
                    <a:pt x="360" y="550"/>
                  </a:lnTo>
                  <a:lnTo>
                    <a:pt x="404" y="499"/>
                  </a:lnTo>
                  <a:lnTo>
                    <a:pt x="450" y="451"/>
                  </a:lnTo>
                  <a:lnTo>
                    <a:pt x="499" y="404"/>
                  </a:lnTo>
                  <a:lnTo>
                    <a:pt x="550" y="361"/>
                  </a:lnTo>
                  <a:lnTo>
                    <a:pt x="602" y="320"/>
                  </a:lnTo>
                  <a:lnTo>
                    <a:pt x="656" y="281"/>
                  </a:lnTo>
                  <a:lnTo>
                    <a:pt x="714" y="244"/>
                  </a:lnTo>
                  <a:lnTo>
                    <a:pt x="772" y="211"/>
                  </a:lnTo>
                  <a:lnTo>
                    <a:pt x="832" y="179"/>
                  </a:lnTo>
                  <a:lnTo>
                    <a:pt x="894" y="151"/>
                  </a:lnTo>
                  <a:lnTo>
                    <a:pt x="957" y="127"/>
                  </a:lnTo>
                  <a:lnTo>
                    <a:pt x="1022" y="105"/>
                  </a:lnTo>
                  <a:lnTo>
                    <a:pt x="1089" y="87"/>
                  </a:lnTo>
                  <a:lnTo>
                    <a:pt x="1156" y="70"/>
                  </a:lnTo>
                  <a:lnTo>
                    <a:pt x="1225" y="59"/>
                  </a:lnTo>
                  <a:lnTo>
                    <a:pt x="1294" y="50"/>
                  </a:lnTo>
                  <a:lnTo>
                    <a:pt x="1365" y="44"/>
                  </a:lnTo>
                  <a:lnTo>
                    <a:pt x="1437" y="42"/>
                  </a:lnTo>
                  <a:lnTo>
                    <a:pt x="1509" y="44"/>
                  </a:lnTo>
                  <a:lnTo>
                    <a:pt x="1580" y="50"/>
                  </a:lnTo>
                  <a:lnTo>
                    <a:pt x="1650" y="59"/>
                  </a:lnTo>
                  <a:lnTo>
                    <a:pt x="1719" y="70"/>
                  </a:lnTo>
                  <a:lnTo>
                    <a:pt x="1786" y="87"/>
                  </a:lnTo>
                  <a:lnTo>
                    <a:pt x="1853" y="105"/>
                  </a:lnTo>
                  <a:lnTo>
                    <a:pt x="1917" y="127"/>
                  </a:lnTo>
                  <a:lnTo>
                    <a:pt x="1980" y="151"/>
                  </a:lnTo>
                  <a:lnTo>
                    <a:pt x="2043" y="179"/>
                  </a:lnTo>
                  <a:lnTo>
                    <a:pt x="2102" y="211"/>
                  </a:lnTo>
                  <a:lnTo>
                    <a:pt x="2161" y="244"/>
                  </a:lnTo>
                  <a:lnTo>
                    <a:pt x="2218" y="281"/>
                  </a:lnTo>
                  <a:lnTo>
                    <a:pt x="2272" y="320"/>
                  </a:lnTo>
                  <a:lnTo>
                    <a:pt x="2325" y="361"/>
                  </a:lnTo>
                  <a:lnTo>
                    <a:pt x="2376" y="404"/>
                  </a:lnTo>
                  <a:lnTo>
                    <a:pt x="2424" y="451"/>
                  </a:lnTo>
                  <a:lnTo>
                    <a:pt x="2471" y="499"/>
                  </a:lnTo>
                  <a:lnTo>
                    <a:pt x="2514" y="550"/>
                  </a:lnTo>
                  <a:lnTo>
                    <a:pt x="2556" y="603"/>
                  </a:lnTo>
                  <a:lnTo>
                    <a:pt x="2595" y="657"/>
                  </a:lnTo>
                  <a:lnTo>
                    <a:pt x="2631" y="714"/>
                  </a:lnTo>
                  <a:lnTo>
                    <a:pt x="2664" y="772"/>
                  </a:lnTo>
                  <a:lnTo>
                    <a:pt x="2695" y="833"/>
                  </a:lnTo>
                  <a:lnTo>
                    <a:pt x="2724" y="894"/>
                  </a:lnTo>
                  <a:lnTo>
                    <a:pt x="2748" y="958"/>
                  </a:lnTo>
                  <a:lnTo>
                    <a:pt x="2770" y="1023"/>
                  </a:lnTo>
                  <a:lnTo>
                    <a:pt x="2789" y="1089"/>
                  </a:lnTo>
                  <a:lnTo>
                    <a:pt x="2805" y="1156"/>
                  </a:lnTo>
                  <a:lnTo>
                    <a:pt x="2816" y="1225"/>
                  </a:lnTo>
                  <a:lnTo>
                    <a:pt x="2826" y="1295"/>
                  </a:lnTo>
                  <a:lnTo>
                    <a:pt x="2832" y="1365"/>
                  </a:lnTo>
                  <a:lnTo>
                    <a:pt x="2833" y="1438"/>
                  </a:lnTo>
                  <a:lnTo>
                    <a:pt x="2833" y="1484"/>
                  </a:lnTo>
                  <a:lnTo>
                    <a:pt x="2829" y="1531"/>
                  </a:lnTo>
                  <a:lnTo>
                    <a:pt x="2826" y="1577"/>
                  </a:lnTo>
                  <a:lnTo>
                    <a:pt x="2821" y="1622"/>
                  </a:lnTo>
                  <a:lnTo>
                    <a:pt x="2814" y="1668"/>
                  </a:lnTo>
                  <a:lnTo>
                    <a:pt x="2806" y="1712"/>
                  </a:lnTo>
                  <a:lnTo>
                    <a:pt x="2796" y="1756"/>
                  </a:lnTo>
                  <a:lnTo>
                    <a:pt x="2785" y="1801"/>
                  </a:lnTo>
                  <a:lnTo>
                    <a:pt x="2825" y="1811"/>
                  </a:lnTo>
                  <a:lnTo>
                    <a:pt x="2837" y="1766"/>
                  </a:lnTo>
                  <a:lnTo>
                    <a:pt x="2847" y="1721"/>
                  </a:lnTo>
                  <a:lnTo>
                    <a:pt x="2855" y="1674"/>
                  </a:lnTo>
                  <a:lnTo>
                    <a:pt x="2862" y="1628"/>
                  </a:lnTo>
                  <a:lnTo>
                    <a:pt x="2867" y="1581"/>
                  </a:lnTo>
                  <a:lnTo>
                    <a:pt x="2872" y="1534"/>
                  </a:lnTo>
                  <a:lnTo>
                    <a:pt x="2874" y="1485"/>
                  </a:lnTo>
                  <a:lnTo>
                    <a:pt x="2875" y="1438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11480" y="2435040"/>
              <a:ext cx="1125720" cy="1123920"/>
            </a:xfrm>
            <a:custGeom>
              <a:avLst/>
              <a:gdLst/>
              <a:ahLst/>
              <a:rect l="l" t="t" r="r" b="b"/>
              <a:pathLst>
                <a:path w="2834" h="2832">
                  <a:moveTo>
                    <a:pt x="2834" y="1416"/>
                  </a:moveTo>
                  <a:lnTo>
                    <a:pt x="2832" y="1342"/>
                  </a:lnTo>
                  <a:lnTo>
                    <a:pt x="2827" y="1271"/>
                  </a:lnTo>
                  <a:lnTo>
                    <a:pt x="2817" y="1200"/>
                  </a:lnTo>
                  <a:lnTo>
                    <a:pt x="2805" y="1131"/>
                  </a:lnTo>
                  <a:lnTo>
                    <a:pt x="2789" y="1061"/>
                  </a:lnTo>
                  <a:lnTo>
                    <a:pt x="2771" y="994"/>
                  </a:lnTo>
                  <a:lnTo>
                    <a:pt x="2748" y="929"/>
                  </a:lnTo>
                  <a:lnTo>
                    <a:pt x="2723" y="864"/>
                  </a:lnTo>
                  <a:lnTo>
                    <a:pt x="2694" y="801"/>
                  </a:lnTo>
                  <a:lnTo>
                    <a:pt x="2663" y="741"/>
                  </a:lnTo>
                  <a:lnTo>
                    <a:pt x="2629" y="681"/>
                  </a:lnTo>
                  <a:lnTo>
                    <a:pt x="2592" y="624"/>
                  </a:lnTo>
                  <a:lnTo>
                    <a:pt x="2552" y="568"/>
                  </a:lnTo>
                  <a:lnTo>
                    <a:pt x="2510" y="515"/>
                  </a:lnTo>
                  <a:lnTo>
                    <a:pt x="2466" y="463"/>
                  </a:lnTo>
                  <a:lnTo>
                    <a:pt x="2419" y="415"/>
                  </a:lnTo>
                  <a:lnTo>
                    <a:pt x="2370" y="367"/>
                  </a:lnTo>
                  <a:lnTo>
                    <a:pt x="2318" y="323"/>
                  </a:lnTo>
                  <a:lnTo>
                    <a:pt x="2265" y="281"/>
                  </a:lnTo>
                  <a:lnTo>
                    <a:pt x="2210" y="242"/>
                  </a:lnTo>
                  <a:lnTo>
                    <a:pt x="2151" y="204"/>
                  </a:lnTo>
                  <a:lnTo>
                    <a:pt x="2092" y="170"/>
                  </a:lnTo>
                  <a:lnTo>
                    <a:pt x="2031" y="139"/>
                  </a:lnTo>
                  <a:lnTo>
                    <a:pt x="1969" y="111"/>
                  </a:lnTo>
                  <a:lnTo>
                    <a:pt x="1904" y="85"/>
                  </a:lnTo>
                  <a:lnTo>
                    <a:pt x="1838" y="64"/>
                  </a:lnTo>
                  <a:lnTo>
                    <a:pt x="1771" y="44"/>
                  </a:lnTo>
                  <a:lnTo>
                    <a:pt x="1703" y="28"/>
                  </a:lnTo>
                  <a:lnTo>
                    <a:pt x="1633" y="16"/>
                  </a:lnTo>
                  <a:lnTo>
                    <a:pt x="1563" y="6"/>
                  </a:lnTo>
                  <a:lnTo>
                    <a:pt x="1490" y="1"/>
                  </a:lnTo>
                  <a:lnTo>
                    <a:pt x="1417" y="0"/>
                  </a:lnTo>
                  <a:lnTo>
                    <a:pt x="1344" y="1"/>
                  </a:lnTo>
                  <a:lnTo>
                    <a:pt x="1272" y="6"/>
                  </a:lnTo>
                  <a:lnTo>
                    <a:pt x="1202" y="16"/>
                  </a:lnTo>
                  <a:lnTo>
                    <a:pt x="1131" y="28"/>
                  </a:lnTo>
                  <a:lnTo>
                    <a:pt x="1063" y="44"/>
                  </a:lnTo>
                  <a:lnTo>
                    <a:pt x="996" y="64"/>
                  </a:lnTo>
                  <a:lnTo>
                    <a:pt x="930" y="85"/>
                  </a:lnTo>
                  <a:lnTo>
                    <a:pt x="866" y="111"/>
                  </a:lnTo>
                  <a:lnTo>
                    <a:pt x="803" y="139"/>
                  </a:lnTo>
                  <a:lnTo>
                    <a:pt x="742" y="170"/>
                  </a:lnTo>
                  <a:lnTo>
                    <a:pt x="683" y="204"/>
                  </a:lnTo>
                  <a:lnTo>
                    <a:pt x="625" y="242"/>
                  </a:lnTo>
                  <a:lnTo>
                    <a:pt x="570" y="281"/>
                  </a:lnTo>
                  <a:lnTo>
                    <a:pt x="515" y="323"/>
                  </a:lnTo>
                  <a:lnTo>
                    <a:pt x="465" y="367"/>
                  </a:lnTo>
                  <a:lnTo>
                    <a:pt x="415" y="415"/>
                  </a:lnTo>
                  <a:lnTo>
                    <a:pt x="369" y="463"/>
                  </a:lnTo>
                  <a:lnTo>
                    <a:pt x="324" y="515"/>
                  </a:lnTo>
                  <a:lnTo>
                    <a:pt x="282" y="568"/>
                  </a:lnTo>
                  <a:lnTo>
                    <a:pt x="242" y="624"/>
                  </a:lnTo>
                  <a:lnTo>
                    <a:pt x="205" y="681"/>
                  </a:lnTo>
                  <a:lnTo>
                    <a:pt x="172" y="741"/>
                  </a:lnTo>
                  <a:lnTo>
                    <a:pt x="141" y="801"/>
                  </a:lnTo>
                  <a:lnTo>
                    <a:pt x="111" y="864"/>
                  </a:lnTo>
                  <a:lnTo>
                    <a:pt x="87" y="929"/>
                  </a:lnTo>
                  <a:lnTo>
                    <a:pt x="64" y="994"/>
                  </a:lnTo>
                  <a:lnTo>
                    <a:pt x="45" y="1061"/>
                  </a:lnTo>
                  <a:lnTo>
                    <a:pt x="29" y="1131"/>
                  </a:lnTo>
                  <a:lnTo>
                    <a:pt x="16" y="1200"/>
                  </a:lnTo>
                  <a:lnTo>
                    <a:pt x="8" y="1271"/>
                  </a:lnTo>
                  <a:lnTo>
                    <a:pt x="2" y="1342"/>
                  </a:lnTo>
                  <a:lnTo>
                    <a:pt x="0" y="1416"/>
                  </a:lnTo>
                  <a:lnTo>
                    <a:pt x="2" y="1488"/>
                  </a:lnTo>
                  <a:lnTo>
                    <a:pt x="8" y="1560"/>
                  </a:lnTo>
                  <a:lnTo>
                    <a:pt x="16" y="1631"/>
                  </a:lnTo>
                  <a:lnTo>
                    <a:pt x="29" y="1701"/>
                  </a:lnTo>
                  <a:lnTo>
                    <a:pt x="45" y="1769"/>
                  </a:lnTo>
                  <a:lnTo>
                    <a:pt x="64" y="1837"/>
                  </a:lnTo>
                  <a:lnTo>
                    <a:pt x="87" y="1903"/>
                  </a:lnTo>
                  <a:lnTo>
                    <a:pt x="111" y="1966"/>
                  </a:lnTo>
                  <a:lnTo>
                    <a:pt x="141" y="2029"/>
                  </a:lnTo>
                  <a:lnTo>
                    <a:pt x="172" y="2091"/>
                  </a:lnTo>
                  <a:lnTo>
                    <a:pt x="205" y="2150"/>
                  </a:lnTo>
                  <a:lnTo>
                    <a:pt x="242" y="2207"/>
                  </a:lnTo>
                  <a:lnTo>
                    <a:pt x="282" y="2262"/>
                  </a:lnTo>
                  <a:lnTo>
                    <a:pt x="324" y="2316"/>
                  </a:lnTo>
                  <a:lnTo>
                    <a:pt x="369" y="2367"/>
                  </a:lnTo>
                  <a:lnTo>
                    <a:pt x="415" y="2417"/>
                  </a:lnTo>
                  <a:lnTo>
                    <a:pt x="465" y="2463"/>
                  </a:lnTo>
                  <a:lnTo>
                    <a:pt x="515" y="2509"/>
                  </a:lnTo>
                  <a:lnTo>
                    <a:pt x="570" y="2550"/>
                  </a:lnTo>
                  <a:lnTo>
                    <a:pt x="625" y="2590"/>
                  </a:lnTo>
                  <a:lnTo>
                    <a:pt x="683" y="2626"/>
                  </a:lnTo>
                  <a:lnTo>
                    <a:pt x="742" y="2661"/>
                  </a:lnTo>
                  <a:lnTo>
                    <a:pt x="803" y="2692"/>
                  </a:lnTo>
                  <a:lnTo>
                    <a:pt x="866" y="2720"/>
                  </a:lnTo>
                  <a:lnTo>
                    <a:pt x="930" y="2745"/>
                  </a:lnTo>
                  <a:lnTo>
                    <a:pt x="996" y="2768"/>
                  </a:lnTo>
                  <a:lnTo>
                    <a:pt x="1063" y="2787"/>
                  </a:lnTo>
                  <a:lnTo>
                    <a:pt x="1131" y="2802"/>
                  </a:lnTo>
                  <a:lnTo>
                    <a:pt x="1202" y="2815"/>
                  </a:lnTo>
                  <a:lnTo>
                    <a:pt x="1272" y="2824"/>
                  </a:lnTo>
                  <a:lnTo>
                    <a:pt x="1344" y="2829"/>
                  </a:lnTo>
                  <a:lnTo>
                    <a:pt x="1417" y="2832"/>
                  </a:lnTo>
                  <a:lnTo>
                    <a:pt x="1459" y="2830"/>
                  </a:lnTo>
                  <a:lnTo>
                    <a:pt x="1500" y="2829"/>
                  </a:lnTo>
                  <a:lnTo>
                    <a:pt x="1541" y="2826"/>
                  </a:lnTo>
                  <a:lnTo>
                    <a:pt x="1582" y="2822"/>
                  </a:lnTo>
                  <a:lnTo>
                    <a:pt x="1622" y="2816"/>
                  </a:lnTo>
                  <a:lnTo>
                    <a:pt x="1662" y="2810"/>
                  </a:lnTo>
                  <a:lnTo>
                    <a:pt x="1702" y="2802"/>
                  </a:lnTo>
                  <a:lnTo>
                    <a:pt x="1741" y="2795"/>
                  </a:lnTo>
                  <a:lnTo>
                    <a:pt x="1780" y="2785"/>
                  </a:lnTo>
                  <a:lnTo>
                    <a:pt x="1819" y="2774"/>
                  </a:lnTo>
                  <a:lnTo>
                    <a:pt x="1856" y="2762"/>
                  </a:lnTo>
                  <a:lnTo>
                    <a:pt x="1893" y="2749"/>
                  </a:lnTo>
                  <a:lnTo>
                    <a:pt x="1930" y="2735"/>
                  </a:lnTo>
                  <a:lnTo>
                    <a:pt x="1967" y="2720"/>
                  </a:lnTo>
                  <a:lnTo>
                    <a:pt x="2003" y="2705"/>
                  </a:lnTo>
                  <a:lnTo>
                    <a:pt x="2038" y="2688"/>
                  </a:lnTo>
                  <a:lnTo>
                    <a:pt x="2020" y="2651"/>
                  </a:lnTo>
                  <a:lnTo>
                    <a:pt x="1986" y="2667"/>
                  </a:lnTo>
                  <a:lnTo>
                    <a:pt x="1950" y="2683"/>
                  </a:lnTo>
                  <a:lnTo>
                    <a:pt x="1915" y="2697"/>
                  </a:lnTo>
                  <a:lnTo>
                    <a:pt x="1879" y="2711"/>
                  </a:lnTo>
                  <a:lnTo>
                    <a:pt x="1843" y="2722"/>
                  </a:lnTo>
                  <a:lnTo>
                    <a:pt x="1807" y="2734"/>
                  </a:lnTo>
                  <a:lnTo>
                    <a:pt x="1769" y="2744"/>
                  </a:lnTo>
                  <a:lnTo>
                    <a:pt x="1731" y="2754"/>
                  </a:lnTo>
                  <a:lnTo>
                    <a:pt x="1693" y="2762"/>
                  </a:lnTo>
                  <a:lnTo>
                    <a:pt x="1655" y="2769"/>
                  </a:lnTo>
                  <a:lnTo>
                    <a:pt x="1617" y="2775"/>
                  </a:lnTo>
                  <a:lnTo>
                    <a:pt x="1577" y="2781"/>
                  </a:lnTo>
                  <a:lnTo>
                    <a:pt x="1538" y="2785"/>
                  </a:lnTo>
                  <a:lnTo>
                    <a:pt x="1498" y="2787"/>
                  </a:lnTo>
                  <a:lnTo>
                    <a:pt x="1458" y="2789"/>
                  </a:lnTo>
                  <a:lnTo>
                    <a:pt x="1417" y="2789"/>
                  </a:lnTo>
                  <a:lnTo>
                    <a:pt x="1346" y="2788"/>
                  </a:lnTo>
                  <a:lnTo>
                    <a:pt x="1276" y="2783"/>
                  </a:lnTo>
                  <a:lnTo>
                    <a:pt x="1208" y="2774"/>
                  </a:lnTo>
                  <a:lnTo>
                    <a:pt x="1140" y="2762"/>
                  </a:lnTo>
                  <a:lnTo>
                    <a:pt x="1073" y="2746"/>
                  </a:lnTo>
                  <a:lnTo>
                    <a:pt x="1008" y="2728"/>
                  </a:lnTo>
                  <a:lnTo>
                    <a:pt x="944" y="2706"/>
                  </a:lnTo>
                  <a:lnTo>
                    <a:pt x="882" y="2681"/>
                  </a:lnTo>
                  <a:lnTo>
                    <a:pt x="821" y="2654"/>
                  </a:lnTo>
                  <a:lnTo>
                    <a:pt x="762" y="2624"/>
                  </a:lnTo>
                  <a:lnTo>
                    <a:pt x="705" y="2591"/>
                  </a:lnTo>
                  <a:lnTo>
                    <a:pt x="648" y="2555"/>
                  </a:lnTo>
                  <a:lnTo>
                    <a:pt x="594" y="2517"/>
                  </a:lnTo>
                  <a:lnTo>
                    <a:pt x="542" y="2476"/>
                  </a:lnTo>
                  <a:lnTo>
                    <a:pt x="493" y="2433"/>
                  </a:lnTo>
                  <a:lnTo>
                    <a:pt x="445" y="2388"/>
                  </a:lnTo>
                  <a:lnTo>
                    <a:pt x="400" y="2339"/>
                  </a:lnTo>
                  <a:lnTo>
                    <a:pt x="357" y="2289"/>
                  </a:lnTo>
                  <a:lnTo>
                    <a:pt x="316" y="2238"/>
                  </a:lnTo>
                  <a:lnTo>
                    <a:pt x="277" y="2184"/>
                  </a:lnTo>
                  <a:lnTo>
                    <a:pt x="241" y="2128"/>
                  </a:lnTo>
                  <a:lnTo>
                    <a:pt x="209" y="2070"/>
                  </a:lnTo>
                  <a:lnTo>
                    <a:pt x="177" y="2011"/>
                  </a:lnTo>
                  <a:lnTo>
                    <a:pt x="150" y="1950"/>
                  </a:lnTo>
                  <a:lnTo>
                    <a:pt x="125" y="1888"/>
                  </a:lnTo>
                  <a:lnTo>
                    <a:pt x="104" y="1824"/>
                  </a:lnTo>
                  <a:lnTo>
                    <a:pt x="85" y="1759"/>
                  </a:lnTo>
                  <a:lnTo>
                    <a:pt x="70" y="1692"/>
                  </a:lnTo>
                  <a:lnTo>
                    <a:pt x="58" y="1625"/>
                  </a:lnTo>
                  <a:lnTo>
                    <a:pt x="49" y="1556"/>
                  </a:lnTo>
                  <a:lnTo>
                    <a:pt x="44" y="1486"/>
                  </a:lnTo>
                  <a:lnTo>
                    <a:pt x="42" y="1416"/>
                  </a:lnTo>
                  <a:lnTo>
                    <a:pt x="44" y="1344"/>
                  </a:lnTo>
                  <a:lnTo>
                    <a:pt x="49" y="1275"/>
                  </a:lnTo>
                  <a:lnTo>
                    <a:pt x="58" y="1206"/>
                  </a:lnTo>
                  <a:lnTo>
                    <a:pt x="70" y="1138"/>
                  </a:lnTo>
                  <a:lnTo>
                    <a:pt x="85" y="1072"/>
                  </a:lnTo>
                  <a:lnTo>
                    <a:pt x="104" y="1006"/>
                  </a:lnTo>
                  <a:lnTo>
                    <a:pt x="125" y="943"/>
                  </a:lnTo>
                  <a:lnTo>
                    <a:pt x="150" y="880"/>
                  </a:lnTo>
                  <a:lnTo>
                    <a:pt x="177" y="820"/>
                  </a:lnTo>
                  <a:lnTo>
                    <a:pt x="209" y="760"/>
                  </a:lnTo>
                  <a:lnTo>
                    <a:pt x="241" y="703"/>
                  </a:lnTo>
                  <a:lnTo>
                    <a:pt x="277" y="647"/>
                  </a:lnTo>
                  <a:lnTo>
                    <a:pt x="316" y="593"/>
                  </a:lnTo>
                  <a:lnTo>
                    <a:pt x="357" y="541"/>
                  </a:lnTo>
                  <a:lnTo>
                    <a:pt x="400" y="491"/>
                  </a:lnTo>
                  <a:lnTo>
                    <a:pt x="445" y="444"/>
                  </a:lnTo>
                  <a:lnTo>
                    <a:pt x="493" y="398"/>
                  </a:lnTo>
                  <a:lnTo>
                    <a:pt x="542" y="355"/>
                  </a:lnTo>
                  <a:lnTo>
                    <a:pt x="594" y="314"/>
                  </a:lnTo>
                  <a:lnTo>
                    <a:pt x="648" y="275"/>
                  </a:lnTo>
                  <a:lnTo>
                    <a:pt x="705" y="240"/>
                  </a:lnTo>
                  <a:lnTo>
                    <a:pt x="762" y="207"/>
                  </a:lnTo>
                  <a:lnTo>
                    <a:pt x="821" y="177"/>
                  </a:lnTo>
                  <a:lnTo>
                    <a:pt x="882" y="149"/>
                  </a:lnTo>
                  <a:lnTo>
                    <a:pt x="944" y="124"/>
                  </a:lnTo>
                  <a:lnTo>
                    <a:pt x="1008" y="102"/>
                  </a:lnTo>
                  <a:lnTo>
                    <a:pt x="1073" y="84"/>
                  </a:lnTo>
                  <a:lnTo>
                    <a:pt x="1140" y="69"/>
                  </a:lnTo>
                  <a:lnTo>
                    <a:pt x="1208" y="57"/>
                  </a:lnTo>
                  <a:lnTo>
                    <a:pt x="1276" y="48"/>
                  </a:lnTo>
                  <a:lnTo>
                    <a:pt x="1346" y="43"/>
                  </a:lnTo>
                  <a:lnTo>
                    <a:pt x="1417" y="41"/>
                  </a:lnTo>
                  <a:lnTo>
                    <a:pt x="1488" y="43"/>
                  </a:lnTo>
                  <a:lnTo>
                    <a:pt x="1558" y="48"/>
                  </a:lnTo>
                  <a:lnTo>
                    <a:pt x="1626" y="57"/>
                  </a:lnTo>
                  <a:lnTo>
                    <a:pt x="1694" y="69"/>
                  </a:lnTo>
                  <a:lnTo>
                    <a:pt x="1760" y="84"/>
                  </a:lnTo>
                  <a:lnTo>
                    <a:pt x="1826" y="102"/>
                  </a:lnTo>
                  <a:lnTo>
                    <a:pt x="1890" y="124"/>
                  </a:lnTo>
                  <a:lnTo>
                    <a:pt x="1953" y="149"/>
                  </a:lnTo>
                  <a:lnTo>
                    <a:pt x="2013" y="177"/>
                  </a:lnTo>
                  <a:lnTo>
                    <a:pt x="2073" y="207"/>
                  </a:lnTo>
                  <a:lnTo>
                    <a:pt x="2130" y="240"/>
                  </a:lnTo>
                  <a:lnTo>
                    <a:pt x="2186" y="275"/>
                  </a:lnTo>
                  <a:lnTo>
                    <a:pt x="2240" y="314"/>
                  </a:lnTo>
                  <a:lnTo>
                    <a:pt x="2292" y="355"/>
                  </a:lnTo>
                  <a:lnTo>
                    <a:pt x="2342" y="398"/>
                  </a:lnTo>
                  <a:lnTo>
                    <a:pt x="2389" y="444"/>
                  </a:lnTo>
                  <a:lnTo>
                    <a:pt x="2435" y="491"/>
                  </a:lnTo>
                  <a:lnTo>
                    <a:pt x="2478" y="541"/>
                  </a:lnTo>
                  <a:lnTo>
                    <a:pt x="2519" y="593"/>
                  </a:lnTo>
                  <a:lnTo>
                    <a:pt x="2558" y="647"/>
                  </a:lnTo>
                  <a:lnTo>
                    <a:pt x="2593" y="703"/>
                  </a:lnTo>
                  <a:lnTo>
                    <a:pt x="2626" y="760"/>
                  </a:lnTo>
                  <a:lnTo>
                    <a:pt x="2657" y="820"/>
                  </a:lnTo>
                  <a:lnTo>
                    <a:pt x="2684" y="880"/>
                  </a:lnTo>
                  <a:lnTo>
                    <a:pt x="2709" y="943"/>
                  </a:lnTo>
                  <a:lnTo>
                    <a:pt x="2731" y="1006"/>
                  </a:lnTo>
                  <a:lnTo>
                    <a:pt x="2749" y="1072"/>
                  </a:lnTo>
                  <a:lnTo>
                    <a:pt x="2764" y="1138"/>
                  </a:lnTo>
                  <a:lnTo>
                    <a:pt x="2776" y="1206"/>
                  </a:lnTo>
                  <a:lnTo>
                    <a:pt x="2785" y="1275"/>
                  </a:lnTo>
                  <a:lnTo>
                    <a:pt x="2790" y="1344"/>
                  </a:lnTo>
                  <a:lnTo>
                    <a:pt x="2792" y="1416"/>
                  </a:lnTo>
                  <a:lnTo>
                    <a:pt x="2791" y="1462"/>
                  </a:lnTo>
                  <a:lnTo>
                    <a:pt x="2789" y="1507"/>
                  </a:lnTo>
                  <a:lnTo>
                    <a:pt x="2786" y="1553"/>
                  </a:lnTo>
                  <a:lnTo>
                    <a:pt x="2780" y="1598"/>
                  </a:lnTo>
                  <a:lnTo>
                    <a:pt x="2774" y="1642"/>
                  </a:lnTo>
                  <a:lnTo>
                    <a:pt x="2765" y="1686"/>
                  </a:lnTo>
                  <a:lnTo>
                    <a:pt x="2757" y="1730"/>
                  </a:lnTo>
                  <a:lnTo>
                    <a:pt x="2746" y="1773"/>
                  </a:lnTo>
                  <a:lnTo>
                    <a:pt x="2786" y="1784"/>
                  </a:lnTo>
                  <a:lnTo>
                    <a:pt x="2796" y="1740"/>
                  </a:lnTo>
                  <a:lnTo>
                    <a:pt x="2806" y="1694"/>
                  </a:lnTo>
                  <a:lnTo>
                    <a:pt x="2815" y="1649"/>
                  </a:lnTo>
                  <a:lnTo>
                    <a:pt x="2821" y="1604"/>
                  </a:lnTo>
                  <a:lnTo>
                    <a:pt x="2827" y="1557"/>
                  </a:lnTo>
                  <a:lnTo>
                    <a:pt x="2831" y="1510"/>
                  </a:lnTo>
                  <a:lnTo>
                    <a:pt x="2833" y="1463"/>
                  </a:lnTo>
                  <a:lnTo>
                    <a:pt x="2834" y="141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19400" y="2442960"/>
              <a:ext cx="1108080" cy="1108080"/>
            </a:xfrm>
            <a:custGeom>
              <a:avLst/>
              <a:gdLst/>
              <a:ahLst/>
              <a:rect l="l" t="t" r="r" b="b"/>
              <a:pathLst>
                <a:path w="2791" h="2791">
                  <a:moveTo>
                    <a:pt x="2791" y="1396"/>
                  </a:moveTo>
                  <a:lnTo>
                    <a:pt x="2790" y="1323"/>
                  </a:lnTo>
                  <a:lnTo>
                    <a:pt x="2784" y="1253"/>
                  </a:lnTo>
                  <a:lnTo>
                    <a:pt x="2774" y="1183"/>
                  </a:lnTo>
                  <a:lnTo>
                    <a:pt x="2763" y="1114"/>
                  </a:lnTo>
                  <a:lnTo>
                    <a:pt x="2747" y="1047"/>
                  </a:lnTo>
                  <a:lnTo>
                    <a:pt x="2728" y="981"/>
                  </a:lnTo>
                  <a:lnTo>
                    <a:pt x="2706" y="916"/>
                  </a:lnTo>
                  <a:lnTo>
                    <a:pt x="2682" y="852"/>
                  </a:lnTo>
                  <a:lnTo>
                    <a:pt x="2653" y="791"/>
                  </a:lnTo>
                  <a:lnTo>
                    <a:pt x="2622" y="730"/>
                  </a:lnTo>
                  <a:lnTo>
                    <a:pt x="2589" y="672"/>
                  </a:lnTo>
                  <a:lnTo>
                    <a:pt x="2553" y="615"/>
                  </a:lnTo>
                  <a:lnTo>
                    <a:pt x="2514" y="561"/>
                  </a:lnTo>
                  <a:lnTo>
                    <a:pt x="2472" y="508"/>
                  </a:lnTo>
                  <a:lnTo>
                    <a:pt x="2429" y="457"/>
                  </a:lnTo>
                  <a:lnTo>
                    <a:pt x="2382" y="409"/>
                  </a:lnTo>
                  <a:lnTo>
                    <a:pt x="2334" y="362"/>
                  </a:lnTo>
                  <a:lnTo>
                    <a:pt x="2283" y="319"/>
                  </a:lnTo>
                  <a:lnTo>
                    <a:pt x="2230" y="278"/>
                  </a:lnTo>
                  <a:lnTo>
                    <a:pt x="2176" y="239"/>
                  </a:lnTo>
                  <a:lnTo>
                    <a:pt x="2119" y="202"/>
                  </a:lnTo>
                  <a:lnTo>
                    <a:pt x="2060" y="169"/>
                  </a:lnTo>
                  <a:lnTo>
                    <a:pt x="2001" y="137"/>
                  </a:lnTo>
                  <a:lnTo>
                    <a:pt x="1938" y="109"/>
                  </a:lnTo>
                  <a:lnTo>
                    <a:pt x="1875" y="85"/>
                  </a:lnTo>
                  <a:lnTo>
                    <a:pt x="1811" y="63"/>
                  </a:lnTo>
                  <a:lnTo>
                    <a:pt x="1744" y="45"/>
                  </a:lnTo>
                  <a:lnTo>
                    <a:pt x="1677" y="28"/>
                  </a:lnTo>
                  <a:lnTo>
                    <a:pt x="1608" y="17"/>
                  </a:lnTo>
                  <a:lnTo>
                    <a:pt x="1538" y="8"/>
                  </a:lnTo>
                  <a:lnTo>
                    <a:pt x="1467" y="2"/>
                  </a:lnTo>
                  <a:lnTo>
                    <a:pt x="1395" y="0"/>
                  </a:lnTo>
                  <a:lnTo>
                    <a:pt x="1323" y="2"/>
                  </a:lnTo>
                  <a:lnTo>
                    <a:pt x="1252" y="8"/>
                  </a:lnTo>
                  <a:lnTo>
                    <a:pt x="1183" y="17"/>
                  </a:lnTo>
                  <a:lnTo>
                    <a:pt x="1114" y="28"/>
                  </a:lnTo>
                  <a:lnTo>
                    <a:pt x="1047" y="45"/>
                  </a:lnTo>
                  <a:lnTo>
                    <a:pt x="980" y="63"/>
                  </a:lnTo>
                  <a:lnTo>
                    <a:pt x="915" y="85"/>
                  </a:lnTo>
                  <a:lnTo>
                    <a:pt x="852" y="109"/>
                  </a:lnTo>
                  <a:lnTo>
                    <a:pt x="790" y="137"/>
                  </a:lnTo>
                  <a:lnTo>
                    <a:pt x="730" y="169"/>
                  </a:lnTo>
                  <a:lnTo>
                    <a:pt x="672" y="202"/>
                  </a:lnTo>
                  <a:lnTo>
                    <a:pt x="614" y="239"/>
                  </a:lnTo>
                  <a:lnTo>
                    <a:pt x="560" y="278"/>
                  </a:lnTo>
                  <a:lnTo>
                    <a:pt x="508" y="319"/>
                  </a:lnTo>
                  <a:lnTo>
                    <a:pt x="457" y="362"/>
                  </a:lnTo>
                  <a:lnTo>
                    <a:pt x="408" y="409"/>
                  </a:lnTo>
                  <a:lnTo>
                    <a:pt x="362" y="457"/>
                  </a:lnTo>
                  <a:lnTo>
                    <a:pt x="318" y="508"/>
                  </a:lnTo>
                  <a:lnTo>
                    <a:pt x="276" y="561"/>
                  </a:lnTo>
                  <a:lnTo>
                    <a:pt x="237" y="615"/>
                  </a:lnTo>
                  <a:lnTo>
                    <a:pt x="202" y="672"/>
                  </a:lnTo>
                  <a:lnTo>
                    <a:pt x="168" y="730"/>
                  </a:lnTo>
                  <a:lnTo>
                    <a:pt x="137" y="791"/>
                  </a:lnTo>
                  <a:lnTo>
                    <a:pt x="109" y="852"/>
                  </a:lnTo>
                  <a:lnTo>
                    <a:pt x="84" y="916"/>
                  </a:lnTo>
                  <a:lnTo>
                    <a:pt x="62" y="981"/>
                  </a:lnTo>
                  <a:lnTo>
                    <a:pt x="43" y="1047"/>
                  </a:lnTo>
                  <a:lnTo>
                    <a:pt x="28" y="1114"/>
                  </a:lnTo>
                  <a:lnTo>
                    <a:pt x="16" y="1183"/>
                  </a:lnTo>
                  <a:lnTo>
                    <a:pt x="6" y="1253"/>
                  </a:lnTo>
                  <a:lnTo>
                    <a:pt x="1" y="1323"/>
                  </a:lnTo>
                  <a:lnTo>
                    <a:pt x="0" y="1396"/>
                  </a:lnTo>
                  <a:lnTo>
                    <a:pt x="1" y="1467"/>
                  </a:lnTo>
                  <a:lnTo>
                    <a:pt x="6" y="1538"/>
                  </a:lnTo>
                  <a:lnTo>
                    <a:pt x="16" y="1607"/>
                  </a:lnTo>
                  <a:lnTo>
                    <a:pt x="28" y="1676"/>
                  </a:lnTo>
                  <a:lnTo>
                    <a:pt x="43" y="1745"/>
                  </a:lnTo>
                  <a:lnTo>
                    <a:pt x="62" y="1810"/>
                  </a:lnTo>
                  <a:lnTo>
                    <a:pt x="84" y="1875"/>
                  </a:lnTo>
                  <a:lnTo>
                    <a:pt x="109" y="1939"/>
                  </a:lnTo>
                  <a:lnTo>
                    <a:pt x="137" y="2000"/>
                  </a:lnTo>
                  <a:lnTo>
                    <a:pt x="168" y="2061"/>
                  </a:lnTo>
                  <a:lnTo>
                    <a:pt x="202" y="2119"/>
                  </a:lnTo>
                  <a:lnTo>
                    <a:pt x="237" y="2175"/>
                  </a:lnTo>
                  <a:lnTo>
                    <a:pt x="276" y="2231"/>
                  </a:lnTo>
                  <a:lnTo>
                    <a:pt x="318" y="2283"/>
                  </a:lnTo>
                  <a:lnTo>
                    <a:pt x="362" y="2333"/>
                  </a:lnTo>
                  <a:lnTo>
                    <a:pt x="408" y="2382"/>
                  </a:lnTo>
                  <a:lnTo>
                    <a:pt x="457" y="2428"/>
                  </a:lnTo>
                  <a:lnTo>
                    <a:pt x="508" y="2472"/>
                  </a:lnTo>
                  <a:lnTo>
                    <a:pt x="560" y="2513"/>
                  </a:lnTo>
                  <a:lnTo>
                    <a:pt x="614" y="2552"/>
                  </a:lnTo>
                  <a:lnTo>
                    <a:pt x="672" y="2589"/>
                  </a:lnTo>
                  <a:lnTo>
                    <a:pt x="730" y="2623"/>
                  </a:lnTo>
                  <a:lnTo>
                    <a:pt x="790" y="2653"/>
                  </a:lnTo>
                  <a:lnTo>
                    <a:pt x="852" y="2681"/>
                  </a:lnTo>
                  <a:lnTo>
                    <a:pt x="915" y="2706"/>
                  </a:lnTo>
                  <a:lnTo>
                    <a:pt x="980" y="2728"/>
                  </a:lnTo>
                  <a:lnTo>
                    <a:pt x="1047" y="2747"/>
                  </a:lnTo>
                  <a:lnTo>
                    <a:pt x="1114" y="2762"/>
                  </a:lnTo>
                  <a:lnTo>
                    <a:pt x="1183" y="2775"/>
                  </a:lnTo>
                  <a:lnTo>
                    <a:pt x="1252" y="2783"/>
                  </a:lnTo>
                  <a:lnTo>
                    <a:pt x="1323" y="2789"/>
                  </a:lnTo>
                  <a:lnTo>
                    <a:pt x="1395" y="2791"/>
                  </a:lnTo>
                  <a:lnTo>
                    <a:pt x="1436" y="2790"/>
                  </a:lnTo>
                  <a:lnTo>
                    <a:pt x="1477" y="2788"/>
                  </a:lnTo>
                  <a:lnTo>
                    <a:pt x="1518" y="2786"/>
                  </a:lnTo>
                  <a:lnTo>
                    <a:pt x="1558" y="2781"/>
                  </a:lnTo>
                  <a:lnTo>
                    <a:pt x="1597" y="2776"/>
                  </a:lnTo>
                  <a:lnTo>
                    <a:pt x="1637" y="2769"/>
                  </a:lnTo>
                  <a:lnTo>
                    <a:pt x="1676" y="2763"/>
                  </a:lnTo>
                  <a:lnTo>
                    <a:pt x="1714" y="2754"/>
                  </a:lnTo>
                  <a:lnTo>
                    <a:pt x="1752" y="2745"/>
                  </a:lnTo>
                  <a:lnTo>
                    <a:pt x="1790" y="2734"/>
                  </a:lnTo>
                  <a:lnTo>
                    <a:pt x="1828" y="2722"/>
                  </a:lnTo>
                  <a:lnTo>
                    <a:pt x="1865" y="2710"/>
                  </a:lnTo>
                  <a:lnTo>
                    <a:pt x="1900" y="2696"/>
                  </a:lnTo>
                  <a:lnTo>
                    <a:pt x="1937" y="2682"/>
                  </a:lnTo>
                  <a:lnTo>
                    <a:pt x="1973" y="2666"/>
                  </a:lnTo>
                  <a:lnTo>
                    <a:pt x="2007" y="2650"/>
                  </a:lnTo>
                  <a:lnTo>
                    <a:pt x="1989" y="2612"/>
                  </a:lnTo>
                  <a:lnTo>
                    <a:pt x="1955" y="2628"/>
                  </a:lnTo>
                  <a:lnTo>
                    <a:pt x="1921" y="2643"/>
                  </a:lnTo>
                  <a:lnTo>
                    <a:pt x="1886" y="2657"/>
                  </a:lnTo>
                  <a:lnTo>
                    <a:pt x="1851" y="2670"/>
                  </a:lnTo>
                  <a:lnTo>
                    <a:pt x="1815" y="2683"/>
                  </a:lnTo>
                  <a:lnTo>
                    <a:pt x="1778" y="2694"/>
                  </a:lnTo>
                  <a:lnTo>
                    <a:pt x="1741" y="2705"/>
                  </a:lnTo>
                  <a:lnTo>
                    <a:pt x="1705" y="2713"/>
                  </a:lnTo>
                  <a:lnTo>
                    <a:pt x="1667" y="2722"/>
                  </a:lnTo>
                  <a:lnTo>
                    <a:pt x="1629" y="2728"/>
                  </a:lnTo>
                  <a:lnTo>
                    <a:pt x="1591" y="2735"/>
                  </a:lnTo>
                  <a:lnTo>
                    <a:pt x="1552" y="2740"/>
                  </a:lnTo>
                  <a:lnTo>
                    <a:pt x="1514" y="2744"/>
                  </a:lnTo>
                  <a:lnTo>
                    <a:pt x="1475" y="2747"/>
                  </a:lnTo>
                  <a:lnTo>
                    <a:pt x="1435" y="2749"/>
                  </a:lnTo>
                  <a:lnTo>
                    <a:pt x="1395" y="2749"/>
                  </a:lnTo>
                  <a:lnTo>
                    <a:pt x="1325" y="2747"/>
                  </a:lnTo>
                  <a:lnTo>
                    <a:pt x="1256" y="2742"/>
                  </a:lnTo>
                  <a:lnTo>
                    <a:pt x="1189" y="2734"/>
                  </a:lnTo>
                  <a:lnTo>
                    <a:pt x="1122" y="2722"/>
                  </a:lnTo>
                  <a:lnTo>
                    <a:pt x="1056" y="2707"/>
                  </a:lnTo>
                  <a:lnTo>
                    <a:pt x="993" y="2688"/>
                  </a:lnTo>
                  <a:lnTo>
                    <a:pt x="930" y="2667"/>
                  </a:lnTo>
                  <a:lnTo>
                    <a:pt x="868" y="2643"/>
                  </a:lnTo>
                  <a:lnTo>
                    <a:pt x="808" y="2615"/>
                  </a:lnTo>
                  <a:lnTo>
                    <a:pt x="750" y="2586"/>
                  </a:lnTo>
                  <a:lnTo>
                    <a:pt x="693" y="2553"/>
                  </a:lnTo>
                  <a:lnTo>
                    <a:pt x="638" y="2518"/>
                  </a:lnTo>
                  <a:lnTo>
                    <a:pt x="585" y="2480"/>
                  </a:lnTo>
                  <a:lnTo>
                    <a:pt x="533" y="2440"/>
                  </a:lnTo>
                  <a:lnTo>
                    <a:pt x="485" y="2397"/>
                  </a:lnTo>
                  <a:lnTo>
                    <a:pt x="437" y="2353"/>
                  </a:lnTo>
                  <a:lnTo>
                    <a:pt x="393" y="2305"/>
                  </a:lnTo>
                  <a:lnTo>
                    <a:pt x="350" y="2256"/>
                  </a:lnTo>
                  <a:lnTo>
                    <a:pt x="310" y="2206"/>
                  </a:lnTo>
                  <a:lnTo>
                    <a:pt x="272" y="2152"/>
                  </a:lnTo>
                  <a:lnTo>
                    <a:pt x="237" y="2098"/>
                  </a:lnTo>
                  <a:lnTo>
                    <a:pt x="204" y="2040"/>
                  </a:lnTo>
                  <a:lnTo>
                    <a:pt x="175" y="1982"/>
                  </a:lnTo>
                  <a:lnTo>
                    <a:pt x="148" y="1923"/>
                  </a:lnTo>
                  <a:lnTo>
                    <a:pt x="123" y="1861"/>
                  </a:lnTo>
                  <a:lnTo>
                    <a:pt x="102" y="1797"/>
                  </a:lnTo>
                  <a:lnTo>
                    <a:pt x="84" y="1734"/>
                  </a:lnTo>
                  <a:lnTo>
                    <a:pt x="69" y="1668"/>
                  </a:lnTo>
                  <a:lnTo>
                    <a:pt x="57" y="1602"/>
                  </a:lnTo>
                  <a:lnTo>
                    <a:pt x="48" y="1534"/>
                  </a:lnTo>
                  <a:lnTo>
                    <a:pt x="43" y="1465"/>
                  </a:lnTo>
                  <a:lnTo>
                    <a:pt x="41" y="1396"/>
                  </a:lnTo>
                  <a:lnTo>
                    <a:pt x="43" y="1325"/>
                  </a:lnTo>
                  <a:lnTo>
                    <a:pt x="48" y="1257"/>
                  </a:lnTo>
                  <a:lnTo>
                    <a:pt x="57" y="1189"/>
                  </a:lnTo>
                  <a:lnTo>
                    <a:pt x="69" y="1122"/>
                  </a:lnTo>
                  <a:lnTo>
                    <a:pt x="84" y="1058"/>
                  </a:lnTo>
                  <a:lnTo>
                    <a:pt x="102" y="993"/>
                  </a:lnTo>
                  <a:lnTo>
                    <a:pt x="123" y="930"/>
                  </a:lnTo>
                  <a:lnTo>
                    <a:pt x="148" y="869"/>
                  </a:lnTo>
                  <a:lnTo>
                    <a:pt x="175" y="808"/>
                  </a:lnTo>
                  <a:lnTo>
                    <a:pt x="204" y="750"/>
                  </a:lnTo>
                  <a:lnTo>
                    <a:pt x="237" y="694"/>
                  </a:lnTo>
                  <a:lnTo>
                    <a:pt x="272" y="639"/>
                  </a:lnTo>
                  <a:lnTo>
                    <a:pt x="310" y="586"/>
                  </a:lnTo>
                  <a:lnTo>
                    <a:pt x="350" y="535"/>
                  </a:lnTo>
                  <a:lnTo>
                    <a:pt x="393" y="485"/>
                  </a:lnTo>
                  <a:lnTo>
                    <a:pt x="437" y="439"/>
                  </a:lnTo>
                  <a:lnTo>
                    <a:pt x="485" y="393"/>
                  </a:lnTo>
                  <a:lnTo>
                    <a:pt x="533" y="351"/>
                  </a:lnTo>
                  <a:lnTo>
                    <a:pt x="585" y="310"/>
                  </a:lnTo>
                  <a:lnTo>
                    <a:pt x="638" y="272"/>
                  </a:lnTo>
                  <a:lnTo>
                    <a:pt x="693" y="238"/>
                  </a:lnTo>
                  <a:lnTo>
                    <a:pt x="750" y="206"/>
                  </a:lnTo>
                  <a:lnTo>
                    <a:pt x="808" y="175"/>
                  </a:lnTo>
                  <a:lnTo>
                    <a:pt x="868" y="148"/>
                  </a:lnTo>
                  <a:lnTo>
                    <a:pt x="930" y="123"/>
                  </a:lnTo>
                  <a:lnTo>
                    <a:pt x="993" y="103"/>
                  </a:lnTo>
                  <a:lnTo>
                    <a:pt x="1056" y="85"/>
                  </a:lnTo>
                  <a:lnTo>
                    <a:pt x="1122" y="69"/>
                  </a:lnTo>
                  <a:lnTo>
                    <a:pt x="1189" y="58"/>
                  </a:lnTo>
                  <a:lnTo>
                    <a:pt x="1256" y="49"/>
                  </a:lnTo>
                  <a:lnTo>
                    <a:pt x="1325" y="44"/>
                  </a:lnTo>
                  <a:lnTo>
                    <a:pt x="1395" y="41"/>
                  </a:lnTo>
                  <a:lnTo>
                    <a:pt x="1465" y="44"/>
                  </a:lnTo>
                  <a:lnTo>
                    <a:pt x="1534" y="49"/>
                  </a:lnTo>
                  <a:lnTo>
                    <a:pt x="1601" y="58"/>
                  </a:lnTo>
                  <a:lnTo>
                    <a:pt x="1668" y="69"/>
                  </a:lnTo>
                  <a:lnTo>
                    <a:pt x="1734" y="85"/>
                  </a:lnTo>
                  <a:lnTo>
                    <a:pt x="1798" y="103"/>
                  </a:lnTo>
                  <a:lnTo>
                    <a:pt x="1860" y="123"/>
                  </a:lnTo>
                  <a:lnTo>
                    <a:pt x="1922" y="148"/>
                  </a:lnTo>
                  <a:lnTo>
                    <a:pt x="1982" y="175"/>
                  </a:lnTo>
                  <a:lnTo>
                    <a:pt x="2041" y="206"/>
                  </a:lnTo>
                  <a:lnTo>
                    <a:pt x="2097" y="238"/>
                  </a:lnTo>
                  <a:lnTo>
                    <a:pt x="2152" y="272"/>
                  </a:lnTo>
                  <a:lnTo>
                    <a:pt x="2205" y="310"/>
                  </a:lnTo>
                  <a:lnTo>
                    <a:pt x="2257" y="351"/>
                  </a:lnTo>
                  <a:lnTo>
                    <a:pt x="2306" y="393"/>
                  </a:lnTo>
                  <a:lnTo>
                    <a:pt x="2353" y="439"/>
                  </a:lnTo>
                  <a:lnTo>
                    <a:pt x="2397" y="485"/>
                  </a:lnTo>
                  <a:lnTo>
                    <a:pt x="2441" y="535"/>
                  </a:lnTo>
                  <a:lnTo>
                    <a:pt x="2481" y="586"/>
                  </a:lnTo>
                  <a:lnTo>
                    <a:pt x="2518" y="639"/>
                  </a:lnTo>
                  <a:lnTo>
                    <a:pt x="2553" y="694"/>
                  </a:lnTo>
                  <a:lnTo>
                    <a:pt x="2585" y="750"/>
                  </a:lnTo>
                  <a:lnTo>
                    <a:pt x="2616" y="808"/>
                  </a:lnTo>
                  <a:lnTo>
                    <a:pt x="2643" y="869"/>
                  </a:lnTo>
                  <a:lnTo>
                    <a:pt x="2668" y="930"/>
                  </a:lnTo>
                  <a:lnTo>
                    <a:pt x="2688" y="993"/>
                  </a:lnTo>
                  <a:lnTo>
                    <a:pt x="2706" y="1058"/>
                  </a:lnTo>
                  <a:lnTo>
                    <a:pt x="2722" y="1122"/>
                  </a:lnTo>
                  <a:lnTo>
                    <a:pt x="2733" y="1189"/>
                  </a:lnTo>
                  <a:lnTo>
                    <a:pt x="2742" y="1257"/>
                  </a:lnTo>
                  <a:lnTo>
                    <a:pt x="2747" y="1325"/>
                  </a:lnTo>
                  <a:lnTo>
                    <a:pt x="2750" y="1396"/>
                  </a:lnTo>
                  <a:lnTo>
                    <a:pt x="2749" y="1441"/>
                  </a:lnTo>
                  <a:lnTo>
                    <a:pt x="2746" y="1486"/>
                  </a:lnTo>
                  <a:lnTo>
                    <a:pt x="2743" y="1531"/>
                  </a:lnTo>
                  <a:lnTo>
                    <a:pt x="2738" y="1575"/>
                  </a:lnTo>
                  <a:lnTo>
                    <a:pt x="2731" y="1619"/>
                  </a:lnTo>
                  <a:lnTo>
                    <a:pt x="2723" y="1662"/>
                  </a:lnTo>
                  <a:lnTo>
                    <a:pt x="2714" y="1705"/>
                  </a:lnTo>
                  <a:lnTo>
                    <a:pt x="2703" y="1748"/>
                  </a:lnTo>
                  <a:lnTo>
                    <a:pt x="2743" y="1759"/>
                  </a:lnTo>
                  <a:lnTo>
                    <a:pt x="2754" y="1714"/>
                  </a:lnTo>
                  <a:lnTo>
                    <a:pt x="2764" y="1670"/>
                  </a:lnTo>
                  <a:lnTo>
                    <a:pt x="2772" y="1626"/>
                  </a:lnTo>
                  <a:lnTo>
                    <a:pt x="2779" y="1580"/>
                  </a:lnTo>
                  <a:lnTo>
                    <a:pt x="2784" y="1535"/>
                  </a:lnTo>
                  <a:lnTo>
                    <a:pt x="2787" y="1489"/>
                  </a:lnTo>
                  <a:lnTo>
                    <a:pt x="2791" y="1442"/>
                  </a:lnTo>
                  <a:lnTo>
                    <a:pt x="2791" y="1396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29120" y="2450880"/>
              <a:ext cx="1090440" cy="1092240"/>
            </a:xfrm>
            <a:custGeom>
              <a:avLst/>
              <a:gdLst/>
              <a:ahLst/>
              <a:rect l="l" t="t" r="r" b="b"/>
              <a:pathLst>
                <a:path w="2750" h="2748">
                  <a:moveTo>
                    <a:pt x="2750" y="1375"/>
                  </a:moveTo>
                  <a:lnTo>
                    <a:pt x="2748" y="1303"/>
                  </a:lnTo>
                  <a:lnTo>
                    <a:pt x="2743" y="1234"/>
                  </a:lnTo>
                  <a:lnTo>
                    <a:pt x="2734" y="1165"/>
                  </a:lnTo>
                  <a:lnTo>
                    <a:pt x="2722" y="1097"/>
                  </a:lnTo>
                  <a:lnTo>
                    <a:pt x="2707" y="1031"/>
                  </a:lnTo>
                  <a:lnTo>
                    <a:pt x="2689" y="965"/>
                  </a:lnTo>
                  <a:lnTo>
                    <a:pt x="2667" y="902"/>
                  </a:lnTo>
                  <a:lnTo>
                    <a:pt x="2642" y="839"/>
                  </a:lnTo>
                  <a:lnTo>
                    <a:pt x="2615" y="779"/>
                  </a:lnTo>
                  <a:lnTo>
                    <a:pt x="2584" y="719"/>
                  </a:lnTo>
                  <a:lnTo>
                    <a:pt x="2551" y="662"/>
                  </a:lnTo>
                  <a:lnTo>
                    <a:pt x="2516" y="606"/>
                  </a:lnTo>
                  <a:lnTo>
                    <a:pt x="2477" y="552"/>
                  </a:lnTo>
                  <a:lnTo>
                    <a:pt x="2436" y="500"/>
                  </a:lnTo>
                  <a:lnTo>
                    <a:pt x="2393" y="450"/>
                  </a:lnTo>
                  <a:lnTo>
                    <a:pt x="2347" y="403"/>
                  </a:lnTo>
                  <a:lnTo>
                    <a:pt x="2300" y="357"/>
                  </a:lnTo>
                  <a:lnTo>
                    <a:pt x="2250" y="314"/>
                  </a:lnTo>
                  <a:lnTo>
                    <a:pt x="2198" y="273"/>
                  </a:lnTo>
                  <a:lnTo>
                    <a:pt x="2144" y="234"/>
                  </a:lnTo>
                  <a:lnTo>
                    <a:pt x="2088" y="199"/>
                  </a:lnTo>
                  <a:lnTo>
                    <a:pt x="2031" y="166"/>
                  </a:lnTo>
                  <a:lnTo>
                    <a:pt x="1971" y="136"/>
                  </a:lnTo>
                  <a:lnTo>
                    <a:pt x="1911" y="108"/>
                  </a:lnTo>
                  <a:lnTo>
                    <a:pt x="1848" y="83"/>
                  </a:lnTo>
                  <a:lnTo>
                    <a:pt x="1784" y="61"/>
                  </a:lnTo>
                  <a:lnTo>
                    <a:pt x="1718" y="43"/>
                  </a:lnTo>
                  <a:lnTo>
                    <a:pt x="1652" y="28"/>
                  </a:lnTo>
                  <a:lnTo>
                    <a:pt x="1584" y="16"/>
                  </a:lnTo>
                  <a:lnTo>
                    <a:pt x="1516" y="7"/>
                  </a:lnTo>
                  <a:lnTo>
                    <a:pt x="1446" y="2"/>
                  </a:lnTo>
                  <a:lnTo>
                    <a:pt x="1375" y="0"/>
                  </a:lnTo>
                  <a:lnTo>
                    <a:pt x="1304" y="2"/>
                  </a:lnTo>
                  <a:lnTo>
                    <a:pt x="1234" y="7"/>
                  </a:lnTo>
                  <a:lnTo>
                    <a:pt x="1166" y="16"/>
                  </a:lnTo>
                  <a:lnTo>
                    <a:pt x="1098" y="28"/>
                  </a:lnTo>
                  <a:lnTo>
                    <a:pt x="1031" y="43"/>
                  </a:lnTo>
                  <a:lnTo>
                    <a:pt x="966" y="61"/>
                  </a:lnTo>
                  <a:lnTo>
                    <a:pt x="902" y="83"/>
                  </a:lnTo>
                  <a:lnTo>
                    <a:pt x="840" y="108"/>
                  </a:lnTo>
                  <a:lnTo>
                    <a:pt x="779" y="136"/>
                  </a:lnTo>
                  <a:lnTo>
                    <a:pt x="720" y="166"/>
                  </a:lnTo>
                  <a:lnTo>
                    <a:pt x="663" y="199"/>
                  </a:lnTo>
                  <a:lnTo>
                    <a:pt x="606" y="234"/>
                  </a:lnTo>
                  <a:lnTo>
                    <a:pt x="552" y="273"/>
                  </a:lnTo>
                  <a:lnTo>
                    <a:pt x="500" y="314"/>
                  </a:lnTo>
                  <a:lnTo>
                    <a:pt x="451" y="357"/>
                  </a:lnTo>
                  <a:lnTo>
                    <a:pt x="403" y="403"/>
                  </a:lnTo>
                  <a:lnTo>
                    <a:pt x="358" y="450"/>
                  </a:lnTo>
                  <a:lnTo>
                    <a:pt x="315" y="500"/>
                  </a:lnTo>
                  <a:lnTo>
                    <a:pt x="274" y="552"/>
                  </a:lnTo>
                  <a:lnTo>
                    <a:pt x="235" y="606"/>
                  </a:lnTo>
                  <a:lnTo>
                    <a:pt x="199" y="662"/>
                  </a:lnTo>
                  <a:lnTo>
                    <a:pt x="167" y="719"/>
                  </a:lnTo>
                  <a:lnTo>
                    <a:pt x="135" y="779"/>
                  </a:lnTo>
                  <a:lnTo>
                    <a:pt x="108" y="839"/>
                  </a:lnTo>
                  <a:lnTo>
                    <a:pt x="83" y="902"/>
                  </a:lnTo>
                  <a:lnTo>
                    <a:pt x="62" y="965"/>
                  </a:lnTo>
                  <a:lnTo>
                    <a:pt x="43" y="1031"/>
                  </a:lnTo>
                  <a:lnTo>
                    <a:pt x="28" y="1097"/>
                  </a:lnTo>
                  <a:lnTo>
                    <a:pt x="16" y="1165"/>
                  </a:lnTo>
                  <a:lnTo>
                    <a:pt x="7" y="1234"/>
                  </a:lnTo>
                  <a:lnTo>
                    <a:pt x="2" y="1303"/>
                  </a:lnTo>
                  <a:lnTo>
                    <a:pt x="0" y="1375"/>
                  </a:lnTo>
                  <a:lnTo>
                    <a:pt x="2" y="1445"/>
                  </a:lnTo>
                  <a:lnTo>
                    <a:pt x="7" y="1515"/>
                  </a:lnTo>
                  <a:lnTo>
                    <a:pt x="16" y="1584"/>
                  </a:lnTo>
                  <a:lnTo>
                    <a:pt x="28" y="1651"/>
                  </a:lnTo>
                  <a:lnTo>
                    <a:pt x="43" y="1718"/>
                  </a:lnTo>
                  <a:lnTo>
                    <a:pt x="62" y="1783"/>
                  </a:lnTo>
                  <a:lnTo>
                    <a:pt x="83" y="1847"/>
                  </a:lnTo>
                  <a:lnTo>
                    <a:pt x="108" y="1909"/>
                  </a:lnTo>
                  <a:lnTo>
                    <a:pt x="135" y="1970"/>
                  </a:lnTo>
                  <a:lnTo>
                    <a:pt x="167" y="2029"/>
                  </a:lnTo>
                  <a:lnTo>
                    <a:pt x="199" y="2087"/>
                  </a:lnTo>
                  <a:lnTo>
                    <a:pt x="235" y="2143"/>
                  </a:lnTo>
                  <a:lnTo>
                    <a:pt x="274" y="2197"/>
                  </a:lnTo>
                  <a:lnTo>
                    <a:pt x="315" y="2248"/>
                  </a:lnTo>
                  <a:lnTo>
                    <a:pt x="358" y="2298"/>
                  </a:lnTo>
                  <a:lnTo>
                    <a:pt x="403" y="2347"/>
                  </a:lnTo>
                  <a:lnTo>
                    <a:pt x="451" y="2392"/>
                  </a:lnTo>
                  <a:lnTo>
                    <a:pt x="500" y="2435"/>
                  </a:lnTo>
                  <a:lnTo>
                    <a:pt x="552" y="2476"/>
                  </a:lnTo>
                  <a:lnTo>
                    <a:pt x="606" y="2514"/>
                  </a:lnTo>
                  <a:lnTo>
                    <a:pt x="663" y="2550"/>
                  </a:lnTo>
                  <a:lnTo>
                    <a:pt x="720" y="2583"/>
                  </a:lnTo>
                  <a:lnTo>
                    <a:pt x="779" y="2613"/>
                  </a:lnTo>
                  <a:lnTo>
                    <a:pt x="840" y="2640"/>
                  </a:lnTo>
                  <a:lnTo>
                    <a:pt x="902" y="2665"/>
                  </a:lnTo>
                  <a:lnTo>
                    <a:pt x="966" y="2687"/>
                  </a:lnTo>
                  <a:lnTo>
                    <a:pt x="1031" y="2705"/>
                  </a:lnTo>
                  <a:lnTo>
                    <a:pt x="1098" y="2721"/>
                  </a:lnTo>
                  <a:lnTo>
                    <a:pt x="1166" y="2733"/>
                  </a:lnTo>
                  <a:lnTo>
                    <a:pt x="1234" y="2742"/>
                  </a:lnTo>
                  <a:lnTo>
                    <a:pt x="1304" y="2747"/>
                  </a:lnTo>
                  <a:lnTo>
                    <a:pt x="1375" y="2748"/>
                  </a:lnTo>
                  <a:lnTo>
                    <a:pt x="1416" y="2748"/>
                  </a:lnTo>
                  <a:lnTo>
                    <a:pt x="1456" y="2746"/>
                  </a:lnTo>
                  <a:lnTo>
                    <a:pt x="1496" y="2744"/>
                  </a:lnTo>
                  <a:lnTo>
                    <a:pt x="1535" y="2740"/>
                  </a:lnTo>
                  <a:lnTo>
                    <a:pt x="1575" y="2734"/>
                  </a:lnTo>
                  <a:lnTo>
                    <a:pt x="1613" y="2728"/>
                  </a:lnTo>
                  <a:lnTo>
                    <a:pt x="1651" y="2721"/>
                  </a:lnTo>
                  <a:lnTo>
                    <a:pt x="1689" y="2713"/>
                  </a:lnTo>
                  <a:lnTo>
                    <a:pt x="1727" y="2703"/>
                  </a:lnTo>
                  <a:lnTo>
                    <a:pt x="1765" y="2693"/>
                  </a:lnTo>
                  <a:lnTo>
                    <a:pt x="1801" y="2681"/>
                  </a:lnTo>
                  <a:lnTo>
                    <a:pt x="1837" y="2670"/>
                  </a:lnTo>
                  <a:lnTo>
                    <a:pt x="1873" y="2656"/>
                  </a:lnTo>
                  <a:lnTo>
                    <a:pt x="1908" y="2642"/>
                  </a:lnTo>
                  <a:lnTo>
                    <a:pt x="1944" y="2626"/>
                  </a:lnTo>
                  <a:lnTo>
                    <a:pt x="1978" y="2610"/>
                  </a:lnTo>
                  <a:lnTo>
                    <a:pt x="1960" y="2572"/>
                  </a:lnTo>
                  <a:lnTo>
                    <a:pt x="1927" y="2589"/>
                  </a:lnTo>
                  <a:lnTo>
                    <a:pt x="1892" y="2603"/>
                  </a:lnTo>
                  <a:lnTo>
                    <a:pt x="1859" y="2617"/>
                  </a:lnTo>
                  <a:lnTo>
                    <a:pt x="1823" y="2630"/>
                  </a:lnTo>
                  <a:lnTo>
                    <a:pt x="1788" y="2642"/>
                  </a:lnTo>
                  <a:lnTo>
                    <a:pt x="1753" y="2653"/>
                  </a:lnTo>
                  <a:lnTo>
                    <a:pt x="1716" y="2663"/>
                  </a:lnTo>
                  <a:lnTo>
                    <a:pt x="1680" y="2672"/>
                  </a:lnTo>
                  <a:lnTo>
                    <a:pt x="1643" y="2680"/>
                  </a:lnTo>
                  <a:lnTo>
                    <a:pt x="1606" y="2687"/>
                  </a:lnTo>
                  <a:lnTo>
                    <a:pt x="1568" y="2693"/>
                  </a:lnTo>
                  <a:lnTo>
                    <a:pt x="1530" y="2699"/>
                  </a:lnTo>
                  <a:lnTo>
                    <a:pt x="1491" y="2702"/>
                  </a:lnTo>
                  <a:lnTo>
                    <a:pt x="1454" y="2705"/>
                  </a:lnTo>
                  <a:lnTo>
                    <a:pt x="1415" y="2706"/>
                  </a:lnTo>
                  <a:lnTo>
                    <a:pt x="1375" y="2707"/>
                  </a:lnTo>
                  <a:lnTo>
                    <a:pt x="1307" y="2705"/>
                  </a:lnTo>
                  <a:lnTo>
                    <a:pt x="1238" y="2700"/>
                  </a:lnTo>
                  <a:lnTo>
                    <a:pt x="1173" y="2692"/>
                  </a:lnTo>
                  <a:lnTo>
                    <a:pt x="1107" y="2680"/>
                  </a:lnTo>
                  <a:lnTo>
                    <a:pt x="1042" y="2665"/>
                  </a:lnTo>
                  <a:lnTo>
                    <a:pt x="979" y="2647"/>
                  </a:lnTo>
                  <a:lnTo>
                    <a:pt x="916" y="2626"/>
                  </a:lnTo>
                  <a:lnTo>
                    <a:pt x="856" y="2603"/>
                  </a:lnTo>
                  <a:lnTo>
                    <a:pt x="797" y="2576"/>
                  </a:lnTo>
                  <a:lnTo>
                    <a:pt x="739" y="2546"/>
                  </a:lnTo>
                  <a:lnTo>
                    <a:pt x="684" y="2514"/>
                  </a:lnTo>
                  <a:lnTo>
                    <a:pt x="630" y="2480"/>
                  </a:lnTo>
                  <a:lnTo>
                    <a:pt x="577" y="2443"/>
                  </a:lnTo>
                  <a:lnTo>
                    <a:pt x="528" y="2403"/>
                  </a:lnTo>
                  <a:lnTo>
                    <a:pt x="479" y="2361"/>
                  </a:lnTo>
                  <a:lnTo>
                    <a:pt x="432" y="2316"/>
                  </a:lnTo>
                  <a:lnTo>
                    <a:pt x="388" y="2270"/>
                  </a:lnTo>
                  <a:lnTo>
                    <a:pt x="346" y="2222"/>
                  </a:lnTo>
                  <a:lnTo>
                    <a:pt x="307" y="2172"/>
                  </a:lnTo>
                  <a:lnTo>
                    <a:pt x="269" y="2120"/>
                  </a:lnTo>
                  <a:lnTo>
                    <a:pt x="235" y="2066"/>
                  </a:lnTo>
                  <a:lnTo>
                    <a:pt x="202" y="2010"/>
                  </a:lnTo>
                  <a:lnTo>
                    <a:pt x="173" y="1952"/>
                  </a:lnTo>
                  <a:lnTo>
                    <a:pt x="146" y="1893"/>
                  </a:lnTo>
                  <a:lnTo>
                    <a:pt x="122" y="1833"/>
                  </a:lnTo>
                  <a:lnTo>
                    <a:pt x="102" y="1771"/>
                  </a:lnTo>
                  <a:lnTo>
                    <a:pt x="83" y="1707"/>
                  </a:lnTo>
                  <a:lnTo>
                    <a:pt x="69" y="1643"/>
                  </a:lnTo>
                  <a:lnTo>
                    <a:pt x="57" y="1578"/>
                  </a:lnTo>
                  <a:lnTo>
                    <a:pt x="49" y="1511"/>
                  </a:lnTo>
                  <a:lnTo>
                    <a:pt x="43" y="1443"/>
                  </a:lnTo>
                  <a:lnTo>
                    <a:pt x="41" y="1375"/>
                  </a:lnTo>
                  <a:lnTo>
                    <a:pt x="43" y="1306"/>
                  </a:lnTo>
                  <a:lnTo>
                    <a:pt x="49" y="1239"/>
                  </a:lnTo>
                  <a:lnTo>
                    <a:pt x="57" y="1172"/>
                  </a:lnTo>
                  <a:lnTo>
                    <a:pt x="69" y="1106"/>
                  </a:lnTo>
                  <a:lnTo>
                    <a:pt x="83" y="1041"/>
                  </a:lnTo>
                  <a:lnTo>
                    <a:pt x="102" y="978"/>
                  </a:lnTo>
                  <a:lnTo>
                    <a:pt x="122" y="916"/>
                  </a:lnTo>
                  <a:lnTo>
                    <a:pt x="146" y="855"/>
                  </a:lnTo>
                  <a:lnTo>
                    <a:pt x="173" y="797"/>
                  </a:lnTo>
                  <a:lnTo>
                    <a:pt x="202" y="740"/>
                  </a:lnTo>
                  <a:lnTo>
                    <a:pt x="235" y="683"/>
                  </a:lnTo>
                  <a:lnTo>
                    <a:pt x="269" y="629"/>
                  </a:lnTo>
                  <a:lnTo>
                    <a:pt x="307" y="577"/>
                  </a:lnTo>
                  <a:lnTo>
                    <a:pt x="346" y="527"/>
                  </a:lnTo>
                  <a:lnTo>
                    <a:pt x="388" y="478"/>
                  </a:lnTo>
                  <a:lnTo>
                    <a:pt x="432" y="432"/>
                  </a:lnTo>
                  <a:lnTo>
                    <a:pt x="479" y="388"/>
                  </a:lnTo>
                  <a:lnTo>
                    <a:pt x="528" y="347"/>
                  </a:lnTo>
                  <a:lnTo>
                    <a:pt x="577" y="307"/>
                  </a:lnTo>
                  <a:lnTo>
                    <a:pt x="630" y="269"/>
                  </a:lnTo>
                  <a:lnTo>
                    <a:pt x="684" y="234"/>
                  </a:lnTo>
                  <a:lnTo>
                    <a:pt x="739" y="203"/>
                  </a:lnTo>
                  <a:lnTo>
                    <a:pt x="797" y="173"/>
                  </a:lnTo>
                  <a:lnTo>
                    <a:pt x="856" y="147"/>
                  </a:lnTo>
                  <a:lnTo>
                    <a:pt x="916" y="123"/>
                  </a:lnTo>
                  <a:lnTo>
                    <a:pt x="979" y="101"/>
                  </a:lnTo>
                  <a:lnTo>
                    <a:pt x="1042" y="84"/>
                  </a:lnTo>
                  <a:lnTo>
                    <a:pt x="1107" y="69"/>
                  </a:lnTo>
                  <a:lnTo>
                    <a:pt x="1173" y="57"/>
                  </a:lnTo>
                  <a:lnTo>
                    <a:pt x="1238" y="48"/>
                  </a:lnTo>
                  <a:lnTo>
                    <a:pt x="1307" y="43"/>
                  </a:lnTo>
                  <a:lnTo>
                    <a:pt x="1375" y="42"/>
                  </a:lnTo>
                  <a:lnTo>
                    <a:pt x="1444" y="43"/>
                  </a:lnTo>
                  <a:lnTo>
                    <a:pt x="1512" y="48"/>
                  </a:lnTo>
                  <a:lnTo>
                    <a:pt x="1578" y="57"/>
                  </a:lnTo>
                  <a:lnTo>
                    <a:pt x="1644" y="69"/>
                  </a:lnTo>
                  <a:lnTo>
                    <a:pt x="1709" y="84"/>
                  </a:lnTo>
                  <a:lnTo>
                    <a:pt x="1771" y="101"/>
                  </a:lnTo>
                  <a:lnTo>
                    <a:pt x="1834" y="123"/>
                  </a:lnTo>
                  <a:lnTo>
                    <a:pt x="1894" y="147"/>
                  </a:lnTo>
                  <a:lnTo>
                    <a:pt x="1953" y="173"/>
                  </a:lnTo>
                  <a:lnTo>
                    <a:pt x="2011" y="203"/>
                  </a:lnTo>
                  <a:lnTo>
                    <a:pt x="2066" y="234"/>
                  </a:lnTo>
                  <a:lnTo>
                    <a:pt x="2120" y="269"/>
                  </a:lnTo>
                  <a:lnTo>
                    <a:pt x="2173" y="307"/>
                  </a:lnTo>
                  <a:lnTo>
                    <a:pt x="2223" y="347"/>
                  </a:lnTo>
                  <a:lnTo>
                    <a:pt x="2271" y="388"/>
                  </a:lnTo>
                  <a:lnTo>
                    <a:pt x="2318" y="432"/>
                  </a:lnTo>
                  <a:lnTo>
                    <a:pt x="2362" y="478"/>
                  </a:lnTo>
                  <a:lnTo>
                    <a:pt x="2404" y="527"/>
                  </a:lnTo>
                  <a:lnTo>
                    <a:pt x="2443" y="577"/>
                  </a:lnTo>
                  <a:lnTo>
                    <a:pt x="2481" y="629"/>
                  </a:lnTo>
                  <a:lnTo>
                    <a:pt x="2516" y="683"/>
                  </a:lnTo>
                  <a:lnTo>
                    <a:pt x="2548" y="740"/>
                  </a:lnTo>
                  <a:lnTo>
                    <a:pt x="2577" y="797"/>
                  </a:lnTo>
                  <a:lnTo>
                    <a:pt x="2604" y="855"/>
                  </a:lnTo>
                  <a:lnTo>
                    <a:pt x="2628" y="916"/>
                  </a:lnTo>
                  <a:lnTo>
                    <a:pt x="2649" y="978"/>
                  </a:lnTo>
                  <a:lnTo>
                    <a:pt x="2667" y="1041"/>
                  </a:lnTo>
                  <a:lnTo>
                    <a:pt x="2681" y="1106"/>
                  </a:lnTo>
                  <a:lnTo>
                    <a:pt x="2693" y="1172"/>
                  </a:lnTo>
                  <a:lnTo>
                    <a:pt x="2702" y="1239"/>
                  </a:lnTo>
                  <a:lnTo>
                    <a:pt x="2707" y="1306"/>
                  </a:lnTo>
                  <a:lnTo>
                    <a:pt x="2708" y="1375"/>
                  </a:lnTo>
                  <a:lnTo>
                    <a:pt x="2708" y="1419"/>
                  </a:lnTo>
                  <a:lnTo>
                    <a:pt x="2706" y="1463"/>
                  </a:lnTo>
                  <a:lnTo>
                    <a:pt x="2702" y="1508"/>
                  </a:lnTo>
                  <a:lnTo>
                    <a:pt x="2697" y="1551"/>
                  </a:lnTo>
                  <a:lnTo>
                    <a:pt x="2691" y="1594"/>
                  </a:lnTo>
                  <a:lnTo>
                    <a:pt x="2682" y="1637"/>
                  </a:lnTo>
                  <a:lnTo>
                    <a:pt x="2673" y="1679"/>
                  </a:lnTo>
                  <a:lnTo>
                    <a:pt x="2663" y="1721"/>
                  </a:lnTo>
                  <a:lnTo>
                    <a:pt x="2704" y="1732"/>
                  </a:lnTo>
                  <a:lnTo>
                    <a:pt x="2713" y="1689"/>
                  </a:lnTo>
                  <a:lnTo>
                    <a:pt x="2723" y="1645"/>
                  </a:lnTo>
                  <a:lnTo>
                    <a:pt x="2732" y="1601"/>
                  </a:lnTo>
                  <a:lnTo>
                    <a:pt x="2738" y="1557"/>
                  </a:lnTo>
                  <a:lnTo>
                    <a:pt x="2744" y="1512"/>
                  </a:lnTo>
                  <a:lnTo>
                    <a:pt x="2747" y="1466"/>
                  </a:lnTo>
                  <a:lnTo>
                    <a:pt x="2749" y="1421"/>
                  </a:lnTo>
                  <a:lnTo>
                    <a:pt x="2750" y="137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37040" y="2460600"/>
              <a:ext cx="1074600" cy="1073160"/>
            </a:xfrm>
            <a:custGeom>
              <a:avLst/>
              <a:gdLst/>
              <a:ahLst/>
              <a:rect l="l" t="t" r="r" b="b"/>
              <a:pathLst>
                <a:path w="2709" h="2708">
                  <a:moveTo>
                    <a:pt x="2709" y="1355"/>
                  </a:moveTo>
                  <a:lnTo>
                    <a:pt x="2706" y="1284"/>
                  </a:lnTo>
                  <a:lnTo>
                    <a:pt x="2701" y="1216"/>
                  </a:lnTo>
                  <a:lnTo>
                    <a:pt x="2692" y="1148"/>
                  </a:lnTo>
                  <a:lnTo>
                    <a:pt x="2681" y="1081"/>
                  </a:lnTo>
                  <a:lnTo>
                    <a:pt x="2665" y="1017"/>
                  </a:lnTo>
                  <a:lnTo>
                    <a:pt x="2647" y="952"/>
                  </a:lnTo>
                  <a:lnTo>
                    <a:pt x="2627" y="889"/>
                  </a:lnTo>
                  <a:lnTo>
                    <a:pt x="2602" y="828"/>
                  </a:lnTo>
                  <a:lnTo>
                    <a:pt x="2575" y="767"/>
                  </a:lnTo>
                  <a:lnTo>
                    <a:pt x="2544" y="709"/>
                  </a:lnTo>
                  <a:lnTo>
                    <a:pt x="2512" y="653"/>
                  </a:lnTo>
                  <a:lnTo>
                    <a:pt x="2477" y="598"/>
                  </a:lnTo>
                  <a:lnTo>
                    <a:pt x="2440" y="545"/>
                  </a:lnTo>
                  <a:lnTo>
                    <a:pt x="2400" y="494"/>
                  </a:lnTo>
                  <a:lnTo>
                    <a:pt x="2356" y="444"/>
                  </a:lnTo>
                  <a:lnTo>
                    <a:pt x="2312" y="398"/>
                  </a:lnTo>
                  <a:lnTo>
                    <a:pt x="2265" y="352"/>
                  </a:lnTo>
                  <a:lnTo>
                    <a:pt x="2216" y="310"/>
                  </a:lnTo>
                  <a:lnTo>
                    <a:pt x="2164" y="269"/>
                  </a:lnTo>
                  <a:lnTo>
                    <a:pt x="2111" y="231"/>
                  </a:lnTo>
                  <a:lnTo>
                    <a:pt x="2056" y="197"/>
                  </a:lnTo>
                  <a:lnTo>
                    <a:pt x="2000" y="165"/>
                  </a:lnTo>
                  <a:lnTo>
                    <a:pt x="1941" y="134"/>
                  </a:lnTo>
                  <a:lnTo>
                    <a:pt x="1881" y="107"/>
                  </a:lnTo>
                  <a:lnTo>
                    <a:pt x="1819" y="82"/>
                  </a:lnTo>
                  <a:lnTo>
                    <a:pt x="1757" y="62"/>
                  </a:lnTo>
                  <a:lnTo>
                    <a:pt x="1693" y="44"/>
                  </a:lnTo>
                  <a:lnTo>
                    <a:pt x="1627" y="28"/>
                  </a:lnTo>
                  <a:lnTo>
                    <a:pt x="1560" y="17"/>
                  </a:lnTo>
                  <a:lnTo>
                    <a:pt x="1493" y="8"/>
                  </a:lnTo>
                  <a:lnTo>
                    <a:pt x="1424" y="3"/>
                  </a:lnTo>
                  <a:lnTo>
                    <a:pt x="1354" y="0"/>
                  </a:lnTo>
                  <a:lnTo>
                    <a:pt x="1284" y="3"/>
                  </a:lnTo>
                  <a:lnTo>
                    <a:pt x="1215" y="8"/>
                  </a:lnTo>
                  <a:lnTo>
                    <a:pt x="1148" y="17"/>
                  </a:lnTo>
                  <a:lnTo>
                    <a:pt x="1081" y="28"/>
                  </a:lnTo>
                  <a:lnTo>
                    <a:pt x="1015" y="44"/>
                  </a:lnTo>
                  <a:lnTo>
                    <a:pt x="952" y="62"/>
                  </a:lnTo>
                  <a:lnTo>
                    <a:pt x="889" y="82"/>
                  </a:lnTo>
                  <a:lnTo>
                    <a:pt x="827" y="107"/>
                  </a:lnTo>
                  <a:lnTo>
                    <a:pt x="767" y="134"/>
                  </a:lnTo>
                  <a:lnTo>
                    <a:pt x="709" y="165"/>
                  </a:lnTo>
                  <a:lnTo>
                    <a:pt x="652" y="197"/>
                  </a:lnTo>
                  <a:lnTo>
                    <a:pt x="597" y="231"/>
                  </a:lnTo>
                  <a:lnTo>
                    <a:pt x="544" y="269"/>
                  </a:lnTo>
                  <a:lnTo>
                    <a:pt x="492" y="310"/>
                  </a:lnTo>
                  <a:lnTo>
                    <a:pt x="444" y="352"/>
                  </a:lnTo>
                  <a:lnTo>
                    <a:pt x="396" y="398"/>
                  </a:lnTo>
                  <a:lnTo>
                    <a:pt x="352" y="444"/>
                  </a:lnTo>
                  <a:lnTo>
                    <a:pt x="309" y="494"/>
                  </a:lnTo>
                  <a:lnTo>
                    <a:pt x="269" y="545"/>
                  </a:lnTo>
                  <a:lnTo>
                    <a:pt x="231" y="598"/>
                  </a:lnTo>
                  <a:lnTo>
                    <a:pt x="196" y="653"/>
                  </a:lnTo>
                  <a:lnTo>
                    <a:pt x="163" y="709"/>
                  </a:lnTo>
                  <a:lnTo>
                    <a:pt x="134" y="767"/>
                  </a:lnTo>
                  <a:lnTo>
                    <a:pt x="107" y="828"/>
                  </a:lnTo>
                  <a:lnTo>
                    <a:pt x="82" y="889"/>
                  </a:lnTo>
                  <a:lnTo>
                    <a:pt x="61" y="952"/>
                  </a:lnTo>
                  <a:lnTo>
                    <a:pt x="43" y="1017"/>
                  </a:lnTo>
                  <a:lnTo>
                    <a:pt x="28" y="1081"/>
                  </a:lnTo>
                  <a:lnTo>
                    <a:pt x="16" y="1148"/>
                  </a:lnTo>
                  <a:lnTo>
                    <a:pt x="7" y="1216"/>
                  </a:lnTo>
                  <a:lnTo>
                    <a:pt x="2" y="1284"/>
                  </a:lnTo>
                  <a:lnTo>
                    <a:pt x="0" y="1355"/>
                  </a:lnTo>
                  <a:lnTo>
                    <a:pt x="2" y="1424"/>
                  </a:lnTo>
                  <a:lnTo>
                    <a:pt x="7" y="1493"/>
                  </a:lnTo>
                  <a:lnTo>
                    <a:pt x="16" y="1561"/>
                  </a:lnTo>
                  <a:lnTo>
                    <a:pt x="28" y="1627"/>
                  </a:lnTo>
                  <a:lnTo>
                    <a:pt x="43" y="1693"/>
                  </a:lnTo>
                  <a:lnTo>
                    <a:pt x="61" y="1756"/>
                  </a:lnTo>
                  <a:lnTo>
                    <a:pt x="82" y="1820"/>
                  </a:lnTo>
                  <a:lnTo>
                    <a:pt x="107" y="1882"/>
                  </a:lnTo>
                  <a:lnTo>
                    <a:pt x="134" y="1941"/>
                  </a:lnTo>
                  <a:lnTo>
                    <a:pt x="163" y="1999"/>
                  </a:lnTo>
                  <a:lnTo>
                    <a:pt x="196" y="2057"/>
                  </a:lnTo>
                  <a:lnTo>
                    <a:pt x="231" y="2111"/>
                  </a:lnTo>
                  <a:lnTo>
                    <a:pt x="269" y="2165"/>
                  </a:lnTo>
                  <a:lnTo>
                    <a:pt x="309" y="2215"/>
                  </a:lnTo>
                  <a:lnTo>
                    <a:pt x="352" y="2264"/>
                  </a:lnTo>
                  <a:lnTo>
                    <a:pt x="396" y="2312"/>
                  </a:lnTo>
                  <a:lnTo>
                    <a:pt x="444" y="2356"/>
                  </a:lnTo>
                  <a:lnTo>
                    <a:pt x="492" y="2399"/>
                  </a:lnTo>
                  <a:lnTo>
                    <a:pt x="544" y="2439"/>
                  </a:lnTo>
                  <a:lnTo>
                    <a:pt x="597" y="2477"/>
                  </a:lnTo>
                  <a:lnTo>
                    <a:pt x="652" y="2512"/>
                  </a:lnTo>
                  <a:lnTo>
                    <a:pt x="709" y="2545"/>
                  </a:lnTo>
                  <a:lnTo>
                    <a:pt x="767" y="2574"/>
                  </a:lnTo>
                  <a:lnTo>
                    <a:pt x="827" y="2602"/>
                  </a:lnTo>
                  <a:lnTo>
                    <a:pt x="889" y="2626"/>
                  </a:lnTo>
                  <a:lnTo>
                    <a:pt x="952" y="2647"/>
                  </a:lnTo>
                  <a:lnTo>
                    <a:pt x="1015" y="2666"/>
                  </a:lnTo>
                  <a:lnTo>
                    <a:pt x="1081" y="2681"/>
                  </a:lnTo>
                  <a:lnTo>
                    <a:pt x="1148" y="2693"/>
                  </a:lnTo>
                  <a:lnTo>
                    <a:pt x="1215" y="2701"/>
                  </a:lnTo>
                  <a:lnTo>
                    <a:pt x="1284" y="2706"/>
                  </a:lnTo>
                  <a:lnTo>
                    <a:pt x="1354" y="2708"/>
                  </a:lnTo>
                  <a:lnTo>
                    <a:pt x="1394" y="2708"/>
                  </a:lnTo>
                  <a:lnTo>
                    <a:pt x="1434" y="2706"/>
                  </a:lnTo>
                  <a:lnTo>
                    <a:pt x="1473" y="2703"/>
                  </a:lnTo>
                  <a:lnTo>
                    <a:pt x="1511" y="2699"/>
                  </a:lnTo>
                  <a:lnTo>
                    <a:pt x="1550" y="2694"/>
                  </a:lnTo>
                  <a:lnTo>
                    <a:pt x="1588" y="2687"/>
                  </a:lnTo>
                  <a:lnTo>
                    <a:pt x="1626" y="2681"/>
                  </a:lnTo>
                  <a:lnTo>
                    <a:pt x="1664" y="2672"/>
                  </a:lnTo>
                  <a:lnTo>
                    <a:pt x="1700" y="2664"/>
                  </a:lnTo>
                  <a:lnTo>
                    <a:pt x="1737" y="2653"/>
                  </a:lnTo>
                  <a:lnTo>
                    <a:pt x="1774" y="2642"/>
                  </a:lnTo>
                  <a:lnTo>
                    <a:pt x="1810" y="2629"/>
                  </a:lnTo>
                  <a:lnTo>
                    <a:pt x="1845" y="2616"/>
                  </a:lnTo>
                  <a:lnTo>
                    <a:pt x="1880" y="2602"/>
                  </a:lnTo>
                  <a:lnTo>
                    <a:pt x="1914" y="2587"/>
                  </a:lnTo>
                  <a:lnTo>
                    <a:pt x="1948" y="2571"/>
                  </a:lnTo>
                  <a:lnTo>
                    <a:pt x="1930" y="2534"/>
                  </a:lnTo>
                  <a:lnTo>
                    <a:pt x="1897" y="2549"/>
                  </a:lnTo>
                  <a:lnTo>
                    <a:pt x="1864" y="2564"/>
                  </a:lnTo>
                  <a:lnTo>
                    <a:pt x="1830" y="2577"/>
                  </a:lnTo>
                  <a:lnTo>
                    <a:pt x="1796" y="2590"/>
                  </a:lnTo>
                  <a:lnTo>
                    <a:pt x="1761" y="2602"/>
                  </a:lnTo>
                  <a:lnTo>
                    <a:pt x="1725" y="2613"/>
                  </a:lnTo>
                  <a:lnTo>
                    <a:pt x="1690" y="2623"/>
                  </a:lnTo>
                  <a:lnTo>
                    <a:pt x="1654" y="2632"/>
                  </a:lnTo>
                  <a:lnTo>
                    <a:pt x="1617" y="2640"/>
                  </a:lnTo>
                  <a:lnTo>
                    <a:pt x="1582" y="2646"/>
                  </a:lnTo>
                  <a:lnTo>
                    <a:pt x="1544" y="2653"/>
                  </a:lnTo>
                  <a:lnTo>
                    <a:pt x="1507" y="2657"/>
                  </a:lnTo>
                  <a:lnTo>
                    <a:pt x="1469" y="2661"/>
                  </a:lnTo>
                  <a:lnTo>
                    <a:pt x="1431" y="2664"/>
                  </a:lnTo>
                  <a:lnTo>
                    <a:pt x="1393" y="2666"/>
                  </a:lnTo>
                  <a:lnTo>
                    <a:pt x="1354" y="2667"/>
                  </a:lnTo>
                  <a:lnTo>
                    <a:pt x="1287" y="2665"/>
                  </a:lnTo>
                  <a:lnTo>
                    <a:pt x="1220" y="2659"/>
                  </a:lnTo>
                  <a:lnTo>
                    <a:pt x="1154" y="2652"/>
                  </a:lnTo>
                  <a:lnTo>
                    <a:pt x="1090" y="2640"/>
                  </a:lnTo>
                  <a:lnTo>
                    <a:pt x="1026" y="2625"/>
                  </a:lnTo>
                  <a:lnTo>
                    <a:pt x="964" y="2607"/>
                  </a:lnTo>
                  <a:lnTo>
                    <a:pt x="903" y="2587"/>
                  </a:lnTo>
                  <a:lnTo>
                    <a:pt x="844" y="2563"/>
                  </a:lnTo>
                  <a:lnTo>
                    <a:pt x="785" y="2537"/>
                  </a:lnTo>
                  <a:lnTo>
                    <a:pt x="728" y="2508"/>
                  </a:lnTo>
                  <a:lnTo>
                    <a:pt x="674" y="2477"/>
                  </a:lnTo>
                  <a:lnTo>
                    <a:pt x="620" y="2442"/>
                  </a:lnTo>
                  <a:lnTo>
                    <a:pt x="569" y="2406"/>
                  </a:lnTo>
                  <a:lnTo>
                    <a:pt x="519" y="2367"/>
                  </a:lnTo>
                  <a:lnTo>
                    <a:pt x="472" y="2326"/>
                  </a:lnTo>
                  <a:lnTo>
                    <a:pt x="427" y="2282"/>
                  </a:lnTo>
                  <a:lnTo>
                    <a:pt x="382" y="2237"/>
                  </a:lnTo>
                  <a:lnTo>
                    <a:pt x="341" y="2188"/>
                  </a:lnTo>
                  <a:lnTo>
                    <a:pt x="302" y="2140"/>
                  </a:lnTo>
                  <a:lnTo>
                    <a:pt x="266" y="2088"/>
                  </a:lnTo>
                  <a:lnTo>
                    <a:pt x="232" y="2035"/>
                  </a:lnTo>
                  <a:lnTo>
                    <a:pt x="200" y="1980"/>
                  </a:lnTo>
                  <a:lnTo>
                    <a:pt x="172" y="1923"/>
                  </a:lnTo>
                  <a:lnTo>
                    <a:pt x="145" y="1866"/>
                  </a:lnTo>
                  <a:lnTo>
                    <a:pt x="121" y="1805"/>
                  </a:lnTo>
                  <a:lnTo>
                    <a:pt x="100" y="1745"/>
                  </a:lnTo>
                  <a:lnTo>
                    <a:pt x="83" y="1682"/>
                  </a:lnTo>
                  <a:lnTo>
                    <a:pt x="68" y="1619"/>
                  </a:lnTo>
                  <a:lnTo>
                    <a:pt x="57" y="1554"/>
                  </a:lnTo>
                  <a:lnTo>
                    <a:pt x="48" y="1489"/>
                  </a:lnTo>
                  <a:lnTo>
                    <a:pt x="43" y="1422"/>
                  </a:lnTo>
                  <a:lnTo>
                    <a:pt x="42" y="1355"/>
                  </a:lnTo>
                  <a:lnTo>
                    <a:pt x="43" y="1287"/>
                  </a:lnTo>
                  <a:lnTo>
                    <a:pt x="48" y="1221"/>
                  </a:lnTo>
                  <a:lnTo>
                    <a:pt x="57" y="1155"/>
                  </a:lnTo>
                  <a:lnTo>
                    <a:pt x="68" y="1090"/>
                  </a:lnTo>
                  <a:lnTo>
                    <a:pt x="83" y="1026"/>
                  </a:lnTo>
                  <a:lnTo>
                    <a:pt x="100" y="965"/>
                  </a:lnTo>
                  <a:lnTo>
                    <a:pt x="121" y="903"/>
                  </a:lnTo>
                  <a:lnTo>
                    <a:pt x="145" y="844"/>
                  </a:lnTo>
                  <a:lnTo>
                    <a:pt x="172" y="786"/>
                  </a:lnTo>
                  <a:lnTo>
                    <a:pt x="200" y="729"/>
                  </a:lnTo>
                  <a:lnTo>
                    <a:pt x="232" y="674"/>
                  </a:lnTo>
                  <a:lnTo>
                    <a:pt x="266" y="621"/>
                  </a:lnTo>
                  <a:lnTo>
                    <a:pt x="302" y="570"/>
                  </a:lnTo>
                  <a:lnTo>
                    <a:pt x="341" y="520"/>
                  </a:lnTo>
                  <a:lnTo>
                    <a:pt x="382" y="472"/>
                  </a:lnTo>
                  <a:lnTo>
                    <a:pt x="427" y="427"/>
                  </a:lnTo>
                  <a:lnTo>
                    <a:pt x="472" y="384"/>
                  </a:lnTo>
                  <a:lnTo>
                    <a:pt x="519" y="342"/>
                  </a:lnTo>
                  <a:lnTo>
                    <a:pt x="569" y="303"/>
                  </a:lnTo>
                  <a:lnTo>
                    <a:pt x="620" y="266"/>
                  </a:lnTo>
                  <a:lnTo>
                    <a:pt x="674" y="233"/>
                  </a:lnTo>
                  <a:lnTo>
                    <a:pt x="728" y="201"/>
                  </a:lnTo>
                  <a:lnTo>
                    <a:pt x="785" y="172"/>
                  </a:lnTo>
                  <a:lnTo>
                    <a:pt x="844" y="145"/>
                  </a:lnTo>
                  <a:lnTo>
                    <a:pt x="903" y="122"/>
                  </a:lnTo>
                  <a:lnTo>
                    <a:pt x="964" y="102"/>
                  </a:lnTo>
                  <a:lnTo>
                    <a:pt x="1026" y="84"/>
                  </a:lnTo>
                  <a:lnTo>
                    <a:pt x="1090" y="69"/>
                  </a:lnTo>
                  <a:lnTo>
                    <a:pt x="1154" y="58"/>
                  </a:lnTo>
                  <a:lnTo>
                    <a:pt x="1220" y="49"/>
                  </a:lnTo>
                  <a:lnTo>
                    <a:pt x="1287" y="45"/>
                  </a:lnTo>
                  <a:lnTo>
                    <a:pt x="1354" y="42"/>
                  </a:lnTo>
                  <a:lnTo>
                    <a:pt x="1422" y="45"/>
                  </a:lnTo>
                  <a:lnTo>
                    <a:pt x="1489" y="49"/>
                  </a:lnTo>
                  <a:lnTo>
                    <a:pt x="1554" y="58"/>
                  </a:lnTo>
                  <a:lnTo>
                    <a:pt x="1618" y="69"/>
                  </a:lnTo>
                  <a:lnTo>
                    <a:pt x="1682" y="84"/>
                  </a:lnTo>
                  <a:lnTo>
                    <a:pt x="1745" y="102"/>
                  </a:lnTo>
                  <a:lnTo>
                    <a:pt x="1805" y="122"/>
                  </a:lnTo>
                  <a:lnTo>
                    <a:pt x="1865" y="145"/>
                  </a:lnTo>
                  <a:lnTo>
                    <a:pt x="1923" y="172"/>
                  </a:lnTo>
                  <a:lnTo>
                    <a:pt x="1979" y="201"/>
                  </a:lnTo>
                  <a:lnTo>
                    <a:pt x="2034" y="233"/>
                  </a:lnTo>
                  <a:lnTo>
                    <a:pt x="2088" y="266"/>
                  </a:lnTo>
                  <a:lnTo>
                    <a:pt x="2139" y="303"/>
                  </a:lnTo>
                  <a:lnTo>
                    <a:pt x="2189" y="342"/>
                  </a:lnTo>
                  <a:lnTo>
                    <a:pt x="2236" y="384"/>
                  </a:lnTo>
                  <a:lnTo>
                    <a:pt x="2282" y="427"/>
                  </a:lnTo>
                  <a:lnTo>
                    <a:pt x="2326" y="472"/>
                  </a:lnTo>
                  <a:lnTo>
                    <a:pt x="2367" y="520"/>
                  </a:lnTo>
                  <a:lnTo>
                    <a:pt x="2406" y="570"/>
                  </a:lnTo>
                  <a:lnTo>
                    <a:pt x="2443" y="621"/>
                  </a:lnTo>
                  <a:lnTo>
                    <a:pt x="2476" y="674"/>
                  </a:lnTo>
                  <a:lnTo>
                    <a:pt x="2509" y="729"/>
                  </a:lnTo>
                  <a:lnTo>
                    <a:pt x="2537" y="786"/>
                  </a:lnTo>
                  <a:lnTo>
                    <a:pt x="2564" y="844"/>
                  </a:lnTo>
                  <a:lnTo>
                    <a:pt x="2587" y="903"/>
                  </a:lnTo>
                  <a:lnTo>
                    <a:pt x="2608" y="965"/>
                  </a:lnTo>
                  <a:lnTo>
                    <a:pt x="2625" y="1026"/>
                  </a:lnTo>
                  <a:lnTo>
                    <a:pt x="2641" y="1090"/>
                  </a:lnTo>
                  <a:lnTo>
                    <a:pt x="2651" y="1155"/>
                  </a:lnTo>
                  <a:lnTo>
                    <a:pt x="2660" y="1221"/>
                  </a:lnTo>
                  <a:lnTo>
                    <a:pt x="2665" y="1287"/>
                  </a:lnTo>
                  <a:lnTo>
                    <a:pt x="2666" y="1355"/>
                  </a:lnTo>
                  <a:lnTo>
                    <a:pt x="2666" y="1399"/>
                  </a:lnTo>
                  <a:lnTo>
                    <a:pt x="2664" y="1442"/>
                  </a:lnTo>
                  <a:lnTo>
                    <a:pt x="2660" y="1485"/>
                  </a:lnTo>
                  <a:lnTo>
                    <a:pt x="2656" y="1529"/>
                  </a:lnTo>
                  <a:lnTo>
                    <a:pt x="2649" y="1571"/>
                  </a:lnTo>
                  <a:lnTo>
                    <a:pt x="2642" y="1613"/>
                  </a:lnTo>
                  <a:lnTo>
                    <a:pt x="2632" y="1655"/>
                  </a:lnTo>
                  <a:lnTo>
                    <a:pt x="2622" y="1696"/>
                  </a:lnTo>
                  <a:lnTo>
                    <a:pt x="2662" y="1707"/>
                  </a:lnTo>
                  <a:lnTo>
                    <a:pt x="2673" y="1664"/>
                  </a:lnTo>
                  <a:lnTo>
                    <a:pt x="2682" y="1621"/>
                  </a:lnTo>
                  <a:lnTo>
                    <a:pt x="2690" y="1578"/>
                  </a:lnTo>
                  <a:lnTo>
                    <a:pt x="2697" y="1534"/>
                  </a:lnTo>
                  <a:lnTo>
                    <a:pt x="2702" y="1490"/>
                  </a:lnTo>
                  <a:lnTo>
                    <a:pt x="2705" y="1445"/>
                  </a:lnTo>
                  <a:lnTo>
                    <a:pt x="2708" y="1400"/>
                  </a:lnTo>
                  <a:lnTo>
                    <a:pt x="2709" y="1355"/>
                  </a:lnTo>
                  <a:close/>
                </a:path>
              </a:pathLst>
            </a:custGeom>
            <a:solidFill>
              <a:srgbClr val="ead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044960" y="2468520"/>
              <a:ext cx="1058760" cy="1057320"/>
            </a:xfrm>
            <a:custGeom>
              <a:avLst/>
              <a:gdLst/>
              <a:ahLst/>
              <a:rect l="l" t="t" r="r" b="b"/>
              <a:pathLst>
                <a:path w="2667" h="2665">
                  <a:moveTo>
                    <a:pt x="2667" y="1333"/>
                  </a:moveTo>
                  <a:lnTo>
                    <a:pt x="2666" y="1264"/>
                  </a:lnTo>
                  <a:lnTo>
                    <a:pt x="2661" y="1197"/>
                  </a:lnTo>
                  <a:lnTo>
                    <a:pt x="2652" y="1130"/>
                  </a:lnTo>
                  <a:lnTo>
                    <a:pt x="2640" y="1064"/>
                  </a:lnTo>
                  <a:lnTo>
                    <a:pt x="2626" y="999"/>
                  </a:lnTo>
                  <a:lnTo>
                    <a:pt x="2608" y="936"/>
                  </a:lnTo>
                  <a:lnTo>
                    <a:pt x="2587" y="874"/>
                  </a:lnTo>
                  <a:lnTo>
                    <a:pt x="2563" y="813"/>
                  </a:lnTo>
                  <a:lnTo>
                    <a:pt x="2536" y="755"/>
                  </a:lnTo>
                  <a:lnTo>
                    <a:pt x="2507" y="698"/>
                  </a:lnTo>
                  <a:lnTo>
                    <a:pt x="2475" y="641"/>
                  </a:lnTo>
                  <a:lnTo>
                    <a:pt x="2440" y="587"/>
                  </a:lnTo>
                  <a:lnTo>
                    <a:pt x="2402" y="535"/>
                  </a:lnTo>
                  <a:lnTo>
                    <a:pt x="2363" y="485"/>
                  </a:lnTo>
                  <a:lnTo>
                    <a:pt x="2321" y="436"/>
                  </a:lnTo>
                  <a:lnTo>
                    <a:pt x="2277" y="390"/>
                  </a:lnTo>
                  <a:lnTo>
                    <a:pt x="2230" y="346"/>
                  </a:lnTo>
                  <a:lnTo>
                    <a:pt x="2182" y="305"/>
                  </a:lnTo>
                  <a:lnTo>
                    <a:pt x="2132" y="265"/>
                  </a:lnTo>
                  <a:lnTo>
                    <a:pt x="2079" y="227"/>
                  </a:lnTo>
                  <a:lnTo>
                    <a:pt x="2025" y="192"/>
                  </a:lnTo>
                  <a:lnTo>
                    <a:pt x="1970" y="161"/>
                  </a:lnTo>
                  <a:lnTo>
                    <a:pt x="1912" y="131"/>
                  </a:lnTo>
                  <a:lnTo>
                    <a:pt x="1853" y="105"/>
                  </a:lnTo>
                  <a:lnTo>
                    <a:pt x="1793" y="81"/>
                  </a:lnTo>
                  <a:lnTo>
                    <a:pt x="1730" y="59"/>
                  </a:lnTo>
                  <a:lnTo>
                    <a:pt x="1668" y="42"/>
                  </a:lnTo>
                  <a:lnTo>
                    <a:pt x="1603" y="27"/>
                  </a:lnTo>
                  <a:lnTo>
                    <a:pt x="1537" y="15"/>
                  </a:lnTo>
                  <a:lnTo>
                    <a:pt x="1471" y="6"/>
                  </a:lnTo>
                  <a:lnTo>
                    <a:pt x="1403" y="1"/>
                  </a:lnTo>
                  <a:lnTo>
                    <a:pt x="1334" y="0"/>
                  </a:lnTo>
                  <a:lnTo>
                    <a:pt x="1266" y="1"/>
                  </a:lnTo>
                  <a:lnTo>
                    <a:pt x="1197" y="6"/>
                  </a:lnTo>
                  <a:lnTo>
                    <a:pt x="1132" y="15"/>
                  </a:lnTo>
                  <a:lnTo>
                    <a:pt x="1066" y="27"/>
                  </a:lnTo>
                  <a:lnTo>
                    <a:pt x="1001" y="42"/>
                  </a:lnTo>
                  <a:lnTo>
                    <a:pt x="938" y="59"/>
                  </a:lnTo>
                  <a:lnTo>
                    <a:pt x="875" y="81"/>
                  </a:lnTo>
                  <a:lnTo>
                    <a:pt x="815" y="105"/>
                  </a:lnTo>
                  <a:lnTo>
                    <a:pt x="756" y="131"/>
                  </a:lnTo>
                  <a:lnTo>
                    <a:pt x="698" y="161"/>
                  </a:lnTo>
                  <a:lnTo>
                    <a:pt x="643" y="192"/>
                  </a:lnTo>
                  <a:lnTo>
                    <a:pt x="589" y="227"/>
                  </a:lnTo>
                  <a:lnTo>
                    <a:pt x="536" y="265"/>
                  </a:lnTo>
                  <a:lnTo>
                    <a:pt x="487" y="305"/>
                  </a:lnTo>
                  <a:lnTo>
                    <a:pt x="438" y="346"/>
                  </a:lnTo>
                  <a:lnTo>
                    <a:pt x="391" y="390"/>
                  </a:lnTo>
                  <a:lnTo>
                    <a:pt x="347" y="436"/>
                  </a:lnTo>
                  <a:lnTo>
                    <a:pt x="305" y="485"/>
                  </a:lnTo>
                  <a:lnTo>
                    <a:pt x="266" y="535"/>
                  </a:lnTo>
                  <a:lnTo>
                    <a:pt x="228" y="587"/>
                  </a:lnTo>
                  <a:lnTo>
                    <a:pt x="194" y="641"/>
                  </a:lnTo>
                  <a:lnTo>
                    <a:pt x="161" y="698"/>
                  </a:lnTo>
                  <a:lnTo>
                    <a:pt x="132" y="755"/>
                  </a:lnTo>
                  <a:lnTo>
                    <a:pt x="105" y="813"/>
                  </a:lnTo>
                  <a:lnTo>
                    <a:pt x="81" y="874"/>
                  </a:lnTo>
                  <a:lnTo>
                    <a:pt x="61" y="936"/>
                  </a:lnTo>
                  <a:lnTo>
                    <a:pt x="42" y="999"/>
                  </a:lnTo>
                  <a:lnTo>
                    <a:pt x="28" y="1064"/>
                  </a:lnTo>
                  <a:lnTo>
                    <a:pt x="16" y="1130"/>
                  </a:lnTo>
                  <a:lnTo>
                    <a:pt x="8" y="1197"/>
                  </a:lnTo>
                  <a:lnTo>
                    <a:pt x="2" y="1264"/>
                  </a:lnTo>
                  <a:lnTo>
                    <a:pt x="0" y="1333"/>
                  </a:lnTo>
                  <a:lnTo>
                    <a:pt x="2" y="1401"/>
                  </a:lnTo>
                  <a:lnTo>
                    <a:pt x="8" y="1469"/>
                  </a:lnTo>
                  <a:lnTo>
                    <a:pt x="16" y="1536"/>
                  </a:lnTo>
                  <a:lnTo>
                    <a:pt x="28" y="1601"/>
                  </a:lnTo>
                  <a:lnTo>
                    <a:pt x="42" y="1665"/>
                  </a:lnTo>
                  <a:lnTo>
                    <a:pt x="61" y="1729"/>
                  </a:lnTo>
                  <a:lnTo>
                    <a:pt x="81" y="1791"/>
                  </a:lnTo>
                  <a:lnTo>
                    <a:pt x="105" y="1851"/>
                  </a:lnTo>
                  <a:lnTo>
                    <a:pt x="132" y="1910"/>
                  </a:lnTo>
                  <a:lnTo>
                    <a:pt x="161" y="1968"/>
                  </a:lnTo>
                  <a:lnTo>
                    <a:pt x="194" y="2024"/>
                  </a:lnTo>
                  <a:lnTo>
                    <a:pt x="228" y="2078"/>
                  </a:lnTo>
                  <a:lnTo>
                    <a:pt x="266" y="2130"/>
                  </a:lnTo>
                  <a:lnTo>
                    <a:pt x="305" y="2180"/>
                  </a:lnTo>
                  <a:lnTo>
                    <a:pt x="347" y="2228"/>
                  </a:lnTo>
                  <a:lnTo>
                    <a:pt x="391" y="2274"/>
                  </a:lnTo>
                  <a:lnTo>
                    <a:pt x="438" y="2319"/>
                  </a:lnTo>
                  <a:lnTo>
                    <a:pt x="487" y="2361"/>
                  </a:lnTo>
                  <a:lnTo>
                    <a:pt x="536" y="2401"/>
                  </a:lnTo>
                  <a:lnTo>
                    <a:pt x="589" y="2438"/>
                  </a:lnTo>
                  <a:lnTo>
                    <a:pt x="643" y="2472"/>
                  </a:lnTo>
                  <a:lnTo>
                    <a:pt x="698" y="2504"/>
                  </a:lnTo>
                  <a:lnTo>
                    <a:pt x="756" y="2534"/>
                  </a:lnTo>
                  <a:lnTo>
                    <a:pt x="815" y="2561"/>
                  </a:lnTo>
                  <a:lnTo>
                    <a:pt x="875" y="2584"/>
                  </a:lnTo>
                  <a:lnTo>
                    <a:pt x="938" y="2605"/>
                  </a:lnTo>
                  <a:lnTo>
                    <a:pt x="1001" y="2623"/>
                  </a:lnTo>
                  <a:lnTo>
                    <a:pt x="1066" y="2638"/>
                  </a:lnTo>
                  <a:lnTo>
                    <a:pt x="1132" y="2650"/>
                  </a:lnTo>
                  <a:lnTo>
                    <a:pt x="1197" y="2658"/>
                  </a:lnTo>
                  <a:lnTo>
                    <a:pt x="1266" y="2663"/>
                  </a:lnTo>
                  <a:lnTo>
                    <a:pt x="1334" y="2665"/>
                  </a:lnTo>
                  <a:lnTo>
                    <a:pt x="1374" y="2664"/>
                  </a:lnTo>
                  <a:lnTo>
                    <a:pt x="1413" y="2663"/>
                  </a:lnTo>
                  <a:lnTo>
                    <a:pt x="1450" y="2660"/>
                  </a:lnTo>
                  <a:lnTo>
                    <a:pt x="1489" y="2657"/>
                  </a:lnTo>
                  <a:lnTo>
                    <a:pt x="1527" y="2651"/>
                  </a:lnTo>
                  <a:lnTo>
                    <a:pt x="1565" y="2645"/>
                  </a:lnTo>
                  <a:lnTo>
                    <a:pt x="1602" y="2638"/>
                  </a:lnTo>
                  <a:lnTo>
                    <a:pt x="1639" y="2630"/>
                  </a:lnTo>
                  <a:lnTo>
                    <a:pt x="1675" y="2621"/>
                  </a:lnTo>
                  <a:lnTo>
                    <a:pt x="1712" y="2611"/>
                  </a:lnTo>
                  <a:lnTo>
                    <a:pt x="1747" y="2600"/>
                  </a:lnTo>
                  <a:lnTo>
                    <a:pt x="1782" y="2588"/>
                  </a:lnTo>
                  <a:lnTo>
                    <a:pt x="1818" y="2575"/>
                  </a:lnTo>
                  <a:lnTo>
                    <a:pt x="1851" y="2561"/>
                  </a:lnTo>
                  <a:lnTo>
                    <a:pt x="1886" y="2547"/>
                  </a:lnTo>
                  <a:lnTo>
                    <a:pt x="1919" y="2530"/>
                  </a:lnTo>
                  <a:lnTo>
                    <a:pt x="1901" y="2493"/>
                  </a:lnTo>
                  <a:lnTo>
                    <a:pt x="1869" y="2509"/>
                  </a:lnTo>
                  <a:lnTo>
                    <a:pt x="1835" y="2523"/>
                  </a:lnTo>
                  <a:lnTo>
                    <a:pt x="1803" y="2536"/>
                  </a:lnTo>
                  <a:lnTo>
                    <a:pt x="1768" y="2549"/>
                  </a:lnTo>
                  <a:lnTo>
                    <a:pt x="1735" y="2561"/>
                  </a:lnTo>
                  <a:lnTo>
                    <a:pt x="1700" y="2571"/>
                  </a:lnTo>
                  <a:lnTo>
                    <a:pt x="1664" y="2581"/>
                  </a:lnTo>
                  <a:lnTo>
                    <a:pt x="1630" y="2590"/>
                  </a:lnTo>
                  <a:lnTo>
                    <a:pt x="1594" y="2597"/>
                  </a:lnTo>
                  <a:lnTo>
                    <a:pt x="1557" y="2604"/>
                  </a:lnTo>
                  <a:lnTo>
                    <a:pt x="1521" y="2610"/>
                  </a:lnTo>
                  <a:lnTo>
                    <a:pt x="1484" y="2615"/>
                  </a:lnTo>
                  <a:lnTo>
                    <a:pt x="1447" y="2619"/>
                  </a:lnTo>
                  <a:lnTo>
                    <a:pt x="1409" y="2621"/>
                  </a:lnTo>
                  <a:lnTo>
                    <a:pt x="1373" y="2623"/>
                  </a:lnTo>
                  <a:lnTo>
                    <a:pt x="1334" y="2623"/>
                  </a:lnTo>
                  <a:lnTo>
                    <a:pt x="1268" y="2622"/>
                  </a:lnTo>
                  <a:lnTo>
                    <a:pt x="1202" y="2617"/>
                  </a:lnTo>
                  <a:lnTo>
                    <a:pt x="1137" y="2608"/>
                  </a:lnTo>
                  <a:lnTo>
                    <a:pt x="1074" y="2597"/>
                  </a:lnTo>
                  <a:lnTo>
                    <a:pt x="1012" y="2583"/>
                  </a:lnTo>
                  <a:lnTo>
                    <a:pt x="950" y="2565"/>
                  </a:lnTo>
                  <a:lnTo>
                    <a:pt x="890" y="2546"/>
                  </a:lnTo>
                  <a:lnTo>
                    <a:pt x="831" y="2522"/>
                  </a:lnTo>
                  <a:lnTo>
                    <a:pt x="774" y="2496"/>
                  </a:lnTo>
                  <a:lnTo>
                    <a:pt x="719" y="2468"/>
                  </a:lnTo>
                  <a:lnTo>
                    <a:pt x="665" y="2436"/>
                  </a:lnTo>
                  <a:lnTo>
                    <a:pt x="612" y="2403"/>
                  </a:lnTo>
                  <a:lnTo>
                    <a:pt x="561" y="2367"/>
                  </a:lnTo>
                  <a:lnTo>
                    <a:pt x="512" y="2328"/>
                  </a:lnTo>
                  <a:lnTo>
                    <a:pt x="466" y="2288"/>
                  </a:lnTo>
                  <a:lnTo>
                    <a:pt x="421" y="2245"/>
                  </a:lnTo>
                  <a:lnTo>
                    <a:pt x="378" y="2201"/>
                  </a:lnTo>
                  <a:lnTo>
                    <a:pt x="337" y="2153"/>
                  </a:lnTo>
                  <a:lnTo>
                    <a:pt x="300" y="2105"/>
                  </a:lnTo>
                  <a:lnTo>
                    <a:pt x="263" y="2054"/>
                  </a:lnTo>
                  <a:lnTo>
                    <a:pt x="229" y="2002"/>
                  </a:lnTo>
                  <a:lnTo>
                    <a:pt x="198" y="1948"/>
                  </a:lnTo>
                  <a:lnTo>
                    <a:pt x="170" y="1892"/>
                  </a:lnTo>
                  <a:lnTo>
                    <a:pt x="144" y="1835"/>
                  </a:lnTo>
                  <a:lnTo>
                    <a:pt x="121" y="1777"/>
                  </a:lnTo>
                  <a:lnTo>
                    <a:pt x="101" y="1716"/>
                  </a:lnTo>
                  <a:lnTo>
                    <a:pt x="83" y="1656"/>
                  </a:lnTo>
                  <a:lnTo>
                    <a:pt x="68" y="1593"/>
                  </a:lnTo>
                  <a:lnTo>
                    <a:pt x="58" y="1529"/>
                  </a:lnTo>
                  <a:lnTo>
                    <a:pt x="49" y="1464"/>
                  </a:lnTo>
                  <a:lnTo>
                    <a:pt x="45" y="1399"/>
                  </a:lnTo>
                  <a:lnTo>
                    <a:pt x="42" y="1333"/>
                  </a:lnTo>
                  <a:lnTo>
                    <a:pt x="45" y="1266"/>
                  </a:lnTo>
                  <a:lnTo>
                    <a:pt x="49" y="1201"/>
                  </a:lnTo>
                  <a:lnTo>
                    <a:pt x="58" y="1136"/>
                  </a:lnTo>
                  <a:lnTo>
                    <a:pt x="68" y="1072"/>
                  </a:lnTo>
                  <a:lnTo>
                    <a:pt x="83" y="1010"/>
                  </a:lnTo>
                  <a:lnTo>
                    <a:pt x="101" y="948"/>
                  </a:lnTo>
                  <a:lnTo>
                    <a:pt x="121" y="889"/>
                  </a:lnTo>
                  <a:lnTo>
                    <a:pt x="144" y="829"/>
                  </a:lnTo>
                  <a:lnTo>
                    <a:pt x="170" y="772"/>
                  </a:lnTo>
                  <a:lnTo>
                    <a:pt x="198" y="717"/>
                  </a:lnTo>
                  <a:lnTo>
                    <a:pt x="229" y="663"/>
                  </a:lnTo>
                  <a:lnTo>
                    <a:pt x="263" y="610"/>
                  </a:lnTo>
                  <a:lnTo>
                    <a:pt x="300" y="560"/>
                  </a:lnTo>
                  <a:lnTo>
                    <a:pt x="337" y="511"/>
                  </a:lnTo>
                  <a:lnTo>
                    <a:pt x="378" y="464"/>
                  </a:lnTo>
                  <a:lnTo>
                    <a:pt x="421" y="419"/>
                  </a:lnTo>
                  <a:lnTo>
                    <a:pt x="466" y="377"/>
                  </a:lnTo>
                  <a:lnTo>
                    <a:pt x="512" y="336"/>
                  </a:lnTo>
                  <a:lnTo>
                    <a:pt x="561" y="298"/>
                  </a:lnTo>
                  <a:lnTo>
                    <a:pt x="612" y="261"/>
                  </a:lnTo>
                  <a:lnTo>
                    <a:pt x="665" y="228"/>
                  </a:lnTo>
                  <a:lnTo>
                    <a:pt x="719" y="198"/>
                  </a:lnTo>
                  <a:lnTo>
                    <a:pt x="774" y="168"/>
                  </a:lnTo>
                  <a:lnTo>
                    <a:pt x="831" y="143"/>
                  </a:lnTo>
                  <a:lnTo>
                    <a:pt x="890" y="120"/>
                  </a:lnTo>
                  <a:lnTo>
                    <a:pt x="950" y="99"/>
                  </a:lnTo>
                  <a:lnTo>
                    <a:pt x="1012" y="82"/>
                  </a:lnTo>
                  <a:lnTo>
                    <a:pt x="1074" y="68"/>
                  </a:lnTo>
                  <a:lnTo>
                    <a:pt x="1137" y="56"/>
                  </a:lnTo>
                  <a:lnTo>
                    <a:pt x="1202" y="47"/>
                  </a:lnTo>
                  <a:lnTo>
                    <a:pt x="1268" y="43"/>
                  </a:lnTo>
                  <a:lnTo>
                    <a:pt x="1334" y="41"/>
                  </a:lnTo>
                  <a:lnTo>
                    <a:pt x="1401" y="43"/>
                  </a:lnTo>
                  <a:lnTo>
                    <a:pt x="1467" y="47"/>
                  </a:lnTo>
                  <a:lnTo>
                    <a:pt x="1531" y="56"/>
                  </a:lnTo>
                  <a:lnTo>
                    <a:pt x="1594" y="68"/>
                  </a:lnTo>
                  <a:lnTo>
                    <a:pt x="1657" y="82"/>
                  </a:lnTo>
                  <a:lnTo>
                    <a:pt x="1718" y="99"/>
                  </a:lnTo>
                  <a:lnTo>
                    <a:pt x="1778" y="120"/>
                  </a:lnTo>
                  <a:lnTo>
                    <a:pt x="1837" y="143"/>
                  </a:lnTo>
                  <a:lnTo>
                    <a:pt x="1894" y="168"/>
                  </a:lnTo>
                  <a:lnTo>
                    <a:pt x="1950" y="198"/>
                  </a:lnTo>
                  <a:lnTo>
                    <a:pt x="2004" y="228"/>
                  </a:lnTo>
                  <a:lnTo>
                    <a:pt x="2057" y="261"/>
                  </a:lnTo>
                  <a:lnTo>
                    <a:pt x="2107" y="298"/>
                  </a:lnTo>
                  <a:lnTo>
                    <a:pt x="2156" y="336"/>
                  </a:lnTo>
                  <a:lnTo>
                    <a:pt x="2202" y="377"/>
                  </a:lnTo>
                  <a:lnTo>
                    <a:pt x="2248" y="419"/>
                  </a:lnTo>
                  <a:lnTo>
                    <a:pt x="2290" y="464"/>
                  </a:lnTo>
                  <a:lnTo>
                    <a:pt x="2331" y="511"/>
                  </a:lnTo>
                  <a:lnTo>
                    <a:pt x="2369" y="560"/>
                  </a:lnTo>
                  <a:lnTo>
                    <a:pt x="2406" y="610"/>
                  </a:lnTo>
                  <a:lnTo>
                    <a:pt x="2439" y="663"/>
                  </a:lnTo>
                  <a:lnTo>
                    <a:pt x="2470" y="717"/>
                  </a:lnTo>
                  <a:lnTo>
                    <a:pt x="2498" y="772"/>
                  </a:lnTo>
                  <a:lnTo>
                    <a:pt x="2524" y="829"/>
                  </a:lnTo>
                  <a:lnTo>
                    <a:pt x="2547" y="889"/>
                  </a:lnTo>
                  <a:lnTo>
                    <a:pt x="2568" y="948"/>
                  </a:lnTo>
                  <a:lnTo>
                    <a:pt x="2585" y="1010"/>
                  </a:lnTo>
                  <a:lnTo>
                    <a:pt x="2600" y="1072"/>
                  </a:lnTo>
                  <a:lnTo>
                    <a:pt x="2611" y="1136"/>
                  </a:lnTo>
                  <a:lnTo>
                    <a:pt x="2619" y="1201"/>
                  </a:lnTo>
                  <a:lnTo>
                    <a:pt x="2624" y="1266"/>
                  </a:lnTo>
                  <a:lnTo>
                    <a:pt x="2626" y="1333"/>
                  </a:lnTo>
                  <a:lnTo>
                    <a:pt x="2625" y="1376"/>
                  </a:lnTo>
                  <a:lnTo>
                    <a:pt x="2623" y="1419"/>
                  </a:lnTo>
                  <a:lnTo>
                    <a:pt x="2619" y="1461"/>
                  </a:lnTo>
                  <a:lnTo>
                    <a:pt x="2614" y="1503"/>
                  </a:lnTo>
                  <a:lnTo>
                    <a:pt x="2609" y="1545"/>
                  </a:lnTo>
                  <a:lnTo>
                    <a:pt x="2601" y="1586"/>
                  </a:lnTo>
                  <a:lnTo>
                    <a:pt x="2591" y="1628"/>
                  </a:lnTo>
                  <a:lnTo>
                    <a:pt x="2582" y="1669"/>
                  </a:lnTo>
                  <a:lnTo>
                    <a:pt x="2622" y="1679"/>
                  </a:lnTo>
                  <a:lnTo>
                    <a:pt x="2632" y="1637"/>
                  </a:lnTo>
                  <a:lnTo>
                    <a:pt x="2641" y="1595"/>
                  </a:lnTo>
                  <a:lnTo>
                    <a:pt x="2650" y="1552"/>
                  </a:lnTo>
                  <a:lnTo>
                    <a:pt x="2656" y="1509"/>
                  </a:lnTo>
                  <a:lnTo>
                    <a:pt x="2661" y="1466"/>
                  </a:lnTo>
                  <a:lnTo>
                    <a:pt x="2665" y="1421"/>
                  </a:lnTo>
                  <a:lnTo>
                    <a:pt x="2667" y="1377"/>
                  </a:lnTo>
                  <a:lnTo>
                    <a:pt x="2667" y="133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52880" y="2476440"/>
              <a:ext cx="1041480" cy="1041480"/>
            </a:xfrm>
            <a:custGeom>
              <a:avLst/>
              <a:gdLst/>
              <a:ahLst/>
              <a:rect l="l" t="t" r="r" b="b"/>
              <a:pathLst>
                <a:path w="2624" h="2625">
                  <a:moveTo>
                    <a:pt x="2624" y="1313"/>
                  </a:moveTo>
                  <a:lnTo>
                    <a:pt x="2623" y="1245"/>
                  </a:lnTo>
                  <a:lnTo>
                    <a:pt x="2618" y="1179"/>
                  </a:lnTo>
                  <a:lnTo>
                    <a:pt x="2609" y="1113"/>
                  </a:lnTo>
                  <a:lnTo>
                    <a:pt x="2599" y="1048"/>
                  </a:lnTo>
                  <a:lnTo>
                    <a:pt x="2583" y="984"/>
                  </a:lnTo>
                  <a:lnTo>
                    <a:pt x="2566" y="923"/>
                  </a:lnTo>
                  <a:lnTo>
                    <a:pt x="2545" y="861"/>
                  </a:lnTo>
                  <a:lnTo>
                    <a:pt x="2522" y="802"/>
                  </a:lnTo>
                  <a:lnTo>
                    <a:pt x="2495" y="744"/>
                  </a:lnTo>
                  <a:lnTo>
                    <a:pt x="2467" y="687"/>
                  </a:lnTo>
                  <a:lnTo>
                    <a:pt x="2434" y="632"/>
                  </a:lnTo>
                  <a:lnTo>
                    <a:pt x="2401" y="579"/>
                  </a:lnTo>
                  <a:lnTo>
                    <a:pt x="2364" y="528"/>
                  </a:lnTo>
                  <a:lnTo>
                    <a:pt x="2325" y="478"/>
                  </a:lnTo>
                  <a:lnTo>
                    <a:pt x="2284" y="430"/>
                  </a:lnTo>
                  <a:lnTo>
                    <a:pt x="2240" y="385"/>
                  </a:lnTo>
                  <a:lnTo>
                    <a:pt x="2194" y="342"/>
                  </a:lnTo>
                  <a:lnTo>
                    <a:pt x="2147" y="300"/>
                  </a:lnTo>
                  <a:lnTo>
                    <a:pt x="2097" y="261"/>
                  </a:lnTo>
                  <a:lnTo>
                    <a:pt x="2046" y="224"/>
                  </a:lnTo>
                  <a:lnTo>
                    <a:pt x="1992" y="191"/>
                  </a:lnTo>
                  <a:lnTo>
                    <a:pt x="1937" y="159"/>
                  </a:lnTo>
                  <a:lnTo>
                    <a:pt x="1881" y="130"/>
                  </a:lnTo>
                  <a:lnTo>
                    <a:pt x="1823" y="103"/>
                  </a:lnTo>
                  <a:lnTo>
                    <a:pt x="1763" y="80"/>
                  </a:lnTo>
                  <a:lnTo>
                    <a:pt x="1703" y="60"/>
                  </a:lnTo>
                  <a:lnTo>
                    <a:pt x="1640" y="42"/>
                  </a:lnTo>
                  <a:lnTo>
                    <a:pt x="1576" y="27"/>
                  </a:lnTo>
                  <a:lnTo>
                    <a:pt x="1512" y="16"/>
                  </a:lnTo>
                  <a:lnTo>
                    <a:pt x="1447" y="7"/>
                  </a:lnTo>
                  <a:lnTo>
                    <a:pt x="1380" y="3"/>
                  </a:lnTo>
                  <a:lnTo>
                    <a:pt x="1312" y="0"/>
                  </a:lnTo>
                  <a:lnTo>
                    <a:pt x="1245" y="3"/>
                  </a:lnTo>
                  <a:lnTo>
                    <a:pt x="1178" y="7"/>
                  </a:lnTo>
                  <a:lnTo>
                    <a:pt x="1112" y="16"/>
                  </a:lnTo>
                  <a:lnTo>
                    <a:pt x="1048" y="27"/>
                  </a:lnTo>
                  <a:lnTo>
                    <a:pt x="984" y="42"/>
                  </a:lnTo>
                  <a:lnTo>
                    <a:pt x="922" y="60"/>
                  </a:lnTo>
                  <a:lnTo>
                    <a:pt x="861" y="80"/>
                  </a:lnTo>
                  <a:lnTo>
                    <a:pt x="802" y="103"/>
                  </a:lnTo>
                  <a:lnTo>
                    <a:pt x="743" y="130"/>
                  </a:lnTo>
                  <a:lnTo>
                    <a:pt x="686" y="159"/>
                  </a:lnTo>
                  <a:lnTo>
                    <a:pt x="632" y="191"/>
                  </a:lnTo>
                  <a:lnTo>
                    <a:pt x="578" y="224"/>
                  </a:lnTo>
                  <a:lnTo>
                    <a:pt x="527" y="261"/>
                  </a:lnTo>
                  <a:lnTo>
                    <a:pt x="477" y="300"/>
                  </a:lnTo>
                  <a:lnTo>
                    <a:pt x="430" y="342"/>
                  </a:lnTo>
                  <a:lnTo>
                    <a:pt x="385" y="385"/>
                  </a:lnTo>
                  <a:lnTo>
                    <a:pt x="340" y="430"/>
                  </a:lnTo>
                  <a:lnTo>
                    <a:pt x="299" y="478"/>
                  </a:lnTo>
                  <a:lnTo>
                    <a:pt x="260" y="528"/>
                  </a:lnTo>
                  <a:lnTo>
                    <a:pt x="224" y="579"/>
                  </a:lnTo>
                  <a:lnTo>
                    <a:pt x="190" y="632"/>
                  </a:lnTo>
                  <a:lnTo>
                    <a:pt x="158" y="687"/>
                  </a:lnTo>
                  <a:lnTo>
                    <a:pt x="130" y="744"/>
                  </a:lnTo>
                  <a:lnTo>
                    <a:pt x="103" y="802"/>
                  </a:lnTo>
                  <a:lnTo>
                    <a:pt x="79" y="861"/>
                  </a:lnTo>
                  <a:lnTo>
                    <a:pt x="58" y="923"/>
                  </a:lnTo>
                  <a:lnTo>
                    <a:pt x="41" y="984"/>
                  </a:lnTo>
                  <a:lnTo>
                    <a:pt x="26" y="1048"/>
                  </a:lnTo>
                  <a:lnTo>
                    <a:pt x="15" y="1113"/>
                  </a:lnTo>
                  <a:lnTo>
                    <a:pt x="6" y="1179"/>
                  </a:lnTo>
                  <a:lnTo>
                    <a:pt x="1" y="1245"/>
                  </a:lnTo>
                  <a:lnTo>
                    <a:pt x="0" y="1313"/>
                  </a:lnTo>
                  <a:lnTo>
                    <a:pt x="1" y="1380"/>
                  </a:lnTo>
                  <a:lnTo>
                    <a:pt x="6" y="1447"/>
                  </a:lnTo>
                  <a:lnTo>
                    <a:pt x="15" y="1512"/>
                  </a:lnTo>
                  <a:lnTo>
                    <a:pt x="26" y="1577"/>
                  </a:lnTo>
                  <a:lnTo>
                    <a:pt x="41" y="1640"/>
                  </a:lnTo>
                  <a:lnTo>
                    <a:pt x="58" y="1703"/>
                  </a:lnTo>
                  <a:lnTo>
                    <a:pt x="79" y="1763"/>
                  </a:lnTo>
                  <a:lnTo>
                    <a:pt x="103" y="1824"/>
                  </a:lnTo>
                  <a:lnTo>
                    <a:pt x="130" y="1881"/>
                  </a:lnTo>
                  <a:lnTo>
                    <a:pt x="158" y="1938"/>
                  </a:lnTo>
                  <a:lnTo>
                    <a:pt x="190" y="1993"/>
                  </a:lnTo>
                  <a:lnTo>
                    <a:pt x="224" y="2046"/>
                  </a:lnTo>
                  <a:lnTo>
                    <a:pt x="260" y="2098"/>
                  </a:lnTo>
                  <a:lnTo>
                    <a:pt x="299" y="2146"/>
                  </a:lnTo>
                  <a:lnTo>
                    <a:pt x="340" y="2195"/>
                  </a:lnTo>
                  <a:lnTo>
                    <a:pt x="385" y="2240"/>
                  </a:lnTo>
                  <a:lnTo>
                    <a:pt x="430" y="2284"/>
                  </a:lnTo>
                  <a:lnTo>
                    <a:pt x="477" y="2325"/>
                  </a:lnTo>
                  <a:lnTo>
                    <a:pt x="527" y="2364"/>
                  </a:lnTo>
                  <a:lnTo>
                    <a:pt x="578" y="2400"/>
                  </a:lnTo>
                  <a:lnTo>
                    <a:pt x="632" y="2435"/>
                  </a:lnTo>
                  <a:lnTo>
                    <a:pt x="686" y="2466"/>
                  </a:lnTo>
                  <a:lnTo>
                    <a:pt x="743" y="2495"/>
                  </a:lnTo>
                  <a:lnTo>
                    <a:pt x="802" y="2521"/>
                  </a:lnTo>
                  <a:lnTo>
                    <a:pt x="861" y="2545"/>
                  </a:lnTo>
                  <a:lnTo>
                    <a:pt x="922" y="2565"/>
                  </a:lnTo>
                  <a:lnTo>
                    <a:pt x="984" y="2583"/>
                  </a:lnTo>
                  <a:lnTo>
                    <a:pt x="1048" y="2598"/>
                  </a:lnTo>
                  <a:lnTo>
                    <a:pt x="1112" y="2610"/>
                  </a:lnTo>
                  <a:lnTo>
                    <a:pt x="1178" y="2617"/>
                  </a:lnTo>
                  <a:lnTo>
                    <a:pt x="1245" y="2623"/>
                  </a:lnTo>
                  <a:lnTo>
                    <a:pt x="1312" y="2625"/>
                  </a:lnTo>
                  <a:lnTo>
                    <a:pt x="1351" y="2624"/>
                  </a:lnTo>
                  <a:lnTo>
                    <a:pt x="1389" y="2622"/>
                  </a:lnTo>
                  <a:lnTo>
                    <a:pt x="1427" y="2619"/>
                  </a:lnTo>
                  <a:lnTo>
                    <a:pt x="1465" y="2615"/>
                  </a:lnTo>
                  <a:lnTo>
                    <a:pt x="1502" y="2611"/>
                  </a:lnTo>
                  <a:lnTo>
                    <a:pt x="1540" y="2604"/>
                  </a:lnTo>
                  <a:lnTo>
                    <a:pt x="1575" y="2598"/>
                  </a:lnTo>
                  <a:lnTo>
                    <a:pt x="1612" y="2590"/>
                  </a:lnTo>
                  <a:lnTo>
                    <a:pt x="1648" y="2581"/>
                  </a:lnTo>
                  <a:lnTo>
                    <a:pt x="1683" y="2571"/>
                  </a:lnTo>
                  <a:lnTo>
                    <a:pt x="1719" y="2560"/>
                  </a:lnTo>
                  <a:lnTo>
                    <a:pt x="1754" y="2548"/>
                  </a:lnTo>
                  <a:lnTo>
                    <a:pt x="1788" y="2535"/>
                  </a:lnTo>
                  <a:lnTo>
                    <a:pt x="1822" y="2522"/>
                  </a:lnTo>
                  <a:lnTo>
                    <a:pt x="1855" y="2507"/>
                  </a:lnTo>
                  <a:lnTo>
                    <a:pt x="1888" y="2492"/>
                  </a:lnTo>
                  <a:lnTo>
                    <a:pt x="1869" y="2454"/>
                  </a:lnTo>
                  <a:lnTo>
                    <a:pt x="1838" y="2469"/>
                  </a:lnTo>
                  <a:lnTo>
                    <a:pt x="1805" y="2483"/>
                  </a:lnTo>
                  <a:lnTo>
                    <a:pt x="1773" y="2496"/>
                  </a:lnTo>
                  <a:lnTo>
                    <a:pt x="1740" y="2509"/>
                  </a:lnTo>
                  <a:lnTo>
                    <a:pt x="1706" y="2520"/>
                  </a:lnTo>
                  <a:lnTo>
                    <a:pt x="1671" y="2531"/>
                  </a:lnTo>
                  <a:lnTo>
                    <a:pt x="1637" y="2541"/>
                  </a:lnTo>
                  <a:lnTo>
                    <a:pt x="1602" y="2549"/>
                  </a:lnTo>
                  <a:lnTo>
                    <a:pt x="1568" y="2557"/>
                  </a:lnTo>
                  <a:lnTo>
                    <a:pt x="1532" y="2563"/>
                  </a:lnTo>
                  <a:lnTo>
                    <a:pt x="1496" y="2570"/>
                  </a:lnTo>
                  <a:lnTo>
                    <a:pt x="1460" y="2574"/>
                  </a:lnTo>
                  <a:lnTo>
                    <a:pt x="1423" y="2578"/>
                  </a:lnTo>
                  <a:lnTo>
                    <a:pt x="1386" y="2581"/>
                  </a:lnTo>
                  <a:lnTo>
                    <a:pt x="1349" y="2582"/>
                  </a:lnTo>
                  <a:lnTo>
                    <a:pt x="1312" y="2583"/>
                  </a:lnTo>
                  <a:lnTo>
                    <a:pt x="1247" y="2581"/>
                  </a:lnTo>
                  <a:lnTo>
                    <a:pt x="1182" y="2576"/>
                  </a:lnTo>
                  <a:lnTo>
                    <a:pt x="1118" y="2568"/>
                  </a:lnTo>
                  <a:lnTo>
                    <a:pt x="1056" y="2557"/>
                  </a:lnTo>
                  <a:lnTo>
                    <a:pt x="995" y="2543"/>
                  </a:lnTo>
                  <a:lnTo>
                    <a:pt x="935" y="2526"/>
                  </a:lnTo>
                  <a:lnTo>
                    <a:pt x="875" y="2506"/>
                  </a:lnTo>
                  <a:lnTo>
                    <a:pt x="818" y="2483"/>
                  </a:lnTo>
                  <a:lnTo>
                    <a:pt x="762" y="2457"/>
                  </a:lnTo>
                  <a:lnTo>
                    <a:pt x="707" y="2429"/>
                  </a:lnTo>
                  <a:lnTo>
                    <a:pt x="654" y="2399"/>
                  </a:lnTo>
                  <a:lnTo>
                    <a:pt x="602" y="2366"/>
                  </a:lnTo>
                  <a:lnTo>
                    <a:pt x="552" y="2330"/>
                  </a:lnTo>
                  <a:lnTo>
                    <a:pt x="503" y="2292"/>
                  </a:lnTo>
                  <a:lnTo>
                    <a:pt x="458" y="2252"/>
                  </a:lnTo>
                  <a:lnTo>
                    <a:pt x="414" y="2210"/>
                  </a:lnTo>
                  <a:lnTo>
                    <a:pt x="372" y="2167"/>
                  </a:lnTo>
                  <a:lnTo>
                    <a:pt x="332" y="2121"/>
                  </a:lnTo>
                  <a:lnTo>
                    <a:pt x="294" y="2072"/>
                  </a:lnTo>
                  <a:lnTo>
                    <a:pt x="258" y="2022"/>
                  </a:lnTo>
                  <a:lnTo>
                    <a:pt x="226" y="1971"/>
                  </a:lnTo>
                  <a:lnTo>
                    <a:pt x="194" y="1917"/>
                  </a:lnTo>
                  <a:lnTo>
                    <a:pt x="166" y="1863"/>
                  </a:lnTo>
                  <a:lnTo>
                    <a:pt x="141" y="1807"/>
                  </a:lnTo>
                  <a:lnTo>
                    <a:pt x="119" y="1749"/>
                  </a:lnTo>
                  <a:lnTo>
                    <a:pt x="98" y="1691"/>
                  </a:lnTo>
                  <a:lnTo>
                    <a:pt x="81" y="1630"/>
                  </a:lnTo>
                  <a:lnTo>
                    <a:pt x="67" y="1569"/>
                  </a:lnTo>
                  <a:lnTo>
                    <a:pt x="56" y="1506"/>
                  </a:lnTo>
                  <a:lnTo>
                    <a:pt x="47" y="1442"/>
                  </a:lnTo>
                  <a:lnTo>
                    <a:pt x="43" y="1377"/>
                  </a:lnTo>
                  <a:lnTo>
                    <a:pt x="41" y="1313"/>
                  </a:lnTo>
                  <a:lnTo>
                    <a:pt x="43" y="1247"/>
                  </a:lnTo>
                  <a:lnTo>
                    <a:pt x="47" y="1183"/>
                  </a:lnTo>
                  <a:lnTo>
                    <a:pt x="56" y="1119"/>
                  </a:lnTo>
                  <a:lnTo>
                    <a:pt x="67" y="1057"/>
                  </a:lnTo>
                  <a:lnTo>
                    <a:pt x="81" y="995"/>
                  </a:lnTo>
                  <a:lnTo>
                    <a:pt x="98" y="935"/>
                  </a:lnTo>
                  <a:lnTo>
                    <a:pt x="119" y="875"/>
                  </a:lnTo>
                  <a:lnTo>
                    <a:pt x="141" y="818"/>
                  </a:lnTo>
                  <a:lnTo>
                    <a:pt x="166" y="762"/>
                  </a:lnTo>
                  <a:lnTo>
                    <a:pt x="194" y="707"/>
                  </a:lnTo>
                  <a:lnTo>
                    <a:pt x="226" y="654"/>
                  </a:lnTo>
                  <a:lnTo>
                    <a:pt x="258" y="602"/>
                  </a:lnTo>
                  <a:lnTo>
                    <a:pt x="294" y="552"/>
                  </a:lnTo>
                  <a:lnTo>
                    <a:pt x="332" y="505"/>
                  </a:lnTo>
                  <a:lnTo>
                    <a:pt x="372" y="458"/>
                  </a:lnTo>
                  <a:lnTo>
                    <a:pt x="414" y="414"/>
                  </a:lnTo>
                  <a:lnTo>
                    <a:pt x="458" y="372"/>
                  </a:lnTo>
                  <a:lnTo>
                    <a:pt x="503" y="332"/>
                  </a:lnTo>
                  <a:lnTo>
                    <a:pt x="552" y="294"/>
                  </a:lnTo>
                  <a:lnTo>
                    <a:pt x="602" y="259"/>
                  </a:lnTo>
                  <a:lnTo>
                    <a:pt x="654" y="226"/>
                  </a:lnTo>
                  <a:lnTo>
                    <a:pt x="707" y="196"/>
                  </a:lnTo>
                  <a:lnTo>
                    <a:pt x="762" y="168"/>
                  </a:lnTo>
                  <a:lnTo>
                    <a:pt x="818" y="142"/>
                  </a:lnTo>
                  <a:lnTo>
                    <a:pt x="875" y="119"/>
                  </a:lnTo>
                  <a:lnTo>
                    <a:pt x="935" y="99"/>
                  </a:lnTo>
                  <a:lnTo>
                    <a:pt x="995" y="83"/>
                  </a:lnTo>
                  <a:lnTo>
                    <a:pt x="1056" y="67"/>
                  </a:lnTo>
                  <a:lnTo>
                    <a:pt x="1118" y="57"/>
                  </a:lnTo>
                  <a:lnTo>
                    <a:pt x="1182" y="49"/>
                  </a:lnTo>
                  <a:lnTo>
                    <a:pt x="1247" y="44"/>
                  </a:lnTo>
                  <a:lnTo>
                    <a:pt x="1312" y="43"/>
                  </a:lnTo>
                  <a:lnTo>
                    <a:pt x="1378" y="44"/>
                  </a:lnTo>
                  <a:lnTo>
                    <a:pt x="1442" y="49"/>
                  </a:lnTo>
                  <a:lnTo>
                    <a:pt x="1506" y="57"/>
                  </a:lnTo>
                  <a:lnTo>
                    <a:pt x="1569" y="67"/>
                  </a:lnTo>
                  <a:lnTo>
                    <a:pt x="1629" y="83"/>
                  </a:lnTo>
                  <a:lnTo>
                    <a:pt x="1690" y="99"/>
                  </a:lnTo>
                  <a:lnTo>
                    <a:pt x="1749" y="119"/>
                  </a:lnTo>
                  <a:lnTo>
                    <a:pt x="1807" y="142"/>
                  </a:lnTo>
                  <a:lnTo>
                    <a:pt x="1863" y="168"/>
                  </a:lnTo>
                  <a:lnTo>
                    <a:pt x="1918" y="196"/>
                  </a:lnTo>
                  <a:lnTo>
                    <a:pt x="1971" y="226"/>
                  </a:lnTo>
                  <a:lnTo>
                    <a:pt x="2023" y="259"/>
                  </a:lnTo>
                  <a:lnTo>
                    <a:pt x="2072" y="294"/>
                  </a:lnTo>
                  <a:lnTo>
                    <a:pt x="2121" y="332"/>
                  </a:lnTo>
                  <a:lnTo>
                    <a:pt x="2166" y="372"/>
                  </a:lnTo>
                  <a:lnTo>
                    <a:pt x="2211" y="414"/>
                  </a:lnTo>
                  <a:lnTo>
                    <a:pt x="2253" y="458"/>
                  </a:lnTo>
                  <a:lnTo>
                    <a:pt x="2293" y="505"/>
                  </a:lnTo>
                  <a:lnTo>
                    <a:pt x="2331" y="552"/>
                  </a:lnTo>
                  <a:lnTo>
                    <a:pt x="2366" y="602"/>
                  </a:lnTo>
                  <a:lnTo>
                    <a:pt x="2399" y="654"/>
                  </a:lnTo>
                  <a:lnTo>
                    <a:pt x="2430" y="707"/>
                  </a:lnTo>
                  <a:lnTo>
                    <a:pt x="2458" y="762"/>
                  </a:lnTo>
                  <a:lnTo>
                    <a:pt x="2483" y="818"/>
                  </a:lnTo>
                  <a:lnTo>
                    <a:pt x="2506" y="875"/>
                  </a:lnTo>
                  <a:lnTo>
                    <a:pt x="2526" y="935"/>
                  </a:lnTo>
                  <a:lnTo>
                    <a:pt x="2543" y="995"/>
                  </a:lnTo>
                  <a:lnTo>
                    <a:pt x="2558" y="1057"/>
                  </a:lnTo>
                  <a:lnTo>
                    <a:pt x="2568" y="1119"/>
                  </a:lnTo>
                  <a:lnTo>
                    <a:pt x="2577" y="1183"/>
                  </a:lnTo>
                  <a:lnTo>
                    <a:pt x="2581" y="1247"/>
                  </a:lnTo>
                  <a:lnTo>
                    <a:pt x="2583" y="1313"/>
                  </a:lnTo>
                  <a:lnTo>
                    <a:pt x="2582" y="1355"/>
                  </a:lnTo>
                  <a:lnTo>
                    <a:pt x="2580" y="1397"/>
                  </a:lnTo>
                  <a:lnTo>
                    <a:pt x="2577" y="1439"/>
                  </a:lnTo>
                  <a:lnTo>
                    <a:pt x="2572" y="1481"/>
                  </a:lnTo>
                  <a:lnTo>
                    <a:pt x="2566" y="1522"/>
                  </a:lnTo>
                  <a:lnTo>
                    <a:pt x="2559" y="1562"/>
                  </a:lnTo>
                  <a:lnTo>
                    <a:pt x="2550" y="1603"/>
                  </a:lnTo>
                  <a:lnTo>
                    <a:pt x="2539" y="1643"/>
                  </a:lnTo>
                  <a:lnTo>
                    <a:pt x="2580" y="1654"/>
                  </a:lnTo>
                  <a:lnTo>
                    <a:pt x="2590" y="1613"/>
                  </a:lnTo>
                  <a:lnTo>
                    <a:pt x="2600" y="1571"/>
                  </a:lnTo>
                  <a:lnTo>
                    <a:pt x="2607" y="1529"/>
                  </a:lnTo>
                  <a:lnTo>
                    <a:pt x="2614" y="1487"/>
                  </a:lnTo>
                  <a:lnTo>
                    <a:pt x="2618" y="1443"/>
                  </a:lnTo>
                  <a:lnTo>
                    <a:pt x="2622" y="1400"/>
                  </a:lnTo>
                  <a:lnTo>
                    <a:pt x="2624" y="1357"/>
                  </a:lnTo>
                  <a:lnTo>
                    <a:pt x="2624" y="1313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60800" y="2484360"/>
              <a:ext cx="1025640" cy="1025640"/>
            </a:xfrm>
            <a:custGeom>
              <a:avLst/>
              <a:gdLst/>
              <a:ahLst/>
              <a:rect l="l" t="t" r="r" b="b"/>
              <a:pathLst>
                <a:path w="2584" h="2582">
                  <a:moveTo>
                    <a:pt x="2584" y="1292"/>
                  </a:moveTo>
                  <a:lnTo>
                    <a:pt x="2582" y="1225"/>
                  </a:lnTo>
                  <a:lnTo>
                    <a:pt x="2577" y="1160"/>
                  </a:lnTo>
                  <a:lnTo>
                    <a:pt x="2569" y="1095"/>
                  </a:lnTo>
                  <a:lnTo>
                    <a:pt x="2558" y="1031"/>
                  </a:lnTo>
                  <a:lnTo>
                    <a:pt x="2543" y="969"/>
                  </a:lnTo>
                  <a:lnTo>
                    <a:pt x="2526" y="907"/>
                  </a:lnTo>
                  <a:lnTo>
                    <a:pt x="2505" y="848"/>
                  </a:lnTo>
                  <a:lnTo>
                    <a:pt x="2482" y="788"/>
                  </a:lnTo>
                  <a:lnTo>
                    <a:pt x="2456" y="731"/>
                  </a:lnTo>
                  <a:lnTo>
                    <a:pt x="2428" y="676"/>
                  </a:lnTo>
                  <a:lnTo>
                    <a:pt x="2397" y="622"/>
                  </a:lnTo>
                  <a:lnTo>
                    <a:pt x="2364" y="569"/>
                  </a:lnTo>
                  <a:lnTo>
                    <a:pt x="2327" y="519"/>
                  </a:lnTo>
                  <a:lnTo>
                    <a:pt x="2289" y="470"/>
                  </a:lnTo>
                  <a:lnTo>
                    <a:pt x="2248" y="423"/>
                  </a:lnTo>
                  <a:lnTo>
                    <a:pt x="2206" y="378"/>
                  </a:lnTo>
                  <a:lnTo>
                    <a:pt x="2160" y="336"/>
                  </a:lnTo>
                  <a:lnTo>
                    <a:pt x="2114" y="295"/>
                  </a:lnTo>
                  <a:lnTo>
                    <a:pt x="2065" y="257"/>
                  </a:lnTo>
                  <a:lnTo>
                    <a:pt x="2015" y="220"/>
                  </a:lnTo>
                  <a:lnTo>
                    <a:pt x="1962" y="187"/>
                  </a:lnTo>
                  <a:lnTo>
                    <a:pt x="1908" y="157"/>
                  </a:lnTo>
                  <a:lnTo>
                    <a:pt x="1852" y="127"/>
                  </a:lnTo>
                  <a:lnTo>
                    <a:pt x="1795" y="102"/>
                  </a:lnTo>
                  <a:lnTo>
                    <a:pt x="1736" y="79"/>
                  </a:lnTo>
                  <a:lnTo>
                    <a:pt x="1676" y="58"/>
                  </a:lnTo>
                  <a:lnTo>
                    <a:pt x="1615" y="41"/>
                  </a:lnTo>
                  <a:lnTo>
                    <a:pt x="1552" y="27"/>
                  </a:lnTo>
                  <a:lnTo>
                    <a:pt x="1489" y="15"/>
                  </a:lnTo>
                  <a:lnTo>
                    <a:pt x="1425" y="6"/>
                  </a:lnTo>
                  <a:lnTo>
                    <a:pt x="1359" y="2"/>
                  </a:lnTo>
                  <a:lnTo>
                    <a:pt x="1292" y="0"/>
                  </a:lnTo>
                  <a:lnTo>
                    <a:pt x="1226" y="2"/>
                  </a:lnTo>
                  <a:lnTo>
                    <a:pt x="1160" y="6"/>
                  </a:lnTo>
                  <a:lnTo>
                    <a:pt x="1095" y="15"/>
                  </a:lnTo>
                  <a:lnTo>
                    <a:pt x="1032" y="27"/>
                  </a:lnTo>
                  <a:lnTo>
                    <a:pt x="970" y="41"/>
                  </a:lnTo>
                  <a:lnTo>
                    <a:pt x="908" y="58"/>
                  </a:lnTo>
                  <a:lnTo>
                    <a:pt x="848" y="79"/>
                  </a:lnTo>
                  <a:lnTo>
                    <a:pt x="789" y="102"/>
                  </a:lnTo>
                  <a:lnTo>
                    <a:pt x="732" y="127"/>
                  </a:lnTo>
                  <a:lnTo>
                    <a:pt x="677" y="157"/>
                  </a:lnTo>
                  <a:lnTo>
                    <a:pt x="623" y="187"/>
                  </a:lnTo>
                  <a:lnTo>
                    <a:pt x="570" y="220"/>
                  </a:lnTo>
                  <a:lnTo>
                    <a:pt x="519" y="257"/>
                  </a:lnTo>
                  <a:lnTo>
                    <a:pt x="470" y="295"/>
                  </a:lnTo>
                  <a:lnTo>
                    <a:pt x="424" y="336"/>
                  </a:lnTo>
                  <a:lnTo>
                    <a:pt x="379" y="378"/>
                  </a:lnTo>
                  <a:lnTo>
                    <a:pt x="336" y="423"/>
                  </a:lnTo>
                  <a:lnTo>
                    <a:pt x="295" y="470"/>
                  </a:lnTo>
                  <a:lnTo>
                    <a:pt x="258" y="519"/>
                  </a:lnTo>
                  <a:lnTo>
                    <a:pt x="221" y="569"/>
                  </a:lnTo>
                  <a:lnTo>
                    <a:pt x="187" y="622"/>
                  </a:lnTo>
                  <a:lnTo>
                    <a:pt x="156" y="676"/>
                  </a:lnTo>
                  <a:lnTo>
                    <a:pt x="128" y="731"/>
                  </a:lnTo>
                  <a:lnTo>
                    <a:pt x="102" y="788"/>
                  </a:lnTo>
                  <a:lnTo>
                    <a:pt x="79" y="848"/>
                  </a:lnTo>
                  <a:lnTo>
                    <a:pt x="59" y="907"/>
                  </a:lnTo>
                  <a:lnTo>
                    <a:pt x="41" y="969"/>
                  </a:lnTo>
                  <a:lnTo>
                    <a:pt x="26" y="1031"/>
                  </a:lnTo>
                  <a:lnTo>
                    <a:pt x="16" y="1095"/>
                  </a:lnTo>
                  <a:lnTo>
                    <a:pt x="7" y="1160"/>
                  </a:lnTo>
                  <a:lnTo>
                    <a:pt x="3" y="1225"/>
                  </a:lnTo>
                  <a:lnTo>
                    <a:pt x="0" y="1292"/>
                  </a:lnTo>
                  <a:lnTo>
                    <a:pt x="3" y="1358"/>
                  </a:lnTo>
                  <a:lnTo>
                    <a:pt x="7" y="1423"/>
                  </a:lnTo>
                  <a:lnTo>
                    <a:pt x="16" y="1488"/>
                  </a:lnTo>
                  <a:lnTo>
                    <a:pt x="26" y="1552"/>
                  </a:lnTo>
                  <a:lnTo>
                    <a:pt x="41" y="1615"/>
                  </a:lnTo>
                  <a:lnTo>
                    <a:pt x="59" y="1675"/>
                  </a:lnTo>
                  <a:lnTo>
                    <a:pt x="79" y="1736"/>
                  </a:lnTo>
                  <a:lnTo>
                    <a:pt x="102" y="1794"/>
                  </a:lnTo>
                  <a:lnTo>
                    <a:pt x="128" y="1851"/>
                  </a:lnTo>
                  <a:lnTo>
                    <a:pt x="156" y="1907"/>
                  </a:lnTo>
                  <a:lnTo>
                    <a:pt x="187" y="1961"/>
                  </a:lnTo>
                  <a:lnTo>
                    <a:pt x="221" y="2013"/>
                  </a:lnTo>
                  <a:lnTo>
                    <a:pt x="258" y="2064"/>
                  </a:lnTo>
                  <a:lnTo>
                    <a:pt x="295" y="2112"/>
                  </a:lnTo>
                  <a:lnTo>
                    <a:pt x="336" y="2160"/>
                  </a:lnTo>
                  <a:lnTo>
                    <a:pt x="379" y="2204"/>
                  </a:lnTo>
                  <a:lnTo>
                    <a:pt x="424" y="2247"/>
                  </a:lnTo>
                  <a:lnTo>
                    <a:pt x="470" y="2287"/>
                  </a:lnTo>
                  <a:lnTo>
                    <a:pt x="519" y="2326"/>
                  </a:lnTo>
                  <a:lnTo>
                    <a:pt x="570" y="2362"/>
                  </a:lnTo>
                  <a:lnTo>
                    <a:pt x="623" y="2395"/>
                  </a:lnTo>
                  <a:lnTo>
                    <a:pt x="677" y="2427"/>
                  </a:lnTo>
                  <a:lnTo>
                    <a:pt x="732" y="2455"/>
                  </a:lnTo>
                  <a:lnTo>
                    <a:pt x="789" y="2481"/>
                  </a:lnTo>
                  <a:lnTo>
                    <a:pt x="848" y="2505"/>
                  </a:lnTo>
                  <a:lnTo>
                    <a:pt x="908" y="2524"/>
                  </a:lnTo>
                  <a:lnTo>
                    <a:pt x="970" y="2542"/>
                  </a:lnTo>
                  <a:lnTo>
                    <a:pt x="1032" y="2556"/>
                  </a:lnTo>
                  <a:lnTo>
                    <a:pt x="1095" y="2567"/>
                  </a:lnTo>
                  <a:lnTo>
                    <a:pt x="1160" y="2576"/>
                  </a:lnTo>
                  <a:lnTo>
                    <a:pt x="1226" y="2581"/>
                  </a:lnTo>
                  <a:lnTo>
                    <a:pt x="1292" y="2582"/>
                  </a:lnTo>
                  <a:lnTo>
                    <a:pt x="1331" y="2582"/>
                  </a:lnTo>
                  <a:lnTo>
                    <a:pt x="1367" y="2580"/>
                  </a:lnTo>
                  <a:lnTo>
                    <a:pt x="1405" y="2578"/>
                  </a:lnTo>
                  <a:lnTo>
                    <a:pt x="1442" y="2574"/>
                  </a:lnTo>
                  <a:lnTo>
                    <a:pt x="1479" y="2569"/>
                  </a:lnTo>
                  <a:lnTo>
                    <a:pt x="1515" y="2563"/>
                  </a:lnTo>
                  <a:lnTo>
                    <a:pt x="1552" y="2556"/>
                  </a:lnTo>
                  <a:lnTo>
                    <a:pt x="1588" y="2549"/>
                  </a:lnTo>
                  <a:lnTo>
                    <a:pt x="1622" y="2540"/>
                  </a:lnTo>
                  <a:lnTo>
                    <a:pt x="1658" y="2530"/>
                  </a:lnTo>
                  <a:lnTo>
                    <a:pt x="1693" y="2520"/>
                  </a:lnTo>
                  <a:lnTo>
                    <a:pt x="1726" y="2508"/>
                  </a:lnTo>
                  <a:lnTo>
                    <a:pt x="1761" y="2495"/>
                  </a:lnTo>
                  <a:lnTo>
                    <a:pt x="1793" y="2482"/>
                  </a:lnTo>
                  <a:lnTo>
                    <a:pt x="1827" y="2468"/>
                  </a:lnTo>
                  <a:lnTo>
                    <a:pt x="1859" y="2452"/>
                  </a:lnTo>
                  <a:lnTo>
                    <a:pt x="1841" y="2415"/>
                  </a:lnTo>
                  <a:lnTo>
                    <a:pt x="1809" y="2429"/>
                  </a:lnTo>
                  <a:lnTo>
                    <a:pt x="1777" y="2443"/>
                  </a:lnTo>
                  <a:lnTo>
                    <a:pt x="1745" y="2456"/>
                  </a:lnTo>
                  <a:lnTo>
                    <a:pt x="1712" y="2469"/>
                  </a:lnTo>
                  <a:lnTo>
                    <a:pt x="1680" y="2480"/>
                  </a:lnTo>
                  <a:lnTo>
                    <a:pt x="1646" y="2490"/>
                  </a:lnTo>
                  <a:lnTo>
                    <a:pt x="1613" y="2499"/>
                  </a:lnTo>
                  <a:lnTo>
                    <a:pt x="1578" y="2508"/>
                  </a:lnTo>
                  <a:lnTo>
                    <a:pt x="1543" y="2515"/>
                  </a:lnTo>
                  <a:lnTo>
                    <a:pt x="1509" y="2522"/>
                  </a:lnTo>
                  <a:lnTo>
                    <a:pt x="1473" y="2528"/>
                  </a:lnTo>
                  <a:lnTo>
                    <a:pt x="1438" y="2533"/>
                  </a:lnTo>
                  <a:lnTo>
                    <a:pt x="1402" y="2536"/>
                  </a:lnTo>
                  <a:lnTo>
                    <a:pt x="1365" y="2539"/>
                  </a:lnTo>
                  <a:lnTo>
                    <a:pt x="1328" y="2540"/>
                  </a:lnTo>
                  <a:lnTo>
                    <a:pt x="1292" y="2541"/>
                  </a:lnTo>
                  <a:lnTo>
                    <a:pt x="1228" y="2539"/>
                  </a:lnTo>
                  <a:lnTo>
                    <a:pt x="1164" y="2535"/>
                  </a:lnTo>
                  <a:lnTo>
                    <a:pt x="1101" y="2526"/>
                  </a:lnTo>
                  <a:lnTo>
                    <a:pt x="1040" y="2515"/>
                  </a:lnTo>
                  <a:lnTo>
                    <a:pt x="979" y="2501"/>
                  </a:lnTo>
                  <a:lnTo>
                    <a:pt x="920" y="2485"/>
                  </a:lnTo>
                  <a:lnTo>
                    <a:pt x="863" y="2465"/>
                  </a:lnTo>
                  <a:lnTo>
                    <a:pt x="805" y="2443"/>
                  </a:lnTo>
                  <a:lnTo>
                    <a:pt x="750" y="2418"/>
                  </a:lnTo>
                  <a:lnTo>
                    <a:pt x="696" y="2390"/>
                  </a:lnTo>
                  <a:lnTo>
                    <a:pt x="644" y="2360"/>
                  </a:lnTo>
                  <a:lnTo>
                    <a:pt x="594" y="2327"/>
                  </a:lnTo>
                  <a:lnTo>
                    <a:pt x="544" y="2293"/>
                  </a:lnTo>
                  <a:lnTo>
                    <a:pt x="497" y="2255"/>
                  </a:lnTo>
                  <a:lnTo>
                    <a:pt x="452" y="2216"/>
                  </a:lnTo>
                  <a:lnTo>
                    <a:pt x="408" y="2175"/>
                  </a:lnTo>
                  <a:lnTo>
                    <a:pt x="367" y="2132"/>
                  </a:lnTo>
                  <a:lnTo>
                    <a:pt x="328" y="2087"/>
                  </a:lnTo>
                  <a:lnTo>
                    <a:pt x="290" y="2039"/>
                  </a:lnTo>
                  <a:lnTo>
                    <a:pt x="255" y="1990"/>
                  </a:lnTo>
                  <a:lnTo>
                    <a:pt x="223" y="1940"/>
                  </a:lnTo>
                  <a:lnTo>
                    <a:pt x="193" y="1887"/>
                  </a:lnTo>
                  <a:lnTo>
                    <a:pt x="166" y="1833"/>
                  </a:lnTo>
                  <a:lnTo>
                    <a:pt x="141" y="1778"/>
                  </a:lnTo>
                  <a:lnTo>
                    <a:pt x="118" y="1722"/>
                  </a:lnTo>
                  <a:lnTo>
                    <a:pt x="99" y="1663"/>
                  </a:lnTo>
                  <a:lnTo>
                    <a:pt x="81" y="1604"/>
                  </a:lnTo>
                  <a:lnTo>
                    <a:pt x="67" y="1543"/>
                  </a:lnTo>
                  <a:lnTo>
                    <a:pt x="57" y="1482"/>
                  </a:lnTo>
                  <a:lnTo>
                    <a:pt x="49" y="1419"/>
                  </a:lnTo>
                  <a:lnTo>
                    <a:pt x="44" y="1355"/>
                  </a:lnTo>
                  <a:lnTo>
                    <a:pt x="43" y="1292"/>
                  </a:lnTo>
                  <a:lnTo>
                    <a:pt x="44" y="1227"/>
                  </a:lnTo>
                  <a:lnTo>
                    <a:pt x="49" y="1163"/>
                  </a:lnTo>
                  <a:lnTo>
                    <a:pt x="57" y="1102"/>
                  </a:lnTo>
                  <a:lnTo>
                    <a:pt x="67" y="1040"/>
                  </a:lnTo>
                  <a:lnTo>
                    <a:pt x="81" y="980"/>
                  </a:lnTo>
                  <a:lnTo>
                    <a:pt x="99" y="920"/>
                  </a:lnTo>
                  <a:lnTo>
                    <a:pt x="118" y="862"/>
                  </a:lnTo>
                  <a:lnTo>
                    <a:pt x="141" y="805"/>
                  </a:lnTo>
                  <a:lnTo>
                    <a:pt x="166" y="750"/>
                  </a:lnTo>
                  <a:lnTo>
                    <a:pt x="193" y="696"/>
                  </a:lnTo>
                  <a:lnTo>
                    <a:pt x="223" y="644"/>
                  </a:lnTo>
                  <a:lnTo>
                    <a:pt x="255" y="593"/>
                  </a:lnTo>
                  <a:lnTo>
                    <a:pt x="290" y="544"/>
                  </a:lnTo>
                  <a:lnTo>
                    <a:pt x="328" y="497"/>
                  </a:lnTo>
                  <a:lnTo>
                    <a:pt x="367" y="451"/>
                  </a:lnTo>
                  <a:lnTo>
                    <a:pt x="408" y="408"/>
                  </a:lnTo>
                  <a:lnTo>
                    <a:pt x="452" y="366"/>
                  </a:lnTo>
                  <a:lnTo>
                    <a:pt x="497" y="327"/>
                  </a:lnTo>
                  <a:lnTo>
                    <a:pt x="544" y="291"/>
                  </a:lnTo>
                  <a:lnTo>
                    <a:pt x="594" y="255"/>
                  </a:lnTo>
                  <a:lnTo>
                    <a:pt x="644" y="222"/>
                  </a:lnTo>
                  <a:lnTo>
                    <a:pt x="696" y="192"/>
                  </a:lnTo>
                  <a:lnTo>
                    <a:pt x="750" y="165"/>
                  </a:lnTo>
                  <a:lnTo>
                    <a:pt x="805" y="140"/>
                  </a:lnTo>
                  <a:lnTo>
                    <a:pt x="863" y="118"/>
                  </a:lnTo>
                  <a:lnTo>
                    <a:pt x="920" y="98"/>
                  </a:lnTo>
                  <a:lnTo>
                    <a:pt x="979" y="81"/>
                  </a:lnTo>
                  <a:lnTo>
                    <a:pt x="1040" y="67"/>
                  </a:lnTo>
                  <a:lnTo>
                    <a:pt x="1101" y="56"/>
                  </a:lnTo>
                  <a:lnTo>
                    <a:pt x="1164" y="49"/>
                  </a:lnTo>
                  <a:lnTo>
                    <a:pt x="1228" y="43"/>
                  </a:lnTo>
                  <a:lnTo>
                    <a:pt x="1292" y="42"/>
                  </a:lnTo>
                  <a:lnTo>
                    <a:pt x="1356" y="43"/>
                  </a:lnTo>
                  <a:lnTo>
                    <a:pt x="1420" y="49"/>
                  </a:lnTo>
                  <a:lnTo>
                    <a:pt x="1483" y="56"/>
                  </a:lnTo>
                  <a:lnTo>
                    <a:pt x="1544" y="67"/>
                  </a:lnTo>
                  <a:lnTo>
                    <a:pt x="1605" y="81"/>
                  </a:lnTo>
                  <a:lnTo>
                    <a:pt x="1663" y="98"/>
                  </a:lnTo>
                  <a:lnTo>
                    <a:pt x="1722" y="118"/>
                  </a:lnTo>
                  <a:lnTo>
                    <a:pt x="1779" y="140"/>
                  </a:lnTo>
                  <a:lnTo>
                    <a:pt x="1834" y="165"/>
                  </a:lnTo>
                  <a:lnTo>
                    <a:pt x="1888" y="192"/>
                  </a:lnTo>
                  <a:lnTo>
                    <a:pt x="1940" y="222"/>
                  </a:lnTo>
                  <a:lnTo>
                    <a:pt x="1991" y="255"/>
                  </a:lnTo>
                  <a:lnTo>
                    <a:pt x="2040" y="291"/>
                  </a:lnTo>
                  <a:lnTo>
                    <a:pt x="2087" y="327"/>
                  </a:lnTo>
                  <a:lnTo>
                    <a:pt x="2132" y="366"/>
                  </a:lnTo>
                  <a:lnTo>
                    <a:pt x="2176" y="408"/>
                  </a:lnTo>
                  <a:lnTo>
                    <a:pt x="2218" y="451"/>
                  </a:lnTo>
                  <a:lnTo>
                    <a:pt x="2257" y="497"/>
                  </a:lnTo>
                  <a:lnTo>
                    <a:pt x="2294" y="544"/>
                  </a:lnTo>
                  <a:lnTo>
                    <a:pt x="2329" y="593"/>
                  </a:lnTo>
                  <a:lnTo>
                    <a:pt x="2361" y="644"/>
                  </a:lnTo>
                  <a:lnTo>
                    <a:pt x="2392" y="696"/>
                  </a:lnTo>
                  <a:lnTo>
                    <a:pt x="2419" y="750"/>
                  </a:lnTo>
                  <a:lnTo>
                    <a:pt x="2443" y="805"/>
                  </a:lnTo>
                  <a:lnTo>
                    <a:pt x="2466" y="862"/>
                  </a:lnTo>
                  <a:lnTo>
                    <a:pt x="2486" y="920"/>
                  </a:lnTo>
                  <a:lnTo>
                    <a:pt x="2503" y="980"/>
                  </a:lnTo>
                  <a:lnTo>
                    <a:pt x="2517" y="1040"/>
                  </a:lnTo>
                  <a:lnTo>
                    <a:pt x="2528" y="1102"/>
                  </a:lnTo>
                  <a:lnTo>
                    <a:pt x="2535" y="1163"/>
                  </a:lnTo>
                  <a:lnTo>
                    <a:pt x="2541" y="1227"/>
                  </a:lnTo>
                  <a:lnTo>
                    <a:pt x="2542" y="1292"/>
                  </a:lnTo>
                  <a:lnTo>
                    <a:pt x="2542" y="1334"/>
                  </a:lnTo>
                  <a:lnTo>
                    <a:pt x="2540" y="1375"/>
                  </a:lnTo>
                  <a:lnTo>
                    <a:pt x="2536" y="1416"/>
                  </a:lnTo>
                  <a:lnTo>
                    <a:pt x="2531" y="1457"/>
                  </a:lnTo>
                  <a:lnTo>
                    <a:pt x="2526" y="1498"/>
                  </a:lnTo>
                  <a:lnTo>
                    <a:pt x="2518" y="1538"/>
                  </a:lnTo>
                  <a:lnTo>
                    <a:pt x="2509" y="1577"/>
                  </a:lnTo>
                  <a:lnTo>
                    <a:pt x="2500" y="1617"/>
                  </a:lnTo>
                  <a:lnTo>
                    <a:pt x="2540" y="1628"/>
                  </a:lnTo>
                  <a:lnTo>
                    <a:pt x="2549" y="1587"/>
                  </a:lnTo>
                  <a:lnTo>
                    <a:pt x="2559" y="1545"/>
                  </a:lnTo>
                  <a:lnTo>
                    <a:pt x="2567" y="1504"/>
                  </a:lnTo>
                  <a:lnTo>
                    <a:pt x="2572" y="1462"/>
                  </a:lnTo>
                  <a:lnTo>
                    <a:pt x="2577" y="1420"/>
                  </a:lnTo>
                  <a:lnTo>
                    <a:pt x="2581" y="1378"/>
                  </a:lnTo>
                  <a:lnTo>
                    <a:pt x="2583" y="1335"/>
                  </a:lnTo>
                  <a:lnTo>
                    <a:pt x="2584" y="1292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68720" y="2494080"/>
              <a:ext cx="1009800" cy="1008000"/>
            </a:xfrm>
            <a:custGeom>
              <a:avLst/>
              <a:gdLst/>
              <a:ahLst/>
              <a:rect l="l" t="t" r="r" b="b"/>
              <a:pathLst>
                <a:path w="2542" h="2540">
                  <a:moveTo>
                    <a:pt x="2542" y="1270"/>
                  </a:moveTo>
                  <a:lnTo>
                    <a:pt x="2540" y="1204"/>
                  </a:lnTo>
                  <a:lnTo>
                    <a:pt x="2536" y="1140"/>
                  </a:lnTo>
                  <a:lnTo>
                    <a:pt x="2527" y="1076"/>
                  </a:lnTo>
                  <a:lnTo>
                    <a:pt x="2517" y="1014"/>
                  </a:lnTo>
                  <a:lnTo>
                    <a:pt x="2502" y="952"/>
                  </a:lnTo>
                  <a:lnTo>
                    <a:pt x="2485" y="892"/>
                  </a:lnTo>
                  <a:lnTo>
                    <a:pt x="2465" y="832"/>
                  </a:lnTo>
                  <a:lnTo>
                    <a:pt x="2442" y="775"/>
                  </a:lnTo>
                  <a:lnTo>
                    <a:pt x="2417" y="719"/>
                  </a:lnTo>
                  <a:lnTo>
                    <a:pt x="2389" y="664"/>
                  </a:lnTo>
                  <a:lnTo>
                    <a:pt x="2358" y="611"/>
                  </a:lnTo>
                  <a:lnTo>
                    <a:pt x="2325" y="559"/>
                  </a:lnTo>
                  <a:lnTo>
                    <a:pt x="2290" y="509"/>
                  </a:lnTo>
                  <a:lnTo>
                    <a:pt x="2252" y="462"/>
                  </a:lnTo>
                  <a:lnTo>
                    <a:pt x="2212" y="415"/>
                  </a:lnTo>
                  <a:lnTo>
                    <a:pt x="2170" y="371"/>
                  </a:lnTo>
                  <a:lnTo>
                    <a:pt x="2125" y="329"/>
                  </a:lnTo>
                  <a:lnTo>
                    <a:pt x="2080" y="289"/>
                  </a:lnTo>
                  <a:lnTo>
                    <a:pt x="2031" y="251"/>
                  </a:lnTo>
                  <a:lnTo>
                    <a:pt x="1982" y="216"/>
                  </a:lnTo>
                  <a:lnTo>
                    <a:pt x="1930" y="183"/>
                  </a:lnTo>
                  <a:lnTo>
                    <a:pt x="1877" y="153"/>
                  </a:lnTo>
                  <a:lnTo>
                    <a:pt x="1822" y="125"/>
                  </a:lnTo>
                  <a:lnTo>
                    <a:pt x="1766" y="99"/>
                  </a:lnTo>
                  <a:lnTo>
                    <a:pt x="1708" y="76"/>
                  </a:lnTo>
                  <a:lnTo>
                    <a:pt x="1649" y="56"/>
                  </a:lnTo>
                  <a:lnTo>
                    <a:pt x="1588" y="40"/>
                  </a:lnTo>
                  <a:lnTo>
                    <a:pt x="1528" y="24"/>
                  </a:lnTo>
                  <a:lnTo>
                    <a:pt x="1465" y="14"/>
                  </a:lnTo>
                  <a:lnTo>
                    <a:pt x="1401" y="6"/>
                  </a:lnTo>
                  <a:lnTo>
                    <a:pt x="1337" y="1"/>
                  </a:lnTo>
                  <a:lnTo>
                    <a:pt x="1271" y="0"/>
                  </a:lnTo>
                  <a:lnTo>
                    <a:pt x="1206" y="1"/>
                  </a:lnTo>
                  <a:lnTo>
                    <a:pt x="1141" y="6"/>
                  </a:lnTo>
                  <a:lnTo>
                    <a:pt x="1077" y="14"/>
                  </a:lnTo>
                  <a:lnTo>
                    <a:pt x="1015" y="24"/>
                  </a:lnTo>
                  <a:lnTo>
                    <a:pt x="954" y="40"/>
                  </a:lnTo>
                  <a:lnTo>
                    <a:pt x="894" y="56"/>
                  </a:lnTo>
                  <a:lnTo>
                    <a:pt x="834" y="76"/>
                  </a:lnTo>
                  <a:lnTo>
                    <a:pt x="777" y="99"/>
                  </a:lnTo>
                  <a:lnTo>
                    <a:pt x="721" y="125"/>
                  </a:lnTo>
                  <a:lnTo>
                    <a:pt x="666" y="153"/>
                  </a:lnTo>
                  <a:lnTo>
                    <a:pt x="613" y="183"/>
                  </a:lnTo>
                  <a:lnTo>
                    <a:pt x="561" y="216"/>
                  </a:lnTo>
                  <a:lnTo>
                    <a:pt x="511" y="251"/>
                  </a:lnTo>
                  <a:lnTo>
                    <a:pt x="462" y="289"/>
                  </a:lnTo>
                  <a:lnTo>
                    <a:pt x="417" y="329"/>
                  </a:lnTo>
                  <a:lnTo>
                    <a:pt x="373" y="371"/>
                  </a:lnTo>
                  <a:lnTo>
                    <a:pt x="331" y="415"/>
                  </a:lnTo>
                  <a:lnTo>
                    <a:pt x="291" y="462"/>
                  </a:lnTo>
                  <a:lnTo>
                    <a:pt x="253" y="509"/>
                  </a:lnTo>
                  <a:lnTo>
                    <a:pt x="217" y="559"/>
                  </a:lnTo>
                  <a:lnTo>
                    <a:pt x="185" y="611"/>
                  </a:lnTo>
                  <a:lnTo>
                    <a:pt x="153" y="664"/>
                  </a:lnTo>
                  <a:lnTo>
                    <a:pt x="125" y="719"/>
                  </a:lnTo>
                  <a:lnTo>
                    <a:pt x="100" y="775"/>
                  </a:lnTo>
                  <a:lnTo>
                    <a:pt x="78" y="832"/>
                  </a:lnTo>
                  <a:lnTo>
                    <a:pt x="57" y="892"/>
                  </a:lnTo>
                  <a:lnTo>
                    <a:pt x="40" y="952"/>
                  </a:lnTo>
                  <a:lnTo>
                    <a:pt x="26" y="1014"/>
                  </a:lnTo>
                  <a:lnTo>
                    <a:pt x="15" y="1076"/>
                  </a:lnTo>
                  <a:lnTo>
                    <a:pt x="6" y="1140"/>
                  </a:lnTo>
                  <a:lnTo>
                    <a:pt x="2" y="1204"/>
                  </a:lnTo>
                  <a:lnTo>
                    <a:pt x="0" y="1270"/>
                  </a:lnTo>
                  <a:lnTo>
                    <a:pt x="2" y="1334"/>
                  </a:lnTo>
                  <a:lnTo>
                    <a:pt x="6" y="1399"/>
                  </a:lnTo>
                  <a:lnTo>
                    <a:pt x="15" y="1463"/>
                  </a:lnTo>
                  <a:lnTo>
                    <a:pt x="26" y="1526"/>
                  </a:lnTo>
                  <a:lnTo>
                    <a:pt x="40" y="1587"/>
                  </a:lnTo>
                  <a:lnTo>
                    <a:pt x="57" y="1648"/>
                  </a:lnTo>
                  <a:lnTo>
                    <a:pt x="78" y="1706"/>
                  </a:lnTo>
                  <a:lnTo>
                    <a:pt x="100" y="1764"/>
                  </a:lnTo>
                  <a:lnTo>
                    <a:pt x="125" y="1820"/>
                  </a:lnTo>
                  <a:lnTo>
                    <a:pt x="153" y="1874"/>
                  </a:lnTo>
                  <a:lnTo>
                    <a:pt x="185" y="1928"/>
                  </a:lnTo>
                  <a:lnTo>
                    <a:pt x="217" y="1979"/>
                  </a:lnTo>
                  <a:lnTo>
                    <a:pt x="253" y="2029"/>
                  </a:lnTo>
                  <a:lnTo>
                    <a:pt x="291" y="2078"/>
                  </a:lnTo>
                  <a:lnTo>
                    <a:pt x="331" y="2124"/>
                  </a:lnTo>
                  <a:lnTo>
                    <a:pt x="373" y="2167"/>
                  </a:lnTo>
                  <a:lnTo>
                    <a:pt x="417" y="2209"/>
                  </a:lnTo>
                  <a:lnTo>
                    <a:pt x="462" y="2249"/>
                  </a:lnTo>
                  <a:lnTo>
                    <a:pt x="511" y="2287"/>
                  </a:lnTo>
                  <a:lnTo>
                    <a:pt x="561" y="2323"/>
                  </a:lnTo>
                  <a:lnTo>
                    <a:pt x="613" y="2356"/>
                  </a:lnTo>
                  <a:lnTo>
                    <a:pt x="666" y="2386"/>
                  </a:lnTo>
                  <a:lnTo>
                    <a:pt x="721" y="2414"/>
                  </a:lnTo>
                  <a:lnTo>
                    <a:pt x="777" y="2440"/>
                  </a:lnTo>
                  <a:lnTo>
                    <a:pt x="834" y="2463"/>
                  </a:lnTo>
                  <a:lnTo>
                    <a:pt x="894" y="2483"/>
                  </a:lnTo>
                  <a:lnTo>
                    <a:pt x="954" y="2500"/>
                  </a:lnTo>
                  <a:lnTo>
                    <a:pt x="1015" y="2514"/>
                  </a:lnTo>
                  <a:lnTo>
                    <a:pt x="1077" y="2525"/>
                  </a:lnTo>
                  <a:lnTo>
                    <a:pt x="1141" y="2533"/>
                  </a:lnTo>
                  <a:lnTo>
                    <a:pt x="1206" y="2538"/>
                  </a:lnTo>
                  <a:lnTo>
                    <a:pt x="1271" y="2540"/>
                  </a:lnTo>
                  <a:lnTo>
                    <a:pt x="1308" y="2539"/>
                  </a:lnTo>
                  <a:lnTo>
                    <a:pt x="1345" y="2538"/>
                  </a:lnTo>
                  <a:lnTo>
                    <a:pt x="1382" y="2535"/>
                  </a:lnTo>
                  <a:lnTo>
                    <a:pt x="1419" y="2531"/>
                  </a:lnTo>
                  <a:lnTo>
                    <a:pt x="1455" y="2527"/>
                  </a:lnTo>
                  <a:lnTo>
                    <a:pt x="1491" y="2520"/>
                  </a:lnTo>
                  <a:lnTo>
                    <a:pt x="1527" y="2514"/>
                  </a:lnTo>
                  <a:lnTo>
                    <a:pt x="1561" y="2506"/>
                  </a:lnTo>
                  <a:lnTo>
                    <a:pt x="1596" y="2498"/>
                  </a:lnTo>
                  <a:lnTo>
                    <a:pt x="1630" y="2488"/>
                  </a:lnTo>
                  <a:lnTo>
                    <a:pt x="1665" y="2477"/>
                  </a:lnTo>
                  <a:lnTo>
                    <a:pt x="1699" y="2466"/>
                  </a:lnTo>
                  <a:lnTo>
                    <a:pt x="1732" y="2453"/>
                  </a:lnTo>
                  <a:lnTo>
                    <a:pt x="1764" y="2440"/>
                  </a:lnTo>
                  <a:lnTo>
                    <a:pt x="1797" y="2426"/>
                  </a:lnTo>
                  <a:lnTo>
                    <a:pt x="1828" y="2411"/>
                  </a:lnTo>
                  <a:lnTo>
                    <a:pt x="1810" y="2373"/>
                  </a:lnTo>
                  <a:lnTo>
                    <a:pt x="1780" y="2389"/>
                  </a:lnTo>
                  <a:lnTo>
                    <a:pt x="1748" y="2403"/>
                  </a:lnTo>
                  <a:lnTo>
                    <a:pt x="1717" y="2414"/>
                  </a:lnTo>
                  <a:lnTo>
                    <a:pt x="1684" y="2426"/>
                  </a:lnTo>
                  <a:lnTo>
                    <a:pt x="1652" y="2438"/>
                  </a:lnTo>
                  <a:lnTo>
                    <a:pt x="1619" y="2448"/>
                  </a:lnTo>
                  <a:lnTo>
                    <a:pt x="1586" y="2458"/>
                  </a:lnTo>
                  <a:lnTo>
                    <a:pt x="1552" y="2466"/>
                  </a:lnTo>
                  <a:lnTo>
                    <a:pt x="1518" y="2473"/>
                  </a:lnTo>
                  <a:lnTo>
                    <a:pt x="1484" y="2479"/>
                  </a:lnTo>
                  <a:lnTo>
                    <a:pt x="1449" y="2486"/>
                  </a:lnTo>
                  <a:lnTo>
                    <a:pt x="1414" y="2490"/>
                  </a:lnTo>
                  <a:lnTo>
                    <a:pt x="1379" y="2493"/>
                  </a:lnTo>
                  <a:lnTo>
                    <a:pt x="1343" y="2495"/>
                  </a:lnTo>
                  <a:lnTo>
                    <a:pt x="1307" y="2498"/>
                  </a:lnTo>
                  <a:lnTo>
                    <a:pt x="1271" y="2498"/>
                  </a:lnTo>
                  <a:lnTo>
                    <a:pt x="1208" y="2497"/>
                  </a:lnTo>
                  <a:lnTo>
                    <a:pt x="1145" y="2492"/>
                  </a:lnTo>
                  <a:lnTo>
                    <a:pt x="1084" y="2484"/>
                  </a:lnTo>
                  <a:lnTo>
                    <a:pt x="1023" y="2473"/>
                  </a:lnTo>
                  <a:lnTo>
                    <a:pt x="964" y="2460"/>
                  </a:lnTo>
                  <a:lnTo>
                    <a:pt x="905" y="2443"/>
                  </a:lnTo>
                  <a:lnTo>
                    <a:pt x="848" y="2423"/>
                  </a:lnTo>
                  <a:lnTo>
                    <a:pt x="793" y="2402"/>
                  </a:lnTo>
                  <a:lnTo>
                    <a:pt x="738" y="2377"/>
                  </a:lnTo>
                  <a:lnTo>
                    <a:pt x="685" y="2350"/>
                  </a:lnTo>
                  <a:lnTo>
                    <a:pt x="634" y="2321"/>
                  </a:lnTo>
                  <a:lnTo>
                    <a:pt x="583" y="2288"/>
                  </a:lnTo>
                  <a:lnTo>
                    <a:pt x="536" y="2254"/>
                  </a:lnTo>
                  <a:lnTo>
                    <a:pt x="489" y="2218"/>
                  </a:lnTo>
                  <a:lnTo>
                    <a:pt x="445" y="2179"/>
                  </a:lnTo>
                  <a:lnTo>
                    <a:pt x="402" y="2138"/>
                  </a:lnTo>
                  <a:lnTo>
                    <a:pt x="361" y="2096"/>
                  </a:lnTo>
                  <a:lnTo>
                    <a:pt x="323" y="2051"/>
                  </a:lnTo>
                  <a:lnTo>
                    <a:pt x="286" y="2004"/>
                  </a:lnTo>
                  <a:lnTo>
                    <a:pt x="252" y="1957"/>
                  </a:lnTo>
                  <a:lnTo>
                    <a:pt x="220" y="1907"/>
                  </a:lnTo>
                  <a:lnTo>
                    <a:pt x="190" y="1855"/>
                  </a:lnTo>
                  <a:lnTo>
                    <a:pt x="163" y="1802"/>
                  </a:lnTo>
                  <a:lnTo>
                    <a:pt x="138" y="1748"/>
                  </a:lnTo>
                  <a:lnTo>
                    <a:pt x="117" y="1692"/>
                  </a:lnTo>
                  <a:lnTo>
                    <a:pt x="97" y="1635"/>
                  </a:lnTo>
                  <a:lnTo>
                    <a:pt x="81" y="1576"/>
                  </a:lnTo>
                  <a:lnTo>
                    <a:pt x="67" y="1517"/>
                  </a:lnTo>
                  <a:lnTo>
                    <a:pt x="56" y="1457"/>
                  </a:lnTo>
                  <a:lnTo>
                    <a:pt x="49" y="1395"/>
                  </a:lnTo>
                  <a:lnTo>
                    <a:pt x="43" y="1332"/>
                  </a:lnTo>
                  <a:lnTo>
                    <a:pt x="42" y="1270"/>
                  </a:lnTo>
                  <a:lnTo>
                    <a:pt x="43" y="1206"/>
                  </a:lnTo>
                  <a:lnTo>
                    <a:pt x="49" y="1143"/>
                  </a:lnTo>
                  <a:lnTo>
                    <a:pt x="56" y="1083"/>
                  </a:lnTo>
                  <a:lnTo>
                    <a:pt x="67" y="1022"/>
                  </a:lnTo>
                  <a:lnTo>
                    <a:pt x="81" y="962"/>
                  </a:lnTo>
                  <a:lnTo>
                    <a:pt x="97" y="904"/>
                  </a:lnTo>
                  <a:lnTo>
                    <a:pt x="117" y="847"/>
                  </a:lnTo>
                  <a:lnTo>
                    <a:pt x="138" y="791"/>
                  </a:lnTo>
                  <a:lnTo>
                    <a:pt x="163" y="737"/>
                  </a:lnTo>
                  <a:lnTo>
                    <a:pt x="190" y="684"/>
                  </a:lnTo>
                  <a:lnTo>
                    <a:pt x="220" y="632"/>
                  </a:lnTo>
                  <a:lnTo>
                    <a:pt x="252" y="583"/>
                  </a:lnTo>
                  <a:lnTo>
                    <a:pt x="286" y="534"/>
                  </a:lnTo>
                  <a:lnTo>
                    <a:pt x="323" y="488"/>
                  </a:lnTo>
                  <a:lnTo>
                    <a:pt x="361" y="443"/>
                  </a:lnTo>
                  <a:lnTo>
                    <a:pt x="402" y="400"/>
                  </a:lnTo>
                  <a:lnTo>
                    <a:pt x="445" y="360"/>
                  </a:lnTo>
                  <a:lnTo>
                    <a:pt x="489" y="321"/>
                  </a:lnTo>
                  <a:lnTo>
                    <a:pt x="536" y="285"/>
                  </a:lnTo>
                  <a:lnTo>
                    <a:pt x="583" y="250"/>
                  </a:lnTo>
                  <a:lnTo>
                    <a:pt x="634" y="219"/>
                  </a:lnTo>
                  <a:lnTo>
                    <a:pt x="685" y="189"/>
                  </a:lnTo>
                  <a:lnTo>
                    <a:pt x="738" y="162"/>
                  </a:lnTo>
                  <a:lnTo>
                    <a:pt x="793" y="138"/>
                  </a:lnTo>
                  <a:lnTo>
                    <a:pt x="848" y="115"/>
                  </a:lnTo>
                  <a:lnTo>
                    <a:pt x="905" y="96"/>
                  </a:lnTo>
                  <a:lnTo>
                    <a:pt x="964" y="80"/>
                  </a:lnTo>
                  <a:lnTo>
                    <a:pt x="1023" y="65"/>
                  </a:lnTo>
                  <a:lnTo>
                    <a:pt x="1084" y="55"/>
                  </a:lnTo>
                  <a:lnTo>
                    <a:pt x="1145" y="47"/>
                  </a:lnTo>
                  <a:lnTo>
                    <a:pt x="1208" y="43"/>
                  </a:lnTo>
                  <a:lnTo>
                    <a:pt x="1271" y="41"/>
                  </a:lnTo>
                  <a:lnTo>
                    <a:pt x="1334" y="43"/>
                  </a:lnTo>
                  <a:lnTo>
                    <a:pt x="1397" y="47"/>
                  </a:lnTo>
                  <a:lnTo>
                    <a:pt x="1459" y="55"/>
                  </a:lnTo>
                  <a:lnTo>
                    <a:pt x="1519" y="65"/>
                  </a:lnTo>
                  <a:lnTo>
                    <a:pt x="1579" y="80"/>
                  </a:lnTo>
                  <a:lnTo>
                    <a:pt x="1637" y="96"/>
                  </a:lnTo>
                  <a:lnTo>
                    <a:pt x="1694" y="115"/>
                  </a:lnTo>
                  <a:lnTo>
                    <a:pt x="1749" y="138"/>
                  </a:lnTo>
                  <a:lnTo>
                    <a:pt x="1804" y="162"/>
                  </a:lnTo>
                  <a:lnTo>
                    <a:pt x="1857" y="189"/>
                  </a:lnTo>
                  <a:lnTo>
                    <a:pt x="1908" y="219"/>
                  </a:lnTo>
                  <a:lnTo>
                    <a:pt x="1958" y="250"/>
                  </a:lnTo>
                  <a:lnTo>
                    <a:pt x="2006" y="285"/>
                  </a:lnTo>
                  <a:lnTo>
                    <a:pt x="2053" y="321"/>
                  </a:lnTo>
                  <a:lnTo>
                    <a:pt x="2097" y="360"/>
                  </a:lnTo>
                  <a:lnTo>
                    <a:pt x="2140" y="400"/>
                  </a:lnTo>
                  <a:lnTo>
                    <a:pt x="2182" y="443"/>
                  </a:lnTo>
                  <a:lnTo>
                    <a:pt x="2219" y="488"/>
                  </a:lnTo>
                  <a:lnTo>
                    <a:pt x="2256" y="534"/>
                  </a:lnTo>
                  <a:lnTo>
                    <a:pt x="2291" y="583"/>
                  </a:lnTo>
                  <a:lnTo>
                    <a:pt x="2322" y="632"/>
                  </a:lnTo>
                  <a:lnTo>
                    <a:pt x="2352" y="684"/>
                  </a:lnTo>
                  <a:lnTo>
                    <a:pt x="2379" y="737"/>
                  </a:lnTo>
                  <a:lnTo>
                    <a:pt x="2404" y="791"/>
                  </a:lnTo>
                  <a:lnTo>
                    <a:pt x="2426" y="847"/>
                  </a:lnTo>
                  <a:lnTo>
                    <a:pt x="2445" y="904"/>
                  </a:lnTo>
                  <a:lnTo>
                    <a:pt x="2461" y="962"/>
                  </a:lnTo>
                  <a:lnTo>
                    <a:pt x="2475" y="1022"/>
                  </a:lnTo>
                  <a:lnTo>
                    <a:pt x="2486" y="1083"/>
                  </a:lnTo>
                  <a:lnTo>
                    <a:pt x="2494" y="1143"/>
                  </a:lnTo>
                  <a:lnTo>
                    <a:pt x="2499" y="1206"/>
                  </a:lnTo>
                  <a:lnTo>
                    <a:pt x="2500" y="1270"/>
                  </a:lnTo>
                  <a:lnTo>
                    <a:pt x="2499" y="1311"/>
                  </a:lnTo>
                  <a:lnTo>
                    <a:pt x="2498" y="1352"/>
                  </a:lnTo>
                  <a:lnTo>
                    <a:pt x="2494" y="1392"/>
                  </a:lnTo>
                  <a:lnTo>
                    <a:pt x="2489" y="1433"/>
                  </a:lnTo>
                  <a:lnTo>
                    <a:pt x="2484" y="1472"/>
                  </a:lnTo>
                  <a:lnTo>
                    <a:pt x="2477" y="1512"/>
                  </a:lnTo>
                  <a:lnTo>
                    <a:pt x="2468" y="1550"/>
                  </a:lnTo>
                  <a:lnTo>
                    <a:pt x="2458" y="1588"/>
                  </a:lnTo>
                  <a:lnTo>
                    <a:pt x="2498" y="1600"/>
                  </a:lnTo>
                  <a:lnTo>
                    <a:pt x="2509" y="1560"/>
                  </a:lnTo>
                  <a:lnTo>
                    <a:pt x="2518" y="1519"/>
                  </a:lnTo>
                  <a:lnTo>
                    <a:pt x="2525" y="1479"/>
                  </a:lnTo>
                  <a:lnTo>
                    <a:pt x="2531" y="1438"/>
                  </a:lnTo>
                  <a:lnTo>
                    <a:pt x="2536" y="1396"/>
                  </a:lnTo>
                  <a:lnTo>
                    <a:pt x="2539" y="1354"/>
                  </a:lnTo>
                  <a:lnTo>
                    <a:pt x="2541" y="1312"/>
                  </a:lnTo>
                  <a:lnTo>
                    <a:pt x="2542" y="127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078440" y="2502000"/>
              <a:ext cx="992160" cy="992160"/>
            </a:xfrm>
            <a:custGeom>
              <a:avLst/>
              <a:gdLst/>
              <a:ahLst/>
              <a:rect l="l" t="t" r="r" b="b"/>
              <a:pathLst>
                <a:path w="2499" h="2499">
                  <a:moveTo>
                    <a:pt x="2499" y="1250"/>
                  </a:moveTo>
                  <a:lnTo>
                    <a:pt x="2498" y="1185"/>
                  </a:lnTo>
                  <a:lnTo>
                    <a:pt x="2492" y="1121"/>
                  </a:lnTo>
                  <a:lnTo>
                    <a:pt x="2485" y="1060"/>
                  </a:lnTo>
                  <a:lnTo>
                    <a:pt x="2474" y="998"/>
                  </a:lnTo>
                  <a:lnTo>
                    <a:pt x="2460" y="938"/>
                  </a:lnTo>
                  <a:lnTo>
                    <a:pt x="2443" y="878"/>
                  </a:lnTo>
                  <a:lnTo>
                    <a:pt x="2423" y="820"/>
                  </a:lnTo>
                  <a:lnTo>
                    <a:pt x="2400" y="763"/>
                  </a:lnTo>
                  <a:lnTo>
                    <a:pt x="2376" y="708"/>
                  </a:lnTo>
                  <a:lnTo>
                    <a:pt x="2349" y="654"/>
                  </a:lnTo>
                  <a:lnTo>
                    <a:pt x="2318" y="602"/>
                  </a:lnTo>
                  <a:lnTo>
                    <a:pt x="2286" y="551"/>
                  </a:lnTo>
                  <a:lnTo>
                    <a:pt x="2251" y="502"/>
                  </a:lnTo>
                  <a:lnTo>
                    <a:pt x="2214" y="455"/>
                  </a:lnTo>
                  <a:lnTo>
                    <a:pt x="2175" y="409"/>
                  </a:lnTo>
                  <a:lnTo>
                    <a:pt x="2133" y="366"/>
                  </a:lnTo>
                  <a:lnTo>
                    <a:pt x="2089" y="324"/>
                  </a:lnTo>
                  <a:lnTo>
                    <a:pt x="2044" y="285"/>
                  </a:lnTo>
                  <a:lnTo>
                    <a:pt x="1997" y="249"/>
                  </a:lnTo>
                  <a:lnTo>
                    <a:pt x="1948" y="213"/>
                  </a:lnTo>
                  <a:lnTo>
                    <a:pt x="1897" y="180"/>
                  </a:lnTo>
                  <a:lnTo>
                    <a:pt x="1845" y="150"/>
                  </a:lnTo>
                  <a:lnTo>
                    <a:pt x="1791" y="123"/>
                  </a:lnTo>
                  <a:lnTo>
                    <a:pt x="1736" y="98"/>
                  </a:lnTo>
                  <a:lnTo>
                    <a:pt x="1679" y="76"/>
                  </a:lnTo>
                  <a:lnTo>
                    <a:pt x="1620" y="56"/>
                  </a:lnTo>
                  <a:lnTo>
                    <a:pt x="1562" y="39"/>
                  </a:lnTo>
                  <a:lnTo>
                    <a:pt x="1501" y="25"/>
                  </a:lnTo>
                  <a:lnTo>
                    <a:pt x="1440" y="14"/>
                  </a:lnTo>
                  <a:lnTo>
                    <a:pt x="1377" y="7"/>
                  </a:lnTo>
                  <a:lnTo>
                    <a:pt x="1313" y="1"/>
                  </a:lnTo>
                  <a:lnTo>
                    <a:pt x="1249" y="0"/>
                  </a:lnTo>
                  <a:lnTo>
                    <a:pt x="1185" y="1"/>
                  </a:lnTo>
                  <a:lnTo>
                    <a:pt x="1121" y="7"/>
                  </a:lnTo>
                  <a:lnTo>
                    <a:pt x="1058" y="14"/>
                  </a:lnTo>
                  <a:lnTo>
                    <a:pt x="997" y="25"/>
                  </a:lnTo>
                  <a:lnTo>
                    <a:pt x="936" y="39"/>
                  </a:lnTo>
                  <a:lnTo>
                    <a:pt x="877" y="56"/>
                  </a:lnTo>
                  <a:lnTo>
                    <a:pt x="820" y="76"/>
                  </a:lnTo>
                  <a:lnTo>
                    <a:pt x="762" y="98"/>
                  </a:lnTo>
                  <a:lnTo>
                    <a:pt x="707" y="123"/>
                  </a:lnTo>
                  <a:lnTo>
                    <a:pt x="653" y="150"/>
                  </a:lnTo>
                  <a:lnTo>
                    <a:pt x="601" y="180"/>
                  </a:lnTo>
                  <a:lnTo>
                    <a:pt x="551" y="213"/>
                  </a:lnTo>
                  <a:lnTo>
                    <a:pt x="501" y="249"/>
                  </a:lnTo>
                  <a:lnTo>
                    <a:pt x="454" y="285"/>
                  </a:lnTo>
                  <a:lnTo>
                    <a:pt x="409" y="324"/>
                  </a:lnTo>
                  <a:lnTo>
                    <a:pt x="365" y="366"/>
                  </a:lnTo>
                  <a:lnTo>
                    <a:pt x="324" y="409"/>
                  </a:lnTo>
                  <a:lnTo>
                    <a:pt x="285" y="455"/>
                  </a:lnTo>
                  <a:lnTo>
                    <a:pt x="247" y="502"/>
                  </a:lnTo>
                  <a:lnTo>
                    <a:pt x="212" y="551"/>
                  </a:lnTo>
                  <a:lnTo>
                    <a:pt x="180" y="602"/>
                  </a:lnTo>
                  <a:lnTo>
                    <a:pt x="150" y="654"/>
                  </a:lnTo>
                  <a:lnTo>
                    <a:pt x="123" y="708"/>
                  </a:lnTo>
                  <a:lnTo>
                    <a:pt x="98" y="763"/>
                  </a:lnTo>
                  <a:lnTo>
                    <a:pt x="75" y="820"/>
                  </a:lnTo>
                  <a:lnTo>
                    <a:pt x="56" y="878"/>
                  </a:lnTo>
                  <a:lnTo>
                    <a:pt x="38" y="938"/>
                  </a:lnTo>
                  <a:lnTo>
                    <a:pt x="24" y="998"/>
                  </a:lnTo>
                  <a:lnTo>
                    <a:pt x="14" y="1060"/>
                  </a:lnTo>
                  <a:lnTo>
                    <a:pt x="6" y="1121"/>
                  </a:lnTo>
                  <a:lnTo>
                    <a:pt x="1" y="1185"/>
                  </a:lnTo>
                  <a:lnTo>
                    <a:pt x="0" y="1250"/>
                  </a:lnTo>
                  <a:lnTo>
                    <a:pt x="1" y="1313"/>
                  </a:lnTo>
                  <a:lnTo>
                    <a:pt x="6" y="1377"/>
                  </a:lnTo>
                  <a:lnTo>
                    <a:pt x="14" y="1440"/>
                  </a:lnTo>
                  <a:lnTo>
                    <a:pt x="24" y="1501"/>
                  </a:lnTo>
                  <a:lnTo>
                    <a:pt x="38" y="1562"/>
                  </a:lnTo>
                  <a:lnTo>
                    <a:pt x="56" y="1621"/>
                  </a:lnTo>
                  <a:lnTo>
                    <a:pt x="75" y="1680"/>
                  </a:lnTo>
                  <a:lnTo>
                    <a:pt x="98" y="1736"/>
                  </a:lnTo>
                  <a:lnTo>
                    <a:pt x="123" y="1791"/>
                  </a:lnTo>
                  <a:lnTo>
                    <a:pt x="150" y="1845"/>
                  </a:lnTo>
                  <a:lnTo>
                    <a:pt x="180" y="1898"/>
                  </a:lnTo>
                  <a:lnTo>
                    <a:pt x="212" y="1948"/>
                  </a:lnTo>
                  <a:lnTo>
                    <a:pt x="247" y="1997"/>
                  </a:lnTo>
                  <a:lnTo>
                    <a:pt x="285" y="2045"/>
                  </a:lnTo>
                  <a:lnTo>
                    <a:pt x="324" y="2090"/>
                  </a:lnTo>
                  <a:lnTo>
                    <a:pt x="365" y="2133"/>
                  </a:lnTo>
                  <a:lnTo>
                    <a:pt x="409" y="2174"/>
                  </a:lnTo>
                  <a:lnTo>
                    <a:pt x="454" y="2213"/>
                  </a:lnTo>
                  <a:lnTo>
                    <a:pt x="501" y="2251"/>
                  </a:lnTo>
                  <a:lnTo>
                    <a:pt x="551" y="2285"/>
                  </a:lnTo>
                  <a:lnTo>
                    <a:pt x="601" y="2318"/>
                  </a:lnTo>
                  <a:lnTo>
                    <a:pt x="653" y="2348"/>
                  </a:lnTo>
                  <a:lnTo>
                    <a:pt x="707" y="2376"/>
                  </a:lnTo>
                  <a:lnTo>
                    <a:pt x="762" y="2401"/>
                  </a:lnTo>
                  <a:lnTo>
                    <a:pt x="820" y="2423"/>
                  </a:lnTo>
                  <a:lnTo>
                    <a:pt x="877" y="2443"/>
                  </a:lnTo>
                  <a:lnTo>
                    <a:pt x="936" y="2459"/>
                  </a:lnTo>
                  <a:lnTo>
                    <a:pt x="997" y="2473"/>
                  </a:lnTo>
                  <a:lnTo>
                    <a:pt x="1058" y="2484"/>
                  </a:lnTo>
                  <a:lnTo>
                    <a:pt x="1121" y="2493"/>
                  </a:lnTo>
                  <a:lnTo>
                    <a:pt x="1185" y="2497"/>
                  </a:lnTo>
                  <a:lnTo>
                    <a:pt x="1249" y="2499"/>
                  </a:lnTo>
                  <a:lnTo>
                    <a:pt x="1285" y="2498"/>
                  </a:lnTo>
                  <a:lnTo>
                    <a:pt x="1322" y="2497"/>
                  </a:lnTo>
                  <a:lnTo>
                    <a:pt x="1359" y="2494"/>
                  </a:lnTo>
                  <a:lnTo>
                    <a:pt x="1395" y="2491"/>
                  </a:lnTo>
                  <a:lnTo>
                    <a:pt x="1430" y="2486"/>
                  </a:lnTo>
                  <a:lnTo>
                    <a:pt x="1466" y="2480"/>
                  </a:lnTo>
                  <a:lnTo>
                    <a:pt x="1500" y="2473"/>
                  </a:lnTo>
                  <a:lnTo>
                    <a:pt x="1535" y="2466"/>
                  </a:lnTo>
                  <a:lnTo>
                    <a:pt x="1570" y="2457"/>
                  </a:lnTo>
                  <a:lnTo>
                    <a:pt x="1603" y="2448"/>
                  </a:lnTo>
                  <a:lnTo>
                    <a:pt x="1637" y="2438"/>
                  </a:lnTo>
                  <a:lnTo>
                    <a:pt x="1669" y="2427"/>
                  </a:lnTo>
                  <a:lnTo>
                    <a:pt x="1702" y="2414"/>
                  </a:lnTo>
                  <a:lnTo>
                    <a:pt x="1734" y="2401"/>
                  </a:lnTo>
                  <a:lnTo>
                    <a:pt x="1766" y="2387"/>
                  </a:lnTo>
                  <a:lnTo>
                    <a:pt x="1798" y="2373"/>
                  </a:lnTo>
                  <a:lnTo>
                    <a:pt x="1779" y="2335"/>
                  </a:lnTo>
                  <a:lnTo>
                    <a:pt x="1749" y="2349"/>
                  </a:lnTo>
                  <a:lnTo>
                    <a:pt x="1718" y="2363"/>
                  </a:lnTo>
                  <a:lnTo>
                    <a:pt x="1687" y="2375"/>
                  </a:lnTo>
                  <a:lnTo>
                    <a:pt x="1655" y="2387"/>
                  </a:lnTo>
                  <a:lnTo>
                    <a:pt x="1624" y="2398"/>
                  </a:lnTo>
                  <a:lnTo>
                    <a:pt x="1591" y="2409"/>
                  </a:lnTo>
                  <a:lnTo>
                    <a:pt x="1559" y="2417"/>
                  </a:lnTo>
                  <a:lnTo>
                    <a:pt x="1525" y="2426"/>
                  </a:lnTo>
                  <a:lnTo>
                    <a:pt x="1492" y="2433"/>
                  </a:lnTo>
                  <a:lnTo>
                    <a:pt x="1458" y="2439"/>
                  </a:lnTo>
                  <a:lnTo>
                    <a:pt x="1424" y="2444"/>
                  </a:lnTo>
                  <a:lnTo>
                    <a:pt x="1389" y="2450"/>
                  </a:lnTo>
                  <a:lnTo>
                    <a:pt x="1355" y="2453"/>
                  </a:lnTo>
                  <a:lnTo>
                    <a:pt x="1320" y="2455"/>
                  </a:lnTo>
                  <a:lnTo>
                    <a:pt x="1284" y="2457"/>
                  </a:lnTo>
                  <a:lnTo>
                    <a:pt x="1249" y="2457"/>
                  </a:lnTo>
                  <a:lnTo>
                    <a:pt x="1187" y="2456"/>
                  </a:lnTo>
                  <a:lnTo>
                    <a:pt x="1125" y="2451"/>
                  </a:lnTo>
                  <a:lnTo>
                    <a:pt x="1065" y="2443"/>
                  </a:lnTo>
                  <a:lnTo>
                    <a:pt x="1006" y="2432"/>
                  </a:lnTo>
                  <a:lnTo>
                    <a:pt x="947" y="2419"/>
                  </a:lnTo>
                  <a:lnTo>
                    <a:pt x="890" y="2403"/>
                  </a:lnTo>
                  <a:lnTo>
                    <a:pt x="834" y="2384"/>
                  </a:lnTo>
                  <a:lnTo>
                    <a:pt x="779" y="2362"/>
                  </a:lnTo>
                  <a:lnTo>
                    <a:pt x="726" y="2338"/>
                  </a:lnTo>
                  <a:lnTo>
                    <a:pt x="673" y="2311"/>
                  </a:lnTo>
                  <a:lnTo>
                    <a:pt x="623" y="2282"/>
                  </a:lnTo>
                  <a:lnTo>
                    <a:pt x="573" y="2251"/>
                  </a:lnTo>
                  <a:lnTo>
                    <a:pt x="526" y="2217"/>
                  </a:lnTo>
                  <a:lnTo>
                    <a:pt x="480" y="2182"/>
                  </a:lnTo>
                  <a:lnTo>
                    <a:pt x="437" y="2144"/>
                  </a:lnTo>
                  <a:lnTo>
                    <a:pt x="395" y="2104"/>
                  </a:lnTo>
                  <a:lnTo>
                    <a:pt x="355" y="2062"/>
                  </a:lnTo>
                  <a:lnTo>
                    <a:pt x="317" y="2018"/>
                  </a:lnTo>
                  <a:lnTo>
                    <a:pt x="280" y="1972"/>
                  </a:lnTo>
                  <a:lnTo>
                    <a:pt x="247" y="1925"/>
                  </a:lnTo>
                  <a:lnTo>
                    <a:pt x="216" y="1876"/>
                  </a:lnTo>
                  <a:lnTo>
                    <a:pt x="186" y="1825"/>
                  </a:lnTo>
                  <a:lnTo>
                    <a:pt x="159" y="1773"/>
                  </a:lnTo>
                  <a:lnTo>
                    <a:pt x="136" y="1719"/>
                  </a:lnTo>
                  <a:lnTo>
                    <a:pt x="114" y="1664"/>
                  </a:lnTo>
                  <a:lnTo>
                    <a:pt x="95" y="1608"/>
                  </a:lnTo>
                  <a:lnTo>
                    <a:pt x="78" y="1551"/>
                  </a:lnTo>
                  <a:lnTo>
                    <a:pt x="65" y="1493"/>
                  </a:lnTo>
                  <a:lnTo>
                    <a:pt x="55" y="1433"/>
                  </a:lnTo>
                  <a:lnTo>
                    <a:pt x="47" y="1373"/>
                  </a:lnTo>
                  <a:lnTo>
                    <a:pt x="43" y="1311"/>
                  </a:lnTo>
                  <a:lnTo>
                    <a:pt x="41" y="1250"/>
                  </a:lnTo>
                  <a:lnTo>
                    <a:pt x="43" y="1187"/>
                  </a:lnTo>
                  <a:lnTo>
                    <a:pt x="47" y="1125"/>
                  </a:lnTo>
                  <a:lnTo>
                    <a:pt x="55" y="1065"/>
                  </a:lnTo>
                  <a:lnTo>
                    <a:pt x="65" y="1006"/>
                  </a:lnTo>
                  <a:lnTo>
                    <a:pt x="78" y="947"/>
                  </a:lnTo>
                  <a:lnTo>
                    <a:pt x="95" y="890"/>
                  </a:lnTo>
                  <a:lnTo>
                    <a:pt x="114" y="834"/>
                  </a:lnTo>
                  <a:lnTo>
                    <a:pt x="136" y="779"/>
                  </a:lnTo>
                  <a:lnTo>
                    <a:pt x="159" y="726"/>
                  </a:lnTo>
                  <a:lnTo>
                    <a:pt x="186" y="674"/>
                  </a:lnTo>
                  <a:lnTo>
                    <a:pt x="216" y="623"/>
                  </a:lnTo>
                  <a:lnTo>
                    <a:pt x="247" y="574"/>
                  </a:lnTo>
                  <a:lnTo>
                    <a:pt x="280" y="527"/>
                  </a:lnTo>
                  <a:lnTo>
                    <a:pt x="317" y="481"/>
                  </a:lnTo>
                  <a:lnTo>
                    <a:pt x="355" y="438"/>
                  </a:lnTo>
                  <a:lnTo>
                    <a:pt x="395" y="395"/>
                  </a:lnTo>
                  <a:lnTo>
                    <a:pt x="437" y="355"/>
                  </a:lnTo>
                  <a:lnTo>
                    <a:pt x="480" y="318"/>
                  </a:lnTo>
                  <a:lnTo>
                    <a:pt x="526" y="282"/>
                  </a:lnTo>
                  <a:lnTo>
                    <a:pt x="573" y="247"/>
                  </a:lnTo>
                  <a:lnTo>
                    <a:pt x="623" y="216"/>
                  </a:lnTo>
                  <a:lnTo>
                    <a:pt x="673" y="187"/>
                  </a:lnTo>
                  <a:lnTo>
                    <a:pt x="726" y="161"/>
                  </a:lnTo>
                  <a:lnTo>
                    <a:pt x="779" y="136"/>
                  </a:lnTo>
                  <a:lnTo>
                    <a:pt x="834" y="115"/>
                  </a:lnTo>
                  <a:lnTo>
                    <a:pt x="890" y="96"/>
                  </a:lnTo>
                  <a:lnTo>
                    <a:pt x="947" y="80"/>
                  </a:lnTo>
                  <a:lnTo>
                    <a:pt x="1006" y="66"/>
                  </a:lnTo>
                  <a:lnTo>
                    <a:pt x="1065" y="55"/>
                  </a:lnTo>
                  <a:lnTo>
                    <a:pt x="1125" y="48"/>
                  </a:lnTo>
                  <a:lnTo>
                    <a:pt x="1187" y="43"/>
                  </a:lnTo>
                  <a:lnTo>
                    <a:pt x="1249" y="41"/>
                  </a:lnTo>
                  <a:lnTo>
                    <a:pt x="1311" y="43"/>
                  </a:lnTo>
                  <a:lnTo>
                    <a:pt x="1373" y="48"/>
                  </a:lnTo>
                  <a:lnTo>
                    <a:pt x="1433" y="55"/>
                  </a:lnTo>
                  <a:lnTo>
                    <a:pt x="1493" y="66"/>
                  </a:lnTo>
                  <a:lnTo>
                    <a:pt x="1551" y="80"/>
                  </a:lnTo>
                  <a:lnTo>
                    <a:pt x="1608" y="96"/>
                  </a:lnTo>
                  <a:lnTo>
                    <a:pt x="1665" y="115"/>
                  </a:lnTo>
                  <a:lnTo>
                    <a:pt x="1720" y="136"/>
                  </a:lnTo>
                  <a:lnTo>
                    <a:pt x="1773" y="161"/>
                  </a:lnTo>
                  <a:lnTo>
                    <a:pt x="1825" y="187"/>
                  </a:lnTo>
                  <a:lnTo>
                    <a:pt x="1875" y="216"/>
                  </a:lnTo>
                  <a:lnTo>
                    <a:pt x="1925" y="247"/>
                  </a:lnTo>
                  <a:lnTo>
                    <a:pt x="1973" y="282"/>
                  </a:lnTo>
                  <a:lnTo>
                    <a:pt x="2018" y="318"/>
                  </a:lnTo>
                  <a:lnTo>
                    <a:pt x="2061" y="355"/>
                  </a:lnTo>
                  <a:lnTo>
                    <a:pt x="2103" y="395"/>
                  </a:lnTo>
                  <a:lnTo>
                    <a:pt x="2143" y="438"/>
                  </a:lnTo>
                  <a:lnTo>
                    <a:pt x="2181" y="481"/>
                  </a:lnTo>
                  <a:lnTo>
                    <a:pt x="2218" y="527"/>
                  </a:lnTo>
                  <a:lnTo>
                    <a:pt x="2251" y="574"/>
                  </a:lnTo>
                  <a:lnTo>
                    <a:pt x="2283" y="623"/>
                  </a:lnTo>
                  <a:lnTo>
                    <a:pt x="2312" y="674"/>
                  </a:lnTo>
                  <a:lnTo>
                    <a:pt x="2339" y="726"/>
                  </a:lnTo>
                  <a:lnTo>
                    <a:pt x="2363" y="779"/>
                  </a:lnTo>
                  <a:lnTo>
                    <a:pt x="2384" y="834"/>
                  </a:lnTo>
                  <a:lnTo>
                    <a:pt x="2404" y="890"/>
                  </a:lnTo>
                  <a:lnTo>
                    <a:pt x="2420" y="947"/>
                  </a:lnTo>
                  <a:lnTo>
                    <a:pt x="2433" y="1006"/>
                  </a:lnTo>
                  <a:lnTo>
                    <a:pt x="2444" y="1065"/>
                  </a:lnTo>
                  <a:lnTo>
                    <a:pt x="2451" y="1125"/>
                  </a:lnTo>
                  <a:lnTo>
                    <a:pt x="2456" y="1187"/>
                  </a:lnTo>
                  <a:lnTo>
                    <a:pt x="2458" y="1250"/>
                  </a:lnTo>
                  <a:lnTo>
                    <a:pt x="2457" y="1290"/>
                  </a:lnTo>
                  <a:lnTo>
                    <a:pt x="2455" y="1331"/>
                  </a:lnTo>
                  <a:lnTo>
                    <a:pt x="2451" y="1370"/>
                  </a:lnTo>
                  <a:lnTo>
                    <a:pt x="2447" y="1410"/>
                  </a:lnTo>
                  <a:lnTo>
                    <a:pt x="2442" y="1448"/>
                  </a:lnTo>
                  <a:lnTo>
                    <a:pt x="2434" y="1487"/>
                  </a:lnTo>
                  <a:lnTo>
                    <a:pt x="2425" y="1525"/>
                  </a:lnTo>
                  <a:lnTo>
                    <a:pt x="2417" y="1563"/>
                  </a:lnTo>
                  <a:lnTo>
                    <a:pt x="2457" y="1575"/>
                  </a:lnTo>
                  <a:lnTo>
                    <a:pt x="2466" y="1535"/>
                  </a:lnTo>
                  <a:lnTo>
                    <a:pt x="2475" y="1496"/>
                  </a:lnTo>
                  <a:lnTo>
                    <a:pt x="2483" y="1456"/>
                  </a:lnTo>
                  <a:lnTo>
                    <a:pt x="2488" y="1415"/>
                  </a:lnTo>
                  <a:lnTo>
                    <a:pt x="2493" y="1374"/>
                  </a:lnTo>
                  <a:lnTo>
                    <a:pt x="2497" y="1333"/>
                  </a:lnTo>
                  <a:lnTo>
                    <a:pt x="2499" y="1292"/>
                  </a:lnTo>
                  <a:lnTo>
                    <a:pt x="2499" y="1250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86360" y="2509920"/>
              <a:ext cx="976320" cy="974520"/>
            </a:xfrm>
            <a:custGeom>
              <a:avLst/>
              <a:gdLst/>
              <a:ahLst/>
              <a:rect l="l" t="t" r="r" b="b"/>
              <a:pathLst>
                <a:path w="2458" h="2457">
                  <a:moveTo>
                    <a:pt x="2458" y="1229"/>
                  </a:moveTo>
                  <a:lnTo>
                    <a:pt x="2457" y="1165"/>
                  </a:lnTo>
                  <a:lnTo>
                    <a:pt x="2452" y="1102"/>
                  </a:lnTo>
                  <a:lnTo>
                    <a:pt x="2444" y="1042"/>
                  </a:lnTo>
                  <a:lnTo>
                    <a:pt x="2433" y="981"/>
                  </a:lnTo>
                  <a:lnTo>
                    <a:pt x="2419" y="921"/>
                  </a:lnTo>
                  <a:lnTo>
                    <a:pt x="2403" y="863"/>
                  </a:lnTo>
                  <a:lnTo>
                    <a:pt x="2384" y="806"/>
                  </a:lnTo>
                  <a:lnTo>
                    <a:pt x="2362" y="750"/>
                  </a:lnTo>
                  <a:lnTo>
                    <a:pt x="2337" y="696"/>
                  </a:lnTo>
                  <a:lnTo>
                    <a:pt x="2310" y="643"/>
                  </a:lnTo>
                  <a:lnTo>
                    <a:pt x="2280" y="591"/>
                  </a:lnTo>
                  <a:lnTo>
                    <a:pt x="2249" y="542"/>
                  </a:lnTo>
                  <a:lnTo>
                    <a:pt x="2214" y="493"/>
                  </a:lnTo>
                  <a:lnTo>
                    <a:pt x="2177" y="447"/>
                  </a:lnTo>
                  <a:lnTo>
                    <a:pt x="2140" y="402"/>
                  </a:lnTo>
                  <a:lnTo>
                    <a:pt x="2098" y="359"/>
                  </a:lnTo>
                  <a:lnTo>
                    <a:pt x="2055" y="319"/>
                  </a:lnTo>
                  <a:lnTo>
                    <a:pt x="2011" y="280"/>
                  </a:lnTo>
                  <a:lnTo>
                    <a:pt x="1964" y="244"/>
                  </a:lnTo>
                  <a:lnTo>
                    <a:pt x="1916" y="209"/>
                  </a:lnTo>
                  <a:lnTo>
                    <a:pt x="1866" y="178"/>
                  </a:lnTo>
                  <a:lnTo>
                    <a:pt x="1815" y="148"/>
                  </a:lnTo>
                  <a:lnTo>
                    <a:pt x="1762" y="121"/>
                  </a:lnTo>
                  <a:lnTo>
                    <a:pt x="1707" y="97"/>
                  </a:lnTo>
                  <a:lnTo>
                    <a:pt x="1652" y="74"/>
                  </a:lnTo>
                  <a:lnTo>
                    <a:pt x="1595" y="55"/>
                  </a:lnTo>
                  <a:lnTo>
                    <a:pt x="1537" y="39"/>
                  </a:lnTo>
                  <a:lnTo>
                    <a:pt x="1477" y="24"/>
                  </a:lnTo>
                  <a:lnTo>
                    <a:pt x="1417" y="14"/>
                  </a:lnTo>
                  <a:lnTo>
                    <a:pt x="1355" y="6"/>
                  </a:lnTo>
                  <a:lnTo>
                    <a:pt x="1292" y="2"/>
                  </a:lnTo>
                  <a:lnTo>
                    <a:pt x="1229" y="0"/>
                  </a:lnTo>
                  <a:lnTo>
                    <a:pt x="1166" y="2"/>
                  </a:lnTo>
                  <a:lnTo>
                    <a:pt x="1103" y="6"/>
                  </a:lnTo>
                  <a:lnTo>
                    <a:pt x="1042" y="14"/>
                  </a:lnTo>
                  <a:lnTo>
                    <a:pt x="981" y="24"/>
                  </a:lnTo>
                  <a:lnTo>
                    <a:pt x="922" y="39"/>
                  </a:lnTo>
                  <a:lnTo>
                    <a:pt x="863" y="55"/>
                  </a:lnTo>
                  <a:lnTo>
                    <a:pt x="806" y="74"/>
                  </a:lnTo>
                  <a:lnTo>
                    <a:pt x="751" y="97"/>
                  </a:lnTo>
                  <a:lnTo>
                    <a:pt x="696" y="121"/>
                  </a:lnTo>
                  <a:lnTo>
                    <a:pt x="643" y="148"/>
                  </a:lnTo>
                  <a:lnTo>
                    <a:pt x="592" y="178"/>
                  </a:lnTo>
                  <a:lnTo>
                    <a:pt x="541" y="209"/>
                  </a:lnTo>
                  <a:lnTo>
                    <a:pt x="494" y="244"/>
                  </a:lnTo>
                  <a:lnTo>
                    <a:pt x="447" y="280"/>
                  </a:lnTo>
                  <a:lnTo>
                    <a:pt x="403" y="319"/>
                  </a:lnTo>
                  <a:lnTo>
                    <a:pt x="360" y="359"/>
                  </a:lnTo>
                  <a:lnTo>
                    <a:pt x="319" y="402"/>
                  </a:lnTo>
                  <a:lnTo>
                    <a:pt x="281" y="447"/>
                  </a:lnTo>
                  <a:lnTo>
                    <a:pt x="244" y="493"/>
                  </a:lnTo>
                  <a:lnTo>
                    <a:pt x="210" y="542"/>
                  </a:lnTo>
                  <a:lnTo>
                    <a:pt x="178" y="591"/>
                  </a:lnTo>
                  <a:lnTo>
                    <a:pt x="148" y="643"/>
                  </a:lnTo>
                  <a:lnTo>
                    <a:pt x="121" y="696"/>
                  </a:lnTo>
                  <a:lnTo>
                    <a:pt x="96" y="750"/>
                  </a:lnTo>
                  <a:lnTo>
                    <a:pt x="75" y="806"/>
                  </a:lnTo>
                  <a:lnTo>
                    <a:pt x="55" y="863"/>
                  </a:lnTo>
                  <a:lnTo>
                    <a:pt x="39" y="921"/>
                  </a:lnTo>
                  <a:lnTo>
                    <a:pt x="25" y="981"/>
                  </a:lnTo>
                  <a:lnTo>
                    <a:pt x="14" y="1042"/>
                  </a:lnTo>
                  <a:lnTo>
                    <a:pt x="7" y="1102"/>
                  </a:lnTo>
                  <a:lnTo>
                    <a:pt x="1" y="1165"/>
                  </a:lnTo>
                  <a:lnTo>
                    <a:pt x="0" y="1229"/>
                  </a:lnTo>
                  <a:lnTo>
                    <a:pt x="1" y="1291"/>
                  </a:lnTo>
                  <a:lnTo>
                    <a:pt x="7" y="1354"/>
                  </a:lnTo>
                  <a:lnTo>
                    <a:pt x="14" y="1416"/>
                  </a:lnTo>
                  <a:lnTo>
                    <a:pt x="25" y="1476"/>
                  </a:lnTo>
                  <a:lnTo>
                    <a:pt x="39" y="1535"/>
                  </a:lnTo>
                  <a:lnTo>
                    <a:pt x="55" y="1594"/>
                  </a:lnTo>
                  <a:lnTo>
                    <a:pt x="75" y="1651"/>
                  </a:lnTo>
                  <a:lnTo>
                    <a:pt x="96" y="1707"/>
                  </a:lnTo>
                  <a:lnTo>
                    <a:pt x="121" y="1761"/>
                  </a:lnTo>
                  <a:lnTo>
                    <a:pt x="148" y="1814"/>
                  </a:lnTo>
                  <a:lnTo>
                    <a:pt x="178" y="1866"/>
                  </a:lnTo>
                  <a:lnTo>
                    <a:pt x="210" y="1916"/>
                  </a:lnTo>
                  <a:lnTo>
                    <a:pt x="244" y="1963"/>
                  </a:lnTo>
                  <a:lnTo>
                    <a:pt x="281" y="2010"/>
                  </a:lnTo>
                  <a:lnTo>
                    <a:pt x="319" y="2055"/>
                  </a:lnTo>
                  <a:lnTo>
                    <a:pt x="360" y="2097"/>
                  </a:lnTo>
                  <a:lnTo>
                    <a:pt x="403" y="2138"/>
                  </a:lnTo>
                  <a:lnTo>
                    <a:pt x="447" y="2177"/>
                  </a:lnTo>
                  <a:lnTo>
                    <a:pt x="494" y="2213"/>
                  </a:lnTo>
                  <a:lnTo>
                    <a:pt x="541" y="2247"/>
                  </a:lnTo>
                  <a:lnTo>
                    <a:pt x="592" y="2280"/>
                  </a:lnTo>
                  <a:lnTo>
                    <a:pt x="643" y="2309"/>
                  </a:lnTo>
                  <a:lnTo>
                    <a:pt x="696" y="2336"/>
                  </a:lnTo>
                  <a:lnTo>
                    <a:pt x="751" y="2361"/>
                  </a:lnTo>
                  <a:lnTo>
                    <a:pt x="806" y="2382"/>
                  </a:lnTo>
                  <a:lnTo>
                    <a:pt x="863" y="2402"/>
                  </a:lnTo>
                  <a:lnTo>
                    <a:pt x="922" y="2419"/>
                  </a:lnTo>
                  <a:lnTo>
                    <a:pt x="981" y="2432"/>
                  </a:lnTo>
                  <a:lnTo>
                    <a:pt x="1042" y="2443"/>
                  </a:lnTo>
                  <a:lnTo>
                    <a:pt x="1103" y="2451"/>
                  </a:lnTo>
                  <a:lnTo>
                    <a:pt x="1166" y="2456"/>
                  </a:lnTo>
                  <a:lnTo>
                    <a:pt x="1229" y="2457"/>
                  </a:lnTo>
                  <a:lnTo>
                    <a:pt x="1265" y="2457"/>
                  </a:lnTo>
                  <a:lnTo>
                    <a:pt x="1301" y="2454"/>
                  </a:lnTo>
                  <a:lnTo>
                    <a:pt x="1337" y="2452"/>
                  </a:lnTo>
                  <a:lnTo>
                    <a:pt x="1372" y="2449"/>
                  </a:lnTo>
                  <a:lnTo>
                    <a:pt x="1407" y="2445"/>
                  </a:lnTo>
                  <a:lnTo>
                    <a:pt x="1442" y="2438"/>
                  </a:lnTo>
                  <a:lnTo>
                    <a:pt x="1476" y="2432"/>
                  </a:lnTo>
                  <a:lnTo>
                    <a:pt x="1510" y="2425"/>
                  </a:lnTo>
                  <a:lnTo>
                    <a:pt x="1544" y="2417"/>
                  </a:lnTo>
                  <a:lnTo>
                    <a:pt x="1577" y="2407"/>
                  </a:lnTo>
                  <a:lnTo>
                    <a:pt x="1610" y="2397"/>
                  </a:lnTo>
                  <a:lnTo>
                    <a:pt x="1642" y="2385"/>
                  </a:lnTo>
                  <a:lnTo>
                    <a:pt x="1675" y="2373"/>
                  </a:lnTo>
                  <a:lnTo>
                    <a:pt x="1706" y="2362"/>
                  </a:lnTo>
                  <a:lnTo>
                    <a:pt x="1738" y="2348"/>
                  </a:lnTo>
                  <a:lnTo>
                    <a:pt x="1768" y="2332"/>
                  </a:lnTo>
                  <a:lnTo>
                    <a:pt x="1749" y="2296"/>
                  </a:lnTo>
                  <a:lnTo>
                    <a:pt x="1720" y="2310"/>
                  </a:lnTo>
                  <a:lnTo>
                    <a:pt x="1690" y="2323"/>
                  </a:lnTo>
                  <a:lnTo>
                    <a:pt x="1660" y="2335"/>
                  </a:lnTo>
                  <a:lnTo>
                    <a:pt x="1628" y="2346"/>
                  </a:lnTo>
                  <a:lnTo>
                    <a:pt x="1597" y="2357"/>
                  </a:lnTo>
                  <a:lnTo>
                    <a:pt x="1565" y="2367"/>
                  </a:lnTo>
                  <a:lnTo>
                    <a:pt x="1533" y="2376"/>
                  </a:lnTo>
                  <a:lnTo>
                    <a:pt x="1501" y="2384"/>
                  </a:lnTo>
                  <a:lnTo>
                    <a:pt x="1467" y="2392"/>
                  </a:lnTo>
                  <a:lnTo>
                    <a:pt x="1435" y="2397"/>
                  </a:lnTo>
                  <a:lnTo>
                    <a:pt x="1402" y="2403"/>
                  </a:lnTo>
                  <a:lnTo>
                    <a:pt x="1367" y="2407"/>
                  </a:lnTo>
                  <a:lnTo>
                    <a:pt x="1333" y="2411"/>
                  </a:lnTo>
                  <a:lnTo>
                    <a:pt x="1299" y="2413"/>
                  </a:lnTo>
                  <a:lnTo>
                    <a:pt x="1264" y="2415"/>
                  </a:lnTo>
                  <a:lnTo>
                    <a:pt x="1229" y="2416"/>
                  </a:lnTo>
                  <a:lnTo>
                    <a:pt x="1168" y="2413"/>
                  </a:lnTo>
                  <a:lnTo>
                    <a:pt x="1108" y="2409"/>
                  </a:lnTo>
                  <a:lnTo>
                    <a:pt x="1048" y="2402"/>
                  </a:lnTo>
                  <a:lnTo>
                    <a:pt x="990" y="2392"/>
                  </a:lnTo>
                  <a:lnTo>
                    <a:pt x="933" y="2378"/>
                  </a:lnTo>
                  <a:lnTo>
                    <a:pt x="876" y="2362"/>
                  </a:lnTo>
                  <a:lnTo>
                    <a:pt x="821" y="2343"/>
                  </a:lnTo>
                  <a:lnTo>
                    <a:pt x="767" y="2322"/>
                  </a:lnTo>
                  <a:lnTo>
                    <a:pt x="714" y="2298"/>
                  </a:lnTo>
                  <a:lnTo>
                    <a:pt x="664" y="2272"/>
                  </a:lnTo>
                  <a:lnTo>
                    <a:pt x="614" y="2244"/>
                  </a:lnTo>
                  <a:lnTo>
                    <a:pt x="565" y="2213"/>
                  </a:lnTo>
                  <a:lnTo>
                    <a:pt x="519" y="2179"/>
                  </a:lnTo>
                  <a:lnTo>
                    <a:pt x="473" y="2145"/>
                  </a:lnTo>
                  <a:lnTo>
                    <a:pt x="431" y="2107"/>
                  </a:lnTo>
                  <a:lnTo>
                    <a:pt x="389" y="2068"/>
                  </a:lnTo>
                  <a:lnTo>
                    <a:pt x="350" y="2027"/>
                  </a:lnTo>
                  <a:lnTo>
                    <a:pt x="312" y="1984"/>
                  </a:lnTo>
                  <a:lnTo>
                    <a:pt x="278" y="1938"/>
                  </a:lnTo>
                  <a:lnTo>
                    <a:pt x="244" y="1892"/>
                  </a:lnTo>
                  <a:lnTo>
                    <a:pt x="214" y="1844"/>
                  </a:lnTo>
                  <a:lnTo>
                    <a:pt x="185" y="1795"/>
                  </a:lnTo>
                  <a:lnTo>
                    <a:pt x="159" y="1743"/>
                  </a:lnTo>
                  <a:lnTo>
                    <a:pt x="135" y="1691"/>
                  </a:lnTo>
                  <a:lnTo>
                    <a:pt x="114" y="1637"/>
                  </a:lnTo>
                  <a:lnTo>
                    <a:pt x="95" y="1582"/>
                  </a:lnTo>
                  <a:lnTo>
                    <a:pt x="79" y="1525"/>
                  </a:lnTo>
                  <a:lnTo>
                    <a:pt x="66" y="1467"/>
                  </a:lnTo>
                  <a:lnTo>
                    <a:pt x="55" y="1409"/>
                  </a:lnTo>
                  <a:lnTo>
                    <a:pt x="48" y="1350"/>
                  </a:lnTo>
                  <a:lnTo>
                    <a:pt x="43" y="1289"/>
                  </a:lnTo>
                  <a:lnTo>
                    <a:pt x="41" y="1229"/>
                  </a:lnTo>
                  <a:lnTo>
                    <a:pt x="43" y="1167"/>
                  </a:lnTo>
                  <a:lnTo>
                    <a:pt x="48" y="1107"/>
                  </a:lnTo>
                  <a:lnTo>
                    <a:pt x="55" y="1047"/>
                  </a:lnTo>
                  <a:lnTo>
                    <a:pt x="66" y="989"/>
                  </a:lnTo>
                  <a:lnTo>
                    <a:pt x="79" y="932"/>
                  </a:lnTo>
                  <a:lnTo>
                    <a:pt x="95" y="876"/>
                  </a:lnTo>
                  <a:lnTo>
                    <a:pt x="114" y="820"/>
                  </a:lnTo>
                  <a:lnTo>
                    <a:pt x="135" y="766"/>
                  </a:lnTo>
                  <a:lnTo>
                    <a:pt x="159" y="714"/>
                  </a:lnTo>
                  <a:lnTo>
                    <a:pt x="185" y="663"/>
                  </a:lnTo>
                  <a:lnTo>
                    <a:pt x="214" y="613"/>
                  </a:lnTo>
                  <a:lnTo>
                    <a:pt x="244" y="564"/>
                  </a:lnTo>
                  <a:lnTo>
                    <a:pt x="278" y="518"/>
                  </a:lnTo>
                  <a:lnTo>
                    <a:pt x="312" y="474"/>
                  </a:lnTo>
                  <a:lnTo>
                    <a:pt x="350" y="431"/>
                  </a:lnTo>
                  <a:lnTo>
                    <a:pt x="389" y="390"/>
                  </a:lnTo>
                  <a:lnTo>
                    <a:pt x="431" y="350"/>
                  </a:lnTo>
                  <a:lnTo>
                    <a:pt x="473" y="313"/>
                  </a:lnTo>
                  <a:lnTo>
                    <a:pt x="519" y="277"/>
                  </a:lnTo>
                  <a:lnTo>
                    <a:pt x="565" y="244"/>
                  </a:lnTo>
                  <a:lnTo>
                    <a:pt x="614" y="213"/>
                  </a:lnTo>
                  <a:lnTo>
                    <a:pt x="664" y="184"/>
                  </a:lnTo>
                  <a:lnTo>
                    <a:pt x="714" y="158"/>
                  </a:lnTo>
                  <a:lnTo>
                    <a:pt x="767" y="135"/>
                  </a:lnTo>
                  <a:lnTo>
                    <a:pt x="821" y="113"/>
                  </a:lnTo>
                  <a:lnTo>
                    <a:pt x="876" y="95"/>
                  </a:lnTo>
                  <a:lnTo>
                    <a:pt x="933" y="78"/>
                  </a:lnTo>
                  <a:lnTo>
                    <a:pt x="990" y="66"/>
                  </a:lnTo>
                  <a:lnTo>
                    <a:pt x="1048" y="55"/>
                  </a:lnTo>
                  <a:lnTo>
                    <a:pt x="1108" y="47"/>
                  </a:lnTo>
                  <a:lnTo>
                    <a:pt x="1168" y="43"/>
                  </a:lnTo>
                  <a:lnTo>
                    <a:pt x="1229" y="42"/>
                  </a:lnTo>
                  <a:lnTo>
                    <a:pt x="1290" y="43"/>
                  </a:lnTo>
                  <a:lnTo>
                    <a:pt x="1351" y="47"/>
                  </a:lnTo>
                  <a:lnTo>
                    <a:pt x="1410" y="55"/>
                  </a:lnTo>
                  <a:lnTo>
                    <a:pt x="1469" y="66"/>
                  </a:lnTo>
                  <a:lnTo>
                    <a:pt x="1526" y="78"/>
                  </a:lnTo>
                  <a:lnTo>
                    <a:pt x="1582" y="95"/>
                  </a:lnTo>
                  <a:lnTo>
                    <a:pt x="1637" y="113"/>
                  </a:lnTo>
                  <a:lnTo>
                    <a:pt x="1691" y="135"/>
                  </a:lnTo>
                  <a:lnTo>
                    <a:pt x="1744" y="158"/>
                  </a:lnTo>
                  <a:lnTo>
                    <a:pt x="1795" y="184"/>
                  </a:lnTo>
                  <a:lnTo>
                    <a:pt x="1845" y="213"/>
                  </a:lnTo>
                  <a:lnTo>
                    <a:pt x="1893" y="244"/>
                  </a:lnTo>
                  <a:lnTo>
                    <a:pt x="1940" y="277"/>
                  </a:lnTo>
                  <a:lnTo>
                    <a:pt x="1985" y="313"/>
                  </a:lnTo>
                  <a:lnTo>
                    <a:pt x="2027" y="350"/>
                  </a:lnTo>
                  <a:lnTo>
                    <a:pt x="2069" y="390"/>
                  </a:lnTo>
                  <a:lnTo>
                    <a:pt x="2108" y="431"/>
                  </a:lnTo>
                  <a:lnTo>
                    <a:pt x="2146" y="474"/>
                  </a:lnTo>
                  <a:lnTo>
                    <a:pt x="2181" y="518"/>
                  </a:lnTo>
                  <a:lnTo>
                    <a:pt x="2214" y="564"/>
                  </a:lnTo>
                  <a:lnTo>
                    <a:pt x="2244" y="613"/>
                  </a:lnTo>
                  <a:lnTo>
                    <a:pt x="2274" y="663"/>
                  </a:lnTo>
                  <a:lnTo>
                    <a:pt x="2299" y="714"/>
                  </a:lnTo>
                  <a:lnTo>
                    <a:pt x="2323" y="766"/>
                  </a:lnTo>
                  <a:lnTo>
                    <a:pt x="2345" y="820"/>
                  </a:lnTo>
                  <a:lnTo>
                    <a:pt x="2363" y="876"/>
                  </a:lnTo>
                  <a:lnTo>
                    <a:pt x="2379" y="932"/>
                  </a:lnTo>
                  <a:lnTo>
                    <a:pt x="2392" y="989"/>
                  </a:lnTo>
                  <a:lnTo>
                    <a:pt x="2403" y="1047"/>
                  </a:lnTo>
                  <a:lnTo>
                    <a:pt x="2411" y="1107"/>
                  </a:lnTo>
                  <a:lnTo>
                    <a:pt x="2415" y="1167"/>
                  </a:lnTo>
                  <a:lnTo>
                    <a:pt x="2417" y="1229"/>
                  </a:lnTo>
                  <a:lnTo>
                    <a:pt x="2416" y="1269"/>
                  </a:lnTo>
                  <a:lnTo>
                    <a:pt x="2414" y="1308"/>
                  </a:lnTo>
                  <a:lnTo>
                    <a:pt x="2411" y="1347"/>
                  </a:lnTo>
                  <a:lnTo>
                    <a:pt x="2406" y="1386"/>
                  </a:lnTo>
                  <a:lnTo>
                    <a:pt x="2401" y="1424"/>
                  </a:lnTo>
                  <a:lnTo>
                    <a:pt x="2393" y="1462"/>
                  </a:lnTo>
                  <a:lnTo>
                    <a:pt x="2386" y="1500"/>
                  </a:lnTo>
                  <a:lnTo>
                    <a:pt x="2376" y="1536"/>
                  </a:lnTo>
                  <a:lnTo>
                    <a:pt x="2416" y="1547"/>
                  </a:lnTo>
                  <a:lnTo>
                    <a:pt x="2426" y="1509"/>
                  </a:lnTo>
                  <a:lnTo>
                    <a:pt x="2435" y="1471"/>
                  </a:lnTo>
                  <a:lnTo>
                    <a:pt x="2442" y="1431"/>
                  </a:lnTo>
                  <a:lnTo>
                    <a:pt x="2447" y="1392"/>
                  </a:lnTo>
                  <a:lnTo>
                    <a:pt x="2452" y="1351"/>
                  </a:lnTo>
                  <a:lnTo>
                    <a:pt x="2456" y="1311"/>
                  </a:lnTo>
                  <a:lnTo>
                    <a:pt x="2457" y="1270"/>
                  </a:lnTo>
                  <a:lnTo>
                    <a:pt x="2458" y="1229"/>
                  </a:lnTo>
                  <a:close/>
                </a:path>
              </a:pathLst>
            </a:custGeom>
            <a:solidFill>
              <a:srgbClr val="ede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94280" y="2517840"/>
              <a:ext cx="958680" cy="958680"/>
            </a:xfrm>
            <a:custGeom>
              <a:avLst/>
              <a:gdLst/>
              <a:ahLst/>
              <a:rect l="l" t="t" r="r" b="b"/>
              <a:pathLst>
                <a:path w="2417" h="2416">
                  <a:moveTo>
                    <a:pt x="2417" y="1209"/>
                  </a:moveTo>
                  <a:lnTo>
                    <a:pt x="2415" y="1146"/>
                  </a:lnTo>
                  <a:lnTo>
                    <a:pt x="2410" y="1084"/>
                  </a:lnTo>
                  <a:lnTo>
                    <a:pt x="2403" y="1024"/>
                  </a:lnTo>
                  <a:lnTo>
                    <a:pt x="2392" y="965"/>
                  </a:lnTo>
                  <a:lnTo>
                    <a:pt x="2379" y="906"/>
                  </a:lnTo>
                  <a:lnTo>
                    <a:pt x="2363" y="849"/>
                  </a:lnTo>
                  <a:lnTo>
                    <a:pt x="2343" y="793"/>
                  </a:lnTo>
                  <a:lnTo>
                    <a:pt x="2322" y="738"/>
                  </a:lnTo>
                  <a:lnTo>
                    <a:pt x="2298" y="685"/>
                  </a:lnTo>
                  <a:lnTo>
                    <a:pt x="2271" y="633"/>
                  </a:lnTo>
                  <a:lnTo>
                    <a:pt x="2242" y="582"/>
                  </a:lnTo>
                  <a:lnTo>
                    <a:pt x="2210" y="533"/>
                  </a:lnTo>
                  <a:lnTo>
                    <a:pt x="2177" y="486"/>
                  </a:lnTo>
                  <a:lnTo>
                    <a:pt x="2140" y="440"/>
                  </a:lnTo>
                  <a:lnTo>
                    <a:pt x="2102" y="397"/>
                  </a:lnTo>
                  <a:lnTo>
                    <a:pt x="2062" y="354"/>
                  </a:lnTo>
                  <a:lnTo>
                    <a:pt x="2020" y="314"/>
                  </a:lnTo>
                  <a:lnTo>
                    <a:pt x="1977" y="277"/>
                  </a:lnTo>
                  <a:lnTo>
                    <a:pt x="1932" y="241"/>
                  </a:lnTo>
                  <a:lnTo>
                    <a:pt x="1884" y="206"/>
                  </a:lnTo>
                  <a:lnTo>
                    <a:pt x="1834" y="175"/>
                  </a:lnTo>
                  <a:lnTo>
                    <a:pt x="1784" y="146"/>
                  </a:lnTo>
                  <a:lnTo>
                    <a:pt x="1732" y="120"/>
                  </a:lnTo>
                  <a:lnTo>
                    <a:pt x="1679" y="95"/>
                  </a:lnTo>
                  <a:lnTo>
                    <a:pt x="1624" y="74"/>
                  </a:lnTo>
                  <a:lnTo>
                    <a:pt x="1567" y="55"/>
                  </a:lnTo>
                  <a:lnTo>
                    <a:pt x="1510" y="39"/>
                  </a:lnTo>
                  <a:lnTo>
                    <a:pt x="1452" y="25"/>
                  </a:lnTo>
                  <a:lnTo>
                    <a:pt x="1392" y="14"/>
                  </a:lnTo>
                  <a:lnTo>
                    <a:pt x="1332" y="7"/>
                  </a:lnTo>
                  <a:lnTo>
                    <a:pt x="1270" y="2"/>
                  </a:lnTo>
                  <a:lnTo>
                    <a:pt x="1208" y="0"/>
                  </a:lnTo>
                  <a:lnTo>
                    <a:pt x="1146" y="2"/>
                  </a:lnTo>
                  <a:lnTo>
                    <a:pt x="1084" y="7"/>
                  </a:lnTo>
                  <a:lnTo>
                    <a:pt x="1024" y="14"/>
                  </a:lnTo>
                  <a:lnTo>
                    <a:pt x="965" y="25"/>
                  </a:lnTo>
                  <a:lnTo>
                    <a:pt x="906" y="39"/>
                  </a:lnTo>
                  <a:lnTo>
                    <a:pt x="849" y="55"/>
                  </a:lnTo>
                  <a:lnTo>
                    <a:pt x="793" y="74"/>
                  </a:lnTo>
                  <a:lnTo>
                    <a:pt x="738" y="95"/>
                  </a:lnTo>
                  <a:lnTo>
                    <a:pt x="685" y="120"/>
                  </a:lnTo>
                  <a:lnTo>
                    <a:pt x="632" y="146"/>
                  </a:lnTo>
                  <a:lnTo>
                    <a:pt x="582" y="175"/>
                  </a:lnTo>
                  <a:lnTo>
                    <a:pt x="532" y="206"/>
                  </a:lnTo>
                  <a:lnTo>
                    <a:pt x="485" y="241"/>
                  </a:lnTo>
                  <a:lnTo>
                    <a:pt x="439" y="277"/>
                  </a:lnTo>
                  <a:lnTo>
                    <a:pt x="396" y="314"/>
                  </a:lnTo>
                  <a:lnTo>
                    <a:pt x="354" y="354"/>
                  </a:lnTo>
                  <a:lnTo>
                    <a:pt x="314" y="397"/>
                  </a:lnTo>
                  <a:lnTo>
                    <a:pt x="276" y="440"/>
                  </a:lnTo>
                  <a:lnTo>
                    <a:pt x="239" y="486"/>
                  </a:lnTo>
                  <a:lnTo>
                    <a:pt x="206" y="533"/>
                  </a:lnTo>
                  <a:lnTo>
                    <a:pt x="175" y="582"/>
                  </a:lnTo>
                  <a:lnTo>
                    <a:pt x="145" y="633"/>
                  </a:lnTo>
                  <a:lnTo>
                    <a:pt x="118" y="685"/>
                  </a:lnTo>
                  <a:lnTo>
                    <a:pt x="95" y="738"/>
                  </a:lnTo>
                  <a:lnTo>
                    <a:pt x="73" y="793"/>
                  </a:lnTo>
                  <a:lnTo>
                    <a:pt x="54" y="849"/>
                  </a:lnTo>
                  <a:lnTo>
                    <a:pt x="37" y="906"/>
                  </a:lnTo>
                  <a:lnTo>
                    <a:pt x="24" y="965"/>
                  </a:lnTo>
                  <a:lnTo>
                    <a:pt x="14" y="1024"/>
                  </a:lnTo>
                  <a:lnTo>
                    <a:pt x="6" y="1084"/>
                  </a:lnTo>
                  <a:lnTo>
                    <a:pt x="2" y="1146"/>
                  </a:lnTo>
                  <a:lnTo>
                    <a:pt x="0" y="1209"/>
                  </a:lnTo>
                  <a:lnTo>
                    <a:pt x="2" y="1270"/>
                  </a:lnTo>
                  <a:lnTo>
                    <a:pt x="6" y="1332"/>
                  </a:lnTo>
                  <a:lnTo>
                    <a:pt x="14" y="1392"/>
                  </a:lnTo>
                  <a:lnTo>
                    <a:pt x="24" y="1452"/>
                  </a:lnTo>
                  <a:lnTo>
                    <a:pt x="37" y="1510"/>
                  </a:lnTo>
                  <a:lnTo>
                    <a:pt x="54" y="1567"/>
                  </a:lnTo>
                  <a:lnTo>
                    <a:pt x="73" y="1623"/>
                  </a:lnTo>
                  <a:lnTo>
                    <a:pt x="95" y="1678"/>
                  </a:lnTo>
                  <a:lnTo>
                    <a:pt x="118" y="1732"/>
                  </a:lnTo>
                  <a:lnTo>
                    <a:pt x="145" y="1784"/>
                  </a:lnTo>
                  <a:lnTo>
                    <a:pt x="175" y="1835"/>
                  </a:lnTo>
                  <a:lnTo>
                    <a:pt x="206" y="1884"/>
                  </a:lnTo>
                  <a:lnTo>
                    <a:pt x="239" y="1931"/>
                  </a:lnTo>
                  <a:lnTo>
                    <a:pt x="276" y="1977"/>
                  </a:lnTo>
                  <a:lnTo>
                    <a:pt x="314" y="2021"/>
                  </a:lnTo>
                  <a:lnTo>
                    <a:pt x="354" y="2063"/>
                  </a:lnTo>
                  <a:lnTo>
                    <a:pt x="396" y="2103"/>
                  </a:lnTo>
                  <a:lnTo>
                    <a:pt x="439" y="2141"/>
                  </a:lnTo>
                  <a:lnTo>
                    <a:pt x="485" y="2176"/>
                  </a:lnTo>
                  <a:lnTo>
                    <a:pt x="532" y="2210"/>
                  </a:lnTo>
                  <a:lnTo>
                    <a:pt x="582" y="2241"/>
                  </a:lnTo>
                  <a:lnTo>
                    <a:pt x="632" y="2270"/>
                  </a:lnTo>
                  <a:lnTo>
                    <a:pt x="685" y="2297"/>
                  </a:lnTo>
                  <a:lnTo>
                    <a:pt x="738" y="2321"/>
                  </a:lnTo>
                  <a:lnTo>
                    <a:pt x="793" y="2343"/>
                  </a:lnTo>
                  <a:lnTo>
                    <a:pt x="849" y="2362"/>
                  </a:lnTo>
                  <a:lnTo>
                    <a:pt x="906" y="2378"/>
                  </a:lnTo>
                  <a:lnTo>
                    <a:pt x="965" y="2391"/>
                  </a:lnTo>
                  <a:lnTo>
                    <a:pt x="1024" y="2402"/>
                  </a:lnTo>
                  <a:lnTo>
                    <a:pt x="1084" y="2410"/>
                  </a:lnTo>
                  <a:lnTo>
                    <a:pt x="1146" y="2415"/>
                  </a:lnTo>
                  <a:lnTo>
                    <a:pt x="1208" y="2416"/>
                  </a:lnTo>
                  <a:lnTo>
                    <a:pt x="1243" y="2416"/>
                  </a:lnTo>
                  <a:lnTo>
                    <a:pt x="1279" y="2414"/>
                  </a:lnTo>
                  <a:lnTo>
                    <a:pt x="1314" y="2412"/>
                  </a:lnTo>
                  <a:lnTo>
                    <a:pt x="1348" y="2409"/>
                  </a:lnTo>
                  <a:lnTo>
                    <a:pt x="1383" y="2403"/>
                  </a:lnTo>
                  <a:lnTo>
                    <a:pt x="1417" y="2398"/>
                  </a:lnTo>
                  <a:lnTo>
                    <a:pt x="1451" y="2392"/>
                  </a:lnTo>
                  <a:lnTo>
                    <a:pt x="1484" y="2385"/>
                  </a:lnTo>
                  <a:lnTo>
                    <a:pt x="1518" y="2376"/>
                  </a:lnTo>
                  <a:lnTo>
                    <a:pt x="1550" y="2368"/>
                  </a:lnTo>
                  <a:lnTo>
                    <a:pt x="1583" y="2357"/>
                  </a:lnTo>
                  <a:lnTo>
                    <a:pt x="1614" y="2346"/>
                  </a:lnTo>
                  <a:lnTo>
                    <a:pt x="1646" y="2334"/>
                  </a:lnTo>
                  <a:lnTo>
                    <a:pt x="1677" y="2322"/>
                  </a:lnTo>
                  <a:lnTo>
                    <a:pt x="1708" y="2308"/>
                  </a:lnTo>
                  <a:lnTo>
                    <a:pt x="1738" y="2294"/>
                  </a:lnTo>
                  <a:lnTo>
                    <a:pt x="1720" y="2256"/>
                  </a:lnTo>
                  <a:lnTo>
                    <a:pt x="1691" y="2270"/>
                  </a:lnTo>
                  <a:lnTo>
                    <a:pt x="1660" y="2283"/>
                  </a:lnTo>
                  <a:lnTo>
                    <a:pt x="1631" y="2295"/>
                  </a:lnTo>
                  <a:lnTo>
                    <a:pt x="1600" y="2307"/>
                  </a:lnTo>
                  <a:lnTo>
                    <a:pt x="1570" y="2318"/>
                  </a:lnTo>
                  <a:lnTo>
                    <a:pt x="1538" y="2328"/>
                  </a:lnTo>
                  <a:lnTo>
                    <a:pt x="1507" y="2336"/>
                  </a:lnTo>
                  <a:lnTo>
                    <a:pt x="1475" y="2344"/>
                  </a:lnTo>
                  <a:lnTo>
                    <a:pt x="1442" y="2351"/>
                  </a:lnTo>
                  <a:lnTo>
                    <a:pt x="1410" y="2357"/>
                  </a:lnTo>
                  <a:lnTo>
                    <a:pt x="1377" y="2362"/>
                  </a:lnTo>
                  <a:lnTo>
                    <a:pt x="1344" y="2366"/>
                  </a:lnTo>
                  <a:lnTo>
                    <a:pt x="1310" y="2370"/>
                  </a:lnTo>
                  <a:lnTo>
                    <a:pt x="1277" y="2373"/>
                  </a:lnTo>
                  <a:lnTo>
                    <a:pt x="1242" y="2374"/>
                  </a:lnTo>
                  <a:lnTo>
                    <a:pt x="1208" y="2375"/>
                  </a:lnTo>
                  <a:lnTo>
                    <a:pt x="1148" y="2373"/>
                  </a:lnTo>
                  <a:lnTo>
                    <a:pt x="1089" y="2369"/>
                  </a:lnTo>
                  <a:lnTo>
                    <a:pt x="1030" y="2361"/>
                  </a:lnTo>
                  <a:lnTo>
                    <a:pt x="973" y="2351"/>
                  </a:lnTo>
                  <a:lnTo>
                    <a:pt x="917" y="2338"/>
                  </a:lnTo>
                  <a:lnTo>
                    <a:pt x="861" y="2322"/>
                  </a:lnTo>
                  <a:lnTo>
                    <a:pt x="807" y="2304"/>
                  </a:lnTo>
                  <a:lnTo>
                    <a:pt x="754" y="2283"/>
                  </a:lnTo>
                  <a:lnTo>
                    <a:pt x="702" y="2260"/>
                  </a:lnTo>
                  <a:lnTo>
                    <a:pt x="652" y="2234"/>
                  </a:lnTo>
                  <a:lnTo>
                    <a:pt x="604" y="2206"/>
                  </a:lnTo>
                  <a:lnTo>
                    <a:pt x="556" y="2175"/>
                  </a:lnTo>
                  <a:lnTo>
                    <a:pt x="510" y="2143"/>
                  </a:lnTo>
                  <a:lnTo>
                    <a:pt x="466" y="2108"/>
                  </a:lnTo>
                  <a:lnTo>
                    <a:pt x="423" y="2072"/>
                  </a:lnTo>
                  <a:lnTo>
                    <a:pt x="383" y="2033"/>
                  </a:lnTo>
                  <a:lnTo>
                    <a:pt x="344" y="1993"/>
                  </a:lnTo>
                  <a:lnTo>
                    <a:pt x="308" y="1951"/>
                  </a:lnTo>
                  <a:lnTo>
                    <a:pt x="273" y="1906"/>
                  </a:lnTo>
                  <a:lnTo>
                    <a:pt x="241" y="1860"/>
                  </a:lnTo>
                  <a:lnTo>
                    <a:pt x="210" y="1813"/>
                  </a:lnTo>
                  <a:lnTo>
                    <a:pt x="182" y="1764"/>
                  </a:lnTo>
                  <a:lnTo>
                    <a:pt x="156" y="1714"/>
                  </a:lnTo>
                  <a:lnTo>
                    <a:pt x="134" y="1662"/>
                  </a:lnTo>
                  <a:lnTo>
                    <a:pt x="112" y="1609"/>
                  </a:lnTo>
                  <a:lnTo>
                    <a:pt x="94" y="1555"/>
                  </a:lnTo>
                  <a:lnTo>
                    <a:pt x="78" y="1500"/>
                  </a:lnTo>
                  <a:lnTo>
                    <a:pt x="66" y="1443"/>
                  </a:lnTo>
                  <a:lnTo>
                    <a:pt x="55" y="1386"/>
                  </a:lnTo>
                  <a:lnTo>
                    <a:pt x="47" y="1327"/>
                  </a:lnTo>
                  <a:lnTo>
                    <a:pt x="43" y="1268"/>
                  </a:lnTo>
                  <a:lnTo>
                    <a:pt x="42" y="1209"/>
                  </a:lnTo>
                  <a:lnTo>
                    <a:pt x="43" y="1148"/>
                  </a:lnTo>
                  <a:lnTo>
                    <a:pt x="47" y="1089"/>
                  </a:lnTo>
                  <a:lnTo>
                    <a:pt x="55" y="1030"/>
                  </a:lnTo>
                  <a:lnTo>
                    <a:pt x="66" y="973"/>
                  </a:lnTo>
                  <a:lnTo>
                    <a:pt x="78" y="917"/>
                  </a:lnTo>
                  <a:lnTo>
                    <a:pt x="94" y="862"/>
                  </a:lnTo>
                  <a:lnTo>
                    <a:pt x="112" y="808"/>
                  </a:lnTo>
                  <a:lnTo>
                    <a:pt x="134" y="754"/>
                  </a:lnTo>
                  <a:lnTo>
                    <a:pt x="156" y="703"/>
                  </a:lnTo>
                  <a:lnTo>
                    <a:pt x="182" y="652"/>
                  </a:lnTo>
                  <a:lnTo>
                    <a:pt x="210" y="604"/>
                  </a:lnTo>
                  <a:lnTo>
                    <a:pt x="241" y="556"/>
                  </a:lnTo>
                  <a:lnTo>
                    <a:pt x="273" y="511"/>
                  </a:lnTo>
                  <a:lnTo>
                    <a:pt x="308" y="467"/>
                  </a:lnTo>
                  <a:lnTo>
                    <a:pt x="344" y="425"/>
                  </a:lnTo>
                  <a:lnTo>
                    <a:pt x="383" y="384"/>
                  </a:lnTo>
                  <a:lnTo>
                    <a:pt x="423" y="346"/>
                  </a:lnTo>
                  <a:lnTo>
                    <a:pt x="466" y="309"/>
                  </a:lnTo>
                  <a:lnTo>
                    <a:pt x="510" y="274"/>
                  </a:lnTo>
                  <a:lnTo>
                    <a:pt x="556" y="241"/>
                  </a:lnTo>
                  <a:lnTo>
                    <a:pt x="604" y="211"/>
                  </a:lnTo>
                  <a:lnTo>
                    <a:pt x="652" y="183"/>
                  </a:lnTo>
                  <a:lnTo>
                    <a:pt x="702" y="157"/>
                  </a:lnTo>
                  <a:lnTo>
                    <a:pt x="754" y="134"/>
                  </a:lnTo>
                  <a:lnTo>
                    <a:pt x="807" y="114"/>
                  </a:lnTo>
                  <a:lnTo>
                    <a:pt x="861" y="95"/>
                  </a:lnTo>
                  <a:lnTo>
                    <a:pt x="917" y="79"/>
                  </a:lnTo>
                  <a:lnTo>
                    <a:pt x="973" y="66"/>
                  </a:lnTo>
                  <a:lnTo>
                    <a:pt x="1030" y="55"/>
                  </a:lnTo>
                  <a:lnTo>
                    <a:pt x="1089" y="49"/>
                  </a:lnTo>
                  <a:lnTo>
                    <a:pt x="1148" y="43"/>
                  </a:lnTo>
                  <a:lnTo>
                    <a:pt x="1208" y="42"/>
                  </a:lnTo>
                  <a:lnTo>
                    <a:pt x="1268" y="43"/>
                  </a:lnTo>
                  <a:lnTo>
                    <a:pt x="1328" y="49"/>
                  </a:lnTo>
                  <a:lnTo>
                    <a:pt x="1386" y="55"/>
                  </a:lnTo>
                  <a:lnTo>
                    <a:pt x="1443" y="66"/>
                  </a:lnTo>
                  <a:lnTo>
                    <a:pt x="1499" y="79"/>
                  </a:lnTo>
                  <a:lnTo>
                    <a:pt x="1556" y="95"/>
                  </a:lnTo>
                  <a:lnTo>
                    <a:pt x="1610" y="114"/>
                  </a:lnTo>
                  <a:lnTo>
                    <a:pt x="1663" y="134"/>
                  </a:lnTo>
                  <a:lnTo>
                    <a:pt x="1714" y="157"/>
                  </a:lnTo>
                  <a:lnTo>
                    <a:pt x="1764" y="183"/>
                  </a:lnTo>
                  <a:lnTo>
                    <a:pt x="1813" y="211"/>
                  </a:lnTo>
                  <a:lnTo>
                    <a:pt x="1860" y="241"/>
                  </a:lnTo>
                  <a:lnTo>
                    <a:pt x="1906" y="274"/>
                  </a:lnTo>
                  <a:lnTo>
                    <a:pt x="1950" y="309"/>
                  </a:lnTo>
                  <a:lnTo>
                    <a:pt x="1992" y="346"/>
                  </a:lnTo>
                  <a:lnTo>
                    <a:pt x="2033" y="384"/>
                  </a:lnTo>
                  <a:lnTo>
                    <a:pt x="2072" y="425"/>
                  </a:lnTo>
                  <a:lnTo>
                    <a:pt x="2109" y="467"/>
                  </a:lnTo>
                  <a:lnTo>
                    <a:pt x="2143" y="511"/>
                  </a:lnTo>
                  <a:lnTo>
                    <a:pt x="2176" y="556"/>
                  </a:lnTo>
                  <a:lnTo>
                    <a:pt x="2206" y="604"/>
                  </a:lnTo>
                  <a:lnTo>
                    <a:pt x="2234" y="652"/>
                  </a:lnTo>
                  <a:lnTo>
                    <a:pt x="2260" y="703"/>
                  </a:lnTo>
                  <a:lnTo>
                    <a:pt x="2283" y="754"/>
                  </a:lnTo>
                  <a:lnTo>
                    <a:pt x="2304" y="808"/>
                  </a:lnTo>
                  <a:lnTo>
                    <a:pt x="2323" y="862"/>
                  </a:lnTo>
                  <a:lnTo>
                    <a:pt x="2338" y="917"/>
                  </a:lnTo>
                  <a:lnTo>
                    <a:pt x="2351" y="973"/>
                  </a:lnTo>
                  <a:lnTo>
                    <a:pt x="2362" y="1030"/>
                  </a:lnTo>
                  <a:lnTo>
                    <a:pt x="2369" y="1089"/>
                  </a:lnTo>
                  <a:lnTo>
                    <a:pt x="2374" y="1148"/>
                  </a:lnTo>
                  <a:lnTo>
                    <a:pt x="2375" y="1209"/>
                  </a:lnTo>
                  <a:lnTo>
                    <a:pt x="2375" y="1248"/>
                  </a:lnTo>
                  <a:lnTo>
                    <a:pt x="2372" y="1286"/>
                  </a:lnTo>
                  <a:lnTo>
                    <a:pt x="2369" y="1325"/>
                  </a:lnTo>
                  <a:lnTo>
                    <a:pt x="2365" y="1363"/>
                  </a:lnTo>
                  <a:lnTo>
                    <a:pt x="2359" y="1401"/>
                  </a:lnTo>
                  <a:lnTo>
                    <a:pt x="2352" y="1438"/>
                  </a:lnTo>
                  <a:lnTo>
                    <a:pt x="2344" y="1475"/>
                  </a:lnTo>
                  <a:lnTo>
                    <a:pt x="2335" y="1511"/>
                  </a:lnTo>
                  <a:lnTo>
                    <a:pt x="2376" y="1522"/>
                  </a:lnTo>
                  <a:lnTo>
                    <a:pt x="2384" y="1484"/>
                  </a:lnTo>
                  <a:lnTo>
                    <a:pt x="2393" y="1446"/>
                  </a:lnTo>
                  <a:lnTo>
                    <a:pt x="2401" y="1407"/>
                  </a:lnTo>
                  <a:lnTo>
                    <a:pt x="2406" y="1369"/>
                  </a:lnTo>
                  <a:lnTo>
                    <a:pt x="2410" y="1329"/>
                  </a:lnTo>
                  <a:lnTo>
                    <a:pt x="2414" y="1290"/>
                  </a:lnTo>
                  <a:lnTo>
                    <a:pt x="2416" y="1249"/>
                  </a:lnTo>
                  <a:lnTo>
                    <a:pt x="2417" y="1209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102200" y="2525760"/>
              <a:ext cx="942840" cy="942840"/>
            </a:xfrm>
            <a:custGeom>
              <a:avLst/>
              <a:gdLst/>
              <a:ahLst/>
              <a:rect l="l" t="t" r="r" b="b"/>
              <a:pathLst>
                <a:path w="2376" h="2374">
                  <a:moveTo>
                    <a:pt x="2376" y="1187"/>
                  </a:moveTo>
                  <a:lnTo>
                    <a:pt x="2374" y="1125"/>
                  </a:lnTo>
                  <a:lnTo>
                    <a:pt x="2370" y="1065"/>
                  </a:lnTo>
                  <a:lnTo>
                    <a:pt x="2362" y="1005"/>
                  </a:lnTo>
                  <a:lnTo>
                    <a:pt x="2351" y="947"/>
                  </a:lnTo>
                  <a:lnTo>
                    <a:pt x="2338" y="890"/>
                  </a:lnTo>
                  <a:lnTo>
                    <a:pt x="2322" y="834"/>
                  </a:lnTo>
                  <a:lnTo>
                    <a:pt x="2304" y="778"/>
                  </a:lnTo>
                  <a:lnTo>
                    <a:pt x="2282" y="724"/>
                  </a:lnTo>
                  <a:lnTo>
                    <a:pt x="2258" y="672"/>
                  </a:lnTo>
                  <a:lnTo>
                    <a:pt x="2233" y="621"/>
                  </a:lnTo>
                  <a:lnTo>
                    <a:pt x="2203" y="571"/>
                  </a:lnTo>
                  <a:lnTo>
                    <a:pt x="2173" y="522"/>
                  </a:lnTo>
                  <a:lnTo>
                    <a:pt x="2140" y="476"/>
                  </a:lnTo>
                  <a:lnTo>
                    <a:pt x="2105" y="432"/>
                  </a:lnTo>
                  <a:lnTo>
                    <a:pt x="2067" y="389"/>
                  </a:lnTo>
                  <a:lnTo>
                    <a:pt x="2028" y="348"/>
                  </a:lnTo>
                  <a:lnTo>
                    <a:pt x="1986" y="308"/>
                  </a:lnTo>
                  <a:lnTo>
                    <a:pt x="1944" y="271"/>
                  </a:lnTo>
                  <a:lnTo>
                    <a:pt x="1899" y="235"/>
                  </a:lnTo>
                  <a:lnTo>
                    <a:pt x="1852" y="202"/>
                  </a:lnTo>
                  <a:lnTo>
                    <a:pt x="1804" y="171"/>
                  </a:lnTo>
                  <a:lnTo>
                    <a:pt x="1754" y="142"/>
                  </a:lnTo>
                  <a:lnTo>
                    <a:pt x="1703" y="116"/>
                  </a:lnTo>
                  <a:lnTo>
                    <a:pt x="1650" y="93"/>
                  </a:lnTo>
                  <a:lnTo>
                    <a:pt x="1596" y="71"/>
                  </a:lnTo>
                  <a:lnTo>
                    <a:pt x="1541" y="53"/>
                  </a:lnTo>
                  <a:lnTo>
                    <a:pt x="1485" y="36"/>
                  </a:lnTo>
                  <a:lnTo>
                    <a:pt x="1428" y="24"/>
                  </a:lnTo>
                  <a:lnTo>
                    <a:pt x="1369" y="13"/>
                  </a:lnTo>
                  <a:lnTo>
                    <a:pt x="1310" y="5"/>
                  </a:lnTo>
                  <a:lnTo>
                    <a:pt x="1249" y="1"/>
                  </a:lnTo>
                  <a:lnTo>
                    <a:pt x="1188" y="0"/>
                  </a:lnTo>
                  <a:lnTo>
                    <a:pt x="1127" y="1"/>
                  </a:lnTo>
                  <a:lnTo>
                    <a:pt x="1067" y="5"/>
                  </a:lnTo>
                  <a:lnTo>
                    <a:pt x="1007" y="13"/>
                  </a:lnTo>
                  <a:lnTo>
                    <a:pt x="949" y="24"/>
                  </a:lnTo>
                  <a:lnTo>
                    <a:pt x="892" y="36"/>
                  </a:lnTo>
                  <a:lnTo>
                    <a:pt x="835" y="53"/>
                  </a:lnTo>
                  <a:lnTo>
                    <a:pt x="780" y="71"/>
                  </a:lnTo>
                  <a:lnTo>
                    <a:pt x="726" y="93"/>
                  </a:lnTo>
                  <a:lnTo>
                    <a:pt x="673" y="116"/>
                  </a:lnTo>
                  <a:lnTo>
                    <a:pt x="623" y="142"/>
                  </a:lnTo>
                  <a:lnTo>
                    <a:pt x="573" y="171"/>
                  </a:lnTo>
                  <a:lnTo>
                    <a:pt x="524" y="202"/>
                  </a:lnTo>
                  <a:lnTo>
                    <a:pt x="478" y="235"/>
                  </a:lnTo>
                  <a:lnTo>
                    <a:pt x="432" y="271"/>
                  </a:lnTo>
                  <a:lnTo>
                    <a:pt x="390" y="308"/>
                  </a:lnTo>
                  <a:lnTo>
                    <a:pt x="348" y="348"/>
                  </a:lnTo>
                  <a:lnTo>
                    <a:pt x="309" y="389"/>
                  </a:lnTo>
                  <a:lnTo>
                    <a:pt x="271" y="432"/>
                  </a:lnTo>
                  <a:lnTo>
                    <a:pt x="237" y="476"/>
                  </a:lnTo>
                  <a:lnTo>
                    <a:pt x="203" y="522"/>
                  </a:lnTo>
                  <a:lnTo>
                    <a:pt x="173" y="571"/>
                  </a:lnTo>
                  <a:lnTo>
                    <a:pt x="144" y="621"/>
                  </a:lnTo>
                  <a:lnTo>
                    <a:pt x="118" y="672"/>
                  </a:lnTo>
                  <a:lnTo>
                    <a:pt x="94" y="724"/>
                  </a:lnTo>
                  <a:lnTo>
                    <a:pt x="73" y="778"/>
                  </a:lnTo>
                  <a:lnTo>
                    <a:pt x="54" y="834"/>
                  </a:lnTo>
                  <a:lnTo>
                    <a:pt x="38" y="890"/>
                  </a:lnTo>
                  <a:lnTo>
                    <a:pt x="25" y="947"/>
                  </a:lnTo>
                  <a:lnTo>
                    <a:pt x="14" y="1005"/>
                  </a:lnTo>
                  <a:lnTo>
                    <a:pt x="7" y="1065"/>
                  </a:lnTo>
                  <a:lnTo>
                    <a:pt x="2" y="1125"/>
                  </a:lnTo>
                  <a:lnTo>
                    <a:pt x="0" y="1187"/>
                  </a:lnTo>
                  <a:lnTo>
                    <a:pt x="2" y="1247"/>
                  </a:lnTo>
                  <a:lnTo>
                    <a:pt x="7" y="1308"/>
                  </a:lnTo>
                  <a:lnTo>
                    <a:pt x="14" y="1367"/>
                  </a:lnTo>
                  <a:lnTo>
                    <a:pt x="25" y="1425"/>
                  </a:lnTo>
                  <a:lnTo>
                    <a:pt x="38" y="1483"/>
                  </a:lnTo>
                  <a:lnTo>
                    <a:pt x="54" y="1540"/>
                  </a:lnTo>
                  <a:lnTo>
                    <a:pt x="73" y="1595"/>
                  </a:lnTo>
                  <a:lnTo>
                    <a:pt x="94" y="1649"/>
                  </a:lnTo>
                  <a:lnTo>
                    <a:pt x="118" y="1701"/>
                  </a:lnTo>
                  <a:lnTo>
                    <a:pt x="144" y="1753"/>
                  </a:lnTo>
                  <a:lnTo>
                    <a:pt x="173" y="1802"/>
                  </a:lnTo>
                  <a:lnTo>
                    <a:pt x="203" y="1850"/>
                  </a:lnTo>
                  <a:lnTo>
                    <a:pt x="237" y="1896"/>
                  </a:lnTo>
                  <a:lnTo>
                    <a:pt x="271" y="1942"/>
                  </a:lnTo>
                  <a:lnTo>
                    <a:pt x="309" y="1985"/>
                  </a:lnTo>
                  <a:lnTo>
                    <a:pt x="348" y="2026"/>
                  </a:lnTo>
                  <a:lnTo>
                    <a:pt x="390" y="2065"/>
                  </a:lnTo>
                  <a:lnTo>
                    <a:pt x="432" y="2103"/>
                  </a:lnTo>
                  <a:lnTo>
                    <a:pt x="478" y="2137"/>
                  </a:lnTo>
                  <a:lnTo>
                    <a:pt x="524" y="2171"/>
                  </a:lnTo>
                  <a:lnTo>
                    <a:pt x="573" y="2202"/>
                  </a:lnTo>
                  <a:lnTo>
                    <a:pt x="623" y="2230"/>
                  </a:lnTo>
                  <a:lnTo>
                    <a:pt x="673" y="2256"/>
                  </a:lnTo>
                  <a:lnTo>
                    <a:pt x="726" y="2280"/>
                  </a:lnTo>
                  <a:lnTo>
                    <a:pt x="780" y="2301"/>
                  </a:lnTo>
                  <a:lnTo>
                    <a:pt x="835" y="2320"/>
                  </a:lnTo>
                  <a:lnTo>
                    <a:pt x="892" y="2336"/>
                  </a:lnTo>
                  <a:lnTo>
                    <a:pt x="949" y="2350"/>
                  </a:lnTo>
                  <a:lnTo>
                    <a:pt x="1007" y="2360"/>
                  </a:lnTo>
                  <a:lnTo>
                    <a:pt x="1067" y="2367"/>
                  </a:lnTo>
                  <a:lnTo>
                    <a:pt x="1127" y="2371"/>
                  </a:lnTo>
                  <a:lnTo>
                    <a:pt x="1188" y="2374"/>
                  </a:lnTo>
                  <a:lnTo>
                    <a:pt x="1223" y="2373"/>
                  </a:lnTo>
                  <a:lnTo>
                    <a:pt x="1258" y="2371"/>
                  </a:lnTo>
                  <a:lnTo>
                    <a:pt x="1292" y="2369"/>
                  </a:lnTo>
                  <a:lnTo>
                    <a:pt x="1326" y="2365"/>
                  </a:lnTo>
                  <a:lnTo>
                    <a:pt x="1361" y="2361"/>
                  </a:lnTo>
                  <a:lnTo>
                    <a:pt x="1394" y="2355"/>
                  </a:lnTo>
                  <a:lnTo>
                    <a:pt x="1426" y="2350"/>
                  </a:lnTo>
                  <a:lnTo>
                    <a:pt x="1460" y="2342"/>
                  </a:lnTo>
                  <a:lnTo>
                    <a:pt x="1492" y="2334"/>
                  </a:lnTo>
                  <a:lnTo>
                    <a:pt x="1524" y="2325"/>
                  </a:lnTo>
                  <a:lnTo>
                    <a:pt x="1556" y="2315"/>
                  </a:lnTo>
                  <a:lnTo>
                    <a:pt x="1587" y="2304"/>
                  </a:lnTo>
                  <a:lnTo>
                    <a:pt x="1619" y="2293"/>
                  </a:lnTo>
                  <a:lnTo>
                    <a:pt x="1649" y="2281"/>
                  </a:lnTo>
                  <a:lnTo>
                    <a:pt x="1679" y="2268"/>
                  </a:lnTo>
                  <a:lnTo>
                    <a:pt x="1708" y="2254"/>
                  </a:lnTo>
                  <a:lnTo>
                    <a:pt x="1690" y="2216"/>
                  </a:lnTo>
                  <a:lnTo>
                    <a:pt x="1662" y="2230"/>
                  </a:lnTo>
                  <a:lnTo>
                    <a:pt x="1633" y="2242"/>
                  </a:lnTo>
                  <a:lnTo>
                    <a:pt x="1604" y="2254"/>
                  </a:lnTo>
                  <a:lnTo>
                    <a:pt x="1573" y="2266"/>
                  </a:lnTo>
                  <a:lnTo>
                    <a:pt x="1543" y="2275"/>
                  </a:lnTo>
                  <a:lnTo>
                    <a:pt x="1513" y="2285"/>
                  </a:lnTo>
                  <a:lnTo>
                    <a:pt x="1482" y="2294"/>
                  </a:lnTo>
                  <a:lnTo>
                    <a:pt x="1450" y="2301"/>
                  </a:lnTo>
                  <a:lnTo>
                    <a:pt x="1418" y="2309"/>
                  </a:lnTo>
                  <a:lnTo>
                    <a:pt x="1386" y="2314"/>
                  </a:lnTo>
                  <a:lnTo>
                    <a:pt x="1354" y="2320"/>
                  </a:lnTo>
                  <a:lnTo>
                    <a:pt x="1322" y="2324"/>
                  </a:lnTo>
                  <a:lnTo>
                    <a:pt x="1288" y="2327"/>
                  </a:lnTo>
                  <a:lnTo>
                    <a:pt x="1256" y="2329"/>
                  </a:lnTo>
                  <a:lnTo>
                    <a:pt x="1222" y="2331"/>
                  </a:lnTo>
                  <a:lnTo>
                    <a:pt x="1188" y="2331"/>
                  </a:lnTo>
                  <a:lnTo>
                    <a:pt x="1129" y="2330"/>
                  </a:lnTo>
                  <a:lnTo>
                    <a:pt x="1071" y="2326"/>
                  </a:lnTo>
                  <a:lnTo>
                    <a:pt x="1014" y="2319"/>
                  </a:lnTo>
                  <a:lnTo>
                    <a:pt x="957" y="2309"/>
                  </a:lnTo>
                  <a:lnTo>
                    <a:pt x="901" y="2296"/>
                  </a:lnTo>
                  <a:lnTo>
                    <a:pt x="847" y="2281"/>
                  </a:lnTo>
                  <a:lnTo>
                    <a:pt x="794" y="2262"/>
                  </a:lnTo>
                  <a:lnTo>
                    <a:pt x="742" y="2242"/>
                  </a:lnTo>
                  <a:lnTo>
                    <a:pt x="692" y="2219"/>
                  </a:lnTo>
                  <a:lnTo>
                    <a:pt x="642" y="2193"/>
                  </a:lnTo>
                  <a:lnTo>
                    <a:pt x="594" y="2166"/>
                  </a:lnTo>
                  <a:lnTo>
                    <a:pt x="548" y="2136"/>
                  </a:lnTo>
                  <a:lnTo>
                    <a:pt x="503" y="2105"/>
                  </a:lnTo>
                  <a:lnTo>
                    <a:pt x="459" y="2070"/>
                  </a:lnTo>
                  <a:lnTo>
                    <a:pt x="417" y="2034"/>
                  </a:lnTo>
                  <a:lnTo>
                    <a:pt x="378" y="1997"/>
                  </a:lnTo>
                  <a:lnTo>
                    <a:pt x="341" y="1957"/>
                  </a:lnTo>
                  <a:lnTo>
                    <a:pt x="304" y="1915"/>
                  </a:lnTo>
                  <a:lnTo>
                    <a:pt x="270" y="1871"/>
                  </a:lnTo>
                  <a:lnTo>
                    <a:pt x="238" y="1827"/>
                  </a:lnTo>
                  <a:lnTo>
                    <a:pt x="209" y="1781"/>
                  </a:lnTo>
                  <a:lnTo>
                    <a:pt x="181" y="1732"/>
                  </a:lnTo>
                  <a:lnTo>
                    <a:pt x="156" y="1683"/>
                  </a:lnTo>
                  <a:lnTo>
                    <a:pt x="132" y="1633"/>
                  </a:lnTo>
                  <a:lnTo>
                    <a:pt x="111" y="1580"/>
                  </a:lnTo>
                  <a:lnTo>
                    <a:pt x="94" y="1527"/>
                  </a:lnTo>
                  <a:lnTo>
                    <a:pt x="78" y="1473"/>
                  </a:lnTo>
                  <a:lnTo>
                    <a:pt x="66" y="1417"/>
                  </a:lnTo>
                  <a:lnTo>
                    <a:pt x="55" y="1361"/>
                  </a:lnTo>
                  <a:lnTo>
                    <a:pt x="48" y="1303"/>
                  </a:lnTo>
                  <a:lnTo>
                    <a:pt x="43" y="1245"/>
                  </a:lnTo>
                  <a:lnTo>
                    <a:pt x="42" y="1187"/>
                  </a:lnTo>
                  <a:lnTo>
                    <a:pt x="43" y="1127"/>
                  </a:lnTo>
                  <a:lnTo>
                    <a:pt x="48" y="1069"/>
                  </a:lnTo>
                  <a:lnTo>
                    <a:pt x="55" y="1012"/>
                  </a:lnTo>
                  <a:lnTo>
                    <a:pt x="66" y="956"/>
                  </a:lnTo>
                  <a:lnTo>
                    <a:pt x="78" y="900"/>
                  </a:lnTo>
                  <a:lnTo>
                    <a:pt x="94" y="845"/>
                  </a:lnTo>
                  <a:lnTo>
                    <a:pt x="111" y="792"/>
                  </a:lnTo>
                  <a:lnTo>
                    <a:pt x="132" y="741"/>
                  </a:lnTo>
                  <a:lnTo>
                    <a:pt x="156" y="690"/>
                  </a:lnTo>
                  <a:lnTo>
                    <a:pt x="181" y="640"/>
                  </a:lnTo>
                  <a:lnTo>
                    <a:pt x="209" y="593"/>
                  </a:lnTo>
                  <a:lnTo>
                    <a:pt x="238" y="546"/>
                  </a:lnTo>
                  <a:lnTo>
                    <a:pt x="270" y="501"/>
                  </a:lnTo>
                  <a:lnTo>
                    <a:pt x="304" y="458"/>
                  </a:lnTo>
                  <a:lnTo>
                    <a:pt x="341" y="417"/>
                  </a:lnTo>
                  <a:lnTo>
                    <a:pt x="378" y="377"/>
                  </a:lnTo>
                  <a:lnTo>
                    <a:pt x="417" y="339"/>
                  </a:lnTo>
                  <a:lnTo>
                    <a:pt x="459" y="302"/>
                  </a:lnTo>
                  <a:lnTo>
                    <a:pt x="503" y="269"/>
                  </a:lnTo>
                  <a:lnTo>
                    <a:pt x="548" y="236"/>
                  </a:lnTo>
                  <a:lnTo>
                    <a:pt x="594" y="207"/>
                  </a:lnTo>
                  <a:lnTo>
                    <a:pt x="642" y="179"/>
                  </a:lnTo>
                  <a:lnTo>
                    <a:pt x="692" y="154"/>
                  </a:lnTo>
                  <a:lnTo>
                    <a:pt x="742" y="132"/>
                  </a:lnTo>
                  <a:lnTo>
                    <a:pt x="794" y="111"/>
                  </a:lnTo>
                  <a:lnTo>
                    <a:pt x="847" y="93"/>
                  </a:lnTo>
                  <a:lnTo>
                    <a:pt x="901" y="78"/>
                  </a:lnTo>
                  <a:lnTo>
                    <a:pt x="957" y="65"/>
                  </a:lnTo>
                  <a:lnTo>
                    <a:pt x="1014" y="54"/>
                  </a:lnTo>
                  <a:lnTo>
                    <a:pt x="1071" y="47"/>
                  </a:lnTo>
                  <a:lnTo>
                    <a:pt x="1129" y="43"/>
                  </a:lnTo>
                  <a:lnTo>
                    <a:pt x="1188" y="41"/>
                  </a:lnTo>
                  <a:lnTo>
                    <a:pt x="1247" y="43"/>
                  </a:lnTo>
                  <a:lnTo>
                    <a:pt x="1305" y="47"/>
                  </a:lnTo>
                  <a:lnTo>
                    <a:pt x="1363" y="54"/>
                  </a:lnTo>
                  <a:lnTo>
                    <a:pt x="1419" y="65"/>
                  </a:lnTo>
                  <a:lnTo>
                    <a:pt x="1474" y="78"/>
                  </a:lnTo>
                  <a:lnTo>
                    <a:pt x="1529" y="93"/>
                  </a:lnTo>
                  <a:lnTo>
                    <a:pt x="1582" y="111"/>
                  </a:lnTo>
                  <a:lnTo>
                    <a:pt x="1634" y="132"/>
                  </a:lnTo>
                  <a:lnTo>
                    <a:pt x="1685" y="154"/>
                  </a:lnTo>
                  <a:lnTo>
                    <a:pt x="1734" y="179"/>
                  </a:lnTo>
                  <a:lnTo>
                    <a:pt x="1782" y="207"/>
                  </a:lnTo>
                  <a:lnTo>
                    <a:pt x="1828" y="236"/>
                  </a:lnTo>
                  <a:lnTo>
                    <a:pt x="1874" y="269"/>
                  </a:lnTo>
                  <a:lnTo>
                    <a:pt x="1917" y="302"/>
                  </a:lnTo>
                  <a:lnTo>
                    <a:pt x="1958" y="339"/>
                  </a:lnTo>
                  <a:lnTo>
                    <a:pt x="1998" y="377"/>
                  </a:lnTo>
                  <a:lnTo>
                    <a:pt x="2036" y="417"/>
                  </a:lnTo>
                  <a:lnTo>
                    <a:pt x="2073" y="458"/>
                  </a:lnTo>
                  <a:lnTo>
                    <a:pt x="2106" y="501"/>
                  </a:lnTo>
                  <a:lnTo>
                    <a:pt x="2139" y="546"/>
                  </a:lnTo>
                  <a:lnTo>
                    <a:pt x="2168" y="593"/>
                  </a:lnTo>
                  <a:lnTo>
                    <a:pt x="2196" y="640"/>
                  </a:lnTo>
                  <a:lnTo>
                    <a:pt x="2221" y="690"/>
                  </a:lnTo>
                  <a:lnTo>
                    <a:pt x="2244" y="741"/>
                  </a:lnTo>
                  <a:lnTo>
                    <a:pt x="2265" y="792"/>
                  </a:lnTo>
                  <a:lnTo>
                    <a:pt x="2282" y="845"/>
                  </a:lnTo>
                  <a:lnTo>
                    <a:pt x="2298" y="900"/>
                  </a:lnTo>
                  <a:lnTo>
                    <a:pt x="2310" y="956"/>
                  </a:lnTo>
                  <a:lnTo>
                    <a:pt x="2321" y="1012"/>
                  </a:lnTo>
                  <a:lnTo>
                    <a:pt x="2328" y="1069"/>
                  </a:lnTo>
                  <a:lnTo>
                    <a:pt x="2333" y="1127"/>
                  </a:lnTo>
                  <a:lnTo>
                    <a:pt x="2334" y="1187"/>
                  </a:lnTo>
                  <a:lnTo>
                    <a:pt x="2333" y="1224"/>
                  </a:lnTo>
                  <a:lnTo>
                    <a:pt x="2332" y="1263"/>
                  </a:lnTo>
                  <a:lnTo>
                    <a:pt x="2329" y="1301"/>
                  </a:lnTo>
                  <a:lnTo>
                    <a:pt x="2324" y="1338"/>
                  </a:lnTo>
                  <a:lnTo>
                    <a:pt x="2319" y="1376"/>
                  </a:lnTo>
                  <a:lnTo>
                    <a:pt x="2311" y="1412"/>
                  </a:lnTo>
                  <a:lnTo>
                    <a:pt x="2304" y="1448"/>
                  </a:lnTo>
                  <a:lnTo>
                    <a:pt x="2295" y="1484"/>
                  </a:lnTo>
                  <a:lnTo>
                    <a:pt x="2335" y="1494"/>
                  </a:lnTo>
                  <a:lnTo>
                    <a:pt x="2345" y="1458"/>
                  </a:lnTo>
                  <a:lnTo>
                    <a:pt x="2352" y="1420"/>
                  </a:lnTo>
                  <a:lnTo>
                    <a:pt x="2360" y="1382"/>
                  </a:lnTo>
                  <a:lnTo>
                    <a:pt x="2365" y="1344"/>
                  </a:lnTo>
                  <a:lnTo>
                    <a:pt x="2370" y="1305"/>
                  </a:lnTo>
                  <a:lnTo>
                    <a:pt x="2373" y="1266"/>
                  </a:lnTo>
                  <a:lnTo>
                    <a:pt x="2375" y="1227"/>
                  </a:lnTo>
                  <a:lnTo>
                    <a:pt x="2376" y="118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111560" y="2535120"/>
              <a:ext cx="925560" cy="925560"/>
            </a:xfrm>
            <a:custGeom>
              <a:avLst/>
              <a:gdLst/>
              <a:ahLst/>
              <a:rect l="l" t="t" r="r" b="b"/>
              <a:pathLst>
                <a:path w="2333" h="2333">
                  <a:moveTo>
                    <a:pt x="2333" y="1167"/>
                  </a:moveTo>
                  <a:lnTo>
                    <a:pt x="2332" y="1106"/>
                  </a:lnTo>
                  <a:lnTo>
                    <a:pt x="2327" y="1047"/>
                  </a:lnTo>
                  <a:lnTo>
                    <a:pt x="2320" y="988"/>
                  </a:lnTo>
                  <a:lnTo>
                    <a:pt x="2309" y="931"/>
                  </a:lnTo>
                  <a:lnTo>
                    <a:pt x="2296" y="875"/>
                  </a:lnTo>
                  <a:lnTo>
                    <a:pt x="2281" y="820"/>
                  </a:lnTo>
                  <a:lnTo>
                    <a:pt x="2262" y="766"/>
                  </a:lnTo>
                  <a:lnTo>
                    <a:pt x="2241" y="712"/>
                  </a:lnTo>
                  <a:lnTo>
                    <a:pt x="2218" y="661"/>
                  </a:lnTo>
                  <a:lnTo>
                    <a:pt x="2192" y="610"/>
                  </a:lnTo>
                  <a:lnTo>
                    <a:pt x="2164" y="562"/>
                  </a:lnTo>
                  <a:lnTo>
                    <a:pt x="2134" y="514"/>
                  </a:lnTo>
                  <a:lnTo>
                    <a:pt x="2101" y="469"/>
                  </a:lnTo>
                  <a:lnTo>
                    <a:pt x="2067" y="425"/>
                  </a:lnTo>
                  <a:lnTo>
                    <a:pt x="2030" y="383"/>
                  </a:lnTo>
                  <a:lnTo>
                    <a:pt x="1991" y="342"/>
                  </a:lnTo>
                  <a:lnTo>
                    <a:pt x="1950" y="304"/>
                  </a:lnTo>
                  <a:lnTo>
                    <a:pt x="1908" y="267"/>
                  </a:lnTo>
                  <a:lnTo>
                    <a:pt x="1864" y="232"/>
                  </a:lnTo>
                  <a:lnTo>
                    <a:pt x="1818" y="199"/>
                  </a:lnTo>
                  <a:lnTo>
                    <a:pt x="1771" y="169"/>
                  </a:lnTo>
                  <a:lnTo>
                    <a:pt x="1722" y="141"/>
                  </a:lnTo>
                  <a:lnTo>
                    <a:pt x="1672" y="115"/>
                  </a:lnTo>
                  <a:lnTo>
                    <a:pt x="1621" y="92"/>
                  </a:lnTo>
                  <a:lnTo>
                    <a:pt x="1568" y="70"/>
                  </a:lnTo>
                  <a:lnTo>
                    <a:pt x="1514" y="53"/>
                  </a:lnTo>
                  <a:lnTo>
                    <a:pt x="1457" y="37"/>
                  </a:lnTo>
                  <a:lnTo>
                    <a:pt x="1401" y="24"/>
                  </a:lnTo>
                  <a:lnTo>
                    <a:pt x="1344" y="13"/>
                  </a:lnTo>
                  <a:lnTo>
                    <a:pt x="1286" y="7"/>
                  </a:lnTo>
                  <a:lnTo>
                    <a:pt x="1226" y="1"/>
                  </a:lnTo>
                  <a:lnTo>
                    <a:pt x="1166" y="0"/>
                  </a:lnTo>
                  <a:lnTo>
                    <a:pt x="1106" y="1"/>
                  </a:lnTo>
                  <a:lnTo>
                    <a:pt x="1047" y="7"/>
                  </a:lnTo>
                  <a:lnTo>
                    <a:pt x="988" y="13"/>
                  </a:lnTo>
                  <a:lnTo>
                    <a:pt x="931" y="24"/>
                  </a:lnTo>
                  <a:lnTo>
                    <a:pt x="875" y="37"/>
                  </a:lnTo>
                  <a:lnTo>
                    <a:pt x="819" y="53"/>
                  </a:lnTo>
                  <a:lnTo>
                    <a:pt x="765" y="70"/>
                  </a:lnTo>
                  <a:lnTo>
                    <a:pt x="712" y="92"/>
                  </a:lnTo>
                  <a:lnTo>
                    <a:pt x="660" y="115"/>
                  </a:lnTo>
                  <a:lnTo>
                    <a:pt x="610" y="141"/>
                  </a:lnTo>
                  <a:lnTo>
                    <a:pt x="562" y="169"/>
                  </a:lnTo>
                  <a:lnTo>
                    <a:pt x="514" y="199"/>
                  </a:lnTo>
                  <a:lnTo>
                    <a:pt x="468" y="232"/>
                  </a:lnTo>
                  <a:lnTo>
                    <a:pt x="424" y="267"/>
                  </a:lnTo>
                  <a:lnTo>
                    <a:pt x="381" y="304"/>
                  </a:lnTo>
                  <a:lnTo>
                    <a:pt x="341" y="342"/>
                  </a:lnTo>
                  <a:lnTo>
                    <a:pt x="302" y="383"/>
                  </a:lnTo>
                  <a:lnTo>
                    <a:pt x="266" y="425"/>
                  </a:lnTo>
                  <a:lnTo>
                    <a:pt x="231" y="469"/>
                  </a:lnTo>
                  <a:lnTo>
                    <a:pt x="199" y="514"/>
                  </a:lnTo>
                  <a:lnTo>
                    <a:pt x="168" y="562"/>
                  </a:lnTo>
                  <a:lnTo>
                    <a:pt x="140" y="610"/>
                  </a:lnTo>
                  <a:lnTo>
                    <a:pt x="114" y="661"/>
                  </a:lnTo>
                  <a:lnTo>
                    <a:pt x="92" y="712"/>
                  </a:lnTo>
                  <a:lnTo>
                    <a:pt x="70" y="766"/>
                  </a:lnTo>
                  <a:lnTo>
                    <a:pt x="52" y="820"/>
                  </a:lnTo>
                  <a:lnTo>
                    <a:pt x="36" y="875"/>
                  </a:lnTo>
                  <a:lnTo>
                    <a:pt x="24" y="931"/>
                  </a:lnTo>
                  <a:lnTo>
                    <a:pt x="13" y="988"/>
                  </a:lnTo>
                  <a:lnTo>
                    <a:pt x="5" y="1047"/>
                  </a:lnTo>
                  <a:lnTo>
                    <a:pt x="1" y="1106"/>
                  </a:lnTo>
                  <a:lnTo>
                    <a:pt x="0" y="1167"/>
                  </a:lnTo>
                  <a:lnTo>
                    <a:pt x="1" y="1226"/>
                  </a:lnTo>
                  <a:lnTo>
                    <a:pt x="5" y="1285"/>
                  </a:lnTo>
                  <a:lnTo>
                    <a:pt x="13" y="1344"/>
                  </a:lnTo>
                  <a:lnTo>
                    <a:pt x="24" y="1401"/>
                  </a:lnTo>
                  <a:lnTo>
                    <a:pt x="36" y="1458"/>
                  </a:lnTo>
                  <a:lnTo>
                    <a:pt x="52" y="1513"/>
                  </a:lnTo>
                  <a:lnTo>
                    <a:pt x="70" y="1567"/>
                  </a:lnTo>
                  <a:lnTo>
                    <a:pt x="92" y="1620"/>
                  </a:lnTo>
                  <a:lnTo>
                    <a:pt x="114" y="1672"/>
                  </a:lnTo>
                  <a:lnTo>
                    <a:pt x="140" y="1722"/>
                  </a:lnTo>
                  <a:lnTo>
                    <a:pt x="168" y="1771"/>
                  </a:lnTo>
                  <a:lnTo>
                    <a:pt x="199" y="1818"/>
                  </a:lnTo>
                  <a:lnTo>
                    <a:pt x="231" y="1864"/>
                  </a:lnTo>
                  <a:lnTo>
                    <a:pt x="266" y="1909"/>
                  </a:lnTo>
                  <a:lnTo>
                    <a:pt x="302" y="1951"/>
                  </a:lnTo>
                  <a:lnTo>
                    <a:pt x="341" y="1991"/>
                  </a:lnTo>
                  <a:lnTo>
                    <a:pt x="381" y="2030"/>
                  </a:lnTo>
                  <a:lnTo>
                    <a:pt x="424" y="2066"/>
                  </a:lnTo>
                  <a:lnTo>
                    <a:pt x="468" y="2101"/>
                  </a:lnTo>
                  <a:lnTo>
                    <a:pt x="514" y="2133"/>
                  </a:lnTo>
                  <a:lnTo>
                    <a:pt x="562" y="2164"/>
                  </a:lnTo>
                  <a:lnTo>
                    <a:pt x="610" y="2192"/>
                  </a:lnTo>
                  <a:lnTo>
                    <a:pt x="660" y="2218"/>
                  </a:lnTo>
                  <a:lnTo>
                    <a:pt x="712" y="2241"/>
                  </a:lnTo>
                  <a:lnTo>
                    <a:pt x="765" y="2262"/>
                  </a:lnTo>
                  <a:lnTo>
                    <a:pt x="819" y="2280"/>
                  </a:lnTo>
                  <a:lnTo>
                    <a:pt x="875" y="2296"/>
                  </a:lnTo>
                  <a:lnTo>
                    <a:pt x="931" y="2309"/>
                  </a:lnTo>
                  <a:lnTo>
                    <a:pt x="988" y="2319"/>
                  </a:lnTo>
                  <a:lnTo>
                    <a:pt x="1047" y="2327"/>
                  </a:lnTo>
                  <a:lnTo>
                    <a:pt x="1106" y="2331"/>
                  </a:lnTo>
                  <a:lnTo>
                    <a:pt x="1166" y="2333"/>
                  </a:lnTo>
                  <a:lnTo>
                    <a:pt x="1200" y="2332"/>
                  </a:lnTo>
                  <a:lnTo>
                    <a:pt x="1235" y="2331"/>
                  </a:lnTo>
                  <a:lnTo>
                    <a:pt x="1268" y="2328"/>
                  </a:lnTo>
                  <a:lnTo>
                    <a:pt x="1302" y="2324"/>
                  </a:lnTo>
                  <a:lnTo>
                    <a:pt x="1335" y="2320"/>
                  </a:lnTo>
                  <a:lnTo>
                    <a:pt x="1368" y="2315"/>
                  </a:lnTo>
                  <a:lnTo>
                    <a:pt x="1400" y="2309"/>
                  </a:lnTo>
                  <a:lnTo>
                    <a:pt x="1433" y="2302"/>
                  </a:lnTo>
                  <a:lnTo>
                    <a:pt x="1465" y="2294"/>
                  </a:lnTo>
                  <a:lnTo>
                    <a:pt x="1496" y="2286"/>
                  </a:lnTo>
                  <a:lnTo>
                    <a:pt x="1528" y="2276"/>
                  </a:lnTo>
                  <a:lnTo>
                    <a:pt x="1558" y="2265"/>
                  </a:lnTo>
                  <a:lnTo>
                    <a:pt x="1589" y="2253"/>
                  </a:lnTo>
                  <a:lnTo>
                    <a:pt x="1618" y="2241"/>
                  </a:lnTo>
                  <a:lnTo>
                    <a:pt x="1649" y="2228"/>
                  </a:lnTo>
                  <a:lnTo>
                    <a:pt x="1678" y="2214"/>
                  </a:lnTo>
                  <a:lnTo>
                    <a:pt x="1659" y="2178"/>
                  </a:lnTo>
                  <a:lnTo>
                    <a:pt x="1631" y="2191"/>
                  </a:lnTo>
                  <a:lnTo>
                    <a:pt x="1602" y="2203"/>
                  </a:lnTo>
                  <a:lnTo>
                    <a:pt x="1574" y="2215"/>
                  </a:lnTo>
                  <a:lnTo>
                    <a:pt x="1545" y="2226"/>
                  </a:lnTo>
                  <a:lnTo>
                    <a:pt x="1515" y="2236"/>
                  </a:lnTo>
                  <a:lnTo>
                    <a:pt x="1484" y="2246"/>
                  </a:lnTo>
                  <a:lnTo>
                    <a:pt x="1454" y="2254"/>
                  </a:lnTo>
                  <a:lnTo>
                    <a:pt x="1423" y="2262"/>
                  </a:lnTo>
                  <a:lnTo>
                    <a:pt x="1393" y="2268"/>
                  </a:lnTo>
                  <a:lnTo>
                    <a:pt x="1361" y="2274"/>
                  </a:lnTo>
                  <a:lnTo>
                    <a:pt x="1329" y="2279"/>
                  </a:lnTo>
                  <a:lnTo>
                    <a:pt x="1297" y="2283"/>
                  </a:lnTo>
                  <a:lnTo>
                    <a:pt x="1265" y="2287"/>
                  </a:lnTo>
                  <a:lnTo>
                    <a:pt x="1232" y="2289"/>
                  </a:lnTo>
                  <a:lnTo>
                    <a:pt x="1199" y="2291"/>
                  </a:lnTo>
                  <a:lnTo>
                    <a:pt x="1166" y="2291"/>
                  </a:lnTo>
                  <a:lnTo>
                    <a:pt x="1108" y="2290"/>
                  </a:lnTo>
                  <a:lnTo>
                    <a:pt x="1051" y="2286"/>
                  </a:lnTo>
                  <a:lnTo>
                    <a:pt x="995" y="2278"/>
                  </a:lnTo>
                  <a:lnTo>
                    <a:pt x="940" y="2268"/>
                  </a:lnTo>
                  <a:lnTo>
                    <a:pt x="885" y="2255"/>
                  </a:lnTo>
                  <a:lnTo>
                    <a:pt x="832" y="2240"/>
                  </a:lnTo>
                  <a:lnTo>
                    <a:pt x="779" y="2223"/>
                  </a:lnTo>
                  <a:lnTo>
                    <a:pt x="728" y="2202"/>
                  </a:lnTo>
                  <a:lnTo>
                    <a:pt x="678" y="2180"/>
                  </a:lnTo>
                  <a:lnTo>
                    <a:pt x="630" y="2155"/>
                  </a:lnTo>
                  <a:lnTo>
                    <a:pt x="583" y="2128"/>
                  </a:lnTo>
                  <a:lnTo>
                    <a:pt x="537" y="2099"/>
                  </a:lnTo>
                  <a:lnTo>
                    <a:pt x="494" y="2067"/>
                  </a:lnTo>
                  <a:lnTo>
                    <a:pt x="450" y="2034"/>
                  </a:lnTo>
                  <a:lnTo>
                    <a:pt x="409" y="1998"/>
                  </a:lnTo>
                  <a:lnTo>
                    <a:pt x="370" y="1962"/>
                  </a:lnTo>
                  <a:lnTo>
                    <a:pt x="334" y="1923"/>
                  </a:lnTo>
                  <a:lnTo>
                    <a:pt x="298" y="1882"/>
                  </a:lnTo>
                  <a:lnTo>
                    <a:pt x="264" y="1840"/>
                  </a:lnTo>
                  <a:lnTo>
                    <a:pt x="233" y="1795"/>
                  </a:lnTo>
                  <a:lnTo>
                    <a:pt x="204" y="1750"/>
                  </a:lnTo>
                  <a:lnTo>
                    <a:pt x="177" y="1702"/>
                  </a:lnTo>
                  <a:lnTo>
                    <a:pt x="152" y="1654"/>
                  </a:lnTo>
                  <a:lnTo>
                    <a:pt x="129" y="1604"/>
                  </a:lnTo>
                  <a:lnTo>
                    <a:pt x="109" y="1553"/>
                  </a:lnTo>
                  <a:lnTo>
                    <a:pt x="92" y="1500"/>
                  </a:lnTo>
                  <a:lnTo>
                    <a:pt x="76" y="1447"/>
                  </a:lnTo>
                  <a:lnTo>
                    <a:pt x="63" y="1393"/>
                  </a:lnTo>
                  <a:lnTo>
                    <a:pt x="54" y="1337"/>
                  </a:lnTo>
                  <a:lnTo>
                    <a:pt x="47" y="1281"/>
                  </a:lnTo>
                  <a:lnTo>
                    <a:pt x="43" y="1224"/>
                  </a:lnTo>
                  <a:lnTo>
                    <a:pt x="41" y="1167"/>
                  </a:lnTo>
                  <a:lnTo>
                    <a:pt x="43" y="1108"/>
                  </a:lnTo>
                  <a:lnTo>
                    <a:pt x="47" y="1051"/>
                  </a:lnTo>
                  <a:lnTo>
                    <a:pt x="54" y="995"/>
                  </a:lnTo>
                  <a:lnTo>
                    <a:pt x="63" y="940"/>
                  </a:lnTo>
                  <a:lnTo>
                    <a:pt x="76" y="886"/>
                  </a:lnTo>
                  <a:lnTo>
                    <a:pt x="92" y="832"/>
                  </a:lnTo>
                  <a:lnTo>
                    <a:pt x="109" y="780"/>
                  </a:lnTo>
                  <a:lnTo>
                    <a:pt x="129" y="728"/>
                  </a:lnTo>
                  <a:lnTo>
                    <a:pt x="152" y="679"/>
                  </a:lnTo>
                  <a:lnTo>
                    <a:pt x="177" y="630"/>
                  </a:lnTo>
                  <a:lnTo>
                    <a:pt x="204" y="583"/>
                  </a:lnTo>
                  <a:lnTo>
                    <a:pt x="233" y="538"/>
                  </a:lnTo>
                  <a:lnTo>
                    <a:pt x="264" y="494"/>
                  </a:lnTo>
                  <a:lnTo>
                    <a:pt x="298" y="451"/>
                  </a:lnTo>
                  <a:lnTo>
                    <a:pt x="334" y="411"/>
                  </a:lnTo>
                  <a:lnTo>
                    <a:pt x="370" y="372"/>
                  </a:lnTo>
                  <a:lnTo>
                    <a:pt x="409" y="334"/>
                  </a:lnTo>
                  <a:lnTo>
                    <a:pt x="450" y="298"/>
                  </a:lnTo>
                  <a:lnTo>
                    <a:pt x="494" y="265"/>
                  </a:lnTo>
                  <a:lnTo>
                    <a:pt x="537" y="234"/>
                  </a:lnTo>
                  <a:lnTo>
                    <a:pt x="583" y="204"/>
                  </a:lnTo>
                  <a:lnTo>
                    <a:pt x="630" y="177"/>
                  </a:lnTo>
                  <a:lnTo>
                    <a:pt x="678" y="153"/>
                  </a:lnTo>
                  <a:lnTo>
                    <a:pt x="728" y="130"/>
                  </a:lnTo>
                  <a:lnTo>
                    <a:pt x="779" y="110"/>
                  </a:lnTo>
                  <a:lnTo>
                    <a:pt x="832" y="92"/>
                  </a:lnTo>
                  <a:lnTo>
                    <a:pt x="885" y="77"/>
                  </a:lnTo>
                  <a:lnTo>
                    <a:pt x="940" y="65"/>
                  </a:lnTo>
                  <a:lnTo>
                    <a:pt x="995" y="55"/>
                  </a:lnTo>
                  <a:lnTo>
                    <a:pt x="1051" y="48"/>
                  </a:lnTo>
                  <a:lnTo>
                    <a:pt x="1108" y="43"/>
                  </a:lnTo>
                  <a:lnTo>
                    <a:pt x="1166" y="42"/>
                  </a:lnTo>
                  <a:lnTo>
                    <a:pt x="1224" y="43"/>
                  </a:lnTo>
                  <a:lnTo>
                    <a:pt x="1281" y="48"/>
                  </a:lnTo>
                  <a:lnTo>
                    <a:pt x="1337" y="55"/>
                  </a:lnTo>
                  <a:lnTo>
                    <a:pt x="1393" y="65"/>
                  </a:lnTo>
                  <a:lnTo>
                    <a:pt x="1448" y="77"/>
                  </a:lnTo>
                  <a:lnTo>
                    <a:pt x="1501" y="92"/>
                  </a:lnTo>
                  <a:lnTo>
                    <a:pt x="1552" y="110"/>
                  </a:lnTo>
                  <a:lnTo>
                    <a:pt x="1604" y="130"/>
                  </a:lnTo>
                  <a:lnTo>
                    <a:pt x="1654" y="153"/>
                  </a:lnTo>
                  <a:lnTo>
                    <a:pt x="1703" y="177"/>
                  </a:lnTo>
                  <a:lnTo>
                    <a:pt x="1749" y="204"/>
                  </a:lnTo>
                  <a:lnTo>
                    <a:pt x="1796" y="234"/>
                  </a:lnTo>
                  <a:lnTo>
                    <a:pt x="1839" y="265"/>
                  </a:lnTo>
                  <a:lnTo>
                    <a:pt x="1882" y="298"/>
                  </a:lnTo>
                  <a:lnTo>
                    <a:pt x="1923" y="334"/>
                  </a:lnTo>
                  <a:lnTo>
                    <a:pt x="1962" y="372"/>
                  </a:lnTo>
                  <a:lnTo>
                    <a:pt x="1999" y="411"/>
                  </a:lnTo>
                  <a:lnTo>
                    <a:pt x="2034" y="451"/>
                  </a:lnTo>
                  <a:lnTo>
                    <a:pt x="2068" y="494"/>
                  </a:lnTo>
                  <a:lnTo>
                    <a:pt x="2099" y="538"/>
                  </a:lnTo>
                  <a:lnTo>
                    <a:pt x="2128" y="583"/>
                  </a:lnTo>
                  <a:lnTo>
                    <a:pt x="2155" y="630"/>
                  </a:lnTo>
                  <a:lnTo>
                    <a:pt x="2180" y="679"/>
                  </a:lnTo>
                  <a:lnTo>
                    <a:pt x="2203" y="728"/>
                  </a:lnTo>
                  <a:lnTo>
                    <a:pt x="2222" y="780"/>
                  </a:lnTo>
                  <a:lnTo>
                    <a:pt x="2241" y="832"/>
                  </a:lnTo>
                  <a:lnTo>
                    <a:pt x="2256" y="886"/>
                  </a:lnTo>
                  <a:lnTo>
                    <a:pt x="2269" y="940"/>
                  </a:lnTo>
                  <a:lnTo>
                    <a:pt x="2279" y="995"/>
                  </a:lnTo>
                  <a:lnTo>
                    <a:pt x="2285" y="1051"/>
                  </a:lnTo>
                  <a:lnTo>
                    <a:pt x="2289" y="1108"/>
                  </a:lnTo>
                  <a:lnTo>
                    <a:pt x="2292" y="1167"/>
                  </a:lnTo>
                  <a:lnTo>
                    <a:pt x="2290" y="1204"/>
                  </a:lnTo>
                  <a:lnTo>
                    <a:pt x="2288" y="1241"/>
                  </a:lnTo>
                  <a:lnTo>
                    <a:pt x="2286" y="1279"/>
                  </a:lnTo>
                  <a:lnTo>
                    <a:pt x="2282" y="1316"/>
                  </a:lnTo>
                  <a:lnTo>
                    <a:pt x="2276" y="1352"/>
                  </a:lnTo>
                  <a:lnTo>
                    <a:pt x="2269" y="1388"/>
                  </a:lnTo>
                  <a:lnTo>
                    <a:pt x="2261" y="1424"/>
                  </a:lnTo>
                  <a:lnTo>
                    <a:pt x="2253" y="1458"/>
                  </a:lnTo>
                  <a:lnTo>
                    <a:pt x="2293" y="1469"/>
                  </a:lnTo>
                  <a:lnTo>
                    <a:pt x="2302" y="1433"/>
                  </a:lnTo>
                  <a:lnTo>
                    <a:pt x="2310" y="1396"/>
                  </a:lnTo>
                  <a:lnTo>
                    <a:pt x="2317" y="1359"/>
                  </a:lnTo>
                  <a:lnTo>
                    <a:pt x="2323" y="1321"/>
                  </a:lnTo>
                  <a:lnTo>
                    <a:pt x="2327" y="1283"/>
                  </a:lnTo>
                  <a:lnTo>
                    <a:pt x="2330" y="1244"/>
                  </a:lnTo>
                  <a:lnTo>
                    <a:pt x="2333" y="1206"/>
                  </a:lnTo>
                  <a:lnTo>
                    <a:pt x="2333" y="1167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19480" y="2543040"/>
              <a:ext cx="909720" cy="908280"/>
            </a:xfrm>
            <a:custGeom>
              <a:avLst/>
              <a:gdLst/>
              <a:ahLst/>
              <a:rect l="l" t="t" r="r" b="b"/>
              <a:pathLst>
                <a:path w="2292" h="2290">
                  <a:moveTo>
                    <a:pt x="2292" y="1146"/>
                  </a:moveTo>
                  <a:lnTo>
                    <a:pt x="2291" y="1086"/>
                  </a:lnTo>
                  <a:lnTo>
                    <a:pt x="2286" y="1028"/>
                  </a:lnTo>
                  <a:lnTo>
                    <a:pt x="2279" y="971"/>
                  </a:lnTo>
                  <a:lnTo>
                    <a:pt x="2268" y="915"/>
                  </a:lnTo>
                  <a:lnTo>
                    <a:pt x="2256" y="859"/>
                  </a:lnTo>
                  <a:lnTo>
                    <a:pt x="2240" y="804"/>
                  </a:lnTo>
                  <a:lnTo>
                    <a:pt x="2223" y="751"/>
                  </a:lnTo>
                  <a:lnTo>
                    <a:pt x="2202" y="700"/>
                  </a:lnTo>
                  <a:lnTo>
                    <a:pt x="2179" y="649"/>
                  </a:lnTo>
                  <a:lnTo>
                    <a:pt x="2154" y="599"/>
                  </a:lnTo>
                  <a:lnTo>
                    <a:pt x="2126" y="552"/>
                  </a:lnTo>
                  <a:lnTo>
                    <a:pt x="2097" y="505"/>
                  </a:lnTo>
                  <a:lnTo>
                    <a:pt x="2064" y="460"/>
                  </a:lnTo>
                  <a:lnTo>
                    <a:pt x="2031" y="417"/>
                  </a:lnTo>
                  <a:lnTo>
                    <a:pt x="1994" y="376"/>
                  </a:lnTo>
                  <a:lnTo>
                    <a:pt x="1956" y="336"/>
                  </a:lnTo>
                  <a:lnTo>
                    <a:pt x="1916" y="298"/>
                  </a:lnTo>
                  <a:lnTo>
                    <a:pt x="1875" y="261"/>
                  </a:lnTo>
                  <a:lnTo>
                    <a:pt x="1832" y="228"/>
                  </a:lnTo>
                  <a:lnTo>
                    <a:pt x="1786" y="195"/>
                  </a:lnTo>
                  <a:lnTo>
                    <a:pt x="1740" y="166"/>
                  </a:lnTo>
                  <a:lnTo>
                    <a:pt x="1692" y="138"/>
                  </a:lnTo>
                  <a:lnTo>
                    <a:pt x="1643" y="113"/>
                  </a:lnTo>
                  <a:lnTo>
                    <a:pt x="1592" y="91"/>
                  </a:lnTo>
                  <a:lnTo>
                    <a:pt x="1540" y="70"/>
                  </a:lnTo>
                  <a:lnTo>
                    <a:pt x="1487" y="52"/>
                  </a:lnTo>
                  <a:lnTo>
                    <a:pt x="1432" y="37"/>
                  </a:lnTo>
                  <a:lnTo>
                    <a:pt x="1377" y="24"/>
                  </a:lnTo>
                  <a:lnTo>
                    <a:pt x="1321" y="13"/>
                  </a:lnTo>
                  <a:lnTo>
                    <a:pt x="1263" y="6"/>
                  </a:lnTo>
                  <a:lnTo>
                    <a:pt x="1205" y="2"/>
                  </a:lnTo>
                  <a:lnTo>
                    <a:pt x="1146" y="0"/>
                  </a:lnTo>
                  <a:lnTo>
                    <a:pt x="1087" y="2"/>
                  </a:lnTo>
                  <a:lnTo>
                    <a:pt x="1029" y="6"/>
                  </a:lnTo>
                  <a:lnTo>
                    <a:pt x="972" y="13"/>
                  </a:lnTo>
                  <a:lnTo>
                    <a:pt x="915" y="24"/>
                  </a:lnTo>
                  <a:lnTo>
                    <a:pt x="859" y="37"/>
                  </a:lnTo>
                  <a:lnTo>
                    <a:pt x="805" y="52"/>
                  </a:lnTo>
                  <a:lnTo>
                    <a:pt x="752" y="70"/>
                  </a:lnTo>
                  <a:lnTo>
                    <a:pt x="700" y="91"/>
                  </a:lnTo>
                  <a:lnTo>
                    <a:pt x="650" y="113"/>
                  </a:lnTo>
                  <a:lnTo>
                    <a:pt x="600" y="138"/>
                  </a:lnTo>
                  <a:lnTo>
                    <a:pt x="552" y="166"/>
                  </a:lnTo>
                  <a:lnTo>
                    <a:pt x="506" y="195"/>
                  </a:lnTo>
                  <a:lnTo>
                    <a:pt x="461" y="228"/>
                  </a:lnTo>
                  <a:lnTo>
                    <a:pt x="417" y="261"/>
                  </a:lnTo>
                  <a:lnTo>
                    <a:pt x="375" y="298"/>
                  </a:lnTo>
                  <a:lnTo>
                    <a:pt x="336" y="336"/>
                  </a:lnTo>
                  <a:lnTo>
                    <a:pt x="299" y="376"/>
                  </a:lnTo>
                  <a:lnTo>
                    <a:pt x="262" y="417"/>
                  </a:lnTo>
                  <a:lnTo>
                    <a:pt x="228" y="460"/>
                  </a:lnTo>
                  <a:lnTo>
                    <a:pt x="196" y="505"/>
                  </a:lnTo>
                  <a:lnTo>
                    <a:pt x="167" y="552"/>
                  </a:lnTo>
                  <a:lnTo>
                    <a:pt x="139" y="599"/>
                  </a:lnTo>
                  <a:lnTo>
                    <a:pt x="114" y="649"/>
                  </a:lnTo>
                  <a:lnTo>
                    <a:pt x="90" y="700"/>
                  </a:lnTo>
                  <a:lnTo>
                    <a:pt x="69" y="751"/>
                  </a:lnTo>
                  <a:lnTo>
                    <a:pt x="52" y="804"/>
                  </a:lnTo>
                  <a:lnTo>
                    <a:pt x="36" y="859"/>
                  </a:lnTo>
                  <a:lnTo>
                    <a:pt x="24" y="915"/>
                  </a:lnTo>
                  <a:lnTo>
                    <a:pt x="13" y="971"/>
                  </a:lnTo>
                  <a:lnTo>
                    <a:pt x="6" y="1028"/>
                  </a:lnTo>
                  <a:lnTo>
                    <a:pt x="1" y="1086"/>
                  </a:lnTo>
                  <a:lnTo>
                    <a:pt x="0" y="1146"/>
                  </a:lnTo>
                  <a:lnTo>
                    <a:pt x="1" y="1204"/>
                  </a:lnTo>
                  <a:lnTo>
                    <a:pt x="6" y="1262"/>
                  </a:lnTo>
                  <a:lnTo>
                    <a:pt x="13" y="1320"/>
                  </a:lnTo>
                  <a:lnTo>
                    <a:pt x="24" y="1376"/>
                  </a:lnTo>
                  <a:lnTo>
                    <a:pt x="36" y="1432"/>
                  </a:lnTo>
                  <a:lnTo>
                    <a:pt x="52" y="1486"/>
                  </a:lnTo>
                  <a:lnTo>
                    <a:pt x="69" y="1539"/>
                  </a:lnTo>
                  <a:lnTo>
                    <a:pt x="90" y="1592"/>
                  </a:lnTo>
                  <a:lnTo>
                    <a:pt x="114" y="1642"/>
                  </a:lnTo>
                  <a:lnTo>
                    <a:pt x="139" y="1691"/>
                  </a:lnTo>
                  <a:lnTo>
                    <a:pt x="167" y="1740"/>
                  </a:lnTo>
                  <a:lnTo>
                    <a:pt x="196" y="1786"/>
                  </a:lnTo>
                  <a:lnTo>
                    <a:pt x="228" y="1830"/>
                  </a:lnTo>
                  <a:lnTo>
                    <a:pt x="262" y="1874"/>
                  </a:lnTo>
                  <a:lnTo>
                    <a:pt x="299" y="1916"/>
                  </a:lnTo>
                  <a:lnTo>
                    <a:pt x="336" y="1956"/>
                  </a:lnTo>
                  <a:lnTo>
                    <a:pt x="375" y="1993"/>
                  </a:lnTo>
                  <a:lnTo>
                    <a:pt x="417" y="2029"/>
                  </a:lnTo>
                  <a:lnTo>
                    <a:pt x="461" y="2064"/>
                  </a:lnTo>
                  <a:lnTo>
                    <a:pt x="506" y="2095"/>
                  </a:lnTo>
                  <a:lnTo>
                    <a:pt x="552" y="2125"/>
                  </a:lnTo>
                  <a:lnTo>
                    <a:pt x="600" y="2152"/>
                  </a:lnTo>
                  <a:lnTo>
                    <a:pt x="650" y="2178"/>
                  </a:lnTo>
                  <a:lnTo>
                    <a:pt x="700" y="2201"/>
                  </a:lnTo>
                  <a:lnTo>
                    <a:pt x="752" y="2221"/>
                  </a:lnTo>
                  <a:lnTo>
                    <a:pt x="805" y="2240"/>
                  </a:lnTo>
                  <a:lnTo>
                    <a:pt x="859" y="2255"/>
                  </a:lnTo>
                  <a:lnTo>
                    <a:pt x="915" y="2268"/>
                  </a:lnTo>
                  <a:lnTo>
                    <a:pt x="972" y="2278"/>
                  </a:lnTo>
                  <a:lnTo>
                    <a:pt x="1029" y="2285"/>
                  </a:lnTo>
                  <a:lnTo>
                    <a:pt x="1087" y="2289"/>
                  </a:lnTo>
                  <a:lnTo>
                    <a:pt x="1146" y="2290"/>
                  </a:lnTo>
                  <a:lnTo>
                    <a:pt x="1180" y="2290"/>
                  </a:lnTo>
                  <a:lnTo>
                    <a:pt x="1214" y="2288"/>
                  </a:lnTo>
                  <a:lnTo>
                    <a:pt x="1246" y="2286"/>
                  </a:lnTo>
                  <a:lnTo>
                    <a:pt x="1280" y="2283"/>
                  </a:lnTo>
                  <a:lnTo>
                    <a:pt x="1312" y="2279"/>
                  </a:lnTo>
                  <a:lnTo>
                    <a:pt x="1344" y="2273"/>
                  </a:lnTo>
                  <a:lnTo>
                    <a:pt x="1376" y="2268"/>
                  </a:lnTo>
                  <a:lnTo>
                    <a:pt x="1408" y="2260"/>
                  </a:lnTo>
                  <a:lnTo>
                    <a:pt x="1440" y="2253"/>
                  </a:lnTo>
                  <a:lnTo>
                    <a:pt x="1471" y="2244"/>
                  </a:lnTo>
                  <a:lnTo>
                    <a:pt x="1501" y="2234"/>
                  </a:lnTo>
                  <a:lnTo>
                    <a:pt x="1531" y="2225"/>
                  </a:lnTo>
                  <a:lnTo>
                    <a:pt x="1562" y="2213"/>
                  </a:lnTo>
                  <a:lnTo>
                    <a:pt x="1591" y="2201"/>
                  </a:lnTo>
                  <a:lnTo>
                    <a:pt x="1620" y="2189"/>
                  </a:lnTo>
                  <a:lnTo>
                    <a:pt x="1648" y="2175"/>
                  </a:lnTo>
                  <a:lnTo>
                    <a:pt x="1631" y="2137"/>
                  </a:lnTo>
                  <a:lnTo>
                    <a:pt x="1603" y="2151"/>
                  </a:lnTo>
                  <a:lnTo>
                    <a:pt x="1575" y="2163"/>
                  </a:lnTo>
                  <a:lnTo>
                    <a:pt x="1547" y="2175"/>
                  </a:lnTo>
                  <a:lnTo>
                    <a:pt x="1517" y="2185"/>
                  </a:lnTo>
                  <a:lnTo>
                    <a:pt x="1488" y="2195"/>
                  </a:lnTo>
                  <a:lnTo>
                    <a:pt x="1459" y="2204"/>
                  </a:lnTo>
                  <a:lnTo>
                    <a:pt x="1429" y="2213"/>
                  </a:lnTo>
                  <a:lnTo>
                    <a:pt x="1398" y="2220"/>
                  </a:lnTo>
                  <a:lnTo>
                    <a:pt x="1368" y="2227"/>
                  </a:lnTo>
                  <a:lnTo>
                    <a:pt x="1337" y="2232"/>
                  </a:lnTo>
                  <a:lnTo>
                    <a:pt x="1306" y="2238"/>
                  </a:lnTo>
                  <a:lnTo>
                    <a:pt x="1274" y="2242"/>
                  </a:lnTo>
                  <a:lnTo>
                    <a:pt x="1243" y="2245"/>
                  </a:lnTo>
                  <a:lnTo>
                    <a:pt x="1210" y="2247"/>
                  </a:lnTo>
                  <a:lnTo>
                    <a:pt x="1179" y="2248"/>
                  </a:lnTo>
                  <a:lnTo>
                    <a:pt x="1146" y="2249"/>
                  </a:lnTo>
                  <a:lnTo>
                    <a:pt x="1089" y="2247"/>
                  </a:lnTo>
                  <a:lnTo>
                    <a:pt x="1033" y="2243"/>
                  </a:lnTo>
                  <a:lnTo>
                    <a:pt x="978" y="2236"/>
                  </a:lnTo>
                  <a:lnTo>
                    <a:pt x="924" y="2227"/>
                  </a:lnTo>
                  <a:lnTo>
                    <a:pt x="870" y="2215"/>
                  </a:lnTo>
                  <a:lnTo>
                    <a:pt x="818" y="2200"/>
                  </a:lnTo>
                  <a:lnTo>
                    <a:pt x="766" y="2182"/>
                  </a:lnTo>
                  <a:lnTo>
                    <a:pt x="717" y="2162"/>
                  </a:lnTo>
                  <a:lnTo>
                    <a:pt x="667" y="2140"/>
                  </a:lnTo>
                  <a:lnTo>
                    <a:pt x="619" y="2116"/>
                  </a:lnTo>
                  <a:lnTo>
                    <a:pt x="574" y="2090"/>
                  </a:lnTo>
                  <a:lnTo>
                    <a:pt x="529" y="2060"/>
                  </a:lnTo>
                  <a:lnTo>
                    <a:pt x="485" y="2030"/>
                  </a:lnTo>
                  <a:lnTo>
                    <a:pt x="443" y="1997"/>
                  </a:lnTo>
                  <a:lnTo>
                    <a:pt x="403" y="1962"/>
                  </a:lnTo>
                  <a:lnTo>
                    <a:pt x="365" y="1925"/>
                  </a:lnTo>
                  <a:lnTo>
                    <a:pt x="329" y="1888"/>
                  </a:lnTo>
                  <a:lnTo>
                    <a:pt x="294" y="1848"/>
                  </a:lnTo>
                  <a:lnTo>
                    <a:pt x="262" y="1806"/>
                  </a:lnTo>
                  <a:lnTo>
                    <a:pt x="230" y="1762"/>
                  </a:lnTo>
                  <a:lnTo>
                    <a:pt x="202" y="1718"/>
                  </a:lnTo>
                  <a:lnTo>
                    <a:pt x="175" y="1672"/>
                  </a:lnTo>
                  <a:lnTo>
                    <a:pt x="150" y="1624"/>
                  </a:lnTo>
                  <a:lnTo>
                    <a:pt x="129" y="1576"/>
                  </a:lnTo>
                  <a:lnTo>
                    <a:pt x="109" y="1525"/>
                  </a:lnTo>
                  <a:lnTo>
                    <a:pt x="92" y="1474"/>
                  </a:lnTo>
                  <a:lnTo>
                    <a:pt x="77" y="1421"/>
                  </a:lnTo>
                  <a:lnTo>
                    <a:pt x="64" y="1368"/>
                  </a:lnTo>
                  <a:lnTo>
                    <a:pt x="54" y="1313"/>
                  </a:lnTo>
                  <a:lnTo>
                    <a:pt x="48" y="1258"/>
                  </a:lnTo>
                  <a:lnTo>
                    <a:pt x="43" y="1202"/>
                  </a:lnTo>
                  <a:lnTo>
                    <a:pt x="42" y="1146"/>
                  </a:lnTo>
                  <a:lnTo>
                    <a:pt x="43" y="1088"/>
                  </a:lnTo>
                  <a:lnTo>
                    <a:pt x="48" y="1032"/>
                  </a:lnTo>
                  <a:lnTo>
                    <a:pt x="54" y="977"/>
                  </a:lnTo>
                  <a:lnTo>
                    <a:pt x="64" y="923"/>
                  </a:lnTo>
                  <a:lnTo>
                    <a:pt x="77" y="869"/>
                  </a:lnTo>
                  <a:lnTo>
                    <a:pt x="92" y="817"/>
                  </a:lnTo>
                  <a:lnTo>
                    <a:pt x="109" y="766"/>
                  </a:lnTo>
                  <a:lnTo>
                    <a:pt x="129" y="716"/>
                  </a:lnTo>
                  <a:lnTo>
                    <a:pt x="150" y="667"/>
                  </a:lnTo>
                  <a:lnTo>
                    <a:pt x="175" y="620"/>
                  </a:lnTo>
                  <a:lnTo>
                    <a:pt x="202" y="573"/>
                  </a:lnTo>
                  <a:lnTo>
                    <a:pt x="230" y="528"/>
                  </a:lnTo>
                  <a:lnTo>
                    <a:pt x="262" y="485"/>
                  </a:lnTo>
                  <a:lnTo>
                    <a:pt x="294" y="444"/>
                  </a:lnTo>
                  <a:lnTo>
                    <a:pt x="329" y="404"/>
                  </a:lnTo>
                  <a:lnTo>
                    <a:pt x="365" y="365"/>
                  </a:lnTo>
                  <a:lnTo>
                    <a:pt x="403" y="328"/>
                  </a:lnTo>
                  <a:lnTo>
                    <a:pt x="443" y="294"/>
                  </a:lnTo>
                  <a:lnTo>
                    <a:pt x="485" y="261"/>
                  </a:lnTo>
                  <a:lnTo>
                    <a:pt x="529" y="230"/>
                  </a:lnTo>
                  <a:lnTo>
                    <a:pt x="574" y="202"/>
                  </a:lnTo>
                  <a:lnTo>
                    <a:pt x="619" y="175"/>
                  </a:lnTo>
                  <a:lnTo>
                    <a:pt x="667" y="151"/>
                  </a:lnTo>
                  <a:lnTo>
                    <a:pt x="717" y="128"/>
                  </a:lnTo>
                  <a:lnTo>
                    <a:pt x="766" y="109"/>
                  </a:lnTo>
                  <a:lnTo>
                    <a:pt x="818" y="92"/>
                  </a:lnTo>
                  <a:lnTo>
                    <a:pt x="870" y="76"/>
                  </a:lnTo>
                  <a:lnTo>
                    <a:pt x="924" y="65"/>
                  </a:lnTo>
                  <a:lnTo>
                    <a:pt x="978" y="55"/>
                  </a:lnTo>
                  <a:lnTo>
                    <a:pt x="1033" y="47"/>
                  </a:lnTo>
                  <a:lnTo>
                    <a:pt x="1089" y="43"/>
                  </a:lnTo>
                  <a:lnTo>
                    <a:pt x="1146" y="42"/>
                  </a:lnTo>
                  <a:lnTo>
                    <a:pt x="1203" y="43"/>
                  </a:lnTo>
                  <a:lnTo>
                    <a:pt x="1259" y="47"/>
                  </a:lnTo>
                  <a:lnTo>
                    <a:pt x="1314" y="55"/>
                  </a:lnTo>
                  <a:lnTo>
                    <a:pt x="1368" y="65"/>
                  </a:lnTo>
                  <a:lnTo>
                    <a:pt x="1422" y="76"/>
                  </a:lnTo>
                  <a:lnTo>
                    <a:pt x="1474" y="92"/>
                  </a:lnTo>
                  <a:lnTo>
                    <a:pt x="1526" y="109"/>
                  </a:lnTo>
                  <a:lnTo>
                    <a:pt x="1576" y="128"/>
                  </a:lnTo>
                  <a:lnTo>
                    <a:pt x="1624" y="151"/>
                  </a:lnTo>
                  <a:lnTo>
                    <a:pt x="1673" y="175"/>
                  </a:lnTo>
                  <a:lnTo>
                    <a:pt x="1718" y="202"/>
                  </a:lnTo>
                  <a:lnTo>
                    <a:pt x="1764" y="230"/>
                  </a:lnTo>
                  <a:lnTo>
                    <a:pt x="1807" y="261"/>
                  </a:lnTo>
                  <a:lnTo>
                    <a:pt x="1848" y="294"/>
                  </a:lnTo>
                  <a:lnTo>
                    <a:pt x="1889" y="328"/>
                  </a:lnTo>
                  <a:lnTo>
                    <a:pt x="1927" y="365"/>
                  </a:lnTo>
                  <a:lnTo>
                    <a:pt x="1964" y="404"/>
                  </a:lnTo>
                  <a:lnTo>
                    <a:pt x="1998" y="444"/>
                  </a:lnTo>
                  <a:lnTo>
                    <a:pt x="2031" y="485"/>
                  </a:lnTo>
                  <a:lnTo>
                    <a:pt x="2062" y="528"/>
                  </a:lnTo>
                  <a:lnTo>
                    <a:pt x="2090" y="573"/>
                  </a:lnTo>
                  <a:lnTo>
                    <a:pt x="2117" y="620"/>
                  </a:lnTo>
                  <a:lnTo>
                    <a:pt x="2142" y="667"/>
                  </a:lnTo>
                  <a:lnTo>
                    <a:pt x="2164" y="716"/>
                  </a:lnTo>
                  <a:lnTo>
                    <a:pt x="2183" y="766"/>
                  </a:lnTo>
                  <a:lnTo>
                    <a:pt x="2200" y="817"/>
                  </a:lnTo>
                  <a:lnTo>
                    <a:pt x="2215" y="869"/>
                  </a:lnTo>
                  <a:lnTo>
                    <a:pt x="2228" y="923"/>
                  </a:lnTo>
                  <a:lnTo>
                    <a:pt x="2238" y="977"/>
                  </a:lnTo>
                  <a:lnTo>
                    <a:pt x="2245" y="1032"/>
                  </a:lnTo>
                  <a:lnTo>
                    <a:pt x="2249" y="1088"/>
                  </a:lnTo>
                  <a:lnTo>
                    <a:pt x="2250" y="1146"/>
                  </a:lnTo>
                  <a:lnTo>
                    <a:pt x="2250" y="1182"/>
                  </a:lnTo>
                  <a:lnTo>
                    <a:pt x="2248" y="1219"/>
                  </a:lnTo>
                  <a:lnTo>
                    <a:pt x="2245" y="1256"/>
                  </a:lnTo>
                  <a:lnTo>
                    <a:pt x="2240" y="1291"/>
                  </a:lnTo>
                  <a:lnTo>
                    <a:pt x="2235" y="1327"/>
                  </a:lnTo>
                  <a:lnTo>
                    <a:pt x="2228" y="1363"/>
                  </a:lnTo>
                  <a:lnTo>
                    <a:pt x="2221" y="1397"/>
                  </a:lnTo>
                  <a:lnTo>
                    <a:pt x="2212" y="1432"/>
                  </a:lnTo>
                  <a:lnTo>
                    <a:pt x="2253" y="1443"/>
                  </a:lnTo>
                  <a:lnTo>
                    <a:pt x="2262" y="1407"/>
                  </a:lnTo>
                  <a:lnTo>
                    <a:pt x="2269" y="1371"/>
                  </a:lnTo>
                  <a:lnTo>
                    <a:pt x="2277" y="1335"/>
                  </a:lnTo>
                  <a:lnTo>
                    <a:pt x="2282" y="1297"/>
                  </a:lnTo>
                  <a:lnTo>
                    <a:pt x="2287" y="1260"/>
                  </a:lnTo>
                  <a:lnTo>
                    <a:pt x="2290" y="1222"/>
                  </a:lnTo>
                  <a:lnTo>
                    <a:pt x="2291" y="1183"/>
                  </a:lnTo>
                  <a:lnTo>
                    <a:pt x="2292" y="1146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7400" y="2550960"/>
              <a:ext cx="893880" cy="892440"/>
            </a:xfrm>
            <a:custGeom>
              <a:avLst/>
              <a:gdLst/>
              <a:ahLst/>
              <a:rect l="l" t="t" r="r" b="b"/>
              <a:pathLst>
                <a:path w="2251" h="2249">
                  <a:moveTo>
                    <a:pt x="2251" y="1125"/>
                  </a:moveTo>
                  <a:lnTo>
                    <a:pt x="2248" y="1066"/>
                  </a:lnTo>
                  <a:lnTo>
                    <a:pt x="2244" y="1009"/>
                  </a:lnTo>
                  <a:lnTo>
                    <a:pt x="2238" y="953"/>
                  </a:lnTo>
                  <a:lnTo>
                    <a:pt x="2228" y="898"/>
                  </a:lnTo>
                  <a:lnTo>
                    <a:pt x="2215" y="844"/>
                  </a:lnTo>
                  <a:lnTo>
                    <a:pt x="2200" y="790"/>
                  </a:lnTo>
                  <a:lnTo>
                    <a:pt x="2181" y="738"/>
                  </a:lnTo>
                  <a:lnTo>
                    <a:pt x="2162" y="686"/>
                  </a:lnTo>
                  <a:lnTo>
                    <a:pt x="2139" y="637"/>
                  </a:lnTo>
                  <a:lnTo>
                    <a:pt x="2114" y="588"/>
                  </a:lnTo>
                  <a:lnTo>
                    <a:pt x="2087" y="541"/>
                  </a:lnTo>
                  <a:lnTo>
                    <a:pt x="2058" y="496"/>
                  </a:lnTo>
                  <a:lnTo>
                    <a:pt x="2027" y="452"/>
                  </a:lnTo>
                  <a:lnTo>
                    <a:pt x="1993" y="409"/>
                  </a:lnTo>
                  <a:lnTo>
                    <a:pt x="1958" y="369"/>
                  </a:lnTo>
                  <a:lnTo>
                    <a:pt x="1921" y="330"/>
                  </a:lnTo>
                  <a:lnTo>
                    <a:pt x="1882" y="292"/>
                  </a:lnTo>
                  <a:lnTo>
                    <a:pt x="1841" y="256"/>
                  </a:lnTo>
                  <a:lnTo>
                    <a:pt x="1798" y="223"/>
                  </a:lnTo>
                  <a:lnTo>
                    <a:pt x="1755" y="192"/>
                  </a:lnTo>
                  <a:lnTo>
                    <a:pt x="1708" y="162"/>
                  </a:lnTo>
                  <a:lnTo>
                    <a:pt x="1662" y="135"/>
                  </a:lnTo>
                  <a:lnTo>
                    <a:pt x="1613" y="111"/>
                  </a:lnTo>
                  <a:lnTo>
                    <a:pt x="1563" y="88"/>
                  </a:lnTo>
                  <a:lnTo>
                    <a:pt x="1511" y="68"/>
                  </a:lnTo>
                  <a:lnTo>
                    <a:pt x="1460" y="50"/>
                  </a:lnTo>
                  <a:lnTo>
                    <a:pt x="1407" y="35"/>
                  </a:lnTo>
                  <a:lnTo>
                    <a:pt x="1352" y="23"/>
                  </a:lnTo>
                  <a:lnTo>
                    <a:pt x="1296" y="13"/>
                  </a:lnTo>
                  <a:lnTo>
                    <a:pt x="1240" y="6"/>
                  </a:lnTo>
                  <a:lnTo>
                    <a:pt x="1183" y="1"/>
                  </a:lnTo>
                  <a:lnTo>
                    <a:pt x="1125" y="0"/>
                  </a:lnTo>
                  <a:lnTo>
                    <a:pt x="1067" y="1"/>
                  </a:lnTo>
                  <a:lnTo>
                    <a:pt x="1010" y="6"/>
                  </a:lnTo>
                  <a:lnTo>
                    <a:pt x="954" y="13"/>
                  </a:lnTo>
                  <a:lnTo>
                    <a:pt x="899" y="23"/>
                  </a:lnTo>
                  <a:lnTo>
                    <a:pt x="844" y="35"/>
                  </a:lnTo>
                  <a:lnTo>
                    <a:pt x="791" y="50"/>
                  </a:lnTo>
                  <a:lnTo>
                    <a:pt x="738" y="68"/>
                  </a:lnTo>
                  <a:lnTo>
                    <a:pt x="687" y="88"/>
                  </a:lnTo>
                  <a:lnTo>
                    <a:pt x="637" y="111"/>
                  </a:lnTo>
                  <a:lnTo>
                    <a:pt x="589" y="135"/>
                  </a:lnTo>
                  <a:lnTo>
                    <a:pt x="542" y="162"/>
                  </a:lnTo>
                  <a:lnTo>
                    <a:pt x="496" y="192"/>
                  </a:lnTo>
                  <a:lnTo>
                    <a:pt x="453" y="223"/>
                  </a:lnTo>
                  <a:lnTo>
                    <a:pt x="409" y="256"/>
                  </a:lnTo>
                  <a:lnTo>
                    <a:pt x="368" y="292"/>
                  </a:lnTo>
                  <a:lnTo>
                    <a:pt x="329" y="330"/>
                  </a:lnTo>
                  <a:lnTo>
                    <a:pt x="293" y="369"/>
                  </a:lnTo>
                  <a:lnTo>
                    <a:pt x="257" y="409"/>
                  </a:lnTo>
                  <a:lnTo>
                    <a:pt x="223" y="452"/>
                  </a:lnTo>
                  <a:lnTo>
                    <a:pt x="192" y="496"/>
                  </a:lnTo>
                  <a:lnTo>
                    <a:pt x="163" y="541"/>
                  </a:lnTo>
                  <a:lnTo>
                    <a:pt x="136" y="588"/>
                  </a:lnTo>
                  <a:lnTo>
                    <a:pt x="111" y="637"/>
                  </a:lnTo>
                  <a:lnTo>
                    <a:pt x="88" y="686"/>
                  </a:lnTo>
                  <a:lnTo>
                    <a:pt x="68" y="738"/>
                  </a:lnTo>
                  <a:lnTo>
                    <a:pt x="51" y="790"/>
                  </a:lnTo>
                  <a:lnTo>
                    <a:pt x="35" y="844"/>
                  </a:lnTo>
                  <a:lnTo>
                    <a:pt x="22" y="898"/>
                  </a:lnTo>
                  <a:lnTo>
                    <a:pt x="13" y="953"/>
                  </a:lnTo>
                  <a:lnTo>
                    <a:pt x="6" y="1009"/>
                  </a:lnTo>
                  <a:lnTo>
                    <a:pt x="2" y="1066"/>
                  </a:lnTo>
                  <a:lnTo>
                    <a:pt x="0" y="1125"/>
                  </a:lnTo>
                  <a:lnTo>
                    <a:pt x="2" y="1182"/>
                  </a:lnTo>
                  <a:lnTo>
                    <a:pt x="6" y="1239"/>
                  </a:lnTo>
                  <a:lnTo>
                    <a:pt x="13" y="1295"/>
                  </a:lnTo>
                  <a:lnTo>
                    <a:pt x="22" y="1351"/>
                  </a:lnTo>
                  <a:lnTo>
                    <a:pt x="35" y="1405"/>
                  </a:lnTo>
                  <a:lnTo>
                    <a:pt x="51" y="1458"/>
                  </a:lnTo>
                  <a:lnTo>
                    <a:pt x="68" y="1511"/>
                  </a:lnTo>
                  <a:lnTo>
                    <a:pt x="88" y="1562"/>
                  </a:lnTo>
                  <a:lnTo>
                    <a:pt x="111" y="1612"/>
                  </a:lnTo>
                  <a:lnTo>
                    <a:pt x="136" y="1660"/>
                  </a:lnTo>
                  <a:lnTo>
                    <a:pt x="163" y="1708"/>
                  </a:lnTo>
                  <a:lnTo>
                    <a:pt x="192" y="1753"/>
                  </a:lnTo>
                  <a:lnTo>
                    <a:pt x="223" y="1798"/>
                  </a:lnTo>
                  <a:lnTo>
                    <a:pt x="257" y="1840"/>
                  </a:lnTo>
                  <a:lnTo>
                    <a:pt x="293" y="1881"/>
                  </a:lnTo>
                  <a:lnTo>
                    <a:pt x="329" y="1920"/>
                  </a:lnTo>
                  <a:lnTo>
                    <a:pt x="368" y="1956"/>
                  </a:lnTo>
                  <a:lnTo>
                    <a:pt x="409" y="1992"/>
                  </a:lnTo>
                  <a:lnTo>
                    <a:pt x="453" y="2025"/>
                  </a:lnTo>
                  <a:lnTo>
                    <a:pt x="496" y="2057"/>
                  </a:lnTo>
                  <a:lnTo>
                    <a:pt x="542" y="2086"/>
                  </a:lnTo>
                  <a:lnTo>
                    <a:pt x="589" y="2113"/>
                  </a:lnTo>
                  <a:lnTo>
                    <a:pt x="637" y="2138"/>
                  </a:lnTo>
                  <a:lnTo>
                    <a:pt x="687" y="2160"/>
                  </a:lnTo>
                  <a:lnTo>
                    <a:pt x="738" y="2181"/>
                  </a:lnTo>
                  <a:lnTo>
                    <a:pt x="791" y="2198"/>
                  </a:lnTo>
                  <a:lnTo>
                    <a:pt x="844" y="2213"/>
                  </a:lnTo>
                  <a:lnTo>
                    <a:pt x="899" y="2226"/>
                  </a:lnTo>
                  <a:lnTo>
                    <a:pt x="954" y="2236"/>
                  </a:lnTo>
                  <a:lnTo>
                    <a:pt x="1010" y="2244"/>
                  </a:lnTo>
                  <a:lnTo>
                    <a:pt x="1067" y="2248"/>
                  </a:lnTo>
                  <a:lnTo>
                    <a:pt x="1125" y="2249"/>
                  </a:lnTo>
                  <a:lnTo>
                    <a:pt x="1158" y="2249"/>
                  </a:lnTo>
                  <a:lnTo>
                    <a:pt x="1191" y="2247"/>
                  </a:lnTo>
                  <a:lnTo>
                    <a:pt x="1224" y="2245"/>
                  </a:lnTo>
                  <a:lnTo>
                    <a:pt x="1256" y="2241"/>
                  </a:lnTo>
                  <a:lnTo>
                    <a:pt x="1288" y="2237"/>
                  </a:lnTo>
                  <a:lnTo>
                    <a:pt x="1320" y="2232"/>
                  </a:lnTo>
                  <a:lnTo>
                    <a:pt x="1352" y="2226"/>
                  </a:lnTo>
                  <a:lnTo>
                    <a:pt x="1382" y="2220"/>
                  </a:lnTo>
                  <a:lnTo>
                    <a:pt x="1413" y="2212"/>
                  </a:lnTo>
                  <a:lnTo>
                    <a:pt x="1443" y="2204"/>
                  </a:lnTo>
                  <a:lnTo>
                    <a:pt x="1474" y="2194"/>
                  </a:lnTo>
                  <a:lnTo>
                    <a:pt x="1504" y="2184"/>
                  </a:lnTo>
                  <a:lnTo>
                    <a:pt x="1533" y="2173"/>
                  </a:lnTo>
                  <a:lnTo>
                    <a:pt x="1561" y="2161"/>
                  </a:lnTo>
                  <a:lnTo>
                    <a:pt x="1590" y="2149"/>
                  </a:lnTo>
                  <a:lnTo>
                    <a:pt x="1618" y="2136"/>
                  </a:lnTo>
                  <a:lnTo>
                    <a:pt x="1600" y="2098"/>
                  </a:lnTo>
                  <a:lnTo>
                    <a:pt x="1573" y="2111"/>
                  </a:lnTo>
                  <a:lnTo>
                    <a:pt x="1546" y="2123"/>
                  </a:lnTo>
                  <a:lnTo>
                    <a:pt x="1518" y="2134"/>
                  </a:lnTo>
                  <a:lnTo>
                    <a:pt x="1490" y="2144"/>
                  </a:lnTo>
                  <a:lnTo>
                    <a:pt x="1461" y="2154"/>
                  </a:lnTo>
                  <a:lnTo>
                    <a:pt x="1432" y="2164"/>
                  </a:lnTo>
                  <a:lnTo>
                    <a:pt x="1402" y="2171"/>
                  </a:lnTo>
                  <a:lnTo>
                    <a:pt x="1373" y="2179"/>
                  </a:lnTo>
                  <a:lnTo>
                    <a:pt x="1343" y="2185"/>
                  </a:lnTo>
                  <a:lnTo>
                    <a:pt x="1313" y="2191"/>
                  </a:lnTo>
                  <a:lnTo>
                    <a:pt x="1282" y="2196"/>
                  </a:lnTo>
                  <a:lnTo>
                    <a:pt x="1251" y="2200"/>
                  </a:lnTo>
                  <a:lnTo>
                    <a:pt x="1220" y="2204"/>
                  </a:lnTo>
                  <a:lnTo>
                    <a:pt x="1188" y="2206"/>
                  </a:lnTo>
                  <a:lnTo>
                    <a:pt x="1157" y="2207"/>
                  </a:lnTo>
                  <a:lnTo>
                    <a:pt x="1125" y="2207"/>
                  </a:lnTo>
                  <a:lnTo>
                    <a:pt x="1070" y="2206"/>
                  </a:lnTo>
                  <a:lnTo>
                    <a:pt x="1014" y="2201"/>
                  </a:lnTo>
                  <a:lnTo>
                    <a:pt x="960" y="2195"/>
                  </a:lnTo>
                  <a:lnTo>
                    <a:pt x="906" y="2185"/>
                  </a:lnTo>
                  <a:lnTo>
                    <a:pt x="855" y="2173"/>
                  </a:lnTo>
                  <a:lnTo>
                    <a:pt x="803" y="2158"/>
                  </a:lnTo>
                  <a:lnTo>
                    <a:pt x="753" y="2142"/>
                  </a:lnTo>
                  <a:lnTo>
                    <a:pt x="703" y="2123"/>
                  </a:lnTo>
                  <a:lnTo>
                    <a:pt x="656" y="2101"/>
                  </a:lnTo>
                  <a:lnTo>
                    <a:pt x="609" y="2076"/>
                  </a:lnTo>
                  <a:lnTo>
                    <a:pt x="564" y="2050"/>
                  </a:lnTo>
                  <a:lnTo>
                    <a:pt x="520" y="2022"/>
                  </a:lnTo>
                  <a:lnTo>
                    <a:pt x="477" y="1992"/>
                  </a:lnTo>
                  <a:lnTo>
                    <a:pt x="436" y="1960"/>
                  </a:lnTo>
                  <a:lnTo>
                    <a:pt x="396" y="1926"/>
                  </a:lnTo>
                  <a:lnTo>
                    <a:pt x="360" y="1890"/>
                  </a:lnTo>
                  <a:lnTo>
                    <a:pt x="323" y="1853"/>
                  </a:lnTo>
                  <a:lnTo>
                    <a:pt x="289" y="1814"/>
                  </a:lnTo>
                  <a:lnTo>
                    <a:pt x="257" y="1773"/>
                  </a:lnTo>
                  <a:lnTo>
                    <a:pt x="227" y="1729"/>
                  </a:lnTo>
                  <a:lnTo>
                    <a:pt x="199" y="1686"/>
                  </a:lnTo>
                  <a:lnTo>
                    <a:pt x="173" y="1641"/>
                  </a:lnTo>
                  <a:lnTo>
                    <a:pt x="149" y="1593"/>
                  </a:lnTo>
                  <a:lnTo>
                    <a:pt x="127" y="1546"/>
                  </a:lnTo>
                  <a:lnTo>
                    <a:pt x="108" y="1497"/>
                  </a:lnTo>
                  <a:lnTo>
                    <a:pt x="91" y="1447"/>
                  </a:lnTo>
                  <a:lnTo>
                    <a:pt x="75" y="1395"/>
                  </a:lnTo>
                  <a:lnTo>
                    <a:pt x="64" y="1343"/>
                  </a:lnTo>
                  <a:lnTo>
                    <a:pt x="54" y="1289"/>
                  </a:lnTo>
                  <a:lnTo>
                    <a:pt x="47" y="1235"/>
                  </a:lnTo>
                  <a:lnTo>
                    <a:pt x="43" y="1180"/>
                  </a:lnTo>
                  <a:lnTo>
                    <a:pt x="42" y="1125"/>
                  </a:lnTo>
                  <a:lnTo>
                    <a:pt x="43" y="1069"/>
                  </a:lnTo>
                  <a:lnTo>
                    <a:pt x="47" y="1013"/>
                  </a:lnTo>
                  <a:lnTo>
                    <a:pt x="54" y="959"/>
                  </a:lnTo>
                  <a:lnTo>
                    <a:pt x="64" y="907"/>
                  </a:lnTo>
                  <a:lnTo>
                    <a:pt x="75" y="854"/>
                  </a:lnTo>
                  <a:lnTo>
                    <a:pt x="91" y="803"/>
                  </a:lnTo>
                  <a:lnTo>
                    <a:pt x="108" y="752"/>
                  </a:lnTo>
                  <a:lnTo>
                    <a:pt x="127" y="702"/>
                  </a:lnTo>
                  <a:lnTo>
                    <a:pt x="149" y="655"/>
                  </a:lnTo>
                  <a:lnTo>
                    <a:pt x="173" y="608"/>
                  </a:lnTo>
                  <a:lnTo>
                    <a:pt x="199" y="563"/>
                  </a:lnTo>
                  <a:lnTo>
                    <a:pt x="227" y="519"/>
                  </a:lnTo>
                  <a:lnTo>
                    <a:pt x="257" y="477"/>
                  </a:lnTo>
                  <a:lnTo>
                    <a:pt x="289" y="436"/>
                  </a:lnTo>
                  <a:lnTo>
                    <a:pt x="323" y="397"/>
                  </a:lnTo>
                  <a:lnTo>
                    <a:pt x="360" y="359"/>
                  </a:lnTo>
                  <a:lnTo>
                    <a:pt x="396" y="323"/>
                  </a:lnTo>
                  <a:lnTo>
                    <a:pt x="436" y="289"/>
                  </a:lnTo>
                  <a:lnTo>
                    <a:pt x="477" y="256"/>
                  </a:lnTo>
                  <a:lnTo>
                    <a:pt x="520" y="226"/>
                  </a:lnTo>
                  <a:lnTo>
                    <a:pt x="564" y="198"/>
                  </a:lnTo>
                  <a:lnTo>
                    <a:pt x="609" y="172"/>
                  </a:lnTo>
                  <a:lnTo>
                    <a:pt x="656" y="148"/>
                  </a:lnTo>
                  <a:lnTo>
                    <a:pt x="703" y="127"/>
                  </a:lnTo>
                  <a:lnTo>
                    <a:pt x="753" y="107"/>
                  </a:lnTo>
                  <a:lnTo>
                    <a:pt x="803" y="90"/>
                  </a:lnTo>
                  <a:lnTo>
                    <a:pt x="855" y="76"/>
                  </a:lnTo>
                  <a:lnTo>
                    <a:pt x="906" y="63"/>
                  </a:lnTo>
                  <a:lnTo>
                    <a:pt x="960" y="54"/>
                  </a:lnTo>
                  <a:lnTo>
                    <a:pt x="1014" y="47"/>
                  </a:lnTo>
                  <a:lnTo>
                    <a:pt x="1070" y="43"/>
                  </a:lnTo>
                  <a:lnTo>
                    <a:pt x="1125" y="41"/>
                  </a:lnTo>
                  <a:lnTo>
                    <a:pt x="1181" y="43"/>
                  </a:lnTo>
                  <a:lnTo>
                    <a:pt x="1236" y="47"/>
                  </a:lnTo>
                  <a:lnTo>
                    <a:pt x="1290" y="54"/>
                  </a:lnTo>
                  <a:lnTo>
                    <a:pt x="1344" y="63"/>
                  </a:lnTo>
                  <a:lnTo>
                    <a:pt x="1396" y="76"/>
                  </a:lnTo>
                  <a:lnTo>
                    <a:pt x="1448" y="90"/>
                  </a:lnTo>
                  <a:lnTo>
                    <a:pt x="1497" y="107"/>
                  </a:lnTo>
                  <a:lnTo>
                    <a:pt x="1547" y="127"/>
                  </a:lnTo>
                  <a:lnTo>
                    <a:pt x="1595" y="148"/>
                  </a:lnTo>
                  <a:lnTo>
                    <a:pt x="1641" y="172"/>
                  </a:lnTo>
                  <a:lnTo>
                    <a:pt x="1687" y="198"/>
                  </a:lnTo>
                  <a:lnTo>
                    <a:pt x="1731" y="226"/>
                  </a:lnTo>
                  <a:lnTo>
                    <a:pt x="1773" y="256"/>
                  </a:lnTo>
                  <a:lnTo>
                    <a:pt x="1814" y="289"/>
                  </a:lnTo>
                  <a:lnTo>
                    <a:pt x="1854" y="323"/>
                  </a:lnTo>
                  <a:lnTo>
                    <a:pt x="1891" y="359"/>
                  </a:lnTo>
                  <a:lnTo>
                    <a:pt x="1927" y="397"/>
                  </a:lnTo>
                  <a:lnTo>
                    <a:pt x="1961" y="436"/>
                  </a:lnTo>
                  <a:lnTo>
                    <a:pt x="1993" y="477"/>
                  </a:lnTo>
                  <a:lnTo>
                    <a:pt x="2024" y="519"/>
                  </a:lnTo>
                  <a:lnTo>
                    <a:pt x="2052" y="563"/>
                  </a:lnTo>
                  <a:lnTo>
                    <a:pt x="2078" y="608"/>
                  </a:lnTo>
                  <a:lnTo>
                    <a:pt x="2101" y="655"/>
                  </a:lnTo>
                  <a:lnTo>
                    <a:pt x="2123" y="702"/>
                  </a:lnTo>
                  <a:lnTo>
                    <a:pt x="2143" y="752"/>
                  </a:lnTo>
                  <a:lnTo>
                    <a:pt x="2160" y="803"/>
                  </a:lnTo>
                  <a:lnTo>
                    <a:pt x="2175" y="854"/>
                  </a:lnTo>
                  <a:lnTo>
                    <a:pt x="2187" y="907"/>
                  </a:lnTo>
                  <a:lnTo>
                    <a:pt x="2197" y="959"/>
                  </a:lnTo>
                  <a:lnTo>
                    <a:pt x="2203" y="1013"/>
                  </a:lnTo>
                  <a:lnTo>
                    <a:pt x="2207" y="1069"/>
                  </a:lnTo>
                  <a:lnTo>
                    <a:pt x="2208" y="1125"/>
                  </a:lnTo>
                  <a:lnTo>
                    <a:pt x="2208" y="1160"/>
                  </a:lnTo>
                  <a:lnTo>
                    <a:pt x="2206" y="1197"/>
                  </a:lnTo>
                  <a:lnTo>
                    <a:pt x="2203" y="1233"/>
                  </a:lnTo>
                  <a:lnTo>
                    <a:pt x="2199" y="1268"/>
                  </a:lnTo>
                  <a:lnTo>
                    <a:pt x="2193" y="1303"/>
                  </a:lnTo>
                  <a:lnTo>
                    <a:pt x="2188" y="1337"/>
                  </a:lnTo>
                  <a:lnTo>
                    <a:pt x="2180" y="1372"/>
                  </a:lnTo>
                  <a:lnTo>
                    <a:pt x="2172" y="1405"/>
                  </a:lnTo>
                  <a:lnTo>
                    <a:pt x="2212" y="1416"/>
                  </a:lnTo>
                  <a:lnTo>
                    <a:pt x="2220" y="1382"/>
                  </a:lnTo>
                  <a:lnTo>
                    <a:pt x="2228" y="1346"/>
                  </a:lnTo>
                  <a:lnTo>
                    <a:pt x="2235" y="1310"/>
                  </a:lnTo>
                  <a:lnTo>
                    <a:pt x="2241" y="1274"/>
                  </a:lnTo>
                  <a:lnTo>
                    <a:pt x="2245" y="1237"/>
                  </a:lnTo>
                  <a:lnTo>
                    <a:pt x="2247" y="1199"/>
                  </a:lnTo>
                  <a:lnTo>
                    <a:pt x="2249" y="1162"/>
                  </a:lnTo>
                  <a:lnTo>
                    <a:pt x="2251" y="1125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135320" y="2558880"/>
              <a:ext cx="876240" cy="876240"/>
            </a:xfrm>
            <a:custGeom>
              <a:avLst/>
              <a:gdLst/>
              <a:ahLst/>
              <a:rect l="l" t="t" r="r" b="b"/>
              <a:pathLst>
                <a:path w="2208" h="2207">
                  <a:moveTo>
                    <a:pt x="2208" y="1104"/>
                  </a:moveTo>
                  <a:lnTo>
                    <a:pt x="2207" y="1046"/>
                  </a:lnTo>
                  <a:lnTo>
                    <a:pt x="2203" y="990"/>
                  </a:lnTo>
                  <a:lnTo>
                    <a:pt x="2196" y="935"/>
                  </a:lnTo>
                  <a:lnTo>
                    <a:pt x="2186" y="881"/>
                  </a:lnTo>
                  <a:lnTo>
                    <a:pt x="2173" y="827"/>
                  </a:lnTo>
                  <a:lnTo>
                    <a:pt x="2158" y="775"/>
                  </a:lnTo>
                  <a:lnTo>
                    <a:pt x="2141" y="724"/>
                  </a:lnTo>
                  <a:lnTo>
                    <a:pt x="2122" y="674"/>
                  </a:lnTo>
                  <a:lnTo>
                    <a:pt x="2100" y="625"/>
                  </a:lnTo>
                  <a:lnTo>
                    <a:pt x="2075" y="578"/>
                  </a:lnTo>
                  <a:lnTo>
                    <a:pt x="2048" y="531"/>
                  </a:lnTo>
                  <a:lnTo>
                    <a:pt x="2020" y="486"/>
                  </a:lnTo>
                  <a:lnTo>
                    <a:pt x="1989" y="443"/>
                  </a:lnTo>
                  <a:lnTo>
                    <a:pt x="1956" y="402"/>
                  </a:lnTo>
                  <a:lnTo>
                    <a:pt x="1922" y="362"/>
                  </a:lnTo>
                  <a:lnTo>
                    <a:pt x="1885" y="323"/>
                  </a:lnTo>
                  <a:lnTo>
                    <a:pt x="1847" y="286"/>
                  </a:lnTo>
                  <a:lnTo>
                    <a:pt x="1806" y="252"/>
                  </a:lnTo>
                  <a:lnTo>
                    <a:pt x="1765" y="219"/>
                  </a:lnTo>
                  <a:lnTo>
                    <a:pt x="1722" y="188"/>
                  </a:lnTo>
                  <a:lnTo>
                    <a:pt x="1676" y="160"/>
                  </a:lnTo>
                  <a:lnTo>
                    <a:pt x="1631" y="133"/>
                  </a:lnTo>
                  <a:lnTo>
                    <a:pt x="1582" y="109"/>
                  </a:lnTo>
                  <a:lnTo>
                    <a:pt x="1534" y="86"/>
                  </a:lnTo>
                  <a:lnTo>
                    <a:pt x="1484" y="67"/>
                  </a:lnTo>
                  <a:lnTo>
                    <a:pt x="1432" y="50"/>
                  </a:lnTo>
                  <a:lnTo>
                    <a:pt x="1380" y="34"/>
                  </a:lnTo>
                  <a:lnTo>
                    <a:pt x="1326" y="23"/>
                  </a:lnTo>
                  <a:lnTo>
                    <a:pt x="1272" y="13"/>
                  </a:lnTo>
                  <a:lnTo>
                    <a:pt x="1217" y="5"/>
                  </a:lnTo>
                  <a:lnTo>
                    <a:pt x="1161" y="1"/>
                  </a:lnTo>
                  <a:lnTo>
                    <a:pt x="1104" y="0"/>
                  </a:lnTo>
                  <a:lnTo>
                    <a:pt x="1047" y="1"/>
                  </a:lnTo>
                  <a:lnTo>
                    <a:pt x="991" y="5"/>
                  </a:lnTo>
                  <a:lnTo>
                    <a:pt x="936" y="13"/>
                  </a:lnTo>
                  <a:lnTo>
                    <a:pt x="882" y="23"/>
                  </a:lnTo>
                  <a:lnTo>
                    <a:pt x="828" y="34"/>
                  </a:lnTo>
                  <a:lnTo>
                    <a:pt x="776" y="50"/>
                  </a:lnTo>
                  <a:lnTo>
                    <a:pt x="724" y="67"/>
                  </a:lnTo>
                  <a:lnTo>
                    <a:pt x="675" y="86"/>
                  </a:lnTo>
                  <a:lnTo>
                    <a:pt x="625" y="109"/>
                  </a:lnTo>
                  <a:lnTo>
                    <a:pt x="577" y="133"/>
                  </a:lnTo>
                  <a:lnTo>
                    <a:pt x="532" y="160"/>
                  </a:lnTo>
                  <a:lnTo>
                    <a:pt x="487" y="188"/>
                  </a:lnTo>
                  <a:lnTo>
                    <a:pt x="443" y="219"/>
                  </a:lnTo>
                  <a:lnTo>
                    <a:pt x="401" y="252"/>
                  </a:lnTo>
                  <a:lnTo>
                    <a:pt x="361" y="286"/>
                  </a:lnTo>
                  <a:lnTo>
                    <a:pt x="323" y="323"/>
                  </a:lnTo>
                  <a:lnTo>
                    <a:pt x="287" y="362"/>
                  </a:lnTo>
                  <a:lnTo>
                    <a:pt x="252" y="402"/>
                  </a:lnTo>
                  <a:lnTo>
                    <a:pt x="220" y="443"/>
                  </a:lnTo>
                  <a:lnTo>
                    <a:pt x="188" y="486"/>
                  </a:lnTo>
                  <a:lnTo>
                    <a:pt x="160" y="531"/>
                  </a:lnTo>
                  <a:lnTo>
                    <a:pt x="133" y="578"/>
                  </a:lnTo>
                  <a:lnTo>
                    <a:pt x="108" y="625"/>
                  </a:lnTo>
                  <a:lnTo>
                    <a:pt x="87" y="674"/>
                  </a:lnTo>
                  <a:lnTo>
                    <a:pt x="67" y="724"/>
                  </a:lnTo>
                  <a:lnTo>
                    <a:pt x="50" y="775"/>
                  </a:lnTo>
                  <a:lnTo>
                    <a:pt x="35" y="827"/>
                  </a:lnTo>
                  <a:lnTo>
                    <a:pt x="22" y="881"/>
                  </a:lnTo>
                  <a:lnTo>
                    <a:pt x="12" y="935"/>
                  </a:lnTo>
                  <a:lnTo>
                    <a:pt x="6" y="990"/>
                  </a:lnTo>
                  <a:lnTo>
                    <a:pt x="1" y="1046"/>
                  </a:lnTo>
                  <a:lnTo>
                    <a:pt x="0" y="1104"/>
                  </a:lnTo>
                  <a:lnTo>
                    <a:pt x="1" y="1160"/>
                  </a:lnTo>
                  <a:lnTo>
                    <a:pt x="6" y="1216"/>
                  </a:lnTo>
                  <a:lnTo>
                    <a:pt x="12" y="1271"/>
                  </a:lnTo>
                  <a:lnTo>
                    <a:pt x="22" y="1326"/>
                  </a:lnTo>
                  <a:lnTo>
                    <a:pt x="35" y="1379"/>
                  </a:lnTo>
                  <a:lnTo>
                    <a:pt x="50" y="1432"/>
                  </a:lnTo>
                  <a:lnTo>
                    <a:pt x="67" y="1483"/>
                  </a:lnTo>
                  <a:lnTo>
                    <a:pt x="87" y="1534"/>
                  </a:lnTo>
                  <a:lnTo>
                    <a:pt x="108" y="1582"/>
                  </a:lnTo>
                  <a:lnTo>
                    <a:pt x="133" y="1630"/>
                  </a:lnTo>
                  <a:lnTo>
                    <a:pt x="160" y="1676"/>
                  </a:lnTo>
                  <a:lnTo>
                    <a:pt x="188" y="1720"/>
                  </a:lnTo>
                  <a:lnTo>
                    <a:pt x="220" y="1764"/>
                  </a:lnTo>
                  <a:lnTo>
                    <a:pt x="252" y="1806"/>
                  </a:lnTo>
                  <a:lnTo>
                    <a:pt x="287" y="1846"/>
                  </a:lnTo>
                  <a:lnTo>
                    <a:pt x="323" y="1883"/>
                  </a:lnTo>
                  <a:lnTo>
                    <a:pt x="361" y="1920"/>
                  </a:lnTo>
                  <a:lnTo>
                    <a:pt x="401" y="1955"/>
                  </a:lnTo>
                  <a:lnTo>
                    <a:pt x="443" y="1988"/>
                  </a:lnTo>
                  <a:lnTo>
                    <a:pt x="487" y="2018"/>
                  </a:lnTo>
                  <a:lnTo>
                    <a:pt x="532" y="2048"/>
                  </a:lnTo>
                  <a:lnTo>
                    <a:pt x="577" y="2074"/>
                  </a:lnTo>
                  <a:lnTo>
                    <a:pt x="625" y="2098"/>
                  </a:lnTo>
                  <a:lnTo>
                    <a:pt x="675" y="2120"/>
                  </a:lnTo>
                  <a:lnTo>
                    <a:pt x="724" y="2140"/>
                  </a:lnTo>
                  <a:lnTo>
                    <a:pt x="776" y="2158"/>
                  </a:lnTo>
                  <a:lnTo>
                    <a:pt x="828" y="2173"/>
                  </a:lnTo>
                  <a:lnTo>
                    <a:pt x="882" y="2185"/>
                  </a:lnTo>
                  <a:lnTo>
                    <a:pt x="936" y="2194"/>
                  </a:lnTo>
                  <a:lnTo>
                    <a:pt x="991" y="2201"/>
                  </a:lnTo>
                  <a:lnTo>
                    <a:pt x="1047" y="2205"/>
                  </a:lnTo>
                  <a:lnTo>
                    <a:pt x="1104" y="2207"/>
                  </a:lnTo>
                  <a:lnTo>
                    <a:pt x="1137" y="2206"/>
                  </a:lnTo>
                  <a:lnTo>
                    <a:pt x="1168" y="2205"/>
                  </a:lnTo>
                  <a:lnTo>
                    <a:pt x="1201" y="2203"/>
                  </a:lnTo>
                  <a:lnTo>
                    <a:pt x="1232" y="2200"/>
                  </a:lnTo>
                  <a:lnTo>
                    <a:pt x="1264" y="2196"/>
                  </a:lnTo>
                  <a:lnTo>
                    <a:pt x="1295" y="2190"/>
                  </a:lnTo>
                  <a:lnTo>
                    <a:pt x="1326" y="2185"/>
                  </a:lnTo>
                  <a:lnTo>
                    <a:pt x="1356" y="2178"/>
                  </a:lnTo>
                  <a:lnTo>
                    <a:pt x="1387" y="2171"/>
                  </a:lnTo>
                  <a:lnTo>
                    <a:pt x="1417" y="2162"/>
                  </a:lnTo>
                  <a:lnTo>
                    <a:pt x="1446" y="2153"/>
                  </a:lnTo>
                  <a:lnTo>
                    <a:pt x="1475" y="2143"/>
                  </a:lnTo>
                  <a:lnTo>
                    <a:pt x="1505" y="2133"/>
                  </a:lnTo>
                  <a:lnTo>
                    <a:pt x="1533" y="2121"/>
                  </a:lnTo>
                  <a:lnTo>
                    <a:pt x="1561" y="2109"/>
                  </a:lnTo>
                  <a:lnTo>
                    <a:pt x="1589" y="2095"/>
                  </a:lnTo>
                  <a:lnTo>
                    <a:pt x="1570" y="2058"/>
                  </a:lnTo>
                  <a:lnTo>
                    <a:pt x="1543" y="2070"/>
                  </a:lnTo>
                  <a:lnTo>
                    <a:pt x="1516" y="2082"/>
                  </a:lnTo>
                  <a:lnTo>
                    <a:pt x="1489" y="2094"/>
                  </a:lnTo>
                  <a:lnTo>
                    <a:pt x="1461" y="2104"/>
                  </a:lnTo>
                  <a:lnTo>
                    <a:pt x="1433" y="2113"/>
                  </a:lnTo>
                  <a:lnTo>
                    <a:pt x="1405" y="2122"/>
                  </a:lnTo>
                  <a:lnTo>
                    <a:pt x="1376" y="2131"/>
                  </a:lnTo>
                  <a:lnTo>
                    <a:pt x="1347" y="2137"/>
                  </a:lnTo>
                  <a:lnTo>
                    <a:pt x="1318" y="2144"/>
                  </a:lnTo>
                  <a:lnTo>
                    <a:pt x="1288" y="2149"/>
                  </a:lnTo>
                  <a:lnTo>
                    <a:pt x="1258" y="2155"/>
                  </a:lnTo>
                  <a:lnTo>
                    <a:pt x="1228" y="2159"/>
                  </a:lnTo>
                  <a:lnTo>
                    <a:pt x="1198" y="2161"/>
                  </a:lnTo>
                  <a:lnTo>
                    <a:pt x="1166" y="2163"/>
                  </a:lnTo>
                  <a:lnTo>
                    <a:pt x="1135" y="2165"/>
                  </a:lnTo>
                  <a:lnTo>
                    <a:pt x="1104" y="2165"/>
                  </a:lnTo>
                  <a:lnTo>
                    <a:pt x="1050" y="2164"/>
                  </a:lnTo>
                  <a:lnTo>
                    <a:pt x="996" y="2160"/>
                  </a:lnTo>
                  <a:lnTo>
                    <a:pt x="943" y="2153"/>
                  </a:lnTo>
                  <a:lnTo>
                    <a:pt x="890" y="2144"/>
                  </a:lnTo>
                  <a:lnTo>
                    <a:pt x="839" y="2132"/>
                  </a:lnTo>
                  <a:lnTo>
                    <a:pt x="788" y="2118"/>
                  </a:lnTo>
                  <a:lnTo>
                    <a:pt x="738" y="2101"/>
                  </a:lnTo>
                  <a:lnTo>
                    <a:pt x="691" y="2082"/>
                  </a:lnTo>
                  <a:lnTo>
                    <a:pt x="643" y="2061"/>
                  </a:lnTo>
                  <a:lnTo>
                    <a:pt x="598" y="2037"/>
                  </a:lnTo>
                  <a:lnTo>
                    <a:pt x="554" y="2012"/>
                  </a:lnTo>
                  <a:lnTo>
                    <a:pt x="510" y="1984"/>
                  </a:lnTo>
                  <a:lnTo>
                    <a:pt x="468" y="1955"/>
                  </a:lnTo>
                  <a:lnTo>
                    <a:pt x="428" y="1923"/>
                  </a:lnTo>
                  <a:lnTo>
                    <a:pt x="389" y="1890"/>
                  </a:lnTo>
                  <a:lnTo>
                    <a:pt x="353" y="1854"/>
                  </a:lnTo>
                  <a:lnTo>
                    <a:pt x="318" y="1818"/>
                  </a:lnTo>
                  <a:lnTo>
                    <a:pt x="285" y="1779"/>
                  </a:lnTo>
                  <a:lnTo>
                    <a:pt x="252" y="1739"/>
                  </a:lnTo>
                  <a:lnTo>
                    <a:pt x="223" y="1698"/>
                  </a:lnTo>
                  <a:lnTo>
                    <a:pt x="195" y="1654"/>
                  </a:lnTo>
                  <a:lnTo>
                    <a:pt x="170" y="1609"/>
                  </a:lnTo>
                  <a:lnTo>
                    <a:pt x="146" y="1564"/>
                  </a:lnTo>
                  <a:lnTo>
                    <a:pt x="125" y="1517"/>
                  </a:lnTo>
                  <a:lnTo>
                    <a:pt x="106" y="1469"/>
                  </a:lnTo>
                  <a:lnTo>
                    <a:pt x="89" y="1419"/>
                  </a:lnTo>
                  <a:lnTo>
                    <a:pt x="75" y="1369"/>
                  </a:lnTo>
                  <a:lnTo>
                    <a:pt x="63" y="1318"/>
                  </a:lnTo>
                  <a:lnTo>
                    <a:pt x="53" y="1266"/>
                  </a:lnTo>
                  <a:lnTo>
                    <a:pt x="47" y="1212"/>
                  </a:lnTo>
                  <a:lnTo>
                    <a:pt x="43" y="1158"/>
                  </a:lnTo>
                  <a:lnTo>
                    <a:pt x="41" y="1104"/>
                  </a:lnTo>
                  <a:lnTo>
                    <a:pt x="43" y="1049"/>
                  </a:lnTo>
                  <a:lnTo>
                    <a:pt x="47" y="995"/>
                  </a:lnTo>
                  <a:lnTo>
                    <a:pt x="53" y="942"/>
                  </a:lnTo>
                  <a:lnTo>
                    <a:pt x="63" y="890"/>
                  </a:lnTo>
                  <a:lnTo>
                    <a:pt x="75" y="838"/>
                  </a:lnTo>
                  <a:lnTo>
                    <a:pt x="89" y="787"/>
                  </a:lnTo>
                  <a:lnTo>
                    <a:pt x="106" y="739"/>
                  </a:lnTo>
                  <a:lnTo>
                    <a:pt x="125" y="690"/>
                  </a:lnTo>
                  <a:lnTo>
                    <a:pt x="146" y="643"/>
                  </a:lnTo>
                  <a:lnTo>
                    <a:pt x="170" y="597"/>
                  </a:lnTo>
                  <a:lnTo>
                    <a:pt x="195" y="553"/>
                  </a:lnTo>
                  <a:lnTo>
                    <a:pt x="223" y="510"/>
                  </a:lnTo>
                  <a:lnTo>
                    <a:pt x="252" y="468"/>
                  </a:lnTo>
                  <a:lnTo>
                    <a:pt x="285" y="428"/>
                  </a:lnTo>
                  <a:lnTo>
                    <a:pt x="318" y="390"/>
                  </a:lnTo>
                  <a:lnTo>
                    <a:pt x="353" y="352"/>
                  </a:lnTo>
                  <a:lnTo>
                    <a:pt x="389" y="317"/>
                  </a:lnTo>
                  <a:lnTo>
                    <a:pt x="428" y="284"/>
                  </a:lnTo>
                  <a:lnTo>
                    <a:pt x="468" y="253"/>
                  </a:lnTo>
                  <a:lnTo>
                    <a:pt x="510" y="222"/>
                  </a:lnTo>
                  <a:lnTo>
                    <a:pt x="554" y="195"/>
                  </a:lnTo>
                  <a:lnTo>
                    <a:pt x="598" y="169"/>
                  </a:lnTo>
                  <a:lnTo>
                    <a:pt x="643" y="146"/>
                  </a:lnTo>
                  <a:lnTo>
                    <a:pt x="691" y="125"/>
                  </a:lnTo>
                  <a:lnTo>
                    <a:pt x="738" y="106"/>
                  </a:lnTo>
                  <a:lnTo>
                    <a:pt x="788" y="90"/>
                  </a:lnTo>
                  <a:lnTo>
                    <a:pt x="839" y="74"/>
                  </a:lnTo>
                  <a:lnTo>
                    <a:pt x="890" y="63"/>
                  </a:lnTo>
                  <a:lnTo>
                    <a:pt x="943" y="54"/>
                  </a:lnTo>
                  <a:lnTo>
                    <a:pt x="996" y="46"/>
                  </a:lnTo>
                  <a:lnTo>
                    <a:pt x="1050" y="43"/>
                  </a:lnTo>
                  <a:lnTo>
                    <a:pt x="1104" y="41"/>
                  </a:lnTo>
                  <a:lnTo>
                    <a:pt x="1159" y="43"/>
                  </a:lnTo>
                  <a:lnTo>
                    <a:pt x="1213" y="46"/>
                  </a:lnTo>
                  <a:lnTo>
                    <a:pt x="1266" y="54"/>
                  </a:lnTo>
                  <a:lnTo>
                    <a:pt x="1319" y="63"/>
                  </a:lnTo>
                  <a:lnTo>
                    <a:pt x="1369" y="74"/>
                  </a:lnTo>
                  <a:lnTo>
                    <a:pt x="1420" y="90"/>
                  </a:lnTo>
                  <a:lnTo>
                    <a:pt x="1470" y="106"/>
                  </a:lnTo>
                  <a:lnTo>
                    <a:pt x="1517" y="125"/>
                  </a:lnTo>
                  <a:lnTo>
                    <a:pt x="1565" y="146"/>
                  </a:lnTo>
                  <a:lnTo>
                    <a:pt x="1610" y="169"/>
                  </a:lnTo>
                  <a:lnTo>
                    <a:pt x="1655" y="195"/>
                  </a:lnTo>
                  <a:lnTo>
                    <a:pt x="1698" y="222"/>
                  </a:lnTo>
                  <a:lnTo>
                    <a:pt x="1740" y="253"/>
                  </a:lnTo>
                  <a:lnTo>
                    <a:pt x="1780" y="284"/>
                  </a:lnTo>
                  <a:lnTo>
                    <a:pt x="1819" y="317"/>
                  </a:lnTo>
                  <a:lnTo>
                    <a:pt x="1856" y="352"/>
                  </a:lnTo>
                  <a:lnTo>
                    <a:pt x="1890" y="390"/>
                  </a:lnTo>
                  <a:lnTo>
                    <a:pt x="1924" y="428"/>
                  </a:lnTo>
                  <a:lnTo>
                    <a:pt x="1955" y="468"/>
                  </a:lnTo>
                  <a:lnTo>
                    <a:pt x="1985" y="510"/>
                  </a:lnTo>
                  <a:lnTo>
                    <a:pt x="2012" y="553"/>
                  </a:lnTo>
                  <a:lnTo>
                    <a:pt x="2038" y="597"/>
                  </a:lnTo>
                  <a:lnTo>
                    <a:pt x="2062" y="643"/>
                  </a:lnTo>
                  <a:lnTo>
                    <a:pt x="2084" y="690"/>
                  </a:lnTo>
                  <a:lnTo>
                    <a:pt x="2102" y="739"/>
                  </a:lnTo>
                  <a:lnTo>
                    <a:pt x="2119" y="787"/>
                  </a:lnTo>
                  <a:lnTo>
                    <a:pt x="2133" y="838"/>
                  </a:lnTo>
                  <a:lnTo>
                    <a:pt x="2145" y="890"/>
                  </a:lnTo>
                  <a:lnTo>
                    <a:pt x="2154" y="942"/>
                  </a:lnTo>
                  <a:lnTo>
                    <a:pt x="2161" y="995"/>
                  </a:lnTo>
                  <a:lnTo>
                    <a:pt x="2166" y="1049"/>
                  </a:lnTo>
                  <a:lnTo>
                    <a:pt x="2167" y="1104"/>
                  </a:lnTo>
                  <a:lnTo>
                    <a:pt x="2166" y="1139"/>
                  </a:lnTo>
                  <a:lnTo>
                    <a:pt x="2165" y="1175"/>
                  </a:lnTo>
                  <a:lnTo>
                    <a:pt x="2161" y="1210"/>
                  </a:lnTo>
                  <a:lnTo>
                    <a:pt x="2157" y="1244"/>
                  </a:lnTo>
                  <a:lnTo>
                    <a:pt x="2152" y="1279"/>
                  </a:lnTo>
                  <a:lnTo>
                    <a:pt x="2146" y="1312"/>
                  </a:lnTo>
                  <a:lnTo>
                    <a:pt x="2139" y="1347"/>
                  </a:lnTo>
                  <a:lnTo>
                    <a:pt x="2130" y="1379"/>
                  </a:lnTo>
                  <a:lnTo>
                    <a:pt x="2170" y="1390"/>
                  </a:lnTo>
                  <a:lnTo>
                    <a:pt x="2179" y="1355"/>
                  </a:lnTo>
                  <a:lnTo>
                    <a:pt x="2186" y="1321"/>
                  </a:lnTo>
                  <a:lnTo>
                    <a:pt x="2193" y="1285"/>
                  </a:lnTo>
                  <a:lnTo>
                    <a:pt x="2198" y="1249"/>
                  </a:lnTo>
                  <a:lnTo>
                    <a:pt x="2203" y="1214"/>
                  </a:lnTo>
                  <a:lnTo>
                    <a:pt x="2206" y="1177"/>
                  </a:lnTo>
                  <a:lnTo>
                    <a:pt x="2208" y="1140"/>
                  </a:lnTo>
                  <a:lnTo>
                    <a:pt x="2208" y="1104"/>
                  </a:lnTo>
                  <a:close/>
                </a:path>
              </a:pathLst>
            </a:custGeom>
            <a:solidFill>
              <a:srgbClr val="ede0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143240" y="2566800"/>
              <a:ext cx="860400" cy="860400"/>
            </a:xfrm>
            <a:custGeom>
              <a:avLst/>
              <a:gdLst/>
              <a:ahLst/>
              <a:rect l="l" t="t" r="r" b="b"/>
              <a:pathLst>
                <a:path w="2166" h="2166">
                  <a:moveTo>
                    <a:pt x="2166" y="1084"/>
                  </a:moveTo>
                  <a:lnTo>
                    <a:pt x="2165" y="1028"/>
                  </a:lnTo>
                  <a:lnTo>
                    <a:pt x="2161" y="972"/>
                  </a:lnTo>
                  <a:lnTo>
                    <a:pt x="2155" y="918"/>
                  </a:lnTo>
                  <a:lnTo>
                    <a:pt x="2145" y="866"/>
                  </a:lnTo>
                  <a:lnTo>
                    <a:pt x="2133" y="813"/>
                  </a:lnTo>
                  <a:lnTo>
                    <a:pt x="2118" y="762"/>
                  </a:lnTo>
                  <a:lnTo>
                    <a:pt x="2101" y="711"/>
                  </a:lnTo>
                  <a:lnTo>
                    <a:pt x="2081" y="661"/>
                  </a:lnTo>
                  <a:lnTo>
                    <a:pt x="2059" y="614"/>
                  </a:lnTo>
                  <a:lnTo>
                    <a:pt x="2036" y="567"/>
                  </a:lnTo>
                  <a:lnTo>
                    <a:pt x="2010" y="522"/>
                  </a:lnTo>
                  <a:lnTo>
                    <a:pt x="1982" y="478"/>
                  </a:lnTo>
                  <a:lnTo>
                    <a:pt x="1951" y="436"/>
                  </a:lnTo>
                  <a:lnTo>
                    <a:pt x="1919" y="395"/>
                  </a:lnTo>
                  <a:lnTo>
                    <a:pt x="1885" y="356"/>
                  </a:lnTo>
                  <a:lnTo>
                    <a:pt x="1849" y="318"/>
                  </a:lnTo>
                  <a:lnTo>
                    <a:pt x="1812" y="282"/>
                  </a:lnTo>
                  <a:lnTo>
                    <a:pt x="1772" y="248"/>
                  </a:lnTo>
                  <a:lnTo>
                    <a:pt x="1731" y="215"/>
                  </a:lnTo>
                  <a:lnTo>
                    <a:pt x="1689" y="185"/>
                  </a:lnTo>
                  <a:lnTo>
                    <a:pt x="1645" y="157"/>
                  </a:lnTo>
                  <a:lnTo>
                    <a:pt x="1599" y="131"/>
                  </a:lnTo>
                  <a:lnTo>
                    <a:pt x="1553" y="107"/>
                  </a:lnTo>
                  <a:lnTo>
                    <a:pt x="1505" y="86"/>
                  </a:lnTo>
                  <a:lnTo>
                    <a:pt x="1455" y="66"/>
                  </a:lnTo>
                  <a:lnTo>
                    <a:pt x="1406" y="49"/>
                  </a:lnTo>
                  <a:lnTo>
                    <a:pt x="1354" y="35"/>
                  </a:lnTo>
                  <a:lnTo>
                    <a:pt x="1302" y="22"/>
                  </a:lnTo>
                  <a:lnTo>
                    <a:pt x="1248" y="13"/>
                  </a:lnTo>
                  <a:lnTo>
                    <a:pt x="1194" y="6"/>
                  </a:lnTo>
                  <a:lnTo>
                    <a:pt x="1139" y="2"/>
                  </a:lnTo>
                  <a:lnTo>
                    <a:pt x="1083" y="0"/>
                  </a:lnTo>
                  <a:lnTo>
                    <a:pt x="1028" y="2"/>
                  </a:lnTo>
                  <a:lnTo>
                    <a:pt x="972" y="6"/>
                  </a:lnTo>
                  <a:lnTo>
                    <a:pt x="918" y="13"/>
                  </a:lnTo>
                  <a:lnTo>
                    <a:pt x="864" y="22"/>
                  </a:lnTo>
                  <a:lnTo>
                    <a:pt x="813" y="35"/>
                  </a:lnTo>
                  <a:lnTo>
                    <a:pt x="761" y="49"/>
                  </a:lnTo>
                  <a:lnTo>
                    <a:pt x="711" y="66"/>
                  </a:lnTo>
                  <a:lnTo>
                    <a:pt x="661" y="86"/>
                  </a:lnTo>
                  <a:lnTo>
                    <a:pt x="614" y="107"/>
                  </a:lnTo>
                  <a:lnTo>
                    <a:pt x="567" y="131"/>
                  </a:lnTo>
                  <a:lnTo>
                    <a:pt x="522" y="157"/>
                  </a:lnTo>
                  <a:lnTo>
                    <a:pt x="478" y="185"/>
                  </a:lnTo>
                  <a:lnTo>
                    <a:pt x="435" y="215"/>
                  </a:lnTo>
                  <a:lnTo>
                    <a:pt x="394" y="248"/>
                  </a:lnTo>
                  <a:lnTo>
                    <a:pt x="354" y="282"/>
                  </a:lnTo>
                  <a:lnTo>
                    <a:pt x="318" y="318"/>
                  </a:lnTo>
                  <a:lnTo>
                    <a:pt x="281" y="356"/>
                  </a:lnTo>
                  <a:lnTo>
                    <a:pt x="247" y="395"/>
                  </a:lnTo>
                  <a:lnTo>
                    <a:pt x="215" y="436"/>
                  </a:lnTo>
                  <a:lnTo>
                    <a:pt x="185" y="478"/>
                  </a:lnTo>
                  <a:lnTo>
                    <a:pt x="157" y="522"/>
                  </a:lnTo>
                  <a:lnTo>
                    <a:pt x="131" y="567"/>
                  </a:lnTo>
                  <a:lnTo>
                    <a:pt x="107" y="614"/>
                  </a:lnTo>
                  <a:lnTo>
                    <a:pt x="85" y="661"/>
                  </a:lnTo>
                  <a:lnTo>
                    <a:pt x="66" y="711"/>
                  </a:lnTo>
                  <a:lnTo>
                    <a:pt x="49" y="762"/>
                  </a:lnTo>
                  <a:lnTo>
                    <a:pt x="33" y="813"/>
                  </a:lnTo>
                  <a:lnTo>
                    <a:pt x="22" y="866"/>
                  </a:lnTo>
                  <a:lnTo>
                    <a:pt x="12" y="918"/>
                  </a:lnTo>
                  <a:lnTo>
                    <a:pt x="5" y="972"/>
                  </a:lnTo>
                  <a:lnTo>
                    <a:pt x="1" y="1028"/>
                  </a:lnTo>
                  <a:lnTo>
                    <a:pt x="0" y="1084"/>
                  </a:lnTo>
                  <a:lnTo>
                    <a:pt x="1" y="1139"/>
                  </a:lnTo>
                  <a:lnTo>
                    <a:pt x="5" y="1194"/>
                  </a:lnTo>
                  <a:lnTo>
                    <a:pt x="12" y="1248"/>
                  </a:lnTo>
                  <a:lnTo>
                    <a:pt x="22" y="1302"/>
                  </a:lnTo>
                  <a:lnTo>
                    <a:pt x="33" y="1354"/>
                  </a:lnTo>
                  <a:lnTo>
                    <a:pt x="49" y="1406"/>
                  </a:lnTo>
                  <a:lnTo>
                    <a:pt x="66" y="1456"/>
                  </a:lnTo>
                  <a:lnTo>
                    <a:pt x="85" y="1505"/>
                  </a:lnTo>
                  <a:lnTo>
                    <a:pt x="107" y="1552"/>
                  </a:lnTo>
                  <a:lnTo>
                    <a:pt x="131" y="1600"/>
                  </a:lnTo>
                  <a:lnTo>
                    <a:pt x="157" y="1645"/>
                  </a:lnTo>
                  <a:lnTo>
                    <a:pt x="185" y="1688"/>
                  </a:lnTo>
                  <a:lnTo>
                    <a:pt x="215" y="1732"/>
                  </a:lnTo>
                  <a:lnTo>
                    <a:pt x="247" y="1773"/>
                  </a:lnTo>
                  <a:lnTo>
                    <a:pt x="281" y="1812"/>
                  </a:lnTo>
                  <a:lnTo>
                    <a:pt x="318" y="1849"/>
                  </a:lnTo>
                  <a:lnTo>
                    <a:pt x="354" y="1885"/>
                  </a:lnTo>
                  <a:lnTo>
                    <a:pt x="394" y="1919"/>
                  </a:lnTo>
                  <a:lnTo>
                    <a:pt x="435" y="1951"/>
                  </a:lnTo>
                  <a:lnTo>
                    <a:pt x="478" y="1981"/>
                  </a:lnTo>
                  <a:lnTo>
                    <a:pt x="522" y="2009"/>
                  </a:lnTo>
                  <a:lnTo>
                    <a:pt x="567" y="2035"/>
                  </a:lnTo>
                  <a:lnTo>
                    <a:pt x="614" y="2060"/>
                  </a:lnTo>
                  <a:lnTo>
                    <a:pt x="661" y="2082"/>
                  </a:lnTo>
                  <a:lnTo>
                    <a:pt x="711" y="2101"/>
                  </a:lnTo>
                  <a:lnTo>
                    <a:pt x="761" y="2117"/>
                  </a:lnTo>
                  <a:lnTo>
                    <a:pt x="813" y="2132"/>
                  </a:lnTo>
                  <a:lnTo>
                    <a:pt x="864" y="2144"/>
                  </a:lnTo>
                  <a:lnTo>
                    <a:pt x="918" y="2154"/>
                  </a:lnTo>
                  <a:lnTo>
                    <a:pt x="972" y="2160"/>
                  </a:lnTo>
                  <a:lnTo>
                    <a:pt x="1028" y="2165"/>
                  </a:lnTo>
                  <a:lnTo>
                    <a:pt x="1083" y="2166"/>
                  </a:lnTo>
                  <a:lnTo>
                    <a:pt x="1115" y="2166"/>
                  </a:lnTo>
                  <a:lnTo>
                    <a:pt x="1146" y="2165"/>
                  </a:lnTo>
                  <a:lnTo>
                    <a:pt x="1178" y="2163"/>
                  </a:lnTo>
                  <a:lnTo>
                    <a:pt x="1209" y="2159"/>
                  </a:lnTo>
                  <a:lnTo>
                    <a:pt x="1240" y="2155"/>
                  </a:lnTo>
                  <a:lnTo>
                    <a:pt x="1271" y="2150"/>
                  </a:lnTo>
                  <a:lnTo>
                    <a:pt x="1301" y="2144"/>
                  </a:lnTo>
                  <a:lnTo>
                    <a:pt x="1331" y="2138"/>
                  </a:lnTo>
                  <a:lnTo>
                    <a:pt x="1360" y="2130"/>
                  </a:lnTo>
                  <a:lnTo>
                    <a:pt x="1390" y="2123"/>
                  </a:lnTo>
                  <a:lnTo>
                    <a:pt x="1419" y="2113"/>
                  </a:lnTo>
                  <a:lnTo>
                    <a:pt x="1448" y="2103"/>
                  </a:lnTo>
                  <a:lnTo>
                    <a:pt x="1476" y="2093"/>
                  </a:lnTo>
                  <a:lnTo>
                    <a:pt x="1504" y="2082"/>
                  </a:lnTo>
                  <a:lnTo>
                    <a:pt x="1531" y="2070"/>
                  </a:lnTo>
                  <a:lnTo>
                    <a:pt x="1558" y="2057"/>
                  </a:lnTo>
                  <a:lnTo>
                    <a:pt x="1540" y="2019"/>
                  </a:lnTo>
                  <a:lnTo>
                    <a:pt x="1514" y="2032"/>
                  </a:lnTo>
                  <a:lnTo>
                    <a:pt x="1488" y="2044"/>
                  </a:lnTo>
                  <a:lnTo>
                    <a:pt x="1461" y="2055"/>
                  </a:lnTo>
                  <a:lnTo>
                    <a:pt x="1434" y="2064"/>
                  </a:lnTo>
                  <a:lnTo>
                    <a:pt x="1406" y="2074"/>
                  </a:lnTo>
                  <a:lnTo>
                    <a:pt x="1378" y="2083"/>
                  </a:lnTo>
                  <a:lnTo>
                    <a:pt x="1350" y="2090"/>
                  </a:lnTo>
                  <a:lnTo>
                    <a:pt x="1321" y="2098"/>
                  </a:lnTo>
                  <a:lnTo>
                    <a:pt x="1292" y="2103"/>
                  </a:lnTo>
                  <a:lnTo>
                    <a:pt x="1263" y="2109"/>
                  </a:lnTo>
                  <a:lnTo>
                    <a:pt x="1234" y="2114"/>
                  </a:lnTo>
                  <a:lnTo>
                    <a:pt x="1205" y="2117"/>
                  </a:lnTo>
                  <a:lnTo>
                    <a:pt x="1174" y="2120"/>
                  </a:lnTo>
                  <a:lnTo>
                    <a:pt x="1144" y="2123"/>
                  </a:lnTo>
                  <a:lnTo>
                    <a:pt x="1114" y="2124"/>
                  </a:lnTo>
                  <a:lnTo>
                    <a:pt x="1083" y="2125"/>
                  </a:lnTo>
                  <a:lnTo>
                    <a:pt x="1030" y="2124"/>
                  </a:lnTo>
                  <a:lnTo>
                    <a:pt x="977" y="2119"/>
                  </a:lnTo>
                  <a:lnTo>
                    <a:pt x="925" y="2113"/>
                  </a:lnTo>
                  <a:lnTo>
                    <a:pt x="873" y="2103"/>
                  </a:lnTo>
                  <a:lnTo>
                    <a:pt x="823" y="2092"/>
                  </a:lnTo>
                  <a:lnTo>
                    <a:pt x="774" y="2078"/>
                  </a:lnTo>
                  <a:lnTo>
                    <a:pt x="725" y="2061"/>
                  </a:lnTo>
                  <a:lnTo>
                    <a:pt x="677" y="2043"/>
                  </a:lnTo>
                  <a:lnTo>
                    <a:pt x="632" y="2022"/>
                  </a:lnTo>
                  <a:lnTo>
                    <a:pt x="587" y="1998"/>
                  </a:lnTo>
                  <a:lnTo>
                    <a:pt x="543" y="1974"/>
                  </a:lnTo>
                  <a:lnTo>
                    <a:pt x="500" y="1947"/>
                  </a:lnTo>
                  <a:lnTo>
                    <a:pt x="460" y="1917"/>
                  </a:lnTo>
                  <a:lnTo>
                    <a:pt x="420" y="1887"/>
                  </a:lnTo>
                  <a:lnTo>
                    <a:pt x="382" y="1854"/>
                  </a:lnTo>
                  <a:lnTo>
                    <a:pt x="347" y="1819"/>
                  </a:lnTo>
                  <a:lnTo>
                    <a:pt x="312" y="1784"/>
                  </a:lnTo>
                  <a:lnTo>
                    <a:pt x="280" y="1746"/>
                  </a:lnTo>
                  <a:lnTo>
                    <a:pt x="248" y="1707"/>
                  </a:lnTo>
                  <a:lnTo>
                    <a:pt x="219" y="1666"/>
                  </a:lnTo>
                  <a:lnTo>
                    <a:pt x="192" y="1624"/>
                  </a:lnTo>
                  <a:lnTo>
                    <a:pt x="167" y="1579"/>
                  </a:lnTo>
                  <a:lnTo>
                    <a:pt x="144" y="1535"/>
                  </a:lnTo>
                  <a:lnTo>
                    <a:pt x="123" y="1489"/>
                  </a:lnTo>
                  <a:lnTo>
                    <a:pt x="105" y="1441"/>
                  </a:lnTo>
                  <a:lnTo>
                    <a:pt x="89" y="1393"/>
                  </a:lnTo>
                  <a:lnTo>
                    <a:pt x="75" y="1344"/>
                  </a:lnTo>
                  <a:lnTo>
                    <a:pt x="63" y="1293"/>
                  </a:lnTo>
                  <a:lnTo>
                    <a:pt x="54" y="1242"/>
                  </a:lnTo>
                  <a:lnTo>
                    <a:pt x="46" y="1190"/>
                  </a:lnTo>
                  <a:lnTo>
                    <a:pt x="43" y="1137"/>
                  </a:lnTo>
                  <a:lnTo>
                    <a:pt x="41" y="1084"/>
                  </a:lnTo>
                  <a:lnTo>
                    <a:pt x="43" y="1030"/>
                  </a:lnTo>
                  <a:lnTo>
                    <a:pt x="46" y="977"/>
                  </a:lnTo>
                  <a:lnTo>
                    <a:pt x="54" y="925"/>
                  </a:lnTo>
                  <a:lnTo>
                    <a:pt x="63" y="873"/>
                  </a:lnTo>
                  <a:lnTo>
                    <a:pt x="75" y="823"/>
                  </a:lnTo>
                  <a:lnTo>
                    <a:pt x="89" y="774"/>
                  </a:lnTo>
                  <a:lnTo>
                    <a:pt x="105" y="725"/>
                  </a:lnTo>
                  <a:lnTo>
                    <a:pt x="123" y="679"/>
                  </a:lnTo>
                  <a:lnTo>
                    <a:pt x="144" y="632"/>
                  </a:lnTo>
                  <a:lnTo>
                    <a:pt x="167" y="587"/>
                  </a:lnTo>
                  <a:lnTo>
                    <a:pt x="192" y="544"/>
                  </a:lnTo>
                  <a:lnTo>
                    <a:pt x="219" y="502"/>
                  </a:lnTo>
                  <a:lnTo>
                    <a:pt x="248" y="461"/>
                  </a:lnTo>
                  <a:lnTo>
                    <a:pt x="280" y="422"/>
                  </a:lnTo>
                  <a:lnTo>
                    <a:pt x="312" y="384"/>
                  </a:lnTo>
                  <a:lnTo>
                    <a:pt x="347" y="347"/>
                  </a:lnTo>
                  <a:lnTo>
                    <a:pt x="382" y="313"/>
                  </a:lnTo>
                  <a:lnTo>
                    <a:pt x="420" y="280"/>
                  </a:lnTo>
                  <a:lnTo>
                    <a:pt x="460" y="249"/>
                  </a:lnTo>
                  <a:lnTo>
                    <a:pt x="500" y="220"/>
                  </a:lnTo>
                  <a:lnTo>
                    <a:pt x="543" y="193"/>
                  </a:lnTo>
                  <a:lnTo>
                    <a:pt x="587" y="168"/>
                  </a:lnTo>
                  <a:lnTo>
                    <a:pt x="632" y="145"/>
                  </a:lnTo>
                  <a:lnTo>
                    <a:pt x="677" y="124"/>
                  </a:lnTo>
                  <a:lnTo>
                    <a:pt x="725" y="105"/>
                  </a:lnTo>
                  <a:lnTo>
                    <a:pt x="774" y="89"/>
                  </a:lnTo>
                  <a:lnTo>
                    <a:pt x="823" y="75"/>
                  </a:lnTo>
                  <a:lnTo>
                    <a:pt x="873" y="63"/>
                  </a:lnTo>
                  <a:lnTo>
                    <a:pt x="925" y="54"/>
                  </a:lnTo>
                  <a:lnTo>
                    <a:pt x="977" y="48"/>
                  </a:lnTo>
                  <a:lnTo>
                    <a:pt x="1030" y="44"/>
                  </a:lnTo>
                  <a:lnTo>
                    <a:pt x="1083" y="43"/>
                  </a:lnTo>
                  <a:lnTo>
                    <a:pt x="1137" y="44"/>
                  </a:lnTo>
                  <a:lnTo>
                    <a:pt x="1190" y="48"/>
                  </a:lnTo>
                  <a:lnTo>
                    <a:pt x="1241" y="54"/>
                  </a:lnTo>
                  <a:lnTo>
                    <a:pt x="1293" y="63"/>
                  </a:lnTo>
                  <a:lnTo>
                    <a:pt x="1343" y="75"/>
                  </a:lnTo>
                  <a:lnTo>
                    <a:pt x="1393" y="89"/>
                  </a:lnTo>
                  <a:lnTo>
                    <a:pt x="1441" y="105"/>
                  </a:lnTo>
                  <a:lnTo>
                    <a:pt x="1489" y="124"/>
                  </a:lnTo>
                  <a:lnTo>
                    <a:pt x="1534" y="145"/>
                  </a:lnTo>
                  <a:lnTo>
                    <a:pt x="1580" y="168"/>
                  </a:lnTo>
                  <a:lnTo>
                    <a:pt x="1623" y="193"/>
                  </a:lnTo>
                  <a:lnTo>
                    <a:pt x="1665" y="220"/>
                  </a:lnTo>
                  <a:lnTo>
                    <a:pt x="1706" y="249"/>
                  </a:lnTo>
                  <a:lnTo>
                    <a:pt x="1746" y="280"/>
                  </a:lnTo>
                  <a:lnTo>
                    <a:pt x="1784" y="313"/>
                  </a:lnTo>
                  <a:lnTo>
                    <a:pt x="1820" y="347"/>
                  </a:lnTo>
                  <a:lnTo>
                    <a:pt x="1854" y="384"/>
                  </a:lnTo>
                  <a:lnTo>
                    <a:pt x="1887" y="422"/>
                  </a:lnTo>
                  <a:lnTo>
                    <a:pt x="1918" y="461"/>
                  </a:lnTo>
                  <a:lnTo>
                    <a:pt x="1947" y="502"/>
                  </a:lnTo>
                  <a:lnTo>
                    <a:pt x="1974" y="544"/>
                  </a:lnTo>
                  <a:lnTo>
                    <a:pt x="1999" y="587"/>
                  </a:lnTo>
                  <a:lnTo>
                    <a:pt x="2022" y="632"/>
                  </a:lnTo>
                  <a:lnTo>
                    <a:pt x="2043" y="679"/>
                  </a:lnTo>
                  <a:lnTo>
                    <a:pt x="2062" y="725"/>
                  </a:lnTo>
                  <a:lnTo>
                    <a:pt x="2078" y="774"/>
                  </a:lnTo>
                  <a:lnTo>
                    <a:pt x="2092" y="823"/>
                  </a:lnTo>
                  <a:lnTo>
                    <a:pt x="2104" y="873"/>
                  </a:lnTo>
                  <a:lnTo>
                    <a:pt x="2112" y="925"/>
                  </a:lnTo>
                  <a:lnTo>
                    <a:pt x="2120" y="977"/>
                  </a:lnTo>
                  <a:lnTo>
                    <a:pt x="2123" y="1030"/>
                  </a:lnTo>
                  <a:lnTo>
                    <a:pt x="2125" y="1084"/>
                  </a:lnTo>
                  <a:lnTo>
                    <a:pt x="2124" y="1118"/>
                  </a:lnTo>
                  <a:lnTo>
                    <a:pt x="2122" y="1153"/>
                  </a:lnTo>
                  <a:lnTo>
                    <a:pt x="2120" y="1187"/>
                  </a:lnTo>
                  <a:lnTo>
                    <a:pt x="2116" y="1222"/>
                  </a:lnTo>
                  <a:lnTo>
                    <a:pt x="2110" y="1255"/>
                  </a:lnTo>
                  <a:lnTo>
                    <a:pt x="2105" y="1289"/>
                  </a:lnTo>
                  <a:lnTo>
                    <a:pt x="2097" y="1321"/>
                  </a:lnTo>
                  <a:lnTo>
                    <a:pt x="2090" y="1354"/>
                  </a:lnTo>
                  <a:lnTo>
                    <a:pt x="2130" y="1364"/>
                  </a:lnTo>
                  <a:lnTo>
                    <a:pt x="2138" y="1331"/>
                  </a:lnTo>
                  <a:lnTo>
                    <a:pt x="2146" y="1296"/>
                  </a:lnTo>
                  <a:lnTo>
                    <a:pt x="2151" y="1262"/>
                  </a:lnTo>
                  <a:lnTo>
                    <a:pt x="2157" y="1227"/>
                  </a:lnTo>
                  <a:lnTo>
                    <a:pt x="2161" y="1192"/>
                  </a:lnTo>
                  <a:lnTo>
                    <a:pt x="2164" y="1156"/>
                  </a:lnTo>
                  <a:lnTo>
                    <a:pt x="2166" y="1119"/>
                  </a:lnTo>
                  <a:lnTo>
                    <a:pt x="2166" y="1084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152960" y="2574720"/>
              <a:ext cx="842760" cy="844560"/>
            </a:xfrm>
            <a:custGeom>
              <a:avLst/>
              <a:gdLst/>
              <a:ahLst/>
              <a:rect l="l" t="t" r="r" b="b"/>
              <a:pathLst>
                <a:path w="2126" h="2124">
                  <a:moveTo>
                    <a:pt x="2126" y="1063"/>
                  </a:moveTo>
                  <a:lnTo>
                    <a:pt x="2125" y="1008"/>
                  </a:lnTo>
                  <a:lnTo>
                    <a:pt x="2120" y="954"/>
                  </a:lnTo>
                  <a:lnTo>
                    <a:pt x="2113" y="901"/>
                  </a:lnTo>
                  <a:lnTo>
                    <a:pt x="2104" y="849"/>
                  </a:lnTo>
                  <a:lnTo>
                    <a:pt x="2092" y="797"/>
                  </a:lnTo>
                  <a:lnTo>
                    <a:pt x="2078" y="746"/>
                  </a:lnTo>
                  <a:lnTo>
                    <a:pt x="2061" y="698"/>
                  </a:lnTo>
                  <a:lnTo>
                    <a:pt x="2043" y="649"/>
                  </a:lnTo>
                  <a:lnTo>
                    <a:pt x="2021" y="602"/>
                  </a:lnTo>
                  <a:lnTo>
                    <a:pt x="1997" y="556"/>
                  </a:lnTo>
                  <a:lnTo>
                    <a:pt x="1971" y="512"/>
                  </a:lnTo>
                  <a:lnTo>
                    <a:pt x="1944" y="469"/>
                  </a:lnTo>
                  <a:lnTo>
                    <a:pt x="1914" y="427"/>
                  </a:lnTo>
                  <a:lnTo>
                    <a:pt x="1883" y="387"/>
                  </a:lnTo>
                  <a:lnTo>
                    <a:pt x="1849" y="349"/>
                  </a:lnTo>
                  <a:lnTo>
                    <a:pt x="1815" y="311"/>
                  </a:lnTo>
                  <a:lnTo>
                    <a:pt x="1778" y="276"/>
                  </a:lnTo>
                  <a:lnTo>
                    <a:pt x="1739" y="243"/>
                  </a:lnTo>
                  <a:lnTo>
                    <a:pt x="1699" y="212"/>
                  </a:lnTo>
                  <a:lnTo>
                    <a:pt x="1657" y="181"/>
                  </a:lnTo>
                  <a:lnTo>
                    <a:pt x="1614" y="154"/>
                  </a:lnTo>
                  <a:lnTo>
                    <a:pt x="1569" y="128"/>
                  </a:lnTo>
                  <a:lnTo>
                    <a:pt x="1524" y="105"/>
                  </a:lnTo>
                  <a:lnTo>
                    <a:pt x="1476" y="84"/>
                  </a:lnTo>
                  <a:lnTo>
                    <a:pt x="1429" y="65"/>
                  </a:lnTo>
                  <a:lnTo>
                    <a:pt x="1379" y="49"/>
                  </a:lnTo>
                  <a:lnTo>
                    <a:pt x="1328" y="33"/>
                  </a:lnTo>
                  <a:lnTo>
                    <a:pt x="1278" y="22"/>
                  </a:lnTo>
                  <a:lnTo>
                    <a:pt x="1225" y="13"/>
                  </a:lnTo>
                  <a:lnTo>
                    <a:pt x="1172" y="5"/>
                  </a:lnTo>
                  <a:lnTo>
                    <a:pt x="1118" y="2"/>
                  </a:lnTo>
                  <a:lnTo>
                    <a:pt x="1063" y="0"/>
                  </a:lnTo>
                  <a:lnTo>
                    <a:pt x="1009" y="2"/>
                  </a:lnTo>
                  <a:lnTo>
                    <a:pt x="955" y="5"/>
                  </a:lnTo>
                  <a:lnTo>
                    <a:pt x="902" y="13"/>
                  </a:lnTo>
                  <a:lnTo>
                    <a:pt x="849" y="22"/>
                  </a:lnTo>
                  <a:lnTo>
                    <a:pt x="798" y="33"/>
                  </a:lnTo>
                  <a:lnTo>
                    <a:pt x="747" y="49"/>
                  </a:lnTo>
                  <a:lnTo>
                    <a:pt x="697" y="65"/>
                  </a:lnTo>
                  <a:lnTo>
                    <a:pt x="650" y="84"/>
                  </a:lnTo>
                  <a:lnTo>
                    <a:pt x="602" y="105"/>
                  </a:lnTo>
                  <a:lnTo>
                    <a:pt x="557" y="128"/>
                  </a:lnTo>
                  <a:lnTo>
                    <a:pt x="513" y="154"/>
                  </a:lnTo>
                  <a:lnTo>
                    <a:pt x="469" y="181"/>
                  </a:lnTo>
                  <a:lnTo>
                    <a:pt x="427" y="212"/>
                  </a:lnTo>
                  <a:lnTo>
                    <a:pt x="387" y="243"/>
                  </a:lnTo>
                  <a:lnTo>
                    <a:pt x="348" y="276"/>
                  </a:lnTo>
                  <a:lnTo>
                    <a:pt x="312" y="311"/>
                  </a:lnTo>
                  <a:lnTo>
                    <a:pt x="277" y="349"/>
                  </a:lnTo>
                  <a:lnTo>
                    <a:pt x="244" y="387"/>
                  </a:lnTo>
                  <a:lnTo>
                    <a:pt x="211" y="427"/>
                  </a:lnTo>
                  <a:lnTo>
                    <a:pt x="182" y="469"/>
                  </a:lnTo>
                  <a:lnTo>
                    <a:pt x="154" y="512"/>
                  </a:lnTo>
                  <a:lnTo>
                    <a:pt x="129" y="556"/>
                  </a:lnTo>
                  <a:lnTo>
                    <a:pt x="105" y="602"/>
                  </a:lnTo>
                  <a:lnTo>
                    <a:pt x="84" y="649"/>
                  </a:lnTo>
                  <a:lnTo>
                    <a:pt x="65" y="698"/>
                  </a:lnTo>
                  <a:lnTo>
                    <a:pt x="48" y="746"/>
                  </a:lnTo>
                  <a:lnTo>
                    <a:pt x="34" y="797"/>
                  </a:lnTo>
                  <a:lnTo>
                    <a:pt x="22" y="849"/>
                  </a:lnTo>
                  <a:lnTo>
                    <a:pt x="12" y="901"/>
                  </a:lnTo>
                  <a:lnTo>
                    <a:pt x="6" y="954"/>
                  </a:lnTo>
                  <a:lnTo>
                    <a:pt x="2" y="1008"/>
                  </a:lnTo>
                  <a:lnTo>
                    <a:pt x="0" y="1063"/>
                  </a:lnTo>
                  <a:lnTo>
                    <a:pt x="2" y="1117"/>
                  </a:lnTo>
                  <a:lnTo>
                    <a:pt x="6" y="1171"/>
                  </a:lnTo>
                  <a:lnTo>
                    <a:pt x="12" y="1225"/>
                  </a:lnTo>
                  <a:lnTo>
                    <a:pt x="22" y="1277"/>
                  </a:lnTo>
                  <a:lnTo>
                    <a:pt x="34" y="1328"/>
                  </a:lnTo>
                  <a:lnTo>
                    <a:pt x="48" y="1378"/>
                  </a:lnTo>
                  <a:lnTo>
                    <a:pt x="65" y="1428"/>
                  </a:lnTo>
                  <a:lnTo>
                    <a:pt x="84" y="1476"/>
                  </a:lnTo>
                  <a:lnTo>
                    <a:pt x="105" y="1523"/>
                  </a:lnTo>
                  <a:lnTo>
                    <a:pt x="129" y="1568"/>
                  </a:lnTo>
                  <a:lnTo>
                    <a:pt x="154" y="1613"/>
                  </a:lnTo>
                  <a:lnTo>
                    <a:pt x="182" y="1657"/>
                  </a:lnTo>
                  <a:lnTo>
                    <a:pt x="211" y="1698"/>
                  </a:lnTo>
                  <a:lnTo>
                    <a:pt x="244" y="1738"/>
                  </a:lnTo>
                  <a:lnTo>
                    <a:pt x="277" y="1777"/>
                  </a:lnTo>
                  <a:lnTo>
                    <a:pt x="312" y="1813"/>
                  </a:lnTo>
                  <a:lnTo>
                    <a:pt x="348" y="1849"/>
                  </a:lnTo>
                  <a:lnTo>
                    <a:pt x="387" y="1882"/>
                  </a:lnTo>
                  <a:lnTo>
                    <a:pt x="427" y="1914"/>
                  </a:lnTo>
                  <a:lnTo>
                    <a:pt x="469" y="1943"/>
                  </a:lnTo>
                  <a:lnTo>
                    <a:pt x="513" y="1971"/>
                  </a:lnTo>
                  <a:lnTo>
                    <a:pt x="557" y="1996"/>
                  </a:lnTo>
                  <a:lnTo>
                    <a:pt x="602" y="2020"/>
                  </a:lnTo>
                  <a:lnTo>
                    <a:pt x="650" y="2041"/>
                  </a:lnTo>
                  <a:lnTo>
                    <a:pt x="697" y="2060"/>
                  </a:lnTo>
                  <a:lnTo>
                    <a:pt x="747" y="2077"/>
                  </a:lnTo>
                  <a:lnTo>
                    <a:pt x="798" y="2091"/>
                  </a:lnTo>
                  <a:lnTo>
                    <a:pt x="849" y="2103"/>
                  </a:lnTo>
                  <a:lnTo>
                    <a:pt x="902" y="2112"/>
                  </a:lnTo>
                  <a:lnTo>
                    <a:pt x="955" y="2119"/>
                  </a:lnTo>
                  <a:lnTo>
                    <a:pt x="1009" y="2123"/>
                  </a:lnTo>
                  <a:lnTo>
                    <a:pt x="1063" y="2124"/>
                  </a:lnTo>
                  <a:lnTo>
                    <a:pt x="1094" y="2124"/>
                  </a:lnTo>
                  <a:lnTo>
                    <a:pt x="1125" y="2122"/>
                  </a:lnTo>
                  <a:lnTo>
                    <a:pt x="1157" y="2120"/>
                  </a:lnTo>
                  <a:lnTo>
                    <a:pt x="1187" y="2118"/>
                  </a:lnTo>
                  <a:lnTo>
                    <a:pt x="1217" y="2114"/>
                  </a:lnTo>
                  <a:lnTo>
                    <a:pt x="1247" y="2108"/>
                  </a:lnTo>
                  <a:lnTo>
                    <a:pt x="1277" y="2103"/>
                  </a:lnTo>
                  <a:lnTo>
                    <a:pt x="1306" y="2096"/>
                  </a:lnTo>
                  <a:lnTo>
                    <a:pt x="1335" y="2090"/>
                  </a:lnTo>
                  <a:lnTo>
                    <a:pt x="1364" y="2081"/>
                  </a:lnTo>
                  <a:lnTo>
                    <a:pt x="1392" y="2072"/>
                  </a:lnTo>
                  <a:lnTo>
                    <a:pt x="1420" y="2063"/>
                  </a:lnTo>
                  <a:lnTo>
                    <a:pt x="1448" y="2053"/>
                  </a:lnTo>
                  <a:lnTo>
                    <a:pt x="1475" y="2041"/>
                  </a:lnTo>
                  <a:lnTo>
                    <a:pt x="1502" y="2029"/>
                  </a:lnTo>
                  <a:lnTo>
                    <a:pt x="1529" y="2017"/>
                  </a:lnTo>
                  <a:lnTo>
                    <a:pt x="1511" y="1980"/>
                  </a:lnTo>
                  <a:lnTo>
                    <a:pt x="1485" y="1991"/>
                  </a:lnTo>
                  <a:lnTo>
                    <a:pt x="1459" y="2003"/>
                  </a:lnTo>
                  <a:lnTo>
                    <a:pt x="1433" y="2014"/>
                  </a:lnTo>
                  <a:lnTo>
                    <a:pt x="1406" y="2024"/>
                  </a:lnTo>
                  <a:lnTo>
                    <a:pt x="1379" y="2033"/>
                  </a:lnTo>
                  <a:lnTo>
                    <a:pt x="1352" y="2041"/>
                  </a:lnTo>
                  <a:lnTo>
                    <a:pt x="1324" y="2049"/>
                  </a:lnTo>
                  <a:lnTo>
                    <a:pt x="1296" y="2056"/>
                  </a:lnTo>
                  <a:lnTo>
                    <a:pt x="1268" y="2062"/>
                  </a:lnTo>
                  <a:lnTo>
                    <a:pt x="1240" y="2067"/>
                  </a:lnTo>
                  <a:lnTo>
                    <a:pt x="1211" y="2072"/>
                  </a:lnTo>
                  <a:lnTo>
                    <a:pt x="1182" y="2076"/>
                  </a:lnTo>
                  <a:lnTo>
                    <a:pt x="1152" y="2079"/>
                  </a:lnTo>
                  <a:lnTo>
                    <a:pt x="1123" y="2081"/>
                  </a:lnTo>
                  <a:lnTo>
                    <a:pt x="1093" y="2082"/>
                  </a:lnTo>
                  <a:lnTo>
                    <a:pt x="1063" y="2083"/>
                  </a:lnTo>
                  <a:lnTo>
                    <a:pt x="1011" y="2081"/>
                  </a:lnTo>
                  <a:lnTo>
                    <a:pt x="959" y="2078"/>
                  </a:lnTo>
                  <a:lnTo>
                    <a:pt x="908" y="2071"/>
                  </a:lnTo>
                  <a:lnTo>
                    <a:pt x="857" y="2062"/>
                  </a:lnTo>
                  <a:lnTo>
                    <a:pt x="808" y="2051"/>
                  </a:lnTo>
                  <a:lnTo>
                    <a:pt x="760" y="2037"/>
                  </a:lnTo>
                  <a:lnTo>
                    <a:pt x="713" y="2021"/>
                  </a:lnTo>
                  <a:lnTo>
                    <a:pt x="666" y="2002"/>
                  </a:lnTo>
                  <a:lnTo>
                    <a:pt x="621" y="1982"/>
                  </a:lnTo>
                  <a:lnTo>
                    <a:pt x="576" y="1960"/>
                  </a:lnTo>
                  <a:lnTo>
                    <a:pt x="534" y="1935"/>
                  </a:lnTo>
                  <a:lnTo>
                    <a:pt x="492" y="1908"/>
                  </a:lnTo>
                  <a:lnTo>
                    <a:pt x="452" y="1880"/>
                  </a:lnTo>
                  <a:lnTo>
                    <a:pt x="414" y="1850"/>
                  </a:lnTo>
                  <a:lnTo>
                    <a:pt x="377" y="1818"/>
                  </a:lnTo>
                  <a:lnTo>
                    <a:pt x="341" y="1784"/>
                  </a:lnTo>
                  <a:lnTo>
                    <a:pt x="307" y="1748"/>
                  </a:lnTo>
                  <a:lnTo>
                    <a:pt x="275" y="1712"/>
                  </a:lnTo>
                  <a:lnTo>
                    <a:pt x="245" y="1673"/>
                  </a:lnTo>
                  <a:lnTo>
                    <a:pt x="217" y="1633"/>
                  </a:lnTo>
                  <a:lnTo>
                    <a:pt x="190" y="1592"/>
                  </a:lnTo>
                  <a:lnTo>
                    <a:pt x="166" y="1549"/>
                  </a:lnTo>
                  <a:lnTo>
                    <a:pt x="143" y="1504"/>
                  </a:lnTo>
                  <a:lnTo>
                    <a:pt x="123" y="1460"/>
                  </a:lnTo>
                  <a:lnTo>
                    <a:pt x="104" y="1414"/>
                  </a:lnTo>
                  <a:lnTo>
                    <a:pt x="88" y="1366"/>
                  </a:lnTo>
                  <a:lnTo>
                    <a:pt x="74" y="1318"/>
                  </a:lnTo>
                  <a:lnTo>
                    <a:pt x="63" y="1268"/>
                  </a:lnTo>
                  <a:lnTo>
                    <a:pt x="55" y="1218"/>
                  </a:lnTo>
                  <a:lnTo>
                    <a:pt x="48" y="1166"/>
                  </a:lnTo>
                  <a:lnTo>
                    <a:pt x="44" y="1115"/>
                  </a:lnTo>
                  <a:lnTo>
                    <a:pt x="43" y="1063"/>
                  </a:lnTo>
                  <a:lnTo>
                    <a:pt x="44" y="1010"/>
                  </a:lnTo>
                  <a:lnTo>
                    <a:pt x="48" y="958"/>
                  </a:lnTo>
                  <a:lnTo>
                    <a:pt x="55" y="907"/>
                  </a:lnTo>
                  <a:lnTo>
                    <a:pt x="63" y="856"/>
                  </a:lnTo>
                  <a:lnTo>
                    <a:pt x="74" y="808"/>
                  </a:lnTo>
                  <a:lnTo>
                    <a:pt x="88" y="759"/>
                  </a:lnTo>
                  <a:lnTo>
                    <a:pt x="104" y="712"/>
                  </a:lnTo>
                  <a:lnTo>
                    <a:pt x="123" y="665"/>
                  </a:lnTo>
                  <a:lnTo>
                    <a:pt x="143" y="620"/>
                  </a:lnTo>
                  <a:lnTo>
                    <a:pt x="166" y="576"/>
                  </a:lnTo>
                  <a:lnTo>
                    <a:pt x="190" y="533"/>
                  </a:lnTo>
                  <a:lnTo>
                    <a:pt x="217" y="492"/>
                  </a:lnTo>
                  <a:lnTo>
                    <a:pt x="245" y="451"/>
                  </a:lnTo>
                  <a:lnTo>
                    <a:pt x="275" y="414"/>
                  </a:lnTo>
                  <a:lnTo>
                    <a:pt x="307" y="377"/>
                  </a:lnTo>
                  <a:lnTo>
                    <a:pt x="341" y="341"/>
                  </a:lnTo>
                  <a:lnTo>
                    <a:pt x="377" y="307"/>
                  </a:lnTo>
                  <a:lnTo>
                    <a:pt x="414" y="275"/>
                  </a:lnTo>
                  <a:lnTo>
                    <a:pt x="452" y="245"/>
                  </a:lnTo>
                  <a:lnTo>
                    <a:pt x="492" y="216"/>
                  </a:lnTo>
                  <a:lnTo>
                    <a:pt x="534" y="190"/>
                  </a:lnTo>
                  <a:lnTo>
                    <a:pt x="576" y="165"/>
                  </a:lnTo>
                  <a:lnTo>
                    <a:pt x="621" y="143"/>
                  </a:lnTo>
                  <a:lnTo>
                    <a:pt x="666" y="122"/>
                  </a:lnTo>
                  <a:lnTo>
                    <a:pt x="713" y="104"/>
                  </a:lnTo>
                  <a:lnTo>
                    <a:pt x="760" y="87"/>
                  </a:lnTo>
                  <a:lnTo>
                    <a:pt x="808" y="74"/>
                  </a:lnTo>
                  <a:lnTo>
                    <a:pt x="857" y="63"/>
                  </a:lnTo>
                  <a:lnTo>
                    <a:pt x="908" y="54"/>
                  </a:lnTo>
                  <a:lnTo>
                    <a:pt x="959" y="47"/>
                  </a:lnTo>
                  <a:lnTo>
                    <a:pt x="1011" y="43"/>
                  </a:lnTo>
                  <a:lnTo>
                    <a:pt x="1063" y="42"/>
                  </a:lnTo>
                  <a:lnTo>
                    <a:pt x="1116" y="43"/>
                  </a:lnTo>
                  <a:lnTo>
                    <a:pt x="1167" y="47"/>
                  </a:lnTo>
                  <a:lnTo>
                    <a:pt x="1218" y="54"/>
                  </a:lnTo>
                  <a:lnTo>
                    <a:pt x="1269" y="63"/>
                  </a:lnTo>
                  <a:lnTo>
                    <a:pt x="1319" y="74"/>
                  </a:lnTo>
                  <a:lnTo>
                    <a:pt x="1366" y="87"/>
                  </a:lnTo>
                  <a:lnTo>
                    <a:pt x="1414" y="104"/>
                  </a:lnTo>
                  <a:lnTo>
                    <a:pt x="1460" y="122"/>
                  </a:lnTo>
                  <a:lnTo>
                    <a:pt x="1506" y="143"/>
                  </a:lnTo>
                  <a:lnTo>
                    <a:pt x="1550" y="165"/>
                  </a:lnTo>
                  <a:lnTo>
                    <a:pt x="1592" y="190"/>
                  </a:lnTo>
                  <a:lnTo>
                    <a:pt x="1634" y="216"/>
                  </a:lnTo>
                  <a:lnTo>
                    <a:pt x="1674" y="245"/>
                  </a:lnTo>
                  <a:lnTo>
                    <a:pt x="1712" y="275"/>
                  </a:lnTo>
                  <a:lnTo>
                    <a:pt x="1750" y="307"/>
                  </a:lnTo>
                  <a:lnTo>
                    <a:pt x="1786" y="341"/>
                  </a:lnTo>
                  <a:lnTo>
                    <a:pt x="1819" y="377"/>
                  </a:lnTo>
                  <a:lnTo>
                    <a:pt x="1851" y="414"/>
                  </a:lnTo>
                  <a:lnTo>
                    <a:pt x="1882" y="451"/>
                  </a:lnTo>
                  <a:lnTo>
                    <a:pt x="1910" y="492"/>
                  </a:lnTo>
                  <a:lnTo>
                    <a:pt x="1936" y="533"/>
                  </a:lnTo>
                  <a:lnTo>
                    <a:pt x="1961" y="576"/>
                  </a:lnTo>
                  <a:lnTo>
                    <a:pt x="1983" y="620"/>
                  </a:lnTo>
                  <a:lnTo>
                    <a:pt x="2004" y="665"/>
                  </a:lnTo>
                  <a:lnTo>
                    <a:pt x="2022" y="712"/>
                  </a:lnTo>
                  <a:lnTo>
                    <a:pt x="2038" y="759"/>
                  </a:lnTo>
                  <a:lnTo>
                    <a:pt x="2052" y="808"/>
                  </a:lnTo>
                  <a:lnTo>
                    <a:pt x="2063" y="856"/>
                  </a:lnTo>
                  <a:lnTo>
                    <a:pt x="2072" y="907"/>
                  </a:lnTo>
                  <a:lnTo>
                    <a:pt x="2078" y="958"/>
                  </a:lnTo>
                  <a:lnTo>
                    <a:pt x="2083" y="1010"/>
                  </a:lnTo>
                  <a:lnTo>
                    <a:pt x="2084" y="1063"/>
                  </a:lnTo>
                  <a:lnTo>
                    <a:pt x="2084" y="1096"/>
                  </a:lnTo>
                  <a:lnTo>
                    <a:pt x="2082" y="1131"/>
                  </a:lnTo>
                  <a:lnTo>
                    <a:pt x="2079" y="1164"/>
                  </a:lnTo>
                  <a:lnTo>
                    <a:pt x="2075" y="1198"/>
                  </a:lnTo>
                  <a:lnTo>
                    <a:pt x="2070" y="1231"/>
                  </a:lnTo>
                  <a:lnTo>
                    <a:pt x="2064" y="1264"/>
                  </a:lnTo>
                  <a:lnTo>
                    <a:pt x="2057" y="1296"/>
                  </a:lnTo>
                  <a:lnTo>
                    <a:pt x="2049" y="1327"/>
                  </a:lnTo>
                  <a:lnTo>
                    <a:pt x="2089" y="1338"/>
                  </a:lnTo>
                  <a:lnTo>
                    <a:pt x="2098" y="1306"/>
                  </a:lnTo>
                  <a:lnTo>
                    <a:pt x="2105" y="1271"/>
                  </a:lnTo>
                  <a:lnTo>
                    <a:pt x="2111" y="1238"/>
                  </a:lnTo>
                  <a:lnTo>
                    <a:pt x="2116" y="1203"/>
                  </a:lnTo>
                  <a:lnTo>
                    <a:pt x="2120" y="1169"/>
                  </a:lnTo>
                  <a:lnTo>
                    <a:pt x="2124" y="1134"/>
                  </a:lnTo>
                  <a:lnTo>
                    <a:pt x="2125" y="1098"/>
                  </a:lnTo>
                  <a:lnTo>
                    <a:pt x="2126" y="1063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160880" y="2584440"/>
              <a:ext cx="826920" cy="825480"/>
            </a:xfrm>
            <a:custGeom>
              <a:avLst/>
              <a:gdLst/>
              <a:ahLst/>
              <a:rect l="l" t="t" r="r" b="b"/>
              <a:pathLst>
                <a:path w="2084" h="2082">
                  <a:moveTo>
                    <a:pt x="2084" y="1041"/>
                  </a:moveTo>
                  <a:lnTo>
                    <a:pt x="2082" y="987"/>
                  </a:lnTo>
                  <a:lnTo>
                    <a:pt x="2079" y="934"/>
                  </a:lnTo>
                  <a:lnTo>
                    <a:pt x="2071" y="882"/>
                  </a:lnTo>
                  <a:lnTo>
                    <a:pt x="2063" y="830"/>
                  </a:lnTo>
                  <a:lnTo>
                    <a:pt x="2051" y="780"/>
                  </a:lnTo>
                  <a:lnTo>
                    <a:pt x="2037" y="731"/>
                  </a:lnTo>
                  <a:lnTo>
                    <a:pt x="2021" y="682"/>
                  </a:lnTo>
                  <a:lnTo>
                    <a:pt x="2002" y="636"/>
                  </a:lnTo>
                  <a:lnTo>
                    <a:pt x="1981" y="589"/>
                  </a:lnTo>
                  <a:lnTo>
                    <a:pt x="1958" y="544"/>
                  </a:lnTo>
                  <a:lnTo>
                    <a:pt x="1933" y="501"/>
                  </a:lnTo>
                  <a:lnTo>
                    <a:pt x="1906" y="459"/>
                  </a:lnTo>
                  <a:lnTo>
                    <a:pt x="1877" y="418"/>
                  </a:lnTo>
                  <a:lnTo>
                    <a:pt x="1846" y="379"/>
                  </a:lnTo>
                  <a:lnTo>
                    <a:pt x="1813" y="341"/>
                  </a:lnTo>
                  <a:lnTo>
                    <a:pt x="1779" y="304"/>
                  </a:lnTo>
                  <a:lnTo>
                    <a:pt x="1743" y="270"/>
                  </a:lnTo>
                  <a:lnTo>
                    <a:pt x="1705" y="237"/>
                  </a:lnTo>
                  <a:lnTo>
                    <a:pt x="1665" y="206"/>
                  </a:lnTo>
                  <a:lnTo>
                    <a:pt x="1624" y="177"/>
                  </a:lnTo>
                  <a:lnTo>
                    <a:pt x="1582" y="150"/>
                  </a:lnTo>
                  <a:lnTo>
                    <a:pt x="1539" y="125"/>
                  </a:lnTo>
                  <a:lnTo>
                    <a:pt x="1493" y="102"/>
                  </a:lnTo>
                  <a:lnTo>
                    <a:pt x="1448" y="81"/>
                  </a:lnTo>
                  <a:lnTo>
                    <a:pt x="1400" y="62"/>
                  </a:lnTo>
                  <a:lnTo>
                    <a:pt x="1352" y="46"/>
                  </a:lnTo>
                  <a:lnTo>
                    <a:pt x="1302" y="32"/>
                  </a:lnTo>
                  <a:lnTo>
                    <a:pt x="1252" y="20"/>
                  </a:lnTo>
                  <a:lnTo>
                    <a:pt x="1200" y="11"/>
                  </a:lnTo>
                  <a:lnTo>
                    <a:pt x="1149" y="5"/>
                  </a:lnTo>
                  <a:lnTo>
                    <a:pt x="1096" y="1"/>
                  </a:lnTo>
                  <a:lnTo>
                    <a:pt x="1042" y="0"/>
                  </a:lnTo>
                  <a:lnTo>
                    <a:pt x="989" y="1"/>
                  </a:lnTo>
                  <a:lnTo>
                    <a:pt x="936" y="5"/>
                  </a:lnTo>
                  <a:lnTo>
                    <a:pt x="884" y="11"/>
                  </a:lnTo>
                  <a:lnTo>
                    <a:pt x="832" y="20"/>
                  </a:lnTo>
                  <a:lnTo>
                    <a:pt x="782" y="32"/>
                  </a:lnTo>
                  <a:lnTo>
                    <a:pt x="733" y="46"/>
                  </a:lnTo>
                  <a:lnTo>
                    <a:pt x="684" y="62"/>
                  </a:lnTo>
                  <a:lnTo>
                    <a:pt x="636" y="81"/>
                  </a:lnTo>
                  <a:lnTo>
                    <a:pt x="591" y="102"/>
                  </a:lnTo>
                  <a:lnTo>
                    <a:pt x="546" y="125"/>
                  </a:lnTo>
                  <a:lnTo>
                    <a:pt x="502" y="150"/>
                  </a:lnTo>
                  <a:lnTo>
                    <a:pt x="459" y="177"/>
                  </a:lnTo>
                  <a:lnTo>
                    <a:pt x="419" y="206"/>
                  </a:lnTo>
                  <a:lnTo>
                    <a:pt x="379" y="237"/>
                  </a:lnTo>
                  <a:lnTo>
                    <a:pt x="341" y="270"/>
                  </a:lnTo>
                  <a:lnTo>
                    <a:pt x="306" y="304"/>
                  </a:lnTo>
                  <a:lnTo>
                    <a:pt x="271" y="341"/>
                  </a:lnTo>
                  <a:lnTo>
                    <a:pt x="239" y="379"/>
                  </a:lnTo>
                  <a:lnTo>
                    <a:pt x="207" y="418"/>
                  </a:lnTo>
                  <a:lnTo>
                    <a:pt x="178" y="459"/>
                  </a:lnTo>
                  <a:lnTo>
                    <a:pt x="151" y="501"/>
                  </a:lnTo>
                  <a:lnTo>
                    <a:pt x="126" y="544"/>
                  </a:lnTo>
                  <a:lnTo>
                    <a:pt x="103" y="589"/>
                  </a:lnTo>
                  <a:lnTo>
                    <a:pt x="82" y="636"/>
                  </a:lnTo>
                  <a:lnTo>
                    <a:pt x="64" y="682"/>
                  </a:lnTo>
                  <a:lnTo>
                    <a:pt x="48" y="731"/>
                  </a:lnTo>
                  <a:lnTo>
                    <a:pt x="34" y="780"/>
                  </a:lnTo>
                  <a:lnTo>
                    <a:pt x="22" y="830"/>
                  </a:lnTo>
                  <a:lnTo>
                    <a:pt x="13" y="882"/>
                  </a:lnTo>
                  <a:lnTo>
                    <a:pt x="5" y="934"/>
                  </a:lnTo>
                  <a:lnTo>
                    <a:pt x="2" y="987"/>
                  </a:lnTo>
                  <a:lnTo>
                    <a:pt x="0" y="1041"/>
                  </a:lnTo>
                  <a:lnTo>
                    <a:pt x="2" y="1094"/>
                  </a:lnTo>
                  <a:lnTo>
                    <a:pt x="5" y="1147"/>
                  </a:lnTo>
                  <a:lnTo>
                    <a:pt x="13" y="1199"/>
                  </a:lnTo>
                  <a:lnTo>
                    <a:pt x="22" y="1250"/>
                  </a:lnTo>
                  <a:lnTo>
                    <a:pt x="34" y="1301"/>
                  </a:lnTo>
                  <a:lnTo>
                    <a:pt x="48" y="1350"/>
                  </a:lnTo>
                  <a:lnTo>
                    <a:pt x="64" y="1398"/>
                  </a:lnTo>
                  <a:lnTo>
                    <a:pt x="82" y="1446"/>
                  </a:lnTo>
                  <a:lnTo>
                    <a:pt x="103" y="1492"/>
                  </a:lnTo>
                  <a:lnTo>
                    <a:pt x="126" y="1536"/>
                  </a:lnTo>
                  <a:lnTo>
                    <a:pt x="151" y="1581"/>
                  </a:lnTo>
                  <a:lnTo>
                    <a:pt x="178" y="1623"/>
                  </a:lnTo>
                  <a:lnTo>
                    <a:pt x="207" y="1664"/>
                  </a:lnTo>
                  <a:lnTo>
                    <a:pt x="239" y="1703"/>
                  </a:lnTo>
                  <a:lnTo>
                    <a:pt x="271" y="1741"/>
                  </a:lnTo>
                  <a:lnTo>
                    <a:pt x="306" y="1776"/>
                  </a:lnTo>
                  <a:lnTo>
                    <a:pt x="341" y="1811"/>
                  </a:lnTo>
                  <a:lnTo>
                    <a:pt x="379" y="1844"/>
                  </a:lnTo>
                  <a:lnTo>
                    <a:pt x="419" y="1874"/>
                  </a:lnTo>
                  <a:lnTo>
                    <a:pt x="459" y="1904"/>
                  </a:lnTo>
                  <a:lnTo>
                    <a:pt x="502" y="1931"/>
                  </a:lnTo>
                  <a:lnTo>
                    <a:pt x="546" y="1955"/>
                  </a:lnTo>
                  <a:lnTo>
                    <a:pt x="591" y="1979"/>
                  </a:lnTo>
                  <a:lnTo>
                    <a:pt x="636" y="2000"/>
                  </a:lnTo>
                  <a:lnTo>
                    <a:pt x="684" y="2018"/>
                  </a:lnTo>
                  <a:lnTo>
                    <a:pt x="733" y="2035"/>
                  </a:lnTo>
                  <a:lnTo>
                    <a:pt x="782" y="2049"/>
                  </a:lnTo>
                  <a:lnTo>
                    <a:pt x="832" y="2060"/>
                  </a:lnTo>
                  <a:lnTo>
                    <a:pt x="884" y="2070"/>
                  </a:lnTo>
                  <a:lnTo>
                    <a:pt x="936" y="2076"/>
                  </a:lnTo>
                  <a:lnTo>
                    <a:pt x="989" y="2081"/>
                  </a:lnTo>
                  <a:lnTo>
                    <a:pt x="1042" y="2082"/>
                  </a:lnTo>
                  <a:lnTo>
                    <a:pt x="1073" y="2081"/>
                  </a:lnTo>
                  <a:lnTo>
                    <a:pt x="1103" y="2080"/>
                  </a:lnTo>
                  <a:lnTo>
                    <a:pt x="1133" y="2077"/>
                  </a:lnTo>
                  <a:lnTo>
                    <a:pt x="1164" y="2074"/>
                  </a:lnTo>
                  <a:lnTo>
                    <a:pt x="1193" y="2071"/>
                  </a:lnTo>
                  <a:lnTo>
                    <a:pt x="1222" y="2066"/>
                  </a:lnTo>
                  <a:lnTo>
                    <a:pt x="1251" y="2060"/>
                  </a:lnTo>
                  <a:lnTo>
                    <a:pt x="1280" y="2055"/>
                  </a:lnTo>
                  <a:lnTo>
                    <a:pt x="1309" y="2047"/>
                  </a:lnTo>
                  <a:lnTo>
                    <a:pt x="1337" y="2040"/>
                  </a:lnTo>
                  <a:lnTo>
                    <a:pt x="1365" y="2031"/>
                  </a:lnTo>
                  <a:lnTo>
                    <a:pt x="1393" y="2021"/>
                  </a:lnTo>
                  <a:lnTo>
                    <a:pt x="1420" y="2012"/>
                  </a:lnTo>
                  <a:lnTo>
                    <a:pt x="1447" y="2001"/>
                  </a:lnTo>
                  <a:lnTo>
                    <a:pt x="1473" y="1989"/>
                  </a:lnTo>
                  <a:lnTo>
                    <a:pt x="1499" y="1976"/>
                  </a:lnTo>
                  <a:lnTo>
                    <a:pt x="1480" y="1939"/>
                  </a:lnTo>
                  <a:lnTo>
                    <a:pt x="1455" y="1951"/>
                  </a:lnTo>
                  <a:lnTo>
                    <a:pt x="1431" y="1962"/>
                  </a:lnTo>
                  <a:lnTo>
                    <a:pt x="1405" y="1973"/>
                  </a:lnTo>
                  <a:lnTo>
                    <a:pt x="1379" y="1982"/>
                  </a:lnTo>
                  <a:lnTo>
                    <a:pt x="1352" y="1991"/>
                  </a:lnTo>
                  <a:lnTo>
                    <a:pt x="1325" y="2000"/>
                  </a:lnTo>
                  <a:lnTo>
                    <a:pt x="1298" y="2007"/>
                  </a:lnTo>
                  <a:lnTo>
                    <a:pt x="1271" y="2014"/>
                  </a:lnTo>
                  <a:lnTo>
                    <a:pt x="1243" y="2020"/>
                  </a:lnTo>
                  <a:lnTo>
                    <a:pt x="1216" y="2025"/>
                  </a:lnTo>
                  <a:lnTo>
                    <a:pt x="1186" y="2030"/>
                  </a:lnTo>
                  <a:lnTo>
                    <a:pt x="1158" y="2033"/>
                  </a:lnTo>
                  <a:lnTo>
                    <a:pt x="1129" y="2036"/>
                  </a:lnTo>
                  <a:lnTo>
                    <a:pt x="1101" y="2039"/>
                  </a:lnTo>
                  <a:lnTo>
                    <a:pt x="1072" y="2040"/>
                  </a:lnTo>
                  <a:lnTo>
                    <a:pt x="1042" y="2040"/>
                  </a:lnTo>
                  <a:lnTo>
                    <a:pt x="991" y="2039"/>
                  </a:lnTo>
                  <a:lnTo>
                    <a:pt x="940" y="2035"/>
                  </a:lnTo>
                  <a:lnTo>
                    <a:pt x="890" y="2029"/>
                  </a:lnTo>
                  <a:lnTo>
                    <a:pt x="841" y="2019"/>
                  </a:lnTo>
                  <a:lnTo>
                    <a:pt x="792" y="2008"/>
                  </a:lnTo>
                  <a:lnTo>
                    <a:pt x="744" y="1995"/>
                  </a:lnTo>
                  <a:lnTo>
                    <a:pt x="698" y="1979"/>
                  </a:lnTo>
                  <a:lnTo>
                    <a:pt x="653" y="1962"/>
                  </a:lnTo>
                  <a:lnTo>
                    <a:pt x="608" y="1941"/>
                  </a:lnTo>
                  <a:lnTo>
                    <a:pt x="565" y="1920"/>
                  </a:lnTo>
                  <a:lnTo>
                    <a:pt x="524" y="1895"/>
                  </a:lnTo>
                  <a:lnTo>
                    <a:pt x="483" y="1869"/>
                  </a:lnTo>
                  <a:lnTo>
                    <a:pt x="444" y="1841"/>
                  </a:lnTo>
                  <a:lnTo>
                    <a:pt x="406" y="1812"/>
                  </a:lnTo>
                  <a:lnTo>
                    <a:pt x="370" y="1780"/>
                  </a:lnTo>
                  <a:lnTo>
                    <a:pt x="335" y="1747"/>
                  </a:lnTo>
                  <a:lnTo>
                    <a:pt x="301" y="1712"/>
                  </a:lnTo>
                  <a:lnTo>
                    <a:pt x="270" y="1676"/>
                  </a:lnTo>
                  <a:lnTo>
                    <a:pt x="241" y="1639"/>
                  </a:lnTo>
                  <a:lnTo>
                    <a:pt x="213" y="1599"/>
                  </a:lnTo>
                  <a:lnTo>
                    <a:pt x="187" y="1559"/>
                  </a:lnTo>
                  <a:lnTo>
                    <a:pt x="163" y="1517"/>
                  </a:lnTo>
                  <a:lnTo>
                    <a:pt x="140" y="1474"/>
                  </a:lnTo>
                  <a:lnTo>
                    <a:pt x="121" y="1429"/>
                  </a:lnTo>
                  <a:lnTo>
                    <a:pt x="103" y="1384"/>
                  </a:lnTo>
                  <a:lnTo>
                    <a:pt x="88" y="1338"/>
                  </a:lnTo>
                  <a:lnTo>
                    <a:pt x="73" y="1290"/>
                  </a:lnTo>
                  <a:lnTo>
                    <a:pt x="63" y="1242"/>
                  </a:lnTo>
                  <a:lnTo>
                    <a:pt x="54" y="1193"/>
                  </a:lnTo>
                  <a:lnTo>
                    <a:pt x="48" y="1142"/>
                  </a:lnTo>
                  <a:lnTo>
                    <a:pt x="43" y="1091"/>
                  </a:lnTo>
                  <a:lnTo>
                    <a:pt x="42" y="1041"/>
                  </a:lnTo>
                  <a:lnTo>
                    <a:pt x="43" y="989"/>
                  </a:lnTo>
                  <a:lnTo>
                    <a:pt x="48" y="938"/>
                  </a:lnTo>
                  <a:lnTo>
                    <a:pt x="54" y="888"/>
                  </a:lnTo>
                  <a:lnTo>
                    <a:pt x="63" y="839"/>
                  </a:lnTo>
                  <a:lnTo>
                    <a:pt x="73" y="790"/>
                  </a:lnTo>
                  <a:lnTo>
                    <a:pt x="88" y="744"/>
                  </a:lnTo>
                  <a:lnTo>
                    <a:pt x="103" y="697"/>
                  </a:lnTo>
                  <a:lnTo>
                    <a:pt x="121" y="652"/>
                  </a:lnTo>
                  <a:lnTo>
                    <a:pt x="140" y="608"/>
                  </a:lnTo>
                  <a:lnTo>
                    <a:pt x="163" y="564"/>
                  </a:lnTo>
                  <a:lnTo>
                    <a:pt x="187" y="522"/>
                  </a:lnTo>
                  <a:lnTo>
                    <a:pt x="213" y="481"/>
                  </a:lnTo>
                  <a:lnTo>
                    <a:pt x="241" y="442"/>
                  </a:lnTo>
                  <a:lnTo>
                    <a:pt x="270" y="405"/>
                  </a:lnTo>
                  <a:lnTo>
                    <a:pt x="301" y="368"/>
                  </a:lnTo>
                  <a:lnTo>
                    <a:pt x="335" y="333"/>
                  </a:lnTo>
                  <a:lnTo>
                    <a:pt x="370" y="301"/>
                  </a:lnTo>
                  <a:lnTo>
                    <a:pt x="406" y="270"/>
                  </a:lnTo>
                  <a:lnTo>
                    <a:pt x="444" y="239"/>
                  </a:lnTo>
                  <a:lnTo>
                    <a:pt x="483" y="211"/>
                  </a:lnTo>
                  <a:lnTo>
                    <a:pt x="524" y="185"/>
                  </a:lnTo>
                  <a:lnTo>
                    <a:pt x="565" y="162"/>
                  </a:lnTo>
                  <a:lnTo>
                    <a:pt x="608" y="140"/>
                  </a:lnTo>
                  <a:lnTo>
                    <a:pt x="653" y="119"/>
                  </a:lnTo>
                  <a:lnTo>
                    <a:pt x="698" y="101"/>
                  </a:lnTo>
                  <a:lnTo>
                    <a:pt x="744" y="86"/>
                  </a:lnTo>
                  <a:lnTo>
                    <a:pt x="792" y="72"/>
                  </a:lnTo>
                  <a:lnTo>
                    <a:pt x="841" y="61"/>
                  </a:lnTo>
                  <a:lnTo>
                    <a:pt x="890" y="52"/>
                  </a:lnTo>
                  <a:lnTo>
                    <a:pt x="940" y="46"/>
                  </a:lnTo>
                  <a:lnTo>
                    <a:pt x="991" y="42"/>
                  </a:lnTo>
                  <a:lnTo>
                    <a:pt x="1042" y="41"/>
                  </a:lnTo>
                  <a:lnTo>
                    <a:pt x="1094" y="42"/>
                  </a:lnTo>
                  <a:lnTo>
                    <a:pt x="1144" y="46"/>
                  </a:lnTo>
                  <a:lnTo>
                    <a:pt x="1194" y="52"/>
                  </a:lnTo>
                  <a:lnTo>
                    <a:pt x="1244" y="61"/>
                  </a:lnTo>
                  <a:lnTo>
                    <a:pt x="1292" y="72"/>
                  </a:lnTo>
                  <a:lnTo>
                    <a:pt x="1340" y="86"/>
                  </a:lnTo>
                  <a:lnTo>
                    <a:pt x="1386" y="101"/>
                  </a:lnTo>
                  <a:lnTo>
                    <a:pt x="1432" y="119"/>
                  </a:lnTo>
                  <a:lnTo>
                    <a:pt x="1476" y="140"/>
                  </a:lnTo>
                  <a:lnTo>
                    <a:pt x="1519" y="162"/>
                  </a:lnTo>
                  <a:lnTo>
                    <a:pt x="1560" y="185"/>
                  </a:lnTo>
                  <a:lnTo>
                    <a:pt x="1601" y="211"/>
                  </a:lnTo>
                  <a:lnTo>
                    <a:pt x="1640" y="239"/>
                  </a:lnTo>
                  <a:lnTo>
                    <a:pt x="1678" y="270"/>
                  </a:lnTo>
                  <a:lnTo>
                    <a:pt x="1715" y="301"/>
                  </a:lnTo>
                  <a:lnTo>
                    <a:pt x="1749" y="333"/>
                  </a:lnTo>
                  <a:lnTo>
                    <a:pt x="1783" y="368"/>
                  </a:lnTo>
                  <a:lnTo>
                    <a:pt x="1814" y="405"/>
                  </a:lnTo>
                  <a:lnTo>
                    <a:pt x="1843" y="442"/>
                  </a:lnTo>
                  <a:lnTo>
                    <a:pt x="1871" y="481"/>
                  </a:lnTo>
                  <a:lnTo>
                    <a:pt x="1897" y="522"/>
                  </a:lnTo>
                  <a:lnTo>
                    <a:pt x="1921" y="564"/>
                  </a:lnTo>
                  <a:lnTo>
                    <a:pt x="1944" y="608"/>
                  </a:lnTo>
                  <a:lnTo>
                    <a:pt x="1963" y="652"/>
                  </a:lnTo>
                  <a:lnTo>
                    <a:pt x="1982" y="697"/>
                  </a:lnTo>
                  <a:lnTo>
                    <a:pt x="1997" y="744"/>
                  </a:lnTo>
                  <a:lnTo>
                    <a:pt x="2011" y="790"/>
                  </a:lnTo>
                  <a:lnTo>
                    <a:pt x="2022" y="839"/>
                  </a:lnTo>
                  <a:lnTo>
                    <a:pt x="2030" y="888"/>
                  </a:lnTo>
                  <a:lnTo>
                    <a:pt x="2037" y="938"/>
                  </a:lnTo>
                  <a:lnTo>
                    <a:pt x="2041" y="989"/>
                  </a:lnTo>
                  <a:lnTo>
                    <a:pt x="2042" y="1041"/>
                  </a:lnTo>
                  <a:lnTo>
                    <a:pt x="2041" y="1074"/>
                  </a:lnTo>
                  <a:lnTo>
                    <a:pt x="2040" y="1108"/>
                  </a:lnTo>
                  <a:lnTo>
                    <a:pt x="2037" y="1140"/>
                  </a:lnTo>
                  <a:lnTo>
                    <a:pt x="2034" y="1172"/>
                  </a:lnTo>
                  <a:lnTo>
                    <a:pt x="2028" y="1205"/>
                  </a:lnTo>
                  <a:lnTo>
                    <a:pt x="2023" y="1237"/>
                  </a:lnTo>
                  <a:lnTo>
                    <a:pt x="2016" y="1269"/>
                  </a:lnTo>
                  <a:lnTo>
                    <a:pt x="2008" y="1300"/>
                  </a:lnTo>
                  <a:lnTo>
                    <a:pt x="2049" y="1311"/>
                  </a:lnTo>
                  <a:lnTo>
                    <a:pt x="2056" y="1278"/>
                  </a:lnTo>
                  <a:lnTo>
                    <a:pt x="2064" y="1246"/>
                  </a:lnTo>
                  <a:lnTo>
                    <a:pt x="2069" y="1212"/>
                  </a:lnTo>
                  <a:lnTo>
                    <a:pt x="2075" y="1179"/>
                  </a:lnTo>
                  <a:lnTo>
                    <a:pt x="2079" y="1144"/>
                  </a:lnTo>
                  <a:lnTo>
                    <a:pt x="2081" y="1110"/>
                  </a:lnTo>
                  <a:lnTo>
                    <a:pt x="2083" y="1075"/>
                  </a:lnTo>
                  <a:lnTo>
                    <a:pt x="2084" y="104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168800" y="2592360"/>
              <a:ext cx="809640" cy="80964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041" y="1021"/>
                  </a:moveTo>
                  <a:lnTo>
                    <a:pt x="2040" y="968"/>
                  </a:lnTo>
                  <a:lnTo>
                    <a:pt x="2035" y="916"/>
                  </a:lnTo>
                  <a:lnTo>
                    <a:pt x="2029" y="865"/>
                  </a:lnTo>
                  <a:lnTo>
                    <a:pt x="2020" y="814"/>
                  </a:lnTo>
                  <a:lnTo>
                    <a:pt x="2009" y="766"/>
                  </a:lnTo>
                  <a:lnTo>
                    <a:pt x="1995" y="717"/>
                  </a:lnTo>
                  <a:lnTo>
                    <a:pt x="1979" y="670"/>
                  </a:lnTo>
                  <a:lnTo>
                    <a:pt x="1961" y="623"/>
                  </a:lnTo>
                  <a:lnTo>
                    <a:pt x="1940" y="578"/>
                  </a:lnTo>
                  <a:lnTo>
                    <a:pt x="1918" y="534"/>
                  </a:lnTo>
                  <a:lnTo>
                    <a:pt x="1893" y="491"/>
                  </a:lnTo>
                  <a:lnTo>
                    <a:pt x="1867" y="450"/>
                  </a:lnTo>
                  <a:lnTo>
                    <a:pt x="1839" y="409"/>
                  </a:lnTo>
                  <a:lnTo>
                    <a:pt x="1807" y="372"/>
                  </a:lnTo>
                  <a:lnTo>
                    <a:pt x="1776" y="335"/>
                  </a:lnTo>
                  <a:lnTo>
                    <a:pt x="1743" y="299"/>
                  </a:lnTo>
                  <a:lnTo>
                    <a:pt x="1707" y="265"/>
                  </a:lnTo>
                  <a:lnTo>
                    <a:pt x="1669" y="233"/>
                  </a:lnTo>
                  <a:lnTo>
                    <a:pt x="1631" y="203"/>
                  </a:lnTo>
                  <a:lnTo>
                    <a:pt x="1591" y="174"/>
                  </a:lnTo>
                  <a:lnTo>
                    <a:pt x="1549" y="148"/>
                  </a:lnTo>
                  <a:lnTo>
                    <a:pt x="1507" y="123"/>
                  </a:lnTo>
                  <a:lnTo>
                    <a:pt x="1463" y="101"/>
                  </a:lnTo>
                  <a:lnTo>
                    <a:pt x="1417" y="80"/>
                  </a:lnTo>
                  <a:lnTo>
                    <a:pt x="1371" y="62"/>
                  </a:lnTo>
                  <a:lnTo>
                    <a:pt x="1323" y="45"/>
                  </a:lnTo>
                  <a:lnTo>
                    <a:pt x="1276" y="32"/>
                  </a:lnTo>
                  <a:lnTo>
                    <a:pt x="1226" y="21"/>
                  </a:lnTo>
                  <a:lnTo>
                    <a:pt x="1175" y="12"/>
                  </a:lnTo>
                  <a:lnTo>
                    <a:pt x="1124" y="5"/>
                  </a:lnTo>
                  <a:lnTo>
                    <a:pt x="1073" y="1"/>
                  </a:lnTo>
                  <a:lnTo>
                    <a:pt x="1020" y="0"/>
                  </a:lnTo>
                  <a:lnTo>
                    <a:pt x="968" y="1"/>
                  </a:lnTo>
                  <a:lnTo>
                    <a:pt x="916" y="5"/>
                  </a:lnTo>
                  <a:lnTo>
                    <a:pt x="865" y="12"/>
                  </a:lnTo>
                  <a:lnTo>
                    <a:pt x="814" y="21"/>
                  </a:lnTo>
                  <a:lnTo>
                    <a:pt x="765" y="32"/>
                  </a:lnTo>
                  <a:lnTo>
                    <a:pt x="717" y="45"/>
                  </a:lnTo>
                  <a:lnTo>
                    <a:pt x="670" y="62"/>
                  </a:lnTo>
                  <a:lnTo>
                    <a:pt x="623" y="80"/>
                  </a:lnTo>
                  <a:lnTo>
                    <a:pt x="578" y="101"/>
                  </a:lnTo>
                  <a:lnTo>
                    <a:pt x="533" y="123"/>
                  </a:lnTo>
                  <a:lnTo>
                    <a:pt x="491" y="148"/>
                  </a:lnTo>
                  <a:lnTo>
                    <a:pt x="449" y="174"/>
                  </a:lnTo>
                  <a:lnTo>
                    <a:pt x="409" y="203"/>
                  </a:lnTo>
                  <a:lnTo>
                    <a:pt x="371" y="233"/>
                  </a:lnTo>
                  <a:lnTo>
                    <a:pt x="334" y="265"/>
                  </a:lnTo>
                  <a:lnTo>
                    <a:pt x="298" y="299"/>
                  </a:lnTo>
                  <a:lnTo>
                    <a:pt x="264" y="335"/>
                  </a:lnTo>
                  <a:lnTo>
                    <a:pt x="232" y="372"/>
                  </a:lnTo>
                  <a:lnTo>
                    <a:pt x="202" y="409"/>
                  </a:lnTo>
                  <a:lnTo>
                    <a:pt x="174" y="450"/>
                  </a:lnTo>
                  <a:lnTo>
                    <a:pt x="147" y="491"/>
                  </a:lnTo>
                  <a:lnTo>
                    <a:pt x="123" y="534"/>
                  </a:lnTo>
                  <a:lnTo>
                    <a:pt x="100" y="578"/>
                  </a:lnTo>
                  <a:lnTo>
                    <a:pt x="80" y="623"/>
                  </a:lnTo>
                  <a:lnTo>
                    <a:pt x="61" y="670"/>
                  </a:lnTo>
                  <a:lnTo>
                    <a:pt x="45" y="717"/>
                  </a:lnTo>
                  <a:lnTo>
                    <a:pt x="31" y="766"/>
                  </a:lnTo>
                  <a:lnTo>
                    <a:pt x="20" y="814"/>
                  </a:lnTo>
                  <a:lnTo>
                    <a:pt x="12" y="865"/>
                  </a:lnTo>
                  <a:lnTo>
                    <a:pt x="5" y="916"/>
                  </a:lnTo>
                  <a:lnTo>
                    <a:pt x="1" y="968"/>
                  </a:lnTo>
                  <a:lnTo>
                    <a:pt x="0" y="1021"/>
                  </a:lnTo>
                  <a:lnTo>
                    <a:pt x="1" y="1073"/>
                  </a:lnTo>
                  <a:lnTo>
                    <a:pt x="5" y="1124"/>
                  </a:lnTo>
                  <a:lnTo>
                    <a:pt x="12" y="1176"/>
                  </a:lnTo>
                  <a:lnTo>
                    <a:pt x="20" y="1226"/>
                  </a:lnTo>
                  <a:lnTo>
                    <a:pt x="31" y="1276"/>
                  </a:lnTo>
                  <a:lnTo>
                    <a:pt x="45" y="1324"/>
                  </a:lnTo>
                  <a:lnTo>
                    <a:pt x="61" y="1372"/>
                  </a:lnTo>
                  <a:lnTo>
                    <a:pt x="80" y="1418"/>
                  </a:lnTo>
                  <a:lnTo>
                    <a:pt x="100" y="1462"/>
                  </a:lnTo>
                  <a:lnTo>
                    <a:pt x="123" y="1507"/>
                  </a:lnTo>
                  <a:lnTo>
                    <a:pt x="147" y="1550"/>
                  </a:lnTo>
                  <a:lnTo>
                    <a:pt x="174" y="1591"/>
                  </a:lnTo>
                  <a:lnTo>
                    <a:pt x="202" y="1631"/>
                  </a:lnTo>
                  <a:lnTo>
                    <a:pt x="232" y="1670"/>
                  </a:lnTo>
                  <a:lnTo>
                    <a:pt x="264" y="1706"/>
                  </a:lnTo>
                  <a:lnTo>
                    <a:pt x="298" y="1742"/>
                  </a:lnTo>
                  <a:lnTo>
                    <a:pt x="334" y="1776"/>
                  </a:lnTo>
                  <a:lnTo>
                    <a:pt x="371" y="1808"/>
                  </a:lnTo>
                  <a:lnTo>
                    <a:pt x="409" y="1838"/>
                  </a:lnTo>
                  <a:lnTo>
                    <a:pt x="449" y="1866"/>
                  </a:lnTo>
                  <a:lnTo>
                    <a:pt x="491" y="1893"/>
                  </a:lnTo>
                  <a:lnTo>
                    <a:pt x="533" y="1918"/>
                  </a:lnTo>
                  <a:lnTo>
                    <a:pt x="578" y="1940"/>
                  </a:lnTo>
                  <a:lnTo>
                    <a:pt x="623" y="1960"/>
                  </a:lnTo>
                  <a:lnTo>
                    <a:pt x="670" y="1979"/>
                  </a:lnTo>
                  <a:lnTo>
                    <a:pt x="717" y="1995"/>
                  </a:lnTo>
                  <a:lnTo>
                    <a:pt x="765" y="2009"/>
                  </a:lnTo>
                  <a:lnTo>
                    <a:pt x="814" y="2020"/>
                  </a:lnTo>
                  <a:lnTo>
                    <a:pt x="865" y="2029"/>
                  </a:lnTo>
                  <a:lnTo>
                    <a:pt x="916" y="2036"/>
                  </a:lnTo>
                  <a:lnTo>
                    <a:pt x="968" y="2039"/>
                  </a:lnTo>
                  <a:lnTo>
                    <a:pt x="1020" y="2041"/>
                  </a:lnTo>
                  <a:lnTo>
                    <a:pt x="1050" y="2040"/>
                  </a:lnTo>
                  <a:lnTo>
                    <a:pt x="1080" y="2039"/>
                  </a:lnTo>
                  <a:lnTo>
                    <a:pt x="1109" y="2037"/>
                  </a:lnTo>
                  <a:lnTo>
                    <a:pt x="1139" y="2034"/>
                  </a:lnTo>
                  <a:lnTo>
                    <a:pt x="1168" y="2030"/>
                  </a:lnTo>
                  <a:lnTo>
                    <a:pt x="1197" y="2025"/>
                  </a:lnTo>
                  <a:lnTo>
                    <a:pt x="1225" y="2020"/>
                  </a:lnTo>
                  <a:lnTo>
                    <a:pt x="1253" y="2014"/>
                  </a:lnTo>
                  <a:lnTo>
                    <a:pt x="1281" y="2007"/>
                  </a:lnTo>
                  <a:lnTo>
                    <a:pt x="1309" y="1999"/>
                  </a:lnTo>
                  <a:lnTo>
                    <a:pt x="1336" y="1991"/>
                  </a:lnTo>
                  <a:lnTo>
                    <a:pt x="1363" y="1982"/>
                  </a:lnTo>
                  <a:lnTo>
                    <a:pt x="1390" y="1972"/>
                  </a:lnTo>
                  <a:lnTo>
                    <a:pt x="1416" y="1961"/>
                  </a:lnTo>
                  <a:lnTo>
                    <a:pt x="1442" y="1949"/>
                  </a:lnTo>
                  <a:lnTo>
                    <a:pt x="1468" y="1938"/>
                  </a:lnTo>
                  <a:lnTo>
                    <a:pt x="1450" y="1900"/>
                  </a:lnTo>
                  <a:lnTo>
                    <a:pt x="1425" y="1912"/>
                  </a:lnTo>
                  <a:lnTo>
                    <a:pt x="1400" y="1922"/>
                  </a:lnTo>
                  <a:lnTo>
                    <a:pt x="1375" y="1933"/>
                  </a:lnTo>
                  <a:lnTo>
                    <a:pt x="1349" y="1942"/>
                  </a:lnTo>
                  <a:lnTo>
                    <a:pt x="1323" y="1952"/>
                  </a:lnTo>
                  <a:lnTo>
                    <a:pt x="1297" y="1959"/>
                  </a:lnTo>
                  <a:lnTo>
                    <a:pt x="1270" y="1967"/>
                  </a:lnTo>
                  <a:lnTo>
                    <a:pt x="1244" y="1973"/>
                  </a:lnTo>
                  <a:lnTo>
                    <a:pt x="1217" y="1980"/>
                  </a:lnTo>
                  <a:lnTo>
                    <a:pt x="1189" y="1985"/>
                  </a:lnTo>
                  <a:lnTo>
                    <a:pt x="1162" y="1989"/>
                  </a:lnTo>
                  <a:lnTo>
                    <a:pt x="1134" y="1993"/>
                  </a:lnTo>
                  <a:lnTo>
                    <a:pt x="1106" y="1996"/>
                  </a:lnTo>
                  <a:lnTo>
                    <a:pt x="1078" y="1997"/>
                  </a:lnTo>
                  <a:lnTo>
                    <a:pt x="1049" y="1999"/>
                  </a:lnTo>
                  <a:lnTo>
                    <a:pt x="1020" y="1999"/>
                  </a:lnTo>
                  <a:lnTo>
                    <a:pt x="970" y="1998"/>
                  </a:lnTo>
                  <a:lnTo>
                    <a:pt x="920" y="1994"/>
                  </a:lnTo>
                  <a:lnTo>
                    <a:pt x="871" y="1988"/>
                  </a:lnTo>
                  <a:lnTo>
                    <a:pt x="823" y="1980"/>
                  </a:lnTo>
                  <a:lnTo>
                    <a:pt x="775" y="1968"/>
                  </a:lnTo>
                  <a:lnTo>
                    <a:pt x="729" y="1955"/>
                  </a:lnTo>
                  <a:lnTo>
                    <a:pt x="684" y="1940"/>
                  </a:lnTo>
                  <a:lnTo>
                    <a:pt x="639" y="1922"/>
                  </a:lnTo>
                  <a:lnTo>
                    <a:pt x="596" y="1903"/>
                  </a:lnTo>
                  <a:lnTo>
                    <a:pt x="554" y="1881"/>
                  </a:lnTo>
                  <a:lnTo>
                    <a:pt x="513" y="1858"/>
                  </a:lnTo>
                  <a:lnTo>
                    <a:pt x="473" y="1832"/>
                  </a:lnTo>
                  <a:lnTo>
                    <a:pt x="434" y="1805"/>
                  </a:lnTo>
                  <a:lnTo>
                    <a:pt x="397" y="1776"/>
                  </a:lnTo>
                  <a:lnTo>
                    <a:pt x="362" y="1745"/>
                  </a:lnTo>
                  <a:lnTo>
                    <a:pt x="328" y="1713"/>
                  </a:lnTo>
                  <a:lnTo>
                    <a:pt x="296" y="1678"/>
                  </a:lnTo>
                  <a:lnTo>
                    <a:pt x="264" y="1643"/>
                  </a:lnTo>
                  <a:lnTo>
                    <a:pt x="235" y="1606"/>
                  </a:lnTo>
                  <a:lnTo>
                    <a:pt x="208" y="1567"/>
                  </a:lnTo>
                  <a:lnTo>
                    <a:pt x="182" y="1528"/>
                  </a:lnTo>
                  <a:lnTo>
                    <a:pt x="160" y="1487"/>
                  </a:lnTo>
                  <a:lnTo>
                    <a:pt x="138" y="1445"/>
                  </a:lnTo>
                  <a:lnTo>
                    <a:pt x="117" y="1401"/>
                  </a:lnTo>
                  <a:lnTo>
                    <a:pt x="100" y="1357"/>
                  </a:lnTo>
                  <a:lnTo>
                    <a:pt x="85" y="1311"/>
                  </a:lnTo>
                  <a:lnTo>
                    <a:pt x="72" y="1265"/>
                  </a:lnTo>
                  <a:lnTo>
                    <a:pt x="61" y="1217"/>
                  </a:lnTo>
                  <a:lnTo>
                    <a:pt x="53" y="1170"/>
                  </a:lnTo>
                  <a:lnTo>
                    <a:pt x="46" y="1120"/>
                  </a:lnTo>
                  <a:lnTo>
                    <a:pt x="42" y="1070"/>
                  </a:lnTo>
                  <a:lnTo>
                    <a:pt x="41" y="1021"/>
                  </a:lnTo>
                  <a:lnTo>
                    <a:pt x="42" y="970"/>
                  </a:lnTo>
                  <a:lnTo>
                    <a:pt x="46" y="920"/>
                  </a:lnTo>
                  <a:lnTo>
                    <a:pt x="53" y="872"/>
                  </a:lnTo>
                  <a:lnTo>
                    <a:pt x="61" y="823"/>
                  </a:lnTo>
                  <a:lnTo>
                    <a:pt x="72" y="776"/>
                  </a:lnTo>
                  <a:lnTo>
                    <a:pt x="85" y="729"/>
                  </a:lnTo>
                  <a:lnTo>
                    <a:pt x="100" y="684"/>
                  </a:lnTo>
                  <a:lnTo>
                    <a:pt x="117" y="639"/>
                  </a:lnTo>
                  <a:lnTo>
                    <a:pt x="138" y="596"/>
                  </a:lnTo>
                  <a:lnTo>
                    <a:pt x="160" y="554"/>
                  </a:lnTo>
                  <a:lnTo>
                    <a:pt x="182" y="513"/>
                  </a:lnTo>
                  <a:lnTo>
                    <a:pt x="208" y="473"/>
                  </a:lnTo>
                  <a:lnTo>
                    <a:pt x="235" y="435"/>
                  </a:lnTo>
                  <a:lnTo>
                    <a:pt x="264" y="398"/>
                  </a:lnTo>
                  <a:lnTo>
                    <a:pt x="296" y="362"/>
                  </a:lnTo>
                  <a:lnTo>
                    <a:pt x="328" y="328"/>
                  </a:lnTo>
                  <a:lnTo>
                    <a:pt x="362" y="296"/>
                  </a:lnTo>
                  <a:lnTo>
                    <a:pt x="397" y="265"/>
                  </a:lnTo>
                  <a:lnTo>
                    <a:pt x="434" y="237"/>
                  </a:lnTo>
                  <a:lnTo>
                    <a:pt x="473" y="209"/>
                  </a:lnTo>
                  <a:lnTo>
                    <a:pt x="513" y="184"/>
                  </a:lnTo>
                  <a:lnTo>
                    <a:pt x="554" y="160"/>
                  </a:lnTo>
                  <a:lnTo>
                    <a:pt x="596" y="138"/>
                  </a:lnTo>
                  <a:lnTo>
                    <a:pt x="639" y="119"/>
                  </a:lnTo>
                  <a:lnTo>
                    <a:pt x="684" y="102"/>
                  </a:lnTo>
                  <a:lnTo>
                    <a:pt x="729" y="85"/>
                  </a:lnTo>
                  <a:lnTo>
                    <a:pt x="775" y="72"/>
                  </a:lnTo>
                  <a:lnTo>
                    <a:pt x="823" y="62"/>
                  </a:lnTo>
                  <a:lnTo>
                    <a:pt x="871" y="53"/>
                  </a:lnTo>
                  <a:lnTo>
                    <a:pt x="920" y="47"/>
                  </a:lnTo>
                  <a:lnTo>
                    <a:pt x="970" y="43"/>
                  </a:lnTo>
                  <a:lnTo>
                    <a:pt x="1020" y="41"/>
                  </a:lnTo>
                  <a:lnTo>
                    <a:pt x="1070" y="43"/>
                  </a:lnTo>
                  <a:lnTo>
                    <a:pt x="1120" y="47"/>
                  </a:lnTo>
                  <a:lnTo>
                    <a:pt x="1169" y="53"/>
                  </a:lnTo>
                  <a:lnTo>
                    <a:pt x="1217" y="62"/>
                  </a:lnTo>
                  <a:lnTo>
                    <a:pt x="1265" y="72"/>
                  </a:lnTo>
                  <a:lnTo>
                    <a:pt x="1311" y="85"/>
                  </a:lnTo>
                  <a:lnTo>
                    <a:pt x="1357" y="102"/>
                  </a:lnTo>
                  <a:lnTo>
                    <a:pt x="1401" y="119"/>
                  </a:lnTo>
                  <a:lnTo>
                    <a:pt x="1444" y="138"/>
                  </a:lnTo>
                  <a:lnTo>
                    <a:pt x="1486" y="160"/>
                  </a:lnTo>
                  <a:lnTo>
                    <a:pt x="1527" y="184"/>
                  </a:lnTo>
                  <a:lnTo>
                    <a:pt x="1567" y="209"/>
                  </a:lnTo>
                  <a:lnTo>
                    <a:pt x="1606" y="237"/>
                  </a:lnTo>
                  <a:lnTo>
                    <a:pt x="1643" y="265"/>
                  </a:lnTo>
                  <a:lnTo>
                    <a:pt x="1679" y="296"/>
                  </a:lnTo>
                  <a:lnTo>
                    <a:pt x="1712" y="328"/>
                  </a:lnTo>
                  <a:lnTo>
                    <a:pt x="1745" y="362"/>
                  </a:lnTo>
                  <a:lnTo>
                    <a:pt x="1776" y="398"/>
                  </a:lnTo>
                  <a:lnTo>
                    <a:pt x="1805" y="435"/>
                  </a:lnTo>
                  <a:lnTo>
                    <a:pt x="1832" y="473"/>
                  </a:lnTo>
                  <a:lnTo>
                    <a:pt x="1857" y="513"/>
                  </a:lnTo>
                  <a:lnTo>
                    <a:pt x="1881" y="554"/>
                  </a:lnTo>
                  <a:lnTo>
                    <a:pt x="1902" y="596"/>
                  </a:lnTo>
                  <a:lnTo>
                    <a:pt x="1922" y="639"/>
                  </a:lnTo>
                  <a:lnTo>
                    <a:pt x="1940" y="684"/>
                  </a:lnTo>
                  <a:lnTo>
                    <a:pt x="1955" y="729"/>
                  </a:lnTo>
                  <a:lnTo>
                    <a:pt x="1968" y="776"/>
                  </a:lnTo>
                  <a:lnTo>
                    <a:pt x="1979" y="823"/>
                  </a:lnTo>
                  <a:lnTo>
                    <a:pt x="1988" y="872"/>
                  </a:lnTo>
                  <a:lnTo>
                    <a:pt x="1994" y="920"/>
                  </a:lnTo>
                  <a:lnTo>
                    <a:pt x="1999" y="970"/>
                  </a:lnTo>
                  <a:lnTo>
                    <a:pt x="2000" y="1021"/>
                  </a:lnTo>
                  <a:lnTo>
                    <a:pt x="1999" y="1053"/>
                  </a:lnTo>
                  <a:lnTo>
                    <a:pt x="1998" y="1085"/>
                  </a:lnTo>
                  <a:lnTo>
                    <a:pt x="1994" y="1118"/>
                  </a:lnTo>
                  <a:lnTo>
                    <a:pt x="1991" y="1150"/>
                  </a:lnTo>
                  <a:lnTo>
                    <a:pt x="1986" y="1182"/>
                  </a:lnTo>
                  <a:lnTo>
                    <a:pt x="1980" y="1213"/>
                  </a:lnTo>
                  <a:lnTo>
                    <a:pt x="1974" y="1244"/>
                  </a:lnTo>
                  <a:lnTo>
                    <a:pt x="1966" y="1274"/>
                  </a:lnTo>
                  <a:lnTo>
                    <a:pt x="2006" y="1285"/>
                  </a:lnTo>
                  <a:lnTo>
                    <a:pt x="2014" y="1254"/>
                  </a:lnTo>
                  <a:lnTo>
                    <a:pt x="2021" y="1222"/>
                  </a:lnTo>
                  <a:lnTo>
                    <a:pt x="2027" y="1189"/>
                  </a:lnTo>
                  <a:lnTo>
                    <a:pt x="2032" y="1156"/>
                  </a:lnTo>
                  <a:lnTo>
                    <a:pt x="2036" y="1122"/>
                  </a:lnTo>
                  <a:lnTo>
                    <a:pt x="2039" y="1089"/>
                  </a:lnTo>
                  <a:lnTo>
                    <a:pt x="2041" y="1054"/>
                  </a:lnTo>
                  <a:lnTo>
                    <a:pt x="2041" y="1021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176720" y="2600280"/>
              <a:ext cx="793800" cy="793800"/>
            </a:xfrm>
            <a:custGeom>
              <a:avLst/>
              <a:gdLst/>
              <a:ahLst/>
              <a:rect l="l" t="t" r="r" b="b"/>
              <a:pathLst>
                <a:path w="2000" h="1999">
                  <a:moveTo>
                    <a:pt x="2000" y="1000"/>
                  </a:moveTo>
                  <a:lnTo>
                    <a:pt x="1999" y="948"/>
                  </a:lnTo>
                  <a:lnTo>
                    <a:pt x="1995" y="897"/>
                  </a:lnTo>
                  <a:lnTo>
                    <a:pt x="1988" y="847"/>
                  </a:lnTo>
                  <a:lnTo>
                    <a:pt x="1980" y="798"/>
                  </a:lnTo>
                  <a:lnTo>
                    <a:pt x="1969" y="749"/>
                  </a:lnTo>
                  <a:lnTo>
                    <a:pt x="1955" y="703"/>
                  </a:lnTo>
                  <a:lnTo>
                    <a:pt x="1940" y="656"/>
                  </a:lnTo>
                  <a:lnTo>
                    <a:pt x="1921" y="611"/>
                  </a:lnTo>
                  <a:lnTo>
                    <a:pt x="1902" y="567"/>
                  </a:lnTo>
                  <a:lnTo>
                    <a:pt x="1879" y="523"/>
                  </a:lnTo>
                  <a:lnTo>
                    <a:pt x="1855" y="481"/>
                  </a:lnTo>
                  <a:lnTo>
                    <a:pt x="1829" y="440"/>
                  </a:lnTo>
                  <a:lnTo>
                    <a:pt x="1801" y="401"/>
                  </a:lnTo>
                  <a:lnTo>
                    <a:pt x="1772" y="364"/>
                  </a:lnTo>
                  <a:lnTo>
                    <a:pt x="1741" y="327"/>
                  </a:lnTo>
                  <a:lnTo>
                    <a:pt x="1707" y="292"/>
                  </a:lnTo>
                  <a:lnTo>
                    <a:pt x="1673" y="260"/>
                  </a:lnTo>
                  <a:lnTo>
                    <a:pt x="1636" y="229"/>
                  </a:lnTo>
                  <a:lnTo>
                    <a:pt x="1598" y="198"/>
                  </a:lnTo>
                  <a:lnTo>
                    <a:pt x="1559" y="170"/>
                  </a:lnTo>
                  <a:lnTo>
                    <a:pt x="1518" y="144"/>
                  </a:lnTo>
                  <a:lnTo>
                    <a:pt x="1477" y="121"/>
                  </a:lnTo>
                  <a:lnTo>
                    <a:pt x="1434" y="98"/>
                  </a:lnTo>
                  <a:lnTo>
                    <a:pt x="1390" y="78"/>
                  </a:lnTo>
                  <a:lnTo>
                    <a:pt x="1344" y="60"/>
                  </a:lnTo>
                  <a:lnTo>
                    <a:pt x="1298" y="45"/>
                  </a:lnTo>
                  <a:lnTo>
                    <a:pt x="1250" y="31"/>
                  </a:lnTo>
                  <a:lnTo>
                    <a:pt x="1202" y="20"/>
                  </a:lnTo>
                  <a:lnTo>
                    <a:pt x="1152" y="11"/>
                  </a:lnTo>
                  <a:lnTo>
                    <a:pt x="1102" y="5"/>
                  </a:lnTo>
                  <a:lnTo>
                    <a:pt x="1052" y="1"/>
                  </a:lnTo>
                  <a:lnTo>
                    <a:pt x="1000" y="0"/>
                  </a:lnTo>
                  <a:lnTo>
                    <a:pt x="949" y="1"/>
                  </a:lnTo>
                  <a:lnTo>
                    <a:pt x="898" y="5"/>
                  </a:lnTo>
                  <a:lnTo>
                    <a:pt x="848" y="11"/>
                  </a:lnTo>
                  <a:lnTo>
                    <a:pt x="799" y="20"/>
                  </a:lnTo>
                  <a:lnTo>
                    <a:pt x="750" y="31"/>
                  </a:lnTo>
                  <a:lnTo>
                    <a:pt x="702" y="45"/>
                  </a:lnTo>
                  <a:lnTo>
                    <a:pt x="656" y="60"/>
                  </a:lnTo>
                  <a:lnTo>
                    <a:pt x="611" y="78"/>
                  </a:lnTo>
                  <a:lnTo>
                    <a:pt x="566" y="98"/>
                  </a:lnTo>
                  <a:lnTo>
                    <a:pt x="523" y="121"/>
                  </a:lnTo>
                  <a:lnTo>
                    <a:pt x="482" y="144"/>
                  </a:lnTo>
                  <a:lnTo>
                    <a:pt x="441" y="170"/>
                  </a:lnTo>
                  <a:lnTo>
                    <a:pt x="402" y="198"/>
                  </a:lnTo>
                  <a:lnTo>
                    <a:pt x="364" y="229"/>
                  </a:lnTo>
                  <a:lnTo>
                    <a:pt x="328" y="260"/>
                  </a:lnTo>
                  <a:lnTo>
                    <a:pt x="293" y="292"/>
                  </a:lnTo>
                  <a:lnTo>
                    <a:pt x="259" y="327"/>
                  </a:lnTo>
                  <a:lnTo>
                    <a:pt x="228" y="364"/>
                  </a:lnTo>
                  <a:lnTo>
                    <a:pt x="199" y="401"/>
                  </a:lnTo>
                  <a:lnTo>
                    <a:pt x="171" y="440"/>
                  </a:lnTo>
                  <a:lnTo>
                    <a:pt x="145" y="481"/>
                  </a:lnTo>
                  <a:lnTo>
                    <a:pt x="121" y="523"/>
                  </a:lnTo>
                  <a:lnTo>
                    <a:pt x="98" y="567"/>
                  </a:lnTo>
                  <a:lnTo>
                    <a:pt x="79" y="611"/>
                  </a:lnTo>
                  <a:lnTo>
                    <a:pt x="61" y="656"/>
                  </a:lnTo>
                  <a:lnTo>
                    <a:pt x="46" y="703"/>
                  </a:lnTo>
                  <a:lnTo>
                    <a:pt x="31" y="749"/>
                  </a:lnTo>
                  <a:lnTo>
                    <a:pt x="21" y="798"/>
                  </a:lnTo>
                  <a:lnTo>
                    <a:pt x="12" y="847"/>
                  </a:lnTo>
                  <a:lnTo>
                    <a:pt x="6" y="897"/>
                  </a:lnTo>
                  <a:lnTo>
                    <a:pt x="1" y="948"/>
                  </a:lnTo>
                  <a:lnTo>
                    <a:pt x="0" y="1000"/>
                  </a:lnTo>
                  <a:lnTo>
                    <a:pt x="1" y="1050"/>
                  </a:lnTo>
                  <a:lnTo>
                    <a:pt x="6" y="1101"/>
                  </a:lnTo>
                  <a:lnTo>
                    <a:pt x="12" y="1152"/>
                  </a:lnTo>
                  <a:lnTo>
                    <a:pt x="21" y="1201"/>
                  </a:lnTo>
                  <a:lnTo>
                    <a:pt x="31" y="1249"/>
                  </a:lnTo>
                  <a:lnTo>
                    <a:pt x="46" y="1297"/>
                  </a:lnTo>
                  <a:lnTo>
                    <a:pt x="61" y="1343"/>
                  </a:lnTo>
                  <a:lnTo>
                    <a:pt x="79" y="1388"/>
                  </a:lnTo>
                  <a:lnTo>
                    <a:pt x="98" y="1433"/>
                  </a:lnTo>
                  <a:lnTo>
                    <a:pt x="121" y="1476"/>
                  </a:lnTo>
                  <a:lnTo>
                    <a:pt x="145" y="1518"/>
                  </a:lnTo>
                  <a:lnTo>
                    <a:pt x="171" y="1558"/>
                  </a:lnTo>
                  <a:lnTo>
                    <a:pt x="199" y="1598"/>
                  </a:lnTo>
                  <a:lnTo>
                    <a:pt x="228" y="1635"/>
                  </a:lnTo>
                  <a:lnTo>
                    <a:pt x="259" y="1671"/>
                  </a:lnTo>
                  <a:lnTo>
                    <a:pt x="293" y="1706"/>
                  </a:lnTo>
                  <a:lnTo>
                    <a:pt x="328" y="1739"/>
                  </a:lnTo>
                  <a:lnTo>
                    <a:pt x="364" y="1771"/>
                  </a:lnTo>
                  <a:lnTo>
                    <a:pt x="402" y="1800"/>
                  </a:lnTo>
                  <a:lnTo>
                    <a:pt x="441" y="1828"/>
                  </a:lnTo>
                  <a:lnTo>
                    <a:pt x="482" y="1854"/>
                  </a:lnTo>
                  <a:lnTo>
                    <a:pt x="523" y="1879"/>
                  </a:lnTo>
                  <a:lnTo>
                    <a:pt x="566" y="1900"/>
                  </a:lnTo>
                  <a:lnTo>
                    <a:pt x="611" y="1921"/>
                  </a:lnTo>
                  <a:lnTo>
                    <a:pt x="656" y="1938"/>
                  </a:lnTo>
                  <a:lnTo>
                    <a:pt x="702" y="1954"/>
                  </a:lnTo>
                  <a:lnTo>
                    <a:pt x="750" y="1967"/>
                  </a:lnTo>
                  <a:lnTo>
                    <a:pt x="799" y="1978"/>
                  </a:lnTo>
                  <a:lnTo>
                    <a:pt x="848" y="1988"/>
                  </a:lnTo>
                  <a:lnTo>
                    <a:pt x="898" y="1994"/>
                  </a:lnTo>
                  <a:lnTo>
                    <a:pt x="949" y="1998"/>
                  </a:lnTo>
                  <a:lnTo>
                    <a:pt x="1000" y="1999"/>
                  </a:lnTo>
                  <a:lnTo>
                    <a:pt x="1030" y="1999"/>
                  </a:lnTo>
                  <a:lnTo>
                    <a:pt x="1059" y="1998"/>
                  </a:lnTo>
                  <a:lnTo>
                    <a:pt x="1087" y="1995"/>
                  </a:lnTo>
                  <a:lnTo>
                    <a:pt x="1116" y="1992"/>
                  </a:lnTo>
                  <a:lnTo>
                    <a:pt x="1144" y="1989"/>
                  </a:lnTo>
                  <a:lnTo>
                    <a:pt x="1174" y="1984"/>
                  </a:lnTo>
                  <a:lnTo>
                    <a:pt x="1201" y="1979"/>
                  </a:lnTo>
                  <a:lnTo>
                    <a:pt x="1229" y="1973"/>
                  </a:lnTo>
                  <a:lnTo>
                    <a:pt x="1256" y="1966"/>
                  </a:lnTo>
                  <a:lnTo>
                    <a:pt x="1283" y="1959"/>
                  </a:lnTo>
                  <a:lnTo>
                    <a:pt x="1310" y="1950"/>
                  </a:lnTo>
                  <a:lnTo>
                    <a:pt x="1337" y="1941"/>
                  </a:lnTo>
                  <a:lnTo>
                    <a:pt x="1363" y="1932"/>
                  </a:lnTo>
                  <a:lnTo>
                    <a:pt x="1389" y="1921"/>
                  </a:lnTo>
                  <a:lnTo>
                    <a:pt x="1413" y="1910"/>
                  </a:lnTo>
                  <a:lnTo>
                    <a:pt x="1438" y="1898"/>
                  </a:lnTo>
                  <a:lnTo>
                    <a:pt x="1420" y="1860"/>
                  </a:lnTo>
                  <a:lnTo>
                    <a:pt x="1396" y="1872"/>
                  </a:lnTo>
                  <a:lnTo>
                    <a:pt x="1372" y="1882"/>
                  </a:lnTo>
                  <a:lnTo>
                    <a:pt x="1348" y="1893"/>
                  </a:lnTo>
                  <a:lnTo>
                    <a:pt x="1323" y="1901"/>
                  </a:lnTo>
                  <a:lnTo>
                    <a:pt x="1297" y="1910"/>
                  </a:lnTo>
                  <a:lnTo>
                    <a:pt x="1271" y="1919"/>
                  </a:lnTo>
                  <a:lnTo>
                    <a:pt x="1245" y="1925"/>
                  </a:lnTo>
                  <a:lnTo>
                    <a:pt x="1219" y="1932"/>
                  </a:lnTo>
                  <a:lnTo>
                    <a:pt x="1193" y="1938"/>
                  </a:lnTo>
                  <a:lnTo>
                    <a:pt x="1166" y="1944"/>
                  </a:lnTo>
                  <a:lnTo>
                    <a:pt x="1139" y="1948"/>
                  </a:lnTo>
                  <a:lnTo>
                    <a:pt x="1112" y="1951"/>
                  </a:lnTo>
                  <a:lnTo>
                    <a:pt x="1084" y="1953"/>
                  </a:lnTo>
                  <a:lnTo>
                    <a:pt x="1056" y="1955"/>
                  </a:lnTo>
                  <a:lnTo>
                    <a:pt x="1029" y="1957"/>
                  </a:lnTo>
                  <a:lnTo>
                    <a:pt x="1000" y="1958"/>
                  </a:lnTo>
                  <a:lnTo>
                    <a:pt x="951" y="1957"/>
                  </a:lnTo>
                  <a:lnTo>
                    <a:pt x="902" y="1952"/>
                  </a:lnTo>
                  <a:lnTo>
                    <a:pt x="854" y="1947"/>
                  </a:lnTo>
                  <a:lnTo>
                    <a:pt x="807" y="1938"/>
                  </a:lnTo>
                  <a:lnTo>
                    <a:pt x="761" y="1927"/>
                  </a:lnTo>
                  <a:lnTo>
                    <a:pt x="715" y="1914"/>
                  </a:lnTo>
                  <a:lnTo>
                    <a:pt x="671" y="1899"/>
                  </a:lnTo>
                  <a:lnTo>
                    <a:pt x="627" y="1882"/>
                  </a:lnTo>
                  <a:lnTo>
                    <a:pt x="585" y="1863"/>
                  </a:lnTo>
                  <a:lnTo>
                    <a:pt x="544" y="1842"/>
                  </a:lnTo>
                  <a:lnTo>
                    <a:pt x="504" y="1818"/>
                  </a:lnTo>
                  <a:lnTo>
                    <a:pt x="465" y="1793"/>
                  </a:lnTo>
                  <a:lnTo>
                    <a:pt x="427" y="1768"/>
                  </a:lnTo>
                  <a:lnTo>
                    <a:pt x="390" y="1738"/>
                  </a:lnTo>
                  <a:lnTo>
                    <a:pt x="356" y="1708"/>
                  </a:lnTo>
                  <a:lnTo>
                    <a:pt x="322" y="1677"/>
                  </a:lnTo>
                  <a:lnTo>
                    <a:pt x="291" y="1643"/>
                  </a:lnTo>
                  <a:lnTo>
                    <a:pt x="261" y="1609"/>
                  </a:lnTo>
                  <a:lnTo>
                    <a:pt x="232" y="1572"/>
                  </a:lnTo>
                  <a:lnTo>
                    <a:pt x="205" y="1535"/>
                  </a:lnTo>
                  <a:lnTo>
                    <a:pt x="181" y="1496"/>
                  </a:lnTo>
                  <a:lnTo>
                    <a:pt x="158" y="1457"/>
                  </a:lnTo>
                  <a:lnTo>
                    <a:pt x="136" y="1414"/>
                  </a:lnTo>
                  <a:lnTo>
                    <a:pt x="117" y="1372"/>
                  </a:lnTo>
                  <a:lnTo>
                    <a:pt x="100" y="1329"/>
                  </a:lnTo>
                  <a:lnTo>
                    <a:pt x="84" y="1284"/>
                  </a:lnTo>
                  <a:lnTo>
                    <a:pt x="71" y="1238"/>
                  </a:lnTo>
                  <a:lnTo>
                    <a:pt x="62" y="1192"/>
                  </a:lnTo>
                  <a:lnTo>
                    <a:pt x="53" y="1145"/>
                  </a:lnTo>
                  <a:lnTo>
                    <a:pt x="47" y="1097"/>
                  </a:lnTo>
                  <a:lnTo>
                    <a:pt x="43" y="1048"/>
                  </a:lnTo>
                  <a:lnTo>
                    <a:pt x="42" y="1000"/>
                  </a:lnTo>
                  <a:lnTo>
                    <a:pt x="43" y="950"/>
                  </a:lnTo>
                  <a:lnTo>
                    <a:pt x="47" y="901"/>
                  </a:lnTo>
                  <a:lnTo>
                    <a:pt x="53" y="854"/>
                  </a:lnTo>
                  <a:lnTo>
                    <a:pt x="62" y="806"/>
                  </a:lnTo>
                  <a:lnTo>
                    <a:pt x="71" y="760"/>
                  </a:lnTo>
                  <a:lnTo>
                    <a:pt x="84" y="715"/>
                  </a:lnTo>
                  <a:lnTo>
                    <a:pt x="100" y="670"/>
                  </a:lnTo>
                  <a:lnTo>
                    <a:pt x="117" y="627"/>
                  </a:lnTo>
                  <a:lnTo>
                    <a:pt x="136" y="584"/>
                  </a:lnTo>
                  <a:lnTo>
                    <a:pt x="158" y="543"/>
                  </a:lnTo>
                  <a:lnTo>
                    <a:pt x="181" y="503"/>
                  </a:lnTo>
                  <a:lnTo>
                    <a:pt x="205" y="464"/>
                  </a:lnTo>
                  <a:lnTo>
                    <a:pt x="232" y="426"/>
                  </a:lnTo>
                  <a:lnTo>
                    <a:pt x="261" y="391"/>
                  </a:lnTo>
                  <a:lnTo>
                    <a:pt x="291" y="355"/>
                  </a:lnTo>
                  <a:lnTo>
                    <a:pt x="322" y="323"/>
                  </a:lnTo>
                  <a:lnTo>
                    <a:pt x="356" y="290"/>
                  </a:lnTo>
                  <a:lnTo>
                    <a:pt x="390" y="260"/>
                  </a:lnTo>
                  <a:lnTo>
                    <a:pt x="427" y="232"/>
                  </a:lnTo>
                  <a:lnTo>
                    <a:pt x="465" y="205"/>
                  </a:lnTo>
                  <a:lnTo>
                    <a:pt x="504" y="180"/>
                  </a:lnTo>
                  <a:lnTo>
                    <a:pt x="544" y="157"/>
                  </a:lnTo>
                  <a:lnTo>
                    <a:pt x="585" y="136"/>
                  </a:lnTo>
                  <a:lnTo>
                    <a:pt x="627" y="116"/>
                  </a:lnTo>
                  <a:lnTo>
                    <a:pt x="671" y="100"/>
                  </a:lnTo>
                  <a:lnTo>
                    <a:pt x="715" y="85"/>
                  </a:lnTo>
                  <a:lnTo>
                    <a:pt x="761" y="72"/>
                  </a:lnTo>
                  <a:lnTo>
                    <a:pt x="807" y="61"/>
                  </a:lnTo>
                  <a:lnTo>
                    <a:pt x="854" y="53"/>
                  </a:lnTo>
                  <a:lnTo>
                    <a:pt x="902" y="46"/>
                  </a:lnTo>
                  <a:lnTo>
                    <a:pt x="951" y="43"/>
                  </a:lnTo>
                  <a:lnTo>
                    <a:pt x="1000" y="42"/>
                  </a:lnTo>
                  <a:lnTo>
                    <a:pt x="1049" y="43"/>
                  </a:lnTo>
                  <a:lnTo>
                    <a:pt x="1098" y="46"/>
                  </a:lnTo>
                  <a:lnTo>
                    <a:pt x="1147" y="53"/>
                  </a:lnTo>
                  <a:lnTo>
                    <a:pt x="1193" y="61"/>
                  </a:lnTo>
                  <a:lnTo>
                    <a:pt x="1240" y="72"/>
                  </a:lnTo>
                  <a:lnTo>
                    <a:pt x="1285" y="85"/>
                  </a:lnTo>
                  <a:lnTo>
                    <a:pt x="1329" y="100"/>
                  </a:lnTo>
                  <a:lnTo>
                    <a:pt x="1374" y="116"/>
                  </a:lnTo>
                  <a:lnTo>
                    <a:pt x="1416" y="136"/>
                  </a:lnTo>
                  <a:lnTo>
                    <a:pt x="1457" y="157"/>
                  </a:lnTo>
                  <a:lnTo>
                    <a:pt x="1497" y="180"/>
                  </a:lnTo>
                  <a:lnTo>
                    <a:pt x="1536" y="205"/>
                  </a:lnTo>
                  <a:lnTo>
                    <a:pt x="1573" y="232"/>
                  </a:lnTo>
                  <a:lnTo>
                    <a:pt x="1610" y="260"/>
                  </a:lnTo>
                  <a:lnTo>
                    <a:pt x="1645" y="290"/>
                  </a:lnTo>
                  <a:lnTo>
                    <a:pt x="1678" y="323"/>
                  </a:lnTo>
                  <a:lnTo>
                    <a:pt x="1710" y="355"/>
                  </a:lnTo>
                  <a:lnTo>
                    <a:pt x="1740" y="391"/>
                  </a:lnTo>
                  <a:lnTo>
                    <a:pt x="1768" y="426"/>
                  </a:lnTo>
                  <a:lnTo>
                    <a:pt x="1795" y="464"/>
                  </a:lnTo>
                  <a:lnTo>
                    <a:pt x="1820" y="503"/>
                  </a:lnTo>
                  <a:lnTo>
                    <a:pt x="1842" y="543"/>
                  </a:lnTo>
                  <a:lnTo>
                    <a:pt x="1864" y="584"/>
                  </a:lnTo>
                  <a:lnTo>
                    <a:pt x="1884" y="627"/>
                  </a:lnTo>
                  <a:lnTo>
                    <a:pt x="1901" y="670"/>
                  </a:lnTo>
                  <a:lnTo>
                    <a:pt x="1916" y="715"/>
                  </a:lnTo>
                  <a:lnTo>
                    <a:pt x="1928" y="760"/>
                  </a:lnTo>
                  <a:lnTo>
                    <a:pt x="1939" y="806"/>
                  </a:lnTo>
                  <a:lnTo>
                    <a:pt x="1947" y="854"/>
                  </a:lnTo>
                  <a:lnTo>
                    <a:pt x="1954" y="901"/>
                  </a:lnTo>
                  <a:lnTo>
                    <a:pt x="1957" y="950"/>
                  </a:lnTo>
                  <a:lnTo>
                    <a:pt x="1958" y="1000"/>
                  </a:lnTo>
                  <a:lnTo>
                    <a:pt x="1958" y="1032"/>
                  </a:lnTo>
                  <a:lnTo>
                    <a:pt x="1956" y="1063"/>
                  </a:lnTo>
                  <a:lnTo>
                    <a:pt x="1954" y="1095"/>
                  </a:lnTo>
                  <a:lnTo>
                    <a:pt x="1951" y="1126"/>
                  </a:lnTo>
                  <a:lnTo>
                    <a:pt x="1945" y="1157"/>
                  </a:lnTo>
                  <a:lnTo>
                    <a:pt x="1940" y="1188"/>
                  </a:lnTo>
                  <a:lnTo>
                    <a:pt x="1933" y="1219"/>
                  </a:lnTo>
                  <a:lnTo>
                    <a:pt x="1926" y="1248"/>
                  </a:lnTo>
                  <a:lnTo>
                    <a:pt x="1966" y="1259"/>
                  </a:lnTo>
                  <a:lnTo>
                    <a:pt x="1974" y="1228"/>
                  </a:lnTo>
                  <a:lnTo>
                    <a:pt x="1981" y="1196"/>
                  </a:lnTo>
                  <a:lnTo>
                    <a:pt x="1986" y="1164"/>
                  </a:lnTo>
                  <a:lnTo>
                    <a:pt x="1992" y="1131"/>
                  </a:lnTo>
                  <a:lnTo>
                    <a:pt x="1995" y="1099"/>
                  </a:lnTo>
                  <a:lnTo>
                    <a:pt x="1998" y="1067"/>
                  </a:lnTo>
                  <a:lnTo>
                    <a:pt x="1999" y="1033"/>
                  </a:lnTo>
                  <a:lnTo>
                    <a:pt x="2000" y="100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84640" y="2608200"/>
              <a:ext cx="777960" cy="777960"/>
            </a:xfrm>
            <a:custGeom>
              <a:avLst/>
              <a:gdLst/>
              <a:ahLst/>
              <a:rect l="l" t="t" r="r" b="b"/>
              <a:pathLst>
                <a:path w="1959" h="1958">
                  <a:moveTo>
                    <a:pt x="1959" y="980"/>
                  </a:moveTo>
                  <a:lnTo>
                    <a:pt x="1958" y="929"/>
                  </a:lnTo>
                  <a:lnTo>
                    <a:pt x="1953" y="879"/>
                  </a:lnTo>
                  <a:lnTo>
                    <a:pt x="1947" y="831"/>
                  </a:lnTo>
                  <a:lnTo>
                    <a:pt x="1938" y="782"/>
                  </a:lnTo>
                  <a:lnTo>
                    <a:pt x="1927" y="735"/>
                  </a:lnTo>
                  <a:lnTo>
                    <a:pt x="1914" y="688"/>
                  </a:lnTo>
                  <a:lnTo>
                    <a:pt x="1899" y="643"/>
                  </a:lnTo>
                  <a:lnTo>
                    <a:pt x="1881" y="598"/>
                  </a:lnTo>
                  <a:lnTo>
                    <a:pt x="1861" y="555"/>
                  </a:lnTo>
                  <a:lnTo>
                    <a:pt x="1840" y="513"/>
                  </a:lnTo>
                  <a:lnTo>
                    <a:pt x="1816" y="472"/>
                  </a:lnTo>
                  <a:lnTo>
                    <a:pt x="1791" y="432"/>
                  </a:lnTo>
                  <a:lnTo>
                    <a:pt x="1764" y="394"/>
                  </a:lnTo>
                  <a:lnTo>
                    <a:pt x="1735" y="357"/>
                  </a:lnTo>
                  <a:lnTo>
                    <a:pt x="1704" y="321"/>
                  </a:lnTo>
                  <a:lnTo>
                    <a:pt x="1671" y="287"/>
                  </a:lnTo>
                  <a:lnTo>
                    <a:pt x="1638" y="255"/>
                  </a:lnTo>
                  <a:lnTo>
                    <a:pt x="1602" y="224"/>
                  </a:lnTo>
                  <a:lnTo>
                    <a:pt x="1565" y="196"/>
                  </a:lnTo>
                  <a:lnTo>
                    <a:pt x="1526" y="168"/>
                  </a:lnTo>
                  <a:lnTo>
                    <a:pt x="1486" y="143"/>
                  </a:lnTo>
                  <a:lnTo>
                    <a:pt x="1445" y="119"/>
                  </a:lnTo>
                  <a:lnTo>
                    <a:pt x="1403" y="97"/>
                  </a:lnTo>
                  <a:lnTo>
                    <a:pt x="1360" y="78"/>
                  </a:lnTo>
                  <a:lnTo>
                    <a:pt x="1316" y="61"/>
                  </a:lnTo>
                  <a:lnTo>
                    <a:pt x="1270" y="44"/>
                  </a:lnTo>
                  <a:lnTo>
                    <a:pt x="1224" y="31"/>
                  </a:lnTo>
                  <a:lnTo>
                    <a:pt x="1176" y="21"/>
                  </a:lnTo>
                  <a:lnTo>
                    <a:pt x="1128" y="12"/>
                  </a:lnTo>
                  <a:lnTo>
                    <a:pt x="1079" y="6"/>
                  </a:lnTo>
                  <a:lnTo>
                    <a:pt x="1029" y="2"/>
                  </a:lnTo>
                  <a:lnTo>
                    <a:pt x="979" y="0"/>
                  </a:lnTo>
                  <a:lnTo>
                    <a:pt x="929" y="2"/>
                  </a:lnTo>
                  <a:lnTo>
                    <a:pt x="879" y="6"/>
                  </a:lnTo>
                  <a:lnTo>
                    <a:pt x="830" y="12"/>
                  </a:lnTo>
                  <a:lnTo>
                    <a:pt x="782" y="21"/>
                  </a:lnTo>
                  <a:lnTo>
                    <a:pt x="734" y="31"/>
                  </a:lnTo>
                  <a:lnTo>
                    <a:pt x="688" y="44"/>
                  </a:lnTo>
                  <a:lnTo>
                    <a:pt x="643" y="61"/>
                  </a:lnTo>
                  <a:lnTo>
                    <a:pt x="598" y="78"/>
                  </a:lnTo>
                  <a:lnTo>
                    <a:pt x="555" y="97"/>
                  </a:lnTo>
                  <a:lnTo>
                    <a:pt x="513" y="119"/>
                  </a:lnTo>
                  <a:lnTo>
                    <a:pt x="472" y="143"/>
                  </a:lnTo>
                  <a:lnTo>
                    <a:pt x="432" y="168"/>
                  </a:lnTo>
                  <a:lnTo>
                    <a:pt x="393" y="196"/>
                  </a:lnTo>
                  <a:lnTo>
                    <a:pt x="356" y="224"/>
                  </a:lnTo>
                  <a:lnTo>
                    <a:pt x="321" y="255"/>
                  </a:lnTo>
                  <a:lnTo>
                    <a:pt x="287" y="287"/>
                  </a:lnTo>
                  <a:lnTo>
                    <a:pt x="255" y="321"/>
                  </a:lnTo>
                  <a:lnTo>
                    <a:pt x="223" y="357"/>
                  </a:lnTo>
                  <a:lnTo>
                    <a:pt x="194" y="394"/>
                  </a:lnTo>
                  <a:lnTo>
                    <a:pt x="167" y="432"/>
                  </a:lnTo>
                  <a:lnTo>
                    <a:pt x="141" y="472"/>
                  </a:lnTo>
                  <a:lnTo>
                    <a:pt x="119" y="513"/>
                  </a:lnTo>
                  <a:lnTo>
                    <a:pt x="97" y="555"/>
                  </a:lnTo>
                  <a:lnTo>
                    <a:pt x="76" y="598"/>
                  </a:lnTo>
                  <a:lnTo>
                    <a:pt x="59" y="643"/>
                  </a:lnTo>
                  <a:lnTo>
                    <a:pt x="44" y="688"/>
                  </a:lnTo>
                  <a:lnTo>
                    <a:pt x="31" y="735"/>
                  </a:lnTo>
                  <a:lnTo>
                    <a:pt x="20" y="782"/>
                  </a:lnTo>
                  <a:lnTo>
                    <a:pt x="12" y="831"/>
                  </a:lnTo>
                  <a:lnTo>
                    <a:pt x="5" y="879"/>
                  </a:lnTo>
                  <a:lnTo>
                    <a:pt x="1" y="929"/>
                  </a:lnTo>
                  <a:lnTo>
                    <a:pt x="0" y="980"/>
                  </a:lnTo>
                  <a:lnTo>
                    <a:pt x="1" y="1029"/>
                  </a:lnTo>
                  <a:lnTo>
                    <a:pt x="5" y="1079"/>
                  </a:lnTo>
                  <a:lnTo>
                    <a:pt x="12" y="1129"/>
                  </a:lnTo>
                  <a:lnTo>
                    <a:pt x="20" y="1176"/>
                  </a:lnTo>
                  <a:lnTo>
                    <a:pt x="31" y="1224"/>
                  </a:lnTo>
                  <a:lnTo>
                    <a:pt x="44" y="1270"/>
                  </a:lnTo>
                  <a:lnTo>
                    <a:pt x="59" y="1316"/>
                  </a:lnTo>
                  <a:lnTo>
                    <a:pt x="76" y="1360"/>
                  </a:lnTo>
                  <a:lnTo>
                    <a:pt x="97" y="1404"/>
                  </a:lnTo>
                  <a:lnTo>
                    <a:pt x="119" y="1446"/>
                  </a:lnTo>
                  <a:lnTo>
                    <a:pt x="141" y="1487"/>
                  </a:lnTo>
                  <a:lnTo>
                    <a:pt x="167" y="1526"/>
                  </a:lnTo>
                  <a:lnTo>
                    <a:pt x="194" y="1565"/>
                  </a:lnTo>
                  <a:lnTo>
                    <a:pt x="223" y="1602"/>
                  </a:lnTo>
                  <a:lnTo>
                    <a:pt x="255" y="1637"/>
                  </a:lnTo>
                  <a:lnTo>
                    <a:pt x="287" y="1672"/>
                  </a:lnTo>
                  <a:lnTo>
                    <a:pt x="321" y="1704"/>
                  </a:lnTo>
                  <a:lnTo>
                    <a:pt x="356" y="1735"/>
                  </a:lnTo>
                  <a:lnTo>
                    <a:pt x="393" y="1764"/>
                  </a:lnTo>
                  <a:lnTo>
                    <a:pt x="432" y="1791"/>
                  </a:lnTo>
                  <a:lnTo>
                    <a:pt x="472" y="1817"/>
                  </a:lnTo>
                  <a:lnTo>
                    <a:pt x="513" y="1840"/>
                  </a:lnTo>
                  <a:lnTo>
                    <a:pt x="555" y="1862"/>
                  </a:lnTo>
                  <a:lnTo>
                    <a:pt x="598" y="1881"/>
                  </a:lnTo>
                  <a:lnTo>
                    <a:pt x="643" y="1899"/>
                  </a:lnTo>
                  <a:lnTo>
                    <a:pt x="688" y="1914"/>
                  </a:lnTo>
                  <a:lnTo>
                    <a:pt x="734" y="1927"/>
                  </a:lnTo>
                  <a:lnTo>
                    <a:pt x="782" y="1939"/>
                  </a:lnTo>
                  <a:lnTo>
                    <a:pt x="830" y="1947"/>
                  </a:lnTo>
                  <a:lnTo>
                    <a:pt x="879" y="1953"/>
                  </a:lnTo>
                  <a:lnTo>
                    <a:pt x="929" y="1957"/>
                  </a:lnTo>
                  <a:lnTo>
                    <a:pt x="979" y="1958"/>
                  </a:lnTo>
                  <a:lnTo>
                    <a:pt x="1008" y="1958"/>
                  </a:lnTo>
                  <a:lnTo>
                    <a:pt x="1037" y="1956"/>
                  </a:lnTo>
                  <a:lnTo>
                    <a:pt x="1065" y="1955"/>
                  </a:lnTo>
                  <a:lnTo>
                    <a:pt x="1093" y="1952"/>
                  </a:lnTo>
                  <a:lnTo>
                    <a:pt x="1121" y="1948"/>
                  </a:lnTo>
                  <a:lnTo>
                    <a:pt x="1148" y="1944"/>
                  </a:lnTo>
                  <a:lnTo>
                    <a:pt x="1176" y="1939"/>
                  </a:lnTo>
                  <a:lnTo>
                    <a:pt x="1203" y="1932"/>
                  </a:lnTo>
                  <a:lnTo>
                    <a:pt x="1229" y="1926"/>
                  </a:lnTo>
                  <a:lnTo>
                    <a:pt x="1256" y="1918"/>
                  </a:lnTo>
                  <a:lnTo>
                    <a:pt x="1282" y="1911"/>
                  </a:lnTo>
                  <a:lnTo>
                    <a:pt x="1308" y="1901"/>
                  </a:lnTo>
                  <a:lnTo>
                    <a:pt x="1334" y="1892"/>
                  </a:lnTo>
                  <a:lnTo>
                    <a:pt x="1359" y="1881"/>
                  </a:lnTo>
                  <a:lnTo>
                    <a:pt x="1384" y="1871"/>
                  </a:lnTo>
                  <a:lnTo>
                    <a:pt x="1409" y="1859"/>
                  </a:lnTo>
                  <a:lnTo>
                    <a:pt x="1390" y="1822"/>
                  </a:lnTo>
                  <a:lnTo>
                    <a:pt x="1367" y="1833"/>
                  </a:lnTo>
                  <a:lnTo>
                    <a:pt x="1343" y="1844"/>
                  </a:lnTo>
                  <a:lnTo>
                    <a:pt x="1319" y="1853"/>
                  </a:lnTo>
                  <a:lnTo>
                    <a:pt x="1294" y="1862"/>
                  </a:lnTo>
                  <a:lnTo>
                    <a:pt x="1269" y="1871"/>
                  </a:lnTo>
                  <a:lnTo>
                    <a:pt x="1244" y="1878"/>
                  </a:lnTo>
                  <a:lnTo>
                    <a:pt x="1220" y="1886"/>
                  </a:lnTo>
                  <a:lnTo>
                    <a:pt x="1194" y="1892"/>
                  </a:lnTo>
                  <a:lnTo>
                    <a:pt x="1168" y="1898"/>
                  </a:lnTo>
                  <a:lnTo>
                    <a:pt x="1142" y="1903"/>
                  </a:lnTo>
                  <a:lnTo>
                    <a:pt x="1115" y="1906"/>
                  </a:lnTo>
                  <a:lnTo>
                    <a:pt x="1088" y="1911"/>
                  </a:lnTo>
                  <a:lnTo>
                    <a:pt x="1061" y="1913"/>
                  </a:lnTo>
                  <a:lnTo>
                    <a:pt x="1034" y="1915"/>
                  </a:lnTo>
                  <a:lnTo>
                    <a:pt x="1007" y="1916"/>
                  </a:lnTo>
                  <a:lnTo>
                    <a:pt x="979" y="1916"/>
                  </a:lnTo>
                  <a:lnTo>
                    <a:pt x="931" y="1915"/>
                  </a:lnTo>
                  <a:lnTo>
                    <a:pt x="884" y="1912"/>
                  </a:lnTo>
                  <a:lnTo>
                    <a:pt x="836" y="1905"/>
                  </a:lnTo>
                  <a:lnTo>
                    <a:pt x="791" y="1898"/>
                  </a:lnTo>
                  <a:lnTo>
                    <a:pt x="745" y="1887"/>
                  </a:lnTo>
                  <a:lnTo>
                    <a:pt x="700" y="1874"/>
                  </a:lnTo>
                  <a:lnTo>
                    <a:pt x="657" y="1860"/>
                  </a:lnTo>
                  <a:lnTo>
                    <a:pt x="615" y="1843"/>
                  </a:lnTo>
                  <a:lnTo>
                    <a:pt x="572" y="1824"/>
                  </a:lnTo>
                  <a:lnTo>
                    <a:pt x="532" y="1804"/>
                  </a:lnTo>
                  <a:lnTo>
                    <a:pt x="493" y="1781"/>
                  </a:lnTo>
                  <a:lnTo>
                    <a:pt x="455" y="1756"/>
                  </a:lnTo>
                  <a:lnTo>
                    <a:pt x="418" y="1730"/>
                  </a:lnTo>
                  <a:lnTo>
                    <a:pt x="383" y="1702"/>
                  </a:lnTo>
                  <a:lnTo>
                    <a:pt x="349" y="1673"/>
                  </a:lnTo>
                  <a:lnTo>
                    <a:pt x="316" y="1642"/>
                  </a:lnTo>
                  <a:lnTo>
                    <a:pt x="285" y="1609"/>
                  </a:lnTo>
                  <a:lnTo>
                    <a:pt x="256" y="1576"/>
                  </a:lnTo>
                  <a:lnTo>
                    <a:pt x="228" y="1540"/>
                  </a:lnTo>
                  <a:lnTo>
                    <a:pt x="202" y="1503"/>
                  </a:lnTo>
                  <a:lnTo>
                    <a:pt x="177" y="1466"/>
                  </a:lnTo>
                  <a:lnTo>
                    <a:pt x="155" y="1426"/>
                  </a:lnTo>
                  <a:lnTo>
                    <a:pt x="134" y="1386"/>
                  </a:lnTo>
                  <a:lnTo>
                    <a:pt x="115" y="1344"/>
                  </a:lnTo>
                  <a:lnTo>
                    <a:pt x="98" y="1302"/>
                  </a:lnTo>
                  <a:lnTo>
                    <a:pt x="84" y="1258"/>
                  </a:lnTo>
                  <a:lnTo>
                    <a:pt x="71" y="1214"/>
                  </a:lnTo>
                  <a:lnTo>
                    <a:pt x="60" y="1169"/>
                  </a:lnTo>
                  <a:lnTo>
                    <a:pt x="53" y="1122"/>
                  </a:lnTo>
                  <a:lnTo>
                    <a:pt x="46" y="1075"/>
                  </a:lnTo>
                  <a:lnTo>
                    <a:pt x="43" y="1027"/>
                  </a:lnTo>
                  <a:lnTo>
                    <a:pt x="42" y="980"/>
                  </a:lnTo>
                  <a:lnTo>
                    <a:pt x="43" y="931"/>
                  </a:lnTo>
                  <a:lnTo>
                    <a:pt x="46" y="884"/>
                  </a:lnTo>
                  <a:lnTo>
                    <a:pt x="53" y="837"/>
                  </a:lnTo>
                  <a:lnTo>
                    <a:pt x="60" y="791"/>
                  </a:lnTo>
                  <a:lnTo>
                    <a:pt x="71" y="745"/>
                  </a:lnTo>
                  <a:lnTo>
                    <a:pt x="84" y="701"/>
                  </a:lnTo>
                  <a:lnTo>
                    <a:pt x="98" y="657"/>
                  </a:lnTo>
                  <a:lnTo>
                    <a:pt x="115" y="615"/>
                  </a:lnTo>
                  <a:lnTo>
                    <a:pt x="134" y="574"/>
                  </a:lnTo>
                  <a:lnTo>
                    <a:pt x="155" y="533"/>
                  </a:lnTo>
                  <a:lnTo>
                    <a:pt x="177" y="494"/>
                  </a:lnTo>
                  <a:lnTo>
                    <a:pt x="202" y="456"/>
                  </a:lnTo>
                  <a:lnTo>
                    <a:pt x="228" y="419"/>
                  </a:lnTo>
                  <a:lnTo>
                    <a:pt x="256" y="384"/>
                  </a:lnTo>
                  <a:lnTo>
                    <a:pt x="285" y="349"/>
                  </a:lnTo>
                  <a:lnTo>
                    <a:pt x="316" y="317"/>
                  </a:lnTo>
                  <a:lnTo>
                    <a:pt x="349" y="285"/>
                  </a:lnTo>
                  <a:lnTo>
                    <a:pt x="383" y="256"/>
                  </a:lnTo>
                  <a:lnTo>
                    <a:pt x="418" y="228"/>
                  </a:lnTo>
                  <a:lnTo>
                    <a:pt x="455" y="202"/>
                  </a:lnTo>
                  <a:lnTo>
                    <a:pt x="493" y="178"/>
                  </a:lnTo>
                  <a:lnTo>
                    <a:pt x="532" y="156"/>
                  </a:lnTo>
                  <a:lnTo>
                    <a:pt x="572" y="135"/>
                  </a:lnTo>
                  <a:lnTo>
                    <a:pt x="615" y="116"/>
                  </a:lnTo>
                  <a:lnTo>
                    <a:pt x="657" y="99"/>
                  </a:lnTo>
                  <a:lnTo>
                    <a:pt x="700" y="84"/>
                  </a:lnTo>
                  <a:lnTo>
                    <a:pt x="745" y="71"/>
                  </a:lnTo>
                  <a:lnTo>
                    <a:pt x="791" y="62"/>
                  </a:lnTo>
                  <a:lnTo>
                    <a:pt x="836" y="53"/>
                  </a:lnTo>
                  <a:lnTo>
                    <a:pt x="884" y="48"/>
                  </a:lnTo>
                  <a:lnTo>
                    <a:pt x="931" y="43"/>
                  </a:lnTo>
                  <a:lnTo>
                    <a:pt x="979" y="42"/>
                  </a:lnTo>
                  <a:lnTo>
                    <a:pt x="1027" y="43"/>
                  </a:lnTo>
                  <a:lnTo>
                    <a:pt x="1075" y="48"/>
                  </a:lnTo>
                  <a:lnTo>
                    <a:pt x="1122" y="53"/>
                  </a:lnTo>
                  <a:lnTo>
                    <a:pt x="1168" y="62"/>
                  </a:lnTo>
                  <a:lnTo>
                    <a:pt x="1213" y="71"/>
                  </a:lnTo>
                  <a:lnTo>
                    <a:pt x="1257" y="84"/>
                  </a:lnTo>
                  <a:lnTo>
                    <a:pt x="1302" y="99"/>
                  </a:lnTo>
                  <a:lnTo>
                    <a:pt x="1344" y="116"/>
                  </a:lnTo>
                  <a:lnTo>
                    <a:pt x="1386" y="135"/>
                  </a:lnTo>
                  <a:lnTo>
                    <a:pt x="1426" y="156"/>
                  </a:lnTo>
                  <a:lnTo>
                    <a:pt x="1465" y="178"/>
                  </a:lnTo>
                  <a:lnTo>
                    <a:pt x="1504" y="202"/>
                  </a:lnTo>
                  <a:lnTo>
                    <a:pt x="1541" y="228"/>
                  </a:lnTo>
                  <a:lnTo>
                    <a:pt x="1575" y="256"/>
                  </a:lnTo>
                  <a:lnTo>
                    <a:pt x="1610" y="285"/>
                  </a:lnTo>
                  <a:lnTo>
                    <a:pt x="1642" y="317"/>
                  </a:lnTo>
                  <a:lnTo>
                    <a:pt x="1673" y="349"/>
                  </a:lnTo>
                  <a:lnTo>
                    <a:pt x="1703" y="384"/>
                  </a:lnTo>
                  <a:lnTo>
                    <a:pt x="1731" y="419"/>
                  </a:lnTo>
                  <a:lnTo>
                    <a:pt x="1757" y="456"/>
                  </a:lnTo>
                  <a:lnTo>
                    <a:pt x="1781" y="494"/>
                  </a:lnTo>
                  <a:lnTo>
                    <a:pt x="1803" y="533"/>
                  </a:lnTo>
                  <a:lnTo>
                    <a:pt x="1825" y="574"/>
                  </a:lnTo>
                  <a:lnTo>
                    <a:pt x="1843" y="615"/>
                  </a:lnTo>
                  <a:lnTo>
                    <a:pt x="1859" y="657"/>
                  </a:lnTo>
                  <a:lnTo>
                    <a:pt x="1874" y="701"/>
                  </a:lnTo>
                  <a:lnTo>
                    <a:pt x="1887" y="745"/>
                  </a:lnTo>
                  <a:lnTo>
                    <a:pt x="1898" y="791"/>
                  </a:lnTo>
                  <a:lnTo>
                    <a:pt x="1906" y="837"/>
                  </a:lnTo>
                  <a:lnTo>
                    <a:pt x="1912" y="884"/>
                  </a:lnTo>
                  <a:lnTo>
                    <a:pt x="1915" y="931"/>
                  </a:lnTo>
                  <a:lnTo>
                    <a:pt x="1917" y="980"/>
                  </a:lnTo>
                  <a:lnTo>
                    <a:pt x="1917" y="1011"/>
                  </a:lnTo>
                  <a:lnTo>
                    <a:pt x="1914" y="1042"/>
                  </a:lnTo>
                  <a:lnTo>
                    <a:pt x="1912" y="1073"/>
                  </a:lnTo>
                  <a:lnTo>
                    <a:pt x="1909" y="1104"/>
                  </a:lnTo>
                  <a:lnTo>
                    <a:pt x="1904" y="1134"/>
                  </a:lnTo>
                  <a:lnTo>
                    <a:pt x="1898" y="1164"/>
                  </a:lnTo>
                  <a:lnTo>
                    <a:pt x="1892" y="1194"/>
                  </a:lnTo>
                  <a:lnTo>
                    <a:pt x="1884" y="1223"/>
                  </a:lnTo>
                  <a:lnTo>
                    <a:pt x="1925" y="1233"/>
                  </a:lnTo>
                  <a:lnTo>
                    <a:pt x="1933" y="1203"/>
                  </a:lnTo>
                  <a:lnTo>
                    <a:pt x="1939" y="1172"/>
                  </a:lnTo>
                  <a:lnTo>
                    <a:pt x="1945" y="1141"/>
                  </a:lnTo>
                  <a:lnTo>
                    <a:pt x="1950" y="1109"/>
                  </a:lnTo>
                  <a:lnTo>
                    <a:pt x="1953" y="1077"/>
                  </a:lnTo>
                  <a:lnTo>
                    <a:pt x="1957" y="1044"/>
                  </a:lnTo>
                  <a:lnTo>
                    <a:pt x="1958" y="1012"/>
                  </a:lnTo>
                  <a:lnTo>
                    <a:pt x="1959" y="980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194000" y="2617560"/>
              <a:ext cx="760680" cy="760680"/>
            </a:xfrm>
            <a:custGeom>
              <a:avLst/>
              <a:gdLst/>
              <a:ahLst/>
              <a:rect l="l" t="t" r="r" b="b"/>
              <a:pathLst>
                <a:path w="1916" h="1916">
                  <a:moveTo>
                    <a:pt x="1916" y="958"/>
                  </a:moveTo>
                  <a:lnTo>
                    <a:pt x="1915" y="908"/>
                  </a:lnTo>
                  <a:lnTo>
                    <a:pt x="1912" y="859"/>
                  </a:lnTo>
                  <a:lnTo>
                    <a:pt x="1905" y="812"/>
                  </a:lnTo>
                  <a:lnTo>
                    <a:pt x="1897" y="764"/>
                  </a:lnTo>
                  <a:lnTo>
                    <a:pt x="1886" y="718"/>
                  </a:lnTo>
                  <a:lnTo>
                    <a:pt x="1874" y="673"/>
                  </a:lnTo>
                  <a:lnTo>
                    <a:pt x="1859" y="628"/>
                  </a:lnTo>
                  <a:lnTo>
                    <a:pt x="1842" y="585"/>
                  </a:lnTo>
                  <a:lnTo>
                    <a:pt x="1822" y="542"/>
                  </a:lnTo>
                  <a:lnTo>
                    <a:pt x="1800" y="501"/>
                  </a:lnTo>
                  <a:lnTo>
                    <a:pt x="1778" y="461"/>
                  </a:lnTo>
                  <a:lnTo>
                    <a:pt x="1753" y="422"/>
                  </a:lnTo>
                  <a:lnTo>
                    <a:pt x="1726" y="384"/>
                  </a:lnTo>
                  <a:lnTo>
                    <a:pt x="1698" y="349"/>
                  </a:lnTo>
                  <a:lnTo>
                    <a:pt x="1668" y="313"/>
                  </a:lnTo>
                  <a:lnTo>
                    <a:pt x="1636" y="281"/>
                  </a:lnTo>
                  <a:lnTo>
                    <a:pt x="1603" y="248"/>
                  </a:lnTo>
                  <a:lnTo>
                    <a:pt x="1568" y="218"/>
                  </a:lnTo>
                  <a:lnTo>
                    <a:pt x="1531" y="190"/>
                  </a:lnTo>
                  <a:lnTo>
                    <a:pt x="1494" y="163"/>
                  </a:lnTo>
                  <a:lnTo>
                    <a:pt x="1455" y="138"/>
                  </a:lnTo>
                  <a:lnTo>
                    <a:pt x="1415" y="115"/>
                  </a:lnTo>
                  <a:lnTo>
                    <a:pt x="1374" y="94"/>
                  </a:lnTo>
                  <a:lnTo>
                    <a:pt x="1332" y="74"/>
                  </a:lnTo>
                  <a:lnTo>
                    <a:pt x="1287" y="58"/>
                  </a:lnTo>
                  <a:lnTo>
                    <a:pt x="1243" y="43"/>
                  </a:lnTo>
                  <a:lnTo>
                    <a:pt x="1198" y="30"/>
                  </a:lnTo>
                  <a:lnTo>
                    <a:pt x="1151" y="19"/>
                  </a:lnTo>
                  <a:lnTo>
                    <a:pt x="1105" y="11"/>
                  </a:lnTo>
                  <a:lnTo>
                    <a:pt x="1056" y="4"/>
                  </a:lnTo>
                  <a:lnTo>
                    <a:pt x="1007" y="1"/>
                  </a:lnTo>
                  <a:lnTo>
                    <a:pt x="958" y="0"/>
                  </a:lnTo>
                  <a:lnTo>
                    <a:pt x="909" y="1"/>
                  </a:lnTo>
                  <a:lnTo>
                    <a:pt x="860" y="4"/>
                  </a:lnTo>
                  <a:lnTo>
                    <a:pt x="812" y="11"/>
                  </a:lnTo>
                  <a:lnTo>
                    <a:pt x="765" y="19"/>
                  </a:lnTo>
                  <a:lnTo>
                    <a:pt x="719" y="30"/>
                  </a:lnTo>
                  <a:lnTo>
                    <a:pt x="673" y="43"/>
                  </a:lnTo>
                  <a:lnTo>
                    <a:pt x="629" y="58"/>
                  </a:lnTo>
                  <a:lnTo>
                    <a:pt x="585" y="74"/>
                  </a:lnTo>
                  <a:lnTo>
                    <a:pt x="543" y="94"/>
                  </a:lnTo>
                  <a:lnTo>
                    <a:pt x="502" y="115"/>
                  </a:lnTo>
                  <a:lnTo>
                    <a:pt x="462" y="138"/>
                  </a:lnTo>
                  <a:lnTo>
                    <a:pt x="423" y="163"/>
                  </a:lnTo>
                  <a:lnTo>
                    <a:pt x="385" y="190"/>
                  </a:lnTo>
                  <a:lnTo>
                    <a:pt x="348" y="218"/>
                  </a:lnTo>
                  <a:lnTo>
                    <a:pt x="314" y="248"/>
                  </a:lnTo>
                  <a:lnTo>
                    <a:pt x="280" y="281"/>
                  </a:lnTo>
                  <a:lnTo>
                    <a:pt x="249" y="313"/>
                  </a:lnTo>
                  <a:lnTo>
                    <a:pt x="219" y="349"/>
                  </a:lnTo>
                  <a:lnTo>
                    <a:pt x="190" y="384"/>
                  </a:lnTo>
                  <a:lnTo>
                    <a:pt x="163" y="422"/>
                  </a:lnTo>
                  <a:lnTo>
                    <a:pt x="139" y="461"/>
                  </a:lnTo>
                  <a:lnTo>
                    <a:pt x="116" y="501"/>
                  </a:lnTo>
                  <a:lnTo>
                    <a:pt x="94" y="542"/>
                  </a:lnTo>
                  <a:lnTo>
                    <a:pt x="75" y="585"/>
                  </a:lnTo>
                  <a:lnTo>
                    <a:pt x="58" y="628"/>
                  </a:lnTo>
                  <a:lnTo>
                    <a:pt x="42" y="673"/>
                  </a:lnTo>
                  <a:lnTo>
                    <a:pt x="29" y="718"/>
                  </a:lnTo>
                  <a:lnTo>
                    <a:pt x="20" y="764"/>
                  </a:lnTo>
                  <a:lnTo>
                    <a:pt x="11" y="812"/>
                  </a:lnTo>
                  <a:lnTo>
                    <a:pt x="5" y="859"/>
                  </a:lnTo>
                  <a:lnTo>
                    <a:pt x="1" y="908"/>
                  </a:lnTo>
                  <a:lnTo>
                    <a:pt x="0" y="958"/>
                  </a:lnTo>
                  <a:lnTo>
                    <a:pt x="1" y="1006"/>
                  </a:lnTo>
                  <a:lnTo>
                    <a:pt x="5" y="1055"/>
                  </a:lnTo>
                  <a:lnTo>
                    <a:pt x="11" y="1103"/>
                  </a:lnTo>
                  <a:lnTo>
                    <a:pt x="20" y="1150"/>
                  </a:lnTo>
                  <a:lnTo>
                    <a:pt x="29" y="1196"/>
                  </a:lnTo>
                  <a:lnTo>
                    <a:pt x="42" y="1242"/>
                  </a:lnTo>
                  <a:lnTo>
                    <a:pt x="58" y="1287"/>
                  </a:lnTo>
                  <a:lnTo>
                    <a:pt x="75" y="1330"/>
                  </a:lnTo>
                  <a:lnTo>
                    <a:pt x="94" y="1372"/>
                  </a:lnTo>
                  <a:lnTo>
                    <a:pt x="116" y="1415"/>
                  </a:lnTo>
                  <a:lnTo>
                    <a:pt x="139" y="1454"/>
                  </a:lnTo>
                  <a:lnTo>
                    <a:pt x="163" y="1493"/>
                  </a:lnTo>
                  <a:lnTo>
                    <a:pt x="190" y="1530"/>
                  </a:lnTo>
                  <a:lnTo>
                    <a:pt x="219" y="1567"/>
                  </a:lnTo>
                  <a:lnTo>
                    <a:pt x="249" y="1601"/>
                  </a:lnTo>
                  <a:lnTo>
                    <a:pt x="280" y="1635"/>
                  </a:lnTo>
                  <a:lnTo>
                    <a:pt x="314" y="1666"/>
                  </a:lnTo>
                  <a:lnTo>
                    <a:pt x="348" y="1696"/>
                  </a:lnTo>
                  <a:lnTo>
                    <a:pt x="385" y="1726"/>
                  </a:lnTo>
                  <a:lnTo>
                    <a:pt x="423" y="1751"/>
                  </a:lnTo>
                  <a:lnTo>
                    <a:pt x="462" y="1776"/>
                  </a:lnTo>
                  <a:lnTo>
                    <a:pt x="502" y="1800"/>
                  </a:lnTo>
                  <a:lnTo>
                    <a:pt x="543" y="1821"/>
                  </a:lnTo>
                  <a:lnTo>
                    <a:pt x="585" y="1840"/>
                  </a:lnTo>
                  <a:lnTo>
                    <a:pt x="629" y="1857"/>
                  </a:lnTo>
                  <a:lnTo>
                    <a:pt x="673" y="1872"/>
                  </a:lnTo>
                  <a:lnTo>
                    <a:pt x="719" y="1885"/>
                  </a:lnTo>
                  <a:lnTo>
                    <a:pt x="765" y="1896"/>
                  </a:lnTo>
                  <a:lnTo>
                    <a:pt x="812" y="1905"/>
                  </a:lnTo>
                  <a:lnTo>
                    <a:pt x="860" y="1910"/>
                  </a:lnTo>
                  <a:lnTo>
                    <a:pt x="909" y="1915"/>
                  </a:lnTo>
                  <a:lnTo>
                    <a:pt x="958" y="1916"/>
                  </a:lnTo>
                  <a:lnTo>
                    <a:pt x="987" y="1915"/>
                  </a:lnTo>
                  <a:lnTo>
                    <a:pt x="1014" y="1913"/>
                  </a:lnTo>
                  <a:lnTo>
                    <a:pt x="1042" y="1911"/>
                  </a:lnTo>
                  <a:lnTo>
                    <a:pt x="1070" y="1909"/>
                  </a:lnTo>
                  <a:lnTo>
                    <a:pt x="1097" y="1906"/>
                  </a:lnTo>
                  <a:lnTo>
                    <a:pt x="1124" y="1902"/>
                  </a:lnTo>
                  <a:lnTo>
                    <a:pt x="1151" y="1896"/>
                  </a:lnTo>
                  <a:lnTo>
                    <a:pt x="1177" y="1890"/>
                  </a:lnTo>
                  <a:lnTo>
                    <a:pt x="1203" y="1883"/>
                  </a:lnTo>
                  <a:lnTo>
                    <a:pt x="1229" y="1877"/>
                  </a:lnTo>
                  <a:lnTo>
                    <a:pt x="1255" y="1868"/>
                  </a:lnTo>
                  <a:lnTo>
                    <a:pt x="1281" y="1859"/>
                  </a:lnTo>
                  <a:lnTo>
                    <a:pt x="1306" y="1851"/>
                  </a:lnTo>
                  <a:lnTo>
                    <a:pt x="1330" y="1840"/>
                  </a:lnTo>
                  <a:lnTo>
                    <a:pt x="1354" y="1830"/>
                  </a:lnTo>
                  <a:lnTo>
                    <a:pt x="1378" y="1818"/>
                  </a:lnTo>
                  <a:lnTo>
                    <a:pt x="1360" y="1781"/>
                  </a:lnTo>
                  <a:lnTo>
                    <a:pt x="1337" y="1791"/>
                  </a:lnTo>
                  <a:lnTo>
                    <a:pt x="1314" y="1802"/>
                  </a:lnTo>
                  <a:lnTo>
                    <a:pt x="1290" y="1812"/>
                  </a:lnTo>
                  <a:lnTo>
                    <a:pt x="1267" y="1821"/>
                  </a:lnTo>
                  <a:lnTo>
                    <a:pt x="1242" y="1829"/>
                  </a:lnTo>
                  <a:lnTo>
                    <a:pt x="1218" y="1837"/>
                  </a:lnTo>
                  <a:lnTo>
                    <a:pt x="1193" y="1843"/>
                  </a:lnTo>
                  <a:lnTo>
                    <a:pt x="1167" y="1850"/>
                  </a:lnTo>
                  <a:lnTo>
                    <a:pt x="1142" y="1855"/>
                  </a:lnTo>
                  <a:lnTo>
                    <a:pt x="1116" y="1861"/>
                  </a:lnTo>
                  <a:lnTo>
                    <a:pt x="1091" y="1864"/>
                  </a:lnTo>
                  <a:lnTo>
                    <a:pt x="1065" y="1867"/>
                  </a:lnTo>
                  <a:lnTo>
                    <a:pt x="1039" y="1870"/>
                  </a:lnTo>
                  <a:lnTo>
                    <a:pt x="1012" y="1872"/>
                  </a:lnTo>
                  <a:lnTo>
                    <a:pt x="985" y="1874"/>
                  </a:lnTo>
                  <a:lnTo>
                    <a:pt x="958" y="1874"/>
                  </a:lnTo>
                  <a:lnTo>
                    <a:pt x="911" y="1872"/>
                  </a:lnTo>
                  <a:lnTo>
                    <a:pt x="865" y="1869"/>
                  </a:lnTo>
                  <a:lnTo>
                    <a:pt x="818" y="1863"/>
                  </a:lnTo>
                  <a:lnTo>
                    <a:pt x="774" y="1855"/>
                  </a:lnTo>
                  <a:lnTo>
                    <a:pt x="729" y="1844"/>
                  </a:lnTo>
                  <a:lnTo>
                    <a:pt x="685" y="1832"/>
                  </a:lnTo>
                  <a:lnTo>
                    <a:pt x="643" y="1818"/>
                  </a:lnTo>
                  <a:lnTo>
                    <a:pt x="601" y="1801"/>
                  </a:lnTo>
                  <a:lnTo>
                    <a:pt x="561" y="1784"/>
                  </a:lnTo>
                  <a:lnTo>
                    <a:pt x="521" y="1763"/>
                  </a:lnTo>
                  <a:lnTo>
                    <a:pt x="483" y="1741"/>
                  </a:lnTo>
                  <a:lnTo>
                    <a:pt x="445" y="1717"/>
                  </a:lnTo>
                  <a:lnTo>
                    <a:pt x="410" y="1692"/>
                  </a:lnTo>
                  <a:lnTo>
                    <a:pt x="375" y="1664"/>
                  </a:lnTo>
                  <a:lnTo>
                    <a:pt x="342" y="1636"/>
                  </a:lnTo>
                  <a:lnTo>
                    <a:pt x="310" y="1606"/>
                  </a:lnTo>
                  <a:lnTo>
                    <a:pt x="279" y="1573"/>
                  </a:lnTo>
                  <a:lnTo>
                    <a:pt x="251" y="1540"/>
                  </a:lnTo>
                  <a:lnTo>
                    <a:pt x="224" y="1505"/>
                  </a:lnTo>
                  <a:lnTo>
                    <a:pt x="198" y="1470"/>
                  </a:lnTo>
                  <a:lnTo>
                    <a:pt x="174" y="1433"/>
                  </a:lnTo>
                  <a:lnTo>
                    <a:pt x="152" y="1394"/>
                  </a:lnTo>
                  <a:lnTo>
                    <a:pt x="132" y="1355"/>
                  </a:lnTo>
                  <a:lnTo>
                    <a:pt x="114" y="1314"/>
                  </a:lnTo>
                  <a:lnTo>
                    <a:pt x="98" y="1272"/>
                  </a:lnTo>
                  <a:lnTo>
                    <a:pt x="82" y="1230"/>
                  </a:lnTo>
                  <a:lnTo>
                    <a:pt x="71" y="1187"/>
                  </a:lnTo>
                  <a:lnTo>
                    <a:pt x="60" y="1142"/>
                  </a:lnTo>
                  <a:lnTo>
                    <a:pt x="52" y="1097"/>
                  </a:lnTo>
                  <a:lnTo>
                    <a:pt x="46" y="1051"/>
                  </a:lnTo>
                  <a:lnTo>
                    <a:pt x="42" y="1004"/>
                  </a:lnTo>
                  <a:lnTo>
                    <a:pt x="41" y="958"/>
                  </a:lnTo>
                  <a:lnTo>
                    <a:pt x="42" y="910"/>
                  </a:lnTo>
                  <a:lnTo>
                    <a:pt x="46" y="864"/>
                  </a:lnTo>
                  <a:lnTo>
                    <a:pt x="52" y="818"/>
                  </a:lnTo>
                  <a:lnTo>
                    <a:pt x="60" y="773"/>
                  </a:lnTo>
                  <a:lnTo>
                    <a:pt x="71" y="729"/>
                  </a:lnTo>
                  <a:lnTo>
                    <a:pt x="82" y="684"/>
                  </a:lnTo>
                  <a:lnTo>
                    <a:pt x="98" y="642"/>
                  </a:lnTo>
                  <a:lnTo>
                    <a:pt x="114" y="601"/>
                  </a:lnTo>
                  <a:lnTo>
                    <a:pt x="132" y="560"/>
                  </a:lnTo>
                  <a:lnTo>
                    <a:pt x="152" y="520"/>
                  </a:lnTo>
                  <a:lnTo>
                    <a:pt x="174" y="482"/>
                  </a:lnTo>
                  <a:lnTo>
                    <a:pt x="198" y="445"/>
                  </a:lnTo>
                  <a:lnTo>
                    <a:pt x="224" y="409"/>
                  </a:lnTo>
                  <a:lnTo>
                    <a:pt x="251" y="374"/>
                  </a:lnTo>
                  <a:lnTo>
                    <a:pt x="279" y="341"/>
                  </a:lnTo>
                  <a:lnTo>
                    <a:pt x="310" y="310"/>
                  </a:lnTo>
                  <a:lnTo>
                    <a:pt x="342" y="279"/>
                  </a:lnTo>
                  <a:lnTo>
                    <a:pt x="375" y="250"/>
                  </a:lnTo>
                  <a:lnTo>
                    <a:pt x="410" y="223"/>
                  </a:lnTo>
                  <a:lnTo>
                    <a:pt x="445" y="197"/>
                  </a:lnTo>
                  <a:lnTo>
                    <a:pt x="483" y="174"/>
                  </a:lnTo>
                  <a:lnTo>
                    <a:pt x="521" y="152"/>
                  </a:lnTo>
                  <a:lnTo>
                    <a:pt x="561" y="131"/>
                  </a:lnTo>
                  <a:lnTo>
                    <a:pt x="601" y="113"/>
                  </a:lnTo>
                  <a:lnTo>
                    <a:pt x="643" y="97"/>
                  </a:lnTo>
                  <a:lnTo>
                    <a:pt x="685" y="82"/>
                  </a:lnTo>
                  <a:lnTo>
                    <a:pt x="729" y="70"/>
                  </a:lnTo>
                  <a:lnTo>
                    <a:pt x="774" y="60"/>
                  </a:lnTo>
                  <a:lnTo>
                    <a:pt x="818" y="52"/>
                  </a:lnTo>
                  <a:lnTo>
                    <a:pt x="865" y="46"/>
                  </a:lnTo>
                  <a:lnTo>
                    <a:pt x="911" y="42"/>
                  </a:lnTo>
                  <a:lnTo>
                    <a:pt x="958" y="41"/>
                  </a:lnTo>
                  <a:lnTo>
                    <a:pt x="1005" y="42"/>
                  </a:lnTo>
                  <a:lnTo>
                    <a:pt x="1052" y="46"/>
                  </a:lnTo>
                  <a:lnTo>
                    <a:pt x="1098" y="52"/>
                  </a:lnTo>
                  <a:lnTo>
                    <a:pt x="1142" y="60"/>
                  </a:lnTo>
                  <a:lnTo>
                    <a:pt x="1187" y="70"/>
                  </a:lnTo>
                  <a:lnTo>
                    <a:pt x="1231" y="82"/>
                  </a:lnTo>
                  <a:lnTo>
                    <a:pt x="1273" y="97"/>
                  </a:lnTo>
                  <a:lnTo>
                    <a:pt x="1315" y="113"/>
                  </a:lnTo>
                  <a:lnTo>
                    <a:pt x="1355" y="131"/>
                  </a:lnTo>
                  <a:lnTo>
                    <a:pt x="1395" y="152"/>
                  </a:lnTo>
                  <a:lnTo>
                    <a:pt x="1433" y="174"/>
                  </a:lnTo>
                  <a:lnTo>
                    <a:pt x="1471" y="197"/>
                  </a:lnTo>
                  <a:lnTo>
                    <a:pt x="1507" y="223"/>
                  </a:lnTo>
                  <a:lnTo>
                    <a:pt x="1541" y="250"/>
                  </a:lnTo>
                  <a:lnTo>
                    <a:pt x="1575" y="279"/>
                  </a:lnTo>
                  <a:lnTo>
                    <a:pt x="1606" y="310"/>
                  </a:lnTo>
                  <a:lnTo>
                    <a:pt x="1636" y="341"/>
                  </a:lnTo>
                  <a:lnTo>
                    <a:pt x="1665" y="374"/>
                  </a:lnTo>
                  <a:lnTo>
                    <a:pt x="1692" y="409"/>
                  </a:lnTo>
                  <a:lnTo>
                    <a:pt x="1718" y="445"/>
                  </a:lnTo>
                  <a:lnTo>
                    <a:pt x="1742" y="482"/>
                  </a:lnTo>
                  <a:lnTo>
                    <a:pt x="1764" y="520"/>
                  </a:lnTo>
                  <a:lnTo>
                    <a:pt x="1784" y="560"/>
                  </a:lnTo>
                  <a:lnTo>
                    <a:pt x="1803" y="601"/>
                  </a:lnTo>
                  <a:lnTo>
                    <a:pt x="1819" y="642"/>
                  </a:lnTo>
                  <a:lnTo>
                    <a:pt x="1834" y="684"/>
                  </a:lnTo>
                  <a:lnTo>
                    <a:pt x="1846" y="729"/>
                  </a:lnTo>
                  <a:lnTo>
                    <a:pt x="1857" y="773"/>
                  </a:lnTo>
                  <a:lnTo>
                    <a:pt x="1864" y="818"/>
                  </a:lnTo>
                  <a:lnTo>
                    <a:pt x="1870" y="864"/>
                  </a:lnTo>
                  <a:lnTo>
                    <a:pt x="1874" y="910"/>
                  </a:lnTo>
                  <a:lnTo>
                    <a:pt x="1875" y="958"/>
                  </a:lnTo>
                  <a:lnTo>
                    <a:pt x="1874" y="988"/>
                  </a:lnTo>
                  <a:lnTo>
                    <a:pt x="1873" y="1019"/>
                  </a:lnTo>
                  <a:lnTo>
                    <a:pt x="1871" y="1049"/>
                  </a:lnTo>
                  <a:lnTo>
                    <a:pt x="1866" y="1079"/>
                  </a:lnTo>
                  <a:lnTo>
                    <a:pt x="1862" y="1109"/>
                  </a:lnTo>
                  <a:lnTo>
                    <a:pt x="1857" y="1138"/>
                  </a:lnTo>
                  <a:lnTo>
                    <a:pt x="1850" y="1167"/>
                  </a:lnTo>
                  <a:lnTo>
                    <a:pt x="1844" y="1195"/>
                  </a:lnTo>
                  <a:lnTo>
                    <a:pt x="1884" y="1206"/>
                  </a:lnTo>
                  <a:lnTo>
                    <a:pt x="1891" y="1177"/>
                  </a:lnTo>
                  <a:lnTo>
                    <a:pt x="1898" y="1146"/>
                  </a:lnTo>
                  <a:lnTo>
                    <a:pt x="1903" y="1115"/>
                  </a:lnTo>
                  <a:lnTo>
                    <a:pt x="1909" y="1084"/>
                  </a:lnTo>
                  <a:lnTo>
                    <a:pt x="1912" y="1053"/>
                  </a:lnTo>
                  <a:lnTo>
                    <a:pt x="1914" y="1021"/>
                  </a:lnTo>
                  <a:lnTo>
                    <a:pt x="1916" y="990"/>
                  </a:lnTo>
                  <a:lnTo>
                    <a:pt x="1916" y="958"/>
                  </a:lnTo>
                  <a:close/>
                </a:path>
              </a:pathLst>
            </a:custGeom>
            <a:solidFill>
              <a:srgbClr val="f1e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202280" y="2625840"/>
              <a:ext cx="744480" cy="742680"/>
            </a:xfrm>
            <a:custGeom>
              <a:avLst/>
              <a:gdLst/>
              <a:ahLst/>
              <a:rect l="l" t="t" r="r" b="b"/>
              <a:pathLst>
                <a:path w="1875" h="1874">
                  <a:moveTo>
                    <a:pt x="1875" y="938"/>
                  </a:moveTo>
                  <a:lnTo>
                    <a:pt x="1873" y="889"/>
                  </a:lnTo>
                  <a:lnTo>
                    <a:pt x="1870" y="842"/>
                  </a:lnTo>
                  <a:lnTo>
                    <a:pt x="1864" y="795"/>
                  </a:lnTo>
                  <a:lnTo>
                    <a:pt x="1856" y="749"/>
                  </a:lnTo>
                  <a:lnTo>
                    <a:pt x="1845" y="703"/>
                  </a:lnTo>
                  <a:lnTo>
                    <a:pt x="1832" y="659"/>
                  </a:lnTo>
                  <a:lnTo>
                    <a:pt x="1817" y="615"/>
                  </a:lnTo>
                  <a:lnTo>
                    <a:pt x="1801" y="573"/>
                  </a:lnTo>
                  <a:lnTo>
                    <a:pt x="1783" y="532"/>
                  </a:lnTo>
                  <a:lnTo>
                    <a:pt x="1761" y="491"/>
                  </a:lnTo>
                  <a:lnTo>
                    <a:pt x="1739" y="452"/>
                  </a:lnTo>
                  <a:lnTo>
                    <a:pt x="1715" y="414"/>
                  </a:lnTo>
                  <a:lnTo>
                    <a:pt x="1689" y="377"/>
                  </a:lnTo>
                  <a:lnTo>
                    <a:pt x="1661" y="342"/>
                  </a:lnTo>
                  <a:lnTo>
                    <a:pt x="1631" y="307"/>
                  </a:lnTo>
                  <a:lnTo>
                    <a:pt x="1600" y="275"/>
                  </a:lnTo>
                  <a:lnTo>
                    <a:pt x="1568" y="243"/>
                  </a:lnTo>
                  <a:lnTo>
                    <a:pt x="1533" y="214"/>
                  </a:lnTo>
                  <a:lnTo>
                    <a:pt x="1499" y="186"/>
                  </a:lnTo>
                  <a:lnTo>
                    <a:pt x="1462" y="160"/>
                  </a:lnTo>
                  <a:lnTo>
                    <a:pt x="1423" y="136"/>
                  </a:lnTo>
                  <a:lnTo>
                    <a:pt x="1384" y="114"/>
                  </a:lnTo>
                  <a:lnTo>
                    <a:pt x="1344" y="93"/>
                  </a:lnTo>
                  <a:lnTo>
                    <a:pt x="1302" y="74"/>
                  </a:lnTo>
                  <a:lnTo>
                    <a:pt x="1260" y="57"/>
                  </a:lnTo>
                  <a:lnTo>
                    <a:pt x="1215" y="42"/>
                  </a:lnTo>
                  <a:lnTo>
                    <a:pt x="1171" y="29"/>
                  </a:lnTo>
                  <a:lnTo>
                    <a:pt x="1126" y="20"/>
                  </a:lnTo>
                  <a:lnTo>
                    <a:pt x="1080" y="11"/>
                  </a:lnTo>
                  <a:lnTo>
                    <a:pt x="1033" y="6"/>
                  </a:lnTo>
                  <a:lnTo>
                    <a:pt x="985" y="1"/>
                  </a:lnTo>
                  <a:lnTo>
                    <a:pt x="937" y="0"/>
                  </a:lnTo>
                  <a:lnTo>
                    <a:pt x="889" y="1"/>
                  </a:lnTo>
                  <a:lnTo>
                    <a:pt x="842" y="6"/>
                  </a:lnTo>
                  <a:lnTo>
                    <a:pt x="794" y="11"/>
                  </a:lnTo>
                  <a:lnTo>
                    <a:pt x="749" y="20"/>
                  </a:lnTo>
                  <a:lnTo>
                    <a:pt x="703" y="29"/>
                  </a:lnTo>
                  <a:lnTo>
                    <a:pt x="658" y="42"/>
                  </a:lnTo>
                  <a:lnTo>
                    <a:pt x="615" y="57"/>
                  </a:lnTo>
                  <a:lnTo>
                    <a:pt x="573" y="74"/>
                  </a:lnTo>
                  <a:lnTo>
                    <a:pt x="530" y="93"/>
                  </a:lnTo>
                  <a:lnTo>
                    <a:pt x="490" y="114"/>
                  </a:lnTo>
                  <a:lnTo>
                    <a:pt x="451" y="136"/>
                  </a:lnTo>
                  <a:lnTo>
                    <a:pt x="413" y="160"/>
                  </a:lnTo>
                  <a:lnTo>
                    <a:pt x="376" y="186"/>
                  </a:lnTo>
                  <a:lnTo>
                    <a:pt x="341" y="214"/>
                  </a:lnTo>
                  <a:lnTo>
                    <a:pt x="307" y="243"/>
                  </a:lnTo>
                  <a:lnTo>
                    <a:pt x="274" y="275"/>
                  </a:lnTo>
                  <a:lnTo>
                    <a:pt x="243" y="307"/>
                  </a:lnTo>
                  <a:lnTo>
                    <a:pt x="214" y="342"/>
                  </a:lnTo>
                  <a:lnTo>
                    <a:pt x="186" y="377"/>
                  </a:lnTo>
                  <a:lnTo>
                    <a:pt x="160" y="414"/>
                  </a:lnTo>
                  <a:lnTo>
                    <a:pt x="135" y="452"/>
                  </a:lnTo>
                  <a:lnTo>
                    <a:pt x="113" y="491"/>
                  </a:lnTo>
                  <a:lnTo>
                    <a:pt x="92" y="532"/>
                  </a:lnTo>
                  <a:lnTo>
                    <a:pt x="73" y="573"/>
                  </a:lnTo>
                  <a:lnTo>
                    <a:pt x="56" y="615"/>
                  </a:lnTo>
                  <a:lnTo>
                    <a:pt x="42" y="659"/>
                  </a:lnTo>
                  <a:lnTo>
                    <a:pt x="29" y="703"/>
                  </a:lnTo>
                  <a:lnTo>
                    <a:pt x="18" y="749"/>
                  </a:lnTo>
                  <a:lnTo>
                    <a:pt x="11" y="795"/>
                  </a:lnTo>
                  <a:lnTo>
                    <a:pt x="4" y="842"/>
                  </a:lnTo>
                  <a:lnTo>
                    <a:pt x="1" y="889"/>
                  </a:lnTo>
                  <a:lnTo>
                    <a:pt x="0" y="938"/>
                  </a:lnTo>
                  <a:lnTo>
                    <a:pt x="1" y="985"/>
                  </a:lnTo>
                  <a:lnTo>
                    <a:pt x="4" y="1033"/>
                  </a:lnTo>
                  <a:lnTo>
                    <a:pt x="11" y="1080"/>
                  </a:lnTo>
                  <a:lnTo>
                    <a:pt x="18" y="1127"/>
                  </a:lnTo>
                  <a:lnTo>
                    <a:pt x="29" y="1172"/>
                  </a:lnTo>
                  <a:lnTo>
                    <a:pt x="42" y="1216"/>
                  </a:lnTo>
                  <a:lnTo>
                    <a:pt x="56" y="1260"/>
                  </a:lnTo>
                  <a:lnTo>
                    <a:pt x="73" y="1302"/>
                  </a:lnTo>
                  <a:lnTo>
                    <a:pt x="92" y="1344"/>
                  </a:lnTo>
                  <a:lnTo>
                    <a:pt x="113" y="1384"/>
                  </a:lnTo>
                  <a:lnTo>
                    <a:pt x="135" y="1424"/>
                  </a:lnTo>
                  <a:lnTo>
                    <a:pt x="160" y="1461"/>
                  </a:lnTo>
                  <a:lnTo>
                    <a:pt x="186" y="1498"/>
                  </a:lnTo>
                  <a:lnTo>
                    <a:pt x="214" y="1534"/>
                  </a:lnTo>
                  <a:lnTo>
                    <a:pt x="243" y="1567"/>
                  </a:lnTo>
                  <a:lnTo>
                    <a:pt x="274" y="1600"/>
                  </a:lnTo>
                  <a:lnTo>
                    <a:pt x="307" y="1631"/>
                  </a:lnTo>
                  <a:lnTo>
                    <a:pt x="341" y="1660"/>
                  </a:lnTo>
                  <a:lnTo>
                    <a:pt x="376" y="1688"/>
                  </a:lnTo>
                  <a:lnTo>
                    <a:pt x="413" y="1714"/>
                  </a:lnTo>
                  <a:lnTo>
                    <a:pt x="451" y="1739"/>
                  </a:lnTo>
                  <a:lnTo>
                    <a:pt x="490" y="1762"/>
                  </a:lnTo>
                  <a:lnTo>
                    <a:pt x="530" y="1782"/>
                  </a:lnTo>
                  <a:lnTo>
                    <a:pt x="573" y="1801"/>
                  </a:lnTo>
                  <a:lnTo>
                    <a:pt x="615" y="1818"/>
                  </a:lnTo>
                  <a:lnTo>
                    <a:pt x="658" y="1832"/>
                  </a:lnTo>
                  <a:lnTo>
                    <a:pt x="703" y="1845"/>
                  </a:lnTo>
                  <a:lnTo>
                    <a:pt x="749" y="1856"/>
                  </a:lnTo>
                  <a:lnTo>
                    <a:pt x="794" y="1863"/>
                  </a:lnTo>
                  <a:lnTo>
                    <a:pt x="842" y="1870"/>
                  </a:lnTo>
                  <a:lnTo>
                    <a:pt x="889" y="1873"/>
                  </a:lnTo>
                  <a:lnTo>
                    <a:pt x="937" y="1874"/>
                  </a:lnTo>
                  <a:lnTo>
                    <a:pt x="965" y="1874"/>
                  </a:lnTo>
                  <a:lnTo>
                    <a:pt x="992" y="1873"/>
                  </a:lnTo>
                  <a:lnTo>
                    <a:pt x="1019" y="1871"/>
                  </a:lnTo>
                  <a:lnTo>
                    <a:pt x="1046" y="1869"/>
                  </a:lnTo>
                  <a:lnTo>
                    <a:pt x="1073" y="1864"/>
                  </a:lnTo>
                  <a:lnTo>
                    <a:pt x="1100" y="1861"/>
                  </a:lnTo>
                  <a:lnTo>
                    <a:pt x="1126" y="1856"/>
                  </a:lnTo>
                  <a:lnTo>
                    <a:pt x="1152" y="1850"/>
                  </a:lnTo>
                  <a:lnTo>
                    <a:pt x="1178" y="1844"/>
                  </a:lnTo>
                  <a:lnTo>
                    <a:pt x="1202" y="1836"/>
                  </a:lnTo>
                  <a:lnTo>
                    <a:pt x="1227" y="1829"/>
                  </a:lnTo>
                  <a:lnTo>
                    <a:pt x="1252" y="1820"/>
                  </a:lnTo>
                  <a:lnTo>
                    <a:pt x="1277" y="1811"/>
                  </a:lnTo>
                  <a:lnTo>
                    <a:pt x="1301" y="1802"/>
                  </a:lnTo>
                  <a:lnTo>
                    <a:pt x="1325" y="1791"/>
                  </a:lnTo>
                  <a:lnTo>
                    <a:pt x="1348" y="1780"/>
                  </a:lnTo>
                  <a:lnTo>
                    <a:pt x="1330" y="1742"/>
                  </a:lnTo>
                  <a:lnTo>
                    <a:pt x="1307" y="1753"/>
                  </a:lnTo>
                  <a:lnTo>
                    <a:pt x="1285" y="1763"/>
                  </a:lnTo>
                  <a:lnTo>
                    <a:pt x="1262" y="1773"/>
                  </a:lnTo>
                  <a:lnTo>
                    <a:pt x="1238" y="1781"/>
                  </a:lnTo>
                  <a:lnTo>
                    <a:pt x="1214" y="1789"/>
                  </a:lnTo>
                  <a:lnTo>
                    <a:pt x="1191" y="1796"/>
                  </a:lnTo>
                  <a:lnTo>
                    <a:pt x="1167" y="1803"/>
                  </a:lnTo>
                  <a:lnTo>
                    <a:pt x="1142" y="1809"/>
                  </a:lnTo>
                  <a:lnTo>
                    <a:pt x="1117" y="1815"/>
                  </a:lnTo>
                  <a:lnTo>
                    <a:pt x="1092" y="1820"/>
                  </a:lnTo>
                  <a:lnTo>
                    <a:pt x="1066" y="1823"/>
                  </a:lnTo>
                  <a:lnTo>
                    <a:pt x="1041" y="1827"/>
                  </a:lnTo>
                  <a:lnTo>
                    <a:pt x="1016" y="1830"/>
                  </a:lnTo>
                  <a:lnTo>
                    <a:pt x="990" y="1831"/>
                  </a:lnTo>
                  <a:lnTo>
                    <a:pt x="964" y="1833"/>
                  </a:lnTo>
                  <a:lnTo>
                    <a:pt x="937" y="1833"/>
                  </a:lnTo>
                  <a:lnTo>
                    <a:pt x="891" y="1832"/>
                  </a:lnTo>
                  <a:lnTo>
                    <a:pt x="846" y="1829"/>
                  </a:lnTo>
                  <a:lnTo>
                    <a:pt x="800" y="1822"/>
                  </a:lnTo>
                  <a:lnTo>
                    <a:pt x="756" y="1815"/>
                  </a:lnTo>
                  <a:lnTo>
                    <a:pt x="713" y="1805"/>
                  </a:lnTo>
                  <a:lnTo>
                    <a:pt x="671" y="1793"/>
                  </a:lnTo>
                  <a:lnTo>
                    <a:pt x="629" y="1779"/>
                  </a:lnTo>
                  <a:lnTo>
                    <a:pt x="589" y="1763"/>
                  </a:lnTo>
                  <a:lnTo>
                    <a:pt x="549" y="1744"/>
                  </a:lnTo>
                  <a:lnTo>
                    <a:pt x="510" y="1725"/>
                  </a:lnTo>
                  <a:lnTo>
                    <a:pt x="473" y="1703"/>
                  </a:lnTo>
                  <a:lnTo>
                    <a:pt x="436" y="1680"/>
                  </a:lnTo>
                  <a:lnTo>
                    <a:pt x="401" y="1655"/>
                  </a:lnTo>
                  <a:lnTo>
                    <a:pt x="367" y="1629"/>
                  </a:lnTo>
                  <a:lnTo>
                    <a:pt x="335" y="1600"/>
                  </a:lnTo>
                  <a:lnTo>
                    <a:pt x="303" y="1571"/>
                  </a:lnTo>
                  <a:lnTo>
                    <a:pt x="274" y="1539"/>
                  </a:lnTo>
                  <a:lnTo>
                    <a:pt x="246" y="1507"/>
                  </a:lnTo>
                  <a:lnTo>
                    <a:pt x="219" y="1473"/>
                  </a:lnTo>
                  <a:lnTo>
                    <a:pt x="194" y="1438"/>
                  </a:lnTo>
                  <a:lnTo>
                    <a:pt x="171" y="1402"/>
                  </a:lnTo>
                  <a:lnTo>
                    <a:pt x="149" y="1364"/>
                  </a:lnTo>
                  <a:lnTo>
                    <a:pt x="129" y="1325"/>
                  </a:lnTo>
                  <a:lnTo>
                    <a:pt x="112" y="1285"/>
                  </a:lnTo>
                  <a:lnTo>
                    <a:pt x="96" y="1245"/>
                  </a:lnTo>
                  <a:lnTo>
                    <a:pt x="82" y="1203"/>
                  </a:lnTo>
                  <a:lnTo>
                    <a:pt x="69" y="1161"/>
                  </a:lnTo>
                  <a:lnTo>
                    <a:pt x="59" y="1118"/>
                  </a:lnTo>
                  <a:lnTo>
                    <a:pt x="52" y="1074"/>
                  </a:lnTo>
                  <a:lnTo>
                    <a:pt x="46" y="1029"/>
                  </a:lnTo>
                  <a:lnTo>
                    <a:pt x="42" y="983"/>
                  </a:lnTo>
                  <a:lnTo>
                    <a:pt x="41" y="938"/>
                  </a:lnTo>
                  <a:lnTo>
                    <a:pt x="42" y="891"/>
                  </a:lnTo>
                  <a:lnTo>
                    <a:pt x="46" y="846"/>
                  </a:lnTo>
                  <a:lnTo>
                    <a:pt x="52" y="802"/>
                  </a:lnTo>
                  <a:lnTo>
                    <a:pt x="59" y="757"/>
                  </a:lnTo>
                  <a:lnTo>
                    <a:pt x="69" y="714"/>
                  </a:lnTo>
                  <a:lnTo>
                    <a:pt x="82" y="671"/>
                  </a:lnTo>
                  <a:lnTo>
                    <a:pt x="96" y="630"/>
                  </a:lnTo>
                  <a:lnTo>
                    <a:pt x="112" y="589"/>
                  </a:lnTo>
                  <a:lnTo>
                    <a:pt x="129" y="549"/>
                  </a:lnTo>
                  <a:lnTo>
                    <a:pt x="149" y="511"/>
                  </a:lnTo>
                  <a:lnTo>
                    <a:pt x="171" y="473"/>
                  </a:lnTo>
                  <a:lnTo>
                    <a:pt x="194" y="437"/>
                  </a:lnTo>
                  <a:lnTo>
                    <a:pt x="219" y="402"/>
                  </a:lnTo>
                  <a:lnTo>
                    <a:pt x="246" y="367"/>
                  </a:lnTo>
                  <a:lnTo>
                    <a:pt x="274" y="335"/>
                  </a:lnTo>
                  <a:lnTo>
                    <a:pt x="303" y="304"/>
                  </a:lnTo>
                  <a:lnTo>
                    <a:pt x="335" y="275"/>
                  </a:lnTo>
                  <a:lnTo>
                    <a:pt x="367" y="246"/>
                  </a:lnTo>
                  <a:lnTo>
                    <a:pt x="401" y="219"/>
                  </a:lnTo>
                  <a:lnTo>
                    <a:pt x="436" y="195"/>
                  </a:lnTo>
                  <a:lnTo>
                    <a:pt x="473" y="172"/>
                  </a:lnTo>
                  <a:lnTo>
                    <a:pt x="510" y="150"/>
                  </a:lnTo>
                  <a:lnTo>
                    <a:pt x="549" y="130"/>
                  </a:lnTo>
                  <a:lnTo>
                    <a:pt x="589" y="113"/>
                  </a:lnTo>
                  <a:lnTo>
                    <a:pt x="629" y="96"/>
                  </a:lnTo>
                  <a:lnTo>
                    <a:pt x="671" y="82"/>
                  </a:lnTo>
                  <a:lnTo>
                    <a:pt x="713" y="70"/>
                  </a:lnTo>
                  <a:lnTo>
                    <a:pt x="756" y="60"/>
                  </a:lnTo>
                  <a:lnTo>
                    <a:pt x="800" y="52"/>
                  </a:lnTo>
                  <a:lnTo>
                    <a:pt x="846" y="47"/>
                  </a:lnTo>
                  <a:lnTo>
                    <a:pt x="891" y="43"/>
                  </a:lnTo>
                  <a:lnTo>
                    <a:pt x="937" y="42"/>
                  </a:lnTo>
                  <a:lnTo>
                    <a:pt x="983" y="43"/>
                  </a:lnTo>
                  <a:lnTo>
                    <a:pt x="1028" y="47"/>
                  </a:lnTo>
                  <a:lnTo>
                    <a:pt x="1074" y="52"/>
                  </a:lnTo>
                  <a:lnTo>
                    <a:pt x="1118" y="60"/>
                  </a:lnTo>
                  <a:lnTo>
                    <a:pt x="1161" y="70"/>
                  </a:lnTo>
                  <a:lnTo>
                    <a:pt x="1204" y="82"/>
                  </a:lnTo>
                  <a:lnTo>
                    <a:pt x="1246" y="96"/>
                  </a:lnTo>
                  <a:lnTo>
                    <a:pt x="1286" y="113"/>
                  </a:lnTo>
                  <a:lnTo>
                    <a:pt x="1326" y="130"/>
                  </a:lnTo>
                  <a:lnTo>
                    <a:pt x="1365" y="150"/>
                  </a:lnTo>
                  <a:lnTo>
                    <a:pt x="1401" y="172"/>
                  </a:lnTo>
                  <a:lnTo>
                    <a:pt x="1438" y="195"/>
                  </a:lnTo>
                  <a:lnTo>
                    <a:pt x="1474" y="219"/>
                  </a:lnTo>
                  <a:lnTo>
                    <a:pt x="1507" y="246"/>
                  </a:lnTo>
                  <a:lnTo>
                    <a:pt x="1540" y="275"/>
                  </a:lnTo>
                  <a:lnTo>
                    <a:pt x="1571" y="304"/>
                  </a:lnTo>
                  <a:lnTo>
                    <a:pt x="1600" y="335"/>
                  </a:lnTo>
                  <a:lnTo>
                    <a:pt x="1628" y="367"/>
                  </a:lnTo>
                  <a:lnTo>
                    <a:pt x="1655" y="402"/>
                  </a:lnTo>
                  <a:lnTo>
                    <a:pt x="1680" y="437"/>
                  </a:lnTo>
                  <a:lnTo>
                    <a:pt x="1704" y="473"/>
                  </a:lnTo>
                  <a:lnTo>
                    <a:pt x="1724" y="511"/>
                  </a:lnTo>
                  <a:lnTo>
                    <a:pt x="1745" y="549"/>
                  </a:lnTo>
                  <a:lnTo>
                    <a:pt x="1762" y="589"/>
                  </a:lnTo>
                  <a:lnTo>
                    <a:pt x="1778" y="630"/>
                  </a:lnTo>
                  <a:lnTo>
                    <a:pt x="1792" y="671"/>
                  </a:lnTo>
                  <a:lnTo>
                    <a:pt x="1804" y="714"/>
                  </a:lnTo>
                  <a:lnTo>
                    <a:pt x="1815" y="757"/>
                  </a:lnTo>
                  <a:lnTo>
                    <a:pt x="1823" y="802"/>
                  </a:lnTo>
                  <a:lnTo>
                    <a:pt x="1828" y="846"/>
                  </a:lnTo>
                  <a:lnTo>
                    <a:pt x="1831" y="891"/>
                  </a:lnTo>
                  <a:lnTo>
                    <a:pt x="1833" y="938"/>
                  </a:lnTo>
                  <a:lnTo>
                    <a:pt x="1832" y="968"/>
                  </a:lnTo>
                  <a:lnTo>
                    <a:pt x="1831" y="997"/>
                  </a:lnTo>
                  <a:lnTo>
                    <a:pt x="1828" y="1027"/>
                  </a:lnTo>
                  <a:lnTo>
                    <a:pt x="1825" y="1056"/>
                  </a:lnTo>
                  <a:lnTo>
                    <a:pt x="1821" y="1086"/>
                  </a:lnTo>
                  <a:lnTo>
                    <a:pt x="1815" y="1114"/>
                  </a:lnTo>
                  <a:lnTo>
                    <a:pt x="1810" y="1142"/>
                  </a:lnTo>
                  <a:lnTo>
                    <a:pt x="1802" y="1170"/>
                  </a:lnTo>
                  <a:lnTo>
                    <a:pt x="1842" y="1181"/>
                  </a:lnTo>
                  <a:lnTo>
                    <a:pt x="1850" y="1152"/>
                  </a:lnTo>
                  <a:lnTo>
                    <a:pt x="1856" y="1122"/>
                  </a:lnTo>
                  <a:lnTo>
                    <a:pt x="1862" y="1092"/>
                  </a:lnTo>
                  <a:lnTo>
                    <a:pt x="1867" y="1062"/>
                  </a:lnTo>
                  <a:lnTo>
                    <a:pt x="1870" y="1031"/>
                  </a:lnTo>
                  <a:lnTo>
                    <a:pt x="1872" y="1000"/>
                  </a:lnTo>
                  <a:lnTo>
                    <a:pt x="1875" y="969"/>
                  </a:lnTo>
                  <a:lnTo>
                    <a:pt x="1875" y="938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210200" y="2633760"/>
              <a:ext cx="728640" cy="726840"/>
            </a:xfrm>
            <a:custGeom>
              <a:avLst/>
              <a:gdLst/>
              <a:ahLst/>
              <a:rect l="l" t="t" r="r" b="b"/>
              <a:pathLst>
                <a:path w="1834" h="1833">
                  <a:moveTo>
                    <a:pt x="1834" y="917"/>
                  </a:moveTo>
                  <a:lnTo>
                    <a:pt x="1833" y="869"/>
                  </a:lnTo>
                  <a:lnTo>
                    <a:pt x="1829" y="823"/>
                  </a:lnTo>
                  <a:lnTo>
                    <a:pt x="1823" y="777"/>
                  </a:lnTo>
                  <a:lnTo>
                    <a:pt x="1816" y="732"/>
                  </a:lnTo>
                  <a:lnTo>
                    <a:pt x="1805" y="688"/>
                  </a:lnTo>
                  <a:lnTo>
                    <a:pt x="1793" y="643"/>
                  </a:lnTo>
                  <a:lnTo>
                    <a:pt x="1778" y="601"/>
                  </a:lnTo>
                  <a:lnTo>
                    <a:pt x="1762" y="560"/>
                  </a:lnTo>
                  <a:lnTo>
                    <a:pt x="1743" y="519"/>
                  </a:lnTo>
                  <a:lnTo>
                    <a:pt x="1723" y="479"/>
                  </a:lnTo>
                  <a:lnTo>
                    <a:pt x="1701" y="441"/>
                  </a:lnTo>
                  <a:lnTo>
                    <a:pt x="1677" y="404"/>
                  </a:lnTo>
                  <a:lnTo>
                    <a:pt x="1651" y="368"/>
                  </a:lnTo>
                  <a:lnTo>
                    <a:pt x="1624" y="333"/>
                  </a:lnTo>
                  <a:lnTo>
                    <a:pt x="1595" y="300"/>
                  </a:lnTo>
                  <a:lnTo>
                    <a:pt x="1565" y="269"/>
                  </a:lnTo>
                  <a:lnTo>
                    <a:pt x="1534" y="238"/>
                  </a:lnTo>
                  <a:lnTo>
                    <a:pt x="1500" y="209"/>
                  </a:lnTo>
                  <a:lnTo>
                    <a:pt x="1466" y="182"/>
                  </a:lnTo>
                  <a:lnTo>
                    <a:pt x="1430" y="156"/>
                  </a:lnTo>
                  <a:lnTo>
                    <a:pt x="1392" y="133"/>
                  </a:lnTo>
                  <a:lnTo>
                    <a:pt x="1354" y="111"/>
                  </a:lnTo>
                  <a:lnTo>
                    <a:pt x="1314" y="90"/>
                  </a:lnTo>
                  <a:lnTo>
                    <a:pt x="1274" y="72"/>
                  </a:lnTo>
                  <a:lnTo>
                    <a:pt x="1232" y="56"/>
                  </a:lnTo>
                  <a:lnTo>
                    <a:pt x="1190" y="41"/>
                  </a:lnTo>
                  <a:lnTo>
                    <a:pt x="1146" y="29"/>
                  </a:lnTo>
                  <a:lnTo>
                    <a:pt x="1101" y="19"/>
                  </a:lnTo>
                  <a:lnTo>
                    <a:pt x="1057" y="11"/>
                  </a:lnTo>
                  <a:lnTo>
                    <a:pt x="1011" y="5"/>
                  </a:lnTo>
                  <a:lnTo>
                    <a:pt x="964" y="1"/>
                  </a:lnTo>
                  <a:lnTo>
                    <a:pt x="917" y="0"/>
                  </a:lnTo>
                  <a:lnTo>
                    <a:pt x="870" y="1"/>
                  </a:lnTo>
                  <a:lnTo>
                    <a:pt x="824" y="5"/>
                  </a:lnTo>
                  <a:lnTo>
                    <a:pt x="777" y="11"/>
                  </a:lnTo>
                  <a:lnTo>
                    <a:pt x="733" y="19"/>
                  </a:lnTo>
                  <a:lnTo>
                    <a:pt x="688" y="29"/>
                  </a:lnTo>
                  <a:lnTo>
                    <a:pt x="644" y="41"/>
                  </a:lnTo>
                  <a:lnTo>
                    <a:pt x="602" y="56"/>
                  </a:lnTo>
                  <a:lnTo>
                    <a:pt x="560" y="72"/>
                  </a:lnTo>
                  <a:lnTo>
                    <a:pt x="520" y="90"/>
                  </a:lnTo>
                  <a:lnTo>
                    <a:pt x="480" y="111"/>
                  </a:lnTo>
                  <a:lnTo>
                    <a:pt x="442" y="133"/>
                  </a:lnTo>
                  <a:lnTo>
                    <a:pt x="404" y="156"/>
                  </a:lnTo>
                  <a:lnTo>
                    <a:pt x="369" y="182"/>
                  </a:lnTo>
                  <a:lnTo>
                    <a:pt x="334" y="209"/>
                  </a:lnTo>
                  <a:lnTo>
                    <a:pt x="301" y="238"/>
                  </a:lnTo>
                  <a:lnTo>
                    <a:pt x="269" y="269"/>
                  </a:lnTo>
                  <a:lnTo>
                    <a:pt x="238" y="300"/>
                  </a:lnTo>
                  <a:lnTo>
                    <a:pt x="210" y="333"/>
                  </a:lnTo>
                  <a:lnTo>
                    <a:pt x="183" y="368"/>
                  </a:lnTo>
                  <a:lnTo>
                    <a:pt x="157" y="404"/>
                  </a:lnTo>
                  <a:lnTo>
                    <a:pt x="133" y="441"/>
                  </a:lnTo>
                  <a:lnTo>
                    <a:pt x="111" y="479"/>
                  </a:lnTo>
                  <a:lnTo>
                    <a:pt x="91" y="519"/>
                  </a:lnTo>
                  <a:lnTo>
                    <a:pt x="73" y="560"/>
                  </a:lnTo>
                  <a:lnTo>
                    <a:pt x="57" y="601"/>
                  </a:lnTo>
                  <a:lnTo>
                    <a:pt x="41" y="643"/>
                  </a:lnTo>
                  <a:lnTo>
                    <a:pt x="30" y="688"/>
                  </a:lnTo>
                  <a:lnTo>
                    <a:pt x="19" y="732"/>
                  </a:lnTo>
                  <a:lnTo>
                    <a:pt x="11" y="777"/>
                  </a:lnTo>
                  <a:lnTo>
                    <a:pt x="5" y="823"/>
                  </a:lnTo>
                  <a:lnTo>
                    <a:pt x="1" y="869"/>
                  </a:lnTo>
                  <a:lnTo>
                    <a:pt x="0" y="917"/>
                  </a:lnTo>
                  <a:lnTo>
                    <a:pt x="1" y="963"/>
                  </a:lnTo>
                  <a:lnTo>
                    <a:pt x="5" y="1010"/>
                  </a:lnTo>
                  <a:lnTo>
                    <a:pt x="11" y="1056"/>
                  </a:lnTo>
                  <a:lnTo>
                    <a:pt x="19" y="1101"/>
                  </a:lnTo>
                  <a:lnTo>
                    <a:pt x="30" y="1146"/>
                  </a:lnTo>
                  <a:lnTo>
                    <a:pt x="41" y="1189"/>
                  </a:lnTo>
                  <a:lnTo>
                    <a:pt x="57" y="1231"/>
                  </a:lnTo>
                  <a:lnTo>
                    <a:pt x="73" y="1273"/>
                  </a:lnTo>
                  <a:lnTo>
                    <a:pt x="91" y="1314"/>
                  </a:lnTo>
                  <a:lnTo>
                    <a:pt x="111" y="1353"/>
                  </a:lnTo>
                  <a:lnTo>
                    <a:pt x="133" y="1392"/>
                  </a:lnTo>
                  <a:lnTo>
                    <a:pt x="157" y="1429"/>
                  </a:lnTo>
                  <a:lnTo>
                    <a:pt x="183" y="1464"/>
                  </a:lnTo>
                  <a:lnTo>
                    <a:pt x="210" y="1499"/>
                  </a:lnTo>
                  <a:lnTo>
                    <a:pt x="238" y="1532"/>
                  </a:lnTo>
                  <a:lnTo>
                    <a:pt x="269" y="1565"/>
                  </a:lnTo>
                  <a:lnTo>
                    <a:pt x="301" y="1595"/>
                  </a:lnTo>
                  <a:lnTo>
                    <a:pt x="334" y="1623"/>
                  </a:lnTo>
                  <a:lnTo>
                    <a:pt x="369" y="1651"/>
                  </a:lnTo>
                  <a:lnTo>
                    <a:pt x="404" y="1676"/>
                  </a:lnTo>
                  <a:lnTo>
                    <a:pt x="442" y="1700"/>
                  </a:lnTo>
                  <a:lnTo>
                    <a:pt x="480" y="1722"/>
                  </a:lnTo>
                  <a:lnTo>
                    <a:pt x="520" y="1743"/>
                  </a:lnTo>
                  <a:lnTo>
                    <a:pt x="560" y="1760"/>
                  </a:lnTo>
                  <a:lnTo>
                    <a:pt x="602" y="1777"/>
                  </a:lnTo>
                  <a:lnTo>
                    <a:pt x="644" y="1791"/>
                  </a:lnTo>
                  <a:lnTo>
                    <a:pt x="688" y="1803"/>
                  </a:lnTo>
                  <a:lnTo>
                    <a:pt x="733" y="1814"/>
                  </a:lnTo>
                  <a:lnTo>
                    <a:pt x="777" y="1822"/>
                  </a:lnTo>
                  <a:lnTo>
                    <a:pt x="824" y="1828"/>
                  </a:lnTo>
                  <a:lnTo>
                    <a:pt x="870" y="1831"/>
                  </a:lnTo>
                  <a:lnTo>
                    <a:pt x="917" y="1833"/>
                  </a:lnTo>
                  <a:lnTo>
                    <a:pt x="944" y="1833"/>
                  </a:lnTo>
                  <a:lnTo>
                    <a:pt x="971" y="1831"/>
                  </a:lnTo>
                  <a:lnTo>
                    <a:pt x="998" y="1829"/>
                  </a:lnTo>
                  <a:lnTo>
                    <a:pt x="1024" y="1826"/>
                  </a:lnTo>
                  <a:lnTo>
                    <a:pt x="1050" y="1823"/>
                  </a:lnTo>
                  <a:lnTo>
                    <a:pt x="1075" y="1820"/>
                  </a:lnTo>
                  <a:lnTo>
                    <a:pt x="1101" y="1814"/>
                  </a:lnTo>
                  <a:lnTo>
                    <a:pt x="1126" y="1809"/>
                  </a:lnTo>
                  <a:lnTo>
                    <a:pt x="1152" y="1802"/>
                  </a:lnTo>
                  <a:lnTo>
                    <a:pt x="1177" y="1796"/>
                  </a:lnTo>
                  <a:lnTo>
                    <a:pt x="1201" y="1788"/>
                  </a:lnTo>
                  <a:lnTo>
                    <a:pt x="1226" y="1780"/>
                  </a:lnTo>
                  <a:lnTo>
                    <a:pt x="1249" y="1771"/>
                  </a:lnTo>
                  <a:lnTo>
                    <a:pt x="1273" y="1761"/>
                  </a:lnTo>
                  <a:lnTo>
                    <a:pt x="1296" y="1750"/>
                  </a:lnTo>
                  <a:lnTo>
                    <a:pt x="1319" y="1740"/>
                  </a:lnTo>
                  <a:lnTo>
                    <a:pt x="1301" y="1703"/>
                  </a:lnTo>
                  <a:lnTo>
                    <a:pt x="1279" y="1713"/>
                  </a:lnTo>
                  <a:lnTo>
                    <a:pt x="1257" y="1722"/>
                  </a:lnTo>
                  <a:lnTo>
                    <a:pt x="1234" y="1732"/>
                  </a:lnTo>
                  <a:lnTo>
                    <a:pt x="1212" y="1741"/>
                  </a:lnTo>
                  <a:lnTo>
                    <a:pt x="1188" y="1748"/>
                  </a:lnTo>
                  <a:lnTo>
                    <a:pt x="1165" y="1756"/>
                  </a:lnTo>
                  <a:lnTo>
                    <a:pt x="1141" y="1762"/>
                  </a:lnTo>
                  <a:lnTo>
                    <a:pt x="1118" y="1768"/>
                  </a:lnTo>
                  <a:lnTo>
                    <a:pt x="1093" y="1773"/>
                  </a:lnTo>
                  <a:lnTo>
                    <a:pt x="1069" y="1779"/>
                  </a:lnTo>
                  <a:lnTo>
                    <a:pt x="1044" y="1782"/>
                  </a:lnTo>
                  <a:lnTo>
                    <a:pt x="1019" y="1785"/>
                  </a:lnTo>
                  <a:lnTo>
                    <a:pt x="993" y="1788"/>
                  </a:lnTo>
                  <a:lnTo>
                    <a:pt x="969" y="1789"/>
                  </a:lnTo>
                  <a:lnTo>
                    <a:pt x="943" y="1790"/>
                  </a:lnTo>
                  <a:lnTo>
                    <a:pt x="917" y="1791"/>
                  </a:lnTo>
                  <a:lnTo>
                    <a:pt x="872" y="1790"/>
                  </a:lnTo>
                  <a:lnTo>
                    <a:pt x="828" y="1786"/>
                  </a:lnTo>
                  <a:lnTo>
                    <a:pt x="784" y="1781"/>
                  </a:lnTo>
                  <a:lnTo>
                    <a:pt x="741" y="1773"/>
                  </a:lnTo>
                  <a:lnTo>
                    <a:pt x="698" y="1763"/>
                  </a:lnTo>
                  <a:lnTo>
                    <a:pt x="657" y="1752"/>
                  </a:lnTo>
                  <a:lnTo>
                    <a:pt x="616" y="1737"/>
                  </a:lnTo>
                  <a:lnTo>
                    <a:pt x="576" y="1722"/>
                  </a:lnTo>
                  <a:lnTo>
                    <a:pt x="537" y="1705"/>
                  </a:lnTo>
                  <a:lnTo>
                    <a:pt x="500" y="1686"/>
                  </a:lnTo>
                  <a:lnTo>
                    <a:pt x="464" y="1664"/>
                  </a:lnTo>
                  <a:lnTo>
                    <a:pt x="428" y="1641"/>
                  </a:lnTo>
                  <a:lnTo>
                    <a:pt x="394" y="1618"/>
                  </a:lnTo>
                  <a:lnTo>
                    <a:pt x="360" y="1592"/>
                  </a:lnTo>
                  <a:lnTo>
                    <a:pt x="329" y="1564"/>
                  </a:lnTo>
                  <a:lnTo>
                    <a:pt x="299" y="1534"/>
                  </a:lnTo>
                  <a:lnTo>
                    <a:pt x="269" y="1504"/>
                  </a:lnTo>
                  <a:lnTo>
                    <a:pt x="242" y="1473"/>
                  </a:lnTo>
                  <a:lnTo>
                    <a:pt x="216" y="1439"/>
                  </a:lnTo>
                  <a:lnTo>
                    <a:pt x="192" y="1406"/>
                  </a:lnTo>
                  <a:lnTo>
                    <a:pt x="169" y="1370"/>
                  </a:lnTo>
                  <a:lnTo>
                    <a:pt x="147" y="1334"/>
                  </a:lnTo>
                  <a:lnTo>
                    <a:pt x="129" y="1296"/>
                  </a:lnTo>
                  <a:lnTo>
                    <a:pt x="111" y="1257"/>
                  </a:lnTo>
                  <a:lnTo>
                    <a:pt x="95" y="1217"/>
                  </a:lnTo>
                  <a:lnTo>
                    <a:pt x="81" y="1177"/>
                  </a:lnTo>
                  <a:lnTo>
                    <a:pt x="70" y="1135"/>
                  </a:lnTo>
                  <a:lnTo>
                    <a:pt x="60" y="1093"/>
                  </a:lnTo>
                  <a:lnTo>
                    <a:pt x="52" y="1050"/>
                  </a:lnTo>
                  <a:lnTo>
                    <a:pt x="47" y="1006"/>
                  </a:lnTo>
                  <a:lnTo>
                    <a:pt x="44" y="961"/>
                  </a:lnTo>
                  <a:lnTo>
                    <a:pt x="42" y="917"/>
                  </a:lnTo>
                  <a:lnTo>
                    <a:pt x="44" y="871"/>
                  </a:lnTo>
                  <a:lnTo>
                    <a:pt x="47" y="827"/>
                  </a:lnTo>
                  <a:lnTo>
                    <a:pt x="52" y="783"/>
                  </a:lnTo>
                  <a:lnTo>
                    <a:pt x="60" y="741"/>
                  </a:lnTo>
                  <a:lnTo>
                    <a:pt x="70" y="697"/>
                  </a:lnTo>
                  <a:lnTo>
                    <a:pt x="81" y="656"/>
                  </a:lnTo>
                  <a:lnTo>
                    <a:pt x="95" y="615"/>
                  </a:lnTo>
                  <a:lnTo>
                    <a:pt x="111" y="576"/>
                  </a:lnTo>
                  <a:lnTo>
                    <a:pt x="129" y="538"/>
                  </a:lnTo>
                  <a:lnTo>
                    <a:pt x="147" y="500"/>
                  </a:lnTo>
                  <a:lnTo>
                    <a:pt x="169" y="463"/>
                  </a:lnTo>
                  <a:lnTo>
                    <a:pt x="192" y="427"/>
                  </a:lnTo>
                  <a:lnTo>
                    <a:pt x="216" y="393"/>
                  </a:lnTo>
                  <a:lnTo>
                    <a:pt x="242" y="360"/>
                  </a:lnTo>
                  <a:lnTo>
                    <a:pt x="269" y="328"/>
                  </a:lnTo>
                  <a:lnTo>
                    <a:pt x="299" y="298"/>
                  </a:lnTo>
                  <a:lnTo>
                    <a:pt x="329" y="269"/>
                  </a:lnTo>
                  <a:lnTo>
                    <a:pt x="360" y="242"/>
                  </a:lnTo>
                  <a:lnTo>
                    <a:pt x="394" y="216"/>
                  </a:lnTo>
                  <a:lnTo>
                    <a:pt x="428" y="191"/>
                  </a:lnTo>
                  <a:lnTo>
                    <a:pt x="464" y="168"/>
                  </a:lnTo>
                  <a:lnTo>
                    <a:pt x="500" y="148"/>
                  </a:lnTo>
                  <a:lnTo>
                    <a:pt x="537" y="128"/>
                  </a:lnTo>
                  <a:lnTo>
                    <a:pt x="576" y="111"/>
                  </a:lnTo>
                  <a:lnTo>
                    <a:pt x="616" y="95"/>
                  </a:lnTo>
                  <a:lnTo>
                    <a:pt x="657" y="81"/>
                  </a:lnTo>
                  <a:lnTo>
                    <a:pt x="698" y="69"/>
                  </a:lnTo>
                  <a:lnTo>
                    <a:pt x="741" y="59"/>
                  </a:lnTo>
                  <a:lnTo>
                    <a:pt x="784" y="52"/>
                  </a:lnTo>
                  <a:lnTo>
                    <a:pt x="828" y="46"/>
                  </a:lnTo>
                  <a:lnTo>
                    <a:pt x="872" y="43"/>
                  </a:lnTo>
                  <a:lnTo>
                    <a:pt x="917" y="42"/>
                  </a:lnTo>
                  <a:lnTo>
                    <a:pt x="962" y="43"/>
                  </a:lnTo>
                  <a:lnTo>
                    <a:pt x="1006" y="46"/>
                  </a:lnTo>
                  <a:lnTo>
                    <a:pt x="1051" y="52"/>
                  </a:lnTo>
                  <a:lnTo>
                    <a:pt x="1094" y="59"/>
                  </a:lnTo>
                  <a:lnTo>
                    <a:pt x="1136" y="69"/>
                  </a:lnTo>
                  <a:lnTo>
                    <a:pt x="1177" y="81"/>
                  </a:lnTo>
                  <a:lnTo>
                    <a:pt x="1218" y="95"/>
                  </a:lnTo>
                  <a:lnTo>
                    <a:pt x="1258" y="111"/>
                  </a:lnTo>
                  <a:lnTo>
                    <a:pt x="1297" y="128"/>
                  </a:lnTo>
                  <a:lnTo>
                    <a:pt x="1334" y="148"/>
                  </a:lnTo>
                  <a:lnTo>
                    <a:pt x="1370" y="168"/>
                  </a:lnTo>
                  <a:lnTo>
                    <a:pt x="1406" y="191"/>
                  </a:lnTo>
                  <a:lnTo>
                    <a:pt x="1441" y="216"/>
                  </a:lnTo>
                  <a:lnTo>
                    <a:pt x="1474" y="242"/>
                  </a:lnTo>
                  <a:lnTo>
                    <a:pt x="1506" y="269"/>
                  </a:lnTo>
                  <a:lnTo>
                    <a:pt x="1536" y="298"/>
                  </a:lnTo>
                  <a:lnTo>
                    <a:pt x="1565" y="328"/>
                  </a:lnTo>
                  <a:lnTo>
                    <a:pt x="1592" y="360"/>
                  </a:lnTo>
                  <a:lnTo>
                    <a:pt x="1618" y="393"/>
                  </a:lnTo>
                  <a:lnTo>
                    <a:pt x="1643" y="427"/>
                  </a:lnTo>
                  <a:lnTo>
                    <a:pt x="1665" y="463"/>
                  </a:lnTo>
                  <a:lnTo>
                    <a:pt x="1687" y="500"/>
                  </a:lnTo>
                  <a:lnTo>
                    <a:pt x="1705" y="538"/>
                  </a:lnTo>
                  <a:lnTo>
                    <a:pt x="1724" y="576"/>
                  </a:lnTo>
                  <a:lnTo>
                    <a:pt x="1739" y="615"/>
                  </a:lnTo>
                  <a:lnTo>
                    <a:pt x="1753" y="656"/>
                  </a:lnTo>
                  <a:lnTo>
                    <a:pt x="1765" y="697"/>
                  </a:lnTo>
                  <a:lnTo>
                    <a:pt x="1775" y="741"/>
                  </a:lnTo>
                  <a:lnTo>
                    <a:pt x="1782" y="783"/>
                  </a:lnTo>
                  <a:lnTo>
                    <a:pt x="1788" y="827"/>
                  </a:lnTo>
                  <a:lnTo>
                    <a:pt x="1791" y="871"/>
                  </a:lnTo>
                  <a:lnTo>
                    <a:pt x="1792" y="917"/>
                  </a:lnTo>
                  <a:lnTo>
                    <a:pt x="1792" y="946"/>
                  </a:lnTo>
                  <a:lnTo>
                    <a:pt x="1791" y="975"/>
                  </a:lnTo>
                  <a:lnTo>
                    <a:pt x="1788" y="1004"/>
                  </a:lnTo>
                  <a:lnTo>
                    <a:pt x="1784" y="1032"/>
                  </a:lnTo>
                  <a:lnTo>
                    <a:pt x="1780" y="1060"/>
                  </a:lnTo>
                  <a:lnTo>
                    <a:pt x="1776" y="1088"/>
                  </a:lnTo>
                  <a:lnTo>
                    <a:pt x="1769" y="1116"/>
                  </a:lnTo>
                  <a:lnTo>
                    <a:pt x="1763" y="1143"/>
                  </a:lnTo>
                  <a:lnTo>
                    <a:pt x="1803" y="1154"/>
                  </a:lnTo>
                  <a:lnTo>
                    <a:pt x="1809" y="1126"/>
                  </a:lnTo>
                  <a:lnTo>
                    <a:pt x="1816" y="1097"/>
                  </a:lnTo>
                  <a:lnTo>
                    <a:pt x="1821" y="1068"/>
                  </a:lnTo>
                  <a:lnTo>
                    <a:pt x="1825" y="1038"/>
                  </a:lnTo>
                  <a:lnTo>
                    <a:pt x="1830" y="1008"/>
                  </a:lnTo>
                  <a:lnTo>
                    <a:pt x="1832" y="978"/>
                  </a:lnTo>
                  <a:lnTo>
                    <a:pt x="1833" y="947"/>
                  </a:lnTo>
                  <a:lnTo>
                    <a:pt x="1834" y="917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218120" y="2641680"/>
              <a:ext cx="711000" cy="711000"/>
            </a:xfrm>
            <a:custGeom>
              <a:avLst/>
              <a:gdLst/>
              <a:ahLst/>
              <a:rect l="l" t="t" r="r" b="b"/>
              <a:pathLst>
                <a:path w="1792" h="1791">
                  <a:moveTo>
                    <a:pt x="1792" y="896"/>
                  </a:moveTo>
                  <a:lnTo>
                    <a:pt x="1790" y="849"/>
                  </a:lnTo>
                  <a:lnTo>
                    <a:pt x="1787" y="804"/>
                  </a:lnTo>
                  <a:lnTo>
                    <a:pt x="1782" y="760"/>
                  </a:lnTo>
                  <a:lnTo>
                    <a:pt x="1774" y="715"/>
                  </a:lnTo>
                  <a:lnTo>
                    <a:pt x="1763" y="672"/>
                  </a:lnTo>
                  <a:lnTo>
                    <a:pt x="1751" y="629"/>
                  </a:lnTo>
                  <a:lnTo>
                    <a:pt x="1737" y="588"/>
                  </a:lnTo>
                  <a:lnTo>
                    <a:pt x="1721" y="547"/>
                  </a:lnTo>
                  <a:lnTo>
                    <a:pt x="1704" y="507"/>
                  </a:lnTo>
                  <a:lnTo>
                    <a:pt x="1683" y="469"/>
                  </a:lnTo>
                  <a:lnTo>
                    <a:pt x="1663" y="431"/>
                  </a:lnTo>
                  <a:lnTo>
                    <a:pt x="1639" y="395"/>
                  </a:lnTo>
                  <a:lnTo>
                    <a:pt x="1614" y="360"/>
                  </a:lnTo>
                  <a:lnTo>
                    <a:pt x="1587" y="325"/>
                  </a:lnTo>
                  <a:lnTo>
                    <a:pt x="1559" y="293"/>
                  </a:lnTo>
                  <a:lnTo>
                    <a:pt x="1530" y="262"/>
                  </a:lnTo>
                  <a:lnTo>
                    <a:pt x="1499" y="233"/>
                  </a:lnTo>
                  <a:lnTo>
                    <a:pt x="1466" y="204"/>
                  </a:lnTo>
                  <a:lnTo>
                    <a:pt x="1433" y="177"/>
                  </a:lnTo>
                  <a:lnTo>
                    <a:pt x="1397" y="153"/>
                  </a:lnTo>
                  <a:lnTo>
                    <a:pt x="1360" y="130"/>
                  </a:lnTo>
                  <a:lnTo>
                    <a:pt x="1324" y="108"/>
                  </a:lnTo>
                  <a:lnTo>
                    <a:pt x="1285" y="88"/>
                  </a:lnTo>
                  <a:lnTo>
                    <a:pt x="1245" y="71"/>
                  </a:lnTo>
                  <a:lnTo>
                    <a:pt x="1205" y="54"/>
                  </a:lnTo>
                  <a:lnTo>
                    <a:pt x="1163" y="40"/>
                  </a:lnTo>
                  <a:lnTo>
                    <a:pt x="1120" y="28"/>
                  </a:lnTo>
                  <a:lnTo>
                    <a:pt x="1077" y="18"/>
                  </a:lnTo>
                  <a:lnTo>
                    <a:pt x="1033" y="10"/>
                  </a:lnTo>
                  <a:lnTo>
                    <a:pt x="987" y="5"/>
                  </a:lnTo>
                  <a:lnTo>
                    <a:pt x="942" y="1"/>
                  </a:lnTo>
                  <a:lnTo>
                    <a:pt x="896" y="0"/>
                  </a:lnTo>
                  <a:lnTo>
                    <a:pt x="850" y="1"/>
                  </a:lnTo>
                  <a:lnTo>
                    <a:pt x="805" y="5"/>
                  </a:lnTo>
                  <a:lnTo>
                    <a:pt x="759" y="10"/>
                  </a:lnTo>
                  <a:lnTo>
                    <a:pt x="715" y="18"/>
                  </a:lnTo>
                  <a:lnTo>
                    <a:pt x="672" y="28"/>
                  </a:lnTo>
                  <a:lnTo>
                    <a:pt x="630" y="40"/>
                  </a:lnTo>
                  <a:lnTo>
                    <a:pt x="588" y="54"/>
                  </a:lnTo>
                  <a:lnTo>
                    <a:pt x="548" y="71"/>
                  </a:lnTo>
                  <a:lnTo>
                    <a:pt x="508" y="88"/>
                  </a:lnTo>
                  <a:lnTo>
                    <a:pt x="469" y="108"/>
                  </a:lnTo>
                  <a:lnTo>
                    <a:pt x="432" y="130"/>
                  </a:lnTo>
                  <a:lnTo>
                    <a:pt x="395" y="153"/>
                  </a:lnTo>
                  <a:lnTo>
                    <a:pt x="360" y="177"/>
                  </a:lnTo>
                  <a:lnTo>
                    <a:pt x="326" y="204"/>
                  </a:lnTo>
                  <a:lnTo>
                    <a:pt x="294" y="233"/>
                  </a:lnTo>
                  <a:lnTo>
                    <a:pt x="262" y="262"/>
                  </a:lnTo>
                  <a:lnTo>
                    <a:pt x="233" y="293"/>
                  </a:lnTo>
                  <a:lnTo>
                    <a:pt x="205" y="325"/>
                  </a:lnTo>
                  <a:lnTo>
                    <a:pt x="178" y="360"/>
                  </a:lnTo>
                  <a:lnTo>
                    <a:pt x="153" y="395"/>
                  </a:lnTo>
                  <a:lnTo>
                    <a:pt x="130" y="431"/>
                  </a:lnTo>
                  <a:lnTo>
                    <a:pt x="108" y="469"/>
                  </a:lnTo>
                  <a:lnTo>
                    <a:pt x="88" y="507"/>
                  </a:lnTo>
                  <a:lnTo>
                    <a:pt x="71" y="547"/>
                  </a:lnTo>
                  <a:lnTo>
                    <a:pt x="55" y="588"/>
                  </a:lnTo>
                  <a:lnTo>
                    <a:pt x="41" y="629"/>
                  </a:lnTo>
                  <a:lnTo>
                    <a:pt x="28" y="672"/>
                  </a:lnTo>
                  <a:lnTo>
                    <a:pt x="18" y="715"/>
                  </a:lnTo>
                  <a:lnTo>
                    <a:pt x="11" y="760"/>
                  </a:lnTo>
                  <a:lnTo>
                    <a:pt x="5" y="804"/>
                  </a:lnTo>
                  <a:lnTo>
                    <a:pt x="1" y="849"/>
                  </a:lnTo>
                  <a:lnTo>
                    <a:pt x="0" y="896"/>
                  </a:lnTo>
                  <a:lnTo>
                    <a:pt x="1" y="941"/>
                  </a:lnTo>
                  <a:lnTo>
                    <a:pt x="5" y="987"/>
                  </a:lnTo>
                  <a:lnTo>
                    <a:pt x="11" y="1032"/>
                  </a:lnTo>
                  <a:lnTo>
                    <a:pt x="18" y="1076"/>
                  </a:lnTo>
                  <a:lnTo>
                    <a:pt x="28" y="1119"/>
                  </a:lnTo>
                  <a:lnTo>
                    <a:pt x="41" y="1161"/>
                  </a:lnTo>
                  <a:lnTo>
                    <a:pt x="55" y="1203"/>
                  </a:lnTo>
                  <a:lnTo>
                    <a:pt x="71" y="1243"/>
                  </a:lnTo>
                  <a:lnTo>
                    <a:pt x="88" y="1283"/>
                  </a:lnTo>
                  <a:lnTo>
                    <a:pt x="108" y="1322"/>
                  </a:lnTo>
                  <a:lnTo>
                    <a:pt x="130" y="1360"/>
                  </a:lnTo>
                  <a:lnTo>
                    <a:pt x="153" y="1396"/>
                  </a:lnTo>
                  <a:lnTo>
                    <a:pt x="178" y="1431"/>
                  </a:lnTo>
                  <a:lnTo>
                    <a:pt x="205" y="1465"/>
                  </a:lnTo>
                  <a:lnTo>
                    <a:pt x="233" y="1497"/>
                  </a:lnTo>
                  <a:lnTo>
                    <a:pt x="262" y="1529"/>
                  </a:lnTo>
                  <a:lnTo>
                    <a:pt x="294" y="1558"/>
                  </a:lnTo>
                  <a:lnTo>
                    <a:pt x="326" y="1587"/>
                  </a:lnTo>
                  <a:lnTo>
                    <a:pt x="360" y="1613"/>
                  </a:lnTo>
                  <a:lnTo>
                    <a:pt x="395" y="1638"/>
                  </a:lnTo>
                  <a:lnTo>
                    <a:pt x="432" y="1661"/>
                  </a:lnTo>
                  <a:lnTo>
                    <a:pt x="469" y="1683"/>
                  </a:lnTo>
                  <a:lnTo>
                    <a:pt x="508" y="1702"/>
                  </a:lnTo>
                  <a:lnTo>
                    <a:pt x="548" y="1721"/>
                  </a:lnTo>
                  <a:lnTo>
                    <a:pt x="588" y="1737"/>
                  </a:lnTo>
                  <a:lnTo>
                    <a:pt x="630" y="1751"/>
                  </a:lnTo>
                  <a:lnTo>
                    <a:pt x="672" y="1763"/>
                  </a:lnTo>
                  <a:lnTo>
                    <a:pt x="715" y="1773"/>
                  </a:lnTo>
                  <a:lnTo>
                    <a:pt x="759" y="1780"/>
                  </a:lnTo>
                  <a:lnTo>
                    <a:pt x="805" y="1787"/>
                  </a:lnTo>
                  <a:lnTo>
                    <a:pt x="850" y="1790"/>
                  </a:lnTo>
                  <a:lnTo>
                    <a:pt x="896" y="1791"/>
                  </a:lnTo>
                  <a:lnTo>
                    <a:pt x="923" y="1791"/>
                  </a:lnTo>
                  <a:lnTo>
                    <a:pt x="949" y="1789"/>
                  </a:lnTo>
                  <a:lnTo>
                    <a:pt x="975" y="1788"/>
                  </a:lnTo>
                  <a:lnTo>
                    <a:pt x="1000" y="1785"/>
                  </a:lnTo>
                  <a:lnTo>
                    <a:pt x="1025" y="1781"/>
                  </a:lnTo>
                  <a:lnTo>
                    <a:pt x="1051" y="1778"/>
                  </a:lnTo>
                  <a:lnTo>
                    <a:pt x="1076" y="1773"/>
                  </a:lnTo>
                  <a:lnTo>
                    <a:pt x="1101" y="1767"/>
                  </a:lnTo>
                  <a:lnTo>
                    <a:pt x="1126" y="1761"/>
                  </a:lnTo>
                  <a:lnTo>
                    <a:pt x="1150" y="1754"/>
                  </a:lnTo>
                  <a:lnTo>
                    <a:pt x="1173" y="1747"/>
                  </a:lnTo>
                  <a:lnTo>
                    <a:pt x="1197" y="1739"/>
                  </a:lnTo>
                  <a:lnTo>
                    <a:pt x="1221" y="1731"/>
                  </a:lnTo>
                  <a:lnTo>
                    <a:pt x="1244" y="1721"/>
                  </a:lnTo>
                  <a:lnTo>
                    <a:pt x="1266" y="1711"/>
                  </a:lnTo>
                  <a:lnTo>
                    <a:pt x="1289" y="1700"/>
                  </a:lnTo>
                  <a:lnTo>
                    <a:pt x="1271" y="1662"/>
                  </a:lnTo>
                  <a:lnTo>
                    <a:pt x="1249" y="1673"/>
                  </a:lnTo>
                  <a:lnTo>
                    <a:pt x="1227" y="1683"/>
                  </a:lnTo>
                  <a:lnTo>
                    <a:pt x="1206" y="1692"/>
                  </a:lnTo>
                  <a:lnTo>
                    <a:pt x="1183" y="1700"/>
                  </a:lnTo>
                  <a:lnTo>
                    <a:pt x="1160" y="1708"/>
                  </a:lnTo>
                  <a:lnTo>
                    <a:pt x="1138" y="1714"/>
                  </a:lnTo>
                  <a:lnTo>
                    <a:pt x="1115" y="1721"/>
                  </a:lnTo>
                  <a:lnTo>
                    <a:pt x="1091" y="1727"/>
                  </a:lnTo>
                  <a:lnTo>
                    <a:pt x="1067" y="1732"/>
                  </a:lnTo>
                  <a:lnTo>
                    <a:pt x="1044" y="1737"/>
                  </a:lnTo>
                  <a:lnTo>
                    <a:pt x="1020" y="1740"/>
                  </a:lnTo>
                  <a:lnTo>
                    <a:pt x="995" y="1743"/>
                  </a:lnTo>
                  <a:lnTo>
                    <a:pt x="971" y="1746"/>
                  </a:lnTo>
                  <a:lnTo>
                    <a:pt x="946" y="1748"/>
                  </a:lnTo>
                  <a:lnTo>
                    <a:pt x="922" y="1749"/>
                  </a:lnTo>
                  <a:lnTo>
                    <a:pt x="896" y="1749"/>
                  </a:lnTo>
                  <a:lnTo>
                    <a:pt x="852" y="1748"/>
                  </a:lnTo>
                  <a:lnTo>
                    <a:pt x="809" y="1745"/>
                  </a:lnTo>
                  <a:lnTo>
                    <a:pt x="766" y="1739"/>
                  </a:lnTo>
                  <a:lnTo>
                    <a:pt x="724" y="1732"/>
                  </a:lnTo>
                  <a:lnTo>
                    <a:pt x="683" y="1722"/>
                  </a:lnTo>
                  <a:lnTo>
                    <a:pt x="642" y="1711"/>
                  </a:lnTo>
                  <a:lnTo>
                    <a:pt x="603" y="1697"/>
                  </a:lnTo>
                  <a:lnTo>
                    <a:pt x="564" y="1682"/>
                  </a:lnTo>
                  <a:lnTo>
                    <a:pt x="526" y="1665"/>
                  </a:lnTo>
                  <a:lnTo>
                    <a:pt x="489" y="1646"/>
                  </a:lnTo>
                  <a:lnTo>
                    <a:pt x="454" y="1626"/>
                  </a:lnTo>
                  <a:lnTo>
                    <a:pt x="418" y="1603"/>
                  </a:lnTo>
                  <a:lnTo>
                    <a:pt x="385" y="1579"/>
                  </a:lnTo>
                  <a:lnTo>
                    <a:pt x="353" y="1554"/>
                  </a:lnTo>
                  <a:lnTo>
                    <a:pt x="322" y="1527"/>
                  </a:lnTo>
                  <a:lnTo>
                    <a:pt x="292" y="1499"/>
                  </a:lnTo>
                  <a:lnTo>
                    <a:pt x="264" y="1469"/>
                  </a:lnTo>
                  <a:lnTo>
                    <a:pt x="237" y="1439"/>
                  </a:lnTo>
                  <a:lnTo>
                    <a:pt x="212" y="1407"/>
                  </a:lnTo>
                  <a:lnTo>
                    <a:pt x="188" y="1373"/>
                  </a:lnTo>
                  <a:lnTo>
                    <a:pt x="165" y="1338"/>
                  </a:lnTo>
                  <a:lnTo>
                    <a:pt x="145" y="1303"/>
                  </a:lnTo>
                  <a:lnTo>
                    <a:pt x="126" y="1265"/>
                  </a:lnTo>
                  <a:lnTo>
                    <a:pt x="109" y="1227"/>
                  </a:lnTo>
                  <a:lnTo>
                    <a:pt x="94" y="1189"/>
                  </a:lnTo>
                  <a:lnTo>
                    <a:pt x="80" y="1149"/>
                  </a:lnTo>
                  <a:lnTo>
                    <a:pt x="69" y="1108"/>
                  </a:lnTo>
                  <a:lnTo>
                    <a:pt x="59" y="1067"/>
                  </a:lnTo>
                  <a:lnTo>
                    <a:pt x="52" y="1025"/>
                  </a:lnTo>
                  <a:lnTo>
                    <a:pt x="46" y="983"/>
                  </a:lnTo>
                  <a:lnTo>
                    <a:pt x="43" y="939"/>
                  </a:lnTo>
                  <a:lnTo>
                    <a:pt x="42" y="896"/>
                  </a:lnTo>
                  <a:lnTo>
                    <a:pt x="43" y="851"/>
                  </a:lnTo>
                  <a:lnTo>
                    <a:pt x="46" y="808"/>
                  </a:lnTo>
                  <a:lnTo>
                    <a:pt x="52" y="765"/>
                  </a:lnTo>
                  <a:lnTo>
                    <a:pt x="59" y="723"/>
                  </a:lnTo>
                  <a:lnTo>
                    <a:pt x="69" y="682"/>
                  </a:lnTo>
                  <a:lnTo>
                    <a:pt x="80" y="642"/>
                  </a:lnTo>
                  <a:lnTo>
                    <a:pt x="94" y="602"/>
                  </a:lnTo>
                  <a:lnTo>
                    <a:pt x="109" y="563"/>
                  </a:lnTo>
                  <a:lnTo>
                    <a:pt x="126" y="525"/>
                  </a:lnTo>
                  <a:lnTo>
                    <a:pt x="145" y="489"/>
                  </a:lnTo>
                  <a:lnTo>
                    <a:pt x="165" y="453"/>
                  </a:lnTo>
                  <a:lnTo>
                    <a:pt x="188" y="418"/>
                  </a:lnTo>
                  <a:lnTo>
                    <a:pt x="212" y="385"/>
                  </a:lnTo>
                  <a:lnTo>
                    <a:pt x="237" y="352"/>
                  </a:lnTo>
                  <a:lnTo>
                    <a:pt x="264" y="321"/>
                  </a:lnTo>
                  <a:lnTo>
                    <a:pt x="292" y="292"/>
                  </a:lnTo>
                  <a:lnTo>
                    <a:pt x="322" y="264"/>
                  </a:lnTo>
                  <a:lnTo>
                    <a:pt x="353" y="237"/>
                  </a:lnTo>
                  <a:lnTo>
                    <a:pt x="385" y="211"/>
                  </a:lnTo>
                  <a:lnTo>
                    <a:pt x="418" y="187"/>
                  </a:lnTo>
                  <a:lnTo>
                    <a:pt x="454" y="166"/>
                  </a:lnTo>
                  <a:lnTo>
                    <a:pt x="489" y="145"/>
                  </a:lnTo>
                  <a:lnTo>
                    <a:pt x="526" y="126"/>
                  </a:lnTo>
                  <a:lnTo>
                    <a:pt x="564" y="108"/>
                  </a:lnTo>
                  <a:lnTo>
                    <a:pt x="603" y="93"/>
                  </a:lnTo>
                  <a:lnTo>
                    <a:pt x="642" y="80"/>
                  </a:lnTo>
                  <a:lnTo>
                    <a:pt x="683" y="68"/>
                  </a:lnTo>
                  <a:lnTo>
                    <a:pt x="724" y="59"/>
                  </a:lnTo>
                  <a:lnTo>
                    <a:pt x="766" y="51"/>
                  </a:lnTo>
                  <a:lnTo>
                    <a:pt x="809" y="46"/>
                  </a:lnTo>
                  <a:lnTo>
                    <a:pt x="852" y="42"/>
                  </a:lnTo>
                  <a:lnTo>
                    <a:pt x="896" y="41"/>
                  </a:lnTo>
                  <a:lnTo>
                    <a:pt x="940" y="42"/>
                  </a:lnTo>
                  <a:lnTo>
                    <a:pt x="983" y="46"/>
                  </a:lnTo>
                  <a:lnTo>
                    <a:pt x="1026" y="51"/>
                  </a:lnTo>
                  <a:lnTo>
                    <a:pt x="1069" y="59"/>
                  </a:lnTo>
                  <a:lnTo>
                    <a:pt x="1110" y="68"/>
                  </a:lnTo>
                  <a:lnTo>
                    <a:pt x="1151" y="80"/>
                  </a:lnTo>
                  <a:lnTo>
                    <a:pt x="1190" y="93"/>
                  </a:lnTo>
                  <a:lnTo>
                    <a:pt x="1228" y="108"/>
                  </a:lnTo>
                  <a:lnTo>
                    <a:pt x="1266" y="126"/>
                  </a:lnTo>
                  <a:lnTo>
                    <a:pt x="1303" y="145"/>
                  </a:lnTo>
                  <a:lnTo>
                    <a:pt x="1339" y="166"/>
                  </a:lnTo>
                  <a:lnTo>
                    <a:pt x="1373" y="187"/>
                  </a:lnTo>
                  <a:lnTo>
                    <a:pt x="1407" y="211"/>
                  </a:lnTo>
                  <a:lnTo>
                    <a:pt x="1439" y="237"/>
                  </a:lnTo>
                  <a:lnTo>
                    <a:pt x="1470" y="264"/>
                  </a:lnTo>
                  <a:lnTo>
                    <a:pt x="1500" y="292"/>
                  </a:lnTo>
                  <a:lnTo>
                    <a:pt x="1529" y="321"/>
                  </a:lnTo>
                  <a:lnTo>
                    <a:pt x="1555" y="352"/>
                  </a:lnTo>
                  <a:lnTo>
                    <a:pt x="1581" y="385"/>
                  </a:lnTo>
                  <a:lnTo>
                    <a:pt x="1604" y="418"/>
                  </a:lnTo>
                  <a:lnTo>
                    <a:pt x="1627" y="453"/>
                  </a:lnTo>
                  <a:lnTo>
                    <a:pt x="1648" y="489"/>
                  </a:lnTo>
                  <a:lnTo>
                    <a:pt x="1666" y="525"/>
                  </a:lnTo>
                  <a:lnTo>
                    <a:pt x="1683" y="563"/>
                  </a:lnTo>
                  <a:lnTo>
                    <a:pt x="1698" y="602"/>
                  </a:lnTo>
                  <a:lnTo>
                    <a:pt x="1711" y="642"/>
                  </a:lnTo>
                  <a:lnTo>
                    <a:pt x="1723" y="682"/>
                  </a:lnTo>
                  <a:lnTo>
                    <a:pt x="1733" y="723"/>
                  </a:lnTo>
                  <a:lnTo>
                    <a:pt x="1741" y="765"/>
                  </a:lnTo>
                  <a:lnTo>
                    <a:pt x="1746" y="808"/>
                  </a:lnTo>
                  <a:lnTo>
                    <a:pt x="1749" y="851"/>
                  </a:lnTo>
                  <a:lnTo>
                    <a:pt x="1750" y="896"/>
                  </a:lnTo>
                  <a:lnTo>
                    <a:pt x="1750" y="924"/>
                  </a:lnTo>
                  <a:lnTo>
                    <a:pt x="1748" y="953"/>
                  </a:lnTo>
                  <a:lnTo>
                    <a:pt x="1746" y="981"/>
                  </a:lnTo>
                  <a:lnTo>
                    <a:pt x="1743" y="1009"/>
                  </a:lnTo>
                  <a:lnTo>
                    <a:pt x="1738" y="1036"/>
                  </a:lnTo>
                  <a:lnTo>
                    <a:pt x="1734" y="1064"/>
                  </a:lnTo>
                  <a:lnTo>
                    <a:pt x="1728" y="1091"/>
                  </a:lnTo>
                  <a:lnTo>
                    <a:pt x="1721" y="1117"/>
                  </a:lnTo>
                  <a:lnTo>
                    <a:pt x="1761" y="1128"/>
                  </a:lnTo>
                  <a:lnTo>
                    <a:pt x="1769" y="1100"/>
                  </a:lnTo>
                  <a:lnTo>
                    <a:pt x="1774" y="1072"/>
                  </a:lnTo>
                  <a:lnTo>
                    <a:pt x="1780" y="1044"/>
                  </a:lnTo>
                  <a:lnTo>
                    <a:pt x="1784" y="1014"/>
                  </a:lnTo>
                  <a:lnTo>
                    <a:pt x="1787" y="985"/>
                  </a:lnTo>
                  <a:lnTo>
                    <a:pt x="1790" y="955"/>
                  </a:lnTo>
                  <a:lnTo>
                    <a:pt x="1791" y="926"/>
                  </a:lnTo>
                  <a:lnTo>
                    <a:pt x="1792" y="896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27480" y="2649600"/>
              <a:ext cx="693720" cy="695160"/>
            </a:xfrm>
            <a:custGeom>
              <a:avLst/>
              <a:gdLst/>
              <a:ahLst/>
              <a:rect l="l" t="t" r="r" b="b"/>
              <a:pathLst>
                <a:path w="1750" h="1749">
                  <a:moveTo>
                    <a:pt x="1750" y="875"/>
                  </a:moveTo>
                  <a:lnTo>
                    <a:pt x="1749" y="829"/>
                  </a:lnTo>
                  <a:lnTo>
                    <a:pt x="1746" y="785"/>
                  </a:lnTo>
                  <a:lnTo>
                    <a:pt x="1740" y="741"/>
                  </a:lnTo>
                  <a:lnTo>
                    <a:pt x="1733" y="699"/>
                  </a:lnTo>
                  <a:lnTo>
                    <a:pt x="1723" y="655"/>
                  </a:lnTo>
                  <a:lnTo>
                    <a:pt x="1711" y="614"/>
                  </a:lnTo>
                  <a:lnTo>
                    <a:pt x="1697" y="573"/>
                  </a:lnTo>
                  <a:lnTo>
                    <a:pt x="1682" y="534"/>
                  </a:lnTo>
                  <a:lnTo>
                    <a:pt x="1663" y="496"/>
                  </a:lnTo>
                  <a:lnTo>
                    <a:pt x="1645" y="458"/>
                  </a:lnTo>
                  <a:lnTo>
                    <a:pt x="1623" y="421"/>
                  </a:lnTo>
                  <a:lnTo>
                    <a:pt x="1601" y="385"/>
                  </a:lnTo>
                  <a:lnTo>
                    <a:pt x="1576" y="351"/>
                  </a:lnTo>
                  <a:lnTo>
                    <a:pt x="1550" y="318"/>
                  </a:lnTo>
                  <a:lnTo>
                    <a:pt x="1523" y="286"/>
                  </a:lnTo>
                  <a:lnTo>
                    <a:pt x="1494" y="256"/>
                  </a:lnTo>
                  <a:lnTo>
                    <a:pt x="1464" y="227"/>
                  </a:lnTo>
                  <a:lnTo>
                    <a:pt x="1432" y="200"/>
                  </a:lnTo>
                  <a:lnTo>
                    <a:pt x="1399" y="174"/>
                  </a:lnTo>
                  <a:lnTo>
                    <a:pt x="1364" y="149"/>
                  </a:lnTo>
                  <a:lnTo>
                    <a:pt x="1328" y="126"/>
                  </a:lnTo>
                  <a:lnTo>
                    <a:pt x="1292" y="106"/>
                  </a:lnTo>
                  <a:lnTo>
                    <a:pt x="1255" y="86"/>
                  </a:lnTo>
                  <a:lnTo>
                    <a:pt x="1216" y="69"/>
                  </a:lnTo>
                  <a:lnTo>
                    <a:pt x="1176" y="53"/>
                  </a:lnTo>
                  <a:lnTo>
                    <a:pt x="1135" y="39"/>
                  </a:lnTo>
                  <a:lnTo>
                    <a:pt x="1094" y="27"/>
                  </a:lnTo>
                  <a:lnTo>
                    <a:pt x="1052" y="17"/>
                  </a:lnTo>
                  <a:lnTo>
                    <a:pt x="1009" y="10"/>
                  </a:lnTo>
                  <a:lnTo>
                    <a:pt x="964" y="4"/>
                  </a:lnTo>
                  <a:lnTo>
                    <a:pt x="920" y="1"/>
                  </a:lnTo>
                  <a:lnTo>
                    <a:pt x="875" y="0"/>
                  </a:lnTo>
                  <a:lnTo>
                    <a:pt x="830" y="1"/>
                  </a:lnTo>
                  <a:lnTo>
                    <a:pt x="786" y="4"/>
                  </a:lnTo>
                  <a:lnTo>
                    <a:pt x="742" y="10"/>
                  </a:lnTo>
                  <a:lnTo>
                    <a:pt x="699" y="17"/>
                  </a:lnTo>
                  <a:lnTo>
                    <a:pt x="656" y="27"/>
                  </a:lnTo>
                  <a:lnTo>
                    <a:pt x="615" y="39"/>
                  </a:lnTo>
                  <a:lnTo>
                    <a:pt x="574" y="53"/>
                  </a:lnTo>
                  <a:lnTo>
                    <a:pt x="534" y="69"/>
                  </a:lnTo>
                  <a:lnTo>
                    <a:pt x="495" y="86"/>
                  </a:lnTo>
                  <a:lnTo>
                    <a:pt x="458" y="106"/>
                  </a:lnTo>
                  <a:lnTo>
                    <a:pt x="422" y="126"/>
                  </a:lnTo>
                  <a:lnTo>
                    <a:pt x="386" y="149"/>
                  </a:lnTo>
                  <a:lnTo>
                    <a:pt x="352" y="174"/>
                  </a:lnTo>
                  <a:lnTo>
                    <a:pt x="318" y="200"/>
                  </a:lnTo>
                  <a:lnTo>
                    <a:pt x="287" y="227"/>
                  </a:lnTo>
                  <a:lnTo>
                    <a:pt x="257" y="256"/>
                  </a:lnTo>
                  <a:lnTo>
                    <a:pt x="227" y="286"/>
                  </a:lnTo>
                  <a:lnTo>
                    <a:pt x="200" y="318"/>
                  </a:lnTo>
                  <a:lnTo>
                    <a:pt x="174" y="351"/>
                  </a:lnTo>
                  <a:lnTo>
                    <a:pt x="150" y="385"/>
                  </a:lnTo>
                  <a:lnTo>
                    <a:pt x="127" y="421"/>
                  </a:lnTo>
                  <a:lnTo>
                    <a:pt x="105" y="458"/>
                  </a:lnTo>
                  <a:lnTo>
                    <a:pt x="87" y="496"/>
                  </a:lnTo>
                  <a:lnTo>
                    <a:pt x="69" y="534"/>
                  </a:lnTo>
                  <a:lnTo>
                    <a:pt x="53" y="573"/>
                  </a:lnTo>
                  <a:lnTo>
                    <a:pt x="39" y="614"/>
                  </a:lnTo>
                  <a:lnTo>
                    <a:pt x="28" y="655"/>
                  </a:lnTo>
                  <a:lnTo>
                    <a:pt x="18" y="699"/>
                  </a:lnTo>
                  <a:lnTo>
                    <a:pt x="10" y="741"/>
                  </a:lnTo>
                  <a:lnTo>
                    <a:pt x="5" y="785"/>
                  </a:lnTo>
                  <a:lnTo>
                    <a:pt x="2" y="829"/>
                  </a:lnTo>
                  <a:lnTo>
                    <a:pt x="0" y="875"/>
                  </a:lnTo>
                  <a:lnTo>
                    <a:pt x="2" y="919"/>
                  </a:lnTo>
                  <a:lnTo>
                    <a:pt x="5" y="964"/>
                  </a:lnTo>
                  <a:lnTo>
                    <a:pt x="10" y="1008"/>
                  </a:lnTo>
                  <a:lnTo>
                    <a:pt x="18" y="1051"/>
                  </a:lnTo>
                  <a:lnTo>
                    <a:pt x="28" y="1093"/>
                  </a:lnTo>
                  <a:lnTo>
                    <a:pt x="39" y="1135"/>
                  </a:lnTo>
                  <a:lnTo>
                    <a:pt x="53" y="1175"/>
                  </a:lnTo>
                  <a:lnTo>
                    <a:pt x="69" y="1215"/>
                  </a:lnTo>
                  <a:lnTo>
                    <a:pt x="87" y="1254"/>
                  </a:lnTo>
                  <a:lnTo>
                    <a:pt x="105" y="1292"/>
                  </a:lnTo>
                  <a:lnTo>
                    <a:pt x="127" y="1328"/>
                  </a:lnTo>
                  <a:lnTo>
                    <a:pt x="150" y="1364"/>
                  </a:lnTo>
                  <a:lnTo>
                    <a:pt x="174" y="1397"/>
                  </a:lnTo>
                  <a:lnTo>
                    <a:pt x="200" y="1431"/>
                  </a:lnTo>
                  <a:lnTo>
                    <a:pt x="227" y="1462"/>
                  </a:lnTo>
                  <a:lnTo>
                    <a:pt x="257" y="1492"/>
                  </a:lnTo>
                  <a:lnTo>
                    <a:pt x="287" y="1522"/>
                  </a:lnTo>
                  <a:lnTo>
                    <a:pt x="318" y="1550"/>
                  </a:lnTo>
                  <a:lnTo>
                    <a:pt x="352" y="1576"/>
                  </a:lnTo>
                  <a:lnTo>
                    <a:pt x="386" y="1599"/>
                  </a:lnTo>
                  <a:lnTo>
                    <a:pt x="422" y="1622"/>
                  </a:lnTo>
                  <a:lnTo>
                    <a:pt x="458" y="1644"/>
                  </a:lnTo>
                  <a:lnTo>
                    <a:pt x="495" y="1663"/>
                  </a:lnTo>
                  <a:lnTo>
                    <a:pt x="534" y="1680"/>
                  </a:lnTo>
                  <a:lnTo>
                    <a:pt x="574" y="1695"/>
                  </a:lnTo>
                  <a:lnTo>
                    <a:pt x="615" y="1710"/>
                  </a:lnTo>
                  <a:lnTo>
                    <a:pt x="656" y="1721"/>
                  </a:lnTo>
                  <a:lnTo>
                    <a:pt x="699" y="1731"/>
                  </a:lnTo>
                  <a:lnTo>
                    <a:pt x="742" y="1739"/>
                  </a:lnTo>
                  <a:lnTo>
                    <a:pt x="786" y="1744"/>
                  </a:lnTo>
                  <a:lnTo>
                    <a:pt x="830" y="1748"/>
                  </a:lnTo>
                  <a:lnTo>
                    <a:pt x="875" y="1749"/>
                  </a:lnTo>
                  <a:lnTo>
                    <a:pt x="901" y="1748"/>
                  </a:lnTo>
                  <a:lnTo>
                    <a:pt x="927" y="1747"/>
                  </a:lnTo>
                  <a:lnTo>
                    <a:pt x="951" y="1746"/>
                  </a:lnTo>
                  <a:lnTo>
                    <a:pt x="977" y="1743"/>
                  </a:lnTo>
                  <a:lnTo>
                    <a:pt x="1002" y="1740"/>
                  </a:lnTo>
                  <a:lnTo>
                    <a:pt x="1027" y="1737"/>
                  </a:lnTo>
                  <a:lnTo>
                    <a:pt x="1051" y="1731"/>
                  </a:lnTo>
                  <a:lnTo>
                    <a:pt x="1076" y="1726"/>
                  </a:lnTo>
                  <a:lnTo>
                    <a:pt x="1099" y="1720"/>
                  </a:lnTo>
                  <a:lnTo>
                    <a:pt x="1123" y="1714"/>
                  </a:lnTo>
                  <a:lnTo>
                    <a:pt x="1146" y="1706"/>
                  </a:lnTo>
                  <a:lnTo>
                    <a:pt x="1170" y="1699"/>
                  </a:lnTo>
                  <a:lnTo>
                    <a:pt x="1192" y="1690"/>
                  </a:lnTo>
                  <a:lnTo>
                    <a:pt x="1215" y="1680"/>
                  </a:lnTo>
                  <a:lnTo>
                    <a:pt x="1237" y="1671"/>
                  </a:lnTo>
                  <a:lnTo>
                    <a:pt x="1259" y="1661"/>
                  </a:lnTo>
                  <a:lnTo>
                    <a:pt x="1241" y="1623"/>
                  </a:lnTo>
                  <a:lnTo>
                    <a:pt x="1219" y="1633"/>
                  </a:lnTo>
                  <a:lnTo>
                    <a:pt x="1199" y="1643"/>
                  </a:lnTo>
                  <a:lnTo>
                    <a:pt x="1177" y="1651"/>
                  </a:lnTo>
                  <a:lnTo>
                    <a:pt x="1156" y="1659"/>
                  </a:lnTo>
                  <a:lnTo>
                    <a:pt x="1133" y="1666"/>
                  </a:lnTo>
                  <a:lnTo>
                    <a:pt x="1111" y="1674"/>
                  </a:lnTo>
                  <a:lnTo>
                    <a:pt x="1089" y="1680"/>
                  </a:lnTo>
                  <a:lnTo>
                    <a:pt x="1066" y="1686"/>
                  </a:lnTo>
                  <a:lnTo>
                    <a:pt x="1042" y="1690"/>
                  </a:lnTo>
                  <a:lnTo>
                    <a:pt x="1019" y="1695"/>
                  </a:lnTo>
                  <a:lnTo>
                    <a:pt x="996" y="1699"/>
                  </a:lnTo>
                  <a:lnTo>
                    <a:pt x="972" y="1702"/>
                  </a:lnTo>
                  <a:lnTo>
                    <a:pt x="948" y="1704"/>
                  </a:lnTo>
                  <a:lnTo>
                    <a:pt x="924" y="1706"/>
                  </a:lnTo>
                  <a:lnTo>
                    <a:pt x="899" y="1707"/>
                  </a:lnTo>
                  <a:lnTo>
                    <a:pt x="875" y="1707"/>
                  </a:lnTo>
                  <a:lnTo>
                    <a:pt x="833" y="1706"/>
                  </a:lnTo>
                  <a:lnTo>
                    <a:pt x="790" y="1703"/>
                  </a:lnTo>
                  <a:lnTo>
                    <a:pt x="748" y="1698"/>
                  </a:lnTo>
                  <a:lnTo>
                    <a:pt x="707" y="1690"/>
                  </a:lnTo>
                  <a:lnTo>
                    <a:pt x="667" y="1681"/>
                  </a:lnTo>
                  <a:lnTo>
                    <a:pt x="627" y="1670"/>
                  </a:lnTo>
                  <a:lnTo>
                    <a:pt x="588" y="1657"/>
                  </a:lnTo>
                  <a:lnTo>
                    <a:pt x="550" y="1641"/>
                  </a:lnTo>
                  <a:lnTo>
                    <a:pt x="514" y="1625"/>
                  </a:lnTo>
                  <a:lnTo>
                    <a:pt x="478" y="1607"/>
                  </a:lnTo>
                  <a:lnTo>
                    <a:pt x="444" y="1586"/>
                  </a:lnTo>
                  <a:lnTo>
                    <a:pt x="409" y="1565"/>
                  </a:lnTo>
                  <a:lnTo>
                    <a:pt x="377" y="1542"/>
                  </a:lnTo>
                  <a:lnTo>
                    <a:pt x="345" y="1517"/>
                  </a:lnTo>
                  <a:lnTo>
                    <a:pt x="315" y="1491"/>
                  </a:lnTo>
                  <a:lnTo>
                    <a:pt x="286" y="1463"/>
                  </a:lnTo>
                  <a:lnTo>
                    <a:pt x="259" y="1434"/>
                  </a:lnTo>
                  <a:lnTo>
                    <a:pt x="232" y="1404"/>
                  </a:lnTo>
                  <a:lnTo>
                    <a:pt x="207" y="1373"/>
                  </a:lnTo>
                  <a:lnTo>
                    <a:pt x="184" y="1340"/>
                  </a:lnTo>
                  <a:lnTo>
                    <a:pt x="163" y="1307"/>
                  </a:lnTo>
                  <a:lnTo>
                    <a:pt x="142" y="1271"/>
                  </a:lnTo>
                  <a:lnTo>
                    <a:pt x="124" y="1235"/>
                  </a:lnTo>
                  <a:lnTo>
                    <a:pt x="107" y="1199"/>
                  </a:lnTo>
                  <a:lnTo>
                    <a:pt x="92" y="1161"/>
                  </a:lnTo>
                  <a:lnTo>
                    <a:pt x="79" y="1122"/>
                  </a:lnTo>
                  <a:lnTo>
                    <a:pt x="69" y="1082"/>
                  </a:lnTo>
                  <a:lnTo>
                    <a:pt x="59" y="1042"/>
                  </a:lnTo>
                  <a:lnTo>
                    <a:pt x="51" y="1001"/>
                  </a:lnTo>
                  <a:lnTo>
                    <a:pt x="46" y="960"/>
                  </a:lnTo>
                  <a:lnTo>
                    <a:pt x="43" y="917"/>
                  </a:lnTo>
                  <a:lnTo>
                    <a:pt x="42" y="875"/>
                  </a:lnTo>
                  <a:lnTo>
                    <a:pt x="43" y="831"/>
                  </a:lnTo>
                  <a:lnTo>
                    <a:pt x="46" y="789"/>
                  </a:lnTo>
                  <a:lnTo>
                    <a:pt x="51" y="747"/>
                  </a:lnTo>
                  <a:lnTo>
                    <a:pt x="59" y="706"/>
                  </a:lnTo>
                  <a:lnTo>
                    <a:pt x="69" y="666"/>
                  </a:lnTo>
                  <a:lnTo>
                    <a:pt x="79" y="626"/>
                  </a:lnTo>
                  <a:lnTo>
                    <a:pt x="92" y="588"/>
                  </a:lnTo>
                  <a:lnTo>
                    <a:pt x="107" y="551"/>
                  </a:lnTo>
                  <a:lnTo>
                    <a:pt x="124" y="513"/>
                  </a:lnTo>
                  <a:lnTo>
                    <a:pt x="142" y="477"/>
                  </a:lnTo>
                  <a:lnTo>
                    <a:pt x="163" y="443"/>
                  </a:lnTo>
                  <a:lnTo>
                    <a:pt x="184" y="409"/>
                  </a:lnTo>
                  <a:lnTo>
                    <a:pt x="207" y="376"/>
                  </a:lnTo>
                  <a:lnTo>
                    <a:pt x="232" y="344"/>
                  </a:lnTo>
                  <a:lnTo>
                    <a:pt x="259" y="314"/>
                  </a:lnTo>
                  <a:lnTo>
                    <a:pt x="286" y="285"/>
                  </a:lnTo>
                  <a:lnTo>
                    <a:pt x="315" y="258"/>
                  </a:lnTo>
                  <a:lnTo>
                    <a:pt x="345" y="232"/>
                  </a:lnTo>
                  <a:lnTo>
                    <a:pt x="377" y="207"/>
                  </a:lnTo>
                  <a:lnTo>
                    <a:pt x="409" y="183"/>
                  </a:lnTo>
                  <a:lnTo>
                    <a:pt x="444" y="162"/>
                  </a:lnTo>
                  <a:lnTo>
                    <a:pt x="478" y="142"/>
                  </a:lnTo>
                  <a:lnTo>
                    <a:pt x="514" y="124"/>
                  </a:lnTo>
                  <a:lnTo>
                    <a:pt x="550" y="107"/>
                  </a:lnTo>
                  <a:lnTo>
                    <a:pt x="588" y="92"/>
                  </a:lnTo>
                  <a:lnTo>
                    <a:pt x="627" y="79"/>
                  </a:lnTo>
                  <a:lnTo>
                    <a:pt x="667" y="68"/>
                  </a:lnTo>
                  <a:lnTo>
                    <a:pt x="707" y="58"/>
                  </a:lnTo>
                  <a:lnTo>
                    <a:pt x="748" y="51"/>
                  </a:lnTo>
                  <a:lnTo>
                    <a:pt x="790" y="45"/>
                  </a:lnTo>
                  <a:lnTo>
                    <a:pt x="833" y="42"/>
                  </a:lnTo>
                  <a:lnTo>
                    <a:pt x="875" y="41"/>
                  </a:lnTo>
                  <a:lnTo>
                    <a:pt x="918" y="42"/>
                  </a:lnTo>
                  <a:lnTo>
                    <a:pt x="960" y="45"/>
                  </a:lnTo>
                  <a:lnTo>
                    <a:pt x="1002" y="51"/>
                  </a:lnTo>
                  <a:lnTo>
                    <a:pt x="1043" y="58"/>
                  </a:lnTo>
                  <a:lnTo>
                    <a:pt x="1083" y="68"/>
                  </a:lnTo>
                  <a:lnTo>
                    <a:pt x="1123" y="79"/>
                  </a:lnTo>
                  <a:lnTo>
                    <a:pt x="1162" y="92"/>
                  </a:lnTo>
                  <a:lnTo>
                    <a:pt x="1200" y="107"/>
                  </a:lnTo>
                  <a:lnTo>
                    <a:pt x="1237" y="124"/>
                  </a:lnTo>
                  <a:lnTo>
                    <a:pt x="1272" y="142"/>
                  </a:lnTo>
                  <a:lnTo>
                    <a:pt x="1307" y="162"/>
                  </a:lnTo>
                  <a:lnTo>
                    <a:pt x="1341" y="183"/>
                  </a:lnTo>
                  <a:lnTo>
                    <a:pt x="1374" y="207"/>
                  </a:lnTo>
                  <a:lnTo>
                    <a:pt x="1405" y="232"/>
                  </a:lnTo>
                  <a:lnTo>
                    <a:pt x="1435" y="258"/>
                  </a:lnTo>
                  <a:lnTo>
                    <a:pt x="1465" y="285"/>
                  </a:lnTo>
                  <a:lnTo>
                    <a:pt x="1492" y="314"/>
                  </a:lnTo>
                  <a:lnTo>
                    <a:pt x="1519" y="344"/>
                  </a:lnTo>
                  <a:lnTo>
                    <a:pt x="1542" y="376"/>
                  </a:lnTo>
                  <a:lnTo>
                    <a:pt x="1566" y="409"/>
                  </a:lnTo>
                  <a:lnTo>
                    <a:pt x="1588" y="443"/>
                  </a:lnTo>
                  <a:lnTo>
                    <a:pt x="1608" y="477"/>
                  </a:lnTo>
                  <a:lnTo>
                    <a:pt x="1627" y="513"/>
                  </a:lnTo>
                  <a:lnTo>
                    <a:pt x="1643" y="551"/>
                  </a:lnTo>
                  <a:lnTo>
                    <a:pt x="1658" y="588"/>
                  </a:lnTo>
                  <a:lnTo>
                    <a:pt x="1671" y="626"/>
                  </a:lnTo>
                  <a:lnTo>
                    <a:pt x="1682" y="666"/>
                  </a:lnTo>
                  <a:lnTo>
                    <a:pt x="1692" y="706"/>
                  </a:lnTo>
                  <a:lnTo>
                    <a:pt x="1699" y="747"/>
                  </a:lnTo>
                  <a:lnTo>
                    <a:pt x="1704" y="789"/>
                  </a:lnTo>
                  <a:lnTo>
                    <a:pt x="1708" y="831"/>
                  </a:lnTo>
                  <a:lnTo>
                    <a:pt x="1709" y="875"/>
                  </a:lnTo>
                  <a:lnTo>
                    <a:pt x="1708" y="903"/>
                  </a:lnTo>
                  <a:lnTo>
                    <a:pt x="1707" y="930"/>
                  </a:lnTo>
                  <a:lnTo>
                    <a:pt x="1704" y="958"/>
                  </a:lnTo>
                  <a:lnTo>
                    <a:pt x="1701" y="985"/>
                  </a:lnTo>
                  <a:lnTo>
                    <a:pt x="1697" y="1012"/>
                  </a:lnTo>
                  <a:lnTo>
                    <a:pt x="1693" y="1039"/>
                  </a:lnTo>
                  <a:lnTo>
                    <a:pt x="1686" y="1065"/>
                  </a:lnTo>
                  <a:lnTo>
                    <a:pt x="1680" y="1091"/>
                  </a:lnTo>
                  <a:lnTo>
                    <a:pt x="1721" y="1101"/>
                  </a:lnTo>
                  <a:lnTo>
                    <a:pt x="1727" y="1074"/>
                  </a:lnTo>
                  <a:lnTo>
                    <a:pt x="1734" y="1046"/>
                  </a:lnTo>
                  <a:lnTo>
                    <a:pt x="1738" y="1018"/>
                  </a:lnTo>
                  <a:lnTo>
                    <a:pt x="1742" y="990"/>
                  </a:lnTo>
                  <a:lnTo>
                    <a:pt x="1746" y="962"/>
                  </a:lnTo>
                  <a:lnTo>
                    <a:pt x="1749" y="933"/>
                  </a:lnTo>
                  <a:lnTo>
                    <a:pt x="1750" y="904"/>
                  </a:lnTo>
                  <a:lnTo>
                    <a:pt x="1750" y="87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35400" y="2658960"/>
              <a:ext cx="677880" cy="676440"/>
            </a:xfrm>
            <a:custGeom>
              <a:avLst/>
              <a:gdLst/>
              <a:ahLst/>
              <a:rect l="l" t="t" r="r" b="b"/>
              <a:pathLst>
                <a:path w="1708" h="1708">
                  <a:moveTo>
                    <a:pt x="1708" y="855"/>
                  </a:moveTo>
                  <a:lnTo>
                    <a:pt x="1707" y="810"/>
                  </a:lnTo>
                  <a:lnTo>
                    <a:pt x="1704" y="767"/>
                  </a:lnTo>
                  <a:lnTo>
                    <a:pt x="1699" y="724"/>
                  </a:lnTo>
                  <a:lnTo>
                    <a:pt x="1691" y="682"/>
                  </a:lnTo>
                  <a:lnTo>
                    <a:pt x="1681" y="641"/>
                  </a:lnTo>
                  <a:lnTo>
                    <a:pt x="1669" y="601"/>
                  </a:lnTo>
                  <a:lnTo>
                    <a:pt x="1656" y="561"/>
                  </a:lnTo>
                  <a:lnTo>
                    <a:pt x="1641" y="522"/>
                  </a:lnTo>
                  <a:lnTo>
                    <a:pt x="1624" y="484"/>
                  </a:lnTo>
                  <a:lnTo>
                    <a:pt x="1606" y="448"/>
                  </a:lnTo>
                  <a:lnTo>
                    <a:pt x="1585" y="412"/>
                  </a:lnTo>
                  <a:lnTo>
                    <a:pt x="1562" y="377"/>
                  </a:lnTo>
                  <a:lnTo>
                    <a:pt x="1539" y="344"/>
                  </a:lnTo>
                  <a:lnTo>
                    <a:pt x="1513" y="311"/>
                  </a:lnTo>
                  <a:lnTo>
                    <a:pt x="1487" y="280"/>
                  </a:lnTo>
                  <a:lnTo>
                    <a:pt x="1458" y="251"/>
                  </a:lnTo>
                  <a:lnTo>
                    <a:pt x="1428" y="223"/>
                  </a:lnTo>
                  <a:lnTo>
                    <a:pt x="1397" y="196"/>
                  </a:lnTo>
                  <a:lnTo>
                    <a:pt x="1365" y="170"/>
                  </a:lnTo>
                  <a:lnTo>
                    <a:pt x="1331" y="146"/>
                  </a:lnTo>
                  <a:lnTo>
                    <a:pt x="1297" y="125"/>
                  </a:lnTo>
                  <a:lnTo>
                    <a:pt x="1261" y="104"/>
                  </a:lnTo>
                  <a:lnTo>
                    <a:pt x="1224" y="85"/>
                  </a:lnTo>
                  <a:lnTo>
                    <a:pt x="1186" y="67"/>
                  </a:lnTo>
                  <a:lnTo>
                    <a:pt x="1148" y="52"/>
                  </a:lnTo>
                  <a:lnTo>
                    <a:pt x="1109" y="39"/>
                  </a:lnTo>
                  <a:lnTo>
                    <a:pt x="1068" y="27"/>
                  </a:lnTo>
                  <a:lnTo>
                    <a:pt x="1027" y="18"/>
                  </a:lnTo>
                  <a:lnTo>
                    <a:pt x="984" y="10"/>
                  </a:lnTo>
                  <a:lnTo>
                    <a:pt x="941" y="5"/>
                  </a:lnTo>
                  <a:lnTo>
                    <a:pt x="898" y="1"/>
                  </a:lnTo>
                  <a:lnTo>
                    <a:pt x="854" y="0"/>
                  </a:lnTo>
                  <a:lnTo>
                    <a:pt x="810" y="1"/>
                  </a:lnTo>
                  <a:lnTo>
                    <a:pt x="767" y="5"/>
                  </a:lnTo>
                  <a:lnTo>
                    <a:pt x="724" y="10"/>
                  </a:lnTo>
                  <a:lnTo>
                    <a:pt x="682" y="18"/>
                  </a:lnTo>
                  <a:lnTo>
                    <a:pt x="641" y="27"/>
                  </a:lnTo>
                  <a:lnTo>
                    <a:pt x="600" y="39"/>
                  </a:lnTo>
                  <a:lnTo>
                    <a:pt x="561" y="52"/>
                  </a:lnTo>
                  <a:lnTo>
                    <a:pt x="522" y="67"/>
                  </a:lnTo>
                  <a:lnTo>
                    <a:pt x="484" y="85"/>
                  </a:lnTo>
                  <a:lnTo>
                    <a:pt x="447" y="104"/>
                  </a:lnTo>
                  <a:lnTo>
                    <a:pt x="412" y="125"/>
                  </a:lnTo>
                  <a:lnTo>
                    <a:pt x="376" y="146"/>
                  </a:lnTo>
                  <a:lnTo>
                    <a:pt x="344" y="170"/>
                  </a:lnTo>
                  <a:lnTo>
                    <a:pt x="311" y="196"/>
                  </a:lnTo>
                  <a:lnTo>
                    <a:pt x="280" y="223"/>
                  </a:lnTo>
                  <a:lnTo>
                    <a:pt x="251" y="251"/>
                  </a:lnTo>
                  <a:lnTo>
                    <a:pt x="222" y="280"/>
                  </a:lnTo>
                  <a:lnTo>
                    <a:pt x="195" y="311"/>
                  </a:lnTo>
                  <a:lnTo>
                    <a:pt x="170" y="344"/>
                  </a:lnTo>
                  <a:lnTo>
                    <a:pt x="146" y="377"/>
                  </a:lnTo>
                  <a:lnTo>
                    <a:pt x="123" y="412"/>
                  </a:lnTo>
                  <a:lnTo>
                    <a:pt x="103" y="448"/>
                  </a:lnTo>
                  <a:lnTo>
                    <a:pt x="84" y="484"/>
                  </a:lnTo>
                  <a:lnTo>
                    <a:pt x="67" y="522"/>
                  </a:lnTo>
                  <a:lnTo>
                    <a:pt x="52" y="561"/>
                  </a:lnTo>
                  <a:lnTo>
                    <a:pt x="38" y="601"/>
                  </a:lnTo>
                  <a:lnTo>
                    <a:pt x="27" y="641"/>
                  </a:lnTo>
                  <a:lnTo>
                    <a:pt x="17" y="682"/>
                  </a:lnTo>
                  <a:lnTo>
                    <a:pt x="10" y="724"/>
                  </a:lnTo>
                  <a:lnTo>
                    <a:pt x="4" y="767"/>
                  </a:lnTo>
                  <a:lnTo>
                    <a:pt x="1" y="810"/>
                  </a:lnTo>
                  <a:lnTo>
                    <a:pt x="0" y="855"/>
                  </a:lnTo>
                  <a:lnTo>
                    <a:pt x="1" y="898"/>
                  </a:lnTo>
                  <a:lnTo>
                    <a:pt x="4" y="942"/>
                  </a:lnTo>
                  <a:lnTo>
                    <a:pt x="10" y="984"/>
                  </a:lnTo>
                  <a:lnTo>
                    <a:pt x="17" y="1026"/>
                  </a:lnTo>
                  <a:lnTo>
                    <a:pt x="27" y="1067"/>
                  </a:lnTo>
                  <a:lnTo>
                    <a:pt x="38" y="1108"/>
                  </a:lnTo>
                  <a:lnTo>
                    <a:pt x="52" y="1148"/>
                  </a:lnTo>
                  <a:lnTo>
                    <a:pt x="67" y="1186"/>
                  </a:lnTo>
                  <a:lnTo>
                    <a:pt x="84" y="1224"/>
                  </a:lnTo>
                  <a:lnTo>
                    <a:pt x="103" y="1262"/>
                  </a:lnTo>
                  <a:lnTo>
                    <a:pt x="123" y="1297"/>
                  </a:lnTo>
                  <a:lnTo>
                    <a:pt x="146" y="1332"/>
                  </a:lnTo>
                  <a:lnTo>
                    <a:pt x="170" y="1366"/>
                  </a:lnTo>
                  <a:lnTo>
                    <a:pt x="195" y="1398"/>
                  </a:lnTo>
                  <a:lnTo>
                    <a:pt x="222" y="1428"/>
                  </a:lnTo>
                  <a:lnTo>
                    <a:pt x="251" y="1458"/>
                  </a:lnTo>
                  <a:lnTo>
                    <a:pt x="280" y="1486"/>
                  </a:lnTo>
                  <a:lnTo>
                    <a:pt x="311" y="1513"/>
                  </a:lnTo>
                  <a:lnTo>
                    <a:pt x="344" y="1538"/>
                  </a:lnTo>
                  <a:lnTo>
                    <a:pt x="376" y="1562"/>
                  </a:lnTo>
                  <a:lnTo>
                    <a:pt x="412" y="1585"/>
                  </a:lnTo>
                  <a:lnTo>
                    <a:pt x="447" y="1605"/>
                  </a:lnTo>
                  <a:lnTo>
                    <a:pt x="484" y="1624"/>
                  </a:lnTo>
                  <a:lnTo>
                    <a:pt x="522" y="1641"/>
                  </a:lnTo>
                  <a:lnTo>
                    <a:pt x="561" y="1656"/>
                  </a:lnTo>
                  <a:lnTo>
                    <a:pt x="600" y="1670"/>
                  </a:lnTo>
                  <a:lnTo>
                    <a:pt x="641" y="1681"/>
                  </a:lnTo>
                  <a:lnTo>
                    <a:pt x="682" y="1691"/>
                  </a:lnTo>
                  <a:lnTo>
                    <a:pt x="724" y="1698"/>
                  </a:lnTo>
                  <a:lnTo>
                    <a:pt x="767" y="1704"/>
                  </a:lnTo>
                  <a:lnTo>
                    <a:pt x="810" y="1707"/>
                  </a:lnTo>
                  <a:lnTo>
                    <a:pt x="854" y="1708"/>
                  </a:lnTo>
                  <a:lnTo>
                    <a:pt x="880" y="1708"/>
                  </a:lnTo>
                  <a:lnTo>
                    <a:pt x="904" y="1707"/>
                  </a:lnTo>
                  <a:lnTo>
                    <a:pt x="929" y="1705"/>
                  </a:lnTo>
                  <a:lnTo>
                    <a:pt x="953" y="1702"/>
                  </a:lnTo>
                  <a:lnTo>
                    <a:pt x="978" y="1699"/>
                  </a:lnTo>
                  <a:lnTo>
                    <a:pt x="1002" y="1696"/>
                  </a:lnTo>
                  <a:lnTo>
                    <a:pt x="1025" y="1691"/>
                  </a:lnTo>
                  <a:lnTo>
                    <a:pt x="1049" y="1686"/>
                  </a:lnTo>
                  <a:lnTo>
                    <a:pt x="1073" y="1680"/>
                  </a:lnTo>
                  <a:lnTo>
                    <a:pt x="1096" y="1673"/>
                  </a:lnTo>
                  <a:lnTo>
                    <a:pt x="1118" y="1667"/>
                  </a:lnTo>
                  <a:lnTo>
                    <a:pt x="1141" y="1658"/>
                  </a:lnTo>
                  <a:lnTo>
                    <a:pt x="1164" y="1651"/>
                  </a:lnTo>
                  <a:lnTo>
                    <a:pt x="1185" y="1642"/>
                  </a:lnTo>
                  <a:lnTo>
                    <a:pt x="1207" y="1632"/>
                  </a:lnTo>
                  <a:lnTo>
                    <a:pt x="1229" y="1621"/>
                  </a:lnTo>
                  <a:lnTo>
                    <a:pt x="1210" y="1585"/>
                  </a:lnTo>
                  <a:lnTo>
                    <a:pt x="1190" y="1594"/>
                  </a:lnTo>
                  <a:lnTo>
                    <a:pt x="1169" y="1603"/>
                  </a:lnTo>
                  <a:lnTo>
                    <a:pt x="1149" y="1612"/>
                  </a:lnTo>
                  <a:lnTo>
                    <a:pt x="1127" y="1619"/>
                  </a:lnTo>
                  <a:lnTo>
                    <a:pt x="1105" y="1627"/>
                  </a:lnTo>
                  <a:lnTo>
                    <a:pt x="1084" y="1633"/>
                  </a:lnTo>
                  <a:lnTo>
                    <a:pt x="1062" y="1640"/>
                  </a:lnTo>
                  <a:lnTo>
                    <a:pt x="1039" y="1645"/>
                  </a:lnTo>
                  <a:lnTo>
                    <a:pt x="1018" y="1651"/>
                  </a:lnTo>
                  <a:lnTo>
                    <a:pt x="995" y="1655"/>
                  </a:lnTo>
                  <a:lnTo>
                    <a:pt x="971" y="1658"/>
                  </a:lnTo>
                  <a:lnTo>
                    <a:pt x="949" y="1661"/>
                  </a:lnTo>
                  <a:lnTo>
                    <a:pt x="925" y="1664"/>
                  </a:lnTo>
                  <a:lnTo>
                    <a:pt x="902" y="1665"/>
                  </a:lnTo>
                  <a:lnTo>
                    <a:pt x="878" y="1666"/>
                  </a:lnTo>
                  <a:lnTo>
                    <a:pt x="854" y="1667"/>
                  </a:lnTo>
                  <a:lnTo>
                    <a:pt x="813" y="1666"/>
                  </a:lnTo>
                  <a:lnTo>
                    <a:pt x="772" y="1663"/>
                  </a:lnTo>
                  <a:lnTo>
                    <a:pt x="730" y="1657"/>
                  </a:lnTo>
                  <a:lnTo>
                    <a:pt x="690" y="1650"/>
                  </a:lnTo>
                  <a:lnTo>
                    <a:pt x="652" y="1641"/>
                  </a:lnTo>
                  <a:lnTo>
                    <a:pt x="613" y="1630"/>
                  </a:lnTo>
                  <a:lnTo>
                    <a:pt x="575" y="1617"/>
                  </a:lnTo>
                  <a:lnTo>
                    <a:pt x="538" y="1603"/>
                  </a:lnTo>
                  <a:lnTo>
                    <a:pt x="501" y="1587"/>
                  </a:lnTo>
                  <a:lnTo>
                    <a:pt x="467" y="1569"/>
                  </a:lnTo>
                  <a:lnTo>
                    <a:pt x="433" y="1549"/>
                  </a:lnTo>
                  <a:lnTo>
                    <a:pt x="400" y="1528"/>
                  </a:lnTo>
                  <a:lnTo>
                    <a:pt x="368" y="1505"/>
                  </a:lnTo>
                  <a:lnTo>
                    <a:pt x="337" y="1481"/>
                  </a:lnTo>
                  <a:lnTo>
                    <a:pt x="308" y="1455"/>
                  </a:lnTo>
                  <a:lnTo>
                    <a:pt x="280" y="1428"/>
                  </a:lnTo>
                  <a:lnTo>
                    <a:pt x="253" y="1400"/>
                  </a:lnTo>
                  <a:lnTo>
                    <a:pt x="227" y="1371"/>
                  </a:lnTo>
                  <a:lnTo>
                    <a:pt x="203" y="1341"/>
                  </a:lnTo>
                  <a:lnTo>
                    <a:pt x="180" y="1308"/>
                  </a:lnTo>
                  <a:lnTo>
                    <a:pt x="159" y="1276"/>
                  </a:lnTo>
                  <a:lnTo>
                    <a:pt x="139" y="1241"/>
                  </a:lnTo>
                  <a:lnTo>
                    <a:pt x="122" y="1207"/>
                  </a:lnTo>
                  <a:lnTo>
                    <a:pt x="106" y="1170"/>
                  </a:lnTo>
                  <a:lnTo>
                    <a:pt x="91" y="1133"/>
                  </a:lnTo>
                  <a:lnTo>
                    <a:pt x="78" y="1096"/>
                  </a:lnTo>
                  <a:lnTo>
                    <a:pt x="67" y="1058"/>
                  </a:lnTo>
                  <a:lnTo>
                    <a:pt x="58" y="1018"/>
                  </a:lnTo>
                  <a:lnTo>
                    <a:pt x="51" y="978"/>
                  </a:lnTo>
                  <a:lnTo>
                    <a:pt x="45" y="938"/>
                  </a:lnTo>
                  <a:lnTo>
                    <a:pt x="42" y="896"/>
                  </a:lnTo>
                  <a:lnTo>
                    <a:pt x="42" y="855"/>
                  </a:lnTo>
                  <a:lnTo>
                    <a:pt x="42" y="813"/>
                  </a:lnTo>
                  <a:lnTo>
                    <a:pt x="45" y="772"/>
                  </a:lnTo>
                  <a:lnTo>
                    <a:pt x="51" y="730"/>
                  </a:lnTo>
                  <a:lnTo>
                    <a:pt x="58" y="691"/>
                  </a:lnTo>
                  <a:lnTo>
                    <a:pt x="67" y="652"/>
                  </a:lnTo>
                  <a:lnTo>
                    <a:pt x="78" y="613"/>
                  </a:lnTo>
                  <a:lnTo>
                    <a:pt x="91" y="575"/>
                  </a:lnTo>
                  <a:lnTo>
                    <a:pt x="106" y="538"/>
                  </a:lnTo>
                  <a:lnTo>
                    <a:pt x="122" y="503"/>
                  </a:lnTo>
                  <a:lnTo>
                    <a:pt x="139" y="467"/>
                  </a:lnTo>
                  <a:lnTo>
                    <a:pt x="159" y="433"/>
                  </a:lnTo>
                  <a:lnTo>
                    <a:pt x="180" y="400"/>
                  </a:lnTo>
                  <a:lnTo>
                    <a:pt x="203" y="369"/>
                  </a:lnTo>
                  <a:lnTo>
                    <a:pt x="227" y="337"/>
                  </a:lnTo>
                  <a:lnTo>
                    <a:pt x="253" y="308"/>
                  </a:lnTo>
                  <a:lnTo>
                    <a:pt x="280" y="280"/>
                  </a:lnTo>
                  <a:lnTo>
                    <a:pt x="308" y="253"/>
                  </a:lnTo>
                  <a:lnTo>
                    <a:pt x="337" y="227"/>
                  </a:lnTo>
                  <a:lnTo>
                    <a:pt x="368" y="203"/>
                  </a:lnTo>
                  <a:lnTo>
                    <a:pt x="400" y="181"/>
                  </a:lnTo>
                  <a:lnTo>
                    <a:pt x="433" y="160"/>
                  </a:lnTo>
                  <a:lnTo>
                    <a:pt x="467" y="141"/>
                  </a:lnTo>
                  <a:lnTo>
                    <a:pt x="501" y="122"/>
                  </a:lnTo>
                  <a:lnTo>
                    <a:pt x="538" y="106"/>
                  </a:lnTo>
                  <a:lnTo>
                    <a:pt x="575" y="91"/>
                  </a:lnTo>
                  <a:lnTo>
                    <a:pt x="613" y="79"/>
                  </a:lnTo>
                  <a:lnTo>
                    <a:pt x="652" y="67"/>
                  </a:lnTo>
                  <a:lnTo>
                    <a:pt x="690" y="59"/>
                  </a:lnTo>
                  <a:lnTo>
                    <a:pt x="730" y="51"/>
                  </a:lnTo>
                  <a:lnTo>
                    <a:pt x="772" y="47"/>
                  </a:lnTo>
                  <a:lnTo>
                    <a:pt x="813" y="44"/>
                  </a:lnTo>
                  <a:lnTo>
                    <a:pt x="854" y="43"/>
                  </a:lnTo>
                  <a:lnTo>
                    <a:pt x="896" y="44"/>
                  </a:lnTo>
                  <a:lnTo>
                    <a:pt x="937" y="47"/>
                  </a:lnTo>
                  <a:lnTo>
                    <a:pt x="978" y="51"/>
                  </a:lnTo>
                  <a:lnTo>
                    <a:pt x="1018" y="59"/>
                  </a:lnTo>
                  <a:lnTo>
                    <a:pt x="1057" y="67"/>
                  </a:lnTo>
                  <a:lnTo>
                    <a:pt x="1096" y="79"/>
                  </a:lnTo>
                  <a:lnTo>
                    <a:pt x="1134" y="91"/>
                  </a:lnTo>
                  <a:lnTo>
                    <a:pt x="1170" y="106"/>
                  </a:lnTo>
                  <a:lnTo>
                    <a:pt x="1206" y="122"/>
                  </a:lnTo>
                  <a:lnTo>
                    <a:pt x="1242" y="141"/>
                  </a:lnTo>
                  <a:lnTo>
                    <a:pt x="1275" y="160"/>
                  </a:lnTo>
                  <a:lnTo>
                    <a:pt x="1309" y="181"/>
                  </a:lnTo>
                  <a:lnTo>
                    <a:pt x="1340" y="203"/>
                  </a:lnTo>
                  <a:lnTo>
                    <a:pt x="1371" y="227"/>
                  </a:lnTo>
                  <a:lnTo>
                    <a:pt x="1400" y="253"/>
                  </a:lnTo>
                  <a:lnTo>
                    <a:pt x="1428" y="280"/>
                  </a:lnTo>
                  <a:lnTo>
                    <a:pt x="1456" y="308"/>
                  </a:lnTo>
                  <a:lnTo>
                    <a:pt x="1481" y="337"/>
                  </a:lnTo>
                  <a:lnTo>
                    <a:pt x="1505" y="369"/>
                  </a:lnTo>
                  <a:lnTo>
                    <a:pt x="1528" y="400"/>
                  </a:lnTo>
                  <a:lnTo>
                    <a:pt x="1550" y="433"/>
                  </a:lnTo>
                  <a:lnTo>
                    <a:pt x="1569" y="467"/>
                  </a:lnTo>
                  <a:lnTo>
                    <a:pt x="1586" y="503"/>
                  </a:lnTo>
                  <a:lnTo>
                    <a:pt x="1602" y="538"/>
                  </a:lnTo>
                  <a:lnTo>
                    <a:pt x="1618" y="575"/>
                  </a:lnTo>
                  <a:lnTo>
                    <a:pt x="1631" y="613"/>
                  </a:lnTo>
                  <a:lnTo>
                    <a:pt x="1641" y="652"/>
                  </a:lnTo>
                  <a:lnTo>
                    <a:pt x="1650" y="691"/>
                  </a:lnTo>
                  <a:lnTo>
                    <a:pt x="1658" y="730"/>
                  </a:lnTo>
                  <a:lnTo>
                    <a:pt x="1663" y="772"/>
                  </a:lnTo>
                  <a:lnTo>
                    <a:pt x="1665" y="813"/>
                  </a:lnTo>
                  <a:lnTo>
                    <a:pt x="1666" y="855"/>
                  </a:lnTo>
                  <a:lnTo>
                    <a:pt x="1666" y="882"/>
                  </a:lnTo>
                  <a:lnTo>
                    <a:pt x="1665" y="909"/>
                  </a:lnTo>
                  <a:lnTo>
                    <a:pt x="1663" y="936"/>
                  </a:lnTo>
                  <a:lnTo>
                    <a:pt x="1660" y="962"/>
                  </a:lnTo>
                  <a:lnTo>
                    <a:pt x="1655" y="989"/>
                  </a:lnTo>
                  <a:lnTo>
                    <a:pt x="1651" y="1015"/>
                  </a:lnTo>
                  <a:lnTo>
                    <a:pt x="1646" y="1040"/>
                  </a:lnTo>
                  <a:lnTo>
                    <a:pt x="1639" y="1065"/>
                  </a:lnTo>
                  <a:lnTo>
                    <a:pt x="1679" y="1076"/>
                  </a:lnTo>
                  <a:lnTo>
                    <a:pt x="1686" y="1050"/>
                  </a:lnTo>
                  <a:lnTo>
                    <a:pt x="1692" y="1023"/>
                  </a:lnTo>
                  <a:lnTo>
                    <a:pt x="1696" y="995"/>
                  </a:lnTo>
                  <a:lnTo>
                    <a:pt x="1701" y="968"/>
                  </a:lnTo>
                  <a:lnTo>
                    <a:pt x="1704" y="940"/>
                  </a:lnTo>
                  <a:lnTo>
                    <a:pt x="1706" y="912"/>
                  </a:lnTo>
                  <a:lnTo>
                    <a:pt x="1708" y="883"/>
                  </a:lnTo>
                  <a:lnTo>
                    <a:pt x="1708" y="855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243320" y="2666880"/>
              <a:ext cx="662040" cy="660600"/>
            </a:xfrm>
            <a:custGeom>
              <a:avLst/>
              <a:gdLst/>
              <a:ahLst/>
              <a:rect l="l" t="t" r="r" b="b"/>
              <a:pathLst>
                <a:path w="1667" h="1666">
                  <a:moveTo>
                    <a:pt x="1667" y="834"/>
                  </a:moveTo>
                  <a:lnTo>
                    <a:pt x="1666" y="790"/>
                  </a:lnTo>
                  <a:lnTo>
                    <a:pt x="1662" y="748"/>
                  </a:lnTo>
                  <a:lnTo>
                    <a:pt x="1657" y="706"/>
                  </a:lnTo>
                  <a:lnTo>
                    <a:pt x="1650" y="665"/>
                  </a:lnTo>
                  <a:lnTo>
                    <a:pt x="1640" y="625"/>
                  </a:lnTo>
                  <a:lnTo>
                    <a:pt x="1629" y="585"/>
                  </a:lnTo>
                  <a:lnTo>
                    <a:pt x="1616" y="547"/>
                  </a:lnTo>
                  <a:lnTo>
                    <a:pt x="1601" y="510"/>
                  </a:lnTo>
                  <a:lnTo>
                    <a:pt x="1585" y="472"/>
                  </a:lnTo>
                  <a:lnTo>
                    <a:pt x="1566" y="436"/>
                  </a:lnTo>
                  <a:lnTo>
                    <a:pt x="1546" y="402"/>
                  </a:lnTo>
                  <a:lnTo>
                    <a:pt x="1524" y="368"/>
                  </a:lnTo>
                  <a:lnTo>
                    <a:pt x="1500" y="335"/>
                  </a:lnTo>
                  <a:lnTo>
                    <a:pt x="1477" y="303"/>
                  </a:lnTo>
                  <a:lnTo>
                    <a:pt x="1450" y="273"/>
                  </a:lnTo>
                  <a:lnTo>
                    <a:pt x="1423" y="244"/>
                  </a:lnTo>
                  <a:lnTo>
                    <a:pt x="1393" y="217"/>
                  </a:lnTo>
                  <a:lnTo>
                    <a:pt x="1363" y="191"/>
                  </a:lnTo>
                  <a:lnTo>
                    <a:pt x="1332" y="166"/>
                  </a:lnTo>
                  <a:lnTo>
                    <a:pt x="1299" y="142"/>
                  </a:lnTo>
                  <a:lnTo>
                    <a:pt x="1265" y="121"/>
                  </a:lnTo>
                  <a:lnTo>
                    <a:pt x="1230" y="101"/>
                  </a:lnTo>
                  <a:lnTo>
                    <a:pt x="1195" y="83"/>
                  </a:lnTo>
                  <a:lnTo>
                    <a:pt x="1158" y="66"/>
                  </a:lnTo>
                  <a:lnTo>
                    <a:pt x="1120" y="51"/>
                  </a:lnTo>
                  <a:lnTo>
                    <a:pt x="1081" y="38"/>
                  </a:lnTo>
                  <a:lnTo>
                    <a:pt x="1041" y="27"/>
                  </a:lnTo>
                  <a:lnTo>
                    <a:pt x="1001" y="17"/>
                  </a:lnTo>
                  <a:lnTo>
                    <a:pt x="960" y="10"/>
                  </a:lnTo>
                  <a:lnTo>
                    <a:pt x="918" y="4"/>
                  </a:lnTo>
                  <a:lnTo>
                    <a:pt x="876" y="1"/>
                  </a:lnTo>
                  <a:lnTo>
                    <a:pt x="833" y="0"/>
                  </a:lnTo>
                  <a:lnTo>
                    <a:pt x="791" y="1"/>
                  </a:lnTo>
                  <a:lnTo>
                    <a:pt x="748" y="4"/>
                  </a:lnTo>
                  <a:lnTo>
                    <a:pt x="706" y="10"/>
                  </a:lnTo>
                  <a:lnTo>
                    <a:pt x="665" y="17"/>
                  </a:lnTo>
                  <a:lnTo>
                    <a:pt x="625" y="27"/>
                  </a:lnTo>
                  <a:lnTo>
                    <a:pt x="585" y="38"/>
                  </a:lnTo>
                  <a:lnTo>
                    <a:pt x="546" y="51"/>
                  </a:lnTo>
                  <a:lnTo>
                    <a:pt x="508" y="66"/>
                  </a:lnTo>
                  <a:lnTo>
                    <a:pt x="472" y="83"/>
                  </a:lnTo>
                  <a:lnTo>
                    <a:pt x="436" y="101"/>
                  </a:lnTo>
                  <a:lnTo>
                    <a:pt x="402" y="121"/>
                  </a:lnTo>
                  <a:lnTo>
                    <a:pt x="367" y="142"/>
                  </a:lnTo>
                  <a:lnTo>
                    <a:pt x="335" y="166"/>
                  </a:lnTo>
                  <a:lnTo>
                    <a:pt x="303" y="191"/>
                  </a:lnTo>
                  <a:lnTo>
                    <a:pt x="273" y="217"/>
                  </a:lnTo>
                  <a:lnTo>
                    <a:pt x="244" y="244"/>
                  </a:lnTo>
                  <a:lnTo>
                    <a:pt x="217" y="273"/>
                  </a:lnTo>
                  <a:lnTo>
                    <a:pt x="190" y="303"/>
                  </a:lnTo>
                  <a:lnTo>
                    <a:pt x="165" y="335"/>
                  </a:lnTo>
                  <a:lnTo>
                    <a:pt x="142" y="368"/>
                  </a:lnTo>
                  <a:lnTo>
                    <a:pt x="121" y="402"/>
                  </a:lnTo>
                  <a:lnTo>
                    <a:pt x="100" y="436"/>
                  </a:lnTo>
                  <a:lnTo>
                    <a:pt x="82" y="472"/>
                  </a:lnTo>
                  <a:lnTo>
                    <a:pt x="65" y="510"/>
                  </a:lnTo>
                  <a:lnTo>
                    <a:pt x="50" y="547"/>
                  </a:lnTo>
                  <a:lnTo>
                    <a:pt x="37" y="585"/>
                  </a:lnTo>
                  <a:lnTo>
                    <a:pt x="27" y="625"/>
                  </a:lnTo>
                  <a:lnTo>
                    <a:pt x="17" y="665"/>
                  </a:lnTo>
                  <a:lnTo>
                    <a:pt x="9" y="706"/>
                  </a:lnTo>
                  <a:lnTo>
                    <a:pt x="4" y="748"/>
                  </a:lnTo>
                  <a:lnTo>
                    <a:pt x="1" y="790"/>
                  </a:lnTo>
                  <a:lnTo>
                    <a:pt x="0" y="834"/>
                  </a:lnTo>
                  <a:lnTo>
                    <a:pt x="1" y="876"/>
                  </a:lnTo>
                  <a:lnTo>
                    <a:pt x="4" y="919"/>
                  </a:lnTo>
                  <a:lnTo>
                    <a:pt x="9" y="960"/>
                  </a:lnTo>
                  <a:lnTo>
                    <a:pt x="17" y="1001"/>
                  </a:lnTo>
                  <a:lnTo>
                    <a:pt x="27" y="1041"/>
                  </a:lnTo>
                  <a:lnTo>
                    <a:pt x="37" y="1081"/>
                  </a:lnTo>
                  <a:lnTo>
                    <a:pt x="50" y="1120"/>
                  </a:lnTo>
                  <a:lnTo>
                    <a:pt x="65" y="1158"/>
                  </a:lnTo>
                  <a:lnTo>
                    <a:pt x="82" y="1194"/>
                  </a:lnTo>
                  <a:lnTo>
                    <a:pt x="100" y="1230"/>
                  </a:lnTo>
                  <a:lnTo>
                    <a:pt x="121" y="1266"/>
                  </a:lnTo>
                  <a:lnTo>
                    <a:pt x="142" y="1299"/>
                  </a:lnTo>
                  <a:lnTo>
                    <a:pt x="165" y="1332"/>
                  </a:lnTo>
                  <a:lnTo>
                    <a:pt x="190" y="1363"/>
                  </a:lnTo>
                  <a:lnTo>
                    <a:pt x="217" y="1393"/>
                  </a:lnTo>
                  <a:lnTo>
                    <a:pt x="244" y="1422"/>
                  </a:lnTo>
                  <a:lnTo>
                    <a:pt x="273" y="1450"/>
                  </a:lnTo>
                  <a:lnTo>
                    <a:pt x="303" y="1476"/>
                  </a:lnTo>
                  <a:lnTo>
                    <a:pt x="335" y="1501"/>
                  </a:lnTo>
                  <a:lnTo>
                    <a:pt x="367" y="1524"/>
                  </a:lnTo>
                  <a:lnTo>
                    <a:pt x="402" y="1545"/>
                  </a:lnTo>
                  <a:lnTo>
                    <a:pt x="436" y="1566"/>
                  </a:lnTo>
                  <a:lnTo>
                    <a:pt x="472" y="1584"/>
                  </a:lnTo>
                  <a:lnTo>
                    <a:pt x="508" y="1600"/>
                  </a:lnTo>
                  <a:lnTo>
                    <a:pt x="546" y="1616"/>
                  </a:lnTo>
                  <a:lnTo>
                    <a:pt x="585" y="1629"/>
                  </a:lnTo>
                  <a:lnTo>
                    <a:pt x="625" y="1640"/>
                  </a:lnTo>
                  <a:lnTo>
                    <a:pt x="665" y="1649"/>
                  </a:lnTo>
                  <a:lnTo>
                    <a:pt x="706" y="1657"/>
                  </a:lnTo>
                  <a:lnTo>
                    <a:pt x="748" y="1662"/>
                  </a:lnTo>
                  <a:lnTo>
                    <a:pt x="791" y="1665"/>
                  </a:lnTo>
                  <a:lnTo>
                    <a:pt x="833" y="1666"/>
                  </a:lnTo>
                  <a:lnTo>
                    <a:pt x="857" y="1666"/>
                  </a:lnTo>
                  <a:lnTo>
                    <a:pt x="882" y="1665"/>
                  </a:lnTo>
                  <a:lnTo>
                    <a:pt x="906" y="1663"/>
                  </a:lnTo>
                  <a:lnTo>
                    <a:pt x="930" y="1661"/>
                  </a:lnTo>
                  <a:lnTo>
                    <a:pt x="954" y="1658"/>
                  </a:lnTo>
                  <a:lnTo>
                    <a:pt x="977" y="1654"/>
                  </a:lnTo>
                  <a:lnTo>
                    <a:pt x="1000" y="1649"/>
                  </a:lnTo>
                  <a:lnTo>
                    <a:pt x="1024" y="1645"/>
                  </a:lnTo>
                  <a:lnTo>
                    <a:pt x="1047" y="1639"/>
                  </a:lnTo>
                  <a:lnTo>
                    <a:pt x="1069" y="1633"/>
                  </a:lnTo>
                  <a:lnTo>
                    <a:pt x="1091" y="1625"/>
                  </a:lnTo>
                  <a:lnTo>
                    <a:pt x="1114" y="1618"/>
                  </a:lnTo>
                  <a:lnTo>
                    <a:pt x="1135" y="1610"/>
                  </a:lnTo>
                  <a:lnTo>
                    <a:pt x="1157" y="1602"/>
                  </a:lnTo>
                  <a:lnTo>
                    <a:pt x="1177" y="1592"/>
                  </a:lnTo>
                  <a:lnTo>
                    <a:pt x="1199" y="1582"/>
                  </a:lnTo>
                  <a:lnTo>
                    <a:pt x="1181" y="1544"/>
                  </a:lnTo>
                  <a:lnTo>
                    <a:pt x="1160" y="1554"/>
                  </a:lnTo>
                  <a:lnTo>
                    <a:pt x="1141" y="1563"/>
                  </a:lnTo>
                  <a:lnTo>
                    <a:pt x="1120" y="1571"/>
                  </a:lnTo>
                  <a:lnTo>
                    <a:pt x="1100" y="1579"/>
                  </a:lnTo>
                  <a:lnTo>
                    <a:pt x="1078" y="1586"/>
                  </a:lnTo>
                  <a:lnTo>
                    <a:pt x="1057" y="1593"/>
                  </a:lnTo>
                  <a:lnTo>
                    <a:pt x="1036" y="1598"/>
                  </a:lnTo>
                  <a:lnTo>
                    <a:pt x="1014" y="1604"/>
                  </a:lnTo>
                  <a:lnTo>
                    <a:pt x="993" y="1609"/>
                  </a:lnTo>
                  <a:lnTo>
                    <a:pt x="970" y="1613"/>
                  </a:lnTo>
                  <a:lnTo>
                    <a:pt x="947" y="1617"/>
                  </a:lnTo>
                  <a:lnTo>
                    <a:pt x="926" y="1620"/>
                  </a:lnTo>
                  <a:lnTo>
                    <a:pt x="903" y="1622"/>
                  </a:lnTo>
                  <a:lnTo>
                    <a:pt x="879" y="1623"/>
                  </a:lnTo>
                  <a:lnTo>
                    <a:pt x="856" y="1624"/>
                  </a:lnTo>
                  <a:lnTo>
                    <a:pt x="833" y="1624"/>
                  </a:lnTo>
                  <a:lnTo>
                    <a:pt x="793" y="1624"/>
                  </a:lnTo>
                  <a:lnTo>
                    <a:pt x="753" y="1621"/>
                  </a:lnTo>
                  <a:lnTo>
                    <a:pt x="713" y="1616"/>
                  </a:lnTo>
                  <a:lnTo>
                    <a:pt x="674" y="1609"/>
                  </a:lnTo>
                  <a:lnTo>
                    <a:pt x="635" y="1599"/>
                  </a:lnTo>
                  <a:lnTo>
                    <a:pt x="598" y="1590"/>
                  </a:lnTo>
                  <a:lnTo>
                    <a:pt x="561" y="1577"/>
                  </a:lnTo>
                  <a:lnTo>
                    <a:pt x="525" y="1563"/>
                  </a:lnTo>
                  <a:lnTo>
                    <a:pt x="490" y="1546"/>
                  </a:lnTo>
                  <a:lnTo>
                    <a:pt x="456" y="1529"/>
                  </a:lnTo>
                  <a:lnTo>
                    <a:pt x="423" y="1510"/>
                  </a:lnTo>
                  <a:lnTo>
                    <a:pt x="391" y="1489"/>
                  </a:lnTo>
                  <a:lnTo>
                    <a:pt x="359" y="1468"/>
                  </a:lnTo>
                  <a:lnTo>
                    <a:pt x="329" y="1444"/>
                  </a:lnTo>
                  <a:lnTo>
                    <a:pt x="301" y="1419"/>
                  </a:lnTo>
                  <a:lnTo>
                    <a:pt x="273" y="1393"/>
                  </a:lnTo>
                  <a:lnTo>
                    <a:pt x="247" y="1365"/>
                  </a:lnTo>
                  <a:lnTo>
                    <a:pt x="222" y="1337"/>
                  </a:lnTo>
                  <a:lnTo>
                    <a:pt x="198" y="1307"/>
                  </a:lnTo>
                  <a:lnTo>
                    <a:pt x="177" y="1275"/>
                  </a:lnTo>
                  <a:lnTo>
                    <a:pt x="156" y="1244"/>
                  </a:lnTo>
                  <a:lnTo>
                    <a:pt x="137" y="1211"/>
                  </a:lnTo>
                  <a:lnTo>
                    <a:pt x="119" y="1176"/>
                  </a:lnTo>
                  <a:lnTo>
                    <a:pt x="103" y="1141"/>
                  </a:lnTo>
                  <a:lnTo>
                    <a:pt x="89" y="1106"/>
                  </a:lnTo>
                  <a:lnTo>
                    <a:pt x="77" y="1069"/>
                  </a:lnTo>
                  <a:lnTo>
                    <a:pt x="67" y="1031"/>
                  </a:lnTo>
                  <a:lnTo>
                    <a:pt x="58" y="992"/>
                  </a:lnTo>
                  <a:lnTo>
                    <a:pt x="50" y="954"/>
                  </a:lnTo>
                  <a:lnTo>
                    <a:pt x="46" y="915"/>
                  </a:lnTo>
                  <a:lnTo>
                    <a:pt x="43" y="874"/>
                  </a:lnTo>
                  <a:lnTo>
                    <a:pt x="42" y="834"/>
                  </a:lnTo>
                  <a:lnTo>
                    <a:pt x="43" y="793"/>
                  </a:lnTo>
                  <a:lnTo>
                    <a:pt x="46" y="753"/>
                  </a:lnTo>
                  <a:lnTo>
                    <a:pt x="50" y="713"/>
                  </a:lnTo>
                  <a:lnTo>
                    <a:pt x="58" y="674"/>
                  </a:lnTo>
                  <a:lnTo>
                    <a:pt x="67" y="636"/>
                  </a:lnTo>
                  <a:lnTo>
                    <a:pt x="77" y="598"/>
                  </a:lnTo>
                  <a:lnTo>
                    <a:pt x="89" y="562"/>
                  </a:lnTo>
                  <a:lnTo>
                    <a:pt x="103" y="526"/>
                  </a:lnTo>
                  <a:lnTo>
                    <a:pt x="119" y="490"/>
                  </a:lnTo>
                  <a:lnTo>
                    <a:pt x="137" y="457"/>
                  </a:lnTo>
                  <a:lnTo>
                    <a:pt x="156" y="423"/>
                  </a:lnTo>
                  <a:lnTo>
                    <a:pt x="177" y="391"/>
                  </a:lnTo>
                  <a:lnTo>
                    <a:pt x="198" y="360"/>
                  </a:lnTo>
                  <a:lnTo>
                    <a:pt x="222" y="330"/>
                  </a:lnTo>
                  <a:lnTo>
                    <a:pt x="247" y="301"/>
                  </a:lnTo>
                  <a:lnTo>
                    <a:pt x="273" y="274"/>
                  </a:lnTo>
                  <a:lnTo>
                    <a:pt x="301" y="247"/>
                  </a:lnTo>
                  <a:lnTo>
                    <a:pt x="329" y="222"/>
                  </a:lnTo>
                  <a:lnTo>
                    <a:pt x="359" y="200"/>
                  </a:lnTo>
                  <a:lnTo>
                    <a:pt x="391" y="177"/>
                  </a:lnTo>
                  <a:lnTo>
                    <a:pt x="423" y="157"/>
                  </a:lnTo>
                  <a:lnTo>
                    <a:pt x="456" y="137"/>
                  </a:lnTo>
                  <a:lnTo>
                    <a:pt x="490" y="120"/>
                  </a:lnTo>
                  <a:lnTo>
                    <a:pt x="525" y="105"/>
                  </a:lnTo>
                  <a:lnTo>
                    <a:pt x="561" y="91"/>
                  </a:lnTo>
                  <a:lnTo>
                    <a:pt x="598" y="78"/>
                  </a:lnTo>
                  <a:lnTo>
                    <a:pt x="635" y="67"/>
                  </a:lnTo>
                  <a:lnTo>
                    <a:pt x="674" y="58"/>
                  </a:lnTo>
                  <a:lnTo>
                    <a:pt x="713" y="51"/>
                  </a:lnTo>
                  <a:lnTo>
                    <a:pt x="753" y="46"/>
                  </a:lnTo>
                  <a:lnTo>
                    <a:pt x="793" y="43"/>
                  </a:lnTo>
                  <a:lnTo>
                    <a:pt x="833" y="42"/>
                  </a:lnTo>
                  <a:lnTo>
                    <a:pt x="874" y="43"/>
                  </a:lnTo>
                  <a:lnTo>
                    <a:pt x="914" y="46"/>
                  </a:lnTo>
                  <a:lnTo>
                    <a:pt x="954" y="51"/>
                  </a:lnTo>
                  <a:lnTo>
                    <a:pt x="993" y="58"/>
                  </a:lnTo>
                  <a:lnTo>
                    <a:pt x="1031" y="67"/>
                  </a:lnTo>
                  <a:lnTo>
                    <a:pt x="1068" y="78"/>
                  </a:lnTo>
                  <a:lnTo>
                    <a:pt x="1105" y="91"/>
                  </a:lnTo>
                  <a:lnTo>
                    <a:pt x="1142" y="105"/>
                  </a:lnTo>
                  <a:lnTo>
                    <a:pt x="1176" y="120"/>
                  </a:lnTo>
                  <a:lnTo>
                    <a:pt x="1211" y="137"/>
                  </a:lnTo>
                  <a:lnTo>
                    <a:pt x="1243" y="157"/>
                  </a:lnTo>
                  <a:lnTo>
                    <a:pt x="1276" y="177"/>
                  </a:lnTo>
                  <a:lnTo>
                    <a:pt x="1307" y="200"/>
                  </a:lnTo>
                  <a:lnTo>
                    <a:pt x="1337" y="222"/>
                  </a:lnTo>
                  <a:lnTo>
                    <a:pt x="1365" y="247"/>
                  </a:lnTo>
                  <a:lnTo>
                    <a:pt x="1393" y="274"/>
                  </a:lnTo>
                  <a:lnTo>
                    <a:pt x="1419" y="301"/>
                  </a:lnTo>
                  <a:lnTo>
                    <a:pt x="1444" y="330"/>
                  </a:lnTo>
                  <a:lnTo>
                    <a:pt x="1468" y="360"/>
                  </a:lnTo>
                  <a:lnTo>
                    <a:pt x="1490" y="391"/>
                  </a:lnTo>
                  <a:lnTo>
                    <a:pt x="1510" y="423"/>
                  </a:lnTo>
                  <a:lnTo>
                    <a:pt x="1530" y="457"/>
                  </a:lnTo>
                  <a:lnTo>
                    <a:pt x="1547" y="490"/>
                  </a:lnTo>
                  <a:lnTo>
                    <a:pt x="1563" y="526"/>
                  </a:lnTo>
                  <a:lnTo>
                    <a:pt x="1577" y="562"/>
                  </a:lnTo>
                  <a:lnTo>
                    <a:pt x="1589" y="598"/>
                  </a:lnTo>
                  <a:lnTo>
                    <a:pt x="1600" y="636"/>
                  </a:lnTo>
                  <a:lnTo>
                    <a:pt x="1608" y="674"/>
                  </a:lnTo>
                  <a:lnTo>
                    <a:pt x="1616" y="713"/>
                  </a:lnTo>
                  <a:lnTo>
                    <a:pt x="1620" y="753"/>
                  </a:lnTo>
                  <a:lnTo>
                    <a:pt x="1624" y="793"/>
                  </a:lnTo>
                  <a:lnTo>
                    <a:pt x="1625" y="834"/>
                  </a:lnTo>
                  <a:lnTo>
                    <a:pt x="1625" y="860"/>
                  </a:lnTo>
                  <a:lnTo>
                    <a:pt x="1624" y="887"/>
                  </a:lnTo>
                  <a:lnTo>
                    <a:pt x="1621" y="913"/>
                  </a:lnTo>
                  <a:lnTo>
                    <a:pt x="1618" y="938"/>
                  </a:lnTo>
                  <a:lnTo>
                    <a:pt x="1614" y="964"/>
                  </a:lnTo>
                  <a:lnTo>
                    <a:pt x="1610" y="989"/>
                  </a:lnTo>
                  <a:lnTo>
                    <a:pt x="1604" y="1014"/>
                  </a:lnTo>
                  <a:lnTo>
                    <a:pt x="1598" y="1039"/>
                  </a:lnTo>
                  <a:lnTo>
                    <a:pt x="1638" y="1050"/>
                  </a:lnTo>
                  <a:lnTo>
                    <a:pt x="1644" y="1024"/>
                  </a:lnTo>
                  <a:lnTo>
                    <a:pt x="1651" y="998"/>
                  </a:lnTo>
                  <a:lnTo>
                    <a:pt x="1655" y="971"/>
                  </a:lnTo>
                  <a:lnTo>
                    <a:pt x="1659" y="944"/>
                  </a:lnTo>
                  <a:lnTo>
                    <a:pt x="1662" y="917"/>
                  </a:lnTo>
                  <a:lnTo>
                    <a:pt x="1665" y="889"/>
                  </a:lnTo>
                  <a:lnTo>
                    <a:pt x="1666" y="862"/>
                  </a:lnTo>
                  <a:lnTo>
                    <a:pt x="1667" y="834"/>
                  </a:lnTo>
                  <a:close/>
                </a:path>
              </a:pathLst>
            </a:custGeom>
            <a:solidFill>
              <a:srgbClr val="f1e6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251240" y="2674800"/>
              <a:ext cx="644760" cy="644760"/>
            </a:xfrm>
            <a:custGeom>
              <a:avLst/>
              <a:gdLst/>
              <a:ahLst/>
              <a:rect l="l" t="t" r="r" b="b"/>
              <a:pathLst>
                <a:path w="1624" h="1624">
                  <a:moveTo>
                    <a:pt x="1624" y="812"/>
                  </a:moveTo>
                  <a:lnTo>
                    <a:pt x="1623" y="770"/>
                  </a:lnTo>
                  <a:lnTo>
                    <a:pt x="1621" y="729"/>
                  </a:lnTo>
                  <a:lnTo>
                    <a:pt x="1616" y="687"/>
                  </a:lnTo>
                  <a:lnTo>
                    <a:pt x="1608" y="648"/>
                  </a:lnTo>
                  <a:lnTo>
                    <a:pt x="1599" y="609"/>
                  </a:lnTo>
                  <a:lnTo>
                    <a:pt x="1589" y="570"/>
                  </a:lnTo>
                  <a:lnTo>
                    <a:pt x="1576" y="532"/>
                  </a:lnTo>
                  <a:lnTo>
                    <a:pt x="1560" y="495"/>
                  </a:lnTo>
                  <a:lnTo>
                    <a:pt x="1544" y="460"/>
                  </a:lnTo>
                  <a:lnTo>
                    <a:pt x="1527" y="424"/>
                  </a:lnTo>
                  <a:lnTo>
                    <a:pt x="1508" y="390"/>
                  </a:lnTo>
                  <a:lnTo>
                    <a:pt x="1486" y="357"/>
                  </a:lnTo>
                  <a:lnTo>
                    <a:pt x="1463" y="326"/>
                  </a:lnTo>
                  <a:lnTo>
                    <a:pt x="1439" y="294"/>
                  </a:lnTo>
                  <a:lnTo>
                    <a:pt x="1414" y="265"/>
                  </a:lnTo>
                  <a:lnTo>
                    <a:pt x="1386" y="237"/>
                  </a:lnTo>
                  <a:lnTo>
                    <a:pt x="1358" y="210"/>
                  </a:lnTo>
                  <a:lnTo>
                    <a:pt x="1329" y="184"/>
                  </a:lnTo>
                  <a:lnTo>
                    <a:pt x="1298" y="160"/>
                  </a:lnTo>
                  <a:lnTo>
                    <a:pt x="1267" y="138"/>
                  </a:lnTo>
                  <a:lnTo>
                    <a:pt x="1233" y="117"/>
                  </a:lnTo>
                  <a:lnTo>
                    <a:pt x="1200" y="98"/>
                  </a:lnTo>
                  <a:lnTo>
                    <a:pt x="1164" y="79"/>
                  </a:lnTo>
                  <a:lnTo>
                    <a:pt x="1128" y="63"/>
                  </a:lnTo>
                  <a:lnTo>
                    <a:pt x="1092" y="48"/>
                  </a:lnTo>
                  <a:lnTo>
                    <a:pt x="1054" y="36"/>
                  </a:lnTo>
                  <a:lnTo>
                    <a:pt x="1015" y="24"/>
                  </a:lnTo>
                  <a:lnTo>
                    <a:pt x="976" y="16"/>
                  </a:lnTo>
                  <a:lnTo>
                    <a:pt x="936" y="8"/>
                  </a:lnTo>
                  <a:lnTo>
                    <a:pt x="895" y="4"/>
                  </a:lnTo>
                  <a:lnTo>
                    <a:pt x="854" y="1"/>
                  </a:lnTo>
                  <a:lnTo>
                    <a:pt x="812" y="0"/>
                  </a:lnTo>
                  <a:lnTo>
                    <a:pt x="771" y="1"/>
                  </a:lnTo>
                  <a:lnTo>
                    <a:pt x="730" y="4"/>
                  </a:lnTo>
                  <a:lnTo>
                    <a:pt x="688" y="8"/>
                  </a:lnTo>
                  <a:lnTo>
                    <a:pt x="648" y="16"/>
                  </a:lnTo>
                  <a:lnTo>
                    <a:pt x="610" y="24"/>
                  </a:lnTo>
                  <a:lnTo>
                    <a:pt x="571" y="36"/>
                  </a:lnTo>
                  <a:lnTo>
                    <a:pt x="533" y="48"/>
                  </a:lnTo>
                  <a:lnTo>
                    <a:pt x="496" y="63"/>
                  </a:lnTo>
                  <a:lnTo>
                    <a:pt x="459" y="79"/>
                  </a:lnTo>
                  <a:lnTo>
                    <a:pt x="425" y="98"/>
                  </a:lnTo>
                  <a:lnTo>
                    <a:pt x="391" y="117"/>
                  </a:lnTo>
                  <a:lnTo>
                    <a:pt x="358" y="138"/>
                  </a:lnTo>
                  <a:lnTo>
                    <a:pt x="326" y="160"/>
                  </a:lnTo>
                  <a:lnTo>
                    <a:pt x="295" y="184"/>
                  </a:lnTo>
                  <a:lnTo>
                    <a:pt x="266" y="210"/>
                  </a:lnTo>
                  <a:lnTo>
                    <a:pt x="238" y="237"/>
                  </a:lnTo>
                  <a:lnTo>
                    <a:pt x="211" y="265"/>
                  </a:lnTo>
                  <a:lnTo>
                    <a:pt x="185" y="294"/>
                  </a:lnTo>
                  <a:lnTo>
                    <a:pt x="161" y="326"/>
                  </a:lnTo>
                  <a:lnTo>
                    <a:pt x="138" y="357"/>
                  </a:lnTo>
                  <a:lnTo>
                    <a:pt x="117" y="390"/>
                  </a:lnTo>
                  <a:lnTo>
                    <a:pt x="97" y="424"/>
                  </a:lnTo>
                  <a:lnTo>
                    <a:pt x="80" y="460"/>
                  </a:lnTo>
                  <a:lnTo>
                    <a:pt x="64" y="495"/>
                  </a:lnTo>
                  <a:lnTo>
                    <a:pt x="49" y="532"/>
                  </a:lnTo>
                  <a:lnTo>
                    <a:pt x="36" y="570"/>
                  </a:lnTo>
                  <a:lnTo>
                    <a:pt x="25" y="609"/>
                  </a:lnTo>
                  <a:lnTo>
                    <a:pt x="16" y="648"/>
                  </a:lnTo>
                  <a:lnTo>
                    <a:pt x="9" y="687"/>
                  </a:lnTo>
                  <a:lnTo>
                    <a:pt x="3" y="729"/>
                  </a:lnTo>
                  <a:lnTo>
                    <a:pt x="0" y="770"/>
                  </a:lnTo>
                  <a:lnTo>
                    <a:pt x="0" y="812"/>
                  </a:lnTo>
                  <a:lnTo>
                    <a:pt x="0" y="853"/>
                  </a:lnTo>
                  <a:lnTo>
                    <a:pt x="3" y="895"/>
                  </a:lnTo>
                  <a:lnTo>
                    <a:pt x="9" y="935"/>
                  </a:lnTo>
                  <a:lnTo>
                    <a:pt x="16" y="975"/>
                  </a:lnTo>
                  <a:lnTo>
                    <a:pt x="25" y="1015"/>
                  </a:lnTo>
                  <a:lnTo>
                    <a:pt x="36" y="1053"/>
                  </a:lnTo>
                  <a:lnTo>
                    <a:pt x="49" y="1090"/>
                  </a:lnTo>
                  <a:lnTo>
                    <a:pt x="64" y="1127"/>
                  </a:lnTo>
                  <a:lnTo>
                    <a:pt x="80" y="1164"/>
                  </a:lnTo>
                  <a:lnTo>
                    <a:pt x="97" y="1198"/>
                  </a:lnTo>
                  <a:lnTo>
                    <a:pt x="117" y="1233"/>
                  </a:lnTo>
                  <a:lnTo>
                    <a:pt x="138" y="1265"/>
                  </a:lnTo>
                  <a:lnTo>
                    <a:pt x="161" y="1298"/>
                  </a:lnTo>
                  <a:lnTo>
                    <a:pt x="185" y="1328"/>
                  </a:lnTo>
                  <a:lnTo>
                    <a:pt x="211" y="1357"/>
                  </a:lnTo>
                  <a:lnTo>
                    <a:pt x="238" y="1385"/>
                  </a:lnTo>
                  <a:lnTo>
                    <a:pt x="266" y="1412"/>
                  </a:lnTo>
                  <a:lnTo>
                    <a:pt x="295" y="1438"/>
                  </a:lnTo>
                  <a:lnTo>
                    <a:pt x="326" y="1462"/>
                  </a:lnTo>
                  <a:lnTo>
                    <a:pt x="358" y="1485"/>
                  </a:lnTo>
                  <a:lnTo>
                    <a:pt x="391" y="1506"/>
                  </a:lnTo>
                  <a:lnTo>
                    <a:pt x="425" y="1526"/>
                  </a:lnTo>
                  <a:lnTo>
                    <a:pt x="459" y="1544"/>
                  </a:lnTo>
                  <a:lnTo>
                    <a:pt x="496" y="1560"/>
                  </a:lnTo>
                  <a:lnTo>
                    <a:pt x="533" y="1574"/>
                  </a:lnTo>
                  <a:lnTo>
                    <a:pt x="571" y="1587"/>
                  </a:lnTo>
                  <a:lnTo>
                    <a:pt x="610" y="1598"/>
                  </a:lnTo>
                  <a:lnTo>
                    <a:pt x="648" y="1607"/>
                  </a:lnTo>
                  <a:lnTo>
                    <a:pt x="688" y="1614"/>
                  </a:lnTo>
                  <a:lnTo>
                    <a:pt x="730" y="1620"/>
                  </a:lnTo>
                  <a:lnTo>
                    <a:pt x="771" y="1623"/>
                  </a:lnTo>
                  <a:lnTo>
                    <a:pt x="812" y="1624"/>
                  </a:lnTo>
                  <a:lnTo>
                    <a:pt x="836" y="1623"/>
                  </a:lnTo>
                  <a:lnTo>
                    <a:pt x="860" y="1622"/>
                  </a:lnTo>
                  <a:lnTo>
                    <a:pt x="883" y="1621"/>
                  </a:lnTo>
                  <a:lnTo>
                    <a:pt x="907" y="1618"/>
                  </a:lnTo>
                  <a:lnTo>
                    <a:pt x="929" y="1615"/>
                  </a:lnTo>
                  <a:lnTo>
                    <a:pt x="953" y="1612"/>
                  </a:lnTo>
                  <a:lnTo>
                    <a:pt x="976" y="1608"/>
                  </a:lnTo>
                  <a:lnTo>
                    <a:pt x="997" y="1602"/>
                  </a:lnTo>
                  <a:lnTo>
                    <a:pt x="1020" y="1597"/>
                  </a:lnTo>
                  <a:lnTo>
                    <a:pt x="1042" y="1590"/>
                  </a:lnTo>
                  <a:lnTo>
                    <a:pt x="1063" y="1584"/>
                  </a:lnTo>
                  <a:lnTo>
                    <a:pt x="1085" y="1576"/>
                  </a:lnTo>
                  <a:lnTo>
                    <a:pt x="1107" y="1569"/>
                  </a:lnTo>
                  <a:lnTo>
                    <a:pt x="1127" y="1560"/>
                  </a:lnTo>
                  <a:lnTo>
                    <a:pt x="1148" y="1551"/>
                  </a:lnTo>
                  <a:lnTo>
                    <a:pt x="1168" y="1542"/>
                  </a:lnTo>
                  <a:lnTo>
                    <a:pt x="1150" y="1504"/>
                  </a:lnTo>
                  <a:lnTo>
                    <a:pt x="1130" y="1514"/>
                  </a:lnTo>
                  <a:lnTo>
                    <a:pt x="1111" y="1521"/>
                  </a:lnTo>
                  <a:lnTo>
                    <a:pt x="1092" y="1530"/>
                  </a:lnTo>
                  <a:lnTo>
                    <a:pt x="1071" y="1537"/>
                  </a:lnTo>
                  <a:lnTo>
                    <a:pt x="1050" y="1544"/>
                  </a:lnTo>
                  <a:lnTo>
                    <a:pt x="1030" y="1550"/>
                  </a:lnTo>
                  <a:lnTo>
                    <a:pt x="1009" y="1557"/>
                  </a:lnTo>
                  <a:lnTo>
                    <a:pt x="989" y="1561"/>
                  </a:lnTo>
                  <a:lnTo>
                    <a:pt x="967" y="1567"/>
                  </a:lnTo>
                  <a:lnTo>
                    <a:pt x="946" y="1571"/>
                  </a:lnTo>
                  <a:lnTo>
                    <a:pt x="924" y="1574"/>
                  </a:lnTo>
                  <a:lnTo>
                    <a:pt x="901" y="1576"/>
                  </a:lnTo>
                  <a:lnTo>
                    <a:pt x="880" y="1578"/>
                  </a:lnTo>
                  <a:lnTo>
                    <a:pt x="857" y="1581"/>
                  </a:lnTo>
                  <a:lnTo>
                    <a:pt x="834" y="1582"/>
                  </a:lnTo>
                  <a:lnTo>
                    <a:pt x="812" y="1582"/>
                  </a:lnTo>
                  <a:lnTo>
                    <a:pt x="773" y="1581"/>
                  </a:lnTo>
                  <a:lnTo>
                    <a:pt x="734" y="1578"/>
                  </a:lnTo>
                  <a:lnTo>
                    <a:pt x="695" y="1573"/>
                  </a:lnTo>
                  <a:lnTo>
                    <a:pt x="657" y="1567"/>
                  </a:lnTo>
                  <a:lnTo>
                    <a:pt x="619" y="1558"/>
                  </a:lnTo>
                  <a:lnTo>
                    <a:pt x="583" y="1547"/>
                  </a:lnTo>
                  <a:lnTo>
                    <a:pt x="547" y="1535"/>
                  </a:lnTo>
                  <a:lnTo>
                    <a:pt x="512" y="1521"/>
                  </a:lnTo>
                  <a:lnTo>
                    <a:pt x="478" y="1506"/>
                  </a:lnTo>
                  <a:lnTo>
                    <a:pt x="444" y="1489"/>
                  </a:lnTo>
                  <a:lnTo>
                    <a:pt x="413" y="1470"/>
                  </a:lnTo>
                  <a:lnTo>
                    <a:pt x="382" y="1450"/>
                  </a:lnTo>
                  <a:lnTo>
                    <a:pt x="351" y="1428"/>
                  </a:lnTo>
                  <a:lnTo>
                    <a:pt x="322" y="1406"/>
                  </a:lnTo>
                  <a:lnTo>
                    <a:pt x="294" y="1382"/>
                  </a:lnTo>
                  <a:lnTo>
                    <a:pt x="267" y="1356"/>
                  </a:lnTo>
                  <a:lnTo>
                    <a:pt x="241" y="1329"/>
                  </a:lnTo>
                  <a:lnTo>
                    <a:pt x="217" y="1302"/>
                  </a:lnTo>
                  <a:lnTo>
                    <a:pt x="195" y="1273"/>
                  </a:lnTo>
                  <a:lnTo>
                    <a:pt x="173" y="1243"/>
                  </a:lnTo>
                  <a:lnTo>
                    <a:pt x="153" y="1211"/>
                  </a:lnTo>
                  <a:lnTo>
                    <a:pt x="134" y="1179"/>
                  </a:lnTo>
                  <a:lnTo>
                    <a:pt x="117" y="1145"/>
                  </a:lnTo>
                  <a:lnTo>
                    <a:pt x="102" y="1111"/>
                  </a:lnTo>
                  <a:lnTo>
                    <a:pt x="88" y="1076"/>
                  </a:lnTo>
                  <a:lnTo>
                    <a:pt x="76" y="1041"/>
                  </a:lnTo>
                  <a:lnTo>
                    <a:pt x="66" y="1004"/>
                  </a:lnTo>
                  <a:lnTo>
                    <a:pt x="57" y="967"/>
                  </a:lnTo>
                  <a:lnTo>
                    <a:pt x="50" y="928"/>
                  </a:lnTo>
                  <a:lnTo>
                    <a:pt x="46" y="891"/>
                  </a:lnTo>
                  <a:lnTo>
                    <a:pt x="42" y="851"/>
                  </a:lnTo>
                  <a:lnTo>
                    <a:pt x="41" y="812"/>
                  </a:lnTo>
                  <a:lnTo>
                    <a:pt x="42" y="772"/>
                  </a:lnTo>
                  <a:lnTo>
                    <a:pt x="46" y="733"/>
                  </a:lnTo>
                  <a:lnTo>
                    <a:pt x="50" y="694"/>
                  </a:lnTo>
                  <a:lnTo>
                    <a:pt x="57" y="656"/>
                  </a:lnTo>
                  <a:lnTo>
                    <a:pt x="66" y="618"/>
                  </a:lnTo>
                  <a:lnTo>
                    <a:pt x="76" y="583"/>
                  </a:lnTo>
                  <a:lnTo>
                    <a:pt x="88" y="546"/>
                  </a:lnTo>
                  <a:lnTo>
                    <a:pt x="102" y="511"/>
                  </a:lnTo>
                  <a:lnTo>
                    <a:pt x="117" y="477"/>
                  </a:lnTo>
                  <a:lnTo>
                    <a:pt x="134" y="444"/>
                  </a:lnTo>
                  <a:lnTo>
                    <a:pt x="153" y="412"/>
                  </a:lnTo>
                  <a:lnTo>
                    <a:pt x="173" y="381"/>
                  </a:lnTo>
                  <a:lnTo>
                    <a:pt x="195" y="351"/>
                  </a:lnTo>
                  <a:lnTo>
                    <a:pt x="217" y="321"/>
                  </a:lnTo>
                  <a:lnTo>
                    <a:pt x="241" y="293"/>
                  </a:lnTo>
                  <a:lnTo>
                    <a:pt x="267" y="266"/>
                  </a:lnTo>
                  <a:lnTo>
                    <a:pt x="294" y="241"/>
                  </a:lnTo>
                  <a:lnTo>
                    <a:pt x="322" y="217"/>
                  </a:lnTo>
                  <a:lnTo>
                    <a:pt x="351" y="194"/>
                  </a:lnTo>
                  <a:lnTo>
                    <a:pt x="382" y="172"/>
                  </a:lnTo>
                  <a:lnTo>
                    <a:pt x="413" y="153"/>
                  </a:lnTo>
                  <a:lnTo>
                    <a:pt x="444" y="133"/>
                  </a:lnTo>
                  <a:lnTo>
                    <a:pt x="478" y="117"/>
                  </a:lnTo>
                  <a:lnTo>
                    <a:pt x="512" y="101"/>
                  </a:lnTo>
                  <a:lnTo>
                    <a:pt x="547" y="88"/>
                  </a:lnTo>
                  <a:lnTo>
                    <a:pt x="583" y="75"/>
                  </a:lnTo>
                  <a:lnTo>
                    <a:pt x="619" y="65"/>
                  </a:lnTo>
                  <a:lnTo>
                    <a:pt x="657" y="57"/>
                  </a:lnTo>
                  <a:lnTo>
                    <a:pt x="695" y="50"/>
                  </a:lnTo>
                  <a:lnTo>
                    <a:pt x="734" y="45"/>
                  </a:lnTo>
                  <a:lnTo>
                    <a:pt x="773" y="42"/>
                  </a:lnTo>
                  <a:lnTo>
                    <a:pt x="812" y="41"/>
                  </a:lnTo>
                  <a:lnTo>
                    <a:pt x="852" y="42"/>
                  </a:lnTo>
                  <a:lnTo>
                    <a:pt x="891" y="45"/>
                  </a:lnTo>
                  <a:lnTo>
                    <a:pt x="929" y="50"/>
                  </a:lnTo>
                  <a:lnTo>
                    <a:pt x="967" y="57"/>
                  </a:lnTo>
                  <a:lnTo>
                    <a:pt x="1005" y="65"/>
                  </a:lnTo>
                  <a:lnTo>
                    <a:pt x="1042" y="75"/>
                  </a:lnTo>
                  <a:lnTo>
                    <a:pt x="1077" y="88"/>
                  </a:lnTo>
                  <a:lnTo>
                    <a:pt x="1112" y="101"/>
                  </a:lnTo>
                  <a:lnTo>
                    <a:pt x="1147" y="117"/>
                  </a:lnTo>
                  <a:lnTo>
                    <a:pt x="1180" y="133"/>
                  </a:lnTo>
                  <a:lnTo>
                    <a:pt x="1211" y="153"/>
                  </a:lnTo>
                  <a:lnTo>
                    <a:pt x="1243" y="172"/>
                  </a:lnTo>
                  <a:lnTo>
                    <a:pt x="1273" y="194"/>
                  </a:lnTo>
                  <a:lnTo>
                    <a:pt x="1302" y="217"/>
                  </a:lnTo>
                  <a:lnTo>
                    <a:pt x="1330" y="241"/>
                  </a:lnTo>
                  <a:lnTo>
                    <a:pt x="1357" y="266"/>
                  </a:lnTo>
                  <a:lnTo>
                    <a:pt x="1383" y="293"/>
                  </a:lnTo>
                  <a:lnTo>
                    <a:pt x="1407" y="321"/>
                  </a:lnTo>
                  <a:lnTo>
                    <a:pt x="1430" y="351"/>
                  </a:lnTo>
                  <a:lnTo>
                    <a:pt x="1451" y="381"/>
                  </a:lnTo>
                  <a:lnTo>
                    <a:pt x="1472" y="412"/>
                  </a:lnTo>
                  <a:lnTo>
                    <a:pt x="1490" y="444"/>
                  </a:lnTo>
                  <a:lnTo>
                    <a:pt x="1508" y="477"/>
                  </a:lnTo>
                  <a:lnTo>
                    <a:pt x="1523" y="511"/>
                  </a:lnTo>
                  <a:lnTo>
                    <a:pt x="1537" y="546"/>
                  </a:lnTo>
                  <a:lnTo>
                    <a:pt x="1549" y="583"/>
                  </a:lnTo>
                  <a:lnTo>
                    <a:pt x="1558" y="618"/>
                  </a:lnTo>
                  <a:lnTo>
                    <a:pt x="1567" y="656"/>
                  </a:lnTo>
                  <a:lnTo>
                    <a:pt x="1575" y="694"/>
                  </a:lnTo>
                  <a:lnTo>
                    <a:pt x="1579" y="733"/>
                  </a:lnTo>
                  <a:lnTo>
                    <a:pt x="1582" y="772"/>
                  </a:lnTo>
                  <a:lnTo>
                    <a:pt x="1583" y="812"/>
                  </a:lnTo>
                  <a:lnTo>
                    <a:pt x="1582" y="838"/>
                  </a:lnTo>
                  <a:lnTo>
                    <a:pt x="1581" y="862"/>
                  </a:lnTo>
                  <a:lnTo>
                    <a:pt x="1579" y="888"/>
                  </a:lnTo>
                  <a:lnTo>
                    <a:pt x="1577" y="913"/>
                  </a:lnTo>
                  <a:lnTo>
                    <a:pt x="1572" y="938"/>
                  </a:lnTo>
                  <a:lnTo>
                    <a:pt x="1568" y="963"/>
                  </a:lnTo>
                  <a:lnTo>
                    <a:pt x="1563" y="988"/>
                  </a:lnTo>
                  <a:lnTo>
                    <a:pt x="1556" y="1011"/>
                  </a:lnTo>
                  <a:lnTo>
                    <a:pt x="1597" y="1022"/>
                  </a:lnTo>
                  <a:lnTo>
                    <a:pt x="1604" y="997"/>
                  </a:lnTo>
                  <a:lnTo>
                    <a:pt x="1609" y="972"/>
                  </a:lnTo>
                  <a:lnTo>
                    <a:pt x="1613" y="946"/>
                  </a:lnTo>
                  <a:lnTo>
                    <a:pt x="1618" y="919"/>
                  </a:lnTo>
                  <a:lnTo>
                    <a:pt x="1621" y="893"/>
                  </a:lnTo>
                  <a:lnTo>
                    <a:pt x="1623" y="866"/>
                  </a:lnTo>
                  <a:lnTo>
                    <a:pt x="1624" y="839"/>
                  </a:lnTo>
                  <a:lnTo>
                    <a:pt x="1624" y="81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59160" y="2682720"/>
              <a:ext cx="628920" cy="628920"/>
            </a:xfrm>
            <a:custGeom>
              <a:avLst/>
              <a:gdLst/>
              <a:ahLst/>
              <a:rect l="l" t="t" r="r" b="b"/>
              <a:pathLst>
                <a:path w="1583" h="1582">
                  <a:moveTo>
                    <a:pt x="1583" y="792"/>
                  </a:moveTo>
                  <a:lnTo>
                    <a:pt x="1582" y="751"/>
                  </a:lnTo>
                  <a:lnTo>
                    <a:pt x="1578" y="711"/>
                  </a:lnTo>
                  <a:lnTo>
                    <a:pt x="1574" y="671"/>
                  </a:lnTo>
                  <a:lnTo>
                    <a:pt x="1566" y="632"/>
                  </a:lnTo>
                  <a:lnTo>
                    <a:pt x="1558" y="594"/>
                  </a:lnTo>
                  <a:lnTo>
                    <a:pt x="1547" y="556"/>
                  </a:lnTo>
                  <a:lnTo>
                    <a:pt x="1535" y="520"/>
                  </a:lnTo>
                  <a:lnTo>
                    <a:pt x="1521" y="484"/>
                  </a:lnTo>
                  <a:lnTo>
                    <a:pt x="1505" y="448"/>
                  </a:lnTo>
                  <a:lnTo>
                    <a:pt x="1488" y="415"/>
                  </a:lnTo>
                  <a:lnTo>
                    <a:pt x="1468" y="381"/>
                  </a:lnTo>
                  <a:lnTo>
                    <a:pt x="1448" y="349"/>
                  </a:lnTo>
                  <a:lnTo>
                    <a:pt x="1426" y="318"/>
                  </a:lnTo>
                  <a:lnTo>
                    <a:pt x="1402" y="288"/>
                  </a:lnTo>
                  <a:lnTo>
                    <a:pt x="1377" y="259"/>
                  </a:lnTo>
                  <a:lnTo>
                    <a:pt x="1351" y="232"/>
                  </a:lnTo>
                  <a:lnTo>
                    <a:pt x="1323" y="205"/>
                  </a:lnTo>
                  <a:lnTo>
                    <a:pt x="1295" y="180"/>
                  </a:lnTo>
                  <a:lnTo>
                    <a:pt x="1265" y="158"/>
                  </a:lnTo>
                  <a:lnTo>
                    <a:pt x="1234" y="135"/>
                  </a:lnTo>
                  <a:lnTo>
                    <a:pt x="1201" y="115"/>
                  </a:lnTo>
                  <a:lnTo>
                    <a:pt x="1169" y="95"/>
                  </a:lnTo>
                  <a:lnTo>
                    <a:pt x="1134" y="78"/>
                  </a:lnTo>
                  <a:lnTo>
                    <a:pt x="1100" y="63"/>
                  </a:lnTo>
                  <a:lnTo>
                    <a:pt x="1063" y="49"/>
                  </a:lnTo>
                  <a:lnTo>
                    <a:pt x="1026" y="36"/>
                  </a:lnTo>
                  <a:lnTo>
                    <a:pt x="989" y="25"/>
                  </a:lnTo>
                  <a:lnTo>
                    <a:pt x="951" y="16"/>
                  </a:lnTo>
                  <a:lnTo>
                    <a:pt x="912" y="9"/>
                  </a:lnTo>
                  <a:lnTo>
                    <a:pt x="872" y="4"/>
                  </a:lnTo>
                  <a:lnTo>
                    <a:pt x="832" y="1"/>
                  </a:lnTo>
                  <a:lnTo>
                    <a:pt x="791" y="0"/>
                  </a:lnTo>
                  <a:lnTo>
                    <a:pt x="751" y="1"/>
                  </a:lnTo>
                  <a:lnTo>
                    <a:pt x="711" y="4"/>
                  </a:lnTo>
                  <a:lnTo>
                    <a:pt x="671" y="9"/>
                  </a:lnTo>
                  <a:lnTo>
                    <a:pt x="632" y="16"/>
                  </a:lnTo>
                  <a:lnTo>
                    <a:pt x="593" y="25"/>
                  </a:lnTo>
                  <a:lnTo>
                    <a:pt x="556" y="36"/>
                  </a:lnTo>
                  <a:lnTo>
                    <a:pt x="519" y="49"/>
                  </a:lnTo>
                  <a:lnTo>
                    <a:pt x="483" y="63"/>
                  </a:lnTo>
                  <a:lnTo>
                    <a:pt x="448" y="78"/>
                  </a:lnTo>
                  <a:lnTo>
                    <a:pt x="414" y="95"/>
                  </a:lnTo>
                  <a:lnTo>
                    <a:pt x="381" y="115"/>
                  </a:lnTo>
                  <a:lnTo>
                    <a:pt x="349" y="135"/>
                  </a:lnTo>
                  <a:lnTo>
                    <a:pt x="317" y="158"/>
                  </a:lnTo>
                  <a:lnTo>
                    <a:pt x="287" y="180"/>
                  </a:lnTo>
                  <a:lnTo>
                    <a:pt x="259" y="205"/>
                  </a:lnTo>
                  <a:lnTo>
                    <a:pt x="231" y="232"/>
                  </a:lnTo>
                  <a:lnTo>
                    <a:pt x="205" y="259"/>
                  </a:lnTo>
                  <a:lnTo>
                    <a:pt x="180" y="288"/>
                  </a:lnTo>
                  <a:lnTo>
                    <a:pt x="156" y="318"/>
                  </a:lnTo>
                  <a:lnTo>
                    <a:pt x="135" y="349"/>
                  </a:lnTo>
                  <a:lnTo>
                    <a:pt x="114" y="381"/>
                  </a:lnTo>
                  <a:lnTo>
                    <a:pt x="95" y="415"/>
                  </a:lnTo>
                  <a:lnTo>
                    <a:pt x="77" y="448"/>
                  </a:lnTo>
                  <a:lnTo>
                    <a:pt x="61" y="484"/>
                  </a:lnTo>
                  <a:lnTo>
                    <a:pt x="47" y="520"/>
                  </a:lnTo>
                  <a:lnTo>
                    <a:pt x="35" y="556"/>
                  </a:lnTo>
                  <a:lnTo>
                    <a:pt x="25" y="594"/>
                  </a:lnTo>
                  <a:lnTo>
                    <a:pt x="16" y="632"/>
                  </a:lnTo>
                  <a:lnTo>
                    <a:pt x="8" y="671"/>
                  </a:lnTo>
                  <a:lnTo>
                    <a:pt x="4" y="711"/>
                  </a:lnTo>
                  <a:lnTo>
                    <a:pt x="1" y="751"/>
                  </a:lnTo>
                  <a:lnTo>
                    <a:pt x="0" y="792"/>
                  </a:lnTo>
                  <a:lnTo>
                    <a:pt x="1" y="832"/>
                  </a:lnTo>
                  <a:lnTo>
                    <a:pt x="4" y="873"/>
                  </a:lnTo>
                  <a:lnTo>
                    <a:pt x="8" y="912"/>
                  </a:lnTo>
                  <a:lnTo>
                    <a:pt x="16" y="950"/>
                  </a:lnTo>
                  <a:lnTo>
                    <a:pt x="25" y="989"/>
                  </a:lnTo>
                  <a:lnTo>
                    <a:pt x="35" y="1027"/>
                  </a:lnTo>
                  <a:lnTo>
                    <a:pt x="47" y="1064"/>
                  </a:lnTo>
                  <a:lnTo>
                    <a:pt x="61" y="1099"/>
                  </a:lnTo>
                  <a:lnTo>
                    <a:pt x="77" y="1134"/>
                  </a:lnTo>
                  <a:lnTo>
                    <a:pt x="95" y="1169"/>
                  </a:lnTo>
                  <a:lnTo>
                    <a:pt x="114" y="1202"/>
                  </a:lnTo>
                  <a:lnTo>
                    <a:pt x="135" y="1233"/>
                  </a:lnTo>
                  <a:lnTo>
                    <a:pt x="156" y="1265"/>
                  </a:lnTo>
                  <a:lnTo>
                    <a:pt x="180" y="1295"/>
                  </a:lnTo>
                  <a:lnTo>
                    <a:pt x="205" y="1323"/>
                  </a:lnTo>
                  <a:lnTo>
                    <a:pt x="231" y="1351"/>
                  </a:lnTo>
                  <a:lnTo>
                    <a:pt x="259" y="1377"/>
                  </a:lnTo>
                  <a:lnTo>
                    <a:pt x="287" y="1402"/>
                  </a:lnTo>
                  <a:lnTo>
                    <a:pt x="317" y="1426"/>
                  </a:lnTo>
                  <a:lnTo>
                    <a:pt x="349" y="1447"/>
                  </a:lnTo>
                  <a:lnTo>
                    <a:pt x="381" y="1468"/>
                  </a:lnTo>
                  <a:lnTo>
                    <a:pt x="414" y="1487"/>
                  </a:lnTo>
                  <a:lnTo>
                    <a:pt x="448" y="1504"/>
                  </a:lnTo>
                  <a:lnTo>
                    <a:pt x="483" y="1521"/>
                  </a:lnTo>
                  <a:lnTo>
                    <a:pt x="519" y="1535"/>
                  </a:lnTo>
                  <a:lnTo>
                    <a:pt x="556" y="1548"/>
                  </a:lnTo>
                  <a:lnTo>
                    <a:pt x="593" y="1557"/>
                  </a:lnTo>
                  <a:lnTo>
                    <a:pt x="632" y="1567"/>
                  </a:lnTo>
                  <a:lnTo>
                    <a:pt x="671" y="1574"/>
                  </a:lnTo>
                  <a:lnTo>
                    <a:pt x="711" y="1579"/>
                  </a:lnTo>
                  <a:lnTo>
                    <a:pt x="751" y="1582"/>
                  </a:lnTo>
                  <a:lnTo>
                    <a:pt x="791" y="1582"/>
                  </a:lnTo>
                  <a:lnTo>
                    <a:pt x="814" y="1582"/>
                  </a:lnTo>
                  <a:lnTo>
                    <a:pt x="837" y="1581"/>
                  </a:lnTo>
                  <a:lnTo>
                    <a:pt x="861" y="1580"/>
                  </a:lnTo>
                  <a:lnTo>
                    <a:pt x="884" y="1578"/>
                  </a:lnTo>
                  <a:lnTo>
                    <a:pt x="905" y="1575"/>
                  </a:lnTo>
                  <a:lnTo>
                    <a:pt x="928" y="1571"/>
                  </a:lnTo>
                  <a:lnTo>
                    <a:pt x="951" y="1567"/>
                  </a:lnTo>
                  <a:lnTo>
                    <a:pt x="972" y="1562"/>
                  </a:lnTo>
                  <a:lnTo>
                    <a:pt x="994" y="1556"/>
                  </a:lnTo>
                  <a:lnTo>
                    <a:pt x="1015" y="1551"/>
                  </a:lnTo>
                  <a:lnTo>
                    <a:pt x="1036" y="1544"/>
                  </a:lnTo>
                  <a:lnTo>
                    <a:pt x="1058" y="1537"/>
                  </a:lnTo>
                  <a:lnTo>
                    <a:pt x="1078" y="1529"/>
                  </a:lnTo>
                  <a:lnTo>
                    <a:pt x="1099" y="1521"/>
                  </a:lnTo>
                  <a:lnTo>
                    <a:pt x="1118" y="1512"/>
                  </a:lnTo>
                  <a:lnTo>
                    <a:pt x="1139" y="1502"/>
                  </a:lnTo>
                  <a:lnTo>
                    <a:pt x="1120" y="1466"/>
                  </a:lnTo>
                  <a:lnTo>
                    <a:pt x="1101" y="1474"/>
                  </a:lnTo>
                  <a:lnTo>
                    <a:pt x="1082" y="1483"/>
                  </a:lnTo>
                  <a:lnTo>
                    <a:pt x="1063" y="1490"/>
                  </a:lnTo>
                  <a:lnTo>
                    <a:pt x="1043" y="1498"/>
                  </a:lnTo>
                  <a:lnTo>
                    <a:pt x="1023" y="1504"/>
                  </a:lnTo>
                  <a:lnTo>
                    <a:pt x="1004" y="1511"/>
                  </a:lnTo>
                  <a:lnTo>
                    <a:pt x="983" y="1516"/>
                  </a:lnTo>
                  <a:lnTo>
                    <a:pt x="962" y="1522"/>
                  </a:lnTo>
                  <a:lnTo>
                    <a:pt x="942" y="1526"/>
                  </a:lnTo>
                  <a:lnTo>
                    <a:pt x="921" y="1530"/>
                  </a:lnTo>
                  <a:lnTo>
                    <a:pt x="900" y="1534"/>
                  </a:lnTo>
                  <a:lnTo>
                    <a:pt x="878" y="1536"/>
                  </a:lnTo>
                  <a:lnTo>
                    <a:pt x="857" y="1538"/>
                  </a:lnTo>
                  <a:lnTo>
                    <a:pt x="835" y="1540"/>
                  </a:lnTo>
                  <a:lnTo>
                    <a:pt x="813" y="1541"/>
                  </a:lnTo>
                  <a:lnTo>
                    <a:pt x="791" y="1541"/>
                  </a:lnTo>
                  <a:lnTo>
                    <a:pt x="753" y="1540"/>
                  </a:lnTo>
                  <a:lnTo>
                    <a:pt x="715" y="1537"/>
                  </a:lnTo>
                  <a:lnTo>
                    <a:pt x="677" y="1533"/>
                  </a:lnTo>
                  <a:lnTo>
                    <a:pt x="640" y="1526"/>
                  </a:lnTo>
                  <a:lnTo>
                    <a:pt x="604" y="1517"/>
                  </a:lnTo>
                  <a:lnTo>
                    <a:pt x="568" y="1508"/>
                  </a:lnTo>
                  <a:lnTo>
                    <a:pt x="533" y="1496"/>
                  </a:lnTo>
                  <a:lnTo>
                    <a:pt x="499" y="1482"/>
                  </a:lnTo>
                  <a:lnTo>
                    <a:pt x="466" y="1467"/>
                  </a:lnTo>
                  <a:lnTo>
                    <a:pt x="434" y="1450"/>
                  </a:lnTo>
                  <a:lnTo>
                    <a:pt x="403" y="1432"/>
                  </a:lnTo>
                  <a:lnTo>
                    <a:pt x="371" y="1413"/>
                  </a:lnTo>
                  <a:lnTo>
                    <a:pt x="342" y="1392"/>
                  </a:lnTo>
                  <a:lnTo>
                    <a:pt x="314" y="1369"/>
                  </a:lnTo>
                  <a:lnTo>
                    <a:pt x="287" y="1347"/>
                  </a:lnTo>
                  <a:lnTo>
                    <a:pt x="261" y="1322"/>
                  </a:lnTo>
                  <a:lnTo>
                    <a:pt x="236" y="1295"/>
                  </a:lnTo>
                  <a:lnTo>
                    <a:pt x="213" y="1268"/>
                  </a:lnTo>
                  <a:lnTo>
                    <a:pt x="190" y="1240"/>
                  </a:lnTo>
                  <a:lnTo>
                    <a:pt x="169" y="1211"/>
                  </a:lnTo>
                  <a:lnTo>
                    <a:pt x="150" y="1180"/>
                  </a:lnTo>
                  <a:lnTo>
                    <a:pt x="132" y="1149"/>
                  </a:lnTo>
                  <a:lnTo>
                    <a:pt x="115" y="1117"/>
                  </a:lnTo>
                  <a:lnTo>
                    <a:pt x="100" y="1083"/>
                  </a:lnTo>
                  <a:lnTo>
                    <a:pt x="86" y="1049"/>
                  </a:lnTo>
                  <a:lnTo>
                    <a:pt x="75" y="1014"/>
                  </a:lnTo>
                  <a:lnTo>
                    <a:pt x="65" y="979"/>
                  </a:lnTo>
                  <a:lnTo>
                    <a:pt x="56" y="943"/>
                  </a:lnTo>
                  <a:lnTo>
                    <a:pt x="49" y="905"/>
                  </a:lnTo>
                  <a:lnTo>
                    <a:pt x="45" y="868"/>
                  </a:lnTo>
                  <a:lnTo>
                    <a:pt x="42" y="829"/>
                  </a:lnTo>
                  <a:lnTo>
                    <a:pt x="41" y="792"/>
                  </a:lnTo>
                  <a:lnTo>
                    <a:pt x="42" y="753"/>
                  </a:lnTo>
                  <a:lnTo>
                    <a:pt x="45" y="715"/>
                  </a:lnTo>
                  <a:lnTo>
                    <a:pt x="49" y="677"/>
                  </a:lnTo>
                  <a:lnTo>
                    <a:pt x="56" y="640"/>
                  </a:lnTo>
                  <a:lnTo>
                    <a:pt x="65" y="604"/>
                  </a:lnTo>
                  <a:lnTo>
                    <a:pt x="75" y="568"/>
                  </a:lnTo>
                  <a:lnTo>
                    <a:pt x="86" y="534"/>
                  </a:lnTo>
                  <a:lnTo>
                    <a:pt x="100" y="500"/>
                  </a:lnTo>
                  <a:lnTo>
                    <a:pt x="115" y="467"/>
                  </a:lnTo>
                  <a:lnTo>
                    <a:pt x="132" y="434"/>
                  </a:lnTo>
                  <a:lnTo>
                    <a:pt x="150" y="403"/>
                  </a:lnTo>
                  <a:lnTo>
                    <a:pt x="169" y="373"/>
                  </a:lnTo>
                  <a:lnTo>
                    <a:pt x="190" y="342"/>
                  </a:lnTo>
                  <a:lnTo>
                    <a:pt x="213" y="314"/>
                  </a:lnTo>
                  <a:lnTo>
                    <a:pt x="236" y="287"/>
                  </a:lnTo>
                  <a:lnTo>
                    <a:pt x="261" y="261"/>
                  </a:lnTo>
                  <a:lnTo>
                    <a:pt x="287" y="237"/>
                  </a:lnTo>
                  <a:lnTo>
                    <a:pt x="314" y="213"/>
                  </a:lnTo>
                  <a:lnTo>
                    <a:pt x="342" y="191"/>
                  </a:lnTo>
                  <a:lnTo>
                    <a:pt x="371" y="170"/>
                  </a:lnTo>
                  <a:lnTo>
                    <a:pt x="403" y="150"/>
                  </a:lnTo>
                  <a:lnTo>
                    <a:pt x="434" y="132"/>
                  </a:lnTo>
                  <a:lnTo>
                    <a:pt x="466" y="116"/>
                  </a:lnTo>
                  <a:lnTo>
                    <a:pt x="499" y="100"/>
                  </a:lnTo>
                  <a:lnTo>
                    <a:pt x="533" y="88"/>
                  </a:lnTo>
                  <a:lnTo>
                    <a:pt x="568" y="76"/>
                  </a:lnTo>
                  <a:lnTo>
                    <a:pt x="604" y="65"/>
                  </a:lnTo>
                  <a:lnTo>
                    <a:pt x="640" y="57"/>
                  </a:lnTo>
                  <a:lnTo>
                    <a:pt x="677" y="51"/>
                  </a:lnTo>
                  <a:lnTo>
                    <a:pt x="715" y="45"/>
                  </a:lnTo>
                  <a:lnTo>
                    <a:pt x="753" y="43"/>
                  </a:lnTo>
                  <a:lnTo>
                    <a:pt x="791" y="42"/>
                  </a:lnTo>
                  <a:lnTo>
                    <a:pt x="830" y="43"/>
                  </a:lnTo>
                  <a:lnTo>
                    <a:pt x="867" y="45"/>
                  </a:lnTo>
                  <a:lnTo>
                    <a:pt x="905" y="51"/>
                  </a:lnTo>
                  <a:lnTo>
                    <a:pt x="942" y="57"/>
                  </a:lnTo>
                  <a:lnTo>
                    <a:pt x="979" y="65"/>
                  </a:lnTo>
                  <a:lnTo>
                    <a:pt x="1014" y="76"/>
                  </a:lnTo>
                  <a:lnTo>
                    <a:pt x="1049" y="88"/>
                  </a:lnTo>
                  <a:lnTo>
                    <a:pt x="1083" y="100"/>
                  </a:lnTo>
                  <a:lnTo>
                    <a:pt x="1116" y="116"/>
                  </a:lnTo>
                  <a:lnTo>
                    <a:pt x="1148" y="132"/>
                  </a:lnTo>
                  <a:lnTo>
                    <a:pt x="1180" y="150"/>
                  </a:lnTo>
                  <a:lnTo>
                    <a:pt x="1211" y="170"/>
                  </a:lnTo>
                  <a:lnTo>
                    <a:pt x="1240" y="191"/>
                  </a:lnTo>
                  <a:lnTo>
                    <a:pt x="1268" y="213"/>
                  </a:lnTo>
                  <a:lnTo>
                    <a:pt x="1295" y="237"/>
                  </a:lnTo>
                  <a:lnTo>
                    <a:pt x="1321" y="261"/>
                  </a:lnTo>
                  <a:lnTo>
                    <a:pt x="1346" y="287"/>
                  </a:lnTo>
                  <a:lnTo>
                    <a:pt x="1370" y="314"/>
                  </a:lnTo>
                  <a:lnTo>
                    <a:pt x="1393" y="342"/>
                  </a:lnTo>
                  <a:lnTo>
                    <a:pt x="1413" y="373"/>
                  </a:lnTo>
                  <a:lnTo>
                    <a:pt x="1432" y="403"/>
                  </a:lnTo>
                  <a:lnTo>
                    <a:pt x="1451" y="434"/>
                  </a:lnTo>
                  <a:lnTo>
                    <a:pt x="1467" y="467"/>
                  </a:lnTo>
                  <a:lnTo>
                    <a:pt x="1482" y="500"/>
                  </a:lnTo>
                  <a:lnTo>
                    <a:pt x="1495" y="534"/>
                  </a:lnTo>
                  <a:lnTo>
                    <a:pt x="1507" y="568"/>
                  </a:lnTo>
                  <a:lnTo>
                    <a:pt x="1518" y="604"/>
                  </a:lnTo>
                  <a:lnTo>
                    <a:pt x="1526" y="640"/>
                  </a:lnTo>
                  <a:lnTo>
                    <a:pt x="1533" y="677"/>
                  </a:lnTo>
                  <a:lnTo>
                    <a:pt x="1537" y="715"/>
                  </a:lnTo>
                  <a:lnTo>
                    <a:pt x="1541" y="753"/>
                  </a:lnTo>
                  <a:lnTo>
                    <a:pt x="1542" y="792"/>
                  </a:lnTo>
                  <a:lnTo>
                    <a:pt x="1541" y="817"/>
                  </a:lnTo>
                  <a:lnTo>
                    <a:pt x="1539" y="841"/>
                  </a:lnTo>
                  <a:lnTo>
                    <a:pt x="1537" y="866"/>
                  </a:lnTo>
                  <a:lnTo>
                    <a:pt x="1535" y="891"/>
                  </a:lnTo>
                  <a:lnTo>
                    <a:pt x="1531" y="915"/>
                  </a:lnTo>
                  <a:lnTo>
                    <a:pt x="1526" y="940"/>
                  </a:lnTo>
                  <a:lnTo>
                    <a:pt x="1521" y="962"/>
                  </a:lnTo>
                  <a:lnTo>
                    <a:pt x="1516" y="986"/>
                  </a:lnTo>
                  <a:lnTo>
                    <a:pt x="1556" y="997"/>
                  </a:lnTo>
                  <a:lnTo>
                    <a:pt x="1562" y="972"/>
                  </a:lnTo>
                  <a:lnTo>
                    <a:pt x="1568" y="947"/>
                  </a:lnTo>
                  <a:lnTo>
                    <a:pt x="1572" y="922"/>
                  </a:lnTo>
                  <a:lnTo>
                    <a:pt x="1576" y="896"/>
                  </a:lnTo>
                  <a:lnTo>
                    <a:pt x="1579" y="871"/>
                  </a:lnTo>
                  <a:lnTo>
                    <a:pt x="1582" y="845"/>
                  </a:lnTo>
                  <a:lnTo>
                    <a:pt x="1583" y="818"/>
                  </a:lnTo>
                  <a:lnTo>
                    <a:pt x="1583" y="792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268880" y="2690640"/>
              <a:ext cx="610920" cy="612720"/>
            </a:xfrm>
            <a:custGeom>
              <a:avLst/>
              <a:gdLst/>
              <a:ahLst/>
              <a:rect l="l" t="t" r="r" b="b"/>
              <a:pathLst>
                <a:path w="1542" h="1541">
                  <a:moveTo>
                    <a:pt x="1542" y="771"/>
                  </a:moveTo>
                  <a:lnTo>
                    <a:pt x="1541" y="731"/>
                  </a:lnTo>
                  <a:lnTo>
                    <a:pt x="1538" y="692"/>
                  </a:lnTo>
                  <a:lnTo>
                    <a:pt x="1534" y="653"/>
                  </a:lnTo>
                  <a:lnTo>
                    <a:pt x="1526" y="615"/>
                  </a:lnTo>
                  <a:lnTo>
                    <a:pt x="1517" y="577"/>
                  </a:lnTo>
                  <a:lnTo>
                    <a:pt x="1508" y="542"/>
                  </a:lnTo>
                  <a:lnTo>
                    <a:pt x="1496" y="505"/>
                  </a:lnTo>
                  <a:lnTo>
                    <a:pt x="1482" y="470"/>
                  </a:lnTo>
                  <a:lnTo>
                    <a:pt x="1467" y="436"/>
                  </a:lnTo>
                  <a:lnTo>
                    <a:pt x="1449" y="403"/>
                  </a:lnTo>
                  <a:lnTo>
                    <a:pt x="1431" y="371"/>
                  </a:lnTo>
                  <a:lnTo>
                    <a:pt x="1410" y="340"/>
                  </a:lnTo>
                  <a:lnTo>
                    <a:pt x="1389" y="310"/>
                  </a:lnTo>
                  <a:lnTo>
                    <a:pt x="1366" y="280"/>
                  </a:lnTo>
                  <a:lnTo>
                    <a:pt x="1342" y="252"/>
                  </a:lnTo>
                  <a:lnTo>
                    <a:pt x="1316" y="225"/>
                  </a:lnTo>
                  <a:lnTo>
                    <a:pt x="1289" y="200"/>
                  </a:lnTo>
                  <a:lnTo>
                    <a:pt x="1261" y="176"/>
                  </a:lnTo>
                  <a:lnTo>
                    <a:pt x="1232" y="153"/>
                  </a:lnTo>
                  <a:lnTo>
                    <a:pt x="1202" y="131"/>
                  </a:lnTo>
                  <a:lnTo>
                    <a:pt x="1170" y="112"/>
                  </a:lnTo>
                  <a:lnTo>
                    <a:pt x="1139" y="92"/>
                  </a:lnTo>
                  <a:lnTo>
                    <a:pt x="1106" y="76"/>
                  </a:lnTo>
                  <a:lnTo>
                    <a:pt x="1071" y="60"/>
                  </a:lnTo>
                  <a:lnTo>
                    <a:pt x="1036" y="47"/>
                  </a:lnTo>
                  <a:lnTo>
                    <a:pt x="1001" y="34"/>
                  </a:lnTo>
                  <a:lnTo>
                    <a:pt x="964" y="24"/>
                  </a:lnTo>
                  <a:lnTo>
                    <a:pt x="926" y="16"/>
                  </a:lnTo>
                  <a:lnTo>
                    <a:pt x="888" y="9"/>
                  </a:lnTo>
                  <a:lnTo>
                    <a:pt x="850" y="4"/>
                  </a:lnTo>
                  <a:lnTo>
                    <a:pt x="811" y="1"/>
                  </a:lnTo>
                  <a:lnTo>
                    <a:pt x="771" y="0"/>
                  </a:lnTo>
                  <a:lnTo>
                    <a:pt x="732" y="1"/>
                  </a:lnTo>
                  <a:lnTo>
                    <a:pt x="693" y="4"/>
                  </a:lnTo>
                  <a:lnTo>
                    <a:pt x="654" y="9"/>
                  </a:lnTo>
                  <a:lnTo>
                    <a:pt x="616" y="16"/>
                  </a:lnTo>
                  <a:lnTo>
                    <a:pt x="578" y="24"/>
                  </a:lnTo>
                  <a:lnTo>
                    <a:pt x="542" y="34"/>
                  </a:lnTo>
                  <a:lnTo>
                    <a:pt x="506" y="47"/>
                  </a:lnTo>
                  <a:lnTo>
                    <a:pt x="471" y="60"/>
                  </a:lnTo>
                  <a:lnTo>
                    <a:pt x="437" y="76"/>
                  </a:lnTo>
                  <a:lnTo>
                    <a:pt x="403" y="92"/>
                  </a:lnTo>
                  <a:lnTo>
                    <a:pt x="372" y="112"/>
                  </a:lnTo>
                  <a:lnTo>
                    <a:pt x="341" y="131"/>
                  </a:lnTo>
                  <a:lnTo>
                    <a:pt x="310" y="153"/>
                  </a:lnTo>
                  <a:lnTo>
                    <a:pt x="281" y="176"/>
                  </a:lnTo>
                  <a:lnTo>
                    <a:pt x="253" y="200"/>
                  </a:lnTo>
                  <a:lnTo>
                    <a:pt x="226" y="225"/>
                  </a:lnTo>
                  <a:lnTo>
                    <a:pt x="200" y="252"/>
                  </a:lnTo>
                  <a:lnTo>
                    <a:pt x="176" y="280"/>
                  </a:lnTo>
                  <a:lnTo>
                    <a:pt x="154" y="310"/>
                  </a:lnTo>
                  <a:lnTo>
                    <a:pt x="132" y="340"/>
                  </a:lnTo>
                  <a:lnTo>
                    <a:pt x="112" y="371"/>
                  </a:lnTo>
                  <a:lnTo>
                    <a:pt x="93" y="403"/>
                  </a:lnTo>
                  <a:lnTo>
                    <a:pt x="76" y="436"/>
                  </a:lnTo>
                  <a:lnTo>
                    <a:pt x="61" y="470"/>
                  </a:lnTo>
                  <a:lnTo>
                    <a:pt x="47" y="505"/>
                  </a:lnTo>
                  <a:lnTo>
                    <a:pt x="35" y="542"/>
                  </a:lnTo>
                  <a:lnTo>
                    <a:pt x="25" y="577"/>
                  </a:lnTo>
                  <a:lnTo>
                    <a:pt x="16" y="615"/>
                  </a:lnTo>
                  <a:lnTo>
                    <a:pt x="9" y="653"/>
                  </a:lnTo>
                  <a:lnTo>
                    <a:pt x="5" y="692"/>
                  </a:lnTo>
                  <a:lnTo>
                    <a:pt x="1" y="731"/>
                  </a:lnTo>
                  <a:lnTo>
                    <a:pt x="0" y="771"/>
                  </a:lnTo>
                  <a:lnTo>
                    <a:pt x="1" y="810"/>
                  </a:lnTo>
                  <a:lnTo>
                    <a:pt x="5" y="850"/>
                  </a:lnTo>
                  <a:lnTo>
                    <a:pt x="9" y="887"/>
                  </a:lnTo>
                  <a:lnTo>
                    <a:pt x="16" y="926"/>
                  </a:lnTo>
                  <a:lnTo>
                    <a:pt x="25" y="963"/>
                  </a:lnTo>
                  <a:lnTo>
                    <a:pt x="35" y="1000"/>
                  </a:lnTo>
                  <a:lnTo>
                    <a:pt x="47" y="1035"/>
                  </a:lnTo>
                  <a:lnTo>
                    <a:pt x="61" y="1070"/>
                  </a:lnTo>
                  <a:lnTo>
                    <a:pt x="76" y="1104"/>
                  </a:lnTo>
                  <a:lnTo>
                    <a:pt x="93" y="1138"/>
                  </a:lnTo>
                  <a:lnTo>
                    <a:pt x="112" y="1170"/>
                  </a:lnTo>
                  <a:lnTo>
                    <a:pt x="132" y="1202"/>
                  </a:lnTo>
                  <a:lnTo>
                    <a:pt x="154" y="1232"/>
                  </a:lnTo>
                  <a:lnTo>
                    <a:pt x="176" y="1261"/>
                  </a:lnTo>
                  <a:lnTo>
                    <a:pt x="200" y="1288"/>
                  </a:lnTo>
                  <a:lnTo>
                    <a:pt x="226" y="1315"/>
                  </a:lnTo>
                  <a:lnTo>
                    <a:pt x="253" y="1341"/>
                  </a:lnTo>
                  <a:lnTo>
                    <a:pt x="281" y="1365"/>
                  </a:lnTo>
                  <a:lnTo>
                    <a:pt x="310" y="1387"/>
                  </a:lnTo>
                  <a:lnTo>
                    <a:pt x="341" y="1409"/>
                  </a:lnTo>
                  <a:lnTo>
                    <a:pt x="372" y="1429"/>
                  </a:lnTo>
                  <a:lnTo>
                    <a:pt x="403" y="1448"/>
                  </a:lnTo>
                  <a:lnTo>
                    <a:pt x="437" y="1465"/>
                  </a:lnTo>
                  <a:lnTo>
                    <a:pt x="471" y="1480"/>
                  </a:lnTo>
                  <a:lnTo>
                    <a:pt x="506" y="1494"/>
                  </a:lnTo>
                  <a:lnTo>
                    <a:pt x="542" y="1506"/>
                  </a:lnTo>
                  <a:lnTo>
                    <a:pt x="578" y="1517"/>
                  </a:lnTo>
                  <a:lnTo>
                    <a:pt x="616" y="1526"/>
                  </a:lnTo>
                  <a:lnTo>
                    <a:pt x="654" y="1532"/>
                  </a:lnTo>
                  <a:lnTo>
                    <a:pt x="693" y="1537"/>
                  </a:lnTo>
                  <a:lnTo>
                    <a:pt x="732" y="1540"/>
                  </a:lnTo>
                  <a:lnTo>
                    <a:pt x="771" y="1541"/>
                  </a:lnTo>
                  <a:lnTo>
                    <a:pt x="793" y="1541"/>
                  </a:lnTo>
                  <a:lnTo>
                    <a:pt x="816" y="1540"/>
                  </a:lnTo>
                  <a:lnTo>
                    <a:pt x="839" y="1537"/>
                  </a:lnTo>
                  <a:lnTo>
                    <a:pt x="860" y="1535"/>
                  </a:lnTo>
                  <a:lnTo>
                    <a:pt x="883" y="1533"/>
                  </a:lnTo>
                  <a:lnTo>
                    <a:pt x="905" y="1530"/>
                  </a:lnTo>
                  <a:lnTo>
                    <a:pt x="926" y="1526"/>
                  </a:lnTo>
                  <a:lnTo>
                    <a:pt x="948" y="1520"/>
                  </a:lnTo>
                  <a:lnTo>
                    <a:pt x="968" y="1516"/>
                  </a:lnTo>
                  <a:lnTo>
                    <a:pt x="989" y="1509"/>
                  </a:lnTo>
                  <a:lnTo>
                    <a:pt x="1009" y="1503"/>
                  </a:lnTo>
                  <a:lnTo>
                    <a:pt x="1030" y="1496"/>
                  </a:lnTo>
                  <a:lnTo>
                    <a:pt x="1051" y="1489"/>
                  </a:lnTo>
                  <a:lnTo>
                    <a:pt x="1070" y="1480"/>
                  </a:lnTo>
                  <a:lnTo>
                    <a:pt x="1089" y="1473"/>
                  </a:lnTo>
                  <a:lnTo>
                    <a:pt x="1109" y="1463"/>
                  </a:lnTo>
                  <a:lnTo>
                    <a:pt x="1090" y="1425"/>
                  </a:lnTo>
                  <a:lnTo>
                    <a:pt x="1072" y="1434"/>
                  </a:lnTo>
                  <a:lnTo>
                    <a:pt x="1054" y="1442"/>
                  </a:lnTo>
                  <a:lnTo>
                    <a:pt x="1035" y="1450"/>
                  </a:lnTo>
                  <a:lnTo>
                    <a:pt x="1016" y="1458"/>
                  </a:lnTo>
                  <a:lnTo>
                    <a:pt x="998" y="1464"/>
                  </a:lnTo>
                  <a:lnTo>
                    <a:pt x="977" y="1469"/>
                  </a:lnTo>
                  <a:lnTo>
                    <a:pt x="958" y="1475"/>
                  </a:lnTo>
                  <a:lnTo>
                    <a:pt x="938" y="1480"/>
                  </a:lnTo>
                  <a:lnTo>
                    <a:pt x="918" y="1485"/>
                  </a:lnTo>
                  <a:lnTo>
                    <a:pt x="897" y="1489"/>
                  </a:lnTo>
                  <a:lnTo>
                    <a:pt x="877" y="1492"/>
                  </a:lnTo>
                  <a:lnTo>
                    <a:pt x="856" y="1494"/>
                  </a:lnTo>
                  <a:lnTo>
                    <a:pt x="835" y="1496"/>
                  </a:lnTo>
                  <a:lnTo>
                    <a:pt x="814" y="1498"/>
                  </a:lnTo>
                  <a:lnTo>
                    <a:pt x="792" y="1499"/>
                  </a:lnTo>
                  <a:lnTo>
                    <a:pt x="771" y="1500"/>
                  </a:lnTo>
                  <a:lnTo>
                    <a:pt x="734" y="1499"/>
                  </a:lnTo>
                  <a:lnTo>
                    <a:pt x="696" y="1495"/>
                  </a:lnTo>
                  <a:lnTo>
                    <a:pt x="660" y="1491"/>
                  </a:lnTo>
                  <a:lnTo>
                    <a:pt x="624" y="1485"/>
                  </a:lnTo>
                  <a:lnTo>
                    <a:pt x="589" y="1476"/>
                  </a:lnTo>
                  <a:lnTo>
                    <a:pt x="555" y="1466"/>
                  </a:lnTo>
                  <a:lnTo>
                    <a:pt x="520" y="1455"/>
                  </a:lnTo>
                  <a:lnTo>
                    <a:pt x="488" y="1442"/>
                  </a:lnTo>
                  <a:lnTo>
                    <a:pt x="455" y="1427"/>
                  </a:lnTo>
                  <a:lnTo>
                    <a:pt x="424" y="1411"/>
                  </a:lnTo>
                  <a:lnTo>
                    <a:pt x="394" y="1394"/>
                  </a:lnTo>
                  <a:lnTo>
                    <a:pt x="363" y="1374"/>
                  </a:lnTo>
                  <a:lnTo>
                    <a:pt x="335" y="1355"/>
                  </a:lnTo>
                  <a:lnTo>
                    <a:pt x="307" y="1333"/>
                  </a:lnTo>
                  <a:lnTo>
                    <a:pt x="281" y="1310"/>
                  </a:lnTo>
                  <a:lnTo>
                    <a:pt x="255" y="1286"/>
                  </a:lnTo>
                  <a:lnTo>
                    <a:pt x="231" y="1261"/>
                  </a:lnTo>
                  <a:lnTo>
                    <a:pt x="209" y="1234"/>
                  </a:lnTo>
                  <a:lnTo>
                    <a:pt x="187" y="1207"/>
                  </a:lnTo>
                  <a:lnTo>
                    <a:pt x="167" y="1178"/>
                  </a:lnTo>
                  <a:lnTo>
                    <a:pt x="147" y="1149"/>
                  </a:lnTo>
                  <a:lnTo>
                    <a:pt x="130" y="1117"/>
                  </a:lnTo>
                  <a:lnTo>
                    <a:pt x="114" y="1086"/>
                  </a:lnTo>
                  <a:lnTo>
                    <a:pt x="100" y="1054"/>
                  </a:lnTo>
                  <a:lnTo>
                    <a:pt x="87" y="1021"/>
                  </a:lnTo>
                  <a:lnTo>
                    <a:pt x="75" y="987"/>
                  </a:lnTo>
                  <a:lnTo>
                    <a:pt x="65" y="952"/>
                  </a:lnTo>
                  <a:lnTo>
                    <a:pt x="56" y="918"/>
                  </a:lnTo>
                  <a:lnTo>
                    <a:pt x="50" y="882"/>
                  </a:lnTo>
                  <a:lnTo>
                    <a:pt x="46" y="845"/>
                  </a:lnTo>
                  <a:lnTo>
                    <a:pt x="43" y="807"/>
                  </a:lnTo>
                  <a:lnTo>
                    <a:pt x="42" y="771"/>
                  </a:lnTo>
                  <a:lnTo>
                    <a:pt x="43" y="733"/>
                  </a:lnTo>
                  <a:lnTo>
                    <a:pt x="46" y="696"/>
                  </a:lnTo>
                  <a:lnTo>
                    <a:pt x="50" y="659"/>
                  </a:lnTo>
                  <a:lnTo>
                    <a:pt x="56" y="624"/>
                  </a:lnTo>
                  <a:lnTo>
                    <a:pt x="65" y="588"/>
                  </a:lnTo>
                  <a:lnTo>
                    <a:pt x="75" y="554"/>
                  </a:lnTo>
                  <a:lnTo>
                    <a:pt x="87" y="520"/>
                  </a:lnTo>
                  <a:lnTo>
                    <a:pt x="100" y="487"/>
                  </a:lnTo>
                  <a:lnTo>
                    <a:pt x="114" y="454"/>
                  </a:lnTo>
                  <a:lnTo>
                    <a:pt x="130" y="423"/>
                  </a:lnTo>
                  <a:lnTo>
                    <a:pt x="147" y="393"/>
                  </a:lnTo>
                  <a:lnTo>
                    <a:pt x="167" y="362"/>
                  </a:lnTo>
                  <a:lnTo>
                    <a:pt x="187" y="334"/>
                  </a:lnTo>
                  <a:lnTo>
                    <a:pt x="209" y="306"/>
                  </a:lnTo>
                  <a:lnTo>
                    <a:pt x="231" y="280"/>
                  </a:lnTo>
                  <a:lnTo>
                    <a:pt x="255" y="256"/>
                  </a:lnTo>
                  <a:lnTo>
                    <a:pt x="281" y="231"/>
                  </a:lnTo>
                  <a:lnTo>
                    <a:pt x="307" y="208"/>
                  </a:lnTo>
                  <a:lnTo>
                    <a:pt x="335" y="186"/>
                  </a:lnTo>
                  <a:lnTo>
                    <a:pt x="363" y="166"/>
                  </a:lnTo>
                  <a:lnTo>
                    <a:pt x="394" y="148"/>
                  </a:lnTo>
                  <a:lnTo>
                    <a:pt x="424" y="129"/>
                  </a:lnTo>
                  <a:lnTo>
                    <a:pt x="455" y="113"/>
                  </a:lnTo>
                  <a:lnTo>
                    <a:pt x="488" y="99"/>
                  </a:lnTo>
                  <a:lnTo>
                    <a:pt x="520" y="86"/>
                  </a:lnTo>
                  <a:lnTo>
                    <a:pt x="555" y="74"/>
                  </a:lnTo>
                  <a:lnTo>
                    <a:pt x="589" y="64"/>
                  </a:lnTo>
                  <a:lnTo>
                    <a:pt x="624" y="57"/>
                  </a:lnTo>
                  <a:lnTo>
                    <a:pt x="660" y="50"/>
                  </a:lnTo>
                  <a:lnTo>
                    <a:pt x="696" y="45"/>
                  </a:lnTo>
                  <a:lnTo>
                    <a:pt x="734" y="43"/>
                  </a:lnTo>
                  <a:lnTo>
                    <a:pt x="771" y="42"/>
                  </a:lnTo>
                  <a:lnTo>
                    <a:pt x="808" y="43"/>
                  </a:lnTo>
                  <a:lnTo>
                    <a:pt x="845" y="45"/>
                  </a:lnTo>
                  <a:lnTo>
                    <a:pt x="882" y="50"/>
                  </a:lnTo>
                  <a:lnTo>
                    <a:pt x="918" y="57"/>
                  </a:lnTo>
                  <a:lnTo>
                    <a:pt x="953" y="64"/>
                  </a:lnTo>
                  <a:lnTo>
                    <a:pt x="988" y="74"/>
                  </a:lnTo>
                  <a:lnTo>
                    <a:pt x="1021" y="86"/>
                  </a:lnTo>
                  <a:lnTo>
                    <a:pt x="1055" y="99"/>
                  </a:lnTo>
                  <a:lnTo>
                    <a:pt x="1087" y="113"/>
                  </a:lnTo>
                  <a:lnTo>
                    <a:pt x="1119" y="129"/>
                  </a:lnTo>
                  <a:lnTo>
                    <a:pt x="1149" y="148"/>
                  </a:lnTo>
                  <a:lnTo>
                    <a:pt x="1179" y="166"/>
                  </a:lnTo>
                  <a:lnTo>
                    <a:pt x="1207" y="186"/>
                  </a:lnTo>
                  <a:lnTo>
                    <a:pt x="1235" y="208"/>
                  </a:lnTo>
                  <a:lnTo>
                    <a:pt x="1261" y="231"/>
                  </a:lnTo>
                  <a:lnTo>
                    <a:pt x="1287" y="256"/>
                  </a:lnTo>
                  <a:lnTo>
                    <a:pt x="1311" y="280"/>
                  </a:lnTo>
                  <a:lnTo>
                    <a:pt x="1334" y="306"/>
                  </a:lnTo>
                  <a:lnTo>
                    <a:pt x="1355" y="334"/>
                  </a:lnTo>
                  <a:lnTo>
                    <a:pt x="1376" y="362"/>
                  </a:lnTo>
                  <a:lnTo>
                    <a:pt x="1395" y="393"/>
                  </a:lnTo>
                  <a:lnTo>
                    <a:pt x="1412" y="423"/>
                  </a:lnTo>
                  <a:lnTo>
                    <a:pt x="1429" y="454"/>
                  </a:lnTo>
                  <a:lnTo>
                    <a:pt x="1443" y="487"/>
                  </a:lnTo>
                  <a:lnTo>
                    <a:pt x="1456" y="520"/>
                  </a:lnTo>
                  <a:lnTo>
                    <a:pt x="1468" y="554"/>
                  </a:lnTo>
                  <a:lnTo>
                    <a:pt x="1477" y="588"/>
                  </a:lnTo>
                  <a:lnTo>
                    <a:pt x="1486" y="624"/>
                  </a:lnTo>
                  <a:lnTo>
                    <a:pt x="1492" y="659"/>
                  </a:lnTo>
                  <a:lnTo>
                    <a:pt x="1497" y="696"/>
                  </a:lnTo>
                  <a:lnTo>
                    <a:pt x="1499" y="733"/>
                  </a:lnTo>
                  <a:lnTo>
                    <a:pt x="1500" y="771"/>
                  </a:lnTo>
                  <a:lnTo>
                    <a:pt x="1500" y="794"/>
                  </a:lnTo>
                  <a:lnTo>
                    <a:pt x="1499" y="819"/>
                  </a:lnTo>
                  <a:lnTo>
                    <a:pt x="1497" y="843"/>
                  </a:lnTo>
                  <a:lnTo>
                    <a:pt x="1494" y="867"/>
                  </a:lnTo>
                  <a:lnTo>
                    <a:pt x="1490" y="891"/>
                  </a:lnTo>
                  <a:lnTo>
                    <a:pt x="1486" y="914"/>
                  </a:lnTo>
                  <a:lnTo>
                    <a:pt x="1482" y="937"/>
                  </a:lnTo>
                  <a:lnTo>
                    <a:pt x="1475" y="960"/>
                  </a:lnTo>
                  <a:lnTo>
                    <a:pt x="1515" y="970"/>
                  </a:lnTo>
                  <a:lnTo>
                    <a:pt x="1522" y="947"/>
                  </a:lnTo>
                  <a:lnTo>
                    <a:pt x="1527" y="922"/>
                  </a:lnTo>
                  <a:lnTo>
                    <a:pt x="1531" y="897"/>
                  </a:lnTo>
                  <a:lnTo>
                    <a:pt x="1536" y="872"/>
                  </a:lnTo>
                  <a:lnTo>
                    <a:pt x="1538" y="847"/>
                  </a:lnTo>
                  <a:lnTo>
                    <a:pt x="1540" y="821"/>
                  </a:lnTo>
                  <a:lnTo>
                    <a:pt x="1541" y="797"/>
                  </a:lnTo>
                  <a:lnTo>
                    <a:pt x="1542" y="771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76800" y="2700360"/>
              <a:ext cx="595080" cy="595080"/>
            </a:xfrm>
            <a:custGeom>
              <a:avLst/>
              <a:gdLst/>
              <a:ahLst/>
              <a:rect l="l" t="t" r="r" b="b"/>
              <a:pathLst>
                <a:path w="1501" h="1499">
                  <a:moveTo>
                    <a:pt x="1501" y="750"/>
                  </a:moveTo>
                  <a:lnTo>
                    <a:pt x="1500" y="711"/>
                  </a:lnTo>
                  <a:lnTo>
                    <a:pt x="1496" y="673"/>
                  </a:lnTo>
                  <a:lnTo>
                    <a:pt x="1492" y="635"/>
                  </a:lnTo>
                  <a:lnTo>
                    <a:pt x="1485" y="598"/>
                  </a:lnTo>
                  <a:lnTo>
                    <a:pt x="1477" y="562"/>
                  </a:lnTo>
                  <a:lnTo>
                    <a:pt x="1466" y="526"/>
                  </a:lnTo>
                  <a:lnTo>
                    <a:pt x="1454" y="492"/>
                  </a:lnTo>
                  <a:lnTo>
                    <a:pt x="1441" y="458"/>
                  </a:lnTo>
                  <a:lnTo>
                    <a:pt x="1426" y="425"/>
                  </a:lnTo>
                  <a:lnTo>
                    <a:pt x="1410" y="392"/>
                  </a:lnTo>
                  <a:lnTo>
                    <a:pt x="1391" y="361"/>
                  </a:lnTo>
                  <a:lnTo>
                    <a:pt x="1372" y="331"/>
                  </a:lnTo>
                  <a:lnTo>
                    <a:pt x="1352" y="300"/>
                  </a:lnTo>
                  <a:lnTo>
                    <a:pt x="1329" y="272"/>
                  </a:lnTo>
                  <a:lnTo>
                    <a:pt x="1305" y="245"/>
                  </a:lnTo>
                  <a:lnTo>
                    <a:pt x="1280" y="219"/>
                  </a:lnTo>
                  <a:lnTo>
                    <a:pt x="1254" y="195"/>
                  </a:lnTo>
                  <a:lnTo>
                    <a:pt x="1227" y="171"/>
                  </a:lnTo>
                  <a:lnTo>
                    <a:pt x="1199" y="149"/>
                  </a:lnTo>
                  <a:lnTo>
                    <a:pt x="1170" y="128"/>
                  </a:lnTo>
                  <a:lnTo>
                    <a:pt x="1139" y="108"/>
                  </a:lnTo>
                  <a:lnTo>
                    <a:pt x="1107" y="90"/>
                  </a:lnTo>
                  <a:lnTo>
                    <a:pt x="1075" y="74"/>
                  </a:lnTo>
                  <a:lnTo>
                    <a:pt x="1042" y="58"/>
                  </a:lnTo>
                  <a:lnTo>
                    <a:pt x="1008" y="46"/>
                  </a:lnTo>
                  <a:lnTo>
                    <a:pt x="973" y="34"/>
                  </a:lnTo>
                  <a:lnTo>
                    <a:pt x="938" y="23"/>
                  </a:lnTo>
                  <a:lnTo>
                    <a:pt x="901" y="15"/>
                  </a:lnTo>
                  <a:lnTo>
                    <a:pt x="864" y="9"/>
                  </a:lnTo>
                  <a:lnTo>
                    <a:pt x="826" y="3"/>
                  </a:lnTo>
                  <a:lnTo>
                    <a:pt x="789" y="1"/>
                  </a:lnTo>
                  <a:lnTo>
                    <a:pt x="750" y="0"/>
                  </a:lnTo>
                  <a:lnTo>
                    <a:pt x="712" y="1"/>
                  </a:lnTo>
                  <a:lnTo>
                    <a:pt x="674" y="3"/>
                  </a:lnTo>
                  <a:lnTo>
                    <a:pt x="636" y="9"/>
                  </a:lnTo>
                  <a:lnTo>
                    <a:pt x="599" y="15"/>
                  </a:lnTo>
                  <a:lnTo>
                    <a:pt x="563" y="23"/>
                  </a:lnTo>
                  <a:lnTo>
                    <a:pt x="527" y="34"/>
                  </a:lnTo>
                  <a:lnTo>
                    <a:pt x="492" y="46"/>
                  </a:lnTo>
                  <a:lnTo>
                    <a:pt x="458" y="58"/>
                  </a:lnTo>
                  <a:lnTo>
                    <a:pt x="425" y="74"/>
                  </a:lnTo>
                  <a:lnTo>
                    <a:pt x="393" y="90"/>
                  </a:lnTo>
                  <a:lnTo>
                    <a:pt x="362" y="108"/>
                  </a:lnTo>
                  <a:lnTo>
                    <a:pt x="330" y="128"/>
                  </a:lnTo>
                  <a:lnTo>
                    <a:pt x="301" y="149"/>
                  </a:lnTo>
                  <a:lnTo>
                    <a:pt x="273" y="171"/>
                  </a:lnTo>
                  <a:lnTo>
                    <a:pt x="246" y="195"/>
                  </a:lnTo>
                  <a:lnTo>
                    <a:pt x="220" y="219"/>
                  </a:lnTo>
                  <a:lnTo>
                    <a:pt x="195" y="245"/>
                  </a:lnTo>
                  <a:lnTo>
                    <a:pt x="172" y="272"/>
                  </a:lnTo>
                  <a:lnTo>
                    <a:pt x="149" y="300"/>
                  </a:lnTo>
                  <a:lnTo>
                    <a:pt x="128" y="331"/>
                  </a:lnTo>
                  <a:lnTo>
                    <a:pt x="109" y="361"/>
                  </a:lnTo>
                  <a:lnTo>
                    <a:pt x="91" y="392"/>
                  </a:lnTo>
                  <a:lnTo>
                    <a:pt x="74" y="425"/>
                  </a:lnTo>
                  <a:lnTo>
                    <a:pt x="59" y="458"/>
                  </a:lnTo>
                  <a:lnTo>
                    <a:pt x="45" y="492"/>
                  </a:lnTo>
                  <a:lnTo>
                    <a:pt x="34" y="526"/>
                  </a:lnTo>
                  <a:lnTo>
                    <a:pt x="24" y="562"/>
                  </a:lnTo>
                  <a:lnTo>
                    <a:pt x="15" y="598"/>
                  </a:lnTo>
                  <a:lnTo>
                    <a:pt x="8" y="635"/>
                  </a:lnTo>
                  <a:lnTo>
                    <a:pt x="4" y="673"/>
                  </a:lnTo>
                  <a:lnTo>
                    <a:pt x="1" y="711"/>
                  </a:lnTo>
                  <a:lnTo>
                    <a:pt x="0" y="750"/>
                  </a:lnTo>
                  <a:lnTo>
                    <a:pt x="1" y="787"/>
                  </a:lnTo>
                  <a:lnTo>
                    <a:pt x="4" y="826"/>
                  </a:lnTo>
                  <a:lnTo>
                    <a:pt x="8" y="863"/>
                  </a:lnTo>
                  <a:lnTo>
                    <a:pt x="15" y="901"/>
                  </a:lnTo>
                  <a:lnTo>
                    <a:pt x="24" y="937"/>
                  </a:lnTo>
                  <a:lnTo>
                    <a:pt x="34" y="972"/>
                  </a:lnTo>
                  <a:lnTo>
                    <a:pt x="45" y="1007"/>
                  </a:lnTo>
                  <a:lnTo>
                    <a:pt x="59" y="1041"/>
                  </a:lnTo>
                  <a:lnTo>
                    <a:pt x="74" y="1075"/>
                  </a:lnTo>
                  <a:lnTo>
                    <a:pt x="91" y="1107"/>
                  </a:lnTo>
                  <a:lnTo>
                    <a:pt x="109" y="1138"/>
                  </a:lnTo>
                  <a:lnTo>
                    <a:pt x="128" y="1169"/>
                  </a:lnTo>
                  <a:lnTo>
                    <a:pt x="149" y="1198"/>
                  </a:lnTo>
                  <a:lnTo>
                    <a:pt x="172" y="1226"/>
                  </a:lnTo>
                  <a:lnTo>
                    <a:pt x="195" y="1253"/>
                  </a:lnTo>
                  <a:lnTo>
                    <a:pt x="220" y="1280"/>
                  </a:lnTo>
                  <a:lnTo>
                    <a:pt x="246" y="1305"/>
                  </a:lnTo>
                  <a:lnTo>
                    <a:pt x="273" y="1327"/>
                  </a:lnTo>
                  <a:lnTo>
                    <a:pt x="301" y="1350"/>
                  </a:lnTo>
                  <a:lnTo>
                    <a:pt x="330" y="1371"/>
                  </a:lnTo>
                  <a:lnTo>
                    <a:pt x="362" y="1390"/>
                  </a:lnTo>
                  <a:lnTo>
                    <a:pt x="393" y="1408"/>
                  </a:lnTo>
                  <a:lnTo>
                    <a:pt x="425" y="1425"/>
                  </a:lnTo>
                  <a:lnTo>
                    <a:pt x="458" y="1440"/>
                  </a:lnTo>
                  <a:lnTo>
                    <a:pt x="492" y="1454"/>
                  </a:lnTo>
                  <a:lnTo>
                    <a:pt x="527" y="1466"/>
                  </a:lnTo>
                  <a:lnTo>
                    <a:pt x="563" y="1475"/>
                  </a:lnTo>
                  <a:lnTo>
                    <a:pt x="599" y="1484"/>
                  </a:lnTo>
                  <a:lnTo>
                    <a:pt x="636" y="1491"/>
                  </a:lnTo>
                  <a:lnTo>
                    <a:pt x="674" y="1495"/>
                  </a:lnTo>
                  <a:lnTo>
                    <a:pt x="712" y="1498"/>
                  </a:lnTo>
                  <a:lnTo>
                    <a:pt x="750" y="1499"/>
                  </a:lnTo>
                  <a:lnTo>
                    <a:pt x="772" y="1499"/>
                  </a:lnTo>
                  <a:lnTo>
                    <a:pt x="794" y="1498"/>
                  </a:lnTo>
                  <a:lnTo>
                    <a:pt x="816" y="1496"/>
                  </a:lnTo>
                  <a:lnTo>
                    <a:pt x="837" y="1494"/>
                  </a:lnTo>
                  <a:lnTo>
                    <a:pt x="859" y="1492"/>
                  </a:lnTo>
                  <a:lnTo>
                    <a:pt x="880" y="1488"/>
                  </a:lnTo>
                  <a:lnTo>
                    <a:pt x="901" y="1484"/>
                  </a:lnTo>
                  <a:lnTo>
                    <a:pt x="921" y="1480"/>
                  </a:lnTo>
                  <a:lnTo>
                    <a:pt x="942" y="1474"/>
                  </a:lnTo>
                  <a:lnTo>
                    <a:pt x="963" y="1469"/>
                  </a:lnTo>
                  <a:lnTo>
                    <a:pt x="982" y="1462"/>
                  </a:lnTo>
                  <a:lnTo>
                    <a:pt x="1002" y="1456"/>
                  </a:lnTo>
                  <a:lnTo>
                    <a:pt x="1022" y="1448"/>
                  </a:lnTo>
                  <a:lnTo>
                    <a:pt x="1041" y="1441"/>
                  </a:lnTo>
                  <a:lnTo>
                    <a:pt x="1060" y="1432"/>
                  </a:lnTo>
                  <a:lnTo>
                    <a:pt x="1079" y="1424"/>
                  </a:lnTo>
                  <a:lnTo>
                    <a:pt x="1061" y="1386"/>
                  </a:lnTo>
                  <a:lnTo>
                    <a:pt x="1042" y="1394"/>
                  </a:lnTo>
                  <a:lnTo>
                    <a:pt x="1025" y="1402"/>
                  </a:lnTo>
                  <a:lnTo>
                    <a:pt x="1007" y="1410"/>
                  </a:lnTo>
                  <a:lnTo>
                    <a:pt x="988" y="1416"/>
                  </a:lnTo>
                  <a:lnTo>
                    <a:pt x="970" y="1423"/>
                  </a:lnTo>
                  <a:lnTo>
                    <a:pt x="951" y="1429"/>
                  </a:lnTo>
                  <a:lnTo>
                    <a:pt x="931" y="1434"/>
                  </a:lnTo>
                  <a:lnTo>
                    <a:pt x="912" y="1439"/>
                  </a:lnTo>
                  <a:lnTo>
                    <a:pt x="892" y="1443"/>
                  </a:lnTo>
                  <a:lnTo>
                    <a:pt x="873" y="1447"/>
                  </a:lnTo>
                  <a:lnTo>
                    <a:pt x="852" y="1451"/>
                  </a:lnTo>
                  <a:lnTo>
                    <a:pt x="833" y="1453"/>
                  </a:lnTo>
                  <a:lnTo>
                    <a:pt x="812" y="1455"/>
                  </a:lnTo>
                  <a:lnTo>
                    <a:pt x="792" y="1456"/>
                  </a:lnTo>
                  <a:lnTo>
                    <a:pt x="771" y="1457"/>
                  </a:lnTo>
                  <a:lnTo>
                    <a:pt x="750" y="1457"/>
                  </a:lnTo>
                  <a:lnTo>
                    <a:pt x="714" y="1456"/>
                  </a:lnTo>
                  <a:lnTo>
                    <a:pt x="677" y="1454"/>
                  </a:lnTo>
                  <a:lnTo>
                    <a:pt x="643" y="1450"/>
                  </a:lnTo>
                  <a:lnTo>
                    <a:pt x="607" y="1443"/>
                  </a:lnTo>
                  <a:lnTo>
                    <a:pt x="574" y="1435"/>
                  </a:lnTo>
                  <a:lnTo>
                    <a:pt x="540" y="1426"/>
                  </a:lnTo>
                  <a:lnTo>
                    <a:pt x="507" y="1415"/>
                  </a:lnTo>
                  <a:lnTo>
                    <a:pt x="474" y="1402"/>
                  </a:lnTo>
                  <a:lnTo>
                    <a:pt x="443" y="1388"/>
                  </a:lnTo>
                  <a:lnTo>
                    <a:pt x="413" y="1372"/>
                  </a:lnTo>
                  <a:lnTo>
                    <a:pt x="383" y="1354"/>
                  </a:lnTo>
                  <a:lnTo>
                    <a:pt x="354" y="1336"/>
                  </a:lnTo>
                  <a:lnTo>
                    <a:pt x="326" y="1317"/>
                  </a:lnTo>
                  <a:lnTo>
                    <a:pt x="299" y="1296"/>
                  </a:lnTo>
                  <a:lnTo>
                    <a:pt x="274" y="1273"/>
                  </a:lnTo>
                  <a:lnTo>
                    <a:pt x="249" y="1250"/>
                  </a:lnTo>
                  <a:lnTo>
                    <a:pt x="226" y="1226"/>
                  </a:lnTo>
                  <a:lnTo>
                    <a:pt x="204" y="1200"/>
                  </a:lnTo>
                  <a:lnTo>
                    <a:pt x="182" y="1173"/>
                  </a:lnTo>
                  <a:lnTo>
                    <a:pt x="163" y="1145"/>
                  </a:lnTo>
                  <a:lnTo>
                    <a:pt x="145" y="1117"/>
                  </a:lnTo>
                  <a:lnTo>
                    <a:pt x="127" y="1087"/>
                  </a:lnTo>
                  <a:lnTo>
                    <a:pt x="112" y="1056"/>
                  </a:lnTo>
                  <a:lnTo>
                    <a:pt x="97" y="1025"/>
                  </a:lnTo>
                  <a:lnTo>
                    <a:pt x="85" y="993"/>
                  </a:lnTo>
                  <a:lnTo>
                    <a:pt x="73" y="960"/>
                  </a:lnTo>
                  <a:lnTo>
                    <a:pt x="65" y="927"/>
                  </a:lnTo>
                  <a:lnTo>
                    <a:pt x="56" y="892"/>
                  </a:lnTo>
                  <a:lnTo>
                    <a:pt x="49" y="858"/>
                  </a:lnTo>
                  <a:lnTo>
                    <a:pt x="45" y="822"/>
                  </a:lnTo>
                  <a:lnTo>
                    <a:pt x="43" y="785"/>
                  </a:lnTo>
                  <a:lnTo>
                    <a:pt x="42" y="750"/>
                  </a:lnTo>
                  <a:lnTo>
                    <a:pt x="43" y="713"/>
                  </a:lnTo>
                  <a:lnTo>
                    <a:pt x="45" y="677"/>
                  </a:lnTo>
                  <a:lnTo>
                    <a:pt x="49" y="642"/>
                  </a:lnTo>
                  <a:lnTo>
                    <a:pt x="56" y="607"/>
                  </a:lnTo>
                  <a:lnTo>
                    <a:pt x="65" y="573"/>
                  </a:lnTo>
                  <a:lnTo>
                    <a:pt x="73" y="539"/>
                  </a:lnTo>
                  <a:lnTo>
                    <a:pt x="85" y="506"/>
                  </a:lnTo>
                  <a:lnTo>
                    <a:pt x="97" y="474"/>
                  </a:lnTo>
                  <a:lnTo>
                    <a:pt x="112" y="443"/>
                  </a:lnTo>
                  <a:lnTo>
                    <a:pt x="127" y="412"/>
                  </a:lnTo>
                  <a:lnTo>
                    <a:pt x="145" y="382"/>
                  </a:lnTo>
                  <a:lnTo>
                    <a:pt x="163" y="353"/>
                  </a:lnTo>
                  <a:lnTo>
                    <a:pt x="182" y="326"/>
                  </a:lnTo>
                  <a:lnTo>
                    <a:pt x="204" y="299"/>
                  </a:lnTo>
                  <a:lnTo>
                    <a:pt x="226" y="273"/>
                  </a:lnTo>
                  <a:lnTo>
                    <a:pt x="249" y="249"/>
                  </a:lnTo>
                  <a:lnTo>
                    <a:pt x="274" y="225"/>
                  </a:lnTo>
                  <a:lnTo>
                    <a:pt x="299" y="203"/>
                  </a:lnTo>
                  <a:lnTo>
                    <a:pt x="326" y="182"/>
                  </a:lnTo>
                  <a:lnTo>
                    <a:pt x="354" y="162"/>
                  </a:lnTo>
                  <a:lnTo>
                    <a:pt x="383" y="144"/>
                  </a:lnTo>
                  <a:lnTo>
                    <a:pt x="413" y="127"/>
                  </a:lnTo>
                  <a:lnTo>
                    <a:pt x="443" y="111"/>
                  </a:lnTo>
                  <a:lnTo>
                    <a:pt x="474" y="97"/>
                  </a:lnTo>
                  <a:lnTo>
                    <a:pt x="507" y="84"/>
                  </a:lnTo>
                  <a:lnTo>
                    <a:pt x="540" y="74"/>
                  </a:lnTo>
                  <a:lnTo>
                    <a:pt x="574" y="64"/>
                  </a:lnTo>
                  <a:lnTo>
                    <a:pt x="607" y="55"/>
                  </a:lnTo>
                  <a:lnTo>
                    <a:pt x="643" y="50"/>
                  </a:lnTo>
                  <a:lnTo>
                    <a:pt x="677" y="46"/>
                  </a:lnTo>
                  <a:lnTo>
                    <a:pt x="714" y="42"/>
                  </a:lnTo>
                  <a:lnTo>
                    <a:pt x="750" y="41"/>
                  </a:lnTo>
                  <a:lnTo>
                    <a:pt x="786" y="42"/>
                  </a:lnTo>
                  <a:lnTo>
                    <a:pt x="822" y="46"/>
                  </a:lnTo>
                  <a:lnTo>
                    <a:pt x="858" y="50"/>
                  </a:lnTo>
                  <a:lnTo>
                    <a:pt x="893" y="55"/>
                  </a:lnTo>
                  <a:lnTo>
                    <a:pt x="927" y="64"/>
                  </a:lnTo>
                  <a:lnTo>
                    <a:pt x="960" y="74"/>
                  </a:lnTo>
                  <a:lnTo>
                    <a:pt x="994" y="84"/>
                  </a:lnTo>
                  <a:lnTo>
                    <a:pt x="1026" y="97"/>
                  </a:lnTo>
                  <a:lnTo>
                    <a:pt x="1058" y="111"/>
                  </a:lnTo>
                  <a:lnTo>
                    <a:pt x="1088" y="127"/>
                  </a:lnTo>
                  <a:lnTo>
                    <a:pt x="1117" y="144"/>
                  </a:lnTo>
                  <a:lnTo>
                    <a:pt x="1146" y="162"/>
                  </a:lnTo>
                  <a:lnTo>
                    <a:pt x="1174" y="182"/>
                  </a:lnTo>
                  <a:lnTo>
                    <a:pt x="1200" y="203"/>
                  </a:lnTo>
                  <a:lnTo>
                    <a:pt x="1226" y="225"/>
                  </a:lnTo>
                  <a:lnTo>
                    <a:pt x="1251" y="249"/>
                  </a:lnTo>
                  <a:lnTo>
                    <a:pt x="1275" y="273"/>
                  </a:lnTo>
                  <a:lnTo>
                    <a:pt x="1296" y="299"/>
                  </a:lnTo>
                  <a:lnTo>
                    <a:pt x="1318" y="326"/>
                  </a:lnTo>
                  <a:lnTo>
                    <a:pt x="1337" y="353"/>
                  </a:lnTo>
                  <a:lnTo>
                    <a:pt x="1356" y="382"/>
                  </a:lnTo>
                  <a:lnTo>
                    <a:pt x="1373" y="412"/>
                  </a:lnTo>
                  <a:lnTo>
                    <a:pt x="1388" y="443"/>
                  </a:lnTo>
                  <a:lnTo>
                    <a:pt x="1403" y="474"/>
                  </a:lnTo>
                  <a:lnTo>
                    <a:pt x="1415" y="506"/>
                  </a:lnTo>
                  <a:lnTo>
                    <a:pt x="1427" y="539"/>
                  </a:lnTo>
                  <a:lnTo>
                    <a:pt x="1436" y="573"/>
                  </a:lnTo>
                  <a:lnTo>
                    <a:pt x="1444" y="607"/>
                  </a:lnTo>
                  <a:lnTo>
                    <a:pt x="1450" y="642"/>
                  </a:lnTo>
                  <a:lnTo>
                    <a:pt x="1455" y="677"/>
                  </a:lnTo>
                  <a:lnTo>
                    <a:pt x="1457" y="713"/>
                  </a:lnTo>
                  <a:lnTo>
                    <a:pt x="1458" y="750"/>
                  </a:lnTo>
                  <a:lnTo>
                    <a:pt x="1458" y="773"/>
                  </a:lnTo>
                  <a:lnTo>
                    <a:pt x="1457" y="797"/>
                  </a:lnTo>
                  <a:lnTo>
                    <a:pt x="1455" y="820"/>
                  </a:lnTo>
                  <a:lnTo>
                    <a:pt x="1452" y="844"/>
                  </a:lnTo>
                  <a:lnTo>
                    <a:pt x="1449" y="866"/>
                  </a:lnTo>
                  <a:lnTo>
                    <a:pt x="1444" y="889"/>
                  </a:lnTo>
                  <a:lnTo>
                    <a:pt x="1440" y="912"/>
                  </a:lnTo>
                  <a:lnTo>
                    <a:pt x="1435" y="933"/>
                  </a:lnTo>
                  <a:lnTo>
                    <a:pt x="1475" y="944"/>
                  </a:lnTo>
                  <a:lnTo>
                    <a:pt x="1480" y="920"/>
                  </a:lnTo>
                  <a:lnTo>
                    <a:pt x="1485" y="898"/>
                  </a:lnTo>
                  <a:lnTo>
                    <a:pt x="1490" y="873"/>
                  </a:lnTo>
                  <a:lnTo>
                    <a:pt x="1494" y="849"/>
                  </a:lnTo>
                  <a:lnTo>
                    <a:pt x="1496" y="824"/>
                  </a:lnTo>
                  <a:lnTo>
                    <a:pt x="1498" y="799"/>
                  </a:lnTo>
                  <a:lnTo>
                    <a:pt x="1500" y="775"/>
                  </a:lnTo>
                  <a:lnTo>
                    <a:pt x="1501" y="750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84720" y="2708280"/>
              <a:ext cx="579240" cy="577800"/>
            </a:xfrm>
            <a:custGeom>
              <a:avLst/>
              <a:gdLst/>
              <a:ahLst/>
              <a:rect l="l" t="t" r="r" b="b"/>
              <a:pathLst>
                <a:path w="1458" h="1458">
                  <a:moveTo>
                    <a:pt x="1458" y="729"/>
                  </a:moveTo>
                  <a:lnTo>
                    <a:pt x="1457" y="691"/>
                  </a:lnTo>
                  <a:lnTo>
                    <a:pt x="1455" y="654"/>
                  </a:lnTo>
                  <a:lnTo>
                    <a:pt x="1450" y="617"/>
                  </a:lnTo>
                  <a:lnTo>
                    <a:pt x="1444" y="582"/>
                  </a:lnTo>
                  <a:lnTo>
                    <a:pt x="1435" y="546"/>
                  </a:lnTo>
                  <a:lnTo>
                    <a:pt x="1426" y="512"/>
                  </a:lnTo>
                  <a:lnTo>
                    <a:pt x="1414" y="478"/>
                  </a:lnTo>
                  <a:lnTo>
                    <a:pt x="1401" y="445"/>
                  </a:lnTo>
                  <a:lnTo>
                    <a:pt x="1387" y="412"/>
                  </a:lnTo>
                  <a:lnTo>
                    <a:pt x="1370" y="381"/>
                  </a:lnTo>
                  <a:lnTo>
                    <a:pt x="1353" y="351"/>
                  </a:lnTo>
                  <a:lnTo>
                    <a:pt x="1334" y="320"/>
                  </a:lnTo>
                  <a:lnTo>
                    <a:pt x="1313" y="292"/>
                  </a:lnTo>
                  <a:lnTo>
                    <a:pt x="1292" y="264"/>
                  </a:lnTo>
                  <a:lnTo>
                    <a:pt x="1269" y="238"/>
                  </a:lnTo>
                  <a:lnTo>
                    <a:pt x="1245" y="214"/>
                  </a:lnTo>
                  <a:lnTo>
                    <a:pt x="1219" y="189"/>
                  </a:lnTo>
                  <a:lnTo>
                    <a:pt x="1193" y="166"/>
                  </a:lnTo>
                  <a:lnTo>
                    <a:pt x="1165" y="144"/>
                  </a:lnTo>
                  <a:lnTo>
                    <a:pt x="1137" y="124"/>
                  </a:lnTo>
                  <a:lnTo>
                    <a:pt x="1107" y="106"/>
                  </a:lnTo>
                  <a:lnTo>
                    <a:pt x="1077" y="87"/>
                  </a:lnTo>
                  <a:lnTo>
                    <a:pt x="1045" y="71"/>
                  </a:lnTo>
                  <a:lnTo>
                    <a:pt x="1013" y="57"/>
                  </a:lnTo>
                  <a:lnTo>
                    <a:pt x="979" y="44"/>
                  </a:lnTo>
                  <a:lnTo>
                    <a:pt x="946" y="32"/>
                  </a:lnTo>
                  <a:lnTo>
                    <a:pt x="911" y="22"/>
                  </a:lnTo>
                  <a:lnTo>
                    <a:pt x="876" y="15"/>
                  </a:lnTo>
                  <a:lnTo>
                    <a:pt x="840" y="8"/>
                  </a:lnTo>
                  <a:lnTo>
                    <a:pt x="803" y="3"/>
                  </a:lnTo>
                  <a:lnTo>
                    <a:pt x="766" y="1"/>
                  </a:lnTo>
                  <a:lnTo>
                    <a:pt x="729" y="0"/>
                  </a:lnTo>
                  <a:lnTo>
                    <a:pt x="692" y="1"/>
                  </a:lnTo>
                  <a:lnTo>
                    <a:pt x="654" y="3"/>
                  </a:lnTo>
                  <a:lnTo>
                    <a:pt x="618" y="8"/>
                  </a:lnTo>
                  <a:lnTo>
                    <a:pt x="582" y="15"/>
                  </a:lnTo>
                  <a:lnTo>
                    <a:pt x="547" y="22"/>
                  </a:lnTo>
                  <a:lnTo>
                    <a:pt x="513" y="32"/>
                  </a:lnTo>
                  <a:lnTo>
                    <a:pt x="478" y="44"/>
                  </a:lnTo>
                  <a:lnTo>
                    <a:pt x="446" y="57"/>
                  </a:lnTo>
                  <a:lnTo>
                    <a:pt x="413" y="71"/>
                  </a:lnTo>
                  <a:lnTo>
                    <a:pt x="382" y="87"/>
                  </a:lnTo>
                  <a:lnTo>
                    <a:pt x="352" y="106"/>
                  </a:lnTo>
                  <a:lnTo>
                    <a:pt x="321" y="124"/>
                  </a:lnTo>
                  <a:lnTo>
                    <a:pt x="293" y="144"/>
                  </a:lnTo>
                  <a:lnTo>
                    <a:pt x="265" y="166"/>
                  </a:lnTo>
                  <a:lnTo>
                    <a:pt x="239" y="189"/>
                  </a:lnTo>
                  <a:lnTo>
                    <a:pt x="213" y="214"/>
                  </a:lnTo>
                  <a:lnTo>
                    <a:pt x="189" y="238"/>
                  </a:lnTo>
                  <a:lnTo>
                    <a:pt x="167" y="264"/>
                  </a:lnTo>
                  <a:lnTo>
                    <a:pt x="145" y="292"/>
                  </a:lnTo>
                  <a:lnTo>
                    <a:pt x="125" y="320"/>
                  </a:lnTo>
                  <a:lnTo>
                    <a:pt x="105" y="351"/>
                  </a:lnTo>
                  <a:lnTo>
                    <a:pt x="88" y="381"/>
                  </a:lnTo>
                  <a:lnTo>
                    <a:pt x="72" y="412"/>
                  </a:lnTo>
                  <a:lnTo>
                    <a:pt x="58" y="445"/>
                  </a:lnTo>
                  <a:lnTo>
                    <a:pt x="45" y="478"/>
                  </a:lnTo>
                  <a:lnTo>
                    <a:pt x="33" y="512"/>
                  </a:lnTo>
                  <a:lnTo>
                    <a:pt x="23" y="546"/>
                  </a:lnTo>
                  <a:lnTo>
                    <a:pt x="14" y="582"/>
                  </a:lnTo>
                  <a:lnTo>
                    <a:pt x="8" y="617"/>
                  </a:lnTo>
                  <a:lnTo>
                    <a:pt x="4" y="654"/>
                  </a:lnTo>
                  <a:lnTo>
                    <a:pt x="1" y="691"/>
                  </a:lnTo>
                  <a:lnTo>
                    <a:pt x="0" y="729"/>
                  </a:lnTo>
                  <a:lnTo>
                    <a:pt x="1" y="765"/>
                  </a:lnTo>
                  <a:lnTo>
                    <a:pt x="4" y="803"/>
                  </a:lnTo>
                  <a:lnTo>
                    <a:pt x="8" y="840"/>
                  </a:lnTo>
                  <a:lnTo>
                    <a:pt x="14" y="876"/>
                  </a:lnTo>
                  <a:lnTo>
                    <a:pt x="23" y="910"/>
                  </a:lnTo>
                  <a:lnTo>
                    <a:pt x="33" y="945"/>
                  </a:lnTo>
                  <a:lnTo>
                    <a:pt x="45" y="979"/>
                  </a:lnTo>
                  <a:lnTo>
                    <a:pt x="58" y="1012"/>
                  </a:lnTo>
                  <a:lnTo>
                    <a:pt x="72" y="1044"/>
                  </a:lnTo>
                  <a:lnTo>
                    <a:pt x="88" y="1075"/>
                  </a:lnTo>
                  <a:lnTo>
                    <a:pt x="105" y="1107"/>
                  </a:lnTo>
                  <a:lnTo>
                    <a:pt x="125" y="1136"/>
                  </a:lnTo>
                  <a:lnTo>
                    <a:pt x="145" y="1165"/>
                  </a:lnTo>
                  <a:lnTo>
                    <a:pt x="167" y="1192"/>
                  </a:lnTo>
                  <a:lnTo>
                    <a:pt x="189" y="1219"/>
                  </a:lnTo>
                  <a:lnTo>
                    <a:pt x="213" y="1244"/>
                  </a:lnTo>
                  <a:lnTo>
                    <a:pt x="239" y="1268"/>
                  </a:lnTo>
                  <a:lnTo>
                    <a:pt x="265" y="1291"/>
                  </a:lnTo>
                  <a:lnTo>
                    <a:pt x="293" y="1313"/>
                  </a:lnTo>
                  <a:lnTo>
                    <a:pt x="321" y="1332"/>
                  </a:lnTo>
                  <a:lnTo>
                    <a:pt x="352" y="1352"/>
                  </a:lnTo>
                  <a:lnTo>
                    <a:pt x="382" y="1369"/>
                  </a:lnTo>
                  <a:lnTo>
                    <a:pt x="413" y="1385"/>
                  </a:lnTo>
                  <a:lnTo>
                    <a:pt x="446" y="1400"/>
                  </a:lnTo>
                  <a:lnTo>
                    <a:pt x="478" y="1413"/>
                  </a:lnTo>
                  <a:lnTo>
                    <a:pt x="513" y="1424"/>
                  </a:lnTo>
                  <a:lnTo>
                    <a:pt x="547" y="1434"/>
                  </a:lnTo>
                  <a:lnTo>
                    <a:pt x="582" y="1443"/>
                  </a:lnTo>
                  <a:lnTo>
                    <a:pt x="618" y="1449"/>
                  </a:lnTo>
                  <a:lnTo>
                    <a:pt x="654" y="1453"/>
                  </a:lnTo>
                  <a:lnTo>
                    <a:pt x="692" y="1457"/>
                  </a:lnTo>
                  <a:lnTo>
                    <a:pt x="729" y="1458"/>
                  </a:lnTo>
                  <a:lnTo>
                    <a:pt x="750" y="1457"/>
                  </a:lnTo>
                  <a:lnTo>
                    <a:pt x="772" y="1456"/>
                  </a:lnTo>
                  <a:lnTo>
                    <a:pt x="793" y="1454"/>
                  </a:lnTo>
                  <a:lnTo>
                    <a:pt x="814" y="1452"/>
                  </a:lnTo>
                  <a:lnTo>
                    <a:pt x="835" y="1450"/>
                  </a:lnTo>
                  <a:lnTo>
                    <a:pt x="855" y="1447"/>
                  </a:lnTo>
                  <a:lnTo>
                    <a:pt x="876" y="1443"/>
                  </a:lnTo>
                  <a:lnTo>
                    <a:pt x="896" y="1438"/>
                  </a:lnTo>
                  <a:lnTo>
                    <a:pt x="916" y="1433"/>
                  </a:lnTo>
                  <a:lnTo>
                    <a:pt x="935" y="1427"/>
                  </a:lnTo>
                  <a:lnTo>
                    <a:pt x="956" y="1422"/>
                  </a:lnTo>
                  <a:lnTo>
                    <a:pt x="974" y="1416"/>
                  </a:lnTo>
                  <a:lnTo>
                    <a:pt x="993" y="1408"/>
                  </a:lnTo>
                  <a:lnTo>
                    <a:pt x="1012" y="1400"/>
                  </a:lnTo>
                  <a:lnTo>
                    <a:pt x="1030" y="1392"/>
                  </a:lnTo>
                  <a:lnTo>
                    <a:pt x="1048" y="1383"/>
                  </a:lnTo>
                  <a:lnTo>
                    <a:pt x="1030" y="1346"/>
                  </a:lnTo>
                  <a:lnTo>
                    <a:pt x="996" y="1362"/>
                  </a:lnTo>
                  <a:lnTo>
                    <a:pt x="960" y="1376"/>
                  </a:lnTo>
                  <a:lnTo>
                    <a:pt x="943" y="1382"/>
                  </a:lnTo>
                  <a:lnTo>
                    <a:pt x="924" y="1387"/>
                  </a:lnTo>
                  <a:lnTo>
                    <a:pt x="905" y="1393"/>
                  </a:lnTo>
                  <a:lnTo>
                    <a:pt x="886" y="1397"/>
                  </a:lnTo>
                  <a:lnTo>
                    <a:pt x="867" y="1402"/>
                  </a:lnTo>
                  <a:lnTo>
                    <a:pt x="849" y="1406"/>
                  </a:lnTo>
                  <a:lnTo>
                    <a:pt x="829" y="1408"/>
                  </a:lnTo>
                  <a:lnTo>
                    <a:pt x="809" y="1411"/>
                  </a:lnTo>
                  <a:lnTo>
                    <a:pt x="789" y="1413"/>
                  </a:lnTo>
                  <a:lnTo>
                    <a:pt x="770" y="1414"/>
                  </a:lnTo>
                  <a:lnTo>
                    <a:pt x="749" y="1416"/>
                  </a:lnTo>
                  <a:lnTo>
                    <a:pt x="729" y="1416"/>
                  </a:lnTo>
                  <a:lnTo>
                    <a:pt x="694" y="1414"/>
                  </a:lnTo>
                  <a:lnTo>
                    <a:pt x="658" y="1412"/>
                  </a:lnTo>
                  <a:lnTo>
                    <a:pt x="625" y="1408"/>
                  </a:lnTo>
                  <a:lnTo>
                    <a:pt x="590" y="1402"/>
                  </a:lnTo>
                  <a:lnTo>
                    <a:pt x="557" y="1394"/>
                  </a:lnTo>
                  <a:lnTo>
                    <a:pt x="524" y="1384"/>
                  </a:lnTo>
                  <a:lnTo>
                    <a:pt x="493" y="1373"/>
                  </a:lnTo>
                  <a:lnTo>
                    <a:pt x="462" y="1362"/>
                  </a:lnTo>
                  <a:lnTo>
                    <a:pt x="431" y="1348"/>
                  </a:lnTo>
                  <a:lnTo>
                    <a:pt x="401" y="1332"/>
                  </a:lnTo>
                  <a:lnTo>
                    <a:pt x="373" y="1316"/>
                  </a:lnTo>
                  <a:lnTo>
                    <a:pt x="345" y="1298"/>
                  </a:lnTo>
                  <a:lnTo>
                    <a:pt x="318" y="1279"/>
                  </a:lnTo>
                  <a:lnTo>
                    <a:pt x="292" y="1259"/>
                  </a:lnTo>
                  <a:lnTo>
                    <a:pt x="267" y="1237"/>
                  </a:lnTo>
                  <a:lnTo>
                    <a:pt x="243" y="1215"/>
                  </a:lnTo>
                  <a:lnTo>
                    <a:pt x="220" y="1191"/>
                  </a:lnTo>
                  <a:lnTo>
                    <a:pt x="198" y="1166"/>
                  </a:lnTo>
                  <a:lnTo>
                    <a:pt x="179" y="1139"/>
                  </a:lnTo>
                  <a:lnTo>
                    <a:pt x="159" y="1113"/>
                  </a:lnTo>
                  <a:lnTo>
                    <a:pt x="141" y="1085"/>
                  </a:lnTo>
                  <a:lnTo>
                    <a:pt x="125" y="1056"/>
                  </a:lnTo>
                  <a:lnTo>
                    <a:pt x="109" y="1027"/>
                  </a:lnTo>
                  <a:lnTo>
                    <a:pt x="95" y="995"/>
                  </a:lnTo>
                  <a:lnTo>
                    <a:pt x="84" y="965"/>
                  </a:lnTo>
                  <a:lnTo>
                    <a:pt x="73" y="933"/>
                  </a:lnTo>
                  <a:lnTo>
                    <a:pt x="63" y="900"/>
                  </a:lnTo>
                  <a:lnTo>
                    <a:pt x="55" y="867"/>
                  </a:lnTo>
                  <a:lnTo>
                    <a:pt x="50" y="833"/>
                  </a:lnTo>
                  <a:lnTo>
                    <a:pt x="45" y="799"/>
                  </a:lnTo>
                  <a:lnTo>
                    <a:pt x="43" y="764"/>
                  </a:lnTo>
                  <a:lnTo>
                    <a:pt x="41" y="729"/>
                  </a:lnTo>
                  <a:lnTo>
                    <a:pt x="43" y="693"/>
                  </a:lnTo>
                  <a:lnTo>
                    <a:pt x="45" y="658"/>
                  </a:lnTo>
                  <a:lnTo>
                    <a:pt x="50" y="624"/>
                  </a:lnTo>
                  <a:lnTo>
                    <a:pt x="55" y="590"/>
                  </a:lnTo>
                  <a:lnTo>
                    <a:pt x="63" y="557"/>
                  </a:lnTo>
                  <a:lnTo>
                    <a:pt x="73" y="525"/>
                  </a:lnTo>
                  <a:lnTo>
                    <a:pt x="84" y="492"/>
                  </a:lnTo>
                  <a:lnTo>
                    <a:pt x="95" y="461"/>
                  </a:lnTo>
                  <a:lnTo>
                    <a:pt x="109" y="431"/>
                  </a:lnTo>
                  <a:lnTo>
                    <a:pt x="125" y="400"/>
                  </a:lnTo>
                  <a:lnTo>
                    <a:pt x="141" y="372"/>
                  </a:lnTo>
                  <a:lnTo>
                    <a:pt x="159" y="344"/>
                  </a:lnTo>
                  <a:lnTo>
                    <a:pt x="179" y="317"/>
                  </a:lnTo>
                  <a:lnTo>
                    <a:pt x="198" y="291"/>
                  </a:lnTo>
                  <a:lnTo>
                    <a:pt x="220" y="266"/>
                  </a:lnTo>
                  <a:lnTo>
                    <a:pt x="243" y="243"/>
                  </a:lnTo>
                  <a:lnTo>
                    <a:pt x="267" y="220"/>
                  </a:lnTo>
                  <a:lnTo>
                    <a:pt x="292" y="198"/>
                  </a:lnTo>
                  <a:lnTo>
                    <a:pt x="318" y="178"/>
                  </a:lnTo>
                  <a:lnTo>
                    <a:pt x="345" y="158"/>
                  </a:lnTo>
                  <a:lnTo>
                    <a:pt x="373" y="141"/>
                  </a:lnTo>
                  <a:lnTo>
                    <a:pt x="401" y="124"/>
                  </a:lnTo>
                  <a:lnTo>
                    <a:pt x="431" y="109"/>
                  </a:lnTo>
                  <a:lnTo>
                    <a:pt x="462" y="95"/>
                  </a:lnTo>
                  <a:lnTo>
                    <a:pt x="493" y="83"/>
                  </a:lnTo>
                  <a:lnTo>
                    <a:pt x="524" y="72"/>
                  </a:lnTo>
                  <a:lnTo>
                    <a:pt x="557" y="62"/>
                  </a:lnTo>
                  <a:lnTo>
                    <a:pt x="590" y="55"/>
                  </a:lnTo>
                  <a:lnTo>
                    <a:pt x="625" y="49"/>
                  </a:lnTo>
                  <a:lnTo>
                    <a:pt x="658" y="45"/>
                  </a:lnTo>
                  <a:lnTo>
                    <a:pt x="694" y="42"/>
                  </a:lnTo>
                  <a:lnTo>
                    <a:pt x="729" y="41"/>
                  </a:lnTo>
                  <a:lnTo>
                    <a:pt x="764" y="42"/>
                  </a:lnTo>
                  <a:lnTo>
                    <a:pt x="800" y="45"/>
                  </a:lnTo>
                  <a:lnTo>
                    <a:pt x="833" y="49"/>
                  </a:lnTo>
                  <a:lnTo>
                    <a:pt x="868" y="55"/>
                  </a:lnTo>
                  <a:lnTo>
                    <a:pt x="900" y="62"/>
                  </a:lnTo>
                  <a:lnTo>
                    <a:pt x="934" y="72"/>
                  </a:lnTo>
                  <a:lnTo>
                    <a:pt x="965" y="83"/>
                  </a:lnTo>
                  <a:lnTo>
                    <a:pt x="997" y="95"/>
                  </a:lnTo>
                  <a:lnTo>
                    <a:pt x="1027" y="109"/>
                  </a:lnTo>
                  <a:lnTo>
                    <a:pt x="1057" y="124"/>
                  </a:lnTo>
                  <a:lnTo>
                    <a:pt x="1085" y="141"/>
                  </a:lnTo>
                  <a:lnTo>
                    <a:pt x="1113" y="158"/>
                  </a:lnTo>
                  <a:lnTo>
                    <a:pt x="1140" y="178"/>
                  </a:lnTo>
                  <a:lnTo>
                    <a:pt x="1166" y="198"/>
                  </a:lnTo>
                  <a:lnTo>
                    <a:pt x="1191" y="220"/>
                  </a:lnTo>
                  <a:lnTo>
                    <a:pt x="1215" y="243"/>
                  </a:lnTo>
                  <a:lnTo>
                    <a:pt x="1238" y="266"/>
                  </a:lnTo>
                  <a:lnTo>
                    <a:pt x="1259" y="291"/>
                  </a:lnTo>
                  <a:lnTo>
                    <a:pt x="1280" y="317"/>
                  </a:lnTo>
                  <a:lnTo>
                    <a:pt x="1299" y="344"/>
                  </a:lnTo>
                  <a:lnTo>
                    <a:pt x="1318" y="372"/>
                  </a:lnTo>
                  <a:lnTo>
                    <a:pt x="1334" y="400"/>
                  </a:lnTo>
                  <a:lnTo>
                    <a:pt x="1349" y="431"/>
                  </a:lnTo>
                  <a:lnTo>
                    <a:pt x="1363" y="461"/>
                  </a:lnTo>
                  <a:lnTo>
                    <a:pt x="1375" y="492"/>
                  </a:lnTo>
                  <a:lnTo>
                    <a:pt x="1386" y="525"/>
                  </a:lnTo>
                  <a:lnTo>
                    <a:pt x="1395" y="557"/>
                  </a:lnTo>
                  <a:lnTo>
                    <a:pt x="1403" y="590"/>
                  </a:lnTo>
                  <a:lnTo>
                    <a:pt x="1408" y="624"/>
                  </a:lnTo>
                  <a:lnTo>
                    <a:pt x="1413" y="658"/>
                  </a:lnTo>
                  <a:lnTo>
                    <a:pt x="1416" y="693"/>
                  </a:lnTo>
                  <a:lnTo>
                    <a:pt x="1417" y="729"/>
                  </a:lnTo>
                  <a:lnTo>
                    <a:pt x="1416" y="751"/>
                  </a:lnTo>
                  <a:lnTo>
                    <a:pt x="1415" y="774"/>
                  </a:lnTo>
                  <a:lnTo>
                    <a:pt x="1414" y="797"/>
                  </a:lnTo>
                  <a:lnTo>
                    <a:pt x="1410" y="819"/>
                  </a:lnTo>
                  <a:lnTo>
                    <a:pt x="1407" y="842"/>
                  </a:lnTo>
                  <a:lnTo>
                    <a:pt x="1403" y="864"/>
                  </a:lnTo>
                  <a:lnTo>
                    <a:pt x="1399" y="885"/>
                  </a:lnTo>
                  <a:lnTo>
                    <a:pt x="1393" y="907"/>
                  </a:lnTo>
                  <a:lnTo>
                    <a:pt x="1433" y="918"/>
                  </a:lnTo>
                  <a:lnTo>
                    <a:pt x="1440" y="895"/>
                  </a:lnTo>
                  <a:lnTo>
                    <a:pt x="1444" y="872"/>
                  </a:lnTo>
                  <a:lnTo>
                    <a:pt x="1448" y="849"/>
                  </a:lnTo>
                  <a:lnTo>
                    <a:pt x="1452" y="825"/>
                  </a:lnTo>
                  <a:lnTo>
                    <a:pt x="1455" y="801"/>
                  </a:lnTo>
                  <a:lnTo>
                    <a:pt x="1457" y="777"/>
                  </a:lnTo>
                  <a:lnTo>
                    <a:pt x="1458" y="752"/>
                  </a:lnTo>
                  <a:lnTo>
                    <a:pt x="1458" y="72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292640" y="2716200"/>
              <a:ext cx="561960" cy="561960"/>
            </a:xfrm>
            <a:custGeom>
              <a:avLst/>
              <a:gdLst/>
              <a:ahLst/>
              <a:rect l="l" t="t" r="r" b="b"/>
              <a:pathLst>
                <a:path w="1416" h="1416">
                  <a:moveTo>
                    <a:pt x="1416" y="709"/>
                  </a:moveTo>
                  <a:lnTo>
                    <a:pt x="1415" y="672"/>
                  </a:lnTo>
                  <a:lnTo>
                    <a:pt x="1413" y="636"/>
                  </a:lnTo>
                  <a:lnTo>
                    <a:pt x="1408" y="601"/>
                  </a:lnTo>
                  <a:lnTo>
                    <a:pt x="1402" y="566"/>
                  </a:lnTo>
                  <a:lnTo>
                    <a:pt x="1394" y="532"/>
                  </a:lnTo>
                  <a:lnTo>
                    <a:pt x="1385" y="498"/>
                  </a:lnTo>
                  <a:lnTo>
                    <a:pt x="1373" y="465"/>
                  </a:lnTo>
                  <a:lnTo>
                    <a:pt x="1361" y="433"/>
                  </a:lnTo>
                  <a:lnTo>
                    <a:pt x="1346" y="402"/>
                  </a:lnTo>
                  <a:lnTo>
                    <a:pt x="1331" y="371"/>
                  </a:lnTo>
                  <a:lnTo>
                    <a:pt x="1314" y="341"/>
                  </a:lnTo>
                  <a:lnTo>
                    <a:pt x="1295" y="312"/>
                  </a:lnTo>
                  <a:lnTo>
                    <a:pt x="1276" y="285"/>
                  </a:lnTo>
                  <a:lnTo>
                    <a:pt x="1254" y="258"/>
                  </a:lnTo>
                  <a:lnTo>
                    <a:pt x="1233" y="232"/>
                  </a:lnTo>
                  <a:lnTo>
                    <a:pt x="1209" y="208"/>
                  </a:lnTo>
                  <a:lnTo>
                    <a:pt x="1184" y="184"/>
                  </a:lnTo>
                  <a:lnTo>
                    <a:pt x="1158" y="162"/>
                  </a:lnTo>
                  <a:lnTo>
                    <a:pt x="1132" y="141"/>
                  </a:lnTo>
                  <a:lnTo>
                    <a:pt x="1104" y="121"/>
                  </a:lnTo>
                  <a:lnTo>
                    <a:pt x="1075" y="103"/>
                  </a:lnTo>
                  <a:lnTo>
                    <a:pt x="1046" y="86"/>
                  </a:lnTo>
                  <a:lnTo>
                    <a:pt x="1016" y="70"/>
                  </a:lnTo>
                  <a:lnTo>
                    <a:pt x="984" y="56"/>
                  </a:lnTo>
                  <a:lnTo>
                    <a:pt x="952" y="43"/>
                  </a:lnTo>
                  <a:lnTo>
                    <a:pt x="918" y="33"/>
                  </a:lnTo>
                  <a:lnTo>
                    <a:pt x="885" y="23"/>
                  </a:lnTo>
                  <a:lnTo>
                    <a:pt x="851" y="14"/>
                  </a:lnTo>
                  <a:lnTo>
                    <a:pt x="816" y="9"/>
                  </a:lnTo>
                  <a:lnTo>
                    <a:pt x="780" y="5"/>
                  </a:lnTo>
                  <a:lnTo>
                    <a:pt x="744" y="1"/>
                  </a:lnTo>
                  <a:lnTo>
                    <a:pt x="708" y="0"/>
                  </a:lnTo>
                  <a:lnTo>
                    <a:pt x="672" y="1"/>
                  </a:lnTo>
                  <a:lnTo>
                    <a:pt x="635" y="5"/>
                  </a:lnTo>
                  <a:lnTo>
                    <a:pt x="601" y="9"/>
                  </a:lnTo>
                  <a:lnTo>
                    <a:pt x="565" y="14"/>
                  </a:lnTo>
                  <a:lnTo>
                    <a:pt x="532" y="23"/>
                  </a:lnTo>
                  <a:lnTo>
                    <a:pt x="498" y="33"/>
                  </a:lnTo>
                  <a:lnTo>
                    <a:pt x="465" y="43"/>
                  </a:lnTo>
                  <a:lnTo>
                    <a:pt x="432" y="56"/>
                  </a:lnTo>
                  <a:lnTo>
                    <a:pt x="401" y="70"/>
                  </a:lnTo>
                  <a:lnTo>
                    <a:pt x="371" y="86"/>
                  </a:lnTo>
                  <a:lnTo>
                    <a:pt x="341" y="103"/>
                  </a:lnTo>
                  <a:lnTo>
                    <a:pt x="312" y="121"/>
                  </a:lnTo>
                  <a:lnTo>
                    <a:pt x="284" y="141"/>
                  </a:lnTo>
                  <a:lnTo>
                    <a:pt x="257" y="162"/>
                  </a:lnTo>
                  <a:lnTo>
                    <a:pt x="232" y="184"/>
                  </a:lnTo>
                  <a:lnTo>
                    <a:pt x="207" y="208"/>
                  </a:lnTo>
                  <a:lnTo>
                    <a:pt x="184" y="232"/>
                  </a:lnTo>
                  <a:lnTo>
                    <a:pt x="162" y="258"/>
                  </a:lnTo>
                  <a:lnTo>
                    <a:pt x="140" y="285"/>
                  </a:lnTo>
                  <a:lnTo>
                    <a:pt x="121" y="312"/>
                  </a:lnTo>
                  <a:lnTo>
                    <a:pt x="103" y="341"/>
                  </a:lnTo>
                  <a:lnTo>
                    <a:pt x="85" y="371"/>
                  </a:lnTo>
                  <a:lnTo>
                    <a:pt x="70" y="402"/>
                  </a:lnTo>
                  <a:lnTo>
                    <a:pt x="55" y="433"/>
                  </a:lnTo>
                  <a:lnTo>
                    <a:pt x="43" y="465"/>
                  </a:lnTo>
                  <a:lnTo>
                    <a:pt x="31" y="498"/>
                  </a:lnTo>
                  <a:lnTo>
                    <a:pt x="23" y="532"/>
                  </a:lnTo>
                  <a:lnTo>
                    <a:pt x="14" y="566"/>
                  </a:lnTo>
                  <a:lnTo>
                    <a:pt x="7" y="601"/>
                  </a:lnTo>
                  <a:lnTo>
                    <a:pt x="3" y="636"/>
                  </a:lnTo>
                  <a:lnTo>
                    <a:pt x="1" y="672"/>
                  </a:lnTo>
                  <a:lnTo>
                    <a:pt x="0" y="709"/>
                  </a:lnTo>
                  <a:lnTo>
                    <a:pt x="1" y="744"/>
                  </a:lnTo>
                  <a:lnTo>
                    <a:pt x="3" y="781"/>
                  </a:lnTo>
                  <a:lnTo>
                    <a:pt x="7" y="817"/>
                  </a:lnTo>
                  <a:lnTo>
                    <a:pt x="14" y="851"/>
                  </a:lnTo>
                  <a:lnTo>
                    <a:pt x="23" y="886"/>
                  </a:lnTo>
                  <a:lnTo>
                    <a:pt x="31" y="919"/>
                  </a:lnTo>
                  <a:lnTo>
                    <a:pt x="43" y="952"/>
                  </a:lnTo>
                  <a:lnTo>
                    <a:pt x="55" y="984"/>
                  </a:lnTo>
                  <a:lnTo>
                    <a:pt x="70" y="1015"/>
                  </a:lnTo>
                  <a:lnTo>
                    <a:pt x="85" y="1046"/>
                  </a:lnTo>
                  <a:lnTo>
                    <a:pt x="103" y="1076"/>
                  </a:lnTo>
                  <a:lnTo>
                    <a:pt x="121" y="1104"/>
                  </a:lnTo>
                  <a:lnTo>
                    <a:pt x="140" y="1132"/>
                  </a:lnTo>
                  <a:lnTo>
                    <a:pt x="162" y="1159"/>
                  </a:lnTo>
                  <a:lnTo>
                    <a:pt x="184" y="1185"/>
                  </a:lnTo>
                  <a:lnTo>
                    <a:pt x="207" y="1209"/>
                  </a:lnTo>
                  <a:lnTo>
                    <a:pt x="232" y="1232"/>
                  </a:lnTo>
                  <a:lnTo>
                    <a:pt x="257" y="1255"/>
                  </a:lnTo>
                  <a:lnTo>
                    <a:pt x="284" y="1276"/>
                  </a:lnTo>
                  <a:lnTo>
                    <a:pt x="312" y="1295"/>
                  </a:lnTo>
                  <a:lnTo>
                    <a:pt x="341" y="1313"/>
                  </a:lnTo>
                  <a:lnTo>
                    <a:pt x="371" y="1331"/>
                  </a:lnTo>
                  <a:lnTo>
                    <a:pt x="401" y="1347"/>
                  </a:lnTo>
                  <a:lnTo>
                    <a:pt x="432" y="1361"/>
                  </a:lnTo>
                  <a:lnTo>
                    <a:pt x="465" y="1374"/>
                  </a:lnTo>
                  <a:lnTo>
                    <a:pt x="498" y="1385"/>
                  </a:lnTo>
                  <a:lnTo>
                    <a:pt x="532" y="1394"/>
                  </a:lnTo>
                  <a:lnTo>
                    <a:pt x="565" y="1402"/>
                  </a:lnTo>
                  <a:lnTo>
                    <a:pt x="601" y="1409"/>
                  </a:lnTo>
                  <a:lnTo>
                    <a:pt x="635" y="1413"/>
                  </a:lnTo>
                  <a:lnTo>
                    <a:pt x="672" y="1415"/>
                  </a:lnTo>
                  <a:lnTo>
                    <a:pt x="708" y="1416"/>
                  </a:lnTo>
                  <a:lnTo>
                    <a:pt x="729" y="1416"/>
                  </a:lnTo>
                  <a:lnTo>
                    <a:pt x="750" y="1415"/>
                  </a:lnTo>
                  <a:lnTo>
                    <a:pt x="770" y="1414"/>
                  </a:lnTo>
                  <a:lnTo>
                    <a:pt x="791" y="1412"/>
                  </a:lnTo>
                  <a:lnTo>
                    <a:pt x="810" y="1410"/>
                  </a:lnTo>
                  <a:lnTo>
                    <a:pt x="831" y="1406"/>
                  </a:lnTo>
                  <a:lnTo>
                    <a:pt x="850" y="1402"/>
                  </a:lnTo>
                  <a:lnTo>
                    <a:pt x="870" y="1398"/>
                  </a:lnTo>
                  <a:lnTo>
                    <a:pt x="889" y="1393"/>
                  </a:lnTo>
                  <a:lnTo>
                    <a:pt x="909" y="1388"/>
                  </a:lnTo>
                  <a:lnTo>
                    <a:pt x="928" y="1382"/>
                  </a:lnTo>
                  <a:lnTo>
                    <a:pt x="946" y="1375"/>
                  </a:lnTo>
                  <a:lnTo>
                    <a:pt x="965" y="1369"/>
                  </a:lnTo>
                  <a:lnTo>
                    <a:pt x="983" y="1361"/>
                  </a:lnTo>
                  <a:lnTo>
                    <a:pt x="1000" y="1353"/>
                  </a:lnTo>
                  <a:lnTo>
                    <a:pt x="1019" y="1345"/>
                  </a:lnTo>
                  <a:lnTo>
                    <a:pt x="1000" y="1307"/>
                  </a:lnTo>
                  <a:lnTo>
                    <a:pt x="967" y="1323"/>
                  </a:lnTo>
                  <a:lnTo>
                    <a:pt x="932" y="1336"/>
                  </a:lnTo>
                  <a:lnTo>
                    <a:pt x="897" y="1348"/>
                  </a:lnTo>
                  <a:lnTo>
                    <a:pt x="860" y="1358"/>
                  </a:lnTo>
                  <a:lnTo>
                    <a:pt x="842" y="1361"/>
                  </a:lnTo>
                  <a:lnTo>
                    <a:pt x="823" y="1365"/>
                  </a:lnTo>
                  <a:lnTo>
                    <a:pt x="805" y="1367"/>
                  </a:lnTo>
                  <a:lnTo>
                    <a:pt x="785" y="1371"/>
                  </a:lnTo>
                  <a:lnTo>
                    <a:pt x="766" y="1372"/>
                  </a:lnTo>
                  <a:lnTo>
                    <a:pt x="748" y="1374"/>
                  </a:lnTo>
                  <a:lnTo>
                    <a:pt x="728" y="1375"/>
                  </a:lnTo>
                  <a:lnTo>
                    <a:pt x="708" y="1375"/>
                  </a:lnTo>
                  <a:lnTo>
                    <a:pt x="674" y="1374"/>
                  </a:lnTo>
                  <a:lnTo>
                    <a:pt x="640" y="1372"/>
                  </a:lnTo>
                  <a:lnTo>
                    <a:pt x="607" y="1367"/>
                  </a:lnTo>
                  <a:lnTo>
                    <a:pt x="574" y="1361"/>
                  </a:lnTo>
                  <a:lnTo>
                    <a:pt x="541" y="1353"/>
                  </a:lnTo>
                  <a:lnTo>
                    <a:pt x="510" y="1345"/>
                  </a:lnTo>
                  <a:lnTo>
                    <a:pt x="479" y="1334"/>
                  </a:lnTo>
                  <a:lnTo>
                    <a:pt x="448" y="1322"/>
                  </a:lnTo>
                  <a:lnTo>
                    <a:pt x="419" y="1309"/>
                  </a:lnTo>
                  <a:lnTo>
                    <a:pt x="390" y="1294"/>
                  </a:lnTo>
                  <a:lnTo>
                    <a:pt x="363" y="1278"/>
                  </a:lnTo>
                  <a:lnTo>
                    <a:pt x="336" y="1261"/>
                  </a:lnTo>
                  <a:lnTo>
                    <a:pt x="309" y="1242"/>
                  </a:lnTo>
                  <a:lnTo>
                    <a:pt x="284" y="1223"/>
                  </a:lnTo>
                  <a:lnTo>
                    <a:pt x="260" y="1201"/>
                  </a:lnTo>
                  <a:lnTo>
                    <a:pt x="237" y="1180"/>
                  </a:lnTo>
                  <a:lnTo>
                    <a:pt x="215" y="1157"/>
                  </a:lnTo>
                  <a:lnTo>
                    <a:pt x="193" y="1132"/>
                  </a:lnTo>
                  <a:lnTo>
                    <a:pt x="174" y="1107"/>
                  </a:lnTo>
                  <a:lnTo>
                    <a:pt x="155" y="1081"/>
                  </a:lnTo>
                  <a:lnTo>
                    <a:pt x="138" y="1054"/>
                  </a:lnTo>
                  <a:lnTo>
                    <a:pt x="122" y="1026"/>
                  </a:lnTo>
                  <a:lnTo>
                    <a:pt x="107" y="997"/>
                  </a:lnTo>
                  <a:lnTo>
                    <a:pt x="94" y="968"/>
                  </a:lnTo>
                  <a:lnTo>
                    <a:pt x="82" y="938"/>
                  </a:lnTo>
                  <a:lnTo>
                    <a:pt x="71" y="906"/>
                  </a:lnTo>
                  <a:lnTo>
                    <a:pt x="63" y="875"/>
                  </a:lnTo>
                  <a:lnTo>
                    <a:pt x="55" y="843"/>
                  </a:lnTo>
                  <a:lnTo>
                    <a:pt x="50" y="810"/>
                  </a:lnTo>
                  <a:lnTo>
                    <a:pt x="45" y="777"/>
                  </a:lnTo>
                  <a:lnTo>
                    <a:pt x="42" y="743"/>
                  </a:lnTo>
                  <a:lnTo>
                    <a:pt x="41" y="709"/>
                  </a:lnTo>
                  <a:lnTo>
                    <a:pt x="42" y="674"/>
                  </a:lnTo>
                  <a:lnTo>
                    <a:pt x="45" y="641"/>
                  </a:lnTo>
                  <a:lnTo>
                    <a:pt x="50" y="607"/>
                  </a:lnTo>
                  <a:lnTo>
                    <a:pt x="55" y="574"/>
                  </a:lnTo>
                  <a:lnTo>
                    <a:pt x="63" y="542"/>
                  </a:lnTo>
                  <a:lnTo>
                    <a:pt x="71" y="510"/>
                  </a:lnTo>
                  <a:lnTo>
                    <a:pt x="82" y="480"/>
                  </a:lnTo>
                  <a:lnTo>
                    <a:pt x="94" y="449"/>
                  </a:lnTo>
                  <a:lnTo>
                    <a:pt x="107" y="419"/>
                  </a:lnTo>
                  <a:lnTo>
                    <a:pt x="122" y="391"/>
                  </a:lnTo>
                  <a:lnTo>
                    <a:pt x="138" y="363"/>
                  </a:lnTo>
                  <a:lnTo>
                    <a:pt x="155" y="336"/>
                  </a:lnTo>
                  <a:lnTo>
                    <a:pt x="174" y="310"/>
                  </a:lnTo>
                  <a:lnTo>
                    <a:pt x="193" y="284"/>
                  </a:lnTo>
                  <a:lnTo>
                    <a:pt x="215" y="260"/>
                  </a:lnTo>
                  <a:lnTo>
                    <a:pt x="237" y="237"/>
                  </a:lnTo>
                  <a:lnTo>
                    <a:pt x="260" y="215"/>
                  </a:lnTo>
                  <a:lnTo>
                    <a:pt x="284" y="195"/>
                  </a:lnTo>
                  <a:lnTo>
                    <a:pt x="309" y="174"/>
                  </a:lnTo>
                  <a:lnTo>
                    <a:pt x="336" y="156"/>
                  </a:lnTo>
                  <a:lnTo>
                    <a:pt x="363" y="138"/>
                  </a:lnTo>
                  <a:lnTo>
                    <a:pt x="390" y="122"/>
                  </a:lnTo>
                  <a:lnTo>
                    <a:pt x="419" y="108"/>
                  </a:lnTo>
                  <a:lnTo>
                    <a:pt x="448" y="94"/>
                  </a:lnTo>
                  <a:lnTo>
                    <a:pt x="479" y="82"/>
                  </a:lnTo>
                  <a:lnTo>
                    <a:pt x="510" y="71"/>
                  </a:lnTo>
                  <a:lnTo>
                    <a:pt x="541" y="63"/>
                  </a:lnTo>
                  <a:lnTo>
                    <a:pt x="574" y="55"/>
                  </a:lnTo>
                  <a:lnTo>
                    <a:pt x="607" y="50"/>
                  </a:lnTo>
                  <a:lnTo>
                    <a:pt x="640" y="46"/>
                  </a:lnTo>
                  <a:lnTo>
                    <a:pt x="674" y="43"/>
                  </a:lnTo>
                  <a:lnTo>
                    <a:pt x="708" y="42"/>
                  </a:lnTo>
                  <a:lnTo>
                    <a:pt x="742" y="43"/>
                  </a:lnTo>
                  <a:lnTo>
                    <a:pt x="777" y="46"/>
                  </a:lnTo>
                  <a:lnTo>
                    <a:pt x="809" y="50"/>
                  </a:lnTo>
                  <a:lnTo>
                    <a:pt x="843" y="55"/>
                  </a:lnTo>
                  <a:lnTo>
                    <a:pt x="875" y="63"/>
                  </a:lnTo>
                  <a:lnTo>
                    <a:pt x="906" y="71"/>
                  </a:lnTo>
                  <a:lnTo>
                    <a:pt x="938" y="82"/>
                  </a:lnTo>
                  <a:lnTo>
                    <a:pt x="968" y="94"/>
                  </a:lnTo>
                  <a:lnTo>
                    <a:pt x="997" y="108"/>
                  </a:lnTo>
                  <a:lnTo>
                    <a:pt x="1026" y="122"/>
                  </a:lnTo>
                  <a:lnTo>
                    <a:pt x="1053" y="138"/>
                  </a:lnTo>
                  <a:lnTo>
                    <a:pt x="1080" y="156"/>
                  </a:lnTo>
                  <a:lnTo>
                    <a:pt x="1107" y="174"/>
                  </a:lnTo>
                  <a:lnTo>
                    <a:pt x="1132" y="195"/>
                  </a:lnTo>
                  <a:lnTo>
                    <a:pt x="1156" y="215"/>
                  </a:lnTo>
                  <a:lnTo>
                    <a:pt x="1180" y="237"/>
                  </a:lnTo>
                  <a:lnTo>
                    <a:pt x="1201" y="260"/>
                  </a:lnTo>
                  <a:lnTo>
                    <a:pt x="1223" y="284"/>
                  </a:lnTo>
                  <a:lnTo>
                    <a:pt x="1243" y="310"/>
                  </a:lnTo>
                  <a:lnTo>
                    <a:pt x="1261" y="336"/>
                  </a:lnTo>
                  <a:lnTo>
                    <a:pt x="1278" y="363"/>
                  </a:lnTo>
                  <a:lnTo>
                    <a:pt x="1294" y="391"/>
                  </a:lnTo>
                  <a:lnTo>
                    <a:pt x="1310" y="419"/>
                  </a:lnTo>
                  <a:lnTo>
                    <a:pt x="1322" y="449"/>
                  </a:lnTo>
                  <a:lnTo>
                    <a:pt x="1334" y="480"/>
                  </a:lnTo>
                  <a:lnTo>
                    <a:pt x="1345" y="510"/>
                  </a:lnTo>
                  <a:lnTo>
                    <a:pt x="1354" y="542"/>
                  </a:lnTo>
                  <a:lnTo>
                    <a:pt x="1361" y="574"/>
                  </a:lnTo>
                  <a:lnTo>
                    <a:pt x="1367" y="607"/>
                  </a:lnTo>
                  <a:lnTo>
                    <a:pt x="1371" y="641"/>
                  </a:lnTo>
                  <a:lnTo>
                    <a:pt x="1374" y="674"/>
                  </a:lnTo>
                  <a:lnTo>
                    <a:pt x="1374" y="709"/>
                  </a:lnTo>
                  <a:lnTo>
                    <a:pt x="1374" y="730"/>
                  </a:lnTo>
                  <a:lnTo>
                    <a:pt x="1373" y="753"/>
                  </a:lnTo>
                  <a:lnTo>
                    <a:pt x="1371" y="775"/>
                  </a:lnTo>
                  <a:lnTo>
                    <a:pt x="1369" y="797"/>
                  </a:lnTo>
                  <a:lnTo>
                    <a:pt x="1366" y="819"/>
                  </a:lnTo>
                  <a:lnTo>
                    <a:pt x="1361" y="839"/>
                  </a:lnTo>
                  <a:lnTo>
                    <a:pt x="1357" y="861"/>
                  </a:lnTo>
                  <a:lnTo>
                    <a:pt x="1352" y="881"/>
                  </a:lnTo>
                  <a:lnTo>
                    <a:pt x="1393" y="892"/>
                  </a:lnTo>
                  <a:lnTo>
                    <a:pt x="1398" y="871"/>
                  </a:lnTo>
                  <a:lnTo>
                    <a:pt x="1402" y="848"/>
                  </a:lnTo>
                  <a:lnTo>
                    <a:pt x="1407" y="825"/>
                  </a:lnTo>
                  <a:lnTo>
                    <a:pt x="1410" y="803"/>
                  </a:lnTo>
                  <a:lnTo>
                    <a:pt x="1413" y="779"/>
                  </a:lnTo>
                  <a:lnTo>
                    <a:pt x="1415" y="756"/>
                  </a:lnTo>
                  <a:lnTo>
                    <a:pt x="1416" y="732"/>
                  </a:lnTo>
                  <a:lnTo>
                    <a:pt x="1416" y="709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300560" y="2724120"/>
              <a:ext cx="546120" cy="546120"/>
            </a:xfrm>
            <a:custGeom>
              <a:avLst/>
              <a:gdLst/>
              <a:ahLst/>
              <a:rect l="l" t="t" r="r" b="b"/>
              <a:pathLst>
                <a:path w="1376" h="1375">
                  <a:moveTo>
                    <a:pt x="1376" y="688"/>
                  </a:moveTo>
                  <a:lnTo>
                    <a:pt x="1375" y="652"/>
                  </a:lnTo>
                  <a:lnTo>
                    <a:pt x="1372" y="617"/>
                  </a:lnTo>
                  <a:lnTo>
                    <a:pt x="1367" y="583"/>
                  </a:lnTo>
                  <a:lnTo>
                    <a:pt x="1362" y="549"/>
                  </a:lnTo>
                  <a:lnTo>
                    <a:pt x="1354" y="516"/>
                  </a:lnTo>
                  <a:lnTo>
                    <a:pt x="1345" y="484"/>
                  </a:lnTo>
                  <a:lnTo>
                    <a:pt x="1334" y="451"/>
                  </a:lnTo>
                  <a:lnTo>
                    <a:pt x="1322" y="420"/>
                  </a:lnTo>
                  <a:lnTo>
                    <a:pt x="1308" y="390"/>
                  </a:lnTo>
                  <a:lnTo>
                    <a:pt x="1293" y="359"/>
                  </a:lnTo>
                  <a:lnTo>
                    <a:pt x="1277" y="331"/>
                  </a:lnTo>
                  <a:lnTo>
                    <a:pt x="1258" y="303"/>
                  </a:lnTo>
                  <a:lnTo>
                    <a:pt x="1239" y="276"/>
                  </a:lnTo>
                  <a:lnTo>
                    <a:pt x="1218" y="250"/>
                  </a:lnTo>
                  <a:lnTo>
                    <a:pt x="1197" y="225"/>
                  </a:lnTo>
                  <a:lnTo>
                    <a:pt x="1174" y="202"/>
                  </a:lnTo>
                  <a:lnTo>
                    <a:pt x="1150" y="179"/>
                  </a:lnTo>
                  <a:lnTo>
                    <a:pt x="1125" y="157"/>
                  </a:lnTo>
                  <a:lnTo>
                    <a:pt x="1099" y="137"/>
                  </a:lnTo>
                  <a:lnTo>
                    <a:pt x="1072" y="117"/>
                  </a:lnTo>
                  <a:lnTo>
                    <a:pt x="1044" y="100"/>
                  </a:lnTo>
                  <a:lnTo>
                    <a:pt x="1016" y="83"/>
                  </a:lnTo>
                  <a:lnTo>
                    <a:pt x="986" y="68"/>
                  </a:lnTo>
                  <a:lnTo>
                    <a:pt x="956" y="54"/>
                  </a:lnTo>
                  <a:lnTo>
                    <a:pt x="924" y="42"/>
                  </a:lnTo>
                  <a:lnTo>
                    <a:pt x="893" y="31"/>
                  </a:lnTo>
                  <a:lnTo>
                    <a:pt x="859" y="21"/>
                  </a:lnTo>
                  <a:lnTo>
                    <a:pt x="827" y="14"/>
                  </a:lnTo>
                  <a:lnTo>
                    <a:pt x="792" y="8"/>
                  </a:lnTo>
                  <a:lnTo>
                    <a:pt x="759" y="4"/>
                  </a:lnTo>
                  <a:lnTo>
                    <a:pt x="723" y="1"/>
                  </a:lnTo>
                  <a:lnTo>
                    <a:pt x="688" y="0"/>
                  </a:lnTo>
                  <a:lnTo>
                    <a:pt x="653" y="1"/>
                  </a:lnTo>
                  <a:lnTo>
                    <a:pt x="617" y="4"/>
                  </a:lnTo>
                  <a:lnTo>
                    <a:pt x="584" y="8"/>
                  </a:lnTo>
                  <a:lnTo>
                    <a:pt x="549" y="14"/>
                  </a:lnTo>
                  <a:lnTo>
                    <a:pt x="516" y="21"/>
                  </a:lnTo>
                  <a:lnTo>
                    <a:pt x="483" y="31"/>
                  </a:lnTo>
                  <a:lnTo>
                    <a:pt x="452" y="42"/>
                  </a:lnTo>
                  <a:lnTo>
                    <a:pt x="421" y="54"/>
                  </a:lnTo>
                  <a:lnTo>
                    <a:pt x="390" y="68"/>
                  </a:lnTo>
                  <a:lnTo>
                    <a:pt x="360" y="83"/>
                  </a:lnTo>
                  <a:lnTo>
                    <a:pt x="332" y="100"/>
                  </a:lnTo>
                  <a:lnTo>
                    <a:pt x="304" y="117"/>
                  </a:lnTo>
                  <a:lnTo>
                    <a:pt x="277" y="137"/>
                  </a:lnTo>
                  <a:lnTo>
                    <a:pt x="251" y="157"/>
                  </a:lnTo>
                  <a:lnTo>
                    <a:pt x="226" y="179"/>
                  </a:lnTo>
                  <a:lnTo>
                    <a:pt x="202" y="202"/>
                  </a:lnTo>
                  <a:lnTo>
                    <a:pt x="179" y="225"/>
                  </a:lnTo>
                  <a:lnTo>
                    <a:pt x="157" y="250"/>
                  </a:lnTo>
                  <a:lnTo>
                    <a:pt x="138" y="276"/>
                  </a:lnTo>
                  <a:lnTo>
                    <a:pt x="118" y="303"/>
                  </a:lnTo>
                  <a:lnTo>
                    <a:pt x="100" y="331"/>
                  </a:lnTo>
                  <a:lnTo>
                    <a:pt x="84" y="359"/>
                  </a:lnTo>
                  <a:lnTo>
                    <a:pt x="68" y="390"/>
                  </a:lnTo>
                  <a:lnTo>
                    <a:pt x="54" y="420"/>
                  </a:lnTo>
                  <a:lnTo>
                    <a:pt x="43" y="451"/>
                  </a:lnTo>
                  <a:lnTo>
                    <a:pt x="32" y="484"/>
                  </a:lnTo>
                  <a:lnTo>
                    <a:pt x="22" y="516"/>
                  </a:lnTo>
                  <a:lnTo>
                    <a:pt x="14" y="549"/>
                  </a:lnTo>
                  <a:lnTo>
                    <a:pt x="9" y="583"/>
                  </a:lnTo>
                  <a:lnTo>
                    <a:pt x="4" y="617"/>
                  </a:lnTo>
                  <a:lnTo>
                    <a:pt x="2" y="652"/>
                  </a:lnTo>
                  <a:lnTo>
                    <a:pt x="0" y="688"/>
                  </a:lnTo>
                  <a:lnTo>
                    <a:pt x="2" y="723"/>
                  </a:lnTo>
                  <a:lnTo>
                    <a:pt x="4" y="758"/>
                  </a:lnTo>
                  <a:lnTo>
                    <a:pt x="9" y="792"/>
                  </a:lnTo>
                  <a:lnTo>
                    <a:pt x="14" y="826"/>
                  </a:lnTo>
                  <a:lnTo>
                    <a:pt x="22" y="859"/>
                  </a:lnTo>
                  <a:lnTo>
                    <a:pt x="32" y="892"/>
                  </a:lnTo>
                  <a:lnTo>
                    <a:pt x="43" y="924"/>
                  </a:lnTo>
                  <a:lnTo>
                    <a:pt x="54" y="954"/>
                  </a:lnTo>
                  <a:lnTo>
                    <a:pt x="68" y="986"/>
                  </a:lnTo>
                  <a:lnTo>
                    <a:pt x="84" y="1015"/>
                  </a:lnTo>
                  <a:lnTo>
                    <a:pt x="100" y="1044"/>
                  </a:lnTo>
                  <a:lnTo>
                    <a:pt x="118" y="1072"/>
                  </a:lnTo>
                  <a:lnTo>
                    <a:pt x="138" y="1098"/>
                  </a:lnTo>
                  <a:lnTo>
                    <a:pt x="157" y="1125"/>
                  </a:lnTo>
                  <a:lnTo>
                    <a:pt x="179" y="1150"/>
                  </a:lnTo>
                  <a:lnTo>
                    <a:pt x="202" y="1174"/>
                  </a:lnTo>
                  <a:lnTo>
                    <a:pt x="226" y="1196"/>
                  </a:lnTo>
                  <a:lnTo>
                    <a:pt x="251" y="1218"/>
                  </a:lnTo>
                  <a:lnTo>
                    <a:pt x="277" y="1238"/>
                  </a:lnTo>
                  <a:lnTo>
                    <a:pt x="304" y="1257"/>
                  </a:lnTo>
                  <a:lnTo>
                    <a:pt x="332" y="1275"/>
                  </a:lnTo>
                  <a:lnTo>
                    <a:pt x="360" y="1291"/>
                  </a:lnTo>
                  <a:lnTo>
                    <a:pt x="390" y="1307"/>
                  </a:lnTo>
                  <a:lnTo>
                    <a:pt x="421" y="1321"/>
                  </a:lnTo>
                  <a:lnTo>
                    <a:pt x="452" y="1332"/>
                  </a:lnTo>
                  <a:lnTo>
                    <a:pt x="483" y="1343"/>
                  </a:lnTo>
                  <a:lnTo>
                    <a:pt x="516" y="1353"/>
                  </a:lnTo>
                  <a:lnTo>
                    <a:pt x="549" y="1361"/>
                  </a:lnTo>
                  <a:lnTo>
                    <a:pt x="584" y="1367"/>
                  </a:lnTo>
                  <a:lnTo>
                    <a:pt x="617" y="1371"/>
                  </a:lnTo>
                  <a:lnTo>
                    <a:pt x="653" y="1373"/>
                  </a:lnTo>
                  <a:lnTo>
                    <a:pt x="688" y="1375"/>
                  </a:lnTo>
                  <a:lnTo>
                    <a:pt x="708" y="1375"/>
                  </a:lnTo>
                  <a:lnTo>
                    <a:pt x="729" y="1373"/>
                  </a:lnTo>
                  <a:lnTo>
                    <a:pt x="748" y="1372"/>
                  </a:lnTo>
                  <a:lnTo>
                    <a:pt x="768" y="1370"/>
                  </a:lnTo>
                  <a:lnTo>
                    <a:pt x="788" y="1367"/>
                  </a:lnTo>
                  <a:lnTo>
                    <a:pt x="808" y="1365"/>
                  </a:lnTo>
                  <a:lnTo>
                    <a:pt x="826" y="1361"/>
                  </a:lnTo>
                  <a:lnTo>
                    <a:pt x="845" y="1356"/>
                  </a:lnTo>
                  <a:lnTo>
                    <a:pt x="864" y="1352"/>
                  </a:lnTo>
                  <a:lnTo>
                    <a:pt x="883" y="1346"/>
                  </a:lnTo>
                  <a:lnTo>
                    <a:pt x="902" y="1341"/>
                  </a:lnTo>
                  <a:lnTo>
                    <a:pt x="919" y="1335"/>
                  </a:lnTo>
                  <a:lnTo>
                    <a:pt x="955" y="1321"/>
                  </a:lnTo>
                  <a:lnTo>
                    <a:pt x="989" y="1305"/>
                  </a:lnTo>
                  <a:lnTo>
                    <a:pt x="972" y="1268"/>
                  </a:lnTo>
                  <a:lnTo>
                    <a:pt x="938" y="1283"/>
                  </a:lnTo>
                  <a:lnTo>
                    <a:pt x="905" y="1296"/>
                  </a:lnTo>
                  <a:lnTo>
                    <a:pt x="871" y="1307"/>
                  </a:lnTo>
                  <a:lnTo>
                    <a:pt x="836" y="1316"/>
                  </a:lnTo>
                  <a:lnTo>
                    <a:pt x="800" y="1324"/>
                  </a:lnTo>
                  <a:lnTo>
                    <a:pt x="763" y="1328"/>
                  </a:lnTo>
                  <a:lnTo>
                    <a:pt x="745" y="1330"/>
                  </a:lnTo>
                  <a:lnTo>
                    <a:pt x="725" y="1331"/>
                  </a:lnTo>
                  <a:lnTo>
                    <a:pt x="707" y="1332"/>
                  </a:lnTo>
                  <a:lnTo>
                    <a:pt x="688" y="1332"/>
                  </a:lnTo>
                  <a:lnTo>
                    <a:pt x="655" y="1332"/>
                  </a:lnTo>
                  <a:lnTo>
                    <a:pt x="622" y="1329"/>
                  </a:lnTo>
                  <a:lnTo>
                    <a:pt x="589" y="1326"/>
                  </a:lnTo>
                  <a:lnTo>
                    <a:pt x="558" y="1319"/>
                  </a:lnTo>
                  <a:lnTo>
                    <a:pt x="527" y="1313"/>
                  </a:lnTo>
                  <a:lnTo>
                    <a:pt x="496" y="1304"/>
                  </a:lnTo>
                  <a:lnTo>
                    <a:pt x="466" y="1294"/>
                  </a:lnTo>
                  <a:lnTo>
                    <a:pt x="437" y="1283"/>
                  </a:lnTo>
                  <a:lnTo>
                    <a:pt x="408" y="1270"/>
                  </a:lnTo>
                  <a:lnTo>
                    <a:pt x="381" y="1255"/>
                  </a:lnTo>
                  <a:lnTo>
                    <a:pt x="354" y="1240"/>
                  </a:lnTo>
                  <a:lnTo>
                    <a:pt x="327" y="1222"/>
                  </a:lnTo>
                  <a:lnTo>
                    <a:pt x="302" y="1205"/>
                  </a:lnTo>
                  <a:lnTo>
                    <a:pt x="277" y="1186"/>
                  </a:lnTo>
                  <a:lnTo>
                    <a:pt x="254" y="1165"/>
                  </a:lnTo>
                  <a:lnTo>
                    <a:pt x="232" y="1143"/>
                  </a:lnTo>
                  <a:lnTo>
                    <a:pt x="210" y="1122"/>
                  </a:lnTo>
                  <a:lnTo>
                    <a:pt x="190" y="1098"/>
                  </a:lnTo>
                  <a:lnTo>
                    <a:pt x="171" y="1073"/>
                  </a:lnTo>
                  <a:lnTo>
                    <a:pt x="153" y="1048"/>
                  </a:lnTo>
                  <a:lnTo>
                    <a:pt x="135" y="1022"/>
                  </a:lnTo>
                  <a:lnTo>
                    <a:pt x="120" y="995"/>
                  </a:lnTo>
                  <a:lnTo>
                    <a:pt x="106" y="967"/>
                  </a:lnTo>
                  <a:lnTo>
                    <a:pt x="93" y="938"/>
                  </a:lnTo>
                  <a:lnTo>
                    <a:pt x="81" y="909"/>
                  </a:lnTo>
                  <a:lnTo>
                    <a:pt x="72" y="880"/>
                  </a:lnTo>
                  <a:lnTo>
                    <a:pt x="63" y="849"/>
                  </a:lnTo>
                  <a:lnTo>
                    <a:pt x="56" y="817"/>
                  </a:lnTo>
                  <a:lnTo>
                    <a:pt x="50" y="786"/>
                  </a:lnTo>
                  <a:lnTo>
                    <a:pt x="46" y="754"/>
                  </a:lnTo>
                  <a:lnTo>
                    <a:pt x="44" y="721"/>
                  </a:lnTo>
                  <a:lnTo>
                    <a:pt x="43" y="688"/>
                  </a:lnTo>
                  <a:lnTo>
                    <a:pt x="44" y="654"/>
                  </a:lnTo>
                  <a:lnTo>
                    <a:pt x="46" y="622"/>
                  </a:lnTo>
                  <a:lnTo>
                    <a:pt x="50" y="589"/>
                  </a:lnTo>
                  <a:lnTo>
                    <a:pt x="56" y="557"/>
                  </a:lnTo>
                  <a:lnTo>
                    <a:pt x="63" y="526"/>
                  </a:lnTo>
                  <a:lnTo>
                    <a:pt x="72" y="495"/>
                  </a:lnTo>
                  <a:lnTo>
                    <a:pt x="81" y="465"/>
                  </a:lnTo>
                  <a:lnTo>
                    <a:pt x="93" y="436"/>
                  </a:lnTo>
                  <a:lnTo>
                    <a:pt x="106" y="408"/>
                  </a:lnTo>
                  <a:lnTo>
                    <a:pt x="120" y="380"/>
                  </a:lnTo>
                  <a:lnTo>
                    <a:pt x="135" y="353"/>
                  </a:lnTo>
                  <a:lnTo>
                    <a:pt x="153" y="327"/>
                  </a:lnTo>
                  <a:lnTo>
                    <a:pt x="171" y="301"/>
                  </a:lnTo>
                  <a:lnTo>
                    <a:pt x="190" y="277"/>
                  </a:lnTo>
                  <a:lnTo>
                    <a:pt x="210" y="254"/>
                  </a:lnTo>
                  <a:lnTo>
                    <a:pt x="232" y="231"/>
                  </a:lnTo>
                  <a:lnTo>
                    <a:pt x="254" y="209"/>
                  </a:lnTo>
                  <a:lnTo>
                    <a:pt x="277" y="190"/>
                  </a:lnTo>
                  <a:lnTo>
                    <a:pt x="302" y="170"/>
                  </a:lnTo>
                  <a:lnTo>
                    <a:pt x="327" y="152"/>
                  </a:lnTo>
                  <a:lnTo>
                    <a:pt x="354" y="136"/>
                  </a:lnTo>
                  <a:lnTo>
                    <a:pt x="381" y="120"/>
                  </a:lnTo>
                  <a:lnTo>
                    <a:pt x="408" y="106"/>
                  </a:lnTo>
                  <a:lnTo>
                    <a:pt x="437" y="93"/>
                  </a:lnTo>
                  <a:lnTo>
                    <a:pt x="466" y="81"/>
                  </a:lnTo>
                  <a:lnTo>
                    <a:pt x="496" y="71"/>
                  </a:lnTo>
                  <a:lnTo>
                    <a:pt x="527" y="62"/>
                  </a:lnTo>
                  <a:lnTo>
                    <a:pt x="558" y="55"/>
                  </a:lnTo>
                  <a:lnTo>
                    <a:pt x="589" y="49"/>
                  </a:lnTo>
                  <a:lnTo>
                    <a:pt x="622" y="45"/>
                  </a:lnTo>
                  <a:lnTo>
                    <a:pt x="655" y="43"/>
                  </a:lnTo>
                  <a:lnTo>
                    <a:pt x="688" y="42"/>
                  </a:lnTo>
                  <a:lnTo>
                    <a:pt x="721" y="43"/>
                  </a:lnTo>
                  <a:lnTo>
                    <a:pt x="755" y="45"/>
                  </a:lnTo>
                  <a:lnTo>
                    <a:pt x="786" y="49"/>
                  </a:lnTo>
                  <a:lnTo>
                    <a:pt x="818" y="55"/>
                  </a:lnTo>
                  <a:lnTo>
                    <a:pt x="850" y="62"/>
                  </a:lnTo>
                  <a:lnTo>
                    <a:pt x="880" y="71"/>
                  </a:lnTo>
                  <a:lnTo>
                    <a:pt x="910" y="81"/>
                  </a:lnTo>
                  <a:lnTo>
                    <a:pt x="939" y="93"/>
                  </a:lnTo>
                  <a:lnTo>
                    <a:pt x="969" y="106"/>
                  </a:lnTo>
                  <a:lnTo>
                    <a:pt x="996" y="120"/>
                  </a:lnTo>
                  <a:lnTo>
                    <a:pt x="1023" y="136"/>
                  </a:lnTo>
                  <a:lnTo>
                    <a:pt x="1050" y="152"/>
                  </a:lnTo>
                  <a:lnTo>
                    <a:pt x="1074" y="170"/>
                  </a:lnTo>
                  <a:lnTo>
                    <a:pt x="1099" y="190"/>
                  </a:lnTo>
                  <a:lnTo>
                    <a:pt x="1122" y="209"/>
                  </a:lnTo>
                  <a:lnTo>
                    <a:pt x="1145" y="231"/>
                  </a:lnTo>
                  <a:lnTo>
                    <a:pt x="1166" y="254"/>
                  </a:lnTo>
                  <a:lnTo>
                    <a:pt x="1187" y="277"/>
                  </a:lnTo>
                  <a:lnTo>
                    <a:pt x="1205" y="301"/>
                  </a:lnTo>
                  <a:lnTo>
                    <a:pt x="1224" y="327"/>
                  </a:lnTo>
                  <a:lnTo>
                    <a:pt x="1241" y="353"/>
                  </a:lnTo>
                  <a:lnTo>
                    <a:pt x="1256" y="380"/>
                  </a:lnTo>
                  <a:lnTo>
                    <a:pt x="1270" y="408"/>
                  </a:lnTo>
                  <a:lnTo>
                    <a:pt x="1283" y="436"/>
                  </a:lnTo>
                  <a:lnTo>
                    <a:pt x="1295" y="465"/>
                  </a:lnTo>
                  <a:lnTo>
                    <a:pt x="1305" y="495"/>
                  </a:lnTo>
                  <a:lnTo>
                    <a:pt x="1313" y="526"/>
                  </a:lnTo>
                  <a:lnTo>
                    <a:pt x="1321" y="557"/>
                  </a:lnTo>
                  <a:lnTo>
                    <a:pt x="1326" y="589"/>
                  </a:lnTo>
                  <a:lnTo>
                    <a:pt x="1331" y="622"/>
                  </a:lnTo>
                  <a:lnTo>
                    <a:pt x="1333" y="654"/>
                  </a:lnTo>
                  <a:lnTo>
                    <a:pt x="1334" y="688"/>
                  </a:lnTo>
                  <a:lnTo>
                    <a:pt x="1334" y="709"/>
                  </a:lnTo>
                  <a:lnTo>
                    <a:pt x="1333" y="731"/>
                  </a:lnTo>
                  <a:lnTo>
                    <a:pt x="1331" y="751"/>
                  </a:lnTo>
                  <a:lnTo>
                    <a:pt x="1328" y="773"/>
                  </a:lnTo>
                  <a:lnTo>
                    <a:pt x="1325" y="794"/>
                  </a:lnTo>
                  <a:lnTo>
                    <a:pt x="1322" y="815"/>
                  </a:lnTo>
                  <a:lnTo>
                    <a:pt x="1317" y="835"/>
                  </a:lnTo>
                  <a:lnTo>
                    <a:pt x="1312" y="855"/>
                  </a:lnTo>
                  <a:lnTo>
                    <a:pt x="1352" y="866"/>
                  </a:lnTo>
                  <a:lnTo>
                    <a:pt x="1358" y="844"/>
                  </a:lnTo>
                  <a:lnTo>
                    <a:pt x="1362" y="823"/>
                  </a:lnTo>
                  <a:lnTo>
                    <a:pt x="1366" y="801"/>
                  </a:lnTo>
                  <a:lnTo>
                    <a:pt x="1369" y="778"/>
                  </a:lnTo>
                  <a:lnTo>
                    <a:pt x="1373" y="756"/>
                  </a:lnTo>
                  <a:lnTo>
                    <a:pt x="1374" y="733"/>
                  </a:lnTo>
                  <a:lnTo>
                    <a:pt x="1375" y="710"/>
                  </a:lnTo>
                  <a:lnTo>
                    <a:pt x="1376" y="688"/>
                  </a:lnTo>
                  <a:close/>
                </a:path>
              </a:pathLst>
            </a:custGeom>
            <a:solidFill>
              <a:srgbClr val="f4e9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308480" y="2733480"/>
              <a:ext cx="530280" cy="528840"/>
            </a:xfrm>
            <a:custGeom>
              <a:avLst/>
              <a:gdLst/>
              <a:ahLst/>
              <a:rect l="l" t="t" r="r" b="b"/>
              <a:pathLst>
                <a:path w="1333" h="1333">
                  <a:moveTo>
                    <a:pt x="1333" y="667"/>
                  </a:moveTo>
                  <a:lnTo>
                    <a:pt x="1333" y="632"/>
                  </a:lnTo>
                  <a:lnTo>
                    <a:pt x="1330" y="599"/>
                  </a:lnTo>
                  <a:lnTo>
                    <a:pt x="1326" y="565"/>
                  </a:lnTo>
                  <a:lnTo>
                    <a:pt x="1320" y="532"/>
                  </a:lnTo>
                  <a:lnTo>
                    <a:pt x="1313" y="500"/>
                  </a:lnTo>
                  <a:lnTo>
                    <a:pt x="1304" y="468"/>
                  </a:lnTo>
                  <a:lnTo>
                    <a:pt x="1293" y="438"/>
                  </a:lnTo>
                  <a:lnTo>
                    <a:pt x="1281" y="407"/>
                  </a:lnTo>
                  <a:lnTo>
                    <a:pt x="1269" y="377"/>
                  </a:lnTo>
                  <a:lnTo>
                    <a:pt x="1253" y="349"/>
                  </a:lnTo>
                  <a:lnTo>
                    <a:pt x="1237" y="321"/>
                  </a:lnTo>
                  <a:lnTo>
                    <a:pt x="1220" y="294"/>
                  </a:lnTo>
                  <a:lnTo>
                    <a:pt x="1202" y="268"/>
                  </a:lnTo>
                  <a:lnTo>
                    <a:pt x="1182" y="242"/>
                  </a:lnTo>
                  <a:lnTo>
                    <a:pt x="1160" y="218"/>
                  </a:lnTo>
                  <a:lnTo>
                    <a:pt x="1139" y="195"/>
                  </a:lnTo>
                  <a:lnTo>
                    <a:pt x="1115" y="173"/>
                  </a:lnTo>
                  <a:lnTo>
                    <a:pt x="1091" y="153"/>
                  </a:lnTo>
                  <a:lnTo>
                    <a:pt x="1066" y="132"/>
                  </a:lnTo>
                  <a:lnTo>
                    <a:pt x="1039" y="114"/>
                  </a:lnTo>
                  <a:lnTo>
                    <a:pt x="1012" y="96"/>
                  </a:lnTo>
                  <a:lnTo>
                    <a:pt x="985" y="80"/>
                  </a:lnTo>
                  <a:lnTo>
                    <a:pt x="956" y="66"/>
                  </a:lnTo>
                  <a:lnTo>
                    <a:pt x="927" y="52"/>
                  </a:lnTo>
                  <a:lnTo>
                    <a:pt x="897" y="40"/>
                  </a:lnTo>
                  <a:lnTo>
                    <a:pt x="865" y="29"/>
                  </a:lnTo>
                  <a:lnTo>
                    <a:pt x="834" y="21"/>
                  </a:lnTo>
                  <a:lnTo>
                    <a:pt x="802" y="13"/>
                  </a:lnTo>
                  <a:lnTo>
                    <a:pt x="768" y="8"/>
                  </a:lnTo>
                  <a:lnTo>
                    <a:pt x="736" y="4"/>
                  </a:lnTo>
                  <a:lnTo>
                    <a:pt x="701" y="1"/>
                  </a:lnTo>
                  <a:lnTo>
                    <a:pt x="667" y="0"/>
                  </a:lnTo>
                  <a:lnTo>
                    <a:pt x="633" y="1"/>
                  </a:lnTo>
                  <a:lnTo>
                    <a:pt x="599" y="4"/>
                  </a:lnTo>
                  <a:lnTo>
                    <a:pt x="566" y="8"/>
                  </a:lnTo>
                  <a:lnTo>
                    <a:pt x="533" y="13"/>
                  </a:lnTo>
                  <a:lnTo>
                    <a:pt x="500" y="21"/>
                  </a:lnTo>
                  <a:lnTo>
                    <a:pt x="469" y="29"/>
                  </a:lnTo>
                  <a:lnTo>
                    <a:pt x="438" y="40"/>
                  </a:lnTo>
                  <a:lnTo>
                    <a:pt x="407" y="52"/>
                  </a:lnTo>
                  <a:lnTo>
                    <a:pt x="378" y="66"/>
                  </a:lnTo>
                  <a:lnTo>
                    <a:pt x="349" y="80"/>
                  </a:lnTo>
                  <a:lnTo>
                    <a:pt x="322" y="96"/>
                  </a:lnTo>
                  <a:lnTo>
                    <a:pt x="295" y="114"/>
                  </a:lnTo>
                  <a:lnTo>
                    <a:pt x="268" y="132"/>
                  </a:lnTo>
                  <a:lnTo>
                    <a:pt x="243" y="153"/>
                  </a:lnTo>
                  <a:lnTo>
                    <a:pt x="219" y="173"/>
                  </a:lnTo>
                  <a:lnTo>
                    <a:pt x="196" y="195"/>
                  </a:lnTo>
                  <a:lnTo>
                    <a:pt x="174" y="218"/>
                  </a:lnTo>
                  <a:lnTo>
                    <a:pt x="152" y="242"/>
                  </a:lnTo>
                  <a:lnTo>
                    <a:pt x="133" y="268"/>
                  </a:lnTo>
                  <a:lnTo>
                    <a:pt x="114" y="294"/>
                  </a:lnTo>
                  <a:lnTo>
                    <a:pt x="97" y="321"/>
                  </a:lnTo>
                  <a:lnTo>
                    <a:pt x="81" y="349"/>
                  </a:lnTo>
                  <a:lnTo>
                    <a:pt x="66" y="377"/>
                  </a:lnTo>
                  <a:lnTo>
                    <a:pt x="53" y="407"/>
                  </a:lnTo>
                  <a:lnTo>
                    <a:pt x="41" y="438"/>
                  </a:lnTo>
                  <a:lnTo>
                    <a:pt x="30" y="468"/>
                  </a:lnTo>
                  <a:lnTo>
                    <a:pt x="22" y="500"/>
                  </a:lnTo>
                  <a:lnTo>
                    <a:pt x="14" y="532"/>
                  </a:lnTo>
                  <a:lnTo>
                    <a:pt x="9" y="565"/>
                  </a:lnTo>
                  <a:lnTo>
                    <a:pt x="4" y="599"/>
                  </a:lnTo>
                  <a:lnTo>
                    <a:pt x="1" y="632"/>
                  </a:lnTo>
                  <a:lnTo>
                    <a:pt x="0" y="667"/>
                  </a:lnTo>
                  <a:lnTo>
                    <a:pt x="1" y="701"/>
                  </a:lnTo>
                  <a:lnTo>
                    <a:pt x="4" y="735"/>
                  </a:lnTo>
                  <a:lnTo>
                    <a:pt x="9" y="768"/>
                  </a:lnTo>
                  <a:lnTo>
                    <a:pt x="14" y="801"/>
                  </a:lnTo>
                  <a:lnTo>
                    <a:pt x="22" y="833"/>
                  </a:lnTo>
                  <a:lnTo>
                    <a:pt x="30" y="864"/>
                  </a:lnTo>
                  <a:lnTo>
                    <a:pt x="41" y="896"/>
                  </a:lnTo>
                  <a:lnTo>
                    <a:pt x="53" y="926"/>
                  </a:lnTo>
                  <a:lnTo>
                    <a:pt x="66" y="955"/>
                  </a:lnTo>
                  <a:lnTo>
                    <a:pt x="81" y="984"/>
                  </a:lnTo>
                  <a:lnTo>
                    <a:pt x="97" y="1012"/>
                  </a:lnTo>
                  <a:lnTo>
                    <a:pt x="114" y="1039"/>
                  </a:lnTo>
                  <a:lnTo>
                    <a:pt x="133" y="1065"/>
                  </a:lnTo>
                  <a:lnTo>
                    <a:pt x="152" y="1090"/>
                  </a:lnTo>
                  <a:lnTo>
                    <a:pt x="174" y="1115"/>
                  </a:lnTo>
                  <a:lnTo>
                    <a:pt x="196" y="1138"/>
                  </a:lnTo>
                  <a:lnTo>
                    <a:pt x="219" y="1159"/>
                  </a:lnTo>
                  <a:lnTo>
                    <a:pt x="243" y="1181"/>
                  </a:lnTo>
                  <a:lnTo>
                    <a:pt x="268" y="1200"/>
                  </a:lnTo>
                  <a:lnTo>
                    <a:pt x="295" y="1219"/>
                  </a:lnTo>
                  <a:lnTo>
                    <a:pt x="322" y="1236"/>
                  </a:lnTo>
                  <a:lnTo>
                    <a:pt x="349" y="1252"/>
                  </a:lnTo>
                  <a:lnTo>
                    <a:pt x="378" y="1267"/>
                  </a:lnTo>
                  <a:lnTo>
                    <a:pt x="407" y="1280"/>
                  </a:lnTo>
                  <a:lnTo>
                    <a:pt x="438" y="1292"/>
                  </a:lnTo>
                  <a:lnTo>
                    <a:pt x="469" y="1303"/>
                  </a:lnTo>
                  <a:lnTo>
                    <a:pt x="500" y="1311"/>
                  </a:lnTo>
                  <a:lnTo>
                    <a:pt x="533" y="1319"/>
                  </a:lnTo>
                  <a:lnTo>
                    <a:pt x="566" y="1325"/>
                  </a:lnTo>
                  <a:lnTo>
                    <a:pt x="599" y="1330"/>
                  </a:lnTo>
                  <a:lnTo>
                    <a:pt x="633" y="1332"/>
                  </a:lnTo>
                  <a:lnTo>
                    <a:pt x="667" y="1333"/>
                  </a:lnTo>
                  <a:lnTo>
                    <a:pt x="687" y="1333"/>
                  </a:lnTo>
                  <a:lnTo>
                    <a:pt x="707" y="1332"/>
                  </a:lnTo>
                  <a:lnTo>
                    <a:pt x="725" y="1330"/>
                  </a:lnTo>
                  <a:lnTo>
                    <a:pt x="744" y="1329"/>
                  </a:lnTo>
                  <a:lnTo>
                    <a:pt x="764" y="1325"/>
                  </a:lnTo>
                  <a:lnTo>
                    <a:pt x="782" y="1323"/>
                  </a:lnTo>
                  <a:lnTo>
                    <a:pt x="801" y="1319"/>
                  </a:lnTo>
                  <a:lnTo>
                    <a:pt x="819" y="1316"/>
                  </a:lnTo>
                  <a:lnTo>
                    <a:pt x="856" y="1306"/>
                  </a:lnTo>
                  <a:lnTo>
                    <a:pt x="891" y="1294"/>
                  </a:lnTo>
                  <a:lnTo>
                    <a:pt x="926" y="1281"/>
                  </a:lnTo>
                  <a:lnTo>
                    <a:pt x="959" y="1265"/>
                  </a:lnTo>
                  <a:lnTo>
                    <a:pt x="941" y="1228"/>
                  </a:lnTo>
                  <a:lnTo>
                    <a:pt x="910" y="1242"/>
                  </a:lnTo>
                  <a:lnTo>
                    <a:pt x="877" y="1255"/>
                  </a:lnTo>
                  <a:lnTo>
                    <a:pt x="844" y="1266"/>
                  </a:lnTo>
                  <a:lnTo>
                    <a:pt x="810" y="1275"/>
                  </a:lnTo>
                  <a:lnTo>
                    <a:pt x="775" y="1282"/>
                  </a:lnTo>
                  <a:lnTo>
                    <a:pt x="740" y="1287"/>
                  </a:lnTo>
                  <a:lnTo>
                    <a:pt x="703" y="1290"/>
                  </a:lnTo>
                  <a:lnTo>
                    <a:pt x="667" y="1291"/>
                  </a:lnTo>
                  <a:lnTo>
                    <a:pt x="635" y="1290"/>
                  </a:lnTo>
                  <a:lnTo>
                    <a:pt x="603" y="1288"/>
                  </a:lnTo>
                  <a:lnTo>
                    <a:pt x="572" y="1284"/>
                  </a:lnTo>
                  <a:lnTo>
                    <a:pt x="541" y="1278"/>
                  </a:lnTo>
                  <a:lnTo>
                    <a:pt x="511" y="1271"/>
                  </a:lnTo>
                  <a:lnTo>
                    <a:pt x="481" y="1263"/>
                  </a:lnTo>
                  <a:lnTo>
                    <a:pt x="453" y="1253"/>
                  </a:lnTo>
                  <a:lnTo>
                    <a:pt x="424" y="1242"/>
                  </a:lnTo>
                  <a:lnTo>
                    <a:pt x="397" y="1229"/>
                  </a:lnTo>
                  <a:lnTo>
                    <a:pt x="369" y="1215"/>
                  </a:lnTo>
                  <a:lnTo>
                    <a:pt x="344" y="1200"/>
                  </a:lnTo>
                  <a:lnTo>
                    <a:pt x="318" y="1184"/>
                  </a:lnTo>
                  <a:lnTo>
                    <a:pt x="293" y="1167"/>
                  </a:lnTo>
                  <a:lnTo>
                    <a:pt x="270" y="1148"/>
                  </a:lnTo>
                  <a:lnTo>
                    <a:pt x="247" y="1129"/>
                  </a:lnTo>
                  <a:lnTo>
                    <a:pt x="225" y="1108"/>
                  </a:lnTo>
                  <a:lnTo>
                    <a:pt x="204" y="1087"/>
                  </a:lnTo>
                  <a:lnTo>
                    <a:pt x="185" y="1064"/>
                  </a:lnTo>
                  <a:lnTo>
                    <a:pt x="166" y="1040"/>
                  </a:lnTo>
                  <a:lnTo>
                    <a:pt x="149" y="1016"/>
                  </a:lnTo>
                  <a:lnTo>
                    <a:pt x="133" y="991"/>
                  </a:lnTo>
                  <a:lnTo>
                    <a:pt x="118" y="964"/>
                  </a:lnTo>
                  <a:lnTo>
                    <a:pt x="104" y="938"/>
                  </a:lnTo>
                  <a:lnTo>
                    <a:pt x="92" y="910"/>
                  </a:lnTo>
                  <a:lnTo>
                    <a:pt x="80" y="882"/>
                  </a:lnTo>
                  <a:lnTo>
                    <a:pt x="70" y="852"/>
                  </a:lnTo>
                  <a:lnTo>
                    <a:pt x="62" y="822"/>
                  </a:lnTo>
                  <a:lnTo>
                    <a:pt x="55" y="792"/>
                  </a:lnTo>
                  <a:lnTo>
                    <a:pt x="50" y="762"/>
                  </a:lnTo>
                  <a:lnTo>
                    <a:pt x="45" y="730"/>
                  </a:lnTo>
                  <a:lnTo>
                    <a:pt x="43" y="699"/>
                  </a:lnTo>
                  <a:lnTo>
                    <a:pt x="42" y="667"/>
                  </a:lnTo>
                  <a:lnTo>
                    <a:pt x="43" y="634"/>
                  </a:lnTo>
                  <a:lnTo>
                    <a:pt x="45" y="603"/>
                  </a:lnTo>
                  <a:lnTo>
                    <a:pt x="50" y="572"/>
                  </a:lnTo>
                  <a:lnTo>
                    <a:pt x="55" y="540"/>
                  </a:lnTo>
                  <a:lnTo>
                    <a:pt x="62" y="510"/>
                  </a:lnTo>
                  <a:lnTo>
                    <a:pt x="70" y="481"/>
                  </a:lnTo>
                  <a:lnTo>
                    <a:pt x="80" y="452"/>
                  </a:lnTo>
                  <a:lnTo>
                    <a:pt x="92" y="424"/>
                  </a:lnTo>
                  <a:lnTo>
                    <a:pt x="104" y="396"/>
                  </a:lnTo>
                  <a:lnTo>
                    <a:pt x="118" y="369"/>
                  </a:lnTo>
                  <a:lnTo>
                    <a:pt x="133" y="343"/>
                  </a:lnTo>
                  <a:lnTo>
                    <a:pt x="149" y="317"/>
                  </a:lnTo>
                  <a:lnTo>
                    <a:pt x="166" y="293"/>
                  </a:lnTo>
                  <a:lnTo>
                    <a:pt x="185" y="269"/>
                  </a:lnTo>
                  <a:lnTo>
                    <a:pt x="204" y="247"/>
                  </a:lnTo>
                  <a:lnTo>
                    <a:pt x="225" y="225"/>
                  </a:lnTo>
                  <a:lnTo>
                    <a:pt x="247" y="204"/>
                  </a:lnTo>
                  <a:lnTo>
                    <a:pt x="270" y="184"/>
                  </a:lnTo>
                  <a:lnTo>
                    <a:pt x="293" y="166"/>
                  </a:lnTo>
                  <a:lnTo>
                    <a:pt x="318" y="148"/>
                  </a:lnTo>
                  <a:lnTo>
                    <a:pt x="344" y="132"/>
                  </a:lnTo>
                  <a:lnTo>
                    <a:pt x="369" y="117"/>
                  </a:lnTo>
                  <a:lnTo>
                    <a:pt x="397" y="103"/>
                  </a:lnTo>
                  <a:lnTo>
                    <a:pt x="424" y="91"/>
                  </a:lnTo>
                  <a:lnTo>
                    <a:pt x="453" y="79"/>
                  </a:lnTo>
                  <a:lnTo>
                    <a:pt x="481" y="69"/>
                  </a:lnTo>
                  <a:lnTo>
                    <a:pt x="511" y="62"/>
                  </a:lnTo>
                  <a:lnTo>
                    <a:pt x="541" y="54"/>
                  </a:lnTo>
                  <a:lnTo>
                    <a:pt x="572" y="49"/>
                  </a:lnTo>
                  <a:lnTo>
                    <a:pt x="603" y="45"/>
                  </a:lnTo>
                  <a:lnTo>
                    <a:pt x="635" y="42"/>
                  </a:lnTo>
                  <a:lnTo>
                    <a:pt x="667" y="41"/>
                  </a:lnTo>
                  <a:lnTo>
                    <a:pt x="699" y="42"/>
                  </a:lnTo>
                  <a:lnTo>
                    <a:pt x="731" y="45"/>
                  </a:lnTo>
                  <a:lnTo>
                    <a:pt x="763" y="49"/>
                  </a:lnTo>
                  <a:lnTo>
                    <a:pt x="793" y="54"/>
                  </a:lnTo>
                  <a:lnTo>
                    <a:pt x="823" y="62"/>
                  </a:lnTo>
                  <a:lnTo>
                    <a:pt x="852" y="69"/>
                  </a:lnTo>
                  <a:lnTo>
                    <a:pt x="882" y="79"/>
                  </a:lnTo>
                  <a:lnTo>
                    <a:pt x="911" y="91"/>
                  </a:lnTo>
                  <a:lnTo>
                    <a:pt x="938" y="103"/>
                  </a:lnTo>
                  <a:lnTo>
                    <a:pt x="965" y="117"/>
                  </a:lnTo>
                  <a:lnTo>
                    <a:pt x="991" y="132"/>
                  </a:lnTo>
                  <a:lnTo>
                    <a:pt x="1017" y="148"/>
                  </a:lnTo>
                  <a:lnTo>
                    <a:pt x="1042" y="166"/>
                  </a:lnTo>
                  <a:lnTo>
                    <a:pt x="1064" y="184"/>
                  </a:lnTo>
                  <a:lnTo>
                    <a:pt x="1087" y="204"/>
                  </a:lnTo>
                  <a:lnTo>
                    <a:pt x="1109" y="225"/>
                  </a:lnTo>
                  <a:lnTo>
                    <a:pt x="1130" y="247"/>
                  </a:lnTo>
                  <a:lnTo>
                    <a:pt x="1150" y="269"/>
                  </a:lnTo>
                  <a:lnTo>
                    <a:pt x="1168" y="293"/>
                  </a:lnTo>
                  <a:lnTo>
                    <a:pt x="1185" y="317"/>
                  </a:lnTo>
                  <a:lnTo>
                    <a:pt x="1202" y="343"/>
                  </a:lnTo>
                  <a:lnTo>
                    <a:pt x="1217" y="369"/>
                  </a:lnTo>
                  <a:lnTo>
                    <a:pt x="1231" y="396"/>
                  </a:lnTo>
                  <a:lnTo>
                    <a:pt x="1243" y="424"/>
                  </a:lnTo>
                  <a:lnTo>
                    <a:pt x="1254" y="452"/>
                  </a:lnTo>
                  <a:lnTo>
                    <a:pt x="1264" y="481"/>
                  </a:lnTo>
                  <a:lnTo>
                    <a:pt x="1273" y="510"/>
                  </a:lnTo>
                  <a:lnTo>
                    <a:pt x="1279" y="540"/>
                  </a:lnTo>
                  <a:lnTo>
                    <a:pt x="1285" y="572"/>
                  </a:lnTo>
                  <a:lnTo>
                    <a:pt x="1289" y="603"/>
                  </a:lnTo>
                  <a:lnTo>
                    <a:pt x="1291" y="634"/>
                  </a:lnTo>
                  <a:lnTo>
                    <a:pt x="1292" y="667"/>
                  </a:lnTo>
                  <a:lnTo>
                    <a:pt x="1292" y="687"/>
                  </a:lnTo>
                  <a:lnTo>
                    <a:pt x="1291" y="708"/>
                  </a:lnTo>
                  <a:lnTo>
                    <a:pt x="1289" y="729"/>
                  </a:lnTo>
                  <a:lnTo>
                    <a:pt x="1287" y="749"/>
                  </a:lnTo>
                  <a:lnTo>
                    <a:pt x="1284" y="769"/>
                  </a:lnTo>
                  <a:lnTo>
                    <a:pt x="1280" y="790"/>
                  </a:lnTo>
                  <a:lnTo>
                    <a:pt x="1276" y="809"/>
                  </a:lnTo>
                  <a:lnTo>
                    <a:pt x="1271" y="829"/>
                  </a:lnTo>
                  <a:lnTo>
                    <a:pt x="1311" y="839"/>
                  </a:lnTo>
                  <a:lnTo>
                    <a:pt x="1316" y="819"/>
                  </a:lnTo>
                  <a:lnTo>
                    <a:pt x="1320" y="797"/>
                  </a:lnTo>
                  <a:lnTo>
                    <a:pt x="1325" y="777"/>
                  </a:lnTo>
                  <a:lnTo>
                    <a:pt x="1328" y="755"/>
                  </a:lnTo>
                  <a:lnTo>
                    <a:pt x="1330" y="733"/>
                  </a:lnTo>
                  <a:lnTo>
                    <a:pt x="1332" y="711"/>
                  </a:lnTo>
                  <a:lnTo>
                    <a:pt x="1333" y="688"/>
                  </a:lnTo>
                  <a:lnTo>
                    <a:pt x="1333" y="667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317840" y="2741400"/>
              <a:ext cx="513000" cy="511200"/>
            </a:xfrm>
            <a:custGeom>
              <a:avLst/>
              <a:gdLst/>
              <a:ahLst/>
              <a:rect l="l" t="t" r="r" b="b"/>
              <a:pathLst>
                <a:path w="1291" h="1290">
                  <a:moveTo>
                    <a:pt x="1291" y="646"/>
                  </a:moveTo>
                  <a:lnTo>
                    <a:pt x="1290" y="612"/>
                  </a:lnTo>
                  <a:lnTo>
                    <a:pt x="1288" y="580"/>
                  </a:lnTo>
                  <a:lnTo>
                    <a:pt x="1283" y="547"/>
                  </a:lnTo>
                  <a:lnTo>
                    <a:pt x="1278" y="515"/>
                  </a:lnTo>
                  <a:lnTo>
                    <a:pt x="1270" y="484"/>
                  </a:lnTo>
                  <a:lnTo>
                    <a:pt x="1262" y="453"/>
                  </a:lnTo>
                  <a:lnTo>
                    <a:pt x="1252" y="423"/>
                  </a:lnTo>
                  <a:lnTo>
                    <a:pt x="1240" y="394"/>
                  </a:lnTo>
                  <a:lnTo>
                    <a:pt x="1227" y="366"/>
                  </a:lnTo>
                  <a:lnTo>
                    <a:pt x="1213" y="338"/>
                  </a:lnTo>
                  <a:lnTo>
                    <a:pt x="1198" y="311"/>
                  </a:lnTo>
                  <a:lnTo>
                    <a:pt x="1181" y="285"/>
                  </a:lnTo>
                  <a:lnTo>
                    <a:pt x="1162" y="259"/>
                  </a:lnTo>
                  <a:lnTo>
                    <a:pt x="1144" y="235"/>
                  </a:lnTo>
                  <a:lnTo>
                    <a:pt x="1123" y="212"/>
                  </a:lnTo>
                  <a:lnTo>
                    <a:pt x="1102" y="189"/>
                  </a:lnTo>
                  <a:lnTo>
                    <a:pt x="1079" y="167"/>
                  </a:lnTo>
                  <a:lnTo>
                    <a:pt x="1056" y="148"/>
                  </a:lnTo>
                  <a:lnTo>
                    <a:pt x="1031" y="128"/>
                  </a:lnTo>
                  <a:lnTo>
                    <a:pt x="1007" y="110"/>
                  </a:lnTo>
                  <a:lnTo>
                    <a:pt x="980" y="94"/>
                  </a:lnTo>
                  <a:lnTo>
                    <a:pt x="953" y="78"/>
                  </a:lnTo>
                  <a:lnTo>
                    <a:pt x="926" y="64"/>
                  </a:lnTo>
                  <a:lnTo>
                    <a:pt x="896" y="51"/>
                  </a:lnTo>
                  <a:lnTo>
                    <a:pt x="867" y="39"/>
                  </a:lnTo>
                  <a:lnTo>
                    <a:pt x="837" y="29"/>
                  </a:lnTo>
                  <a:lnTo>
                    <a:pt x="807" y="20"/>
                  </a:lnTo>
                  <a:lnTo>
                    <a:pt x="775" y="13"/>
                  </a:lnTo>
                  <a:lnTo>
                    <a:pt x="743" y="7"/>
                  </a:lnTo>
                  <a:lnTo>
                    <a:pt x="712" y="3"/>
                  </a:lnTo>
                  <a:lnTo>
                    <a:pt x="678" y="1"/>
                  </a:lnTo>
                  <a:lnTo>
                    <a:pt x="645" y="0"/>
                  </a:lnTo>
                  <a:lnTo>
                    <a:pt x="612" y="1"/>
                  </a:lnTo>
                  <a:lnTo>
                    <a:pt x="579" y="3"/>
                  </a:lnTo>
                  <a:lnTo>
                    <a:pt x="546" y="7"/>
                  </a:lnTo>
                  <a:lnTo>
                    <a:pt x="515" y="13"/>
                  </a:lnTo>
                  <a:lnTo>
                    <a:pt x="484" y="20"/>
                  </a:lnTo>
                  <a:lnTo>
                    <a:pt x="453" y="29"/>
                  </a:lnTo>
                  <a:lnTo>
                    <a:pt x="423" y="39"/>
                  </a:lnTo>
                  <a:lnTo>
                    <a:pt x="394" y="51"/>
                  </a:lnTo>
                  <a:lnTo>
                    <a:pt x="365" y="64"/>
                  </a:lnTo>
                  <a:lnTo>
                    <a:pt x="338" y="78"/>
                  </a:lnTo>
                  <a:lnTo>
                    <a:pt x="311" y="94"/>
                  </a:lnTo>
                  <a:lnTo>
                    <a:pt x="284" y="110"/>
                  </a:lnTo>
                  <a:lnTo>
                    <a:pt x="259" y="128"/>
                  </a:lnTo>
                  <a:lnTo>
                    <a:pt x="234" y="148"/>
                  </a:lnTo>
                  <a:lnTo>
                    <a:pt x="211" y="167"/>
                  </a:lnTo>
                  <a:lnTo>
                    <a:pt x="189" y="189"/>
                  </a:lnTo>
                  <a:lnTo>
                    <a:pt x="167" y="212"/>
                  </a:lnTo>
                  <a:lnTo>
                    <a:pt x="147" y="235"/>
                  </a:lnTo>
                  <a:lnTo>
                    <a:pt x="128" y="259"/>
                  </a:lnTo>
                  <a:lnTo>
                    <a:pt x="110" y="285"/>
                  </a:lnTo>
                  <a:lnTo>
                    <a:pt x="92" y="311"/>
                  </a:lnTo>
                  <a:lnTo>
                    <a:pt x="77" y="338"/>
                  </a:lnTo>
                  <a:lnTo>
                    <a:pt x="63" y="366"/>
                  </a:lnTo>
                  <a:lnTo>
                    <a:pt x="50" y="394"/>
                  </a:lnTo>
                  <a:lnTo>
                    <a:pt x="38" y="423"/>
                  </a:lnTo>
                  <a:lnTo>
                    <a:pt x="29" y="453"/>
                  </a:lnTo>
                  <a:lnTo>
                    <a:pt x="20" y="484"/>
                  </a:lnTo>
                  <a:lnTo>
                    <a:pt x="13" y="515"/>
                  </a:lnTo>
                  <a:lnTo>
                    <a:pt x="7" y="547"/>
                  </a:lnTo>
                  <a:lnTo>
                    <a:pt x="3" y="580"/>
                  </a:lnTo>
                  <a:lnTo>
                    <a:pt x="1" y="612"/>
                  </a:lnTo>
                  <a:lnTo>
                    <a:pt x="0" y="646"/>
                  </a:lnTo>
                  <a:lnTo>
                    <a:pt x="1" y="679"/>
                  </a:lnTo>
                  <a:lnTo>
                    <a:pt x="3" y="712"/>
                  </a:lnTo>
                  <a:lnTo>
                    <a:pt x="7" y="744"/>
                  </a:lnTo>
                  <a:lnTo>
                    <a:pt x="13" y="775"/>
                  </a:lnTo>
                  <a:lnTo>
                    <a:pt x="20" y="807"/>
                  </a:lnTo>
                  <a:lnTo>
                    <a:pt x="29" y="838"/>
                  </a:lnTo>
                  <a:lnTo>
                    <a:pt x="38" y="867"/>
                  </a:lnTo>
                  <a:lnTo>
                    <a:pt x="50" y="896"/>
                  </a:lnTo>
                  <a:lnTo>
                    <a:pt x="63" y="925"/>
                  </a:lnTo>
                  <a:lnTo>
                    <a:pt x="77" y="953"/>
                  </a:lnTo>
                  <a:lnTo>
                    <a:pt x="92" y="980"/>
                  </a:lnTo>
                  <a:lnTo>
                    <a:pt x="110" y="1006"/>
                  </a:lnTo>
                  <a:lnTo>
                    <a:pt x="128" y="1031"/>
                  </a:lnTo>
                  <a:lnTo>
                    <a:pt x="147" y="1056"/>
                  </a:lnTo>
                  <a:lnTo>
                    <a:pt x="167" y="1080"/>
                  </a:lnTo>
                  <a:lnTo>
                    <a:pt x="189" y="1101"/>
                  </a:lnTo>
                  <a:lnTo>
                    <a:pt x="211" y="1123"/>
                  </a:lnTo>
                  <a:lnTo>
                    <a:pt x="234" y="1144"/>
                  </a:lnTo>
                  <a:lnTo>
                    <a:pt x="259" y="1163"/>
                  </a:lnTo>
                  <a:lnTo>
                    <a:pt x="284" y="1180"/>
                  </a:lnTo>
                  <a:lnTo>
                    <a:pt x="311" y="1198"/>
                  </a:lnTo>
                  <a:lnTo>
                    <a:pt x="338" y="1213"/>
                  </a:lnTo>
                  <a:lnTo>
                    <a:pt x="365" y="1228"/>
                  </a:lnTo>
                  <a:lnTo>
                    <a:pt x="394" y="1241"/>
                  </a:lnTo>
                  <a:lnTo>
                    <a:pt x="423" y="1252"/>
                  </a:lnTo>
                  <a:lnTo>
                    <a:pt x="453" y="1262"/>
                  </a:lnTo>
                  <a:lnTo>
                    <a:pt x="484" y="1271"/>
                  </a:lnTo>
                  <a:lnTo>
                    <a:pt x="515" y="1277"/>
                  </a:lnTo>
                  <a:lnTo>
                    <a:pt x="546" y="1284"/>
                  </a:lnTo>
                  <a:lnTo>
                    <a:pt x="579" y="1287"/>
                  </a:lnTo>
                  <a:lnTo>
                    <a:pt x="612" y="1290"/>
                  </a:lnTo>
                  <a:lnTo>
                    <a:pt x="645" y="1290"/>
                  </a:lnTo>
                  <a:lnTo>
                    <a:pt x="664" y="1290"/>
                  </a:lnTo>
                  <a:lnTo>
                    <a:pt x="682" y="1289"/>
                  </a:lnTo>
                  <a:lnTo>
                    <a:pt x="702" y="1288"/>
                  </a:lnTo>
                  <a:lnTo>
                    <a:pt x="720" y="1286"/>
                  </a:lnTo>
                  <a:lnTo>
                    <a:pt x="757" y="1282"/>
                  </a:lnTo>
                  <a:lnTo>
                    <a:pt x="793" y="1274"/>
                  </a:lnTo>
                  <a:lnTo>
                    <a:pt x="828" y="1265"/>
                  </a:lnTo>
                  <a:lnTo>
                    <a:pt x="862" y="1254"/>
                  </a:lnTo>
                  <a:lnTo>
                    <a:pt x="895" y="1241"/>
                  </a:lnTo>
                  <a:lnTo>
                    <a:pt x="929" y="1226"/>
                  </a:lnTo>
                  <a:lnTo>
                    <a:pt x="910" y="1188"/>
                  </a:lnTo>
                  <a:lnTo>
                    <a:pt x="879" y="1202"/>
                  </a:lnTo>
                  <a:lnTo>
                    <a:pt x="848" y="1215"/>
                  </a:lnTo>
                  <a:lnTo>
                    <a:pt x="816" y="1225"/>
                  </a:lnTo>
                  <a:lnTo>
                    <a:pt x="783" y="1233"/>
                  </a:lnTo>
                  <a:lnTo>
                    <a:pt x="749" y="1241"/>
                  </a:lnTo>
                  <a:lnTo>
                    <a:pt x="715" y="1245"/>
                  </a:lnTo>
                  <a:lnTo>
                    <a:pt x="680" y="1248"/>
                  </a:lnTo>
                  <a:lnTo>
                    <a:pt x="645" y="1249"/>
                  </a:lnTo>
                  <a:lnTo>
                    <a:pt x="614" y="1248"/>
                  </a:lnTo>
                  <a:lnTo>
                    <a:pt x="583" y="1246"/>
                  </a:lnTo>
                  <a:lnTo>
                    <a:pt x="553" y="1242"/>
                  </a:lnTo>
                  <a:lnTo>
                    <a:pt x="524" y="1238"/>
                  </a:lnTo>
                  <a:lnTo>
                    <a:pt x="494" y="1230"/>
                  </a:lnTo>
                  <a:lnTo>
                    <a:pt x="465" y="1222"/>
                  </a:lnTo>
                  <a:lnTo>
                    <a:pt x="437" y="1213"/>
                  </a:lnTo>
                  <a:lnTo>
                    <a:pt x="410" y="1202"/>
                  </a:lnTo>
                  <a:lnTo>
                    <a:pt x="383" y="1190"/>
                  </a:lnTo>
                  <a:lnTo>
                    <a:pt x="357" y="1176"/>
                  </a:lnTo>
                  <a:lnTo>
                    <a:pt x="332" y="1162"/>
                  </a:lnTo>
                  <a:lnTo>
                    <a:pt x="308" y="1146"/>
                  </a:lnTo>
                  <a:lnTo>
                    <a:pt x="284" y="1130"/>
                  </a:lnTo>
                  <a:lnTo>
                    <a:pt x="261" y="1111"/>
                  </a:lnTo>
                  <a:lnTo>
                    <a:pt x="239" y="1093"/>
                  </a:lnTo>
                  <a:lnTo>
                    <a:pt x="218" y="1072"/>
                  </a:lnTo>
                  <a:lnTo>
                    <a:pt x="198" y="1052"/>
                  </a:lnTo>
                  <a:lnTo>
                    <a:pt x="179" y="1029"/>
                  </a:lnTo>
                  <a:lnTo>
                    <a:pt x="161" y="1006"/>
                  </a:lnTo>
                  <a:lnTo>
                    <a:pt x="144" y="983"/>
                  </a:lnTo>
                  <a:lnTo>
                    <a:pt x="128" y="959"/>
                  </a:lnTo>
                  <a:lnTo>
                    <a:pt x="114" y="933"/>
                  </a:lnTo>
                  <a:lnTo>
                    <a:pt x="100" y="907"/>
                  </a:lnTo>
                  <a:lnTo>
                    <a:pt x="88" y="880"/>
                  </a:lnTo>
                  <a:lnTo>
                    <a:pt x="77" y="853"/>
                  </a:lnTo>
                  <a:lnTo>
                    <a:pt x="68" y="825"/>
                  </a:lnTo>
                  <a:lnTo>
                    <a:pt x="60" y="796"/>
                  </a:lnTo>
                  <a:lnTo>
                    <a:pt x="54" y="767"/>
                  </a:lnTo>
                  <a:lnTo>
                    <a:pt x="48" y="737"/>
                  </a:lnTo>
                  <a:lnTo>
                    <a:pt x="44" y="707"/>
                  </a:lnTo>
                  <a:lnTo>
                    <a:pt x="42" y="677"/>
                  </a:lnTo>
                  <a:lnTo>
                    <a:pt x="41" y="646"/>
                  </a:lnTo>
                  <a:lnTo>
                    <a:pt x="42" y="614"/>
                  </a:lnTo>
                  <a:lnTo>
                    <a:pt x="44" y="584"/>
                  </a:lnTo>
                  <a:lnTo>
                    <a:pt x="48" y="554"/>
                  </a:lnTo>
                  <a:lnTo>
                    <a:pt x="54" y="524"/>
                  </a:lnTo>
                  <a:lnTo>
                    <a:pt x="60" y="494"/>
                  </a:lnTo>
                  <a:lnTo>
                    <a:pt x="68" y="465"/>
                  </a:lnTo>
                  <a:lnTo>
                    <a:pt x="77" y="438"/>
                  </a:lnTo>
                  <a:lnTo>
                    <a:pt x="88" y="410"/>
                  </a:lnTo>
                  <a:lnTo>
                    <a:pt x="100" y="383"/>
                  </a:lnTo>
                  <a:lnTo>
                    <a:pt x="114" y="357"/>
                  </a:lnTo>
                  <a:lnTo>
                    <a:pt x="128" y="332"/>
                  </a:lnTo>
                  <a:lnTo>
                    <a:pt x="144" y="308"/>
                  </a:lnTo>
                  <a:lnTo>
                    <a:pt x="161" y="284"/>
                  </a:lnTo>
                  <a:lnTo>
                    <a:pt x="179" y="261"/>
                  </a:lnTo>
                  <a:lnTo>
                    <a:pt x="198" y="240"/>
                  </a:lnTo>
                  <a:lnTo>
                    <a:pt x="218" y="218"/>
                  </a:lnTo>
                  <a:lnTo>
                    <a:pt x="239" y="199"/>
                  </a:lnTo>
                  <a:lnTo>
                    <a:pt x="261" y="179"/>
                  </a:lnTo>
                  <a:lnTo>
                    <a:pt x="284" y="162"/>
                  </a:lnTo>
                  <a:lnTo>
                    <a:pt x="308" y="145"/>
                  </a:lnTo>
                  <a:lnTo>
                    <a:pt x="332" y="129"/>
                  </a:lnTo>
                  <a:lnTo>
                    <a:pt x="357" y="114"/>
                  </a:lnTo>
                  <a:lnTo>
                    <a:pt x="383" y="101"/>
                  </a:lnTo>
                  <a:lnTo>
                    <a:pt x="410" y="89"/>
                  </a:lnTo>
                  <a:lnTo>
                    <a:pt x="437" y="79"/>
                  </a:lnTo>
                  <a:lnTo>
                    <a:pt x="465" y="69"/>
                  </a:lnTo>
                  <a:lnTo>
                    <a:pt x="494" y="60"/>
                  </a:lnTo>
                  <a:lnTo>
                    <a:pt x="524" y="54"/>
                  </a:lnTo>
                  <a:lnTo>
                    <a:pt x="553" y="48"/>
                  </a:lnTo>
                  <a:lnTo>
                    <a:pt x="583" y="44"/>
                  </a:lnTo>
                  <a:lnTo>
                    <a:pt x="614" y="42"/>
                  </a:lnTo>
                  <a:lnTo>
                    <a:pt x="645" y="42"/>
                  </a:lnTo>
                  <a:lnTo>
                    <a:pt x="676" y="42"/>
                  </a:lnTo>
                  <a:lnTo>
                    <a:pt x="707" y="44"/>
                  </a:lnTo>
                  <a:lnTo>
                    <a:pt x="738" y="48"/>
                  </a:lnTo>
                  <a:lnTo>
                    <a:pt x="767" y="54"/>
                  </a:lnTo>
                  <a:lnTo>
                    <a:pt x="796" y="60"/>
                  </a:lnTo>
                  <a:lnTo>
                    <a:pt x="825" y="69"/>
                  </a:lnTo>
                  <a:lnTo>
                    <a:pt x="853" y="79"/>
                  </a:lnTo>
                  <a:lnTo>
                    <a:pt x="880" y="89"/>
                  </a:lnTo>
                  <a:lnTo>
                    <a:pt x="907" y="101"/>
                  </a:lnTo>
                  <a:lnTo>
                    <a:pt x="933" y="114"/>
                  </a:lnTo>
                  <a:lnTo>
                    <a:pt x="958" y="129"/>
                  </a:lnTo>
                  <a:lnTo>
                    <a:pt x="983" y="145"/>
                  </a:lnTo>
                  <a:lnTo>
                    <a:pt x="1007" y="162"/>
                  </a:lnTo>
                  <a:lnTo>
                    <a:pt x="1029" y="179"/>
                  </a:lnTo>
                  <a:lnTo>
                    <a:pt x="1051" y="199"/>
                  </a:lnTo>
                  <a:lnTo>
                    <a:pt x="1073" y="218"/>
                  </a:lnTo>
                  <a:lnTo>
                    <a:pt x="1092" y="240"/>
                  </a:lnTo>
                  <a:lnTo>
                    <a:pt x="1111" y="261"/>
                  </a:lnTo>
                  <a:lnTo>
                    <a:pt x="1130" y="284"/>
                  </a:lnTo>
                  <a:lnTo>
                    <a:pt x="1146" y="308"/>
                  </a:lnTo>
                  <a:lnTo>
                    <a:pt x="1162" y="332"/>
                  </a:lnTo>
                  <a:lnTo>
                    <a:pt x="1176" y="357"/>
                  </a:lnTo>
                  <a:lnTo>
                    <a:pt x="1189" y="383"/>
                  </a:lnTo>
                  <a:lnTo>
                    <a:pt x="1202" y="410"/>
                  </a:lnTo>
                  <a:lnTo>
                    <a:pt x="1213" y="438"/>
                  </a:lnTo>
                  <a:lnTo>
                    <a:pt x="1222" y="465"/>
                  </a:lnTo>
                  <a:lnTo>
                    <a:pt x="1230" y="494"/>
                  </a:lnTo>
                  <a:lnTo>
                    <a:pt x="1237" y="524"/>
                  </a:lnTo>
                  <a:lnTo>
                    <a:pt x="1242" y="554"/>
                  </a:lnTo>
                  <a:lnTo>
                    <a:pt x="1247" y="584"/>
                  </a:lnTo>
                  <a:lnTo>
                    <a:pt x="1249" y="614"/>
                  </a:lnTo>
                  <a:lnTo>
                    <a:pt x="1250" y="646"/>
                  </a:lnTo>
                  <a:lnTo>
                    <a:pt x="1249" y="666"/>
                  </a:lnTo>
                  <a:lnTo>
                    <a:pt x="1248" y="686"/>
                  </a:lnTo>
                  <a:lnTo>
                    <a:pt x="1247" y="706"/>
                  </a:lnTo>
                  <a:lnTo>
                    <a:pt x="1244" y="726"/>
                  </a:lnTo>
                  <a:lnTo>
                    <a:pt x="1241" y="745"/>
                  </a:lnTo>
                  <a:lnTo>
                    <a:pt x="1238" y="764"/>
                  </a:lnTo>
                  <a:lnTo>
                    <a:pt x="1234" y="784"/>
                  </a:lnTo>
                  <a:lnTo>
                    <a:pt x="1229" y="802"/>
                  </a:lnTo>
                  <a:lnTo>
                    <a:pt x="1269" y="813"/>
                  </a:lnTo>
                  <a:lnTo>
                    <a:pt x="1274" y="793"/>
                  </a:lnTo>
                  <a:lnTo>
                    <a:pt x="1279" y="773"/>
                  </a:lnTo>
                  <a:lnTo>
                    <a:pt x="1282" y="752"/>
                  </a:lnTo>
                  <a:lnTo>
                    <a:pt x="1285" y="731"/>
                  </a:lnTo>
                  <a:lnTo>
                    <a:pt x="1288" y="709"/>
                  </a:lnTo>
                  <a:lnTo>
                    <a:pt x="1290" y="689"/>
                  </a:lnTo>
                  <a:lnTo>
                    <a:pt x="1291" y="667"/>
                  </a:lnTo>
                  <a:lnTo>
                    <a:pt x="1291" y="64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325760" y="2749320"/>
              <a:ext cx="497160" cy="495360"/>
            </a:xfrm>
            <a:custGeom>
              <a:avLst/>
              <a:gdLst/>
              <a:ahLst/>
              <a:rect l="l" t="t" r="r" b="b"/>
              <a:pathLst>
                <a:path w="1250" h="1250">
                  <a:moveTo>
                    <a:pt x="1250" y="626"/>
                  </a:moveTo>
                  <a:lnTo>
                    <a:pt x="1249" y="593"/>
                  </a:lnTo>
                  <a:lnTo>
                    <a:pt x="1247" y="562"/>
                  </a:lnTo>
                  <a:lnTo>
                    <a:pt x="1243" y="531"/>
                  </a:lnTo>
                  <a:lnTo>
                    <a:pt x="1237" y="499"/>
                  </a:lnTo>
                  <a:lnTo>
                    <a:pt x="1231" y="469"/>
                  </a:lnTo>
                  <a:lnTo>
                    <a:pt x="1222" y="440"/>
                  </a:lnTo>
                  <a:lnTo>
                    <a:pt x="1212" y="411"/>
                  </a:lnTo>
                  <a:lnTo>
                    <a:pt x="1201" y="383"/>
                  </a:lnTo>
                  <a:lnTo>
                    <a:pt x="1189" y="355"/>
                  </a:lnTo>
                  <a:lnTo>
                    <a:pt x="1175" y="328"/>
                  </a:lnTo>
                  <a:lnTo>
                    <a:pt x="1160" y="302"/>
                  </a:lnTo>
                  <a:lnTo>
                    <a:pt x="1143" y="276"/>
                  </a:lnTo>
                  <a:lnTo>
                    <a:pt x="1126" y="252"/>
                  </a:lnTo>
                  <a:lnTo>
                    <a:pt x="1108" y="228"/>
                  </a:lnTo>
                  <a:lnTo>
                    <a:pt x="1088" y="206"/>
                  </a:lnTo>
                  <a:lnTo>
                    <a:pt x="1067" y="184"/>
                  </a:lnTo>
                  <a:lnTo>
                    <a:pt x="1045" y="163"/>
                  </a:lnTo>
                  <a:lnTo>
                    <a:pt x="1022" y="143"/>
                  </a:lnTo>
                  <a:lnTo>
                    <a:pt x="1000" y="125"/>
                  </a:lnTo>
                  <a:lnTo>
                    <a:pt x="975" y="107"/>
                  </a:lnTo>
                  <a:lnTo>
                    <a:pt x="949" y="91"/>
                  </a:lnTo>
                  <a:lnTo>
                    <a:pt x="923" y="76"/>
                  </a:lnTo>
                  <a:lnTo>
                    <a:pt x="896" y="62"/>
                  </a:lnTo>
                  <a:lnTo>
                    <a:pt x="869" y="50"/>
                  </a:lnTo>
                  <a:lnTo>
                    <a:pt x="840" y="38"/>
                  </a:lnTo>
                  <a:lnTo>
                    <a:pt x="810" y="28"/>
                  </a:lnTo>
                  <a:lnTo>
                    <a:pt x="781" y="21"/>
                  </a:lnTo>
                  <a:lnTo>
                    <a:pt x="751" y="13"/>
                  </a:lnTo>
                  <a:lnTo>
                    <a:pt x="721" y="8"/>
                  </a:lnTo>
                  <a:lnTo>
                    <a:pt x="689" y="4"/>
                  </a:lnTo>
                  <a:lnTo>
                    <a:pt x="657" y="1"/>
                  </a:lnTo>
                  <a:lnTo>
                    <a:pt x="625" y="0"/>
                  </a:lnTo>
                  <a:lnTo>
                    <a:pt x="593" y="1"/>
                  </a:lnTo>
                  <a:lnTo>
                    <a:pt x="561" y="4"/>
                  </a:lnTo>
                  <a:lnTo>
                    <a:pt x="530" y="8"/>
                  </a:lnTo>
                  <a:lnTo>
                    <a:pt x="499" y="13"/>
                  </a:lnTo>
                  <a:lnTo>
                    <a:pt x="469" y="21"/>
                  </a:lnTo>
                  <a:lnTo>
                    <a:pt x="439" y="28"/>
                  </a:lnTo>
                  <a:lnTo>
                    <a:pt x="411" y="38"/>
                  </a:lnTo>
                  <a:lnTo>
                    <a:pt x="382" y="50"/>
                  </a:lnTo>
                  <a:lnTo>
                    <a:pt x="355" y="62"/>
                  </a:lnTo>
                  <a:lnTo>
                    <a:pt x="327" y="76"/>
                  </a:lnTo>
                  <a:lnTo>
                    <a:pt x="302" y="91"/>
                  </a:lnTo>
                  <a:lnTo>
                    <a:pt x="276" y="107"/>
                  </a:lnTo>
                  <a:lnTo>
                    <a:pt x="251" y="125"/>
                  </a:lnTo>
                  <a:lnTo>
                    <a:pt x="228" y="143"/>
                  </a:lnTo>
                  <a:lnTo>
                    <a:pt x="205" y="163"/>
                  </a:lnTo>
                  <a:lnTo>
                    <a:pt x="183" y="184"/>
                  </a:lnTo>
                  <a:lnTo>
                    <a:pt x="162" y="206"/>
                  </a:lnTo>
                  <a:lnTo>
                    <a:pt x="143" y="228"/>
                  </a:lnTo>
                  <a:lnTo>
                    <a:pt x="124" y="252"/>
                  </a:lnTo>
                  <a:lnTo>
                    <a:pt x="107" y="276"/>
                  </a:lnTo>
                  <a:lnTo>
                    <a:pt x="91" y="302"/>
                  </a:lnTo>
                  <a:lnTo>
                    <a:pt x="76" y="328"/>
                  </a:lnTo>
                  <a:lnTo>
                    <a:pt x="62" y="355"/>
                  </a:lnTo>
                  <a:lnTo>
                    <a:pt x="50" y="383"/>
                  </a:lnTo>
                  <a:lnTo>
                    <a:pt x="38" y="411"/>
                  </a:lnTo>
                  <a:lnTo>
                    <a:pt x="28" y="440"/>
                  </a:lnTo>
                  <a:lnTo>
                    <a:pt x="20" y="469"/>
                  </a:lnTo>
                  <a:lnTo>
                    <a:pt x="13" y="499"/>
                  </a:lnTo>
                  <a:lnTo>
                    <a:pt x="8" y="531"/>
                  </a:lnTo>
                  <a:lnTo>
                    <a:pt x="3" y="562"/>
                  </a:lnTo>
                  <a:lnTo>
                    <a:pt x="1" y="593"/>
                  </a:lnTo>
                  <a:lnTo>
                    <a:pt x="0" y="626"/>
                  </a:lnTo>
                  <a:lnTo>
                    <a:pt x="1" y="658"/>
                  </a:lnTo>
                  <a:lnTo>
                    <a:pt x="3" y="689"/>
                  </a:lnTo>
                  <a:lnTo>
                    <a:pt x="8" y="721"/>
                  </a:lnTo>
                  <a:lnTo>
                    <a:pt x="13" y="751"/>
                  </a:lnTo>
                  <a:lnTo>
                    <a:pt x="20" y="781"/>
                  </a:lnTo>
                  <a:lnTo>
                    <a:pt x="28" y="811"/>
                  </a:lnTo>
                  <a:lnTo>
                    <a:pt x="38" y="841"/>
                  </a:lnTo>
                  <a:lnTo>
                    <a:pt x="50" y="869"/>
                  </a:lnTo>
                  <a:lnTo>
                    <a:pt x="62" y="897"/>
                  </a:lnTo>
                  <a:lnTo>
                    <a:pt x="76" y="923"/>
                  </a:lnTo>
                  <a:lnTo>
                    <a:pt x="91" y="950"/>
                  </a:lnTo>
                  <a:lnTo>
                    <a:pt x="107" y="975"/>
                  </a:lnTo>
                  <a:lnTo>
                    <a:pt x="124" y="999"/>
                  </a:lnTo>
                  <a:lnTo>
                    <a:pt x="143" y="1023"/>
                  </a:lnTo>
                  <a:lnTo>
                    <a:pt x="162" y="1046"/>
                  </a:lnTo>
                  <a:lnTo>
                    <a:pt x="183" y="1067"/>
                  </a:lnTo>
                  <a:lnTo>
                    <a:pt x="205" y="1088"/>
                  </a:lnTo>
                  <a:lnTo>
                    <a:pt x="228" y="1107"/>
                  </a:lnTo>
                  <a:lnTo>
                    <a:pt x="251" y="1126"/>
                  </a:lnTo>
                  <a:lnTo>
                    <a:pt x="276" y="1143"/>
                  </a:lnTo>
                  <a:lnTo>
                    <a:pt x="302" y="1159"/>
                  </a:lnTo>
                  <a:lnTo>
                    <a:pt x="327" y="1174"/>
                  </a:lnTo>
                  <a:lnTo>
                    <a:pt x="355" y="1188"/>
                  </a:lnTo>
                  <a:lnTo>
                    <a:pt x="382" y="1201"/>
                  </a:lnTo>
                  <a:lnTo>
                    <a:pt x="411" y="1212"/>
                  </a:lnTo>
                  <a:lnTo>
                    <a:pt x="439" y="1222"/>
                  </a:lnTo>
                  <a:lnTo>
                    <a:pt x="469" y="1230"/>
                  </a:lnTo>
                  <a:lnTo>
                    <a:pt x="499" y="1237"/>
                  </a:lnTo>
                  <a:lnTo>
                    <a:pt x="530" y="1243"/>
                  </a:lnTo>
                  <a:lnTo>
                    <a:pt x="561" y="1247"/>
                  </a:lnTo>
                  <a:lnTo>
                    <a:pt x="593" y="1249"/>
                  </a:lnTo>
                  <a:lnTo>
                    <a:pt x="625" y="1250"/>
                  </a:lnTo>
                  <a:lnTo>
                    <a:pt x="661" y="1249"/>
                  </a:lnTo>
                  <a:lnTo>
                    <a:pt x="698" y="1246"/>
                  </a:lnTo>
                  <a:lnTo>
                    <a:pt x="733" y="1241"/>
                  </a:lnTo>
                  <a:lnTo>
                    <a:pt x="768" y="1234"/>
                  </a:lnTo>
                  <a:lnTo>
                    <a:pt x="802" y="1225"/>
                  </a:lnTo>
                  <a:lnTo>
                    <a:pt x="835" y="1214"/>
                  </a:lnTo>
                  <a:lnTo>
                    <a:pt x="868" y="1201"/>
                  </a:lnTo>
                  <a:lnTo>
                    <a:pt x="899" y="1187"/>
                  </a:lnTo>
                  <a:lnTo>
                    <a:pt x="881" y="1149"/>
                  </a:lnTo>
                  <a:lnTo>
                    <a:pt x="852" y="1162"/>
                  </a:lnTo>
                  <a:lnTo>
                    <a:pt x="821" y="1174"/>
                  </a:lnTo>
                  <a:lnTo>
                    <a:pt x="790" y="1185"/>
                  </a:lnTo>
                  <a:lnTo>
                    <a:pt x="759" y="1193"/>
                  </a:lnTo>
                  <a:lnTo>
                    <a:pt x="726" y="1200"/>
                  </a:lnTo>
                  <a:lnTo>
                    <a:pt x="693" y="1205"/>
                  </a:lnTo>
                  <a:lnTo>
                    <a:pt x="659" y="1208"/>
                  </a:lnTo>
                  <a:lnTo>
                    <a:pt x="625" y="1209"/>
                  </a:lnTo>
                  <a:lnTo>
                    <a:pt x="595" y="1208"/>
                  </a:lnTo>
                  <a:lnTo>
                    <a:pt x="565" y="1206"/>
                  </a:lnTo>
                  <a:lnTo>
                    <a:pt x="536" y="1201"/>
                  </a:lnTo>
                  <a:lnTo>
                    <a:pt x="508" y="1197"/>
                  </a:lnTo>
                  <a:lnTo>
                    <a:pt x="480" y="1191"/>
                  </a:lnTo>
                  <a:lnTo>
                    <a:pt x="452" y="1182"/>
                  </a:lnTo>
                  <a:lnTo>
                    <a:pt x="425" y="1173"/>
                  </a:lnTo>
                  <a:lnTo>
                    <a:pt x="398" y="1162"/>
                  </a:lnTo>
                  <a:lnTo>
                    <a:pt x="372" y="1151"/>
                  </a:lnTo>
                  <a:lnTo>
                    <a:pt x="347" y="1138"/>
                  </a:lnTo>
                  <a:lnTo>
                    <a:pt x="323" y="1124"/>
                  </a:lnTo>
                  <a:lnTo>
                    <a:pt x="299" y="1108"/>
                  </a:lnTo>
                  <a:lnTo>
                    <a:pt x="276" y="1092"/>
                  </a:lnTo>
                  <a:lnTo>
                    <a:pt x="254" y="1075"/>
                  </a:lnTo>
                  <a:lnTo>
                    <a:pt x="232" y="1057"/>
                  </a:lnTo>
                  <a:lnTo>
                    <a:pt x="213" y="1038"/>
                  </a:lnTo>
                  <a:lnTo>
                    <a:pt x="194" y="1018"/>
                  </a:lnTo>
                  <a:lnTo>
                    <a:pt x="175" y="996"/>
                  </a:lnTo>
                  <a:lnTo>
                    <a:pt x="158" y="975"/>
                  </a:lnTo>
                  <a:lnTo>
                    <a:pt x="142" y="952"/>
                  </a:lnTo>
                  <a:lnTo>
                    <a:pt x="127" y="928"/>
                  </a:lnTo>
                  <a:lnTo>
                    <a:pt x="112" y="903"/>
                  </a:lnTo>
                  <a:lnTo>
                    <a:pt x="100" y="878"/>
                  </a:lnTo>
                  <a:lnTo>
                    <a:pt x="88" y="852"/>
                  </a:lnTo>
                  <a:lnTo>
                    <a:pt x="77" y="825"/>
                  </a:lnTo>
                  <a:lnTo>
                    <a:pt x="68" y="798"/>
                  </a:lnTo>
                  <a:lnTo>
                    <a:pt x="61" y="771"/>
                  </a:lnTo>
                  <a:lnTo>
                    <a:pt x="54" y="743"/>
                  </a:lnTo>
                  <a:lnTo>
                    <a:pt x="49" y="714"/>
                  </a:lnTo>
                  <a:lnTo>
                    <a:pt x="44" y="685"/>
                  </a:lnTo>
                  <a:lnTo>
                    <a:pt x="42" y="656"/>
                  </a:lnTo>
                  <a:lnTo>
                    <a:pt x="42" y="626"/>
                  </a:lnTo>
                  <a:lnTo>
                    <a:pt x="42" y="595"/>
                  </a:lnTo>
                  <a:lnTo>
                    <a:pt x="44" y="566"/>
                  </a:lnTo>
                  <a:lnTo>
                    <a:pt x="49" y="537"/>
                  </a:lnTo>
                  <a:lnTo>
                    <a:pt x="54" y="508"/>
                  </a:lnTo>
                  <a:lnTo>
                    <a:pt x="61" y="480"/>
                  </a:lnTo>
                  <a:lnTo>
                    <a:pt x="68" y="452"/>
                  </a:lnTo>
                  <a:lnTo>
                    <a:pt x="77" y="425"/>
                  </a:lnTo>
                  <a:lnTo>
                    <a:pt x="88" y="399"/>
                  </a:lnTo>
                  <a:lnTo>
                    <a:pt x="100" y="373"/>
                  </a:lnTo>
                  <a:lnTo>
                    <a:pt x="112" y="347"/>
                  </a:lnTo>
                  <a:lnTo>
                    <a:pt x="127" y="323"/>
                  </a:lnTo>
                  <a:lnTo>
                    <a:pt x="142" y="300"/>
                  </a:lnTo>
                  <a:lnTo>
                    <a:pt x="158" y="277"/>
                  </a:lnTo>
                  <a:lnTo>
                    <a:pt x="175" y="254"/>
                  </a:lnTo>
                  <a:lnTo>
                    <a:pt x="194" y="234"/>
                  </a:lnTo>
                  <a:lnTo>
                    <a:pt x="213" y="213"/>
                  </a:lnTo>
                  <a:lnTo>
                    <a:pt x="232" y="194"/>
                  </a:lnTo>
                  <a:lnTo>
                    <a:pt x="254" y="175"/>
                  </a:lnTo>
                  <a:lnTo>
                    <a:pt x="276" y="158"/>
                  </a:lnTo>
                  <a:lnTo>
                    <a:pt x="299" y="142"/>
                  </a:lnTo>
                  <a:lnTo>
                    <a:pt x="323" y="127"/>
                  </a:lnTo>
                  <a:lnTo>
                    <a:pt x="347" y="113"/>
                  </a:lnTo>
                  <a:lnTo>
                    <a:pt x="372" y="100"/>
                  </a:lnTo>
                  <a:lnTo>
                    <a:pt x="398" y="88"/>
                  </a:lnTo>
                  <a:lnTo>
                    <a:pt x="425" y="78"/>
                  </a:lnTo>
                  <a:lnTo>
                    <a:pt x="452" y="68"/>
                  </a:lnTo>
                  <a:lnTo>
                    <a:pt x="480" y="61"/>
                  </a:lnTo>
                  <a:lnTo>
                    <a:pt x="508" y="54"/>
                  </a:lnTo>
                  <a:lnTo>
                    <a:pt x="536" y="49"/>
                  </a:lnTo>
                  <a:lnTo>
                    <a:pt x="565" y="46"/>
                  </a:lnTo>
                  <a:lnTo>
                    <a:pt x="595" y="44"/>
                  </a:lnTo>
                  <a:lnTo>
                    <a:pt x="625" y="42"/>
                  </a:lnTo>
                  <a:lnTo>
                    <a:pt x="655" y="44"/>
                  </a:lnTo>
                  <a:lnTo>
                    <a:pt x="685" y="46"/>
                  </a:lnTo>
                  <a:lnTo>
                    <a:pt x="714" y="49"/>
                  </a:lnTo>
                  <a:lnTo>
                    <a:pt x="742" y="54"/>
                  </a:lnTo>
                  <a:lnTo>
                    <a:pt x="771" y="61"/>
                  </a:lnTo>
                  <a:lnTo>
                    <a:pt x="799" y="68"/>
                  </a:lnTo>
                  <a:lnTo>
                    <a:pt x="826" y="78"/>
                  </a:lnTo>
                  <a:lnTo>
                    <a:pt x="853" y="88"/>
                  </a:lnTo>
                  <a:lnTo>
                    <a:pt x="879" y="100"/>
                  </a:lnTo>
                  <a:lnTo>
                    <a:pt x="903" y="113"/>
                  </a:lnTo>
                  <a:lnTo>
                    <a:pt x="927" y="127"/>
                  </a:lnTo>
                  <a:lnTo>
                    <a:pt x="951" y="142"/>
                  </a:lnTo>
                  <a:lnTo>
                    <a:pt x="974" y="158"/>
                  </a:lnTo>
                  <a:lnTo>
                    <a:pt x="996" y="175"/>
                  </a:lnTo>
                  <a:lnTo>
                    <a:pt x="1017" y="194"/>
                  </a:lnTo>
                  <a:lnTo>
                    <a:pt x="1037" y="213"/>
                  </a:lnTo>
                  <a:lnTo>
                    <a:pt x="1057" y="234"/>
                  </a:lnTo>
                  <a:lnTo>
                    <a:pt x="1075" y="254"/>
                  </a:lnTo>
                  <a:lnTo>
                    <a:pt x="1093" y="277"/>
                  </a:lnTo>
                  <a:lnTo>
                    <a:pt x="1109" y="300"/>
                  </a:lnTo>
                  <a:lnTo>
                    <a:pt x="1124" y="323"/>
                  </a:lnTo>
                  <a:lnTo>
                    <a:pt x="1138" y="347"/>
                  </a:lnTo>
                  <a:lnTo>
                    <a:pt x="1151" y="373"/>
                  </a:lnTo>
                  <a:lnTo>
                    <a:pt x="1163" y="399"/>
                  </a:lnTo>
                  <a:lnTo>
                    <a:pt x="1174" y="425"/>
                  </a:lnTo>
                  <a:lnTo>
                    <a:pt x="1182" y="452"/>
                  </a:lnTo>
                  <a:lnTo>
                    <a:pt x="1190" y="480"/>
                  </a:lnTo>
                  <a:lnTo>
                    <a:pt x="1196" y="508"/>
                  </a:lnTo>
                  <a:lnTo>
                    <a:pt x="1202" y="537"/>
                  </a:lnTo>
                  <a:lnTo>
                    <a:pt x="1206" y="566"/>
                  </a:lnTo>
                  <a:lnTo>
                    <a:pt x="1208" y="595"/>
                  </a:lnTo>
                  <a:lnTo>
                    <a:pt x="1208" y="626"/>
                  </a:lnTo>
                  <a:lnTo>
                    <a:pt x="1208" y="645"/>
                  </a:lnTo>
                  <a:lnTo>
                    <a:pt x="1207" y="665"/>
                  </a:lnTo>
                  <a:lnTo>
                    <a:pt x="1206" y="684"/>
                  </a:lnTo>
                  <a:lnTo>
                    <a:pt x="1204" y="702"/>
                  </a:lnTo>
                  <a:lnTo>
                    <a:pt x="1201" y="722"/>
                  </a:lnTo>
                  <a:lnTo>
                    <a:pt x="1197" y="740"/>
                  </a:lnTo>
                  <a:lnTo>
                    <a:pt x="1193" y="759"/>
                  </a:lnTo>
                  <a:lnTo>
                    <a:pt x="1189" y="777"/>
                  </a:lnTo>
                  <a:lnTo>
                    <a:pt x="1229" y="788"/>
                  </a:lnTo>
                  <a:lnTo>
                    <a:pt x="1234" y="768"/>
                  </a:lnTo>
                  <a:lnTo>
                    <a:pt x="1238" y="749"/>
                  </a:lnTo>
                  <a:lnTo>
                    <a:pt x="1242" y="728"/>
                  </a:lnTo>
                  <a:lnTo>
                    <a:pt x="1245" y="708"/>
                  </a:lnTo>
                  <a:lnTo>
                    <a:pt x="1247" y="688"/>
                  </a:lnTo>
                  <a:lnTo>
                    <a:pt x="1249" y="667"/>
                  </a:lnTo>
                  <a:lnTo>
                    <a:pt x="1250" y="646"/>
                  </a:lnTo>
                  <a:lnTo>
                    <a:pt x="1250" y="626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334040" y="2757600"/>
              <a:ext cx="479160" cy="479160"/>
            </a:xfrm>
            <a:custGeom>
              <a:avLst/>
              <a:gdLst/>
              <a:ahLst/>
              <a:rect l="l" t="t" r="r" b="b"/>
              <a:pathLst>
                <a:path w="1209" h="1207">
                  <a:moveTo>
                    <a:pt x="1209" y="604"/>
                  </a:moveTo>
                  <a:lnTo>
                    <a:pt x="1208" y="572"/>
                  </a:lnTo>
                  <a:lnTo>
                    <a:pt x="1206" y="542"/>
                  </a:lnTo>
                  <a:lnTo>
                    <a:pt x="1201" y="512"/>
                  </a:lnTo>
                  <a:lnTo>
                    <a:pt x="1196" y="482"/>
                  </a:lnTo>
                  <a:lnTo>
                    <a:pt x="1189" y="452"/>
                  </a:lnTo>
                  <a:lnTo>
                    <a:pt x="1181" y="423"/>
                  </a:lnTo>
                  <a:lnTo>
                    <a:pt x="1172" y="396"/>
                  </a:lnTo>
                  <a:lnTo>
                    <a:pt x="1161" y="368"/>
                  </a:lnTo>
                  <a:lnTo>
                    <a:pt x="1148" y="341"/>
                  </a:lnTo>
                  <a:lnTo>
                    <a:pt x="1135" y="315"/>
                  </a:lnTo>
                  <a:lnTo>
                    <a:pt x="1121" y="290"/>
                  </a:lnTo>
                  <a:lnTo>
                    <a:pt x="1105" y="266"/>
                  </a:lnTo>
                  <a:lnTo>
                    <a:pt x="1089" y="242"/>
                  </a:lnTo>
                  <a:lnTo>
                    <a:pt x="1070" y="219"/>
                  </a:lnTo>
                  <a:lnTo>
                    <a:pt x="1051" y="198"/>
                  </a:lnTo>
                  <a:lnTo>
                    <a:pt x="1032" y="176"/>
                  </a:lnTo>
                  <a:lnTo>
                    <a:pt x="1010" y="157"/>
                  </a:lnTo>
                  <a:lnTo>
                    <a:pt x="988" y="137"/>
                  </a:lnTo>
                  <a:lnTo>
                    <a:pt x="966" y="120"/>
                  </a:lnTo>
                  <a:lnTo>
                    <a:pt x="942" y="103"/>
                  </a:lnTo>
                  <a:lnTo>
                    <a:pt x="917" y="87"/>
                  </a:lnTo>
                  <a:lnTo>
                    <a:pt x="892" y="72"/>
                  </a:lnTo>
                  <a:lnTo>
                    <a:pt x="866" y="59"/>
                  </a:lnTo>
                  <a:lnTo>
                    <a:pt x="839" y="47"/>
                  </a:lnTo>
                  <a:lnTo>
                    <a:pt x="812" y="37"/>
                  </a:lnTo>
                  <a:lnTo>
                    <a:pt x="784" y="27"/>
                  </a:lnTo>
                  <a:lnTo>
                    <a:pt x="755" y="18"/>
                  </a:lnTo>
                  <a:lnTo>
                    <a:pt x="726" y="12"/>
                  </a:lnTo>
                  <a:lnTo>
                    <a:pt x="697" y="6"/>
                  </a:lnTo>
                  <a:lnTo>
                    <a:pt x="666" y="2"/>
                  </a:lnTo>
                  <a:lnTo>
                    <a:pt x="635" y="0"/>
                  </a:lnTo>
                  <a:lnTo>
                    <a:pt x="604" y="0"/>
                  </a:lnTo>
                  <a:lnTo>
                    <a:pt x="573" y="0"/>
                  </a:lnTo>
                  <a:lnTo>
                    <a:pt x="542" y="2"/>
                  </a:lnTo>
                  <a:lnTo>
                    <a:pt x="512" y="6"/>
                  </a:lnTo>
                  <a:lnTo>
                    <a:pt x="483" y="12"/>
                  </a:lnTo>
                  <a:lnTo>
                    <a:pt x="453" y="18"/>
                  </a:lnTo>
                  <a:lnTo>
                    <a:pt x="424" y="27"/>
                  </a:lnTo>
                  <a:lnTo>
                    <a:pt x="396" y="37"/>
                  </a:lnTo>
                  <a:lnTo>
                    <a:pt x="369" y="47"/>
                  </a:lnTo>
                  <a:lnTo>
                    <a:pt x="342" y="59"/>
                  </a:lnTo>
                  <a:lnTo>
                    <a:pt x="316" y="72"/>
                  </a:lnTo>
                  <a:lnTo>
                    <a:pt x="291" y="87"/>
                  </a:lnTo>
                  <a:lnTo>
                    <a:pt x="267" y="103"/>
                  </a:lnTo>
                  <a:lnTo>
                    <a:pt x="243" y="120"/>
                  </a:lnTo>
                  <a:lnTo>
                    <a:pt x="220" y="137"/>
                  </a:lnTo>
                  <a:lnTo>
                    <a:pt x="198" y="157"/>
                  </a:lnTo>
                  <a:lnTo>
                    <a:pt x="177" y="176"/>
                  </a:lnTo>
                  <a:lnTo>
                    <a:pt x="157" y="198"/>
                  </a:lnTo>
                  <a:lnTo>
                    <a:pt x="138" y="219"/>
                  </a:lnTo>
                  <a:lnTo>
                    <a:pt x="120" y="242"/>
                  </a:lnTo>
                  <a:lnTo>
                    <a:pt x="103" y="266"/>
                  </a:lnTo>
                  <a:lnTo>
                    <a:pt x="87" y="290"/>
                  </a:lnTo>
                  <a:lnTo>
                    <a:pt x="73" y="315"/>
                  </a:lnTo>
                  <a:lnTo>
                    <a:pt x="59" y="341"/>
                  </a:lnTo>
                  <a:lnTo>
                    <a:pt x="47" y="368"/>
                  </a:lnTo>
                  <a:lnTo>
                    <a:pt x="36" y="396"/>
                  </a:lnTo>
                  <a:lnTo>
                    <a:pt x="27" y="423"/>
                  </a:lnTo>
                  <a:lnTo>
                    <a:pt x="19" y="452"/>
                  </a:lnTo>
                  <a:lnTo>
                    <a:pt x="13" y="482"/>
                  </a:lnTo>
                  <a:lnTo>
                    <a:pt x="7" y="512"/>
                  </a:lnTo>
                  <a:lnTo>
                    <a:pt x="3" y="542"/>
                  </a:lnTo>
                  <a:lnTo>
                    <a:pt x="1" y="572"/>
                  </a:lnTo>
                  <a:lnTo>
                    <a:pt x="0" y="604"/>
                  </a:lnTo>
                  <a:lnTo>
                    <a:pt x="1" y="635"/>
                  </a:lnTo>
                  <a:lnTo>
                    <a:pt x="3" y="665"/>
                  </a:lnTo>
                  <a:lnTo>
                    <a:pt x="7" y="695"/>
                  </a:lnTo>
                  <a:lnTo>
                    <a:pt x="13" y="725"/>
                  </a:lnTo>
                  <a:lnTo>
                    <a:pt x="19" y="754"/>
                  </a:lnTo>
                  <a:lnTo>
                    <a:pt x="27" y="783"/>
                  </a:lnTo>
                  <a:lnTo>
                    <a:pt x="36" y="811"/>
                  </a:lnTo>
                  <a:lnTo>
                    <a:pt x="47" y="838"/>
                  </a:lnTo>
                  <a:lnTo>
                    <a:pt x="59" y="865"/>
                  </a:lnTo>
                  <a:lnTo>
                    <a:pt x="73" y="891"/>
                  </a:lnTo>
                  <a:lnTo>
                    <a:pt x="87" y="917"/>
                  </a:lnTo>
                  <a:lnTo>
                    <a:pt x="103" y="941"/>
                  </a:lnTo>
                  <a:lnTo>
                    <a:pt x="120" y="964"/>
                  </a:lnTo>
                  <a:lnTo>
                    <a:pt x="138" y="987"/>
                  </a:lnTo>
                  <a:lnTo>
                    <a:pt x="157" y="1010"/>
                  </a:lnTo>
                  <a:lnTo>
                    <a:pt x="177" y="1030"/>
                  </a:lnTo>
                  <a:lnTo>
                    <a:pt x="198" y="1051"/>
                  </a:lnTo>
                  <a:lnTo>
                    <a:pt x="220" y="1069"/>
                  </a:lnTo>
                  <a:lnTo>
                    <a:pt x="243" y="1088"/>
                  </a:lnTo>
                  <a:lnTo>
                    <a:pt x="267" y="1104"/>
                  </a:lnTo>
                  <a:lnTo>
                    <a:pt x="291" y="1120"/>
                  </a:lnTo>
                  <a:lnTo>
                    <a:pt x="316" y="1134"/>
                  </a:lnTo>
                  <a:lnTo>
                    <a:pt x="342" y="1148"/>
                  </a:lnTo>
                  <a:lnTo>
                    <a:pt x="369" y="1160"/>
                  </a:lnTo>
                  <a:lnTo>
                    <a:pt x="396" y="1171"/>
                  </a:lnTo>
                  <a:lnTo>
                    <a:pt x="424" y="1180"/>
                  </a:lnTo>
                  <a:lnTo>
                    <a:pt x="453" y="1188"/>
                  </a:lnTo>
                  <a:lnTo>
                    <a:pt x="483" y="1196"/>
                  </a:lnTo>
                  <a:lnTo>
                    <a:pt x="512" y="1200"/>
                  </a:lnTo>
                  <a:lnTo>
                    <a:pt x="542" y="1204"/>
                  </a:lnTo>
                  <a:lnTo>
                    <a:pt x="573" y="1206"/>
                  </a:lnTo>
                  <a:lnTo>
                    <a:pt x="604" y="1207"/>
                  </a:lnTo>
                  <a:lnTo>
                    <a:pt x="639" y="1206"/>
                  </a:lnTo>
                  <a:lnTo>
                    <a:pt x="674" y="1203"/>
                  </a:lnTo>
                  <a:lnTo>
                    <a:pt x="708" y="1199"/>
                  </a:lnTo>
                  <a:lnTo>
                    <a:pt x="742" y="1191"/>
                  </a:lnTo>
                  <a:lnTo>
                    <a:pt x="775" y="1183"/>
                  </a:lnTo>
                  <a:lnTo>
                    <a:pt x="807" y="1173"/>
                  </a:lnTo>
                  <a:lnTo>
                    <a:pt x="838" y="1160"/>
                  </a:lnTo>
                  <a:lnTo>
                    <a:pt x="869" y="1146"/>
                  </a:lnTo>
                  <a:lnTo>
                    <a:pt x="851" y="1109"/>
                  </a:lnTo>
                  <a:lnTo>
                    <a:pt x="822" y="1122"/>
                  </a:lnTo>
                  <a:lnTo>
                    <a:pt x="793" y="1133"/>
                  </a:lnTo>
                  <a:lnTo>
                    <a:pt x="764" y="1143"/>
                  </a:lnTo>
                  <a:lnTo>
                    <a:pt x="732" y="1151"/>
                  </a:lnTo>
                  <a:lnTo>
                    <a:pt x="701" y="1158"/>
                  </a:lnTo>
                  <a:lnTo>
                    <a:pt x="670" y="1162"/>
                  </a:lnTo>
                  <a:lnTo>
                    <a:pt x="637" y="1164"/>
                  </a:lnTo>
                  <a:lnTo>
                    <a:pt x="604" y="1165"/>
                  </a:lnTo>
                  <a:lnTo>
                    <a:pt x="576" y="1165"/>
                  </a:lnTo>
                  <a:lnTo>
                    <a:pt x="546" y="1163"/>
                  </a:lnTo>
                  <a:lnTo>
                    <a:pt x="518" y="1159"/>
                  </a:lnTo>
                  <a:lnTo>
                    <a:pt x="491" y="1154"/>
                  </a:lnTo>
                  <a:lnTo>
                    <a:pt x="463" y="1148"/>
                  </a:lnTo>
                  <a:lnTo>
                    <a:pt x="437" y="1140"/>
                  </a:lnTo>
                  <a:lnTo>
                    <a:pt x="410" y="1132"/>
                  </a:lnTo>
                  <a:lnTo>
                    <a:pt x="385" y="1121"/>
                  </a:lnTo>
                  <a:lnTo>
                    <a:pt x="361" y="1110"/>
                  </a:lnTo>
                  <a:lnTo>
                    <a:pt x="336" y="1098"/>
                  </a:lnTo>
                  <a:lnTo>
                    <a:pt x="313" y="1084"/>
                  </a:lnTo>
                  <a:lnTo>
                    <a:pt x="289" y="1069"/>
                  </a:lnTo>
                  <a:lnTo>
                    <a:pt x="268" y="1054"/>
                  </a:lnTo>
                  <a:lnTo>
                    <a:pt x="246" y="1037"/>
                  </a:lnTo>
                  <a:lnTo>
                    <a:pt x="225" y="1019"/>
                  </a:lnTo>
                  <a:lnTo>
                    <a:pt x="206" y="1001"/>
                  </a:lnTo>
                  <a:lnTo>
                    <a:pt x="188" y="982"/>
                  </a:lnTo>
                  <a:lnTo>
                    <a:pt x="170" y="961"/>
                  </a:lnTo>
                  <a:lnTo>
                    <a:pt x="153" y="940"/>
                  </a:lnTo>
                  <a:lnTo>
                    <a:pt x="138" y="918"/>
                  </a:lnTo>
                  <a:lnTo>
                    <a:pt x="123" y="895"/>
                  </a:lnTo>
                  <a:lnTo>
                    <a:pt x="110" y="872"/>
                  </a:lnTo>
                  <a:lnTo>
                    <a:pt x="97" y="847"/>
                  </a:lnTo>
                  <a:lnTo>
                    <a:pt x="86" y="822"/>
                  </a:lnTo>
                  <a:lnTo>
                    <a:pt x="75" y="797"/>
                  </a:lnTo>
                  <a:lnTo>
                    <a:pt x="67" y="771"/>
                  </a:lnTo>
                  <a:lnTo>
                    <a:pt x="59" y="744"/>
                  </a:lnTo>
                  <a:lnTo>
                    <a:pt x="53" y="717"/>
                  </a:lnTo>
                  <a:lnTo>
                    <a:pt x="48" y="689"/>
                  </a:lnTo>
                  <a:lnTo>
                    <a:pt x="45" y="661"/>
                  </a:lnTo>
                  <a:lnTo>
                    <a:pt x="43" y="633"/>
                  </a:lnTo>
                  <a:lnTo>
                    <a:pt x="42" y="604"/>
                  </a:lnTo>
                  <a:lnTo>
                    <a:pt x="43" y="575"/>
                  </a:lnTo>
                  <a:lnTo>
                    <a:pt x="45" y="546"/>
                  </a:lnTo>
                  <a:lnTo>
                    <a:pt x="48" y="517"/>
                  </a:lnTo>
                  <a:lnTo>
                    <a:pt x="53" y="490"/>
                  </a:lnTo>
                  <a:lnTo>
                    <a:pt x="59" y="463"/>
                  </a:lnTo>
                  <a:lnTo>
                    <a:pt x="67" y="436"/>
                  </a:lnTo>
                  <a:lnTo>
                    <a:pt x="75" y="410"/>
                  </a:lnTo>
                  <a:lnTo>
                    <a:pt x="86" y="384"/>
                  </a:lnTo>
                  <a:lnTo>
                    <a:pt x="97" y="360"/>
                  </a:lnTo>
                  <a:lnTo>
                    <a:pt x="110" y="336"/>
                  </a:lnTo>
                  <a:lnTo>
                    <a:pt x="123" y="312"/>
                  </a:lnTo>
                  <a:lnTo>
                    <a:pt x="138" y="289"/>
                  </a:lnTo>
                  <a:lnTo>
                    <a:pt x="153" y="267"/>
                  </a:lnTo>
                  <a:lnTo>
                    <a:pt x="170" y="246"/>
                  </a:lnTo>
                  <a:lnTo>
                    <a:pt x="188" y="226"/>
                  </a:lnTo>
                  <a:lnTo>
                    <a:pt x="206" y="206"/>
                  </a:lnTo>
                  <a:lnTo>
                    <a:pt x="225" y="187"/>
                  </a:lnTo>
                  <a:lnTo>
                    <a:pt x="246" y="170"/>
                  </a:lnTo>
                  <a:lnTo>
                    <a:pt x="268" y="153"/>
                  </a:lnTo>
                  <a:lnTo>
                    <a:pt x="289" y="137"/>
                  </a:lnTo>
                  <a:lnTo>
                    <a:pt x="313" y="123"/>
                  </a:lnTo>
                  <a:lnTo>
                    <a:pt x="336" y="109"/>
                  </a:lnTo>
                  <a:lnTo>
                    <a:pt x="361" y="96"/>
                  </a:lnTo>
                  <a:lnTo>
                    <a:pt x="385" y="85"/>
                  </a:lnTo>
                  <a:lnTo>
                    <a:pt x="410" y="76"/>
                  </a:lnTo>
                  <a:lnTo>
                    <a:pt x="437" y="67"/>
                  </a:lnTo>
                  <a:lnTo>
                    <a:pt x="463" y="59"/>
                  </a:lnTo>
                  <a:lnTo>
                    <a:pt x="491" y="53"/>
                  </a:lnTo>
                  <a:lnTo>
                    <a:pt x="518" y="47"/>
                  </a:lnTo>
                  <a:lnTo>
                    <a:pt x="546" y="44"/>
                  </a:lnTo>
                  <a:lnTo>
                    <a:pt x="576" y="42"/>
                  </a:lnTo>
                  <a:lnTo>
                    <a:pt x="604" y="41"/>
                  </a:lnTo>
                  <a:lnTo>
                    <a:pt x="633" y="42"/>
                  </a:lnTo>
                  <a:lnTo>
                    <a:pt x="662" y="44"/>
                  </a:lnTo>
                  <a:lnTo>
                    <a:pt x="690" y="47"/>
                  </a:lnTo>
                  <a:lnTo>
                    <a:pt x="717" y="53"/>
                  </a:lnTo>
                  <a:lnTo>
                    <a:pt x="745" y="59"/>
                  </a:lnTo>
                  <a:lnTo>
                    <a:pt x="771" y="67"/>
                  </a:lnTo>
                  <a:lnTo>
                    <a:pt x="797" y="76"/>
                  </a:lnTo>
                  <a:lnTo>
                    <a:pt x="823" y="85"/>
                  </a:lnTo>
                  <a:lnTo>
                    <a:pt x="848" y="96"/>
                  </a:lnTo>
                  <a:lnTo>
                    <a:pt x="873" y="109"/>
                  </a:lnTo>
                  <a:lnTo>
                    <a:pt x="895" y="123"/>
                  </a:lnTo>
                  <a:lnTo>
                    <a:pt x="919" y="137"/>
                  </a:lnTo>
                  <a:lnTo>
                    <a:pt x="941" y="153"/>
                  </a:lnTo>
                  <a:lnTo>
                    <a:pt x="962" y="170"/>
                  </a:lnTo>
                  <a:lnTo>
                    <a:pt x="982" y="187"/>
                  </a:lnTo>
                  <a:lnTo>
                    <a:pt x="1002" y="206"/>
                  </a:lnTo>
                  <a:lnTo>
                    <a:pt x="1021" y="226"/>
                  </a:lnTo>
                  <a:lnTo>
                    <a:pt x="1038" y="246"/>
                  </a:lnTo>
                  <a:lnTo>
                    <a:pt x="1055" y="267"/>
                  </a:lnTo>
                  <a:lnTo>
                    <a:pt x="1070" y="289"/>
                  </a:lnTo>
                  <a:lnTo>
                    <a:pt x="1086" y="312"/>
                  </a:lnTo>
                  <a:lnTo>
                    <a:pt x="1099" y="336"/>
                  </a:lnTo>
                  <a:lnTo>
                    <a:pt x="1111" y="360"/>
                  </a:lnTo>
                  <a:lnTo>
                    <a:pt x="1122" y="384"/>
                  </a:lnTo>
                  <a:lnTo>
                    <a:pt x="1132" y="410"/>
                  </a:lnTo>
                  <a:lnTo>
                    <a:pt x="1142" y="436"/>
                  </a:lnTo>
                  <a:lnTo>
                    <a:pt x="1149" y="463"/>
                  </a:lnTo>
                  <a:lnTo>
                    <a:pt x="1155" y="490"/>
                  </a:lnTo>
                  <a:lnTo>
                    <a:pt x="1160" y="517"/>
                  </a:lnTo>
                  <a:lnTo>
                    <a:pt x="1163" y="546"/>
                  </a:lnTo>
                  <a:lnTo>
                    <a:pt x="1166" y="575"/>
                  </a:lnTo>
                  <a:lnTo>
                    <a:pt x="1167" y="604"/>
                  </a:lnTo>
                  <a:lnTo>
                    <a:pt x="1167" y="622"/>
                  </a:lnTo>
                  <a:lnTo>
                    <a:pt x="1166" y="641"/>
                  </a:lnTo>
                  <a:lnTo>
                    <a:pt x="1163" y="660"/>
                  </a:lnTo>
                  <a:lnTo>
                    <a:pt x="1162" y="678"/>
                  </a:lnTo>
                  <a:lnTo>
                    <a:pt x="1159" y="697"/>
                  </a:lnTo>
                  <a:lnTo>
                    <a:pt x="1156" y="714"/>
                  </a:lnTo>
                  <a:lnTo>
                    <a:pt x="1151" y="732"/>
                  </a:lnTo>
                  <a:lnTo>
                    <a:pt x="1147" y="749"/>
                  </a:lnTo>
                  <a:lnTo>
                    <a:pt x="1188" y="760"/>
                  </a:lnTo>
                  <a:lnTo>
                    <a:pt x="1193" y="742"/>
                  </a:lnTo>
                  <a:lnTo>
                    <a:pt x="1197" y="722"/>
                  </a:lnTo>
                  <a:lnTo>
                    <a:pt x="1200" y="703"/>
                  </a:lnTo>
                  <a:lnTo>
                    <a:pt x="1203" y="684"/>
                  </a:lnTo>
                  <a:lnTo>
                    <a:pt x="1206" y="664"/>
                  </a:lnTo>
                  <a:lnTo>
                    <a:pt x="1207" y="644"/>
                  </a:lnTo>
                  <a:lnTo>
                    <a:pt x="1208" y="624"/>
                  </a:lnTo>
                  <a:lnTo>
                    <a:pt x="1209" y="60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343400" y="2765520"/>
              <a:ext cx="461880" cy="4633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1166" y="584"/>
                  </a:moveTo>
                  <a:lnTo>
                    <a:pt x="1166" y="553"/>
                  </a:lnTo>
                  <a:lnTo>
                    <a:pt x="1164" y="524"/>
                  </a:lnTo>
                  <a:lnTo>
                    <a:pt x="1160" y="495"/>
                  </a:lnTo>
                  <a:lnTo>
                    <a:pt x="1154" y="466"/>
                  </a:lnTo>
                  <a:lnTo>
                    <a:pt x="1148" y="438"/>
                  </a:lnTo>
                  <a:lnTo>
                    <a:pt x="1140" y="410"/>
                  </a:lnTo>
                  <a:lnTo>
                    <a:pt x="1132" y="383"/>
                  </a:lnTo>
                  <a:lnTo>
                    <a:pt x="1121" y="357"/>
                  </a:lnTo>
                  <a:lnTo>
                    <a:pt x="1109" y="331"/>
                  </a:lnTo>
                  <a:lnTo>
                    <a:pt x="1096" y="305"/>
                  </a:lnTo>
                  <a:lnTo>
                    <a:pt x="1082" y="281"/>
                  </a:lnTo>
                  <a:lnTo>
                    <a:pt x="1067" y="258"/>
                  </a:lnTo>
                  <a:lnTo>
                    <a:pt x="1051" y="235"/>
                  </a:lnTo>
                  <a:lnTo>
                    <a:pt x="1033" y="212"/>
                  </a:lnTo>
                  <a:lnTo>
                    <a:pt x="1015" y="192"/>
                  </a:lnTo>
                  <a:lnTo>
                    <a:pt x="995" y="171"/>
                  </a:lnTo>
                  <a:lnTo>
                    <a:pt x="975" y="152"/>
                  </a:lnTo>
                  <a:lnTo>
                    <a:pt x="954" y="133"/>
                  </a:lnTo>
                  <a:lnTo>
                    <a:pt x="932" y="116"/>
                  </a:lnTo>
                  <a:lnTo>
                    <a:pt x="909" y="100"/>
                  </a:lnTo>
                  <a:lnTo>
                    <a:pt x="885" y="85"/>
                  </a:lnTo>
                  <a:lnTo>
                    <a:pt x="861" y="71"/>
                  </a:lnTo>
                  <a:lnTo>
                    <a:pt x="837" y="58"/>
                  </a:lnTo>
                  <a:lnTo>
                    <a:pt x="811" y="46"/>
                  </a:lnTo>
                  <a:lnTo>
                    <a:pt x="784" y="36"/>
                  </a:lnTo>
                  <a:lnTo>
                    <a:pt x="757" y="26"/>
                  </a:lnTo>
                  <a:lnTo>
                    <a:pt x="729" y="19"/>
                  </a:lnTo>
                  <a:lnTo>
                    <a:pt x="700" y="12"/>
                  </a:lnTo>
                  <a:lnTo>
                    <a:pt x="672" y="7"/>
                  </a:lnTo>
                  <a:lnTo>
                    <a:pt x="643" y="4"/>
                  </a:lnTo>
                  <a:lnTo>
                    <a:pt x="613" y="2"/>
                  </a:lnTo>
                  <a:lnTo>
                    <a:pt x="583" y="0"/>
                  </a:lnTo>
                  <a:lnTo>
                    <a:pt x="553" y="2"/>
                  </a:lnTo>
                  <a:lnTo>
                    <a:pt x="523" y="4"/>
                  </a:lnTo>
                  <a:lnTo>
                    <a:pt x="494" y="7"/>
                  </a:lnTo>
                  <a:lnTo>
                    <a:pt x="466" y="12"/>
                  </a:lnTo>
                  <a:lnTo>
                    <a:pt x="438" y="19"/>
                  </a:lnTo>
                  <a:lnTo>
                    <a:pt x="410" y="26"/>
                  </a:lnTo>
                  <a:lnTo>
                    <a:pt x="383" y="36"/>
                  </a:lnTo>
                  <a:lnTo>
                    <a:pt x="356" y="46"/>
                  </a:lnTo>
                  <a:lnTo>
                    <a:pt x="330" y="58"/>
                  </a:lnTo>
                  <a:lnTo>
                    <a:pt x="305" y="71"/>
                  </a:lnTo>
                  <a:lnTo>
                    <a:pt x="281" y="85"/>
                  </a:lnTo>
                  <a:lnTo>
                    <a:pt x="257" y="100"/>
                  </a:lnTo>
                  <a:lnTo>
                    <a:pt x="234" y="116"/>
                  </a:lnTo>
                  <a:lnTo>
                    <a:pt x="212" y="133"/>
                  </a:lnTo>
                  <a:lnTo>
                    <a:pt x="190" y="152"/>
                  </a:lnTo>
                  <a:lnTo>
                    <a:pt x="171" y="171"/>
                  </a:lnTo>
                  <a:lnTo>
                    <a:pt x="152" y="192"/>
                  </a:lnTo>
                  <a:lnTo>
                    <a:pt x="133" y="212"/>
                  </a:lnTo>
                  <a:lnTo>
                    <a:pt x="116" y="235"/>
                  </a:lnTo>
                  <a:lnTo>
                    <a:pt x="100" y="258"/>
                  </a:lnTo>
                  <a:lnTo>
                    <a:pt x="85" y="281"/>
                  </a:lnTo>
                  <a:lnTo>
                    <a:pt x="70" y="305"/>
                  </a:lnTo>
                  <a:lnTo>
                    <a:pt x="58" y="331"/>
                  </a:lnTo>
                  <a:lnTo>
                    <a:pt x="46" y="357"/>
                  </a:lnTo>
                  <a:lnTo>
                    <a:pt x="35" y="383"/>
                  </a:lnTo>
                  <a:lnTo>
                    <a:pt x="26" y="410"/>
                  </a:lnTo>
                  <a:lnTo>
                    <a:pt x="19" y="438"/>
                  </a:lnTo>
                  <a:lnTo>
                    <a:pt x="12" y="466"/>
                  </a:lnTo>
                  <a:lnTo>
                    <a:pt x="7" y="495"/>
                  </a:lnTo>
                  <a:lnTo>
                    <a:pt x="2" y="524"/>
                  </a:lnTo>
                  <a:lnTo>
                    <a:pt x="0" y="553"/>
                  </a:lnTo>
                  <a:lnTo>
                    <a:pt x="0" y="584"/>
                  </a:lnTo>
                  <a:lnTo>
                    <a:pt x="0" y="614"/>
                  </a:lnTo>
                  <a:lnTo>
                    <a:pt x="2" y="643"/>
                  </a:lnTo>
                  <a:lnTo>
                    <a:pt x="7" y="672"/>
                  </a:lnTo>
                  <a:lnTo>
                    <a:pt x="12" y="701"/>
                  </a:lnTo>
                  <a:lnTo>
                    <a:pt x="19" y="729"/>
                  </a:lnTo>
                  <a:lnTo>
                    <a:pt x="26" y="756"/>
                  </a:lnTo>
                  <a:lnTo>
                    <a:pt x="35" y="783"/>
                  </a:lnTo>
                  <a:lnTo>
                    <a:pt x="46" y="810"/>
                  </a:lnTo>
                  <a:lnTo>
                    <a:pt x="58" y="836"/>
                  </a:lnTo>
                  <a:lnTo>
                    <a:pt x="70" y="861"/>
                  </a:lnTo>
                  <a:lnTo>
                    <a:pt x="85" y="886"/>
                  </a:lnTo>
                  <a:lnTo>
                    <a:pt x="100" y="910"/>
                  </a:lnTo>
                  <a:lnTo>
                    <a:pt x="116" y="933"/>
                  </a:lnTo>
                  <a:lnTo>
                    <a:pt x="133" y="954"/>
                  </a:lnTo>
                  <a:lnTo>
                    <a:pt x="152" y="976"/>
                  </a:lnTo>
                  <a:lnTo>
                    <a:pt x="171" y="996"/>
                  </a:lnTo>
                  <a:lnTo>
                    <a:pt x="190" y="1015"/>
                  </a:lnTo>
                  <a:lnTo>
                    <a:pt x="212" y="1033"/>
                  </a:lnTo>
                  <a:lnTo>
                    <a:pt x="234" y="1050"/>
                  </a:lnTo>
                  <a:lnTo>
                    <a:pt x="257" y="1066"/>
                  </a:lnTo>
                  <a:lnTo>
                    <a:pt x="281" y="1082"/>
                  </a:lnTo>
                  <a:lnTo>
                    <a:pt x="305" y="1096"/>
                  </a:lnTo>
                  <a:lnTo>
                    <a:pt x="330" y="1109"/>
                  </a:lnTo>
                  <a:lnTo>
                    <a:pt x="356" y="1120"/>
                  </a:lnTo>
                  <a:lnTo>
                    <a:pt x="383" y="1131"/>
                  </a:lnTo>
                  <a:lnTo>
                    <a:pt x="410" y="1140"/>
                  </a:lnTo>
                  <a:lnTo>
                    <a:pt x="438" y="1149"/>
                  </a:lnTo>
                  <a:lnTo>
                    <a:pt x="466" y="1155"/>
                  </a:lnTo>
                  <a:lnTo>
                    <a:pt x="494" y="1159"/>
                  </a:lnTo>
                  <a:lnTo>
                    <a:pt x="523" y="1164"/>
                  </a:lnTo>
                  <a:lnTo>
                    <a:pt x="553" y="1166"/>
                  </a:lnTo>
                  <a:lnTo>
                    <a:pt x="583" y="1167"/>
                  </a:lnTo>
                  <a:lnTo>
                    <a:pt x="617" y="1166"/>
                  </a:lnTo>
                  <a:lnTo>
                    <a:pt x="651" y="1163"/>
                  </a:lnTo>
                  <a:lnTo>
                    <a:pt x="684" y="1158"/>
                  </a:lnTo>
                  <a:lnTo>
                    <a:pt x="717" y="1151"/>
                  </a:lnTo>
                  <a:lnTo>
                    <a:pt x="748" y="1143"/>
                  </a:lnTo>
                  <a:lnTo>
                    <a:pt x="779" y="1132"/>
                  </a:lnTo>
                  <a:lnTo>
                    <a:pt x="810" y="1120"/>
                  </a:lnTo>
                  <a:lnTo>
                    <a:pt x="839" y="1107"/>
                  </a:lnTo>
                  <a:lnTo>
                    <a:pt x="820" y="1070"/>
                  </a:lnTo>
                  <a:lnTo>
                    <a:pt x="793" y="1083"/>
                  </a:lnTo>
                  <a:lnTo>
                    <a:pt x="765" y="1093"/>
                  </a:lnTo>
                  <a:lnTo>
                    <a:pt x="736" y="1103"/>
                  </a:lnTo>
                  <a:lnTo>
                    <a:pt x="707" y="1111"/>
                  </a:lnTo>
                  <a:lnTo>
                    <a:pt x="677" y="1117"/>
                  </a:lnTo>
                  <a:lnTo>
                    <a:pt x="646" y="1122"/>
                  </a:lnTo>
                  <a:lnTo>
                    <a:pt x="615" y="1124"/>
                  </a:lnTo>
                  <a:lnTo>
                    <a:pt x="583" y="1125"/>
                  </a:lnTo>
                  <a:lnTo>
                    <a:pt x="556" y="1124"/>
                  </a:lnTo>
                  <a:lnTo>
                    <a:pt x="528" y="1122"/>
                  </a:lnTo>
                  <a:lnTo>
                    <a:pt x="501" y="1118"/>
                  </a:lnTo>
                  <a:lnTo>
                    <a:pt x="474" y="1114"/>
                  </a:lnTo>
                  <a:lnTo>
                    <a:pt x="448" y="1107"/>
                  </a:lnTo>
                  <a:lnTo>
                    <a:pt x="422" y="1101"/>
                  </a:lnTo>
                  <a:lnTo>
                    <a:pt x="397" y="1092"/>
                  </a:lnTo>
                  <a:lnTo>
                    <a:pt x="372" y="1083"/>
                  </a:lnTo>
                  <a:lnTo>
                    <a:pt x="348" y="1072"/>
                  </a:lnTo>
                  <a:lnTo>
                    <a:pt x="325" y="1060"/>
                  </a:lnTo>
                  <a:lnTo>
                    <a:pt x="303" y="1047"/>
                  </a:lnTo>
                  <a:lnTo>
                    <a:pt x="280" y="1032"/>
                  </a:lnTo>
                  <a:lnTo>
                    <a:pt x="260" y="1017"/>
                  </a:lnTo>
                  <a:lnTo>
                    <a:pt x="239" y="1002"/>
                  </a:lnTo>
                  <a:lnTo>
                    <a:pt x="219" y="984"/>
                  </a:lnTo>
                  <a:lnTo>
                    <a:pt x="200" y="966"/>
                  </a:lnTo>
                  <a:lnTo>
                    <a:pt x="182" y="948"/>
                  </a:lnTo>
                  <a:lnTo>
                    <a:pt x="166" y="928"/>
                  </a:lnTo>
                  <a:lnTo>
                    <a:pt x="149" y="908"/>
                  </a:lnTo>
                  <a:lnTo>
                    <a:pt x="134" y="886"/>
                  </a:lnTo>
                  <a:lnTo>
                    <a:pt x="120" y="864"/>
                  </a:lnTo>
                  <a:lnTo>
                    <a:pt x="107" y="842"/>
                  </a:lnTo>
                  <a:lnTo>
                    <a:pt x="95" y="818"/>
                  </a:lnTo>
                  <a:lnTo>
                    <a:pt x="85" y="794"/>
                  </a:lnTo>
                  <a:lnTo>
                    <a:pt x="75" y="769"/>
                  </a:lnTo>
                  <a:lnTo>
                    <a:pt x="66" y="745"/>
                  </a:lnTo>
                  <a:lnTo>
                    <a:pt x="59" y="719"/>
                  </a:lnTo>
                  <a:lnTo>
                    <a:pt x="52" y="693"/>
                  </a:lnTo>
                  <a:lnTo>
                    <a:pt x="48" y="666"/>
                  </a:lnTo>
                  <a:lnTo>
                    <a:pt x="45" y="639"/>
                  </a:lnTo>
                  <a:lnTo>
                    <a:pt x="42" y="612"/>
                  </a:lnTo>
                  <a:lnTo>
                    <a:pt x="41" y="584"/>
                  </a:lnTo>
                  <a:lnTo>
                    <a:pt x="42" y="556"/>
                  </a:lnTo>
                  <a:lnTo>
                    <a:pt x="45" y="528"/>
                  </a:lnTo>
                  <a:lnTo>
                    <a:pt x="48" y="501"/>
                  </a:lnTo>
                  <a:lnTo>
                    <a:pt x="52" y="475"/>
                  </a:lnTo>
                  <a:lnTo>
                    <a:pt x="59" y="448"/>
                  </a:lnTo>
                  <a:lnTo>
                    <a:pt x="66" y="423"/>
                  </a:lnTo>
                  <a:lnTo>
                    <a:pt x="75" y="397"/>
                  </a:lnTo>
                  <a:lnTo>
                    <a:pt x="85" y="373"/>
                  </a:lnTo>
                  <a:lnTo>
                    <a:pt x="95" y="348"/>
                  </a:lnTo>
                  <a:lnTo>
                    <a:pt x="107" y="326"/>
                  </a:lnTo>
                  <a:lnTo>
                    <a:pt x="120" y="303"/>
                  </a:lnTo>
                  <a:lnTo>
                    <a:pt x="134" y="280"/>
                  </a:lnTo>
                  <a:lnTo>
                    <a:pt x="149" y="260"/>
                  </a:lnTo>
                  <a:lnTo>
                    <a:pt x="166" y="239"/>
                  </a:lnTo>
                  <a:lnTo>
                    <a:pt x="182" y="220"/>
                  </a:lnTo>
                  <a:lnTo>
                    <a:pt x="200" y="200"/>
                  </a:lnTo>
                  <a:lnTo>
                    <a:pt x="219" y="183"/>
                  </a:lnTo>
                  <a:lnTo>
                    <a:pt x="239" y="166"/>
                  </a:lnTo>
                  <a:lnTo>
                    <a:pt x="260" y="150"/>
                  </a:lnTo>
                  <a:lnTo>
                    <a:pt x="280" y="134"/>
                  </a:lnTo>
                  <a:lnTo>
                    <a:pt x="303" y="120"/>
                  </a:lnTo>
                  <a:lnTo>
                    <a:pt x="325" y="107"/>
                  </a:lnTo>
                  <a:lnTo>
                    <a:pt x="348" y="96"/>
                  </a:lnTo>
                  <a:lnTo>
                    <a:pt x="372" y="85"/>
                  </a:lnTo>
                  <a:lnTo>
                    <a:pt x="397" y="75"/>
                  </a:lnTo>
                  <a:lnTo>
                    <a:pt x="422" y="66"/>
                  </a:lnTo>
                  <a:lnTo>
                    <a:pt x="448" y="59"/>
                  </a:lnTo>
                  <a:lnTo>
                    <a:pt x="474" y="53"/>
                  </a:lnTo>
                  <a:lnTo>
                    <a:pt x="501" y="48"/>
                  </a:lnTo>
                  <a:lnTo>
                    <a:pt x="528" y="45"/>
                  </a:lnTo>
                  <a:lnTo>
                    <a:pt x="556" y="43"/>
                  </a:lnTo>
                  <a:lnTo>
                    <a:pt x="583" y="42"/>
                  </a:lnTo>
                  <a:lnTo>
                    <a:pt x="611" y="43"/>
                  </a:lnTo>
                  <a:lnTo>
                    <a:pt x="639" y="45"/>
                  </a:lnTo>
                  <a:lnTo>
                    <a:pt x="666" y="48"/>
                  </a:lnTo>
                  <a:lnTo>
                    <a:pt x="693" y="53"/>
                  </a:lnTo>
                  <a:lnTo>
                    <a:pt x="719" y="59"/>
                  </a:lnTo>
                  <a:lnTo>
                    <a:pt x="745" y="66"/>
                  </a:lnTo>
                  <a:lnTo>
                    <a:pt x="770" y="75"/>
                  </a:lnTo>
                  <a:lnTo>
                    <a:pt x="794" y="85"/>
                  </a:lnTo>
                  <a:lnTo>
                    <a:pt x="818" y="96"/>
                  </a:lnTo>
                  <a:lnTo>
                    <a:pt x="841" y="107"/>
                  </a:lnTo>
                  <a:lnTo>
                    <a:pt x="864" y="120"/>
                  </a:lnTo>
                  <a:lnTo>
                    <a:pt x="886" y="134"/>
                  </a:lnTo>
                  <a:lnTo>
                    <a:pt x="907" y="150"/>
                  </a:lnTo>
                  <a:lnTo>
                    <a:pt x="927" y="166"/>
                  </a:lnTo>
                  <a:lnTo>
                    <a:pt x="948" y="183"/>
                  </a:lnTo>
                  <a:lnTo>
                    <a:pt x="966" y="200"/>
                  </a:lnTo>
                  <a:lnTo>
                    <a:pt x="985" y="220"/>
                  </a:lnTo>
                  <a:lnTo>
                    <a:pt x="1001" y="239"/>
                  </a:lnTo>
                  <a:lnTo>
                    <a:pt x="1017" y="260"/>
                  </a:lnTo>
                  <a:lnTo>
                    <a:pt x="1032" y="280"/>
                  </a:lnTo>
                  <a:lnTo>
                    <a:pt x="1046" y="303"/>
                  </a:lnTo>
                  <a:lnTo>
                    <a:pt x="1059" y="326"/>
                  </a:lnTo>
                  <a:lnTo>
                    <a:pt x="1071" y="348"/>
                  </a:lnTo>
                  <a:lnTo>
                    <a:pt x="1082" y="373"/>
                  </a:lnTo>
                  <a:lnTo>
                    <a:pt x="1092" y="397"/>
                  </a:lnTo>
                  <a:lnTo>
                    <a:pt x="1100" y="423"/>
                  </a:lnTo>
                  <a:lnTo>
                    <a:pt x="1108" y="448"/>
                  </a:lnTo>
                  <a:lnTo>
                    <a:pt x="1114" y="475"/>
                  </a:lnTo>
                  <a:lnTo>
                    <a:pt x="1119" y="501"/>
                  </a:lnTo>
                  <a:lnTo>
                    <a:pt x="1122" y="528"/>
                  </a:lnTo>
                  <a:lnTo>
                    <a:pt x="1124" y="556"/>
                  </a:lnTo>
                  <a:lnTo>
                    <a:pt x="1125" y="584"/>
                  </a:lnTo>
                  <a:lnTo>
                    <a:pt x="1125" y="602"/>
                  </a:lnTo>
                  <a:lnTo>
                    <a:pt x="1124" y="619"/>
                  </a:lnTo>
                  <a:lnTo>
                    <a:pt x="1122" y="638"/>
                  </a:lnTo>
                  <a:lnTo>
                    <a:pt x="1120" y="655"/>
                  </a:lnTo>
                  <a:lnTo>
                    <a:pt x="1118" y="672"/>
                  </a:lnTo>
                  <a:lnTo>
                    <a:pt x="1114" y="691"/>
                  </a:lnTo>
                  <a:lnTo>
                    <a:pt x="1111" y="707"/>
                  </a:lnTo>
                  <a:lnTo>
                    <a:pt x="1107" y="724"/>
                  </a:lnTo>
                  <a:lnTo>
                    <a:pt x="1147" y="735"/>
                  </a:lnTo>
                  <a:lnTo>
                    <a:pt x="1151" y="717"/>
                  </a:lnTo>
                  <a:lnTo>
                    <a:pt x="1155" y="698"/>
                  </a:lnTo>
                  <a:lnTo>
                    <a:pt x="1159" y="680"/>
                  </a:lnTo>
                  <a:lnTo>
                    <a:pt x="1162" y="660"/>
                  </a:lnTo>
                  <a:lnTo>
                    <a:pt x="1164" y="642"/>
                  </a:lnTo>
                  <a:lnTo>
                    <a:pt x="1165" y="623"/>
                  </a:lnTo>
                  <a:lnTo>
                    <a:pt x="1166" y="603"/>
                  </a:lnTo>
                  <a:lnTo>
                    <a:pt x="1166" y="584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51320" y="2774880"/>
              <a:ext cx="446040" cy="446040"/>
            </a:xfrm>
            <a:custGeom>
              <a:avLst/>
              <a:gdLst/>
              <a:ahLst/>
              <a:rect l="l" t="t" r="r" b="b"/>
              <a:pathLst>
                <a:path w="1125" h="1124">
                  <a:moveTo>
                    <a:pt x="1125" y="563"/>
                  </a:moveTo>
                  <a:lnTo>
                    <a:pt x="1124" y="534"/>
                  </a:lnTo>
                  <a:lnTo>
                    <a:pt x="1121" y="505"/>
                  </a:lnTo>
                  <a:lnTo>
                    <a:pt x="1118" y="476"/>
                  </a:lnTo>
                  <a:lnTo>
                    <a:pt x="1113" y="449"/>
                  </a:lnTo>
                  <a:lnTo>
                    <a:pt x="1107" y="422"/>
                  </a:lnTo>
                  <a:lnTo>
                    <a:pt x="1100" y="395"/>
                  </a:lnTo>
                  <a:lnTo>
                    <a:pt x="1090" y="369"/>
                  </a:lnTo>
                  <a:lnTo>
                    <a:pt x="1080" y="343"/>
                  </a:lnTo>
                  <a:lnTo>
                    <a:pt x="1069" y="319"/>
                  </a:lnTo>
                  <a:lnTo>
                    <a:pt x="1057" y="295"/>
                  </a:lnTo>
                  <a:lnTo>
                    <a:pt x="1044" y="271"/>
                  </a:lnTo>
                  <a:lnTo>
                    <a:pt x="1028" y="248"/>
                  </a:lnTo>
                  <a:lnTo>
                    <a:pt x="1013" y="226"/>
                  </a:lnTo>
                  <a:lnTo>
                    <a:pt x="996" y="205"/>
                  </a:lnTo>
                  <a:lnTo>
                    <a:pt x="979" y="185"/>
                  </a:lnTo>
                  <a:lnTo>
                    <a:pt x="960" y="165"/>
                  </a:lnTo>
                  <a:lnTo>
                    <a:pt x="940" y="146"/>
                  </a:lnTo>
                  <a:lnTo>
                    <a:pt x="920" y="129"/>
                  </a:lnTo>
                  <a:lnTo>
                    <a:pt x="899" y="112"/>
                  </a:lnTo>
                  <a:lnTo>
                    <a:pt x="877" y="96"/>
                  </a:lnTo>
                  <a:lnTo>
                    <a:pt x="853" y="82"/>
                  </a:lnTo>
                  <a:lnTo>
                    <a:pt x="831" y="68"/>
                  </a:lnTo>
                  <a:lnTo>
                    <a:pt x="806" y="55"/>
                  </a:lnTo>
                  <a:lnTo>
                    <a:pt x="781" y="44"/>
                  </a:lnTo>
                  <a:lnTo>
                    <a:pt x="755" y="35"/>
                  </a:lnTo>
                  <a:lnTo>
                    <a:pt x="729" y="26"/>
                  </a:lnTo>
                  <a:lnTo>
                    <a:pt x="703" y="18"/>
                  </a:lnTo>
                  <a:lnTo>
                    <a:pt x="675" y="12"/>
                  </a:lnTo>
                  <a:lnTo>
                    <a:pt x="648" y="6"/>
                  </a:lnTo>
                  <a:lnTo>
                    <a:pt x="620" y="3"/>
                  </a:lnTo>
                  <a:lnTo>
                    <a:pt x="591" y="1"/>
                  </a:lnTo>
                  <a:lnTo>
                    <a:pt x="562" y="0"/>
                  </a:lnTo>
                  <a:lnTo>
                    <a:pt x="534" y="1"/>
                  </a:lnTo>
                  <a:lnTo>
                    <a:pt x="504" y="3"/>
                  </a:lnTo>
                  <a:lnTo>
                    <a:pt x="476" y="6"/>
                  </a:lnTo>
                  <a:lnTo>
                    <a:pt x="449" y="12"/>
                  </a:lnTo>
                  <a:lnTo>
                    <a:pt x="421" y="18"/>
                  </a:lnTo>
                  <a:lnTo>
                    <a:pt x="395" y="26"/>
                  </a:lnTo>
                  <a:lnTo>
                    <a:pt x="368" y="35"/>
                  </a:lnTo>
                  <a:lnTo>
                    <a:pt x="343" y="44"/>
                  </a:lnTo>
                  <a:lnTo>
                    <a:pt x="319" y="55"/>
                  </a:lnTo>
                  <a:lnTo>
                    <a:pt x="294" y="68"/>
                  </a:lnTo>
                  <a:lnTo>
                    <a:pt x="271" y="82"/>
                  </a:lnTo>
                  <a:lnTo>
                    <a:pt x="247" y="96"/>
                  </a:lnTo>
                  <a:lnTo>
                    <a:pt x="226" y="112"/>
                  </a:lnTo>
                  <a:lnTo>
                    <a:pt x="204" y="129"/>
                  </a:lnTo>
                  <a:lnTo>
                    <a:pt x="183" y="146"/>
                  </a:lnTo>
                  <a:lnTo>
                    <a:pt x="164" y="165"/>
                  </a:lnTo>
                  <a:lnTo>
                    <a:pt x="146" y="185"/>
                  </a:lnTo>
                  <a:lnTo>
                    <a:pt x="128" y="205"/>
                  </a:lnTo>
                  <a:lnTo>
                    <a:pt x="111" y="226"/>
                  </a:lnTo>
                  <a:lnTo>
                    <a:pt x="96" y="248"/>
                  </a:lnTo>
                  <a:lnTo>
                    <a:pt x="81" y="271"/>
                  </a:lnTo>
                  <a:lnTo>
                    <a:pt x="68" y="295"/>
                  </a:lnTo>
                  <a:lnTo>
                    <a:pt x="55" y="319"/>
                  </a:lnTo>
                  <a:lnTo>
                    <a:pt x="44" y="343"/>
                  </a:lnTo>
                  <a:lnTo>
                    <a:pt x="33" y="369"/>
                  </a:lnTo>
                  <a:lnTo>
                    <a:pt x="25" y="395"/>
                  </a:lnTo>
                  <a:lnTo>
                    <a:pt x="17" y="422"/>
                  </a:lnTo>
                  <a:lnTo>
                    <a:pt x="11" y="449"/>
                  </a:lnTo>
                  <a:lnTo>
                    <a:pt x="6" y="476"/>
                  </a:lnTo>
                  <a:lnTo>
                    <a:pt x="3" y="505"/>
                  </a:lnTo>
                  <a:lnTo>
                    <a:pt x="1" y="534"/>
                  </a:lnTo>
                  <a:lnTo>
                    <a:pt x="0" y="563"/>
                  </a:lnTo>
                  <a:lnTo>
                    <a:pt x="1" y="592"/>
                  </a:lnTo>
                  <a:lnTo>
                    <a:pt x="3" y="620"/>
                  </a:lnTo>
                  <a:lnTo>
                    <a:pt x="6" y="648"/>
                  </a:lnTo>
                  <a:lnTo>
                    <a:pt x="11" y="676"/>
                  </a:lnTo>
                  <a:lnTo>
                    <a:pt x="17" y="703"/>
                  </a:lnTo>
                  <a:lnTo>
                    <a:pt x="25" y="730"/>
                  </a:lnTo>
                  <a:lnTo>
                    <a:pt x="33" y="756"/>
                  </a:lnTo>
                  <a:lnTo>
                    <a:pt x="44" y="781"/>
                  </a:lnTo>
                  <a:lnTo>
                    <a:pt x="55" y="806"/>
                  </a:lnTo>
                  <a:lnTo>
                    <a:pt x="68" y="831"/>
                  </a:lnTo>
                  <a:lnTo>
                    <a:pt x="81" y="854"/>
                  </a:lnTo>
                  <a:lnTo>
                    <a:pt x="96" y="877"/>
                  </a:lnTo>
                  <a:lnTo>
                    <a:pt x="111" y="899"/>
                  </a:lnTo>
                  <a:lnTo>
                    <a:pt x="128" y="920"/>
                  </a:lnTo>
                  <a:lnTo>
                    <a:pt x="146" y="941"/>
                  </a:lnTo>
                  <a:lnTo>
                    <a:pt x="164" y="960"/>
                  </a:lnTo>
                  <a:lnTo>
                    <a:pt x="183" y="978"/>
                  </a:lnTo>
                  <a:lnTo>
                    <a:pt x="204" y="996"/>
                  </a:lnTo>
                  <a:lnTo>
                    <a:pt x="226" y="1013"/>
                  </a:lnTo>
                  <a:lnTo>
                    <a:pt x="247" y="1028"/>
                  </a:lnTo>
                  <a:lnTo>
                    <a:pt x="271" y="1043"/>
                  </a:lnTo>
                  <a:lnTo>
                    <a:pt x="294" y="1057"/>
                  </a:lnTo>
                  <a:lnTo>
                    <a:pt x="319" y="1069"/>
                  </a:lnTo>
                  <a:lnTo>
                    <a:pt x="343" y="1080"/>
                  </a:lnTo>
                  <a:lnTo>
                    <a:pt x="368" y="1091"/>
                  </a:lnTo>
                  <a:lnTo>
                    <a:pt x="395" y="1099"/>
                  </a:lnTo>
                  <a:lnTo>
                    <a:pt x="421" y="1107"/>
                  </a:lnTo>
                  <a:lnTo>
                    <a:pt x="449" y="1113"/>
                  </a:lnTo>
                  <a:lnTo>
                    <a:pt x="476" y="1118"/>
                  </a:lnTo>
                  <a:lnTo>
                    <a:pt x="504" y="1122"/>
                  </a:lnTo>
                  <a:lnTo>
                    <a:pt x="534" y="1124"/>
                  </a:lnTo>
                  <a:lnTo>
                    <a:pt x="562" y="1124"/>
                  </a:lnTo>
                  <a:lnTo>
                    <a:pt x="595" y="1123"/>
                  </a:lnTo>
                  <a:lnTo>
                    <a:pt x="628" y="1121"/>
                  </a:lnTo>
                  <a:lnTo>
                    <a:pt x="659" y="1117"/>
                  </a:lnTo>
                  <a:lnTo>
                    <a:pt x="690" y="1110"/>
                  </a:lnTo>
                  <a:lnTo>
                    <a:pt x="722" y="1102"/>
                  </a:lnTo>
                  <a:lnTo>
                    <a:pt x="751" y="1092"/>
                  </a:lnTo>
                  <a:lnTo>
                    <a:pt x="780" y="1081"/>
                  </a:lnTo>
                  <a:lnTo>
                    <a:pt x="809" y="1068"/>
                  </a:lnTo>
                  <a:lnTo>
                    <a:pt x="791" y="1030"/>
                  </a:lnTo>
                  <a:lnTo>
                    <a:pt x="765" y="1042"/>
                  </a:lnTo>
                  <a:lnTo>
                    <a:pt x="738" y="1053"/>
                  </a:lnTo>
                  <a:lnTo>
                    <a:pt x="710" y="1062"/>
                  </a:lnTo>
                  <a:lnTo>
                    <a:pt x="682" y="1069"/>
                  </a:lnTo>
                  <a:lnTo>
                    <a:pt x="652" y="1076"/>
                  </a:lnTo>
                  <a:lnTo>
                    <a:pt x="623" y="1080"/>
                  </a:lnTo>
                  <a:lnTo>
                    <a:pt x="593" y="1082"/>
                  </a:lnTo>
                  <a:lnTo>
                    <a:pt x="562" y="1083"/>
                  </a:lnTo>
                  <a:lnTo>
                    <a:pt x="536" y="1082"/>
                  </a:lnTo>
                  <a:lnTo>
                    <a:pt x="509" y="1080"/>
                  </a:lnTo>
                  <a:lnTo>
                    <a:pt x="483" y="1077"/>
                  </a:lnTo>
                  <a:lnTo>
                    <a:pt x="457" y="1072"/>
                  </a:lnTo>
                  <a:lnTo>
                    <a:pt x="432" y="1067"/>
                  </a:lnTo>
                  <a:lnTo>
                    <a:pt x="407" y="1059"/>
                  </a:lnTo>
                  <a:lnTo>
                    <a:pt x="383" y="1052"/>
                  </a:lnTo>
                  <a:lnTo>
                    <a:pt x="360" y="1042"/>
                  </a:lnTo>
                  <a:lnTo>
                    <a:pt x="336" y="1031"/>
                  </a:lnTo>
                  <a:lnTo>
                    <a:pt x="314" y="1021"/>
                  </a:lnTo>
                  <a:lnTo>
                    <a:pt x="293" y="1008"/>
                  </a:lnTo>
                  <a:lnTo>
                    <a:pt x="271" y="994"/>
                  </a:lnTo>
                  <a:lnTo>
                    <a:pt x="250" y="980"/>
                  </a:lnTo>
                  <a:lnTo>
                    <a:pt x="231" y="964"/>
                  </a:lnTo>
                  <a:lnTo>
                    <a:pt x="212" y="948"/>
                  </a:lnTo>
                  <a:lnTo>
                    <a:pt x="194" y="931"/>
                  </a:lnTo>
                  <a:lnTo>
                    <a:pt x="177" y="913"/>
                  </a:lnTo>
                  <a:lnTo>
                    <a:pt x="161" y="893"/>
                  </a:lnTo>
                  <a:lnTo>
                    <a:pt x="145" y="874"/>
                  </a:lnTo>
                  <a:lnTo>
                    <a:pt x="131" y="853"/>
                  </a:lnTo>
                  <a:lnTo>
                    <a:pt x="116" y="833"/>
                  </a:lnTo>
                  <a:lnTo>
                    <a:pt x="105" y="811"/>
                  </a:lnTo>
                  <a:lnTo>
                    <a:pt x="93" y="788"/>
                  </a:lnTo>
                  <a:lnTo>
                    <a:pt x="82" y="765"/>
                  </a:lnTo>
                  <a:lnTo>
                    <a:pt x="73" y="741"/>
                  </a:lnTo>
                  <a:lnTo>
                    <a:pt x="65" y="717"/>
                  </a:lnTo>
                  <a:lnTo>
                    <a:pt x="58" y="692"/>
                  </a:lnTo>
                  <a:lnTo>
                    <a:pt x="52" y="667"/>
                  </a:lnTo>
                  <a:lnTo>
                    <a:pt x="47" y="642"/>
                  </a:lnTo>
                  <a:lnTo>
                    <a:pt x="44" y="616"/>
                  </a:lnTo>
                  <a:lnTo>
                    <a:pt x="42" y="590"/>
                  </a:lnTo>
                  <a:lnTo>
                    <a:pt x="41" y="563"/>
                  </a:lnTo>
                  <a:lnTo>
                    <a:pt x="42" y="536"/>
                  </a:lnTo>
                  <a:lnTo>
                    <a:pt x="44" y="509"/>
                  </a:lnTo>
                  <a:lnTo>
                    <a:pt x="47" y="483"/>
                  </a:lnTo>
                  <a:lnTo>
                    <a:pt x="52" y="458"/>
                  </a:lnTo>
                  <a:lnTo>
                    <a:pt x="58" y="432"/>
                  </a:lnTo>
                  <a:lnTo>
                    <a:pt x="65" y="407"/>
                  </a:lnTo>
                  <a:lnTo>
                    <a:pt x="73" y="383"/>
                  </a:lnTo>
                  <a:lnTo>
                    <a:pt x="82" y="360"/>
                  </a:lnTo>
                  <a:lnTo>
                    <a:pt x="93" y="337"/>
                  </a:lnTo>
                  <a:lnTo>
                    <a:pt x="105" y="314"/>
                  </a:lnTo>
                  <a:lnTo>
                    <a:pt x="116" y="293"/>
                  </a:lnTo>
                  <a:lnTo>
                    <a:pt x="131" y="271"/>
                  </a:lnTo>
                  <a:lnTo>
                    <a:pt x="145" y="251"/>
                  </a:lnTo>
                  <a:lnTo>
                    <a:pt x="161" y="231"/>
                  </a:lnTo>
                  <a:lnTo>
                    <a:pt x="177" y="213"/>
                  </a:lnTo>
                  <a:lnTo>
                    <a:pt x="194" y="194"/>
                  </a:lnTo>
                  <a:lnTo>
                    <a:pt x="212" y="177"/>
                  </a:lnTo>
                  <a:lnTo>
                    <a:pt x="231" y="161"/>
                  </a:lnTo>
                  <a:lnTo>
                    <a:pt x="250" y="145"/>
                  </a:lnTo>
                  <a:lnTo>
                    <a:pt x="271" y="131"/>
                  </a:lnTo>
                  <a:lnTo>
                    <a:pt x="293" y="118"/>
                  </a:lnTo>
                  <a:lnTo>
                    <a:pt x="314" y="105"/>
                  </a:lnTo>
                  <a:lnTo>
                    <a:pt x="336" y="93"/>
                  </a:lnTo>
                  <a:lnTo>
                    <a:pt x="360" y="83"/>
                  </a:lnTo>
                  <a:lnTo>
                    <a:pt x="383" y="73"/>
                  </a:lnTo>
                  <a:lnTo>
                    <a:pt x="407" y="65"/>
                  </a:lnTo>
                  <a:lnTo>
                    <a:pt x="432" y="58"/>
                  </a:lnTo>
                  <a:lnTo>
                    <a:pt x="457" y="52"/>
                  </a:lnTo>
                  <a:lnTo>
                    <a:pt x="483" y="48"/>
                  </a:lnTo>
                  <a:lnTo>
                    <a:pt x="509" y="44"/>
                  </a:lnTo>
                  <a:lnTo>
                    <a:pt x="536" y="42"/>
                  </a:lnTo>
                  <a:lnTo>
                    <a:pt x="562" y="42"/>
                  </a:lnTo>
                  <a:lnTo>
                    <a:pt x="589" y="42"/>
                  </a:lnTo>
                  <a:lnTo>
                    <a:pt x="616" y="44"/>
                  </a:lnTo>
                  <a:lnTo>
                    <a:pt x="642" y="48"/>
                  </a:lnTo>
                  <a:lnTo>
                    <a:pt x="668" y="52"/>
                  </a:lnTo>
                  <a:lnTo>
                    <a:pt x="692" y="58"/>
                  </a:lnTo>
                  <a:lnTo>
                    <a:pt x="717" y="65"/>
                  </a:lnTo>
                  <a:lnTo>
                    <a:pt x="741" y="73"/>
                  </a:lnTo>
                  <a:lnTo>
                    <a:pt x="765" y="83"/>
                  </a:lnTo>
                  <a:lnTo>
                    <a:pt x="787" y="93"/>
                  </a:lnTo>
                  <a:lnTo>
                    <a:pt x="810" y="105"/>
                  </a:lnTo>
                  <a:lnTo>
                    <a:pt x="832" y="118"/>
                  </a:lnTo>
                  <a:lnTo>
                    <a:pt x="853" y="131"/>
                  </a:lnTo>
                  <a:lnTo>
                    <a:pt x="874" y="145"/>
                  </a:lnTo>
                  <a:lnTo>
                    <a:pt x="893" y="161"/>
                  </a:lnTo>
                  <a:lnTo>
                    <a:pt x="913" y="177"/>
                  </a:lnTo>
                  <a:lnTo>
                    <a:pt x="930" y="194"/>
                  </a:lnTo>
                  <a:lnTo>
                    <a:pt x="947" y="213"/>
                  </a:lnTo>
                  <a:lnTo>
                    <a:pt x="964" y="231"/>
                  </a:lnTo>
                  <a:lnTo>
                    <a:pt x="980" y="251"/>
                  </a:lnTo>
                  <a:lnTo>
                    <a:pt x="994" y="271"/>
                  </a:lnTo>
                  <a:lnTo>
                    <a:pt x="1008" y="293"/>
                  </a:lnTo>
                  <a:lnTo>
                    <a:pt x="1020" y="314"/>
                  </a:lnTo>
                  <a:lnTo>
                    <a:pt x="1032" y="337"/>
                  </a:lnTo>
                  <a:lnTo>
                    <a:pt x="1042" y="360"/>
                  </a:lnTo>
                  <a:lnTo>
                    <a:pt x="1051" y="383"/>
                  </a:lnTo>
                  <a:lnTo>
                    <a:pt x="1060" y="407"/>
                  </a:lnTo>
                  <a:lnTo>
                    <a:pt x="1066" y="432"/>
                  </a:lnTo>
                  <a:lnTo>
                    <a:pt x="1073" y="458"/>
                  </a:lnTo>
                  <a:lnTo>
                    <a:pt x="1077" y="483"/>
                  </a:lnTo>
                  <a:lnTo>
                    <a:pt x="1080" y="509"/>
                  </a:lnTo>
                  <a:lnTo>
                    <a:pt x="1082" y="536"/>
                  </a:lnTo>
                  <a:lnTo>
                    <a:pt x="1084" y="563"/>
                  </a:lnTo>
                  <a:lnTo>
                    <a:pt x="1082" y="580"/>
                  </a:lnTo>
                  <a:lnTo>
                    <a:pt x="1081" y="597"/>
                  </a:lnTo>
                  <a:lnTo>
                    <a:pt x="1080" y="615"/>
                  </a:lnTo>
                  <a:lnTo>
                    <a:pt x="1078" y="632"/>
                  </a:lnTo>
                  <a:lnTo>
                    <a:pt x="1076" y="648"/>
                  </a:lnTo>
                  <a:lnTo>
                    <a:pt x="1073" y="665"/>
                  </a:lnTo>
                  <a:lnTo>
                    <a:pt x="1069" y="681"/>
                  </a:lnTo>
                  <a:lnTo>
                    <a:pt x="1065" y="698"/>
                  </a:lnTo>
                  <a:lnTo>
                    <a:pt x="1105" y="708"/>
                  </a:lnTo>
                  <a:lnTo>
                    <a:pt x="1109" y="691"/>
                  </a:lnTo>
                  <a:lnTo>
                    <a:pt x="1114" y="673"/>
                  </a:lnTo>
                  <a:lnTo>
                    <a:pt x="1117" y="656"/>
                  </a:lnTo>
                  <a:lnTo>
                    <a:pt x="1120" y="637"/>
                  </a:lnTo>
                  <a:lnTo>
                    <a:pt x="1121" y="619"/>
                  </a:lnTo>
                  <a:lnTo>
                    <a:pt x="1124" y="600"/>
                  </a:lnTo>
                  <a:lnTo>
                    <a:pt x="1125" y="581"/>
                  </a:lnTo>
                  <a:lnTo>
                    <a:pt x="1125" y="563"/>
                  </a:lnTo>
                  <a:close/>
                </a:path>
              </a:pathLst>
            </a:custGeom>
            <a:solidFill>
              <a:srgbClr val="f4e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359240" y="2782800"/>
              <a:ext cx="430200" cy="428760"/>
            </a:xfrm>
            <a:custGeom>
              <a:avLst/>
              <a:gdLst/>
              <a:ahLst/>
              <a:rect l="l" t="t" r="r" b="b"/>
              <a:pathLst>
                <a:path w="1084" h="1083">
                  <a:moveTo>
                    <a:pt x="1084" y="542"/>
                  </a:moveTo>
                  <a:lnTo>
                    <a:pt x="1083" y="514"/>
                  </a:lnTo>
                  <a:lnTo>
                    <a:pt x="1081" y="486"/>
                  </a:lnTo>
                  <a:lnTo>
                    <a:pt x="1078" y="459"/>
                  </a:lnTo>
                  <a:lnTo>
                    <a:pt x="1073" y="433"/>
                  </a:lnTo>
                  <a:lnTo>
                    <a:pt x="1067" y="406"/>
                  </a:lnTo>
                  <a:lnTo>
                    <a:pt x="1059" y="381"/>
                  </a:lnTo>
                  <a:lnTo>
                    <a:pt x="1051" y="355"/>
                  </a:lnTo>
                  <a:lnTo>
                    <a:pt x="1041" y="331"/>
                  </a:lnTo>
                  <a:lnTo>
                    <a:pt x="1030" y="306"/>
                  </a:lnTo>
                  <a:lnTo>
                    <a:pt x="1018" y="284"/>
                  </a:lnTo>
                  <a:lnTo>
                    <a:pt x="1005" y="261"/>
                  </a:lnTo>
                  <a:lnTo>
                    <a:pt x="991" y="238"/>
                  </a:lnTo>
                  <a:lnTo>
                    <a:pt x="976" y="218"/>
                  </a:lnTo>
                  <a:lnTo>
                    <a:pt x="960" y="197"/>
                  </a:lnTo>
                  <a:lnTo>
                    <a:pt x="944" y="178"/>
                  </a:lnTo>
                  <a:lnTo>
                    <a:pt x="925" y="158"/>
                  </a:lnTo>
                  <a:lnTo>
                    <a:pt x="907" y="141"/>
                  </a:lnTo>
                  <a:lnTo>
                    <a:pt x="886" y="124"/>
                  </a:lnTo>
                  <a:lnTo>
                    <a:pt x="866" y="108"/>
                  </a:lnTo>
                  <a:lnTo>
                    <a:pt x="845" y="92"/>
                  </a:lnTo>
                  <a:lnTo>
                    <a:pt x="823" y="78"/>
                  </a:lnTo>
                  <a:lnTo>
                    <a:pt x="800" y="65"/>
                  </a:lnTo>
                  <a:lnTo>
                    <a:pt x="777" y="54"/>
                  </a:lnTo>
                  <a:lnTo>
                    <a:pt x="753" y="43"/>
                  </a:lnTo>
                  <a:lnTo>
                    <a:pt x="729" y="33"/>
                  </a:lnTo>
                  <a:lnTo>
                    <a:pt x="704" y="24"/>
                  </a:lnTo>
                  <a:lnTo>
                    <a:pt x="678" y="17"/>
                  </a:lnTo>
                  <a:lnTo>
                    <a:pt x="652" y="11"/>
                  </a:lnTo>
                  <a:lnTo>
                    <a:pt x="625" y="6"/>
                  </a:lnTo>
                  <a:lnTo>
                    <a:pt x="598" y="3"/>
                  </a:lnTo>
                  <a:lnTo>
                    <a:pt x="570" y="1"/>
                  </a:lnTo>
                  <a:lnTo>
                    <a:pt x="542" y="0"/>
                  </a:lnTo>
                  <a:lnTo>
                    <a:pt x="515" y="1"/>
                  </a:lnTo>
                  <a:lnTo>
                    <a:pt x="487" y="3"/>
                  </a:lnTo>
                  <a:lnTo>
                    <a:pt x="460" y="6"/>
                  </a:lnTo>
                  <a:lnTo>
                    <a:pt x="433" y="11"/>
                  </a:lnTo>
                  <a:lnTo>
                    <a:pt x="407" y="17"/>
                  </a:lnTo>
                  <a:lnTo>
                    <a:pt x="381" y="24"/>
                  </a:lnTo>
                  <a:lnTo>
                    <a:pt x="356" y="33"/>
                  </a:lnTo>
                  <a:lnTo>
                    <a:pt x="331" y="43"/>
                  </a:lnTo>
                  <a:lnTo>
                    <a:pt x="307" y="54"/>
                  </a:lnTo>
                  <a:lnTo>
                    <a:pt x="284" y="65"/>
                  </a:lnTo>
                  <a:lnTo>
                    <a:pt x="262" y="78"/>
                  </a:lnTo>
                  <a:lnTo>
                    <a:pt x="239" y="92"/>
                  </a:lnTo>
                  <a:lnTo>
                    <a:pt x="219" y="108"/>
                  </a:lnTo>
                  <a:lnTo>
                    <a:pt x="198" y="124"/>
                  </a:lnTo>
                  <a:lnTo>
                    <a:pt x="178" y="141"/>
                  </a:lnTo>
                  <a:lnTo>
                    <a:pt x="159" y="158"/>
                  </a:lnTo>
                  <a:lnTo>
                    <a:pt x="141" y="178"/>
                  </a:lnTo>
                  <a:lnTo>
                    <a:pt x="125" y="197"/>
                  </a:lnTo>
                  <a:lnTo>
                    <a:pt x="108" y="218"/>
                  </a:lnTo>
                  <a:lnTo>
                    <a:pt x="93" y="238"/>
                  </a:lnTo>
                  <a:lnTo>
                    <a:pt x="79" y="261"/>
                  </a:lnTo>
                  <a:lnTo>
                    <a:pt x="66" y="284"/>
                  </a:lnTo>
                  <a:lnTo>
                    <a:pt x="54" y="306"/>
                  </a:lnTo>
                  <a:lnTo>
                    <a:pt x="44" y="331"/>
                  </a:lnTo>
                  <a:lnTo>
                    <a:pt x="34" y="355"/>
                  </a:lnTo>
                  <a:lnTo>
                    <a:pt x="25" y="381"/>
                  </a:lnTo>
                  <a:lnTo>
                    <a:pt x="18" y="406"/>
                  </a:lnTo>
                  <a:lnTo>
                    <a:pt x="11" y="433"/>
                  </a:lnTo>
                  <a:lnTo>
                    <a:pt x="7" y="459"/>
                  </a:lnTo>
                  <a:lnTo>
                    <a:pt x="4" y="486"/>
                  </a:lnTo>
                  <a:lnTo>
                    <a:pt x="1" y="514"/>
                  </a:lnTo>
                  <a:lnTo>
                    <a:pt x="0" y="542"/>
                  </a:lnTo>
                  <a:lnTo>
                    <a:pt x="1" y="570"/>
                  </a:lnTo>
                  <a:lnTo>
                    <a:pt x="4" y="597"/>
                  </a:lnTo>
                  <a:lnTo>
                    <a:pt x="7" y="624"/>
                  </a:lnTo>
                  <a:lnTo>
                    <a:pt x="11" y="651"/>
                  </a:lnTo>
                  <a:lnTo>
                    <a:pt x="18" y="677"/>
                  </a:lnTo>
                  <a:lnTo>
                    <a:pt x="25" y="703"/>
                  </a:lnTo>
                  <a:lnTo>
                    <a:pt x="34" y="727"/>
                  </a:lnTo>
                  <a:lnTo>
                    <a:pt x="44" y="752"/>
                  </a:lnTo>
                  <a:lnTo>
                    <a:pt x="54" y="776"/>
                  </a:lnTo>
                  <a:lnTo>
                    <a:pt x="66" y="800"/>
                  </a:lnTo>
                  <a:lnTo>
                    <a:pt x="79" y="822"/>
                  </a:lnTo>
                  <a:lnTo>
                    <a:pt x="93" y="844"/>
                  </a:lnTo>
                  <a:lnTo>
                    <a:pt x="108" y="866"/>
                  </a:lnTo>
                  <a:lnTo>
                    <a:pt x="125" y="886"/>
                  </a:lnTo>
                  <a:lnTo>
                    <a:pt x="141" y="906"/>
                  </a:lnTo>
                  <a:lnTo>
                    <a:pt x="159" y="924"/>
                  </a:lnTo>
                  <a:lnTo>
                    <a:pt x="178" y="942"/>
                  </a:lnTo>
                  <a:lnTo>
                    <a:pt x="198" y="960"/>
                  </a:lnTo>
                  <a:lnTo>
                    <a:pt x="219" y="975"/>
                  </a:lnTo>
                  <a:lnTo>
                    <a:pt x="239" y="990"/>
                  </a:lnTo>
                  <a:lnTo>
                    <a:pt x="262" y="1005"/>
                  </a:lnTo>
                  <a:lnTo>
                    <a:pt x="284" y="1018"/>
                  </a:lnTo>
                  <a:lnTo>
                    <a:pt x="307" y="1030"/>
                  </a:lnTo>
                  <a:lnTo>
                    <a:pt x="331" y="1041"/>
                  </a:lnTo>
                  <a:lnTo>
                    <a:pt x="356" y="1050"/>
                  </a:lnTo>
                  <a:lnTo>
                    <a:pt x="381" y="1059"/>
                  </a:lnTo>
                  <a:lnTo>
                    <a:pt x="407" y="1065"/>
                  </a:lnTo>
                  <a:lnTo>
                    <a:pt x="433" y="1072"/>
                  </a:lnTo>
                  <a:lnTo>
                    <a:pt x="460" y="1076"/>
                  </a:lnTo>
                  <a:lnTo>
                    <a:pt x="487" y="1080"/>
                  </a:lnTo>
                  <a:lnTo>
                    <a:pt x="515" y="1082"/>
                  </a:lnTo>
                  <a:lnTo>
                    <a:pt x="542" y="1083"/>
                  </a:lnTo>
                  <a:lnTo>
                    <a:pt x="574" y="1082"/>
                  </a:lnTo>
                  <a:lnTo>
                    <a:pt x="605" y="1080"/>
                  </a:lnTo>
                  <a:lnTo>
                    <a:pt x="636" y="1075"/>
                  </a:lnTo>
                  <a:lnTo>
                    <a:pt x="666" y="1069"/>
                  </a:lnTo>
                  <a:lnTo>
                    <a:pt x="695" y="1061"/>
                  </a:lnTo>
                  <a:lnTo>
                    <a:pt x="724" y="1051"/>
                  </a:lnTo>
                  <a:lnTo>
                    <a:pt x="752" y="1041"/>
                  </a:lnTo>
                  <a:lnTo>
                    <a:pt x="779" y="1028"/>
                  </a:lnTo>
                  <a:lnTo>
                    <a:pt x="761" y="991"/>
                  </a:lnTo>
                  <a:lnTo>
                    <a:pt x="736" y="1002"/>
                  </a:lnTo>
                  <a:lnTo>
                    <a:pt x="710" y="1013"/>
                  </a:lnTo>
                  <a:lnTo>
                    <a:pt x="683" y="1021"/>
                  </a:lnTo>
                  <a:lnTo>
                    <a:pt x="656" y="1028"/>
                  </a:lnTo>
                  <a:lnTo>
                    <a:pt x="628" y="1034"/>
                  </a:lnTo>
                  <a:lnTo>
                    <a:pt x="600" y="1037"/>
                  </a:lnTo>
                  <a:lnTo>
                    <a:pt x="572" y="1041"/>
                  </a:lnTo>
                  <a:lnTo>
                    <a:pt x="542" y="1042"/>
                  </a:lnTo>
                  <a:lnTo>
                    <a:pt x="517" y="1041"/>
                  </a:lnTo>
                  <a:lnTo>
                    <a:pt x="491" y="1038"/>
                  </a:lnTo>
                  <a:lnTo>
                    <a:pt x="466" y="1035"/>
                  </a:lnTo>
                  <a:lnTo>
                    <a:pt x="441" y="1031"/>
                  </a:lnTo>
                  <a:lnTo>
                    <a:pt x="417" y="1026"/>
                  </a:lnTo>
                  <a:lnTo>
                    <a:pt x="394" y="1019"/>
                  </a:lnTo>
                  <a:lnTo>
                    <a:pt x="370" y="1010"/>
                  </a:lnTo>
                  <a:lnTo>
                    <a:pt x="347" y="1002"/>
                  </a:lnTo>
                  <a:lnTo>
                    <a:pt x="326" y="992"/>
                  </a:lnTo>
                  <a:lnTo>
                    <a:pt x="304" y="981"/>
                  </a:lnTo>
                  <a:lnTo>
                    <a:pt x="283" y="969"/>
                  </a:lnTo>
                  <a:lnTo>
                    <a:pt x="263" y="955"/>
                  </a:lnTo>
                  <a:lnTo>
                    <a:pt x="243" y="942"/>
                  </a:lnTo>
                  <a:lnTo>
                    <a:pt x="224" y="927"/>
                  </a:lnTo>
                  <a:lnTo>
                    <a:pt x="206" y="911"/>
                  </a:lnTo>
                  <a:lnTo>
                    <a:pt x="188" y="895"/>
                  </a:lnTo>
                  <a:lnTo>
                    <a:pt x="172" y="878"/>
                  </a:lnTo>
                  <a:lnTo>
                    <a:pt x="156" y="859"/>
                  </a:lnTo>
                  <a:lnTo>
                    <a:pt x="142" y="841"/>
                  </a:lnTo>
                  <a:lnTo>
                    <a:pt x="128" y="820"/>
                  </a:lnTo>
                  <a:lnTo>
                    <a:pt x="115" y="801"/>
                  </a:lnTo>
                  <a:lnTo>
                    <a:pt x="103" y="779"/>
                  </a:lnTo>
                  <a:lnTo>
                    <a:pt x="91" y="758"/>
                  </a:lnTo>
                  <a:lnTo>
                    <a:pt x="81" y="736"/>
                  </a:lnTo>
                  <a:lnTo>
                    <a:pt x="73" y="713"/>
                  </a:lnTo>
                  <a:lnTo>
                    <a:pt x="65" y="690"/>
                  </a:lnTo>
                  <a:lnTo>
                    <a:pt x="58" y="666"/>
                  </a:lnTo>
                  <a:lnTo>
                    <a:pt x="52" y="642"/>
                  </a:lnTo>
                  <a:lnTo>
                    <a:pt x="48" y="617"/>
                  </a:lnTo>
                  <a:lnTo>
                    <a:pt x="45" y="592"/>
                  </a:lnTo>
                  <a:lnTo>
                    <a:pt x="42" y="568"/>
                  </a:lnTo>
                  <a:lnTo>
                    <a:pt x="42" y="542"/>
                  </a:lnTo>
                  <a:lnTo>
                    <a:pt x="42" y="516"/>
                  </a:lnTo>
                  <a:lnTo>
                    <a:pt x="45" y="490"/>
                  </a:lnTo>
                  <a:lnTo>
                    <a:pt x="48" y="465"/>
                  </a:lnTo>
                  <a:lnTo>
                    <a:pt x="52" y="440"/>
                  </a:lnTo>
                  <a:lnTo>
                    <a:pt x="58" y="416"/>
                  </a:lnTo>
                  <a:lnTo>
                    <a:pt x="65" y="393"/>
                  </a:lnTo>
                  <a:lnTo>
                    <a:pt x="73" y="370"/>
                  </a:lnTo>
                  <a:lnTo>
                    <a:pt x="81" y="347"/>
                  </a:lnTo>
                  <a:lnTo>
                    <a:pt x="91" y="325"/>
                  </a:lnTo>
                  <a:lnTo>
                    <a:pt x="103" y="303"/>
                  </a:lnTo>
                  <a:lnTo>
                    <a:pt x="115" y="282"/>
                  </a:lnTo>
                  <a:lnTo>
                    <a:pt x="128" y="262"/>
                  </a:lnTo>
                  <a:lnTo>
                    <a:pt x="142" y="243"/>
                  </a:lnTo>
                  <a:lnTo>
                    <a:pt x="156" y="223"/>
                  </a:lnTo>
                  <a:lnTo>
                    <a:pt x="172" y="206"/>
                  </a:lnTo>
                  <a:lnTo>
                    <a:pt x="188" y="189"/>
                  </a:lnTo>
                  <a:lnTo>
                    <a:pt x="206" y="171"/>
                  </a:lnTo>
                  <a:lnTo>
                    <a:pt x="224" y="156"/>
                  </a:lnTo>
                  <a:lnTo>
                    <a:pt x="243" y="141"/>
                  </a:lnTo>
                  <a:lnTo>
                    <a:pt x="263" y="127"/>
                  </a:lnTo>
                  <a:lnTo>
                    <a:pt x="283" y="114"/>
                  </a:lnTo>
                  <a:lnTo>
                    <a:pt x="304" y="102"/>
                  </a:lnTo>
                  <a:lnTo>
                    <a:pt x="326" y="91"/>
                  </a:lnTo>
                  <a:lnTo>
                    <a:pt x="347" y="81"/>
                  </a:lnTo>
                  <a:lnTo>
                    <a:pt x="370" y="72"/>
                  </a:lnTo>
                  <a:lnTo>
                    <a:pt x="394" y="64"/>
                  </a:lnTo>
                  <a:lnTo>
                    <a:pt x="417" y="58"/>
                  </a:lnTo>
                  <a:lnTo>
                    <a:pt x="441" y="51"/>
                  </a:lnTo>
                  <a:lnTo>
                    <a:pt x="466" y="47"/>
                  </a:lnTo>
                  <a:lnTo>
                    <a:pt x="491" y="44"/>
                  </a:lnTo>
                  <a:lnTo>
                    <a:pt x="517" y="43"/>
                  </a:lnTo>
                  <a:lnTo>
                    <a:pt x="542" y="42"/>
                  </a:lnTo>
                  <a:lnTo>
                    <a:pt x="568" y="43"/>
                  </a:lnTo>
                  <a:lnTo>
                    <a:pt x="594" y="44"/>
                  </a:lnTo>
                  <a:lnTo>
                    <a:pt x="618" y="47"/>
                  </a:lnTo>
                  <a:lnTo>
                    <a:pt x="643" y="51"/>
                  </a:lnTo>
                  <a:lnTo>
                    <a:pt x="667" y="58"/>
                  </a:lnTo>
                  <a:lnTo>
                    <a:pt x="691" y="64"/>
                  </a:lnTo>
                  <a:lnTo>
                    <a:pt x="715" y="72"/>
                  </a:lnTo>
                  <a:lnTo>
                    <a:pt x="737" y="81"/>
                  </a:lnTo>
                  <a:lnTo>
                    <a:pt x="759" y="91"/>
                  </a:lnTo>
                  <a:lnTo>
                    <a:pt x="780" y="102"/>
                  </a:lnTo>
                  <a:lnTo>
                    <a:pt x="801" y="114"/>
                  </a:lnTo>
                  <a:lnTo>
                    <a:pt x="822" y="127"/>
                  </a:lnTo>
                  <a:lnTo>
                    <a:pt x="841" y="141"/>
                  </a:lnTo>
                  <a:lnTo>
                    <a:pt x="860" y="156"/>
                  </a:lnTo>
                  <a:lnTo>
                    <a:pt x="879" y="171"/>
                  </a:lnTo>
                  <a:lnTo>
                    <a:pt x="896" y="189"/>
                  </a:lnTo>
                  <a:lnTo>
                    <a:pt x="912" y="206"/>
                  </a:lnTo>
                  <a:lnTo>
                    <a:pt x="928" y="223"/>
                  </a:lnTo>
                  <a:lnTo>
                    <a:pt x="943" y="243"/>
                  </a:lnTo>
                  <a:lnTo>
                    <a:pt x="957" y="262"/>
                  </a:lnTo>
                  <a:lnTo>
                    <a:pt x="970" y="282"/>
                  </a:lnTo>
                  <a:lnTo>
                    <a:pt x="981" y="303"/>
                  </a:lnTo>
                  <a:lnTo>
                    <a:pt x="993" y="325"/>
                  </a:lnTo>
                  <a:lnTo>
                    <a:pt x="1003" y="347"/>
                  </a:lnTo>
                  <a:lnTo>
                    <a:pt x="1012" y="370"/>
                  </a:lnTo>
                  <a:lnTo>
                    <a:pt x="1019" y="393"/>
                  </a:lnTo>
                  <a:lnTo>
                    <a:pt x="1027" y="416"/>
                  </a:lnTo>
                  <a:lnTo>
                    <a:pt x="1032" y="440"/>
                  </a:lnTo>
                  <a:lnTo>
                    <a:pt x="1037" y="465"/>
                  </a:lnTo>
                  <a:lnTo>
                    <a:pt x="1040" y="490"/>
                  </a:lnTo>
                  <a:lnTo>
                    <a:pt x="1042" y="516"/>
                  </a:lnTo>
                  <a:lnTo>
                    <a:pt x="1042" y="542"/>
                  </a:lnTo>
                  <a:lnTo>
                    <a:pt x="1042" y="558"/>
                  </a:lnTo>
                  <a:lnTo>
                    <a:pt x="1041" y="575"/>
                  </a:lnTo>
                  <a:lnTo>
                    <a:pt x="1040" y="591"/>
                  </a:lnTo>
                  <a:lnTo>
                    <a:pt x="1038" y="608"/>
                  </a:lnTo>
                  <a:lnTo>
                    <a:pt x="1035" y="624"/>
                  </a:lnTo>
                  <a:lnTo>
                    <a:pt x="1032" y="640"/>
                  </a:lnTo>
                  <a:lnTo>
                    <a:pt x="1029" y="656"/>
                  </a:lnTo>
                  <a:lnTo>
                    <a:pt x="1025" y="671"/>
                  </a:lnTo>
                  <a:lnTo>
                    <a:pt x="1066" y="682"/>
                  </a:lnTo>
                  <a:lnTo>
                    <a:pt x="1070" y="665"/>
                  </a:lnTo>
                  <a:lnTo>
                    <a:pt x="1073" y="649"/>
                  </a:lnTo>
                  <a:lnTo>
                    <a:pt x="1077" y="630"/>
                  </a:lnTo>
                  <a:lnTo>
                    <a:pt x="1079" y="613"/>
                  </a:lnTo>
                  <a:lnTo>
                    <a:pt x="1081" y="596"/>
                  </a:lnTo>
                  <a:lnTo>
                    <a:pt x="1083" y="577"/>
                  </a:lnTo>
                  <a:lnTo>
                    <a:pt x="1084" y="560"/>
                  </a:lnTo>
                  <a:lnTo>
                    <a:pt x="1084" y="542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367160" y="2790720"/>
              <a:ext cx="414360" cy="412920"/>
            </a:xfrm>
            <a:custGeom>
              <a:avLst/>
              <a:gdLst/>
              <a:ahLst/>
              <a:rect l="l" t="t" r="r" b="b"/>
              <a:pathLst>
                <a:path w="1043" h="1041">
                  <a:moveTo>
                    <a:pt x="1043" y="521"/>
                  </a:moveTo>
                  <a:lnTo>
                    <a:pt x="1041" y="494"/>
                  </a:lnTo>
                  <a:lnTo>
                    <a:pt x="1039" y="467"/>
                  </a:lnTo>
                  <a:lnTo>
                    <a:pt x="1036" y="441"/>
                  </a:lnTo>
                  <a:lnTo>
                    <a:pt x="1032" y="416"/>
                  </a:lnTo>
                  <a:lnTo>
                    <a:pt x="1025" y="390"/>
                  </a:lnTo>
                  <a:lnTo>
                    <a:pt x="1019" y="365"/>
                  </a:lnTo>
                  <a:lnTo>
                    <a:pt x="1010" y="341"/>
                  </a:lnTo>
                  <a:lnTo>
                    <a:pt x="1001" y="318"/>
                  </a:lnTo>
                  <a:lnTo>
                    <a:pt x="991" y="295"/>
                  </a:lnTo>
                  <a:lnTo>
                    <a:pt x="979" y="272"/>
                  </a:lnTo>
                  <a:lnTo>
                    <a:pt x="967" y="251"/>
                  </a:lnTo>
                  <a:lnTo>
                    <a:pt x="953" y="229"/>
                  </a:lnTo>
                  <a:lnTo>
                    <a:pt x="939" y="209"/>
                  </a:lnTo>
                  <a:lnTo>
                    <a:pt x="923" y="189"/>
                  </a:lnTo>
                  <a:lnTo>
                    <a:pt x="906" y="171"/>
                  </a:lnTo>
                  <a:lnTo>
                    <a:pt x="889" y="152"/>
                  </a:lnTo>
                  <a:lnTo>
                    <a:pt x="872" y="135"/>
                  </a:lnTo>
                  <a:lnTo>
                    <a:pt x="852" y="119"/>
                  </a:lnTo>
                  <a:lnTo>
                    <a:pt x="833" y="103"/>
                  </a:lnTo>
                  <a:lnTo>
                    <a:pt x="812" y="89"/>
                  </a:lnTo>
                  <a:lnTo>
                    <a:pt x="791" y="76"/>
                  </a:lnTo>
                  <a:lnTo>
                    <a:pt x="769" y="63"/>
                  </a:lnTo>
                  <a:lnTo>
                    <a:pt x="746" y="51"/>
                  </a:lnTo>
                  <a:lnTo>
                    <a:pt x="724" y="41"/>
                  </a:lnTo>
                  <a:lnTo>
                    <a:pt x="700" y="31"/>
                  </a:lnTo>
                  <a:lnTo>
                    <a:pt x="676" y="23"/>
                  </a:lnTo>
                  <a:lnTo>
                    <a:pt x="651" y="16"/>
                  </a:lnTo>
                  <a:lnTo>
                    <a:pt x="627" y="10"/>
                  </a:lnTo>
                  <a:lnTo>
                    <a:pt x="601" y="6"/>
                  </a:lnTo>
                  <a:lnTo>
                    <a:pt x="575" y="2"/>
                  </a:lnTo>
                  <a:lnTo>
                    <a:pt x="548" y="0"/>
                  </a:lnTo>
                  <a:lnTo>
                    <a:pt x="521" y="0"/>
                  </a:lnTo>
                  <a:lnTo>
                    <a:pt x="495" y="0"/>
                  </a:lnTo>
                  <a:lnTo>
                    <a:pt x="468" y="2"/>
                  </a:lnTo>
                  <a:lnTo>
                    <a:pt x="442" y="6"/>
                  </a:lnTo>
                  <a:lnTo>
                    <a:pt x="416" y="10"/>
                  </a:lnTo>
                  <a:lnTo>
                    <a:pt x="391" y="16"/>
                  </a:lnTo>
                  <a:lnTo>
                    <a:pt x="366" y="23"/>
                  </a:lnTo>
                  <a:lnTo>
                    <a:pt x="342" y="31"/>
                  </a:lnTo>
                  <a:lnTo>
                    <a:pt x="319" y="41"/>
                  </a:lnTo>
                  <a:lnTo>
                    <a:pt x="295" y="51"/>
                  </a:lnTo>
                  <a:lnTo>
                    <a:pt x="273" y="63"/>
                  </a:lnTo>
                  <a:lnTo>
                    <a:pt x="252" y="76"/>
                  </a:lnTo>
                  <a:lnTo>
                    <a:pt x="230" y="89"/>
                  </a:lnTo>
                  <a:lnTo>
                    <a:pt x="209" y="103"/>
                  </a:lnTo>
                  <a:lnTo>
                    <a:pt x="190" y="119"/>
                  </a:lnTo>
                  <a:lnTo>
                    <a:pt x="171" y="135"/>
                  </a:lnTo>
                  <a:lnTo>
                    <a:pt x="153" y="152"/>
                  </a:lnTo>
                  <a:lnTo>
                    <a:pt x="136" y="171"/>
                  </a:lnTo>
                  <a:lnTo>
                    <a:pt x="120" y="189"/>
                  </a:lnTo>
                  <a:lnTo>
                    <a:pt x="104" y="209"/>
                  </a:lnTo>
                  <a:lnTo>
                    <a:pt x="90" y="229"/>
                  </a:lnTo>
                  <a:lnTo>
                    <a:pt x="75" y="251"/>
                  </a:lnTo>
                  <a:lnTo>
                    <a:pt x="64" y="272"/>
                  </a:lnTo>
                  <a:lnTo>
                    <a:pt x="52" y="295"/>
                  </a:lnTo>
                  <a:lnTo>
                    <a:pt x="41" y="318"/>
                  </a:lnTo>
                  <a:lnTo>
                    <a:pt x="32" y="341"/>
                  </a:lnTo>
                  <a:lnTo>
                    <a:pt x="24" y="365"/>
                  </a:lnTo>
                  <a:lnTo>
                    <a:pt x="17" y="390"/>
                  </a:lnTo>
                  <a:lnTo>
                    <a:pt x="11" y="416"/>
                  </a:lnTo>
                  <a:lnTo>
                    <a:pt x="6" y="441"/>
                  </a:lnTo>
                  <a:lnTo>
                    <a:pt x="3" y="467"/>
                  </a:lnTo>
                  <a:lnTo>
                    <a:pt x="1" y="494"/>
                  </a:lnTo>
                  <a:lnTo>
                    <a:pt x="0" y="521"/>
                  </a:lnTo>
                  <a:lnTo>
                    <a:pt x="1" y="548"/>
                  </a:lnTo>
                  <a:lnTo>
                    <a:pt x="3" y="574"/>
                  </a:lnTo>
                  <a:lnTo>
                    <a:pt x="6" y="600"/>
                  </a:lnTo>
                  <a:lnTo>
                    <a:pt x="11" y="625"/>
                  </a:lnTo>
                  <a:lnTo>
                    <a:pt x="17" y="650"/>
                  </a:lnTo>
                  <a:lnTo>
                    <a:pt x="24" y="675"/>
                  </a:lnTo>
                  <a:lnTo>
                    <a:pt x="32" y="699"/>
                  </a:lnTo>
                  <a:lnTo>
                    <a:pt x="41" y="723"/>
                  </a:lnTo>
                  <a:lnTo>
                    <a:pt x="52" y="746"/>
                  </a:lnTo>
                  <a:lnTo>
                    <a:pt x="64" y="769"/>
                  </a:lnTo>
                  <a:lnTo>
                    <a:pt x="75" y="791"/>
                  </a:lnTo>
                  <a:lnTo>
                    <a:pt x="90" y="811"/>
                  </a:lnTo>
                  <a:lnTo>
                    <a:pt x="104" y="832"/>
                  </a:lnTo>
                  <a:lnTo>
                    <a:pt x="120" y="851"/>
                  </a:lnTo>
                  <a:lnTo>
                    <a:pt x="136" y="871"/>
                  </a:lnTo>
                  <a:lnTo>
                    <a:pt x="153" y="889"/>
                  </a:lnTo>
                  <a:lnTo>
                    <a:pt x="171" y="906"/>
                  </a:lnTo>
                  <a:lnTo>
                    <a:pt x="190" y="922"/>
                  </a:lnTo>
                  <a:lnTo>
                    <a:pt x="209" y="938"/>
                  </a:lnTo>
                  <a:lnTo>
                    <a:pt x="230" y="952"/>
                  </a:lnTo>
                  <a:lnTo>
                    <a:pt x="252" y="966"/>
                  </a:lnTo>
                  <a:lnTo>
                    <a:pt x="273" y="979"/>
                  </a:lnTo>
                  <a:lnTo>
                    <a:pt x="295" y="989"/>
                  </a:lnTo>
                  <a:lnTo>
                    <a:pt x="319" y="1000"/>
                  </a:lnTo>
                  <a:lnTo>
                    <a:pt x="342" y="1010"/>
                  </a:lnTo>
                  <a:lnTo>
                    <a:pt x="366" y="1017"/>
                  </a:lnTo>
                  <a:lnTo>
                    <a:pt x="391" y="1025"/>
                  </a:lnTo>
                  <a:lnTo>
                    <a:pt x="416" y="1030"/>
                  </a:lnTo>
                  <a:lnTo>
                    <a:pt x="442" y="1035"/>
                  </a:lnTo>
                  <a:lnTo>
                    <a:pt x="468" y="1038"/>
                  </a:lnTo>
                  <a:lnTo>
                    <a:pt x="495" y="1040"/>
                  </a:lnTo>
                  <a:lnTo>
                    <a:pt x="521" y="1041"/>
                  </a:lnTo>
                  <a:lnTo>
                    <a:pt x="552" y="1040"/>
                  </a:lnTo>
                  <a:lnTo>
                    <a:pt x="582" y="1038"/>
                  </a:lnTo>
                  <a:lnTo>
                    <a:pt x="611" y="1034"/>
                  </a:lnTo>
                  <a:lnTo>
                    <a:pt x="641" y="1027"/>
                  </a:lnTo>
                  <a:lnTo>
                    <a:pt x="669" y="1020"/>
                  </a:lnTo>
                  <a:lnTo>
                    <a:pt x="697" y="1011"/>
                  </a:lnTo>
                  <a:lnTo>
                    <a:pt x="724" y="1000"/>
                  </a:lnTo>
                  <a:lnTo>
                    <a:pt x="750" y="988"/>
                  </a:lnTo>
                  <a:lnTo>
                    <a:pt x="731" y="951"/>
                  </a:lnTo>
                  <a:lnTo>
                    <a:pt x="708" y="962"/>
                  </a:lnTo>
                  <a:lnTo>
                    <a:pt x="683" y="972"/>
                  </a:lnTo>
                  <a:lnTo>
                    <a:pt x="657" y="980"/>
                  </a:lnTo>
                  <a:lnTo>
                    <a:pt x="631" y="987"/>
                  </a:lnTo>
                  <a:lnTo>
                    <a:pt x="604" y="993"/>
                  </a:lnTo>
                  <a:lnTo>
                    <a:pt x="577" y="996"/>
                  </a:lnTo>
                  <a:lnTo>
                    <a:pt x="549" y="998"/>
                  </a:lnTo>
                  <a:lnTo>
                    <a:pt x="521" y="999"/>
                  </a:lnTo>
                  <a:lnTo>
                    <a:pt x="497" y="999"/>
                  </a:lnTo>
                  <a:lnTo>
                    <a:pt x="472" y="997"/>
                  </a:lnTo>
                  <a:lnTo>
                    <a:pt x="448" y="994"/>
                  </a:lnTo>
                  <a:lnTo>
                    <a:pt x="424" y="989"/>
                  </a:lnTo>
                  <a:lnTo>
                    <a:pt x="402" y="984"/>
                  </a:lnTo>
                  <a:lnTo>
                    <a:pt x="379" y="978"/>
                  </a:lnTo>
                  <a:lnTo>
                    <a:pt x="356" y="970"/>
                  </a:lnTo>
                  <a:lnTo>
                    <a:pt x="335" y="961"/>
                  </a:lnTo>
                  <a:lnTo>
                    <a:pt x="313" y="953"/>
                  </a:lnTo>
                  <a:lnTo>
                    <a:pt x="293" y="942"/>
                  </a:lnTo>
                  <a:lnTo>
                    <a:pt x="273" y="930"/>
                  </a:lnTo>
                  <a:lnTo>
                    <a:pt x="254" y="917"/>
                  </a:lnTo>
                  <a:lnTo>
                    <a:pt x="234" y="904"/>
                  </a:lnTo>
                  <a:lnTo>
                    <a:pt x="216" y="890"/>
                  </a:lnTo>
                  <a:lnTo>
                    <a:pt x="199" y="875"/>
                  </a:lnTo>
                  <a:lnTo>
                    <a:pt x="182" y="859"/>
                  </a:lnTo>
                  <a:lnTo>
                    <a:pt x="166" y="843"/>
                  </a:lnTo>
                  <a:lnTo>
                    <a:pt x="151" y="825"/>
                  </a:lnTo>
                  <a:lnTo>
                    <a:pt x="137" y="807"/>
                  </a:lnTo>
                  <a:lnTo>
                    <a:pt x="124" y="789"/>
                  </a:lnTo>
                  <a:lnTo>
                    <a:pt x="111" y="769"/>
                  </a:lnTo>
                  <a:lnTo>
                    <a:pt x="100" y="749"/>
                  </a:lnTo>
                  <a:lnTo>
                    <a:pt x="90" y="728"/>
                  </a:lnTo>
                  <a:lnTo>
                    <a:pt x="80" y="706"/>
                  </a:lnTo>
                  <a:lnTo>
                    <a:pt x="71" y="685"/>
                  </a:lnTo>
                  <a:lnTo>
                    <a:pt x="64" y="663"/>
                  </a:lnTo>
                  <a:lnTo>
                    <a:pt x="57" y="641"/>
                  </a:lnTo>
                  <a:lnTo>
                    <a:pt x="52" y="617"/>
                  </a:lnTo>
                  <a:lnTo>
                    <a:pt x="47" y="593"/>
                  </a:lnTo>
                  <a:lnTo>
                    <a:pt x="44" y="569"/>
                  </a:lnTo>
                  <a:lnTo>
                    <a:pt x="43" y="546"/>
                  </a:lnTo>
                  <a:lnTo>
                    <a:pt x="42" y="521"/>
                  </a:lnTo>
                  <a:lnTo>
                    <a:pt x="43" y="496"/>
                  </a:lnTo>
                  <a:lnTo>
                    <a:pt x="44" y="471"/>
                  </a:lnTo>
                  <a:lnTo>
                    <a:pt x="47" y="447"/>
                  </a:lnTo>
                  <a:lnTo>
                    <a:pt x="52" y="423"/>
                  </a:lnTo>
                  <a:lnTo>
                    <a:pt x="57" y="401"/>
                  </a:lnTo>
                  <a:lnTo>
                    <a:pt x="64" y="378"/>
                  </a:lnTo>
                  <a:lnTo>
                    <a:pt x="71" y="355"/>
                  </a:lnTo>
                  <a:lnTo>
                    <a:pt x="80" y="334"/>
                  </a:lnTo>
                  <a:lnTo>
                    <a:pt x="90" y="313"/>
                  </a:lnTo>
                  <a:lnTo>
                    <a:pt x="100" y="292"/>
                  </a:lnTo>
                  <a:lnTo>
                    <a:pt x="111" y="272"/>
                  </a:lnTo>
                  <a:lnTo>
                    <a:pt x="124" y="253"/>
                  </a:lnTo>
                  <a:lnTo>
                    <a:pt x="137" y="233"/>
                  </a:lnTo>
                  <a:lnTo>
                    <a:pt x="151" y="216"/>
                  </a:lnTo>
                  <a:lnTo>
                    <a:pt x="166" y="199"/>
                  </a:lnTo>
                  <a:lnTo>
                    <a:pt x="182" y="182"/>
                  </a:lnTo>
                  <a:lnTo>
                    <a:pt x="199" y="165"/>
                  </a:lnTo>
                  <a:lnTo>
                    <a:pt x="216" y="151"/>
                  </a:lnTo>
                  <a:lnTo>
                    <a:pt x="234" y="136"/>
                  </a:lnTo>
                  <a:lnTo>
                    <a:pt x="254" y="123"/>
                  </a:lnTo>
                  <a:lnTo>
                    <a:pt x="273" y="111"/>
                  </a:lnTo>
                  <a:lnTo>
                    <a:pt x="293" y="99"/>
                  </a:lnTo>
                  <a:lnTo>
                    <a:pt x="313" y="89"/>
                  </a:lnTo>
                  <a:lnTo>
                    <a:pt x="335" y="79"/>
                  </a:lnTo>
                  <a:lnTo>
                    <a:pt x="356" y="70"/>
                  </a:lnTo>
                  <a:lnTo>
                    <a:pt x="379" y="63"/>
                  </a:lnTo>
                  <a:lnTo>
                    <a:pt x="402" y="56"/>
                  </a:lnTo>
                  <a:lnTo>
                    <a:pt x="424" y="51"/>
                  </a:lnTo>
                  <a:lnTo>
                    <a:pt x="448" y="47"/>
                  </a:lnTo>
                  <a:lnTo>
                    <a:pt x="472" y="44"/>
                  </a:lnTo>
                  <a:lnTo>
                    <a:pt x="497" y="42"/>
                  </a:lnTo>
                  <a:lnTo>
                    <a:pt x="521" y="41"/>
                  </a:lnTo>
                  <a:lnTo>
                    <a:pt x="545" y="42"/>
                  </a:lnTo>
                  <a:lnTo>
                    <a:pt x="570" y="44"/>
                  </a:lnTo>
                  <a:lnTo>
                    <a:pt x="594" y="47"/>
                  </a:lnTo>
                  <a:lnTo>
                    <a:pt x="618" y="51"/>
                  </a:lnTo>
                  <a:lnTo>
                    <a:pt x="641" y="56"/>
                  </a:lnTo>
                  <a:lnTo>
                    <a:pt x="663" y="63"/>
                  </a:lnTo>
                  <a:lnTo>
                    <a:pt x="686" y="70"/>
                  </a:lnTo>
                  <a:lnTo>
                    <a:pt x="708" y="79"/>
                  </a:lnTo>
                  <a:lnTo>
                    <a:pt x="729" y="89"/>
                  </a:lnTo>
                  <a:lnTo>
                    <a:pt x="750" y="99"/>
                  </a:lnTo>
                  <a:lnTo>
                    <a:pt x="769" y="111"/>
                  </a:lnTo>
                  <a:lnTo>
                    <a:pt x="789" y="123"/>
                  </a:lnTo>
                  <a:lnTo>
                    <a:pt x="808" y="136"/>
                  </a:lnTo>
                  <a:lnTo>
                    <a:pt x="826" y="151"/>
                  </a:lnTo>
                  <a:lnTo>
                    <a:pt x="844" y="165"/>
                  </a:lnTo>
                  <a:lnTo>
                    <a:pt x="860" y="182"/>
                  </a:lnTo>
                  <a:lnTo>
                    <a:pt x="876" y="199"/>
                  </a:lnTo>
                  <a:lnTo>
                    <a:pt x="891" y="216"/>
                  </a:lnTo>
                  <a:lnTo>
                    <a:pt x="905" y="233"/>
                  </a:lnTo>
                  <a:lnTo>
                    <a:pt x="918" y="253"/>
                  </a:lnTo>
                  <a:lnTo>
                    <a:pt x="931" y="272"/>
                  </a:lnTo>
                  <a:lnTo>
                    <a:pt x="942" y="292"/>
                  </a:lnTo>
                  <a:lnTo>
                    <a:pt x="953" y="313"/>
                  </a:lnTo>
                  <a:lnTo>
                    <a:pt x="963" y="334"/>
                  </a:lnTo>
                  <a:lnTo>
                    <a:pt x="971" y="355"/>
                  </a:lnTo>
                  <a:lnTo>
                    <a:pt x="979" y="378"/>
                  </a:lnTo>
                  <a:lnTo>
                    <a:pt x="985" y="401"/>
                  </a:lnTo>
                  <a:lnTo>
                    <a:pt x="991" y="423"/>
                  </a:lnTo>
                  <a:lnTo>
                    <a:pt x="995" y="447"/>
                  </a:lnTo>
                  <a:lnTo>
                    <a:pt x="998" y="471"/>
                  </a:lnTo>
                  <a:lnTo>
                    <a:pt x="999" y="496"/>
                  </a:lnTo>
                  <a:lnTo>
                    <a:pt x="1000" y="521"/>
                  </a:lnTo>
                  <a:lnTo>
                    <a:pt x="1000" y="537"/>
                  </a:lnTo>
                  <a:lnTo>
                    <a:pt x="999" y="552"/>
                  </a:lnTo>
                  <a:lnTo>
                    <a:pt x="998" y="568"/>
                  </a:lnTo>
                  <a:lnTo>
                    <a:pt x="996" y="584"/>
                  </a:lnTo>
                  <a:lnTo>
                    <a:pt x="994" y="600"/>
                  </a:lnTo>
                  <a:lnTo>
                    <a:pt x="991" y="615"/>
                  </a:lnTo>
                  <a:lnTo>
                    <a:pt x="987" y="630"/>
                  </a:lnTo>
                  <a:lnTo>
                    <a:pt x="984" y="645"/>
                  </a:lnTo>
                  <a:lnTo>
                    <a:pt x="1024" y="656"/>
                  </a:lnTo>
                  <a:lnTo>
                    <a:pt x="1028" y="639"/>
                  </a:lnTo>
                  <a:lnTo>
                    <a:pt x="1032" y="623"/>
                  </a:lnTo>
                  <a:lnTo>
                    <a:pt x="1035" y="606"/>
                  </a:lnTo>
                  <a:lnTo>
                    <a:pt x="1037" y="590"/>
                  </a:lnTo>
                  <a:lnTo>
                    <a:pt x="1039" y="573"/>
                  </a:lnTo>
                  <a:lnTo>
                    <a:pt x="1040" y="555"/>
                  </a:lnTo>
                  <a:lnTo>
                    <a:pt x="1041" y="538"/>
                  </a:lnTo>
                  <a:lnTo>
                    <a:pt x="1043" y="521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375080" y="2798640"/>
              <a:ext cx="397080" cy="39708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500"/>
                  </a:moveTo>
                  <a:lnTo>
                    <a:pt x="1000" y="474"/>
                  </a:lnTo>
                  <a:lnTo>
                    <a:pt x="998" y="448"/>
                  </a:lnTo>
                  <a:lnTo>
                    <a:pt x="995" y="423"/>
                  </a:lnTo>
                  <a:lnTo>
                    <a:pt x="990" y="399"/>
                  </a:lnTo>
                  <a:lnTo>
                    <a:pt x="985" y="374"/>
                  </a:lnTo>
                  <a:lnTo>
                    <a:pt x="977" y="351"/>
                  </a:lnTo>
                  <a:lnTo>
                    <a:pt x="970" y="328"/>
                  </a:lnTo>
                  <a:lnTo>
                    <a:pt x="961" y="305"/>
                  </a:lnTo>
                  <a:lnTo>
                    <a:pt x="951" y="283"/>
                  </a:lnTo>
                  <a:lnTo>
                    <a:pt x="939" y="261"/>
                  </a:lnTo>
                  <a:lnTo>
                    <a:pt x="928" y="240"/>
                  </a:lnTo>
                  <a:lnTo>
                    <a:pt x="915" y="220"/>
                  </a:lnTo>
                  <a:lnTo>
                    <a:pt x="901" y="201"/>
                  </a:lnTo>
                  <a:lnTo>
                    <a:pt x="886" y="181"/>
                  </a:lnTo>
                  <a:lnTo>
                    <a:pt x="870" y="164"/>
                  </a:lnTo>
                  <a:lnTo>
                    <a:pt x="854" y="147"/>
                  </a:lnTo>
                  <a:lnTo>
                    <a:pt x="837" y="129"/>
                  </a:lnTo>
                  <a:lnTo>
                    <a:pt x="818" y="114"/>
                  </a:lnTo>
                  <a:lnTo>
                    <a:pt x="799" y="99"/>
                  </a:lnTo>
                  <a:lnTo>
                    <a:pt x="780" y="85"/>
                  </a:lnTo>
                  <a:lnTo>
                    <a:pt x="759" y="72"/>
                  </a:lnTo>
                  <a:lnTo>
                    <a:pt x="738" y="60"/>
                  </a:lnTo>
                  <a:lnTo>
                    <a:pt x="717" y="49"/>
                  </a:lnTo>
                  <a:lnTo>
                    <a:pt x="695" y="39"/>
                  </a:lnTo>
                  <a:lnTo>
                    <a:pt x="673" y="30"/>
                  </a:lnTo>
                  <a:lnTo>
                    <a:pt x="649" y="22"/>
                  </a:lnTo>
                  <a:lnTo>
                    <a:pt x="625" y="16"/>
                  </a:lnTo>
                  <a:lnTo>
                    <a:pt x="601" y="9"/>
                  </a:lnTo>
                  <a:lnTo>
                    <a:pt x="576" y="5"/>
                  </a:lnTo>
                  <a:lnTo>
                    <a:pt x="552" y="2"/>
                  </a:lnTo>
                  <a:lnTo>
                    <a:pt x="526" y="1"/>
                  </a:lnTo>
                  <a:lnTo>
                    <a:pt x="500" y="0"/>
                  </a:lnTo>
                  <a:lnTo>
                    <a:pt x="475" y="1"/>
                  </a:lnTo>
                  <a:lnTo>
                    <a:pt x="449" y="2"/>
                  </a:lnTo>
                  <a:lnTo>
                    <a:pt x="424" y="5"/>
                  </a:lnTo>
                  <a:lnTo>
                    <a:pt x="399" y="9"/>
                  </a:lnTo>
                  <a:lnTo>
                    <a:pt x="375" y="16"/>
                  </a:lnTo>
                  <a:lnTo>
                    <a:pt x="352" y="22"/>
                  </a:lnTo>
                  <a:lnTo>
                    <a:pt x="328" y="30"/>
                  </a:lnTo>
                  <a:lnTo>
                    <a:pt x="305" y="39"/>
                  </a:lnTo>
                  <a:lnTo>
                    <a:pt x="284" y="49"/>
                  </a:lnTo>
                  <a:lnTo>
                    <a:pt x="262" y="60"/>
                  </a:lnTo>
                  <a:lnTo>
                    <a:pt x="241" y="72"/>
                  </a:lnTo>
                  <a:lnTo>
                    <a:pt x="221" y="85"/>
                  </a:lnTo>
                  <a:lnTo>
                    <a:pt x="201" y="99"/>
                  </a:lnTo>
                  <a:lnTo>
                    <a:pt x="182" y="114"/>
                  </a:lnTo>
                  <a:lnTo>
                    <a:pt x="164" y="129"/>
                  </a:lnTo>
                  <a:lnTo>
                    <a:pt x="146" y="147"/>
                  </a:lnTo>
                  <a:lnTo>
                    <a:pt x="130" y="164"/>
                  </a:lnTo>
                  <a:lnTo>
                    <a:pt x="114" y="181"/>
                  </a:lnTo>
                  <a:lnTo>
                    <a:pt x="100" y="201"/>
                  </a:lnTo>
                  <a:lnTo>
                    <a:pt x="86" y="220"/>
                  </a:lnTo>
                  <a:lnTo>
                    <a:pt x="73" y="240"/>
                  </a:lnTo>
                  <a:lnTo>
                    <a:pt x="61" y="261"/>
                  </a:lnTo>
                  <a:lnTo>
                    <a:pt x="49" y="283"/>
                  </a:lnTo>
                  <a:lnTo>
                    <a:pt x="39" y="305"/>
                  </a:lnTo>
                  <a:lnTo>
                    <a:pt x="31" y="328"/>
                  </a:lnTo>
                  <a:lnTo>
                    <a:pt x="23" y="351"/>
                  </a:lnTo>
                  <a:lnTo>
                    <a:pt x="16" y="374"/>
                  </a:lnTo>
                  <a:lnTo>
                    <a:pt x="10" y="399"/>
                  </a:lnTo>
                  <a:lnTo>
                    <a:pt x="6" y="423"/>
                  </a:lnTo>
                  <a:lnTo>
                    <a:pt x="3" y="448"/>
                  </a:lnTo>
                  <a:lnTo>
                    <a:pt x="0" y="474"/>
                  </a:lnTo>
                  <a:lnTo>
                    <a:pt x="0" y="500"/>
                  </a:lnTo>
                  <a:lnTo>
                    <a:pt x="0" y="526"/>
                  </a:lnTo>
                  <a:lnTo>
                    <a:pt x="3" y="550"/>
                  </a:lnTo>
                  <a:lnTo>
                    <a:pt x="6" y="575"/>
                  </a:lnTo>
                  <a:lnTo>
                    <a:pt x="10" y="600"/>
                  </a:lnTo>
                  <a:lnTo>
                    <a:pt x="16" y="624"/>
                  </a:lnTo>
                  <a:lnTo>
                    <a:pt x="23" y="648"/>
                  </a:lnTo>
                  <a:lnTo>
                    <a:pt x="31" y="671"/>
                  </a:lnTo>
                  <a:lnTo>
                    <a:pt x="39" y="694"/>
                  </a:lnTo>
                  <a:lnTo>
                    <a:pt x="49" y="716"/>
                  </a:lnTo>
                  <a:lnTo>
                    <a:pt x="61" y="737"/>
                  </a:lnTo>
                  <a:lnTo>
                    <a:pt x="73" y="759"/>
                  </a:lnTo>
                  <a:lnTo>
                    <a:pt x="86" y="778"/>
                  </a:lnTo>
                  <a:lnTo>
                    <a:pt x="100" y="799"/>
                  </a:lnTo>
                  <a:lnTo>
                    <a:pt x="114" y="817"/>
                  </a:lnTo>
                  <a:lnTo>
                    <a:pt x="130" y="836"/>
                  </a:lnTo>
                  <a:lnTo>
                    <a:pt x="146" y="853"/>
                  </a:lnTo>
                  <a:lnTo>
                    <a:pt x="164" y="869"/>
                  </a:lnTo>
                  <a:lnTo>
                    <a:pt x="182" y="885"/>
                  </a:lnTo>
                  <a:lnTo>
                    <a:pt x="201" y="900"/>
                  </a:lnTo>
                  <a:lnTo>
                    <a:pt x="221" y="913"/>
                  </a:lnTo>
                  <a:lnTo>
                    <a:pt x="241" y="927"/>
                  </a:lnTo>
                  <a:lnTo>
                    <a:pt x="262" y="939"/>
                  </a:lnTo>
                  <a:lnTo>
                    <a:pt x="284" y="950"/>
                  </a:lnTo>
                  <a:lnTo>
                    <a:pt x="305" y="960"/>
                  </a:lnTo>
                  <a:lnTo>
                    <a:pt x="328" y="968"/>
                  </a:lnTo>
                  <a:lnTo>
                    <a:pt x="352" y="977"/>
                  </a:lnTo>
                  <a:lnTo>
                    <a:pt x="375" y="984"/>
                  </a:lnTo>
                  <a:lnTo>
                    <a:pt x="399" y="989"/>
                  </a:lnTo>
                  <a:lnTo>
                    <a:pt x="424" y="993"/>
                  </a:lnTo>
                  <a:lnTo>
                    <a:pt x="449" y="996"/>
                  </a:lnTo>
                  <a:lnTo>
                    <a:pt x="475" y="999"/>
                  </a:lnTo>
                  <a:lnTo>
                    <a:pt x="500" y="1000"/>
                  </a:lnTo>
                  <a:lnTo>
                    <a:pt x="530" y="999"/>
                  </a:lnTo>
                  <a:lnTo>
                    <a:pt x="558" y="995"/>
                  </a:lnTo>
                  <a:lnTo>
                    <a:pt x="586" y="992"/>
                  </a:lnTo>
                  <a:lnTo>
                    <a:pt x="614" y="986"/>
                  </a:lnTo>
                  <a:lnTo>
                    <a:pt x="641" y="979"/>
                  </a:lnTo>
                  <a:lnTo>
                    <a:pt x="668" y="971"/>
                  </a:lnTo>
                  <a:lnTo>
                    <a:pt x="694" y="960"/>
                  </a:lnTo>
                  <a:lnTo>
                    <a:pt x="719" y="949"/>
                  </a:lnTo>
                  <a:lnTo>
                    <a:pt x="701" y="911"/>
                  </a:lnTo>
                  <a:lnTo>
                    <a:pt x="678" y="922"/>
                  </a:lnTo>
                  <a:lnTo>
                    <a:pt x="654" y="931"/>
                  </a:lnTo>
                  <a:lnTo>
                    <a:pt x="630" y="939"/>
                  </a:lnTo>
                  <a:lnTo>
                    <a:pt x="604" y="946"/>
                  </a:lnTo>
                  <a:lnTo>
                    <a:pt x="580" y="951"/>
                  </a:lnTo>
                  <a:lnTo>
                    <a:pt x="554" y="954"/>
                  </a:lnTo>
                  <a:lnTo>
                    <a:pt x="527" y="957"/>
                  </a:lnTo>
                  <a:lnTo>
                    <a:pt x="500" y="958"/>
                  </a:lnTo>
                  <a:lnTo>
                    <a:pt x="477" y="957"/>
                  </a:lnTo>
                  <a:lnTo>
                    <a:pt x="453" y="955"/>
                  </a:lnTo>
                  <a:lnTo>
                    <a:pt x="430" y="952"/>
                  </a:lnTo>
                  <a:lnTo>
                    <a:pt x="408" y="948"/>
                  </a:lnTo>
                  <a:lnTo>
                    <a:pt x="385" y="944"/>
                  </a:lnTo>
                  <a:lnTo>
                    <a:pt x="363" y="937"/>
                  </a:lnTo>
                  <a:lnTo>
                    <a:pt x="343" y="930"/>
                  </a:lnTo>
                  <a:lnTo>
                    <a:pt x="321" y="922"/>
                  </a:lnTo>
                  <a:lnTo>
                    <a:pt x="302" y="912"/>
                  </a:lnTo>
                  <a:lnTo>
                    <a:pt x="281" y="903"/>
                  </a:lnTo>
                  <a:lnTo>
                    <a:pt x="263" y="892"/>
                  </a:lnTo>
                  <a:lnTo>
                    <a:pt x="244" y="880"/>
                  </a:lnTo>
                  <a:lnTo>
                    <a:pt x="226" y="867"/>
                  </a:lnTo>
                  <a:lnTo>
                    <a:pt x="209" y="853"/>
                  </a:lnTo>
                  <a:lnTo>
                    <a:pt x="192" y="839"/>
                  </a:lnTo>
                  <a:lnTo>
                    <a:pt x="177" y="824"/>
                  </a:lnTo>
                  <a:lnTo>
                    <a:pt x="160" y="807"/>
                  </a:lnTo>
                  <a:lnTo>
                    <a:pt x="146" y="791"/>
                  </a:lnTo>
                  <a:lnTo>
                    <a:pt x="133" y="774"/>
                  </a:lnTo>
                  <a:lnTo>
                    <a:pt x="120" y="756"/>
                  </a:lnTo>
                  <a:lnTo>
                    <a:pt x="108" y="737"/>
                  </a:lnTo>
                  <a:lnTo>
                    <a:pt x="97" y="718"/>
                  </a:lnTo>
                  <a:lnTo>
                    <a:pt x="87" y="698"/>
                  </a:lnTo>
                  <a:lnTo>
                    <a:pt x="78" y="678"/>
                  </a:lnTo>
                  <a:lnTo>
                    <a:pt x="70" y="657"/>
                  </a:lnTo>
                  <a:lnTo>
                    <a:pt x="62" y="636"/>
                  </a:lnTo>
                  <a:lnTo>
                    <a:pt x="57" y="614"/>
                  </a:lnTo>
                  <a:lnTo>
                    <a:pt x="51" y="591"/>
                  </a:lnTo>
                  <a:lnTo>
                    <a:pt x="47" y="569"/>
                  </a:lnTo>
                  <a:lnTo>
                    <a:pt x="44" y="546"/>
                  </a:lnTo>
                  <a:lnTo>
                    <a:pt x="43" y="523"/>
                  </a:lnTo>
                  <a:lnTo>
                    <a:pt x="41" y="500"/>
                  </a:lnTo>
                  <a:lnTo>
                    <a:pt x="43" y="476"/>
                  </a:lnTo>
                  <a:lnTo>
                    <a:pt x="44" y="452"/>
                  </a:lnTo>
                  <a:lnTo>
                    <a:pt x="47" y="429"/>
                  </a:lnTo>
                  <a:lnTo>
                    <a:pt x="51" y="407"/>
                  </a:lnTo>
                  <a:lnTo>
                    <a:pt x="57" y="385"/>
                  </a:lnTo>
                  <a:lnTo>
                    <a:pt x="62" y="364"/>
                  </a:lnTo>
                  <a:lnTo>
                    <a:pt x="70" y="342"/>
                  </a:lnTo>
                  <a:lnTo>
                    <a:pt x="78" y="321"/>
                  </a:lnTo>
                  <a:lnTo>
                    <a:pt x="87" y="301"/>
                  </a:lnTo>
                  <a:lnTo>
                    <a:pt x="97" y="282"/>
                  </a:lnTo>
                  <a:lnTo>
                    <a:pt x="108" y="262"/>
                  </a:lnTo>
                  <a:lnTo>
                    <a:pt x="120" y="244"/>
                  </a:lnTo>
                  <a:lnTo>
                    <a:pt x="133" y="225"/>
                  </a:lnTo>
                  <a:lnTo>
                    <a:pt x="146" y="208"/>
                  </a:lnTo>
                  <a:lnTo>
                    <a:pt x="160" y="192"/>
                  </a:lnTo>
                  <a:lnTo>
                    <a:pt x="177" y="176"/>
                  </a:lnTo>
                  <a:lnTo>
                    <a:pt x="192" y="161"/>
                  </a:lnTo>
                  <a:lnTo>
                    <a:pt x="209" y="145"/>
                  </a:lnTo>
                  <a:lnTo>
                    <a:pt x="226" y="132"/>
                  </a:lnTo>
                  <a:lnTo>
                    <a:pt x="244" y="120"/>
                  </a:lnTo>
                  <a:lnTo>
                    <a:pt x="263" y="108"/>
                  </a:lnTo>
                  <a:lnTo>
                    <a:pt x="281" y="97"/>
                  </a:lnTo>
                  <a:lnTo>
                    <a:pt x="302" y="86"/>
                  </a:lnTo>
                  <a:lnTo>
                    <a:pt x="321" y="77"/>
                  </a:lnTo>
                  <a:lnTo>
                    <a:pt x="343" y="69"/>
                  </a:lnTo>
                  <a:lnTo>
                    <a:pt x="363" y="62"/>
                  </a:lnTo>
                  <a:lnTo>
                    <a:pt x="385" y="56"/>
                  </a:lnTo>
                  <a:lnTo>
                    <a:pt x="408" y="50"/>
                  </a:lnTo>
                  <a:lnTo>
                    <a:pt x="430" y="46"/>
                  </a:lnTo>
                  <a:lnTo>
                    <a:pt x="453" y="44"/>
                  </a:lnTo>
                  <a:lnTo>
                    <a:pt x="477" y="42"/>
                  </a:lnTo>
                  <a:lnTo>
                    <a:pt x="500" y="42"/>
                  </a:lnTo>
                  <a:lnTo>
                    <a:pt x="523" y="42"/>
                  </a:lnTo>
                  <a:lnTo>
                    <a:pt x="547" y="44"/>
                  </a:lnTo>
                  <a:lnTo>
                    <a:pt x="570" y="46"/>
                  </a:lnTo>
                  <a:lnTo>
                    <a:pt x="593" y="50"/>
                  </a:lnTo>
                  <a:lnTo>
                    <a:pt x="614" y="56"/>
                  </a:lnTo>
                  <a:lnTo>
                    <a:pt x="637" y="62"/>
                  </a:lnTo>
                  <a:lnTo>
                    <a:pt x="657" y="69"/>
                  </a:lnTo>
                  <a:lnTo>
                    <a:pt x="679" y="77"/>
                  </a:lnTo>
                  <a:lnTo>
                    <a:pt x="698" y="86"/>
                  </a:lnTo>
                  <a:lnTo>
                    <a:pt x="719" y="97"/>
                  </a:lnTo>
                  <a:lnTo>
                    <a:pt x="737" y="108"/>
                  </a:lnTo>
                  <a:lnTo>
                    <a:pt x="757" y="120"/>
                  </a:lnTo>
                  <a:lnTo>
                    <a:pt x="774" y="132"/>
                  </a:lnTo>
                  <a:lnTo>
                    <a:pt x="791" y="145"/>
                  </a:lnTo>
                  <a:lnTo>
                    <a:pt x="809" y="161"/>
                  </a:lnTo>
                  <a:lnTo>
                    <a:pt x="824" y="176"/>
                  </a:lnTo>
                  <a:lnTo>
                    <a:pt x="839" y="192"/>
                  </a:lnTo>
                  <a:lnTo>
                    <a:pt x="854" y="208"/>
                  </a:lnTo>
                  <a:lnTo>
                    <a:pt x="867" y="225"/>
                  </a:lnTo>
                  <a:lnTo>
                    <a:pt x="880" y="244"/>
                  </a:lnTo>
                  <a:lnTo>
                    <a:pt x="892" y="262"/>
                  </a:lnTo>
                  <a:lnTo>
                    <a:pt x="903" y="282"/>
                  </a:lnTo>
                  <a:lnTo>
                    <a:pt x="913" y="301"/>
                  </a:lnTo>
                  <a:lnTo>
                    <a:pt x="922" y="321"/>
                  </a:lnTo>
                  <a:lnTo>
                    <a:pt x="931" y="342"/>
                  </a:lnTo>
                  <a:lnTo>
                    <a:pt x="938" y="364"/>
                  </a:lnTo>
                  <a:lnTo>
                    <a:pt x="944" y="385"/>
                  </a:lnTo>
                  <a:lnTo>
                    <a:pt x="949" y="407"/>
                  </a:lnTo>
                  <a:lnTo>
                    <a:pt x="953" y="429"/>
                  </a:lnTo>
                  <a:lnTo>
                    <a:pt x="956" y="452"/>
                  </a:lnTo>
                  <a:lnTo>
                    <a:pt x="958" y="476"/>
                  </a:lnTo>
                  <a:lnTo>
                    <a:pt x="959" y="500"/>
                  </a:lnTo>
                  <a:lnTo>
                    <a:pt x="958" y="515"/>
                  </a:lnTo>
                  <a:lnTo>
                    <a:pt x="958" y="530"/>
                  </a:lnTo>
                  <a:lnTo>
                    <a:pt x="957" y="545"/>
                  </a:lnTo>
                  <a:lnTo>
                    <a:pt x="955" y="560"/>
                  </a:lnTo>
                  <a:lnTo>
                    <a:pt x="952" y="575"/>
                  </a:lnTo>
                  <a:lnTo>
                    <a:pt x="949" y="589"/>
                  </a:lnTo>
                  <a:lnTo>
                    <a:pt x="946" y="604"/>
                  </a:lnTo>
                  <a:lnTo>
                    <a:pt x="943" y="618"/>
                  </a:lnTo>
                  <a:lnTo>
                    <a:pt x="983" y="629"/>
                  </a:lnTo>
                  <a:lnTo>
                    <a:pt x="987" y="614"/>
                  </a:lnTo>
                  <a:lnTo>
                    <a:pt x="990" y="598"/>
                  </a:lnTo>
                  <a:lnTo>
                    <a:pt x="993" y="582"/>
                  </a:lnTo>
                  <a:lnTo>
                    <a:pt x="996" y="566"/>
                  </a:lnTo>
                  <a:lnTo>
                    <a:pt x="998" y="549"/>
                  </a:lnTo>
                  <a:lnTo>
                    <a:pt x="999" y="533"/>
                  </a:lnTo>
                  <a:lnTo>
                    <a:pt x="1000" y="516"/>
                  </a:lnTo>
                  <a:lnTo>
                    <a:pt x="1000" y="50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383000" y="2806560"/>
              <a:ext cx="381240" cy="381240"/>
            </a:xfrm>
            <a:custGeom>
              <a:avLst/>
              <a:gdLst/>
              <a:ahLst/>
              <a:rect l="l" t="t" r="r" b="b"/>
              <a:pathLst>
                <a:path w="958" h="958">
                  <a:moveTo>
                    <a:pt x="958" y="480"/>
                  </a:moveTo>
                  <a:lnTo>
                    <a:pt x="957" y="455"/>
                  </a:lnTo>
                  <a:lnTo>
                    <a:pt x="956" y="430"/>
                  </a:lnTo>
                  <a:lnTo>
                    <a:pt x="953" y="406"/>
                  </a:lnTo>
                  <a:lnTo>
                    <a:pt x="949" y="382"/>
                  </a:lnTo>
                  <a:lnTo>
                    <a:pt x="943" y="360"/>
                  </a:lnTo>
                  <a:lnTo>
                    <a:pt x="937" y="337"/>
                  </a:lnTo>
                  <a:lnTo>
                    <a:pt x="929" y="314"/>
                  </a:lnTo>
                  <a:lnTo>
                    <a:pt x="921" y="293"/>
                  </a:lnTo>
                  <a:lnTo>
                    <a:pt x="911" y="272"/>
                  </a:lnTo>
                  <a:lnTo>
                    <a:pt x="900" y="251"/>
                  </a:lnTo>
                  <a:lnTo>
                    <a:pt x="889" y="231"/>
                  </a:lnTo>
                  <a:lnTo>
                    <a:pt x="876" y="212"/>
                  </a:lnTo>
                  <a:lnTo>
                    <a:pt x="863" y="192"/>
                  </a:lnTo>
                  <a:lnTo>
                    <a:pt x="849" y="175"/>
                  </a:lnTo>
                  <a:lnTo>
                    <a:pt x="834" y="158"/>
                  </a:lnTo>
                  <a:lnTo>
                    <a:pt x="818" y="141"/>
                  </a:lnTo>
                  <a:lnTo>
                    <a:pt x="802" y="124"/>
                  </a:lnTo>
                  <a:lnTo>
                    <a:pt x="784" y="110"/>
                  </a:lnTo>
                  <a:lnTo>
                    <a:pt x="766" y="95"/>
                  </a:lnTo>
                  <a:lnTo>
                    <a:pt x="747" y="82"/>
                  </a:lnTo>
                  <a:lnTo>
                    <a:pt x="727" y="69"/>
                  </a:lnTo>
                  <a:lnTo>
                    <a:pt x="708" y="58"/>
                  </a:lnTo>
                  <a:lnTo>
                    <a:pt x="687" y="48"/>
                  </a:lnTo>
                  <a:lnTo>
                    <a:pt x="666" y="38"/>
                  </a:lnTo>
                  <a:lnTo>
                    <a:pt x="644" y="29"/>
                  </a:lnTo>
                  <a:lnTo>
                    <a:pt x="621" y="22"/>
                  </a:lnTo>
                  <a:lnTo>
                    <a:pt x="599" y="15"/>
                  </a:lnTo>
                  <a:lnTo>
                    <a:pt x="576" y="10"/>
                  </a:lnTo>
                  <a:lnTo>
                    <a:pt x="552" y="6"/>
                  </a:lnTo>
                  <a:lnTo>
                    <a:pt x="528" y="3"/>
                  </a:lnTo>
                  <a:lnTo>
                    <a:pt x="503" y="1"/>
                  </a:lnTo>
                  <a:lnTo>
                    <a:pt x="479" y="0"/>
                  </a:lnTo>
                  <a:lnTo>
                    <a:pt x="455" y="1"/>
                  </a:lnTo>
                  <a:lnTo>
                    <a:pt x="430" y="3"/>
                  </a:lnTo>
                  <a:lnTo>
                    <a:pt x="406" y="6"/>
                  </a:lnTo>
                  <a:lnTo>
                    <a:pt x="382" y="10"/>
                  </a:lnTo>
                  <a:lnTo>
                    <a:pt x="360" y="15"/>
                  </a:lnTo>
                  <a:lnTo>
                    <a:pt x="337" y="22"/>
                  </a:lnTo>
                  <a:lnTo>
                    <a:pt x="314" y="29"/>
                  </a:lnTo>
                  <a:lnTo>
                    <a:pt x="293" y="38"/>
                  </a:lnTo>
                  <a:lnTo>
                    <a:pt x="271" y="48"/>
                  </a:lnTo>
                  <a:lnTo>
                    <a:pt x="251" y="58"/>
                  </a:lnTo>
                  <a:lnTo>
                    <a:pt x="231" y="69"/>
                  </a:lnTo>
                  <a:lnTo>
                    <a:pt x="212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4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2"/>
                  </a:lnTo>
                  <a:lnTo>
                    <a:pt x="82" y="212"/>
                  </a:lnTo>
                  <a:lnTo>
                    <a:pt x="69" y="231"/>
                  </a:lnTo>
                  <a:lnTo>
                    <a:pt x="58" y="251"/>
                  </a:lnTo>
                  <a:lnTo>
                    <a:pt x="48" y="272"/>
                  </a:lnTo>
                  <a:lnTo>
                    <a:pt x="38" y="293"/>
                  </a:lnTo>
                  <a:lnTo>
                    <a:pt x="29" y="314"/>
                  </a:lnTo>
                  <a:lnTo>
                    <a:pt x="22" y="337"/>
                  </a:lnTo>
                  <a:lnTo>
                    <a:pt x="15" y="360"/>
                  </a:lnTo>
                  <a:lnTo>
                    <a:pt x="10" y="382"/>
                  </a:lnTo>
                  <a:lnTo>
                    <a:pt x="5" y="406"/>
                  </a:lnTo>
                  <a:lnTo>
                    <a:pt x="2" y="430"/>
                  </a:lnTo>
                  <a:lnTo>
                    <a:pt x="1" y="455"/>
                  </a:lnTo>
                  <a:lnTo>
                    <a:pt x="0" y="480"/>
                  </a:lnTo>
                  <a:lnTo>
                    <a:pt x="1" y="505"/>
                  </a:lnTo>
                  <a:lnTo>
                    <a:pt x="2" y="528"/>
                  </a:lnTo>
                  <a:lnTo>
                    <a:pt x="5" y="552"/>
                  </a:lnTo>
                  <a:lnTo>
                    <a:pt x="10" y="576"/>
                  </a:lnTo>
                  <a:lnTo>
                    <a:pt x="15" y="600"/>
                  </a:lnTo>
                  <a:lnTo>
                    <a:pt x="22" y="622"/>
                  </a:lnTo>
                  <a:lnTo>
                    <a:pt x="29" y="644"/>
                  </a:lnTo>
                  <a:lnTo>
                    <a:pt x="38" y="665"/>
                  </a:lnTo>
                  <a:lnTo>
                    <a:pt x="48" y="687"/>
                  </a:lnTo>
                  <a:lnTo>
                    <a:pt x="58" y="708"/>
                  </a:lnTo>
                  <a:lnTo>
                    <a:pt x="69" y="728"/>
                  </a:lnTo>
                  <a:lnTo>
                    <a:pt x="82" y="748"/>
                  </a:lnTo>
                  <a:lnTo>
                    <a:pt x="95" y="766"/>
                  </a:lnTo>
                  <a:lnTo>
                    <a:pt x="109" y="784"/>
                  </a:lnTo>
                  <a:lnTo>
                    <a:pt x="124" y="802"/>
                  </a:lnTo>
                  <a:lnTo>
                    <a:pt x="140" y="818"/>
                  </a:lnTo>
                  <a:lnTo>
                    <a:pt x="157" y="834"/>
                  </a:lnTo>
                  <a:lnTo>
                    <a:pt x="174" y="849"/>
                  </a:lnTo>
                  <a:lnTo>
                    <a:pt x="192" y="863"/>
                  </a:lnTo>
                  <a:lnTo>
                    <a:pt x="212" y="876"/>
                  </a:lnTo>
                  <a:lnTo>
                    <a:pt x="231" y="889"/>
                  </a:lnTo>
                  <a:lnTo>
                    <a:pt x="251" y="901"/>
                  </a:lnTo>
                  <a:lnTo>
                    <a:pt x="271" y="912"/>
                  </a:lnTo>
                  <a:lnTo>
                    <a:pt x="293" y="920"/>
                  </a:lnTo>
                  <a:lnTo>
                    <a:pt x="314" y="929"/>
                  </a:lnTo>
                  <a:lnTo>
                    <a:pt x="337" y="937"/>
                  </a:lnTo>
                  <a:lnTo>
                    <a:pt x="360" y="943"/>
                  </a:lnTo>
                  <a:lnTo>
                    <a:pt x="382" y="948"/>
                  </a:lnTo>
                  <a:lnTo>
                    <a:pt x="406" y="953"/>
                  </a:lnTo>
                  <a:lnTo>
                    <a:pt x="430" y="956"/>
                  </a:lnTo>
                  <a:lnTo>
                    <a:pt x="455" y="958"/>
                  </a:lnTo>
                  <a:lnTo>
                    <a:pt x="479" y="958"/>
                  </a:lnTo>
                  <a:lnTo>
                    <a:pt x="507" y="957"/>
                  </a:lnTo>
                  <a:lnTo>
                    <a:pt x="535" y="955"/>
                  </a:lnTo>
                  <a:lnTo>
                    <a:pt x="562" y="952"/>
                  </a:lnTo>
                  <a:lnTo>
                    <a:pt x="589" y="946"/>
                  </a:lnTo>
                  <a:lnTo>
                    <a:pt x="615" y="939"/>
                  </a:lnTo>
                  <a:lnTo>
                    <a:pt x="641" y="931"/>
                  </a:lnTo>
                  <a:lnTo>
                    <a:pt x="666" y="921"/>
                  </a:lnTo>
                  <a:lnTo>
                    <a:pt x="689" y="910"/>
                  </a:lnTo>
                  <a:lnTo>
                    <a:pt x="671" y="873"/>
                  </a:lnTo>
                  <a:lnTo>
                    <a:pt x="649" y="883"/>
                  </a:lnTo>
                  <a:lnTo>
                    <a:pt x="627" y="891"/>
                  </a:lnTo>
                  <a:lnTo>
                    <a:pt x="603" y="899"/>
                  </a:lnTo>
                  <a:lnTo>
                    <a:pt x="579" y="905"/>
                  </a:lnTo>
                  <a:lnTo>
                    <a:pt x="555" y="911"/>
                  </a:lnTo>
                  <a:lnTo>
                    <a:pt x="531" y="914"/>
                  </a:lnTo>
                  <a:lnTo>
                    <a:pt x="505" y="916"/>
                  </a:lnTo>
                  <a:lnTo>
                    <a:pt x="479" y="917"/>
                  </a:lnTo>
                  <a:lnTo>
                    <a:pt x="457" y="916"/>
                  </a:lnTo>
                  <a:lnTo>
                    <a:pt x="434" y="915"/>
                  </a:lnTo>
                  <a:lnTo>
                    <a:pt x="413" y="912"/>
                  </a:lnTo>
                  <a:lnTo>
                    <a:pt x="391" y="907"/>
                  </a:lnTo>
                  <a:lnTo>
                    <a:pt x="370" y="903"/>
                  </a:lnTo>
                  <a:lnTo>
                    <a:pt x="349" y="897"/>
                  </a:lnTo>
                  <a:lnTo>
                    <a:pt x="328" y="890"/>
                  </a:lnTo>
                  <a:lnTo>
                    <a:pt x="309" y="883"/>
                  </a:lnTo>
                  <a:lnTo>
                    <a:pt x="290" y="874"/>
                  </a:lnTo>
                  <a:lnTo>
                    <a:pt x="270" y="864"/>
                  </a:lnTo>
                  <a:lnTo>
                    <a:pt x="253" y="853"/>
                  </a:lnTo>
                  <a:lnTo>
                    <a:pt x="234" y="843"/>
                  </a:lnTo>
                  <a:lnTo>
                    <a:pt x="217" y="830"/>
                  </a:lnTo>
                  <a:lnTo>
                    <a:pt x="201" y="817"/>
                  </a:lnTo>
                  <a:lnTo>
                    <a:pt x="185" y="803"/>
                  </a:lnTo>
                  <a:lnTo>
                    <a:pt x="170" y="789"/>
                  </a:lnTo>
                  <a:lnTo>
                    <a:pt x="156" y="773"/>
                  </a:lnTo>
                  <a:lnTo>
                    <a:pt x="142" y="757"/>
                  </a:lnTo>
                  <a:lnTo>
                    <a:pt x="129" y="741"/>
                  </a:lnTo>
                  <a:lnTo>
                    <a:pt x="117" y="724"/>
                  </a:lnTo>
                  <a:lnTo>
                    <a:pt x="105" y="706"/>
                  </a:lnTo>
                  <a:lnTo>
                    <a:pt x="94" y="688"/>
                  </a:lnTo>
                  <a:lnTo>
                    <a:pt x="84" y="669"/>
                  </a:lnTo>
                  <a:lnTo>
                    <a:pt x="76" y="649"/>
                  </a:lnTo>
                  <a:lnTo>
                    <a:pt x="68" y="630"/>
                  </a:lnTo>
                  <a:lnTo>
                    <a:pt x="62" y="609"/>
                  </a:lnTo>
                  <a:lnTo>
                    <a:pt x="55" y="589"/>
                  </a:lnTo>
                  <a:lnTo>
                    <a:pt x="51" y="567"/>
                  </a:lnTo>
                  <a:lnTo>
                    <a:pt x="46" y="546"/>
                  </a:lnTo>
                  <a:lnTo>
                    <a:pt x="44" y="524"/>
                  </a:lnTo>
                  <a:lnTo>
                    <a:pt x="42" y="502"/>
                  </a:lnTo>
                  <a:lnTo>
                    <a:pt x="42" y="480"/>
                  </a:lnTo>
                  <a:lnTo>
                    <a:pt x="42" y="457"/>
                  </a:lnTo>
                  <a:lnTo>
                    <a:pt x="44" y="434"/>
                  </a:lnTo>
                  <a:lnTo>
                    <a:pt x="46" y="413"/>
                  </a:lnTo>
                  <a:lnTo>
                    <a:pt x="51" y="391"/>
                  </a:lnTo>
                  <a:lnTo>
                    <a:pt x="55" y="371"/>
                  </a:lnTo>
                  <a:lnTo>
                    <a:pt x="62" y="349"/>
                  </a:lnTo>
                  <a:lnTo>
                    <a:pt x="68" y="330"/>
                  </a:lnTo>
                  <a:lnTo>
                    <a:pt x="76" y="309"/>
                  </a:lnTo>
                  <a:lnTo>
                    <a:pt x="84" y="290"/>
                  </a:lnTo>
                  <a:lnTo>
                    <a:pt x="94" y="271"/>
                  </a:lnTo>
                  <a:lnTo>
                    <a:pt x="105" y="253"/>
                  </a:lnTo>
                  <a:lnTo>
                    <a:pt x="117" y="235"/>
                  </a:lnTo>
                  <a:lnTo>
                    <a:pt x="129" y="217"/>
                  </a:lnTo>
                  <a:lnTo>
                    <a:pt x="142" y="201"/>
                  </a:lnTo>
                  <a:lnTo>
                    <a:pt x="156" y="186"/>
                  </a:lnTo>
                  <a:lnTo>
                    <a:pt x="170" y="170"/>
                  </a:lnTo>
                  <a:lnTo>
                    <a:pt x="185" y="156"/>
                  </a:lnTo>
                  <a:lnTo>
                    <a:pt x="201" y="142"/>
                  </a:lnTo>
                  <a:lnTo>
                    <a:pt x="217" y="129"/>
                  </a:lnTo>
                  <a:lnTo>
                    <a:pt x="234" y="117"/>
                  </a:lnTo>
                  <a:lnTo>
                    <a:pt x="253" y="105"/>
                  </a:lnTo>
                  <a:lnTo>
                    <a:pt x="270" y="95"/>
                  </a:lnTo>
                  <a:lnTo>
                    <a:pt x="290" y="85"/>
                  </a:lnTo>
                  <a:lnTo>
                    <a:pt x="309" y="77"/>
                  </a:lnTo>
                  <a:lnTo>
                    <a:pt x="328" y="68"/>
                  </a:lnTo>
                  <a:lnTo>
                    <a:pt x="349" y="62"/>
                  </a:lnTo>
                  <a:lnTo>
                    <a:pt x="370" y="56"/>
                  </a:lnTo>
                  <a:lnTo>
                    <a:pt x="391" y="51"/>
                  </a:lnTo>
                  <a:lnTo>
                    <a:pt x="413" y="48"/>
                  </a:lnTo>
                  <a:lnTo>
                    <a:pt x="434" y="44"/>
                  </a:lnTo>
                  <a:lnTo>
                    <a:pt x="457" y="42"/>
                  </a:lnTo>
                  <a:lnTo>
                    <a:pt x="479" y="42"/>
                  </a:lnTo>
                  <a:lnTo>
                    <a:pt x="501" y="42"/>
                  </a:lnTo>
                  <a:lnTo>
                    <a:pt x="524" y="44"/>
                  </a:lnTo>
                  <a:lnTo>
                    <a:pt x="546" y="48"/>
                  </a:lnTo>
                  <a:lnTo>
                    <a:pt x="567" y="51"/>
                  </a:lnTo>
                  <a:lnTo>
                    <a:pt x="589" y="56"/>
                  </a:lnTo>
                  <a:lnTo>
                    <a:pt x="609" y="62"/>
                  </a:lnTo>
                  <a:lnTo>
                    <a:pt x="630" y="68"/>
                  </a:lnTo>
                  <a:lnTo>
                    <a:pt x="649" y="77"/>
                  </a:lnTo>
                  <a:lnTo>
                    <a:pt x="669" y="85"/>
                  </a:lnTo>
                  <a:lnTo>
                    <a:pt x="687" y="95"/>
                  </a:lnTo>
                  <a:lnTo>
                    <a:pt x="706" y="105"/>
                  </a:lnTo>
                  <a:lnTo>
                    <a:pt x="724" y="117"/>
                  </a:lnTo>
                  <a:lnTo>
                    <a:pt x="741" y="129"/>
                  </a:lnTo>
                  <a:lnTo>
                    <a:pt x="757" y="142"/>
                  </a:lnTo>
                  <a:lnTo>
                    <a:pt x="774" y="156"/>
                  </a:lnTo>
                  <a:lnTo>
                    <a:pt x="789" y="170"/>
                  </a:lnTo>
                  <a:lnTo>
                    <a:pt x="803" y="186"/>
                  </a:lnTo>
                  <a:lnTo>
                    <a:pt x="817" y="201"/>
                  </a:lnTo>
                  <a:lnTo>
                    <a:pt x="830" y="217"/>
                  </a:lnTo>
                  <a:lnTo>
                    <a:pt x="842" y="235"/>
                  </a:lnTo>
                  <a:lnTo>
                    <a:pt x="854" y="253"/>
                  </a:lnTo>
                  <a:lnTo>
                    <a:pt x="864" y="271"/>
                  </a:lnTo>
                  <a:lnTo>
                    <a:pt x="873" y="290"/>
                  </a:lnTo>
                  <a:lnTo>
                    <a:pt x="883" y="309"/>
                  </a:lnTo>
                  <a:lnTo>
                    <a:pt x="890" y="330"/>
                  </a:lnTo>
                  <a:lnTo>
                    <a:pt x="897" y="349"/>
                  </a:lnTo>
                  <a:lnTo>
                    <a:pt x="903" y="371"/>
                  </a:lnTo>
                  <a:lnTo>
                    <a:pt x="908" y="391"/>
                  </a:lnTo>
                  <a:lnTo>
                    <a:pt x="912" y="413"/>
                  </a:lnTo>
                  <a:lnTo>
                    <a:pt x="914" y="434"/>
                  </a:lnTo>
                  <a:lnTo>
                    <a:pt x="916" y="457"/>
                  </a:lnTo>
                  <a:lnTo>
                    <a:pt x="916" y="480"/>
                  </a:lnTo>
                  <a:lnTo>
                    <a:pt x="916" y="494"/>
                  </a:lnTo>
                  <a:lnTo>
                    <a:pt x="915" y="509"/>
                  </a:lnTo>
                  <a:lnTo>
                    <a:pt x="914" y="523"/>
                  </a:lnTo>
                  <a:lnTo>
                    <a:pt x="913" y="537"/>
                  </a:lnTo>
                  <a:lnTo>
                    <a:pt x="911" y="552"/>
                  </a:lnTo>
                  <a:lnTo>
                    <a:pt x="908" y="566"/>
                  </a:lnTo>
                  <a:lnTo>
                    <a:pt x="905" y="579"/>
                  </a:lnTo>
                  <a:lnTo>
                    <a:pt x="902" y="593"/>
                  </a:lnTo>
                  <a:lnTo>
                    <a:pt x="942" y="604"/>
                  </a:lnTo>
                  <a:lnTo>
                    <a:pt x="945" y="589"/>
                  </a:lnTo>
                  <a:lnTo>
                    <a:pt x="949" y="574"/>
                  </a:lnTo>
                  <a:lnTo>
                    <a:pt x="952" y="559"/>
                  </a:lnTo>
                  <a:lnTo>
                    <a:pt x="954" y="543"/>
                  </a:lnTo>
                  <a:lnTo>
                    <a:pt x="956" y="527"/>
                  </a:lnTo>
                  <a:lnTo>
                    <a:pt x="957" y="511"/>
                  </a:lnTo>
                  <a:lnTo>
                    <a:pt x="958" y="496"/>
                  </a:lnTo>
                  <a:lnTo>
                    <a:pt x="958" y="480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92720" y="2816280"/>
              <a:ext cx="363600" cy="363600"/>
            </a:xfrm>
            <a:custGeom>
              <a:avLst/>
              <a:gdLst/>
              <a:ahLst/>
              <a:rect l="l" t="t" r="r" b="b"/>
              <a:pathLst>
                <a:path w="918" h="916">
                  <a:moveTo>
                    <a:pt x="918" y="458"/>
                  </a:moveTo>
                  <a:lnTo>
                    <a:pt x="917" y="434"/>
                  </a:lnTo>
                  <a:lnTo>
                    <a:pt x="915" y="410"/>
                  </a:lnTo>
                  <a:lnTo>
                    <a:pt x="912" y="387"/>
                  </a:lnTo>
                  <a:lnTo>
                    <a:pt x="908" y="365"/>
                  </a:lnTo>
                  <a:lnTo>
                    <a:pt x="903" y="343"/>
                  </a:lnTo>
                  <a:lnTo>
                    <a:pt x="897" y="322"/>
                  </a:lnTo>
                  <a:lnTo>
                    <a:pt x="890" y="300"/>
                  </a:lnTo>
                  <a:lnTo>
                    <a:pt x="881" y="279"/>
                  </a:lnTo>
                  <a:lnTo>
                    <a:pt x="872" y="259"/>
                  </a:lnTo>
                  <a:lnTo>
                    <a:pt x="862" y="240"/>
                  </a:lnTo>
                  <a:lnTo>
                    <a:pt x="851" y="220"/>
                  </a:lnTo>
                  <a:lnTo>
                    <a:pt x="839" y="202"/>
                  </a:lnTo>
                  <a:lnTo>
                    <a:pt x="826" y="183"/>
                  </a:lnTo>
                  <a:lnTo>
                    <a:pt x="813" y="166"/>
                  </a:lnTo>
                  <a:lnTo>
                    <a:pt x="798" y="150"/>
                  </a:lnTo>
                  <a:lnTo>
                    <a:pt x="783" y="134"/>
                  </a:lnTo>
                  <a:lnTo>
                    <a:pt x="768" y="119"/>
                  </a:lnTo>
                  <a:lnTo>
                    <a:pt x="750" y="103"/>
                  </a:lnTo>
                  <a:lnTo>
                    <a:pt x="733" y="90"/>
                  </a:lnTo>
                  <a:lnTo>
                    <a:pt x="716" y="78"/>
                  </a:lnTo>
                  <a:lnTo>
                    <a:pt x="696" y="66"/>
                  </a:lnTo>
                  <a:lnTo>
                    <a:pt x="678" y="55"/>
                  </a:lnTo>
                  <a:lnTo>
                    <a:pt x="657" y="44"/>
                  </a:lnTo>
                  <a:lnTo>
                    <a:pt x="638" y="35"/>
                  </a:lnTo>
                  <a:lnTo>
                    <a:pt x="616" y="27"/>
                  </a:lnTo>
                  <a:lnTo>
                    <a:pt x="596" y="20"/>
                  </a:lnTo>
                  <a:lnTo>
                    <a:pt x="573" y="14"/>
                  </a:lnTo>
                  <a:lnTo>
                    <a:pt x="552" y="8"/>
                  </a:lnTo>
                  <a:lnTo>
                    <a:pt x="529" y="4"/>
                  </a:lnTo>
                  <a:lnTo>
                    <a:pt x="506" y="2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12" y="2"/>
                  </a:lnTo>
                  <a:lnTo>
                    <a:pt x="389" y="4"/>
                  </a:lnTo>
                  <a:lnTo>
                    <a:pt x="367" y="8"/>
                  </a:lnTo>
                  <a:lnTo>
                    <a:pt x="344" y="14"/>
                  </a:lnTo>
                  <a:lnTo>
                    <a:pt x="322" y="20"/>
                  </a:lnTo>
                  <a:lnTo>
                    <a:pt x="302" y="27"/>
                  </a:lnTo>
                  <a:lnTo>
                    <a:pt x="280" y="35"/>
                  </a:lnTo>
                  <a:lnTo>
                    <a:pt x="261" y="44"/>
                  </a:lnTo>
                  <a:lnTo>
                    <a:pt x="240" y="55"/>
                  </a:lnTo>
                  <a:lnTo>
                    <a:pt x="222" y="66"/>
                  </a:lnTo>
                  <a:lnTo>
                    <a:pt x="203" y="78"/>
                  </a:lnTo>
                  <a:lnTo>
                    <a:pt x="185" y="90"/>
                  </a:lnTo>
                  <a:lnTo>
                    <a:pt x="168" y="103"/>
                  </a:lnTo>
                  <a:lnTo>
                    <a:pt x="151" y="119"/>
                  </a:lnTo>
                  <a:lnTo>
                    <a:pt x="136" y="134"/>
                  </a:lnTo>
                  <a:lnTo>
                    <a:pt x="119" y="150"/>
                  </a:lnTo>
                  <a:lnTo>
                    <a:pt x="105" y="166"/>
                  </a:lnTo>
                  <a:lnTo>
                    <a:pt x="92" y="183"/>
                  </a:lnTo>
                  <a:lnTo>
                    <a:pt x="79" y="202"/>
                  </a:lnTo>
                  <a:lnTo>
                    <a:pt x="67" y="220"/>
                  </a:lnTo>
                  <a:lnTo>
                    <a:pt x="56" y="240"/>
                  </a:lnTo>
                  <a:lnTo>
                    <a:pt x="46" y="259"/>
                  </a:lnTo>
                  <a:lnTo>
                    <a:pt x="37" y="279"/>
                  </a:lnTo>
                  <a:lnTo>
                    <a:pt x="29" y="300"/>
                  </a:lnTo>
                  <a:lnTo>
                    <a:pt x="21" y="322"/>
                  </a:lnTo>
                  <a:lnTo>
                    <a:pt x="16" y="343"/>
                  </a:lnTo>
                  <a:lnTo>
                    <a:pt x="10" y="365"/>
                  </a:lnTo>
                  <a:lnTo>
                    <a:pt x="6" y="387"/>
                  </a:lnTo>
                  <a:lnTo>
                    <a:pt x="3" y="410"/>
                  </a:lnTo>
                  <a:lnTo>
                    <a:pt x="2" y="434"/>
                  </a:lnTo>
                  <a:lnTo>
                    <a:pt x="0" y="458"/>
                  </a:lnTo>
                  <a:lnTo>
                    <a:pt x="2" y="481"/>
                  </a:lnTo>
                  <a:lnTo>
                    <a:pt x="3" y="504"/>
                  </a:lnTo>
                  <a:lnTo>
                    <a:pt x="6" y="527"/>
                  </a:lnTo>
                  <a:lnTo>
                    <a:pt x="10" y="549"/>
                  </a:lnTo>
                  <a:lnTo>
                    <a:pt x="16" y="572"/>
                  </a:lnTo>
                  <a:lnTo>
                    <a:pt x="21" y="594"/>
                  </a:lnTo>
                  <a:lnTo>
                    <a:pt x="29" y="615"/>
                  </a:lnTo>
                  <a:lnTo>
                    <a:pt x="37" y="636"/>
                  </a:lnTo>
                  <a:lnTo>
                    <a:pt x="46" y="656"/>
                  </a:lnTo>
                  <a:lnTo>
                    <a:pt x="56" y="676"/>
                  </a:lnTo>
                  <a:lnTo>
                    <a:pt x="67" y="695"/>
                  </a:lnTo>
                  <a:lnTo>
                    <a:pt x="79" y="714"/>
                  </a:lnTo>
                  <a:lnTo>
                    <a:pt x="92" y="732"/>
                  </a:lnTo>
                  <a:lnTo>
                    <a:pt x="105" y="749"/>
                  </a:lnTo>
                  <a:lnTo>
                    <a:pt x="119" y="765"/>
                  </a:lnTo>
                  <a:lnTo>
                    <a:pt x="136" y="782"/>
                  </a:lnTo>
                  <a:lnTo>
                    <a:pt x="151" y="797"/>
                  </a:lnTo>
                  <a:lnTo>
                    <a:pt x="168" y="811"/>
                  </a:lnTo>
                  <a:lnTo>
                    <a:pt x="185" y="825"/>
                  </a:lnTo>
                  <a:lnTo>
                    <a:pt x="203" y="838"/>
                  </a:lnTo>
                  <a:lnTo>
                    <a:pt x="222" y="850"/>
                  </a:lnTo>
                  <a:lnTo>
                    <a:pt x="240" y="861"/>
                  </a:lnTo>
                  <a:lnTo>
                    <a:pt x="261" y="870"/>
                  </a:lnTo>
                  <a:lnTo>
                    <a:pt x="280" y="880"/>
                  </a:lnTo>
                  <a:lnTo>
                    <a:pt x="302" y="888"/>
                  </a:lnTo>
                  <a:lnTo>
                    <a:pt x="322" y="895"/>
                  </a:lnTo>
                  <a:lnTo>
                    <a:pt x="344" y="902"/>
                  </a:lnTo>
                  <a:lnTo>
                    <a:pt x="367" y="906"/>
                  </a:lnTo>
                  <a:lnTo>
                    <a:pt x="389" y="910"/>
                  </a:lnTo>
                  <a:lnTo>
                    <a:pt x="412" y="913"/>
                  </a:lnTo>
                  <a:lnTo>
                    <a:pt x="436" y="915"/>
                  </a:lnTo>
                  <a:lnTo>
                    <a:pt x="459" y="916"/>
                  </a:lnTo>
                  <a:lnTo>
                    <a:pt x="486" y="915"/>
                  </a:lnTo>
                  <a:lnTo>
                    <a:pt x="513" y="912"/>
                  </a:lnTo>
                  <a:lnTo>
                    <a:pt x="539" y="909"/>
                  </a:lnTo>
                  <a:lnTo>
                    <a:pt x="563" y="904"/>
                  </a:lnTo>
                  <a:lnTo>
                    <a:pt x="589" y="897"/>
                  </a:lnTo>
                  <a:lnTo>
                    <a:pt x="613" y="889"/>
                  </a:lnTo>
                  <a:lnTo>
                    <a:pt x="637" y="880"/>
                  </a:lnTo>
                  <a:lnTo>
                    <a:pt x="660" y="869"/>
                  </a:lnTo>
                  <a:lnTo>
                    <a:pt x="642" y="831"/>
                  </a:lnTo>
                  <a:lnTo>
                    <a:pt x="621" y="841"/>
                  </a:lnTo>
                  <a:lnTo>
                    <a:pt x="599" y="850"/>
                  </a:lnTo>
                  <a:lnTo>
                    <a:pt x="578" y="857"/>
                  </a:lnTo>
                  <a:lnTo>
                    <a:pt x="555" y="863"/>
                  </a:lnTo>
                  <a:lnTo>
                    <a:pt x="531" y="868"/>
                  </a:lnTo>
                  <a:lnTo>
                    <a:pt x="507" y="871"/>
                  </a:lnTo>
                  <a:lnTo>
                    <a:pt x="483" y="873"/>
                  </a:lnTo>
                  <a:lnTo>
                    <a:pt x="459" y="873"/>
                  </a:lnTo>
                  <a:lnTo>
                    <a:pt x="438" y="873"/>
                  </a:lnTo>
                  <a:lnTo>
                    <a:pt x="417" y="871"/>
                  </a:lnTo>
                  <a:lnTo>
                    <a:pt x="396" y="869"/>
                  </a:lnTo>
                  <a:lnTo>
                    <a:pt x="375" y="866"/>
                  </a:lnTo>
                  <a:lnTo>
                    <a:pt x="355" y="861"/>
                  </a:lnTo>
                  <a:lnTo>
                    <a:pt x="335" y="855"/>
                  </a:lnTo>
                  <a:lnTo>
                    <a:pt x="316" y="849"/>
                  </a:lnTo>
                  <a:lnTo>
                    <a:pt x="297" y="841"/>
                  </a:lnTo>
                  <a:lnTo>
                    <a:pt x="278" y="832"/>
                  </a:lnTo>
                  <a:lnTo>
                    <a:pt x="261" y="824"/>
                  </a:lnTo>
                  <a:lnTo>
                    <a:pt x="244" y="814"/>
                  </a:lnTo>
                  <a:lnTo>
                    <a:pt x="226" y="803"/>
                  </a:lnTo>
                  <a:lnTo>
                    <a:pt x="210" y="791"/>
                  </a:lnTo>
                  <a:lnTo>
                    <a:pt x="194" y="778"/>
                  </a:lnTo>
                  <a:lnTo>
                    <a:pt x="179" y="765"/>
                  </a:lnTo>
                  <a:lnTo>
                    <a:pt x="165" y="751"/>
                  </a:lnTo>
                  <a:lnTo>
                    <a:pt x="151" y="737"/>
                  </a:lnTo>
                  <a:lnTo>
                    <a:pt x="138" y="722"/>
                  </a:lnTo>
                  <a:lnTo>
                    <a:pt x="125" y="706"/>
                  </a:lnTo>
                  <a:lnTo>
                    <a:pt x="114" y="690"/>
                  </a:lnTo>
                  <a:lnTo>
                    <a:pt x="103" y="674"/>
                  </a:lnTo>
                  <a:lnTo>
                    <a:pt x="92" y="656"/>
                  </a:lnTo>
                  <a:lnTo>
                    <a:pt x="84" y="638"/>
                  </a:lnTo>
                  <a:lnTo>
                    <a:pt x="75" y="620"/>
                  </a:lnTo>
                  <a:lnTo>
                    <a:pt x="67" y="600"/>
                  </a:lnTo>
                  <a:lnTo>
                    <a:pt x="61" y="581"/>
                  </a:lnTo>
                  <a:lnTo>
                    <a:pt x="56" y="561"/>
                  </a:lnTo>
                  <a:lnTo>
                    <a:pt x="51" y="541"/>
                  </a:lnTo>
                  <a:lnTo>
                    <a:pt x="47" y="520"/>
                  </a:lnTo>
                  <a:lnTo>
                    <a:pt x="45" y="500"/>
                  </a:lnTo>
                  <a:lnTo>
                    <a:pt x="43" y="479"/>
                  </a:lnTo>
                  <a:lnTo>
                    <a:pt x="43" y="458"/>
                  </a:lnTo>
                  <a:lnTo>
                    <a:pt x="43" y="436"/>
                  </a:lnTo>
                  <a:lnTo>
                    <a:pt x="45" y="414"/>
                  </a:lnTo>
                  <a:lnTo>
                    <a:pt x="47" y="394"/>
                  </a:lnTo>
                  <a:lnTo>
                    <a:pt x="51" y="373"/>
                  </a:lnTo>
                  <a:lnTo>
                    <a:pt x="56" y="353"/>
                  </a:lnTo>
                  <a:lnTo>
                    <a:pt x="61" y="333"/>
                  </a:lnTo>
                  <a:lnTo>
                    <a:pt x="67" y="314"/>
                  </a:lnTo>
                  <a:lnTo>
                    <a:pt x="75" y="296"/>
                  </a:lnTo>
                  <a:lnTo>
                    <a:pt x="84" y="277"/>
                  </a:lnTo>
                  <a:lnTo>
                    <a:pt x="92" y="259"/>
                  </a:lnTo>
                  <a:lnTo>
                    <a:pt x="103" y="242"/>
                  </a:lnTo>
                  <a:lnTo>
                    <a:pt x="114" y="224"/>
                  </a:lnTo>
                  <a:lnTo>
                    <a:pt x="125" y="208"/>
                  </a:lnTo>
                  <a:lnTo>
                    <a:pt x="138" y="192"/>
                  </a:lnTo>
                  <a:lnTo>
                    <a:pt x="151" y="177"/>
                  </a:lnTo>
                  <a:lnTo>
                    <a:pt x="165" y="163"/>
                  </a:lnTo>
                  <a:lnTo>
                    <a:pt x="179" y="149"/>
                  </a:lnTo>
                  <a:lnTo>
                    <a:pt x="194" y="136"/>
                  </a:lnTo>
                  <a:lnTo>
                    <a:pt x="210" y="124"/>
                  </a:lnTo>
                  <a:lnTo>
                    <a:pt x="226" y="112"/>
                  </a:lnTo>
                  <a:lnTo>
                    <a:pt x="244" y="101"/>
                  </a:lnTo>
                  <a:lnTo>
                    <a:pt x="261" y="92"/>
                  </a:lnTo>
                  <a:lnTo>
                    <a:pt x="278" y="82"/>
                  </a:lnTo>
                  <a:lnTo>
                    <a:pt x="297" y="73"/>
                  </a:lnTo>
                  <a:lnTo>
                    <a:pt x="316" y="67"/>
                  </a:lnTo>
                  <a:lnTo>
                    <a:pt x="335" y="59"/>
                  </a:lnTo>
                  <a:lnTo>
                    <a:pt x="355" y="54"/>
                  </a:lnTo>
                  <a:lnTo>
                    <a:pt x="375" y="49"/>
                  </a:lnTo>
                  <a:lnTo>
                    <a:pt x="396" y="46"/>
                  </a:lnTo>
                  <a:lnTo>
                    <a:pt x="417" y="43"/>
                  </a:lnTo>
                  <a:lnTo>
                    <a:pt x="438" y="42"/>
                  </a:lnTo>
                  <a:lnTo>
                    <a:pt x="459" y="41"/>
                  </a:lnTo>
                  <a:lnTo>
                    <a:pt x="480" y="42"/>
                  </a:lnTo>
                  <a:lnTo>
                    <a:pt x="502" y="43"/>
                  </a:lnTo>
                  <a:lnTo>
                    <a:pt x="522" y="46"/>
                  </a:lnTo>
                  <a:lnTo>
                    <a:pt x="543" y="49"/>
                  </a:lnTo>
                  <a:lnTo>
                    <a:pt x="563" y="54"/>
                  </a:lnTo>
                  <a:lnTo>
                    <a:pt x="583" y="59"/>
                  </a:lnTo>
                  <a:lnTo>
                    <a:pt x="602" y="67"/>
                  </a:lnTo>
                  <a:lnTo>
                    <a:pt x="622" y="73"/>
                  </a:lnTo>
                  <a:lnTo>
                    <a:pt x="640" y="82"/>
                  </a:lnTo>
                  <a:lnTo>
                    <a:pt x="657" y="92"/>
                  </a:lnTo>
                  <a:lnTo>
                    <a:pt x="675" y="101"/>
                  </a:lnTo>
                  <a:lnTo>
                    <a:pt x="692" y="112"/>
                  </a:lnTo>
                  <a:lnTo>
                    <a:pt x="708" y="124"/>
                  </a:lnTo>
                  <a:lnTo>
                    <a:pt x="724" y="136"/>
                  </a:lnTo>
                  <a:lnTo>
                    <a:pt x="740" y="149"/>
                  </a:lnTo>
                  <a:lnTo>
                    <a:pt x="754" y="163"/>
                  </a:lnTo>
                  <a:lnTo>
                    <a:pt x="768" y="177"/>
                  </a:lnTo>
                  <a:lnTo>
                    <a:pt x="781" y="192"/>
                  </a:lnTo>
                  <a:lnTo>
                    <a:pt x="793" y="208"/>
                  </a:lnTo>
                  <a:lnTo>
                    <a:pt x="804" y="224"/>
                  </a:lnTo>
                  <a:lnTo>
                    <a:pt x="815" y="242"/>
                  </a:lnTo>
                  <a:lnTo>
                    <a:pt x="826" y="259"/>
                  </a:lnTo>
                  <a:lnTo>
                    <a:pt x="835" y="277"/>
                  </a:lnTo>
                  <a:lnTo>
                    <a:pt x="843" y="296"/>
                  </a:lnTo>
                  <a:lnTo>
                    <a:pt x="851" y="314"/>
                  </a:lnTo>
                  <a:lnTo>
                    <a:pt x="857" y="333"/>
                  </a:lnTo>
                  <a:lnTo>
                    <a:pt x="863" y="353"/>
                  </a:lnTo>
                  <a:lnTo>
                    <a:pt x="867" y="373"/>
                  </a:lnTo>
                  <a:lnTo>
                    <a:pt x="871" y="394"/>
                  </a:lnTo>
                  <a:lnTo>
                    <a:pt x="874" y="414"/>
                  </a:lnTo>
                  <a:lnTo>
                    <a:pt x="876" y="436"/>
                  </a:lnTo>
                  <a:lnTo>
                    <a:pt x="876" y="458"/>
                  </a:lnTo>
                  <a:lnTo>
                    <a:pt x="876" y="472"/>
                  </a:lnTo>
                  <a:lnTo>
                    <a:pt x="875" y="486"/>
                  </a:lnTo>
                  <a:lnTo>
                    <a:pt x="874" y="499"/>
                  </a:lnTo>
                  <a:lnTo>
                    <a:pt x="872" y="513"/>
                  </a:lnTo>
                  <a:lnTo>
                    <a:pt x="870" y="526"/>
                  </a:lnTo>
                  <a:lnTo>
                    <a:pt x="868" y="540"/>
                  </a:lnTo>
                  <a:lnTo>
                    <a:pt x="865" y="553"/>
                  </a:lnTo>
                  <a:lnTo>
                    <a:pt x="862" y="566"/>
                  </a:lnTo>
                  <a:lnTo>
                    <a:pt x="902" y="576"/>
                  </a:lnTo>
                  <a:lnTo>
                    <a:pt x="905" y="562"/>
                  </a:lnTo>
                  <a:lnTo>
                    <a:pt x="908" y="547"/>
                  </a:lnTo>
                  <a:lnTo>
                    <a:pt x="911" y="533"/>
                  </a:lnTo>
                  <a:lnTo>
                    <a:pt x="914" y="518"/>
                  </a:lnTo>
                  <a:lnTo>
                    <a:pt x="916" y="503"/>
                  </a:lnTo>
                  <a:lnTo>
                    <a:pt x="917" y="488"/>
                  </a:lnTo>
                  <a:lnTo>
                    <a:pt x="917" y="473"/>
                  </a:lnTo>
                  <a:lnTo>
                    <a:pt x="918" y="45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400640" y="2824200"/>
              <a:ext cx="347400" cy="347400"/>
            </a:xfrm>
            <a:custGeom>
              <a:avLst/>
              <a:gdLst/>
              <a:ahLst/>
              <a:rect l="l" t="t" r="r" b="b"/>
              <a:pathLst>
                <a:path w="874" h="875">
                  <a:moveTo>
                    <a:pt x="874" y="438"/>
                  </a:moveTo>
                  <a:lnTo>
                    <a:pt x="874" y="415"/>
                  </a:lnTo>
                  <a:lnTo>
                    <a:pt x="872" y="392"/>
                  </a:lnTo>
                  <a:lnTo>
                    <a:pt x="870" y="371"/>
                  </a:lnTo>
                  <a:lnTo>
                    <a:pt x="866" y="349"/>
                  </a:lnTo>
                  <a:lnTo>
                    <a:pt x="861" y="329"/>
                  </a:lnTo>
                  <a:lnTo>
                    <a:pt x="855" y="307"/>
                  </a:lnTo>
                  <a:lnTo>
                    <a:pt x="848" y="288"/>
                  </a:lnTo>
                  <a:lnTo>
                    <a:pt x="841" y="267"/>
                  </a:lnTo>
                  <a:lnTo>
                    <a:pt x="831" y="248"/>
                  </a:lnTo>
                  <a:lnTo>
                    <a:pt x="822" y="229"/>
                  </a:lnTo>
                  <a:lnTo>
                    <a:pt x="812" y="211"/>
                  </a:lnTo>
                  <a:lnTo>
                    <a:pt x="800" y="193"/>
                  </a:lnTo>
                  <a:lnTo>
                    <a:pt x="788" y="175"/>
                  </a:lnTo>
                  <a:lnTo>
                    <a:pt x="775" y="159"/>
                  </a:lnTo>
                  <a:lnTo>
                    <a:pt x="761" y="144"/>
                  </a:lnTo>
                  <a:lnTo>
                    <a:pt x="747" y="128"/>
                  </a:lnTo>
                  <a:lnTo>
                    <a:pt x="732" y="114"/>
                  </a:lnTo>
                  <a:lnTo>
                    <a:pt x="715" y="100"/>
                  </a:lnTo>
                  <a:lnTo>
                    <a:pt x="699" y="87"/>
                  </a:lnTo>
                  <a:lnTo>
                    <a:pt x="682" y="75"/>
                  </a:lnTo>
                  <a:lnTo>
                    <a:pt x="664" y="63"/>
                  </a:lnTo>
                  <a:lnTo>
                    <a:pt x="645" y="53"/>
                  </a:lnTo>
                  <a:lnTo>
                    <a:pt x="627" y="43"/>
                  </a:lnTo>
                  <a:lnTo>
                    <a:pt x="607" y="35"/>
                  </a:lnTo>
                  <a:lnTo>
                    <a:pt x="588" y="26"/>
                  </a:lnTo>
                  <a:lnTo>
                    <a:pt x="567" y="20"/>
                  </a:lnTo>
                  <a:lnTo>
                    <a:pt x="547" y="14"/>
                  </a:lnTo>
                  <a:lnTo>
                    <a:pt x="525" y="9"/>
                  </a:lnTo>
                  <a:lnTo>
                    <a:pt x="504" y="6"/>
                  </a:lnTo>
                  <a:lnTo>
                    <a:pt x="482" y="2"/>
                  </a:lnTo>
                  <a:lnTo>
                    <a:pt x="459" y="0"/>
                  </a:lnTo>
                  <a:lnTo>
                    <a:pt x="437" y="0"/>
                  </a:lnTo>
                  <a:lnTo>
                    <a:pt x="415" y="0"/>
                  </a:lnTo>
                  <a:lnTo>
                    <a:pt x="392" y="2"/>
                  </a:lnTo>
                  <a:lnTo>
                    <a:pt x="371" y="6"/>
                  </a:lnTo>
                  <a:lnTo>
                    <a:pt x="349" y="9"/>
                  </a:lnTo>
                  <a:lnTo>
                    <a:pt x="328" y="14"/>
                  </a:lnTo>
                  <a:lnTo>
                    <a:pt x="307" y="20"/>
                  </a:lnTo>
                  <a:lnTo>
                    <a:pt x="286" y="26"/>
                  </a:lnTo>
                  <a:lnTo>
                    <a:pt x="267" y="35"/>
                  </a:lnTo>
                  <a:lnTo>
                    <a:pt x="248" y="43"/>
                  </a:lnTo>
                  <a:lnTo>
                    <a:pt x="228" y="53"/>
                  </a:lnTo>
                  <a:lnTo>
                    <a:pt x="211" y="63"/>
                  </a:lnTo>
                  <a:lnTo>
                    <a:pt x="192" y="75"/>
                  </a:lnTo>
                  <a:lnTo>
                    <a:pt x="175" y="87"/>
                  </a:lnTo>
                  <a:lnTo>
                    <a:pt x="159" y="100"/>
                  </a:lnTo>
                  <a:lnTo>
                    <a:pt x="143" y="114"/>
                  </a:lnTo>
                  <a:lnTo>
                    <a:pt x="128" y="128"/>
                  </a:lnTo>
                  <a:lnTo>
                    <a:pt x="114" y="144"/>
                  </a:lnTo>
                  <a:lnTo>
                    <a:pt x="100" y="159"/>
                  </a:lnTo>
                  <a:lnTo>
                    <a:pt x="87" y="175"/>
                  </a:lnTo>
                  <a:lnTo>
                    <a:pt x="75" y="193"/>
                  </a:lnTo>
                  <a:lnTo>
                    <a:pt x="63" y="211"/>
                  </a:lnTo>
                  <a:lnTo>
                    <a:pt x="52" y="229"/>
                  </a:lnTo>
                  <a:lnTo>
                    <a:pt x="42" y="248"/>
                  </a:lnTo>
                  <a:lnTo>
                    <a:pt x="34" y="267"/>
                  </a:lnTo>
                  <a:lnTo>
                    <a:pt x="26" y="288"/>
                  </a:lnTo>
                  <a:lnTo>
                    <a:pt x="20" y="307"/>
                  </a:lnTo>
                  <a:lnTo>
                    <a:pt x="13" y="329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0" y="415"/>
                  </a:lnTo>
                  <a:lnTo>
                    <a:pt x="0" y="438"/>
                  </a:lnTo>
                  <a:lnTo>
                    <a:pt x="0" y="460"/>
                  </a:lnTo>
                  <a:lnTo>
                    <a:pt x="2" y="482"/>
                  </a:lnTo>
                  <a:lnTo>
                    <a:pt x="4" y="504"/>
                  </a:lnTo>
                  <a:lnTo>
                    <a:pt x="9" y="525"/>
                  </a:lnTo>
                  <a:lnTo>
                    <a:pt x="13" y="547"/>
                  </a:lnTo>
                  <a:lnTo>
                    <a:pt x="20" y="567"/>
                  </a:lnTo>
                  <a:lnTo>
                    <a:pt x="26" y="588"/>
                  </a:lnTo>
                  <a:lnTo>
                    <a:pt x="34" y="607"/>
                  </a:lnTo>
                  <a:lnTo>
                    <a:pt x="42" y="627"/>
                  </a:lnTo>
                  <a:lnTo>
                    <a:pt x="52" y="646"/>
                  </a:lnTo>
                  <a:lnTo>
                    <a:pt x="63" y="664"/>
                  </a:lnTo>
                  <a:lnTo>
                    <a:pt x="75" y="682"/>
                  </a:lnTo>
                  <a:lnTo>
                    <a:pt x="87" y="699"/>
                  </a:lnTo>
                  <a:lnTo>
                    <a:pt x="100" y="715"/>
                  </a:lnTo>
                  <a:lnTo>
                    <a:pt x="114" y="731"/>
                  </a:lnTo>
                  <a:lnTo>
                    <a:pt x="128" y="747"/>
                  </a:lnTo>
                  <a:lnTo>
                    <a:pt x="143" y="761"/>
                  </a:lnTo>
                  <a:lnTo>
                    <a:pt x="159" y="775"/>
                  </a:lnTo>
                  <a:lnTo>
                    <a:pt x="175" y="788"/>
                  </a:lnTo>
                  <a:lnTo>
                    <a:pt x="192" y="801"/>
                  </a:lnTo>
                  <a:lnTo>
                    <a:pt x="211" y="811"/>
                  </a:lnTo>
                  <a:lnTo>
                    <a:pt x="228" y="822"/>
                  </a:lnTo>
                  <a:lnTo>
                    <a:pt x="248" y="832"/>
                  </a:lnTo>
                  <a:lnTo>
                    <a:pt x="267" y="841"/>
                  </a:lnTo>
                  <a:lnTo>
                    <a:pt x="286" y="848"/>
                  </a:lnTo>
                  <a:lnTo>
                    <a:pt x="307" y="855"/>
                  </a:lnTo>
                  <a:lnTo>
                    <a:pt x="328" y="861"/>
                  </a:lnTo>
                  <a:lnTo>
                    <a:pt x="349" y="865"/>
                  </a:lnTo>
                  <a:lnTo>
                    <a:pt x="371" y="870"/>
                  </a:lnTo>
                  <a:lnTo>
                    <a:pt x="392" y="873"/>
                  </a:lnTo>
                  <a:lnTo>
                    <a:pt x="415" y="874"/>
                  </a:lnTo>
                  <a:lnTo>
                    <a:pt x="437" y="875"/>
                  </a:lnTo>
                  <a:lnTo>
                    <a:pt x="463" y="874"/>
                  </a:lnTo>
                  <a:lnTo>
                    <a:pt x="489" y="872"/>
                  </a:lnTo>
                  <a:lnTo>
                    <a:pt x="513" y="869"/>
                  </a:lnTo>
                  <a:lnTo>
                    <a:pt x="537" y="863"/>
                  </a:lnTo>
                  <a:lnTo>
                    <a:pt x="561" y="857"/>
                  </a:lnTo>
                  <a:lnTo>
                    <a:pt x="585" y="849"/>
                  </a:lnTo>
                  <a:lnTo>
                    <a:pt x="607" y="841"/>
                  </a:lnTo>
                  <a:lnTo>
                    <a:pt x="629" y="831"/>
                  </a:lnTo>
                  <a:lnTo>
                    <a:pt x="611" y="793"/>
                  </a:lnTo>
                  <a:lnTo>
                    <a:pt x="591" y="802"/>
                  </a:lnTo>
                  <a:lnTo>
                    <a:pt x="571" y="810"/>
                  </a:lnTo>
                  <a:lnTo>
                    <a:pt x="549" y="817"/>
                  </a:lnTo>
                  <a:lnTo>
                    <a:pt x="527" y="822"/>
                  </a:lnTo>
                  <a:lnTo>
                    <a:pt x="506" y="828"/>
                  </a:lnTo>
                  <a:lnTo>
                    <a:pt x="483" y="831"/>
                  </a:lnTo>
                  <a:lnTo>
                    <a:pt x="460" y="832"/>
                  </a:lnTo>
                  <a:lnTo>
                    <a:pt x="437" y="833"/>
                  </a:lnTo>
                  <a:lnTo>
                    <a:pt x="417" y="833"/>
                  </a:lnTo>
                  <a:lnTo>
                    <a:pt x="397" y="831"/>
                  </a:lnTo>
                  <a:lnTo>
                    <a:pt x="377" y="829"/>
                  </a:lnTo>
                  <a:lnTo>
                    <a:pt x="358" y="825"/>
                  </a:lnTo>
                  <a:lnTo>
                    <a:pt x="338" y="821"/>
                  </a:lnTo>
                  <a:lnTo>
                    <a:pt x="320" y="816"/>
                  </a:lnTo>
                  <a:lnTo>
                    <a:pt x="302" y="809"/>
                  </a:lnTo>
                  <a:lnTo>
                    <a:pt x="283" y="802"/>
                  </a:lnTo>
                  <a:lnTo>
                    <a:pt x="266" y="794"/>
                  </a:lnTo>
                  <a:lnTo>
                    <a:pt x="249" y="785"/>
                  </a:lnTo>
                  <a:lnTo>
                    <a:pt x="232" y="776"/>
                  </a:lnTo>
                  <a:lnTo>
                    <a:pt x="216" y="766"/>
                  </a:lnTo>
                  <a:lnTo>
                    <a:pt x="200" y="754"/>
                  </a:lnTo>
                  <a:lnTo>
                    <a:pt x="185" y="742"/>
                  </a:lnTo>
                  <a:lnTo>
                    <a:pt x="171" y="730"/>
                  </a:lnTo>
                  <a:lnTo>
                    <a:pt x="157" y="717"/>
                  </a:lnTo>
                  <a:lnTo>
                    <a:pt x="144" y="703"/>
                  </a:lnTo>
                  <a:lnTo>
                    <a:pt x="132" y="689"/>
                  </a:lnTo>
                  <a:lnTo>
                    <a:pt x="120" y="674"/>
                  </a:lnTo>
                  <a:lnTo>
                    <a:pt x="109" y="659"/>
                  </a:lnTo>
                  <a:lnTo>
                    <a:pt x="98" y="643"/>
                  </a:lnTo>
                  <a:lnTo>
                    <a:pt x="89" y="626"/>
                  </a:lnTo>
                  <a:lnTo>
                    <a:pt x="80" y="609"/>
                  </a:lnTo>
                  <a:lnTo>
                    <a:pt x="73" y="591"/>
                  </a:lnTo>
                  <a:lnTo>
                    <a:pt x="65" y="574"/>
                  </a:lnTo>
                  <a:lnTo>
                    <a:pt x="60" y="555"/>
                  </a:lnTo>
                  <a:lnTo>
                    <a:pt x="54" y="536"/>
                  </a:lnTo>
                  <a:lnTo>
                    <a:pt x="50" y="518"/>
                  </a:lnTo>
                  <a:lnTo>
                    <a:pt x="45" y="498"/>
                  </a:lnTo>
                  <a:lnTo>
                    <a:pt x="43" y="478"/>
                  </a:lnTo>
                  <a:lnTo>
                    <a:pt x="42" y="458"/>
                  </a:lnTo>
                  <a:lnTo>
                    <a:pt x="41" y="438"/>
                  </a:lnTo>
                  <a:lnTo>
                    <a:pt x="42" y="417"/>
                  </a:lnTo>
                  <a:lnTo>
                    <a:pt x="43" y="397"/>
                  </a:lnTo>
                  <a:lnTo>
                    <a:pt x="45" y="377"/>
                  </a:lnTo>
                  <a:lnTo>
                    <a:pt x="50" y="358"/>
                  </a:lnTo>
                  <a:lnTo>
                    <a:pt x="54" y="338"/>
                  </a:lnTo>
                  <a:lnTo>
                    <a:pt x="60" y="320"/>
                  </a:lnTo>
                  <a:lnTo>
                    <a:pt x="65" y="302"/>
                  </a:lnTo>
                  <a:lnTo>
                    <a:pt x="73" y="283"/>
                  </a:lnTo>
                  <a:lnTo>
                    <a:pt x="80" y="266"/>
                  </a:lnTo>
                  <a:lnTo>
                    <a:pt x="89" y="249"/>
                  </a:lnTo>
                  <a:lnTo>
                    <a:pt x="98" y="232"/>
                  </a:lnTo>
                  <a:lnTo>
                    <a:pt x="109" y="216"/>
                  </a:lnTo>
                  <a:lnTo>
                    <a:pt x="120" y="201"/>
                  </a:lnTo>
                  <a:lnTo>
                    <a:pt x="132" y="186"/>
                  </a:lnTo>
                  <a:lnTo>
                    <a:pt x="144" y="171"/>
                  </a:lnTo>
                  <a:lnTo>
                    <a:pt x="157" y="158"/>
                  </a:lnTo>
                  <a:lnTo>
                    <a:pt x="171" y="145"/>
                  </a:lnTo>
                  <a:lnTo>
                    <a:pt x="185" y="132"/>
                  </a:lnTo>
                  <a:lnTo>
                    <a:pt x="200" y="120"/>
                  </a:lnTo>
                  <a:lnTo>
                    <a:pt x="216" y="109"/>
                  </a:lnTo>
                  <a:lnTo>
                    <a:pt x="232" y="99"/>
                  </a:lnTo>
                  <a:lnTo>
                    <a:pt x="249" y="90"/>
                  </a:lnTo>
                  <a:lnTo>
                    <a:pt x="266" y="81"/>
                  </a:lnTo>
                  <a:lnTo>
                    <a:pt x="283" y="73"/>
                  </a:lnTo>
                  <a:lnTo>
                    <a:pt x="302" y="66"/>
                  </a:lnTo>
                  <a:lnTo>
                    <a:pt x="320" y="60"/>
                  </a:lnTo>
                  <a:lnTo>
                    <a:pt x="338" y="54"/>
                  </a:lnTo>
                  <a:lnTo>
                    <a:pt x="358" y="50"/>
                  </a:lnTo>
                  <a:lnTo>
                    <a:pt x="377" y="47"/>
                  </a:lnTo>
                  <a:lnTo>
                    <a:pt x="397" y="43"/>
                  </a:lnTo>
                  <a:lnTo>
                    <a:pt x="417" y="42"/>
                  </a:lnTo>
                  <a:lnTo>
                    <a:pt x="437" y="41"/>
                  </a:lnTo>
                  <a:lnTo>
                    <a:pt x="457" y="42"/>
                  </a:lnTo>
                  <a:lnTo>
                    <a:pt x="478" y="43"/>
                  </a:lnTo>
                  <a:lnTo>
                    <a:pt x="497" y="47"/>
                  </a:lnTo>
                  <a:lnTo>
                    <a:pt x="517" y="50"/>
                  </a:lnTo>
                  <a:lnTo>
                    <a:pt x="536" y="54"/>
                  </a:lnTo>
                  <a:lnTo>
                    <a:pt x="554" y="60"/>
                  </a:lnTo>
                  <a:lnTo>
                    <a:pt x="573" y="66"/>
                  </a:lnTo>
                  <a:lnTo>
                    <a:pt x="591" y="73"/>
                  </a:lnTo>
                  <a:lnTo>
                    <a:pt x="608" y="81"/>
                  </a:lnTo>
                  <a:lnTo>
                    <a:pt x="626" y="90"/>
                  </a:lnTo>
                  <a:lnTo>
                    <a:pt x="642" y="99"/>
                  </a:lnTo>
                  <a:lnTo>
                    <a:pt x="658" y="109"/>
                  </a:lnTo>
                  <a:lnTo>
                    <a:pt x="674" y="120"/>
                  </a:lnTo>
                  <a:lnTo>
                    <a:pt x="688" y="132"/>
                  </a:lnTo>
                  <a:lnTo>
                    <a:pt x="704" y="145"/>
                  </a:lnTo>
                  <a:lnTo>
                    <a:pt x="718" y="158"/>
                  </a:lnTo>
                  <a:lnTo>
                    <a:pt x="731" y="171"/>
                  </a:lnTo>
                  <a:lnTo>
                    <a:pt x="742" y="186"/>
                  </a:lnTo>
                  <a:lnTo>
                    <a:pt x="754" y="201"/>
                  </a:lnTo>
                  <a:lnTo>
                    <a:pt x="765" y="216"/>
                  </a:lnTo>
                  <a:lnTo>
                    <a:pt x="776" y="232"/>
                  </a:lnTo>
                  <a:lnTo>
                    <a:pt x="786" y="249"/>
                  </a:lnTo>
                  <a:lnTo>
                    <a:pt x="794" y="266"/>
                  </a:lnTo>
                  <a:lnTo>
                    <a:pt x="802" y="283"/>
                  </a:lnTo>
                  <a:lnTo>
                    <a:pt x="809" y="302"/>
                  </a:lnTo>
                  <a:lnTo>
                    <a:pt x="815" y="320"/>
                  </a:lnTo>
                  <a:lnTo>
                    <a:pt x="820" y="338"/>
                  </a:lnTo>
                  <a:lnTo>
                    <a:pt x="825" y="358"/>
                  </a:lnTo>
                  <a:lnTo>
                    <a:pt x="829" y="377"/>
                  </a:lnTo>
                  <a:lnTo>
                    <a:pt x="831" y="397"/>
                  </a:lnTo>
                  <a:lnTo>
                    <a:pt x="832" y="417"/>
                  </a:lnTo>
                  <a:lnTo>
                    <a:pt x="833" y="438"/>
                  </a:lnTo>
                  <a:lnTo>
                    <a:pt x="833" y="451"/>
                  </a:lnTo>
                  <a:lnTo>
                    <a:pt x="832" y="464"/>
                  </a:lnTo>
                  <a:lnTo>
                    <a:pt x="831" y="477"/>
                  </a:lnTo>
                  <a:lnTo>
                    <a:pt x="830" y="490"/>
                  </a:lnTo>
                  <a:lnTo>
                    <a:pt x="828" y="502"/>
                  </a:lnTo>
                  <a:lnTo>
                    <a:pt x="826" y="515"/>
                  </a:lnTo>
                  <a:lnTo>
                    <a:pt x="822" y="528"/>
                  </a:lnTo>
                  <a:lnTo>
                    <a:pt x="819" y="540"/>
                  </a:lnTo>
                  <a:lnTo>
                    <a:pt x="860" y="551"/>
                  </a:lnTo>
                  <a:lnTo>
                    <a:pt x="863" y="537"/>
                  </a:lnTo>
                  <a:lnTo>
                    <a:pt x="866" y="524"/>
                  </a:lnTo>
                  <a:lnTo>
                    <a:pt x="869" y="510"/>
                  </a:lnTo>
                  <a:lnTo>
                    <a:pt x="871" y="495"/>
                  </a:lnTo>
                  <a:lnTo>
                    <a:pt x="872" y="481"/>
                  </a:lnTo>
                  <a:lnTo>
                    <a:pt x="873" y="467"/>
                  </a:lnTo>
                  <a:lnTo>
                    <a:pt x="874" y="452"/>
                  </a:lnTo>
                  <a:lnTo>
                    <a:pt x="874" y="438"/>
                  </a:lnTo>
                  <a:close/>
                </a:path>
              </a:pathLst>
            </a:custGeom>
            <a:solidFill>
              <a:srgbClr val="f8ef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408560" y="2832120"/>
              <a:ext cx="330120" cy="33012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833" y="417"/>
                  </a:moveTo>
                  <a:lnTo>
                    <a:pt x="833" y="395"/>
                  </a:lnTo>
                  <a:lnTo>
                    <a:pt x="831" y="373"/>
                  </a:lnTo>
                  <a:lnTo>
                    <a:pt x="828" y="353"/>
                  </a:lnTo>
                  <a:lnTo>
                    <a:pt x="824" y="332"/>
                  </a:lnTo>
                  <a:lnTo>
                    <a:pt x="820" y="312"/>
                  </a:lnTo>
                  <a:lnTo>
                    <a:pt x="814" y="292"/>
                  </a:lnTo>
                  <a:lnTo>
                    <a:pt x="808" y="273"/>
                  </a:lnTo>
                  <a:lnTo>
                    <a:pt x="800" y="255"/>
                  </a:lnTo>
                  <a:lnTo>
                    <a:pt x="792" y="236"/>
                  </a:lnTo>
                  <a:lnTo>
                    <a:pt x="783" y="218"/>
                  </a:lnTo>
                  <a:lnTo>
                    <a:pt x="772" y="201"/>
                  </a:lnTo>
                  <a:lnTo>
                    <a:pt x="761" y="183"/>
                  </a:lnTo>
                  <a:lnTo>
                    <a:pt x="750" y="167"/>
                  </a:lnTo>
                  <a:lnTo>
                    <a:pt x="738" y="151"/>
                  </a:lnTo>
                  <a:lnTo>
                    <a:pt x="725" y="136"/>
                  </a:lnTo>
                  <a:lnTo>
                    <a:pt x="711" y="122"/>
                  </a:lnTo>
                  <a:lnTo>
                    <a:pt x="697" y="108"/>
                  </a:lnTo>
                  <a:lnTo>
                    <a:pt x="681" y="95"/>
                  </a:lnTo>
                  <a:lnTo>
                    <a:pt x="665" y="83"/>
                  </a:lnTo>
                  <a:lnTo>
                    <a:pt x="649" y="71"/>
                  </a:lnTo>
                  <a:lnTo>
                    <a:pt x="632" y="60"/>
                  </a:lnTo>
                  <a:lnTo>
                    <a:pt x="614" y="51"/>
                  </a:lnTo>
                  <a:lnTo>
                    <a:pt x="597" y="41"/>
                  </a:lnTo>
                  <a:lnTo>
                    <a:pt x="579" y="32"/>
                  </a:lnTo>
                  <a:lnTo>
                    <a:pt x="559" y="26"/>
                  </a:lnTo>
                  <a:lnTo>
                    <a:pt x="540" y="18"/>
                  </a:lnTo>
                  <a:lnTo>
                    <a:pt x="520" y="13"/>
                  </a:lnTo>
                  <a:lnTo>
                    <a:pt x="500" y="8"/>
                  </a:lnTo>
                  <a:lnTo>
                    <a:pt x="479" y="5"/>
                  </a:lnTo>
                  <a:lnTo>
                    <a:pt x="459" y="2"/>
                  </a:lnTo>
                  <a:lnTo>
                    <a:pt x="437" y="1"/>
                  </a:lnTo>
                  <a:lnTo>
                    <a:pt x="416" y="0"/>
                  </a:lnTo>
                  <a:lnTo>
                    <a:pt x="395" y="1"/>
                  </a:lnTo>
                  <a:lnTo>
                    <a:pt x="374" y="2"/>
                  </a:lnTo>
                  <a:lnTo>
                    <a:pt x="353" y="5"/>
                  </a:lnTo>
                  <a:lnTo>
                    <a:pt x="332" y="8"/>
                  </a:lnTo>
                  <a:lnTo>
                    <a:pt x="312" y="13"/>
                  </a:lnTo>
                  <a:lnTo>
                    <a:pt x="292" y="18"/>
                  </a:lnTo>
                  <a:lnTo>
                    <a:pt x="273" y="26"/>
                  </a:lnTo>
                  <a:lnTo>
                    <a:pt x="254" y="32"/>
                  </a:lnTo>
                  <a:lnTo>
                    <a:pt x="235" y="41"/>
                  </a:lnTo>
                  <a:lnTo>
                    <a:pt x="218" y="51"/>
                  </a:lnTo>
                  <a:lnTo>
                    <a:pt x="201" y="60"/>
                  </a:lnTo>
                  <a:lnTo>
                    <a:pt x="183" y="71"/>
                  </a:lnTo>
                  <a:lnTo>
                    <a:pt x="167" y="83"/>
                  </a:lnTo>
                  <a:lnTo>
                    <a:pt x="151" y="95"/>
                  </a:lnTo>
                  <a:lnTo>
                    <a:pt x="136" y="108"/>
                  </a:lnTo>
                  <a:lnTo>
                    <a:pt x="122" y="122"/>
                  </a:lnTo>
                  <a:lnTo>
                    <a:pt x="108" y="136"/>
                  </a:lnTo>
                  <a:lnTo>
                    <a:pt x="95" y="151"/>
                  </a:lnTo>
                  <a:lnTo>
                    <a:pt x="82" y="167"/>
                  </a:lnTo>
                  <a:lnTo>
                    <a:pt x="71" y="183"/>
                  </a:lnTo>
                  <a:lnTo>
                    <a:pt x="60" y="201"/>
                  </a:lnTo>
                  <a:lnTo>
                    <a:pt x="49" y="218"/>
                  </a:lnTo>
                  <a:lnTo>
                    <a:pt x="41" y="236"/>
                  </a:lnTo>
                  <a:lnTo>
                    <a:pt x="32" y="255"/>
                  </a:lnTo>
                  <a:lnTo>
                    <a:pt x="24" y="273"/>
                  </a:lnTo>
                  <a:lnTo>
                    <a:pt x="18" y="292"/>
                  </a:lnTo>
                  <a:lnTo>
                    <a:pt x="13" y="312"/>
                  </a:lnTo>
                  <a:lnTo>
                    <a:pt x="8" y="332"/>
                  </a:lnTo>
                  <a:lnTo>
                    <a:pt x="4" y="353"/>
                  </a:lnTo>
                  <a:lnTo>
                    <a:pt x="2" y="373"/>
                  </a:lnTo>
                  <a:lnTo>
                    <a:pt x="0" y="395"/>
                  </a:lnTo>
                  <a:lnTo>
                    <a:pt x="0" y="417"/>
                  </a:lnTo>
                  <a:lnTo>
                    <a:pt x="0" y="438"/>
                  </a:lnTo>
                  <a:lnTo>
                    <a:pt x="2" y="459"/>
                  </a:lnTo>
                  <a:lnTo>
                    <a:pt x="4" y="479"/>
                  </a:lnTo>
                  <a:lnTo>
                    <a:pt x="8" y="500"/>
                  </a:lnTo>
                  <a:lnTo>
                    <a:pt x="13" y="520"/>
                  </a:lnTo>
                  <a:lnTo>
                    <a:pt x="18" y="540"/>
                  </a:lnTo>
                  <a:lnTo>
                    <a:pt x="24" y="559"/>
                  </a:lnTo>
                  <a:lnTo>
                    <a:pt x="32" y="579"/>
                  </a:lnTo>
                  <a:lnTo>
                    <a:pt x="41" y="597"/>
                  </a:lnTo>
                  <a:lnTo>
                    <a:pt x="49" y="615"/>
                  </a:lnTo>
                  <a:lnTo>
                    <a:pt x="60" y="633"/>
                  </a:lnTo>
                  <a:lnTo>
                    <a:pt x="71" y="649"/>
                  </a:lnTo>
                  <a:lnTo>
                    <a:pt x="82" y="665"/>
                  </a:lnTo>
                  <a:lnTo>
                    <a:pt x="95" y="681"/>
                  </a:lnTo>
                  <a:lnTo>
                    <a:pt x="108" y="696"/>
                  </a:lnTo>
                  <a:lnTo>
                    <a:pt x="122" y="710"/>
                  </a:lnTo>
                  <a:lnTo>
                    <a:pt x="136" y="724"/>
                  </a:lnTo>
                  <a:lnTo>
                    <a:pt x="151" y="737"/>
                  </a:lnTo>
                  <a:lnTo>
                    <a:pt x="167" y="750"/>
                  </a:lnTo>
                  <a:lnTo>
                    <a:pt x="183" y="762"/>
                  </a:lnTo>
                  <a:lnTo>
                    <a:pt x="201" y="773"/>
                  </a:lnTo>
                  <a:lnTo>
                    <a:pt x="218" y="783"/>
                  </a:lnTo>
                  <a:lnTo>
                    <a:pt x="235" y="791"/>
                  </a:lnTo>
                  <a:lnTo>
                    <a:pt x="254" y="800"/>
                  </a:lnTo>
                  <a:lnTo>
                    <a:pt x="273" y="808"/>
                  </a:lnTo>
                  <a:lnTo>
                    <a:pt x="292" y="814"/>
                  </a:lnTo>
                  <a:lnTo>
                    <a:pt x="312" y="820"/>
                  </a:lnTo>
                  <a:lnTo>
                    <a:pt x="332" y="825"/>
                  </a:lnTo>
                  <a:lnTo>
                    <a:pt x="353" y="828"/>
                  </a:lnTo>
                  <a:lnTo>
                    <a:pt x="374" y="830"/>
                  </a:lnTo>
                  <a:lnTo>
                    <a:pt x="395" y="832"/>
                  </a:lnTo>
                  <a:lnTo>
                    <a:pt x="416" y="832"/>
                  </a:lnTo>
                  <a:lnTo>
                    <a:pt x="440" y="832"/>
                  </a:lnTo>
                  <a:lnTo>
                    <a:pt x="464" y="830"/>
                  </a:lnTo>
                  <a:lnTo>
                    <a:pt x="488" y="827"/>
                  </a:lnTo>
                  <a:lnTo>
                    <a:pt x="512" y="822"/>
                  </a:lnTo>
                  <a:lnTo>
                    <a:pt x="535" y="816"/>
                  </a:lnTo>
                  <a:lnTo>
                    <a:pt x="556" y="809"/>
                  </a:lnTo>
                  <a:lnTo>
                    <a:pt x="578" y="800"/>
                  </a:lnTo>
                  <a:lnTo>
                    <a:pt x="599" y="790"/>
                  </a:lnTo>
                  <a:lnTo>
                    <a:pt x="581" y="754"/>
                  </a:lnTo>
                  <a:lnTo>
                    <a:pt x="562" y="762"/>
                  </a:lnTo>
                  <a:lnTo>
                    <a:pt x="542" y="770"/>
                  </a:lnTo>
                  <a:lnTo>
                    <a:pt x="523" y="776"/>
                  </a:lnTo>
                  <a:lnTo>
                    <a:pt x="502" y="782"/>
                  </a:lnTo>
                  <a:lnTo>
                    <a:pt x="480" y="786"/>
                  </a:lnTo>
                  <a:lnTo>
                    <a:pt x="460" y="789"/>
                  </a:lnTo>
                  <a:lnTo>
                    <a:pt x="438" y="790"/>
                  </a:lnTo>
                  <a:lnTo>
                    <a:pt x="416" y="791"/>
                  </a:lnTo>
                  <a:lnTo>
                    <a:pt x="397" y="790"/>
                  </a:lnTo>
                  <a:lnTo>
                    <a:pt x="378" y="789"/>
                  </a:lnTo>
                  <a:lnTo>
                    <a:pt x="359" y="787"/>
                  </a:lnTo>
                  <a:lnTo>
                    <a:pt x="341" y="784"/>
                  </a:lnTo>
                  <a:lnTo>
                    <a:pt x="323" y="780"/>
                  </a:lnTo>
                  <a:lnTo>
                    <a:pt x="304" y="774"/>
                  </a:lnTo>
                  <a:lnTo>
                    <a:pt x="287" y="769"/>
                  </a:lnTo>
                  <a:lnTo>
                    <a:pt x="270" y="762"/>
                  </a:lnTo>
                  <a:lnTo>
                    <a:pt x="254" y="755"/>
                  </a:lnTo>
                  <a:lnTo>
                    <a:pt x="237" y="746"/>
                  </a:lnTo>
                  <a:lnTo>
                    <a:pt x="222" y="737"/>
                  </a:lnTo>
                  <a:lnTo>
                    <a:pt x="206" y="728"/>
                  </a:lnTo>
                  <a:lnTo>
                    <a:pt x="192" y="717"/>
                  </a:lnTo>
                  <a:lnTo>
                    <a:pt x="178" y="706"/>
                  </a:lnTo>
                  <a:lnTo>
                    <a:pt x="164" y="694"/>
                  </a:lnTo>
                  <a:lnTo>
                    <a:pt x="151" y="681"/>
                  </a:lnTo>
                  <a:lnTo>
                    <a:pt x="139" y="668"/>
                  </a:lnTo>
                  <a:lnTo>
                    <a:pt x="127" y="655"/>
                  </a:lnTo>
                  <a:lnTo>
                    <a:pt x="115" y="640"/>
                  </a:lnTo>
                  <a:lnTo>
                    <a:pt x="106" y="626"/>
                  </a:lnTo>
                  <a:lnTo>
                    <a:pt x="96" y="611"/>
                  </a:lnTo>
                  <a:lnTo>
                    <a:pt x="86" y="595"/>
                  </a:lnTo>
                  <a:lnTo>
                    <a:pt x="79" y="579"/>
                  </a:lnTo>
                  <a:lnTo>
                    <a:pt x="71" y="562"/>
                  </a:lnTo>
                  <a:lnTo>
                    <a:pt x="63" y="545"/>
                  </a:lnTo>
                  <a:lnTo>
                    <a:pt x="58" y="528"/>
                  </a:lnTo>
                  <a:lnTo>
                    <a:pt x="53" y="511"/>
                  </a:lnTo>
                  <a:lnTo>
                    <a:pt x="48" y="492"/>
                  </a:lnTo>
                  <a:lnTo>
                    <a:pt x="45" y="474"/>
                  </a:lnTo>
                  <a:lnTo>
                    <a:pt x="43" y="454"/>
                  </a:lnTo>
                  <a:lnTo>
                    <a:pt x="42" y="436"/>
                  </a:lnTo>
                  <a:lnTo>
                    <a:pt x="41" y="417"/>
                  </a:lnTo>
                  <a:lnTo>
                    <a:pt x="42" y="397"/>
                  </a:lnTo>
                  <a:lnTo>
                    <a:pt x="43" y="378"/>
                  </a:lnTo>
                  <a:lnTo>
                    <a:pt x="45" y="359"/>
                  </a:lnTo>
                  <a:lnTo>
                    <a:pt x="48" y="341"/>
                  </a:lnTo>
                  <a:lnTo>
                    <a:pt x="53" y="323"/>
                  </a:lnTo>
                  <a:lnTo>
                    <a:pt x="58" y="305"/>
                  </a:lnTo>
                  <a:lnTo>
                    <a:pt x="63" y="287"/>
                  </a:lnTo>
                  <a:lnTo>
                    <a:pt x="71" y="271"/>
                  </a:lnTo>
                  <a:lnTo>
                    <a:pt x="79" y="254"/>
                  </a:lnTo>
                  <a:lnTo>
                    <a:pt x="86" y="237"/>
                  </a:lnTo>
                  <a:lnTo>
                    <a:pt x="96" y="222"/>
                  </a:lnTo>
                  <a:lnTo>
                    <a:pt x="106" y="207"/>
                  </a:lnTo>
                  <a:lnTo>
                    <a:pt x="115" y="192"/>
                  </a:lnTo>
                  <a:lnTo>
                    <a:pt x="127" y="178"/>
                  </a:lnTo>
                  <a:lnTo>
                    <a:pt x="139" y="164"/>
                  </a:lnTo>
                  <a:lnTo>
                    <a:pt x="151" y="151"/>
                  </a:lnTo>
                  <a:lnTo>
                    <a:pt x="164" y="139"/>
                  </a:lnTo>
                  <a:lnTo>
                    <a:pt x="178" y="127"/>
                  </a:lnTo>
                  <a:lnTo>
                    <a:pt x="192" y="116"/>
                  </a:lnTo>
                  <a:lnTo>
                    <a:pt x="206" y="106"/>
                  </a:lnTo>
                  <a:lnTo>
                    <a:pt x="222" y="96"/>
                  </a:lnTo>
                  <a:lnTo>
                    <a:pt x="237" y="87"/>
                  </a:lnTo>
                  <a:lnTo>
                    <a:pt x="254" y="79"/>
                  </a:lnTo>
                  <a:lnTo>
                    <a:pt x="270" y="71"/>
                  </a:lnTo>
                  <a:lnTo>
                    <a:pt x="287" y="65"/>
                  </a:lnTo>
                  <a:lnTo>
                    <a:pt x="304" y="58"/>
                  </a:lnTo>
                  <a:lnTo>
                    <a:pt x="323" y="54"/>
                  </a:lnTo>
                  <a:lnTo>
                    <a:pt x="341" y="49"/>
                  </a:lnTo>
                  <a:lnTo>
                    <a:pt x="359" y="46"/>
                  </a:lnTo>
                  <a:lnTo>
                    <a:pt x="378" y="43"/>
                  </a:lnTo>
                  <a:lnTo>
                    <a:pt x="397" y="42"/>
                  </a:lnTo>
                  <a:lnTo>
                    <a:pt x="416" y="42"/>
                  </a:lnTo>
                  <a:lnTo>
                    <a:pt x="435" y="42"/>
                  </a:lnTo>
                  <a:lnTo>
                    <a:pt x="455" y="43"/>
                  </a:lnTo>
                  <a:lnTo>
                    <a:pt x="473" y="46"/>
                  </a:lnTo>
                  <a:lnTo>
                    <a:pt x="491" y="49"/>
                  </a:lnTo>
                  <a:lnTo>
                    <a:pt x="510" y="54"/>
                  </a:lnTo>
                  <a:lnTo>
                    <a:pt x="528" y="58"/>
                  </a:lnTo>
                  <a:lnTo>
                    <a:pt x="545" y="65"/>
                  </a:lnTo>
                  <a:lnTo>
                    <a:pt x="563" y="71"/>
                  </a:lnTo>
                  <a:lnTo>
                    <a:pt x="579" y="79"/>
                  </a:lnTo>
                  <a:lnTo>
                    <a:pt x="595" y="87"/>
                  </a:lnTo>
                  <a:lnTo>
                    <a:pt x="610" y="96"/>
                  </a:lnTo>
                  <a:lnTo>
                    <a:pt x="626" y="106"/>
                  </a:lnTo>
                  <a:lnTo>
                    <a:pt x="640" y="116"/>
                  </a:lnTo>
                  <a:lnTo>
                    <a:pt x="654" y="127"/>
                  </a:lnTo>
                  <a:lnTo>
                    <a:pt x="668" y="139"/>
                  </a:lnTo>
                  <a:lnTo>
                    <a:pt x="681" y="151"/>
                  </a:lnTo>
                  <a:lnTo>
                    <a:pt x="693" y="164"/>
                  </a:lnTo>
                  <a:lnTo>
                    <a:pt x="705" y="178"/>
                  </a:lnTo>
                  <a:lnTo>
                    <a:pt x="717" y="192"/>
                  </a:lnTo>
                  <a:lnTo>
                    <a:pt x="727" y="207"/>
                  </a:lnTo>
                  <a:lnTo>
                    <a:pt x="737" y="222"/>
                  </a:lnTo>
                  <a:lnTo>
                    <a:pt x="746" y="237"/>
                  </a:lnTo>
                  <a:lnTo>
                    <a:pt x="754" y="254"/>
                  </a:lnTo>
                  <a:lnTo>
                    <a:pt x="761" y="271"/>
                  </a:lnTo>
                  <a:lnTo>
                    <a:pt x="768" y="287"/>
                  </a:lnTo>
                  <a:lnTo>
                    <a:pt x="774" y="305"/>
                  </a:lnTo>
                  <a:lnTo>
                    <a:pt x="780" y="323"/>
                  </a:lnTo>
                  <a:lnTo>
                    <a:pt x="783" y="341"/>
                  </a:lnTo>
                  <a:lnTo>
                    <a:pt x="787" y="359"/>
                  </a:lnTo>
                  <a:lnTo>
                    <a:pt x="790" y="378"/>
                  </a:lnTo>
                  <a:lnTo>
                    <a:pt x="791" y="397"/>
                  </a:lnTo>
                  <a:lnTo>
                    <a:pt x="792" y="417"/>
                  </a:lnTo>
                  <a:lnTo>
                    <a:pt x="791" y="429"/>
                  </a:lnTo>
                  <a:lnTo>
                    <a:pt x="791" y="442"/>
                  </a:lnTo>
                  <a:lnTo>
                    <a:pt x="790" y="453"/>
                  </a:lnTo>
                  <a:lnTo>
                    <a:pt x="787" y="466"/>
                  </a:lnTo>
                  <a:lnTo>
                    <a:pt x="786" y="478"/>
                  </a:lnTo>
                  <a:lnTo>
                    <a:pt x="784" y="490"/>
                  </a:lnTo>
                  <a:lnTo>
                    <a:pt x="781" y="502"/>
                  </a:lnTo>
                  <a:lnTo>
                    <a:pt x="779" y="514"/>
                  </a:lnTo>
                  <a:lnTo>
                    <a:pt x="819" y="525"/>
                  </a:lnTo>
                  <a:lnTo>
                    <a:pt x="822" y="512"/>
                  </a:lnTo>
                  <a:lnTo>
                    <a:pt x="825" y="499"/>
                  </a:lnTo>
                  <a:lnTo>
                    <a:pt x="827" y="485"/>
                  </a:lnTo>
                  <a:lnTo>
                    <a:pt x="829" y="472"/>
                  </a:lnTo>
                  <a:lnTo>
                    <a:pt x="831" y="458"/>
                  </a:lnTo>
                  <a:lnTo>
                    <a:pt x="832" y="445"/>
                  </a:lnTo>
                  <a:lnTo>
                    <a:pt x="833" y="431"/>
                  </a:lnTo>
                  <a:lnTo>
                    <a:pt x="833" y="41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16480" y="2840040"/>
              <a:ext cx="314280" cy="314280"/>
            </a:xfrm>
            <a:custGeom>
              <a:avLst/>
              <a:gdLst/>
              <a:ahLst/>
              <a:rect l="l" t="t" r="r" b="b"/>
              <a:pathLst>
                <a:path w="792" h="792">
                  <a:moveTo>
                    <a:pt x="792" y="397"/>
                  </a:moveTo>
                  <a:lnTo>
                    <a:pt x="791" y="376"/>
                  </a:lnTo>
                  <a:lnTo>
                    <a:pt x="790" y="356"/>
                  </a:lnTo>
                  <a:lnTo>
                    <a:pt x="788" y="336"/>
                  </a:lnTo>
                  <a:lnTo>
                    <a:pt x="784" y="317"/>
                  </a:lnTo>
                  <a:lnTo>
                    <a:pt x="779" y="297"/>
                  </a:lnTo>
                  <a:lnTo>
                    <a:pt x="774" y="279"/>
                  </a:lnTo>
                  <a:lnTo>
                    <a:pt x="768" y="261"/>
                  </a:lnTo>
                  <a:lnTo>
                    <a:pt x="761" y="242"/>
                  </a:lnTo>
                  <a:lnTo>
                    <a:pt x="753" y="225"/>
                  </a:lnTo>
                  <a:lnTo>
                    <a:pt x="745" y="208"/>
                  </a:lnTo>
                  <a:lnTo>
                    <a:pt x="735" y="191"/>
                  </a:lnTo>
                  <a:lnTo>
                    <a:pt x="724" y="175"/>
                  </a:lnTo>
                  <a:lnTo>
                    <a:pt x="713" y="160"/>
                  </a:lnTo>
                  <a:lnTo>
                    <a:pt x="701" y="145"/>
                  </a:lnTo>
                  <a:lnTo>
                    <a:pt x="690" y="130"/>
                  </a:lnTo>
                  <a:lnTo>
                    <a:pt x="677" y="117"/>
                  </a:lnTo>
                  <a:lnTo>
                    <a:pt x="663" y="104"/>
                  </a:lnTo>
                  <a:lnTo>
                    <a:pt x="647" y="91"/>
                  </a:lnTo>
                  <a:lnTo>
                    <a:pt x="633" y="79"/>
                  </a:lnTo>
                  <a:lnTo>
                    <a:pt x="617" y="68"/>
                  </a:lnTo>
                  <a:lnTo>
                    <a:pt x="601" y="58"/>
                  </a:lnTo>
                  <a:lnTo>
                    <a:pt x="585" y="49"/>
                  </a:lnTo>
                  <a:lnTo>
                    <a:pt x="567" y="40"/>
                  </a:lnTo>
                  <a:lnTo>
                    <a:pt x="550" y="32"/>
                  </a:lnTo>
                  <a:lnTo>
                    <a:pt x="532" y="25"/>
                  </a:lnTo>
                  <a:lnTo>
                    <a:pt x="513" y="19"/>
                  </a:lnTo>
                  <a:lnTo>
                    <a:pt x="495" y="13"/>
                  </a:lnTo>
                  <a:lnTo>
                    <a:pt x="476" y="9"/>
                  </a:lnTo>
                  <a:lnTo>
                    <a:pt x="456" y="6"/>
                  </a:lnTo>
                  <a:lnTo>
                    <a:pt x="437" y="2"/>
                  </a:lnTo>
                  <a:lnTo>
                    <a:pt x="416" y="1"/>
                  </a:lnTo>
                  <a:lnTo>
                    <a:pt x="396" y="0"/>
                  </a:lnTo>
                  <a:lnTo>
                    <a:pt x="376" y="1"/>
                  </a:lnTo>
                  <a:lnTo>
                    <a:pt x="356" y="2"/>
                  </a:lnTo>
                  <a:lnTo>
                    <a:pt x="336" y="6"/>
                  </a:lnTo>
                  <a:lnTo>
                    <a:pt x="317" y="9"/>
                  </a:lnTo>
                  <a:lnTo>
                    <a:pt x="297" y="13"/>
                  </a:lnTo>
                  <a:lnTo>
                    <a:pt x="279" y="19"/>
                  </a:lnTo>
                  <a:lnTo>
                    <a:pt x="261" y="25"/>
                  </a:lnTo>
                  <a:lnTo>
                    <a:pt x="242" y="32"/>
                  </a:lnTo>
                  <a:lnTo>
                    <a:pt x="225" y="40"/>
                  </a:lnTo>
                  <a:lnTo>
                    <a:pt x="208" y="49"/>
                  </a:lnTo>
                  <a:lnTo>
                    <a:pt x="191" y="58"/>
                  </a:lnTo>
                  <a:lnTo>
                    <a:pt x="175" y="68"/>
                  </a:lnTo>
                  <a:lnTo>
                    <a:pt x="159" y="79"/>
                  </a:lnTo>
                  <a:lnTo>
                    <a:pt x="144" y="91"/>
                  </a:lnTo>
                  <a:lnTo>
                    <a:pt x="130" y="104"/>
                  </a:lnTo>
                  <a:lnTo>
                    <a:pt x="116" y="117"/>
                  </a:lnTo>
                  <a:lnTo>
                    <a:pt x="103" y="130"/>
                  </a:lnTo>
                  <a:lnTo>
                    <a:pt x="91" y="145"/>
                  </a:lnTo>
                  <a:lnTo>
                    <a:pt x="79" y="160"/>
                  </a:lnTo>
                  <a:lnTo>
                    <a:pt x="68" y="175"/>
                  </a:lnTo>
                  <a:lnTo>
                    <a:pt x="57" y="191"/>
                  </a:lnTo>
                  <a:lnTo>
                    <a:pt x="48" y="208"/>
                  </a:lnTo>
                  <a:lnTo>
                    <a:pt x="39" y="225"/>
                  </a:lnTo>
                  <a:lnTo>
                    <a:pt x="32" y="242"/>
                  </a:lnTo>
                  <a:lnTo>
                    <a:pt x="24" y="261"/>
                  </a:lnTo>
                  <a:lnTo>
                    <a:pt x="19" y="279"/>
                  </a:lnTo>
                  <a:lnTo>
                    <a:pt x="13" y="297"/>
                  </a:lnTo>
                  <a:lnTo>
                    <a:pt x="9" y="317"/>
                  </a:lnTo>
                  <a:lnTo>
                    <a:pt x="4" y="336"/>
                  </a:lnTo>
                  <a:lnTo>
                    <a:pt x="2" y="356"/>
                  </a:lnTo>
                  <a:lnTo>
                    <a:pt x="1" y="376"/>
                  </a:lnTo>
                  <a:lnTo>
                    <a:pt x="0" y="397"/>
                  </a:lnTo>
                  <a:lnTo>
                    <a:pt x="1" y="417"/>
                  </a:lnTo>
                  <a:lnTo>
                    <a:pt x="2" y="437"/>
                  </a:lnTo>
                  <a:lnTo>
                    <a:pt x="4" y="457"/>
                  </a:lnTo>
                  <a:lnTo>
                    <a:pt x="9" y="477"/>
                  </a:lnTo>
                  <a:lnTo>
                    <a:pt x="13" y="495"/>
                  </a:lnTo>
                  <a:lnTo>
                    <a:pt x="19" y="514"/>
                  </a:lnTo>
                  <a:lnTo>
                    <a:pt x="24" y="533"/>
                  </a:lnTo>
                  <a:lnTo>
                    <a:pt x="32" y="550"/>
                  </a:lnTo>
                  <a:lnTo>
                    <a:pt x="39" y="568"/>
                  </a:lnTo>
                  <a:lnTo>
                    <a:pt x="48" y="585"/>
                  </a:lnTo>
                  <a:lnTo>
                    <a:pt x="57" y="602"/>
                  </a:lnTo>
                  <a:lnTo>
                    <a:pt x="68" y="618"/>
                  </a:lnTo>
                  <a:lnTo>
                    <a:pt x="79" y="633"/>
                  </a:lnTo>
                  <a:lnTo>
                    <a:pt x="91" y="648"/>
                  </a:lnTo>
                  <a:lnTo>
                    <a:pt x="103" y="662"/>
                  </a:lnTo>
                  <a:lnTo>
                    <a:pt x="116" y="676"/>
                  </a:lnTo>
                  <a:lnTo>
                    <a:pt x="130" y="689"/>
                  </a:lnTo>
                  <a:lnTo>
                    <a:pt x="144" y="701"/>
                  </a:lnTo>
                  <a:lnTo>
                    <a:pt x="159" y="713"/>
                  </a:lnTo>
                  <a:lnTo>
                    <a:pt x="175" y="725"/>
                  </a:lnTo>
                  <a:lnTo>
                    <a:pt x="191" y="735"/>
                  </a:lnTo>
                  <a:lnTo>
                    <a:pt x="208" y="744"/>
                  </a:lnTo>
                  <a:lnTo>
                    <a:pt x="225" y="753"/>
                  </a:lnTo>
                  <a:lnTo>
                    <a:pt x="242" y="761"/>
                  </a:lnTo>
                  <a:lnTo>
                    <a:pt x="261" y="768"/>
                  </a:lnTo>
                  <a:lnTo>
                    <a:pt x="279" y="775"/>
                  </a:lnTo>
                  <a:lnTo>
                    <a:pt x="297" y="780"/>
                  </a:lnTo>
                  <a:lnTo>
                    <a:pt x="317" y="784"/>
                  </a:lnTo>
                  <a:lnTo>
                    <a:pt x="336" y="788"/>
                  </a:lnTo>
                  <a:lnTo>
                    <a:pt x="356" y="790"/>
                  </a:lnTo>
                  <a:lnTo>
                    <a:pt x="376" y="792"/>
                  </a:lnTo>
                  <a:lnTo>
                    <a:pt x="396" y="792"/>
                  </a:lnTo>
                  <a:lnTo>
                    <a:pt x="419" y="791"/>
                  </a:lnTo>
                  <a:lnTo>
                    <a:pt x="442" y="790"/>
                  </a:lnTo>
                  <a:lnTo>
                    <a:pt x="465" y="787"/>
                  </a:lnTo>
                  <a:lnTo>
                    <a:pt x="486" y="781"/>
                  </a:lnTo>
                  <a:lnTo>
                    <a:pt x="508" y="776"/>
                  </a:lnTo>
                  <a:lnTo>
                    <a:pt x="530" y="769"/>
                  </a:lnTo>
                  <a:lnTo>
                    <a:pt x="550" y="761"/>
                  </a:lnTo>
                  <a:lnTo>
                    <a:pt x="570" y="752"/>
                  </a:lnTo>
                  <a:lnTo>
                    <a:pt x="551" y="714"/>
                  </a:lnTo>
                  <a:lnTo>
                    <a:pt x="534" y="723"/>
                  </a:lnTo>
                  <a:lnTo>
                    <a:pt x="516" y="730"/>
                  </a:lnTo>
                  <a:lnTo>
                    <a:pt x="496" y="736"/>
                  </a:lnTo>
                  <a:lnTo>
                    <a:pt x="477" y="741"/>
                  </a:lnTo>
                  <a:lnTo>
                    <a:pt x="457" y="746"/>
                  </a:lnTo>
                  <a:lnTo>
                    <a:pt x="438" y="748"/>
                  </a:lnTo>
                  <a:lnTo>
                    <a:pt x="417" y="750"/>
                  </a:lnTo>
                  <a:lnTo>
                    <a:pt x="396" y="751"/>
                  </a:lnTo>
                  <a:lnTo>
                    <a:pt x="378" y="750"/>
                  </a:lnTo>
                  <a:lnTo>
                    <a:pt x="360" y="749"/>
                  </a:lnTo>
                  <a:lnTo>
                    <a:pt x="343" y="747"/>
                  </a:lnTo>
                  <a:lnTo>
                    <a:pt x="324" y="743"/>
                  </a:lnTo>
                  <a:lnTo>
                    <a:pt x="308" y="739"/>
                  </a:lnTo>
                  <a:lnTo>
                    <a:pt x="291" y="735"/>
                  </a:lnTo>
                  <a:lnTo>
                    <a:pt x="275" y="729"/>
                  </a:lnTo>
                  <a:lnTo>
                    <a:pt x="258" y="723"/>
                  </a:lnTo>
                  <a:lnTo>
                    <a:pt x="242" y="715"/>
                  </a:lnTo>
                  <a:lnTo>
                    <a:pt x="227" y="708"/>
                  </a:lnTo>
                  <a:lnTo>
                    <a:pt x="213" y="699"/>
                  </a:lnTo>
                  <a:lnTo>
                    <a:pt x="198" y="690"/>
                  </a:lnTo>
                  <a:lnTo>
                    <a:pt x="184" y="680"/>
                  </a:lnTo>
                  <a:lnTo>
                    <a:pt x="171" y="670"/>
                  </a:lnTo>
                  <a:lnTo>
                    <a:pt x="158" y="658"/>
                  </a:lnTo>
                  <a:lnTo>
                    <a:pt x="146" y="647"/>
                  </a:lnTo>
                  <a:lnTo>
                    <a:pt x="134" y="634"/>
                  </a:lnTo>
                  <a:lnTo>
                    <a:pt x="123" y="621"/>
                  </a:lnTo>
                  <a:lnTo>
                    <a:pt x="113" y="608"/>
                  </a:lnTo>
                  <a:lnTo>
                    <a:pt x="103" y="594"/>
                  </a:lnTo>
                  <a:lnTo>
                    <a:pt x="93" y="580"/>
                  </a:lnTo>
                  <a:lnTo>
                    <a:pt x="84" y="565"/>
                  </a:lnTo>
                  <a:lnTo>
                    <a:pt x="77" y="550"/>
                  </a:lnTo>
                  <a:lnTo>
                    <a:pt x="69" y="534"/>
                  </a:lnTo>
                  <a:lnTo>
                    <a:pt x="64" y="518"/>
                  </a:lnTo>
                  <a:lnTo>
                    <a:pt x="57" y="501"/>
                  </a:lnTo>
                  <a:lnTo>
                    <a:pt x="53" y="485"/>
                  </a:lnTo>
                  <a:lnTo>
                    <a:pt x="49" y="468"/>
                  </a:lnTo>
                  <a:lnTo>
                    <a:pt x="46" y="451"/>
                  </a:lnTo>
                  <a:lnTo>
                    <a:pt x="43" y="432"/>
                  </a:lnTo>
                  <a:lnTo>
                    <a:pt x="42" y="415"/>
                  </a:lnTo>
                  <a:lnTo>
                    <a:pt x="42" y="397"/>
                  </a:lnTo>
                  <a:lnTo>
                    <a:pt x="42" y="378"/>
                  </a:lnTo>
                  <a:lnTo>
                    <a:pt x="43" y="360"/>
                  </a:lnTo>
                  <a:lnTo>
                    <a:pt x="46" y="343"/>
                  </a:lnTo>
                  <a:lnTo>
                    <a:pt x="49" y="325"/>
                  </a:lnTo>
                  <a:lnTo>
                    <a:pt x="53" y="308"/>
                  </a:lnTo>
                  <a:lnTo>
                    <a:pt x="57" y="291"/>
                  </a:lnTo>
                  <a:lnTo>
                    <a:pt x="64" y="275"/>
                  </a:lnTo>
                  <a:lnTo>
                    <a:pt x="69" y="258"/>
                  </a:lnTo>
                  <a:lnTo>
                    <a:pt x="77" y="243"/>
                  </a:lnTo>
                  <a:lnTo>
                    <a:pt x="84" y="228"/>
                  </a:lnTo>
                  <a:lnTo>
                    <a:pt x="93" y="213"/>
                  </a:lnTo>
                  <a:lnTo>
                    <a:pt x="103" y="198"/>
                  </a:lnTo>
                  <a:lnTo>
                    <a:pt x="113" y="185"/>
                  </a:lnTo>
                  <a:lnTo>
                    <a:pt x="123" y="171"/>
                  </a:lnTo>
                  <a:lnTo>
                    <a:pt x="134" y="158"/>
                  </a:lnTo>
                  <a:lnTo>
                    <a:pt x="146" y="146"/>
                  </a:lnTo>
                  <a:lnTo>
                    <a:pt x="158" y="134"/>
                  </a:lnTo>
                  <a:lnTo>
                    <a:pt x="171" y="123"/>
                  </a:lnTo>
                  <a:lnTo>
                    <a:pt x="184" y="113"/>
                  </a:lnTo>
                  <a:lnTo>
                    <a:pt x="198" y="103"/>
                  </a:lnTo>
                  <a:lnTo>
                    <a:pt x="213" y="93"/>
                  </a:lnTo>
                  <a:lnTo>
                    <a:pt x="227" y="86"/>
                  </a:lnTo>
                  <a:lnTo>
                    <a:pt x="242" y="77"/>
                  </a:lnTo>
                  <a:lnTo>
                    <a:pt x="258" y="71"/>
                  </a:lnTo>
                  <a:lnTo>
                    <a:pt x="275" y="64"/>
                  </a:lnTo>
                  <a:lnTo>
                    <a:pt x="291" y="59"/>
                  </a:lnTo>
                  <a:lnTo>
                    <a:pt x="308" y="53"/>
                  </a:lnTo>
                  <a:lnTo>
                    <a:pt x="324" y="50"/>
                  </a:lnTo>
                  <a:lnTo>
                    <a:pt x="343" y="47"/>
                  </a:lnTo>
                  <a:lnTo>
                    <a:pt x="360" y="45"/>
                  </a:lnTo>
                  <a:lnTo>
                    <a:pt x="378" y="42"/>
                  </a:lnTo>
                  <a:lnTo>
                    <a:pt x="396" y="42"/>
                  </a:lnTo>
                  <a:lnTo>
                    <a:pt x="414" y="42"/>
                  </a:lnTo>
                  <a:lnTo>
                    <a:pt x="432" y="45"/>
                  </a:lnTo>
                  <a:lnTo>
                    <a:pt x="450" y="47"/>
                  </a:lnTo>
                  <a:lnTo>
                    <a:pt x="468" y="50"/>
                  </a:lnTo>
                  <a:lnTo>
                    <a:pt x="484" y="53"/>
                  </a:lnTo>
                  <a:lnTo>
                    <a:pt x="502" y="59"/>
                  </a:lnTo>
                  <a:lnTo>
                    <a:pt x="518" y="64"/>
                  </a:lnTo>
                  <a:lnTo>
                    <a:pt x="534" y="71"/>
                  </a:lnTo>
                  <a:lnTo>
                    <a:pt x="550" y="77"/>
                  </a:lnTo>
                  <a:lnTo>
                    <a:pt x="565" y="86"/>
                  </a:lnTo>
                  <a:lnTo>
                    <a:pt x="579" y="93"/>
                  </a:lnTo>
                  <a:lnTo>
                    <a:pt x="594" y="103"/>
                  </a:lnTo>
                  <a:lnTo>
                    <a:pt x="609" y="113"/>
                  </a:lnTo>
                  <a:lnTo>
                    <a:pt x="621" y="123"/>
                  </a:lnTo>
                  <a:lnTo>
                    <a:pt x="634" y="134"/>
                  </a:lnTo>
                  <a:lnTo>
                    <a:pt x="646" y="146"/>
                  </a:lnTo>
                  <a:lnTo>
                    <a:pt x="658" y="158"/>
                  </a:lnTo>
                  <a:lnTo>
                    <a:pt x="669" y="171"/>
                  </a:lnTo>
                  <a:lnTo>
                    <a:pt x="680" y="185"/>
                  </a:lnTo>
                  <a:lnTo>
                    <a:pt x="690" y="198"/>
                  </a:lnTo>
                  <a:lnTo>
                    <a:pt x="699" y="213"/>
                  </a:lnTo>
                  <a:lnTo>
                    <a:pt x="708" y="228"/>
                  </a:lnTo>
                  <a:lnTo>
                    <a:pt x="715" y="243"/>
                  </a:lnTo>
                  <a:lnTo>
                    <a:pt x="723" y="258"/>
                  </a:lnTo>
                  <a:lnTo>
                    <a:pt x="728" y="275"/>
                  </a:lnTo>
                  <a:lnTo>
                    <a:pt x="735" y="291"/>
                  </a:lnTo>
                  <a:lnTo>
                    <a:pt x="739" y="308"/>
                  </a:lnTo>
                  <a:lnTo>
                    <a:pt x="744" y="325"/>
                  </a:lnTo>
                  <a:lnTo>
                    <a:pt x="746" y="343"/>
                  </a:lnTo>
                  <a:lnTo>
                    <a:pt x="749" y="360"/>
                  </a:lnTo>
                  <a:lnTo>
                    <a:pt x="750" y="378"/>
                  </a:lnTo>
                  <a:lnTo>
                    <a:pt x="750" y="397"/>
                  </a:lnTo>
                  <a:lnTo>
                    <a:pt x="750" y="409"/>
                  </a:lnTo>
                  <a:lnTo>
                    <a:pt x="750" y="420"/>
                  </a:lnTo>
                  <a:lnTo>
                    <a:pt x="749" y="432"/>
                  </a:lnTo>
                  <a:lnTo>
                    <a:pt x="747" y="443"/>
                  </a:lnTo>
                  <a:lnTo>
                    <a:pt x="746" y="455"/>
                  </a:lnTo>
                  <a:lnTo>
                    <a:pt x="744" y="466"/>
                  </a:lnTo>
                  <a:lnTo>
                    <a:pt x="741" y="478"/>
                  </a:lnTo>
                  <a:lnTo>
                    <a:pt x="738" y="488"/>
                  </a:lnTo>
                  <a:lnTo>
                    <a:pt x="778" y="499"/>
                  </a:lnTo>
                  <a:lnTo>
                    <a:pt x="781" y="487"/>
                  </a:lnTo>
                  <a:lnTo>
                    <a:pt x="785" y="474"/>
                  </a:lnTo>
                  <a:lnTo>
                    <a:pt x="787" y="461"/>
                  </a:lnTo>
                  <a:lnTo>
                    <a:pt x="789" y="449"/>
                  </a:lnTo>
                  <a:lnTo>
                    <a:pt x="790" y="436"/>
                  </a:lnTo>
                  <a:lnTo>
                    <a:pt x="791" y="423"/>
                  </a:lnTo>
                  <a:lnTo>
                    <a:pt x="792" y="410"/>
                  </a:lnTo>
                  <a:lnTo>
                    <a:pt x="792" y="397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24400" y="2847960"/>
              <a:ext cx="298440" cy="298440"/>
            </a:xfrm>
            <a:custGeom>
              <a:avLst/>
              <a:gdLst/>
              <a:ahLst/>
              <a:rect l="l" t="t" r="r" b="b"/>
              <a:pathLst>
                <a:path w="751" h="749">
                  <a:moveTo>
                    <a:pt x="751" y="375"/>
                  </a:moveTo>
                  <a:lnTo>
                    <a:pt x="750" y="355"/>
                  </a:lnTo>
                  <a:lnTo>
                    <a:pt x="749" y="336"/>
                  </a:lnTo>
                  <a:lnTo>
                    <a:pt x="746" y="317"/>
                  </a:lnTo>
                  <a:lnTo>
                    <a:pt x="742" y="299"/>
                  </a:lnTo>
                  <a:lnTo>
                    <a:pt x="739" y="281"/>
                  </a:lnTo>
                  <a:lnTo>
                    <a:pt x="733" y="263"/>
                  </a:lnTo>
                  <a:lnTo>
                    <a:pt x="727" y="245"/>
                  </a:lnTo>
                  <a:lnTo>
                    <a:pt x="720" y="229"/>
                  </a:lnTo>
                  <a:lnTo>
                    <a:pt x="713" y="212"/>
                  </a:lnTo>
                  <a:lnTo>
                    <a:pt x="705" y="195"/>
                  </a:lnTo>
                  <a:lnTo>
                    <a:pt x="696" y="180"/>
                  </a:lnTo>
                  <a:lnTo>
                    <a:pt x="686" y="165"/>
                  </a:lnTo>
                  <a:lnTo>
                    <a:pt x="676" y="150"/>
                  </a:lnTo>
                  <a:lnTo>
                    <a:pt x="664" y="136"/>
                  </a:lnTo>
                  <a:lnTo>
                    <a:pt x="652" y="122"/>
                  </a:lnTo>
                  <a:lnTo>
                    <a:pt x="640" y="109"/>
                  </a:lnTo>
                  <a:lnTo>
                    <a:pt x="627" y="97"/>
                  </a:lnTo>
                  <a:lnTo>
                    <a:pt x="613" y="85"/>
                  </a:lnTo>
                  <a:lnTo>
                    <a:pt x="599" y="74"/>
                  </a:lnTo>
                  <a:lnTo>
                    <a:pt x="585" y="64"/>
                  </a:lnTo>
                  <a:lnTo>
                    <a:pt x="569" y="54"/>
                  </a:lnTo>
                  <a:lnTo>
                    <a:pt x="554" y="45"/>
                  </a:lnTo>
                  <a:lnTo>
                    <a:pt x="538" y="37"/>
                  </a:lnTo>
                  <a:lnTo>
                    <a:pt x="522" y="29"/>
                  </a:lnTo>
                  <a:lnTo>
                    <a:pt x="504" y="23"/>
                  </a:lnTo>
                  <a:lnTo>
                    <a:pt x="487" y="16"/>
                  </a:lnTo>
                  <a:lnTo>
                    <a:pt x="469" y="12"/>
                  </a:lnTo>
                  <a:lnTo>
                    <a:pt x="450" y="7"/>
                  </a:lnTo>
                  <a:lnTo>
                    <a:pt x="432" y="4"/>
                  </a:lnTo>
                  <a:lnTo>
                    <a:pt x="414" y="1"/>
                  </a:lnTo>
                  <a:lnTo>
                    <a:pt x="394" y="0"/>
                  </a:lnTo>
                  <a:lnTo>
                    <a:pt x="375" y="0"/>
                  </a:lnTo>
                  <a:lnTo>
                    <a:pt x="356" y="0"/>
                  </a:lnTo>
                  <a:lnTo>
                    <a:pt x="337" y="1"/>
                  </a:lnTo>
                  <a:lnTo>
                    <a:pt x="318" y="4"/>
                  </a:lnTo>
                  <a:lnTo>
                    <a:pt x="300" y="7"/>
                  </a:lnTo>
                  <a:lnTo>
                    <a:pt x="282" y="12"/>
                  </a:lnTo>
                  <a:lnTo>
                    <a:pt x="263" y="16"/>
                  </a:lnTo>
                  <a:lnTo>
                    <a:pt x="246" y="23"/>
                  </a:lnTo>
                  <a:lnTo>
                    <a:pt x="229" y="29"/>
                  </a:lnTo>
                  <a:lnTo>
                    <a:pt x="213" y="37"/>
                  </a:lnTo>
                  <a:lnTo>
                    <a:pt x="196" y="45"/>
                  </a:lnTo>
                  <a:lnTo>
                    <a:pt x="181" y="54"/>
                  </a:lnTo>
                  <a:lnTo>
                    <a:pt x="165" y="64"/>
                  </a:lnTo>
                  <a:lnTo>
                    <a:pt x="151" y="74"/>
                  </a:lnTo>
                  <a:lnTo>
                    <a:pt x="137" y="85"/>
                  </a:lnTo>
                  <a:lnTo>
                    <a:pt x="123" y="97"/>
                  </a:lnTo>
                  <a:lnTo>
                    <a:pt x="110" y="109"/>
                  </a:lnTo>
                  <a:lnTo>
                    <a:pt x="98" y="122"/>
                  </a:lnTo>
                  <a:lnTo>
                    <a:pt x="86" y="136"/>
                  </a:lnTo>
                  <a:lnTo>
                    <a:pt x="74" y="150"/>
                  </a:lnTo>
                  <a:lnTo>
                    <a:pt x="65" y="165"/>
                  </a:lnTo>
                  <a:lnTo>
                    <a:pt x="55" y="180"/>
                  </a:lnTo>
                  <a:lnTo>
                    <a:pt x="45" y="195"/>
                  </a:lnTo>
                  <a:lnTo>
                    <a:pt x="38" y="212"/>
                  </a:lnTo>
                  <a:lnTo>
                    <a:pt x="30" y="229"/>
                  </a:lnTo>
                  <a:lnTo>
                    <a:pt x="22" y="245"/>
                  </a:lnTo>
                  <a:lnTo>
                    <a:pt x="17" y="263"/>
                  </a:lnTo>
                  <a:lnTo>
                    <a:pt x="12" y="281"/>
                  </a:lnTo>
                  <a:lnTo>
                    <a:pt x="7" y="299"/>
                  </a:lnTo>
                  <a:lnTo>
                    <a:pt x="4" y="317"/>
                  </a:lnTo>
                  <a:lnTo>
                    <a:pt x="2" y="336"/>
                  </a:lnTo>
                  <a:lnTo>
                    <a:pt x="1" y="355"/>
                  </a:lnTo>
                  <a:lnTo>
                    <a:pt x="0" y="375"/>
                  </a:lnTo>
                  <a:lnTo>
                    <a:pt x="1" y="394"/>
                  </a:lnTo>
                  <a:lnTo>
                    <a:pt x="2" y="412"/>
                  </a:lnTo>
                  <a:lnTo>
                    <a:pt x="4" y="432"/>
                  </a:lnTo>
                  <a:lnTo>
                    <a:pt x="7" y="450"/>
                  </a:lnTo>
                  <a:lnTo>
                    <a:pt x="12" y="469"/>
                  </a:lnTo>
                  <a:lnTo>
                    <a:pt x="17" y="486"/>
                  </a:lnTo>
                  <a:lnTo>
                    <a:pt x="22" y="503"/>
                  </a:lnTo>
                  <a:lnTo>
                    <a:pt x="30" y="520"/>
                  </a:lnTo>
                  <a:lnTo>
                    <a:pt x="38" y="537"/>
                  </a:lnTo>
                  <a:lnTo>
                    <a:pt x="45" y="553"/>
                  </a:lnTo>
                  <a:lnTo>
                    <a:pt x="55" y="569"/>
                  </a:lnTo>
                  <a:lnTo>
                    <a:pt x="65" y="584"/>
                  </a:lnTo>
                  <a:lnTo>
                    <a:pt x="74" y="598"/>
                  </a:lnTo>
                  <a:lnTo>
                    <a:pt x="86" y="613"/>
                  </a:lnTo>
                  <a:lnTo>
                    <a:pt x="98" y="626"/>
                  </a:lnTo>
                  <a:lnTo>
                    <a:pt x="110" y="639"/>
                  </a:lnTo>
                  <a:lnTo>
                    <a:pt x="123" y="652"/>
                  </a:lnTo>
                  <a:lnTo>
                    <a:pt x="137" y="664"/>
                  </a:lnTo>
                  <a:lnTo>
                    <a:pt x="151" y="675"/>
                  </a:lnTo>
                  <a:lnTo>
                    <a:pt x="165" y="686"/>
                  </a:lnTo>
                  <a:lnTo>
                    <a:pt x="181" y="695"/>
                  </a:lnTo>
                  <a:lnTo>
                    <a:pt x="196" y="704"/>
                  </a:lnTo>
                  <a:lnTo>
                    <a:pt x="213" y="713"/>
                  </a:lnTo>
                  <a:lnTo>
                    <a:pt x="229" y="720"/>
                  </a:lnTo>
                  <a:lnTo>
                    <a:pt x="246" y="727"/>
                  </a:lnTo>
                  <a:lnTo>
                    <a:pt x="263" y="732"/>
                  </a:lnTo>
                  <a:lnTo>
                    <a:pt x="282" y="738"/>
                  </a:lnTo>
                  <a:lnTo>
                    <a:pt x="300" y="742"/>
                  </a:lnTo>
                  <a:lnTo>
                    <a:pt x="318" y="745"/>
                  </a:lnTo>
                  <a:lnTo>
                    <a:pt x="337" y="747"/>
                  </a:lnTo>
                  <a:lnTo>
                    <a:pt x="356" y="748"/>
                  </a:lnTo>
                  <a:lnTo>
                    <a:pt x="375" y="749"/>
                  </a:lnTo>
                  <a:lnTo>
                    <a:pt x="397" y="748"/>
                  </a:lnTo>
                  <a:lnTo>
                    <a:pt x="419" y="747"/>
                  </a:lnTo>
                  <a:lnTo>
                    <a:pt x="439" y="744"/>
                  </a:lnTo>
                  <a:lnTo>
                    <a:pt x="461" y="740"/>
                  </a:lnTo>
                  <a:lnTo>
                    <a:pt x="482" y="734"/>
                  </a:lnTo>
                  <a:lnTo>
                    <a:pt x="501" y="728"/>
                  </a:lnTo>
                  <a:lnTo>
                    <a:pt x="521" y="720"/>
                  </a:lnTo>
                  <a:lnTo>
                    <a:pt x="540" y="712"/>
                  </a:lnTo>
                  <a:lnTo>
                    <a:pt x="522" y="674"/>
                  </a:lnTo>
                  <a:lnTo>
                    <a:pt x="504" y="681"/>
                  </a:lnTo>
                  <a:lnTo>
                    <a:pt x="487" y="688"/>
                  </a:lnTo>
                  <a:lnTo>
                    <a:pt x="470" y="694"/>
                  </a:lnTo>
                  <a:lnTo>
                    <a:pt x="451" y="699"/>
                  </a:lnTo>
                  <a:lnTo>
                    <a:pt x="433" y="703"/>
                  </a:lnTo>
                  <a:lnTo>
                    <a:pt x="414" y="705"/>
                  </a:lnTo>
                  <a:lnTo>
                    <a:pt x="395" y="707"/>
                  </a:lnTo>
                  <a:lnTo>
                    <a:pt x="375" y="707"/>
                  </a:lnTo>
                  <a:lnTo>
                    <a:pt x="358" y="707"/>
                  </a:lnTo>
                  <a:lnTo>
                    <a:pt x="341" y="706"/>
                  </a:lnTo>
                  <a:lnTo>
                    <a:pt x="324" y="704"/>
                  </a:lnTo>
                  <a:lnTo>
                    <a:pt x="308" y="701"/>
                  </a:lnTo>
                  <a:lnTo>
                    <a:pt x="291" y="698"/>
                  </a:lnTo>
                  <a:lnTo>
                    <a:pt x="276" y="692"/>
                  </a:lnTo>
                  <a:lnTo>
                    <a:pt x="260" y="688"/>
                  </a:lnTo>
                  <a:lnTo>
                    <a:pt x="245" y="681"/>
                  </a:lnTo>
                  <a:lnTo>
                    <a:pt x="231" y="675"/>
                  </a:lnTo>
                  <a:lnTo>
                    <a:pt x="216" y="667"/>
                  </a:lnTo>
                  <a:lnTo>
                    <a:pt x="203" y="660"/>
                  </a:lnTo>
                  <a:lnTo>
                    <a:pt x="189" y="651"/>
                  </a:lnTo>
                  <a:lnTo>
                    <a:pt x="176" y="641"/>
                  </a:lnTo>
                  <a:lnTo>
                    <a:pt x="163" y="632"/>
                  </a:lnTo>
                  <a:lnTo>
                    <a:pt x="151" y="621"/>
                  </a:lnTo>
                  <a:lnTo>
                    <a:pt x="139" y="610"/>
                  </a:lnTo>
                  <a:lnTo>
                    <a:pt x="128" y="598"/>
                  </a:lnTo>
                  <a:lnTo>
                    <a:pt x="117" y="586"/>
                  </a:lnTo>
                  <a:lnTo>
                    <a:pt x="108" y="573"/>
                  </a:lnTo>
                  <a:lnTo>
                    <a:pt x="99" y="560"/>
                  </a:lnTo>
                  <a:lnTo>
                    <a:pt x="90" y="547"/>
                  </a:lnTo>
                  <a:lnTo>
                    <a:pt x="82" y="533"/>
                  </a:lnTo>
                  <a:lnTo>
                    <a:pt x="74" y="519"/>
                  </a:lnTo>
                  <a:lnTo>
                    <a:pt x="68" y="504"/>
                  </a:lnTo>
                  <a:lnTo>
                    <a:pt x="62" y="489"/>
                  </a:lnTo>
                  <a:lnTo>
                    <a:pt x="57" y="473"/>
                  </a:lnTo>
                  <a:lnTo>
                    <a:pt x="53" y="458"/>
                  </a:lnTo>
                  <a:lnTo>
                    <a:pt x="48" y="442"/>
                  </a:lnTo>
                  <a:lnTo>
                    <a:pt x="46" y="425"/>
                  </a:lnTo>
                  <a:lnTo>
                    <a:pt x="44" y="408"/>
                  </a:lnTo>
                  <a:lnTo>
                    <a:pt x="42" y="392"/>
                  </a:lnTo>
                  <a:lnTo>
                    <a:pt x="42" y="375"/>
                  </a:lnTo>
                  <a:lnTo>
                    <a:pt x="42" y="357"/>
                  </a:lnTo>
                  <a:lnTo>
                    <a:pt x="44" y="340"/>
                  </a:lnTo>
                  <a:lnTo>
                    <a:pt x="46" y="324"/>
                  </a:lnTo>
                  <a:lnTo>
                    <a:pt x="48" y="308"/>
                  </a:lnTo>
                  <a:lnTo>
                    <a:pt x="53" y="292"/>
                  </a:lnTo>
                  <a:lnTo>
                    <a:pt x="57" y="275"/>
                  </a:lnTo>
                  <a:lnTo>
                    <a:pt x="62" y="260"/>
                  </a:lnTo>
                  <a:lnTo>
                    <a:pt x="68" y="245"/>
                  </a:lnTo>
                  <a:lnTo>
                    <a:pt x="74" y="230"/>
                  </a:lnTo>
                  <a:lnTo>
                    <a:pt x="82" y="216"/>
                  </a:lnTo>
                  <a:lnTo>
                    <a:pt x="90" y="202"/>
                  </a:lnTo>
                  <a:lnTo>
                    <a:pt x="99" y="188"/>
                  </a:lnTo>
                  <a:lnTo>
                    <a:pt x="108" y="175"/>
                  </a:lnTo>
                  <a:lnTo>
                    <a:pt x="117" y="163"/>
                  </a:lnTo>
                  <a:lnTo>
                    <a:pt x="128" y="150"/>
                  </a:lnTo>
                  <a:lnTo>
                    <a:pt x="139" y="139"/>
                  </a:lnTo>
                  <a:lnTo>
                    <a:pt x="151" y="127"/>
                  </a:lnTo>
                  <a:lnTo>
                    <a:pt x="163" y="118"/>
                  </a:lnTo>
                  <a:lnTo>
                    <a:pt x="176" y="108"/>
                  </a:lnTo>
                  <a:lnTo>
                    <a:pt x="189" y="98"/>
                  </a:lnTo>
                  <a:lnTo>
                    <a:pt x="203" y="90"/>
                  </a:lnTo>
                  <a:lnTo>
                    <a:pt x="216" y="81"/>
                  </a:lnTo>
                  <a:lnTo>
                    <a:pt x="231" y="74"/>
                  </a:lnTo>
                  <a:lnTo>
                    <a:pt x="245" y="67"/>
                  </a:lnTo>
                  <a:lnTo>
                    <a:pt x="260" y="61"/>
                  </a:lnTo>
                  <a:lnTo>
                    <a:pt x="276" y="56"/>
                  </a:lnTo>
                  <a:lnTo>
                    <a:pt x="291" y="52"/>
                  </a:lnTo>
                  <a:lnTo>
                    <a:pt x="308" y="49"/>
                  </a:lnTo>
                  <a:lnTo>
                    <a:pt x="324" y="45"/>
                  </a:lnTo>
                  <a:lnTo>
                    <a:pt x="341" y="43"/>
                  </a:lnTo>
                  <a:lnTo>
                    <a:pt x="358" y="42"/>
                  </a:lnTo>
                  <a:lnTo>
                    <a:pt x="375" y="41"/>
                  </a:lnTo>
                  <a:lnTo>
                    <a:pt x="392" y="42"/>
                  </a:lnTo>
                  <a:lnTo>
                    <a:pt x="409" y="43"/>
                  </a:lnTo>
                  <a:lnTo>
                    <a:pt x="425" y="45"/>
                  </a:lnTo>
                  <a:lnTo>
                    <a:pt x="443" y="49"/>
                  </a:lnTo>
                  <a:lnTo>
                    <a:pt x="459" y="52"/>
                  </a:lnTo>
                  <a:lnTo>
                    <a:pt x="474" y="56"/>
                  </a:lnTo>
                  <a:lnTo>
                    <a:pt x="490" y="61"/>
                  </a:lnTo>
                  <a:lnTo>
                    <a:pt x="505" y="67"/>
                  </a:lnTo>
                  <a:lnTo>
                    <a:pt x="519" y="74"/>
                  </a:lnTo>
                  <a:lnTo>
                    <a:pt x="535" y="81"/>
                  </a:lnTo>
                  <a:lnTo>
                    <a:pt x="548" y="90"/>
                  </a:lnTo>
                  <a:lnTo>
                    <a:pt x="562" y="98"/>
                  </a:lnTo>
                  <a:lnTo>
                    <a:pt x="575" y="108"/>
                  </a:lnTo>
                  <a:lnTo>
                    <a:pt x="588" y="118"/>
                  </a:lnTo>
                  <a:lnTo>
                    <a:pt x="599" y="127"/>
                  </a:lnTo>
                  <a:lnTo>
                    <a:pt x="611" y="139"/>
                  </a:lnTo>
                  <a:lnTo>
                    <a:pt x="622" y="150"/>
                  </a:lnTo>
                  <a:lnTo>
                    <a:pt x="633" y="163"/>
                  </a:lnTo>
                  <a:lnTo>
                    <a:pt x="643" y="175"/>
                  </a:lnTo>
                  <a:lnTo>
                    <a:pt x="651" y="188"/>
                  </a:lnTo>
                  <a:lnTo>
                    <a:pt x="660" y="202"/>
                  </a:lnTo>
                  <a:lnTo>
                    <a:pt x="669" y="216"/>
                  </a:lnTo>
                  <a:lnTo>
                    <a:pt x="676" y="230"/>
                  </a:lnTo>
                  <a:lnTo>
                    <a:pt x="683" y="245"/>
                  </a:lnTo>
                  <a:lnTo>
                    <a:pt x="688" y="260"/>
                  </a:lnTo>
                  <a:lnTo>
                    <a:pt x="693" y="275"/>
                  </a:lnTo>
                  <a:lnTo>
                    <a:pt x="698" y="292"/>
                  </a:lnTo>
                  <a:lnTo>
                    <a:pt x="702" y="308"/>
                  </a:lnTo>
                  <a:lnTo>
                    <a:pt x="704" y="324"/>
                  </a:lnTo>
                  <a:lnTo>
                    <a:pt x="706" y="340"/>
                  </a:lnTo>
                  <a:lnTo>
                    <a:pt x="709" y="357"/>
                  </a:lnTo>
                  <a:lnTo>
                    <a:pt x="709" y="375"/>
                  </a:lnTo>
                  <a:lnTo>
                    <a:pt x="709" y="385"/>
                  </a:lnTo>
                  <a:lnTo>
                    <a:pt x="707" y="396"/>
                  </a:lnTo>
                  <a:lnTo>
                    <a:pt x="706" y="408"/>
                  </a:lnTo>
                  <a:lnTo>
                    <a:pt x="705" y="419"/>
                  </a:lnTo>
                  <a:lnTo>
                    <a:pt x="704" y="430"/>
                  </a:lnTo>
                  <a:lnTo>
                    <a:pt x="702" y="441"/>
                  </a:lnTo>
                  <a:lnTo>
                    <a:pt x="700" y="450"/>
                  </a:lnTo>
                  <a:lnTo>
                    <a:pt x="697" y="461"/>
                  </a:lnTo>
                  <a:lnTo>
                    <a:pt x="738" y="472"/>
                  </a:lnTo>
                  <a:lnTo>
                    <a:pt x="740" y="460"/>
                  </a:lnTo>
                  <a:lnTo>
                    <a:pt x="743" y="448"/>
                  </a:lnTo>
                  <a:lnTo>
                    <a:pt x="745" y="436"/>
                  </a:lnTo>
                  <a:lnTo>
                    <a:pt x="746" y="424"/>
                  </a:lnTo>
                  <a:lnTo>
                    <a:pt x="749" y="411"/>
                  </a:lnTo>
                  <a:lnTo>
                    <a:pt x="750" y="400"/>
                  </a:lnTo>
                  <a:lnTo>
                    <a:pt x="750" y="387"/>
                  </a:lnTo>
                  <a:lnTo>
                    <a:pt x="751" y="37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33760" y="2857320"/>
              <a:ext cx="281160" cy="281160"/>
            </a:xfrm>
            <a:custGeom>
              <a:avLst/>
              <a:gdLst/>
              <a:ahLst/>
              <a:rect l="l" t="t" r="r" b="b"/>
              <a:pathLst>
                <a:path w="708" h="709">
                  <a:moveTo>
                    <a:pt x="708" y="355"/>
                  </a:moveTo>
                  <a:lnTo>
                    <a:pt x="708" y="336"/>
                  </a:lnTo>
                  <a:lnTo>
                    <a:pt x="707" y="318"/>
                  </a:lnTo>
                  <a:lnTo>
                    <a:pt x="704" y="301"/>
                  </a:lnTo>
                  <a:lnTo>
                    <a:pt x="702" y="283"/>
                  </a:lnTo>
                  <a:lnTo>
                    <a:pt x="697" y="266"/>
                  </a:lnTo>
                  <a:lnTo>
                    <a:pt x="693" y="249"/>
                  </a:lnTo>
                  <a:lnTo>
                    <a:pt x="686" y="233"/>
                  </a:lnTo>
                  <a:lnTo>
                    <a:pt x="681" y="216"/>
                  </a:lnTo>
                  <a:lnTo>
                    <a:pt x="673" y="201"/>
                  </a:lnTo>
                  <a:lnTo>
                    <a:pt x="666" y="186"/>
                  </a:lnTo>
                  <a:lnTo>
                    <a:pt x="657" y="171"/>
                  </a:lnTo>
                  <a:lnTo>
                    <a:pt x="648" y="156"/>
                  </a:lnTo>
                  <a:lnTo>
                    <a:pt x="638" y="143"/>
                  </a:lnTo>
                  <a:lnTo>
                    <a:pt x="627" y="129"/>
                  </a:lnTo>
                  <a:lnTo>
                    <a:pt x="616" y="116"/>
                  </a:lnTo>
                  <a:lnTo>
                    <a:pt x="604" y="104"/>
                  </a:lnTo>
                  <a:lnTo>
                    <a:pt x="592" y="92"/>
                  </a:lnTo>
                  <a:lnTo>
                    <a:pt x="579" y="81"/>
                  </a:lnTo>
                  <a:lnTo>
                    <a:pt x="567" y="71"/>
                  </a:lnTo>
                  <a:lnTo>
                    <a:pt x="552" y="61"/>
                  </a:lnTo>
                  <a:lnTo>
                    <a:pt x="537" y="51"/>
                  </a:lnTo>
                  <a:lnTo>
                    <a:pt x="523" y="44"/>
                  </a:lnTo>
                  <a:lnTo>
                    <a:pt x="508" y="35"/>
                  </a:lnTo>
                  <a:lnTo>
                    <a:pt x="492" y="29"/>
                  </a:lnTo>
                  <a:lnTo>
                    <a:pt x="476" y="22"/>
                  </a:lnTo>
                  <a:lnTo>
                    <a:pt x="460" y="17"/>
                  </a:lnTo>
                  <a:lnTo>
                    <a:pt x="442" y="11"/>
                  </a:lnTo>
                  <a:lnTo>
                    <a:pt x="426" y="8"/>
                  </a:lnTo>
                  <a:lnTo>
                    <a:pt x="408" y="5"/>
                  </a:lnTo>
                  <a:lnTo>
                    <a:pt x="390" y="3"/>
                  </a:lnTo>
                  <a:lnTo>
                    <a:pt x="372" y="0"/>
                  </a:lnTo>
                  <a:lnTo>
                    <a:pt x="354" y="0"/>
                  </a:lnTo>
                  <a:lnTo>
                    <a:pt x="336" y="0"/>
                  </a:lnTo>
                  <a:lnTo>
                    <a:pt x="318" y="3"/>
                  </a:lnTo>
                  <a:lnTo>
                    <a:pt x="301" y="5"/>
                  </a:lnTo>
                  <a:lnTo>
                    <a:pt x="282" y="8"/>
                  </a:lnTo>
                  <a:lnTo>
                    <a:pt x="266" y="11"/>
                  </a:lnTo>
                  <a:lnTo>
                    <a:pt x="249" y="17"/>
                  </a:lnTo>
                  <a:lnTo>
                    <a:pt x="233" y="22"/>
                  </a:lnTo>
                  <a:lnTo>
                    <a:pt x="216" y="29"/>
                  </a:lnTo>
                  <a:lnTo>
                    <a:pt x="200" y="35"/>
                  </a:lnTo>
                  <a:lnTo>
                    <a:pt x="185" y="44"/>
                  </a:lnTo>
                  <a:lnTo>
                    <a:pt x="171" y="51"/>
                  </a:lnTo>
                  <a:lnTo>
                    <a:pt x="156" y="61"/>
                  </a:lnTo>
                  <a:lnTo>
                    <a:pt x="142" y="71"/>
                  </a:lnTo>
                  <a:lnTo>
                    <a:pt x="129" y="81"/>
                  </a:lnTo>
                  <a:lnTo>
                    <a:pt x="116" y="92"/>
                  </a:lnTo>
                  <a:lnTo>
                    <a:pt x="104" y="104"/>
                  </a:lnTo>
                  <a:lnTo>
                    <a:pt x="92" y="116"/>
                  </a:lnTo>
                  <a:lnTo>
                    <a:pt x="81" y="129"/>
                  </a:lnTo>
                  <a:lnTo>
                    <a:pt x="71" y="143"/>
                  </a:lnTo>
                  <a:lnTo>
                    <a:pt x="61" y="156"/>
                  </a:lnTo>
                  <a:lnTo>
                    <a:pt x="51" y="171"/>
                  </a:lnTo>
                  <a:lnTo>
                    <a:pt x="42" y="186"/>
                  </a:lnTo>
                  <a:lnTo>
                    <a:pt x="35" y="201"/>
                  </a:lnTo>
                  <a:lnTo>
                    <a:pt x="27" y="216"/>
                  </a:lnTo>
                  <a:lnTo>
                    <a:pt x="22" y="233"/>
                  </a:lnTo>
                  <a:lnTo>
                    <a:pt x="15" y="249"/>
                  </a:lnTo>
                  <a:lnTo>
                    <a:pt x="11" y="266"/>
                  </a:lnTo>
                  <a:lnTo>
                    <a:pt x="7" y="283"/>
                  </a:lnTo>
                  <a:lnTo>
                    <a:pt x="4" y="301"/>
                  </a:lnTo>
                  <a:lnTo>
                    <a:pt x="1" y="318"/>
                  </a:lnTo>
                  <a:lnTo>
                    <a:pt x="0" y="336"/>
                  </a:lnTo>
                  <a:lnTo>
                    <a:pt x="0" y="355"/>
                  </a:lnTo>
                  <a:lnTo>
                    <a:pt x="0" y="373"/>
                  </a:lnTo>
                  <a:lnTo>
                    <a:pt x="1" y="390"/>
                  </a:lnTo>
                  <a:lnTo>
                    <a:pt x="4" y="409"/>
                  </a:lnTo>
                  <a:lnTo>
                    <a:pt x="7" y="426"/>
                  </a:lnTo>
                  <a:lnTo>
                    <a:pt x="11" y="443"/>
                  </a:lnTo>
                  <a:lnTo>
                    <a:pt x="15" y="459"/>
                  </a:lnTo>
                  <a:lnTo>
                    <a:pt x="22" y="476"/>
                  </a:lnTo>
                  <a:lnTo>
                    <a:pt x="27" y="492"/>
                  </a:lnTo>
                  <a:lnTo>
                    <a:pt x="35" y="508"/>
                  </a:lnTo>
                  <a:lnTo>
                    <a:pt x="42" y="523"/>
                  </a:lnTo>
                  <a:lnTo>
                    <a:pt x="51" y="538"/>
                  </a:lnTo>
                  <a:lnTo>
                    <a:pt x="61" y="552"/>
                  </a:lnTo>
                  <a:lnTo>
                    <a:pt x="71" y="566"/>
                  </a:lnTo>
                  <a:lnTo>
                    <a:pt x="81" y="579"/>
                  </a:lnTo>
                  <a:lnTo>
                    <a:pt x="92" y="592"/>
                  </a:lnTo>
                  <a:lnTo>
                    <a:pt x="104" y="605"/>
                  </a:lnTo>
                  <a:lnTo>
                    <a:pt x="116" y="616"/>
                  </a:lnTo>
                  <a:lnTo>
                    <a:pt x="129" y="628"/>
                  </a:lnTo>
                  <a:lnTo>
                    <a:pt x="142" y="638"/>
                  </a:lnTo>
                  <a:lnTo>
                    <a:pt x="156" y="648"/>
                  </a:lnTo>
                  <a:lnTo>
                    <a:pt x="171" y="657"/>
                  </a:lnTo>
                  <a:lnTo>
                    <a:pt x="185" y="666"/>
                  </a:lnTo>
                  <a:lnTo>
                    <a:pt x="200" y="673"/>
                  </a:lnTo>
                  <a:lnTo>
                    <a:pt x="216" y="681"/>
                  </a:lnTo>
                  <a:lnTo>
                    <a:pt x="233" y="687"/>
                  </a:lnTo>
                  <a:lnTo>
                    <a:pt x="249" y="693"/>
                  </a:lnTo>
                  <a:lnTo>
                    <a:pt x="266" y="697"/>
                  </a:lnTo>
                  <a:lnTo>
                    <a:pt x="282" y="701"/>
                  </a:lnTo>
                  <a:lnTo>
                    <a:pt x="301" y="705"/>
                  </a:lnTo>
                  <a:lnTo>
                    <a:pt x="318" y="707"/>
                  </a:lnTo>
                  <a:lnTo>
                    <a:pt x="336" y="708"/>
                  </a:lnTo>
                  <a:lnTo>
                    <a:pt x="354" y="709"/>
                  </a:lnTo>
                  <a:lnTo>
                    <a:pt x="375" y="708"/>
                  </a:lnTo>
                  <a:lnTo>
                    <a:pt x="396" y="706"/>
                  </a:lnTo>
                  <a:lnTo>
                    <a:pt x="415" y="704"/>
                  </a:lnTo>
                  <a:lnTo>
                    <a:pt x="435" y="699"/>
                  </a:lnTo>
                  <a:lnTo>
                    <a:pt x="454" y="694"/>
                  </a:lnTo>
                  <a:lnTo>
                    <a:pt x="474" y="688"/>
                  </a:lnTo>
                  <a:lnTo>
                    <a:pt x="492" y="681"/>
                  </a:lnTo>
                  <a:lnTo>
                    <a:pt x="509" y="672"/>
                  </a:lnTo>
                  <a:lnTo>
                    <a:pt x="491" y="635"/>
                  </a:lnTo>
                  <a:lnTo>
                    <a:pt x="476" y="642"/>
                  </a:lnTo>
                  <a:lnTo>
                    <a:pt x="460" y="648"/>
                  </a:lnTo>
                  <a:lnTo>
                    <a:pt x="442" y="654"/>
                  </a:lnTo>
                  <a:lnTo>
                    <a:pt x="426" y="658"/>
                  </a:lnTo>
                  <a:lnTo>
                    <a:pt x="408" y="662"/>
                  </a:lnTo>
                  <a:lnTo>
                    <a:pt x="390" y="665"/>
                  </a:lnTo>
                  <a:lnTo>
                    <a:pt x="372" y="666"/>
                  </a:lnTo>
                  <a:lnTo>
                    <a:pt x="354" y="667"/>
                  </a:lnTo>
                  <a:lnTo>
                    <a:pt x="339" y="667"/>
                  </a:lnTo>
                  <a:lnTo>
                    <a:pt x="322" y="665"/>
                  </a:lnTo>
                  <a:lnTo>
                    <a:pt x="306" y="664"/>
                  </a:lnTo>
                  <a:lnTo>
                    <a:pt x="291" y="660"/>
                  </a:lnTo>
                  <a:lnTo>
                    <a:pt x="276" y="657"/>
                  </a:lnTo>
                  <a:lnTo>
                    <a:pt x="261" y="653"/>
                  </a:lnTo>
                  <a:lnTo>
                    <a:pt x="247" y="647"/>
                  </a:lnTo>
                  <a:lnTo>
                    <a:pt x="233" y="642"/>
                  </a:lnTo>
                  <a:lnTo>
                    <a:pt x="219" y="635"/>
                  </a:lnTo>
                  <a:lnTo>
                    <a:pt x="206" y="629"/>
                  </a:lnTo>
                  <a:lnTo>
                    <a:pt x="193" y="621"/>
                  </a:lnTo>
                  <a:lnTo>
                    <a:pt x="180" y="614"/>
                  </a:lnTo>
                  <a:lnTo>
                    <a:pt x="167" y="605"/>
                  </a:lnTo>
                  <a:lnTo>
                    <a:pt x="156" y="596"/>
                  </a:lnTo>
                  <a:lnTo>
                    <a:pt x="144" y="586"/>
                  </a:lnTo>
                  <a:lnTo>
                    <a:pt x="133" y="575"/>
                  </a:lnTo>
                  <a:lnTo>
                    <a:pt x="122" y="564"/>
                  </a:lnTo>
                  <a:lnTo>
                    <a:pt x="113" y="553"/>
                  </a:lnTo>
                  <a:lnTo>
                    <a:pt x="104" y="542"/>
                  </a:lnTo>
                  <a:lnTo>
                    <a:pt x="95" y="529"/>
                  </a:lnTo>
                  <a:lnTo>
                    <a:pt x="87" y="517"/>
                  </a:lnTo>
                  <a:lnTo>
                    <a:pt x="79" y="504"/>
                  </a:lnTo>
                  <a:lnTo>
                    <a:pt x="73" y="490"/>
                  </a:lnTo>
                  <a:lnTo>
                    <a:pt x="66" y="476"/>
                  </a:lnTo>
                  <a:lnTo>
                    <a:pt x="61" y="462"/>
                  </a:lnTo>
                  <a:lnTo>
                    <a:pt x="55" y="448"/>
                  </a:lnTo>
                  <a:lnTo>
                    <a:pt x="51" y="432"/>
                  </a:lnTo>
                  <a:lnTo>
                    <a:pt x="48" y="417"/>
                  </a:lnTo>
                  <a:lnTo>
                    <a:pt x="46" y="402"/>
                  </a:lnTo>
                  <a:lnTo>
                    <a:pt x="44" y="386"/>
                  </a:lnTo>
                  <a:lnTo>
                    <a:pt x="42" y="371"/>
                  </a:lnTo>
                  <a:lnTo>
                    <a:pt x="41" y="355"/>
                  </a:lnTo>
                  <a:lnTo>
                    <a:pt x="42" y="338"/>
                  </a:lnTo>
                  <a:lnTo>
                    <a:pt x="44" y="322"/>
                  </a:lnTo>
                  <a:lnTo>
                    <a:pt x="46" y="307"/>
                  </a:lnTo>
                  <a:lnTo>
                    <a:pt x="48" y="291"/>
                  </a:lnTo>
                  <a:lnTo>
                    <a:pt x="51" y="276"/>
                  </a:lnTo>
                  <a:lnTo>
                    <a:pt x="55" y="262"/>
                  </a:lnTo>
                  <a:lnTo>
                    <a:pt x="61" y="247"/>
                  </a:lnTo>
                  <a:lnTo>
                    <a:pt x="66" y="233"/>
                  </a:lnTo>
                  <a:lnTo>
                    <a:pt x="73" y="219"/>
                  </a:lnTo>
                  <a:lnTo>
                    <a:pt x="79" y="206"/>
                  </a:lnTo>
                  <a:lnTo>
                    <a:pt x="87" y="193"/>
                  </a:lnTo>
                  <a:lnTo>
                    <a:pt x="95" y="180"/>
                  </a:lnTo>
                  <a:lnTo>
                    <a:pt x="104" y="168"/>
                  </a:lnTo>
                  <a:lnTo>
                    <a:pt x="113" y="156"/>
                  </a:lnTo>
                  <a:lnTo>
                    <a:pt x="122" y="144"/>
                  </a:lnTo>
                  <a:lnTo>
                    <a:pt x="133" y="133"/>
                  </a:lnTo>
                  <a:lnTo>
                    <a:pt x="144" y="124"/>
                  </a:lnTo>
                  <a:lnTo>
                    <a:pt x="156" y="114"/>
                  </a:lnTo>
                  <a:lnTo>
                    <a:pt x="167" y="104"/>
                  </a:lnTo>
                  <a:lnTo>
                    <a:pt x="180" y="95"/>
                  </a:lnTo>
                  <a:lnTo>
                    <a:pt x="193" y="87"/>
                  </a:lnTo>
                  <a:lnTo>
                    <a:pt x="206" y="79"/>
                  </a:lnTo>
                  <a:lnTo>
                    <a:pt x="219" y="73"/>
                  </a:lnTo>
                  <a:lnTo>
                    <a:pt x="233" y="66"/>
                  </a:lnTo>
                  <a:lnTo>
                    <a:pt x="247" y="61"/>
                  </a:lnTo>
                  <a:lnTo>
                    <a:pt x="261" y="57"/>
                  </a:lnTo>
                  <a:lnTo>
                    <a:pt x="276" y="52"/>
                  </a:lnTo>
                  <a:lnTo>
                    <a:pt x="291" y="48"/>
                  </a:lnTo>
                  <a:lnTo>
                    <a:pt x="306" y="46"/>
                  </a:lnTo>
                  <a:lnTo>
                    <a:pt x="322" y="44"/>
                  </a:lnTo>
                  <a:lnTo>
                    <a:pt x="339" y="43"/>
                  </a:lnTo>
                  <a:lnTo>
                    <a:pt x="354" y="43"/>
                  </a:lnTo>
                  <a:lnTo>
                    <a:pt x="370" y="43"/>
                  </a:lnTo>
                  <a:lnTo>
                    <a:pt x="386" y="44"/>
                  </a:lnTo>
                  <a:lnTo>
                    <a:pt x="402" y="46"/>
                  </a:lnTo>
                  <a:lnTo>
                    <a:pt x="417" y="48"/>
                  </a:lnTo>
                  <a:lnTo>
                    <a:pt x="433" y="52"/>
                  </a:lnTo>
                  <a:lnTo>
                    <a:pt x="447" y="57"/>
                  </a:lnTo>
                  <a:lnTo>
                    <a:pt x="462" y="61"/>
                  </a:lnTo>
                  <a:lnTo>
                    <a:pt x="476" y="66"/>
                  </a:lnTo>
                  <a:lnTo>
                    <a:pt x="490" y="73"/>
                  </a:lnTo>
                  <a:lnTo>
                    <a:pt x="503" y="79"/>
                  </a:lnTo>
                  <a:lnTo>
                    <a:pt x="516" y="87"/>
                  </a:lnTo>
                  <a:lnTo>
                    <a:pt x="529" y="95"/>
                  </a:lnTo>
                  <a:lnTo>
                    <a:pt x="542" y="104"/>
                  </a:lnTo>
                  <a:lnTo>
                    <a:pt x="552" y="114"/>
                  </a:lnTo>
                  <a:lnTo>
                    <a:pt x="564" y="124"/>
                  </a:lnTo>
                  <a:lnTo>
                    <a:pt x="575" y="133"/>
                  </a:lnTo>
                  <a:lnTo>
                    <a:pt x="586" y="144"/>
                  </a:lnTo>
                  <a:lnTo>
                    <a:pt x="596" y="156"/>
                  </a:lnTo>
                  <a:lnTo>
                    <a:pt x="604" y="168"/>
                  </a:lnTo>
                  <a:lnTo>
                    <a:pt x="613" y="180"/>
                  </a:lnTo>
                  <a:lnTo>
                    <a:pt x="622" y="193"/>
                  </a:lnTo>
                  <a:lnTo>
                    <a:pt x="629" y="206"/>
                  </a:lnTo>
                  <a:lnTo>
                    <a:pt x="636" y="219"/>
                  </a:lnTo>
                  <a:lnTo>
                    <a:pt x="642" y="233"/>
                  </a:lnTo>
                  <a:lnTo>
                    <a:pt x="648" y="247"/>
                  </a:lnTo>
                  <a:lnTo>
                    <a:pt x="653" y="262"/>
                  </a:lnTo>
                  <a:lnTo>
                    <a:pt x="657" y="276"/>
                  </a:lnTo>
                  <a:lnTo>
                    <a:pt x="661" y="291"/>
                  </a:lnTo>
                  <a:lnTo>
                    <a:pt x="663" y="307"/>
                  </a:lnTo>
                  <a:lnTo>
                    <a:pt x="665" y="322"/>
                  </a:lnTo>
                  <a:lnTo>
                    <a:pt x="666" y="338"/>
                  </a:lnTo>
                  <a:lnTo>
                    <a:pt x="667" y="355"/>
                  </a:lnTo>
                  <a:lnTo>
                    <a:pt x="667" y="364"/>
                  </a:lnTo>
                  <a:lnTo>
                    <a:pt x="666" y="375"/>
                  </a:lnTo>
                  <a:lnTo>
                    <a:pt x="665" y="386"/>
                  </a:lnTo>
                  <a:lnTo>
                    <a:pt x="664" y="396"/>
                  </a:lnTo>
                  <a:lnTo>
                    <a:pt x="663" y="405"/>
                  </a:lnTo>
                  <a:lnTo>
                    <a:pt x="661" y="416"/>
                  </a:lnTo>
                  <a:lnTo>
                    <a:pt x="658" y="426"/>
                  </a:lnTo>
                  <a:lnTo>
                    <a:pt x="656" y="436"/>
                  </a:lnTo>
                  <a:lnTo>
                    <a:pt x="696" y="446"/>
                  </a:lnTo>
                  <a:lnTo>
                    <a:pt x="699" y="436"/>
                  </a:lnTo>
                  <a:lnTo>
                    <a:pt x="702" y="424"/>
                  </a:lnTo>
                  <a:lnTo>
                    <a:pt x="704" y="413"/>
                  </a:lnTo>
                  <a:lnTo>
                    <a:pt x="705" y="401"/>
                  </a:lnTo>
                  <a:lnTo>
                    <a:pt x="707" y="390"/>
                  </a:lnTo>
                  <a:lnTo>
                    <a:pt x="708" y="378"/>
                  </a:lnTo>
                  <a:lnTo>
                    <a:pt x="708" y="367"/>
                  </a:lnTo>
                  <a:lnTo>
                    <a:pt x="708" y="355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441680" y="2865240"/>
              <a:ext cx="265320" cy="263520"/>
            </a:xfrm>
            <a:custGeom>
              <a:avLst/>
              <a:gdLst/>
              <a:ahLst/>
              <a:rect l="l" t="t" r="r" b="b"/>
              <a:pathLst>
                <a:path w="667" h="666">
                  <a:moveTo>
                    <a:pt x="667" y="334"/>
                  </a:moveTo>
                  <a:lnTo>
                    <a:pt x="667" y="316"/>
                  </a:lnTo>
                  <a:lnTo>
                    <a:pt x="664" y="299"/>
                  </a:lnTo>
                  <a:lnTo>
                    <a:pt x="662" y="283"/>
                  </a:lnTo>
                  <a:lnTo>
                    <a:pt x="660" y="267"/>
                  </a:lnTo>
                  <a:lnTo>
                    <a:pt x="656" y="251"/>
                  </a:lnTo>
                  <a:lnTo>
                    <a:pt x="651" y="234"/>
                  </a:lnTo>
                  <a:lnTo>
                    <a:pt x="646" y="219"/>
                  </a:lnTo>
                  <a:lnTo>
                    <a:pt x="641" y="204"/>
                  </a:lnTo>
                  <a:lnTo>
                    <a:pt x="634" y="189"/>
                  </a:lnTo>
                  <a:lnTo>
                    <a:pt x="627" y="175"/>
                  </a:lnTo>
                  <a:lnTo>
                    <a:pt x="618" y="161"/>
                  </a:lnTo>
                  <a:lnTo>
                    <a:pt x="609" y="147"/>
                  </a:lnTo>
                  <a:lnTo>
                    <a:pt x="601" y="134"/>
                  </a:lnTo>
                  <a:lnTo>
                    <a:pt x="591" y="122"/>
                  </a:lnTo>
                  <a:lnTo>
                    <a:pt x="580" y="109"/>
                  </a:lnTo>
                  <a:lnTo>
                    <a:pt x="569" y="98"/>
                  </a:lnTo>
                  <a:lnTo>
                    <a:pt x="557" y="86"/>
                  </a:lnTo>
                  <a:lnTo>
                    <a:pt x="546" y="77"/>
                  </a:lnTo>
                  <a:lnTo>
                    <a:pt x="533" y="67"/>
                  </a:lnTo>
                  <a:lnTo>
                    <a:pt x="520" y="57"/>
                  </a:lnTo>
                  <a:lnTo>
                    <a:pt x="506" y="49"/>
                  </a:lnTo>
                  <a:lnTo>
                    <a:pt x="493" y="40"/>
                  </a:lnTo>
                  <a:lnTo>
                    <a:pt x="477" y="33"/>
                  </a:lnTo>
                  <a:lnTo>
                    <a:pt x="463" y="26"/>
                  </a:lnTo>
                  <a:lnTo>
                    <a:pt x="448" y="20"/>
                  </a:lnTo>
                  <a:lnTo>
                    <a:pt x="432" y="15"/>
                  </a:lnTo>
                  <a:lnTo>
                    <a:pt x="417" y="11"/>
                  </a:lnTo>
                  <a:lnTo>
                    <a:pt x="401" y="8"/>
                  </a:lnTo>
                  <a:lnTo>
                    <a:pt x="383" y="4"/>
                  </a:lnTo>
                  <a:lnTo>
                    <a:pt x="367" y="2"/>
                  </a:lnTo>
                  <a:lnTo>
                    <a:pt x="350" y="1"/>
                  </a:lnTo>
                  <a:lnTo>
                    <a:pt x="333" y="0"/>
                  </a:lnTo>
                  <a:lnTo>
                    <a:pt x="316" y="1"/>
                  </a:lnTo>
                  <a:lnTo>
                    <a:pt x="299" y="2"/>
                  </a:lnTo>
                  <a:lnTo>
                    <a:pt x="282" y="4"/>
                  </a:lnTo>
                  <a:lnTo>
                    <a:pt x="266" y="8"/>
                  </a:lnTo>
                  <a:lnTo>
                    <a:pt x="249" y="11"/>
                  </a:lnTo>
                  <a:lnTo>
                    <a:pt x="234" y="15"/>
                  </a:lnTo>
                  <a:lnTo>
                    <a:pt x="218" y="20"/>
                  </a:lnTo>
                  <a:lnTo>
                    <a:pt x="203" y="26"/>
                  </a:lnTo>
                  <a:lnTo>
                    <a:pt x="189" y="33"/>
                  </a:lnTo>
                  <a:lnTo>
                    <a:pt x="174" y="40"/>
                  </a:lnTo>
                  <a:lnTo>
                    <a:pt x="161" y="49"/>
                  </a:lnTo>
                  <a:lnTo>
                    <a:pt x="147" y="57"/>
                  </a:lnTo>
                  <a:lnTo>
                    <a:pt x="134" y="67"/>
                  </a:lnTo>
                  <a:lnTo>
                    <a:pt x="121" y="77"/>
                  </a:lnTo>
                  <a:lnTo>
                    <a:pt x="109" y="86"/>
                  </a:lnTo>
                  <a:lnTo>
                    <a:pt x="97" y="98"/>
                  </a:lnTo>
                  <a:lnTo>
                    <a:pt x="86" y="109"/>
                  </a:lnTo>
                  <a:lnTo>
                    <a:pt x="75" y="122"/>
                  </a:lnTo>
                  <a:lnTo>
                    <a:pt x="66" y="134"/>
                  </a:lnTo>
                  <a:lnTo>
                    <a:pt x="57" y="147"/>
                  </a:lnTo>
                  <a:lnTo>
                    <a:pt x="48" y="161"/>
                  </a:lnTo>
                  <a:lnTo>
                    <a:pt x="40" y="175"/>
                  </a:lnTo>
                  <a:lnTo>
                    <a:pt x="32" y="189"/>
                  </a:lnTo>
                  <a:lnTo>
                    <a:pt x="26" y="204"/>
                  </a:lnTo>
                  <a:lnTo>
                    <a:pt x="20" y="219"/>
                  </a:lnTo>
                  <a:lnTo>
                    <a:pt x="15" y="234"/>
                  </a:lnTo>
                  <a:lnTo>
                    <a:pt x="11" y="251"/>
                  </a:lnTo>
                  <a:lnTo>
                    <a:pt x="6" y="267"/>
                  </a:lnTo>
                  <a:lnTo>
                    <a:pt x="4" y="283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0" y="334"/>
                  </a:lnTo>
                  <a:lnTo>
                    <a:pt x="0" y="351"/>
                  </a:lnTo>
                  <a:lnTo>
                    <a:pt x="2" y="367"/>
                  </a:lnTo>
                  <a:lnTo>
                    <a:pt x="4" y="384"/>
                  </a:lnTo>
                  <a:lnTo>
                    <a:pt x="6" y="401"/>
                  </a:lnTo>
                  <a:lnTo>
                    <a:pt x="11" y="417"/>
                  </a:lnTo>
                  <a:lnTo>
                    <a:pt x="15" y="432"/>
                  </a:lnTo>
                  <a:lnTo>
                    <a:pt x="20" y="448"/>
                  </a:lnTo>
                  <a:lnTo>
                    <a:pt x="26" y="463"/>
                  </a:lnTo>
                  <a:lnTo>
                    <a:pt x="32" y="478"/>
                  </a:lnTo>
                  <a:lnTo>
                    <a:pt x="40" y="492"/>
                  </a:lnTo>
                  <a:lnTo>
                    <a:pt x="48" y="506"/>
                  </a:lnTo>
                  <a:lnTo>
                    <a:pt x="57" y="519"/>
                  </a:lnTo>
                  <a:lnTo>
                    <a:pt x="66" y="532"/>
                  </a:lnTo>
                  <a:lnTo>
                    <a:pt x="75" y="545"/>
                  </a:lnTo>
                  <a:lnTo>
                    <a:pt x="86" y="557"/>
                  </a:lnTo>
                  <a:lnTo>
                    <a:pt x="97" y="569"/>
                  </a:lnTo>
                  <a:lnTo>
                    <a:pt x="109" y="580"/>
                  </a:lnTo>
                  <a:lnTo>
                    <a:pt x="121" y="591"/>
                  </a:lnTo>
                  <a:lnTo>
                    <a:pt x="134" y="600"/>
                  </a:lnTo>
                  <a:lnTo>
                    <a:pt x="147" y="610"/>
                  </a:lnTo>
                  <a:lnTo>
                    <a:pt x="161" y="619"/>
                  </a:lnTo>
                  <a:lnTo>
                    <a:pt x="174" y="626"/>
                  </a:lnTo>
                  <a:lnTo>
                    <a:pt x="189" y="634"/>
                  </a:lnTo>
                  <a:lnTo>
                    <a:pt x="203" y="640"/>
                  </a:lnTo>
                  <a:lnTo>
                    <a:pt x="218" y="647"/>
                  </a:lnTo>
                  <a:lnTo>
                    <a:pt x="234" y="651"/>
                  </a:lnTo>
                  <a:lnTo>
                    <a:pt x="249" y="657"/>
                  </a:lnTo>
                  <a:lnTo>
                    <a:pt x="266" y="660"/>
                  </a:lnTo>
                  <a:lnTo>
                    <a:pt x="282" y="663"/>
                  </a:lnTo>
                  <a:lnTo>
                    <a:pt x="299" y="665"/>
                  </a:lnTo>
                  <a:lnTo>
                    <a:pt x="316" y="666"/>
                  </a:lnTo>
                  <a:lnTo>
                    <a:pt x="333" y="666"/>
                  </a:lnTo>
                  <a:lnTo>
                    <a:pt x="353" y="666"/>
                  </a:lnTo>
                  <a:lnTo>
                    <a:pt x="372" y="664"/>
                  </a:lnTo>
                  <a:lnTo>
                    <a:pt x="391" y="662"/>
                  </a:lnTo>
                  <a:lnTo>
                    <a:pt x="409" y="658"/>
                  </a:lnTo>
                  <a:lnTo>
                    <a:pt x="428" y="653"/>
                  </a:lnTo>
                  <a:lnTo>
                    <a:pt x="445" y="647"/>
                  </a:lnTo>
                  <a:lnTo>
                    <a:pt x="462" y="640"/>
                  </a:lnTo>
                  <a:lnTo>
                    <a:pt x="480" y="633"/>
                  </a:lnTo>
                  <a:lnTo>
                    <a:pt x="461" y="595"/>
                  </a:lnTo>
                  <a:lnTo>
                    <a:pt x="446" y="603"/>
                  </a:lnTo>
                  <a:lnTo>
                    <a:pt x="431" y="608"/>
                  </a:lnTo>
                  <a:lnTo>
                    <a:pt x="416" y="613"/>
                  </a:lnTo>
                  <a:lnTo>
                    <a:pt x="400" y="618"/>
                  </a:lnTo>
                  <a:lnTo>
                    <a:pt x="383" y="621"/>
                  </a:lnTo>
                  <a:lnTo>
                    <a:pt x="367" y="623"/>
                  </a:lnTo>
                  <a:lnTo>
                    <a:pt x="350" y="624"/>
                  </a:lnTo>
                  <a:lnTo>
                    <a:pt x="333" y="625"/>
                  </a:lnTo>
                  <a:lnTo>
                    <a:pt x="319" y="624"/>
                  </a:lnTo>
                  <a:lnTo>
                    <a:pt x="303" y="623"/>
                  </a:lnTo>
                  <a:lnTo>
                    <a:pt x="288" y="622"/>
                  </a:lnTo>
                  <a:lnTo>
                    <a:pt x="274" y="619"/>
                  </a:lnTo>
                  <a:lnTo>
                    <a:pt x="260" y="616"/>
                  </a:lnTo>
                  <a:lnTo>
                    <a:pt x="246" y="612"/>
                  </a:lnTo>
                  <a:lnTo>
                    <a:pt x="233" y="607"/>
                  </a:lnTo>
                  <a:lnTo>
                    <a:pt x="219" y="602"/>
                  </a:lnTo>
                  <a:lnTo>
                    <a:pt x="206" y="596"/>
                  </a:lnTo>
                  <a:lnTo>
                    <a:pt x="194" y="590"/>
                  </a:lnTo>
                  <a:lnTo>
                    <a:pt x="182" y="583"/>
                  </a:lnTo>
                  <a:lnTo>
                    <a:pt x="171" y="576"/>
                  </a:lnTo>
                  <a:lnTo>
                    <a:pt x="159" y="567"/>
                  </a:lnTo>
                  <a:lnTo>
                    <a:pt x="148" y="558"/>
                  </a:lnTo>
                  <a:lnTo>
                    <a:pt x="137" y="550"/>
                  </a:lnTo>
                  <a:lnTo>
                    <a:pt x="127" y="540"/>
                  </a:lnTo>
                  <a:lnTo>
                    <a:pt x="118" y="529"/>
                  </a:lnTo>
                  <a:lnTo>
                    <a:pt x="108" y="518"/>
                  </a:lnTo>
                  <a:lnTo>
                    <a:pt x="99" y="508"/>
                  </a:lnTo>
                  <a:lnTo>
                    <a:pt x="92" y="497"/>
                  </a:lnTo>
                  <a:lnTo>
                    <a:pt x="84" y="485"/>
                  </a:lnTo>
                  <a:lnTo>
                    <a:pt x="77" y="472"/>
                  </a:lnTo>
                  <a:lnTo>
                    <a:pt x="70" y="460"/>
                  </a:lnTo>
                  <a:lnTo>
                    <a:pt x="65" y="447"/>
                  </a:lnTo>
                  <a:lnTo>
                    <a:pt x="59" y="434"/>
                  </a:lnTo>
                  <a:lnTo>
                    <a:pt x="55" y="420"/>
                  </a:lnTo>
                  <a:lnTo>
                    <a:pt x="51" y="406"/>
                  </a:lnTo>
                  <a:lnTo>
                    <a:pt x="47" y="392"/>
                  </a:lnTo>
                  <a:lnTo>
                    <a:pt x="45" y="378"/>
                  </a:lnTo>
                  <a:lnTo>
                    <a:pt x="43" y="363"/>
                  </a:lnTo>
                  <a:lnTo>
                    <a:pt x="42" y="349"/>
                  </a:lnTo>
                  <a:lnTo>
                    <a:pt x="42" y="334"/>
                  </a:lnTo>
                  <a:lnTo>
                    <a:pt x="42" y="319"/>
                  </a:lnTo>
                  <a:lnTo>
                    <a:pt x="43" y="303"/>
                  </a:lnTo>
                  <a:lnTo>
                    <a:pt x="45" y="289"/>
                  </a:lnTo>
                  <a:lnTo>
                    <a:pt x="47" y="274"/>
                  </a:lnTo>
                  <a:lnTo>
                    <a:pt x="51" y="260"/>
                  </a:lnTo>
                  <a:lnTo>
                    <a:pt x="55" y="246"/>
                  </a:lnTo>
                  <a:lnTo>
                    <a:pt x="59" y="233"/>
                  </a:lnTo>
                  <a:lnTo>
                    <a:pt x="65" y="220"/>
                  </a:lnTo>
                  <a:lnTo>
                    <a:pt x="70" y="207"/>
                  </a:lnTo>
                  <a:lnTo>
                    <a:pt x="77" y="194"/>
                  </a:lnTo>
                  <a:lnTo>
                    <a:pt x="84" y="182"/>
                  </a:lnTo>
                  <a:lnTo>
                    <a:pt x="92" y="171"/>
                  </a:lnTo>
                  <a:lnTo>
                    <a:pt x="99" y="159"/>
                  </a:lnTo>
                  <a:lnTo>
                    <a:pt x="108" y="148"/>
                  </a:lnTo>
                  <a:lnTo>
                    <a:pt x="118" y="137"/>
                  </a:lnTo>
                  <a:lnTo>
                    <a:pt x="127" y="127"/>
                  </a:lnTo>
                  <a:lnTo>
                    <a:pt x="137" y="118"/>
                  </a:lnTo>
                  <a:lnTo>
                    <a:pt x="148" y="108"/>
                  </a:lnTo>
                  <a:lnTo>
                    <a:pt x="159" y="99"/>
                  </a:lnTo>
                  <a:lnTo>
                    <a:pt x="171" y="92"/>
                  </a:lnTo>
                  <a:lnTo>
                    <a:pt x="182" y="84"/>
                  </a:lnTo>
                  <a:lnTo>
                    <a:pt x="194" y="77"/>
                  </a:lnTo>
                  <a:lnTo>
                    <a:pt x="206" y="70"/>
                  </a:lnTo>
                  <a:lnTo>
                    <a:pt x="219" y="65"/>
                  </a:lnTo>
                  <a:lnTo>
                    <a:pt x="233" y="59"/>
                  </a:lnTo>
                  <a:lnTo>
                    <a:pt x="246" y="55"/>
                  </a:lnTo>
                  <a:lnTo>
                    <a:pt x="260" y="51"/>
                  </a:lnTo>
                  <a:lnTo>
                    <a:pt x="274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9" y="42"/>
                  </a:lnTo>
                  <a:lnTo>
                    <a:pt x="333" y="42"/>
                  </a:lnTo>
                  <a:lnTo>
                    <a:pt x="348" y="42"/>
                  </a:lnTo>
                  <a:lnTo>
                    <a:pt x="363" y="43"/>
                  </a:lnTo>
                  <a:lnTo>
                    <a:pt x="378" y="45"/>
                  </a:lnTo>
                  <a:lnTo>
                    <a:pt x="392" y="47"/>
                  </a:lnTo>
                  <a:lnTo>
                    <a:pt x="406" y="51"/>
                  </a:lnTo>
                  <a:lnTo>
                    <a:pt x="420" y="55"/>
                  </a:lnTo>
                  <a:lnTo>
                    <a:pt x="433" y="59"/>
                  </a:lnTo>
                  <a:lnTo>
                    <a:pt x="447" y="65"/>
                  </a:lnTo>
                  <a:lnTo>
                    <a:pt x="459" y="70"/>
                  </a:lnTo>
                  <a:lnTo>
                    <a:pt x="472" y="77"/>
                  </a:lnTo>
                  <a:lnTo>
                    <a:pt x="484" y="84"/>
                  </a:lnTo>
                  <a:lnTo>
                    <a:pt x="496" y="92"/>
                  </a:lnTo>
                  <a:lnTo>
                    <a:pt x="508" y="99"/>
                  </a:lnTo>
                  <a:lnTo>
                    <a:pt x="518" y="108"/>
                  </a:lnTo>
                  <a:lnTo>
                    <a:pt x="529" y="118"/>
                  </a:lnTo>
                  <a:lnTo>
                    <a:pt x="539" y="127"/>
                  </a:lnTo>
                  <a:lnTo>
                    <a:pt x="549" y="137"/>
                  </a:lnTo>
                  <a:lnTo>
                    <a:pt x="558" y="148"/>
                  </a:lnTo>
                  <a:lnTo>
                    <a:pt x="567" y="159"/>
                  </a:lnTo>
                  <a:lnTo>
                    <a:pt x="575" y="171"/>
                  </a:lnTo>
                  <a:lnTo>
                    <a:pt x="582" y="182"/>
                  </a:lnTo>
                  <a:lnTo>
                    <a:pt x="590" y="194"/>
                  </a:lnTo>
                  <a:lnTo>
                    <a:pt x="596" y="207"/>
                  </a:lnTo>
                  <a:lnTo>
                    <a:pt x="602" y="220"/>
                  </a:lnTo>
                  <a:lnTo>
                    <a:pt x="607" y="233"/>
                  </a:lnTo>
                  <a:lnTo>
                    <a:pt x="611" y="246"/>
                  </a:lnTo>
                  <a:lnTo>
                    <a:pt x="616" y="260"/>
                  </a:lnTo>
                  <a:lnTo>
                    <a:pt x="619" y="274"/>
                  </a:lnTo>
                  <a:lnTo>
                    <a:pt x="621" y="289"/>
                  </a:lnTo>
                  <a:lnTo>
                    <a:pt x="623" y="303"/>
                  </a:lnTo>
                  <a:lnTo>
                    <a:pt x="624" y="319"/>
                  </a:lnTo>
                  <a:lnTo>
                    <a:pt x="624" y="334"/>
                  </a:lnTo>
                  <a:lnTo>
                    <a:pt x="624" y="343"/>
                  </a:lnTo>
                  <a:lnTo>
                    <a:pt x="624" y="353"/>
                  </a:lnTo>
                  <a:lnTo>
                    <a:pt x="623" y="363"/>
                  </a:lnTo>
                  <a:lnTo>
                    <a:pt x="622" y="373"/>
                  </a:lnTo>
                  <a:lnTo>
                    <a:pt x="621" y="381"/>
                  </a:lnTo>
                  <a:lnTo>
                    <a:pt x="619" y="391"/>
                  </a:lnTo>
                  <a:lnTo>
                    <a:pt x="617" y="400"/>
                  </a:lnTo>
                  <a:lnTo>
                    <a:pt x="615" y="409"/>
                  </a:lnTo>
                  <a:lnTo>
                    <a:pt x="655" y="420"/>
                  </a:lnTo>
                  <a:lnTo>
                    <a:pt x="658" y="409"/>
                  </a:lnTo>
                  <a:lnTo>
                    <a:pt x="660" y="400"/>
                  </a:lnTo>
                  <a:lnTo>
                    <a:pt x="662" y="389"/>
                  </a:lnTo>
                  <a:lnTo>
                    <a:pt x="663" y="378"/>
                  </a:lnTo>
                  <a:lnTo>
                    <a:pt x="664" y="367"/>
                  </a:lnTo>
                  <a:lnTo>
                    <a:pt x="665" y="355"/>
                  </a:lnTo>
                  <a:lnTo>
                    <a:pt x="667" y="344"/>
                  </a:lnTo>
                  <a:lnTo>
                    <a:pt x="667" y="334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449600" y="2873160"/>
              <a:ext cx="249480" cy="247680"/>
            </a:xfrm>
            <a:custGeom>
              <a:avLst/>
              <a:gdLst/>
              <a:ahLst/>
              <a:rect l="l" t="t" r="r" b="b"/>
              <a:pathLst>
                <a:path w="626" h="624">
                  <a:moveTo>
                    <a:pt x="626" y="312"/>
                  </a:moveTo>
                  <a:lnTo>
                    <a:pt x="625" y="295"/>
                  </a:lnTo>
                  <a:lnTo>
                    <a:pt x="624" y="279"/>
                  </a:lnTo>
                  <a:lnTo>
                    <a:pt x="622" y="264"/>
                  </a:lnTo>
                  <a:lnTo>
                    <a:pt x="620" y="248"/>
                  </a:lnTo>
                  <a:lnTo>
                    <a:pt x="616" y="233"/>
                  </a:lnTo>
                  <a:lnTo>
                    <a:pt x="612" y="219"/>
                  </a:lnTo>
                  <a:lnTo>
                    <a:pt x="607" y="204"/>
                  </a:lnTo>
                  <a:lnTo>
                    <a:pt x="601" y="190"/>
                  </a:lnTo>
                  <a:lnTo>
                    <a:pt x="595" y="176"/>
                  </a:lnTo>
                  <a:lnTo>
                    <a:pt x="588" y="163"/>
                  </a:lnTo>
                  <a:lnTo>
                    <a:pt x="581" y="150"/>
                  </a:lnTo>
                  <a:lnTo>
                    <a:pt x="572" y="137"/>
                  </a:lnTo>
                  <a:lnTo>
                    <a:pt x="563" y="125"/>
                  </a:lnTo>
                  <a:lnTo>
                    <a:pt x="555" y="113"/>
                  </a:lnTo>
                  <a:lnTo>
                    <a:pt x="545" y="101"/>
                  </a:lnTo>
                  <a:lnTo>
                    <a:pt x="534" y="90"/>
                  </a:lnTo>
                  <a:lnTo>
                    <a:pt x="523" y="81"/>
                  </a:lnTo>
                  <a:lnTo>
                    <a:pt x="511" y="71"/>
                  </a:lnTo>
                  <a:lnTo>
                    <a:pt x="501" y="61"/>
                  </a:lnTo>
                  <a:lnTo>
                    <a:pt x="488" y="52"/>
                  </a:lnTo>
                  <a:lnTo>
                    <a:pt x="475" y="44"/>
                  </a:lnTo>
                  <a:lnTo>
                    <a:pt x="462" y="36"/>
                  </a:lnTo>
                  <a:lnTo>
                    <a:pt x="449" y="30"/>
                  </a:lnTo>
                  <a:lnTo>
                    <a:pt x="435" y="23"/>
                  </a:lnTo>
                  <a:lnTo>
                    <a:pt x="421" y="18"/>
                  </a:lnTo>
                  <a:lnTo>
                    <a:pt x="406" y="14"/>
                  </a:lnTo>
                  <a:lnTo>
                    <a:pt x="392" y="9"/>
                  </a:lnTo>
                  <a:lnTo>
                    <a:pt x="376" y="5"/>
                  </a:lnTo>
                  <a:lnTo>
                    <a:pt x="361" y="3"/>
                  </a:lnTo>
                  <a:lnTo>
                    <a:pt x="345" y="1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298" y="0"/>
                  </a:lnTo>
                  <a:lnTo>
                    <a:pt x="281" y="1"/>
                  </a:lnTo>
                  <a:lnTo>
                    <a:pt x="265" y="3"/>
                  </a:lnTo>
                  <a:lnTo>
                    <a:pt x="250" y="5"/>
                  </a:lnTo>
                  <a:lnTo>
                    <a:pt x="235" y="9"/>
                  </a:lnTo>
                  <a:lnTo>
                    <a:pt x="220" y="14"/>
                  </a:lnTo>
                  <a:lnTo>
                    <a:pt x="206" y="18"/>
                  </a:lnTo>
                  <a:lnTo>
                    <a:pt x="192" y="23"/>
                  </a:lnTo>
                  <a:lnTo>
                    <a:pt x="178" y="30"/>
                  </a:lnTo>
                  <a:lnTo>
                    <a:pt x="165" y="36"/>
                  </a:lnTo>
                  <a:lnTo>
                    <a:pt x="152" y="44"/>
                  </a:lnTo>
                  <a:lnTo>
                    <a:pt x="139" y="52"/>
                  </a:lnTo>
                  <a:lnTo>
                    <a:pt x="126" y="61"/>
                  </a:lnTo>
                  <a:lnTo>
                    <a:pt x="115" y="71"/>
                  </a:lnTo>
                  <a:lnTo>
                    <a:pt x="103" y="81"/>
                  </a:lnTo>
                  <a:lnTo>
                    <a:pt x="92" y="90"/>
                  </a:lnTo>
                  <a:lnTo>
                    <a:pt x="81" y="101"/>
                  </a:lnTo>
                  <a:lnTo>
                    <a:pt x="72" y="113"/>
                  </a:lnTo>
                  <a:lnTo>
                    <a:pt x="63" y="125"/>
                  </a:lnTo>
                  <a:lnTo>
                    <a:pt x="54" y="137"/>
                  </a:lnTo>
                  <a:lnTo>
                    <a:pt x="46" y="150"/>
                  </a:lnTo>
                  <a:lnTo>
                    <a:pt x="38" y="163"/>
                  </a:lnTo>
                  <a:lnTo>
                    <a:pt x="32" y="176"/>
                  </a:lnTo>
                  <a:lnTo>
                    <a:pt x="25" y="190"/>
                  </a:lnTo>
                  <a:lnTo>
                    <a:pt x="20" y="204"/>
                  </a:lnTo>
                  <a:lnTo>
                    <a:pt x="14" y="219"/>
                  </a:lnTo>
                  <a:lnTo>
                    <a:pt x="10" y="233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9"/>
                  </a:lnTo>
                  <a:lnTo>
                    <a:pt x="1" y="295"/>
                  </a:lnTo>
                  <a:lnTo>
                    <a:pt x="0" y="312"/>
                  </a:lnTo>
                  <a:lnTo>
                    <a:pt x="1" y="328"/>
                  </a:lnTo>
                  <a:lnTo>
                    <a:pt x="3" y="343"/>
                  </a:lnTo>
                  <a:lnTo>
                    <a:pt x="5" y="359"/>
                  </a:lnTo>
                  <a:lnTo>
                    <a:pt x="7" y="374"/>
                  </a:lnTo>
                  <a:lnTo>
                    <a:pt x="10" y="389"/>
                  </a:lnTo>
                  <a:lnTo>
                    <a:pt x="14" y="405"/>
                  </a:lnTo>
                  <a:lnTo>
                    <a:pt x="20" y="419"/>
                  </a:lnTo>
                  <a:lnTo>
                    <a:pt x="25" y="433"/>
                  </a:lnTo>
                  <a:lnTo>
                    <a:pt x="32" y="447"/>
                  </a:lnTo>
                  <a:lnTo>
                    <a:pt x="38" y="461"/>
                  </a:lnTo>
                  <a:lnTo>
                    <a:pt x="46" y="474"/>
                  </a:lnTo>
                  <a:lnTo>
                    <a:pt x="54" y="486"/>
                  </a:lnTo>
                  <a:lnTo>
                    <a:pt x="63" y="499"/>
                  </a:lnTo>
                  <a:lnTo>
                    <a:pt x="72" y="510"/>
                  </a:lnTo>
                  <a:lnTo>
                    <a:pt x="81" y="521"/>
                  </a:lnTo>
                  <a:lnTo>
                    <a:pt x="92" y="532"/>
                  </a:lnTo>
                  <a:lnTo>
                    <a:pt x="103" y="543"/>
                  </a:lnTo>
                  <a:lnTo>
                    <a:pt x="115" y="553"/>
                  </a:lnTo>
                  <a:lnTo>
                    <a:pt x="126" y="562"/>
                  </a:lnTo>
                  <a:lnTo>
                    <a:pt x="139" y="571"/>
                  </a:lnTo>
                  <a:lnTo>
                    <a:pt x="152" y="578"/>
                  </a:lnTo>
                  <a:lnTo>
                    <a:pt x="165" y="586"/>
                  </a:lnTo>
                  <a:lnTo>
                    <a:pt x="178" y="592"/>
                  </a:lnTo>
                  <a:lnTo>
                    <a:pt x="192" y="599"/>
                  </a:lnTo>
                  <a:lnTo>
                    <a:pt x="206" y="604"/>
                  </a:lnTo>
                  <a:lnTo>
                    <a:pt x="220" y="610"/>
                  </a:lnTo>
                  <a:lnTo>
                    <a:pt x="235" y="614"/>
                  </a:lnTo>
                  <a:lnTo>
                    <a:pt x="250" y="617"/>
                  </a:lnTo>
                  <a:lnTo>
                    <a:pt x="265" y="621"/>
                  </a:lnTo>
                  <a:lnTo>
                    <a:pt x="281" y="622"/>
                  </a:lnTo>
                  <a:lnTo>
                    <a:pt x="298" y="624"/>
                  </a:lnTo>
                  <a:lnTo>
                    <a:pt x="313" y="624"/>
                  </a:lnTo>
                  <a:lnTo>
                    <a:pt x="331" y="623"/>
                  </a:lnTo>
                  <a:lnTo>
                    <a:pt x="349" y="622"/>
                  </a:lnTo>
                  <a:lnTo>
                    <a:pt x="367" y="619"/>
                  </a:lnTo>
                  <a:lnTo>
                    <a:pt x="385" y="615"/>
                  </a:lnTo>
                  <a:lnTo>
                    <a:pt x="401" y="611"/>
                  </a:lnTo>
                  <a:lnTo>
                    <a:pt x="419" y="605"/>
                  </a:lnTo>
                  <a:lnTo>
                    <a:pt x="435" y="599"/>
                  </a:lnTo>
                  <a:lnTo>
                    <a:pt x="450" y="592"/>
                  </a:lnTo>
                  <a:lnTo>
                    <a:pt x="432" y="555"/>
                  </a:lnTo>
                  <a:lnTo>
                    <a:pt x="419" y="561"/>
                  </a:lnTo>
                  <a:lnTo>
                    <a:pt x="404" y="567"/>
                  </a:lnTo>
                  <a:lnTo>
                    <a:pt x="389" y="571"/>
                  </a:lnTo>
                  <a:lnTo>
                    <a:pt x="375" y="575"/>
                  </a:lnTo>
                  <a:lnTo>
                    <a:pt x="360" y="578"/>
                  </a:lnTo>
                  <a:lnTo>
                    <a:pt x="345" y="581"/>
                  </a:lnTo>
                  <a:lnTo>
                    <a:pt x="329" y="582"/>
                  </a:lnTo>
                  <a:lnTo>
                    <a:pt x="313" y="582"/>
                  </a:lnTo>
                  <a:lnTo>
                    <a:pt x="300" y="582"/>
                  </a:lnTo>
                  <a:lnTo>
                    <a:pt x="286" y="581"/>
                  </a:lnTo>
                  <a:lnTo>
                    <a:pt x="272" y="580"/>
                  </a:lnTo>
                  <a:lnTo>
                    <a:pt x="259" y="576"/>
                  </a:lnTo>
                  <a:lnTo>
                    <a:pt x="246" y="574"/>
                  </a:lnTo>
                  <a:lnTo>
                    <a:pt x="233" y="570"/>
                  </a:lnTo>
                  <a:lnTo>
                    <a:pt x="220" y="565"/>
                  </a:lnTo>
                  <a:lnTo>
                    <a:pt x="208" y="561"/>
                  </a:lnTo>
                  <a:lnTo>
                    <a:pt x="196" y="556"/>
                  </a:lnTo>
                  <a:lnTo>
                    <a:pt x="184" y="549"/>
                  </a:lnTo>
                  <a:lnTo>
                    <a:pt x="173" y="543"/>
                  </a:lnTo>
                  <a:lnTo>
                    <a:pt x="161" y="536"/>
                  </a:lnTo>
                  <a:lnTo>
                    <a:pt x="152" y="529"/>
                  </a:lnTo>
                  <a:lnTo>
                    <a:pt x="141" y="520"/>
                  </a:lnTo>
                  <a:lnTo>
                    <a:pt x="131" y="511"/>
                  </a:lnTo>
                  <a:lnTo>
                    <a:pt x="121" y="503"/>
                  </a:lnTo>
                  <a:lnTo>
                    <a:pt x="113" y="493"/>
                  </a:lnTo>
                  <a:lnTo>
                    <a:pt x="104" y="483"/>
                  </a:lnTo>
                  <a:lnTo>
                    <a:pt x="97" y="474"/>
                  </a:lnTo>
                  <a:lnTo>
                    <a:pt x="89" y="463"/>
                  </a:lnTo>
                  <a:lnTo>
                    <a:pt x="81" y="452"/>
                  </a:lnTo>
                  <a:lnTo>
                    <a:pt x="75" y="440"/>
                  </a:lnTo>
                  <a:lnTo>
                    <a:pt x="70" y="428"/>
                  </a:lnTo>
                  <a:lnTo>
                    <a:pt x="64" y="416"/>
                  </a:lnTo>
                  <a:lnTo>
                    <a:pt x="59" y="405"/>
                  </a:lnTo>
                  <a:lnTo>
                    <a:pt x="54" y="392"/>
                  </a:lnTo>
                  <a:lnTo>
                    <a:pt x="51" y="379"/>
                  </a:lnTo>
                  <a:lnTo>
                    <a:pt x="48" y="366"/>
                  </a:lnTo>
                  <a:lnTo>
                    <a:pt x="46" y="353"/>
                  </a:lnTo>
                  <a:lnTo>
                    <a:pt x="44" y="339"/>
                  </a:lnTo>
                  <a:lnTo>
                    <a:pt x="43" y="326"/>
                  </a:lnTo>
                  <a:lnTo>
                    <a:pt x="43" y="312"/>
                  </a:lnTo>
                  <a:lnTo>
                    <a:pt x="43" y="298"/>
                  </a:lnTo>
                  <a:lnTo>
                    <a:pt x="44" y="284"/>
                  </a:lnTo>
                  <a:lnTo>
                    <a:pt x="46" y="271"/>
                  </a:lnTo>
                  <a:lnTo>
                    <a:pt x="48" y="257"/>
                  </a:lnTo>
                  <a:lnTo>
                    <a:pt x="51" y="244"/>
                  </a:lnTo>
                  <a:lnTo>
                    <a:pt x="54" y="231"/>
                  </a:lnTo>
                  <a:lnTo>
                    <a:pt x="59" y="219"/>
                  </a:lnTo>
                  <a:lnTo>
                    <a:pt x="64" y="206"/>
                  </a:lnTo>
                  <a:lnTo>
                    <a:pt x="70" y="194"/>
                  </a:lnTo>
                  <a:lnTo>
                    <a:pt x="75" y="182"/>
                  </a:lnTo>
                  <a:lnTo>
                    <a:pt x="81" y="171"/>
                  </a:lnTo>
                  <a:lnTo>
                    <a:pt x="89" y="160"/>
                  </a:lnTo>
                  <a:lnTo>
                    <a:pt x="97" y="150"/>
                  </a:lnTo>
                  <a:lnTo>
                    <a:pt x="104" y="139"/>
                  </a:lnTo>
                  <a:lnTo>
                    <a:pt x="113" y="129"/>
                  </a:lnTo>
                  <a:lnTo>
                    <a:pt x="121" y="121"/>
                  </a:lnTo>
                  <a:lnTo>
                    <a:pt x="131" y="111"/>
                  </a:lnTo>
                  <a:lnTo>
                    <a:pt x="141" y="102"/>
                  </a:lnTo>
                  <a:lnTo>
                    <a:pt x="152" y="95"/>
                  </a:lnTo>
                  <a:lnTo>
                    <a:pt x="161" y="87"/>
                  </a:lnTo>
                  <a:lnTo>
                    <a:pt x="173" y="79"/>
                  </a:lnTo>
                  <a:lnTo>
                    <a:pt x="184" y="73"/>
                  </a:lnTo>
                  <a:lnTo>
                    <a:pt x="196" y="68"/>
                  </a:lnTo>
                  <a:lnTo>
                    <a:pt x="208" y="62"/>
                  </a:lnTo>
                  <a:lnTo>
                    <a:pt x="220" y="57"/>
                  </a:lnTo>
                  <a:lnTo>
                    <a:pt x="233" y="52"/>
                  </a:lnTo>
                  <a:lnTo>
                    <a:pt x="246" y="49"/>
                  </a:lnTo>
                  <a:lnTo>
                    <a:pt x="259" y="46"/>
                  </a:lnTo>
                  <a:lnTo>
                    <a:pt x="272" y="44"/>
                  </a:lnTo>
                  <a:lnTo>
                    <a:pt x="286" y="42"/>
                  </a:lnTo>
                  <a:lnTo>
                    <a:pt x="300" y="41"/>
                  </a:lnTo>
                  <a:lnTo>
                    <a:pt x="313" y="41"/>
                  </a:lnTo>
                  <a:lnTo>
                    <a:pt x="327" y="41"/>
                  </a:lnTo>
                  <a:lnTo>
                    <a:pt x="341" y="42"/>
                  </a:lnTo>
                  <a:lnTo>
                    <a:pt x="355" y="44"/>
                  </a:lnTo>
                  <a:lnTo>
                    <a:pt x="368" y="46"/>
                  </a:lnTo>
                  <a:lnTo>
                    <a:pt x="381" y="49"/>
                  </a:lnTo>
                  <a:lnTo>
                    <a:pt x="394" y="52"/>
                  </a:lnTo>
                  <a:lnTo>
                    <a:pt x="407" y="57"/>
                  </a:lnTo>
                  <a:lnTo>
                    <a:pt x="419" y="62"/>
                  </a:lnTo>
                  <a:lnTo>
                    <a:pt x="430" y="68"/>
                  </a:lnTo>
                  <a:lnTo>
                    <a:pt x="442" y="73"/>
                  </a:lnTo>
                  <a:lnTo>
                    <a:pt x="453" y="79"/>
                  </a:lnTo>
                  <a:lnTo>
                    <a:pt x="465" y="87"/>
                  </a:lnTo>
                  <a:lnTo>
                    <a:pt x="475" y="95"/>
                  </a:lnTo>
                  <a:lnTo>
                    <a:pt x="486" y="102"/>
                  </a:lnTo>
                  <a:lnTo>
                    <a:pt x="495" y="111"/>
                  </a:lnTo>
                  <a:lnTo>
                    <a:pt x="505" y="121"/>
                  </a:lnTo>
                  <a:lnTo>
                    <a:pt x="514" y="129"/>
                  </a:lnTo>
                  <a:lnTo>
                    <a:pt x="522" y="139"/>
                  </a:lnTo>
                  <a:lnTo>
                    <a:pt x="530" y="150"/>
                  </a:lnTo>
                  <a:lnTo>
                    <a:pt x="537" y="160"/>
                  </a:lnTo>
                  <a:lnTo>
                    <a:pt x="545" y="171"/>
                  </a:lnTo>
                  <a:lnTo>
                    <a:pt x="551" y="182"/>
                  </a:lnTo>
                  <a:lnTo>
                    <a:pt x="557" y="194"/>
                  </a:lnTo>
                  <a:lnTo>
                    <a:pt x="562" y="206"/>
                  </a:lnTo>
                  <a:lnTo>
                    <a:pt x="568" y="219"/>
                  </a:lnTo>
                  <a:lnTo>
                    <a:pt x="572" y="231"/>
                  </a:lnTo>
                  <a:lnTo>
                    <a:pt x="575" y="244"/>
                  </a:lnTo>
                  <a:lnTo>
                    <a:pt x="578" y="257"/>
                  </a:lnTo>
                  <a:lnTo>
                    <a:pt x="581" y="271"/>
                  </a:lnTo>
                  <a:lnTo>
                    <a:pt x="583" y="284"/>
                  </a:lnTo>
                  <a:lnTo>
                    <a:pt x="584" y="298"/>
                  </a:lnTo>
                  <a:lnTo>
                    <a:pt x="584" y="312"/>
                  </a:lnTo>
                  <a:lnTo>
                    <a:pt x="584" y="320"/>
                  </a:lnTo>
                  <a:lnTo>
                    <a:pt x="584" y="330"/>
                  </a:lnTo>
                  <a:lnTo>
                    <a:pt x="583" y="339"/>
                  </a:lnTo>
                  <a:lnTo>
                    <a:pt x="582" y="347"/>
                  </a:lnTo>
                  <a:lnTo>
                    <a:pt x="581" y="356"/>
                  </a:lnTo>
                  <a:lnTo>
                    <a:pt x="578" y="365"/>
                  </a:lnTo>
                  <a:lnTo>
                    <a:pt x="577" y="373"/>
                  </a:lnTo>
                  <a:lnTo>
                    <a:pt x="575" y="382"/>
                  </a:lnTo>
                  <a:lnTo>
                    <a:pt x="615" y="393"/>
                  </a:lnTo>
                  <a:lnTo>
                    <a:pt x="617" y="383"/>
                  </a:lnTo>
                  <a:lnTo>
                    <a:pt x="620" y="373"/>
                  </a:lnTo>
                  <a:lnTo>
                    <a:pt x="622" y="362"/>
                  </a:lnTo>
                  <a:lnTo>
                    <a:pt x="623" y="353"/>
                  </a:lnTo>
                  <a:lnTo>
                    <a:pt x="624" y="343"/>
                  </a:lnTo>
                  <a:lnTo>
                    <a:pt x="625" y="332"/>
                  </a:lnTo>
                  <a:lnTo>
                    <a:pt x="626" y="321"/>
                  </a:lnTo>
                  <a:lnTo>
                    <a:pt x="626" y="31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457880" y="2881440"/>
              <a:ext cx="231480" cy="231480"/>
            </a:xfrm>
            <a:custGeom>
              <a:avLst/>
              <a:gdLst/>
              <a:ahLst/>
              <a:rect l="l" t="t" r="r" b="b"/>
              <a:pathLst>
                <a:path w="582" h="583">
                  <a:moveTo>
                    <a:pt x="582" y="292"/>
                  </a:moveTo>
                  <a:lnTo>
                    <a:pt x="582" y="277"/>
                  </a:lnTo>
                  <a:lnTo>
                    <a:pt x="581" y="261"/>
                  </a:lnTo>
                  <a:lnTo>
                    <a:pt x="579" y="247"/>
                  </a:lnTo>
                  <a:lnTo>
                    <a:pt x="577" y="232"/>
                  </a:lnTo>
                  <a:lnTo>
                    <a:pt x="574" y="218"/>
                  </a:lnTo>
                  <a:lnTo>
                    <a:pt x="569" y="204"/>
                  </a:lnTo>
                  <a:lnTo>
                    <a:pt x="565" y="191"/>
                  </a:lnTo>
                  <a:lnTo>
                    <a:pt x="560" y="178"/>
                  </a:lnTo>
                  <a:lnTo>
                    <a:pt x="554" y="165"/>
                  </a:lnTo>
                  <a:lnTo>
                    <a:pt x="548" y="152"/>
                  </a:lnTo>
                  <a:lnTo>
                    <a:pt x="540" y="140"/>
                  </a:lnTo>
                  <a:lnTo>
                    <a:pt x="533" y="129"/>
                  </a:lnTo>
                  <a:lnTo>
                    <a:pt x="525" y="117"/>
                  </a:lnTo>
                  <a:lnTo>
                    <a:pt x="516" y="106"/>
                  </a:lnTo>
                  <a:lnTo>
                    <a:pt x="507" y="95"/>
                  </a:lnTo>
                  <a:lnTo>
                    <a:pt x="497" y="85"/>
                  </a:lnTo>
                  <a:lnTo>
                    <a:pt x="487" y="76"/>
                  </a:lnTo>
                  <a:lnTo>
                    <a:pt x="476" y="66"/>
                  </a:lnTo>
                  <a:lnTo>
                    <a:pt x="466" y="57"/>
                  </a:lnTo>
                  <a:lnTo>
                    <a:pt x="454" y="50"/>
                  </a:lnTo>
                  <a:lnTo>
                    <a:pt x="442" y="42"/>
                  </a:lnTo>
                  <a:lnTo>
                    <a:pt x="430" y="35"/>
                  </a:lnTo>
                  <a:lnTo>
                    <a:pt x="417" y="28"/>
                  </a:lnTo>
                  <a:lnTo>
                    <a:pt x="405" y="23"/>
                  </a:lnTo>
                  <a:lnTo>
                    <a:pt x="391" y="17"/>
                  </a:lnTo>
                  <a:lnTo>
                    <a:pt x="378" y="13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6" y="3"/>
                  </a:lnTo>
                  <a:lnTo>
                    <a:pt x="321" y="1"/>
                  </a:lnTo>
                  <a:lnTo>
                    <a:pt x="306" y="0"/>
                  </a:lnTo>
                  <a:lnTo>
                    <a:pt x="291" y="0"/>
                  </a:lnTo>
                  <a:lnTo>
                    <a:pt x="277" y="0"/>
                  </a:lnTo>
                  <a:lnTo>
                    <a:pt x="261" y="1"/>
                  </a:lnTo>
                  <a:lnTo>
                    <a:pt x="246" y="3"/>
                  </a:lnTo>
                  <a:lnTo>
                    <a:pt x="232" y="5"/>
                  </a:lnTo>
                  <a:lnTo>
                    <a:pt x="218" y="9"/>
                  </a:lnTo>
                  <a:lnTo>
                    <a:pt x="204" y="13"/>
                  </a:lnTo>
                  <a:lnTo>
                    <a:pt x="191" y="17"/>
                  </a:lnTo>
                  <a:lnTo>
                    <a:pt x="177" y="23"/>
                  </a:lnTo>
                  <a:lnTo>
                    <a:pt x="164" y="28"/>
                  </a:lnTo>
                  <a:lnTo>
                    <a:pt x="152" y="35"/>
                  </a:lnTo>
                  <a:lnTo>
                    <a:pt x="140" y="42"/>
                  </a:lnTo>
                  <a:lnTo>
                    <a:pt x="129" y="50"/>
                  </a:lnTo>
                  <a:lnTo>
                    <a:pt x="117" y="57"/>
                  </a:lnTo>
                  <a:lnTo>
                    <a:pt x="106" y="66"/>
                  </a:lnTo>
                  <a:lnTo>
                    <a:pt x="95" y="76"/>
                  </a:lnTo>
                  <a:lnTo>
                    <a:pt x="85" y="85"/>
                  </a:lnTo>
                  <a:lnTo>
                    <a:pt x="76" y="95"/>
                  </a:lnTo>
                  <a:lnTo>
                    <a:pt x="66" y="106"/>
                  </a:lnTo>
                  <a:lnTo>
                    <a:pt x="57" y="117"/>
                  </a:lnTo>
                  <a:lnTo>
                    <a:pt x="50" y="129"/>
                  </a:lnTo>
                  <a:lnTo>
                    <a:pt x="42" y="140"/>
                  </a:lnTo>
                  <a:lnTo>
                    <a:pt x="35" y="152"/>
                  </a:lnTo>
                  <a:lnTo>
                    <a:pt x="28" y="165"/>
                  </a:lnTo>
                  <a:lnTo>
                    <a:pt x="23" y="178"/>
                  </a:lnTo>
                  <a:lnTo>
                    <a:pt x="17" y="191"/>
                  </a:lnTo>
                  <a:lnTo>
                    <a:pt x="13" y="204"/>
                  </a:lnTo>
                  <a:lnTo>
                    <a:pt x="9" y="218"/>
                  </a:lnTo>
                  <a:lnTo>
                    <a:pt x="5" y="232"/>
                  </a:lnTo>
                  <a:lnTo>
                    <a:pt x="3" y="247"/>
                  </a:lnTo>
                  <a:lnTo>
                    <a:pt x="1" y="261"/>
                  </a:lnTo>
                  <a:lnTo>
                    <a:pt x="0" y="277"/>
                  </a:lnTo>
                  <a:lnTo>
                    <a:pt x="0" y="292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3" y="336"/>
                  </a:lnTo>
                  <a:lnTo>
                    <a:pt x="5" y="350"/>
                  </a:lnTo>
                  <a:lnTo>
                    <a:pt x="9" y="364"/>
                  </a:lnTo>
                  <a:lnTo>
                    <a:pt x="13" y="378"/>
                  </a:lnTo>
                  <a:lnTo>
                    <a:pt x="17" y="392"/>
                  </a:lnTo>
                  <a:lnTo>
                    <a:pt x="23" y="405"/>
                  </a:lnTo>
                  <a:lnTo>
                    <a:pt x="28" y="418"/>
                  </a:lnTo>
                  <a:lnTo>
                    <a:pt x="35" y="430"/>
                  </a:lnTo>
                  <a:lnTo>
                    <a:pt x="42" y="443"/>
                  </a:lnTo>
                  <a:lnTo>
                    <a:pt x="50" y="455"/>
                  </a:lnTo>
                  <a:lnTo>
                    <a:pt x="57" y="466"/>
                  </a:lnTo>
                  <a:lnTo>
                    <a:pt x="66" y="476"/>
                  </a:lnTo>
                  <a:lnTo>
                    <a:pt x="76" y="487"/>
                  </a:lnTo>
                  <a:lnTo>
                    <a:pt x="85" y="498"/>
                  </a:lnTo>
                  <a:lnTo>
                    <a:pt x="95" y="508"/>
                  </a:lnTo>
                  <a:lnTo>
                    <a:pt x="106" y="516"/>
                  </a:lnTo>
                  <a:lnTo>
                    <a:pt x="117" y="525"/>
                  </a:lnTo>
                  <a:lnTo>
                    <a:pt x="129" y="534"/>
                  </a:lnTo>
                  <a:lnTo>
                    <a:pt x="140" y="541"/>
                  </a:lnTo>
                  <a:lnTo>
                    <a:pt x="152" y="548"/>
                  </a:lnTo>
                  <a:lnTo>
                    <a:pt x="164" y="554"/>
                  </a:lnTo>
                  <a:lnTo>
                    <a:pt x="177" y="560"/>
                  </a:lnTo>
                  <a:lnTo>
                    <a:pt x="191" y="565"/>
                  </a:lnTo>
                  <a:lnTo>
                    <a:pt x="204" y="570"/>
                  </a:lnTo>
                  <a:lnTo>
                    <a:pt x="218" y="574"/>
                  </a:lnTo>
                  <a:lnTo>
                    <a:pt x="232" y="577"/>
                  </a:lnTo>
                  <a:lnTo>
                    <a:pt x="246" y="580"/>
                  </a:lnTo>
                  <a:lnTo>
                    <a:pt x="261" y="581"/>
                  </a:lnTo>
                  <a:lnTo>
                    <a:pt x="277" y="582"/>
                  </a:lnTo>
                  <a:lnTo>
                    <a:pt x="291" y="583"/>
                  </a:lnTo>
                  <a:lnTo>
                    <a:pt x="308" y="582"/>
                  </a:lnTo>
                  <a:lnTo>
                    <a:pt x="325" y="581"/>
                  </a:lnTo>
                  <a:lnTo>
                    <a:pt x="341" y="579"/>
                  </a:lnTo>
                  <a:lnTo>
                    <a:pt x="358" y="576"/>
                  </a:lnTo>
                  <a:lnTo>
                    <a:pt x="374" y="571"/>
                  </a:lnTo>
                  <a:lnTo>
                    <a:pt x="389" y="566"/>
                  </a:lnTo>
                  <a:lnTo>
                    <a:pt x="404" y="561"/>
                  </a:lnTo>
                  <a:lnTo>
                    <a:pt x="419" y="553"/>
                  </a:lnTo>
                  <a:lnTo>
                    <a:pt x="401" y="516"/>
                  </a:lnTo>
                  <a:lnTo>
                    <a:pt x="388" y="522"/>
                  </a:lnTo>
                  <a:lnTo>
                    <a:pt x="375" y="527"/>
                  </a:lnTo>
                  <a:lnTo>
                    <a:pt x="362" y="531"/>
                  </a:lnTo>
                  <a:lnTo>
                    <a:pt x="348" y="535"/>
                  </a:lnTo>
                  <a:lnTo>
                    <a:pt x="334" y="538"/>
                  </a:lnTo>
                  <a:lnTo>
                    <a:pt x="320" y="540"/>
                  </a:lnTo>
                  <a:lnTo>
                    <a:pt x="306" y="541"/>
                  </a:lnTo>
                  <a:lnTo>
                    <a:pt x="291" y="541"/>
                  </a:lnTo>
                  <a:lnTo>
                    <a:pt x="279" y="541"/>
                  </a:lnTo>
                  <a:lnTo>
                    <a:pt x="266" y="540"/>
                  </a:lnTo>
                  <a:lnTo>
                    <a:pt x="253" y="538"/>
                  </a:lnTo>
                  <a:lnTo>
                    <a:pt x="241" y="536"/>
                  </a:lnTo>
                  <a:lnTo>
                    <a:pt x="229" y="534"/>
                  </a:lnTo>
                  <a:lnTo>
                    <a:pt x="217" y="530"/>
                  </a:lnTo>
                  <a:lnTo>
                    <a:pt x="205" y="526"/>
                  </a:lnTo>
                  <a:lnTo>
                    <a:pt x="193" y="522"/>
                  </a:lnTo>
                  <a:lnTo>
                    <a:pt x="183" y="516"/>
                  </a:lnTo>
                  <a:lnTo>
                    <a:pt x="172" y="511"/>
                  </a:lnTo>
                  <a:lnTo>
                    <a:pt x="161" y="506"/>
                  </a:lnTo>
                  <a:lnTo>
                    <a:pt x="151" y="499"/>
                  </a:lnTo>
                  <a:lnTo>
                    <a:pt x="142" y="491"/>
                  </a:lnTo>
                  <a:lnTo>
                    <a:pt x="132" y="484"/>
                  </a:lnTo>
                  <a:lnTo>
                    <a:pt x="123" y="476"/>
                  </a:lnTo>
                  <a:lnTo>
                    <a:pt x="115" y="468"/>
                  </a:lnTo>
                  <a:lnTo>
                    <a:pt x="106" y="459"/>
                  </a:lnTo>
                  <a:lnTo>
                    <a:pt x="98" y="450"/>
                  </a:lnTo>
                  <a:lnTo>
                    <a:pt x="91" y="441"/>
                  </a:lnTo>
                  <a:lnTo>
                    <a:pt x="84" y="431"/>
                  </a:lnTo>
                  <a:lnTo>
                    <a:pt x="78" y="421"/>
                  </a:lnTo>
                  <a:lnTo>
                    <a:pt x="71" y="410"/>
                  </a:lnTo>
                  <a:lnTo>
                    <a:pt x="66" y="400"/>
                  </a:lnTo>
                  <a:lnTo>
                    <a:pt x="60" y="389"/>
                  </a:lnTo>
                  <a:lnTo>
                    <a:pt x="56" y="377"/>
                  </a:lnTo>
                  <a:lnTo>
                    <a:pt x="53" y="366"/>
                  </a:lnTo>
                  <a:lnTo>
                    <a:pt x="49" y="354"/>
                  </a:lnTo>
                  <a:lnTo>
                    <a:pt x="46" y="341"/>
                  </a:lnTo>
                  <a:lnTo>
                    <a:pt x="44" y="329"/>
                  </a:lnTo>
                  <a:lnTo>
                    <a:pt x="42" y="317"/>
                  </a:lnTo>
                  <a:lnTo>
                    <a:pt x="41" y="305"/>
                  </a:lnTo>
                  <a:lnTo>
                    <a:pt x="41" y="292"/>
                  </a:lnTo>
                  <a:lnTo>
                    <a:pt x="41" y="279"/>
                  </a:lnTo>
                  <a:lnTo>
                    <a:pt x="42" y="266"/>
                  </a:lnTo>
                  <a:lnTo>
                    <a:pt x="44" y="254"/>
                  </a:lnTo>
                  <a:lnTo>
                    <a:pt x="46" y="241"/>
                  </a:lnTo>
                  <a:lnTo>
                    <a:pt x="49" y="229"/>
                  </a:lnTo>
                  <a:lnTo>
                    <a:pt x="53" y="217"/>
                  </a:lnTo>
                  <a:lnTo>
                    <a:pt x="56" y="205"/>
                  </a:lnTo>
                  <a:lnTo>
                    <a:pt x="60" y="194"/>
                  </a:lnTo>
                  <a:lnTo>
                    <a:pt x="66" y="183"/>
                  </a:lnTo>
                  <a:lnTo>
                    <a:pt x="71" y="172"/>
                  </a:lnTo>
                  <a:lnTo>
                    <a:pt x="78" y="162"/>
                  </a:lnTo>
                  <a:lnTo>
                    <a:pt x="84" y="151"/>
                  </a:lnTo>
                  <a:lnTo>
                    <a:pt x="91" y="142"/>
                  </a:lnTo>
                  <a:lnTo>
                    <a:pt x="98" y="133"/>
                  </a:lnTo>
                  <a:lnTo>
                    <a:pt x="106" y="123"/>
                  </a:lnTo>
                  <a:lnTo>
                    <a:pt x="115" y="115"/>
                  </a:lnTo>
                  <a:lnTo>
                    <a:pt x="123" y="106"/>
                  </a:lnTo>
                  <a:lnTo>
                    <a:pt x="132" y="98"/>
                  </a:lnTo>
                  <a:lnTo>
                    <a:pt x="142" y="91"/>
                  </a:lnTo>
                  <a:lnTo>
                    <a:pt x="151" y="84"/>
                  </a:lnTo>
                  <a:lnTo>
                    <a:pt x="161" y="78"/>
                  </a:lnTo>
                  <a:lnTo>
                    <a:pt x="172" y="71"/>
                  </a:lnTo>
                  <a:lnTo>
                    <a:pt x="183" y="66"/>
                  </a:lnTo>
                  <a:lnTo>
                    <a:pt x="193" y="62"/>
                  </a:lnTo>
                  <a:lnTo>
                    <a:pt x="205" y="56"/>
                  </a:lnTo>
                  <a:lnTo>
                    <a:pt x="217" y="53"/>
                  </a:lnTo>
                  <a:lnTo>
                    <a:pt x="229" y="50"/>
                  </a:lnTo>
                  <a:lnTo>
                    <a:pt x="241" y="47"/>
                  </a:lnTo>
                  <a:lnTo>
                    <a:pt x="253" y="44"/>
                  </a:lnTo>
                  <a:lnTo>
                    <a:pt x="266" y="43"/>
                  </a:lnTo>
                  <a:lnTo>
                    <a:pt x="279" y="42"/>
                  </a:lnTo>
                  <a:lnTo>
                    <a:pt x="291" y="41"/>
                  </a:lnTo>
                  <a:lnTo>
                    <a:pt x="304" y="42"/>
                  </a:lnTo>
                  <a:lnTo>
                    <a:pt x="317" y="43"/>
                  </a:lnTo>
                  <a:lnTo>
                    <a:pt x="330" y="44"/>
                  </a:lnTo>
                  <a:lnTo>
                    <a:pt x="341" y="47"/>
                  </a:lnTo>
                  <a:lnTo>
                    <a:pt x="353" y="50"/>
                  </a:lnTo>
                  <a:lnTo>
                    <a:pt x="365" y="53"/>
                  </a:lnTo>
                  <a:lnTo>
                    <a:pt x="377" y="56"/>
                  </a:lnTo>
                  <a:lnTo>
                    <a:pt x="389" y="62"/>
                  </a:lnTo>
                  <a:lnTo>
                    <a:pt x="400" y="66"/>
                  </a:lnTo>
                  <a:lnTo>
                    <a:pt x="411" y="71"/>
                  </a:lnTo>
                  <a:lnTo>
                    <a:pt x="420" y="78"/>
                  </a:lnTo>
                  <a:lnTo>
                    <a:pt x="431" y="84"/>
                  </a:lnTo>
                  <a:lnTo>
                    <a:pt x="441" y="91"/>
                  </a:lnTo>
                  <a:lnTo>
                    <a:pt x="451" y="98"/>
                  </a:lnTo>
                  <a:lnTo>
                    <a:pt x="459" y="106"/>
                  </a:lnTo>
                  <a:lnTo>
                    <a:pt x="468" y="115"/>
                  </a:lnTo>
                  <a:lnTo>
                    <a:pt x="476" y="123"/>
                  </a:lnTo>
                  <a:lnTo>
                    <a:pt x="484" y="133"/>
                  </a:lnTo>
                  <a:lnTo>
                    <a:pt x="492" y="142"/>
                  </a:lnTo>
                  <a:lnTo>
                    <a:pt x="498" y="151"/>
                  </a:lnTo>
                  <a:lnTo>
                    <a:pt x="505" y="162"/>
                  </a:lnTo>
                  <a:lnTo>
                    <a:pt x="511" y="172"/>
                  </a:lnTo>
                  <a:lnTo>
                    <a:pt x="516" y="183"/>
                  </a:lnTo>
                  <a:lnTo>
                    <a:pt x="522" y="194"/>
                  </a:lnTo>
                  <a:lnTo>
                    <a:pt x="526" y="205"/>
                  </a:lnTo>
                  <a:lnTo>
                    <a:pt x="529" y="217"/>
                  </a:lnTo>
                  <a:lnTo>
                    <a:pt x="534" y="229"/>
                  </a:lnTo>
                  <a:lnTo>
                    <a:pt x="536" y="241"/>
                  </a:lnTo>
                  <a:lnTo>
                    <a:pt x="538" y="254"/>
                  </a:lnTo>
                  <a:lnTo>
                    <a:pt x="540" y="266"/>
                  </a:lnTo>
                  <a:lnTo>
                    <a:pt x="541" y="279"/>
                  </a:lnTo>
                  <a:lnTo>
                    <a:pt x="541" y="292"/>
                  </a:lnTo>
                  <a:lnTo>
                    <a:pt x="541" y="300"/>
                  </a:lnTo>
                  <a:lnTo>
                    <a:pt x="540" y="308"/>
                  </a:lnTo>
                  <a:lnTo>
                    <a:pt x="540" y="317"/>
                  </a:lnTo>
                  <a:lnTo>
                    <a:pt x="539" y="324"/>
                  </a:lnTo>
                  <a:lnTo>
                    <a:pt x="538" y="333"/>
                  </a:lnTo>
                  <a:lnTo>
                    <a:pt x="536" y="340"/>
                  </a:lnTo>
                  <a:lnTo>
                    <a:pt x="535" y="349"/>
                  </a:lnTo>
                  <a:lnTo>
                    <a:pt x="533" y="356"/>
                  </a:lnTo>
                  <a:lnTo>
                    <a:pt x="573" y="367"/>
                  </a:lnTo>
                  <a:lnTo>
                    <a:pt x="575" y="358"/>
                  </a:lnTo>
                  <a:lnTo>
                    <a:pt x="577" y="349"/>
                  </a:lnTo>
                  <a:lnTo>
                    <a:pt x="579" y="339"/>
                  </a:lnTo>
                  <a:lnTo>
                    <a:pt x="580" y="331"/>
                  </a:lnTo>
                  <a:lnTo>
                    <a:pt x="581" y="321"/>
                  </a:lnTo>
                  <a:lnTo>
                    <a:pt x="582" y="311"/>
                  </a:lnTo>
                  <a:lnTo>
                    <a:pt x="582" y="301"/>
                  </a:lnTo>
                  <a:lnTo>
                    <a:pt x="582" y="292"/>
                  </a:lnTo>
                  <a:close/>
                </a:path>
              </a:pathLst>
            </a:custGeom>
            <a:solidFill>
              <a:srgbClr val="f7ef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467240" y="2889360"/>
              <a:ext cx="214200" cy="215640"/>
            </a:xfrm>
            <a:custGeom>
              <a:avLst/>
              <a:gdLst/>
              <a:ahLst/>
              <a:rect l="l" t="t" r="r" b="b"/>
              <a:pathLst>
                <a:path w="541" h="541">
                  <a:moveTo>
                    <a:pt x="541" y="271"/>
                  </a:moveTo>
                  <a:lnTo>
                    <a:pt x="541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5" y="216"/>
                  </a:lnTo>
                  <a:lnTo>
                    <a:pt x="532" y="203"/>
                  </a:lnTo>
                  <a:lnTo>
                    <a:pt x="529" y="190"/>
                  </a:lnTo>
                  <a:lnTo>
                    <a:pt x="525" y="178"/>
                  </a:lnTo>
                  <a:lnTo>
                    <a:pt x="519" y="165"/>
                  </a:lnTo>
                  <a:lnTo>
                    <a:pt x="514" y="153"/>
                  </a:lnTo>
                  <a:lnTo>
                    <a:pt x="508" y="141"/>
                  </a:lnTo>
                  <a:lnTo>
                    <a:pt x="502" y="130"/>
                  </a:lnTo>
                  <a:lnTo>
                    <a:pt x="494" y="119"/>
                  </a:lnTo>
                  <a:lnTo>
                    <a:pt x="487" y="109"/>
                  </a:lnTo>
                  <a:lnTo>
                    <a:pt x="479" y="98"/>
                  </a:lnTo>
                  <a:lnTo>
                    <a:pt x="471" y="88"/>
                  </a:lnTo>
                  <a:lnTo>
                    <a:pt x="462" y="80"/>
                  </a:lnTo>
                  <a:lnTo>
                    <a:pt x="452" y="70"/>
                  </a:lnTo>
                  <a:lnTo>
                    <a:pt x="443" y="61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0" y="38"/>
                  </a:lnTo>
                  <a:lnTo>
                    <a:pt x="399" y="32"/>
                  </a:lnTo>
                  <a:lnTo>
                    <a:pt x="387" y="27"/>
                  </a:lnTo>
                  <a:lnTo>
                    <a:pt x="376" y="21"/>
                  </a:lnTo>
                  <a:lnTo>
                    <a:pt x="364" y="16"/>
                  </a:lnTo>
                  <a:lnTo>
                    <a:pt x="351" y="11"/>
                  </a:lnTo>
                  <a:lnTo>
                    <a:pt x="338" y="8"/>
                  </a:lnTo>
                  <a:lnTo>
                    <a:pt x="325" y="5"/>
                  </a:lnTo>
                  <a:lnTo>
                    <a:pt x="312" y="3"/>
                  </a:lnTo>
                  <a:lnTo>
                    <a:pt x="298" y="1"/>
                  </a:lnTo>
                  <a:lnTo>
                    <a:pt x="284" y="0"/>
                  </a:lnTo>
                  <a:lnTo>
                    <a:pt x="270" y="0"/>
                  </a:lnTo>
                  <a:lnTo>
                    <a:pt x="257" y="0"/>
                  </a:lnTo>
                  <a:lnTo>
                    <a:pt x="243" y="1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3" y="8"/>
                  </a:lnTo>
                  <a:lnTo>
                    <a:pt x="190" y="11"/>
                  </a:lnTo>
                  <a:lnTo>
                    <a:pt x="177" y="16"/>
                  </a:lnTo>
                  <a:lnTo>
                    <a:pt x="165" y="21"/>
                  </a:lnTo>
                  <a:lnTo>
                    <a:pt x="153" y="27"/>
                  </a:lnTo>
                  <a:lnTo>
                    <a:pt x="141" y="32"/>
                  </a:lnTo>
                  <a:lnTo>
                    <a:pt x="130" y="38"/>
                  </a:lnTo>
                  <a:lnTo>
                    <a:pt x="118" y="46"/>
                  </a:lnTo>
                  <a:lnTo>
                    <a:pt x="109" y="54"/>
                  </a:lnTo>
                  <a:lnTo>
                    <a:pt x="98" y="61"/>
                  </a:lnTo>
                  <a:lnTo>
                    <a:pt x="88" y="70"/>
                  </a:lnTo>
                  <a:lnTo>
                    <a:pt x="78" y="80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54" y="109"/>
                  </a:lnTo>
                  <a:lnTo>
                    <a:pt x="46" y="119"/>
                  </a:lnTo>
                  <a:lnTo>
                    <a:pt x="38" y="130"/>
                  </a:lnTo>
                  <a:lnTo>
                    <a:pt x="32" y="141"/>
                  </a:lnTo>
                  <a:lnTo>
                    <a:pt x="27" y="153"/>
                  </a:lnTo>
                  <a:lnTo>
                    <a:pt x="21" y="165"/>
                  </a:lnTo>
                  <a:lnTo>
                    <a:pt x="16" y="178"/>
                  </a:lnTo>
                  <a:lnTo>
                    <a:pt x="11" y="190"/>
                  </a:lnTo>
                  <a:lnTo>
                    <a:pt x="8" y="203"/>
                  </a:lnTo>
                  <a:lnTo>
                    <a:pt x="5" y="216"/>
                  </a:lnTo>
                  <a:lnTo>
                    <a:pt x="3" y="230"/>
                  </a:lnTo>
                  <a:lnTo>
                    <a:pt x="1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1" y="298"/>
                  </a:lnTo>
                  <a:lnTo>
                    <a:pt x="3" y="312"/>
                  </a:lnTo>
                  <a:lnTo>
                    <a:pt x="5" y="325"/>
                  </a:lnTo>
                  <a:lnTo>
                    <a:pt x="8" y="338"/>
                  </a:lnTo>
                  <a:lnTo>
                    <a:pt x="11" y="351"/>
                  </a:lnTo>
                  <a:lnTo>
                    <a:pt x="16" y="364"/>
                  </a:lnTo>
                  <a:lnTo>
                    <a:pt x="21" y="375"/>
                  </a:lnTo>
                  <a:lnTo>
                    <a:pt x="27" y="387"/>
                  </a:lnTo>
                  <a:lnTo>
                    <a:pt x="32" y="399"/>
                  </a:lnTo>
                  <a:lnTo>
                    <a:pt x="38" y="411"/>
                  </a:lnTo>
                  <a:lnTo>
                    <a:pt x="46" y="422"/>
                  </a:lnTo>
                  <a:lnTo>
                    <a:pt x="54" y="433"/>
                  </a:lnTo>
                  <a:lnTo>
                    <a:pt x="61" y="442"/>
                  </a:lnTo>
                  <a:lnTo>
                    <a:pt x="70" y="452"/>
                  </a:lnTo>
                  <a:lnTo>
                    <a:pt x="78" y="462"/>
                  </a:lnTo>
                  <a:lnTo>
                    <a:pt x="88" y="470"/>
                  </a:lnTo>
                  <a:lnTo>
                    <a:pt x="98" y="479"/>
                  </a:lnTo>
                  <a:lnTo>
                    <a:pt x="109" y="488"/>
                  </a:lnTo>
                  <a:lnTo>
                    <a:pt x="118" y="495"/>
                  </a:lnTo>
                  <a:lnTo>
                    <a:pt x="130" y="502"/>
                  </a:lnTo>
                  <a:lnTo>
                    <a:pt x="141" y="508"/>
                  </a:lnTo>
                  <a:lnTo>
                    <a:pt x="153" y="515"/>
                  </a:lnTo>
                  <a:lnTo>
                    <a:pt x="165" y="520"/>
                  </a:lnTo>
                  <a:lnTo>
                    <a:pt x="177" y="524"/>
                  </a:lnTo>
                  <a:lnTo>
                    <a:pt x="190" y="529"/>
                  </a:lnTo>
                  <a:lnTo>
                    <a:pt x="203" y="533"/>
                  </a:lnTo>
                  <a:lnTo>
                    <a:pt x="216" y="535"/>
                  </a:lnTo>
                  <a:lnTo>
                    <a:pt x="229" y="539"/>
                  </a:lnTo>
                  <a:lnTo>
                    <a:pt x="243" y="540"/>
                  </a:lnTo>
                  <a:lnTo>
                    <a:pt x="257" y="541"/>
                  </a:lnTo>
                  <a:lnTo>
                    <a:pt x="270" y="541"/>
                  </a:lnTo>
                  <a:lnTo>
                    <a:pt x="286" y="541"/>
                  </a:lnTo>
                  <a:lnTo>
                    <a:pt x="302" y="540"/>
                  </a:lnTo>
                  <a:lnTo>
                    <a:pt x="317" y="537"/>
                  </a:lnTo>
                  <a:lnTo>
                    <a:pt x="332" y="534"/>
                  </a:lnTo>
                  <a:lnTo>
                    <a:pt x="346" y="530"/>
                  </a:lnTo>
                  <a:lnTo>
                    <a:pt x="361" y="526"/>
                  </a:lnTo>
                  <a:lnTo>
                    <a:pt x="376" y="520"/>
                  </a:lnTo>
                  <a:lnTo>
                    <a:pt x="389" y="514"/>
                  </a:lnTo>
                  <a:lnTo>
                    <a:pt x="370" y="476"/>
                  </a:lnTo>
                  <a:lnTo>
                    <a:pt x="359" y="481"/>
                  </a:lnTo>
                  <a:lnTo>
                    <a:pt x="347" y="487"/>
                  </a:lnTo>
                  <a:lnTo>
                    <a:pt x="334" y="490"/>
                  </a:lnTo>
                  <a:lnTo>
                    <a:pt x="323" y="493"/>
                  </a:lnTo>
                  <a:lnTo>
                    <a:pt x="310" y="496"/>
                  </a:lnTo>
                  <a:lnTo>
                    <a:pt x="297" y="497"/>
                  </a:lnTo>
                  <a:lnTo>
                    <a:pt x="284" y="499"/>
                  </a:lnTo>
                  <a:lnTo>
                    <a:pt x="270" y="500"/>
                  </a:lnTo>
                  <a:lnTo>
                    <a:pt x="259" y="500"/>
                  </a:lnTo>
                  <a:lnTo>
                    <a:pt x="247" y="499"/>
                  </a:lnTo>
                  <a:lnTo>
                    <a:pt x="235" y="496"/>
                  </a:lnTo>
                  <a:lnTo>
                    <a:pt x="224" y="495"/>
                  </a:lnTo>
                  <a:lnTo>
                    <a:pt x="212" y="492"/>
                  </a:lnTo>
                  <a:lnTo>
                    <a:pt x="202" y="489"/>
                  </a:lnTo>
                  <a:lnTo>
                    <a:pt x="192" y="486"/>
                  </a:lnTo>
                  <a:lnTo>
                    <a:pt x="181" y="481"/>
                  </a:lnTo>
                  <a:lnTo>
                    <a:pt x="171" y="477"/>
                  </a:lnTo>
                  <a:lnTo>
                    <a:pt x="161" y="472"/>
                  </a:lnTo>
                  <a:lnTo>
                    <a:pt x="151" y="466"/>
                  </a:lnTo>
                  <a:lnTo>
                    <a:pt x="142" y="461"/>
                  </a:lnTo>
                  <a:lnTo>
                    <a:pt x="125" y="447"/>
                  </a:lnTo>
                  <a:lnTo>
                    <a:pt x="109" y="433"/>
                  </a:lnTo>
                  <a:lnTo>
                    <a:pt x="94" y="416"/>
                  </a:lnTo>
                  <a:lnTo>
                    <a:pt x="81" y="398"/>
                  </a:lnTo>
                  <a:lnTo>
                    <a:pt x="74" y="389"/>
                  </a:lnTo>
                  <a:lnTo>
                    <a:pt x="69" y="380"/>
                  </a:lnTo>
                  <a:lnTo>
                    <a:pt x="63" y="370"/>
                  </a:lnTo>
                  <a:lnTo>
                    <a:pt x="59" y="359"/>
                  </a:lnTo>
                  <a:lnTo>
                    <a:pt x="55" y="350"/>
                  </a:lnTo>
                  <a:lnTo>
                    <a:pt x="51" y="339"/>
                  </a:lnTo>
                  <a:lnTo>
                    <a:pt x="48" y="328"/>
                  </a:lnTo>
                  <a:lnTo>
                    <a:pt x="46" y="316"/>
                  </a:lnTo>
                  <a:lnTo>
                    <a:pt x="44" y="305"/>
                  </a:lnTo>
                  <a:lnTo>
                    <a:pt x="42" y="293"/>
                  </a:lnTo>
                  <a:lnTo>
                    <a:pt x="42" y="283"/>
                  </a:lnTo>
                  <a:lnTo>
                    <a:pt x="41" y="271"/>
                  </a:lnTo>
                  <a:lnTo>
                    <a:pt x="42" y="259"/>
                  </a:lnTo>
                  <a:lnTo>
                    <a:pt x="42" y="247"/>
                  </a:lnTo>
                  <a:lnTo>
                    <a:pt x="44" y="235"/>
                  </a:lnTo>
                  <a:lnTo>
                    <a:pt x="46" y="224"/>
                  </a:lnTo>
                  <a:lnTo>
                    <a:pt x="48" y="213"/>
                  </a:lnTo>
                  <a:lnTo>
                    <a:pt x="51" y="203"/>
                  </a:lnTo>
                  <a:lnTo>
                    <a:pt x="55" y="192"/>
                  </a:lnTo>
                  <a:lnTo>
                    <a:pt x="59" y="181"/>
                  </a:lnTo>
                  <a:lnTo>
                    <a:pt x="63" y="171"/>
                  </a:lnTo>
                  <a:lnTo>
                    <a:pt x="69" y="162"/>
                  </a:lnTo>
                  <a:lnTo>
                    <a:pt x="74" y="152"/>
                  </a:lnTo>
                  <a:lnTo>
                    <a:pt x="81" y="142"/>
                  </a:lnTo>
                  <a:lnTo>
                    <a:pt x="94" y="125"/>
                  </a:lnTo>
                  <a:lnTo>
                    <a:pt x="109" y="109"/>
                  </a:lnTo>
                  <a:lnTo>
                    <a:pt x="125" y="94"/>
                  </a:lnTo>
                  <a:lnTo>
                    <a:pt x="142" y="81"/>
                  </a:lnTo>
                  <a:lnTo>
                    <a:pt x="161" y="69"/>
                  </a:lnTo>
                  <a:lnTo>
                    <a:pt x="181" y="59"/>
                  </a:lnTo>
                  <a:lnTo>
                    <a:pt x="192" y="56"/>
                  </a:lnTo>
                  <a:lnTo>
                    <a:pt x="202" y="51"/>
                  </a:lnTo>
                  <a:lnTo>
                    <a:pt x="212" y="48"/>
                  </a:lnTo>
                  <a:lnTo>
                    <a:pt x="224" y="46"/>
                  </a:lnTo>
                  <a:lnTo>
                    <a:pt x="235" y="44"/>
                  </a:lnTo>
                  <a:lnTo>
                    <a:pt x="247" y="43"/>
                  </a:lnTo>
                  <a:lnTo>
                    <a:pt x="259" y="42"/>
                  </a:lnTo>
                  <a:lnTo>
                    <a:pt x="270" y="42"/>
                  </a:lnTo>
                  <a:lnTo>
                    <a:pt x="282" y="42"/>
                  </a:lnTo>
                  <a:lnTo>
                    <a:pt x="293" y="43"/>
                  </a:lnTo>
                  <a:lnTo>
                    <a:pt x="305" y="44"/>
                  </a:lnTo>
                  <a:lnTo>
                    <a:pt x="316" y="46"/>
                  </a:lnTo>
                  <a:lnTo>
                    <a:pt x="327" y="48"/>
                  </a:lnTo>
                  <a:lnTo>
                    <a:pt x="339" y="51"/>
                  </a:lnTo>
                  <a:lnTo>
                    <a:pt x="349" y="56"/>
                  </a:lnTo>
                  <a:lnTo>
                    <a:pt x="359" y="59"/>
                  </a:lnTo>
                  <a:lnTo>
                    <a:pt x="380" y="69"/>
                  </a:lnTo>
                  <a:lnTo>
                    <a:pt x="398" y="81"/>
                  </a:lnTo>
                  <a:lnTo>
                    <a:pt x="416" y="94"/>
                  </a:lnTo>
                  <a:lnTo>
                    <a:pt x="432" y="109"/>
                  </a:lnTo>
                  <a:lnTo>
                    <a:pt x="447" y="125"/>
                  </a:lnTo>
                  <a:lnTo>
                    <a:pt x="460" y="142"/>
                  </a:lnTo>
                  <a:lnTo>
                    <a:pt x="472" y="162"/>
                  </a:lnTo>
                  <a:lnTo>
                    <a:pt x="481" y="181"/>
                  </a:lnTo>
                  <a:lnTo>
                    <a:pt x="486" y="192"/>
                  </a:lnTo>
                  <a:lnTo>
                    <a:pt x="489" y="203"/>
                  </a:lnTo>
                  <a:lnTo>
                    <a:pt x="492" y="213"/>
                  </a:lnTo>
                  <a:lnTo>
                    <a:pt x="494" y="224"/>
                  </a:lnTo>
                  <a:lnTo>
                    <a:pt x="497" y="235"/>
                  </a:lnTo>
                  <a:lnTo>
                    <a:pt x="498" y="247"/>
                  </a:lnTo>
                  <a:lnTo>
                    <a:pt x="499" y="259"/>
                  </a:lnTo>
                  <a:lnTo>
                    <a:pt x="500" y="271"/>
                  </a:lnTo>
                  <a:lnTo>
                    <a:pt x="499" y="278"/>
                  </a:lnTo>
                  <a:lnTo>
                    <a:pt x="499" y="286"/>
                  </a:lnTo>
                  <a:lnTo>
                    <a:pt x="499" y="293"/>
                  </a:lnTo>
                  <a:lnTo>
                    <a:pt x="498" y="301"/>
                  </a:lnTo>
                  <a:lnTo>
                    <a:pt x="497" y="308"/>
                  </a:lnTo>
                  <a:lnTo>
                    <a:pt x="494" y="316"/>
                  </a:lnTo>
                  <a:lnTo>
                    <a:pt x="493" y="323"/>
                  </a:lnTo>
                  <a:lnTo>
                    <a:pt x="491" y="330"/>
                  </a:lnTo>
                  <a:lnTo>
                    <a:pt x="532" y="341"/>
                  </a:lnTo>
                  <a:lnTo>
                    <a:pt x="534" y="332"/>
                  </a:lnTo>
                  <a:lnTo>
                    <a:pt x="535" y="324"/>
                  </a:lnTo>
                  <a:lnTo>
                    <a:pt x="538" y="315"/>
                  </a:lnTo>
                  <a:lnTo>
                    <a:pt x="539" y="306"/>
                  </a:lnTo>
                  <a:lnTo>
                    <a:pt x="540" y="298"/>
                  </a:lnTo>
                  <a:lnTo>
                    <a:pt x="541" y="289"/>
                  </a:lnTo>
                  <a:lnTo>
                    <a:pt x="541" y="279"/>
                  </a:lnTo>
                  <a:lnTo>
                    <a:pt x="541" y="27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75160" y="2898720"/>
              <a:ext cx="198360" cy="198360"/>
            </a:xfrm>
            <a:custGeom>
              <a:avLst/>
              <a:gdLst/>
              <a:ahLst/>
              <a:rect l="l" t="t" r="r" b="b"/>
              <a:pathLst>
                <a:path w="500" h="500">
                  <a:moveTo>
                    <a:pt x="500" y="251"/>
                  </a:moveTo>
                  <a:lnTo>
                    <a:pt x="500" y="238"/>
                  </a:lnTo>
                  <a:lnTo>
                    <a:pt x="499" y="225"/>
                  </a:lnTo>
                  <a:lnTo>
                    <a:pt x="497" y="213"/>
                  </a:lnTo>
                  <a:lnTo>
                    <a:pt x="495" y="200"/>
                  </a:lnTo>
                  <a:lnTo>
                    <a:pt x="493" y="188"/>
                  </a:lnTo>
                  <a:lnTo>
                    <a:pt x="488" y="176"/>
                  </a:lnTo>
                  <a:lnTo>
                    <a:pt x="485" y="164"/>
                  </a:lnTo>
                  <a:lnTo>
                    <a:pt x="481" y="153"/>
                  </a:lnTo>
                  <a:lnTo>
                    <a:pt x="475" y="142"/>
                  </a:lnTo>
                  <a:lnTo>
                    <a:pt x="470" y="131"/>
                  </a:lnTo>
                  <a:lnTo>
                    <a:pt x="464" y="121"/>
                  </a:lnTo>
                  <a:lnTo>
                    <a:pt x="457" y="110"/>
                  </a:lnTo>
                  <a:lnTo>
                    <a:pt x="451" y="101"/>
                  </a:lnTo>
                  <a:lnTo>
                    <a:pt x="443" y="92"/>
                  </a:lnTo>
                  <a:lnTo>
                    <a:pt x="435" y="82"/>
                  </a:lnTo>
                  <a:lnTo>
                    <a:pt x="427" y="74"/>
                  </a:lnTo>
                  <a:lnTo>
                    <a:pt x="418" y="65"/>
                  </a:lnTo>
                  <a:lnTo>
                    <a:pt x="410" y="57"/>
                  </a:lnTo>
                  <a:lnTo>
                    <a:pt x="400" y="50"/>
                  </a:lnTo>
                  <a:lnTo>
                    <a:pt x="390" y="43"/>
                  </a:lnTo>
                  <a:lnTo>
                    <a:pt x="379" y="37"/>
                  </a:lnTo>
                  <a:lnTo>
                    <a:pt x="370" y="30"/>
                  </a:lnTo>
                  <a:lnTo>
                    <a:pt x="359" y="25"/>
                  </a:lnTo>
                  <a:lnTo>
                    <a:pt x="348" y="21"/>
                  </a:lnTo>
                  <a:lnTo>
                    <a:pt x="336" y="15"/>
                  </a:lnTo>
                  <a:lnTo>
                    <a:pt x="324" y="12"/>
                  </a:lnTo>
                  <a:lnTo>
                    <a:pt x="312" y="9"/>
                  </a:lnTo>
                  <a:lnTo>
                    <a:pt x="300" y="6"/>
                  </a:lnTo>
                  <a:lnTo>
                    <a:pt x="289" y="3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5" y="2"/>
                  </a:lnTo>
                  <a:lnTo>
                    <a:pt x="212" y="3"/>
                  </a:lnTo>
                  <a:lnTo>
                    <a:pt x="200" y="6"/>
                  </a:lnTo>
                  <a:lnTo>
                    <a:pt x="188" y="9"/>
                  </a:lnTo>
                  <a:lnTo>
                    <a:pt x="176" y="12"/>
                  </a:lnTo>
                  <a:lnTo>
                    <a:pt x="164" y="15"/>
                  </a:lnTo>
                  <a:lnTo>
                    <a:pt x="152" y="21"/>
                  </a:lnTo>
                  <a:lnTo>
                    <a:pt x="142" y="25"/>
                  </a:lnTo>
                  <a:lnTo>
                    <a:pt x="131" y="30"/>
                  </a:lnTo>
                  <a:lnTo>
                    <a:pt x="120" y="37"/>
                  </a:lnTo>
                  <a:lnTo>
                    <a:pt x="110" y="43"/>
                  </a:lnTo>
                  <a:lnTo>
                    <a:pt x="101" y="50"/>
                  </a:lnTo>
                  <a:lnTo>
                    <a:pt x="91" y="57"/>
                  </a:lnTo>
                  <a:lnTo>
                    <a:pt x="82" y="65"/>
                  </a:lnTo>
                  <a:lnTo>
                    <a:pt x="74" y="74"/>
                  </a:lnTo>
                  <a:lnTo>
                    <a:pt x="65" y="82"/>
                  </a:lnTo>
                  <a:lnTo>
                    <a:pt x="57" y="92"/>
                  </a:lnTo>
                  <a:lnTo>
                    <a:pt x="50" y="101"/>
                  </a:lnTo>
                  <a:lnTo>
                    <a:pt x="43" y="110"/>
                  </a:lnTo>
                  <a:lnTo>
                    <a:pt x="37" y="121"/>
                  </a:lnTo>
                  <a:lnTo>
                    <a:pt x="30" y="131"/>
                  </a:lnTo>
                  <a:lnTo>
                    <a:pt x="25" y="142"/>
                  </a:lnTo>
                  <a:lnTo>
                    <a:pt x="19" y="153"/>
                  </a:lnTo>
                  <a:lnTo>
                    <a:pt x="15" y="164"/>
                  </a:lnTo>
                  <a:lnTo>
                    <a:pt x="12" y="176"/>
                  </a:lnTo>
                  <a:lnTo>
                    <a:pt x="8" y="188"/>
                  </a:lnTo>
                  <a:lnTo>
                    <a:pt x="5" y="200"/>
                  </a:lnTo>
                  <a:lnTo>
                    <a:pt x="3" y="213"/>
                  </a:lnTo>
                  <a:lnTo>
                    <a:pt x="1" y="225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6"/>
                  </a:lnTo>
                  <a:lnTo>
                    <a:pt x="3" y="288"/>
                  </a:lnTo>
                  <a:lnTo>
                    <a:pt x="5" y="300"/>
                  </a:lnTo>
                  <a:lnTo>
                    <a:pt x="8" y="313"/>
                  </a:lnTo>
                  <a:lnTo>
                    <a:pt x="12" y="325"/>
                  </a:lnTo>
                  <a:lnTo>
                    <a:pt x="15" y="336"/>
                  </a:lnTo>
                  <a:lnTo>
                    <a:pt x="19" y="348"/>
                  </a:lnTo>
                  <a:lnTo>
                    <a:pt x="25" y="359"/>
                  </a:lnTo>
                  <a:lnTo>
                    <a:pt x="30" y="369"/>
                  </a:lnTo>
                  <a:lnTo>
                    <a:pt x="37" y="380"/>
                  </a:lnTo>
                  <a:lnTo>
                    <a:pt x="43" y="390"/>
                  </a:lnTo>
                  <a:lnTo>
                    <a:pt x="50" y="400"/>
                  </a:lnTo>
                  <a:lnTo>
                    <a:pt x="57" y="409"/>
                  </a:lnTo>
                  <a:lnTo>
                    <a:pt x="65" y="418"/>
                  </a:lnTo>
                  <a:lnTo>
                    <a:pt x="74" y="427"/>
                  </a:lnTo>
                  <a:lnTo>
                    <a:pt x="82" y="435"/>
                  </a:lnTo>
                  <a:lnTo>
                    <a:pt x="91" y="443"/>
                  </a:lnTo>
                  <a:lnTo>
                    <a:pt x="101" y="450"/>
                  </a:lnTo>
                  <a:lnTo>
                    <a:pt x="110" y="458"/>
                  </a:lnTo>
                  <a:lnTo>
                    <a:pt x="120" y="465"/>
                  </a:lnTo>
                  <a:lnTo>
                    <a:pt x="131" y="470"/>
                  </a:lnTo>
                  <a:lnTo>
                    <a:pt x="142" y="475"/>
                  </a:lnTo>
                  <a:lnTo>
                    <a:pt x="152" y="481"/>
                  </a:lnTo>
                  <a:lnTo>
                    <a:pt x="164" y="485"/>
                  </a:lnTo>
                  <a:lnTo>
                    <a:pt x="176" y="489"/>
                  </a:lnTo>
                  <a:lnTo>
                    <a:pt x="188" y="493"/>
                  </a:lnTo>
                  <a:lnTo>
                    <a:pt x="200" y="495"/>
                  </a:lnTo>
                  <a:lnTo>
                    <a:pt x="212" y="497"/>
                  </a:lnTo>
                  <a:lnTo>
                    <a:pt x="225" y="499"/>
                  </a:lnTo>
                  <a:lnTo>
                    <a:pt x="238" y="500"/>
                  </a:lnTo>
                  <a:lnTo>
                    <a:pt x="250" y="500"/>
                  </a:lnTo>
                  <a:lnTo>
                    <a:pt x="265" y="500"/>
                  </a:lnTo>
                  <a:lnTo>
                    <a:pt x="279" y="499"/>
                  </a:lnTo>
                  <a:lnTo>
                    <a:pt x="293" y="497"/>
                  </a:lnTo>
                  <a:lnTo>
                    <a:pt x="307" y="494"/>
                  </a:lnTo>
                  <a:lnTo>
                    <a:pt x="321" y="490"/>
                  </a:lnTo>
                  <a:lnTo>
                    <a:pt x="334" y="486"/>
                  </a:lnTo>
                  <a:lnTo>
                    <a:pt x="347" y="481"/>
                  </a:lnTo>
                  <a:lnTo>
                    <a:pt x="360" y="475"/>
                  </a:lnTo>
                  <a:lnTo>
                    <a:pt x="341" y="438"/>
                  </a:lnTo>
                  <a:lnTo>
                    <a:pt x="331" y="443"/>
                  </a:lnTo>
                  <a:lnTo>
                    <a:pt x="320" y="446"/>
                  </a:lnTo>
                  <a:lnTo>
                    <a:pt x="309" y="450"/>
                  </a:lnTo>
                  <a:lnTo>
                    <a:pt x="298" y="454"/>
                  </a:lnTo>
                  <a:lnTo>
                    <a:pt x="286" y="456"/>
                  </a:lnTo>
                  <a:lnTo>
                    <a:pt x="274" y="457"/>
                  </a:lnTo>
                  <a:lnTo>
                    <a:pt x="263" y="458"/>
                  </a:lnTo>
                  <a:lnTo>
                    <a:pt x="250" y="459"/>
                  </a:lnTo>
                  <a:lnTo>
                    <a:pt x="229" y="458"/>
                  </a:lnTo>
                  <a:lnTo>
                    <a:pt x="209" y="455"/>
                  </a:lnTo>
                  <a:lnTo>
                    <a:pt x="188" y="449"/>
                  </a:lnTo>
                  <a:lnTo>
                    <a:pt x="169" y="442"/>
                  </a:lnTo>
                  <a:lnTo>
                    <a:pt x="151" y="433"/>
                  </a:lnTo>
                  <a:lnTo>
                    <a:pt x="134" y="423"/>
                  </a:lnTo>
                  <a:lnTo>
                    <a:pt x="118" y="412"/>
                  </a:lnTo>
                  <a:lnTo>
                    <a:pt x="103" y="398"/>
                  </a:lnTo>
                  <a:lnTo>
                    <a:pt x="90" y="382"/>
                  </a:lnTo>
                  <a:lnTo>
                    <a:pt x="78" y="367"/>
                  </a:lnTo>
                  <a:lnTo>
                    <a:pt x="67" y="350"/>
                  </a:lnTo>
                  <a:lnTo>
                    <a:pt x="58" y="332"/>
                  </a:lnTo>
                  <a:lnTo>
                    <a:pt x="51" y="312"/>
                  </a:lnTo>
                  <a:lnTo>
                    <a:pt x="47" y="293"/>
                  </a:lnTo>
                  <a:lnTo>
                    <a:pt x="43" y="271"/>
                  </a:lnTo>
                  <a:lnTo>
                    <a:pt x="42" y="251"/>
                  </a:lnTo>
                  <a:lnTo>
                    <a:pt x="43" y="229"/>
                  </a:lnTo>
                  <a:lnTo>
                    <a:pt x="47" y="209"/>
                  </a:lnTo>
                  <a:lnTo>
                    <a:pt x="51" y="188"/>
                  </a:lnTo>
                  <a:lnTo>
                    <a:pt x="58" y="170"/>
                  </a:lnTo>
                  <a:lnTo>
                    <a:pt x="67" y="151"/>
                  </a:lnTo>
                  <a:lnTo>
                    <a:pt x="78" y="134"/>
                  </a:lnTo>
                  <a:lnTo>
                    <a:pt x="90" y="118"/>
                  </a:lnTo>
                  <a:lnTo>
                    <a:pt x="103" y="103"/>
                  </a:lnTo>
                  <a:lnTo>
                    <a:pt x="118" y="90"/>
                  </a:lnTo>
                  <a:lnTo>
                    <a:pt x="134" y="78"/>
                  </a:lnTo>
                  <a:lnTo>
                    <a:pt x="151" y="67"/>
                  </a:lnTo>
                  <a:lnTo>
                    <a:pt x="169" y="58"/>
                  </a:lnTo>
                  <a:lnTo>
                    <a:pt x="188" y="52"/>
                  </a:lnTo>
                  <a:lnTo>
                    <a:pt x="209" y="47"/>
                  </a:lnTo>
                  <a:lnTo>
                    <a:pt x="229" y="43"/>
                  </a:lnTo>
                  <a:lnTo>
                    <a:pt x="250" y="42"/>
                  </a:lnTo>
                  <a:lnTo>
                    <a:pt x="271" y="43"/>
                  </a:lnTo>
                  <a:lnTo>
                    <a:pt x="292" y="47"/>
                  </a:lnTo>
                  <a:lnTo>
                    <a:pt x="312" y="52"/>
                  </a:lnTo>
                  <a:lnTo>
                    <a:pt x="332" y="58"/>
                  </a:lnTo>
                  <a:lnTo>
                    <a:pt x="349" y="67"/>
                  </a:lnTo>
                  <a:lnTo>
                    <a:pt x="366" y="78"/>
                  </a:lnTo>
                  <a:lnTo>
                    <a:pt x="383" y="90"/>
                  </a:lnTo>
                  <a:lnTo>
                    <a:pt x="398" y="103"/>
                  </a:lnTo>
                  <a:lnTo>
                    <a:pt x="411" y="118"/>
                  </a:lnTo>
                  <a:lnTo>
                    <a:pt x="423" y="134"/>
                  </a:lnTo>
                  <a:lnTo>
                    <a:pt x="433" y="151"/>
                  </a:lnTo>
                  <a:lnTo>
                    <a:pt x="442" y="170"/>
                  </a:lnTo>
                  <a:lnTo>
                    <a:pt x="450" y="188"/>
                  </a:lnTo>
                  <a:lnTo>
                    <a:pt x="454" y="209"/>
                  </a:lnTo>
                  <a:lnTo>
                    <a:pt x="457" y="229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5"/>
                  </a:lnTo>
                  <a:lnTo>
                    <a:pt x="457" y="271"/>
                  </a:lnTo>
                  <a:lnTo>
                    <a:pt x="457" y="278"/>
                  </a:lnTo>
                  <a:lnTo>
                    <a:pt x="456" y="285"/>
                  </a:lnTo>
                  <a:lnTo>
                    <a:pt x="455" y="292"/>
                  </a:lnTo>
                  <a:lnTo>
                    <a:pt x="453" y="298"/>
                  </a:lnTo>
                  <a:lnTo>
                    <a:pt x="452" y="305"/>
                  </a:lnTo>
                  <a:lnTo>
                    <a:pt x="492" y="315"/>
                  </a:lnTo>
                  <a:lnTo>
                    <a:pt x="494" y="308"/>
                  </a:lnTo>
                  <a:lnTo>
                    <a:pt x="495" y="299"/>
                  </a:lnTo>
                  <a:lnTo>
                    <a:pt x="497" y="292"/>
                  </a:lnTo>
                  <a:lnTo>
                    <a:pt x="498" y="283"/>
                  </a:lnTo>
                  <a:lnTo>
                    <a:pt x="499" y="276"/>
                  </a:lnTo>
                  <a:lnTo>
                    <a:pt x="499" y="267"/>
                  </a:lnTo>
                  <a:lnTo>
                    <a:pt x="500" y="259"/>
                  </a:lnTo>
                  <a:lnTo>
                    <a:pt x="500" y="251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83080" y="2906640"/>
              <a:ext cx="182520" cy="181080"/>
            </a:xfrm>
            <a:custGeom>
              <a:avLst/>
              <a:gdLst/>
              <a:ahLst/>
              <a:rect l="l" t="t" r="r" b="b"/>
              <a:pathLst>
                <a:path w="459" h="458">
                  <a:moveTo>
                    <a:pt x="459" y="229"/>
                  </a:moveTo>
                  <a:lnTo>
                    <a:pt x="458" y="217"/>
                  </a:lnTo>
                  <a:lnTo>
                    <a:pt x="457" y="205"/>
                  </a:lnTo>
                  <a:lnTo>
                    <a:pt x="456" y="193"/>
                  </a:lnTo>
                  <a:lnTo>
                    <a:pt x="453" y="182"/>
                  </a:lnTo>
                  <a:lnTo>
                    <a:pt x="451" y="171"/>
                  </a:lnTo>
                  <a:lnTo>
                    <a:pt x="448" y="161"/>
                  </a:lnTo>
                  <a:lnTo>
                    <a:pt x="445" y="150"/>
                  </a:lnTo>
                  <a:lnTo>
                    <a:pt x="440" y="139"/>
                  </a:lnTo>
                  <a:lnTo>
                    <a:pt x="431" y="120"/>
                  </a:lnTo>
                  <a:lnTo>
                    <a:pt x="419" y="100"/>
                  </a:lnTo>
                  <a:lnTo>
                    <a:pt x="406" y="83"/>
                  </a:lnTo>
                  <a:lnTo>
                    <a:pt x="391" y="67"/>
                  </a:lnTo>
                  <a:lnTo>
                    <a:pt x="375" y="52"/>
                  </a:lnTo>
                  <a:lnTo>
                    <a:pt x="357" y="39"/>
                  </a:lnTo>
                  <a:lnTo>
                    <a:pt x="339" y="27"/>
                  </a:lnTo>
                  <a:lnTo>
                    <a:pt x="318" y="17"/>
                  </a:lnTo>
                  <a:lnTo>
                    <a:pt x="308" y="14"/>
                  </a:lnTo>
                  <a:lnTo>
                    <a:pt x="298" y="9"/>
                  </a:lnTo>
                  <a:lnTo>
                    <a:pt x="286" y="6"/>
                  </a:lnTo>
                  <a:lnTo>
                    <a:pt x="275" y="4"/>
                  </a:lnTo>
                  <a:lnTo>
                    <a:pt x="264" y="2"/>
                  </a:lnTo>
                  <a:lnTo>
                    <a:pt x="252" y="1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6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1" y="6"/>
                  </a:lnTo>
                  <a:lnTo>
                    <a:pt x="161" y="9"/>
                  </a:lnTo>
                  <a:lnTo>
                    <a:pt x="151" y="14"/>
                  </a:lnTo>
                  <a:lnTo>
                    <a:pt x="140" y="17"/>
                  </a:lnTo>
                  <a:lnTo>
                    <a:pt x="120" y="27"/>
                  </a:lnTo>
                  <a:lnTo>
                    <a:pt x="101" y="39"/>
                  </a:lnTo>
                  <a:lnTo>
                    <a:pt x="84" y="52"/>
                  </a:lnTo>
                  <a:lnTo>
                    <a:pt x="68" y="67"/>
                  </a:lnTo>
                  <a:lnTo>
                    <a:pt x="53" y="83"/>
                  </a:lnTo>
                  <a:lnTo>
                    <a:pt x="40" y="100"/>
                  </a:lnTo>
                  <a:lnTo>
                    <a:pt x="33" y="110"/>
                  </a:lnTo>
                  <a:lnTo>
                    <a:pt x="28" y="120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50"/>
                  </a:lnTo>
                  <a:lnTo>
                    <a:pt x="10" y="161"/>
                  </a:lnTo>
                  <a:lnTo>
                    <a:pt x="7" y="171"/>
                  </a:lnTo>
                  <a:lnTo>
                    <a:pt x="5" y="182"/>
                  </a:lnTo>
                  <a:lnTo>
                    <a:pt x="3" y="193"/>
                  </a:lnTo>
                  <a:lnTo>
                    <a:pt x="1" y="205"/>
                  </a:lnTo>
                  <a:lnTo>
                    <a:pt x="1" y="217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3" y="263"/>
                  </a:lnTo>
                  <a:lnTo>
                    <a:pt x="5" y="274"/>
                  </a:lnTo>
                  <a:lnTo>
                    <a:pt x="7" y="286"/>
                  </a:lnTo>
                  <a:lnTo>
                    <a:pt x="10" y="297"/>
                  </a:lnTo>
                  <a:lnTo>
                    <a:pt x="14" y="308"/>
                  </a:lnTo>
                  <a:lnTo>
                    <a:pt x="18" y="317"/>
                  </a:lnTo>
                  <a:lnTo>
                    <a:pt x="22" y="328"/>
                  </a:lnTo>
                  <a:lnTo>
                    <a:pt x="28" y="338"/>
                  </a:lnTo>
                  <a:lnTo>
                    <a:pt x="33" y="347"/>
                  </a:lnTo>
                  <a:lnTo>
                    <a:pt x="40" y="356"/>
                  </a:lnTo>
                  <a:lnTo>
                    <a:pt x="53" y="374"/>
                  </a:lnTo>
                  <a:lnTo>
                    <a:pt x="68" y="391"/>
                  </a:lnTo>
                  <a:lnTo>
                    <a:pt x="84" y="405"/>
                  </a:lnTo>
                  <a:lnTo>
                    <a:pt x="101" y="419"/>
                  </a:lnTo>
                  <a:lnTo>
                    <a:pt x="110" y="424"/>
                  </a:lnTo>
                  <a:lnTo>
                    <a:pt x="120" y="430"/>
                  </a:lnTo>
                  <a:lnTo>
                    <a:pt x="130" y="435"/>
                  </a:lnTo>
                  <a:lnTo>
                    <a:pt x="140" y="439"/>
                  </a:lnTo>
                  <a:lnTo>
                    <a:pt x="151" y="444"/>
                  </a:lnTo>
                  <a:lnTo>
                    <a:pt x="161" y="447"/>
                  </a:lnTo>
                  <a:lnTo>
                    <a:pt x="171" y="450"/>
                  </a:lnTo>
                  <a:lnTo>
                    <a:pt x="183" y="453"/>
                  </a:lnTo>
                  <a:lnTo>
                    <a:pt x="194" y="454"/>
                  </a:lnTo>
                  <a:lnTo>
                    <a:pt x="206" y="457"/>
                  </a:lnTo>
                  <a:lnTo>
                    <a:pt x="218" y="458"/>
                  </a:lnTo>
                  <a:lnTo>
                    <a:pt x="229" y="458"/>
                  </a:lnTo>
                  <a:lnTo>
                    <a:pt x="243" y="457"/>
                  </a:lnTo>
                  <a:lnTo>
                    <a:pt x="256" y="455"/>
                  </a:lnTo>
                  <a:lnTo>
                    <a:pt x="269" y="454"/>
                  </a:lnTo>
                  <a:lnTo>
                    <a:pt x="282" y="451"/>
                  </a:lnTo>
                  <a:lnTo>
                    <a:pt x="293" y="448"/>
                  </a:lnTo>
                  <a:lnTo>
                    <a:pt x="306" y="445"/>
                  </a:lnTo>
                  <a:lnTo>
                    <a:pt x="318" y="439"/>
                  </a:lnTo>
                  <a:lnTo>
                    <a:pt x="329" y="434"/>
                  </a:lnTo>
                  <a:lnTo>
                    <a:pt x="312" y="397"/>
                  </a:lnTo>
                  <a:lnTo>
                    <a:pt x="302" y="401"/>
                  </a:lnTo>
                  <a:lnTo>
                    <a:pt x="292" y="405"/>
                  </a:lnTo>
                  <a:lnTo>
                    <a:pt x="283" y="408"/>
                  </a:lnTo>
                  <a:lnTo>
                    <a:pt x="272" y="411"/>
                  </a:lnTo>
                  <a:lnTo>
                    <a:pt x="261" y="413"/>
                  </a:lnTo>
                  <a:lnTo>
                    <a:pt x="251" y="414"/>
                  </a:lnTo>
                  <a:lnTo>
                    <a:pt x="241" y="416"/>
                  </a:lnTo>
                  <a:lnTo>
                    <a:pt x="229" y="416"/>
                  </a:lnTo>
                  <a:lnTo>
                    <a:pt x="210" y="414"/>
                  </a:lnTo>
                  <a:lnTo>
                    <a:pt x="192" y="412"/>
                  </a:lnTo>
                  <a:lnTo>
                    <a:pt x="174" y="407"/>
                  </a:lnTo>
                  <a:lnTo>
                    <a:pt x="156" y="401"/>
                  </a:lnTo>
                  <a:lnTo>
                    <a:pt x="140" y="393"/>
                  </a:lnTo>
                  <a:lnTo>
                    <a:pt x="124" y="384"/>
                  </a:lnTo>
                  <a:lnTo>
                    <a:pt x="110" y="373"/>
                  </a:lnTo>
                  <a:lnTo>
                    <a:pt x="97" y="360"/>
                  </a:lnTo>
                  <a:lnTo>
                    <a:pt x="85" y="347"/>
                  </a:lnTo>
                  <a:lnTo>
                    <a:pt x="74" y="333"/>
                  </a:lnTo>
                  <a:lnTo>
                    <a:pt x="64" y="317"/>
                  </a:lnTo>
                  <a:lnTo>
                    <a:pt x="57" y="301"/>
                  </a:lnTo>
                  <a:lnTo>
                    <a:pt x="50" y="284"/>
                  </a:lnTo>
                  <a:lnTo>
                    <a:pt x="45" y="266"/>
                  </a:lnTo>
                  <a:lnTo>
                    <a:pt x="43" y="247"/>
                  </a:lnTo>
                  <a:lnTo>
                    <a:pt x="42" y="229"/>
                  </a:lnTo>
                  <a:lnTo>
                    <a:pt x="43" y="209"/>
                  </a:lnTo>
                  <a:lnTo>
                    <a:pt x="45" y="191"/>
                  </a:lnTo>
                  <a:lnTo>
                    <a:pt x="50" y="173"/>
                  </a:lnTo>
                  <a:lnTo>
                    <a:pt x="57" y="155"/>
                  </a:lnTo>
                  <a:lnTo>
                    <a:pt x="64" y="139"/>
                  </a:lnTo>
                  <a:lnTo>
                    <a:pt x="74" y="124"/>
                  </a:lnTo>
                  <a:lnTo>
                    <a:pt x="85" y="109"/>
                  </a:lnTo>
                  <a:lnTo>
                    <a:pt x="97" y="96"/>
                  </a:lnTo>
                  <a:lnTo>
                    <a:pt x="110" y="84"/>
                  </a:lnTo>
                  <a:lnTo>
                    <a:pt x="124" y="73"/>
                  </a:lnTo>
                  <a:lnTo>
                    <a:pt x="140" y="63"/>
                  </a:lnTo>
                  <a:lnTo>
                    <a:pt x="156" y="56"/>
                  </a:lnTo>
                  <a:lnTo>
                    <a:pt x="174" y="49"/>
                  </a:lnTo>
                  <a:lnTo>
                    <a:pt x="192" y="45"/>
                  </a:lnTo>
                  <a:lnTo>
                    <a:pt x="210" y="42"/>
                  </a:lnTo>
                  <a:lnTo>
                    <a:pt x="229" y="41"/>
                  </a:lnTo>
                  <a:lnTo>
                    <a:pt x="248" y="42"/>
                  </a:lnTo>
                  <a:lnTo>
                    <a:pt x="266" y="45"/>
                  </a:lnTo>
                  <a:lnTo>
                    <a:pt x="285" y="49"/>
                  </a:lnTo>
                  <a:lnTo>
                    <a:pt x="302" y="56"/>
                  </a:lnTo>
                  <a:lnTo>
                    <a:pt x="318" y="63"/>
                  </a:lnTo>
                  <a:lnTo>
                    <a:pt x="333" y="73"/>
                  </a:lnTo>
                  <a:lnTo>
                    <a:pt x="349" y="84"/>
                  </a:lnTo>
                  <a:lnTo>
                    <a:pt x="362" y="96"/>
                  </a:lnTo>
                  <a:lnTo>
                    <a:pt x="373" y="109"/>
                  </a:lnTo>
                  <a:lnTo>
                    <a:pt x="384" y="124"/>
                  </a:lnTo>
                  <a:lnTo>
                    <a:pt x="394" y="139"/>
                  </a:lnTo>
                  <a:lnTo>
                    <a:pt x="402" y="155"/>
                  </a:lnTo>
                  <a:lnTo>
                    <a:pt x="408" y="173"/>
                  </a:lnTo>
                  <a:lnTo>
                    <a:pt x="412" y="191"/>
                  </a:lnTo>
                  <a:lnTo>
                    <a:pt x="416" y="209"/>
                  </a:lnTo>
                  <a:lnTo>
                    <a:pt x="417" y="229"/>
                  </a:lnTo>
                  <a:lnTo>
                    <a:pt x="417" y="235"/>
                  </a:lnTo>
                  <a:lnTo>
                    <a:pt x="417" y="241"/>
                  </a:lnTo>
                  <a:lnTo>
                    <a:pt x="416" y="247"/>
                  </a:lnTo>
                  <a:lnTo>
                    <a:pt x="414" y="254"/>
                  </a:lnTo>
                  <a:lnTo>
                    <a:pt x="414" y="259"/>
                  </a:lnTo>
                  <a:lnTo>
                    <a:pt x="413" y="265"/>
                  </a:lnTo>
                  <a:lnTo>
                    <a:pt x="411" y="271"/>
                  </a:lnTo>
                  <a:lnTo>
                    <a:pt x="410" y="277"/>
                  </a:lnTo>
                  <a:lnTo>
                    <a:pt x="450" y="288"/>
                  </a:lnTo>
                  <a:lnTo>
                    <a:pt x="452" y="281"/>
                  </a:lnTo>
                  <a:lnTo>
                    <a:pt x="453" y="274"/>
                  </a:lnTo>
                  <a:lnTo>
                    <a:pt x="456" y="266"/>
                  </a:lnTo>
                  <a:lnTo>
                    <a:pt x="457" y="259"/>
                  </a:lnTo>
                  <a:lnTo>
                    <a:pt x="458" y="251"/>
                  </a:lnTo>
                  <a:lnTo>
                    <a:pt x="458" y="244"/>
                  </a:lnTo>
                  <a:lnTo>
                    <a:pt x="458" y="236"/>
                  </a:lnTo>
                  <a:lnTo>
                    <a:pt x="459" y="22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491000" y="2914560"/>
              <a:ext cx="165240" cy="165240"/>
            </a:xfrm>
            <a:custGeom>
              <a:avLst/>
              <a:gdLst/>
              <a:ahLst/>
              <a:rect l="l" t="t" r="r" b="b"/>
              <a:pathLst>
                <a:path w="416" h="417">
                  <a:moveTo>
                    <a:pt x="416" y="209"/>
                  </a:moveTo>
                  <a:lnTo>
                    <a:pt x="415" y="187"/>
                  </a:lnTo>
                  <a:lnTo>
                    <a:pt x="412" y="167"/>
                  </a:lnTo>
                  <a:lnTo>
                    <a:pt x="408" y="146"/>
                  </a:lnTo>
                  <a:lnTo>
                    <a:pt x="400" y="128"/>
                  </a:lnTo>
                  <a:lnTo>
                    <a:pt x="391" y="109"/>
                  </a:lnTo>
                  <a:lnTo>
                    <a:pt x="381" y="92"/>
                  </a:lnTo>
                  <a:lnTo>
                    <a:pt x="369" y="76"/>
                  </a:lnTo>
                  <a:lnTo>
                    <a:pt x="356" y="61"/>
                  </a:lnTo>
                  <a:lnTo>
                    <a:pt x="341" y="48"/>
                  </a:lnTo>
                  <a:lnTo>
                    <a:pt x="324" y="36"/>
                  </a:lnTo>
                  <a:lnTo>
                    <a:pt x="307" y="25"/>
                  </a:lnTo>
                  <a:lnTo>
                    <a:pt x="290" y="16"/>
                  </a:lnTo>
                  <a:lnTo>
                    <a:pt x="270" y="10"/>
                  </a:lnTo>
                  <a:lnTo>
                    <a:pt x="250" y="5"/>
                  </a:lnTo>
                  <a:lnTo>
                    <a:pt x="229" y="1"/>
                  </a:lnTo>
                  <a:lnTo>
                    <a:pt x="208" y="0"/>
                  </a:lnTo>
                  <a:lnTo>
                    <a:pt x="187" y="1"/>
                  </a:lnTo>
                  <a:lnTo>
                    <a:pt x="167" y="5"/>
                  </a:lnTo>
                  <a:lnTo>
                    <a:pt x="146" y="10"/>
                  </a:lnTo>
                  <a:lnTo>
                    <a:pt x="127" y="16"/>
                  </a:lnTo>
                  <a:lnTo>
                    <a:pt x="109" y="25"/>
                  </a:lnTo>
                  <a:lnTo>
                    <a:pt x="92" y="36"/>
                  </a:lnTo>
                  <a:lnTo>
                    <a:pt x="76" y="48"/>
                  </a:lnTo>
                  <a:lnTo>
                    <a:pt x="61" y="61"/>
                  </a:lnTo>
                  <a:lnTo>
                    <a:pt x="48" y="76"/>
                  </a:lnTo>
                  <a:lnTo>
                    <a:pt x="36" y="92"/>
                  </a:lnTo>
                  <a:lnTo>
                    <a:pt x="25" y="109"/>
                  </a:lnTo>
                  <a:lnTo>
                    <a:pt x="16" y="128"/>
                  </a:lnTo>
                  <a:lnTo>
                    <a:pt x="9" y="146"/>
                  </a:lnTo>
                  <a:lnTo>
                    <a:pt x="5" y="167"/>
                  </a:lnTo>
                  <a:lnTo>
                    <a:pt x="1" y="187"/>
                  </a:lnTo>
                  <a:lnTo>
                    <a:pt x="0" y="209"/>
                  </a:lnTo>
                  <a:lnTo>
                    <a:pt x="1" y="229"/>
                  </a:lnTo>
                  <a:lnTo>
                    <a:pt x="5" y="251"/>
                  </a:lnTo>
                  <a:lnTo>
                    <a:pt x="9" y="270"/>
                  </a:lnTo>
                  <a:lnTo>
                    <a:pt x="16" y="290"/>
                  </a:lnTo>
                  <a:lnTo>
                    <a:pt x="25" y="308"/>
                  </a:lnTo>
                  <a:lnTo>
                    <a:pt x="36" y="325"/>
                  </a:lnTo>
                  <a:lnTo>
                    <a:pt x="48" y="340"/>
                  </a:lnTo>
                  <a:lnTo>
                    <a:pt x="61" y="356"/>
                  </a:lnTo>
                  <a:lnTo>
                    <a:pt x="76" y="370"/>
                  </a:lnTo>
                  <a:lnTo>
                    <a:pt x="92" y="381"/>
                  </a:lnTo>
                  <a:lnTo>
                    <a:pt x="109" y="391"/>
                  </a:lnTo>
                  <a:lnTo>
                    <a:pt x="127" y="400"/>
                  </a:lnTo>
                  <a:lnTo>
                    <a:pt x="146" y="407"/>
                  </a:lnTo>
                  <a:lnTo>
                    <a:pt x="167" y="413"/>
                  </a:lnTo>
                  <a:lnTo>
                    <a:pt x="187" y="416"/>
                  </a:lnTo>
                  <a:lnTo>
                    <a:pt x="208" y="417"/>
                  </a:lnTo>
                  <a:lnTo>
                    <a:pt x="221" y="416"/>
                  </a:lnTo>
                  <a:lnTo>
                    <a:pt x="232" y="415"/>
                  </a:lnTo>
                  <a:lnTo>
                    <a:pt x="244" y="414"/>
                  </a:lnTo>
                  <a:lnTo>
                    <a:pt x="256" y="412"/>
                  </a:lnTo>
                  <a:lnTo>
                    <a:pt x="267" y="408"/>
                  </a:lnTo>
                  <a:lnTo>
                    <a:pt x="278" y="404"/>
                  </a:lnTo>
                  <a:lnTo>
                    <a:pt x="289" y="401"/>
                  </a:lnTo>
                  <a:lnTo>
                    <a:pt x="299" y="396"/>
                  </a:lnTo>
                  <a:lnTo>
                    <a:pt x="281" y="358"/>
                  </a:lnTo>
                  <a:lnTo>
                    <a:pt x="272" y="362"/>
                  </a:lnTo>
                  <a:lnTo>
                    <a:pt x="264" y="365"/>
                  </a:lnTo>
                  <a:lnTo>
                    <a:pt x="255" y="369"/>
                  </a:lnTo>
                  <a:lnTo>
                    <a:pt x="247" y="371"/>
                  </a:lnTo>
                  <a:lnTo>
                    <a:pt x="237" y="373"/>
                  </a:lnTo>
                  <a:lnTo>
                    <a:pt x="227" y="374"/>
                  </a:lnTo>
                  <a:lnTo>
                    <a:pt x="218" y="375"/>
                  </a:lnTo>
                  <a:lnTo>
                    <a:pt x="208" y="375"/>
                  </a:lnTo>
                  <a:lnTo>
                    <a:pt x="191" y="374"/>
                  </a:lnTo>
                  <a:lnTo>
                    <a:pt x="174" y="372"/>
                  </a:lnTo>
                  <a:lnTo>
                    <a:pt x="159" y="367"/>
                  </a:lnTo>
                  <a:lnTo>
                    <a:pt x="143" y="362"/>
                  </a:lnTo>
                  <a:lnTo>
                    <a:pt x="129" y="354"/>
                  </a:lnTo>
                  <a:lnTo>
                    <a:pt x="115" y="347"/>
                  </a:lnTo>
                  <a:lnTo>
                    <a:pt x="102" y="337"/>
                  </a:lnTo>
                  <a:lnTo>
                    <a:pt x="90" y="326"/>
                  </a:lnTo>
                  <a:lnTo>
                    <a:pt x="79" y="315"/>
                  </a:lnTo>
                  <a:lnTo>
                    <a:pt x="70" y="302"/>
                  </a:lnTo>
                  <a:lnTo>
                    <a:pt x="62" y="288"/>
                  </a:lnTo>
                  <a:lnTo>
                    <a:pt x="54" y="273"/>
                  </a:lnTo>
                  <a:lnTo>
                    <a:pt x="49" y="258"/>
                  </a:lnTo>
                  <a:lnTo>
                    <a:pt x="44" y="242"/>
                  </a:lnTo>
                  <a:lnTo>
                    <a:pt x="42" y="226"/>
                  </a:lnTo>
                  <a:lnTo>
                    <a:pt x="41" y="209"/>
                  </a:lnTo>
                  <a:lnTo>
                    <a:pt x="42" y="191"/>
                  </a:lnTo>
                  <a:lnTo>
                    <a:pt x="44" y="175"/>
                  </a:lnTo>
                  <a:lnTo>
                    <a:pt x="49" y="159"/>
                  </a:lnTo>
                  <a:lnTo>
                    <a:pt x="54" y="144"/>
                  </a:lnTo>
                  <a:lnTo>
                    <a:pt x="62" y="129"/>
                  </a:lnTo>
                  <a:lnTo>
                    <a:pt x="70" y="116"/>
                  </a:lnTo>
                  <a:lnTo>
                    <a:pt x="79" y="103"/>
                  </a:lnTo>
                  <a:lnTo>
                    <a:pt x="90" y="91"/>
                  </a:lnTo>
                  <a:lnTo>
                    <a:pt x="102" y="80"/>
                  </a:lnTo>
                  <a:lnTo>
                    <a:pt x="115" y="70"/>
                  </a:lnTo>
                  <a:lnTo>
                    <a:pt x="129" y="62"/>
                  </a:lnTo>
                  <a:lnTo>
                    <a:pt x="143" y="55"/>
                  </a:lnTo>
                  <a:lnTo>
                    <a:pt x="159" y="49"/>
                  </a:lnTo>
                  <a:lnTo>
                    <a:pt x="174" y="46"/>
                  </a:lnTo>
                  <a:lnTo>
                    <a:pt x="191" y="42"/>
                  </a:lnTo>
                  <a:lnTo>
                    <a:pt x="208" y="41"/>
                  </a:lnTo>
                  <a:lnTo>
                    <a:pt x="225" y="42"/>
                  </a:lnTo>
                  <a:lnTo>
                    <a:pt x="242" y="46"/>
                  </a:lnTo>
                  <a:lnTo>
                    <a:pt x="257" y="49"/>
                  </a:lnTo>
                  <a:lnTo>
                    <a:pt x="274" y="55"/>
                  </a:lnTo>
                  <a:lnTo>
                    <a:pt x="288" y="62"/>
                  </a:lnTo>
                  <a:lnTo>
                    <a:pt x="302" y="70"/>
                  </a:lnTo>
                  <a:lnTo>
                    <a:pt x="315" y="80"/>
                  </a:lnTo>
                  <a:lnTo>
                    <a:pt x="327" y="91"/>
                  </a:lnTo>
                  <a:lnTo>
                    <a:pt x="336" y="103"/>
                  </a:lnTo>
                  <a:lnTo>
                    <a:pt x="346" y="116"/>
                  </a:lnTo>
                  <a:lnTo>
                    <a:pt x="355" y="129"/>
                  </a:lnTo>
                  <a:lnTo>
                    <a:pt x="362" y="144"/>
                  </a:lnTo>
                  <a:lnTo>
                    <a:pt x="368" y="159"/>
                  </a:lnTo>
                  <a:lnTo>
                    <a:pt x="372" y="175"/>
                  </a:lnTo>
                  <a:lnTo>
                    <a:pt x="374" y="191"/>
                  </a:lnTo>
                  <a:lnTo>
                    <a:pt x="375" y="209"/>
                  </a:lnTo>
                  <a:lnTo>
                    <a:pt x="375" y="214"/>
                  </a:lnTo>
                  <a:lnTo>
                    <a:pt x="374" y="219"/>
                  </a:lnTo>
                  <a:lnTo>
                    <a:pt x="374" y="225"/>
                  </a:lnTo>
                  <a:lnTo>
                    <a:pt x="373" y="230"/>
                  </a:lnTo>
                  <a:lnTo>
                    <a:pt x="373" y="236"/>
                  </a:lnTo>
                  <a:lnTo>
                    <a:pt x="372" y="241"/>
                  </a:lnTo>
                  <a:lnTo>
                    <a:pt x="371" y="246"/>
                  </a:lnTo>
                  <a:lnTo>
                    <a:pt x="369" y="252"/>
                  </a:lnTo>
                  <a:lnTo>
                    <a:pt x="410" y="263"/>
                  </a:lnTo>
                  <a:lnTo>
                    <a:pt x="411" y="256"/>
                  </a:lnTo>
                  <a:lnTo>
                    <a:pt x="413" y="250"/>
                  </a:lnTo>
                  <a:lnTo>
                    <a:pt x="414" y="243"/>
                  </a:lnTo>
                  <a:lnTo>
                    <a:pt x="415" y="236"/>
                  </a:lnTo>
                  <a:lnTo>
                    <a:pt x="415" y="229"/>
                  </a:lnTo>
                  <a:lnTo>
                    <a:pt x="416" y="223"/>
                  </a:lnTo>
                  <a:lnTo>
                    <a:pt x="416" y="215"/>
                  </a:lnTo>
                  <a:lnTo>
                    <a:pt x="416" y="209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98920" y="2922480"/>
              <a:ext cx="149400" cy="149400"/>
            </a:xfrm>
            <a:custGeom>
              <a:avLst/>
              <a:gdLst/>
              <a:ahLst/>
              <a:rect l="l" t="t" r="r" b="b"/>
              <a:pathLst>
                <a:path w="375" h="375">
                  <a:moveTo>
                    <a:pt x="375" y="188"/>
                  </a:moveTo>
                  <a:lnTo>
                    <a:pt x="374" y="168"/>
                  </a:lnTo>
                  <a:lnTo>
                    <a:pt x="370" y="150"/>
                  </a:lnTo>
                  <a:lnTo>
                    <a:pt x="366" y="132"/>
                  </a:lnTo>
                  <a:lnTo>
                    <a:pt x="360" y="114"/>
                  </a:lnTo>
                  <a:lnTo>
                    <a:pt x="352" y="98"/>
                  </a:lnTo>
                  <a:lnTo>
                    <a:pt x="342" y="83"/>
                  </a:lnTo>
                  <a:lnTo>
                    <a:pt x="331" y="68"/>
                  </a:lnTo>
                  <a:lnTo>
                    <a:pt x="320" y="55"/>
                  </a:lnTo>
                  <a:lnTo>
                    <a:pt x="307" y="43"/>
                  </a:lnTo>
                  <a:lnTo>
                    <a:pt x="291" y="32"/>
                  </a:lnTo>
                  <a:lnTo>
                    <a:pt x="276" y="22"/>
                  </a:lnTo>
                  <a:lnTo>
                    <a:pt x="260" y="15"/>
                  </a:lnTo>
                  <a:lnTo>
                    <a:pt x="243" y="8"/>
                  </a:lnTo>
                  <a:lnTo>
                    <a:pt x="224" y="4"/>
                  </a:lnTo>
                  <a:lnTo>
                    <a:pt x="206" y="1"/>
                  </a:lnTo>
                  <a:lnTo>
                    <a:pt x="187" y="0"/>
                  </a:lnTo>
                  <a:lnTo>
                    <a:pt x="168" y="1"/>
                  </a:lnTo>
                  <a:lnTo>
                    <a:pt x="150" y="4"/>
                  </a:lnTo>
                  <a:lnTo>
                    <a:pt x="132" y="8"/>
                  </a:lnTo>
                  <a:lnTo>
                    <a:pt x="114" y="15"/>
                  </a:lnTo>
                  <a:lnTo>
                    <a:pt x="98" y="22"/>
                  </a:lnTo>
                  <a:lnTo>
                    <a:pt x="82" y="32"/>
                  </a:lnTo>
                  <a:lnTo>
                    <a:pt x="68" y="43"/>
                  </a:lnTo>
                  <a:lnTo>
                    <a:pt x="55" y="55"/>
                  </a:lnTo>
                  <a:lnTo>
                    <a:pt x="43" y="68"/>
                  </a:lnTo>
                  <a:lnTo>
                    <a:pt x="32" y="83"/>
                  </a:lnTo>
                  <a:lnTo>
                    <a:pt x="22" y="98"/>
                  </a:lnTo>
                  <a:lnTo>
                    <a:pt x="15" y="114"/>
                  </a:lnTo>
                  <a:lnTo>
                    <a:pt x="8" y="132"/>
                  </a:lnTo>
                  <a:lnTo>
                    <a:pt x="3" y="150"/>
                  </a:lnTo>
                  <a:lnTo>
                    <a:pt x="1" y="168"/>
                  </a:lnTo>
                  <a:lnTo>
                    <a:pt x="0" y="188"/>
                  </a:lnTo>
                  <a:lnTo>
                    <a:pt x="1" y="206"/>
                  </a:lnTo>
                  <a:lnTo>
                    <a:pt x="3" y="225"/>
                  </a:lnTo>
                  <a:lnTo>
                    <a:pt x="8" y="243"/>
                  </a:lnTo>
                  <a:lnTo>
                    <a:pt x="15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3" y="306"/>
                  </a:lnTo>
                  <a:lnTo>
                    <a:pt x="55" y="319"/>
                  </a:lnTo>
                  <a:lnTo>
                    <a:pt x="68" y="332"/>
                  </a:lnTo>
                  <a:lnTo>
                    <a:pt x="82" y="343"/>
                  </a:lnTo>
                  <a:lnTo>
                    <a:pt x="98" y="352"/>
                  </a:lnTo>
                  <a:lnTo>
                    <a:pt x="114" y="360"/>
                  </a:lnTo>
                  <a:lnTo>
                    <a:pt x="132" y="366"/>
                  </a:lnTo>
                  <a:lnTo>
                    <a:pt x="150" y="371"/>
                  </a:lnTo>
                  <a:lnTo>
                    <a:pt x="168" y="373"/>
                  </a:lnTo>
                  <a:lnTo>
                    <a:pt x="187" y="375"/>
                  </a:lnTo>
                  <a:lnTo>
                    <a:pt x="199" y="375"/>
                  </a:lnTo>
                  <a:lnTo>
                    <a:pt x="209" y="373"/>
                  </a:lnTo>
                  <a:lnTo>
                    <a:pt x="219" y="372"/>
                  </a:lnTo>
                  <a:lnTo>
                    <a:pt x="230" y="370"/>
                  </a:lnTo>
                  <a:lnTo>
                    <a:pt x="241" y="367"/>
                  </a:lnTo>
                  <a:lnTo>
                    <a:pt x="250" y="364"/>
                  </a:lnTo>
                  <a:lnTo>
                    <a:pt x="260" y="360"/>
                  </a:lnTo>
                  <a:lnTo>
                    <a:pt x="270" y="356"/>
                  </a:lnTo>
                  <a:lnTo>
                    <a:pt x="251" y="318"/>
                  </a:lnTo>
                  <a:lnTo>
                    <a:pt x="244" y="322"/>
                  </a:lnTo>
                  <a:lnTo>
                    <a:pt x="236" y="325"/>
                  </a:lnTo>
                  <a:lnTo>
                    <a:pt x="229" y="327"/>
                  </a:lnTo>
                  <a:lnTo>
                    <a:pt x="220" y="329"/>
                  </a:lnTo>
                  <a:lnTo>
                    <a:pt x="213" y="331"/>
                  </a:lnTo>
                  <a:lnTo>
                    <a:pt x="204" y="332"/>
                  </a:lnTo>
                  <a:lnTo>
                    <a:pt x="195" y="332"/>
                  </a:lnTo>
                  <a:lnTo>
                    <a:pt x="187" y="333"/>
                  </a:lnTo>
                  <a:lnTo>
                    <a:pt x="173" y="332"/>
                  </a:lnTo>
                  <a:lnTo>
                    <a:pt x="157" y="330"/>
                  </a:lnTo>
                  <a:lnTo>
                    <a:pt x="143" y="327"/>
                  </a:lnTo>
                  <a:lnTo>
                    <a:pt x="130" y="322"/>
                  </a:lnTo>
                  <a:lnTo>
                    <a:pt x="117" y="315"/>
                  </a:lnTo>
                  <a:lnTo>
                    <a:pt x="106" y="309"/>
                  </a:lnTo>
                  <a:lnTo>
                    <a:pt x="95" y="300"/>
                  </a:lnTo>
                  <a:lnTo>
                    <a:pt x="84" y="290"/>
                  </a:lnTo>
                  <a:lnTo>
                    <a:pt x="74" y="281"/>
                  </a:lnTo>
                  <a:lnTo>
                    <a:pt x="67" y="269"/>
                  </a:lnTo>
                  <a:lnTo>
                    <a:pt x="59" y="257"/>
                  </a:lnTo>
                  <a:lnTo>
                    <a:pt x="53" y="244"/>
                  </a:lnTo>
                  <a:lnTo>
                    <a:pt x="48" y="231"/>
                  </a:lnTo>
                  <a:lnTo>
                    <a:pt x="44" y="217"/>
                  </a:lnTo>
                  <a:lnTo>
                    <a:pt x="42" y="203"/>
                  </a:lnTo>
                  <a:lnTo>
                    <a:pt x="42" y="188"/>
                  </a:lnTo>
                  <a:lnTo>
                    <a:pt x="42" y="173"/>
                  </a:lnTo>
                  <a:lnTo>
                    <a:pt x="44" y="159"/>
                  </a:lnTo>
                  <a:lnTo>
                    <a:pt x="48" y="144"/>
                  </a:lnTo>
                  <a:lnTo>
                    <a:pt x="53" y="130"/>
                  </a:lnTo>
                  <a:lnTo>
                    <a:pt x="59" y="117"/>
                  </a:lnTo>
                  <a:lnTo>
                    <a:pt x="67" y="106"/>
                  </a:lnTo>
                  <a:lnTo>
                    <a:pt x="74" y="95"/>
                  </a:lnTo>
                  <a:lnTo>
                    <a:pt x="84" y="84"/>
                  </a:lnTo>
                  <a:lnTo>
                    <a:pt x="95" y="75"/>
                  </a:lnTo>
                  <a:lnTo>
                    <a:pt x="106" y="67"/>
                  </a:lnTo>
                  <a:lnTo>
                    <a:pt x="117" y="59"/>
                  </a:lnTo>
                  <a:lnTo>
                    <a:pt x="130" y="53"/>
                  </a:lnTo>
                  <a:lnTo>
                    <a:pt x="143" y="48"/>
                  </a:lnTo>
                  <a:lnTo>
                    <a:pt x="157" y="45"/>
                  </a:lnTo>
                  <a:lnTo>
                    <a:pt x="173" y="42"/>
                  </a:lnTo>
                  <a:lnTo>
                    <a:pt x="187" y="42"/>
                  </a:lnTo>
                  <a:lnTo>
                    <a:pt x="202" y="42"/>
                  </a:lnTo>
                  <a:lnTo>
                    <a:pt x="217" y="45"/>
                  </a:lnTo>
                  <a:lnTo>
                    <a:pt x="231" y="48"/>
                  </a:lnTo>
                  <a:lnTo>
                    <a:pt x="244" y="53"/>
                  </a:lnTo>
                  <a:lnTo>
                    <a:pt x="257" y="59"/>
                  </a:lnTo>
                  <a:lnTo>
                    <a:pt x="269" y="67"/>
                  </a:lnTo>
                  <a:lnTo>
                    <a:pt x="280" y="75"/>
                  </a:lnTo>
                  <a:lnTo>
                    <a:pt x="290" y="84"/>
                  </a:lnTo>
                  <a:lnTo>
                    <a:pt x="300" y="95"/>
                  </a:lnTo>
                  <a:lnTo>
                    <a:pt x="308" y="106"/>
                  </a:lnTo>
                  <a:lnTo>
                    <a:pt x="315" y="117"/>
                  </a:lnTo>
                  <a:lnTo>
                    <a:pt x="322" y="130"/>
                  </a:lnTo>
                  <a:lnTo>
                    <a:pt x="326" y="144"/>
                  </a:lnTo>
                  <a:lnTo>
                    <a:pt x="330" y="159"/>
                  </a:lnTo>
                  <a:lnTo>
                    <a:pt x="333" y="173"/>
                  </a:lnTo>
                  <a:lnTo>
                    <a:pt x="333" y="188"/>
                  </a:lnTo>
                  <a:lnTo>
                    <a:pt x="333" y="192"/>
                  </a:lnTo>
                  <a:lnTo>
                    <a:pt x="333" y="197"/>
                  </a:lnTo>
                  <a:lnTo>
                    <a:pt x="333" y="202"/>
                  </a:lnTo>
                  <a:lnTo>
                    <a:pt x="331" y="207"/>
                  </a:lnTo>
                  <a:lnTo>
                    <a:pt x="331" y="211"/>
                  </a:lnTo>
                  <a:lnTo>
                    <a:pt x="330" y="216"/>
                  </a:lnTo>
                  <a:lnTo>
                    <a:pt x="329" y="221"/>
                  </a:lnTo>
                  <a:lnTo>
                    <a:pt x="328" y="225"/>
                  </a:lnTo>
                  <a:lnTo>
                    <a:pt x="368" y="236"/>
                  </a:lnTo>
                  <a:lnTo>
                    <a:pt x="369" y="230"/>
                  </a:lnTo>
                  <a:lnTo>
                    <a:pt x="371" y="224"/>
                  </a:lnTo>
                  <a:lnTo>
                    <a:pt x="372" y="218"/>
                  </a:lnTo>
                  <a:lnTo>
                    <a:pt x="372" y="213"/>
                  </a:lnTo>
                  <a:lnTo>
                    <a:pt x="374" y="206"/>
                  </a:lnTo>
                  <a:lnTo>
                    <a:pt x="375" y="200"/>
                  </a:lnTo>
                  <a:lnTo>
                    <a:pt x="375" y="194"/>
                  </a:lnTo>
                  <a:lnTo>
                    <a:pt x="375" y="18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508640" y="2930400"/>
              <a:ext cx="131760" cy="133560"/>
            </a:xfrm>
            <a:custGeom>
              <a:avLst/>
              <a:gdLst/>
              <a:ahLst/>
              <a:rect l="l" t="t" r="r" b="b"/>
              <a:pathLst>
                <a:path w="334" h="334">
                  <a:moveTo>
                    <a:pt x="334" y="168"/>
                  </a:moveTo>
                  <a:lnTo>
                    <a:pt x="333" y="150"/>
                  </a:lnTo>
                  <a:lnTo>
                    <a:pt x="331" y="134"/>
                  </a:lnTo>
                  <a:lnTo>
                    <a:pt x="327" y="118"/>
                  </a:lnTo>
                  <a:lnTo>
                    <a:pt x="321" y="103"/>
                  </a:lnTo>
                  <a:lnTo>
                    <a:pt x="314" y="88"/>
                  </a:lnTo>
                  <a:lnTo>
                    <a:pt x="305" y="75"/>
                  </a:lnTo>
                  <a:lnTo>
                    <a:pt x="295" y="62"/>
                  </a:lnTo>
                  <a:lnTo>
                    <a:pt x="286" y="50"/>
                  </a:lnTo>
                  <a:lnTo>
                    <a:pt x="274" y="39"/>
                  </a:lnTo>
                  <a:lnTo>
                    <a:pt x="261" y="29"/>
                  </a:lnTo>
                  <a:lnTo>
                    <a:pt x="247" y="21"/>
                  </a:lnTo>
                  <a:lnTo>
                    <a:pt x="233" y="14"/>
                  </a:lnTo>
                  <a:lnTo>
                    <a:pt x="216" y="8"/>
                  </a:lnTo>
                  <a:lnTo>
                    <a:pt x="201" y="5"/>
                  </a:lnTo>
                  <a:lnTo>
                    <a:pt x="184" y="1"/>
                  </a:lnTo>
                  <a:lnTo>
                    <a:pt x="167" y="0"/>
                  </a:lnTo>
                  <a:lnTo>
                    <a:pt x="150" y="1"/>
                  </a:lnTo>
                  <a:lnTo>
                    <a:pt x="133" y="5"/>
                  </a:lnTo>
                  <a:lnTo>
                    <a:pt x="118" y="8"/>
                  </a:lnTo>
                  <a:lnTo>
                    <a:pt x="102" y="14"/>
                  </a:lnTo>
                  <a:lnTo>
                    <a:pt x="88" y="21"/>
                  </a:lnTo>
                  <a:lnTo>
                    <a:pt x="74" y="29"/>
                  </a:lnTo>
                  <a:lnTo>
                    <a:pt x="61" y="39"/>
                  </a:lnTo>
                  <a:lnTo>
                    <a:pt x="49" y="50"/>
                  </a:lnTo>
                  <a:lnTo>
                    <a:pt x="38" y="62"/>
                  </a:lnTo>
                  <a:lnTo>
                    <a:pt x="29" y="75"/>
                  </a:lnTo>
                  <a:lnTo>
                    <a:pt x="21" y="88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3" y="134"/>
                  </a:lnTo>
                  <a:lnTo>
                    <a:pt x="1" y="150"/>
                  </a:lnTo>
                  <a:lnTo>
                    <a:pt x="0" y="168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8" y="217"/>
                  </a:lnTo>
                  <a:lnTo>
                    <a:pt x="13" y="232"/>
                  </a:lnTo>
                  <a:lnTo>
                    <a:pt x="21" y="247"/>
                  </a:lnTo>
                  <a:lnTo>
                    <a:pt x="29" y="261"/>
                  </a:lnTo>
                  <a:lnTo>
                    <a:pt x="38" y="274"/>
                  </a:lnTo>
                  <a:lnTo>
                    <a:pt x="49" y="285"/>
                  </a:lnTo>
                  <a:lnTo>
                    <a:pt x="61" y="296"/>
                  </a:lnTo>
                  <a:lnTo>
                    <a:pt x="74" y="306"/>
                  </a:lnTo>
                  <a:lnTo>
                    <a:pt x="88" y="313"/>
                  </a:lnTo>
                  <a:lnTo>
                    <a:pt x="102" y="321"/>
                  </a:lnTo>
                  <a:lnTo>
                    <a:pt x="118" y="326"/>
                  </a:lnTo>
                  <a:lnTo>
                    <a:pt x="133" y="331"/>
                  </a:lnTo>
                  <a:lnTo>
                    <a:pt x="150" y="333"/>
                  </a:lnTo>
                  <a:lnTo>
                    <a:pt x="167" y="334"/>
                  </a:lnTo>
                  <a:lnTo>
                    <a:pt x="177" y="334"/>
                  </a:lnTo>
                  <a:lnTo>
                    <a:pt x="186" y="333"/>
                  </a:lnTo>
                  <a:lnTo>
                    <a:pt x="196" y="332"/>
                  </a:lnTo>
                  <a:lnTo>
                    <a:pt x="206" y="330"/>
                  </a:lnTo>
                  <a:lnTo>
                    <a:pt x="214" y="328"/>
                  </a:lnTo>
                  <a:lnTo>
                    <a:pt x="223" y="324"/>
                  </a:lnTo>
                  <a:lnTo>
                    <a:pt x="231" y="321"/>
                  </a:lnTo>
                  <a:lnTo>
                    <a:pt x="240" y="317"/>
                  </a:lnTo>
                  <a:lnTo>
                    <a:pt x="222" y="280"/>
                  </a:lnTo>
                  <a:lnTo>
                    <a:pt x="215" y="282"/>
                  </a:lnTo>
                  <a:lnTo>
                    <a:pt x="209" y="285"/>
                  </a:lnTo>
                  <a:lnTo>
                    <a:pt x="202" y="288"/>
                  </a:lnTo>
                  <a:lnTo>
                    <a:pt x="196" y="289"/>
                  </a:lnTo>
                  <a:lnTo>
                    <a:pt x="188" y="291"/>
                  </a:lnTo>
                  <a:lnTo>
                    <a:pt x="182" y="292"/>
                  </a:lnTo>
                  <a:lnTo>
                    <a:pt x="174" y="292"/>
                  </a:lnTo>
                  <a:lnTo>
                    <a:pt x="167" y="292"/>
                  </a:lnTo>
                  <a:lnTo>
                    <a:pt x="155" y="292"/>
                  </a:lnTo>
                  <a:lnTo>
                    <a:pt x="142" y="290"/>
                  </a:lnTo>
                  <a:lnTo>
                    <a:pt x="130" y="286"/>
                  </a:lnTo>
                  <a:lnTo>
                    <a:pt x="118" y="282"/>
                  </a:lnTo>
                  <a:lnTo>
                    <a:pt x="107" y="277"/>
                  </a:lnTo>
                  <a:lnTo>
                    <a:pt x="97" y="271"/>
                  </a:lnTo>
                  <a:lnTo>
                    <a:pt x="88" y="264"/>
                  </a:lnTo>
                  <a:lnTo>
                    <a:pt x="79" y="256"/>
                  </a:lnTo>
                  <a:lnTo>
                    <a:pt x="70" y="247"/>
                  </a:lnTo>
                  <a:lnTo>
                    <a:pt x="64" y="237"/>
                  </a:lnTo>
                  <a:lnTo>
                    <a:pt x="58" y="227"/>
                  </a:lnTo>
                  <a:lnTo>
                    <a:pt x="52" y="216"/>
                  </a:lnTo>
                  <a:lnTo>
                    <a:pt x="48" y="204"/>
                  </a:lnTo>
                  <a:lnTo>
                    <a:pt x="45" y="193"/>
                  </a:lnTo>
                  <a:lnTo>
                    <a:pt x="42" y="181"/>
                  </a:lnTo>
                  <a:lnTo>
                    <a:pt x="42" y="168"/>
                  </a:lnTo>
                  <a:lnTo>
                    <a:pt x="42" y="155"/>
                  </a:lnTo>
                  <a:lnTo>
                    <a:pt x="45" y="142"/>
                  </a:lnTo>
                  <a:lnTo>
                    <a:pt x="48" y="130"/>
                  </a:lnTo>
                  <a:lnTo>
                    <a:pt x="52" y="119"/>
                  </a:lnTo>
                  <a:lnTo>
                    <a:pt x="58" y="108"/>
                  </a:lnTo>
                  <a:lnTo>
                    <a:pt x="64" y="97"/>
                  </a:lnTo>
                  <a:lnTo>
                    <a:pt x="70" y="88"/>
                  </a:lnTo>
                  <a:lnTo>
                    <a:pt x="79" y="79"/>
                  </a:lnTo>
                  <a:lnTo>
                    <a:pt x="88" y="70"/>
                  </a:lnTo>
                  <a:lnTo>
                    <a:pt x="97" y="64"/>
                  </a:lnTo>
                  <a:lnTo>
                    <a:pt x="107" y="58"/>
                  </a:lnTo>
                  <a:lnTo>
                    <a:pt x="118" y="52"/>
                  </a:lnTo>
                  <a:lnTo>
                    <a:pt x="130" y="48"/>
                  </a:lnTo>
                  <a:lnTo>
                    <a:pt x="142" y="45"/>
                  </a:lnTo>
                  <a:lnTo>
                    <a:pt x="155" y="43"/>
                  </a:lnTo>
                  <a:lnTo>
                    <a:pt x="167" y="42"/>
                  </a:lnTo>
                  <a:lnTo>
                    <a:pt x="180" y="43"/>
                  </a:lnTo>
                  <a:lnTo>
                    <a:pt x="193" y="45"/>
                  </a:lnTo>
                  <a:lnTo>
                    <a:pt x="204" y="48"/>
                  </a:lnTo>
                  <a:lnTo>
                    <a:pt x="216" y="52"/>
                  </a:lnTo>
                  <a:lnTo>
                    <a:pt x="227" y="58"/>
                  </a:lnTo>
                  <a:lnTo>
                    <a:pt x="237" y="64"/>
                  </a:lnTo>
                  <a:lnTo>
                    <a:pt x="247" y="70"/>
                  </a:lnTo>
                  <a:lnTo>
                    <a:pt x="255" y="79"/>
                  </a:lnTo>
                  <a:lnTo>
                    <a:pt x="264" y="88"/>
                  </a:lnTo>
                  <a:lnTo>
                    <a:pt x="270" y="97"/>
                  </a:lnTo>
                  <a:lnTo>
                    <a:pt x="277" y="108"/>
                  </a:lnTo>
                  <a:lnTo>
                    <a:pt x="282" y="119"/>
                  </a:lnTo>
                  <a:lnTo>
                    <a:pt x="287" y="130"/>
                  </a:lnTo>
                  <a:lnTo>
                    <a:pt x="290" y="142"/>
                  </a:lnTo>
                  <a:lnTo>
                    <a:pt x="292" y="155"/>
                  </a:lnTo>
                  <a:lnTo>
                    <a:pt x="292" y="168"/>
                  </a:lnTo>
                  <a:lnTo>
                    <a:pt x="292" y="172"/>
                  </a:lnTo>
                  <a:lnTo>
                    <a:pt x="292" y="175"/>
                  </a:lnTo>
                  <a:lnTo>
                    <a:pt x="292" y="180"/>
                  </a:lnTo>
                  <a:lnTo>
                    <a:pt x="291" y="184"/>
                  </a:lnTo>
                  <a:lnTo>
                    <a:pt x="291" y="188"/>
                  </a:lnTo>
                  <a:lnTo>
                    <a:pt x="290" y="193"/>
                  </a:lnTo>
                  <a:lnTo>
                    <a:pt x="289" y="196"/>
                  </a:lnTo>
                  <a:lnTo>
                    <a:pt x="288" y="200"/>
                  </a:lnTo>
                  <a:lnTo>
                    <a:pt x="328" y="211"/>
                  </a:lnTo>
                  <a:lnTo>
                    <a:pt x="330" y="205"/>
                  </a:lnTo>
                  <a:lnTo>
                    <a:pt x="331" y="200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33" y="184"/>
                  </a:lnTo>
                  <a:lnTo>
                    <a:pt x="333" y="178"/>
                  </a:lnTo>
                  <a:lnTo>
                    <a:pt x="334" y="173"/>
                  </a:lnTo>
                  <a:lnTo>
                    <a:pt x="334" y="168"/>
                  </a:lnTo>
                  <a:close/>
                </a:path>
              </a:pathLst>
            </a:custGeom>
            <a:solidFill>
              <a:srgbClr val="faf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16560" y="2940120"/>
              <a:ext cx="115920" cy="115920"/>
            </a:xfrm>
            <a:custGeom>
              <a:avLst/>
              <a:gdLst/>
              <a:ahLst/>
              <a:rect l="l" t="t" r="r" b="b"/>
              <a:pathLst>
                <a:path w="291" h="291">
                  <a:moveTo>
                    <a:pt x="291" y="146"/>
                  </a:moveTo>
                  <a:lnTo>
                    <a:pt x="291" y="131"/>
                  </a:lnTo>
                  <a:lnTo>
                    <a:pt x="288" y="117"/>
                  </a:lnTo>
                  <a:lnTo>
                    <a:pt x="284" y="102"/>
                  </a:lnTo>
                  <a:lnTo>
                    <a:pt x="280" y="88"/>
                  </a:lnTo>
                  <a:lnTo>
                    <a:pt x="273" y="75"/>
                  </a:lnTo>
                  <a:lnTo>
                    <a:pt x="266" y="64"/>
                  </a:lnTo>
                  <a:lnTo>
                    <a:pt x="258" y="53"/>
                  </a:lnTo>
                  <a:lnTo>
                    <a:pt x="248" y="42"/>
                  </a:lnTo>
                  <a:lnTo>
                    <a:pt x="238" y="33"/>
                  </a:lnTo>
                  <a:lnTo>
                    <a:pt x="227" y="25"/>
                  </a:lnTo>
                  <a:lnTo>
                    <a:pt x="215" y="17"/>
                  </a:lnTo>
                  <a:lnTo>
                    <a:pt x="202" y="11"/>
                  </a:lnTo>
                  <a:lnTo>
                    <a:pt x="189" y="6"/>
                  </a:lnTo>
                  <a:lnTo>
                    <a:pt x="175" y="3"/>
                  </a:lnTo>
                  <a:lnTo>
                    <a:pt x="160" y="0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5" y="3"/>
                  </a:lnTo>
                  <a:lnTo>
                    <a:pt x="101" y="6"/>
                  </a:lnTo>
                  <a:lnTo>
                    <a:pt x="88" y="11"/>
                  </a:lnTo>
                  <a:lnTo>
                    <a:pt x="75" y="17"/>
                  </a:lnTo>
                  <a:lnTo>
                    <a:pt x="64" y="25"/>
                  </a:lnTo>
                  <a:lnTo>
                    <a:pt x="53" y="33"/>
                  </a:lnTo>
                  <a:lnTo>
                    <a:pt x="42" y="42"/>
                  </a:lnTo>
                  <a:lnTo>
                    <a:pt x="32" y="53"/>
                  </a:lnTo>
                  <a:lnTo>
                    <a:pt x="25" y="64"/>
                  </a:lnTo>
                  <a:lnTo>
                    <a:pt x="17" y="75"/>
                  </a:lnTo>
                  <a:lnTo>
                    <a:pt x="11" y="88"/>
                  </a:lnTo>
                  <a:lnTo>
                    <a:pt x="6" y="102"/>
                  </a:lnTo>
                  <a:lnTo>
                    <a:pt x="2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0" y="161"/>
                  </a:lnTo>
                  <a:lnTo>
                    <a:pt x="2" y="175"/>
                  </a:lnTo>
                  <a:lnTo>
                    <a:pt x="6" y="189"/>
                  </a:lnTo>
                  <a:lnTo>
                    <a:pt x="11" y="202"/>
                  </a:lnTo>
                  <a:lnTo>
                    <a:pt x="17" y="215"/>
                  </a:lnTo>
                  <a:lnTo>
                    <a:pt x="25" y="227"/>
                  </a:lnTo>
                  <a:lnTo>
                    <a:pt x="32" y="239"/>
                  </a:lnTo>
                  <a:lnTo>
                    <a:pt x="42" y="248"/>
                  </a:lnTo>
                  <a:lnTo>
                    <a:pt x="53" y="258"/>
                  </a:lnTo>
                  <a:lnTo>
                    <a:pt x="64" y="267"/>
                  </a:lnTo>
                  <a:lnTo>
                    <a:pt x="75" y="273"/>
                  </a:lnTo>
                  <a:lnTo>
                    <a:pt x="88" y="280"/>
                  </a:lnTo>
                  <a:lnTo>
                    <a:pt x="101" y="285"/>
                  </a:lnTo>
                  <a:lnTo>
                    <a:pt x="115" y="288"/>
                  </a:lnTo>
                  <a:lnTo>
                    <a:pt x="131" y="290"/>
                  </a:lnTo>
                  <a:lnTo>
                    <a:pt x="145" y="291"/>
                  </a:lnTo>
                  <a:lnTo>
                    <a:pt x="153" y="290"/>
                  </a:lnTo>
                  <a:lnTo>
                    <a:pt x="162" y="290"/>
                  </a:lnTo>
                  <a:lnTo>
                    <a:pt x="171" y="289"/>
                  </a:lnTo>
                  <a:lnTo>
                    <a:pt x="178" y="287"/>
                  </a:lnTo>
                  <a:lnTo>
                    <a:pt x="187" y="285"/>
                  </a:lnTo>
                  <a:lnTo>
                    <a:pt x="194" y="283"/>
                  </a:lnTo>
                  <a:lnTo>
                    <a:pt x="202" y="280"/>
                  </a:lnTo>
                  <a:lnTo>
                    <a:pt x="209" y="276"/>
                  </a:lnTo>
                  <a:lnTo>
                    <a:pt x="191" y="239"/>
                  </a:lnTo>
                  <a:lnTo>
                    <a:pt x="186" y="242"/>
                  </a:lnTo>
                  <a:lnTo>
                    <a:pt x="180" y="244"/>
                  </a:lnTo>
                  <a:lnTo>
                    <a:pt x="175" y="245"/>
                  </a:lnTo>
                  <a:lnTo>
                    <a:pt x="169" y="247"/>
                  </a:lnTo>
                  <a:lnTo>
                    <a:pt x="163" y="248"/>
                  </a:lnTo>
                  <a:lnTo>
                    <a:pt x="158" y="249"/>
                  </a:lnTo>
                  <a:lnTo>
                    <a:pt x="151" y="249"/>
                  </a:lnTo>
                  <a:lnTo>
                    <a:pt x="145" y="249"/>
                  </a:lnTo>
                  <a:lnTo>
                    <a:pt x="135" y="249"/>
                  </a:lnTo>
                  <a:lnTo>
                    <a:pt x="124" y="247"/>
                  </a:lnTo>
                  <a:lnTo>
                    <a:pt x="114" y="245"/>
                  </a:lnTo>
                  <a:lnTo>
                    <a:pt x="105" y="242"/>
                  </a:lnTo>
                  <a:lnTo>
                    <a:pt x="96" y="237"/>
                  </a:lnTo>
                  <a:lnTo>
                    <a:pt x="87" y="232"/>
                  </a:lnTo>
                  <a:lnTo>
                    <a:pt x="79" y="226"/>
                  </a:lnTo>
                  <a:lnTo>
                    <a:pt x="71" y="219"/>
                  </a:lnTo>
                  <a:lnTo>
                    <a:pt x="65" y="212"/>
                  </a:lnTo>
                  <a:lnTo>
                    <a:pt x="59" y="204"/>
                  </a:lnTo>
                  <a:lnTo>
                    <a:pt x="54" y="195"/>
                  </a:lnTo>
                  <a:lnTo>
                    <a:pt x="50" y="186"/>
                  </a:lnTo>
                  <a:lnTo>
                    <a:pt x="45" y="176"/>
                  </a:lnTo>
                  <a:lnTo>
                    <a:pt x="43" y="166"/>
                  </a:lnTo>
                  <a:lnTo>
                    <a:pt x="42" y="156"/>
                  </a:lnTo>
                  <a:lnTo>
                    <a:pt x="41" y="146"/>
                  </a:lnTo>
                  <a:lnTo>
                    <a:pt x="42" y="135"/>
                  </a:lnTo>
                  <a:lnTo>
                    <a:pt x="43" y="124"/>
                  </a:lnTo>
                  <a:lnTo>
                    <a:pt x="45" y="114"/>
                  </a:lnTo>
                  <a:lnTo>
                    <a:pt x="50" y="105"/>
                  </a:lnTo>
                  <a:lnTo>
                    <a:pt x="54" y="96"/>
                  </a:lnTo>
                  <a:lnTo>
                    <a:pt x="59" y="87"/>
                  </a:lnTo>
                  <a:lnTo>
                    <a:pt x="65" y="79"/>
                  </a:lnTo>
                  <a:lnTo>
                    <a:pt x="71" y="72"/>
                  </a:lnTo>
                  <a:lnTo>
                    <a:pt x="79" y="65"/>
                  </a:lnTo>
                  <a:lnTo>
                    <a:pt x="87" y="59"/>
                  </a:lnTo>
                  <a:lnTo>
                    <a:pt x="96" y="54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3"/>
                  </a:lnTo>
                  <a:lnTo>
                    <a:pt x="135" y="42"/>
                  </a:lnTo>
                  <a:lnTo>
                    <a:pt x="145" y="41"/>
                  </a:lnTo>
                  <a:lnTo>
                    <a:pt x="155" y="42"/>
                  </a:lnTo>
                  <a:lnTo>
                    <a:pt x="166" y="43"/>
                  </a:lnTo>
                  <a:lnTo>
                    <a:pt x="176" y="46"/>
                  </a:lnTo>
                  <a:lnTo>
                    <a:pt x="186" y="50"/>
                  </a:lnTo>
                  <a:lnTo>
                    <a:pt x="194" y="54"/>
                  </a:lnTo>
                  <a:lnTo>
                    <a:pt x="203" y="59"/>
                  </a:lnTo>
                  <a:lnTo>
                    <a:pt x="212" y="65"/>
                  </a:lnTo>
                  <a:lnTo>
                    <a:pt x="219" y="72"/>
                  </a:lnTo>
                  <a:lnTo>
                    <a:pt x="226" y="79"/>
                  </a:lnTo>
                  <a:lnTo>
                    <a:pt x="231" y="87"/>
                  </a:lnTo>
                  <a:lnTo>
                    <a:pt x="236" y="96"/>
                  </a:lnTo>
                  <a:lnTo>
                    <a:pt x="241" y="105"/>
                  </a:lnTo>
                  <a:lnTo>
                    <a:pt x="245" y="114"/>
                  </a:lnTo>
                  <a:lnTo>
                    <a:pt x="247" y="124"/>
                  </a:lnTo>
                  <a:lnTo>
                    <a:pt x="248" y="135"/>
                  </a:lnTo>
                  <a:lnTo>
                    <a:pt x="249" y="146"/>
                  </a:lnTo>
                  <a:lnTo>
                    <a:pt x="249" y="149"/>
                  </a:lnTo>
                  <a:lnTo>
                    <a:pt x="249" y="152"/>
                  </a:lnTo>
                  <a:lnTo>
                    <a:pt x="248" y="155"/>
                  </a:lnTo>
                  <a:lnTo>
                    <a:pt x="248" y="160"/>
                  </a:lnTo>
                  <a:lnTo>
                    <a:pt x="248" y="163"/>
                  </a:lnTo>
                  <a:lnTo>
                    <a:pt x="247" y="166"/>
                  </a:lnTo>
                  <a:lnTo>
                    <a:pt x="246" y="169"/>
                  </a:lnTo>
                  <a:lnTo>
                    <a:pt x="246" y="173"/>
                  </a:lnTo>
                  <a:lnTo>
                    <a:pt x="286" y="183"/>
                  </a:lnTo>
                  <a:lnTo>
                    <a:pt x="287" y="179"/>
                  </a:lnTo>
                  <a:lnTo>
                    <a:pt x="288" y="174"/>
                  </a:lnTo>
                  <a:lnTo>
                    <a:pt x="289" y="169"/>
                  </a:lnTo>
                  <a:lnTo>
                    <a:pt x="289" y="165"/>
                  </a:lnTo>
                  <a:lnTo>
                    <a:pt x="291" y="160"/>
                  </a:lnTo>
                  <a:lnTo>
                    <a:pt x="291" y="155"/>
                  </a:lnTo>
                  <a:lnTo>
                    <a:pt x="291" y="150"/>
                  </a:lnTo>
                  <a:lnTo>
                    <a:pt x="291" y="14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24480" y="2948040"/>
              <a:ext cx="98280" cy="98280"/>
            </a:xfrm>
            <a:custGeom>
              <a:avLst/>
              <a:gdLst/>
              <a:ahLst/>
              <a:rect l="l" t="t" r="r" b="b"/>
              <a:pathLst>
                <a:path w="250" h="250">
                  <a:moveTo>
                    <a:pt x="250" y="126"/>
                  </a:moveTo>
                  <a:lnTo>
                    <a:pt x="250" y="113"/>
                  </a:lnTo>
                  <a:lnTo>
                    <a:pt x="248" y="100"/>
                  </a:lnTo>
                  <a:lnTo>
                    <a:pt x="245" y="88"/>
                  </a:lnTo>
                  <a:lnTo>
                    <a:pt x="240" y="77"/>
                  </a:lnTo>
                  <a:lnTo>
                    <a:pt x="235" y="66"/>
                  </a:lnTo>
                  <a:lnTo>
                    <a:pt x="228" y="55"/>
                  </a:lnTo>
                  <a:lnTo>
                    <a:pt x="222" y="46"/>
                  </a:lnTo>
                  <a:lnTo>
                    <a:pt x="213" y="37"/>
                  </a:lnTo>
                  <a:lnTo>
                    <a:pt x="205" y="28"/>
                  </a:lnTo>
                  <a:lnTo>
                    <a:pt x="195" y="22"/>
                  </a:lnTo>
                  <a:lnTo>
                    <a:pt x="185" y="16"/>
                  </a:lnTo>
                  <a:lnTo>
                    <a:pt x="174" y="10"/>
                  </a:lnTo>
                  <a:lnTo>
                    <a:pt x="162" y="6"/>
                  </a:lnTo>
                  <a:lnTo>
                    <a:pt x="151" y="3"/>
                  </a:lnTo>
                  <a:lnTo>
                    <a:pt x="138" y="1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100" y="3"/>
                  </a:lnTo>
                  <a:lnTo>
                    <a:pt x="88" y="6"/>
                  </a:lnTo>
                  <a:lnTo>
                    <a:pt x="76" y="10"/>
                  </a:lnTo>
                  <a:lnTo>
                    <a:pt x="65" y="16"/>
                  </a:lnTo>
                  <a:lnTo>
                    <a:pt x="55" y="22"/>
                  </a:lnTo>
                  <a:lnTo>
                    <a:pt x="46" y="28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2" y="55"/>
                  </a:lnTo>
                  <a:lnTo>
                    <a:pt x="16" y="66"/>
                  </a:lnTo>
                  <a:lnTo>
                    <a:pt x="10" y="77"/>
                  </a:lnTo>
                  <a:lnTo>
                    <a:pt x="6" y="88"/>
                  </a:lnTo>
                  <a:lnTo>
                    <a:pt x="3" y="100"/>
                  </a:lnTo>
                  <a:lnTo>
                    <a:pt x="0" y="113"/>
                  </a:lnTo>
                  <a:lnTo>
                    <a:pt x="0" y="126"/>
                  </a:lnTo>
                  <a:lnTo>
                    <a:pt x="0" y="139"/>
                  </a:lnTo>
                  <a:lnTo>
                    <a:pt x="3" y="151"/>
                  </a:lnTo>
                  <a:lnTo>
                    <a:pt x="6" y="162"/>
                  </a:lnTo>
                  <a:lnTo>
                    <a:pt x="10" y="174"/>
                  </a:lnTo>
                  <a:lnTo>
                    <a:pt x="16" y="185"/>
                  </a:lnTo>
                  <a:lnTo>
                    <a:pt x="22" y="195"/>
                  </a:lnTo>
                  <a:lnTo>
                    <a:pt x="28" y="205"/>
                  </a:lnTo>
                  <a:lnTo>
                    <a:pt x="37" y="214"/>
                  </a:lnTo>
                  <a:lnTo>
                    <a:pt x="46" y="222"/>
                  </a:lnTo>
                  <a:lnTo>
                    <a:pt x="55" y="229"/>
                  </a:lnTo>
                  <a:lnTo>
                    <a:pt x="65" y="235"/>
                  </a:lnTo>
                  <a:lnTo>
                    <a:pt x="76" y="240"/>
                  </a:lnTo>
                  <a:lnTo>
                    <a:pt x="88" y="244"/>
                  </a:lnTo>
                  <a:lnTo>
                    <a:pt x="100" y="248"/>
                  </a:lnTo>
                  <a:lnTo>
                    <a:pt x="113" y="250"/>
                  </a:lnTo>
                  <a:lnTo>
                    <a:pt x="125" y="250"/>
                  </a:lnTo>
                  <a:lnTo>
                    <a:pt x="132" y="250"/>
                  </a:lnTo>
                  <a:lnTo>
                    <a:pt x="140" y="250"/>
                  </a:lnTo>
                  <a:lnTo>
                    <a:pt x="146" y="249"/>
                  </a:lnTo>
                  <a:lnTo>
                    <a:pt x="154" y="247"/>
                  </a:lnTo>
                  <a:lnTo>
                    <a:pt x="160" y="246"/>
                  </a:lnTo>
                  <a:lnTo>
                    <a:pt x="167" y="243"/>
                  </a:lnTo>
                  <a:lnTo>
                    <a:pt x="173" y="240"/>
                  </a:lnTo>
                  <a:lnTo>
                    <a:pt x="180" y="238"/>
                  </a:lnTo>
                  <a:lnTo>
                    <a:pt x="161" y="200"/>
                  </a:lnTo>
                  <a:lnTo>
                    <a:pt x="157" y="202"/>
                  </a:lnTo>
                  <a:lnTo>
                    <a:pt x="153" y="203"/>
                  </a:lnTo>
                  <a:lnTo>
                    <a:pt x="148" y="206"/>
                  </a:lnTo>
                  <a:lnTo>
                    <a:pt x="144" y="207"/>
                  </a:lnTo>
                  <a:lnTo>
                    <a:pt x="140" y="208"/>
                  </a:lnTo>
                  <a:lnTo>
                    <a:pt x="134" y="208"/>
                  </a:lnTo>
                  <a:lnTo>
                    <a:pt x="130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8" y="207"/>
                  </a:lnTo>
                  <a:lnTo>
                    <a:pt x="101" y="205"/>
                  </a:lnTo>
                  <a:lnTo>
                    <a:pt x="92" y="202"/>
                  </a:lnTo>
                  <a:lnTo>
                    <a:pt x="86" y="199"/>
                  </a:lnTo>
                  <a:lnTo>
                    <a:pt x="78" y="195"/>
                  </a:lnTo>
                  <a:lnTo>
                    <a:pt x="72" y="189"/>
                  </a:lnTo>
                  <a:lnTo>
                    <a:pt x="66" y="184"/>
                  </a:lnTo>
                  <a:lnTo>
                    <a:pt x="61" y="179"/>
                  </a:lnTo>
                  <a:lnTo>
                    <a:pt x="57" y="172"/>
                  </a:lnTo>
                  <a:lnTo>
                    <a:pt x="52" y="166"/>
                  </a:lnTo>
                  <a:lnTo>
                    <a:pt x="48" y="158"/>
                  </a:lnTo>
                  <a:lnTo>
                    <a:pt x="46" y="151"/>
                  </a:lnTo>
                  <a:lnTo>
                    <a:pt x="44" y="142"/>
                  </a:lnTo>
                  <a:lnTo>
                    <a:pt x="43" y="134"/>
                  </a:lnTo>
                  <a:lnTo>
                    <a:pt x="41" y="126"/>
                  </a:lnTo>
                  <a:lnTo>
                    <a:pt x="43" y="117"/>
                  </a:lnTo>
                  <a:lnTo>
                    <a:pt x="44" y="108"/>
                  </a:lnTo>
                  <a:lnTo>
                    <a:pt x="46" y="101"/>
                  </a:lnTo>
                  <a:lnTo>
                    <a:pt x="48" y="93"/>
                  </a:lnTo>
                  <a:lnTo>
                    <a:pt x="52" y="86"/>
                  </a:lnTo>
                  <a:lnTo>
                    <a:pt x="57" y="79"/>
                  </a:lnTo>
                  <a:lnTo>
                    <a:pt x="61" y="73"/>
                  </a:lnTo>
                  <a:lnTo>
                    <a:pt x="66" y="66"/>
                  </a:lnTo>
                  <a:lnTo>
                    <a:pt x="72" y="61"/>
                  </a:lnTo>
                  <a:lnTo>
                    <a:pt x="78" y="57"/>
                  </a:lnTo>
                  <a:lnTo>
                    <a:pt x="86" y="52"/>
                  </a:lnTo>
                  <a:lnTo>
                    <a:pt x="92" y="49"/>
                  </a:lnTo>
                  <a:lnTo>
                    <a:pt x="101" y="46"/>
                  </a:lnTo>
                  <a:lnTo>
                    <a:pt x="108" y="44"/>
                  </a:lnTo>
                  <a:lnTo>
                    <a:pt x="117" y="43"/>
                  </a:lnTo>
                  <a:lnTo>
                    <a:pt x="125" y="43"/>
                  </a:lnTo>
                  <a:lnTo>
                    <a:pt x="133" y="43"/>
                  </a:lnTo>
                  <a:lnTo>
                    <a:pt x="142" y="44"/>
                  </a:lnTo>
                  <a:lnTo>
                    <a:pt x="149" y="46"/>
                  </a:lnTo>
                  <a:lnTo>
                    <a:pt x="157" y="49"/>
                  </a:lnTo>
                  <a:lnTo>
                    <a:pt x="165" y="52"/>
                  </a:lnTo>
                  <a:lnTo>
                    <a:pt x="172" y="57"/>
                  </a:lnTo>
                  <a:lnTo>
                    <a:pt x="179" y="61"/>
                  </a:lnTo>
                  <a:lnTo>
                    <a:pt x="184" y="66"/>
                  </a:lnTo>
                  <a:lnTo>
                    <a:pt x="189" y="73"/>
                  </a:lnTo>
                  <a:lnTo>
                    <a:pt x="194" y="79"/>
                  </a:lnTo>
                  <a:lnTo>
                    <a:pt x="198" y="86"/>
                  </a:lnTo>
                  <a:lnTo>
                    <a:pt x="202" y="93"/>
                  </a:lnTo>
                  <a:lnTo>
                    <a:pt x="205" y="101"/>
                  </a:lnTo>
                  <a:lnTo>
                    <a:pt x="207" y="108"/>
                  </a:lnTo>
                  <a:lnTo>
                    <a:pt x="208" y="117"/>
                  </a:lnTo>
                  <a:lnTo>
                    <a:pt x="209" y="126"/>
                  </a:lnTo>
                  <a:lnTo>
                    <a:pt x="209" y="128"/>
                  </a:lnTo>
                  <a:lnTo>
                    <a:pt x="208" y="131"/>
                  </a:lnTo>
                  <a:lnTo>
                    <a:pt x="208" y="133"/>
                  </a:lnTo>
                  <a:lnTo>
                    <a:pt x="208" y="136"/>
                  </a:lnTo>
                  <a:lnTo>
                    <a:pt x="208" y="139"/>
                  </a:lnTo>
                  <a:lnTo>
                    <a:pt x="207" y="142"/>
                  </a:lnTo>
                  <a:lnTo>
                    <a:pt x="207" y="144"/>
                  </a:lnTo>
                  <a:lnTo>
                    <a:pt x="206" y="147"/>
                  </a:lnTo>
                  <a:lnTo>
                    <a:pt x="246" y="158"/>
                  </a:lnTo>
                  <a:lnTo>
                    <a:pt x="247" y="154"/>
                  </a:lnTo>
                  <a:lnTo>
                    <a:pt x="248" y="151"/>
                  </a:lnTo>
                  <a:lnTo>
                    <a:pt x="249" y="146"/>
                  </a:lnTo>
                  <a:lnTo>
                    <a:pt x="249" y="142"/>
                  </a:lnTo>
                  <a:lnTo>
                    <a:pt x="250" y="138"/>
                  </a:lnTo>
                  <a:lnTo>
                    <a:pt x="250" y="133"/>
                  </a:lnTo>
                  <a:lnTo>
                    <a:pt x="250" y="130"/>
                  </a:lnTo>
                  <a:lnTo>
                    <a:pt x="250" y="126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532400" y="2955960"/>
              <a:ext cx="82440" cy="824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208" y="105"/>
                  </a:moveTo>
                  <a:lnTo>
                    <a:pt x="207" y="94"/>
                  </a:lnTo>
                  <a:lnTo>
                    <a:pt x="206" y="83"/>
                  </a:lnTo>
                  <a:lnTo>
                    <a:pt x="204" y="73"/>
                  </a:lnTo>
                  <a:lnTo>
                    <a:pt x="200" y="64"/>
                  </a:lnTo>
                  <a:lnTo>
                    <a:pt x="195" y="55"/>
                  </a:lnTo>
                  <a:lnTo>
                    <a:pt x="190" y="46"/>
                  </a:lnTo>
                  <a:lnTo>
                    <a:pt x="185" y="38"/>
                  </a:lnTo>
                  <a:lnTo>
                    <a:pt x="178" y="31"/>
                  </a:lnTo>
                  <a:lnTo>
                    <a:pt x="171" y="24"/>
                  </a:lnTo>
                  <a:lnTo>
                    <a:pt x="162" y="18"/>
                  </a:lnTo>
                  <a:lnTo>
                    <a:pt x="153" y="13"/>
                  </a:lnTo>
                  <a:lnTo>
                    <a:pt x="145" y="9"/>
                  </a:lnTo>
                  <a:lnTo>
                    <a:pt x="135" y="5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73" y="5"/>
                  </a:lnTo>
                  <a:lnTo>
                    <a:pt x="64" y="9"/>
                  </a:lnTo>
                  <a:lnTo>
                    <a:pt x="55" y="13"/>
                  </a:lnTo>
                  <a:lnTo>
                    <a:pt x="46" y="18"/>
                  </a:lnTo>
                  <a:lnTo>
                    <a:pt x="38" y="24"/>
                  </a:lnTo>
                  <a:lnTo>
                    <a:pt x="30" y="31"/>
                  </a:lnTo>
                  <a:lnTo>
                    <a:pt x="24" y="38"/>
                  </a:lnTo>
                  <a:lnTo>
                    <a:pt x="18" y="46"/>
                  </a:lnTo>
                  <a:lnTo>
                    <a:pt x="13" y="55"/>
                  </a:lnTo>
                  <a:lnTo>
                    <a:pt x="9" y="64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4" y="135"/>
                  </a:lnTo>
                  <a:lnTo>
                    <a:pt x="9" y="145"/>
                  </a:lnTo>
                  <a:lnTo>
                    <a:pt x="13" y="154"/>
                  </a:lnTo>
                  <a:lnTo>
                    <a:pt x="18" y="163"/>
                  </a:lnTo>
                  <a:lnTo>
                    <a:pt x="24" y="171"/>
                  </a:lnTo>
                  <a:lnTo>
                    <a:pt x="30" y="178"/>
                  </a:lnTo>
                  <a:lnTo>
                    <a:pt x="38" y="185"/>
                  </a:lnTo>
                  <a:lnTo>
                    <a:pt x="46" y="191"/>
                  </a:lnTo>
                  <a:lnTo>
                    <a:pt x="55" y="196"/>
                  </a:lnTo>
                  <a:lnTo>
                    <a:pt x="64" y="201"/>
                  </a:lnTo>
                  <a:lnTo>
                    <a:pt x="73" y="204"/>
                  </a:lnTo>
                  <a:lnTo>
                    <a:pt x="83" y="206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2" y="207"/>
                  </a:lnTo>
                  <a:lnTo>
                    <a:pt x="128" y="206"/>
                  </a:lnTo>
                  <a:lnTo>
                    <a:pt x="134" y="204"/>
                  </a:lnTo>
                  <a:lnTo>
                    <a:pt x="139" y="203"/>
                  </a:lnTo>
                  <a:lnTo>
                    <a:pt x="145" y="201"/>
                  </a:lnTo>
                  <a:lnTo>
                    <a:pt x="150" y="198"/>
                  </a:lnTo>
                  <a:lnTo>
                    <a:pt x="132" y="161"/>
                  </a:lnTo>
                  <a:lnTo>
                    <a:pt x="128" y="162"/>
                  </a:lnTo>
                  <a:lnTo>
                    <a:pt x="125" y="163"/>
                  </a:lnTo>
                  <a:lnTo>
                    <a:pt x="122" y="164"/>
                  </a:lnTo>
                  <a:lnTo>
                    <a:pt x="119" y="165"/>
                  </a:lnTo>
                  <a:lnTo>
                    <a:pt x="114" y="166"/>
                  </a:lnTo>
                  <a:lnTo>
                    <a:pt x="111" y="166"/>
                  </a:lnTo>
                  <a:lnTo>
                    <a:pt x="108" y="167"/>
                  </a:lnTo>
                  <a:lnTo>
                    <a:pt x="104" y="167"/>
                  </a:lnTo>
                  <a:lnTo>
                    <a:pt x="98" y="166"/>
                  </a:lnTo>
                  <a:lnTo>
                    <a:pt x="92" y="165"/>
                  </a:lnTo>
                  <a:lnTo>
                    <a:pt x="85" y="164"/>
                  </a:lnTo>
                  <a:lnTo>
                    <a:pt x="80" y="162"/>
                  </a:lnTo>
                  <a:lnTo>
                    <a:pt x="74" y="160"/>
                  </a:lnTo>
                  <a:lnTo>
                    <a:pt x="69" y="157"/>
                  </a:lnTo>
                  <a:lnTo>
                    <a:pt x="65" y="152"/>
                  </a:lnTo>
                  <a:lnTo>
                    <a:pt x="60" y="149"/>
                  </a:lnTo>
                  <a:lnTo>
                    <a:pt x="56" y="145"/>
                  </a:lnTo>
                  <a:lnTo>
                    <a:pt x="53" y="139"/>
                  </a:lnTo>
                  <a:lnTo>
                    <a:pt x="50" y="134"/>
                  </a:lnTo>
                  <a:lnTo>
                    <a:pt x="46" y="128"/>
                  </a:lnTo>
                  <a:lnTo>
                    <a:pt x="44" y="123"/>
                  </a:lnTo>
                  <a:lnTo>
                    <a:pt x="43" y="117"/>
                  </a:lnTo>
                  <a:lnTo>
                    <a:pt x="42" y="111"/>
                  </a:lnTo>
                  <a:lnTo>
                    <a:pt x="42" y="105"/>
                  </a:lnTo>
                  <a:lnTo>
                    <a:pt x="42" y="98"/>
                  </a:lnTo>
                  <a:lnTo>
                    <a:pt x="43" y="92"/>
                  </a:lnTo>
                  <a:lnTo>
                    <a:pt x="44" y="86"/>
                  </a:lnTo>
                  <a:lnTo>
                    <a:pt x="46" y="80"/>
                  </a:lnTo>
                  <a:lnTo>
                    <a:pt x="50" y="74"/>
                  </a:lnTo>
                  <a:lnTo>
                    <a:pt x="53" y="69"/>
                  </a:lnTo>
                  <a:lnTo>
                    <a:pt x="56" y="65"/>
                  </a:lnTo>
                  <a:lnTo>
                    <a:pt x="60" y="60"/>
                  </a:lnTo>
                  <a:lnTo>
                    <a:pt x="65" y="56"/>
                  </a:lnTo>
                  <a:lnTo>
                    <a:pt x="69" y="53"/>
                  </a:lnTo>
                  <a:lnTo>
                    <a:pt x="74" y="50"/>
                  </a:lnTo>
                  <a:lnTo>
                    <a:pt x="80" y="46"/>
                  </a:lnTo>
                  <a:lnTo>
                    <a:pt x="85" y="45"/>
                  </a:lnTo>
                  <a:lnTo>
                    <a:pt x="92" y="43"/>
                  </a:lnTo>
                  <a:lnTo>
                    <a:pt x="98" y="42"/>
                  </a:lnTo>
                  <a:lnTo>
                    <a:pt x="104" y="42"/>
                  </a:lnTo>
                  <a:lnTo>
                    <a:pt x="110" y="42"/>
                  </a:lnTo>
                  <a:lnTo>
                    <a:pt x="117" y="43"/>
                  </a:lnTo>
                  <a:lnTo>
                    <a:pt x="123" y="45"/>
                  </a:lnTo>
                  <a:lnTo>
                    <a:pt x="128" y="46"/>
                  </a:lnTo>
                  <a:lnTo>
                    <a:pt x="134" y="50"/>
                  </a:lnTo>
                  <a:lnTo>
                    <a:pt x="139" y="53"/>
                  </a:lnTo>
                  <a:lnTo>
                    <a:pt x="144" y="56"/>
                  </a:lnTo>
                  <a:lnTo>
                    <a:pt x="148" y="60"/>
                  </a:lnTo>
                  <a:lnTo>
                    <a:pt x="152" y="65"/>
                  </a:lnTo>
                  <a:lnTo>
                    <a:pt x="156" y="69"/>
                  </a:lnTo>
                  <a:lnTo>
                    <a:pt x="159" y="74"/>
                  </a:lnTo>
                  <a:lnTo>
                    <a:pt x="162" y="80"/>
                  </a:lnTo>
                  <a:lnTo>
                    <a:pt x="164" y="86"/>
                  </a:lnTo>
                  <a:lnTo>
                    <a:pt x="165" y="92"/>
                  </a:lnTo>
                  <a:lnTo>
                    <a:pt x="166" y="98"/>
                  </a:lnTo>
                  <a:lnTo>
                    <a:pt x="166" y="105"/>
                  </a:lnTo>
                  <a:lnTo>
                    <a:pt x="166" y="107"/>
                  </a:lnTo>
                  <a:lnTo>
                    <a:pt x="166" y="109"/>
                  </a:lnTo>
                  <a:lnTo>
                    <a:pt x="166" y="111"/>
                  </a:lnTo>
                  <a:lnTo>
                    <a:pt x="166" y="112"/>
                  </a:lnTo>
                  <a:lnTo>
                    <a:pt x="166" y="114"/>
                  </a:lnTo>
                  <a:lnTo>
                    <a:pt x="165" y="117"/>
                  </a:lnTo>
                  <a:lnTo>
                    <a:pt x="165" y="119"/>
                  </a:lnTo>
                  <a:lnTo>
                    <a:pt x="164" y="121"/>
                  </a:lnTo>
                  <a:lnTo>
                    <a:pt x="205" y="132"/>
                  </a:lnTo>
                  <a:lnTo>
                    <a:pt x="205" y="128"/>
                  </a:lnTo>
                  <a:lnTo>
                    <a:pt x="206" y="125"/>
                  </a:lnTo>
                  <a:lnTo>
                    <a:pt x="207" y="122"/>
                  </a:lnTo>
                  <a:lnTo>
                    <a:pt x="207" y="119"/>
                  </a:lnTo>
                  <a:lnTo>
                    <a:pt x="207" y="114"/>
                  </a:lnTo>
                  <a:lnTo>
                    <a:pt x="208" y="111"/>
                  </a:lnTo>
                  <a:lnTo>
                    <a:pt x="208" y="108"/>
                  </a:lnTo>
                  <a:lnTo>
                    <a:pt x="208" y="105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540320" y="2963880"/>
              <a:ext cx="66600" cy="66600"/>
            </a:xfrm>
            <a:custGeom>
              <a:avLst/>
              <a:gdLst/>
              <a:ahLst/>
              <a:rect l="l" t="t" r="r" b="b"/>
              <a:pathLst>
                <a:path w="168" h="166">
                  <a:moveTo>
                    <a:pt x="168" y="83"/>
                  </a:moveTo>
                  <a:lnTo>
                    <a:pt x="167" y="74"/>
                  </a:lnTo>
                  <a:lnTo>
                    <a:pt x="166" y="65"/>
                  </a:lnTo>
                  <a:lnTo>
                    <a:pt x="164" y="58"/>
                  </a:lnTo>
                  <a:lnTo>
                    <a:pt x="161" y="50"/>
                  </a:lnTo>
                  <a:lnTo>
                    <a:pt x="157" y="43"/>
                  </a:lnTo>
                  <a:lnTo>
                    <a:pt x="153" y="36"/>
                  </a:lnTo>
                  <a:lnTo>
                    <a:pt x="148" y="30"/>
                  </a:lnTo>
                  <a:lnTo>
                    <a:pt x="143" y="23"/>
                  </a:lnTo>
                  <a:lnTo>
                    <a:pt x="138" y="18"/>
                  </a:lnTo>
                  <a:lnTo>
                    <a:pt x="131" y="14"/>
                  </a:lnTo>
                  <a:lnTo>
                    <a:pt x="124" y="9"/>
                  </a:lnTo>
                  <a:lnTo>
                    <a:pt x="116" y="6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37" y="14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30"/>
                  </a:lnTo>
                  <a:lnTo>
                    <a:pt x="16" y="36"/>
                  </a:lnTo>
                  <a:lnTo>
                    <a:pt x="11" y="43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1" y="123"/>
                  </a:lnTo>
                  <a:lnTo>
                    <a:pt x="16" y="129"/>
                  </a:lnTo>
                  <a:lnTo>
                    <a:pt x="20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45" y="156"/>
                  </a:lnTo>
                  <a:lnTo>
                    <a:pt x="51" y="159"/>
                  </a:lnTo>
                  <a:lnTo>
                    <a:pt x="60" y="162"/>
                  </a:lnTo>
                  <a:lnTo>
                    <a:pt x="67" y="164"/>
                  </a:lnTo>
                  <a:lnTo>
                    <a:pt x="76" y="165"/>
                  </a:lnTo>
                  <a:lnTo>
                    <a:pt x="84" y="166"/>
                  </a:lnTo>
                  <a:lnTo>
                    <a:pt x="89" y="166"/>
                  </a:lnTo>
                  <a:lnTo>
                    <a:pt x="93" y="165"/>
                  </a:lnTo>
                  <a:lnTo>
                    <a:pt x="99" y="165"/>
                  </a:lnTo>
                  <a:lnTo>
                    <a:pt x="103" y="164"/>
                  </a:lnTo>
                  <a:lnTo>
                    <a:pt x="107" y="163"/>
                  </a:lnTo>
                  <a:lnTo>
                    <a:pt x="112" y="160"/>
                  </a:lnTo>
                  <a:lnTo>
                    <a:pt x="116" y="159"/>
                  </a:lnTo>
                  <a:lnTo>
                    <a:pt x="120" y="157"/>
                  </a:lnTo>
                  <a:lnTo>
                    <a:pt x="102" y="119"/>
                  </a:lnTo>
                  <a:lnTo>
                    <a:pt x="100" y="120"/>
                  </a:lnTo>
                  <a:lnTo>
                    <a:pt x="98" y="122"/>
                  </a:lnTo>
                  <a:lnTo>
                    <a:pt x="96" y="123"/>
                  </a:lnTo>
                  <a:lnTo>
                    <a:pt x="93" y="123"/>
                  </a:lnTo>
                  <a:lnTo>
                    <a:pt x="91" y="124"/>
                  </a:lnTo>
                  <a:lnTo>
                    <a:pt x="89" y="124"/>
                  </a:lnTo>
                  <a:lnTo>
                    <a:pt x="87" y="124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67" y="120"/>
                  </a:lnTo>
                  <a:lnTo>
                    <a:pt x="61" y="117"/>
                  </a:lnTo>
                  <a:lnTo>
                    <a:pt x="54" y="112"/>
                  </a:lnTo>
                  <a:lnTo>
                    <a:pt x="49" y="105"/>
                  </a:lnTo>
                  <a:lnTo>
                    <a:pt x="46" y="99"/>
                  </a:lnTo>
                  <a:lnTo>
                    <a:pt x="44" y="91"/>
                  </a:lnTo>
                  <a:lnTo>
                    <a:pt x="43" y="83"/>
                  </a:lnTo>
                  <a:lnTo>
                    <a:pt x="44" y="74"/>
                  </a:lnTo>
                  <a:lnTo>
                    <a:pt x="46" y="66"/>
                  </a:lnTo>
                  <a:lnTo>
                    <a:pt x="49" y="59"/>
                  </a:lnTo>
                  <a:lnTo>
                    <a:pt x="54" y="52"/>
                  </a:lnTo>
                  <a:lnTo>
                    <a:pt x="61" y="48"/>
                  </a:lnTo>
                  <a:lnTo>
                    <a:pt x="67" y="44"/>
                  </a:lnTo>
                  <a:lnTo>
                    <a:pt x="76" y="42"/>
                  </a:lnTo>
                  <a:lnTo>
                    <a:pt x="84" y="41"/>
                  </a:lnTo>
                  <a:lnTo>
                    <a:pt x="92" y="42"/>
                  </a:lnTo>
                  <a:lnTo>
                    <a:pt x="100" y="44"/>
                  </a:lnTo>
                  <a:lnTo>
                    <a:pt x="107" y="48"/>
                  </a:lnTo>
                  <a:lnTo>
                    <a:pt x="114" y="52"/>
                  </a:lnTo>
                  <a:lnTo>
                    <a:pt x="118" y="59"/>
                  </a:lnTo>
                  <a:lnTo>
                    <a:pt x="123" y="66"/>
                  </a:lnTo>
                  <a:lnTo>
                    <a:pt x="125" y="74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6" y="85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89"/>
                  </a:lnTo>
                  <a:lnTo>
                    <a:pt x="125" y="90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65" y="104"/>
                  </a:lnTo>
                  <a:lnTo>
                    <a:pt x="166" y="101"/>
                  </a:lnTo>
                  <a:lnTo>
                    <a:pt x="166" y="99"/>
                  </a:lnTo>
                  <a:lnTo>
                    <a:pt x="167" y="96"/>
                  </a:lnTo>
                  <a:lnTo>
                    <a:pt x="167" y="93"/>
                  </a:lnTo>
                  <a:lnTo>
                    <a:pt x="167" y="90"/>
                  </a:lnTo>
                  <a:lnTo>
                    <a:pt x="167" y="88"/>
                  </a:lnTo>
                  <a:lnTo>
                    <a:pt x="168" y="85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49680" y="2973240"/>
              <a:ext cx="49320" cy="4932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24" y="63"/>
                  </a:moveTo>
                  <a:lnTo>
                    <a:pt x="124" y="56"/>
                  </a:lnTo>
                  <a:lnTo>
                    <a:pt x="123" y="50"/>
                  </a:lnTo>
                  <a:lnTo>
                    <a:pt x="122" y="44"/>
                  </a:lnTo>
                  <a:lnTo>
                    <a:pt x="120" y="38"/>
                  </a:lnTo>
                  <a:lnTo>
                    <a:pt x="117" y="32"/>
                  </a:lnTo>
                  <a:lnTo>
                    <a:pt x="114" y="27"/>
                  </a:lnTo>
                  <a:lnTo>
                    <a:pt x="110" y="23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8" y="92"/>
                  </a:lnTo>
                  <a:lnTo>
                    <a:pt x="11" y="97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7" y="115"/>
                  </a:lnTo>
                  <a:lnTo>
                    <a:pt x="32" y="118"/>
                  </a:lnTo>
                  <a:lnTo>
                    <a:pt x="38" y="120"/>
                  </a:lnTo>
                  <a:lnTo>
                    <a:pt x="43" y="122"/>
                  </a:lnTo>
                  <a:lnTo>
                    <a:pt x="50" y="123"/>
                  </a:lnTo>
                  <a:lnTo>
                    <a:pt x="56" y="124"/>
                  </a:lnTo>
                  <a:lnTo>
                    <a:pt x="62" y="125"/>
                  </a:lnTo>
                  <a:lnTo>
                    <a:pt x="66" y="125"/>
                  </a:lnTo>
                  <a:lnTo>
                    <a:pt x="69" y="124"/>
                  </a:lnTo>
                  <a:lnTo>
                    <a:pt x="72" y="124"/>
                  </a:lnTo>
                  <a:lnTo>
                    <a:pt x="77" y="123"/>
                  </a:lnTo>
                  <a:lnTo>
                    <a:pt x="80" y="122"/>
                  </a:lnTo>
                  <a:lnTo>
                    <a:pt x="83" y="121"/>
                  </a:lnTo>
                  <a:lnTo>
                    <a:pt x="86" y="120"/>
                  </a:lnTo>
                  <a:lnTo>
                    <a:pt x="90" y="119"/>
                  </a:lnTo>
                  <a:lnTo>
                    <a:pt x="62" y="63"/>
                  </a:lnTo>
                  <a:lnTo>
                    <a:pt x="122" y="79"/>
                  </a:lnTo>
                  <a:lnTo>
                    <a:pt x="123" y="77"/>
                  </a:lnTo>
                  <a:lnTo>
                    <a:pt x="123" y="75"/>
                  </a:lnTo>
                  <a:lnTo>
                    <a:pt x="124" y="72"/>
                  </a:lnTo>
                  <a:lnTo>
                    <a:pt x="124" y="70"/>
                  </a:lnTo>
                  <a:lnTo>
                    <a:pt x="124" y="69"/>
                  </a:lnTo>
                  <a:lnTo>
                    <a:pt x="124" y="67"/>
                  </a:lnTo>
                  <a:lnTo>
                    <a:pt x="124" y="65"/>
                  </a:lnTo>
                  <a:lnTo>
                    <a:pt x="124" y="63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57600" y="2981160"/>
              <a:ext cx="33480" cy="3204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2"/>
                  </a:moveTo>
                  <a:lnTo>
                    <a:pt x="82" y="33"/>
                  </a:lnTo>
                  <a:lnTo>
                    <a:pt x="80" y="25"/>
                  </a:lnTo>
                  <a:lnTo>
                    <a:pt x="75" y="18"/>
                  </a:lnTo>
                  <a:lnTo>
                    <a:pt x="71" y="11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7"/>
                  </a:lnTo>
                  <a:lnTo>
                    <a:pt x="11" y="11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4"/>
                  </a:lnTo>
                  <a:lnTo>
                    <a:pt x="11" y="71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3" y="83"/>
                  </a:lnTo>
                  <a:lnTo>
                    <a:pt x="41" y="83"/>
                  </a:lnTo>
                  <a:lnTo>
                    <a:pt x="44" y="83"/>
                  </a:lnTo>
                  <a:lnTo>
                    <a:pt x="46" y="83"/>
                  </a:lnTo>
                  <a:lnTo>
                    <a:pt x="48" y="83"/>
                  </a:lnTo>
                  <a:lnTo>
                    <a:pt x="50" y="82"/>
                  </a:lnTo>
                  <a:lnTo>
                    <a:pt x="53" y="82"/>
                  </a:lnTo>
                  <a:lnTo>
                    <a:pt x="55" y="81"/>
                  </a:lnTo>
                  <a:lnTo>
                    <a:pt x="57" y="79"/>
                  </a:lnTo>
                  <a:lnTo>
                    <a:pt x="59" y="78"/>
                  </a:lnTo>
                  <a:lnTo>
                    <a:pt x="41" y="42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49"/>
                  </a:lnTo>
                  <a:lnTo>
                    <a:pt x="82" y="48"/>
                  </a:lnTo>
                  <a:lnTo>
                    <a:pt x="83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faf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565520" y="2989080"/>
              <a:ext cx="17640" cy="158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2"/>
                  </a:moveTo>
                  <a:lnTo>
                    <a:pt x="41" y="17"/>
                  </a:lnTo>
                  <a:lnTo>
                    <a:pt x="40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29"/>
                  </a:lnTo>
                  <a:lnTo>
                    <a:pt x="3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1" y="42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30" y="40"/>
                  </a:lnTo>
                  <a:lnTo>
                    <a:pt x="21" y="22"/>
                  </a:lnTo>
                  <a:lnTo>
                    <a:pt x="41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5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3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7640" y="1981080"/>
              <a:ext cx="3713400" cy="2033640"/>
            </a:xfrm>
            <a:custGeom>
              <a:avLst/>
              <a:gdLst/>
              <a:ahLst/>
              <a:rect l="l" t="t" r="r" b="b"/>
              <a:pathLst>
                <a:path w="9354" h="5123">
                  <a:moveTo>
                    <a:pt x="4677" y="2562"/>
                  </a:moveTo>
                  <a:lnTo>
                    <a:pt x="5884" y="5033"/>
                  </a:lnTo>
                  <a:lnTo>
                    <a:pt x="5738" y="5051"/>
                  </a:lnTo>
                  <a:lnTo>
                    <a:pt x="5590" y="5068"/>
                  </a:lnTo>
                  <a:lnTo>
                    <a:pt x="5438" y="5083"/>
                  </a:lnTo>
                  <a:lnTo>
                    <a:pt x="5287" y="5096"/>
                  </a:lnTo>
                  <a:lnTo>
                    <a:pt x="5210" y="5103"/>
                  </a:lnTo>
                  <a:lnTo>
                    <a:pt x="5134" y="5107"/>
                  </a:lnTo>
                  <a:lnTo>
                    <a:pt x="5058" y="5113"/>
                  </a:lnTo>
                  <a:lnTo>
                    <a:pt x="4981" y="5116"/>
                  </a:lnTo>
                  <a:lnTo>
                    <a:pt x="4905" y="5119"/>
                  </a:lnTo>
                  <a:lnTo>
                    <a:pt x="4829" y="5121"/>
                  </a:lnTo>
                  <a:lnTo>
                    <a:pt x="4752" y="5122"/>
                  </a:lnTo>
                  <a:lnTo>
                    <a:pt x="4677" y="5123"/>
                  </a:lnTo>
                  <a:lnTo>
                    <a:pt x="4437" y="5119"/>
                  </a:lnTo>
                  <a:lnTo>
                    <a:pt x="4200" y="5109"/>
                  </a:lnTo>
                  <a:lnTo>
                    <a:pt x="3967" y="5093"/>
                  </a:lnTo>
                  <a:lnTo>
                    <a:pt x="3737" y="5071"/>
                  </a:lnTo>
                  <a:lnTo>
                    <a:pt x="3511" y="5042"/>
                  </a:lnTo>
                  <a:lnTo>
                    <a:pt x="3289" y="5008"/>
                  </a:lnTo>
                  <a:lnTo>
                    <a:pt x="3072" y="4967"/>
                  </a:lnTo>
                  <a:lnTo>
                    <a:pt x="2859" y="4921"/>
                  </a:lnTo>
                  <a:lnTo>
                    <a:pt x="2653" y="4870"/>
                  </a:lnTo>
                  <a:lnTo>
                    <a:pt x="2451" y="4813"/>
                  </a:lnTo>
                  <a:lnTo>
                    <a:pt x="2255" y="4751"/>
                  </a:lnTo>
                  <a:lnTo>
                    <a:pt x="2065" y="4685"/>
                  </a:lnTo>
                  <a:lnTo>
                    <a:pt x="1881" y="4613"/>
                  </a:lnTo>
                  <a:lnTo>
                    <a:pt x="1705" y="4537"/>
                  </a:lnTo>
                  <a:lnTo>
                    <a:pt x="1534" y="4456"/>
                  </a:lnTo>
                  <a:lnTo>
                    <a:pt x="1372" y="4372"/>
                  </a:lnTo>
                  <a:lnTo>
                    <a:pt x="1217" y="4282"/>
                  </a:lnTo>
                  <a:lnTo>
                    <a:pt x="1070" y="4189"/>
                  </a:lnTo>
                  <a:lnTo>
                    <a:pt x="930" y="4092"/>
                  </a:lnTo>
                  <a:lnTo>
                    <a:pt x="801" y="3992"/>
                  </a:lnTo>
                  <a:lnTo>
                    <a:pt x="679" y="3888"/>
                  </a:lnTo>
                  <a:lnTo>
                    <a:pt x="565" y="3781"/>
                  </a:lnTo>
                  <a:lnTo>
                    <a:pt x="463" y="3670"/>
                  </a:lnTo>
                  <a:lnTo>
                    <a:pt x="369" y="3556"/>
                  </a:lnTo>
                  <a:lnTo>
                    <a:pt x="284" y="3441"/>
                  </a:lnTo>
                  <a:lnTo>
                    <a:pt x="211" y="3322"/>
                  </a:lnTo>
                  <a:lnTo>
                    <a:pt x="147" y="3200"/>
                  </a:lnTo>
                  <a:lnTo>
                    <a:pt x="95" y="3077"/>
                  </a:lnTo>
                  <a:lnTo>
                    <a:pt x="54" y="2950"/>
                  </a:lnTo>
                  <a:lnTo>
                    <a:pt x="24" y="2823"/>
                  </a:lnTo>
                  <a:lnTo>
                    <a:pt x="5" y="2692"/>
                  </a:lnTo>
                  <a:lnTo>
                    <a:pt x="0" y="2562"/>
                  </a:lnTo>
                  <a:lnTo>
                    <a:pt x="5" y="2430"/>
                  </a:lnTo>
                  <a:lnTo>
                    <a:pt x="24" y="2300"/>
                  </a:lnTo>
                  <a:lnTo>
                    <a:pt x="54" y="2172"/>
                  </a:lnTo>
                  <a:lnTo>
                    <a:pt x="95" y="2047"/>
                  </a:lnTo>
                  <a:lnTo>
                    <a:pt x="147" y="1922"/>
                  </a:lnTo>
                  <a:lnTo>
                    <a:pt x="211" y="1801"/>
                  </a:lnTo>
                  <a:lnTo>
                    <a:pt x="284" y="1683"/>
                  </a:lnTo>
                  <a:lnTo>
                    <a:pt x="369" y="1566"/>
                  </a:lnTo>
                  <a:lnTo>
                    <a:pt x="463" y="1453"/>
                  </a:lnTo>
                  <a:lnTo>
                    <a:pt x="565" y="1342"/>
                  </a:lnTo>
                  <a:lnTo>
                    <a:pt x="679" y="1234"/>
                  </a:lnTo>
                  <a:lnTo>
                    <a:pt x="801" y="1131"/>
                  </a:lnTo>
                  <a:lnTo>
                    <a:pt x="930" y="1030"/>
                  </a:lnTo>
                  <a:lnTo>
                    <a:pt x="1070" y="934"/>
                  </a:lnTo>
                  <a:lnTo>
                    <a:pt x="1217" y="840"/>
                  </a:lnTo>
                  <a:lnTo>
                    <a:pt x="1372" y="752"/>
                  </a:lnTo>
                  <a:lnTo>
                    <a:pt x="1534" y="666"/>
                  </a:lnTo>
                  <a:lnTo>
                    <a:pt x="1705" y="586"/>
                  </a:lnTo>
                  <a:lnTo>
                    <a:pt x="1881" y="510"/>
                  </a:lnTo>
                  <a:lnTo>
                    <a:pt x="2065" y="438"/>
                  </a:lnTo>
                  <a:lnTo>
                    <a:pt x="2255" y="371"/>
                  </a:lnTo>
                  <a:lnTo>
                    <a:pt x="2451" y="310"/>
                  </a:lnTo>
                  <a:lnTo>
                    <a:pt x="2653" y="253"/>
                  </a:lnTo>
                  <a:lnTo>
                    <a:pt x="2859" y="202"/>
                  </a:lnTo>
                  <a:lnTo>
                    <a:pt x="3072" y="155"/>
                  </a:lnTo>
                  <a:lnTo>
                    <a:pt x="3289" y="115"/>
                  </a:lnTo>
                  <a:lnTo>
                    <a:pt x="3511" y="81"/>
                  </a:lnTo>
                  <a:lnTo>
                    <a:pt x="3737" y="52"/>
                  </a:lnTo>
                  <a:lnTo>
                    <a:pt x="3967" y="29"/>
                  </a:lnTo>
                  <a:lnTo>
                    <a:pt x="4200" y="13"/>
                  </a:lnTo>
                  <a:lnTo>
                    <a:pt x="4437" y="3"/>
                  </a:lnTo>
                  <a:lnTo>
                    <a:pt x="4677" y="0"/>
                  </a:lnTo>
                  <a:lnTo>
                    <a:pt x="4918" y="3"/>
                  </a:lnTo>
                  <a:lnTo>
                    <a:pt x="5154" y="13"/>
                  </a:lnTo>
                  <a:lnTo>
                    <a:pt x="5388" y="29"/>
                  </a:lnTo>
                  <a:lnTo>
                    <a:pt x="5618" y="52"/>
                  </a:lnTo>
                  <a:lnTo>
                    <a:pt x="5844" y="81"/>
                  </a:lnTo>
                  <a:lnTo>
                    <a:pt x="6065" y="115"/>
                  </a:lnTo>
                  <a:lnTo>
                    <a:pt x="6282" y="155"/>
                  </a:lnTo>
                  <a:lnTo>
                    <a:pt x="6495" y="202"/>
                  </a:lnTo>
                  <a:lnTo>
                    <a:pt x="6702" y="253"/>
                  </a:lnTo>
                  <a:lnTo>
                    <a:pt x="6904" y="310"/>
                  </a:lnTo>
                  <a:lnTo>
                    <a:pt x="7099" y="371"/>
                  </a:lnTo>
                  <a:lnTo>
                    <a:pt x="7289" y="438"/>
                  </a:lnTo>
                  <a:lnTo>
                    <a:pt x="7473" y="510"/>
                  </a:lnTo>
                  <a:lnTo>
                    <a:pt x="7649" y="586"/>
                  </a:lnTo>
                  <a:lnTo>
                    <a:pt x="7820" y="666"/>
                  </a:lnTo>
                  <a:lnTo>
                    <a:pt x="7982" y="752"/>
                  </a:lnTo>
                  <a:lnTo>
                    <a:pt x="8138" y="840"/>
                  </a:lnTo>
                  <a:lnTo>
                    <a:pt x="8285" y="934"/>
                  </a:lnTo>
                  <a:lnTo>
                    <a:pt x="8423" y="1030"/>
                  </a:lnTo>
                  <a:lnTo>
                    <a:pt x="8554" y="1131"/>
                  </a:lnTo>
                  <a:lnTo>
                    <a:pt x="8676" y="1234"/>
                  </a:lnTo>
                  <a:lnTo>
                    <a:pt x="8789" y="1342"/>
                  </a:lnTo>
                  <a:lnTo>
                    <a:pt x="8892" y="1453"/>
                  </a:lnTo>
                  <a:lnTo>
                    <a:pt x="8986" y="1566"/>
                  </a:lnTo>
                  <a:lnTo>
                    <a:pt x="9070" y="1683"/>
                  </a:lnTo>
                  <a:lnTo>
                    <a:pt x="9144" y="1801"/>
                  </a:lnTo>
                  <a:lnTo>
                    <a:pt x="9207" y="1922"/>
                  </a:lnTo>
                  <a:lnTo>
                    <a:pt x="9259" y="2047"/>
                  </a:lnTo>
                  <a:lnTo>
                    <a:pt x="9300" y="2172"/>
                  </a:lnTo>
                  <a:lnTo>
                    <a:pt x="9331" y="2300"/>
                  </a:lnTo>
                  <a:lnTo>
                    <a:pt x="9349" y="2430"/>
                  </a:lnTo>
                  <a:lnTo>
                    <a:pt x="9354" y="2562"/>
                  </a:lnTo>
                  <a:lnTo>
                    <a:pt x="9354" y="2598"/>
                  </a:lnTo>
                  <a:lnTo>
                    <a:pt x="9353" y="2634"/>
                  </a:lnTo>
                  <a:lnTo>
                    <a:pt x="9350" y="2671"/>
                  </a:lnTo>
                  <a:lnTo>
                    <a:pt x="9347" y="2707"/>
                  </a:lnTo>
                  <a:lnTo>
                    <a:pt x="9342" y="2744"/>
                  </a:lnTo>
                  <a:lnTo>
                    <a:pt x="9337" y="2781"/>
                  </a:lnTo>
                  <a:lnTo>
                    <a:pt x="9332" y="2817"/>
                  </a:lnTo>
                  <a:lnTo>
                    <a:pt x="9324" y="2853"/>
                  </a:lnTo>
                  <a:lnTo>
                    <a:pt x="9316" y="2890"/>
                  </a:lnTo>
                  <a:lnTo>
                    <a:pt x="9307" y="2926"/>
                  </a:lnTo>
                  <a:lnTo>
                    <a:pt x="9297" y="2962"/>
                  </a:lnTo>
                  <a:lnTo>
                    <a:pt x="9286" y="2998"/>
                  </a:lnTo>
                  <a:lnTo>
                    <a:pt x="9274" y="3035"/>
                  </a:lnTo>
                  <a:lnTo>
                    <a:pt x="9261" y="3070"/>
                  </a:lnTo>
                  <a:lnTo>
                    <a:pt x="9248" y="3106"/>
                  </a:lnTo>
                  <a:lnTo>
                    <a:pt x="9233" y="3142"/>
                  </a:lnTo>
                  <a:lnTo>
                    <a:pt x="9218" y="3177"/>
                  </a:lnTo>
                  <a:lnTo>
                    <a:pt x="9202" y="3213"/>
                  </a:lnTo>
                  <a:lnTo>
                    <a:pt x="9185" y="3249"/>
                  </a:lnTo>
                  <a:lnTo>
                    <a:pt x="9166" y="3283"/>
                  </a:lnTo>
                  <a:lnTo>
                    <a:pt x="9148" y="3319"/>
                  </a:lnTo>
                  <a:lnTo>
                    <a:pt x="9127" y="3353"/>
                  </a:lnTo>
                  <a:lnTo>
                    <a:pt x="9107" y="3388"/>
                  </a:lnTo>
                  <a:lnTo>
                    <a:pt x="9085" y="3422"/>
                  </a:lnTo>
                  <a:lnTo>
                    <a:pt x="9063" y="3457"/>
                  </a:lnTo>
                  <a:lnTo>
                    <a:pt x="9039" y="3492"/>
                  </a:lnTo>
                  <a:lnTo>
                    <a:pt x="9014" y="3525"/>
                  </a:lnTo>
                  <a:lnTo>
                    <a:pt x="8989" y="3559"/>
                  </a:lnTo>
                  <a:lnTo>
                    <a:pt x="8963" y="3593"/>
                  </a:lnTo>
                  <a:lnTo>
                    <a:pt x="8936" y="3625"/>
                  </a:lnTo>
                  <a:lnTo>
                    <a:pt x="8908" y="3659"/>
                  </a:lnTo>
                  <a:lnTo>
                    <a:pt x="8880" y="3692"/>
                  </a:lnTo>
                  <a:lnTo>
                    <a:pt x="4677" y="2562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222" y="552"/>
                  </a:moveTo>
                  <a:lnTo>
                    <a:pt x="227" y="550"/>
                  </a:lnTo>
                  <a:lnTo>
                    <a:pt x="233" y="550"/>
                  </a:lnTo>
                  <a:lnTo>
                    <a:pt x="239" y="548"/>
                  </a:lnTo>
                  <a:lnTo>
                    <a:pt x="245" y="546"/>
                  </a:lnTo>
                  <a:lnTo>
                    <a:pt x="250" y="544"/>
                  </a:lnTo>
                  <a:lnTo>
                    <a:pt x="255" y="541"/>
                  </a:lnTo>
                  <a:lnTo>
                    <a:pt x="260" y="536"/>
                  </a:lnTo>
                  <a:lnTo>
                    <a:pt x="265" y="532"/>
                  </a:lnTo>
                  <a:lnTo>
                    <a:pt x="269" y="527"/>
                  </a:lnTo>
                  <a:lnTo>
                    <a:pt x="273" y="522"/>
                  </a:lnTo>
                  <a:lnTo>
                    <a:pt x="276" y="517"/>
                  </a:lnTo>
                  <a:lnTo>
                    <a:pt x="279" y="510"/>
                  </a:lnTo>
                  <a:lnTo>
                    <a:pt x="281" y="505"/>
                  </a:lnTo>
                  <a:lnTo>
                    <a:pt x="282" y="499"/>
                  </a:lnTo>
                  <a:lnTo>
                    <a:pt x="283" y="493"/>
                  </a:lnTo>
                  <a:lnTo>
                    <a:pt x="283" y="487"/>
                  </a:lnTo>
                  <a:lnTo>
                    <a:pt x="283" y="480"/>
                  </a:lnTo>
                  <a:lnTo>
                    <a:pt x="282" y="474"/>
                  </a:lnTo>
                  <a:lnTo>
                    <a:pt x="281" y="467"/>
                  </a:lnTo>
                  <a:lnTo>
                    <a:pt x="279" y="462"/>
                  </a:lnTo>
                  <a:lnTo>
                    <a:pt x="276" y="456"/>
                  </a:lnTo>
                  <a:lnTo>
                    <a:pt x="273" y="451"/>
                  </a:lnTo>
                  <a:lnTo>
                    <a:pt x="269" y="446"/>
                  </a:lnTo>
                  <a:lnTo>
                    <a:pt x="265" y="440"/>
                  </a:lnTo>
                  <a:lnTo>
                    <a:pt x="260" y="436"/>
                  </a:lnTo>
                  <a:lnTo>
                    <a:pt x="255" y="433"/>
                  </a:lnTo>
                  <a:lnTo>
                    <a:pt x="250" y="429"/>
                  </a:lnTo>
                  <a:lnTo>
                    <a:pt x="245" y="426"/>
                  </a:lnTo>
                  <a:lnTo>
                    <a:pt x="239" y="424"/>
                  </a:lnTo>
                  <a:lnTo>
                    <a:pt x="233" y="423"/>
                  </a:lnTo>
                  <a:lnTo>
                    <a:pt x="227" y="422"/>
                  </a:lnTo>
                  <a:lnTo>
                    <a:pt x="222" y="422"/>
                  </a:lnTo>
                  <a:lnTo>
                    <a:pt x="215" y="422"/>
                  </a:lnTo>
                  <a:lnTo>
                    <a:pt x="210" y="423"/>
                  </a:lnTo>
                  <a:lnTo>
                    <a:pt x="203" y="424"/>
                  </a:lnTo>
                  <a:lnTo>
                    <a:pt x="198" y="426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36"/>
                  </a:lnTo>
                  <a:lnTo>
                    <a:pt x="178" y="440"/>
                  </a:lnTo>
                  <a:lnTo>
                    <a:pt x="175" y="445"/>
                  </a:lnTo>
                  <a:lnTo>
                    <a:pt x="171" y="450"/>
                  </a:lnTo>
                  <a:lnTo>
                    <a:pt x="169" y="455"/>
                  </a:lnTo>
                  <a:lnTo>
                    <a:pt x="165" y="461"/>
                  </a:lnTo>
                  <a:lnTo>
                    <a:pt x="164" y="467"/>
                  </a:lnTo>
                  <a:lnTo>
                    <a:pt x="162" y="473"/>
                  </a:lnTo>
                  <a:lnTo>
                    <a:pt x="162" y="479"/>
                  </a:lnTo>
                  <a:lnTo>
                    <a:pt x="161" y="487"/>
                  </a:lnTo>
                  <a:lnTo>
                    <a:pt x="162" y="493"/>
                  </a:lnTo>
                  <a:lnTo>
                    <a:pt x="162" y="500"/>
                  </a:lnTo>
                  <a:lnTo>
                    <a:pt x="164" y="505"/>
                  </a:lnTo>
                  <a:lnTo>
                    <a:pt x="165" y="512"/>
                  </a:lnTo>
                  <a:lnTo>
                    <a:pt x="169" y="517"/>
                  </a:lnTo>
                  <a:lnTo>
                    <a:pt x="171" y="522"/>
                  </a:lnTo>
                  <a:lnTo>
                    <a:pt x="175" y="528"/>
                  </a:lnTo>
                  <a:lnTo>
                    <a:pt x="178" y="532"/>
                  </a:lnTo>
                  <a:lnTo>
                    <a:pt x="184" y="536"/>
                  </a:lnTo>
                  <a:lnTo>
                    <a:pt x="188" y="541"/>
                  </a:lnTo>
                  <a:lnTo>
                    <a:pt x="192" y="544"/>
                  </a:lnTo>
                  <a:lnTo>
                    <a:pt x="198" y="546"/>
                  </a:lnTo>
                  <a:lnTo>
                    <a:pt x="203" y="548"/>
                  </a:lnTo>
                  <a:lnTo>
                    <a:pt x="210" y="550"/>
                  </a:lnTo>
                  <a:lnTo>
                    <a:pt x="215" y="550"/>
                  </a:lnTo>
                  <a:lnTo>
                    <a:pt x="222" y="552"/>
                  </a:lnTo>
                  <a:close/>
                  <a:moveTo>
                    <a:pt x="222" y="285"/>
                  </a:moveTo>
                  <a:lnTo>
                    <a:pt x="227" y="285"/>
                  </a:lnTo>
                  <a:lnTo>
                    <a:pt x="233" y="284"/>
                  </a:lnTo>
                  <a:lnTo>
                    <a:pt x="239" y="282"/>
                  </a:lnTo>
                  <a:lnTo>
                    <a:pt x="245" y="279"/>
                  </a:lnTo>
                  <a:lnTo>
                    <a:pt x="250" y="277"/>
                  </a:lnTo>
                  <a:lnTo>
                    <a:pt x="255" y="274"/>
                  </a:lnTo>
                  <a:lnTo>
                    <a:pt x="260" y="270"/>
                  </a:lnTo>
                  <a:lnTo>
                    <a:pt x="265" y="265"/>
                  </a:lnTo>
                  <a:lnTo>
                    <a:pt x="269" y="261"/>
                  </a:lnTo>
                  <a:lnTo>
                    <a:pt x="273" y="256"/>
                  </a:lnTo>
                  <a:lnTo>
                    <a:pt x="276" y="250"/>
                  </a:lnTo>
                  <a:lnTo>
                    <a:pt x="279" y="245"/>
                  </a:lnTo>
                  <a:lnTo>
                    <a:pt x="281" y="238"/>
                  </a:lnTo>
                  <a:lnTo>
                    <a:pt x="282" y="233"/>
                  </a:lnTo>
                  <a:lnTo>
                    <a:pt x="283" y="226"/>
                  </a:lnTo>
                  <a:lnTo>
                    <a:pt x="283" y="220"/>
                  </a:lnTo>
                  <a:lnTo>
                    <a:pt x="283" y="213"/>
                  </a:lnTo>
                  <a:lnTo>
                    <a:pt x="282" y="207"/>
                  </a:lnTo>
                  <a:lnTo>
                    <a:pt x="281" y="201"/>
                  </a:lnTo>
                  <a:lnTo>
                    <a:pt x="279" y="195"/>
                  </a:lnTo>
                  <a:lnTo>
                    <a:pt x="276" y="190"/>
                  </a:lnTo>
                  <a:lnTo>
                    <a:pt x="273" y="184"/>
                  </a:lnTo>
                  <a:lnTo>
                    <a:pt x="269" y="179"/>
                  </a:lnTo>
                  <a:lnTo>
                    <a:pt x="265" y="175"/>
                  </a:lnTo>
                  <a:lnTo>
                    <a:pt x="260" y="170"/>
                  </a:lnTo>
                  <a:lnTo>
                    <a:pt x="255" y="166"/>
                  </a:lnTo>
                  <a:lnTo>
                    <a:pt x="250" y="163"/>
                  </a:lnTo>
                  <a:lnTo>
                    <a:pt x="245" y="159"/>
                  </a:lnTo>
                  <a:lnTo>
                    <a:pt x="239" y="157"/>
                  </a:lnTo>
                  <a:lnTo>
                    <a:pt x="233" y="156"/>
                  </a:lnTo>
                  <a:lnTo>
                    <a:pt x="227" y="155"/>
                  </a:lnTo>
                  <a:lnTo>
                    <a:pt x="222" y="155"/>
                  </a:lnTo>
                  <a:lnTo>
                    <a:pt x="215" y="155"/>
                  </a:lnTo>
                  <a:lnTo>
                    <a:pt x="210" y="156"/>
                  </a:lnTo>
                  <a:lnTo>
                    <a:pt x="203" y="157"/>
                  </a:lnTo>
                  <a:lnTo>
                    <a:pt x="198" y="159"/>
                  </a:lnTo>
                  <a:lnTo>
                    <a:pt x="192" y="163"/>
                  </a:lnTo>
                  <a:lnTo>
                    <a:pt x="188" y="166"/>
                  </a:lnTo>
                  <a:lnTo>
                    <a:pt x="184" y="169"/>
                  </a:lnTo>
                  <a:lnTo>
                    <a:pt x="178" y="174"/>
                  </a:lnTo>
                  <a:lnTo>
                    <a:pt x="175" y="179"/>
                  </a:lnTo>
                  <a:lnTo>
                    <a:pt x="171" y="183"/>
                  </a:lnTo>
                  <a:lnTo>
                    <a:pt x="169" y="189"/>
                  </a:lnTo>
                  <a:lnTo>
                    <a:pt x="165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62" y="213"/>
                  </a:lnTo>
                  <a:lnTo>
                    <a:pt x="161" y="220"/>
                  </a:lnTo>
                  <a:lnTo>
                    <a:pt x="162" y="226"/>
                  </a:lnTo>
                  <a:lnTo>
                    <a:pt x="162" y="233"/>
                  </a:lnTo>
                  <a:lnTo>
                    <a:pt x="164" y="239"/>
                  </a:lnTo>
                  <a:lnTo>
                    <a:pt x="165" y="245"/>
                  </a:lnTo>
                  <a:lnTo>
                    <a:pt x="169" y="250"/>
                  </a:lnTo>
                  <a:lnTo>
                    <a:pt x="171" y="256"/>
                  </a:lnTo>
                  <a:lnTo>
                    <a:pt x="175" y="261"/>
                  </a:lnTo>
                  <a:lnTo>
                    <a:pt x="178" y="265"/>
                  </a:lnTo>
                  <a:lnTo>
                    <a:pt x="184" y="270"/>
                  </a:lnTo>
                  <a:lnTo>
                    <a:pt x="188" y="274"/>
                  </a:lnTo>
                  <a:lnTo>
                    <a:pt x="192" y="277"/>
                  </a:lnTo>
                  <a:lnTo>
                    <a:pt x="198" y="279"/>
                  </a:lnTo>
                  <a:lnTo>
                    <a:pt x="203" y="282"/>
                  </a:lnTo>
                  <a:lnTo>
                    <a:pt x="210" y="284"/>
                  </a:lnTo>
                  <a:lnTo>
                    <a:pt x="215" y="285"/>
                  </a:lnTo>
                  <a:lnTo>
                    <a:pt x="222" y="285"/>
                  </a:lnTo>
                  <a:close/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000680" y="253044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4"/>
                  </a:lnTo>
                  <a:lnTo>
                    <a:pt x="694" y="602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7"/>
                  </a:lnTo>
                  <a:lnTo>
                    <a:pt x="727" y="582"/>
                  </a:lnTo>
                  <a:lnTo>
                    <a:pt x="733" y="575"/>
                  </a:lnTo>
                  <a:lnTo>
                    <a:pt x="737" y="569"/>
                  </a:lnTo>
                  <a:lnTo>
                    <a:pt x="741" y="562"/>
                  </a:lnTo>
                  <a:lnTo>
                    <a:pt x="745" y="556"/>
                  </a:lnTo>
                  <a:lnTo>
                    <a:pt x="747" y="548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1" y="525"/>
                  </a:lnTo>
                  <a:lnTo>
                    <a:pt x="750" y="516"/>
                  </a:lnTo>
                  <a:lnTo>
                    <a:pt x="749" y="508"/>
                  </a:lnTo>
                  <a:lnTo>
                    <a:pt x="747" y="501"/>
                  </a:lnTo>
                  <a:lnTo>
                    <a:pt x="745" y="493"/>
                  </a:lnTo>
                  <a:lnTo>
                    <a:pt x="741" y="486"/>
                  </a:lnTo>
                  <a:lnTo>
                    <a:pt x="737" y="479"/>
                  </a:lnTo>
                  <a:lnTo>
                    <a:pt x="733" y="473"/>
                  </a:lnTo>
                  <a:lnTo>
                    <a:pt x="727" y="466"/>
                  </a:lnTo>
                  <a:lnTo>
                    <a:pt x="721" y="460"/>
                  </a:lnTo>
                  <a:lnTo>
                    <a:pt x="714" y="455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2"/>
                  </a:lnTo>
                  <a:lnTo>
                    <a:pt x="679" y="441"/>
                  </a:lnTo>
                  <a:lnTo>
                    <a:pt x="670" y="441"/>
                  </a:lnTo>
                  <a:lnTo>
                    <a:pt x="662" y="441"/>
                  </a:lnTo>
                  <a:lnTo>
                    <a:pt x="654" y="442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5"/>
                  </a:lnTo>
                  <a:lnTo>
                    <a:pt x="619" y="460"/>
                  </a:lnTo>
                  <a:lnTo>
                    <a:pt x="614" y="466"/>
                  </a:lnTo>
                  <a:lnTo>
                    <a:pt x="607" y="473"/>
                  </a:lnTo>
                  <a:lnTo>
                    <a:pt x="603" y="479"/>
                  </a:lnTo>
                  <a:lnTo>
                    <a:pt x="599" y="486"/>
                  </a:lnTo>
                  <a:lnTo>
                    <a:pt x="595" y="493"/>
                  </a:lnTo>
                  <a:lnTo>
                    <a:pt x="593" y="501"/>
                  </a:lnTo>
                  <a:lnTo>
                    <a:pt x="591" y="508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8"/>
                  </a:lnTo>
                  <a:lnTo>
                    <a:pt x="595" y="556"/>
                  </a:lnTo>
                  <a:lnTo>
                    <a:pt x="599" y="562"/>
                  </a:lnTo>
                  <a:lnTo>
                    <a:pt x="603" y="569"/>
                  </a:lnTo>
                  <a:lnTo>
                    <a:pt x="607" y="575"/>
                  </a:lnTo>
                  <a:lnTo>
                    <a:pt x="613" y="582"/>
                  </a:lnTo>
                  <a:lnTo>
                    <a:pt x="619" y="587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2"/>
                  </a:lnTo>
                  <a:lnTo>
                    <a:pt x="654" y="604"/>
                  </a:lnTo>
                  <a:lnTo>
                    <a:pt x="662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2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4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5"/>
                  </a:lnTo>
                  <a:lnTo>
                    <a:pt x="510" y="630"/>
                  </a:lnTo>
                  <a:lnTo>
                    <a:pt x="501" y="615"/>
                  </a:lnTo>
                  <a:lnTo>
                    <a:pt x="494" y="598"/>
                  </a:lnTo>
                  <a:lnTo>
                    <a:pt x="487" y="581"/>
                  </a:lnTo>
                  <a:lnTo>
                    <a:pt x="483" y="562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7"/>
                  </a:lnTo>
                  <a:lnTo>
                    <a:pt x="494" y="450"/>
                  </a:lnTo>
                  <a:lnTo>
                    <a:pt x="501" y="433"/>
                  </a:lnTo>
                  <a:lnTo>
                    <a:pt x="511" y="417"/>
                  </a:lnTo>
                  <a:lnTo>
                    <a:pt x="522" y="401"/>
                  </a:lnTo>
                  <a:lnTo>
                    <a:pt x="535" y="387"/>
                  </a:lnTo>
                  <a:lnTo>
                    <a:pt x="549" y="374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7" y="345"/>
                  </a:lnTo>
                  <a:lnTo>
                    <a:pt x="613" y="339"/>
                  </a:lnTo>
                  <a:lnTo>
                    <a:pt x="631" y="334"/>
                  </a:lnTo>
                  <a:lnTo>
                    <a:pt x="649" y="332"/>
                  </a:lnTo>
                  <a:lnTo>
                    <a:pt x="669" y="331"/>
                  </a:lnTo>
                  <a:lnTo>
                    <a:pt x="688" y="332"/>
                  </a:lnTo>
                  <a:lnTo>
                    <a:pt x="707" y="334"/>
                  </a:lnTo>
                  <a:lnTo>
                    <a:pt x="725" y="339"/>
                  </a:lnTo>
                  <a:lnTo>
                    <a:pt x="742" y="345"/>
                  </a:lnTo>
                  <a:lnTo>
                    <a:pt x="759" y="353"/>
                  </a:lnTo>
                  <a:lnTo>
                    <a:pt x="775" y="363"/>
                  </a:lnTo>
                  <a:lnTo>
                    <a:pt x="790" y="374"/>
                  </a:lnTo>
                  <a:lnTo>
                    <a:pt x="804" y="387"/>
                  </a:lnTo>
                  <a:lnTo>
                    <a:pt x="818" y="402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7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2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4"/>
                  </a:lnTo>
                  <a:lnTo>
                    <a:pt x="829" y="630"/>
                  </a:lnTo>
                  <a:lnTo>
                    <a:pt x="818" y="645"/>
                  </a:lnTo>
                  <a:lnTo>
                    <a:pt x="805" y="660"/>
                  </a:lnTo>
                  <a:lnTo>
                    <a:pt x="791" y="672"/>
                  </a:lnTo>
                  <a:lnTo>
                    <a:pt x="776" y="684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6" y="708"/>
                  </a:lnTo>
                  <a:lnTo>
                    <a:pt x="708" y="712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5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0"/>
                  </a:lnTo>
                  <a:lnTo>
                    <a:pt x="253" y="244"/>
                  </a:lnTo>
                  <a:lnTo>
                    <a:pt x="257" y="237"/>
                  </a:lnTo>
                  <a:lnTo>
                    <a:pt x="262" y="230"/>
                  </a:lnTo>
                  <a:lnTo>
                    <a:pt x="265" y="223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199"/>
                  </a:lnTo>
                  <a:lnTo>
                    <a:pt x="271" y="192"/>
                  </a:lnTo>
                  <a:lnTo>
                    <a:pt x="270" y="183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8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6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6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8"/>
                  </a:lnTo>
                  <a:lnTo>
                    <a:pt x="134" y="134"/>
                  </a:lnTo>
                  <a:lnTo>
                    <a:pt x="129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4" y="168"/>
                  </a:lnTo>
                  <a:lnTo>
                    <a:pt x="111" y="176"/>
                  </a:lnTo>
                  <a:lnTo>
                    <a:pt x="110" y="183"/>
                  </a:lnTo>
                  <a:lnTo>
                    <a:pt x="110" y="192"/>
                  </a:lnTo>
                  <a:lnTo>
                    <a:pt x="110" y="199"/>
                  </a:lnTo>
                  <a:lnTo>
                    <a:pt x="111" y="208"/>
                  </a:lnTo>
                  <a:lnTo>
                    <a:pt x="114" y="216"/>
                  </a:lnTo>
                  <a:lnTo>
                    <a:pt x="116" y="223"/>
                  </a:lnTo>
                  <a:lnTo>
                    <a:pt x="119" y="231"/>
                  </a:lnTo>
                  <a:lnTo>
                    <a:pt x="123" y="237"/>
                  </a:lnTo>
                  <a:lnTo>
                    <a:pt x="129" y="244"/>
                  </a:lnTo>
                  <a:lnTo>
                    <a:pt x="134" y="250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5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2680" y="2698560"/>
              <a:ext cx="49320" cy="5076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28"/>
                  </a:lnTo>
                  <a:lnTo>
                    <a:pt x="72" y="128"/>
                  </a:lnTo>
                  <a:lnTo>
                    <a:pt x="78" y="126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4"/>
                  </a:lnTo>
                  <a:lnTo>
                    <a:pt x="104" y="110"/>
                  </a:lnTo>
                  <a:lnTo>
                    <a:pt x="108" y="105"/>
                  </a:lnTo>
                  <a:lnTo>
                    <a:pt x="112" y="100"/>
                  </a:lnTo>
                  <a:lnTo>
                    <a:pt x="115" y="95"/>
                  </a:lnTo>
                  <a:lnTo>
                    <a:pt x="118" y="88"/>
                  </a:lnTo>
                  <a:lnTo>
                    <a:pt x="120" y="83"/>
                  </a:lnTo>
                  <a:lnTo>
                    <a:pt x="121" y="77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5"/>
                  </a:lnTo>
                  <a:lnTo>
                    <a:pt x="118" y="40"/>
                  </a:lnTo>
                  <a:lnTo>
                    <a:pt x="115" y="34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8" y="33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0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4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22680" y="2592360"/>
              <a:ext cx="49320" cy="52200"/>
            </a:xfrm>
            <a:custGeom>
              <a:avLst/>
              <a:gdLst/>
              <a:ahLst/>
              <a:rect l="l" t="t" r="r" b="b"/>
              <a:pathLst>
                <a:path w="122" h="130">
                  <a:moveTo>
                    <a:pt x="61" y="130"/>
                  </a:moveTo>
                  <a:lnTo>
                    <a:pt x="66" y="130"/>
                  </a:lnTo>
                  <a:lnTo>
                    <a:pt x="72" y="129"/>
                  </a:lnTo>
                  <a:lnTo>
                    <a:pt x="78" y="127"/>
                  </a:lnTo>
                  <a:lnTo>
                    <a:pt x="84" y="124"/>
                  </a:lnTo>
                  <a:lnTo>
                    <a:pt x="89" y="122"/>
                  </a:lnTo>
                  <a:lnTo>
                    <a:pt x="94" y="119"/>
                  </a:lnTo>
                  <a:lnTo>
                    <a:pt x="99" y="115"/>
                  </a:lnTo>
                  <a:lnTo>
                    <a:pt x="104" y="110"/>
                  </a:lnTo>
                  <a:lnTo>
                    <a:pt x="108" y="106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90"/>
                  </a:lnTo>
                  <a:lnTo>
                    <a:pt x="120" y="83"/>
                  </a:lnTo>
                  <a:lnTo>
                    <a:pt x="121" y="78"/>
                  </a:lnTo>
                  <a:lnTo>
                    <a:pt x="122" y="71"/>
                  </a:lnTo>
                  <a:lnTo>
                    <a:pt x="122" y="65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8" y="40"/>
                  </a:lnTo>
                  <a:lnTo>
                    <a:pt x="115" y="35"/>
                  </a:lnTo>
                  <a:lnTo>
                    <a:pt x="112" y="29"/>
                  </a:lnTo>
                  <a:lnTo>
                    <a:pt x="108" y="24"/>
                  </a:lnTo>
                  <a:lnTo>
                    <a:pt x="104" y="20"/>
                  </a:lnTo>
                  <a:lnTo>
                    <a:pt x="99" y="15"/>
                  </a:lnTo>
                  <a:lnTo>
                    <a:pt x="94" y="11"/>
                  </a:lnTo>
                  <a:lnTo>
                    <a:pt x="89" y="8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8" y="95"/>
                  </a:lnTo>
                  <a:lnTo>
                    <a:pt x="10" y="101"/>
                  </a:lnTo>
                  <a:lnTo>
                    <a:pt x="14" y="106"/>
                  </a:lnTo>
                  <a:lnTo>
                    <a:pt x="17" y="110"/>
                  </a:lnTo>
                  <a:lnTo>
                    <a:pt x="23" y="115"/>
                  </a:lnTo>
                  <a:lnTo>
                    <a:pt x="27" y="119"/>
                  </a:lnTo>
                  <a:lnTo>
                    <a:pt x="31" y="122"/>
                  </a:lnTo>
                  <a:lnTo>
                    <a:pt x="37" y="124"/>
                  </a:lnTo>
                  <a:lnTo>
                    <a:pt x="42" y="127"/>
                  </a:lnTo>
                  <a:lnTo>
                    <a:pt x="49" y="129"/>
                  </a:lnTo>
                  <a:lnTo>
                    <a:pt x="54" y="130"/>
                  </a:lnTo>
                  <a:lnTo>
                    <a:pt x="61" y="13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559320" y="2530440"/>
              <a:ext cx="176040" cy="284040"/>
            </a:xfrm>
            <a:custGeom>
              <a:avLst/>
              <a:gdLst/>
              <a:ahLst/>
              <a:rect l="l" t="t" r="r" b="b"/>
              <a:pathLst>
                <a:path w="444" h="716">
                  <a:moveTo>
                    <a:pt x="366" y="350"/>
                  </a:moveTo>
                  <a:lnTo>
                    <a:pt x="376" y="356"/>
                  </a:lnTo>
                  <a:lnTo>
                    <a:pt x="385" y="364"/>
                  </a:lnTo>
                  <a:lnTo>
                    <a:pt x="392" y="372"/>
                  </a:lnTo>
                  <a:lnTo>
                    <a:pt x="401" y="380"/>
                  </a:lnTo>
                  <a:lnTo>
                    <a:pt x="407" y="388"/>
                  </a:lnTo>
                  <a:lnTo>
                    <a:pt x="414" y="397"/>
                  </a:lnTo>
                  <a:lnTo>
                    <a:pt x="419" y="407"/>
                  </a:lnTo>
                  <a:lnTo>
                    <a:pt x="425" y="417"/>
                  </a:lnTo>
                  <a:lnTo>
                    <a:pt x="430" y="426"/>
                  </a:lnTo>
                  <a:lnTo>
                    <a:pt x="433" y="437"/>
                  </a:lnTo>
                  <a:lnTo>
                    <a:pt x="437" y="447"/>
                  </a:lnTo>
                  <a:lnTo>
                    <a:pt x="440" y="459"/>
                  </a:lnTo>
                  <a:lnTo>
                    <a:pt x="442" y="469"/>
                  </a:lnTo>
                  <a:lnTo>
                    <a:pt x="443" y="481"/>
                  </a:lnTo>
                  <a:lnTo>
                    <a:pt x="444" y="493"/>
                  </a:lnTo>
                  <a:lnTo>
                    <a:pt x="444" y="506"/>
                  </a:lnTo>
                  <a:lnTo>
                    <a:pt x="443" y="528"/>
                  </a:lnTo>
                  <a:lnTo>
                    <a:pt x="441" y="549"/>
                  </a:lnTo>
                  <a:lnTo>
                    <a:pt x="435" y="569"/>
                  </a:lnTo>
                  <a:lnTo>
                    <a:pt x="429" y="588"/>
                  </a:lnTo>
                  <a:lnTo>
                    <a:pt x="420" y="607"/>
                  </a:lnTo>
                  <a:lnTo>
                    <a:pt x="408" y="624"/>
                  </a:lnTo>
                  <a:lnTo>
                    <a:pt x="397" y="640"/>
                  </a:lnTo>
                  <a:lnTo>
                    <a:pt x="381" y="656"/>
                  </a:lnTo>
                  <a:lnTo>
                    <a:pt x="365" y="670"/>
                  </a:lnTo>
                  <a:lnTo>
                    <a:pt x="348" y="682"/>
                  </a:lnTo>
                  <a:lnTo>
                    <a:pt x="330" y="693"/>
                  </a:lnTo>
                  <a:lnTo>
                    <a:pt x="310" y="701"/>
                  </a:lnTo>
                  <a:lnTo>
                    <a:pt x="290" y="708"/>
                  </a:lnTo>
                  <a:lnTo>
                    <a:pt x="268" y="712"/>
                  </a:lnTo>
                  <a:lnTo>
                    <a:pt x="245" y="716"/>
                  </a:lnTo>
                  <a:lnTo>
                    <a:pt x="223" y="716"/>
                  </a:lnTo>
                  <a:lnTo>
                    <a:pt x="199" y="716"/>
                  </a:lnTo>
                  <a:lnTo>
                    <a:pt x="176" y="712"/>
                  </a:lnTo>
                  <a:lnTo>
                    <a:pt x="155" y="708"/>
                  </a:lnTo>
                  <a:lnTo>
                    <a:pt x="134" y="701"/>
                  </a:lnTo>
                  <a:lnTo>
                    <a:pt x="123" y="697"/>
                  </a:lnTo>
                  <a:lnTo>
                    <a:pt x="115" y="693"/>
                  </a:lnTo>
                  <a:lnTo>
                    <a:pt x="105" y="688"/>
                  </a:lnTo>
                  <a:lnTo>
                    <a:pt x="96" y="682"/>
                  </a:lnTo>
                  <a:lnTo>
                    <a:pt x="86" y="677"/>
                  </a:lnTo>
                  <a:lnTo>
                    <a:pt x="79" y="670"/>
                  </a:lnTo>
                  <a:lnTo>
                    <a:pt x="70" y="663"/>
                  </a:lnTo>
                  <a:lnTo>
                    <a:pt x="63" y="656"/>
                  </a:lnTo>
                  <a:lnTo>
                    <a:pt x="48" y="640"/>
                  </a:lnTo>
                  <a:lnTo>
                    <a:pt x="35" y="624"/>
                  </a:lnTo>
                  <a:lnTo>
                    <a:pt x="29" y="615"/>
                  </a:lnTo>
                  <a:lnTo>
                    <a:pt x="24" y="607"/>
                  </a:lnTo>
                  <a:lnTo>
                    <a:pt x="19" y="597"/>
                  </a:lnTo>
                  <a:lnTo>
                    <a:pt x="15" y="587"/>
                  </a:lnTo>
                  <a:lnTo>
                    <a:pt x="12" y="577"/>
                  </a:lnTo>
                  <a:lnTo>
                    <a:pt x="9" y="568"/>
                  </a:lnTo>
                  <a:lnTo>
                    <a:pt x="5" y="558"/>
                  </a:lnTo>
                  <a:lnTo>
                    <a:pt x="3" y="547"/>
                  </a:lnTo>
                  <a:lnTo>
                    <a:pt x="0" y="526"/>
                  </a:lnTo>
                  <a:lnTo>
                    <a:pt x="0" y="503"/>
                  </a:lnTo>
                  <a:lnTo>
                    <a:pt x="0" y="491"/>
                  </a:lnTo>
                  <a:lnTo>
                    <a:pt x="1" y="479"/>
                  </a:lnTo>
                  <a:lnTo>
                    <a:pt x="2" y="468"/>
                  </a:lnTo>
                  <a:lnTo>
                    <a:pt x="4" y="456"/>
                  </a:lnTo>
                  <a:lnTo>
                    <a:pt x="8" y="446"/>
                  </a:lnTo>
                  <a:lnTo>
                    <a:pt x="11" y="435"/>
                  </a:lnTo>
                  <a:lnTo>
                    <a:pt x="15" y="425"/>
                  </a:lnTo>
                  <a:lnTo>
                    <a:pt x="19" y="415"/>
                  </a:lnTo>
                  <a:lnTo>
                    <a:pt x="25" y="406"/>
                  </a:lnTo>
                  <a:lnTo>
                    <a:pt x="30" y="396"/>
                  </a:lnTo>
                  <a:lnTo>
                    <a:pt x="37" y="387"/>
                  </a:lnTo>
                  <a:lnTo>
                    <a:pt x="43" y="379"/>
                  </a:lnTo>
                  <a:lnTo>
                    <a:pt x="51" y="371"/>
                  </a:lnTo>
                  <a:lnTo>
                    <a:pt x="59" y="364"/>
                  </a:lnTo>
                  <a:lnTo>
                    <a:pt x="68" y="356"/>
                  </a:lnTo>
                  <a:lnTo>
                    <a:pt x="77" y="350"/>
                  </a:lnTo>
                  <a:lnTo>
                    <a:pt x="68" y="342"/>
                  </a:lnTo>
                  <a:lnTo>
                    <a:pt x="59" y="334"/>
                  </a:lnTo>
                  <a:lnTo>
                    <a:pt x="52" y="327"/>
                  </a:lnTo>
                  <a:lnTo>
                    <a:pt x="44" y="319"/>
                  </a:lnTo>
                  <a:lnTo>
                    <a:pt x="38" y="311"/>
                  </a:lnTo>
                  <a:lnTo>
                    <a:pt x="31" y="302"/>
                  </a:lnTo>
                  <a:lnTo>
                    <a:pt x="25" y="293"/>
                  </a:lnTo>
                  <a:lnTo>
                    <a:pt x="21" y="284"/>
                  </a:lnTo>
                  <a:lnTo>
                    <a:pt x="15" y="274"/>
                  </a:lnTo>
                  <a:lnTo>
                    <a:pt x="12" y="264"/>
                  </a:lnTo>
                  <a:lnTo>
                    <a:pt x="9" y="253"/>
                  </a:lnTo>
                  <a:lnTo>
                    <a:pt x="5" y="244"/>
                  </a:lnTo>
                  <a:lnTo>
                    <a:pt x="3" y="233"/>
                  </a:lnTo>
                  <a:lnTo>
                    <a:pt x="2" y="222"/>
                  </a:lnTo>
                  <a:lnTo>
                    <a:pt x="1" y="211"/>
                  </a:lnTo>
                  <a:lnTo>
                    <a:pt x="1" y="201"/>
                  </a:lnTo>
                  <a:lnTo>
                    <a:pt x="1" y="180"/>
                  </a:lnTo>
                  <a:lnTo>
                    <a:pt x="4" y="159"/>
                  </a:lnTo>
                  <a:lnTo>
                    <a:pt x="10" y="141"/>
                  </a:lnTo>
                  <a:lnTo>
                    <a:pt x="16" y="123"/>
                  </a:lnTo>
                  <a:lnTo>
                    <a:pt x="25" y="105"/>
                  </a:lnTo>
                  <a:lnTo>
                    <a:pt x="37" y="88"/>
                  </a:lnTo>
                  <a:lnTo>
                    <a:pt x="50" y="73"/>
                  </a:lnTo>
                  <a:lnTo>
                    <a:pt x="64" y="58"/>
                  </a:lnTo>
                  <a:lnTo>
                    <a:pt x="81" y="44"/>
                  </a:lnTo>
                  <a:lnTo>
                    <a:pt x="98" y="32"/>
                  </a:lnTo>
                  <a:lnTo>
                    <a:pt x="117" y="22"/>
                  </a:lnTo>
                  <a:lnTo>
                    <a:pt x="135" y="14"/>
                  </a:lnTo>
                  <a:lnTo>
                    <a:pt x="156" y="8"/>
                  </a:lnTo>
                  <a:lnTo>
                    <a:pt x="177" y="3"/>
                  </a:lnTo>
                  <a:lnTo>
                    <a:pt x="199" y="1"/>
                  </a:lnTo>
                  <a:lnTo>
                    <a:pt x="223" y="0"/>
                  </a:lnTo>
                  <a:lnTo>
                    <a:pt x="245" y="1"/>
                  </a:lnTo>
                  <a:lnTo>
                    <a:pt x="267" y="3"/>
                  </a:lnTo>
                  <a:lnTo>
                    <a:pt x="287" y="8"/>
                  </a:lnTo>
                  <a:lnTo>
                    <a:pt x="308" y="14"/>
                  </a:lnTo>
                  <a:lnTo>
                    <a:pt x="327" y="22"/>
                  </a:lnTo>
                  <a:lnTo>
                    <a:pt x="346" y="32"/>
                  </a:lnTo>
                  <a:lnTo>
                    <a:pt x="363" y="44"/>
                  </a:lnTo>
                  <a:lnTo>
                    <a:pt x="379" y="58"/>
                  </a:lnTo>
                  <a:lnTo>
                    <a:pt x="393" y="72"/>
                  </a:lnTo>
                  <a:lnTo>
                    <a:pt x="406" y="88"/>
                  </a:lnTo>
                  <a:lnTo>
                    <a:pt x="418" y="104"/>
                  </a:lnTo>
                  <a:lnTo>
                    <a:pt x="427" y="121"/>
                  </a:lnTo>
                  <a:lnTo>
                    <a:pt x="433" y="139"/>
                  </a:lnTo>
                  <a:lnTo>
                    <a:pt x="439" y="157"/>
                  </a:lnTo>
                  <a:lnTo>
                    <a:pt x="442" y="177"/>
                  </a:lnTo>
                  <a:lnTo>
                    <a:pt x="442" y="196"/>
                  </a:lnTo>
                  <a:lnTo>
                    <a:pt x="442" y="208"/>
                  </a:lnTo>
                  <a:lnTo>
                    <a:pt x="441" y="219"/>
                  </a:lnTo>
                  <a:lnTo>
                    <a:pt x="440" y="231"/>
                  </a:lnTo>
                  <a:lnTo>
                    <a:pt x="438" y="242"/>
                  </a:lnTo>
                  <a:lnTo>
                    <a:pt x="435" y="252"/>
                  </a:lnTo>
                  <a:lnTo>
                    <a:pt x="432" y="262"/>
                  </a:lnTo>
                  <a:lnTo>
                    <a:pt x="428" y="273"/>
                  </a:lnTo>
                  <a:lnTo>
                    <a:pt x="424" y="283"/>
                  </a:lnTo>
                  <a:lnTo>
                    <a:pt x="418" y="291"/>
                  </a:lnTo>
                  <a:lnTo>
                    <a:pt x="413" y="301"/>
                  </a:lnTo>
                  <a:lnTo>
                    <a:pt x="406" y="310"/>
                  </a:lnTo>
                  <a:lnTo>
                    <a:pt x="400" y="318"/>
                  </a:lnTo>
                  <a:lnTo>
                    <a:pt x="392" y="327"/>
                  </a:lnTo>
                  <a:lnTo>
                    <a:pt x="384" y="334"/>
                  </a:lnTo>
                  <a:lnTo>
                    <a:pt x="375" y="342"/>
                  </a:lnTo>
                  <a:lnTo>
                    <a:pt x="366" y="350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92600" y="2535120"/>
              <a:ext cx="182520" cy="276120"/>
            </a:xfrm>
            <a:custGeom>
              <a:avLst/>
              <a:gdLst/>
              <a:ahLst/>
              <a:rect l="l" t="t" r="r" b="b"/>
              <a:pathLst>
                <a:path w="462" h="693">
                  <a:moveTo>
                    <a:pt x="0" y="693"/>
                  </a:moveTo>
                  <a:lnTo>
                    <a:pt x="232" y="183"/>
                  </a:lnTo>
                  <a:lnTo>
                    <a:pt x="0" y="183"/>
                  </a:lnTo>
                  <a:lnTo>
                    <a:pt x="0" y="0"/>
                  </a:lnTo>
                  <a:lnTo>
                    <a:pt x="462" y="0"/>
                  </a:lnTo>
                  <a:lnTo>
                    <a:pt x="462" y="91"/>
                  </a:lnTo>
                  <a:lnTo>
                    <a:pt x="195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35400" y="270648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5">
                  <a:moveTo>
                    <a:pt x="80" y="165"/>
                  </a:moveTo>
                  <a:lnTo>
                    <a:pt x="89" y="165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9"/>
                  </a:lnTo>
                  <a:lnTo>
                    <a:pt x="118" y="156"/>
                  </a:lnTo>
                  <a:lnTo>
                    <a:pt x="124" y="152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1" y="121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100"/>
                  </a:lnTo>
                  <a:lnTo>
                    <a:pt x="160" y="91"/>
                  </a:lnTo>
                  <a:lnTo>
                    <a:pt x="161" y="84"/>
                  </a:lnTo>
                  <a:lnTo>
                    <a:pt x="160" y="75"/>
                  </a:lnTo>
                  <a:lnTo>
                    <a:pt x="159" y="67"/>
                  </a:lnTo>
                  <a:lnTo>
                    <a:pt x="157" y="60"/>
                  </a:lnTo>
                  <a:lnTo>
                    <a:pt x="155" y="52"/>
                  </a:lnTo>
                  <a:lnTo>
                    <a:pt x="151" y="45"/>
                  </a:lnTo>
                  <a:lnTo>
                    <a:pt x="147" y="38"/>
                  </a:lnTo>
                  <a:lnTo>
                    <a:pt x="143" y="32"/>
                  </a:lnTo>
                  <a:lnTo>
                    <a:pt x="137" y="25"/>
                  </a:lnTo>
                  <a:lnTo>
                    <a:pt x="131" y="19"/>
                  </a:lnTo>
                  <a:lnTo>
                    <a:pt x="124" y="14"/>
                  </a:lnTo>
                  <a:lnTo>
                    <a:pt x="118" y="10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5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7" y="134"/>
                  </a:lnTo>
                  <a:lnTo>
                    <a:pt x="23" y="141"/>
                  </a:lnTo>
                  <a:lnTo>
                    <a:pt x="29" y="146"/>
                  </a:lnTo>
                  <a:lnTo>
                    <a:pt x="36" y="152"/>
                  </a:lnTo>
                  <a:lnTo>
                    <a:pt x="42" y="156"/>
                  </a:lnTo>
                  <a:lnTo>
                    <a:pt x="49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2" y="165"/>
                  </a:lnTo>
                  <a:lnTo>
                    <a:pt x="80" y="16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91120" y="266220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5">
                  <a:moveTo>
                    <a:pt x="189" y="385"/>
                  </a:moveTo>
                  <a:lnTo>
                    <a:pt x="169" y="385"/>
                  </a:lnTo>
                  <a:lnTo>
                    <a:pt x="151" y="381"/>
                  </a:lnTo>
                  <a:lnTo>
                    <a:pt x="133" y="377"/>
                  </a:lnTo>
                  <a:lnTo>
                    <a:pt x="115" y="371"/>
                  </a:lnTo>
                  <a:lnTo>
                    <a:pt x="99" y="363"/>
                  </a:lnTo>
                  <a:lnTo>
                    <a:pt x="84" y="353"/>
                  </a:lnTo>
                  <a:lnTo>
                    <a:pt x="69" y="343"/>
                  </a:lnTo>
                  <a:lnTo>
                    <a:pt x="55" y="330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4" y="267"/>
                  </a:lnTo>
                  <a:lnTo>
                    <a:pt x="7" y="250"/>
                  </a:lnTo>
                  <a:lnTo>
                    <a:pt x="3" y="231"/>
                  </a:lnTo>
                  <a:lnTo>
                    <a:pt x="1" y="213"/>
                  </a:lnTo>
                  <a:lnTo>
                    <a:pt x="0" y="194"/>
                  </a:lnTo>
                  <a:lnTo>
                    <a:pt x="1" y="173"/>
                  </a:lnTo>
                  <a:lnTo>
                    <a:pt x="3" y="155"/>
                  </a:lnTo>
                  <a:lnTo>
                    <a:pt x="7" y="136"/>
                  </a:lnTo>
                  <a:lnTo>
                    <a:pt x="14" y="119"/>
                  </a:lnTo>
                  <a:lnTo>
                    <a:pt x="21" y="102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2"/>
                  </a:lnTo>
                  <a:lnTo>
                    <a:pt x="99" y="22"/>
                  </a:lnTo>
                  <a:lnTo>
                    <a:pt x="117" y="14"/>
                  </a:lnTo>
                  <a:lnTo>
                    <a:pt x="133" y="8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8"/>
                  </a:lnTo>
                  <a:lnTo>
                    <a:pt x="262" y="14"/>
                  </a:lnTo>
                  <a:lnTo>
                    <a:pt x="279" y="22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7"/>
                  </a:lnTo>
                  <a:lnTo>
                    <a:pt x="359" y="103"/>
                  </a:lnTo>
                  <a:lnTo>
                    <a:pt x="366" y="119"/>
                  </a:lnTo>
                  <a:lnTo>
                    <a:pt x="373" y="136"/>
                  </a:lnTo>
                  <a:lnTo>
                    <a:pt x="377" y="155"/>
                  </a:lnTo>
                  <a:lnTo>
                    <a:pt x="380" y="174"/>
                  </a:lnTo>
                  <a:lnTo>
                    <a:pt x="380" y="194"/>
                  </a:lnTo>
                  <a:lnTo>
                    <a:pt x="380" y="213"/>
                  </a:lnTo>
                  <a:lnTo>
                    <a:pt x="377" y="231"/>
                  </a:lnTo>
                  <a:lnTo>
                    <a:pt x="373" y="250"/>
                  </a:lnTo>
                  <a:lnTo>
                    <a:pt x="367" y="267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9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3"/>
                  </a:lnTo>
                  <a:lnTo>
                    <a:pt x="263" y="371"/>
                  </a:lnTo>
                  <a:lnTo>
                    <a:pt x="246" y="377"/>
                  </a:lnTo>
                  <a:lnTo>
                    <a:pt x="228" y="381"/>
                  </a:lnTo>
                  <a:lnTo>
                    <a:pt x="208" y="385"/>
                  </a:lnTo>
                  <a:lnTo>
                    <a:pt x="189" y="385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4960" y="2574720"/>
              <a:ext cx="6336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5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2" y="120"/>
                  </a:lnTo>
                  <a:lnTo>
                    <a:pt x="155" y="113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89"/>
                  </a:lnTo>
                  <a:lnTo>
                    <a:pt x="161" y="82"/>
                  </a:lnTo>
                  <a:lnTo>
                    <a:pt x="160" y="73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8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4" y="106"/>
                  </a:lnTo>
                  <a:lnTo>
                    <a:pt x="6" y="113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9" y="134"/>
                  </a:lnTo>
                  <a:lnTo>
                    <a:pt x="24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00680" y="2530440"/>
              <a:ext cx="152280" cy="1540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6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1"/>
                  </a:lnTo>
                  <a:lnTo>
                    <a:pt x="0" y="192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8"/>
                  </a:lnTo>
                  <a:lnTo>
                    <a:pt x="22" y="101"/>
                  </a:lnTo>
                  <a:lnTo>
                    <a:pt x="31" y="86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1"/>
                  </a:lnTo>
                  <a:lnTo>
                    <a:pt x="117" y="14"/>
                  </a:lnTo>
                  <a:lnTo>
                    <a:pt x="134" y="7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7"/>
                  </a:lnTo>
                  <a:lnTo>
                    <a:pt x="264" y="14"/>
                  </a:lnTo>
                  <a:lnTo>
                    <a:pt x="280" y="21"/>
                  </a:lnTo>
                  <a:lnTo>
                    <a:pt x="296" y="31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2"/>
                  </a:lnTo>
                  <a:lnTo>
                    <a:pt x="367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2"/>
                  </a:lnTo>
                  <a:lnTo>
                    <a:pt x="381" y="192"/>
                  </a:lnTo>
                  <a:lnTo>
                    <a:pt x="380" y="211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5"/>
                  </a:lnTo>
                  <a:lnTo>
                    <a:pt x="360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5" y="370"/>
                  </a:lnTo>
                  <a:lnTo>
                    <a:pt x="247" y="377"/>
                  </a:lnTo>
                  <a:lnTo>
                    <a:pt x="229" y="381"/>
                  </a:lnTo>
                  <a:lnTo>
                    <a:pt x="211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5200" y="2535120"/>
              <a:ext cx="191880" cy="27612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486400" y="3406680"/>
              <a:ext cx="341280" cy="284040"/>
            </a:xfrm>
            <a:custGeom>
              <a:avLst/>
              <a:gdLst/>
              <a:ahLst/>
              <a:rect l="l" t="t" r="r" b="b"/>
              <a:pathLst>
                <a:path w="860" h="716">
                  <a:moveTo>
                    <a:pt x="670" y="606"/>
                  </a:moveTo>
                  <a:lnTo>
                    <a:pt x="679" y="606"/>
                  </a:lnTo>
                  <a:lnTo>
                    <a:pt x="686" y="605"/>
                  </a:lnTo>
                  <a:lnTo>
                    <a:pt x="694" y="603"/>
                  </a:lnTo>
                  <a:lnTo>
                    <a:pt x="701" y="600"/>
                  </a:lnTo>
                  <a:lnTo>
                    <a:pt x="708" y="597"/>
                  </a:lnTo>
                  <a:lnTo>
                    <a:pt x="714" y="593"/>
                  </a:lnTo>
                  <a:lnTo>
                    <a:pt x="721" y="588"/>
                  </a:lnTo>
                  <a:lnTo>
                    <a:pt x="727" y="582"/>
                  </a:lnTo>
                  <a:lnTo>
                    <a:pt x="733" y="576"/>
                  </a:lnTo>
                  <a:lnTo>
                    <a:pt x="737" y="569"/>
                  </a:lnTo>
                  <a:lnTo>
                    <a:pt x="741" y="563"/>
                  </a:lnTo>
                  <a:lnTo>
                    <a:pt x="745" y="556"/>
                  </a:lnTo>
                  <a:lnTo>
                    <a:pt x="747" y="549"/>
                  </a:lnTo>
                  <a:lnTo>
                    <a:pt x="749" y="541"/>
                  </a:lnTo>
                  <a:lnTo>
                    <a:pt x="750" y="532"/>
                  </a:lnTo>
                  <a:lnTo>
                    <a:pt x="750" y="525"/>
                  </a:lnTo>
                  <a:lnTo>
                    <a:pt x="750" y="516"/>
                  </a:lnTo>
                  <a:lnTo>
                    <a:pt x="749" y="509"/>
                  </a:lnTo>
                  <a:lnTo>
                    <a:pt x="747" y="501"/>
                  </a:lnTo>
                  <a:lnTo>
                    <a:pt x="745" y="494"/>
                  </a:lnTo>
                  <a:lnTo>
                    <a:pt x="741" y="486"/>
                  </a:lnTo>
                  <a:lnTo>
                    <a:pt x="737" y="480"/>
                  </a:lnTo>
                  <a:lnTo>
                    <a:pt x="733" y="473"/>
                  </a:lnTo>
                  <a:lnTo>
                    <a:pt x="727" y="467"/>
                  </a:lnTo>
                  <a:lnTo>
                    <a:pt x="721" y="460"/>
                  </a:lnTo>
                  <a:lnTo>
                    <a:pt x="714" y="456"/>
                  </a:lnTo>
                  <a:lnTo>
                    <a:pt x="708" y="451"/>
                  </a:lnTo>
                  <a:lnTo>
                    <a:pt x="701" y="448"/>
                  </a:lnTo>
                  <a:lnTo>
                    <a:pt x="694" y="445"/>
                  </a:lnTo>
                  <a:lnTo>
                    <a:pt x="686" y="443"/>
                  </a:lnTo>
                  <a:lnTo>
                    <a:pt x="679" y="442"/>
                  </a:lnTo>
                  <a:lnTo>
                    <a:pt x="670" y="442"/>
                  </a:lnTo>
                  <a:lnTo>
                    <a:pt x="662" y="442"/>
                  </a:lnTo>
                  <a:lnTo>
                    <a:pt x="654" y="443"/>
                  </a:lnTo>
                  <a:lnTo>
                    <a:pt x="646" y="445"/>
                  </a:lnTo>
                  <a:lnTo>
                    <a:pt x="640" y="448"/>
                  </a:lnTo>
                  <a:lnTo>
                    <a:pt x="632" y="451"/>
                  </a:lnTo>
                  <a:lnTo>
                    <a:pt x="626" y="456"/>
                  </a:lnTo>
                  <a:lnTo>
                    <a:pt x="619" y="460"/>
                  </a:lnTo>
                  <a:lnTo>
                    <a:pt x="614" y="467"/>
                  </a:lnTo>
                  <a:lnTo>
                    <a:pt x="607" y="473"/>
                  </a:lnTo>
                  <a:lnTo>
                    <a:pt x="603" y="480"/>
                  </a:lnTo>
                  <a:lnTo>
                    <a:pt x="599" y="486"/>
                  </a:lnTo>
                  <a:lnTo>
                    <a:pt x="595" y="494"/>
                  </a:lnTo>
                  <a:lnTo>
                    <a:pt x="593" y="501"/>
                  </a:lnTo>
                  <a:lnTo>
                    <a:pt x="591" y="509"/>
                  </a:lnTo>
                  <a:lnTo>
                    <a:pt x="590" y="516"/>
                  </a:lnTo>
                  <a:lnTo>
                    <a:pt x="590" y="525"/>
                  </a:lnTo>
                  <a:lnTo>
                    <a:pt x="590" y="532"/>
                  </a:lnTo>
                  <a:lnTo>
                    <a:pt x="591" y="541"/>
                  </a:lnTo>
                  <a:lnTo>
                    <a:pt x="593" y="549"/>
                  </a:lnTo>
                  <a:lnTo>
                    <a:pt x="595" y="556"/>
                  </a:lnTo>
                  <a:lnTo>
                    <a:pt x="599" y="563"/>
                  </a:lnTo>
                  <a:lnTo>
                    <a:pt x="603" y="569"/>
                  </a:lnTo>
                  <a:lnTo>
                    <a:pt x="607" y="576"/>
                  </a:lnTo>
                  <a:lnTo>
                    <a:pt x="613" y="582"/>
                  </a:lnTo>
                  <a:lnTo>
                    <a:pt x="619" y="588"/>
                  </a:lnTo>
                  <a:lnTo>
                    <a:pt x="626" y="593"/>
                  </a:lnTo>
                  <a:lnTo>
                    <a:pt x="632" y="597"/>
                  </a:lnTo>
                  <a:lnTo>
                    <a:pt x="639" y="600"/>
                  </a:lnTo>
                  <a:lnTo>
                    <a:pt x="646" y="603"/>
                  </a:lnTo>
                  <a:lnTo>
                    <a:pt x="654" y="605"/>
                  </a:lnTo>
                  <a:lnTo>
                    <a:pt x="661" y="606"/>
                  </a:lnTo>
                  <a:lnTo>
                    <a:pt x="670" y="606"/>
                  </a:lnTo>
                  <a:close/>
                  <a:moveTo>
                    <a:pt x="669" y="716"/>
                  </a:moveTo>
                  <a:lnTo>
                    <a:pt x="649" y="716"/>
                  </a:lnTo>
                  <a:lnTo>
                    <a:pt x="631" y="713"/>
                  </a:lnTo>
                  <a:lnTo>
                    <a:pt x="613" y="708"/>
                  </a:lnTo>
                  <a:lnTo>
                    <a:pt x="595" y="702"/>
                  </a:lnTo>
                  <a:lnTo>
                    <a:pt x="579" y="694"/>
                  </a:lnTo>
                  <a:lnTo>
                    <a:pt x="564" y="685"/>
                  </a:lnTo>
                  <a:lnTo>
                    <a:pt x="549" y="674"/>
                  </a:lnTo>
                  <a:lnTo>
                    <a:pt x="535" y="661"/>
                  </a:lnTo>
                  <a:lnTo>
                    <a:pt x="522" y="646"/>
                  </a:lnTo>
                  <a:lnTo>
                    <a:pt x="510" y="631"/>
                  </a:lnTo>
                  <a:lnTo>
                    <a:pt x="501" y="616"/>
                  </a:lnTo>
                  <a:lnTo>
                    <a:pt x="493" y="598"/>
                  </a:lnTo>
                  <a:lnTo>
                    <a:pt x="487" y="581"/>
                  </a:lnTo>
                  <a:lnTo>
                    <a:pt x="483" y="563"/>
                  </a:lnTo>
                  <a:lnTo>
                    <a:pt x="481" y="544"/>
                  </a:lnTo>
                  <a:lnTo>
                    <a:pt x="480" y="525"/>
                  </a:lnTo>
                  <a:lnTo>
                    <a:pt x="481" y="504"/>
                  </a:lnTo>
                  <a:lnTo>
                    <a:pt x="483" y="486"/>
                  </a:lnTo>
                  <a:lnTo>
                    <a:pt x="487" y="468"/>
                  </a:lnTo>
                  <a:lnTo>
                    <a:pt x="493" y="450"/>
                  </a:lnTo>
                  <a:lnTo>
                    <a:pt x="501" y="433"/>
                  </a:lnTo>
                  <a:lnTo>
                    <a:pt x="510" y="417"/>
                  </a:lnTo>
                  <a:lnTo>
                    <a:pt x="522" y="402"/>
                  </a:lnTo>
                  <a:lnTo>
                    <a:pt x="535" y="388"/>
                  </a:lnTo>
                  <a:lnTo>
                    <a:pt x="549" y="375"/>
                  </a:lnTo>
                  <a:lnTo>
                    <a:pt x="564" y="363"/>
                  </a:lnTo>
                  <a:lnTo>
                    <a:pt x="579" y="353"/>
                  </a:lnTo>
                  <a:lnTo>
                    <a:pt x="596" y="346"/>
                  </a:lnTo>
                  <a:lnTo>
                    <a:pt x="613" y="339"/>
                  </a:lnTo>
                  <a:lnTo>
                    <a:pt x="631" y="335"/>
                  </a:lnTo>
                  <a:lnTo>
                    <a:pt x="649" y="333"/>
                  </a:lnTo>
                  <a:lnTo>
                    <a:pt x="669" y="332"/>
                  </a:lnTo>
                  <a:lnTo>
                    <a:pt x="688" y="333"/>
                  </a:lnTo>
                  <a:lnTo>
                    <a:pt x="707" y="335"/>
                  </a:lnTo>
                  <a:lnTo>
                    <a:pt x="725" y="339"/>
                  </a:lnTo>
                  <a:lnTo>
                    <a:pt x="742" y="346"/>
                  </a:lnTo>
                  <a:lnTo>
                    <a:pt x="759" y="353"/>
                  </a:lnTo>
                  <a:lnTo>
                    <a:pt x="775" y="364"/>
                  </a:lnTo>
                  <a:lnTo>
                    <a:pt x="790" y="375"/>
                  </a:lnTo>
                  <a:lnTo>
                    <a:pt x="804" y="388"/>
                  </a:lnTo>
                  <a:lnTo>
                    <a:pt x="818" y="403"/>
                  </a:lnTo>
                  <a:lnTo>
                    <a:pt x="829" y="418"/>
                  </a:lnTo>
                  <a:lnTo>
                    <a:pt x="839" y="434"/>
                  </a:lnTo>
                  <a:lnTo>
                    <a:pt x="846" y="450"/>
                  </a:lnTo>
                  <a:lnTo>
                    <a:pt x="853" y="468"/>
                  </a:lnTo>
                  <a:lnTo>
                    <a:pt x="857" y="486"/>
                  </a:lnTo>
                  <a:lnTo>
                    <a:pt x="860" y="505"/>
                  </a:lnTo>
                  <a:lnTo>
                    <a:pt x="860" y="525"/>
                  </a:lnTo>
                  <a:lnTo>
                    <a:pt x="860" y="544"/>
                  </a:lnTo>
                  <a:lnTo>
                    <a:pt x="857" y="563"/>
                  </a:lnTo>
                  <a:lnTo>
                    <a:pt x="853" y="581"/>
                  </a:lnTo>
                  <a:lnTo>
                    <a:pt x="847" y="598"/>
                  </a:lnTo>
                  <a:lnTo>
                    <a:pt x="839" y="615"/>
                  </a:lnTo>
                  <a:lnTo>
                    <a:pt x="829" y="631"/>
                  </a:lnTo>
                  <a:lnTo>
                    <a:pt x="818" y="646"/>
                  </a:lnTo>
                  <a:lnTo>
                    <a:pt x="805" y="660"/>
                  </a:lnTo>
                  <a:lnTo>
                    <a:pt x="791" y="673"/>
                  </a:lnTo>
                  <a:lnTo>
                    <a:pt x="776" y="685"/>
                  </a:lnTo>
                  <a:lnTo>
                    <a:pt x="760" y="694"/>
                  </a:lnTo>
                  <a:lnTo>
                    <a:pt x="743" y="702"/>
                  </a:lnTo>
                  <a:lnTo>
                    <a:pt x="725" y="708"/>
                  </a:lnTo>
                  <a:lnTo>
                    <a:pt x="708" y="713"/>
                  </a:lnTo>
                  <a:lnTo>
                    <a:pt x="688" y="716"/>
                  </a:lnTo>
                  <a:lnTo>
                    <a:pt x="669" y="716"/>
                  </a:lnTo>
                  <a:close/>
                  <a:moveTo>
                    <a:pt x="190" y="274"/>
                  </a:moveTo>
                  <a:lnTo>
                    <a:pt x="199" y="274"/>
                  </a:lnTo>
                  <a:lnTo>
                    <a:pt x="206" y="273"/>
                  </a:lnTo>
                  <a:lnTo>
                    <a:pt x="214" y="271"/>
                  </a:lnTo>
                  <a:lnTo>
                    <a:pt x="222" y="269"/>
                  </a:lnTo>
                  <a:lnTo>
                    <a:pt x="228" y="266"/>
                  </a:lnTo>
                  <a:lnTo>
                    <a:pt x="235" y="261"/>
                  </a:lnTo>
                  <a:lnTo>
                    <a:pt x="241" y="256"/>
                  </a:lnTo>
                  <a:lnTo>
                    <a:pt x="247" y="251"/>
                  </a:lnTo>
                  <a:lnTo>
                    <a:pt x="253" y="244"/>
                  </a:lnTo>
                  <a:lnTo>
                    <a:pt x="257" y="238"/>
                  </a:lnTo>
                  <a:lnTo>
                    <a:pt x="262" y="230"/>
                  </a:lnTo>
                  <a:lnTo>
                    <a:pt x="265" y="224"/>
                  </a:lnTo>
                  <a:lnTo>
                    <a:pt x="268" y="216"/>
                  </a:lnTo>
                  <a:lnTo>
                    <a:pt x="269" y="208"/>
                  </a:lnTo>
                  <a:lnTo>
                    <a:pt x="270" y="200"/>
                  </a:lnTo>
                  <a:lnTo>
                    <a:pt x="271" y="192"/>
                  </a:lnTo>
                  <a:lnTo>
                    <a:pt x="270" y="184"/>
                  </a:lnTo>
                  <a:lnTo>
                    <a:pt x="269" y="176"/>
                  </a:lnTo>
                  <a:lnTo>
                    <a:pt x="268" y="168"/>
                  </a:lnTo>
                  <a:lnTo>
                    <a:pt x="265" y="161"/>
                  </a:lnTo>
                  <a:lnTo>
                    <a:pt x="262" y="153"/>
                  </a:lnTo>
                  <a:lnTo>
                    <a:pt x="257" y="147"/>
                  </a:lnTo>
                  <a:lnTo>
                    <a:pt x="253" y="140"/>
                  </a:lnTo>
                  <a:lnTo>
                    <a:pt x="247" y="134"/>
                  </a:lnTo>
                  <a:lnTo>
                    <a:pt x="241" y="129"/>
                  </a:lnTo>
                  <a:lnTo>
                    <a:pt x="235" y="124"/>
                  </a:lnTo>
                  <a:lnTo>
                    <a:pt x="228" y="120"/>
                  </a:lnTo>
                  <a:lnTo>
                    <a:pt x="222" y="117"/>
                  </a:lnTo>
                  <a:lnTo>
                    <a:pt x="214" y="113"/>
                  </a:lnTo>
                  <a:lnTo>
                    <a:pt x="206" y="111"/>
                  </a:lnTo>
                  <a:lnTo>
                    <a:pt x="199" y="110"/>
                  </a:lnTo>
                  <a:lnTo>
                    <a:pt x="190" y="110"/>
                  </a:lnTo>
                  <a:lnTo>
                    <a:pt x="183" y="110"/>
                  </a:lnTo>
                  <a:lnTo>
                    <a:pt x="174" y="111"/>
                  </a:lnTo>
                  <a:lnTo>
                    <a:pt x="166" y="113"/>
                  </a:lnTo>
                  <a:lnTo>
                    <a:pt x="160" y="117"/>
                  </a:lnTo>
                  <a:lnTo>
                    <a:pt x="152" y="120"/>
                  </a:lnTo>
                  <a:lnTo>
                    <a:pt x="146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8" y="140"/>
                  </a:lnTo>
                  <a:lnTo>
                    <a:pt x="123" y="147"/>
                  </a:lnTo>
                  <a:lnTo>
                    <a:pt x="119" y="153"/>
                  </a:lnTo>
                  <a:lnTo>
                    <a:pt x="116" y="161"/>
                  </a:lnTo>
                  <a:lnTo>
                    <a:pt x="113" y="168"/>
                  </a:lnTo>
                  <a:lnTo>
                    <a:pt x="111" y="176"/>
                  </a:lnTo>
                  <a:lnTo>
                    <a:pt x="110" y="184"/>
                  </a:lnTo>
                  <a:lnTo>
                    <a:pt x="110" y="192"/>
                  </a:lnTo>
                  <a:lnTo>
                    <a:pt x="110" y="200"/>
                  </a:lnTo>
                  <a:lnTo>
                    <a:pt x="111" y="208"/>
                  </a:lnTo>
                  <a:lnTo>
                    <a:pt x="113" y="216"/>
                  </a:lnTo>
                  <a:lnTo>
                    <a:pt x="116" y="224"/>
                  </a:lnTo>
                  <a:lnTo>
                    <a:pt x="119" y="231"/>
                  </a:lnTo>
                  <a:lnTo>
                    <a:pt x="123" y="238"/>
                  </a:lnTo>
                  <a:lnTo>
                    <a:pt x="128" y="244"/>
                  </a:lnTo>
                  <a:lnTo>
                    <a:pt x="134" y="251"/>
                  </a:lnTo>
                  <a:lnTo>
                    <a:pt x="139" y="256"/>
                  </a:lnTo>
                  <a:lnTo>
                    <a:pt x="146" y="261"/>
                  </a:lnTo>
                  <a:lnTo>
                    <a:pt x="152" y="266"/>
                  </a:lnTo>
                  <a:lnTo>
                    <a:pt x="160" y="269"/>
                  </a:lnTo>
                  <a:lnTo>
                    <a:pt x="166" y="271"/>
                  </a:lnTo>
                  <a:lnTo>
                    <a:pt x="174" y="273"/>
                  </a:lnTo>
                  <a:lnTo>
                    <a:pt x="183" y="274"/>
                  </a:lnTo>
                  <a:lnTo>
                    <a:pt x="190" y="274"/>
                  </a:lnTo>
                  <a:close/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  <a:close/>
                  <a:moveTo>
                    <a:pt x="188" y="705"/>
                  </a:moveTo>
                  <a:lnTo>
                    <a:pt x="569" y="12"/>
                  </a:lnTo>
                  <a:lnTo>
                    <a:pt x="672" y="12"/>
                  </a:lnTo>
                  <a:lnTo>
                    <a:pt x="291" y="705"/>
                  </a:lnTo>
                  <a:lnTo>
                    <a:pt x="188" y="7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60880" y="3411360"/>
              <a:ext cx="114480" cy="274680"/>
            </a:xfrm>
            <a:custGeom>
              <a:avLst/>
              <a:gdLst/>
              <a:ahLst/>
              <a:rect l="l" t="t" r="r" b="b"/>
              <a:pathLst>
                <a:path w="291" h="693">
                  <a:moveTo>
                    <a:pt x="120" y="693"/>
                  </a:moveTo>
                  <a:lnTo>
                    <a:pt x="120" y="223"/>
                  </a:lnTo>
                  <a:lnTo>
                    <a:pt x="112" y="227"/>
                  </a:lnTo>
                  <a:lnTo>
                    <a:pt x="106" y="230"/>
                  </a:lnTo>
                  <a:lnTo>
                    <a:pt x="98" y="233"/>
                  </a:lnTo>
                  <a:lnTo>
                    <a:pt x="91" y="236"/>
                  </a:lnTo>
                  <a:lnTo>
                    <a:pt x="83" y="240"/>
                  </a:lnTo>
                  <a:lnTo>
                    <a:pt x="76" y="242"/>
                  </a:lnTo>
                  <a:lnTo>
                    <a:pt x="68" y="244"/>
                  </a:lnTo>
                  <a:lnTo>
                    <a:pt x="61" y="246"/>
                  </a:lnTo>
                  <a:lnTo>
                    <a:pt x="53" y="248"/>
                  </a:lnTo>
                  <a:lnTo>
                    <a:pt x="45" y="249"/>
                  </a:lnTo>
                  <a:lnTo>
                    <a:pt x="38" y="250"/>
                  </a:lnTo>
                  <a:lnTo>
                    <a:pt x="30" y="252"/>
                  </a:lnTo>
                  <a:lnTo>
                    <a:pt x="23" y="253"/>
                  </a:lnTo>
                  <a:lnTo>
                    <a:pt x="15" y="254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75"/>
                  </a:lnTo>
                  <a:lnTo>
                    <a:pt x="10" y="72"/>
                  </a:lnTo>
                  <a:lnTo>
                    <a:pt x="20" y="70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47" y="59"/>
                  </a:lnTo>
                  <a:lnTo>
                    <a:pt x="54" y="55"/>
                  </a:lnTo>
                  <a:lnTo>
                    <a:pt x="63" y="51"/>
                  </a:lnTo>
                  <a:lnTo>
                    <a:pt x="70" y="45"/>
                  </a:lnTo>
                  <a:lnTo>
                    <a:pt x="79" y="41"/>
                  </a:lnTo>
                  <a:lnTo>
                    <a:pt x="85" y="36"/>
                  </a:lnTo>
                  <a:lnTo>
                    <a:pt x="93" y="30"/>
                  </a:lnTo>
                  <a:lnTo>
                    <a:pt x="98" y="24"/>
                  </a:lnTo>
                  <a:lnTo>
                    <a:pt x="105" y="18"/>
                  </a:lnTo>
                  <a:lnTo>
                    <a:pt x="110" y="12"/>
                  </a:lnTo>
                  <a:lnTo>
                    <a:pt x="116" y="6"/>
                  </a:lnTo>
                  <a:lnTo>
                    <a:pt x="120" y="0"/>
                  </a:lnTo>
                  <a:lnTo>
                    <a:pt x="291" y="0"/>
                  </a:lnTo>
                  <a:lnTo>
                    <a:pt x="291" y="693"/>
                  </a:lnTo>
                  <a:lnTo>
                    <a:pt x="12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68960" y="3406680"/>
              <a:ext cx="169920" cy="284040"/>
            </a:xfrm>
            <a:custGeom>
              <a:avLst/>
              <a:gdLst/>
              <a:ahLst/>
              <a:rect l="l" t="t" r="r" b="b"/>
              <a:pathLst>
                <a:path w="430" h="715">
                  <a:moveTo>
                    <a:pt x="0" y="596"/>
                  </a:moveTo>
                  <a:lnTo>
                    <a:pt x="112" y="486"/>
                  </a:lnTo>
                  <a:lnTo>
                    <a:pt x="116" y="491"/>
                  </a:lnTo>
                  <a:lnTo>
                    <a:pt x="119" y="496"/>
                  </a:lnTo>
                  <a:lnTo>
                    <a:pt x="122" y="501"/>
                  </a:lnTo>
                  <a:lnTo>
                    <a:pt x="125" y="506"/>
                  </a:lnTo>
                  <a:lnTo>
                    <a:pt x="130" y="510"/>
                  </a:lnTo>
                  <a:lnTo>
                    <a:pt x="134" y="514"/>
                  </a:lnTo>
                  <a:lnTo>
                    <a:pt x="139" y="517"/>
                  </a:lnTo>
                  <a:lnTo>
                    <a:pt x="144" y="521"/>
                  </a:lnTo>
                  <a:lnTo>
                    <a:pt x="149" y="524"/>
                  </a:lnTo>
                  <a:lnTo>
                    <a:pt x="155" y="527"/>
                  </a:lnTo>
                  <a:lnTo>
                    <a:pt x="160" y="529"/>
                  </a:lnTo>
                  <a:lnTo>
                    <a:pt x="165" y="530"/>
                  </a:lnTo>
                  <a:lnTo>
                    <a:pt x="171" y="533"/>
                  </a:lnTo>
                  <a:lnTo>
                    <a:pt x="176" y="534"/>
                  </a:lnTo>
                  <a:lnTo>
                    <a:pt x="183" y="534"/>
                  </a:lnTo>
                  <a:lnTo>
                    <a:pt x="188" y="534"/>
                  </a:lnTo>
                  <a:lnTo>
                    <a:pt x="195" y="534"/>
                  </a:lnTo>
                  <a:lnTo>
                    <a:pt x="201" y="534"/>
                  </a:lnTo>
                  <a:lnTo>
                    <a:pt x="206" y="531"/>
                  </a:lnTo>
                  <a:lnTo>
                    <a:pt x="213" y="530"/>
                  </a:lnTo>
                  <a:lnTo>
                    <a:pt x="218" y="528"/>
                  </a:lnTo>
                  <a:lnTo>
                    <a:pt x="223" y="526"/>
                  </a:lnTo>
                  <a:lnTo>
                    <a:pt x="228" y="523"/>
                  </a:lnTo>
                  <a:lnTo>
                    <a:pt x="232" y="518"/>
                  </a:lnTo>
                  <a:lnTo>
                    <a:pt x="237" y="515"/>
                  </a:lnTo>
                  <a:lnTo>
                    <a:pt x="240" y="511"/>
                  </a:lnTo>
                  <a:lnTo>
                    <a:pt x="243" y="507"/>
                  </a:lnTo>
                  <a:lnTo>
                    <a:pt x="245" y="502"/>
                  </a:lnTo>
                  <a:lnTo>
                    <a:pt x="247" y="498"/>
                  </a:lnTo>
                  <a:lnTo>
                    <a:pt x="249" y="493"/>
                  </a:lnTo>
                  <a:lnTo>
                    <a:pt x="250" y="487"/>
                  </a:lnTo>
                  <a:lnTo>
                    <a:pt x="250" y="482"/>
                  </a:lnTo>
                  <a:lnTo>
                    <a:pt x="250" y="476"/>
                  </a:lnTo>
                  <a:lnTo>
                    <a:pt x="249" y="470"/>
                  </a:lnTo>
                  <a:lnTo>
                    <a:pt x="247" y="464"/>
                  </a:lnTo>
                  <a:lnTo>
                    <a:pt x="244" y="459"/>
                  </a:lnTo>
                  <a:lnTo>
                    <a:pt x="242" y="455"/>
                  </a:lnTo>
                  <a:lnTo>
                    <a:pt x="238" y="449"/>
                  </a:lnTo>
                  <a:lnTo>
                    <a:pt x="233" y="445"/>
                  </a:lnTo>
                  <a:lnTo>
                    <a:pt x="229" y="441"/>
                  </a:lnTo>
                  <a:lnTo>
                    <a:pt x="223" y="437"/>
                  </a:lnTo>
                  <a:lnTo>
                    <a:pt x="217" y="434"/>
                  </a:lnTo>
                  <a:lnTo>
                    <a:pt x="211" y="431"/>
                  </a:lnTo>
                  <a:lnTo>
                    <a:pt x="204" y="429"/>
                  </a:lnTo>
                  <a:lnTo>
                    <a:pt x="198" y="428"/>
                  </a:lnTo>
                  <a:lnTo>
                    <a:pt x="190" y="426"/>
                  </a:lnTo>
                  <a:lnTo>
                    <a:pt x="183" y="426"/>
                  </a:lnTo>
                  <a:lnTo>
                    <a:pt x="175" y="426"/>
                  </a:lnTo>
                  <a:lnTo>
                    <a:pt x="141" y="426"/>
                  </a:lnTo>
                  <a:lnTo>
                    <a:pt x="141" y="288"/>
                  </a:lnTo>
                  <a:lnTo>
                    <a:pt x="172" y="288"/>
                  </a:lnTo>
                  <a:lnTo>
                    <a:pt x="180" y="288"/>
                  </a:lnTo>
                  <a:lnTo>
                    <a:pt x="189" y="287"/>
                  </a:lnTo>
                  <a:lnTo>
                    <a:pt x="197" y="286"/>
                  </a:lnTo>
                  <a:lnTo>
                    <a:pt x="204" y="284"/>
                  </a:lnTo>
                  <a:lnTo>
                    <a:pt x="211" y="282"/>
                  </a:lnTo>
                  <a:lnTo>
                    <a:pt x="217" y="279"/>
                  </a:lnTo>
                  <a:lnTo>
                    <a:pt x="224" y="275"/>
                  </a:lnTo>
                  <a:lnTo>
                    <a:pt x="229" y="272"/>
                  </a:lnTo>
                  <a:lnTo>
                    <a:pt x="233" y="268"/>
                  </a:lnTo>
                  <a:lnTo>
                    <a:pt x="238" y="263"/>
                  </a:lnTo>
                  <a:lnTo>
                    <a:pt x="242" y="258"/>
                  </a:lnTo>
                  <a:lnTo>
                    <a:pt x="245" y="253"/>
                  </a:lnTo>
                  <a:lnTo>
                    <a:pt x="247" y="246"/>
                  </a:lnTo>
                  <a:lnTo>
                    <a:pt x="249" y="241"/>
                  </a:lnTo>
                  <a:lnTo>
                    <a:pt x="250" y="234"/>
                  </a:lnTo>
                  <a:lnTo>
                    <a:pt x="250" y="228"/>
                  </a:lnTo>
                  <a:lnTo>
                    <a:pt x="250" y="221"/>
                  </a:lnTo>
                  <a:lnTo>
                    <a:pt x="250" y="216"/>
                  </a:lnTo>
                  <a:lnTo>
                    <a:pt x="247" y="212"/>
                  </a:lnTo>
                  <a:lnTo>
                    <a:pt x="246" y="206"/>
                  </a:lnTo>
                  <a:lnTo>
                    <a:pt x="244" y="202"/>
                  </a:lnTo>
                  <a:lnTo>
                    <a:pt x="242" y="198"/>
                  </a:lnTo>
                  <a:lnTo>
                    <a:pt x="239" y="194"/>
                  </a:lnTo>
                  <a:lnTo>
                    <a:pt x="236" y="190"/>
                  </a:lnTo>
                  <a:lnTo>
                    <a:pt x="231" y="187"/>
                  </a:lnTo>
                  <a:lnTo>
                    <a:pt x="227" y="185"/>
                  </a:lnTo>
                  <a:lnTo>
                    <a:pt x="223" y="183"/>
                  </a:lnTo>
                  <a:lnTo>
                    <a:pt x="218" y="180"/>
                  </a:lnTo>
                  <a:lnTo>
                    <a:pt x="213" y="178"/>
                  </a:lnTo>
                  <a:lnTo>
                    <a:pt x="207" y="177"/>
                  </a:lnTo>
                  <a:lnTo>
                    <a:pt x="201" y="177"/>
                  </a:lnTo>
                  <a:lnTo>
                    <a:pt x="196" y="177"/>
                  </a:lnTo>
                  <a:lnTo>
                    <a:pt x="190" y="177"/>
                  </a:lnTo>
                  <a:lnTo>
                    <a:pt x="185" y="177"/>
                  </a:lnTo>
                  <a:lnTo>
                    <a:pt x="179" y="178"/>
                  </a:lnTo>
                  <a:lnTo>
                    <a:pt x="174" y="179"/>
                  </a:lnTo>
                  <a:lnTo>
                    <a:pt x="169" y="180"/>
                  </a:lnTo>
                  <a:lnTo>
                    <a:pt x="163" y="183"/>
                  </a:lnTo>
                  <a:lnTo>
                    <a:pt x="158" y="185"/>
                  </a:lnTo>
                  <a:lnTo>
                    <a:pt x="152" y="188"/>
                  </a:lnTo>
                  <a:lnTo>
                    <a:pt x="147" y="190"/>
                  </a:lnTo>
                  <a:lnTo>
                    <a:pt x="143" y="193"/>
                  </a:lnTo>
                  <a:lnTo>
                    <a:pt x="137" y="197"/>
                  </a:lnTo>
                  <a:lnTo>
                    <a:pt x="133" y="201"/>
                  </a:lnTo>
                  <a:lnTo>
                    <a:pt x="128" y="204"/>
                  </a:lnTo>
                  <a:lnTo>
                    <a:pt x="123" y="209"/>
                  </a:lnTo>
                  <a:lnTo>
                    <a:pt x="120" y="213"/>
                  </a:lnTo>
                  <a:lnTo>
                    <a:pt x="116" y="218"/>
                  </a:lnTo>
                  <a:lnTo>
                    <a:pt x="10" y="110"/>
                  </a:lnTo>
                  <a:lnTo>
                    <a:pt x="19" y="97"/>
                  </a:lnTo>
                  <a:lnTo>
                    <a:pt x="29" y="85"/>
                  </a:lnTo>
                  <a:lnTo>
                    <a:pt x="40" y="74"/>
                  </a:lnTo>
                  <a:lnTo>
                    <a:pt x="52" y="64"/>
                  </a:lnTo>
                  <a:lnTo>
                    <a:pt x="64" y="54"/>
                  </a:lnTo>
                  <a:lnTo>
                    <a:pt x="77" y="44"/>
                  </a:lnTo>
                  <a:lnTo>
                    <a:pt x="89" y="37"/>
                  </a:lnTo>
                  <a:lnTo>
                    <a:pt x="103" y="28"/>
                  </a:lnTo>
                  <a:lnTo>
                    <a:pt x="117" y="22"/>
                  </a:lnTo>
                  <a:lnTo>
                    <a:pt x="130" y="16"/>
                  </a:lnTo>
                  <a:lnTo>
                    <a:pt x="145" y="11"/>
                  </a:lnTo>
                  <a:lnTo>
                    <a:pt x="159" y="7"/>
                  </a:lnTo>
                  <a:lnTo>
                    <a:pt x="173" y="4"/>
                  </a:lnTo>
                  <a:lnTo>
                    <a:pt x="188" y="2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41" y="1"/>
                  </a:lnTo>
                  <a:lnTo>
                    <a:pt x="263" y="3"/>
                  </a:lnTo>
                  <a:lnTo>
                    <a:pt x="283" y="8"/>
                  </a:lnTo>
                  <a:lnTo>
                    <a:pt x="303" y="14"/>
                  </a:lnTo>
                  <a:lnTo>
                    <a:pt x="321" y="22"/>
                  </a:lnTo>
                  <a:lnTo>
                    <a:pt x="338" y="32"/>
                  </a:lnTo>
                  <a:lnTo>
                    <a:pt x="354" y="43"/>
                  </a:lnTo>
                  <a:lnTo>
                    <a:pt x="371" y="57"/>
                  </a:lnTo>
                  <a:lnTo>
                    <a:pt x="385" y="71"/>
                  </a:lnTo>
                  <a:lnTo>
                    <a:pt x="397" y="88"/>
                  </a:lnTo>
                  <a:lnTo>
                    <a:pt x="406" y="104"/>
                  </a:lnTo>
                  <a:lnTo>
                    <a:pt x="415" y="121"/>
                  </a:lnTo>
                  <a:lnTo>
                    <a:pt x="421" y="139"/>
                  </a:lnTo>
                  <a:lnTo>
                    <a:pt x="427" y="159"/>
                  </a:lnTo>
                  <a:lnTo>
                    <a:pt x="429" y="179"/>
                  </a:lnTo>
                  <a:lnTo>
                    <a:pt x="430" y="201"/>
                  </a:lnTo>
                  <a:lnTo>
                    <a:pt x="430" y="213"/>
                  </a:lnTo>
                  <a:lnTo>
                    <a:pt x="429" y="225"/>
                  </a:lnTo>
                  <a:lnTo>
                    <a:pt x="427" y="237"/>
                  </a:lnTo>
                  <a:lnTo>
                    <a:pt x="425" y="248"/>
                  </a:lnTo>
                  <a:lnTo>
                    <a:pt x="421" y="259"/>
                  </a:lnTo>
                  <a:lnTo>
                    <a:pt x="417" y="270"/>
                  </a:lnTo>
                  <a:lnTo>
                    <a:pt x="413" y="281"/>
                  </a:lnTo>
                  <a:lnTo>
                    <a:pt x="407" y="291"/>
                  </a:lnTo>
                  <a:lnTo>
                    <a:pt x="401" y="300"/>
                  </a:lnTo>
                  <a:lnTo>
                    <a:pt x="394" y="310"/>
                  </a:lnTo>
                  <a:lnTo>
                    <a:pt x="387" y="319"/>
                  </a:lnTo>
                  <a:lnTo>
                    <a:pt x="379" y="327"/>
                  </a:lnTo>
                  <a:lnTo>
                    <a:pt x="372" y="335"/>
                  </a:lnTo>
                  <a:lnTo>
                    <a:pt x="363" y="341"/>
                  </a:lnTo>
                  <a:lnTo>
                    <a:pt x="353" y="348"/>
                  </a:lnTo>
                  <a:lnTo>
                    <a:pt x="344" y="353"/>
                  </a:lnTo>
                  <a:lnTo>
                    <a:pt x="353" y="359"/>
                  </a:lnTo>
                  <a:lnTo>
                    <a:pt x="362" y="365"/>
                  </a:lnTo>
                  <a:lnTo>
                    <a:pt x="371" y="373"/>
                  </a:lnTo>
                  <a:lnTo>
                    <a:pt x="379" y="380"/>
                  </a:lnTo>
                  <a:lnTo>
                    <a:pt x="387" y="388"/>
                  </a:lnTo>
                  <a:lnTo>
                    <a:pt x="394" y="396"/>
                  </a:lnTo>
                  <a:lnTo>
                    <a:pt x="401" y="406"/>
                  </a:lnTo>
                  <a:lnTo>
                    <a:pt x="406" y="417"/>
                  </a:lnTo>
                  <a:lnTo>
                    <a:pt x="412" y="427"/>
                  </a:lnTo>
                  <a:lnTo>
                    <a:pt x="417" y="437"/>
                  </a:lnTo>
                  <a:lnTo>
                    <a:pt x="421" y="448"/>
                  </a:lnTo>
                  <a:lnTo>
                    <a:pt x="425" y="459"/>
                  </a:lnTo>
                  <a:lnTo>
                    <a:pt x="427" y="471"/>
                  </a:lnTo>
                  <a:lnTo>
                    <a:pt x="429" y="482"/>
                  </a:lnTo>
                  <a:lnTo>
                    <a:pt x="430" y="494"/>
                  </a:lnTo>
                  <a:lnTo>
                    <a:pt x="430" y="506"/>
                  </a:lnTo>
                  <a:lnTo>
                    <a:pt x="429" y="527"/>
                  </a:lnTo>
                  <a:lnTo>
                    <a:pt x="426" y="549"/>
                  </a:lnTo>
                  <a:lnTo>
                    <a:pt x="421" y="569"/>
                  </a:lnTo>
                  <a:lnTo>
                    <a:pt x="414" y="589"/>
                  </a:lnTo>
                  <a:lnTo>
                    <a:pt x="410" y="597"/>
                  </a:lnTo>
                  <a:lnTo>
                    <a:pt x="405" y="607"/>
                  </a:lnTo>
                  <a:lnTo>
                    <a:pt x="400" y="616"/>
                  </a:lnTo>
                  <a:lnTo>
                    <a:pt x="394" y="624"/>
                  </a:lnTo>
                  <a:lnTo>
                    <a:pt x="381" y="641"/>
                  </a:lnTo>
                  <a:lnTo>
                    <a:pt x="367" y="656"/>
                  </a:lnTo>
                  <a:lnTo>
                    <a:pt x="350" y="670"/>
                  </a:lnTo>
                  <a:lnTo>
                    <a:pt x="333" y="682"/>
                  </a:lnTo>
                  <a:lnTo>
                    <a:pt x="314" y="692"/>
                  </a:lnTo>
                  <a:lnTo>
                    <a:pt x="295" y="701"/>
                  </a:lnTo>
                  <a:lnTo>
                    <a:pt x="274" y="707"/>
                  </a:lnTo>
                  <a:lnTo>
                    <a:pt x="253" y="712"/>
                  </a:lnTo>
                  <a:lnTo>
                    <a:pt x="230" y="715"/>
                  </a:lnTo>
                  <a:lnTo>
                    <a:pt x="206" y="715"/>
                  </a:lnTo>
                  <a:lnTo>
                    <a:pt x="190" y="715"/>
                  </a:lnTo>
                  <a:lnTo>
                    <a:pt x="174" y="714"/>
                  </a:lnTo>
                  <a:lnTo>
                    <a:pt x="158" y="711"/>
                  </a:lnTo>
                  <a:lnTo>
                    <a:pt x="143" y="707"/>
                  </a:lnTo>
                  <a:lnTo>
                    <a:pt x="128" y="703"/>
                  </a:lnTo>
                  <a:lnTo>
                    <a:pt x="113" y="698"/>
                  </a:lnTo>
                  <a:lnTo>
                    <a:pt x="99" y="692"/>
                  </a:lnTo>
                  <a:lnTo>
                    <a:pt x="85" y="685"/>
                  </a:lnTo>
                  <a:lnTo>
                    <a:pt x="72" y="676"/>
                  </a:lnTo>
                  <a:lnTo>
                    <a:pt x="61" y="668"/>
                  </a:lnTo>
                  <a:lnTo>
                    <a:pt x="49" y="658"/>
                  </a:lnTo>
                  <a:lnTo>
                    <a:pt x="38" y="647"/>
                  </a:lnTo>
                  <a:lnTo>
                    <a:pt x="27" y="635"/>
                  </a:lnTo>
                  <a:lnTo>
                    <a:pt x="17" y="623"/>
                  </a:lnTo>
                  <a:lnTo>
                    <a:pt x="9" y="610"/>
                  </a:lnTo>
                  <a:lnTo>
                    <a:pt x="0" y="596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1480" y="3581280"/>
              <a:ext cx="61920" cy="65160"/>
            </a:xfrm>
            <a:custGeom>
              <a:avLst/>
              <a:gdLst/>
              <a:ahLst/>
              <a:rect l="l" t="t" r="r" b="b"/>
              <a:pathLst>
                <a:path w="160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8" y="155"/>
                  </a:lnTo>
                  <a:lnTo>
                    <a:pt x="124" y="151"/>
                  </a:lnTo>
                  <a:lnTo>
                    <a:pt x="131" y="146"/>
                  </a:lnTo>
                  <a:lnTo>
                    <a:pt x="137" y="140"/>
                  </a:lnTo>
                  <a:lnTo>
                    <a:pt x="143" y="134"/>
                  </a:lnTo>
                  <a:lnTo>
                    <a:pt x="147" y="127"/>
                  </a:lnTo>
                  <a:lnTo>
                    <a:pt x="151" y="121"/>
                  </a:lnTo>
                  <a:lnTo>
                    <a:pt x="155" y="114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0"/>
                  </a:lnTo>
                  <a:lnTo>
                    <a:pt x="160" y="83"/>
                  </a:lnTo>
                  <a:lnTo>
                    <a:pt x="160" y="74"/>
                  </a:lnTo>
                  <a:lnTo>
                    <a:pt x="159" y="67"/>
                  </a:lnTo>
                  <a:lnTo>
                    <a:pt x="157" y="59"/>
                  </a:lnTo>
                  <a:lnTo>
                    <a:pt x="155" y="52"/>
                  </a:lnTo>
                  <a:lnTo>
                    <a:pt x="151" y="44"/>
                  </a:lnTo>
                  <a:lnTo>
                    <a:pt x="147" y="38"/>
                  </a:lnTo>
                  <a:lnTo>
                    <a:pt x="143" y="31"/>
                  </a:lnTo>
                  <a:lnTo>
                    <a:pt x="137" y="25"/>
                  </a:lnTo>
                  <a:lnTo>
                    <a:pt x="131" y="18"/>
                  </a:lnTo>
                  <a:lnTo>
                    <a:pt x="124" y="14"/>
                  </a:lnTo>
                  <a:lnTo>
                    <a:pt x="118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2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4" y="25"/>
                  </a:lnTo>
                  <a:lnTo>
                    <a:pt x="17" y="31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5" y="114"/>
                  </a:lnTo>
                  <a:lnTo>
                    <a:pt x="9" y="121"/>
                  </a:lnTo>
                  <a:lnTo>
                    <a:pt x="13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5"/>
                  </a:lnTo>
                  <a:lnTo>
                    <a:pt x="49" y="158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1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76840" y="3538440"/>
              <a:ext cx="150840" cy="152280"/>
            </a:xfrm>
            <a:custGeom>
              <a:avLst/>
              <a:gdLst/>
              <a:ahLst/>
              <a:rect l="l" t="t" r="r" b="b"/>
              <a:pathLst>
                <a:path w="380" h="384">
                  <a:moveTo>
                    <a:pt x="189" y="384"/>
                  </a:moveTo>
                  <a:lnTo>
                    <a:pt x="169" y="384"/>
                  </a:lnTo>
                  <a:lnTo>
                    <a:pt x="151" y="381"/>
                  </a:lnTo>
                  <a:lnTo>
                    <a:pt x="133" y="376"/>
                  </a:lnTo>
                  <a:lnTo>
                    <a:pt x="115" y="370"/>
                  </a:lnTo>
                  <a:lnTo>
                    <a:pt x="99" y="362"/>
                  </a:lnTo>
                  <a:lnTo>
                    <a:pt x="84" y="353"/>
                  </a:lnTo>
                  <a:lnTo>
                    <a:pt x="69" y="342"/>
                  </a:lnTo>
                  <a:lnTo>
                    <a:pt x="55" y="329"/>
                  </a:lnTo>
                  <a:lnTo>
                    <a:pt x="42" y="314"/>
                  </a:lnTo>
                  <a:lnTo>
                    <a:pt x="30" y="299"/>
                  </a:lnTo>
                  <a:lnTo>
                    <a:pt x="21" y="284"/>
                  </a:lnTo>
                  <a:lnTo>
                    <a:pt x="13" y="266"/>
                  </a:lnTo>
                  <a:lnTo>
                    <a:pt x="7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3"/>
                  </a:lnTo>
                  <a:lnTo>
                    <a:pt x="1" y="172"/>
                  </a:lnTo>
                  <a:lnTo>
                    <a:pt x="3" y="154"/>
                  </a:lnTo>
                  <a:lnTo>
                    <a:pt x="7" y="136"/>
                  </a:lnTo>
                  <a:lnTo>
                    <a:pt x="13" y="118"/>
                  </a:lnTo>
                  <a:lnTo>
                    <a:pt x="21" y="101"/>
                  </a:lnTo>
                  <a:lnTo>
                    <a:pt x="30" y="85"/>
                  </a:lnTo>
                  <a:lnTo>
                    <a:pt x="42" y="70"/>
                  </a:lnTo>
                  <a:lnTo>
                    <a:pt x="55" y="56"/>
                  </a:lnTo>
                  <a:lnTo>
                    <a:pt x="69" y="43"/>
                  </a:lnTo>
                  <a:lnTo>
                    <a:pt x="84" y="31"/>
                  </a:lnTo>
                  <a:lnTo>
                    <a:pt x="99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51" y="3"/>
                  </a:lnTo>
                  <a:lnTo>
                    <a:pt x="169" y="1"/>
                  </a:lnTo>
                  <a:lnTo>
                    <a:pt x="189" y="0"/>
                  </a:lnTo>
                  <a:lnTo>
                    <a:pt x="208" y="1"/>
                  </a:lnTo>
                  <a:lnTo>
                    <a:pt x="227" y="3"/>
                  </a:lnTo>
                  <a:lnTo>
                    <a:pt x="245" y="7"/>
                  </a:lnTo>
                  <a:lnTo>
                    <a:pt x="262" y="14"/>
                  </a:lnTo>
                  <a:lnTo>
                    <a:pt x="279" y="21"/>
                  </a:lnTo>
                  <a:lnTo>
                    <a:pt x="295" y="32"/>
                  </a:lnTo>
                  <a:lnTo>
                    <a:pt x="310" y="43"/>
                  </a:lnTo>
                  <a:lnTo>
                    <a:pt x="324" y="56"/>
                  </a:lnTo>
                  <a:lnTo>
                    <a:pt x="338" y="71"/>
                  </a:lnTo>
                  <a:lnTo>
                    <a:pt x="349" y="86"/>
                  </a:lnTo>
                  <a:lnTo>
                    <a:pt x="359" y="102"/>
                  </a:lnTo>
                  <a:lnTo>
                    <a:pt x="366" y="118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0" y="193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9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49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0" y="362"/>
                  </a:lnTo>
                  <a:lnTo>
                    <a:pt x="263" y="370"/>
                  </a:lnTo>
                  <a:lnTo>
                    <a:pt x="245" y="376"/>
                  </a:lnTo>
                  <a:lnTo>
                    <a:pt x="228" y="381"/>
                  </a:lnTo>
                  <a:lnTo>
                    <a:pt x="208" y="384"/>
                  </a:lnTo>
                  <a:lnTo>
                    <a:pt x="189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30680" y="3449520"/>
              <a:ext cx="63720" cy="65160"/>
            </a:xfrm>
            <a:custGeom>
              <a:avLst/>
              <a:gdLst/>
              <a:ahLst/>
              <a:rect l="l" t="t" r="r" b="b"/>
              <a:pathLst>
                <a:path w="161" h="164">
                  <a:moveTo>
                    <a:pt x="80" y="164"/>
                  </a:moveTo>
                  <a:lnTo>
                    <a:pt x="89" y="164"/>
                  </a:lnTo>
                  <a:lnTo>
                    <a:pt x="96" y="163"/>
                  </a:lnTo>
                  <a:lnTo>
                    <a:pt x="104" y="161"/>
                  </a:lnTo>
                  <a:lnTo>
                    <a:pt x="112" y="159"/>
                  </a:lnTo>
                  <a:lnTo>
                    <a:pt x="118" y="156"/>
                  </a:lnTo>
                  <a:lnTo>
                    <a:pt x="125" y="151"/>
                  </a:lnTo>
                  <a:lnTo>
                    <a:pt x="131" y="146"/>
                  </a:lnTo>
                  <a:lnTo>
                    <a:pt x="137" y="141"/>
                  </a:lnTo>
                  <a:lnTo>
                    <a:pt x="143" y="134"/>
                  </a:lnTo>
                  <a:lnTo>
                    <a:pt x="147" y="128"/>
                  </a:lnTo>
                  <a:lnTo>
                    <a:pt x="152" y="120"/>
                  </a:lnTo>
                  <a:lnTo>
                    <a:pt x="155" y="114"/>
                  </a:lnTo>
                  <a:lnTo>
                    <a:pt x="158" y="106"/>
                  </a:lnTo>
                  <a:lnTo>
                    <a:pt x="159" y="98"/>
                  </a:lnTo>
                  <a:lnTo>
                    <a:pt x="160" y="90"/>
                  </a:lnTo>
                  <a:lnTo>
                    <a:pt x="161" y="82"/>
                  </a:lnTo>
                  <a:lnTo>
                    <a:pt x="160" y="74"/>
                  </a:lnTo>
                  <a:lnTo>
                    <a:pt x="159" y="66"/>
                  </a:lnTo>
                  <a:lnTo>
                    <a:pt x="158" y="58"/>
                  </a:lnTo>
                  <a:lnTo>
                    <a:pt x="155" y="51"/>
                  </a:lnTo>
                  <a:lnTo>
                    <a:pt x="152" y="43"/>
                  </a:lnTo>
                  <a:lnTo>
                    <a:pt x="147" y="37"/>
                  </a:lnTo>
                  <a:lnTo>
                    <a:pt x="143" y="30"/>
                  </a:lnTo>
                  <a:lnTo>
                    <a:pt x="137" y="24"/>
                  </a:lnTo>
                  <a:lnTo>
                    <a:pt x="131" y="19"/>
                  </a:lnTo>
                  <a:lnTo>
                    <a:pt x="125" y="14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29" y="19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3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3" y="128"/>
                  </a:lnTo>
                  <a:lnTo>
                    <a:pt x="18" y="134"/>
                  </a:lnTo>
                  <a:lnTo>
                    <a:pt x="24" y="141"/>
                  </a:lnTo>
                  <a:lnTo>
                    <a:pt x="29" y="146"/>
                  </a:lnTo>
                  <a:lnTo>
                    <a:pt x="36" y="151"/>
                  </a:lnTo>
                  <a:lnTo>
                    <a:pt x="42" y="156"/>
                  </a:lnTo>
                  <a:lnTo>
                    <a:pt x="50" y="159"/>
                  </a:lnTo>
                  <a:lnTo>
                    <a:pt x="56" y="161"/>
                  </a:lnTo>
                  <a:lnTo>
                    <a:pt x="64" y="163"/>
                  </a:lnTo>
                  <a:lnTo>
                    <a:pt x="73" y="164"/>
                  </a:lnTo>
                  <a:lnTo>
                    <a:pt x="80" y="16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486400" y="3406680"/>
              <a:ext cx="150840" cy="152280"/>
            </a:xfrm>
            <a:custGeom>
              <a:avLst/>
              <a:gdLst/>
              <a:ahLst/>
              <a:rect l="l" t="t" r="r" b="b"/>
              <a:pathLst>
                <a:path w="381" h="384">
                  <a:moveTo>
                    <a:pt x="190" y="384"/>
                  </a:moveTo>
                  <a:lnTo>
                    <a:pt x="171" y="384"/>
                  </a:lnTo>
                  <a:lnTo>
                    <a:pt x="152" y="381"/>
                  </a:lnTo>
                  <a:lnTo>
                    <a:pt x="134" y="377"/>
                  </a:lnTo>
                  <a:lnTo>
                    <a:pt x="117" y="370"/>
                  </a:lnTo>
                  <a:lnTo>
                    <a:pt x="101" y="363"/>
                  </a:lnTo>
                  <a:lnTo>
                    <a:pt x="84" y="353"/>
                  </a:lnTo>
                  <a:lnTo>
                    <a:pt x="70" y="342"/>
                  </a:lnTo>
                  <a:lnTo>
                    <a:pt x="55" y="328"/>
                  </a:lnTo>
                  <a:lnTo>
                    <a:pt x="42" y="314"/>
                  </a:lnTo>
                  <a:lnTo>
                    <a:pt x="31" y="299"/>
                  </a:lnTo>
                  <a:lnTo>
                    <a:pt x="22" y="283"/>
                  </a:lnTo>
                  <a:lnTo>
                    <a:pt x="14" y="267"/>
                  </a:lnTo>
                  <a:lnTo>
                    <a:pt x="8" y="249"/>
                  </a:lnTo>
                  <a:lnTo>
                    <a:pt x="3" y="231"/>
                  </a:lnTo>
                  <a:lnTo>
                    <a:pt x="1" y="212"/>
                  </a:lnTo>
                  <a:lnTo>
                    <a:pt x="0" y="192"/>
                  </a:lnTo>
                  <a:lnTo>
                    <a:pt x="1" y="173"/>
                  </a:lnTo>
                  <a:lnTo>
                    <a:pt x="3" y="154"/>
                  </a:lnTo>
                  <a:lnTo>
                    <a:pt x="8" y="136"/>
                  </a:lnTo>
                  <a:lnTo>
                    <a:pt x="14" y="119"/>
                  </a:lnTo>
                  <a:lnTo>
                    <a:pt x="22" y="102"/>
                  </a:lnTo>
                  <a:lnTo>
                    <a:pt x="31" y="86"/>
                  </a:lnTo>
                  <a:lnTo>
                    <a:pt x="42" y="71"/>
                  </a:lnTo>
                  <a:lnTo>
                    <a:pt x="55" y="56"/>
                  </a:lnTo>
                  <a:lnTo>
                    <a:pt x="70" y="43"/>
                  </a:lnTo>
                  <a:lnTo>
                    <a:pt x="84" y="31"/>
                  </a:lnTo>
                  <a:lnTo>
                    <a:pt x="101" y="22"/>
                  </a:lnTo>
                  <a:lnTo>
                    <a:pt x="117" y="14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71" y="1"/>
                  </a:lnTo>
                  <a:lnTo>
                    <a:pt x="190" y="0"/>
                  </a:lnTo>
                  <a:lnTo>
                    <a:pt x="210" y="1"/>
                  </a:lnTo>
                  <a:lnTo>
                    <a:pt x="229" y="3"/>
                  </a:lnTo>
                  <a:lnTo>
                    <a:pt x="246" y="8"/>
                  </a:lnTo>
                  <a:lnTo>
                    <a:pt x="264" y="14"/>
                  </a:lnTo>
                  <a:lnTo>
                    <a:pt x="280" y="22"/>
                  </a:lnTo>
                  <a:lnTo>
                    <a:pt x="296" y="32"/>
                  </a:lnTo>
                  <a:lnTo>
                    <a:pt x="311" y="43"/>
                  </a:lnTo>
                  <a:lnTo>
                    <a:pt x="325" y="56"/>
                  </a:lnTo>
                  <a:lnTo>
                    <a:pt x="338" y="71"/>
                  </a:lnTo>
                  <a:lnTo>
                    <a:pt x="350" y="86"/>
                  </a:lnTo>
                  <a:lnTo>
                    <a:pt x="359" y="103"/>
                  </a:lnTo>
                  <a:lnTo>
                    <a:pt x="367" y="119"/>
                  </a:lnTo>
                  <a:lnTo>
                    <a:pt x="373" y="136"/>
                  </a:lnTo>
                  <a:lnTo>
                    <a:pt x="377" y="154"/>
                  </a:lnTo>
                  <a:lnTo>
                    <a:pt x="380" y="173"/>
                  </a:lnTo>
                  <a:lnTo>
                    <a:pt x="381" y="192"/>
                  </a:lnTo>
                  <a:lnTo>
                    <a:pt x="380" y="212"/>
                  </a:lnTo>
                  <a:lnTo>
                    <a:pt x="377" y="231"/>
                  </a:lnTo>
                  <a:lnTo>
                    <a:pt x="373" y="248"/>
                  </a:lnTo>
                  <a:lnTo>
                    <a:pt x="367" y="266"/>
                  </a:lnTo>
                  <a:lnTo>
                    <a:pt x="359" y="283"/>
                  </a:lnTo>
                  <a:lnTo>
                    <a:pt x="350" y="299"/>
                  </a:lnTo>
                  <a:lnTo>
                    <a:pt x="338" y="314"/>
                  </a:lnTo>
                  <a:lnTo>
                    <a:pt x="325" y="328"/>
                  </a:lnTo>
                  <a:lnTo>
                    <a:pt x="311" y="341"/>
                  </a:lnTo>
                  <a:lnTo>
                    <a:pt x="296" y="353"/>
                  </a:lnTo>
                  <a:lnTo>
                    <a:pt x="281" y="363"/>
                  </a:lnTo>
                  <a:lnTo>
                    <a:pt x="264" y="370"/>
                  </a:lnTo>
                  <a:lnTo>
                    <a:pt x="246" y="377"/>
                  </a:lnTo>
                  <a:lnTo>
                    <a:pt x="229" y="381"/>
                  </a:lnTo>
                  <a:lnTo>
                    <a:pt x="210" y="384"/>
                  </a:lnTo>
                  <a:lnTo>
                    <a:pt x="190" y="384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60920" y="3411360"/>
              <a:ext cx="192240" cy="274680"/>
            </a:xfrm>
            <a:custGeom>
              <a:avLst/>
              <a:gdLst/>
              <a:ahLst/>
              <a:rect l="l" t="t" r="r" b="b"/>
              <a:pathLst>
                <a:path w="484" h="693">
                  <a:moveTo>
                    <a:pt x="0" y="693"/>
                  </a:moveTo>
                  <a:lnTo>
                    <a:pt x="381" y="0"/>
                  </a:lnTo>
                  <a:lnTo>
                    <a:pt x="484" y="0"/>
                  </a:lnTo>
                  <a:lnTo>
                    <a:pt x="103" y="693"/>
                  </a:lnTo>
                  <a:lnTo>
                    <a:pt x="0" y="693"/>
                  </a:lnTo>
                </a:path>
              </a:pathLst>
            </a:custGeom>
            <a:noFill/>
            <a:ln w="93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1398960" y="4782960"/>
            <a:ext cx="6327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PREVENT WOMEN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HAVING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800520" y="1028880"/>
            <a:ext cx="15552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417920" y="1028880"/>
            <a:ext cx="1540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251320" y="1028880"/>
            <a:ext cx="155880" cy="6120"/>
          </a:xfrm>
          <a:prstGeom prst="rect">
            <a:avLst/>
          </a:prstGeom>
          <a:solidFill>
            <a:srgbClr val="e36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2585880" y="1905120"/>
            <a:ext cx="3969000" cy="2592360"/>
            <a:chOff x="2585880" y="1905120"/>
            <a:chExt cx="3969000" cy="2592360"/>
          </a:xfrm>
        </p:grpSpPr>
        <p:sp>
          <p:nvSpPr>
            <p:cNvPr id="1697" name=""/>
            <p:cNvSpPr/>
            <p:nvPr/>
          </p:nvSpPr>
          <p:spPr>
            <a:xfrm>
              <a:off x="2598840" y="1918080"/>
              <a:ext cx="3943080" cy="2466720"/>
            </a:xfrm>
            <a:custGeom>
              <a:avLst/>
              <a:gdLst/>
              <a:ahLst/>
              <a:rect l="l" t="t" r="r" b="b"/>
              <a:pathLst>
                <a:path w="12416" h="7766">
                  <a:moveTo>
                    <a:pt x="12363" y="81"/>
                  </a:moveTo>
                  <a:lnTo>
                    <a:pt x="11596" y="65"/>
                  </a:lnTo>
                  <a:lnTo>
                    <a:pt x="10831" y="51"/>
                  </a:lnTo>
                  <a:lnTo>
                    <a:pt x="10065" y="37"/>
                  </a:lnTo>
                  <a:lnTo>
                    <a:pt x="9299" y="25"/>
                  </a:lnTo>
                  <a:lnTo>
                    <a:pt x="8533" y="16"/>
                  </a:lnTo>
                  <a:lnTo>
                    <a:pt x="7767" y="8"/>
                  </a:lnTo>
                  <a:lnTo>
                    <a:pt x="7384" y="6"/>
                  </a:lnTo>
                  <a:lnTo>
                    <a:pt x="7001" y="4"/>
                  </a:lnTo>
                  <a:lnTo>
                    <a:pt x="6618" y="2"/>
                  </a:lnTo>
                  <a:lnTo>
                    <a:pt x="6235" y="0"/>
                  </a:lnTo>
                  <a:lnTo>
                    <a:pt x="5852" y="0"/>
                  </a:lnTo>
                  <a:lnTo>
                    <a:pt x="5469" y="0"/>
                  </a:lnTo>
                  <a:lnTo>
                    <a:pt x="5087" y="2"/>
                  </a:lnTo>
                  <a:lnTo>
                    <a:pt x="4704" y="3"/>
                  </a:lnTo>
                  <a:lnTo>
                    <a:pt x="4321" y="5"/>
                  </a:lnTo>
                  <a:lnTo>
                    <a:pt x="3938" y="8"/>
                  </a:lnTo>
                  <a:lnTo>
                    <a:pt x="3555" y="12"/>
                  </a:lnTo>
                  <a:lnTo>
                    <a:pt x="3172" y="16"/>
                  </a:lnTo>
                  <a:lnTo>
                    <a:pt x="2789" y="22"/>
                  </a:lnTo>
                  <a:lnTo>
                    <a:pt x="2406" y="28"/>
                  </a:lnTo>
                  <a:lnTo>
                    <a:pt x="2023" y="35"/>
                  </a:lnTo>
                  <a:lnTo>
                    <a:pt x="1639" y="43"/>
                  </a:lnTo>
                  <a:lnTo>
                    <a:pt x="1256" y="51"/>
                  </a:lnTo>
                  <a:lnTo>
                    <a:pt x="873" y="61"/>
                  </a:lnTo>
                  <a:lnTo>
                    <a:pt x="490" y="71"/>
                  </a:lnTo>
                  <a:lnTo>
                    <a:pt x="107" y="81"/>
                  </a:lnTo>
                  <a:lnTo>
                    <a:pt x="95" y="326"/>
                  </a:lnTo>
                  <a:lnTo>
                    <a:pt x="83" y="569"/>
                  </a:lnTo>
                  <a:lnTo>
                    <a:pt x="72" y="811"/>
                  </a:lnTo>
                  <a:lnTo>
                    <a:pt x="62" y="1051"/>
                  </a:lnTo>
                  <a:lnTo>
                    <a:pt x="53" y="1290"/>
                  </a:lnTo>
                  <a:lnTo>
                    <a:pt x="43" y="1527"/>
                  </a:lnTo>
                  <a:lnTo>
                    <a:pt x="35" y="1763"/>
                  </a:lnTo>
                  <a:lnTo>
                    <a:pt x="29" y="1999"/>
                  </a:lnTo>
                  <a:lnTo>
                    <a:pt x="23" y="2232"/>
                  </a:lnTo>
                  <a:lnTo>
                    <a:pt x="17" y="2466"/>
                  </a:lnTo>
                  <a:lnTo>
                    <a:pt x="12" y="2699"/>
                  </a:lnTo>
                  <a:lnTo>
                    <a:pt x="8" y="2931"/>
                  </a:lnTo>
                  <a:lnTo>
                    <a:pt x="5" y="3163"/>
                  </a:lnTo>
                  <a:lnTo>
                    <a:pt x="2" y="3394"/>
                  </a:lnTo>
                  <a:lnTo>
                    <a:pt x="0" y="3626"/>
                  </a:lnTo>
                  <a:lnTo>
                    <a:pt x="0" y="3857"/>
                  </a:lnTo>
                  <a:lnTo>
                    <a:pt x="0" y="4087"/>
                  </a:lnTo>
                  <a:lnTo>
                    <a:pt x="1" y="4319"/>
                  </a:lnTo>
                  <a:lnTo>
                    <a:pt x="2" y="4550"/>
                  </a:lnTo>
                  <a:lnTo>
                    <a:pt x="5" y="4782"/>
                  </a:lnTo>
                  <a:lnTo>
                    <a:pt x="8" y="5014"/>
                  </a:lnTo>
                  <a:lnTo>
                    <a:pt x="13" y="5247"/>
                  </a:lnTo>
                  <a:lnTo>
                    <a:pt x="18" y="5480"/>
                  </a:lnTo>
                  <a:lnTo>
                    <a:pt x="24" y="5715"/>
                  </a:lnTo>
                  <a:lnTo>
                    <a:pt x="32" y="5950"/>
                  </a:lnTo>
                  <a:lnTo>
                    <a:pt x="40" y="6187"/>
                  </a:lnTo>
                  <a:lnTo>
                    <a:pt x="48" y="6424"/>
                  </a:lnTo>
                  <a:lnTo>
                    <a:pt x="58" y="6663"/>
                  </a:lnTo>
                  <a:lnTo>
                    <a:pt x="69" y="6903"/>
                  </a:lnTo>
                  <a:lnTo>
                    <a:pt x="81" y="7145"/>
                  </a:lnTo>
                  <a:lnTo>
                    <a:pt x="94" y="7388"/>
                  </a:lnTo>
                  <a:lnTo>
                    <a:pt x="107" y="7633"/>
                  </a:lnTo>
                  <a:lnTo>
                    <a:pt x="490" y="7647"/>
                  </a:lnTo>
                  <a:lnTo>
                    <a:pt x="873" y="7661"/>
                  </a:lnTo>
                  <a:lnTo>
                    <a:pt x="1256" y="7674"/>
                  </a:lnTo>
                  <a:lnTo>
                    <a:pt x="1639" y="7686"/>
                  </a:lnTo>
                  <a:lnTo>
                    <a:pt x="2023" y="7698"/>
                  </a:lnTo>
                  <a:lnTo>
                    <a:pt x="2406" y="7709"/>
                  </a:lnTo>
                  <a:lnTo>
                    <a:pt x="2789" y="7718"/>
                  </a:lnTo>
                  <a:lnTo>
                    <a:pt x="3172" y="7727"/>
                  </a:lnTo>
                  <a:lnTo>
                    <a:pt x="3555" y="7735"/>
                  </a:lnTo>
                  <a:lnTo>
                    <a:pt x="3938" y="7743"/>
                  </a:lnTo>
                  <a:lnTo>
                    <a:pt x="4321" y="7749"/>
                  </a:lnTo>
                  <a:lnTo>
                    <a:pt x="4704" y="7755"/>
                  </a:lnTo>
                  <a:lnTo>
                    <a:pt x="5088" y="7759"/>
                  </a:lnTo>
                  <a:lnTo>
                    <a:pt x="5471" y="7763"/>
                  </a:lnTo>
                  <a:lnTo>
                    <a:pt x="5854" y="7765"/>
                  </a:lnTo>
                  <a:lnTo>
                    <a:pt x="6236" y="7766"/>
                  </a:lnTo>
                  <a:lnTo>
                    <a:pt x="6619" y="7766"/>
                  </a:lnTo>
                  <a:lnTo>
                    <a:pt x="7002" y="7766"/>
                  </a:lnTo>
                  <a:lnTo>
                    <a:pt x="7385" y="7764"/>
                  </a:lnTo>
                  <a:lnTo>
                    <a:pt x="7768" y="7760"/>
                  </a:lnTo>
                  <a:lnTo>
                    <a:pt x="8151" y="7757"/>
                  </a:lnTo>
                  <a:lnTo>
                    <a:pt x="8534" y="7751"/>
                  </a:lnTo>
                  <a:lnTo>
                    <a:pt x="8917" y="7746"/>
                  </a:lnTo>
                  <a:lnTo>
                    <a:pt x="9300" y="7738"/>
                  </a:lnTo>
                  <a:lnTo>
                    <a:pt x="9683" y="7730"/>
                  </a:lnTo>
                  <a:lnTo>
                    <a:pt x="10066" y="7719"/>
                  </a:lnTo>
                  <a:lnTo>
                    <a:pt x="10449" y="7708"/>
                  </a:lnTo>
                  <a:lnTo>
                    <a:pt x="10832" y="7695"/>
                  </a:lnTo>
                  <a:lnTo>
                    <a:pt x="11215" y="7682"/>
                  </a:lnTo>
                  <a:lnTo>
                    <a:pt x="11598" y="7667"/>
                  </a:lnTo>
                  <a:lnTo>
                    <a:pt x="11980" y="7651"/>
                  </a:lnTo>
                  <a:lnTo>
                    <a:pt x="12363" y="7633"/>
                  </a:lnTo>
                  <a:lnTo>
                    <a:pt x="12375" y="7132"/>
                  </a:lnTo>
                  <a:lnTo>
                    <a:pt x="12386" y="6640"/>
                  </a:lnTo>
                  <a:lnTo>
                    <a:pt x="12395" y="6154"/>
                  </a:lnTo>
                  <a:lnTo>
                    <a:pt x="12402" y="5675"/>
                  </a:lnTo>
                  <a:lnTo>
                    <a:pt x="12408" y="5201"/>
                  </a:lnTo>
                  <a:lnTo>
                    <a:pt x="12412" y="4731"/>
                  </a:lnTo>
                  <a:lnTo>
                    <a:pt x="12415" y="4265"/>
                  </a:lnTo>
                  <a:lnTo>
                    <a:pt x="12416" y="3802"/>
                  </a:lnTo>
                  <a:lnTo>
                    <a:pt x="12416" y="3341"/>
                  </a:lnTo>
                  <a:lnTo>
                    <a:pt x="12414" y="2879"/>
                  </a:lnTo>
                  <a:lnTo>
                    <a:pt x="12409" y="2418"/>
                  </a:lnTo>
                  <a:lnTo>
                    <a:pt x="12403" y="1957"/>
                  </a:lnTo>
                  <a:lnTo>
                    <a:pt x="12395" y="1493"/>
                  </a:lnTo>
                  <a:lnTo>
                    <a:pt x="12386" y="1026"/>
                  </a:lnTo>
                  <a:lnTo>
                    <a:pt x="12376" y="557"/>
                  </a:lnTo>
                  <a:lnTo>
                    <a:pt x="12363" y="81"/>
                  </a:lnTo>
                  <a:close/>
                </a:path>
              </a:pathLst>
            </a:custGeom>
            <a:solidFill>
              <a:srgbClr val="74c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19360" y="1905120"/>
              <a:ext cx="3905280" cy="52560"/>
            </a:xfrm>
            <a:custGeom>
              <a:avLst/>
              <a:gdLst/>
              <a:ahLst/>
              <a:rect l="l" t="t" r="r" b="b"/>
              <a:pathLst>
                <a:path w="12298" h="165">
                  <a:moveTo>
                    <a:pt x="83" y="126"/>
                  </a:moveTo>
                  <a:lnTo>
                    <a:pt x="43" y="165"/>
                  </a:lnTo>
                  <a:lnTo>
                    <a:pt x="426" y="154"/>
                  </a:lnTo>
                  <a:lnTo>
                    <a:pt x="809" y="144"/>
                  </a:lnTo>
                  <a:lnTo>
                    <a:pt x="1192" y="135"/>
                  </a:lnTo>
                  <a:lnTo>
                    <a:pt x="1575" y="126"/>
                  </a:lnTo>
                  <a:lnTo>
                    <a:pt x="1958" y="119"/>
                  </a:lnTo>
                  <a:lnTo>
                    <a:pt x="2341" y="112"/>
                  </a:lnTo>
                  <a:lnTo>
                    <a:pt x="2724" y="105"/>
                  </a:lnTo>
                  <a:lnTo>
                    <a:pt x="3107" y="101"/>
                  </a:lnTo>
                  <a:lnTo>
                    <a:pt x="3490" y="96"/>
                  </a:lnTo>
                  <a:lnTo>
                    <a:pt x="3873" y="91"/>
                  </a:lnTo>
                  <a:lnTo>
                    <a:pt x="4256" y="89"/>
                  </a:lnTo>
                  <a:lnTo>
                    <a:pt x="4639" y="87"/>
                  </a:lnTo>
                  <a:lnTo>
                    <a:pt x="5022" y="86"/>
                  </a:lnTo>
                  <a:lnTo>
                    <a:pt x="5404" y="85"/>
                  </a:lnTo>
                  <a:lnTo>
                    <a:pt x="5787" y="85"/>
                  </a:lnTo>
                  <a:lnTo>
                    <a:pt x="6170" y="85"/>
                  </a:lnTo>
                  <a:lnTo>
                    <a:pt x="6553" y="86"/>
                  </a:lnTo>
                  <a:lnTo>
                    <a:pt x="6936" y="87"/>
                  </a:lnTo>
                  <a:lnTo>
                    <a:pt x="7319" y="89"/>
                  </a:lnTo>
                  <a:lnTo>
                    <a:pt x="7702" y="93"/>
                  </a:lnTo>
                  <a:lnTo>
                    <a:pt x="8468" y="99"/>
                  </a:lnTo>
                  <a:lnTo>
                    <a:pt x="9234" y="110"/>
                  </a:lnTo>
                  <a:lnTo>
                    <a:pt x="10000" y="121"/>
                  </a:lnTo>
                  <a:lnTo>
                    <a:pt x="10766" y="134"/>
                  </a:lnTo>
                  <a:lnTo>
                    <a:pt x="11531" y="150"/>
                  </a:lnTo>
                  <a:lnTo>
                    <a:pt x="12297" y="165"/>
                  </a:lnTo>
                  <a:lnTo>
                    <a:pt x="12298" y="82"/>
                  </a:lnTo>
                  <a:lnTo>
                    <a:pt x="11533" y="65"/>
                  </a:lnTo>
                  <a:lnTo>
                    <a:pt x="10767" y="50"/>
                  </a:lnTo>
                  <a:lnTo>
                    <a:pt x="10001" y="38"/>
                  </a:lnTo>
                  <a:lnTo>
                    <a:pt x="9235" y="25"/>
                  </a:lnTo>
                  <a:lnTo>
                    <a:pt x="8469" y="16"/>
                  </a:lnTo>
                  <a:lnTo>
                    <a:pt x="7703" y="9"/>
                  </a:lnTo>
                  <a:lnTo>
                    <a:pt x="7319" y="6"/>
                  </a:lnTo>
                  <a:lnTo>
                    <a:pt x="6936" y="4"/>
                  </a:lnTo>
                  <a:lnTo>
                    <a:pt x="6553" y="1"/>
                  </a:lnTo>
                  <a:lnTo>
                    <a:pt x="6170" y="0"/>
                  </a:lnTo>
                  <a:lnTo>
                    <a:pt x="5787" y="0"/>
                  </a:lnTo>
                  <a:lnTo>
                    <a:pt x="5404" y="0"/>
                  </a:lnTo>
                  <a:lnTo>
                    <a:pt x="5022" y="1"/>
                  </a:lnTo>
                  <a:lnTo>
                    <a:pt x="4639" y="2"/>
                  </a:lnTo>
                  <a:lnTo>
                    <a:pt x="4256" y="5"/>
                  </a:lnTo>
                  <a:lnTo>
                    <a:pt x="3873" y="8"/>
                  </a:lnTo>
                  <a:lnTo>
                    <a:pt x="3490" y="12"/>
                  </a:lnTo>
                  <a:lnTo>
                    <a:pt x="3106" y="16"/>
                  </a:lnTo>
                  <a:lnTo>
                    <a:pt x="2723" y="22"/>
                  </a:lnTo>
                  <a:lnTo>
                    <a:pt x="2340" y="28"/>
                  </a:lnTo>
                  <a:lnTo>
                    <a:pt x="1957" y="34"/>
                  </a:lnTo>
                  <a:lnTo>
                    <a:pt x="1574" y="42"/>
                  </a:lnTo>
                  <a:lnTo>
                    <a:pt x="1190" y="51"/>
                  </a:lnTo>
                  <a:lnTo>
                    <a:pt x="807" y="61"/>
                  </a:lnTo>
                  <a:lnTo>
                    <a:pt x="424" y="71"/>
                  </a:lnTo>
                  <a:lnTo>
                    <a:pt x="41" y="82"/>
                  </a:lnTo>
                  <a:lnTo>
                    <a:pt x="0" y="122"/>
                  </a:lnTo>
                  <a:lnTo>
                    <a:pt x="41" y="82"/>
                  </a:lnTo>
                  <a:lnTo>
                    <a:pt x="31" y="83"/>
                  </a:lnTo>
                  <a:lnTo>
                    <a:pt x="23" y="86"/>
                  </a:lnTo>
                  <a:lnTo>
                    <a:pt x="16" y="90"/>
                  </a:lnTo>
                  <a:lnTo>
                    <a:pt x="10" y="96"/>
                  </a:lnTo>
                  <a:lnTo>
                    <a:pt x="6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4" y="140"/>
                  </a:lnTo>
                  <a:lnTo>
                    <a:pt x="7" y="147"/>
                  </a:lnTo>
                  <a:lnTo>
                    <a:pt x="12" y="153"/>
                  </a:lnTo>
                  <a:lnTo>
                    <a:pt x="17" y="159"/>
                  </a:lnTo>
                  <a:lnTo>
                    <a:pt x="25" y="162"/>
                  </a:lnTo>
                  <a:lnTo>
                    <a:pt x="33" y="164"/>
                  </a:lnTo>
                  <a:lnTo>
                    <a:pt x="43" y="165"/>
                  </a:lnTo>
                  <a:lnTo>
                    <a:pt x="83" y="1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5880" y="1943280"/>
              <a:ext cx="60480" cy="2411640"/>
            </a:xfrm>
            <a:custGeom>
              <a:avLst/>
              <a:gdLst/>
              <a:ahLst/>
              <a:rect l="l" t="t" r="r" b="b"/>
              <a:pathLst>
                <a:path w="190" h="7595">
                  <a:moveTo>
                    <a:pt x="150" y="7510"/>
                  </a:moveTo>
                  <a:lnTo>
                    <a:pt x="190" y="7550"/>
                  </a:lnTo>
                  <a:lnTo>
                    <a:pt x="177" y="7305"/>
                  </a:lnTo>
                  <a:lnTo>
                    <a:pt x="164" y="7062"/>
                  </a:lnTo>
                  <a:lnTo>
                    <a:pt x="153" y="6821"/>
                  </a:lnTo>
                  <a:lnTo>
                    <a:pt x="142" y="6581"/>
                  </a:lnTo>
                  <a:lnTo>
                    <a:pt x="132" y="6342"/>
                  </a:lnTo>
                  <a:lnTo>
                    <a:pt x="123" y="6105"/>
                  </a:lnTo>
                  <a:lnTo>
                    <a:pt x="115" y="5869"/>
                  </a:lnTo>
                  <a:lnTo>
                    <a:pt x="108" y="5634"/>
                  </a:lnTo>
                  <a:lnTo>
                    <a:pt x="103" y="5399"/>
                  </a:lnTo>
                  <a:lnTo>
                    <a:pt x="97" y="5167"/>
                  </a:lnTo>
                  <a:lnTo>
                    <a:pt x="92" y="4934"/>
                  </a:lnTo>
                  <a:lnTo>
                    <a:pt x="89" y="4702"/>
                  </a:lnTo>
                  <a:lnTo>
                    <a:pt x="87" y="4470"/>
                  </a:lnTo>
                  <a:lnTo>
                    <a:pt x="84" y="4239"/>
                  </a:lnTo>
                  <a:lnTo>
                    <a:pt x="84" y="4007"/>
                  </a:lnTo>
                  <a:lnTo>
                    <a:pt x="84" y="3777"/>
                  </a:lnTo>
                  <a:lnTo>
                    <a:pt x="84" y="3546"/>
                  </a:lnTo>
                  <a:lnTo>
                    <a:pt x="85" y="3314"/>
                  </a:lnTo>
                  <a:lnTo>
                    <a:pt x="89" y="3084"/>
                  </a:lnTo>
                  <a:lnTo>
                    <a:pt x="91" y="2851"/>
                  </a:lnTo>
                  <a:lnTo>
                    <a:pt x="96" y="2620"/>
                  </a:lnTo>
                  <a:lnTo>
                    <a:pt x="100" y="2387"/>
                  </a:lnTo>
                  <a:lnTo>
                    <a:pt x="106" y="2154"/>
                  </a:lnTo>
                  <a:lnTo>
                    <a:pt x="113" y="1920"/>
                  </a:lnTo>
                  <a:lnTo>
                    <a:pt x="120" y="1685"/>
                  </a:lnTo>
                  <a:lnTo>
                    <a:pt x="128" y="1448"/>
                  </a:lnTo>
                  <a:lnTo>
                    <a:pt x="137" y="1211"/>
                  </a:lnTo>
                  <a:lnTo>
                    <a:pt x="146" y="973"/>
                  </a:lnTo>
                  <a:lnTo>
                    <a:pt x="156" y="733"/>
                  </a:lnTo>
                  <a:lnTo>
                    <a:pt x="166" y="492"/>
                  </a:lnTo>
                  <a:lnTo>
                    <a:pt x="179" y="249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95" y="244"/>
                  </a:lnTo>
                  <a:lnTo>
                    <a:pt x="83" y="488"/>
                  </a:lnTo>
                  <a:lnTo>
                    <a:pt x="73" y="730"/>
                  </a:lnTo>
                  <a:lnTo>
                    <a:pt x="63" y="969"/>
                  </a:lnTo>
                  <a:lnTo>
                    <a:pt x="52" y="1209"/>
                  </a:lnTo>
                  <a:lnTo>
                    <a:pt x="44" y="1446"/>
                  </a:lnTo>
                  <a:lnTo>
                    <a:pt x="36" y="1682"/>
                  </a:lnTo>
                  <a:lnTo>
                    <a:pt x="30" y="1918"/>
                  </a:lnTo>
                  <a:lnTo>
                    <a:pt x="23" y="2151"/>
                  </a:lnTo>
                  <a:lnTo>
                    <a:pt x="17" y="2385"/>
                  </a:lnTo>
                  <a:lnTo>
                    <a:pt x="13" y="2619"/>
                  </a:lnTo>
                  <a:lnTo>
                    <a:pt x="8" y="2850"/>
                  </a:lnTo>
                  <a:lnTo>
                    <a:pt x="5" y="3083"/>
                  </a:lnTo>
                  <a:lnTo>
                    <a:pt x="2" y="3314"/>
                  </a:lnTo>
                  <a:lnTo>
                    <a:pt x="1" y="3546"/>
                  </a:lnTo>
                  <a:lnTo>
                    <a:pt x="0" y="3777"/>
                  </a:lnTo>
                  <a:lnTo>
                    <a:pt x="0" y="4007"/>
                  </a:lnTo>
                  <a:lnTo>
                    <a:pt x="1" y="4239"/>
                  </a:lnTo>
                  <a:lnTo>
                    <a:pt x="2" y="4470"/>
                  </a:lnTo>
                  <a:lnTo>
                    <a:pt x="6" y="4703"/>
                  </a:lnTo>
                  <a:lnTo>
                    <a:pt x="9" y="4935"/>
                  </a:lnTo>
                  <a:lnTo>
                    <a:pt x="14" y="5168"/>
                  </a:lnTo>
                  <a:lnTo>
                    <a:pt x="18" y="5401"/>
                  </a:lnTo>
                  <a:lnTo>
                    <a:pt x="25" y="5636"/>
                  </a:lnTo>
                  <a:lnTo>
                    <a:pt x="32" y="5871"/>
                  </a:lnTo>
                  <a:lnTo>
                    <a:pt x="40" y="6108"/>
                  </a:lnTo>
                  <a:lnTo>
                    <a:pt x="49" y="6345"/>
                  </a:lnTo>
                  <a:lnTo>
                    <a:pt x="58" y="6585"/>
                  </a:lnTo>
                  <a:lnTo>
                    <a:pt x="70" y="6824"/>
                  </a:lnTo>
                  <a:lnTo>
                    <a:pt x="81" y="7067"/>
                  </a:lnTo>
                  <a:lnTo>
                    <a:pt x="93" y="7310"/>
                  </a:lnTo>
                  <a:lnTo>
                    <a:pt x="107" y="7555"/>
                  </a:lnTo>
                  <a:lnTo>
                    <a:pt x="147" y="7595"/>
                  </a:lnTo>
                  <a:lnTo>
                    <a:pt x="107" y="7555"/>
                  </a:lnTo>
                  <a:lnTo>
                    <a:pt x="108" y="7565"/>
                  </a:lnTo>
                  <a:lnTo>
                    <a:pt x="112" y="7573"/>
                  </a:lnTo>
                  <a:lnTo>
                    <a:pt x="116" y="7580"/>
                  </a:lnTo>
                  <a:lnTo>
                    <a:pt x="122" y="7586"/>
                  </a:lnTo>
                  <a:lnTo>
                    <a:pt x="129" y="7590"/>
                  </a:lnTo>
                  <a:lnTo>
                    <a:pt x="136" y="7593"/>
                  </a:lnTo>
                  <a:lnTo>
                    <a:pt x="144" y="7594"/>
                  </a:lnTo>
                  <a:lnTo>
                    <a:pt x="152" y="7595"/>
                  </a:lnTo>
                  <a:lnTo>
                    <a:pt x="160" y="7594"/>
                  </a:lnTo>
                  <a:lnTo>
                    <a:pt x="166" y="7591"/>
                  </a:lnTo>
                  <a:lnTo>
                    <a:pt x="173" y="7587"/>
                  </a:lnTo>
                  <a:lnTo>
                    <a:pt x="179" y="7582"/>
                  </a:lnTo>
                  <a:lnTo>
                    <a:pt x="185" y="7577"/>
                  </a:lnTo>
                  <a:lnTo>
                    <a:pt x="188" y="7569"/>
                  </a:lnTo>
                  <a:lnTo>
                    <a:pt x="190" y="7561"/>
                  </a:lnTo>
                  <a:lnTo>
                    <a:pt x="190" y="7550"/>
                  </a:lnTo>
                  <a:lnTo>
                    <a:pt x="150" y="75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631960" y="4327920"/>
              <a:ext cx="3905280" cy="69840"/>
            </a:xfrm>
            <a:custGeom>
              <a:avLst/>
              <a:gdLst/>
              <a:ahLst/>
              <a:rect l="l" t="t" r="r" b="b"/>
              <a:pathLst>
                <a:path w="12299" h="218">
                  <a:moveTo>
                    <a:pt x="12216" y="42"/>
                  </a:moveTo>
                  <a:lnTo>
                    <a:pt x="12256" y="0"/>
                  </a:lnTo>
                  <a:lnTo>
                    <a:pt x="11873" y="19"/>
                  </a:lnTo>
                  <a:lnTo>
                    <a:pt x="11490" y="35"/>
                  </a:lnTo>
                  <a:lnTo>
                    <a:pt x="11107" y="50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7"/>
                  </a:lnTo>
                  <a:lnTo>
                    <a:pt x="9577" y="97"/>
                  </a:lnTo>
                  <a:lnTo>
                    <a:pt x="9194" y="107"/>
                  </a:lnTo>
                  <a:lnTo>
                    <a:pt x="8811" y="113"/>
                  </a:lnTo>
                  <a:lnTo>
                    <a:pt x="8429" y="120"/>
                  </a:lnTo>
                  <a:lnTo>
                    <a:pt x="8045" y="125"/>
                  </a:lnTo>
                  <a:lnTo>
                    <a:pt x="7663" y="129"/>
                  </a:lnTo>
                  <a:lnTo>
                    <a:pt x="7280" y="132"/>
                  </a:lnTo>
                  <a:lnTo>
                    <a:pt x="6897" y="134"/>
                  </a:lnTo>
                  <a:lnTo>
                    <a:pt x="6514" y="134"/>
                  </a:lnTo>
                  <a:lnTo>
                    <a:pt x="6131" y="134"/>
                  </a:lnTo>
                  <a:lnTo>
                    <a:pt x="5749" y="133"/>
                  </a:lnTo>
                  <a:lnTo>
                    <a:pt x="5366" y="130"/>
                  </a:lnTo>
                  <a:lnTo>
                    <a:pt x="4983" y="127"/>
                  </a:lnTo>
                  <a:lnTo>
                    <a:pt x="4600" y="122"/>
                  </a:lnTo>
                  <a:lnTo>
                    <a:pt x="4217" y="117"/>
                  </a:lnTo>
                  <a:lnTo>
                    <a:pt x="3834" y="111"/>
                  </a:lnTo>
                  <a:lnTo>
                    <a:pt x="3451" y="104"/>
                  </a:lnTo>
                  <a:lnTo>
                    <a:pt x="3068" y="96"/>
                  </a:lnTo>
                  <a:lnTo>
                    <a:pt x="2685" y="87"/>
                  </a:lnTo>
                  <a:lnTo>
                    <a:pt x="2302" y="77"/>
                  </a:lnTo>
                  <a:lnTo>
                    <a:pt x="1919" y="67"/>
                  </a:lnTo>
                  <a:lnTo>
                    <a:pt x="1535" y="55"/>
                  </a:lnTo>
                  <a:lnTo>
                    <a:pt x="1152" y="43"/>
                  </a:lnTo>
                  <a:lnTo>
                    <a:pt x="769" y="29"/>
                  </a:lnTo>
                  <a:lnTo>
                    <a:pt x="386" y="15"/>
                  </a:lnTo>
                  <a:lnTo>
                    <a:pt x="3" y="0"/>
                  </a:lnTo>
                  <a:lnTo>
                    <a:pt x="0" y="85"/>
                  </a:lnTo>
                  <a:lnTo>
                    <a:pt x="384" y="99"/>
                  </a:lnTo>
                  <a:lnTo>
                    <a:pt x="767" y="113"/>
                  </a:lnTo>
                  <a:lnTo>
                    <a:pt x="1150" y="126"/>
                  </a:lnTo>
                  <a:lnTo>
                    <a:pt x="1533" y="138"/>
                  </a:lnTo>
                  <a:lnTo>
                    <a:pt x="1917" y="150"/>
                  </a:lnTo>
                  <a:lnTo>
                    <a:pt x="2300" y="160"/>
                  </a:lnTo>
                  <a:lnTo>
                    <a:pt x="2683" y="170"/>
                  </a:lnTo>
                  <a:lnTo>
                    <a:pt x="3066" y="179"/>
                  </a:lnTo>
                  <a:lnTo>
                    <a:pt x="3449" y="187"/>
                  </a:lnTo>
                  <a:lnTo>
                    <a:pt x="3833" y="194"/>
                  </a:lnTo>
                  <a:lnTo>
                    <a:pt x="4216" y="201"/>
                  </a:lnTo>
                  <a:lnTo>
                    <a:pt x="4599" y="206"/>
                  </a:lnTo>
                  <a:lnTo>
                    <a:pt x="4982" y="210"/>
                  </a:lnTo>
                  <a:lnTo>
                    <a:pt x="5364" y="214"/>
                  </a:lnTo>
                  <a:lnTo>
                    <a:pt x="5749" y="216"/>
                  </a:lnTo>
                  <a:lnTo>
                    <a:pt x="6131" y="218"/>
                  </a:lnTo>
                  <a:lnTo>
                    <a:pt x="6514" y="218"/>
                  </a:lnTo>
                  <a:lnTo>
                    <a:pt x="6897" y="217"/>
                  </a:lnTo>
                  <a:lnTo>
                    <a:pt x="7280" y="216"/>
                  </a:lnTo>
                  <a:lnTo>
                    <a:pt x="7663" y="213"/>
                  </a:lnTo>
                  <a:lnTo>
                    <a:pt x="8046" y="208"/>
                  </a:lnTo>
                  <a:lnTo>
                    <a:pt x="8429" y="203"/>
                  </a:lnTo>
                  <a:lnTo>
                    <a:pt x="8812" y="197"/>
                  </a:lnTo>
                  <a:lnTo>
                    <a:pt x="9196" y="190"/>
                  </a:lnTo>
                  <a:lnTo>
                    <a:pt x="9579" y="181"/>
                  </a:lnTo>
                  <a:lnTo>
                    <a:pt x="9962" y="170"/>
                  </a:lnTo>
                  <a:lnTo>
                    <a:pt x="10345" y="160"/>
                  </a:lnTo>
                  <a:lnTo>
                    <a:pt x="10728" y="148"/>
                  </a:lnTo>
                  <a:lnTo>
                    <a:pt x="11111" y="134"/>
                  </a:lnTo>
                  <a:lnTo>
                    <a:pt x="11494" y="118"/>
                  </a:lnTo>
                  <a:lnTo>
                    <a:pt x="11877" y="102"/>
                  </a:lnTo>
                  <a:lnTo>
                    <a:pt x="12260" y="85"/>
                  </a:lnTo>
                  <a:lnTo>
                    <a:pt x="12299" y="44"/>
                  </a:lnTo>
                  <a:lnTo>
                    <a:pt x="12260" y="85"/>
                  </a:lnTo>
                  <a:lnTo>
                    <a:pt x="12270" y="83"/>
                  </a:lnTo>
                  <a:lnTo>
                    <a:pt x="12278" y="80"/>
                  </a:lnTo>
                  <a:lnTo>
                    <a:pt x="12285" y="76"/>
                  </a:lnTo>
                  <a:lnTo>
                    <a:pt x="12290" y="70"/>
                  </a:lnTo>
                  <a:lnTo>
                    <a:pt x="12295" y="63"/>
                  </a:lnTo>
                  <a:lnTo>
                    <a:pt x="12297" y="56"/>
                  </a:lnTo>
                  <a:lnTo>
                    <a:pt x="12299" y="48"/>
                  </a:lnTo>
                  <a:lnTo>
                    <a:pt x="12299" y="40"/>
                  </a:lnTo>
                  <a:lnTo>
                    <a:pt x="12298" y="34"/>
                  </a:lnTo>
                  <a:lnTo>
                    <a:pt x="12296" y="26"/>
                  </a:lnTo>
                  <a:lnTo>
                    <a:pt x="12293" y="19"/>
                  </a:lnTo>
                  <a:lnTo>
                    <a:pt x="12288" y="13"/>
                  </a:lnTo>
                  <a:lnTo>
                    <a:pt x="12281" y="7"/>
                  </a:lnTo>
                  <a:lnTo>
                    <a:pt x="12274" y="4"/>
                  </a:lnTo>
                  <a:lnTo>
                    <a:pt x="12265" y="2"/>
                  </a:lnTo>
                  <a:lnTo>
                    <a:pt x="12256" y="0"/>
                  </a:lnTo>
                  <a:lnTo>
                    <a:pt x="1221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512040" y="1930680"/>
              <a:ext cx="42840" cy="2411280"/>
            </a:xfrm>
            <a:custGeom>
              <a:avLst/>
              <a:gdLst/>
              <a:ahLst/>
              <a:rect l="l" t="t" r="r" b="b"/>
              <a:pathLst>
                <a:path w="137" h="7594">
                  <a:moveTo>
                    <a:pt x="41" y="83"/>
                  </a:moveTo>
                  <a:lnTo>
                    <a:pt x="0" y="42"/>
                  </a:lnTo>
                  <a:lnTo>
                    <a:pt x="13" y="518"/>
                  </a:lnTo>
                  <a:lnTo>
                    <a:pt x="24" y="988"/>
                  </a:lnTo>
                  <a:lnTo>
                    <a:pt x="33" y="1454"/>
                  </a:lnTo>
                  <a:lnTo>
                    <a:pt x="40" y="1917"/>
                  </a:lnTo>
                  <a:lnTo>
                    <a:pt x="46" y="2378"/>
                  </a:lnTo>
                  <a:lnTo>
                    <a:pt x="50" y="2840"/>
                  </a:lnTo>
                  <a:lnTo>
                    <a:pt x="53" y="3301"/>
                  </a:lnTo>
                  <a:lnTo>
                    <a:pt x="53" y="3762"/>
                  </a:lnTo>
                  <a:lnTo>
                    <a:pt x="53" y="4225"/>
                  </a:lnTo>
                  <a:lnTo>
                    <a:pt x="49" y="4691"/>
                  </a:lnTo>
                  <a:lnTo>
                    <a:pt x="46" y="5161"/>
                  </a:lnTo>
                  <a:lnTo>
                    <a:pt x="40" y="5634"/>
                  </a:lnTo>
                  <a:lnTo>
                    <a:pt x="32" y="6114"/>
                  </a:lnTo>
                  <a:lnTo>
                    <a:pt x="23" y="6599"/>
                  </a:lnTo>
                  <a:lnTo>
                    <a:pt x="13" y="7091"/>
                  </a:lnTo>
                  <a:lnTo>
                    <a:pt x="0" y="7592"/>
                  </a:lnTo>
                  <a:lnTo>
                    <a:pt x="83" y="7594"/>
                  </a:lnTo>
                  <a:lnTo>
                    <a:pt x="96" y="7093"/>
                  </a:lnTo>
                  <a:lnTo>
                    <a:pt x="106" y="6601"/>
                  </a:lnTo>
                  <a:lnTo>
                    <a:pt x="115" y="6115"/>
                  </a:lnTo>
                  <a:lnTo>
                    <a:pt x="123" y="5635"/>
                  </a:lnTo>
                  <a:lnTo>
                    <a:pt x="129" y="5161"/>
                  </a:lnTo>
                  <a:lnTo>
                    <a:pt x="134" y="4691"/>
                  </a:lnTo>
                  <a:lnTo>
                    <a:pt x="136" y="4225"/>
                  </a:lnTo>
                  <a:lnTo>
                    <a:pt x="137" y="3762"/>
                  </a:lnTo>
                  <a:lnTo>
                    <a:pt x="136" y="3301"/>
                  </a:lnTo>
                  <a:lnTo>
                    <a:pt x="134" y="2839"/>
                  </a:lnTo>
                  <a:lnTo>
                    <a:pt x="130" y="2378"/>
                  </a:lnTo>
                  <a:lnTo>
                    <a:pt x="124" y="1917"/>
                  </a:lnTo>
                  <a:lnTo>
                    <a:pt x="116" y="1453"/>
                  </a:lnTo>
                  <a:lnTo>
                    <a:pt x="107" y="985"/>
                  </a:lnTo>
                  <a:lnTo>
                    <a:pt x="96" y="516"/>
                  </a:lnTo>
                  <a:lnTo>
                    <a:pt x="83" y="40"/>
                  </a:lnTo>
                  <a:lnTo>
                    <a:pt x="42" y="0"/>
                  </a:lnTo>
                  <a:lnTo>
                    <a:pt x="83" y="40"/>
                  </a:lnTo>
                  <a:lnTo>
                    <a:pt x="82" y="31"/>
                  </a:lnTo>
                  <a:lnTo>
                    <a:pt x="80" y="22"/>
                  </a:lnTo>
                  <a:lnTo>
                    <a:pt x="75" y="15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6" y="3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606760" y="2005200"/>
              <a:ext cx="3933720" cy="776520"/>
            </a:xfrm>
            <a:custGeom>
              <a:avLst/>
              <a:gdLst/>
              <a:ahLst/>
              <a:rect l="l" t="t" r="r" b="b"/>
              <a:pathLst>
                <a:path w="12392" h="2442">
                  <a:moveTo>
                    <a:pt x="0" y="2114"/>
                  </a:moveTo>
                  <a:lnTo>
                    <a:pt x="3" y="1985"/>
                  </a:lnTo>
                  <a:lnTo>
                    <a:pt x="6" y="1856"/>
                  </a:lnTo>
                  <a:lnTo>
                    <a:pt x="9" y="1726"/>
                  </a:lnTo>
                  <a:lnTo>
                    <a:pt x="13" y="1597"/>
                  </a:lnTo>
                  <a:lnTo>
                    <a:pt x="17" y="1467"/>
                  </a:lnTo>
                  <a:lnTo>
                    <a:pt x="20" y="1338"/>
                  </a:lnTo>
                  <a:lnTo>
                    <a:pt x="25" y="1210"/>
                  </a:lnTo>
                  <a:lnTo>
                    <a:pt x="29" y="1080"/>
                  </a:lnTo>
                  <a:lnTo>
                    <a:pt x="300" y="951"/>
                  </a:lnTo>
                  <a:lnTo>
                    <a:pt x="569" y="822"/>
                  </a:lnTo>
                  <a:lnTo>
                    <a:pt x="839" y="693"/>
                  </a:lnTo>
                  <a:lnTo>
                    <a:pt x="1109" y="564"/>
                  </a:lnTo>
                  <a:lnTo>
                    <a:pt x="1379" y="436"/>
                  </a:lnTo>
                  <a:lnTo>
                    <a:pt x="1649" y="306"/>
                  </a:lnTo>
                  <a:lnTo>
                    <a:pt x="1919" y="177"/>
                  </a:lnTo>
                  <a:lnTo>
                    <a:pt x="2189" y="48"/>
                  </a:lnTo>
                  <a:lnTo>
                    <a:pt x="2247" y="62"/>
                  </a:lnTo>
                  <a:lnTo>
                    <a:pt x="2305" y="72"/>
                  </a:lnTo>
                  <a:lnTo>
                    <a:pt x="2365" y="81"/>
                  </a:lnTo>
                  <a:lnTo>
                    <a:pt x="2424" y="87"/>
                  </a:lnTo>
                  <a:lnTo>
                    <a:pt x="2483" y="91"/>
                  </a:lnTo>
                  <a:lnTo>
                    <a:pt x="2544" y="94"/>
                  </a:lnTo>
                  <a:lnTo>
                    <a:pt x="2605" y="94"/>
                  </a:lnTo>
                  <a:lnTo>
                    <a:pt x="2666" y="92"/>
                  </a:lnTo>
                  <a:lnTo>
                    <a:pt x="2727" y="90"/>
                  </a:lnTo>
                  <a:lnTo>
                    <a:pt x="2789" y="87"/>
                  </a:lnTo>
                  <a:lnTo>
                    <a:pt x="2850" y="81"/>
                  </a:lnTo>
                  <a:lnTo>
                    <a:pt x="2913" y="75"/>
                  </a:lnTo>
                  <a:lnTo>
                    <a:pt x="3037" y="63"/>
                  </a:lnTo>
                  <a:lnTo>
                    <a:pt x="3162" y="47"/>
                  </a:lnTo>
                  <a:lnTo>
                    <a:pt x="3288" y="32"/>
                  </a:lnTo>
                  <a:lnTo>
                    <a:pt x="3412" y="18"/>
                  </a:lnTo>
                  <a:lnTo>
                    <a:pt x="3474" y="13"/>
                  </a:lnTo>
                  <a:lnTo>
                    <a:pt x="3536" y="8"/>
                  </a:lnTo>
                  <a:lnTo>
                    <a:pt x="3598" y="5"/>
                  </a:lnTo>
                  <a:lnTo>
                    <a:pt x="3659" y="1"/>
                  </a:lnTo>
                  <a:lnTo>
                    <a:pt x="3720" y="0"/>
                  </a:lnTo>
                  <a:lnTo>
                    <a:pt x="3781" y="0"/>
                  </a:lnTo>
                  <a:lnTo>
                    <a:pt x="3842" y="2"/>
                  </a:lnTo>
                  <a:lnTo>
                    <a:pt x="3901" y="7"/>
                  </a:lnTo>
                  <a:lnTo>
                    <a:pt x="3960" y="13"/>
                  </a:lnTo>
                  <a:lnTo>
                    <a:pt x="4019" y="22"/>
                  </a:lnTo>
                  <a:lnTo>
                    <a:pt x="4078" y="32"/>
                  </a:lnTo>
                  <a:lnTo>
                    <a:pt x="4136" y="46"/>
                  </a:lnTo>
                  <a:lnTo>
                    <a:pt x="4332" y="119"/>
                  </a:lnTo>
                  <a:lnTo>
                    <a:pt x="4513" y="188"/>
                  </a:lnTo>
                  <a:lnTo>
                    <a:pt x="4680" y="254"/>
                  </a:lnTo>
                  <a:lnTo>
                    <a:pt x="4835" y="317"/>
                  </a:lnTo>
                  <a:lnTo>
                    <a:pt x="4980" y="375"/>
                  </a:lnTo>
                  <a:lnTo>
                    <a:pt x="5117" y="429"/>
                  </a:lnTo>
                  <a:lnTo>
                    <a:pt x="5246" y="480"/>
                  </a:lnTo>
                  <a:lnTo>
                    <a:pt x="5369" y="526"/>
                  </a:lnTo>
                  <a:lnTo>
                    <a:pt x="5428" y="547"/>
                  </a:lnTo>
                  <a:lnTo>
                    <a:pt x="5487" y="568"/>
                  </a:lnTo>
                  <a:lnTo>
                    <a:pt x="5547" y="587"/>
                  </a:lnTo>
                  <a:lnTo>
                    <a:pt x="5605" y="607"/>
                  </a:lnTo>
                  <a:lnTo>
                    <a:pt x="5663" y="624"/>
                  </a:lnTo>
                  <a:lnTo>
                    <a:pt x="5720" y="640"/>
                  </a:lnTo>
                  <a:lnTo>
                    <a:pt x="5779" y="656"/>
                  </a:lnTo>
                  <a:lnTo>
                    <a:pt x="5837" y="669"/>
                  </a:lnTo>
                  <a:lnTo>
                    <a:pt x="5897" y="682"/>
                  </a:lnTo>
                  <a:lnTo>
                    <a:pt x="5957" y="694"/>
                  </a:lnTo>
                  <a:lnTo>
                    <a:pt x="6017" y="705"/>
                  </a:lnTo>
                  <a:lnTo>
                    <a:pt x="6080" y="715"/>
                  </a:lnTo>
                  <a:lnTo>
                    <a:pt x="6144" y="723"/>
                  </a:lnTo>
                  <a:lnTo>
                    <a:pt x="6209" y="731"/>
                  </a:lnTo>
                  <a:lnTo>
                    <a:pt x="6276" y="737"/>
                  </a:lnTo>
                  <a:lnTo>
                    <a:pt x="6346" y="742"/>
                  </a:lnTo>
                  <a:lnTo>
                    <a:pt x="6387" y="699"/>
                  </a:lnTo>
                  <a:lnTo>
                    <a:pt x="6424" y="661"/>
                  </a:lnTo>
                  <a:lnTo>
                    <a:pt x="6457" y="629"/>
                  </a:lnTo>
                  <a:lnTo>
                    <a:pt x="6489" y="601"/>
                  </a:lnTo>
                  <a:lnTo>
                    <a:pt x="6518" y="576"/>
                  </a:lnTo>
                  <a:lnTo>
                    <a:pt x="6545" y="554"/>
                  </a:lnTo>
                  <a:lnTo>
                    <a:pt x="6572" y="534"/>
                  </a:lnTo>
                  <a:lnTo>
                    <a:pt x="6597" y="514"/>
                  </a:lnTo>
                  <a:lnTo>
                    <a:pt x="6624" y="495"/>
                  </a:lnTo>
                  <a:lnTo>
                    <a:pt x="6650" y="474"/>
                  </a:lnTo>
                  <a:lnTo>
                    <a:pt x="6677" y="453"/>
                  </a:lnTo>
                  <a:lnTo>
                    <a:pt x="6707" y="428"/>
                  </a:lnTo>
                  <a:lnTo>
                    <a:pt x="6738" y="400"/>
                  </a:lnTo>
                  <a:lnTo>
                    <a:pt x="6772" y="367"/>
                  </a:lnTo>
                  <a:lnTo>
                    <a:pt x="6809" y="330"/>
                  </a:lnTo>
                  <a:lnTo>
                    <a:pt x="6852" y="286"/>
                  </a:lnTo>
                  <a:lnTo>
                    <a:pt x="7058" y="300"/>
                  </a:lnTo>
                  <a:lnTo>
                    <a:pt x="7264" y="314"/>
                  </a:lnTo>
                  <a:lnTo>
                    <a:pt x="7470" y="327"/>
                  </a:lnTo>
                  <a:lnTo>
                    <a:pt x="7677" y="341"/>
                  </a:lnTo>
                  <a:lnTo>
                    <a:pt x="7884" y="355"/>
                  </a:lnTo>
                  <a:lnTo>
                    <a:pt x="8090" y="367"/>
                  </a:lnTo>
                  <a:lnTo>
                    <a:pt x="8297" y="381"/>
                  </a:lnTo>
                  <a:lnTo>
                    <a:pt x="8503" y="395"/>
                  </a:lnTo>
                  <a:lnTo>
                    <a:pt x="8511" y="416"/>
                  </a:lnTo>
                  <a:lnTo>
                    <a:pt x="8519" y="438"/>
                  </a:lnTo>
                  <a:lnTo>
                    <a:pt x="8528" y="457"/>
                  </a:lnTo>
                  <a:lnTo>
                    <a:pt x="8538" y="475"/>
                  </a:lnTo>
                  <a:lnTo>
                    <a:pt x="8549" y="491"/>
                  </a:lnTo>
                  <a:lnTo>
                    <a:pt x="8560" y="507"/>
                  </a:lnTo>
                  <a:lnTo>
                    <a:pt x="8572" y="522"/>
                  </a:lnTo>
                  <a:lnTo>
                    <a:pt x="8586" y="536"/>
                  </a:lnTo>
                  <a:lnTo>
                    <a:pt x="8599" y="548"/>
                  </a:lnTo>
                  <a:lnTo>
                    <a:pt x="8614" y="560"/>
                  </a:lnTo>
                  <a:lnTo>
                    <a:pt x="8627" y="571"/>
                  </a:lnTo>
                  <a:lnTo>
                    <a:pt x="8642" y="582"/>
                  </a:lnTo>
                  <a:lnTo>
                    <a:pt x="8673" y="602"/>
                  </a:lnTo>
                  <a:lnTo>
                    <a:pt x="8704" y="621"/>
                  </a:lnTo>
                  <a:lnTo>
                    <a:pt x="8734" y="641"/>
                  </a:lnTo>
                  <a:lnTo>
                    <a:pt x="8764" y="661"/>
                  </a:lnTo>
                  <a:lnTo>
                    <a:pt x="8779" y="673"/>
                  </a:lnTo>
                  <a:lnTo>
                    <a:pt x="8794" y="684"/>
                  </a:lnTo>
                  <a:lnTo>
                    <a:pt x="8807" y="696"/>
                  </a:lnTo>
                  <a:lnTo>
                    <a:pt x="8821" y="708"/>
                  </a:lnTo>
                  <a:lnTo>
                    <a:pt x="8833" y="722"/>
                  </a:lnTo>
                  <a:lnTo>
                    <a:pt x="8846" y="737"/>
                  </a:lnTo>
                  <a:lnTo>
                    <a:pt x="8857" y="751"/>
                  </a:lnTo>
                  <a:lnTo>
                    <a:pt x="8869" y="768"/>
                  </a:lnTo>
                  <a:lnTo>
                    <a:pt x="8879" y="787"/>
                  </a:lnTo>
                  <a:lnTo>
                    <a:pt x="8888" y="806"/>
                  </a:lnTo>
                  <a:lnTo>
                    <a:pt x="8896" y="827"/>
                  </a:lnTo>
                  <a:lnTo>
                    <a:pt x="8903" y="849"/>
                  </a:lnTo>
                  <a:lnTo>
                    <a:pt x="8970" y="851"/>
                  </a:lnTo>
                  <a:lnTo>
                    <a:pt x="9039" y="849"/>
                  </a:lnTo>
                  <a:lnTo>
                    <a:pt x="9108" y="846"/>
                  </a:lnTo>
                  <a:lnTo>
                    <a:pt x="9178" y="839"/>
                  </a:lnTo>
                  <a:lnTo>
                    <a:pt x="9248" y="831"/>
                  </a:lnTo>
                  <a:lnTo>
                    <a:pt x="9320" y="821"/>
                  </a:lnTo>
                  <a:lnTo>
                    <a:pt x="9392" y="808"/>
                  </a:lnTo>
                  <a:lnTo>
                    <a:pt x="9465" y="795"/>
                  </a:lnTo>
                  <a:lnTo>
                    <a:pt x="9539" y="780"/>
                  </a:lnTo>
                  <a:lnTo>
                    <a:pt x="9612" y="764"/>
                  </a:lnTo>
                  <a:lnTo>
                    <a:pt x="9687" y="746"/>
                  </a:lnTo>
                  <a:lnTo>
                    <a:pt x="9761" y="727"/>
                  </a:lnTo>
                  <a:lnTo>
                    <a:pt x="9912" y="690"/>
                  </a:lnTo>
                  <a:lnTo>
                    <a:pt x="10062" y="649"/>
                  </a:lnTo>
                  <a:lnTo>
                    <a:pt x="10212" y="609"/>
                  </a:lnTo>
                  <a:lnTo>
                    <a:pt x="10363" y="571"/>
                  </a:lnTo>
                  <a:lnTo>
                    <a:pt x="10437" y="553"/>
                  </a:lnTo>
                  <a:lnTo>
                    <a:pt x="10512" y="535"/>
                  </a:lnTo>
                  <a:lnTo>
                    <a:pt x="10586" y="519"/>
                  </a:lnTo>
                  <a:lnTo>
                    <a:pt x="10659" y="504"/>
                  </a:lnTo>
                  <a:lnTo>
                    <a:pt x="10732" y="489"/>
                  </a:lnTo>
                  <a:lnTo>
                    <a:pt x="10805" y="478"/>
                  </a:lnTo>
                  <a:lnTo>
                    <a:pt x="10876" y="468"/>
                  </a:lnTo>
                  <a:lnTo>
                    <a:pt x="10948" y="458"/>
                  </a:lnTo>
                  <a:lnTo>
                    <a:pt x="11017" y="453"/>
                  </a:lnTo>
                  <a:lnTo>
                    <a:pt x="11087" y="448"/>
                  </a:lnTo>
                  <a:lnTo>
                    <a:pt x="11155" y="447"/>
                  </a:lnTo>
                  <a:lnTo>
                    <a:pt x="11222" y="448"/>
                  </a:lnTo>
                  <a:lnTo>
                    <a:pt x="11255" y="446"/>
                  </a:lnTo>
                  <a:lnTo>
                    <a:pt x="11288" y="446"/>
                  </a:lnTo>
                  <a:lnTo>
                    <a:pt x="11323" y="446"/>
                  </a:lnTo>
                  <a:lnTo>
                    <a:pt x="11357" y="447"/>
                  </a:lnTo>
                  <a:lnTo>
                    <a:pt x="11391" y="450"/>
                  </a:lnTo>
                  <a:lnTo>
                    <a:pt x="11425" y="453"/>
                  </a:lnTo>
                  <a:lnTo>
                    <a:pt x="11460" y="457"/>
                  </a:lnTo>
                  <a:lnTo>
                    <a:pt x="11495" y="463"/>
                  </a:lnTo>
                  <a:lnTo>
                    <a:pt x="11530" y="469"/>
                  </a:lnTo>
                  <a:lnTo>
                    <a:pt x="11565" y="475"/>
                  </a:lnTo>
                  <a:lnTo>
                    <a:pt x="11601" y="482"/>
                  </a:lnTo>
                  <a:lnTo>
                    <a:pt x="11636" y="491"/>
                  </a:lnTo>
                  <a:lnTo>
                    <a:pt x="11708" y="510"/>
                  </a:lnTo>
                  <a:lnTo>
                    <a:pt x="11781" y="530"/>
                  </a:lnTo>
                  <a:lnTo>
                    <a:pt x="11852" y="552"/>
                  </a:lnTo>
                  <a:lnTo>
                    <a:pt x="11925" y="576"/>
                  </a:lnTo>
                  <a:lnTo>
                    <a:pt x="12000" y="602"/>
                  </a:lnTo>
                  <a:lnTo>
                    <a:pt x="12072" y="628"/>
                  </a:lnTo>
                  <a:lnTo>
                    <a:pt x="12219" y="682"/>
                  </a:lnTo>
                  <a:lnTo>
                    <a:pt x="12366" y="735"/>
                  </a:lnTo>
                  <a:lnTo>
                    <a:pt x="12371" y="947"/>
                  </a:lnTo>
                  <a:lnTo>
                    <a:pt x="12376" y="1159"/>
                  </a:lnTo>
                  <a:lnTo>
                    <a:pt x="12379" y="1373"/>
                  </a:lnTo>
                  <a:lnTo>
                    <a:pt x="12382" y="1586"/>
                  </a:lnTo>
                  <a:lnTo>
                    <a:pt x="12385" y="1799"/>
                  </a:lnTo>
                  <a:lnTo>
                    <a:pt x="12387" y="2013"/>
                  </a:lnTo>
                  <a:lnTo>
                    <a:pt x="12389" y="2228"/>
                  </a:lnTo>
                  <a:lnTo>
                    <a:pt x="12392" y="2442"/>
                  </a:lnTo>
                  <a:lnTo>
                    <a:pt x="10843" y="2413"/>
                  </a:lnTo>
                  <a:lnTo>
                    <a:pt x="9295" y="2384"/>
                  </a:lnTo>
                  <a:lnTo>
                    <a:pt x="7746" y="2355"/>
                  </a:lnTo>
                  <a:lnTo>
                    <a:pt x="6199" y="2327"/>
                  </a:lnTo>
                  <a:lnTo>
                    <a:pt x="4650" y="2298"/>
                  </a:lnTo>
                  <a:lnTo>
                    <a:pt x="3102" y="2270"/>
                  </a:lnTo>
                  <a:lnTo>
                    <a:pt x="1553" y="2241"/>
                  </a:lnTo>
                  <a:lnTo>
                    <a:pt x="6" y="2213"/>
                  </a:lnTo>
                  <a:lnTo>
                    <a:pt x="4" y="2200"/>
                  </a:lnTo>
                  <a:lnTo>
                    <a:pt x="3" y="2188"/>
                  </a:lnTo>
                  <a:lnTo>
                    <a:pt x="2" y="2176"/>
                  </a:lnTo>
                  <a:lnTo>
                    <a:pt x="2" y="2164"/>
                  </a:lnTo>
                  <a:lnTo>
                    <a:pt x="2" y="2151"/>
                  </a:lnTo>
                  <a:lnTo>
                    <a:pt x="1" y="2139"/>
                  </a:lnTo>
                  <a:lnTo>
                    <a:pt x="1" y="2126"/>
                  </a:lnTo>
                  <a:lnTo>
                    <a:pt x="0" y="2114"/>
                  </a:lnTo>
                  <a:close/>
                </a:path>
              </a:pathLst>
            </a:custGeom>
            <a:solidFill>
              <a:srgbClr val="8f8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600280" y="2343240"/>
              <a:ext cx="20520" cy="333720"/>
            </a:xfrm>
            <a:custGeom>
              <a:avLst/>
              <a:gdLst/>
              <a:ahLst/>
              <a:rect l="l" t="t" r="r" b="b"/>
              <a:pathLst>
                <a:path w="66" h="1054">
                  <a:moveTo>
                    <a:pt x="39" y="3"/>
                  </a:moveTo>
                  <a:lnTo>
                    <a:pt x="29" y="19"/>
                  </a:lnTo>
                  <a:lnTo>
                    <a:pt x="25" y="148"/>
                  </a:lnTo>
                  <a:lnTo>
                    <a:pt x="21" y="277"/>
                  </a:lnTo>
                  <a:lnTo>
                    <a:pt x="17" y="406"/>
                  </a:lnTo>
                  <a:lnTo>
                    <a:pt x="13" y="535"/>
                  </a:lnTo>
                  <a:lnTo>
                    <a:pt x="9" y="665"/>
                  </a:lnTo>
                  <a:lnTo>
                    <a:pt x="6" y="794"/>
                  </a:lnTo>
                  <a:lnTo>
                    <a:pt x="3" y="924"/>
                  </a:lnTo>
                  <a:lnTo>
                    <a:pt x="0" y="1053"/>
                  </a:lnTo>
                  <a:lnTo>
                    <a:pt x="36" y="1054"/>
                  </a:lnTo>
                  <a:lnTo>
                    <a:pt x="39" y="924"/>
                  </a:lnTo>
                  <a:lnTo>
                    <a:pt x="42" y="795"/>
                  </a:lnTo>
                  <a:lnTo>
                    <a:pt x="45" y="666"/>
                  </a:lnTo>
                  <a:lnTo>
                    <a:pt x="49" y="536"/>
                  </a:lnTo>
                  <a:lnTo>
                    <a:pt x="53" y="407"/>
                  </a:lnTo>
                  <a:lnTo>
                    <a:pt x="57" y="279"/>
                  </a:lnTo>
                  <a:lnTo>
                    <a:pt x="61" y="149"/>
                  </a:lnTo>
                  <a:lnTo>
                    <a:pt x="66" y="20"/>
                  </a:lnTo>
                  <a:lnTo>
                    <a:pt x="55" y="36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65" y="12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11"/>
                  </a:lnTo>
                  <a:lnTo>
                    <a:pt x="30" y="14"/>
                  </a:lnTo>
                  <a:lnTo>
                    <a:pt x="29" y="19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612880" y="2014920"/>
              <a:ext cx="693720" cy="339480"/>
            </a:xfrm>
            <a:custGeom>
              <a:avLst/>
              <a:gdLst/>
              <a:ahLst/>
              <a:rect l="l" t="t" r="r" b="b"/>
              <a:pathLst>
                <a:path w="2186" h="1067">
                  <a:moveTo>
                    <a:pt x="2173" y="0"/>
                  </a:moveTo>
                  <a:lnTo>
                    <a:pt x="2160" y="1"/>
                  </a:lnTo>
                  <a:lnTo>
                    <a:pt x="1890" y="131"/>
                  </a:lnTo>
                  <a:lnTo>
                    <a:pt x="1620" y="260"/>
                  </a:lnTo>
                  <a:lnTo>
                    <a:pt x="1350" y="388"/>
                  </a:lnTo>
                  <a:lnTo>
                    <a:pt x="1080" y="518"/>
                  </a:lnTo>
                  <a:lnTo>
                    <a:pt x="810" y="647"/>
                  </a:lnTo>
                  <a:lnTo>
                    <a:pt x="540" y="776"/>
                  </a:lnTo>
                  <a:lnTo>
                    <a:pt x="271" y="905"/>
                  </a:lnTo>
                  <a:lnTo>
                    <a:pt x="0" y="1034"/>
                  </a:lnTo>
                  <a:lnTo>
                    <a:pt x="16" y="1067"/>
                  </a:lnTo>
                  <a:lnTo>
                    <a:pt x="287" y="938"/>
                  </a:lnTo>
                  <a:lnTo>
                    <a:pt x="555" y="809"/>
                  </a:lnTo>
                  <a:lnTo>
                    <a:pt x="826" y="680"/>
                  </a:lnTo>
                  <a:lnTo>
                    <a:pt x="1096" y="550"/>
                  </a:lnTo>
                  <a:lnTo>
                    <a:pt x="1366" y="422"/>
                  </a:lnTo>
                  <a:lnTo>
                    <a:pt x="1636" y="293"/>
                  </a:lnTo>
                  <a:lnTo>
                    <a:pt x="1906" y="163"/>
                  </a:lnTo>
                  <a:lnTo>
                    <a:pt x="2176" y="34"/>
                  </a:lnTo>
                  <a:lnTo>
                    <a:pt x="2164" y="35"/>
                  </a:lnTo>
                  <a:lnTo>
                    <a:pt x="2176" y="34"/>
                  </a:lnTo>
                  <a:lnTo>
                    <a:pt x="2180" y="32"/>
                  </a:lnTo>
                  <a:lnTo>
                    <a:pt x="2183" y="29"/>
                  </a:lnTo>
                  <a:lnTo>
                    <a:pt x="2184" y="26"/>
                  </a:lnTo>
                  <a:lnTo>
                    <a:pt x="2185" y="23"/>
                  </a:lnTo>
                  <a:lnTo>
                    <a:pt x="2186" y="19"/>
                  </a:lnTo>
                  <a:lnTo>
                    <a:pt x="2186" y="16"/>
                  </a:lnTo>
                  <a:lnTo>
                    <a:pt x="2185" y="13"/>
                  </a:lnTo>
                  <a:lnTo>
                    <a:pt x="2184" y="10"/>
                  </a:lnTo>
                  <a:lnTo>
                    <a:pt x="2183" y="7"/>
                  </a:lnTo>
                  <a:lnTo>
                    <a:pt x="2181" y="4"/>
                  </a:lnTo>
                  <a:lnTo>
                    <a:pt x="2178" y="2"/>
                  </a:lnTo>
                  <a:lnTo>
                    <a:pt x="2175" y="1"/>
                  </a:lnTo>
                  <a:lnTo>
                    <a:pt x="2172" y="0"/>
                  </a:lnTo>
                  <a:lnTo>
                    <a:pt x="2168" y="0"/>
                  </a:lnTo>
                  <a:lnTo>
                    <a:pt x="2165" y="0"/>
                  </a:lnTo>
                  <a:lnTo>
                    <a:pt x="2160" y="1"/>
                  </a:lnTo>
                  <a:lnTo>
                    <a:pt x="217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00480" y="2000520"/>
              <a:ext cx="625320" cy="41400"/>
            </a:xfrm>
            <a:custGeom>
              <a:avLst/>
              <a:gdLst/>
              <a:ahLst/>
              <a:rect l="l" t="t" r="r" b="b"/>
              <a:pathLst>
                <a:path w="1969" h="130">
                  <a:moveTo>
                    <a:pt x="1956" y="47"/>
                  </a:moveTo>
                  <a:lnTo>
                    <a:pt x="1955" y="47"/>
                  </a:lnTo>
                  <a:lnTo>
                    <a:pt x="1926" y="39"/>
                  </a:lnTo>
                  <a:lnTo>
                    <a:pt x="1896" y="33"/>
                  </a:lnTo>
                  <a:lnTo>
                    <a:pt x="1868" y="27"/>
                  </a:lnTo>
                  <a:lnTo>
                    <a:pt x="1838" y="22"/>
                  </a:lnTo>
                  <a:lnTo>
                    <a:pt x="1807" y="17"/>
                  </a:lnTo>
                  <a:lnTo>
                    <a:pt x="1777" y="12"/>
                  </a:lnTo>
                  <a:lnTo>
                    <a:pt x="1748" y="9"/>
                  </a:lnTo>
                  <a:lnTo>
                    <a:pt x="1717" y="7"/>
                  </a:lnTo>
                  <a:lnTo>
                    <a:pt x="1657" y="2"/>
                  </a:lnTo>
                  <a:lnTo>
                    <a:pt x="1596" y="1"/>
                  </a:lnTo>
                  <a:lnTo>
                    <a:pt x="1535" y="0"/>
                  </a:lnTo>
                  <a:lnTo>
                    <a:pt x="1473" y="1"/>
                  </a:lnTo>
                  <a:lnTo>
                    <a:pt x="1412" y="4"/>
                  </a:lnTo>
                  <a:lnTo>
                    <a:pt x="1350" y="8"/>
                  </a:lnTo>
                  <a:lnTo>
                    <a:pt x="1287" y="12"/>
                  </a:lnTo>
                  <a:lnTo>
                    <a:pt x="1225" y="19"/>
                  </a:lnTo>
                  <a:lnTo>
                    <a:pt x="1101" y="32"/>
                  </a:lnTo>
                  <a:lnTo>
                    <a:pt x="975" y="48"/>
                  </a:lnTo>
                  <a:lnTo>
                    <a:pt x="851" y="63"/>
                  </a:lnTo>
                  <a:lnTo>
                    <a:pt x="726" y="76"/>
                  </a:lnTo>
                  <a:lnTo>
                    <a:pt x="664" y="82"/>
                  </a:lnTo>
                  <a:lnTo>
                    <a:pt x="602" y="87"/>
                  </a:lnTo>
                  <a:lnTo>
                    <a:pt x="541" y="90"/>
                  </a:lnTo>
                  <a:lnTo>
                    <a:pt x="481" y="92"/>
                  </a:lnTo>
                  <a:lnTo>
                    <a:pt x="419" y="93"/>
                  </a:lnTo>
                  <a:lnTo>
                    <a:pt x="360" y="93"/>
                  </a:lnTo>
                  <a:lnTo>
                    <a:pt x="299" y="91"/>
                  </a:lnTo>
                  <a:lnTo>
                    <a:pt x="240" y="88"/>
                  </a:lnTo>
                  <a:lnTo>
                    <a:pt x="210" y="84"/>
                  </a:lnTo>
                  <a:lnTo>
                    <a:pt x="182" y="81"/>
                  </a:lnTo>
                  <a:lnTo>
                    <a:pt x="152" y="77"/>
                  </a:lnTo>
                  <a:lnTo>
                    <a:pt x="124" y="73"/>
                  </a:lnTo>
                  <a:lnTo>
                    <a:pt x="94" y="67"/>
                  </a:lnTo>
                  <a:lnTo>
                    <a:pt x="66" y="61"/>
                  </a:lnTo>
                  <a:lnTo>
                    <a:pt x="37" y="55"/>
                  </a:lnTo>
                  <a:lnTo>
                    <a:pt x="9" y="48"/>
                  </a:lnTo>
                  <a:lnTo>
                    <a:pt x="0" y="83"/>
                  </a:lnTo>
                  <a:lnTo>
                    <a:pt x="29" y="90"/>
                  </a:lnTo>
                  <a:lnTo>
                    <a:pt x="58" y="97"/>
                  </a:lnTo>
                  <a:lnTo>
                    <a:pt x="87" y="102"/>
                  </a:lnTo>
                  <a:lnTo>
                    <a:pt x="117" y="108"/>
                  </a:lnTo>
                  <a:lnTo>
                    <a:pt x="147" y="113"/>
                  </a:lnTo>
                  <a:lnTo>
                    <a:pt x="177" y="117"/>
                  </a:lnTo>
                  <a:lnTo>
                    <a:pt x="207" y="121"/>
                  </a:lnTo>
                  <a:lnTo>
                    <a:pt x="238" y="123"/>
                  </a:lnTo>
                  <a:lnTo>
                    <a:pt x="298" y="128"/>
                  </a:lnTo>
                  <a:lnTo>
                    <a:pt x="359" y="130"/>
                  </a:lnTo>
                  <a:lnTo>
                    <a:pt x="420" y="130"/>
                  </a:lnTo>
                  <a:lnTo>
                    <a:pt x="482" y="129"/>
                  </a:lnTo>
                  <a:lnTo>
                    <a:pt x="543" y="126"/>
                  </a:lnTo>
                  <a:lnTo>
                    <a:pt x="605" y="123"/>
                  </a:lnTo>
                  <a:lnTo>
                    <a:pt x="667" y="117"/>
                  </a:lnTo>
                  <a:lnTo>
                    <a:pt x="730" y="112"/>
                  </a:lnTo>
                  <a:lnTo>
                    <a:pt x="854" y="98"/>
                  </a:lnTo>
                  <a:lnTo>
                    <a:pt x="980" y="83"/>
                  </a:lnTo>
                  <a:lnTo>
                    <a:pt x="1104" y="68"/>
                  </a:lnTo>
                  <a:lnTo>
                    <a:pt x="1229" y="55"/>
                  </a:lnTo>
                  <a:lnTo>
                    <a:pt x="1291" y="49"/>
                  </a:lnTo>
                  <a:lnTo>
                    <a:pt x="1352" y="44"/>
                  </a:lnTo>
                  <a:lnTo>
                    <a:pt x="1414" y="40"/>
                  </a:lnTo>
                  <a:lnTo>
                    <a:pt x="1474" y="37"/>
                  </a:lnTo>
                  <a:lnTo>
                    <a:pt x="1535" y="36"/>
                  </a:lnTo>
                  <a:lnTo>
                    <a:pt x="1595" y="36"/>
                  </a:lnTo>
                  <a:lnTo>
                    <a:pt x="1656" y="39"/>
                  </a:lnTo>
                  <a:lnTo>
                    <a:pt x="1715" y="43"/>
                  </a:lnTo>
                  <a:lnTo>
                    <a:pt x="1744" y="45"/>
                  </a:lnTo>
                  <a:lnTo>
                    <a:pt x="1773" y="49"/>
                  </a:lnTo>
                  <a:lnTo>
                    <a:pt x="1803" y="52"/>
                  </a:lnTo>
                  <a:lnTo>
                    <a:pt x="1831" y="57"/>
                  </a:lnTo>
                  <a:lnTo>
                    <a:pt x="1861" y="63"/>
                  </a:lnTo>
                  <a:lnTo>
                    <a:pt x="1889" y="68"/>
                  </a:lnTo>
                  <a:lnTo>
                    <a:pt x="1918" y="74"/>
                  </a:lnTo>
                  <a:lnTo>
                    <a:pt x="1946" y="82"/>
                  </a:lnTo>
                  <a:lnTo>
                    <a:pt x="1944" y="81"/>
                  </a:lnTo>
                  <a:lnTo>
                    <a:pt x="1946" y="82"/>
                  </a:lnTo>
                  <a:lnTo>
                    <a:pt x="1951" y="82"/>
                  </a:lnTo>
                  <a:lnTo>
                    <a:pt x="1954" y="82"/>
                  </a:lnTo>
                  <a:lnTo>
                    <a:pt x="1958" y="81"/>
                  </a:lnTo>
                  <a:lnTo>
                    <a:pt x="1961" y="80"/>
                  </a:lnTo>
                  <a:lnTo>
                    <a:pt x="1963" y="77"/>
                  </a:lnTo>
                  <a:lnTo>
                    <a:pt x="1966" y="75"/>
                  </a:lnTo>
                  <a:lnTo>
                    <a:pt x="1967" y="72"/>
                  </a:lnTo>
                  <a:lnTo>
                    <a:pt x="1968" y="68"/>
                  </a:lnTo>
                  <a:lnTo>
                    <a:pt x="1969" y="65"/>
                  </a:lnTo>
                  <a:lnTo>
                    <a:pt x="1969" y="61"/>
                  </a:lnTo>
                  <a:lnTo>
                    <a:pt x="1968" y="58"/>
                  </a:lnTo>
                  <a:lnTo>
                    <a:pt x="1967" y="56"/>
                  </a:lnTo>
                  <a:lnTo>
                    <a:pt x="1966" y="52"/>
                  </a:lnTo>
                  <a:lnTo>
                    <a:pt x="1962" y="50"/>
                  </a:lnTo>
                  <a:lnTo>
                    <a:pt x="1959" y="48"/>
                  </a:lnTo>
                  <a:lnTo>
                    <a:pt x="1955" y="47"/>
                  </a:lnTo>
                  <a:lnTo>
                    <a:pt x="1956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917880" y="2014920"/>
              <a:ext cx="709560" cy="231480"/>
            </a:xfrm>
            <a:custGeom>
              <a:avLst/>
              <a:gdLst/>
              <a:ahLst/>
              <a:rect l="l" t="t" r="r" b="b"/>
              <a:pathLst>
                <a:path w="2235" h="731">
                  <a:moveTo>
                    <a:pt x="2203" y="701"/>
                  </a:moveTo>
                  <a:lnTo>
                    <a:pt x="2218" y="695"/>
                  </a:lnTo>
                  <a:lnTo>
                    <a:pt x="2148" y="690"/>
                  </a:lnTo>
                  <a:lnTo>
                    <a:pt x="2082" y="684"/>
                  </a:lnTo>
                  <a:lnTo>
                    <a:pt x="2017" y="677"/>
                  </a:lnTo>
                  <a:lnTo>
                    <a:pt x="1953" y="668"/>
                  </a:lnTo>
                  <a:lnTo>
                    <a:pt x="1892" y="659"/>
                  </a:lnTo>
                  <a:lnTo>
                    <a:pt x="1831" y="647"/>
                  </a:lnTo>
                  <a:lnTo>
                    <a:pt x="1771" y="636"/>
                  </a:lnTo>
                  <a:lnTo>
                    <a:pt x="1713" y="622"/>
                  </a:lnTo>
                  <a:lnTo>
                    <a:pt x="1654" y="608"/>
                  </a:lnTo>
                  <a:lnTo>
                    <a:pt x="1597" y="594"/>
                  </a:lnTo>
                  <a:lnTo>
                    <a:pt x="1538" y="578"/>
                  </a:lnTo>
                  <a:lnTo>
                    <a:pt x="1480" y="559"/>
                  </a:lnTo>
                  <a:lnTo>
                    <a:pt x="1423" y="541"/>
                  </a:lnTo>
                  <a:lnTo>
                    <a:pt x="1364" y="522"/>
                  </a:lnTo>
                  <a:lnTo>
                    <a:pt x="1306" y="501"/>
                  </a:lnTo>
                  <a:lnTo>
                    <a:pt x="1246" y="480"/>
                  </a:lnTo>
                  <a:lnTo>
                    <a:pt x="1122" y="434"/>
                  </a:lnTo>
                  <a:lnTo>
                    <a:pt x="995" y="384"/>
                  </a:lnTo>
                  <a:lnTo>
                    <a:pt x="858" y="329"/>
                  </a:lnTo>
                  <a:lnTo>
                    <a:pt x="713" y="271"/>
                  </a:lnTo>
                  <a:lnTo>
                    <a:pt x="558" y="208"/>
                  </a:lnTo>
                  <a:lnTo>
                    <a:pt x="391" y="143"/>
                  </a:lnTo>
                  <a:lnTo>
                    <a:pt x="210" y="73"/>
                  </a:lnTo>
                  <a:lnTo>
                    <a:pt x="12" y="0"/>
                  </a:lnTo>
                  <a:lnTo>
                    <a:pt x="0" y="34"/>
                  </a:lnTo>
                  <a:lnTo>
                    <a:pt x="197" y="107"/>
                  </a:lnTo>
                  <a:lnTo>
                    <a:pt x="377" y="176"/>
                  </a:lnTo>
                  <a:lnTo>
                    <a:pt x="545" y="242"/>
                  </a:lnTo>
                  <a:lnTo>
                    <a:pt x="700" y="304"/>
                  </a:lnTo>
                  <a:lnTo>
                    <a:pt x="844" y="363"/>
                  </a:lnTo>
                  <a:lnTo>
                    <a:pt x="981" y="417"/>
                  </a:lnTo>
                  <a:lnTo>
                    <a:pt x="1110" y="467"/>
                  </a:lnTo>
                  <a:lnTo>
                    <a:pt x="1233" y="514"/>
                  </a:lnTo>
                  <a:lnTo>
                    <a:pt x="1293" y="535"/>
                  </a:lnTo>
                  <a:lnTo>
                    <a:pt x="1353" y="556"/>
                  </a:lnTo>
                  <a:lnTo>
                    <a:pt x="1412" y="576"/>
                  </a:lnTo>
                  <a:lnTo>
                    <a:pt x="1470" y="595"/>
                  </a:lnTo>
                  <a:lnTo>
                    <a:pt x="1528" y="612"/>
                  </a:lnTo>
                  <a:lnTo>
                    <a:pt x="1586" y="629"/>
                  </a:lnTo>
                  <a:lnTo>
                    <a:pt x="1646" y="644"/>
                  </a:lnTo>
                  <a:lnTo>
                    <a:pt x="1704" y="657"/>
                  </a:lnTo>
                  <a:lnTo>
                    <a:pt x="1764" y="671"/>
                  </a:lnTo>
                  <a:lnTo>
                    <a:pt x="1825" y="684"/>
                  </a:lnTo>
                  <a:lnTo>
                    <a:pt x="1886" y="694"/>
                  </a:lnTo>
                  <a:lnTo>
                    <a:pt x="1949" y="704"/>
                  </a:lnTo>
                  <a:lnTo>
                    <a:pt x="2013" y="712"/>
                  </a:lnTo>
                  <a:lnTo>
                    <a:pt x="2079" y="720"/>
                  </a:lnTo>
                  <a:lnTo>
                    <a:pt x="2146" y="726"/>
                  </a:lnTo>
                  <a:lnTo>
                    <a:pt x="2215" y="731"/>
                  </a:lnTo>
                  <a:lnTo>
                    <a:pt x="2230" y="726"/>
                  </a:lnTo>
                  <a:lnTo>
                    <a:pt x="2215" y="731"/>
                  </a:lnTo>
                  <a:lnTo>
                    <a:pt x="2220" y="731"/>
                  </a:lnTo>
                  <a:lnTo>
                    <a:pt x="2223" y="730"/>
                  </a:lnTo>
                  <a:lnTo>
                    <a:pt x="2227" y="729"/>
                  </a:lnTo>
                  <a:lnTo>
                    <a:pt x="2229" y="727"/>
                  </a:lnTo>
                  <a:lnTo>
                    <a:pt x="2231" y="724"/>
                  </a:lnTo>
                  <a:lnTo>
                    <a:pt x="2233" y="721"/>
                  </a:lnTo>
                  <a:lnTo>
                    <a:pt x="2234" y="718"/>
                  </a:lnTo>
                  <a:lnTo>
                    <a:pt x="2235" y="714"/>
                  </a:lnTo>
                  <a:lnTo>
                    <a:pt x="2235" y="711"/>
                  </a:lnTo>
                  <a:lnTo>
                    <a:pt x="2234" y="708"/>
                  </a:lnTo>
                  <a:lnTo>
                    <a:pt x="2233" y="704"/>
                  </a:lnTo>
                  <a:lnTo>
                    <a:pt x="2230" y="702"/>
                  </a:lnTo>
                  <a:lnTo>
                    <a:pt x="2228" y="700"/>
                  </a:lnTo>
                  <a:lnTo>
                    <a:pt x="2226" y="697"/>
                  </a:lnTo>
                  <a:lnTo>
                    <a:pt x="2222" y="696"/>
                  </a:lnTo>
                  <a:lnTo>
                    <a:pt x="2218" y="695"/>
                  </a:lnTo>
                  <a:lnTo>
                    <a:pt x="2203" y="7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16280" y="2090880"/>
              <a:ext cx="171720" cy="154080"/>
            </a:xfrm>
            <a:custGeom>
              <a:avLst/>
              <a:gdLst/>
              <a:ahLst/>
              <a:rect l="l" t="t" r="r" b="b"/>
              <a:pathLst>
                <a:path w="538" h="487">
                  <a:moveTo>
                    <a:pt x="521" y="0"/>
                  </a:moveTo>
                  <a:lnTo>
                    <a:pt x="506" y="6"/>
                  </a:lnTo>
                  <a:lnTo>
                    <a:pt x="465" y="49"/>
                  </a:lnTo>
                  <a:lnTo>
                    <a:pt x="427" y="87"/>
                  </a:lnTo>
                  <a:lnTo>
                    <a:pt x="394" y="119"/>
                  </a:lnTo>
                  <a:lnTo>
                    <a:pt x="362" y="146"/>
                  </a:lnTo>
                  <a:lnTo>
                    <a:pt x="334" y="171"/>
                  </a:lnTo>
                  <a:lnTo>
                    <a:pt x="306" y="193"/>
                  </a:lnTo>
                  <a:lnTo>
                    <a:pt x="280" y="212"/>
                  </a:lnTo>
                  <a:lnTo>
                    <a:pt x="255" y="231"/>
                  </a:lnTo>
                  <a:lnTo>
                    <a:pt x="229" y="252"/>
                  </a:lnTo>
                  <a:lnTo>
                    <a:pt x="203" y="272"/>
                  </a:lnTo>
                  <a:lnTo>
                    <a:pt x="174" y="294"/>
                  </a:lnTo>
                  <a:lnTo>
                    <a:pt x="145" y="319"/>
                  </a:lnTo>
                  <a:lnTo>
                    <a:pt x="114" y="348"/>
                  </a:lnTo>
                  <a:lnTo>
                    <a:pt x="79" y="381"/>
                  </a:lnTo>
                  <a:lnTo>
                    <a:pt x="42" y="418"/>
                  </a:lnTo>
                  <a:lnTo>
                    <a:pt x="0" y="462"/>
                  </a:lnTo>
                  <a:lnTo>
                    <a:pt x="27" y="487"/>
                  </a:lnTo>
                  <a:lnTo>
                    <a:pt x="67" y="443"/>
                  </a:lnTo>
                  <a:lnTo>
                    <a:pt x="105" y="406"/>
                  </a:lnTo>
                  <a:lnTo>
                    <a:pt x="138" y="374"/>
                  </a:lnTo>
                  <a:lnTo>
                    <a:pt x="169" y="347"/>
                  </a:lnTo>
                  <a:lnTo>
                    <a:pt x="197" y="323"/>
                  </a:lnTo>
                  <a:lnTo>
                    <a:pt x="224" y="301"/>
                  </a:lnTo>
                  <a:lnTo>
                    <a:pt x="251" y="280"/>
                  </a:lnTo>
                  <a:lnTo>
                    <a:pt x="277" y="261"/>
                  </a:lnTo>
                  <a:lnTo>
                    <a:pt x="302" y="242"/>
                  </a:lnTo>
                  <a:lnTo>
                    <a:pt x="329" y="221"/>
                  </a:lnTo>
                  <a:lnTo>
                    <a:pt x="357" y="198"/>
                  </a:lnTo>
                  <a:lnTo>
                    <a:pt x="386" y="173"/>
                  </a:lnTo>
                  <a:lnTo>
                    <a:pt x="418" y="145"/>
                  </a:lnTo>
                  <a:lnTo>
                    <a:pt x="452" y="113"/>
                  </a:lnTo>
                  <a:lnTo>
                    <a:pt x="491" y="75"/>
                  </a:lnTo>
                  <a:lnTo>
                    <a:pt x="532" y="31"/>
                  </a:lnTo>
                  <a:lnTo>
                    <a:pt x="518" y="36"/>
                  </a:lnTo>
                  <a:lnTo>
                    <a:pt x="532" y="31"/>
                  </a:lnTo>
                  <a:lnTo>
                    <a:pt x="536" y="27"/>
                  </a:lnTo>
                  <a:lnTo>
                    <a:pt x="537" y="24"/>
                  </a:lnTo>
                  <a:lnTo>
                    <a:pt x="538" y="21"/>
                  </a:lnTo>
                  <a:lnTo>
                    <a:pt x="538" y="17"/>
                  </a:lnTo>
                  <a:lnTo>
                    <a:pt x="537" y="14"/>
                  </a:lnTo>
                  <a:lnTo>
                    <a:pt x="536" y="10"/>
                  </a:lnTo>
                  <a:lnTo>
                    <a:pt x="533" y="8"/>
                  </a:lnTo>
                  <a:lnTo>
                    <a:pt x="531" y="6"/>
                  </a:lnTo>
                  <a:lnTo>
                    <a:pt x="529" y="3"/>
                  </a:lnTo>
                  <a:lnTo>
                    <a:pt x="525" y="1"/>
                  </a:lnTo>
                  <a:lnTo>
                    <a:pt x="523" y="1"/>
                  </a:lnTo>
                  <a:lnTo>
                    <a:pt x="520" y="0"/>
                  </a:lnTo>
                  <a:lnTo>
                    <a:pt x="516" y="0"/>
                  </a:lnTo>
                  <a:lnTo>
                    <a:pt x="513" y="1"/>
                  </a:lnTo>
                  <a:lnTo>
                    <a:pt x="509" y="3"/>
                  </a:lnTo>
                  <a:lnTo>
                    <a:pt x="506" y="6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781520" y="2090880"/>
              <a:ext cx="530280" cy="46080"/>
            </a:xfrm>
            <a:custGeom>
              <a:avLst/>
              <a:gdLst/>
              <a:ahLst/>
              <a:rect l="l" t="t" r="r" b="b"/>
              <a:pathLst>
                <a:path w="1671" h="144">
                  <a:moveTo>
                    <a:pt x="1671" y="121"/>
                  </a:moveTo>
                  <a:lnTo>
                    <a:pt x="1654" y="108"/>
                  </a:lnTo>
                  <a:lnTo>
                    <a:pt x="1448" y="95"/>
                  </a:lnTo>
                  <a:lnTo>
                    <a:pt x="1242" y="82"/>
                  </a:lnTo>
                  <a:lnTo>
                    <a:pt x="1035" y="68"/>
                  </a:lnTo>
                  <a:lnTo>
                    <a:pt x="828" y="55"/>
                  </a:lnTo>
                  <a:lnTo>
                    <a:pt x="622" y="41"/>
                  </a:lnTo>
                  <a:lnTo>
                    <a:pt x="415" y="27"/>
                  </a:lnTo>
                  <a:lnTo>
                    <a:pt x="209" y="14"/>
                  </a:lnTo>
                  <a:lnTo>
                    <a:pt x="3" y="0"/>
                  </a:lnTo>
                  <a:lnTo>
                    <a:pt x="0" y="36"/>
                  </a:lnTo>
                  <a:lnTo>
                    <a:pt x="207" y="50"/>
                  </a:lnTo>
                  <a:lnTo>
                    <a:pt x="413" y="64"/>
                  </a:lnTo>
                  <a:lnTo>
                    <a:pt x="619" y="78"/>
                  </a:lnTo>
                  <a:lnTo>
                    <a:pt x="826" y="91"/>
                  </a:lnTo>
                  <a:lnTo>
                    <a:pt x="1033" y="105"/>
                  </a:lnTo>
                  <a:lnTo>
                    <a:pt x="1239" y="117"/>
                  </a:lnTo>
                  <a:lnTo>
                    <a:pt x="1446" y="131"/>
                  </a:lnTo>
                  <a:lnTo>
                    <a:pt x="1652" y="144"/>
                  </a:lnTo>
                  <a:lnTo>
                    <a:pt x="1636" y="131"/>
                  </a:lnTo>
                  <a:lnTo>
                    <a:pt x="1652" y="144"/>
                  </a:lnTo>
                  <a:lnTo>
                    <a:pt x="1656" y="144"/>
                  </a:lnTo>
                  <a:lnTo>
                    <a:pt x="1660" y="144"/>
                  </a:lnTo>
                  <a:lnTo>
                    <a:pt x="1663" y="141"/>
                  </a:lnTo>
                  <a:lnTo>
                    <a:pt x="1666" y="139"/>
                  </a:lnTo>
                  <a:lnTo>
                    <a:pt x="1668" y="137"/>
                  </a:lnTo>
                  <a:lnTo>
                    <a:pt x="1670" y="133"/>
                  </a:lnTo>
                  <a:lnTo>
                    <a:pt x="1671" y="130"/>
                  </a:lnTo>
                  <a:lnTo>
                    <a:pt x="1671" y="128"/>
                  </a:lnTo>
                  <a:lnTo>
                    <a:pt x="1671" y="124"/>
                  </a:lnTo>
                  <a:lnTo>
                    <a:pt x="1670" y="121"/>
                  </a:lnTo>
                  <a:lnTo>
                    <a:pt x="1669" y="117"/>
                  </a:lnTo>
                  <a:lnTo>
                    <a:pt x="1668" y="114"/>
                  </a:lnTo>
                  <a:lnTo>
                    <a:pt x="1666" y="112"/>
                  </a:lnTo>
                  <a:lnTo>
                    <a:pt x="1662" y="109"/>
                  </a:lnTo>
                  <a:lnTo>
                    <a:pt x="1659" y="108"/>
                  </a:lnTo>
                  <a:lnTo>
                    <a:pt x="1654" y="108"/>
                  </a:lnTo>
                  <a:lnTo>
                    <a:pt x="167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00640" y="2129040"/>
              <a:ext cx="138240" cy="152640"/>
            </a:xfrm>
            <a:custGeom>
              <a:avLst/>
              <a:gdLst/>
              <a:ahLst/>
              <a:rect l="l" t="t" r="r" b="b"/>
              <a:pathLst>
                <a:path w="435" h="479">
                  <a:moveTo>
                    <a:pt x="418" y="442"/>
                  </a:moveTo>
                  <a:lnTo>
                    <a:pt x="435" y="456"/>
                  </a:lnTo>
                  <a:lnTo>
                    <a:pt x="427" y="432"/>
                  </a:lnTo>
                  <a:lnTo>
                    <a:pt x="418" y="410"/>
                  </a:lnTo>
                  <a:lnTo>
                    <a:pt x="409" y="390"/>
                  </a:lnTo>
                  <a:lnTo>
                    <a:pt x="398" y="370"/>
                  </a:lnTo>
                  <a:lnTo>
                    <a:pt x="386" y="352"/>
                  </a:lnTo>
                  <a:lnTo>
                    <a:pt x="374" y="336"/>
                  </a:lnTo>
                  <a:lnTo>
                    <a:pt x="361" y="320"/>
                  </a:lnTo>
                  <a:lnTo>
                    <a:pt x="347" y="307"/>
                  </a:lnTo>
                  <a:lnTo>
                    <a:pt x="334" y="293"/>
                  </a:lnTo>
                  <a:lnTo>
                    <a:pt x="319" y="280"/>
                  </a:lnTo>
                  <a:lnTo>
                    <a:pt x="304" y="269"/>
                  </a:lnTo>
                  <a:lnTo>
                    <a:pt x="288" y="257"/>
                  </a:lnTo>
                  <a:lnTo>
                    <a:pt x="257" y="237"/>
                  </a:lnTo>
                  <a:lnTo>
                    <a:pt x="227" y="218"/>
                  </a:lnTo>
                  <a:lnTo>
                    <a:pt x="196" y="198"/>
                  </a:lnTo>
                  <a:lnTo>
                    <a:pt x="166" y="178"/>
                  </a:lnTo>
                  <a:lnTo>
                    <a:pt x="153" y="167"/>
                  </a:lnTo>
                  <a:lnTo>
                    <a:pt x="139" y="157"/>
                  </a:lnTo>
                  <a:lnTo>
                    <a:pt x="125" y="146"/>
                  </a:lnTo>
                  <a:lnTo>
                    <a:pt x="113" y="133"/>
                  </a:lnTo>
                  <a:lnTo>
                    <a:pt x="100" y="121"/>
                  </a:lnTo>
                  <a:lnTo>
                    <a:pt x="89" y="107"/>
                  </a:lnTo>
                  <a:lnTo>
                    <a:pt x="77" y="92"/>
                  </a:lnTo>
                  <a:lnTo>
                    <a:pt x="67" y="76"/>
                  </a:lnTo>
                  <a:lnTo>
                    <a:pt x="58" y="60"/>
                  </a:lnTo>
                  <a:lnTo>
                    <a:pt x="49" y="41"/>
                  </a:lnTo>
                  <a:lnTo>
                    <a:pt x="42" y="22"/>
                  </a:lnTo>
                  <a:lnTo>
                    <a:pt x="35" y="0"/>
                  </a:lnTo>
                  <a:lnTo>
                    <a:pt x="0" y="10"/>
                  </a:lnTo>
                  <a:lnTo>
                    <a:pt x="8" y="34"/>
                  </a:lnTo>
                  <a:lnTo>
                    <a:pt x="16" y="56"/>
                  </a:lnTo>
                  <a:lnTo>
                    <a:pt x="26" y="76"/>
                  </a:lnTo>
                  <a:lnTo>
                    <a:pt x="36" y="96"/>
                  </a:lnTo>
                  <a:lnTo>
                    <a:pt x="48" y="113"/>
                  </a:lnTo>
                  <a:lnTo>
                    <a:pt x="60" y="130"/>
                  </a:lnTo>
                  <a:lnTo>
                    <a:pt x="73" y="145"/>
                  </a:lnTo>
                  <a:lnTo>
                    <a:pt x="86" y="159"/>
                  </a:lnTo>
                  <a:lnTo>
                    <a:pt x="101" y="172"/>
                  </a:lnTo>
                  <a:lnTo>
                    <a:pt x="116" y="185"/>
                  </a:lnTo>
                  <a:lnTo>
                    <a:pt x="131" y="197"/>
                  </a:lnTo>
                  <a:lnTo>
                    <a:pt x="146" y="208"/>
                  </a:lnTo>
                  <a:lnTo>
                    <a:pt x="177" y="229"/>
                  </a:lnTo>
                  <a:lnTo>
                    <a:pt x="207" y="248"/>
                  </a:lnTo>
                  <a:lnTo>
                    <a:pt x="238" y="268"/>
                  </a:lnTo>
                  <a:lnTo>
                    <a:pt x="268" y="287"/>
                  </a:lnTo>
                  <a:lnTo>
                    <a:pt x="283" y="297"/>
                  </a:lnTo>
                  <a:lnTo>
                    <a:pt x="296" y="309"/>
                  </a:lnTo>
                  <a:lnTo>
                    <a:pt x="309" y="320"/>
                  </a:lnTo>
                  <a:lnTo>
                    <a:pt x="322" y="332"/>
                  </a:lnTo>
                  <a:lnTo>
                    <a:pt x="334" y="345"/>
                  </a:lnTo>
                  <a:lnTo>
                    <a:pt x="346" y="359"/>
                  </a:lnTo>
                  <a:lnTo>
                    <a:pt x="357" y="374"/>
                  </a:lnTo>
                  <a:lnTo>
                    <a:pt x="367" y="389"/>
                  </a:lnTo>
                  <a:lnTo>
                    <a:pt x="376" y="406"/>
                  </a:lnTo>
                  <a:lnTo>
                    <a:pt x="385" y="424"/>
                  </a:lnTo>
                  <a:lnTo>
                    <a:pt x="393" y="444"/>
                  </a:lnTo>
                  <a:lnTo>
                    <a:pt x="400" y="466"/>
                  </a:lnTo>
                  <a:lnTo>
                    <a:pt x="417" y="479"/>
                  </a:lnTo>
                  <a:lnTo>
                    <a:pt x="400" y="466"/>
                  </a:lnTo>
                  <a:lnTo>
                    <a:pt x="401" y="470"/>
                  </a:lnTo>
                  <a:lnTo>
                    <a:pt x="403" y="473"/>
                  </a:lnTo>
                  <a:lnTo>
                    <a:pt x="406" y="475"/>
                  </a:lnTo>
                  <a:lnTo>
                    <a:pt x="409" y="478"/>
                  </a:lnTo>
                  <a:lnTo>
                    <a:pt x="412" y="479"/>
                  </a:lnTo>
                  <a:lnTo>
                    <a:pt x="416" y="479"/>
                  </a:lnTo>
                  <a:lnTo>
                    <a:pt x="419" y="479"/>
                  </a:lnTo>
                  <a:lnTo>
                    <a:pt x="423" y="479"/>
                  </a:lnTo>
                  <a:lnTo>
                    <a:pt x="425" y="476"/>
                  </a:lnTo>
                  <a:lnTo>
                    <a:pt x="428" y="475"/>
                  </a:lnTo>
                  <a:lnTo>
                    <a:pt x="431" y="473"/>
                  </a:lnTo>
                  <a:lnTo>
                    <a:pt x="433" y="471"/>
                  </a:lnTo>
                  <a:lnTo>
                    <a:pt x="434" y="467"/>
                  </a:lnTo>
                  <a:lnTo>
                    <a:pt x="435" y="464"/>
                  </a:lnTo>
                  <a:lnTo>
                    <a:pt x="435" y="460"/>
                  </a:lnTo>
                  <a:lnTo>
                    <a:pt x="435" y="456"/>
                  </a:lnTo>
                  <a:lnTo>
                    <a:pt x="418" y="4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32400" y="2141640"/>
              <a:ext cx="743040" cy="140040"/>
            </a:xfrm>
            <a:custGeom>
              <a:avLst/>
              <a:gdLst/>
              <a:ahLst/>
              <a:rect l="l" t="t" r="r" b="b"/>
              <a:pathLst>
                <a:path w="2337" h="440">
                  <a:moveTo>
                    <a:pt x="2318" y="1"/>
                  </a:moveTo>
                  <a:lnTo>
                    <a:pt x="2319" y="1"/>
                  </a:lnTo>
                  <a:lnTo>
                    <a:pt x="2286" y="0"/>
                  </a:lnTo>
                  <a:lnTo>
                    <a:pt x="2252" y="0"/>
                  </a:lnTo>
                  <a:lnTo>
                    <a:pt x="2218" y="0"/>
                  </a:lnTo>
                  <a:lnTo>
                    <a:pt x="2182" y="1"/>
                  </a:lnTo>
                  <a:lnTo>
                    <a:pt x="2113" y="5"/>
                  </a:lnTo>
                  <a:lnTo>
                    <a:pt x="2042" y="11"/>
                  </a:lnTo>
                  <a:lnTo>
                    <a:pt x="1971" y="20"/>
                  </a:lnTo>
                  <a:lnTo>
                    <a:pt x="1899" y="31"/>
                  </a:lnTo>
                  <a:lnTo>
                    <a:pt x="1826" y="43"/>
                  </a:lnTo>
                  <a:lnTo>
                    <a:pt x="1753" y="57"/>
                  </a:lnTo>
                  <a:lnTo>
                    <a:pt x="1679" y="72"/>
                  </a:lnTo>
                  <a:lnTo>
                    <a:pt x="1605" y="89"/>
                  </a:lnTo>
                  <a:lnTo>
                    <a:pt x="1531" y="106"/>
                  </a:lnTo>
                  <a:lnTo>
                    <a:pt x="1455" y="124"/>
                  </a:lnTo>
                  <a:lnTo>
                    <a:pt x="1305" y="163"/>
                  </a:lnTo>
                  <a:lnTo>
                    <a:pt x="1154" y="203"/>
                  </a:lnTo>
                  <a:lnTo>
                    <a:pt x="1004" y="243"/>
                  </a:lnTo>
                  <a:lnTo>
                    <a:pt x="854" y="281"/>
                  </a:lnTo>
                  <a:lnTo>
                    <a:pt x="780" y="300"/>
                  </a:lnTo>
                  <a:lnTo>
                    <a:pt x="705" y="317"/>
                  </a:lnTo>
                  <a:lnTo>
                    <a:pt x="631" y="333"/>
                  </a:lnTo>
                  <a:lnTo>
                    <a:pt x="558" y="349"/>
                  </a:lnTo>
                  <a:lnTo>
                    <a:pt x="485" y="361"/>
                  </a:lnTo>
                  <a:lnTo>
                    <a:pt x="414" y="374"/>
                  </a:lnTo>
                  <a:lnTo>
                    <a:pt x="343" y="384"/>
                  </a:lnTo>
                  <a:lnTo>
                    <a:pt x="272" y="392"/>
                  </a:lnTo>
                  <a:lnTo>
                    <a:pt x="203" y="399"/>
                  </a:lnTo>
                  <a:lnTo>
                    <a:pt x="134" y="402"/>
                  </a:lnTo>
                  <a:lnTo>
                    <a:pt x="101" y="403"/>
                  </a:lnTo>
                  <a:lnTo>
                    <a:pt x="67" y="403"/>
                  </a:lnTo>
                  <a:lnTo>
                    <a:pt x="34" y="403"/>
                  </a:lnTo>
                  <a:lnTo>
                    <a:pt x="1" y="402"/>
                  </a:lnTo>
                  <a:lnTo>
                    <a:pt x="0" y="439"/>
                  </a:lnTo>
                  <a:lnTo>
                    <a:pt x="33" y="440"/>
                  </a:lnTo>
                  <a:lnTo>
                    <a:pt x="67" y="440"/>
                  </a:lnTo>
                  <a:lnTo>
                    <a:pt x="101" y="440"/>
                  </a:lnTo>
                  <a:lnTo>
                    <a:pt x="137" y="439"/>
                  </a:lnTo>
                  <a:lnTo>
                    <a:pt x="206" y="434"/>
                  </a:lnTo>
                  <a:lnTo>
                    <a:pt x="277" y="428"/>
                  </a:lnTo>
                  <a:lnTo>
                    <a:pt x="348" y="420"/>
                  </a:lnTo>
                  <a:lnTo>
                    <a:pt x="419" y="409"/>
                  </a:lnTo>
                  <a:lnTo>
                    <a:pt x="492" y="398"/>
                  </a:lnTo>
                  <a:lnTo>
                    <a:pt x="565" y="384"/>
                  </a:lnTo>
                  <a:lnTo>
                    <a:pt x="639" y="369"/>
                  </a:lnTo>
                  <a:lnTo>
                    <a:pt x="713" y="352"/>
                  </a:lnTo>
                  <a:lnTo>
                    <a:pt x="788" y="335"/>
                  </a:lnTo>
                  <a:lnTo>
                    <a:pt x="863" y="317"/>
                  </a:lnTo>
                  <a:lnTo>
                    <a:pt x="1013" y="278"/>
                  </a:lnTo>
                  <a:lnTo>
                    <a:pt x="1164" y="238"/>
                  </a:lnTo>
                  <a:lnTo>
                    <a:pt x="1314" y="198"/>
                  </a:lnTo>
                  <a:lnTo>
                    <a:pt x="1464" y="159"/>
                  </a:lnTo>
                  <a:lnTo>
                    <a:pt x="1539" y="141"/>
                  </a:lnTo>
                  <a:lnTo>
                    <a:pt x="1613" y="124"/>
                  </a:lnTo>
                  <a:lnTo>
                    <a:pt x="1687" y="107"/>
                  </a:lnTo>
                  <a:lnTo>
                    <a:pt x="1760" y="92"/>
                  </a:lnTo>
                  <a:lnTo>
                    <a:pt x="1833" y="78"/>
                  </a:lnTo>
                  <a:lnTo>
                    <a:pt x="1904" y="67"/>
                  </a:lnTo>
                  <a:lnTo>
                    <a:pt x="1976" y="56"/>
                  </a:lnTo>
                  <a:lnTo>
                    <a:pt x="2046" y="48"/>
                  </a:lnTo>
                  <a:lnTo>
                    <a:pt x="2115" y="42"/>
                  </a:lnTo>
                  <a:lnTo>
                    <a:pt x="2185" y="37"/>
                  </a:lnTo>
                  <a:lnTo>
                    <a:pt x="2218" y="36"/>
                  </a:lnTo>
                  <a:lnTo>
                    <a:pt x="2252" y="36"/>
                  </a:lnTo>
                  <a:lnTo>
                    <a:pt x="2285" y="36"/>
                  </a:lnTo>
                  <a:lnTo>
                    <a:pt x="2318" y="37"/>
                  </a:lnTo>
                  <a:lnTo>
                    <a:pt x="2320" y="37"/>
                  </a:lnTo>
                  <a:lnTo>
                    <a:pt x="2318" y="37"/>
                  </a:lnTo>
                  <a:lnTo>
                    <a:pt x="2323" y="36"/>
                  </a:lnTo>
                  <a:lnTo>
                    <a:pt x="2326" y="35"/>
                  </a:lnTo>
                  <a:lnTo>
                    <a:pt x="2329" y="34"/>
                  </a:lnTo>
                  <a:lnTo>
                    <a:pt x="2332" y="32"/>
                  </a:lnTo>
                  <a:lnTo>
                    <a:pt x="2334" y="29"/>
                  </a:lnTo>
                  <a:lnTo>
                    <a:pt x="2336" y="26"/>
                  </a:lnTo>
                  <a:lnTo>
                    <a:pt x="2336" y="23"/>
                  </a:lnTo>
                  <a:lnTo>
                    <a:pt x="2337" y="19"/>
                  </a:lnTo>
                  <a:lnTo>
                    <a:pt x="2337" y="16"/>
                  </a:lnTo>
                  <a:lnTo>
                    <a:pt x="2336" y="12"/>
                  </a:lnTo>
                  <a:lnTo>
                    <a:pt x="2335" y="10"/>
                  </a:lnTo>
                  <a:lnTo>
                    <a:pt x="2333" y="7"/>
                  </a:lnTo>
                  <a:lnTo>
                    <a:pt x="2331" y="4"/>
                  </a:lnTo>
                  <a:lnTo>
                    <a:pt x="2327" y="2"/>
                  </a:lnTo>
                  <a:lnTo>
                    <a:pt x="2324" y="1"/>
                  </a:lnTo>
                  <a:lnTo>
                    <a:pt x="2319" y="1"/>
                  </a:lnTo>
                  <a:lnTo>
                    <a:pt x="231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68960" y="2141640"/>
              <a:ext cx="370080" cy="103320"/>
            </a:xfrm>
            <a:custGeom>
              <a:avLst/>
              <a:gdLst/>
              <a:ahLst/>
              <a:rect l="l" t="t" r="r" b="b"/>
              <a:pathLst>
                <a:path w="1164" h="326">
                  <a:moveTo>
                    <a:pt x="1164" y="307"/>
                  </a:moveTo>
                  <a:lnTo>
                    <a:pt x="1152" y="290"/>
                  </a:lnTo>
                  <a:lnTo>
                    <a:pt x="1005" y="237"/>
                  </a:lnTo>
                  <a:lnTo>
                    <a:pt x="857" y="183"/>
                  </a:lnTo>
                  <a:lnTo>
                    <a:pt x="784" y="157"/>
                  </a:lnTo>
                  <a:lnTo>
                    <a:pt x="710" y="131"/>
                  </a:lnTo>
                  <a:lnTo>
                    <a:pt x="637" y="107"/>
                  </a:lnTo>
                  <a:lnTo>
                    <a:pt x="564" y="84"/>
                  </a:lnTo>
                  <a:lnTo>
                    <a:pt x="491" y="63"/>
                  </a:lnTo>
                  <a:lnTo>
                    <a:pt x="420" y="45"/>
                  </a:lnTo>
                  <a:lnTo>
                    <a:pt x="384" y="37"/>
                  </a:lnTo>
                  <a:lnTo>
                    <a:pt x="348" y="29"/>
                  </a:lnTo>
                  <a:lnTo>
                    <a:pt x="312" y="22"/>
                  </a:lnTo>
                  <a:lnTo>
                    <a:pt x="277" y="17"/>
                  </a:lnTo>
                  <a:lnTo>
                    <a:pt x="242" y="11"/>
                  </a:lnTo>
                  <a:lnTo>
                    <a:pt x="206" y="8"/>
                  </a:lnTo>
                  <a:lnTo>
                    <a:pt x="171" y="4"/>
                  </a:lnTo>
                  <a:lnTo>
                    <a:pt x="137" y="1"/>
                  </a:lnTo>
                  <a:lnTo>
                    <a:pt x="103" y="0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0" y="2"/>
                  </a:lnTo>
                  <a:lnTo>
                    <a:pt x="2" y="38"/>
                  </a:lnTo>
                  <a:lnTo>
                    <a:pt x="35" y="36"/>
                  </a:lnTo>
                  <a:lnTo>
                    <a:pt x="67" y="36"/>
                  </a:lnTo>
                  <a:lnTo>
                    <a:pt x="102" y="36"/>
                  </a:lnTo>
                  <a:lnTo>
                    <a:pt x="135" y="37"/>
                  </a:lnTo>
                  <a:lnTo>
                    <a:pt x="169" y="40"/>
                  </a:lnTo>
                  <a:lnTo>
                    <a:pt x="203" y="43"/>
                  </a:lnTo>
                  <a:lnTo>
                    <a:pt x="237" y="47"/>
                  </a:lnTo>
                  <a:lnTo>
                    <a:pt x="271" y="52"/>
                  </a:lnTo>
                  <a:lnTo>
                    <a:pt x="306" y="59"/>
                  </a:lnTo>
                  <a:lnTo>
                    <a:pt x="341" y="66"/>
                  </a:lnTo>
                  <a:lnTo>
                    <a:pt x="376" y="73"/>
                  </a:lnTo>
                  <a:lnTo>
                    <a:pt x="412" y="81"/>
                  </a:lnTo>
                  <a:lnTo>
                    <a:pt x="482" y="99"/>
                  </a:lnTo>
                  <a:lnTo>
                    <a:pt x="554" y="119"/>
                  </a:lnTo>
                  <a:lnTo>
                    <a:pt x="626" y="141"/>
                  </a:lnTo>
                  <a:lnTo>
                    <a:pt x="699" y="165"/>
                  </a:lnTo>
                  <a:lnTo>
                    <a:pt x="772" y="191"/>
                  </a:lnTo>
                  <a:lnTo>
                    <a:pt x="846" y="217"/>
                  </a:lnTo>
                  <a:lnTo>
                    <a:pt x="993" y="271"/>
                  </a:lnTo>
                  <a:lnTo>
                    <a:pt x="1140" y="325"/>
                  </a:lnTo>
                  <a:lnTo>
                    <a:pt x="1127" y="307"/>
                  </a:lnTo>
                  <a:lnTo>
                    <a:pt x="1140" y="325"/>
                  </a:lnTo>
                  <a:lnTo>
                    <a:pt x="1144" y="326"/>
                  </a:lnTo>
                  <a:lnTo>
                    <a:pt x="1148" y="326"/>
                  </a:lnTo>
                  <a:lnTo>
                    <a:pt x="1151" y="325"/>
                  </a:lnTo>
                  <a:lnTo>
                    <a:pt x="1155" y="323"/>
                  </a:lnTo>
                  <a:lnTo>
                    <a:pt x="1157" y="322"/>
                  </a:lnTo>
                  <a:lnTo>
                    <a:pt x="1159" y="319"/>
                  </a:lnTo>
                  <a:lnTo>
                    <a:pt x="1161" y="317"/>
                  </a:lnTo>
                  <a:lnTo>
                    <a:pt x="1163" y="313"/>
                  </a:lnTo>
                  <a:lnTo>
                    <a:pt x="1164" y="310"/>
                  </a:lnTo>
                  <a:lnTo>
                    <a:pt x="1164" y="306"/>
                  </a:lnTo>
                  <a:lnTo>
                    <a:pt x="1164" y="303"/>
                  </a:lnTo>
                  <a:lnTo>
                    <a:pt x="1163" y="301"/>
                  </a:lnTo>
                  <a:lnTo>
                    <a:pt x="1161" y="297"/>
                  </a:lnTo>
                  <a:lnTo>
                    <a:pt x="1159" y="295"/>
                  </a:lnTo>
                  <a:lnTo>
                    <a:pt x="1156" y="293"/>
                  </a:lnTo>
                  <a:lnTo>
                    <a:pt x="1152" y="290"/>
                  </a:lnTo>
                  <a:lnTo>
                    <a:pt x="1164" y="3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526080" y="2238480"/>
              <a:ext cx="20880" cy="547920"/>
            </a:xfrm>
            <a:custGeom>
              <a:avLst/>
              <a:gdLst/>
              <a:ahLst/>
              <a:rect l="l" t="t" r="r" b="b"/>
              <a:pathLst>
                <a:path w="61" h="1725">
                  <a:moveTo>
                    <a:pt x="42" y="1725"/>
                  </a:moveTo>
                  <a:lnTo>
                    <a:pt x="61" y="1707"/>
                  </a:lnTo>
                  <a:lnTo>
                    <a:pt x="60" y="1493"/>
                  </a:lnTo>
                  <a:lnTo>
                    <a:pt x="57" y="1278"/>
                  </a:lnTo>
                  <a:lnTo>
                    <a:pt x="55" y="1064"/>
                  </a:lnTo>
                  <a:lnTo>
                    <a:pt x="53" y="851"/>
                  </a:lnTo>
                  <a:lnTo>
                    <a:pt x="49" y="638"/>
                  </a:lnTo>
                  <a:lnTo>
                    <a:pt x="46" y="424"/>
                  </a:lnTo>
                  <a:lnTo>
                    <a:pt x="41" y="212"/>
                  </a:lnTo>
                  <a:lnTo>
                    <a:pt x="37" y="0"/>
                  </a:lnTo>
                  <a:lnTo>
                    <a:pt x="0" y="0"/>
                  </a:lnTo>
                  <a:lnTo>
                    <a:pt x="5" y="212"/>
                  </a:lnTo>
                  <a:lnTo>
                    <a:pt x="9" y="424"/>
                  </a:lnTo>
                  <a:lnTo>
                    <a:pt x="13" y="638"/>
                  </a:lnTo>
                  <a:lnTo>
                    <a:pt x="16" y="851"/>
                  </a:lnTo>
                  <a:lnTo>
                    <a:pt x="18" y="1064"/>
                  </a:lnTo>
                  <a:lnTo>
                    <a:pt x="22" y="1278"/>
                  </a:lnTo>
                  <a:lnTo>
                    <a:pt x="23" y="1493"/>
                  </a:lnTo>
                  <a:lnTo>
                    <a:pt x="25" y="1707"/>
                  </a:lnTo>
                  <a:lnTo>
                    <a:pt x="44" y="1689"/>
                  </a:lnTo>
                  <a:lnTo>
                    <a:pt x="25" y="1707"/>
                  </a:lnTo>
                  <a:lnTo>
                    <a:pt x="25" y="1710"/>
                  </a:lnTo>
                  <a:lnTo>
                    <a:pt x="26" y="1715"/>
                  </a:lnTo>
                  <a:lnTo>
                    <a:pt x="29" y="1717"/>
                  </a:lnTo>
                  <a:lnTo>
                    <a:pt x="31" y="1721"/>
                  </a:lnTo>
                  <a:lnTo>
                    <a:pt x="33" y="1722"/>
                  </a:lnTo>
                  <a:lnTo>
                    <a:pt x="37" y="1724"/>
                  </a:lnTo>
                  <a:lnTo>
                    <a:pt x="40" y="1724"/>
                  </a:lnTo>
                  <a:lnTo>
                    <a:pt x="44" y="1725"/>
                  </a:lnTo>
                  <a:lnTo>
                    <a:pt x="47" y="1724"/>
                  </a:lnTo>
                  <a:lnTo>
                    <a:pt x="49" y="1723"/>
                  </a:lnTo>
                  <a:lnTo>
                    <a:pt x="53" y="1722"/>
                  </a:lnTo>
                  <a:lnTo>
                    <a:pt x="56" y="1720"/>
                  </a:lnTo>
                  <a:lnTo>
                    <a:pt x="58" y="1717"/>
                  </a:lnTo>
                  <a:lnTo>
                    <a:pt x="60" y="1715"/>
                  </a:lnTo>
                  <a:lnTo>
                    <a:pt x="61" y="1710"/>
                  </a:lnTo>
                  <a:lnTo>
                    <a:pt x="61" y="1707"/>
                  </a:lnTo>
                  <a:lnTo>
                    <a:pt x="42" y="17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02080" y="2702160"/>
              <a:ext cx="3938400" cy="84240"/>
            </a:xfrm>
            <a:custGeom>
              <a:avLst/>
              <a:gdLst/>
              <a:ahLst/>
              <a:rect l="l" t="t" r="r" b="b"/>
              <a:pathLst>
                <a:path w="12405" h="265">
                  <a:moveTo>
                    <a:pt x="0" y="20"/>
                  </a:moveTo>
                  <a:lnTo>
                    <a:pt x="19" y="36"/>
                  </a:lnTo>
                  <a:lnTo>
                    <a:pt x="1566" y="65"/>
                  </a:lnTo>
                  <a:lnTo>
                    <a:pt x="3115" y="93"/>
                  </a:lnTo>
                  <a:lnTo>
                    <a:pt x="4663" y="122"/>
                  </a:lnTo>
                  <a:lnTo>
                    <a:pt x="6210" y="150"/>
                  </a:lnTo>
                  <a:lnTo>
                    <a:pt x="7759" y="179"/>
                  </a:lnTo>
                  <a:lnTo>
                    <a:pt x="9307" y="207"/>
                  </a:lnTo>
                  <a:lnTo>
                    <a:pt x="10856" y="236"/>
                  </a:lnTo>
                  <a:lnTo>
                    <a:pt x="12403" y="265"/>
                  </a:lnTo>
                  <a:lnTo>
                    <a:pt x="12405" y="229"/>
                  </a:lnTo>
                  <a:lnTo>
                    <a:pt x="10856" y="200"/>
                  </a:lnTo>
                  <a:lnTo>
                    <a:pt x="9308" y="172"/>
                  </a:lnTo>
                  <a:lnTo>
                    <a:pt x="7759" y="143"/>
                  </a:lnTo>
                  <a:lnTo>
                    <a:pt x="6212" y="114"/>
                  </a:lnTo>
                  <a:lnTo>
                    <a:pt x="4664" y="85"/>
                  </a:lnTo>
                  <a:lnTo>
                    <a:pt x="3115" y="57"/>
                  </a:lnTo>
                  <a:lnTo>
                    <a:pt x="1567" y="28"/>
                  </a:lnTo>
                  <a:lnTo>
                    <a:pt x="19" y="0"/>
                  </a:lnTo>
                  <a:lnTo>
                    <a:pt x="37" y="16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5" y="30"/>
                  </a:lnTo>
                  <a:lnTo>
                    <a:pt x="7" y="33"/>
                  </a:lnTo>
                  <a:lnTo>
                    <a:pt x="11" y="34"/>
                  </a:lnTo>
                  <a:lnTo>
                    <a:pt x="14" y="36"/>
                  </a:lnTo>
                  <a:lnTo>
                    <a:pt x="19" y="3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00280" y="2671920"/>
              <a:ext cx="14400" cy="3672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0" y="17"/>
                  </a:moveTo>
                  <a:lnTo>
                    <a:pt x="0" y="18"/>
                  </a:lnTo>
                  <a:lnTo>
                    <a:pt x="1" y="30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3" y="92"/>
                  </a:lnTo>
                  <a:lnTo>
                    <a:pt x="4" y="106"/>
                  </a:lnTo>
                  <a:lnTo>
                    <a:pt x="5" y="118"/>
                  </a:lnTo>
                  <a:lnTo>
                    <a:pt x="42" y="114"/>
                  </a:lnTo>
                  <a:lnTo>
                    <a:pt x="41" y="102"/>
                  </a:lnTo>
                  <a:lnTo>
                    <a:pt x="39" y="90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38" y="53"/>
                  </a:lnTo>
                  <a:lnTo>
                    <a:pt x="37" y="42"/>
                  </a:lnTo>
                  <a:lnTo>
                    <a:pt x="37" y="29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604960" y="2308320"/>
              <a:ext cx="3935520" cy="451080"/>
            </a:xfrm>
            <a:custGeom>
              <a:avLst/>
              <a:gdLst/>
              <a:ahLst/>
              <a:rect l="l" t="t" r="r" b="b"/>
              <a:pathLst>
                <a:path w="12396" h="1419">
                  <a:moveTo>
                    <a:pt x="0" y="1318"/>
                  </a:moveTo>
                  <a:lnTo>
                    <a:pt x="0" y="1310"/>
                  </a:lnTo>
                  <a:lnTo>
                    <a:pt x="0" y="1303"/>
                  </a:lnTo>
                  <a:lnTo>
                    <a:pt x="0" y="1295"/>
                  </a:lnTo>
                  <a:lnTo>
                    <a:pt x="0" y="1289"/>
                  </a:lnTo>
                  <a:lnTo>
                    <a:pt x="0" y="1281"/>
                  </a:lnTo>
                  <a:lnTo>
                    <a:pt x="0" y="1274"/>
                  </a:lnTo>
                  <a:lnTo>
                    <a:pt x="0" y="1267"/>
                  </a:lnTo>
                  <a:lnTo>
                    <a:pt x="0" y="1260"/>
                  </a:lnTo>
                  <a:lnTo>
                    <a:pt x="55" y="1228"/>
                  </a:lnTo>
                  <a:lnTo>
                    <a:pt x="110" y="1195"/>
                  </a:lnTo>
                  <a:lnTo>
                    <a:pt x="166" y="1161"/>
                  </a:lnTo>
                  <a:lnTo>
                    <a:pt x="224" y="1124"/>
                  </a:lnTo>
                  <a:lnTo>
                    <a:pt x="342" y="1048"/>
                  </a:lnTo>
                  <a:lnTo>
                    <a:pt x="467" y="966"/>
                  </a:lnTo>
                  <a:lnTo>
                    <a:pt x="596" y="881"/>
                  </a:lnTo>
                  <a:lnTo>
                    <a:pt x="732" y="793"/>
                  </a:lnTo>
                  <a:lnTo>
                    <a:pt x="802" y="748"/>
                  </a:lnTo>
                  <a:lnTo>
                    <a:pt x="873" y="704"/>
                  </a:lnTo>
                  <a:lnTo>
                    <a:pt x="947" y="658"/>
                  </a:lnTo>
                  <a:lnTo>
                    <a:pt x="1022" y="614"/>
                  </a:lnTo>
                  <a:lnTo>
                    <a:pt x="1098" y="569"/>
                  </a:lnTo>
                  <a:lnTo>
                    <a:pt x="1177" y="525"/>
                  </a:lnTo>
                  <a:lnTo>
                    <a:pt x="1256" y="480"/>
                  </a:lnTo>
                  <a:lnTo>
                    <a:pt x="1337" y="436"/>
                  </a:lnTo>
                  <a:lnTo>
                    <a:pt x="1420" y="394"/>
                  </a:lnTo>
                  <a:lnTo>
                    <a:pt x="1506" y="352"/>
                  </a:lnTo>
                  <a:lnTo>
                    <a:pt x="1593" y="309"/>
                  </a:lnTo>
                  <a:lnTo>
                    <a:pt x="1681" y="269"/>
                  </a:lnTo>
                  <a:lnTo>
                    <a:pt x="1771" y="231"/>
                  </a:lnTo>
                  <a:lnTo>
                    <a:pt x="1864" y="192"/>
                  </a:lnTo>
                  <a:lnTo>
                    <a:pt x="1958" y="157"/>
                  </a:lnTo>
                  <a:lnTo>
                    <a:pt x="2055" y="121"/>
                  </a:lnTo>
                  <a:lnTo>
                    <a:pt x="2153" y="88"/>
                  </a:lnTo>
                  <a:lnTo>
                    <a:pt x="2254" y="56"/>
                  </a:lnTo>
                  <a:lnTo>
                    <a:pt x="2355" y="28"/>
                  </a:lnTo>
                  <a:lnTo>
                    <a:pt x="2460" y="0"/>
                  </a:lnTo>
                  <a:lnTo>
                    <a:pt x="2635" y="113"/>
                  </a:lnTo>
                  <a:lnTo>
                    <a:pt x="2811" y="225"/>
                  </a:lnTo>
                  <a:lnTo>
                    <a:pt x="2901" y="281"/>
                  </a:lnTo>
                  <a:lnTo>
                    <a:pt x="2991" y="334"/>
                  </a:lnTo>
                  <a:lnTo>
                    <a:pt x="3083" y="387"/>
                  </a:lnTo>
                  <a:lnTo>
                    <a:pt x="3178" y="438"/>
                  </a:lnTo>
                  <a:lnTo>
                    <a:pt x="3226" y="463"/>
                  </a:lnTo>
                  <a:lnTo>
                    <a:pt x="3275" y="488"/>
                  </a:lnTo>
                  <a:lnTo>
                    <a:pt x="3324" y="512"/>
                  </a:lnTo>
                  <a:lnTo>
                    <a:pt x="3375" y="536"/>
                  </a:lnTo>
                  <a:lnTo>
                    <a:pt x="3425" y="559"/>
                  </a:lnTo>
                  <a:lnTo>
                    <a:pt x="3478" y="582"/>
                  </a:lnTo>
                  <a:lnTo>
                    <a:pt x="3530" y="605"/>
                  </a:lnTo>
                  <a:lnTo>
                    <a:pt x="3585" y="626"/>
                  </a:lnTo>
                  <a:lnTo>
                    <a:pt x="3639" y="647"/>
                  </a:lnTo>
                  <a:lnTo>
                    <a:pt x="3695" y="667"/>
                  </a:lnTo>
                  <a:lnTo>
                    <a:pt x="3752" y="688"/>
                  </a:lnTo>
                  <a:lnTo>
                    <a:pt x="3810" y="707"/>
                  </a:lnTo>
                  <a:lnTo>
                    <a:pt x="3871" y="725"/>
                  </a:lnTo>
                  <a:lnTo>
                    <a:pt x="3931" y="743"/>
                  </a:lnTo>
                  <a:lnTo>
                    <a:pt x="3993" y="760"/>
                  </a:lnTo>
                  <a:lnTo>
                    <a:pt x="4057" y="777"/>
                  </a:lnTo>
                  <a:lnTo>
                    <a:pt x="4318" y="703"/>
                  </a:lnTo>
                  <a:lnTo>
                    <a:pt x="4561" y="632"/>
                  </a:lnTo>
                  <a:lnTo>
                    <a:pt x="4789" y="564"/>
                  </a:lnTo>
                  <a:lnTo>
                    <a:pt x="5002" y="500"/>
                  </a:lnTo>
                  <a:lnTo>
                    <a:pt x="5202" y="440"/>
                  </a:lnTo>
                  <a:lnTo>
                    <a:pt x="5388" y="386"/>
                  </a:lnTo>
                  <a:lnTo>
                    <a:pt x="5477" y="360"/>
                  </a:lnTo>
                  <a:lnTo>
                    <a:pt x="5563" y="336"/>
                  </a:lnTo>
                  <a:lnTo>
                    <a:pt x="5646" y="313"/>
                  </a:lnTo>
                  <a:lnTo>
                    <a:pt x="5728" y="292"/>
                  </a:lnTo>
                  <a:lnTo>
                    <a:pt x="5807" y="272"/>
                  </a:lnTo>
                  <a:lnTo>
                    <a:pt x="5883" y="255"/>
                  </a:lnTo>
                  <a:lnTo>
                    <a:pt x="5959" y="238"/>
                  </a:lnTo>
                  <a:lnTo>
                    <a:pt x="6033" y="224"/>
                  </a:lnTo>
                  <a:lnTo>
                    <a:pt x="6105" y="211"/>
                  </a:lnTo>
                  <a:lnTo>
                    <a:pt x="6174" y="201"/>
                  </a:lnTo>
                  <a:lnTo>
                    <a:pt x="6244" y="192"/>
                  </a:lnTo>
                  <a:lnTo>
                    <a:pt x="6311" y="185"/>
                  </a:lnTo>
                  <a:lnTo>
                    <a:pt x="6378" y="181"/>
                  </a:lnTo>
                  <a:lnTo>
                    <a:pt x="6443" y="178"/>
                  </a:lnTo>
                  <a:lnTo>
                    <a:pt x="6509" y="178"/>
                  </a:lnTo>
                  <a:lnTo>
                    <a:pt x="6573" y="181"/>
                  </a:lnTo>
                  <a:lnTo>
                    <a:pt x="6638" y="186"/>
                  </a:lnTo>
                  <a:lnTo>
                    <a:pt x="6702" y="193"/>
                  </a:lnTo>
                  <a:lnTo>
                    <a:pt x="6766" y="202"/>
                  </a:lnTo>
                  <a:lnTo>
                    <a:pt x="6829" y="215"/>
                  </a:lnTo>
                  <a:lnTo>
                    <a:pt x="6885" y="239"/>
                  </a:lnTo>
                  <a:lnTo>
                    <a:pt x="6941" y="260"/>
                  </a:lnTo>
                  <a:lnTo>
                    <a:pt x="6998" y="283"/>
                  </a:lnTo>
                  <a:lnTo>
                    <a:pt x="7054" y="304"/>
                  </a:lnTo>
                  <a:lnTo>
                    <a:pt x="7168" y="346"/>
                  </a:lnTo>
                  <a:lnTo>
                    <a:pt x="7283" y="386"/>
                  </a:lnTo>
                  <a:lnTo>
                    <a:pt x="7399" y="425"/>
                  </a:lnTo>
                  <a:lnTo>
                    <a:pt x="7515" y="462"/>
                  </a:lnTo>
                  <a:lnTo>
                    <a:pt x="7632" y="500"/>
                  </a:lnTo>
                  <a:lnTo>
                    <a:pt x="7748" y="536"/>
                  </a:lnTo>
                  <a:lnTo>
                    <a:pt x="7864" y="574"/>
                  </a:lnTo>
                  <a:lnTo>
                    <a:pt x="7982" y="610"/>
                  </a:lnTo>
                  <a:lnTo>
                    <a:pt x="8098" y="648"/>
                  </a:lnTo>
                  <a:lnTo>
                    <a:pt x="8213" y="687"/>
                  </a:lnTo>
                  <a:lnTo>
                    <a:pt x="8328" y="728"/>
                  </a:lnTo>
                  <a:lnTo>
                    <a:pt x="8442" y="769"/>
                  </a:lnTo>
                  <a:lnTo>
                    <a:pt x="8499" y="790"/>
                  </a:lnTo>
                  <a:lnTo>
                    <a:pt x="8556" y="812"/>
                  </a:lnTo>
                  <a:lnTo>
                    <a:pt x="8612" y="835"/>
                  </a:lnTo>
                  <a:lnTo>
                    <a:pt x="8669" y="858"/>
                  </a:lnTo>
                  <a:lnTo>
                    <a:pt x="8850" y="809"/>
                  </a:lnTo>
                  <a:lnTo>
                    <a:pt x="9029" y="762"/>
                  </a:lnTo>
                  <a:lnTo>
                    <a:pt x="9119" y="739"/>
                  </a:lnTo>
                  <a:lnTo>
                    <a:pt x="9208" y="717"/>
                  </a:lnTo>
                  <a:lnTo>
                    <a:pt x="9298" y="696"/>
                  </a:lnTo>
                  <a:lnTo>
                    <a:pt x="9387" y="675"/>
                  </a:lnTo>
                  <a:lnTo>
                    <a:pt x="9476" y="655"/>
                  </a:lnTo>
                  <a:lnTo>
                    <a:pt x="9563" y="635"/>
                  </a:lnTo>
                  <a:lnTo>
                    <a:pt x="9652" y="617"/>
                  </a:lnTo>
                  <a:lnTo>
                    <a:pt x="9740" y="599"/>
                  </a:lnTo>
                  <a:lnTo>
                    <a:pt x="9829" y="582"/>
                  </a:lnTo>
                  <a:lnTo>
                    <a:pt x="9917" y="566"/>
                  </a:lnTo>
                  <a:lnTo>
                    <a:pt x="10006" y="551"/>
                  </a:lnTo>
                  <a:lnTo>
                    <a:pt x="10093" y="536"/>
                  </a:lnTo>
                  <a:lnTo>
                    <a:pt x="10181" y="523"/>
                  </a:lnTo>
                  <a:lnTo>
                    <a:pt x="10270" y="509"/>
                  </a:lnTo>
                  <a:lnTo>
                    <a:pt x="10358" y="497"/>
                  </a:lnTo>
                  <a:lnTo>
                    <a:pt x="10447" y="486"/>
                  </a:lnTo>
                  <a:lnTo>
                    <a:pt x="10534" y="476"/>
                  </a:lnTo>
                  <a:lnTo>
                    <a:pt x="10623" y="467"/>
                  </a:lnTo>
                  <a:lnTo>
                    <a:pt x="10712" y="459"/>
                  </a:lnTo>
                  <a:lnTo>
                    <a:pt x="10801" y="451"/>
                  </a:lnTo>
                  <a:lnTo>
                    <a:pt x="10890" y="445"/>
                  </a:lnTo>
                  <a:lnTo>
                    <a:pt x="10979" y="439"/>
                  </a:lnTo>
                  <a:lnTo>
                    <a:pt x="11068" y="435"/>
                  </a:lnTo>
                  <a:lnTo>
                    <a:pt x="11158" y="431"/>
                  </a:lnTo>
                  <a:lnTo>
                    <a:pt x="11248" y="430"/>
                  </a:lnTo>
                  <a:lnTo>
                    <a:pt x="11338" y="429"/>
                  </a:lnTo>
                  <a:lnTo>
                    <a:pt x="11428" y="429"/>
                  </a:lnTo>
                  <a:lnTo>
                    <a:pt x="11519" y="430"/>
                  </a:lnTo>
                  <a:lnTo>
                    <a:pt x="11590" y="442"/>
                  </a:lnTo>
                  <a:lnTo>
                    <a:pt x="11658" y="454"/>
                  </a:lnTo>
                  <a:lnTo>
                    <a:pt x="11724" y="468"/>
                  </a:lnTo>
                  <a:lnTo>
                    <a:pt x="11788" y="482"/>
                  </a:lnTo>
                  <a:lnTo>
                    <a:pt x="11850" y="496"/>
                  </a:lnTo>
                  <a:lnTo>
                    <a:pt x="11908" y="511"/>
                  </a:lnTo>
                  <a:lnTo>
                    <a:pt x="11965" y="527"/>
                  </a:lnTo>
                  <a:lnTo>
                    <a:pt x="12019" y="544"/>
                  </a:lnTo>
                  <a:lnTo>
                    <a:pt x="12072" y="561"/>
                  </a:lnTo>
                  <a:lnTo>
                    <a:pt x="12122" y="578"/>
                  </a:lnTo>
                  <a:lnTo>
                    <a:pt x="12171" y="597"/>
                  </a:lnTo>
                  <a:lnTo>
                    <a:pt x="12218" y="616"/>
                  </a:lnTo>
                  <a:lnTo>
                    <a:pt x="12262" y="635"/>
                  </a:lnTo>
                  <a:lnTo>
                    <a:pt x="12306" y="655"/>
                  </a:lnTo>
                  <a:lnTo>
                    <a:pt x="12347" y="675"/>
                  </a:lnTo>
                  <a:lnTo>
                    <a:pt x="12386" y="697"/>
                  </a:lnTo>
                  <a:lnTo>
                    <a:pt x="12388" y="786"/>
                  </a:lnTo>
                  <a:lnTo>
                    <a:pt x="12389" y="876"/>
                  </a:lnTo>
                  <a:lnTo>
                    <a:pt x="12390" y="966"/>
                  </a:lnTo>
                  <a:lnTo>
                    <a:pt x="12391" y="1056"/>
                  </a:lnTo>
                  <a:lnTo>
                    <a:pt x="12392" y="1147"/>
                  </a:lnTo>
                  <a:lnTo>
                    <a:pt x="12393" y="1237"/>
                  </a:lnTo>
                  <a:lnTo>
                    <a:pt x="12394" y="1329"/>
                  </a:lnTo>
                  <a:lnTo>
                    <a:pt x="12396" y="1419"/>
                  </a:lnTo>
                  <a:lnTo>
                    <a:pt x="12008" y="1408"/>
                  </a:lnTo>
                  <a:lnTo>
                    <a:pt x="11622" y="1399"/>
                  </a:lnTo>
                  <a:lnTo>
                    <a:pt x="11234" y="1391"/>
                  </a:lnTo>
                  <a:lnTo>
                    <a:pt x="10847" y="1384"/>
                  </a:lnTo>
                  <a:lnTo>
                    <a:pt x="10460" y="1380"/>
                  </a:lnTo>
                  <a:lnTo>
                    <a:pt x="10073" y="1376"/>
                  </a:lnTo>
                  <a:lnTo>
                    <a:pt x="9685" y="1374"/>
                  </a:lnTo>
                  <a:lnTo>
                    <a:pt x="9298" y="1372"/>
                  </a:lnTo>
                  <a:lnTo>
                    <a:pt x="8910" y="1372"/>
                  </a:lnTo>
                  <a:lnTo>
                    <a:pt x="8523" y="1372"/>
                  </a:lnTo>
                  <a:lnTo>
                    <a:pt x="8135" y="1373"/>
                  </a:lnTo>
                  <a:lnTo>
                    <a:pt x="7748" y="1374"/>
                  </a:lnTo>
                  <a:lnTo>
                    <a:pt x="6972" y="1378"/>
                  </a:lnTo>
                  <a:lnTo>
                    <a:pt x="6197" y="1381"/>
                  </a:lnTo>
                  <a:lnTo>
                    <a:pt x="5421" y="1384"/>
                  </a:lnTo>
                  <a:lnTo>
                    <a:pt x="4646" y="1387"/>
                  </a:lnTo>
                  <a:lnTo>
                    <a:pt x="4258" y="1388"/>
                  </a:lnTo>
                  <a:lnTo>
                    <a:pt x="3871" y="1387"/>
                  </a:lnTo>
                  <a:lnTo>
                    <a:pt x="3483" y="1386"/>
                  </a:lnTo>
                  <a:lnTo>
                    <a:pt x="3096" y="1383"/>
                  </a:lnTo>
                  <a:lnTo>
                    <a:pt x="2708" y="1381"/>
                  </a:lnTo>
                  <a:lnTo>
                    <a:pt x="2322" y="1376"/>
                  </a:lnTo>
                  <a:lnTo>
                    <a:pt x="1934" y="1371"/>
                  </a:lnTo>
                  <a:lnTo>
                    <a:pt x="1547" y="1364"/>
                  </a:lnTo>
                  <a:lnTo>
                    <a:pt x="1161" y="1355"/>
                  </a:lnTo>
                  <a:lnTo>
                    <a:pt x="774" y="1344"/>
                  </a:lnTo>
                  <a:lnTo>
                    <a:pt x="387" y="1332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3f9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598840" y="2703600"/>
              <a:ext cx="12600" cy="2412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9" y="2"/>
                  </a:moveTo>
                  <a:lnTo>
                    <a:pt x="0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37" y="76"/>
                  </a:lnTo>
                  <a:lnTo>
                    <a:pt x="37" y="68"/>
                  </a:lnTo>
                  <a:lnTo>
                    <a:pt x="37" y="61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7" y="39"/>
                  </a:lnTo>
                  <a:lnTo>
                    <a:pt x="37" y="32"/>
                  </a:lnTo>
                  <a:lnTo>
                    <a:pt x="37" y="25"/>
                  </a:lnTo>
                  <a:lnTo>
                    <a:pt x="37" y="18"/>
                  </a:lnTo>
                  <a:lnTo>
                    <a:pt x="28" y="3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02080" y="2303640"/>
              <a:ext cx="790560" cy="409680"/>
            </a:xfrm>
            <a:custGeom>
              <a:avLst/>
              <a:gdLst/>
              <a:ahLst/>
              <a:rect l="l" t="t" r="r" b="b"/>
              <a:pathLst>
                <a:path w="2487" h="1293">
                  <a:moveTo>
                    <a:pt x="2479" y="2"/>
                  </a:moveTo>
                  <a:lnTo>
                    <a:pt x="2464" y="0"/>
                  </a:lnTo>
                  <a:lnTo>
                    <a:pt x="2412" y="14"/>
                  </a:lnTo>
                  <a:lnTo>
                    <a:pt x="2359" y="28"/>
                  </a:lnTo>
                  <a:lnTo>
                    <a:pt x="2308" y="42"/>
                  </a:lnTo>
                  <a:lnTo>
                    <a:pt x="2257" y="57"/>
                  </a:lnTo>
                  <a:lnTo>
                    <a:pt x="2207" y="73"/>
                  </a:lnTo>
                  <a:lnTo>
                    <a:pt x="2157" y="89"/>
                  </a:lnTo>
                  <a:lnTo>
                    <a:pt x="2106" y="105"/>
                  </a:lnTo>
                  <a:lnTo>
                    <a:pt x="2057" y="122"/>
                  </a:lnTo>
                  <a:lnTo>
                    <a:pt x="1962" y="158"/>
                  </a:lnTo>
                  <a:lnTo>
                    <a:pt x="1867" y="194"/>
                  </a:lnTo>
                  <a:lnTo>
                    <a:pt x="1774" y="232"/>
                  </a:lnTo>
                  <a:lnTo>
                    <a:pt x="1682" y="270"/>
                  </a:lnTo>
                  <a:lnTo>
                    <a:pt x="1594" y="311"/>
                  </a:lnTo>
                  <a:lnTo>
                    <a:pt x="1507" y="352"/>
                  </a:lnTo>
                  <a:lnTo>
                    <a:pt x="1421" y="395"/>
                  </a:lnTo>
                  <a:lnTo>
                    <a:pt x="1338" y="438"/>
                  </a:lnTo>
                  <a:lnTo>
                    <a:pt x="1256" y="482"/>
                  </a:lnTo>
                  <a:lnTo>
                    <a:pt x="1176" y="527"/>
                  </a:lnTo>
                  <a:lnTo>
                    <a:pt x="1098" y="571"/>
                  </a:lnTo>
                  <a:lnTo>
                    <a:pt x="1021" y="616"/>
                  </a:lnTo>
                  <a:lnTo>
                    <a:pt x="946" y="661"/>
                  </a:lnTo>
                  <a:lnTo>
                    <a:pt x="873" y="706"/>
                  </a:lnTo>
                  <a:lnTo>
                    <a:pt x="801" y="751"/>
                  </a:lnTo>
                  <a:lnTo>
                    <a:pt x="731" y="796"/>
                  </a:lnTo>
                  <a:lnTo>
                    <a:pt x="595" y="884"/>
                  </a:lnTo>
                  <a:lnTo>
                    <a:pt x="465" y="969"/>
                  </a:lnTo>
                  <a:lnTo>
                    <a:pt x="341" y="1050"/>
                  </a:lnTo>
                  <a:lnTo>
                    <a:pt x="223" y="1128"/>
                  </a:lnTo>
                  <a:lnTo>
                    <a:pt x="166" y="1163"/>
                  </a:lnTo>
                  <a:lnTo>
                    <a:pt x="110" y="1198"/>
                  </a:lnTo>
                  <a:lnTo>
                    <a:pt x="54" y="1231"/>
                  </a:lnTo>
                  <a:lnTo>
                    <a:pt x="0" y="1262"/>
                  </a:lnTo>
                  <a:lnTo>
                    <a:pt x="19" y="1293"/>
                  </a:lnTo>
                  <a:lnTo>
                    <a:pt x="73" y="1262"/>
                  </a:lnTo>
                  <a:lnTo>
                    <a:pt x="128" y="1229"/>
                  </a:lnTo>
                  <a:lnTo>
                    <a:pt x="185" y="1194"/>
                  </a:lnTo>
                  <a:lnTo>
                    <a:pt x="242" y="1157"/>
                  </a:lnTo>
                  <a:lnTo>
                    <a:pt x="362" y="1081"/>
                  </a:lnTo>
                  <a:lnTo>
                    <a:pt x="486" y="999"/>
                  </a:lnTo>
                  <a:lnTo>
                    <a:pt x="616" y="914"/>
                  </a:lnTo>
                  <a:lnTo>
                    <a:pt x="751" y="827"/>
                  </a:lnTo>
                  <a:lnTo>
                    <a:pt x="821" y="782"/>
                  </a:lnTo>
                  <a:lnTo>
                    <a:pt x="893" y="737"/>
                  </a:lnTo>
                  <a:lnTo>
                    <a:pt x="966" y="692"/>
                  </a:lnTo>
                  <a:lnTo>
                    <a:pt x="1040" y="648"/>
                  </a:lnTo>
                  <a:lnTo>
                    <a:pt x="1116" y="602"/>
                  </a:lnTo>
                  <a:lnTo>
                    <a:pt x="1195" y="558"/>
                  </a:lnTo>
                  <a:lnTo>
                    <a:pt x="1273" y="514"/>
                  </a:lnTo>
                  <a:lnTo>
                    <a:pt x="1355" y="470"/>
                  </a:lnTo>
                  <a:lnTo>
                    <a:pt x="1439" y="428"/>
                  </a:lnTo>
                  <a:lnTo>
                    <a:pt x="1523" y="386"/>
                  </a:lnTo>
                  <a:lnTo>
                    <a:pt x="1610" y="344"/>
                  </a:lnTo>
                  <a:lnTo>
                    <a:pt x="1697" y="305"/>
                  </a:lnTo>
                  <a:lnTo>
                    <a:pt x="1787" y="265"/>
                  </a:lnTo>
                  <a:lnTo>
                    <a:pt x="1880" y="227"/>
                  </a:lnTo>
                  <a:lnTo>
                    <a:pt x="1974" y="191"/>
                  </a:lnTo>
                  <a:lnTo>
                    <a:pt x="2070" y="156"/>
                  </a:lnTo>
                  <a:lnTo>
                    <a:pt x="2119" y="139"/>
                  </a:lnTo>
                  <a:lnTo>
                    <a:pt x="2168" y="123"/>
                  </a:lnTo>
                  <a:lnTo>
                    <a:pt x="2217" y="107"/>
                  </a:lnTo>
                  <a:lnTo>
                    <a:pt x="2267" y="93"/>
                  </a:lnTo>
                  <a:lnTo>
                    <a:pt x="2318" y="78"/>
                  </a:lnTo>
                  <a:lnTo>
                    <a:pt x="2370" y="63"/>
                  </a:lnTo>
                  <a:lnTo>
                    <a:pt x="2421" y="49"/>
                  </a:lnTo>
                  <a:lnTo>
                    <a:pt x="2473" y="36"/>
                  </a:lnTo>
                  <a:lnTo>
                    <a:pt x="2459" y="33"/>
                  </a:lnTo>
                  <a:lnTo>
                    <a:pt x="2473" y="36"/>
                  </a:lnTo>
                  <a:lnTo>
                    <a:pt x="2477" y="34"/>
                  </a:lnTo>
                  <a:lnTo>
                    <a:pt x="2480" y="32"/>
                  </a:lnTo>
                  <a:lnTo>
                    <a:pt x="2484" y="30"/>
                  </a:lnTo>
                  <a:lnTo>
                    <a:pt x="2485" y="28"/>
                  </a:lnTo>
                  <a:lnTo>
                    <a:pt x="2486" y="24"/>
                  </a:lnTo>
                  <a:lnTo>
                    <a:pt x="2487" y="21"/>
                  </a:lnTo>
                  <a:lnTo>
                    <a:pt x="2487" y="17"/>
                  </a:lnTo>
                  <a:lnTo>
                    <a:pt x="2486" y="14"/>
                  </a:lnTo>
                  <a:lnTo>
                    <a:pt x="2486" y="10"/>
                  </a:lnTo>
                  <a:lnTo>
                    <a:pt x="2484" y="8"/>
                  </a:lnTo>
                  <a:lnTo>
                    <a:pt x="2481" y="5"/>
                  </a:lnTo>
                  <a:lnTo>
                    <a:pt x="2479" y="2"/>
                  </a:lnTo>
                  <a:lnTo>
                    <a:pt x="2476" y="1"/>
                  </a:lnTo>
                  <a:lnTo>
                    <a:pt x="2472" y="0"/>
                  </a:lnTo>
                  <a:lnTo>
                    <a:pt x="2469" y="0"/>
                  </a:lnTo>
                  <a:lnTo>
                    <a:pt x="2464" y="0"/>
                  </a:lnTo>
                  <a:lnTo>
                    <a:pt x="2479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382920" y="2303640"/>
              <a:ext cx="515880" cy="257400"/>
            </a:xfrm>
            <a:custGeom>
              <a:avLst/>
              <a:gdLst/>
              <a:ahLst/>
              <a:rect l="l" t="t" r="r" b="b"/>
              <a:pathLst>
                <a:path w="1625" h="811">
                  <a:moveTo>
                    <a:pt x="1602" y="775"/>
                  </a:moveTo>
                  <a:lnTo>
                    <a:pt x="1611" y="775"/>
                  </a:lnTo>
                  <a:lnTo>
                    <a:pt x="1547" y="759"/>
                  </a:lnTo>
                  <a:lnTo>
                    <a:pt x="1486" y="741"/>
                  </a:lnTo>
                  <a:lnTo>
                    <a:pt x="1425" y="723"/>
                  </a:lnTo>
                  <a:lnTo>
                    <a:pt x="1366" y="705"/>
                  </a:lnTo>
                  <a:lnTo>
                    <a:pt x="1308" y="687"/>
                  </a:lnTo>
                  <a:lnTo>
                    <a:pt x="1251" y="666"/>
                  </a:lnTo>
                  <a:lnTo>
                    <a:pt x="1196" y="646"/>
                  </a:lnTo>
                  <a:lnTo>
                    <a:pt x="1142" y="625"/>
                  </a:lnTo>
                  <a:lnTo>
                    <a:pt x="1088" y="604"/>
                  </a:lnTo>
                  <a:lnTo>
                    <a:pt x="1034" y="582"/>
                  </a:lnTo>
                  <a:lnTo>
                    <a:pt x="983" y="559"/>
                  </a:lnTo>
                  <a:lnTo>
                    <a:pt x="932" y="535"/>
                  </a:lnTo>
                  <a:lnTo>
                    <a:pt x="882" y="512"/>
                  </a:lnTo>
                  <a:lnTo>
                    <a:pt x="833" y="488"/>
                  </a:lnTo>
                  <a:lnTo>
                    <a:pt x="784" y="463"/>
                  </a:lnTo>
                  <a:lnTo>
                    <a:pt x="736" y="438"/>
                  </a:lnTo>
                  <a:lnTo>
                    <a:pt x="642" y="387"/>
                  </a:lnTo>
                  <a:lnTo>
                    <a:pt x="550" y="334"/>
                  </a:lnTo>
                  <a:lnTo>
                    <a:pt x="460" y="281"/>
                  </a:lnTo>
                  <a:lnTo>
                    <a:pt x="371" y="226"/>
                  </a:lnTo>
                  <a:lnTo>
                    <a:pt x="194" y="114"/>
                  </a:lnTo>
                  <a:lnTo>
                    <a:pt x="20" y="0"/>
                  </a:lnTo>
                  <a:lnTo>
                    <a:pt x="0" y="31"/>
                  </a:lnTo>
                  <a:lnTo>
                    <a:pt x="175" y="145"/>
                  </a:lnTo>
                  <a:lnTo>
                    <a:pt x="352" y="257"/>
                  </a:lnTo>
                  <a:lnTo>
                    <a:pt x="441" y="312"/>
                  </a:lnTo>
                  <a:lnTo>
                    <a:pt x="532" y="366"/>
                  </a:lnTo>
                  <a:lnTo>
                    <a:pt x="624" y="419"/>
                  </a:lnTo>
                  <a:lnTo>
                    <a:pt x="719" y="470"/>
                  </a:lnTo>
                  <a:lnTo>
                    <a:pt x="768" y="495"/>
                  </a:lnTo>
                  <a:lnTo>
                    <a:pt x="817" y="520"/>
                  </a:lnTo>
                  <a:lnTo>
                    <a:pt x="867" y="544"/>
                  </a:lnTo>
                  <a:lnTo>
                    <a:pt x="917" y="568"/>
                  </a:lnTo>
                  <a:lnTo>
                    <a:pt x="968" y="592"/>
                  </a:lnTo>
                  <a:lnTo>
                    <a:pt x="1021" y="615"/>
                  </a:lnTo>
                  <a:lnTo>
                    <a:pt x="1073" y="638"/>
                  </a:lnTo>
                  <a:lnTo>
                    <a:pt x="1128" y="659"/>
                  </a:lnTo>
                  <a:lnTo>
                    <a:pt x="1183" y="680"/>
                  </a:lnTo>
                  <a:lnTo>
                    <a:pt x="1240" y="700"/>
                  </a:lnTo>
                  <a:lnTo>
                    <a:pt x="1297" y="721"/>
                  </a:lnTo>
                  <a:lnTo>
                    <a:pt x="1356" y="740"/>
                  </a:lnTo>
                  <a:lnTo>
                    <a:pt x="1415" y="759"/>
                  </a:lnTo>
                  <a:lnTo>
                    <a:pt x="1477" y="777"/>
                  </a:lnTo>
                  <a:lnTo>
                    <a:pt x="1538" y="794"/>
                  </a:lnTo>
                  <a:lnTo>
                    <a:pt x="1602" y="810"/>
                  </a:lnTo>
                  <a:lnTo>
                    <a:pt x="1611" y="810"/>
                  </a:lnTo>
                  <a:lnTo>
                    <a:pt x="1602" y="810"/>
                  </a:lnTo>
                  <a:lnTo>
                    <a:pt x="1607" y="811"/>
                  </a:lnTo>
                  <a:lnTo>
                    <a:pt x="1610" y="810"/>
                  </a:lnTo>
                  <a:lnTo>
                    <a:pt x="1613" y="810"/>
                  </a:lnTo>
                  <a:lnTo>
                    <a:pt x="1617" y="808"/>
                  </a:lnTo>
                  <a:lnTo>
                    <a:pt x="1619" y="805"/>
                  </a:lnTo>
                  <a:lnTo>
                    <a:pt x="1621" y="803"/>
                  </a:lnTo>
                  <a:lnTo>
                    <a:pt x="1624" y="800"/>
                  </a:lnTo>
                  <a:lnTo>
                    <a:pt x="1624" y="796"/>
                  </a:lnTo>
                  <a:lnTo>
                    <a:pt x="1625" y="793"/>
                  </a:lnTo>
                  <a:lnTo>
                    <a:pt x="1625" y="790"/>
                  </a:lnTo>
                  <a:lnTo>
                    <a:pt x="1624" y="787"/>
                  </a:lnTo>
                  <a:lnTo>
                    <a:pt x="1622" y="784"/>
                  </a:lnTo>
                  <a:lnTo>
                    <a:pt x="1621" y="780"/>
                  </a:lnTo>
                  <a:lnTo>
                    <a:pt x="1618" y="778"/>
                  </a:lnTo>
                  <a:lnTo>
                    <a:pt x="1614" y="776"/>
                  </a:lnTo>
                  <a:lnTo>
                    <a:pt x="1611" y="775"/>
                  </a:lnTo>
                  <a:lnTo>
                    <a:pt x="1602" y="7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90880" y="2359440"/>
              <a:ext cx="889200" cy="201600"/>
            </a:xfrm>
            <a:custGeom>
              <a:avLst/>
              <a:gdLst/>
              <a:ahLst/>
              <a:rect l="l" t="t" r="r" b="b"/>
              <a:pathLst>
                <a:path w="2796" h="634">
                  <a:moveTo>
                    <a:pt x="2784" y="39"/>
                  </a:moveTo>
                  <a:lnTo>
                    <a:pt x="2781" y="38"/>
                  </a:lnTo>
                  <a:lnTo>
                    <a:pt x="2749" y="31"/>
                  </a:lnTo>
                  <a:lnTo>
                    <a:pt x="2716" y="25"/>
                  </a:lnTo>
                  <a:lnTo>
                    <a:pt x="2684" y="19"/>
                  </a:lnTo>
                  <a:lnTo>
                    <a:pt x="2652" y="15"/>
                  </a:lnTo>
                  <a:lnTo>
                    <a:pt x="2619" y="11"/>
                  </a:lnTo>
                  <a:lnTo>
                    <a:pt x="2587" y="8"/>
                  </a:lnTo>
                  <a:lnTo>
                    <a:pt x="2555" y="5"/>
                  </a:lnTo>
                  <a:lnTo>
                    <a:pt x="2522" y="3"/>
                  </a:lnTo>
                  <a:lnTo>
                    <a:pt x="2490" y="1"/>
                  </a:lnTo>
                  <a:lnTo>
                    <a:pt x="2457" y="1"/>
                  </a:lnTo>
                  <a:lnTo>
                    <a:pt x="2424" y="0"/>
                  </a:lnTo>
                  <a:lnTo>
                    <a:pt x="2391" y="0"/>
                  </a:lnTo>
                  <a:lnTo>
                    <a:pt x="2325" y="2"/>
                  </a:lnTo>
                  <a:lnTo>
                    <a:pt x="2258" y="7"/>
                  </a:lnTo>
                  <a:lnTo>
                    <a:pt x="2189" y="14"/>
                  </a:lnTo>
                  <a:lnTo>
                    <a:pt x="2120" y="23"/>
                  </a:lnTo>
                  <a:lnTo>
                    <a:pt x="2049" y="33"/>
                  </a:lnTo>
                  <a:lnTo>
                    <a:pt x="1977" y="46"/>
                  </a:lnTo>
                  <a:lnTo>
                    <a:pt x="1903" y="60"/>
                  </a:lnTo>
                  <a:lnTo>
                    <a:pt x="1828" y="76"/>
                  </a:lnTo>
                  <a:lnTo>
                    <a:pt x="1751" y="95"/>
                  </a:lnTo>
                  <a:lnTo>
                    <a:pt x="1672" y="114"/>
                  </a:lnTo>
                  <a:lnTo>
                    <a:pt x="1590" y="136"/>
                  </a:lnTo>
                  <a:lnTo>
                    <a:pt x="1507" y="158"/>
                  </a:lnTo>
                  <a:lnTo>
                    <a:pt x="1420" y="182"/>
                  </a:lnTo>
                  <a:lnTo>
                    <a:pt x="1331" y="208"/>
                  </a:lnTo>
                  <a:lnTo>
                    <a:pt x="1144" y="263"/>
                  </a:lnTo>
                  <a:lnTo>
                    <a:pt x="945" y="323"/>
                  </a:lnTo>
                  <a:lnTo>
                    <a:pt x="733" y="386"/>
                  </a:lnTo>
                  <a:lnTo>
                    <a:pt x="505" y="455"/>
                  </a:lnTo>
                  <a:lnTo>
                    <a:pt x="261" y="526"/>
                  </a:lnTo>
                  <a:lnTo>
                    <a:pt x="0" y="599"/>
                  </a:lnTo>
                  <a:lnTo>
                    <a:pt x="9" y="634"/>
                  </a:lnTo>
                  <a:lnTo>
                    <a:pt x="271" y="560"/>
                  </a:lnTo>
                  <a:lnTo>
                    <a:pt x="515" y="489"/>
                  </a:lnTo>
                  <a:lnTo>
                    <a:pt x="743" y="422"/>
                  </a:lnTo>
                  <a:lnTo>
                    <a:pt x="955" y="358"/>
                  </a:lnTo>
                  <a:lnTo>
                    <a:pt x="1154" y="298"/>
                  </a:lnTo>
                  <a:lnTo>
                    <a:pt x="1341" y="243"/>
                  </a:lnTo>
                  <a:lnTo>
                    <a:pt x="1429" y="218"/>
                  </a:lnTo>
                  <a:lnTo>
                    <a:pt x="1516" y="193"/>
                  </a:lnTo>
                  <a:lnTo>
                    <a:pt x="1599" y="170"/>
                  </a:lnTo>
                  <a:lnTo>
                    <a:pt x="1680" y="149"/>
                  </a:lnTo>
                  <a:lnTo>
                    <a:pt x="1760" y="130"/>
                  </a:lnTo>
                  <a:lnTo>
                    <a:pt x="1836" y="112"/>
                  </a:lnTo>
                  <a:lnTo>
                    <a:pt x="1911" y="96"/>
                  </a:lnTo>
                  <a:lnTo>
                    <a:pt x="1984" y="81"/>
                  </a:lnTo>
                  <a:lnTo>
                    <a:pt x="2055" y="70"/>
                  </a:lnTo>
                  <a:lnTo>
                    <a:pt x="2124" y="58"/>
                  </a:lnTo>
                  <a:lnTo>
                    <a:pt x="2193" y="50"/>
                  </a:lnTo>
                  <a:lnTo>
                    <a:pt x="2260" y="43"/>
                  </a:lnTo>
                  <a:lnTo>
                    <a:pt x="2326" y="39"/>
                  </a:lnTo>
                  <a:lnTo>
                    <a:pt x="2392" y="37"/>
                  </a:lnTo>
                  <a:lnTo>
                    <a:pt x="2424" y="37"/>
                  </a:lnTo>
                  <a:lnTo>
                    <a:pt x="2456" y="37"/>
                  </a:lnTo>
                  <a:lnTo>
                    <a:pt x="2488" y="38"/>
                  </a:lnTo>
                  <a:lnTo>
                    <a:pt x="2520" y="39"/>
                  </a:lnTo>
                  <a:lnTo>
                    <a:pt x="2552" y="41"/>
                  </a:lnTo>
                  <a:lnTo>
                    <a:pt x="2584" y="43"/>
                  </a:lnTo>
                  <a:lnTo>
                    <a:pt x="2616" y="47"/>
                  </a:lnTo>
                  <a:lnTo>
                    <a:pt x="2647" y="51"/>
                  </a:lnTo>
                  <a:lnTo>
                    <a:pt x="2678" y="56"/>
                  </a:lnTo>
                  <a:lnTo>
                    <a:pt x="2710" y="60"/>
                  </a:lnTo>
                  <a:lnTo>
                    <a:pt x="2742" y="66"/>
                  </a:lnTo>
                  <a:lnTo>
                    <a:pt x="2774" y="73"/>
                  </a:lnTo>
                  <a:lnTo>
                    <a:pt x="2771" y="72"/>
                  </a:lnTo>
                  <a:lnTo>
                    <a:pt x="2774" y="73"/>
                  </a:lnTo>
                  <a:lnTo>
                    <a:pt x="2777" y="73"/>
                  </a:lnTo>
                  <a:lnTo>
                    <a:pt x="2782" y="73"/>
                  </a:lnTo>
                  <a:lnTo>
                    <a:pt x="2785" y="72"/>
                  </a:lnTo>
                  <a:lnTo>
                    <a:pt x="2788" y="70"/>
                  </a:lnTo>
                  <a:lnTo>
                    <a:pt x="2790" y="67"/>
                  </a:lnTo>
                  <a:lnTo>
                    <a:pt x="2792" y="65"/>
                  </a:lnTo>
                  <a:lnTo>
                    <a:pt x="2794" y="62"/>
                  </a:lnTo>
                  <a:lnTo>
                    <a:pt x="2794" y="59"/>
                  </a:lnTo>
                  <a:lnTo>
                    <a:pt x="2796" y="56"/>
                  </a:lnTo>
                  <a:lnTo>
                    <a:pt x="2796" y="52"/>
                  </a:lnTo>
                  <a:lnTo>
                    <a:pt x="2794" y="49"/>
                  </a:lnTo>
                  <a:lnTo>
                    <a:pt x="2793" y="46"/>
                  </a:lnTo>
                  <a:lnTo>
                    <a:pt x="2791" y="43"/>
                  </a:lnTo>
                  <a:lnTo>
                    <a:pt x="2789" y="40"/>
                  </a:lnTo>
                  <a:lnTo>
                    <a:pt x="2785" y="39"/>
                  </a:lnTo>
                  <a:lnTo>
                    <a:pt x="2781" y="38"/>
                  </a:lnTo>
                  <a:lnTo>
                    <a:pt x="2784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772160" y="2372040"/>
              <a:ext cx="590400" cy="216000"/>
            </a:xfrm>
            <a:custGeom>
              <a:avLst/>
              <a:gdLst/>
              <a:ahLst/>
              <a:rect l="l" t="t" r="r" b="b"/>
              <a:pathLst>
                <a:path w="1864" h="677">
                  <a:moveTo>
                    <a:pt x="1840" y="642"/>
                  </a:moveTo>
                  <a:lnTo>
                    <a:pt x="1853" y="642"/>
                  </a:lnTo>
                  <a:lnTo>
                    <a:pt x="1796" y="619"/>
                  </a:lnTo>
                  <a:lnTo>
                    <a:pt x="1740" y="596"/>
                  </a:lnTo>
                  <a:lnTo>
                    <a:pt x="1683" y="574"/>
                  </a:lnTo>
                  <a:lnTo>
                    <a:pt x="1626" y="553"/>
                  </a:lnTo>
                  <a:lnTo>
                    <a:pt x="1511" y="511"/>
                  </a:lnTo>
                  <a:lnTo>
                    <a:pt x="1396" y="471"/>
                  </a:lnTo>
                  <a:lnTo>
                    <a:pt x="1281" y="432"/>
                  </a:lnTo>
                  <a:lnTo>
                    <a:pt x="1164" y="394"/>
                  </a:lnTo>
                  <a:lnTo>
                    <a:pt x="1047" y="357"/>
                  </a:lnTo>
                  <a:lnTo>
                    <a:pt x="931" y="320"/>
                  </a:lnTo>
                  <a:lnTo>
                    <a:pt x="814" y="284"/>
                  </a:lnTo>
                  <a:lnTo>
                    <a:pt x="697" y="246"/>
                  </a:lnTo>
                  <a:lnTo>
                    <a:pt x="582" y="208"/>
                  </a:lnTo>
                  <a:lnTo>
                    <a:pt x="466" y="170"/>
                  </a:lnTo>
                  <a:lnTo>
                    <a:pt x="352" y="130"/>
                  </a:lnTo>
                  <a:lnTo>
                    <a:pt x="238" y="88"/>
                  </a:lnTo>
                  <a:lnTo>
                    <a:pt x="181" y="67"/>
                  </a:lnTo>
                  <a:lnTo>
                    <a:pt x="125" y="44"/>
                  </a:lnTo>
                  <a:lnTo>
                    <a:pt x="69" y="23"/>
                  </a:lnTo>
                  <a:lnTo>
                    <a:pt x="13" y="0"/>
                  </a:lnTo>
                  <a:lnTo>
                    <a:pt x="0" y="33"/>
                  </a:lnTo>
                  <a:lnTo>
                    <a:pt x="55" y="56"/>
                  </a:lnTo>
                  <a:lnTo>
                    <a:pt x="111" y="78"/>
                  </a:lnTo>
                  <a:lnTo>
                    <a:pt x="168" y="100"/>
                  </a:lnTo>
                  <a:lnTo>
                    <a:pt x="225" y="122"/>
                  </a:lnTo>
                  <a:lnTo>
                    <a:pt x="339" y="164"/>
                  </a:lnTo>
                  <a:lnTo>
                    <a:pt x="454" y="204"/>
                  </a:lnTo>
                  <a:lnTo>
                    <a:pt x="571" y="243"/>
                  </a:lnTo>
                  <a:lnTo>
                    <a:pt x="687" y="280"/>
                  </a:lnTo>
                  <a:lnTo>
                    <a:pt x="803" y="318"/>
                  </a:lnTo>
                  <a:lnTo>
                    <a:pt x="919" y="354"/>
                  </a:lnTo>
                  <a:lnTo>
                    <a:pt x="1037" y="392"/>
                  </a:lnTo>
                  <a:lnTo>
                    <a:pt x="1153" y="428"/>
                  </a:lnTo>
                  <a:lnTo>
                    <a:pt x="1269" y="467"/>
                  </a:lnTo>
                  <a:lnTo>
                    <a:pt x="1384" y="505"/>
                  </a:lnTo>
                  <a:lnTo>
                    <a:pt x="1499" y="546"/>
                  </a:lnTo>
                  <a:lnTo>
                    <a:pt x="1613" y="587"/>
                  </a:lnTo>
                  <a:lnTo>
                    <a:pt x="1670" y="609"/>
                  </a:lnTo>
                  <a:lnTo>
                    <a:pt x="1726" y="630"/>
                  </a:lnTo>
                  <a:lnTo>
                    <a:pt x="1782" y="653"/>
                  </a:lnTo>
                  <a:lnTo>
                    <a:pt x="1838" y="676"/>
                  </a:lnTo>
                  <a:lnTo>
                    <a:pt x="1850" y="676"/>
                  </a:lnTo>
                  <a:lnTo>
                    <a:pt x="1838" y="676"/>
                  </a:lnTo>
                  <a:lnTo>
                    <a:pt x="1842" y="677"/>
                  </a:lnTo>
                  <a:lnTo>
                    <a:pt x="1846" y="677"/>
                  </a:lnTo>
                  <a:lnTo>
                    <a:pt x="1850" y="677"/>
                  </a:lnTo>
                  <a:lnTo>
                    <a:pt x="1853" y="676"/>
                  </a:lnTo>
                  <a:lnTo>
                    <a:pt x="1856" y="674"/>
                  </a:lnTo>
                  <a:lnTo>
                    <a:pt x="1858" y="671"/>
                  </a:lnTo>
                  <a:lnTo>
                    <a:pt x="1861" y="669"/>
                  </a:lnTo>
                  <a:lnTo>
                    <a:pt x="1862" y="666"/>
                  </a:lnTo>
                  <a:lnTo>
                    <a:pt x="1863" y="662"/>
                  </a:lnTo>
                  <a:lnTo>
                    <a:pt x="1864" y="659"/>
                  </a:lnTo>
                  <a:lnTo>
                    <a:pt x="1863" y="655"/>
                  </a:lnTo>
                  <a:lnTo>
                    <a:pt x="1863" y="652"/>
                  </a:lnTo>
                  <a:lnTo>
                    <a:pt x="1861" y="650"/>
                  </a:lnTo>
                  <a:lnTo>
                    <a:pt x="1859" y="646"/>
                  </a:lnTo>
                  <a:lnTo>
                    <a:pt x="1856" y="644"/>
                  </a:lnTo>
                  <a:lnTo>
                    <a:pt x="1853" y="642"/>
                  </a:lnTo>
                  <a:lnTo>
                    <a:pt x="1840" y="6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356080" y="2440080"/>
              <a:ext cx="911520" cy="146160"/>
            </a:xfrm>
            <a:custGeom>
              <a:avLst/>
              <a:gdLst/>
              <a:ahLst/>
              <a:rect l="l" t="t" r="r" b="b"/>
              <a:pathLst>
                <a:path w="2874" h="464">
                  <a:moveTo>
                    <a:pt x="2858" y="1"/>
                  </a:moveTo>
                  <a:lnTo>
                    <a:pt x="2856" y="1"/>
                  </a:lnTo>
                  <a:lnTo>
                    <a:pt x="2765" y="0"/>
                  </a:lnTo>
                  <a:lnTo>
                    <a:pt x="2675" y="0"/>
                  </a:lnTo>
                  <a:lnTo>
                    <a:pt x="2584" y="1"/>
                  </a:lnTo>
                  <a:lnTo>
                    <a:pt x="2494" y="2"/>
                  </a:lnTo>
                  <a:lnTo>
                    <a:pt x="2405" y="6"/>
                  </a:lnTo>
                  <a:lnTo>
                    <a:pt x="2315" y="10"/>
                  </a:lnTo>
                  <a:lnTo>
                    <a:pt x="2226" y="16"/>
                  </a:lnTo>
                  <a:lnTo>
                    <a:pt x="2136" y="21"/>
                  </a:lnTo>
                  <a:lnTo>
                    <a:pt x="2047" y="29"/>
                  </a:lnTo>
                  <a:lnTo>
                    <a:pt x="1958" y="37"/>
                  </a:lnTo>
                  <a:lnTo>
                    <a:pt x="1870" y="47"/>
                  </a:lnTo>
                  <a:lnTo>
                    <a:pt x="1781" y="57"/>
                  </a:lnTo>
                  <a:lnTo>
                    <a:pt x="1693" y="68"/>
                  </a:lnTo>
                  <a:lnTo>
                    <a:pt x="1605" y="81"/>
                  </a:lnTo>
                  <a:lnTo>
                    <a:pt x="1516" y="93"/>
                  </a:lnTo>
                  <a:lnTo>
                    <a:pt x="1428" y="107"/>
                  </a:lnTo>
                  <a:lnTo>
                    <a:pt x="1339" y="122"/>
                  </a:lnTo>
                  <a:lnTo>
                    <a:pt x="1251" y="138"/>
                  </a:lnTo>
                  <a:lnTo>
                    <a:pt x="1163" y="154"/>
                  </a:lnTo>
                  <a:lnTo>
                    <a:pt x="1074" y="171"/>
                  </a:lnTo>
                  <a:lnTo>
                    <a:pt x="986" y="188"/>
                  </a:lnTo>
                  <a:lnTo>
                    <a:pt x="897" y="207"/>
                  </a:lnTo>
                  <a:lnTo>
                    <a:pt x="808" y="227"/>
                  </a:lnTo>
                  <a:lnTo>
                    <a:pt x="719" y="246"/>
                  </a:lnTo>
                  <a:lnTo>
                    <a:pt x="630" y="267"/>
                  </a:lnTo>
                  <a:lnTo>
                    <a:pt x="541" y="288"/>
                  </a:lnTo>
                  <a:lnTo>
                    <a:pt x="451" y="310"/>
                  </a:lnTo>
                  <a:lnTo>
                    <a:pt x="361" y="333"/>
                  </a:lnTo>
                  <a:lnTo>
                    <a:pt x="181" y="379"/>
                  </a:lnTo>
                  <a:lnTo>
                    <a:pt x="0" y="430"/>
                  </a:lnTo>
                  <a:lnTo>
                    <a:pt x="10" y="464"/>
                  </a:lnTo>
                  <a:lnTo>
                    <a:pt x="192" y="415"/>
                  </a:lnTo>
                  <a:lnTo>
                    <a:pt x="370" y="368"/>
                  </a:lnTo>
                  <a:lnTo>
                    <a:pt x="461" y="345"/>
                  </a:lnTo>
                  <a:lnTo>
                    <a:pt x="549" y="324"/>
                  </a:lnTo>
                  <a:lnTo>
                    <a:pt x="638" y="302"/>
                  </a:lnTo>
                  <a:lnTo>
                    <a:pt x="727" y="281"/>
                  </a:lnTo>
                  <a:lnTo>
                    <a:pt x="816" y="262"/>
                  </a:lnTo>
                  <a:lnTo>
                    <a:pt x="905" y="243"/>
                  </a:lnTo>
                  <a:lnTo>
                    <a:pt x="993" y="224"/>
                  </a:lnTo>
                  <a:lnTo>
                    <a:pt x="1082" y="206"/>
                  </a:lnTo>
                  <a:lnTo>
                    <a:pt x="1169" y="189"/>
                  </a:lnTo>
                  <a:lnTo>
                    <a:pt x="1257" y="173"/>
                  </a:lnTo>
                  <a:lnTo>
                    <a:pt x="1345" y="157"/>
                  </a:lnTo>
                  <a:lnTo>
                    <a:pt x="1434" y="142"/>
                  </a:lnTo>
                  <a:lnTo>
                    <a:pt x="1522" y="129"/>
                  </a:lnTo>
                  <a:lnTo>
                    <a:pt x="1609" y="116"/>
                  </a:lnTo>
                  <a:lnTo>
                    <a:pt x="1697" y="105"/>
                  </a:lnTo>
                  <a:lnTo>
                    <a:pt x="1786" y="93"/>
                  </a:lnTo>
                  <a:lnTo>
                    <a:pt x="1874" y="83"/>
                  </a:lnTo>
                  <a:lnTo>
                    <a:pt x="1961" y="74"/>
                  </a:lnTo>
                  <a:lnTo>
                    <a:pt x="2050" y="66"/>
                  </a:lnTo>
                  <a:lnTo>
                    <a:pt x="2139" y="58"/>
                  </a:lnTo>
                  <a:lnTo>
                    <a:pt x="2228" y="52"/>
                  </a:lnTo>
                  <a:lnTo>
                    <a:pt x="2317" y="47"/>
                  </a:lnTo>
                  <a:lnTo>
                    <a:pt x="2406" y="42"/>
                  </a:lnTo>
                  <a:lnTo>
                    <a:pt x="2495" y="39"/>
                  </a:lnTo>
                  <a:lnTo>
                    <a:pt x="2585" y="36"/>
                  </a:lnTo>
                  <a:lnTo>
                    <a:pt x="2675" y="36"/>
                  </a:lnTo>
                  <a:lnTo>
                    <a:pt x="2765" y="36"/>
                  </a:lnTo>
                  <a:lnTo>
                    <a:pt x="2855" y="37"/>
                  </a:lnTo>
                  <a:lnTo>
                    <a:pt x="2853" y="36"/>
                  </a:lnTo>
                  <a:lnTo>
                    <a:pt x="2855" y="37"/>
                  </a:lnTo>
                  <a:lnTo>
                    <a:pt x="2860" y="36"/>
                  </a:lnTo>
                  <a:lnTo>
                    <a:pt x="2863" y="35"/>
                  </a:lnTo>
                  <a:lnTo>
                    <a:pt x="2866" y="34"/>
                  </a:lnTo>
                  <a:lnTo>
                    <a:pt x="2869" y="32"/>
                  </a:lnTo>
                  <a:lnTo>
                    <a:pt x="2871" y="28"/>
                  </a:lnTo>
                  <a:lnTo>
                    <a:pt x="2872" y="26"/>
                  </a:lnTo>
                  <a:lnTo>
                    <a:pt x="2873" y="23"/>
                  </a:lnTo>
                  <a:lnTo>
                    <a:pt x="2874" y="19"/>
                  </a:lnTo>
                  <a:lnTo>
                    <a:pt x="2873" y="16"/>
                  </a:lnTo>
                  <a:lnTo>
                    <a:pt x="2873" y="12"/>
                  </a:lnTo>
                  <a:lnTo>
                    <a:pt x="2872" y="9"/>
                  </a:lnTo>
                  <a:lnTo>
                    <a:pt x="2870" y="7"/>
                  </a:lnTo>
                  <a:lnTo>
                    <a:pt x="2868" y="4"/>
                  </a:lnTo>
                  <a:lnTo>
                    <a:pt x="2864" y="2"/>
                  </a:lnTo>
                  <a:lnTo>
                    <a:pt x="2861" y="1"/>
                  </a:lnTo>
                  <a:lnTo>
                    <a:pt x="2856" y="1"/>
                  </a:lnTo>
                  <a:lnTo>
                    <a:pt x="2858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61120" y="2440080"/>
              <a:ext cx="282600" cy="95400"/>
            </a:xfrm>
            <a:custGeom>
              <a:avLst/>
              <a:gdLst/>
              <a:ahLst/>
              <a:rect l="l" t="t" r="r" b="b"/>
              <a:pathLst>
                <a:path w="889" h="303">
                  <a:moveTo>
                    <a:pt x="889" y="285"/>
                  </a:moveTo>
                  <a:lnTo>
                    <a:pt x="880" y="269"/>
                  </a:lnTo>
                  <a:lnTo>
                    <a:pt x="839" y="247"/>
                  </a:lnTo>
                  <a:lnTo>
                    <a:pt x="797" y="227"/>
                  </a:lnTo>
                  <a:lnTo>
                    <a:pt x="754" y="206"/>
                  </a:lnTo>
                  <a:lnTo>
                    <a:pt x="709" y="187"/>
                  </a:lnTo>
                  <a:lnTo>
                    <a:pt x="662" y="169"/>
                  </a:lnTo>
                  <a:lnTo>
                    <a:pt x="613" y="149"/>
                  </a:lnTo>
                  <a:lnTo>
                    <a:pt x="562" y="132"/>
                  </a:lnTo>
                  <a:lnTo>
                    <a:pt x="509" y="114"/>
                  </a:lnTo>
                  <a:lnTo>
                    <a:pt x="454" y="98"/>
                  </a:lnTo>
                  <a:lnTo>
                    <a:pt x="397" y="82"/>
                  </a:lnTo>
                  <a:lnTo>
                    <a:pt x="337" y="66"/>
                  </a:lnTo>
                  <a:lnTo>
                    <a:pt x="277" y="51"/>
                  </a:lnTo>
                  <a:lnTo>
                    <a:pt x="212" y="38"/>
                  </a:lnTo>
                  <a:lnTo>
                    <a:pt x="146" y="24"/>
                  </a:lnTo>
                  <a:lnTo>
                    <a:pt x="77" y="11"/>
                  </a:lnTo>
                  <a:lnTo>
                    <a:pt x="5" y="0"/>
                  </a:lnTo>
                  <a:lnTo>
                    <a:pt x="0" y="35"/>
                  </a:lnTo>
                  <a:lnTo>
                    <a:pt x="70" y="48"/>
                  </a:lnTo>
                  <a:lnTo>
                    <a:pt x="139" y="60"/>
                  </a:lnTo>
                  <a:lnTo>
                    <a:pt x="205" y="73"/>
                  </a:lnTo>
                  <a:lnTo>
                    <a:pt x="268" y="87"/>
                  </a:lnTo>
                  <a:lnTo>
                    <a:pt x="329" y="101"/>
                  </a:lnTo>
                  <a:lnTo>
                    <a:pt x="387" y="116"/>
                  </a:lnTo>
                  <a:lnTo>
                    <a:pt x="444" y="132"/>
                  </a:lnTo>
                  <a:lnTo>
                    <a:pt x="498" y="149"/>
                  </a:lnTo>
                  <a:lnTo>
                    <a:pt x="550" y="166"/>
                  </a:lnTo>
                  <a:lnTo>
                    <a:pt x="600" y="184"/>
                  </a:lnTo>
                  <a:lnTo>
                    <a:pt x="648" y="202"/>
                  </a:lnTo>
                  <a:lnTo>
                    <a:pt x="695" y="221"/>
                  </a:lnTo>
                  <a:lnTo>
                    <a:pt x="739" y="241"/>
                  </a:lnTo>
                  <a:lnTo>
                    <a:pt x="782" y="260"/>
                  </a:lnTo>
                  <a:lnTo>
                    <a:pt x="823" y="280"/>
                  </a:lnTo>
                  <a:lnTo>
                    <a:pt x="861" y="301"/>
                  </a:lnTo>
                  <a:lnTo>
                    <a:pt x="852" y="285"/>
                  </a:lnTo>
                  <a:lnTo>
                    <a:pt x="861" y="301"/>
                  </a:lnTo>
                  <a:lnTo>
                    <a:pt x="866" y="302"/>
                  </a:lnTo>
                  <a:lnTo>
                    <a:pt x="869" y="303"/>
                  </a:lnTo>
                  <a:lnTo>
                    <a:pt x="873" y="303"/>
                  </a:lnTo>
                  <a:lnTo>
                    <a:pt x="876" y="302"/>
                  </a:lnTo>
                  <a:lnTo>
                    <a:pt x="880" y="301"/>
                  </a:lnTo>
                  <a:lnTo>
                    <a:pt x="882" y="299"/>
                  </a:lnTo>
                  <a:lnTo>
                    <a:pt x="884" y="296"/>
                  </a:lnTo>
                  <a:lnTo>
                    <a:pt x="886" y="293"/>
                  </a:lnTo>
                  <a:lnTo>
                    <a:pt x="888" y="291"/>
                  </a:lnTo>
                  <a:lnTo>
                    <a:pt x="889" y="287"/>
                  </a:lnTo>
                  <a:lnTo>
                    <a:pt x="889" y="284"/>
                  </a:lnTo>
                  <a:lnTo>
                    <a:pt x="889" y="280"/>
                  </a:lnTo>
                  <a:lnTo>
                    <a:pt x="888" y="277"/>
                  </a:lnTo>
                  <a:lnTo>
                    <a:pt x="885" y="274"/>
                  </a:lnTo>
                  <a:lnTo>
                    <a:pt x="883" y="271"/>
                  </a:lnTo>
                  <a:lnTo>
                    <a:pt x="880" y="269"/>
                  </a:lnTo>
                  <a:lnTo>
                    <a:pt x="889" y="2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32560" y="2530800"/>
              <a:ext cx="14400" cy="234720"/>
            </a:xfrm>
            <a:custGeom>
              <a:avLst/>
              <a:gdLst/>
              <a:ahLst/>
              <a:rect l="l" t="t" r="r" b="b"/>
              <a:pathLst>
                <a:path w="46" h="740">
                  <a:moveTo>
                    <a:pt x="26" y="740"/>
                  </a:moveTo>
                  <a:lnTo>
                    <a:pt x="46" y="722"/>
                  </a:lnTo>
                  <a:lnTo>
                    <a:pt x="45" y="632"/>
                  </a:lnTo>
                  <a:lnTo>
                    <a:pt x="44" y="540"/>
                  </a:lnTo>
                  <a:lnTo>
                    <a:pt x="42" y="450"/>
                  </a:lnTo>
                  <a:lnTo>
                    <a:pt x="41" y="359"/>
                  </a:lnTo>
                  <a:lnTo>
                    <a:pt x="40" y="269"/>
                  </a:lnTo>
                  <a:lnTo>
                    <a:pt x="39" y="179"/>
                  </a:lnTo>
                  <a:lnTo>
                    <a:pt x="38" y="89"/>
                  </a:lnTo>
                  <a:lnTo>
                    <a:pt x="37" y="0"/>
                  </a:lnTo>
                  <a:lnTo>
                    <a:pt x="0" y="0"/>
                  </a:lnTo>
                  <a:lnTo>
                    <a:pt x="1" y="90"/>
                  </a:lnTo>
                  <a:lnTo>
                    <a:pt x="2" y="179"/>
                  </a:lnTo>
                  <a:lnTo>
                    <a:pt x="4" y="269"/>
                  </a:lnTo>
                  <a:lnTo>
                    <a:pt x="5" y="360"/>
                  </a:lnTo>
                  <a:lnTo>
                    <a:pt x="6" y="450"/>
                  </a:lnTo>
                  <a:lnTo>
                    <a:pt x="7" y="540"/>
                  </a:lnTo>
                  <a:lnTo>
                    <a:pt x="8" y="632"/>
                  </a:lnTo>
                  <a:lnTo>
                    <a:pt x="9" y="722"/>
                  </a:lnTo>
                  <a:lnTo>
                    <a:pt x="28" y="703"/>
                  </a:lnTo>
                  <a:lnTo>
                    <a:pt x="9" y="722"/>
                  </a:lnTo>
                  <a:lnTo>
                    <a:pt x="9" y="726"/>
                  </a:lnTo>
                  <a:lnTo>
                    <a:pt x="10" y="730"/>
                  </a:lnTo>
                  <a:lnTo>
                    <a:pt x="13" y="733"/>
                  </a:lnTo>
                  <a:lnTo>
                    <a:pt x="15" y="735"/>
                  </a:lnTo>
                  <a:lnTo>
                    <a:pt x="17" y="738"/>
                  </a:lnTo>
                  <a:lnTo>
                    <a:pt x="21" y="739"/>
                  </a:lnTo>
                  <a:lnTo>
                    <a:pt x="24" y="740"/>
                  </a:lnTo>
                  <a:lnTo>
                    <a:pt x="28" y="740"/>
                  </a:lnTo>
                  <a:lnTo>
                    <a:pt x="31" y="740"/>
                  </a:lnTo>
                  <a:lnTo>
                    <a:pt x="33" y="739"/>
                  </a:lnTo>
                  <a:lnTo>
                    <a:pt x="37" y="738"/>
                  </a:lnTo>
                  <a:lnTo>
                    <a:pt x="40" y="735"/>
                  </a:lnTo>
                  <a:lnTo>
                    <a:pt x="42" y="733"/>
                  </a:lnTo>
                  <a:lnTo>
                    <a:pt x="44" y="730"/>
                  </a:lnTo>
                  <a:lnTo>
                    <a:pt x="45" y="726"/>
                  </a:lnTo>
                  <a:lnTo>
                    <a:pt x="46" y="722"/>
                  </a:lnTo>
                  <a:lnTo>
                    <a:pt x="26" y="7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8840" y="2721240"/>
              <a:ext cx="3941640" cy="44280"/>
            </a:xfrm>
            <a:custGeom>
              <a:avLst/>
              <a:gdLst/>
              <a:ahLst/>
              <a:rect l="l" t="t" r="r" b="b"/>
              <a:pathLst>
                <a:path w="12414" h="137">
                  <a:moveTo>
                    <a:pt x="0" y="18"/>
                  </a:moveTo>
                  <a:lnTo>
                    <a:pt x="18" y="37"/>
                  </a:lnTo>
                  <a:lnTo>
                    <a:pt x="405" y="50"/>
                  </a:lnTo>
                  <a:lnTo>
                    <a:pt x="791" y="63"/>
                  </a:lnTo>
                  <a:lnTo>
                    <a:pt x="1179" y="73"/>
                  </a:lnTo>
                  <a:lnTo>
                    <a:pt x="1565" y="81"/>
                  </a:lnTo>
                  <a:lnTo>
                    <a:pt x="1952" y="89"/>
                  </a:lnTo>
                  <a:lnTo>
                    <a:pt x="2339" y="95"/>
                  </a:lnTo>
                  <a:lnTo>
                    <a:pt x="2726" y="98"/>
                  </a:lnTo>
                  <a:lnTo>
                    <a:pt x="3114" y="101"/>
                  </a:lnTo>
                  <a:lnTo>
                    <a:pt x="3501" y="104"/>
                  </a:lnTo>
                  <a:lnTo>
                    <a:pt x="3889" y="105"/>
                  </a:lnTo>
                  <a:lnTo>
                    <a:pt x="4276" y="106"/>
                  </a:lnTo>
                  <a:lnTo>
                    <a:pt x="4664" y="105"/>
                  </a:lnTo>
                  <a:lnTo>
                    <a:pt x="5439" y="103"/>
                  </a:lnTo>
                  <a:lnTo>
                    <a:pt x="6215" y="99"/>
                  </a:lnTo>
                  <a:lnTo>
                    <a:pt x="6990" y="95"/>
                  </a:lnTo>
                  <a:lnTo>
                    <a:pt x="7766" y="91"/>
                  </a:lnTo>
                  <a:lnTo>
                    <a:pt x="8153" y="90"/>
                  </a:lnTo>
                  <a:lnTo>
                    <a:pt x="8541" y="90"/>
                  </a:lnTo>
                  <a:lnTo>
                    <a:pt x="8928" y="90"/>
                  </a:lnTo>
                  <a:lnTo>
                    <a:pt x="9316" y="90"/>
                  </a:lnTo>
                  <a:lnTo>
                    <a:pt x="9703" y="92"/>
                  </a:lnTo>
                  <a:lnTo>
                    <a:pt x="10091" y="95"/>
                  </a:lnTo>
                  <a:lnTo>
                    <a:pt x="10478" y="98"/>
                  </a:lnTo>
                  <a:lnTo>
                    <a:pt x="10865" y="103"/>
                  </a:lnTo>
                  <a:lnTo>
                    <a:pt x="11252" y="109"/>
                  </a:lnTo>
                  <a:lnTo>
                    <a:pt x="11639" y="117"/>
                  </a:lnTo>
                  <a:lnTo>
                    <a:pt x="12026" y="127"/>
                  </a:lnTo>
                  <a:lnTo>
                    <a:pt x="12412" y="137"/>
                  </a:lnTo>
                  <a:lnTo>
                    <a:pt x="12414" y="100"/>
                  </a:lnTo>
                  <a:lnTo>
                    <a:pt x="12027" y="90"/>
                  </a:lnTo>
                  <a:lnTo>
                    <a:pt x="11640" y="81"/>
                  </a:lnTo>
                  <a:lnTo>
                    <a:pt x="11252" y="73"/>
                  </a:lnTo>
                  <a:lnTo>
                    <a:pt x="10866" y="67"/>
                  </a:lnTo>
                  <a:lnTo>
                    <a:pt x="10478" y="62"/>
                  </a:lnTo>
                  <a:lnTo>
                    <a:pt x="10091" y="58"/>
                  </a:lnTo>
                  <a:lnTo>
                    <a:pt x="9703" y="56"/>
                  </a:lnTo>
                  <a:lnTo>
                    <a:pt x="9316" y="54"/>
                  </a:lnTo>
                  <a:lnTo>
                    <a:pt x="8928" y="54"/>
                  </a:lnTo>
                  <a:lnTo>
                    <a:pt x="8541" y="54"/>
                  </a:lnTo>
                  <a:lnTo>
                    <a:pt x="8153" y="55"/>
                  </a:lnTo>
                  <a:lnTo>
                    <a:pt x="7765" y="56"/>
                  </a:lnTo>
                  <a:lnTo>
                    <a:pt x="6990" y="59"/>
                  </a:lnTo>
                  <a:lnTo>
                    <a:pt x="6215" y="63"/>
                  </a:lnTo>
                  <a:lnTo>
                    <a:pt x="5439" y="66"/>
                  </a:lnTo>
                  <a:lnTo>
                    <a:pt x="4664" y="68"/>
                  </a:lnTo>
                  <a:lnTo>
                    <a:pt x="4276" y="70"/>
                  </a:lnTo>
                  <a:lnTo>
                    <a:pt x="3889" y="68"/>
                  </a:lnTo>
                  <a:lnTo>
                    <a:pt x="3501" y="67"/>
                  </a:lnTo>
                  <a:lnTo>
                    <a:pt x="3114" y="65"/>
                  </a:lnTo>
                  <a:lnTo>
                    <a:pt x="2727" y="63"/>
                  </a:lnTo>
                  <a:lnTo>
                    <a:pt x="2340" y="58"/>
                  </a:lnTo>
                  <a:lnTo>
                    <a:pt x="1952" y="52"/>
                  </a:lnTo>
                  <a:lnTo>
                    <a:pt x="1566" y="46"/>
                  </a:lnTo>
                  <a:lnTo>
                    <a:pt x="1179" y="37"/>
                  </a:lnTo>
                  <a:lnTo>
                    <a:pt x="792" y="26"/>
                  </a:lnTo>
                  <a:lnTo>
                    <a:pt x="406" y="15"/>
                  </a:lnTo>
                  <a:lnTo>
                    <a:pt x="20" y="0"/>
                  </a:lnTo>
                  <a:lnTo>
                    <a:pt x="37" y="18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5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600280" y="2598840"/>
              <a:ext cx="3941640" cy="1884600"/>
            </a:xfrm>
            <a:custGeom>
              <a:avLst/>
              <a:gdLst/>
              <a:ahLst/>
              <a:rect l="l" t="t" r="r" b="b"/>
              <a:pathLst>
                <a:path w="12417" h="5933">
                  <a:moveTo>
                    <a:pt x="20" y="261"/>
                  </a:moveTo>
                  <a:lnTo>
                    <a:pt x="13" y="607"/>
                  </a:lnTo>
                  <a:lnTo>
                    <a:pt x="7" y="953"/>
                  </a:lnTo>
                  <a:lnTo>
                    <a:pt x="3" y="1299"/>
                  </a:lnTo>
                  <a:lnTo>
                    <a:pt x="0" y="1646"/>
                  </a:lnTo>
                  <a:lnTo>
                    <a:pt x="0" y="1991"/>
                  </a:lnTo>
                  <a:lnTo>
                    <a:pt x="1" y="2338"/>
                  </a:lnTo>
                  <a:lnTo>
                    <a:pt x="4" y="2684"/>
                  </a:lnTo>
                  <a:lnTo>
                    <a:pt x="8" y="3030"/>
                  </a:lnTo>
                  <a:lnTo>
                    <a:pt x="14" y="3376"/>
                  </a:lnTo>
                  <a:lnTo>
                    <a:pt x="22" y="3722"/>
                  </a:lnTo>
                  <a:lnTo>
                    <a:pt x="31" y="4068"/>
                  </a:lnTo>
                  <a:lnTo>
                    <a:pt x="42" y="4414"/>
                  </a:lnTo>
                  <a:lnTo>
                    <a:pt x="56" y="4760"/>
                  </a:lnTo>
                  <a:lnTo>
                    <a:pt x="71" y="5107"/>
                  </a:lnTo>
                  <a:lnTo>
                    <a:pt x="87" y="5452"/>
                  </a:lnTo>
                  <a:lnTo>
                    <a:pt x="106" y="5799"/>
                  </a:lnTo>
                  <a:lnTo>
                    <a:pt x="489" y="5814"/>
                  </a:lnTo>
                  <a:lnTo>
                    <a:pt x="872" y="5827"/>
                  </a:lnTo>
                  <a:lnTo>
                    <a:pt x="1255" y="5840"/>
                  </a:lnTo>
                  <a:lnTo>
                    <a:pt x="1638" y="5852"/>
                  </a:lnTo>
                  <a:lnTo>
                    <a:pt x="2022" y="5864"/>
                  </a:lnTo>
                  <a:lnTo>
                    <a:pt x="2405" y="5875"/>
                  </a:lnTo>
                  <a:lnTo>
                    <a:pt x="2788" y="5884"/>
                  </a:lnTo>
                  <a:lnTo>
                    <a:pt x="3171" y="5893"/>
                  </a:lnTo>
                  <a:lnTo>
                    <a:pt x="3554" y="5902"/>
                  </a:lnTo>
                  <a:lnTo>
                    <a:pt x="3937" y="5909"/>
                  </a:lnTo>
                  <a:lnTo>
                    <a:pt x="4320" y="5915"/>
                  </a:lnTo>
                  <a:lnTo>
                    <a:pt x="4703" y="5921"/>
                  </a:lnTo>
                  <a:lnTo>
                    <a:pt x="5086" y="5925"/>
                  </a:lnTo>
                  <a:lnTo>
                    <a:pt x="5468" y="5929"/>
                  </a:lnTo>
                  <a:lnTo>
                    <a:pt x="5851" y="5931"/>
                  </a:lnTo>
                  <a:lnTo>
                    <a:pt x="6234" y="5932"/>
                  </a:lnTo>
                  <a:lnTo>
                    <a:pt x="6617" y="5933"/>
                  </a:lnTo>
                  <a:lnTo>
                    <a:pt x="7000" y="5932"/>
                  </a:lnTo>
                  <a:lnTo>
                    <a:pt x="7384" y="5931"/>
                  </a:lnTo>
                  <a:lnTo>
                    <a:pt x="7767" y="5928"/>
                  </a:lnTo>
                  <a:lnTo>
                    <a:pt x="8150" y="5923"/>
                  </a:lnTo>
                  <a:lnTo>
                    <a:pt x="8533" y="5918"/>
                  </a:lnTo>
                  <a:lnTo>
                    <a:pt x="8916" y="5912"/>
                  </a:lnTo>
                  <a:lnTo>
                    <a:pt x="9299" y="5905"/>
                  </a:lnTo>
                  <a:lnTo>
                    <a:pt x="9682" y="5896"/>
                  </a:lnTo>
                  <a:lnTo>
                    <a:pt x="10065" y="5885"/>
                  </a:lnTo>
                  <a:lnTo>
                    <a:pt x="10448" y="5874"/>
                  </a:lnTo>
                  <a:lnTo>
                    <a:pt x="10831" y="5861"/>
                  </a:lnTo>
                  <a:lnTo>
                    <a:pt x="11215" y="5848"/>
                  </a:lnTo>
                  <a:lnTo>
                    <a:pt x="11598" y="5833"/>
                  </a:lnTo>
                  <a:lnTo>
                    <a:pt x="11981" y="5817"/>
                  </a:lnTo>
                  <a:lnTo>
                    <a:pt x="12364" y="5799"/>
                  </a:lnTo>
                  <a:lnTo>
                    <a:pt x="12372" y="5464"/>
                  </a:lnTo>
                  <a:lnTo>
                    <a:pt x="12380" y="5130"/>
                  </a:lnTo>
                  <a:lnTo>
                    <a:pt x="12386" y="4797"/>
                  </a:lnTo>
                  <a:lnTo>
                    <a:pt x="12393" y="4464"/>
                  </a:lnTo>
                  <a:lnTo>
                    <a:pt x="12399" y="4132"/>
                  </a:lnTo>
                  <a:lnTo>
                    <a:pt x="12403" y="3800"/>
                  </a:lnTo>
                  <a:lnTo>
                    <a:pt x="12408" y="3470"/>
                  </a:lnTo>
                  <a:lnTo>
                    <a:pt x="12411" y="3139"/>
                  </a:lnTo>
                  <a:lnTo>
                    <a:pt x="12414" y="2811"/>
                  </a:lnTo>
                  <a:lnTo>
                    <a:pt x="12416" y="2481"/>
                  </a:lnTo>
                  <a:lnTo>
                    <a:pt x="12417" y="2154"/>
                  </a:lnTo>
                  <a:lnTo>
                    <a:pt x="12417" y="1827"/>
                  </a:lnTo>
                  <a:lnTo>
                    <a:pt x="12417" y="1501"/>
                  </a:lnTo>
                  <a:lnTo>
                    <a:pt x="12416" y="1175"/>
                  </a:lnTo>
                  <a:lnTo>
                    <a:pt x="12415" y="850"/>
                  </a:lnTo>
                  <a:lnTo>
                    <a:pt x="12413" y="526"/>
                  </a:lnTo>
                  <a:lnTo>
                    <a:pt x="12336" y="515"/>
                  </a:lnTo>
                  <a:lnTo>
                    <a:pt x="12260" y="503"/>
                  </a:lnTo>
                  <a:lnTo>
                    <a:pt x="12182" y="490"/>
                  </a:lnTo>
                  <a:lnTo>
                    <a:pt x="12106" y="474"/>
                  </a:lnTo>
                  <a:lnTo>
                    <a:pt x="12028" y="457"/>
                  </a:lnTo>
                  <a:lnTo>
                    <a:pt x="11950" y="437"/>
                  </a:lnTo>
                  <a:lnTo>
                    <a:pt x="11871" y="417"/>
                  </a:lnTo>
                  <a:lnTo>
                    <a:pt x="11793" y="393"/>
                  </a:lnTo>
                  <a:lnTo>
                    <a:pt x="11753" y="380"/>
                  </a:lnTo>
                  <a:lnTo>
                    <a:pt x="11713" y="367"/>
                  </a:lnTo>
                  <a:lnTo>
                    <a:pt x="11673" y="353"/>
                  </a:lnTo>
                  <a:lnTo>
                    <a:pt x="11633" y="338"/>
                  </a:lnTo>
                  <a:lnTo>
                    <a:pt x="11592" y="323"/>
                  </a:lnTo>
                  <a:lnTo>
                    <a:pt x="11552" y="307"/>
                  </a:lnTo>
                  <a:lnTo>
                    <a:pt x="11511" y="290"/>
                  </a:lnTo>
                  <a:lnTo>
                    <a:pt x="11470" y="273"/>
                  </a:lnTo>
                  <a:lnTo>
                    <a:pt x="11429" y="255"/>
                  </a:lnTo>
                  <a:lnTo>
                    <a:pt x="11388" y="236"/>
                  </a:lnTo>
                  <a:lnTo>
                    <a:pt x="11347" y="215"/>
                  </a:lnTo>
                  <a:lnTo>
                    <a:pt x="11306" y="195"/>
                  </a:lnTo>
                  <a:lnTo>
                    <a:pt x="11264" y="173"/>
                  </a:lnTo>
                  <a:lnTo>
                    <a:pt x="11222" y="151"/>
                  </a:lnTo>
                  <a:lnTo>
                    <a:pt x="11179" y="127"/>
                  </a:lnTo>
                  <a:lnTo>
                    <a:pt x="11137" y="103"/>
                  </a:lnTo>
                  <a:lnTo>
                    <a:pt x="11105" y="94"/>
                  </a:lnTo>
                  <a:lnTo>
                    <a:pt x="11073" y="86"/>
                  </a:lnTo>
                  <a:lnTo>
                    <a:pt x="11042" y="79"/>
                  </a:lnTo>
                  <a:lnTo>
                    <a:pt x="11011" y="74"/>
                  </a:lnTo>
                  <a:lnTo>
                    <a:pt x="10980" y="70"/>
                  </a:lnTo>
                  <a:lnTo>
                    <a:pt x="10950" y="67"/>
                  </a:lnTo>
                  <a:lnTo>
                    <a:pt x="10920" y="65"/>
                  </a:lnTo>
                  <a:lnTo>
                    <a:pt x="10890" y="63"/>
                  </a:lnTo>
                  <a:lnTo>
                    <a:pt x="10860" y="63"/>
                  </a:lnTo>
                  <a:lnTo>
                    <a:pt x="10831" y="65"/>
                  </a:lnTo>
                  <a:lnTo>
                    <a:pt x="10802" y="66"/>
                  </a:lnTo>
                  <a:lnTo>
                    <a:pt x="10773" y="69"/>
                  </a:lnTo>
                  <a:lnTo>
                    <a:pt x="10744" y="73"/>
                  </a:lnTo>
                  <a:lnTo>
                    <a:pt x="10716" y="76"/>
                  </a:lnTo>
                  <a:lnTo>
                    <a:pt x="10686" y="82"/>
                  </a:lnTo>
                  <a:lnTo>
                    <a:pt x="10657" y="87"/>
                  </a:lnTo>
                  <a:lnTo>
                    <a:pt x="10600" y="100"/>
                  </a:lnTo>
                  <a:lnTo>
                    <a:pt x="10542" y="116"/>
                  </a:lnTo>
                  <a:lnTo>
                    <a:pt x="10484" y="133"/>
                  </a:lnTo>
                  <a:lnTo>
                    <a:pt x="10425" y="152"/>
                  </a:lnTo>
                  <a:lnTo>
                    <a:pt x="10304" y="193"/>
                  </a:lnTo>
                  <a:lnTo>
                    <a:pt x="10178" y="238"/>
                  </a:lnTo>
                  <a:lnTo>
                    <a:pt x="10131" y="253"/>
                  </a:lnTo>
                  <a:lnTo>
                    <a:pt x="10083" y="265"/>
                  </a:lnTo>
                  <a:lnTo>
                    <a:pt x="10036" y="275"/>
                  </a:lnTo>
                  <a:lnTo>
                    <a:pt x="9990" y="285"/>
                  </a:lnTo>
                  <a:lnTo>
                    <a:pt x="9942" y="293"/>
                  </a:lnTo>
                  <a:lnTo>
                    <a:pt x="9895" y="298"/>
                  </a:lnTo>
                  <a:lnTo>
                    <a:pt x="9849" y="303"/>
                  </a:lnTo>
                  <a:lnTo>
                    <a:pt x="9803" y="306"/>
                  </a:lnTo>
                  <a:lnTo>
                    <a:pt x="9756" y="309"/>
                  </a:lnTo>
                  <a:lnTo>
                    <a:pt x="9710" y="310"/>
                  </a:lnTo>
                  <a:lnTo>
                    <a:pt x="9665" y="310"/>
                  </a:lnTo>
                  <a:lnTo>
                    <a:pt x="9619" y="309"/>
                  </a:lnTo>
                  <a:lnTo>
                    <a:pt x="9574" y="306"/>
                  </a:lnTo>
                  <a:lnTo>
                    <a:pt x="9528" y="304"/>
                  </a:lnTo>
                  <a:lnTo>
                    <a:pt x="9482" y="301"/>
                  </a:lnTo>
                  <a:lnTo>
                    <a:pt x="9438" y="296"/>
                  </a:lnTo>
                  <a:lnTo>
                    <a:pt x="9348" y="286"/>
                  </a:lnTo>
                  <a:lnTo>
                    <a:pt x="9259" y="274"/>
                  </a:lnTo>
                  <a:lnTo>
                    <a:pt x="9171" y="262"/>
                  </a:lnTo>
                  <a:lnTo>
                    <a:pt x="9084" y="249"/>
                  </a:lnTo>
                  <a:lnTo>
                    <a:pt x="8996" y="238"/>
                  </a:lnTo>
                  <a:lnTo>
                    <a:pt x="8910" y="226"/>
                  </a:lnTo>
                  <a:lnTo>
                    <a:pt x="8867" y="222"/>
                  </a:lnTo>
                  <a:lnTo>
                    <a:pt x="8824" y="217"/>
                  </a:lnTo>
                  <a:lnTo>
                    <a:pt x="8782" y="214"/>
                  </a:lnTo>
                  <a:lnTo>
                    <a:pt x="8739" y="210"/>
                  </a:lnTo>
                  <a:lnTo>
                    <a:pt x="8717" y="208"/>
                  </a:lnTo>
                  <a:lnTo>
                    <a:pt x="8695" y="206"/>
                  </a:lnTo>
                  <a:lnTo>
                    <a:pt x="8673" y="206"/>
                  </a:lnTo>
                  <a:lnTo>
                    <a:pt x="8650" y="207"/>
                  </a:lnTo>
                  <a:lnTo>
                    <a:pt x="8629" y="209"/>
                  </a:lnTo>
                  <a:lnTo>
                    <a:pt x="8606" y="212"/>
                  </a:lnTo>
                  <a:lnTo>
                    <a:pt x="8583" y="215"/>
                  </a:lnTo>
                  <a:lnTo>
                    <a:pt x="8560" y="220"/>
                  </a:lnTo>
                  <a:lnTo>
                    <a:pt x="8538" y="225"/>
                  </a:lnTo>
                  <a:lnTo>
                    <a:pt x="8515" y="231"/>
                  </a:lnTo>
                  <a:lnTo>
                    <a:pt x="8492" y="238"/>
                  </a:lnTo>
                  <a:lnTo>
                    <a:pt x="8468" y="245"/>
                  </a:lnTo>
                  <a:lnTo>
                    <a:pt x="8421" y="262"/>
                  </a:lnTo>
                  <a:lnTo>
                    <a:pt x="8375" y="279"/>
                  </a:lnTo>
                  <a:lnTo>
                    <a:pt x="8280" y="318"/>
                  </a:lnTo>
                  <a:lnTo>
                    <a:pt x="8184" y="359"/>
                  </a:lnTo>
                  <a:lnTo>
                    <a:pt x="8136" y="378"/>
                  </a:lnTo>
                  <a:lnTo>
                    <a:pt x="8089" y="396"/>
                  </a:lnTo>
                  <a:lnTo>
                    <a:pt x="8041" y="412"/>
                  </a:lnTo>
                  <a:lnTo>
                    <a:pt x="7993" y="427"/>
                  </a:lnTo>
                  <a:lnTo>
                    <a:pt x="7961" y="421"/>
                  </a:lnTo>
                  <a:lnTo>
                    <a:pt x="7929" y="416"/>
                  </a:lnTo>
                  <a:lnTo>
                    <a:pt x="7897" y="410"/>
                  </a:lnTo>
                  <a:lnTo>
                    <a:pt x="7866" y="403"/>
                  </a:lnTo>
                  <a:lnTo>
                    <a:pt x="7804" y="387"/>
                  </a:lnTo>
                  <a:lnTo>
                    <a:pt x="7741" y="370"/>
                  </a:lnTo>
                  <a:lnTo>
                    <a:pt x="7677" y="351"/>
                  </a:lnTo>
                  <a:lnTo>
                    <a:pt x="7612" y="331"/>
                  </a:lnTo>
                  <a:lnTo>
                    <a:pt x="7546" y="310"/>
                  </a:lnTo>
                  <a:lnTo>
                    <a:pt x="7477" y="287"/>
                  </a:lnTo>
                  <a:lnTo>
                    <a:pt x="7406" y="264"/>
                  </a:lnTo>
                  <a:lnTo>
                    <a:pt x="7332" y="240"/>
                  </a:lnTo>
                  <a:lnTo>
                    <a:pt x="7253" y="217"/>
                  </a:lnTo>
                  <a:lnTo>
                    <a:pt x="7171" y="193"/>
                  </a:lnTo>
                  <a:lnTo>
                    <a:pt x="7086" y="169"/>
                  </a:lnTo>
                  <a:lnTo>
                    <a:pt x="6993" y="147"/>
                  </a:lnTo>
                  <a:lnTo>
                    <a:pt x="6897" y="125"/>
                  </a:lnTo>
                  <a:lnTo>
                    <a:pt x="6794" y="103"/>
                  </a:lnTo>
                  <a:lnTo>
                    <a:pt x="6757" y="118"/>
                  </a:lnTo>
                  <a:lnTo>
                    <a:pt x="6718" y="133"/>
                  </a:lnTo>
                  <a:lnTo>
                    <a:pt x="6675" y="147"/>
                  </a:lnTo>
                  <a:lnTo>
                    <a:pt x="6629" y="160"/>
                  </a:lnTo>
                  <a:lnTo>
                    <a:pt x="6580" y="174"/>
                  </a:lnTo>
                  <a:lnTo>
                    <a:pt x="6527" y="187"/>
                  </a:lnTo>
                  <a:lnTo>
                    <a:pt x="6471" y="199"/>
                  </a:lnTo>
                  <a:lnTo>
                    <a:pt x="6413" y="210"/>
                  </a:lnTo>
                  <a:lnTo>
                    <a:pt x="6353" y="222"/>
                  </a:lnTo>
                  <a:lnTo>
                    <a:pt x="6290" y="233"/>
                  </a:lnTo>
                  <a:lnTo>
                    <a:pt x="6224" y="245"/>
                  </a:lnTo>
                  <a:lnTo>
                    <a:pt x="6157" y="255"/>
                  </a:lnTo>
                  <a:lnTo>
                    <a:pt x="6016" y="275"/>
                  </a:lnTo>
                  <a:lnTo>
                    <a:pt x="5865" y="294"/>
                  </a:lnTo>
                  <a:lnTo>
                    <a:pt x="5709" y="312"/>
                  </a:lnTo>
                  <a:lnTo>
                    <a:pt x="5547" y="330"/>
                  </a:lnTo>
                  <a:lnTo>
                    <a:pt x="5380" y="346"/>
                  </a:lnTo>
                  <a:lnTo>
                    <a:pt x="5209" y="363"/>
                  </a:lnTo>
                  <a:lnTo>
                    <a:pt x="4859" y="394"/>
                  </a:lnTo>
                  <a:lnTo>
                    <a:pt x="4503" y="425"/>
                  </a:lnTo>
                  <a:lnTo>
                    <a:pt x="4429" y="388"/>
                  </a:lnTo>
                  <a:lnTo>
                    <a:pt x="4356" y="352"/>
                  </a:lnTo>
                  <a:lnTo>
                    <a:pt x="4283" y="315"/>
                  </a:lnTo>
                  <a:lnTo>
                    <a:pt x="4209" y="279"/>
                  </a:lnTo>
                  <a:lnTo>
                    <a:pt x="4136" y="242"/>
                  </a:lnTo>
                  <a:lnTo>
                    <a:pt x="4063" y="205"/>
                  </a:lnTo>
                  <a:lnTo>
                    <a:pt x="3989" y="168"/>
                  </a:lnTo>
                  <a:lnTo>
                    <a:pt x="3916" y="131"/>
                  </a:lnTo>
                  <a:lnTo>
                    <a:pt x="3884" y="127"/>
                  </a:lnTo>
                  <a:lnTo>
                    <a:pt x="3852" y="125"/>
                  </a:lnTo>
                  <a:lnTo>
                    <a:pt x="3821" y="124"/>
                  </a:lnTo>
                  <a:lnTo>
                    <a:pt x="3790" y="123"/>
                  </a:lnTo>
                  <a:lnTo>
                    <a:pt x="3759" y="122"/>
                  </a:lnTo>
                  <a:lnTo>
                    <a:pt x="3728" y="122"/>
                  </a:lnTo>
                  <a:lnTo>
                    <a:pt x="3697" y="123"/>
                  </a:lnTo>
                  <a:lnTo>
                    <a:pt x="3668" y="124"/>
                  </a:lnTo>
                  <a:lnTo>
                    <a:pt x="3638" y="126"/>
                  </a:lnTo>
                  <a:lnTo>
                    <a:pt x="3609" y="128"/>
                  </a:lnTo>
                  <a:lnTo>
                    <a:pt x="3579" y="132"/>
                  </a:lnTo>
                  <a:lnTo>
                    <a:pt x="3549" y="135"/>
                  </a:lnTo>
                  <a:lnTo>
                    <a:pt x="3521" y="140"/>
                  </a:lnTo>
                  <a:lnTo>
                    <a:pt x="3491" y="144"/>
                  </a:lnTo>
                  <a:lnTo>
                    <a:pt x="3463" y="150"/>
                  </a:lnTo>
                  <a:lnTo>
                    <a:pt x="3434" y="157"/>
                  </a:lnTo>
                  <a:lnTo>
                    <a:pt x="3407" y="164"/>
                  </a:lnTo>
                  <a:lnTo>
                    <a:pt x="3378" y="172"/>
                  </a:lnTo>
                  <a:lnTo>
                    <a:pt x="3351" y="180"/>
                  </a:lnTo>
                  <a:lnTo>
                    <a:pt x="3324" y="189"/>
                  </a:lnTo>
                  <a:lnTo>
                    <a:pt x="3296" y="198"/>
                  </a:lnTo>
                  <a:lnTo>
                    <a:pt x="3269" y="208"/>
                  </a:lnTo>
                  <a:lnTo>
                    <a:pt x="3243" y="218"/>
                  </a:lnTo>
                  <a:lnTo>
                    <a:pt x="3215" y="230"/>
                  </a:lnTo>
                  <a:lnTo>
                    <a:pt x="3189" y="242"/>
                  </a:lnTo>
                  <a:lnTo>
                    <a:pt x="3163" y="255"/>
                  </a:lnTo>
                  <a:lnTo>
                    <a:pt x="3137" y="269"/>
                  </a:lnTo>
                  <a:lnTo>
                    <a:pt x="3112" y="282"/>
                  </a:lnTo>
                  <a:lnTo>
                    <a:pt x="3085" y="297"/>
                  </a:lnTo>
                  <a:lnTo>
                    <a:pt x="3060" y="312"/>
                  </a:lnTo>
                  <a:lnTo>
                    <a:pt x="3035" y="328"/>
                  </a:lnTo>
                  <a:lnTo>
                    <a:pt x="3010" y="344"/>
                  </a:lnTo>
                  <a:lnTo>
                    <a:pt x="2906" y="330"/>
                  </a:lnTo>
                  <a:lnTo>
                    <a:pt x="2808" y="315"/>
                  </a:lnTo>
                  <a:lnTo>
                    <a:pt x="2717" y="301"/>
                  </a:lnTo>
                  <a:lnTo>
                    <a:pt x="2632" y="285"/>
                  </a:lnTo>
                  <a:lnTo>
                    <a:pt x="2552" y="269"/>
                  </a:lnTo>
                  <a:lnTo>
                    <a:pt x="2477" y="252"/>
                  </a:lnTo>
                  <a:lnTo>
                    <a:pt x="2407" y="233"/>
                  </a:lnTo>
                  <a:lnTo>
                    <a:pt x="2342" y="214"/>
                  </a:lnTo>
                  <a:lnTo>
                    <a:pt x="2281" y="195"/>
                  </a:lnTo>
                  <a:lnTo>
                    <a:pt x="2224" y="173"/>
                  </a:lnTo>
                  <a:lnTo>
                    <a:pt x="2196" y="163"/>
                  </a:lnTo>
                  <a:lnTo>
                    <a:pt x="2170" y="151"/>
                  </a:lnTo>
                  <a:lnTo>
                    <a:pt x="2144" y="140"/>
                  </a:lnTo>
                  <a:lnTo>
                    <a:pt x="2120" y="128"/>
                  </a:lnTo>
                  <a:lnTo>
                    <a:pt x="2096" y="116"/>
                  </a:lnTo>
                  <a:lnTo>
                    <a:pt x="2072" y="104"/>
                  </a:lnTo>
                  <a:lnTo>
                    <a:pt x="2049" y="92"/>
                  </a:lnTo>
                  <a:lnTo>
                    <a:pt x="2028" y="78"/>
                  </a:lnTo>
                  <a:lnTo>
                    <a:pt x="2006" y="66"/>
                  </a:lnTo>
                  <a:lnTo>
                    <a:pt x="1986" y="52"/>
                  </a:lnTo>
                  <a:lnTo>
                    <a:pt x="1965" y="37"/>
                  </a:lnTo>
                  <a:lnTo>
                    <a:pt x="1946" y="24"/>
                  </a:lnTo>
                  <a:lnTo>
                    <a:pt x="1889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2" y="1"/>
                  </a:lnTo>
                  <a:lnTo>
                    <a:pt x="1604" y="0"/>
                  </a:lnTo>
                  <a:lnTo>
                    <a:pt x="1546" y="1"/>
                  </a:lnTo>
                  <a:lnTo>
                    <a:pt x="1486" y="3"/>
                  </a:lnTo>
                  <a:lnTo>
                    <a:pt x="1428" y="6"/>
                  </a:lnTo>
                  <a:lnTo>
                    <a:pt x="1369" y="11"/>
                  </a:lnTo>
                  <a:lnTo>
                    <a:pt x="1310" y="16"/>
                  </a:lnTo>
                  <a:lnTo>
                    <a:pt x="1249" y="22"/>
                  </a:lnTo>
                  <a:lnTo>
                    <a:pt x="1190" y="29"/>
                  </a:lnTo>
                  <a:lnTo>
                    <a:pt x="1130" y="38"/>
                  </a:lnTo>
                  <a:lnTo>
                    <a:pt x="1069" y="46"/>
                  </a:lnTo>
                  <a:lnTo>
                    <a:pt x="1008" y="57"/>
                  </a:lnTo>
                  <a:lnTo>
                    <a:pt x="886" y="77"/>
                  </a:lnTo>
                  <a:lnTo>
                    <a:pt x="764" y="101"/>
                  </a:lnTo>
                  <a:lnTo>
                    <a:pt x="641" y="126"/>
                  </a:lnTo>
                  <a:lnTo>
                    <a:pt x="517" y="152"/>
                  </a:lnTo>
                  <a:lnTo>
                    <a:pt x="268" y="207"/>
                  </a:lnTo>
                  <a:lnTo>
                    <a:pt x="20" y="261"/>
                  </a:lnTo>
                  <a:close/>
                </a:path>
              </a:pathLst>
            </a:custGeom>
            <a:solidFill>
              <a:srgbClr val="c2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593800" y="2681640"/>
              <a:ext cx="46080" cy="1765080"/>
            </a:xfrm>
            <a:custGeom>
              <a:avLst/>
              <a:gdLst/>
              <a:ahLst/>
              <a:rect l="l" t="t" r="r" b="b"/>
              <a:pathLst>
                <a:path w="143" h="5556">
                  <a:moveTo>
                    <a:pt x="124" y="5520"/>
                  </a:moveTo>
                  <a:lnTo>
                    <a:pt x="143" y="5537"/>
                  </a:lnTo>
                  <a:lnTo>
                    <a:pt x="123" y="5191"/>
                  </a:lnTo>
                  <a:lnTo>
                    <a:pt x="107" y="4845"/>
                  </a:lnTo>
                  <a:lnTo>
                    <a:pt x="92" y="4498"/>
                  </a:lnTo>
                  <a:lnTo>
                    <a:pt x="79" y="4153"/>
                  </a:lnTo>
                  <a:lnTo>
                    <a:pt x="67" y="3806"/>
                  </a:lnTo>
                  <a:lnTo>
                    <a:pt x="58" y="3461"/>
                  </a:lnTo>
                  <a:lnTo>
                    <a:pt x="50" y="3114"/>
                  </a:lnTo>
                  <a:lnTo>
                    <a:pt x="45" y="2769"/>
                  </a:lnTo>
                  <a:lnTo>
                    <a:pt x="40" y="2422"/>
                  </a:lnTo>
                  <a:lnTo>
                    <a:pt x="38" y="2077"/>
                  </a:lnTo>
                  <a:lnTo>
                    <a:pt x="37" y="1730"/>
                  </a:lnTo>
                  <a:lnTo>
                    <a:pt x="37" y="1385"/>
                  </a:lnTo>
                  <a:lnTo>
                    <a:pt x="39" y="1038"/>
                  </a:lnTo>
                  <a:lnTo>
                    <a:pt x="43" y="693"/>
                  </a:lnTo>
                  <a:lnTo>
                    <a:pt x="49" y="346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3" y="346"/>
                  </a:lnTo>
                  <a:lnTo>
                    <a:pt x="7" y="692"/>
                  </a:lnTo>
                  <a:lnTo>
                    <a:pt x="3" y="1038"/>
                  </a:lnTo>
                  <a:lnTo>
                    <a:pt x="1" y="1385"/>
                  </a:lnTo>
                  <a:lnTo>
                    <a:pt x="0" y="1730"/>
                  </a:lnTo>
                  <a:lnTo>
                    <a:pt x="1" y="2077"/>
                  </a:lnTo>
                  <a:lnTo>
                    <a:pt x="3" y="2423"/>
                  </a:lnTo>
                  <a:lnTo>
                    <a:pt x="8" y="2769"/>
                  </a:lnTo>
                  <a:lnTo>
                    <a:pt x="14" y="3115"/>
                  </a:lnTo>
                  <a:lnTo>
                    <a:pt x="22" y="3462"/>
                  </a:lnTo>
                  <a:lnTo>
                    <a:pt x="32" y="3807"/>
                  </a:lnTo>
                  <a:lnTo>
                    <a:pt x="42" y="4154"/>
                  </a:lnTo>
                  <a:lnTo>
                    <a:pt x="56" y="4500"/>
                  </a:lnTo>
                  <a:lnTo>
                    <a:pt x="71" y="4846"/>
                  </a:lnTo>
                  <a:lnTo>
                    <a:pt x="88" y="5192"/>
                  </a:lnTo>
                  <a:lnTo>
                    <a:pt x="106" y="5539"/>
                  </a:lnTo>
                  <a:lnTo>
                    <a:pt x="123" y="5556"/>
                  </a:lnTo>
                  <a:lnTo>
                    <a:pt x="106" y="5539"/>
                  </a:lnTo>
                  <a:lnTo>
                    <a:pt x="106" y="5543"/>
                  </a:lnTo>
                  <a:lnTo>
                    <a:pt x="108" y="5547"/>
                  </a:lnTo>
                  <a:lnTo>
                    <a:pt x="109" y="5549"/>
                  </a:lnTo>
                  <a:lnTo>
                    <a:pt x="112" y="5553"/>
                  </a:lnTo>
                  <a:lnTo>
                    <a:pt x="115" y="5554"/>
                  </a:lnTo>
                  <a:lnTo>
                    <a:pt x="119" y="5555"/>
                  </a:lnTo>
                  <a:lnTo>
                    <a:pt x="122" y="5556"/>
                  </a:lnTo>
                  <a:lnTo>
                    <a:pt x="125" y="5556"/>
                  </a:lnTo>
                  <a:lnTo>
                    <a:pt x="129" y="5556"/>
                  </a:lnTo>
                  <a:lnTo>
                    <a:pt x="131" y="5555"/>
                  </a:lnTo>
                  <a:lnTo>
                    <a:pt x="135" y="5553"/>
                  </a:lnTo>
                  <a:lnTo>
                    <a:pt x="137" y="5550"/>
                  </a:lnTo>
                  <a:lnTo>
                    <a:pt x="139" y="5548"/>
                  </a:lnTo>
                  <a:lnTo>
                    <a:pt x="141" y="5545"/>
                  </a:lnTo>
                  <a:lnTo>
                    <a:pt x="141" y="5541"/>
                  </a:lnTo>
                  <a:lnTo>
                    <a:pt x="143" y="5537"/>
                  </a:lnTo>
                  <a:lnTo>
                    <a:pt x="124" y="55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33760" y="4434120"/>
              <a:ext cx="3897360" cy="55440"/>
            </a:xfrm>
            <a:custGeom>
              <a:avLst/>
              <a:gdLst/>
              <a:ahLst/>
              <a:rect l="l" t="t" r="r" b="b"/>
              <a:pathLst>
                <a:path w="12277" h="171">
                  <a:moveTo>
                    <a:pt x="12240" y="18"/>
                  </a:moveTo>
                  <a:lnTo>
                    <a:pt x="12257" y="0"/>
                  </a:lnTo>
                  <a:lnTo>
                    <a:pt x="11874" y="18"/>
                  </a:lnTo>
                  <a:lnTo>
                    <a:pt x="11492" y="34"/>
                  </a:lnTo>
                  <a:lnTo>
                    <a:pt x="11109" y="49"/>
                  </a:lnTo>
                  <a:lnTo>
                    <a:pt x="10726" y="63"/>
                  </a:lnTo>
                  <a:lnTo>
                    <a:pt x="10343" y="76"/>
                  </a:lnTo>
                  <a:lnTo>
                    <a:pt x="9960" y="86"/>
                  </a:lnTo>
                  <a:lnTo>
                    <a:pt x="9577" y="96"/>
                  </a:lnTo>
                  <a:lnTo>
                    <a:pt x="9194" y="106"/>
                  </a:lnTo>
                  <a:lnTo>
                    <a:pt x="8811" y="112"/>
                  </a:lnTo>
                  <a:lnTo>
                    <a:pt x="8428" y="119"/>
                  </a:lnTo>
                  <a:lnTo>
                    <a:pt x="8045" y="125"/>
                  </a:lnTo>
                  <a:lnTo>
                    <a:pt x="7661" y="128"/>
                  </a:lnTo>
                  <a:lnTo>
                    <a:pt x="7278" y="132"/>
                  </a:lnTo>
                  <a:lnTo>
                    <a:pt x="6895" y="133"/>
                  </a:lnTo>
                  <a:lnTo>
                    <a:pt x="6512" y="134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29"/>
                  </a:lnTo>
                  <a:lnTo>
                    <a:pt x="4981" y="126"/>
                  </a:lnTo>
                  <a:lnTo>
                    <a:pt x="4598" y="121"/>
                  </a:lnTo>
                  <a:lnTo>
                    <a:pt x="4215" y="117"/>
                  </a:lnTo>
                  <a:lnTo>
                    <a:pt x="3832" y="110"/>
                  </a:lnTo>
                  <a:lnTo>
                    <a:pt x="3449" y="103"/>
                  </a:lnTo>
                  <a:lnTo>
                    <a:pt x="3066" y="94"/>
                  </a:lnTo>
                  <a:lnTo>
                    <a:pt x="2683" y="86"/>
                  </a:lnTo>
                  <a:lnTo>
                    <a:pt x="2300" y="76"/>
                  </a:lnTo>
                  <a:lnTo>
                    <a:pt x="1917" y="66"/>
                  </a:lnTo>
                  <a:lnTo>
                    <a:pt x="1534" y="53"/>
                  </a:lnTo>
                  <a:lnTo>
                    <a:pt x="1151" y="42"/>
                  </a:lnTo>
                  <a:lnTo>
                    <a:pt x="768" y="28"/>
                  </a:lnTo>
                  <a:lnTo>
                    <a:pt x="385" y="14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1"/>
                  </a:lnTo>
                  <a:lnTo>
                    <a:pt x="767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1"/>
                  </a:lnTo>
                  <a:lnTo>
                    <a:pt x="3066" y="131"/>
                  </a:lnTo>
                  <a:lnTo>
                    <a:pt x="3449" y="139"/>
                  </a:lnTo>
                  <a:lnTo>
                    <a:pt x="3832" y="147"/>
                  </a:lnTo>
                  <a:lnTo>
                    <a:pt x="4215" y="152"/>
                  </a:lnTo>
                  <a:lnTo>
                    <a:pt x="4598" y="158"/>
                  </a:lnTo>
                  <a:lnTo>
                    <a:pt x="4981" y="163"/>
                  </a:lnTo>
                  <a:lnTo>
                    <a:pt x="5363" y="166"/>
                  </a:lnTo>
                  <a:lnTo>
                    <a:pt x="5746" y="168"/>
                  </a:lnTo>
                  <a:lnTo>
                    <a:pt x="6129" y="169"/>
                  </a:lnTo>
                  <a:lnTo>
                    <a:pt x="6512" y="171"/>
                  </a:lnTo>
                  <a:lnTo>
                    <a:pt x="6895" y="169"/>
                  </a:lnTo>
                  <a:lnTo>
                    <a:pt x="7279" y="167"/>
                  </a:lnTo>
                  <a:lnTo>
                    <a:pt x="7662" y="165"/>
                  </a:lnTo>
                  <a:lnTo>
                    <a:pt x="8045" y="160"/>
                  </a:lnTo>
                  <a:lnTo>
                    <a:pt x="8428" y="156"/>
                  </a:lnTo>
                  <a:lnTo>
                    <a:pt x="8811" y="149"/>
                  </a:lnTo>
                  <a:lnTo>
                    <a:pt x="9194" y="142"/>
                  </a:lnTo>
                  <a:lnTo>
                    <a:pt x="9577" y="133"/>
                  </a:lnTo>
                  <a:lnTo>
                    <a:pt x="9961" y="123"/>
                  </a:lnTo>
                  <a:lnTo>
                    <a:pt x="10344" y="111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3" y="70"/>
                  </a:lnTo>
                  <a:lnTo>
                    <a:pt x="11877" y="54"/>
                  </a:lnTo>
                  <a:lnTo>
                    <a:pt x="12260" y="36"/>
                  </a:lnTo>
                  <a:lnTo>
                    <a:pt x="12277" y="18"/>
                  </a:lnTo>
                  <a:lnTo>
                    <a:pt x="12260" y="36"/>
                  </a:lnTo>
                  <a:lnTo>
                    <a:pt x="12263" y="35"/>
                  </a:lnTo>
                  <a:lnTo>
                    <a:pt x="12268" y="34"/>
                  </a:lnTo>
                  <a:lnTo>
                    <a:pt x="12270" y="33"/>
                  </a:lnTo>
                  <a:lnTo>
                    <a:pt x="12272" y="29"/>
                  </a:lnTo>
                  <a:lnTo>
                    <a:pt x="12275" y="27"/>
                  </a:lnTo>
                  <a:lnTo>
                    <a:pt x="12276" y="23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7" y="13"/>
                  </a:lnTo>
                  <a:lnTo>
                    <a:pt x="12276" y="10"/>
                  </a:lnTo>
                  <a:lnTo>
                    <a:pt x="12273" y="7"/>
                  </a:lnTo>
                  <a:lnTo>
                    <a:pt x="12271" y="5"/>
                  </a:lnTo>
                  <a:lnTo>
                    <a:pt x="12269" y="3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19960" y="2760840"/>
              <a:ext cx="28440" cy="1679760"/>
            </a:xfrm>
            <a:custGeom>
              <a:avLst/>
              <a:gdLst/>
              <a:ahLst/>
              <a:rect l="l" t="t" r="r" b="b"/>
              <a:pathLst>
                <a:path w="90" h="5291">
                  <a:moveTo>
                    <a:pt x="65" y="35"/>
                  </a:moveTo>
                  <a:lnTo>
                    <a:pt x="49" y="18"/>
                  </a:lnTo>
                  <a:lnTo>
                    <a:pt x="52" y="342"/>
                  </a:lnTo>
                  <a:lnTo>
                    <a:pt x="53" y="667"/>
                  </a:lnTo>
                  <a:lnTo>
                    <a:pt x="54" y="993"/>
                  </a:lnTo>
                  <a:lnTo>
                    <a:pt x="55" y="1319"/>
                  </a:lnTo>
                  <a:lnTo>
                    <a:pt x="54" y="1646"/>
                  </a:lnTo>
                  <a:lnTo>
                    <a:pt x="53" y="1973"/>
                  </a:lnTo>
                  <a:lnTo>
                    <a:pt x="50" y="2303"/>
                  </a:lnTo>
                  <a:lnTo>
                    <a:pt x="48" y="2631"/>
                  </a:lnTo>
                  <a:lnTo>
                    <a:pt x="45" y="2962"/>
                  </a:lnTo>
                  <a:lnTo>
                    <a:pt x="40" y="3292"/>
                  </a:lnTo>
                  <a:lnTo>
                    <a:pt x="36" y="3623"/>
                  </a:lnTo>
                  <a:lnTo>
                    <a:pt x="30" y="3956"/>
                  </a:lnTo>
                  <a:lnTo>
                    <a:pt x="23" y="4288"/>
                  </a:lnTo>
                  <a:lnTo>
                    <a:pt x="16" y="4622"/>
                  </a:lnTo>
                  <a:lnTo>
                    <a:pt x="9" y="4956"/>
                  </a:lnTo>
                  <a:lnTo>
                    <a:pt x="0" y="5291"/>
                  </a:lnTo>
                  <a:lnTo>
                    <a:pt x="37" y="5291"/>
                  </a:lnTo>
                  <a:lnTo>
                    <a:pt x="45" y="4957"/>
                  </a:lnTo>
                  <a:lnTo>
                    <a:pt x="53" y="4622"/>
                  </a:lnTo>
                  <a:lnTo>
                    <a:pt x="60" y="4289"/>
                  </a:lnTo>
                  <a:lnTo>
                    <a:pt x="66" y="3956"/>
                  </a:lnTo>
                  <a:lnTo>
                    <a:pt x="72" y="3624"/>
                  </a:lnTo>
                  <a:lnTo>
                    <a:pt x="77" y="3292"/>
                  </a:lnTo>
                  <a:lnTo>
                    <a:pt x="81" y="2962"/>
                  </a:lnTo>
                  <a:lnTo>
                    <a:pt x="85" y="2631"/>
                  </a:lnTo>
                  <a:lnTo>
                    <a:pt x="87" y="2303"/>
                  </a:lnTo>
                  <a:lnTo>
                    <a:pt x="89" y="1973"/>
                  </a:lnTo>
                  <a:lnTo>
                    <a:pt x="90" y="1646"/>
                  </a:lnTo>
                  <a:lnTo>
                    <a:pt x="90" y="1319"/>
                  </a:lnTo>
                  <a:lnTo>
                    <a:pt x="90" y="993"/>
                  </a:lnTo>
                  <a:lnTo>
                    <a:pt x="89" y="667"/>
                  </a:lnTo>
                  <a:lnTo>
                    <a:pt x="88" y="342"/>
                  </a:lnTo>
                  <a:lnTo>
                    <a:pt x="85" y="17"/>
                  </a:lnTo>
                  <a:lnTo>
                    <a:pt x="70" y="0"/>
                  </a:lnTo>
                  <a:lnTo>
                    <a:pt x="85" y="17"/>
                  </a:lnTo>
                  <a:lnTo>
                    <a:pt x="85" y="14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5" y="5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9" y="14"/>
                  </a:lnTo>
                  <a:lnTo>
                    <a:pt x="49" y="18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129360" y="262584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1"/>
                  </a:lnTo>
                  <a:lnTo>
                    <a:pt x="137" y="104"/>
                  </a:lnTo>
                  <a:lnTo>
                    <a:pt x="178" y="125"/>
                  </a:lnTo>
                  <a:lnTo>
                    <a:pt x="220" y="147"/>
                  </a:lnTo>
                  <a:lnTo>
                    <a:pt x="261" y="167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8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299"/>
                  </a:lnTo>
                  <a:lnTo>
                    <a:pt x="628" y="312"/>
                  </a:lnTo>
                  <a:lnTo>
                    <a:pt x="668" y="325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2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3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824440" y="2613240"/>
              <a:ext cx="312840" cy="66600"/>
            </a:xfrm>
            <a:custGeom>
              <a:avLst/>
              <a:gdLst/>
              <a:ahLst/>
              <a:rect l="l" t="t" r="r" b="b"/>
              <a:pathLst>
                <a:path w="984" h="211">
                  <a:moveTo>
                    <a:pt x="24" y="210"/>
                  </a:moveTo>
                  <a:lnTo>
                    <a:pt x="25" y="210"/>
                  </a:lnTo>
                  <a:lnTo>
                    <a:pt x="152" y="165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5"/>
                  </a:lnTo>
                  <a:lnTo>
                    <a:pt x="616" y="41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1"/>
                  </a:lnTo>
                  <a:lnTo>
                    <a:pt x="918" y="23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2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3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1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1"/>
                  </a:lnTo>
                  <a:lnTo>
                    <a:pt x="21" y="211"/>
                  </a:lnTo>
                  <a:lnTo>
                    <a:pt x="25" y="210"/>
                  </a:lnTo>
                  <a:lnTo>
                    <a:pt x="24" y="2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69040" y="266076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6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3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5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8"/>
                  </a:lnTo>
                  <a:lnTo>
                    <a:pt x="1126" y="93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2"/>
                  </a:lnTo>
                  <a:lnTo>
                    <a:pt x="365" y="39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3" y="36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32520" y="265932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1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7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4"/>
                  </a:lnTo>
                  <a:lnTo>
                    <a:pt x="522" y="67"/>
                  </a:lnTo>
                  <a:lnTo>
                    <a:pt x="544" y="60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6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4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51280" y="262584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4"/>
                  </a:moveTo>
                  <a:lnTo>
                    <a:pt x="15" y="35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19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2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8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4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5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24440" y="2625840"/>
              <a:ext cx="734760" cy="1144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4"/>
                  </a:lnTo>
                  <a:lnTo>
                    <a:pt x="897" y="278"/>
                  </a:lnTo>
                  <a:lnTo>
                    <a:pt x="1063" y="261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6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3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2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836880" y="263556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19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39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3" y="7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49600" y="263232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4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8"/>
                  </a:lnTo>
                  <a:lnTo>
                    <a:pt x="447" y="71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6"/>
                  </a:lnTo>
                  <a:lnTo>
                    <a:pt x="618" y="44"/>
                  </a:lnTo>
                  <a:lnTo>
                    <a:pt x="647" y="40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7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4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6"/>
                  </a:lnTo>
                  <a:lnTo>
                    <a:pt x="410" y="44"/>
                  </a:lnTo>
                  <a:lnTo>
                    <a:pt x="382" y="50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2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4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211560" y="260064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7"/>
                  </a:lnTo>
                  <a:lnTo>
                    <a:pt x="49" y="62"/>
                  </a:lnTo>
                  <a:lnTo>
                    <a:pt x="71" y="76"/>
                  </a:lnTo>
                  <a:lnTo>
                    <a:pt x="93" y="89"/>
                  </a:lnTo>
                  <a:lnTo>
                    <a:pt x="114" y="102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5"/>
                  </a:lnTo>
                  <a:lnTo>
                    <a:pt x="349" y="207"/>
                  </a:lnTo>
                  <a:lnTo>
                    <a:pt x="411" y="226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1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2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1"/>
                  </a:lnTo>
                  <a:lnTo>
                    <a:pt x="49" y="17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00280" y="2592720"/>
              <a:ext cx="617760" cy="95040"/>
            </a:xfrm>
            <a:custGeom>
              <a:avLst/>
              <a:gdLst/>
              <a:ahLst/>
              <a:rect l="l" t="t" r="r" b="b"/>
              <a:pathLst>
                <a:path w="1947" h="298">
                  <a:moveTo>
                    <a:pt x="37" y="280"/>
                  </a:moveTo>
                  <a:lnTo>
                    <a:pt x="22" y="298"/>
                  </a:lnTo>
                  <a:lnTo>
                    <a:pt x="271" y="244"/>
                  </a:lnTo>
                  <a:lnTo>
                    <a:pt x="519" y="190"/>
                  </a:lnTo>
                  <a:lnTo>
                    <a:pt x="643" y="163"/>
                  </a:lnTo>
                  <a:lnTo>
                    <a:pt x="766" y="138"/>
                  </a:lnTo>
                  <a:lnTo>
                    <a:pt x="888" y="114"/>
                  </a:lnTo>
                  <a:lnTo>
                    <a:pt x="1010" y="94"/>
                  </a:lnTo>
                  <a:lnTo>
                    <a:pt x="1071" y="84"/>
                  </a:lnTo>
                  <a:lnTo>
                    <a:pt x="1131" y="74"/>
                  </a:lnTo>
                  <a:lnTo>
                    <a:pt x="1191" y="66"/>
                  </a:lnTo>
                  <a:lnTo>
                    <a:pt x="1251" y="60"/>
                  </a:lnTo>
                  <a:lnTo>
                    <a:pt x="1310" y="53"/>
                  </a:lnTo>
                  <a:lnTo>
                    <a:pt x="1369" y="48"/>
                  </a:lnTo>
                  <a:lnTo>
                    <a:pt x="1428" y="44"/>
                  </a:lnTo>
                  <a:lnTo>
                    <a:pt x="1487" y="40"/>
                  </a:lnTo>
                  <a:lnTo>
                    <a:pt x="1545" y="38"/>
                  </a:lnTo>
                  <a:lnTo>
                    <a:pt x="1603" y="37"/>
                  </a:lnTo>
                  <a:lnTo>
                    <a:pt x="1660" y="38"/>
                  </a:lnTo>
                  <a:lnTo>
                    <a:pt x="1718" y="39"/>
                  </a:lnTo>
                  <a:lnTo>
                    <a:pt x="1774" y="43"/>
                  </a:lnTo>
                  <a:lnTo>
                    <a:pt x="1831" y="47"/>
                  </a:lnTo>
                  <a:lnTo>
                    <a:pt x="1887" y="53"/>
                  </a:lnTo>
                  <a:lnTo>
                    <a:pt x="1941" y="61"/>
                  </a:lnTo>
                  <a:lnTo>
                    <a:pt x="1947" y="24"/>
                  </a:lnTo>
                  <a:lnTo>
                    <a:pt x="1890" y="16"/>
                  </a:lnTo>
                  <a:lnTo>
                    <a:pt x="1833" y="11"/>
                  </a:lnTo>
                  <a:lnTo>
                    <a:pt x="1776" y="6"/>
                  </a:lnTo>
                  <a:lnTo>
                    <a:pt x="1719" y="3"/>
                  </a:lnTo>
                  <a:lnTo>
                    <a:pt x="1661" y="1"/>
                  </a:lnTo>
                  <a:lnTo>
                    <a:pt x="1603" y="0"/>
                  </a:lnTo>
                  <a:lnTo>
                    <a:pt x="1544" y="1"/>
                  </a:lnTo>
                  <a:lnTo>
                    <a:pt x="1485" y="4"/>
                  </a:lnTo>
                  <a:lnTo>
                    <a:pt x="1426" y="7"/>
                  </a:lnTo>
                  <a:lnTo>
                    <a:pt x="1367" y="12"/>
                  </a:lnTo>
                  <a:lnTo>
                    <a:pt x="1307" y="17"/>
                  </a:lnTo>
                  <a:lnTo>
                    <a:pt x="1247" y="23"/>
                  </a:lnTo>
                  <a:lnTo>
                    <a:pt x="1187" y="31"/>
                  </a:lnTo>
                  <a:lnTo>
                    <a:pt x="1126" y="39"/>
                  </a:lnTo>
                  <a:lnTo>
                    <a:pt x="1065" y="48"/>
                  </a:lnTo>
                  <a:lnTo>
                    <a:pt x="1005" y="57"/>
                  </a:lnTo>
                  <a:lnTo>
                    <a:pt x="883" y="79"/>
                  </a:lnTo>
                  <a:lnTo>
                    <a:pt x="759" y="102"/>
                  </a:lnTo>
                  <a:lnTo>
                    <a:pt x="635" y="127"/>
                  </a:lnTo>
                  <a:lnTo>
                    <a:pt x="512" y="154"/>
                  </a:lnTo>
                  <a:lnTo>
                    <a:pt x="264" y="208"/>
                  </a:lnTo>
                  <a:lnTo>
                    <a:pt x="15" y="263"/>
                  </a:lnTo>
                  <a:lnTo>
                    <a:pt x="0" y="280"/>
                  </a:lnTo>
                  <a:lnTo>
                    <a:pt x="15" y="263"/>
                  </a:lnTo>
                  <a:lnTo>
                    <a:pt x="11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71"/>
                  </a:lnTo>
                  <a:lnTo>
                    <a:pt x="2" y="274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3"/>
                  </a:lnTo>
                  <a:lnTo>
                    <a:pt x="2" y="286"/>
                  </a:lnTo>
                  <a:lnTo>
                    <a:pt x="3" y="290"/>
                  </a:lnTo>
                  <a:lnTo>
                    <a:pt x="5" y="292"/>
                  </a:lnTo>
                  <a:lnTo>
                    <a:pt x="7" y="294"/>
                  </a:lnTo>
                  <a:lnTo>
                    <a:pt x="11" y="297"/>
                  </a:lnTo>
                  <a:lnTo>
                    <a:pt x="14" y="298"/>
                  </a:lnTo>
                  <a:lnTo>
                    <a:pt x="18" y="298"/>
                  </a:lnTo>
                  <a:lnTo>
                    <a:pt x="22" y="298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02080" y="3308760"/>
              <a:ext cx="3938400" cy="1022040"/>
            </a:xfrm>
            <a:custGeom>
              <a:avLst/>
              <a:gdLst/>
              <a:ahLst/>
              <a:rect l="l" t="t" r="r" b="b"/>
              <a:pathLst>
                <a:path w="12405" h="3222">
                  <a:moveTo>
                    <a:pt x="0" y="717"/>
                  </a:moveTo>
                  <a:lnTo>
                    <a:pt x="3" y="890"/>
                  </a:lnTo>
                  <a:lnTo>
                    <a:pt x="7" y="1053"/>
                  </a:lnTo>
                  <a:lnTo>
                    <a:pt x="12" y="1207"/>
                  </a:lnTo>
                  <a:lnTo>
                    <a:pt x="18" y="1354"/>
                  </a:lnTo>
                  <a:lnTo>
                    <a:pt x="23" y="1497"/>
                  </a:lnTo>
                  <a:lnTo>
                    <a:pt x="30" y="1634"/>
                  </a:lnTo>
                  <a:lnTo>
                    <a:pt x="38" y="1769"/>
                  </a:lnTo>
                  <a:lnTo>
                    <a:pt x="46" y="1902"/>
                  </a:lnTo>
                  <a:lnTo>
                    <a:pt x="63" y="2170"/>
                  </a:lnTo>
                  <a:lnTo>
                    <a:pt x="81" y="2451"/>
                  </a:lnTo>
                  <a:lnTo>
                    <a:pt x="100" y="2753"/>
                  </a:lnTo>
                  <a:lnTo>
                    <a:pt x="120" y="3089"/>
                  </a:lnTo>
                  <a:lnTo>
                    <a:pt x="503" y="3103"/>
                  </a:lnTo>
                  <a:lnTo>
                    <a:pt x="886" y="3118"/>
                  </a:lnTo>
                  <a:lnTo>
                    <a:pt x="1269" y="3130"/>
                  </a:lnTo>
                  <a:lnTo>
                    <a:pt x="1652" y="3143"/>
                  </a:lnTo>
                  <a:lnTo>
                    <a:pt x="2035" y="3154"/>
                  </a:lnTo>
                  <a:lnTo>
                    <a:pt x="2418" y="3164"/>
                  </a:lnTo>
                  <a:lnTo>
                    <a:pt x="2802" y="3175"/>
                  </a:lnTo>
                  <a:lnTo>
                    <a:pt x="3185" y="3184"/>
                  </a:lnTo>
                  <a:lnTo>
                    <a:pt x="3568" y="3192"/>
                  </a:lnTo>
                  <a:lnTo>
                    <a:pt x="3951" y="3199"/>
                  </a:lnTo>
                  <a:lnTo>
                    <a:pt x="4333" y="3205"/>
                  </a:lnTo>
                  <a:lnTo>
                    <a:pt x="4716" y="3211"/>
                  </a:lnTo>
                  <a:lnTo>
                    <a:pt x="5099" y="3216"/>
                  </a:lnTo>
                  <a:lnTo>
                    <a:pt x="5482" y="3219"/>
                  </a:lnTo>
                  <a:lnTo>
                    <a:pt x="5865" y="3221"/>
                  </a:lnTo>
                  <a:lnTo>
                    <a:pt x="6248" y="3222"/>
                  </a:lnTo>
                  <a:lnTo>
                    <a:pt x="6631" y="3222"/>
                  </a:lnTo>
                  <a:lnTo>
                    <a:pt x="7014" y="3222"/>
                  </a:lnTo>
                  <a:lnTo>
                    <a:pt x="7397" y="3220"/>
                  </a:lnTo>
                  <a:lnTo>
                    <a:pt x="7780" y="3218"/>
                  </a:lnTo>
                  <a:lnTo>
                    <a:pt x="8163" y="3213"/>
                  </a:lnTo>
                  <a:lnTo>
                    <a:pt x="8547" y="3209"/>
                  </a:lnTo>
                  <a:lnTo>
                    <a:pt x="8930" y="3202"/>
                  </a:lnTo>
                  <a:lnTo>
                    <a:pt x="9313" y="3194"/>
                  </a:lnTo>
                  <a:lnTo>
                    <a:pt x="9696" y="3186"/>
                  </a:lnTo>
                  <a:lnTo>
                    <a:pt x="10079" y="3176"/>
                  </a:lnTo>
                  <a:lnTo>
                    <a:pt x="10462" y="3164"/>
                  </a:lnTo>
                  <a:lnTo>
                    <a:pt x="10844" y="3152"/>
                  </a:lnTo>
                  <a:lnTo>
                    <a:pt x="11227" y="3138"/>
                  </a:lnTo>
                  <a:lnTo>
                    <a:pt x="11610" y="3123"/>
                  </a:lnTo>
                  <a:lnTo>
                    <a:pt x="11994" y="3106"/>
                  </a:lnTo>
                  <a:lnTo>
                    <a:pt x="12377" y="3089"/>
                  </a:lnTo>
                  <a:lnTo>
                    <a:pt x="12385" y="2762"/>
                  </a:lnTo>
                  <a:lnTo>
                    <a:pt x="12390" y="2468"/>
                  </a:lnTo>
                  <a:lnTo>
                    <a:pt x="12394" y="2199"/>
                  </a:lnTo>
                  <a:lnTo>
                    <a:pt x="12397" y="1940"/>
                  </a:lnTo>
                  <a:lnTo>
                    <a:pt x="12399" y="1683"/>
                  </a:lnTo>
                  <a:lnTo>
                    <a:pt x="12400" y="1416"/>
                  </a:lnTo>
                  <a:lnTo>
                    <a:pt x="12402" y="1126"/>
                  </a:lnTo>
                  <a:lnTo>
                    <a:pt x="12405" y="803"/>
                  </a:lnTo>
                  <a:lnTo>
                    <a:pt x="12405" y="769"/>
                  </a:lnTo>
                  <a:lnTo>
                    <a:pt x="12404" y="734"/>
                  </a:lnTo>
                  <a:lnTo>
                    <a:pt x="12404" y="700"/>
                  </a:lnTo>
                  <a:lnTo>
                    <a:pt x="12404" y="664"/>
                  </a:lnTo>
                  <a:lnTo>
                    <a:pt x="12404" y="630"/>
                  </a:lnTo>
                  <a:lnTo>
                    <a:pt x="12404" y="595"/>
                  </a:lnTo>
                  <a:lnTo>
                    <a:pt x="12404" y="559"/>
                  </a:lnTo>
                  <a:lnTo>
                    <a:pt x="12404" y="525"/>
                  </a:lnTo>
                  <a:lnTo>
                    <a:pt x="12327" y="514"/>
                  </a:lnTo>
                  <a:lnTo>
                    <a:pt x="12251" y="502"/>
                  </a:lnTo>
                  <a:lnTo>
                    <a:pt x="12173" y="489"/>
                  </a:lnTo>
                  <a:lnTo>
                    <a:pt x="12097" y="473"/>
                  </a:lnTo>
                  <a:lnTo>
                    <a:pt x="12019" y="456"/>
                  </a:lnTo>
                  <a:lnTo>
                    <a:pt x="11941" y="437"/>
                  </a:lnTo>
                  <a:lnTo>
                    <a:pt x="11862" y="416"/>
                  </a:lnTo>
                  <a:lnTo>
                    <a:pt x="11784" y="392"/>
                  </a:lnTo>
                  <a:lnTo>
                    <a:pt x="11744" y="379"/>
                  </a:lnTo>
                  <a:lnTo>
                    <a:pt x="11704" y="366"/>
                  </a:lnTo>
                  <a:lnTo>
                    <a:pt x="11664" y="352"/>
                  </a:lnTo>
                  <a:lnTo>
                    <a:pt x="11624" y="337"/>
                  </a:lnTo>
                  <a:lnTo>
                    <a:pt x="11583" y="322"/>
                  </a:lnTo>
                  <a:lnTo>
                    <a:pt x="11543" y="306"/>
                  </a:lnTo>
                  <a:lnTo>
                    <a:pt x="11502" y="289"/>
                  </a:lnTo>
                  <a:lnTo>
                    <a:pt x="11461" y="272"/>
                  </a:lnTo>
                  <a:lnTo>
                    <a:pt x="11420" y="254"/>
                  </a:lnTo>
                  <a:lnTo>
                    <a:pt x="11379" y="235"/>
                  </a:lnTo>
                  <a:lnTo>
                    <a:pt x="11338" y="214"/>
                  </a:lnTo>
                  <a:lnTo>
                    <a:pt x="11297" y="193"/>
                  </a:lnTo>
                  <a:lnTo>
                    <a:pt x="11255" y="172"/>
                  </a:lnTo>
                  <a:lnTo>
                    <a:pt x="11213" y="150"/>
                  </a:lnTo>
                  <a:lnTo>
                    <a:pt x="11170" y="126"/>
                  </a:lnTo>
                  <a:lnTo>
                    <a:pt x="11128" y="102"/>
                  </a:lnTo>
                  <a:lnTo>
                    <a:pt x="11096" y="93"/>
                  </a:lnTo>
                  <a:lnTo>
                    <a:pt x="11064" y="85"/>
                  </a:lnTo>
                  <a:lnTo>
                    <a:pt x="11033" y="78"/>
                  </a:lnTo>
                  <a:lnTo>
                    <a:pt x="11002" y="74"/>
                  </a:lnTo>
                  <a:lnTo>
                    <a:pt x="10971" y="69"/>
                  </a:lnTo>
                  <a:lnTo>
                    <a:pt x="10941" y="66"/>
                  </a:lnTo>
                  <a:lnTo>
                    <a:pt x="10911" y="64"/>
                  </a:lnTo>
                  <a:lnTo>
                    <a:pt x="10881" y="62"/>
                  </a:lnTo>
                  <a:lnTo>
                    <a:pt x="10851" y="62"/>
                  </a:lnTo>
                  <a:lnTo>
                    <a:pt x="10822" y="64"/>
                  </a:lnTo>
                  <a:lnTo>
                    <a:pt x="10793" y="65"/>
                  </a:lnTo>
                  <a:lnTo>
                    <a:pt x="10764" y="68"/>
                  </a:lnTo>
                  <a:lnTo>
                    <a:pt x="10735" y="72"/>
                  </a:lnTo>
                  <a:lnTo>
                    <a:pt x="10707" y="75"/>
                  </a:lnTo>
                  <a:lnTo>
                    <a:pt x="10677" y="81"/>
                  </a:lnTo>
                  <a:lnTo>
                    <a:pt x="10648" y="86"/>
                  </a:lnTo>
                  <a:lnTo>
                    <a:pt x="10591" y="99"/>
                  </a:lnTo>
                  <a:lnTo>
                    <a:pt x="10533" y="115"/>
                  </a:lnTo>
                  <a:lnTo>
                    <a:pt x="10475" y="132"/>
                  </a:lnTo>
                  <a:lnTo>
                    <a:pt x="10416" y="151"/>
                  </a:lnTo>
                  <a:lnTo>
                    <a:pt x="10295" y="193"/>
                  </a:lnTo>
                  <a:lnTo>
                    <a:pt x="10169" y="237"/>
                  </a:lnTo>
                  <a:lnTo>
                    <a:pt x="10122" y="252"/>
                  </a:lnTo>
                  <a:lnTo>
                    <a:pt x="10074" y="264"/>
                  </a:lnTo>
                  <a:lnTo>
                    <a:pt x="10027" y="274"/>
                  </a:lnTo>
                  <a:lnTo>
                    <a:pt x="9981" y="284"/>
                  </a:lnTo>
                  <a:lnTo>
                    <a:pt x="9933" y="292"/>
                  </a:lnTo>
                  <a:lnTo>
                    <a:pt x="9886" y="297"/>
                  </a:lnTo>
                  <a:lnTo>
                    <a:pt x="9840" y="302"/>
                  </a:lnTo>
                  <a:lnTo>
                    <a:pt x="9794" y="305"/>
                  </a:lnTo>
                  <a:lnTo>
                    <a:pt x="9747" y="307"/>
                  </a:lnTo>
                  <a:lnTo>
                    <a:pt x="9701" y="309"/>
                  </a:lnTo>
                  <a:lnTo>
                    <a:pt x="9656" y="309"/>
                  </a:lnTo>
                  <a:lnTo>
                    <a:pt x="9610" y="307"/>
                  </a:lnTo>
                  <a:lnTo>
                    <a:pt x="9565" y="305"/>
                  </a:lnTo>
                  <a:lnTo>
                    <a:pt x="9519" y="303"/>
                  </a:lnTo>
                  <a:lnTo>
                    <a:pt x="9473" y="300"/>
                  </a:lnTo>
                  <a:lnTo>
                    <a:pt x="9429" y="295"/>
                  </a:lnTo>
                  <a:lnTo>
                    <a:pt x="9339" y="285"/>
                  </a:lnTo>
                  <a:lnTo>
                    <a:pt x="9250" y="273"/>
                  </a:lnTo>
                  <a:lnTo>
                    <a:pt x="9162" y="261"/>
                  </a:lnTo>
                  <a:lnTo>
                    <a:pt x="9075" y="248"/>
                  </a:lnTo>
                  <a:lnTo>
                    <a:pt x="8987" y="237"/>
                  </a:lnTo>
                  <a:lnTo>
                    <a:pt x="8901" y="225"/>
                  </a:lnTo>
                  <a:lnTo>
                    <a:pt x="8858" y="221"/>
                  </a:lnTo>
                  <a:lnTo>
                    <a:pt x="8815" y="216"/>
                  </a:lnTo>
                  <a:lnTo>
                    <a:pt x="8773" y="213"/>
                  </a:lnTo>
                  <a:lnTo>
                    <a:pt x="8730" y="209"/>
                  </a:lnTo>
                  <a:lnTo>
                    <a:pt x="8708" y="207"/>
                  </a:lnTo>
                  <a:lnTo>
                    <a:pt x="8686" y="206"/>
                  </a:lnTo>
                  <a:lnTo>
                    <a:pt x="8664" y="205"/>
                  </a:lnTo>
                  <a:lnTo>
                    <a:pt x="8641" y="206"/>
                  </a:lnTo>
                  <a:lnTo>
                    <a:pt x="8620" y="208"/>
                  </a:lnTo>
                  <a:lnTo>
                    <a:pt x="8597" y="211"/>
                  </a:lnTo>
                  <a:lnTo>
                    <a:pt x="8574" y="214"/>
                  </a:lnTo>
                  <a:lnTo>
                    <a:pt x="8551" y="219"/>
                  </a:lnTo>
                  <a:lnTo>
                    <a:pt x="8529" y="224"/>
                  </a:lnTo>
                  <a:lnTo>
                    <a:pt x="8506" y="230"/>
                  </a:lnTo>
                  <a:lnTo>
                    <a:pt x="8483" y="237"/>
                  </a:lnTo>
                  <a:lnTo>
                    <a:pt x="8459" y="245"/>
                  </a:lnTo>
                  <a:lnTo>
                    <a:pt x="8412" y="261"/>
                  </a:lnTo>
                  <a:lnTo>
                    <a:pt x="8366" y="278"/>
                  </a:lnTo>
                  <a:lnTo>
                    <a:pt x="8271" y="318"/>
                  </a:lnTo>
                  <a:lnTo>
                    <a:pt x="8175" y="358"/>
                  </a:lnTo>
                  <a:lnTo>
                    <a:pt x="8127" y="377"/>
                  </a:lnTo>
                  <a:lnTo>
                    <a:pt x="8080" y="395"/>
                  </a:lnTo>
                  <a:lnTo>
                    <a:pt x="8032" y="411"/>
                  </a:lnTo>
                  <a:lnTo>
                    <a:pt x="7984" y="426"/>
                  </a:lnTo>
                  <a:lnTo>
                    <a:pt x="7952" y="421"/>
                  </a:lnTo>
                  <a:lnTo>
                    <a:pt x="7920" y="415"/>
                  </a:lnTo>
                  <a:lnTo>
                    <a:pt x="7888" y="409"/>
                  </a:lnTo>
                  <a:lnTo>
                    <a:pt x="7857" y="402"/>
                  </a:lnTo>
                  <a:lnTo>
                    <a:pt x="7795" y="386"/>
                  </a:lnTo>
                  <a:lnTo>
                    <a:pt x="7732" y="369"/>
                  </a:lnTo>
                  <a:lnTo>
                    <a:pt x="7668" y="351"/>
                  </a:lnTo>
                  <a:lnTo>
                    <a:pt x="7603" y="330"/>
                  </a:lnTo>
                  <a:lnTo>
                    <a:pt x="7537" y="309"/>
                  </a:lnTo>
                  <a:lnTo>
                    <a:pt x="7468" y="286"/>
                  </a:lnTo>
                  <a:lnTo>
                    <a:pt x="7397" y="263"/>
                  </a:lnTo>
                  <a:lnTo>
                    <a:pt x="7323" y="240"/>
                  </a:lnTo>
                  <a:lnTo>
                    <a:pt x="7244" y="216"/>
                  </a:lnTo>
                  <a:lnTo>
                    <a:pt x="7162" y="192"/>
                  </a:lnTo>
                  <a:lnTo>
                    <a:pt x="7077" y="168"/>
                  </a:lnTo>
                  <a:lnTo>
                    <a:pt x="6984" y="146"/>
                  </a:lnTo>
                  <a:lnTo>
                    <a:pt x="6888" y="124"/>
                  </a:lnTo>
                  <a:lnTo>
                    <a:pt x="6785" y="102"/>
                  </a:lnTo>
                  <a:lnTo>
                    <a:pt x="6748" y="117"/>
                  </a:lnTo>
                  <a:lnTo>
                    <a:pt x="6709" y="132"/>
                  </a:lnTo>
                  <a:lnTo>
                    <a:pt x="6666" y="146"/>
                  </a:lnTo>
                  <a:lnTo>
                    <a:pt x="6620" y="159"/>
                  </a:lnTo>
                  <a:lnTo>
                    <a:pt x="6571" y="173"/>
                  </a:lnTo>
                  <a:lnTo>
                    <a:pt x="6518" y="186"/>
                  </a:lnTo>
                  <a:lnTo>
                    <a:pt x="6462" y="198"/>
                  </a:lnTo>
                  <a:lnTo>
                    <a:pt x="6404" y="209"/>
                  </a:lnTo>
                  <a:lnTo>
                    <a:pt x="6344" y="221"/>
                  </a:lnTo>
                  <a:lnTo>
                    <a:pt x="6281" y="232"/>
                  </a:lnTo>
                  <a:lnTo>
                    <a:pt x="6215" y="244"/>
                  </a:lnTo>
                  <a:lnTo>
                    <a:pt x="6148" y="254"/>
                  </a:lnTo>
                  <a:lnTo>
                    <a:pt x="6007" y="274"/>
                  </a:lnTo>
                  <a:lnTo>
                    <a:pt x="5856" y="294"/>
                  </a:lnTo>
                  <a:lnTo>
                    <a:pt x="5700" y="312"/>
                  </a:lnTo>
                  <a:lnTo>
                    <a:pt x="5538" y="329"/>
                  </a:lnTo>
                  <a:lnTo>
                    <a:pt x="5371" y="346"/>
                  </a:lnTo>
                  <a:lnTo>
                    <a:pt x="5200" y="362"/>
                  </a:lnTo>
                  <a:lnTo>
                    <a:pt x="4850" y="393"/>
                  </a:lnTo>
                  <a:lnTo>
                    <a:pt x="4494" y="425"/>
                  </a:lnTo>
                  <a:lnTo>
                    <a:pt x="4420" y="388"/>
                  </a:lnTo>
                  <a:lnTo>
                    <a:pt x="4347" y="352"/>
                  </a:lnTo>
                  <a:lnTo>
                    <a:pt x="4274" y="314"/>
                  </a:lnTo>
                  <a:lnTo>
                    <a:pt x="4200" y="278"/>
                  </a:lnTo>
                  <a:lnTo>
                    <a:pt x="4127" y="241"/>
                  </a:lnTo>
                  <a:lnTo>
                    <a:pt x="4054" y="204"/>
                  </a:lnTo>
                  <a:lnTo>
                    <a:pt x="3980" y="167"/>
                  </a:lnTo>
                  <a:lnTo>
                    <a:pt x="3907" y="130"/>
                  </a:lnTo>
                  <a:lnTo>
                    <a:pt x="3875" y="127"/>
                  </a:lnTo>
                  <a:lnTo>
                    <a:pt x="3843" y="124"/>
                  </a:lnTo>
                  <a:lnTo>
                    <a:pt x="3812" y="123"/>
                  </a:lnTo>
                  <a:lnTo>
                    <a:pt x="3781" y="122"/>
                  </a:lnTo>
                  <a:lnTo>
                    <a:pt x="3750" y="121"/>
                  </a:lnTo>
                  <a:lnTo>
                    <a:pt x="3719" y="121"/>
                  </a:lnTo>
                  <a:lnTo>
                    <a:pt x="3688" y="122"/>
                  </a:lnTo>
                  <a:lnTo>
                    <a:pt x="3659" y="123"/>
                  </a:lnTo>
                  <a:lnTo>
                    <a:pt x="3629" y="125"/>
                  </a:lnTo>
                  <a:lnTo>
                    <a:pt x="3600" y="127"/>
                  </a:lnTo>
                  <a:lnTo>
                    <a:pt x="3570" y="131"/>
                  </a:lnTo>
                  <a:lnTo>
                    <a:pt x="3540" y="134"/>
                  </a:lnTo>
                  <a:lnTo>
                    <a:pt x="3512" y="139"/>
                  </a:lnTo>
                  <a:lnTo>
                    <a:pt x="3482" y="144"/>
                  </a:lnTo>
                  <a:lnTo>
                    <a:pt x="3454" y="150"/>
                  </a:lnTo>
                  <a:lnTo>
                    <a:pt x="3425" y="156"/>
                  </a:lnTo>
                  <a:lnTo>
                    <a:pt x="3398" y="163"/>
                  </a:lnTo>
                  <a:lnTo>
                    <a:pt x="3369" y="171"/>
                  </a:lnTo>
                  <a:lnTo>
                    <a:pt x="3342" y="179"/>
                  </a:lnTo>
                  <a:lnTo>
                    <a:pt x="3315" y="188"/>
                  </a:lnTo>
                  <a:lnTo>
                    <a:pt x="3287" y="197"/>
                  </a:lnTo>
                  <a:lnTo>
                    <a:pt x="3260" y="207"/>
                  </a:lnTo>
                  <a:lnTo>
                    <a:pt x="3234" y="217"/>
                  </a:lnTo>
                  <a:lnTo>
                    <a:pt x="3206" y="229"/>
                  </a:lnTo>
                  <a:lnTo>
                    <a:pt x="3180" y="241"/>
                  </a:lnTo>
                  <a:lnTo>
                    <a:pt x="3154" y="254"/>
                  </a:lnTo>
                  <a:lnTo>
                    <a:pt x="3128" y="268"/>
                  </a:lnTo>
                  <a:lnTo>
                    <a:pt x="3103" y="281"/>
                  </a:lnTo>
                  <a:lnTo>
                    <a:pt x="3076" y="296"/>
                  </a:lnTo>
                  <a:lnTo>
                    <a:pt x="3051" y="311"/>
                  </a:lnTo>
                  <a:lnTo>
                    <a:pt x="3026" y="327"/>
                  </a:lnTo>
                  <a:lnTo>
                    <a:pt x="3001" y="343"/>
                  </a:lnTo>
                  <a:lnTo>
                    <a:pt x="2897" y="329"/>
                  </a:lnTo>
                  <a:lnTo>
                    <a:pt x="2799" y="314"/>
                  </a:lnTo>
                  <a:lnTo>
                    <a:pt x="2708" y="300"/>
                  </a:lnTo>
                  <a:lnTo>
                    <a:pt x="2623" y="284"/>
                  </a:lnTo>
                  <a:lnTo>
                    <a:pt x="2543" y="268"/>
                  </a:lnTo>
                  <a:lnTo>
                    <a:pt x="2468" y="250"/>
                  </a:lnTo>
                  <a:lnTo>
                    <a:pt x="2398" y="232"/>
                  </a:lnTo>
                  <a:lnTo>
                    <a:pt x="2333" y="213"/>
                  </a:lnTo>
                  <a:lnTo>
                    <a:pt x="2272" y="193"/>
                  </a:lnTo>
                  <a:lnTo>
                    <a:pt x="2215" y="173"/>
                  </a:lnTo>
                  <a:lnTo>
                    <a:pt x="2187" y="162"/>
                  </a:lnTo>
                  <a:lnTo>
                    <a:pt x="2161" y="150"/>
                  </a:lnTo>
                  <a:lnTo>
                    <a:pt x="2135" y="139"/>
                  </a:lnTo>
                  <a:lnTo>
                    <a:pt x="2111" y="127"/>
                  </a:lnTo>
                  <a:lnTo>
                    <a:pt x="2087" y="116"/>
                  </a:lnTo>
                  <a:lnTo>
                    <a:pt x="2063" y="103"/>
                  </a:lnTo>
                  <a:lnTo>
                    <a:pt x="2040" y="91"/>
                  </a:lnTo>
                  <a:lnTo>
                    <a:pt x="2019" y="77"/>
                  </a:lnTo>
                  <a:lnTo>
                    <a:pt x="1997" y="65"/>
                  </a:lnTo>
                  <a:lnTo>
                    <a:pt x="1977" y="51"/>
                  </a:lnTo>
                  <a:lnTo>
                    <a:pt x="1956" y="37"/>
                  </a:lnTo>
                  <a:lnTo>
                    <a:pt x="1937" y="22"/>
                  </a:lnTo>
                  <a:lnTo>
                    <a:pt x="1880" y="15"/>
                  </a:lnTo>
                  <a:lnTo>
                    <a:pt x="1824" y="9"/>
                  </a:lnTo>
                  <a:lnTo>
                    <a:pt x="1767" y="4"/>
                  </a:lnTo>
                  <a:lnTo>
                    <a:pt x="1710" y="1"/>
                  </a:lnTo>
                  <a:lnTo>
                    <a:pt x="1653" y="0"/>
                  </a:lnTo>
                  <a:lnTo>
                    <a:pt x="1595" y="0"/>
                  </a:lnTo>
                  <a:lnTo>
                    <a:pt x="1537" y="0"/>
                  </a:lnTo>
                  <a:lnTo>
                    <a:pt x="1477" y="2"/>
                  </a:lnTo>
                  <a:lnTo>
                    <a:pt x="1419" y="5"/>
                  </a:lnTo>
                  <a:lnTo>
                    <a:pt x="1360" y="10"/>
                  </a:lnTo>
                  <a:lnTo>
                    <a:pt x="1301" y="16"/>
                  </a:lnTo>
                  <a:lnTo>
                    <a:pt x="1240" y="21"/>
                  </a:lnTo>
                  <a:lnTo>
                    <a:pt x="1181" y="29"/>
                  </a:lnTo>
                  <a:lnTo>
                    <a:pt x="1121" y="37"/>
                  </a:lnTo>
                  <a:lnTo>
                    <a:pt x="1060" y="46"/>
                  </a:lnTo>
                  <a:lnTo>
                    <a:pt x="999" y="56"/>
                  </a:lnTo>
                  <a:lnTo>
                    <a:pt x="877" y="77"/>
                  </a:lnTo>
                  <a:lnTo>
                    <a:pt x="755" y="100"/>
                  </a:lnTo>
                  <a:lnTo>
                    <a:pt x="632" y="125"/>
                  </a:lnTo>
                  <a:lnTo>
                    <a:pt x="508" y="151"/>
                  </a:lnTo>
                  <a:lnTo>
                    <a:pt x="259" y="206"/>
                  </a:lnTo>
                  <a:lnTo>
                    <a:pt x="11" y="260"/>
                  </a:lnTo>
                  <a:lnTo>
                    <a:pt x="10" y="317"/>
                  </a:lnTo>
                  <a:lnTo>
                    <a:pt x="8" y="375"/>
                  </a:lnTo>
                  <a:lnTo>
                    <a:pt x="6" y="432"/>
                  </a:lnTo>
                  <a:lnTo>
                    <a:pt x="5" y="489"/>
                  </a:lnTo>
                  <a:lnTo>
                    <a:pt x="4" y="546"/>
                  </a:lnTo>
                  <a:lnTo>
                    <a:pt x="3" y="603"/>
                  </a:lnTo>
                  <a:lnTo>
                    <a:pt x="2" y="660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97a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97040" y="3535560"/>
              <a:ext cx="49320" cy="758880"/>
            </a:xfrm>
            <a:custGeom>
              <a:avLst/>
              <a:gdLst/>
              <a:ahLst/>
              <a:rect l="l" t="t" r="r" b="b"/>
              <a:pathLst>
                <a:path w="155" h="2390">
                  <a:moveTo>
                    <a:pt x="138" y="2354"/>
                  </a:moveTo>
                  <a:lnTo>
                    <a:pt x="155" y="2371"/>
                  </a:lnTo>
                  <a:lnTo>
                    <a:pt x="136" y="2035"/>
                  </a:lnTo>
                  <a:lnTo>
                    <a:pt x="118" y="1733"/>
                  </a:lnTo>
                  <a:lnTo>
                    <a:pt x="98" y="1452"/>
                  </a:lnTo>
                  <a:lnTo>
                    <a:pt x="81" y="1184"/>
                  </a:lnTo>
                  <a:lnTo>
                    <a:pt x="74" y="1051"/>
                  </a:lnTo>
                  <a:lnTo>
                    <a:pt x="66" y="916"/>
                  </a:lnTo>
                  <a:lnTo>
                    <a:pt x="59" y="778"/>
                  </a:lnTo>
                  <a:lnTo>
                    <a:pt x="54" y="637"/>
                  </a:lnTo>
                  <a:lnTo>
                    <a:pt x="48" y="490"/>
                  </a:lnTo>
                  <a:lnTo>
                    <a:pt x="43" y="335"/>
                  </a:lnTo>
                  <a:lnTo>
                    <a:pt x="39" y="173"/>
                  </a:lnTo>
                  <a:lnTo>
                    <a:pt x="37" y="0"/>
                  </a:lnTo>
                  <a:lnTo>
                    <a:pt x="0" y="1"/>
                  </a:lnTo>
                  <a:lnTo>
                    <a:pt x="2" y="173"/>
                  </a:lnTo>
                  <a:lnTo>
                    <a:pt x="7" y="336"/>
                  </a:lnTo>
                  <a:lnTo>
                    <a:pt x="12" y="491"/>
                  </a:lnTo>
                  <a:lnTo>
                    <a:pt x="17" y="638"/>
                  </a:lnTo>
                  <a:lnTo>
                    <a:pt x="23" y="781"/>
                  </a:lnTo>
                  <a:lnTo>
                    <a:pt x="30" y="917"/>
                  </a:lnTo>
                  <a:lnTo>
                    <a:pt x="38" y="1053"/>
                  </a:lnTo>
                  <a:lnTo>
                    <a:pt x="46" y="1186"/>
                  </a:lnTo>
                  <a:lnTo>
                    <a:pt x="63" y="1454"/>
                  </a:lnTo>
                  <a:lnTo>
                    <a:pt x="81" y="1735"/>
                  </a:lnTo>
                  <a:lnTo>
                    <a:pt x="100" y="2037"/>
                  </a:lnTo>
                  <a:lnTo>
                    <a:pt x="120" y="2372"/>
                  </a:lnTo>
                  <a:lnTo>
                    <a:pt x="137" y="2390"/>
                  </a:lnTo>
                  <a:lnTo>
                    <a:pt x="120" y="2372"/>
                  </a:lnTo>
                  <a:lnTo>
                    <a:pt x="120" y="2377"/>
                  </a:lnTo>
                  <a:lnTo>
                    <a:pt x="121" y="2380"/>
                  </a:lnTo>
                  <a:lnTo>
                    <a:pt x="123" y="2383"/>
                  </a:lnTo>
                  <a:lnTo>
                    <a:pt x="126" y="2386"/>
                  </a:lnTo>
                  <a:lnTo>
                    <a:pt x="129" y="2388"/>
                  </a:lnTo>
                  <a:lnTo>
                    <a:pt x="131" y="2389"/>
                  </a:lnTo>
                  <a:lnTo>
                    <a:pt x="135" y="2389"/>
                  </a:lnTo>
                  <a:lnTo>
                    <a:pt x="138" y="2390"/>
                  </a:lnTo>
                  <a:lnTo>
                    <a:pt x="142" y="2389"/>
                  </a:lnTo>
                  <a:lnTo>
                    <a:pt x="145" y="2388"/>
                  </a:lnTo>
                  <a:lnTo>
                    <a:pt x="148" y="2387"/>
                  </a:lnTo>
                  <a:lnTo>
                    <a:pt x="151" y="2385"/>
                  </a:lnTo>
                  <a:lnTo>
                    <a:pt x="153" y="2382"/>
                  </a:lnTo>
                  <a:lnTo>
                    <a:pt x="154" y="2379"/>
                  </a:lnTo>
                  <a:lnTo>
                    <a:pt x="155" y="2376"/>
                  </a:lnTo>
                  <a:lnTo>
                    <a:pt x="155" y="2371"/>
                  </a:lnTo>
                  <a:lnTo>
                    <a:pt x="138" y="235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639880" y="4283280"/>
              <a:ext cx="3899160" cy="54000"/>
            </a:xfrm>
            <a:custGeom>
              <a:avLst/>
              <a:gdLst/>
              <a:ahLst/>
              <a:rect l="l" t="t" r="r" b="b"/>
              <a:pathLst>
                <a:path w="12277" h="170">
                  <a:moveTo>
                    <a:pt x="12240" y="17"/>
                  </a:moveTo>
                  <a:lnTo>
                    <a:pt x="12257" y="0"/>
                  </a:lnTo>
                  <a:lnTo>
                    <a:pt x="11874" y="17"/>
                  </a:lnTo>
                  <a:lnTo>
                    <a:pt x="11491" y="34"/>
                  </a:lnTo>
                  <a:lnTo>
                    <a:pt x="11108" y="49"/>
                  </a:lnTo>
                  <a:lnTo>
                    <a:pt x="10725" y="63"/>
                  </a:lnTo>
                  <a:lnTo>
                    <a:pt x="10343" y="75"/>
                  </a:lnTo>
                  <a:lnTo>
                    <a:pt x="9958" y="86"/>
                  </a:lnTo>
                  <a:lnTo>
                    <a:pt x="9576" y="97"/>
                  </a:lnTo>
                  <a:lnTo>
                    <a:pt x="9193" y="105"/>
                  </a:lnTo>
                  <a:lnTo>
                    <a:pt x="8810" y="113"/>
                  </a:lnTo>
                  <a:lnTo>
                    <a:pt x="8427" y="120"/>
                  </a:lnTo>
                  <a:lnTo>
                    <a:pt x="8044" y="124"/>
                  </a:lnTo>
                  <a:lnTo>
                    <a:pt x="7661" y="129"/>
                  </a:lnTo>
                  <a:lnTo>
                    <a:pt x="7278" y="131"/>
                  </a:lnTo>
                  <a:lnTo>
                    <a:pt x="6895" y="133"/>
                  </a:lnTo>
                  <a:lnTo>
                    <a:pt x="6512" y="133"/>
                  </a:lnTo>
                  <a:lnTo>
                    <a:pt x="6129" y="133"/>
                  </a:lnTo>
                  <a:lnTo>
                    <a:pt x="5746" y="132"/>
                  </a:lnTo>
                  <a:lnTo>
                    <a:pt x="5363" y="130"/>
                  </a:lnTo>
                  <a:lnTo>
                    <a:pt x="4980" y="126"/>
                  </a:lnTo>
                  <a:lnTo>
                    <a:pt x="4597" y="122"/>
                  </a:lnTo>
                  <a:lnTo>
                    <a:pt x="4214" y="116"/>
                  </a:lnTo>
                  <a:lnTo>
                    <a:pt x="3832" y="110"/>
                  </a:lnTo>
                  <a:lnTo>
                    <a:pt x="3449" y="102"/>
                  </a:lnTo>
                  <a:lnTo>
                    <a:pt x="3066" y="94"/>
                  </a:lnTo>
                  <a:lnTo>
                    <a:pt x="2683" y="85"/>
                  </a:lnTo>
                  <a:lnTo>
                    <a:pt x="2300" y="76"/>
                  </a:lnTo>
                  <a:lnTo>
                    <a:pt x="1917" y="65"/>
                  </a:lnTo>
                  <a:lnTo>
                    <a:pt x="1534" y="53"/>
                  </a:lnTo>
                  <a:lnTo>
                    <a:pt x="1151" y="41"/>
                  </a:lnTo>
                  <a:lnTo>
                    <a:pt x="767" y="28"/>
                  </a:lnTo>
                  <a:lnTo>
                    <a:pt x="384" y="15"/>
                  </a:lnTo>
                  <a:lnTo>
                    <a:pt x="1" y="0"/>
                  </a:lnTo>
                  <a:lnTo>
                    <a:pt x="0" y="36"/>
                  </a:lnTo>
                  <a:lnTo>
                    <a:pt x="383" y="50"/>
                  </a:lnTo>
                  <a:lnTo>
                    <a:pt x="766" y="64"/>
                  </a:lnTo>
                  <a:lnTo>
                    <a:pt x="1150" y="77"/>
                  </a:lnTo>
                  <a:lnTo>
                    <a:pt x="1533" y="90"/>
                  </a:lnTo>
                  <a:lnTo>
                    <a:pt x="1916" y="101"/>
                  </a:lnTo>
                  <a:lnTo>
                    <a:pt x="2299" y="112"/>
                  </a:lnTo>
                  <a:lnTo>
                    <a:pt x="2682" y="122"/>
                  </a:lnTo>
                  <a:lnTo>
                    <a:pt x="3065" y="131"/>
                  </a:lnTo>
                  <a:lnTo>
                    <a:pt x="3447" y="139"/>
                  </a:lnTo>
                  <a:lnTo>
                    <a:pt x="3832" y="146"/>
                  </a:lnTo>
                  <a:lnTo>
                    <a:pt x="4214" y="153"/>
                  </a:lnTo>
                  <a:lnTo>
                    <a:pt x="4597" y="158"/>
                  </a:lnTo>
                  <a:lnTo>
                    <a:pt x="4980" y="163"/>
                  </a:lnTo>
                  <a:lnTo>
                    <a:pt x="5363" y="166"/>
                  </a:lnTo>
                  <a:lnTo>
                    <a:pt x="5746" y="169"/>
                  </a:lnTo>
                  <a:lnTo>
                    <a:pt x="6129" y="170"/>
                  </a:lnTo>
                  <a:lnTo>
                    <a:pt x="6512" y="170"/>
                  </a:lnTo>
                  <a:lnTo>
                    <a:pt x="6895" y="170"/>
                  </a:lnTo>
                  <a:lnTo>
                    <a:pt x="7278" y="167"/>
                  </a:lnTo>
                  <a:lnTo>
                    <a:pt x="7661" y="165"/>
                  </a:lnTo>
                  <a:lnTo>
                    <a:pt x="8045" y="161"/>
                  </a:lnTo>
                  <a:lnTo>
                    <a:pt x="8428" y="155"/>
                  </a:lnTo>
                  <a:lnTo>
                    <a:pt x="8811" y="149"/>
                  </a:lnTo>
                  <a:lnTo>
                    <a:pt x="9194" y="141"/>
                  </a:lnTo>
                  <a:lnTo>
                    <a:pt x="9577" y="133"/>
                  </a:lnTo>
                  <a:lnTo>
                    <a:pt x="9960" y="123"/>
                  </a:lnTo>
                  <a:lnTo>
                    <a:pt x="10343" y="112"/>
                  </a:lnTo>
                  <a:lnTo>
                    <a:pt x="10727" y="99"/>
                  </a:lnTo>
                  <a:lnTo>
                    <a:pt x="11110" y="85"/>
                  </a:lnTo>
                  <a:lnTo>
                    <a:pt x="11492" y="71"/>
                  </a:lnTo>
                  <a:lnTo>
                    <a:pt x="11875" y="53"/>
                  </a:lnTo>
                  <a:lnTo>
                    <a:pt x="12259" y="36"/>
                  </a:lnTo>
                  <a:lnTo>
                    <a:pt x="12277" y="18"/>
                  </a:lnTo>
                  <a:lnTo>
                    <a:pt x="12259" y="36"/>
                  </a:lnTo>
                  <a:lnTo>
                    <a:pt x="12263" y="35"/>
                  </a:lnTo>
                  <a:lnTo>
                    <a:pt x="12266" y="34"/>
                  </a:lnTo>
                  <a:lnTo>
                    <a:pt x="12270" y="32"/>
                  </a:lnTo>
                  <a:lnTo>
                    <a:pt x="12272" y="29"/>
                  </a:lnTo>
                  <a:lnTo>
                    <a:pt x="12274" y="27"/>
                  </a:lnTo>
                  <a:lnTo>
                    <a:pt x="12275" y="24"/>
                  </a:lnTo>
                  <a:lnTo>
                    <a:pt x="12277" y="20"/>
                  </a:lnTo>
                  <a:lnTo>
                    <a:pt x="12277" y="17"/>
                  </a:lnTo>
                  <a:lnTo>
                    <a:pt x="12275" y="14"/>
                  </a:lnTo>
                  <a:lnTo>
                    <a:pt x="12274" y="10"/>
                  </a:lnTo>
                  <a:lnTo>
                    <a:pt x="12273" y="7"/>
                  </a:lnTo>
                  <a:lnTo>
                    <a:pt x="12271" y="4"/>
                  </a:lnTo>
                  <a:lnTo>
                    <a:pt x="12269" y="2"/>
                  </a:lnTo>
                  <a:lnTo>
                    <a:pt x="12265" y="1"/>
                  </a:lnTo>
                  <a:lnTo>
                    <a:pt x="12262" y="0"/>
                  </a:lnTo>
                  <a:lnTo>
                    <a:pt x="12257" y="0"/>
                  </a:lnTo>
                  <a:lnTo>
                    <a:pt x="12240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526080" y="3557880"/>
              <a:ext cx="20880" cy="730080"/>
            </a:xfrm>
            <a:custGeom>
              <a:avLst/>
              <a:gdLst/>
              <a:ahLst/>
              <a:rect l="l" t="t" r="r" b="b"/>
              <a:pathLst>
                <a:path w="64" h="2304">
                  <a:moveTo>
                    <a:pt x="27" y="20"/>
                  </a:moveTo>
                  <a:lnTo>
                    <a:pt x="27" y="18"/>
                  </a:lnTo>
                  <a:lnTo>
                    <a:pt x="25" y="341"/>
                  </a:lnTo>
                  <a:lnTo>
                    <a:pt x="23" y="631"/>
                  </a:lnTo>
                  <a:lnTo>
                    <a:pt x="22" y="898"/>
                  </a:lnTo>
                  <a:lnTo>
                    <a:pt x="19" y="1155"/>
                  </a:lnTo>
                  <a:lnTo>
                    <a:pt x="17" y="1414"/>
                  </a:lnTo>
                  <a:lnTo>
                    <a:pt x="14" y="1683"/>
                  </a:lnTo>
                  <a:lnTo>
                    <a:pt x="8" y="1976"/>
                  </a:lnTo>
                  <a:lnTo>
                    <a:pt x="0" y="2303"/>
                  </a:lnTo>
                  <a:lnTo>
                    <a:pt x="37" y="2304"/>
                  </a:lnTo>
                  <a:lnTo>
                    <a:pt x="45" y="1977"/>
                  </a:lnTo>
                  <a:lnTo>
                    <a:pt x="49" y="1684"/>
                  </a:lnTo>
                  <a:lnTo>
                    <a:pt x="54" y="1414"/>
                  </a:lnTo>
                  <a:lnTo>
                    <a:pt x="56" y="1156"/>
                  </a:lnTo>
                  <a:lnTo>
                    <a:pt x="58" y="898"/>
                  </a:lnTo>
                  <a:lnTo>
                    <a:pt x="59" y="631"/>
                  </a:lnTo>
                  <a:lnTo>
                    <a:pt x="62" y="34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5"/>
                  </a:lnTo>
                  <a:lnTo>
                    <a:pt x="63" y="12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7" y="18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34000" y="3468960"/>
              <a:ext cx="12960" cy="95400"/>
            </a:xfrm>
            <a:custGeom>
              <a:avLst/>
              <a:gdLst/>
              <a:ahLst/>
              <a:rect l="l" t="t" r="r" b="b"/>
              <a:pathLst>
                <a:path w="38" h="298">
                  <a:moveTo>
                    <a:pt x="16" y="35"/>
                  </a:moveTo>
                  <a:lnTo>
                    <a:pt x="0" y="18"/>
                  </a:lnTo>
                  <a:lnTo>
                    <a:pt x="0" y="52"/>
                  </a:lnTo>
                  <a:lnTo>
                    <a:pt x="0" y="88"/>
                  </a:lnTo>
                  <a:lnTo>
                    <a:pt x="0" y="123"/>
                  </a:lnTo>
                  <a:lnTo>
                    <a:pt x="0" y="157"/>
                  </a:lnTo>
                  <a:lnTo>
                    <a:pt x="0" y="193"/>
                  </a:lnTo>
                  <a:lnTo>
                    <a:pt x="0" y="227"/>
                  </a:lnTo>
                  <a:lnTo>
                    <a:pt x="1" y="262"/>
                  </a:lnTo>
                  <a:lnTo>
                    <a:pt x="1" y="298"/>
                  </a:lnTo>
                  <a:lnTo>
                    <a:pt x="38" y="296"/>
                  </a:lnTo>
                  <a:lnTo>
                    <a:pt x="37" y="261"/>
                  </a:lnTo>
                  <a:lnTo>
                    <a:pt x="37" y="227"/>
                  </a:lnTo>
                  <a:lnTo>
                    <a:pt x="37" y="192"/>
                  </a:lnTo>
                  <a:lnTo>
                    <a:pt x="37" y="157"/>
                  </a:lnTo>
                  <a:lnTo>
                    <a:pt x="37" y="123"/>
                  </a:lnTo>
                  <a:lnTo>
                    <a:pt x="37" y="88"/>
                  </a:lnTo>
                  <a:lnTo>
                    <a:pt x="37" y="52"/>
                  </a:lnTo>
                  <a:lnTo>
                    <a:pt x="37" y="18"/>
                  </a:lnTo>
                  <a:lnTo>
                    <a:pt x="21" y="0"/>
                  </a:lnTo>
                  <a:lnTo>
                    <a:pt x="37" y="18"/>
                  </a:ln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29360" y="3333960"/>
              <a:ext cx="412560" cy="146160"/>
            </a:xfrm>
            <a:custGeom>
              <a:avLst/>
              <a:gdLst/>
              <a:ahLst/>
              <a:rect l="l" t="t" r="r" b="b"/>
              <a:pathLst>
                <a:path w="1296" h="458">
                  <a:moveTo>
                    <a:pt x="14" y="35"/>
                  </a:moveTo>
                  <a:lnTo>
                    <a:pt x="9" y="34"/>
                  </a:lnTo>
                  <a:lnTo>
                    <a:pt x="51" y="58"/>
                  </a:lnTo>
                  <a:lnTo>
                    <a:pt x="95" y="82"/>
                  </a:lnTo>
                  <a:lnTo>
                    <a:pt x="137" y="104"/>
                  </a:lnTo>
                  <a:lnTo>
                    <a:pt x="178" y="127"/>
                  </a:lnTo>
                  <a:lnTo>
                    <a:pt x="220" y="147"/>
                  </a:lnTo>
                  <a:lnTo>
                    <a:pt x="261" y="166"/>
                  </a:lnTo>
                  <a:lnTo>
                    <a:pt x="303" y="186"/>
                  </a:lnTo>
                  <a:lnTo>
                    <a:pt x="344" y="204"/>
                  </a:lnTo>
                  <a:lnTo>
                    <a:pt x="385" y="222"/>
                  </a:lnTo>
                  <a:lnTo>
                    <a:pt x="426" y="239"/>
                  </a:lnTo>
                  <a:lnTo>
                    <a:pt x="466" y="255"/>
                  </a:lnTo>
                  <a:lnTo>
                    <a:pt x="507" y="270"/>
                  </a:lnTo>
                  <a:lnTo>
                    <a:pt x="547" y="285"/>
                  </a:lnTo>
                  <a:lnTo>
                    <a:pt x="588" y="300"/>
                  </a:lnTo>
                  <a:lnTo>
                    <a:pt x="628" y="312"/>
                  </a:lnTo>
                  <a:lnTo>
                    <a:pt x="668" y="326"/>
                  </a:lnTo>
                  <a:lnTo>
                    <a:pt x="748" y="349"/>
                  </a:lnTo>
                  <a:lnTo>
                    <a:pt x="826" y="371"/>
                  </a:lnTo>
                  <a:lnTo>
                    <a:pt x="905" y="390"/>
                  </a:lnTo>
                  <a:lnTo>
                    <a:pt x="982" y="407"/>
                  </a:lnTo>
                  <a:lnTo>
                    <a:pt x="1060" y="422"/>
                  </a:lnTo>
                  <a:lnTo>
                    <a:pt x="1137" y="436"/>
                  </a:lnTo>
                  <a:lnTo>
                    <a:pt x="1214" y="448"/>
                  </a:lnTo>
                  <a:lnTo>
                    <a:pt x="1291" y="458"/>
                  </a:lnTo>
                  <a:lnTo>
                    <a:pt x="1296" y="423"/>
                  </a:lnTo>
                  <a:lnTo>
                    <a:pt x="1219" y="413"/>
                  </a:lnTo>
                  <a:lnTo>
                    <a:pt x="1143" y="400"/>
                  </a:lnTo>
                  <a:lnTo>
                    <a:pt x="1067" y="387"/>
                  </a:lnTo>
                  <a:lnTo>
                    <a:pt x="990" y="372"/>
                  </a:lnTo>
                  <a:lnTo>
                    <a:pt x="913" y="355"/>
                  </a:lnTo>
                  <a:lnTo>
                    <a:pt x="835" y="335"/>
                  </a:lnTo>
                  <a:lnTo>
                    <a:pt x="757" y="315"/>
                  </a:lnTo>
                  <a:lnTo>
                    <a:pt x="678" y="291"/>
                  </a:lnTo>
                  <a:lnTo>
                    <a:pt x="639" y="278"/>
                  </a:lnTo>
                  <a:lnTo>
                    <a:pt x="599" y="265"/>
                  </a:lnTo>
                  <a:lnTo>
                    <a:pt x="560" y="251"/>
                  </a:lnTo>
                  <a:lnTo>
                    <a:pt x="520" y="236"/>
                  </a:lnTo>
                  <a:lnTo>
                    <a:pt x="480" y="221"/>
                  </a:lnTo>
                  <a:lnTo>
                    <a:pt x="440" y="205"/>
                  </a:lnTo>
                  <a:lnTo>
                    <a:pt x="399" y="188"/>
                  </a:lnTo>
                  <a:lnTo>
                    <a:pt x="359" y="171"/>
                  </a:lnTo>
                  <a:lnTo>
                    <a:pt x="318" y="153"/>
                  </a:lnTo>
                  <a:lnTo>
                    <a:pt x="277" y="135"/>
                  </a:lnTo>
                  <a:lnTo>
                    <a:pt x="236" y="114"/>
                  </a:lnTo>
                  <a:lnTo>
                    <a:pt x="195" y="94"/>
                  </a:lnTo>
                  <a:lnTo>
                    <a:pt x="153" y="72"/>
                  </a:lnTo>
                  <a:lnTo>
                    <a:pt x="112" y="50"/>
                  </a:lnTo>
                  <a:lnTo>
                    <a:pt x="70" y="26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24440" y="3321360"/>
              <a:ext cx="312840" cy="68040"/>
            </a:xfrm>
            <a:custGeom>
              <a:avLst/>
              <a:gdLst/>
              <a:ahLst/>
              <a:rect l="l" t="t" r="r" b="b"/>
              <a:pathLst>
                <a:path w="984" h="212">
                  <a:moveTo>
                    <a:pt x="24" y="211"/>
                  </a:moveTo>
                  <a:lnTo>
                    <a:pt x="25" y="211"/>
                  </a:lnTo>
                  <a:lnTo>
                    <a:pt x="152" y="167"/>
                  </a:lnTo>
                  <a:lnTo>
                    <a:pt x="272" y="124"/>
                  </a:lnTo>
                  <a:lnTo>
                    <a:pt x="331" y="105"/>
                  </a:lnTo>
                  <a:lnTo>
                    <a:pt x="388" y="88"/>
                  </a:lnTo>
                  <a:lnTo>
                    <a:pt x="446" y="73"/>
                  </a:lnTo>
                  <a:lnTo>
                    <a:pt x="503" y="59"/>
                  </a:lnTo>
                  <a:lnTo>
                    <a:pt x="530" y="54"/>
                  </a:lnTo>
                  <a:lnTo>
                    <a:pt x="559" y="49"/>
                  </a:lnTo>
                  <a:lnTo>
                    <a:pt x="587" y="46"/>
                  </a:lnTo>
                  <a:lnTo>
                    <a:pt x="616" y="42"/>
                  </a:lnTo>
                  <a:lnTo>
                    <a:pt x="644" y="39"/>
                  </a:lnTo>
                  <a:lnTo>
                    <a:pt x="673" y="38"/>
                  </a:lnTo>
                  <a:lnTo>
                    <a:pt x="701" y="37"/>
                  </a:lnTo>
                  <a:lnTo>
                    <a:pt x="731" y="37"/>
                  </a:lnTo>
                  <a:lnTo>
                    <a:pt x="761" y="38"/>
                  </a:lnTo>
                  <a:lnTo>
                    <a:pt x="789" y="40"/>
                  </a:lnTo>
                  <a:lnTo>
                    <a:pt x="819" y="43"/>
                  </a:lnTo>
                  <a:lnTo>
                    <a:pt x="849" y="47"/>
                  </a:lnTo>
                  <a:lnTo>
                    <a:pt x="879" y="53"/>
                  </a:lnTo>
                  <a:lnTo>
                    <a:pt x="911" y="59"/>
                  </a:lnTo>
                  <a:lnTo>
                    <a:pt x="942" y="66"/>
                  </a:lnTo>
                  <a:lnTo>
                    <a:pt x="974" y="75"/>
                  </a:lnTo>
                  <a:lnTo>
                    <a:pt x="984" y="41"/>
                  </a:lnTo>
                  <a:lnTo>
                    <a:pt x="951" y="32"/>
                  </a:lnTo>
                  <a:lnTo>
                    <a:pt x="918" y="24"/>
                  </a:lnTo>
                  <a:lnTo>
                    <a:pt x="886" y="17"/>
                  </a:lnTo>
                  <a:lnTo>
                    <a:pt x="855" y="12"/>
                  </a:lnTo>
                  <a:lnTo>
                    <a:pt x="823" y="7"/>
                  </a:lnTo>
                  <a:lnTo>
                    <a:pt x="792" y="4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1" y="0"/>
                  </a:lnTo>
                  <a:lnTo>
                    <a:pt x="672" y="1"/>
                  </a:lnTo>
                  <a:lnTo>
                    <a:pt x="642" y="4"/>
                  </a:lnTo>
                  <a:lnTo>
                    <a:pt x="612" y="6"/>
                  </a:lnTo>
                  <a:lnTo>
                    <a:pt x="583" y="9"/>
                  </a:lnTo>
                  <a:lnTo>
                    <a:pt x="553" y="14"/>
                  </a:lnTo>
                  <a:lnTo>
                    <a:pt x="525" y="18"/>
                  </a:lnTo>
                  <a:lnTo>
                    <a:pt x="495" y="24"/>
                  </a:lnTo>
                  <a:lnTo>
                    <a:pt x="437" y="38"/>
                  </a:lnTo>
                  <a:lnTo>
                    <a:pt x="379" y="54"/>
                  </a:lnTo>
                  <a:lnTo>
                    <a:pt x="320" y="71"/>
                  </a:lnTo>
                  <a:lnTo>
                    <a:pt x="260" y="90"/>
                  </a:lnTo>
                  <a:lnTo>
                    <a:pt x="139" y="132"/>
                  </a:lnTo>
                  <a:lnTo>
                    <a:pt x="13" y="176"/>
                  </a:lnTo>
                  <a:lnTo>
                    <a:pt x="14" y="176"/>
                  </a:lnTo>
                  <a:lnTo>
                    <a:pt x="13" y="176"/>
                  </a:lnTo>
                  <a:lnTo>
                    <a:pt x="10" y="178"/>
                  </a:lnTo>
                  <a:lnTo>
                    <a:pt x="6" y="180"/>
                  </a:lnTo>
                  <a:lnTo>
                    <a:pt x="4" y="183"/>
                  </a:lnTo>
                  <a:lnTo>
                    <a:pt x="3" y="186"/>
                  </a:lnTo>
                  <a:lnTo>
                    <a:pt x="2" y="189"/>
                  </a:lnTo>
                  <a:lnTo>
                    <a:pt x="0" y="193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5" y="205"/>
                  </a:lnTo>
                  <a:lnTo>
                    <a:pt x="7" y="208"/>
                  </a:lnTo>
                  <a:lnTo>
                    <a:pt x="11" y="210"/>
                  </a:lnTo>
                  <a:lnTo>
                    <a:pt x="13" y="211"/>
                  </a:lnTo>
                  <a:lnTo>
                    <a:pt x="18" y="212"/>
                  </a:lnTo>
                  <a:lnTo>
                    <a:pt x="21" y="211"/>
                  </a:lnTo>
                  <a:lnTo>
                    <a:pt x="25" y="211"/>
                  </a:lnTo>
                  <a:lnTo>
                    <a:pt x="24" y="2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9040" y="3368880"/>
              <a:ext cx="463320" cy="42840"/>
            </a:xfrm>
            <a:custGeom>
              <a:avLst/>
              <a:gdLst/>
              <a:ahLst/>
              <a:rect l="l" t="t" r="r" b="b"/>
              <a:pathLst>
                <a:path w="1462" h="136">
                  <a:moveTo>
                    <a:pt x="15" y="37"/>
                  </a:moveTo>
                  <a:lnTo>
                    <a:pt x="17" y="37"/>
                  </a:lnTo>
                  <a:lnTo>
                    <a:pt x="59" y="40"/>
                  </a:lnTo>
                  <a:lnTo>
                    <a:pt x="102" y="44"/>
                  </a:lnTo>
                  <a:lnTo>
                    <a:pt x="144" y="48"/>
                  </a:lnTo>
                  <a:lnTo>
                    <a:pt x="187" y="53"/>
                  </a:lnTo>
                  <a:lnTo>
                    <a:pt x="273" y="63"/>
                  </a:lnTo>
                  <a:lnTo>
                    <a:pt x="359" y="75"/>
                  </a:lnTo>
                  <a:lnTo>
                    <a:pt x="447" y="88"/>
                  </a:lnTo>
                  <a:lnTo>
                    <a:pt x="536" y="101"/>
                  </a:lnTo>
                  <a:lnTo>
                    <a:pt x="625" y="112"/>
                  </a:lnTo>
                  <a:lnTo>
                    <a:pt x="715" y="122"/>
                  </a:lnTo>
                  <a:lnTo>
                    <a:pt x="760" y="127"/>
                  </a:lnTo>
                  <a:lnTo>
                    <a:pt x="806" y="130"/>
                  </a:lnTo>
                  <a:lnTo>
                    <a:pt x="851" y="132"/>
                  </a:lnTo>
                  <a:lnTo>
                    <a:pt x="897" y="135"/>
                  </a:lnTo>
                  <a:lnTo>
                    <a:pt x="944" y="136"/>
                  </a:lnTo>
                  <a:lnTo>
                    <a:pt x="989" y="136"/>
                  </a:lnTo>
                  <a:lnTo>
                    <a:pt x="1036" y="135"/>
                  </a:lnTo>
                  <a:lnTo>
                    <a:pt x="1083" y="132"/>
                  </a:lnTo>
                  <a:lnTo>
                    <a:pt x="1130" y="129"/>
                  </a:lnTo>
                  <a:lnTo>
                    <a:pt x="1176" y="124"/>
                  </a:lnTo>
                  <a:lnTo>
                    <a:pt x="1224" y="119"/>
                  </a:lnTo>
                  <a:lnTo>
                    <a:pt x="1271" y="111"/>
                  </a:lnTo>
                  <a:lnTo>
                    <a:pt x="1319" y="102"/>
                  </a:lnTo>
                  <a:lnTo>
                    <a:pt x="1367" y="90"/>
                  </a:lnTo>
                  <a:lnTo>
                    <a:pt x="1414" y="78"/>
                  </a:lnTo>
                  <a:lnTo>
                    <a:pt x="1462" y="64"/>
                  </a:lnTo>
                  <a:lnTo>
                    <a:pt x="1452" y="29"/>
                  </a:lnTo>
                  <a:lnTo>
                    <a:pt x="1404" y="44"/>
                  </a:lnTo>
                  <a:lnTo>
                    <a:pt x="1357" y="56"/>
                  </a:lnTo>
                  <a:lnTo>
                    <a:pt x="1312" y="66"/>
                  </a:lnTo>
                  <a:lnTo>
                    <a:pt x="1265" y="75"/>
                  </a:lnTo>
                  <a:lnTo>
                    <a:pt x="1218" y="82"/>
                  </a:lnTo>
                  <a:lnTo>
                    <a:pt x="1173" y="89"/>
                  </a:lnTo>
                  <a:lnTo>
                    <a:pt x="1126" y="94"/>
                  </a:lnTo>
                  <a:lnTo>
                    <a:pt x="1081" y="96"/>
                  </a:lnTo>
                  <a:lnTo>
                    <a:pt x="1035" y="98"/>
                  </a:lnTo>
                  <a:lnTo>
                    <a:pt x="989" y="99"/>
                  </a:lnTo>
                  <a:lnTo>
                    <a:pt x="944" y="99"/>
                  </a:lnTo>
                  <a:lnTo>
                    <a:pt x="898" y="98"/>
                  </a:lnTo>
                  <a:lnTo>
                    <a:pt x="854" y="96"/>
                  </a:lnTo>
                  <a:lnTo>
                    <a:pt x="808" y="94"/>
                  </a:lnTo>
                  <a:lnTo>
                    <a:pt x="764" y="90"/>
                  </a:lnTo>
                  <a:lnTo>
                    <a:pt x="718" y="86"/>
                  </a:lnTo>
                  <a:lnTo>
                    <a:pt x="629" y="75"/>
                  </a:lnTo>
                  <a:lnTo>
                    <a:pt x="540" y="64"/>
                  </a:lnTo>
                  <a:lnTo>
                    <a:pt x="453" y="53"/>
                  </a:lnTo>
                  <a:lnTo>
                    <a:pt x="365" y="40"/>
                  </a:lnTo>
                  <a:lnTo>
                    <a:pt x="277" y="28"/>
                  </a:lnTo>
                  <a:lnTo>
                    <a:pt x="190" y="16"/>
                  </a:lnTo>
                  <a:lnTo>
                    <a:pt x="148" y="12"/>
                  </a:lnTo>
                  <a:lnTo>
                    <a:pt x="105" y="7"/>
                  </a:lnTo>
                  <a:lnTo>
                    <a:pt x="62" y="4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4" y="30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7"/>
                  </a:lnTo>
                  <a:lnTo>
                    <a:pt x="17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132520" y="3367440"/>
              <a:ext cx="242640" cy="81000"/>
            </a:xfrm>
            <a:custGeom>
              <a:avLst/>
              <a:gdLst/>
              <a:ahLst/>
              <a:rect l="l" t="t" r="r" b="b"/>
              <a:pathLst>
                <a:path w="767" h="257">
                  <a:moveTo>
                    <a:pt x="14" y="257"/>
                  </a:moveTo>
                  <a:lnTo>
                    <a:pt x="22" y="256"/>
                  </a:lnTo>
                  <a:lnTo>
                    <a:pt x="71" y="242"/>
                  </a:lnTo>
                  <a:lnTo>
                    <a:pt x="120" y="225"/>
                  </a:lnTo>
                  <a:lnTo>
                    <a:pt x="168" y="207"/>
                  </a:lnTo>
                  <a:lnTo>
                    <a:pt x="216" y="188"/>
                  </a:lnTo>
                  <a:lnTo>
                    <a:pt x="312" y="147"/>
                  </a:lnTo>
                  <a:lnTo>
                    <a:pt x="407" y="108"/>
                  </a:lnTo>
                  <a:lnTo>
                    <a:pt x="453" y="91"/>
                  </a:lnTo>
                  <a:lnTo>
                    <a:pt x="499" y="75"/>
                  </a:lnTo>
                  <a:lnTo>
                    <a:pt x="522" y="67"/>
                  </a:lnTo>
                  <a:lnTo>
                    <a:pt x="544" y="61"/>
                  </a:lnTo>
                  <a:lnTo>
                    <a:pt x="567" y="54"/>
                  </a:lnTo>
                  <a:lnTo>
                    <a:pt x="589" y="50"/>
                  </a:lnTo>
                  <a:lnTo>
                    <a:pt x="612" y="45"/>
                  </a:lnTo>
                  <a:lnTo>
                    <a:pt x="633" y="42"/>
                  </a:lnTo>
                  <a:lnTo>
                    <a:pt x="655" y="38"/>
                  </a:lnTo>
                  <a:lnTo>
                    <a:pt x="677" y="37"/>
                  </a:lnTo>
                  <a:lnTo>
                    <a:pt x="698" y="36"/>
                  </a:lnTo>
                  <a:lnTo>
                    <a:pt x="720" y="37"/>
                  </a:lnTo>
                  <a:lnTo>
                    <a:pt x="740" y="38"/>
                  </a:lnTo>
                  <a:lnTo>
                    <a:pt x="761" y="41"/>
                  </a:lnTo>
                  <a:lnTo>
                    <a:pt x="767" y="4"/>
                  </a:lnTo>
                  <a:lnTo>
                    <a:pt x="744" y="2"/>
                  </a:lnTo>
                  <a:lnTo>
                    <a:pt x="721" y="1"/>
                  </a:lnTo>
                  <a:lnTo>
                    <a:pt x="698" y="0"/>
                  </a:lnTo>
                  <a:lnTo>
                    <a:pt x="674" y="1"/>
                  </a:lnTo>
                  <a:lnTo>
                    <a:pt x="652" y="3"/>
                  </a:lnTo>
                  <a:lnTo>
                    <a:pt x="629" y="5"/>
                  </a:lnTo>
                  <a:lnTo>
                    <a:pt x="605" y="10"/>
                  </a:lnTo>
                  <a:lnTo>
                    <a:pt x="582" y="14"/>
                  </a:lnTo>
                  <a:lnTo>
                    <a:pt x="558" y="19"/>
                  </a:lnTo>
                  <a:lnTo>
                    <a:pt x="535" y="26"/>
                  </a:lnTo>
                  <a:lnTo>
                    <a:pt x="511" y="33"/>
                  </a:lnTo>
                  <a:lnTo>
                    <a:pt x="487" y="40"/>
                  </a:lnTo>
                  <a:lnTo>
                    <a:pt x="441" y="57"/>
                  </a:lnTo>
                  <a:lnTo>
                    <a:pt x="393" y="75"/>
                  </a:lnTo>
                  <a:lnTo>
                    <a:pt x="298" y="114"/>
                  </a:lnTo>
                  <a:lnTo>
                    <a:pt x="203" y="154"/>
                  </a:lnTo>
                  <a:lnTo>
                    <a:pt x="155" y="173"/>
                  </a:lnTo>
                  <a:lnTo>
                    <a:pt x="108" y="191"/>
                  </a:lnTo>
                  <a:lnTo>
                    <a:pt x="60" y="207"/>
                  </a:lnTo>
                  <a:lnTo>
                    <a:pt x="12" y="222"/>
                  </a:lnTo>
                  <a:lnTo>
                    <a:pt x="20" y="221"/>
                  </a:lnTo>
                  <a:lnTo>
                    <a:pt x="12" y="222"/>
                  </a:lnTo>
                  <a:lnTo>
                    <a:pt x="9" y="223"/>
                  </a:lnTo>
                  <a:lnTo>
                    <a:pt x="5" y="225"/>
                  </a:lnTo>
                  <a:lnTo>
                    <a:pt x="3" y="228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3" y="250"/>
                  </a:lnTo>
                  <a:lnTo>
                    <a:pt x="5" y="253"/>
                  </a:lnTo>
                  <a:lnTo>
                    <a:pt x="8" y="255"/>
                  </a:lnTo>
                  <a:lnTo>
                    <a:pt x="11" y="256"/>
                  </a:lnTo>
                  <a:lnTo>
                    <a:pt x="14" y="257"/>
                  </a:lnTo>
                  <a:lnTo>
                    <a:pt x="18" y="257"/>
                  </a:lnTo>
                  <a:lnTo>
                    <a:pt x="22" y="256"/>
                  </a:lnTo>
                  <a:lnTo>
                    <a:pt x="14" y="2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751280" y="3333960"/>
              <a:ext cx="387360" cy="114480"/>
            </a:xfrm>
            <a:custGeom>
              <a:avLst/>
              <a:gdLst/>
              <a:ahLst/>
              <a:rect l="l" t="t" r="r" b="b"/>
              <a:pathLst>
                <a:path w="1219" h="360">
                  <a:moveTo>
                    <a:pt x="26" y="35"/>
                  </a:moveTo>
                  <a:lnTo>
                    <a:pt x="15" y="37"/>
                  </a:lnTo>
                  <a:lnTo>
                    <a:pt x="117" y="57"/>
                  </a:lnTo>
                  <a:lnTo>
                    <a:pt x="214" y="80"/>
                  </a:lnTo>
                  <a:lnTo>
                    <a:pt x="305" y="103"/>
                  </a:lnTo>
                  <a:lnTo>
                    <a:pt x="391" y="125"/>
                  </a:lnTo>
                  <a:lnTo>
                    <a:pt x="473" y="149"/>
                  </a:lnTo>
                  <a:lnTo>
                    <a:pt x="550" y="173"/>
                  </a:lnTo>
                  <a:lnTo>
                    <a:pt x="624" y="196"/>
                  </a:lnTo>
                  <a:lnTo>
                    <a:pt x="696" y="220"/>
                  </a:lnTo>
                  <a:lnTo>
                    <a:pt x="764" y="242"/>
                  </a:lnTo>
                  <a:lnTo>
                    <a:pt x="831" y="263"/>
                  </a:lnTo>
                  <a:lnTo>
                    <a:pt x="895" y="284"/>
                  </a:lnTo>
                  <a:lnTo>
                    <a:pt x="959" y="303"/>
                  </a:lnTo>
                  <a:lnTo>
                    <a:pt x="1023" y="320"/>
                  </a:lnTo>
                  <a:lnTo>
                    <a:pt x="1086" y="335"/>
                  </a:lnTo>
                  <a:lnTo>
                    <a:pt x="1118" y="342"/>
                  </a:lnTo>
                  <a:lnTo>
                    <a:pt x="1150" y="349"/>
                  </a:lnTo>
                  <a:lnTo>
                    <a:pt x="1182" y="355"/>
                  </a:lnTo>
                  <a:lnTo>
                    <a:pt x="1213" y="360"/>
                  </a:lnTo>
                  <a:lnTo>
                    <a:pt x="1219" y="324"/>
                  </a:lnTo>
                  <a:lnTo>
                    <a:pt x="1187" y="319"/>
                  </a:lnTo>
                  <a:lnTo>
                    <a:pt x="1156" y="314"/>
                  </a:lnTo>
                  <a:lnTo>
                    <a:pt x="1126" y="307"/>
                  </a:lnTo>
                  <a:lnTo>
                    <a:pt x="1095" y="300"/>
                  </a:lnTo>
                  <a:lnTo>
                    <a:pt x="1032" y="285"/>
                  </a:lnTo>
                  <a:lnTo>
                    <a:pt x="970" y="268"/>
                  </a:lnTo>
                  <a:lnTo>
                    <a:pt x="907" y="249"/>
                  </a:lnTo>
                  <a:lnTo>
                    <a:pt x="842" y="229"/>
                  </a:lnTo>
                  <a:lnTo>
                    <a:pt x="776" y="208"/>
                  </a:lnTo>
                  <a:lnTo>
                    <a:pt x="706" y="185"/>
                  </a:lnTo>
                  <a:lnTo>
                    <a:pt x="636" y="162"/>
                  </a:lnTo>
                  <a:lnTo>
                    <a:pt x="560" y="138"/>
                  </a:lnTo>
                  <a:lnTo>
                    <a:pt x="483" y="115"/>
                  </a:lnTo>
                  <a:lnTo>
                    <a:pt x="401" y="91"/>
                  </a:lnTo>
                  <a:lnTo>
                    <a:pt x="314" y="67"/>
                  </a:lnTo>
                  <a:lnTo>
                    <a:pt x="222" y="45"/>
                  </a:lnTo>
                  <a:lnTo>
                    <a:pt x="125" y="22"/>
                  </a:lnTo>
                  <a:lnTo>
                    <a:pt x="21" y="0"/>
                  </a:lnTo>
                  <a:lnTo>
                    <a:pt x="11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1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31"/>
                  </a:lnTo>
                  <a:lnTo>
                    <a:pt x="8" y="33"/>
                  </a:lnTo>
                  <a:lnTo>
                    <a:pt x="11" y="35"/>
                  </a:lnTo>
                  <a:lnTo>
                    <a:pt x="15" y="37"/>
                  </a:lnTo>
                  <a:lnTo>
                    <a:pt x="26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24440" y="3335760"/>
              <a:ext cx="734760" cy="112680"/>
            </a:xfrm>
            <a:custGeom>
              <a:avLst/>
              <a:gdLst/>
              <a:ahLst/>
              <a:rect l="l" t="t" r="r" b="b"/>
              <a:pathLst>
                <a:path w="2317" h="357">
                  <a:moveTo>
                    <a:pt x="10" y="356"/>
                  </a:moveTo>
                  <a:lnTo>
                    <a:pt x="19" y="357"/>
                  </a:lnTo>
                  <a:lnTo>
                    <a:pt x="375" y="326"/>
                  </a:lnTo>
                  <a:lnTo>
                    <a:pt x="726" y="295"/>
                  </a:lnTo>
                  <a:lnTo>
                    <a:pt x="897" y="278"/>
                  </a:lnTo>
                  <a:lnTo>
                    <a:pt x="1063" y="262"/>
                  </a:lnTo>
                  <a:lnTo>
                    <a:pt x="1226" y="244"/>
                  </a:lnTo>
                  <a:lnTo>
                    <a:pt x="1382" y="226"/>
                  </a:lnTo>
                  <a:lnTo>
                    <a:pt x="1533" y="207"/>
                  </a:lnTo>
                  <a:lnTo>
                    <a:pt x="1674" y="187"/>
                  </a:lnTo>
                  <a:lnTo>
                    <a:pt x="1743" y="176"/>
                  </a:lnTo>
                  <a:lnTo>
                    <a:pt x="1809" y="165"/>
                  </a:lnTo>
                  <a:lnTo>
                    <a:pt x="1871" y="154"/>
                  </a:lnTo>
                  <a:lnTo>
                    <a:pt x="1932" y="143"/>
                  </a:lnTo>
                  <a:lnTo>
                    <a:pt x="1991" y="130"/>
                  </a:lnTo>
                  <a:lnTo>
                    <a:pt x="2046" y="118"/>
                  </a:lnTo>
                  <a:lnTo>
                    <a:pt x="2099" y="105"/>
                  </a:lnTo>
                  <a:lnTo>
                    <a:pt x="2148" y="91"/>
                  </a:lnTo>
                  <a:lnTo>
                    <a:pt x="2195" y="78"/>
                  </a:lnTo>
                  <a:lnTo>
                    <a:pt x="2239" y="64"/>
                  </a:lnTo>
                  <a:lnTo>
                    <a:pt x="2279" y="49"/>
                  </a:lnTo>
                  <a:lnTo>
                    <a:pt x="2317" y="34"/>
                  </a:lnTo>
                  <a:lnTo>
                    <a:pt x="2302" y="0"/>
                  </a:lnTo>
                  <a:lnTo>
                    <a:pt x="2267" y="15"/>
                  </a:lnTo>
                  <a:lnTo>
                    <a:pt x="2227" y="30"/>
                  </a:lnTo>
                  <a:lnTo>
                    <a:pt x="2185" y="44"/>
                  </a:lnTo>
                  <a:lnTo>
                    <a:pt x="2139" y="57"/>
                  </a:lnTo>
                  <a:lnTo>
                    <a:pt x="2090" y="70"/>
                  </a:lnTo>
                  <a:lnTo>
                    <a:pt x="2038" y="82"/>
                  </a:lnTo>
                  <a:lnTo>
                    <a:pt x="1983" y="95"/>
                  </a:lnTo>
                  <a:lnTo>
                    <a:pt x="1925" y="106"/>
                  </a:lnTo>
                  <a:lnTo>
                    <a:pt x="1864" y="119"/>
                  </a:lnTo>
                  <a:lnTo>
                    <a:pt x="1802" y="129"/>
                  </a:lnTo>
                  <a:lnTo>
                    <a:pt x="1737" y="140"/>
                  </a:lnTo>
                  <a:lnTo>
                    <a:pt x="1670" y="151"/>
                  </a:lnTo>
                  <a:lnTo>
                    <a:pt x="1527" y="171"/>
                  </a:lnTo>
                  <a:lnTo>
                    <a:pt x="1378" y="191"/>
                  </a:lnTo>
                  <a:lnTo>
                    <a:pt x="1222" y="209"/>
                  </a:lnTo>
                  <a:lnTo>
                    <a:pt x="1060" y="226"/>
                  </a:lnTo>
                  <a:lnTo>
                    <a:pt x="893" y="243"/>
                  </a:lnTo>
                  <a:lnTo>
                    <a:pt x="723" y="259"/>
                  </a:lnTo>
                  <a:lnTo>
                    <a:pt x="371" y="290"/>
                  </a:lnTo>
                  <a:lnTo>
                    <a:pt x="16" y="322"/>
                  </a:lnTo>
                  <a:lnTo>
                    <a:pt x="26" y="323"/>
                  </a:lnTo>
                  <a:lnTo>
                    <a:pt x="16" y="322"/>
                  </a:lnTo>
                  <a:lnTo>
                    <a:pt x="12" y="322"/>
                  </a:lnTo>
                  <a:lnTo>
                    <a:pt x="9" y="324"/>
                  </a:lnTo>
                  <a:lnTo>
                    <a:pt x="6" y="325"/>
                  </a:lnTo>
                  <a:lnTo>
                    <a:pt x="3" y="329"/>
                  </a:lnTo>
                  <a:lnTo>
                    <a:pt x="1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1"/>
                  </a:lnTo>
                  <a:lnTo>
                    <a:pt x="0" y="344"/>
                  </a:lnTo>
                  <a:lnTo>
                    <a:pt x="1" y="348"/>
                  </a:lnTo>
                  <a:lnTo>
                    <a:pt x="3" y="350"/>
                  </a:lnTo>
                  <a:lnTo>
                    <a:pt x="6" y="354"/>
                  </a:lnTo>
                  <a:lnTo>
                    <a:pt x="8" y="355"/>
                  </a:lnTo>
                  <a:lnTo>
                    <a:pt x="11" y="357"/>
                  </a:lnTo>
                  <a:lnTo>
                    <a:pt x="15" y="357"/>
                  </a:lnTo>
                  <a:lnTo>
                    <a:pt x="19" y="357"/>
                  </a:lnTo>
                  <a:lnTo>
                    <a:pt x="10" y="3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36880" y="3343680"/>
              <a:ext cx="195480" cy="104760"/>
            </a:xfrm>
            <a:custGeom>
              <a:avLst/>
              <a:gdLst/>
              <a:ahLst/>
              <a:rect l="l" t="t" r="r" b="b"/>
              <a:pathLst>
                <a:path w="613" h="330">
                  <a:moveTo>
                    <a:pt x="16" y="37"/>
                  </a:moveTo>
                  <a:lnTo>
                    <a:pt x="10" y="35"/>
                  </a:lnTo>
                  <a:lnTo>
                    <a:pt x="83" y="72"/>
                  </a:lnTo>
                  <a:lnTo>
                    <a:pt x="156" y="109"/>
                  </a:lnTo>
                  <a:lnTo>
                    <a:pt x="230" y="146"/>
                  </a:lnTo>
                  <a:lnTo>
                    <a:pt x="303" y="183"/>
                  </a:lnTo>
                  <a:lnTo>
                    <a:pt x="377" y="220"/>
                  </a:lnTo>
                  <a:lnTo>
                    <a:pt x="450" y="257"/>
                  </a:lnTo>
                  <a:lnTo>
                    <a:pt x="523" y="293"/>
                  </a:lnTo>
                  <a:lnTo>
                    <a:pt x="597" y="330"/>
                  </a:lnTo>
                  <a:lnTo>
                    <a:pt x="613" y="297"/>
                  </a:lnTo>
                  <a:lnTo>
                    <a:pt x="540" y="260"/>
                  </a:lnTo>
                  <a:lnTo>
                    <a:pt x="466" y="224"/>
                  </a:lnTo>
                  <a:lnTo>
                    <a:pt x="393" y="187"/>
                  </a:lnTo>
                  <a:lnTo>
                    <a:pt x="319" y="151"/>
                  </a:lnTo>
                  <a:lnTo>
                    <a:pt x="246" y="113"/>
                  </a:lnTo>
                  <a:lnTo>
                    <a:pt x="173" y="77"/>
                  </a:lnTo>
                  <a:lnTo>
                    <a:pt x="99" y="40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8"/>
                  </a:lnTo>
                  <a:lnTo>
                    <a:pt x="2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549600" y="3340440"/>
              <a:ext cx="293760" cy="82440"/>
            </a:xfrm>
            <a:custGeom>
              <a:avLst/>
              <a:gdLst/>
              <a:ahLst/>
              <a:rect l="l" t="t" r="r" b="b"/>
              <a:pathLst>
                <a:path w="925" h="259">
                  <a:moveTo>
                    <a:pt x="16" y="259"/>
                  </a:moveTo>
                  <a:lnTo>
                    <a:pt x="28" y="256"/>
                  </a:lnTo>
                  <a:lnTo>
                    <a:pt x="54" y="240"/>
                  </a:lnTo>
                  <a:lnTo>
                    <a:pt x="77" y="225"/>
                  </a:lnTo>
                  <a:lnTo>
                    <a:pt x="103" y="209"/>
                  </a:lnTo>
                  <a:lnTo>
                    <a:pt x="128" y="195"/>
                  </a:lnTo>
                  <a:lnTo>
                    <a:pt x="154" y="182"/>
                  </a:lnTo>
                  <a:lnTo>
                    <a:pt x="179" y="168"/>
                  </a:lnTo>
                  <a:lnTo>
                    <a:pt x="205" y="155"/>
                  </a:lnTo>
                  <a:lnTo>
                    <a:pt x="231" y="144"/>
                  </a:lnTo>
                  <a:lnTo>
                    <a:pt x="258" y="133"/>
                  </a:lnTo>
                  <a:lnTo>
                    <a:pt x="284" y="122"/>
                  </a:lnTo>
                  <a:lnTo>
                    <a:pt x="310" y="112"/>
                  </a:lnTo>
                  <a:lnTo>
                    <a:pt x="337" y="103"/>
                  </a:lnTo>
                  <a:lnTo>
                    <a:pt x="364" y="94"/>
                  </a:lnTo>
                  <a:lnTo>
                    <a:pt x="391" y="86"/>
                  </a:lnTo>
                  <a:lnTo>
                    <a:pt x="419" y="79"/>
                  </a:lnTo>
                  <a:lnTo>
                    <a:pt x="447" y="72"/>
                  </a:lnTo>
                  <a:lnTo>
                    <a:pt x="474" y="65"/>
                  </a:lnTo>
                  <a:lnTo>
                    <a:pt x="503" y="60"/>
                  </a:lnTo>
                  <a:lnTo>
                    <a:pt x="531" y="55"/>
                  </a:lnTo>
                  <a:lnTo>
                    <a:pt x="560" y="50"/>
                  </a:lnTo>
                  <a:lnTo>
                    <a:pt x="589" y="47"/>
                  </a:lnTo>
                  <a:lnTo>
                    <a:pt x="618" y="44"/>
                  </a:lnTo>
                  <a:lnTo>
                    <a:pt x="647" y="41"/>
                  </a:lnTo>
                  <a:lnTo>
                    <a:pt x="677" y="39"/>
                  </a:lnTo>
                  <a:lnTo>
                    <a:pt x="707" y="38"/>
                  </a:lnTo>
                  <a:lnTo>
                    <a:pt x="736" y="37"/>
                  </a:lnTo>
                  <a:lnTo>
                    <a:pt x="767" y="37"/>
                  </a:lnTo>
                  <a:lnTo>
                    <a:pt x="798" y="38"/>
                  </a:lnTo>
                  <a:lnTo>
                    <a:pt x="829" y="39"/>
                  </a:lnTo>
                  <a:lnTo>
                    <a:pt x="859" y="40"/>
                  </a:lnTo>
                  <a:lnTo>
                    <a:pt x="890" y="42"/>
                  </a:lnTo>
                  <a:lnTo>
                    <a:pt x="922" y="46"/>
                  </a:lnTo>
                  <a:lnTo>
                    <a:pt x="925" y="9"/>
                  </a:lnTo>
                  <a:lnTo>
                    <a:pt x="893" y="7"/>
                  </a:lnTo>
                  <a:lnTo>
                    <a:pt x="862" y="5"/>
                  </a:lnTo>
                  <a:lnTo>
                    <a:pt x="830" y="3"/>
                  </a:lnTo>
                  <a:lnTo>
                    <a:pt x="799" y="1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705" y="1"/>
                  </a:lnTo>
                  <a:lnTo>
                    <a:pt x="675" y="3"/>
                  </a:lnTo>
                  <a:lnTo>
                    <a:pt x="644" y="5"/>
                  </a:lnTo>
                  <a:lnTo>
                    <a:pt x="614" y="7"/>
                  </a:lnTo>
                  <a:lnTo>
                    <a:pt x="585" y="11"/>
                  </a:lnTo>
                  <a:lnTo>
                    <a:pt x="555" y="14"/>
                  </a:lnTo>
                  <a:lnTo>
                    <a:pt x="525" y="19"/>
                  </a:lnTo>
                  <a:lnTo>
                    <a:pt x="496" y="24"/>
                  </a:lnTo>
                  <a:lnTo>
                    <a:pt x="467" y="30"/>
                  </a:lnTo>
                  <a:lnTo>
                    <a:pt x="439" y="37"/>
                  </a:lnTo>
                  <a:lnTo>
                    <a:pt x="410" y="44"/>
                  </a:lnTo>
                  <a:lnTo>
                    <a:pt x="382" y="52"/>
                  </a:lnTo>
                  <a:lnTo>
                    <a:pt x="353" y="60"/>
                  </a:lnTo>
                  <a:lnTo>
                    <a:pt x="326" y="69"/>
                  </a:lnTo>
                  <a:lnTo>
                    <a:pt x="297" y="78"/>
                  </a:lnTo>
                  <a:lnTo>
                    <a:pt x="270" y="88"/>
                  </a:lnTo>
                  <a:lnTo>
                    <a:pt x="243" y="99"/>
                  </a:lnTo>
                  <a:lnTo>
                    <a:pt x="217" y="111"/>
                  </a:lnTo>
                  <a:lnTo>
                    <a:pt x="189" y="123"/>
                  </a:lnTo>
                  <a:lnTo>
                    <a:pt x="163" y="136"/>
                  </a:lnTo>
                  <a:lnTo>
                    <a:pt x="137" y="150"/>
                  </a:lnTo>
                  <a:lnTo>
                    <a:pt x="111" y="163"/>
                  </a:lnTo>
                  <a:lnTo>
                    <a:pt x="84" y="178"/>
                  </a:lnTo>
                  <a:lnTo>
                    <a:pt x="59" y="193"/>
                  </a:lnTo>
                  <a:lnTo>
                    <a:pt x="33" y="209"/>
                  </a:lnTo>
                  <a:lnTo>
                    <a:pt x="8" y="226"/>
                  </a:lnTo>
                  <a:lnTo>
                    <a:pt x="20" y="223"/>
                  </a:lnTo>
                  <a:lnTo>
                    <a:pt x="8" y="226"/>
                  </a:lnTo>
                  <a:lnTo>
                    <a:pt x="5" y="228"/>
                  </a:lnTo>
                  <a:lnTo>
                    <a:pt x="2" y="232"/>
                  </a:lnTo>
                  <a:lnTo>
                    <a:pt x="1" y="235"/>
                  </a:lnTo>
                  <a:lnTo>
                    <a:pt x="0" y="239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1" y="248"/>
                  </a:lnTo>
                  <a:lnTo>
                    <a:pt x="3" y="251"/>
                  </a:lnTo>
                  <a:lnTo>
                    <a:pt x="6" y="253"/>
                  </a:lnTo>
                  <a:lnTo>
                    <a:pt x="8" y="256"/>
                  </a:lnTo>
                  <a:lnTo>
                    <a:pt x="10" y="258"/>
                  </a:lnTo>
                  <a:lnTo>
                    <a:pt x="14" y="259"/>
                  </a:lnTo>
                  <a:lnTo>
                    <a:pt x="17" y="259"/>
                  </a:lnTo>
                  <a:lnTo>
                    <a:pt x="20" y="259"/>
                  </a:lnTo>
                  <a:lnTo>
                    <a:pt x="25" y="258"/>
                  </a:lnTo>
                  <a:lnTo>
                    <a:pt x="28" y="256"/>
                  </a:lnTo>
                  <a:lnTo>
                    <a:pt x="16" y="2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211560" y="3308760"/>
              <a:ext cx="344520" cy="114120"/>
            </a:xfrm>
            <a:custGeom>
              <a:avLst/>
              <a:gdLst/>
              <a:ahLst/>
              <a:rect l="l" t="t" r="r" b="b"/>
              <a:pathLst>
                <a:path w="1086" h="357">
                  <a:moveTo>
                    <a:pt x="16" y="37"/>
                  </a:moveTo>
                  <a:lnTo>
                    <a:pt x="8" y="33"/>
                  </a:lnTo>
                  <a:lnTo>
                    <a:pt x="29" y="48"/>
                  </a:lnTo>
                  <a:lnTo>
                    <a:pt x="49" y="62"/>
                  </a:lnTo>
                  <a:lnTo>
                    <a:pt x="71" y="75"/>
                  </a:lnTo>
                  <a:lnTo>
                    <a:pt x="93" y="89"/>
                  </a:lnTo>
                  <a:lnTo>
                    <a:pt x="114" y="103"/>
                  </a:lnTo>
                  <a:lnTo>
                    <a:pt x="137" y="115"/>
                  </a:lnTo>
                  <a:lnTo>
                    <a:pt x="161" y="128"/>
                  </a:lnTo>
                  <a:lnTo>
                    <a:pt x="186" y="139"/>
                  </a:lnTo>
                  <a:lnTo>
                    <a:pt x="211" y="152"/>
                  </a:lnTo>
                  <a:lnTo>
                    <a:pt x="236" y="163"/>
                  </a:lnTo>
                  <a:lnTo>
                    <a:pt x="264" y="175"/>
                  </a:lnTo>
                  <a:lnTo>
                    <a:pt x="291" y="186"/>
                  </a:lnTo>
                  <a:lnTo>
                    <a:pt x="349" y="207"/>
                  </a:lnTo>
                  <a:lnTo>
                    <a:pt x="411" y="227"/>
                  </a:lnTo>
                  <a:lnTo>
                    <a:pt x="477" y="245"/>
                  </a:lnTo>
                  <a:lnTo>
                    <a:pt x="547" y="264"/>
                  </a:lnTo>
                  <a:lnTo>
                    <a:pt x="623" y="282"/>
                  </a:lnTo>
                  <a:lnTo>
                    <a:pt x="702" y="298"/>
                  </a:lnTo>
                  <a:lnTo>
                    <a:pt x="789" y="314"/>
                  </a:lnTo>
                  <a:lnTo>
                    <a:pt x="880" y="329"/>
                  </a:lnTo>
                  <a:lnTo>
                    <a:pt x="978" y="343"/>
                  </a:lnTo>
                  <a:lnTo>
                    <a:pt x="1082" y="357"/>
                  </a:lnTo>
                  <a:lnTo>
                    <a:pt x="1086" y="321"/>
                  </a:lnTo>
                  <a:lnTo>
                    <a:pt x="983" y="307"/>
                  </a:lnTo>
                  <a:lnTo>
                    <a:pt x="886" y="293"/>
                  </a:lnTo>
                  <a:lnTo>
                    <a:pt x="795" y="277"/>
                  </a:lnTo>
                  <a:lnTo>
                    <a:pt x="709" y="262"/>
                  </a:lnTo>
                  <a:lnTo>
                    <a:pt x="629" y="245"/>
                  </a:lnTo>
                  <a:lnTo>
                    <a:pt x="555" y="228"/>
                  </a:lnTo>
                  <a:lnTo>
                    <a:pt x="486" y="211"/>
                  </a:lnTo>
                  <a:lnTo>
                    <a:pt x="421" y="192"/>
                  </a:lnTo>
                  <a:lnTo>
                    <a:pt x="361" y="172"/>
                  </a:lnTo>
                  <a:lnTo>
                    <a:pt x="304" y="152"/>
                  </a:lnTo>
                  <a:lnTo>
                    <a:pt x="277" y="140"/>
                  </a:lnTo>
                  <a:lnTo>
                    <a:pt x="251" y="130"/>
                  </a:lnTo>
                  <a:lnTo>
                    <a:pt x="226" y="119"/>
                  </a:lnTo>
                  <a:lnTo>
                    <a:pt x="202" y="107"/>
                  </a:lnTo>
                  <a:lnTo>
                    <a:pt x="178" y="95"/>
                  </a:lnTo>
                  <a:lnTo>
                    <a:pt x="155" y="83"/>
                  </a:lnTo>
                  <a:lnTo>
                    <a:pt x="133" y="71"/>
                  </a:lnTo>
                  <a:lnTo>
                    <a:pt x="111" y="58"/>
                  </a:lnTo>
                  <a:lnTo>
                    <a:pt x="90" y="45"/>
                  </a:lnTo>
                  <a:lnTo>
                    <a:pt x="70" y="32"/>
                  </a:lnTo>
                  <a:lnTo>
                    <a:pt x="49" y="1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8" y="33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00280" y="3302280"/>
              <a:ext cx="617760" cy="93600"/>
            </a:xfrm>
            <a:custGeom>
              <a:avLst/>
              <a:gdLst/>
              <a:ahLst/>
              <a:rect l="l" t="t" r="r" b="b"/>
              <a:pathLst>
                <a:path w="1947" h="297">
                  <a:moveTo>
                    <a:pt x="37" y="280"/>
                  </a:moveTo>
                  <a:lnTo>
                    <a:pt x="22" y="297"/>
                  </a:lnTo>
                  <a:lnTo>
                    <a:pt x="271" y="243"/>
                  </a:lnTo>
                  <a:lnTo>
                    <a:pt x="519" y="189"/>
                  </a:lnTo>
                  <a:lnTo>
                    <a:pt x="643" y="162"/>
                  </a:lnTo>
                  <a:lnTo>
                    <a:pt x="766" y="137"/>
                  </a:lnTo>
                  <a:lnTo>
                    <a:pt x="888" y="113"/>
                  </a:lnTo>
                  <a:lnTo>
                    <a:pt x="1010" y="93"/>
                  </a:lnTo>
                  <a:lnTo>
                    <a:pt x="1071" y="83"/>
                  </a:lnTo>
                  <a:lnTo>
                    <a:pt x="1131" y="73"/>
                  </a:lnTo>
                  <a:lnTo>
                    <a:pt x="1191" y="65"/>
                  </a:lnTo>
                  <a:lnTo>
                    <a:pt x="1251" y="59"/>
                  </a:lnTo>
                  <a:lnTo>
                    <a:pt x="1310" y="52"/>
                  </a:lnTo>
                  <a:lnTo>
                    <a:pt x="1369" y="47"/>
                  </a:lnTo>
                  <a:lnTo>
                    <a:pt x="1428" y="43"/>
                  </a:lnTo>
                  <a:lnTo>
                    <a:pt x="1487" y="39"/>
                  </a:lnTo>
                  <a:lnTo>
                    <a:pt x="1545" y="37"/>
                  </a:lnTo>
                  <a:lnTo>
                    <a:pt x="1603" y="36"/>
                  </a:lnTo>
                  <a:lnTo>
                    <a:pt x="1660" y="37"/>
                  </a:lnTo>
                  <a:lnTo>
                    <a:pt x="1718" y="38"/>
                  </a:lnTo>
                  <a:lnTo>
                    <a:pt x="1774" y="41"/>
                  </a:lnTo>
                  <a:lnTo>
                    <a:pt x="1831" y="46"/>
                  </a:lnTo>
                  <a:lnTo>
                    <a:pt x="1887" y="52"/>
                  </a:lnTo>
                  <a:lnTo>
                    <a:pt x="1941" y="60"/>
                  </a:lnTo>
                  <a:lnTo>
                    <a:pt x="1947" y="23"/>
                  </a:lnTo>
                  <a:lnTo>
                    <a:pt x="1890" y="16"/>
                  </a:lnTo>
                  <a:lnTo>
                    <a:pt x="1833" y="10"/>
                  </a:lnTo>
                  <a:lnTo>
                    <a:pt x="1776" y="5"/>
                  </a:lnTo>
                  <a:lnTo>
                    <a:pt x="1719" y="2"/>
                  </a:lnTo>
                  <a:lnTo>
                    <a:pt x="1661" y="0"/>
                  </a:lnTo>
                  <a:lnTo>
                    <a:pt x="1603" y="0"/>
                  </a:lnTo>
                  <a:lnTo>
                    <a:pt x="1544" y="0"/>
                  </a:lnTo>
                  <a:lnTo>
                    <a:pt x="1485" y="3"/>
                  </a:lnTo>
                  <a:lnTo>
                    <a:pt x="1426" y="6"/>
                  </a:lnTo>
                  <a:lnTo>
                    <a:pt x="1367" y="11"/>
                  </a:lnTo>
                  <a:lnTo>
                    <a:pt x="1307" y="16"/>
                  </a:lnTo>
                  <a:lnTo>
                    <a:pt x="1247" y="22"/>
                  </a:lnTo>
                  <a:lnTo>
                    <a:pt x="1187" y="30"/>
                  </a:lnTo>
                  <a:lnTo>
                    <a:pt x="1126" y="38"/>
                  </a:lnTo>
                  <a:lnTo>
                    <a:pt x="1065" y="47"/>
                  </a:lnTo>
                  <a:lnTo>
                    <a:pt x="1005" y="56"/>
                  </a:lnTo>
                  <a:lnTo>
                    <a:pt x="883" y="78"/>
                  </a:lnTo>
                  <a:lnTo>
                    <a:pt x="759" y="101"/>
                  </a:lnTo>
                  <a:lnTo>
                    <a:pt x="635" y="127"/>
                  </a:lnTo>
                  <a:lnTo>
                    <a:pt x="512" y="153"/>
                  </a:lnTo>
                  <a:lnTo>
                    <a:pt x="264" y="208"/>
                  </a:lnTo>
                  <a:lnTo>
                    <a:pt x="15" y="262"/>
                  </a:lnTo>
                  <a:lnTo>
                    <a:pt x="0" y="279"/>
                  </a:lnTo>
                  <a:lnTo>
                    <a:pt x="15" y="262"/>
                  </a:lnTo>
                  <a:lnTo>
                    <a:pt x="11" y="263"/>
                  </a:lnTo>
                  <a:lnTo>
                    <a:pt x="7" y="264"/>
                  </a:lnTo>
                  <a:lnTo>
                    <a:pt x="5" y="267"/>
                  </a:lnTo>
                  <a:lnTo>
                    <a:pt x="3" y="269"/>
                  </a:lnTo>
                  <a:lnTo>
                    <a:pt x="2" y="273"/>
                  </a:lnTo>
                  <a:lnTo>
                    <a:pt x="0" y="276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2" y="285"/>
                  </a:lnTo>
                  <a:lnTo>
                    <a:pt x="3" y="289"/>
                  </a:lnTo>
                  <a:lnTo>
                    <a:pt x="5" y="291"/>
                  </a:lnTo>
                  <a:lnTo>
                    <a:pt x="7" y="293"/>
                  </a:lnTo>
                  <a:lnTo>
                    <a:pt x="11" y="296"/>
                  </a:lnTo>
                  <a:lnTo>
                    <a:pt x="14" y="297"/>
                  </a:lnTo>
                  <a:lnTo>
                    <a:pt x="18" y="297"/>
                  </a:lnTo>
                  <a:lnTo>
                    <a:pt x="22" y="297"/>
                  </a:lnTo>
                  <a:lnTo>
                    <a:pt x="37" y="2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97040" y="3391200"/>
              <a:ext cx="14400" cy="150840"/>
            </a:xfrm>
            <a:custGeom>
              <a:avLst/>
              <a:gdLst/>
              <a:ahLst/>
              <a:rect l="l" t="t" r="r" b="b"/>
              <a:pathLst>
                <a:path w="47" h="475">
                  <a:moveTo>
                    <a:pt x="37" y="457"/>
                  </a:moveTo>
                  <a:lnTo>
                    <a:pt x="37" y="458"/>
                  </a:lnTo>
                  <a:lnTo>
                    <a:pt x="38" y="401"/>
                  </a:lnTo>
                  <a:lnTo>
                    <a:pt x="39" y="343"/>
                  </a:lnTo>
                  <a:lnTo>
                    <a:pt x="40" y="286"/>
                  </a:lnTo>
                  <a:lnTo>
                    <a:pt x="41" y="229"/>
                  </a:lnTo>
                  <a:lnTo>
                    <a:pt x="42" y="172"/>
                  </a:lnTo>
                  <a:lnTo>
                    <a:pt x="43" y="115"/>
                  </a:lnTo>
                  <a:lnTo>
                    <a:pt x="46" y="58"/>
                  </a:lnTo>
                  <a:lnTo>
                    <a:pt x="47" y="1"/>
                  </a:lnTo>
                  <a:lnTo>
                    <a:pt x="10" y="0"/>
                  </a:lnTo>
                  <a:lnTo>
                    <a:pt x="9" y="57"/>
                  </a:lnTo>
                  <a:lnTo>
                    <a:pt x="8" y="114"/>
                  </a:lnTo>
                  <a:lnTo>
                    <a:pt x="6" y="171"/>
                  </a:lnTo>
                  <a:lnTo>
                    <a:pt x="5" y="229"/>
                  </a:lnTo>
                  <a:lnTo>
                    <a:pt x="4" y="286"/>
                  </a:lnTo>
                  <a:lnTo>
                    <a:pt x="2" y="343"/>
                  </a:lnTo>
                  <a:lnTo>
                    <a:pt x="1" y="400"/>
                  </a:lnTo>
                  <a:lnTo>
                    <a:pt x="0" y="457"/>
                  </a:lnTo>
                  <a:lnTo>
                    <a:pt x="0" y="458"/>
                  </a:lnTo>
                  <a:lnTo>
                    <a:pt x="0" y="457"/>
                  </a:lnTo>
                  <a:lnTo>
                    <a:pt x="0" y="461"/>
                  </a:lnTo>
                  <a:lnTo>
                    <a:pt x="1" y="465"/>
                  </a:lnTo>
                  <a:lnTo>
                    <a:pt x="4" y="468"/>
                  </a:lnTo>
                  <a:lnTo>
                    <a:pt x="6" y="470"/>
                  </a:lnTo>
                  <a:lnTo>
                    <a:pt x="8" y="473"/>
                  </a:lnTo>
                  <a:lnTo>
                    <a:pt x="12" y="474"/>
                  </a:lnTo>
                  <a:lnTo>
                    <a:pt x="14" y="475"/>
                  </a:lnTo>
                  <a:lnTo>
                    <a:pt x="17" y="475"/>
                  </a:lnTo>
                  <a:lnTo>
                    <a:pt x="21" y="475"/>
                  </a:lnTo>
                  <a:lnTo>
                    <a:pt x="24" y="474"/>
                  </a:lnTo>
                  <a:lnTo>
                    <a:pt x="28" y="473"/>
                  </a:lnTo>
                  <a:lnTo>
                    <a:pt x="30" y="472"/>
                  </a:lnTo>
                  <a:lnTo>
                    <a:pt x="32" y="468"/>
                  </a:lnTo>
                  <a:lnTo>
                    <a:pt x="34" y="466"/>
                  </a:lnTo>
                  <a:lnTo>
                    <a:pt x="36" y="461"/>
                  </a:lnTo>
                  <a:lnTo>
                    <a:pt x="37" y="458"/>
                  </a:lnTo>
                  <a:lnTo>
                    <a:pt x="37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952880" y="3319560"/>
              <a:ext cx="238320" cy="1764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4" y="191"/>
                  </a:moveTo>
                  <a:lnTo>
                    <a:pt x="586" y="189"/>
                  </a:lnTo>
                  <a:lnTo>
                    <a:pt x="567" y="186"/>
                  </a:lnTo>
                  <a:lnTo>
                    <a:pt x="549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5" y="161"/>
                  </a:lnTo>
                  <a:lnTo>
                    <a:pt x="417" y="149"/>
                  </a:lnTo>
                  <a:lnTo>
                    <a:pt x="378" y="136"/>
                  </a:lnTo>
                  <a:lnTo>
                    <a:pt x="339" y="121"/>
                  </a:lnTo>
                  <a:lnTo>
                    <a:pt x="301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3" y="20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6"/>
                  </a:lnTo>
                  <a:lnTo>
                    <a:pt x="43" y="56"/>
                  </a:lnTo>
                  <a:lnTo>
                    <a:pt x="61" y="77"/>
                  </a:lnTo>
                  <a:lnTo>
                    <a:pt x="82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49" y="158"/>
                  </a:lnTo>
                  <a:lnTo>
                    <a:pt x="174" y="177"/>
                  </a:lnTo>
                  <a:lnTo>
                    <a:pt x="199" y="194"/>
                  </a:lnTo>
                  <a:lnTo>
                    <a:pt x="224" y="209"/>
                  </a:lnTo>
                  <a:lnTo>
                    <a:pt x="251" y="223"/>
                  </a:lnTo>
                  <a:lnTo>
                    <a:pt x="263" y="228"/>
                  </a:lnTo>
                  <a:lnTo>
                    <a:pt x="277" y="234"/>
                  </a:lnTo>
                  <a:lnTo>
                    <a:pt x="289" y="239"/>
                  </a:lnTo>
                  <a:lnTo>
                    <a:pt x="302" y="242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1" y="249"/>
                  </a:lnTo>
                  <a:lnTo>
                    <a:pt x="353" y="250"/>
                  </a:lnTo>
                  <a:lnTo>
                    <a:pt x="333" y="250"/>
                  </a:lnTo>
                  <a:lnTo>
                    <a:pt x="311" y="254"/>
                  </a:lnTo>
                  <a:lnTo>
                    <a:pt x="289" y="258"/>
                  </a:lnTo>
                  <a:lnTo>
                    <a:pt x="268" y="265"/>
                  </a:lnTo>
                  <a:lnTo>
                    <a:pt x="245" y="273"/>
                  </a:lnTo>
                  <a:lnTo>
                    <a:pt x="223" y="283"/>
                  </a:lnTo>
                  <a:lnTo>
                    <a:pt x="202" y="295"/>
                  </a:lnTo>
                  <a:lnTo>
                    <a:pt x="181" y="307"/>
                  </a:lnTo>
                  <a:lnTo>
                    <a:pt x="162" y="321"/>
                  </a:lnTo>
                  <a:lnTo>
                    <a:pt x="145" y="336"/>
                  </a:lnTo>
                  <a:lnTo>
                    <a:pt x="129" y="352"/>
                  </a:lnTo>
                  <a:lnTo>
                    <a:pt x="115" y="368"/>
                  </a:lnTo>
                  <a:lnTo>
                    <a:pt x="108" y="377"/>
                  </a:lnTo>
                  <a:lnTo>
                    <a:pt x="103" y="386"/>
                  </a:lnTo>
                  <a:lnTo>
                    <a:pt x="99" y="395"/>
                  </a:lnTo>
                  <a:lnTo>
                    <a:pt x="94" y="404"/>
                  </a:lnTo>
                  <a:lnTo>
                    <a:pt x="92" y="413"/>
                  </a:lnTo>
                  <a:lnTo>
                    <a:pt x="90" y="422"/>
                  </a:lnTo>
                  <a:lnTo>
                    <a:pt x="89" y="433"/>
                  </a:lnTo>
                  <a:lnTo>
                    <a:pt x="88" y="442"/>
                  </a:lnTo>
                  <a:lnTo>
                    <a:pt x="142" y="442"/>
                  </a:lnTo>
                  <a:lnTo>
                    <a:pt x="196" y="440"/>
                  </a:lnTo>
                  <a:lnTo>
                    <a:pt x="222" y="438"/>
                  </a:lnTo>
                  <a:lnTo>
                    <a:pt x="248" y="436"/>
                  </a:lnTo>
                  <a:lnTo>
                    <a:pt x="273" y="434"/>
                  </a:lnTo>
                  <a:lnTo>
                    <a:pt x="298" y="429"/>
                  </a:lnTo>
                  <a:lnTo>
                    <a:pt x="323" y="423"/>
                  </a:lnTo>
                  <a:lnTo>
                    <a:pt x="347" y="417"/>
                  </a:lnTo>
                  <a:lnTo>
                    <a:pt x="371" y="409"/>
                  </a:lnTo>
                  <a:lnTo>
                    <a:pt x="395" y="398"/>
                  </a:lnTo>
                  <a:lnTo>
                    <a:pt x="418" y="386"/>
                  </a:lnTo>
                  <a:lnTo>
                    <a:pt x="441" y="372"/>
                  </a:lnTo>
                  <a:lnTo>
                    <a:pt x="464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2" y="478"/>
                  </a:lnTo>
                  <a:lnTo>
                    <a:pt x="467" y="501"/>
                  </a:lnTo>
                  <a:lnTo>
                    <a:pt x="475" y="519"/>
                  </a:lnTo>
                  <a:lnTo>
                    <a:pt x="485" y="533"/>
                  </a:lnTo>
                  <a:lnTo>
                    <a:pt x="498" y="543"/>
                  </a:lnTo>
                  <a:lnTo>
                    <a:pt x="514" y="550"/>
                  </a:lnTo>
                  <a:lnTo>
                    <a:pt x="530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8" y="542"/>
                  </a:lnTo>
                  <a:lnTo>
                    <a:pt x="608" y="533"/>
                  </a:lnTo>
                  <a:lnTo>
                    <a:pt x="629" y="521"/>
                  </a:lnTo>
                  <a:lnTo>
                    <a:pt x="649" y="508"/>
                  </a:lnTo>
                  <a:lnTo>
                    <a:pt x="668" y="493"/>
                  </a:lnTo>
                  <a:lnTo>
                    <a:pt x="686" y="476"/>
                  </a:lnTo>
                  <a:lnTo>
                    <a:pt x="702" y="456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0"/>
                  </a:lnTo>
                  <a:lnTo>
                    <a:pt x="746" y="329"/>
                  </a:lnTo>
                  <a:lnTo>
                    <a:pt x="742" y="306"/>
                  </a:lnTo>
                  <a:lnTo>
                    <a:pt x="733" y="284"/>
                  </a:lnTo>
                  <a:lnTo>
                    <a:pt x="718" y="264"/>
                  </a:lnTo>
                  <a:lnTo>
                    <a:pt x="698" y="243"/>
                  </a:lnTo>
                  <a:lnTo>
                    <a:pt x="673" y="225"/>
                  </a:lnTo>
                  <a:lnTo>
                    <a:pt x="641" y="207"/>
                  </a:lnTo>
                  <a:lnTo>
                    <a:pt x="604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50000" y="3316680"/>
              <a:ext cx="195120" cy="68040"/>
            </a:xfrm>
            <a:custGeom>
              <a:avLst/>
              <a:gdLst/>
              <a:ahLst/>
              <a:rect l="l" t="t" r="r" b="b"/>
              <a:pathLst>
                <a:path w="618" h="214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2" y="43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3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60"/>
                  </a:lnTo>
                  <a:lnTo>
                    <a:pt x="425" y="172"/>
                  </a:lnTo>
                  <a:lnTo>
                    <a:pt x="464" y="185"/>
                  </a:lnTo>
                  <a:lnTo>
                    <a:pt x="503" y="196"/>
                  </a:lnTo>
                  <a:lnTo>
                    <a:pt x="540" y="204"/>
                  </a:lnTo>
                  <a:lnTo>
                    <a:pt x="560" y="207"/>
                  </a:lnTo>
                  <a:lnTo>
                    <a:pt x="578" y="211"/>
                  </a:lnTo>
                  <a:lnTo>
                    <a:pt x="597" y="213"/>
                  </a:lnTo>
                  <a:lnTo>
                    <a:pt x="616" y="214"/>
                  </a:lnTo>
                  <a:lnTo>
                    <a:pt x="618" y="190"/>
                  </a:lnTo>
                  <a:lnTo>
                    <a:pt x="600" y="189"/>
                  </a:lnTo>
                  <a:lnTo>
                    <a:pt x="581" y="187"/>
                  </a:lnTo>
                  <a:lnTo>
                    <a:pt x="563" y="183"/>
                  </a:lnTo>
                  <a:lnTo>
                    <a:pt x="546" y="180"/>
                  </a:lnTo>
                  <a:lnTo>
                    <a:pt x="509" y="172"/>
                  </a:lnTo>
                  <a:lnTo>
                    <a:pt x="471" y="162"/>
                  </a:lnTo>
                  <a:lnTo>
                    <a:pt x="433" y="149"/>
                  </a:lnTo>
                  <a:lnTo>
                    <a:pt x="395" y="137"/>
                  </a:lnTo>
                  <a:lnTo>
                    <a:pt x="357" y="122"/>
                  </a:lnTo>
                  <a:lnTo>
                    <a:pt x="318" y="107"/>
                  </a:lnTo>
                  <a:lnTo>
                    <a:pt x="242" y="76"/>
                  </a:lnTo>
                  <a:lnTo>
                    <a:pt x="165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0"/>
                  </a:lnTo>
                  <a:lnTo>
                    <a:pt x="3" y="19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50000" y="3318120"/>
              <a:ext cx="118800" cy="85680"/>
            </a:xfrm>
            <a:custGeom>
              <a:avLst/>
              <a:gdLst/>
              <a:ahLst/>
              <a:rect l="l" t="t" r="r" b="b"/>
              <a:pathLst>
                <a:path w="374" h="268">
                  <a:moveTo>
                    <a:pt x="363" y="268"/>
                  </a:moveTo>
                  <a:lnTo>
                    <a:pt x="363" y="244"/>
                  </a:lnTo>
                  <a:lnTo>
                    <a:pt x="352" y="244"/>
                  </a:lnTo>
                  <a:lnTo>
                    <a:pt x="339" y="241"/>
                  </a:lnTo>
                  <a:lnTo>
                    <a:pt x="328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9" y="224"/>
                  </a:lnTo>
                  <a:lnTo>
                    <a:pt x="266" y="218"/>
                  </a:lnTo>
                  <a:lnTo>
                    <a:pt x="240" y="205"/>
                  </a:lnTo>
                  <a:lnTo>
                    <a:pt x="216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1" y="115"/>
                  </a:lnTo>
                  <a:lnTo>
                    <a:pt x="100" y="94"/>
                  </a:lnTo>
                  <a:lnTo>
                    <a:pt x="80" y="74"/>
                  </a:lnTo>
                  <a:lnTo>
                    <a:pt x="62" y="54"/>
                  </a:lnTo>
                  <a:lnTo>
                    <a:pt x="46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0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3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8" y="154"/>
                  </a:lnTo>
                  <a:lnTo>
                    <a:pt x="152" y="174"/>
                  </a:lnTo>
                  <a:lnTo>
                    <a:pt x="177" y="192"/>
                  </a:lnTo>
                  <a:lnTo>
                    <a:pt x="202" y="211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8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10" y="261"/>
                  </a:lnTo>
                  <a:lnTo>
                    <a:pt x="322" y="263"/>
                  </a:lnTo>
                  <a:lnTo>
                    <a:pt x="336" y="265"/>
                  </a:lnTo>
                  <a:lnTo>
                    <a:pt x="349" y="268"/>
                  </a:lnTo>
                  <a:lnTo>
                    <a:pt x="363" y="268"/>
                  </a:lnTo>
                  <a:lnTo>
                    <a:pt x="363" y="244"/>
                  </a:lnTo>
                  <a:lnTo>
                    <a:pt x="363" y="268"/>
                  </a:lnTo>
                  <a:lnTo>
                    <a:pt x="368" y="266"/>
                  </a:lnTo>
                  <a:lnTo>
                    <a:pt x="372" y="264"/>
                  </a:lnTo>
                  <a:lnTo>
                    <a:pt x="374" y="260"/>
                  </a:lnTo>
                  <a:lnTo>
                    <a:pt x="374" y="256"/>
                  </a:lnTo>
                  <a:lnTo>
                    <a:pt x="374" y="252"/>
                  </a:lnTo>
                  <a:lnTo>
                    <a:pt x="372" y="247"/>
                  </a:lnTo>
                  <a:lnTo>
                    <a:pt x="368" y="245"/>
                  </a:lnTo>
                  <a:lnTo>
                    <a:pt x="363" y="244"/>
                  </a:lnTo>
                  <a:lnTo>
                    <a:pt x="363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76640" y="3395880"/>
              <a:ext cx="88920" cy="6840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2" y="192"/>
                  </a:moveTo>
                  <a:lnTo>
                    <a:pt x="24" y="204"/>
                  </a:lnTo>
                  <a:lnTo>
                    <a:pt x="24" y="196"/>
                  </a:lnTo>
                  <a:lnTo>
                    <a:pt x="25" y="187"/>
                  </a:lnTo>
                  <a:lnTo>
                    <a:pt x="27" y="179"/>
                  </a:lnTo>
                  <a:lnTo>
                    <a:pt x="30" y="171"/>
                  </a:lnTo>
                  <a:lnTo>
                    <a:pt x="33" y="161"/>
                  </a:lnTo>
                  <a:lnTo>
                    <a:pt x="38" y="153"/>
                  </a:lnTo>
                  <a:lnTo>
                    <a:pt x="42" y="145"/>
                  </a:lnTo>
                  <a:lnTo>
                    <a:pt x="48" y="138"/>
                  </a:lnTo>
                  <a:lnTo>
                    <a:pt x="62" y="122"/>
                  </a:lnTo>
                  <a:lnTo>
                    <a:pt x="76" y="107"/>
                  </a:lnTo>
                  <a:lnTo>
                    <a:pt x="94" y="92"/>
                  </a:lnTo>
                  <a:lnTo>
                    <a:pt x="112" y="79"/>
                  </a:lnTo>
                  <a:lnTo>
                    <a:pt x="131" y="67"/>
                  </a:lnTo>
                  <a:lnTo>
                    <a:pt x="153" y="55"/>
                  </a:lnTo>
                  <a:lnTo>
                    <a:pt x="173" y="46"/>
                  </a:lnTo>
                  <a:lnTo>
                    <a:pt x="195" y="38"/>
                  </a:lnTo>
                  <a:lnTo>
                    <a:pt x="217" y="33"/>
                  </a:lnTo>
                  <a:lnTo>
                    <a:pt x="237" y="28"/>
                  </a:lnTo>
                  <a:lnTo>
                    <a:pt x="258" y="25"/>
                  </a:lnTo>
                  <a:lnTo>
                    <a:pt x="277" y="24"/>
                  </a:lnTo>
                  <a:lnTo>
                    <a:pt x="277" y="0"/>
                  </a:lnTo>
                  <a:lnTo>
                    <a:pt x="255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4" y="24"/>
                  </a:lnTo>
                  <a:lnTo>
                    <a:pt x="141" y="34"/>
                  </a:lnTo>
                  <a:lnTo>
                    <a:pt x="120" y="46"/>
                  </a:lnTo>
                  <a:lnTo>
                    <a:pt x="98" y="59"/>
                  </a:lnTo>
                  <a:lnTo>
                    <a:pt x="79" y="73"/>
                  </a:lnTo>
                  <a:lnTo>
                    <a:pt x="61" y="88"/>
                  </a:lnTo>
                  <a:lnTo>
                    <a:pt x="43" y="106"/>
                  </a:lnTo>
                  <a:lnTo>
                    <a:pt x="29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2" y="151"/>
                  </a:lnTo>
                  <a:lnTo>
                    <a:pt x="7" y="161"/>
                  </a:lnTo>
                  <a:lnTo>
                    <a:pt x="5" y="172"/>
                  </a:lnTo>
                  <a:lnTo>
                    <a:pt x="1" y="182"/>
                  </a:lnTo>
                  <a:lnTo>
                    <a:pt x="0" y="193"/>
                  </a:lnTo>
                  <a:lnTo>
                    <a:pt x="0" y="204"/>
                  </a:lnTo>
                  <a:lnTo>
                    <a:pt x="12" y="216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4" y="213"/>
                  </a:lnTo>
                  <a:lnTo>
                    <a:pt x="7" y="215"/>
                  </a:lnTo>
                  <a:lnTo>
                    <a:pt x="12" y="216"/>
                  </a:lnTo>
                  <a:lnTo>
                    <a:pt x="16" y="215"/>
                  </a:lnTo>
                  <a:lnTo>
                    <a:pt x="20" y="213"/>
                  </a:lnTo>
                  <a:lnTo>
                    <a:pt x="23" y="209"/>
                  </a:lnTo>
                  <a:lnTo>
                    <a:pt x="24" y="204"/>
                  </a:lnTo>
                  <a:lnTo>
                    <a:pt x="12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81680" y="3422880"/>
              <a:ext cx="129960" cy="41400"/>
            </a:xfrm>
            <a:custGeom>
              <a:avLst/>
              <a:gdLst/>
              <a:ahLst/>
              <a:rect l="l" t="t" r="r" b="b"/>
              <a:pathLst>
                <a:path w="410" h="129">
                  <a:moveTo>
                    <a:pt x="410" y="16"/>
                  </a:moveTo>
                  <a:lnTo>
                    <a:pt x="390" y="4"/>
                  </a:lnTo>
                  <a:lnTo>
                    <a:pt x="369" y="22"/>
                  </a:lnTo>
                  <a:lnTo>
                    <a:pt x="347" y="37"/>
                  </a:lnTo>
                  <a:lnTo>
                    <a:pt x="324" y="51"/>
                  </a:lnTo>
                  <a:lnTo>
                    <a:pt x="302" y="62"/>
                  </a:lnTo>
                  <a:lnTo>
                    <a:pt x="279" y="72"/>
                  </a:lnTo>
                  <a:lnTo>
                    <a:pt x="256" y="80"/>
                  </a:lnTo>
                  <a:lnTo>
                    <a:pt x="232" y="87"/>
                  </a:lnTo>
                  <a:lnTo>
                    <a:pt x="208" y="92"/>
                  </a:lnTo>
                  <a:lnTo>
                    <a:pt x="184" y="96"/>
                  </a:lnTo>
                  <a:lnTo>
                    <a:pt x="159" y="100"/>
                  </a:lnTo>
                  <a:lnTo>
                    <a:pt x="134" y="102"/>
                  </a:lnTo>
                  <a:lnTo>
                    <a:pt x="108" y="103"/>
                  </a:lnTo>
                  <a:lnTo>
                    <a:pt x="54" y="104"/>
                  </a:lnTo>
                  <a:lnTo>
                    <a:pt x="0" y="105"/>
                  </a:lnTo>
                  <a:lnTo>
                    <a:pt x="0" y="129"/>
                  </a:lnTo>
                  <a:lnTo>
                    <a:pt x="55" y="129"/>
                  </a:lnTo>
                  <a:lnTo>
                    <a:pt x="109" y="127"/>
                  </a:lnTo>
                  <a:lnTo>
                    <a:pt x="135" y="126"/>
                  </a:lnTo>
                  <a:lnTo>
                    <a:pt x="161" y="123"/>
                  </a:lnTo>
                  <a:lnTo>
                    <a:pt x="188" y="120"/>
                  </a:lnTo>
                  <a:lnTo>
                    <a:pt x="213" y="115"/>
                  </a:lnTo>
                  <a:lnTo>
                    <a:pt x="238" y="110"/>
                  </a:lnTo>
                  <a:lnTo>
                    <a:pt x="263" y="103"/>
                  </a:lnTo>
                  <a:lnTo>
                    <a:pt x="288" y="95"/>
                  </a:lnTo>
                  <a:lnTo>
                    <a:pt x="312" y="84"/>
                  </a:lnTo>
                  <a:lnTo>
                    <a:pt x="336" y="72"/>
                  </a:lnTo>
                  <a:lnTo>
                    <a:pt x="360" y="57"/>
                  </a:lnTo>
                  <a:lnTo>
                    <a:pt x="384" y="41"/>
                  </a:lnTo>
                  <a:lnTo>
                    <a:pt x="406" y="22"/>
                  </a:lnTo>
                  <a:lnTo>
                    <a:pt x="387" y="9"/>
                  </a:lnTo>
                  <a:lnTo>
                    <a:pt x="406" y="22"/>
                  </a:lnTo>
                  <a:lnTo>
                    <a:pt x="410" y="17"/>
                  </a:lnTo>
                  <a:lnTo>
                    <a:pt x="410" y="13"/>
                  </a:lnTo>
                  <a:lnTo>
                    <a:pt x="410" y="8"/>
                  </a:lnTo>
                  <a:lnTo>
                    <a:pt x="408" y="5"/>
                  </a:lnTo>
                  <a:lnTo>
                    <a:pt x="404" y="3"/>
                  </a:lnTo>
                  <a:lnTo>
                    <a:pt x="400" y="0"/>
                  </a:lnTo>
                  <a:lnTo>
                    <a:pt x="395" y="1"/>
                  </a:lnTo>
                  <a:lnTo>
                    <a:pt x="390" y="4"/>
                  </a:lnTo>
                  <a:lnTo>
                    <a:pt x="41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095800" y="3376800"/>
              <a:ext cx="98640" cy="122400"/>
            </a:xfrm>
            <a:custGeom>
              <a:avLst/>
              <a:gdLst/>
              <a:ahLst/>
              <a:rect l="l" t="t" r="r" b="b"/>
              <a:pathLst>
                <a:path w="310" h="387">
                  <a:moveTo>
                    <a:pt x="153" y="24"/>
                  </a:moveTo>
                  <a:lnTo>
                    <a:pt x="149" y="24"/>
                  </a:lnTo>
                  <a:lnTo>
                    <a:pt x="169" y="32"/>
                  </a:lnTo>
                  <a:lnTo>
                    <a:pt x="186" y="40"/>
                  </a:lnTo>
                  <a:lnTo>
                    <a:pt x="202" y="48"/>
                  </a:lnTo>
                  <a:lnTo>
                    <a:pt x="216" y="56"/>
                  </a:lnTo>
                  <a:lnTo>
                    <a:pt x="229" y="65"/>
                  </a:lnTo>
                  <a:lnTo>
                    <a:pt x="240" y="74"/>
                  </a:lnTo>
                  <a:lnTo>
                    <a:pt x="250" y="84"/>
                  </a:lnTo>
                  <a:lnTo>
                    <a:pt x="259" y="94"/>
                  </a:lnTo>
                  <a:lnTo>
                    <a:pt x="265" y="103"/>
                  </a:lnTo>
                  <a:lnTo>
                    <a:pt x="271" y="113"/>
                  </a:lnTo>
                  <a:lnTo>
                    <a:pt x="277" y="122"/>
                  </a:lnTo>
                  <a:lnTo>
                    <a:pt x="280" y="133"/>
                  </a:lnTo>
                  <a:lnTo>
                    <a:pt x="283" y="142"/>
                  </a:lnTo>
                  <a:lnTo>
                    <a:pt x="285" y="152"/>
                  </a:lnTo>
                  <a:lnTo>
                    <a:pt x="286" y="162"/>
                  </a:lnTo>
                  <a:lnTo>
                    <a:pt x="286" y="172"/>
                  </a:lnTo>
                  <a:lnTo>
                    <a:pt x="285" y="183"/>
                  </a:lnTo>
                  <a:lnTo>
                    <a:pt x="283" y="193"/>
                  </a:lnTo>
                  <a:lnTo>
                    <a:pt x="280" y="203"/>
                  </a:lnTo>
                  <a:lnTo>
                    <a:pt x="277" y="213"/>
                  </a:lnTo>
                  <a:lnTo>
                    <a:pt x="272" y="223"/>
                  </a:lnTo>
                  <a:lnTo>
                    <a:pt x="268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3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8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2"/>
                  </a:lnTo>
                  <a:lnTo>
                    <a:pt x="74" y="362"/>
                  </a:lnTo>
                  <a:lnTo>
                    <a:pt x="66" y="359"/>
                  </a:lnTo>
                  <a:lnTo>
                    <a:pt x="60" y="357"/>
                  </a:lnTo>
                  <a:lnTo>
                    <a:pt x="55" y="355"/>
                  </a:lnTo>
                  <a:lnTo>
                    <a:pt x="49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7"/>
                  </a:lnTo>
                  <a:lnTo>
                    <a:pt x="28" y="319"/>
                  </a:lnTo>
                  <a:lnTo>
                    <a:pt x="26" y="309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3"/>
                  </a:lnTo>
                  <a:lnTo>
                    <a:pt x="25" y="258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5"/>
                  </a:lnTo>
                  <a:lnTo>
                    <a:pt x="48" y="163"/>
                  </a:lnTo>
                  <a:lnTo>
                    <a:pt x="25" y="156"/>
                  </a:lnTo>
                  <a:lnTo>
                    <a:pt x="17" y="178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2"/>
                  </a:lnTo>
                  <a:lnTo>
                    <a:pt x="0" y="288"/>
                  </a:lnTo>
                  <a:lnTo>
                    <a:pt x="1" y="301"/>
                  </a:lnTo>
                  <a:lnTo>
                    <a:pt x="2" y="314"/>
                  </a:lnTo>
                  <a:lnTo>
                    <a:pt x="6" y="326"/>
                  </a:lnTo>
                  <a:lnTo>
                    <a:pt x="9" y="337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1" y="380"/>
                  </a:lnTo>
                  <a:lnTo>
                    <a:pt x="60" y="383"/>
                  </a:lnTo>
                  <a:lnTo>
                    <a:pt x="69" y="386"/>
                  </a:lnTo>
                  <a:lnTo>
                    <a:pt x="80" y="387"/>
                  </a:lnTo>
                  <a:lnTo>
                    <a:pt x="90" y="387"/>
                  </a:lnTo>
                  <a:lnTo>
                    <a:pt x="100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2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5"/>
                  </a:lnTo>
                  <a:lnTo>
                    <a:pt x="186" y="354"/>
                  </a:lnTo>
                  <a:lnTo>
                    <a:pt x="206" y="340"/>
                  </a:lnTo>
                  <a:lnTo>
                    <a:pt x="226" y="324"/>
                  </a:lnTo>
                  <a:lnTo>
                    <a:pt x="245" y="306"/>
                  </a:lnTo>
                  <a:lnTo>
                    <a:pt x="262" y="286"/>
                  </a:lnTo>
                  <a:lnTo>
                    <a:pt x="277" y="266"/>
                  </a:lnTo>
                  <a:lnTo>
                    <a:pt x="284" y="256"/>
                  </a:lnTo>
                  <a:lnTo>
                    <a:pt x="289" y="244"/>
                  </a:lnTo>
                  <a:lnTo>
                    <a:pt x="295" y="233"/>
                  </a:lnTo>
                  <a:lnTo>
                    <a:pt x="300" y="221"/>
                  </a:lnTo>
                  <a:lnTo>
                    <a:pt x="303" y="210"/>
                  </a:lnTo>
                  <a:lnTo>
                    <a:pt x="307" y="198"/>
                  </a:lnTo>
                  <a:lnTo>
                    <a:pt x="309" y="186"/>
                  </a:lnTo>
                  <a:lnTo>
                    <a:pt x="310" y="174"/>
                  </a:lnTo>
                  <a:lnTo>
                    <a:pt x="310" y="161"/>
                  </a:lnTo>
                  <a:lnTo>
                    <a:pt x="309" y="150"/>
                  </a:lnTo>
                  <a:lnTo>
                    <a:pt x="307" y="137"/>
                  </a:lnTo>
                  <a:lnTo>
                    <a:pt x="303" y="125"/>
                  </a:lnTo>
                  <a:lnTo>
                    <a:pt x="299" y="113"/>
                  </a:lnTo>
                  <a:lnTo>
                    <a:pt x="293" y="101"/>
                  </a:lnTo>
                  <a:lnTo>
                    <a:pt x="286" y="89"/>
                  </a:lnTo>
                  <a:lnTo>
                    <a:pt x="277" y="78"/>
                  </a:lnTo>
                  <a:lnTo>
                    <a:pt x="268" y="68"/>
                  </a:lnTo>
                  <a:lnTo>
                    <a:pt x="256" y="56"/>
                  </a:lnTo>
                  <a:lnTo>
                    <a:pt x="244" y="46"/>
                  </a:lnTo>
                  <a:lnTo>
                    <a:pt x="229" y="37"/>
                  </a:lnTo>
                  <a:lnTo>
                    <a:pt x="214" y="27"/>
                  </a:lnTo>
                  <a:lnTo>
                    <a:pt x="197" y="19"/>
                  </a:lnTo>
                  <a:lnTo>
                    <a:pt x="178" y="9"/>
                  </a:lnTo>
                  <a:lnTo>
                    <a:pt x="158" y="1"/>
                  </a:lnTo>
                  <a:lnTo>
                    <a:pt x="155" y="0"/>
                  </a:lnTo>
                  <a:lnTo>
                    <a:pt x="158" y="1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5" y="5"/>
                  </a:lnTo>
                  <a:lnTo>
                    <a:pt x="142" y="8"/>
                  </a:lnTo>
                  <a:lnTo>
                    <a:pt x="141" y="13"/>
                  </a:lnTo>
                  <a:lnTo>
                    <a:pt x="142" y="17"/>
                  </a:lnTo>
                  <a:lnTo>
                    <a:pt x="145" y="21"/>
                  </a:lnTo>
                  <a:lnTo>
                    <a:pt x="149" y="24"/>
                  </a:lnTo>
                  <a:lnTo>
                    <a:pt x="153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637000" y="3268800"/>
              <a:ext cx="237960" cy="174600"/>
            </a:xfrm>
            <a:custGeom>
              <a:avLst/>
              <a:gdLst/>
              <a:ahLst/>
              <a:rect l="l" t="t" r="r" b="b"/>
              <a:pathLst>
                <a:path w="747" h="552">
                  <a:moveTo>
                    <a:pt x="603" y="191"/>
                  </a:moveTo>
                  <a:lnTo>
                    <a:pt x="584" y="190"/>
                  </a:lnTo>
                  <a:lnTo>
                    <a:pt x="566" y="187"/>
                  </a:lnTo>
                  <a:lnTo>
                    <a:pt x="548" y="184"/>
                  </a:lnTo>
                  <a:lnTo>
                    <a:pt x="530" y="181"/>
                  </a:lnTo>
                  <a:lnTo>
                    <a:pt x="492" y="171"/>
                  </a:lnTo>
                  <a:lnTo>
                    <a:pt x="454" y="161"/>
                  </a:lnTo>
                  <a:lnTo>
                    <a:pt x="417" y="150"/>
                  </a:lnTo>
                  <a:lnTo>
                    <a:pt x="378" y="136"/>
                  </a:lnTo>
                  <a:lnTo>
                    <a:pt x="340" y="121"/>
                  </a:lnTo>
                  <a:lnTo>
                    <a:pt x="302" y="106"/>
                  </a:lnTo>
                  <a:lnTo>
                    <a:pt x="224" y="76"/>
                  </a:lnTo>
                  <a:lnTo>
                    <a:pt x="148" y="46"/>
                  </a:lnTo>
                  <a:lnTo>
                    <a:pt x="110" y="32"/>
                  </a:lnTo>
                  <a:lnTo>
                    <a:pt x="74" y="21"/>
                  </a:lnTo>
                  <a:lnTo>
                    <a:pt x="36" y="1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7" y="37"/>
                  </a:lnTo>
                  <a:lnTo>
                    <a:pt x="44" y="56"/>
                  </a:lnTo>
                  <a:lnTo>
                    <a:pt x="62" y="77"/>
                  </a:lnTo>
                  <a:lnTo>
                    <a:pt x="83" y="97"/>
                  </a:lnTo>
                  <a:lnTo>
                    <a:pt x="103" y="118"/>
                  </a:lnTo>
                  <a:lnTo>
                    <a:pt x="126" y="138"/>
                  </a:lnTo>
                  <a:lnTo>
                    <a:pt x="150" y="158"/>
                  </a:lnTo>
                  <a:lnTo>
                    <a:pt x="175" y="177"/>
                  </a:lnTo>
                  <a:lnTo>
                    <a:pt x="200" y="194"/>
                  </a:lnTo>
                  <a:lnTo>
                    <a:pt x="225" y="210"/>
                  </a:lnTo>
                  <a:lnTo>
                    <a:pt x="252" y="223"/>
                  </a:lnTo>
                  <a:lnTo>
                    <a:pt x="264" y="230"/>
                  </a:lnTo>
                  <a:lnTo>
                    <a:pt x="277" y="234"/>
                  </a:lnTo>
                  <a:lnTo>
                    <a:pt x="290" y="239"/>
                  </a:lnTo>
                  <a:lnTo>
                    <a:pt x="303" y="243"/>
                  </a:lnTo>
                  <a:lnTo>
                    <a:pt x="315" y="246"/>
                  </a:lnTo>
                  <a:lnTo>
                    <a:pt x="328" y="248"/>
                  </a:lnTo>
                  <a:lnTo>
                    <a:pt x="340" y="249"/>
                  </a:lnTo>
                  <a:lnTo>
                    <a:pt x="353" y="250"/>
                  </a:lnTo>
                  <a:lnTo>
                    <a:pt x="334" y="251"/>
                  </a:lnTo>
                  <a:lnTo>
                    <a:pt x="312" y="254"/>
                  </a:lnTo>
                  <a:lnTo>
                    <a:pt x="290" y="258"/>
                  </a:lnTo>
                  <a:lnTo>
                    <a:pt x="269" y="265"/>
                  </a:lnTo>
                  <a:lnTo>
                    <a:pt x="246" y="273"/>
                  </a:lnTo>
                  <a:lnTo>
                    <a:pt x="224" y="283"/>
                  </a:lnTo>
                  <a:lnTo>
                    <a:pt x="203" y="295"/>
                  </a:lnTo>
                  <a:lnTo>
                    <a:pt x="182" y="307"/>
                  </a:lnTo>
                  <a:lnTo>
                    <a:pt x="163" y="321"/>
                  </a:lnTo>
                  <a:lnTo>
                    <a:pt x="144" y="336"/>
                  </a:lnTo>
                  <a:lnTo>
                    <a:pt x="128" y="352"/>
                  </a:lnTo>
                  <a:lnTo>
                    <a:pt x="115" y="369"/>
                  </a:lnTo>
                  <a:lnTo>
                    <a:pt x="109" y="377"/>
                  </a:lnTo>
                  <a:lnTo>
                    <a:pt x="105" y="386"/>
                  </a:lnTo>
                  <a:lnTo>
                    <a:pt x="100" y="395"/>
                  </a:lnTo>
                  <a:lnTo>
                    <a:pt x="95" y="404"/>
                  </a:lnTo>
                  <a:lnTo>
                    <a:pt x="92" y="413"/>
                  </a:lnTo>
                  <a:lnTo>
                    <a:pt x="91" y="422"/>
                  </a:lnTo>
                  <a:lnTo>
                    <a:pt x="89" y="432"/>
                  </a:lnTo>
                  <a:lnTo>
                    <a:pt x="89" y="442"/>
                  </a:lnTo>
                  <a:lnTo>
                    <a:pt x="143" y="442"/>
                  </a:lnTo>
                  <a:lnTo>
                    <a:pt x="197" y="440"/>
                  </a:lnTo>
                  <a:lnTo>
                    <a:pt x="223" y="439"/>
                  </a:lnTo>
                  <a:lnTo>
                    <a:pt x="249" y="437"/>
                  </a:lnTo>
                  <a:lnTo>
                    <a:pt x="274" y="434"/>
                  </a:lnTo>
                  <a:lnTo>
                    <a:pt x="299" y="429"/>
                  </a:lnTo>
                  <a:lnTo>
                    <a:pt x="325" y="423"/>
                  </a:lnTo>
                  <a:lnTo>
                    <a:pt x="348" y="417"/>
                  </a:lnTo>
                  <a:lnTo>
                    <a:pt x="372" y="409"/>
                  </a:lnTo>
                  <a:lnTo>
                    <a:pt x="396" y="398"/>
                  </a:lnTo>
                  <a:lnTo>
                    <a:pt x="419" y="386"/>
                  </a:lnTo>
                  <a:lnTo>
                    <a:pt x="442" y="372"/>
                  </a:lnTo>
                  <a:lnTo>
                    <a:pt x="465" y="356"/>
                  </a:lnTo>
                  <a:lnTo>
                    <a:pt x="486" y="338"/>
                  </a:lnTo>
                  <a:lnTo>
                    <a:pt x="474" y="381"/>
                  </a:lnTo>
                  <a:lnTo>
                    <a:pt x="466" y="419"/>
                  </a:lnTo>
                  <a:lnTo>
                    <a:pt x="462" y="451"/>
                  </a:lnTo>
                  <a:lnTo>
                    <a:pt x="464" y="478"/>
                  </a:lnTo>
                  <a:lnTo>
                    <a:pt x="468" y="501"/>
                  </a:lnTo>
                  <a:lnTo>
                    <a:pt x="475" y="519"/>
                  </a:lnTo>
                  <a:lnTo>
                    <a:pt x="486" y="533"/>
                  </a:lnTo>
                  <a:lnTo>
                    <a:pt x="499" y="543"/>
                  </a:lnTo>
                  <a:lnTo>
                    <a:pt x="514" y="550"/>
                  </a:lnTo>
                  <a:lnTo>
                    <a:pt x="531" y="552"/>
                  </a:lnTo>
                  <a:lnTo>
                    <a:pt x="549" y="552"/>
                  </a:lnTo>
                  <a:lnTo>
                    <a:pt x="568" y="549"/>
                  </a:lnTo>
                  <a:lnTo>
                    <a:pt x="589" y="542"/>
                  </a:lnTo>
                  <a:lnTo>
                    <a:pt x="609" y="533"/>
                  </a:lnTo>
                  <a:lnTo>
                    <a:pt x="630" y="521"/>
                  </a:lnTo>
                  <a:lnTo>
                    <a:pt x="649" y="508"/>
                  </a:lnTo>
                  <a:lnTo>
                    <a:pt x="669" y="493"/>
                  </a:lnTo>
                  <a:lnTo>
                    <a:pt x="686" y="476"/>
                  </a:lnTo>
                  <a:lnTo>
                    <a:pt x="703" y="458"/>
                  </a:lnTo>
                  <a:lnTo>
                    <a:pt x="717" y="437"/>
                  </a:lnTo>
                  <a:lnTo>
                    <a:pt x="729" y="417"/>
                  </a:lnTo>
                  <a:lnTo>
                    <a:pt x="738" y="395"/>
                  </a:lnTo>
                  <a:lnTo>
                    <a:pt x="745" y="373"/>
                  </a:lnTo>
                  <a:lnTo>
                    <a:pt x="747" y="352"/>
                  </a:lnTo>
                  <a:lnTo>
                    <a:pt x="746" y="329"/>
                  </a:lnTo>
                  <a:lnTo>
                    <a:pt x="742" y="307"/>
                  </a:lnTo>
                  <a:lnTo>
                    <a:pt x="733" y="285"/>
                  </a:lnTo>
                  <a:lnTo>
                    <a:pt x="718" y="264"/>
                  </a:lnTo>
                  <a:lnTo>
                    <a:pt x="697" y="243"/>
                  </a:lnTo>
                  <a:lnTo>
                    <a:pt x="672" y="225"/>
                  </a:lnTo>
                  <a:lnTo>
                    <a:pt x="640" y="207"/>
                  </a:lnTo>
                  <a:lnTo>
                    <a:pt x="603" y="191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33760" y="3264120"/>
              <a:ext cx="195120" cy="68400"/>
            </a:xfrm>
            <a:custGeom>
              <a:avLst/>
              <a:gdLst/>
              <a:ahLst/>
              <a:rect l="l" t="t" r="r" b="b"/>
              <a:pathLst>
                <a:path w="616" h="215">
                  <a:moveTo>
                    <a:pt x="22" y="6"/>
                  </a:moveTo>
                  <a:lnTo>
                    <a:pt x="9" y="24"/>
                  </a:lnTo>
                  <a:lnTo>
                    <a:pt x="46" y="33"/>
                  </a:lnTo>
                  <a:lnTo>
                    <a:pt x="81" y="44"/>
                  </a:lnTo>
                  <a:lnTo>
                    <a:pt x="119" y="56"/>
                  </a:lnTo>
                  <a:lnTo>
                    <a:pt x="156" y="69"/>
                  </a:lnTo>
                  <a:lnTo>
                    <a:pt x="232" y="99"/>
                  </a:lnTo>
                  <a:lnTo>
                    <a:pt x="309" y="130"/>
                  </a:lnTo>
                  <a:lnTo>
                    <a:pt x="348" y="145"/>
                  </a:lnTo>
                  <a:lnTo>
                    <a:pt x="387" y="159"/>
                  </a:lnTo>
                  <a:lnTo>
                    <a:pt x="424" y="173"/>
                  </a:lnTo>
                  <a:lnTo>
                    <a:pt x="463" y="185"/>
                  </a:lnTo>
                  <a:lnTo>
                    <a:pt x="502" y="196"/>
                  </a:lnTo>
                  <a:lnTo>
                    <a:pt x="539" y="204"/>
                  </a:lnTo>
                  <a:lnTo>
                    <a:pt x="558" y="209"/>
                  </a:lnTo>
                  <a:lnTo>
                    <a:pt x="577" y="211"/>
                  </a:lnTo>
                  <a:lnTo>
                    <a:pt x="595" y="213"/>
                  </a:lnTo>
                  <a:lnTo>
                    <a:pt x="613" y="215"/>
                  </a:lnTo>
                  <a:lnTo>
                    <a:pt x="616" y="190"/>
                  </a:lnTo>
                  <a:lnTo>
                    <a:pt x="597" y="189"/>
                  </a:lnTo>
                  <a:lnTo>
                    <a:pt x="580" y="187"/>
                  </a:lnTo>
                  <a:lnTo>
                    <a:pt x="562" y="185"/>
                  </a:lnTo>
                  <a:lnTo>
                    <a:pt x="544" y="181"/>
                  </a:lnTo>
                  <a:lnTo>
                    <a:pt x="507" y="172"/>
                  </a:lnTo>
                  <a:lnTo>
                    <a:pt x="470" y="162"/>
                  </a:lnTo>
                  <a:lnTo>
                    <a:pt x="432" y="150"/>
                  </a:lnTo>
                  <a:lnTo>
                    <a:pt x="395" y="137"/>
                  </a:lnTo>
                  <a:lnTo>
                    <a:pt x="356" y="122"/>
                  </a:lnTo>
                  <a:lnTo>
                    <a:pt x="318" y="107"/>
                  </a:lnTo>
                  <a:lnTo>
                    <a:pt x="241" y="76"/>
                  </a:lnTo>
                  <a:lnTo>
                    <a:pt x="164" y="47"/>
                  </a:lnTo>
                  <a:lnTo>
                    <a:pt x="127" y="33"/>
                  </a:lnTo>
                  <a:lnTo>
                    <a:pt x="89" y="20"/>
                  </a:lnTo>
                  <a:lnTo>
                    <a:pt x="52" y="10"/>
                  </a:lnTo>
                  <a:lnTo>
                    <a:pt x="15" y="1"/>
                  </a:lnTo>
                  <a:lnTo>
                    <a:pt x="3" y="19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33760" y="3265920"/>
              <a:ext cx="118800" cy="85680"/>
            </a:xfrm>
            <a:custGeom>
              <a:avLst/>
              <a:gdLst/>
              <a:ahLst/>
              <a:rect l="l" t="t" r="r" b="b"/>
              <a:pathLst>
                <a:path w="375" h="267">
                  <a:moveTo>
                    <a:pt x="362" y="267"/>
                  </a:moveTo>
                  <a:lnTo>
                    <a:pt x="362" y="244"/>
                  </a:lnTo>
                  <a:lnTo>
                    <a:pt x="351" y="244"/>
                  </a:lnTo>
                  <a:lnTo>
                    <a:pt x="339" y="242"/>
                  </a:lnTo>
                  <a:lnTo>
                    <a:pt x="327" y="240"/>
                  </a:lnTo>
                  <a:lnTo>
                    <a:pt x="315" y="237"/>
                  </a:lnTo>
                  <a:lnTo>
                    <a:pt x="303" y="233"/>
                  </a:lnTo>
                  <a:lnTo>
                    <a:pt x="290" y="229"/>
                  </a:lnTo>
                  <a:lnTo>
                    <a:pt x="278" y="224"/>
                  </a:lnTo>
                  <a:lnTo>
                    <a:pt x="265" y="218"/>
                  </a:lnTo>
                  <a:lnTo>
                    <a:pt x="240" y="205"/>
                  </a:lnTo>
                  <a:lnTo>
                    <a:pt x="215" y="190"/>
                  </a:lnTo>
                  <a:lnTo>
                    <a:pt x="191" y="173"/>
                  </a:lnTo>
                  <a:lnTo>
                    <a:pt x="167" y="155"/>
                  </a:lnTo>
                  <a:lnTo>
                    <a:pt x="143" y="135"/>
                  </a:lnTo>
                  <a:lnTo>
                    <a:pt x="122" y="115"/>
                  </a:lnTo>
                  <a:lnTo>
                    <a:pt x="100" y="95"/>
                  </a:lnTo>
                  <a:lnTo>
                    <a:pt x="80" y="75"/>
                  </a:lnTo>
                  <a:lnTo>
                    <a:pt x="62" y="54"/>
                  </a:lnTo>
                  <a:lnTo>
                    <a:pt x="45" y="35"/>
                  </a:lnTo>
                  <a:lnTo>
                    <a:pt x="31" y="1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12" y="32"/>
                  </a:lnTo>
                  <a:lnTo>
                    <a:pt x="27" y="50"/>
                  </a:lnTo>
                  <a:lnTo>
                    <a:pt x="44" y="70"/>
                  </a:lnTo>
                  <a:lnTo>
                    <a:pt x="62" y="91"/>
                  </a:lnTo>
                  <a:lnTo>
                    <a:pt x="83" y="111"/>
                  </a:lnTo>
                  <a:lnTo>
                    <a:pt x="104" y="133"/>
                  </a:lnTo>
                  <a:lnTo>
                    <a:pt x="127" y="153"/>
                  </a:lnTo>
                  <a:lnTo>
                    <a:pt x="151" y="174"/>
                  </a:lnTo>
                  <a:lnTo>
                    <a:pt x="176" y="192"/>
                  </a:lnTo>
                  <a:lnTo>
                    <a:pt x="202" y="210"/>
                  </a:lnTo>
                  <a:lnTo>
                    <a:pt x="229" y="226"/>
                  </a:lnTo>
                  <a:lnTo>
                    <a:pt x="255" y="240"/>
                  </a:lnTo>
                  <a:lnTo>
                    <a:pt x="269" y="246"/>
                  </a:lnTo>
                  <a:lnTo>
                    <a:pt x="282" y="252"/>
                  </a:lnTo>
                  <a:lnTo>
                    <a:pt x="296" y="256"/>
                  </a:lnTo>
                  <a:lnTo>
                    <a:pt x="308" y="261"/>
                  </a:lnTo>
                  <a:lnTo>
                    <a:pt x="322" y="264"/>
                  </a:lnTo>
                  <a:lnTo>
                    <a:pt x="336" y="266"/>
                  </a:lnTo>
                  <a:lnTo>
                    <a:pt x="349" y="267"/>
                  </a:lnTo>
                  <a:lnTo>
                    <a:pt x="362" y="267"/>
                  </a:lnTo>
                  <a:lnTo>
                    <a:pt x="362" y="244"/>
                  </a:lnTo>
                  <a:lnTo>
                    <a:pt x="362" y="267"/>
                  </a:lnTo>
                  <a:lnTo>
                    <a:pt x="368" y="266"/>
                  </a:lnTo>
                  <a:lnTo>
                    <a:pt x="371" y="264"/>
                  </a:lnTo>
                  <a:lnTo>
                    <a:pt x="373" y="261"/>
                  </a:lnTo>
                  <a:lnTo>
                    <a:pt x="375" y="256"/>
                  </a:lnTo>
                  <a:lnTo>
                    <a:pt x="373" y="252"/>
                  </a:lnTo>
                  <a:lnTo>
                    <a:pt x="371" y="247"/>
                  </a:lnTo>
                  <a:lnTo>
                    <a:pt x="368" y="245"/>
                  </a:lnTo>
                  <a:lnTo>
                    <a:pt x="362" y="244"/>
                  </a:lnTo>
                  <a:lnTo>
                    <a:pt x="362" y="26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60760" y="3343680"/>
              <a:ext cx="88920" cy="68040"/>
            </a:xfrm>
            <a:custGeom>
              <a:avLst/>
              <a:gdLst/>
              <a:ahLst/>
              <a:rect l="l" t="t" r="r" b="b"/>
              <a:pathLst>
                <a:path w="277" h="216">
                  <a:moveTo>
                    <a:pt x="13" y="192"/>
                  </a:moveTo>
                  <a:lnTo>
                    <a:pt x="25" y="204"/>
                  </a:lnTo>
                  <a:lnTo>
                    <a:pt x="25" y="196"/>
                  </a:lnTo>
                  <a:lnTo>
                    <a:pt x="26" y="187"/>
                  </a:lnTo>
                  <a:lnTo>
                    <a:pt x="29" y="179"/>
                  </a:lnTo>
                  <a:lnTo>
                    <a:pt x="31" y="171"/>
                  </a:lnTo>
                  <a:lnTo>
                    <a:pt x="34" y="161"/>
                  </a:lnTo>
                  <a:lnTo>
                    <a:pt x="39" y="153"/>
                  </a:lnTo>
                  <a:lnTo>
                    <a:pt x="43" y="145"/>
                  </a:lnTo>
                  <a:lnTo>
                    <a:pt x="49" y="137"/>
                  </a:lnTo>
                  <a:lnTo>
                    <a:pt x="62" y="122"/>
                  </a:lnTo>
                  <a:lnTo>
                    <a:pt x="78" y="107"/>
                  </a:lnTo>
                  <a:lnTo>
                    <a:pt x="94" y="92"/>
                  </a:lnTo>
                  <a:lnTo>
                    <a:pt x="113" y="79"/>
                  </a:lnTo>
                  <a:lnTo>
                    <a:pt x="132" y="67"/>
                  </a:lnTo>
                  <a:lnTo>
                    <a:pt x="153" y="57"/>
                  </a:lnTo>
                  <a:lnTo>
                    <a:pt x="174" y="46"/>
                  </a:lnTo>
                  <a:lnTo>
                    <a:pt x="196" y="38"/>
                  </a:lnTo>
                  <a:lnTo>
                    <a:pt x="218" y="33"/>
                  </a:lnTo>
                  <a:lnTo>
                    <a:pt x="238" y="28"/>
                  </a:lnTo>
                  <a:lnTo>
                    <a:pt x="259" y="25"/>
                  </a:lnTo>
                  <a:lnTo>
                    <a:pt x="277" y="23"/>
                  </a:lnTo>
                  <a:lnTo>
                    <a:pt x="277" y="0"/>
                  </a:lnTo>
                  <a:lnTo>
                    <a:pt x="256" y="1"/>
                  </a:lnTo>
                  <a:lnTo>
                    <a:pt x="234" y="4"/>
                  </a:lnTo>
                  <a:lnTo>
                    <a:pt x="211" y="9"/>
                  </a:lnTo>
                  <a:lnTo>
                    <a:pt x="188" y="16"/>
                  </a:lnTo>
                  <a:lnTo>
                    <a:pt x="165" y="25"/>
                  </a:lnTo>
                  <a:lnTo>
                    <a:pt x="143" y="35"/>
                  </a:lnTo>
                  <a:lnTo>
                    <a:pt x="121" y="46"/>
                  </a:lnTo>
                  <a:lnTo>
                    <a:pt x="99" y="59"/>
                  </a:lnTo>
                  <a:lnTo>
                    <a:pt x="80" y="74"/>
                  </a:lnTo>
                  <a:lnTo>
                    <a:pt x="60" y="88"/>
                  </a:lnTo>
                  <a:lnTo>
                    <a:pt x="45" y="106"/>
                  </a:lnTo>
                  <a:lnTo>
                    <a:pt x="30" y="123"/>
                  </a:lnTo>
                  <a:lnTo>
                    <a:pt x="23" y="132"/>
                  </a:lnTo>
                  <a:lnTo>
                    <a:pt x="17" y="142"/>
                  </a:lnTo>
                  <a:lnTo>
                    <a:pt x="13" y="151"/>
                  </a:lnTo>
                  <a:lnTo>
                    <a:pt x="8" y="161"/>
                  </a:lnTo>
                  <a:lnTo>
                    <a:pt x="5" y="172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13" y="216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5" y="213"/>
                  </a:lnTo>
                  <a:lnTo>
                    <a:pt x="8" y="215"/>
                  </a:lnTo>
                  <a:lnTo>
                    <a:pt x="13" y="216"/>
                  </a:lnTo>
                  <a:lnTo>
                    <a:pt x="17" y="215"/>
                  </a:lnTo>
                  <a:lnTo>
                    <a:pt x="21" y="213"/>
                  </a:lnTo>
                  <a:lnTo>
                    <a:pt x="24" y="209"/>
                  </a:lnTo>
                  <a:lnTo>
                    <a:pt x="25" y="204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65440" y="3372120"/>
              <a:ext cx="130320" cy="39600"/>
            </a:xfrm>
            <a:custGeom>
              <a:avLst/>
              <a:gdLst/>
              <a:ahLst/>
              <a:rect l="l" t="t" r="r" b="b"/>
              <a:pathLst>
                <a:path w="410" h="128">
                  <a:moveTo>
                    <a:pt x="409" y="16"/>
                  </a:moveTo>
                  <a:lnTo>
                    <a:pt x="389" y="3"/>
                  </a:lnTo>
                  <a:lnTo>
                    <a:pt x="368" y="21"/>
                  </a:lnTo>
                  <a:lnTo>
                    <a:pt x="346" y="36"/>
                  </a:lnTo>
                  <a:lnTo>
                    <a:pt x="324" y="49"/>
                  </a:lnTo>
                  <a:lnTo>
                    <a:pt x="302" y="61"/>
                  </a:lnTo>
                  <a:lnTo>
                    <a:pt x="279" y="71"/>
                  </a:lnTo>
                  <a:lnTo>
                    <a:pt x="256" y="79"/>
                  </a:lnTo>
                  <a:lnTo>
                    <a:pt x="232" y="86"/>
                  </a:lnTo>
                  <a:lnTo>
                    <a:pt x="208" y="92"/>
                  </a:lnTo>
                  <a:lnTo>
                    <a:pt x="183" y="95"/>
                  </a:lnTo>
                  <a:lnTo>
                    <a:pt x="159" y="99"/>
                  </a:lnTo>
                  <a:lnTo>
                    <a:pt x="133" y="101"/>
                  </a:lnTo>
                  <a:lnTo>
                    <a:pt x="108" y="102"/>
                  </a:lnTo>
                  <a:lnTo>
                    <a:pt x="54" y="104"/>
                  </a:lnTo>
                  <a:lnTo>
                    <a:pt x="0" y="104"/>
                  </a:lnTo>
                  <a:lnTo>
                    <a:pt x="0" y="128"/>
                  </a:lnTo>
                  <a:lnTo>
                    <a:pt x="54" y="128"/>
                  </a:lnTo>
                  <a:lnTo>
                    <a:pt x="108" y="127"/>
                  </a:lnTo>
                  <a:lnTo>
                    <a:pt x="135" y="125"/>
                  </a:lnTo>
                  <a:lnTo>
                    <a:pt x="161" y="122"/>
                  </a:lnTo>
                  <a:lnTo>
                    <a:pt x="186" y="119"/>
                  </a:lnTo>
                  <a:lnTo>
                    <a:pt x="213" y="114"/>
                  </a:lnTo>
                  <a:lnTo>
                    <a:pt x="238" y="109"/>
                  </a:lnTo>
                  <a:lnTo>
                    <a:pt x="263" y="102"/>
                  </a:lnTo>
                  <a:lnTo>
                    <a:pt x="288" y="94"/>
                  </a:lnTo>
                  <a:lnTo>
                    <a:pt x="312" y="84"/>
                  </a:lnTo>
                  <a:lnTo>
                    <a:pt x="336" y="71"/>
                  </a:lnTo>
                  <a:lnTo>
                    <a:pt x="360" y="56"/>
                  </a:lnTo>
                  <a:lnTo>
                    <a:pt x="383" y="40"/>
                  </a:lnTo>
                  <a:lnTo>
                    <a:pt x="405" y="21"/>
                  </a:lnTo>
                  <a:lnTo>
                    <a:pt x="386" y="8"/>
                  </a:lnTo>
                  <a:lnTo>
                    <a:pt x="405" y="21"/>
                  </a:lnTo>
                  <a:lnTo>
                    <a:pt x="409" y="16"/>
                  </a:lnTo>
                  <a:lnTo>
                    <a:pt x="410" y="12"/>
                  </a:lnTo>
                  <a:lnTo>
                    <a:pt x="409" y="8"/>
                  </a:lnTo>
                  <a:lnTo>
                    <a:pt x="406" y="4"/>
                  </a:lnTo>
                  <a:lnTo>
                    <a:pt x="403" y="2"/>
                  </a:lnTo>
                  <a:lnTo>
                    <a:pt x="400" y="0"/>
                  </a:lnTo>
                  <a:lnTo>
                    <a:pt x="394" y="0"/>
                  </a:lnTo>
                  <a:lnTo>
                    <a:pt x="389" y="3"/>
                  </a:lnTo>
                  <a:lnTo>
                    <a:pt x="409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779560" y="3324600"/>
              <a:ext cx="98640" cy="123840"/>
            </a:xfrm>
            <a:custGeom>
              <a:avLst/>
              <a:gdLst/>
              <a:ahLst/>
              <a:rect l="l" t="t" r="r" b="b"/>
              <a:pathLst>
                <a:path w="309" h="387">
                  <a:moveTo>
                    <a:pt x="150" y="25"/>
                  </a:moveTo>
                  <a:lnTo>
                    <a:pt x="148" y="24"/>
                  </a:lnTo>
                  <a:lnTo>
                    <a:pt x="166" y="32"/>
                  </a:lnTo>
                  <a:lnTo>
                    <a:pt x="185" y="40"/>
                  </a:lnTo>
                  <a:lnTo>
                    <a:pt x="201" y="48"/>
                  </a:lnTo>
                  <a:lnTo>
                    <a:pt x="214" y="57"/>
                  </a:lnTo>
                  <a:lnTo>
                    <a:pt x="228" y="65"/>
                  </a:lnTo>
                  <a:lnTo>
                    <a:pt x="239" y="74"/>
                  </a:lnTo>
                  <a:lnTo>
                    <a:pt x="248" y="85"/>
                  </a:lnTo>
                  <a:lnTo>
                    <a:pt x="258" y="94"/>
                  </a:lnTo>
                  <a:lnTo>
                    <a:pt x="264" y="103"/>
                  </a:lnTo>
                  <a:lnTo>
                    <a:pt x="270" y="113"/>
                  </a:lnTo>
                  <a:lnTo>
                    <a:pt x="276" y="122"/>
                  </a:lnTo>
                  <a:lnTo>
                    <a:pt x="279" y="133"/>
                  </a:lnTo>
                  <a:lnTo>
                    <a:pt x="282" y="143"/>
                  </a:lnTo>
                  <a:lnTo>
                    <a:pt x="284" y="152"/>
                  </a:lnTo>
                  <a:lnTo>
                    <a:pt x="285" y="162"/>
                  </a:lnTo>
                  <a:lnTo>
                    <a:pt x="285" y="172"/>
                  </a:lnTo>
                  <a:lnTo>
                    <a:pt x="284" y="183"/>
                  </a:lnTo>
                  <a:lnTo>
                    <a:pt x="282" y="193"/>
                  </a:lnTo>
                  <a:lnTo>
                    <a:pt x="279" y="203"/>
                  </a:lnTo>
                  <a:lnTo>
                    <a:pt x="276" y="213"/>
                  </a:lnTo>
                  <a:lnTo>
                    <a:pt x="272" y="224"/>
                  </a:lnTo>
                  <a:lnTo>
                    <a:pt x="267" y="233"/>
                  </a:lnTo>
                  <a:lnTo>
                    <a:pt x="262" y="243"/>
                  </a:lnTo>
                  <a:lnTo>
                    <a:pt x="256" y="252"/>
                  </a:lnTo>
                  <a:lnTo>
                    <a:pt x="242" y="272"/>
                  </a:lnTo>
                  <a:lnTo>
                    <a:pt x="227" y="289"/>
                  </a:lnTo>
                  <a:lnTo>
                    <a:pt x="210" y="306"/>
                  </a:lnTo>
                  <a:lnTo>
                    <a:pt x="191" y="321"/>
                  </a:lnTo>
                  <a:lnTo>
                    <a:pt x="172" y="333"/>
                  </a:lnTo>
                  <a:lnTo>
                    <a:pt x="153" y="345"/>
                  </a:lnTo>
                  <a:lnTo>
                    <a:pt x="144" y="349"/>
                  </a:lnTo>
                  <a:lnTo>
                    <a:pt x="133" y="353"/>
                  </a:lnTo>
                  <a:lnTo>
                    <a:pt x="124" y="356"/>
                  </a:lnTo>
                  <a:lnTo>
                    <a:pt x="115" y="358"/>
                  </a:lnTo>
                  <a:lnTo>
                    <a:pt x="106" y="361"/>
                  </a:lnTo>
                  <a:lnTo>
                    <a:pt x="97" y="362"/>
                  </a:lnTo>
                  <a:lnTo>
                    <a:pt x="89" y="363"/>
                  </a:lnTo>
                  <a:lnTo>
                    <a:pt x="81" y="363"/>
                  </a:lnTo>
                  <a:lnTo>
                    <a:pt x="73" y="362"/>
                  </a:lnTo>
                  <a:lnTo>
                    <a:pt x="66" y="361"/>
                  </a:lnTo>
                  <a:lnTo>
                    <a:pt x="59" y="358"/>
                  </a:lnTo>
                  <a:lnTo>
                    <a:pt x="54" y="355"/>
                  </a:lnTo>
                  <a:lnTo>
                    <a:pt x="48" y="351"/>
                  </a:lnTo>
                  <a:lnTo>
                    <a:pt x="43" y="347"/>
                  </a:lnTo>
                  <a:lnTo>
                    <a:pt x="39" y="341"/>
                  </a:lnTo>
                  <a:lnTo>
                    <a:pt x="35" y="335"/>
                  </a:lnTo>
                  <a:lnTo>
                    <a:pt x="32" y="329"/>
                  </a:lnTo>
                  <a:lnTo>
                    <a:pt x="28" y="319"/>
                  </a:lnTo>
                  <a:lnTo>
                    <a:pt x="26" y="310"/>
                  </a:lnTo>
                  <a:lnTo>
                    <a:pt x="25" y="299"/>
                  </a:lnTo>
                  <a:lnTo>
                    <a:pt x="24" y="286"/>
                  </a:lnTo>
                  <a:lnTo>
                    <a:pt x="24" y="274"/>
                  </a:lnTo>
                  <a:lnTo>
                    <a:pt x="25" y="259"/>
                  </a:lnTo>
                  <a:lnTo>
                    <a:pt x="27" y="242"/>
                  </a:lnTo>
                  <a:lnTo>
                    <a:pt x="31" y="225"/>
                  </a:lnTo>
                  <a:lnTo>
                    <a:pt x="35" y="205"/>
                  </a:lnTo>
                  <a:lnTo>
                    <a:pt x="41" y="186"/>
                  </a:lnTo>
                  <a:lnTo>
                    <a:pt x="47" y="164"/>
                  </a:lnTo>
                  <a:lnTo>
                    <a:pt x="24" y="156"/>
                  </a:lnTo>
                  <a:lnTo>
                    <a:pt x="17" y="179"/>
                  </a:lnTo>
                  <a:lnTo>
                    <a:pt x="11" y="200"/>
                  </a:lnTo>
                  <a:lnTo>
                    <a:pt x="7" y="220"/>
                  </a:lnTo>
                  <a:lnTo>
                    <a:pt x="3" y="239"/>
                  </a:lnTo>
                  <a:lnTo>
                    <a:pt x="1" y="256"/>
                  </a:lnTo>
                  <a:lnTo>
                    <a:pt x="0" y="273"/>
                  </a:lnTo>
                  <a:lnTo>
                    <a:pt x="0" y="288"/>
                  </a:lnTo>
                  <a:lnTo>
                    <a:pt x="0" y="301"/>
                  </a:lnTo>
                  <a:lnTo>
                    <a:pt x="2" y="315"/>
                  </a:lnTo>
                  <a:lnTo>
                    <a:pt x="6" y="326"/>
                  </a:lnTo>
                  <a:lnTo>
                    <a:pt x="9" y="338"/>
                  </a:lnTo>
                  <a:lnTo>
                    <a:pt x="14" y="347"/>
                  </a:lnTo>
                  <a:lnTo>
                    <a:pt x="19" y="356"/>
                  </a:lnTo>
                  <a:lnTo>
                    <a:pt x="26" y="364"/>
                  </a:lnTo>
                  <a:lnTo>
                    <a:pt x="34" y="371"/>
                  </a:lnTo>
                  <a:lnTo>
                    <a:pt x="42" y="375"/>
                  </a:lnTo>
                  <a:lnTo>
                    <a:pt x="50" y="380"/>
                  </a:lnTo>
                  <a:lnTo>
                    <a:pt x="59" y="383"/>
                  </a:lnTo>
                  <a:lnTo>
                    <a:pt x="70" y="386"/>
                  </a:lnTo>
                  <a:lnTo>
                    <a:pt x="79" y="387"/>
                  </a:lnTo>
                  <a:lnTo>
                    <a:pt x="89" y="387"/>
                  </a:lnTo>
                  <a:lnTo>
                    <a:pt x="99" y="386"/>
                  </a:lnTo>
                  <a:lnTo>
                    <a:pt x="111" y="384"/>
                  </a:lnTo>
                  <a:lnTo>
                    <a:pt x="121" y="382"/>
                  </a:lnTo>
                  <a:lnTo>
                    <a:pt x="131" y="379"/>
                  </a:lnTo>
                  <a:lnTo>
                    <a:pt x="142" y="375"/>
                  </a:lnTo>
                  <a:lnTo>
                    <a:pt x="153" y="371"/>
                  </a:lnTo>
                  <a:lnTo>
                    <a:pt x="164" y="366"/>
                  </a:lnTo>
                  <a:lnTo>
                    <a:pt x="185" y="354"/>
                  </a:lnTo>
                  <a:lnTo>
                    <a:pt x="205" y="340"/>
                  </a:lnTo>
                  <a:lnTo>
                    <a:pt x="226" y="324"/>
                  </a:lnTo>
                  <a:lnTo>
                    <a:pt x="244" y="306"/>
                  </a:lnTo>
                  <a:lnTo>
                    <a:pt x="261" y="286"/>
                  </a:lnTo>
                  <a:lnTo>
                    <a:pt x="276" y="266"/>
                  </a:lnTo>
                  <a:lnTo>
                    <a:pt x="283" y="256"/>
                  </a:lnTo>
                  <a:lnTo>
                    <a:pt x="288" y="244"/>
                  </a:lnTo>
                  <a:lnTo>
                    <a:pt x="294" y="233"/>
                  </a:lnTo>
                  <a:lnTo>
                    <a:pt x="299" y="221"/>
                  </a:lnTo>
                  <a:lnTo>
                    <a:pt x="302" y="210"/>
                  </a:lnTo>
                  <a:lnTo>
                    <a:pt x="305" y="197"/>
                  </a:lnTo>
                  <a:lnTo>
                    <a:pt x="308" y="186"/>
                  </a:lnTo>
                  <a:lnTo>
                    <a:pt x="309" y="174"/>
                  </a:lnTo>
                  <a:lnTo>
                    <a:pt x="309" y="161"/>
                  </a:lnTo>
                  <a:lnTo>
                    <a:pt x="308" y="150"/>
                  </a:lnTo>
                  <a:lnTo>
                    <a:pt x="305" y="137"/>
                  </a:lnTo>
                  <a:lnTo>
                    <a:pt x="302" y="125"/>
                  </a:lnTo>
                  <a:lnTo>
                    <a:pt x="297" y="113"/>
                  </a:lnTo>
                  <a:lnTo>
                    <a:pt x="292" y="101"/>
                  </a:lnTo>
                  <a:lnTo>
                    <a:pt x="284" y="89"/>
                  </a:lnTo>
                  <a:lnTo>
                    <a:pt x="276" y="78"/>
                  </a:lnTo>
                  <a:lnTo>
                    <a:pt x="266" y="68"/>
                  </a:lnTo>
                  <a:lnTo>
                    <a:pt x="254" y="56"/>
                  </a:lnTo>
                  <a:lnTo>
                    <a:pt x="242" y="46"/>
                  </a:lnTo>
                  <a:lnTo>
                    <a:pt x="228" y="37"/>
                  </a:lnTo>
                  <a:lnTo>
                    <a:pt x="212" y="28"/>
                  </a:lnTo>
                  <a:lnTo>
                    <a:pt x="195" y="19"/>
                  </a:lnTo>
                  <a:lnTo>
                    <a:pt x="177" y="9"/>
                  </a:lnTo>
                  <a:lnTo>
                    <a:pt x="156" y="1"/>
                  </a:lnTo>
                  <a:lnTo>
                    <a:pt x="153" y="0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2" y="5"/>
                  </a:lnTo>
                  <a:lnTo>
                    <a:pt x="140" y="8"/>
                  </a:lnTo>
                  <a:lnTo>
                    <a:pt x="140" y="13"/>
                  </a:lnTo>
                  <a:lnTo>
                    <a:pt x="140" y="17"/>
                  </a:lnTo>
                  <a:lnTo>
                    <a:pt x="142" y="22"/>
                  </a:lnTo>
                  <a:lnTo>
                    <a:pt x="148" y="2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524480" y="3338640"/>
              <a:ext cx="260280" cy="174600"/>
            </a:xfrm>
            <a:custGeom>
              <a:avLst/>
              <a:gdLst/>
              <a:ahLst/>
              <a:rect l="l" t="t" r="r" b="b"/>
              <a:pathLst>
                <a:path w="823" h="546">
                  <a:moveTo>
                    <a:pt x="132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3" y="162"/>
                  </a:lnTo>
                  <a:lnTo>
                    <a:pt x="252" y="142"/>
                  </a:lnTo>
                  <a:lnTo>
                    <a:pt x="279" y="123"/>
                  </a:lnTo>
                  <a:lnTo>
                    <a:pt x="307" y="105"/>
                  </a:lnTo>
                  <a:lnTo>
                    <a:pt x="334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1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69" y="25"/>
                  </a:lnTo>
                  <a:lnTo>
                    <a:pt x="486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0" y="8"/>
                  </a:lnTo>
                  <a:lnTo>
                    <a:pt x="560" y="4"/>
                  </a:lnTo>
                  <a:lnTo>
                    <a:pt x="580" y="3"/>
                  </a:lnTo>
                  <a:lnTo>
                    <a:pt x="602" y="1"/>
                  </a:lnTo>
                  <a:lnTo>
                    <a:pt x="624" y="0"/>
                  </a:lnTo>
                  <a:lnTo>
                    <a:pt x="646" y="0"/>
                  </a:lnTo>
                  <a:lnTo>
                    <a:pt x="653" y="31"/>
                  </a:lnTo>
                  <a:lnTo>
                    <a:pt x="658" y="57"/>
                  </a:lnTo>
                  <a:lnTo>
                    <a:pt x="660" y="79"/>
                  </a:lnTo>
                  <a:lnTo>
                    <a:pt x="661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7" y="120"/>
                  </a:lnTo>
                  <a:lnTo>
                    <a:pt x="654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4" y="141"/>
                  </a:lnTo>
                  <a:lnTo>
                    <a:pt x="641" y="147"/>
                  </a:lnTo>
                  <a:lnTo>
                    <a:pt x="630" y="156"/>
                  </a:lnTo>
                  <a:lnTo>
                    <a:pt x="619" y="165"/>
                  </a:lnTo>
                  <a:lnTo>
                    <a:pt x="605" y="174"/>
                  </a:lnTo>
                  <a:lnTo>
                    <a:pt x="589" y="186"/>
                  </a:lnTo>
                  <a:lnTo>
                    <a:pt x="573" y="197"/>
                  </a:lnTo>
                  <a:lnTo>
                    <a:pt x="554" y="212"/>
                  </a:lnTo>
                  <a:lnTo>
                    <a:pt x="535" y="229"/>
                  </a:lnTo>
                  <a:lnTo>
                    <a:pt x="513" y="250"/>
                  </a:lnTo>
                  <a:lnTo>
                    <a:pt x="557" y="250"/>
                  </a:lnTo>
                  <a:lnTo>
                    <a:pt x="598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5" y="264"/>
                  </a:lnTo>
                  <a:lnTo>
                    <a:pt x="709" y="269"/>
                  </a:lnTo>
                  <a:lnTo>
                    <a:pt x="720" y="273"/>
                  </a:lnTo>
                  <a:lnTo>
                    <a:pt x="732" y="278"/>
                  </a:lnTo>
                  <a:lnTo>
                    <a:pt x="743" y="284"/>
                  </a:lnTo>
                  <a:lnTo>
                    <a:pt x="752" y="291"/>
                  </a:lnTo>
                  <a:lnTo>
                    <a:pt x="761" y="297"/>
                  </a:lnTo>
                  <a:lnTo>
                    <a:pt x="771" y="307"/>
                  </a:lnTo>
                  <a:lnTo>
                    <a:pt x="777" y="315"/>
                  </a:lnTo>
                  <a:lnTo>
                    <a:pt x="784" y="325"/>
                  </a:lnTo>
                  <a:lnTo>
                    <a:pt x="791" y="335"/>
                  </a:lnTo>
                  <a:lnTo>
                    <a:pt x="797" y="346"/>
                  </a:lnTo>
                  <a:lnTo>
                    <a:pt x="801" y="359"/>
                  </a:lnTo>
                  <a:lnTo>
                    <a:pt x="806" y="373"/>
                  </a:lnTo>
                  <a:lnTo>
                    <a:pt x="809" y="387"/>
                  </a:lnTo>
                  <a:lnTo>
                    <a:pt x="813" y="403"/>
                  </a:lnTo>
                  <a:lnTo>
                    <a:pt x="816" y="419"/>
                  </a:lnTo>
                  <a:lnTo>
                    <a:pt x="818" y="438"/>
                  </a:lnTo>
                  <a:lnTo>
                    <a:pt x="821" y="457"/>
                  </a:lnTo>
                  <a:lnTo>
                    <a:pt x="823" y="498"/>
                  </a:lnTo>
                  <a:lnTo>
                    <a:pt x="823" y="546"/>
                  </a:lnTo>
                  <a:lnTo>
                    <a:pt x="802" y="545"/>
                  </a:lnTo>
                  <a:lnTo>
                    <a:pt x="783" y="544"/>
                  </a:lnTo>
                  <a:lnTo>
                    <a:pt x="764" y="540"/>
                  </a:lnTo>
                  <a:lnTo>
                    <a:pt x="745" y="537"/>
                  </a:lnTo>
                  <a:lnTo>
                    <a:pt x="728" y="533"/>
                  </a:lnTo>
                  <a:lnTo>
                    <a:pt x="711" y="528"/>
                  </a:lnTo>
                  <a:lnTo>
                    <a:pt x="695" y="522"/>
                  </a:lnTo>
                  <a:lnTo>
                    <a:pt x="679" y="515"/>
                  </a:lnTo>
                  <a:lnTo>
                    <a:pt x="663" y="508"/>
                  </a:lnTo>
                  <a:lnTo>
                    <a:pt x="649" y="500"/>
                  </a:lnTo>
                  <a:lnTo>
                    <a:pt x="635" y="493"/>
                  </a:lnTo>
                  <a:lnTo>
                    <a:pt x="621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4" y="432"/>
                  </a:lnTo>
                  <a:lnTo>
                    <a:pt x="521" y="414"/>
                  </a:lnTo>
                  <a:lnTo>
                    <a:pt x="498" y="398"/>
                  </a:lnTo>
                  <a:lnTo>
                    <a:pt x="475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1" y="366"/>
                  </a:lnTo>
                  <a:lnTo>
                    <a:pt x="430" y="361"/>
                  </a:lnTo>
                  <a:lnTo>
                    <a:pt x="417" y="358"/>
                  </a:lnTo>
                  <a:lnTo>
                    <a:pt x="406" y="356"/>
                  </a:lnTo>
                  <a:lnTo>
                    <a:pt x="393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7" y="384"/>
                  </a:lnTo>
                  <a:lnTo>
                    <a:pt x="359" y="398"/>
                  </a:lnTo>
                  <a:lnTo>
                    <a:pt x="351" y="410"/>
                  </a:lnTo>
                  <a:lnTo>
                    <a:pt x="343" y="423"/>
                  </a:lnTo>
                  <a:lnTo>
                    <a:pt x="334" y="434"/>
                  </a:lnTo>
                  <a:lnTo>
                    <a:pt x="325" y="443"/>
                  </a:lnTo>
                  <a:lnTo>
                    <a:pt x="316" y="452"/>
                  </a:lnTo>
                  <a:lnTo>
                    <a:pt x="307" y="462"/>
                  </a:lnTo>
                  <a:lnTo>
                    <a:pt x="296" y="468"/>
                  </a:lnTo>
                  <a:lnTo>
                    <a:pt x="286" y="475"/>
                  </a:lnTo>
                  <a:lnTo>
                    <a:pt x="275" y="482"/>
                  </a:lnTo>
                  <a:lnTo>
                    <a:pt x="265" y="488"/>
                  </a:lnTo>
                  <a:lnTo>
                    <a:pt x="253" y="492"/>
                  </a:lnTo>
                  <a:lnTo>
                    <a:pt x="242" y="496"/>
                  </a:lnTo>
                  <a:lnTo>
                    <a:pt x="229" y="500"/>
                  </a:lnTo>
                  <a:lnTo>
                    <a:pt x="205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3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3" y="271"/>
                  </a:lnTo>
                  <a:lnTo>
                    <a:pt x="102" y="258"/>
                  </a:lnTo>
                  <a:lnTo>
                    <a:pt x="119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5" y="224"/>
                  </a:lnTo>
                  <a:lnTo>
                    <a:pt x="165" y="222"/>
                  </a:lnTo>
                  <a:lnTo>
                    <a:pt x="176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564080" y="3335760"/>
              <a:ext cx="169920" cy="77760"/>
            </a:xfrm>
            <a:custGeom>
              <a:avLst/>
              <a:gdLst/>
              <a:ahLst/>
              <a:rect l="l" t="t" r="r" b="b"/>
              <a:pathLst>
                <a:path w="534" h="245">
                  <a:moveTo>
                    <a:pt x="534" y="9"/>
                  </a:moveTo>
                  <a:lnTo>
                    <a:pt x="521" y="0"/>
                  </a:lnTo>
                  <a:lnTo>
                    <a:pt x="499" y="1"/>
                  </a:lnTo>
                  <a:lnTo>
                    <a:pt x="476" y="3"/>
                  </a:lnTo>
                  <a:lnTo>
                    <a:pt x="454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5" y="13"/>
                  </a:lnTo>
                  <a:lnTo>
                    <a:pt x="375" y="16"/>
                  </a:lnTo>
                  <a:lnTo>
                    <a:pt x="357" y="21"/>
                  </a:lnTo>
                  <a:lnTo>
                    <a:pt x="340" y="27"/>
                  </a:lnTo>
                  <a:lnTo>
                    <a:pt x="323" y="31"/>
                  </a:lnTo>
                  <a:lnTo>
                    <a:pt x="307" y="38"/>
                  </a:lnTo>
                  <a:lnTo>
                    <a:pt x="291" y="44"/>
                  </a:lnTo>
                  <a:lnTo>
                    <a:pt x="260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8" y="126"/>
                  </a:lnTo>
                  <a:lnTo>
                    <a:pt x="120" y="145"/>
                  </a:lnTo>
                  <a:lnTo>
                    <a:pt x="92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3" y="245"/>
                  </a:lnTo>
                  <a:lnTo>
                    <a:pt x="46" y="225"/>
                  </a:lnTo>
                  <a:lnTo>
                    <a:pt x="77" y="204"/>
                  </a:lnTo>
                  <a:lnTo>
                    <a:pt x="105" y="185"/>
                  </a:lnTo>
                  <a:lnTo>
                    <a:pt x="134" y="166"/>
                  </a:lnTo>
                  <a:lnTo>
                    <a:pt x="161" y="146"/>
                  </a:lnTo>
                  <a:lnTo>
                    <a:pt x="189" y="128"/>
                  </a:lnTo>
                  <a:lnTo>
                    <a:pt x="216" y="111"/>
                  </a:lnTo>
                  <a:lnTo>
                    <a:pt x="243" y="95"/>
                  </a:lnTo>
                  <a:lnTo>
                    <a:pt x="272" y="80"/>
                  </a:lnTo>
                  <a:lnTo>
                    <a:pt x="300" y="66"/>
                  </a:lnTo>
                  <a:lnTo>
                    <a:pt x="316" y="60"/>
                  </a:lnTo>
                  <a:lnTo>
                    <a:pt x="331" y="54"/>
                  </a:lnTo>
                  <a:lnTo>
                    <a:pt x="347" y="49"/>
                  </a:lnTo>
                  <a:lnTo>
                    <a:pt x="364" y="45"/>
                  </a:lnTo>
                  <a:lnTo>
                    <a:pt x="381" y="40"/>
                  </a:lnTo>
                  <a:lnTo>
                    <a:pt x="399" y="36"/>
                  </a:lnTo>
                  <a:lnTo>
                    <a:pt x="418" y="32"/>
                  </a:lnTo>
                  <a:lnTo>
                    <a:pt x="437" y="30"/>
                  </a:lnTo>
                  <a:lnTo>
                    <a:pt x="456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1" y="25"/>
                  </a:lnTo>
                  <a:lnTo>
                    <a:pt x="510" y="15"/>
                  </a:lnTo>
                  <a:lnTo>
                    <a:pt x="521" y="25"/>
                  </a:lnTo>
                  <a:lnTo>
                    <a:pt x="527" y="24"/>
                  </a:lnTo>
                  <a:lnTo>
                    <a:pt x="530" y="21"/>
                  </a:lnTo>
                  <a:lnTo>
                    <a:pt x="533" y="17"/>
                  </a:lnTo>
                  <a:lnTo>
                    <a:pt x="534" y="13"/>
                  </a:lnTo>
                  <a:lnTo>
                    <a:pt x="533" y="8"/>
                  </a:lnTo>
                  <a:lnTo>
                    <a:pt x="530" y="5"/>
                  </a:lnTo>
                  <a:lnTo>
                    <a:pt x="527" y="1"/>
                  </a:lnTo>
                  <a:lnTo>
                    <a:pt x="521" y="0"/>
                  </a:lnTo>
                  <a:lnTo>
                    <a:pt x="53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683240" y="333864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3" y="241"/>
                  </a:moveTo>
                  <a:lnTo>
                    <a:pt x="22" y="262"/>
                  </a:lnTo>
                  <a:lnTo>
                    <a:pt x="43" y="242"/>
                  </a:lnTo>
                  <a:lnTo>
                    <a:pt x="62" y="225"/>
                  </a:lnTo>
                  <a:lnTo>
                    <a:pt x="80" y="211"/>
                  </a:lnTo>
                  <a:lnTo>
                    <a:pt x="97" y="199"/>
                  </a:lnTo>
                  <a:lnTo>
                    <a:pt x="112" y="189"/>
                  </a:lnTo>
                  <a:lnTo>
                    <a:pt x="126" y="179"/>
                  </a:lnTo>
                  <a:lnTo>
                    <a:pt x="138" y="169"/>
                  </a:lnTo>
                  <a:lnTo>
                    <a:pt x="149" y="159"/>
                  </a:lnTo>
                  <a:lnTo>
                    <a:pt x="154" y="153"/>
                  </a:lnTo>
                  <a:lnTo>
                    <a:pt x="159" y="148"/>
                  </a:lnTo>
                  <a:lnTo>
                    <a:pt x="162" y="141"/>
                  </a:lnTo>
                  <a:lnTo>
                    <a:pt x="166" y="134"/>
                  </a:lnTo>
                  <a:lnTo>
                    <a:pt x="168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3" y="101"/>
                  </a:lnTo>
                  <a:lnTo>
                    <a:pt x="173" y="81"/>
                  </a:lnTo>
                  <a:lnTo>
                    <a:pt x="170" y="59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6"/>
                  </a:lnTo>
                  <a:lnTo>
                    <a:pt x="142" y="37"/>
                  </a:lnTo>
                  <a:lnTo>
                    <a:pt x="146" y="62"/>
                  </a:lnTo>
                  <a:lnTo>
                    <a:pt x="149" y="83"/>
                  </a:lnTo>
                  <a:lnTo>
                    <a:pt x="149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3" y="125"/>
                  </a:lnTo>
                  <a:lnTo>
                    <a:pt x="141" y="129"/>
                  </a:lnTo>
                  <a:lnTo>
                    <a:pt x="138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8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7" y="207"/>
                  </a:lnTo>
                  <a:lnTo>
                    <a:pt x="27" y="224"/>
                  </a:lnTo>
                  <a:lnTo>
                    <a:pt x="5" y="244"/>
                  </a:lnTo>
                  <a:lnTo>
                    <a:pt x="13" y="265"/>
                  </a:lnTo>
                  <a:lnTo>
                    <a:pt x="5" y="244"/>
                  </a:lnTo>
                  <a:lnTo>
                    <a:pt x="2" y="249"/>
                  </a:lnTo>
                  <a:lnTo>
                    <a:pt x="0" y="254"/>
                  </a:lnTo>
                  <a:lnTo>
                    <a:pt x="2" y="258"/>
                  </a:lnTo>
                  <a:lnTo>
                    <a:pt x="5" y="262"/>
                  </a:lnTo>
                  <a:lnTo>
                    <a:pt x="8" y="265"/>
                  </a:lnTo>
                  <a:lnTo>
                    <a:pt x="13" y="266"/>
                  </a:lnTo>
                  <a:lnTo>
                    <a:pt x="18" y="265"/>
                  </a:lnTo>
                  <a:lnTo>
                    <a:pt x="22" y="262"/>
                  </a:lnTo>
                  <a:lnTo>
                    <a:pt x="13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686480" y="3414960"/>
              <a:ext cx="102960" cy="101520"/>
            </a:xfrm>
            <a:custGeom>
              <a:avLst/>
              <a:gdLst/>
              <a:ahLst/>
              <a:rect l="l" t="t" r="r" b="b"/>
              <a:pathLst>
                <a:path w="323" h="320">
                  <a:moveTo>
                    <a:pt x="310" y="320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199"/>
                  </a:lnTo>
                  <a:lnTo>
                    <a:pt x="315" y="181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5" y="71"/>
                  </a:lnTo>
                  <a:lnTo>
                    <a:pt x="266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6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5" y="2"/>
                  </a:lnTo>
                  <a:lnTo>
                    <a:pt x="46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1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1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6"/>
                  </a:lnTo>
                  <a:lnTo>
                    <a:pt x="299" y="309"/>
                  </a:lnTo>
                  <a:lnTo>
                    <a:pt x="299" y="313"/>
                  </a:lnTo>
                  <a:lnTo>
                    <a:pt x="302" y="318"/>
                  </a:lnTo>
                  <a:lnTo>
                    <a:pt x="305" y="320"/>
                  </a:lnTo>
                  <a:lnTo>
                    <a:pt x="310" y="320"/>
                  </a:lnTo>
                  <a:lnTo>
                    <a:pt x="315" y="320"/>
                  </a:lnTo>
                  <a:lnTo>
                    <a:pt x="319" y="318"/>
                  </a:lnTo>
                  <a:lnTo>
                    <a:pt x="321" y="313"/>
                  </a:lnTo>
                  <a:lnTo>
                    <a:pt x="323" y="309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64184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6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8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2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8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3" y="216"/>
                  </a:lnTo>
                  <a:lnTo>
                    <a:pt x="454" y="216"/>
                  </a:lnTo>
                  <a:lnTo>
                    <a:pt x="454" y="192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4"/>
                  </a:lnTo>
                  <a:lnTo>
                    <a:pt x="363" y="180"/>
                  </a:lnTo>
                  <a:lnTo>
                    <a:pt x="346" y="175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5" y="46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3"/>
                  </a:lnTo>
                  <a:lnTo>
                    <a:pt x="64" y="9"/>
                  </a:lnTo>
                  <a:lnTo>
                    <a:pt x="52" y="5"/>
                  </a:lnTo>
                  <a:lnTo>
                    <a:pt x="39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521240" y="3449880"/>
              <a:ext cx="127080" cy="57240"/>
            </a:xfrm>
            <a:custGeom>
              <a:avLst/>
              <a:gdLst/>
              <a:ahLst/>
              <a:rect l="l" t="t" r="r" b="b"/>
              <a:pathLst>
                <a:path w="404" h="178">
                  <a:moveTo>
                    <a:pt x="0" y="164"/>
                  </a:moveTo>
                  <a:lnTo>
                    <a:pt x="11" y="178"/>
                  </a:lnTo>
                  <a:lnTo>
                    <a:pt x="75" y="178"/>
                  </a:lnTo>
                  <a:lnTo>
                    <a:pt x="135" y="178"/>
                  </a:lnTo>
                  <a:lnTo>
                    <a:pt x="164" y="175"/>
                  </a:lnTo>
                  <a:lnTo>
                    <a:pt x="191" y="173"/>
                  </a:lnTo>
                  <a:lnTo>
                    <a:pt x="219" y="168"/>
                  </a:lnTo>
                  <a:lnTo>
                    <a:pt x="244" y="163"/>
                  </a:lnTo>
                  <a:lnTo>
                    <a:pt x="256" y="159"/>
                  </a:lnTo>
                  <a:lnTo>
                    <a:pt x="269" y="155"/>
                  </a:lnTo>
                  <a:lnTo>
                    <a:pt x="280" y="149"/>
                  </a:lnTo>
                  <a:lnTo>
                    <a:pt x="291" y="143"/>
                  </a:lnTo>
                  <a:lnTo>
                    <a:pt x="303" y="137"/>
                  </a:lnTo>
                  <a:lnTo>
                    <a:pt x="314" y="130"/>
                  </a:lnTo>
                  <a:lnTo>
                    <a:pt x="325" y="122"/>
                  </a:lnTo>
                  <a:lnTo>
                    <a:pt x="335" y="113"/>
                  </a:lnTo>
                  <a:lnTo>
                    <a:pt x="345" y="103"/>
                  </a:lnTo>
                  <a:lnTo>
                    <a:pt x="354" y="92"/>
                  </a:lnTo>
                  <a:lnTo>
                    <a:pt x="363" y="81"/>
                  </a:lnTo>
                  <a:lnTo>
                    <a:pt x="372" y="68"/>
                  </a:lnTo>
                  <a:lnTo>
                    <a:pt x="382" y="56"/>
                  </a:lnTo>
                  <a:lnTo>
                    <a:pt x="389" y="41"/>
                  </a:lnTo>
                  <a:lnTo>
                    <a:pt x="396" y="25"/>
                  </a:lnTo>
                  <a:lnTo>
                    <a:pt x="404" y="9"/>
                  </a:lnTo>
                  <a:lnTo>
                    <a:pt x="382" y="0"/>
                  </a:lnTo>
                  <a:lnTo>
                    <a:pt x="375" y="16"/>
                  </a:lnTo>
                  <a:lnTo>
                    <a:pt x="368" y="29"/>
                  </a:lnTo>
                  <a:lnTo>
                    <a:pt x="360" y="43"/>
                  </a:lnTo>
                  <a:lnTo>
                    <a:pt x="352" y="56"/>
                  </a:lnTo>
                  <a:lnTo>
                    <a:pt x="345" y="67"/>
                  </a:lnTo>
                  <a:lnTo>
                    <a:pt x="336" y="77"/>
                  </a:lnTo>
                  <a:lnTo>
                    <a:pt x="328" y="86"/>
                  </a:lnTo>
                  <a:lnTo>
                    <a:pt x="319" y="95"/>
                  </a:lnTo>
                  <a:lnTo>
                    <a:pt x="310" y="102"/>
                  </a:lnTo>
                  <a:lnTo>
                    <a:pt x="301" y="110"/>
                  </a:lnTo>
                  <a:lnTo>
                    <a:pt x="290" y="116"/>
                  </a:lnTo>
                  <a:lnTo>
                    <a:pt x="280" y="122"/>
                  </a:lnTo>
                  <a:lnTo>
                    <a:pt x="270" y="127"/>
                  </a:lnTo>
                  <a:lnTo>
                    <a:pt x="260" y="132"/>
                  </a:lnTo>
                  <a:lnTo>
                    <a:pt x="248" y="135"/>
                  </a:lnTo>
                  <a:lnTo>
                    <a:pt x="238" y="139"/>
                  </a:lnTo>
                  <a:lnTo>
                    <a:pt x="213" y="144"/>
                  </a:lnTo>
                  <a:lnTo>
                    <a:pt x="189" y="149"/>
                  </a:lnTo>
                  <a:lnTo>
                    <a:pt x="162" y="151"/>
                  </a:lnTo>
                  <a:lnTo>
                    <a:pt x="134" y="152"/>
                  </a:lnTo>
                  <a:lnTo>
                    <a:pt x="75" y="154"/>
                  </a:lnTo>
                  <a:lnTo>
                    <a:pt x="11" y="154"/>
                  </a:lnTo>
                  <a:lnTo>
                    <a:pt x="24" y="166"/>
                  </a:lnTo>
                  <a:lnTo>
                    <a:pt x="11" y="154"/>
                  </a:lnTo>
                  <a:lnTo>
                    <a:pt x="7" y="155"/>
                  </a:lnTo>
                  <a:lnTo>
                    <a:pt x="2" y="157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2" y="174"/>
                  </a:lnTo>
                  <a:lnTo>
                    <a:pt x="7" y="176"/>
                  </a:lnTo>
                  <a:lnTo>
                    <a:pt x="11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52124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8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529160" y="3405600"/>
              <a:ext cx="54000" cy="31680"/>
            </a:xfrm>
            <a:custGeom>
              <a:avLst/>
              <a:gdLst/>
              <a:ahLst/>
              <a:rect l="l" t="t" r="r" b="b"/>
              <a:pathLst>
                <a:path w="172" h="97">
                  <a:moveTo>
                    <a:pt x="160" y="24"/>
                  </a:moveTo>
                  <a:lnTo>
                    <a:pt x="160" y="0"/>
                  </a:lnTo>
                  <a:lnTo>
                    <a:pt x="147" y="1"/>
                  </a:lnTo>
                  <a:lnTo>
                    <a:pt x="136" y="3"/>
                  </a:lnTo>
                  <a:lnTo>
                    <a:pt x="124" y="8"/>
                  </a:lnTo>
                  <a:lnTo>
                    <a:pt x="114" y="12"/>
                  </a:lnTo>
                  <a:lnTo>
                    <a:pt x="96" y="25"/>
                  </a:lnTo>
                  <a:lnTo>
                    <a:pt x="78" y="38"/>
                  </a:lnTo>
                  <a:lnTo>
                    <a:pt x="60" y="51"/>
                  </a:lnTo>
                  <a:lnTo>
                    <a:pt x="41" y="62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3" y="84"/>
                  </a:lnTo>
                  <a:lnTo>
                    <a:pt x="73" y="71"/>
                  </a:lnTo>
                  <a:lnTo>
                    <a:pt x="92" y="58"/>
                  </a:lnTo>
                  <a:lnTo>
                    <a:pt x="109" y="44"/>
                  </a:lnTo>
                  <a:lnTo>
                    <a:pt x="127" y="34"/>
                  </a:lnTo>
                  <a:lnTo>
                    <a:pt x="135" y="29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60" y="24"/>
                  </a:lnTo>
                  <a:lnTo>
                    <a:pt x="160" y="0"/>
                  </a:lnTo>
                  <a:lnTo>
                    <a:pt x="160" y="24"/>
                  </a:lnTo>
                  <a:lnTo>
                    <a:pt x="165" y="22"/>
                  </a:lnTo>
                  <a:lnTo>
                    <a:pt x="169" y="20"/>
                  </a:lnTo>
                  <a:lnTo>
                    <a:pt x="171" y="16"/>
                  </a:lnTo>
                  <a:lnTo>
                    <a:pt x="172" y="11"/>
                  </a:lnTo>
                  <a:lnTo>
                    <a:pt x="171" y="8"/>
                  </a:lnTo>
                  <a:lnTo>
                    <a:pt x="169" y="3"/>
                  </a:lnTo>
                  <a:lnTo>
                    <a:pt x="165" y="1"/>
                  </a:lnTo>
                  <a:lnTo>
                    <a:pt x="160" y="0"/>
                  </a:lnTo>
                  <a:lnTo>
                    <a:pt x="16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62640" y="3405600"/>
              <a:ext cx="17280" cy="792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" y="1"/>
                  </a:moveTo>
                  <a:lnTo>
                    <a:pt x="12" y="24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12" y="0"/>
                  </a:lnTo>
                  <a:lnTo>
                    <a:pt x="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02000" y="3338640"/>
              <a:ext cx="260640" cy="174600"/>
            </a:xfrm>
            <a:custGeom>
              <a:avLst/>
              <a:gdLst/>
              <a:ahLst/>
              <a:rect l="l" t="t" r="r" b="b"/>
              <a:pathLst>
                <a:path w="822" h="546">
                  <a:moveTo>
                    <a:pt x="132" y="221"/>
                  </a:moveTo>
                  <a:lnTo>
                    <a:pt x="165" y="202"/>
                  </a:lnTo>
                  <a:lnTo>
                    <a:pt x="194" y="181"/>
                  </a:lnTo>
                  <a:lnTo>
                    <a:pt x="224" y="162"/>
                  </a:lnTo>
                  <a:lnTo>
                    <a:pt x="252" y="142"/>
                  </a:lnTo>
                  <a:lnTo>
                    <a:pt x="280" y="123"/>
                  </a:lnTo>
                  <a:lnTo>
                    <a:pt x="307" y="105"/>
                  </a:lnTo>
                  <a:lnTo>
                    <a:pt x="336" y="88"/>
                  </a:lnTo>
                  <a:lnTo>
                    <a:pt x="363" y="71"/>
                  </a:lnTo>
                  <a:lnTo>
                    <a:pt x="391" y="56"/>
                  </a:lnTo>
                  <a:lnTo>
                    <a:pt x="422" y="42"/>
                  </a:lnTo>
                  <a:lnTo>
                    <a:pt x="437" y="36"/>
                  </a:lnTo>
                  <a:lnTo>
                    <a:pt x="453" y="30"/>
                  </a:lnTo>
                  <a:lnTo>
                    <a:pt x="470" y="25"/>
                  </a:lnTo>
                  <a:lnTo>
                    <a:pt x="487" y="19"/>
                  </a:lnTo>
                  <a:lnTo>
                    <a:pt x="504" y="15"/>
                  </a:lnTo>
                  <a:lnTo>
                    <a:pt x="522" y="11"/>
                  </a:lnTo>
                  <a:lnTo>
                    <a:pt x="542" y="8"/>
                  </a:lnTo>
                  <a:lnTo>
                    <a:pt x="561" y="4"/>
                  </a:lnTo>
                  <a:lnTo>
                    <a:pt x="582" y="3"/>
                  </a:lnTo>
                  <a:lnTo>
                    <a:pt x="602" y="1"/>
                  </a:lnTo>
                  <a:lnTo>
                    <a:pt x="625" y="0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5"/>
                  </a:lnTo>
                  <a:lnTo>
                    <a:pt x="652" y="131"/>
                  </a:lnTo>
                  <a:lnTo>
                    <a:pt x="649" y="137"/>
                  </a:lnTo>
                  <a:lnTo>
                    <a:pt x="646" y="141"/>
                  </a:lnTo>
                  <a:lnTo>
                    <a:pt x="641" y="147"/>
                  </a:lnTo>
                  <a:lnTo>
                    <a:pt x="632" y="156"/>
                  </a:lnTo>
                  <a:lnTo>
                    <a:pt x="619" y="165"/>
                  </a:lnTo>
                  <a:lnTo>
                    <a:pt x="606" y="174"/>
                  </a:lnTo>
                  <a:lnTo>
                    <a:pt x="591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9" y="250"/>
                  </a:lnTo>
                  <a:lnTo>
                    <a:pt x="599" y="251"/>
                  </a:lnTo>
                  <a:lnTo>
                    <a:pt x="635" y="254"/>
                  </a:lnTo>
                  <a:lnTo>
                    <a:pt x="667" y="259"/>
                  </a:lnTo>
                  <a:lnTo>
                    <a:pt x="682" y="261"/>
                  </a:lnTo>
                  <a:lnTo>
                    <a:pt x="697" y="264"/>
                  </a:lnTo>
                  <a:lnTo>
                    <a:pt x="709" y="269"/>
                  </a:lnTo>
                  <a:lnTo>
                    <a:pt x="722" y="273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7"/>
                  </a:lnTo>
                  <a:lnTo>
                    <a:pt x="770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0" y="335"/>
                  </a:lnTo>
                  <a:lnTo>
                    <a:pt x="796" y="346"/>
                  </a:lnTo>
                  <a:lnTo>
                    <a:pt x="802" y="359"/>
                  </a:lnTo>
                  <a:lnTo>
                    <a:pt x="805" y="373"/>
                  </a:lnTo>
                  <a:lnTo>
                    <a:pt x="810" y="387"/>
                  </a:lnTo>
                  <a:lnTo>
                    <a:pt x="813" y="403"/>
                  </a:lnTo>
                  <a:lnTo>
                    <a:pt x="815" y="419"/>
                  </a:lnTo>
                  <a:lnTo>
                    <a:pt x="818" y="438"/>
                  </a:lnTo>
                  <a:lnTo>
                    <a:pt x="820" y="457"/>
                  </a:lnTo>
                  <a:lnTo>
                    <a:pt x="822" y="498"/>
                  </a:lnTo>
                  <a:lnTo>
                    <a:pt x="822" y="546"/>
                  </a:lnTo>
                  <a:lnTo>
                    <a:pt x="803" y="545"/>
                  </a:lnTo>
                  <a:lnTo>
                    <a:pt x="782" y="544"/>
                  </a:lnTo>
                  <a:lnTo>
                    <a:pt x="764" y="540"/>
                  </a:lnTo>
                  <a:lnTo>
                    <a:pt x="746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8"/>
                  </a:lnTo>
                  <a:lnTo>
                    <a:pt x="650" y="500"/>
                  </a:lnTo>
                  <a:lnTo>
                    <a:pt x="635" y="493"/>
                  </a:lnTo>
                  <a:lnTo>
                    <a:pt x="622" y="484"/>
                  </a:lnTo>
                  <a:lnTo>
                    <a:pt x="594" y="467"/>
                  </a:lnTo>
                  <a:lnTo>
                    <a:pt x="569" y="449"/>
                  </a:lnTo>
                  <a:lnTo>
                    <a:pt x="545" y="432"/>
                  </a:lnTo>
                  <a:lnTo>
                    <a:pt x="521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4" y="377"/>
                  </a:lnTo>
                  <a:lnTo>
                    <a:pt x="453" y="370"/>
                  </a:lnTo>
                  <a:lnTo>
                    <a:pt x="442" y="366"/>
                  </a:lnTo>
                  <a:lnTo>
                    <a:pt x="430" y="361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3"/>
                  </a:lnTo>
                  <a:lnTo>
                    <a:pt x="382" y="353"/>
                  </a:lnTo>
                  <a:lnTo>
                    <a:pt x="375" y="369"/>
                  </a:lnTo>
                  <a:lnTo>
                    <a:pt x="369" y="384"/>
                  </a:lnTo>
                  <a:lnTo>
                    <a:pt x="361" y="398"/>
                  </a:lnTo>
                  <a:lnTo>
                    <a:pt x="353" y="410"/>
                  </a:lnTo>
                  <a:lnTo>
                    <a:pt x="345" y="423"/>
                  </a:lnTo>
                  <a:lnTo>
                    <a:pt x="336" y="434"/>
                  </a:lnTo>
                  <a:lnTo>
                    <a:pt x="326" y="443"/>
                  </a:lnTo>
                  <a:lnTo>
                    <a:pt x="317" y="452"/>
                  </a:lnTo>
                  <a:lnTo>
                    <a:pt x="307" y="462"/>
                  </a:lnTo>
                  <a:lnTo>
                    <a:pt x="297" y="468"/>
                  </a:lnTo>
                  <a:lnTo>
                    <a:pt x="287" y="475"/>
                  </a:lnTo>
                  <a:lnTo>
                    <a:pt x="276" y="482"/>
                  </a:lnTo>
                  <a:lnTo>
                    <a:pt x="265" y="488"/>
                  </a:lnTo>
                  <a:lnTo>
                    <a:pt x="254" y="492"/>
                  </a:lnTo>
                  <a:lnTo>
                    <a:pt x="242" y="496"/>
                  </a:lnTo>
                  <a:lnTo>
                    <a:pt x="231" y="500"/>
                  </a:lnTo>
                  <a:lnTo>
                    <a:pt x="206" y="506"/>
                  </a:lnTo>
                  <a:lnTo>
                    <a:pt x="179" y="509"/>
                  </a:lnTo>
                  <a:lnTo>
                    <a:pt x="152" y="513"/>
                  </a:lnTo>
                  <a:lnTo>
                    <a:pt x="124" y="514"/>
                  </a:lnTo>
                  <a:lnTo>
                    <a:pt x="64" y="515"/>
                  </a:lnTo>
                  <a:lnTo>
                    <a:pt x="0" y="514"/>
                  </a:lnTo>
                  <a:lnTo>
                    <a:pt x="15" y="294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7"/>
                  </a:lnTo>
                  <a:lnTo>
                    <a:pt x="63" y="283"/>
                  </a:lnTo>
                  <a:lnTo>
                    <a:pt x="84" y="271"/>
                  </a:lnTo>
                  <a:lnTo>
                    <a:pt x="102" y="258"/>
                  </a:lnTo>
                  <a:lnTo>
                    <a:pt x="120" y="245"/>
                  </a:lnTo>
                  <a:lnTo>
                    <a:pt x="137" y="232"/>
                  </a:lnTo>
                  <a:lnTo>
                    <a:pt x="146" y="228"/>
                  </a:lnTo>
                  <a:lnTo>
                    <a:pt x="157" y="224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2" y="221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341960" y="3335760"/>
              <a:ext cx="169560" cy="77760"/>
            </a:xfrm>
            <a:custGeom>
              <a:avLst/>
              <a:gdLst/>
              <a:ahLst/>
              <a:rect l="l" t="t" r="r" b="b"/>
              <a:pathLst>
                <a:path w="533" h="245">
                  <a:moveTo>
                    <a:pt x="533" y="9"/>
                  </a:moveTo>
                  <a:lnTo>
                    <a:pt x="522" y="0"/>
                  </a:lnTo>
                  <a:lnTo>
                    <a:pt x="498" y="1"/>
                  </a:lnTo>
                  <a:lnTo>
                    <a:pt x="476" y="3"/>
                  </a:lnTo>
                  <a:lnTo>
                    <a:pt x="455" y="4"/>
                  </a:lnTo>
                  <a:lnTo>
                    <a:pt x="434" y="6"/>
                  </a:lnTo>
                  <a:lnTo>
                    <a:pt x="414" y="9"/>
                  </a:lnTo>
                  <a:lnTo>
                    <a:pt x="394" y="13"/>
                  </a:lnTo>
                  <a:lnTo>
                    <a:pt x="376" y="16"/>
                  </a:lnTo>
                  <a:lnTo>
                    <a:pt x="358" y="21"/>
                  </a:lnTo>
                  <a:lnTo>
                    <a:pt x="341" y="27"/>
                  </a:lnTo>
                  <a:lnTo>
                    <a:pt x="324" y="31"/>
                  </a:lnTo>
                  <a:lnTo>
                    <a:pt x="308" y="38"/>
                  </a:lnTo>
                  <a:lnTo>
                    <a:pt x="290" y="44"/>
                  </a:lnTo>
                  <a:lnTo>
                    <a:pt x="261" y="58"/>
                  </a:lnTo>
                  <a:lnTo>
                    <a:pt x="231" y="73"/>
                  </a:lnTo>
                  <a:lnTo>
                    <a:pt x="203" y="90"/>
                  </a:lnTo>
                  <a:lnTo>
                    <a:pt x="175" y="107"/>
                  </a:lnTo>
                  <a:lnTo>
                    <a:pt x="147" y="126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5"/>
                  </a:lnTo>
                  <a:lnTo>
                    <a:pt x="32" y="204"/>
                  </a:lnTo>
                  <a:lnTo>
                    <a:pt x="0" y="224"/>
                  </a:lnTo>
                  <a:lnTo>
                    <a:pt x="11" y="245"/>
                  </a:lnTo>
                  <a:lnTo>
                    <a:pt x="44" y="225"/>
                  </a:lnTo>
                  <a:lnTo>
                    <a:pt x="75" y="204"/>
                  </a:lnTo>
                  <a:lnTo>
                    <a:pt x="105" y="185"/>
                  </a:lnTo>
                  <a:lnTo>
                    <a:pt x="133" y="166"/>
                  </a:lnTo>
                  <a:lnTo>
                    <a:pt x="161" y="146"/>
                  </a:lnTo>
                  <a:lnTo>
                    <a:pt x="188" y="128"/>
                  </a:lnTo>
                  <a:lnTo>
                    <a:pt x="215" y="111"/>
                  </a:lnTo>
                  <a:lnTo>
                    <a:pt x="243" y="95"/>
                  </a:lnTo>
                  <a:lnTo>
                    <a:pt x="271" y="80"/>
                  </a:lnTo>
                  <a:lnTo>
                    <a:pt x="301" y="66"/>
                  </a:lnTo>
                  <a:lnTo>
                    <a:pt x="316" y="60"/>
                  </a:lnTo>
                  <a:lnTo>
                    <a:pt x="332" y="54"/>
                  </a:lnTo>
                  <a:lnTo>
                    <a:pt x="347" y="49"/>
                  </a:lnTo>
                  <a:lnTo>
                    <a:pt x="365" y="45"/>
                  </a:lnTo>
                  <a:lnTo>
                    <a:pt x="382" y="40"/>
                  </a:lnTo>
                  <a:lnTo>
                    <a:pt x="399" y="36"/>
                  </a:lnTo>
                  <a:lnTo>
                    <a:pt x="417" y="32"/>
                  </a:lnTo>
                  <a:lnTo>
                    <a:pt x="436" y="30"/>
                  </a:lnTo>
                  <a:lnTo>
                    <a:pt x="457" y="28"/>
                  </a:lnTo>
                  <a:lnTo>
                    <a:pt x="477" y="27"/>
                  </a:lnTo>
                  <a:lnTo>
                    <a:pt x="499" y="25"/>
                  </a:lnTo>
                  <a:lnTo>
                    <a:pt x="522" y="25"/>
                  </a:lnTo>
                  <a:lnTo>
                    <a:pt x="510" y="15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1"/>
                  </a:lnTo>
                  <a:lnTo>
                    <a:pt x="533" y="17"/>
                  </a:lnTo>
                  <a:lnTo>
                    <a:pt x="533" y="13"/>
                  </a:lnTo>
                  <a:lnTo>
                    <a:pt x="533" y="8"/>
                  </a:lnTo>
                  <a:lnTo>
                    <a:pt x="531" y="5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60760" y="3338640"/>
              <a:ext cx="55800" cy="84240"/>
            </a:xfrm>
            <a:custGeom>
              <a:avLst/>
              <a:gdLst/>
              <a:ahLst/>
              <a:rect l="l" t="t" r="r" b="b"/>
              <a:pathLst>
                <a:path w="172" h="266">
                  <a:moveTo>
                    <a:pt x="12" y="241"/>
                  </a:moveTo>
                  <a:lnTo>
                    <a:pt x="20" y="262"/>
                  </a:lnTo>
                  <a:lnTo>
                    <a:pt x="42" y="242"/>
                  </a:lnTo>
                  <a:lnTo>
                    <a:pt x="61" y="225"/>
                  </a:lnTo>
                  <a:lnTo>
                    <a:pt x="80" y="211"/>
                  </a:lnTo>
                  <a:lnTo>
                    <a:pt x="96" y="199"/>
                  </a:lnTo>
                  <a:lnTo>
                    <a:pt x="112" y="189"/>
                  </a:lnTo>
                  <a:lnTo>
                    <a:pt x="125" y="179"/>
                  </a:lnTo>
                  <a:lnTo>
                    <a:pt x="138" y="169"/>
                  </a:lnTo>
                  <a:lnTo>
                    <a:pt x="148" y="159"/>
                  </a:lnTo>
                  <a:lnTo>
                    <a:pt x="153" y="153"/>
                  </a:lnTo>
                  <a:lnTo>
                    <a:pt x="157" y="148"/>
                  </a:lnTo>
                  <a:lnTo>
                    <a:pt x="162" y="141"/>
                  </a:lnTo>
                  <a:lnTo>
                    <a:pt x="165" y="134"/>
                  </a:lnTo>
                  <a:lnTo>
                    <a:pt x="167" y="127"/>
                  </a:lnTo>
                  <a:lnTo>
                    <a:pt x="170" y="119"/>
                  </a:lnTo>
                  <a:lnTo>
                    <a:pt x="171" y="110"/>
                  </a:lnTo>
                  <a:lnTo>
                    <a:pt x="172" y="101"/>
                  </a:lnTo>
                  <a:lnTo>
                    <a:pt x="172" y="81"/>
                  </a:lnTo>
                  <a:lnTo>
                    <a:pt x="169" y="59"/>
                  </a:lnTo>
                  <a:lnTo>
                    <a:pt x="164" y="32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7"/>
                  </a:lnTo>
                  <a:lnTo>
                    <a:pt x="145" y="62"/>
                  </a:lnTo>
                  <a:lnTo>
                    <a:pt x="147" y="83"/>
                  </a:lnTo>
                  <a:lnTo>
                    <a:pt x="148" y="101"/>
                  </a:lnTo>
                  <a:lnTo>
                    <a:pt x="147" y="108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5"/>
                  </a:lnTo>
                  <a:lnTo>
                    <a:pt x="140" y="129"/>
                  </a:lnTo>
                  <a:lnTo>
                    <a:pt x="138" y="134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2" y="151"/>
                  </a:lnTo>
                  <a:lnTo>
                    <a:pt x="111" y="159"/>
                  </a:lnTo>
                  <a:lnTo>
                    <a:pt x="97" y="169"/>
                  </a:lnTo>
                  <a:lnTo>
                    <a:pt x="82" y="179"/>
                  </a:lnTo>
                  <a:lnTo>
                    <a:pt x="65" y="192"/>
                  </a:lnTo>
                  <a:lnTo>
                    <a:pt x="46" y="207"/>
                  </a:lnTo>
                  <a:lnTo>
                    <a:pt x="26" y="224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8" y="265"/>
                  </a:lnTo>
                  <a:lnTo>
                    <a:pt x="11" y="266"/>
                  </a:lnTo>
                  <a:lnTo>
                    <a:pt x="16" y="265"/>
                  </a:lnTo>
                  <a:lnTo>
                    <a:pt x="20" y="262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65800" y="3414960"/>
              <a:ext cx="101520" cy="101520"/>
            </a:xfrm>
            <a:custGeom>
              <a:avLst/>
              <a:gdLst/>
              <a:ahLst/>
              <a:rect l="l" t="t" r="r" b="b"/>
              <a:pathLst>
                <a:path w="321" h="320">
                  <a:moveTo>
                    <a:pt x="308" y="320"/>
                  </a:moveTo>
                  <a:lnTo>
                    <a:pt x="321" y="309"/>
                  </a:lnTo>
                  <a:lnTo>
                    <a:pt x="320" y="261"/>
                  </a:lnTo>
                  <a:lnTo>
                    <a:pt x="317" y="219"/>
                  </a:lnTo>
                  <a:lnTo>
                    <a:pt x="316" y="199"/>
                  </a:lnTo>
                  <a:lnTo>
                    <a:pt x="314" y="181"/>
                  </a:lnTo>
                  <a:lnTo>
                    <a:pt x="310" y="164"/>
                  </a:lnTo>
                  <a:lnTo>
                    <a:pt x="307" y="147"/>
                  </a:lnTo>
                  <a:lnTo>
                    <a:pt x="304" y="132"/>
                  </a:lnTo>
                  <a:lnTo>
                    <a:pt x="299" y="119"/>
                  </a:lnTo>
                  <a:lnTo>
                    <a:pt x="293" y="105"/>
                  </a:lnTo>
                  <a:lnTo>
                    <a:pt x="288" y="92"/>
                  </a:lnTo>
                  <a:lnTo>
                    <a:pt x="281" y="81"/>
                  </a:lnTo>
                  <a:lnTo>
                    <a:pt x="273" y="71"/>
                  </a:lnTo>
                  <a:lnTo>
                    <a:pt x="265" y="60"/>
                  </a:lnTo>
                  <a:lnTo>
                    <a:pt x="256" y="52"/>
                  </a:lnTo>
                  <a:lnTo>
                    <a:pt x="247" y="44"/>
                  </a:lnTo>
                  <a:lnTo>
                    <a:pt x="235" y="36"/>
                  </a:lnTo>
                  <a:lnTo>
                    <a:pt x="224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5" y="16"/>
                  </a:lnTo>
                  <a:lnTo>
                    <a:pt x="171" y="13"/>
                  </a:lnTo>
                  <a:lnTo>
                    <a:pt x="155" y="9"/>
                  </a:lnTo>
                  <a:lnTo>
                    <a:pt x="122" y="5"/>
                  </a:lnTo>
                  <a:lnTo>
                    <a:pt x="86" y="2"/>
                  </a:lnTo>
                  <a:lnTo>
                    <a:pt x="45" y="1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5"/>
                  </a:lnTo>
                  <a:lnTo>
                    <a:pt x="85" y="26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6"/>
                  </a:lnTo>
                  <a:lnTo>
                    <a:pt x="179" y="39"/>
                  </a:lnTo>
                  <a:lnTo>
                    <a:pt x="192" y="43"/>
                  </a:lnTo>
                  <a:lnTo>
                    <a:pt x="203" y="47"/>
                  </a:lnTo>
                  <a:lnTo>
                    <a:pt x="214" y="52"/>
                  </a:lnTo>
                  <a:lnTo>
                    <a:pt x="223" y="57"/>
                  </a:lnTo>
                  <a:lnTo>
                    <a:pt x="232" y="64"/>
                  </a:lnTo>
                  <a:lnTo>
                    <a:pt x="240" y="70"/>
                  </a:lnTo>
                  <a:lnTo>
                    <a:pt x="248" y="78"/>
                  </a:lnTo>
                  <a:lnTo>
                    <a:pt x="255" y="85"/>
                  </a:lnTo>
                  <a:lnTo>
                    <a:pt x="260" y="95"/>
                  </a:lnTo>
                  <a:lnTo>
                    <a:pt x="266" y="104"/>
                  </a:lnTo>
                  <a:lnTo>
                    <a:pt x="272" y="115"/>
                  </a:lnTo>
                  <a:lnTo>
                    <a:pt x="276" y="127"/>
                  </a:lnTo>
                  <a:lnTo>
                    <a:pt x="280" y="139"/>
                  </a:lnTo>
                  <a:lnTo>
                    <a:pt x="283" y="153"/>
                  </a:lnTo>
                  <a:lnTo>
                    <a:pt x="287" y="169"/>
                  </a:lnTo>
                  <a:lnTo>
                    <a:pt x="290" y="185"/>
                  </a:lnTo>
                  <a:lnTo>
                    <a:pt x="292" y="202"/>
                  </a:lnTo>
                  <a:lnTo>
                    <a:pt x="293" y="220"/>
                  </a:lnTo>
                  <a:lnTo>
                    <a:pt x="296" y="262"/>
                  </a:lnTo>
                  <a:lnTo>
                    <a:pt x="297" y="309"/>
                  </a:lnTo>
                  <a:lnTo>
                    <a:pt x="308" y="296"/>
                  </a:lnTo>
                  <a:lnTo>
                    <a:pt x="297" y="309"/>
                  </a:lnTo>
                  <a:lnTo>
                    <a:pt x="298" y="313"/>
                  </a:lnTo>
                  <a:lnTo>
                    <a:pt x="300" y="318"/>
                  </a:lnTo>
                  <a:lnTo>
                    <a:pt x="304" y="320"/>
                  </a:lnTo>
                  <a:lnTo>
                    <a:pt x="308" y="320"/>
                  </a:lnTo>
                  <a:lnTo>
                    <a:pt x="313" y="320"/>
                  </a:lnTo>
                  <a:lnTo>
                    <a:pt x="317" y="318"/>
                  </a:lnTo>
                  <a:lnTo>
                    <a:pt x="320" y="313"/>
                  </a:lnTo>
                  <a:lnTo>
                    <a:pt x="321" y="309"/>
                  </a:lnTo>
                  <a:lnTo>
                    <a:pt x="308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419720" y="3448440"/>
              <a:ext cx="142920" cy="68040"/>
            </a:xfrm>
            <a:custGeom>
              <a:avLst/>
              <a:gdLst/>
              <a:ahLst/>
              <a:rect l="l" t="t" r="r" b="b"/>
              <a:pathLst>
                <a:path w="451" h="216">
                  <a:moveTo>
                    <a:pt x="23" y="17"/>
                  </a:moveTo>
                  <a:lnTo>
                    <a:pt x="11" y="25"/>
                  </a:lnTo>
                  <a:lnTo>
                    <a:pt x="23" y="25"/>
                  </a:lnTo>
                  <a:lnTo>
                    <a:pt x="34" y="26"/>
                  </a:lnTo>
                  <a:lnTo>
                    <a:pt x="44" y="28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1"/>
                  </a:lnTo>
                  <a:lnTo>
                    <a:pt x="88" y="46"/>
                  </a:lnTo>
                  <a:lnTo>
                    <a:pt x="99" y="52"/>
                  </a:lnTo>
                  <a:lnTo>
                    <a:pt x="121" y="67"/>
                  </a:lnTo>
                  <a:lnTo>
                    <a:pt x="143" y="83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7"/>
                  </a:lnTo>
                  <a:lnTo>
                    <a:pt x="244" y="154"/>
                  </a:lnTo>
                  <a:lnTo>
                    <a:pt x="259" y="163"/>
                  </a:lnTo>
                  <a:lnTo>
                    <a:pt x="273" y="171"/>
                  </a:lnTo>
                  <a:lnTo>
                    <a:pt x="288" y="179"/>
                  </a:lnTo>
                  <a:lnTo>
                    <a:pt x="304" y="186"/>
                  </a:lnTo>
                  <a:lnTo>
                    <a:pt x="320" y="192"/>
                  </a:lnTo>
                  <a:lnTo>
                    <a:pt x="337" y="198"/>
                  </a:lnTo>
                  <a:lnTo>
                    <a:pt x="354" y="204"/>
                  </a:lnTo>
                  <a:lnTo>
                    <a:pt x="373" y="208"/>
                  </a:lnTo>
                  <a:lnTo>
                    <a:pt x="391" y="212"/>
                  </a:lnTo>
                  <a:lnTo>
                    <a:pt x="410" y="214"/>
                  </a:lnTo>
                  <a:lnTo>
                    <a:pt x="431" y="216"/>
                  </a:lnTo>
                  <a:lnTo>
                    <a:pt x="451" y="216"/>
                  </a:lnTo>
                  <a:lnTo>
                    <a:pt x="451" y="192"/>
                  </a:lnTo>
                  <a:lnTo>
                    <a:pt x="432" y="192"/>
                  </a:lnTo>
                  <a:lnTo>
                    <a:pt x="414" y="190"/>
                  </a:lnTo>
                  <a:lnTo>
                    <a:pt x="395" y="188"/>
                  </a:lnTo>
                  <a:lnTo>
                    <a:pt x="377" y="184"/>
                  </a:lnTo>
                  <a:lnTo>
                    <a:pt x="361" y="180"/>
                  </a:lnTo>
                  <a:lnTo>
                    <a:pt x="344" y="175"/>
                  </a:lnTo>
                  <a:lnTo>
                    <a:pt x="328" y="170"/>
                  </a:lnTo>
                  <a:lnTo>
                    <a:pt x="313" y="163"/>
                  </a:lnTo>
                  <a:lnTo>
                    <a:pt x="298" y="157"/>
                  </a:lnTo>
                  <a:lnTo>
                    <a:pt x="285" y="149"/>
                  </a:lnTo>
                  <a:lnTo>
                    <a:pt x="270" y="141"/>
                  </a:lnTo>
                  <a:lnTo>
                    <a:pt x="257" y="133"/>
                  </a:lnTo>
                  <a:lnTo>
                    <a:pt x="230" y="116"/>
                  </a:lnTo>
                  <a:lnTo>
                    <a:pt x="205" y="99"/>
                  </a:lnTo>
                  <a:lnTo>
                    <a:pt x="181" y="81"/>
                  </a:lnTo>
                  <a:lnTo>
                    <a:pt x="158" y="64"/>
                  </a:lnTo>
                  <a:lnTo>
                    <a:pt x="134" y="46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8" y="2"/>
                  </a:lnTo>
                  <a:lnTo>
                    <a:pt x="25" y="1"/>
                  </a:lnTo>
                  <a:lnTo>
                    <a:pt x="11" y="0"/>
                  </a:lnTo>
                  <a:lnTo>
                    <a:pt x="1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7" y="24"/>
                  </a:lnTo>
                  <a:lnTo>
                    <a:pt x="11" y="25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99120" y="3449880"/>
              <a:ext cx="128520" cy="57240"/>
            </a:xfrm>
            <a:custGeom>
              <a:avLst/>
              <a:gdLst/>
              <a:ahLst/>
              <a:rect l="l" t="t" r="r" b="b"/>
              <a:pathLst>
                <a:path w="406" h="178">
                  <a:moveTo>
                    <a:pt x="0" y="164"/>
                  </a:moveTo>
                  <a:lnTo>
                    <a:pt x="12" y="178"/>
                  </a:lnTo>
                  <a:lnTo>
                    <a:pt x="76" y="178"/>
                  </a:lnTo>
                  <a:lnTo>
                    <a:pt x="137" y="178"/>
                  </a:lnTo>
                  <a:lnTo>
                    <a:pt x="165" y="175"/>
                  </a:lnTo>
                  <a:lnTo>
                    <a:pt x="193" y="173"/>
                  </a:lnTo>
                  <a:lnTo>
                    <a:pt x="220" y="168"/>
                  </a:lnTo>
                  <a:lnTo>
                    <a:pt x="245" y="163"/>
                  </a:lnTo>
                  <a:lnTo>
                    <a:pt x="258" y="159"/>
                  </a:lnTo>
                  <a:lnTo>
                    <a:pt x="270" y="155"/>
                  </a:lnTo>
                  <a:lnTo>
                    <a:pt x="283" y="149"/>
                  </a:lnTo>
                  <a:lnTo>
                    <a:pt x="294" y="143"/>
                  </a:lnTo>
                  <a:lnTo>
                    <a:pt x="305" y="137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3"/>
                  </a:lnTo>
                  <a:lnTo>
                    <a:pt x="348" y="103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5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29"/>
                  </a:lnTo>
                  <a:lnTo>
                    <a:pt x="362" y="43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7"/>
                  </a:lnTo>
                  <a:lnTo>
                    <a:pt x="329" y="86"/>
                  </a:lnTo>
                  <a:lnTo>
                    <a:pt x="321" y="95"/>
                  </a:lnTo>
                  <a:lnTo>
                    <a:pt x="312" y="102"/>
                  </a:lnTo>
                  <a:lnTo>
                    <a:pt x="302" y="110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2" y="127"/>
                  </a:lnTo>
                  <a:lnTo>
                    <a:pt x="261" y="132"/>
                  </a:lnTo>
                  <a:lnTo>
                    <a:pt x="251" y="135"/>
                  </a:lnTo>
                  <a:lnTo>
                    <a:pt x="239" y="139"/>
                  </a:lnTo>
                  <a:lnTo>
                    <a:pt x="215" y="144"/>
                  </a:lnTo>
                  <a:lnTo>
                    <a:pt x="190" y="149"/>
                  </a:lnTo>
                  <a:lnTo>
                    <a:pt x="164" y="151"/>
                  </a:lnTo>
                  <a:lnTo>
                    <a:pt x="136" y="152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6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3" y="174"/>
                  </a:lnTo>
                  <a:lnTo>
                    <a:pt x="7" y="176"/>
                  </a:lnTo>
                  <a:lnTo>
                    <a:pt x="12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299120" y="34293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7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4" y="232"/>
                  </a:lnTo>
                  <a:lnTo>
                    <a:pt x="40" y="12"/>
                  </a:lnTo>
                  <a:lnTo>
                    <a:pt x="27" y="0"/>
                  </a:lnTo>
                  <a:lnTo>
                    <a:pt x="40" y="12"/>
                  </a:lnTo>
                  <a:lnTo>
                    <a:pt x="39" y="6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307040" y="3405600"/>
              <a:ext cx="55440" cy="3168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3"/>
                  </a:lnTo>
                  <a:lnTo>
                    <a:pt x="127" y="8"/>
                  </a:lnTo>
                  <a:lnTo>
                    <a:pt x="117" y="12"/>
                  </a:lnTo>
                  <a:lnTo>
                    <a:pt x="98" y="25"/>
                  </a:lnTo>
                  <a:lnTo>
                    <a:pt x="80" y="38"/>
                  </a:lnTo>
                  <a:lnTo>
                    <a:pt x="62" y="51"/>
                  </a:lnTo>
                  <a:lnTo>
                    <a:pt x="42" y="62"/>
                  </a:lnTo>
                  <a:lnTo>
                    <a:pt x="33" y="66"/>
                  </a:lnTo>
                  <a:lnTo>
                    <a:pt x="23" y="69"/>
                  </a:lnTo>
                  <a:lnTo>
                    <a:pt x="12" y="71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5"/>
                  </a:lnTo>
                  <a:lnTo>
                    <a:pt x="29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6" y="71"/>
                  </a:lnTo>
                  <a:lnTo>
                    <a:pt x="94" y="58"/>
                  </a:lnTo>
                  <a:lnTo>
                    <a:pt x="112" y="44"/>
                  </a:lnTo>
                  <a:lnTo>
                    <a:pt x="129" y="34"/>
                  </a:lnTo>
                  <a:lnTo>
                    <a:pt x="137" y="29"/>
                  </a:lnTo>
                  <a:lnTo>
                    <a:pt x="145" y="26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2"/>
                  </a:lnTo>
                  <a:lnTo>
                    <a:pt x="171" y="20"/>
                  </a:lnTo>
                  <a:lnTo>
                    <a:pt x="174" y="16"/>
                  </a:lnTo>
                  <a:lnTo>
                    <a:pt x="174" y="11"/>
                  </a:lnTo>
                  <a:lnTo>
                    <a:pt x="174" y="8"/>
                  </a:lnTo>
                  <a:lnTo>
                    <a:pt x="171" y="3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340160" y="3405600"/>
              <a:ext cx="1764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1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835440" y="3324600"/>
              <a:ext cx="260280" cy="17280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1" y="221"/>
                  </a:moveTo>
                  <a:lnTo>
                    <a:pt x="164" y="202"/>
                  </a:lnTo>
                  <a:lnTo>
                    <a:pt x="195" y="181"/>
                  </a:lnTo>
                  <a:lnTo>
                    <a:pt x="225" y="162"/>
                  </a:lnTo>
                  <a:lnTo>
                    <a:pt x="252" y="143"/>
                  </a:lnTo>
                  <a:lnTo>
                    <a:pt x="280" y="123"/>
                  </a:lnTo>
                  <a:lnTo>
                    <a:pt x="308" y="105"/>
                  </a:lnTo>
                  <a:lnTo>
                    <a:pt x="335" y="88"/>
                  </a:lnTo>
                  <a:lnTo>
                    <a:pt x="362" y="71"/>
                  </a:lnTo>
                  <a:lnTo>
                    <a:pt x="392" y="56"/>
                  </a:lnTo>
                  <a:lnTo>
                    <a:pt x="422" y="42"/>
                  </a:lnTo>
                  <a:lnTo>
                    <a:pt x="438" y="37"/>
                  </a:lnTo>
                  <a:lnTo>
                    <a:pt x="454" y="30"/>
                  </a:lnTo>
                  <a:lnTo>
                    <a:pt x="470" y="25"/>
                  </a:lnTo>
                  <a:lnTo>
                    <a:pt x="487" y="20"/>
                  </a:lnTo>
                  <a:lnTo>
                    <a:pt x="505" y="15"/>
                  </a:lnTo>
                  <a:lnTo>
                    <a:pt x="523" y="12"/>
                  </a:lnTo>
                  <a:lnTo>
                    <a:pt x="541" y="8"/>
                  </a:lnTo>
                  <a:lnTo>
                    <a:pt x="561" y="5"/>
                  </a:lnTo>
                  <a:lnTo>
                    <a:pt x="581" y="4"/>
                  </a:lnTo>
                  <a:lnTo>
                    <a:pt x="603" y="1"/>
                  </a:lnTo>
                  <a:lnTo>
                    <a:pt x="625" y="0"/>
                  </a:lnTo>
                  <a:lnTo>
                    <a:pt x="647" y="0"/>
                  </a:lnTo>
                  <a:lnTo>
                    <a:pt x="654" y="31"/>
                  </a:lnTo>
                  <a:lnTo>
                    <a:pt x="659" y="57"/>
                  </a:lnTo>
                  <a:lnTo>
                    <a:pt x="661" y="79"/>
                  </a:lnTo>
                  <a:lnTo>
                    <a:pt x="662" y="97"/>
                  </a:lnTo>
                  <a:lnTo>
                    <a:pt x="661" y="105"/>
                  </a:lnTo>
                  <a:lnTo>
                    <a:pt x="660" y="113"/>
                  </a:lnTo>
                  <a:lnTo>
                    <a:pt x="658" y="120"/>
                  </a:lnTo>
                  <a:lnTo>
                    <a:pt x="655" y="126"/>
                  </a:lnTo>
                  <a:lnTo>
                    <a:pt x="653" y="131"/>
                  </a:lnTo>
                  <a:lnTo>
                    <a:pt x="650" y="137"/>
                  </a:lnTo>
                  <a:lnTo>
                    <a:pt x="645" y="141"/>
                  </a:lnTo>
                  <a:lnTo>
                    <a:pt x="642" y="147"/>
                  </a:lnTo>
                  <a:lnTo>
                    <a:pt x="631" y="156"/>
                  </a:lnTo>
                  <a:lnTo>
                    <a:pt x="620" y="165"/>
                  </a:lnTo>
                  <a:lnTo>
                    <a:pt x="606" y="175"/>
                  </a:lnTo>
                  <a:lnTo>
                    <a:pt x="590" y="186"/>
                  </a:lnTo>
                  <a:lnTo>
                    <a:pt x="574" y="197"/>
                  </a:lnTo>
                  <a:lnTo>
                    <a:pt x="556" y="212"/>
                  </a:lnTo>
                  <a:lnTo>
                    <a:pt x="536" y="229"/>
                  </a:lnTo>
                  <a:lnTo>
                    <a:pt x="514" y="250"/>
                  </a:lnTo>
                  <a:lnTo>
                    <a:pt x="558" y="250"/>
                  </a:lnTo>
                  <a:lnTo>
                    <a:pt x="600" y="251"/>
                  </a:lnTo>
                  <a:lnTo>
                    <a:pt x="636" y="254"/>
                  </a:lnTo>
                  <a:lnTo>
                    <a:pt x="668" y="259"/>
                  </a:lnTo>
                  <a:lnTo>
                    <a:pt x="683" y="261"/>
                  </a:lnTo>
                  <a:lnTo>
                    <a:pt x="696" y="265"/>
                  </a:lnTo>
                  <a:lnTo>
                    <a:pt x="710" y="269"/>
                  </a:lnTo>
                  <a:lnTo>
                    <a:pt x="721" y="274"/>
                  </a:lnTo>
                  <a:lnTo>
                    <a:pt x="733" y="278"/>
                  </a:lnTo>
                  <a:lnTo>
                    <a:pt x="744" y="284"/>
                  </a:lnTo>
                  <a:lnTo>
                    <a:pt x="753" y="291"/>
                  </a:lnTo>
                  <a:lnTo>
                    <a:pt x="762" y="298"/>
                  </a:lnTo>
                  <a:lnTo>
                    <a:pt x="772" y="307"/>
                  </a:lnTo>
                  <a:lnTo>
                    <a:pt x="778" y="315"/>
                  </a:lnTo>
                  <a:lnTo>
                    <a:pt x="785" y="325"/>
                  </a:lnTo>
                  <a:lnTo>
                    <a:pt x="792" y="335"/>
                  </a:lnTo>
                  <a:lnTo>
                    <a:pt x="798" y="347"/>
                  </a:lnTo>
                  <a:lnTo>
                    <a:pt x="802" y="359"/>
                  </a:lnTo>
                  <a:lnTo>
                    <a:pt x="807" y="373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0"/>
                  </a:lnTo>
                  <a:lnTo>
                    <a:pt x="819" y="438"/>
                  </a:lnTo>
                  <a:lnTo>
                    <a:pt x="822" y="457"/>
                  </a:lnTo>
                  <a:lnTo>
                    <a:pt x="824" y="498"/>
                  </a:lnTo>
                  <a:lnTo>
                    <a:pt x="824" y="546"/>
                  </a:lnTo>
                  <a:lnTo>
                    <a:pt x="804" y="545"/>
                  </a:lnTo>
                  <a:lnTo>
                    <a:pt x="784" y="544"/>
                  </a:lnTo>
                  <a:lnTo>
                    <a:pt x="765" y="540"/>
                  </a:lnTo>
                  <a:lnTo>
                    <a:pt x="747" y="537"/>
                  </a:lnTo>
                  <a:lnTo>
                    <a:pt x="729" y="533"/>
                  </a:lnTo>
                  <a:lnTo>
                    <a:pt x="712" y="528"/>
                  </a:lnTo>
                  <a:lnTo>
                    <a:pt x="696" y="522"/>
                  </a:lnTo>
                  <a:lnTo>
                    <a:pt x="680" y="515"/>
                  </a:lnTo>
                  <a:lnTo>
                    <a:pt x="664" y="509"/>
                  </a:lnTo>
                  <a:lnTo>
                    <a:pt x="650" y="501"/>
                  </a:lnTo>
                  <a:lnTo>
                    <a:pt x="636" y="493"/>
                  </a:lnTo>
                  <a:lnTo>
                    <a:pt x="622" y="485"/>
                  </a:lnTo>
                  <a:lnTo>
                    <a:pt x="595" y="468"/>
                  </a:lnTo>
                  <a:lnTo>
                    <a:pt x="570" y="449"/>
                  </a:lnTo>
                  <a:lnTo>
                    <a:pt x="545" y="431"/>
                  </a:lnTo>
                  <a:lnTo>
                    <a:pt x="522" y="414"/>
                  </a:lnTo>
                  <a:lnTo>
                    <a:pt x="499" y="398"/>
                  </a:lnTo>
                  <a:lnTo>
                    <a:pt x="476" y="383"/>
                  </a:lnTo>
                  <a:lnTo>
                    <a:pt x="465" y="377"/>
                  </a:lnTo>
                  <a:lnTo>
                    <a:pt x="454" y="371"/>
                  </a:lnTo>
                  <a:lnTo>
                    <a:pt x="442" y="366"/>
                  </a:lnTo>
                  <a:lnTo>
                    <a:pt x="431" y="362"/>
                  </a:lnTo>
                  <a:lnTo>
                    <a:pt x="418" y="358"/>
                  </a:lnTo>
                  <a:lnTo>
                    <a:pt x="407" y="356"/>
                  </a:lnTo>
                  <a:lnTo>
                    <a:pt x="394" y="354"/>
                  </a:lnTo>
                  <a:lnTo>
                    <a:pt x="383" y="354"/>
                  </a:lnTo>
                  <a:lnTo>
                    <a:pt x="376" y="369"/>
                  </a:lnTo>
                  <a:lnTo>
                    <a:pt x="368" y="384"/>
                  </a:lnTo>
                  <a:lnTo>
                    <a:pt x="360" y="398"/>
                  </a:lnTo>
                  <a:lnTo>
                    <a:pt x="352" y="411"/>
                  </a:lnTo>
                  <a:lnTo>
                    <a:pt x="344" y="423"/>
                  </a:lnTo>
                  <a:lnTo>
                    <a:pt x="335" y="433"/>
                  </a:lnTo>
                  <a:lnTo>
                    <a:pt x="326" y="444"/>
                  </a:lnTo>
                  <a:lnTo>
                    <a:pt x="317" y="453"/>
                  </a:lnTo>
                  <a:lnTo>
                    <a:pt x="308" y="462"/>
                  </a:lnTo>
                  <a:lnTo>
                    <a:pt x="297" y="469"/>
                  </a:lnTo>
                  <a:lnTo>
                    <a:pt x="287" y="476"/>
                  </a:lnTo>
                  <a:lnTo>
                    <a:pt x="276" y="482"/>
                  </a:lnTo>
                  <a:lnTo>
                    <a:pt x="266" y="488"/>
                  </a:lnTo>
                  <a:lnTo>
                    <a:pt x="254" y="493"/>
                  </a:lnTo>
                  <a:lnTo>
                    <a:pt x="243" y="496"/>
                  </a:lnTo>
                  <a:lnTo>
                    <a:pt x="230" y="501"/>
                  </a:lnTo>
                  <a:lnTo>
                    <a:pt x="205" y="506"/>
                  </a:lnTo>
                  <a:lnTo>
                    <a:pt x="179" y="510"/>
                  </a:lnTo>
                  <a:lnTo>
                    <a:pt x="153" y="513"/>
                  </a:lnTo>
                  <a:lnTo>
                    <a:pt x="124" y="514"/>
                  </a:lnTo>
                  <a:lnTo>
                    <a:pt x="64" y="514"/>
                  </a:lnTo>
                  <a:lnTo>
                    <a:pt x="0" y="514"/>
                  </a:lnTo>
                  <a:lnTo>
                    <a:pt x="16" y="294"/>
                  </a:lnTo>
                  <a:lnTo>
                    <a:pt x="29" y="294"/>
                  </a:lnTo>
                  <a:lnTo>
                    <a:pt x="41" y="291"/>
                  </a:lnTo>
                  <a:lnTo>
                    <a:pt x="52" y="287"/>
                  </a:lnTo>
                  <a:lnTo>
                    <a:pt x="64" y="283"/>
                  </a:lnTo>
                  <a:lnTo>
                    <a:pt x="83" y="271"/>
                  </a:lnTo>
                  <a:lnTo>
                    <a:pt x="101" y="258"/>
                  </a:lnTo>
                  <a:lnTo>
                    <a:pt x="120" y="245"/>
                  </a:lnTo>
                  <a:lnTo>
                    <a:pt x="138" y="233"/>
                  </a:lnTo>
                  <a:lnTo>
                    <a:pt x="147" y="228"/>
                  </a:lnTo>
                  <a:lnTo>
                    <a:pt x="156" y="225"/>
                  </a:lnTo>
                  <a:lnTo>
                    <a:pt x="166" y="222"/>
                  </a:lnTo>
                  <a:lnTo>
                    <a:pt x="177" y="221"/>
                  </a:lnTo>
                  <a:lnTo>
                    <a:pt x="131" y="221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875040" y="3321360"/>
              <a:ext cx="169920" cy="77760"/>
            </a:xfrm>
            <a:custGeom>
              <a:avLst/>
              <a:gdLst/>
              <a:ahLst/>
              <a:rect l="l" t="t" r="r" b="b"/>
              <a:pathLst>
                <a:path w="535" h="245">
                  <a:moveTo>
                    <a:pt x="535" y="9"/>
                  </a:moveTo>
                  <a:lnTo>
                    <a:pt x="522" y="0"/>
                  </a:lnTo>
                  <a:lnTo>
                    <a:pt x="500" y="1"/>
                  </a:lnTo>
                  <a:lnTo>
                    <a:pt x="477" y="1"/>
                  </a:lnTo>
                  <a:lnTo>
                    <a:pt x="455" y="3"/>
                  </a:lnTo>
                  <a:lnTo>
                    <a:pt x="435" y="5"/>
                  </a:lnTo>
                  <a:lnTo>
                    <a:pt x="415" y="8"/>
                  </a:lnTo>
                  <a:lnTo>
                    <a:pt x="396" y="11"/>
                  </a:lnTo>
                  <a:lnTo>
                    <a:pt x="376" y="16"/>
                  </a:lnTo>
                  <a:lnTo>
                    <a:pt x="358" y="20"/>
                  </a:lnTo>
                  <a:lnTo>
                    <a:pt x="341" y="25"/>
                  </a:lnTo>
                  <a:lnTo>
                    <a:pt x="324" y="30"/>
                  </a:lnTo>
                  <a:lnTo>
                    <a:pt x="308" y="37"/>
                  </a:lnTo>
                  <a:lnTo>
                    <a:pt x="292" y="43"/>
                  </a:lnTo>
                  <a:lnTo>
                    <a:pt x="261" y="58"/>
                  </a:lnTo>
                  <a:lnTo>
                    <a:pt x="232" y="73"/>
                  </a:lnTo>
                  <a:lnTo>
                    <a:pt x="203" y="90"/>
                  </a:lnTo>
                  <a:lnTo>
                    <a:pt x="176" y="107"/>
                  </a:lnTo>
                  <a:lnTo>
                    <a:pt x="149" y="125"/>
                  </a:lnTo>
                  <a:lnTo>
                    <a:pt x="120" y="144"/>
                  </a:lnTo>
                  <a:lnTo>
                    <a:pt x="93" y="164"/>
                  </a:lnTo>
                  <a:lnTo>
                    <a:pt x="63" y="184"/>
                  </a:lnTo>
                  <a:lnTo>
                    <a:pt x="32" y="204"/>
                  </a:lnTo>
                  <a:lnTo>
                    <a:pt x="0" y="223"/>
                  </a:lnTo>
                  <a:lnTo>
                    <a:pt x="13" y="245"/>
                  </a:lnTo>
                  <a:lnTo>
                    <a:pt x="46" y="224"/>
                  </a:lnTo>
                  <a:lnTo>
                    <a:pt x="77" y="204"/>
                  </a:lnTo>
                  <a:lnTo>
                    <a:pt x="106" y="184"/>
                  </a:lnTo>
                  <a:lnTo>
                    <a:pt x="134" y="165"/>
                  </a:lnTo>
                  <a:lnTo>
                    <a:pt x="162" y="146"/>
                  </a:lnTo>
                  <a:lnTo>
                    <a:pt x="190" y="127"/>
                  </a:lnTo>
                  <a:lnTo>
                    <a:pt x="216" y="110"/>
                  </a:lnTo>
                  <a:lnTo>
                    <a:pt x="244" y="94"/>
                  </a:lnTo>
                  <a:lnTo>
                    <a:pt x="272" y="79"/>
                  </a:lnTo>
                  <a:lnTo>
                    <a:pt x="301" y="66"/>
                  </a:lnTo>
                  <a:lnTo>
                    <a:pt x="317" y="59"/>
                  </a:lnTo>
                  <a:lnTo>
                    <a:pt x="332" y="53"/>
                  </a:lnTo>
                  <a:lnTo>
                    <a:pt x="348" y="49"/>
                  </a:lnTo>
                  <a:lnTo>
                    <a:pt x="365" y="44"/>
                  </a:lnTo>
                  <a:lnTo>
                    <a:pt x="382" y="39"/>
                  </a:lnTo>
                  <a:lnTo>
                    <a:pt x="400" y="35"/>
                  </a:lnTo>
                  <a:lnTo>
                    <a:pt x="419" y="32"/>
                  </a:lnTo>
                  <a:lnTo>
                    <a:pt x="438" y="29"/>
                  </a:lnTo>
                  <a:lnTo>
                    <a:pt x="457" y="27"/>
                  </a:lnTo>
                  <a:lnTo>
                    <a:pt x="478" y="26"/>
                  </a:lnTo>
                  <a:lnTo>
                    <a:pt x="500" y="25"/>
                  </a:lnTo>
                  <a:lnTo>
                    <a:pt x="522" y="25"/>
                  </a:lnTo>
                  <a:lnTo>
                    <a:pt x="511" y="14"/>
                  </a:lnTo>
                  <a:lnTo>
                    <a:pt x="522" y="25"/>
                  </a:lnTo>
                  <a:lnTo>
                    <a:pt x="528" y="24"/>
                  </a:lnTo>
                  <a:lnTo>
                    <a:pt x="531" y="20"/>
                  </a:lnTo>
                  <a:lnTo>
                    <a:pt x="534" y="17"/>
                  </a:lnTo>
                  <a:lnTo>
                    <a:pt x="535" y="12"/>
                  </a:lnTo>
                  <a:lnTo>
                    <a:pt x="534" y="8"/>
                  </a:lnTo>
                  <a:lnTo>
                    <a:pt x="531" y="4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5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994200" y="3322800"/>
              <a:ext cx="54000" cy="84240"/>
            </a:xfrm>
            <a:custGeom>
              <a:avLst/>
              <a:gdLst/>
              <a:ahLst/>
              <a:rect l="l" t="t" r="r" b="b"/>
              <a:pathLst>
                <a:path w="173" h="265">
                  <a:moveTo>
                    <a:pt x="13" y="240"/>
                  </a:moveTo>
                  <a:lnTo>
                    <a:pt x="22" y="261"/>
                  </a:lnTo>
                  <a:lnTo>
                    <a:pt x="43" y="241"/>
                  </a:lnTo>
                  <a:lnTo>
                    <a:pt x="62" y="224"/>
                  </a:lnTo>
                  <a:lnTo>
                    <a:pt x="80" y="211"/>
                  </a:lnTo>
                  <a:lnTo>
                    <a:pt x="97" y="198"/>
                  </a:lnTo>
                  <a:lnTo>
                    <a:pt x="112" y="188"/>
                  </a:lnTo>
                  <a:lnTo>
                    <a:pt x="126" y="178"/>
                  </a:lnTo>
                  <a:lnTo>
                    <a:pt x="138" y="168"/>
                  </a:lnTo>
                  <a:lnTo>
                    <a:pt x="149" y="158"/>
                  </a:lnTo>
                  <a:lnTo>
                    <a:pt x="154" y="152"/>
                  </a:lnTo>
                  <a:lnTo>
                    <a:pt x="159" y="147"/>
                  </a:lnTo>
                  <a:lnTo>
                    <a:pt x="162" y="140"/>
                  </a:lnTo>
                  <a:lnTo>
                    <a:pt x="166" y="133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1" y="109"/>
                  </a:lnTo>
                  <a:lnTo>
                    <a:pt x="173" y="100"/>
                  </a:lnTo>
                  <a:lnTo>
                    <a:pt x="173" y="81"/>
                  </a:lnTo>
                  <a:lnTo>
                    <a:pt x="170" y="58"/>
                  </a:lnTo>
                  <a:lnTo>
                    <a:pt x="166" y="32"/>
                  </a:lnTo>
                  <a:lnTo>
                    <a:pt x="159" y="0"/>
                  </a:lnTo>
                  <a:lnTo>
                    <a:pt x="135" y="5"/>
                  </a:lnTo>
                  <a:lnTo>
                    <a:pt x="142" y="36"/>
                  </a:lnTo>
                  <a:lnTo>
                    <a:pt x="146" y="61"/>
                  </a:lnTo>
                  <a:lnTo>
                    <a:pt x="149" y="82"/>
                  </a:lnTo>
                  <a:lnTo>
                    <a:pt x="149" y="100"/>
                  </a:lnTo>
                  <a:lnTo>
                    <a:pt x="148" y="107"/>
                  </a:lnTo>
                  <a:lnTo>
                    <a:pt x="146" y="113"/>
                  </a:lnTo>
                  <a:lnTo>
                    <a:pt x="145" y="118"/>
                  </a:lnTo>
                  <a:lnTo>
                    <a:pt x="143" y="124"/>
                  </a:lnTo>
                  <a:lnTo>
                    <a:pt x="141" y="129"/>
                  </a:lnTo>
                  <a:lnTo>
                    <a:pt x="138" y="133"/>
                  </a:lnTo>
                  <a:lnTo>
                    <a:pt x="135" y="138"/>
                  </a:lnTo>
                  <a:lnTo>
                    <a:pt x="132" y="141"/>
                  </a:lnTo>
                  <a:lnTo>
                    <a:pt x="122" y="150"/>
                  </a:lnTo>
                  <a:lnTo>
                    <a:pt x="111" y="158"/>
                  </a:lnTo>
                  <a:lnTo>
                    <a:pt x="99" y="168"/>
                  </a:lnTo>
                  <a:lnTo>
                    <a:pt x="83" y="179"/>
                  </a:lnTo>
                  <a:lnTo>
                    <a:pt x="65" y="191"/>
                  </a:lnTo>
                  <a:lnTo>
                    <a:pt x="47" y="206"/>
                  </a:lnTo>
                  <a:lnTo>
                    <a:pt x="27" y="223"/>
                  </a:lnTo>
                  <a:lnTo>
                    <a:pt x="5" y="244"/>
                  </a:lnTo>
                  <a:lnTo>
                    <a:pt x="13" y="264"/>
                  </a:lnTo>
                  <a:lnTo>
                    <a:pt x="5" y="244"/>
                  </a:lnTo>
                  <a:lnTo>
                    <a:pt x="2" y="248"/>
                  </a:lnTo>
                  <a:lnTo>
                    <a:pt x="0" y="253"/>
                  </a:lnTo>
                  <a:lnTo>
                    <a:pt x="2" y="257"/>
                  </a:lnTo>
                  <a:lnTo>
                    <a:pt x="5" y="261"/>
                  </a:lnTo>
                  <a:lnTo>
                    <a:pt x="8" y="264"/>
                  </a:lnTo>
                  <a:lnTo>
                    <a:pt x="13" y="265"/>
                  </a:lnTo>
                  <a:lnTo>
                    <a:pt x="18" y="264"/>
                  </a:lnTo>
                  <a:lnTo>
                    <a:pt x="22" y="261"/>
                  </a:lnTo>
                  <a:lnTo>
                    <a:pt x="13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997440" y="3399120"/>
              <a:ext cx="102960" cy="103320"/>
            </a:xfrm>
            <a:custGeom>
              <a:avLst/>
              <a:gdLst/>
              <a:ahLst/>
              <a:rect l="l" t="t" r="r" b="b"/>
              <a:pathLst>
                <a:path w="323" h="321">
                  <a:moveTo>
                    <a:pt x="310" y="321"/>
                  </a:moveTo>
                  <a:lnTo>
                    <a:pt x="323" y="309"/>
                  </a:lnTo>
                  <a:lnTo>
                    <a:pt x="321" y="261"/>
                  </a:lnTo>
                  <a:lnTo>
                    <a:pt x="319" y="219"/>
                  </a:lnTo>
                  <a:lnTo>
                    <a:pt x="317" y="200"/>
                  </a:lnTo>
                  <a:lnTo>
                    <a:pt x="315" y="182"/>
                  </a:lnTo>
                  <a:lnTo>
                    <a:pt x="312" y="164"/>
                  </a:lnTo>
                  <a:lnTo>
                    <a:pt x="309" y="147"/>
                  </a:lnTo>
                  <a:lnTo>
                    <a:pt x="304" y="132"/>
                  </a:lnTo>
                  <a:lnTo>
                    <a:pt x="300" y="119"/>
                  </a:lnTo>
                  <a:lnTo>
                    <a:pt x="295" y="105"/>
                  </a:lnTo>
                  <a:lnTo>
                    <a:pt x="288" y="93"/>
                  </a:lnTo>
                  <a:lnTo>
                    <a:pt x="282" y="81"/>
                  </a:lnTo>
                  <a:lnTo>
                    <a:pt x="275" y="71"/>
                  </a:lnTo>
                  <a:lnTo>
                    <a:pt x="266" y="61"/>
                  </a:lnTo>
                  <a:lnTo>
                    <a:pt x="256" y="53"/>
                  </a:lnTo>
                  <a:lnTo>
                    <a:pt x="247" y="45"/>
                  </a:lnTo>
                  <a:lnTo>
                    <a:pt x="236" y="37"/>
                  </a:lnTo>
                  <a:lnTo>
                    <a:pt x="225" y="31"/>
                  </a:lnTo>
                  <a:lnTo>
                    <a:pt x="212" y="25"/>
                  </a:lnTo>
                  <a:lnTo>
                    <a:pt x="199" y="21"/>
                  </a:lnTo>
                  <a:lnTo>
                    <a:pt x="186" y="16"/>
                  </a:lnTo>
                  <a:lnTo>
                    <a:pt x="171" y="13"/>
                  </a:lnTo>
                  <a:lnTo>
                    <a:pt x="156" y="9"/>
                  </a:lnTo>
                  <a:lnTo>
                    <a:pt x="123" y="5"/>
                  </a:lnTo>
                  <a:lnTo>
                    <a:pt x="86" y="3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4" y="25"/>
                  </a:lnTo>
                  <a:lnTo>
                    <a:pt x="84" y="26"/>
                  </a:lnTo>
                  <a:lnTo>
                    <a:pt x="121" y="29"/>
                  </a:lnTo>
                  <a:lnTo>
                    <a:pt x="152" y="33"/>
                  </a:lnTo>
                  <a:lnTo>
                    <a:pt x="166" y="37"/>
                  </a:lnTo>
                  <a:lnTo>
                    <a:pt x="179" y="39"/>
                  </a:lnTo>
                  <a:lnTo>
                    <a:pt x="191" y="44"/>
                  </a:lnTo>
                  <a:lnTo>
                    <a:pt x="203" y="47"/>
                  </a:lnTo>
                  <a:lnTo>
                    <a:pt x="214" y="53"/>
                  </a:lnTo>
                  <a:lnTo>
                    <a:pt x="223" y="57"/>
                  </a:lnTo>
                  <a:lnTo>
                    <a:pt x="233" y="64"/>
                  </a:lnTo>
                  <a:lnTo>
                    <a:pt x="241" y="70"/>
                  </a:lnTo>
                  <a:lnTo>
                    <a:pt x="248" y="78"/>
                  </a:lnTo>
                  <a:lnTo>
                    <a:pt x="255" y="86"/>
                  </a:lnTo>
                  <a:lnTo>
                    <a:pt x="261" y="95"/>
                  </a:lnTo>
                  <a:lnTo>
                    <a:pt x="268" y="104"/>
                  </a:lnTo>
                  <a:lnTo>
                    <a:pt x="272" y="115"/>
                  </a:lnTo>
                  <a:lnTo>
                    <a:pt x="277" y="127"/>
                  </a:lnTo>
                  <a:lnTo>
                    <a:pt x="282" y="139"/>
                  </a:lnTo>
                  <a:lnTo>
                    <a:pt x="285" y="153"/>
                  </a:lnTo>
                  <a:lnTo>
                    <a:pt x="288" y="169"/>
                  </a:lnTo>
                  <a:lnTo>
                    <a:pt x="291" y="185"/>
                  </a:lnTo>
                  <a:lnTo>
                    <a:pt x="293" y="202"/>
                  </a:lnTo>
                  <a:lnTo>
                    <a:pt x="295" y="220"/>
                  </a:lnTo>
                  <a:lnTo>
                    <a:pt x="297" y="262"/>
                  </a:lnTo>
                  <a:lnTo>
                    <a:pt x="299" y="309"/>
                  </a:lnTo>
                  <a:lnTo>
                    <a:pt x="310" y="297"/>
                  </a:lnTo>
                  <a:lnTo>
                    <a:pt x="299" y="309"/>
                  </a:lnTo>
                  <a:lnTo>
                    <a:pt x="300" y="314"/>
                  </a:lnTo>
                  <a:lnTo>
                    <a:pt x="302" y="318"/>
                  </a:lnTo>
                  <a:lnTo>
                    <a:pt x="305" y="321"/>
                  </a:lnTo>
                  <a:lnTo>
                    <a:pt x="310" y="321"/>
                  </a:lnTo>
                  <a:lnTo>
                    <a:pt x="315" y="321"/>
                  </a:lnTo>
                  <a:lnTo>
                    <a:pt x="319" y="318"/>
                  </a:lnTo>
                  <a:lnTo>
                    <a:pt x="321" y="314"/>
                  </a:lnTo>
                  <a:lnTo>
                    <a:pt x="323" y="309"/>
                  </a:lnTo>
                  <a:lnTo>
                    <a:pt x="310" y="3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952800" y="3432600"/>
              <a:ext cx="142920" cy="6984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24" y="17"/>
                  </a:moveTo>
                  <a:lnTo>
                    <a:pt x="13" y="25"/>
                  </a:lnTo>
                  <a:lnTo>
                    <a:pt x="24" y="25"/>
                  </a:lnTo>
                  <a:lnTo>
                    <a:pt x="35" y="26"/>
                  </a:lnTo>
                  <a:lnTo>
                    <a:pt x="46" y="28"/>
                  </a:lnTo>
                  <a:lnTo>
                    <a:pt x="56" y="32"/>
                  </a:lnTo>
                  <a:lnTo>
                    <a:pt x="68" y="36"/>
                  </a:lnTo>
                  <a:lnTo>
                    <a:pt x="78" y="41"/>
                  </a:lnTo>
                  <a:lnTo>
                    <a:pt x="89" y="47"/>
                  </a:lnTo>
                  <a:lnTo>
                    <a:pt x="100" y="52"/>
                  </a:lnTo>
                  <a:lnTo>
                    <a:pt x="122" y="67"/>
                  </a:lnTo>
                  <a:lnTo>
                    <a:pt x="145" y="83"/>
                  </a:lnTo>
                  <a:lnTo>
                    <a:pt x="168" y="100"/>
                  </a:lnTo>
                  <a:lnTo>
                    <a:pt x="193" y="119"/>
                  </a:lnTo>
                  <a:lnTo>
                    <a:pt x="218" y="137"/>
                  </a:lnTo>
                  <a:lnTo>
                    <a:pt x="245" y="154"/>
                  </a:lnTo>
                  <a:lnTo>
                    <a:pt x="260" y="163"/>
                  </a:lnTo>
                  <a:lnTo>
                    <a:pt x="274" y="171"/>
                  </a:lnTo>
                  <a:lnTo>
                    <a:pt x="290" y="179"/>
                  </a:lnTo>
                  <a:lnTo>
                    <a:pt x="306" y="186"/>
                  </a:lnTo>
                  <a:lnTo>
                    <a:pt x="322" y="193"/>
                  </a:lnTo>
                  <a:lnTo>
                    <a:pt x="339" y="198"/>
                  </a:lnTo>
                  <a:lnTo>
                    <a:pt x="356" y="204"/>
                  </a:lnTo>
                  <a:lnTo>
                    <a:pt x="374" y="209"/>
                  </a:lnTo>
                  <a:lnTo>
                    <a:pt x="394" y="212"/>
                  </a:lnTo>
                  <a:lnTo>
                    <a:pt x="413" y="214"/>
                  </a:lnTo>
                  <a:lnTo>
                    <a:pt x="434" y="217"/>
                  </a:lnTo>
                  <a:lnTo>
                    <a:pt x="454" y="217"/>
                  </a:lnTo>
                  <a:lnTo>
                    <a:pt x="454" y="193"/>
                  </a:lnTo>
                  <a:lnTo>
                    <a:pt x="435" y="192"/>
                  </a:lnTo>
                  <a:lnTo>
                    <a:pt x="415" y="190"/>
                  </a:lnTo>
                  <a:lnTo>
                    <a:pt x="397" y="188"/>
                  </a:lnTo>
                  <a:lnTo>
                    <a:pt x="380" y="185"/>
                  </a:lnTo>
                  <a:lnTo>
                    <a:pt x="363" y="180"/>
                  </a:lnTo>
                  <a:lnTo>
                    <a:pt x="346" y="176"/>
                  </a:lnTo>
                  <a:lnTo>
                    <a:pt x="331" y="170"/>
                  </a:lnTo>
                  <a:lnTo>
                    <a:pt x="315" y="163"/>
                  </a:lnTo>
                  <a:lnTo>
                    <a:pt x="300" y="156"/>
                  </a:lnTo>
                  <a:lnTo>
                    <a:pt x="285" y="149"/>
                  </a:lnTo>
                  <a:lnTo>
                    <a:pt x="272" y="141"/>
                  </a:lnTo>
                  <a:lnTo>
                    <a:pt x="258" y="133"/>
                  </a:lnTo>
                  <a:lnTo>
                    <a:pt x="232" y="116"/>
                  </a:lnTo>
                  <a:lnTo>
                    <a:pt x="207" y="99"/>
                  </a:lnTo>
                  <a:lnTo>
                    <a:pt x="183" y="81"/>
                  </a:lnTo>
                  <a:lnTo>
                    <a:pt x="159" y="64"/>
                  </a:lnTo>
                  <a:lnTo>
                    <a:pt x="136" y="47"/>
                  </a:lnTo>
                  <a:lnTo>
                    <a:pt x="112" y="32"/>
                  </a:lnTo>
                  <a:lnTo>
                    <a:pt x="101" y="25"/>
                  </a:lnTo>
                  <a:lnTo>
                    <a:pt x="88" y="19"/>
                  </a:lnTo>
                  <a:lnTo>
                    <a:pt x="77" y="14"/>
                  </a:lnTo>
                  <a:lnTo>
                    <a:pt x="64" y="9"/>
                  </a:lnTo>
                  <a:lnTo>
                    <a:pt x="52" y="6"/>
                  </a:lnTo>
                  <a:lnTo>
                    <a:pt x="39" y="2"/>
                  </a:lnTo>
                  <a:lnTo>
                    <a:pt x="26" y="1"/>
                  </a:lnTo>
                  <a:lnTo>
                    <a:pt x="13" y="0"/>
                  </a:lnTo>
                  <a:lnTo>
                    <a:pt x="2" y="8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830760" y="3435480"/>
              <a:ext cx="128520" cy="55800"/>
            </a:xfrm>
            <a:custGeom>
              <a:avLst/>
              <a:gdLst/>
              <a:ahLst/>
              <a:rect l="l" t="t" r="r" b="b"/>
              <a:pathLst>
                <a:path w="407" h="178">
                  <a:moveTo>
                    <a:pt x="0" y="164"/>
                  </a:moveTo>
                  <a:lnTo>
                    <a:pt x="13" y="178"/>
                  </a:lnTo>
                  <a:lnTo>
                    <a:pt x="77" y="178"/>
                  </a:lnTo>
                  <a:lnTo>
                    <a:pt x="137" y="178"/>
                  </a:lnTo>
                  <a:lnTo>
                    <a:pt x="166" y="176"/>
                  </a:lnTo>
                  <a:lnTo>
                    <a:pt x="194" y="173"/>
                  </a:lnTo>
                  <a:lnTo>
                    <a:pt x="220" y="169"/>
                  </a:lnTo>
                  <a:lnTo>
                    <a:pt x="247" y="163"/>
                  </a:lnTo>
                  <a:lnTo>
                    <a:pt x="259" y="160"/>
                  </a:lnTo>
                  <a:lnTo>
                    <a:pt x="272" y="155"/>
                  </a:lnTo>
                  <a:lnTo>
                    <a:pt x="283" y="149"/>
                  </a:lnTo>
                  <a:lnTo>
                    <a:pt x="295" y="144"/>
                  </a:lnTo>
                  <a:lnTo>
                    <a:pt x="306" y="137"/>
                  </a:lnTo>
                  <a:lnTo>
                    <a:pt x="317" y="130"/>
                  </a:lnTo>
                  <a:lnTo>
                    <a:pt x="328" y="122"/>
                  </a:lnTo>
                  <a:lnTo>
                    <a:pt x="338" y="113"/>
                  </a:lnTo>
                  <a:lnTo>
                    <a:pt x="348" y="104"/>
                  </a:lnTo>
                  <a:lnTo>
                    <a:pt x="357" y="92"/>
                  </a:lnTo>
                  <a:lnTo>
                    <a:pt x="366" y="81"/>
                  </a:lnTo>
                  <a:lnTo>
                    <a:pt x="375" y="68"/>
                  </a:lnTo>
                  <a:lnTo>
                    <a:pt x="385" y="56"/>
                  </a:lnTo>
                  <a:lnTo>
                    <a:pt x="393" y="41"/>
                  </a:lnTo>
                  <a:lnTo>
                    <a:pt x="399" y="25"/>
                  </a:lnTo>
                  <a:lnTo>
                    <a:pt x="407" y="9"/>
                  </a:lnTo>
                  <a:lnTo>
                    <a:pt x="385" y="0"/>
                  </a:lnTo>
                  <a:lnTo>
                    <a:pt x="378" y="15"/>
                  </a:lnTo>
                  <a:lnTo>
                    <a:pt x="371" y="30"/>
                  </a:lnTo>
                  <a:lnTo>
                    <a:pt x="363" y="43"/>
                  </a:lnTo>
                  <a:lnTo>
                    <a:pt x="356" y="56"/>
                  </a:lnTo>
                  <a:lnTo>
                    <a:pt x="348" y="67"/>
                  </a:lnTo>
                  <a:lnTo>
                    <a:pt x="339" y="77"/>
                  </a:lnTo>
                  <a:lnTo>
                    <a:pt x="331" y="87"/>
                  </a:lnTo>
                  <a:lnTo>
                    <a:pt x="322" y="96"/>
                  </a:lnTo>
                  <a:lnTo>
                    <a:pt x="313" y="103"/>
                  </a:lnTo>
                  <a:lnTo>
                    <a:pt x="304" y="111"/>
                  </a:lnTo>
                  <a:lnTo>
                    <a:pt x="293" y="116"/>
                  </a:lnTo>
                  <a:lnTo>
                    <a:pt x="283" y="122"/>
                  </a:lnTo>
                  <a:lnTo>
                    <a:pt x="273" y="128"/>
                  </a:lnTo>
                  <a:lnTo>
                    <a:pt x="263" y="132"/>
                  </a:lnTo>
                  <a:lnTo>
                    <a:pt x="251" y="136"/>
                  </a:lnTo>
                  <a:lnTo>
                    <a:pt x="240" y="139"/>
                  </a:lnTo>
                  <a:lnTo>
                    <a:pt x="216" y="145"/>
                  </a:lnTo>
                  <a:lnTo>
                    <a:pt x="191" y="149"/>
                  </a:lnTo>
                  <a:lnTo>
                    <a:pt x="165" y="152"/>
                  </a:lnTo>
                  <a:lnTo>
                    <a:pt x="137" y="153"/>
                  </a:lnTo>
                  <a:lnTo>
                    <a:pt x="77" y="154"/>
                  </a:lnTo>
                  <a:lnTo>
                    <a:pt x="13" y="154"/>
                  </a:lnTo>
                  <a:lnTo>
                    <a:pt x="26" y="166"/>
                  </a:lnTo>
                  <a:lnTo>
                    <a:pt x="13" y="154"/>
                  </a:lnTo>
                  <a:lnTo>
                    <a:pt x="7" y="154"/>
                  </a:lnTo>
                  <a:lnTo>
                    <a:pt x="4" y="157"/>
                  </a:lnTo>
                  <a:lnTo>
                    <a:pt x="2" y="161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3" y="178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830760" y="3414960"/>
              <a:ext cx="12600" cy="73080"/>
            </a:xfrm>
            <a:custGeom>
              <a:avLst/>
              <a:gdLst/>
              <a:ahLst/>
              <a:rect l="l" t="t" r="r" b="b"/>
              <a:pathLst>
                <a:path w="40" h="232">
                  <a:moveTo>
                    <a:pt x="29" y="0"/>
                  </a:moveTo>
                  <a:lnTo>
                    <a:pt x="16" y="10"/>
                  </a:lnTo>
                  <a:lnTo>
                    <a:pt x="0" y="230"/>
                  </a:lnTo>
                  <a:lnTo>
                    <a:pt x="26" y="232"/>
                  </a:lnTo>
                  <a:lnTo>
                    <a:pt x="40" y="12"/>
                  </a:lnTo>
                  <a:lnTo>
                    <a:pt x="29" y="0"/>
                  </a:lnTo>
                  <a:lnTo>
                    <a:pt x="40" y="12"/>
                  </a:lnTo>
                  <a:lnTo>
                    <a:pt x="40" y="7"/>
                  </a:lnTo>
                  <a:lnTo>
                    <a:pt x="37" y="3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8" y="6"/>
                  </a:lnTo>
                  <a:lnTo>
                    <a:pt x="16" y="1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840120" y="3391200"/>
              <a:ext cx="54000" cy="3024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161" y="24"/>
                  </a:moveTo>
                  <a:lnTo>
                    <a:pt x="161" y="0"/>
                  </a:lnTo>
                  <a:lnTo>
                    <a:pt x="148" y="1"/>
                  </a:lnTo>
                  <a:lnTo>
                    <a:pt x="137" y="3"/>
                  </a:lnTo>
                  <a:lnTo>
                    <a:pt x="125" y="8"/>
                  </a:lnTo>
                  <a:lnTo>
                    <a:pt x="115" y="12"/>
                  </a:lnTo>
                  <a:lnTo>
                    <a:pt x="97" y="25"/>
                  </a:lnTo>
                  <a:lnTo>
                    <a:pt x="79" y="39"/>
                  </a:lnTo>
                  <a:lnTo>
                    <a:pt x="60" y="51"/>
                  </a:lnTo>
                  <a:lnTo>
                    <a:pt x="42" y="63"/>
                  </a:lnTo>
                  <a:lnTo>
                    <a:pt x="32" y="66"/>
                  </a:lnTo>
                  <a:lnTo>
                    <a:pt x="22" y="69"/>
                  </a:lnTo>
                  <a:lnTo>
                    <a:pt x="11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4" y="96"/>
                  </a:lnTo>
                  <a:lnTo>
                    <a:pt x="27" y="93"/>
                  </a:lnTo>
                  <a:lnTo>
                    <a:pt x="41" y="89"/>
                  </a:lnTo>
                  <a:lnTo>
                    <a:pt x="54" y="84"/>
                  </a:lnTo>
                  <a:lnTo>
                    <a:pt x="74" y="72"/>
                  </a:lnTo>
                  <a:lnTo>
                    <a:pt x="93" y="58"/>
                  </a:lnTo>
                  <a:lnTo>
                    <a:pt x="111" y="44"/>
                  </a:lnTo>
                  <a:lnTo>
                    <a:pt x="128" y="33"/>
                  </a:lnTo>
                  <a:lnTo>
                    <a:pt x="136" y="30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4"/>
                  </a:lnTo>
                  <a:lnTo>
                    <a:pt x="161" y="0"/>
                  </a:lnTo>
                  <a:lnTo>
                    <a:pt x="161" y="24"/>
                  </a:lnTo>
                  <a:lnTo>
                    <a:pt x="166" y="23"/>
                  </a:lnTo>
                  <a:lnTo>
                    <a:pt x="170" y="20"/>
                  </a:lnTo>
                  <a:lnTo>
                    <a:pt x="172" y="16"/>
                  </a:lnTo>
                  <a:lnTo>
                    <a:pt x="173" y="11"/>
                  </a:lnTo>
                  <a:lnTo>
                    <a:pt x="172" y="8"/>
                  </a:lnTo>
                  <a:lnTo>
                    <a:pt x="170" y="3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6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873600" y="3391200"/>
              <a:ext cx="17280" cy="792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5" y="1"/>
                  </a:moveTo>
                  <a:lnTo>
                    <a:pt x="11" y="24"/>
                  </a:lnTo>
                  <a:lnTo>
                    <a:pt x="57" y="24"/>
                  </a:lnTo>
                  <a:lnTo>
                    <a:pt x="57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359160" y="3294360"/>
              <a:ext cx="262080" cy="173160"/>
            </a:xfrm>
            <a:custGeom>
              <a:avLst/>
              <a:gdLst/>
              <a:ahLst/>
              <a:rect l="l" t="t" r="r" b="b"/>
              <a:pathLst>
                <a:path w="824" h="546">
                  <a:moveTo>
                    <a:pt x="132" y="223"/>
                  </a:moveTo>
                  <a:lnTo>
                    <a:pt x="165" y="202"/>
                  </a:lnTo>
                  <a:lnTo>
                    <a:pt x="194" y="183"/>
                  </a:lnTo>
                  <a:lnTo>
                    <a:pt x="224" y="162"/>
                  </a:lnTo>
                  <a:lnTo>
                    <a:pt x="252" y="143"/>
                  </a:lnTo>
                  <a:lnTo>
                    <a:pt x="280" y="125"/>
                  </a:lnTo>
                  <a:lnTo>
                    <a:pt x="307" y="106"/>
                  </a:lnTo>
                  <a:lnTo>
                    <a:pt x="336" y="88"/>
                  </a:lnTo>
                  <a:lnTo>
                    <a:pt x="363" y="72"/>
                  </a:lnTo>
                  <a:lnTo>
                    <a:pt x="391" y="57"/>
                  </a:lnTo>
                  <a:lnTo>
                    <a:pt x="422" y="43"/>
                  </a:lnTo>
                  <a:lnTo>
                    <a:pt x="437" y="37"/>
                  </a:lnTo>
                  <a:lnTo>
                    <a:pt x="453" y="31"/>
                  </a:lnTo>
                  <a:lnTo>
                    <a:pt x="470" y="25"/>
                  </a:lnTo>
                  <a:lnTo>
                    <a:pt x="487" y="21"/>
                  </a:lnTo>
                  <a:lnTo>
                    <a:pt x="504" y="16"/>
                  </a:lnTo>
                  <a:lnTo>
                    <a:pt x="522" y="12"/>
                  </a:lnTo>
                  <a:lnTo>
                    <a:pt x="542" y="8"/>
                  </a:lnTo>
                  <a:lnTo>
                    <a:pt x="561" y="6"/>
                  </a:lnTo>
                  <a:lnTo>
                    <a:pt x="582" y="4"/>
                  </a:lnTo>
                  <a:lnTo>
                    <a:pt x="602" y="3"/>
                  </a:lnTo>
                  <a:lnTo>
                    <a:pt x="625" y="2"/>
                  </a:lnTo>
                  <a:lnTo>
                    <a:pt x="648" y="0"/>
                  </a:lnTo>
                  <a:lnTo>
                    <a:pt x="655" y="31"/>
                  </a:lnTo>
                  <a:lnTo>
                    <a:pt x="659" y="57"/>
                  </a:lnTo>
                  <a:lnTo>
                    <a:pt x="662" y="79"/>
                  </a:lnTo>
                  <a:lnTo>
                    <a:pt x="662" y="97"/>
                  </a:lnTo>
                  <a:lnTo>
                    <a:pt x="660" y="105"/>
                  </a:lnTo>
                  <a:lnTo>
                    <a:pt x="659" y="113"/>
                  </a:lnTo>
                  <a:lnTo>
                    <a:pt x="658" y="120"/>
                  </a:lnTo>
                  <a:lnTo>
                    <a:pt x="656" y="126"/>
                  </a:lnTo>
                  <a:lnTo>
                    <a:pt x="652" y="133"/>
                  </a:lnTo>
                  <a:lnTo>
                    <a:pt x="649" y="137"/>
                  </a:lnTo>
                  <a:lnTo>
                    <a:pt x="646" y="143"/>
                  </a:lnTo>
                  <a:lnTo>
                    <a:pt x="641" y="147"/>
                  </a:lnTo>
                  <a:lnTo>
                    <a:pt x="632" y="157"/>
                  </a:lnTo>
                  <a:lnTo>
                    <a:pt x="619" y="166"/>
                  </a:lnTo>
                  <a:lnTo>
                    <a:pt x="606" y="176"/>
                  </a:lnTo>
                  <a:lnTo>
                    <a:pt x="591" y="186"/>
                  </a:lnTo>
                  <a:lnTo>
                    <a:pt x="574" y="199"/>
                  </a:lnTo>
                  <a:lnTo>
                    <a:pt x="556" y="212"/>
                  </a:lnTo>
                  <a:lnTo>
                    <a:pt x="536" y="230"/>
                  </a:lnTo>
                  <a:lnTo>
                    <a:pt x="514" y="250"/>
                  </a:lnTo>
                  <a:lnTo>
                    <a:pt x="559" y="251"/>
                  </a:lnTo>
                  <a:lnTo>
                    <a:pt x="599" y="252"/>
                  </a:lnTo>
                  <a:lnTo>
                    <a:pt x="635" y="255"/>
                  </a:lnTo>
                  <a:lnTo>
                    <a:pt x="668" y="259"/>
                  </a:lnTo>
                  <a:lnTo>
                    <a:pt x="683" y="263"/>
                  </a:lnTo>
                  <a:lnTo>
                    <a:pt x="697" y="266"/>
                  </a:lnTo>
                  <a:lnTo>
                    <a:pt x="709" y="269"/>
                  </a:lnTo>
                  <a:lnTo>
                    <a:pt x="722" y="274"/>
                  </a:lnTo>
                  <a:lnTo>
                    <a:pt x="733" y="280"/>
                  </a:lnTo>
                  <a:lnTo>
                    <a:pt x="744" y="285"/>
                  </a:lnTo>
                  <a:lnTo>
                    <a:pt x="754" y="291"/>
                  </a:lnTo>
                  <a:lnTo>
                    <a:pt x="763" y="299"/>
                  </a:lnTo>
                  <a:lnTo>
                    <a:pt x="771" y="307"/>
                  </a:lnTo>
                  <a:lnTo>
                    <a:pt x="779" y="316"/>
                  </a:lnTo>
                  <a:lnTo>
                    <a:pt x="786" y="325"/>
                  </a:lnTo>
                  <a:lnTo>
                    <a:pt x="791" y="337"/>
                  </a:lnTo>
                  <a:lnTo>
                    <a:pt x="797" y="348"/>
                  </a:lnTo>
                  <a:lnTo>
                    <a:pt x="803" y="361"/>
                  </a:lnTo>
                  <a:lnTo>
                    <a:pt x="807" y="374"/>
                  </a:lnTo>
                  <a:lnTo>
                    <a:pt x="811" y="388"/>
                  </a:lnTo>
                  <a:lnTo>
                    <a:pt x="814" y="404"/>
                  </a:lnTo>
                  <a:lnTo>
                    <a:pt x="817" y="421"/>
                  </a:lnTo>
                  <a:lnTo>
                    <a:pt x="820" y="438"/>
                  </a:lnTo>
                  <a:lnTo>
                    <a:pt x="821" y="458"/>
                  </a:lnTo>
                  <a:lnTo>
                    <a:pt x="823" y="500"/>
                  </a:lnTo>
                  <a:lnTo>
                    <a:pt x="824" y="546"/>
                  </a:lnTo>
                  <a:lnTo>
                    <a:pt x="804" y="546"/>
                  </a:lnTo>
                  <a:lnTo>
                    <a:pt x="785" y="544"/>
                  </a:lnTo>
                  <a:lnTo>
                    <a:pt x="765" y="542"/>
                  </a:lnTo>
                  <a:lnTo>
                    <a:pt x="747" y="538"/>
                  </a:lnTo>
                  <a:lnTo>
                    <a:pt x="730" y="534"/>
                  </a:lnTo>
                  <a:lnTo>
                    <a:pt x="713" y="528"/>
                  </a:lnTo>
                  <a:lnTo>
                    <a:pt x="696" y="522"/>
                  </a:lnTo>
                  <a:lnTo>
                    <a:pt x="680" y="517"/>
                  </a:lnTo>
                  <a:lnTo>
                    <a:pt x="665" y="509"/>
                  </a:lnTo>
                  <a:lnTo>
                    <a:pt x="650" y="502"/>
                  </a:lnTo>
                  <a:lnTo>
                    <a:pt x="635" y="494"/>
                  </a:lnTo>
                  <a:lnTo>
                    <a:pt x="622" y="486"/>
                  </a:lnTo>
                  <a:lnTo>
                    <a:pt x="595" y="468"/>
                  </a:lnTo>
                  <a:lnTo>
                    <a:pt x="569" y="451"/>
                  </a:lnTo>
                  <a:lnTo>
                    <a:pt x="545" y="432"/>
                  </a:lnTo>
                  <a:lnTo>
                    <a:pt x="521" y="415"/>
                  </a:lnTo>
                  <a:lnTo>
                    <a:pt x="499" y="398"/>
                  </a:lnTo>
                  <a:lnTo>
                    <a:pt x="476" y="385"/>
                  </a:lnTo>
                  <a:lnTo>
                    <a:pt x="464" y="378"/>
                  </a:lnTo>
                  <a:lnTo>
                    <a:pt x="453" y="372"/>
                  </a:lnTo>
                  <a:lnTo>
                    <a:pt x="442" y="366"/>
                  </a:lnTo>
                  <a:lnTo>
                    <a:pt x="430" y="363"/>
                  </a:lnTo>
                  <a:lnTo>
                    <a:pt x="419" y="358"/>
                  </a:lnTo>
                  <a:lnTo>
                    <a:pt x="407" y="356"/>
                  </a:lnTo>
                  <a:lnTo>
                    <a:pt x="395" y="355"/>
                  </a:lnTo>
                  <a:lnTo>
                    <a:pt x="382" y="354"/>
                  </a:lnTo>
                  <a:lnTo>
                    <a:pt x="375" y="370"/>
                  </a:lnTo>
                  <a:lnTo>
                    <a:pt x="369" y="385"/>
                  </a:lnTo>
                  <a:lnTo>
                    <a:pt x="361" y="399"/>
                  </a:lnTo>
                  <a:lnTo>
                    <a:pt x="353" y="412"/>
                  </a:lnTo>
                  <a:lnTo>
                    <a:pt x="345" y="423"/>
                  </a:lnTo>
                  <a:lnTo>
                    <a:pt x="336" y="435"/>
                  </a:lnTo>
                  <a:lnTo>
                    <a:pt x="326" y="445"/>
                  </a:lnTo>
                  <a:lnTo>
                    <a:pt x="317" y="454"/>
                  </a:lnTo>
                  <a:lnTo>
                    <a:pt x="307" y="462"/>
                  </a:lnTo>
                  <a:lnTo>
                    <a:pt x="297" y="470"/>
                  </a:lnTo>
                  <a:lnTo>
                    <a:pt x="287" y="477"/>
                  </a:lnTo>
                  <a:lnTo>
                    <a:pt x="276" y="483"/>
                  </a:lnTo>
                  <a:lnTo>
                    <a:pt x="265" y="488"/>
                  </a:lnTo>
                  <a:lnTo>
                    <a:pt x="254" y="493"/>
                  </a:lnTo>
                  <a:lnTo>
                    <a:pt x="242" y="497"/>
                  </a:lnTo>
                  <a:lnTo>
                    <a:pt x="231" y="501"/>
                  </a:lnTo>
                  <a:lnTo>
                    <a:pt x="206" y="507"/>
                  </a:lnTo>
                  <a:lnTo>
                    <a:pt x="179" y="511"/>
                  </a:lnTo>
                  <a:lnTo>
                    <a:pt x="152" y="513"/>
                  </a:lnTo>
                  <a:lnTo>
                    <a:pt x="124" y="515"/>
                  </a:lnTo>
                  <a:lnTo>
                    <a:pt x="64" y="516"/>
                  </a:lnTo>
                  <a:lnTo>
                    <a:pt x="0" y="516"/>
                  </a:lnTo>
                  <a:lnTo>
                    <a:pt x="15" y="296"/>
                  </a:lnTo>
                  <a:lnTo>
                    <a:pt x="29" y="294"/>
                  </a:lnTo>
                  <a:lnTo>
                    <a:pt x="42" y="292"/>
                  </a:lnTo>
                  <a:lnTo>
                    <a:pt x="53" y="289"/>
                  </a:lnTo>
                  <a:lnTo>
                    <a:pt x="63" y="284"/>
                  </a:lnTo>
                  <a:lnTo>
                    <a:pt x="84" y="272"/>
                  </a:lnTo>
                  <a:lnTo>
                    <a:pt x="102" y="259"/>
                  </a:lnTo>
                  <a:lnTo>
                    <a:pt x="120" y="245"/>
                  </a:lnTo>
                  <a:lnTo>
                    <a:pt x="137" y="234"/>
                  </a:lnTo>
                  <a:lnTo>
                    <a:pt x="146" y="230"/>
                  </a:lnTo>
                  <a:lnTo>
                    <a:pt x="157" y="226"/>
                  </a:lnTo>
                  <a:lnTo>
                    <a:pt x="166" y="224"/>
                  </a:lnTo>
                  <a:lnTo>
                    <a:pt x="177" y="223"/>
                  </a:lnTo>
                  <a:lnTo>
                    <a:pt x="132" y="22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398760" y="3291120"/>
              <a:ext cx="169920" cy="76320"/>
            </a:xfrm>
            <a:custGeom>
              <a:avLst/>
              <a:gdLst/>
              <a:ahLst/>
              <a:rect l="l" t="t" r="r" b="b"/>
              <a:pathLst>
                <a:path w="533" h="244">
                  <a:moveTo>
                    <a:pt x="533" y="9"/>
                  </a:moveTo>
                  <a:lnTo>
                    <a:pt x="522" y="0"/>
                  </a:lnTo>
                  <a:lnTo>
                    <a:pt x="498" y="0"/>
                  </a:lnTo>
                  <a:lnTo>
                    <a:pt x="476" y="1"/>
                  </a:lnTo>
                  <a:lnTo>
                    <a:pt x="455" y="2"/>
                  </a:lnTo>
                  <a:lnTo>
                    <a:pt x="434" y="5"/>
                  </a:lnTo>
                  <a:lnTo>
                    <a:pt x="414" y="8"/>
                  </a:lnTo>
                  <a:lnTo>
                    <a:pt x="394" y="11"/>
                  </a:lnTo>
                  <a:lnTo>
                    <a:pt x="376" y="15"/>
                  </a:lnTo>
                  <a:lnTo>
                    <a:pt x="358" y="19"/>
                  </a:lnTo>
                  <a:lnTo>
                    <a:pt x="341" y="25"/>
                  </a:lnTo>
                  <a:lnTo>
                    <a:pt x="324" y="31"/>
                  </a:lnTo>
                  <a:lnTo>
                    <a:pt x="308" y="36"/>
                  </a:lnTo>
                  <a:lnTo>
                    <a:pt x="290" y="43"/>
                  </a:lnTo>
                  <a:lnTo>
                    <a:pt x="261" y="57"/>
                  </a:lnTo>
                  <a:lnTo>
                    <a:pt x="231" y="73"/>
                  </a:lnTo>
                  <a:lnTo>
                    <a:pt x="203" y="89"/>
                  </a:lnTo>
                  <a:lnTo>
                    <a:pt x="175" y="107"/>
                  </a:lnTo>
                  <a:lnTo>
                    <a:pt x="147" y="125"/>
                  </a:lnTo>
                  <a:lnTo>
                    <a:pt x="120" y="145"/>
                  </a:lnTo>
                  <a:lnTo>
                    <a:pt x="91" y="164"/>
                  </a:lnTo>
                  <a:lnTo>
                    <a:pt x="63" y="184"/>
                  </a:lnTo>
                  <a:lnTo>
                    <a:pt x="32" y="203"/>
                  </a:lnTo>
                  <a:lnTo>
                    <a:pt x="0" y="223"/>
                  </a:lnTo>
                  <a:lnTo>
                    <a:pt x="11" y="244"/>
                  </a:lnTo>
                  <a:lnTo>
                    <a:pt x="44" y="223"/>
                  </a:lnTo>
                  <a:lnTo>
                    <a:pt x="75" y="204"/>
                  </a:lnTo>
                  <a:lnTo>
                    <a:pt x="105" y="184"/>
                  </a:lnTo>
                  <a:lnTo>
                    <a:pt x="133" y="164"/>
                  </a:lnTo>
                  <a:lnTo>
                    <a:pt x="161" y="145"/>
                  </a:lnTo>
                  <a:lnTo>
                    <a:pt x="188" y="127"/>
                  </a:lnTo>
                  <a:lnTo>
                    <a:pt x="215" y="109"/>
                  </a:lnTo>
                  <a:lnTo>
                    <a:pt x="243" y="93"/>
                  </a:lnTo>
                  <a:lnTo>
                    <a:pt x="271" y="79"/>
                  </a:lnTo>
                  <a:lnTo>
                    <a:pt x="301" y="65"/>
                  </a:lnTo>
                  <a:lnTo>
                    <a:pt x="316" y="59"/>
                  </a:lnTo>
                  <a:lnTo>
                    <a:pt x="332" y="54"/>
                  </a:lnTo>
                  <a:lnTo>
                    <a:pt x="347" y="48"/>
                  </a:lnTo>
                  <a:lnTo>
                    <a:pt x="365" y="43"/>
                  </a:lnTo>
                  <a:lnTo>
                    <a:pt x="382" y="39"/>
                  </a:lnTo>
                  <a:lnTo>
                    <a:pt x="399" y="35"/>
                  </a:lnTo>
                  <a:lnTo>
                    <a:pt x="417" y="32"/>
                  </a:lnTo>
                  <a:lnTo>
                    <a:pt x="436" y="28"/>
                  </a:lnTo>
                  <a:lnTo>
                    <a:pt x="457" y="26"/>
                  </a:lnTo>
                  <a:lnTo>
                    <a:pt x="477" y="25"/>
                  </a:lnTo>
                  <a:lnTo>
                    <a:pt x="499" y="24"/>
                  </a:lnTo>
                  <a:lnTo>
                    <a:pt x="522" y="24"/>
                  </a:lnTo>
                  <a:lnTo>
                    <a:pt x="510" y="15"/>
                  </a:lnTo>
                  <a:lnTo>
                    <a:pt x="522" y="24"/>
                  </a:lnTo>
                  <a:lnTo>
                    <a:pt x="528" y="23"/>
                  </a:lnTo>
                  <a:lnTo>
                    <a:pt x="531" y="20"/>
                  </a:lnTo>
                  <a:lnTo>
                    <a:pt x="533" y="16"/>
                  </a:lnTo>
                  <a:lnTo>
                    <a:pt x="533" y="11"/>
                  </a:lnTo>
                  <a:lnTo>
                    <a:pt x="533" y="7"/>
                  </a:lnTo>
                  <a:lnTo>
                    <a:pt x="531" y="3"/>
                  </a:lnTo>
                  <a:lnTo>
                    <a:pt x="528" y="1"/>
                  </a:lnTo>
                  <a:lnTo>
                    <a:pt x="522" y="0"/>
                  </a:lnTo>
                  <a:lnTo>
                    <a:pt x="533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517920" y="3292560"/>
              <a:ext cx="55440" cy="8424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12" y="241"/>
                  </a:moveTo>
                  <a:lnTo>
                    <a:pt x="20" y="261"/>
                  </a:lnTo>
                  <a:lnTo>
                    <a:pt x="42" y="241"/>
                  </a:lnTo>
                  <a:lnTo>
                    <a:pt x="61" y="225"/>
                  </a:lnTo>
                  <a:lnTo>
                    <a:pt x="80" y="210"/>
                  </a:lnTo>
                  <a:lnTo>
                    <a:pt x="96" y="198"/>
                  </a:lnTo>
                  <a:lnTo>
                    <a:pt x="112" y="188"/>
                  </a:lnTo>
                  <a:lnTo>
                    <a:pt x="125" y="178"/>
                  </a:lnTo>
                  <a:lnTo>
                    <a:pt x="138" y="168"/>
                  </a:lnTo>
                  <a:lnTo>
                    <a:pt x="148" y="159"/>
                  </a:lnTo>
                  <a:lnTo>
                    <a:pt x="153" y="152"/>
                  </a:lnTo>
                  <a:lnTo>
                    <a:pt x="157" y="146"/>
                  </a:lnTo>
                  <a:lnTo>
                    <a:pt x="162" y="140"/>
                  </a:lnTo>
                  <a:lnTo>
                    <a:pt x="165" y="133"/>
                  </a:lnTo>
                  <a:lnTo>
                    <a:pt x="167" y="125"/>
                  </a:lnTo>
                  <a:lnTo>
                    <a:pt x="170" y="118"/>
                  </a:lnTo>
                  <a:lnTo>
                    <a:pt x="171" y="110"/>
                  </a:lnTo>
                  <a:lnTo>
                    <a:pt x="172" y="100"/>
                  </a:lnTo>
                  <a:lnTo>
                    <a:pt x="172" y="81"/>
                  </a:lnTo>
                  <a:lnTo>
                    <a:pt x="169" y="58"/>
                  </a:lnTo>
                  <a:lnTo>
                    <a:pt x="164" y="31"/>
                  </a:lnTo>
                  <a:lnTo>
                    <a:pt x="157" y="0"/>
                  </a:lnTo>
                  <a:lnTo>
                    <a:pt x="134" y="6"/>
                  </a:lnTo>
                  <a:lnTo>
                    <a:pt x="141" y="35"/>
                  </a:lnTo>
                  <a:lnTo>
                    <a:pt x="145" y="61"/>
                  </a:lnTo>
                  <a:lnTo>
                    <a:pt x="147" y="82"/>
                  </a:lnTo>
                  <a:lnTo>
                    <a:pt x="148" y="99"/>
                  </a:lnTo>
                  <a:lnTo>
                    <a:pt x="147" y="106"/>
                  </a:lnTo>
                  <a:lnTo>
                    <a:pt x="146" y="113"/>
                  </a:lnTo>
                  <a:lnTo>
                    <a:pt x="145" y="119"/>
                  </a:lnTo>
                  <a:lnTo>
                    <a:pt x="142" y="123"/>
                  </a:lnTo>
                  <a:lnTo>
                    <a:pt x="140" y="129"/>
                  </a:lnTo>
                  <a:lnTo>
                    <a:pt x="138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2" y="149"/>
                  </a:lnTo>
                  <a:lnTo>
                    <a:pt x="111" y="159"/>
                  </a:lnTo>
                  <a:lnTo>
                    <a:pt x="97" y="168"/>
                  </a:lnTo>
                  <a:lnTo>
                    <a:pt x="82" y="179"/>
                  </a:lnTo>
                  <a:lnTo>
                    <a:pt x="65" y="190"/>
                  </a:lnTo>
                  <a:lnTo>
                    <a:pt x="46" y="205"/>
                  </a:lnTo>
                  <a:lnTo>
                    <a:pt x="26" y="222"/>
                  </a:lnTo>
                  <a:lnTo>
                    <a:pt x="3" y="244"/>
                  </a:lnTo>
                  <a:lnTo>
                    <a:pt x="12" y="265"/>
                  </a:lnTo>
                  <a:lnTo>
                    <a:pt x="3" y="244"/>
                  </a:lnTo>
                  <a:lnTo>
                    <a:pt x="1" y="249"/>
                  </a:lnTo>
                  <a:lnTo>
                    <a:pt x="0" y="253"/>
                  </a:lnTo>
                  <a:lnTo>
                    <a:pt x="1" y="257"/>
                  </a:lnTo>
                  <a:lnTo>
                    <a:pt x="3" y="261"/>
                  </a:lnTo>
                  <a:lnTo>
                    <a:pt x="8" y="263"/>
                  </a:lnTo>
                  <a:lnTo>
                    <a:pt x="11" y="265"/>
                  </a:lnTo>
                  <a:lnTo>
                    <a:pt x="16" y="263"/>
                  </a:lnTo>
                  <a:lnTo>
                    <a:pt x="20" y="261"/>
                  </a:lnTo>
                  <a:lnTo>
                    <a:pt x="12" y="2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522600" y="3370680"/>
              <a:ext cx="101520" cy="101520"/>
            </a:xfrm>
            <a:custGeom>
              <a:avLst/>
              <a:gdLst/>
              <a:ahLst/>
              <a:rect l="l" t="t" r="r" b="b"/>
              <a:pathLst>
                <a:path w="322" h="320">
                  <a:moveTo>
                    <a:pt x="310" y="320"/>
                  </a:moveTo>
                  <a:lnTo>
                    <a:pt x="322" y="307"/>
                  </a:lnTo>
                  <a:lnTo>
                    <a:pt x="322" y="260"/>
                  </a:lnTo>
                  <a:lnTo>
                    <a:pt x="320" y="217"/>
                  </a:lnTo>
                  <a:lnTo>
                    <a:pt x="317" y="198"/>
                  </a:lnTo>
                  <a:lnTo>
                    <a:pt x="315" y="180"/>
                  </a:lnTo>
                  <a:lnTo>
                    <a:pt x="312" y="163"/>
                  </a:lnTo>
                  <a:lnTo>
                    <a:pt x="308" y="147"/>
                  </a:lnTo>
                  <a:lnTo>
                    <a:pt x="305" y="132"/>
                  </a:lnTo>
                  <a:lnTo>
                    <a:pt x="300" y="117"/>
                  </a:lnTo>
                  <a:lnTo>
                    <a:pt x="295" y="103"/>
                  </a:lnTo>
                  <a:lnTo>
                    <a:pt x="289" y="92"/>
                  </a:lnTo>
                  <a:lnTo>
                    <a:pt x="282" y="81"/>
                  </a:lnTo>
                  <a:lnTo>
                    <a:pt x="274" y="69"/>
                  </a:lnTo>
                  <a:lnTo>
                    <a:pt x="266" y="60"/>
                  </a:lnTo>
                  <a:lnTo>
                    <a:pt x="257" y="51"/>
                  </a:lnTo>
                  <a:lnTo>
                    <a:pt x="247" y="43"/>
                  </a:lnTo>
                  <a:lnTo>
                    <a:pt x="236" y="36"/>
                  </a:lnTo>
                  <a:lnTo>
                    <a:pt x="225" y="29"/>
                  </a:lnTo>
                  <a:lnTo>
                    <a:pt x="212" y="24"/>
                  </a:lnTo>
                  <a:lnTo>
                    <a:pt x="200" y="19"/>
                  </a:lnTo>
                  <a:lnTo>
                    <a:pt x="186" y="14"/>
                  </a:lnTo>
                  <a:lnTo>
                    <a:pt x="171" y="11"/>
                  </a:lnTo>
                  <a:lnTo>
                    <a:pt x="155" y="9"/>
                  </a:lnTo>
                  <a:lnTo>
                    <a:pt x="122" y="4"/>
                  </a:lnTo>
                  <a:lnTo>
                    <a:pt x="86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45" y="24"/>
                  </a:lnTo>
                  <a:lnTo>
                    <a:pt x="85" y="25"/>
                  </a:lnTo>
                  <a:lnTo>
                    <a:pt x="120" y="28"/>
                  </a:lnTo>
                  <a:lnTo>
                    <a:pt x="152" y="33"/>
                  </a:lnTo>
                  <a:lnTo>
                    <a:pt x="166" y="35"/>
                  </a:lnTo>
                  <a:lnTo>
                    <a:pt x="179" y="38"/>
                  </a:lnTo>
                  <a:lnTo>
                    <a:pt x="192" y="42"/>
                  </a:lnTo>
                  <a:lnTo>
                    <a:pt x="203" y="46"/>
                  </a:lnTo>
                  <a:lnTo>
                    <a:pt x="214" y="51"/>
                  </a:lnTo>
                  <a:lnTo>
                    <a:pt x="224" y="57"/>
                  </a:lnTo>
                  <a:lnTo>
                    <a:pt x="233" y="62"/>
                  </a:lnTo>
                  <a:lnTo>
                    <a:pt x="241" y="69"/>
                  </a:lnTo>
                  <a:lnTo>
                    <a:pt x="248" y="76"/>
                  </a:lnTo>
                  <a:lnTo>
                    <a:pt x="256" y="84"/>
                  </a:lnTo>
                  <a:lnTo>
                    <a:pt x="261" y="93"/>
                  </a:lnTo>
                  <a:lnTo>
                    <a:pt x="267" y="103"/>
                  </a:lnTo>
                  <a:lnTo>
                    <a:pt x="273" y="114"/>
                  </a:lnTo>
                  <a:lnTo>
                    <a:pt x="277" y="125"/>
                  </a:lnTo>
                  <a:lnTo>
                    <a:pt x="282" y="139"/>
                  </a:lnTo>
                  <a:lnTo>
                    <a:pt x="285" y="152"/>
                  </a:lnTo>
                  <a:lnTo>
                    <a:pt x="289" y="167"/>
                  </a:lnTo>
                  <a:lnTo>
                    <a:pt x="291" y="183"/>
                  </a:lnTo>
                  <a:lnTo>
                    <a:pt x="293" y="201"/>
                  </a:lnTo>
                  <a:lnTo>
                    <a:pt x="296" y="220"/>
                  </a:lnTo>
                  <a:lnTo>
                    <a:pt x="298" y="261"/>
                  </a:lnTo>
                  <a:lnTo>
                    <a:pt x="298" y="307"/>
                  </a:lnTo>
                  <a:lnTo>
                    <a:pt x="310" y="295"/>
                  </a:lnTo>
                  <a:lnTo>
                    <a:pt x="298" y="307"/>
                  </a:lnTo>
                  <a:lnTo>
                    <a:pt x="299" y="313"/>
                  </a:lnTo>
                  <a:lnTo>
                    <a:pt x="303" y="317"/>
                  </a:lnTo>
                  <a:lnTo>
                    <a:pt x="306" y="319"/>
                  </a:lnTo>
                  <a:lnTo>
                    <a:pt x="310" y="320"/>
                  </a:lnTo>
                  <a:lnTo>
                    <a:pt x="315" y="319"/>
                  </a:lnTo>
                  <a:lnTo>
                    <a:pt x="318" y="317"/>
                  </a:lnTo>
                  <a:lnTo>
                    <a:pt x="322" y="313"/>
                  </a:lnTo>
                  <a:lnTo>
                    <a:pt x="322" y="307"/>
                  </a:lnTo>
                  <a:lnTo>
                    <a:pt x="310" y="3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476520" y="3402360"/>
              <a:ext cx="144720" cy="6984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23" y="16"/>
                  </a:moveTo>
                  <a:lnTo>
                    <a:pt x="11" y="24"/>
                  </a:lnTo>
                  <a:lnTo>
                    <a:pt x="23" y="24"/>
                  </a:lnTo>
                  <a:lnTo>
                    <a:pt x="34" y="27"/>
                  </a:lnTo>
                  <a:lnTo>
                    <a:pt x="44" y="29"/>
                  </a:lnTo>
                  <a:lnTo>
                    <a:pt x="56" y="32"/>
                  </a:lnTo>
                  <a:lnTo>
                    <a:pt x="66" y="36"/>
                  </a:lnTo>
                  <a:lnTo>
                    <a:pt x="77" y="40"/>
                  </a:lnTo>
                  <a:lnTo>
                    <a:pt x="88" y="46"/>
                  </a:lnTo>
                  <a:lnTo>
                    <a:pt x="99" y="53"/>
                  </a:lnTo>
                  <a:lnTo>
                    <a:pt x="121" y="66"/>
                  </a:lnTo>
                  <a:lnTo>
                    <a:pt x="143" y="82"/>
                  </a:lnTo>
                  <a:lnTo>
                    <a:pt x="167" y="100"/>
                  </a:lnTo>
                  <a:lnTo>
                    <a:pt x="191" y="118"/>
                  </a:lnTo>
                  <a:lnTo>
                    <a:pt x="218" y="136"/>
                  </a:lnTo>
                  <a:lnTo>
                    <a:pt x="245" y="154"/>
                  </a:lnTo>
                  <a:lnTo>
                    <a:pt x="259" y="162"/>
                  </a:lnTo>
                  <a:lnTo>
                    <a:pt x="273" y="170"/>
                  </a:lnTo>
                  <a:lnTo>
                    <a:pt x="288" y="178"/>
                  </a:lnTo>
                  <a:lnTo>
                    <a:pt x="304" y="185"/>
                  </a:lnTo>
                  <a:lnTo>
                    <a:pt x="321" y="192"/>
                  </a:lnTo>
                  <a:lnTo>
                    <a:pt x="337" y="199"/>
                  </a:lnTo>
                  <a:lnTo>
                    <a:pt x="355" y="203"/>
                  </a:lnTo>
                  <a:lnTo>
                    <a:pt x="374" y="208"/>
                  </a:lnTo>
                  <a:lnTo>
                    <a:pt x="392" y="211"/>
                  </a:lnTo>
                  <a:lnTo>
                    <a:pt x="412" y="215"/>
                  </a:lnTo>
                  <a:lnTo>
                    <a:pt x="432" y="216"/>
                  </a:lnTo>
                  <a:lnTo>
                    <a:pt x="453" y="217"/>
                  </a:lnTo>
                  <a:lnTo>
                    <a:pt x="453" y="192"/>
                  </a:lnTo>
                  <a:lnTo>
                    <a:pt x="433" y="192"/>
                  </a:lnTo>
                  <a:lnTo>
                    <a:pt x="415" y="191"/>
                  </a:lnTo>
                  <a:lnTo>
                    <a:pt x="396" y="187"/>
                  </a:lnTo>
                  <a:lnTo>
                    <a:pt x="378" y="184"/>
                  </a:lnTo>
                  <a:lnTo>
                    <a:pt x="361" y="180"/>
                  </a:lnTo>
                  <a:lnTo>
                    <a:pt x="345" y="175"/>
                  </a:lnTo>
                  <a:lnTo>
                    <a:pt x="329" y="169"/>
                  </a:lnTo>
                  <a:lnTo>
                    <a:pt x="314" y="163"/>
                  </a:lnTo>
                  <a:lnTo>
                    <a:pt x="300" y="157"/>
                  </a:lnTo>
                  <a:lnTo>
                    <a:pt x="285" y="149"/>
                  </a:lnTo>
                  <a:lnTo>
                    <a:pt x="271" y="142"/>
                  </a:lnTo>
                  <a:lnTo>
                    <a:pt x="257" y="134"/>
                  </a:lnTo>
                  <a:lnTo>
                    <a:pt x="231" y="117"/>
                  </a:lnTo>
                  <a:lnTo>
                    <a:pt x="206" y="98"/>
                  </a:lnTo>
                  <a:lnTo>
                    <a:pt x="181" y="80"/>
                  </a:lnTo>
                  <a:lnTo>
                    <a:pt x="158" y="63"/>
                  </a:lnTo>
                  <a:lnTo>
                    <a:pt x="134" y="47"/>
                  </a:lnTo>
                  <a:lnTo>
                    <a:pt x="112" y="32"/>
                  </a:lnTo>
                  <a:lnTo>
                    <a:pt x="99" y="25"/>
                  </a:lnTo>
                  <a:lnTo>
                    <a:pt x="88" y="19"/>
                  </a:lnTo>
                  <a:lnTo>
                    <a:pt x="75" y="14"/>
                  </a:lnTo>
                  <a:lnTo>
                    <a:pt x="64" y="9"/>
                  </a:lnTo>
                  <a:lnTo>
                    <a:pt x="51" y="5"/>
                  </a:lnTo>
                  <a:lnTo>
                    <a:pt x="37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355920" y="3405600"/>
              <a:ext cx="128520" cy="55440"/>
            </a:xfrm>
            <a:custGeom>
              <a:avLst/>
              <a:gdLst/>
              <a:ahLst/>
              <a:rect l="l" t="t" r="r" b="b"/>
              <a:pathLst>
                <a:path w="406" h="179">
                  <a:moveTo>
                    <a:pt x="0" y="166"/>
                  </a:moveTo>
                  <a:lnTo>
                    <a:pt x="12" y="178"/>
                  </a:lnTo>
                  <a:lnTo>
                    <a:pt x="76" y="179"/>
                  </a:lnTo>
                  <a:lnTo>
                    <a:pt x="137" y="178"/>
                  </a:lnTo>
                  <a:lnTo>
                    <a:pt x="165" y="177"/>
                  </a:lnTo>
                  <a:lnTo>
                    <a:pt x="193" y="173"/>
                  </a:lnTo>
                  <a:lnTo>
                    <a:pt x="220" y="170"/>
                  </a:lnTo>
                  <a:lnTo>
                    <a:pt x="245" y="163"/>
                  </a:lnTo>
                  <a:lnTo>
                    <a:pt x="258" y="160"/>
                  </a:lnTo>
                  <a:lnTo>
                    <a:pt x="270" y="155"/>
                  </a:lnTo>
                  <a:lnTo>
                    <a:pt x="283" y="151"/>
                  </a:lnTo>
                  <a:lnTo>
                    <a:pt x="294" y="145"/>
                  </a:lnTo>
                  <a:lnTo>
                    <a:pt x="305" y="138"/>
                  </a:lnTo>
                  <a:lnTo>
                    <a:pt x="317" y="130"/>
                  </a:lnTo>
                  <a:lnTo>
                    <a:pt x="327" y="122"/>
                  </a:lnTo>
                  <a:lnTo>
                    <a:pt x="337" y="114"/>
                  </a:lnTo>
                  <a:lnTo>
                    <a:pt x="348" y="104"/>
                  </a:lnTo>
                  <a:lnTo>
                    <a:pt x="357" y="94"/>
                  </a:lnTo>
                  <a:lnTo>
                    <a:pt x="366" y="82"/>
                  </a:lnTo>
                  <a:lnTo>
                    <a:pt x="375" y="70"/>
                  </a:lnTo>
                  <a:lnTo>
                    <a:pt x="383" y="56"/>
                  </a:lnTo>
                  <a:lnTo>
                    <a:pt x="391" y="41"/>
                  </a:lnTo>
                  <a:lnTo>
                    <a:pt x="399" y="26"/>
                  </a:lnTo>
                  <a:lnTo>
                    <a:pt x="406" y="9"/>
                  </a:lnTo>
                  <a:lnTo>
                    <a:pt x="384" y="0"/>
                  </a:lnTo>
                  <a:lnTo>
                    <a:pt x="377" y="16"/>
                  </a:lnTo>
                  <a:lnTo>
                    <a:pt x="369" y="31"/>
                  </a:lnTo>
                  <a:lnTo>
                    <a:pt x="362" y="44"/>
                  </a:lnTo>
                  <a:lnTo>
                    <a:pt x="354" y="56"/>
                  </a:lnTo>
                  <a:lnTo>
                    <a:pt x="346" y="67"/>
                  </a:lnTo>
                  <a:lnTo>
                    <a:pt x="338" y="78"/>
                  </a:lnTo>
                  <a:lnTo>
                    <a:pt x="329" y="87"/>
                  </a:lnTo>
                  <a:lnTo>
                    <a:pt x="321" y="96"/>
                  </a:lnTo>
                  <a:lnTo>
                    <a:pt x="312" y="104"/>
                  </a:lnTo>
                  <a:lnTo>
                    <a:pt x="302" y="111"/>
                  </a:lnTo>
                  <a:lnTo>
                    <a:pt x="293" y="118"/>
                  </a:lnTo>
                  <a:lnTo>
                    <a:pt x="283" y="123"/>
                  </a:lnTo>
                  <a:lnTo>
                    <a:pt x="272" y="128"/>
                  </a:lnTo>
                  <a:lnTo>
                    <a:pt x="261" y="132"/>
                  </a:lnTo>
                  <a:lnTo>
                    <a:pt x="251" y="137"/>
                  </a:lnTo>
                  <a:lnTo>
                    <a:pt x="239" y="140"/>
                  </a:lnTo>
                  <a:lnTo>
                    <a:pt x="215" y="146"/>
                  </a:lnTo>
                  <a:lnTo>
                    <a:pt x="190" y="150"/>
                  </a:lnTo>
                  <a:lnTo>
                    <a:pt x="164" y="152"/>
                  </a:lnTo>
                  <a:lnTo>
                    <a:pt x="136" y="154"/>
                  </a:lnTo>
                  <a:lnTo>
                    <a:pt x="76" y="154"/>
                  </a:lnTo>
                  <a:lnTo>
                    <a:pt x="12" y="154"/>
                  </a:lnTo>
                  <a:lnTo>
                    <a:pt x="24" y="167"/>
                  </a:lnTo>
                  <a:lnTo>
                    <a:pt x="12" y="154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1" y="162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5"/>
                  </a:lnTo>
                  <a:lnTo>
                    <a:pt x="7" y="177"/>
                  </a:lnTo>
                  <a:lnTo>
                    <a:pt x="12" y="178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55920" y="3383280"/>
              <a:ext cx="12600" cy="7452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27" y="0"/>
                  </a:moveTo>
                  <a:lnTo>
                    <a:pt x="16" y="11"/>
                  </a:lnTo>
                  <a:lnTo>
                    <a:pt x="0" y="232"/>
                  </a:lnTo>
                  <a:lnTo>
                    <a:pt x="24" y="233"/>
                  </a:lnTo>
                  <a:lnTo>
                    <a:pt x="40" y="13"/>
                  </a:lnTo>
                  <a:lnTo>
                    <a:pt x="27" y="0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6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63840" y="3360960"/>
              <a:ext cx="55800" cy="30240"/>
            </a:xfrm>
            <a:custGeom>
              <a:avLst/>
              <a:gdLst/>
              <a:ahLst/>
              <a:rect l="l" t="t" r="r" b="b"/>
              <a:pathLst>
                <a:path w="174" h="97">
                  <a:moveTo>
                    <a:pt x="162" y="24"/>
                  </a:moveTo>
                  <a:lnTo>
                    <a:pt x="162" y="0"/>
                  </a:lnTo>
                  <a:lnTo>
                    <a:pt x="150" y="1"/>
                  </a:lnTo>
                  <a:lnTo>
                    <a:pt x="138" y="4"/>
                  </a:lnTo>
                  <a:lnTo>
                    <a:pt x="127" y="8"/>
                  </a:lnTo>
                  <a:lnTo>
                    <a:pt x="117" y="14"/>
                  </a:lnTo>
                  <a:lnTo>
                    <a:pt x="98" y="25"/>
                  </a:lnTo>
                  <a:lnTo>
                    <a:pt x="80" y="39"/>
                  </a:lnTo>
                  <a:lnTo>
                    <a:pt x="62" y="53"/>
                  </a:lnTo>
                  <a:lnTo>
                    <a:pt x="42" y="63"/>
                  </a:lnTo>
                  <a:lnTo>
                    <a:pt x="33" y="67"/>
                  </a:lnTo>
                  <a:lnTo>
                    <a:pt x="23" y="71"/>
                  </a:lnTo>
                  <a:lnTo>
                    <a:pt x="12" y="72"/>
                  </a:lnTo>
                  <a:lnTo>
                    <a:pt x="0" y="73"/>
                  </a:lnTo>
                  <a:lnTo>
                    <a:pt x="0" y="97"/>
                  </a:lnTo>
                  <a:lnTo>
                    <a:pt x="15" y="96"/>
                  </a:lnTo>
                  <a:lnTo>
                    <a:pt x="29" y="94"/>
                  </a:lnTo>
                  <a:lnTo>
                    <a:pt x="41" y="90"/>
                  </a:lnTo>
                  <a:lnTo>
                    <a:pt x="54" y="84"/>
                  </a:lnTo>
                  <a:lnTo>
                    <a:pt x="76" y="72"/>
                  </a:lnTo>
                  <a:lnTo>
                    <a:pt x="94" y="58"/>
                  </a:lnTo>
                  <a:lnTo>
                    <a:pt x="112" y="46"/>
                  </a:lnTo>
                  <a:lnTo>
                    <a:pt x="129" y="34"/>
                  </a:lnTo>
                  <a:lnTo>
                    <a:pt x="137" y="30"/>
                  </a:lnTo>
                  <a:lnTo>
                    <a:pt x="145" y="27"/>
                  </a:lnTo>
                  <a:lnTo>
                    <a:pt x="153" y="25"/>
                  </a:lnTo>
                  <a:lnTo>
                    <a:pt x="162" y="24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67" y="24"/>
                  </a:lnTo>
                  <a:lnTo>
                    <a:pt x="171" y="21"/>
                  </a:lnTo>
                  <a:lnTo>
                    <a:pt x="174" y="17"/>
                  </a:lnTo>
                  <a:lnTo>
                    <a:pt x="174" y="13"/>
                  </a:lnTo>
                  <a:lnTo>
                    <a:pt x="174" y="8"/>
                  </a:lnTo>
                  <a:lnTo>
                    <a:pt x="171" y="5"/>
                  </a:lnTo>
                  <a:lnTo>
                    <a:pt x="167" y="1"/>
                  </a:lnTo>
                  <a:lnTo>
                    <a:pt x="162" y="0"/>
                  </a:lnTo>
                  <a:lnTo>
                    <a:pt x="162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97320" y="3360960"/>
              <a:ext cx="17280" cy="79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7" y="2"/>
                  </a:moveTo>
                  <a:lnTo>
                    <a:pt x="13" y="24"/>
                  </a:lnTo>
                  <a:lnTo>
                    <a:pt x="58" y="24"/>
                  </a:lnTo>
                  <a:lnTo>
                    <a:pt x="5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087720" y="3219840"/>
              <a:ext cx="236520" cy="190440"/>
            </a:xfrm>
            <a:custGeom>
              <a:avLst/>
              <a:gdLst/>
              <a:ahLst/>
              <a:rect l="l" t="t" r="r" b="b"/>
              <a:pathLst>
                <a:path w="748" h="601">
                  <a:moveTo>
                    <a:pt x="481" y="177"/>
                  </a:moveTo>
                  <a:lnTo>
                    <a:pt x="459" y="153"/>
                  </a:lnTo>
                  <a:lnTo>
                    <a:pt x="435" y="128"/>
                  </a:lnTo>
                  <a:lnTo>
                    <a:pt x="408" y="103"/>
                  </a:lnTo>
                  <a:lnTo>
                    <a:pt x="382" y="80"/>
                  </a:lnTo>
                  <a:lnTo>
                    <a:pt x="369" y="69"/>
                  </a:lnTo>
                  <a:lnTo>
                    <a:pt x="354" y="60"/>
                  </a:lnTo>
                  <a:lnTo>
                    <a:pt x="340" y="51"/>
                  </a:lnTo>
                  <a:lnTo>
                    <a:pt x="324" y="43"/>
                  </a:lnTo>
                  <a:lnTo>
                    <a:pt x="309" y="37"/>
                  </a:lnTo>
                  <a:lnTo>
                    <a:pt x="293" y="33"/>
                  </a:lnTo>
                  <a:lnTo>
                    <a:pt x="277" y="29"/>
                  </a:lnTo>
                  <a:lnTo>
                    <a:pt x="261" y="29"/>
                  </a:lnTo>
                  <a:lnTo>
                    <a:pt x="257" y="62"/>
                  </a:lnTo>
                  <a:lnTo>
                    <a:pt x="255" y="96"/>
                  </a:lnTo>
                  <a:lnTo>
                    <a:pt x="255" y="114"/>
                  </a:lnTo>
                  <a:lnTo>
                    <a:pt x="256" y="131"/>
                  </a:lnTo>
                  <a:lnTo>
                    <a:pt x="257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4"/>
                  </a:lnTo>
                  <a:lnTo>
                    <a:pt x="276" y="209"/>
                  </a:lnTo>
                  <a:lnTo>
                    <a:pt x="284" y="222"/>
                  </a:lnTo>
                  <a:lnTo>
                    <a:pt x="294" y="234"/>
                  </a:lnTo>
                  <a:lnTo>
                    <a:pt x="306" y="247"/>
                  </a:lnTo>
                  <a:lnTo>
                    <a:pt x="318" y="257"/>
                  </a:lnTo>
                  <a:lnTo>
                    <a:pt x="334" y="266"/>
                  </a:lnTo>
                  <a:lnTo>
                    <a:pt x="273" y="267"/>
                  </a:lnTo>
                  <a:lnTo>
                    <a:pt x="219" y="270"/>
                  </a:lnTo>
                  <a:lnTo>
                    <a:pt x="171" y="274"/>
                  </a:lnTo>
                  <a:lnTo>
                    <a:pt x="132" y="281"/>
                  </a:lnTo>
                  <a:lnTo>
                    <a:pt x="96" y="288"/>
                  </a:lnTo>
                  <a:lnTo>
                    <a:pt x="68" y="297"/>
                  </a:lnTo>
                  <a:lnTo>
                    <a:pt x="45" y="307"/>
                  </a:lnTo>
                  <a:lnTo>
                    <a:pt x="27" y="318"/>
                  </a:lnTo>
                  <a:lnTo>
                    <a:pt x="13" y="329"/>
                  </a:lnTo>
                  <a:lnTo>
                    <a:pt x="5" y="340"/>
                  </a:lnTo>
                  <a:lnTo>
                    <a:pt x="0" y="353"/>
                  </a:lnTo>
                  <a:lnTo>
                    <a:pt x="0" y="365"/>
                  </a:lnTo>
                  <a:lnTo>
                    <a:pt x="3" y="378"/>
                  </a:lnTo>
                  <a:lnTo>
                    <a:pt x="10" y="389"/>
                  </a:lnTo>
                  <a:lnTo>
                    <a:pt x="19" y="402"/>
                  </a:lnTo>
                  <a:lnTo>
                    <a:pt x="31" y="413"/>
                  </a:lnTo>
                  <a:lnTo>
                    <a:pt x="46" y="424"/>
                  </a:lnTo>
                  <a:lnTo>
                    <a:pt x="62" y="434"/>
                  </a:lnTo>
                  <a:lnTo>
                    <a:pt x="80" y="442"/>
                  </a:lnTo>
                  <a:lnTo>
                    <a:pt x="101" y="450"/>
                  </a:lnTo>
                  <a:lnTo>
                    <a:pt x="121" y="456"/>
                  </a:lnTo>
                  <a:lnTo>
                    <a:pt x="143" y="460"/>
                  </a:lnTo>
                  <a:lnTo>
                    <a:pt x="165" y="464"/>
                  </a:lnTo>
                  <a:lnTo>
                    <a:pt x="187" y="464"/>
                  </a:lnTo>
                  <a:lnTo>
                    <a:pt x="209" y="462"/>
                  </a:lnTo>
                  <a:lnTo>
                    <a:pt x="231" y="459"/>
                  </a:lnTo>
                  <a:lnTo>
                    <a:pt x="252" y="453"/>
                  </a:lnTo>
                  <a:lnTo>
                    <a:pt x="272" y="445"/>
                  </a:lnTo>
                  <a:lnTo>
                    <a:pt x="290" y="434"/>
                  </a:lnTo>
                  <a:lnTo>
                    <a:pt x="307" y="420"/>
                  </a:lnTo>
                  <a:lnTo>
                    <a:pt x="322" y="403"/>
                  </a:lnTo>
                  <a:lnTo>
                    <a:pt x="334" y="381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4"/>
                  </a:lnTo>
                  <a:lnTo>
                    <a:pt x="378" y="475"/>
                  </a:lnTo>
                  <a:lnTo>
                    <a:pt x="390" y="494"/>
                  </a:lnTo>
                  <a:lnTo>
                    <a:pt x="405" y="513"/>
                  </a:lnTo>
                  <a:lnTo>
                    <a:pt x="420" y="528"/>
                  </a:lnTo>
                  <a:lnTo>
                    <a:pt x="436" y="543"/>
                  </a:lnTo>
                  <a:lnTo>
                    <a:pt x="452" y="557"/>
                  </a:lnTo>
                  <a:lnTo>
                    <a:pt x="469" y="568"/>
                  </a:lnTo>
                  <a:lnTo>
                    <a:pt x="486" y="579"/>
                  </a:lnTo>
                  <a:lnTo>
                    <a:pt x="504" y="587"/>
                  </a:lnTo>
                  <a:lnTo>
                    <a:pt x="521" y="593"/>
                  </a:lnTo>
                  <a:lnTo>
                    <a:pt x="540" y="598"/>
                  </a:lnTo>
                  <a:lnTo>
                    <a:pt x="557" y="600"/>
                  </a:lnTo>
                  <a:lnTo>
                    <a:pt x="574" y="601"/>
                  </a:lnTo>
                  <a:lnTo>
                    <a:pt x="591" y="601"/>
                  </a:lnTo>
                  <a:lnTo>
                    <a:pt x="608" y="599"/>
                  </a:lnTo>
                  <a:lnTo>
                    <a:pt x="624" y="596"/>
                  </a:lnTo>
                  <a:lnTo>
                    <a:pt x="640" y="589"/>
                  </a:lnTo>
                  <a:lnTo>
                    <a:pt x="656" y="582"/>
                  </a:lnTo>
                  <a:lnTo>
                    <a:pt x="669" y="572"/>
                  </a:lnTo>
                  <a:lnTo>
                    <a:pt x="683" y="560"/>
                  </a:lnTo>
                  <a:lnTo>
                    <a:pt x="696" y="547"/>
                  </a:lnTo>
                  <a:lnTo>
                    <a:pt x="707" y="532"/>
                  </a:lnTo>
                  <a:lnTo>
                    <a:pt x="717" y="515"/>
                  </a:lnTo>
                  <a:lnTo>
                    <a:pt x="726" y="495"/>
                  </a:lnTo>
                  <a:lnTo>
                    <a:pt x="733" y="475"/>
                  </a:lnTo>
                  <a:lnTo>
                    <a:pt x="740" y="451"/>
                  </a:lnTo>
                  <a:lnTo>
                    <a:pt x="745" y="426"/>
                  </a:lnTo>
                  <a:lnTo>
                    <a:pt x="747" y="399"/>
                  </a:lnTo>
                  <a:lnTo>
                    <a:pt x="748" y="370"/>
                  </a:lnTo>
                  <a:lnTo>
                    <a:pt x="583" y="354"/>
                  </a:lnTo>
                  <a:lnTo>
                    <a:pt x="584" y="335"/>
                  </a:lnTo>
                  <a:lnTo>
                    <a:pt x="586" y="314"/>
                  </a:lnTo>
                  <a:lnTo>
                    <a:pt x="591" y="293"/>
                  </a:lnTo>
                  <a:lnTo>
                    <a:pt x="595" y="272"/>
                  </a:lnTo>
                  <a:lnTo>
                    <a:pt x="608" y="228"/>
                  </a:lnTo>
                  <a:lnTo>
                    <a:pt x="622" y="182"/>
                  </a:lnTo>
                  <a:lnTo>
                    <a:pt x="635" y="136"/>
                  </a:lnTo>
                  <a:lnTo>
                    <a:pt x="648" y="90"/>
                  </a:lnTo>
                  <a:lnTo>
                    <a:pt x="652" y="67"/>
                  </a:lnTo>
                  <a:lnTo>
                    <a:pt x="656" y="44"/>
                  </a:lnTo>
                  <a:lnTo>
                    <a:pt x="659" y="21"/>
                  </a:lnTo>
                  <a:lnTo>
                    <a:pt x="659" y="0"/>
                  </a:lnTo>
                  <a:lnTo>
                    <a:pt x="648" y="0"/>
                  </a:lnTo>
                  <a:lnTo>
                    <a:pt x="635" y="1"/>
                  </a:lnTo>
                  <a:lnTo>
                    <a:pt x="624" y="3"/>
                  </a:lnTo>
                  <a:lnTo>
                    <a:pt x="612" y="5"/>
                  </a:lnTo>
                  <a:lnTo>
                    <a:pt x="602" y="9"/>
                  </a:lnTo>
                  <a:lnTo>
                    <a:pt x="592" y="13"/>
                  </a:lnTo>
                  <a:lnTo>
                    <a:pt x="583" y="18"/>
                  </a:lnTo>
                  <a:lnTo>
                    <a:pt x="574" y="23"/>
                  </a:lnTo>
                  <a:lnTo>
                    <a:pt x="555" y="35"/>
                  </a:lnTo>
                  <a:lnTo>
                    <a:pt x="541" y="47"/>
                  </a:lnTo>
                  <a:lnTo>
                    <a:pt x="527" y="62"/>
                  </a:lnTo>
                  <a:lnTo>
                    <a:pt x="514" y="77"/>
                  </a:lnTo>
                  <a:lnTo>
                    <a:pt x="504" y="93"/>
                  </a:lnTo>
                  <a:lnTo>
                    <a:pt x="495" y="108"/>
                  </a:lnTo>
                  <a:lnTo>
                    <a:pt x="488" y="123"/>
                  </a:lnTo>
                  <a:lnTo>
                    <a:pt x="484" y="137"/>
                  </a:lnTo>
                  <a:lnTo>
                    <a:pt x="480" y="150"/>
                  </a:lnTo>
                  <a:lnTo>
                    <a:pt x="479" y="161"/>
                  </a:lnTo>
                  <a:lnTo>
                    <a:pt x="479" y="171"/>
                  </a:lnTo>
                  <a:lnTo>
                    <a:pt x="481" y="177"/>
                  </a:lnTo>
                  <a:close/>
                </a:path>
              </a:pathLst>
            </a:custGeom>
            <a:solidFill>
              <a:srgbClr val="575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165480" y="3224520"/>
              <a:ext cx="76320" cy="54000"/>
            </a:xfrm>
            <a:custGeom>
              <a:avLst/>
              <a:gdLst/>
              <a:ahLst/>
              <a:rect l="l" t="t" r="r" b="b"/>
              <a:pathLst>
                <a:path w="240" h="169">
                  <a:moveTo>
                    <a:pt x="24" y="13"/>
                  </a:moveTo>
                  <a:lnTo>
                    <a:pt x="12" y="24"/>
                  </a:lnTo>
                  <a:lnTo>
                    <a:pt x="27" y="25"/>
                  </a:lnTo>
                  <a:lnTo>
                    <a:pt x="42" y="27"/>
                  </a:lnTo>
                  <a:lnTo>
                    <a:pt x="56" y="32"/>
                  </a:lnTo>
                  <a:lnTo>
                    <a:pt x="71" y="37"/>
                  </a:lnTo>
                  <a:lnTo>
                    <a:pt x="84" y="44"/>
                  </a:lnTo>
                  <a:lnTo>
                    <a:pt x="99" y="53"/>
                  </a:lnTo>
                  <a:lnTo>
                    <a:pt x="113" y="62"/>
                  </a:lnTo>
                  <a:lnTo>
                    <a:pt x="125" y="73"/>
                  </a:lnTo>
                  <a:lnTo>
                    <a:pt x="151" y="95"/>
                  </a:lnTo>
                  <a:lnTo>
                    <a:pt x="177" y="120"/>
                  </a:lnTo>
                  <a:lnTo>
                    <a:pt x="200" y="146"/>
                  </a:lnTo>
                  <a:lnTo>
                    <a:pt x="223" y="169"/>
                  </a:lnTo>
                  <a:lnTo>
                    <a:pt x="240" y="152"/>
                  </a:lnTo>
                  <a:lnTo>
                    <a:pt x="219" y="128"/>
                  </a:lnTo>
                  <a:lnTo>
                    <a:pt x="194" y="103"/>
                  </a:lnTo>
                  <a:lnTo>
                    <a:pt x="169" y="78"/>
                  </a:lnTo>
                  <a:lnTo>
                    <a:pt x="141" y="54"/>
                  </a:lnTo>
                  <a:lnTo>
                    <a:pt x="126" y="43"/>
                  </a:lnTo>
                  <a:lnTo>
                    <a:pt x="112" y="33"/>
                  </a:lnTo>
                  <a:lnTo>
                    <a:pt x="97" y="24"/>
                  </a:lnTo>
                  <a:lnTo>
                    <a:pt x="81" y="16"/>
                  </a:lnTo>
                  <a:lnTo>
                    <a:pt x="64" y="9"/>
                  </a:lnTo>
                  <a:lnTo>
                    <a:pt x="48" y="4"/>
                  </a:lnTo>
                  <a:lnTo>
                    <a:pt x="30" y="1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2" y="24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164040" y="3227760"/>
              <a:ext cx="33120" cy="81000"/>
            </a:xfrm>
            <a:custGeom>
              <a:avLst/>
              <a:gdLst/>
              <a:ahLst/>
              <a:rect l="l" t="t" r="r" b="b"/>
              <a:pathLst>
                <a:path w="104" h="251">
                  <a:moveTo>
                    <a:pt x="92" y="251"/>
                  </a:moveTo>
                  <a:lnTo>
                    <a:pt x="98" y="228"/>
                  </a:lnTo>
                  <a:lnTo>
                    <a:pt x="83" y="220"/>
                  </a:lnTo>
                  <a:lnTo>
                    <a:pt x="72" y="211"/>
                  </a:lnTo>
                  <a:lnTo>
                    <a:pt x="60" y="199"/>
                  </a:lnTo>
                  <a:lnTo>
                    <a:pt x="52" y="188"/>
                  </a:lnTo>
                  <a:lnTo>
                    <a:pt x="45" y="177"/>
                  </a:lnTo>
                  <a:lnTo>
                    <a:pt x="39" y="163"/>
                  </a:lnTo>
                  <a:lnTo>
                    <a:pt x="33" y="149"/>
                  </a:lnTo>
                  <a:lnTo>
                    <a:pt x="30" y="134"/>
                  </a:lnTo>
                  <a:lnTo>
                    <a:pt x="27" y="118"/>
                  </a:lnTo>
                  <a:lnTo>
                    <a:pt x="25" y="102"/>
                  </a:lnTo>
                  <a:lnTo>
                    <a:pt x="25" y="87"/>
                  </a:lnTo>
                  <a:lnTo>
                    <a:pt x="25" y="71"/>
                  </a:lnTo>
                  <a:lnTo>
                    <a:pt x="27" y="36"/>
                  </a:lnTo>
                  <a:lnTo>
                    <a:pt x="31" y="3"/>
                  </a:lnTo>
                  <a:lnTo>
                    <a:pt x="7" y="0"/>
                  </a:lnTo>
                  <a:lnTo>
                    <a:pt x="2" y="34"/>
                  </a:lnTo>
                  <a:lnTo>
                    <a:pt x="0" y="69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3" y="122"/>
                  </a:lnTo>
                  <a:lnTo>
                    <a:pt x="6" y="139"/>
                  </a:lnTo>
                  <a:lnTo>
                    <a:pt x="10" y="156"/>
                  </a:lnTo>
                  <a:lnTo>
                    <a:pt x="16" y="172"/>
                  </a:lnTo>
                  <a:lnTo>
                    <a:pt x="23" y="187"/>
                  </a:lnTo>
                  <a:lnTo>
                    <a:pt x="32" y="202"/>
                  </a:lnTo>
                  <a:lnTo>
                    <a:pt x="43" y="215"/>
                  </a:lnTo>
                  <a:lnTo>
                    <a:pt x="56" y="229"/>
                  </a:lnTo>
                  <a:lnTo>
                    <a:pt x="70" y="239"/>
                  </a:lnTo>
                  <a:lnTo>
                    <a:pt x="87" y="250"/>
                  </a:lnTo>
                  <a:lnTo>
                    <a:pt x="92" y="227"/>
                  </a:lnTo>
                  <a:lnTo>
                    <a:pt x="87" y="250"/>
                  </a:lnTo>
                  <a:lnTo>
                    <a:pt x="91" y="251"/>
                  </a:lnTo>
                  <a:lnTo>
                    <a:pt x="96" y="251"/>
                  </a:lnTo>
                  <a:lnTo>
                    <a:pt x="100" y="248"/>
                  </a:lnTo>
                  <a:lnTo>
                    <a:pt x="103" y="245"/>
                  </a:lnTo>
                  <a:lnTo>
                    <a:pt x="104" y="240"/>
                  </a:lnTo>
                  <a:lnTo>
                    <a:pt x="104" y="236"/>
                  </a:lnTo>
                  <a:lnTo>
                    <a:pt x="101" y="231"/>
                  </a:lnTo>
                  <a:lnTo>
                    <a:pt x="98" y="228"/>
                  </a:lnTo>
                  <a:lnTo>
                    <a:pt x="92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083040" y="3300840"/>
              <a:ext cx="114120" cy="69840"/>
            </a:xfrm>
            <a:custGeom>
              <a:avLst/>
              <a:gdLst/>
              <a:ahLst/>
              <a:rect l="l" t="t" r="r" b="b"/>
              <a:pathLst>
                <a:path w="358" h="222">
                  <a:moveTo>
                    <a:pt x="358" y="124"/>
                  </a:moveTo>
                  <a:lnTo>
                    <a:pt x="335" y="123"/>
                  </a:lnTo>
                  <a:lnTo>
                    <a:pt x="329" y="132"/>
                  </a:lnTo>
                  <a:lnTo>
                    <a:pt x="324" y="141"/>
                  </a:lnTo>
                  <a:lnTo>
                    <a:pt x="318" y="150"/>
                  </a:lnTo>
                  <a:lnTo>
                    <a:pt x="311" y="157"/>
                  </a:lnTo>
                  <a:lnTo>
                    <a:pt x="303" y="164"/>
                  </a:lnTo>
                  <a:lnTo>
                    <a:pt x="295" y="170"/>
                  </a:lnTo>
                  <a:lnTo>
                    <a:pt x="287" y="175"/>
                  </a:lnTo>
                  <a:lnTo>
                    <a:pt x="278" y="180"/>
                  </a:lnTo>
                  <a:lnTo>
                    <a:pt x="269" y="184"/>
                  </a:lnTo>
                  <a:lnTo>
                    <a:pt x="260" y="188"/>
                  </a:lnTo>
                  <a:lnTo>
                    <a:pt x="251" y="191"/>
                  </a:lnTo>
                  <a:lnTo>
                    <a:pt x="240" y="194"/>
                  </a:lnTo>
                  <a:lnTo>
                    <a:pt x="230" y="196"/>
                  </a:lnTo>
                  <a:lnTo>
                    <a:pt x="220" y="197"/>
                  </a:lnTo>
                  <a:lnTo>
                    <a:pt x="210" y="198"/>
                  </a:lnTo>
                  <a:lnTo>
                    <a:pt x="199" y="198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7" y="190"/>
                  </a:lnTo>
                  <a:lnTo>
                    <a:pt x="116" y="184"/>
                  </a:lnTo>
                  <a:lnTo>
                    <a:pt x="98" y="176"/>
                  </a:lnTo>
                  <a:lnTo>
                    <a:pt x="80" y="168"/>
                  </a:lnTo>
                  <a:lnTo>
                    <a:pt x="65" y="159"/>
                  </a:lnTo>
                  <a:lnTo>
                    <a:pt x="51" y="149"/>
                  </a:lnTo>
                  <a:lnTo>
                    <a:pt x="46" y="145"/>
                  </a:lnTo>
                  <a:lnTo>
                    <a:pt x="40" y="139"/>
                  </a:lnTo>
                  <a:lnTo>
                    <a:pt x="35" y="134"/>
                  </a:lnTo>
                  <a:lnTo>
                    <a:pt x="32" y="129"/>
                  </a:lnTo>
                  <a:lnTo>
                    <a:pt x="28" y="124"/>
                  </a:lnTo>
                  <a:lnTo>
                    <a:pt x="26" y="119"/>
                  </a:lnTo>
                  <a:lnTo>
                    <a:pt x="25" y="115"/>
                  </a:lnTo>
                  <a:lnTo>
                    <a:pt x="24" y="110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31" y="88"/>
                  </a:lnTo>
                  <a:lnTo>
                    <a:pt x="34" y="83"/>
                  </a:lnTo>
                  <a:lnTo>
                    <a:pt x="40" y="78"/>
                  </a:lnTo>
                  <a:lnTo>
                    <a:pt x="46" y="74"/>
                  </a:lnTo>
                  <a:lnTo>
                    <a:pt x="53" y="68"/>
                  </a:lnTo>
                  <a:lnTo>
                    <a:pt x="63" y="64"/>
                  </a:lnTo>
                  <a:lnTo>
                    <a:pt x="73" y="59"/>
                  </a:lnTo>
                  <a:lnTo>
                    <a:pt x="84" y="54"/>
                  </a:lnTo>
                  <a:lnTo>
                    <a:pt x="97" y="50"/>
                  </a:lnTo>
                  <a:lnTo>
                    <a:pt x="112" y="45"/>
                  </a:lnTo>
                  <a:lnTo>
                    <a:pt x="128" y="42"/>
                  </a:lnTo>
                  <a:lnTo>
                    <a:pt x="146" y="39"/>
                  </a:lnTo>
                  <a:lnTo>
                    <a:pt x="165" y="35"/>
                  </a:lnTo>
                  <a:lnTo>
                    <a:pt x="186" y="33"/>
                  </a:lnTo>
                  <a:lnTo>
                    <a:pt x="207" y="31"/>
                  </a:lnTo>
                  <a:lnTo>
                    <a:pt x="232" y="28"/>
                  </a:lnTo>
                  <a:lnTo>
                    <a:pt x="285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5" y="1"/>
                  </a:lnTo>
                  <a:lnTo>
                    <a:pt x="230" y="4"/>
                  </a:lnTo>
                  <a:lnTo>
                    <a:pt x="205" y="5"/>
                  </a:lnTo>
                  <a:lnTo>
                    <a:pt x="182" y="9"/>
                  </a:lnTo>
                  <a:lnTo>
                    <a:pt x="161" y="11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0" y="27"/>
                  </a:lnTo>
                  <a:lnTo>
                    <a:pt x="76" y="32"/>
                  </a:lnTo>
                  <a:lnTo>
                    <a:pt x="63" y="36"/>
                  </a:lnTo>
                  <a:lnTo>
                    <a:pt x="51" y="42"/>
                  </a:lnTo>
                  <a:lnTo>
                    <a:pt x="41" y="48"/>
                  </a:lnTo>
                  <a:lnTo>
                    <a:pt x="32" y="53"/>
                  </a:lnTo>
                  <a:lnTo>
                    <a:pt x="24" y="60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2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1" y="142"/>
                  </a:lnTo>
                  <a:lnTo>
                    <a:pt x="17" y="149"/>
                  </a:lnTo>
                  <a:lnTo>
                    <a:pt x="23" y="156"/>
                  </a:lnTo>
                  <a:lnTo>
                    <a:pt x="28" y="163"/>
                  </a:lnTo>
                  <a:lnTo>
                    <a:pt x="36" y="168"/>
                  </a:lnTo>
                  <a:lnTo>
                    <a:pt x="51" y="180"/>
                  </a:lnTo>
                  <a:lnTo>
                    <a:pt x="68" y="190"/>
                  </a:lnTo>
                  <a:lnTo>
                    <a:pt x="88" y="199"/>
                  </a:lnTo>
                  <a:lnTo>
                    <a:pt x="108" y="207"/>
                  </a:lnTo>
                  <a:lnTo>
                    <a:pt x="130" y="213"/>
                  </a:lnTo>
                  <a:lnTo>
                    <a:pt x="153" y="219"/>
                  </a:lnTo>
                  <a:lnTo>
                    <a:pt x="177" y="221"/>
                  </a:lnTo>
                  <a:lnTo>
                    <a:pt x="199" y="222"/>
                  </a:lnTo>
                  <a:lnTo>
                    <a:pt x="211" y="222"/>
                  </a:lnTo>
                  <a:lnTo>
                    <a:pt x="223" y="221"/>
                  </a:lnTo>
                  <a:lnTo>
                    <a:pt x="235" y="220"/>
                  </a:lnTo>
                  <a:lnTo>
                    <a:pt x="246" y="217"/>
                  </a:lnTo>
                  <a:lnTo>
                    <a:pt x="257" y="214"/>
                  </a:lnTo>
                  <a:lnTo>
                    <a:pt x="268" y="211"/>
                  </a:lnTo>
                  <a:lnTo>
                    <a:pt x="279" y="207"/>
                  </a:lnTo>
                  <a:lnTo>
                    <a:pt x="289" y="202"/>
                  </a:lnTo>
                  <a:lnTo>
                    <a:pt x="300" y="196"/>
                  </a:lnTo>
                  <a:lnTo>
                    <a:pt x="310" y="190"/>
                  </a:lnTo>
                  <a:lnTo>
                    <a:pt x="319" y="182"/>
                  </a:lnTo>
                  <a:lnTo>
                    <a:pt x="327" y="174"/>
                  </a:lnTo>
                  <a:lnTo>
                    <a:pt x="336" y="165"/>
                  </a:lnTo>
                  <a:lnTo>
                    <a:pt x="343" y="156"/>
                  </a:lnTo>
                  <a:lnTo>
                    <a:pt x="351" y="145"/>
                  </a:lnTo>
                  <a:lnTo>
                    <a:pt x="357" y="133"/>
                  </a:lnTo>
                  <a:lnTo>
                    <a:pt x="335" y="132"/>
                  </a:lnTo>
                  <a:lnTo>
                    <a:pt x="357" y="133"/>
                  </a:lnTo>
                  <a:lnTo>
                    <a:pt x="358" y="129"/>
                  </a:lnTo>
                  <a:lnTo>
                    <a:pt x="358" y="124"/>
                  </a:lnTo>
                  <a:lnTo>
                    <a:pt x="355" y="119"/>
                  </a:lnTo>
                  <a:lnTo>
                    <a:pt x="351" y="117"/>
                  </a:lnTo>
                  <a:lnTo>
                    <a:pt x="348" y="116"/>
                  </a:lnTo>
                  <a:lnTo>
                    <a:pt x="343" y="116"/>
                  </a:lnTo>
                  <a:lnTo>
                    <a:pt x="338" y="118"/>
                  </a:lnTo>
                  <a:lnTo>
                    <a:pt x="335" y="123"/>
                  </a:lnTo>
                  <a:lnTo>
                    <a:pt x="358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189240" y="3332520"/>
              <a:ext cx="138240" cy="82440"/>
            </a:xfrm>
            <a:custGeom>
              <a:avLst/>
              <a:gdLst/>
              <a:ahLst/>
              <a:rect l="l" t="t" r="r" b="b"/>
              <a:pathLst>
                <a:path w="436" h="257">
                  <a:moveTo>
                    <a:pt x="424" y="24"/>
                  </a:moveTo>
                  <a:lnTo>
                    <a:pt x="413" y="13"/>
                  </a:lnTo>
                  <a:lnTo>
                    <a:pt x="411" y="42"/>
                  </a:lnTo>
                  <a:lnTo>
                    <a:pt x="409" y="68"/>
                  </a:lnTo>
                  <a:lnTo>
                    <a:pt x="405" y="92"/>
                  </a:lnTo>
                  <a:lnTo>
                    <a:pt x="399" y="113"/>
                  </a:lnTo>
                  <a:lnTo>
                    <a:pt x="392" y="134"/>
                  </a:lnTo>
                  <a:lnTo>
                    <a:pt x="384" y="152"/>
                  </a:lnTo>
                  <a:lnTo>
                    <a:pt x="374" y="168"/>
                  </a:lnTo>
                  <a:lnTo>
                    <a:pt x="364" y="183"/>
                  </a:lnTo>
                  <a:lnTo>
                    <a:pt x="352" y="194"/>
                  </a:lnTo>
                  <a:lnTo>
                    <a:pt x="340" y="206"/>
                  </a:lnTo>
                  <a:lnTo>
                    <a:pt x="326" y="214"/>
                  </a:lnTo>
                  <a:lnTo>
                    <a:pt x="312" y="222"/>
                  </a:lnTo>
                  <a:lnTo>
                    <a:pt x="297" y="226"/>
                  </a:lnTo>
                  <a:lnTo>
                    <a:pt x="283" y="231"/>
                  </a:lnTo>
                  <a:lnTo>
                    <a:pt x="268" y="232"/>
                  </a:lnTo>
                  <a:lnTo>
                    <a:pt x="252" y="233"/>
                  </a:lnTo>
                  <a:lnTo>
                    <a:pt x="235" y="232"/>
                  </a:lnTo>
                  <a:lnTo>
                    <a:pt x="219" y="228"/>
                  </a:lnTo>
                  <a:lnTo>
                    <a:pt x="202" y="224"/>
                  </a:lnTo>
                  <a:lnTo>
                    <a:pt x="186" y="218"/>
                  </a:lnTo>
                  <a:lnTo>
                    <a:pt x="169" y="210"/>
                  </a:lnTo>
                  <a:lnTo>
                    <a:pt x="153" y="201"/>
                  </a:lnTo>
                  <a:lnTo>
                    <a:pt x="137" y="190"/>
                  </a:lnTo>
                  <a:lnTo>
                    <a:pt x="121" y="177"/>
                  </a:lnTo>
                  <a:lnTo>
                    <a:pt x="106" y="164"/>
                  </a:lnTo>
                  <a:lnTo>
                    <a:pt x="91" y="148"/>
                  </a:lnTo>
                  <a:lnTo>
                    <a:pt x="77" y="130"/>
                  </a:lnTo>
                  <a:lnTo>
                    <a:pt x="64" y="112"/>
                  </a:lnTo>
                  <a:lnTo>
                    <a:pt x="52" y="92"/>
                  </a:lnTo>
                  <a:lnTo>
                    <a:pt x="41" y="70"/>
                  </a:lnTo>
                  <a:lnTo>
                    <a:pt x="31" y="46"/>
                  </a:lnTo>
                  <a:lnTo>
                    <a:pt x="23" y="21"/>
                  </a:lnTo>
                  <a:lnTo>
                    <a:pt x="0" y="29"/>
                  </a:lnTo>
                  <a:lnTo>
                    <a:pt x="9" y="55"/>
                  </a:lnTo>
                  <a:lnTo>
                    <a:pt x="19" y="79"/>
                  </a:lnTo>
                  <a:lnTo>
                    <a:pt x="31" y="103"/>
                  </a:lnTo>
                  <a:lnTo>
                    <a:pt x="44" y="125"/>
                  </a:lnTo>
                  <a:lnTo>
                    <a:pt x="58" y="145"/>
                  </a:lnTo>
                  <a:lnTo>
                    <a:pt x="73" y="164"/>
                  </a:lnTo>
                  <a:lnTo>
                    <a:pt x="89" y="181"/>
                  </a:lnTo>
                  <a:lnTo>
                    <a:pt x="105" y="195"/>
                  </a:lnTo>
                  <a:lnTo>
                    <a:pt x="122" y="209"/>
                  </a:lnTo>
                  <a:lnTo>
                    <a:pt x="140" y="222"/>
                  </a:lnTo>
                  <a:lnTo>
                    <a:pt x="157" y="232"/>
                  </a:lnTo>
                  <a:lnTo>
                    <a:pt x="177" y="241"/>
                  </a:lnTo>
                  <a:lnTo>
                    <a:pt x="195" y="248"/>
                  </a:lnTo>
                  <a:lnTo>
                    <a:pt x="213" y="252"/>
                  </a:lnTo>
                  <a:lnTo>
                    <a:pt x="232" y="256"/>
                  </a:lnTo>
                  <a:lnTo>
                    <a:pt x="251" y="257"/>
                  </a:lnTo>
                  <a:lnTo>
                    <a:pt x="269" y="257"/>
                  </a:lnTo>
                  <a:lnTo>
                    <a:pt x="287" y="255"/>
                  </a:lnTo>
                  <a:lnTo>
                    <a:pt x="305" y="250"/>
                  </a:lnTo>
                  <a:lnTo>
                    <a:pt x="323" y="243"/>
                  </a:lnTo>
                  <a:lnTo>
                    <a:pt x="338" y="235"/>
                  </a:lnTo>
                  <a:lnTo>
                    <a:pt x="354" y="225"/>
                  </a:lnTo>
                  <a:lnTo>
                    <a:pt x="368" y="213"/>
                  </a:lnTo>
                  <a:lnTo>
                    <a:pt x="382" y="198"/>
                  </a:lnTo>
                  <a:lnTo>
                    <a:pt x="394" y="182"/>
                  </a:lnTo>
                  <a:lnTo>
                    <a:pt x="405" y="164"/>
                  </a:lnTo>
                  <a:lnTo>
                    <a:pt x="415" y="143"/>
                  </a:lnTo>
                  <a:lnTo>
                    <a:pt x="423" y="121"/>
                  </a:lnTo>
                  <a:lnTo>
                    <a:pt x="429" y="97"/>
                  </a:lnTo>
                  <a:lnTo>
                    <a:pt x="433" y="71"/>
                  </a:lnTo>
                  <a:lnTo>
                    <a:pt x="436" y="43"/>
                  </a:lnTo>
                  <a:lnTo>
                    <a:pt x="436" y="13"/>
                  </a:lnTo>
                  <a:lnTo>
                    <a:pt x="426" y="0"/>
                  </a:lnTo>
                  <a:lnTo>
                    <a:pt x="436" y="13"/>
                  </a:lnTo>
                  <a:lnTo>
                    <a:pt x="436" y="7"/>
                  </a:lnTo>
                  <a:lnTo>
                    <a:pt x="433" y="4"/>
                  </a:lnTo>
                  <a:lnTo>
                    <a:pt x="430" y="2"/>
                  </a:lnTo>
                  <a:lnTo>
                    <a:pt x="425" y="0"/>
                  </a:lnTo>
                  <a:lnTo>
                    <a:pt x="421" y="2"/>
                  </a:lnTo>
                  <a:lnTo>
                    <a:pt x="417" y="4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68800" y="3329280"/>
              <a:ext cx="55440" cy="11160"/>
            </a:xfrm>
            <a:custGeom>
              <a:avLst/>
              <a:gdLst/>
              <a:ahLst/>
              <a:rect l="l" t="t" r="r" b="b"/>
              <a:pathLst>
                <a:path w="178" h="38">
                  <a:moveTo>
                    <a:pt x="0" y="11"/>
                  </a:moveTo>
                  <a:lnTo>
                    <a:pt x="11" y="24"/>
                  </a:lnTo>
                  <a:lnTo>
                    <a:pt x="176" y="38"/>
                  </a:lnTo>
                  <a:lnTo>
                    <a:pt x="178" y="14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9"/>
                  </a:lnTo>
                  <a:lnTo>
                    <a:pt x="6" y="21"/>
                  </a:lnTo>
                  <a:lnTo>
                    <a:pt x="11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68800" y="321480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7">
                  <a:moveTo>
                    <a:pt x="88" y="24"/>
                  </a:moveTo>
                  <a:lnTo>
                    <a:pt x="77" y="13"/>
                  </a:lnTo>
                  <a:lnTo>
                    <a:pt x="76" y="33"/>
                  </a:lnTo>
                  <a:lnTo>
                    <a:pt x="73" y="56"/>
                  </a:lnTo>
                  <a:lnTo>
                    <a:pt x="70" y="78"/>
                  </a:lnTo>
                  <a:lnTo>
                    <a:pt x="65" y="100"/>
                  </a:lnTo>
                  <a:lnTo>
                    <a:pt x="53" y="146"/>
                  </a:lnTo>
                  <a:lnTo>
                    <a:pt x="39" y="192"/>
                  </a:lnTo>
                  <a:lnTo>
                    <a:pt x="24" y="237"/>
                  </a:lnTo>
                  <a:lnTo>
                    <a:pt x="13" y="282"/>
                  </a:lnTo>
                  <a:lnTo>
                    <a:pt x="7" y="303"/>
                  </a:lnTo>
                  <a:lnTo>
                    <a:pt x="4" y="325"/>
                  </a:lnTo>
                  <a:lnTo>
                    <a:pt x="2" y="347"/>
                  </a:lnTo>
                  <a:lnTo>
                    <a:pt x="0" y="367"/>
                  </a:lnTo>
                  <a:lnTo>
                    <a:pt x="24" y="367"/>
                  </a:lnTo>
                  <a:lnTo>
                    <a:pt x="26" y="349"/>
                  </a:lnTo>
                  <a:lnTo>
                    <a:pt x="28" y="328"/>
                  </a:lnTo>
                  <a:lnTo>
                    <a:pt x="31" y="309"/>
                  </a:lnTo>
                  <a:lnTo>
                    <a:pt x="36" y="287"/>
                  </a:lnTo>
                  <a:lnTo>
                    <a:pt x="48" y="244"/>
                  </a:lnTo>
                  <a:lnTo>
                    <a:pt x="62" y="198"/>
                  </a:lnTo>
                  <a:lnTo>
                    <a:pt x="76" y="152"/>
                  </a:lnTo>
                  <a:lnTo>
                    <a:pt x="88" y="106"/>
                  </a:lnTo>
                  <a:lnTo>
                    <a:pt x="94" y="82"/>
                  </a:lnTo>
                  <a:lnTo>
                    <a:pt x="97" y="58"/>
                  </a:lnTo>
                  <a:lnTo>
                    <a:pt x="100" y="35"/>
                  </a:lnTo>
                  <a:lnTo>
                    <a:pt x="101" y="13"/>
                  </a:lnTo>
                  <a:lnTo>
                    <a:pt x="88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3"/>
                  </a:lnTo>
                  <a:lnTo>
                    <a:pt x="88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35320" y="3214800"/>
              <a:ext cx="60480" cy="6516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5" y="199"/>
                  </a:moveTo>
                  <a:lnTo>
                    <a:pt x="25" y="185"/>
                  </a:lnTo>
                  <a:lnTo>
                    <a:pt x="25" y="182"/>
                  </a:lnTo>
                  <a:lnTo>
                    <a:pt x="24" y="176"/>
                  </a:lnTo>
                  <a:lnTo>
                    <a:pt x="26" y="165"/>
                  </a:lnTo>
                  <a:lnTo>
                    <a:pt x="28" y="154"/>
                  </a:lnTo>
                  <a:lnTo>
                    <a:pt x="33" y="140"/>
                  </a:lnTo>
                  <a:lnTo>
                    <a:pt x="39" y="127"/>
                  </a:lnTo>
                  <a:lnTo>
                    <a:pt x="47" y="112"/>
                  </a:lnTo>
                  <a:lnTo>
                    <a:pt x="58" y="98"/>
                  </a:lnTo>
                  <a:lnTo>
                    <a:pt x="69" y="83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2" y="46"/>
                  </a:lnTo>
                  <a:lnTo>
                    <a:pt x="122" y="41"/>
                  </a:lnTo>
                  <a:lnTo>
                    <a:pt x="131" y="38"/>
                  </a:lnTo>
                  <a:lnTo>
                    <a:pt x="140" y="33"/>
                  </a:lnTo>
                  <a:lnTo>
                    <a:pt x="149" y="31"/>
                  </a:lnTo>
                  <a:lnTo>
                    <a:pt x="159" y="27"/>
                  </a:lnTo>
                  <a:lnTo>
                    <a:pt x="171" y="26"/>
                  </a:lnTo>
                  <a:lnTo>
                    <a:pt x="181" y="25"/>
                  </a:lnTo>
                  <a:lnTo>
                    <a:pt x="192" y="24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67" y="2"/>
                  </a:lnTo>
                  <a:lnTo>
                    <a:pt x="155" y="5"/>
                  </a:lnTo>
                  <a:lnTo>
                    <a:pt x="143" y="7"/>
                  </a:lnTo>
                  <a:lnTo>
                    <a:pt x="132" y="10"/>
                  </a:lnTo>
                  <a:lnTo>
                    <a:pt x="120" y="15"/>
                  </a:lnTo>
                  <a:lnTo>
                    <a:pt x="110" y="21"/>
                  </a:lnTo>
                  <a:lnTo>
                    <a:pt x="100" y="26"/>
                  </a:lnTo>
                  <a:lnTo>
                    <a:pt x="82" y="38"/>
                  </a:lnTo>
                  <a:lnTo>
                    <a:pt x="66" y="52"/>
                  </a:lnTo>
                  <a:lnTo>
                    <a:pt x="51" y="67"/>
                  </a:lnTo>
                  <a:lnTo>
                    <a:pt x="38" y="83"/>
                  </a:lnTo>
                  <a:lnTo>
                    <a:pt x="27" y="99"/>
                  </a:lnTo>
                  <a:lnTo>
                    <a:pt x="18" y="116"/>
                  </a:lnTo>
                  <a:lnTo>
                    <a:pt x="11" y="131"/>
                  </a:lnTo>
                  <a:lnTo>
                    <a:pt x="5" y="147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6"/>
                  </a:lnTo>
                  <a:lnTo>
                    <a:pt x="22" y="182"/>
                  </a:lnTo>
                  <a:lnTo>
                    <a:pt x="3" y="196"/>
                  </a:lnTo>
                  <a:lnTo>
                    <a:pt x="6" y="201"/>
                  </a:lnTo>
                  <a:lnTo>
                    <a:pt x="11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4" y="198"/>
                  </a:lnTo>
                  <a:lnTo>
                    <a:pt x="26" y="195"/>
                  </a:lnTo>
                  <a:lnTo>
                    <a:pt x="27" y="190"/>
                  </a:lnTo>
                  <a:lnTo>
                    <a:pt x="25" y="185"/>
                  </a:lnTo>
                  <a:lnTo>
                    <a:pt x="5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46400" y="3249720"/>
              <a:ext cx="236520" cy="190800"/>
            </a:xfrm>
            <a:custGeom>
              <a:avLst/>
              <a:gdLst/>
              <a:ahLst/>
              <a:rect l="l" t="t" r="r" b="b"/>
              <a:pathLst>
                <a:path w="748" h="603">
                  <a:moveTo>
                    <a:pt x="481" y="178"/>
                  </a:moveTo>
                  <a:lnTo>
                    <a:pt x="458" y="154"/>
                  </a:lnTo>
                  <a:lnTo>
                    <a:pt x="434" y="129"/>
                  </a:lnTo>
                  <a:lnTo>
                    <a:pt x="409" y="105"/>
                  </a:lnTo>
                  <a:lnTo>
                    <a:pt x="383" y="81"/>
                  </a:lnTo>
                  <a:lnTo>
                    <a:pt x="368" y="71"/>
                  </a:lnTo>
                  <a:lnTo>
                    <a:pt x="355" y="60"/>
                  </a:lnTo>
                  <a:lnTo>
                    <a:pt x="340" y="51"/>
                  </a:lnTo>
                  <a:lnTo>
                    <a:pt x="325" y="44"/>
                  </a:lnTo>
                  <a:lnTo>
                    <a:pt x="310" y="38"/>
                  </a:lnTo>
                  <a:lnTo>
                    <a:pt x="294" y="33"/>
                  </a:lnTo>
                  <a:lnTo>
                    <a:pt x="278" y="30"/>
                  </a:lnTo>
                  <a:lnTo>
                    <a:pt x="261" y="30"/>
                  </a:lnTo>
                  <a:lnTo>
                    <a:pt x="258" y="63"/>
                  </a:lnTo>
                  <a:lnTo>
                    <a:pt x="255" y="97"/>
                  </a:lnTo>
                  <a:lnTo>
                    <a:pt x="255" y="114"/>
                  </a:lnTo>
                  <a:lnTo>
                    <a:pt x="255" y="131"/>
                  </a:lnTo>
                  <a:lnTo>
                    <a:pt x="258" y="148"/>
                  </a:lnTo>
                  <a:lnTo>
                    <a:pt x="260" y="164"/>
                  </a:lnTo>
                  <a:lnTo>
                    <a:pt x="264" y="180"/>
                  </a:lnTo>
                  <a:lnTo>
                    <a:pt x="269" y="195"/>
                  </a:lnTo>
                  <a:lnTo>
                    <a:pt x="276" y="210"/>
                  </a:lnTo>
                  <a:lnTo>
                    <a:pt x="285" y="222"/>
                  </a:lnTo>
                  <a:lnTo>
                    <a:pt x="294" y="236"/>
                  </a:lnTo>
                  <a:lnTo>
                    <a:pt x="306" y="247"/>
                  </a:lnTo>
                  <a:lnTo>
                    <a:pt x="319" y="258"/>
                  </a:lnTo>
                  <a:lnTo>
                    <a:pt x="334" y="267"/>
                  </a:lnTo>
                  <a:lnTo>
                    <a:pt x="274" y="268"/>
                  </a:lnTo>
                  <a:lnTo>
                    <a:pt x="219" y="270"/>
                  </a:lnTo>
                  <a:lnTo>
                    <a:pt x="172" y="275"/>
                  </a:lnTo>
                  <a:lnTo>
                    <a:pt x="131" y="282"/>
                  </a:lnTo>
                  <a:lnTo>
                    <a:pt x="97" y="288"/>
                  </a:lnTo>
                  <a:lnTo>
                    <a:pt x="68" y="298"/>
                  </a:lnTo>
                  <a:lnTo>
                    <a:pt x="45" y="308"/>
                  </a:lnTo>
                  <a:lnTo>
                    <a:pt x="27" y="318"/>
                  </a:lnTo>
                  <a:lnTo>
                    <a:pt x="14" y="329"/>
                  </a:lnTo>
                  <a:lnTo>
                    <a:pt x="5" y="341"/>
                  </a:lnTo>
                  <a:lnTo>
                    <a:pt x="1" y="353"/>
                  </a:lnTo>
                  <a:lnTo>
                    <a:pt x="0" y="366"/>
                  </a:lnTo>
                  <a:lnTo>
                    <a:pt x="4" y="378"/>
                  </a:lnTo>
                  <a:lnTo>
                    <a:pt x="10" y="390"/>
                  </a:lnTo>
                  <a:lnTo>
                    <a:pt x="19" y="402"/>
                  </a:lnTo>
                  <a:lnTo>
                    <a:pt x="32" y="414"/>
                  </a:lnTo>
                  <a:lnTo>
                    <a:pt x="46" y="424"/>
                  </a:lnTo>
                  <a:lnTo>
                    <a:pt x="63" y="434"/>
                  </a:lnTo>
                  <a:lnTo>
                    <a:pt x="81" y="442"/>
                  </a:lnTo>
                  <a:lnTo>
                    <a:pt x="100" y="450"/>
                  </a:lnTo>
                  <a:lnTo>
                    <a:pt x="122" y="456"/>
                  </a:lnTo>
                  <a:lnTo>
                    <a:pt x="144" y="461"/>
                  </a:lnTo>
                  <a:lnTo>
                    <a:pt x="165" y="464"/>
                  </a:lnTo>
                  <a:lnTo>
                    <a:pt x="188" y="464"/>
                  </a:lnTo>
                  <a:lnTo>
                    <a:pt x="210" y="463"/>
                  </a:lnTo>
                  <a:lnTo>
                    <a:pt x="231" y="459"/>
                  </a:lnTo>
                  <a:lnTo>
                    <a:pt x="252" y="454"/>
                  </a:lnTo>
                  <a:lnTo>
                    <a:pt x="272" y="446"/>
                  </a:lnTo>
                  <a:lnTo>
                    <a:pt x="291" y="434"/>
                  </a:lnTo>
                  <a:lnTo>
                    <a:pt x="308" y="421"/>
                  </a:lnTo>
                  <a:lnTo>
                    <a:pt x="321" y="404"/>
                  </a:lnTo>
                  <a:lnTo>
                    <a:pt x="334" y="383"/>
                  </a:lnTo>
                  <a:lnTo>
                    <a:pt x="343" y="408"/>
                  </a:lnTo>
                  <a:lnTo>
                    <a:pt x="353" y="432"/>
                  </a:lnTo>
                  <a:lnTo>
                    <a:pt x="365" y="455"/>
                  </a:lnTo>
                  <a:lnTo>
                    <a:pt x="377" y="475"/>
                  </a:lnTo>
                  <a:lnTo>
                    <a:pt x="391" y="495"/>
                  </a:lnTo>
                  <a:lnTo>
                    <a:pt x="406" y="513"/>
                  </a:lnTo>
                  <a:lnTo>
                    <a:pt x="421" y="530"/>
                  </a:lnTo>
                  <a:lnTo>
                    <a:pt x="437" y="544"/>
                  </a:lnTo>
                  <a:lnTo>
                    <a:pt x="453" y="557"/>
                  </a:lnTo>
                  <a:lnTo>
                    <a:pt x="470" y="569"/>
                  </a:lnTo>
                  <a:lnTo>
                    <a:pt x="487" y="579"/>
                  </a:lnTo>
                  <a:lnTo>
                    <a:pt x="504" y="587"/>
                  </a:lnTo>
                  <a:lnTo>
                    <a:pt x="522" y="594"/>
                  </a:lnTo>
                  <a:lnTo>
                    <a:pt x="539" y="599"/>
                  </a:lnTo>
                  <a:lnTo>
                    <a:pt x="557" y="601"/>
                  </a:lnTo>
                  <a:lnTo>
                    <a:pt x="574" y="603"/>
                  </a:lnTo>
                  <a:lnTo>
                    <a:pt x="592" y="602"/>
                  </a:lnTo>
                  <a:lnTo>
                    <a:pt x="609" y="600"/>
                  </a:lnTo>
                  <a:lnTo>
                    <a:pt x="625" y="596"/>
                  </a:lnTo>
                  <a:lnTo>
                    <a:pt x="641" y="589"/>
                  </a:lnTo>
                  <a:lnTo>
                    <a:pt x="655" y="583"/>
                  </a:lnTo>
                  <a:lnTo>
                    <a:pt x="670" y="572"/>
                  </a:lnTo>
                  <a:lnTo>
                    <a:pt x="684" y="561"/>
                  </a:lnTo>
                  <a:lnTo>
                    <a:pt x="696" y="547"/>
                  </a:lnTo>
                  <a:lnTo>
                    <a:pt x="708" y="532"/>
                  </a:lnTo>
                  <a:lnTo>
                    <a:pt x="718" y="515"/>
                  </a:lnTo>
                  <a:lnTo>
                    <a:pt x="726" y="496"/>
                  </a:lnTo>
                  <a:lnTo>
                    <a:pt x="734" y="475"/>
                  </a:lnTo>
                  <a:lnTo>
                    <a:pt x="740" y="451"/>
                  </a:lnTo>
                  <a:lnTo>
                    <a:pt x="744" y="426"/>
                  </a:lnTo>
                  <a:lnTo>
                    <a:pt x="748" y="400"/>
                  </a:lnTo>
                  <a:lnTo>
                    <a:pt x="748" y="371"/>
                  </a:lnTo>
                  <a:lnTo>
                    <a:pt x="584" y="355"/>
                  </a:lnTo>
                  <a:lnTo>
                    <a:pt x="585" y="335"/>
                  </a:lnTo>
                  <a:lnTo>
                    <a:pt x="587" y="315"/>
                  </a:lnTo>
                  <a:lnTo>
                    <a:pt x="590" y="293"/>
                  </a:lnTo>
                  <a:lnTo>
                    <a:pt x="596" y="272"/>
                  </a:lnTo>
                  <a:lnTo>
                    <a:pt x="608" y="228"/>
                  </a:lnTo>
                  <a:lnTo>
                    <a:pt x="621" y="182"/>
                  </a:lnTo>
                  <a:lnTo>
                    <a:pt x="636" y="137"/>
                  </a:lnTo>
                  <a:lnTo>
                    <a:pt x="647" y="90"/>
                  </a:lnTo>
                  <a:lnTo>
                    <a:pt x="653" y="67"/>
                  </a:lnTo>
                  <a:lnTo>
                    <a:pt x="657" y="44"/>
                  </a:lnTo>
                  <a:lnTo>
                    <a:pt x="659" y="22"/>
                  </a:lnTo>
                  <a:lnTo>
                    <a:pt x="660" y="0"/>
                  </a:lnTo>
                  <a:lnTo>
                    <a:pt x="647" y="0"/>
                  </a:lnTo>
                  <a:lnTo>
                    <a:pt x="636" y="1"/>
                  </a:lnTo>
                  <a:lnTo>
                    <a:pt x="625" y="3"/>
                  </a:lnTo>
                  <a:lnTo>
                    <a:pt x="613" y="6"/>
                  </a:lnTo>
                  <a:lnTo>
                    <a:pt x="603" y="9"/>
                  </a:lnTo>
                  <a:lnTo>
                    <a:pt x="593" y="14"/>
                  </a:lnTo>
                  <a:lnTo>
                    <a:pt x="582" y="18"/>
                  </a:lnTo>
                  <a:lnTo>
                    <a:pt x="573" y="24"/>
                  </a:lnTo>
                  <a:lnTo>
                    <a:pt x="556" y="35"/>
                  </a:lnTo>
                  <a:lnTo>
                    <a:pt x="540" y="48"/>
                  </a:lnTo>
                  <a:lnTo>
                    <a:pt x="527" y="63"/>
                  </a:lnTo>
                  <a:lnTo>
                    <a:pt x="515" y="78"/>
                  </a:lnTo>
                  <a:lnTo>
                    <a:pt x="505" y="93"/>
                  </a:lnTo>
                  <a:lnTo>
                    <a:pt x="496" y="108"/>
                  </a:lnTo>
                  <a:lnTo>
                    <a:pt x="489" y="124"/>
                  </a:lnTo>
                  <a:lnTo>
                    <a:pt x="484" y="138"/>
                  </a:lnTo>
                  <a:lnTo>
                    <a:pt x="481" y="150"/>
                  </a:lnTo>
                  <a:lnTo>
                    <a:pt x="479" y="162"/>
                  </a:lnTo>
                  <a:lnTo>
                    <a:pt x="480" y="171"/>
                  </a:lnTo>
                  <a:lnTo>
                    <a:pt x="481" y="178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25960" y="3254760"/>
              <a:ext cx="75960" cy="54000"/>
            </a:xfrm>
            <a:custGeom>
              <a:avLst/>
              <a:gdLst/>
              <a:ahLst/>
              <a:rect l="l" t="t" r="r" b="b"/>
              <a:pathLst>
                <a:path w="240" h="170">
                  <a:moveTo>
                    <a:pt x="24" y="14"/>
                  </a:moveTo>
                  <a:lnTo>
                    <a:pt x="11" y="24"/>
                  </a:lnTo>
                  <a:lnTo>
                    <a:pt x="27" y="25"/>
                  </a:lnTo>
                  <a:lnTo>
                    <a:pt x="41" y="27"/>
                  </a:lnTo>
                  <a:lnTo>
                    <a:pt x="56" y="32"/>
                  </a:lnTo>
                  <a:lnTo>
                    <a:pt x="70" y="38"/>
                  </a:lnTo>
                  <a:lnTo>
                    <a:pt x="84" y="45"/>
                  </a:lnTo>
                  <a:lnTo>
                    <a:pt x="98" y="54"/>
                  </a:lnTo>
                  <a:lnTo>
                    <a:pt x="111" y="63"/>
                  </a:lnTo>
                  <a:lnTo>
                    <a:pt x="125" y="73"/>
                  </a:lnTo>
                  <a:lnTo>
                    <a:pt x="151" y="96"/>
                  </a:lnTo>
                  <a:lnTo>
                    <a:pt x="176" y="121"/>
                  </a:lnTo>
                  <a:lnTo>
                    <a:pt x="200" y="146"/>
                  </a:lnTo>
                  <a:lnTo>
                    <a:pt x="223" y="170"/>
                  </a:lnTo>
                  <a:lnTo>
                    <a:pt x="240" y="153"/>
                  </a:lnTo>
                  <a:lnTo>
                    <a:pt x="217" y="129"/>
                  </a:lnTo>
                  <a:lnTo>
                    <a:pt x="193" y="104"/>
                  </a:lnTo>
                  <a:lnTo>
                    <a:pt x="167" y="79"/>
                  </a:lnTo>
                  <a:lnTo>
                    <a:pt x="140" y="55"/>
                  </a:lnTo>
                  <a:lnTo>
                    <a:pt x="126" y="43"/>
                  </a:lnTo>
                  <a:lnTo>
                    <a:pt x="111" y="33"/>
                  </a:lnTo>
                  <a:lnTo>
                    <a:pt x="95" y="24"/>
                  </a:lnTo>
                  <a:lnTo>
                    <a:pt x="79" y="16"/>
                  </a:lnTo>
                  <a:lnTo>
                    <a:pt x="63" y="9"/>
                  </a:lnTo>
                  <a:lnTo>
                    <a:pt x="46" y="5"/>
                  </a:lnTo>
                  <a:lnTo>
                    <a:pt x="29" y="1"/>
                  </a:lnTo>
                  <a:lnTo>
                    <a:pt x="11" y="0"/>
                  </a:lnTo>
                  <a:lnTo>
                    <a:pt x="0" y="1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22720" y="3257640"/>
              <a:ext cx="33120" cy="79560"/>
            </a:xfrm>
            <a:custGeom>
              <a:avLst/>
              <a:gdLst/>
              <a:ahLst/>
              <a:rect l="l" t="t" r="r" b="b"/>
              <a:pathLst>
                <a:path w="104" h="252">
                  <a:moveTo>
                    <a:pt x="91" y="251"/>
                  </a:moveTo>
                  <a:lnTo>
                    <a:pt x="97" y="228"/>
                  </a:lnTo>
                  <a:lnTo>
                    <a:pt x="83" y="220"/>
                  </a:lnTo>
                  <a:lnTo>
                    <a:pt x="70" y="211"/>
                  </a:lnTo>
                  <a:lnTo>
                    <a:pt x="60" y="200"/>
                  </a:lnTo>
                  <a:lnTo>
                    <a:pt x="51" y="188"/>
                  </a:lnTo>
                  <a:lnTo>
                    <a:pt x="44" y="177"/>
                  </a:lnTo>
                  <a:lnTo>
                    <a:pt x="37" y="163"/>
                  </a:lnTo>
                  <a:lnTo>
                    <a:pt x="33" y="150"/>
                  </a:lnTo>
                  <a:lnTo>
                    <a:pt x="29" y="135"/>
                  </a:lnTo>
                  <a:lnTo>
                    <a:pt x="26" y="119"/>
                  </a:lnTo>
                  <a:lnTo>
                    <a:pt x="25" y="103"/>
                  </a:lnTo>
                  <a:lnTo>
                    <a:pt x="24" y="87"/>
                  </a:lnTo>
                  <a:lnTo>
                    <a:pt x="24" y="71"/>
                  </a:lnTo>
                  <a:lnTo>
                    <a:pt x="26" y="37"/>
                  </a:lnTo>
                  <a:lnTo>
                    <a:pt x="31" y="4"/>
                  </a:lnTo>
                  <a:lnTo>
                    <a:pt x="7" y="0"/>
                  </a:lnTo>
                  <a:lnTo>
                    <a:pt x="2" y="35"/>
                  </a:lnTo>
                  <a:lnTo>
                    <a:pt x="0" y="70"/>
                  </a:lnTo>
                  <a:lnTo>
                    <a:pt x="0" y="87"/>
                  </a:lnTo>
                  <a:lnTo>
                    <a:pt x="1" y="105"/>
                  </a:lnTo>
                  <a:lnTo>
                    <a:pt x="2" y="122"/>
                  </a:lnTo>
                  <a:lnTo>
                    <a:pt x="6" y="139"/>
                  </a:lnTo>
                  <a:lnTo>
                    <a:pt x="10" y="157"/>
                  </a:lnTo>
                  <a:lnTo>
                    <a:pt x="16" y="173"/>
                  </a:lnTo>
                  <a:lnTo>
                    <a:pt x="23" y="188"/>
                  </a:lnTo>
                  <a:lnTo>
                    <a:pt x="32" y="202"/>
                  </a:lnTo>
                  <a:lnTo>
                    <a:pt x="42" y="217"/>
                  </a:lnTo>
                  <a:lnTo>
                    <a:pt x="55" y="230"/>
                  </a:lnTo>
                  <a:lnTo>
                    <a:pt x="69" y="241"/>
                  </a:lnTo>
                  <a:lnTo>
                    <a:pt x="85" y="250"/>
                  </a:lnTo>
                  <a:lnTo>
                    <a:pt x="91" y="227"/>
                  </a:lnTo>
                  <a:lnTo>
                    <a:pt x="85" y="250"/>
                  </a:lnTo>
                  <a:lnTo>
                    <a:pt x="91" y="252"/>
                  </a:lnTo>
                  <a:lnTo>
                    <a:pt x="96" y="251"/>
                  </a:lnTo>
                  <a:lnTo>
                    <a:pt x="99" y="249"/>
                  </a:lnTo>
                  <a:lnTo>
                    <a:pt x="102" y="245"/>
                  </a:lnTo>
                  <a:lnTo>
                    <a:pt x="104" y="241"/>
                  </a:lnTo>
                  <a:lnTo>
                    <a:pt x="104" y="236"/>
                  </a:lnTo>
                  <a:lnTo>
                    <a:pt x="101" y="232"/>
                  </a:lnTo>
                  <a:lnTo>
                    <a:pt x="97" y="228"/>
                  </a:lnTo>
                  <a:lnTo>
                    <a:pt x="91" y="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41720" y="3329280"/>
              <a:ext cx="114120" cy="71280"/>
            </a:xfrm>
            <a:custGeom>
              <a:avLst/>
              <a:gdLst/>
              <a:ahLst/>
              <a:rect l="l" t="t" r="r" b="b"/>
              <a:pathLst>
                <a:path w="359" h="223">
                  <a:moveTo>
                    <a:pt x="357" y="124"/>
                  </a:moveTo>
                  <a:lnTo>
                    <a:pt x="336" y="123"/>
                  </a:lnTo>
                  <a:lnTo>
                    <a:pt x="330" y="132"/>
                  </a:lnTo>
                  <a:lnTo>
                    <a:pt x="324" y="142"/>
                  </a:lnTo>
                  <a:lnTo>
                    <a:pt x="318" y="151"/>
                  </a:lnTo>
                  <a:lnTo>
                    <a:pt x="311" y="158"/>
                  </a:lnTo>
                  <a:lnTo>
                    <a:pt x="304" y="164"/>
                  </a:lnTo>
                  <a:lnTo>
                    <a:pt x="296" y="171"/>
                  </a:lnTo>
                  <a:lnTo>
                    <a:pt x="287" y="176"/>
                  </a:lnTo>
                  <a:lnTo>
                    <a:pt x="279" y="180"/>
                  </a:lnTo>
                  <a:lnTo>
                    <a:pt x="270" y="185"/>
                  </a:lnTo>
                  <a:lnTo>
                    <a:pt x="261" y="188"/>
                  </a:lnTo>
                  <a:lnTo>
                    <a:pt x="250" y="192"/>
                  </a:lnTo>
                  <a:lnTo>
                    <a:pt x="241" y="194"/>
                  </a:lnTo>
                  <a:lnTo>
                    <a:pt x="231" y="196"/>
                  </a:lnTo>
                  <a:lnTo>
                    <a:pt x="221" y="197"/>
                  </a:lnTo>
                  <a:lnTo>
                    <a:pt x="210" y="199"/>
                  </a:lnTo>
                  <a:lnTo>
                    <a:pt x="200" y="199"/>
                  </a:lnTo>
                  <a:lnTo>
                    <a:pt x="178" y="197"/>
                  </a:lnTo>
                  <a:lnTo>
                    <a:pt x="157" y="195"/>
                  </a:lnTo>
                  <a:lnTo>
                    <a:pt x="136" y="191"/>
                  </a:lnTo>
                  <a:lnTo>
                    <a:pt x="117" y="185"/>
                  </a:lnTo>
                  <a:lnTo>
                    <a:pt x="98" y="177"/>
                  </a:lnTo>
                  <a:lnTo>
                    <a:pt x="80" y="169"/>
                  </a:lnTo>
                  <a:lnTo>
                    <a:pt x="65" y="160"/>
                  </a:lnTo>
                  <a:lnTo>
                    <a:pt x="51" y="150"/>
                  </a:lnTo>
                  <a:lnTo>
                    <a:pt x="45" y="145"/>
                  </a:lnTo>
                  <a:lnTo>
                    <a:pt x="41" y="140"/>
                  </a:lnTo>
                  <a:lnTo>
                    <a:pt x="36" y="135"/>
                  </a:lnTo>
                  <a:lnTo>
                    <a:pt x="33" y="129"/>
                  </a:lnTo>
                  <a:lnTo>
                    <a:pt x="29" y="124"/>
                  </a:lnTo>
                  <a:lnTo>
                    <a:pt x="27" y="120"/>
                  </a:lnTo>
                  <a:lnTo>
                    <a:pt x="26" y="115"/>
                  </a:lnTo>
                  <a:lnTo>
                    <a:pt x="25" y="111"/>
                  </a:lnTo>
                  <a:lnTo>
                    <a:pt x="25" y="106"/>
                  </a:lnTo>
                  <a:lnTo>
                    <a:pt x="25" y="102"/>
                  </a:lnTo>
                  <a:lnTo>
                    <a:pt x="26" y="97"/>
                  </a:lnTo>
                  <a:lnTo>
                    <a:pt x="28" y="93"/>
                  </a:lnTo>
                  <a:lnTo>
                    <a:pt x="30" y="88"/>
                  </a:lnTo>
                  <a:lnTo>
                    <a:pt x="35" y="83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3" y="69"/>
                  </a:lnTo>
                  <a:lnTo>
                    <a:pt x="62" y="64"/>
                  </a:lnTo>
                  <a:lnTo>
                    <a:pt x="72" y="60"/>
                  </a:lnTo>
                  <a:lnTo>
                    <a:pt x="84" y="55"/>
                  </a:lnTo>
                  <a:lnTo>
                    <a:pt x="98" y="50"/>
                  </a:lnTo>
                  <a:lnTo>
                    <a:pt x="112" y="47"/>
                  </a:lnTo>
                  <a:lnTo>
                    <a:pt x="128" y="42"/>
                  </a:lnTo>
                  <a:lnTo>
                    <a:pt x="145" y="39"/>
                  </a:lnTo>
                  <a:lnTo>
                    <a:pt x="165" y="36"/>
                  </a:lnTo>
                  <a:lnTo>
                    <a:pt x="185" y="33"/>
                  </a:lnTo>
                  <a:lnTo>
                    <a:pt x="208" y="31"/>
                  </a:lnTo>
                  <a:lnTo>
                    <a:pt x="232" y="29"/>
                  </a:lnTo>
                  <a:lnTo>
                    <a:pt x="286" y="25"/>
                  </a:lnTo>
                  <a:lnTo>
                    <a:pt x="346" y="24"/>
                  </a:lnTo>
                  <a:lnTo>
                    <a:pt x="346" y="0"/>
                  </a:lnTo>
                  <a:lnTo>
                    <a:pt x="284" y="1"/>
                  </a:lnTo>
                  <a:lnTo>
                    <a:pt x="231" y="5"/>
                  </a:lnTo>
                  <a:lnTo>
                    <a:pt x="206" y="6"/>
                  </a:lnTo>
                  <a:lnTo>
                    <a:pt x="183" y="9"/>
                  </a:lnTo>
                  <a:lnTo>
                    <a:pt x="161" y="12"/>
                  </a:lnTo>
                  <a:lnTo>
                    <a:pt x="141" y="15"/>
                  </a:lnTo>
                  <a:lnTo>
                    <a:pt x="123" y="18"/>
                  </a:lnTo>
                  <a:lnTo>
                    <a:pt x="106" y="23"/>
                  </a:lnTo>
                  <a:lnTo>
                    <a:pt x="91" y="28"/>
                  </a:lnTo>
                  <a:lnTo>
                    <a:pt x="76" y="32"/>
                  </a:lnTo>
                  <a:lnTo>
                    <a:pt x="63" y="37"/>
                  </a:lnTo>
                  <a:lnTo>
                    <a:pt x="52" y="42"/>
                  </a:lnTo>
                  <a:lnTo>
                    <a:pt x="42" y="48"/>
                  </a:lnTo>
                  <a:lnTo>
                    <a:pt x="31" y="54"/>
                  </a:lnTo>
                  <a:lnTo>
                    <a:pt x="23" y="61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6" y="81"/>
                  </a:lnTo>
                  <a:lnTo>
                    <a:pt x="3" y="89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7" y="150"/>
                  </a:lnTo>
                  <a:lnTo>
                    <a:pt x="22" y="156"/>
                  </a:lnTo>
                  <a:lnTo>
                    <a:pt x="29" y="163"/>
                  </a:lnTo>
                  <a:lnTo>
                    <a:pt x="36" y="169"/>
                  </a:lnTo>
                  <a:lnTo>
                    <a:pt x="52" y="180"/>
                  </a:lnTo>
                  <a:lnTo>
                    <a:pt x="69" y="191"/>
                  </a:lnTo>
                  <a:lnTo>
                    <a:pt x="88" y="200"/>
                  </a:lnTo>
                  <a:lnTo>
                    <a:pt x="109" y="208"/>
                  </a:lnTo>
                  <a:lnTo>
                    <a:pt x="131" y="213"/>
                  </a:lnTo>
                  <a:lnTo>
                    <a:pt x="153" y="219"/>
                  </a:lnTo>
                  <a:lnTo>
                    <a:pt x="176" y="221"/>
                  </a:lnTo>
                  <a:lnTo>
                    <a:pt x="199" y="223"/>
                  </a:lnTo>
                  <a:lnTo>
                    <a:pt x="212" y="223"/>
                  </a:lnTo>
                  <a:lnTo>
                    <a:pt x="223" y="221"/>
                  </a:lnTo>
                  <a:lnTo>
                    <a:pt x="234" y="220"/>
                  </a:lnTo>
                  <a:lnTo>
                    <a:pt x="246" y="218"/>
                  </a:lnTo>
                  <a:lnTo>
                    <a:pt x="257" y="215"/>
                  </a:lnTo>
                  <a:lnTo>
                    <a:pt x="269" y="211"/>
                  </a:lnTo>
                  <a:lnTo>
                    <a:pt x="279" y="208"/>
                  </a:lnTo>
                  <a:lnTo>
                    <a:pt x="290" y="202"/>
                  </a:lnTo>
                  <a:lnTo>
                    <a:pt x="300" y="196"/>
                  </a:lnTo>
                  <a:lnTo>
                    <a:pt x="310" y="191"/>
                  </a:lnTo>
                  <a:lnTo>
                    <a:pt x="319" y="183"/>
                  </a:lnTo>
                  <a:lnTo>
                    <a:pt x="328" y="175"/>
                  </a:lnTo>
                  <a:lnTo>
                    <a:pt x="336" y="166"/>
                  </a:lnTo>
                  <a:lnTo>
                    <a:pt x="344" y="156"/>
                  </a:lnTo>
                  <a:lnTo>
                    <a:pt x="351" y="145"/>
                  </a:lnTo>
                  <a:lnTo>
                    <a:pt x="357" y="134"/>
                  </a:lnTo>
                  <a:lnTo>
                    <a:pt x="335" y="132"/>
                  </a:lnTo>
                  <a:lnTo>
                    <a:pt x="357" y="134"/>
                  </a:lnTo>
                  <a:lnTo>
                    <a:pt x="359" y="129"/>
                  </a:lnTo>
                  <a:lnTo>
                    <a:pt x="357" y="124"/>
                  </a:lnTo>
                  <a:lnTo>
                    <a:pt x="355" y="120"/>
                  </a:lnTo>
                  <a:lnTo>
                    <a:pt x="352" y="118"/>
                  </a:lnTo>
                  <a:lnTo>
                    <a:pt x="347" y="117"/>
                  </a:lnTo>
                  <a:lnTo>
                    <a:pt x="343" y="117"/>
                  </a:lnTo>
                  <a:lnTo>
                    <a:pt x="339" y="119"/>
                  </a:lnTo>
                  <a:lnTo>
                    <a:pt x="336" y="123"/>
                  </a:lnTo>
                  <a:lnTo>
                    <a:pt x="357" y="1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47920" y="3362760"/>
              <a:ext cx="139680" cy="80640"/>
            </a:xfrm>
            <a:custGeom>
              <a:avLst/>
              <a:gdLst/>
              <a:ahLst/>
              <a:rect l="l" t="t" r="r" b="b"/>
              <a:pathLst>
                <a:path w="437" h="256">
                  <a:moveTo>
                    <a:pt x="424" y="24"/>
                  </a:moveTo>
                  <a:lnTo>
                    <a:pt x="413" y="13"/>
                  </a:lnTo>
                  <a:lnTo>
                    <a:pt x="412" y="41"/>
                  </a:lnTo>
                  <a:lnTo>
                    <a:pt x="410" y="67"/>
                  </a:lnTo>
                  <a:lnTo>
                    <a:pt x="405" y="91"/>
                  </a:lnTo>
                  <a:lnTo>
                    <a:pt x="400" y="113"/>
                  </a:lnTo>
                  <a:lnTo>
                    <a:pt x="393" y="133"/>
                  </a:lnTo>
                  <a:lnTo>
                    <a:pt x="384" y="152"/>
                  </a:lnTo>
                  <a:lnTo>
                    <a:pt x="375" y="168"/>
                  </a:lnTo>
                  <a:lnTo>
                    <a:pt x="363" y="182"/>
                  </a:lnTo>
                  <a:lnTo>
                    <a:pt x="352" y="194"/>
                  </a:lnTo>
                  <a:lnTo>
                    <a:pt x="339" y="205"/>
                  </a:lnTo>
                  <a:lnTo>
                    <a:pt x="327" y="213"/>
                  </a:lnTo>
                  <a:lnTo>
                    <a:pt x="313" y="221"/>
                  </a:lnTo>
                  <a:lnTo>
                    <a:pt x="298" y="226"/>
                  </a:lnTo>
                  <a:lnTo>
                    <a:pt x="283" y="230"/>
                  </a:lnTo>
                  <a:lnTo>
                    <a:pt x="267" y="233"/>
                  </a:lnTo>
                  <a:lnTo>
                    <a:pt x="251" y="233"/>
                  </a:lnTo>
                  <a:lnTo>
                    <a:pt x="236" y="231"/>
                  </a:lnTo>
                  <a:lnTo>
                    <a:pt x="218" y="228"/>
                  </a:lnTo>
                  <a:lnTo>
                    <a:pt x="202" y="223"/>
                  </a:lnTo>
                  <a:lnTo>
                    <a:pt x="185" y="218"/>
                  </a:lnTo>
                  <a:lnTo>
                    <a:pt x="169" y="210"/>
                  </a:lnTo>
                  <a:lnTo>
                    <a:pt x="152" y="201"/>
                  </a:lnTo>
                  <a:lnTo>
                    <a:pt x="136" y="189"/>
                  </a:lnTo>
                  <a:lnTo>
                    <a:pt x="122" y="177"/>
                  </a:lnTo>
                  <a:lnTo>
                    <a:pt x="106" y="163"/>
                  </a:lnTo>
                  <a:lnTo>
                    <a:pt x="92" y="147"/>
                  </a:lnTo>
                  <a:lnTo>
                    <a:pt x="77" y="130"/>
                  </a:lnTo>
                  <a:lnTo>
                    <a:pt x="65" y="112"/>
                  </a:lnTo>
                  <a:lnTo>
                    <a:pt x="52" y="91"/>
                  </a:lnTo>
                  <a:lnTo>
                    <a:pt x="42" y="70"/>
                  </a:lnTo>
                  <a:lnTo>
                    <a:pt x="32" y="46"/>
                  </a:lnTo>
                  <a:lnTo>
                    <a:pt x="22" y="20"/>
                  </a:lnTo>
                  <a:lnTo>
                    <a:pt x="0" y="28"/>
                  </a:lnTo>
                  <a:lnTo>
                    <a:pt x="9" y="55"/>
                  </a:lnTo>
                  <a:lnTo>
                    <a:pt x="19" y="80"/>
                  </a:lnTo>
                  <a:lnTo>
                    <a:pt x="32" y="103"/>
                  </a:lnTo>
                  <a:lnTo>
                    <a:pt x="44" y="124"/>
                  </a:lnTo>
                  <a:lnTo>
                    <a:pt x="58" y="145"/>
                  </a:lnTo>
                  <a:lnTo>
                    <a:pt x="73" y="163"/>
                  </a:lnTo>
                  <a:lnTo>
                    <a:pt x="89" y="180"/>
                  </a:lnTo>
                  <a:lnTo>
                    <a:pt x="106" y="196"/>
                  </a:lnTo>
                  <a:lnTo>
                    <a:pt x="123" y="210"/>
                  </a:lnTo>
                  <a:lnTo>
                    <a:pt x="140" y="221"/>
                  </a:lnTo>
                  <a:lnTo>
                    <a:pt x="158" y="231"/>
                  </a:lnTo>
                  <a:lnTo>
                    <a:pt x="176" y="241"/>
                  </a:lnTo>
                  <a:lnTo>
                    <a:pt x="194" y="247"/>
                  </a:lnTo>
                  <a:lnTo>
                    <a:pt x="214" y="252"/>
                  </a:lnTo>
                  <a:lnTo>
                    <a:pt x="232" y="255"/>
                  </a:lnTo>
                  <a:lnTo>
                    <a:pt x="251" y="256"/>
                  </a:lnTo>
                  <a:lnTo>
                    <a:pt x="270" y="256"/>
                  </a:lnTo>
                  <a:lnTo>
                    <a:pt x="288" y="254"/>
                  </a:lnTo>
                  <a:lnTo>
                    <a:pt x="305" y="250"/>
                  </a:lnTo>
                  <a:lnTo>
                    <a:pt x="322" y="243"/>
                  </a:lnTo>
                  <a:lnTo>
                    <a:pt x="339" y="235"/>
                  </a:lnTo>
                  <a:lnTo>
                    <a:pt x="354" y="225"/>
                  </a:lnTo>
                  <a:lnTo>
                    <a:pt x="369" y="212"/>
                  </a:lnTo>
                  <a:lnTo>
                    <a:pt x="383" y="197"/>
                  </a:lnTo>
                  <a:lnTo>
                    <a:pt x="394" y="181"/>
                  </a:lnTo>
                  <a:lnTo>
                    <a:pt x="405" y="163"/>
                  </a:lnTo>
                  <a:lnTo>
                    <a:pt x="414" y="142"/>
                  </a:lnTo>
                  <a:lnTo>
                    <a:pt x="422" y="121"/>
                  </a:lnTo>
                  <a:lnTo>
                    <a:pt x="429" y="97"/>
                  </a:lnTo>
                  <a:lnTo>
                    <a:pt x="434" y="71"/>
                  </a:lnTo>
                  <a:lnTo>
                    <a:pt x="436" y="42"/>
                  </a:lnTo>
                  <a:lnTo>
                    <a:pt x="437" y="13"/>
                  </a:lnTo>
                  <a:lnTo>
                    <a:pt x="426" y="0"/>
                  </a:lnTo>
                  <a:lnTo>
                    <a:pt x="437" y="13"/>
                  </a:lnTo>
                  <a:lnTo>
                    <a:pt x="436" y="7"/>
                  </a:lnTo>
                  <a:lnTo>
                    <a:pt x="434" y="3"/>
                  </a:lnTo>
                  <a:lnTo>
                    <a:pt x="429" y="1"/>
                  </a:lnTo>
                  <a:lnTo>
                    <a:pt x="425" y="0"/>
                  </a:lnTo>
                  <a:lnTo>
                    <a:pt x="420" y="1"/>
                  </a:lnTo>
                  <a:lnTo>
                    <a:pt x="417" y="3"/>
                  </a:lnTo>
                  <a:lnTo>
                    <a:pt x="414" y="7"/>
                  </a:lnTo>
                  <a:lnTo>
                    <a:pt x="413" y="13"/>
                  </a:lnTo>
                  <a:lnTo>
                    <a:pt x="424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327480" y="3357720"/>
              <a:ext cx="55440" cy="12960"/>
            </a:xfrm>
            <a:custGeom>
              <a:avLst/>
              <a:gdLst/>
              <a:ahLst/>
              <a:rect l="l" t="t" r="r" b="b"/>
              <a:pathLst>
                <a:path w="178" h="39">
                  <a:moveTo>
                    <a:pt x="0" y="12"/>
                  </a:moveTo>
                  <a:lnTo>
                    <a:pt x="11" y="24"/>
                  </a:lnTo>
                  <a:lnTo>
                    <a:pt x="176" y="39"/>
                  </a:lnTo>
                  <a:lnTo>
                    <a:pt x="178" y="15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1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27480" y="3245040"/>
              <a:ext cx="31680" cy="11772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89" y="24"/>
                  </a:moveTo>
                  <a:lnTo>
                    <a:pt x="76" y="13"/>
                  </a:lnTo>
                  <a:lnTo>
                    <a:pt x="76" y="35"/>
                  </a:lnTo>
                  <a:lnTo>
                    <a:pt x="74" y="56"/>
                  </a:lnTo>
                  <a:lnTo>
                    <a:pt x="70" y="78"/>
                  </a:lnTo>
                  <a:lnTo>
                    <a:pt x="65" y="101"/>
                  </a:lnTo>
                  <a:lnTo>
                    <a:pt x="54" y="146"/>
                  </a:lnTo>
                  <a:lnTo>
                    <a:pt x="39" y="192"/>
                  </a:lnTo>
                  <a:lnTo>
                    <a:pt x="25" y="238"/>
                  </a:lnTo>
                  <a:lnTo>
                    <a:pt x="13" y="282"/>
                  </a:lnTo>
                  <a:lnTo>
                    <a:pt x="8" y="304"/>
                  </a:lnTo>
                  <a:lnTo>
                    <a:pt x="3" y="325"/>
                  </a:lnTo>
                  <a:lnTo>
                    <a:pt x="1" y="347"/>
                  </a:lnTo>
                  <a:lnTo>
                    <a:pt x="0" y="368"/>
                  </a:lnTo>
                  <a:lnTo>
                    <a:pt x="25" y="368"/>
                  </a:lnTo>
                  <a:lnTo>
                    <a:pt x="25" y="349"/>
                  </a:lnTo>
                  <a:lnTo>
                    <a:pt x="27" y="329"/>
                  </a:lnTo>
                  <a:lnTo>
                    <a:pt x="32" y="309"/>
                  </a:lnTo>
                  <a:lnTo>
                    <a:pt x="37" y="288"/>
                  </a:lnTo>
                  <a:lnTo>
                    <a:pt x="48" y="244"/>
                  </a:lnTo>
                  <a:lnTo>
                    <a:pt x="63" y="199"/>
                  </a:lnTo>
                  <a:lnTo>
                    <a:pt x="76" y="153"/>
                  </a:lnTo>
                  <a:lnTo>
                    <a:pt x="89" y="106"/>
                  </a:lnTo>
                  <a:lnTo>
                    <a:pt x="94" y="83"/>
                  </a:lnTo>
                  <a:lnTo>
                    <a:pt x="98" y="59"/>
                  </a:lnTo>
                  <a:lnTo>
                    <a:pt x="100" y="36"/>
                  </a:lnTo>
                  <a:lnTo>
                    <a:pt x="101" y="13"/>
                  </a:lnTo>
                  <a:lnTo>
                    <a:pt x="89" y="0"/>
                  </a:lnTo>
                  <a:lnTo>
                    <a:pt x="101" y="13"/>
                  </a:lnTo>
                  <a:lnTo>
                    <a:pt x="100" y="7"/>
                  </a:lnTo>
                  <a:lnTo>
                    <a:pt x="97" y="4"/>
                  </a:lnTo>
                  <a:lnTo>
                    <a:pt x="94" y="2"/>
                  </a:lnTo>
                  <a:lnTo>
                    <a:pt x="89" y="0"/>
                  </a:lnTo>
                  <a:lnTo>
                    <a:pt x="84" y="2"/>
                  </a:lnTo>
                  <a:lnTo>
                    <a:pt x="81" y="4"/>
                  </a:lnTo>
                  <a:lnTo>
                    <a:pt x="78" y="7"/>
                  </a:lnTo>
                  <a:lnTo>
                    <a:pt x="76" y="13"/>
                  </a:lnTo>
                  <a:lnTo>
                    <a:pt x="89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94000" y="3245040"/>
              <a:ext cx="61920" cy="65160"/>
            </a:xfrm>
            <a:custGeom>
              <a:avLst/>
              <a:gdLst/>
              <a:ahLst/>
              <a:rect l="l" t="t" r="r" b="b"/>
              <a:pathLst>
                <a:path w="193" h="203">
                  <a:moveTo>
                    <a:pt x="6" y="200"/>
                  </a:moveTo>
                  <a:lnTo>
                    <a:pt x="25" y="185"/>
                  </a:lnTo>
                  <a:lnTo>
                    <a:pt x="24" y="183"/>
                  </a:lnTo>
                  <a:lnTo>
                    <a:pt x="24" y="176"/>
                  </a:lnTo>
                  <a:lnTo>
                    <a:pt x="25" y="166"/>
                  </a:lnTo>
                  <a:lnTo>
                    <a:pt x="29" y="154"/>
                  </a:lnTo>
                  <a:lnTo>
                    <a:pt x="33" y="141"/>
                  </a:lnTo>
                  <a:lnTo>
                    <a:pt x="40" y="127"/>
                  </a:lnTo>
                  <a:lnTo>
                    <a:pt x="48" y="112"/>
                  </a:lnTo>
                  <a:lnTo>
                    <a:pt x="57" y="99"/>
                  </a:lnTo>
                  <a:lnTo>
                    <a:pt x="69" y="84"/>
                  </a:lnTo>
                  <a:lnTo>
                    <a:pt x="82" y="70"/>
                  </a:lnTo>
                  <a:lnTo>
                    <a:pt x="96" y="57"/>
                  </a:lnTo>
                  <a:lnTo>
                    <a:pt x="113" y="47"/>
                  </a:lnTo>
                  <a:lnTo>
                    <a:pt x="121" y="42"/>
                  </a:lnTo>
                  <a:lnTo>
                    <a:pt x="130" y="38"/>
                  </a:lnTo>
                  <a:lnTo>
                    <a:pt x="139" y="34"/>
                  </a:lnTo>
                  <a:lnTo>
                    <a:pt x="150" y="31"/>
                  </a:lnTo>
                  <a:lnTo>
                    <a:pt x="160" y="28"/>
                  </a:lnTo>
                  <a:lnTo>
                    <a:pt x="170" y="27"/>
                  </a:lnTo>
                  <a:lnTo>
                    <a:pt x="182" y="26"/>
                  </a:lnTo>
                  <a:lnTo>
                    <a:pt x="193" y="24"/>
                  </a:lnTo>
                  <a:lnTo>
                    <a:pt x="193" y="0"/>
                  </a:lnTo>
                  <a:lnTo>
                    <a:pt x="179" y="2"/>
                  </a:lnTo>
                  <a:lnTo>
                    <a:pt x="167" y="3"/>
                  </a:lnTo>
                  <a:lnTo>
                    <a:pt x="154" y="5"/>
                  </a:lnTo>
                  <a:lnTo>
                    <a:pt x="143" y="7"/>
                  </a:lnTo>
                  <a:lnTo>
                    <a:pt x="131" y="11"/>
                  </a:lnTo>
                  <a:lnTo>
                    <a:pt x="121" y="15"/>
                  </a:lnTo>
                  <a:lnTo>
                    <a:pt x="110" y="21"/>
                  </a:lnTo>
                  <a:lnTo>
                    <a:pt x="100" y="27"/>
                  </a:lnTo>
                  <a:lnTo>
                    <a:pt x="82" y="38"/>
                  </a:lnTo>
                  <a:lnTo>
                    <a:pt x="65" y="53"/>
                  </a:lnTo>
                  <a:lnTo>
                    <a:pt x="50" y="68"/>
                  </a:lnTo>
                  <a:lnTo>
                    <a:pt x="38" y="84"/>
                  </a:lnTo>
                  <a:lnTo>
                    <a:pt x="28" y="100"/>
                  </a:lnTo>
                  <a:lnTo>
                    <a:pt x="19" y="117"/>
                  </a:lnTo>
                  <a:lnTo>
                    <a:pt x="11" y="133"/>
                  </a:lnTo>
                  <a:lnTo>
                    <a:pt x="6" y="148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0" y="186"/>
                  </a:lnTo>
                  <a:lnTo>
                    <a:pt x="4" y="197"/>
                  </a:lnTo>
                  <a:lnTo>
                    <a:pt x="23" y="183"/>
                  </a:lnTo>
                  <a:lnTo>
                    <a:pt x="4" y="197"/>
                  </a:lnTo>
                  <a:lnTo>
                    <a:pt x="7" y="201"/>
                  </a:lnTo>
                  <a:lnTo>
                    <a:pt x="12" y="203"/>
                  </a:lnTo>
                  <a:lnTo>
                    <a:pt x="16" y="203"/>
                  </a:lnTo>
                  <a:lnTo>
                    <a:pt x="20" y="202"/>
                  </a:lnTo>
                  <a:lnTo>
                    <a:pt x="23" y="199"/>
                  </a:lnTo>
                  <a:lnTo>
                    <a:pt x="27" y="195"/>
                  </a:lnTo>
                  <a:lnTo>
                    <a:pt x="27" y="191"/>
                  </a:lnTo>
                  <a:lnTo>
                    <a:pt x="25" y="185"/>
                  </a:lnTo>
                  <a:lnTo>
                    <a:pt x="6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0520" y="32832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40" y="298"/>
                  </a:moveTo>
                  <a:lnTo>
                    <a:pt x="429" y="275"/>
                  </a:lnTo>
                  <a:lnTo>
                    <a:pt x="416" y="251"/>
                  </a:lnTo>
                  <a:lnTo>
                    <a:pt x="402" y="226"/>
                  </a:lnTo>
                  <a:lnTo>
                    <a:pt x="388" y="201"/>
                  </a:lnTo>
                  <a:lnTo>
                    <a:pt x="372" y="176"/>
                  </a:lnTo>
                  <a:lnTo>
                    <a:pt x="355" y="151"/>
                  </a:lnTo>
                  <a:lnTo>
                    <a:pt x="336" y="127"/>
                  </a:lnTo>
                  <a:lnTo>
                    <a:pt x="317" y="104"/>
                  </a:lnTo>
                  <a:lnTo>
                    <a:pt x="296" y="82"/>
                  </a:lnTo>
                  <a:lnTo>
                    <a:pt x="274" y="63"/>
                  </a:lnTo>
                  <a:lnTo>
                    <a:pt x="262" y="54"/>
                  </a:lnTo>
                  <a:lnTo>
                    <a:pt x="251" y="45"/>
                  </a:lnTo>
                  <a:lnTo>
                    <a:pt x="239" y="37"/>
                  </a:lnTo>
                  <a:lnTo>
                    <a:pt x="227" y="30"/>
                  </a:lnTo>
                  <a:lnTo>
                    <a:pt x="214" y="23"/>
                  </a:lnTo>
                  <a:lnTo>
                    <a:pt x="201" y="17"/>
                  </a:lnTo>
                  <a:lnTo>
                    <a:pt x="188" y="13"/>
                  </a:lnTo>
                  <a:lnTo>
                    <a:pt x="175" y="8"/>
                  </a:lnTo>
                  <a:lnTo>
                    <a:pt x="161" y="5"/>
                  </a:lnTo>
                  <a:lnTo>
                    <a:pt x="146" y="2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16" y="46"/>
                  </a:lnTo>
                  <a:lnTo>
                    <a:pt x="116" y="93"/>
                  </a:lnTo>
                  <a:lnTo>
                    <a:pt x="118" y="116"/>
                  </a:lnTo>
                  <a:lnTo>
                    <a:pt x="119" y="139"/>
                  </a:lnTo>
                  <a:lnTo>
                    <a:pt x="121" y="163"/>
                  </a:lnTo>
                  <a:lnTo>
                    <a:pt x="126" y="185"/>
                  </a:lnTo>
                  <a:lnTo>
                    <a:pt x="131" y="207"/>
                  </a:lnTo>
                  <a:lnTo>
                    <a:pt x="138" y="228"/>
                  </a:lnTo>
                  <a:lnTo>
                    <a:pt x="143" y="237"/>
                  </a:lnTo>
                  <a:lnTo>
                    <a:pt x="148" y="248"/>
                  </a:lnTo>
                  <a:lnTo>
                    <a:pt x="154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3" y="283"/>
                  </a:lnTo>
                  <a:lnTo>
                    <a:pt x="182" y="292"/>
                  </a:lnTo>
                  <a:lnTo>
                    <a:pt x="190" y="299"/>
                  </a:lnTo>
                  <a:lnTo>
                    <a:pt x="201" y="307"/>
                  </a:lnTo>
                  <a:lnTo>
                    <a:pt x="211" y="314"/>
                  </a:lnTo>
                  <a:lnTo>
                    <a:pt x="222" y="319"/>
                  </a:lnTo>
                  <a:lnTo>
                    <a:pt x="234" y="326"/>
                  </a:lnTo>
                  <a:lnTo>
                    <a:pt x="239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5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39" y="342"/>
                  </a:lnTo>
                  <a:lnTo>
                    <a:pt x="219" y="348"/>
                  </a:lnTo>
                  <a:lnTo>
                    <a:pt x="188" y="354"/>
                  </a:lnTo>
                  <a:lnTo>
                    <a:pt x="170" y="357"/>
                  </a:lnTo>
                  <a:lnTo>
                    <a:pt x="152" y="362"/>
                  </a:lnTo>
                  <a:lnTo>
                    <a:pt x="132" y="367"/>
                  </a:lnTo>
                  <a:lnTo>
                    <a:pt x="113" y="374"/>
                  </a:lnTo>
                  <a:lnTo>
                    <a:pt x="94" y="381"/>
                  </a:lnTo>
                  <a:lnTo>
                    <a:pt x="75" y="391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1" y="407"/>
                  </a:lnTo>
                  <a:lnTo>
                    <a:pt x="43" y="414"/>
                  </a:lnTo>
                  <a:lnTo>
                    <a:pt x="37" y="423"/>
                  </a:lnTo>
                  <a:lnTo>
                    <a:pt x="30" y="432"/>
                  </a:lnTo>
                  <a:lnTo>
                    <a:pt x="24" y="442"/>
                  </a:lnTo>
                  <a:lnTo>
                    <a:pt x="18" y="453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2" y="521"/>
                  </a:lnTo>
                  <a:lnTo>
                    <a:pt x="1" y="545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1" y="591"/>
                  </a:lnTo>
                  <a:lnTo>
                    <a:pt x="103" y="588"/>
                  </a:lnTo>
                  <a:lnTo>
                    <a:pt x="129" y="587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5"/>
                  </a:lnTo>
                  <a:lnTo>
                    <a:pt x="227" y="568"/>
                  </a:lnTo>
                  <a:lnTo>
                    <a:pt x="250" y="559"/>
                  </a:lnTo>
                  <a:lnTo>
                    <a:pt x="260" y="553"/>
                  </a:lnTo>
                  <a:lnTo>
                    <a:pt x="270" y="549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2"/>
                  </a:lnTo>
                  <a:lnTo>
                    <a:pt x="324" y="503"/>
                  </a:lnTo>
                  <a:lnTo>
                    <a:pt x="332" y="493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60"/>
                  </a:lnTo>
                  <a:lnTo>
                    <a:pt x="379" y="474"/>
                  </a:lnTo>
                  <a:lnTo>
                    <a:pt x="406" y="490"/>
                  </a:lnTo>
                  <a:lnTo>
                    <a:pt x="434" y="507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4"/>
                  </a:lnTo>
                  <a:lnTo>
                    <a:pt x="527" y="560"/>
                  </a:lnTo>
                  <a:lnTo>
                    <a:pt x="538" y="564"/>
                  </a:lnTo>
                  <a:lnTo>
                    <a:pt x="549" y="569"/>
                  </a:lnTo>
                  <a:lnTo>
                    <a:pt x="561" y="572"/>
                  </a:lnTo>
                  <a:lnTo>
                    <a:pt x="572" y="575"/>
                  </a:lnTo>
                  <a:lnTo>
                    <a:pt x="583" y="576"/>
                  </a:lnTo>
                  <a:lnTo>
                    <a:pt x="592" y="575"/>
                  </a:lnTo>
                  <a:lnTo>
                    <a:pt x="602" y="574"/>
                  </a:lnTo>
                  <a:lnTo>
                    <a:pt x="610" y="570"/>
                  </a:lnTo>
                  <a:lnTo>
                    <a:pt x="618" y="564"/>
                  </a:lnTo>
                  <a:lnTo>
                    <a:pt x="626" y="558"/>
                  </a:lnTo>
                  <a:lnTo>
                    <a:pt x="633" y="549"/>
                  </a:lnTo>
                  <a:lnTo>
                    <a:pt x="640" y="538"/>
                  </a:lnTo>
                  <a:lnTo>
                    <a:pt x="644" y="526"/>
                  </a:lnTo>
                  <a:lnTo>
                    <a:pt x="649" y="511"/>
                  </a:lnTo>
                  <a:lnTo>
                    <a:pt x="653" y="493"/>
                  </a:lnTo>
                  <a:lnTo>
                    <a:pt x="657" y="473"/>
                  </a:lnTo>
                  <a:lnTo>
                    <a:pt x="659" y="452"/>
                  </a:lnTo>
                  <a:lnTo>
                    <a:pt x="660" y="427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2"/>
                  </a:lnTo>
                  <a:lnTo>
                    <a:pt x="563" y="324"/>
                  </a:lnTo>
                  <a:lnTo>
                    <a:pt x="579" y="287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10"/>
                  </a:lnTo>
                  <a:lnTo>
                    <a:pt x="614" y="189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7"/>
                  </a:lnTo>
                  <a:lnTo>
                    <a:pt x="483" y="77"/>
                  </a:lnTo>
                  <a:lnTo>
                    <a:pt x="475" y="95"/>
                  </a:lnTo>
                  <a:lnTo>
                    <a:pt x="464" y="119"/>
                  </a:lnTo>
                  <a:lnTo>
                    <a:pt x="451" y="145"/>
                  </a:lnTo>
                  <a:lnTo>
                    <a:pt x="439" y="175"/>
                  </a:lnTo>
                  <a:lnTo>
                    <a:pt x="434" y="191"/>
                  </a:lnTo>
                  <a:lnTo>
                    <a:pt x="430" y="205"/>
                  </a:lnTo>
                  <a:lnTo>
                    <a:pt x="428" y="221"/>
                  </a:lnTo>
                  <a:lnTo>
                    <a:pt x="426" y="237"/>
                  </a:lnTo>
                  <a:lnTo>
                    <a:pt x="426" y="253"/>
                  </a:lnTo>
                  <a:lnTo>
                    <a:pt x="429" y="268"/>
                  </a:lnTo>
                  <a:lnTo>
                    <a:pt x="431" y="276"/>
                  </a:lnTo>
                  <a:lnTo>
                    <a:pt x="433" y="284"/>
                  </a:lnTo>
                  <a:lnTo>
                    <a:pt x="437" y="291"/>
                  </a:lnTo>
                  <a:lnTo>
                    <a:pt x="440" y="298"/>
                  </a:lnTo>
                  <a:close/>
                </a:path>
              </a:pathLst>
            </a:custGeom>
            <a:solidFill>
              <a:srgbClr val="596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4000" y="3279960"/>
              <a:ext cx="110880" cy="100080"/>
            </a:xfrm>
            <a:custGeom>
              <a:avLst/>
              <a:gdLst/>
              <a:ahLst/>
              <a:rect l="l" t="t" r="r" b="b"/>
              <a:pathLst>
                <a:path w="347" h="315">
                  <a:moveTo>
                    <a:pt x="25" y="12"/>
                  </a:moveTo>
                  <a:lnTo>
                    <a:pt x="12" y="25"/>
                  </a:lnTo>
                  <a:lnTo>
                    <a:pt x="27" y="25"/>
                  </a:lnTo>
                  <a:lnTo>
                    <a:pt x="41" y="26"/>
                  </a:lnTo>
                  <a:lnTo>
                    <a:pt x="53" y="28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1"/>
                  </a:lnTo>
                  <a:lnTo>
                    <a:pt x="105" y="46"/>
                  </a:lnTo>
                  <a:lnTo>
                    <a:pt x="117" y="52"/>
                  </a:lnTo>
                  <a:lnTo>
                    <a:pt x="129" y="59"/>
                  </a:lnTo>
                  <a:lnTo>
                    <a:pt x="140" y="67"/>
                  </a:lnTo>
                  <a:lnTo>
                    <a:pt x="151" y="75"/>
                  </a:lnTo>
                  <a:lnTo>
                    <a:pt x="163" y="84"/>
                  </a:lnTo>
                  <a:lnTo>
                    <a:pt x="183" y="103"/>
                  </a:lnTo>
                  <a:lnTo>
                    <a:pt x="204" y="124"/>
                  </a:lnTo>
                  <a:lnTo>
                    <a:pt x="223" y="146"/>
                  </a:lnTo>
                  <a:lnTo>
                    <a:pt x="240" y="169"/>
                  </a:lnTo>
                  <a:lnTo>
                    <a:pt x="257" y="193"/>
                  </a:lnTo>
                  <a:lnTo>
                    <a:pt x="273" y="219"/>
                  </a:lnTo>
                  <a:lnTo>
                    <a:pt x="288" y="244"/>
                  </a:lnTo>
                  <a:lnTo>
                    <a:pt x="302" y="269"/>
                  </a:lnTo>
                  <a:lnTo>
                    <a:pt x="314" y="293"/>
                  </a:lnTo>
                  <a:lnTo>
                    <a:pt x="326" y="315"/>
                  </a:lnTo>
                  <a:lnTo>
                    <a:pt x="347" y="305"/>
                  </a:lnTo>
                  <a:lnTo>
                    <a:pt x="336" y="281"/>
                  </a:lnTo>
                  <a:lnTo>
                    <a:pt x="322" y="257"/>
                  </a:lnTo>
                  <a:lnTo>
                    <a:pt x="309" y="231"/>
                  </a:lnTo>
                  <a:lnTo>
                    <a:pt x="294" y="206"/>
                  </a:lnTo>
                  <a:lnTo>
                    <a:pt x="278" y="181"/>
                  </a:lnTo>
                  <a:lnTo>
                    <a:pt x="261" y="156"/>
                  </a:lnTo>
                  <a:lnTo>
                    <a:pt x="241" y="131"/>
                  </a:lnTo>
                  <a:lnTo>
                    <a:pt x="222" y="108"/>
                  </a:lnTo>
                  <a:lnTo>
                    <a:pt x="200" y="85"/>
                  </a:lnTo>
                  <a:lnTo>
                    <a:pt x="178" y="66"/>
                  </a:lnTo>
                  <a:lnTo>
                    <a:pt x="166" y="55"/>
                  </a:lnTo>
                  <a:lnTo>
                    <a:pt x="154" y="46"/>
                  </a:lnTo>
                  <a:lnTo>
                    <a:pt x="141" y="38"/>
                  </a:lnTo>
                  <a:lnTo>
                    <a:pt x="129" y="32"/>
                  </a:lnTo>
                  <a:lnTo>
                    <a:pt x="115" y="25"/>
                  </a:lnTo>
                  <a:lnTo>
                    <a:pt x="101" y="18"/>
                  </a:lnTo>
                  <a:lnTo>
                    <a:pt x="88" y="12"/>
                  </a:lnTo>
                  <a:lnTo>
                    <a:pt x="74" y="9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8" y="1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0"/>
                  </a:lnTo>
                  <a:lnTo>
                    <a:pt x="7" y="24"/>
                  </a:lnTo>
                  <a:lnTo>
                    <a:pt x="12" y="2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04000" y="3283200"/>
              <a:ext cx="42840" cy="106200"/>
            </a:xfrm>
            <a:custGeom>
              <a:avLst/>
              <a:gdLst/>
              <a:ahLst/>
              <a:rect l="l" t="t" r="r" b="b"/>
              <a:pathLst>
                <a:path w="135" h="336">
                  <a:moveTo>
                    <a:pt x="135" y="315"/>
                  </a:moveTo>
                  <a:lnTo>
                    <a:pt x="135" y="315"/>
                  </a:lnTo>
                  <a:lnTo>
                    <a:pt x="124" y="309"/>
                  </a:lnTo>
                  <a:lnTo>
                    <a:pt x="114" y="303"/>
                  </a:lnTo>
                  <a:lnTo>
                    <a:pt x="104" y="297"/>
                  </a:lnTo>
                  <a:lnTo>
                    <a:pt x="94" y="290"/>
                  </a:lnTo>
                  <a:lnTo>
                    <a:pt x="86" y="283"/>
                  </a:lnTo>
                  <a:lnTo>
                    <a:pt x="78" y="275"/>
                  </a:lnTo>
                  <a:lnTo>
                    <a:pt x="72" y="267"/>
                  </a:lnTo>
                  <a:lnTo>
                    <a:pt x="66" y="259"/>
                  </a:lnTo>
                  <a:lnTo>
                    <a:pt x="59" y="251"/>
                  </a:lnTo>
                  <a:lnTo>
                    <a:pt x="55" y="242"/>
                  </a:lnTo>
                  <a:lnTo>
                    <a:pt x="50" y="233"/>
                  </a:lnTo>
                  <a:lnTo>
                    <a:pt x="45" y="224"/>
                  </a:lnTo>
                  <a:lnTo>
                    <a:pt x="39" y="203"/>
                  </a:lnTo>
                  <a:lnTo>
                    <a:pt x="33" y="183"/>
                  </a:lnTo>
                  <a:lnTo>
                    <a:pt x="29" y="161"/>
                  </a:lnTo>
                  <a:lnTo>
                    <a:pt x="27" y="138"/>
                  </a:lnTo>
                  <a:lnTo>
                    <a:pt x="25" y="115"/>
                  </a:lnTo>
                  <a:lnTo>
                    <a:pt x="24" y="93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3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10" y="187"/>
                  </a:lnTo>
                  <a:lnTo>
                    <a:pt x="16" y="210"/>
                  </a:lnTo>
                  <a:lnTo>
                    <a:pt x="23" y="232"/>
                  </a:lnTo>
                  <a:lnTo>
                    <a:pt x="28" y="243"/>
                  </a:lnTo>
                  <a:lnTo>
                    <a:pt x="33" y="253"/>
                  </a:lnTo>
                  <a:lnTo>
                    <a:pt x="40" y="264"/>
                  </a:lnTo>
                  <a:lnTo>
                    <a:pt x="45" y="273"/>
                  </a:lnTo>
                  <a:lnTo>
                    <a:pt x="53" y="283"/>
                  </a:lnTo>
                  <a:lnTo>
                    <a:pt x="61" y="292"/>
                  </a:lnTo>
                  <a:lnTo>
                    <a:pt x="69" y="300"/>
                  </a:lnTo>
                  <a:lnTo>
                    <a:pt x="80" y="309"/>
                  </a:lnTo>
                  <a:lnTo>
                    <a:pt x="90" y="316"/>
                  </a:lnTo>
                  <a:lnTo>
                    <a:pt x="100" y="324"/>
                  </a:lnTo>
                  <a:lnTo>
                    <a:pt x="113" y="331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5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81680" y="3383280"/>
              <a:ext cx="71280" cy="34920"/>
            </a:xfrm>
            <a:custGeom>
              <a:avLst/>
              <a:gdLst/>
              <a:ahLst/>
              <a:rect l="l" t="t" r="r" b="b"/>
              <a:pathLst>
                <a:path w="223" h="108">
                  <a:moveTo>
                    <a:pt x="18" y="107"/>
                  </a:moveTo>
                  <a:lnTo>
                    <a:pt x="18" y="108"/>
                  </a:lnTo>
                  <a:lnTo>
                    <a:pt x="23" y="101"/>
                  </a:lnTo>
                  <a:lnTo>
                    <a:pt x="31" y="97"/>
                  </a:lnTo>
                  <a:lnTo>
                    <a:pt x="38" y="91"/>
                  </a:lnTo>
                  <a:lnTo>
                    <a:pt x="46" y="86"/>
                  </a:lnTo>
                  <a:lnTo>
                    <a:pt x="63" y="77"/>
                  </a:lnTo>
                  <a:lnTo>
                    <a:pt x="81" y="70"/>
                  </a:lnTo>
                  <a:lnTo>
                    <a:pt x="101" y="64"/>
                  </a:lnTo>
                  <a:lnTo>
                    <a:pt x="119" y="59"/>
                  </a:lnTo>
                  <a:lnTo>
                    <a:pt x="138" y="55"/>
                  </a:lnTo>
                  <a:lnTo>
                    <a:pt x="155" y="50"/>
                  </a:lnTo>
                  <a:lnTo>
                    <a:pt x="187" y="44"/>
                  </a:lnTo>
                  <a:lnTo>
                    <a:pt x="208" y="39"/>
                  </a:lnTo>
                  <a:lnTo>
                    <a:pt x="214" y="35"/>
                  </a:lnTo>
                  <a:lnTo>
                    <a:pt x="218" y="32"/>
                  </a:lnTo>
                  <a:lnTo>
                    <a:pt x="223" y="26"/>
                  </a:lnTo>
                  <a:lnTo>
                    <a:pt x="223" y="17"/>
                  </a:lnTo>
                  <a:lnTo>
                    <a:pt x="219" y="10"/>
                  </a:lnTo>
                  <a:lnTo>
                    <a:pt x="215" y="7"/>
                  </a:lnTo>
                  <a:lnTo>
                    <a:pt x="210" y="3"/>
                  </a:lnTo>
                  <a:lnTo>
                    <a:pt x="204" y="0"/>
                  </a:lnTo>
                  <a:lnTo>
                    <a:pt x="194" y="21"/>
                  </a:lnTo>
                  <a:lnTo>
                    <a:pt x="198" y="24"/>
                  </a:lnTo>
                  <a:lnTo>
                    <a:pt x="200" y="25"/>
                  </a:lnTo>
                  <a:lnTo>
                    <a:pt x="200" y="26"/>
                  </a:lnTo>
                  <a:lnTo>
                    <a:pt x="199" y="23"/>
                  </a:lnTo>
                  <a:lnTo>
                    <a:pt x="200" y="18"/>
                  </a:lnTo>
                  <a:lnTo>
                    <a:pt x="201" y="16"/>
                  </a:lnTo>
                  <a:lnTo>
                    <a:pt x="201" y="15"/>
                  </a:lnTo>
                  <a:lnTo>
                    <a:pt x="201" y="16"/>
                  </a:lnTo>
                  <a:lnTo>
                    <a:pt x="182" y="20"/>
                  </a:lnTo>
                  <a:lnTo>
                    <a:pt x="151" y="27"/>
                  </a:lnTo>
                  <a:lnTo>
                    <a:pt x="133" y="31"/>
                  </a:lnTo>
                  <a:lnTo>
                    <a:pt x="113" y="35"/>
                  </a:lnTo>
                  <a:lnTo>
                    <a:pt x="94" y="41"/>
                  </a:lnTo>
                  <a:lnTo>
                    <a:pt x="73" y="48"/>
                  </a:lnTo>
                  <a:lnTo>
                    <a:pt x="53" y="56"/>
                  </a:lnTo>
                  <a:lnTo>
                    <a:pt x="35" y="65"/>
                  </a:lnTo>
                  <a:lnTo>
                    <a:pt x="26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67280" y="3411720"/>
              <a:ext cx="20880" cy="6372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2"/>
                  </a:moveTo>
                  <a:lnTo>
                    <a:pt x="24" y="185"/>
                  </a:lnTo>
                  <a:lnTo>
                    <a:pt x="24" y="162"/>
                  </a:lnTo>
                  <a:lnTo>
                    <a:pt x="24" y="139"/>
                  </a:lnTo>
                  <a:lnTo>
                    <a:pt x="26" y="116"/>
                  </a:lnTo>
                  <a:lnTo>
                    <a:pt x="29" y="93"/>
                  </a:lnTo>
                  <a:lnTo>
                    <a:pt x="31" y="82"/>
                  </a:lnTo>
                  <a:lnTo>
                    <a:pt x="34" y="72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5" y="42"/>
                  </a:lnTo>
                  <a:lnTo>
                    <a:pt x="51" y="33"/>
                  </a:lnTo>
                  <a:lnTo>
                    <a:pt x="57" y="24"/>
                  </a:lnTo>
                  <a:lnTo>
                    <a:pt x="64" y="16"/>
                  </a:lnTo>
                  <a:lnTo>
                    <a:pt x="46" y="0"/>
                  </a:lnTo>
                  <a:lnTo>
                    <a:pt x="37" y="9"/>
                  </a:lnTo>
                  <a:lnTo>
                    <a:pt x="31" y="19"/>
                  </a:lnTo>
                  <a:lnTo>
                    <a:pt x="24" y="31"/>
                  </a:lnTo>
                  <a:lnTo>
                    <a:pt x="19" y="42"/>
                  </a:lnTo>
                  <a:lnTo>
                    <a:pt x="15" y="54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5" y="89"/>
                  </a:lnTo>
                  <a:lnTo>
                    <a:pt x="2" y="114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85"/>
                  </a:lnTo>
                  <a:lnTo>
                    <a:pt x="11" y="197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3" y="194"/>
                  </a:lnTo>
                  <a:lnTo>
                    <a:pt x="7" y="196"/>
                  </a:lnTo>
                  <a:lnTo>
                    <a:pt x="11" y="197"/>
                  </a:lnTo>
                  <a:lnTo>
                    <a:pt x="16" y="196"/>
                  </a:lnTo>
                  <a:lnTo>
                    <a:pt x="20" y="194"/>
                  </a:lnTo>
                  <a:lnTo>
                    <a:pt x="23" y="190"/>
                  </a:lnTo>
                  <a:lnTo>
                    <a:pt x="24" y="185"/>
                  </a:lnTo>
                  <a:lnTo>
                    <a:pt x="11" y="17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70520" y="3424680"/>
              <a:ext cx="115920" cy="50760"/>
            </a:xfrm>
            <a:custGeom>
              <a:avLst/>
              <a:gdLst/>
              <a:ahLst/>
              <a:rect l="l" t="t" r="r" b="b"/>
              <a:pathLst>
                <a:path w="363" h="156">
                  <a:moveTo>
                    <a:pt x="356" y="1"/>
                  </a:moveTo>
                  <a:lnTo>
                    <a:pt x="340" y="7"/>
                  </a:lnTo>
                  <a:lnTo>
                    <a:pt x="334" y="18"/>
                  </a:lnTo>
                  <a:lnTo>
                    <a:pt x="328" y="30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7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9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2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5"/>
                  </a:lnTo>
                  <a:lnTo>
                    <a:pt x="128" y="128"/>
                  </a:lnTo>
                  <a:lnTo>
                    <a:pt x="102" y="130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6"/>
                  </a:lnTo>
                  <a:lnTo>
                    <a:pt x="51" y="155"/>
                  </a:lnTo>
                  <a:lnTo>
                    <a:pt x="103" y="154"/>
                  </a:lnTo>
                  <a:lnTo>
                    <a:pt x="130" y="152"/>
                  </a:lnTo>
                  <a:lnTo>
                    <a:pt x="155" y="149"/>
                  </a:lnTo>
                  <a:lnTo>
                    <a:pt x="181" y="145"/>
                  </a:lnTo>
                  <a:lnTo>
                    <a:pt x="206" y="139"/>
                  </a:lnTo>
                  <a:lnTo>
                    <a:pt x="230" y="132"/>
                  </a:lnTo>
                  <a:lnTo>
                    <a:pt x="254" y="123"/>
                  </a:lnTo>
                  <a:lnTo>
                    <a:pt x="266" y="117"/>
                  </a:lnTo>
                  <a:lnTo>
                    <a:pt x="276" y="112"/>
                  </a:lnTo>
                  <a:lnTo>
                    <a:pt x="287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7" y="82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2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1" y="17"/>
                  </a:lnTo>
                  <a:lnTo>
                    <a:pt x="345" y="23"/>
                  </a:lnTo>
                  <a:lnTo>
                    <a:pt x="361" y="17"/>
                  </a:lnTo>
                  <a:lnTo>
                    <a:pt x="363" y="11"/>
                  </a:lnTo>
                  <a:lnTo>
                    <a:pt x="361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3"/>
                  </a:lnTo>
                  <a:lnTo>
                    <a:pt x="340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79960" y="3405600"/>
              <a:ext cx="104760" cy="63360"/>
            </a:xfrm>
            <a:custGeom>
              <a:avLst/>
              <a:gdLst/>
              <a:ahLst/>
              <a:rect l="l" t="t" r="r" b="b"/>
              <a:pathLst>
                <a:path w="328" h="200">
                  <a:moveTo>
                    <a:pt x="315" y="24"/>
                  </a:moveTo>
                  <a:lnTo>
                    <a:pt x="304" y="11"/>
                  </a:lnTo>
                  <a:lnTo>
                    <a:pt x="302" y="38"/>
                  </a:lnTo>
                  <a:lnTo>
                    <a:pt x="301" y="63"/>
                  </a:lnTo>
                  <a:lnTo>
                    <a:pt x="299" y="85"/>
                  </a:lnTo>
                  <a:lnTo>
                    <a:pt x="296" y="103"/>
                  </a:lnTo>
                  <a:lnTo>
                    <a:pt x="292" y="120"/>
                  </a:lnTo>
                  <a:lnTo>
                    <a:pt x="288" y="134"/>
                  </a:lnTo>
                  <a:lnTo>
                    <a:pt x="283" y="146"/>
                  </a:lnTo>
                  <a:lnTo>
                    <a:pt x="277" y="156"/>
                  </a:lnTo>
                  <a:lnTo>
                    <a:pt x="272" y="163"/>
                  </a:lnTo>
                  <a:lnTo>
                    <a:pt x="266" y="168"/>
                  </a:lnTo>
                  <a:lnTo>
                    <a:pt x="260" y="172"/>
                  </a:lnTo>
                  <a:lnTo>
                    <a:pt x="253" y="174"/>
                  </a:lnTo>
                  <a:lnTo>
                    <a:pt x="246" y="176"/>
                  </a:lnTo>
                  <a:lnTo>
                    <a:pt x="238" y="176"/>
                  </a:lnTo>
                  <a:lnTo>
                    <a:pt x="228" y="175"/>
                  </a:lnTo>
                  <a:lnTo>
                    <a:pt x="219" y="174"/>
                  </a:lnTo>
                  <a:lnTo>
                    <a:pt x="209" y="171"/>
                  </a:lnTo>
                  <a:lnTo>
                    <a:pt x="198" y="167"/>
                  </a:lnTo>
                  <a:lnTo>
                    <a:pt x="186" y="162"/>
                  </a:lnTo>
                  <a:lnTo>
                    <a:pt x="175" y="156"/>
                  </a:lnTo>
                  <a:lnTo>
                    <a:pt x="149" y="142"/>
                  </a:lnTo>
                  <a:lnTo>
                    <a:pt x="122" y="126"/>
                  </a:lnTo>
                  <a:lnTo>
                    <a:pt x="95" y="110"/>
                  </a:lnTo>
                  <a:lnTo>
                    <a:pt x="68" y="93"/>
                  </a:lnTo>
                  <a:lnTo>
                    <a:pt x="39" y="76"/>
                  </a:lnTo>
                  <a:lnTo>
                    <a:pt x="11" y="61"/>
                  </a:lnTo>
                  <a:lnTo>
                    <a:pt x="0" y="83"/>
                  </a:lnTo>
                  <a:lnTo>
                    <a:pt x="28" y="98"/>
                  </a:lnTo>
                  <a:lnTo>
                    <a:pt x="55" y="114"/>
                  </a:lnTo>
                  <a:lnTo>
                    <a:pt x="83" y="131"/>
                  </a:lnTo>
                  <a:lnTo>
                    <a:pt x="110" y="148"/>
                  </a:lnTo>
                  <a:lnTo>
                    <a:pt x="137" y="164"/>
                  </a:lnTo>
                  <a:lnTo>
                    <a:pt x="163" y="177"/>
                  </a:lnTo>
                  <a:lnTo>
                    <a:pt x="176" y="183"/>
                  </a:lnTo>
                  <a:lnTo>
                    <a:pt x="189" y="189"/>
                  </a:lnTo>
                  <a:lnTo>
                    <a:pt x="201" y="193"/>
                  </a:lnTo>
                  <a:lnTo>
                    <a:pt x="214" y="197"/>
                  </a:lnTo>
                  <a:lnTo>
                    <a:pt x="225" y="199"/>
                  </a:lnTo>
                  <a:lnTo>
                    <a:pt x="238" y="200"/>
                  </a:lnTo>
                  <a:lnTo>
                    <a:pt x="249" y="200"/>
                  </a:lnTo>
                  <a:lnTo>
                    <a:pt x="260" y="198"/>
                  </a:lnTo>
                  <a:lnTo>
                    <a:pt x="271" y="193"/>
                  </a:lnTo>
                  <a:lnTo>
                    <a:pt x="281" y="188"/>
                  </a:lnTo>
                  <a:lnTo>
                    <a:pt x="290" y="179"/>
                  </a:lnTo>
                  <a:lnTo>
                    <a:pt x="298" y="168"/>
                  </a:lnTo>
                  <a:lnTo>
                    <a:pt x="305" y="157"/>
                  </a:lnTo>
                  <a:lnTo>
                    <a:pt x="310" y="142"/>
                  </a:lnTo>
                  <a:lnTo>
                    <a:pt x="316" y="126"/>
                  </a:lnTo>
                  <a:lnTo>
                    <a:pt x="320" y="108"/>
                  </a:lnTo>
                  <a:lnTo>
                    <a:pt x="323" y="87"/>
                  </a:lnTo>
                  <a:lnTo>
                    <a:pt x="325" y="65"/>
                  </a:lnTo>
                  <a:lnTo>
                    <a:pt x="326" y="40"/>
                  </a:lnTo>
                  <a:lnTo>
                    <a:pt x="328" y="11"/>
                  </a:lnTo>
                  <a:lnTo>
                    <a:pt x="315" y="0"/>
                  </a:lnTo>
                  <a:lnTo>
                    <a:pt x="328" y="11"/>
                  </a:lnTo>
                  <a:lnTo>
                    <a:pt x="326" y="6"/>
                  </a:lnTo>
                  <a:lnTo>
                    <a:pt x="324" y="2"/>
                  </a:lnTo>
                  <a:lnTo>
                    <a:pt x="320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7" y="2"/>
                  </a:lnTo>
                  <a:lnTo>
                    <a:pt x="305" y="6"/>
                  </a:lnTo>
                  <a:lnTo>
                    <a:pt x="304" y="11"/>
                  </a:lnTo>
                  <a:lnTo>
                    <a:pt x="315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035760" y="3405600"/>
              <a:ext cx="44280" cy="792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2" y="6"/>
                  </a:moveTo>
                  <a:lnTo>
                    <a:pt x="13" y="24"/>
                  </a:lnTo>
                  <a:lnTo>
                    <a:pt x="144" y="24"/>
                  </a:lnTo>
                  <a:lnTo>
                    <a:pt x="144" y="0"/>
                  </a:lnTo>
                  <a:lnTo>
                    <a:pt x="13" y="0"/>
                  </a:lnTo>
                  <a:lnTo>
                    <a:pt x="2" y="6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035760" y="3303720"/>
              <a:ext cx="39600" cy="108000"/>
            </a:xfrm>
            <a:custGeom>
              <a:avLst/>
              <a:gdLst/>
              <a:ahLst/>
              <a:rect l="l" t="t" r="r" b="b"/>
              <a:pathLst>
                <a:path w="124" h="340">
                  <a:moveTo>
                    <a:pt x="111" y="24"/>
                  </a:moveTo>
                  <a:lnTo>
                    <a:pt x="99" y="13"/>
                  </a:lnTo>
                  <a:lnTo>
                    <a:pt x="99" y="36"/>
                  </a:lnTo>
                  <a:lnTo>
                    <a:pt x="96" y="58"/>
                  </a:lnTo>
                  <a:lnTo>
                    <a:pt x="94" y="81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79" y="143"/>
                  </a:lnTo>
                  <a:lnTo>
                    <a:pt x="73" y="162"/>
                  </a:lnTo>
                  <a:lnTo>
                    <a:pt x="66" y="180"/>
                  </a:lnTo>
                  <a:lnTo>
                    <a:pt x="51" y="219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2" y="340"/>
                  </a:lnTo>
                  <a:lnTo>
                    <a:pt x="38" y="302"/>
                  </a:lnTo>
                  <a:lnTo>
                    <a:pt x="55" y="266"/>
                  </a:lnTo>
                  <a:lnTo>
                    <a:pt x="73" y="228"/>
                  </a:lnTo>
                  <a:lnTo>
                    <a:pt x="88" y="189"/>
                  </a:lnTo>
                  <a:lnTo>
                    <a:pt x="95" y="170"/>
                  </a:lnTo>
                  <a:lnTo>
                    <a:pt x="102" y="149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0" y="62"/>
                  </a:lnTo>
                  <a:lnTo>
                    <a:pt x="123" y="38"/>
                  </a:lnTo>
                  <a:lnTo>
                    <a:pt x="124" y="13"/>
                  </a:lnTo>
                  <a:lnTo>
                    <a:pt x="111" y="0"/>
                  </a:lnTo>
                  <a:lnTo>
                    <a:pt x="124" y="13"/>
                  </a:lnTo>
                  <a:lnTo>
                    <a:pt x="123" y="7"/>
                  </a:lnTo>
                  <a:lnTo>
                    <a:pt x="119" y="3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1"/>
                  </a:lnTo>
                  <a:lnTo>
                    <a:pt x="103" y="3"/>
                  </a:lnTo>
                  <a:lnTo>
                    <a:pt x="100" y="7"/>
                  </a:lnTo>
                  <a:lnTo>
                    <a:pt x="99" y="13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021360" y="3303720"/>
              <a:ext cx="4932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1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1" y="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7" y="24"/>
                  </a:lnTo>
                  <a:lnTo>
                    <a:pt x="1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002280" y="3305520"/>
              <a:ext cx="25560" cy="75960"/>
            </a:xfrm>
            <a:custGeom>
              <a:avLst/>
              <a:gdLst/>
              <a:ahLst/>
              <a:rect l="l" t="t" r="r" b="b"/>
              <a:pathLst>
                <a:path w="81" h="238">
                  <a:moveTo>
                    <a:pt x="16" y="231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7"/>
                  </a:lnTo>
                  <a:lnTo>
                    <a:pt x="28" y="201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5" y="152"/>
                  </a:lnTo>
                  <a:lnTo>
                    <a:pt x="28" y="137"/>
                  </a:lnTo>
                  <a:lnTo>
                    <a:pt x="32" y="122"/>
                  </a:lnTo>
                  <a:lnTo>
                    <a:pt x="36" y="107"/>
                  </a:lnTo>
                  <a:lnTo>
                    <a:pt x="49" y="79"/>
                  </a:lnTo>
                  <a:lnTo>
                    <a:pt x="61" y="51"/>
                  </a:lnTo>
                  <a:lnTo>
                    <a:pt x="73" y="28"/>
                  </a:lnTo>
                  <a:lnTo>
                    <a:pt x="81" y="8"/>
                  </a:lnTo>
                  <a:lnTo>
                    <a:pt x="58" y="0"/>
                  </a:lnTo>
                  <a:lnTo>
                    <a:pt x="50" y="18"/>
                  </a:lnTo>
                  <a:lnTo>
                    <a:pt x="39" y="41"/>
                  </a:lnTo>
                  <a:lnTo>
                    <a:pt x="26" y="68"/>
                  </a:lnTo>
                  <a:lnTo>
                    <a:pt x="14" y="98"/>
                  </a:lnTo>
                  <a:lnTo>
                    <a:pt x="9" y="115"/>
                  </a:lnTo>
                  <a:lnTo>
                    <a:pt x="4" y="131"/>
                  </a:lnTo>
                  <a:lnTo>
                    <a:pt x="1" y="148"/>
                  </a:lnTo>
                  <a:lnTo>
                    <a:pt x="0" y="165"/>
                  </a:lnTo>
                  <a:lnTo>
                    <a:pt x="0" y="182"/>
                  </a:lnTo>
                  <a:lnTo>
                    <a:pt x="3" y="198"/>
                  </a:lnTo>
                  <a:lnTo>
                    <a:pt x="6" y="207"/>
                  </a:lnTo>
                  <a:lnTo>
                    <a:pt x="8" y="215"/>
                  </a:lnTo>
                  <a:lnTo>
                    <a:pt x="11" y="225"/>
                  </a:lnTo>
                  <a:lnTo>
                    <a:pt x="16" y="233"/>
                  </a:lnTo>
                  <a:lnTo>
                    <a:pt x="37" y="221"/>
                  </a:lnTo>
                  <a:lnTo>
                    <a:pt x="16" y="233"/>
                  </a:lnTo>
                  <a:lnTo>
                    <a:pt x="19" y="236"/>
                  </a:lnTo>
                  <a:lnTo>
                    <a:pt x="24" y="238"/>
                  </a:lnTo>
                  <a:lnTo>
                    <a:pt x="28" y="238"/>
                  </a:lnTo>
                  <a:lnTo>
                    <a:pt x="33" y="236"/>
                  </a:lnTo>
                  <a:lnTo>
                    <a:pt x="36" y="234"/>
                  </a:lnTo>
                  <a:lnTo>
                    <a:pt x="39" y="229"/>
                  </a:lnTo>
                  <a:lnTo>
                    <a:pt x="39" y="225"/>
                  </a:lnTo>
                  <a:lnTo>
                    <a:pt x="36" y="220"/>
                  </a:lnTo>
                  <a:lnTo>
                    <a:pt x="16" y="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43280" y="3231000"/>
              <a:ext cx="209520" cy="187200"/>
            </a:xfrm>
            <a:custGeom>
              <a:avLst/>
              <a:gdLst/>
              <a:ahLst/>
              <a:rect l="l" t="t" r="r" b="b"/>
              <a:pathLst>
                <a:path w="660" h="591">
                  <a:moveTo>
                    <a:pt x="439" y="298"/>
                  </a:moveTo>
                  <a:lnTo>
                    <a:pt x="428" y="274"/>
                  </a:lnTo>
                  <a:lnTo>
                    <a:pt x="415" y="250"/>
                  </a:lnTo>
                  <a:lnTo>
                    <a:pt x="401" y="225"/>
                  </a:lnTo>
                  <a:lnTo>
                    <a:pt x="387" y="200"/>
                  </a:lnTo>
                  <a:lnTo>
                    <a:pt x="371" y="174"/>
                  </a:lnTo>
                  <a:lnTo>
                    <a:pt x="354" y="150"/>
                  </a:lnTo>
                  <a:lnTo>
                    <a:pt x="337" y="125"/>
                  </a:lnTo>
                  <a:lnTo>
                    <a:pt x="317" y="103"/>
                  </a:lnTo>
                  <a:lnTo>
                    <a:pt x="295" y="82"/>
                  </a:lnTo>
                  <a:lnTo>
                    <a:pt x="274" y="62"/>
                  </a:lnTo>
                  <a:lnTo>
                    <a:pt x="262" y="52"/>
                  </a:lnTo>
                  <a:lnTo>
                    <a:pt x="251" y="44"/>
                  </a:lnTo>
                  <a:lnTo>
                    <a:pt x="240" y="36"/>
                  </a:lnTo>
                  <a:lnTo>
                    <a:pt x="227" y="29"/>
                  </a:lnTo>
                  <a:lnTo>
                    <a:pt x="215" y="23"/>
                  </a:lnTo>
                  <a:lnTo>
                    <a:pt x="201" y="17"/>
                  </a:lnTo>
                  <a:lnTo>
                    <a:pt x="188" y="11"/>
                  </a:lnTo>
                  <a:lnTo>
                    <a:pt x="175" y="7"/>
                  </a:lnTo>
                  <a:lnTo>
                    <a:pt x="160" y="5"/>
                  </a:lnTo>
                  <a:lnTo>
                    <a:pt x="146" y="1"/>
                  </a:lnTo>
                  <a:lnTo>
                    <a:pt x="131" y="0"/>
                  </a:lnTo>
                  <a:lnTo>
                    <a:pt x="117" y="0"/>
                  </a:lnTo>
                  <a:lnTo>
                    <a:pt x="117" y="46"/>
                  </a:lnTo>
                  <a:lnTo>
                    <a:pt x="117" y="92"/>
                  </a:lnTo>
                  <a:lnTo>
                    <a:pt x="117" y="116"/>
                  </a:lnTo>
                  <a:lnTo>
                    <a:pt x="119" y="139"/>
                  </a:lnTo>
                  <a:lnTo>
                    <a:pt x="121" y="162"/>
                  </a:lnTo>
                  <a:lnTo>
                    <a:pt x="126" y="185"/>
                  </a:lnTo>
                  <a:lnTo>
                    <a:pt x="131" y="206"/>
                  </a:lnTo>
                  <a:lnTo>
                    <a:pt x="138" y="227"/>
                  </a:lnTo>
                  <a:lnTo>
                    <a:pt x="143" y="237"/>
                  </a:lnTo>
                  <a:lnTo>
                    <a:pt x="148" y="247"/>
                  </a:lnTo>
                  <a:lnTo>
                    <a:pt x="153" y="257"/>
                  </a:lnTo>
                  <a:lnTo>
                    <a:pt x="160" y="266"/>
                  </a:lnTo>
                  <a:lnTo>
                    <a:pt x="167" y="275"/>
                  </a:lnTo>
                  <a:lnTo>
                    <a:pt x="174" y="283"/>
                  </a:lnTo>
                  <a:lnTo>
                    <a:pt x="183" y="291"/>
                  </a:lnTo>
                  <a:lnTo>
                    <a:pt x="191" y="299"/>
                  </a:lnTo>
                  <a:lnTo>
                    <a:pt x="201" y="306"/>
                  </a:lnTo>
                  <a:lnTo>
                    <a:pt x="211" y="312"/>
                  </a:lnTo>
                  <a:lnTo>
                    <a:pt x="223" y="319"/>
                  </a:lnTo>
                  <a:lnTo>
                    <a:pt x="234" y="325"/>
                  </a:lnTo>
                  <a:lnTo>
                    <a:pt x="240" y="328"/>
                  </a:lnTo>
                  <a:lnTo>
                    <a:pt x="243" y="331"/>
                  </a:lnTo>
                  <a:lnTo>
                    <a:pt x="245" y="333"/>
                  </a:lnTo>
                  <a:lnTo>
                    <a:pt x="246" y="334"/>
                  </a:lnTo>
                  <a:lnTo>
                    <a:pt x="246" y="336"/>
                  </a:lnTo>
                  <a:lnTo>
                    <a:pt x="245" y="339"/>
                  </a:lnTo>
                  <a:lnTo>
                    <a:pt x="243" y="340"/>
                  </a:lnTo>
                  <a:lnTo>
                    <a:pt x="240" y="341"/>
                  </a:lnTo>
                  <a:lnTo>
                    <a:pt x="219" y="347"/>
                  </a:lnTo>
                  <a:lnTo>
                    <a:pt x="188" y="353"/>
                  </a:lnTo>
                  <a:lnTo>
                    <a:pt x="170" y="357"/>
                  </a:lnTo>
                  <a:lnTo>
                    <a:pt x="152" y="361"/>
                  </a:lnTo>
                  <a:lnTo>
                    <a:pt x="133" y="367"/>
                  </a:lnTo>
                  <a:lnTo>
                    <a:pt x="113" y="373"/>
                  </a:lnTo>
                  <a:lnTo>
                    <a:pt x="94" y="381"/>
                  </a:lnTo>
                  <a:lnTo>
                    <a:pt x="76" y="390"/>
                  </a:lnTo>
                  <a:lnTo>
                    <a:pt x="66" y="396"/>
                  </a:lnTo>
                  <a:lnTo>
                    <a:pt x="58" y="401"/>
                  </a:lnTo>
                  <a:lnTo>
                    <a:pt x="50" y="407"/>
                  </a:lnTo>
                  <a:lnTo>
                    <a:pt x="44" y="414"/>
                  </a:lnTo>
                  <a:lnTo>
                    <a:pt x="37" y="422"/>
                  </a:lnTo>
                  <a:lnTo>
                    <a:pt x="30" y="432"/>
                  </a:lnTo>
                  <a:lnTo>
                    <a:pt x="24" y="441"/>
                  </a:lnTo>
                  <a:lnTo>
                    <a:pt x="19" y="451"/>
                  </a:lnTo>
                  <a:lnTo>
                    <a:pt x="15" y="463"/>
                  </a:lnTo>
                  <a:lnTo>
                    <a:pt x="12" y="474"/>
                  </a:lnTo>
                  <a:lnTo>
                    <a:pt x="8" y="486"/>
                  </a:lnTo>
                  <a:lnTo>
                    <a:pt x="6" y="497"/>
                  </a:lnTo>
                  <a:lnTo>
                    <a:pt x="3" y="520"/>
                  </a:lnTo>
                  <a:lnTo>
                    <a:pt x="1" y="544"/>
                  </a:lnTo>
                  <a:lnTo>
                    <a:pt x="0" y="568"/>
                  </a:lnTo>
                  <a:lnTo>
                    <a:pt x="0" y="591"/>
                  </a:lnTo>
                  <a:lnTo>
                    <a:pt x="52" y="591"/>
                  </a:lnTo>
                  <a:lnTo>
                    <a:pt x="103" y="588"/>
                  </a:lnTo>
                  <a:lnTo>
                    <a:pt x="128" y="586"/>
                  </a:lnTo>
                  <a:lnTo>
                    <a:pt x="154" y="584"/>
                  </a:lnTo>
                  <a:lnTo>
                    <a:pt x="179" y="579"/>
                  </a:lnTo>
                  <a:lnTo>
                    <a:pt x="203" y="573"/>
                  </a:lnTo>
                  <a:lnTo>
                    <a:pt x="227" y="567"/>
                  </a:lnTo>
                  <a:lnTo>
                    <a:pt x="249" y="559"/>
                  </a:lnTo>
                  <a:lnTo>
                    <a:pt x="260" y="553"/>
                  </a:lnTo>
                  <a:lnTo>
                    <a:pt x="270" y="547"/>
                  </a:lnTo>
                  <a:lnTo>
                    <a:pt x="281" y="542"/>
                  </a:lnTo>
                  <a:lnTo>
                    <a:pt x="290" y="535"/>
                  </a:lnTo>
                  <a:lnTo>
                    <a:pt x="299" y="528"/>
                  </a:lnTo>
                  <a:lnTo>
                    <a:pt x="308" y="520"/>
                  </a:lnTo>
                  <a:lnTo>
                    <a:pt x="316" y="511"/>
                  </a:lnTo>
                  <a:lnTo>
                    <a:pt x="324" y="502"/>
                  </a:lnTo>
                  <a:lnTo>
                    <a:pt x="332" y="492"/>
                  </a:lnTo>
                  <a:lnTo>
                    <a:pt x="339" y="482"/>
                  </a:lnTo>
                  <a:lnTo>
                    <a:pt x="344" y="471"/>
                  </a:lnTo>
                  <a:lnTo>
                    <a:pt x="350" y="458"/>
                  </a:lnTo>
                  <a:lnTo>
                    <a:pt x="379" y="473"/>
                  </a:lnTo>
                  <a:lnTo>
                    <a:pt x="406" y="489"/>
                  </a:lnTo>
                  <a:lnTo>
                    <a:pt x="435" y="506"/>
                  </a:lnTo>
                  <a:lnTo>
                    <a:pt x="462" y="523"/>
                  </a:lnTo>
                  <a:lnTo>
                    <a:pt x="488" y="539"/>
                  </a:lnTo>
                  <a:lnTo>
                    <a:pt x="514" y="553"/>
                  </a:lnTo>
                  <a:lnTo>
                    <a:pt x="527" y="559"/>
                  </a:lnTo>
                  <a:lnTo>
                    <a:pt x="538" y="564"/>
                  </a:lnTo>
                  <a:lnTo>
                    <a:pt x="550" y="569"/>
                  </a:lnTo>
                  <a:lnTo>
                    <a:pt x="561" y="572"/>
                  </a:lnTo>
                  <a:lnTo>
                    <a:pt x="572" y="573"/>
                  </a:lnTo>
                  <a:lnTo>
                    <a:pt x="583" y="575"/>
                  </a:lnTo>
                  <a:lnTo>
                    <a:pt x="592" y="575"/>
                  </a:lnTo>
                  <a:lnTo>
                    <a:pt x="602" y="572"/>
                  </a:lnTo>
                  <a:lnTo>
                    <a:pt x="610" y="569"/>
                  </a:lnTo>
                  <a:lnTo>
                    <a:pt x="618" y="564"/>
                  </a:lnTo>
                  <a:lnTo>
                    <a:pt x="626" y="557"/>
                  </a:lnTo>
                  <a:lnTo>
                    <a:pt x="633" y="548"/>
                  </a:lnTo>
                  <a:lnTo>
                    <a:pt x="639" y="538"/>
                  </a:lnTo>
                  <a:lnTo>
                    <a:pt x="644" y="524"/>
                  </a:lnTo>
                  <a:lnTo>
                    <a:pt x="649" y="510"/>
                  </a:lnTo>
                  <a:lnTo>
                    <a:pt x="653" y="492"/>
                  </a:lnTo>
                  <a:lnTo>
                    <a:pt x="657" y="473"/>
                  </a:lnTo>
                  <a:lnTo>
                    <a:pt x="659" y="450"/>
                  </a:lnTo>
                  <a:lnTo>
                    <a:pt x="660" y="425"/>
                  </a:lnTo>
                  <a:lnTo>
                    <a:pt x="660" y="398"/>
                  </a:lnTo>
                  <a:lnTo>
                    <a:pt x="529" y="398"/>
                  </a:lnTo>
                  <a:lnTo>
                    <a:pt x="545" y="360"/>
                  </a:lnTo>
                  <a:lnTo>
                    <a:pt x="562" y="324"/>
                  </a:lnTo>
                  <a:lnTo>
                    <a:pt x="579" y="286"/>
                  </a:lnTo>
                  <a:lnTo>
                    <a:pt x="595" y="249"/>
                  </a:lnTo>
                  <a:lnTo>
                    <a:pt x="602" y="229"/>
                  </a:lnTo>
                  <a:lnTo>
                    <a:pt x="609" y="209"/>
                  </a:lnTo>
                  <a:lnTo>
                    <a:pt x="615" y="188"/>
                  </a:lnTo>
                  <a:lnTo>
                    <a:pt x="619" y="168"/>
                  </a:lnTo>
                  <a:lnTo>
                    <a:pt x="624" y="146"/>
                  </a:lnTo>
                  <a:lnTo>
                    <a:pt x="627" y="123"/>
                  </a:lnTo>
                  <a:lnTo>
                    <a:pt x="628" y="100"/>
                  </a:lnTo>
                  <a:lnTo>
                    <a:pt x="629" y="75"/>
                  </a:lnTo>
                  <a:lnTo>
                    <a:pt x="484" y="75"/>
                  </a:lnTo>
                  <a:lnTo>
                    <a:pt x="476" y="95"/>
                  </a:lnTo>
                  <a:lnTo>
                    <a:pt x="464" y="117"/>
                  </a:lnTo>
                  <a:lnTo>
                    <a:pt x="452" y="145"/>
                  </a:lnTo>
                  <a:lnTo>
                    <a:pt x="439" y="174"/>
                  </a:lnTo>
                  <a:lnTo>
                    <a:pt x="435" y="189"/>
                  </a:lnTo>
                  <a:lnTo>
                    <a:pt x="430" y="205"/>
                  </a:lnTo>
                  <a:lnTo>
                    <a:pt x="427" y="221"/>
                  </a:lnTo>
                  <a:lnTo>
                    <a:pt x="425" y="237"/>
                  </a:lnTo>
                  <a:lnTo>
                    <a:pt x="425" y="252"/>
                  </a:lnTo>
                  <a:lnTo>
                    <a:pt x="428" y="268"/>
                  </a:lnTo>
                  <a:lnTo>
                    <a:pt x="430" y="276"/>
                  </a:lnTo>
                  <a:lnTo>
                    <a:pt x="432" y="283"/>
                  </a:lnTo>
                  <a:lnTo>
                    <a:pt x="435" y="291"/>
                  </a:lnTo>
                  <a:lnTo>
                    <a:pt x="439" y="298"/>
                  </a:lnTo>
                  <a:close/>
                </a:path>
              </a:pathLst>
            </a:custGeom>
            <a:solidFill>
              <a:srgbClr val="627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76400" y="3227760"/>
              <a:ext cx="109800" cy="100080"/>
            </a:xfrm>
            <a:custGeom>
              <a:avLst/>
              <a:gdLst/>
              <a:ahLst/>
              <a:rect l="l" t="t" r="r" b="b"/>
              <a:pathLst>
                <a:path w="345" h="315">
                  <a:moveTo>
                    <a:pt x="25" y="13"/>
                  </a:moveTo>
                  <a:lnTo>
                    <a:pt x="13" y="24"/>
                  </a:lnTo>
                  <a:lnTo>
                    <a:pt x="26" y="26"/>
                  </a:lnTo>
                  <a:lnTo>
                    <a:pt x="41" y="27"/>
                  </a:lnTo>
                  <a:lnTo>
                    <a:pt x="54" y="29"/>
                  </a:lnTo>
                  <a:lnTo>
                    <a:pt x="67" y="32"/>
                  </a:lnTo>
                  <a:lnTo>
                    <a:pt x="80" y="36"/>
                  </a:lnTo>
                  <a:lnTo>
                    <a:pt x="92" y="40"/>
                  </a:lnTo>
                  <a:lnTo>
                    <a:pt x="105" y="46"/>
                  </a:lnTo>
                  <a:lnTo>
                    <a:pt x="117" y="53"/>
                  </a:lnTo>
                  <a:lnTo>
                    <a:pt x="129" y="60"/>
                  </a:lnTo>
                  <a:lnTo>
                    <a:pt x="140" y="68"/>
                  </a:lnTo>
                  <a:lnTo>
                    <a:pt x="152" y="76"/>
                  </a:lnTo>
                  <a:lnTo>
                    <a:pt x="162" y="84"/>
                  </a:lnTo>
                  <a:lnTo>
                    <a:pt x="184" y="103"/>
                  </a:lnTo>
                  <a:lnTo>
                    <a:pt x="204" y="124"/>
                  </a:lnTo>
                  <a:lnTo>
                    <a:pt x="222" y="146"/>
                  </a:lnTo>
                  <a:lnTo>
                    <a:pt x="240" y="170"/>
                  </a:lnTo>
                  <a:lnTo>
                    <a:pt x="258" y="194"/>
                  </a:lnTo>
                  <a:lnTo>
                    <a:pt x="272" y="219"/>
                  </a:lnTo>
                  <a:lnTo>
                    <a:pt x="287" y="244"/>
                  </a:lnTo>
                  <a:lnTo>
                    <a:pt x="301" y="268"/>
                  </a:lnTo>
                  <a:lnTo>
                    <a:pt x="312" y="292"/>
                  </a:lnTo>
                  <a:lnTo>
                    <a:pt x="324" y="315"/>
                  </a:lnTo>
                  <a:lnTo>
                    <a:pt x="345" y="305"/>
                  </a:lnTo>
                  <a:lnTo>
                    <a:pt x="334" y="282"/>
                  </a:lnTo>
                  <a:lnTo>
                    <a:pt x="321" y="257"/>
                  </a:lnTo>
                  <a:lnTo>
                    <a:pt x="308" y="232"/>
                  </a:lnTo>
                  <a:lnTo>
                    <a:pt x="293" y="207"/>
                  </a:lnTo>
                  <a:lnTo>
                    <a:pt x="277" y="181"/>
                  </a:lnTo>
                  <a:lnTo>
                    <a:pt x="260" y="156"/>
                  </a:lnTo>
                  <a:lnTo>
                    <a:pt x="242" y="132"/>
                  </a:lnTo>
                  <a:lnTo>
                    <a:pt x="221" y="108"/>
                  </a:lnTo>
                  <a:lnTo>
                    <a:pt x="201" y="86"/>
                  </a:lnTo>
                  <a:lnTo>
                    <a:pt x="178" y="65"/>
                  </a:lnTo>
                  <a:lnTo>
                    <a:pt x="166" y="56"/>
                  </a:lnTo>
                  <a:lnTo>
                    <a:pt x="154" y="47"/>
                  </a:lnTo>
                  <a:lnTo>
                    <a:pt x="141" y="39"/>
                  </a:lnTo>
                  <a:lnTo>
                    <a:pt x="129" y="31"/>
                  </a:lnTo>
                  <a:lnTo>
                    <a:pt x="115" y="24"/>
                  </a:lnTo>
                  <a:lnTo>
                    <a:pt x="101" y="19"/>
                  </a:lnTo>
                  <a:lnTo>
                    <a:pt x="88" y="13"/>
                  </a:lnTo>
                  <a:lnTo>
                    <a:pt x="74" y="8"/>
                  </a:lnTo>
                  <a:lnTo>
                    <a:pt x="59" y="5"/>
                  </a:lnTo>
                  <a:lnTo>
                    <a:pt x="43" y="3"/>
                  </a:lnTo>
                  <a:lnTo>
                    <a:pt x="29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3" y="24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76400" y="3231000"/>
              <a:ext cx="42840" cy="106200"/>
            </a:xfrm>
            <a:custGeom>
              <a:avLst/>
              <a:gdLst/>
              <a:ahLst/>
              <a:rect l="l" t="t" r="r" b="b"/>
              <a:pathLst>
                <a:path w="136" h="336">
                  <a:moveTo>
                    <a:pt x="136" y="315"/>
                  </a:moveTo>
                  <a:lnTo>
                    <a:pt x="136" y="315"/>
                  </a:lnTo>
                  <a:lnTo>
                    <a:pt x="124" y="309"/>
                  </a:lnTo>
                  <a:lnTo>
                    <a:pt x="113" y="302"/>
                  </a:lnTo>
                  <a:lnTo>
                    <a:pt x="104" y="296"/>
                  </a:lnTo>
                  <a:lnTo>
                    <a:pt x="95" y="290"/>
                  </a:lnTo>
                  <a:lnTo>
                    <a:pt x="87" y="282"/>
                  </a:lnTo>
                  <a:lnTo>
                    <a:pt x="79" y="275"/>
                  </a:lnTo>
                  <a:lnTo>
                    <a:pt x="72" y="267"/>
                  </a:lnTo>
                  <a:lnTo>
                    <a:pt x="65" y="259"/>
                  </a:lnTo>
                  <a:lnTo>
                    <a:pt x="59" y="250"/>
                  </a:lnTo>
                  <a:lnTo>
                    <a:pt x="55" y="241"/>
                  </a:lnTo>
                  <a:lnTo>
                    <a:pt x="50" y="231"/>
                  </a:lnTo>
                  <a:lnTo>
                    <a:pt x="46" y="222"/>
                  </a:lnTo>
                  <a:lnTo>
                    <a:pt x="39" y="203"/>
                  </a:lnTo>
                  <a:lnTo>
                    <a:pt x="33" y="182"/>
                  </a:lnTo>
                  <a:lnTo>
                    <a:pt x="30" y="161"/>
                  </a:lnTo>
                  <a:lnTo>
                    <a:pt x="26" y="138"/>
                  </a:lnTo>
                  <a:lnTo>
                    <a:pt x="25" y="115"/>
                  </a:lnTo>
                  <a:lnTo>
                    <a:pt x="24" y="92"/>
                  </a:lnTo>
                  <a:lnTo>
                    <a:pt x="24" y="4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1" y="116"/>
                  </a:lnTo>
                  <a:lnTo>
                    <a:pt x="2" y="140"/>
                  </a:lnTo>
                  <a:lnTo>
                    <a:pt x="6" y="164"/>
                  </a:lnTo>
                  <a:lnTo>
                    <a:pt x="9" y="187"/>
                  </a:lnTo>
                  <a:lnTo>
                    <a:pt x="16" y="210"/>
                  </a:lnTo>
                  <a:lnTo>
                    <a:pt x="23" y="231"/>
                  </a:lnTo>
                  <a:lnTo>
                    <a:pt x="29" y="243"/>
                  </a:lnTo>
                  <a:lnTo>
                    <a:pt x="33" y="253"/>
                  </a:lnTo>
                  <a:lnTo>
                    <a:pt x="39" y="263"/>
                  </a:lnTo>
                  <a:lnTo>
                    <a:pt x="46" y="272"/>
                  </a:lnTo>
                  <a:lnTo>
                    <a:pt x="54" y="282"/>
                  </a:lnTo>
                  <a:lnTo>
                    <a:pt x="62" y="291"/>
                  </a:lnTo>
                  <a:lnTo>
                    <a:pt x="70" y="300"/>
                  </a:lnTo>
                  <a:lnTo>
                    <a:pt x="80" y="308"/>
                  </a:lnTo>
                  <a:lnTo>
                    <a:pt x="90" y="316"/>
                  </a:lnTo>
                  <a:lnTo>
                    <a:pt x="100" y="323"/>
                  </a:lnTo>
                  <a:lnTo>
                    <a:pt x="113" y="329"/>
                  </a:lnTo>
                  <a:lnTo>
                    <a:pt x="125" y="336"/>
                  </a:lnTo>
                  <a:lnTo>
                    <a:pt x="125" y="336"/>
                  </a:lnTo>
                  <a:lnTo>
                    <a:pt x="136" y="3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54440" y="3330720"/>
              <a:ext cx="71280" cy="34920"/>
            </a:xfrm>
            <a:custGeom>
              <a:avLst/>
              <a:gdLst/>
              <a:ahLst/>
              <a:rect l="l" t="t" r="r" b="b"/>
              <a:pathLst>
                <a:path w="222" h="107">
                  <a:moveTo>
                    <a:pt x="17" y="107"/>
                  </a:moveTo>
                  <a:lnTo>
                    <a:pt x="17" y="107"/>
                  </a:lnTo>
                  <a:lnTo>
                    <a:pt x="22" y="101"/>
                  </a:lnTo>
                  <a:lnTo>
                    <a:pt x="29" y="95"/>
                  </a:lnTo>
                  <a:lnTo>
                    <a:pt x="37" y="91"/>
                  </a:lnTo>
                  <a:lnTo>
                    <a:pt x="45" y="86"/>
                  </a:lnTo>
                  <a:lnTo>
                    <a:pt x="62" y="77"/>
                  </a:lnTo>
                  <a:lnTo>
                    <a:pt x="81" y="69"/>
                  </a:lnTo>
                  <a:lnTo>
                    <a:pt x="100" y="63"/>
                  </a:lnTo>
                  <a:lnTo>
                    <a:pt x="118" y="58"/>
                  </a:lnTo>
                  <a:lnTo>
                    <a:pt x="138" y="53"/>
                  </a:lnTo>
                  <a:lnTo>
                    <a:pt x="155" y="50"/>
                  </a:lnTo>
                  <a:lnTo>
                    <a:pt x="185" y="44"/>
                  </a:lnTo>
                  <a:lnTo>
                    <a:pt x="207" y="37"/>
                  </a:lnTo>
                  <a:lnTo>
                    <a:pt x="213" y="35"/>
                  </a:lnTo>
                  <a:lnTo>
                    <a:pt x="217" y="32"/>
                  </a:lnTo>
                  <a:lnTo>
                    <a:pt x="222" y="25"/>
                  </a:lnTo>
                  <a:lnTo>
                    <a:pt x="222" y="17"/>
                  </a:lnTo>
                  <a:lnTo>
                    <a:pt x="218" y="10"/>
                  </a:lnTo>
                  <a:lnTo>
                    <a:pt x="214" y="5"/>
                  </a:lnTo>
                  <a:lnTo>
                    <a:pt x="209" y="3"/>
                  </a:lnTo>
                  <a:lnTo>
                    <a:pt x="204" y="0"/>
                  </a:lnTo>
                  <a:lnTo>
                    <a:pt x="193" y="21"/>
                  </a:lnTo>
                  <a:lnTo>
                    <a:pt x="197" y="24"/>
                  </a:lnTo>
                  <a:lnTo>
                    <a:pt x="199" y="25"/>
                  </a:lnTo>
                  <a:lnTo>
                    <a:pt x="199" y="25"/>
                  </a:lnTo>
                  <a:lnTo>
                    <a:pt x="198" y="22"/>
                  </a:lnTo>
                  <a:lnTo>
                    <a:pt x="198" y="18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200" y="14"/>
                  </a:lnTo>
                  <a:lnTo>
                    <a:pt x="181" y="20"/>
                  </a:lnTo>
                  <a:lnTo>
                    <a:pt x="150" y="26"/>
                  </a:lnTo>
                  <a:lnTo>
                    <a:pt x="132" y="30"/>
                  </a:lnTo>
                  <a:lnTo>
                    <a:pt x="112" y="35"/>
                  </a:lnTo>
                  <a:lnTo>
                    <a:pt x="93" y="41"/>
                  </a:lnTo>
                  <a:lnTo>
                    <a:pt x="73" y="46"/>
                  </a:lnTo>
                  <a:lnTo>
                    <a:pt x="52" y="54"/>
                  </a:lnTo>
                  <a:lnTo>
                    <a:pt x="34" y="65"/>
                  </a:lnTo>
                  <a:lnTo>
                    <a:pt x="25" y="70"/>
                  </a:lnTo>
                  <a:lnTo>
                    <a:pt x="16" y="76"/>
                  </a:lnTo>
                  <a:lnTo>
                    <a:pt x="8" y="83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7" y="10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40040" y="3359520"/>
              <a:ext cx="20520" cy="63360"/>
            </a:xfrm>
            <a:custGeom>
              <a:avLst/>
              <a:gdLst/>
              <a:ahLst/>
              <a:rect l="l" t="t" r="r" b="b"/>
              <a:pathLst>
                <a:path w="64" h="197">
                  <a:moveTo>
                    <a:pt x="11" y="173"/>
                  </a:moveTo>
                  <a:lnTo>
                    <a:pt x="24" y="186"/>
                  </a:lnTo>
                  <a:lnTo>
                    <a:pt x="24" y="163"/>
                  </a:lnTo>
                  <a:lnTo>
                    <a:pt x="24" y="140"/>
                  </a:lnTo>
                  <a:lnTo>
                    <a:pt x="26" y="116"/>
                  </a:lnTo>
                  <a:lnTo>
                    <a:pt x="28" y="93"/>
                  </a:lnTo>
                  <a:lnTo>
                    <a:pt x="31" y="83"/>
                  </a:lnTo>
                  <a:lnTo>
                    <a:pt x="34" y="72"/>
                  </a:lnTo>
                  <a:lnTo>
                    <a:pt x="38" y="61"/>
                  </a:lnTo>
                  <a:lnTo>
                    <a:pt x="41" y="52"/>
                  </a:lnTo>
                  <a:lnTo>
                    <a:pt x="46" y="42"/>
                  </a:lnTo>
                  <a:lnTo>
                    <a:pt x="51" y="33"/>
                  </a:lnTo>
                  <a:lnTo>
                    <a:pt x="57" y="25"/>
                  </a:lnTo>
                  <a:lnTo>
                    <a:pt x="64" y="17"/>
                  </a:lnTo>
                  <a:lnTo>
                    <a:pt x="47" y="0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4" y="30"/>
                  </a:lnTo>
                  <a:lnTo>
                    <a:pt x="19" y="42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8" y="77"/>
                  </a:lnTo>
                  <a:lnTo>
                    <a:pt x="4" y="90"/>
                  </a:lnTo>
                  <a:lnTo>
                    <a:pt x="2" y="114"/>
                  </a:lnTo>
                  <a:lnTo>
                    <a:pt x="0" y="139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1" y="197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3" y="195"/>
                  </a:lnTo>
                  <a:lnTo>
                    <a:pt x="7" y="197"/>
                  </a:lnTo>
                  <a:lnTo>
                    <a:pt x="11" y="197"/>
                  </a:lnTo>
                  <a:lnTo>
                    <a:pt x="16" y="197"/>
                  </a:lnTo>
                  <a:lnTo>
                    <a:pt x="20" y="195"/>
                  </a:lnTo>
                  <a:lnTo>
                    <a:pt x="23" y="190"/>
                  </a:lnTo>
                  <a:lnTo>
                    <a:pt x="24" y="186"/>
                  </a:lnTo>
                  <a:lnTo>
                    <a:pt x="11" y="17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43280" y="3373560"/>
              <a:ext cx="115920" cy="49320"/>
            </a:xfrm>
            <a:custGeom>
              <a:avLst/>
              <a:gdLst/>
              <a:ahLst/>
              <a:rect l="l" t="t" r="r" b="b"/>
              <a:pathLst>
                <a:path w="363" h="155">
                  <a:moveTo>
                    <a:pt x="356" y="1"/>
                  </a:moveTo>
                  <a:lnTo>
                    <a:pt x="339" y="7"/>
                  </a:lnTo>
                  <a:lnTo>
                    <a:pt x="334" y="18"/>
                  </a:lnTo>
                  <a:lnTo>
                    <a:pt x="329" y="28"/>
                  </a:lnTo>
                  <a:lnTo>
                    <a:pt x="322" y="39"/>
                  </a:lnTo>
                  <a:lnTo>
                    <a:pt x="315" y="48"/>
                  </a:lnTo>
                  <a:lnTo>
                    <a:pt x="308" y="56"/>
                  </a:lnTo>
                  <a:lnTo>
                    <a:pt x="300" y="64"/>
                  </a:lnTo>
                  <a:lnTo>
                    <a:pt x="292" y="72"/>
                  </a:lnTo>
                  <a:lnTo>
                    <a:pt x="283" y="77"/>
                  </a:lnTo>
                  <a:lnTo>
                    <a:pt x="274" y="84"/>
                  </a:lnTo>
                  <a:lnTo>
                    <a:pt x="265" y="90"/>
                  </a:lnTo>
                  <a:lnTo>
                    <a:pt x="254" y="96"/>
                  </a:lnTo>
                  <a:lnTo>
                    <a:pt x="244" y="100"/>
                  </a:lnTo>
                  <a:lnTo>
                    <a:pt x="223" y="108"/>
                  </a:lnTo>
                  <a:lnTo>
                    <a:pt x="201" y="115"/>
                  </a:lnTo>
                  <a:lnTo>
                    <a:pt x="177" y="121"/>
                  </a:lnTo>
                  <a:lnTo>
                    <a:pt x="152" y="124"/>
                  </a:lnTo>
                  <a:lnTo>
                    <a:pt x="127" y="128"/>
                  </a:lnTo>
                  <a:lnTo>
                    <a:pt x="102" y="129"/>
                  </a:lnTo>
                  <a:lnTo>
                    <a:pt x="50" y="131"/>
                  </a:lnTo>
                  <a:lnTo>
                    <a:pt x="0" y="131"/>
                  </a:lnTo>
                  <a:lnTo>
                    <a:pt x="0" y="155"/>
                  </a:lnTo>
                  <a:lnTo>
                    <a:pt x="52" y="155"/>
                  </a:lnTo>
                  <a:lnTo>
                    <a:pt x="103" y="154"/>
                  </a:lnTo>
                  <a:lnTo>
                    <a:pt x="129" y="152"/>
                  </a:lnTo>
                  <a:lnTo>
                    <a:pt x="155" y="148"/>
                  </a:lnTo>
                  <a:lnTo>
                    <a:pt x="182" y="145"/>
                  </a:lnTo>
                  <a:lnTo>
                    <a:pt x="207" y="139"/>
                  </a:lnTo>
                  <a:lnTo>
                    <a:pt x="231" y="131"/>
                  </a:lnTo>
                  <a:lnTo>
                    <a:pt x="254" y="122"/>
                  </a:lnTo>
                  <a:lnTo>
                    <a:pt x="266" y="117"/>
                  </a:lnTo>
                  <a:lnTo>
                    <a:pt x="276" y="110"/>
                  </a:lnTo>
                  <a:lnTo>
                    <a:pt x="288" y="105"/>
                  </a:lnTo>
                  <a:lnTo>
                    <a:pt x="298" y="98"/>
                  </a:lnTo>
                  <a:lnTo>
                    <a:pt x="307" y="90"/>
                  </a:lnTo>
                  <a:lnTo>
                    <a:pt x="316" y="81"/>
                  </a:lnTo>
                  <a:lnTo>
                    <a:pt x="325" y="73"/>
                  </a:lnTo>
                  <a:lnTo>
                    <a:pt x="334" y="63"/>
                  </a:lnTo>
                  <a:lnTo>
                    <a:pt x="341" y="52"/>
                  </a:lnTo>
                  <a:lnTo>
                    <a:pt x="349" y="41"/>
                  </a:lnTo>
                  <a:lnTo>
                    <a:pt x="356" y="30"/>
                  </a:lnTo>
                  <a:lnTo>
                    <a:pt x="362" y="16"/>
                  </a:lnTo>
                  <a:lnTo>
                    <a:pt x="346" y="23"/>
                  </a:lnTo>
                  <a:lnTo>
                    <a:pt x="362" y="16"/>
                  </a:lnTo>
                  <a:lnTo>
                    <a:pt x="363" y="11"/>
                  </a:lnTo>
                  <a:lnTo>
                    <a:pt x="362" y="7"/>
                  </a:lnTo>
                  <a:lnTo>
                    <a:pt x="359" y="3"/>
                  </a:lnTo>
                  <a:lnTo>
                    <a:pt x="355" y="1"/>
                  </a:lnTo>
                  <a:lnTo>
                    <a:pt x="351" y="0"/>
                  </a:lnTo>
                  <a:lnTo>
                    <a:pt x="347" y="0"/>
                  </a:lnTo>
                  <a:lnTo>
                    <a:pt x="342" y="2"/>
                  </a:lnTo>
                  <a:lnTo>
                    <a:pt x="339" y="7"/>
                  </a:lnTo>
                  <a:lnTo>
                    <a:pt x="356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52720" y="3353040"/>
              <a:ext cx="104760" cy="65160"/>
            </a:xfrm>
            <a:custGeom>
              <a:avLst/>
              <a:gdLst/>
              <a:ahLst/>
              <a:rect l="l" t="t" r="r" b="b"/>
              <a:pathLst>
                <a:path w="327" h="202">
                  <a:moveTo>
                    <a:pt x="314" y="25"/>
                  </a:moveTo>
                  <a:lnTo>
                    <a:pt x="303" y="13"/>
                  </a:lnTo>
                  <a:lnTo>
                    <a:pt x="302" y="40"/>
                  </a:lnTo>
                  <a:lnTo>
                    <a:pt x="301" y="64"/>
                  </a:lnTo>
                  <a:lnTo>
                    <a:pt x="298" y="86"/>
                  </a:lnTo>
                  <a:lnTo>
                    <a:pt x="295" y="105"/>
                  </a:lnTo>
                  <a:lnTo>
                    <a:pt x="291" y="122"/>
                  </a:lnTo>
                  <a:lnTo>
                    <a:pt x="287" y="136"/>
                  </a:lnTo>
                  <a:lnTo>
                    <a:pt x="282" y="147"/>
                  </a:lnTo>
                  <a:lnTo>
                    <a:pt x="277" y="157"/>
                  </a:lnTo>
                  <a:lnTo>
                    <a:pt x="271" y="164"/>
                  </a:lnTo>
                  <a:lnTo>
                    <a:pt x="265" y="169"/>
                  </a:lnTo>
                  <a:lnTo>
                    <a:pt x="258" y="174"/>
                  </a:lnTo>
                  <a:lnTo>
                    <a:pt x="253" y="176"/>
                  </a:lnTo>
                  <a:lnTo>
                    <a:pt x="245" y="177"/>
                  </a:lnTo>
                  <a:lnTo>
                    <a:pt x="237" y="178"/>
                  </a:lnTo>
                  <a:lnTo>
                    <a:pt x="228" y="177"/>
                  </a:lnTo>
                  <a:lnTo>
                    <a:pt x="218" y="175"/>
                  </a:lnTo>
                  <a:lnTo>
                    <a:pt x="208" y="172"/>
                  </a:lnTo>
                  <a:lnTo>
                    <a:pt x="197" y="168"/>
                  </a:lnTo>
                  <a:lnTo>
                    <a:pt x="185" y="163"/>
                  </a:lnTo>
                  <a:lnTo>
                    <a:pt x="174" y="158"/>
                  </a:lnTo>
                  <a:lnTo>
                    <a:pt x="148" y="144"/>
                  </a:lnTo>
                  <a:lnTo>
                    <a:pt x="122" y="128"/>
                  </a:lnTo>
                  <a:lnTo>
                    <a:pt x="94" y="111"/>
                  </a:lnTo>
                  <a:lnTo>
                    <a:pt x="67" y="94"/>
                  </a:lnTo>
                  <a:lnTo>
                    <a:pt x="38" y="78"/>
                  </a:lnTo>
                  <a:lnTo>
                    <a:pt x="10" y="63"/>
                  </a:lnTo>
                  <a:lnTo>
                    <a:pt x="0" y="85"/>
                  </a:lnTo>
                  <a:lnTo>
                    <a:pt x="27" y="98"/>
                  </a:lnTo>
                  <a:lnTo>
                    <a:pt x="54" y="115"/>
                  </a:lnTo>
                  <a:lnTo>
                    <a:pt x="82" y="131"/>
                  </a:lnTo>
                  <a:lnTo>
                    <a:pt x="109" y="149"/>
                  </a:lnTo>
                  <a:lnTo>
                    <a:pt x="136" y="164"/>
                  </a:lnTo>
                  <a:lnTo>
                    <a:pt x="163" y="179"/>
                  </a:lnTo>
                  <a:lnTo>
                    <a:pt x="175" y="185"/>
                  </a:lnTo>
                  <a:lnTo>
                    <a:pt x="188" y="191"/>
                  </a:lnTo>
                  <a:lnTo>
                    <a:pt x="200" y="195"/>
                  </a:lnTo>
                  <a:lnTo>
                    <a:pt x="213" y="199"/>
                  </a:lnTo>
                  <a:lnTo>
                    <a:pt x="224" y="201"/>
                  </a:lnTo>
                  <a:lnTo>
                    <a:pt x="237" y="202"/>
                  </a:lnTo>
                  <a:lnTo>
                    <a:pt x="248" y="201"/>
                  </a:lnTo>
                  <a:lnTo>
                    <a:pt x="259" y="199"/>
                  </a:lnTo>
                  <a:lnTo>
                    <a:pt x="270" y="195"/>
                  </a:lnTo>
                  <a:lnTo>
                    <a:pt x="280" y="188"/>
                  </a:lnTo>
                  <a:lnTo>
                    <a:pt x="289" y="180"/>
                  </a:lnTo>
                  <a:lnTo>
                    <a:pt x="297" y="170"/>
                  </a:lnTo>
                  <a:lnTo>
                    <a:pt x="304" y="158"/>
                  </a:lnTo>
                  <a:lnTo>
                    <a:pt x="310" y="144"/>
                  </a:lnTo>
                  <a:lnTo>
                    <a:pt x="315" y="128"/>
                  </a:lnTo>
                  <a:lnTo>
                    <a:pt x="319" y="110"/>
                  </a:lnTo>
                  <a:lnTo>
                    <a:pt x="322" y="89"/>
                  </a:lnTo>
                  <a:lnTo>
                    <a:pt x="324" y="66"/>
                  </a:lnTo>
                  <a:lnTo>
                    <a:pt x="326" y="41"/>
                  </a:lnTo>
                  <a:lnTo>
                    <a:pt x="327" y="13"/>
                  </a:lnTo>
                  <a:lnTo>
                    <a:pt x="314" y="0"/>
                  </a:lnTo>
                  <a:lnTo>
                    <a:pt x="327" y="13"/>
                  </a:lnTo>
                  <a:lnTo>
                    <a:pt x="326" y="7"/>
                  </a:lnTo>
                  <a:lnTo>
                    <a:pt x="322" y="4"/>
                  </a:lnTo>
                  <a:lnTo>
                    <a:pt x="319" y="1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6" y="4"/>
                  </a:lnTo>
                  <a:lnTo>
                    <a:pt x="303" y="7"/>
                  </a:lnTo>
                  <a:lnTo>
                    <a:pt x="303" y="13"/>
                  </a:lnTo>
                  <a:lnTo>
                    <a:pt x="314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006720" y="3353040"/>
              <a:ext cx="46080" cy="7920"/>
            </a:xfrm>
            <a:custGeom>
              <a:avLst/>
              <a:gdLst/>
              <a:ahLst/>
              <a:rect l="l" t="t" r="r" b="b"/>
              <a:pathLst>
                <a:path w="143" h="25">
                  <a:moveTo>
                    <a:pt x="1" y="8"/>
                  </a:moveTo>
                  <a:lnTo>
                    <a:pt x="12" y="25"/>
                  </a:lnTo>
                  <a:lnTo>
                    <a:pt x="143" y="25"/>
                  </a:lnTo>
                  <a:lnTo>
                    <a:pt x="143" y="0"/>
                  </a:lnTo>
                  <a:lnTo>
                    <a:pt x="12" y="0"/>
                  </a:lnTo>
                  <a:lnTo>
                    <a:pt x="1" y="8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6" y="24"/>
                  </a:lnTo>
                  <a:lnTo>
                    <a:pt x="12" y="25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008160" y="3251520"/>
              <a:ext cx="38160" cy="108000"/>
            </a:xfrm>
            <a:custGeom>
              <a:avLst/>
              <a:gdLst/>
              <a:ahLst/>
              <a:rect l="l" t="t" r="r" b="b"/>
              <a:pathLst>
                <a:path w="123" h="338">
                  <a:moveTo>
                    <a:pt x="111" y="24"/>
                  </a:moveTo>
                  <a:lnTo>
                    <a:pt x="99" y="11"/>
                  </a:lnTo>
                  <a:lnTo>
                    <a:pt x="99" y="35"/>
                  </a:lnTo>
                  <a:lnTo>
                    <a:pt x="97" y="58"/>
                  </a:lnTo>
                  <a:lnTo>
                    <a:pt x="93" y="80"/>
                  </a:lnTo>
                  <a:lnTo>
                    <a:pt x="90" y="101"/>
                  </a:lnTo>
                  <a:lnTo>
                    <a:pt x="85" y="122"/>
                  </a:lnTo>
                  <a:lnTo>
                    <a:pt x="80" y="141"/>
                  </a:lnTo>
                  <a:lnTo>
                    <a:pt x="73" y="161"/>
                  </a:lnTo>
                  <a:lnTo>
                    <a:pt x="66" y="180"/>
                  </a:lnTo>
                  <a:lnTo>
                    <a:pt x="51" y="218"/>
                  </a:lnTo>
                  <a:lnTo>
                    <a:pt x="34" y="255"/>
                  </a:lnTo>
                  <a:lnTo>
                    <a:pt x="17" y="292"/>
                  </a:lnTo>
                  <a:lnTo>
                    <a:pt x="0" y="329"/>
                  </a:lnTo>
                  <a:lnTo>
                    <a:pt x="21" y="338"/>
                  </a:lnTo>
                  <a:lnTo>
                    <a:pt x="38" y="302"/>
                  </a:lnTo>
                  <a:lnTo>
                    <a:pt x="56" y="264"/>
                  </a:lnTo>
                  <a:lnTo>
                    <a:pt x="73" y="228"/>
                  </a:lnTo>
                  <a:lnTo>
                    <a:pt x="89" y="189"/>
                  </a:lnTo>
                  <a:lnTo>
                    <a:pt x="95" y="169"/>
                  </a:lnTo>
                  <a:lnTo>
                    <a:pt x="102" y="148"/>
                  </a:lnTo>
                  <a:lnTo>
                    <a:pt x="108" y="128"/>
                  </a:lnTo>
                  <a:lnTo>
                    <a:pt x="114" y="106"/>
                  </a:lnTo>
                  <a:lnTo>
                    <a:pt x="117" y="84"/>
                  </a:lnTo>
                  <a:lnTo>
                    <a:pt x="121" y="60"/>
                  </a:lnTo>
                  <a:lnTo>
                    <a:pt x="123" y="36"/>
                  </a:lnTo>
                  <a:lnTo>
                    <a:pt x="123" y="11"/>
                  </a:lnTo>
                  <a:lnTo>
                    <a:pt x="111" y="0"/>
                  </a:lnTo>
                  <a:lnTo>
                    <a:pt x="123" y="11"/>
                  </a:lnTo>
                  <a:lnTo>
                    <a:pt x="123" y="7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2"/>
                  </a:lnTo>
                  <a:lnTo>
                    <a:pt x="100" y="7"/>
                  </a:lnTo>
                  <a:lnTo>
                    <a:pt x="99" y="11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92320" y="3251520"/>
              <a:ext cx="50760" cy="792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0" y="8"/>
                  </a:moveTo>
                  <a:lnTo>
                    <a:pt x="12" y="24"/>
                  </a:lnTo>
                  <a:lnTo>
                    <a:pt x="157" y="24"/>
                  </a:lnTo>
                  <a:lnTo>
                    <a:pt x="157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7" y="23"/>
                  </a:lnTo>
                  <a:lnTo>
                    <a:pt x="12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75040" y="3254760"/>
              <a:ext cx="25200" cy="74520"/>
            </a:xfrm>
            <a:custGeom>
              <a:avLst/>
              <a:gdLst/>
              <a:ahLst/>
              <a:rect l="l" t="t" r="r" b="b"/>
              <a:pathLst>
                <a:path w="82" h="238">
                  <a:moveTo>
                    <a:pt x="15" y="230"/>
                  </a:moveTo>
                  <a:lnTo>
                    <a:pt x="36" y="220"/>
                  </a:lnTo>
                  <a:lnTo>
                    <a:pt x="33" y="213"/>
                  </a:lnTo>
                  <a:lnTo>
                    <a:pt x="31" y="206"/>
                  </a:lnTo>
                  <a:lnTo>
                    <a:pt x="28" y="200"/>
                  </a:lnTo>
                  <a:lnTo>
                    <a:pt x="26" y="194"/>
                  </a:lnTo>
                  <a:lnTo>
                    <a:pt x="25" y="180"/>
                  </a:lnTo>
                  <a:lnTo>
                    <a:pt x="24" y="165"/>
                  </a:lnTo>
                  <a:lnTo>
                    <a:pt x="26" y="150"/>
                  </a:lnTo>
                  <a:lnTo>
                    <a:pt x="28" y="135"/>
                  </a:lnTo>
                  <a:lnTo>
                    <a:pt x="33" y="121"/>
                  </a:lnTo>
                  <a:lnTo>
                    <a:pt x="37" y="107"/>
                  </a:lnTo>
                  <a:lnTo>
                    <a:pt x="49" y="77"/>
                  </a:lnTo>
                  <a:lnTo>
                    <a:pt x="61" y="51"/>
                  </a:lnTo>
                  <a:lnTo>
                    <a:pt x="74" y="27"/>
                  </a:lnTo>
                  <a:lnTo>
                    <a:pt x="82" y="8"/>
                  </a:lnTo>
                  <a:lnTo>
                    <a:pt x="59" y="0"/>
                  </a:lnTo>
                  <a:lnTo>
                    <a:pt x="51" y="17"/>
                  </a:lnTo>
                  <a:lnTo>
                    <a:pt x="40" y="41"/>
                  </a:lnTo>
                  <a:lnTo>
                    <a:pt x="27" y="68"/>
                  </a:lnTo>
                  <a:lnTo>
                    <a:pt x="15" y="98"/>
                  </a:lnTo>
                  <a:lnTo>
                    <a:pt x="9" y="114"/>
                  </a:lnTo>
                  <a:lnTo>
                    <a:pt x="6" y="131"/>
                  </a:lnTo>
                  <a:lnTo>
                    <a:pt x="2" y="147"/>
                  </a:lnTo>
                  <a:lnTo>
                    <a:pt x="0" y="164"/>
                  </a:lnTo>
                  <a:lnTo>
                    <a:pt x="0" y="181"/>
                  </a:lnTo>
                  <a:lnTo>
                    <a:pt x="2" y="198"/>
                  </a:lnTo>
                  <a:lnTo>
                    <a:pt x="4" y="207"/>
                  </a:lnTo>
                  <a:lnTo>
                    <a:pt x="8" y="215"/>
                  </a:lnTo>
                  <a:lnTo>
                    <a:pt x="11" y="223"/>
                  </a:lnTo>
                  <a:lnTo>
                    <a:pt x="15" y="231"/>
                  </a:lnTo>
                  <a:lnTo>
                    <a:pt x="36" y="220"/>
                  </a:lnTo>
                  <a:lnTo>
                    <a:pt x="15" y="231"/>
                  </a:lnTo>
                  <a:lnTo>
                    <a:pt x="19" y="236"/>
                  </a:lnTo>
                  <a:lnTo>
                    <a:pt x="23" y="237"/>
                  </a:lnTo>
                  <a:lnTo>
                    <a:pt x="27" y="238"/>
                  </a:lnTo>
                  <a:lnTo>
                    <a:pt x="32" y="236"/>
                  </a:lnTo>
                  <a:lnTo>
                    <a:pt x="35" y="234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6" y="220"/>
                  </a:lnTo>
                  <a:lnTo>
                    <a:pt x="15" y="2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84800" y="3360960"/>
              <a:ext cx="352440" cy="216000"/>
            </a:xfrm>
            <a:custGeom>
              <a:avLst/>
              <a:gdLst/>
              <a:ahLst/>
              <a:rect l="l" t="t" r="r" b="b"/>
              <a:pathLst>
                <a:path w="1107" h="681">
                  <a:moveTo>
                    <a:pt x="520" y="332"/>
                  </a:moveTo>
                  <a:lnTo>
                    <a:pt x="522" y="321"/>
                  </a:lnTo>
                  <a:lnTo>
                    <a:pt x="527" y="309"/>
                  </a:lnTo>
                  <a:lnTo>
                    <a:pt x="531" y="298"/>
                  </a:lnTo>
                  <a:lnTo>
                    <a:pt x="536" y="286"/>
                  </a:lnTo>
                  <a:lnTo>
                    <a:pt x="549" y="262"/>
                  </a:lnTo>
                  <a:lnTo>
                    <a:pt x="563" y="239"/>
                  </a:lnTo>
                  <a:lnTo>
                    <a:pt x="580" y="215"/>
                  </a:lnTo>
                  <a:lnTo>
                    <a:pt x="599" y="191"/>
                  </a:lnTo>
                  <a:lnTo>
                    <a:pt x="619" y="168"/>
                  </a:lnTo>
                  <a:lnTo>
                    <a:pt x="641" y="146"/>
                  </a:lnTo>
                  <a:lnTo>
                    <a:pt x="665" y="127"/>
                  </a:lnTo>
                  <a:lnTo>
                    <a:pt x="689" y="107"/>
                  </a:lnTo>
                  <a:lnTo>
                    <a:pt x="714" y="91"/>
                  </a:lnTo>
                  <a:lnTo>
                    <a:pt x="739" y="77"/>
                  </a:lnTo>
                  <a:lnTo>
                    <a:pt x="753" y="71"/>
                  </a:lnTo>
                  <a:lnTo>
                    <a:pt x="765" y="65"/>
                  </a:lnTo>
                  <a:lnTo>
                    <a:pt x="778" y="61"/>
                  </a:lnTo>
                  <a:lnTo>
                    <a:pt x="791" y="57"/>
                  </a:lnTo>
                  <a:lnTo>
                    <a:pt x="804" y="54"/>
                  </a:lnTo>
                  <a:lnTo>
                    <a:pt x="816" y="52"/>
                  </a:lnTo>
                  <a:lnTo>
                    <a:pt x="829" y="50"/>
                  </a:lnTo>
                  <a:lnTo>
                    <a:pt x="841" y="49"/>
                  </a:lnTo>
                  <a:lnTo>
                    <a:pt x="841" y="82"/>
                  </a:lnTo>
                  <a:lnTo>
                    <a:pt x="839" y="113"/>
                  </a:lnTo>
                  <a:lnTo>
                    <a:pt x="837" y="142"/>
                  </a:lnTo>
                  <a:lnTo>
                    <a:pt x="833" y="167"/>
                  </a:lnTo>
                  <a:lnTo>
                    <a:pt x="830" y="188"/>
                  </a:lnTo>
                  <a:lnTo>
                    <a:pt x="826" y="209"/>
                  </a:lnTo>
                  <a:lnTo>
                    <a:pt x="820" y="227"/>
                  </a:lnTo>
                  <a:lnTo>
                    <a:pt x="815" y="243"/>
                  </a:lnTo>
                  <a:lnTo>
                    <a:pt x="806" y="269"/>
                  </a:lnTo>
                  <a:lnTo>
                    <a:pt x="798" y="288"/>
                  </a:lnTo>
                  <a:lnTo>
                    <a:pt x="796" y="294"/>
                  </a:lnTo>
                  <a:lnTo>
                    <a:pt x="794" y="300"/>
                  </a:lnTo>
                  <a:lnTo>
                    <a:pt x="792" y="305"/>
                  </a:lnTo>
                  <a:lnTo>
                    <a:pt x="794" y="307"/>
                  </a:lnTo>
                  <a:lnTo>
                    <a:pt x="795" y="309"/>
                  </a:lnTo>
                  <a:lnTo>
                    <a:pt x="798" y="310"/>
                  </a:lnTo>
                  <a:lnTo>
                    <a:pt x="804" y="310"/>
                  </a:lnTo>
                  <a:lnTo>
                    <a:pt x="811" y="309"/>
                  </a:lnTo>
                  <a:lnTo>
                    <a:pt x="831" y="307"/>
                  </a:lnTo>
                  <a:lnTo>
                    <a:pt x="862" y="302"/>
                  </a:lnTo>
                  <a:lnTo>
                    <a:pt x="903" y="297"/>
                  </a:lnTo>
                  <a:lnTo>
                    <a:pt x="957" y="292"/>
                  </a:lnTo>
                  <a:lnTo>
                    <a:pt x="988" y="290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6"/>
                  </a:lnTo>
                  <a:lnTo>
                    <a:pt x="1091" y="436"/>
                  </a:lnTo>
                  <a:lnTo>
                    <a:pt x="1047" y="446"/>
                  </a:lnTo>
                  <a:lnTo>
                    <a:pt x="1001" y="454"/>
                  </a:lnTo>
                  <a:lnTo>
                    <a:pt x="954" y="462"/>
                  </a:lnTo>
                  <a:lnTo>
                    <a:pt x="908" y="468"/>
                  </a:lnTo>
                  <a:lnTo>
                    <a:pt x="861" y="472"/>
                  </a:lnTo>
                  <a:lnTo>
                    <a:pt x="815" y="477"/>
                  </a:lnTo>
                  <a:lnTo>
                    <a:pt x="769" y="478"/>
                  </a:lnTo>
                  <a:lnTo>
                    <a:pt x="724" y="479"/>
                  </a:lnTo>
                  <a:lnTo>
                    <a:pt x="754" y="492"/>
                  </a:lnTo>
                  <a:lnTo>
                    <a:pt x="784" y="506"/>
                  </a:lnTo>
                  <a:lnTo>
                    <a:pt x="800" y="516"/>
                  </a:lnTo>
                  <a:lnTo>
                    <a:pt x="816" y="525"/>
                  </a:lnTo>
                  <a:lnTo>
                    <a:pt x="832" y="535"/>
                  </a:lnTo>
                  <a:lnTo>
                    <a:pt x="847" y="545"/>
                  </a:lnTo>
                  <a:lnTo>
                    <a:pt x="861" y="557"/>
                  </a:lnTo>
                  <a:lnTo>
                    <a:pt x="873" y="569"/>
                  </a:lnTo>
                  <a:lnTo>
                    <a:pt x="885" y="582"/>
                  </a:lnTo>
                  <a:lnTo>
                    <a:pt x="895" y="595"/>
                  </a:lnTo>
                  <a:lnTo>
                    <a:pt x="903" y="609"/>
                  </a:lnTo>
                  <a:lnTo>
                    <a:pt x="910" y="624"/>
                  </a:lnTo>
                  <a:lnTo>
                    <a:pt x="912" y="632"/>
                  </a:lnTo>
                  <a:lnTo>
                    <a:pt x="913" y="640"/>
                  </a:lnTo>
                  <a:lnTo>
                    <a:pt x="914" y="648"/>
                  </a:lnTo>
                  <a:lnTo>
                    <a:pt x="914" y="656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0"/>
                  </a:lnTo>
                  <a:lnTo>
                    <a:pt x="827" y="663"/>
                  </a:lnTo>
                  <a:lnTo>
                    <a:pt x="777" y="668"/>
                  </a:lnTo>
                  <a:lnTo>
                    <a:pt x="726" y="674"/>
                  </a:lnTo>
                  <a:lnTo>
                    <a:pt x="700" y="677"/>
                  </a:lnTo>
                  <a:lnTo>
                    <a:pt x="675" y="679"/>
                  </a:lnTo>
                  <a:lnTo>
                    <a:pt x="651" y="681"/>
                  </a:lnTo>
                  <a:lnTo>
                    <a:pt x="628" y="681"/>
                  </a:lnTo>
                  <a:lnTo>
                    <a:pt x="606" y="680"/>
                  </a:lnTo>
                  <a:lnTo>
                    <a:pt x="585" y="679"/>
                  </a:lnTo>
                  <a:lnTo>
                    <a:pt x="566" y="675"/>
                  </a:lnTo>
                  <a:lnTo>
                    <a:pt x="547" y="669"/>
                  </a:lnTo>
                  <a:lnTo>
                    <a:pt x="530" y="663"/>
                  </a:lnTo>
                  <a:lnTo>
                    <a:pt x="514" y="653"/>
                  </a:lnTo>
                  <a:lnTo>
                    <a:pt x="500" y="643"/>
                  </a:lnTo>
                  <a:lnTo>
                    <a:pt x="487" y="632"/>
                  </a:lnTo>
                  <a:lnTo>
                    <a:pt x="474" y="619"/>
                  </a:lnTo>
                  <a:lnTo>
                    <a:pt x="463" y="606"/>
                  </a:lnTo>
                  <a:lnTo>
                    <a:pt x="453" y="591"/>
                  </a:lnTo>
                  <a:lnTo>
                    <a:pt x="443" y="576"/>
                  </a:lnTo>
                  <a:lnTo>
                    <a:pt x="435" y="560"/>
                  </a:lnTo>
                  <a:lnTo>
                    <a:pt x="427" y="543"/>
                  </a:lnTo>
                  <a:lnTo>
                    <a:pt x="420" y="526"/>
                  </a:lnTo>
                  <a:lnTo>
                    <a:pt x="413" y="509"/>
                  </a:lnTo>
                  <a:lnTo>
                    <a:pt x="402" y="472"/>
                  </a:lnTo>
                  <a:lnTo>
                    <a:pt x="392" y="436"/>
                  </a:lnTo>
                  <a:lnTo>
                    <a:pt x="376" y="364"/>
                  </a:lnTo>
                  <a:lnTo>
                    <a:pt x="361" y="299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5" y="237"/>
                  </a:lnTo>
                  <a:lnTo>
                    <a:pt x="329" y="228"/>
                  </a:lnTo>
                  <a:lnTo>
                    <a:pt x="322" y="220"/>
                  </a:lnTo>
                  <a:lnTo>
                    <a:pt x="314" y="215"/>
                  </a:lnTo>
                  <a:lnTo>
                    <a:pt x="299" y="203"/>
                  </a:lnTo>
                  <a:lnTo>
                    <a:pt x="282" y="193"/>
                  </a:lnTo>
                  <a:lnTo>
                    <a:pt x="264" y="184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4"/>
                  </a:lnTo>
                  <a:lnTo>
                    <a:pt x="131" y="136"/>
                  </a:lnTo>
                  <a:lnTo>
                    <a:pt x="110" y="128"/>
                  </a:lnTo>
                  <a:lnTo>
                    <a:pt x="88" y="120"/>
                  </a:lnTo>
                  <a:lnTo>
                    <a:pt x="68" y="111"/>
                  </a:lnTo>
                  <a:lnTo>
                    <a:pt x="48" y="101"/>
                  </a:lnTo>
                  <a:lnTo>
                    <a:pt x="31" y="90"/>
                  </a:lnTo>
                  <a:lnTo>
                    <a:pt x="23" y="85"/>
                  </a:lnTo>
                  <a:lnTo>
                    <a:pt x="16" y="78"/>
                  </a:lnTo>
                  <a:lnTo>
                    <a:pt x="10" y="72"/>
                  </a:lnTo>
                  <a:lnTo>
                    <a:pt x="4" y="65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7" y="31"/>
                  </a:lnTo>
                  <a:lnTo>
                    <a:pt x="29" y="25"/>
                  </a:lnTo>
                  <a:lnTo>
                    <a:pt x="43" y="19"/>
                  </a:lnTo>
                  <a:lnTo>
                    <a:pt x="57" y="14"/>
                  </a:lnTo>
                  <a:lnTo>
                    <a:pt x="76" y="9"/>
                  </a:lnTo>
                  <a:lnTo>
                    <a:pt x="95" y="6"/>
                  </a:lnTo>
                  <a:lnTo>
                    <a:pt x="115" y="3"/>
                  </a:lnTo>
                  <a:lnTo>
                    <a:pt x="137" y="0"/>
                  </a:lnTo>
                  <a:lnTo>
                    <a:pt x="160" y="0"/>
                  </a:lnTo>
                  <a:lnTo>
                    <a:pt x="184" y="0"/>
                  </a:lnTo>
                  <a:lnTo>
                    <a:pt x="209" y="1"/>
                  </a:lnTo>
                  <a:lnTo>
                    <a:pt x="234" y="5"/>
                  </a:lnTo>
                  <a:lnTo>
                    <a:pt x="259" y="9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3"/>
                  </a:lnTo>
                  <a:lnTo>
                    <a:pt x="358" y="45"/>
                  </a:lnTo>
                  <a:lnTo>
                    <a:pt x="381" y="58"/>
                  </a:lnTo>
                  <a:lnTo>
                    <a:pt x="403" y="74"/>
                  </a:lnTo>
                  <a:lnTo>
                    <a:pt x="424" y="93"/>
                  </a:lnTo>
                  <a:lnTo>
                    <a:pt x="444" y="113"/>
                  </a:lnTo>
                  <a:lnTo>
                    <a:pt x="461" y="136"/>
                  </a:lnTo>
                  <a:lnTo>
                    <a:pt x="477" y="162"/>
                  </a:lnTo>
                  <a:lnTo>
                    <a:pt x="490" y="191"/>
                  </a:lnTo>
                  <a:lnTo>
                    <a:pt x="502" y="221"/>
                  </a:lnTo>
                  <a:lnTo>
                    <a:pt x="511" y="256"/>
                  </a:lnTo>
                  <a:lnTo>
                    <a:pt x="517" y="292"/>
                  </a:lnTo>
                  <a:lnTo>
                    <a:pt x="520" y="332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46800" y="3373560"/>
              <a:ext cx="109440" cy="93960"/>
            </a:xfrm>
            <a:custGeom>
              <a:avLst/>
              <a:gdLst/>
              <a:ahLst/>
              <a:rect l="l" t="t" r="r" b="b"/>
              <a:pathLst>
                <a:path w="346" h="296">
                  <a:moveTo>
                    <a:pt x="346" y="11"/>
                  </a:moveTo>
                  <a:lnTo>
                    <a:pt x="333" y="0"/>
                  </a:lnTo>
                  <a:lnTo>
                    <a:pt x="321" y="0"/>
                  </a:lnTo>
                  <a:lnTo>
                    <a:pt x="307" y="1"/>
                  </a:lnTo>
                  <a:lnTo>
                    <a:pt x="294" y="4"/>
                  </a:lnTo>
                  <a:lnTo>
                    <a:pt x="280" y="7"/>
                  </a:lnTo>
                  <a:lnTo>
                    <a:pt x="266" y="11"/>
                  </a:lnTo>
                  <a:lnTo>
                    <a:pt x="253" y="16"/>
                  </a:lnTo>
                  <a:lnTo>
                    <a:pt x="239" y="22"/>
                  </a:lnTo>
                  <a:lnTo>
                    <a:pt x="225" y="28"/>
                  </a:lnTo>
                  <a:lnTo>
                    <a:pt x="199" y="43"/>
                  </a:lnTo>
                  <a:lnTo>
                    <a:pt x="174" y="60"/>
                  </a:lnTo>
                  <a:lnTo>
                    <a:pt x="149" y="79"/>
                  </a:lnTo>
                  <a:lnTo>
                    <a:pt x="125" y="100"/>
                  </a:lnTo>
                  <a:lnTo>
                    <a:pt x="102" y="122"/>
                  </a:lnTo>
                  <a:lnTo>
                    <a:pt x="82" y="145"/>
                  </a:lnTo>
                  <a:lnTo>
                    <a:pt x="62" y="169"/>
                  </a:lnTo>
                  <a:lnTo>
                    <a:pt x="45" y="194"/>
                  </a:lnTo>
                  <a:lnTo>
                    <a:pt x="30" y="219"/>
                  </a:lnTo>
                  <a:lnTo>
                    <a:pt x="18" y="243"/>
                  </a:lnTo>
                  <a:lnTo>
                    <a:pt x="12" y="255"/>
                  </a:lnTo>
                  <a:lnTo>
                    <a:pt x="8" y="268"/>
                  </a:lnTo>
                  <a:lnTo>
                    <a:pt x="3" y="279"/>
                  </a:lnTo>
                  <a:lnTo>
                    <a:pt x="0" y="292"/>
                  </a:lnTo>
                  <a:lnTo>
                    <a:pt x="23" y="296"/>
                  </a:lnTo>
                  <a:lnTo>
                    <a:pt x="27" y="286"/>
                  </a:lnTo>
                  <a:lnTo>
                    <a:pt x="30" y="276"/>
                  </a:lnTo>
                  <a:lnTo>
                    <a:pt x="34" y="264"/>
                  </a:lnTo>
                  <a:lnTo>
                    <a:pt x="39" y="253"/>
                  </a:lnTo>
                  <a:lnTo>
                    <a:pt x="51" y="230"/>
                  </a:lnTo>
                  <a:lnTo>
                    <a:pt x="66" y="206"/>
                  </a:lnTo>
                  <a:lnTo>
                    <a:pt x="82" y="183"/>
                  </a:lnTo>
                  <a:lnTo>
                    <a:pt x="100" y="161"/>
                  </a:lnTo>
                  <a:lnTo>
                    <a:pt x="120" y="139"/>
                  </a:lnTo>
                  <a:lnTo>
                    <a:pt x="142" y="117"/>
                  </a:lnTo>
                  <a:lnTo>
                    <a:pt x="164" y="98"/>
                  </a:lnTo>
                  <a:lnTo>
                    <a:pt x="188" y="80"/>
                  </a:lnTo>
                  <a:lnTo>
                    <a:pt x="212" y="64"/>
                  </a:lnTo>
                  <a:lnTo>
                    <a:pt x="237" y="50"/>
                  </a:lnTo>
                  <a:lnTo>
                    <a:pt x="249" y="44"/>
                  </a:lnTo>
                  <a:lnTo>
                    <a:pt x="262" y="39"/>
                  </a:lnTo>
                  <a:lnTo>
                    <a:pt x="274" y="34"/>
                  </a:lnTo>
                  <a:lnTo>
                    <a:pt x="286" y="31"/>
                  </a:lnTo>
                  <a:lnTo>
                    <a:pt x="298" y="27"/>
                  </a:lnTo>
                  <a:lnTo>
                    <a:pt x="311" y="25"/>
                  </a:lnTo>
                  <a:lnTo>
                    <a:pt x="322" y="24"/>
                  </a:lnTo>
                  <a:lnTo>
                    <a:pt x="333" y="24"/>
                  </a:lnTo>
                  <a:lnTo>
                    <a:pt x="322" y="11"/>
                  </a:lnTo>
                  <a:lnTo>
                    <a:pt x="333" y="24"/>
                  </a:lnTo>
                  <a:lnTo>
                    <a:pt x="339" y="23"/>
                  </a:lnTo>
                  <a:lnTo>
                    <a:pt x="343" y="20"/>
                  </a:lnTo>
                  <a:lnTo>
                    <a:pt x="345" y="16"/>
                  </a:lnTo>
                  <a:lnTo>
                    <a:pt x="346" y="11"/>
                  </a:lnTo>
                  <a:lnTo>
                    <a:pt x="345" y="7"/>
                  </a:lnTo>
                  <a:lnTo>
                    <a:pt x="343" y="3"/>
                  </a:lnTo>
                  <a:lnTo>
                    <a:pt x="339" y="1"/>
                  </a:lnTo>
                  <a:lnTo>
                    <a:pt x="333" y="0"/>
                  </a:lnTo>
                  <a:lnTo>
                    <a:pt x="346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32480" y="3376800"/>
              <a:ext cx="108000" cy="85680"/>
            </a:xfrm>
            <a:custGeom>
              <a:avLst/>
              <a:gdLst/>
              <a:ahLst/>
              <a:rect l="l" t="t" r="r" b="b"/>
              <a:pathLst>
                <a:path w="339" h="273">
                  <a:moveTo>
                    <a:pt x="339" y="240"/>
                  </a:moveTo>
                  <a:lnTo>
                    <a:pt x="326" y="226"/>
                  </a:lnTo>
                  <a:lnTo>
                    <a:pt x="283" y="226"/>
                  </a:lnTo>
                  <a:lnTo>
                    <a:pt x="243" y="227"/>
                  </a:lnTo>
                  <a:lnTo>
                    <a:pt x="207" y="228"/>
                  </a:lnTo>
                  <a:lnTo>
                    <a:pt x="174" y="231"/>
                  </a:lnTo>
                  <a:lnTo>
                    <a:pt x="121" y="236"/>
                  </a:lnTo>
                  <a:lnTo>
                    <a:pt x="79" y="241"/>
                  </a:lnTo>
                  <a:lnTo>
                    <a:pt x="49" y="245"/>
                  </a:lnTo>
                  <a:lnTo>
                    <a:pt x="29" y="249"/>
                  </a:lnTo>
                  <a:lnTo>
                    <a:pt x="22" y="249"/>
                  </a:lnTo>
                  <a:lnTo>
                    <a:pt x="19" y="249"/>
                  </a:lnTo>
                  <a:lnTo>
                    <a:pt x="19" y="250"/>
                  </a:lnTo>
                  <a:lnTo>
                    <a:pt x="23" y="253"/>
                  </a:lnTo>
                  <a:lnTo>
                    <a:pt x="24" y="256"/>
                  </a:lnTo>
                  <a:lnTo>
                    <a:pt x="24" y="255"/>
                  </a:lnTo>
                  <a:lnTo>
                    <a:pt x="26" y="250"/>
                  </a:lnTo>
                  <a:lnTo>
                    <a:pt x="29" y="243"/>
                  </a:lnTo>
                  <a:lnTo>
                    <a:pt x="37" y="224"/>
                  </a:lnTo>
                  <a:lnTo>
                    <a:pt x="46" y="198"/>
                  </a:lnTo>
                  <a:lnTo>
                    <a:pt x="51" y="182"/>
                  </a:lnTo>
                  <a:lnTo>
                    <a:pt x="56" y="163"/>
                  </a:lnTo>
                  <a:lnTo>
                    <a:pt x="60" y="142"/>
                  </a:lnTo>
                  <a:lnTo>
                    <a:pt x="65" y="119"/>
                  </a:lnTo>
                  <a:lnTo>
                    <a:pt x="68" y="94"/>
                  </a:lnTo>
                  <a:lnTo>
                    <a:pt x="71" y="65"/>
                  </a:lnTo>
                  <a:lnTo>
                    <a:pt x="73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3"/>
                  </a:lnTo>
                  <a:lnTo>
                    <a:pt x="45" y="90"/>
                  </a:lnTo>
                  <a:lnTo>
                    <a:pt x="41" y="115"/>
                  </a:lnTo>
                  <a:lnTo>
                    <a:pt x="37" y="137"/>
                  </a:lnTo>
                  <a:lnTo>
                    <a:pt x="32" y="158"/>
                  </a:lnTo>
                  <a:lnTo>
                    <a:pt x="27" y="175"/>
                  </a:lnTo>
                  <a:lnTo>
                    <a:pt x="23" y="191"/>
                  </a:lnTo>
                  <a:lnTo>
                    <a:pt x="14" y="216"/>
                  </a:lnTo>
                  <a:lnTo>
                    <a:pt x="6" y="234"/>
                  </a:lnTo>
                  <a:lnTo>
                    <a:pt x="3" y="241"/>
                  </a:lnTo>
                  <a:lnTo>
                    <a:pt x="1" y="248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8" y="270"/>
                  </a:lnTo>
                  <a:lnTo>
                    <a:pt x="16" y="273"/>
                  </a:lnTo>
                  <a:lnTo>
                    <a:pt x="23" y="273"/>
                  </a:lnTo>
                  <a:lnTo>
                    <a:pt x="31" y="273"/>
                  </a:lnTo>
                  <a:lnTo>
                    <a:pt x="52" y="269"/>
                  </a:lnTo>
                  <a:lnTo>
                    <a:pt x="82" y="265"/>
                  </a:lnTo>
                  <a:lnTo>
                    <a:pt x="123" y="260"/>
                  </a:lnTo>
                  <a:lnTo>
                    <a:pt x="177" y="255"/>
                  </a:lnTo>
                  <a:lnTo>
                    <a:pt x="209" y="253"/>
                  </a:lnTo>
                  <a:lnTo>
                    <a:pt x="244" y="251"/>
                  </a:lnTo>
                  <a:lnTo>
                    <a:pt x="283" y="250"/>
                  </a:lnTo>
                  <a:lnTo>
                    <a:pt x="326" y="250"/>
                  </a:lnTo>
                  <a:lnTo>
                    <a:pt x="313" y="236"/>
                  </a:lnTo>
                  <a:lnTo>
                    <a:pt x="326" y="250"/>
                  </a:lnTo>
                  <a:lnTo>
                    <a:pt x="332" y="249"/>
                  </a:lnTo>
                  <a:lnTo>
                    <a:pt x="335" y="247"/>
                  </a:lnTo>
                  <a:lnTo>
                    <a:pt x="337" y="242"/>
                  </a:lnTo>
                  <a:lnTo>
                    <a:pt x="339" y="237"/>
                  </a:lnTo>
                  <a:lnTo>
                    <a:pt x="337" y="234"/>
                  </a:lnTo>
                  <a:lnTo>
                    <a:pt x="335" y="229"/>
                  </a:lnTo>
                  <a:lnTo>
                    <a:pt x="332" y="227"/>
                  </a:lnTo>
                  <a:lnTo>
                    <a:pt x="326" y="226"/>
                  </a:lnTo>
                  <a:lnTo>
                    <a:pt x="339" y="2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7880" y="3451320"/>
              <a:ext cx="12600" cy="52560"/>
            </a:xfrm>
            <a:custGeom>
              <a:avLst/>
              <a:gdLst/>
              <a:ahLst/>
              <a:rect l="l" t="t" r="r" b="b"/>
              <a:pathLst>
                <a:path w="40" h="163">
                  <a:moveTo>
                    <a:pt x="14" y="162"/>
                  </a:moveTo>
                  <a:lnTo>
                    <a:pt x="24" y="152"/>
                  </a:lnTo>
                  <a:lnTo>
                    <a:pt x="40" y="4"/>
                  </a:lnTo>
                  <a:lnTo>
                    <a:pt x="14" y="0"/>
                  </a:lnTo>
                  <a:lnTo>
                    <a:pt x="0" y="150"/>
                  </a:lnTo>
                  <a:lnTo>
                    <a:pt x="14" y="16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10" y="163"/>
                  </a:lnTo>
                  <a:lnTo>
                    <a:pt x="14" y="162"/>
                  </a:lnTo>
                  <a:lnTo>
                    <a:pt x="19" y="161"/>
                  </a:lnTo>
                  <a:lnTo>
                    <a:pt x="21" y="158"/>
                  </a:lnTo>
                  <a:lnTo>
                    <a:pt x="24" y="152"/>
                  </a:lnTo>
                  <a:lnTo>
                    <a:pt x="14" y="1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1960" y="3495960"/>
              <a:ext cx="120600" cy="20520"/>
            </a:xfrm>
            <a:custGeom>
              <a:avLst/>
              <a:gdLst/>
              <a:ahLst/>
              <a:rect l="l" t="t" r="r" b="b"/>
              <a:pathLst>
                <a:path w="382" h="68">
                  <a:moveTo>
                    <a:pt x="17" y="44"/>
                  </a:moveTo>
                  <a:lnTo>
                    <a:pt x="12" y="68"/>
                  </a:lnTo>
                  <a:lnTo>
                    <a:pt x="58" y="66"/>
                  </a:lnTo>
                  <a:lnTo>
                    <a:pt x="103" y="64"/>
                  </a:lnTo>
                  <a:lnTo>
                    <a:pt x="150" y="61"/>
                  </a:lnTo>
                  <a:lnTo>
                    <a:pt x="197" y="56"/>
                  </a:lnTo>
                  <a:lnTo>
                    <a:pt x="245" y="49"/>
                  </a:lnTo>
                  <a:lnTo>
                    <a:pt x="291" y="43"/>
                  </a:lnTo>
                  <a:lnTo>
                    <a:pt x="337" y="33"/>
                  </a:lnTo>
                  <a:lnTo>
                    <a:pt x="382" y="23"/>
                  </a:lnTo>
                  <a:lnTo>
                    <a:pt x="377" y="0"/>
                  </a:lnTo>
                  <a:lnTo>
                    <a:pt x="332" y="9"/>
                  </a:lnTo>
                  <a:lnTo>
                    <a:pt x="287" y="19"/>
                  </a:lnTo>
                  <a:lnTo>
                    <a:pt x="241" y="25"/>
                  </a:lnTo>
                  <a:lnTo>
                    <a:pt x="194" y="32"/>
                  </a:lnTo>
                  <a:lnTo>
                    <a:pt x="148" y="37"/>
                  </a:lnTo>
                  <a:lnTo>
                    <a:pt x="102" y="40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6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2" y="68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13400" y="3510360"/>
              <a:ext cx="66600" cy="63360"/>
            </a:xfrm>
            <a:custGeom>
              <a:avLst/>
              <a:gdLst/>
              <a:ahLst/>
              <a:rect l="l" t="t" r="r" b="b"/>
              <a:pathLst>
                <a:path w="207" h="200">
                  <a:moveTo>
                    <a:pt x="194" y="200"/>
                  </a:moveTo>
                  <a:lnTo>
                    <a:pt x="207" y="188"/>
                  </a:lnTo>
                  <a:lnTo>
                    <a:pt x="207" y="179"/>
                  </a:lnTo>
                  <a:lnTo>
                    <a:pt x="206" y="170"/>
                  </a:lnTo>
                  <a:lnTo>
                    <a:pt x="204" y="160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5" y="106"/>
                  </a:lnTo>
                  <a:lnTo>
                    <a:pt x="162" y="92"/>
                  </a:lnTo>
                  <a:lnTo>
                    <a:pt x="149" y="79"/>
                  </a:lnTo>
                  <a:lnTo>
                    <a:pt x="134" y="68"/>
                  </a:lnTo>
                  <a:lnTo>
                    <a:pt x="119" y="57"/>
                  </a:lnTo>
                  <a:lnTo>
                    <a:pt x="103" y="46"/>
                  </a:lnTo>
                  <a:lnTo>
                    <a:pt x="86" y="37"/>
                  </a:lnTo>
                  <a:lnTo>
                    <a:pt x="70" y="28"/>
                  </a:lnTo>
                  <a:lnTo>
                    <a:pt x="38" y="12"/>
                  </a:lnTo>
                  <a:lnTo>
                    <a:pt x="9" y="0"/>
                  </a:lnTo>
                  <a:lnTo>
                    <a:pt x="0" y="22"/>
                  </a:lnTo>
                  <a:lnTo>
                    <a:pt x="28" y="35"/>
                  </a:lnTo>
                  <a:lnTo>
                    <a:pt x="59" y="50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6" y="77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2"/>
                  </a:lnTo>
                  <a:lnTo>
                    <a:pt x="165" y="134"/>
                  </a:lnTo>
                  <a:lnTo>
                    <a:pt x="173" y="147"/>
                  </a:lnTo>
                  <a:lnTo>
                    <a:pt x="178" y="160"/>
                  </a:lnTo>
                  <a:lnTo>
                    <a:pt x="180" y="167"/>
                  </a:lnTo>
                  <a:lnTo>
                    <a:pt x="182" y="174"/>
                  </a:lnTo>
                  <a:lnTo>
                    <a:pt x="182" y="181"/>
                  </a:lnTo>
                  <a:lnTo>
                    <a:pt x="183" y="188"/>
                  </a:lnTo>
                  <a:lnTo>
                    <a:pt x="194" y="175"/>
                  </a:lnTo>
                  <a:lnTo>
                    <a:pt x="183" y="188"/>
                  </a:lnTo>
                  <a:lnTo>
                    <a:pt x="184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200"/>
                  </a:lnTo>
                  <a:lnTo>
                    <a:pt x="199" y="199"/>
                  </a:lnTo>
                  <a:lnTo>
                    <a:pt x="204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20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57960" y="3565800"/>
              <a:ext cx="117360" cy="1584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38"/>
                  </a:moveTo>
                  <a:lnTo>
                    <a:pt x="1" y="38"/>
                  </a:lnTo>
                  <a:lnTo>
                    <a:pt x="19" y="44"/>
                  </a:lnTo>
                  <a:lnTo>
                    <a:pt x="40" y="47"/>
                  </a:lnTo>
                  <a:lnTo>
                    <a:pt x="61" y="49"/>
                  </a:lnTo>
                  <a:lnTo>
                    <a:pt x="85" y="50"/>
                  </a:lnTo>
                  <a:lnTo>
                    <a:pt x="108" y="49"/>
                  </a:lnTo>
                  <a:lnTo>
                    <a:pt x="133" y="48"/>
                  </a:lnTo>
                  <a:lnTo>
                    <a:pt x="158" y="46"/>
                  </a:lnTo>
                  <a:lnTo>
                    <a:pt x="185" y="44"/>
                  </a:lnTo>
                  <a:lnTo>
                    <a:pt x="236" y="38"/>
                  </a:lnTo>
                  <a:lnTo>
                    <a:pt x="285" y="31"/>
                  </a:lnTo>
                  <a:lnTo>
                    <a:pt x="309" y="29"/>
                  </a:lnTo>
                  <a:lnTo>
                    <a:pt x="332" y="26"/>
                  </a:lnTo>
                  <a:lnTo>
                    <a:pt x="352" y="25"/>
                  </a:lnTo>
                  <a:lnTo>
                    <a:pt x="371" y="25"/>
                  </a:lnTo>
                  <a:lnTo>
                    <a:pt x="371" y="0"/>
                  </a:lnTo>
                  <a:lnTo>
                    <a:pt x="351" y="1"/>
                  </a:lnTo>
                  <a:lnTo>
                    <a:pt x="329" y="3"/>
                  </a:lnTo>
                  <a:lnTo>
                    <a:pt x="306" y="5"/>
                  </a:lnTo>
                  <a:lnTo>
                    <a:pt x="283" y="7"/>
                  </a:lnTo>
                  <a:lnTo>
                    <a:pt x="232" y="14"/>
                  </a:lnTo>
                  <a:lnTo>
                    <a:pt x="181" y="20"/>
                  </a:lnTo>
                  <a:lnTo>
                    <a:pt x="156" y="22"/>
                  </a:lnTo>
                  <a:lnTo>
                    <a:pt x="132" y="24"/>
                  </a:lnTo>
                  <a:lnTo>
                    <a:pt x="108" y="25"/>
                  </a:lnTo>
                  <a:lnTo>
                    <a:pt x="85" y="25"/>
                  </a:lnTo>
                  <a:lnTo>
                    <a:pt x="64" y="25"/>
                  </a:lnTo>
                  <a:lnTo>
                    <a:pt x="43" y="23"/>
                  </a:lnTo>
                  <a:lnTo>
                    <a:pt x="25" y="20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81640" y="3426120"/>
              <a:ext cx="79560" cy="15084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20"/>
                  </a:moveTo>
                  <a:lnTo>
                    <a:pt x="1" y="21"/>
                  </a:lnTo>
                  <a:lnTo>
                    <a:pt x="8" y="25"/>
                  </a:lnTo>
                  <a:lnTo>
                    <a:pt x="13" y="31"/>
                  </a:lnTo>
                  <a:lnTo>
                    <a:pt x="19" y="39"/>
                  </a:lnTo>
                  <a:lnTo>
                    <a:pt x="25" y="48"/>
                  </a:lnTo>
                  <a:lnTo>
                    <a:pt x="29" y="60"/>
                  </a:lnTo>
                  <a:lnTo>
                    <a:pt x="34" y="71"/>
                  </a:lnTo>
                  <a:lnTo>
                    <a:pt x="39" y="85"/>
                  </a:lnTo>
                  <a:lnTo>
                    <a:pt x="43" y="98"/>
                  </a:lnTo>
                  <a:lnTo>
                    <a:pt x="59" y="163"/>
                  </a:lnTo>
                  <a:lnTo>
                    <a:pt x="75" y="235"/>
                  </a:lnTo>
                  <a:lnTo>
                    <a:pt x="84" y="272"/>
                  </a:lnTo>
                  <a:lnTo>
                    <a:pt x="96" y="308"/>
                  </a:lnTo>
                  <a:lnTo>
                    <a:pt x="102" y="326"/>
                  </a:lnTo>
                  <a:lnTo>
                    <a:pt x="109" y="345"/>
                  </a:lnTo>
                  <a:lnTo>
                    <a:pt x="117" y="362"/>
                  </a:lnTo>
                  <a:lnTo>
                    <a:pt x="126" y="378"/>
                  </a:lnTo>
                  <a:lnTo>
                    <a:pt x="137" y="394"/>
                  </a:lnTo>
                  <a:lnTo>
                    <a:pt x="147" y="408"/>
                  </a:lnTo>
                  <a:lnTo>
                    <a:pt x="159" y="423"/>
                  </a:lnTo>
                  <a:lnTo>
                    <a:pt x="172" y="437"/>
                  </a:lnTo>
                  <a:lnTo>
                    <a:pt x="187" y="448"/>
                  </a:lnTo>
                  <a:lnTo>
                    <a:pt x="202" y="460"/>
                  </a:lnTo>
                  <a:lnTo>
                    <a:pt x="219" y="469"/>
                  </a:lnTo>
                  <a:lnTo>
                    <a:pt x="237" y="477"/>
                  </a:lnTo>
                  <a:lnTo>
                    <a:pt x="246" y="454"/>
                  </a:lnTo>
                  <a:lnTo>
                    <a:pt x="230" y="447"/>
                  </a:lnTo>
                  <a:lnTo>
                    <a:pt x="215" y="439"/>
                  </a:lnTo>
                  <a:lnTo>
                    <a:pt x="202" y="429"/>
                  </a:lnTo>
                  <a:lnTo>
                    <a:pt x="189" y="419"/>
                  </a:lnTo>
                  <a:lnTo>
                    <a:pt x="178" y="407"/>
                  </a:lnTo>
                  <a:lnTo>
                    <a:pt x="166" y="394"/>
                  </a:lnTo>
                  <a:lnTo>
                    <a:pt x="157" y="380"/>
                  </a:lnTo>
                  <a:lnTo>
                    <a:pt x="148" y="366"/>
                  </a:lnTo>
                  <a:lnTo>
                    <a:pt x="139" y="350"/>
                  </a:lnTo>
                  <a:lnTo>
                    <a:pt x="132" y="334"/>
                  </a:lnTo>
                  <a:lnTo>
                    <a:pt x="125" y="318"/>
                  </a:lnTo>
                  <a:lnTo>
                    <a:pt x="118" y="301"/>
                  </a:lnTo>
                  <a:lnTo>
                    <a:pt x="108" y="265"/>
                  </a:lnTo>
                  <a:lnTo>
                    <a:pt x="98" y="229"/>
                  </a:lnTo>
                  <a:lnTo>
                    <a:pt x="82" y="158"/>
                  </a:lnTo>
                  <a:lnTo>
                    <a:pt x="67" y="93"/>
                  </a:lnTo>
                  <a:lnTo>
                    <a:pt x="63" y="77"/>
                  </a:lnTo>
                  <a:lnTo>
                    <a:pt x="57" y="63"/>
                  </a:lnTo>
                  <a:lnTo>
                    <a:pt x="52" y="49"/>
                  </a:lnTo>
                  <a:lnTo>
                    <a:pt x="47" y="38"/>
                  </a:lnTo>
                  <a:lnTo>
                    <a:pt x="40" y="27"/>
                  </a:lnTo>
                  <a:lnTo>
                    <a:pt x="32" y="16"/>
                  </a:lnTo>
                  <a:lnTo>
                    <a:pt x="24" y="7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183360" y="3378600"/>
              <a:ext cx="104760" cy="5400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15"/>
                  </a:moveTo>
                  <a:lnTo>
                    <a:pt x="0" y="16"/>
                  </a:lnTo>
                  <a:lnTo>
                    <a:pt x="7" y="23"/>
                  </a:lnTo>
                  <a:lnTo>
                    <a:pt x="13" y="30"/>
                  </a:lnTo>
                  <a:lnTo>
                    <a:pt x="21" y="37"/>
                  </a:lnTo>
                  <a:lnTo>
                    <a:pt x="29" y="44"/>
                  </a:lnTo>
                  <a:lnTo>
                    <a:pt x="48" y="54"/>
                  </a:lnTo>
                  <a:lnTo>
                    <a:pt x="67" y="64"/>
                  </a:lnTo>
                  <a:lnTo>
                    <a:pt x="89" y="74"/>
                  </a:lnTo>
                  <a:lnTo>
                    <a:pt x="110" y="82"/>
                  </a:lnTo>
                  <a:lnTo>
                    <a:pt x="133" y="90"/>
                  </a:lnTo>
                  <a:lnTo>
                    <a:pt x="156" y="98"/>
                  </a:lnTo>
                  <a:lnTo>
                    <a:pt x="200" y="114"/>
                  </a:lnTo>
                  <a:lnTo>
                    <a:pt x="244" y="130"/>
                  </a:lnTo>
                  <a:lnTo>
                    <a:pt x="263" y="138"/>
                  </a:lnTo>
                  <a:lnTo>
                    <a:pt x="281" y="147"/>
                  </a:lnTo>
                  <a:lnTo>
                    <a:pt x="297" y="156"/>
                  </a:lnTo>
                  <a:lnTo>
                    <a:pt x="311" y="167"/>
                  </a:lnTo>
                  <a:lnTo>
                    <a:pt x="327" y="147"/>
                  </a:lnTo>
                  <a:lnTo>
                    <a:pt x="311" y="136"/>
                  </a:lnTo>
                  <a:lnTo>
                    <a:pt x="293" y="126"/>
                  </a:lnTo>
                  <a:lnTo>
                    <a:pt x="273" y="117"/>
                  </a:lnTo>
                  <a:lnTo>
                    <a:pt x="253" y="107"/>
                  </a:lnTo>
                  <a:lnTo>
                    <a:pt x="208" y="91"/>
                  </a:lnTo>
                  <a:lnTo>
                    <a:pt x="163" y="76"/>
                  </a:lnTo>
                  <a:lnTo>
                    <a:pt x="141" y="68"/>
                  </a:lnTo>
                  <a:lnTo>
                    <a:pt x="118" y="60"/>
                  </a:lnTo>
                  <a:lnTo>
                    <a:pt x="98" y="52"/>
                  </a:lnTo>
                  <a:lnTo>
                    <a:pt x="78" y="42"/>
                  </a:lnTo>
                  <a:lnTo>
                    <a:pt x="60" y="33"/>
                  </a:lnTo>
                  <a:lnTo>
                    <a:pt x="43" y="23"/>
                  </a:lnTo>
                  <a:lnTo>
                    <a:pt x="36" y="17"/>
                  </a:lnTo>
                  <a:lnTo>
                    <a:pt x="29" y="12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181560" y="3357720"/>
              <a:ext cx="171720" cy="112680"/>
            </a:xfrm>
            <a:custGeom>
              <a:avLst/>
              <a:gdLst/>
              <a:ahLst/>
              <a:rect l="l" t="t" r="r" b="b"/>
              <a:pathLst>
                <a:path w="543" h="357">
                  <a:moveTo>
                    <a:pt x="520" y="342"/>
                  </a:moveTo>
                  <a:lnTo>
                    <a:pt x="543" y="344"/>
                  </a:lnTo>
                  <a:lnTo>
                    <a:pt x="542" y="322"/>
                  </a:lnTo>
                  <a:lnTo>
                    <a:pt x="541" y="303"/>
                  </a:lnTo>
                  <a:lnTo>
                    <a:pt x="538" y="284"/>
                  </a:lnTo>
                  <a:lnTo>
                    <a:pt x="534" y="264"/>
                  </a:lnTo>
                  <a:lnTo>
                    <a:pt x="530" y="247"/>
                  </a:lnTo>
                  <a:lnTo>
                    <a:pt x="525" y="230"/>
                  </a:lnTo>
                  <a:lnTo>
                    <a:pt x="520" y="213"/>
                  </a:lnTo>
                  <a:lnTo>
                    <a:pt x="514" y="197"/>
                  </a:lnTo>
                  <a:lnTo>
                    <a:pt x="507" y="182"/>
                  </a:lnTo>
                  <a:lnTo>
                    <a:pt x="499" y="168"/>
                  </a:lnTo>
                  <a:lnTo>
                    <a:pt x="491" y="155"/>
                  </a:lnTo>
                  <a:lnTo>
                    <a:pt x="483" y="141"/>
                  </a:lnTo>
                  <a:lnTo>
                    <a:pt x="474" y="130"/>
                  </a:lnTo>
                  <a:lnTo>
                    <a:pt x="465" y="117"/>
                  </a:lnTo>
                  <a:lnTo>
                    <a:pt x="455" y="107"/>
                  </a:lnTo>
                  <a:lnTo>
                    <a:pt x="444" y="97"/>
                  </a:lnTo>
                  <a:lnTo>
                    <a:pt x="434" y="86"/>
                  </a:lnTo>
                  <a:lnTo>
                    <a:pt x="423" y="77"/>
                  </a:lnTo>
                  <a:lnTo>
                    <a:pt x="411" y="69"/>
                  </a:lnTo>
                  <a:lnTo>
                    <a:pt x="400" y="60"/>
                  </a:lnTo>
                  <a:lnTo>
                    <a:pt x="376" y="46"/>
                  </a:lnTo>
                  <a:lnTo>
                    <a:pt x="351" y="34"/>
                  </a:lnTo>
                  <a:lnTo>
                    <a:pt x="326" y="25"/>
                  </a:lnTo>
                  <a:lnTo>
                    <a:pt x="300" y="16"/>
                  </a:lnTo>
                  <a:lnTo>
                    <a:pt x="273" y="10"/>
                  </a:lnTo>
                  <a:lnTo>
                    <a:pt x="247" y="5"/>
                  </a:lnTo>
                  <a:lnTo>
                    <a:pt x="222" y="2"/>
                  </a:lnTo>
                  <a:lnTo>
                    <a:pt x="197" y="0"/>
                  </a:lnTo>
                  <a:lnTo>
                    <a:pt x="172" y="0"/>
                  </a:lnTo>
                  <a:lnTo>
                    <a:pt x="149" y="1"/>
                  </a:lnTo>
                  <a:lnTo>
                    <a:pt x="126" y="2"/>
                  </a:lnTo>
                  <a:lnTo>
                    <a:pt x="105" y="5"/>
                  </a:lnTo>
                  <a:lnTo>
                    <a:pt x="85" y="10"/>
                  </a:lnTo>
                  <a:lnTo>
                    <a:pt x="66" y="15"/>
                  </a:lnTo>
                  <a:lnTo>
                    <a:pt x="50" y="20"/>
                  </a:lnTo>
                  <a:lnTo>
                    <a:pt x="35" y="26"/>
                  </a:lnTo>
                  <a:lnTo>
                    <a:pt x="23" y="33"/>
                  </a:lnTo>
                  <a:lnTo>
                    <a:pt x="14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0"/>
                  </a:lnTo>
                  <a:lnTo>
                    <a:pt x="7" y="84"/>
                  </a:lnTo>
                  <a:lnTo>
                    <a:pt x="25" y="69"/>
                  </a:lnTo>
                  <a:lnTo>
                    <a:pt x="24" y="68"/>
                  </a:lnTo>
                  <a:lnTo>
                    <a:pt x="24" y="67"/>
                  </a:lnTo>
                  <a:lnTo>
                    <a:pt x="24" y="67"/>
                  </a:lnTo>
                  <a:lnTo>
                    <a:pt x="24" y="66"/>
                  </a:lnTo>
                  <a:lnTo>
                    <a:pt x="24" y="65"/>
                  </a:lnTo>
                  <a:lnTo>
                    <a:pt x="25" y="62"/>
                  </a:lnTo>
                  <a:lnTo>
                    <a:pt x="27" y="61"/>
                  </a:lnTo>
                  <a:lnTo>
                    <a:pt x="28" y="59"/>
                  </a:lnTo>
                  <a:lnTo>
                    <a:pt x="36" y="53"/>
                  </a:lnTo>
                  <a:lnTo>
                    <a:pt x="45" y="48"/>
                  </a:lnTo>
                  <a:lnTo>
                    <a:pt x="58" y="42"/>
                  </a:lnTo>
                  <a:lnTo>
                    <a:pt x="73" y="37"/>
                  </a:lnTo>
                  <a:lnTo>
                    <a:pt x="90" y="33"/>
                  </a:lnTo>
                  <a:lnTo>
                    <a:pt x="108" y="29"/>
                  </a:lnTo>
                  <a:lnTo>
                    <a:pt x="129" y="27"/>
                  </a:lnTo>
                  <a:lnTo>
                    <a:pt x="150" y="25"/>
                  </a:lnTo>
                  <a:lnTo>
                    <a:pt x="173" y="24"/>
                  </a:lnTo>
                  <a:lnTo>
                    <a:pt x="196" y="25"/>
                  </a:lnTo>
                  <a:lnTo>
                    <a:pt x="220" y="26"/>
                  </a:lnTo>
                  <a:lnTo>
                    <a:pt x="244" y="29"/>
                  </a:lnTo>
                  <a:lnTo>
                    <a:pt x="269" y="34"/>
                  </a:lnTo>
                  <a:lnTo>
                    <a:pt x="293" y="40"/>
                  </a:lnTo>
                  <a:lnTo>
                    <a:pt x="317" y="48"/>
                  </a:lnTo>
                  <a:lnTo>
                    <a:pt x="341" y="57"/>
                  </a:lnTo>
                  <a:lnTo>
                    <a:pt x="365" y="68"/>
                  </a:lnTo>
                  <a:lnTo>
                    <a:pt x="386" y="81"/>
                  </a:lnTo>
                  <a:lnTo>
                    <a:pt x="398" y="89"/>
                  </a:lnTo>
                  <a:lnTo>
                    <a:pt x="408" y="97"/>
                  </a:lnTo>
                  <a:lnTo>
                    <a:pt x="418" y="105"/>
                  </a:lnTo>
                  <a:lnTo>
                    <a:pt x="427" y="114"/>
                  </a:lnTo>
                  <a:lnTo>
                    <a:pt x="437" y="123"/>
                  </a:lnTo>
                  <a:lnTo>
                    <a:pt x="447" y="133"/>
                  </a:lnTo>
                  <a:lnTo>
                    <a:pt x="455" y="145"/>
                  </a:lnTo>
                  <a:lnTo>
                    <a:pt x="463" y="155"/>
                  </a:lnTo>
                  <a:lnTo>
                    <a:pt x="471" y="167"/>
                  </a:lnTo>
                  <a:lnTo>
                    <a:pt x="479" y="180"/>
                  </a:lnTo>
                  <a:lnTo>
                    <a:pt x="485" y="194"/>
                  </a:lnTo>
                  <a:lnTo>
                    <a:pt x="491" y="207"/>
                  </a:lnTo>
                  <a:lnTo>
                    <a:pt x="497" y="222"/>
                  </a:lnTo>
                  <a:lnTo>
                    <a:pt x="502" y="237"/>
                  </a:lnTo>
                  <a:lnTo>
                    <a:pt x="507" y="253"/>
                  </a:lnTo>
                  <a:lnTo>
                    <a:pt x="510" y="270"/>
                  </a:lnTo>
                  <a:lnTo>
                    <a:pt x="514" y="287"/>
                  </a:lnTo>
                  <a:lnTo>
                    <a:pt x="516" y="305"/>
                  </a:lnTo>
                  <a:lnTo>
                    <a:pt x="518" y="325"/>
                  </a:lnTo>
                  <a:lnTo>
                    <a:pt x="520" y="344"/>
                  </a:lnTo>
                  <a:lnTo>
                    <a:pt x="543" y="346"/>
                  </a:lnTo>
                  <a:lnTo>
                    <a:pt x="520" y="344"/>
                  </a:lnTo>
                  <a:lnTo>
                    <a:pt x="521" y="350"/>
                  </a:lnTo>
                  <a:lnTo>
                    <a:pt x="524" y="353"/>
                  </a:lnTo>
                  <a:lnTo>
                    <a:pt x="528" y="355"/>
                  </a:lnTo>
                  <a:lnTo>
                    <a:pt x="532" y="357"/>
                  </a:lnTo>
                  <a:lnTo>
                    <a:pt x="537" y="355"/>
                  </a:lnTo>
                  <a:lnTo>
                    <a:pt x="540" y="353"/>
                  </a:lnTo>
                  <a:lnTo>
                    <a:pt x="543" y="349"/>
                  </a:lnTo>
                  <a:lnTo>
                    <a:pt x="543" y="344"/>
                  </a:lnTo>
                  <a:lnTo>
                    <a:pt x="520" y="3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633920" y="3338640"/>
              <a:ext cx="351000" cy="216000"/>
            </a:xfrm>
            <a:custGeom>
              <a:avLst/>
              <a:gdLst/>
              <a:ahLst/>
              <a:rect l="l" t="t" r="r" b="b"/>
              <a:pathLst>
                <a:path w="1107" h="682">
                  <a:moveTo>
                    <a:pt x="520" y="333"/>
                  </a:moveTo>
                  <a:lnTo>
                    <a:pt x="522" y="322"/>
                  </a:lnTo>
                  <a:lnTo>
                    <a:pt x="527" y="311"/>
                  </a:lnTo>
                  <a:lnTo>
                    <a:pt x="530" y="299"/>
                  </a:lnTo>
                  <a:lnTo>
                    <a:pt x="536" y="287"/>
                  </a:lnTo>
                  <a:lnTo>
                    <a:pt x="549" y="263"/>
                  </a:lnTo>
                  <a:lnTo>
                    <a:pt x="563" y="239"/>
                  </a:lnTo>
                  <a:lnTo>
                    <a:pt x="579" y="215"/>
                  </a:lnTo>
                  <a:lnTo>
                    <a:pt x="599" y="192"/>
                  </a:lnTo>
                  <a:lnTo>
                    <a:pt x="619" y="169"/>
                  </a:lnTo>
                  <a:lnTo>
                    <a:pt x="641" y="148"/>
                  </a:lnTo>
                  <a:lnTo>
                    <a:pt x="665" y="127"/>
                  </a:lnTo>
                  <a:lnTo>
                    <a:pt x="689" y="109"/>
                  </a:lnTo>
                  <a:lnTo>
                    <a:pt x="714" y="93"/>
                  </a:lnTo>
                  <a:lnTo>
                    <a:pt x="739" y="78"/>
                  </a:lnTo>
                  <a:lnTo>
                    <a:pt x="753" y="72"/>
                  </a:lnTo>
                  <a:lnTo>
                    <a:pt x="765" y="67"/>
                  </a:lnTo>
                  <a:lnTo>
                    <a:pt x="778" y="62"/>
                  </a:lnTo>
                  <a:lnTo>
                    <a:pt x="791" y="57"/>
                  </a:lnTo>
                  <a:lnTo>
                    <a:pt x="804" y="55"/>
                  </a:lnTo>
                  <a:lnTo>
                    <a:pt x="816" y="53"/>
                  </a:lnTo>
                  <a:lnTo>
                    <a:pt x="829" y="51"/>
                  </a:lnTo>
                  <a:lnTo>
                    <a:pt x="842" y="51"/>
                  </a:lnTo>
                  <a:lnTo>
                    <a:pt x="842" y="84"/>
                  </a:lnTo>
                  <a:lnTo>
                    <a:pt x="839" y="114"/>
                  </a:lnTo>
                  <a:lnTo>
                    <a:pt x="837" y="142"/>
                  </a:lnTo>
                  <a:lnTo>
                    <a:pt x="834" y="167"/>
                  </a:lnTo>
                  <a:lnTo>
                    <a:pt x="829" y="190"/>
                  </a:lnTo>
                  <a:lnTo>
                    <a:pt x="824" y="210"/>
                  </a:lnTo>
                  <a:lnTo>
                    <a:pt x="820" y="228"/>
                  </a:lnTo>
                  <a:lnTo>
                    <a:pt x="815" y="244"/>
                  </a:lnTo>
                  <a:lnTo>
                    <a:pt x="806" y="269"/>
                  </a:lnTo>
                  <a:lnTo>
                    <a:pt x="798" y="289"/>
                  </a:lnTo>
                  <a:lnTo>
                    <a:pt x="796" y="296"/>
                  </a:lnTo>
                  <a:lnTo>
                    <a:pt x="794" y="301"/>
                  </a:lnTo>
                  <a:lnTo>
                    <a:pt x="793" y="305"/>
                  </a:lnTo>
                  <a:lnTo>
                    <a:pt x="794" y="308"/>
                  </a:lnTo>
                  <a:lnTo>
                    <a:pt x="795" y="311"/>
                  </a:lnTo>
                  <a:lnTo>
                    <a:pt x="798" y="312"/>
                  </a:lnTo>
                  <a:lnTo>
                    <a:pt x="804" y="312"/>
                  </a:lnTo>
                  <a:lnTo>
                    <a:pt x="811" y="311"/>
                  </a:lnTo>
                  <a:lnTo>
                    <a:pt x="831" y="307"/>
                  </a:lnTo>
                  <a:lnTo>
                    <a:pt x="862" y="303"/>
                  </a:lnTo>
                  <a:lnTo>
                    <a:pt x="903" y="298"/>
                  </a:lnTo>
                  <a:lnTo>
                    <a:pt x="957" y="293"/>
                  </a:lnTo>
                  <a:lnTo>
                    <a:pt x="989" y="291"/>
                  </a:lnTo>
                  <a:lnTo>
                    <a:pt x="1024" y="289"/>
                  </a:lnTo>
                  <a:lnTo>
                    <a:pt x="1064" y="288"/>
                  </a:lnTo>
                  <a:lnTo>
                    <a:pt x="1107" y="288"/>
                  </a:lnTo>
                  <a:lnTo>
                    <a:pt x="1091" y="437"/>
                  </a:lnTo>
                  <a:lnTo>
                    <a:pt x="1047" y="446"/>
                  </a:lnTo>
                  <a:lnTo>
                    <a:pt x="1001" y="455"/>
                  </a:lnTo>
                  <a:lnTo>
                    <a:pt x="954" y="463"/>
                  </a:lnTo>
                  <a:lnTo>
                    <a:pt x="908" y="469"/>
                  </a:lnTo>
                  <a:lnTo>
                    <a:pt x="861" y="474"/>
                  </a:lnTo>
                  <a:lnTo>
                    <a:pt x="814" y="477"/>
                  </a:lnTo>
                  <a:lnTo>
                    <a:pt x="769" y="479"/>
                  </a:lnTo>
                  <a:lnTo>
                    <a:pt x="724" y="480"/>
                  </a:lnTo>
                  <a:lnTo>
                    <a:pt x="754" y="493"/>
                  </a:lnTo>
                  <a:lnTo>
                    <a:pt x="785" y="508"/>
                  </a:lnTo>
                  <a:lnTo>
                    <a:pt x="800" y="517"/>
                  </a:lnTo>
                  <a:lnTo>
                    <a:pt x="816" y="526"/>
                  </a:lnTo>
                  <a:lnTo>
                    <a:pt x="831" y="536"/>
                  </a:lnTo>
                  <a:lnTo>
                    <a:pt x="847" y="547"/>
                  </a:lnTo>
                  <a:lnTo>
                    <a:pt x="861" y="558"/>
                  </a:lnTo>
                  <a:lnTo>
                    <a:pt x="873" y="570"/>
                  </a:lnTo>
                  <a:lnTo>
                    <a:pt x="885" y="583"/>
                  </a:lnTo>
                  <a:lnTo>
                    <a:pt x="895" y="597"/>
                  </a:lnTo>
                  <a:lnTo>
                    <a:pt x="903" y="610"/>
                  </a:lnTo>
                  <a:lnTo>
                    <a:pt x="910" y="625"/>
                  </a:lnTo>
                  <a:lnTo>
                    <a:pt x="912" y="633"/>
                  </a:lnTo>
                  <a:lnTo>
                    <a:pt x="913" y="641"/>
                  </a:lnTo>
                  <a:lnTo>
                    <a:pt x="914" y="649"/>
                  </a:lnTo>
                  <a:lnTo>
                    <a:pt x="914" y="657"/>
                  </a:lnTo>
                  <a:lnTo>
                    <a:pt x="895" y="657"/>
                  </a:lnTo>
                  <a:lnTo>
                    <a:pt x="873" y="658"/>
                  </a:lnTo>
                  <a:lnTo>
                    <a:pt x="851" y="661"/>
                  </a:lnTo>
                  <a:lnTo>
                    <a:pt x="827" y="664"/>
                  </a:lnTo>
                  <a:lnTo>
                    <a:pt x="777" y="670"/>
                  </a:lnTo>
                  <a:lnTo>
                    <a:pt x="726" y="675"/>
                  </a:lnTo>
                  <a:lnTo>
                    <a:pt x="700" y="678"/>
                  </a:lnTo>
                  <a:lnTo>
                    <a:pt x="675" y="680"/>
                  </a:lnTo>
                  <a:lnTo>
                    <a:pt x="651" y="681"/>
                  </a:lnTo>
                  <a:lnTo>
                    <a:pt x="627" y="682"/>
                  </a:lnTo>
                  <a:lnTo>
                    <a:pt x="606" y="681"/>
                  </a:lnTo>
                  <a:lnTo>
                    <a:pt x="584" y="679"/>
                  </a:lnTo>
                  <a:lnTo>
                    <a:pt x="565" y="675"/>
                  </a:lnTo>
                  <a:lnTo>
                    <a:pt x="547" y="671"/>
                  </a:lnTo>
                  <a:lnTo>
                    <a:pt x="530" y="663"/>
                  </a:lnTo>
                  <a:lnTo>
                    <a:pt x="514" y="655"/>
                  </a:lnTo>
                  <a:lnTo>
                    <a:pt x="500" y="645"/>
                  </a:lnTo>
                  <a:lnTo>
                    <a:pt x="486" y="633"/>
                  </a:lnTo>
                  <a:lnTo>
                    <a:pt x="475" y="621"/>
                  </a:lnTo>
                  <a:lnTo>
                    <a:pt x="463" y="607"/>
                  </a:lnTo>
                  <a:lnTo>
                    <a:pt x="453" y="592"/>
                  </a:lnTo>
                  <a:lnTo>
                    <a:pt x="443" y="577"/>
                  </a:lnTo>
                  <a:lnTo>
                    <a:pt x="435" y="561"/>
                  </a:lnTo>
                  <a:lnTo>
                    <a:pt x="427" y="544"/>
                  </a:lnTo>
                  <a:lnTo>
                    <a:pt x="420" y="527"/>
                  </a:lnTo>
                  <a:lnTo>
                    <a:pt x="413" y="510"/>
                  </a:lnTo>
                  <a:lnTo>
                    <a:pt x="402" y="474"/>
                  </a:lnTo>
                  <a:lnTo>
                    <a:pt x="392" y="437"/>
                  </a:lnTo>
                  <a:lnTo>
                    <a:pt x="377" y="365"/>
                  </a:lnTo>
                  <a:lnTo>
                    <a:pt x="361" y="300"/>
                  </a:lnTo>
                  <a:lnTo>
                    <a:pt x="356" y="285"/>
                  </a:lnTo>
                  <a:lnTo>
                    <a:pt x="351" y="272"/>
                  </a:lnTo>
                  <a:lnTo>
                    <a:pt x="347" y="259"/>
                  </a:lnTo>
                  <a:lnTo>
                    <a:pt x="341" y="248"/>
                  </a:lnTo>
                  <a:lnTo>
                    <a:pt x="336" y="238"/>
                  </a:lnTo>
                  <a:lnTo>
                    <a:pt x="329" y="228"/>
                  </a:lnTo>
                  <a:lnTo>
                    <a:pt x="322" y="222"/>
                  </a:lnTo>
                  <a:lnTo>
                    <a:pt x="314" y="215"/>
                  </a:lnTo>
                  <a:lnTo>
                    <a:pt x="299" y="205"/>
                  </a:lnTo>
                  <a:lnTo>
                    <a:pt x="282" y="194"/>
                  </a:lnTo>
                  <a:lnTo>
                    <a:pt x="264" y="185"/>
                  </a:lnTo>
                  <a:lnTo>
                    <a:pt x="243" y="176"/>
                  </a:lnTo>
                  <a:lnTo>
                    <a:pt x="200" y="160"/>
                  </a:lnTo>
                  <a:lnTo>
                    <a:pt x="154" y="145"/>
                  </a:lnTo>
                  <a:lnTo>
                    <a:pt x="132" y="137"/>
                  </a:lnTo>
                  <a:lnTo>
                    <a:pt x="109" y="129"/>
                  </a:lnTo>
                  <a:lnTo>
                    <a:pt x="88" y="121"/>
                  </a:lnTo>
                  <a:lnTo>
                    <a:pt x="68" y="112"/>
                  </a:lnTo>
                  <a:lnTo>
                    <a:pt x="48" y="102"/>
                  </a:lnTo>
                  <a:lnTo>
                    <a:pt x="31" y="91"/>
                  </a:lnTo>
                  <a:lnTo>
                    <a:pt x="23" y="85"/>
                  </a:lnTo>
                  <a:lnTo>
                    <a:pt x="16" y="79"/>
                  </a:lnTo>
                  <a:lnTo>
                    <a:pt x="10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8" y="32"/>
                  </a:lnTo>
                  <a:lnTo>
                    <a:pt x="29" y="26"/>
                  </a:lnTo>
                  <a:lnTo>
                    <a:pt x="43" y="20"/>
                  </a:lnTo>
                  <a:lnTo>
                    <a:pt x="57" y="15"/>
                  </a:lnTo>
                  <a:lnTo>
                    <a:pt x="76" y="11"/>
                  </a:lnTo>
                  <a:lnTo>
                    <a:pt x="95" y="6"/>
                  </a:lnTo>
                  <a:lnTo>
                    <a:pt x="116" y="4"/>
                  </a:lnTo>
                  <a:lnTo>
                    <a:pt x="137" y="2"/>
                  </a:lnTo>
                  <a:lnTo>
                    <a:pt x="160" y="0"/>
                  </a:lnTo>
                  <a:lnTo>
                    <a:pt x="184" y="2"/>
                  </a:lnTo>
                  <a:lnTo>
                    <a:pt x="209" y="3"/>
                  </a:lnTo>
                  <a:lnTo>
                    <a:pt x="234" y="6"/>
                  </a:lnTo>
                  <a:lnTo>
                    <a:pt x="259" y="11"/>
                  </a:lnTo>
                  <a:lnTo>
                    <a:pt x="284" y="16"/>
                  </a:lnTo>
                  <a:lnTo>
                    <a:pt x="309" y="24"/>
                  </a:lnTo>
                  <a:lnTo>
                    <a:pt x="334" y="35"/>
                  </a:lnTo>
                  <a:lnTo>
                    <a:pt x="358" y="46"/>
                  </a:lnTo>
                  <a:lnTo>
                    <a:pt x="381" y="60"/>
                  </a:lnTo>
                  <a:lnTo>
                    <a:pt x="403" y="76"/>
                  </a:lnTo>
                  <a:lnTo>
                    <a:pt x="423" y="94"/>
                  </a:lnTo>
                  <a:lnTo>
                    <a:pt x="443" y="114"/>
                  </a:lnTo>
                  <a:lnTo>
                    <a:pt x="461" y="137"/>
                  </a:lnTo>
                  <a:lnTo>
                    <a:pt x="477" y="163"/>
                  </a:lnTo>
                  <a:lnTo>
                    <a:pt x="491" y="191"/>
                  </a:lnTo>
                  <a:lnTo>
                    <a:pt x="502" y="222"/>
                  </a:lnTo>
                  <a:lnTo>
                    <a:pt x="511" y="256"/>
                  </a:lnTo>
                  <a:lnTo>
                    <a:pt x="517" y="293"/>
                  </a:lnTo>
                  <a:lnTo>
                    <a:pt x="520" y="333"/>
                  </a:lnTo>
                  <a:close/>
                </a:path>
              </a:pathLst>
            </a:custGeom>
            <a:solidFill>
              <a:srgbClr val="a395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94120" y="3349800"/>
              <a:ext cx="111240" cy="95400"/>
            </a:xfrm>
            <a:custGeom>
              <a:avLst/>
              <a:gdLst/>
              <a:ahLst/>
              <a:rect l="l" t="t" r="r" b="b"/>
              <a:pathLst>
                <a:path w="346" h="298">
                  <a:moveTo>
                    <a:pt x="346" y="13"/>
                  </a:moveTo>
                  <a:lnTo>
                    <a:pt x="334" y="0"/>
                  </a:lnTo>
                  <a:lnTo>
                    <a:pt x="321" y="1"/>
                  </a:lnTo>
                  <a:lnTo>
                    <a:pt x="307" y="2"/>
                  </a:lnTo>
                  <a:lnTo>
                    <a:pt x="294" y="5"/>
                  </a:lnTo>
                  <a:lnTo>
                    <a:pt x="280" y="8"/>
                  </a:lnTo>
                  <a:lnTo>
                    <a:pt x="266" y="13"/>
                  </a:lnTo>
                  <a:lnTo>
                    <a:pt x="253" y="17"/>
                  </a:lnTo>
                  <a:lnTo>
                    <a:pt x="239" y="23"/>
                  </a:lnTo>
                  <a:lnTo>
                    <a:pt x="225" y="30"/>
                  </a:lnTo>
                  <a:lnTo>
                    <a:pt x="199" y="45"/>
                  </a:lnTo>
                  <a:lnTo>
                    <a:pt x="174" y="60"/>
                  </a:lnTo>
                  <a:lnTo>
                    <a:pt x="149" y="80"/>
                  </a:lnTo>
                  <a:lnTo>
                    <a:pt x="125" y="100"/>
                  </a:lnTo>
                  <a:lnTo>
                    <a:pt x="102" y="123"/>
                  </a:lnTo>
                  <a:lnTo>
                    <a:pt x="82" y="146"/>
                  </a:lnTo>
                  <a:lnTo>
                    <a:pt x="62" y="170"/>
                  </a:lnTo>
                  <a:lnTo>
                    <a:pt x="45" y="195"/>
                  </a:lnTo>
                  <a:lnTo>
                    <a:pt x="30" y="219"/>
                  </a:lnTo>
                  <a:lnTo>
                    <a:pt x="18" y="244"/>
                  </a:lnTo>
                  <a:lnTo>
                    <a:pt x="12" y="257"/>
                  </a:lnTo>
                  <a:lnTo>
                    <a:pt x="8" y="268"/>
                  </a:lnTo>
                  <a:lnTo>
                    <a:pt x="3" y="281"/>
                  </a:lnTo>
                  <a:lnTo>
                    <a:pt x="0" y="292"/>
                  </a:lnTo>
                  <a:lnTo>
                    <a:pt x="24" y="298"/>
                  </a:lnTo>
                  <a:lnTo>
                    <a:pt x="26" y="287"/>
                  </a:lnTo>
                  <a:lnTo>
                    <a:pt x="30" y="276"/>
                  </a:lnTo>
                  <a:lnTo>
                    <a:pt x="34" y="266"/>
                  </a:lnTo>
                  <a:lnTo>
                    <a:pt x="39" y="254"/>
                  </a:lnTo>
                  <a:lnTo>
                    <a:pt x="51" y="231"/>
                  </a:lnTo>
                  <a:lnTo>
                    <a:pt x="66" y="208"/>
                  </a:lnTo>
                  <a:lnTo>
                    <a:pt x="82" y="185"/>
                  </a:lnTo>
                  <a:lnTo>
                    <a:pt x="100" y="162"/>
                  </a:lnTo>
                  <a:lnTo>
                    <a:pt x="120" y="139"/>
                  </a:lnTo>
                  <a:lnTo>
                    <a:pt x="141" y="119"/>
                  </a:lnTo>
                  <a:lnTo>
                    <a:pt x="164" y="99"/>
                  </a:lnTo>
                  <a:lnTo>
                    <a:pt x="188" y="81"/>
                  </a:lnTo>
                  <a:lnTo>
                    <a:pt x="212" y="65"/>
                  </a:lnTo>
                  <a:lnTo>
                    <a:pt x="237" y="51"/>
                  </a:lnTo>
                  <a:lnTo>
                    <a:pt x="249" y="45"/>
                  </a:lnTo>
                  <a:lnTo>
                    <a:pt x="262" y="40"/>
                  </a:lnTo>
                  <a:lnTo>
                    <a:pt x="274" y="35"/>
                  </a:lnTo>
                  <a:lnTo>
                    <a:pt x="286" y="32"/>
                  </a:lnTo>
                  <a:lnTo>
                    <a:pt x="298" y="29"/>
                  </a:lnTo>
                  <a:lnTo>
                    <a:pt x="311" y="26"/>
                  </a:lnTo>
                  <a:lnTo>
                    <a:pt x="322" y="25"/>
                  </a:lnTo>
                  <a:lnTo>
                    <a:pt x="334" y="25"/>
                  </a:lnTo>
                  <a:lnTo>
                    <a:pt x="322" y="13"/>
                  </a:lnTo>
                  <a:lnTo>
                    <a:pt x="334" y="25"/>
                  </a:lnTo>
                  <a:lnTo>
                    <a:pt x="339" y="24"/>
                  </a:lnTo>
                  <a:lnTo>
                    <a:pt x="343" y="21"/>
                  </a:lnTo>
                  <a:lnTo>
                    <a:pt x="345" y="17"/>
                  </a:lnTo>
                  <a:lnTo>
                    <a:pt x="346" y="13"/>
                  </a:lnTo>
                  <a:lnTo>
                    <a:pt x="345" y="8"/>
                  </a:lnTo>
                  <a:lnTo>
                    <a:pt x="343" y="5"/>
                  </a:lnTo>
                  <a:lnTo>
                    <a:pt x="339" y="1"/>
                  </a:lnTo>
                  <a:lnTo>
                    <a:pt x="334" y="0"/>
                  </a:lnTo>
                  <a:lnTo>
                    <a:pt x="346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881600" y="3354480"/>
              <a:ext cx="106200" cy="86040"/>
            </a:xfrm>
            <a:custGeom>
              <a:avLst/>
              <a:gdLst/>
              <a:ahLst/>
              <a:rect l="l" t="t" r="r" b="b"/>
              <a:pathLst>
                <a:path w="337" h="272">
                  <a:moveTo>
                    <a:pt x="337" y="238"/>
                  </a:moveTo>
                  <a:lnTo>
                    <a:pt x="326" y="224"/>
                  </a:lnTo>
                  <a:lnTo>
                    <a:pt x="283" y="225"/>
                  </a:lnTo>
                  <a:lnTo>
                    <a:pt x="243" y="226"/>
                  </a:lnTo>
                  <a:lnTo>
                    <a:pt x="208" y="228"/>
                  </a:lnTo>
                  <a:lnTo>
                    <a:pt x="174" y="230"/>
                  </a:lnTo>
                  <a:lnTo>
                    <a:pt x="121" y="234"/>
                  </a:lnTo>
                  <a:lnTo>
                    <a:pt x="79" y="240"/>
                  </a:lnTo>
                  <a:lnTo>
                    <a:pt x="48" y="245"/>
                  </a:lnTo>
                  <a:lnTo>
                    <a:pt x="29" y="248"/>
                  </a:lnTo>
                  <a:lnTo>
                    <a:pt x="22" y="248"/>
                  </a:lnTo>
                  <a:lnTo>
                    <a:pt x="18" y="248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4" y="255"/>
                  </a:lnTo>
                  <a:lnTo>
                    <a:pt x="24" y="254"/>
                  </a:lnTo>
                  <a:lnTo>
                    <a:pt x="26" y="249"/>
                  </a:lnTo>
                  <a:lnTo>
                    <a:pt x="29" y="242"/>
                  </a:lnTo>
                  <a:lnTo>
                    <a:pt x="37" y="223"/>
                  </a:lnTo>
                  <a:lnTo>
                    <a:pt x="46" y="197"/>
                  </a:lnTo>
                  <a:lnTo>
                    <a:pt x="50" y="181"/>
                  </a:lnTo>
                  <a:lnTo>
                    <a:pt x="56" y="161"/>
                  </a:lnTo>
                  <a:lnTo>
                    <a:pt x="61" y="141"/>
                  </a:lnTo>
                  <a:lnTo>
                    <a:pt x="64" y="118"/>
                  </a:lnTo>
                  <a:lnTo>
                    <a:pt x="67" y="92"/>
                  </a:lnTo>
                  <a:lnTo>
                    <a:pt x="71" y="65"/>
                  </a:lnTo>
                  <a:lnTo>
                    <a:pt x="72" y="34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48" y="33"/>
                  </a:lnTo>
                  <a:lnTo>
                    <a:pt x="47" y="62"/>
                  </a:lnTo>
                  <a:lnTo>
                    <a:pt x="43" y="90"/>
                  </a:lnTo>
                  <a:lnTo>
                    <a:pt x="40" y="115"/>
                  </a:lnTo>
                  <a:lnTo>
                    <a:pt x="37" y="136"/>
                  </a:lnTo>
                  <a:lnTo>
                    <a:pt x="32" y="156"/>
                  </a:lnTo>
                  <a:lnTo>
                    <a:pt x="27" y="174"/>
                  </a:lnTo>
                  <a:lnTo>
                    <a:pt x="23" y="189"/>
                  </a:lnTo>
                  <a:lnTo>
                    <a:pt x="14" y="215"/>
                  </a:lnTo>
                  <a:lnTo>
                    <a:pt x="6" y="233"/>
                  </a:lnTo>
                  <a:lnTo>
                    <a:pt x="4" y="240"/>
                  </a:lnTo>
                  <a:lnTo>
                    <a:pt x="1" y="247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8" y="270"/>
                  </a:lnTo>
                  <a:lnTo>
                    <a:pt x="16" y="272"/>
                  </a:lnTo>
                  <a:lnTo>
                    <a:pt x="23" y="272"/>
                  </a:lnTo>
                  <a:lnTo>
                    <a:pt x="31" y="272"/>
                  </a:lnTo>
                  <a:lnTo>
                    <a:pt x="53" y="269"/>
                  </a:lnTo>
                  <a:lnTo>
                    <a:pt x="82" y="264"/>
                  </a:lnTo>
                  <a:lnTo>
                    <a:pt x="123" y="258"/>
                  </a:lnTo>
                  <a:lnTo>
                    <a:pt x="177" y="254"/>
                  </a:lnTo>
                  <a:lnTo>
                    <a:pt x="209" y="252"/>
                  </a:lnTo>
                  <a:lnTo>
                    <a:pt x="244" y="250"/>
                  </a:lnTo>
                  <a:lnTo>
                    <a:pt x="283" y="249"/>
                  </a:lnTo>
                  <a:lnTo>
                    <a:pt x="326" y="249"/>
                  </a:lnTo>
                  <a:lnTo>
                    <a:pt x="314" y="236"/>
                  </a:lnTo>
                  <a:lnTo>
                    <a:pt x="326" y="249"/>
                  </a:lnTo>
                  <a:lnTo>
                    <a:pt x="331" y="248"/>
                  </a:lnTo>
                  <a:lnTo>
                    <a:pt x="335" y="245"/>
                  </a:lnTo>
                  <a:lnTo>
                    <a:pt x="337" y="241"/>
                  </a:lnTo>
                  <a:lnTo>
                    <a:pt x="337" y="237"/>
                  </a:lnTo>
                  <a:lnTo>
                    <a:pt x="337" y="232"/>
                  </a:lnTo>
                  <a:lnTo>
                    <a:pt x="335" y="229"/>
                  </a:lnTo>
                  <a:lnTo>
                    <a:pt x="331" y="225"/>
                  </a:lnTo>
                  <a:lnTo>
                    <a:pt x="326" y="224"/>
                  </a:lnTo>
                  <a:lnTo>
                    <a:pt x="337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76640" y="3429360"/>
              <a:ext cx="11160" cy="50760"/>
            </a:xfrm>
            <a:custGeom>
              <a:avLst/>
              <a:gdLst/>
              <a:ahLst/>
              <a:rect l="l" t="t" r="r" b="b"/>
              <a:pathLst>
                <a:path w="38" h="161">
                  <a:moveTo>
                    <a:pt x="15" y="161"/>
                  </a:moveTo>
                  <a:lnTo>
                    <a:pt x="24" y="151"/>
                  </a:lnTo>
                  <a:lnTo>
                    <a:pt x="38" y="2"/>
                  </a:lnTo>
                  <a:lnTo>
                    <a:pt x="15" y="0"/>
                  </a:lnTo>
                  <a:lnTo>
                    <a:pt x="0" y="149"/>
                  </a:lnTo>
                  <a:lnTo>
                    <a:pt x="15" y="161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2" y="158"/>
                  </a:lnTo>
                  <a:lnTo>
                    <a:pt x="5" y="160"/>
                  </a:lnTo>
                  <a:lnTo>
                    <a:pt x="10" y="161"/>
                  </a:lnTo>
                  <a:lnTo>
                    <a:pt x="15" y="161"/>
                  </a:lnTo>
                  <a:lnTo>
                    <a:pt x="19" y="159"/>
                  </a:lnTo>
                  <a:lnTo>
                    <a:pt x="21" y="156"/>
                  </a:lnTo>
                  <a:lnTo>
                    <a:pt x="24" y="151"/>
                  </a:lnTo>
                  <a:lnTo>
                    <a:pt x="15" y="16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859280" y="3473640"/>
              <a:ext cx="122400" cy="20880"/>
            </a:xfrm>
            <a:custGeom>
              <a:avLst/>
              <a:gdLst/>
              <a:ahLst/>
              <a:rect l="l" t="t" r="r" b="b"/>
              <a:pathLst>
                <a:path w="383" h="67">
                  <a:moveTo>
                    <a:pt x="17" y="44"/>
                  </a:moveTo>
                  <a:lnTo>
                    <a:pt x="12" y="67"/>
                  </a:lnTo>
                  <a:lnTo>
                    <a:pt x="58" y="67"/>
                  </a:lnTo>
                  <a:lnTo>
                    <a:pt x="103" y="65"/>
                  </a:lnTo>
                  <a:lnTo>
                    <a:pt x="150" y="61"/>
                  </a:lnTo>
                  <a:lnTo>
                    <a:pt x="197" y="55"/>
                  </a:lnTo>
                  <a:lnTo>
                    <a:pt x="245" y="50"/>
                  </a:lnTo>
                  <a:lnTo>
                    <a:pt x="291" y="42"/>
                  </a:lnTo>
                  <a:lnTo>
                    <a:pt x="337" y="34"/>
                  </a:lnTo>
                  <a:lnTo>
                    <a:pt x="383" y="23"/>
                  </a:lnTo>
                  <a:lnTo>
                    <a:pt x="377" y="0"/>
                  </a:lnTo>
                  <a:lnTo>
                    <a:pt x="332" y="10"/>
                  </a:lnTo>
                  <a:lnTo>
                    <a:pt x="287" y="19"/>
                  </a:lnTo>
                  <a:lnTo>
                    <a:pt x="241" y="26"/>
                  </a:lnTo>
                  <a:lnTo>
                    <a:pt x="194" y="31"/>
                  </a:lnTo>
                  <a:lnTo>
                    <a:pt x="148" y="37"/>
                  </a:lnTo>
                  <a:lnTo>
                    <a:pt x="102" y="41"/>
                  </a:lnTo>
                  <a:lnTo>
                    <a:pt x="57" y="43"/>
                  </a:lnTo>
                  <a:lnTo>
                    <a:pt x="12" y="43"/>
                  </a:lnTo>
                  <a:lnTo>
                    <a:pt x="8" y="67"/>
                  </a:lnTo>
                  <a:lnTo>
                    <a:pt x="12" y="43"/>
                  </a:lnTo>
                  <a:lnTo>
                    <a:pt x="6" y="44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862520" y="3486240"/>
              <a:ext cx="65160" cy="63720"/>
            </a:xfrm>
            <a:custGeom>
              <a:avLst/>
              <a:gdLst/>
              <a:ahLst/>
              <a:rect l="l" t="t" r="r" b="b"/>
              <a:pathLst>
                <a:path w="207" h="199">
                  <a:moveTo>
                    <a:pt x="194" y="199"/>
                  </a:moveTo>
                  <a:lnTo>
                    <a:pt x="207" y="188"/>
                  </a:lnTo>
                  <a:lnTo>
                    <a:pt x="206" y="179"/>
                  </a:lnTo>
                  <a:lnTo>
                    <a:pt x="205" y="170"/>
                  </a:lnTo>
                  <a:lnTo>
                    <a:pt x="204" y="161"/>
                  </a:lnTo>
                  <a:lnTo>
                    <a:pt x="201" y="152"/>
                  </a:lnTo>
                  <a:lnTo>
                    <a:pt x="194" y="136"/>
                  </a:lnTo>
                  <a:lnTo>
                    <a:pt x="185" y="121"/>
                  </a:lnTo>
                  <a:lnTo>
                    <a:pt x="174" y="106"/>
                  </a:lnTo>
                  <a:lnTo>
                    <a:pt x="163" y="92"/>
                  </a:lnTo>
                  <a:lnTo>
                    <a:pt x="149" y="80"/>
                  </a:lnTo>
                  <a:lnTo>
                    <a:pt x="134" y="67"/>
                  </a:lnTo>
                  <a:lnTo>
                    <a:pt x="118" y="57"/>
                  </a:lnTo>
                  <a:lnTo>
                    <a:pt x="102" y="47"/>
                  </a:lnTo>
                  <a:lnTo>
                    <a:pt x="86" y="36"/>
                  </a:lnTo>
                  <a:lnTo>
                    <a:pt x="70" y="28"/>
                  </a:lnTo>
                  <a:lnTo>
                    <a:pt x="38" y="13"/>
                  </a:lnTo>
                  <a:lnTo>
                    <a:pt x="9" y="0"/>
                  </a:lnTo>
                  <a:lnTo>
                    <a:pt x="0" y="23"/>
                  </a:lnTo>
                  <a:lnTo>
                    <a:pt x="28" y="34"/>
                  </a:lnTo>
                  <a:lnTo>
                    <a:pt x="59" y="49"/>
                  </a:lnTo>
                  <a:lnTo>
                    <a:pt x="75" y="58"/>
                  </a:lnTo>
                  <a:lnTo>
                    <a:pt x="90" y="67"/>
                  </a:lnTo>
                  <a:lnTo>
                    <a:pt x="104" y="76"/>
                  </a:lnTo>
                  <a:lnTo>
                    <a:pt x="119" y="87"/>
                  </a:lnTo>
                  <a:lnTo>
                    <a:pt x="133" y="98"/>
                  </a:lnTo>
                  <a:lnTo>
                    <a:pt x="145" y="109"/>
                  </a:lnTo>
                  <a:lnTo>
                    <a:pt x="156" y="121"/>
                  </a:lnTo>
                  <a:lnTo>
                    <a:pt x="165" y="133"/>
                  </a:lnTo>
                  <a:lnTo>
                    <a:pt x="173" y="147"/>
                  </a:lnTo>
                  <a:lnTo>
                    <a:pt x="179" y="161"/>
                  </a:lnTo>
                  <a:lnTo>
                    <a:pt x="180" y="166"/>
                  </a:lnTo>
                  <a:lnTo>
                    <a:pt x="182" y="173"/>
                  </a:lnTo>
                  <a:lnTo>
                    <a:pt x="182" y="180"/>
                  </a:lnTo>
                  <a:lnTo>
                    <a:pt x="183" y="188"/>
                  </a:lnTo>
                  <a:lnTo>
                    <a:pt x="194" y="176"/>
                  </a:lnTo>
                  <a:lnTo>
                    <a:pt x="183" y="188"/>
                  </a:lnTo>
                  <a:lnTo>
                    <a:pt x="183" y="193"/>
                  </a:lnTo>
                  <a:lnTo>
                    <a:pt x="186" y="197"/>
                  </a:lnTo>
                  <a:lnTo>
                    <a:pt x="190" y="199"/>
                  </a:lnTo>
                  <a:lnTo>
                    <a:pt x="194" y="199"/>
                  </a:lnTo>
                  <a:lnTo>
                    <a:pt x="199" y="199"/>
                  </a:lnTo>
                  <a:lnTo>
                    <a:pt x="202" y="197"/>
                  </a:lnTo>
                  <a:lnTo>
                    <a:pt x="206" y="193"/>
                  </a:lnTo>
                  <a:lnTo>
                    <a:pt x="207" y="188"/>
                  </a:lnTo>
                  <a:lnTo>
                    <a:pt x="194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2593800" y="2608560"/>
              <a:ext cx="3851280" cy="1569960"/>
              <a:chOff x="2593800" y="2608560"/>
              <a:chExt cx="3851280" cy="1569960"/>
            </a:xfrm>
          </p:grpSpPr>
          <p:sp>
            <p:nvSpPr>
              <p:cNvPr id="1858" name=""/>
              <p:cNvSpPr/>
              <p:nvPr/>
            </p:nvSpPr>
            <p:spPr>
              <a:xfrm>
                <a:off x="4805280" y="3543480"/>
                <a:ext cx="119160" cy="144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9" y="43"/>
                    </a:lnTo>
                    <a:lnTo>
                      <a:pt x="40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3" y="47"/>
                    </a:lnTo>
                    <a:lnTo>
                      <a:pt x="158" y="45"/>
                    </a:lnTo>
                    <a:lnTo>
                      <a:pt x="185" y="43"/>
                    </a:lnTo>
                    <a:lnTo>
                      <a:pt x="235" y="36"/>
                    </a:lnTo>
                    <a:lnTo>
                      <a:pt x="285" y="30"/>
                    </a:lnTo>
                    <a:lnTo>
                      <a:pt x="309" y="28"/>
                    </a:lnTo>
                    <a:lnTo>
                      <a:pt x="332" y="26"/>
                    </a:lnTo>
                    <a:lnTo>
                      <a:pt x="352" y="25"/>
                    </a:lnTo>
                    <a:lnTo>
                      <a:pt x="371" y="23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9" y="2"/>
                    </a:lnTo>
                    <a:lnTo>
                      <a:pt x="307" y="4"/>
                    </a:lnTo>
                    <a:lnTo>
                      <a:pt x="283" y="6"/>
                    </a:lnTo>
                    <a:lnTo>
                      <a:pt x="232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2" y="23"/>
                    </a:lnTo>
                    <a:lnTo>
                      <a:pt x="108" y="25"/>
                    </a:lnTo>
                    <a:lnTo>
                      <a:pt x="84" y="25"/>
                    </a:lnTo>
                    <a:lnTo>
                      <a:pt x="63" y="23"/>
                    </a:lnTo>
                    <a:lnTo>
                      <a:pt x="43" y="22"/>
                    </a:lnTo>
                    <a:lnTo>
                      <a:pt x="25" y="1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30760" y="3403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0" y="19"/>
                    </a:moveTo>
                    <a:lnTo>
                      <a:pt x="1" y="20"/>
                    </a:lnTo>
                    <a:lnTo>
                      <a:pt x="8" y="26"/>
                    </a:lnTo>
                    <a:lnTo>
                      <a:pt x="14" y="31"/>
                    </a:lnTo>
                    <a:lnTo>
                      <a:pt x="19" y="39"/>
                    </a:lnTo>
                    <a:lnTo>
                      <a:pt x="25" y="49"/>
                    </a:lnTo>
                    <a:lnTo>
                      <a:pt x="30" y="60"/>
                    </a:lnTo>
                    <a:lnTo>
                      <a:pt x="34" y="71"/>
                    </a:lnTo>
                    <a:lnTo>
                      <a:pt x="39" y="84"/>
                    </a:lnTo>
                    <a:lnTo>
                      <a:pt x="43" y="99"/>
                    </a:lnTo>
                    <a:lnTo>
                      <a:pt x="58" y="163"/>
                    </a:lnTo>
                    <a:lnTo>
                      <a:pt x="74" y="234"/>
                    </a:lnTo>
                    <a:lnTo>
                      <a:pt x="84" y="272"/>
                    </a:lnTo>
                    <a:lnTo>
                      <a:pt x="96" y="308"/>
                    </a:lnTo>
                    <a:lnTo>
                      <a:pt x="102" y="327"/>
                    </a:lnTo>
                    <a:lnTo>
                      <a:pt x="109" y="344"/>
                    </a:lnTo>
                    <a:lnTo>
                      <a:pt x="117" y="361"/>
                    </a:lnTo>
                    <a:lnTo>
                      <a:pt x="126" y="378"/>
                    </a:lnTo>
                    <a:lnTo>
                      <a:pt x="137" y="394"/>
                    </a:lnTo>
                    <a:lnTo>
                      <a:pt x="147" y="409"/>
                    </a:lnTo>
                    <a:lnTo>
                      <a:pt x="159" y="424"/>
                    </a:lnTo>
                    <a:lnTo>
                      <a:pt x="172" y="436"/>
                    </a:lnTo>
                    <a:lnTo>
                      <a:pt x="187" y="449"/>
                    </a:lnTo>
                    <a:lnTo>
                      <a:pt x="202" y="459"/>
                    </a:lnTo>
                    <a:lnTo>
                      <a:pt x="219" y="469"/>
                    </a:lnTo>
                    <a:lnTo>
                      <a:pt x="237" y="477"/>
                    </a:lnTo>
                    <a:lnTo>
                      <a:pt x="246" y="454"/>
                    </a:lnTo>
                    <a:lnTo>
                      <a:pt x="230" y="448"/>
                    </a:lnTo>
                    <a:lnTo>
                      <a:pt x="215" y="440"/>
                    </a:lnTo>
                    <a:lnTo>
                      <a:pt x="202" y="429"/>
                    </a:lnTo>
                    <a:lnTo>
                      <a:pt x="189" y="419"/>
                    </a:lnTo>
                    <a:lnTo>
                      <a:pt x="177" y="406"/>
                    </a:lnTo>
                    <a:lnTo>
                      <a:pt x="166" y="394"/>
                    </a:lnTo>
                    <a:lnTo>
                      <a:pt x="156" y="380"/>
                    </a:lnTo>
                    <a:lnTo>
                      <a:pt x="148" y="365"/>
                    </a:lnTo>
                    <a:lnTo>
                      <a:pt x="139" y="351"/>
                    </a:lnTo>
                    <a:lnTo>
                      <a:pt x="132" y="335"/>
                    </a:lnTo>
                    <a:lnTo>
                      <a:pt x="125" y="318"/>
                    </a:lnTo>
                    <a:lnTo>
                      <a:pt x="118" y="300"/>
                    </a:lnTo>
                    <a:lnTo>
                      <a:pt x="107" y="265"/>
                    </a:lnTo>
                    <a:lnTo>
                      <a:pt x="98" y="230"/>
                    </a:lnTo>
                    <a:lnTo>
                      <a:pt x="82" y="158"/>
                    </a:lnTo>
                    <a:lnTo>
                      <a:pt x="66" y="92"/>
                    </a:lnTo>
                    <a:lnTo>
                      <a:pt x="61" y="77"/>
                    </a:lnTo>
                    <a:lnTo>
                      <a:pt x="57" y="63"/>
                    </a:lnTo>
                    <a:lnTo>
                      <a:pt x="52" y="50"/>
                    </a:lnTo>
                    <a:lnTo>
                      <a:pt x="45" y="37"/>
                    </a:lnTo>
                    <a:lnTo>
                      <a:pt x="40" y="26"/>
                    </a:lnTo>
                    <a:lnTo>
                      <a:pt x="32" y="17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32480" y="3356280"/>
                <a:ext cx="102960" cy="52200"/>
              </a:xfrm>
              <a:custGeom>
                <a:avLst/>
                <a:gdLst/>
                <a:ahLst/>
                <a:rect l="l" t="t" r="r" b="b"/>
                <a:pathLst>
                  <a:path w="327" h="165">
                    <a:moveTo>
                      <a:pt x="0" y="14"/>
                    </a:moveTo>
                    <a:lnTo>
                      <a:pt x="0" y="14"/>
                    </a:lnTo>
                    <a:lnTo>
                      <a:pt x="7" y="22"/>
                    </a:lnTo>
                    <a:lnTo>
                      <a:pt x="13" y="29"/>
                    </a:lnTo>
                    <a:lnTo>
                      <a:pt x="21" y="36"/>
                    </a:lnTo>
                    <a:lnTo>
                      <a:pt x="29" y="42"/>
                    </a:lnTo>
                    <a:lnTo>
                      <a:pt x="48" y="53"/>
                    </a:lnTo>
                    <a:lnTo>
                      <a:pt x="67" y="63"/>
                    </a:lnTo>
                    <a:lnTo>
                      <a:pt x="89" y="73"/>
                    </a:lnTo>
                    <a:lnTo>
                      <a:pt x="110" y="82"/>
                    </a:lnTo>
                    <a:lnTo>
                      <a:pt x="132" y="90"/>
                    </a:lnTo>
                    <a:lnTo>
                      <a:pt x="155" y="98"/>
                    </a:lnTo>
                    <a:lnTo>
                      <a:pt x="200" y="112"/>
                    </a:lnTo>
                    <a:lnTo>
                      <a:pt x="244" y="128"/>
                    </a:lnTo>
                    <a:lnTo>
                      <a:pt x="263" y="138"/>
                    </a:lnTo>
                    <a:lnTo>
                      <a:pt x="281" y="146"/>
                    </a:lnTo>
                    <a:lnTo>
                      <a:pt x="297" y="156"/>
                    </a:lnTo>
                    <a:lnTo>
                      <a:pt x="311" y="165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3" y="115"/>
                    </a:lnTo>
                    <a:lnTo>
                      <a:pt x="253" y="107"/>
                    </a:lnTo>
                    <a:lnTo>
                      <a:pt x="208" y="90"/>
                    </a:lnTo>
                    <a:lnTo>
                      <a:pt x="163" y="75"/>
                    </a:lnTo>
                    <a:lnTo>
                      <a:pt x="140" y="67"/>
                    </a:lnTo>
                    <a:lnTo>
                      <a:pt x="118" y="59"/>
                    </a:lnTo>
                    <a:lnTo>
                      <a:pt x="98" y="51"/>
                    </a:lnTo>
                    <a:lnTo>
                      <a:pt x="77" y="42"/>
                    </a:lnTo>
                    <a:lnTo>
                      <a:pt x="60" y="33"/>
                    </a:lnTo>
                    <a:lnTo>
                      <a:pt x="43" y="22"/>
                    </a:lnTo>
                    <a:lnTo>
                      <a:pt x="36" y="17"/>
                    </a:lnTo>
                    <a:lnTo>
                      <a:pt x="29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629240" y="3333960"/>
                <a:ext cx="172800" cy="114480"/>
              </a:xfrm>
              <a:custGeom>
                <a:avLst/>
                <a:gdLst/>
                <a:ahLst/>
                <a:rect l="l" t="t" r="r" b="b"/>
                <a:pathLst>
                  <a:path w="544" h="356">
                    <a:moveTo>
                      <a:pt x="520" y="341"/>
                    </a:moveTo>
                    <a:lnTo>
                      <a:pt x="544" y="343"/>
                    </a:lnTo>
                    <a:lnTo>
                      <a:pt x="542" y="323"/>
                    </a:lnTo>
                    <a:lnTo>
                      <a:pt x="540" y="302"/>
                    </a:lnTo>
                    <a:lnTo>
                      <a:pt x="538" y="283"/>
                    </a:lnTo>
                    <a:lnTo>
                      <a:pt x="534" y="265"/>
                    </a:lnTo>
                    <a:lnTo>
                      <a:pt x="530" y="246"/>
                    </a:lnTo>
                    <a:lnTo>
                      <a:pt x="525" y="229"/>
                    </a:lnTo>
                    <a:lnTo>
                      <a:pt x="520" y="213"/>
                    </a:lnTo>
                    <a:lnTo>
                      <a:pt x="514" y="197"/>
                    </a:lnTo>
                    <a:lnTo>
                      <a:pt x="507" y="182"/>
                    </a:lnTo>
                    <a:lnTo>
                      <a:pt x="499" y="168"/>
                    </a:lnTo>
                    <a:lnTo>
                      <a:pt x="491" y="154"/>
                    </a:lnTo>
                    <a:lnTo>
                      <a:pt x="483" y="141"/>
                    </a:lnTo>
                    <a:lnTo>
                      <a:pt x="474" y="129"/>
                    </a:lnTo>
                    <a:lnTo>
                      <a:pt x="465" y="117"/>
                    </a:lnTo>
                    <a:lnTo>
                      <a:pt x="455" y="106"/>
                    </a:lnTo>
                    <a:lnTo>
                      <a:pt x="444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1" y="68"/>
                    </a:lnTo>
                    <a:lnTo>
                      <a:pt x="399" y="60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3" y="9"/>
                    </a:lnTo>
                    <a:lnTo>
                      <a:pt x="247" y="5"/>
                    </a:lnTo>
                    <a:lnTo>
                      <a:pt x="222" y="2"/>
                    </a:lnTo>
                    <a:lnTo>
                      <a:pt x="197" y="0"/>
                    </a:lnTo>
                    <a:lnTo>
                      <a:pt x="172" y="0"/>
                    </a:lnTo>
                    <a:lnTo>
                      <a:pt x="148" y="0"/>
                    </a:lnTo>
                    <a:lnTo>
                      <a:pt x="126" y="2"/>
                    </a:lnTo>
                    <a:lnTo>
                      <a:pt x="105" y="6"/>
                    </a:lnTo>
                    <a:lnTo>
                      <a:pt x="84" y="9"/>
                    </a:lnTo>
                    <a:lnTo>
                      <a:pt x="66" y="14"/>
                    </a:lnTo>
                    <a:lnTo>
                      <a:pt x="50" y="19"/>
                    </a:lnTo>
                    <a:lnTo>
                      <a:pt x="35" y="26"/>
                    </a:lnTo>
                    <a:lnTo>
                      <a:pt x="23" y="33"/>
                    </a:lnTo>
                    <a:lnTo>
                      <a:pt x="14" y="40"/>
                    </a:lnTo>
                    <a:lnTo>
                      <a:pt x="8" y="45"/>
                    </a:lnTo>
                    <a:lnTo>
                      <a:pt x="4" y="50"/>
                    </a:lnTo>
                    <a:lnTo>
                      <a:pt x="2" y="55"/>
                    </a:lnTo>
                    <a:lnTo>
                      <a:pt x="0" y="60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3" y="80"/>
                    </a:lnTo>
                    <a:lnTo>
                      <a:pt x="7" y="84"/>
                    </a:lnTo>
                    <a:lnTo>
                      <a:pt x="25" y="70"/>
                    </a:lnTo>
                    <a:lnTo>
                      <a:pt x="24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5"/>
                    </a:lnTo>
                    <a:lnTo>
                      <a:pt x="25" y="63"/>
                    </a:lnTo>
                    <a:lnTo>
                      <a:pt x="26" y="60"/>
                    </a:lnTo>
                    <a:lnTo>
                      <a:pt x="28" y="59"/>
                    </a:lnTo>
                    <a:lnTo>
                      <a:pt x="36" y="54"/>
                    </a:lnTo>
                    <a:lnTo>
                      <a:pt x="45" y="48"/>
                    </a:lnTo>
                    <a:lnTo>
                      <a:pt x="58" y="42"/>
                    </a:lnTo>
                    <a:lnTo>
                      <a:pt x="73" y="38"/>
                    </a:lnTo>
                    <a:lnTo>
                      <a:pt x="90" y="33"/>
                    </a:lnTo>
                    <a:lnTo>
                      <a:pt x="108" y="30"/>
                    </a:lnTo>
                    <a:lnTo>
                      <a:pt x="129" y="26"/>
                    </a:lnTo>
                    <a:lnTo>
                      <a:pt x="150" y="25"/>
                    </a:lnTo>
                    <a:lnTo>
                      <a:pt x="172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5" y="67"/>
                    </a:lnTo>
                    <a:lnTo>
                      <a:pt x="386" y="81"/>
                    </a:lnTo>
                    <a:lnTo>
                      <a:pt x="397" y="88"/>
                    </a:lnTo>
                    <a:lnTo>
                      <a:pt x="408" y="96"/>
                    </a:lnTo>
                    <a:lnTo>
                      <a:pt x="417" y="105"/>
                    </a:lnTo>
                    <a:lnTo>
                      <a:pt x="427" y="114"/>
                    </a:lnTo>
                    <a:lnTo>
                      <a:pt x="436" y="123"/>
                    </a:lnTo>
                    <a:lnTo>
                      <a:pt x="446" y="133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7" y="180"/>
                    </a:lnTo>
                    <a:lnTo>
                      <a:pt x="484" y="193"/>
                    </a:lnTo>
                    <a:lnTo>
                      <a:pt x="491" y="206"/>
                    </a:lnTo>
                    <a:lnTo>
                      <a:pt x="497" y="221"/>
                    </a:lnTo>
                    <a:lnTo>
                      <a:pt x="503" y="237"/>
                    </a:lnTo>
                    <a:lnTo>
                      <a:pt x="507" y="253"/>
                    </a:lnTo>
                    <a:lnTo>
                      <a:pt x="510" y="269"/>
                    </a:lnTo>
                    <a:lnTo>
                      <a:pt x="514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20" y="344"/>
                    </a:lnTo>
                    <a:lnTo>
                      <a:pt x="544" y="347"/>
                    </a:lnTo>
                    <a:lnTo>
                      <a:pt x="520" y="344"/>
                    </a:lnTo>
                    <a:lnTo>
                      <a:pt x="521" y="350"/>
                    </a:lnTo>
                    <a:lnTo>
                      <a:pt x="524" y="353"/>
                    </a:lnTo>
                    <a:lnTo>
                      <a:pt x="528" y="356"/>
                    </a:lnTo>
                    <a:lnTo>
                      <a:pt x="532" y="356"/>
                    </a:lnTo>
                    <a:lnTo>
                      <a:pt x="537" y="355"/>
                    </a:lnTo>
                    <a:lnTo>
                      <a:pt x="540" y="352"/>
                    </a:lnTo>
                    <a:lnTo>
                      <a:pt x="544" y="349"/>
                    </a:lnTo>
                    <a:lnTo>
                      <a:pt x="544" y="343"/>
                    </a:lnTo>
                    <a:lnTo>
                      <a:pt x="520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384880" y="3276720"/>
                <a:ext cx="217440" cy="295560"/>
              </a:xfrm>
              <a:custGeom>
                <a:avLst/>
                <a:gdLst/>
                <a:ahLst/>
                <a:rect l="l" t="t" r="r" b="b"/>
                <a:pathLst>
                  <a:path w="685" h="931">
                    <a:moveTo>
                      <a:pt x="595" y="486"/>
                    </a:moveTo>
                    <a:lnTo>
                      <a:pt x="583" y="451"/>
                    </a:lnTo>
                    <a:lnTo>
                      <a:pt x="571" y="416"/>
                    </a:lnTo>
                    <a:lnTo>
                      <a:pt x="562" y="383"/>
                    </a:lnTo>
                    <a:lnTo>
                      <a:pt x="554" y="350"/>
                    </a:lnTo>
                    <a:lnTo>
                      <a:pt x="541" y="287"/>
                    </a:lnTo>
                    <a:lnTo>
                      <a:pt x="526" y="228"/>
                    </a:lnTo>
                    <a:lnTo>
                      <a:pt x="518" y="198"/>
                    </a:lnTo>
                    <a:lnTo>
                      <a:pt x="509" y="168"/>
                    </a:lnTo>
                    <a:lnTo>
                      <a:pt x="498" y="140"/>
                    </a:lnTo>
                    <a:lnTo>
                      <a:pt x="486" y="111"/>
                    </a:lnTo>
                    <a:lnTo>
                      <a:pt x="479" y="98"/>
                    </a:lnTo>
                    <a:lnTo>
                      <a:pt x="471" y="84"/>
                    </a:lnTo>
                    <a:lnTo>
                      <a:pt x="462" y="69"/>
                    </a:lnTo>
                    <a:lnTo>
                      <a:pt x="453" y="56"/>
                    </a:lnTo>
                    <a:lnTo>
                      <a:pt x="444" y="42"/>
                    </a:lnTo>
                    <a:lnTo>
                      <a:pt x="432" y="27"/>
                    </a:lnTo>
                    <a:lnTo>
                      <a:pt x="421" y="13"/>
                    </a:lnTo>
                    <a:lnTo>
                      <a:pt x="408" y="0"/>
                    </a:lnTo>
                    <a:lnTo>
                      <a:pt x="392" y="8"/>
                    </a:lnTo>
                    <a:lnTo>
                      <a:pt x="379" y="18"/>
                    </a:lnTo>
                    <a:lnTo>
                      <a:pt x="367" y="28"/>
                    </a:lnTo>
                    <a:lnTo>
                      <a:pt x="357" y="38"/>
                    </a:lnTo>
                    <a:lnTo>
                      <a:pt x="349" y="51"/>
                    </a:lnTo>
                    <a:lnTo>
                      <a:pt x="343" y="62"/>
                    </a:lnTo>
                    <a:lnTo>
                      <a:pt x="339" y="76"/>
                    </a:lnTo>
                    <a:lnTo>
                      <a:pt x="335" y="90"/>
                    </a:lnTo>
                    <a:lnTo>
                      <a:pt x="334" y="103"/>
                    </a:lnTo>
                    <a:lnTo>
                      <a:pt x="333" y="118"/>
                    </a:lnTo>
                    <a:lnTo>
                      <a:pt x="334" y="133"/>
                    </a:lnTo>
                    <a:lnTo>
                      <a:pt x="337" y="148"/>
                    </a:lnTo>
                    <a:lnTo>
                      <a:pt x="339" y="164"/>
                    </a:lnTo>
                    <a:lnTo>
                      <a:pt x="343" y="180"/>
                    </a:lnTo>
                    <a:lnTo>
                      <a:pt x="348" y="197"/>
                    </a:lnTo>
                    <a:lnTo>
                      <a:pt x="353" y="213"/>
                    </a:lnTo>
                    <a:lnTo>
                      <a:pt x="365" y="247"/>
                    </a:lnTo>
                    <a:lnTo>
                      <a:pt x="379" y="281"/>
                    </a:lnTo>
                    <a:lnTo>
                      <a:pt x="394" y="315"/>
                    </a:lnTo>
                    <a:lnTo>
                      <a:pt x="408" y="350"/>
                    </a:lnTo>
                    <a:lnTo>
                      <a:pt x="423" y="384"/>
                    </a:lnTo>
                    <a:lnTo>
                      <a:pt x="435" y="417"/>
                    </a:lnTo>
                    <a:lnTo>
                      <a:pt x="440" y="433"/>
                    </a:lnTo>
                    <a:lnTo>
                      <a:pt x="445" y="449"/>
                    </a:lnTo>
                    <a:lnTo>
                      <a:pt x="449" y="464"/>
                    </a:lnTo>
                    <a:lnTo>
                      <a:pt x="452" y="480"/>
                    </a:lnTo>
                    <a:lnTo>
                      <a:pt x="440" y="467"/>
                    </a:lnTo>
                    <a:lnTo>
                      <a:pt x="428" y="457"/>
                    </a:lnTo>
                    <a:lnTo>
                      <a:pt x="415" y="448"/>
                    </a:lnTo>
                    <a:lnTo>
                      <a:pt x="403" y="440"/>
                    </a:lnTo>
                    <a:lnTo>
                      <a:pt x="389" y="433"/>
                    </a:lnTo>
                    <a:lnTo>
                      <a:pt x="375" y="427"/>
                    </a:lnTo>
                    <a:lnTo>
                      <a:pt x="361" y="423"/>
                    </a:lnTo>
                    <a:lnTo>
                      <a:pt x="346" y="419"/>
                    </a:lnTo>
                    <a:lnTo>
                      <a:pt x="331" y="417"/>
                    </a:lnTo>
                    <a:lnTo>
                      <a:pt x="316" y="415"/>
                    </a:lnTo>
                    <a:lnTo>
                      <a:pt x="300" y="413"/>
                    </a:lnTo>
                    <a:lnTo>
                      <a:pt x="284" y="413"/>
                    </a:lnTo>
                    <a:lnTo>
                      <a:pt x="269" y="415"/>
                    </a:lnTo>
                    <a:lnTo>
                      <a:pt x="253" y="416"/>
                    </a:lnTo>
                    <a:lnTo>
                      <a:pt x="237" y="418"/>
                    </a:lnTo>
                    <a:lnTo>
                      <a:pt x="222" y="421"/>
                    </a:lnTo>
                    <a:lnTo>
                      <a:pt x="206" y="425"/>
                    </a:lnTo>
                    <a:lnTo>
                      <a:pt x="190" y="429"/>
                    </a:lnTo>
                    <a:lnTo>
                      <a:pt x="174" y="434"/>
                    </a:lnTo>
                    <a:lnTo>
                      <a:pt x="159" y="440"/>
                    </a:lnTo>
                    <a:lnTo>
                      <a:pt x="128" y="452"/>
                    </a:lnTo>
                    <a:lnTo>
                      <a:pt x="98" y="466"/>
                    </a:lnTo>
                    <a:lnTo>
                      <a:pt x="71" y="482"/>
                    </a:lnTo>
                    <a:lnTo>
                      <a:pt x="45" y="499"/>
                    </a:lnTo>
                    <a:lnTo>
                      <a:pt x="21" y="516"/>
                    </a:lnTo>
                    <a:lnTo>
                      <a:pt x="0" y="534"/>
                    </a:lnTo>
                    <a:lnTo>
                      <a:pt x="40" y="546"/>
                    </a:lnTo>
                    <a:lnTo>
                      <a:pt x="97" y="561"/>
                    </a:lnTo>
                    <a:lnTo>
                      <a:pt x="163" y="575"/>
                    </a:lnTo>
                    <a:lnTo>
                      <a:pt x="235" y="589"/>
                    </a:lnTo>
                    <a:lnTo>
                      <a:pt x="271" y="595"/>
                    </a:lnTo>
                    <a:lnTo>
                      <a:pt x="305" y="599"/>
                    </a:lnTo>
                    <a:lnTo>
                      <a:pt x="338" y="604"/>
                    </a:lnTo>
                    <a:lnTo>
                      <a:pt x="369" y="605"/>
                    </a:lnTo>
                    <a:lnTo>
                      <a:pt x="397" y="606"/>
                    </a:lnTo>
                    <a:lnTo>
                      <a:pt x="421" y="605"/>
                    </a:lnTo>
                    <a:lnTo>
                      <a:pt x="431" y="603"/>
                    </a:lnTo>
                    <a:lnTo>
                      <a:pt x="440" y="602"/>
                    </a:lnTo>
                    <a:lnTo>
                      <a:pt x="448" y="598"/>
                    </a:lnTo>
                    <a:lnTo>
                      <a:pt x="455" y="595"/>
                    </a:lnTo>
                    <a:lnTo>
                      <a:pt x="436" y="614"/>
                    </a:lnTo>
                    <a:lnTo>
                      <a:pt x="419" y="633"/>
                    </a:lnTo>
                    <a:lnTo>
                      <a:pt x="403" y="653"/>
                    </a:lnTo>
                    <a:lnTo>
                      <a:pt x="389" y="673"/>
                    </a:lnTo>
                    <a:lnTo>
                      <a:pt x="378" y="693"/>
                    </a:lnTo>
                    <a:lnTo>
                      <a:pt x="366" y="713"/>
                    </a:lnTo>
                    <a:lnTo>
                      <a:pt x="357" y="735"/>
                    </a:lnTo>
                    <a:lnTo>
                      <a:pt x="349" y="755"/>
                    </a:lnTo>
                    <a:lnTo>
                      <a:pt x="342" y="777"/>
                    </a:lnTo>
                    <a:lnTo>
                      <a:pt x="335" y="798"/>
                    </a:lnTo>
                    <a:lnTo>
                      <a:pt x="330" y="819"/>
                    </a:lnTo>
                    <a:lnTo>
                      <a:pt x="324" y="842"/>
                    </a:lnTo>
                    <a:lnTo>
                      <a:pt x="315" y="887"/>
                    </a:lnTo>
                    <a:lnTo>
                      <a:pt x="306" y="931"/>
                    </a:lnTo>
                    <a:lnTo>
                      <a:pt x="685" y="602"/>
                    </a:lnTo>
                    <a:lnTo>
                      <a:pt x="595" y="48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510160" y="3272040"/>
                <a:ext cx="66600" cy="160560"/>
              </a:xfrm>
              <a:custGeom>
                <a:avLst/>
                <a:gdLst/>
                <a:ahLst/>
                <a:rect l="l" t="t" r="r" b="b"/>
                <a:pathLst>
                  <a:path w="211" h="504">
                    <a:moveTo>
                      <a:pt x="18" y="23"/>
                    </a:moveTo>
                    <a:lnTo>
                      <a:pt x="3" y="21"/>
                    </a:lnTo>
                    <a:lnTo>
                      <a:pt x="16" y="34"/>
                    </a:lnTo>
                    <a:lnTo>
                      <a:pt x="27" y="48"/>
                    </a:lnTo>
                    <a:lnTo>
                      <a:pt x="37" y="62"/>
                    </a:lnTo>
                    <a:lnTo>
                      <a:pt x="48" y="75"/>
                    </a:lnTo>
                    <a:lnTo>
                      <a:pt x="56" y="89"/>
                    </a:lnTo>
                    <a:lnTo>
                      <a:pt x="65" y="103"/>
                    </a:lnTo>
                    <a:lnTo>
                      <a:pt x="72" y="116"/>
                    </a:lnTo>
                    <a:lnTo>
                      <a:pt x="79" y="130"/>
                    </a:lnTo>
                    <a:lnTo>
                      <a:pt x="91" y="157"/>
                    </a:lnTo>
                    <a:lnTo>
                      <a:pt x="101" y="186"/>
                    </a:lnTo>
                    <a:lnTo>
                      <a:pt x="110" y="214"/>
                    </a:lnTo>
                    <a:lnTo>
                      <a:pt x="118" y="243"/>
                    </a:lnTo>
                    <a:lnTo>
                      <a:pt x="132" y="303"/>
                    </a:lnTo>
                    <a:lnTo>
                      <a:pt x="147" y="366"/>
                    </a:lnTo>
                    <a:lnTo>
                      <a:pt x="155" y="399"/>
                    </a:lnTo>
                    <a:lnTo>
                      <a:pt x="164" y="432"/>
                    </a:lnTo>
                    <a:lnTo>
                      <a:pt x="175" y="468"/>
                    </a:lnTo>
                    <a:lnTo>
                      <a:pt x="188" y="504"/>
                    </a:lnTo>
                    <a:lnTo>
                      <a:pt x="211" y="495"/>
                    </a:lnTo>
                    <a:lnTo>
                      <a:pt x="198" y="460"/>
                    </a:lnTo>
                    <a:lnTo>
                      <a:pt x="188" y="425"/>
                    </a:lnTo>
                    <a:lnTo>
                      <a:pt x="178" y="392"/>
                    </a:lnTo>
                    <a:lnTo>
                      <a:pt x="170" y="360"/>
                    </a:lnTo>
                    <a:lnTo>
                      <a:pt x="156" y="298"/>
                    </a:lnTo>
                    <a:lnTo>
                      <a:pt x="142" y="237"/>
                    </a:lnTo>
                    <a:lnTo>
                      <a:pt x="133" y="208"/>
                    </a:lnTo>
                    <a:lnTo>
                      <a:pt x="124" y="178"/>
                    </a:lnTo>
                    <a:lnTo>
                      <a:pt x="114" y="148"/>
                    </a:lnTo>
                    <a:lnTo>
                      <a:pt x="100" y="120"/>
                    </a:lnTo>
                    <a:lnTo>
                      <a:pt x="93" y="105"/>
                    </a:lnTo>
                    <a:lnTo>
                      <a:pt x="85" y="90"/>
                    </a:lnTo>
                    <a:lnTo>
                      <a:pt x="76" y="76"/>
                    </a:lnTo>
                    <a:lnTo>
                      <a:pt x="67" y="62"/>
                    </a:lnTo>
                    <a:lnTo>
                      <a:pt x="57" y="48"/>
                    </a:lnTo>
                    <a:lnTo>
                      <a:pt x="47" y="33"/>
                    </a:lnTo>
                    <a:lnTo>
                      <a:pt x="34" y="18"/>
                    </a:lnTo>
                    <a:lnTo>
                      <a:pt x="22" y="5"/>
                    </a:lnTo>
                    <a:lnTo>
                      <a:pt x="7" y="1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86400" y="3273840"/>
                <a:ext cx="46080" cy="158760"/>
              </a:xfrm>
              <a:custGeom>
                <a:avLst/>
                <a:gdLst/>
                <a:ahLst/>
                <a:rect l="l" t="t" r="r" b="b"/>
                <a:pathLst>
                  <a:path w="142" h="503">
                    <a:moveTo>
                      <a:pt x="121" y="500"/>
                    </a:moveTo>
                    <a:lnTo>
                      <a:pt x="142" y="489"/>
                    </a:lnTo>
                    <a:lnTo>
                      <a:pt x="139" y="473"/>
                    </a:lnTo>
                    <a:lnTo>
                      <a:pt x="134" y="457"/>
                    </a:lnTo>
                    <a:lnTo>
                      <a:pt x="130" y="441"/>
                    </a:lnTo>
                    <a:lnTo>
                      <a:pt x="124" y="424"/>
                    </a:lnTo>
                    <a:lnTo>
                      <a:pt x="111" y="391"/>
                    </a:lnTo>
                    <a:lnTo>
                      <a:pt x="98" y="357"/>
                    </a:lnTo>
                    <a:lnTo>
                      <a:pt x="83" y="323"/>
                    </a:lnTo>
                    <a:lnTo>
                      <a:pt x="68" y="289"/>
                    </a:lnTo>
                    <a:lnTo>
                      <a:pt x="55" y="254"/>
                    </a:lnTo>
                    <a:lnTo>
                      <a:pt x="42" y="221"/>
                    </a:lnTo>
                    <a:lnTo>
                      <a:pt x="37" y="205"/>
                    </a:lnTo>
                    <a:lnTo>
                      <a:pt x="33" y="189"/>
                    </a:lnTo>
                    <a:lnTo>
                      <a:pt x="29" y="174"/>
                    </a:lnTo>
                    <a:lnTo>
                      <a:pt x="26" y="159"/>
                    </a:lnTo>
                    <a:lnTo>
                      <a:pt x="25" y="144"/>
                    </a:lnTo>
                    <a:lnTo>
                      <a:pt x="24" y="130"/>
                    </a:lnTo>
                    <a:lnTo>
                      <a:pt x="24" y="117"/>
                    </a:lnTo>
                    <a:lnTo>
                      <a:pt x="26" y="104"/>
                    </a:lnTo>
                    <a:lnTo>
                      <a:pt x="28" y="91"/>
                    </a:lnTo>
                    <a:lnTo>
                      <a:pt x="33" y="80"/>
                    </a:lnTo>
                    <a:lnTo>
                      <a:pt x="39" y="69"/>
                    </a:lnTo>
                    <a:lnTo>
                      <a:pt x="45" y="58"/>
                    </a:lnTo>
                    <a:lnTo>
                      <a:pt x="53" y="48"/>
                    </a:lnTo>
                    <a:lnTo>
                      <a:pt x="65" y="39"/>
                    </a:lnTo>
                    <a:lnTo>
                      <a:pt x="77" y="30"/>
                    </a:lnTo>
                    <a:lnTo>
                      <a:pt x="92" y="22"/>
                    </a:lnTo>
                    <a:lnTo>
                      <a:pt x="81" y="0"/>
                    </a:lnTo>
                    <a:lnTo>
                      <a:pt x="65" y="9"/>
                    </a:lnTo>
                    <a:lnTo>
                      <a:pt x="50" y="20"/>
                    </a:lnTo>
                    <a:lnTo>
                      <a:pt x="37" y="31"/>
                    </a:lnTo>
                    <a:lnTo>
                      <a:pt x="26" y="44"/>
                    </a:lnTo>
                    <a:lnTo>
                      <a:pt x="17" y="56"/>
                    </a:lnTo>
                    <a:lnTo>
                      <a:pt x="10" y="70"/>
                    </a:lnTo>
                    <a:lnTo>
                      <a:pt x="6" y="85"/>
                    </a:lnTo>
                    <a:lnTo>
                      <a:pt x="2" y="99"/>
                    </a:lnTo>
                    <a:lnTo>
                      <a:pt x="0" y="114"/>
                    </a:lnTo>
                    <a:lnTo>
                      <a:pt x="0" y="130"/>
                    </a:lnTo>
                    <a:lnTo>
                      <a:pt x="0" y="146"/>
                    </a:lnTo>
                    <a:lnTo>
                      <a:pt x="2" y="162"/>
                    </a:lnTo>
                    <a:lnTo>
                      <a:pt x="6" y="178"/>
                    </a:lnTo>
                    <a:lnTo>
                      <a:pt x="9" y="195"/>
                    </a:lnTo>
                    <a:lnTo>
                      <a:pt x="13" y="212"/>
                    </a:lnTo>
                    <a:lnTo>
                      <a:pt x="19" y="229"/>
                    </a:lnTo>
                    <a:lnTo>
                      <a:pt x="32" y="264"/>
                    </a:lnTo>
                    <a:lnTo>
                      <a:pt x="47" y="298"/>
                    </a:lnTo>
                    <a:lnTo>
                      <a:pt x="61" y="333"/>
                    </a:lnTo>
                    <a:lnTo>
                      <a:pt x="76" y="367"/>
                    </a:lnTo>
                    <a:lnTo>
                      <a:pt x="90" y="400"/>
                    </a:lnTo>
                    <a:lnTo>
                      <a:pt x="101" y="433"/>
                    </a:lnTo>
                    <a:lnTo>
                      <a:pt x="107" y="448"/>
                    </a:lnTo>
                    <a:lnTo>
                      <a:pt x="111" y="464"/>
                    </a:lnTo>
                    <a:lnTo>
                      <a:pt x="115" y="479"/>
                    </a:lnTo>
                    <a:lnTo>
                      <a:pt x="118" y="493"/>
                    </a:lnTo>
                    <a:lnTo>
                      <a:pt x="139" y="482"/>
                    </a:lnTo>
                    <a:lnTo>
                      <a:pt x="118" y="493"/>
                    </a:lnTo>
                    <a:lnTo>
                      <a:pt x="119" y="498"/>
                    </a:lnTo>
                    <a:lnTo>
                      <a:pt x="123" y="502"/>
                    </a:lnTo>
                    <a:lnTo>
                      <a:pt x="127" y="503"/>
                    </a:lnTo>
                    <a:lnTo>
                      <a:pt x="132" y="503"/>
                    </a:lnTo>
                    <a:lnTo>
                      <a:pt x="137" y="502"/>
                    </a:lnTo>
                    <a:lnTo>
                      <a:pt x="140" y="498"/>
                    </a:lnTo>
                    <a:lnTo>
                      <a:pt x="141" y="495"/>
                    </a:lnTo>
                    <a:lnTo>
                      <a:pt x="142" y="489"/>
                    </a:lnTo>
                    <a:lnTo>
                      <a:pt x="121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3403800"/>
                <a:ext cx="149040" cy="46080"/>
              </a:xfrm>
              <a:custGeom>
                <a:avLst/>
                <a:gdLst/>
                <a:ahLst/>
                <a:rect l="l" t="t" r="r" b="b"/>
                <a:pathLst>
                  <a:path w="473" h="146">
                    <a:moveTo>
                      <a:pt x="16" y="122"/>
                    </a:moveTo>
                    <a:lnTo>
                      <a:pt x="20" y="142"/>
                    </a:lnTo>
                    <a:lnTo>
                      <a:pt x="41" y="124"/>
                    </a:lnTo>
                    <a:lnTo>
                      <a:pt x="64" y="107"/>
                    </a:lnTo>
                    <a:lnTo>
                      <a:pt x="90" y="91"/>
                    </a:lnTo>
                    <a:lnTo>
                      <a:pt x="116" y="75"/>
                    </a:lnTo>
                    <a:lnTo>
                      <a:pt x="145" y="61"/>
                    </a:lnTo>
                    <a:lnTo>
                      <a:pt x="175" y="50"/>
                    </a:lnTo>
                    <a:lnTo>
                      <a:pt x="190" y="44"/>
                    </a:lnTo>
                    <a:lnTo>
                      <a:pt x="205" y="40"/>
                    </a:lnTo>
                    <a:lnTo>
                      <a:pt x="220" y="35"/>
                    </a:lnTo>
                    <a:lnTo>
                      <a:pt x="236" y="32"/>
                    </a:lnTo>
                    <a:lnTo>
                      <a:pt x="251" y="30"/>
                    </a:lnTo>
                    <a:lnTo>
                      <a:pt x="267" y="27"/>
                    </a:lnTo>
                    <a:lnTo>
                      <a:pt x="281" y="25"/>
                    </a:lnTo>
                    <a:lnTo>
                      <a:pt x="297" y="25"/>
                    </a:lnTo>
                    <a:lnTo>
                      <a:pt x="312" y="25"/>
                    </a:lnTo>
                    <a:lnTo>
                      <a:pt x="327" y="26"/>
                    </a:lnTo>
                    <a:lnTo>
                      <a:pt x="341" y="27"/>
                    </a:lnTo>
                    <a:lnTo>
                      <a:pt x="355" y="30"/>
                    </a:lnTo>
                    <a:lnTo>
                      <a:pt x="369" y="33"/>
                    </a:lnTo>
                    <a:lnTo>
                      <a:pt x="383" y="38"/>
                    </a:lnTo>
                    <a:lnTo>
                      <a:pt x="396" y="43"/>
                    </a:lnTo>
                    <a:lnTo>
                      <a:pt x="409" y="50"/>
                    </a:lnTo>
                    <a:lnTo>
                      <a:pt x="420" y="57"/>
                    </a:lnTo>
                    <a:lnTo>
                      <a:pt x="433" y="66"/>
                    </a:lnTo>
                    <a:lnTo>
                      <a:pt x="444" y="75"/>
                    </a:lnTo>
                    <a:lnTo>
                      <a:pt x="455" y="87"/>
                    </a:lnTo>
                    <a:lnTo>
                      <a:pt x="473" y="69"/>
                    </a:lnTo>
                    <a:lnTo>
                      <a:pt x="460" y="58"/>
                    </a:lnTo>
                    <a:lnTo>
                      <a:pt x="448" y="47"/>
                    </a:lnTo>
                    <a:lnTo>
                      <a:pt x="434" y="38"/>
                    </a:lnTo>
                    <a:lnTo>
                      <a:pt x="420" y="28"/>
                    </a:lnTo>
                    <a:lnTo>
                      <a:pt x="406" y="22"/>
                    </a:lnTo>
                    <a:lnTo>
                      <a:pt x="391" y="15"/>
                    </a:lnTo>
                    <a:lnTo>
                      <a:pt x="376" y="10"/>
                    </a:lnTo>
                    <a:lnTo>
                      <a:pt x="360" y="7"/>
                    </a:lnTo>
                    <a:lnTo>
                      <a:pt x="345" y="3"/>
                    </a:lnTo>
                    <a:lnTo>
                      <a:pt x="329" y="1"/>
                    </a:lnTo>
                    <a:lnTo>
                      <a:pt x="312" y="1"/>
                    </a:lnTo>
                    <a:lnTo>
                      <a:pt x="296" y="0"/>
                    </a:lnTo>
                    <a:lnTo>
                      <a:pt x="280" y="1"/>
                    </a:lnTo>
                    <a:lnTo>
                      <a:pt x="263" y="3"/>
                    </a:lnTo>
                    <a:lnTo>
                      <a:pt x="247" y="6"/>
                    </a:lnTo>
                    <a:lnTo>
                      <a:pt x="231" y="8"/>
                    </a:lnTo>
                    <a:lnTo>
                      <a:pt x="214" y="12"/>
                    </a:lnTo>
                    <a:lnTo>
                      <a:pt x="198" y="17"/>
                    </a:lnTo>
                    <a:lnTo>
                      <a:pt x="182" y="22"/>
                    </a:lnTo>
                    <a:lnTo>
                      <a:pt x="166" y="27"/>
                    </a:lnTo>
                    <a:lnTo>
                      <a:pt x="136" y="40"/>
                    </a:lnTo>
                    <a:lnTo>
                      <a:pt x="106" y="55"/>
                    </a:lnTo>
                    <a:lnTo>
                      <a:pt x="77" y="71"/>
                    </a:lnTo>
                    <a:lnTo>
                      <a:pt x="50" y="88"/>
                    </a:lnTo>
                    <a:lnTo>
                      <a:pt x="26" y="106"/>
                    </a:lnTo>
                    <a:lnTo>
                      <a:pt x="3" y="124"/>
                    </a:lnTo>
                    <a:lnTo>
                      <a:pt x="8" y="145"/>
                    </a:lnTo>
                    <a:lnTo>
                      <a:pt x="3" y="124"/>
                    </a:lnTo>
                    <a:lnTo>
                      <a:pt x="1" y="129"/>
                    </a:lnTo>
                    <a:lnTo>
                      <a:pt x="0" y="133"/>
                    </a:lnTo>
                    <a:lnTo>
                      <a:pt x="1" y="138"/>
                    </a:lnTo>
                    <a:lnTo>
                      <a:pt x="3" y="141"/>
                    </a:lnTo>
                    <a:lnTo>
                      <a:pt x="7" y="145"/>
                    </a:lnTo>
                    <a:lnTo>
                      <a:pt x="11" y="146"/>
                    </a:lnTo>
                    <a:lnTo>
                      <a:pt x="16" y="146"/>
                    </a:lnTo>
                    <a:lnTo>
                      <a:pt x="20" y="142"/>
                    </a:lnTo>
                    <a:lnTo>
                      <a:pt x="16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83080" y="344340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472" h="95">
                    <a:moveTo>
                      <a:pt x="467" y="81"/>
                    </a:moveTo>
                    <a:lnTo>
                      <a:pt x="453" y="61"/>
                    </a:lnTo>
                    <a:lnTo>
                      <a:pt x="448" y="64"/>
                    </a:lnTo>
                    <a:lnTo>
                      <a:pt x="441" y="66"/>
                    </a:lnTo>
                    <a:lnTo>
                      <a:pt x="433" y="68"/>
                    </a:lnTo>
                    <a:lnTo>
                      <a:pt x="424" y="69"/>
                    </a:lnTo>
                    <a:lnTo>
                      <a:pt x="400" y="71"/>
                    </a:lnTo>
                    <a:lnTo>
                      <a:pt x="374" y="71"/>
                    </a:lnTo>
                    <a:lnTo>
                      <a:pt x="343" y="68"/>
                    </a:lnTo>
                    <a:lnTo>
                      <a:pt x="311" y="65"/>
                    </a:lnTo>
                    <a:lnTo>
                      <a:pt x="276" y="60"/>
                    </a:lnTo>
                    <a:lnTo>
                      <a:pt x="241" y="53"/>
                    </a:lnTo>
                    <a:lnTo>
                      <a:pt x="170" y="41"/>
                    </a:lnTo>
                    <a:lnTo>
                      <a:pt x="104" y="26"/>
                    </a:lnTo>
                    <a:lnTo>
                      <a:pt x="48" y="11"/>
                    </a:lnTo>
                    <a:lnTo>
                      <a:pt x="8" y="0"/>
                    </a:lnTo>
                    <a:lnTo>
                      <a:pt x="0" y="23"/>
                    </a:lnTo>
                    <a:lnTo>
                      <a:pt x="42" y="35"/>
                    </a:lnTo>
                    <a:lnTo>
                      <a:pt x="98" y="49"/>
                    </a:lnTo>
                    <a:lnTo>
                      <a:pt x="165" y="64"/>
                    </a:lnTo>
                    <a:lnTo>
                      <a:pt x="237" y="77"/>
                    </a:lnTo>
                    <a:lnTo>
                      <a:pt x="272" y="84"/>
                    </a:lnTo>
                    <a:lnTo>
                      <a:pt x="308" y="89"/>
                    </a:lnTo>
                    <a:lnTo>
                      <a:pt x="341" y="92"/>
                    </a:lnTo>
                    <a:lnTo>
                      <a:pt x="373" y="95"/>
                    </a:lnTo>
                    <a:lnTo>
                      <a:pt x="401" y="95"/>
                    </a:lnTo>
                    <a:lnTo>
                      <a:pt x="426" y="93"/>
                    </a:lnTo>
                    <a:lnTo>
                      <a:pt x="437" y="92"/>
                    </a:lnTo>
                    <a:lnTo>
                      <a:pt x="448" y="90"/>
                    </a:lnTo>
                    <a:lnTo>
                      <a:pt x="457" y="87"/>
                    </a:lnTo>
                    <a:lnTo>
                      <a:pt x="466" y="83"/>
                    </a:lnTo>
                    <a:lnTo>
                      <a:pt x="451" y="64"/>
                    </a:lnTo>
                    <a:lnTo>
                      <a:pt x="466" y="83"/>
                    </a:lnTo>
                    <a:lnTo>
                      <a:pt x="469" y="79"/>
                    </a:lnTo>
                    <a:lnTo>
                      <a:pt x="472" y="75"/>
                    </a:lnTo>
                    <a:lnTo>
                      <a:pt x="472" y="71"/>
                    </a:lnTo>
                    <a:lnTo>
                      <a:pt x="469" y="66"/>
                    </a:lnTo>
                    <a:lnTo>
                      <a:pt x="467" y="63"/>
                    </a:lnTo>
                    <a:lnTo>
                      <a:pt x="463" y="60"/>
                    </a:lnTo>
                    <a:lnTo>
                      <a:pt x="458" y="60"/>
                    </a:lnTo>
                    <a:lnTo>
                      <a:pt x="453" y="61"/>
                    </a:lnTo>
                    <a:lnTo>
                      <a:pt x="467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478480" y="3462480"/>
                <a:ext cx="54000" cy="114480"/>
              </a:xfrm>
              <a:custGeom>
                <a:avLst/>
                <a:gdLst/>
                <a:ahLst/>
                <a:rect l="l" t="t" r="r" b="b"/>
                <a:pathLst>
                  <a:path w="169" h="357">
                    <a:moveTo>
                      <a:pt x="5" y="335"/>
                    </a:moveTo>
                    <a:lnTo>
                      <a:pt x="24" y="346"/>
                    </a:lnTo>
                    <a:lnTo>
                      <a:pt x="34" y="302"/>
                    </a:lnTo>
                    <a:lnTo>
                      <a:pt x="43" y="257"/>
                    </a:lnTo>
                    <a:lnTo>
                      <a:pt x="47" y="236"/>
                    </a:lnTo>
                    <a:lnTo>
                      <a:pt x="53" y="214"/>
                    </a:lnTo>
                    <a:lnTo>
                      <a:pt x="60" y="194"/>
                    </a:lnTo>
                    <a:lnTo>
                      <a:pt x="67" y="173"/>
                    </a:lnTo>
                    <a:lnTo>
                      <a:pt x="75" y="153"/>
                    </a:lnTo>
                    <a:lnTo>
                      <a:pt x="84" y="132"/>
                    </a:lnTo>
                    <a:lnTo>
                      <a:pt x="94" y="113"/>
                    </a:lnTo>
                    <a:lnTo>
                      <a:pt x="105" y="92"/>
                    </a:lnTo>
                    <a:lnTo>
                      <a:pt x="119" y="74"/>
                    </a:lnTo>
                    <a:lnTo>
                      <a:pt x="134" y="54"/>
                    </a:lnTo>
                    <a:lnTo>
                      <a:pt x="151" y="35"/>
                    </a:lnTo>
                    <a:lnTo>
                      <a:pt x="169" y="17"/>
                    </a:lnTo>
                    <a:lnTo>
                      <a:pt x="153" y="0"/>
                    </a:lnTo>
                    <a:lnTo>
                      <a:pt x="134" y="19"/>
                    </a:lnTo>
                    <a:lnTo>
                      <a:pt x="116" y="39"/>
                    </a:lnTo>
                    <a:lnTo>
                      <a:pt x="100" y="59"/>
                    </a:lnTo>
                    <a:lnTo>
                      <a:pt x="85" y="80"/>
                    </a:lnTo>
                    <a:lnTo>
                      <a:pt x="72" y="100"/>
                    </a:lnTo>
                    <a:lnTo>
                      <a:pt x="62" y="122"/>
                    </a:lnTo>
                    <a:lnTo>
                      <a:pt x="52" y="142"/>
                    </a:lnTo>
                    <a:lnTo>
                      <a:pt x="44" y="164"/>
                    </a:lnTo>
                    <a:lnTo>
                      <a:pt x="36" y="186"/>
                    </a:lnTo>
                    <a:lnTo>
                      <a:pt x="30" y="208"/>
                    </a:lnTo>
                    <a:lnTo>
                      <a:pt x="24" y="230"/>
                    </a:lnTo>
                    <a:lnTo>
                      <a:pt x="19" y="252"/>
                    </a:lnTo>
                    <a:lnTo>
                      <a:pt x="10" y="297"/>
                    </a:lnTo>
                    <a:lnTo>
                      <a:pt x="0" y="342"/>
                    </a:lnTo>
                    <a:lnTo>
                      <a:pt x="20" y="353"/>
                    </a:lnTo>
                    <a:lnTo>
                      <a:pt x="0" y="342"/>
                    </a:lnTo>
                    <a:lnTo>
                      <a:pt x="0" y="347"/>
                    </a:lnTo>
                    <a:lnTo>
                      <a:pt x="3" y="352"/>
                    </a:lnTo>
                    <a:lnTo>
                      <a:pt x="6" y="354"/>
                    </a:lnTo>
                    <a:lnTo>
                      <a:pt x="10" y="357"/>
                    </a:lnTo>
                    <a:lnTo>
                      <a:pt x="14" y="357"/>
                    </a:lnTo>
                    <a:lnTo>
                      <a:pt x="19" y="354"/>
                    </a:lnTo>
                    <a:lnTo>
                      <a:pt x="22" y="352"/>
                    </a:lnTo>
                    <a:lnTo>
                      <a:pt x="24" y="346"/>
                    </a:lnTo>
                    <a:lnTo>
                      <a:pt x="5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479920" y="3464280"/>
                <a:ext cx="127080" cy="110880"/>
              </a:xfrm>
              <a:custGeom>
                <a:avLst/>
                <a:gdLst/>
                <a:ahLst/>
                <a:rect l="l" t="t" r="r" b="b"/>
                <a:pathLst>
                  <a:path w="399" h="350">
                    <a:moveTo>
                      <a:pt x="397" y="5"/>
                    </a:moveTo>
                    <a:lnTo>
                      <a:pt x="378" y="2"/>
                    </a:lnTo>
                    <a:lnTo>
                      <a:pt x="0" y="332"/>
                    </a:lnTo>
                    <a:lnTo>
                      <a:pt x="15" y="350"/>
                    </a:lnTo>
                    <a:lnTo>
                      <a:pt x="394" y="22"/>
                    </a:lnTo>
                    <a:lnTo>
                      <a:pt x="397" y="5"/>
                    </a:lnTo>
                    <a:lnTo>
                      <a:pt x="394" y="22"/>
                    </a:lnTo>
                    <a:lnTo>
                      <a:pt x="398" y="17"/>
                    </a:lnTo>
                    <a:lnTo>
                      <a:pt x="399" y="13"/>
                    </a:lnTo>
                    <a:lnTo>
                      <a:pt x="398" y="8"/>
                    </a:lnTo>
                    <a:lnTo>
                      <a:pt x="395" y="5"/>
                    </a:lnTo>
                    <a:lnTo>
                      <a:pt x="392" y="1"/>
                    </a:lnTo>
                    <a:lnTo>
                      <a:pt x="388" y="0"/>
                    </a:lnTo>
                    <a:lnTo>
                      <a:pt x="383" y="0"/>
                    </a:lnTo>
                    <a:lnTo>
                      <a:pt x="378" y="2"/>
                    </a:lnTo>
                    <a:lnTo>
                      <a:pt x="397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570640" y="3427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112" h="136">
                    <a:moveTo>
                      <a:pt x="0" y="17"/>
                    </a:moveTo>
                    <a:lnTo>
                      <a:pt x="2" y="19"/>
                    </a:lnTo>
                    <a:lnTo>
                      <a:pt x="92" y="136"/>
                    </a:lnTo>
                    <a:lnTo>
                      <a:pt x="112" y="121"/>
                    </a:lnTo>
                    <a:lnTo>
                      <a:pt x="22" y="4"/>
                    </a:lnTo>
                    <a:lnTo>
                      <a:pt x="0" y="17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23880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2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6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1" y="160"/>
                    </a:lnTo>
                    <a:lnTo>
                      <a:pt x="363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80" y="118"/>
                    </a:lnTo>
                    <a:lnTo>
                      <a:pt x="473" y="141"/>
                    </a:lnTo>
                    <a:lnTo>
                      <a:pt x="464" y="166"/>
                    </a:lnTo>
                    <a:lnTo>
                      <a:pt x="452" y="192"/>
                    </a:lnTo>
                    <a:lnTo>
                      <a:pt x="439" y="221"/>
                    </a:lnTo>
                    <a:lnTo>
                      <a:pt x="423" y="249"/>
                    </a:lnTo>
                    <a:lnTo>
                      <a:pt x="406" y="279"/>
                    </a:lnTo>
                    <a:lnTo>
                      <a:pt x="386" y="309"/>
                    </a:lnTo>
                    <a:lnTo>
                      <a:pt x="366" y="338"/>
                    </a:lnTo>
                    <a:lnTo>
                      <a:pt x="345" y="367"/>
                    </a:lnTo>
                    <a:lnTo>
                      <a:pt x="323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8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2" y="475"/>
                    </a:lnTo>
                    <a:lnTo>
                      <a:pt x="529" y="465"/>
                    </a:lnTo>
                    <a:lnTo>
                      <a:pt x="557" y="461"/>
                    </a:lnTo>
                    <a:lnTo>
                      <a:pt x="586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2" y="473"/>
                    </a:lnTo>
                    <a:lnTo>
                      <a:pt x="591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7" y="509"/>
                    </a:lnTo>
                    <a:lnTo>
                      <a:pt x="488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5" y="559"/>
                    </a:lnTo>
                    <a:lnTo>
                      <a:pt x="257" y="573"/>
                    </a:lnTo>
                    <a:lnTo>
                      <a:pt x="192" y="583"/>
                    </a:lnTo>
                    <a:lnTo>
                      <a:pt x="162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2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3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26112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9" h="507">
                    <a:moveTo>
                      <a:pt x="169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2" y="507"/>
                    </a:lnTo>
                    <a:lnTo>
                      <a:pt x="169" y="7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28812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5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4" y="374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6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2" y="98"/>
                    </a:lnTo>
                    <a:lnTo>
                      <a:pt x="98" y="66"/>
                    </a:lnTo>
                    <a:lnTo>
                      <a:pt x="93" y="34"/>
                    </a:lnTo>
                    <a:lnTo>
                      <a:pt x="83" y="0"/>
                    </a:lnTo>
                    <a:lnTo>
                      <a:pt x="61" y="7"/>
                    </a:lnTo>
                    <a:lnTo>
                      <a:pt x="69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1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8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2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6" y="365"/>
                    </a:lnTo>
                    <a:lnTo>
                      <a:pt x="44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5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33096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6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8" y="20"/>
                    </a:lnTo>
                    <a:lnTo>
                      <a:pt x="64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6" y="24"/>
                    </a:lnTo>
                    <a:lnTo>
                      <a:pt x="173" y="9"/>
                    </a:lnTo>
                    <a:lnTo>
                      <a:pt x="186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6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29280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3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9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3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8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8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1" y="398"/>
                    </a:lnTo>
                    <a:lnTo>
                      <a:pt x="0" y="402"/>
                    </a:lnTo>
                    <a:lnTo>
                      <a:pt x="2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29748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1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7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8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7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23412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85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9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2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20" y="160"/>
                    </a:lnTo>
                    <a:lnTo>
                      <a:pt x="147" y="158"/>
                    </a:lnTo>
                    <a:lnTo>
                      <a:pt x="176" y="154"/>
                    </a:lnTo>
                    <a:lnTo>
                      <a:pt x="207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4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10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1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3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8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5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8" y="120"/>
                    </a:lnTo>
                    <a:lnTo>
                      <a:pt x="32" y="115"/>
                    </a:lnTo>
                    <a:lnTo>
                      <a:pt x="38" y="110"/>
                    </a:lnTo>
                    <a:lnTo>
                      <a:pt x="45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5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181480" y="332136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5">
                    <a:moveTo>
                      <a:pt x="83" y="500"/>
                    </a:moveTo>
                    <a:lnTo>
                      <a:pt x="230" y="0"/>
                    </a:lnTo>
                    <a:lnTo>
                      <a:pt x="238" y="33"/>
                    </a:lnTo>
                    <a:lnTo>
                      <a:pt x="244" y="65"/>
                    </a:lnTo>
                    <a:lnTo>
                      <a:pt x="248" y="95"/>
                    </a:lnTo>
                    <a:lnTo>
                      <a:pt x="249" y="125"/>
                    </a:lnTo>
                    <a:lnTo>
                      <a:pt x="249" y="153"/>
                    </a:lnTo>
                    <a:lnTo>
                      <a:pt x="248" y="181"/>
                    </a:lnTo>
                    <a:lnTo>
                      <a:pt x="245" y="206"/>
                    </a:lnTo>
                    <a:lnTo>
                      <a:pt x="241" y="231"/>
                    </a:lnTo>
                    <a:lnTo>
                      <a:pt x="236" y="254"/>
                    </a:lnTo>
                    <a:lnTo>
                      <a:pt x="230" y="275"/>
                    </a:lnTo>
                    <a:lnTo>
                      <a:pt x="224" y="295"/>
                    </a:lnTo>
                    <a:lnTo>
                      <a:pt x="217" y="313"/>
                    </a:lnTo>
                    <a:lnTo>
                      <a:pt x="209" y="329"/>
                    </a:lnTo>
                    <a:lnTo>
                      <a:pt x="203" y="344"/>
                    </a:lnTo>
                    <a:lnTo>
                      <a:pt x="196" y="355"/>
                    </a:lnTo>
                    <a:lnTo>
                      <a:pt x="190" y="366"/>
                    </a:lnTo>
                    <a:lnTo>
                      <a:pt x="183" y="375"/>
                    </a:lnTo>
                    <a:lnTo>
                      <a:pt x="179" y="380"/>
                    </a:lnTo>
                    <a:lnTo>
                      <a:pt x="174" y="384"/>
                    </a:lnTo>
                    <a:lnTo>
                      <a:pt x="172" y="386"/>
                    </a:lnTo>
                    <a:lnTo>
                      <a:pt x="171" y="385"/>
                    </a:lnTo>
                    <a:lnTo>
                      <a:pt x="171" y="381"/>
                    </a:lnTo>
                    <a:lnTo>
                      <a:pt x="172" y="375"/>
                    </a:lnTo>
                    <a:lnTo>
                      <a:pt x="176" y="366"/>
                    </a:lnTo>
                    <a:lnTo>
                      <a:pt x="182" y="354"/>
                    </a:lnTo>
                    <a:lnTo>
                      <a:pt x="191" y="340"/>
                    </a:lnTo>
                    <a:lnTo>
                      <a:pt x="201" y="323"/>
                    </a:lnTo>
                    <a:lnTo>
                      <a:pt x="215" y="303"/>
                    </a:lnTo>
                    <a:lnTo>
                      <a:pt x="232" y="279"/>
                    </a:lnTo>
                    <a:lnTo>
                      <a:pt x="253" y="253"/>
                    </a:lnTo>
                    <a:lnTo>
                      <a:pt x="275" y="223"/>
                    </a:lnTo>
                    <a:lnTo>
                      <a:pt x="303" y="190"/>
                    </a:lnTo>
                    <a:lnTo>
                      <a:pt x="311" y="182"/>
                    </a:lnTo>
                    <a:lnTo>
                      <a:pt x="321" y="174"/>
                    </a:lnTo>
                    <a:lnTo>
                      <a:pt x="330" y="167"/>
                    </a:lnTo>
                    <a:lnTo>
                      <a:pt x="340" y="160"/>
                    </a:lnTo>
                    <a:lnTo>
                      <a:pt x="362" y="148"/>
                    </a:lnTo>
                    <a:lnTo>
                      <a:pt x="386" y="138"/>
                    </a:lnTo>
                    <a:lnTo>
                      <a:pt x="409" y="128"/>
                    </a:lnTo>
                    <a:lnTo>
                      <a:pt x="433" y="123"/>
                    </a:lnTo>
                    <a:lnTo>
                      <a:pt x="445" y="120"/>
                    </a:lnTo>
                    <a:lnTo>
                      <a:pt x="457" y="119"/>
                    </a:lnTo>
                    <a:lnTo>
                      <a:pt x="468" y="118"/>
                    </a:lnTo>
                    <a:lnTo>
                      <a:pt x="479" y="118"/>
                    </a:lnTo>
                    <a:lnTo>
                      <a:pt x="473" y="141"/>
                    </a:lnTo>
                    <a:lnTo>
                      <a:pt x="463" y="166"/>
                    </a:lnTo>
                    <a:lnTo>
                      <a:pt x="452" y="192"/>
                    </a:lnTo>
                    <a:lnTo>
                      <a:pt x="438" y="221"/>
                    </a:lnTo>
                    <a:lnTo>
                      <a:pt x="422" y="249"/>
                    </a:lnTo>
                    <a:lnTo>
                      <a:pt x="405" y="279"/>
                    </a:lnTo>
                    <a:lnTo>
                      <a:pt x="386" y="309"/>
                    </a:lnTo>
                    <a:lnTo>
                      <a:pt x="365" y="338"/>
                    </a:lnTo>
                    <a:lnTo>
                      <a:pt x="345" y="367"/>
                    </a:lnTo>
                    <a:lnTo>
                      <a:pt x="322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4" y="467"/>
                    </a:lnTo>
                    <a:lnTo>
                      <a:pt x="231" y="486"/>
                    </a:lnTo>
                    <a:lnTo>
                      <a:pt x="220" y="495"/>
                    </a:lnTo>
                    <a:lnTo>
                      <a:pt x="208" y="503"/>
                    </a:lnTo>
                    <a:lnTo>
                      <a:pt x="197" y="510"/>
                    </a:lnTo>
                    <a:lnTo>
                      <a:pt x="187" y="516"/>
                    </a:lnTo>
                    <a:lnTo>
                      <a:pt x="214" y="515"/>
                    </a:lnTo>
                    <a:lnTo>
                      <a:pt x="241" y="514"/>
                    </a:lnTo>
                    <a:lnTo>
                      <a:pt x="270" y="510"/>
                    </a:lnTo>
                    <a:lnTo>
                      <a:pt x="298" y="507"/>
                    </a:lnTo>
                    <a:lnTo>
                      <a:pt x="355" y="497"/>
                    </a:lnTo>
                    <a:lnTo>
                      <a:pt x="413" y="485"/>
                    </a:lnTo>
                    <a:lnTo>
                      <a:pt x="471" y="475"/>
                    </a:lnTo>
                    <a:lnTo>
                      <a:pt x="528" y="465"/>
                    </a:lnTo>
                    <a:lnTo>
                      <a:pt x="557" y="461"/>
                    </a:lnTo>
                    <a:lnTo>
                      <a:pt x="584" y="458"/>
                    </a:lnTo>
                    <a:lnTo>
                      <a:pt x="613" y="457"/>
                    </a:lnTo>
                    <a:lnTo>
                      <a:pt x="640" y="456"/>
                    </a:lnTo>
                    <a:lnTo>
                      <a:pt x="628" y="464"/>
                    </a:lnTo>
                    <a:lnTo>
                      <a:pt x="611" y="473"/>
                    </a:lnTo>
                    <a:lnTo>
                      <a:pt x="591" y="482"/>
                    </a:lnTo>
                    <a:lnTo>
                      <a:pt x="569" y="491"/>
                    </a:lnTo>
                    <a:lnTo>
                      <a:pt x="544" y="500"/>
                    </a:lnTo>
                    <a:lnTo>
                      <a:pt x="517" y="509"/>
                    </a:lnTo>
                    <a:lnTo>
                      <a:pt x="487" y="518"/>
                    </a:lnTo>
                    <a:lnTo>
                      <a:pt x="457" y="526"/>
                    </a:lnTo>
                    <a:lnTo>
                      <a:pt x="392" y="543"/>
                    </a:lnTo>
                    <a:lnTo>
                      <a:pt x="324" y="559"/>
                    </a:lnTo>
                    <a:lnTo>
                      <a:pt x="256" y="573"/>
                    </a:lnTo>
                    <a:lnTo>
                      <a:pt x="192" y="583"/>
                    </a:lnTo>
                    <a:lnTo>
                      <a:pt x="161" y="588"/>
                    </a:lnTo>
                    <a:lnTo>
                      <a:pt x="132" y="590"/>
                    </a:lnTo>
                    <a:lnTo>
                      <a:pt x="106" y="592"/>
                    </a:lnTo>
                    <a:lnTo>
                      <a:pt x="81" y="594"/>
                    </a:lnTo>
                    <a:lnTo>
                      <a:pt x="59" y="595"/>
                    </a:lnTo>
                    <a:lnTo>
                      <a:pt x="40" y="594"/>
                    </a:lnTo>
                    <a:lnTo>
                      <a:pt x="24" y="591"/>
                    </a:lnTo>
                    <a:lnTo>
                      <a:pt x="11" y="587"/>
                    </a:lnTo>
                    <a:lnTo>
                      <a:pt x="3" y="582"/>
                    </a:lnTo>
                    <a:lnTo>
                      <a:pt x="0" y="575"/>
                    </a:lnTo>
                    <a:lnTo>
                      <a:pt x="0" y="567"/>
                    </a:lnTo>
                    <a:lnTo>
                      <a:pt x="5" y="557"/>
                    </a:lnTo>
                    <a:lnTo>
                      <a:pt x="16" y="546"/>
                    </a:lnTo>
                    <a:lnTo>
                      <a:pt x="32" y="533"/>
                    </a:lnTo>
                    <a:lnTo>
                      <a:pt x="54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20380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7">
                    <a:moveTo>
                      <a:pt x="170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3" y="507"/>
                    </a:lnTo>
                    <a:lnTo>
                      <a:pt x="170" y="7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23080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4" h="401">
                    <a:moveTo>
                      <a:pt x="136" y="186"/>
                    </a:moveTo>
                    <a:lnTo>
                      <a:pt x="136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5" y="276"/>
                    </a:lnTo>
                    <a:lnTo>
                      <a:pt x="48" y="300"/>
                    </a:lnTo>
                    <a:lnTo>
                      <a:pt x="33" y="321"/>
                    </a:lnTo>
                    <a:lnTo>
                      <a:pt x="23" y="338"/>
                    </a:lnTo>
                    <a:lnTo>
                      <a:pt x="14" y="352"/>
                    </a:lnTo>
                    <a:lnTo>
                      <a:pt x="7" y="365"/>
                    </a:lnTo>
                    <a:lnTo>
                      <a:pt x="3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5" y="401"/>
                    </a:lnTo>
                    <a:lnTo>
                      <a:pt x="24" y="398"/>
                    </a:lnTo>
                    <a:lnTo>
                      <a:pt x="30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8" y="366"/>
                    </a:lnTo>
                    <a:lnTo>
                      <a:pt x="56" y="352"/>
                    </a:lnTo>
                    <a:lnTo>
                      <a:pt x="63" y="338"/>
                    </a:lnTo>
                    <a:lnTo>
                      <a:pt x="70" y="322"/>
                    </a:lnTo>
                    <a:lnTo>
                      <a:pt x="78" y="302"/>
                    </a:lnTo>
                    <a:lnTo>
                      <a:pt x="83" y="283"/>
                    </a:lnTo>
                    <a:lnTo>
                      <a:pt x="90" y="260"/>
                    </a:lnTo>
                    <a:lnTo>
                      <a:pt x="95" y="237"/>
                    </a:lnTo>
                    <a:lnTo>
                      <a:pt x="99" y="212"/>
                    </a:lnTo>
                    <a:lnTo>
                      <a:pt x="103" y="185"/>
                    </a:lnTo>
                    <a:lnTo>
                      <a:pt x="104" y="157"/>
                    </a:lnTo>
                    <a:lnTo>
                      <a:pt x="104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2" y="34"/>
                    </a:lnTo>
                    <a:lnTo>
                      <a:pt x="83" y="0"/>
                    </a:lnTo>
                    <a:lnTo>
                      <a:pt x="60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8" y="100"/>
                    </a:lnTo>
                    <a:lnTo>
                      <a:pt x="80" y="129"/>
                    </a:lnTo>
                    <a:lnTo>
                      <a:pt x="80" y="156"/>
                    </a:lnTo>
                    <a:lnTo>
                      <a:pt x="78" y="184"/>
                    </a:lnTo>
                    <a:lnTo>
                      <a:pt x="75" y="209"/>
                    </a:lnTo>
                    <a:lnTo>
                      <a:pt x="71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5" y="294"/>
                    </a:lnTo>
                    <a:lnTo>
                      <a:pt x="48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2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3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9" y="375"/>
                    </a:lnTo>
                    <a:lnTo>
                      <a:pt x="34" y="365"/>
                    </a:lnTo>
                    <a:lnTo>
                      <a:pt x="43" y="350"/>
                    </a:lnTo>
                    <a:lnTo>
                      <a:pt x="54" y="333"/>
                    </a:lnTo>
                    <a:lnTo>
                      <a:pt x="67" y="314"/>
                    </a:lnTo>
                    <a:lnTo>
                      <a:pt x="84" y="291"/>
                    </a:lnTo>
                    <a:lnTo>
                      <a:pt x="104" y="265"/>
                    </a:lnTo>
                    <a:lnTo>
                      <a:pt x="127" y="235"/>
                    </a:lnTo>
                    <a:lnTo>
                      <a:pt x="154" y="202"/>
                    </a:lnTo>
                    <a:lnTo>
                      <a:pt x="153" y="203"/>
                    </a:lnTo>
                    <a:lnTo>
                      <a:pt x="13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273640" y="3354480"/>
                <a:ext cx="6336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2" y="1"/>
                    </a:lnTo>
                    <a:lnTo>
                      <a:pt x="149" y="3"/>
                    </a:lnTo>
                    <a:lnTo>
                      <a:pt x="136" y="5"/>
                    </a:lnTo>
                    <a:lnTo>
                      <a:pt x="111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29" y="51"/>
                    </a:lnTo>
                    <a:lnTo>
                      <a:pt x="19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3" y="71"/>
                    </a:lnTo>
                    <a:lnTo>
                      <a:pt x="53" y="65"/>
                    </a:lnTo>
                    <a:lnTo>
                      <a:pt x="74" y="52"/>
                    </a:lnTo>
                    <a:lnTo>
                      <a:pt x="97" y="43"/>
                    </a:lnTo>
                    <a:lnTo>
                      <a:pt x="118" y="35"/>
                    </a:lnTo>
                    <a:lnTo>
                      <a:pt x="142" y="28"/>
                    </a:lnTo>
                    <a:lnTo>
                      <a:pt x="152" y="27"/>
                    </a:lnTo>
                    <a:lnTo>
                      <a:pt x="164" y="25"/>
                    </a:lnTo>
                    <a:lnTo>
                      <a:pt x="174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0" y="22"/>
                    </a:lnTo>
                    <a:lnTo>
                      <a:pt x="195" y="20"/>
                    </a:lnTo>
                    <a:lnTo>
                      <a:pt x="197" y="17"/>
                    </a:lnTo>
                    <a:lnTo>
                      <a:pt x="197" y="12"/>
                    </a:lnTo>
                    <a:lnTo>
                      <a:pt x="197" y="8"/>
                    </a:lnTo>
                    <a:lnTo>
                      <a:pt x="195" y="3"/>
                    </a:lnTo>
                    <a:lnTo>
                      <a:pt x="190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235480" y="3357720"/>
                <a:ext cx="101520" cy="13032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3" y="388"/>
                    </a:moveTo>
                    <a:lnTo>
                      <a:pt x="18" y="411"/>
                    </a:lnTo>
                    <a:lnTo>
                      <a:pt x="30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8" y="361"/>
                    </a:lnTo>
                    <a:lnTo>
                      <a:pt x="112" y="338"/>
                    </a:lnTo>
                    <a:lnTo>
                      <a:pt x="136" y="313"/>
                    </a:lnTo>
                    <a:lnTo>
                      <a:pt x="158" y="287"/>
                    </a:lnTo>
                    <a:lnTo>
                      <a:pt x="180" y="259"/>
                    </a:lnTo>
                    <a:lnTo>
                      <a:pt x="202" y="230"/>
                    </a:lnTo>
                    <a:lnTo>
                      <a:pt x="222" y="200"/>
                    </a:lnTo>
                    <a:lnTo>
                      <a:pt x="242" y="170"/>
                    </a:lnTo>
                    <a:lnTo>
                      <a:pt x="259" y="140"/>
                    </a:lnTo>
                    <a:lnTo>
                      <a:pt x="275" y="111"/>
                    </a:lnTo>
                    <a:lnTo>
                      <a:pt x="288" y="83"/>
                    </a:lnTo>
                    <a:lnTo>
                      <a:pt x="301" y="56"/>
                    </a:lnTo>
                    <a:lnTo>
                      <a:pt x="310" y="29"/>
                    </a:lnTo>
                    <a:lnTo>
                      <a:pt x="317" y="5"/>
                    </a:lnTo>
                    <a:lnTo>
                      <a:pt x="293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7" y="73"/>
                    </a:lnTo>
                    <a:lnTo>
                      <a:pt x="253" y="100"/>
                    </a:lnTo>
                    <a:lnTo>
                      <a:pt x="238" y="129"/>
                    </a:lnTo>
                    <a:lnTo>
                      <a:pt x="221" y="157"/>
                    </a:lnTo>
                    <a:lnTo>
                      <a:pt x="202" y="187"/>
                    </a:lnTo>
                    <a:lnTo>
                      <a:pt x="182" y="215"/>
                    </a:lnTo>
                    <a:lnTo>
                      <a:pt x="161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5" y="321"/>
                    </a:lnTo>
                    <a:lnTo>
                      <a:pt x="72" y="343"/>
                    </a:lnTo>
                    <a:lnTo>
                      <a:pt x="49" y="362"/>
                    </a:lnTo>
                    <a:lnTo>
                      <a:pt x="39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7" y="391"/>
                    </a:lnTo>
                    <a:lnTo>
                      <a:pt x="13" y="414"/>
                    </a:lnTo>
                    <a:lnTo>
                      <a:pt x="7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5" y="410"/>
                    </a:lnTo>
                    <a:lnTo>
                      <a:pt x="8" y="412"/>
                    </a:lnTo>
                    <a:lnTo>
                      <a:pt x="13" y="414"/>
                    </a:lnTo>
                    <a:lnTo>
                      <a:pt x="18" y="411"/>
                    </a:lnTo>
                    <a:lnTo>
                      <a:pt x="13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240160" y="3461040"/>
                <a:ext cx="147960" cy="27000"/>
              </a:xfrm>
              <a:custGeom>
                <a:avLst/>
                <a:gdLst/>
                <a:ahLst/>
                <a:rect l="l" t="t" r="r" b="b"/>
                <a:pathLst>
                  <a:path w="466" h="86">
                    <a:moveTo>
                      <a:pt x="460" y="22"/>
                    </a:moveTo>
                    <a:lnTo>
                      <a:pt x="453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9" y="6"/>
                    </a:lnTo>
                    <a:lnTo>
                      <a:pt x="339" y="10"/>
                    </a:lnTo>
                    <a:lnTo>
                      <a:pt x="282" y="19"/>
                    </a:lnTo>
                    <a:lnTo>
                      <a:pt x="224" y="31"/>
                    </a:lnTo>
                    <a:lnTo>
                      <a:pt x="166" y="42"/>
                    </a:lnTo>
                    <a:lnTo>
                      <a:pt x="109" y="51"/>
                    </a:lnTo>
                    <a:lnTo>
                      <a:pt x="82" y="56"/>
                    </a:lnTo>
                    <a:lnTo>
                      <a:pt x="53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5" y="82"/>
                    </a:lnTo>
                    <a:lnTo>
                      <a:pt x="84" y="80"/>
                    </a:lnTo>
                    <a:lnTo>
                      <a:pt x="114" y="75"/>
                    </a:lnTo>
                    <a:lnTo>
                      <a:pt x="170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4" y="34"/>
                    </a:lnTo>
                    <a:lnTo>
                      <a:pt x="371" y="30"/>
                    </a:lnTo>
                    <a:lnTo>
                      <a:pt x="398" y="27"/>
                    </a:lnTo>
                    <a:lnTo>
                      <a:pt x="426" y="25"/>
                    </a:lnTo>
                    <a:lnTo>
                      <a:pt x="453" y="25"/>
                    </a:lnTo>
                    <a:lnTo>
                      <a:pt x="446" y="2"/>
                    </a:lnTo>
                    <a:lnTo>
                      <a:pt x="453" y="25"/>
                    </a:lnTo>
                    <a:lnTo>
                      <a:pt x="459" y="24"/>
                    </a:lnTo>
                    <a:lnTo>
                      <a:pt x="462" y="21"/>
                    </a:lnTo>
                    <a:lnTo>
                      <a:pt x="465" y="17"/>
                    </a:lnTo>
                    <a:lnTo>
                      <a:pt x="466" y="13"/>
                    </a:lnTo>
                    <a:lnTo>
                      <a:pt x="465" y="8"/>
                    </a:lnTo>
                    <a:lnTo>
                      <a:pt x="462" y="5"/>
                    </a:lnTo>
                    <a:lnTo>
                      <a:pt x="459" y="1"/>
                    </a:lnTo>
                    <a:lnTo>
                      <a:pt x="453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7680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4" y="52"/>
                    </a:moveTo>
                    <a:lnTo>
                      <a:pt x="89" y="45"/>
                    </a:lnTo>
                    <a:lnTo>
                      <a:pt x="61" y="62"/>
                    </a:lnTo>
                    <a:lnTo>
                      <a:pt x="38" y="78"/>
                    </a:lnTo>
                    <a:lnTo>
                      <a:pt x="29" y="85"/>
                    </a:lnTo>
                    <a:lnTo>
                      <a:pt x="21" y="92"/>
                    </a:lnTo>
                    <a:lnTo>
                      <a:pt x="14" y="98"/>
                    </a:lnTo>
                    <a:lnTo>
                      <a:pt x="8" y="105"/>
                    </a:lnTo>
                    <a:lnTo>
                      <a:pt x="5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4" y="141"/>
                    </a:lnTo>
                    <a:lnTo>
                      <a:pt x="8" y="146"/>
                    </a:lnTo>
                    <a:lnTo>
                      <a:pt x="14" y="150"/>
                    </a:lnTo>
                    <a:lnTo>
                      <a:pt x="21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2" y="161"/>
                    </a:lnTo>
                    <a:lnTo>
                      <a:pt x="94" y="161"/>
                    </a:lnTo>
                    <a:lnTo>
                      <a:pt x="119" y="160"/>
                    </a:lnTo>
                    <a:lnTo>
                      <a:pt x="146" y="158"/>
                    </a:lnTo>
                    <a:lnTo>
                      <a:pt x="176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40" y="126"/>
                    </a:lnTo>
                    <a:lnTo>
                      <a:pt x="408" y="111"/>
                    </a:lnTo>
                    <a:lnTo>
                      <a:pt x="473" y="94"/>
                    </a:lnTo>
                    <a:lnTo>
                      <a:pt x="504" y="85"/>
                    </a:lnTo>
                    <a:lnTo>
                      <a:pt x="533" y="76"/>
                    </a:lnTo>
                    <a:lnTo>
                      <a:pt x="561" y="66"/>
                    </a:lnTo>
                    <a:lnTo>
                      <a:pt x="586" y="57"/>
                    </a:lnTo>
                    <a:lnTo>
                      <a:pt x="609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6" y="0"/>
                    </a:lnTo>
                    <a:lnTo>
                      <a:pt x="634" y="8"/>
                    </a:lnTo>
                    <a:lnTo>
                      <a:pt x="619" y="16"/>
                    </a:lnTo>
                    <a:lnTo>
                      <a:pt x="600" y="25"/>
                    </a:lnTo>
                    <a:lnTo>
                      <a:pt x="578" y="35"/>
                    </a:lnTo>
                    <a:lnTo>
                      <a:pt x="553" y="44"/>
                    </a:lnTo>
                    <a:lnTo>
                      <a:pt x="527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2" y="87"/>
                    </a:lnTo>
                    <a:lnTo>
                      <a:pt x="335" y="103"/>
                    </a:lnTo>
                    <a:lnTo>
                      <a:pt x="268" y="115"/>
                    </a:lnTo>
                    <a:lnTo>
                      <a:pt x="203" y="126"/>
                    </a:lnTo>
                    <a:lnTo>
                      <a:pt x="173" y="130"/>
                    </a:lnTo>
                    <a:lnTo>
                      <a:pt x="144" y="134"/>
                    </a:lnTo>
                    <a:lnTo>
                      <a:pt x="117" y="136"/>
                    </a:lnTo>
                    <a:lnTo>
                      <a:pt x="94" y="137"/>
                    </a:lnTo>
                    <a:lnTo>
                      <a:pt x="72" y="137"/>
                    </a:lnTo>
                    <a:lnTo>
                      <a:pt x="54" y="136"/>
                    </a:lnTo>
                    <a:lnTo>
                      <a:pt x="39" y="134"/>
                    </a:lnTo>
                    <a:lnTo>
                      <a:pt x="29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7" y="110"/>
                    </a:lnTo>
                    <a:lnTo>
                      <a:pt x="43" y="104"/>
                    </a:lnTo>
                    <a:lnTo>
                      <a:pt x="53" y="97"/>
                    </a:lnTo>
                    <a:lnTo>
                      <a:pt x="74" y="82"/>
                    </a:lnTo>
                    <a:lnTo>
                      <a:pt x="102" y="66"/>
                    </a:lnTo>
                    <a:lnTo>
                      <a:pt x="107" y="58"/>
                    </a:lnTo>
                    <a:lnTo>
                      <a:pt x="102" y="66"/>
                    </a:lnTo>
                    <a:lnTo>
                      <a:pt x="106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3" y="46"/>
                    </a:lnTo>
                    <a:lnTo>
                      <a:pt x="99" y="44"/>
                    </a:lnTo>
                    <a:lnTo>
                      <a:pt x="95" y="44"/>
                    </a:lnTo>
                    <a:lnTo>
                      <a:pt x="89" y="45"/>
                    </a:lnTo>
                    <a:lnTo>
                      <a:pt x="84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808520" y="3321360"/>
                <a:ext cx="204840" cy="189000"/>
              </a:xfrm>
              <a:custGeom>
                <a:avLst/>
                <a:gdLst/>
                <a:ahLst/>
                <a:rect l="l" t="t" r="r" b="b"/>
                <a:pathLst>
                  <a:path w="642" h="595">
                    <a:moveTo>
                      <a:pt x="84" y="500"/>
                    </a:moveTo>
                    <a:lnTo>
                      <a:pt x="231" y="0"/>
                    </a:lnTo>
                    <a:lnTo>
                      <a:pt x="239" y="33"/>
                    </a:lnTo>
                    <a:lnTo>
                      <a:pt x="245" y="65"/>
                    </a:lnTo>
                    <a:lnTo>
                      <a:pt x="250" y="95"/>
                    </a:lnTo>
                    <a:lnTo>
                      <a:pt x="251" y="125"/>
                    </a:lnTo>
                    <a:lnTo>
                      <a:pt x="251" y="153"/>
                    </a:lnTo>
                    <a:lnTo>
                      <a:pt x="250" y="181"/>
                    </a:lnTo>
                    <a:lnTo>
                      <a:pt x="246" y="206"/>
                    </a:lnTo>
                    <a:lnTo>
                      <a:pt x="243" y="231"/>
                    </a:lnTo>
                    <a:lnTo>
                      <a:pt x="237" y="254"/>
                    </a:lnTo>
                    <a:lnTo>
                      <a:pt x="231" y="275"/>
                    </a:lnTo>
                    <a:lnTo>
                      <a:pt x="225" y="295"/>
                    </a:lnTo>
                    <a:lnTo>
                      <a:pt x="218" y="313"/>
                    </a:lnTo>
                    <a:lnTo>
                      <a:pt x="211" y="329"/>
                    </a:lnTo>
                    <a:lnTo>
                      <a:pt x="204" y="344"/>
                    </a:lnTo>
                    <a:lnTo>
                      <a:pt x="197" y="355"/>
                    </a:lnTo>
                    <a:lnTo>
                      <a:pt x="190" y="366"/>
                    </a:lnTo>
                    <a:lnTo>
                      <a:pt x="185" y="375"/>
                    </a:lnTo>
                    <a:lnTo>
                      <a:pt x="180" y="380"/>
                    </a:lnTo>
                    <a:lnTo>
                      <a:pt x="176" y="384"/>
                    </a:lnTo>
                    <a:lnTo>
                      <a:pt x="173" y="386"/>
                    </a:lnTo>
                    <a:lnTo>
                      <a:pt x="171" y="385"/>
                    </a:lnTo>
                    <a:lnTo>
                      <a:pt x="172" y="381"/>
                    </a:lnTo>
                    <a:lnTo>
                      <a:pt x="173" y="375"/>
                    </a:lnTo>
                    <a:lnTo>
                      <a:pt x="178" y="366"/>
                    </a:lnTo>
                    <a:lnTo>
                      <a:pt x="184" y="354"/>
                    </a:lnTo>
                    <a:lnTo>
                      <a:pt x="192" y="340"/>
                    </a:lnTo>
                    <a:lnTo>
                      <a:pt x="203" y="323"/>
                    </a:lnTo>
                    <a:lnTo>
                      <a:pt x="217" y="303"/>
                    </a:lnTo>
                    <a:lnTo>
                      <a:pt x="234" y="279"/>
                    </a:lnTo>
                    <a:lnTo>
                      <a:pt x="253" y="253"/>
                    </a:lnTo>
                    <a:lnTo>
                      <a:pt x="277" y="223"/>
                    </a:lnTo>
                    <a:lnTo>
                      <a:pt x="303" y="190"/>
                    </a:lnTo>
                    <a:lnTo>
                      <a:pt x="312" y="182"/>
                    </a:lnTo>
                    <a:lnTo>
                      <a:pt x="321" y="174"/>
                    </a:lnTo>
                    <a:lnTo>
                      <a:pt x="332" y="167"/>
                    </a:lnTo>
                    <a:lnTo>
                      <a:pt x="342" y="160"/>
                    </a:lnTo>
                    <a:lnTo>
                      <a:pt x="364" y="148"/>
                    </a:lnTo>
                    <a:lnTo>
                      <a:pt x="386" y="138"/>
                    </a:lnTo>
                    <a:lnTo>
                      <a:pt x="410" y="128"/>
                    </a:lnTo>
                    <a:lnTo>
                      <a:pt x="434" y="123"/>
                    </a:lnTo>
                    <a:lnTo>
                      <a:pt x="446" y="120"/>
                    </a:lnTo>
                    <a:lnTo>
                      <a:pt x="458" y="119"/>
                    </a:lnTo>
                    <a:lnTo>
                      <a:pt x="470" y="118"/>
                    </a:lnTo>
                    <a:lnTo>
                      <a:pt x="480" y="118"/>
                    </a:lnTo>
                    <a:lnTo>
                      <a:pt x="474" y="141"/>
                    </a:lnTo>
                    <a:lnTo>
                      <a:pt x="465" y="166"/>
                    </a:lnTo>
                    <a:lnTo>
                      <a:pt x="453" y="192"/>
                    </a:lnTo>
                    <a:lnTo>
                      <a:pt x="439" y="221"/>
                    </a:lnTo>
                    <a:lnTo>
                      <a:pt x="424" y="249"/>
                    </a:lnTo>
                    <a:lnTo>
                      <a:pt x="406" y="279"/>
                    </a:lnTo>
                    <a:lnTo>
                      <a:pt x="388" y="309"/>
                    </a:lnTo>
                    <a:lnTo>
                      <a:pt x="367" y="338"/>
                    </a:lnTo>
                    <a:lnTo>
                      <a:pt x="347" y="367"/>
                    </a:lnTo>
                    <a:lnTo>
                      <a:pt x="324" y="394"/>
                    </a:lnTo>
                    <a:lnTo>
                      <a:pt x="301" y="420"/>
                    </a:lnTo>
                    <a:lnTo>
                      <a:pt x="278" y="444"/>
                    </a:lnTo>
                    <a:lnTo>
                      <a:pt x="255" y="467"/>
                    </a:lnTo>
                    <a:lnTo>
                      <a:pt x="233" y="486"/>
                    </a:lnTo>
                    <a:lnTo>
                      <a:pt x="221" y="495"/>
                    </a:lnTo>
                    <a:lnTo>
                      <a:pt x="210" y="503"/>
                    </a:lnTo>
                    <a:lnTo>
                      <a:pt x="198" y="510"/>
                    </a:lnTo>
                    <a:lnTo>
                      <a:pt x="188" y="516"/>
                    </a:lnTo>
                    <a:lnTo>
                      <a:pt x="215" y="515"/>
                    </a:lnTo>
                    <a:lnTo>
                      <a:pt x="243" y="514"/>
                    </a:lnTo>
                    <a:lnTo>
                      <a:pt x="271" y="510"/>
                    </a:lnTo>
                    <a:lnTo>
                      <a:pt x="300" y="507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5"/>
                    </a:lnTo>
                    <a:lnTo>
                      <a:pt x="530" y="465"/>
                    </a:lnTo>
                    <a:lnTo>
                      <a:pt x="558" y="461"/>
                    </a:lnTo>
                    <a:lnTo>
                      <a:pt x="586" y="458"/>
                    </a:lnTo>
                    <a:lnTo>
                      <a:pt x="614" y="457"/>
                    </a:lnTo>
                    <a:lnTo>
                      <a:pt x="642" y="456"/>
                    </a:lnTo>
                    <a:lnTo>
                      <a:pt x="629" y="464"/>
                    </a:lnTo>
                    <a:lnTo>
                      <a:pt x="612" y="473"/>
                    </a:lnTo>
                    <a:lnTo>
                      <a:pt x="593" y="482"/>
                    </a:lnTo>
                    <a:lnTo>
                      <a:pt x="570" y="491"/>
                    </a:lnTo>
                    <a:lnTo>
                      <a:pt x="545" y="500"/>
                    </a:lnTo>
                    <a:lnTo>
                      <a:pt x="519" y="509"/>
                    </a:lnTo>
                    <a:lnTo>
                      <a:pt x="489" y="518"/>
                    </a:lnTo>
                    <a:lnTo>
                      <a:pt x="458" y="526"/>
                    </a:lnTo>
                    <a:lnTo>
                      <a:pt x="393" y="543"/>
                    </a:lnTo>
                    <a:lnTo>
                      <a:pt x="325" y="559"/>
                    </a:lnTo>
                    <a:lnTo>
                      <a:pt x="258" y="573"/>
                    </a:lnTo>
                    <a:lnTo>
                      <a:pt x="193" y="583"/>
                    </a:lnTo>
                    <a:lnTo>
                      <a:pt x="163" y="588"/>
                    </a:lnTo>
                    <a:lnTo>
                      <a:pt x="133" y="590"/>
                    </a:lnTo>
                    <a:lnTo>
                      <a:pt x="107" y="592"/>
                    </a:lnTo>
                    <a:lnTo>
                      <a:pt x="82" y="594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1"/>
                    </a:lnTo>
                    <a:lnTo>
                      <a:pt x="13" y="587"/>
                    </a:lnTo>
                    <a:lnTo>
                      <a:pt x="5" y="582"/>
                    </a:lnTo>
                    <a:lnTo>
                      <a:pt x="0" y="575"/>
                    </a:lnTo>
                    <a:lnTo>
                      <a:pt x="1" y="567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3"/>
                    </a:lnTo>
                    <a:lnTo>
                      <a:pt x="56" y="517"/>
                    </a:lnTo>
                    <a:lnTo>
                      <a:pt x="84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832280" y="331956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1" h="507">
                    <a:moveTo>
                      <a:pt x="171" y="0"/>
                    </a:moveTo>
                    <a:lnTo>
                      <a:pt x="147" y="0"/>
                    </a:lnTo>
                    <a:lnTo>
                      <a:pt x="0" y="501"/>
                    </a:lnTo>
                    <a:lnTo>
                      <a:pt x="24" y="507"/>
                    </a:lnTo>
                    <a:lnTo>
                      <a:pt x="171" y="7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859280" y="33195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35" y="186"/>
                    </a:moveTo>
                    <a:lnTo>
                      <a:pt x="134" y="187"/>
                    </a:lnTo>
                    <a:lnTo>
                      <a:pt x="108" y="220"/>
                    </a:lnTo>
                    <a:lnTo>
                      <a:pt x="84" y="250"/>
                    </a:lnTo>
                    <a:lnTo>
                      <a:pt x="63" y="276"/>
                    </a:lnTo>
                    <a:lnTo>
                      <a:pt x="47" y="300"/>
                    </a:lnTo>
                    <a:lnTo>
                      <a:pt x="33" y="321"/>
                    </a:lnTo>
                    <a:lnTo>
                      <a:pt x="21" y="338"/>
                    </a:lnTo>
                    <a:lnTo>
                      <a:pt x="13" y="352"/>
                    </a:lnTo>
                    <a:lnTo>
                      <a:pt x="6" y="365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4" y="398"/>
                    </a:lnTo>
                    <a:lnTo>
                      <a:pt x="29" y="392"/>
                    </a:lnTo>
                    <a:lnTo>
                      <a:pt x="35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2"/>
                    </a:lnTo>
                    <a:lnTo>
                      <a:pt x="62" y="338"/>
                    </a:lnTo>
                    <a:lnTo>
                      <a:pt x="69" y="322"/>
                    </a:lnTo>
                    <a:lnTo>
                      <a:pt x="76" y="302"/>
                    </a:lnTo>
                    <a:lnTo>
                      <a:pt x="83" y="283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8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7"/>
                    </a:lnTo>
                    <a:lnTo>
                      <a:pt x="68" y="39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9" y="129"/>
                    </a:lnTo>
                    <a:lnTo>
                      <a:pt x="79" y="156"/>
                    </a:lnTo>
                    <a:lnTo>
                      <a:pt x="77" y="184"/>
                    </a:lnTo>
                    <a:lnTo>
                      <a:pt x="75" y="209"/>
                    </a:lnTo>
                    <a:lnTo>
                      <a:pt x="70" y="233"/>
                    </a:lnTo>
                    <a:lnTo>
                      <a:pt x="66" y="254"/>
                    </a:lnTo>
                    <a:lnTo>
                      <a:pt x="60" y="276"/>
                    </a:lnTo>
                    <a:lnTo>
                      <a:pt x="53" y="294"/>
                    </a:lnTo>
                    <a:lnTo>
                      <a:pt x="46" y="313"/>
                    </a:lnTo>
                    <a:lnTo>
                      <a:pt x="41" y="328"/>
                    </a:lnTo>
                    <a:lnTo>
                      <a:pt x="34" y="342"/>
                    </a:lnTo>
                    <a:lnTo>
                      <a:pt x="27" y="354"/>
                    </a:lnTo>
                    <a:lnTo>
                      <a:pt x="20" y="364"/>
                    </a:lnTo>
                    <a:lnTo>
                      <a:pt x="16" y="371"/>
                    </a:lnTo>
                    <a:lnTo>
                      <a:pt x="11" y="376"/>
                    </a:lnTo>
                    <a:lnTo>
                      <a:pt x="9" y="379"/>
                    </a:lnTo>
                    <a:lnTo>
                      <a:pt x="12" y="378"/>
                    </a:lnTo>
                    <a:lnTo>
                      <a:pt x="24" y="385"/>
                    </a:lnTo>
                    <a:lnTo>
                      <a:pt x="24" y="388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2" y="350"/>
                    </a:lnTo>
                    <a:lnTo>
                      <a:pt x="53" y="333"/>
                    </a:lnTo>
                    <a:lnTo>
                      <a:pt x="67" y="314"/>
                    </a:lnTo>
                    <a:lnTo>
                      <a:pt x="83" y="291"/>
                    </a:lnTo>
                    <a:lnTo>
                      <a:pt x="103" y="265"/>
                    </a:lnTo>
                    <a:lnTo>
                      <a:pt x="126" y="235"/>
                    </a:lnTo>
                    <a:lnTo>
                      <a:pt x="153" y="202"/>
                    </a:lnTo>
                    <a:lnTo>
                      <a:pt x="152" y="203"/>
                    </a:lnTo>
                    <a:lnTo>
                      <a:pt x="135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902120" y="3354480"/>
                <a:ext cx="63720" cy="2880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197" y="14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50" y="3"/>
                    </a:lnTo>
                    <a:lnTo>
                      <a:pt x="137" y="5"/>
                    </a:lnTo>
                    <a:lnTo>
                      <a:pt x="112" y="11"/>
                    </a:lnTo>
                    <a:lnTo>
                      <a:pt x="87" y="20"/>
                    </a:lnTo>
                    <a:lnTo>
                      <a:pt x="63" y="30"/>
                    </a:lnTo>
                    <a:lnTo>
                      <a:pt x="41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5"/>
                    </a:lnTo>
                    <a:lnTo>
                      <a:pt x="34" y="78"/>
                    </a:lnTo>
                    <a:lnTo>
                      <a:pt x="44" y="71"/>
                    </a:lnTo>
                    <a:lnTo>
                      <a:pt x="54" y="65"/>
                    </a:lnTo>
                    <a:lnTo>
                      <a:pt x="74" y="52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8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4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2"/>
                    </a:lnTo>
                    <a:lnTo>
                      <a:pt x="194" y="20"/>
                    </a:lnTo>
                    <a:lnTo>
                      <a:pt x="196" y="17"/>
                    </a:lnTo>
                    <a:lnTo>
                      <a:pt x="197" y="12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63960" y="3357720"/>
                <a:ext cx="101880" cy="13032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88"/>
                    </a:moveTo>
                    <a:lnTo>
                      <a:pt x="18" y="411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5" y="380"/>
                    </a:lnTo>
                    <a:lnTo>
                      <a:pt x="87" y="361"/>
                    </a:lnTo>
                    <a:lnTo>
                      <a:pt x="111" y="338"/>
                    </a:lnTo>
                    <a:lnTo>
                      <a:pt x="134" y="313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2" y="200"/>
                    </a:lnTo>
                    <a:lnTo>
                      <a:pt x="240" y="170"/>
                    </a:lnTo>
                    <a:lnTo>
                      <a:pt x="258" y="140"/>
                    </a:lnTo>
                    <a:lnTo>
                      <a:pt x="274" y="111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29"/>
                    </a:lnTo>
                    <a:lnTo>
                      <a:pt x="316" y="5"/>
                    </a:lnTo>
                    <a:lnTo>
                      <a:pt x="292" y="0"/>
                    </a:lnTo>
                    <a:lnTo>
                      <a:pt x="287" y="21"/>
                    </a:lnTo>
                    <a:lnTo>
                      <a:pt x="278" y="46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20" y="157"/>
                    </a:lnTo>
                    <a:lnTo>
                      <a:pt x="201" y="187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7" y="297"/>
                    </a:lnTo>
                    <a:lnTo>
                      <a:pt x="94" y="321"/>
                    </a:lnTo>
                    <a:lnTo>
                      <a:pt x="71" y="343"/>
                    </a:lnTo>
                    <a:lnTo>
                      <a:pt x="49" y="362"/>
                    </a:lnTo>
                    <a:lnTo>
                      <a:pt x="38" y="370"/>
                    </a:lnTo>
                    <a:lnTo>
                      <a:pt x="27" y="378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4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7"/>
                    </a:lnTo>
                    <a:lnTo>
                      <a:pt x="4" y="410"/>
                    </a:lnTo>
                    <a:lnTo>
                      <a:pt x="8" y="412"/>
                    </a:lnTo>
                    <a:lnTo>
                      <a:pt x="12" y="414"/>
                    </a:lnTo>
                    <a:lnTo>
                      <a:pt x="18" y="411"/>
                    </a:lnTo>
                    <a:lnTo>
                      <a:pt x="12" y="3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869000" y="346104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1" y="22"/>
                    </a:moveTo>
                    <a:lnTo>
                      <a:pt x="454" y="0"/>
                    </a:lnTo>
                    <a:lnTo>
                      <a:pt x="425" y="1"/>
                    </a:lnTo>
                    <a:lnTo>
                      <a:pt x="397" y="3"/>
                    </a:lnTo>
                    <a:lnTo>
                      <a:pt x="368" y="6"/>
                    </a:lnTo>
                    <a:lnTo>
                      <a:pt x="340" y="10"/>
                    </a:lnTo>
                    <a:lnTo>
                      <a:pt x="283" y="19"/>
                    </a:lnTo>
                    <a:lnTo>
                      <a:pt x="225" y="31"/>
                    </a:lnTo>
                    <a:lnTo>
                      <a:pt x="166" y="42"/>
                    </a:lnTo>
                    <a:lnTo>
                      <a:pt x="110" y="51"/>
                    </a:lnTo>
                    <a:lnTo>
                      <a:pt x="82" y="56"/>
                    </a:lnTo>
                    <a:lnTo>
                      <a:pt x="54" y="58"/>
                    </a:lnTo>
                    <a:lnTo>
                      <a:pt x="26" y="60"/>
                    </a:lnTo>
                    <a:lnTo>
                      <a:pt x="0" y="60"/>
                    </a:lnTo>
                    <a:lnTo>
                      <a:pt x="0" y="86"/>
                    </a:lnTo>
                    <a:lnTo>
                      <a:pt x="27" y="84"/>
                    </a:lnTo>
                    <a:lnTo>
                      <a:pt x="56" y="82"/>
                    </a:lnTo>
                    <a:lnTo>
                      <a:pt x="84" y="80"/>
                    </a:lnTo>
                    <a:lnTo>
                      <a:pt x="113" y="75"/>
                    </a:lnTo>
                    <a:lnTo>
                      <a:pt x="171" y="66"/>
                    </a:lnTo>
                    <a:lnTo>
                      <a:pt x="229" y="55"/>
                    </a:lnTo>
                    <a:lnTo>
                      <a:pt x="286" y="43"/>
                    </a:lnTo>
                    <a:lnTo>
                      <a:pt x="343" y="34"/>
                    </a:lnTo>
                    <a:lnTo>
                      <a:pt x="372" y="30"/>
                    </a:lnTo>
                    <a:lnTo>
                      <a:pt x="399" y="27"/>
                    </a:lnTo>
                    <a:lnTo>
                      <a:pt x="426" y="25"/>
                    </a:lnTo>
                    <a:lnTo>
                      <a:pt x="454" y="25"/>
                    </a:lnTo>
                    <a:lnTo>
                      <a:pt x="446" y="2"/>
                    </a:lnTo>
                    <a:lnTo>
                      <a:pt x="454" y="25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7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1"/>
                    </a:lnTo>
                    <a:lnTo>
                      <a:pt x="454" y="0"/>
                    </a:lnTo>
                    <a:lnTo>
                      <a:pt x="46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805280" y="34624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1">
                    <a:moveTo>
                      <a:pt x="83" y="52"/>
                    </a:moveTo>
                    <a:lnTo>
                      <a:pt x="89" y="45"/>
                    </a:lnTo>
                    <a:lnTo>
                      <a:pt x="60" y="62"/>
                    </a:lnTo>
                    <a:lnTo>
                      <a:pt x="37" y="78"/>
                    </a:lnTo>
                    <a:lnTo>
                      <a:pt x="28" y="85"/>
                    </a:lnTo>
                    <a:lnTo>
                      <a:pt x="20" y="92"/>
                    </a:lnTo>
                    <a:lnTo>
                      <a:pt x="13" y="98"/>
                    </a:lnTo>
                    <a:lnTo>
                      <a:pt x="8" y="105"/>
                    </a:lnTo>
                    <a:lnTo>
                      <a:pt x="3" y="112"/>
                    </a:lnTo>
                    <a:lnTo>
                      <a:pt x="1" y="119"/>
                    </a:lnTo>
                    <a:lnTo>
                      <a:pt x="0" y="126"/>
                    </a:lnTo>
                    <a:lnTo>
                      <a:pt x="0" y="134"/>
                    </a:lnTo>
                    <a:lnTo>
                      <a:pt x="3" y="141"/>
                    </a:lnTo>
                    <a:lnTo>
                      <a:pt x="8" y="146"/>
                    </a:lnTo>
                    <a:lnTo>
                      <a:pt x="13" y="150"/>
                    </a:lnTo>
                    <a:lnTo>
                      <a:pt x="20" y="153"/>
                    </a:lnTo>
                    <a:lnTo>
                      <a:pt x="34" y="158"/>
                    </a:lnTo>
                    <a:lnTo>
                      <a:pt x="51" y="160"/>
                    </a:lnTo>
                    <a:lnTo>
                      <a:pt x="70" y="161"/>
                    </a:lnTo>
                    <a:lnTo>
                      <a:pt x="93" y="161"/>
                    </a:lnTo>
                    <a:lnTo>
                      <a:pt x="118" y="160"/>
                    </a:lnTo>
                    <a:lnTo>
                      <a:pt x="146" y="158"/>
                    </a:lnTo>
                    <a:lnTo>
                      <a:pt x="175" y="154"/>
                    </a:lnTo>
                    <a:lnTo>
                      <a:pt x="206" y="150"/>
                    </a:lnTo>
                    <a:lnTo>
                      <a:pt x="271" y="139"/>
                    </a:lnTo>
                    <a:lnTo>
                      <a:pt x="339" y="126"/>
                    </a:lnTo>
                    <a:lnTo>
                      <a:pt x="407" y="111"/>
                    </a:lnTo>
                    <a:lnTo>
                      <a:pt x="473" y="94"/>
                    </a:lnTo>
                    <a:lnTo>
                      <a:pt x="503" y="85"/>
                    </a:lnTo>
                    <a:lnTo>
                      <a:pt x="533" y="76"/>
                    </a:lnTo>
                    <a:lnTo>
                      <a:pt x="560" y="66"/>
                    </a:lnTo>
                    <a:lnTo>
                      <a:pt x="585" y="57"/>
                    </a:lnTo>
                    <a:lnTo>
                      <a:pt x="608" y="48"/>
                    </a:lnTo>
                    <a:lnTo>
                      <a:pt x="629" y="38"/>
                    </a:lnTo>
                    <a:lnTo>
                      <a:pt x="646" y="29"/>
                    </a:lnTo>
                    <a:lnTo>
                      <a:pt x="660" y="20"/>
                    </a:lnTo>
                    <a:lnTo>
                      <a:pt x="645" y="0"/>
                    </a:lnTo>
                    <a:lnTo>
                      <a:pt x="633" y="8"/>
                    </a:lnTo>
                    <a:lnTo>
                      <a:pt x="618" y="16"/>
                    </a:lnTo>
                    <a:lnTo>
                      <a:pt x="599" y="25"/>
                    </a:lnTo>
                    <a:lnTo>
                      <a:pt x="577" y="35"/>
                    </a:lnTo>
                    <a:lnTo>
                      <a:pt x="552" y="44"/>
                    </a:lnTo>
                    <a:lnTo>
                      <a:pt x="525" y="53"/>
                    </a:lnTo>
                    <a:lnTo>
                      <a:pt x="497" y="62"/>
                    </a:lnTo>
                    <a:lnTo>
                      <a:pt x="466" y="70"/>
                    </a:lnTo>
                    <a:lnTo>
                      <a:pt x="401" y="87"/>
                    </a:lnTo>
                    <a:lnTo>
                      <a:pt x="334" y="103"/>
                    </a:lnTo>
                    <a:lnTo>
                      <a:pt x="266" y="115"/>
                    </a:lnTo>
                    <a:lnTo>
                      <a:pt x="203" y="126"/>
                    </a:lnTo>
                    <a:lnTo>
                      <a:pt x="172" y="130"/>
                    </a:lnTo>
                    <a:lnTo>
                      <a:pt x="143" y="134"/>
                    </a:lnTo>
                    <a:lnTo>
                      <a:pt x="117" y="136"/>
                    </a:lnTo>
                    <a:lnTo>
                      <a:pt x="93" y="137"/>
                    </a:lnTo>
                    <a:lnTo>
                      <a:pt x="71" y="137"/>
                    </a:lnTo>
                    <a:lnTo>
                      <a:pt x="53" y="136"/>
                    </a:lnTo>
                    <a:lnTo>
                      <a:pt x="38" y="134"/>
                    </a:lnTo>
                    <a:lnTo>
                      <a:pt x="28" y="130"/>
                    </a:lnTo>
                    <a:lnTo>
                      <a:pt x="26" y="129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7"/>
                    </a:lnTo>
                    <a:lnTo>
                      <a:pt x="24" y="126"/>
                    </a:lnTo>
                    <a:lnTo>
                      <a:pt x="25" y="123"/>
                    </a:lnTo>
                    <a:lnTo>
                      <a:pt x="27" y="120"/>
                    </a:lnTo>
                    <a:lnTo>
                      <a:pt x="32" y="115"/>
                    </a:lnTo>
                    <a:lnTo>
                      <a:pt x="36" y="110"/>
                    </a:lnTo>
                    <a:lnTo>
                      <a:pt x="43" y="104"/>
                    </a:lnTo>
                    <a:lnTo>
                      <a:pt x="51" y="97"/>
                    </a:lnTo>
                    <a:lnTo>
                      <a:pt x="73" y="82"/>
                    </a:lnTo>
                    <a:lnTo>
                      <a:pt x="101" y="66"/>
                    </a:lnTo>
                    <a:lnTo>
                      <a:pt x="107" y="58"/>
                    </a:lnTo>
                    <a:lnTo>
                      <a:pt x="101" y="66"/>
                    </a:lnTo>
                    <a:lnTo>
                      <a:pt x="105" y="63"/>
                    </a:lnTo>
                    <a:lnTo>
                      <a:pt x="107" y="58"/>
                    </a:lnTo>
                    <a:lnTo>
                      <a:pt x="107" y="54"/>
                    </a:lnTo>
                    <a:lnTo>
                      <a:pt x="106" y="49"/>
                    </a:lnTo>
                    <a:lnTo>
                      <a:pt x="102" y="46"/>
                    </a:lnTo>
                    <a:lnTo>
                      <a:pt x="99" y="44"/>
                    </a:lnTo>
                    <a:lnTo>
                      <a:pt x="94" y="44"/>
                    </a:lnTo>
                    <a:lnTo>
                      <a:pt x="89" y="45"/>
                    </a:lnTo>
                    <a:lnTo>
                      <a:pt x="83" y="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656320" y="324828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3" y="367"/>
                    </a:moveTo>
                    <a:lnTo>
                      <a:pt x="389" y="355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9" y="308"/>
                    </a:lnTo>
                    <a:lnTo>
                      <a:pt x="520" y="271"/>
                    </a:lnTo>
                    <a:lnTo>
                      <a:pt x="573" y="235"/>
                    </a:lnTo>
                    <a:lnTo>
                      <a:pt x="600" y="216"/>
                    </a:lnTo>
                    <a:lnTo>
                      <a:pt x="628" y="200"/>
                    </a:lnTo>
                    <a:lnTo>
                      <a:pt x="657" y="186"/>
                    </a:lnTo>
                    <a:lnTo>
                      <a:pt x="686" y="172"/>
                    </a:lnTo>
                    <a:lnTo>
                      <a:pt x="701" y="166"/>
                    </a:lnTo>
                    <a:lnTo>
                      <a:pt x="717" y="160"/>
                    </a:lnTo>
                    <a:lnTo>
                      <a:pt x="732" y="156"/>
                    </a:lnTo>
                    <a:lnTo>
                      <a:pt x="748" y="152"/>
                    </a:lnTo>
                    <a:lnTo>
                      <a:pt x="765" y="149"/>
                    </a:lnTo>
                    <a:lnTo>
                      <a:pt x="781" y="147"/>
                    </a:lnTo>
                    <a:lnTo>
                      <a:pt x="799" y="146"/>
                    </a:lnTo>
                    <a:lnTo>
                      <a:pt x="816" y="146"/>
                    </a:lnTo>
                    <a:lnTo>
                      <a:pt x="815" y="159"/>
                    </a:lnTo>
                    <a:lnTo>
                      <a:pt x="814" y="174"/>
                    </a:lnTo>
                    <a:lnTo>
                      <a:pt x="812" y="189"/>
                    </a:lnTo>
                    <a:lnTo>
                      <a:pt x="808" y="204"/>
                    </a:lnTo>
                    <a:lnTo>
                      <a:pt x="804" y="220"/>
                    </a:lnTo>
                    <a:lnTo>
                      <a:pt x="799" y="236"/>
                    </a:lnTo>
                    <a:lnTo>
                      <a:pt x="792" y="252"/>
                    </a:lnTo>
                    <a:lnTo>
                      <a:pt x="785" y="268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1" y="331"/>
                    </a:lnTo>
                    <a:lnTo>
                      <a:pt x="741" y="347"/>
                    </a:lnTo>
                    <a:lnTo>
                      <a:pt x="731" y="363"/>
                    </a:lnTo>
                    <a:lnTo>
                      <a:pt x="719" y="378"/>
                    </a:lnTo>
                    <a:lnTo>
                      <a:pt x="708" y="393"/>
                    </a:lnTo>
                    <a:lnTo>
                      <a:pt x="695" y="408"/>
                    </a:lnTo>
                    <a:lnTo>
                      <a:pt x="683" y="422"/>
                    </a:lnTo>
                    <a:lnTo>
                      <a:pt x="669" y="434"/>
                    </a:lnTo>
                    <a:lnTo>
                      <a:pt x="655" y="448"/>
                    </a:lnTo>
                    <a:lnTo>
                      <a:pt x="642" y="459"/>
                    </a:lnTo>
                    <a:lnTo>
                      <a:pt x="628" y="471"/>
                    </a:lnTo>
                    <a:lnTo>
                      <a:pt x="613" y="481"/>
                    </a:lnTo>
                    <a:lnTo>
                      <a:pt x="599" y="491"/>
                    </a:lnTo>
                    <a:lnTo>
                      <a:pt x="584" y="499"/>
                    </a:lnTo>
                    <a:lnTo>
                      <a:pt x="569" y="507"/>
                    </a:lnTo>
                    <a:lnTo>
                      <a:pt x="554" y="514"/>
                    </a:lnTo>
                    <a:lnTo>
                      <a:pt x="539" y="520"/>
                    </a:lnTo>
                    <a:lnTo>
                      <a:pt x="524" y="524"/>
                    </a:lnTo>
                    <a:lnTo>
                      <a:pt x="508" y="528"/>
                    </a:lnTo>
                    <a:lnTo>
                      <a:pt x="494" y="530"/>
                    </a:lnTo>
                    <a:lnTo>
                      <a:pt x="479" y="530"/>
                    </a:lnTo>
                    <a:lnTo>
                      <a:pt x="497" y="531"/>
                    </a:lnTo>
                    <a:lnTo>
                      <a:pt x="515" y="532"/>
                    </a:lnTo>
                    <a:lnTo>
                      <a:pt x="534" y="534"/>
                    </a:lnTo>
                    <a:lnTo>
                      <a:pt x="551" y="538"/>
                    </a:lnTo>
                    <a:lnTo>
                      <a:pt x="568" y="541"/>
                    </a:lnTo>
                    <a:lnTo>
                      <a:pt x="584" y="546"/>
                    </a:lnTo>
                    <a:lnTo>
                      <a:pt x="600" y="551"/>
                    </a:lnTo>
                    <a:lnTo>
                      <a:pt x="614" y="557"/>
                    </a:lnTo>
                    <a:lnTo>
                      <a:pt x="629" y="565"/>
                    </a:lnTo>
                    <a:lnTo>
                      <a:pt x="644" y="572"/>
                    </a:lnTo>
                    <a:lnTo>
                      <a:pt x="658" y="581"/>
                    </a:lnTo>
                    <a:lnTo>
                      <a:pt x="670" y="589"/>
                    </a:lnTo>
                    <a:lnTo>
                      <a:pt x="684" y="599"/>
                    </a:lnTo>
                    <a:lnTo>
                      <a:pt x="697" y="610"/>
                    </a:lnTo>
                    <a:lnTo>
                      <a:pt x="708" y="620"/>
                    </a:lnTo>
                    <a:lnTo>
                      <a:pt x="719" y="631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7"/>
                    </a:lnTo>
                    <a:lnTo>
                      <a:pt x="799" y="734"/>
                    </a:lnTo>
                    <a:lnTo>
                      <a:pt x="816" y="762"/>
                    </a:lnTo>
                    <a:lnTo>
                      <a:pt x="832" y="792"/>
                    </a:lnTo>
                    <a:lnTo>
                      <a:pt x="847" y="822"/>
                    </a:lnTo>
                    <a:lnTo>
                      <a:pt x="861" y="852"/>
                    </a:lnTo>
                    <a:lnTo>
                      <a:pt x="830" y="852"/>
                    </a:lnTo>
                    <a:lnTo>
                      <a:pt x="801" y="851"/>
                    </a:lnTo>
                    <a:lnTo>
                      <a:pt x="775" y="850"/>
                    </a:lnTo>
                    <a:lnTo>
                      <a:pt x="749" y="848"/>
                    </a:lnTo>
                    <a:lnTo>
                      <a:pt x="726" y="846"/>
                    </a:lnTo>
                    <a:lnTo>
                      <a:pt x="703" y="842"/>
                    </a:lnTo>
                    <a:lnTo>
                      <a:pt x="683" y="839"/>
                    </a:lnTo>
                    <a:lnTo>
                      <a:pt x="665" y="835"/>
                    </a:lnTo>
                    <a:lnTo>
                      <a:pt x="646" y="831"/>
                    </a:lnTo>
                    <a:lnTo>
                      <a:pt x="630" y="825"/>
                    </a:lnTo>
                    <a:lnTo>
                      <a:pt x="614" y="819"/>
                    </a:lnTo>
                    <a:lnTo>
                      <a:pt x="601" y="813"/>
                    </a:lnTo>
                    <a:lnTo>
                      <a:pt x="587" y="806"/>
                    </a:lnTo>
                    <a:lnTo>
                      <a:pt x="575" y="798"/>
                    </a:lnTo>
                    <a:lnTo>
                      <a:pt x="563" y="790"/>
                    </a:lnTo>
                    <a:lnTo>
                      <a:pt x="553" y="781"/>
                    </a:lnTo>
                    <a:lnTo>
                      <a:pt x="543" y="772"/>
                    </a:lnTo>
                    <a:lnTo>
                      <a:pt x="534" y="761"/>
                    </a:lnTo>
                    <a:lnTo>
                      <a:pt x="524" y="750"/>
                    </a:lnTo>
                    <a:lnTo>
                      <a:pt x="516" y="738"/>
                    </a:lnTo>
                    <a:lnTo>
                      <a:pt x="500" y="713"/>
                    </a:lnTo>
                    <a:lnTo>
                      <a:pt x="486" y="685"/>
                    </a:lnTo>
                    <a:lnTo>
                      <a:pt x="456" y="620"/>
                    </a:lnTo>
                    <a:lnTo>
                      <a:pt x="421" y="544"/>
                    </a:lnTo>
                    <a:lnTo>
                      <a:pt x="410" y="546"/>
                    </a:lnTo>
                    <a:lnTo>
                      <a:pt x="395" y="550"/>
                    </a:lnTo>
                    <a:lnTo>
                      <a:pt x="375" y="558"/>
                    </a:lnTo>
                    <a:lnTo>
                      <a:pt x="351" y="567"/>
                    </a:lnTo>
                    <a:lnTo>
                      <a:pt x="296" y="590"/>
                    </a:lnTo>
                    <a:lnTo>
                      <a:pt x="235" y="614"/>
                    </a:lnTo>
                    <a:lnTo>
                      <a:pt x="204" y="624"/>
                    </a:lnTo>
                    <a:lnTo>
                      <a:pt x="173" y="634"/>
                    </a:lnTo>
                    <a:lnTo>
                      <a:pt x="159" y="637"/>
                    </a:lnTo>
                    <a:lnTo>
                      <a:pt x="144" y="640"/>
                    </a:lnTo>
                    <a:lnTo>
                      <a:pt x="130" y="643"/>
                    </a:lnTo>
                    <a:lnTo>
                      <a:pt x="116" y="644"/>
                    </a:lnTo>
                    <a:lnTo>
                      <a:pt x="104" y="645"/>
                    </a:lnTo>
                    <a:lnTo>
                      <a:pt x="91" y="644"/>
                    </a:lnTo>
                    <a:lnTo>
                      <a:pt x="80" y="643"/>
                    </a:lnTo>
                    <a:lnTo>
                      <a:pt x="70" y="640"/>
                    </a:lnTo>
                    <a:lnTo>
                      <a:pt x="61" y="637"/>
                    </a:lnTo>
                    <a:lnTo>
                      <a:pt x="51" y="632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599"/>
                    </a:lnTo>
                    <a:lnTo>
                      <a:pt x="20" y="580"/>
                    </a:lnTo>
                    <a:lnTo>
                      <a:pt x="13" y="558"/>
                    </a:lnTo>
                    <a:lnTo>
                      <a:pt x="7" y="537"/>
                    </a:lnTo>
                    <a:lnTo>
                      <a:pt x="4" y="514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2"/>
                    </a:lnTo>
                    <a:lnTo>
                      <a:pt x="1" y="418"/>
                    </a:lnTo>
                    <a:lnTo>
                      <a:pt x="4" y="394"/>
                    </a:lnTo>
                    <a:lnTo>
                      <a:pt x="7" y="370"/>
                    </a:lnTo>
                    <a:lnTo>
                      <a:pt x="13" y="346"/>
                    </a:lnTo>
                    <a:lnTo>
                      <a:pt x="18" y="323"/>
                    </a:lnTo>
                    <a:lnTo>
                      <a:pt x="25" y="302"/>
                    </a:lnTo>
                    <a:lnTo>
                      <a:pt x="34" y="280"/>
                    </a:lnTo>
                    <a:lnTo>
                      <a:pt x="43" y="261"/>
                    </a:lnTo>
                    <a:lnTo>
                      <a:pt x="53" y="241"/>
                    </a:lnTo>
                    <a:lnTo>
                      <a:pt x="64" y="224"/>
                    </a:lnTo>
                    <a:lnTo>
                      <a:pt x="75" y="209"/>
                    </a:lnTo>
                    <a:lnTo>
                      <a:pt x="89" y="195"/>
                    </a:lnTo>
                    <a:lnTo>
                      <a:pt x="102" y="183"/>
                    </a:lnTo>
                    <a:lnTo>
                      <a:pt x="116" y="174"/>
                    </a:lnTo>
                    <a:lnTo>
                      <a:pt x="131" y="166"/>
                    </a:lnTo>
                    <a:lnTo>
                      <a:pt x="146" y="162"/>
                    </a:lnTo>
                    <a:lnTo>
                      <a:pt x="162" y="159"/>
                    </a:lnTo>
                    <a:lnTo>
                      <a:pt x="179" y="160"/>
                    </a:lnTo>
                    <a:lnTo>
                      <a:pt x="196" y="164"/>
                    </a:lnTo>
                    <a:lnTo>
                      <a:pt x="213" y="171"/>
                    </a:lnTo>
                    <a:lnTo>
                      <a:pt x="232" y="181"/>
                    </a:lnTo>
                    <a:lnTo>
                      <a:pt x="250" y="195"/>
                    </a:lnTo>
                    <a:lnTo>
                      <a:pt x="269" y="213"/>
                    </a:lnTo>
                    <a:lnTo>
                      <a:pt x="287" y="233"/>
                    </a:lnTo>
                    <a:lnTo>
                      <a:pt x="317" y="270"/>
                    </a:lnTo>
                    <a:lnTo>
                      <a:pt x="335" y="292"/>
                    </a:lnTo>
                    <a:lnTo>
                      <a:pt x="341" y="297"/>
                    </a:lnTo>
                    <a:lnTo>
                      <a:pt x="344" y="301"/>
                    </a:lnTo>
                    <a:lnTo>
                      <a:pt x="345" y="301"/>
                    </a:lnTo>
                    <a:lnTo>
                      <a:pt x="345" y="297"/>
                    </a:lnTo>
                    <a:lnTo>
                      <a:pt x="333" y="264"/>
                    </a:lnTo>
                    <a:lnTo>
                      <a:pt x="311" y="206"/>
                    </a:lnTo>
                    <a:lnTo>
                      <a:pt x="307" y="189"/>
                    </a:lnTo>
                    <a:lnTo>
                      <a:pt x="302" y="172"/>
                    </a:lnTo>
                    <a:lnTo>
                      <a:pt x="299" y="154"/>
                    </a:lnTo>
                    <a:lnTo>
                      <a:pt x="296" y="137"/>
                    </a:lnTo>
                    <a:lnTo>
                      <a:pt x="295" y="119"/>
                    </a:lnTo>
                    <a:lnTo>
                      <a:pt x="295" y="102"/>
                    </a:lnTo>
                    <a:lnTo>
                      <a:pt x="298" y="85"/>
                    </a:lnTo>
                    <a:lnTo>
                      <a:pt x="302" y="70"/>
                    </a:lnTo>
                    <a:lnTo>
                      <a:pt x="309" y="56"/>
                    </a:lnTo>
                    <a:lnTo>
                      <a:pt x="317" y="42"/>
                    </a:lnTo>
                    <a:lnTo>
                      <a:pt x="330" y="31"/>
                    </a:lnTo>
                    <a:lnTo>
                      <a:pt x="343" y="20"/>
                    </a:lnTo>
                    <a:lnTo>
                      <a:pt x="361" y="11"/>
                    </a:lnTo>
                    <a:lnTo>
                      <a:pt x="382" y="5"/>
                    </a:lnTo>
                    <a:lnTo>
                      <a:pt x="407" y="1"/>
                    </a:lnTo>
                    <a:lnTo>
                      <a:pt x="436" y="0"/>
                    </a:lnTo>
                    <a:lnTo>
                      <a:pt x="434" y="50"/>
                    </a:lnTo>
                    <a:lnTo>
                      <a:pt x="434" y="99"/>
                    </a:lnTo>
                    <a:lnTo>
                      <a:pt x="433" y="123"/>
                    </a:lnTo>
                    <a:lnTo>
                      <a:pt x="431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2" y="217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7" y="328"/>
                    </a:lnTo>
                    <a:lnTo>
                      <a:pt x="375" y="347"/>
                    </a:lnTo>
                    <a:lnTo>
                      <a:pt x="363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770440" y="32911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3"/>
                    </a:moveTo>
                    <a:lnTo>
                      <a:pt x="458" y="0"/>
                    </a:lnTo>
                    <a:lnTo>
                      <a:pt x="440" y="1"/>
                    </a:lnTo>
                    <a:lnTo>
                      <a:pt x="422" y="2"/>
                    </a:lnTo>
                    <a:lnTo>
                      <a:pt x="405" y="5"/>
                    </a:lnTo>
                    <a:lnTo>
                      <a:pt x="388" y="8"/>
                    </a:lnTo>
                    <a:lnTo>
                      <a:pt x="372" y="12"/>
                    </a:lnTo>
                    <a:lnTo>
                      <a:pt x="354" y="16"/>
                    </a:lnTo>
                    <a:lnTo>
                      <a:pt x="339" y="22"/>
                    </a:lnTo>
                    <a:lnTo>
                      <a:pt x="324" y="27"/>
                    </a:lnTo>
                    <a:lnTo>
                      <a:pt x="293" y="41"/>
                    </a:lnTo>
                    <a:lnTo>
                      <a:pt x="264" y="57"/>
                    </a:lnTo>
                    <a:lnTo>
                      <a:pt x="236" y="73"/>
                    </a:lnTo>
                    <a:lnTo>
                      <a:pt x="209" y="91"/>
                    </a:lnTo>
                    <a:lnTo>
                      <a:pt x="155" y="128"/>
                    </a:lnTo>
                    <a:lnTo>
                      <a:pt x="103" y="164"/>
                    </a:lnTo>
                    <a:lnTo>
                      <a:pt x="78" y="181"/>
                    </a:lnTo>
                    <a:lnTo>
                      <a:pt x="51" y="197"/>
                    </a:lnTo>
                    <a:lnTo>
                      <a:pt x="26" y="211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7" y="233"/>
                    </a:lnTo>
                    <a:lnTo>
                      <a:pt x="64" y="218"/>
                    </a:lnTo>
                    <a:lnTo>
                      <a:pt x="90" y="202"/>
                    </a:lnTo>
                    <a:lnTo>
                      <a:pt x="117" y="185"/>
                    </a:lnTo>
                    <a:lnTo>
                      <a:pt x="169" y="148"/>
                    </a:lnTo>
                    <a:lnTo>
                      <a:pt x="222" y="112"/>
                    </a:lnTo>
                    <a:lnTo>
                      <a:pt x="248" y="94"/>
                    </a:lnTo>
                    <a:lnTo>
                      <a:pt x="276" y="78"/>
                    </a:lnTo>
                    <a:lnTo>
                      <a:pt x="303" y="63"/>
                    </a:lnTo>
                    <a:lnTo>
                      <a:pt x="333" y="50"/>
                    </a:lnTo>
                    <a:lnTo>
                      <a:pt x="348" y="45"/>
                    </a:lnTo>
                    <a:lnTo>
                      <a:pt x="362" y="40"/>
                    </a:lnTo>
                    <a:lnTo>
                      <a:pt x="377" y="35"/>
                    </a:lnTo>
                    <a:lnTo>
                      <a:pt x="393" y="31"/>
                    </a:lnTo>
                    <a:lnTo>
                      <a:pt x="408" y="29"/>
                    </a:lnTo>
                    <a:lnTo>
                      <a:pt x="425" y="26"/>
                    </a:lnTo>
                    <a:lnTo>
                      <a:pt x="441" y="25"/>
                    </a:lnTo>
                    <a:lnTo>
                      <a:pt x="458" y="24"/>
                    </a:lnTo>
                    <a:lnTo>
                      <a:pt x="446" y="13"/>
                    </a:lnTo>
                    <a:lnTo>
                      <a:pt x="458" y="24"/>
                    </a:lnTo>
                    <a:lnTo>
                      <a:pt x="464" y="24"/>
                    </a:lnTo>
                    <a:lnTo>
                      <a:pt x="467" y="21"/>
                    </a:lnTo>
                    <a:lnTo>
                      <a:pt x="470" y="17"/>
                    </a:lnTo>
                    <a:lnTo>
                      <a:pt x="471" y="13"/>
                    </a:lnTo>
                    <a:lnTo>
                      <a:pt x="470" y="8"/>
                    </a:lnTo>
                    <a:lnTo>
                      <a:pt x="467" y="5"/>
                    </a:lnTo>
                    <a:lnTo>
                      <a:pt x="464" y="1"/>
                    </a:lnTo>
                    <a:lnTo>
                      <a:pt x="458" y="0"/>
                    </a:lnTo>
                    <a:lnTo>
                      <a:pt x="471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03920" y="3294360"/>
                <a:ext cx="115920" cy="127080"/>
              </a:xfrm>
              <a:custGeom>
                <a:avLst/>
                <a:gdLst/>
                <a:ahLst/>
                <a:rect l="l" t="t" r="r" b="b"/>
                <a:pathLst>
                  <a:path w="363" h="396">
                    <a:moveTo>
                      <a:pt x="13" y="372"/>
                    </a:moveTo>
                    <a:lnTo>
                      <a:pt x="13" y="396"/>
                    </a:lnTo>
                    <a:lnTo>
                      <a:pt x="29" y="395"/>
                    </a:lnTo>
                    <a:lnTo>
                      <a:pt x="45" y="393"/>
                    </a:lnTo>
                    <a:lnTo>
                      <a:pt x="61" y="390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5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4"/>
                    </a:lnTo>
                    <a:lnTo>
                      <a:pt x="184" y="322"/>
                    </a:lnTo>
                    <a:lnTo>
                      <a:pt x="199" y="310"/>
                    </a:lnTo>
                    <a:lnTo>
                      <a:pt x="212" y="297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5"/>
                    </a:lnTo>
                    <a:lnTo>
                      <a:pt x="262" y="239"/>
                    </a:lnTo>
                    <a:lnTo>
                      <a:pt x="275" y="224"/>
                    </a:lnTo>
                    <a:lnTo>
                      <a:pt x="285" y="208"/>
                    </a:lnTo>
                    <a:lnTo>
                      <a:pt x="295" y="192"/>
                    </a:lnTo>
                    <a:lnTo>
                      <a:pt x="306" y="176"/>
                    </a:lnTo>
                    <a:lnTo>
                      <a:pt x="315" y="159"/>
                    </a:lnTo>
                    <a:lnTo>
                      <a:pt x="323" y="143"/>
                    </a:lnTo>
                    <a:lnTo>
                      <a:pt x="331" y="126"/>
                    </a:lnTo>
                    <a:lnTo>
                      <a:pt x="338" y="110"/>
                    </a:lnTo>
                    <a:lnTo>
                      <a:pt x="344" y="93"/>
                    </a:lnTo>
                    <a:lnTo>
                      <a:pt x="349" y="77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60" y="29"/>
                    </a:lnTo>
                    <a:lnTo>
                      <a:pt x="362" y="14"/>
                    </a:lnTo>
                    <a:lnTo>
                      <a:pt x="363" y="0"/>
                    </a:lnTo>
                    <a:lnTo>
                      <a:pt x="338" y="0"/>
                    </a:lnTo>
                    <a:lnTo>
                      <a:pt x="338" y="12"/>
                    </a:lnTo>
                    <a:lnTo>
                      <a:pt x="337" y="27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0"/>
                    </a:lnTo>
                    <a:lnTo>
                      <a:pt x="322" y="85"/>
                    </a:lnTo>
                    <a:lnTo>
                      <a:pt x="316" y="101"/>
                    </a:lnTo>
                    <a:lnTo>
                      <a:pt x="309" y="117"/>
                    </a:lnTo>
                    <a:lnTo>
                      <a:pt x="301" y="133"/>
                    </a:lnTo>
                    <a:lnTo>
                      <a:pt x="293" y="148"/>
                    </a:lnTo>
                    <a:lnTo>
                      <a:pt x="285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5"/>
                    </a:lnTo>
                    <a:lnTo>
                      <a:pt x="233" y="239"/>
                    </a:lnTo>
                    <a:lnTo>
                      <a:pt x="220" y="254"/>
                    </a:lnTo>
                    <a:lnTo>
                      <a:pt x="208" y="266"/>
                    </a:lnTo>
                    <a:lnTo>
                      <a:pt x="195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0" y="325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4" y="356"/>
                    </a:lnTo>
                    <a:lnTo>
                      <a:pt x="69" y="362"/>
                    </a:lnTo>
                    <a:lnTo>
                      <a:pt x="55" y="367"/>
                    </a:lnTo>
                    <a:lnTo>
                      <a:pt x="40" y="369"/>
                    </a:lnTo>
                    <a:lnTo>
                      <a:pt x="27" y="371"/>
                    </a:lnTo>
                    <a:lnTo>
                      <a:pt x="13" y="372"/>
                    </a:lnTo>
                    <a:lnTo>
                      <a:pt x="13" y="396"/>
                    </a:lnTo>
                    <a:lnTo>
                      <a:pt x="13" y="372"/>
                    </a:lnTo>
                    <a:lnTo>
                      <a:pt x="7" y="372"/>
                    </a:lnTo>
                    <a:lnTo>
                      <a:pt x="4" y="376"/>
                    </a:lnTo>
                    <a:lnTo>
                      <a:pt x="1" y="379"/>
                    </a:lnTo>
                    <a:lnTo>
                      <a:pt x="0" y="384"/>
                    </a:lnTo>
                    <a:lnTo>
                      <a:pt x="1" y="388"/>
                    </a:lnTo>
                    <a:lnTo>
                      <a:pt x="4" y="393"/>
                    </a:lnTo>
                    <a:lnTo>
                      <a:pt x="7" y="395"/>
                    </a:lnTo>
                    <a:lnTo>
                      <a:pt x="13" y="396"/>
                    </a:lnTo>
                    <a:lnTo>
                      <a:pt x="13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08600" y="3413520"/>
                <a:ext cx="125640" cy="109440"/>
              </a:xfrm>
              <a:custGeom>
                <a:avLst/>
                <a:gdLst/>
                <a:ahLst/>
                <a:rect l="l" t="t" r="r" b="b"/>
                <a:pathLst>
                  <a:path w="394" h="347">
                    <a:moveTo>
                      <a:pt x="382" y="346"/>
                    </a:moveTo>
                    <a:lnTo>
                      <a:pt x="393" y="329"/>
                    </a:lnTo>
                    <a:lnTo>
                      <a:pt x="379" y="299"/>
                    </a:lnTo>
                    <a:lnTo>
                      <a:pt x="363" y="268"/>
                    </a:lnTo>
                    <a:lnTo>
                      <a:pt x="347" y="239"/>
                    </a:lnTo>
                    <a:lnTo>
                      <a:pt x="330" y="209"/>
                    </a:lnTo>
                    <a:lnTo>
                      <a:pt x="312" y="182"/>
                    </a:lnTo>
                    <a:lnTo>
                      <a:pt x="293" y="154"/>
                    </a:lnTo>
                    <a:lnTo>
                      <a:pt x="272" y="128"/>
                    </a:lnTo>
                    <a:lnTo>
                      <a:pt x="249" y="104"/>
                    </a:lnTo>
                    <a:lnTo>
                      <a:pt x="237" y="93"/>
                    </a:lnTo>
                    <a:lnTo>
                      <a:pt x="224" y="81"/>
                    </a:lnTo>
                    <a:lnTo>
                      <a:pt x="212" y="71"/>
                    </a:lnTo>
                    <a:lnTo>
                      <a:pt x="199" y="62"/>
                    </a:lnTo>
                    <a:lnTo>
                      <a:pt x="184" y="53"/>
                    </a:lnTo>
                    <a:lnTo>
                      <a:pt x="171" y="44"/>
                    </a:lnTo>
                    <a:lnTo>
                      <a:pt x="156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8" y="16"/>
                    </a:lnTo>
                    <a:lnTo>
                      <a:pt x="92" y="12"/>
                    </a:lnTo>
                    <a:lnTo>
                      <a:pt x="74" y="7"/>
                    </a:lnTo>
                    <a:lnTo>
                      <a:pt x="57" y="4"/>
                    </a:lnTo>
                    <a:lnTo>
                      <a:pt x="37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5" y="26"/>
                    </a:lnTo>
                    <a:lnTo>
                      <a:pt x="53" y="28"/>
                    </a:lnTo>
                    <a:lnTo>
                      <a:pt x="69" y="31"/>
                    </a:lnTo>
                    <a:lnTo>
                      <a:pt x="85" y="35"/>
                    </a:lnTo>
                    <a:lnTo>
                      <a:pt x="101" y="39"/>
                    </a:lnTo>
                    <a:lnTo>
                      <a:pt x="116" y="45"/>
                    </a:lnTo>
                    <a:lnTo>
                      <a:pt x="131" y="51"/>
                    </a:lnTo>
                    <a:lnTo>
                      <a:pt x="145" y="57"/>
                    </a:lnTo>
                    <a:lnTo>
                      <a:pt x="158" y="65"/>
                    </a:lnTo>
                    <a:lnTo>
                      <a:pt x="172" y="73"/>
                    </a:lnTo>
                    <a:lnTo>
                      <a:pt x="184" y="81"/>
                    </a:lnTo>
                    <a:lnTo>
                      <a:pt x="197" y="90"/>
                    </a:lnTo>
                    <a:lnTo>
                      <a:pt x="210" y="101"/>
                    </a:lnTo>
                    <a:lnTo>
                      <a:pt x="221" y="111"/>
                    </a:lnTo>
                    <a:lnTo>
                      <a:pt x="232" y="121"/>
                    </a:lnTo>
                    <a:lnTo>
                      <a:pt x="254" y="144"/>
                    </a:lnTo>
                    <a:lnTo>
                      <a:pt x="273" y="169"/>
                    </a:lnTo>
                    <a:lnTo>
                      <a:pt x="293" y="195"/>
                    </a:lnTo>
                    <a:lnTo>
                      <a:pt x="310" y="223"/>
                    </a:lnTo>
                    <a:lnTo>
                      <a:pt x="327" y="250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39"/>
                    </a:lnTo>
                    <a:lnTo>
                      <a:pt x="382" y="322"/>
                    </a:lnTo>
                    <a:lnTo>
                      <a:pt x="371" y="339"/>
                    </a:lnTo>
                    <a:lnTo>
                      <a:pt x="374" y="344"/>
                    </a:lnTo>
                    <a:lnTo>
                      <a:pt x="378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1" y="342"/>
                    </a:lnTo>
                    <a:lnTo>
                      <a:pt x="393" y="339"/>
                    </a:lnTo>
                    <a:lnTo>
                      <a:pt x="394" y="334"/>
                    </a:lnTo>
                    <a:lnTo>
                      <a:pt x="393" y="329"/>
                    </a:lnTo>
                    <a:lnTo>
                      <a:pt x="382" y="3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786280" y="34182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452" h="332">
                    <a:moveTo>
                      <a:pt x="12" y="24"/>
                    </a:moveTo>
                    <a:lnTo>
                      <a:pt x="1" y="17"/>
                    </a:lnTo>
                    <a:lnTo>
                      <a:pt x="36" y="94"/>
                    </a:lnTo>
                    <a:lnTo>
                      <a:pt x="65" y="159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6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7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9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5"/>
                    </a:lnTo>
                    <a:lnTo>
                      <a:pt x="272" y="319"/>
                    </a:lnTo>
                    <a:lnTo>
                      <a:pt x="293" y="323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30"/>
                    </a:lnTo>
                    <a:lnTo>
                      <a:pt x="392" y="331"/>
                    </a:lnTo>
                    <a:lnTo>
                      <a:pt x="421" y="332"/>
                    </a:lnTo>
                    <a:lnTo>
                      <a:pt x="452" y="332"/>
                    </a:lnTo>
                    <a:lnTo>
                      <a:pt x="452" y="308"/>
                    </a:lnTo>
                    <a:lnTo>
                      <a:pt x="422" y="308"/>
                    </a:lnTo>
                    <a:lnTo>
                      <a:pt x="394" y="307"/>
                    </a:lnTo>
                    <a:lnTo>
                      <a:pt x="366" y="306"/>
                    </a:lnTo>
                    <a:lnTo>
                      <a:pt x="341" y="304"/>
                    </a:lnTo>
                    <a:lnTo>
                      <a:pt x="318" y="301"/>
                    </a:lnTo>
                    <a:lnTo>
                      <a:pt x="297" y="299"/>
                    </a:lnTo>
                    <a:lnTo>
                      <a:pt x="276" y="295"/>
                    </a:lnTo>
                    <a:lnTo>
                      <a:pt x="258" y="291"/>
                    </a:lnTo>
                    <a:lnTo>
                      <a:pt x="241" y="286"/>
                    </a:lnTo>
                    <a:lnTo>
                      <a:pt x="225" y="282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7"/>
                    </a:lnTo>
                    <a:lnTo>
                      <a:pt x="152" y="240"/>
                    </a:lnTo>
                    <a:lnTo>
                      <a:pt x="143" y="230"/>
                    </a:lnTo>
                    <a:lnTo>
                      <a:pt x="134" y="221"/>
                    </a:lnTo>
                    <a:lnTo>
                      <a:pt x="126" y="210"/>
                    </a:lnTo>
                    <a:lnTo>
                      <a:pt x="118" y="200"/>
                    </a:lnTo>
                    <a:lnTo>
                      <a:pt x="102" y="175"/>
                    </a:lnTo>
                    <a:lnTo>
                      <a:pt x="87" y="147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65680" y="341820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0" y="92"/>
                    </a:moveTo>
                    <a:lnTo>
                      <a:pt x="0" y="92"/>
                    </a:lnTo>
                    <a:lnTo>
                      <a:pt x="7" y="103"/>
                    </a:lnTo>
                    <a:lnTo>
                      <a:pt x="16" y="110"/>
                    </a:lnTo>
                    <a:lnTo>
                      <a:pt x="26" y="116"/>
                    </a:lnTo>
                    <a:lnTo>
                      <a:pt x="37" y="120"/>
                    </a:lnTo>
                    <a:lnTo>
                      <a:pt x="49" y="123"/>
                    </a:lnTo>
                    <a:lnTo>
                      <a:pt x="61" y="124"/>
                    </a:lnTo>
                    <a:lnTo>
                      <a:pt x="75" y="124"/>
                    </a:lnTo>
                    <a:lnTo>
                      <a:pt x="89" y="124"/>
                    </a:lnTo>
                    <a:lnTo>
                      <a:pt x="102" y="122"/>
                    </a:lnTo>
                    <a:lnTo>
                      <a:pt x="117" y="120"/>
                    </a:lnTo>
                    <a:lnTo>
                      <a:pt x="132" y="118"/>
                    </a:lnTo>
                    <a:lnTo>
                      <a:pt x="148" y="113"/>
                    </a:lnTo>
                    <a:lnTo>
                      <a:pt x="179" y="104"/>
                    </a:lnTo>
                    <a:lnTo>
                      <a:pt x="211" y="94"/>
                    </a:lnTo>
                    <a:lnTo>
                      <a:pt x="272" y="70"/>
                    </a:lnTo>
                    <a:lnTo>
                      <a:pt x="327" y="47"/>
                    </a:lnTo>
                    <a:lnTo>
                      <a:pt x="351" y="38"/>
                    </a:lnTo>
                    <a:lnTo>
                      <a:pt x="370" y="30"/>
                    </a:lnTo>
                    <a:lnTo>
                      <a:pt x="385" y="25"/>
                    </a:lnTo>
                    <a:lnTo>
                      <a:pt x="392" y="24"/>
                    </a:lnTo>
                    <a:lnTo>
                      <a:pt x="392" y="0"/>
                    </a:lnTo>
                    <a:lnTo>
                      <a:pt x="378" y="2"/>
                    </a:lnTo>
                    <a:lnTo>
                      <a:pt x="362" y="7"/>
                    </a:lnTo>
                    <a:lnTo>
                      <a:pt x="342" y="15"/>
                    </a:lnTo>
                    <a:lnTo>
                      <a:pt x="318" y="25"/>
                    </a:lnTo>
                    <a:lnTo>
                      <a:pt x="263" y="48"/>
                    </a:lnTo>
                    <a:lnTo>
                      <a:pt x="201" y="71"/>
                    </a:lnTo>
                    <a:lnTo>
                      <a:pt x="172" y="81"/>
                    </a:lnTo>
                    <a:lnTo>
                      <a:pt x="141" y="90"/>
                    </a:lnTo>
                    <a:lnTo>
                      <a:pt x="126" y="94"/>
                    </a:lnTo>
                    <a:lnTo>
                      <a:pt x="112" y="96"/>
                    </a:lnTo>
                    <a:lnTo>
                      <a:pt x="99" y="98"/>
                    </a:lnTo>
                    <a:lnTo>
                      <a:pt x="86" y="100"/>
                    </a:lnTo>
                    <a:lnTo>
                      <a:pt x="74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4" y="97"/>
                    </a:lnTo>
                    <a:lnTo>
                      <a:pt x="36" y="94"/>
                    </a:lnTo>
                    <a:lnTo>
                      <a:pt x="29" y="90"/>
                    </a:lnTo>
                    <a:lnTo>
                      <a:pt x="25" y="86"/>
                    </a:lnTo>
                    <a:lnTo>
                      <a:pt x="19" y="80"/>
                    </a:lnTo>
                    <a:lnTo>
                      <a:pt x="20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653080" y="3295800"/>
                <a:ext cx="98280" cy="15084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9"/>
                    </a:moveTo>
                    <a:lnTo>
                      <a:pt x="310" y="79"/>
                    </a:lnTo>
                    <a:lnTo>
                      <a:pt x="299" y="66"/>
                    </a:lnTo>
                    <a:lnTo>
                      <a:pt x="289" y="56"/>
                    </a:lnTo>
                    <a:lnTo>
                      <a:pt x="280" y="47"/>
                    </a:lnTo>
                    <a:lnTo>
                      <a:pt x="270" y="38"/>
                    </a:lnTo>
                    <a:lnTo>
                      <a:pt x="261" y="30"/>
                    </a:lnTo>
                    <a:lnTo>
                      <a:pt x="250" y="23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3" y="2"/>
                    </a:lnTo>
                    <a:lnTo>
                      <a:pt x="192" y="0"/>
                    </a:lnTo>
                    <a:lnTo>
                      <a:pt x="183" y="0"/>
                    </a:lnTo>
                    <a:lnTo>
                      <a:pt x="174" y="0"/>
                    </a:lnTo>
                    <a:lnTo>
                      <a:pt x="165" y="0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9" y="7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7" y="26"/>
                    </a:lnTo>
                    <a:lnTo>
                      <a:pt x="92" y="39"/>
                    </a:lnTo>
                    <a:lnTo>
                      <a:pt x="78" y="54"/>
                    </a:lnTo>
                    <a:lnTo>
                      <a:pt x="66" y="69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5" y="128"/>
                    </a:lnTo>
                    <a:lnTo>
                      <a:pt x="26" y="149"/>
                    </a:lnTo>
                    <a:lnTo>
                      <a:pt x="19" y="172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4" y="244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8"/>
                    </a:lnTo>
                    <a:lnTo>
                      <a:pt x="1" y="343"/>
                    </a:lnTo>
                    <a:lnTo>
                      <a:pt x="3" y="367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5"/>
                    </a:lnTo>
                    <a:lnTo>
                      <a:pt x="29" y="457"/>
                    </a:lnTo>
                    <a:lnTo>
                      <a:pt x="41" y="476"/>
                    </a:lnTo>
                    <a:lnTo>
                      <a:pt x="61" y="464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7"/>
                    </a:lnTo>
                    <a:lnTo>
                      <a:pt x="32" y="386"/>
                    </a:lnTo>
                    <a:lnTo>
                      <a:pt x="27" y="364"/>
                    </a:lnTo>
                    <a:lnTo>
                      <a:pt x="25" y="341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8" y="247"/>
                    </a:lnTo>
                    <a:lnTo>
                      <a:pt x="32" y="225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6" y="117"/>
                    </a:lnTo>
                    <a:lnTo>
                      <a:pt x="76" y="100"/>
                    </a:lnTo>
                    <a:lnTo>
                      <a:pt x="86" y="83"/>
                    </a:lnTo>
                    <a:lnTo>
                      <a:pt x="98" y="68"/>
                    </a:lnTo>
                    <a:lnTo>
                      <a:pt x="109" y="56"/>
                    </a:lnTo>
                    <a:lnTo>
                      <a:pt x="122" y="46"/>
                    </a:lnTo>
                    <a:lnTo>
                      <a:pt x="134" y="36"/>
                    </a:lnTo>
                    <a:lnTo>
                      <a:pt x="141" y="33"/>
                    </a:lnTo>
                    <a:lnTo>
                      <a:pt x="148" y="30"/>
                    </a:lnTo>
                    <a:lnTo>
                      <a:pt x="155" y="27"/>
                    </a:lnTo>
                    <a:lnTo>
                      <a:pt x="161" y="25"/>
                    </a:lnTo>
                    <a:lnTo>
                      <a:pt x="168" y="24"/>
                    </a:lnTo>
                    <a:lnTo>
                      <a:pt x="175" y="24"/>
                    </a:lnTo>
                    <a:lnTo>
                      <a:pt x="182" y="24"/>
                    </a:lnTo>
                    <a:lnTo>
                      <a:pt x="190" y="24"/>
                    </a:lnTo>
                    <a:lnTo>
                      <a:pt x="197" y="25"/>
                    </a:lnTo>
                    <a:lnTo>
                      <a:pt x="205" y="27"/>
                    </a:lnTo>
                    <a:lnTo>
                      <a:pt x="213" y="31"/>
                    </a:lnTo>
                    <a:lnTo>
                      <a:pt x="221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6" y="49"/>
                    </a:lnTo>
                    <a:lnTo>
                      <a:pt x="254" y="56"/>
                    </a:lnTo>
                    <a:lnTo>
                      <a:pt x="263" y="64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10" y="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45240" y="324504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2"/>
                    </a:moveTo>
                    <a:lnTo>
                      <a:pt x="158" y="0"/>
                    </a:lnTo>
                    <a:lnTo>
                      <a:pt x="142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2" y="5"/>
                    </a:lnTo>
                    <a:lnTo>
                      <a:pt x="90" y="8"/>
                    </a:lnTo>
                    <a:lnTo>
                      <a:pt x="79" y="12"/>
                    </a:lnTo>
                    <a:lnTo>
                      <a:pt x="69" y="16"/>
                    </a:lnTo>
                    <a:lnTo>
                      <a:pt x="60" y="21"/>
                    </a:lnTo>
                    <a:lnTo>
                      <a:pt x="50" y="27"/>
                    </a:lnTo>
                    <a:lnTo>
                      <a:pt x="44" y="32"/>
                    </a:lnTo>
                    <a:lnTo>
                      <a:pt x="37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3" y="78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9" y="168"/>
                    </a:lnTo>
                    <a:lnTo>
                      <a:pt x="13" y="186"/>
                    </a:lnTo>
                    <a:lnTo>
                      <a:pt x="17" y="204"/>
                    </a:lnTo>
                    <a:lnTo>
                      <a:pt x="22" y="221"/>
                    </a:lnTo>
                    <a:lnTo>
                      <a:pt x="44" y="281"/>
                    </a:lnTo>
                    <a:lnTo>
                      <a:pt x="56" y="314"/>
                    </a:lnTo>
                    <a:lnTo>
                      <a:pt x="56" y="312"/>
                    </a:lnTo>
                    <a:lnTo>
                      <a:pt x="56" y="308"/>
                    </a:lnTo>
                    <a:lnTo>
                      <a:pt x="66" y="300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20" y="239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2"/>
                    </a:lnTo>
                    <a:lnTo>
                      <a:pt x="55" y="318"/>
                    </a:lnTo>
                    <a:lnTo>
                      <a:pt x="60" y="322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2"/>
                    </a:lnTo>
                    <a:lnTo>
                      <a:pt x="45" y="214"/>
                    </a:lnTo>
                    <a:lnTo>
                      <a:pt x="40" y="198"/>
                    </a:lnTo>
                    <a:lnTo>
                      <a:pt x="36" y="182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30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6" y="86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5" y="68"/>
                    </a:lnTo>
                    <a:lnTo>
                      <a:pt x="49" y="62"/>
                    </a:lnTo>
                    <a:lnTo>
                      <a:pt x="54" y="56"/>
                    </a:lnTo>
                    <a:lnTo>
                      <a:pt x="58" y="52"/>
                    </a:lnTo>
                    <a:lnTo>
                      <a:pt x="65" y="47"/>
                    </a:lnTo>
                    <a:lnTo>
                      <a:pt x="72" y="43"/>
                    </a:lnTo>
                    <a:lnTo>
                      <a:pt x="79" y="38"/>
                    </a:lnTo>
                    <a:lnTo>
                      <a:pt x="87" y="35"/>
                    </a:lnTo>
                    <a:lnTo>
                      <a:pt x="97" y="31"/>
                    </a:lnTo>
                    <a:lnTo>
                      <a:pt x="106" y="29"/>
                    </a:lnTo>
                    <a:lnTo>
                      <a:pt x="118" y="27"/>
                    </a:lnTo>
                    <a:lnTo>
                      <a:pt x="130" y="25"/>
                    </a:lnTo>
                    <a:lnTo>
                      <a:pt x="143" y="24"/>
                    </a:lnTo>
                    <a:lnTo>
                      <a:pt x="158" y="24"/>
                    </a:lnTo>
                    <a:lnTo>
                      <a:pt x="145" y="12"/>
                    </a:lnTo>
                    <a:lnTo>
                      <a:pt x="158" y="24"/>
                    </a:lnTo>
                    <a:lnTo>
                      <a:pt x="162" y="23"/>
                    </a:lnTo>
                    <a:lnTo>
                      <a:pt x="167" y="21"/>
                    </a:lnTo>
                    <a:lnTo>
                      <a:pt x="169" y="16"/>
                    </a:lnTo>
                    <a:lnTo>
                      <a:pt x="169" y="12"/>
                    </a:lnTo>
                    <a:lnTo>
                      <a:pt x="169" y="7"/>
                    </a:lnTo>
                    <a:lnTo>
                      <a:pt x="167" y="4"/>
                    </a:lnTo>
                    <a:lnTo>
                      <a:pt x="162" y="0"/>
                    </a:lnTo>
                    <a:lnTo>
                      <a:pt x="158" y="0"/>
                    </a:lnTo>
                    <a:lnTo>
                      <a:pt x="169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767560" y="324828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7" h="379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4"/>
                    </a:lnTo>
                    <a:lnTo>
                      <a:pt x="47" y="333"/>
                    </a:lnTo>
                    <a:lnTo>
                      <a:pt x="57" y="311"/>
                    </a:lnTo>
                    <a:lnTo>
                      <a:pt x="66" y="289"/>
                    </a:lnTo>
                    <a:lnTo>
                      <a:pt x="73" y="266"/>
                    </a:lnTo>
                    <a:lnTo>
                      <a:pt x="79" y="244"/>
                    </a:lnTo>
                    <a:lnTo>
                      <a:pt x="84" y="220"/>
                    </a:lnTo>
                    <a:lnTo>
                      <a:pt x="88" y="197"/>
                    </a:lnTo>
                    <a:lnTo>
                      <a:pt x="91" y="172"/>
                    </a:lnTo>
                    <a:lnTo>
                      <a:pt x="94" y="148"/>
                    </a:lnTo>
                    <a:lnTo>
                      <a:pt x="95" y="124"/>
                    </a:lnTo>
                    <a:lnTo>
                      <a:pt x="96" y="99"/>
                    </a:lnTo>
                    <a:lnTo>
                      <a:pt x="97" y="50"/>
                    </a:lnTo>
                    <a:lnTo>
                      <a:pt x="97" y="0"/>
                    </a:lnTo>
                    <a:lnTo>
                      <a:pt x="73" y="0"/>
                    </a:lnTo>
                    <a:lnTo>
                      <a:pt x="73" y="49"/>
                    </a:lnTo>
                    <a:lnTo>
                      <a:pt x="72" y="98"/>
                    </a:lnTo>
                    <a:lnTo>
                      <a:pt x="71" y="122"/>
                    </a:lnTo>
                    <a:lnTo>
                      <a:pt x="70" y="146"/>
                    </a:lnTo>
                    <a:lnTo>
                      <a:pt x="67" y="170"/>
                    </a:lnTo>
                    <a:lnTo>
                      <a:pt x="64" y="192"/>
                    </a:lnTo>
                    <a:lnTo>
                      <a:pt x="60" y="215"/>
                    </a:lnTo>
                    <a:lnTo>
                      <a:pt x="56" y="238"/>
                    </a:lnTo>
                    <a:lnTo>
                      <a:pt x="50" y="260"/>
                    </a:lnTo>
                    <a:lnTo>
                      <a:pt x="43" y="281"/>
                    </a:lnTo>
                    <a:lnTo>
                      <a:pt x="35" y="302"/>
                    </a:lnTo>
                    <a:lnTo>
                      <a:pt x="25" y="322"/>
                    </a:lnTo>
                    <a:lnTo>
                      <a:pt x="15" y="342"/>
                    </a:lnTo>
                    <a:lnTo>
                      <a:pt x="2" y="360"/>
                    </a:lnTo>
                    <a:lnTo>
                      <a:pt x="17" y="378"/>
                    </a:lnTo>
                    <a:lnTo>
                      <a:pt x="2" y="360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2" y="374"/>
                    </a:lnTo>
                    <a:lnTo>
                      <a:pt x="6" y="377"/>
                    </a:lnTo>
                    <a:lnTo>
                      <a:pt x="9" y="379"/>
                    </a:lnTo>
                    <a:lnTo>
                      <a:pt x="14" y="379"/>
                    </a:lnTo>
                    <a:lnTo>
                      <a:pt x="18" y="378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068720" y="3316680"/>
                <a:ext cx="273240" cy="269640"/>
              </a:xfrm>
              <a:custGeom>
                <a:avLst/>
                <a:gdLst/>
                <a:ahLst/>
                <a:rect l="l" t="t" r="r" b="b"/>
                <a:pathLst>
                  <a:path w="862" h="851">
                    <a:moveTo>
                      <a:pt x="361" y="367"/>
                    </a:moveTo>
                    <a:lnTo>
                      <a:pt x="389" y="354"/>
                    </a:lnTo>
                    <a:lnTo>
                      <a:pt x="415" y="341"/>
                    </a:lnTo>
                    <a:lnTo>
                      <a:pt x="441" y="325"/>
                    </a:lnTo>
                    <a:lnTo>
                      <a:pt x="467" y="308"/>
                    </a:lnTo>
                    <a:lnTo>
                      <a:pt x="520" y="270"/>
                    </a:lnTo>
                    <a:lnTo>
                      <a:pt x="573" y="233"/>
                    </a:lnTo>
                    <a:lnTo>
                      <a:pt x="601" y="216"/>
                    </a:lnTo>
                    <a:lnTo>
                      <a:pt x="628" y="199"/>
                    </a:lnTo>
                    <a:lnTo>
                      <a:pt x="657" y="184"/>
                    </a:lnTo>
                    <a:lnTo>
                      <a:pt x="686" y="171"/>
                    </a:lnTo>
                    <a:lnTo>
                      <a:pt x="702" y="165"/>
                    </a:lnTo>
                    <a:lnTo>
                      <a:pt x="717" y="161"/>
                    </a:lnTo>
                    <a:lnTo>
                      <a:pt x="733" y="156"/>
                    </a:lnTo>
                    <a:lnTo>
                      <a:pt x="749" y="151"/>
                    </a:lnTo>
                    <a:lnTo>
                      <a:pt x="765" y="149"/>
                    </a:lnTo>
                    <a:lnTo>
                      <a:pt x="782" y="147"/>
                    </a:lnTo>
                    <a:lnTo>
                      <a:pt x="799" y="146"/>
                    </a:lnTo>
                    <a:lnTo>
                      <a:pt x="816" y="145"/>
                    </a:lnTo>
                    <a:lnTo>
                      <a:pt x="816" y="159"/>
                    </a:lnTo>
                    <a:lnTo>
                      <a:pt x="815" y="173"/>
                    </a:lnTo>
                    <a:lnTo>
                      <a:pt x="813" y="188"/>
                    </a:lnTo>
                    <a:lnTo>
                      <a:pt x="809" y="204"/>
                    </a:lnTo>
                    <a:lnTo>
                      <a:pt x="805" y="219"/>
                    </a:lnTo>
                    <a:lnTo>
                      <a:pt x="799" y="235"/>
                    </a:lnTo>
                    <a:lnTo>
                      <a:pt x="793" y="251"/>
                    </a:lnTo>
                    <a:lnTo>
                      <a:pt x="787" y="267"/>
                    </a:lnTo>
                    <a:lnTo>
                      <a:pt x="779" y="284"/>
                    </a:lnTo>
                    <a:lnTo>
                      <a:pt x="771" y="300"/>
                    </a:lnTo>
                    <a:lnTo>
                      <a:pt x="761" y="316"/>
                    </a:lnTo>
                    <a:lnTo>
                      <a:pt x="752" y="332"/>
                    </a:lnTo>
                    <a:lnTo>
                      <a:pt x="742" y="347"/>
                    </a:lnTo>
                    <a:lnTo>
                      <a:pt x="732" y="362"/>
                    </a:lnTo>
                    <a:lnTo>
                      <a:pt x="720" y="377"/>
                    </a:lnTo>
                    <a:lnTo>
                      <a:pt x="708" y="392"/>
                    </a:lnTo>
                    <a:lnTo>
                      <a:pt x="696" y="407"/>
                    </a:lnTo>
                    <a:lnTo>
                      <a:pt x="683" y="420"/>
                    </a:lnTo>
                    <a:lnTo>
                      <a:pt x="670" y="434"/>
                    </a:lnTo>
                    <a:lnTo>
                      <a:pt x="657" y="447"/>
                    </a:lnTo>
                    <a:lnTo>
                      <a:pt x="643" y="458"/>
                    </a:lnTo>
                    <a:lnTo>
                      <a:pt x="628" y="469"/>
                    </a:lnTo>
                    <a:lnTo>
                      <a:pt x="614" y="481"/>
                    </a:lnTo>
                    <a:lnTo>
                      <a:pt x="600" y="490"/>
                    </a:lnTo>
                    <a:lnTo>
                      <a:pt x="585" y="499"/>
                    </a:lnTo>
                    <a:lnTo>
                      <a:pt x="570" y="507"/>
                    </a:lnTo>
                    <a:lnTo>
                      <a:pt x="555" y="513"/>
                    </a:lnTo>
                    <a:lnTo>
                      <a:pt x="539" y="518"/>
                    </a:lnTo>
                    <a:lnTo>
                      <a:pt x="524" y="523"/>
                    </a:lnTo>
                    <a:lnTo>
                      <a:pt x="510" y="526"/>
                    </a:lnTo>
                    <a:lnTo>
                      <a:pt x="494" y="529"/>
                    </a:lnTo>
                    <a:lnTo>
                      <a:pt x="479" y="530"/>
                    </a:lnTo>
                    <a:lnTo>
                      <a:pt x="498" y="530"/>
                    </a:lnTo>
                    <a:lnTo>
                      <a:pt x="516" y="531"/>
                    </a:lnTo>
                    <a:lnTo>
                      <a:pt x="535" y="533"/>
                    </a:lnTo>
                    <a:lnTo>
                      <a:pt x="552" y="537"/>
                    </a:lnTo>
                    <a:lnTo>
                      <a:pt x="569" y="540"/>
                    </a:lnTo>
                    <a:lnTo>
                      <a:pt x="585" y="546"/>
                    </a:lnTo>
                    <a:lnTo>
                      <a:pt x="601" y="550"/>
                    </a:lnTo>
                    <a:lnTo>
                      <a:pt x="616" y="557"/>
                    </a:lnTo>
                    <a:lnTo>
                      <a:pt x="630" y="564"/>
                    </a:lnTo>
                    <a:lnTo>
                      <a:pt x="644" y="572"/>
                    </a:lnTo>
                    <a:lnTo>
                      <a:pt x="658" y="580"/>
                    </a:lnTo>
                    <a:lnTo>
                      <a:pt x="671" y="589"/>
                    </a:lnTo>
                    <a:lnTo>
                      <a:pt x="684" y="598"/>
                    </a:lnTo>
                    <a:lnTo>
                      <a:pt x="696" y="609"/>
                    </a:lnTo>
                    <a:lnTo>
                      <a:pt x="709" y="619"/>
                    </a:lnTo>
                    <a:lnTo>
                      <a:pt x="720" y="630"/>
                    </a:lnTo>
                    <a:lnTo>
                      <a:pt x="742" y="654"/>
                    </a:lnTo>
                    <a:lnTo>
                      <a:pt x="763" y="679"/>
                    </a:lnTo>
                    <a:lnTo>
                      <a:pt x="782" y="705"/>
                    </a:lnTo>
                    <a:lnTo>
                      <a:pt x="800" y="733"/>
                    </a:lnTo>
                    <a:lnTo>
                      <a:pt x="817" y="762"/>
                    </a:lnTo>
                    <a:lnTo>
                      <a:pt x="833" y="791"/>
                    </a:lnTo>
                    <a:lnTo>
                      <a:pt x="848" y="822"/>
                    </a:lnTo>
                    <a:lnTo>
                      <a:pt x="862" y="851"/>
                    </a:lnTo>
                    <a:lnTo>
                      <a:pt x="831" y="851"/>
                    </a:lnTo>
                    <a:lnTo>
                      <a:pt x="802" y="850"/>
                    </a:lnTo>
                    <a:lnTo>
                      <a:pt x="775" y="849"/>
                    </a:lnTo>
                    <a:lnTo>
                      <a:pt x="750" y="847"/>
                    </a:lnTo>
                    <a:lnTo>
                      <a:pt x="726" y="845"/>
                    </a:lnTo>
                    <a:lnTo>
                      <a:pt x="704" y="842"/>
                    </a:lnTo>
                    <a:lnTo>
                      <a:pt x="684" y="839"/>
                    </a:lnTo>
                    <a:lnTo>
                      <a:pt x="665" y="834"/>
                    </a:lnTo>
                    <a:lnTo>
                      <a:pt x="647" y="830"/>
                    </a:lnTo>
                    <a:lnTo>
                      <a:pt x="630" y="824"/>
                    </a:lnTo>
                    <a:lnTo>
                      <a:pt x="616" y="818"/>
                    </a:lnTo>
                    <a:lnTo>
                      <a:pt x="601" y="813"/>
                    </a:lnTo>
                    <a:lnTo>
                      <a:pt x="588" y="805"/>
                    </a:lnTo>
                    <a:lnTo>
                      <a:pt x="576" y="798"/>
                    </a:lnTo>
                    <a:lnTo>
                      <a:pt x="564" y="789"/>
                    </a:lnTo>
                    <a:lnTo>
                      <a:pt x="553" y="780"/>
                    </a:lnTo>
                    <a:lnTo>
                      <a:pt x="544" y="770"/>
                    </a:lnTo>
                    <a:lnTo>
                      <a:pt x="535" y="760"/>
                    </a:lnTo>
                    <a:lnTo>
                      <a:pt x="526" y="749"/>
                    </a:lnTo>
                    <a:lnTo>
                      <a:pt x="516" y="737"/>
                    </a:lnTo>
                    <a:lnTo>
                      <a:pt x="502" y="712"/>
                    </a:lnTo>
                    <a:lnTo>
                      <a:pt x="486" y="684"/>
                    </a:lnTo>
                    <a:lnTo>
                      <a:pt x="456" y="620"/>
                    </a:lnTo>
                    <a:lnTo>
                      <a:pt x="422" y="544"/>
                    </a:lnTo>
                    <a:lnTo>
                      <a:pt x="412" y="545"/>
                    </a:lnTo>
                    <a:lnTo>
                      <a:pt x="396" y="550"/>
                    </a:lnTo>
                    <a:lnTo>
                      <a:pt x="375" y="557"/>
                    </a:lnTo>
                    <a:lnTo>
                      <a:pt x="352" y="567"/>
                    </a:lnTo>
                    <a:lnTo>
                      <a:pt x="296" y="590"/>
                    </a:lnTo>
                    <a:lnTo>
                      <a:pt x="236" y="613"/>
                    </a:lnTo>
                    <a:lnTo>
                      <a:pt x="204" y="624"/>
                    </a:lnTo>
                    <a:lnTo>
                      <a:pt x="173" y="632"/>
                    </a:lnTo>
                    <a:lnTo>
                      <a:pt x="159" y="637"/>
                    </a:lnTo>
                    <a:lnTo>
                      <a:pt x="145" y="639"/>
                    </a:lnTo>
                    <a:lnTo>
                      <a:pt x="130" y="642"/>
                    </a:lnTo>
                    <a:lnTo>
                      <a:pt x="116" y="644"/>
                    </a:lnTo>
                    <a:lnTo>
                      <a:pt x="104" y="644"/>
                    </a:lnTo>
                    <a:lnTo>
                      <a:pt x="92" y="644"/>
                    </a:lnTo>
                    <a:lnTo>
                      <a:pt x="81" y="643"/>
                    </a:lnTo>
                    <a:lnTo>
                      <a:pt x="70" y="640"/>
                    </a:lnTo>
                    <a:lnTo>
                      <a:pt x="61" y="636"/>
                    </a:lnTo>
                    <a:lnTo>
                      <a:pt x="53" y="631"/>
                    </a:lnTo>
                    <a:lnTo>
                      <a:pt x="45" y="626"/>
                    </a:lnTo>
                    <a:lnTo>
                      <a:pt x="39" y="618"/>
                    </a:lnTo>
                    <a:lnTo>
                      <a:pt x="29" y="599"/>
                    </a:lnTo>
                    <a:lnTo>
                      <a:pt x="21" y="579"/>
                    </a:lnTo>
                    <a:lnTo>
                      <a:pt x="14" y="558"/>
                    </a:lnTo>
                    <a:lnTo>
                      <a:pt x="8" y="536"/>
                    </a:lnTo>
                    <a:lnTo>
                      <a:pt x="4" y="513"/>
                    </a:lnTo>
                    <a:lnTo>
                      <a:pt x="1" y="490"/>
                    </a:lnTo>
                    <a:lnTo>
                      <a:pt x="0" y="466"/>
                    </a:lnTo>
                    <a:lnTo>
                      <a:pt x="0" y="441"/>
                    </a:lnTo>
                    <a:lnTo>
                      <a:pt x="1" y="417"/>
                    </a:lnTo>
                    <a:lnTo>
                      <a:pt x="5" y="393"/>
                    </a:lnTo>
                    <a:lnTo>
                      <a:pt x="8" y="369"/>
                    </a:lnTo>
                    <a:lnTo>
                      <a:pt x="13" y="346"/>
                    </a:lnTo>
                    <a:lnTo>
                      <a:pt x="20" y="322"/>
                    </a:lnTo>
                    <a:lnTo>
                      <a:pt x="26" y="301"/>
                    </a:lnTo>
                    <a:lnTo>
                      <a:pt x="34" y="280"/>
                    </a:lnTo>
                    <a:lnTo>
                      <a:pt x="43" y="260"/>
                    </a:lnTo>
                    <a:lnTo>
                      <a:pt x="54" y="241"/>
                    </a:lnTo>
                    <a:lnTo>
                      <a:pt x="65" y="224"/>
                    </a:lnTo>
                    <a:lnTo>
                      <a:pt x="76" y="208"/>
                    </a:lnTo>
                    <a:lnTo>
                      <a:pt x="89" y="195"/>
                    </a:lnTo>
                    <a:lnTo>
                      <a:pt x="103" y="183"/>
                    </a:lnTo>
                    <a:lnTo>
                      <a:pt x="116" y="173"/>
                    </a:lnTo>
                    <a:lnTo>
                      <a:pt x="131" y="166"/>
                    </a:lnTo>
                    <a:lnTo>
                      <a:pt x="147" y="161"/>
                    </a:lnTo>
                    <a:lnTo>
                      <a:pt x="163" y="159"/>
                    </a:lnTo>
                    <a:lnTo>
                      <a:pt x="179" y="159"/>
                    </a:lnTo>
                    <a:lnTo>
                      <a:pt x="196" y="163"/>
                    </a:lnTo>
                    <a:lnTo>
                      <a:pt x="214" y="170"/>
                    </a:lnTo>
                    <a:lnTo>
                      <a:pt x="233" y="181"/>
                    </a:lnTo>
                    <a:lnTo>
                      <a:pt x="251" y="195"/>
                    </a:lnTo>
                    <a:lnTo>
                      <a:pt x="269" y="212"/>
                    </a:lnTo>
                    <a:lnTo>
                      <a:pt x="288" y="233"/>
                    </a:lnTo>
                    <a:lnTo>
                      <a:pt x="318" y="270"/>
                    </a:lnTo>
                    <a:lnTo>
                      <a:pt x="336" y="292"/>
                    </a:lnTo>
                    <a:lnTo>
                      <a:pt x="342" y="297"/>
                    </a:lnTo>
                    <a:lnTo>
                      <a:pt x="345" y="300"/>
                    </a:lnTo>
                    <a:lnTo>
                      <a:pt x="347" y="300"/>
                    </a:lnTo>
                    <a:lnTo>
                      <a:pt x="347" y="297"/>
                    </a:lnTo>
                    <a:lnTo>
                      <a:pt x="333" y="263"/>
                    </a:lnTo>
                    <a:lnTo>
                      <a:pt x="312" y="205"/>
                    </a:lnTo>
                    <a:lnTo>
                      <a:pt x="307" y="188"/>
                    </a:lnTo>
                    <a:lnTo>
                      <a:pt x="303" y="171"/>
                    </a:lnTo>
                    <a:lnTo>
                      <a:pt x="300" y="154"/>
                    </a:lnTo>
                    <a:lnTo>
                      <a:pt x="296" y="135"/>
                    </a:lnTo>
                    <a:lnTo>
                      <a:pt x="296" y="118"/>
                    </a:lnTo>
                    <a:lnTo>
                      <a:pt x="296" y="101"/>
                    </a:lnTo>
                    <a:lnTo>
                      <a:pt x="299" y="85"/>
                    </a:lnTo>
                    <a:lnTo>
                      <a:pt x="303" y="69"/>
                    </a:lnTo>
                    <a:lnTo>
                      <a:pt x="309" y="54"/>
                    </a:lnTo>
                    <a:lnTo>
                      <a:pt x="318" y="41"/>
                    </a:lnTo>
                    <a:lnTo>
                      <a:pt x="329" y="29"/>
                    </a:lnTo>
                    <a:lnTo>
                      <a:pt x="344" y="19"/>
                    </a:lnTo>
                    <a:lnTo>
                      <a:pt x="361" y="11"/>
                    </a:lnTo>
                    <a:lnTo>
                      <a:pt x="383" y="4"/>
                    </a:lnTo>
                    <a:lnTo>
                      <a:pt x="407" y="1"/>
                    </a:lnTo>
                    <a:lnTo>
                      <a:pt x="435" y="0"/>
                    </a:lnTo>
                    <a:lnTo>
                      <a:pt x="435" y="49"/>
                    </a:lnTo>
                    <a:lnTo>
                      <a:pt x="434" y="98"/>
                    </a:lnTo>
                    <a:lnTo>
                      <a:pt x="433" y="122"/>
                    </a:lnTo>
                    <a:lnTo>
                      <a:pt x="432" y="147"/>
                    </a:lnTo>
                    <a:lnTo>
                      <a:pt x="430" y="171"/>
                    </a:lnTo>
                    <a:lnTo>
                      <a:pt x="426" y="194"/>
                    </a:lnTo>
                    <a:lnTo>
                      <a:pt x="423" y="218"/>
                    </a:lnTo>
                    <a:lnTo>
                      <a:pt x="417" y="240"/>
                    </a:lnTo>
                    <a:lnTo>
                      <a:pt x="412" y="263"/>
                    </a:lnTo>
                    <a:lnTo>
                      <a:pt x="405" y="285"/>
                    </a:lnTo>
                    <a:lnTo>
                      <a:pt x="396" y="306"/>
                    </a:lnTo>
                    <a:lnTo>
                      <a:pt x="385" y="327"/>
                    </a:lnTo>
                    <a:lnTo>
                      <a:pt x="374" y="347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181400" y="335772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2" h="245">
                    <a:moveTo>
                      <a:pt x="472" y="12"/>
                    </a:moveTo>
                    <a:lnTo>
                      <a:pt x="459" y="0"/>
                    </a:lnTo>
                    <a:lnTo>
                      <a:pt x="442" y="0"/>
                    </a:lnTo>
                    <a:lnTo>
                      <a:pt x="424" y="1"/>
                    </a:lnTo>
                    <a:lnTo>
                      <a:pt x="407" y="4"/>
                    </a:lnTo>
                    <a:lnTo>
                      <a:pt x="390" y="7"/>
                    </a:lnTo>
                    <a:lnTo>
                      <a:pt x="373" y="12"/>
                    </a:lnTo>
                    <a:lnTo>
                      <a:pt x="357" y="16"/>
                    </a:lnTo>
                    <a:lnTo>
                      <a:pt x="341" y="21"/>
                    </a:lnTo>
                    <a:lnTo>
                      <a:pt x="325" y="28"/>
                    </a:lnTo>
                    <a:lnTo>
                      <a:pt x="295" y="40"/>
                    </a:lnTo>
                    <a:lnTo>
                      <a:pt x="265" y="56"/>
                    </a:lnTo>
                    <a:lnTo>
                      <a:pt x="237" y="73"/>
                    </a:lnTo>
                    <a:lnTo>
                      <a:pt x="210" y="90"/>
                    </a:lnTo>
                    <a:lnTo>
                      <a:pt x="156" y="128"/>
                    </a:lnTo>
                    <a:lnTo>
                      <a:pt x="104" y="164"/>
                    </a:lnTo>
                    <a:lnTo>
                      <a:pt x="78" y="181"/>
                    </a:lnTo>
                    <a:lnTo>
                      <a:pt x="52" y="196"/>
                    </a:lnTo>
                    <a:lnTo>
                      <a:pt x="26" y="210"/>
                    </a:lnTo>
                    <a:lnTo>
                      <a:pt x="0" y="222"/>
                    </a:lnTo>
                    <a:lnTo>
                      <a:pt x="9" y="245"/>
                    </a:lnTo>
                    <a:lnTo>
                      <a:pt x="36" y="233"/>
                    </a:lnTo>
                    <a:lnTo>
                      <a:pt x="65" y="218"/>
                    </a:lnTo>
                    <a:lnTo>
                      <a:pt x="91" y="202"/>
                    </a:lnTo>
                    <a:lnTo>
                      <a:pt x="117" y="184"/>
                    </a:lnTo>
                    <a:lnTo>
                      <a:pt x="170" y="147"/>
                    </a:lnTo>
                    <a:lnTo>
                      <a:pt x="223" y="111"/>
                    </a:lnTo>
                    <a:lnTo>
                      <a:pt x="249" y="94"/>
                    </a:lnTo>
                    <a:lnTo>
                      <a:pt x="277" y="77"/>
                    </a:lnTo>
                    <a:lnTo>
                      <a:pt x="305" y="63"/>
                    </a:lnTo>
                    <a:lnTo>
                      <a:pt x="334" y="49"/>
                    </a:lnTo>
                    <a:lnTo>
                      <a:pt x="349" y="43"/>
                    </a:lnTo>
                    <a:lnTo>
                      <a:pt x="363" y="39"/>
                    </a:lnTo>
                    <a:lnTo>
                      <a:pt x="379" y="34"/>
                    </a:lnTo>
                    <a:lnTo>
                      <a:pt x="394" y="31"/>
                    </a:lnTo>
                    <a:lnTo>
                      <a:pt x="410" y="28"/>
                    </a:lnTo>
                    <a:lnTo>
                      <a:pt x="426" y="25"/>
                    </a:lnTo>
                    <a:lnTo>
                      <a:pt x="443" y="24"/>
                    </a:lnTo>
                    <a:lnTo>
                      <a:pt x="459" y="24"/>
                    </a:lnTo>
                    <a:lnTo>
                      <a:pt x="448" y="12"/>
                    </a:lnTo>
                    <a:lnTo>
                      <a:pt x="459" y="24"/>
                    </a:lnTo>
                    <a:lnTo>
                      <a:pt x="465" y="23"/>
                    </a:lnTo>
                    <a:lnTo>
                      <a:pt x="468" y="21"/>
                    </a:lnTo>
                    <a:lnTo>
                      <a:pt x="471" y="16"/>
                    </a:lnTo>
                    <a:lnTo>
                      <a:pt x="472" y="12"/>
                    </a:lnTo>
                    <a:lnTo>
                      <a:pt x="471" y="7"/>
                    </a:lnTo>
                    <a:lnTo>
                      <a:pt x="468" y="4"/>
                    </a:lnTo>
                    <a:lnTo>
                      <a:pt x="465" y="1"/>
                    </a:lnTo>
                    <a:lnTo>
                      <a:pt x="459" y="0"/>
                    </a:lnTo>
                    <a:lnTo>
                      <a:pt x="472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216320" y="336276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2" h="396">
                    <a:moveTo>
                      <a:pt x="12" y="372"/>
                    </a:moveTo>
                    <a:lnTo>
                      <a:pt x="12" y="396"/>
                    </a:lnTo>
                    <a:lnTo>
                      <a:pt x="28" y="396"/>
                    </a:lnTo>
                    <a:lnTo>
                      <a:pt x="45" y="394"/>
                    </a:lnTo>
                    <a:lnTo>
                      <a:pt x="61" y="391"/>
                    </a:lnTo>
                    <a:lnTo>
                      <a:pt x="77" y="385"/>
                    </a:lnTo>
                    <a:lnTo>
                      <a:pt x="93" y="379"/>
                    </a:lnTo>
                    <a:lnTo>
                      <a:pt x="109" y="372"/>
                    </a:lnTo>
                    <a:lnTo>
                      <a:pt x="123" y="364"/>
                    </a:lnTo>
                    <a:lnTo>
                      <a:pt x="139" y="355"/>
                    </a:lnTo>
                    <a:lnTo>
                      <a:pt x="154" y="345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8" y="311"/>
                    </a:lnTo>
                    <a:lnTo>
                      <a:pt x="211" y="297"/>
                    </a:lnTo>
                    <a:lnTo>
                      <a:pt x="225" y="283"/>
                    </a:lnTo>
                    <a:lnTo>
                      <a:pt x="237" y="270"/>
                    </a:lnTo>
                    <a:lnTo>
                      <a:pt x="250" y="255"/>
                    </a:lnTo>
                    <a:lnTo>
                      <a:pt x="263" y="240"/>
                    </a:lnTo>
                    <a:lnTo>
                      <a:pt x="274" y="224"/>
                    </a:lnTo>
                    <a:lnTo>
                      <a:pt x="285" y="208"/>
                    </a:lnTo>
                    <a:lnTo>
                      <a:pt x="296" y="192"/>
                    </a:lnTo>
                    <a:lnTo>
                      <a:pt x="306" y="176"/>
                    </a:lnTo>
                    <a:lnTo>
                      <a:pt x="315" y="160"/>
                    </a:lnTo>
                    <a:lnTo>
                      <a:pt x="323" y="143"/>
                    </a:lnTo>
                    <a:lnTo>
                      <a:pt x="331" y="127"/>
                    </a:lnTo>
                    <a:lnTo>
                      <a:pt x="338" y="110"/>
                    </a:lnTo>
                    <a:lnTo>
                      <a:pt x="343" y="94"/>
                    </a:lnTo>
                    <a:lnTo>
                      <a:pt x="349" y="78"/>
                    </a:lnTo>
                    <a:lnTo>
                      <a:pt x="354" y="61"/>
                    </a:lnTo>
                    <a:lnTo>
                      <a:pt x="357" y="45"/>
                    </a:lnTo>
                    <a:lnTo>
                      <a:pt x="359" y="30"/>
                    </a:lnTo>
                    <a:lnTo>
                      <a:pt x="362" y="14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37" y="13"/>
                    </a:lnTo>
                    <a:lnTo>
                      <a:pt x="335" y="27"/>
                    </a:lnTo>
                    <a:lnTo>
                      <a:pt x="333" y="41"/>
                    </a:lnTo>
                    <a:lnTo>
                      <a:pt x="330" y="55"/>
                    </a:lnTo>
                    <a:lnTo>
                      <a:pt x="326" y="70"/>
                    </a:lnTo>
                    <a:lnTo>
                      <a:pt x="321" y="86"/>
                    </a:lnTo>
                    <a:lnTo>
                      <a:pt x="315" y="101"/>
                    </a:lnTo>
                    <a:lnTo>
                      <a:pt x="308" y="117"/>
                    </a:lnTo>
                    <a:lnTo>
                      <a:pt x="301" y="133"/>
                    </a:lnTo>
                    <a:lnTo>
                      <a:pt x="293" y="149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5" y="196"/>
                    </a:lnTo>
                    <a:lnTo>
                      <a:pt x="255" y="210"/>
                    </a:lnTo>
                    <a:lnTo>
                      <a:pt x="243" y="225"/>
                    </a:lnTo>
                    <a:lnTo>
                      <a:pt x="232" y="240"/>
                    </a:lnTo>
                    <a:lnTo>
                      <a:pt x="220" y="254"/>
                    </a:lnTo>
                    <a:lnTo>
                      <a:pt x="208" y="267"/>
                    </a:lnTo>
                    <a:lnTo>
                      <a:pt x="194" y="280"/>
                    </a:lnTo>
                    <a:lnTo>
                      <a:pt x="182" y="293"/>
                    </a:lnTo>
                    <a:lnTo>
                      <a:pt x="168" y="304"/>
                    </a:lnTo>
                    <a:lnTo>
                      <a:pt x="154" y="315"/>
                    </a:lnTo>
                    <a:lnTo>
                      <a:pt x="141" y="326"/>
                    </a:lnTo>
                    <a:lnTo>
                      <a:pt x="126" y="335"/>
                    </a:lnTo>
                    <a:lnTo>
                      <a:pt x="112" y="343"/>
                    </a:lnTo>
                    <a:lnTo>
                      <a:pt x="97" y="351"/>
                    </a:lnTo>
                    <a:lnTo>
                      <a:pt x="84" y="358"/>
                    </a:lnTo>
                    <a:lnTo>
                      <a:pt x="69" y="362"/>
                    </a:lnTo>
                    <a:lnTo>
                      <a:pt x="54" y="367"/>
                    </a:lnTo>
                    <a:lnTo>
                      <a:pt x="40" y="370"/>
                    </a:lnTo>
                    <a:lnTo>
                      <a:pt x="27" y="371"/>
                    </a:lnTo>
                    <a:lnTo>
                      <a:pt x="12" y="372"/>
                    </a:lnTo>
                    <a:lnTo>
                      <a:pt x="12" y="396"/>
                    </a:lnTo>
                    <a:lnTo>
                      <a:pt x="12" y="372"/>
                    </a:lnTo>
                    <a:lnTo>
                      <a:pt x="6" y="373"/>
                    </a:lnTo>
                    <a:lnTo>
                      <a:pt x="3" y="376"/>
                    </a:lnTo>
                    <a:lnTo>
                      <a:pt x="0" y="380"/>
                    </a:lnTo>
                    <a:lnTo>
                      <a:pt x="0" y="385"/>
                    </a:lnTo>
                    <a:lnTo>
                      <a:pt x="0" y="388"/>
                    </a:lnTo>
                    <a:lnTo>
                      <a:pt x="3" y="393"/>
                    </a:lnTo>
                    <a:lnTo>
                      <a:pt x="6" y="395"/>
                    </a:lnTo>
                    <a:lnTo>
                      <a:pt x="12" y="396"/>
                    </a:lnTo>
                    <a:lnTo>
                      <a:pt x="12" y="3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219560" y="348012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5" h="347">
                    <a:moveTo>
                      <a:pt x="383" y="347"/>
                    </a:moveTo>
                    <a:lnTo>
                      <a:pt x="394" y="330"/>
                    </a:lnTo>
                    <a:lnTo>
                      <a:pt x="379" y="299"/>
                    </a:lnTo>
                    <a:lnTo>
                      <a:pt x="364" y="269"/>
                    </a:lnTo>
                    <a:lnTo>
                      <a:pt x="349" y="239"/>
                    </a:lnTo>
                    <a:lnTo>
                      <a:pt x="331" y="210"/>
                    </a:lnTo>
                    <a:lnTo>
                      <a:pt x="313" y="182"/>
                    </a:lnTo>
                    <a:lnTo>
                      <a:pt x="294" y="154"/>
                    </a:lnTo>
                    <a:lnTo>
                      <a:pt x="272" y="129"/>
                    </a:lnTo>
                    <a:lnTo>
                      <a:pt x="251" y="104"/>
                    </a:lnTo>
                    <a:lnTo>
                      <a:pt x="238" y="93"/>
                    </a:lnTo>
                    <a:lnTo>
                      <a:pt x="225" y="82"/>
                    </a:lnTo>
                    <a:lnTo>
                      <a:pt x="213" y="72"/>
                    </a:lnTo>
                    <a:lnTo>
                      <a:pt x="199" y="62"/>
                    </a:lnTo>
                    <a:lnTo>
                      <a:pt x="186" y="53"/>
                    </a:lnTo>
                    <a:lnTo>
                      <a:pt x="172" y="44"/>
                    </a:lnTo>
                    <a:lnTo>
                      <a:pt x="157" y="36"/>
                    </a:lnTo>
                    <a:lnTo>
                      <a:pt x="141" y="29"/>
                    </a:lnTo>
                    <a:lnTo>
                      <a:pt x="125" y="22"/>
                    </a:lnTo>
                    <a:lnTo>
                      <a:pt x="109" y="16"/>
                    </a:lnTo>
                    <a:lnTo>
                      <a:pt x="92" y="12"/>
                    </a:lnTo>
                    <a:lnTo>
                      <a:pt x="75" y="8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25"/>
                    </a:lnTo>
                    <a:lnTo>
                      <a:pt x="36" y="27"/>
                    </a:lnTo>
                    <a:lnTo>
                      <a:pt x="53" y="29"/>
                    </a:lnTo>
                    <a:lnTo>
                      <a:pt x="70" y="31"/>
                    </a:lnTo>
                    <a:lnTo>
                      <a:pt x="86" y="36"/>
                    </a:lnTo>
                    <a:lnTo>
                      <a:pt x="102" y="40"/>
                    </a:lnTo>
                    <a:lnTo>
                      <a:pt x="117" y="45"/>
                    </a:lnTo>
                    <a:lnTo>
                      <a:pt x="132" y="52"/>
                    </a:lnTo>
                    <a:lnTo>
                      <a:pt x="146" y="57"/>
                    </a:lnTo>
                    <a:lnTo>
                      <a:pt x="159" y="65"/>
                    </a:lnTo>
                    <a:lnTo>
                      <a:pt x="173" y="73"/>
                    </a:lnTo>
                    <a:lnTo>
                      <a:pt x="186" y="81"/>
                    </a:lnTo>
                    <a:lnTo>
                      <a:pt x="198" y="90"/>
                    </a:lnTo>
                    <a:lnTo>
                      <a:pt x="209" y="101"/>
                    </a:lnTo>
                    <a:lnTo>
                      <a:pt x="222" y="111"/>
                    </a:lnTo>
                    <a:lnTo>
                      <a:pt x="232" y="121"/>
                    </a:lnTo>
                    <a:lnTo>
                      <a:pt x="254" y="145"/>
                    </a:lnTo>
                    <a:lnTo>
                      <a:pt x="274" y="169"/>
                    </a:lnTo>
                    <a:lnTo>
                      <a:pt x="293" y="195"/>
                    </a:lnTo>
                    <a:lnTo>
                      <a:pt x="311" y="223"/>
                    </a:lnTo>
                    <a:lnTo>
                      <a:pt x="327" y="251"/>
                    </a:lnTo>
                    <a:lnTo>
                      <a:pt x="343" y="280"/>
                    </a:lnTo>
                    <a:lnTo>
                      <a:pt x="358" y="309"/>
                    </a:lnTo>
                    <a:lnTo>
                      <a:pt x="371" y="340"/>
                    </a:lnTo>
                    <a:lnTo>
                      <a:pt x="383" y="323"/>
                    </a:lnTo>
                    <a:lnTo>
                      <a:pt x="371" y="340"/>
                    </a:lnTo>
                    <a:lnTo>
                      <a:pt x="375" y="343"/>
                    </a:lnTo>
                    <a:lnTo>
                      <a:pt x="379" y="346"/>
                    </a:lnTo>
                    <a:lnTo>
                      <a:pt x="383" y="347"/>
                    </a:lnTo>
                    <a:lnTo>
                      <a:pt x="387" y="346"/>
                    </a:lnTo>
                    <a:lnTo>
                      <a:pt x="392" y="343"/>
                    </a:lnTo>
                    <a:lnTo>
                      <a:pt x="394" y="339"/>
                    </a:lnTo>
                    <a:lnTo>
                      <a:pt x="395" y="334"/>
                    </a:lnTo>
                    <a:lnTo>
                      <a:pt x="394" y="330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197240" y="3484800"/>
                <a:ext cx="144720" cy="104760"/>
              </a:xfrm>
              <a:custGeom>
                <a:avLst/>
                <a:gdLst/>
                <a:ahLst/>
                <a:rect l="l" t="t" r="r" b="b"/>
                <a:pathLst>
                  <a:path w="453" h="333">
                    <a:moveTo>
                      <a:pt x="13" y="24"/>
                    </a:moveTo>
                    <a:lnTo>
                      <a:pt x="1" y="17"/>
                    </a:lnTo>
                    <a:lnTo>
                      <a:pt x="37" y="93"/>
                    </a:lnTo>
                    <a:lnTo>
                      <a:pt x="66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6"/>
                    </a:lnTo>
                    <a:lnTo>
                      <a:pt x="115" y="237"/>
                    </a:lnTo>
                    <a:lnTo>
                      <a:pt x="126" y="247"/>
                    </a:lnTo>
                    <a:lnTo>
                      <a:pt x="136" y="258"/>
                    </a:lnTo>
                    <a:lnTo>
                      <a:pt x="147" y="268"/>
                    </a:lnTo>
                    <a:lnTo>
                      <a:pt x="160" y="276"/>
                    </a:lnTo>
                    <a:lnTo>
                      <a:pt x="172" y="284"/>
                    </a:lnTo>
                    <a:lnTo>
                      <a:pt x="187" y="292"/>
                    </a:lnTo>
                    <a:lnTo>
                      <a:pt x="202" y="299"/>
                    </a:lnTo>
                    <a:lnTo>
                      <a:pt x="218" y="304"/>
                    </a:lnTo>
                    <a:lnTo>
                      <a:pt x="235" y="310"/>
                    </a:lnTo>
                    <a:lnTo>
                      <a:pt x="253" y="315"/>
                    </a:lnTo>
                    <a:lnTo>
                      <a:pt x="273" y="319"/>
                    </a:lnTo>
                    <a:lnTo>
                      <a:pt x="293" y="323"/>
                    </a:lnTo>
                    <a:lnTo>
                      <a:pt x="316" y="326"/>
                    </a:lnTo>
                    <a:lnTo>
                      <a:pt x="340" y="328"/>
                    </a:lnTo>
                    <a:lnTo>
                      <a:pt x="365" y="331"/>
                    </a:lnTo>
                    <a:lnTo>
                      <a:pt x="392" y="332"/>
                    </a:lnTo>
                    <a:lnTo>
                      <a:pt x="422" y="333"/>
                    </a:lnTo>
                    <a:lnTo>
                      <a:pt x="453" y="333"/>
                    </a:lnTo>
                    <a:lnTo>
                      <a:pt x="453" y="309"/>
                    </a:lnTo>
                    <a:lnTo>
                      <a:pt x="422" y="308"/>
                    </a:lnTo>
                    <a:lnTo>
                      <a:pt x="393" y="308"/>
                    </a:lnTo>
                    <a:lnTo>
                      <a:pt x="367" y="307"/>
                    </a:lnTo>
                    <a:lnTo>
                      <a:pt x="342" y="304"/>
                    </a:lnTo>
                    <a:lnTo>
                      <a:pt x="318" y="302"/>
                    </a:lnTo>
                    <a:lnTo>
                      <a:pt x="298" y="299"/>
                    </a:lnTo>
                    <a:lnTo>
                      <a:pt x="277" y="295"/>
                    </a:lnTo>
                    <a:lnTo>
                      <a:pt x="259" y="292"/>
                    </a:lnTo>
                    <a:lnTo>
                      <a:pt x="242" y="287"/>
                    </a:lnTo>
                    <a:lnTo>
                      <a:pt x="226" y="282"/>
                    </a:lnTo>
                    <a:lnTo>
                      <a:pt x="211" y="276"/>
                    </a:lnTo>
                    <a:lnTo>
                      <a:pt x="197" y="270"/>
                    </a:lnTo>
                    <a:lnTo>
                      <a:pt x="185" y="263"/>
                    </a:lnTo>
                    <a:lnTo>
                      <a:pt x="174" y="257"/>
                    </a:lnTo>
                    <a:lnTo>
                      <a:pt x="162" y="249"/>
                    </a:lnTo>
                    <a:lnTo>
                      <a:pt x="153" y="239"/>
                    </a:lnTo>
                    <a:lnTo>
                      <a:pt x="143" y="231"/>
                    </a:lnTo>
                    <a:lnTo>
                      <a:pt x="135" y="221"/>
                    </a:lnTo>
                    <a:lnTo>
                      <a:pt x="126" y="211"/>
                    </a:lnTo>
                    <a:lnTo>
                      <a:pt x="118" y="200"/>
                    </a:lnTo>
                    <a:lnTo>
                      <a:pt x="103" y="176"/>
                    </a:lnTo>
                    <a:lnTo>
                      <a:pt x="88" y="148"/>
                    </a:lnTo>
                    <a:lnTo>
                      <a:pt x="58" y="83"/>
                    </a:lnTo>
                    <a:lnTo>
                      <a:pt x="24" y="7"/>
                    </a:lnTo>
                    <a:lnTo>
                      <a:pt x="13" y="0"/>
                    </a:lnTo>
                    <a:lnTo>
                      <a:pt x="24" y="7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076640" y="3484800"/>
                <a:ext cx="12564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3"/>
                    </a:moveTo>
                    <a:lnTo>
                      <a:pt x="0" y="93"/>
                    </a:lnTo>
                    <a:lnTo>
                      <a:pt x="8" y="103"/>
                    </a:lnTo>
                    <a:lnTo>
                      <a:pt x="17" y="111"/>
                    </a:lnTo>
                    <a:lnTo>
                      <a:pt x="27" y="116"/>
                    </a:lnTo>
                    <a:lnTo>
                      <a:pt x="37" y="121"/>
                    </a:lnTo>
                    <a:lnTo>
                      <a:pt x="50" y="123"/>
                    </a:lnTo>
                    <a:lnTo>
                      <a:pt x="62" y="124"/>
                    </a:lnTo>
                    <a:lnTo>
                      <a:pt x="75" y="125"/>
                    </a:lnTo>
                    <a:lnTo>
                      <a:pt x="89" y="124"/>
                    </a:lnTo>
                    <a:lnTo>
                      <a:pt x="103" y="123"/>
                    </a:lnTo>
                    <a:lnTo>
                      <a:pt x="118" y="121"/>
                    </a:lnTo>
                    <a:lnTo>
                      <a:pt x="133" y="117"/>
                    </a:lnTo>
                    <a:lnTo>
                      <a:pt x="148" y="114"/>
                    </a:lnTo>
                    <a:lnTo>
                      <a:pt x="179" y="105"/>
                    </a:lnTo>
                    <a:lnTo>
                      <a:pt x="210" y="93"/>
                    </a:lnTo>
                    <a:lnTo>
                      <a:pt x="272" y="71"/>
                    </a:lnTo>
                    <a:lnTo>
                      <a:pt x="328" y="48"/>
                    </a:lnTo>
                    <a:lnTo>
                      <a:pt x="351" y="38"/>
                    </a:lnTo>
                    <a:lnTo>
                      <a:pt x="370" y="31"/>
                    </a:lnTo>
                    <a:lnTo>
                      <a:pt x="385" y="26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79" y="2"/>
                    </a:lnTo>
                    <a:lnTo>
                      <a:pt x="362" y="8"/>
                    </a:lnTo>
                    <a:lnTo>
                      <a:pt x="342" y="16"/>
                    </a:lnTo>
                    <a:lnTo>
                      <a:pt x="319" y="25"/>
                    </a:lnTo>
                    <a:lnTo>
                      <a:pt x="263" y="48"/>
                    </a:lnTo>
                    <a:lnTo>
                      <a:pt x="202" y="71"/>
                    </a:lnTo>
                    <a:lnTo>
                      <a:pt x="172" y="82"/>
                    </a:lnTo>
                    <a:lnTo>
                      <a:pt x="142" y="90"/>
                    </a:lnTo>
                    <a:lnTo>
                      <a:pt x="127" y="93"/>
                    </a:lnTo>
                    <a:lnTo>
                      <a:pt x="114" y="97"/>
                    </a:lnTo>
                    <a:lnTo>
                      <a:pt x="100" y="99"/>
                    </a:lnTo>
                    <a:lnTo>
                      <a:pt x="87" y="100"/>
                    </a:lnTo>
                    <a:lnTo>
                      <a:pt x="75" y="100"/>
                    </a:lnTo>
                    <a:lnTo>
                      <a:pt x="63" y="100"/>
                    </a:lnTo>
                    <a:lnTo>
                      <a:pt x="53" y="99"/>
                    </a:lnTo>
                    <a:lnTo>
                      <a:pt x="45" y="97"/>
                    </a:lnTo>
                    <a:lnTo>
                      <a:pt x="37" y="95"/>
                    </a:lnTo>
                    <a:lnTo>
                      <a:pt x="30" y="90"/>
                    </a:lnTo>
                    <a:lnTo>
                      <a:pt x="25" y="86"/>
                    </a:lnTo>
                    <a:lnTo>
                      <a:pt x="20" y="80"/>
                    </a:lnTo>
                    <a:lnTo>
                      <a:pt x="20" y="8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064040" y="3362760"/>
                <a:ext cx="98280" cy="150480"/>
              </a:xfrm>
              <a:custGeom>
                <a:avLst/>
                <a:gdLst/>
                <a:ahLst/>
                <a:rect l="l" t="t" r="r" b="b"/>
                <a:pathLst>
                  <a:path w="309" h="477">
                    <a:moveTo>
                      <a:pt x="309" y="78"/>
                    </a:moveTo>
                    <a:lnTo>
                      <a:pt x="309" y="78"/>
                    </a:lnTo>
                    <a:lnTo>
                      <a:pt x="299" y="67"/>
                    </a:lnTo>
                    <a:lnTo>
                      <a:pt x="289" y="57"/>
                    </a:lnTo>
                    <a:lnTo>
                      <a:pt x="279" y="47"/>
                    </a:lnTo>
                    <a:lnTo>
                      <a:pt x="270" y="39"/>
                    </a:lnTo>
                    <a:lnTo>
                      <a:pt x="260" y="31"/>
                    </a:lnTo>
                    <a:lnTo>
                      <a:pt x="250" y="24"/>
                    </a:lnTo>
                    <a:lnTo>
                      <a:pt x="240" y="17"/>
                    </a:lnTo>
                    <a:lnTo>
                      <a:pt x="231" y="12"/>
                    </a:lnTo>
                    <a:lnTo>
                      <a:pt x="221" y="8"/>
                    </a:lnTo>
                    <a:lnTo>
                      <a:pt x="212" y="4"/>
                    </a:lnTo>
                    <a:lnTo>
                      <a:pt x="201" y="2"/>
                    </a:lnTo>
                    <a:lnTo>
                      <a:pt x="192" y="1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64" y="1"/>
                    </a:lnTo>
                    <a:lnTo>
                      <a:pt x="156" y="2"/>
                    </a:lnTo>
                    <a:lnTo>
                      <a:pt x="147" y="4"/>
                    </a:lnTo>
                    <a:lnTo>
                      <a:pt x="138" y="8"/>
                    </a:lnTo>
                    <a:lnTo>
                      <a:pt x="130" y="11"/>
                    </a:lnTo>
                    <a:lnTo>
                      <a:pt x="122" y="16"/>
                    </a:lnTo>
                    <a:lnTo>
                      <a:pt x="106" y="26"/>
                    </a:lnTo>
                    <a:lnTo>
                      <a:pt x="92" y="39"/>
                    </a:lnTo>
                    <a:lnTo>
                      <a:pt x="78" y="53"/>
                    </a:lnTo>
                    <a:lnTo>
                      <a:pt x="66" y="71"/>
                    </a:lnTo>
                    <a:lnTo>
                      <a:pt x="54" y="88"/>
                    </a:lnTo>
                    <a:lnTo>
                      <a:pt x="44" y="107"/>
                    </a:lnTo>
                    <a:lnTo>
                      <a:pt x="34" y="129"/>
                    </a:lnTo>
                    <a:lnTo>
                      <a:pt x="26" y="150"/>
                    </a:lnTo>
                    <a:lnTo>
                      <a:pt x="19" y="173"/>
                    </a:lnTo>
                    <a:lnTo>
                      <a:pt x="12" y="196"/>
                    </a:lnTo>
                    <a:lnTo>
                      <a:pt x="8" y="220"/>
                    </a:lnTo>
                    <a:lnTo>
                      <a:pt x="3" y="245"/>
                    </a:lnTo>
                    <a:lnTo>
                      <a:pt x="1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1" y="343"/>
                    </a:lnTo>
                    <a:lnTo>
                      <a:pt x="3" y="368"/>
                    </a:lnTo>
                    <a:lnTo>
                      <a:pt x="8" y="391"/>
                    </a:lnTo>
                    <a:lnTo>
                      <a:pt x="13" y="414"/>
                    </a:lnTo>
                    <a:lnTo>
                      <a:pt x="20" y="436"/>
                    </a:lnTo>
                    <a:lnTo>
                      <a:pt x="29" y="457"/>
                    </a:lnTo>
                    <a:lnTo>
                      <a:pt x="40" y="477"/>
                    </a:lnTo>
                    <a:lnTo>
                      <a:pt x="60" y="465"/>
                    </a:lnTo>
                    <a:lnTo>
                      <a:pt x="51" y="447"/>
                    </a:lnTo>
                    <a:lnTo>
                      <a:pt x="43" y="427"/>
                    </a:lnTo>
                    <a:lnTo>
                      <a:pt x="36" y="408"/>
                    </a:lnTo>
                    <a:lnTo>
                      <a:pt x="31" y="386"/>
                    </a:lnTo>
                    <a:lnTo>
                      <a:pt x="27" y="365"/>
                    </a:lnTo>
                    <a:lnTo>
                      <a:pt x="25" y="342"/>
                    </a:lnTo>
                    <a:lnTo>
                      <a:pt x="24" y="318"/>
                    </a:lnTo>
                    <a:lnTo>
                      <a:pt x="24" y="295"/>
                    </a:lnTo>
                    <a:lnTo>
                      <a:pt x="25" y="271"/>
                    </a:lnTo>
                    <a:lnTo>
                      <a:pt x="27" y="247"/>
                    </a:lnTo>
                    <a:lnTo>
                      <a:pt x="31" y="224"/>
                    </a:lnTo>
                    <a:lnTo>
                      <a:pt x="36" y="202"/>
                    </a:lnTo>
                    <a:lnTo>
                      <a:pt x="42" y="179"/>
                    </a:lnTo>
                    <a:lnTo>
                      <a:pt x="49" y="158"/>
                    </a:lnTo>
                    <a:lnTo>
                      <a:pt x="57" y="138"/>
                    </a:lnTo>
                    <a:lnTo>
                      <a:pt x="66" y="118"/>
                    </a:lnTo>
                    <a:lnTo>
                      <a:pt x="75" y="100"/>
                    </a:lnTo>
                    <a:lnTo>
                      <a:pt x="85" y="84"/>
                    </a:lnTo>
                    <a:lnTo>
                      <a:pt x="97" y="69"/>
                    </a:lnTo>
                    <a:lnTo>
                      <a:pt x="109" y="56"/>
                    </a:lnTo>
                    <a:lnTo>
                      <a:pt x="121" y="45"/>
                    </a:lnTo>
                    <a:lnTo>
                      <a:pt x="134" y="36"/>
                    </a:lnTo>
                    <a:lnTo>
                      <a:pt x="140" y="33"/>
                    </a:lnTo>
                    <a:lnTo>
                      <a:pt x="147" y="29"/>
                    </a:lnTo>
                    <a:lnTo>
                      <a:pt x="154" y="27"/>
                    </a:lnTo>
                    <a:lnTo>
                      <a:pt x="160" y="26"/>
                    </a:lnTo>
                    <a:lnTo>
                      <a:pt x="167" y="25"/>
                    </a:lnTo>
                    <a:lnTo>
                      <a:pt x="174" y="24"/>
                    </a:lnTo>
                    <a:lnTo>
                      <a:pt x="182" y="24"/>
                    </a:lnTo>
                    <a:lnTo>
                      <a:pt x="189" y="25"/>
                    </a:lnTo>
                    <a:lnTo>
                      <a:pt x="197" y="26"/>
                    </a:lnTo>
                    <a:lnTo>
                      <a:pt x="204" y="28"/>
                    </a:lnTo>
                    <a:lnTo>
                      <a:pt x="212" y="31"/>
                    </a:lnTo>
                    <a:lnTo>
                      <a:pt x="220" y="34"/>
                    </a:lnTo>
                    <a:lnTo>
                      <a:pt x="229" y="39"/>
                    </a:lnTo>
                    <a:lnTo>
                      <a:pt x="237" y="43"/>
                    </a:lnTo>
                    <a:lnTo>
                      <a:pt x="245" y="50"/>
                    </a:lnTo>
                    <a:lnTo>
                      <a:pt x="254" y="57"/>
                    </a:lnTo>
                    <a:lnTo>
                      <a:pt x="263" y="65"/>
                    </a:lnTo>
                    <a:lnTo>
                      <a:pt x="272" y="73"/>
                    </a:lnTo>
                    <a:lnTo>
                      <a:pt x="281" y="83"/>
                    </a:lnTo>
                    <a:lnTo>
                      <a:pt x="290" y="93"/>
                    </a:lnTo>
                    <a:lnTo>
                      <a:pt x="290" y="93"/>
                    </a:lnTo>
                    <a:lnTo>
                      <a:pt x="309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156200" y="331164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3"/>
                    </a:moveTo>
                    <a:lnTo>
                      <a:pt x="156" y="0"/>
                    </a:lnTo>
                    <a:lnTo>
                      <a:pt x="142" y="0"/>
                    </a:lnTo>
                    <a:lnTo>
                      <a:pt x="127" y="1"/>
                    </a:lnTo>
                    <a:lnTo>
                      <a:pt x="113" y="4"/>
                    </a:lnTo>
                    <a:lnTo>
                      <a:pt x="101" y="6"/>
                    </a:lnTo>
                    <a:lnTo>
                      <a:pt x="89" y="9"/>
                    </a:lnTo>
                    <a:lnTo>
                      <a:pt x="79" y="13"/>
                    </a:lnTo>
                    <a:lnTo>
                      <a:pt x="69" y="16"/>
                    </a:lnTo>
                    <a:lnTo>
                      <a:pt x="60" y="22"/>
                    </a:lnTo>
                    <a:lnTo>
                      <a:pt x="50" y="28"/>
                    </a:lnTo>
                    <a:lnTo>
                      <a:pt x="43" y="33"/>
                    </a:lnTo>
                    <a:lnTo>
                      <a:pt x="36" y="40"/>
                    </a:lnTo>
                    <a:lnTo>
                      <a:pt x="30" y="47"/>
                    </a:lnTo>
                    <a:lnTo>
                      <a:pt x="24" y="54"/>
                    </a:lnTo>
                    <a:lnTo>
                      <a:pt x="20" y="62"/>
                    </a:lnTo>
                    <a:lnTo>
                      <a:pt x="15" y="70"/>
                    </a:lnTo>
                    <a:lnTo>
                      <a:pt x="12" y="79"/>
                    </a:lnTo>
                    <a:lnTo>
                      <a:pt x="8" y="96"/>
                    </a:lnTo>
                    <a:lnTo>
                      <a:pt x="5" y="113"/>
                    </a:lnTo>
                    <a:lnTo>
                      <a:pt x="5" y="131"/>
                    </a:lnTo>
                    <a:lnTo>
                      <a:pt x="6" y="150"/>
                    </a:lnTo>
                    <a:lnTo>
                      <a:pt x="8" y="169"/>
                    </a:lnTo>
                    <a:lnTo>
                      <a:pt x="12" y="187"/>
                    </a:lnTo>
                    <a:lnTo>
                      <a:pt x="16" y="204"/>
                    </a:lnTo>
                    <a:lnTo>
                      <a:pt x="22" y="223"/>
                    </a:lnTo>
                    <a:lnTo>
                      <a:pt x="43" y="281"/>
                    </a:lnTo>
                    <a:lnTo>
                      <a:pt x="56" y="314"/>
                    </a:lnTo>
                    <a:lnTo>
                      <a:pt x="55" y="313"/>
                    </a:lnTo>
                    <a:lnTo>
                      <a:pt x="56" y="308"/>
                    </a:lnTo>
                    <a:lnTo>
                      <a:pt x="65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7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90"/>
                    </a:lnTo>
                    <a:lnTo>
                      <a:pt x="48" y="313"/>
                    </a:lnTo>
                    <a:lnTo>
                      <a:pt x="54" y="318"/>
                    </a:lnTo>
                    <a:lnTo>
                      <a:pt x="60" y="323"/>
                    </a:lnTo>
                    <a:lnTo>
                      <a:pt x="69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6"/>
                    </a:lnTo>
                    <a:lnTo>
                      <a:pt x="65" y="273"/>
                    </a:lnTo>
                    <a:lnTo>
                      <a:pt x="45" y="215"/>
                    </a:lnTo>
                    <a:lnTo>
                      <a:pt x="40" y="199"/>
                    </a:lnTo>
                    <a:lnTo>
                      <a:pt x="36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1" y="101"/>
                    </a:lnTo>
                    <a:lnTo>
                      <a:pt x="36" y="86"/>
                    </a:lnTo>
                    <a:lnTo>
                      <a:pt x="38" y="80"/>
                    </a:lnTo>
                    <a:lnTo>
                      <a:pt x="41" y="73"/>
                    </a:lnTo>
                    <a:lnTo>
                      <a:pt x="45" y="67"/>
                    </a:lnTo>
                    <a:lnTo>
                      <a:pt x="48" y="62"/>
                    </a:lnTo>
                    <a:lnTo>
                      <a:pt x="53" y="56"/>
                    </a:lnTo>
                    <a:lnTo>
                      <a:pt x="58" y="52"/>
                    </a:lnTo>
                    <a:lnTo>
                      <a:pt x="64" y="47"/>
                    </a:lnTo>
                    <a:lnTo>
                      <a:pt x="71" y="42"/>
                    </a:lnTo>
                    <a:lnTo>
                      <a:pt x="79" y="39"/>
                    </a:lnTo>
                    <a:lnTo>
                      <a:pt x="87" y="36"/>
                    </a:lnTo>
                    <a:lnTo>
                      <a:pt x="96" y="32"/>
                    </a:lnTo>
                    <a:lnTo>
                      <a:pt x="106" y="30"/>
                    </a:lnTo>
                    <a:lnTo>
                      <a:pt x="118" y="28"/>
                    </a:lnTo>
                    <a:lnTo>
                      <a:pt x="129" y="25"/>
                    </a:lnTo>
                    <a:lnTo>
                      <a:pt x="143" y="24"/>
                    </a:lnTo>
                    <a:lnTo>
                      <a:pt x="156" y="24"/>
                    </a:lnTo>
                    <a:lnTo>
                      <a:pt x="145" y="13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6" y="21"/>
                    </a:lnTo>
                    <a:lnTo>
                      <a:pt x="168" y="17"/>
                    </a:lnTo>
                    <a:lnTo>
                      <a:pt x="169" y="13"/>
                    </a:lnTo>
                    <a:lnTo>
                      <a:pt x="168" y="8"/>
                    </a:lnTo>
                    <a:lnTo>
                      <a:pt x="166" y="4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178160" y="3316680"/>
                <a:ext cx="32040" cy="118800"/>
              </a:xfrm>
              <a:custGeom>
                <a:avLst/>
                <a:gdLst/>
                <a:ahLst/>
                <a:rect l="l" t="t" r="r" b="b"/>
                <a:pathLst>
                  <a:path w="99" h="378">
                    <a:moveTo>
                      <a:pt x="8" y="355"/>
                    </a:moveTo>
                    <a:lnTo>
                      <a:pt x="22" y="374"/>
                    </a:lnTo>
                    <a:lnTo>
                      <a:pt x="35" y="353"/>
                    </a:lnTo>
                    <a:lnTo>
                      <a:pt x="48" y="333"/>
                    </a:lnTo>
                    <a:lnTo>
                      <a:pt x="58" y="311"/>
                    </a:lnTo>
                    <a:lnTo>
                      <a:pt x="67" y="288"/>
                    </a:lnTo>
                    <a:lnTo>
                      <a:pt x="74" y="267"/>
                    </a:lnTo>
                    <a:lnTo>
                      <a:pt x="81" y="243"/>
                    </a:lnTo>
                    <a:lnTo>
                      <a:pt x="85" y="220"/>
                    </a:lnTo>
                    <a:lnTo>
                      <a:pt x="90" y="196"/>
                    </a:lnTo>
                    <a:lnTo>
                      <a:pt x="92" y="172"/>
                    </a:lnTo>
                    <a:lnTo>
                      <a:pt x="94" y="148"/>
                    </a:lnTo>
                    <a:lnTo>
                      <a:pt x="97" y="123"/>
                    </a:lnTo>
                    <a:lnTo>
                      <a:pt x="98" y="98"/>
                    </a:lnTo>
                    <a:lnTo>
                      <a:pt x="99" y="49"/>
                    </a:lnTo>
                    <a:lnTo>
                      <a:pt x="99" y="0"/>
                    </a:lnTo>
                    <a:lnTo>
                      <a:pt x="75" y="0"/>
                    </a:lnTo>
                    <a:lnTo>
                      <a:pt x="74" y="49"/>
                    </a:lnTo>
                    <a:lnTo>
                      <a:pt x="74" y="98"/>
                    </a:lnTo>
                    <a:lnTo>
                      <a:pt x="73" y="122"/>
                    </a:lnTo>
                    <a:lnTo>
                      <a:pt x="71" y="146"/>
                    </a:lnTo>
                    <a:lnTo>
                      <a:pt x="68" y="168"/>
                    </a:lnTo>
                    <a:lnTo>
                      <a:pt x="65" y="192"/>
                    </a:lnTo>
                    <a:lnTo>
                      <a:pt x="61" y="215"/>
                    </a:lnTo>
                    <a:lnTo>
                      <a:pt x="57" y="237"/>
                    </a:lnTo>
                    <a:lnTo>
                      <a:pt x="51" y="260"/>
                    </a:lnTo>
                    <a:lnTo>
                      <a:pt x="44" y="280"/>
                    </a:lnTo>
                    <a:lnTo>
                      <a:pt x="35" y="301"/>
                    </a:lnTo>
                    <a:lnTo>
                      <a:pt x="26" y="321"/>
                    </a:lnTo>
                    <a:lnTo>
                      <a:pt x="15" y="341"/>
                    </a:lnTo>
                    <a:lnTo>
                      <a:pt x="2" y="359"/>
                    </a:lnTo>
                    <a:lnTo>
                      <a:pt x="17" y="378"/>
                    </a:lnTo>
                    <a:lnTo>
                      <a:pt x="2" y="359"/>
                    </a:lnTo>
                    <a:lnTo>
                      <a:pt x="0" y="365"/>
                    </a:lnTo>
                    <a:lnTo>
                      <a:pt x="0" y="369"/>
                    </a:lnTo>
                    <a:lnTo>
                      <a:pt x="2" y="373"/>
                    </a:lnTo>
                    <a:lnTo>
                      <a:pt x="6" y="376"/>
                    </a:lnTo>
                    <a:lnTo>
                      <a:pt x="9" y="378"/>
                    </a:lnTo>
                    <a:lnTo>
                      <a:pt x="14" y="378"/>
                    </a:lnTo>
                    <a:lnTo>
                      <a:pt x="18" y="377"/>
                    </a:lnTo>
                    <a:lnTo>
                      <a:pt x="22" y="374"/>
                    </a:lnTo>
                    <a:lnTo>
                      <a:pt x="8" y="35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611520" y="3252960"/>
                <a:ext cx="322200" cy="271440"/>
              </a:xfrm>
              <a:custGeom>
                <a:avLst/>
                <a:gdLst/>
                <a:ahLst/>
                <a:rect l="l" t="t" r="r" b="b"/>
                <a:pathLst>
                  <a:path w="1015" h="855">
                    <a:moveTo>
                      <a:pt x="321" y="455"/>
                    </a:moveTo>
                    <a:lnTo>
                      <a:pt x="335" y="430"/>
                    </a:lnTo>
                    <a:lnTo>
                      <a:pt x="348" y="403"/>
                    </a:lnTo>
                    <a:lnTo>
                      <a:pt x="358" y="373"/>
                    </a:lnTo>
                    <a:lnTo>
                      <a:pt x="368" y="345"/>
                    </a:lnTo>
                    <a:lnTo>
                      <a:pt x="387" y="283"/>
                    </a:lnTo>
                    <a:lnTo>
                      <a:pt x="407" y="221"/>
                    </a:lnTo>
                    <a:lnTo>
                      <a:pt x="417" y="191"/>
                    </a:lnTo>
                    <a:lnTo>
                      <a:pt x="430" y="160"/>
                    </a:lnTo>
                    <a:lnTo>
                      <a:pt x="442" y="130"/>
                    </a:lnTo>
                    <a:lnTo>
                      <a:pt x="458" y="102"/>
                    </a:lnTo>
                    <a:lnTo>
                      <a:pt x="466" y="88"/>
                    </a:lnTo>
                    <a:lnTo>
                      <a:pt x="475" y="74"/>
                    </a:lnTo>
                    <a:lnTo>
                      <a:pt x="485" y="61"/>
                    </a:lnTo>
                    <a:lnTo>
                      <a:pt x="496" y="48"/>
                    </a:lnTo>
                    <a:lnTo>
                      <a:pt x="506" y="36"/>
                    </a:lnTo>
                    <a:lnTo>
                      <a:pt x="519" y="23"/>
                    </a:lnTo>
                    <a:lnTo>
                      <a:pt x="531" y="12"/>
                    </a:lnTo>
                    <a:lnTo>
                      <a:pt x="545" y="0"/>
                    </a:lnTo>
                    <a:lnTo>
                      <a:pt x="553" y="12"/>
                    </a:lnTo>
                    <a:lnTo>
                      <a:pt x="561" y="24"/>
                    </a:lnTo>
                    <a:lnTo>
                      <a:pt x="568" y="38"/>
                    </a:lnTo>
                    <a:lnTo>
                      <a:pt x="574" y="52"/>
                    </a:lnTo>
                    <a:lnTo>
                      <a:pt x="581" y="66"/>
                    </a:lnTo>
                    <a:lnTo>
                      <a:pt x="587" y="82"/>
                    </a:lnTo>
                    <a:lnTo>
                      <a:pt x="591" y="98"/>
                    </a:lnTo>
                    <a:lnTo>
                      <a:pt x="596" y="115"/>
                    </a:lnTo>
                    <a:lnTo>
                      <a:pt x="601" y="134"/>
                    </a:lnTo>
                    <a:lnTo>
                      <a:pt x="604" y="151"/>
                    </a:lnTo>
                    <a:lnTo>
                      <a:pt x="606" y="169"/>
                    </a:lnTo>
                    <a:lnTo>
                      <a:pt x="609" y="187"/>
                    </a:lnTo>
                    <a:lnTo>
                      <a:pt x="611" y="207"/>
                    </a:lnTo>
                    <a:lnTo>
                      <a:pt x="611" y="225"/>
                    </a:lnTo>
                    <a:lnTo>
                      <a:pt x="612" y="244"/>
                    </a:lnTo>
                    <a:lnTo>
                      <a:pt x="612" y="262"/>
                    </a:lnTo>
                    <a:lnTo>
                      <a:pt x="611" y="282"/>
                    </a:lnTo>
                    <a:lnTo>
                      <a:pt x="609" y="300"/>
                    </a:lnTo>
                    <a:lnTo>
                      <a:pt x="606" y="318"/>
                    </a:lnTo>
                    <a:lnTo>
                      <a:pt x="604" y="337"/>
                    </a:lnTo>
                    <a:lnTo>
                      <a:pt x="601" y="355"/>
                    </a:lnTo>
                    <a:lnTo>
                      <a:pt x="596" y="373"/>
                    </a:lnTo>
                    <a:lnTo>
                      <a:pt x="591" y="390"/>
                    </a:lnTo>
                    <a:lnTo>
                      <a:pt x="586" y="406"/>
                    </a:lnTo>
                    <a:lnTo>
                      <a:pt x="579" y="422"/>
                    </a:lnTo>
                    <a:lnTo>
                      <a:pt x="572" y="437"/>
                    </a:lnTo>
                    <a:lnTo>
                      <a:pt x="565" y="452"/>
                    </a:lnTo>
                    <a:lnTo>
                      <a:pt x="556" y="465"/>
                    </a:lnTo>
                    <a:lnTo>
                      <a:pt x="547" y="479"/>
                    </a:lnTo>
                    <a:lnTo>
                      <a:pt x="537" y="490"/>
                    </a:lnTo>
                    <a:lnTo>
                      <a:pt x="527" y="502"/>
                    </a:lnTo>
                    <a:lnTo>
                      <a:pt x="515" y="511"/>
                    </a:lnTo>
                    <a:lnTo>
                      <a:pt x="530" y="500"/>
                    </a:lnTo>
                    <a:lnTo>
                      <a:pt x="546" y="489"/>
                    </a:lnTo>
                    <a:lnTo>
                      <a:pt x="561" y="480"/>
                    </a:lnTo>
                    <a:lnTo>
                      <a:pt x="577" y="472"/>
                    </a:lnTo>
                    <a:lnTo>
                      <a:pt x="591" y="465"/>
                    </a:lnTo>
                    <a:lnTo>
                      <a:pt x="607" y="459"/>
                    </a:lnTo>
                    <a:lnTo>
                      <a:pt x="623" y="454"/>
                    </a:lnTo>
                    <a:lnTo>
                      <a:pt x="639" y="449"/>
                    </a:lnTo>
                    <a:lnTo>
                      <a:pt x="655" y="446"/>
                    </a:lnTo>
                    <a:lnTo>
                      <a:pt x="670" y="443"/>
                    </a:lnTo>
                    <a:lnTo>
                      <a:pt x="686" y="441"/>
                    </a:lnTo>
                    <a:lnTo>
                      <a:pt x="702" y="440"/>
                    </a:lnTo>
                    <a:lnTo>
                      <a:pt x="718" y="439"/>
                    </a:lnTo>
                    <a:lnTo>
                      <a:pt x="734" y="440"/>
                    </a:lnTo>
                    <a:lnTo>
                      <a:pt x="751" y="441"/>
                    </a:lnTo>
                    <a:lnTo>
                      <a:pt x="767" y="443"/>
                    </a:lnTo>
                    <a:lnTo>
                      <a:pt x="799" y="448"/>
                    </a:lnTo>
                    <a:lnTo>
                      <a:pt x="831" y="455"/>
                    </a:lnTo>
                    <a:lnTo>
                      <a:pt x="862" y="464"/>
                    </a:lnTo>
                    <a:lnTo>
                      <a:pt x="893" y="475"/>
                    </a:lnTo>
                    <a:lnTo>
                      <a:pt x="924" y="487"/>
                    </a:lnTo>
                    <a:lnTo>
                      <a:pt x="955" y="501"/>
                    </a:lnTo>
                    <a:lnTo>
                      <a:pt x="986" y="516"/>
                    </a:lnTo>
                    <a:lnTo>
                      <a:pt x="1015" y="530"/>
                    </a:lnTo>
                    <a:lnTo>
                      <a:pt x="992" y="549"/>
                    </a:lnTo>
                    <a:lnTo>
                      <a:pt x="968" y="566"/>
                    </a:lnTo>
                    <a:lnTo>
                      <a:pt x="946" y="582"/>
                    </a:lnTo>
                    <a:lnTo>
                      <a:pt x="924" y="595"/>
                    </a:lnTo>
                    <a:lnTo>
                      <a:pt x="905" y="608"/>
                    </a:lnTo>
                    <a:lnTo>
                      <a:pt x="886" y="619"/>
                    </a:lnTo>
                    <a:lnTo>
                      <a:pt x="867" y="630"/>
                    </a:lnTo>
                    <a:lnTo>
                      <a:pt x="849" y="638"/>
                    </a:lnTo>
                    <a:lnTo>
                      <a:pt x="832" y="646"/>
                    </a:lnTo>
                    <a:lnTo>
                      <a:pt x="816" y="651"/>
                    </a:lnTo>
                    <a:lnTo>
                      <a:pt x="800" y="656"/>
                    </a:lnTo>
                    <a:lnTo>
                      <a:pt x="785" y="659"/>
                    </a:lnTo>
                    <a:lnTo>
                      <a:pt x="770" y="663"/>
                    </a:lnTo>
                    <a:lnTo>
                      <a:pt x="756" y="664"/>
                    </a:lnTo>
                    <a:lnTo>
                      <a:pt x="742" y="664"/>
                    </a:lnTo>
                    <a:lnTo>
                      <a:pt x="727" y="664"/>
                    </a:lnTo>
                    <a:lnTo>
                      <a:pt x="713" y="663"/>
                    </a:lnTo>
                    <a:lnTo>
                      <a:pt x="700" y="660"/>
                    </a:lnTo>
                    <a:lnTo>
                      <a:pt x="686" y="657"/>
                    </a:lnTo>
                    <a:lnTo>
                      <a:pt x="672" y="652"/>
                    </a:lnTo>
                    <a:lnTo>
                      <a:pt x="645" y="642"/>
                    </a:lnTo>
                    <a:lnTo>
                      <a:pt x="615" y="630"/>
                    </a:lnTo>
                    <a:lnTo>
                      <a:pt x="553" y="596"/>
                    </a:lnTo>
                    <a:lnTo>
                      <a:pt x="479" y="558"/>
                    </a:lnTo>
                    <a:lnTo>
                      <a:pt x="471" y="566"/>
                    </a:lnTo>
                    <a:lnTo>
                      <a:pt x="462" y="579"/>
                    </a:lnTo>
                    <a:lnTo>
                      <a:pt x="450" y="598"/>
                    </a:lnTo>
                    <a:lnTo>
                      <a:pt x="438" y="619"/>
                    </a:lnTo>
                    <a:lnTo>
                      <a:pt x="408" y="672"/>
                    </a:lnTo>
                    <a:lnTo>
                      <a:pt x="375" y="728"/>
                    </a:lnTo>
                    <a:lnTo>
                      <a:pt x="357" y="755"/>
                    </a:lnTo>
                    <a:lnTo>
                      <a:pt x="338" y="781"/>
                    </a:lnTo>
                    <a:lnTo>
                      <a:pt x="328" y="794"/>
                    </a:lnTo>
                    <a:lnTo>
                      <a:pt x="319" y="805"/>
                    </a:lnTo>
                    <a:lnTo>
                      <a:pt x="309" y="815"/>
                    </a:lnTo>
                    <a:lnTo>
                      <a:pt x="300" y="824"/>
                    </a:lnTo>
                    <a:lnTo>
                      <a:pt x="289" y="834"/>
                    </a:lnTo>
                    <a:lnTo>
                      <a:pt x="280" y="840"/>
                    </a:lnTo>
                    <a:lnTo>
                      <a:pt x="270" y="846"/>
                    </a:lnTo>
                    <a:lnTo>
                      <a:pt x="261" y="851"/>
                    </a:lnTo>
                    <a:lnTo>
                      <a:pt x="251" y="854"/>
                    </a:lnTo>
                    <a:lnTo>
                      <a:pt x="242" y="855"/>
                    </a:lnTo>
                    <a:lnTo>
                      <a:pt x="231" y="854"/>
                    </a:lnTo>
                    <a:lnTo>
                      <a:pt x="222" y="852"/>
                    </a:lnTo>
                    <a:lnTo>
                      <a:pt x="203" y="844"/>
                    </a:lnTo>
                    <a:lnTo>
                      <a:pt x="183" y="834"/>
                    </a:lnTo>
                    <a:lnTo>
                      <a:pt x="165" y="821"/>
                    </a:lnTo>
                    <a:lnTo>
                      <a:pt x="147" y="807"/>
                    </a:lnTo>
                    <a:lnTo>
                      <a:pt x="130" y="791"/>
                    </a:lnTo>
                    <a:lnTo>
                      <a:pt x="114" y="774"/>
                    </a:lnTo>
                    <a:lnTo>
                      <a:pt x="98" y="756"/>
                    </a:lnTo>
                    <a:lnTo>
                      <a:pt x="83" y="738"/>
                    </a:lnTo>
                    <a:lnTo>
                      <a:pt x="70" y="717"/>
                    </a:lnTo>
                    <a:lnTo>
                      <a:pt x="57" y="697"/>
                    </a:lnTo>
                    <a:lnTo>
                      <a:pt x="44" y="675"/>
                    </a:lnTo>
                    <a:lnTo>
                      <a:pt x="34" y="653"/>
                    </a:lnTo>
                    <a:lnTo>
                      <a:pt x="25" y="632"/>
                    </a:lnTo>
                    <a:lnTo>
                      <a:pt x="17" y="610"/>
                    </a:lnTo>
                    <a:lnTo>
                      <a:pt x="10" y="589"/>
                    </a:lnTo>
                    <a:lnTo>
                      <a:pt x="6" y="567"/>
                    </a:lnTo>
                    <a:lnTo>
                      <a:pt x="2" y="546"/>
                    </a:lnTo>
                    <a:lnTo>
                      <a:pt x="0" y="526"/>
                    </a:lnTo>
                    <a:lnTo>
                      <a:pt x="0" y="506"/>
                    </a:lnTo>
                    <a:lnTo>
                      <a:pt x="1" y="487"/>
                    </a:lnTo>
                    <a:lnTo>
                      <a:pt x="5" y="470"/>
                    </a:lnTo>
                    <a:lnTo>
                      <a:pt x="10" y="454"/>
                    </a:lnTo>
                    <a:lnTo>
                      <a:pt x="17" y="439"/>
                    </a:lnTo>
                    <a:lnTo>
                      <a:pt x="26" y="425"/>
                    </a:lnTo>
                    <a:lnTo>
                      <a:pt x="38" y="414"/>
                    </a:lnTo>
                    <a:lnTo>
                      <a:pt x="51" y="404"/>
                    </a:lnTo>
                    <a:lnTo>
                      <a:pt x="67" y="397"/>
                    </a:lnTo>
                    <a:lnTo>
                      <a:pt x="85" y="391"/>
                    </a:lnTo>
                    <a:lnTo>
                      <a:pt x="106" y="388"/>
                    </a:lnTo>
                    <a:lnTo>
                      <a:pt x="129" y="388"/>
                    </a:lnTo>
                    <a:lnTo>
                      <a:pt x="154" y="390"/>
                    </a:lnTo>
                    <a:lnTo>
                      <a:pt x="182" y="395"/>
                    </a:lnTo>
                    <a:lnTo>
                      <a:pt x="228" y="406"/>
                    </a:lnTo>
                    <a:lnTo>
                      <a:pt x="255" y="412"/>
                    </a:lnTo>
                    <a:lnTo>
                      <a:pt x="263" y="413"/>
                    </a:lnTo>
                    <a:lnTo>
                      <a:pt x="268" y="413"/>
                    </a:lnTo>
                    <a:lnTo>
                      <a:pt x="269" y="412"/>
                    </a:lnTo>
                    <a:lnTo>
                      <a:pt x="267" y="410"/>
                    </a:lnTo>
                    <a:lnTo>
                      <a:pt x="237" y="391"/>
                    </a:lnTo>
                    <a:lnTo>
                      <a:pt x="183" y="358"/>
                    </a:lnTo>
                    <a:lnTo>
                      <a:pt x="170" y="348"/>
                    </a:lnTo>
                    <a:lnTo>
                      <a:pt x="156" y="337"/>
                    </a:lnTo>
                    <a:lnTo>
                      <a:pt x="142" y="325"/>
                    </a:lnTo>
                    <a:lnTo>
                      <a:pt x="129" y="313"/>
                    </a:lnTo>
                    <a:lnTo>
                      <a:pt x="117" y="300"/>
                    </a:lnTo>
                    <a:lnTo>
                      <a:pt x="107" y="286"/>
                    </a:lnTo>
                    <a:lnTo>
                      <a:pt x="99" y="272"/>
                    </a:lnTo>
                    <a:lnTo>
                      <a:pt x="92" y="257"/>
                    </a:lnTo>
                    <a:lnTo>
                      <a:pt x="89" y="242"/>
                    </a:lnTo>
                    <a:lnTo>
                      <a:pt x="88" y="226"/>
                    </a:lnTo>
                    <a:lnTo>
                      <a:pt x="89" y="210"/>
                    </a:lnTo>
                    <a:lnTo>
                      <a:pt x="93" y="193"/>
                    </a:lnTo>
                    <a:lnTo>
                      <a:pt x="103" y="176"/>
                    </a:lnTo>
                    <a:lnTo>
                      <a:pt x="115" y="158"/>
                    </a:lnTo>
                    <a:lnTo>
                      <a:pt x="132" y="139"/>
                    </a:lnTo>
                    <a:lnTo>
                      <a:pt x="153" y="121"/>
                    </a:lnTo>
                    <a:lnTo>
                      <a:pt x="183" y="160"/>
                    </a:lnTo>
                    <a:lnTo>
                      <a:pt x="213" y="200"/>
                    </a:lnTo>
                    <a:lnTo>
                      <a:pt x="227" y="219"/>
                    </a:lnTo>
                    <a:lnTo>
                      <a:pt x="240" y="240"/>
                    </a:lnTo>
                    <a:lnTo>
                      <a:pt x="254" y="260"/>
                    </a:lnTo>
                    <a:lnTo>
                      <a:pt x="267" y="280"/>
                    </a:lnTo>
                    <a:lnTo>
                      <a:pt x="278" y="301"/>
                    </a:lnTo>
                    <a:lnTo>
                      <a:pt x="288" y="322"/>
                    </a:lnTo>
                    <a:lnTo>
                      <a:pt x="296" y="343"/>
                    </a:lnTo>
                    <a:lnTo>
                      <a:pt x="304" y="365"/>
                    </a:lnTo>
                    <a:lnTo>
                      <a:pt x="311" y="387"/>
                    </a:lnTo>
                    <a:lnTo>
                      <a:pt x="316" y="410"/>
                    </a:lnTo>
                    <a:lnTo>
                      <a:pt x="319" y="432"/>
                    </a:lnTo>
                    <a:lnTo>
                      <a:pt x="321" y="455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0160" y="324828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5" h="474">
                    <a:moveTo>
                      <a:pt x="243" y="4"/>
                    </a:moveTo>
                    <a:lnTo>
                      <a:pt x="226" y="3"/>
                    </a:lnTo>
                    <a:lnTo>
                      <a:pt x="212" y="15"/>
                    </a:lnTo>
                    <a:lnTo>
                      <a:pt x="198" y="26"/>
                    </a:lnTo>
                    <a:lnTo>
                      <a:pt x="186" y="40"/>
                    </a:lnTo>
                    <a:lnTo>
                      <a:pt x="174" y="52"/>
                    </a:lnTo>
                    <a:lnTo>
                      <a:pt x="164" y="66"/>
                    </a:lnTo>
                    <a:lnTo>
                      <a:pt x="154" y="80"/>
                    </a:lnTo>
                    <a:lnTo>
                      <a:pt x="145" y="93"/>
                    </a:lnTo>
                    <a:lnTo>
                      <a:pt x="136" y="108"/>
                    </a:lnTo>
                    <a:lnTo>
                      <a:pt x="121" y="138"/>
                    </a:lnTo>
                    <a:lnTo>
                      <a:pt x="107" y="167"/>
                    </a:lnTo>
                    <a:lnTo>
                      <a:pt x="95" y="198"/>
                    </a:lnTo>
                    <a:lnTo>
                      <a:pt x="84" y="230"/>
                    </a:lnTo>
                    <a:lnTo>
                      <a:pt x="65" y="292"/>
                    </a:lnTo>
                    <a:lnTo>
                      <a:pt x="46" y="352"/>
                    </a:lnTo>
                    <a:lnTo>
                      <a:pt x="37" y="382"/>
                    </a:lnTo>
                    <a:lnTo>
                      <a:pt x="25" y="409"/>
                    </a:lnTo>
                    <a:lnTo>
                      <a:pt x="13" y="436"/>
                    </a:lnTo>
                    <a:lnTo>
                      <a:pt x="0" y="461"/>
                    </a:lnTo>
                    <a:lnTo>
                      <a:pt x="21" y="474"/>
                    </a:lnTo>
                    <a:lnTo>
                      <a:pt x="34" y="447"/>
                    </a:lnTo>
                    <a:lnTo>
                      <a:pt x="48" y="419"/>
                    </a:lnTo>
                    <a:lnTo>
                      <a:pt x="58" y="390"/>
                    </a:lnTo>
                    <a:lnTo>
                      <a:pt x="69" y="360"/>
                    </a:lnTo>
                    <a:lnTo>
                      <a:pt x="88" y="298"/>
                    </a:lnTo>
                    <a:lnTo>
                      <a:pt x="107" y="237"/>
                    </a:lnTo>
                    <a:lnTo>
                      <a:pt x="118" y="207"/>
                    </a:lnTo>
                    <a:lnTo>
                      <a:pt x="129" y="178"/>
                    </a:lnTo>
                    <a:lnTo>
                      <a:pt x="143" y="148"/>
                    </a:lnTo>
                    <a:lnTo>
                      <a:pt x="157" y="119"/>
                    </a:lnTo>
                    <a:lnTo>
                      <a:pt x="165" y="107"/>
                    </a:lnTo>
                    <a:lnTo>
                      <a:pt x="174" y="93"/>
                    </a:lnTo>
                    <a:lnTo>
                      <a:pt x="184" y="81"/>
                    </a:lnTo>
                    <a:lnTo>
                      <a:pt x="194" y="68"/>
                    </a:lnTo>
                    <a:lnTo>
                      <a:pt x="204" y="56"/>
                    </a:lnTo>
                    <a:lnTo>
                      <a:pt x="216" y="44"/>
                    </a:lnTo>
                    <a:lnTo>
                      <a:pt x="228" y="33"/>
                    </a:lnTo>
                    <a:lnTo>
                      <a:pt x="241" y="21"/>
                    </a:lnTo>
                    <a:lnTo>
                      <a:pt x="223" y="19"/>
                    </a:lnTo>
                    <a:lnTo>
                      <a:pt x="241" y="21"/>
                    </a:lnTo>
                    <a:lnTo>
                      <a:pt x="244" y="18"/>
                    </a:lnTo>
                    <a:lnTo>
                      <a:pt x="245" y="13"/>
                    </a:lnTo>
                    <a:lnTo>
                      <a:pt x="245" y="9"/>
                    </a:lnTo>
                    <a:lnTo>
                      <a:pt x="243" y="4"/>
                    </a:lnTo>
                    <a:lnTo>
                      <a:pt x="239" y="2"/>
                    </a:lnTo>
                    <a:lnTo>
                      <a:pt x="235" y="0"/>
                    </a:lnTo>
                    <a:lnTo>
                      <a:pt x="230" y="0"/>
                    </a:lnTo>
                    <a:lnTo>
                      <a:pt x="226" y="3"/>
                    </a:lnTo>
                    <a:lnTo>
                      <a:pt x="243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772080" y="3249720"/>
                <a:ext cx="37800" cy="168480"/>
              </a:xfrm>
              <a:custGeom>
                <a:avLst/>
                <a:gdLst/>
                <a:ahLst/>
                <a:rect l="l" t="t" r="r" b="b"/>
                <a:pathLst>
                  <a:path w="120" h="532">
                    <a:moveTo>
                      <a:pt x="4" y="510"/>
                    </a:moveTo>
                    <a:lnTo>
                      <a:pt x="19" y="528"/>
                    </a:lnTo>
                    <a:lnTo>
                      <a:pt x="31" y="518"/>
                    </a:lnTo>
                    <a:lnTo>
                      <a:pt x="43" y="506"/>
                    </a:lnTo>
                    <a:lnTo>
                      <a:pt x="53" y="494"/>
                    </a:lnTo>
                    <a:lnTo>
                      <a:pt x="63" y="480"/>
                    </a:lnTo>
                    <a:lnTo>
                      <a:pt x="73" y="465"/>
                    </a:lnTo>
                    <a:lnTo>
                      <a:pt x="81" y="451"/>
                    </a:lnTo>
                    <a:lnTo>
                      <a:pt x="87" y="435"/>
                    </a:lnTo>
                    <a:lnTo>
                      <a:pt x="94" y="419"/>
                    </a:lnTo>
                    <a:lnTo>
                      <a:pt x="100" y="402"/>
                    </a:lnTo>
                    <a:lnTo>
                      <a:pt x="104" y="383"/>
                    </a:lnTo>
                    <a:lnTo>
                      <a:pt x="109" y="365"/>
                    </a:lnTo>
                    <a:lnTo>
                      <a:pt x="112" y="347"/>
                    </a:lnTo>
                    <a:lnTo>
                      <a:pt x="116" y="329"/>
                    </a:lnTo>
                    <a:lnTo>
                      <a:pt x="118" y="309"/>
                    </a:lnTo>
                    <a:lnTo>
                      <a:pt x="119" y="290"/>
                    </a:lnTo>
                    <a:lnTo>
                      <a:pt x="120" y="272"/>
                    </a:lnTo>
                    <a:lnTo>
                      <a:pt x="120" y="252"/>
                    </a:lnTo>
                    <a:lnTo>
                      <a:pt x="120" y="233"/>
                    </a:lnTo>
                    <a:lnTo>
                      <a:pt x="119" y="213"/>
                    </a:lnTo>
                    <a:lnTo>
                      <a:pt x="118" y="194"/>
                    </a:lnTo>
                    <a:lnTo>
                      <a:pt x="116" y="176"/>
                    </a:lnTo>
                    <a:lnTo>
                      <a:pt x="112" y="156"/>
                    </a:lnTo>
                    <a:lnTo>
                      <a:pt x="109" y="138"/>
                    </a:lnTo>
                    <a:lnTo>
                      <a:pt x="106" y="121"/>
                    </a:lnTo>
                    <a:lnTo>
                      <a:pt x="100" y="104"/>
                    </a:lnTo>
                    <a:lnTo>
                      <a:pt x="95" y="87"/>
                    </a:lnTo>
                    <a:lnTo>
                      <a:pt x="90" y="71"/>
                    </a:lnTo>
                    <a:lnTo>
                      <a:pt x="83" y="55"/>
                    </a:lnTo>
                    <a:lnTo>
                      <a:pt x="76" y="40"/>
                    </a:lnTo>
                    <a:lnTo>
                      <a:pt x="68" y="27"/>
                    </a:lnTo>
                    <a:lnTo>
                      <a:pt x="60" y="13"/>
                    </a:lnTo>
                    <a:lnTo>
                      <a:pt x="51" y="0"/>
                    </a:lnTo>
                    <a:lnTo>
                      <a:pt x="31" y="15"/>
                    </a:lnTo>
                    <a:lnTo>
                      <a:pt x="39" y="27"/>
                    </a:lnTo>
                    <a:lnTo>
                      <a:pt x="47" y="38"/>
                    </a:lnTo>
                    <a:lnTo>
                      <a:pt x="54" y="52"/>
                    </a:lnTo>
                    <a:lnTo>
                      <a:pt x="61" y="65"/>
                    </a:lnTo>
                    <a:lnTo>
                      <a:pt x="67" y="79"/>
                    </a:lnTo>
                    <a:lnTo>
                      <a:pt x="73" y="95"/>
                    </a:lnTo>
                    <a:lnTo>
                      <a:pt x="77" y="110"/>
                    </a:lnTo>
                    <a:lnTo>
                      <a:pt x="82" y="127"/>
                    </a:lnTo>
                    <a:lnTo>
                      <a:pt x="85" y="144"/>
                    </a:lnTo>
                    <a:lnTo>
                      <a:pt x="88" y="161"/>
                    </a:lnTo>
                    <a:lnTo>
                      <a:pt x="92" y="179"/>
                    </a:lnTo>
                    <a:lnTo>
                      <a:pt x="94" y="196"/>
                    </a:lnTo>
                    <a:lnTo>
                      <a:pt x="95" y="215"/>
                    </a:lnTo>
                    <a:lnTo>
                      <a:pt x="96" y="233"/>
                    </a:lnTo>
                    <a:lnTo>
                      <a:pt x="96" y="252"/>
                    </a:lnTo>
                    <a:lnTo>
                      <a:pt x="96" y="270"/>
                    </a:lnTo>
                    <a:lnTo>
                      <a:pt x="95" y="289"/>
                    </a:lnTo>
                    <a:lnTo>
                      <a:pt x="94" y="307"/>
                    </a:lnTo>
                    <a:lnTo>
                      <a:pt x="92" y="325"/>
                    </a:lnTo>
                    <a:lnTo>
                      <a:pt x="90" y="343"/>
                    </a:lnTo>
                    <a:lnTo>
                      <a:pt x="86" y="361"/>
                    </a:lnTo>
                    <a:lnTo>
                      <a:pt x="82" y="378"/>
                    </a:lnTo>
                    <a:lnTo>
                      <a:pt x="77" y="394"/>
                    </a:lnTo>
                    <a:lnTo>
                      <a:pt x="71" y="410"/>
                    </a:lnTo>
                    <a:lnTo>
                      <a:pt x="66" y="426"/>
                    </a:lnTo>
                    <a:lnTo>
                      <a:pt x="59" y="440"/>
                    </a:lnTo>
                    <a:lnTo>
                      <a:pt x="51" y="454"/>
                    </a:lnTo>
                    <a:lnTo>
                      <a:pt x="43" y="467"/>
                    </a:lnTo>
                    <a:lnTo>
                      <a:pt x="35" y="479"/>
                    </a:lnTo>
                    <a:lnTo>
                      <a:pt x="25" y="490"/>
                    </a:lnTo>
                    <a:lnTo>
                      <a:pt x="16" y="501"/>
                    </a:lnTo>
                    <a:lnTo>
                      <a:pt x="4" y="510"/>
                    </a:lnTo>
                    <a:lnTo>
                      <a:pt x="19" y="528"/>
                    </a:lnTo>
                    <a:lnTo>
                      <a:pt x="4" y="510"/>
                    </a:lnTo>
                    <a:lnTo>
                      <a:pt x="1" y="513"/>
                    </a:lnTo>
                    <a:lnTo>
                      <a:pt x="0" y="518"/>
                    </a:lnTo>
                    <a:lnTo>
                      <a:pt x="1" y="522"/>
                    </a:lnTo>
                    <a:lnTo>
                      <a:pt x="2" y="527"/>
                    </a:lnTo>
                    <a:lnTo>
                      <a:pt x="5" y="529"/>
                    </a:lnTo>
                    <a:lnTo>
                      <a:pt x="10" y="532"/>
                    </a:lnTo>
                    <a:lnTo>
                      <a:pt x="14" y="532"/>
                    </a:lnTo>
                    <a:lnTo>
                      <a:pt x="19" y="528"/>
                    </a:lnTo>
                    <a:lnTo>
                      <a:pt x="4" y="5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773520" y="3387960"/>
                <a:ext cx="165240" cy="36720"/>
              </a:xfrm>
              <a:custGeom>
                <a:avLst/>
                <a:gdLst/>
                <a:ahLst/>
                <a:rect l="l" t="t" r="r" b="b"/>
                <a:pathLst>
                  <a:path w="521" h="115">
                    <a:moveTo>
                      <a:pt x="516" y="111"/>
                    </a:moveTo>
                    <a:lnTo>
                      <a:pt x="514" y="91"/>
                    </a:lnTo>
                    <a:lnTo>
                      <a:pt x="483" y="76"/>
                    </a:lnTo>
                    <a:lnTo>
                      <a:pt x="454" y="61"/>
                    </a:lnTo>
                    <a:lnTo>
                      <a:pt x="422" y="48"/>
                    </a:lnTo>
                    <a:lnTo>
                      <a:pt x="391" y="36"/>
                    </a:lnTo>
                    <a:lnTo>
                      <a:pt x="359" y="25"/>
                    </a:lnTo>
                    <a:lnTo>
                      <a:pt x="326" y="16"/>
                    </a:lnTo>
                    <a:lnTo>
                      <a:pt x="294" y="8"/>
                    </a:lnTo>
                    <a:lnTo>
                      <a:pt x="261" y="3"/>
                    </a:lnTo>
                    <a:lnTo>
                      <a:pt x="244" y="1"/>
                    </a:lnTo>
                    <a:lnTo>
                      <a:pt x="228" y="0"/>
                    </a:lnTo>
                    <a:lnTo>
                      <a:pt x="211" y="0"/>
                    </a:lnTo>
                    <a:lnTo>
                      <a:pt x="195" y="0"/>
                    </a:lnTo>
                    <a:lnTo>
                      <a:pt x="178" y="1"/>
                    </a:lnTo>
                    <a:lnTo>
                      <a:pt x="162" y="3"/>
                    </a:lnTo>
                    <a:lnTo>
                      <a:pt x="145" y="5"/>
                    </a:lnTo>
                    <a:lnTo>
                      <a:pt x="129" y="10"/>
                    </a:lnTo>
                    <a:lnTo>
                      <a:pt x="113" y="15"/>
                    </a:lnTo>
                    <a:lnTo>
                      <a:pt x="96" y="19"/>
                    </a:lnTo>
                    <a:lnTo>
                      <a:pt x="80" y="26"/>
                    </a:lnTo>
                    <a:lnTo>
                      <a:pt x="64" y="34"/>
                    </a:lnTo>
                    <a:lnTo>
                      <a:pt x="48" y="42"/>
                    </a:lnTo>
                    <a:lnTo>
                      <a:pt x="32" y="51"/>
                    </a:lnTo>
                    <a:lnTo>
                      <a:pt x="16" y="62"/>
                    </a:lnTo>
                    <a:lnTo>
                      <a:pt x="0" y="74"/>
                    </a:lnTo>
                    <a:lnTo>
                      <a:pt x="15" y="92"/>
                    </a:lnTo>
                    <a:lnTo>
                      <a:pt x="30" y="82"/>
                    </a:lnTo>
                    <a:lnTo>
                      <a:pt x="45" y="72"/>
                    </a:lnTo>
                    <a:lnTo>
                      <a:pt x="59" y="62"/>
                    </a:lnTo>
                    <a:lnTo>
                      <a:pt x="74" y="56"/>
                    </a:lnTo>
                    <a:lnTo>
                      <a:pt x="89" y="49"/>
                    </a:lnTo>
                    <a:lnTo>
                      <a:pt x="105" y="42"/>
                    </a:lnTo>
                    <a:lnTo>
                      <a:pt x="120" y="37"/>
                    </a:lnTo>
                    <a:lnTo>
                      <a:pt x="135" y="33"/>
                    </a:lnTo>
                    <a:lnTo>
                      <a:pt x="151" y="29"/>
                    </a:lnTo>
                    <a:lnTo>
                      <a:pt x="165" y="27"/>
                    </a:lnTo>
                    <a:lnTo>
                      <a:pt x="180" y="25"/>
                    </a:lnTo>
                    <a:lnTo>
                      <a:pt x="196" y="24"/>
                    </a:lnTo>
                    <a:lnTo>
                      <a:pt x="211" y="24"/>
                    </a:lnTo>
                    <a:lnTo>
                      <a:pt x="227" y="24"/>
                    </a:lnTo>
                    <a:lnTo>
                      <a:pt x="243" y="25"/>
                    </a:lnTo>
                    <a:lnTo>
                      <a:pt x="258" y="27"/>
                    </a:lnTo>
                    <a:lnTo>
                      <a:pt x="290" y="32"/>
                    </a:lnTo>
                    <a:lnTo>
                      <a:pt x="320" y="39"/>
                    </a:lnTo>
                    <a:lnTo>
                      <a:pt x="351" y="48"/>
                    </a:lnTo>
                    <a:lnTo>
                      <a:pt x="382" y="58"/>
                    </a:lnTo>
                    <a:lnTo>
                      <a:pt x="413" y="70"/>
                    </a:lnTo>
                    <a:lnTo>
                      <a:pt x="443" y="84"/>
                    </a:lnTo>
                    <a:lnTo>
                      <a:pt x="473" y="98"/>
                    </a:lnTo>
                    <a:lnTo>
                      <a:pt x="503" y="113"/>
                    </a:lnTo>
                    <a:lnTo>
                      <a:pt x="500" y="92"/>
                    </a:lnTo>
                    <a:lnTo>
                      <a:pt x="503" y="113"/>
                    </a:lnTo>
                    <a:lnTo>
                      <a:pt x="508" y="115"/>
                    </a:lnTo>
                    <a:lnTo>
                      <a:pt x="513" y="114"/>
                    </a:lnTo>
                    <a:lnTo>
                      <a:pt x="516" y="111"/>
                    </a:lnTo>
                    <a:lnTo>
                      <a:pt x="519" y="108"/>
                    </a:lnTo>
                    <a:lnTo>
                      <a:pt x="521" y="104"/>
                    </a:lnTo>
                    <a:lnTo>
                      <a:pt x="520" y="99"/>
                    </a:lnTo>
                    <a:lnTo>
                      <a:pt x="519" y="94"/>
                    </a:lnTo>
                    <a:lnTo>
                      <a:pt x="514" y="91"/>
                    </a:lnTo>
                    <a:lnTo>
                      <a:pt x="516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759120" y="3418200"/>
                <a:ext cx="177840" cy="49320"/>
              </a:xfrm>
              <a:custGeom>
                <a:avLst/>
                <a:gdLst/>
                <a:ahLst/>
                <a:rect l="l" t="t" r="r" b="b"/>
                <a:pathLst>
                  <a:path w="557" h="156">
                    <a:moveTo>
                      <a:pt x="19" y="48"/>
                    </a:moveTo>
                    <a:lnTo>
                      <a:pt x="7" y="49"/>
                    </a:lnTo>
                    <a:lnTo>
                      <a:pt x="81" y="88"/>
                    </a:lnTo>
                    <a:lnTo>
                      <a:pt x="144" y="121"/>
                    </a:lnTo>
                    <a:lnTo>
                      <a:pt x="174" y="133"/>
                    </a:lnTo>
                    <a:lnTo>
                      <a:pt x="203" y="144"/>
                    </a:lnTo>
                    <a:lnTo>
                      <a:pt x="217" y="148"/>
                    </a:lnTo>
                    <a:lnTo>
                      <a:pt x="231" y="152"/>
                    </a:lnTo>
                    <a:lnTo>
                      <a:pt x="246" y="154"/>
                    </a:lnTo>
                    <a:lnTo>
                      <a:pt x="261" y="155"/>
                    </a:lnTo>
                    <a:lnTo>
                      <a:pt x="276" y="156"/>
                    </a:lnTo>
                    <a:lnTo>
                      <a:pt x="291" y="155"/>
                    </a:lnTo>
                    <a:lnTo>
                      <a:pt x="306" y="154"/>
                    </a:lnTo>
                    <a:lnTo>
                      <a:pt x="322" y="152"/>
                    </a:lnTo>
                    <a:lnTo>
                      <a:pt x="337" y="147"/>
                    </a:lnTo>
                    <a:lnTo>
                      <a:pt x="353" y="143"/>
                    </a:lnTo>
                    <a:lnTo>
                      <a:pt x="371" y="136"/>
                    </a:lnTo>
                    <a:lnTo>
                      <a:pt x="389" y="129"/>
                    </a:lnTo>
                    <a:lnTo>
                      <a:pt x="406" y="120"/>
                    </a:lnTo>
                    <a:lnTo>
                      <a:pt x="425" y="110"/>
                    </a:lnTo>
                    <a:lnTo>
                      <a:pt x="445" y="98"/>
                    </a:lnTo>
                    <a:lnTo>
                      <a:pt x="465" y="86"/>
                    </a:lnTo>
                    <a:lnTo>
                      <a:pt x="487" y="72"/>
                    </a:lnTo>
                    <a:lnTo>
                      <a:pt x="508" y="56"/>
                    </a:lnTo>
                    <a:lnTo>
                      <a:pt x="532" y="39"/>
                    </a:lnTo>
                    <a:lnTo>
                      <a:pt x="557" y="19"/>
                    </a:lnTo>
                    <a:lnTo>
                      <a:pt x="541" y="0"/>
                    </a:lnTo>
                    <a:lnTo>
                      <a:pt x="518" y="19"/>
                    </a:lnTo>
                    <a:lnTo>
                      <a:pt x="495" y="37"/>
                    </a:lnTo>
                    <a:lnTo>
                      <a:pt x="473" y="51"/>
                    </a:lnTo>
                    <a:lnTo>
                      <a:pt x="453" y="65"/>
                    </a:lnTo>
                    <a:lnTo>
                      <a:pt x="432" y="78"/>
                    </a:lnTo>
                    <a:lnTo>
                      <a:pt x="414" y="89"/>
                    </a:lnTo>
                    <a:lnTo>
                      <a:pt x="396" y="98"/>
                    </a:lnTo>
                    <a:lnTo>
                      <a:pt x="378" y="107"/>
                    </a:lnTo>
                    <a:lnTo>
                      <a:pt x="361" y="114"/>
                    </a:lnTo>
                    <a:lnTo>
                      <a:pt x="347" y="120"/>
                    </a:lnTo>
                    <a:lnTo>
                      <a:pt x="331" y="124"/>
                    </a:lnTo>
                    <a:lnTo>
                      <a:pt x="317" y="128"/>
                    </a:lnTo>
                    <a:lnTo>
                      <a:pt x="302" y="130"/>
                    </a:lnTo>
                    <a:lnTo>
                      <a:pt x="288" y="131"/>
                    </a:lnTo>
                    <a:lnTo>
                      <a:pt x="276" y="132"/>
                    </a:lnTo>
                    <a:lnTo>
                      <a:pt x="262" y="131"/>
                    </a:lnTo>
                    <a:lnTo>
                      <a:pt x="250" y="130"/>
                    </a:lnTo>
                    <a:lnTo>
                      <a:pt x="236" y="128"/>
                    </a:lnTo>
                    <a:lnTo>
                      <a:pt x="223" y="126"/>
                    </a:lnTo>
                    <a:lnTo>
                      <a:pt x="210" y="121"/>
                    </a:lnTo>
                    <a:lnTo>
                      <a:pt x="184" y="111"/>
                    </a:lnTo>
                    <a:lnTo>
                      <a:pt x="155" y="98"/>
                    </a:lnTo>
                    <a:lnTo>
                      <a:pt x="92" y="66"/>
                    </a:lnTo>
                    <a:lnTo>
                      <a:pt x="18" y="27"/>
                    </a:lnTo>
                    <a:lnTo>
                      <a:pt x="6" y="27"/>
                    </a:lnTo>
                    <a:lnTo>
                      <a:pt x="18" y="27"/>
                    </a:lnTo>
                    <a:lnTo>
                      <a:pt x="13" y="25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2" y="32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6"/>
                    </a:lnTo>
                    <a:lnTo>
                      <a:pt x="7" y="49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81360" y="342612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267" h="320">
                    <a:moveTo>
                      <a:pt x="0" y="316"/>
                    </a:moveTo>
                    <a:lnTo>
                      <a:pt x="1" y="317"/>
                    </a:lnTo>
                    <a:lnTo>
                      <a:pt x="12" y="320"/>
                    </a:lnTo>
                    <a:lnTo>
                      <a:pt x="24" y="320"/>
                    </a:lnTo>
                    <a:lnTo>
                      <a:pt x="35" y="319"/>
                    </a:lnTo>
                    <a:lnTo>
                      <a:pt x="48" y="315"/>
                    </a:lnTo>
                    <a:lnTo>
                      <a:pt x="58" y="309"/>
                    </a:lnTo>
                    <a:lnTo>
                      <a:pt x="69" y="304"/>
                    </a:lnTo>
                    <a:lnTo>
                      <a:pt x="79" y="296"/>
                    </a:lnTo>
                    <a:lnTo>
                      <a:pt x="90" y="287"/>
                    </a:lnTo>
                    <a:lnTo>
                      <a:pt x="100" y="276"/>
                    </a:lnTo>
                    <a:lnTo>
                      <a:pt x="110" y="266"/>
                    </a:lnTo>
                    <a:lnTo>
                      <a:pt x="119" y="254"/>
                    </a:lnTo>
                    <a:lnTo>
                      <a:pt x="130" y="241"/>
                    </a:lnTo>
                    <a:lnTo>
                      <a:pt x="149" y="215"/>
                    </a:lnTo>
                    <a:lnTo>
                      <a:pt x="167" y="187"/>
                    </a:lnTo>
                    <a:lnTo>
                      <a:pt x="200" y="130"/>
                    </a:lnTo>
                    <a:lnTo>
                      <a:pt x="230" y="79"/>
                    </a:lnTo>
                    <a:lnTo>
                      <a:pt x="242" y="56"/>
                    </a:lnTo>
                    <a:lnTo>
                      <a:pt x="254" y="39"/>
                    </a:lnTo>
                    <a:lnTo>
                      <a:pt x="262" y="27"/>
                    </a:lnTo>
                    <a:lnTo>
                      <a:pt x="267" y="21"/>
                    </a:lnTo>
                    <a:lnTo>
                      <a:pt x="254" y="0"/>
                    </a:lnTo>
                    <a:lnTo>
                      <a:pt x="244" y="11"/>
                    </a:lnTo>
                    <a:lnTo>
                      <a:pt x="233" y="26"/>
                    </a:lnTo>
                    <a:lnTo>
                      <a:pt x="222" y="45"/>
                    </a:lnTo>
                    <a:lnTo>
                      <a:pt x="208" y="67"/>
                    </a:lnTo>
                    <a:lnTo>
                      <a:pt x="180" y="119"/>
                    </a:lnTo>
                    <a:lnTo>
                      <a:pt x="147" y="175"/>
                    </a:lnTo>
                    <a:lnTo>
                      <a:pt x="128" y="201"/>
                    </a:lnTo>
                    <a:lnTo>
                      <a:pt x="110" y="227"/>
                    </a:lnTo>
                    <a:lnTo>
                      <a:pt x="101" y="239"/>
                    </a:lnTo>
                    <a:lnTo>
                      <a:pt x="92" y="250"/>
                    </a:lnTo>
                    <a:lnTo>
                      <a:pt x="83" y="259"/>
                    </a:lnTo>
                    <a:lnTo>
                      <a:pt x="74" y="268"/>
                    </a:lnTo>
                    <a:lnTo>
                      <a:pt x="65" y="276"/>
                    </a:lnTo>
                    <a:lnTo>
                      <a:pt x="56" y="283"/>
                    </a:lnTo>
                    <a:lnTo>
                      <a:pt x="46" y="289"/>
                    </a:lnTo>
                    <a:lnTo>
                      <a:pt x="38" y="292"/>
                    </a:lnTo>
                    <a:lnTo>
                      <a:pt x="30" y="295"/>
                    </a:lnTo>
                    <a:lnTo>
                      <a:pt x="22" y="296"/>
                    </a:lnTo>
                    <a:lnTo>
                      <a:pt x="16" y="296"/>
                    </a:lnTo>
                    <a:lnTo>
                      <a:pt x="8" y="293"/>
                    </a:lnTo>
                    <a:lnTo>
                      <a:pt x="9" y="295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608280" y="3372120"/>
                <a:ext cx="76320" cy="154080"/>
              </a:xfrm>
              <a:custGeom>
                <a:avLst/>
                <a:gdLst/>
                <a:ahLst/>
                <a:rect l="l" t="t" r="r" b="b"/>
                <a:pathLst>
                  <a:path w="240" h="488">
                    <a:moveTo>
                      <a:pt x="199" y="8"/>
                    </a:moveTo>
                    <a:lnTo>
                      <a:pt x="198" y="8"/>
                    </a:lnTo>
                    <a:lnTo>
                      <a:pt x="183" y="5"/>
                    </a:lnTo>
                    <a:lnTo>
                      <a:pt x="169" y="3"/>
                    </a:lnTo>
                    <a:lnTo>
                      <a:pt x="155" y="1"/>
                    </a:lnTo>
                    <a:lnTo>
                      <a:pt x="142" y="0"/>
                    </a:lnTo>
                    <a:lnTo>
                      <a:pt x="129" y="0"/>
                    </a:lnTo>
                    <a:lnTo>
                      <a:pt x="118" y="1"/>
                    </a:lnTo>
                    <a:lnTo>
                      <a:pt x="106" y="3"/>
                    </a:lnTo>
                    <a:lnTo>
                      <a:pt x="95" y="4"/>
                    </a:lnTo>
                    <a:lnTo>
                      <a:pt x="85" y="7"/>
                    </a:lnTo>
                    <a:lnTo>
                      <a:pt x="76" y="11"/>
                    </a:lnTo>
                    <a:lnTo>
                      <a:pt x="67" y="14"/>
                    </a:lnTo>
                    <a:lnTo>
                      <a:pt x="57" y="19"/>
                    </a:lnTo>
                    <a:lnTo>
                      <a:pt x="51" y="24"/>
                    </a:lnTo>
                    <a:lnTo>
                      <a:pt x="43" y="30"/>
                    </a:lnTo>
                    <a:lnTo>
                      <a:pt x="36" y="36"/>
                    </a:lnTo>
                    <a:lnTo>
                      <a:pt x="30" y="43"/>
                    </a:lnTo>
                    <a:lnTo>
                      <a:pt x="24" y="50"/>
                    </a:lnTo>
                    <a:lnTo>
                      <a:pt x="20" y="57"/>
                    </a:lnTo>
                    <a:lnTo>
                      <a:pt x="15" y="65"/>
                    </a:lnTo>
                    <a:lnTo>
                      <a:pt x="12" y="74"/>
                    </a:lnTo>
                    <a:lnTo>
                      <a:pt x="6" y="92"/>
                    </a:lnTo>
                    <a:lnTo>
                      <a:pt x="3" y="111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3" y="172"/>
                    </a:lnTo>
                    <a:lnTo>
                      <a:pt x="7" y="194"/>
                    </a:lnTo>
                    <a:lnTo>
                      <a:pt x="12" y="217"/>
                    </a:lnTo>
                    <a:lnTo>
                      <a:pt x="19" y="240"/>
                    </a:lnTo>
                    <a:lnTo>
                      <a:pt x="27" y="261"/>
                    </a:lnTo>
                    <a:lnTo>
                      <a:pt x="37" y="284"/>
                    </a:lnTo>
                    <a:lnTo>
                      <a:pt x="47" y="306"/>
                    </a:lnTo>
                    <a:lnTo>
                      <a:pt x="60" y="328"/>
                    </a:lnTo>
                    <a:lnTo>
                      <a:pt x="72" y="349"/>
                    </a:lnTo>
                    <a:lnTo>
                      <a:pt x="87" y="370"/>
                    </a:lnTo>
                    <a:lnTo>
                      <a:pt x="102" y="389"/>
                    </a:lnTo>
                    <a:lnTo>
                      <a:pt x="118" y="407"/>
                    </a:lnTo>
                    <a:lnTo>
                      <a:pt x="135" y="426"/>
                    </a:lnTo>
                    <a:lnTo>
                      <a:pt x="153" y="442"/>
                    </a:lnTo>
                    <a:lnTo>
                      <a:pt x="171" y="456"/>
                    </a:lnTo>
                    <a:lnTo>
                      <a:pt x="191" y="469"/>
                    </a:lnTo>
                    <a:lnTo>
                      <a:pt x="210" y="479"/>
                    </a:lnTo>
                    <a:lnTo>
                      <a:pt x="231" y="488"/>
                    </a:lnTo>
                    <a:lnTo>
                      <a:pt x="240" y="467"/>
                    </a:lnTo>
                    <a:lnTo>
                      <a:pt x="222" y="457"/>
                    </a:lnTo>
                    <a:lnTo>
                      <a:pt x="203" y="448"/>
                    </a:lnTo>
                    <a:lnTo>
                      <a:pt x="185" y="436"/>
                    </a:lnTo>
                    <a:lnTo>
                      <a:pt x="168" y="423"/>
                    </a:lnTo>
                    <a:lnTo>
                      <a:pt x="152" y="407"/>
                    </a:lnTo>
                    <a:lnTo>
                      <a:pt x="136" y="391"/>
                    </a:lnTo>
                    <a:lnTo>
                      <a:pt x="120" y="374"/>
                    </a:lnTo>
                    <a:lnTo>
                      <a:pt x="106" y="355"/>
                    </a:lnTo>
                    <a:lnTo>
                      <a:pt x="93" y="335"/>
                    </a:lnTo>
                    <a:lnTo>
                      <a:pt x="80" y="316"/>
                    </a:lnTo>
                    <a:lnTo>
                      <a:pt x="69" y="294"/>
                    </a:lnTo>
                    <a:lnTo>
                      <a:pt x="59" y="274"/>
                    </a:lnTo>
                    <a:lnTo>
                      <a:pt x="49" y="252"/>
                    </a:lnTo>
                    <a:lnTo>
                      <a:pt x="41" y="232"/>
                    </a:lnTo>
                    <a:lnTo>
                      <a:pt x="36" y="210"/>
                    </a:lnTo>
                    <a:lnTo>
                      <a:pt x="30" y="190"/>
                    </a:lnTo>
                    <a:lnTo>
                      <a:pt x="27" y="170"/>
                    </a:lnTo>
                    <a:lnTo>
                      <a:pt x="26" y="150"/>
                    </a:lnTo>
                    <a:lnTo>
                      <a:pt x="24" y="131"/>
                    </a:lnTo>
                    <a:lnTo>
                      <a:pt x="27" y="114"/>
                    </a:lnTo>
                    <a:lnTo>
                      <a:pt x="29" y="98"/>
                    </a:lnTo>
                    <a:lnTo>
                      <a:pt x="35" y="82"/>
                    </a:lnTo>
                    <a:lnTo>
                      <a:pt x="37" y="77"/>
                    </a:lnTo>
                    <a:lnTo>
                      <a:pt x="40" y="70"/>
                    </a:lnTo>
                    <a:lnTo>
                      <a:pt x="44" y="64"/>
                    </a:lnTo>
                    <a:lnTo>
                      <a:pt x="48" y="58"/>
                    </a:lnTo>
                    <a:lnTo>
                      <a:pt x="53" y="53"/>
                    </a:lnTo>
                    <a:lnTo>
                      <a:pt x="59" y="48"/>
                    </a:lnTo>
                    <a:lnTo>
                      <a:pt x="64" y="44"/>
                    </a:lnTo>
                    <a:lnTo>
                      <a:pt x="70" y="39"/>
                    </a:lnTo>
                    <a:lnTo>
                      <a:pt x="77" y="36"/>
                    </a:lnTo>
                    <a:lnTo>
                      <a:pt x="84" y="32"/>
                    </a:lnTo>
                    <a:lnTo>
                      <a:pt x="92" y="30"/>
                    </a:lnTo>
                    <a:lnTo>
                      <a:pt x="101" y="28"/>
                    </a:lnTo>
                    <a:lnTo>
                      <a:pt x="110" y="27"/>
                    </a:lnTo>
                    <a:lnTo>
                      <a:pt x="120" y="25"/>
                    </a:lnTo>
                    <a:lnTo>
                      <a:pt x="130" y="24"/>
                    </a:lnTo>
                    <a:lnTo>
                      <a:pt x="142" y="24"/>
                    </a:lnTo>
                    <a:lnTo>
                      <a:pt x="153" y="25"/>
                    </a:lnTo>
                    <a:lnTo>
                      <a:pt x="166" y="27"/>
                    </a:lnTo>
                    <a:lnTo>
                      <a:pt x="179" y="29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99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635280" y="3287880"/>
                <a:ext cx="65160" cy="98640"/>
              </a:xfrm>
              <a:custGeom>
                <a:avLst/>
                <a:gdLst/>
                <a:ahLst/>
                <a:rect l="l" t="t" r="r" b="b"/>
                <a:pathLst>
                  <a:path w="205" h="314">
                    <a:moveTo>
                      <a:pt x="88" y="4"/>
                    </a:moveTo>
                    <a:lnTo>
                      <a:pt x="71" y="2"/>
                    </a:lnTo>
                    <a:lnTo>
                      <a:pt x="58" y="11"/>
                    </a:lnTo>
                    <a:lnTo>
                      <a:pt x="48" y="21"/>
                    </a:lnTo>
                    <a:lnTo>
                      <a:pt x="39" y="30"/>
                    </a:lnTo>
                    <a:lnTo>
                      <a:pt x="31" y="40"/>
                    </a:lnTo>
                    <a:lnTo>
                      <a:pt x="23" y="50"/>
                    </a:lnTo>
                    <a:lnTo>
                      <a:pt x="17" y="59"/>
                    </a:lnTo>
                    <a:lnTo>
                      <a:pt x="12" y="69"/>
                    </a:lnTo>
                    <a:lnTo>
                      <a:pt x="7" y="78"/>
                    </a:lnTo>
                    <a:lnTo>
                      <a:pt x="5" y="87"/>
                    </a:lnTo>
                    <a:lnTo>
                      <a:pt x="2" y="98"/>
                    </a:lnTo>
                    <a:lnTo>
                      <a:pt x="0" y="107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4" y="142"/>
                    </a:lnTo>
                    <a:lnTo>
                      <a:pt x="6" y="151"/>
                    </a:lnTo>
                    <a:lnTo>
                      <a:pt x="13" y="167"/>
                    </a:lnTo>
                    <a:lnTo>
                      <a:pt x="22" y="183"/>
                    </a:lnTo>
                    <a:lnTo>
                      <a:pt x="33" y="198"/>
                    </a:lnTo>
                    <a:lnTo>
                      <a:pt x="46" y="212"/>
                    </a:lnTo>
                    <a:lnTo>
                      <a:pt x="58" y="224"/>
                    </a:lnTo>
                    <a:lnTo>
                      <a:pt x="73" y="237"/>
                    </a:lnTo>
                    <a:lnTo>
                      <a:pt x="88" y="248"/>
                    </a:lnTo>
                    <a:lnTo>
                      <a:pt x="103" y="258"/>
                    </a:lnTo>
                    <a:lnTo>
                      <a:pt x="155" y="292"/>
                    </a:lnTo>
                    <a:lnTo>
                      <a:pt x="186" y="310"/>
                    </a:lnTo>
                    <a:lnTo>
                      <a:pt x="185" y="309"/>
                    </a:lnTo>
                    <a:lnTo>
                      <a:pt x="183" y="305"/>
                    </a:lnTo>
                    <a:lnTo>
                      <a:pt x="185" y="294"/>
                    </a:lnTo>
                    <a:lnTo>
                      <a:pt x="192" y="290"/>
                    </a:lnTo>
                    <a:lnTo>
                      <a:pt x="189" y="290"/>
                    </a:lnTo>
                    <a:lnTo>
                      <a:pt x="183" y="289"/>
                    </a:lnTo>
                    <a:lnTo>
                      <a:pt x="155" y="284"/>
                    </a:lnTo>
                    <a:lnTo>
                      <a:pt x="111" y="273"/>
                    </a:lnTo>
                    <a:lnTo>
                      <a:pt x="105" y="297"/>
                    </a:lnTo>
                    <a:lnTo>
                      <a:pt x="151" y="308"/>
                    </a:lnTo>
                    <a:lnTo>
                      <a:pt x="178" y="313"/>
                    </a:lnTo>
                    <a:lnTo>
                      <a:pt x="187" y="314"/>
                    </a:lnTo>
                    <a:lnTo>
                      <a:pt x="194" y="314"/>
                    </a:lnTo>
                    <a:lnTo>
                      <a:pt x="202" y="311"/>
                    </a:lnTo>
                    <a:lnTo>
                      <a:pt x="205" y="298"/>
                    </a:lnTo>
                    <a:lnTo>
                      <a:pt x="203" y="293"/>
                    </a:lnTo>
                    <a:lnTo>
                      <a:pt x="199" y="289"/>
                    </a:lnTo>
                    <a:lnTo>
                      <a:pt x="168" y="271"/>
                    </a:lnTo>
                    <a:lnTo>
                      <a:pt x="115" y="238"/>
                    </a:lnTo>
                    <a:lnTo>
                      <a:pt x="102" y="229"/>
                    </a:lnTo>
                    <a:lnTo>
                      <a:pt x="88" y="217"/>
                    </a:lnTo>
                    <a:lnTo>
                      <a:pt x="75" y="206"/>
                    </a:lnTo>
                    <a:lnTo>
                      <a:pt x="63" y="195"/>
                    </a:lnTo>
                    <a:lnTo>
                      <a:pt x="51" y="182"/>
                    </a:lnTo>
                    <a:lnTo>
                      <a:pt x="42" y="170"/>
                    </a:lnTo>
                    <a:lnTo>
                      <a:pt x="34" y="157"/>
                    </a:lnTo>
                    <a:lnTo>
                      <a:pt x="29" y="143"/>
                    </a:lnTo>
                    <a:lnTo>
                      <a:pt x="26" y="137"/>
                    </a:lnTo>
                    <a:lnTo>
                      <a:pt x="25" y="130"/>
                    </a:lnTo>
                    <a:lnTo>
                      <a:pt x="24" y="123"/>
                    </a:lnTo>
                    <a:lnTo>
                      <a:pt x="24" y="116"/>
                    </a:lnTo>
                    <a:lnTo>
                      <a:pt x="24" y="109"/>
                    </a:lnTo>
                    <a:lnTo>
                      <a:pt x="25" y="102"/>
                    </a:lnTo>
                    <a:lnTo>
                      <a:pt x="28" y="94"/>
                    </a:lnTo>
                    <a:lnTo>
                      <a:pt x="30" y="87"/>
                    </a:lnTo>
                    <a:lnTo>
                      <a:pt x="33" y="80"/>
                    </a:lnTo>
                    <a:lnTo>
                      <a:pt x="38" y="72"/>
                    </a:lnTo>
                    <a:lnTo>
                      <a:pt x="44" y="64"/>
                    </a:lnTo>
                    <a:lnTo>
                      <a:pt x="49" y="56"/>
                    </a:lnTo>
                    <a:lnTo>
                      <a:pt x="56" y="46"/>
                    </a:lnTo>
                    <a:lnTo>
                      <a:pt x="65" y="38"/>
                    </a:lnTo>
                    <a:lnTo>
                      <a:pt x="74" y="29"/>
                    </a:lnTo>
                    <a:lnTo>
                      <a:pt x="86" y="21"/>
                    </a:lnTo>
                    <a:lnTo>
                      <a:pt x="69" y="19"/>
                    </a:lnTo>
                    <a:lnTo>
                      <a:pt x="86" y="21"/>
                    </a:lnTo>
                    <a:lnTo>
                      <a:pt x="89" y="17"/>
                    </a:lnTo>
                    <a:lnTo>
                      <a:pt x="90" y="12"/>
                    </a:lnTo>
                    <a:lnTo>
                      <a:pt x="89" y="8"/>
                    </a:lnTo>
                    <a:lnTo>
                      <a:pt x="88" y="4"/>
                    </a:lnTo>
                    <a:lnTo>
                      <a:pt x="85" y="1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88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657600" y="3287880"/>
                <a:ext cx="60480" cy="112680"/>
              </a:xfrm>
              <a:custGeom>
                <a:avLst/>
                <a:gdLst/>
                <a:ahLst/>
                <a:rect l="l" t="t" r="r" b="b"/>
                <a:pathLst>
                  <a:path w="189" h="354">
                    <a:moveTo>
                      <a:pt x="167" y="335"/>
                    </a:moveTo>
                    <a:lnTo>
                      <a:pt x="189" y="341"/>
                    </a:lnTo>
                    <a:lnTo>
                      <a:pt x="188" y="317"/>
                    </a:lnTo>
                    <a:lnTo>
                      <a:pt x="184" y="293"/>
                    </a:lnTo>
                    <a:lnTo>
                      <a:pt x="179" y="269"/>
                    </a:lnTo>
                    <a:lnTo>
                      <a:pt x="172" y="247"/>
                    </a:lnTo>
                    <a:lnTo>
                      <a:pt x="164" y="225"/>
                    </a:lnTo>
                    <a:lnTo>
                      <a:pt x="155" y="203"/>
                    </a:lnTo>
                    <a:lnTo>
                      <a:pt x="144" y="182"/>
                    </a:lnTo>
                    <a:lnTo>
                      <a:pt x="133" y="160"/>
                    </a:lnTo>
                    <a:lnTo>
                      <a:pt x="120" y="139"/>
                    </a:lnTo>
                    <a:lnTo>
                      <a:pt x="107" y="119"/>
                    </a:lnTo>
                    <a:lnTo>
                      <a:pt x="93" y="98"/>
                    </a:lnTo>
                    <a:lnTo>
                      <a:pt x="79" y="79"/>
                    </a:lnTo>
                    <a:lnTo>
                      <a:pt x="49" y="39"/>
                    </a:lnTo>
                    <a:lnTo>
                      <a:pt x="19" y="0"/>
                    </a:lnTo>
                    <a:lnTo>
                      <a:pt x="0" y="15"/>
                    </a:lnTo>
                    <a:lnTo>
                      <a:pt x="30" y="54"/>
                    </a:lnTo>
                    <a:lnTo>
                      <a:pt x="59" y="93"/>
                    </a:lnTo>
                    <a:lnTo>
                      <a:pt x="74" y="112"/>
                    </a:lnTo>
                    <a:lnTo>
                      <a:pt x="87" y="133"/>
                    </a:lnTo>
                    <a:lnTo>
                      <a:pt x="100" y="152"/>
                    </a:lnTo>
                    <a:lnTo>
                      <a:pt x="111" y="172"/>
                    </a:lnTo>
                    <a:lnTo>
                      <a:pt x="123" y="192"/>
                    </a:lnTo>
                    <a:lnTo>
                      <a:pt x="133" y="212"/>
                    </a:lnTo>
                    <a:lnTo>
                      <a:pt x="142" y="234"/>
                    </a:lnTo>
                    <a:lnTo>
                      <a:pt x="149" y="254"/>
                    </a:lnTo>
                    <a:lnTo>
                      <a:pt x="156" y="276"/>
                    </a:lnTo>
                    <a:lnTo>
                      <a:pt x="160" y="298"/>
                    </a:lnTo>
                    <a:lnTo>
                      <a:pt x="164" y="319"/>
                    </a:lnTo>
                    <a:lnTo>
                      <a:pt x="165" y="342"/>
                    </a:lnTo>
                    <a:lnTo>
                      <a:pt x="188" y="348"/>
                    </a:lnTo>
                    <a:lnTo>
                      <a:pt x="165" y="342"/>
                    </a:lnTo>
                    <a:lnTo>
                      <a:pt x="166" y="347"/>
                    </a:lnTo>
                    <a:lnTo>
                      <a:pt x="169" y="351"/>
                    </a:lnTo>
                    <a:lnTo>
                      <a:pt x="173" y="354"/>
                    </a:lnTo>
                    <a:lnTo>
                      <a:pt x="177" y="354"/>
                    </a:lnTo>
                    <a:lnTo>
                      <a:pt x="182" y="353"/>
                    </a:lnTo>
                    <a:lnTo>
                      <a:pt x="185" y="350"/>
                    </a:lnTo>
                    <a:lnTo>
                      <a:pt x="188" y="347"/>
                    </a:lnTo>
                    <a:lnTo>
                      <a:pt x="189" y="341"/>
                    </a:lnTo>
                    <a:lnTo>
                      <a:pt x="167" y="3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372280" y="337680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3" y="426"/>
                    </a:moveTo>
                    <a:lnTo>
                      <a:pt x="461" y="449"/>
                    </a:lnTo>
                    <a:lnTo>
                      <a:pt x="436" y="474"/>
                    </a:lnTo>
                    <a:lnTo>
                      <a:pt x="411" y="498"/>
                    </a:lnTo>
                    <a:lnTo>
                      <a:pt x="383" y="522"/>
                    </a:lnTo>
                    <a:lnTo>
                      <a:pt x="370" y="532"/>
                    </a:lnTo>
                    <a:lnTo>
                      <a:pt x="355" y="542"/>
                    </a:lnTo>
                    <a:lnTo>
                      <a:pt x="340" y="550"/>
                    </a:lnTo>
                    <a:lnTo>
                      <a:pt x="325" y="558"/>
                    </a:lnTo>
                    <a:lnTo>
                      <a:pt x="310" y="564"/>
                    </a:lnTo>
                    <a:lnTo>
                      <a:pt x="294" y="568"/>
                    </a:lnTo>
                    <a:lnTo>
                      <a:pt x="278" y="572"/>
                    </a:lnTo>
                    <a:lnTo>
                      <a:pt x="262" y="573"/>
                    </a:lnTo>
                    <a:lnTo>
                      <a:pt x="258" y="539"/>
                    </a:lnTo>
                    <a:lnTo>
                      <a:pt x="256" y="505"/>
                    </a:lnTo>
                    <a:lnTo>
                      <a:pt x="256" y="487"/>
                    </a:lnTo>
                    <a:lnTo>
                      <a:pt x="256" y="470"/>
                    </a:lnTo>
                    <a:lnTo>
                      <a:pt x="258" y="454"/>
                    </a:lnTo>
                    <a:lnTo>
                      <a:pt x="260" y="437"/>
                    </a:lnTo>
                    <a:lnTo>
                      <a:pt x="265" y="423"/>
                    </a:lnTo>
                    <a:lnTo>
                      <a:pt x="270" y="407"/>
                    </a:lnTo>
                    <a:lnTo>
                      <a:pt x="276" y="393"/>
                    </a:lnTo>
                    <a:lnTo>
                      <a:pt x="285" y="379"/>
                    </a:lnTo>
                    <a:lnTo>
                      <a:pt x="294" y="367"/>
                    </a:lnTo>
                    <a:lnTo>
                      <a:pt x="306" y="355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4" y="335"/>
                    </a:lnTo>
                    <a:lnTo>
                      <a:pt x="220" y="331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9" y="304"/>
                    </a:lnTo>
                    <a:lnTo>
                      <a:pt x="45" y="295"/>
                    </a:lnTo>
                    <a:lnTo>
                      <a:pt x="28" y="283"/>
                    </a:lnTo>
                    <a:lnTo>
                      <a:pt x="14" y="272"/>
                    </a:lnTo>
                    <a:lnTo>
                      <a:pt x="6" y="261"/>
                    </a:lnTo>
                    <a:lnTo>
                      <a:pt x="1" y="248"/>
                    </a:lnTo>
                    <a:lnTo>
                      <a:pt x="0" y="236"/>
                    </a:lnTo>
                    <a:lnTo>
                      <a:pt x="4" y="224"/>
                    </a:lnTo>
                    <a:lnTo>
                      <a:pt x="11" y="212"/>
                    </a:lnTo>
                    <a:lnTo>
                      <a:pt x="20" y="200"/>
                    </a:lnTo>
                    <a:lnTo>
                      <a:pt x="32" y="189"/>
                    </a:lnTo>
                    <a:lnTo>
                      <a:pt x="47" y="177"/>
                    </a:lnTo>
                    <a:lnTo>
                      <a:pt x="63" y="168"/>
                    </a:lnTo>
                    <a:lnTo>
                      <a:pt x="81" y="159"/>
                    </a:lnTo>
                    <a:lnTo>
                      <a:pt x="101" y="151"/>
                    </a:lnTo>
                    <a:lnTo>
                      <a:pt x="122" y="145"/>
                    </a:lnTo>
                    <a:lnTo>
                      <a:pt x="144" y="141"/>
                    </a:lnTo>
                    <a:lnTo>
                      <a:pt x="166" y="139"/>
                    </a:lnTo>
                    <a:lnTo>
                      <a:pt x="188" y="138"/>
                    </a:lnTo>
                    <a:lnTo>
                      <a:pt x="210" y="139"/>
                    </a:lnTo>
                    <a:lnTo>
                      <a:pt x="232" y="142"/>
                    </a:lnTo>
                    <a:lnTo>
                      <a:pt x="252" y="148"/>
                    </a:lnTo>
                    <a:lnTo>
                      <a:pt x="273" y="156"/>
                    </a:lnTo>
                    <a:lnTo>
                      <a:pt x="291" y="167"/>
                    </a:lnTo>
                    <a:lnTo>
                      <a:pt x="308" y="182"/>
                    </a:lnTo>
                    <a:lnTo>
                      <a:pt x="323" y="199"/>
                    </a:lnTo>
                    <a:lnTo>
                      <a:pt x="334" y="220"/>
                    </a:lnTo>
                    <a:lnTo>
                      <a:pt x="343" y="193"/>
                    </a:lnTo>
                    <a:lnTo>
                      <a:pt x="354" y="169"/>
                    </a:lnTo>
                    <a:lnTo>
                      <a:pt x="365" y="147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6" y="88"/>
                    </a:lnTo>
                    <a:lnTo>
                      <a:pt x="421" y="73"/>
                    </a:lnTo>
                    <a:lnTo>
                      <a:pt x="437" y="58"/>
                    </a:lnTo>
                    <a:lnTo>
                      <a:pt x="453" y="44"/>
                    </a:lnTo>
                    <a:lnTo>
                      <a:pt x="470" y="33"/>
                    </a:lnTo>
                    <a:lnTo>
                      <a:pt x="487" y="24"/>
                    </a:lnTo>
                    <a:lnTo>
                      <a:pt x="504" y="14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8" y="1"/>
                    </a:lnTo>
                    <a:lnTo>
                      <a:pt x="575" y="0"/>
                    </a:lnTo>
                    <a:lnTo>
                      <a:pt x="592" y="0"/>
                    </a:lnTo>
                    <a:lnTo>
                      <a:pt x="609" y="2"/>
                    </a:lnTo>
                    <a:lnTo>
                      <a:pt x="625" y="6"/>
                    </a:lnTo>
                    <a:lnTo>
                      <a:pt x="641" y="12"/>
                    </a:lnTo>
                    <a:lnTo>
                      <a:pt x="656" y="20"/>
                    </a:lnTo>
                    <a:lnTo>
                      <a:pt x="670" y="29"/>
                    </a:lnTo>
                    <a:lnTo>
                      <a:pt x="684" y="41"/>
                    </a:lnTo>
                    <a:lnTo>
                      <a:pt x="697" y="54"/>
                    </a:lnTo>
                    <a:lnTo>
                      <a:pt x="708" y="69"/>
                    </a:lnTo>
                    <a:lnTo>
                      <a:pt x="718" y="86"/>
                    </a:lnTo>
                    <a:lnTo>
                      <a:pt x="726" y="106"/>
                    </a:lnTo>
                    <a:lnTo>
                      <a:pt x="734" y="127"/>
                    </a:lnTo>
                    <a:lnTo>
                      <a:pt x="740" y="150"/>
                    </a:lnTo>
                    <a:lnTo>
                      <a:pt x="744" y="175"/>
                    </a:lnTo>
                    <a:lnTo>
                      <a:pt x="748" y="202"/>
                    </a:lnTo>
                    <a:lnTo>
                      <a:pt x="748" y="231"/>
                    </a:lnTo>
                    <a:lnTo>
                      <a:pt x="584" y="247"/>
                    </a:lnTo>
                    <a:lnTo>
                      <a:pt x="585" y="266"/>
                    </a:lnTo>
                    <a:lnTo>
                      <a:pt x="587" y="287"/>
                    </a:lnTo>
                    <a:lnTo>
                      <a:pt x="591" y="309"/>
                    </a:lnTo>
                    <a:lnTo>
                      <a:pt x="596" y="330"/>
                    </a:lnTo>
                    <a:lnTo>
                      <a:pt x="608" y="373"/>
                    </a:lnTo>
                    <a:lnTo>
                      <a:pt x="623" y="419"/>
                    </a:lnTo>
                    <a:lnTo>
                      <a:pt x="636" y="466"/>
                    </a:lnTo>
                    <a:lnTo>
                      <a:pt x="649" y="511"/>
                    </a:lnTo>
                    <a:lnTo>
                      <a:pt x="653" y="534"/>
                    </a:lnTo>
                    <a:lnTo>
                      <a:pt x="657" y="557"/>
                    </a:lnTo>
                    <a:lnTo>
                      <a:pt x="659" y="580"/>
                    </a:lnTo>
                    <a:lnTo>
                      <a:pt x="660" y="603"/>
                    </a:lnTo>
                    <a:lnTo>
                      <a:pt x="648" y="601"/>
                    </a:lnTo>
                    <a:lnTo>
                      <a:pt x="636" y="600"/>
                    </a:lnTo>
                    <a:lnTo>
                      <a:pt x="625" y="598"/>
                    </a:lnTo>
                    <a:lnTo>
                      <a:pt x="613" y="596"/>
                    </a:lnTo>
                    <a:lnTo>
                      <a:pt x="603" y="592"/>
                    </a:lnTo>
                    <a:lnTo>
                      <a:pt x="593" y="588"/>
                    </a:lnTo>
                    <a:lnTo>
                      <a:pt x="583" y="583"/>
                    </a:lnTo>
                    <a:lnTo>
                      <a:pt x="574" y="579"/>
                    </a:lnTo>
                    <a:lnTo>
                      <a:pt x="556" y="567"/>
                    </a:lnTo>
                    <a:lnTo>
                      <a:pt x="542" y="554"/>
                    </a:lnTo>
                    <a:lnTo>
                      <a:pt x="527" y="539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7" y="493"/>
                    </a:lnTo>
                    <a:lnTo>
                      <a:pt x="490" y="478"/>
                    </a:lnTo>
                    <a:lnTo>
                      <a:pt x="485" y="465"/>
                    </a:lnTo>
                    <a:lnTo>
                      <a:pt x="482" y="452"/>
                    </a:lnTo>
                    <a:lnTo>
                      <a:pt x="480" y="441"/>
                    </a:lnTo>
                    <a:lnTo>
                      <a:pt x="481" y="432"/>
                    </a:lnTo>
                    <a:lnTo>
                      <a:pt x="483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51480" y="3510360"/>
                <a:ext cx="76320" cy="52200"/>
              </a:xfrm>
              <a:custGeom>
                <a:avLst/>
                <a:gdLst/>
                <a:ahLst/>
                <a:rect l="l" t="t" r="r" b="b"/>
                <a:pathLst>
                  <a:path w="241" h="167">
                    <a:moveTo>
                      <a:pt x="0" y="157"/>
                    </a:moveTo>
                    <a:lnTo>
                      <a:pt x="12" y="167"/>
                    </a:lnTo>
                    <a:lnTo>
                      <a:pt x="29" y="166"/>
                    </a:lnTo>
                    <a:lnTo>
                      <a:pt x="47" y="164"/>
                    </a:lnTo>
                    <a:lnTo>
                      <a:pt x="64" y="158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4"/>
                    </a:lnTo>
                    <a:lnTo>
                      <a:pt x="126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1" y="17"/>
                    </a:lnTo>
                    <a:lnTo>
                      <a:pt x="225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1" y="72"/>
                    </a:lnTo>
                    <a:lnTo>
                      <a:pt x="125" y="94"/>
                    </a:lnTo>
                    <a:lnTo>
                      <a:pt x="112" y="105"/>
                    </a:lnTo>
                    <a:lnTo>
                      <a:pt x="98" y="115"/>
                    </a:lnTo>
                    <a:lnTo>
                      <a:pt x="84" y="123"/>
                    </a:lnTo>
                    <a:lnTo>
                      <a:pt x="70" y="130"/>
                    </a:lnTo>
                    <a:lnTo>
                      <a:pt x="56" y="135"/>
                    </a:lnTo>
                    <a:lnTo>
                      <a:pt x="41" y="140"/>
                    </a:lnTo>
                    <a:lnTo>
                      <a:pt x="27" y="142"/>
                    </a:lnTo>
                    <a:lnTo>
                      <a:pt x="12" y="143"/>
                    </a:lnTo>
                    <a:lnTo>
                      <a:pt x="24" y="154"/>
                    </a:lnTo>
                    <a:lnTo>
                      <a:pt x="12" y="143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3" y="164"/>
                    </a:lnTo>
                    <a:lnTo>
                      <a:pt x="7" y="166"/>
                    </a:lnTo>
                    <a:lnTo>
                      <a:pt x="12" y="167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448240" y="348012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1">
                    <a:moveTo>
                      <a:pt x="91" y="24"/>
                    </a:moveTo>
                    <a:lnTo>
                      <a:pt x="85" y="1"/>
                    </a:lnTo>
                    <a:lnTo>
                      <a:pt x="70" y="12"/>
                    </a:lnTo>
                    <a:lnTo>
                      <a:pt x="55" y="23"/>
                    </a:lnTo>
                    <a:lnTo>
                      <a:pt x="42" y="36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79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2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3"/>
                    </a:lnTo>
                    <a:lnTo>
                      <a:pt x="2" y="217"/>
                    </a:lnTo>
                    <a:lnTo>
                      <a:pt x="7" y="251"/>
                    </a:lnTo>
                    <a:lnTo>
                      <a:pt x="31" y="248"/>
                    </a:lnTo>
                    <a:lnTo>
                      <a:pt x="26" y="215"/>
                    </a:lnTo>
                    <a:lnTo>
                      <a:pt x="24" y="182"/>
                    </a:lnTo>
                    <a:lnTo>
                      <a:pt x="24" y="164"/>
                    </a:lnTo>
                    <a:lnTo>
                      <a:pt x="25" y="149"/>
                    </a:lnTo>
                    <a:lnTo>
                      <a:pt x="26" y="133"/>
                    </a:lnTo>
                    <a:lnTo>
                      <a:pt x="30" y="118"/>
                    </a:lnTo>
                    <a:lnTo>
                      <a:pt x="33" y="103"/>
                    </a:lnTo>
                    <a:lnTo>
                      <a:pt x="38" y="88"/>
                    </a:lnTo>
                    <a:lnTo>
                      <a:pt x="44" y="76"/>
                    </a:lnTo>
                    <a:lnTo>
                      <a:pt x="51" y="63"/>
                    </a:lnTo>
                    <a:lnTo>
                      <a:pt x="60" y="52"/>
                    </a:lnTo>
                    <a:lnTo>
                      <a:pt x="71" y="41"/>
                    </a:lnTo>
                    <a:lnTo>
                      <a:pt x="83" y="31"/>
                    </a:lnTo>
                    <a:lnTo>
                      <a:pt x="97" y="23"/>
                    </a:lnTo>
                    <a:lnTo>
                      <a:pt x="91" y="0"/>
                    </a:lnTo>
                    <a:lnTo>
                      <a:pt x="97" y="23"/>
                    </a:lnTo>
                    <a:lnTo>
                      <a:pt x="101" y="20"/>
                    </a:lnTo>
                    <a:lnTo>
                      <a:pt x="104" y="15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99" y="4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367240" y="341640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2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7"/>
                    </a:lnTo>
                    <a:lnTo>
                      <a:pt x="344" y="67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1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9" y="11"/>
                    </a:lnTo>
                    <a:lnTo>
                      <a:pt x="257" y="8"/>
                    </a:lnTo>
                    <a:lnTo>
                      <a:pt x="246" y="5"/>
                    </a:lnTo>
                    <a:lnTo>
                      <a:pt x="223" y="1"/>
                    </a:lnTo>
                    <a:lnTo>
                      <a:pt x="200" y="0"/>
                    </a:lnTo>
                    <a:lnTo>
                      <a:pt x="176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09" y="15"/>
                    </a:lnTo>
                    <a:lnTo>
                      <a:pt x="89" y="23"/>
                    </a:lnTo>
                    <a:lnTo>
                      <a:pt x="69" y="32"/>
                    </a:lnTo>
                    <a:lnTo>
                      <a:pt x="52" y="42"/>
                    </a:lnTo>
                    <a:lnTo>
                      <a:pt x="36" y="54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8" y="87"/>
                    </a:lnTo>
                    <a:lnTo>
                      <a:pt x="4" y="95"/>
                    </a:lnTo>
                    <a:lnTo>
                      <a:pt x="2" y="101"/>
                    </a:lnTo>
                    <a:lnTo>
                      <a:pt x="1" y="109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3" y="133"/>
                    </a:lnTo>
                    <a:lnTo>
                      <a:pt x="7" y="141"/>
                    </a:lnTo>
                    <a:lnTo>
                      <a:pt x="11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3" y="169"/>
                    </a:lnTo>
                    <a:lnTo>
                      <a:pt x="42" y="174"/>
                    </a:lnTo>
                    <a:lnTo>
                      <a:pt x="52" y="180"/>
                    </a:lnTo>
                    <a:lnTo>
                      <a:pt x="64" y="186"/>
                    </a:lnTo>
                    <a:lnTo>
                      <a:pt x="76" y="190"/>
                    </a:lnTo>
                    <a:lnTo>
                      <a:pt x="91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2" y="211"/>
                    </a:lnTo>
                    <a:lnTo>
                      <a:pt x="183" y="214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6" y="197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8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8"/>
                    </a:lnTo>
                    <a:lnTo>
                      <a:pt x="73" y="163"/>
                    </a:lnTo>
                    <a:lnTo>
                      <a:pt x="62" y="158"/>
                    </a:lnTo>
                    <a:lnTo>
                      <a:pt x="53" y="154"/>
                    </a:lnTo>
                    <a:lnTo>
                      <a:pt x="46" y="149"/>
                    </a:lnTo>
                    <a:lnTo>
                      <a:pt x="40" y="144"/>
                    </a:lnTo>
                    <a:lnTo>
                      <a:pt x="35" y="139"/>
                    </a:lnTo>
                    <a:lnTo>
                      <a:pt x="30" y="134"/>
                    </a:lnTo>
                    <a:lnTo>
                      <a:pt x="28" y="130"/>
                    </a:lnTo>
                    <a:lnTo>
                      <a:pt x="26" y="125"/>
                    </a:lnTo>
                    <a:lnTo>
                      <a:pt x="25" y="121"/>
                    </a:lnTo>
                    <a:lnTo>
                      <a:pt x="25" y="117"/>
                    </a:lnTo>
                    <a:lnTo>
                      <a:pt x="25" y="113"/>
                    </a:lnTo>
                    <a:lnTo>
                      <a:pt x="26" y="108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3" y="93"/>
                    </a:lnTo>
                    <a:lnTo>
                      <a:pt x="36" y="88"/>
                    </a:lnTo>
                    <a:lnTo>
                      <a:pt x="41" y="83"/>
                    </a:lnTo>
                    <a:lnTo>
                      <a:pt x="45" y="77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7" y="39"/>
                    </a:lnTo>
                    <a:lnTo>
                      <a:pt x="136" y="32"/>
                    </a:lnTo>
                    <a:lnTo>
                      <a:pt x="157" y="28"/>
                    </a:lnTo>
                    <a:lnTo>
                      <a:pt x="179" y="25"/>
                    </a:lnTo>
                    <a:lnTo>
                      <a:pt x="200" y="24"/>
                    </a:lnTo>
                    <a:lnTo>
                      <a:pt x="221" y="25"/>
                    </a:lnTo>
                    <a:lnTo>
                      <a:pt x="241" y="28"/>
                    </a:lnTo>
                    <a:lnTo>
                      <a:pt x="252" y="31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8" y="47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0" y="90"/>
                    </a:lnTo>
                    <a:lnTo>
                      <a:pt x="336" y="99"/>
                    </a:lnTo>
                    <a:lnTo>
                      <a:pt x="358" y="98"/>
                    </a:lnTo>
                    <a:lnTo>
                      <a:pt x="336" y="99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6"/>
                    </a:lnTo>
                    <a:lnTo>
                      <a:pt x="352" y="105"/>
                    </a:lnTo>
                    <a:lnTo>
                      <a:pt x="355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473800" y="33735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6" y="257"/>
                    </a:moveTo>
                    <a:lnTo>
                      <a:pt x="437" y="244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29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5"/>
                    </a:lnTo>
                    <a:lnTo>
                      <a:pt x="383" y="59"/>
                    </a:lnTo>
                    <a:lnTo>
                      <a:pt x="369" y="44"/>
                    </a:lnTo>
                    <a:lnTo>
                      <a:pt x="354" y="33"/>
                    </a:lnTo>
                    <a:lnTo>
                      <a:pt x="339" y="23"/>
                    </a:lnTo>
                    <a:lnTo>
                      <a:pt x="322" y="14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2" y="1"/>
                    </a:lnTo>
                    <a:lnTo>
                      <a:pt x="214" y="5"/>
                    </a:lnTo>
                    <a:lnTo>
                      <a:pt x="196" y="10"/>
                    </a:lnTo>
                    <a:lnTo>
                      <a:pt x="176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6"/>
                    </a:lnTo>
                    <a:lnTo>
                      <a:pt x="74" y="94"/>
                    </a:lnTo>
                    <a:lnTo>
                      <a:pt x="58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2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2" y="109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7"/>
                    </a:lnTo>
                    <a:lnTo>
                      <a:pt x="152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8" y="31"/>
                    </a:lnTo>
                    <a:lnTo>
                      <a:pt x="313" y="37"/>
                    </a:lnTo>
                    <a:lnTo>
                      <a:pt x="327" y="43"/>
                    </a:lnTo>
                    <a:lnTo>
                      <a:pt x="339" y="52"/>
                    </a:lnTo>
                    <a:lnTo>
                      <a:pt x="352" y="63"/>
                    </a:lnTo>
                    <a:lnTo>
                      <a:pt x="363" y="75"/>
                    </a:lnTo>
                    <a:lnTo>
                      <a:pt x="375" y="89"/>
                    </a:lnTo>
                    <a:lnTo>
                      <a:pt x="384" y="105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5" y="250"/>
                    </a:lnTo>
                    <a:lnTo>
                      <a:pt x="417" y="253"/>
                    </a:lnTo>
                    <a:lnTo>
                      <a:pt x="421" y="255"/>
                    </a:lnTo>
                    <a:lnTo>
                      <a:pt x="425" y="257"/>
                    </a:lnTo>
                    <a:lnTo>
                      <a:pt x="429" y="255"/>
                    </a:lnTo>
                    <a:lnTo>
                      <a:pt x="434" y="253"/>
                    </a:lnTo>
                    <a:lnTo>
                      <a:pt x="436" y="250"/>
                    </a:lnTo>
                    <a:lnTo>
                      <a:pt x="437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53000" y="3446640"/>
                <a:ext cx="55800" cy="129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7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6" y="0"/>
                    </a:lnTo>
                    <a:lnTo>
                      <a:pt x="12" y="16"/>
                    </a:lnTo>
                    <a:lnTo>
                      <a:pt x="0" y="27"/>
                    </a:lnTo>
                    <a:lnTo>
                      <a:pt x="12" y="16"/>
                    </a:lnTo>
                    <a:lnTo>
                      <a:pt x="7" y="17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1" y="28"/>
                    </a:lnTo>
                    <a:lnTo>
                      <a:pt x="3" y="33"/>
                    </a:lnTo>
                    <a:lnTo>
                      <a:pt x="5" y="36"/>
                    </a:lnTo>
                    <a:lnTo>
                      <a:pt x="8" y="38"/>
                    </a:lnTo>
                    <a:lnTo>
                      <a:pt x="14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53000" y="345636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367"/>
                    </a:moveTo>
                    <a:lnTo>
                      <a:pt x="102" y="356"/>
                    </a:lnTo>
                    <a:lnTo>
                      <a:pt x="101" y="332"/>
                    </a:lnTo>
                    <a:lnTo>
                      <a:pt x="98" y="309"/>
                    </a:lnTo>
                    <a:lnTo>
                      <a:pt x="94" y="285"/>
                    </a:lnTo>
                    <a:lnTo>
                      <a:pt x="89" y="262"/>
                    </a:lnTo>
                    <a:lnTo>
                      <a:pt x="77" y="215"/>
                    </a:lnTo>
                    <a:lnTo>
                      <a:pt x="63" y="169"/>
                    </a:lnTo>
                    <a:lnTo>
                      <a:pt x="48" y="124"/>
                    </a:lnTo>
                    <a:lnTo>
                      <a:pt x="37" y="80"/>
                    </a:lnTo>
                    <a:lnTo>
                      <a:pt x="32" y="59"/>
                    </a:lnTo>
                    <a:lnTo>
                      <a:pt x="29" y="39"/>
                    </a:lnTo>
                    <a:lnTo>
                      <a:pt x="25" y="19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4" y="42"/>
                    </a:lnTo>
                    <a:lnTo>
                      <a:pt x="8" y="64"/>
                    </a:lnTo>
                    <a:lnTo>
                      <a:pt x="13" y="85"/>
                    </a:lnTo>
                    <a:lnTo>
                      <a:pt x="25" y="130"/>
                    </a:lnTo>
                    <a:lnTo>
                      <a:pt x="39" y="176"/>
                    </a:lnTo>
                    <a:lnTo>
                      <a:pt x="54" y="222"/>
                    </a:lnTo>
                    <a:lnTo>
                      <a:pt x="65" y="268"/>
                    </a:lnTo>
                    <a:lnTo>
                      <a:pt x="70" y="290"/>
                    </a:lnTo>
                    <a:lnTo>
                      <a:pt x="74" y="312"/>
                    </a:lnTo>
                    <a:lnTo>
                      <a:pt x="77" y="334"/>
                    </a:lnTo>
                    <a:lnTo>
                      <a:pt x="77" y="356"/>
                    </a:lnTo>
                    <a:lnTo>
                      <a:pt x="89" y="343"/>
                    </a:lnTo>
                    <a:lnTo>
                      <a:pt x="77" y="356"/>
                    </a:lnTo>
                    <a:lnTo>
                      <a:pt x="78" y="360"/>
                    </a:lnTo>
                    <a:lnTo>
                      <a:pt x="81" y="365"/>
                    </a:lnTo>
                    <a:lnTo>
                      <a:pt x="85" y="367"/>
                    </a:lnTo>
                    <a:lnTo>
                      <a:pt x="89" y="367"/>
                    </a:lnTo>
                    <a:lnTo>
                      <a:pt x="94" y="367"/>
                    </a:lnTo>
                    <a:lnTo>
                      <a:pt x="97" y="365"/>
                    </a:lnTo>
                    <a:lnTo>
                      <a:pt x="101" y="360"/>
                    </a:lnTo>
                    <a:lnTo>
                      <a:pt x="102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519880" y="35085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2" y="21"/>
                    </a:moveTo>
                    <a:lnTo>
                      <a:pt x="4" y="6"/>
                    </a:lnTo>
                    <a:lnTo>
                      <a:pt x="1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6" y="118"/>
                    </a:lnTo>
                    <a:lnTo>
                      <a:pt x="49" y="134"/>
                    </a:lnTo>
                    <a:lnTo>
                      <a:pt x="63" y="150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2"/>
                    </a:lnTo>
                    <a:lnTo>
                      <a:pt x="119" y="186"/>
                    </a:lnTo>
                    <a:lnTo>
                      <a:pt x="130" y="191"/>
                    </a:lnTo>
                    <a:lnTo>
                      <a:pt x="141" y="194"/>
                    </a:lnTo>
                    <a:lnTo>
                      <a:pt x="154" y="198"/>
                    </a:lnTo>
                    <a:lnTo>
                      <a:pt x="165" y="200"/>
                    </a:lnTo>
                    <a:lnTo>
                      <a:pt x="177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8" y="176"/>
                    </a:lnTo>
                    <a:lnTo>
                      <a:pt x="158" y="174"/>
                    </a:lnTo>
                    <a:lnTo>
                      <a:pt x="148" y="171"/>
                    </a:lnTo>
                    <a:lnTo>
                      <a:pt x="138" y="168"/>
                    </a:lnTo>
                    <a:lnTo>
                      <a:pt x="128" y="165"/>
                    </a:lnTo>
                    <a:lnTo>
                      <a:pt x="119" y="160"/>
                    </a:lnTo>
                    <a:lnTo>
                      <a:pt x="111" y="155"/>
                    </a:lnTo>
                    <a:lnTo>
                      <a:pt x="95" y="144"/>
                    </a:lnTo>
                    <a:lnTo>
                      <a:pt x="81" y="131"/>
                    </a:lnTo>
                    <a:lnTo>
                      <a:pt x="67" y="118"/>
                    </a:lnTo>
                    <a:lnTo>
                      <a:pt x="56" y="104"/>
                    </a:lnTo>
                    <a:lnTo>
                      <a:pt x="46" y="89"/>
                    </a:lnTo>
                    <a:lnTo>
                      <a:pt x="38" y="76"/>
                    </a:lnTo>
                    <a:lnTo>
                      <a:pt x="32" y="61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8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6" y="4"/>
                    </a:lnTo>
                    <a:lnTo>
                      <a:pt x="25" y="19"/>
                    </a:lnTo>
                    <a:lnTo>
                      <a:pt x="27" y="14"/>
                    </a:lnTo>
                    <a:lnTo>
                      <a:pt x="26" y="10"/>
                    </a:lnTo>
                    <a:lnTo>
                      <a:pt x="25" y="5"/>
                    </a:lnTo>
                    <a:lnTo>
                      <a:pt x="21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96080" y="3362760"/>
                <a:ext cx="320400" cy="1904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5" y="190"/>
                    </a:moveTo>
                    <a:lnTo>
                      <a:pt x="470" y="210"/>
                    </a:lnTo>
                    <a:lnTo>
                      <a:pt x="486" y="230"/>
                    </a:lnTo>
                    <a:lnTo>
                      <a:pt x="504" y="249"/>
                    </a:lnTo>
                    <a:lnTo>
                      <a:pt x="525" y="270"/>
                    </a:lnTo>
                    <a:lnTo>
                      <a:pt x="545" y="289"/>
                    </a:lnTo>
                    <a:lnTo>
                      <a:pt x="568" y="308"/>
                    </a:lnTo>
                    <a:lnTo>
                      <a:pt x="591" y="327"/>
                    </a:lnTo>
                    <a:lnTo>
                      <a:pt x="616" y="345"/>
                    </a:lnTo>
                    <a:lnTo>
                      <a:pt x="641" y="362"/>
                    </a:lnTo>
                    <a:lnTo>
                      <a:pt x="666" y="379"/>
                    </a:lnTo>
                    <a:lnTo>
                      <a:pt x="692" y="395"/>
                    </a:lnTo>
                    <a:lnTo>
                      <a:pt x="719" y="410"/>
                    </a:lnTo>
                    <a:lnTo>
                      <a:pt x="744" y="424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6"/>
                    </a:lnTo>
                    <a:lnTo>
                      <a:pt x="820" y="421"/>
                    </a:lnTo>
                    <a:lnTo>
                      <a:pt x="817" y="389"/>
                    </a:lnTo>
                    <a:lnTo>
                      <a:pt x="812" y="361"/>
                    </a:lnTo>
                    <a:lnTo>
                      <a:pt x="806" y="334"/>
                    </a:lnTo>
                    <a:lnTo>
                      <a:pt x="800" y="311"/>
                    </a:lnTo>
                    <a:lnTo>
                      <a:pt x="792" y="289"/>
                    </a:lnTo>
                    <a:lnTo>
                      <a:pt x="782" y="270"/>
                    </a:lnTo>
                    <a:lnTo>
                      <a:pt x="773" y="253"/>
                    </a:lnTo>
                    <a:lnTo>
                      <a:pt x="764" y="238"/>
                    </a:lnTo>
                    <a:lnTo>
                      <a:pt x="755" y="224"/>
                    </a:lnTo>
                    <a:lnTo>
                      <a:pt x="746" y="213"/>
                    </a:lnTo>
                    <a:lnTo>
                      <a:pt x="737" y="204"/>
                    </a:lnTo>
                    <a:lnTo>
                      <a:pt x="722" y="189"/>
                    </a:lnTo>
                    <a:lnTo>
                      <a:pt x="712" y="180"/>
                    </a:lnTo>
                    <a:lnTo>
                      <a:pt x="708" y="176"/>
                    </a:lnTo>
                    <a:lnTo>
                      <a:pt x="707" y="174"/>
                    </a:lnTo>
                    <a:lnTo>
                      <a:pt x="708" y="174"/>
                    </a:lnTo>
                    <a:lnTo>
                      <a:pt x="712" y="173"/>
                    </a:lnTo>
                    <a:lnTo>
                      <a:pt x="725" y="175"/>
                    </a:lnTo>
                    <a:lnTo>
                      <a:pt x="752" y="177"/>
                    </a:lnTo>
                    <a:lnTo>
                      <a:pt x="792" y="182"/>
                    </a:lnTo>
                    <a:lnTo>
                      <a:pt x="846" y="187"/>
                    </a:lnTo>
                    <a:lnTo>
                      <a:pt x="880" y="188"/>
                    </a:lnTo>
                    <a:lnTo>
                      <a:pt x="919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09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8" y="111"/>
                    </a:lnTo>
                    <a:lnTo>
                      <a:pt x="966" y="99"/>
                    </a:lnTo>
                    <a:lnTo>
                      <a:pt x="950" y="87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2" y="53"/>
                    </a:lnTo>
                    <a:lnTo>
                      <a:pt x="851" y="46"/>
                    </a:lnTo>
                    <a:lnTo>
                      <a:pt x="827" y="42"/>
                    </a:lnTo>
                    <a:lnTo>
                      <a:pt x="802" y="36"/>
                    </a:lnTo>
                    <a:lnTo>
                      <a:pt x="777" y="31"/>
                    </a:lnTo>
                    <a:lnTo>
                      <a:pt x="751" y="28"/>
                    </a:lnTo>
                    <a:lnTo>
                      <a:pt x="698" y="22"/>
                    </a:lnTo>
                    <a:lnTo>
                      <a:pt x="645" y="18"/>
                    </a:lnTo>
                    <a:lnTo>
                      <a:pt x="591" y="14"/>
                    </a:lnTo>
                    <a:lnTo>
                      <a:pt x="541" y="12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4"/>
                    </a:lnTo>
                    <a:lnTo>
                      <a:pt x="379" y="0"/>
                    </a:lnTo>
                    <a:lnTo>
                      <a:pt x="373" y="9"/>
                    </a:lnTo>
                    <a:lnTo>
                      <a:pt x="365" y="18"/>
                    </a:lnTo>
                    <a:lnTo>
                      <a:pt x="356" y="28"/>
                    </a:lnTo>
                    <a:lnTo>
                      <a:pt x="346" y="38"/>
                    </a:lnTo>
                    <a:lnTo>
                      <a:pt x="323" y="60"/>
                    </a:lnTo>
                    <a:lnTo>
                      <a:pt x="296" y="85"/>
                    </a:lnTo>
                    <a:lnTo>
                      <a:pt x="234" y="136"/>
                    </a:lnTo>
                    <a:lnTo>
                      <a:pt x="168" y="191"/>
                    </a:lnTo>
                    <a:lnTo>
                      <a:pt x="135" y="218"/>
                    </a:lnTo>
                    <a:lnTo>
                      <a:pt x="104" y="246"/>
                    </a:lnTo>
                    <a:lnTo>
                      <a:pt x="76" y="272"/>
                    </a:lnTo>
                    <a:lnTo>
                      <a:pt x="51" y="298"/>
                    </a:lnTo>
                    <a:lnTo>
                      <a:pt x="39" y="311"/>
                    </a:lnTo>
                    <a:lnTo>
                      <a:pt x="30" y="322"/>
                    </a:lnTo>
                    <a:lnTo>
                      <a:pt x="21" y="334"/>
                    </a:lnTo>
                    <a:lnTo>
                      <a:pt x="13" y="345"/>
                    </a:lnTo>
                    <a:lnTo>
                      <a:pt x="7" y="355"/>
                    </a:lnTo>
                    <a:lnTo>
                      <a:pt x="3" y="364"/>
                    </a:lnTo>
                    <a:lnTo>
                      <a:pt x="1" y="373"/>
                    </a:lnTo>
                    <a:lnTo>
                      <a:pt x="0" y="383"/>
                    </a:lnTo>
                    <a:lnTo>
                      <a:pt x="27" y="387"/>
                    </a:lnTo>
                    <a:lnTo>
                      <a:pt x="53" y="389"/>
                    </a:lnTo>
                    <a:lnTo>
                      <a:pt x="78" y="389"/>
                    </a:lnTo>
                    <a:lnTo>
                      <a:pt x="103" y="388"/>
                    </a:lnTo>
                    <a:lnTo>
                      <a:pt x="128" y="385"/>
                    </a:lnTo>
                    <a:lnTo>
                      <a:pt x="152" y="380"/>
                    </a:lnTo>
                    <a:lnTo>
                      <a:pt x="176" y="375"/>
                    </a:lnTo>
                    <a:lnTo>
                      <a:pt x="200" y="368"/>
                    </a:lnTo>
                    <a:lnTo>
                      <a:pt x="223" y="359"/>
                    </a:lnTo>
                    <a:lnTo>
                      <a:pt x="246" y="348"/>
                    </a:lnTo>
                    <a:lnTo>
                      <a:pt x="268" y="337"/>
                    </a:lnTo>
                    <a:lnTo>
                      <a:pt x="290" y="324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7" y="281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3" y="408"/>
                    </a:lnTo>
                    <a:lnTo>
                      <a:pt x="372" y="456"/>
                    </a:lnTo>
                    <a:lnTo>
                      <a:pt x="372" y="478"/>
                    </a:lnTo>
                    <a:lnTo>
                      <a:pt x="373" y="501"/>
                    </a:lnTo>
                    <a:lnTo>
                      <a:pt x="376" y="522"/>
                    </a:lnTo>
                    <a:lnTo>
                      <a:pt x="380" y="541"/>
                    </a:lnTo>
                    <a:lnTo>
                      <a:pt x="385" y="559"/>
                    </a:lnTo>
                    <a:lnTo>
                      <a:pt x="392" y="576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5" y="597"/>
                    </a:lnTo>
                    <a:lnTo>
                      <a:pt x="410" y="603"/>
                    </a:lnTo>
                    <a:lnTo>
                      <a:pt x="455" y="603"/>
                    </a:lnTo>
                    <a:lnTo>
                      <a:pt x="467" y="560"/>
                    </a:lnTo>
                    <a:lnTo>
                      <a:pt x="479" y="518"/>
                    </a:lnTo>
                    <a:lnTo>
                      <a:pt x="485" y="498"/>
                    </a:lnTo>
                    <a:lnTo>
                      <a:pt x="490" y="476"/>
                    </a:lnTo>
                    <a:lnTo>
                      <a:pt x="494" y="454"/>
                    </a:lnTo>
                    <a:lnTo>
                      <a:pt x="498" y="430"/>
                    </a:lnTo>
                    <a:lnTo>
                      <a:pt x="500" y="407"/>
                    </a:lnTo>
                    <a:lnTo>
                      <a:pt x="500" y="381"/>
                    </a:lnTo>
                    <a:lnTo>
                      <a:pt x="499" y="355"/>
                    </a:lnTo>
                    <a:lnTo>
                      <a:pt x="495" y="327"/>
                    </a:lnTo>
                    <a:lnTo>
                      <a:pt x="490" y="296"/>
                    </a:lnTo>
                    <a:lnTo>
                      <a:pt x="480" y="263"/>
                    </a:lnTo>
                    <a:lnTo>
                      <a:pt x="469" y="228"/>
                    </a:lnTo>
                    <a:lnTo>
                      <a:pt x="455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37200" y="34196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5">
                    <a:moveTo>
                      <a:pt x="364" y="273"/>
                    </a:moveTo>
                    <a:lnTo>
                      <a:pt x="380" y="261"/>
                    </a:lnTo>
                    <a:lnTo>
                      <a:pt x="355" y="252"/>
                    </a:lnTo>
                    <a:lnTo>
                      <a:pt x="329" y="242"/>
                    </a:lnTo>
                    <a:lnTo>
                      <a:pt x="304" y="229"/>
                    </a:lnTo>
                    <a:lnTo>
                      <a:pt x="279" y="216"/>
                    </a:lnTo>
                    <a:lnTo>
                      <a:pt x="253" y="202"/>
                    </a:lnTo>
                    <a:lnTo>
                      <a:pt x="228" y="186"/>
                    </a:lnTo>
                    <a:lnTo>
                      <a:pt x="203" y="170"/>
                    </a:lnTo>
                    <a:lnTo>
                      <a:pt x="178" y="152"/>
                    </a:lnTo>
                    <a:lnTo>
                      <a:pt x="154" y="135"/>
                    </a:lnTo>
                    <a:lnTo>
                      <a:pt x="131" y="115"/>
                    </a:lnTo>
                    <a:lnTo>
                      <a:pt x="108" y="97"/>
                    </a:lnTo>
                    <a:lnTo>
                      <a:pt x="88" y="78"/>
                    </a:lnTo>
                    <a:lnTo>
                      <a:pt x="69" y="58"/>
                    </a:lnTo>
                    <a:lnTo>
                      <a:pt x="50" y="39"/>
                    </a:lnTo>
                    <a:lnTo>
                      <a:pt x="34" y="1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15" y="34"/>
                    </a:lnTo>
                    <a:lnTo>
                      <a:pt x="32" y="55"/>
                    </a:lnTo>
                    <a:lnTo>
                      <a:pt x="51" y="75"/>
                    </a:lnTo>
                    <a:lnTo>
                      <a:pt x="71" y="95"/>
                    </a:lnTo>
                    <a:lnTo>
                      <a:pt x="92" y="115"/>
                    </a:lnTo>
                    <a:lnTo>
                      <a:pt x="115" y="135"/>
                    </a:lnTo>
                    <a:lnTo>
                      <a:pt x="139" y="153"/>
                    </a:lnTo>
                    <a:lnTo>
                      <a:pt x="164" y="172"/>
                    </a:lnTo>
                    <a:lnTo>
                      <a:pt x="189" y="189"/>
                    </a:lnTo>
                    <a:lnTo>
                      <a:pt x="214" y="206"/>
                    </a:lnTo>
                    <a:lnTo>
                      <a:pt x="241" y="222"/>
                    </a:lnTo>
                    <a:lnTo>
                      <a:pt x="268" y="237"/>
                    </a:lnTo>
                    <a:lnTo>
                      <a:pt x="294" y="251"/>
                    </a:lnTo>
                    <a:lnTo>
                      <a:pt x="320" y="263"/>
                    </a:lnTo>
                    <a:lnTo>
                      <a:pt x="347" y="275"/>
                    </a:lnTo>
                    <a:lnTo>
                      <a:pt x="372" y="284"/>
                    </a:lnTo>
                    <a:lnTo>
                      <a:pt x="388" y="273"/>
                    </a:lnTo>
                    <a:lnTo>
                      <a:pt x="372" y="284"/>
                    </a:lnTo>
                    <a:lnTo>
                      <a:pt x="377" y="285"/>
                    </a:lnTo>
                    <a:lnTo>
                      <a:pt x="382" y="283"/>
                    </a:lnTo>
                    <a:lnTo>
                      <a:pt x="385" y="281"/>
                    </a:lnTo>
                    <a:lnTo>
                      <a:pt x="386" y="276"/>
                    </a:lnTo>
                    <a:lnTo>
                      <a:pt x="388" y="271"/>
                    </a:lnTo>
                    <a:lnTo>
                      <a:pt x="386" y="268"/>
                    </a:lnTo>
                    <a:lnTo>
                      <a:pt x="384" y="263"/>
                    </a:lnTo>
                    <a:lnTo>
                      <a:pt x="380" y="261"/>
                    </a:lnTo>
                    <a:lnTo>
                      <a:pt x="364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116760" y="3413520"/>
                <a:ext cx="102960" cy="93600"/>
              </a:xfrm>
              <a:custGeom>
                <a:avLst/>
                <a:gdLst/>
                <a:ahLst/>
                <a:rect l="l" t="t" r="r" b="b"/>
                <a:pathLst>
                  <a:path w="327" h="295">
                    <a:moveTo>
                      <a:pt x="303" y="29"/>
                    </a:moveTo>
                    <a:lnTo>
                      <a:pt x="316" y="18"/>
                    </a:lnTo>
                    <a:lnTo>
                      <a:pt x="267" y="18"/>
                    </a:lnTo>
                    <a:lnTo>
                      <a:pt x="223" y="16"/>
                    </a:lnTo>
                    <a:lnTo>
                      <a:pt x="186" y="15"/>
                    </a:lnTo>
                    <a:lnTo>
                      <a:pt x="151" y="13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2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8" y="28"/>
                    </a:lnTo>
                    <a:lnTo>
                      <a:pt x="18" y="37"/>
                    </a:lnTo>
                    <a:lnTo>
                      <a:pt x="33" y="51"/>
                    </a:lnTo>
                    <a:lnTo>
                      <a:pt x="41" y="60"/>
                    </a:lnTo>
                    <a:lnTo>
                      <a:pt x="50" y="71"/>
                    </a:lnTo>
                    <a:lnTo>
                      <a:pt x="58" y="84"/>
                    </a:lnTo>
                    <a:lnTo>
                      <a:pt x="67" y="97"/>
                    </a:lnTo>
                    <a:lnTo>
                      <a:pt x="76" y="114"/>
                    </a:lnTo>
                    <a:lnTo>
                      <a:pt x="84" y="133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09" y="230"/>
                    </a:lnTo>
                    <a:lnTo>
                      <a:pt x="112" y="260"/>
                    </a:lnTo>
                    <a:lnTo>
                      <a:pt x="113" y="295"/>
                    </a:lnTo>
                    <a:lnTo>
                      <a:pt x="137" y="295"/>
                    </a:lnTo>
                    <a:lnTo>
                      <a:pt x="135" y="259"/>
                    </a:lnTo>
                    <a:lnTo>
                      <a:pt x="133" y="227"/>
                    </a:lnTo>
                    <a:lnTo>
                      <a:pt x="129" y="198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4"/>
                    </a:lnTo>
                    <a:lnTo>
                      <a:pt x="98" y="103"/>
                    </a:lnTo>
                    <a:lnTo>
                      <a:pt x="89" y="86"/>
                    </a:lnTo>
                    <a:lnTo>
                      <a:pt x="78" y="70"/>
                    </a:lnTo>
                    <a:lnTo>
                      <a:pt x="69" y="56"/>
                    </a:lnTo>
                    <a:lnTo>
                      <a:pt x="59" y="44"/>
                    </a:lnTo>
                    <a:lnTo>
                      <a:pt x="50" y="33"/>
                    </a:lnTo>
                    <a:lnTo>
                      <a:pt x="35" y="19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4" y="1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8" y="26"/>
                    </a:lnTo>
                    <a:lnTo>
                      <a:pt x="55" y="29"/>
                    </a:lnTo>
                    <a:lnTo>
                      <a:pt x="94" y="33"/>
                    </a:lnTo>
                    <a:lnTo>
                      <a:pt x="150" y="37"/>
                    </a:lnTo>
                    <a:lnTo>
                      <a:pt x="184" y="39"/>
                    </a:lnTo>
                    <a:lnTo>
                      <a:pt x="223" y="40"/>
                    </a:lnTo>
                    <a:lnTo>
                      <a:pt x="267" y="41"/>
                    </a:lnTo>
                    <a:lnTo>
                      <a:pt x="316" y="41"/>
                    </a:lnTo>
                    <a:lnTo>
                      <a:pt x="327" y="29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8"/>
                    </a:lnTo>
                    <a:lnTo>
                      <a:pt x="327" y="33"/>
                    </a:lnTo>
                    <a:lnTo>
                      <a:pt x="327" y="29"/>
                    </a:lnTo>
                    <a:lnTo>
                      <a:pt x="327" y="24"/>
                    </a:lnTo>
                    <a:lnTo>
                      <a:pt x="325" y="21"/>
                    </a:lnTo>
                    <a:lnTo>
                      <a:pt x="320" y="19"/>
                    </a:lnTo>
                    <a:lnTo>
                      <a:pt x="316" y="18"/>
                    </a:lnTo>
                    <a:lnTo>
                      <a:pt x="303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12000" y="3357720"/>
                <a:ext cx="207720" cy="65160"/>
              </a:xfrm>
              <a:custGeom>
                <a:avLst/>
                <a:gdLst/>
                <a:ahLst/>
                <a:rect l="l" t="t" r="r" b="b"/>
                <a:pathLst>
                  <a:path w="657" h="202">
                    <a:moveTo>
                      <a:pt x="23" y="18"/>
                    </a:moveTo>
                    <a:lnTo>
                      <a:pt x="11" y="24"/>
                    </a:lnTo>
                    <a:lnTo>
                      <a:pt x="44" y="29"/>
                    </a:lnTo>
                    <a:lnTo>
                      <a:pt x="83" y="32"/>
                    </a:lnTo>
                    <a:lnTo>
                      <a:pt x="126" y="34"/>
                    </a:lnTo>
                    <a:lnTo>
                      <a:pt x="174" y="37"/>
                    </a:lnTo>
                    <a:lnTo>
                      <a:pt x="225" y="39"/>
                    </a:lnTo>
                    <a:lnTo>
                      <a:pt x="277" y="42"/>
                    </a:lnTo>
                    <a:lnTo>
                      <a:pt x="331" y="46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4" y="61"/>
                    </a:lnTo>
                    <a:lnTo>
                      <a:pt x="459" y="65"/>
                    </a:lnTo>
                    <a:lnTo>
                      <a:pt x="481" y="71"/>
                    </a:lnTo>
                    <a:lnTo>
                      <a:pt x="503" y="77"/>
                    </a:lnTo>
                    <a:lnTo>
                      <a:pt x="525" y="83"/>
                    </a:lnTo>
                    <a:lnTo>
                      <a:pt x="544" y="91"/>
                    </a:lnTo>
                    <a:lnTo>
                      <a:pt x="561" y="100"/>
                    </a:lnTo>
                    <a:lnTo>
                      <a:pt x="577" y="110"/>
                    </a:lnTo>
                    <a:lnTo>
                      <a:pt x="592" y="120"/>
                    </a:lnTo>
                    <a:lnTo>
                      <a:pt x="598" y="126"/>
                    </a:lnTo>
                    <a:lnTo>
                      <a:pt x="605" y="131"/>
                    </a:lnTo>
                    <a:lnTo>
                      <a:pt x="609" y="137"/>
                    </a:lnTo>
                    <a:lnTo>
                      <a:pt x="614" y="144"/>
                    </a:lnTo>
                    <a:lnTo>
                      <a:pt x="618" y="149"/>
                    </a:lnTo>
                    <a:lnTo>
                      <a:pt x="623" y="156"/>
                    </a:lnTo>
                    <a:lnTo>
                      <a:pt x="625" y="163"/>
                    </a:lnTo>
                    <a:lnTo>
                      <a:pt x="628" y="170"/>
                    </a:lnTo>
                    <a:lnTo>
                      <a:pt x="631" y="178"/>
                    </a:lnTo>
                    <a:lnTo>
                      <a:pt x="632" y="186"/>
                    </a:lnTo>
                    <a:lnTo>
                      <a:pt x="633" y="194"/>
                    </a:lnTo>
                    <a:lnTo>
                      <a:pt x="633" y="202"/>
                    </a:lnTo>
                    <a:lnTo>
                      <a:pt x="657" y="202"/>
                    </a:lnTo>
                    <a:lnTo>
                      <a:pt x="657" y="192"/>
                    </a:lnTo>
                    <a:lnTo>
                      <a:pt x="656" y="181"/>
                    </a:lnTo>
                    <a:lnTo>
                      <a:pt x="654" y="172"/>
                    </a:lnTo>
                    <a:lnTo>
                      <a:pt x="651" y="163"/>
                    </a:lnTo>
                    <a:lnTo>
                      <a:pt x="648" y="154"/>
                    </a:lnTo>
                    <a:lnTo>
                      <a:pt x="643" y="145"/>
                    </a:lnTo>
                    <a:lnTo>
                      <a:pt x="639" y="137"/>
                    </a:lnTo>
                    <a:lnTo>
                      <a:pt x="634" y="129"/>
                    </a:lnTo>
                    <a:lnTo>
                      <a:pt x="628" y="122"/>
                    </a:lnTo>
                    <a:lnTo>
                      <a:pt x="622" y="114"/>
                    </a:lnTo>
                    <a:lnTo>
                      <a:pt x="615" y="107"/>
                    </a:lnTo>
                    <a:lnTo>
                      <a:pt x="607" y="102"/>
                    </a:lnTo>
                    <a:lnTo>
                      <a:pt x="591" y="89"/>
                    </a:lnTo>
                    <a:lnTo>
                      <a:pt x="573" y="79"/>
                    </a:lnTo>
                    <a:lnTo>
                      <a:pt x="553" y="70"/>
                    </a:lnTo>
                    <a:lnTo>
                      <a:pt x="533" y="61"/>
                    </a:lnTo>
                    <a:lnTo>
                      <a:pt x="511" y="54"/>
                    </a:lnTo>
                    <a:lnTo>
                      <a:pt x="487" y="47"/>
                    </a:lnTo>
                    <a:lnTo>
                      <a:pt x="463" y="41"/>
                    </a:lnTo>
                    <a:lnTo>
                      <a:pt x="438" y="37"/>
                    </a:lnTo>
                    <a:lnTo>
                      <a:pt x="413" y="32"/>
                    </a:lnTo>
                    <a:lnTo>
                      <a:pt x="387" y="29"/>
                    </a:lnTo>
                    <a:lnTo>
                      <a:pt x="333" y="22"/>
                    </a:lnTo>
                    <a:lnTo>
                      <a:pt x="280" y="18"/>
                    </a:lnTo>
                    <a:lnTo>
                      <a:pt x="226" y="15"/>
                    </a:lnTo>
                    <a:lnTo>
                      <a:pt x="175" y="13"/>
                    </a:lnTo>
                    <a:lnTo>
                      <a:pt x="127" y="10"/>
                    </a:lnTo>
                    <a:lnTo>
                      <a:pt x="84" y="7"/>
                    </a:lnTo>
                    <a:lnTo>
                      <a:pt x="46" y="5"/>
                    </a:lnTo>
                    <a:lnTo>
                      <a:pt x="15" y="0"/>
                    </a:lnTo>
                    <a:lnTo>
                      <a:pt x="3" y="5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6" y="22"/>
                    </a:lnTo>
                    <a:lnTo>
                      <a:pt x="11" y="24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91040" y="3359520"/>
                <a:ext cx="128880" cy="128520"/>
              </a:xfrm>
              <a:custGeom>
                <a:avLst/>
                <a:gdLst/>
                <a:ahLst/>
                <a:rect l="l" t="t" r="r" b="b"/>
                <a:pathLst>
                  <a:path w="401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4" y="384"/>
                    </a:lnTo>
                    <a:lnTo>
                      <a:pt x="26" y="376"/>
                    </a:lnTo>
                    <a:lnTo>
                      <a:pt x="31" y="368"/>
                    </a:lnTo>
                    <a:lnTo>
                      <a:pt x="35" y="358"/>
                    </a:lnTo>
                    <a:lnTo>
                      <a:pt x="42" y="347"/>
                    </a:lnTo>
                    <a:lnTo>
                      <a:pt x="51" y="337"/>
                    </a:lnTo>
                    <a:lnTo>
                      <a:pt x="61" y="326"/>
                    </a:lnTo>
                    <a:lnTo>
                      <a:pt x="72" y="313"/>
                    </a:lnTo>
                    <a:lnTo>
                      <a:pt x="97" y="288"/>
                    </a:lnTo>
                    <a:lnTo>
                      <a:pt x="124" y="262"/>
                    </a:lnTo>
                    <a:lnTo>
                      <a:pt x="155" y="235"/>
                    </a:lnTo>
                    <a:lnTo>
                      <a:pt x="188" y="207"/>
                    </a:lnTo>
                    <a:lnTo>
                      <a:pt x="253" y="152"/>
                    </a:lnTo>
                    <a:lnTo>
                      <a:pt x="316" y="101"/>
                    </a:lnTo>
                    <a:lnTo>
                      <a:pt x="343" y="76"/>
                    </a:lnTo>
                    <a:lnTo>
                      <a:pt x="367" y="53"/>
                    </a:lnTo>
                    <a:lnTo>
                      <a:pt x="377" y="43"/>
                    </a:lnTo>
                    <a:lnTo>
                      <a:pt x="386" y="33"/>
                    </a:lnTo>
                    <a:lnTo>
                      <a:pt x="394" y="23"/>
                    </a:lnTo>
                    <a:lnTo>
                      <a:pt x="401" y="13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8" y="17"/>
                    </a:lnTo>
                    <a:lnTo>
                      <a:pt x="359" y="26"/>
                    </a:lnTo>
                    <a:lnTo>
                      <a:pt x="350" y="36"/>
                    </a:lnTo>
                    <a:lnTo>
                      <a:pt x="326" y="59"/>
                    </a:lnTo>
                    <a:lnTo>
                      <a:pt x="300" y="82"/>
                    </a:lnTo>
                    <a:lnTo>
                      <a:pt x="238" y="134"/>
                    </a:lnTo>
                    <a:lnTo>
                      <a:pt x="172" y="189"/>
                    </a:lnTo>
                    <a:lnTo>
                      <a:pt x="139" y="216"/>
                    </a:lnTo>
                    <a:lnTo>
                      <a:pt x="108" y="244"/>
                    </a:lnTo>
                    <a:lnTo>
                      <a:pt x="80" y="271"/>
                    </a:lnTo>
                    <a:lnTo>
                      <a:pt x="54" y="296"/>
                    </a:lnTo>
                    <a:lnTo>
                      <a:pt x="42" y="310"/>
                    </a:lnTo>
                    <a:lnTo>
                      <a:pt x="32" y="321"/>
                    </a:lnTo>
                    <a:lnTo>
                      <a:pt x="23" y="334"/>
                    </a:lnTo>
                    <a:lnTo>
                      <a:pt x="15" y="345"/>
                    </a:lnTo>
                    <a:lnTo>
                      <a:pt x="9" y="357"/>
                    </a:lnTo>
                    <a:lnTo>
                      <a:pt x="4" y="368"/>
                    </a:lnTo>
                    <a:lnTo>
                      <a:pt x="1" y="378"/>
                    </a:lnTo>
                    <a:lnTo>
                      <a:pt x="0" y="390"/>
                    </a:lnTo>
                    <a:lnTo>
                      <a:pt x="9" y="401"/>
                    </a:lnTo>
                    <a:lnTo>
                      <a:pt x="0" y="390"/>
                    </a:lnTo>
                    <a:lnTo>
                      <a:pt x="0" y="395"/>
                    </a:lnTo>
                    <a:lnTo>
                      <a:pt x="4" y="399"/>
                    </a:lnTo>
                    <a:lnTo>
                      <a:pt x="7" y="401"/>
                    </a:lnTo>
                    <a:lnTo>
                      <a:pt x="12" y="402"/>
                    </a:lnTo>
                    <a:lnTo>
                      <a:pt x="16" y="401"/>
                    </a:lnTo>
                    <a:lnTo>
                      <a:pt x="19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94280" y="344196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5" h="149">
                    <a:moveTo>
                      <a:pt x="395" y="12"/>
                    </a:moveTo>
                    <a:lnTo>
                      <a:pt x="375" y="2"/>
                    </a:lnTo>
                    <a:lnTo>
                      <a:pt x="352" y="18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7" y="61"/>
                    </a:lnTo>
                    <a:lnTo>
                      <a:pt x="266" y="74"/>
                    </a:lnTo>
                    <a:lnTo>
                      <a:pt x="243" y="84"/>
                    </a:lnTo>
                    <a:lnTo>
                      <a:pt x="221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0"/>
                    </a:lnTo>
                    <a:lnTo>
                      <a:pt x="106" y="123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1"/>
                    </a:lnTo>
                    <a:lnTo>
                      <a:pt x="29" y="146"/>
                    </a:lnTo>
                    <a:lnTo>
                      <a:pt x="55" y="148"/>
                    </a:lnTo>
                    <a:lnTo>
                      <a:pt x="82" y="149"/>
                    </a:lnTo>
                    <a:lnTo>
                      <a:pt x="107" y="148"/>
                    </a:lnTo>
                    <a:lnTo>
                      <a:pt x="134" y="144"/>
                    </a:lnTo>
                    <a:lnTo>
                      <a:pt x="159" y="140"/>
                    </a:lnTo>
                    <a:lnTo>
                      <a:pt x="183" y="133"/>
                    </a:lnTo>
                    <a:lnTo>
                      <a:pt x="207" y="126"/>
                    </a:lnTo>
                    <a:lnTo>
                      <a:pt x="230" y="117"/>
                    </a:lnTo>
                    <a:lnTo>
                      <a:pt x="253" y="106"/>
                    </a:lnTo>
                    <a:lnTo>
                      <a:pt x="277" y="94"/>
                    </a:lnTo>
                    <a:lnTo>
                      <a:pt x="300" y="82"/>
                    </a:lnTo>
                    <a:lnTo>
                      <a:pt x="322" y="68"/>
                    </a:lnTo>
                    <a:lnTo>
                      <a:pt x="344" y="53"/>
                    </a:lnTo>
                    <a:lnTo>
                      <a:pt x="367" y="38"/>
                    </a:lnTo>
                    <a:lnTo>
                      <a:pt x="389" y="21"/>
                    </a:lnTo>
                    <a:lnTo>
                      <a:pt x="369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5" y="13"/>
                    </a:lnTo>
                    <a:lnTo>
                      <a:pt x="393" y="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4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9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010200" y="344664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5"/>
                    </a:moveTo>
                    <a:lnTo>
                      <a:pt x="59" y="328"/>
                    </a:lnTo>
                    <a:lnTo>
                      <a:pt x="54" y="324"/>
                    </a:lnTo>
                    <a:lnTo>
                      <a:pt x="50" y="318"/>
                    </a:lnTo>
                    <a:lnTo>
                      <a:pt x="46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6"/>
                    </a:lnTo>
                    <a:lnTo>
                      <a:pt x="26" y="235"/>
                    </a:lnTo>
                    <a:lnTo>
                      <a:pt x="25" y="213"/>
                    </a:lnTo>
                    <a:lnTo>
                      <a:pt x="24" y="191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30" y="46"/>
                    </a:lnTo>
                    <a:lnTo>
                      <a:pt x="32" y="0"/>
                    </a:lnTo>
                    <a:lnTo>
                      <a:pt x="6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4"/>
                    </a:lnTo>
                    <a:lnTo>
                      <a:pt x="2" y="237"/>
                    </a:lnTo>
                    <a:lnTo>
                      <a:pt x="4" y="259"/>
                    </a:lnTo>
                    <a:lnTo>
                      <a:pt x="8" y="279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30" y="332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6" y="349"/>
                    </a:lnTo>
                    <a:lnTo>
                      <a:pt x="51" y="350"/>
                    </a:lnTo>
                    <a:lnTo>
                      <a:pt x="55" y="349"/>
                    </a:lnTo>
                    <a:lnTo>
                      <a:pt x="59" y="346"/>
                    </a:lnTo>
                    <a:lnTo>
                      <a:pt x="61" y="342"/>
                    </a:lnTo>
                    <a:lnTo>
                      <a:pt x="62" y="338"/>
                    </a:lnTo>
                    <a:lnTo>
                      <a:pt x="61" y="333"/>
                    </a:lnTo>
                    <a:lnTo>
                      <a:pt x="59" y="328"/>
                    </a:lnTo>
                    <a:lnTo>
                      <a:pt x="50" y="3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026040" y="3549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57" y="15"/>
                    </a:moveTo>
                    <a:lnTo>
                      <a:pt x="45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45" y="25"/>
                    </a:lnTo>
                    <a:lnTo>
                      <a:pt x="57" y="15"/>
                    </a:lnTo>
                    <a:lnTo>
                      <a:pt x="45" y="25"/>
                    </a:lnTo>
                    <a:lnTo>
                      <a:pt x="50" y="24"/>
                    </a:lnTo>
                    <a:lnTo>
                      <a:pt x="54" y="21"/>
                    </a:lnTo>
                    <a:lnTo>
                      <a:pt x="57" y="17"/>
                    </a:lnTo>
                    <a:lnTo>
                      <a:pt x="57" y="13"/>
                    </a:lnTo>
                    <a:lnTo>
                      <a:pt x="57" y="8"/>
                    </a:lnTo>
                    <a:lnTo>
                      <a:pt x="54" y="5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035760" y="341820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69" h="426">
                    <a:moveTo>
                      <a:pt x="21" y="4"/>
                    </a:moveTo>
                    <a:lnTo>
                      <a:pt x="1" y="15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6"/>
                    </a:lnTo>
                    <a:lnTo>
                      <a:pt x="44" y="202"/>
                    </a:lnTo>
                    <a:lnTo>
                      <a:pt x="44" y="228"/>
                    </a:lnTo>
                    <a:lnTo>
                      <a:pt x="42" y="250"/>
                    </a:lnTo>
                    <a:lnTo>
                      <a:pt x="39" y="273"/>
                    </a:lnTo>
                    <a:lnTo>
                      <a:pt x="35" y="295"/>
                    </a:lnTo>
                    <a:lnTo>
                      <a:pt x="29" y="315"/>
                    </a:lnTo>
                    <a:lnTo>
                      <a:pt x="24" y="336"/>
                    </a:lnTo>
                    <a:lnTo>
                      <a:pt x="12" y="378"/>
                    </a:lnTo>
                    <a:lnTo>
                      <a:pt x="0" y="421"/>
                    </a:lnTo>
                    <a:lnTo>
                      <a:pt x="24" y="426"/>
                    </a:lnTo>
                    <a:lnTo>
                      <a:pt x="35" y="385"/>
                    </a:lnTo>
                    <a:lnTo>
                      <a:pt x="48" y="343"/>
                    </a:lnTo>
                    <a:lnTo>
                      <a:pt x="53" y="321"/>
                    </a:lnTo>
                    <a:lnTo>
                      <a:pt x="58" y="299"/>
                    </a:lnTo>
                    <a:lnTo>
                      <a:pt x="63" y="277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9" y="202"/>
                    </a:lnTo>
                    <a:lnTo>
                      <a:pt x="67" y="175"/>
                    </a:lnTo>
                    <a:lnTo>
                      <a:pt x="64" y="145"/>
                    </a:lnTo>
                    <a:lnTo>
                      <a:pt x="58" y="114"/>
                    </a:lnTo>
                    <a:lnTo>
                      <a:pt x="49" y="80"/>
                    </a:lnTo>
                    <a:lnTo>
                      <a:pt x="37" y="45"/>
                    </a:lnTo>
                    <a:lnTo>
                      <a:pt x="24" y="6"/>
                    </a:lnTo>
                    <a:lnTo>
                      <a:pt x="2" y="18"/>
                    </a:lnTo>
                    <a:lnTo>
                      <a:pt x="24" y="6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167360" y="3322800"/>
                <a:ext cx="350640" cy="216000"/>
              </a:xfrm>
              <a:custGeom>
                <a:avLst/>
                <a:gdLst/>
                <a:ahLst/>
                <a:rect l="l" t="t" r="r" b="b"/>
                <a:pathLst>
                  <a:path w="1108" h="681">
                    <a:moveTo>
                      <a:pt x="519" y="350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0" y="385"/>
                    </a:lnTo>
                    <a:lnTo>
                      <a:pt x="536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20" y="513"/>
                    </a:lnTo>
                    <a:lnTo>
                      <a:pt x="642" y="535"/>
                    </a:lnTo>
                    <a:lnTo>
                      <a:pt x="665" y="554"/>
                    </a:lnTo>
                    <a:lnTo>
                      <a:pt x="690" y="573"/>
                    </a:lnTo>
                    <a:lnTo>
                      <a:pt x="715" y="590"/>
                    </a:lnTo>
                    <a:lnTo>
                      <a:pt x="740" y="603"/>
                    </a:lnTo>
                    <a:lnTo>
                      <a:pt x="752" y="610"/>
                    </a:lnTo>
                    <a:lnTo>
                      <a:pt x="766" y="615"/>
                    </a:lnTo>
                    <a:lnTo>
                      <a:pt x="779" y="621"/>
                    </a:lnTo>
                    <a:lnTo>
                      <a:pt x="791" y="624"/>
                    </a:lnTo>
                    <a:lnTo>
                      <a:pt x="805" y="627"/>
                    </a:lnTo>
                    <a:lnTo>
                      <a:pt x="817" y="630"/>
                    </a:lnTo>
                    <a:lnTo>
                      <a:pt x="830" y="631"/>
                    </a:lnTo>
                    <a:lnTo>
                      <a:pt x="842" y="631"/>
                    </a:lnTo>
                    <a:lnTo>
                      <a:pt x="842" y="598"/>
                    </a:lnTo>
                    <a:lnTo>
                      <a:pt x="840" y="568"/>
                    </a:lnTo>
                    <a:lnTo>
                      <a:pt x="838" y="540"/>
                    </a:lnTo>
                    <a:lnTo>
                      <a:pt x="834" y="515"/>
                    </a:lnTo>
                    <a:lnTo>
                      <a:pt x="830" y="492"/>
                    </a:lnTo>
                    <a:lnTo>
                      <a:pt x="825" y="472"/>
                    </a:lnTo>
                    <a:lnTo>
                      <a:pt x="821" y="454"/>
                    </a:lnTo>
                    <a:lnTo>
                      <a:pt x="816" y="438"/>
                    </a:lnTo>
                    <a:lnTo>
                      <a:pt x="807" y="412"/>
                    </a:lnTo>
                    <a:lnTo>
                      <a:pt x="799" y="394"/>
                    </a:lnTo>
                    <a:lnTo>
                      <a:pt x="797" y="387"/>
                    </a:lnTo>
                    <a:lnTo>
                      <a:pt x="794" y="381"/>
                    </a:lnTo>
                    <a:lnTo>
                      <a:pt x="793" y="377"/>
                    </a:lnTo>
                    <a:lnTo>
                      <a:pt x="794" y="373"/>
                    </a:lnTo>
                    <a:lnTo>
                      <a:pt x="796" y="372"/>
                    </a:lnTo>
                    <a:lnTo>
                      <a:pt x="799" y="371"/>
                    </a:lnTo>
                    <a:lnTo>
                      <a:pt x="805" y="371"/>
                    </a:lnTo>
                    <a:lnTo>
                      <a:pt x="812" y="371"/>
                    </a:lnTo>
                    <a:lnTo>
                      <a:pt x="832" y="374"/>
                    </a:lnTo>
                    <a:lnTo>
                      <a:pt x="863" y="379"/>
                    </a:lnTo>
                    <a:lnTo>
                      <a:pt x="904" y="385"/>
                    </a:lnTo>
                    <a:lnTo>
                      <a:pt x="957" y="389"/>
                    </a:lnTo>
                    <a:lnTo>
                      <a:pt x="989" y="391"/>
                    </a:lnTo>
                    <a:lnTo>
                      <a:pt x="1025" y="393"/>
                    </a:lnTo>
                    <a:lnTo>
                      <a:pt x="1065" y="394"/>
                    </a:lnTo>
                    <a:lnTo>
                      <a:pt x="1108" y="394"/>
                    </a:lnTo>
                    <a:lnTo>
                      <a:pt x="1092" y="246"/>
                    </a:lnTo>
                    <a:lnTo>
                      <a:pt x="1047" y="235"/>
                    </a:lnTo>
                    <a:lnTo>
                      <a:pt x="1002" y="226"/>
                    </a:lnTo>
                    <a:lnTo>
                      <a:pt x="955" y="219"/>
                    </a:lnTo>
                    <a:lnTo>
                      <a:pt x="908" y="212"/>
                    </a:lnTo>
                    <a:lnTo>
                      <a:pt x="862" y="208"/>
                    </a:lnTo>
                    <a:lnTo>
                      <a:pt x="815" y="204"/>
                    </a:lnTo>
                    <a:lnTo>
                      <a:pt x="769" y="202"/>
                    </a:lnTo>
                    <a:lnTo>
                      <a:pt x="725" y="202"/>
                    </a:lnTo>
                    <a:lnTo>
                      <a:pt x="753" y="190"/>
                    </a:lnTo>
                    <a:lnTo>
                      <a:pt x="785" y="174"/>
                    </a:lnTo>
                    <a:lnTo>
                      <a:pt x="801" y="166"/>
                    </a:lnTo>
                    <a:lnTo>
                      <a:pt x="817" y="157"/>
                    </a:lnTo>
                    <a:lnTo>
                      <a:pt x="832" y="146"/>
                    </a:lnTo>
                    <a:lnTo>
                      <a:pt x="847" y="135"/>
                    </a:lnTo>
                    <a:lnTo>
                      <a:pt x="862" y="125"/>
                    </a:lnTo>
                    <a:lnTo>
                      <a:pt x="874" y="112"/>
                    </a:lnTo>
                    <a:lnTo>
                      <a:pt x="886" y="100"/>
                    </a:lnTo>
                    <a:lnTo>
                      <a:pt x="896" y="86"/>
                    </a:lnTo>
                    <a:lnTo>
                      <a:pt x="904" y="72"/>
                    </a:lnTo>
                    <a:lnTo>
                      <a:pt x="910" y="56"/>
                    </a:lnTo>
                    <a:lnTo>
                      <a:pt x="912" y="49"/>
                    </a:lnTo>
                    <a:lnTo>
                      <a:pt x="914" y="41"/>
                    </a:lnTo>
                    <a:lnTo>
                      <a:pt x="915" y="33"/>
                    </a:lnTo>
                    <a:lnTo>
                      <a:pt x="915" y="26"/>
                    </a:lnTo>
                    <a:lnTo>
                      <a:pt x="896" y="24"/>
                    </a:lnTo>
                    <a:lnTo>
                      <a:pt x="874" y="23"/>
                    </a:lnTo>
                    <a:lnTo>
                      <a:pt x="851" y="21"/>
                    </a:lnTo>
                    <a:lnTo>
                      <a:pt x="828" y="19"/>
                    </a:lnTo>
                    <a:lnTo>
                      <a:pt x="777" y="13"/>
                    </a:lnTo>
                    <a:lnTo>
                      <a:pt x="726" y="6"/>
                    </a:lnTo>
                    <a:lnTo>
                      <a:pt x="701" y="4"/>
                    </a:lnTo>
                    <a:lnTo>
                      <a:pt x="676" y="2"/>
                    </a:lnTo>
                    <a:lnTo>
                      <a:pt x="652" y="0"/>
                    </a:lnTo>
                    <a:lnTo>
                      <a:pt x="628" y="0"/>
                    </a:lnTo>
                    <a:lnTo>
                      <a:pt x="606" y="0"/>
                    </a:lnTo>
                    <a:lnTo>
                      <a:pt x="585" y="3"/>
                    </a:lnTo>
                    <a:lnTo>
                      <a:pt x="565" y="6"/>
                    </a:lnTo>
                    <a:lnTo>
                      <a:pt x="548" y="11"/>
                    </a:lnTo>
                    <a:lnTo>
                      <a:pt x="531" y="19"/>
                    </a:lnTo>
                    <a:lnTo>
                      <a:pt x="515" y="28"/>
                    </a:lnTo>
                    <a:lnTo>
                      <a:pt x="500" y="38"/>
                    </a:lnTo>
                    <a:lnTo>
                      <a:pt x="487" y="49"/>
                    </a:lnTo>
                    <a:lnTo>
                      <a:pt x="474" y="62"/>
                    </a:lnTo>
                    <a:lnTo>
                      <a:pt x="464" y="76"/>
                    </a:lnTo>
                    <a:lnTo>
                      <a:pt x="453" y="89"/>
                    </a:lnTo>
                    <a:lnTo>
                      <a:pt x="443" y="105"/>
                    </a:lnTo>
                    <a:lnTo>
                      <a:pt x="435" y="121"/>
                    </a:lnTo>
                    <a:lnTo>
                      <a:pt x="427" y="137"/>
                    </a:lnTo>
                    <a:lnTo>
                      <a:pt x="421" y="154"/>
                    </a:lnTo>
                    <a:lnTo>
                      <a:pt x="414" y="173"/>
                    </a:lnTo>
                    <a:lnTo>
                      <a:pt x="402" y="208"/>
                    </a:lnTo>
                    <a:lnTo>
                      <a:pt x="393" y="244"/>
                    </a:lnTo>
                    <a:lnTo>
                      <a:pt x="377" y="316"/>
                    </a:lnTo>
                    <a:lnTo>
                      <a:pt x="361" y="381"/>
                    </a:lnTo>
                    <a:lnTo>
                      <a:pt x="357" y="396"/>
                    </a:lnTo>
                    <a:lnTo>
                      <a:pt x="352" y="410"/>
                    </a:lnTo>
                    <a:lnTo>
                      <a:pt x="348" y="422"/>
                    </a:lnTo>
                    <a:lnTo>
                      <a:pt x="342" y="434"/>
                    </a:lnTo>
                    <a:lnTo>
                      <a:pt x="336" y="444"/>
                    </a:lnTo>
                    <a:lnTo>
                      <a:pt x="329" y="453"/>
                    </a:lnTo>
                    <a:lnTo>
                      <a:pt x="323" y="461"/>
                    </a:lnTo>
                    <a:lnTo>
                      <a:pt x="315" y="467"/>
                    </a:lnTo>
                    <a:lnTo>
                      <a:pt x="300" y="478"/>
                    </a:lnTo>
                    <a:lnTo>
                      <a:pt x="283" y="487"/>
                    </a:lnTo>
                    <a:lnTo>
                      <a:pt x="265" y="496"/>
                    </a:lnTo>
                    <a:lnTo>
                      <a:pt x="244" y="505"/>
                    </a:lnTo>
                    <a:lnTo>
                      <a:pt x="201" y="521"/>
                    </a:lnTo>
                    <a:lnTo>
                      <a:pt x="155" y="536"/>
                    </a:lnTo>
                    <a:lnTo>
                      <a:pt x="132" y="544"/>
                    </a:lnTo>
                    <a:lnTo>
                      <a:pt x="110" y="552"/>
                    </a:lnTo>
                    <a:lnTo>
                      <a:pt x="89" y="561"/>
                    </a:lnTo>
                    <a:lnTo>
                      <a:pt x="68" y="570"/>
                    </a:lnTo>
                    <a:lnTo>
                      <a:pt x="49" y="581"/>
                    </a:lnTo>
                    <a:lnTo>
                      <a:pt x="32" y="591"/>
                    </a:lnTo>
                    <a:lnTo>
                      <a:pt x="24" y="597"/>
                    </a:lnTo>
                    <a:lnTo>
                      <a:pt x="17" y="602"/>
                    </a:lnTo>
                    <a:lnTo>
                      <a:pt x="10" y="609"/>
                    </a:lnTo>
                    <a:lnTo>
                      <a:pt x="5" y="616"/>
                    </a:lnTo>
                    <a:lnTo>
                      <a:pt x="1" y="623"/>
                    </a:lnTo>
                    <a:lnTo>
                      <a:pt x="0" y="630"/>
                    </a:lnTo>
                    <a:lnTo>
                      <a:pt x="4" y="637"/>
                    </a:lnTo>
                    <a:lnTo>
                      <a:pt x="9" y="643"/>
                    </a:lnTo>
                    <a:lnTo>
                      <a:pt x="18" y="650"/>
                    </a:lnTo>
                    <a:lnTo>
                      <a:pt x="30" y="656"/>
                    </a:lnTo>
                    <a:lnTo>
                      <a:pt x="42" y="662"/>
                    </a:lnTo>
                    <a:lnTo>
                      <a:pt x="58" y="667"/>
                    </a:lnTo>
                    <a:lnTo>
                      <a:pt x="76" y="672"/>
                    </a:lnTo>
                    <a:lnTo>
                      <a:pt x="95" y="675"/>
                    </a:lnTo>
                    <a:lnTo>
                      <a:pt x="116" y="679"/>
                    </a:lnTo>
                    <a:lnTo>
                      <a:pt x="138" y="680"/>
                    </a:lnTo>
                    <a:lnTo>
                      <a:pt x="161" y="681"/>
                    </a:lnTo>
                    <a:lnTo>
                      <a:pt x="185" y="681"/>
                    </a:lnTo>
                    <a:lnTo>
                      <a:pt x="210" y="679"/>
                    </a:lnTo>
                    <a:lnTo>
                      <a:pt x="235" y="676"/>
                    </a:lnTo>
                    <a:lnTo>
                      <a:pt x="260" y="672"/>
                    </a:lnTo>
                    <a:lnTo>
                      <a:pt x="285" y="665"/>
                    </a:lnTo>
                    <a:lnTo>
                      <a:pt x="310" y="657"/>
                    </a:lnTo>
                    <a:lnTo>
                      <a:pt x="334" y="648"/>
                    </a:lnTo>
                    <a:lnTo>
                      <a:pt x="358" y="637"/>
                    </a:lnTo>
                    <a:lnTo>
                      <a:pt x="381" y="623"/>
                    </a:lnTo>
                    <a:lnTo>
                      <a:pt x="404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1" y="545"/>
                    </a:lnTo>
                    <a:lnTo>
                      <a:pt x="477" y="520"/>
                    </a:lnTo>
                    <a:lnTo>
                      <a:pt x="490" y="492"/>
                    </a:lnTo>
                    <a:lnTo>
                      <a:pt x="502" y="461"/>
                    </a:lnTo>
                    <a:lnTo>
                      <a:pt x="510" y="427"/>
                    </a:lnTo>
                    <a:lnTo>
                      <a:pt x="515" y="390"/>
                    </a:lnTo>
                    <a:lnTo>
                      <a:pt x="519" y="35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327560" y="343260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348" h="295">
                    <a:moveTo>
                      <a:pt x="324" y="283"/>
                    </a:moveTo>
                    <a:lnTo>
                      <a:pt x="335" y="271"/>
                    </a:lnTo>
                    <a:lnTo>
                      <a:pt x="324" y="270"/>
                    </a:lnTo>
                    <a:lnTo>
                      <a:pt x="313" y="269"/>
                    </a:lnTo>
                    <a:lnTo>
                      <a:pt x="300" y="267"/>
                    </a:lnTo>
                    <a:lnTo>
                      <a:pt x="287" y="265"/>
                    </a:lnTo>
                    <a:lnTo>
                      <a:pt x="276" y="261"/>
                    </a:lnTo>
                    <a:lnTo>
                      <a:pt x="264" y="257"/>
                    </a:lnTo>
                    <a:lnTo>
                      <a:pt x="251" y="251"/>
                    </a:lnTo>
                    <a:lnTo>
                      <a:pt x="238" y="245"/>
                    </a:lnTo>
                    <a:lnTo>
                      <a:pt x="213" y="232"/>
                    </a:lnTo>
                    <a:lnTo>
                      <a:pt x="189" y="216"/>
                    </a:lnTo>
                    <a:lnTo>
                      <a:pt x="166" y="197"/>
                    </a:lnTo>
                    <a:lnTo>
                      <a:pt x="143" y="178"/>
                    </a:lnTo>
                    <a:lnTo>
                      <a:pt x="121" y="156"/>
                    </a:lnTo>
                    <a:lnTo>
                      <a:pt x="102" y="135"/>
                    </a:lnTo>
                    <a:lnTo>
                      <a:pt x="82" y="112"/>
                    </a:lnTo>
                    <a:lnTo>
                      <a:pt x="66" y="89"/>
                    </a:lnTo>
                    <a:lnTo>
                      <a:pt x="52" y="66"/>
                    </a:lnTo>
                    <a:lnTo>
                      <a:pt x="39" y="42"/>
                    </a:lnTo>
                    <a:lnTo>
                      <a:pt x="34" y="32"/>
                    </a:lnTo>
                    <a:lnTo>
                      <a:pt x="30" y="21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4" y="17"/>
                    </a:lnTo>
                    <a:lnTo>
                      <a:pt x="7" y="30"/>
                    </a:lnTo>
                    <a:lnTo>
                      <a:pt x="13" y="41"/>
                    </a:lnTo>
                    <a:lnTo>
                      <a:pt x="17" y="54"/>
                    </a:lnTo>
                    <a:lnTo>
                      <a:pt x="31" y="78"/>
                    </a:lnTo>
                    <a:lnTo>
                      <a:pt x="46" y="103"/>
                    </a:lnTo>
                    <a:lnTo>
                      <a:pt x="63" y="127"/>
                    </a:lnTo>
                    <a:lnTo>
                      <a:pt x="82" y="151"/>
                    </a:lnTo>
                    <a:lnTo>
                      <a:pt x="104" y="173"/>
                    </a:lnTo>
                    <a:lnTo>
                      <a:pt x="127" y="195"/>
                    </a:lnTo>
                    <a:lnTo>
                      <a:pt x="151" y="216"/>
                    </a:lnTo>
                    <a:lnTo>
                      <a:pt x="176" y="235"/>
                    </a:lnTo>
                    <a:lnTo>
                      <a:pt x="201" y="252"/>
                    </a:lnTo>
                    <a:lnTo>
                      <a:pt x="227" y="267"/>
                    </a:lnTo>
                    <a:lnTo>
                      <a:pt x="241" y="273"/>
                    </a:lnTo>
                    <a:lnTo>
                      <a:pt x="254" y="278"/>
                    </a:lnTo>
                    <a:lnTo>
                      <a:pt x="268" y="284"/>
                    </a:lnTo>
                    <a:lnTo>
                      <a:pt x="282" y="287"/>
                    </a:lnTo>
                    <a:lnTo>
                      <a:pt x="295" y="291"/>
                    </a:lnTo>
                    <a:lnTo>
                      <a:pt x="309" y="293"/>
                    </a:lnTo>
                    <a:lnTo>
                      <a:pt x="322" y="295"/>
                    </a:lnTo>
                    <a:lnTo>
                      <a:pt x="335" y="295"/>
                    </a:lnTo>
                    <a:lnTo>
                      <a:pt x="348" y="283"/>
                    </a:lnTo>
                    <a:lnTo>
                      <a:pt x="335" y="295"/>
                    </a:lnTo>
                    <a:lnTo>
                      <a:pt x="341" y="294"/>
                    </a:lnTo>
                    <a:lnTo>
                      <a:pt x="344" y="292"/>
                    </a:lnTo>
                    <a:lnTo>
                      <a:pt x="347" y="287"/>
                    </a:lnTo>
                    <a:lnTo>
                      <a:pt x="348" y="283"/>
                    </a:lnTo>
                    <a:lnTo>
                      <a:pt x="347" y="279"/>
                    </a:lnTo>
                    <a:lnTo>
                      <a:pt x="344" y="275"/>
                    </a:lnTo>
                    <a:lnTo>
                      <a:pt x="341" y="273"/>
                    </a:lnTo>
                    <a:lnTo>
                      <a:pt x="335" y="271"/>
                    </a:lnTo>
                    <a:lnTo>
                      <a:pt x="324" y="2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414680" y="3435480"/>
                <a:ext cx="106560" cy="87480"/>
              </a:xfrm>
              <a:custGeom>
                <a:avLst/>
                <a:gdLst/>
                <a:ahLst/>
                <a:rect l="l" t="t" r="r" b="b"/>
                <a:pathLst>
                  <a:path w="337" h="273">
                    <a:moveTo>
                      <a:pt x="313" y="37"/>
                    </a:moveTo>
                    <a:lnTo>
                      <a:pt x="326" y="24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8" y="21"/>
                    </a:lnTo>
                    <a:lnTo>
                      <a:pt x="177" y="19"/>
                    </a:lnTo>
                    <a:lnTo>
                      <a:pt x="123" y="14"/>
                    </a:lnTo>
                    <a:lnTo>
                      <a:pt x="82" y="10"/>
                    </a:lnTo>
                    <a:lnTo>
                      <a:pt x="51" y="5"/>
                    </a:lnTo>
                    <a:lnTo>
                      <a:pt x="31" y="2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1" y="11"/>
                    </a:lnTo>
                    <a:lnTo>
                      <a:pt x="0" y="20"/>
                    </a:lnTo>
                    <a:lnTo>
                      <a:pt x="1" y="27"/>
                    </a:lnTo>
                    <a:lnTo>
                      <a:pt x="3" y="32"/>
                    </a:lnTo>
                    <a:lnTo>
                      <a:pt x="6" y="40"/>
                    </a:lnTo>
                    <a:lnTo>
                      <a:pt x="14" y="59"/>
                    </a:lnTo>
                    <a:lnTo>
                      <a:pt x="23" y="84"/>
                    </a:lnTo>
                    <a:lnTo>
                      <a:pt x="27" y="100"/>
                    </a:lnTo>
                    <a:lnTo>
                      <a:pt x="32" y="117"/>
                    </a:lnTo>
                    <a:lnTo>
                      <a:pt x="36" y="136"/>
                    </a:lnTo>
                    <a:lnTo>
                      <a:pt x="40" y="159"/>
                    </a:lnTo>
                    <a:lnTo>
                      <a:pt x="43" y="183"/>
                    </a:lnTo>
                    <a:lnTo>
                      <a:pt x="47" y="210"/>
                    </a:lnTo>
                    <a:lnTo>
                      <a:pt x="48" y="241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2" y="240"/>
                    </a:lnTo>
                    <a:lnTo>
                      <a:pt x="71" y="209"/>
                    </a:lnTo>
                    <a:lnTo>
                      <a:pt x="67" y="181"/>
                    </a:lnTo>
                    <a:lnTo>
                      <a:pt x="64" y="155"/>
                    </a:lnTo>
                    <a:lnTo>
                      <a:pt x="60" y="131"/>
                    </a:lnTo>
                    <a:lnTo>
                      <a:pt x="56" y="111"/>
                    </a:lnTo>
                    <a:lnTo>
                      <a:pt x="50" y="93"/>
                    </a:lnTo>
                    <a:lnTo>
                      <a:pt x="46" y="76"/>
                    </a:lnTo>
                    <a:lnTo>
                      <a:pt x="36" y="49"/>
                    </a:lnTo>
                    <a:lnTo>
                      <a:pt x="28" y="31"/>
                    </a:lnTo>
                    <a:lnTo>
                      <a:pt x="25" y="24"/>
                    </a:lnTo>
                    <a:lnTo>
                      <a:pt x="24" y="20"/>
                    </a:lnTo>
                    <a:lnTo>
                      <a:pt x="24" y="17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22" y="24"/>
                    </a:lnTo>
                    <a:lnTo>
                      <a:pt x="27" y="25"/>
                    </a:lnTo>
                    <a:lnTo>
                      <a:pt x="48" y="29"/>
                    </a:lnTo>
                    <a:lnTo>
                      <a:pt x="79" y="33"/>
                    </a:lnTo>
                    <a:lnTo>
                      <a:pt x="121" y="38"/>
                    </a:lnTo>
                    <a:lnTo>
                      <a:pt x="174" y="43"/>
                    </a:lnTo>
                    <a:lnTo>
                      <a:pt x="207" y="45"/>
                    </a:lnTo>
                    <a:lnTo>
                      <a:pt x="243" y="47"/>
                    </a:lnTo>
                    <a:lnTo>
                      <a:pt x="283" y="48"/>
                    </a:lnTo>
                    <a:lnTo>
                      <a:pt x="326" y="48"/>
                    </a:lnTo>
                    <a:lnTo>
                      <a:pt x="337" y="35"/>
                    </a:lnTo>
                    <a:lnTo>
                      <a:pt x="326" y="48"/>
                    </a:lnTo>
                    <a:lnTo>
                      <a:pt x="330" y="47"/>
                    </a:lnTo>
                    <a:lnTo>
                      <a:pt x="335" y="45"/>
                    </a:lnTo>
                    <a:lnTo>
                      <a:pt x="337" y="40"/>
                    </a:lnTo>
                    <a:lnTo>
                      <a:pt x="337" y="36"/>
                    </a:lnTo>
                    <a:lnTo>
                      <a:pt x="337" y="31"/>
                    </a:lnTo>
                    <a:lnTo>
                      <a:pt x="335" y="28"/>
                    </a:lnTo>
                    <a:lnTo>
                      <a:pt x="330" y="25"/>
                    </a:lnTo>
                    <a:lnTo>
                      <a:pt x="326" y="24"/>
                    </a:lnTo>
                    <a:lnTo>
                      <a:pt x="313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510080" y="33958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2">
                    <a:moveTo>
                      <a:pt x="13" y="0"/>
                    </a:moveTo>
                    <a:lnTo>
                      <a:pt x="0" y="14"/>
                    </a:lnTo>
                    <a:lnTo>
                      <a:pt x="14" y="162"/>
                    </a:lnTo>
                    <a:lnTo>
                      <a:pt x="38" y="160"/>
                    </a:lnTo>
                    <a:lnTo>
                      <a:pt x="23" y="11"/>
                    </a:lnTo>
                    <a:lnTo>
                      <a:pt x="13" y="0"/>
                    </a:lnTo>
                    <a:lnTo>
                      <a:pt x="23" y="11"/>
                    </a:lnTo>
                    <a:lnTo>
                      <a:pt x="21" y="6"/>
                    </a:lnTo>
                    <a:lnTo>
                      <a:pt x="19" y="2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392720" y="33832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8" y="1"/>
                    </a:moveTo>
                    <a:lnTo>
                      <a:pt x="13" y="24"/>
                    </a:lnTo>
                    <a:lnTo>
                      <a:pt x="57" y="25"/>
                    </a:lnTo>
                    <a:lnTo>
                      <a:pt x="103" y="27"/>
                    </a:lnTo>
                    <a:lnTo>
                      <a:pt x="149" y="30"/>
                    </a:lnTo>
                    <a:lnTo>
                      <a:pt x="195" y="35"/>
                    </a:lnTo>
                    <a:lnTo>
                      <a:pt x="241" y="41"/>
                    </a:lnTo>
                    <a:lnTo>
                      <a:pt x="288" y="49"/>
                    </a:lnTo>
                    <a:lnTo>
                      <a:pt x="333" y="57"/>
                    </a:lnTo>
                    <a:lnTo>
                      <a:pt x="378" y="67"/>
                    </a:lnTo>
                    <a:lnTo>
                      <a:pt x="382" y="43"/>
                    </a:lnTo>
                    <a:lnTo>
                      <a:pt x="338" y="34"/>
                    </a:lnTo>
                    <a:lnTo>
                      <a:pt x="291" y="25"/>
                    </a:lnTo>
                    <a:lnTo>
                      <a:pt x="244" y="17"/>
                    </a:lnTo>
                    <a:lnTo>
                      <a:pt x="198" y="11"/>
                    </a:lnTo>
                    <a:lnTo>
                      <a:pt x="151" y="7"/>
                    </a:lnTo>
                    <a:lnTo>
                      <a:pt x="104" y="3"/>
                    </a:lnTo>
                    <a:lnTo>
                      <a:pt x="59" y="1"/>
                    </a:lnTo>
                    <a:lnTo>
                      <a:pt x="13" y="0"/>
                    </a:lnTo>
                    <a:lnTo>
                      <a:pt x="18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95960" y="332604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208" h="199">
                    <a:moveTo>
                      <a:pt x="195" y="24"/>
                    </a:moveTo>
                    <a:lnTo>
                      <a:pt x="183" y="13"/>
                    </a:lnTo>
                    <a:lnTo>
                      <a:pt x="183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4" y="54"/>
                    </a:lnTo>
                    <a:lnTo>
                      <a:pt x="166" y="66"/>
                    </a:lnTo>
                    <a:lnTo>
                      <a:pt x="157" y="79"/>
                    </a:lnTo>
                    <a:lnTo>
                      <a:pt x="145" y="90"/>
                    </a:lnTo>
                    <a:lnTo>
                      <a:pt x="134" y="103"/>
                    </a:lnTo>
                    <a:lnTo>
                      <a:pt x="120" y="113"/>
                    </a:lnTo>
                    <a:lnTo>
                      <a:pt x="105" y="123"/>
                    </a:lnTo>
                    <a:lnTo>
                      <a:pt x="90" y="133"/>
                    </a:lnTo>
                    <a:lnTo>
                      <a:pt x="76" y="142"/>
                    </a:lnTo>
                    <a:lnTo>
                      <a:pt x="60" y="150"/>
                    </a:lnTo>
                    <a:lnTo>
                      <a:pt x="29" y="165"/>
                    </a:lnTo>
                    <a:lnTo>
                      <a:pt x="0" y="178"/>
                    </a:lnTo>
                    <a:lnTo>
                      <a:pt x="10" y="199"/>
                    </a:lnTo>
                    <a:lnTo>
                      <a:pt x="39" y="187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3" y="154"/>
                    </a:lnTo>
                    <a:lnTo>
                      <a:pt x="119" y="144"/>
                    </a:lnTo>
                    <a:lnTo>
                      <a:pt x="135" y="132"/>
                    </a:lnTo>
                    <a:lnTo>
                      <a:pt x="150" y="120"/>
                    </a:lnTo>
                    <a:lnTo>
                      <a:pt x="163" y="107"/>
                    </a:lnTo>
                    <a:lnTo>
                      <a:pt x="175" y="93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1" y="48"/>
                    </a:lnTo>
                    <a:lnTo>
                      <a:pt x="204" y="39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8" y="13"/>
                    </a:lnTo>
                    <a:lnTo>
                      <a:pt x="195" y="0"/>
                    </a:lnTo>
                    <a:lnTo>
                      <a:pt x="208" y="13"/>
                    </a:lnTo>
                    <a:lnTo>
                      <a:pt x="207" y="7"/>
                    </a:lnTo>
                    <a:lnTo>
                      <a:pt x="203" y="3"/>
                    </a:lnTo>
                    <a:lnTo>
                      <a:pt x="200" y="1"/>
                    </a:lnTo>
                    <a:lnTo>
                      <a:pt x="195" y="0"/>
                    </a:lnTo>
                    <a:lnTo>
                      <a:pt x="191" y="1"/>
                    </a:lnTo>
                    <a:lnTo>
                      <a:pt x="187" y="3"/>
                    </a:lnTo>
                    <a:lnTo>
                      <a:pt x="184" y="7"/>
                    </a:lnTo>
                    <a:lnTo>
                      <a:pt x="183" y="13"/>
                    </a:lnTo>
                    <a:lnTo>
                      <a:pt x="19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338720" y="331812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9" y="34"/>
                    </a:moveTo>
                    <a:lnTo>
                      <a:pt x="8" y="34"/>
                    </a:lnTo>
                    <a:lnTo>
                      <a:pt x="25" y="30"/>
                    </a:lnTo>
                    <a:lnTo>
                      <a:pt x="43" y="27"/>
                    </a:lnTo>
                    <a:lnTo>
                      <a:pt x="62" y="25"/>
                    </a:lnTo>
                    <a:lnTo>
                      <a:pt x="84" y="24"/>
                    </a:lnTo>
                    <a:lnTo>
                      <a:pt x="108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1" y="31"/>
                    </a:lnTo>
                    <a:lnTo>
                      <a:pt x="232" y="36"/>
                    </a:lnTo>
                    <a:lnTo>
                      <a:pt x="282" y="42"/>
                    </a:lnTo>
                    <a:lnTo>
                      <a:pt x="306" y="45"/>
                    </a:lnTo>
                    <a:lnTo>
                      <a:pt x="329" y="48"/>
                    </a:lnTo>
                    <a:lnTo>
                      <a:pt x="351" y="49"/>
                    </a:lnTo>
                    <a:lnTo>
                      <a:pt x="371" y="49"/>
                    </a:lnTo>
                    <a:lnTo>
                      <a:pt x="371" y="25"/>
                    </a:lnTo>
                    <a:lnTo>
                      <a:pt x="352" y="25"/>
                    </a:lnTo>
                    <a:lnTo>
                      <a:pt x="330" y="23"/>
                    </a:lnTo>
                    <a:lnTo>
                      <a:pt x="309" y="22"/>
                    </a:lnTo>
                    <a:lnTo>
                      <a:pt x="285" y="18"/>
                    </a:lnTo>
                    <a:lnTo>
                      <a:pt x="235" y="12"/>
                    </a:lnTo>
                    <a:lnTo>
                      <a:pt x="184" y="7"/>
                    </a:lnTo>
                    <a:lnTo>
                      <a:pt x="158" y="4"/>
                    </a:lnTo>
                    <a:lnTo>
                      <a:pt x="133" y="2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61" y="1"/>
                    </a:lnTo>
                    <a:lnTo>
                      <a:pt x="40" y="3"/>
                    </a:lnTo>
                    <a:lnTo>
                      <a:pt x="19" y="7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264200" y="3322800"/>
                <a:ext cx="77760" cy="1508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5" y="439"/>
                    </a:lnTo>
                    <a:lnTo>
                      <a:pt x="51" y="427"/>
                    </a:lnTo>
                    <a:lnTo>
                      <a:pt x="57" y="414"/>
                    </a:lnTo>
                    <a:lnTo>
                      <a:pt x="61" y="399"/>
                    </a:lnTo>
                    <a:lnTo>
                      <a:pt x="66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7" y="211"/>
                    </a:lnTo>
                    <a:lnTo>
                      <a:pt x="118" y="176"/>
                    </a:lnTo>
                    <a:lnTo>
                      <a:pt x="125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7" y="111"/>
                    </a:lnTo>
                    <a:lnTo>
                      <a:pt x="156" y="96"/>
                    </a:lnTo>
                    <a:lnTo>
                      <a:pt x="166" y="83"/>
                    </a:lnTo>
                    <a:lnTo>
                      <a:pt x="176" y="70"/>
                    </a:lnTo>
                    <a:lnTo>
                      <a:pt x="189" y="59"/>
                    </a:lnTo>
                    <a:lnTo>
                      <a:pt x="201" y="47"/>
                    </a:lnTo>
                    <a:lnTo>
                      <a:pt x="215" y="38"/>
                    </a:lnTo>
                    <a:lnTo>
                      <a:pt x="230" y="30"/>
                    </a:lnTo>
                    <a:lnTo>
                      <a:pt x="246" y="22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1" y="18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59" y="54"/>
                    </a:lnTo>
                    <a:lnTo>
                      <a:pt x="147" y="68"/>
                    </a:lnTo>
                    <a:lnTo>
                      <a:pt x="136" y="84"/>
                    </a:lnTo>
                    <a:lnTo>
                      <a:pt x="126" y="100"/>
                    </a:lnTo>
                    <a:lnTo>
                      <a:pt x="117" y="116"/>
                    </a:lnTo>
                    <a:lnTo>
                      <a:pt x="109" y="133"/>
                    </a:lnTo>
                    <a:lnTo>
                      <a:pt x="102" y="150"/>
                    </a:lnTo>
                    <a:lnTo>
                      <a:pt x="95" y="168"/>
                    </a:lnTo>
                    <a:lnTo>
                      <a:pt x="84" y="204"/>
                    </a:lnTo>
                    <a:lnTo>
                      <a:pt x="74" y="242"/>
                    </a:lnTo>
                    <a:lnTo>
                      <a:pt x="58" y="314"/>
                    </a:lnTo>
                    <a:lnTo>
                      <a:pt x="43" y="379"/>
                    </a:lnTo>
                    <a:lnTo>
                      <a:pt x="38" y="393"/>
                    </a:lnTo>
                    <a:lnTo>
                      <a:pt x="34" y="405"/>
                    </a:lnTo>
                    <a:lnTo>
                      <a:pt x="29" y="418"/>
                    </a:lnTo>
                    <a:lnTo>
                      <a:pt x="25" y="428"/>
                    </a:lnTo>
                    <a:lnTo>
                      <a:pt x="19" y="437"/>
                    </a:lnTo>
                    <a:lnTo>
                      <a:pt x="13" y="445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164120" y="3467520"/>
                <a:ext cx="104760" cy="53640"/>
              </a:xfrm>
              <a:custGeom>
                <a:avLst/>
                <a:gdLst/>
                <a:ahLst/>
                <a:rect l="l" t="t" r="r" b="b"/>
                <a:pathLst>
                  <a:path w="329" h="166">
                    <a:moveTo>
                      <a:pt x="20" y="165"/>
                    </a:moveTo>
                    <a:lnTo>
                      <a:pt x="20" y="166"/>
                    </a:lnTo>
                    <a:lnTo>
                      <a:pt x="25" y="159"/>
                    </a:lnTo>
                    <a:lnTo>
                      <a:pt x="31" y="153"/>
                    </a:lnTo>
                    <a:lnTo>
                      <a:pt x="38" y="148"/>
                    </a:lnTo>
                    <a:lnTo>
                      <a:pt x="45" y="143"/>
                    </a:lnTo>
                    <a:lnTo>
                      <a:pt x="61" y="133"/>
                    </a:lnTo>
                    <a:lnTo>
                      <a:pt x="79" y="123"/>
                    </a:lnTo>
                    <a:lnTo>
                      <a:pt x="100" y="115"/>
                    </a:lnTo>
                    <a:lnTo>
                      <a:pt x="120" y="106"/>
                    </a:lnTo>
                    <a:lnTo>
                      <a:pt x="142" y="98"/>
                    </a:lnTo>
                    <a:lnTo>
                      <a:pt x="165" y="91"/>
                    </a:lnTo>
                    <a:lnTo>
                      <a:pt x="210" y="75"/>
                    </a:lnTo>
                    <a:lnTo>
                      <a:pt x="255" y="59"/>
                    </a:lnTo>
                    <a:lnTo>
                      <a:pt x="275" y="50"/>
                    </a:lnTo>
                    <a:lnTo>
                      <a:pt x="294" y="41"/>
                    </a:lnTo>
                    <a:lnTo>
                      <a:pt x="313" y="30"/>
                    </a:lnTo>
                    <a:lnTo>
                      <a:pt x="329" y="18"/>
                    </a:lnTo>
                    <a:lnTo>
                      <a:pt x="313" y="0"/>
                    </a:lnTo>
                    <a:lnTo>
                      <a:pt x="299" y="10"/>
                    </a:lnTo>
                    <a:lnTo>
                      <a:pt x="283" y="19"/>
                    </a:lnTo>
                    <a:lnTo>
                      <a:pt x="265" y="28"/>
                    </a:lnTo>
                    <a:lnTo>
                      <a:pt x="245" y="36"/>
                    </a:lnTo>
                    <a:lnTo>
                      <a:pt x="202" y="52"/>
                    </a:lnTo>
                    <a:lnTo>
                      <a:pt x="157" y="67"/>
                    </a:lnTo>
                    <a:lnTo>
                      <a:pt x="134" y="75"/>
                    </a:lnTo>
                    <a:lnTo>
                      <a:pt x="112" y="83"/>
                    </a:lnTo>
                    <a:lnTo>
                      <a:pt x="89" y="92"/>
                    </a:lnTo>
                    <a:lnTo>
                      <a:pt x="69" y="101"/>
                    </a:lnTo>
                    <a:lnTo>
                      <a:pt x="49" y="111"/>
                    </a:lnTo>
                    <a:lnTo>
                      <a:pt x="31" y="123"/>
                    </a:lnTo>
                    <a:lnTo>
                      <a:pt x="23" y="130"/>
                    </a:lnTo>
                    <a:lnTo>
                      <a:pt x="15" y="135"/>
                    </a:lnTo>
                    <a:lnTo>
                      <a:pt x="7" y="143"/>
                    </a:lnTo>
                    <a:lnTo>
                      <a:pt x="2" y="150"/>
                    </a:lnTo>
                    <a:lnTo>
                      <a:pt x="0" y="150"/>
                    </a:lnTo>
                    <a:lnTo>
                      <a:pt x="2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162320" y="34308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2" h="355">
                    <a:moveTo>
                      <a:pt x="541" y="9"/>
                    </a:moveTo>
                    <a:lnTo>
                      <a:pt x="518" y="11"/>
                    </a:lnTo>
                    <a:lnTo>
                      <a:pt x="517" y="31"/>
                    </a:lnTo>
                    <a:lnTo>
                      <a:pt x="515" y="50"/>
                    </a:lnTo>
                    <a:lnTo>
                      <a:pt x="513" y="68"/>
                    </a:lnTo>
                    <a:lnTo>
                      <a:pt x="509" y="86"/>
                    </a:lnTo>
                    <a:lnTo>
                      <a:pt x="505" y="103"/>
                    </a:lnTo>
                    <a:lnTo>
                      <a:pt x="500" y="119"/>
                    </a:lnTo>
                    <a:lnTo>
                      <a:pt x="495" y="133"/>
                    </a:lnTo>
                    <a:lnTo>
                      <a:pt x="490" y="148"/>
                    </a:lnTo>
                    <a:lnTo>
                      <a:pt x="483" y="162"/>
                    </a:lnTo>
                    <a:lnTo>
                      <a:pt x="477" y="176"/>
                    </a:lnTo>
                    <a:lnTo>
                      <a:pt x="469" y="188"/>
                    </a:lnTo>
                    <a:lnTo>
                      <a:pt x="461" y="200"/>
                    </a:lnTo>
                    <a:lnTo>
                      <a:pt x="453" y="211"/>
                    </a:lnTo>
                    <a:lnTo>
                      <a:pt x="445" y="221"/>
                    </a:lnTo>
                    <a:lnTo>
                      <a:pt x="436" y="231"/>
                    </a:lnTo>
                    <a:lnTo>
                      <a:pt x="426" y="241"/>
                    </a:lnTo>
                    <a:lnTo>
                      <a:pt x="417" y="250"/>
                    </a:lnTo>
                    <a:lnTo>
                      <a:pt x="407" y="259"/>
                    </a:lnTo>
                    <a:lnTo>
                      <a:pt x="396" y="266"/>
                    </a:lnTo>
                    <a:lnTo>
                      <a:pt x="386" y="274"/>
                    </a:lnTo>
                    <a:lnTo>
                      <a:pt x="363" y="286"/>
                    </a:lnTo>
                    <a:lnTo>
                      <a:pt x="340" y="298"/>
                    </a:lnTo>
                    <a:lnTo>
                      <a:pt x="317" y="307"/>
                    </a:lnTo>
                    <a:lnTo>
                      <a:pt x="293" y="315"/>
                    </a:lnTo>
                    <a:lnTo>
                      <a:pt x="268" y="320"/>
                    </a:lnTo>
                    <a:lnTo>
                      <a:pt x="244" y="325"/>
                    </a:lnTo>
                    <a:lnTo>
                      <a:pt x="220" y="328"/>
                    </a:lnTo>
                    <a:lnTo>
                      <a:pt x="196" y="329"/>
                    </a:lnTo>
                    <a:lnTo>
                      <a:pt x="172" y="331"/>
                    </a:lnTo>
                    <a:lnTo>
                      <a:pt x="150" y="329"/>
                    </a:lnTo>
                    <a:lnTo>
                      <a:pt x="129" y="327"/>
                    </a:lnTo>
                    <a:lnTo>
                      <a:pt x="108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1"/>
                    </a:lnTo>
                    <a:lnTo>
                      <a:pt x="45" y="307"/>
                    </a:lnTo>
                    <a:lnTo>
                      <a:pt x="36" y="301"/>
                    </a:lnTo>
                    <a:lnTo>
                      <a:pt x="28" y="295"/>
                    </a:lnTo>
                    <a:lnTo>
                      <a:pt x="26" y="293"/>
                    </a:lnTo>
                    <a:lnTo>
                      <a:pt x="25" y="291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4"/>
                    </a:lnTo>
                    <a:lnTo>
                      <a:pt x="5" y="269"/>
                    </a:lnTo>
                    <a:lnTo>
                      <a:pt x="2" y="275"/>
                    </a:lnTo>
                    <a:lnTo>
                      <a:pt x="0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2" y="299"/>
                    </a:lnTo>
                    <a:lnTo>
                      <a:pt x="4" y="304"/>
                    </a:lnTo>
                    <a:lnTo>
                      <a:pt x="8" y="309"/>
                    </a:lnTo>
                    <a:lnTo>
                      <a:pt x="12" y="314"/>
                    </a:lnTo>
                    <a:lnTo>
                      <a:pt x="23" y="321"/>
                    </a:lnTo>
                    <a:lnTo>
                      <a:pt x="35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4" y="344"/>
                    </a:lnTo>
                    <a:lnTo>
                      <a:pt x="105" y="349"/>
                    </a:lnTo>
                    <a:lnTo>
                      <a:pt x="125" y="351"/>
                    </a:lnTo>
                    <a:lnTo>
                      <a:pt x="148" y="353"/>
                    </a:lnTo>
                    <a:lnTo>
                      <a:pt x="172" y="355"/>
                    </a:lnTo>
                    <a:lnTo>
                      <a:pt x="197" y="353"/>
                    </a:lnTo>
                    <a:lnTo>
                      <a:pt x="222" y="352"/>
                    </a:lnTo>
                    <a:lnTo>
                      <a:pt x="247" y="349"/>
                    </a:lnTo>
                    <a:lnTo>
                      <a:pt x="273" y="344"/>
                    </a:lnTo>
                    <a:lnTo>
                      <a:pt x="299" y="339"/>
                    </a:lnTo>
                    <a:lnTo>
                      <a:pt x="325" y="329"/>
                    </a:lnTo>
                    <a:lnTo>
                      <a:pt x="350" y="320"/>
                    </a:lnTo>
                    <a:lnTo>
                      <a:pt x="375" y="308"/>
                    </a:lnTo>
                    <a:lnTo>
                      <a:pt x="399" y="294"/>
                    </a:lnTo>
                    <a:lnTo>
                      <a:pt x="410" y="286"/>
                    </a:lnTo>
                    <a:lnTo>
                      <a:pt x="421" y="277"/>
                    </a:lnTo>
                    <a:lnTo>
                      <a:pt x="433" y="268"/>
                    </a:lnTo>
                    <a:lnTo>
                      <a:pt x="443" y="259"/>
                    </a:lnTo>
                    <a:lnTo>
                      <a:pt x="453" y="249"/>
                    </a:lnTo>
                    <a:lnTo>
                      <a:pt x="464" y="237"/>
                    </a:lnTo>
                    <a:lnTo>
                      <a:pt x="473" y="226"/>
                    </a:lnTo>
                    <a:lnTo>
                      <a:pt x="482" y="213"/>
                    </a:lnTo>
                    <a:lnTo>
                      <a:pt x="490" y="201"/>
                    </a:lnTo>
                    <a:lnTo>
                      <a:pt x="498" y="187"/>
                    </a:lnTo>
                    <a:lnTo>
                      <a:pt x="506" y="172"/>
                    </a:lnTo>
                    <a:lnTo>
                      <a:pt x="511" y="157"/>
                    </a:lnTo>
                    <a:lnTo>
                      <a:pt x="518" y="143"/>
                    </a:lnTo>
                    <a:lnTo>
                      <a:pt x="524" y="125"/>
                    </a:lnTo>
                    <a:lnTo>
                      <a:pt x="529" y="108"/>
                    </a:lnTo>
                    <a:lnTo>
                      <a:pt x="533" y="91"/>
                    </a:lnTo>
                    <a:lnTo>
                      <a:pt x="537" y="72"/>
                    </a:lnTo>
                    <a:lnTo>
                      <a:pt x="539" y="52"/>
                    </a:lnTo>
                    <a:lnTo>
                      <a:pt x="541" y="33"/>
                    </a:lnTo>
                    <a:lnTo>
                      <a:pt x="542" y="13"/>
                    </a:lnTo>
                    <a:lnTo>
                      <a:pt x="518" y="15"/>
                    </a:lnTo>
                    <a:lnTo>
                      <a:pt x="542" y="13"/>
                    </a:lnTo>
                    <a:lnTo>
                      <a:pt x="541" y="7"/>
                    </a:lnTo>
                    <a:lnTo>
                      <a:pt x="539" y="3"/>
                    </a:lnTo>
                    <a:lnTo>
                      <a:pt x="534" y="1"/>
                    </a:lnTo>
                    <a:lnTo>
                      <a:pt x="530" y="0"/>
                    </a:lnTo>
                    <a:lnTo>
                      <a:pt x="526" y="0"/>
                    </a:lnTo>
                    <a:lnTo>
                      <a:pt x="522" y="2"/>
                    </a:lnTo>
                    <a:lnTo>
                      <a:pt x="519" y="6"/>
                    </a:lnTo>
                    <a:lnTo>
                      <a:pt x="518" y="11"/>
                    </a:lnTo>
                    <a:lnTo>
                      <a:pt x="541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510160" y="3254760"/>
                <a:ext cx="312840" cy="288720"/>
              </a:xfrm>
              <a:custGeom>
                <a:avLst/>
                <a:gdLst/>
                <a:ahLst/>
                <a:rect l="l" t="t" r="r" b="b"/>
                <a:pathLst>
                  <a:path w="982" h="910">
                    <a:moveTo>
                      <a:pt x="678" y="504"/>
                    </a:moveTo>
                    <a:lnTo>
                      <a:pt x="673" y="474"/>
                    </a:lnTo>
                    <a:lnTo>
                      <a:pt x="671" y="445"/>
                    </a:lnTo>
                    <a:lnTo>
                      <a:pt x="670" y="414"/>
                    </a:lnTo>
                    <a:lnTo>
                      <a:pt x="671" y="383"/>
                    </a:lnTo>
                    <a:lnTo>
                      <a:pt x="675" y="319"/>
                    </a:lnTo>
                    <a:lnTo>
                      <a:pt x="678" y="254"/>
                    </a:lnTo>
                    <a:lnTo>
                      <a:pt x="679" y="222"/>
                    </a:lnTo>
                    <a:lnTo>
                      <a:pt x="678" y="189"/>
                    </a:lnTo>
                    <a:lnTo>
                      <a:pt x="676" y="157"/>
                    </a:lnTo>
                    <a:lnTo>
                      <a:pt x="672" y="126"/>
                    </a:lnTo>
                    <a:lnTo>
                      <a:pt x="669" y="110"/>
                    </a:lnTo>
                    <a:lnTo>
                      <a:pt x="665" y="94"/>
                    </a:lnTo>
                    <a:lnTo>
                      <a:pt x="661" y="78"/>
                    </a:lnTo>
                    <a:lnTo>
                      <a:pt x="655" y="62"/>
                    </a:lnTo>
                    <a:lnTo>
                      <a:pt x="650" y="46"/>
                    </a:lnTo>
                    <a:lnTo>
                      <a:pt x="643" y="31"/>
                    </a:lnTo>
                    <a:lnTo>
                      <a:pt x="635" y="15"/>
                    </a:lnTo>
                    <a:lnTo>
                      <a:pt x="626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0" y="26"/>
                    </a:lnTo>
                    <a:lnTo>
                      <a:pt x="580" y="38"/>
                    </a:lnTo>
                    <a:lnTo>
                      <a:pt x="569" y="50"/>
                    </a:lnTo>
                    <a:lnTo>
                      <a:pt x="557" y="63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8" y="105"/>
                    </a:lnTo>
                    <a:lnTo>
                      <a:pt x="518" y="121"/>
                    </a:lnTo>
                    <a:lnTo>
                      <a:pt x="509" y="137"/>
                    </a:lnTo>
                    <a:lnTo>
                      <a:pt x="500" y="153"/>
                    </a:lnTo>
                    <a:lnTo>
                      <a:pt x="492" y="170"/>
                    </a:lnTo>
                    <a:lnTo>
                      <a:pt x="485" y="187"/>
                    </a:lnTo>
                    <a:lnTo>
                      <a:pt x="479" y="205"/>
                    </a:lnTo>
                    <a:lnTo>
                      <a:pt x="472" y="224"/>
                    </a:lnTo>
                    <a:lnTo>
                      <a:pt x="466" y="241"/>
                    </a:lnTo>
                    <a:lnTo>
                      <a:pt x="461" y="259"/>
                    </a:lnTo>
                    <a:lnTo>
                      <a:pt x="457" y="277"/>
                    </a:lnTo>
                    <a:lnTo>
                      <a:pt x="453" y="295"/>
                    </a:lnTo>
                    <a:lnTo>
                      <a:pt x="450" y="314"/>
                    </a:lnTo>
                    <a:lnTo>
                      <a:pt x="448" y="332"/>
                    </a:lnTo>
                    <a:lnTo>
                      <a:pt x="447" y="349"/>
                    </a:lnTo>
                    <a:lnTo>
                      <a:pt x="447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3" y="433"/>
                    </a:lnTo>
                    <a:lnTo>
                      <a:pt x="458" y="448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6" y="460"/>
                    </a:lnTo>
                    <a:lnTo>
                      <a:pt x="444" y="446"/>
                    </a:lnTo>
                    <a:lnTo>
                      <a:pt x="432" y="432"/>
                    </a:lnTo>
                    <a:lnTo>
                      <a:pt x="419" y="421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1" y="389"/>
                    </a:lnTo>
                    <a:lnTo>
                      <a:pt x="367" y="380"/>
                    </a:lnTo>
                    <a:lnTo>
                      <a:pt x="353" y="372"/>
                    </a:lnTo>
                    <a:lnTo>
                      <a:pt x="338" y="365"/>
                    </a:lnTo>
                    <a:lnTo>
                      <a:pt x="325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9" y="342"/>
                    </a:lnTo>
                    <a:lnTo>
                      <a:pt x="263" y="339"/>
                    </a:lnTo>
                    <a:lnTo>
                      <a:pt x="231" y="332"/>
                    </a:lnTo>
                    <a:lnTo>
                      <a:pt x="199" y="327"/>
                    </a:lnTo>
                    <a:lnTo>
                      <a:pt x="166" y="325"/>
                    </a:lnTo>
                    <a:lnTo>
                      <a:pt x="133" y="325"/>
                    </a:lnTo>
                    <a:lnTo>
                      <a:pt x="100" y="325"/>
                    </a:lnTo>
                    <a:lnTo>
                      <a:pt x="67" y="327"/>
                    </a:lnTo>
                    <a:lnTo>
                      <a:pt x="33" y="331"/>
                    </a:lnTo>
                    <a:lnTo>
                      <a:pt x="0" y="334"/>
                    </a:lnTo>
                    <a:lnTo>
                      <a:pt x="17" y="360"/>
                    </a:lnTo>
                    <a:lnTo>
                      <a:pt x="33" y="384"/>
                    </a:lnTo>
                    <a:lnTo>
                      <a:pt x="48" y="407"/>
                    </a:lnTo>
                    <a:lnTo>
                      <a:pt x="63" y="428"/>
                    </a:lnTo>
                    <a:lnTo>
                      <a:pt x="77" y="446"/>
                    </a:lnTo>
                    <a:lnTo>
                      <a:pt x="91" y="463"/>
                    </a:lnTo>
                    <a:lnTo>
                      <a:pt x="106" y="479"/>
                    </a:lnTo>
                    <a:lnTo>
                      <a:pt x="118" y="493"/>
                    </a:lnTo>
                    <a:lnTo>
                      <a:pt x="132" y="505"/>
                    </a:lnTo>
                    <a:lnTo>
                      <a:pt x="146" y="517"/>
                    </a:lnTo>
                    <a:lnTo>
                      <a:pt x="158" y="527"/>
                    </a:lnTo>
                    <a:lnTo>
                      <a:pt x="172" y="536"/>
                    </a:lnTo>
                    <a:lnTo>
                      <a:pt x="185" y="543"/>
                    </a:lnTo>
                    <a:lnTo>
                      <a:pt x="197" y="550"/>
                    </a:lnTo>
                    <a:lnTo>
                      <a:pt x="211" y="554"/>
                    </a:lnTo>
                    <a:lnTo>
                      <a:pt x="224" y="559"/>
                    </a:lnTo>
                    <a:lnTo>
                      <a:pt x="237" y="562"/>
                    </a:lnTo>
                    <a:lnTo>
                      <a:pt x="251" y="564"/>
                    </a:lnTo>
                    <a:lnTo>
                      <a:pt x="264" y="567"/>
                    </a:lnTo>
                    <a:lnTo>
                      <a:pt x="279" y="568"/>
                    </a:lnTo>
                    <a:lnTo>
                      <a:pt x="309" y="568"/>
                    </a:lnTo>
                    <a:lnTo>
                      <a:pt x="341" y="566"/>
                    </a:lnTo>
                    <a:lnTo>
                      <a:pt x="411" y="556"/>
                    </a:lnTo>
                    <a:lnTo>
                      <a:pt x="495" y="546"/>
                    </a:lnTo>
                    <a:lnTo>
                      <a:pt x="498" y="555"/>
                    </a:lnTo>
                    <a:lnTo>
                      <a:pt x="502" y="571"/>
                    </a:lnTo>
                    <a:lnTo>
                      <a:pt x="507" y="593"/>
                    </a:lnTo>
                    <a:lnTo>
                      <a:pt x="510" y="618"/>
                    </a:lnTo>
                    <a:lnTo>
                      <a:pt x="521" y="676"/>
                    </a:lnTo>
                    <a:lnTo>
                      <a:pt x="532" y="741"/>
                    </a:lnTo>
                    <a:lnTo>
                      <a:pt x="540" y="773"/>
                    </a:lnTo>
                    <a:lnTo>
                      <a:pt x="548" y="803"/>
                    </a:lnTo>
                    <a:lnTo>
                      <a:pt x="553" y="817"/>
                    </a:lnTo>
                    <a:lnTo>
                      <a:pt x="558" y="831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9"/>
                    </a:lnTo>
                    <a:lnTo>
                      <a:pt x="581" y="878"/>
                    </a:lnTo>
                    <a:lnTo>
                      <a:pt x="589" y="887"/>
                    </a:lnTo>
                    <a:lnTo>
                      <a:pt x="596" y="895"/>
                    </a:lnTo>
                    <a:lnTo>
                      <a:pt x="604" y="901"/>
                    </a:lnTo>
                    <a:lnTo>
                      <a:pt x="612" y="905"/>
                    </a:lnTo>
                    <a:lnTo>
                      <a:pt x="621" y="909"/>
                    </a:lnTo>
                    <a:lnTo>
                      <a:pt x="631" y="910"/>
                    </a:lnTo>
                    <a:lnTo>
                      <a:pt x="652" y="909"/>
                    </a:lnTo>
                    <a:lnTo>
                      <a:pt x="673" y="905"/>
                    </a:lnTo>
                    <a:lnTo>
                      <a:pt x="695" y="901"/>
                    </a:lnTo>
                    <a:lnTo>
                      <a:pt x="717" y="894"/>
                    </a:lnTo>
                    <a:lnTo>
                      <a:pt x="738" y="885"/>
                    </a:lnTo>
                    <a:lnTo>
                      <a:pt x="760" y="874"/>
                    </a:lnTo>
                    <a:lnTo>
                      <a:pt x="781" y="863"/>
                    </a:lnTo>
                    <a:lnTo>
                      <a:pt x="802" y="851"/>
                    </a:lnTo>
                    <a:lnTo>
                      <a:pt x="822" y="837"/>
                    </a:lnTo>
                    <a:lnTo>
                      <a:pt x="841" y="822"/>
                    </a:lnTo>
                    <a:lnTo>
                      <a:pt x="859" y="806"/>
                    </a:lnTo>
                    <a:lnTo>
                      <a:pt x="876" y="790"/>
                    </a:lnTo>
                    <a:lnTo>
                      <a:pt x="893" y="773"/>
                    </a:lnTo>
                    <a:lnTo>
                      <a:pt x="908" y="755"/>
                    </a:lnTo>
                    <a:lnTo>
                      <a:pt x="922" y="737"/>
                    </a:lnTo>
                    <a:lnTo>
                      <a:pt x="934" y="718"/>
                    </a:lnTo>
                    <a:lnTo>
                      <a:pt x="945" y="700"/>
                    </a:lnTo>
                    <a:lnTo>
                      <a:pt x="954" y="682"/>
                    </a:lnTo>
                    <a:lnTo>
                      <a:pt x="961" y="664"/>
                    </a:lnTo>
                    <a:lnTo>
                      <a:pt x="966" y="645"/>
                    </a:lnTo>
                    <a:lnTo>
                      <a:pt x="969" y="628"/>
                    </a:lnTo>
                    <a:lnTo>
                      <a:pt x="970" y="611"/>
                    </a:lnTo>
                    <a:lnTo>
                      <a:pt x="969" y="594"/>
                    </a:lnTo>
                    <a:lnTo>
                      <a:pt x="964" y="578"/>
                    </a:lnTo>
                    <a:lnTo>
                      <a:pt x="957" y="563"/>
                    </a:lnTo>
                    <a:lnTo>
                      <a:pt x="948" y="550"/>
                    </a:lnTo>
                    <a:lnTo>
                      <a:pt x="936" y="537"/>
                    </a:lnTo>
                    <a:lnTo>
                      <a:pt x="921" y="526"/>
                    </a:lnTo>
                    <a:lnTo>
                      <a:pt x="903" y="515"/>
                    </a:lnTo>
                    <a:lnTo>
                      <a:pt x="881" y="507"/>
                    </a:lnTo>
                    <a:lnTo>
                      <a:pt x="857" y="501"/>
                    </a:lnTo>
                    <a:lnTo>
                      <a:pt x="828" y="496"/>
                    </a:lnTo>
                    <a:lnTo>
                      <a:pt x="782" y="489"/>
                    </a:lnTo>
                    <a:lnTo>
                      <a:pt x="754" y="486"/>
                    </a:lnTo>
                    <a:lnTo>
                      <a:pt x="746" y="485"/>
                    </a:lnTo>
                    <a:lnTo>
                      <a:pt x="742" y="482"/>
                    </a:lnTo>
                    <a:lnTo>
                      <a:pt x="742" y="481"/>
                    </a:lnTo>
                    <a:lnTo>
                      <a:pt x="744" y="480"/>
                    </a:lnTo>
                    <a:lnTo>
                      <a:pt x="779" y="473"/>
                    </a:lnTo>
                    <a:lnTo>
                      <a:pt x="840" y="462"/>
                    </a:lnTo>
                    <a:lnTo>
                      <a:pt x="857" y="456"/>
                    </a:lnTo>
                    <a:lnTo>
                      <a:pt x="874" y="452"/>
                    </a:lnTo>
                    <a:lnTo>
                      <a:pt x="890" y="445"/>
                    </a:lnTo>
                    <a:lnTo>
                      <a:pt x="907" y="438"/>
                    </a:lnTo>
                    <a:lnTo>
                      <a:pt x="922" y="429"/>
                    </a:lnTo>
                    <a:lnTo>
                      <a:pt x="937" y="420"/>
                    </a:lnTo>
                    <a:lnTo>
                      <a:pt x="949" y="409"/>
                    </a:lnTo>
                    <a:lnTo>
                      <a:pt x="961" y="398"/>
                    </a:lnTo>
                    <a:lnTo>
                      <a:pt x="970" y="384"/>
                    </a:lnTo>
                    <a:lnTo>
                      <a:pt x="977" y="369"/>
                    </a:lnTo>
                    <a:lnTo>
                      <a:pt x="980" y="354"/>
                    </a:lnTo>
                    <a:lnTo>
                      <a:pt x="982" y="336"/>
                    </a:lnTo>
                    <a:lnTo>
                      <a:pt x="980" y="317"/>
                    </a:lnTo>
                    <a:lnTo>
                      <a:pt x="974" y="295"/>
                    </a:lnTo>
                    <a:lnTo>
                      <a:pt x="965" y="273"/>
                    </a:lnTo>
                    <a:lnTo>
                      <a:pt x="952" y="247"/>
                    </a:lnTo>
                    <a:lnTo>
                      <a:pt x="908" y="275"/>
                    </a:lnTo>
                    <a:lnTo>
                      <a:pt x="867" y="301"/>
                    </a:lnTo>
                    <a:lnTo>
                      <a:pt x="847" y="315"/>
                    </a:lnTo>
                    <a:lnTo>
                      <a:pt x="826" y="330"/>
                    </a:lnTo>
                    <a:lnTo>
                      <a:pt x="808" y="344"/>
                    </a:lnTo>
                    <a:lnTo>
                      <a:pt x="789" y="359"/>
                    </a:lnTo>
                    <a:lnTo>
                      <a:pt x="771" y="374"/>
                    </a:lnTo>
                    <a:lnTo>
                      <a:pt x="754" y="391"/>
                    </a:lnTo>
                    <a:lnTo>
                      <a:pt x="738" y="407"/>
                    </a:lnTo>
                    <a:lnTo>
                      <a:pt x="724" y="425"/>
                    </a:lnTo>
                    <a:lnTo>
                      <a:pt x="710" y="444"/>
                    </a:lnTo>
                    <a:lnTo>
                      <a:pt x="699" y="463"/>
                    </a:lnTo>
                    <a:lnTo>
                      <a:pt x="687" y="482"/>
                    </a:lnTo>
                    <a:lnTo>
                      <a:pt x="678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705640" y="3251520"/>
                <a:ext cx="237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9" y="22"/>
                    </a:moveTo>
                    <a:lnTo>
                      <a:pt x="2" y="19"/>
                    </a:lnTo>
                    <a:lnTo>
                      <a:pt x="11" y="33"/>
                    </a:lnTo>
                    <a:lnTo>
                      <a:pt x="18" y="47"/>
                    </a:lnTo>
                    <a:lnTo>
                      <a:pt x="25" y="62"/>
                    </a:lnTo>
                    <a:lnTo>
                      <a:pt x="31" y="78"/>
                    </a:lnTo>
                    <a:lnTo>
                      <a:pt x="37" y="93"/>
                    </a:lnTo>
                    <a:lnTo>
                      <a:pt x="40" y="108"/>
                    </a:lnTo>
                    <a:lnTo>
                      <a:pt x="44" y="124"/>
                    </a:lnTo>
                    <a:lnTo>
                      <a:pt x="47" y="139"/>
                    </a:lnTo>
                    <a:lnTo>
                      <a:pt x="51" y="171"/>
                    </a:lnTo>
                    <a:lnTo>
                      <a:pt x="54" y="202"/>
                    </a:lnTo>
                    <a:lnTo>
                      <a:pt x="54" y="234"/>
                    </a:lnTo>
                    <a:lnTo>
                      <a:pt x="54" y="266"/>
                    </a:lnTo>
                    <a:lnTo>
                      <a:pt x="49" y="330"/>
                    </a:lnTo>
                    <a:lnTo>
                      <a:pt x="46" y="394"/>
                    </a:lnTo>
                    <a:lnTo>
                      <a:pt x="46" y="426"/>
                    </a:lnTo>
                    <a:lnTo>
                      <a:pt x="46" y="458"/>
                    </a:lnTo>
                    <a:lnTo>
                      <a:pt x="48" y="489"/>
                    </a:lnTo>
                    <a:lnTo>
                      <a:pt x="52" y="518"/>
                    </a:lnTo>
                    <a:lnTo>
                      <a:pt x="76" y="514"/>
                    </a:lnTo>
                    <a:lnTo>
                      <a:pt x="72" y="485"/>
                    </a:lnTo>
                    <a:lnTo>
                      <a:pt x="70" y="457"/>
                    </a:lnTo>
                    <a:lnTo>
                      <a:pt x="70" y="426"/>
                    </a:lnTo>
                    <a:lnTo>
                      <a:pt x="71" y="395"/>
                    </a:lnTo>
                    <a:lnTo>
                      <a:pt x="74" y="332"/>
                    </a:lnTo>
                    <a:lnTo>
                      <a:pt x="78" y="267"/>
                    </a:lnTo>
                    <a:lnTo>
                      <a:pt x="78" y="234"/>
                    </a:lnTo>
                    <a:lnTo>
                      <a:pt x="78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8"/>
                    </a:lnTo>
                    <a:lnTo>
                      <a:pt x="64" y="102"/>
                    </a:lnTo>
                    <a:lnTo>
                      <a:pt x="59" y="86"/>
                    </a:lnTo>
                    <a:lnTo>
                      <a:pt x="54" y="69"/>
                    </a:lnTo>
                    <a:lnTo>
                      <a:pt x="48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5"/>
                    </a:lnTo>
                    <a:lnTo>
                      <a:pt x="6" y="2"/>
                    </a:lnTo>
                    <a:lnTo>
                      <a:pt x="23" y="5"/>
                    </a:lnTo>
                    <a:lnTo>
                      <a:pt x="19" y="2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2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648400" y="325152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32" y="507"/>
                    </a:moveTo>
                    <a:lnTo>
                      <a:pt x="53" y="493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5"/>
                    </a:lnTo>
                    <a:lnTo>
                      <a:pt x="31" y="440"/>
                    </a:lnTo>
                    <a:lnTo>
                      <a:pt x="29" y="425"/>
                    </a:lnTo>
                    <a:lnTo>
                      <a:pt x="26" y="409"/>
                    </a:lnTo>
                    <a:lnTo>
                      <a:pt x="25" y="393"/>
                    </a:lnTo>
                    <a:lnTo>
                      <a:pt x="24" y="377"/>
                    </a:lnTo>
                    <a:lnTo>
                      <a:pt x="25" y="360"/>
                    </a:lnTo>
                    <a:lnTo>
                      <a:pt x="26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4" y="291"/>
                    </a:lnTo>
                    <a:lnTo>
                      <a:pt x="39" y="272"/>
                    </a:lnTo>
                    <a:lnTo>
                      <a:pt x="43" y="254"/>
                    </a:lnTo>
                    <a:lnTo>
                      <a:pt x="49" y="237"/>
                    </a:lnTo>
                    <a:lnTo>
                      <a:pt x="56" y="220"/>
                    </a:lnTo>
                    <a:lnTo>
                      <a:pt x="63" y="202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3" y="93"/>
                    </a:lnTo>
                    <a:lnTo>
                      <a:pt x="133" y="80"/>
                    </a:lnTo>
                    <a:lnTo>
                      <a:pt x="144" y="68"/>
                    </a:lnTo>
                    <a:lnTo>
                      <a:pt x="154" y="57"/>
                    </a:lnTo>
                    <a:lnTo>
                      <a:pt x="165" y="45"/>
                    </a:lnTo>
                    <a:lnTo>
                      <a:pt x="176" y="36"/>
                    </a:lnTo>
                    <a:lnTo>
                      <a:pt x="187" y="27"/>
                    </a:lnTo>
                    <a:lnTo>
                      <a:pt x="198" y="20"/>
                    </a:lnTo>
                    <a:lnTo>
                      <a:pt x="185" y="0"/>
                    </a:lnTo>
                    <a:lnTo>
                      <a:pt x="173" y="8"/>
                    </a:lnTo>
                    <a:lnTo>
                      <a:pt x="161" y="18"/>
                    </a:lnTo>
                    <a:lnTo>
                      <a:pt x="148" y="28"/>
                    </a:lnTo>
                    <a:lnTo>
                      <a:pt x="137" y="40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4" y="79"/>
                    </a:lnTo>
                    <a:lnTo>
                      <a:pt x="94" y="93"/>
                    </a:lnTo>
                    <a:lnTo>
                      <a:pt x="83" y="109"/>
                    </a:lnTo>
                    <a:lnTo>
                      <a:pt x="73" y="124"/>
                    </a:lnTo>
                    <a:lnTo>
                      <a:pt x="64" y="141"/>
                    </a:lnTo>
                    <a:lnTo>
                      <a:pt x="56" y="158"/>
                    </a:lnTo>
                    <a:lnTo>
                      <a:pt x="48" y="175"/>
                    </a:lnTo>
                    <a:lnTo>
                      <a:pt x="40" y="193"/>
                    </a:lnTo>
                    <a:lnTo>
                      <a:pt x="33" y="211"/>
                    </a:lnTo>
                    <a:lnTo>
                      <a:pt x="26" y="229"/>
                    </a:lnTo>
                    <a:lnTo>
                      <a:pt x="21" y="247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3"/>
                    </a:lnTo>
                    <a:lnTo>
                      <a:pt x="5" y="322"/>
                    </a:lnTo>
                    <a:lnTo>
                      <a:pt x="2" y="341"/>
                    </a:lnTo>
                    <a:lnTo>
                      <a:pt x="1" y="359"/>
                    </a:lnTo>
                    <a:lnTo>
                      <a:pt x="0" y="377"/>
                    </a:lnTo>
                    <a:lnTo>
                      <a:pt x="1" y="394"/>
                    </a:lnTo>
                    <a:lnTo>
                      <a:pt x="2" y="413"/>
                    </a:lnTo>
                    <a:lnTo>
                      <a:pt x="5" y="430"/>
                    </a:lnTo>
                    <a:lnTo>
                      <a:pt x="8" y="446"/>
                    </a:lnTo>
                    <a:lnTo>
                      <a:pt x="13" y="462"/>
                    </a:lnTo>
                    <a:lnTo>
                      <a:pt x="17" y="478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3"/>
                    </a:lnTo>
                    <a:lnTo>
                      <a:pt x="32" y="507"/>
                    </a:lnTo>
                    <a:lnTo>
                      <a:pt x="37" y="511"/>
                    </a:lnTo>
                    <a:lnTo>
                      <a:pt x="40" y="513"/>
                    </a:lnTo>
                    <a:lnTo>
                      <a:pt x="45" y="512"/>
                    </a:lnTo>
                    <a:lnTo>
                      <a:pt x="49" y="511"/>
                    </a:lnTo>
                    <a:lnTo>
                      <a:pt x="53" y="507"/>
                    </a:lnTo>
                    <a:lnTo>
                      <a:pt x="55" y="504"/>
                    </a:lnTo>
                    <a:lnTo>
                      <a:pt x="55" y="499"/>
                    </a:lnTo>
                    <a:lnTo>
                      <a:pt x="53" y="493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506920" y="33530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5"/>
                    </a:lnTo>
                    <a:lnTo>
                      <a:pt x="46" y="30"/>
                    </a:lnTo>
                    <a:lnTo>
                      <a:pt x="79" y="28"/>
                    </a:lnTo>
                    <a:lnTo>
                      <a:pt x="112" y="26"/>
                    </a:lnTo>
                    <a:lnTo>
                      <a:pt x="145" y="24"/>
                    </a:lnTo>
                    <a:lnTo>
                      <a:pt x="178" y="26"/>
                    </a:lnTo>
                    <a:lnTo>
                      <a:pt x="210" y="28"/>
                    </a:lnTo>
                    <a:lnTo>
                      <a:pt x="242" y="32"/>
                    </a:lnTo>
                    <a:lnTo>
                      <a:pt x="273" y="38"/>
                    </a:lnTo>
                    <a:lnTo>
                      <a:pt x="288" y="42"/>
                    </a:lnTo>
                    <a:lnTo>
                      <a:pt x="303" y="46"/>
                    </a:lnTo>
                    <a:lnTo>
                      <a:pt x="317" y="52"/>
                    </a:lnTo>
                    <a:lnTo>
                      <a:pt x="331" y="57"/>
                    </a:lnTo>
                    <a:lnTo>
                      <a:pt x="346" y="63"/>
                    </a:lnTo>
                    <a:lnTo>
                      <a:pt x="359" y="71"/>
                    </a:lnTo>
                    <a:lnTo>
                      <a:pt x="373" y="78"/>
                    </a:lnTo>
                    <a:lnTo>
                      <a:pt x="386" y="87"/>
                    </a:lnTo>
                    <a:lnTo>
                      <a:pt x="399" y="96"/>
                    </a:lnTo>
                    <a:lnTo>
                      <a:pt x="412" y="106"/>
                    </a:lnTo>
                    <a:lnTo>
                      <a:pt x="423" y="117"/>
                    </a:lnTo>
                    <a:lnTo>
                      <a:pt x="436" y="129"/>
                    </a:lnTo>
                    <a:lnTo>
                      <a:pt x="447" y="142"/>
                    </a:lnTo>
                    <a:lnTo>
                      <a:pt x="458" y="154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1"/>
                    </a:lnTo>
                    <a:lnTo>
                      <a:pt x="488" y="156"/>
                    </a:lnTo>
                    <a:lnTo>
                      <a:pt x="477" y="140"/>
                    </a:lnTo>
                    <a:lnTo>
                      <a:pt x="465" y="126"/>
                    </a:lnTo>
                    <a:lnTo>
                      <a:pt x="453" y="112"/>
                    </a:lnTo>
                    <a:lnTo>
                      <a:pt x="440" y="100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399" y="67"/>
                    </a:lnTo>
                    <a:lnTo>
                      <a:pt x="386" y="57"/>
                    </a:lnTo>
                    <a:lnTo>
                      <a:pt x="371" y="49"/>
                    </a:lnTo>
                    <a:lnTo>
                      <a:pt x="356" y="42"/>
                    </a:lnTo>
                    <a:lnTo>
                      <a:pt x="341" y="35"/>
                    </a:lnTo>
                    <a:lnTo>
                      <a:pt x="325" y="29"/>
                    </a:lnTo>
                    <a:lnTo>
                      <a:pt x="309" y="23"/>
                    </a:lnTo>
                    <a:lnTo>
                      <a:pt x="295" y="19"/>
                    </a:lnTo>
                    <a:lnTo>
                      <a:pt x="277" y="14"/>
                    </a:lnTo>
                    <a:lnTo>
                      <a:pt x="246" y="8"/>
                    </a:lnTo>
                    <a:lnTo>
                      <a:pt x="212" y="4"/>
                    </a:lnTo>
                    <a:lnTo>
                      <a:pt x="179" y="2"/>
                    </a:lnTo>
                    <a:lnTo>
                      <a:pt x="145" y="0"/>
                    </a:lnTo>
                    <a:lnTo>
                      <a:pt x="111" y="2"/>
                    </a:lnTo>
                    <a:lnTo>
                      <a:pt x="78" y="4"/>
                    </a:lnTo>
                    <a:lnTo>
                      <a:pt x="44" y="6"/>
                    </a:lnTo>
                    <a:lnTo>
                      <a:pt x="11" y="11"/>
                    </a:lnTo>
                    <a:lnTo>
                      <a:pt x="2" y="2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3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5" y="31"/>
                    </a:lnTo>
                    <a:lnTo>
                      <a:pt x="8" y="34"/>
                    </a:lnTo>
                    <a:lnTo>
                      <a:pt x="14" y="35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506920" y="3359520"/>
                <a:ext cx="163800" cy="79200"/>
              </a:xfrm>
              <a:custGeom>
                <a:avLst/>
                <a:gdLst/>
                <a:ahLst/>
                <a:rect l="l" t="t" r="r" b="b"/>
                <a:pathLst>
                  <a:path w="516" h="251">
                    <a:moveTo>
                      <a:pt x="514" y="211"/>
                    </a:moveTo>
                    <a:lnTo>
                      <a:pt x="502" y="206"/>
                    </a:lnTo>
                    <a:lnTo>
                      <a:pt x="419" y="217"/>
                    </a:lnTo>
                    <a:lnTo>
                      <a:pt x="350" y="225"/>
                    </a:lnTo>
                    <a:lnTo>
                      <a:pt x="319" y="227"/>
                    </a:lnTo>
                    <a:lnTo>
                      <a:pt x="289" y="227"/>
                    </a:lnTo>
                    <a:lnTo>
                      <a:pt x="275" y="226"/>
                    </a:lnTo>
                    <a:lnTo>
                      <a:pt x="263" y="225"/>
                    </a:lnTo>
                    <a:lnTo>
                      <a:pt x="250" y="223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3" y="210"/>
                    </a:lnTo>
                    <a:lnTo>
                      <a:pt x="200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8"/>
                    </a:lnTo>
                    <a:lnTo>
                      <a:pt x="138" y="157"/>
                    </a:lnTo>
                    <a:lnTo>
                      <a:pt x="124" y="143"/>
                    </a:lnTo>
                    <a:lnTo>
                      <a:pt x="111" y="127"/>
                    </a:lnTo>
                    <a:lnTo>
                      <a:pt x="97" y="111"/>
                    </a:lnTo>
                    <a:lnTo>
                      <a:pt x="83" y="92"/>
                    </a:lnTo>
                    <a:lnTo>
                      <a:pt x="68" y="72"/>
                    </a:lnTo>
                    <a:lnTo>
                      <a:pt x="53" y="49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39"/>
                    </a:lnTo>
                    <a:lnTo>
                      <a:pt x="33" y="63"/>
                    </a:lnTo>
                    <a:lnTo>
                      <a:pt x="49" y="86"/>
                    </a:lnTo>
                    <a:lnTo>
                      <a:pt x="63" y="106"/>
                    </a:lnTo>
                    <a:lnTo>
                      <a:pt x="78" y="126"/>
                    </a:lnTo>
                    <a:lnTo>
                      <a:pt x="92" y="143"/>
                    </a:lnTo>
                    <a:lnTo>
                      <a:pt x="107" y="159"/>
                    </a:lnTo>
                    <a:lnTo>
                      <a:pt x="120" y="174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1" y="209"/>
                    </a:lnTo>
                    <a:lnTo>
                      <a:pt x="175" y="218"/>
                    </a:lnTo>
                    <a:lnTo>
                      <a:pt x="189" y="225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1" y="242"/>
                    </a:lnTo>
                    <a:lnTo>
                      <a:pt x="245" y="247"/>
                    </a:lnTo>
                    <a:lnTo>
                      <a:pt x="259" y="249"/>
                    </a:lnTo>
                    <a:lnTo>
                      <a:pt x="273" y="250"/>
                    </a:lnTo>
                    <a:lnTo>
                      <a:pt x="289" y="251"/>
                    </a:lnTo>
                    <a:lnTo>
                      <a:pt x="319" y="251"/>
                    </a:lnTo>
                    <a:lnTo>
                      <a:pt x="352" y="250"/>
                    </a:lnTo>
                    <a:lnTo>
                      <a:pt x="422" y="241"/>
                    </a:lnTo>
                    <a:lnTo>
                      <a:pt x="506" y="230"/>
                    </a:lnTo>
                    <a:lnTo>
                      <a:pt x="494" y="224"/>
                    </a:lnTo>
                    <a:lnTo>
                      <a:pt x="506" y="230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6" y="220"/>
                    </a:lnTo>
                    <a:lnTo>
                      <a:pt x="516" y="216"/>
                    </a:lnTo>
                    <a:lnTo>
                      <a:pt x="515" y="212"/>
                    </a:lnTo>
                    <a:lnTo>
                      <a:pt x="512" y="208"/>
                    </a:lnTo>
                    <a:lnTo>
                      <a:pt x="508" y="206"/>
                    </a:lnTo>
                    <a:lnTo>
                      <a:pt x="502" y="206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664240" y="34261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2">
                    <a:moveTo>
                      <a:pt x="147" y="358"/>
                    </a:moveTo>
                    <a:lnTo>
                      <a:pt x="147" y="358"/>
                    </a:lnTo>
                    <a:lnTo>
                      <a:pt x="139" y="357"/>
                    </a:lnTo>
                    <a:lnTo>
                      <a:pt x="134" y="355"/>
                    </a:lnTo>
                    <a:lnTo>
                      <a:pt x="127" y="351"/>
                    </a:lnTo>
                    <a:lnTo>
                      <a:pt x="120" y="347"/>
                    </a:lnTo>
                    <a:lnTo>
                      <a:pt x="114" y="340"/>
                    </a:lnTo>
                    <a:lnTo>
                      <a:pt x="107" y="332"/>
                    </a:lnTo>
                    <a:lnTo>
                      <a:pt x="102" y="323"/>
                    </a:lnTo>
                    <a:lnTo>
                      <a:pt x="96" y="313"/>
                    </a:lnTo>
                    <a:lnTo>
                      <a:pt x="90" y="301"/>
                    </a:lnTo>
                    <a:lnTo>
                      <a:pt x="86" y="289"/>
                    </a:lnTo>
                    <a:lnTo>
                      <a:pt x="80" y="275"/>
                    </a:lnTo>
                    <a:lnTo>
                      <a:pt x="75" y="261"/>
                    </a:lnTo>
                    <a:lnTo>
                      <a:pt x="67" y="231"/>
                    </a:lnTo>
                    <a:lnTo>
                      <a:pt x="61" y="199"/>
                    </a:lnTo>
                    <a:lnTo>
                      <a:pt x="48" y="135"/>
                    </a:lnTo>
                    <a:lnTo>
                      <a:pt x="39" y="77"/>
                    </a:lnTo>
                    <a:lnTo>
                      <a:pt x="34" y="52"/>
                    </a:lnTo>
                    <a:lnTo>
                      <a:pt x="30" y="30"/>
                    </a:lnTo>
                    <a:lnTo>
                      <a:pt x="25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3" y="21"/>
                    </a:lnTo>
                    <a:lnTo>
                      <a:pt x="7" y="36"/>
                    </a:lnTo>
                    <a:lnTo>
                      <a:pt x="11" y="56"/>
                    </a:lnTo>
                    <a:lnTo>
                      <a:pt x="15" y="80"/>
                    </a:lnTo>
                    <a:lnTo>
                      <a:pt x="24" y="139"/>
                    </a:lnTo>
                    <a:lnTo>
                      <a:pt x="37" y="204"/>
                    </a:lnTo>
                    <a:lnTo>
                      <a:pt x="44" y="236"/>
                    </a:lnTo>
                    <a:lnTo>
                      <a:pt x="53" y="267"/>
                    </a:lnTo>
                    <a:lnTo>
                      <a:pt x="57" y="283"/>
                    </a:lnTo>
                    <a:lnTo>
                      <a:pt x="63" y="297"/>
                    </a:lnTo>
                    <a:lnTo>
                      <a:pt x="69" y="310"/>
                    </a:lnTo>
                    <a:lnTo>
                      <a:pt x="74" y="323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4" y="365"/>
                    </a:lnTo>
                    <a:lnTo>
                      <a:pt x="113" y="372"/>
                    </a:lnTo>
                    <a:lnTo>
                      <a:pt x="123" y="378"/>
                    </a:lnTo>
                    <a:lnTo>
                      <a:pt x="135" y="381"/>
                    </a:lnTo>
                    <a:lnTo>
                      <a:pt x="146" y="382"/>
                    </a:lnTo>
                    <a:lnTo>
                      <a:pt x="147" y="382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710320" y="3408480"/>
                <a:ext cx="112680" cy="138240"/>
              </a:xfrm>
              <a:custGeom>
                <a:avLst/>
                <a:gdLst/>
                <a:ahLst/>
                <a:rect l="l" t="t" r="r" b="b"/>
                <a:pathLst>
                  <a:path w="351" h="438">
                    <a:moveTo>
                      <a:pt x="196" y="24"/>
                    </a:moveTo>
                    <a:lnTo>
                      <a:pt x="195" y="24"/>
                    </a:lnTo>
                    <a:lnTo>
                      <a:pt x="210" y="27"/>
                    </a:lnTo>
                    <a:lnTo>
                      <a:pt x="223" y="29"/>
                    </a:lnTo>
                    <a:lnTo>
                      <a:pt x="235" y="32"/>
                    </a:lnTo>
                    <a:lnTo>
                      <a:pt x="246" y="36"/>
                    </a:lnTo>
                    <a:lnTo>
                      <a:pt x="257" y="39"/>
                    </a:lnTo>
                    <a:lnTo>
                      <a:pt x="267" y="44"/>
                    </a:lnTo>
                    <a:lnTo>
                      <a:pt x="275" y="48"/>
                    </a:lnTo>
                    <a:lnTo>
                      <a:pt x="283" y="53"/>
                    </a:lnTo>
                    <a:lnTo>
                      <a:pt x="291" y="57"/>
                    </a:lnTo>
                    <a:lnTo>
                      <a:pt x="297" y="63"/>
                    </a:lnTo>
                    <a:lnTo>
                      <a:pt x="302" y="69"/>
                    </a:lnTo>
                    <a:lnTo>
                      <a:pt x="308" y="75"/>
                    </a:lnTo>
                    <a:lnTo>
                      <a:pt x="313" y="80"/>
                    </a:lnTo>
                    <a:lnTo>
                      <a:pt x="316" y="86"/>
                    </a:lnTo>
                    <a:lnTo>
                      <a:pt x="319" y="93"/>
                    </a:lnTo>
                    <a:lnTo>
                      <a:pt x="322" y="100"/>
                    </a:lnTo>
                    <a:lnTo>
                      <a:pt x="324" y="106"/>
                    </a:lnTo>
                    <a:lnTo>
                      <a:pt x="325" y="113"/>
                    </a:lnTo>
                    <a:lnTo>
                      <a:pt x="326" y="120"/>
                    </a:lnTo>
                    <a:lnTo>
                      <a:pt x="326" y="127"/>
                    </a:lnTo>
                    <a:lnTo>
                      <a:pt x="326" y="143"/>
                    </a:lnTo>
                    <a:lnTo>
                      <a:pt x="323" y="160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30"/>
                    </a:lnTo>
                    <a:lnTo>
                      <a:pt x="281" y="247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8"/>
                    </a:lnTo>
                    <a:lnTo>
                      <a:pt x="220" y="314"/>
                    </a:lnTo>
                    <a:lnTo>
                      <a:pt x="202" y="330"/>
                    </a:lnTo>
                    <a:lnTo>
                      <a:pt x="184" y="345"/>
                    </a:lnTo>
                    <a:lnTo>
                      <a:pt x="164" y="357"/>
                    </a:lnTo>
                    <a:lnTo>
                      <a:pt x="144" y="370"/>
                    </a:lnTo>
                    <a:lnTo>
                      <a:pt x="123" y="381"/>
                    </a:lnTo>
                    <a:lnTo>
                      <a:pt x="103" y="390"/>
                    </a:lnTo>
                    <a:lnTo>
                      <a:pt x="82" y="399"/>
                    </a:lnTo>
                    <a:lnTo>
                      <a:pt x="61" y="405"/>
                    </a:lnTo>
                    <a:lnTo>
                      <a:pt x="40" y="411"/>
                    </a:lnTo>
                    <a:lnTo>
                      <a:pt x="20" y="413"/>
                    </a:lnTo>
                    <a:lnTo>
                      <a:pt x="0" y="414"/>
                    </a:lnTo>
                    <a:lnTo>
                      <a:pt x="0" y="438"/>
                    </a:lnTo>
                    <a:lnTo>
                      <a:pt x="22" y="437"/>
                    </a:lnTo>
                    <a:lnTo>
                      <a:pt x="45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7" y="378"/>
                    </a:lnTo>
                    <a:lnTo>
                      <a:pt x="197" y="364"/>
                    </a:lnTo>
                    <a:lnTo>
                      <a:pt x="218" y="348"/>
                    </a:lnTo>
                    <a:lnTo>
                      <a:pt x="236" y="332"/>
                    </a:lnTo>
                    <a:lnTo>
                      <a:pt x="254" y="315"/>
                    </a:lnTo>
                    <a:lnTo>
                      <a:pt x="272" y="298"/>
                    </a:lnTo>
                    <a:lnTo>
                      <a:pt x="286" y="280"/>
                    </a:lnTo>
                    <a:lnTo>
                      <a:pt x="301" y="262"/>
                    </a:lnTo>
                    <a:lnTo>
                      <a:pt x="314" y="242"/>
                    </a:lnTo>
                    <a:lnTo>
                      <a:pt x="324" y="223"/>
                    </a:lnTo>
                    <a:lnTo>
                      <a:pt x="334" y="203"/>
                    </a:lnTo>
                    <a:lnTo>
                      <a:pt x="341" y="184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9" y="109"/>
                    </a:lnTo>
                    <a:lnTo>
                      <a:pt x="347" y="101"/>
                    </a:lnTo>
                    <a:lnTo>
                      <a:pt x="344" y="92"/>
                    </a:lnTo>
                    <a:lnTo>
                      <a:pt x="341" y="83"/>
                    </a:lnTo>
                    <a:lnTo>
                      <a:pt x="338" y="75"/>
                    </a:lnTo>
                    <a:lnTo>
                      <a:pt x="332" y="67"/>
                    </a:lnTo>
                    <a:lnTo>
                      <a:pt x="326" y="59"/>
                    </a:lnTo>
                    <a:lnTo>
                      <a:pt x="321" y="52"/>
                    </a:lnTo>
                    <a:lnTo>
                      <a:pt x="313" y="45"/>
                    </a:lnTo>
                    <a:lnTo>
                      <a:pt x="306" y="38"/>
                    </a:lnTo>
                    <a:lnTo>
                      <a:pt x="297" y="32"/>
                    </a:lnTo>
                    <a:lnTo>
                      <a:pt x="287" y="27"/>
                    </a:lnTo>
                    <a:lnTo>
                      <a:pt x="277" y="22"/>
                    </a:lnTo>
                    <a:lnTo>
                      <a:pt x="266" y="16"/>
                    </a:lnTo>
                    <a:lnTo>
                      <a:pt x="254" y="13"/>
                    </a:lnTo>
                    <a:lnTo>
                      <a:pt x="242" y="8"/>
                    </a:lnTo>
                    <a:lnTo>
                      <a:pt x="228" y="6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99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742000" y="3329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1">
                    <a:moveTo>
                      <a:pt x="227" y="22"/>
                    </a:moveTo>
                    <a:lnTo>
                      <a:pt x="211" y="18"/>
                    </a:lnTo>
                    <a:lnTo>
                      <a:pt x="218" y="30"/>
                    </a:lnTo>
                    <a:lnTo>
                      <a:pt x="224" y="42"/>
                    </a:lnTo>
                    <a:lnTo>
                      <a:pt x="228" y="53"/>
                    </a:lnTo>
                    <a:lnTo>
                      <a:pt x="233" y="64"/>
                    </a:lnTo>
                    <a:lnTo>
                      <a:pt x="235" y="73"/>
                    </a:lnTo>
                    <a:lnTo>
                      <a:pt x="237" y="83"/>
                    </a:lnTo>
                    <a:lnTo>
                      <a:pt x="239" y="91"/>
                    </a:lnTo>
                    <a:lnTo>
                      <a:pt x="240" y="100"/>
                    </a:lnTo>
                    <a:lnTo>
                      <a:pt x="240" y="108"/>
                    </a:lnTo>
                    <a:lnTo>
                      <a:pt x="239" y="115"/>
                    </a:lnTo>
                    <a:lnTo>
                      <a:pt x="237" y="123"/>
                    </a:lnTo>
                    <a:lnTo>
                      <a:pt x="235" y="130"/>
                    </a:lnTo>
                    <a:lnTo>
                      <a:pt x="232" y="136"/>
                    </a:lnTo>
                    <a:lnTo>
                      <a:pt x="229" y="143"/>
                    </a:lnTo>
                    <a:lnTo>
                      <a:pt x="225" y="148"/>
                    </a:lnTo>
                    <a:lnTo>
                      <a:pt x="222" y="154"/>
                    </a:lnTo>
                    <a:lnTo>
                      <a:pt x="211" y="164"/>
                    </a:lnTo>
                    <a:lnTo>
                      <a:pt x="199" y="175"/>
                    </a:lnTo>
                    <a:lnTo>
                      <a:pt x="186" y="182"/>
                    </a:lnTo>
                    <a:lnTo>
                      <a:pt x="171" y="190"/>
                    </a:lnTo>
                    <a:lnTo>
                      <a:pt x="155" y="197"/>
                    </a:lnTo>
                    <a:lnTo>
                      <a:pt x="139" y="204"/>
                    </a:lnTo>
                    <a:lnTo>
                      <a:pt x="124" y="209"/>
                    </a:lnTo>
                    <a:lnTo>
                      <a:pt x="108" y="213"/>
                    </a:lnTo>
                    <a:lnTo>
                      <a:pt x="47" y="226"/>
                    </a:lnTo>
                    <a:lnTo>
                      <a:pt x="12" y="233"/>
                    </a:lnTo>
                    <a:lnTo>
                      <a:pt x="7" y="234"/>
                    </a:lnTo>
                    <a:lnTo>
                      <a:pt x="2" y="238"/>
                    </a:lnTo>
                    <a:lnTo>
                      <a:pt x="0" y="251"/>
                    </a:lnTo>
                    <a:lnTo>
                      <a:pt x="7" y="258"/>
                    </a:lnTo>
                    <a:lnTo>
                      <a:pt x="13" y="260"/>
                    </a:lnTo>
                    <a:lnTo>
                      <a:pt x="22" y="261"/>
                    </a:lnTo>
                    <a:lnTo>
                      <a:pt x="51" y="266"/>
                    </a:lnTo>
                    <a:lnTo>
                      <a:pt x="97" y="271"/>
                    </a:lnTo>
                    <a:lnTo>
                      <a:pt x="100" y="247"/>
                    </a:lnTo>
                    <a:lnTo>
                      <a:pt x="53" y="242"/>
                    </a:lnTo>
                    <a:lnTo>
                      <a:pt x="25" y="237"/>
                    </a:lnTo>
                    <a:lnTo>
                      <a:pt x="19" y="236"/>
                    </a:lnTo>
                    <a:lnTo>
                      <a:pt x="16" y="236"/>
                    </a:lnTo>
                    <a:lnTo>
                      <a:pt x="22" y="241"/>
                    </a:lnTo>
                    <a:lnTo>
                      <a:pt x="21" y="253"/>
                    </a:lnTo>
                    <a:lnTo>
                      <a:pt x="18" y="255"/>
                    </a:lnTo>
                    <a:lnTo>
                      <a:pt x="16" y="257"/>
                    </a:lnTo>
                    <a:lnTo>
                      <a:pt x="52" y="250"/>
                    </a:lnTo>
                    <a:lnTo>
                      <a:pt x="112" y="237"/>
                    </a:lnTo>
                    <a:lnTo>
                      <a:pt x="130" y="233"/>
                    </a:lnTo>
                    <a:lnTo>
                      <a:pt x="147" y="227"/>
                    </a:lnTo>
                    <a:lnTo>
                      <a:pt x="165" y="220"/>
                    </a:lnTo>
                    <a:lnTo>
                      <a:pt x="182" y="212"/>
                    </a:lnTo>
                    <a:lnTo>
                      <a:pt x="199" y="204"/>
                    </a:lnTo>
                    <a:lnTo>
                      <a:pt x="214" y="194"/>
                    </a:lnTo>
                    <a:lnTo>
                      <a:pt x="227" y="182"/>
                    </a:lnTo>
                    <a:lnTo>
                      <a:pt x="240" y="170"/>
                    </a:lnTo>
                    <a:lnTo>
                      <a:pt x="245" y="162"/>
                    </a:lnTo>
                    <a:lnTo>
                      <a:pt x="250" y="154"/>
                    </a:lnTo>
                    <a:lnTo>
                      <a:pt x="255" y="146"/>
                    </a:lnTo>
                    <a:lnTo>
                      <a:pt x="258" y="138"/>
                    </a:lnTo>
                    <a:lnTo>
                      <a:pt x="260" y="129"/>
                    </a:lnTo>
                    <a:lnTo>
                      <a:pt x="263" y="120"/>
                    </a:lnTo>
                    <a:lnTo>
                      <a:pt x="264" y="110"/>
                    </a:lnTo>
                    <a:lnTo>
                      <a:pt x="264" y="99"/>
                    </a:lnTo>
                    <a:lnTo>
                      <a:pt x="264" y="89"/>
                    </a:lnTo>
                    <a:lnTo>
                      <a:pt x="261" y="79"/>
                    </a:lnTo>
                    <a:lnTo>
                      <a:pt x="259" y="67"/>
                    </a:lnTo>
                    <a:lnTo>
                      <a:pt x="256" y="56"/>
                    </a:lnTo>
                    <a:lnTo>
                      <a:pt x="251" y="43"/>
                    </a:lnTo>
                    <a:lnTo>
                      <a:pt x="245" y="31"/>
                    </a:lnTo>
                    <a:lnTo>
                      <a:pt x="239" y="18"/>
                    </a:lnTo>
                    <a:lnTo>
                      <a:pt x="232" y="6"/>
                    </a:lnTo>
                    <a:lnTo>
                      <a:pt x="215" y="1"/>
                    </a:lnTo>
                    <a:lnTo>
                      <a:pt x="232" y="6"/>
                    </a:lnTo>
                    <a:lnTo>
                      <a:pt x="228" y="1"/>
                    </a:lnTo>
                    <a:lnTo>
                      <a:pt x="224" y="0"/>
                    </a:lnTo>
                    <a:lnTo>
                      <a:pt x="219" y="0"/>
                    </a:lnTo>
                    <a:lnTo>
                      <a:pt x="215" y="1"/>
                    </a:lnTo>
                    <a:lnTo>
                      <a:pt x="211" y="5"/>
                    </a:lnTo>
                    <a:lnTo>
                      <a:pt x="209" y="8"/>
                    </a:lnTo>
                    <a:lnTo>
                      <a:pt x="209" y="13"/>
                    </a:lnTo>
                    <a:lnTo>
                      <a:pt x="211" y="18"/>
                    </a:lnTo>
                    <a:lnTo>
                      <a:pt x="22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721480" y="332928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2" h="280">
                    <a:moveTo>
                      <a:pt x="0" y="269"/>
                    </a:moveTo>
                    <a:lnTo>
                      <a:pt x="23" y="272"/>
                    </a:lnTo>
                    <a:lnTo>
                      <a:pt x="32" y="251"/>
                    </a:lnTo>
                    <a:lnTo>
                      <a:pt x="44" y="232"/>
                    </a:lnTo>
                    <a:lnTo>
                      <a:pt x="55" y="213"/>
                    </a:lnTo>
                    <a:lnTo>
                      <a:pt x="69" y="195"/>
                    </a:lnTo>
                    <a:lnTo>
                      <a:pt x="83" y="178"/>
                    </a:lnTo>
                    <a:lnTo>
                      <a:pt x="98" y="162"/>
                    </a:lnTo>
                    <a:lnTo>
                      <a:pt x="114" y="146"/>
                    </a:lnTo>
                    <a:lnTo>
                      <a:pt x="132" y="131"/>
                    </a:lnTo>
                    <a:lnTo>
                      <a:pt x="150" y="117"/>
                    </a:lnTo>
                    <a:lnTo>
                      <a:pt x="169" y="102"/>
                    </a:lnTo>
                    <a:lnTo>
                      <a:pt x="189" y="88"/>
                    </a:lnTo>
                    <a:lnTo>
                      <a:pt x="208" y="74"/>
                    </a:lnTo>
                    <a:lnTo>
                      <a:pt x="250" y="48"/>
                    </a:lnTo>
                    <a:lnTo>
                      <a:pt x="292" y="21"/>
                    </a:lnTo>
                    <a:lnTo>
                      <a:pt x="280" y="0"/>
                    </a:lnTo>
                    <a:lnTo>
                      <a:pt x="238" y="28"/>
                    </a:lnTo>
                    <a:lnTo>
                      <a:pt x="195" y="54"/>
                    </a:lnTo>
                    <a:lnTo>
                      <a:pt x="175" y="69"/>
                    </a:lnTo>
                    <a:lnTo>
                      <a:pt x="154" y="82"/>
                    </a:lnTo>
                    <a:lnTo>
                      <a:pt x="135" y="97"/>
                    </a:lnTo>
                    <a:lnTo>
                      <a:pt x="117" y="113"/>
                    </a:lnTo>
                    <a:lnTo>
                      <a:pt x="98" y="129"/>
                    </a:lnTo>
                    <a:lnTo>
                      <a:pt x="81" y="145"/>
                    </a:lnTo>
                    <a:lnTo>
                      <a:pt x="64" y="162"/>
                    </a:lnTo>
                    <a:lnTo>
                      <a:pt x="49" y="180"/>
                    </a:lnTo>
                    <a:lnTo>
                      <a:pt x="36" y="200"/>
                    </a:lnTo>
                    <a:lnTo>
                      <a:pt x="22" y="219"/>
                    </a:lnTo>
                    <a:lnTo>
                      <a:pt x="11" y="241"/>
                    </a:lnTo>
                    <a:lnTo>
                      <a:pt x="2" y="262"/>
                    </a:lnTo>
                    <a:lnTo>
                      <a:pt x="24" y="265"/>
                    </a:lnTo>
                    <a:lnTo>
                      <a:pt x="2" y="262"/>
                    </a:lnTo>
                    <a:lnTo>
                      <a:pt x="0" y="268"/>
                    </a:lnTo>
                    <a:lnTo>
                      <a:pt x="2" y="273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3" y="280"/>
                    </a:lnTo>
                    <a:lnTo>
                      <a:pt x="16" y="278"/>
                    </a:lnTo>
                    <a:lnTo>
                      <a:pt x="21" y="276"/>
                    </a:lnTo>
                    <a:lnTo>
                      <a:pt x="23" y="272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600280" y="3281760"/>
                <a:ext cx="195480" cy="190440"/>
              </a:xfrm>
              <a:custGeom>
                <a:avLst/>
                <a:gdLst/>
                <a:ahLst/>
                <a:rect l="l" t="t" r="r" b="b"/>
                <a:pathLst>
                  <a:path w="614" h="603">
                    <a:moveTo>
                      <a:pt x="0" y="322"/>
                    </a:moveTo>
                    <a:lnTo>
                      <a:pt x="0" y="300"/>
                    </a:lnTo>
                    <a:lnTo>
                      <a:pt x="0" y="278"/>
                    </a:lnTo>
                    <a:lnTo>
                      <a:pt x="0" y="256"/>
                    </a:lnTo>
                    <a:lnTo>
                      <a:pt x="0" y="234"/>
                    </a:lnTo>
                    <a:lnTo>
                      <a:pt x="0" y="211"/>
                    </a:lnTo>
                    <a:lnTo>
                      <a:pt x="0" y="190"/>
                    </a:lnTo>
                    <a:lnTo>
                      <a:pt x="0" y="167"/>
                    </a:lnTo>
                    <a:lnTo>
                      <a:pt x="0" y="144"/>
                    </a:lnTo>
                    <a:lnTo>
                      <a:pt x="13" y="142"/>
                    </a:lnTo>
                    <a:lnTo>
                      <a:pt x="28" y="139"/>
                    </a:lnTo>
                    <a:lnTo>
                      <a:pt x="42" y="138"/>
                    </a:lnTo>
                    <a:lnTo>
                      <a:pt x="57" y="138"/>
                    </a:lnTo>
                    <a:lnTo>
                      <a:pt x="71" y="139"/>
                    </a:lnTo>
                    <a:lnTo>
                      <a:pt x="85" y="142"/>
                    </a:lnTo>
                    <a:lnTo>
                      <a:pt x="100" y="144"/>
                    </a:lnTo>
                    <a:lnTo>
                      <a:pt x="114" y="147"/>
                    </a:lnTo>
                    <a:lnTo>
                      <a:pt x="126" y="152"/>
                    </a:lnTo>
                    <a:lnTo>
                      <a:pt x="140" y="159"/>
                    </a:lnTo>
                    <a:lnTo>
                      <a:pt x="151" y="166"/>
                    </a:lnTo>
                    <a:lnTo>
                      <a:pt x="163" y="174"/>
                    </a:lnTo>
                    <a:lnTo>
                      <a:pt x="174" y="184"/>
                    </a:lnTo>
                    <a:lnTo>
                      <a:pt x="183" y="194"/>
                    </a:lnTo>
                    <a:lnTo>
                      <a:pt x="192" y="207"/>
                    </a:lnTo>
                    <a:lnTo>
                      <a:pt x="200" y="220"/>
                    </a:lnTo>
                    <a:lnTo>
                      <a:pt x="209" y="194"/>
                    </a:lnTo>
                    <a:lnTo>
                      <a:pt x="220" y="170"/>
                    </a:lnTo>
                    <a:lnTo>
                      <a:pt x="231" y="149"/>
                    </a:lnTo>
                    <a:lnTo>
                      <a:pt x="243" y="127"/>
                    </a:lnTo>
                    <a:lnTo>
                      <a:pt x="257" y="107"/>
                    </a:lnTo>
                    <a:lnTo>
                      <a:pt x="271" y="89"/>
                    </a:lnTo>
                    <a:lnTo>
                      <a:pt x="286" y="73"/>
                    </a:lnTo>
                    <a:lnTo>
                      <a:pt x="302" y="58"/>
                    </a:lnTo>
                    <a:lnTo>
                      <a:pt x="319" y="45"/>
                    </a:lnTo>
                    <a:lnTo>
                      <a:pt x="335" y="33"/>
                    </a:lnTo>
                    <a:lnTo>
                      <a:pt x="353" y="24"/>
                    </a:lnTo>
                    <a:lnTo>
                      <a:pt x="370" y="16"/>
                    </a:lnTo>
                    <a:lnTo>
                      <a:pt x="387" y="9"/>
                    </a:lnTo>
                    <a:lnTo>
                      <a:pt x="405" y="5"/>
                    </a:lnTo>
                    <a:lnTo>
                      <a:pt x="422" y="1"/>
                    </a:lnTo>
                    <a:lnTo>
                      <a:pt x="441" y="0"/>
                    </a:lnTo>
                    <a:lnTo>
                      <a:pt x="458" y="0"/>
                    </a:lnTo>
                    <a:lnTo>
                      <a:pt x="474" y="3"/>
                    </a:lnTo>
                    <a:lnTo>
                      <a:pt x="491" y="7"/>
                    </a:lnTo>
                    <a:lnTo>
                      <a:pt x="507" y="13"/>
                    </a:lnTo>
                    <a:lnTo>
                      <a:pt x="522" y="21"/>
                    </a:lnTo>
                    <a:lnTo>
                      <a:pt x="535" y="30"/>
                    </a:lnTo>
                    <a:lnTo>
                      <a:pt x="549" y="41"/>
                    </a:lnTo>
                    <a:lnTo>
                      <a:pt x="561" y="55"/>
                    </a:lnTo>
                    <a:lnTo>
                      <a:pt x="573" y="70"/>
                    </a:lnTo>
                    <a:lnTo>
                      <a:pt x="583" y="87"/>
                    </a:lnTo>
                    <a:lnTo>
                      <a:pt x="592" y="106"/>
                    </a:lnTo>
                    <a:lnTo>
                      <a:pt x="600" y="128"/>
                    </a:lnTo>
                    <a:lnTo>
                      <a:pt x="606" y="151"/>
                    </a:lnTo>
                    <a:lnTo>
                      <a:pt x="610" y="176"/>
                    </a:lnTo>
                    <a:lnTo>
                      <a:pt x="613" y="203"/>
                    </a:lnTo>
                    <a:lnTo>
                      <a:pt x="614" y="232"/>
                    </a:lnTo>
                    <a:lnTo>
                      <a:pt x="450" y="248"/>
                    </a:lnTo>
                    <a:lnTo>
                      <a:pt x="450" y="268"/>
                    </a:lnTo>
                    <a:lnTo>
                      <a:pt x="453" y="288"/>
                    </a:lnTo>
                    <a:lnTo>
                      <a:pt x="457" y="309"/>
                    </a:lnTo>
                    <a:lnTo>
                      <a:pt x="461" y="331"/>
                    </a:lnTo>
                    <a:lnTo>
                      <a:pt x="474" y="375"/>
                    </a:lnTo>
                    <a:lnTo>
                      <a:pt x="487" y="420"/>
                    </a:lnTo>
                    <a:lnTo>
                      <a:pt x="501" y="467"/>
                    </a:lnTo>
                    <a:lnTo>
                      <a:pt x="514" y="512"/>
                    </a:lnTo>
                    <a:lnTo>
                      <a:pt x="518" y="535"/>
                    </a:lnTo>
                    <a:lnTo>
                      <a:pt x="523" y="558"/>
                    </a:lnTo>
                    <a:lnTo>
                      <a:pt x="525" y="581"/>
                    </a:lnTo>
                    <a:lnTo>
                      <a:pt x="526" y="603"/>
                    </a:lnTo>
                    <a:lnTo>
                      <a:pt x="514" y="602"/>
                    </a:lnTo>
                    <a:lnTo>
                      <a:pt x="501" y="601"/>
                    </a:lnTo>
                    <a:lnTo>
                      <a:pt x="490" y="599"/>
                    </a:lnTo>
                    <a:lnTo>
                      <a:pt x="479" y="597"/>
                    </a:lnTo>
                    <a:lnTo>
                      <a:pt x="468" y="593"/>
                    </a:lnTo>
                    <a:lnTo>
                      <a:pt x="459" y="589"/>
                    </a:lnTo>
                    <a:lnTo>
                      <a:pt x="449" y="584"/>
                    </a:lnTo>
                    <a:lnTo>
                      <a:pt x="440" y="579"/>
                    </a:lnTo>
                    <a:lnTo>
                      <a:pt x="430" y="574"/>
                    </a:lnTo>
                    <a:lnTo>
                      <a:pt x="422" y="568"/>
                    </a:lnTo>
                    <a:lnTo>
                      <a:pt x="414" y="561"/>
                    </a:lnTo>
                    <a:lnTo>
                      <a:pt x="406" y="554"/>
                    </a:lnTo>
                    <a:lnTo>
                      <a:pt x="393" y="540"/>
                    </a:lnTo>
                    <a:lnTo>
                      <a:pt x="381" y="525"/>
                    </a:lnTo>
                    <a:lnTo>
                      <a:pt x="371" y="510"/>
                    </a:lnTo>
                    <a:lnTo>
                      <a:pt x="363" y="494"/>
                    </a:lnTo>
                    <a:lnTo>
                      <a:pt x="356" y="479"/>
                    </a:lnTo>
                    <a:lnTo>
                      <a:pt x="352" y="464"/>
                    </a:lnTo>
                    <a:lnTo>
                      <a:pt x="348" y="452"/>
                    </a:lnTo>
                    <a:lnTo>
                      <a:pt x="346" y="440"/>
                    </a:lnTo>
                    <a:lnTo>
                      <a:pt x="347" y="431"/>
                    </a:lnTo>
                    <a:lnTo>
                      <a:pt x="349" y="424"/>
                    </a:lnTo>
                    <a:lnTo>
                      <a:pt x="326" y="448"/>
                    </a:lnTo>
                    <a:lnTo>
                      <a:pt x="302" y="473"/>
                    </a:lnTo>
                    <a:lnTo>
                      <a:pt x="275" y="499"/>
                    </a:lnTo>
                    <a:lnTo>
                      <a:pt x="248" y="521"/>
                    </a:lnTo>
                    <a:lnTo>
                      <a:pt x="234" y="533"/>
                    </a:lnTo>
                    <a:lnTo>
                      <a:pt x="221" y="543"/>
                    </a:lnTo>
                    <a:lnTo>
                      <a:pt x="206" y="551"/>
                    </a:lnTo>
                    <a:lnTo>
                      <a:pt x="191" y="559"/>
                    </a:lnTo>
                    <a:lnTo>
                      <a:pt x="175" y="565"/>
                    </a:lnTo>
                    <a:lnTo>
                      <a:pt x="159" y="569"/>
                    </a:lnTo>
                    <a:lnTo>
                      <a:pt x="143" y="573"/>
                    </a:lnTo>
                    <a:lnTo>
                      <a:pt x="127" y="574"/>
                    </a:lnTo>
                    <a:lnTo>
                      <a:pt x="124" y="540"/>
                    </a:lnTo>
                    <a:lnTo>
                      <a:pt x="122" y="505"/>
                    </a:lnTo>
                    <a:lnTo>
                      <a:pt x="122" y="488"/>
                    </a:lnTo>
                    <a:lnTo>
                      <a:pt x="123" y="471"/>
                    </a:lnTo>
                    <a:lnTo>
                      <a:pt x="125" y="455"/>
                    </a:lnTo>
                    <a:lnTo>
                      <a:pt x="127" y="438"/>
                    </a:lnTo>
                    <a:lnTo>
                      <a:pt x="132" y="423"/>
                    </a:lnTo>
                    <a:lnTo>
                      <a:pt x="136" y="407"/>
                    </a:lnTo>
                    <a:lnTo>
                      <a:pt x="143" y="394"/>
                    </a:lnTo>
                    <a:lnTo>
                      <a:pt x="151" y="380"/>
                    </a:lnTo>
                    <a:lnTo>
                      <a:pt x="160" y="367"/>
                    </a:lnTo>
                    <a:lnTo>
                      <a:pt x="172" y="356"/>
                    </a:lnTo>
                    <a:lnTo>
                      <a:pt x="185" y="346"/>
                    </a:lnTo>
                    <a:lnTo>
                      <a:pt x="200" y="337"/>
                    </a:lnTo>
                    <a:lnTo>
                      <a:pt x="169" y="335"/>
                    </a:lnTo>
                    <a:lnTo>
                      <a:pt x="140" y="335"/>
                    </a:lnTo>
                    <a:lnTo>
                      <a:pt x="112" y="334"/>
                    </a:lnTo>
                    <a:lnTo>
                      <a:pt x="86" y="332"/>
                    </a:lnTo>
                    <a:lnTo>
                      <a:pt x="62" y="331"/>
                    </a:lnTo>
                    <a:lnTo>
                      <a:pt x="39" y="329"/>
                    </a:lnTo>
                    <a:lnTo>
                      <a:pt x="19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593800" y="3321360"/>
                <a:ext cx="12960" cy="61920"/>
              </a:xfrm>
              <a:custGeom>
                <a:avLst/>
                <a:gdLst/>
                <a:ahLst/>
                <a:rect l="l" t="t" r="r" b="b"/>
                <a:pathLst>
                  <a:path w="37" h="196">
                    <a:moveTo>
                      <a:pt x="14" y="0"/>
                    </a:moveTo>
                    <a:lnTo>
                      <a:pt x="0" y="18"/>
                    </a:lnTo>
                    <a:lnTo>
                      <a:pt x="0" y="41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0" y="108"/>
                    </a:lnTo>
                    <a:lnTo>
                      <a:pt x="0" y="13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0" y="196"/>
                    </a:lnTo>
                    <a:lnTo>
                      <a:pt x="37" y="196"/>
                    </a:lnTo>
                    <a:lnTo>
                      <a:pt x="37" y="174"/>
                    </a:lnTo>
                    <a:lnTo>
                      <a:pt x="37" y="152"/>
                    </a:lnTo>
                    <a:lnTo>
                      <a:pt x="37" y="130"/>
                    </a:lnTo>
                    <a:lnTo>
                      <a:pt x="37" y="108"/>
                    </a:lnTo>
                    <a:lnTo>
                      <a:pt x="37" y="85"/>
                    </a:lnTo>
                    <a:lnTo>
                      <a:pt x="37" y="64"/>
                    </a:lnTo>
                    <a:lnTo>
                      <a:pt x="37" y="41"/>
                    </a:lnTo>
                    <a:lnTo>
                      <a:pt x="37" y="18"/>
                    </a:lnTo>
                    <a:lnTo>
                      <a:pt x="22" y="36"/>
                    </a:lnTo>
                    <a:lnTo>
                      <a:pt x="37" y="18"/>
                    </a:lnTo>
                    <a:lnTo>
                      <a:pt x="36" y="13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598840" y="33195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223" h="119">
                    <a:moveTo>
                      <a:pt x="188" y="95"/>
                    </a:moveTo>
                    <a:lnTo>
                      <a:pt x="221" y="92"/>
                    </a:lnTo>
                    <a:lnTo>
                      <a:pt x="212" y="76"/>
                    </a:lnTo>
                    <a:lnTo>
                      <a:pt x="203" y="63"/>
                    </a:lnTo>
                    <a:lnTo>
                      <a:pt x="191" y="50"/>
                    </a:lnTo>
                    <a:lnTo>
                      <a:pt x="179" y="40"/>
                    </a:lnTo>
                    <a:lnTo>
                      <a:pt x="166" y="31"/>
                    </a:lnTo>
                    <a:lnTo>
                      <a:pt x="153" y="23"/>
                    </a:lnTo>
                    <a:lnTo>
                      <a:pt x="138" y="16"/>
                    </a:lnTo>
                    <a:lnTo>
                      <a:pt x="123" y="10"/>
                    </a:lnTo>
                    <a:lnTo>
                      <a:pt x="108" y="6"/>
                    </a:lnTo>
                    <a:lnTo>
                      <a:pt x="93" y="3"/>
                    </a:lnTo>
                    <a:lnTo>
                      <a:pt x="78" y="1"/>
                    </a:lnTo>
                    <a:lnTo>
                      <a:pt x="62" y="0"/>
                    </a:lnTo>
                    <a:lnTo>
                      <a:pt x="47" y="0"/>
                    </a:lnTo>
                    <a:lnTo>
                      <a:pt x="31" y="1"/>
                    </a:lnTo>
                    <a:lnTo>
                      <a:pt x="16" y="3"/>
                    </a:lnTo>
                    <a:lnTo>
                      <a:pt x="0" y="6"/>
                    </a:lnTo>
                    <a:lnTo>
                      <a:pt x="8" y="42"/>
                    </a:lnTo>
                    <a:lnTo>
                      <a:pt x="21" y="40"/>
                    </a:lnTo>
                    <a:lnTo>
                      <a:pt x="34" y="38"/>
                    </a:lnTo>
                    <a:lnTo>
                      <a:pt x="48" y="37"/>
                    </a:lnTo>
                    <a:lnTo>
                      <a:pt x="62" y="37"/>
                    </a:lnTo>
                    <a:lnTo>
                      <a:pt x="74" y="38"/>
                    </a:lnTo>
                    <a:lnTo>
                      <a:pt x="88" y="39"/>
                    </a:lnTo>
                    <a:lnTo>
                      <a:pt x="100" y="41"/>
                    </a:lnTo>
                    <a:lnTo>
                      <a:pt x="113" y="44"/>
                    </a:lnTo>
                    <a:lnTo>
                      <a:pt x="124" y="49"/>
                    </a:lnTo>
                    <a:lnTo>
                      <a:pt x="136" y="55"/>
                    </a:lnTo>
                    <a:lnTo>
                      <a:pt x="147" y="60"/>
                    </a:lnTo>
                    <a:lnTo>
                      <a:pt x="156" y="68"/>
                    </a:lnTo>
                    <a:lnTo>
                      <a:pt x="166" y="76"/>
                    </a:lnTo>
                    <a:lnTo>
                      <a:pt x="174" y="86"/>
                    </a:lnTo>
                    <a:lnTo>
                      <a:pt x="182" y="97"/>
                    </a:lnTo>
                    <a:lnTo>
                      <a:pt x="189" y="108"/>
                    </a:lnTo>
                    <a:lnTo>
                      <a:pt x="222" y="106"/>
                    </a:lnTo>
                    <a:lnTo>
                      <a:pt x="189" y="108"/>
                    </a:lnTo>
                    <a:lnTo>
                      <a:pt x="191" y="112"/>
                    </a:lnTo>
                    <a:lnTo>
                      <a:pt x="194" y="115"/>
                    </a:lnTo>
                    <a:lnTo>
                      <a:pt x="197" y="116"/>
                    </a:lnTo>
                    <a:lnTo>
                      <a:pt x="199" y="117"/>
                    </a:lnTo>
                    <a:lnTo>
                      <a:pt x="203" y="119"/>
                    </a:lnTo>
                    <a:lnTo>
                      <a:pt x="206" y="119"/>
                    </a:lnTo>
                    <a:lnTo>
                      <a:pt x="210" y="117"/>
                    </a:lnTo>
                    <a:lnTo>
                      <a:pt x="213" y="116"/>
                    </a:lnTo>
                    <a:lnTo>
                      <a:pt x="217" y="115"/>
                    </a:lnTo>
                    <a:lnTo>
                      <a:pt x="219" y="113"/>
                    </a:lnTo>
                    <a:lnTo>
                      <a:pt x="221" y="109"/>
                    </a:lnTo>
                    <a:lnTo>
                      <a:pt x="222" y="107"/>
                    </a:lnTo>
                    <a:lnTo>
                      <a:pt x="223" y="104"/>
                    </a:lnTo>
                    <a:lnTo>
                      <a:pt x="223" y="100"/>
                    </a:lnTo>
                    <a:lnTo>
                      <a:pt x="222" y="96"/>
                    </a:lnTo>
                    <a:lnTo>
                      <a:pt x="221" y="92"/>
                    </a:lnTo>
                    <a:lnTo>
                      <a:pt x="18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658960" y="327528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449" h="268">
                    <a:moveTo>
                      <a:pt x="433" y="268"/>
                    </a:moveTo>
                    <a:lnTo>
                      <a:pt x="449" y="250"/>
                    </a:lnTo>
                    <a:lnTo>
                      <a:pt x="448" y="220"/>
                    </a:lnTo>
                    <a:lnTo>
                      <a:pt x="446" y="192"/>
                    </a:lnTo>
                    <a:lnTo>
                      <a:pt x="440" y="165"/>
                    </a:lnTo>
                    <a:lnTo>
                      <a:pt x="434" y="140"/>
                    </a:lnTo>
                    <a:lnTo>
                      <a:pt x="426" y="118"/>
                    </a:lnTo>
                    <a:lnTo>
                      <a:pt x="416" y="97"/>
                    </a:lnTo>
                    <a:lnTo>
                      <a:pt x="405" y="79"/>
                    </a:lnTo>
                    <a:lnTo>
                      <a:pt x="392" y="62"/>
                    </a:lnTo>
                    <a:lnTo>
                      <a:pt x="378" y="47"/>
                    </a:lnTo>
                    <a:lnTo>
                      <a:pt x="364" y="33"/>
                    </a:lnTo>
                    <a:lnTo>
                      <a:pt x="348" y="23"/>
                    </a:lnTo>
                    <a:lnTo>
                      <a:pt x="331" y="14"/>
                    </a:lnTo>
                    <a:lnTo>
                      <a:pt x="312" y="8"/>
                    </a:lnTo>
                    <a:lnTo>
                      <a:pt x="294" y="4"/>
                    </a:lnTo>
                    <a:lnTo>
                      <a:pt x="276" y="0"/>
                    </a:lnTo>
                    <a:lnTo>
                      <a:pt x="257" y="0"/>
                    </a:lnTo>
                    <a:lnTo>
                      <a:pt x="237" y="1"/>
                    </a:lnTo>
                    <a:lnTo>
                      <a:pt x="218" y="5"/>
                    </a:lnTo>
                    <a:lnTo>
                      <a:pt x="198" y="10"/>
                    </a:lnTo>
                    <a:lnTo>
                      <a:pt x="180" y="17"/>
                    </a:lnTo>
                    <a:lnTo>
                      <a:pt x="161" y="26"/>
                    </a:lnTo>
                    <a:lnTo>
                      <a:pt x="143" y="37"/>
                    </a:lnTo>
                    <a:lnTo>
                      <a:pt x="124" y="49"/>
                    </a:lnTo>
                    <a:lnTo>
                      <a:pt x="107" y="63"/>
                    </a:lnTo>
                    <a:lnTo>
                      <a:pt x="90" y="79"/>
                    </a:lnTo>
                    <a:lnTo>
                      <a:pt x="74" y="96"/>
                    </a:lnTo>
                    <a:lnTo>
                      <a:pt x="59" y="114"/>
                    </a:lnTo>
                    <a:lnTo>
                      <a:pt x="45" y="135"/>
                    </a:lnTo>
                    <a:lnTo>
                      <a:pt x="32" y="157"/>
                    </a:lnTo>
                    <a:lnTo>
                      <a:pt x="19" y="181"/>
                    </a:lnTo>
                    <a:lnTo>
                      <a:pt x="9" y="206"/>
                    </a:lnTo>
                    <a:lnTo>
                      <a:pt x="0" y="233"/>
                    </a:lnTo>
                    <a:lnTo>
                      <a:pt x="34" y="244"/>
                    </a:lnTo>
                    <a:lnTo>
                      <a:pt x="43" y="219"/>
                    </a:lnTo>
                    <a:lnTo>
                      <a:pt x="53" y="196"/>
                    </a:lnTo>
                    <a:lnTo>
                      <a:pt x="64" y="175"/>
                    </a:lnTo>
                    <a:lnTo>
                      <a:pt x="75" y="155"/>
                    </a:lnTo>
                    <a:lnTo>
                      <a:pt x="88" y="136"/>
                    </a:lnTo>
                    <a:lnTo>
                      <a:pt x="102" y="120"/>
                    </a:lnTo>
                    <a:lnTo>
                      <a:pt x="116" y="104"/>
                    </a:lnTo>
                    <a:lnTo>
                      <a:pt x="131" y="90"/>
                    </a:lnTo>
                    <a:lnTo>
                      <a:pt x="146" y="78"/>
                    </a:lnTo>
                    <a:lnTo>
                      <a:pt x="162" y="67"/>
                    </a:lnTo>
                    <a:lnTo>
                      <a:pt x="178" y="58"/>
                    </a:lnTo>
                    <a:lnTo>
                      <a:pt x="194" y="50"/>
                    </a:lnTo>
                    <a:lnTo>
                      <a:pt x="210" y="45"/>
                    </a:lnTo>
                    <a:lnTo>
                      <a:pt x="226" y="40"/>
                    </a:lnTo>
                    <a:lnTo>
                      <a:pt x="242" y="38"/>
                    </a:lnTo>
                    <a:lnTo>
                      <a:pt x="258" y="37"/>
                    </a:lnTo>
                    <a:lnTo>
                      <a:pt x="272" y="37"/>
                    </a:lnTo>
                    <a:lnTo>
                      <a:pt x="287" y="39"/>
                    </a:lnTo>
                    <a:lnTo>
                      <a:pt x="302" y="42"/>
                    </a:lnTo>
                    <a:lnTo>
                      <a:pt x="316" y="48"/>
                    </a:lnTo>
                    <a:lnTo>
                      <a:pt x="329" y="55"/>
                    </a:lnTo>
                    <a:lnTo>
                      <a:pt x="342" y="63"/>
                    </a:lnTo>
                    <a:lnTo>
                      <a:pt x="353" y="73"/>
                    </a:lnTo>
                    <a:lnTo>
                      <a:pt x="365" y="84"/>
                    </a:lnTo>
                    <a:lnTo>
                      <a:pt x="375" y="98"/>
                    </a:lnTo>
                    <a:lnTo>
                      <a:pt x="384" y="114"/>
                    </a:lnTo>
                    <a:lnTo>
                      <a:pt x="392" y="131"/>
                    </a:lnTo>
                    <a:lnTo>
                      <a:pt x="399" y="151"/>
                    </a:lnTo>
                    <a:lnTo>
                      <a:pt x="405" y="172"/>
                    </a:lnTo>
                    <a:lnTo>
                      <a:pt x="409" y="196"/>
                    </a:lnTo>
                    <a:lnTo>
                      <a:pt x="411" y="222"/>
                    </a:lnTo>
                    <a:lnTo>
                      <a:pt x="413" y="250"/>
                    </a:lnTo>
                    <a:lnTo>
                      <a:pt x="430" y="233"/>
                    </a:lnTo>
                    <a:lnTo>
                      <a:pt x="413" y="250"/>
                    </a:lnTo>
                    <a:lnTo>
                      <a:pt x="413" y="254"/>
                    </a:lnTo>
                    <a:lnTo>
                      <a:pt x="414" y="258"/>
                    </a:lnTo>
                    <a:lnTo>
                      <a:pt x="416" y="261"/>
                    </a:lnTo>
                    <a:lnTo>
                      <a:pt x="418" y="263"/>
                    </a:lnTo>
                    <a:lnTo>
                      <a:pt x="421" y="266"/>
                    </a:lnTo>
                    <a:lnTo>
                      <a:pt x="424" y="267"/>
                    </a:lnTo>
                    <a:lnTo>
                      <a:pt x="427" y="268"/>
                    </a:lnTo>
                    <a:lnTo>
                      <a:pt x="431" y="268"/>
                    </a:lnTo>
                    <a:lnTo>
                      <a:pt x="434" y="268"/>
                    </a:lnTo>
                    <a:lnTo>
                      <a:pt x="438" y="267"/>
                    </a:lnTo>
                    <a:lnTo>
                      <a:pt x="441" y="266"/>
                    </a:lnTo>
                    <a:lnTo>
                      <a:pt x="443" y="263"/>
                    </a:lnTo>
                    <a:lnTo>
                      <a:pt x="446" y="261"/>
                    </a:lnTo>
                    <a:lnTo>
                      <a:pt x="448" y="258"/>
                    </a:lnTo>
                    <a:lnTo>
                      <a:pt x="449" y="254"/>
                    </a:lnTo>
                    <a:lnTo>
                      <a:pt x="449" y="250"/>
                    </a:lnTo>
                    <a:lnTo>
                      <a:pt x="433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38520" y="3349800"/>
                <a:ext cx="57240" cy="15840"/>
              </a:xfrm>
              <a:custGeom>
                <a:avLst/>
                <a:gdLst/>
                <a:ahLst/>
                <a:rect l="l" t="t" r="r" b="b"/>
                <a:pathLst>
                  <a:path w="184" h="51">
                    <a:moveTo>
                      <a:pt x="0" y="33"/>
                    </a:moveTo>
                    <a:lnTo>
                      <a:pt x="19" y="51"/>
                    </a:lnTo>
                    <a:lnTo>
                      <a:pt x="184" y="35"/>
                    </a:lnTo>
                    <a:lnTo>
                      <a:pt x="181" y="0"/>
                    </a:lnTo>
                    <a:lnTo>
                      <a:pt x="15" y="14"/>
                    </a:lnTo>
                    <a:lnTo>
                      <a:pt x="0" y="33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1" y="41"/>
                    </a:lnTo>
                    <a:lnTo>
                      <a:pt x="3" y="44"/>
                    </a:lnTo>
                    <a:lnTo>
                      <a:pt x="5" y="46"/>
                    </a:lnTo>
                    <a:lnTo>
                      <a:pt x="8" y="49"/>
                    </a:lnTo>
                    <a:lnTo>
                      <a:pt x="11" y="50"/>
                    </a:lnTo>
                    <a:lnTo>
                      <a:pt x="14" y="51"/>
                    </a:lnTo>
                    <a:lnTo>
                      <a:pt x="19" y="5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738520" y="3359520"/>
                <a:ext cx="34920" cy="118800"/>
              </a:xfrm>
              <a:custGeom>
                <a:avLst/>
                <a:gdLst/>
                <a:ahLst/>
                <a:rect l="l" t="t" r="r" b="b"/>
                <a:pathLst>
                  <a:path w="111" h="374">
                    <a:moveTo>
                      <a:pt x="94" y="374"/>
                    </a:moveTo>
                    <a:lnTo>
                      <a:pt x="111" y="355"/>
                    </a:lnTo>
                    <a:lnTo>
                      <a:pt x="111" y="331"/>
                    </a:lnTo>
                    <a:lnTo>
                      <a:pt x="108" y="308"/>
                    </a:lnTo>
                    <a:lnTo>
                      <a:pt x="104" y="284"/>
                    </a:lnTo>
                    <a:lnTo>
                      <a:pt x="100" y="260"/>
                    </a:lnTo>
                    <a:lnTo>
                      <a:pt x="87" y="213"/>
                    </a:lnTo>
                    <a:lnTo>
                      <a:pt x="72" y="167"/>
                    </a:lnTo>
                    <a:lnTo>
                      <a:pt x="59" y="122"/>
                    </a:lnTo>
                    <a:lnTo>
                      <a:pt x="47" y="78"/>
                    </a:lnTo>
                    <a:lnTo>
                      <a:pt x="42" y="58"/>
                    </a:lnTo>
                    <a:lnTo>
                      <a:pt x="38" y="37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5"/>
                    </a:lnTo>
                    <a:lnTo>
                      <a:pt x="12" y="87"/>
                    </a:lnTo>
                    <a:lnTo>
                      <a:pt x="25" y="132"/>
                    </a:lnTo>
                    <a:lnTo>
                      <a:pt x="38" y="178"/>
                    </a:lnTo>
                    <a:lnTo>
                      <a:pt x="52" y="223"/>
                    </a:lnTo>
                    <a:lnTo>
                      <a:pt x="64" y="269"/>
                    </a:lnTo>
                    <a:lnTo>
                      <a:pt x="69" y="290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94" y="337"/>
                    </a:lnTo>
                    <a:lnTo>
                      <a:pt x="76" y="355"/>
                    </a:lnTo>
                    <a:lnTo>
                      <a:pt x="76" y="359"/>
                    </a:lnTo>
                    <a:lnTo>
                      <a:pt x="77" y="363"/>
                    </a:lnTo>
                    <a:lnTo>
                      <a:pt x="79" y="366"/>
                    </a:lnTo>
                    <a:lnTo>
                      <a:pt x="82" y="369"/>
                    </a:lnTo>
                    <a:lnTo>
                      <a:pt x="84" y="370"/>
                    </a:lnTo>
                    <a:lnTo>
                      <a:pt x="87" y="372"/>
                    </a:lnTo>
                    <a:lnTo>
                      <a:pt x="91" y="372"/>
                    </a:lnTo>
                    <a:lnTo>
                      <a:pt x="94" y="374"/>
                    </a:lnTo>
                    <a:lnTo>
                      <a:pt x="98" y="372"/>
                    </a:lnTo>
                    <a:lnTo>
                      <a:pt x="100" y="372"/>
                    </a:lnTo>
                    <a:lnTo>
                      <a:pt x="103" y="370"/>
                    </a:lnTo>
                    <a:lnTo>
                      <a:pt x="107" y="369"/>
                    </a:lnTo>
                    <a:lnTo>
                      <a:pt x="109" y="366"/>
                    </a:lnTo>
                    <a:lnTo>
                      <a:pt x="110" y="363"/>
                    </a:lnTo>
                    <a:lnTo>
                      <a:pt x="111" y="359"/>
                    </a:lnTo>
                    <a:lnTo>
                      <a:pt x="111" y="355"/>
                    </a:lnTo>
                    <a:lnTo>
                      <a:pt x="94" y="3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05040" y="3410280"/>
                <a:ext cx="61920" cy="68040"/>
              </a:xfrm>
              <a:custGeom>
                <a:avLst/>
                <a:gdLst/>
                <a:ahLst/>
                <a:rect l="l" t="t" r="r" b="b"/>
                <a:pathLst>
                  <a:path w="197" h="216">
                    <a:moveTo>
                      <a:pt x="33" y="31"/>
                    </a:moveTo>
                    <a:lnTo>
                      <a:pt x="3" y="10"/>
                    </a:lnTo>
                    <a:lnTo>
                      <a:pt x="0" y="23"/>
                    </a:lnTo>
                    <a:lnTo>
                      <a:pt x="0" y="36"/>
                    </a:lnTo>
                    <a:lnTo>
                      <a:pt x="1" y="49"/>
                    </a:lnTo>
                    <a:lnTo>
                      <a:pt x="5" y="64"/>
                    </a:lnTo>
                    <a:lnTo>
                      <a:pt x="10" y="80"/>
                    </a:lnTo>
                    <a:lnTo>
                      <a:pt x="17" y="96"/>
                    </a:lnTo>
                    <a:lnTo>
                      <a:pt x="26" y="113"/>
                    </a:lnTo>
                    <a:lnTo>
                      <a:pt x="38" y="129"/>
                    </a:lnTo>
                    <a:lnTo>
                      <a:pt x="50" y="146"/>
                    </a:lnTo>
                    <a:lnTo>
                      <a:pt x="65" y="161"/>
                    </a:lnTo>
                    <a:lnTo>
                      <a:pt x="74" y="169"/>
                    </a:lnTo>
                    <a:lnTo>
                      <a:pt x="82" y="176"/>
                    </a:lnTo>
                    <a:lnTo>
                      <a:pt x="91" y="183"/>
                    </a:lnTo>
                    <a:lnTo>
                      <a:pt x="101" y="188"/>
                    </a:lnTo>
                    <a:lnTo>
                      <a:pt x="112" y="195"/>
                    </a:lnTo>
                    <a:lnTo>
                      <a:pt x="122" y="200"/>
                    </a:lnTo>
                    <a:lnTo>
                      <a:pt x="133" y="204"/>
                    </a:lnTo>
                    <a:lnTo>
                      <a:pt x="145" y="208"/>
                    </a:lnTo>
                    <a:lnTo>
                      <a:pt x="157" y="211"/>
                    </a:lnTo>
                    <a:lnTo>
                      <a:pt x="170" y="213"/>
                    </a:lnTo>
                    <a:lnTo>
                      <a:pt x="183" y="214"/>
                    </a:lnTo>
                    <a:lnTo>
                      <a:pt x="197" y="216"/>
                    </a:lnTo>
                    <a:lnTo>
                      <a:pt x="197" y="179"/>
                    </a:lnTo>
                    <a:lnTo>
                      <a:pt x="186" y="178"/>
                    </a:lnTo>
                    <a:lnTo>
                      <a:pt x="175" y="177"/>
                    </a:lnTo>
                    <a:lnTo>
                      <a:pt x="165" y="176"/>
                    </a:lnTo>
                    <a:lnTo>
                      <a:pt x="155" y="173"/>
                    </a:lnTo>
                    <a:lnTo>
                      <a:pt x="146" y="170"/>
                    </a:lnTo>
                    <a:lnTo>
                      <a:pt x="137" y="167"/>
                    </a:lnTo>
                    <a:lnTo>
                      <a:pt x="128" y="162"/>
                    </a:lnTo>
                    <a:lnTo>
                      <a:pt x="120" y="157"/>
                    </a:lnTo>
                    <a:lnTo>
                      <a:pt x="112" y="153"/>
                    </a:lnTo>
                    <a:lnTo>
                      <a:pt x="105" y="147"/>
                    </a:lnTo>
                    <a:lnTo>
                      <a:pt x="97" y="142"/>
                    </a:lnTo>
                    <a:lnTo>
                      <a:pt x="91" y="136"/>
                    </a:lnTo>
                    <a:lnTo>
                      <a:pt x="79" y="122"/>
                    </a:lnTo>
                    <a:lnTo>
                      <a:pt x="67" y="108"/>
                    </a:lnTo>
                    <a:lnTo>
                      <a:pt x="58" y="94"/>
                    </a:lnTo>
                    <a:lnTo>
                      <a:pt x="50" y="80"/>
                    </a:lnTo>
                    <a:lnTo>
                      <a:pt x="44" y="66"/>
                    </a:lnTo>
                    <a:lnTo>
                      <a:pt x="40" y="54"/>
                    </a:lnTo>
                    <a:lnTo>
                      <a:pt x="36" y="42"/>
                    </a:lnTo>
                    <a:lnTo>
                      <a:pt x="35" y="33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" y="6"/>
                    </a:lnTo>
                    <a:lnTo>
                      <a:pt x="36" y="28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8" y="13"/>
                    </a:lnTo>
                    <a:lnTo>
                      <a:pt x="35" y="9"/>
                    </a:lnTo>
                    <a:lnTo>
                      <a:pt x="34" y="7"/>
                    </a:lnTo>
                    <a:lnTo>
                      <a:pt x="31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3" y="10"/>
                    </a:lnTo>
                    <a:lnTo>
                      <a:pt x="33" y="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635200" y="341172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253" h="180">
                    <a:moveTo>
                      <a:pt x="0" y="164"/>
                    </a:moveTo>
                    <a:lnTo>
                      <a:pt x="18" y="180"/>
                    </a:lnTo>
                    <a:lnTo>
                      <a:pt x="36" y="179"/>
                    </a:lnTo>
                    <a:lnTo>
                      <a:pt x="55" y="175"/>
                    </a:lnTo>
                    <a:lnTo>
                      <a:pt x="72" y="170"/>
                    </a:lnTo>
                    <a:lnTo>
                      <a:pt x="89" y="163"/>
                    </a:lnTo>
                    <a:lnTo>
                      <a:pt x="106" y="155"/>
                    </a:lnTo>
                    <a:lnTo>
                      <a:pt x="121" y="146"/>
                    </a:lnTo>
                    <a:lnTo>
                      <a:pt x="137" y="136"/>
                    </a:lnTo>
                    <a:lnTo>
                      <a:pt x="152" y="124"/>
                    </a:lnTo>
                    <a:lnTo>
                      <a:pt x="179" y="100"/>
                    </a:lnTo>
                    <a:lnTo>
                      <a:pt x="205" y="74"/>
                    </a:lnTo>
                    <a:lnTo>
                      <a:pt x="230" y="49"/>
                    </a:lnTo>
                    <a:lnTo>
                      <a:pt x="253" y="25"/>
                    </a:lnTo>
                    <a:lnTo>
                      <a:pt x="227" y="0"/>
                    </a:lnTo>
                    <a:lnTo>
                      <a:pt x="204" y="24"/>
                    </a:lnTo>
                    <a:lnTo>
                      <a:pt x="179" y="49"/>
                    </a:lnTo>
                    <a:lnTo>
                      <a:pt x="154" y="73"/>
                    </a:lnTo>
                    <a:lnTo>
                      <a:pt x="128" y="96"/>
                    </a:lnTo>
                    <a:lnTo>
                      <a:pt x="115" y="106"/>
                    </a:lnTo>
                    <a:lnTo>
                      <a:pt x="101" y="115"/>
                    </a:lnTo>
                    <a:lnTo>
                      <a:pt x="88" y="123"/>
                    </a:lnTo>
                    <a:lnTo>
                      <a:pt x="74" y="130"/>
                    </a:lnTo>
                    <a:lnTo>
                      <a:pt x="60" y="136"/>
                    </a:lnTo>
                    <a:lnTo>
                      <a:pt x="47" y="140"/>
                    </a:lnTo>
                    <a:lnTo>
                      <a:pt x="33" y="142"/>
                    </a:lnTo>
                    <a:lnTo>
                      <a:pt x="18" y="144"/>
                    </a:lnTo>
                    <a:lnTo>
                      <a:pt x="36" y="159"/>
                    </a:lnTo>
                    <a:lnTo>
                      <a:pt x="18" y="144"/>
                    </a:lnTo>
                    <a:lnTo>
                      <a:pt x="14" y="144"/>
                    </a:lnTo>
                    <a:lnTo>
                      <a:pt x="10" y="145"/>
                    </a:lnTo>
                    <a:lnTo>
                      <a:pt x="7" y="147"/>
                    </a:lnTo>
                    <a:lnTo>
                      <a:pt x="5" y="149"/>
                    </a:lnTo>
                    <a:lnTo>
                      <a:pt x="2" y="151"/>
                    </a:lnTo>
                    <a:lnTo>
                      <a:pt x="1" y="155"/>
                    </a:lnTo>
                    <a:lnTo>
                      <a:pt x="0" y="158"/>
                    </a:lnTo>
                    <a:lnTo>
                      <a:pt x="0" y="162"/>
                    </a:lnTo>
                    <a:lnTo>
                      <a:pt x="0" y="165"/>
                    </a:lnTo>
                    <a:lnTo>
                      <a:pt x="1" y="169"/>
                    </a:lnTo>
                    <a:lnTo>
                      <a:pt x="2" y="171"/>
                    </a:lnTo>
                    <a:lnTo>
                      <a:pt x="5" y="174"/>
                    </a:lnTo>
                    <a:lnTo>
                      <a:pt x="7" y="177"/>
                    </a:lnTo>
                    <a:lnTo>
                      <a:pt x="10" y="178"/>
                    </a:lnTo>
                    <a:lnTo>
                      <a:pt x="14" y="179"/>
                    </a:lnTo>
                    <a:lnTo>
                      <a:pt x="18" y="18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633760" y="3381480"/>
                <a:ext cx="36360" cy="82800"/>
              </a:xfrm>
              <a:custGeom>
                <a:avLst/>
                <a:gdLst/>
                <a:ahLst/>
                <a:rect l="l" t="t" r="r" b="b"/>
                <a:pathLst>
                  <a:path w="115" h="258">
                    <a:moveTo>
                      <a:pt x="97" y="37"/>
                    </a:moveTo>
                    <a:lnTo>
                      <a:pt x="88" y="3"/>
                    </a:lnTo>
                    <a:lnTo>
                      <a:pt x="72" y="13"/>
                    </a:lnTo>
                    <a:lnTo>
                      <a:pt x="57" y="24"/>
                    </a:lnTo>
                    <a:lnTo>
                      <a:pt x="44" y="37"/>
                    </a:lnTo>
                    <a:lnTo>
                      <a:pt x="33" y="52"/>
                    </a:lnTo>
                    <a:lnTo>
                      <a:pt x="24" y="67"/>
                    </a:lnTo>
                    <a:lnTo>
                      <a:pt x="16" y="84"/>
                    </a:lnTo>
                    <a:lnTo>
                      <a:pt x="11" y="100"/>
                    </a:lnTo>
                    <a:lnTo>
                      <a:pt x="6" y="117"/>
                    </a:lnTo>
                    <a:lnTo>
                      <a:pt x="4" y="134"/>
                    </a:lnTo>
                    <a:lnTo>
                      <a:pt x="1" y="152"/>
                    </a:lnTo>
                    <a:lnTo>
                      <a:pt x="0" y="170"/>
                    </a:lnTo>
                    <a:lnTo>
                      <a:pt x="0" y="188"/>
                    </a:lnTo>
                    <a:lnTo>
                      <a:pt x="3" y="224"/>
                    </a:lnTo>
                    <a:lnTo>
                      <a:pt x="6" y="258"/>
                    </a:lnTo>
                    <a:lnTo>
                      <a:pt x="42" y="253"/>
                    </a:lnTo>
                    <a:lnTo>
                      <a:pt x="39" y="220"/>
                    </a:lnTo>
                    <a:lnTo>
                      <a:pt x="37" y="187"/>
                    </a:lnTo>
                    <a:lnTo>
                      <a:pt x="37" y="171"/>
                    </a:lnTo>
                    <a:lnTo>
                      <a:pt x="38" y="155"/>
                    </a:lnTo>
                    <a:lnTo>
                      <a:pt x="39" y="139"/>
                    </a:lnTo>
                    <a:lnTo>
                      <a:pt x="42" y="125"/>
                    </a:lnTo>
                    <a:lnTo>
                      <a:pt x="46" y="110"/>
                    </a:lnTo>
                    <a:lnTo>
                      <a:pt x="50" y="96"/>
                    </a:lnTo>
                    <a:lnTo>
                      <a:pt x="56" y="84"/>
                    </a:lnTo>
                    <a:lnTo>
                      <a:pt x="63" y="72"/>
                    </a:lnTo>
                    <a:lnTo>
                      <a:pt x="71" y="61"/>
                    </a:lnTo>
                    <a:lnTo>
                      <a:pt x="81" y="52"/>
                    </a:lnTo>
                    <a:lnTo>
                      <a:pt x="93" y="43"/>
                    </a:lnTo>
                    <a:lnTo>
                      <a:pt x="105" y="35"/>
                    </a:lnTo>
                    <a:lnTo>
                      <a:pt x="97" y="0"/>
                    </a:lnTo>
                    <a:lnTo>
                      <a:pt x="105" y="35"/>
                    </a:lnTo>
                    <a:lnTo>
                      <a:pt x="109" y="32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5" y="23"/>
                    </a:lnTo>
                    <a:lnTo>
                      <a:pt x="115" y="20"/>
                    </a:lnTo>
                    <a:lnTo>
                      <a:pt x="115" y="16"/>
                    </a:lnTo>
                    <a:lnTo>
                      <a:pt x="114" y="13"/>
                    </a:lnTo>
                    <a:lnTo>
                      <a:pt x="113" y="10"/>
                    </a:lnTo>
                    <a:lnTo>
                      <a:pt x="111" y="7"/>
                    </a:lnTo>
                    <a:lnTo>
                      <a:pt x="109" y="4"/>
                    </a:lnTo>
                    <a:lnTo>
                      <a:pt x="106" y="3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8" y="3"/>
                    </a:lnTo>
                    <a:lnTo>
                      <a:pt x="97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593800" y="3378600"/>
                <a:ext cx="70200" cy="15840"/>
              </a:xfrm>
              <a:custGeom>
                <a:avLst/>
                <a:gdLst/>
                <a:ahLst/>
                <a:rect l="l" t="t" r="r" b="b"/>
                <a:pathLst>
                  <a:path w="219" h="50">
                    <a:moveTo>
                      <a:pt x="0" y="17"/>
                    </a:moveTo>
                    <a:lnTo>
                      <a:pt x="15" y="35"/>
                    </a:lnTo>
                    <a:lnTo>
                      <a:pt x="36" y="38"/>
                    </a:lnTo>
                    <a:lnTo>
                      <a:pt x="56" y="41"/>
                    </a:lnTo>
                    <a:lnTo>
                      <a:pt x="80" y="44"/>
                    </a:lnTo>
                    <a:lnTo>
                      <a:pt x="104" y="45"/>
                    </a:lnTo>
                    <a:lnTo>
                      <a:pt x="130" y="48"/>
                    </a:lnTo>
                    <a:lnTo>
                      <a:pt x="159" y="49"/>
                    </a:lnTo>
                    <a:lnTo>
                      <a:pt x="187" y="49"/>
                    </a:lnTo>
                    <a:lnTo>
                      <a:pt x="219" y="50"/>
                    </a:lnTo>
                    <a:lnTo>
                      <a:pt x="219" y="13"/>
                    </a:lnTo>
                    <a:lnTo>
                      <a:pt x="188" y="13"/>
                    </a:lnTo>
                    <a:lnTo>
                      <a:pt x="160" y="12"/>
                    </a:lnTo>
                    <a:lnTo>
                      <a:pt x="133" y="11"/>
                    </a:lnTo>
                    <a:lnTo>
                      <a:pt x="106" y="10"/>
                    </a:lnTo>
                    <a:lnTo>
                      <a:pt x="84" y="8"/>
                    </a:lnTo>
                    <a:lnTo>
                      <a:pt x="61" y="5"/>
                    </a:lnTo>
                    <a:lnTo>
                      <a:pt x="40" y="2"/>
                    </a:lnTo>
                    <a:lnTo>
                      <a:pt x="21" y="0"/>
                    </a:lnTo>
                    <a:lnTo>
                      <a:pt x="37" y="1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51080" y="3386520"/>
                <a:ext cx="690840" cy="507960"/>
              </a:xfrm>
              <a:custGeom>
                <a:avLst/>
                <a:gdLst/>
                <a:ahLst/>
                <a:rect l="l" t="t" r="r" b="b"/>
                <a:pathLst>
                  <a:path w="2173" h="1599">
                    <a:moveTo>
                      <a:pt x="1982" y="0"/>
                    </a:moveTo>
                    <a:lnTo>
                      <a:pt x="1840" y="61"/>
                    </a:lnTo>
                    <a:lnTo>
                      <a:pt x="1696" y="122"/>
                    </a:lnTo>
                    <a:lnTo>
                      <a:pt x="1624" y="155"/>
                    </a:lnTo>
                    <a:lnTo>
                      <a:pt x="1550" y="191"/>
                    </a:lnTo>
                    <a:lnTo>
                      <a:pt x="1475" y="227"/>
                    </a:lnTo>
                    <a:lnTo>
                      <a:pt x="1399" y="268"/>
                    </a:lnTo>
                    <a:lnTo>
                      <a:pt x="1320" y="312"/>
                    </a:lnTo>
                    <a:lnTo>
                      <a:pt x="1240" y="358"/>
                    </a:lnTo>
                    <a:lnTo>
                      <a:pt x="1199" y="383"/>
                    </a:lnTo>
                    <a:lnTo>
                      <a:pt x="1157" y="411"/>
                    </a:lnTo>
                    <a:lnTo>
                      <a:pt x="1114" y="438"/>
                    </a:lnTo>
                    <a:lnTo>
                      <a:pt x="1070" y="467"/>
                    </a:lnTo>
                    <a:lnTo>
                      <a:pt x="1027" y="497"/>
                    </a:lnTo>
                    <a:lnTo>
                      <a:pt x="982" y="528"/>
                    </a:lnTo>
                    <a:lnTo>
                      <a:pt x="936" y="561"/>
                    </a:lnTo>
                    <a:lnTo>
                      <a:pt x="889" y="597"/>
                    </a:lnTo>
                    <a:lnTo>
                      <a:pt x="843" y="632"/>
                    </a:lnTo>
                    <a:lnTo>
                      <a:pt x="794" y="670"/>
                    </a:lnTo>
                    <a:lnTo>
                      <a:pt x="745" y="709"/>
                    </a:lnTo>
                    <a:lnTo>
                      <a:pt x="694" y="750"/>
                    </a:lnTo>
                    <a:lnTo>
                      <a:pt x="662" y="766"/>
                    </a:lnTo>
                    <a:lnTo>
                      <a:pt x="635" y="780"/>
                    </a:lnTo>
                    <a:lnTo>
                      <a:pt x="611" y="790"/>
                    </a:lnTo>
                    <a:lnTo>
                      <a:pt x="590" y="799"/>
                    </a:lnTo>
                    <a:lnTo>
                      <a:pt x="551" y="812"/>
                    </a:lnTo>
                    <a:lnTo>
                      <a:pt x="512" y="822"/>
                    </a:lnTo>
                    <a:lnTo>
                      <a:pt x="469" y="834"/>
                    </a:lnTo>
                    <a:lnTo>
                      <a:pt x="415" y="850"/>
                    </a:lnTo>
                    <a:lnTo>
                      <a:pt x="383" y="862"/>
                    </a:lnTo>
                    <a:lnTo>
                      <a:pt x="346" y="876"/>
                    </a:lnTo>
                    <a:lnTo>
                      <a:pt x="302" y="894"/>
                    </a:lnTo>
                    <a:lnTo>
                      <a:pt x="254" y="915"/>
                    </a:lnTo>
                    <a:lnTo>
                      <a:pt x="241" y="934"/>
                    </a:lnTo>
                    <a:lnTo>
                      <a:pt x="228" y="951"/>
                    </a:lnTo>
                    <a:lnTo>
                      <a:pt x="215" y="967"/>
                    </a:lnTo>
                    <a:lnTo>
                      <a:pt x="202" y="982"/>
                    </a:lnTo>
                    <a:lnTo>
                      <a:pt x="178" y="1009"/>
                    </a:lnTo>
                    <a:lnTo>
                      <a:pt x="154" y="1032"/>
                    </a:lnTo>
                    <a:lnTo>
                      <a:pt x="110" y="1071"/>
                    </a:lnTo>
                    <a:lnTo>
                      <a:pt x="71" y="1104"/>
                    </a:lnTo>
                    <a:lnTo>
                      <a:pt x="54" y="1120"/>
                    </a:lnTo>
                    <a:lnTo>
                      <a:pt x="39" y="1137"/>
                    </a:lnTo>
                    <a:lnTo>
                      <a:pt x="33" y="1146"/>
                    </a:lnTo>
                    <a:lnTo>
                      <a:pt x="27" y="1155"/>
                    </a:lnTo>
                    <a:lnTo>
                      <a:pt x="21" y="1165"/>
                    </a:lnTo>
                    <a:lnTo>
                      <a:pt x="16" y="1176"/>
                    </a:lnTo>
                    <a:lnTo>
                      <a:pt x="12" y="1187"/>
                    </a:lnTo>
                    <a:lnTo>
                      <a:pt x="8" y="1200"/>
                    </a:lnTo>
                    <a:lnTo>
                      <a:pt x="6" y="1213"/>
                    </a:lnTo>
                    <a:lnTo>
                      <a:pt x="4" y="1228"/>
                    </a:lnTo>
                    <a:lnTo>
                      <a:pt x="1" y="1243"/>
                    </a:lnTo>
                    <a:lnTo>
                      <a:pt x="0" y="1260"/>
                    </a:lnTo>
                    <a:lnTo>
                      <a:pt x="0" y="1278"/>
                    </a:lnTo>
                    <a:lnTo>
                      <a:pt x="1" y="1298"/>
                    </a:lnTo>
                    <a:lnTo>
                      <a:pt x="99" y="1369"/>
                    </a:lnTo>
                    <a:lnTo>
                      <a:pt x="192" y="1439"/>
                    </a:lnTo>
                    <a:lnTo>
                      <a:pt x="236" y="1472"/>
                    </a:lnTo>
                    <a:lnTo>
                      <a:pt x="278" y="1503"/>
                    </a:lnTo>
                    <a:lnTo>
                      <a:pt x="319" y="1530"/>
                    </a:lnTo>
                    <a:lnTo>
                      <a:pt x="357" y="1553"/>
                    </a:lnTo>
                    <a:lnTo>
                      <a:pt x="375" y="1563"/>
                    </a:lnTo>
                    <a:lnTo>
                      <a:pt x="394" y="1572"/>
                    </a:lnTo>
                    <a:lnTo>
                      <a:pt x="411" y="1580"/>
                    </a:lnTo>
                    <a:lnTo>
                      <a:pt x="428" y="1587"/>
                    </a:lnTo>
                    <a:lnTo>
                      <a:pt x="444" y="1592"/>
                    </a:lnTo>
                    <a:lnTo>
                      <a:pt x="460" y="1596"/>
                    </a:lnTo>
                    <a:lnTo>
                      <a:pt x="474" y="1599"/>
                    </a:lnTo>
                    <a:lnTo>
                      <a:pt x="488" y="1599"/>
                    </a:lnTo>
                    <a:lnTo>
                      <a:pt x="502" y="1597"/>
                    </a:lnTo>
                    <a:lnTo>
                      <a:pt x="514" y="1594"/>
                    </a:lnTo>
                    <a:lnTo>
                      <a:pt x="527" y="1590"/>
                    </a:lnTo>
                    <a:lnTo>
                      <a:pt x="538" y="1583"/>
                    </a:lnTo>
                    <a:lnTo>
                      <a:pt x="549" y="1574"/>
                    </a:lnTo>
                    <a:lnTo>
                      <a:pt x="559" y="1562"/>
                    </a:lnTo>
                    <a:lnTo>
                      <a:pt x="568" y="1550"/>
                    </a:lnTo>
                    <a:lnTo>
                      <a:pt x="576" y="1534"/>
                    </a:lnTo>
                    <a:lnTo>
                      <a:pt x="568" y="1509"/>
                    </a:lnTo>
                    <a:lnTo>
                      <a:pt x="562" y="1483"/>
                    </a:lnTo>
                    <a:lnTo>
                      <a:pt x="558" y="1461"/>
                    </a:lnTo>
                    <a:lnTo>
                      <a:pt x="554" y="1438"/>
                    </a:lnTo>
                    <a:lnTo>
                      <a:pt x="553" y="1416"/>
                    </a:lnTo>
                    <a:lnTo>
                      <a:pt x="553" y="1396"/>
                    </a:lnTo>
                    <a:lnTo>
                      <a:pt x="555" y="1375"/>
                    </a:lnTo>
                    <a:lnTo>
                      <a:pt x="558" y="1356"/>
                    </a:lnTo>
                    <a:lnTo>
                      <a:pt x="562" y="1338"/>
                    </a:lnTo>
                    <a:lnTo>
                      <a:pt x="567" y="1319"/>
                    </a:lnTo>
                    <a:lnTo>
                      <a:pt x="574" y="1301"/>
                    </a:lnTo>
                    <a:lnTo>
                      <a:pt x="580" y="1284"/>
                    </a:lnTo>
                    <a:lnTo>
                      <a:pt x="588" y="1268"/>
                    </a:lnTo>
                    <a:lnTo>
                      <a:pt x="598" y="1251"/>
                    </a:lnTo>
                    <a:lnTo>
                      <a:pt x="608" y="1235"/>
                    </a:lnTo>
                    <a:lnTo>
                      <a:pt x="618" y="1220"/>
                    </a:lnTo>
                    <a:lnTo>
                      <a:pt x="641" y="1189"/>
                    </a:lnTo>
                    <a:lnTo>
                      <a:pt x="666" y="1160"/>
                    </a:lnTo>
                    <a:lnTo>
                      <a:pt x="693" y="1130"/>
                    </a:lnTo>
                    <a:lnTo>
                      <a:pt x="719" y="1100"/>
                    </a:lnTo>
                    <a:lnTo>
                      <a:pt x="748" y="1070"/>
                    </a:lnTo>
                    <a:lnTo>
                      <a:pt x="774" y="1039"/>
                    </a:lnTo>
                    <a:lnTo>
                      <a:pt x="800" y="1007"/>
                    </a:lnTo>
                    <a:lnTo>
                      <a:pt x="825" y="973"/>
                    </a:lnTo>
                    <a:lnTo>
                      <a:pt x="990" y="925"/>
                    </a:lnTo>
                    <a:lnTo>
                      <a:pt x="1154" y="877"/>
                    </a:lnTo>
                    <a:lnTo>
                      <a:pt x="1317" y="829"/>
                    </a:lnTo>
                    <a:lnTo>
                      <a:pt x="1480" y="781"/>
                    </a:lnTo>
                    <a:lnTo>
                      <a:pt x="1643" y="733"/>
                    </a:lnTo>
                    <a:lnTo>
                      <a:pt x="1806" y="685"/>
                    </a:lnTo>
                    <a:lnTo>
                      <a:pt x="1969" y="638"/>
                    </a:lnTo>
                    <a:lnTo>
                      <a:pt x="2132" y="590"/>
                    </a:lnTo>
                    <a:lnTo>
                      <a:pt x="2139" y="569"/>
                    </a:lnTo>
                    <a:lnTo>
                      <a:pt x="2146" y="550"/>
                    </a:lnTo>
                    <a:lnTo>
                      <a:pt x="2152" y="529"/>
                    </a:lnTo>
                    <a:lnTo>
                      <a:pt x="2158" y="510"/>
                    </a:lnTo>
                    <a:lnTo>
                      <a:pt x="2162" y="491"/>
                    </a:lnTo>
                    <a:lnTo>
                      <a:pt x="2166" y="470"/>
                    </a:lnTo>
                    <a:lnTo>
                      <a:pt x="2169" y="451"/>
                    </a:lnTo>
                    <a:lnTo>
                      <a:pt x="2171" y="431"/>
                    </a:lnTo>
                    <a:lnTo>
                      <a:pt x="2173" y="412"/>
                    </a:lnTo>
                    <a:lnTo>
                      <a:pt x="2173" y="394"/>
                    </a:lnTo>
                    <a:lnTo>
                      <a:pt x="2173" y="374"/>
                    </a:lnTo>
                    <a:lnTo>
                      <a:pt x="2171" y="355"/>
                    </a:lnTo>
                    <a:lnTo>
                      <a:pt x="2170" y="337"/>
                    </a:lnTo>
                    <a:lnTo>
                      <a:pt x="2167" y="317"/>
                    </a:lnTo>
                    <a:lnTo>
                      <a:pt x="2163" y="299"/>
                    </a:lnTo>
                    <a:lnTo>
                      <a:pt x="2159" y="281"/>
                    </a:lnTo>
                    <a:lnTo>
                      <a:pt x="2154" y="263"/>
                    </a:lnTo>
                    <a:lnTo>
                      <a:pt x="2149" y="244"/>
                    </a:lnTo>
                    <a:lnTo>
                      <a:pt x="2142" y="226"/>
                    </a:lnTo>
                    <a:lnTo>
                      <a:pt x="2134" y="208"/>
                    </a:lnTo>
                    <a:lnTo>
                      <a:pt x="2126" y="190"/>
                    </a:lnTo>
                    <a:lnTo>
                      <a:pt x="2117" y="172"/>
                    </a:lnTo>
                    <a:lnTo>
                      <a:pt x="2106" y="154"/>
                    </a:lnTo>
                    <a:lnTo>
                      <a:pt x="2096" y="137"/>
                    </a:lnTo>
                    <a:lnTo>
                      <a:pt x="2085" y="119"/>
                    </a:lnTo>
                    <a:lnTo>
                      <a:pt x="2072" y="102"/>
                    </a:lnTo>
                    <a:lnTo>
                      <a:pt x="2060" y="85"/>
                    </a:lnTo>
                    <a:lnTo>
                      <a:pt x="2046" y="68"/>
                    </a:lnTo>
                    <a:lnTo>
                      <a:pt x="2031" y="51"/>
                    </a:lnTo>
                    <a:lnTo>
                      <a:pt x="2015" y="33"/>
                    </a:lnTo>
                    <a:lnTo>
                      <a:pt x="1999" y="17"/>
                    </a:lnTo>
                    <a:lnTo>
                      <a:pt x="1982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368520" y="338328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5" h="774">
                    <a:moveTo>
                      <a:pt x="18" y="772"/>
                    </a:moveTo>
                    <a:lnTo>
                      <a:pt x="19" y="771"/>
                    </a:lnTo>
                    <a:lnTo>
                      <a:pt x="69" y="730"/>
                    </a:lnTo>
                    <a:lnTo>
                      <a:pt x="120" y="691"/>
                    </a:lnTo>
                    <a:lnTo>
                      <a:pt x="167" y="653"/>
                    </a:lnTo>
                    <a:lnTo>
                      <a:pt x="215" y="617"/>
                    </a:lnTo>
                    <a:lnTo>
                      <a:pt x="261" y="582"/>
                    </a:lnTo>
                    <a:lnTo>
                      <a:pt x="308" y="549"/>
                    </a:lnTo>
                    <a:lnTo>
                      <a:pt x="352" y="518"/>
                    </a:lnTo>
                    <a:lnTo>
                      <a:pt x="395" y="488"/>
                    </a:lnTo>
                    <a:lnTo>
                      <a:pt x="439" y="459"/>
                    </a:lnTo>
                    <a:lnTo>
                      <a:pt x="481" y="432"/>
                    </a:lnTo>
                    <a:lnTo>
                      <a:pt x="523" y="405"/>
                    </a:lnTo>
                    <a:lnTo>
                      <a:pt x="564" y="380"/>
                    </a:lnTo>
                    <a:lnTo>
                      <a:pt x="645" y="333"/>
                    </a:lnTo>
                    <a:lnTo>
                      <a:pt x="722" y="290"/>
                    </a:lnTo>
                    <a:lnTo>
                      <a:pt x="799" y="250"/>
                    </a:lnTo>
                    <a:lnTo>
                      <a:pt x="874" y="212"/>
                    </a:lnTo>
                    <a:lnTo>
                      <a:pt x="947" y="178"/>
                    </a:lnTo>
                    <a:lnTo>
                      <a:pt x="1020" y="145"/>
                    </a:lnTo>
                    <a:lnTo>
                      <a:pt x="1162" y="83"/>
                    </a:lnTo>
                    <a:lnTo>
                      <a:pt x="1305" y="23"/>
                    </a:lnTo>
                    <a:lnTo>
                      <a:pt x="1296" y="0"/>
                    </a:lnTo>
                    <a:lnTo>
                      <a:pt x="1153" y="60"/>
                    </a:lnTo>
                    <a:lnTo>
                      <a:pt x="1010" y="122"/>
                    </a:lnTo>
                    <a:lnTo>
                      <a:pt x="937" y="155"/>
                    </a:lnTo>
                    <a:lnTo>
                      <a:pt x="864" y="190"/>
                    </a:lnTo>
                    <a:lnTo>
                      <a:pt x="789" y="228"/>
                    </a:lnTo>
                    <a:lnTo>
                      <a:pt x="711" y="268"/>
                    </a:lnTo>
                    <a:lnTo>
                      <a:pt x="632" y="311"/>
                    </a:lnTo>
                    <a:lnTo>
                      <a:pt x="551" y="359"/>
                    </a:lnTo>
                    <a:lnTo>
                      <a:pt x="510" y="384"/>
                    </a:lnTo>
                    <a:lnTo>
                      <a:pt x="468" y="411"/>
                    </a:lnTo>
                    <a:lnTo>
                      <a:pt x="426" y="439"/>
                    </a:lnTo>
                    <a:lnTo>
                      <a:pt x="382" y="467"/>
                    </a:lnTo>
                    <a:lnTo>
                      <a:pt x="338" y="498"/>
                    </a:lnTo>
                    <a:lnTo>
                      <a:pt x="293" y="530"/>
                    </a:lnTo>
                    <a:lnTo>
                      <a:pt x="247" y="563"/>
                    </a:lnTo>
                    <a:lnTo>
                      <a:pt x="200" y="597"/>
                    </a:lnTo>
                    <a:lnTo>
                      <a:pt x="153" y="634"/>
                    </a:lnTo>
                    <a:lnTo>
                      <a:pt x="105" y="671"/>
                    </a:lnTo>
                    <a:lnTo>
                      <a:pt x="55" y="711"/>
                    </a:lnTo>
                    <a:lnTo>
                      <a:pt x="4" y="752"/>
                    </a:lnTo>
                    <a:lnTo>
                      <a:pt x="6" y="751"/>
                    </a:lnTo>
                    <a:lnTo>
                      <a:pt x="4" y="752"/>
                    </a:lnTo>
                    <a:lnTo>
                      <a:pt x="1" y="757"/>
                    </a:lnTo>
                    <a:lnTo>
                      <a:pt x="0" y="761"/>
                    </a:lnTo>
                    <a:lnTo>
                      <a:pt x="0" y="765"/>
                    </a:lnTo>
                    <a:lnTo>
                      <a:pt x="2" y="769"/>
                    </a:lnTo>
                    <a:lnTo>
                      <a:pt x="6" y="772"/>
                    </a:lnTo>
                    <a:lnTo>
                      <a:pt x="10" y="774"/>
                    </a:lnTo>
                    <a:lnTo>
                      <a:pt x="15" y="774"/>
                    </a:lnTo>
                    <a:lnTo>
                      <a:pt x="19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28840" y="3621240"/>
                <a:ext cx="144720" cy="60480"/>
              </a:xfrm>
              <a:custGeom>
                <a:avLst/>
                <a:gdLst/>
                <a:ahLst/>
                <a:rect l="l" t="t" r="r" b="b"/>
                <a:pathLst>
                  <a:path w="458" h="187">
                    <a:moveTo>
                      <a:pt x="22" y="181"/>
                    </a:moveTo>
                    <a:lnTo>
                      <a:pt x="17" y="186"/>
                    </a:lnTo>
                    <a:lnTo>
                      <a:pt x="66" y="164"/>
                    </a:lnTo>
                    <a:lnTo>
                      <a:pt x="108" y="147"/>
                    </a:lnTo>
                    <a:lnTo>
                      <a:pt x="145" y="134"/>
                    </a:lnTo>
                    <a:lnTo>
                      <a:pt x="178" y="122"/>
                    </a:lnTo>
                    <a:lnTo>
                      <a:pt x="230" y="105"/>
                    </a:lnTo>
                    <a:lnTo>
                      <a:pt x="273" y="94"/>
                    </a:lnTo>
                    <a:lnTo>
                      <a:pt x="312" y="83"/>
                    </a:lnTo>
                    <a:lnTo>
                      <a:pt x="352" y="71"/>
                    </a:lnTo>
                    <a:lnTo>
                      <a:pt x="374" y="62"/>
                    </a:lnTo>
                    <a:lnTo>
                      <a:pt x="399" y="50"/>
                    </a:lnTo>
                    <a:lnTo>
                      <a:pt x="426" y="38"/>
                    </a:lnTo>
                    <a:lnTo>
                      <a:pt x="458" y="21"/>
                    </a:lnTo>
                    <a:lnTo>
                      <a:pt x="446" y="0"/>
                    </a:lnTo>
                    <a:lnTo>
                      <a:pt x="416" y="16"/>
                    </a:lnTo>
                    <a:lnTo>
                      <a:pt x="389" y="29"/>
                    </a:lnTo>
                    <a:lnTo>
                      <a:pt x="365" y="39"/>
                    </a:lnTo>
                    <a:lnTo>
                      <a:pt x="344" y="48"/>
                    </a:lnTo>
                    <a:lnTo>
                      <a:pt x="305" y="59"/>
                    </a:lnTo>
                    <a:lnTo>
                      <a:pt x="267" y="70"/>
                    </a:lnTo>
                    <a:lnTo>
                      <a:pt x="223" y="82"/>
                    </a:lnTo>
                    <a:lnTo>
                      <a:pt x="170" y="98"/>
                    </a:lnTo>
                    <a:lnTo>
                      <a:pt x="137" y="111"/>
                    </a:lnTo>
                    <a:lnTo>
                      <a:pt x="99" y="124"/>
                    </a:lnTo>
                    <a:lnTo>
                      <a:pt x="56" y="143"/>
                    </a:lnTo>
                    <a:lnTo>
                      <a:pt x="7" y="164"/>
                    </a:lnTo>
                    <a:lnTo>
                      <a:pt x="2" y="168"/>
                    </a:lnTo>
                    <a:lnTo>
                      <a:pt x="7" y="164"/>
                    </a:lnTo>
                    <a:lnTo>
                      <a:pt x="2" y="167"/>
                    </a:lnTo>
                    <a:lnTo>
                      <a:pt x="0" y="171"/>
                    </a:lnTo>
                    <a:lnTo>
                      <a:pt x="0" y="176"/>
                    </a:lnTo>
                    <a:lnTo>
                      <a:pt x="1" y="180"/>
                    </a:lnTo>
                    <a:lnTo>
                      <a:pt x="3" y="184"/>
                    </a:lnTo>
                    <a:lnTo>
                      <a:pt x="7" y="186"/>
                    </a:lnTo>
                    <a:lnTo>
                      <a:pt x="11" y="187"/>
                    </a:lnTo>
                    <a:lnTo>
                      <a:pt x="17" y="186"/>
                    </a:lnTo>
                    <a:lnTo>
                      <a:pt x="22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47840" y="3675240"/>
                <a:ext cx="87480" cy="127080"/>
              </a:xfrm>
              <a:custGeom>
                <a:avLst/>
                <a:gdLst/>
                <a:ahLst/>
                <a:rect l="l" t="t" r="r" b="b"/>
                <a:pathLst>
                  <a:path w="275" h="402">
                    <a:moveTo>
                      <a:pt x="19" y="381"/>
                    </a:moveTo>
                    <a:lnTo>
                      <a:pt x="24" y="390"/>
                    </a:lnTo>
                    <a:lnTo>
                      <a:pt x="24" y="370"/>
                    </a:lnTo>
                    <a:lnTo>
                      <a:pt x="24" y="352"/>
                    </a:lnTo>
                    <a:lnTo>
                      <a:pt x="25" y="336"/>
                    </a:lnTo>
                    <a:lnTo>
                      <a:pt x="26" y="321"/>
                    </a:lnTo>
                    <a:lnTo>
                      <a:pt x="28" y="308"/>
                    </a:lnTo>
                    <a:lnTo>
                      <a:pt x="31" y="295"/>
                    </a:lnTo>
                    <a:lnTo>
                      <a:pt x="35" y="284"/>
                    </a:lnTo>
                    <a:lnTo>
                      <a:pt x="39" y="272"/>
                    </a:lnTo>
                    <a:lnTo>
                      <a:pt x="43" y="263"/>
                    </a:lnTo>
                    <a:lnTo>
                      <a:pt x="48" y="253"/>
                    </a:lnTo>
                    <a:lnTo>
                      <a:pt x="53" y="245"/>
                    </a:lnTo>
                    <a:lnTo>
                      <a:pt x="60" y="236"/>
                    </a:lnTo>
                    <a:lnTo>
                      <a:pt x="74" y="220"/>
                    </a:lnTo>
                    <a:lnTo>
                      <a:pt x="90" y="204"/>
                    </a:lnTo>
                    <a:lnTo>
                      <a:pt x="129" y="172"/>
                    </a:lnTo>
                    <a:lnTo>
                      <a:pt x="173" y="133"/>
                    </a:lnTo>
                    <a:lnTo>
                      <a:pt x="197" y="109"/>
                    </a:lnTo>
                    <a:lnTo>
                      <a:pt x="222" y="83"/>
                    </a:lnTo>
                    <a:lnTo>
                      <a:pt x="236" y="67"/>
                    </a:lnTo>
                    <a:lnTo>
                      <a:pt x="248" y="51"/>
                    </a:lnTo>
                    <a:lnTo>
                      <a:pt x="262" y="33"/>
                    </a:lnTo>
                    <a:lnTo>
                      <a:pt x="275" y="13"/>
                    </a:lnTo>
                    <a:lnTo>
                      <a:pt x="255" y="0"/>
                    </a:lnTo>
                    <a:lnTo>
                      <a:pt x="242" y="19"/>
                    </a:lnTo>
                    <a:lnTo>
                      <a:pt x="229" y="36"/>
                    </a:lnTo>
                    <a:lnTo>
                      <a:pt x="216" y="52"/>
                    </a:lnTo>
                    <a:lnTo>
                      <a:pt x="204" y="66"/>
                    </a:lnTo>
                    <a:lnTo>
                      <a:pt x="180" y="92"/>
                    </a:lnTo>
                    <a:lnTo>
                      <a:pt x="157" y="115"/>
                    </a:lnTo>
                    <a:lnTo>
                      <a:pt x="113" y="154"/>
                    </a:lnTo>
                    <a:lnTo>
                      <a:pt x="74" y="187"/>
                    </a:lnTo>
                    <a:lnTo>
                      <a:pt x="57" y="203"/>
                    </a:lnTo>
                    <a:lnTo>
                      <a:pt x="41" y="221"/>
                    </a:lnTo>
                    <a:lnTo>
                      <a:pt x="34" y="231"/>
                    </a:lnTo>
                    <a:lnTo>
                      <a:pt x="27" y="241"/>
                    </a:lnTo>
                    <a:lnTo>
                      <a:pt x="22" y="252"/>
                    </a:lnTo>
                    <a:lnTo>
                      <a:pt x="16" y="263"/>
                    </a:lnTo>
                    <a:lnTo>
                      <a:pt x="11" y="276"/>
                    </a:lnTo>
                    <a:lnTo>
                      <a:pt x="8" y="289"/>
                    </a:lnTo>
                    <a:lnTo>
                      <a:pt x="4" y="303"/>
                    </a:lnTo>
                    <a:lnTo>
                      <a:pt x="2" y="318"/>
                    </a:lnTo>
                    <a:lnTo>
                      <a:pt x="1" y="335"/>
                    </a:lnTo>
                    <a:lnTo>
                      <a:pt x="0" y="352"/>
                    </a:lnTo>
                    <a:lnTo>
                      <a:pt x="0" y="370"/>
                    </a:lnTo>
                    <a:lnTo>
                      <a:pt x="0" y="391"/>
                    </a:lnTo>
                    <a:lnTo>
                      <a:pt x="6" y="400"/>
                    </a:lnTo>
                    <a:lnTo>
                      <a:pt x="0" y="391"/>
                    </a:lnTo>
                    <a:lnTo>
                      <a:pt x="1" y="395"/>
                    </a:lnTo>
                    <a:lnTo>
                      <a:pt x="4" y="400"/>
                    </a:lnTo>
                    <a:lnTo>
                      <a:pt x="8" y="401"/>
                    </a:lnTo>
                    <a:lnTo>
                      <a:pt x="12" y="402"/>
                    </a:lnTo>
                    <a:lnTo>
                      <a:pt x="17" y="401"/>
                    </a:lnTo>
                    <a:lnTo>
                      <a:pt x="20" y="399"/>
                    </a:lnTo>
                    <a:lnTo>
                      <a:pt x="24" y="394"/>
                    </a:lnTo>
                    <a:lnTo>
                      <a:pt x="24" y="390"/>
                    </a:lnTo>
                    <a:lnTo>
                      <a:pt x="19" y="3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49640" y="3795840"/>
                <a:ext cx="189000" cy="103320"/>
              </a:xfrm>
              <a:custGeom>
                <a:avLst/>
                <a:gdLst/>
                <a:ahLst/>
                <a:rect l="l" t="t" r="r" b="b"/>
                <a:pathLst>
                  <a:path w="593" h="322">
                    <a:moveTo>
                      <a:pt x="569" y="248"/>
                    </a:moveTo>
                    <a:lnTo>
                      <a:pt x="571" y="239"/>
                    </a:lnTo>
                    <a:lnTo>
                      <a:pt x="563" y="254"/>
                    </a:lnTo>
                    <a:lnTo>
                      <a:pt x="554" y="266"/>
                    </a:lnTo>
                    <a:lnTo>
                      <a:pt x="546" y="275"/>
                    </a:lnTo>
                    <a:lnTo>
                      <a:pt x="536" y="283"/>
                    </a:lnTo>
                    <a:lnTo>
                      <a:pt x="526" y="289"/>
                    </a:lnTo>
                    <a:lnTo>
                      <a:pt x="516" y="294"/>
                    </a:lnTo>
                    <a:lnTo>
                      <a:pt x="504" y="296"/>
                    </a:lnTo>
                    <a:lnTo>
                      <a:pt x="493" y="297"/>
                    </a:lnTo>
                    <a:lnTo>
                      <a:pt x="481" y="297"/>
                    </a:lnTo>
                    <a:lnTo>
                      <a:pt x="467" y="295"/>
                    </a:lnTo>
                    <a:lnTo>
                      <a:pt x="452" y="291"/>
                    </a:lnTo>
                    <a:lnTo>
                      <a:pt x="436" y="287"/>
                    </a:lnTo>
                    <a:lnTo>
                      <a:pt x="420" y="280"/>
                    </a:lnTo>
                    <a:lnTo>
                      <a:pt x="404" y="273"/>
                    </a:lnTo>
                    <a:lnTo>
                      <a:pt x="386" y="264"/>
                    </a:lnTo>
                    <a:lnTo>
                      <a:pt x="369" y="254"/>
                    </a:lnTo>
                    <a:lnTo>
                      <a:pt x="330" y="231"/>
                    </a:lnTo>
                    <a:lnTo>
                      <a:pt x="290" y="204"/>
                    </a:lnTo>
                    <a:lnTo>
                      <a:pt x="248" y="174"/>
                    </a:lnTo>
                    <a:lnTo>
                      <a:pt x="205" y="141"/>
                    </a:lnTo>
                    <a:lnTo>
                      <a:pt x="111" y="71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98" y="91"/>
                    </a:lnTo>
                    <a:lnTo>
                      <a:pt x="190" y="160"/>
                    </a:lnTo>
                    <a:lnTo>
                      <a:pt x="234" y="193"/>
                    </a:lnTo>
                    <a:lnTo>
                      <a:pt x="277" y="223"/>
                    </a:lnTo>
                    <a:lnTo>
                      <a:pt x="318" y="251"/>
                    </a:lnTo>
                    <a:lnTo>
                      <a:pt x="356" y="274"/>
                    </a:lnTo>
                    <a:lnTo>
                      <a:pt x="375" y="286"/>
                    </a:lnTo>
                    <a:lnTo>
                      <a:pt x="394" y="295"/>
                    </a:lnTo>
                    <a:lnTo>
                      <a:pt x="411" y="303"/>
                    </a:lnTo>
                    <a:lnTo>
                      <a:pt x="428" y="310"/>
                    </a:lnTo>
                    <a:lnTo>
                      <a:pt x="445" y="315"/>
                    </a:lnTo>
                    <a:lnTo>
                      <a:pt x="462" y="319"/>
                    </a:lnTo>
                    <a:lnTo>
                      <a:pt x="478" y="321"/>
                    </a:lnTo>
                    <a:lnTo>
                      <a:pt x="493" y="322"/>
                    </a:lnTo>
                    <a:lnTo>
                      <a:pt x="509" y="320"/>
                    </a:lnTo>
                    <a:lnTo>
                      <a:pt x="523" y="316"/>
                    </a:lnTo>
                    <a:lnTo>
                      <a:pt x="538" y="311"/>
                    </a:lnTo>
                    <a:lnTo>
                      <a:pt x="550" y="303"/>
                    </a:lnTo>
                    <a:lnTo>
                      <a:pt x="563" y="294"/>
                    </a:lnTo>
                    <a:lnTo>
                      <a:pt x="573" y="281"/>
                    </a:lnTo>
                    <a:lnTo>
                      <a:pt x="583" y="266"/>
                    </a:lnTo>
                    <a:lnTo>
                      <a:pt x="592" y="249"/>
                    </a:lnTo>
                    <a:lnTo>
                      <a:pt x="592" y="241"/>
                    </a:lnTo>
                    <a:lnTo>
                      <a:pt x="592" y="249"/>
                    </a:lnTo>
                    <a:lnTo>
                      <a:pt x="593" y="245"/>
                    </a:lnTo>
                    <a:lnTo>
                      <a:pt x="592" y="240"/>
                    </a:lnTo>
                    <a:lnTo>
                      <a:pt x="590" y="237"/>
                    </a:lnTo>
                    <a:lnTo>
                      <a:pt x="587" y="233"/>
                    </a:lnTo>
                    <a:lnTo>
                      <a:pt x="582" y="232"/>
                    </a:lnTo>
                    <a:lnTo>
                      <a:pt x="577" y="233"/>
                    </a:lnTo>
                    <a:lnTo>
                      <a:pt x="573" y="236"/>
                    </a:lnTo>
                    <a:lnTo>
                      <a:pt x="571" y="239"/>
                    </a:lnTo>
                    <a:lnTo>
                      <a:pt x="569" y="2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324240" y="3691080"/>
                <a:ext cx="93600" cy="184320"/>
              </a:xfrm>
              <a:custGeom>
                <a:avLst/>
                <a:gdLst/>
                <a:ahLst/>
                <a:rect l="l" t="t" r="r" b="b"/>
                <a:pathLst>
                  <a:path w="296" h="577">
                    <a:moveTo>
                      <a:pt x="280" y="0"/>
                    </a:moveTo>
                    <a:lnTo>
                      <a:pt x="273" y="6"/>
                    </a:lnTo>
                    <a:lnTo>
                      <a:pt x="249" y="39"/>
                    </a:lnTo>
                    <a:lnTo>
                      <a:pt x="223" y="71"/>
                    </a:lnTo>
                    <a:lnTo>
                      <a:pt x="197" y="102"/>
                    </a:lnTo>
                    <a:lnTo>
                      <a:pt x="169" y="132"/>
                    </a:lnTo>
                    <a:lnTo>
                      <a:pt x="142" y="162"/>
                    </a:lnTo>
                    <a:lnTo>
                      <a:pt x="115" y="192"/>
                    </a:lnTo>
                    <a:lnTo>
                      <a:pt x="90" y="221"/>
                    </a:lnTo>
                    <a:lnTo>
                      <a:pt x="67" y="252"/>
                    </a:lnTo>
                    <a:lnTo>
                      <a:pt x="56" y="269"/>
                    </a:lnTo>
                    <a:lnTo>
                      <a:pt x="45" y="285"/>
                    </a:lnTo>
                    <a:lnTo>
                      <a:pt x="36" y="302"/>
                    </a:lnTo>
                    <a:lnTo>
                      <a:pt x="27" y="319"/>
                    </a:lnTo>
                    <a:lnTo>
                      <a:pt x="20" y="337"/>
                    </a:lnTo>
                    <a:lnTo>
                      <a:pt x="13" y="356"/>
                    </a:lnTo>
                    <a:lnTo>
                      <a:pt x="8" y="374"/>
                    </a:lnTo>
                    <a:lnTo>
                      <a:pt x="4" y="394"/>
                    </a:lnTo>
                    <a:lnTo>
                      <a:pt x="1" y="414"/>
                    </a:lnTo>
                    <a:lnTo>
                      <a:pt x="0" y="435"/>
                    </a:lnTo>
                    <a:lnTo>
                      <a:pt x="0" y="456"/>
                    </a:lnTo>
                    <a:lnTo>
                      <a:pt x="1" y="479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4" y="552"/>
                    </a:lnTo>
                    <a:lnTo>
                      <a:pt x="22" y="577"/>
                    </a:lnTo>
                    <a:lnTo>
                      <a:pt x="45" y="570"/>
                    </a:lnTo>
                    <a:lnTo>
                      <a:pt x="37" y="545"/>
                    </a:lnTo>
                    <a:lnTo>
                      <a:pt x="32" y="521"/>
                    </a:lnTo>
                    <a:lnTo>
                      <a:pt x="27" y="498"/>
                    </a:lnTo>
                    <a:lnTo>
                      <a:pt x="25" y="477"/>
                    </a:lnTo>
                    <a:lnTo>
                      <a:pt x="24" y="456"/>
                    </a:lnTo>
                    <a:lnTo>
                      <a:pt x="24" y="436"/>
                    </a:lnTo>
                    <a:lnTo>
                      <a:pt x="25" y="416"/>
                    </a:lnTo>
                    <a:lnTo>
                      <a:pt x="28" y="398"/>
                    </a:lnTo>
                    <a:lnTo>
                      <a:pt x="32" y="380"/>
                    </a:lnTo>
                    <a:lnTo>
                      <a:pt x="36" y="363"/>
                    </a:lnTo>
                    <a:lnTo>
                      <a:pt x="43" y="346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6" y="298"/>
                    </a:lnTo>
                    <a:lnTo>
                      <a:pt x="76" y="282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3" y="208"/>
                    </a:lnTo>
                    <a:lnTo>
                      <a:pt x="159" y="178"/>
                    </a:lnTo>
                    <a:lnTo>
                      <a:pt x="187" y="148"/>
                    </a:lnTo>
                    <a:lnTo>
                      <a:pt x="215" y="118"/>
                    </a:lnTo>
                    <a:lnTo>
                      <a:pt x="242" y="87"/>
                    </a:lnTo>
                    <a:lnTo>
                      <a:pt x="269" y="54"/>
                    </a:lnTo>
                    <a:lnTo>
                      <a:pt x="294" y="20"/>
                    </a:lnTo>
                    <a:lnTo>
                      <a:pt x="287" y="24"/>
                    </a:lnTo>
                    <a:lnTo>
                      <a:pt x="294" y="20"/>
                    </a:lnTo>
                    <a:lnTo>
                      <a:pt x="296" y="14"/>
                    </a:lnTo>
                    <a:lnTo>
                      <a:pt x="295" y="9"/>
                    </a:lnTo>
                    <a:lnTo>
                      <a:pt x="294" y="6"/>
                    </a:lnTo>
                    <a:lnTo>
                      <a:pt x="290" y="3"/>
                    </a:lnTo>
                    <a:lnTo>
                      <a:pt x="286" y="0"/>
                    </a:lnTo>
                    <a:lnTo>
                      <a:pt x="281" y="0"/>
                    </a:lnTo>
                    <a:lnTo>
                      <a:pt x="278" y="1"/>
                    </a:lnTo>
                    <a:lnTo>
                      <a:pt x="273" y="6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13160" y="3570480"/>
                <a:ext cx="419040" cy="128520"/>
              </a:xfrm>
              <a:custGeom>
                <a:avLst/>
                <a:gdLst/>
                <a:ahLst/>
                <a:rect l="l" t="t" r="r" b="b"/>
                <a:pathLst>
                  <a:path w="1321" h="407">
                    <a:moveTo>
                      <a:pt x="1298" y="8"/>
                    </a:moveTo>
                    <a:lnTo>
                      <a:pt x="1306" y="1"/>
                    </a:lnTo>
                    <a:lnTo>
                      <a:pt x="1143" y="49"/>
                    </a:lnTo>
                    <a:lnTo>
                      <a:pt x="980" y="97"/>
                    </a:lnTo>
                    <a:lnTo>
                      <a:pt x="817" y="145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8" y="289"/>
                    </a:lnTo>
                    <a:lnTo>
                      <a:pt x="164" y="336"/>
                    </a:lnTo>
                    <a:lnTo>
                      <a:pt x="0" y="383"/>
                    </a:lnTo>
                    <a:lnTo>
                      <a:pt x="7" y="407"/>
                    </a:lnTo>
                    <a:lnTo>
                      <a:pt x="171" y="359"/>
                    </a:lnTo>
                    <a:lnTo>
                      <a:pt x="335" y="311"/>
                    </a:lnTo>
                    <a:lnTo>
                      <a:pt x="498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50" y="72"/>
                    </a:lnTo>
                    <a:lnTo>
                      <a:pt x="1313" y="24"/>
                    </a:lnTo>
                    <a:lnTo>
                      <a:pt x="1321" y="17"/>
                    </a:lnTo>
                    <a:lnTo>
                      <a:pt x="1313" y="24"/>
                    </a:lnTo>
                    <a:lnTo>
                      <a:pt x="1317" y="22"/>
                    </a:lnTo>
                    <a:lnTo>
                      <a:pt x="1320" y="18"/>
                    </a:lnTo>
                    <a:lnTo>
                      <a:pt x="1321" y="14"/>
                    </a:lnTo>
                    <a:lnTo>
                      <a:pt x="1321" y="9"/>
                    </a:lnTo>
                    <a:lnTo>
                      <a:pt x="1319" y="5"/>
                    </a:lnTo>
                    <a:lnTo>
                      <a:pt x="1315" y="2"/>
                    </a:lnTo>
                    <a:lnTo>
                      <a:pt x="1311" y="0"/>
                    </a:lnTo>
                    <a:lnTo>
                      <a:pt x="1306" y="1"/>
                    </a:lnTo>
                    <a:lnTo>
                      <a:pt x="129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776760" y="338328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6">
                    <a:moveTo>
                      <a:pt x="17" y="24"/>
                    </a:moveTo>
                    <a:lnTo>
                      <a:pt x="4" y="21"/>
                    </a:lnTo>
                    <a:lnTo>
                      <a:pt x="20" y="37"/>
                    </a:lnTo>
                    <a:lnTo>
                      <a:pt x="36" y="55"/>
                    </a:lnTo>
                    <a:lnTo>
                      <a:pt x="52" y="70"/>
                    </a:lnTo>
                    <a:lnTo>
                      <a:pt x="66" y="88"/>
                    </a:lnTo>
                    <a:lnTo>
                      <a:pt x="79" y="105"/>
                    </a:lnTo>
                    <a:lnTo>
                      <a:pt x="93" y="122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90"/>
                    </a:lnTo>
                    <a:lnTo>
                      <a:pt x="144" y="207"/>
                    </a:lnTo>
                    <a:lnTo>
                      <a:pt x="154" y="224"/>
                    </a:lnTo>
                    <a:lnTo>
                      <a:pt x="160" y="243"/>
                    </a:lnTo>
                    <a:lnTo>
                      <a:pt x="167" y="260"/>
                    </a:lnTo>
                    <a:lnTo>
                      <a:pt x="173" y="278"/>
                    </a:lnTo>
                    <a:lnTo>
                      <a:pt x="177" y="296"/>
                    </a:lnTo>
                    <a:lnTo>
                      <a:pt x="182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90" y="368"/>
                    </a:lnTo>
                    <a:lnTo>
                      <a:pt x="191" y="386"/>
                    </a:lnTo>
                    <a:lnTo>
                      <a:pt x="191" y="406"/>
                    </a:lnTo>
                    <a:lnTo>
                      <a:pt x="190" y="424"/>
                    </a:lnTo>
                    <a:lnTo>
                      <a:pt x="189" y="442"/>
                    </a:lnTo>
                    <a:lnTo>
                      <a:pt x="187" y="462"/>
                    </a:lnTo>
                    <a:lnTo>
                      <a:pt x="184" y="481"/>
                    </a:lnTo>
                    <a:lnTo>
                      <a:pt x="181" y="499"/>
                    </a:lnTo>
                    <a:lnTo>
                      <a:pt x="176" y="519"/>
                    </a:lnTo>
                    <a:lnTo>
                      <a:pt x="171" y="538"/>
                    </a:lnTo>
                    <a:lnTo>
                      <a:pt x="165" y="557"/>
                    </a:lnTo>
                    <a:lnTo>
                      <a:pt x="158" y="577"/>
                    </a:lnTo>
                    <a:lnTo>
                      <a:pt x="150" y="597"/>
                    </a:lnTo>
                    <a:lnTo>
                      <a:pt x="173" y="606"/>
                    </a:lnTo>
                    <a:lnTo>
                      <a:pt x="181" y="586"/>
                    </a:lnTo>
                    <a:lnTo>
                      <a:pt x="188" y="565"/>
                    </a:lnTo>
                    <a:lnTo>
                      <a:pt x="193" y="545"/>
                    </a:lnTo>
                    <a:lnTo>
                      <a:pt x="199" y="524"/>
                    </a:lnTo>
                    <a:lnTo>
                      <a:pt x="204" y="505"/>
                    </a:lnTo>
                    <a:lnTo>
                      <a:pt x="208" y="484"/>
                    </a:lnTo>
                    <a:lnTo>
                      <a:pt x="211" y="465"/>
                    </a:lnTo>
                    <a:lnTo>
                      <a:pt x="213" y="444"/>
                    </a:lnTo>
                    <a:lnTo>
                      <a:pt x="215" y="425"/>
                    </a:lnTo>
                    <a:lnTo>
                      <a:pt x="215" y="406"/>
                    </a:lnTo>
                    <a:lnTo>
                      <a:pt x="215" y="386"/>
                    </a:lnTo>
                    <a:lnTo>
                      <a:pt x="214" y="367"/>
                    </a:lnTo>
                    <a:lnTo>
                      <a:pt x="212" y="348"/>
                    </a:lnTo>
                    <a:lnTo>
                      <a:pt x="209" y="328"/>
                    </a:lnTo>
                    <a:lnTo>
                      <a:pt x="206" y="309"/>
                    </a:lnTo>
                    <a:lnTo>
                      <a:pt x="201" y="289"/>
                    </a:lnTo>
                    <a:lnTo>
                      <a:pt x="196" y="271"/>
                    </a:lnTo>
                    <a:lnTo>
                      <a:pt x="190" y="252"/>
                    </a:lnTo>
                    <a:lnTo>
                      <a:pt x="183" y="234"/>
                    </a:lnTo>
                    <a:lnTo>
                      <a:pt x="175" y="215"/>
                    </a:lnTo>
                    <a:lnTo>
                      <a:pt x="167" y="197"/>
                    </a:lnTo>
                    <a:lnTo>
                      <a:pt x="157" y="179"/>
                    </a:lnTo>
                    <a:lnTo>
                      <a:pt x="147" y="161"/>
                    </a:lnTo>
                    <a:lnTo>
                      <a:pt x="136" y="142"/>
                    </a:lnTo>
                    <a:lnTo>
                      <a:pt x="125" y="124"/>
                    </a:lnTo>
                    <a:lnTo>
                      <a:pt x="113" y="107"/>
                    </a:lnTo>
                    <a:lnTo>
                      <a:pt x="99" y="90"/>
                    </a:lnTo>
                    <a:lnTo>
                      <a:pt x="85" y="72"/>
                    </a:lnTo>
                    <a:lnTo>
                      <a:pt x="70" y="55"/>
                    </a:lnTo>
                    <a:lnTo>
                      <a:pt x="54" y="37"/>
                    </a:lnTo>
                    <a:lnTo>
                      <a:pt x="37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00440" y="3057840"/>
                <a:ext cx="693720" cy="528480"/>
              </a:xfrm>
              <a:custGeom>
                <a:avLst/>
                <a:gdLst/>
                <a:ahLst/>
                <a:rect l="l" t="t" r="r" b="b"/>
                <a:pathLst>
                  <a:path w="2185" h="1666">
                    <a:moveTo>
                      <a:pt x="2007" y="0"/>
                    </a:moveTo>
                    <a:lnTo>
                      <a:pt x="1982" y="5"/>
                    </a:lnTo>
                    <a:lnTo>
                      <a:pt x="1955" y="12"/>
                    </a:lnTo>
                    <a:lnTo>
                      <a:pt x="1924" y="20"/>
                    </a:lnTo>
                    <a:lnTo>
                      <a:pt x="1891" y="29"/>
                    </a:lnTo>
                    <a:lnTo>
                      <a:pt x="1818" y="52"/>
                    </a:lnTo>
                    <a:lnTo>
                      <a:pt x="1737" y="79"/>
                    </a:lnTo>
                    <a:lnTo>
                      <a:pt x="1650" y="111"/>
                    </a:lnTo>
                    <a:lnTo>
                      <a:pt x="1558" y="147"/>
                    </a:lnTo>
                    <a:lnTo>
                      <a:pt x="1463" y="187"/>
                    </a:lnTo>
                    <a:lnTo>
                      <a:pt x="1367" y="229"/>
                    </a:lnTo>
                    <a:lnTo>
                      <a:pt x="1318" y="250"/>
                    </a:lnTo>
                    <a:lnTo>
                      <a:pt x="1270" y="273"/>
                    </a:lnTo>
                    <a:lnTo>
                      <a:pt x="1222" y="296"/>
                    </a:lnTo>
                    <a:lnTo>
                      <a:pt x="1176" y="319"/>
                    </a:lnTo>
                    <a:lnTo>
                      <a:pt x="1129" y="343"/>
                    </a:lnTo>
                    <a:lnTo>
                      <a:pt x="1083" y="367"/>
                    </a:lnTo>
                    <a:lnTo>
                      <a:pt x="1039" y="392"/>
                    </a:lnTo>
                    <a:lnTo>
                      <a:pt x="997" y="416"/>
                    </a:lnTo>
                    <a:lnTo>
                      <a:pt x="954" y="440"/>
                    </a:lnTo>
                    <a:lnTo>
                      <a:pt x="916" y="465"/>
                    </a:lnTo>
                    <a:lnTo>
                      <a:pt x="878" y="490"/>
                    </a:lnTo>
                    <a:lnTo>
                      <a:pt x="843" y="514"/>
                    </a:lnTo>
                    <a:lnTo>
                      <a:pt x="809" y="538"/>
                    </a:lnTo>
                    <a:lnTo>
                      <a:pt x="779" y="563"/>
                    </a:lnTo>
                    <a:lnTo>
                      <a:pt x="750" y="587"/>
                    </a:lnTo>
                    <a:lnTo>
                      <a:pt x="725" y="610"/>
                    </a:lnTo>
                    <a:lnTo>
                      <a:pt x="701" y="618"/>
                    </a:lnTo>
                    <a:lnTo>
                      <a:pt x="677" y="627"/>
                    </a:lnTo>
                    <a:lnTo>
                      <a:pt x="655" y="636"/>
                    </a:lnTo>
                    <a:lnTo>
                      <a:pt x="631" y="647"/>
                    </a:lnTo>
                    <a:lnTo>
                      <a:pt x="608" y="660"/>
                    </a:lnTo>
                    <a:lnTo>
                      <a:pt x="585" y="672"/>
                    </a:lnTo>
                    <a:lnTo>
                      <a:pt x="562" y="686"/>
                    </a:lnTo>
                    <a:lnTo>
                      <a:pt x="540" y="701"/>
                    </a:lnTo>
                    <a:lnTo>
                      <a:pt x="495" y="732"/>
                    </a:lnTo>
                    <a:lnTo>
                      <a:pt x="452" y="766"/>
                    </a:lnTo>
                    <a:lnTo>
                      <a:pt x="407" y="800"/>
                    </a:lnTo>
                    <a:lnTo>
                      <a:pt x="364" y="835"/>
                    </a:lnTo>
                    <a:lnTo>
                      <a:pt x="320" y="871"/>
                    </a:lnTo>
                    <a:lnTo>
                      <a:pt x="276" y="906"/>
                    </a:lnTo>
                    <a:lnTo>
                      <a:pt x="232" y="939"/>
                    </a:lnTo>
                    <a:lnTo>
                      <a:pt x="187" y="970"/>
                    </a:lnTo>
                    <a:lnTo>
                      <a:pt x="165" y="985"/>
                    </a:lnTo>
                    <a:lnTo>
                      <a:pt x="142" y="999"/>
                    </a:lnTo>
                    <a:lnTo>
                      <a:pt x="119" y="1012"/>
                    </a:lnTo>
                    <a:lnTo>
                      <a:pt x="95" y="1025"/>
                    </a:lnTo>
                    <a:lnTo>
                      <a:pt x="72" y="1036"/>
                    </a:lnTo>
                    <a:lnTo>
                      <a:pt x="48" y="1045"/>
                    </a:lnTo>
                    <a:lnTo>
                      <a:pt x="24" y="1054"/>
                    </a:lnTo>
                    <a:lnTo>
                      <a:pt x="0" y="1062"/>
                    </a:lnTo>
                    <a:lnTo>
                      <a:pt x="28" y="1076"/>
                    </a:lnTo>
                    <a:lnTo>
                      <a:pt x="55" y="1090"/>
                    </a:lnTo>
                    <a:lnTo>
                      <a:pt x="80" y="1104"/>
                    </a:lnTo>
                    <a:lnTo>
                      <a:pt x="105" y="1120"/>
                    </a:lnTo>
                    <a:lnTo>
                      <a:pt x="128" y="1136"/>
                    </a:lnTo>
                    <a:lnTo>
                      <a:pt x="150" y="1153"/>
                    </a:lnTo>
                    <a:lnTo>
                      <a:pt x="170" y="1172"/>
                    </a:lnTo>
                    <a:lnTo>
                      <a:pt x="189" y="1190"/>
                    </a:lnTo>
                    <a:lnTo>
                      <a:pt x="207" y="1208"/>
                    </a:lnTo>
                    <a:lnTo>
                      <a:pt x="224" y="1227"/>
                    </a:lnTo>
                    <a:lnTo>
                      <a:pt x="239" y="1247"/>
                    </a:lnTo>
                    <a:lnTo>
                      <a:pt x="252" y="1266"/>
                    </a:lnTo>
                    <a:lnTo>
                      <a:pt x="266" y="1287"/>
                    </a:lnTo>
                    <a:lnTo>
                      <a:pt x="277" y="1307"/>
                    </a:lnTo>
                    <a:lnTo>
                      <a:pt x="288" y="1328"/>
                    </a:lnTo>
                    <a:lnTo>
                      <a:pt x="297" y="1348"/>
                    </a:lnTo>
                    <a:lnTo>
                      <a:pt x="305" y="1370"/>
                    </a:lnTo>
                    <a:lnTo>
                      <a:pt x="312" y="1390"/>
                    </a:lnTo>
                    <a:lnTo>
                      <a:pt x="318" y="1412"/>
                    </a:lnTo>
                    <a:lnTo>
                      <a:pt x="323" y="1433"/>
                    </a:lnTo>
                    <a:lnTo>
                      <a:pt x="326" y="1453"/>
                    </a:lnTo>
                    <a:lnTo>
                      <a:pt x="329" y="1475"/>
                    </a:lnTo>
                    <a:lnTo>
                      <a:pt x="330" y="1495"/>
                    </a:lnTo>
                    <a:lnTo>
                      <a:pt x="330" y="1516"/>
                    </a:lnTo>
                    <a:lnTo>
                      <a:pt x="329" y="1536"/>
                    </a:lnTo>
                    <a:lnTo>
                      <a:pt x="326" y="1556"/>
                    </a:lnTo>
                    <a:lnTo>
                      <a:pt x="324" y="1575"/>
                    </a:lnTo>
                    <a:lnTo>
                      <a:pt x="320" y="1595"/>
                    </a:lnTo>
                    <a:lnTo>
                      <a:pt x="315" y="1613"/>
                    </a:lnTo>
                    <a:lnTo>
                      <a:pt x="308" y="1632"/>
                    </a:lnTo>
                    <a:lnTo>
                      <a:pt x="301" y="1649"/>
                    </a:lnTo>
                    <a:lnTo>
                      <a:pt x="293" y="1666"/>
                    </a:lnTo>
                    <a:lnTo>
                      <a:pt x="347" y="1655"/>
                    </a:lnTo>
                    <a:lnTo>
                      <a:pt x="403" y="1641"/>
                    </a:lnTo>
                    <a:lnTo>
                      <a:pt x="460" y="1625"/>
                    </a:lnTo>
                    <a:lnTo>
                      <a:pt x="519" y="1606"/>
                    </a:lnTo>
                    <a:lnTo>
                      <a:pt x="579" y="1585"/>
                    </a:lnTo>
                    <a:lnTo>
                      <a:pt x="640" y="1563"/>
                    </a:lnTo>
                    <a:lnTo>
                      <a:pt x="701" y="1538"/>
                    </a:lnTo>
                    <a:lnTo>
                      <a:pt x="765" y="1511"/>
                    </a:lnTo>
                    <a:lnTo>
                      <a:pt x="828" y="1483"/>
                    </a:lnTo>
                    <a:lnTo>
                      <a:pt x="892" y="1452"/>
                    </a:lnTo>
                    <a:lnTo>
                      <a:pt x="957" y="1421"/>
                    </a:lnTo>
                    <a:lnTo>
                      <a:pt x="1022" y="1388"/>
                    </a:lnTo>
                    <a:lnTo>
                      <a:pt x="1087" y="1354"/>
                    </a:lnTo>
                    <a:lnTo>
                      <a:pt x="1152" y="1319"/>
                    </a:lnTo>
                    <a:lnTo>
                      <a:pt x="1217" y="1282"/>
                    </a:lnTo>
                    <a:lnTo>
                      <a:pt x="1281" y="1245"/>
                    </a:lnTo>
                    <a:lnTo>
                      <a:pt x="1346" y="1207"/>
                    </a:lnTo>
                    <a:lnTo>
                      <a:pt x="1410" y="1168"/>
                    </a:lnTo>
                    <a:lnTo>
                      <a:pt x="1473" y="1128"/>
                    </a:lnTo>
                    <a:lnTo>
                      <a:pt x="1536" y="1088"/>
                    </a:lnTo>
                    <a:lnTo>
                      <a:pt x="1598" y="1048"/>
                    </a:lnTo>
                    <a:lnTo>
                      <a:pt x="1659" y="1007"/>
                    </a:lnTo>
                    <a:lnTo>
                      <a:pt x="1719" y="968"/>
                    </a:lnTo>
                    <a:lnTo>
                      <a:pt x="1777" y="926"/>
                    </a:lnTo>
                    <a:lnTo>
                      <a:pt x="1834" y="887"/>
                    </a:lnTo>
                    <a:lnTo>
                      <a:pt x="1890" y="846"/>
                    </a:lnTo>
                    <a:lnTo>
                      <a:pt x="1944" y="806"/>
                    </a:lnTo>
                    <a:lnTo>
                      <a:pt x="1996" y="766"/>
                    </a:lnTo>
                    <a:lnTo>
                      <a:pt x="2047" y="727"/>
                    </a:lnTo>
                    <a:lnTo>
                      <a:pt x="2095" y="689"/>
                    </a:lnTo>
                    <a:lnTo>
                      <a:pt x="2142" y="652"/>
                    </a:lnTo>
                    <a:lnTo>
                      <a:pt x="2185" y="615"/>
                    </a:lnTo>
                    <a:lnTo>
                      <a:pt x="2174" y="598"/>
                    </a:lnTo>
                    <a:lnTo>
                      <a:pt x="2162" y="581"/>
                    </a:lnTo>
                    <a:lnTo>
                      <a:pt x="2153" y="563"/>
                    </a:lnTo>
                    <a:lnTo>
                      <a:pt x="2144" y="545"/>
                    </a:lnTo>
                    <a:lnTo>
                      <a:pt x="2136" y="526"/>
                    </a:lnTo>
                    <a:lnTo>
                      <a:pt x="2129" y="507"/>
                    </a:lnTo>
                    <a:lnTo>
                      <a:pt x="2124" y="488"/>
                    </a:lnTo>
                    <a:lnTo>
                      <a:pt x="2119" y="468"/>
                    </a:lnTo>
                    <a:lnTo>
                      <a:pt x="2111" y="429"/>
                    </a:lnTo>
                    <a:lnTo>
                      <a:pt x="2104" y="390"/>
                    </a:lnTo>
                    <a:lnTo>
                      <a:pt x="2100" y="349"/>
                    </a:lnTo>
                    <a:lnTo>
                      <a:pt x="2096" y="309"/>
                    </a:lnTo>
                    <a:lnTo>
                      <a:pt x="2092" y="268"/>
                    </a:lnTo>
                    <a:lnTo>
                      <a:pt x="2087" y="228"/>
                    </a:lnTo>
                    <a:lnTo>
                      <a:pt x="2080" y="187"/>
                    </a:lnTo>
                    <a:lnTo>
                      <a:pt x="2072" y="148"/>
                    </a:lnTo>
                    <a:lnTo>
                      <a:pt x="2068" y="128"/>
                    </a:lnTo>
                    <a:lnTo>
                      <a:pt x="2062" y="109"/>
                    </a:lnTo>
                    <a:lnTo>
                      <a:pt x="2055" y="90"/>
                    </a:lnTo>
                    <a:lnTo>
                      <a:pt x="2048" y="71"/>
                    </a:lnTo>
                    <a:lnTo>
                      <a:pt x="2039" y="53"/>
                    </a:lnTo>
                    <a:lnTo>
                      <a:pt x="2030" y="35"/>
                    </a:lnTo>
                    <a:lnTo>
                      <a:pt x="2019" y="18"/>
                    </a:lnTo>
                    <a:lnTo>
                      <a:pt x="2007" y="0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927600" y="3053160"/>
                <a:ext cx="411120" cy="201600"/>
              </a:xfrm>
              <a:custGeom>
                <a:avLst/>
                <a:gdLst/>
                <a:ahLst/>
                <a:rect l="l" t="t" r="r" b="b"/>
                <a:pathLst>
                  <a:path w="1296" h="634">
                    <a:moveTo>
                      <a:pt x="15" y="634"/>
                    </a:moveTo>
                    <a:lnTo>
                      <a:pt x="20" y="631"/>
                    </a:lnTo>
                    <a:lnTo>
                      <a:pt x="44" y="608"/>
                    </a:lnTo>
                    <a:lnTo>
                      <a:pt x="72" y="584"/>
                    </a:lnTo>
                    <a:lnTo>
                      <a:pt x="103" y="560"/>
                    </a:lnTo>
                    <a:lnTo>
                      <a:pt x="136" y="536"/>
                    </a:lnTo>
                    <a:lnTo>
                      <a:pt x="171" y="511"/>
                    </a:lnTo>
                    <a:lnTo>
                      <a:pt x="207" y="487"/>
                    </a:lnTo>
                    <a:lnTo>
                      <a:pt x="247" y="463"/>
                    </a:lnTo>
                    <a:lnTo>
                      <a:pt x="288" y="438"/>
                    </a:lnTo>
                    <a:lnTo>
                      <a:pt x="330" y="414"/>
                    </a:lnTo>
                    <a:lnTo>
                      <a:pt x="375" y="390"/>
                    </a:lnTo>
                    <a:lnTo>
                      <a:pt x="420" y="366"/>
                    </a:lnTo>
                    <a:lnTo>
                      <a:pt x="466" y="342"/>
                    </a:lnTo>
                    <a:lnTo>
                      <a:pt x="514" y="318"/>
                    </a:lnTo>
                    <a:lnTo>
                      <a:pt x="561" y="296"/>
                    </a:lnTo>
                    <a:lnTo>
                      <a:pt x="610" y="274"/>
                    </a:lnTo>
                    <a:lnTo>
                      <a:pt x="658" y="251"/>
                    </a:lnTo>
                    <a:lnTo>
                      <a:pt x="753" y="209"/>
                    </a:lnTo>
                    <a:lnTo>
                      <a:pt x="849" y="170"/>
                    </a:lnTo>
                    <a:lnTo>
                      <a:pt x="940" y="135"/>
                    </a:lnTo>
                    <a:lnTo>
                      <a:pt x="1027" y="103"/>
                    </a:lnTo>
                    <a:lnTo>
                      <a:pt x="1108" y="76"/>
                    </a:lnTo>
                    <a:lnTo>
                      <a:pt x="1181" y="53"/>
                    </a:lnTo>
                    <a:lnTo>
                      <a:pt x="1214" y="44"/>
                    </a:lnTo>
                    <a:lnTo>
                      <a:pt x="1243" y="36"/>
                    </a:lnTo>
                    <a:lnTo>
                      <a:pt x="1271" y="29"/>
                    </a:lnTo>
                    <a:lnTo>
                      <a:pt x="1296" y="24"/>
                    </a:lnTo>
                    <a:lnTo>
                      <a:pt x="1291" y="0"/>
                    </a:lnTo>
                    <a:lnTo>
                      <a:pt x="1266" y="5"/>
                    </a:lnTo>
                    <a:lnTo>
                      <a:pt x="1238" y="12"/>
                    </a:lnTo>
                    <a:lnTo>
                      <a:pt x="1207" y="20"/>
                    </a:lnTo>
                    <a:lnTo>
                      <a:pt x="1174" y="30"/>
                    </a:lnTo>
                    <a:lnTo>
                      <a:pt x="1100" y="53"/>
                    </a:lnTo>
                    <a:lnTo>
                      <a:pt x="1019" y="80"/>
                    </a:lnTo>
                    <a:lnTo>
                      <a:pt x="931" y="112"/>
                    </a:lnTo>
                    <a:lnTo>
                      <a:pt x="840" y="147"/>
                    </a:lnTo>
                    <a:lnTo>
                      <a:pt x="744" y="187"/>
                    </a:lnTo>
                    <a:lnTo>
                      <a:pt x="647" y="229"/>
                    </a:lnTo>
                    <a:lnTo>
                      <a:pt x="599" y="251"/>
                    </a:lnTo>
                    <a:lnTo>
                      <a:pt x="550" y="274"/>
                    </a:lnTo>
                    <a:lnTo>
                      <a:pt x="503" y="297"/>
                    </a:lnTo>
                    <a:lnTo>
                      <a:pt x="456" y="321"/>
                    </a:lnTo>
                    <a:lnTo>
                      <a:pt x="409" y="345"/>
                    </a:lnTo>
                    <a:lnTo>
                      <a:pt x="363" y="368"/>
                    </a:lnTo>
                    <a:lnTo>
                      <a:pt x="319" y="392"/>
                    </a:lnTo>
                    <a:lnTo>
                      <a:pt x="276" y="418"/>
                    </a:lnTo>
                    <a:lnTo>
                      <a:pt x="235" y="441"/>
                    </a:lnTo>
                    <a:lnTo>
                      <a:pt x="195" y="467"/>
                    </a:lnTo>
                    <a:lnTo>
                      <a:pt x="157" y="492"/>
                    </a:lnTo>
                    <a:lnTo>
                      <a:pt x="121" y="516"/>
                    </a:lnTo>
                    <a:lnTo>
                      <a:pt x="88" y="541"/>
                    </a:lnTo>
                    <a:lnTo>
                      <a:pt x="57" y="565"/>
                    </a:lnTo>
                    <a:lnTo>
                      <a:pt x="28" y="590"/>
                    </a:lnTo>
                    <a:lnTo>
                      <a:pt x="3" y="614"/>
                    </a:lnTo>
                    <a:lnTo>
                      <a:pt x="9" y="610"/>
                    </a:lnTo>
                    <a:lnTo>
                      <a:pt x="3" y="614"/>
                    </a:lnTo>
                    <a:lnTo>
                      <a:pt x="0" y="618"/>
                    </a:lnTo>
                    <a:lnTo>
                      <a:pt x="0" y="623"/>
                    </a:lnTo>
                    <a:lnTo>
                      <a:pt x="1" y="627"/>
                    </a:lnTo>
                    <a:lnTo>
                      <a:pt x="3" y="631"/>
                    </a:lnTo>
                    <a:lnTo>
                      <a:pt x="7" y="633"/>
                    </a:lnTo>
                    <a:lnTo>
                      <a:pt x="11" y="634"/>
                    </a:lnTo>
                    <a:lnTo>
                      <a:pt x="16" y="633"/>
                    </a:lnTo>
                    <a:lnTo>
                      <a:pt x="20" y="631"/>
                    </a:lnTo>
                    <a:lnTo>
                      <a:pt x="15" y="6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697200" y="3246840"/>
                <a:ext cx="235080" cy="152280"/>
              </a:xfrm>
              <a:custGeom>
                <a:avLst/>
                <a:gdLst/>
                <a:ahLst/>
                <a:rect l="l" t="t" r="r" b="b"/>
                <a:pathLst>
                  <a:path w="741" h="477">
                    <a:moveTo>
                      <a:pt x="17" y="453"/>
                    </a:moveTo>
                    <a:lnTo>
                      <a:pt x="16" y="476"/>
                    </a:lnTo>
                    <a:lnTo>
                      <a:pt x="40" y="468"/>
                    </a:lnTo>
                    <a:lnTo>
                      <a:pt x="65" y="458"/>
                    </a:lnTo>
                    <a:lnTo>
                      <a:pt x="89" y="448"/>
                    </a:lnTo>
                    <a:lnTo>
                      <a:pt x="113" y="437"/>
                    </a:lnTo>
                    <a:lnTo>
                      <a:pt x="137" y="424"/>
                    </a:lnTo>
                    <a:lnTo>
                      <a:pt x="160" y="412"/>
                    </a:lnTo>
                    <a:lnTo>
                      <a:pt x="182" y="397"/>
                    </a:lnTo>
                    <a:lnTo>
                      <a:pt x="205" y="382"/>
                    </a:lnTo>
                    <a:lnTo>
                      <a:pt x="251" y="350"/>
                    </a:lnTo>
                    <a:lnTo>
                      <a:pt x="295" y="317"/>
                    </a:lnTo>
                    <a:lnTo>
                      <a:pt x="340" y="282"/>
                    </a:lnTo>
                    <a:lnTo>
                      <a:pt x="383" y="246"/>
                    </a:lnTo>
                    <a:lnTo>
                      <a:pt x="427" y="211"/>
                    </a:lnTo>
                    <a:lnTo>
                      <a:pt x="471" y="177"/>
                    </a:lnTo>
                    <a:lnTo>
                      <a:pt x="515" y="144"/>
                    </a:lnTo>
                    <a:lnTo>
                      <a:pt x="558" y="113"/>
                    </a:lnTo>
                    <a:lnTo>
                      <a:pt x="581" y="98"/>
                    </a:lnTo>
                    <a:lnTo>
                      <a:pt x="603" y="85"/>
                    </a:lnTo>
                    <a:lnTo>
                      <a:pt x="626" y="72"/>
                    </a:lnTo>
                    <a:lnTo>
                      <a:pt x="648" y="59"/>
                    </a:lnTo>
                    <a:lnTo>
                      <a:pt x="671" y="49"/>
                    </a:lnTo>
                    <a:lnTo>
                      <a:pt x="694" y="39"/>
                    </a:lnTo>
                    <a:lnTo>
                      <a:pt x="718" y="31"/>
                    </a:lnTo>
                    <a:lnTo>
                      <a:pt x="741" y="24"/>
                    </a:lnTo>
                    <a:lnTo>
                      <a:pt x="735" y="0"/>
                    </a:lnTo>
                    <a:lnTo>
                      <a:pt x="710" y="8"/>
                    </a:lnTo>
                    <a:lnTo>
                      <a:pt x="686" y="17"/>
                    </a:lnTo>
                    <a:lnTo>
                      <a:pt x="661" y="28"/>
                    </a:lnTo>
                    <a:lnTo>
                      <a:pt x="638" y="38"/>
                    </a:lnTo>
                    <a:lnTo>
                      <a:pt x="614" y="50"/>
                    </a:lnTo>
                    <a:lnTo>
                      <a:pt x="591" y="64"/>
                    </a:lnTo>
                    <a:lnTo>
                      <a:pt x="569" y="78"/>
                    </a:lnTo>
                    <a:lnTo>
                      <a:pt x="545" y="93"/>
                    </a:lnTo>
                    <a:lnTo>
                      <a:pt x="500" y="124"/>
                    </a:lnTo>
                    <a:lnTo>
                      <a:pt x="456" y="157"/>
                    </a:lnTo>
                    <a:lnTo>
                      <a:pt x="411" y="193"/>
                    </a:lnTo>
                    <a:lnTo>
                      <a:pt x="368" y="228"/>
                    </a:lnTo>
                    <a:lnTo>
                      <a:pt x="325" y="264"/>
                    </a:lnTo>
                    <a:lnTo>
                      <a:pt x="280" y="298"/>
                    </a:lnTo>
                    <a:lnTo>
                      <a:pt x="237" y="331"/>
                    </a:lnTo>
                    <a:lnTo>
                      <a:pt x="193" y="363"/>
                    </a:lnTo>
                    <a:lnTo>
                      <a:pt x="170" y="376"/>
                    </a:lnTo>
                    <a:lnTo>
                      <a:pt x="147" y="390"/>
                    </a:lnTo>
                    <a:lnTo>
                      <a:pt x="124" y="404"/>
                    </a:lnTo>
                    <a:lnTo>
                      <a:pt x="101" y="415"/>
                    </a:lnTo>
                    <a:lnTo>
                      <a:pt x="79" y="427"/>
                    </a:lnTo>
                    <a:lnTo>
                      <a:pt x="56" y="437"/>
                    </a:lnTo>
                    <a:lnTo>
                      <a:pt x="32" y="445"/>
                    </a:lnTo>
                    <a:lnTo>
                      <a:pt x="9" y="453"/>
                    </a:lnTo>
                    <a:lnTo>
                      <a:pt x="7" y="476"/>
                    </a:lnTo>
                    <a:lnTo>
                      <a:pt x="9" y="453"/>
                    </a:lnTo>
                    <a:lnTo>
                      <a:pt x="5" y="455"/>
                    </a:lnTo>
                    <a:lnTo>
                      <a:pt x="1" y="458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4"/>
                    </a:lnTo>
                    <a:lnTo>
                      <a:pt x="10" y="477"/>
                    </a:lnTo>
                    <a:lnTo>
                      <a:pt x="16" y="476"/>
                    </a:lnTo>
                    <a:lnTo>
                      <a:pt x="17" y="4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699000" y="3391200"/>
                <a:ext cx="110880" cy="198360"/>
              </a:xfrm>
              <a:custGeom>
                <a:avLst/>
                <a:gdLst/>
                <a:ahLst/>
                <a:rect l="l" t="t" r="r" b="b"/>
                <a:pathLst>
                  <a:path w="347" h="628">
                    <a:moveTo>
                      <a:pt x="296" y="604"/>
                    </a:moveTo>
                    <a:lnTo>
                      <a:pt x="309" y="621"/>
                    </a:lnTo>
                    <a:lnTo>
                      <a:pt x="317" y="603"/>
                    </a:lnTo>
                    <a:lnTo>
                      <a:pt x="325" y="585"/>
                    </a:lnTo>
                    <a:lnTo>
                      <a:pt x="331" y="566"/>
                    </a:lnTo>
                    <a:lnTo>
                      <a:pt x="336" y="547"/>
                    </a:lnTo>
                    <a:lnTo>
                      <a:pt x="341" y="526"/>
                    </a:lnTo>
                    <a:lnTo>
                      <a:pt x="344" y="506"/>
                    </a:lnTo>
                    <a:lnTo>
                      <a:pt x="346" y="485"/>
                    </a:lnTo>
                    <a:lnTo>
                      <a:pt x="347" y="465"/>
                    </a:lnTo>
                    <a:lnTo>
                      <a:pt x="346" y="443"/>
                    </a:lnTo>
                    <a:lnTo>
                      <a:pt x="345" y="423"/>
                    </a:lnTo>
                    <a:lnTo>
                      <a:pt x="343" y="401"/>
                    </a:lnTo>
                    <a:lnTo>
                      <a:pt x="339" y="379"/>
                    </a:lnTo>
                    <a:lnTo>
                      <a:pt x="335" y="358"/>
                    </a:lnTo>
                    <a:lnTo>
                      <a:pt x="329" y="336"/>
                    </a:lnTo>
                    <a:lnTo>
                      <a:pt x="321" y="314"/>
                    </a:lnTo>
                    <a:lnTo>
                      <a:pt x="313" y="293"/>
                    </a:lnTo>
                    <a:lnTo>
                      <a:pt x="304" y="272"/>
                    </a:lnTo>
                    <a:lnTo>
                      <a:pt x="293" y="251"/>
                    </a:lnTo>
                    <a:lnTo>
                      <a:pt x="281" y="230"/>
                    </a:lnTo>
                    <a:lnTo>
                      <a:pt x="268" y="210"/>
                    </a:lnTo>
                    <a:lnTo>
                      <a:pt x="254" y="189"/>
                    </a:lnTo>
                    <a:lnTo>
                      <a:pt x="238" y="168"/>
                    </a:lnTo>
                    <a:lnTo>
                      <a:pt x="221" y="149"/>
                    </a:lnTo>
                    <a:lnTo>
                      <a:pt x="203" y="130"/>
                    </a:lnTo>
                    <a:lnTo>
                      <a:pt x="183" y="111"/>
                    </a:lnTo>
                    <a:lnTo>
                      <a:pt x="163" y="93"/>
                    </a:lnTo>
                    <a:lnTo>
                      <a:pt x="140" y="76"/>
                    </a:lnTo>
                    <a:lnTo>
                      <a:pt x="117" y="59"/>
                    </a:lnTo>
                    <a:lnTo>
                      <a:pt x="92" y="43"/>
                    </a:lnTo>
                    <a:lnTo>
                      <a:pt x="66" y="28"/>
                    </a:lnTo>
                    <a:lnTo>
                      <a:pt x="39" y="13"/>
                    </a:lnTo>
                    <a:lnTo>
                      <a:pt x="10" y="0"/>
                    </a:lnTo>
                    <a:lnTo>
                      <a:pt x="0" y="23"/>
                    </a:lnTo>
                    <a:lnTo>
                      <a:pt x="28" y="35"/>
                    </a:lnTo>
                    <a:lnTo>
                      <a:pt x="54" y="49"/>
                    </a:lnTo>
                    <a:lnTo>
                      <a:pt x="80" y="64"/>
                    </a:lnTo>
                    <a:lnTo>
                      <a:pt x="104" y="80"/>
                    </a:lnTo>
                    <a:lnTo>
                      <a:pt x="126" y="96"/>
                    </a:lnTo>
                    <a:lnTo>
                      <a:pt x="147" y="113"/>
                    </a:lnTo>
                    <a:lnTo>
                      <a:pt x="167" y="130"/>
                    </a:lnTo>
                    <a:lnTo>
                      <a:pt x="186" y="147"/>
                    </a:lnTo>
                    <a:lnTo>
                      <a:pt x="203" y="165"/>
                    </a:lnTo>
                    <a:lnTo>
                      <a:pt x="219" y="184"/>
                    </a:lnTo>
                    <a:lnTo>
                      <a:pt x="235" y="203"/>
                    </a:lnTo>
                    <a:lnTo>
                      <a:pt x="248" y="222"/>
                    </a:lnTo>
                    <a:lnTo>
                      <a:pt x="261" y="243"/>
                    </a:lnTo>
                    <a:lnTo>
                      <a:pt x="272" y="262"/>
                    </a:lnTo>
                    <a:lnTo>
                      <a:pt x="282" y="282"/>
                    </a:lnTo>
                    <a:lnTo>
                      <a:pt x="292" y="302"/>
                    </a:lnTo>
                    <a:lnTo>
                      <a:pt x="298" y="322"/>
                    </a:lnTo>
                    <a:lnTo>
                      <a:pt x="305" y="343"/>
                    </a:lnTo>
                    <a:lnTo>
                      <a:pt x="311" y="363"/>
                    </a:lnTo>
                    <a:lnTo>
                      <a:pt x="315" y="384"/>
                    </a:lnTo>
                    <a:lnTo>
                      <a:pt x="319" y="404"/>
                    </a:lnTo>
                    <a:lnTo>
                      <a:pt x="321" y="425"/>
                    </a:lnTo>
                    <a:lnTo>
                      <a:pt x="322" y="444"/>
                    </a:lnTo>
                    <a:lnTo>
                      <a:pt x="322" y="465"/>
                    </a:lnTo>
                    <a:lnTo>
                      <a:pt x="322" y="484"/>
                    </a:lnTo>
                    <a:lnTo>
                      <a:pt x="320" y="504"/>
                    </a:lnTo>
                    <a:lnTo>
                      <a:pt x="317" y="522"/>
                    </a:lnTo>
                    <a:lnTo>
                      <a:pt x="313" y="541"/>
                    </a:lnTo>
                    <a:lnTo>
                      <a:pt x="308" y="558"/>
                    </a:lnTo>
                    <a:lnTo>
                      <a:pt x="302" y="577"/>
                    </a:lnTo>
                    <a:lnTo>
                      <a:pt x="295" y="594"/>
                    </a:lnTo>
                    <a:lnTo>
                      <a:pt x="287" y="610"/>
                    </a:lnTo>
                    <a:lnTo>
                      <a:pt x="300" y="628"/>
                    </a:lnTo>
                    <a:lnTo>
                      <a:pt x="287" y="610"/>
                    </a:lnTo>
                    <a:lnTo>
                      <a:pt x="286" y="615"/>
                    </a:lnTo>
                    <a:lnTo>
                      <a:pt x="286" y="620"/>
                    </a:lnTo>
                    <a:lnTo>
                      <a:pt x="288" y="623"/>
                    </a:lnTo>
                    <a:lnTo>
                      <a:pt x="293" y="627"/>
                    </a:lnTo>
                    <a:lnTo>
                      <a:pt x="296" y="628"/>
                    </a:lnTo>
                    <a:lnTo>
                      <a:pt x="301" y="628"/>
                    </a:lnTo>
                    <a:lnTo>
                      <a:pt x="305" y="626"/>
                    </a:lnTo>
                    <a:lnTo>
                      <a:pt x="309" y="621"/>
                    </a:lnTo>
                    <a:lnTo>
                      <a:pt x="296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794040" y="3248280"/>
                <a:ext cx="604800" cy="341280"/>
              </a:xfrm>
              <a:custGeom>
                <a:avLst/>
                <a:gdLst/>
                <a:ahLst/>
                <a:rect l="l" t="t" r="r" b="b"/>
                <a:pathLst>
                  <a:path w="1907" h="1076">
                    <a:moveTo>
                      <a:pt x="1885" y="19"/>
                    </a:moveTo>
                    <a:lnTo>
                      <a:pt x="1887" y="3"/>
                    </a:lnTo>
                    <a:lnTo>
                      <a:pt x="1843" y="40"/>
                    </a:lnTo>
                    <a:lnTo>
                      <a:pt x="1796" y="76"/>
                    </a:lnTo>
                    <a:lnTo>
                      <a:pt x="1748" y="115"/>
                    </a:lnTo>
                    <a:lnTo>
                      <a:pt x="1698" y="154"/>
                    </a:lnTo>
                    <a:lnTo>
                      <a:pt x="1646" y="194"/>
                    </a:lnTo>
                    <a:lnTo>
                      <a:pt x="1592" y="233"/>
                    </a:lnTo>
                    <a:lnTo>
                      <a:pt x="1536" y="273"/>
                    </a:lnTo>
                    <a:lnTo>
                      <a:pt x="1479" y="313"/>
                    </a:lnTo>
                    <a:lnTo>
                      <a:pt x="1421" y="354"/>
                    </a:lnTo>
                    <a:lnTo>
                      <a:pt x="1361" y="394"/>
                    </a:lnTo>
                    <a:lnTo>
                      <a:pt x="1300" y="435"/>
                    </a:lnTo>
                    <a:lnTo>
                      <a:pt x="1239" y="475"/>
                    </a:lnTo>
                    <a:lnTo>
                      <a:pt x="1176" y="515"/>
                    </a:lnTo>
                    <a:lnTo>
                      <a:pt x="1112" y="555"/>
                    </a:lnTo>
                    <a:lnTo>
                      <a:pt x="1049" y="594"/>
                    </a:lnTo>
                    <a:lnTo>
                      <a:pt x="985" y="631"/>
                    </a:lnTo>
                    <a:lnTo>
                      <a:pt x="920" y="669"/>
                    </a:lnTo>
                    <a:lnTo>
                      <a:pt x="855" y="705"/>
                    </a:lnTo>
                    <a:lnTo>
                      <a:pt x="790" y="741"/>
                    </a:lnTo>
                    <a:lnTo>
                      <a:pt x="725" y="774"/>
                    </a:lnTo>
                    <a:lnTo>
                      <a:pt x="660" y="807"/>
                    </a:lnTo>
                    <a:lnTo>
                      <a:pt x="596" y="839"/>
                    </a:lnTo>
                    <a:lnTo>
                      <a:pt x="532" y="868"/>
                    </a:lnTo>
                    <a:lnTo>
                      <a:pt x="469" y="897"/>
                    </a:lnTo>
                    <a:lnTo>
                      <a:pt x="406" y="923"/>
                    </a:lnTo>
                    <a:lnTo>
                      <a:pt x="344" y="948"/>
                    </a:lnTo>
                    <a:lnTo>
                      <a:pt x="284" y="971"/>
                    </a:lnTo>
                    <a:lnTo>
                      <a:pt x="225" y="992"/>
                    </a:lnTo>
                    <a:lnTo>
                      <a:pt x="165" y="1011"/>
                    </a:lnTo>
                    <a:lnTo>
                      <a:pt x="108" y="1027"/>
                    </a:lnTo>
                    <a:lnTo>
                      <a:pt x="54" y="1041"/>
                    </a:lnTo>
                    <a:lnTo>
                      <a:pt x="0" y="1052"/>
                    </a:lnTo>
                    <a:lnTo>
                      <a:pt x="4" y="1076"/>
                    </a:lnTo>
                    <a:lnTo>
                      <a:pt x="58" y="1064"/>
                    </a:lnTo>
                    <a:lnTo>
                      <a:pt x="115" y="1050"/>
                    </a:lnTo>
                    <a:lnTo>
                      <a:pt x="172" y="1034"/>
                    </a:lnTo>
                    <a:lnTo>
                      <a:pt x="231" y="1014"/>
                    </a:lnTo>
                    <a:lnTo>
                      <a:pt x="292" y="994"/>
                    </a:lnTo>
                    <a:lnTo>
                      <a:pt x="353" y="971"/>
                    </a:lnTo>
                    <a:lnTo>
                      <a:pt x="415" y="946"/>
                    </a:lnTo>
                    <a:lnTo>
                      <a:pt x="479" y="920"/>
                    </a:lnTo>
                    <a:lnTo>
                      <a:pt x="543" y="890"/>
                    </a:lnTo>
                    <a:lnTo>
                      <a:pt x="606" y="860"/>
                    </a:lnTo>
                    <a:lnTo>
                      <a:pt x="671" y="829"/>
                    </a:lnTo>
                    <a:lnTo>
                      <a:pt x="736" y="795"/>
                    </a:lnTo>
                    <a:lnTo>
                      <a:pt x="801" y="761"/>
                    </a:lnTo>
                    <a:lnTo>
                      <a:pt x="866" y="726"/>
                    </a:lnTo>
                    <a:lnTo>
                      <a:pt x="931" y="689"/>
                    </a:lnTo>
                    <a:lnTo>
                      <a:pt x="996" y="652"/>
                    </a:lnTo>
                    <a:lnTo>
                      <a:pt x="1061" y="614"/>
                    </a:lnTo>
                    <a:lnTo>
                      <a:pt x="1125" y="575"/>
                    </a:lnTo>
                    <a:lnTo>
                      <a:pt x="1189" y="536"/>
                    </a:lnTo>
                    <a:lnTo>
                      <a:pt x="1251" y="496"/>
                    </a:lnTo>
                    <a:lnTo>
                      <a:pt x="1313" y="456"/>
                    </a:lnTo>
                    <a:lnTo>
                      <a:pt x="1375" y="415"/>
                    </a:lnTo>
                    <a:lnTo>
                      <a:pt x="1435" y="374"/>
                    </a:lnTo>
                    <a:lnTo>
                      <a:pt x="1493" y="334"/>
                    </a:lnTo>
                    <a:lnTo>
                      <a:pt x="1550" y="293"/>
                    </a:lnTo>
                    <a:lnTo>
                      <a:pt x="1606" y="253"/>
                    </a:lnTo>
                    <a:lnTo>
                      <a:pt x="1661" y="213"/>
                    </a:lnTo>
                    <a:lnTo>
                      <a:pt x="1713" y="173"/>
                    </a:lnTo>
                    <a:lnTo>
                      <a:pt x="1763" y="134"/>
                    </a:lnTo>
                    <a:lnTo>
                      <a:pt x="1812" y="95"/>
                    </a:lnTo>
                    <a:lnTo>
                      <a:pt x="1858" y="58"/>
                    </a:lnTo>
                    <a:lnTo>
                      <a:pt x="1902" y="21"/>
                    </a:lnTo>
                    <a:lnTo>
                      <a:pt x="1905" y="4"/>
                    </a:lnTo>
                    <a:lnTo>
                      <a:pt x="1902" y="21"/>
                    </a:lnTo>
                    <a:lnTo>
                      <a:pt x="1906" y="17"/>
                    </a:lnTo>
                    <a:lnTo>
                      <a:pt x="1907" y="12"/>
                    </a:lnTo>
                    <a:lnTo>
                      <a:pt x="1906" y="8"/>
                    </a:lnTo>
                    <a:lnTo>
                      <a:pt x="1903" y="4"/>
                    </a:lnTo>
                    <a:lnTo>
                      <a:pt x="1900" y="1"/>
                    </a:lnTo>
                    <a:lnTo>
                      <a:pt x="1897" y="0"/>
                    </a:lnTo>
                    <a:lnTo>
                      <a:pt x="1892" y="0"/>
                    </a:lnTo>
                    <a:lnTo>
                      <a:pt x="1887" y="3"/>
                    </a:lnTo>
                    <a:lnTo>
                      <a:pt x="1885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334040" y="3053160"/>
                <a:ext cx="64800" cy="201600"/>
              </a:xfrm>
              <a:custGeom>
                <a:avLst/>
                <a:gdLst/>
                <a:ahLst/>
                <a:rect l="l" t="t" r="r" b="b"/>
                <a:pathLst>
                  <a:path w="201" h="634">
                    <a:moveTo>
                      <a:pt x="15" y="24"/>
                    </a:moveTo>
                    <a:lnTo>
                      <a:pt x="2" y="20"/>
                    </a:lnTo>
                    <a:lnTo>
                      <a:pt x="14" y="36"/>
                    </a:lnTo>
                    <a:lnTo>
                      <a:pt x="25" y="53"/>
                    </a:lnTo>
                    <a:lnTo>
                      <a:pt x="34" y="71"/>
                    </a:lnTo>
                    <a:lnTo>
                      <a:pt x="42" y="88"/>
                    </a:lnTo>
                    <a:lnTo>
                      <a:pt x="49" y="106"/>
                    </a:lnTo>
                    <a:lnTo>
                      <a:pt x="56" y="125"/>
                    </a:lnTo>
                    <a:lnTo>
                      <a:pt x="61" y="144"/>
                    </a:lnTo>
                    <a:lnTo>
                      <a:pt x="66" y="162"/>
                    </a:lnTo>
                    <a:lnTo>
                      <a:pt x="74" y="201"/>
                    </a:lnTo>
                    <a:lnTo>
                      <a:pt x="80" y="241"/>
                    </a:lnTo>
                    <a:lnTo>
                      <a:pt x="84" y="281"/>
                    </a:lnTo>
                    <a:lnTo>
                      <a:pt x="89" y="322"/>
                    </a:lnTo>
                    <a:lnTo>
                      <a:pt x="93" y="362"/>
                    </a:lnTo>
                    <a:lnTo>
                      <a:pt x="98" y="403"/>
                    </a:lnTo>
                    <a:lnTo>
                      <a:pt x="104" y="444"/>
                    </a:lnTo>
                    <a:lnTo>
                      <a:pt x="113" y="484"/>
                    </a:lnTo>
                    <a:lnTo>
                      <a:pt x="117" y="503"/>
                    </a:lnTo>
                    <a:lnTo>
                      <a:pt x="123" y="522"/>
                    </a:lnTo>
                    <a:lnTo>
                      <a:pt x="130" y="542"/>
                    </a:lnTo>
                    <a:lnTo>
                      <a:pt x="138" y="561"/>
                    </a:lnTo>
                    <a:lnTo>
                      <a:pt x="147" y="581"/>
                    </a:lnTo>
                    <a:lnTo>
                      <a:pt x="157" y="599"/>
                    </a:lnTo>
                    <a:lnTo>
                      <a:pt x="169" y="617"/>
                    </a:lnTo>
                    <a:lnTo>
                      <a:pt x="181" y="634"/>
                    </a:lnTo>
                    <a:lnTo>
                      <a:pt x="201" y="619"/>
                    </a:lnTo>
                    <a:lnTo>
                      <a:pt x="188" y="603"/>
                    </a:lnTo>
                    <a:lnTo>
                      <a:pt x="178" y="586"/>
                    </a:lnTo>
                    <a:lnTo>
                      <a:pt x="169" y="569"/>
                    </a:lnTo>
                    <a:lnTo>
                      <a:pt x="161" y="552"/>
                    </a:lnTo>
                    <a:lnTo>
                      <a:pt x="153" y="534"/>
                    </a:lnTo>
                    <a:lnTo>
                      <a:pt x="147" y="516"/>
                    </a:lnTo>
                    <a:lnTo>
                      <a:pt x="141" y="496"/>
                    </a:lnTo>
                    <a:lnTo>
                      <a:pt x="136" y="478"/>
                    </a:lnTo>
                    <a:lnTo>
                      <a:pt x="128" y="439"/>
                    </a:lnTo>
                    <a:lnTo>
                      <a:pt x="122" y="399"/>
                    </a:lnTo>
                    <a:lnTo>
                      <a:pt x="117" y="359"/>
                    </a:lnTo>
                    <a:lnTo>
                      <a:pt x="113" y="319"/>
                    </a:lnTo>
                    <a:lnTo>
                      <a:pt x="109" y="278"/>
                    </a:lnTo>
                    <a:lnTo>
                      <a:pt x="104" y="237"/>
                    </a:lnTo>
                    <a:lnTo>
                      <a:pt x="98" y="197"/>
                    </a:lnTo>
                    <a:lnTo>
                      <a:pt x="90" y="158"/>
                    </a:lnTo>
                    <a:lnTo>
                      <a:pt x="84" y="137"/>
                    </a:lnTo>
                    <a:lnTo>
                      <a:pt x="79" y="118"/>
                    </a:lnTo>
                    <a:lnTo>
                      <a:pt x="72" y="98"/>
                    </a:lnTo>
                    <a:lnTo>
                      <a:pt x="64" y="79"/>
                    </a:lnTo>
                    <a:lnTo>
                      <a:pt x="56" y="60"/>
                    </a:lnTo>
                    <a:lnTo>
                      <a:pt x="46" y="41"/>
                    </a:lnTo>
                    <a:lnTo>
                      <a:pt x="34" y="23"/>
                    </a:lnTo>
                    <a:lnTo>
                      <a:pt x="22" y="5"/>
                    </a:lnTo>
                    <a:lnTo>
                      <a:pt x="10" y="0"/>
                    </a:lnTo>
                    <a:lnTo>
                      <a:pt x="22" y="5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324320" y="2795760"/>
                <a:ext cx="312840" cy="319320"/>
              </a:xfrm>
              <a:custGeom>
                <a:avLst/>
                <a:gdLst/>
                <a:ahLst/>
                <a:rect l="l" t="t" r="r" b="b"/>
                <a:pathLst>
                  <a:path w="987" h="1004">
                    <a:moveTo>
                      <a:pt x="491" y="2"/>
                    </a:moveTo>
                    <a:lnTo>
                      <a:pt x="513" y="0"/>
                    </a:lnTo>
                    <a:lnTo>
                      <a:pt x="533" y="0"/>
                    </a:lnTo>
                    <a:lnTo>
                      <a:pt x="552" y="0"/>
                    </a:lnTo>
                    <a:lnTo>
                      <a:pt x="573" y="1"/>
                    </a:lnTo>
                    <a:lnTo>
                      <a:pt x="591" y="3"/>
                    </a:lnTo>
                    <a:lnTo>
                      <a:pt x="611" y="7"/>
                    </a:lnTo>
                    <a:lnTo>
                      <a:pt x="629" y="10"/>
                    </a:lnTo>
                    <a:lnTo>
                      <a:pt x="646" y="15"/>
                    </a:lnTo>
                    <a:lnTo>
                      <a:pt x="663" y="19"/>
                    </a:lnTo>
                    <a:lnTo>
                      <a:pt x="680" y="26"/>
                    </a:lnTo>
                    <a:lnTo>
                      <a:pt x="697" y="33"/>
                    </a:lnTo>
                    <a:lnTo>
                      <a:pt x="713" y="40"/>
                    </a:lnTo>
                    <a:lnTo>
                      <a:pt x="729" y="48"/>
                    </a:lnTo>
                    <a:lnTo>
                      <a:pt x="745" y="56"/>
                    </a:lnTo>
                    <a:lnTo>
                      <a:pt x="760" y="66"/>
                    </a:lnTo>
                    <a:lnTo>
                      <a:pt x="776" y="75"/>
                    </a:lnTo>
                    <a:lnTo>
                      <a:pt x="804" y="97"/>
                    </a:lnTo>
                    <a:lnTo>
                      <a:pt x="833" y="120"/>
                    </a:lnTo>
                    <a:lnTo>
                      <a:pt x="860" y="145"/>
                    </a:lnTo>
                    <a:lnTo>
                      <a:pt x="886" y="171"/>
                    </a:lnTo>
                    <a:lnTo>
                      <a:pt x="913" y="198"/>
                    </a:lnTo>
                    <a:lnTo>
                      <a:pt x="938" y="227"/>
                    </a:lnTo>
                    <a:lnTo>
                      <a:pt x="962" y="258"/>
                    </a:lnTo>
                    <a:lnTo>
                      <a:pt x="987" y="287"/>
                    </a:lnTo>
                    <a:lnTo>
                      <a:pt x="945" y="364"/>
                    </a:lnTo>
                    <a:lnTo>
                      <a:pt x="894" y="450"/>
                    </a:lnTo>
                    <a:lnTo>
                      <a:pt x="839" y="546"/>
                    </a:lnTo>
                    <a:lnTo>
                      <a:pt x="780" y="645"/>
                    </a:lnTo>
                    <a:lnTo>
                      <a:pt x="721" y="745"/>
                    </a:lnTo>
                    <a:lnTo>
                      <a:pt x="665" y="841"/>
                    </a:lnTo>
                    <a:lnTo>
                      <a:pt x="615" y="929"/>
                    </a:lnTo>
                    <a:lnTo>
                      <a:pt x="574" y="1004"/>
                    </a:lnTo>
                    <a:lnTo>
                      <a:pt x="541" y="976"/>
                    </a:lnTo>
                    <a:lnTo>
                      <a:pt x="508" y="946"/>
                    </a:lnTo>
                    <a:lnTo>
                      <a:pt x="475" y="914"/>
                    </a:lnTo>
                    <a:lnTo>
                      <a:pt x="442" y="881"/>
                    </a:lnTo>
                    <a:lnTo>
                      <a:pt x="375" y="816"/>
                    </a:lnTo>
                    <a:lnTo>
                      <a:pt x="307" y="751"/>
                    </a:lnTo>
                    <a:lnTo>
                      <a:pt x="272" y="720"/>
                    </a:lnTo>
                    <a:lnTo>
                      <a:pt x="237" y="691"/>
                    </a:lnTo>
                    <a:lnTo>
                      <a:pt x="219" y="676"/>
                    </a:lnTo>
                    <a:lnTo>
                      <a:pt x="200" y="662"/>
                    </a:lnTo>
                    <a:lnTo>
                      <a:pt x="182" y="650"/>
                    </a:lnTo>
                    <a:lnTo>
                      <a:pt x="163" y="637"/>
                    </a:lnTo>
                    <a:lnTo>
                      <a:pt x="143" y="625"/>
                    </a:lnTo>
                    <a:lnTo>
                      <a:pt x="124" y="613"/>
                    </a:lnTo>
                    <a:lnTo>
                      <a:pt x="105" y="603"/>
                    </a:lnTo>
                    <a:lnTo>
                      <a:pt x="84" y="593"/>
                    </a:lnTo>
                    <a:lnTo>
                      <a:pt x="64" y="584"/>
                    </a:lnTo>
                    <a:lnTo>
                      <a:pt x="43" y="576"/>
                    </a:lnTo>
                    <a:lnTo>
                      <a:pt x="21" y="568"/>
                    </a:lnTo>
                    <a:lnTo>
                      <a:pt x="0" y="561"/>
                    </a:lnTo>
                    <a:lnTo>
                      <a:pt x="27" y="527"/>
                    </a:lnTo>
                    <a:lnTo>
                      <a:pt x="57" y="492"/>
                    </a:lnTo>
                    <a:lnTo>
                      <a:pt x="86" y="457"/>
                    </a:lnTo>
                    <a:lnTo>
                      <a:pt x="117" y="423"/>
                    </a:lnTo>
                    <a:lnTo>
                      <a:pt x="181" y="352"/>
                    </a:lnTo>
                    <a:lnTo>
                      <a:pt x="247" y="281"/>
                    </a:lnTo>
                    <a:lnTo>
                      <a:pt x="312" y="211"/>
                    </a:lnTo>
                    <a:lnTo>
                      <a:pt x="376" y="141"/>
                    </a:lnTo>
                    <a:lnTo>
                      <a:pt x="407" y="106"/>
                    </a:lnTo>
                    <a:lnTo>
                      <a:pt x="436" y="71"/>
                    </a:lnTo>
                    <a:lnTo>
                      <a:pt x="465" y="36"/>
                    </a:lnTo>
                    <a:lnTo>
                      <a:pt x="491" y="2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479840" y="2792520"/>
                <a:ext cx="160560" cy="98640"/>
              </a:xfrm>
              <a:custGeom>
                <a:avLst/>
                <a:gdLst/>
                <a:ahLst/>
                <a:rect l="l" t="t" r="r" b="b"/>
                <a:pathLst>
                  <a:path w="509" h="313">
                    <a:moveTo>
                      <a:pt x="507" y="306"/>
                    </a:moveTo>
                    <a:lnTo>
                      <a:pt x="506" y="293"/>
                    </a:lnTo>
                    <a:lnTo>
                      <a:pt x="482" y="263"/>
                    </a:lnTo>
                    <a:lnTo>
                      <a:pt x="457" y="233"/>
                    </a:lnTo>
                    <a:lnTo>
                      <a:pt x="431" y="203"/>
                    </a:lnTo>
                    <a:lnTo>
                      <a:pt x="406" y="175"/>
                    </a:lnTo>
                    <a:lnTo>
                      <a:pt x="378" y="149"/>
                    </a:lnTo>
                    <a:lnTo>
                      <a:pt x="351" y="123"/>
                    </a:lnTo>
                    <a:lnTo>
                      <a:pt x="322" y="100"/>
                    </a:lnTo>
                    <a:lnTo>
                      <a:pt x="293" y="78"/>
                    </a:lnTo>
                    <a:lnTo>
                      <a:pt x="277" y="69"/>
                    </a:lnTo>
                    <a:lnTo>
                      <a:pt x="261" y="58"/>
                    </a:lnTo>
                    <a:lnTo>
                      <a:pt x="245" y="50"/>
                    </a:lnTo>
                    <a:lnTo>
                      <a:pt x="229" y="41"/>
                    </a:lnTo>
                    <a:lnTo>
                      <a:pt x="212" y="35"/>
                    </a:lnTo>
                    <a:lnTo>
                      <a:pt x="195" y="28"/>
                    </a:lnTo>
                    <a:lnTo>
                      <a:pt x="178" y="21"/>
                    </a:lnTo>
                    <a:lnTo>
                      <a:pt x="159" y="16"/>
                    </a:lnTo>
                    <a:lnTo>
                      <a:pt x="141" y="12"/>
                    </a:lnTo>
                    <a:lnTo>
                      <a:pt x="122" y="7"/>
                    </a:lnTo>
                    <a:lnTo>
                      <a:pt x="104" y="5"/>
                    </a:lnTo>
                    <a:lnTo>
                      <a:pt x="83" y="3"/>
                    </a:lnTo>
                    <a:lnTo>
                      <a:pt x="64" y="1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3"/>
                    </a:lnTo>
                    <a:lnTo>
                      <a:pt x="2" y="27"/>
                    </a:lnTo>
                    <a:lnTo>
                      <a:pt x="23" y="25"/>
                    </a:lnTo>
                    <a:lnTo>
                      <a:pt x="43" y="25"/>
                    </a:lnTo>
                    <a:lnTo>
                      <a:pt x="62" y="25"/>
                    </a:lnTo>
                    <a:lnTo>
                      <a:pt x="82" y="27"/>
                    </a:lnTo>
                    <a:lnTo>
                      <a:pt x="100" y="29"/>
                    </a:lnTo>
                    <a:lnTo>
                      <a:pt x="118" y="31"/>
                    </a:lnTo>
                    <a:lnTo>
                      <a:pt x="135" y="35"/>
                    </a:lnTo>
                    <a:lnTo>
                      <a:pt x="153" y="39"/>
                    </a:lnTo>
                    <a:lnTo>
                      <a:pt x="170" y="45"/>
                    </a:lnTo>
                    <a:lnTo>
                      <a:pt x="187" y="50"/>
                    </a:lnTo>
                    <a:lnTo>
                      <a:pt x="203" y="56"/>
                    </a:lnTo>
                    <a:lnTo>
                      <a:pt x="219" y="64"/>
                    </a:lnTo>
                    <a:lnTo>
                      <a:pt x="233" y="71"/>
                    </a:lnTo>
                    <a:lnTo>
                      <a:pt x="249" y="80"/>
                    </a:lnTo>
                    <a:lnTo>
                      <a:pt x="264" y="89"/>
                    </a:lnTo>
                    <a:lnTo>
                      <a:pt x="279" y="98"/>
                    </a:lnTo>
                    <a:lnTo>
                      <a:pt x="308" y="119"/>
                    </a:lnTo>
                    <a:lnTo>
                      <a:pt x="335" y="142"/>
                    </a:lnTo>
                    <a:lnTo>
                      <a:pt x="361" y="166"/>
                    </a:lnTo>
                    <a:lnTo>
                      <a:pt x="387" y="192"/>
                    </a:lnTo>
                    <a:lnTo>
                      <a:pt x="414" y="219"/>
                    </a:lnTo>
                    <a:lnTo>
                      <a:pt x="439" y="248"/>
                    </a:lnTo>
                    <a:lnTo>
                      <a:pt x="463" y="277"/>
                    </a:lnTo>
                    <a:lnTo>
                      <a:pt x="488" y="308"/>
                    </a:lnTo>
                    <a:lnTo>
                      <a:pt x="486" y="294"/>
                    </a:lnTo>
                    <a:lnTo>
                      <a:pt x="488" y="308"/>
                    </a:lnTo>
                    <a:lnTo>
                      <a:pt x="491" y="312"/>
                    </a:lnTo>
                    <a:lnTo>
                      <a:pt x="496" y="313"/>
                    </a:lnTo>
                    <a:lnTo>
                      <a:pt x="500" y="313"/>
                    </a:lnTo>
                    <a:lnTo>
                      <a:pt x="505" y="310"/>
                    </a:lnTo>
                    <a:lnTo>
                      <a:pt x="507" y="307"/>
                    </a:lnTo>
                    <a:lnTo>
                      <a:pt x="509" y="302"/>
                    </a:lnTo>
                    <a:lnTo>
                      <a:pt x="508" y="298"/>
                    </a:lnTo>
                    <a:lnTo>
                      <a:pt x="506" y="293"/>
                    </a:lnTo>
                    <a:lnTo>
                      <a:pt x="507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502160" y="2886480"/>
                <a:ext cx="138240" cy="233280"/>
              </a:xfrm>
              <a:custGeom>
                <a:avLst/>
                <a:gdLst/>
                <a:ahLst/>
                <a:rect l="l" t="t" r="r" b="b"/>
                <a:pathLst>
                  <a:path w="434" h="736">
                    <a:moveTo>
                      <a:pt x="4" y="733"/>
                    </a:moveTo>
                    <a:lnTo>
                      <a:pt x="23" y="729"/>
                    </a:lnTo>
                    <a:lnTo>
                      <a:pt x="64" y="654"/>
                    </a:lnTo>
                    <a:lnTo>
                      <a:pt x="113" y="566"/>
                    </a:lnTo>
                    <a:lnTo>
                      <a:pt x="168" y="470"/>
                    </a:lnTo>
                    <a:lnTo>
                      <a:pt x="228" y="371"/>
                    </a:lnTo>
                    <a:lnTo>
                      <a:pt x="286" y="271"/>
                    </a:lnTo>
                    <a:lnTo>
                      <a:pt x="342" y="176"/>
                    </a:lnTo>
                    <a:lnTo>
                      <a:pt x="393" y="88"/>
                    </a:lnTo>
                    <a:lnTo>
                      <a:pt x="434" y="12"/>
                    </a:lnTo>
                    <a:lnTo>
                      <a:pt x="413" y="0"/>
                    </a:lnTo>
                    <a:lnTo>
                      <a:pt x="371" y="76"/>
                    </a:lnTo>
                    <a:lnTo>
                      <a:pt x="321" y="163"/>
                    </a:lnTo>
                    <a:lnTo>
                      <a:pt x="265" y="259"/>
                    </a:lnTo>
                    <a:lnTo>
                      <a:pt x="206" y="358"/>
                    </a:lnTo>
                    <a:lnTo>
                      <a:pt x="148" y="458"/>
                    </a:lnTo>
                    <a:lnTo>
                      <a:pt x="92" y="553"/>
                    </a:lnTo>
                    <a:lnTo>
                      <a:pt x="42" y="642"/>
                    </a:lnTo>
                    <a:lnTo>
                      <a:pt x="1" y="719"/>
                    </a:lnTo>
                    <a:lnTo>
                      <a:pt x="19" y="714"/>
                    </a:lnTo>
                    <a:lnTo>
                      <a:pt x="1" y="719"/>
                    </a:lnTo>
                    <a:lnTo>
                      <a:pt x="0" y="723"/>
                    </a:lnTo>
                    <a:lnTo>
                      <a:pt x="0" y="728"/>
                    </a:lnTo>
                    <a:lnTo>
                      <a:pt x="2" y="732"/>
                    </a:lnTo>
                    <a:lnTo>
                      <a:pt x="5" y="735"/>
                    </a:lnTo>
                    <a:lnTo>
                      <a:pt x="10" y="736"/>
                    </a:lnTo>
                    <a:lnTo>
                      <a:pt x="15" y="736"/>
                    </a:lnTo>
                    <a:lnTo>
                      <a:pt x="19" y="733"/>
                    </a:lnTo>
                    <a:lnTo>
                      <a:pt x="23" y="729"/>
                    </a:lnTo>
                    <a:lnTo>
                      <a:pt x="4" y="7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319640" y="2970360"/>
                <a:ext cx="189000" cy="147600"/>
              </a:xfrm>
              <a:custGeom>
                <a:avLst/>
                <a:gdLst/>
                <a:ahLst/>
                <a:rect l="l" t="t" r="r" b="b"/>
                <a:pathLst>
                  <a:path w="595" h="465">
                    <a:moveTo>
                      <a:pt x="2" y="5"/>
                    </a:moveTo>
                    <a:lnTo>
                      <a:pt x="9" y="24"/>
                    </a:lnTo>
                    <a:lnTo>
                      <a:pt x="31" y="30"/>
                    </a:lnTo>
                    <a:lnTo>
                      <a:pt x="51" y="38"/>
                    </a:lnTo>
                    <a:lnTo>
                      <a:pt x="72" y="46"/>
                    </a:lnTo>
                    <a:lnTo>
                      <a:pt x="91" y="55"/>
                    </a:lnTo>
                    <a:lnTo>
                      <a:pt x="112" y="64"/>
                    </a:lnTo>
                    <a:lnTo>
                      <a:pt x="131" y="74"/>
                    </a:lnTo>
                    <a:lnTo>
                      <a:pt x="151" y="86"/>
                    </a:lnTo>
                    <a:lnTo>
                      <a:pt x="169" y="98"/>
                    </a:lnTo>
                    <a:lnTo>
                      <a:pt x="188" y="110"/>
                    </a:lnTo>
                    <a:lnTo>
                      <a:pt x="206" y="123"/>
                    </a:lnTo>
                    <a:lnTo>
                      <a:pt x="225" y="137"/>
                    </a:lnTo>
                    <a:lnTo>
                      <a:pt x="242" y="151"/>
                    </a:lnTo>
                    <a:lnTo>
                      <a:pt x="277" y="180"/>
                    </a:lnTo>
                    <a:lnTo>
                      <a:pt x="311" y="211"/>
                    </a:lnTo>
                    <a:lnTo>
                      <a:pt x="380" y="275"/>
                    </a:lnTo>
                    <a:lnTo>
                      <a:pt x="446" y="341"/>
                    </a:lnTo>
                    <a:lnTo>
                      <a:pt x="479" y="374"/>
                    </a:lnTo>
                    <a:lnTo>
                      <a:pt x="512" y="405"/>
                    </a:lnTo>
                    <a:lnTo>
                      <a:pt x="546" y="436"/>
                    </a:lnTo>
                    <a:lnTo>
                      <a:pt x="580" y="465"/>
                    </a:lnTo>
                    <a:lnTo>
                      <a:pt x="595" y="446"/>
                    </a:lnTo>
                    <a:lnTo>
                      <a:pt x="562" y="418"/>
                    </a:lnTo>
                    <a:lnTo>
                      <a:pt x="529" y="388"/>
                    </a:lnTo>
                    <a:lnTo>
                      <a:pt x="496" y="356"/>
                    </a:lnTo>
                    <a:lnTo>
                      <a:pt x="463" y="324"/>
                    </a:lnTo>
                    <a:lnTo>
                      <a:pt x="397" y="258"/>
                    </a:lnTo>
                    <a:lnTo>
                      <a:pt x="328" y="193"/>
                    </a:lnTo>
                    <a:lnTo>
                      <a:pt x="293" y="162"/>
                    </a:lnTo>
                    <a:lnTo>
                      <a:pt x="258" y="133"/>
                    </a:lnTo>
                    <a:lnTo>
                      <a:pt x="238" y="118"/>
                    </a:lnTo>
                    <a:lnTo>
                      <a:pt x="220" y="104"/>
                    </a:lnTo>
                    <a:lnTo>
                      <a:pt x="202" y="90"/>
                    </a:lnTo>
                    <a:lnTo>
                      <a:pt x="183" y="78"/>
                    </a:lnTo>
                    <a:lnTo>
                      <a:pt x="163" y="65"/>
                    </a:lnTo>
                    <a:lnTo>
                      <a:pt x="143" y="54"/>
                    </a:lnTo>
                    <a:lnTo>
                      <a:pt x="122" y="43"/>
                    </a:lnTo>
                    <a:lnTo>
                      <a:pt x="102" y="32"/>
                    </a:lnTo>
                    <a:lnTo>
                      <a:pt x="81" y="23"/>
                    </a:lnTo>
                    <a:lnTo>
                      <a:pt x="59" y="15"/>
                    </a:lnTo>
                    <a:lnTo>
                      <a:pt x="38" y="7"/>
                    </a:lnTo>
                    <a:lnTo>
                      <a:pt x="16" y="0"/>
                    </a:lnTo>
                    <a:lnTo>
                      <a:pt x="22" y="2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319640" y="2792520"/>
                <a:ext cx="163440" cy="184320"/>
              </a:xfrm>
              <a:custGeom>
                <a:avLst/>
                <a:gdLst/>
                <a:ahLst/>
                <a:rect l="l" t="t" r="r" b="b"/>
                <a:pathLst>
                  <a:path w="514" h="579">
                    <a:moveTo>
                      <a:pt x="501" y="0"/>
                    </a:moveTo>
                    <a:lnTo>
                      <a:pt x="493" y="4"/>
                    </a:lnTo>
                    <a:lnTo>
                      <a:pt x="465" y="38"/>
                    </a:lnTo>
                    <a:lnTo>
                      <a:pt x="438" y="74"/>
                    </a:lnTo>
                    <a:lnTo>
                      <a:pt x="408" y="108"/>
                    </a:lnTo>
                    <a:lnTo>
                      <a:pt x="378" y="143"/>
                    </a:lnTo>
                    <a:lnTo>
                      <a:pt x="314" y="213"/>
                    </a:lnTo>
                    <a:lnTo>
                      <a:pt x="249" y="283"/>
                    </a:lnTo>
                    <a:lnTo>
                      <a:pt x="184" y="354"/>
                    </a:lnTo>
                    <a:lnTo>
                      <a:pt x="119" y="424"/>
                    </a:lnTo>
                    <a:lnTo>
                      <a:pt x="88" y="459"/>
                    </a:lnTo>
                    <a:lnTo>
                      <a:pt x="57" y="494"/>
                    </a:lnTo>
                    <a:lnTo>
                      <a:pt x="29" y="529"/>
                    </a:lnTo>
                    <a:lnTo>
                      <a:pt x="0" y="564"/>
                    </a:lnTo>
                    <a:lnTo>
                      <a:pt x="20" y="579"/>
                    </a:lnTo>
                    <a:lnTo>
                      <a:pt x="47" y="545"/>
                    </a:lnTo>
                    <a:lnTo>
                      <a:pt x="77" y="510"/>
                    </a:lnTo>
                    <a:lnTo>
                      <a:pt x="106" y="475"/>
                    </a:lnTo>
                    <a:lnTo>
                      <a:pt x="137" y="441"/>
                    </a:lnTo>
                    <a:lnTo>
                      <a:pt x="201" y="370"/>
                    </a:lnTo>
                    <a:lnTo>
                      <a:pt x="267" y="299"/>
                    </a:lnTo>
                    <a:lnTo>
                      <a:pt x="332" y="229"/>
                    </a:lnTo>
                    <a:lnTo>
                      <a:pt x="396" y="159"/>
                    </a:lnTo>
                    <a:lnTo>
                      <a:pt x="427" y="124"/>
                    </a:lnTo>
                    <a:lnTo>
                      <a:pt x="456" y="89"/>
                    </a:lnTo>
                    <a:lnTo>
                      <a:pt x="485" y="54"/>
                    </a:lnTo>
                    <a:lnTo>
                      <a:pt x="512" y="19"/>
                    </a:lnTo>
                    <a:lnTo>
                      <a:pt x="503" y="24"/>
                    </a:lnTo>
                    <a:lnTo>
                      <a:pt x="512" y="19"/>
                    </a:lnTo>
                    <a:lnTo>
                      <a:pt x="514" y="14"/>
                    </a:lnTo>
                    <a:lnTo>
                      <a:pt x="514" y="10"/>
                    </a:lnTo>
                    <a:lnTo>
                      <a:pt x="512" y="5"/>
                    </a:lnTo>
                    <a:lnTo>
                      <a:pt x="510" y="2"/>
                    </a:lnTo>
                    <a:lnTo>
                      <a:pt x="505" y="0"/>
                    </a:lnTo>
                    <a:lnTo>
                      <a:pt x="501" y="0"/>
                    </a:lnTo>
                    <a:lnTo>
                      <a:pt x="496" y="1"/>
                    </a:lnTo>
                    <a:lnTo>
                      <a:pt x="493" y="4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997520" y="2972160"/>
                <a:ext cx="1352520" cy="212760"/>
              </a:xfrm>
              <a:custGeom>
                <a:avLst/>
                <a:gdLst/>
                <a:ahLst/>
                <a:rect l="l" t="t" r="r" b="b"/>
                <a:pathLst>
                  <a:path w="4259" h="668">
                    <a:moveTo>
                      <a:pt x="73" y="318"/>
                    </a:moveTo>
                    <a:lnTo>
                      <a:pt x="190" y="300"/>
                    </a:lnTo>
                    <a:lnTo>
                      <a:pt x="311" y="280"/>
                    </a:lnTo>
                    <a:lnTo>
                      <a:pt x="438" y="261"/>
                    </a:lnTo>
                    <a:lnTo>
                      <a:pt x="568" y="241"/>
                    </a:lnTo>
                    <a:lnTo>
                      <a:pt x="701" y="223"/>
                    </a:lnTo>
                    <a:lnTo>
                      <a:pt x="839" y="205"/>
                    </a:lnTo>
                    <a:lnTo>
                      <a:pt x="978" y="188"/>
                    </a:lnTo>
                    <a:lnTo>
                      <a:pt x="1120" y="172"/>
                    </a:lnTo>
                    <a:lnTo>
                      <a:pt x="1265" y="157"/>
                    </a:lnTo>
                    <a:lnTo>
                      <a:pt x="1411" y="143"/>
                    </a:lnTo>
                    <a:lnTo>
                      <a:pt x="1557" y="132"/>
                    </a:lnTo>
                    <a:lnTo>
                      <a:pt x="1705" y="122"/>
                    </a:lnTo>
                    <a:lnTo>
                      <a:pt x="1853" y="115"/>
                    </a:lnTo>
                    <a:lnTo>
                      <a:pt x="2000" y="109"/>
                    </a:lnTo>
                    <a:lnTo>
                      <a:pt x="2148" y="107"/>
                    </a:lnTo>
                    <a:lnTo>
                      <a:pt x="2294" y="107"/>
                    </a:lnTo>
                    <a:lnTo>
                      <a:pt x="2439" y="110"/>
                    </a:lnTo>
                    <a:lnTo>
                      <a:pt x="2583" y="116"/>
                    </a:lnTo>
                    <a:lnTo>
                      <a:pt x="2724" y="126"/>
                    </a:lnTo>
                    <a:lnTo>
                      <a:pt x="2862" y="140"/>
                    </a:lnTo>
                    <a:lnTo>
                      <a:pt x="2997" y="157"/>
                    </a:lnTo>
                    <a:lnTo>
                      <a:pt x="3130" y="179"/>
                    </a:lnTo>
                    <a:lnTo>
                      <a:pt x="3257" y="205"/>
                    </a:lnTo>
                    <a:lnTo>
                      <a:pt x="3382" y="236"/>
                    </a:lnTo>
                    <a:lnTo>
                      <a:pt x="3501" y="270"/>
                    </a:lnTo>
                    <a:lnTo>
                      <a:pt x="3615" y="311"/>
                    </a:lnTo>
                    <a:lnTo>
                      <a:pt x="3723" y="357"/>
                    </a:lnTo>
                    <a:lnTo>
                      <a:pt x="3826" y="407"/>
                    </a:lnTo>
                    <a:lnTo>
                      <a:pt x="3922" y="464"/>
                    </a:lnTo>
                    <a:lnTo>
                      <a:pt x="4012" y="525"/>
                    </a:lnTo>
                    <a:lnTo>
                      <a:pt x="4094" y="594"/>
                    </a:lnTo>
                    <a:lnTo>
                      <a:pt x="4169" y="668"/>
                    </a:lnTo>
                    <a:lnTo>
                      <a:pt x="4179" y="646"/>
                    </a:lnTo>
                    <a:lnTo>
                      <a:pt x="4191" y="623"/>
                    </a:lnTo>
                    <a:lnTo>
                      <a:pt x="4202" y="602"/>
                    </a:lnTo>
                    <a:lnTo>
                      <a:pt x="4212" y="579"/>
                    </a:lnTo>
                    <a:lnTo>
                      <a:pt x="4224" y="557"/>
                    </a:lnTo>
                    <a:lnTo>
                      <a:pt x="4235" y="536"/>
                    </a:lnTo>
                    <a:lnTo>
                      <a:pt x="4247" y="513"/>
                    </a:lnTo>
                    <a:lnTo>
                      <a:pt x="4259" y="491"/>
                    </a:lnTo>
                    <a:lnTo>
                      <a:pt x="4184" y="423"/>
                    </a:lnTo>
                    <a:lnTo>
                      <a:pt x="4101" y="361"/>
                    </a:lnTo>
                    <a:lnTo>
                      <a:pt x="4011" y="304"/>
                    </a:lnTo>
                    <a:lnTo>
                      <a:pt x="3913" y="253"/>
                    </a:lnTo>
                    <a:lnTo>
                      <a:pt x="3808" y="208"/>
                    </a:lnTo>
                    <a:lnTo>
                      <a:pt x="3696" y="167"/>
                    </a:lnTo>
                    <a:lnTo>
                      <a:pt x="3579" y="132"/>
                    </a:lnTo>
                    <a:lnTo>
                      <a:pt x="3456" y="101"/>
                    </a:lnTo>
                    <a:lnTo>
                      <a:pt x="3328" y="75"/>
                    </a:lnTo>
                    <a:lnTo>
                      <a:pt x="3195" y="53"/>
                    </a:lnTo>
                    <a:lnTo>
                      <a:pt x="3058" y="36"/>
                    </a:lnTo>
                    <a:lnTo>
                      <a:pt x="2918" y="21"/>
                    </a:lnTo>
                    <a:lnTo>
                      <a:pt x="2773" y="11"/>
                    </a:lnTo>
                    <a:lnTo>
                      <a:pt x="2626" y="4"/>
                    </a:lnTo>
                    <a:lnTo>
                      <a:pt x="2477" y="0"/>
                    </a:lnTo>
                    <a:lnTo>
                      <a:pt x="2326" y="0"/>
                    </a:lnTo>
                    <a:lnTo>
                      <a:pt x="2173" y="1"/>
                    </a:lnTo>
                    <a:lnTo>
                      <a:pt x="2018" y="5"/>
                    </a:lnTo>
                    <a:lnTo>
                      <a:pt x="1865" y="11"/>
                    </a:lnTo>
                    <a:lnTo>
                      <a:pt x="1710" y="19"/>
                    </a:lnTo>
                    <a:lnTo>
                      <a:pt x="1556" y="29"/>
                    </a:lnTo>
                    <a:lnTo>
                      <a:pt x="1402" y="41"/>
                    </a:lnTo>
                    <a:lnTo>
                      <a:pt x="1249" y="53"/>
                    </a:lnTo>
                    <a:lnTo>
                      <a:pt x="1098" y="68"/>
                    </a:lnTo>
                    <a:lnTo>
                      <a:pt x="948" y="83"/>
                    </a:lnTo>
                    <a:lnTo>
                      <a:pt x="802" y="98"/>
                    </a:lnTo>
                    <a:lnTo>
                      <a:pt x="659" y="114"/>
                    </a:lnTo>
                    <a:lnTo>
                      <a:pt x="519" y="130"/>
                    </a:lnTo>
                    <a:lnTo>
                      <a:pt x="250" y="161"/>
                    </a:lnTo>
                    <a:lnTo>
                      <a:pt x="0" y="190"/>
                    </a:lnTo>
                    <a:lnTo>
                      <a:pt x="16" y="218"/>
                    </a:lnTo>
                    <a:lnTo>
                      <a:pt x="26" y="235"/>
                    </a:lnTo>
                    <a:lnTo>
                      <a:pt x="33" y="247"/>
                    </a:lnTo>
                    <a:lnTo>
                      <a:pt x="38" y="255"/>
                    </a:lnTo>
                    <a:lnTo>
                      <a:pt x="42" y="264"/>
                    </a:lnTo>
                    <a:lnTo>
                      <a:pt x="49" y="276"/>
                    </a:lnTo>
                    <a:lnTo>
                      <a:pt x="58" y="293"/>
                    </a:lnTo>
                    <a:lnTo>
                      <a:pt x="73" y="31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021280" y="3002400"/>
                <a:ext cx="1305000" cy="185400"/>
              </a:xfrm>
              <a:custGeom>
                <a:avLst/>
                <a:gdLst/>
                <a:ahLst/>
                <a:rect l="l" t="t" r="r" b="b"/>
                <a:pathLst>
                  <a:path w="4111" h="586">
                    <a:moveTo>
                      <a:pt x="4087" y="569"/>
                    </a:moveTo>
                    <a:lnTo>
                      <a:pt x="4107" y="566"/>
                    </a:lnTo>
                    <a:lnTo>
                      <a:pt x="4089" y="546"/>
                    </a:lnTo>
                    <a:lnTo>
                      <a:pt x="4070" y="527"/>
                    </a:lnTo>
                    <a:lnTo>
                      <a:pt x="4051" y="509"/>
                    </a:lnTo>
                    <a:lnTo>
                      <a:pt x="4031" y="491"/>
                    </a:lnTo>
                    <a:lnTo>
                      <a:pt x="4011" y="473"/>
                    </a:lnTo>
                    <a:lnTo>
                      <a:pt x="3991" y="455"/>
                    </a:lnTo>
                    <a:lnTo>
                      <a:pt x="3969" y="438"/>
                    </a:lnTo>
                    <a:lnTo>
                      <a:pt x="3948" y="422"/>
                    </a:lnTo>
                    <a:lnTo>
                      <a:pt x="3904" y="389"/>
                    </a:lnTo>
                    <a:lnTo>
                      <a:pt x="3858" y="359"/>
                    </a:lnTo>
                    <a:lnTo>
                      <a:pt x="3810" y="330"/>
                    </a:lnTo>
                    <a:lnTo>
                      <a:pt x="3761" y="302"/>
                    </a:lnTo>
                    <a:lnTo>
                      <a:pt x="3709" y="276"/>
                    </a:lnTo>
                    <a:lnTo>
                      <a:pt x="3657" y="251"/>
                    </a:lnTo>
                    <a:lnTo>
                      <a:pt x="3603" y="227"/>
                    </a:lnTo>
                    <a:lnTo>
                      <a:pt x="3548" y="206"/>
                    </a:lnTo>
                    <a:lnTo>
                      <a:pt x="3492" y="185"/>
                    </a:lnTo>
                    <a:lnTo>
                      <a:pt x="3434" y="165"/>
                    </a:lnTo>
                    <a:lnTo>
                      <a:pt x="3374" y="146"/>
                    </a:lnTo>
                    <a:lnTo>
                      <a:pt x="3314" y="129"/>
                    </a:lnTo>
                    <a:lnTo>
                      <a:pt x="3252" y="113"/>
                    </a:lnTo>
                    <a:lnTo>
                      <a:pt x="3190" y="100"/>
                    </a:lnTo>
                    <a:lnTo>
                      <a:pt x="3126" y="86"/>
                    </a:lnTo>
                    <a:lnTo>
                      <a:pt x="3061" y="73"/>
                    </a:lnTo>
                    <a:lnTo>
                      <a:pt x="2995" y="62"/>
                    </a:lnTo>
                    <a:lnTo>
                      <a:pt x="2929" y="52"/>
                    </a:lnTo>
                    <a:lnTo>
                      <a:pt x="2860" y="43"/>
                    </a:lnTo>
                    <a:lnTo>
                      <a:pt x="2792" y="33"/>
                    </a:lnTo>
                    <a:lnTo>
                      <a:pt x="2724" y="27"/>
                    </a:lnTo>
                    <a:lnTo>
                      <a:pt x="2654" y="20"/>
                    </a:lnTo>
                    <a:lnTo>
                      <a:pt x="2583" y="15"/>
                    </a:lnTo>
                    <a:lnTo>
                      <a:pt x="2513" y="11"/>
                    </a:lnTo>
                    <a:lnTo>
                      <a:pt x="2441" y="7"/>
                    </a:lnTo>
                    <a:lnTo>
                      <a:pt x="2369" y="4"/>
                    </a:lnTo>
                    <a:lnTo>
                      <a:pt x="2296" y="2"/>
                    </a:lnTo>
                    <a:lnTo>
                      <a:pt x="2223" y="0"/>
                    </a:lnTo>
                    <a:lnTo>
                      <a:pt x="2150" y="0"/>
                    </a:lnTo>
                    <a:lnTo>
                      <a:pt x="2077" y="0"/>
                    </a:lnTo>
                    <a:lnTo>
                      <a:pt x="2003" y="2"/>
                    </a:lnTo>
                    <a:lnTo>
                      <a:pt x="1929" y="3"/>
                    </a:lnTo>
                    <a:lnTo>
                      <a:pt x="1855" y="5"/>
                    </a:lnTo>
                    <a:lnTo>
                      <a:pt x="1781" y="8"/>
                    </a:lnTo>
                    <a:lnTo>
                      <a:pt x="1707" y="12"/>
                    </a:lnTo>
                    <a:lnTo>
                      <a:pt x="1633" y="16"/>
                    </a:lnTo>
                    <a:lnTo>
                      <a:pt x="1486" y="25"/>
                    </a:lnTo>
                    <a:lnTo>
                      <a:pt x="1339" y="37"/>
                    </a:lnTo>
                    <a:lnTo>
                      <a:pt x="1193" y="51"/>
                    </a:lnTo>
                    <a:lnTo>
                      <a:pt x="1048" y="65"/>
                    </a:lnTo>
                    <a:lnTo>
                      <a:pt x="906" y="81"/>
                    </a:lnTo>
                    <a:lnTo>
                      <a:pt x="766" y="98"/>
                    </a:lnTo>
                    <a:lnTo>
                      <a:pt x="629" y="117"/>
                    </a:lnTo>
                    <a:lnTo>
                      <a:pt x="496" y="136"/>
                    </a:lnTo>
                    <a:lnTo>
                      <a:pt x="364" y="154"/>
                    </a:lnTo>
                    <a:lnTo>
                      <a:pt x="239" y="174"/>
                    </a:lnTo>
                    <a:lnTo>
                      <a:pt x="117" y="193"/>
                    </a:lnTo>
                    <a:lnTo>
                      <a:pt x="0" y="212"/>
                    </a:lnTo>
                    <a:lnTo>
                      <a:pt x="4" y="236"/>
                    </a:lnTo>
                    <a:lnTo>
                      <a:pt x="121" y="217"/>
                    </a:lnTo>
                    <a:lnTo>
                      <a:pt x="243" y="198"/>
                    </a:lnTo>
                    <a:lnTo>
                      <a:pt x="368" y="178"/>
                    </a:lnTo>
                    <a:lnTo>
                      <a:pt x="499" y="160"/>
                    </a:lnTo>
                    <a:lnTo>
                      <a:pt x="632" y="141"/>
                    </a:lnTo>
                    <a:lnTo>
                      <a:pt x="769" y="124"/>
                    </a:lnTo>
                    <a:lnTo>
                      <a:pt x="909" y="105"/>
                    </a:lnTo>
                    <a:lnTo>
                      <a:pt x="1051" y="89"/>
                    </a:lnTo>
                    <a:lnTo>
                      <a:pt x="1195" y="74"/>
                    </a:lnTo>
                    <a:lnTo>
                      <a:pt x="1340" y="62"/>
                    </a:lnTo>
                    <a:lnTo>
                      <a:pt x="1487" y="49"/>
                    </a:lnTo>
                    <a:lnTo>
                      <a:pt x="1635" y="40"/>
                    </a:lnTo>
                    <a:lnTo>
                      <a:pt x="1708" y="36"/>
                    </a:lnTo>
                    <a:lnTo>
                      <a:pt x="1782" y="32"/>
                    </a:lnTo>
                    <a:lnTo>
                      <a:pt x="1856" y="30"/>
                    </a:lnTo>
                    <a:lnTo>
                      <a:pt x="1930" y="28"/>
                    </a:lnTo>
                    <a:lnTo>
                      <a:pt x="2003" y="25"/>
                    </a:lnTo>
                    <a:lnTo>
                      <a:pt x="2077" y="24"/>
                    </a:lnTo>
                    <a:lnTo>
                      <a:pt x="2150" y="24"/>
                    </a:lnTo>
                    <a:lnTo>
                      <a:pt x="2223" y="25"/>
                    </a:lnTo>
                    <a:lnTo>
                      <a:pt x="2296" y="27"/>
                    </a:lnTo>
                    <a:lnTo>
                      <a:pt x="2368" y="28"/>
                    </a:lnTo>
                    <a:lnTo>
                      <a:pt x="2440" y="31"/>
                    </a:lnTo>
                    <a:lnTo>
                      <a:pt x="2510" y="35"/>
                    </a:lnTo>
                    <a:lnTo>
                      <a:pt x="2581" y="39"/>
                    </a:lnTo>
                    <a:lnTo>
                      <a:pt x="2652" y="45"/>
                    </a:lnTo>
                    <a:lnTo>
                      <a:pt x="2721" y="51"/>
                    </a:lnTo>
                    <a:lnTo>
                      <a:pt x="2790" y="59"/>
                    </a:lnTo>
                    <a:lnTo>
                      <a:pt x="2858" y="67"/>
                    </a:lnTo>
                    <a:lnTo>
                      <a:pt x="2925" y="76"/>
                    </a:lnTo>
                    <a:lnTo>
                      <a:pt x="2991" y="86"/>
                    </a:lnTo>
                    <a:lnTo>
                      <a:pt x="3056" y="97"/>
                    </a:lnTo>
                    <a:lnTo>
                      <a:pt x="3120" y="109"/>
                    </a:lnTo>
                    <a:lnTo>
                      <a:pt x="3184" y="122"/>
                    </a:lnTo>
                    <a:lnTo>
                      <a:pt x="3247" y="137"/>
                    </a:lnTo>
                    <a:lnTo>
                      <a:pt x="3307" y="153"/>
                    </a:lnTo>
                    <a:lnTo>
                      <a:pt x="3368" y="170"/>
                    </a:lnTo>
                    <a:lnTo>
                      <a:pt x="3426" y="188"/>
                    </a:lnTo>
                    <a:lnTo>
                      <a:pt x="3484" y="208"/>
                    </a:lnTo>
                    <a:lnTo>
                      <a:pt x="3540" y="228"/>
                    </a:lnTo>
                    <a:lnTo>
                      <a:pt x="3594" y="250"/>
                    </a:lnTo>
                    <a:lnTo>
                      <a:pt x="3648" y="273"/>
                    </a:lnTo>
                    <a:lnTo>
                      <a:pt x="3699" y="298"/>
                    </a:lnTo>
                    <a:lnTo>
                      <a:pt x="3749" y="323"/>
                    </a:lnTo>
                    <a:lnTo>
                      <a:pt x="3798" y="350"/>
                    </a:lnTo>
                    <a:lnTo>
                      <a:pt x="3845" y="379"/>
                    </a:lnTo>
                    <a:lnTo>
                      <a:pt x="3889" y="410"/>
                    </a:lnTo>
                    <a:lnTo>
                      <a:pt x="3934" y="442"/>
                    </a:lnTo>
                    <a:lnTo>
                      <a:pt x="3954" y="458"/>
                    </a:lnTo>
                    <a:lnTo>
                      <a:pt x="3975" y="475"/>
                    </a:lnTo>
                    <a:lnTo>
                      <a:pt x="3995" y="492"/>
                    </a:lnTo>
                    <a:lnTo>
                      <a:pt x="4015" y="509"/>
                    </a:lnTo>
                    <a:lnTo>
                      <a:pt x="4034" y="527"/>
                    </a:lnTo>
                    <a:lnTo>
                      <a:pt x="4052" y="545"/>
                    </a:lnTo>
                    <a:lnTo>
                      <a:pt x="4071" y="564"/>
                    </a:lnTo>
                    <a:lnTo>
                      <a:pt x="4089" y="583"/>
                    </a:lnTo>
                    <a:lnTo>
                      <a:pt x="4108" y="580"/>
                    </a:lnTo>
                    <a:lnTo>
                      <a:pt x="4089" y="583"/>
                    </a:lnTo>
                    <a:lnTo>
                      <a:pt x="4093" y="585"/>
                    </a:lnTo>
                    <a:lnTo>
                      <a:pt x="4098" y="586"/>
                    </a:lnTo>
                    <a:lnTo>
                      <a:pt x="4103" y="585"/>
                    </a:lnTo>
                    <a:lnTo>
                      <a:pt x="4106" y="583"/>
                    </a:lnTo>
                    <a:lnTo>
                      <a:pt x="4108" y="580"/>
                    </a:lnTo>
                    <a:lnTo>
                      <a:pt x="4111" y="575"/>
                    </a:lnTo>
                    <a:lnTo>
                      <a:pt x="4109" y="570"/>
                    </a:lnTo>
                    <a:lnTo>
                      <a:pt x="4107" y="566"/>
                    </a:lnTo>
                    <a:lnTo>
                      <a:pt x="4087" y="5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318360" y="312444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114" h="194">
                    <a:moveTo>
                      <a:pt x="92" y="20"/>
                    </a:moveTo>
                    <a:lnTo>
                      <a:pt x="91" y="5"/>
                    </a:lnTo>
                    <a:lnTo>
                      <a:pt x="78" y="27"/>
                    </a:lnTo>
                    <a:lnTo>
                      <a:pt x="67" y="50"/>
                    </a:lnTo>
                    <a:lnTo>
                      <a:pt x="54" y="72"/>
                    </a:lnTo>
                    <a:lnTo>
                      <a:pt x="44" y="94"/>
                    </a:lnTo>
                    <a:lnTo>
                      <a:pt x="33" y="116"/>
                    </a:lnTo>
                    <a:lnTo>
                      <a:pt x="21" y="139"/>
                    </a:lnTo>
                    <a:lnTo>
                      <a:pt x="11" y="160"/>
                    </a:lnTo>
                    <a:lnTo>
                      <a:pt x="0" y="183"/>
                    </a:lnTo>
                    <a:lnTo>
                      <a:pt x="21" y="194"/>
                    </a:lnTo>
                    <a:lnTo>
                      <a:pt x="33" y="172"/>
                    </a:lnTo>
                    <a:lnTo>
                      <a:pt x="43" y="149"/>
                    </a:lnTo>
                    <a:lnTo>
                      <a:pt x="54" y="127"/>
                    </a:lnTo>
                    <a:lnTo>
                      <a:pt x="66" y="105"/>
                    </a:lnTo>
                    <a:lnTo>
                      <a:pt x="76" y="83"/>
                    </a:lnTo>
                    <a:lnTo>
                      <a:pt x="87" y="60"/>
                    </a:lnTo>
                    <a:lnTo>
                      <a:pt x="99" y="38"/>
                    </a:lnTo>
                    <a:lnTo>
                      <a:pt x="111" y="18"/>
                    </a:lnTo>
                    <a:lnTo>
                      <a:pt x="109" y="3"/>
                    </a:lnTo>
                    <a:lnTo>
                      <a:pt x="111" y="18"/>
                    </a:lnTo>
                    <a:lnTo>
                      <a:pt x="114" y="12"/>
                    </a:lnTo>
                    <a:lnTo>
                      <a:pt x="112" y="8"/>
                    </a:lnTo>
                    <a:lnTo>
                      <a:pt x="110" y="4"/>
                    </a:lnTo>
                    <a:lnTo>
                      <a:pt x="107" y="1"/>
                    </a:lnTo>
                    <a:lnTo>
                      <a:pt x="102" y="0"/>
                    </a:lnTo>
                    <a:lnTo>
                      <a:pt x="98" y="0"/>
                    </a:lnTo>
                    <a:lnTo>
                      <a:pt x="94" y="2"/>
                    </a:lnTo>
                    <a:lnTo>
                      <a:pt x="91" y="5"/>
                    </a:lnTo>
                    <a:lnTo>
                      <a:pt x="92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94280" y="2967480"/>
                <a:ext cx="1359000" cy="163440"/>
              </a:xfrm>
              <a:custGeom>
                <a:avLst/>
                <a:gdLst/>
                <a:ahLst/>
                <a:rect l="l" t="t" r="r" b="b"/>
                <a:pathLst>
                  <a:path w="4278" h="513">
                    <a:moveTo>
                      <a:pt x="21" y="197"/>
                    </a:moveTo>
                    <a:lnTo>
                      <a:pt x="12" y="216"/>
                    </a:lnTo>
                    <a:lnTo>
                      <a:pt x="263" y="186"/>
                    </a:lnTo>
                    <a:lnTo>
                      <a:pt x="531" y="154"/>
                    </a:lnTo>
                    <a:lnTo>
                      <a:pt x="671" y="138"/>
                    </a:lnTo>
                    <a:lnTo>
                      <a:pt x="815" y="123"/>
                    </a:lnTo>
                    <a:lnTo>
                      <a:pt x="960" y="107"/>
                    </a:lnTo>
                    <a:lnTo>
                      <a:pt x="1110" y="93"/>
                    </a:lnTo>
                    <a:lnTo>
                      <a:pt x="1261" y="79"/>
                    </a:lnTo>
                    <a:lnTo>
                      <a:pt x="1413" y="66"/>
                    </a:lnTo>
                    <a:lnTo>
                      <a:pt x="1567" y="55"/>
                    </a:lnTo>
                    <a:lnTo>
                      <a:pt x="1722" y="45"/>
                    </a:lnTo>
                    <a:lnTo>
                      <a:pt x="1876" y="37"/>
                    </a:lnTo>
                    <a:lnTo>
                      <a:pt x="2031" y="30"/>
                    </a:lnTo>
                    <a:lnTo>
                      <a:pt x="2107" y="28"/>
                    </a:lnTo>
                    <a:lnTo>
                      <a:pt x="2184" y="26"/>
                    </a:lnTo>
                    <a:lnTo>
                      <a:pt x="2261" y="25"/>
                    </a:lnTo>
                    <a:lnTo>
                      <a:pt x="2337" y="24"/>
                    </a:lnTo>
                    <a:lnTo>
                      <a:pt x="2412" y="24"/>
                    </a:lnTo>
                    <a:lnTo>
                      <a:pt x="2488" y="25"/>
                    </a:lnTo>
                    <a:lnTo>
                      <a:pt x="2563" y="26"/>
                    </a:lnTo>
                    <a:lnTo>
                      <a:pt x="2637" y="29"/>
                    </a:lnTo>
                    <a:lnTo>
                      <a:pt x="2711" y="32"/>
                    </a:lnTo>
                    <a:lnTo>
                      <a:pt x="2784" y="37"/>
                    </a:lnTo>
                    <a:lnTo>
                      <a:pt x="2856" y="41"/>
                    </a:lnTo>
                    <a:lnTo>
                      <a:pt x="2928" y="47"/>
                    </a:lnTo>
                    <a:lnTo>
                      <a:pt x="2998" y="54"/>
                    </a:lnTo>
                    <a:lnTo>
                      <a:pt x="3068" y="61"/>
                    </a:lnTo>
                    <a:lnTo>
                      <a:pt x="3136" y="69"/>
                    </a:lnTo>
                    <a:lnTo>
                      <a:pt x="3204" y="79"/>
                    </a:lnTo>
                    <a:lnTo>
                      <a:pt x="3271" y="89"/>
                    </a:lnTo>
                    <a:lnTo>
                      <a:pt x="3337" y="101"/>
                    </a:lnTo>
                    <a:lnTo>
                      <a:pt x="3401" y="113"/>
                    </a:lnTo>
                    <a:lnTo>
                      <a:pt x="3464" y="127"/>
                    </a:lnTo>
                    <a:lnTo>
                      <a:pt x="3526" y="142"/>
                    </a:lnTo>
                    <a:lnTo>
                      <a:pt x="3586" y="156"/>
                    </a:lnTo>
                    <a:lnTo>
                      <a:pt x="3646" y="174"/>
                    </a:lnTo>
                    <a:lnTo>
                      <a:pt x="3704" y="192"/>
                    </a:lnTo>
                    <a:lnTo>
                      <a:pt x="3760" y="211"/>
                    </a:lnTo>
                    <a:lnTo>
                      <a:pt x="3814" y="232"/>
                    </a:lnTo>
                    <a:lnTo>
                      <a:pt x="3867" y="254"/>
                    </a:lnTo>
                    <a:lnTo>
                      <a:pt x="3918" y="277"/>
                    </a:lnTo>
                    <a:lnTo>
                      <a:pt x="3968" y="302"/>
                    </a:lnTo>
                    <a:lnTo>
                      <a:pt x="4016" y="327"/>
                    </a:lnTo>
                    <a:lnTo>
                      <a:pt x="4062" y="355"/>
                    </a:lnTo>
                    <a:lnTo>
                      <a:pt x="4106" y="383"/>
                    </a:lnTo>
                    <a:lnTo>
                      <a:pt x="4126" y="398"/>
                    </a:lnTo>
                    <a:lnTo>
                      <a:pt x="4147" y="414"/>
                    </a:lnTo>
                    <a:lnTo>
                      <a:pt x="4168" y="429"/>
                    </a:lnTo>
                    <a:lnTo>
                      <a:pt x="4187" y="446"/>
                    </a:lnTo>
                    <a:lnTo>
                      <a:pt x="4206" y="462"/>
                    </a:lnTo>
                    <a:lnTo>
                      <a:pt x="4226" y="479"/>
                    </a:lnTo>
                    <a:lnTo>
                      <a:pt x="4244" y="496"/>
                    </a:lnTo>
                    <a:lnTo>
                      <a:pt x="4261" y="513"/>
                    </a:lnTo>
                    <a:lnTo>
                      <a:pt x="4278" y="496"/>
                    </a:lnTo>
                    <a:lnTo>
                      <a:pt x="4260" y="478"/>
                    </a:lnTo>
                    <a:lnTo>
                      <a:pt x="4242" y="461"/>
                    </a:lnTo>
                    <a:lnTo>
                      <a:pt x="4222" y="444"/>
                    </a:lnTo>
                    <a:lnTo>
                      <a:pt x="4203" y="427"/>
                    </a:lnTo>
                    <a:lnTo>
                      <a:pt x="4182" y="411"/>
                    </a:lnTo>
                    <a:lnTo>
                      <a:pt x="4162" y="395"/>
                    </a:lnTo>
                    <a:lnTo>
                      <a:pt x="4140" y="379"/>
                    </a:lnTo>
                    <a:lnTo>
                      <a:pt x="4119" y="364"/>
                    </a:lnTo>
                    <a:lnTo>
                      <a:pt x="4074" y="334"/>
                    </a:lnTo>
                    <a:lnTo>
                      <a:pt x="4027" y="307"/>
                    </a:lnTo>
                    <a:lnTo>
                      <a:pt x="3978" y="281"/>
                    </a:lnTo>
                    <a:lnTo>
                      <a:pt x="3928" y="256"/>
                    </a:lnTo>
                    <a:lnTo>
                      <a:pt x="3877" y="232"/>
                    </a:lnTo>
                    <a:lnTo>
                      <a:pt x="3823" y="210"/>
                    </a:lnTo>
                    <a:lnTo>
                      <a:pt x="3767" y="188"/>
                    </a:lnTo>
                    <a:lnTo>
                      <a:pt x="3710" y="169"/>
                    </a:lnTo>
                    <a:lnTo>
                      <a:pt x="3652" y="151"/>
                    </a:lnTo>
                    <a:lnTo>
                      <a:pt x="3593" y="134"/>
                    </a:lnTo>
                    <a:lnTo>
                      <a:pt x="3532" y="118"/>
                    </a:lnTo>
                    <a:lnTo>
                      <a:pt x="3469" y="103"/>
                    </a:lnTo>
                    <a:lnTo>
                      <a:pt x="3405" y="89"/>
                    </a:lnTo>
                    <a:lnTo>
                      <a:pt x="3341" y="77"/>
                    </a:lnTo>
                    <a:lnTo>
                      <a:pt x="3275" y="65"/>
                    </a:lnTo>
                    <a:lnTo>
                      <a:pt x="3208" y="55"/>
                    </a:lnTo>
                    <a:lnTo>
                      <a:pt x="3140" y="45"/>
                    </a:lnTo>
                    <a:lnTo>
                      <a:pt x="3070" y="37"/>
                    </a:lnTo>
                    <a:lnTo>
                      <a:pt x="3000" y="29"/>
                    </a:lnTo>
                    <a:lnTo>
                      <a:pt x="2929" y="23"/>
                    </a:lnTo>
                    <a:lnTo>
                      <a:pt x="2858" y="17"/>
                    </a:lnTo>
                    <a:lnTo>
                      <a:pt x="2785" y="13"/>
                    </a:lnTo>
                    <a:lnTo>
                      <a:pt x="2712" y="8"/>
                    </a:lnTo>
                    <a:lnTo>
                      <a:pt x="2638" y="5"/>
                    </a:lnTo>
                    <a:lnTo>
                      <a:pt x="2563" y="3"/>
                    </a:lnTo>
                    <a:lnTo>
                      <a:pt x="2489" y="1"/>
                    </a:lnTo>
                    <a:lnTo>
                      <a:pt x="2412" y="0"/>
                    </a:lnTo>
                    <a:lnTo>
                      <a:pt x="2337" y="0"/>
                    </a:lnTo>
                    <a:lnTo>
                      <a:pt x="2261" y="0"/>
                    </a:lnTo>
                    <a:lnTo>
                      <a:pt x="2183" y="1"/>
                    </a:lnTo>
                    <a:lnTo>
                      <a:pt x="2107" y="4"/>
                    </a:lnTo>
                    <a:lnTo>
                      <a:pt x="2029" y="6"/>
                    </a:lnTo>
                    <a:lnTo>
                      <a:pt x="1874" y="12"/>
                    </a:lnTo>
                    <a:lnTo>
                      <a:pt x="1721" y="21"/>
                    </a:lnTo>
                    <a:lnTo>
                      <a:pt x="1566" y="30"/>
                    </a:lnTo>
                    <a:lnTo>
                      <a:pt x="1412" y="42"/>
                    </a:lnTo>
                    <a:lnTo>
                      <a:pt x="1259" y="55"/>
                    </a:lnTo>
                    <a:lnTo>
                      <a:pt x="1107" y="69"/>
                    </a:lnTo>
                    <a:lnTo>
                      <a:pt x="958" y="83"/>
                    </a:lnTo>
                    <a:lnTo>
                      <a:pt x="812" y="99"/>
                    </a:lnTo>
                    <a:lnTo>
                      <a:pt x="669" y="114"/>
                    </a:lnTo>
                    <a:lnTo>
                      <a:pt x="529" y="130"/>
                    </a:lnTo>
                    <a:lnTo>
                      <a:pt x="260" y="162"/>
                    </a:lnTo>
                    <a:lnTo>
                      <a:pt x="10" y="191"/>
                    </a:lnTo>
                    <a:lnTo>
                      <a:pt x="1" y="209"/>
                    </a:lnTo>
                    <a:lnTo>
                      <a:pt x="10" y="191"/>
                    </a:lnTo>
                    <a:lnTo>
                      <a:pt x="5" y="193"/>
                    </a:lnTo>
                    <a:lnTo>
                      <a:pt x="2" y="196"/>
                    </a:lnTo>
                    <a:lnTo>
                      <a:pt x="0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8" y="215"/>
                    </a:lnTo>
                    <a:lnTo>
                      <a:pt x="12" y="216"/>
                    </a:lnTo>
                    <a:lnTo>
                      <a:pt x="21" y="19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4280" y="3030840"/>
                <a:ext cx="31680" cy="46080"/>
              </a:xfrm>
              <a:custGeom>
                <a:avLst/>
                <a:gdLst/>
                <a:ahLst/>
                <a:rect l="l" t="t" r="r" b="b"/>
                <a:pathLst>
                  <a:path w="96" h="146">
                    <a:moveTo>
                      <a:pt x="81" y="122"/>
                    </a:moveTo>
                    <a:lnTo>
                      <a:pt x="93" y="128"/>
                    </a:lnTo>
                    <a:lnTo>
                      <a:pt x="80" y="103"/>
                    </a:lnTo>
                    <a:lnTo>
                      <a:pt x="69" y="86"/>
                    </a:lnTo>
                    <a:lnTo>
                      <a:pt x="64" y="75"/>
                    </a:lnTo>
                    <a:lnTo>
                      <a:pt x="59" y="65"/>
                    </a:lnTo>
                    <a:lnTo>
                      <a:pt x="53" y="57"/>
                    </a:lnTo>
                    <a:lnTo>
                      <a:pt x="47" y="45"/>
                    </a:lnTo>
                    <a:lnTo>
                      <a:pt x="36" y="27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26" y="57"/>
                    </a:lnTo>
                    <a:lnTo>
                      <a:pt x="33" y="69"/>
                    </a:lnTo>
                    <a:lnTo>
                      <a:pt x="37" y="78"/>
                    </a:lnTo>
                    <a:lnTo>
                      <a:pt x="42" y="86"/>
                    </a:lnTo>
                    <a:lnTo>
                      <a:pt x="49" y="97"/>
                    </a:lnTo>
                    <a:lnTo>
                      <a:pt x="58" y="114"/>
                    </a:lnTo>
                    <a:lnTo>
                      <a:pt x="73" y="141"/>
                    </a:lnTo>
                    <a:lnTo>
                      <a:pt x="85" y="146"/>
                    </a:lnTo>
                    <a:lnTo>
                      <a:pt x="73" y="141"/>
                    </a:lnTo>
                    <a:lnTo>
                      <a:pt x="76" y="144"/>
                    </a:lnTo>
                    <a:lnTo>
                      <a:pt x="81" y="146"/>
                    </a:lnTo>
                    <a:lnTo>
                      <a:pt x="85" y="146"/>
                    </a:lnTo>
                    <a:lnTo>
                      <a:pt x="89" y="145"/>
                    </a:lnTo>
                    <a:lnTo>
                      <a:pt x="92" y="142"/>
                    </a:lnTo>
                    <a:lnTo>
                      <a:pt x="94" y="138"/>
                    </a:lnTo>
                    <a:lnTo>
                      <a:pt x="96" y="134"/>
                    </a:lnTo>
                    <a:lnTo>
                      <a:pt x="93" y="128"/>
                    </a:lnTo>
                    <a:lnTo>
                      <a:pt x="81" y="1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324320" y="2991240"/>
                <a:ext cx="1222560" cy="1182600"/>
              </a:xfrm>
              <a:custGeom>
                <a:avLst/>
                <a:gdLst/>
                <a:ahLst/>
                <a:rect l="l" t="t" r="r" b="b"/>
                <a:pathLst>
                  <a:path w="3849" h="3727">
                    <a:moveTo>
                      <a:pt x="273" y="97"/>
                    </a:moveTo>
                    <a:lnTo>
                      <a:pt x="263" y="120"/>
                    </a:lnTo>
                    <a:lnTo>
                      <a:pt x="255" y="143"/>
                    </a:lnTo>
                    <a:lnTo>
                      <a:pt x="248" y="165"/>
                    </a:lnTo>
                    <a:lnTo>
                      <a:pt x="243" y="188"/>
                    </a:lnTo>
                    <a:lnTo>
                      <a:pt x="238" y="211"/>
                    </a:lnTo>
                    <a:lnTo>
                      <a:pt x="235" y="234"/>
                    </a:lnTo>
                    <a:lnTo>
                      <a:pt x="234" y="257"/>
                    </a:lnTo>
                    <a:lnTo>
                      <a:pt x="232" y="279"/>
                    </a:lnTo>
                    <a:lnTo>
                      <a:pt x="232" y="325"/>
                    </a:lnTo>
                    <a:lnTo>
                      <a:pt x="235" y="370"/>
                    </a:lnTo>
                    <a:lnTo>
                      <a:pt x="238" y="414"/>
                    </a:lnTo>
                    <a:lnTo>
                      <a:pt x="241" y="457"/>
                    </a:lnTo>
                    <a:lnTo>
                      <a:pt x="244" y="501"/>
                    </a:lnTo>
                    <a:lnTo>
                      <a:pt x="245" y="543"/>
                    </a:lnTo>
                    <a:lnTo>
                      <a:pt x="244" y="563"/>
                    </a:lnTo>
                    <a:lnTo>
                      <a:pt x="243" y="584"/>
                    </a:lnTo>
                    <a:lnTo>
                      <a:pt x="239" y="604"/>
                    </a:lnTo>
                    <a:lnTo>
                      <a:pt x="236" y="624"/>
                    </a:lnTo>
                    <a:lnTo>
                      <a:pt x="231" y="643"/>
                    </a:lnTo>
                    <a:lnTo>
                      <a:pt x="224" y="663"/>
                    </a:lnTo>
                    <a:lnTo>
                      <a:pt x="216" y="682"/>
                    </a:lnTo>
                    <a:lnTo>
                      <a:pt x="207" y="700"/>
                    </a:lnTo>
                    <a:lnTo>
                      <a:pt x="196" y="718"/>
                    </a:lnTo>
                    <a:lnTo>
                      <a:pt x="182" y="737"/>
                    </a:lnTo>
                    <a:lnTo>
                      <a:pt x="166" y="754"/>
                    </a:lnTo>
                    <a:lnTo>
                      <a:pt x="149" y="771"/>
                    </a:lnTo>
                    <a:lnTo>
                      <a:pt x="113" y="830"/>
                    </a:lnTo>
                    <a:lnTo>
                      <a:pt x="82" y="883"/>
                    </a:lnTo>
                    <a:lnTo>
                      <a:pt x="57" y="929"/>
                    </a:lnTo>
                    <a:lnTo>
                      <a:pt x="36" y="970"/>
                    </a:lnTo>
                    <a:lnTo>
                      <a:pt x="28" y="989"/>
                    </a:lnTo>
                    <a:lnTo>
                      <a:pt x="20" y="1007"/>
                    </a:lnTo>
                    <a:lnTo>
                      <a:pt x="15" y="1025"/>
                    </a:lnTo>
                    <a:lnTo>
                      <a:pt x="10" y="1042"/>
                    </a:lnTo>
                    <a:lnTo>
                      <a:pt x="6" y="1058"/>
                    </a:lnTo>
                    <a:lnTo>
                      <a:pt x="2" y="1074"/>
                    </a:lnTo>
                    <a:lnTo>
                      <a:pt x="1" y="1090"/>
                    </a:lnTo>
                    <a:lnTo>
                      <a:pt x="0" y="1106"/>
                    </a:lnTo>
                    <a:lnTo>
                      <a:pt x="0" y="1122"/>
                    </a:lnTo>
                    <a:lnTo>
                      <a:pt x="0" y="1138"/>
                    </a:lnTo>
                    <a:lnTo>
                      <a:pt x="2" y="1154"/>
                    </a:lnTo>
                    <a:lnTo>
                      <a:pt x="4" y="1171"/>
                    </a:lnTo>
                    <a:lnTo>
                      <a:pt x="11" y="1205"/>
                    </a:lnTo>
                    <a:lnTo>
                      <a:pt x="20" y="1244"/>
                    </a:lnTo>
                    <a:lnTo>
                      <a:pt x="47" y="1334"/>
                    </a:lnTo>
                    <a:lnTo>
                      <a:pt x="80" y="1448"/>
                    </a:lnTo>
                    <a:lnTo>
                      <a:pt x="170" y="1492"/>
                    </a:lnTo>
                    <a:lnTo>
                      <a:pt x="260" y="1535"/>
                    </a:lnTo>
                    <a:lnTo>
                      <a:pt x="304" y="1555"/>
                    </a:lnTo>
                    <a:lnTo>
                      <a:pt x="350" y="1575"/>
                    </a:lnTo>
                    <a:lnTo>
                      <a:pt x="394" y="1593"/>
                    </a:lnTo>
                    <a:lnTo>
                      <a:pt x="440" y="1611"/>
                    </a:lnTo>
                    <a:lnTo>
                      <a:pt x="484" y="1629"/>
                    </a:lnTo>
                    <a:lnTo>
                      <a:pt x="529" y="1645"/>
                    </a:lnTo>
                    <a:lnTo>
                      <a:pt x="574" y="1661"/>
                    </a:lnTo>
                    <a:lnTo>
                      <a:pt x="619" y="1676"/>
                    </a:lnTo>
                    <a:lnTo>
                      <a:pt x="663" y="1691"/>
                    </a:lnTo>
                    <a:lnTo>
                      <a:pt x="708" y="1703"/>
                    </a:lnTo>
                    <a:lnTo>
                      <a:pt x="751" y="1716"/>
                    </a:lnTo>
                    <a:lnTo>
                      <a:pt x="795" y="1727"/>
                    </a:lnTo>
                    <a:lnTo>
                      <a:pt x="839" y="1738"/>
                    </a:lnTo>
                    <a:lnTo>
                      <a:pt x="882" y="1747"/>
                    </a:lnTo>
                    <a:lnTo>
                      <a:pt x="925" y="1755"/>
                    </a:lnTo>
                    <a:lnTo>
                      <a:pt x="967" y="1761"/>
                    </a:lnTo>
                    <a:lnTo>
                      <a:pt x="1011" y="1767"/>
                    </a:lnTo>
                    <a:lnTo>
                      <a:pt x="1053" y="1772"/>
                    </a:lnTo>
                    <a:lnTo>
                      <a:pt x="1094" y="1774"/>
                    </a:lnTo>
                    <a:lnTo>
                      <a:pt x="1135" y="1776"/>
                    </a:lnTo>
                    <a:lnTo>
                      <a:pt x="1176" y="1776"/>
                    </a:lnTo>
                    <a:lnTo>
                      <a:pt x="1217" y="1775"/>
                    </a:lnTo>
                    <a:lnTo>
                      <a:pt x="1257" y="1773"/>
                    </a:lnTo>
                    <a:lnTo>
                      <a:pt x="1296" y="1768"/>
                    </a:lnTo>
                    <a:lnTo>
                      <a:pt x="1334" y="1763"/>
                    </a:lnTo>
                    <a:lnTo>
                      <a:pt x="1373" y="1756"/>
                    </a:lnTo>
                    <a:lnTo>
                      <a:pt x="1411" y="1747"/>
                    </a:lnTo>
                    <a:lnTo>
                      <a:pt x="1448" y="1736"/>
                    </a:lnTo>
                    <a:lnTo>
                      <a:pt x="1416" y="1771"/>
                    </a:lnTo>
                    <a:lnTo>
                      <a:pt x="1387" y="1804"/>
                    </a:lnTo>
                    <a:lnTo>
                      <a:pt x="1361" y="1838"/>
                    </a:lnTo>
                    <a:lnTo>
                      <a:pt x="1338" y="1871"/>
                    </a:lnTo>
                    <a:lnTo>
                      <a:pt x="1316" y="1903"/>
                    </a:lnTo>
                    <a:lnTo>
                      <a:pt x="1298" y="1936"/>
                    </a:lnTo>
                    <a:lnTo>
                      <a:pt x="1281" y="1968"/>
                    </a:lnTo>
                    <a:lnTo>
                      <a:pt x="1266" y="2000"/>
                    </a:lnTo>
                    <a:lnTo>
                      <a:pt x="1254" y="2032"/>
                    </a:lnTo>
                    <a:lnTo>
                      <a:pt x="1242" y="2064"/>
                    </a:lnTo>
                    <a:lnTo>
                      <a:pt x="1231" y="2094"/>
                    </a:lnTo>
                    <a:lnTo>
                      <a:pt x="1222" y="2126"/>
                    </a:lnTo>
                    <a:lnTo>
                      <a:pt x="1206" y="2189"/>
                    </a:lnTo>
                    <a:lnTo>
                      <a:pt x="1190" y="2251"/>
                    </a:lnTo>
                    <a:lnTo>
                      <a:pt x="1175" y="2313"/>
                    </a:lnTo>
                    <a:lnTo>
                      <a:pt x="1159" y="2375"/>
                    </a:lnTo>
                    <a:lnTo>
                      <a:pt x="1150" y="2407"/>
                    </a:lnTo>
                    <a:lnTo>
                      <a:pt x="1138" y="2439"/>
                    </a:lnTo>
                    <a:lnTo>
                      <a:pt x="1127" y="2469"/>
                    </a:lnTo>
                    <a:lnTo>
                      <a:pt x="1114" y="2501"/>
                    </a:lnTo>
                    <a:lnTo>
                      <a:pt x="1100" y="2533"/>
                    </a:lnTo>
                    <a:lnTo>
                      <a:pt x="1083" y="2566"/>
                    </a:lnTo>
                    <a:lnTo>
                      <a:pt x="1064" y="2598"/>
                    </a:lnTo>
                    <a:lnTo>
                      <a:pt x="1044" y="2631"/>
                    </a:lnTo>
                    <a:lnTo>
                      <a:pt x="1020" y="2664"/>
                    </a:lnTo>
                    <a:lnTo>
                      <a:pt x="995" y="2699"/>
                    </a:lnTo>
                    <a:lnTo>
                      <a:pt x="965" y="2733"/>
                    </a:lnTo>
                    <a:lnTo>
                      <a:pt x="933" y="2767"/>
                    </a:lnTo>
                    <a:lnTo>
                      <a:pt x="1013" y="2829"/>
                    </a:lnTo>
                    <a:lnTo>
                      <a:pt x="1094" y="2888"/>
                    </a:lnTo>
                    <a:lnTo>
                      <a:pt x="1175" y="2946"/>
                    </a:lnTo>
                    <a:lnTo>
                      <a:pt x="1257" y="3001"/>
                    </a:lnTo>
                    <a:lnTo>
                      <a:pt x="1339" y="3054"/>
                    </a:lnTo>
                    <a:lnTo>
                      <a:pt x="1423" y="3106"/>
                    </a:lnTo>
                    <a:lnTo>
                      <a:pt x="1507" y="3156"/>
                    </a:lnTo>
                    <a:lnTo>
                      <a:pt x="1592" y="3202"/>
                    </a:lnTo>
                    <a:lnTo>
                      <a:pt x="1677" y="3248"/>
                    </a:lnTo>
                    <a:lnTo>
                      <a:pt x="1763" y="3291"/>
                    </a:lnTo>
                    <a:lnTo>
                      <a:pt x="1850" y="3332"/>
                    </a:lnTo>
                    <a:lnTo>
                      <a:pt x="1937" y="3372"/>
                    </a:lnTo>
                    <a:lnTo>
                      <a:pt x="2026" y="3409"/>
                    </a:lnTo>
                    <a:lnTo>
                      <a:pt x="2115" y="3444"/>
                    </a:lnTo>
                    <a:lnTo>
                      <a:pt x="2205" y="3477"/>
                    </a:lnTo>
                    <a:lnTo>
                      <a:pt x="2295" y="3508"/>
                    </a:lnTo>
                    <a:lnTo>
                      <a:pt x="2386" y="3538"/>
                    </a:lnTo>
                    <a:lnTo>
                      <a:pt x="2479" y="3564"/>
                    </a:lnTo>
                    <a:lnTo>
                      <a:pt x="2571" y="3589"/>
                    </a:lnTo>
                    <a:lnTo>
                      <a:pt x="2664" y="3612"/>
                    </a:lnTo>
                    <a:lnTo>
                      <a:pt x="2759" y="3632"/>
                    </a:lnTo>
                    <a:lnTo>
                      <a:pt x="2854" y="3650"/>
                    </a:lnTo>
                    <a:lnTo>
                      <a:pt x="2949" y="3668"/>
                    </a:lnTo>
                    <a:lnTo>
                      <a:pt x="3045" y="3682"/>
                    </a:lnTo>
                    <a:lnTo>
                      <a:pt x="3142" y="3695"/>
                    </a:lnTo>
                    <a:lnTo>
                      <a:pt x="3240" y="3705"/>
                    </a:lnTo>
                    <a:lnTo>
                      <a:pt x="3338" y="3713"/>
                    </a:lnTo>
                    <a:lnTo>
                      <a:pt x="3437" y="3720"/>
                    </a:lnTo>
                    <a:lnTo>
                      <a:pt x="3537" y="3725"/>
                    </a:lnTo>
                    <a:lnTo>
                      <a:pt x="3638" y="3727"/>
                    </a:lnTo>
                    <a:lnTo>
                      <a:pt x="3739" y="3727"/>
                    </a:lnTo>
                    <a:lnTo>
                      <a:pt x="3842" y="3725"/>
                    </a:lnTo>
                    <a:lnTo>
                      <a:pt x="3826" y="3603"/>
                    </a:lnTo>
                    <a:lnTo>
                      <a:pt x="3814" y="3476"/>
                    </a:lnTo>
                    <a:lnTo>
                      <a:pt x="3808" y="3347"/>
                    </a:lnTo>
                    <a:lnTo>
                      <a:pt x="3804" y="3216"/>
                    </a:lnTo>
                    <a:lnTo>
                      <a:pt x="3804" y="3082"/>
                    </a:lnTo>
                    <a:lnTo>
                      <a:pt x="3805" y="2946"/>
                    </a:lnTo>
                    <a:lnTo>
                      <a:pt x="3810" y="2808"/>
                    </a:lnTo>
                    <a:lnTo>
                      <a:pt x="3814" y="2670"/>
                    </a:lnTo>
                    <a:lnTo>
                      <a:pt x="3828" y="2392"/>
                    </a:lnTo>
                    <a:lnTo>
                      <a:pt x="3839" y="2115"/>
                    </a:lnTo>
                    <a:lnTo>
                      <a:pt x="3844" y="1978"/>
                    </a:lnTo>
                    <a:lnTo>
                      <a:pt x="3847" y="1842"/>
                    </a:lnTo>
                    <a:lnTo>
                      <a:pt x="3849" y="1709"/>
                    </a:lnTo>
                    <a:lnTo>
                      <a:pt x="3846" y="1578"/>
                    </a:lnTo>
                    <a:lnTo>
                      <a:pt x="3841" y="1449"/>
                    </a:lnTo>
                    <a:lnTo>
                      <a:pt x="3831" y="1325"/>
                    </a:lnTo>
                    <a:lnTo>
                      <a:pt x="3819" y="1203"/>
                    </a:lnTo>
                    <a:lnTo>
                      <a:pt x="3801" y="1087"/>
                    </a:lnTo>
                    <a:lnTo>
                      <a:pt x="3777" y="974"/>
                    </a:lnTo>
                    <a:lnTo>
                      <a:pt x="3747" y="867"/>
                    </a:lnTo>
                    <a:lnTo>
                      <a:pt x="3712" y="764"/>
                    </a:lnTo>
                    <a:lnTo>
                      <a:pt x="3669" y="668"/>
                    </a:lnTo>
                    <a:lnTo>
                      <a:pt x="3618" y="578"/>
                    </a:lnTo>
                    <a:lnTo>
                      <a:pt x="3561" y="495"/>
                    </a:lnTo>
                    <a:lnTo>
                      <a:pt x="3494" y="419"/>
                    </a:lnTo>
                    <a:lnTo>
                      <a:pt x="3419" y="350"/>
                    </a:lnTo>
                    <a:lnTo>
                      <a:pt x="3335" y="289"/>
                    </a:lnTo>
                    <a:lnTo>
                      <a:pt x="3239" y="237"/>
                    </a:lnTo>
                    <a:lnTo>
                      <a:pt x="3134" y="194"/>
                    </a:lnTo>
                    <a:lnTo>
                      <a:pt x="3017" y="160"/>
                    </a:lnTo>
                    <a:lnTo>
                      <a:pt x="2866" y="136"/>
                    </a:lnTo>
                    <a:lnTo>
                      <a:pt x="2711" y="113"/>
                    </a:lnTo>
                    <a:lnTo>
                      <a:pt x="2553" y="91"/>
                    </a:lnTo>
                    <a:lnTo>
                      <a:pt x="2391" y="71"/>
                    </a:lnTo>
                    <a:lnTo>
                      <a:pt x="2309" y="61"/>
                    </a:lnTo>
                    <a:lnTo>
                      <a:pt x="2227" y="51"/>
                    </a:lnTo>
                    <a:lnTo>
                      <a:pt x="2142" y="42"/>
                    </a:lnTo>
                    <a:lnTo>
                      <a:pt x="2059" y="34"/>
                    </a:lnTo>
                    <a:lnTo>
                      <a:pt x="1974" y="28"/>
                    </a:lnTo>
                    <a:lnTo>
                      <a:pt x="1888" y="21"/>
                    </a:lnTo>
                    <a:lnTo>
                      <a:pt x="1803" y="15"/>
                    </a:lnTo>
                    <a:lnTo>
                      <a:pt x="1716" y="10"/>
                    </a:lnTo>
                    <a:lnTo>
                      <a:pt x="1630" y="6"/>
                    </a:lnTo>
                    <a:lnTo>
                      <a:pt x="1542" y="4"/>
                    </a:lnTo>
                    <a:lnTo>
                      <a:pt x="1453" y="1"/>
                    </a:lnTo>
                    <a:lnTo>
                      <a:pt x="1365" y="0"/>
                    </a:lnTo>
                    <a:lnTo>
                      <a:pt x="1276" y="0"/>
                    </a:lnTo>
                    <a:lnTo>
                      <a:pt x="1186" y="2"/>
                    </a:lnTo>
                    <a:lnTo>
                      <a:pt x="1096" y="5"/>
                    </a:lnTo>
                    <a:lnTo>
                      <a:pt x="1006" y="9"/>
                    </a:lnTo>
                    <a:lnTo>
                      <a:pt x="915" y="15"/>
                    </a:lnTo>
                    <a:lnTo>
                      <a:pt x="825" y="22"/>
                    </a:lnTo>
                    <a:lnTo>
                      <a:pt x="734" y="30"/>
                    </a:lnTo>
                    <a:lnTo>
                      <a:pt x="642" y="40"/>
                    </a:lnTo>
                    <a:lnTo>
                      <a:pt x="550" y="51"/>
                    </a:lnTo>
                    <a:lnTo>
                      <a:pt x="458" y="65"/>
                    </a:lnTo>
                    <a:lnTo>
                      <a:pt x="366" y="80"/>
                    </a:lnTo>
                    <a:lnTo>
                      <a:pt x="273" y="97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367160" y="3019680"/>
                <a:ext cx="47520" cy="220680"/>
              </a:xfrm>
              <a:custGeom>
                <a:avLst/>
                <a:gdLst/>
                <a:ahLst/>
                <a:rect l="l" t="t" r="r" b="b"/>
                <a:pathLst>
                  <a:path w="148" h="692">
                    <a:moveTo>
                      <a:pt x="22" y="687"/>
                    </a:moveTo>
                    <a:lnTo>
                      <a:pt x="20" y="689"/>
                    </a:lnTo>
                    <a:lnTo>
                      <a:pt x="38" y="672"/>
                    </a:lnTo>
                    <a:lnTo>
                      <a:pt x="54" y="654"/>
                    </a:lnTo>
                    <a:lnTo>
                      <a:pt x="68" y="634"/>
                    </a:lnTo>
                    <a:lnTo>
                      <a:pt x="81" y="615"/>
                    </a:lnTo>
                    <a:lnTo>
                      <a:pt x="91" y="595"/>
                    </a:lnTo>
                    <a:lnTo>
                      <a:pt x="99" y="576"/>
                    </a:lnTo>
                    <a:lnTo>
                      <a:pt x="106" y="556"/>
                    </a:lnTo>
                    <a:lnTo>
                      <a:pt x="110" y="535"/>
                    </a:lnTo>
                    <a:lnTo>
                      <a:pt x="115" y="515"/>
                    </a:lnTo>
                    <a:lnTo>
                      <a:pt x="117" y="494"/>
                    </a:lnTo>
                    <a:lnTo>
                      <a:pt x="119" y="473"/>
                    </a:lnTo>
                    <a:lnTo>
                      <a:pt x="119" y="452"/>
                    </a:lnTo>
                    <a:lnTo>
                      <a:pt x="119" y="410"/>
                    </a:lnTo>
                    <a:lnTo>
                      <a:pt x="117" y="365"/>
                    </a:lnTo>
                    <a:lnTo>
                      <a:pt x="112" y="322"/>
                    </a:lnTo>
                    <a:lnTo>
                      <a:pt x="109" y="277"/>
                    </a:lnTo>
                    <a:lnTo>
                      <a:pt x="107" y="233"/>
                    </a:lnTo>
                    <a:lnTo>
                      <a:pt x="107" y="188"/>
                    </a:lnTo>
                    <a:lnTo>
                      <a:pt x="108" y="167"/>
                    </a:lnTo>
                    <a:lnTo>
                      <a:pt x="110" y="144"/>
                    </a:lnTo>
                    <a:lnTo>
                      <a:pt x="114" y="122"/>
                    </a:lnTo>
                    <a:lnTo>
                      <a:pt x="117" y="100"/>
                    </a:lnTo>
                    <a:lnTo>
                      <a:pt x="123" y="78"/>
                    </a:lnTo>
                    <a:lnTo>
                      <a:pt x="130" y="56"/>
                    </a:lnTo>
                    <a:lnTo>
                      <a:pt x="138" y="33"/>
                    </a:lnTo>
                    <a:lnTo>
                      <a:pt x="148" y="12"/>
                    </a:lnTo>
                    <a:lnTo>
                      <a:pt x="126" y="0"/>
                    </a:lnTo>
                    <a:lnTo>
                      <a:pt x="116" y="24"/>
                    </a:lnTo>
                    <a:lnTo>
                      <a:pt x="107" y="48"/>
                    </a:lnTo>
                    <a:lnTo>
                      <a:pt x="99" y="71"/>
                    </a:lnTo>
                    <a:lnTo>
                      <a:pt x="93" y="95"/>
                    </a:lnTo>
                    <a:lnTo>
                      <a:pt x="90" y="119"/>
                    </a:lnTo>
                    <a:lnTo>
                      <a:pt x="86" y="142"/>
                    </a:lnTo>
                    <a:lnTo>
                      <a:pt x="84" y="165"/>
                    </a:lnTo>
                    <a:lnTo>
                      <a:pt x="83" y="188"/>
                    </a:lnTo>
                    <a:lnTo>
                      <a:pt x="83" y="234"/>
                    </a:lnTo>
                    <a:lnTo>
                      <a:pt x="85" y="280"/>
                    </a:lnTo>
                    <a:lnTo>
                      <a:pt x="89" y="324"/>
                    </a:lnTo>
                    <a:lnTo>
                      <a:pt x="92" y="367"/>
                    </a:lnTo>
                    <a:lnTo>
                      <a:pt x="95" y="410"/>
                    </a:lnTo>
                    <a:lnTo>
                      <a:pt x="95" y="452"/>
                    </a:lnTo>
                    <a:lnTo>
                      <a:pt x="95" y="471"/>
                    </a:lnTo>
                    <a:lnTo>
                      <a:pt x="93" y="492"/>
                    </a:lnTo>
                    <a:lnTo>
                      <a:pt x="91" y="511"/>
                    </a:lnTo>
                    <a:lnTo>
                      <a:pt x="87" y="530"/>
                    </a:lnTo>
                    <a:lnTo>
                      <a:pt x="82" y="549"/>
                    </a:lnTo>
                    <a:lnTo>
                      <a:pt x="76" y="568"/>
                    </a:lnTo>
                    <a:lnTo>
                      <a:pt x="68" y="585"/>
                    </a:lnTo>
                    <a:lnTo>
                      <a:pt x="59" y="603"/>
                    </a:lnTo>
                    <a:lnTo>
                      <a:pt x="49" y="621"/>
                    </a:lnTo>
                    <a:lnTo>
                      <a:pt x="36" y="638"/>
                    </a:lnTo>
                    <a:lnTo>
                      <a:pt x="21" y="655"/>
                    </a:lnTo>
                    <a:lnTo>
                      <a:pt x="4" y="671"/>
                    </a:lnTo>
                    <a:lnTo>
                      <a:pt x="2" y="674"/>
                    </a:lnTo>
                    <a:lnTo>
                      <a:pt x="4" y="671"/>
                    </a:lnTo>
                    <a:lnTo>
                      <a:pt x="1" y="675"/>
                    </a:lnTo>
                    <a:lnTo>
                      <a:pt x="0" y="680"/>
                    </a:lnTo>
                    <a:lnTo>
                      <a:pt x="1" y="684"/>
                    </a:lnTo>
                    <a:lnTo>
                      <a:pt x="3" y="688"/>
                    </a:lnTo>
                    <a:lnTo>
                      <a:pt x="6" y="691"/>
                    </a:lnTo>
                    <a:lnTo>
                      <a:pt x="11" y="692"/>
                    </a:lnTo>
                    <a:lnTo>
                      <a:pt x="16" y="692"/>
                    </a:lnTo>
                    <a:lnTo>
                      <a:pt x="20" y="689"/>
                    </a:lnTo>
                    <a:lnTo>
                      <a:pt x="22" y="6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319640" y="3233880"/>
                <a:ext cx="55440" cy="220680"/>
              </a:xfrm>
              <a:custGeom>
                <a:avLst/>
                <a:gdLst/>
                <a:ahLst/>
                <a:rect l="l" t="t" r="r" b="b"/>
                <a:pathLst>
                  <a:path w="172" h="696">
                    <a:moveTo>
                      <a:pt x="98" y="673"/>
                    </a:moveTo>
                    <a:lnTo>
                      <a:pt x="104" y="681"/>
                    </a:lnTo>
                    <a:lnTo>
                      <a:pt x="71" y="566"/>
                    </a:lnTo>
                    <a:lnTo>
                      <a:pt x="45" y="476"/>
                    </a:lnTo>
                    <a:lnTo>
                      <a:pt x="36" y="438"/>
                    </a:lnTo>
                    <a:lnTo>
                      <a:pt x="29" y="404"/>
                    </a:lnTo>
                    <a:lnTo>
                      <a:pt x="27" y="388"/>
                    </a:lnTo>
                    <a:lnTo>
                      <a:pt x="25" y="372"/>
                    </a:lnTo>
                    <a:lnTo>
                      <a:pt x="24" y="357"/>
                    </a:lnTo>
                    <a:lnTo>
                      <a:pt x="24" y="341"/>
                    </a:lnTo>
                    <a:lnTo>
                      <a:pt x="25" y="326"/>
                    </a:lnTo>
                    <a:lnTo>
                      <a:pt x="28" y="311"/>
                    </a:lnTo>
                    <a:lnTo>
                      <a:pt x="30" y="295"/>
                    </a:lnTo>
                    <a:lnTo>
                      <a:pt x="35" y="279"/>
                    </a:lnTo>
                    <a:lnTo>
                      <a:pt x="39" y="263"/>
                    </a:lnTo>
                    <a:lnTo>
                      <a:pt x="45" y="246"/>
                    </a:lnTo>
                    <a:lnTo>
                      <a:pt x="52" y="229"/>
                    </a:lnTo>
                    <a:lnTo>
                      <a:pt x="61" y="210"/>
                    </a:lnTo>
                    <a:lnTo>
                      <a:pt x="80" y="169"/>
                    </a:lnTo>
                    <a:lnTo>
                      <a:pt x="105" y="123"/>
                    </a:lnTo>
                    <a:lnTo>
                      <a:pt x="136" y="72"/>
                    </a:lnTo>
                    <a:lnTo>
                      <a:pt x="172" y="13"/>
                    </a:lnTo>
                    <a:lnTo>
                      <a:pt x="152" y="0"/>
                    </a:lnTo>
                    <a:lnTo>
                      <a:pt x="115" y="59"/>
                    </a:lnTo>
                    <a:lnTo>
                      <a:pt x="85" y="112"/>
                    </a:lnTo>
                    <a:lnTo>
                      <a:pt x="58" y="159"/>
                    </a:lnTo>
                    <a:lnTo>
                      <a:pt x="38" y="200"/>
                    </a:lnTo>
                    <a:lnTo>
                      <a:pt x="30" y="219"/>
                    </a:lnTo>
                    <a:lnTo>
                      <a:pt x="22" y="238"/>
                    </a:lnTo>
                    <a:lnTo>
                      <a:pt x="16" y="257"/>
                    </a:lnTo>
                    <a:lnTo>
                      <a:pt x="11" y="274"/>
                    </a:lnTo>
                    <a:lnTo>
                      <a:pt x="7" y="291"/>
                    </a:lnTo>
                    <a:lnTo>
                      <a:pt x="4" y="308"/>
                    </a:lnTo>
                    <a:lnTo>
                      <a:pt x="1" y="324"/>
                    </a:lnTo>
                    <a:lnTo>
                      <a:pt x="0" y="340"/>
                    </a:lnTo>
                    <a:lnTo>
                      <a:pt x="0" y="357"/>
                    </a:lnTo>
                    <a:lnTo>
                      <a:pt x="1" y="373"/>
                    </a:lnTo>
                    <a:lnTo>
                      <a:pt x="3" y="390"/>
                    </a:lnTo>
                    <a:lnTo>
                      <a:pt x="5" y="407"/>
                    </a:lnTo>
                    <a:lnTo>
                      <a:pt x="12" y="444"/>
                    </a:lnTo>
                    <a:lnTo>
                      <a:pt x="22" y="482"/>
                    </a:lnTo>
                    <a:lnTo>
                      <a:pt x="48" y="572"/>
                    </a:lnTo>
                    <a:lnTo>
                      <a:pt x="81" y="686"/>
                    </a:lnTo>
                    <a:lnTo>
                      <a:pt x="88" y="694"/>
                    </a:lnTo>
                    <a:lnTo>
                      <a:pt x="81" y="686"/>
                    </a:lnTo>
                    <a:lnTo>
                      <a:pt x="84" y="691"/>
                    </a:lnTo>
                    <a:lnTo>
                      <a:pt x="87" y="694"/>
                    </a:lnTo>
                    <a:lnTo>
                      <a:pt x="92" y="696"/>
                    </a:lnTo>
                    <a:lnTo>
                      <a:pt x="96" y="696"/>
                    </a:lnTo>
                    <a:lnTo>
                      <a:pt x="101" y="693"/>
                    </a:lnTo>
                    <a:lnTo>
                      <a:pt x="103" y="690"/>
                    </a:lnTo>
                    <a:lnTo>
                      <a:pt x="105" y="685"/>
                    </a:lnTo>
                    <a:lnTo>
                      <a:pt x="104" y="681"/>
                    </a:lnTo>
                    <a:lnTo>
                      <a:pt x="98" y="6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348080" y="3448440"/>
                <a:ext cx="439920" cy="110880"/>
              </a:xfrm>
              <a:custGeom>
                <a:avLst/>
                <a:gdLst/>
                <a:ahLst/>
                <a:rect l="l" t="t" r="r" b="b"/>
                <a:pathLst>
                  <a:path w="1385" h="350">
                    <a:moveTo>
                      <a:pt x="1381" y="306"/>
                    </a:moveTo>
                    <a:lnTo>
                      <a:pt x="1370" y="287"/>
                    </a:lnTo>
                    <a:lnTo>
                      <a:pt x="1332" y="297"/>
                    </a:lnTo>
                    <a:lnTo>
                      <a:pt x="1296" y="305"/>
                    </a:lnTo>
                    <a:lnTo>
                      <a:pt x="1258" y="313"/>
                    </a:lnTo>
                    <a:lnTo>
                      <a:pt x="1220" y="318"/>
                    </a:lnTo>
                    <a:lnTo>
                      <a:pt x="1181" y="322"/>
                    </a:lnTo>
                    <a:lnTo>
                      <a:pt x="1141" y="325"/>
                    </a:lnTo>
                    <a:lnTo>
                      <a:pt x="1101" y="326"/>
                    </a:lnTo>
                    <a:lnTo>
                      <a:pt x="1061" y="326"/>
                    </a:lnTo>
                    <a:lnTo>
                      <a:pt x="1020" y="325"/>
                    </a:lnTo>
                    <a:lnTo>
                      <a:pt x="978" y="321"/>
                    </a:lnTo>
                    <a:lnTo>
                      <a:pt x="937" y="317"/>
                    </a:lnTo>
                    <a:lnTo>
                      <a:pt x="895" y="311"/>
                    </a:lnTo>
                    <a:lnTo>
                      <a:pt x="853" y="304"/>
                    </a:lnTo>
                    <a:lnTo>
                      <a:pt x="809" y="297"/>
                    </a:lnTo>
                    <a:lnTo>
                      <a:pt x="766" y="288"/>
                    </a:lnTo>
                    <a:lnTo>
                      <a:pt x="723" y="278"/>
                    </a:lnTo>
                    <a:lnTo>
                      <a:pt x="679" y="266"/>
                    </a:lnTo>
                    <a:lnTo>
                      <a:pt x="636" y="254"/>
                    </a:lnTo>
                    <a:lnTo>
                      <a:pt x="592" y="241"/>
                    </a:lnTo>
                    <a:lnTo>
                      <a:pt x="547" y="227"/>
                    </a:lnTo>
                    <a:lnTo>
                      <a:pt x="503" y="212"/>
                    </a:lnTo>
                    <a:lnTo>
                      <a:pt x="458" y="196"/>
                    </a:lnTo>
                    <a:lnTo>
                      <a:pt x="414" y="180"/>
                    </a:lnTo>
                    <a:lnTo>
                      <a:pt x="368" y="162"/>
                    </a:lnTo>
                    <a:lnTo>
                      <a:pt x="324" y="143"/>
                    </a:lnTo>
                    <a:lnTo>
                      <a:pt x="279" y="125"/>
                    </a:lnTo>
                    <a:lnTo>
                      <a:pt x="234" y="106"/>
                    </a:lnTo>
                    <a:lnTo>
                      <a:pt x="189" y="85"/>
                    </a:lnTo>
                    <a:lnTo>
                      <a:pt x="99" y="43"/>
                    </a:lnTo>
                    <a:lnTo>
                      <a:pt x="10" y="0"/>
                    </a:lnTo>
                    <a:lnTo>
                      <a:pt x="0" y="21"/>
                    </a:lnTo>
                    <a:lnTo>
                      <a:pt x="89" y="66"/>
                    </a:lnTo>
                    <a:lnTo>
                      <a:pt x="179" y="107"/>
                    </a:lnTo>
                    <a:lnTo>
                      <a:pt x="225" y="127"/>
                    </a:lnTo>
                    <a:lnTo>
                      <a:pt x="269" y="147"/>
                    </a:lnTo>
                    <a:lnTo>
                      <a:pt x="315" y="166"/>
                    </a:lnTo>
                    <a:lnTo>
                      <a:pt x="360" y="184"/>
                    </a:lnTo>
                    <a:lnTo>
                      <a:pt x="405" y="203"/>
                    </a:lnTo>
                    <a:lnTo>
                      <a:pt x="450" y="219"/>
                    </a:lnTo>
                    <a:lnTo>
                      <a:pt x="495" y="235"/>
                    </a:lnTo>
                    <a:lnTo>
                      <a:pt x="539" y="251"/>
                    </a:lnTo>
                    <a:lnTo>
                      <a:pt x="585" y="264"/>
                    </a:lnTo>
                    <a:lnTo>
                      <a:pt x="629" y="278"/>
                    </a:lnTo>
                    <a:lnTo>
                      <a:pt x="674" y="289"/>
                    </a:lnTo>
                    <a:lnTo>
                      <a:pt x="717" y="301"/>
                    </a:lnTo>
                    <a:lnTo>
                      <a:pt x="761" y="311"/>
                    </a:lnTo>
                    <a:lnTo>
                      <a:pt x="805" y="320"/>
                    </a:lnTo>
                    <a:lnTo>
                      <a:pt x="848" y="328"/>
                    </a:lnTo>
                    <a:lnTo>
                      <a:pt x="891" y="335"/>
                    </a:lnTo>
                    <a:lnTo>
                      <a:pt x="933" y="341"/>
                    </a:lnTo>
                    <a:lnTo>
                      <a:pt x="977" y="345"/>
                    </a:lnTo>
                    <a:lnTo>
                      <a:pt x="1019" y="349"/>
                    </a:lnTo>
                    <a:lnTo>
                      <a:pt x="1060" y="350"/>
                    </a:lnTo>
                    <a:lnTo>
                      <a:pt x="1101" y="350"/>
                    </a:lnTo>
                    <a:lnTo>
                      <a:pt x="1142" y="349"/>
                    </a:lnTo>
                    <a:lnTo>
                      <a:pt x="1182" y="346"/>
                    </a:lnTo>
                    <a:lnTo>
                      <a:pt x="1222" y="343"/>
                    </a:lnTo>
                    <a:lnTo>
                      <a:pt x="1262" y="336"/>
                    </a:lnTo>
                    <a:lnTo>
                      <a:pt x="1300" y="329"/>
                    </a:lnTo>
                    <a:lnTo>
                      <a:pt x="1339" y="320"/>
                    </a:lnTo>
                    <a:lnTo>
                      <a:pt x="1377" y="310"/>
                    </a:lnTo>
                    <a:lnTo>
                      <a:pt x="1364" y="289"/>
                    </a:lnTo>
                    <a:lnTo>
                      <a:pt x="1377" y="310"/>
                    </a:lnTo>
                    <a:lnTo>
                      <a:pt x="1381" y="308"/>
                    </a:lnTo>
                    <a:lnTo>
                      <a:pt x="1384" y="303"/>
                    </a:lnTo>
                    <a:lnTo>
                      <a:pt x="1385" y="298"/>
                    </a:lnTo>
                    <a:lnTo>
                      <a:pt x="1385" y="295"/>
                    </a:lnTo>
                    <a:lnTo>
                      <a:pt x="1383" y="290"/>
                    </a:lnTo>
                    <a:lnTo>
                      <a:pt x="1379" y="287"/>
                    </a:lnTo>
                    <a:lnTo>
                      <a:pt x="1375" y="286"/>
                    </a:lnTo>
                    <a:lnTo>
                      <a:pt x="1370" y="287"/>
                    </a:lnTo>
                    <a:lnTo>
                      <a:pt x="1381" y="3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616280" y="3538800"/>
                <a:ext cx="169920" cy="334800"/>
              </a:xfrm>
              <a:custGeom>
                <a:avLst/>
                <a:gdLst/>
                <a:ahLst/>
                <a:rect l="l" t="t" r="r" b="b"/>
                <a:pathLst>
                  <a:path w="534" h="1053">
                    <a:moveTo>
                      <a:pt x="19" y="1030"/>
                    </a:moveTo>
                    <a:lnTo>
                      <a:pt x="20" y="1048"/>
                    </a:lnTo>
                    <a:lnTo>
                      <a:pt x="52" y="1014"/>
                    </a:lnTo>
                    <a:lnTo>
                      <a:pt x="82" y="980"/>
                    </a:lnTo>
                    <a:lnTo>
                      <a:pt x="108" y="945"/>
                    </a:lnTo>
                    <a:lnTo>
                      <a:pt x="132" y="911"/>
                    </a:lnTo>
                    <a:lnTo>
                      <a:pt x="153" y="878"/>
                    </a:lnTo>
                    <a:lnTo>
                      <a:pt x="172" y="845"/>
                    </a:lnTo>
                    <a:lnTo>
                      <a:pt x="188" y="812"/>
                    </a:lnTo>
                    <a:lnTo>
                      <a:pt x="203" y="779"/>
                    </a:lnTo>
                    <a:lnTo>
                      <a:pt x="216" y="747"/>
                    </a:lnTo>
                    <a:lnTo>
                      <a:pt x="228" y="715"/>
                    </a:lnTo>
                    <a:lnTo>
                      <a:pt x="239" y="683"/>
                    </a:lnTo>
                    <a:lnTo>
                      <a:pt x="248" y="651"/>
                    </a:lnTo>
                    <a:lnTo>
                      <a:pt x="265" y="589"/>
                    </a:lnTo>
                    <a:lnTo>
                      <a:pt x="280" y="527"/>
                    </a:lnTo>
                    <a:lnTo>
                      <a:pt x="295" y="464"/>
                    </a:lnTo>
                    <a:lnTo>
                      <a:pt x="311" y="403"/>
                    </a:lnTo>
                    <a:lnTo>
                      <a:pt x="321" y="372"/>
                    </a:lnTo>
                    <a:lnTo>
                      <a:pt x="332" y="340"/>
                    </a:lnTo>
                    <a:lnTo>
                      <a:pt x="343" y="309"/>
                    </a:lnTo>
                    <a:lnTo>
                      <a:pt x="355" y="278"/>
                    </a:lnTo>
                    <a:lnTo>
                      <a:pt x="370" y="247"/>
                    </a:lnTo>
                    <a:lnTo>
                      <a:pt x="386" y="215"/>
                    </a:lnTo>
                    <a:lnTo>
                      <a:pt x="404" y="183"/>
                    </a:lnTo>
                    <a:lnTo>
                      <a:pt x="426" y="151"/>
                    </a:lnTo>
                    <a:lnTo>
                      <a:pt x="449" y="118"/>
                    </a:lnTo>
                    <a:lnTo>
                      <a:pt x="474" y="85"/>
                    </a:lnTo>
                    <a:lnTo>
                      <a:pt x="502" y="52"/>
                    </a:lnTo>
                    <a:lnTo>
                      <a:pt x="534" y="17"/>
                    </a:lnTo>
                    <a:lnTo>
                      <a:pt x="517" y="0"/>
                    </a:lnTo>
                    <a:lnTo>
                      <a:pt x="485" y="36"/>
                    </a:lnTo>
                    <a:lnTo>
                      <a:pt x="456" y="70"/>
                    </a:lnTo>
                    <a:lnTo>
                      <a:pt x="430" y="103"/>
                    </a:lnTo>
                    <a:lnTo>
                      <a:pt x="406" y="137"/>
                    </a:lnTo>
                    <a:lnTo>
                      <a:pt x="384" y="170"/>
                    </a:lnTo>
                    <a:lnTo>
                      <a:pt x="366" y="203"/>
                    </a:lnTo>
                    <a:lnTo>
                      <a:pt x="349" y="236"/>
                    </a:lnTo>
                    <a:lnTo>
                      <a:pt x="334" y="268"/>
                    </a:lnTo>
                    <a:lnTo>
                      <a:pt x="320" y="300"/>
                    </a:lnTo>
                    <a:lnTo>
                      <a:pt x="309" y="332"/>
                    </a:lnTo>
                    <a:lnTo>
                      <a:pt x="297" y="364"/>
                    </a:lnTo>
                    <a:lnTo>
                      <a:pt x="288" y="396"/>
                    </a:lnTo>
                    <a:lnTo>
                      <a:pt x="271" y="459"/>
                    </a:lnTo>
                    <a:lnTo>
                      <a:pt x="256" y="521"/>
                    </a:lnTo>
                    <a:lnTo>
                      <a:pt x="241" y="583"/>
                    </a:lnTo>
                    <a:lnTo>
                      <a:pt x="226" y="646"/>
                    </a:lnTo>
                    <a:lnTo>
                      <a:pt x="215" y="676"/>
                    </a:lnTo>
                    <a:lnTo>
                      <a:pt x="205" y="707"/>
                    </a:lnTo>
                    <a:lnTo>
                      <a:pt x="194" y="738"/>
                    </a:lnTo>
                    <a:lnTo>
                      <a:pt x="181" y="770"/>
                    </a:lnTo>
                    <a:lnTo>
                      <a:pt x="166" y="802"/>
                    </a:lnTo>
                    <a:lnTo>
                      <a:pt x="150" y="834"/>
                    </a:lnTo>
                    <a:lnTo>
                      <a:pt x="132" y="866"/>
                    </a:lnTo>
                    <a:lnTo>
                      <a:pt x="112" y="897"/>
                    </a:lnTo>
                    <a:lnTo>
                      <a:pt x="89" y="931"/>
                    </a:lnTo>
                    <a:lnTo>
                      <a:pt x="63" y="964"/>
                    </a:lnTo>
                    <a:lnTo>
                      <a:pt x="34" y="998"/>
                    </a:lnTo>
                    <a:lnTo>
                      <a:pt x="3" y="1031"/>
                    </a:lnTo>
                    <a:lnTo>
                      <a:pt x="4" y="1049"/>
                    </a:lnTo>
                    <a:lnTo>
                      <a:pt x="3" y="1031"/>
                    </a:lnTo>
                    <a:lnTo>
                      <a:pt x="0" y="1035"/>
                    </a:lnTo>
                    <a:lnTo>
                      <a:pt x="0" y="1040"/>
                    </a:lnTo>
                    <a:lnTo>
                      <a:pt x="1" y="1045"/>
                    </a:lnTo>
                    <a:lnTo>
                      <a:pt x="3" y="1048"/>
                    </a:lnTo>
                    <a:lnTo>
                      <a:pt x="7" y="1051"/>
                    </a:lnTo>
                    <a:lnTo>
                      <a:pt x="11" y="1053"/>
                    </a:lnTo>
                    <a:lnTo>
                      <a:pt x="16" y="1051"/>
                    </a:lnTo>
                    <a:lnTo>
                      <a:pt x="20" y="1048"/>
                    </a:lnTo>
                    <a:lnTo>
                      <a:pt x="19" y="10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618080" y="3865680"/>
                <a:ext cx="928800" cy="312840"/>
              </a:xfrm>
              <a:custGeom>
                <a:avLst/>
                <a:gdLst/>
                <a:ahLst/>
                <a:rect l="l" t="t" r="r" b="b"/>
                <a:pathLst>
                  <a:path w="2927" h="981">
                    <a:moveTo>
                      <a:pt x="2903" y="970"/>
                    </a:moveTo>
                    <a:lnTo>
                      <a:pt x="2915" y="955"/>
                    </a:lnTo>
                    <a:lnTo>
                      <a:pt x="2813" y="957"/>
                    </a:lnTo>
                    <a:lnTo>
                      <a:pt x="2712" y="957"/>
                    </a:lnTo>
                    <a:lnTo>
                      <a:pt x="2611" y="955"/>
                    </a:lnTo>
                    <a:lnTo>
                      <a:pt x="2512" y="950"/>
                    </a:lnTo>
                    <a:lnTo>
                      <a:pt x="2413" y="945"/>
                    </a:lnTo>
                    <a:lnTo>
                      <a:pt x="2315" y="936"/>
                    </a:lnTo>
                    <a:lnTo>
                      <a:pt x="2217" y="925"/>
                    </a:lnTo>
                    <a:lnTo>
                      <a:pt x="2120" y="913"/>
                    </a:lnTo>
                    <a:lnTo>
                      <a:pt x="2025" y="899"/>
                    </a:lnTo>
                    <a:lnTo>
                      <a:pt x="1930" y="882"/>
                    </a:lnTo>
                    <a:lnTo>
                      <a:pt x="1835" y="864"/>
                    </a:lnTo>
                    <a:lnTo>
                      <a:pt x="1741" y="843"/>
                    </a:lnTo>
                    <a:lnTo>
                      <a:pt x="1648" y="821"/>
                    </a:lnTo>
                    <a:lnTo>
                      <a:pt x="1556" y="795"/>
                    </a:lnTo>
                    <a:lnTo>
                      <a:pt x="1464" y="768"/>
                    </a:lnTo>
                    <a:lnTo>
                      <a:pt x="1373" y="740"/>
                    </a:lnTo>
                    <a:lnTo>
                      <a:pt x="1283" y="709"/>
                    </a:lnTo>
                    <a:lnTo>
                      <a:pt x="1194" y="676"/>
                    </a:lnTo>
                    <a:lnTo>
                      <a:pt x="1105" y="640"/>
                    </a:lnTo>
                    <a:lnTo>
                      <a:pt x="1017" y="604"/>
                    </a:lnTo>
                    <a:lnTo>
                      <a:pt x="929" y="565"/>
                    </a:lnTo>
                    <a:lnTo>
                      <a:pt x="843" y="524"/>
                    </a:lnTo>
                    <a:lnTo>
                      <a:pt x="756" y="481"/>
                    </a:lnTo>
                    <a:lnTo>
                      <a:pt x="672" y="435"/>
                    </a:lnTo>
                    <a:lnTo>
                      <a:pt x="587" y="388"/>
                    </a:lnTo>
                    <a:lnTo>
                      <a:pt x="503" y="338"/>
                    </a:lnTo>
                    <a:lnTo>
                      <a:pt x="420" y="287"/>
                    </a:lnTo>
                    <a:lnTo>
                      <a:pt x="338" y="235"/>
                    </a:lnTo>
                    <a:lnTo>
                      <a:pt x="256" y="179"/>
                    </a:lnTo>
                    <a:lnTo>
                      <a:pt x="175" y="122"/>
                    </a:lnTo>
                    <a:lnTo>
                      <a:pt x="95" y="61"/>
                    </a:lnTo>
                    <a:lnTo>
                      <a:pt x="15" y="0"/>
                    </a:lnTo>
                    <a:lnTo>
                      <a:pt x="0" y="19"/>
                    </a:lnTo>
                    <a:lnTo>
                      <a:pt x="80" y="81"/>
                    </a:lnTo>
                    <a:lnTo>
                      <a:pt x="161" y="141"/>
                    </a:lnTo>
                    <a:lnTo>
                      <a:pt x="242" y="198"/>
                    </a:lnTo>
                    <a:lnTo>
                      <a:pt x="324" y="254"/>
                    </a:lnTo>
                    <a:lnTo>
                      <a:pt x="407" y="308"/>
                    </a:lnTo>
                    <a:lnTo>
                      <a:pt x="490" y="360"/>
                    </a:lnTo>
                    <a:lnTo>
                      <a:pt x="575" y="409"/>
                    </a:lnTo>
                    <a:lnTo>
                      <a:pt x="660" y="457"/>
                    </a:lnTo>
                    <a:lnTo>
                      <a:pt x="746" y="502"/>
                    </a:lnTo>
                    <a:lnTo>
                      <a:pt x="832" y="546"/>
                    </a:lnTo>
                    <a:lnTo>
                      <a:pt x="919" y="587"/>
                    </a:lnTo>
                    <a:lnTo>
                      <a:pt x="1007" y="626"/>
                    </a:lnTo>
                    <a:lnTo>
                      <a:pt x="1096" y="663"/>
                    </a:lnTo>
                    <a:lnTo>
                      <a:pt x="1185" y="699"/>
                    </a:lnTo>
                    <a:lnTo>
                      <a:pt x="1275" y="732"/>
                    </a:lnTo>
                    <a:lnTo>
                      <a:pt x="1366" y="762"/>
                    </a:lnTo>
                    <a:lnTo>
                      <a:pt x="1457" y="792"/>
                    </a:lnTo>
                    <a:lnTo>
                      <a:pt x="1549" y="818"/>
                    </a:lnTo>
                    <a:lnTo>
                      <a:pt x="1642" y="843"/>
                    </a:lnTo>
                    <a:lnTo>
                      <a:pt x="1736" y="866"/>
                    </a:lnTo>
                    <a:lnTo>
                      <a:pt x="1830" y="887"/>
                    </a:lnTo>
                    <a:lnTo>
                      <a:pt x="1925" y="906"/>
                    </a:lnTo>
                    <a:lnTo>
                      <a:pt x="2021" y="922"/>
                    </a:lnTo>
                    <a:lnTo>
                      <a:pt x="2118" y="937"/>
                    </a:lnTo>
                    <a:lnTo>
                      <a:pt x="2215" y="949"/>
                    </a:lnTo>
                    <a:lnTo>
                      <a:pt x="2313" y="960"/>
                    </a:lnTo>
                    <a:lnTo>
                      <a:pt x="2411" y="969"/>
                    </a:lnTo>
                    <a:lnTo>
                      <a:pt x="2511" y="974"/>
                    </a:lnTo>
                    <a:lnTo>
                      <a:pt x="2611" y="979"/>
                    </a:lnTo>
                    <a:lnTo>
                      <a:pt x="2712" y="981"/>
                    </a:lnTo>
                    <a:lnTo>
                      <a:pt x="2813" y="981"/>
                    </a:lnTo>
                    <a:lnTo>
                      <a:pt x="2916" y="980"/>
                    </a:lnTo>
                    <a:lnTo>
                      <a:pt x="2927" y="966"/>
                    </a:lnTo>
                    <a:lnTo>
                      <a:pt x="2916" y="980"/>
                    </a:lnTo>
                    <a:lnTo>
                      <a:pt x="2921" y="979"/>
                    </a:lnTo>
                    <a:lnTo>
                      <a:pt x="2925" y="976"/>
                    </a:lnTo>
                    <a:lnTo>
                      <a:pt x="2927" y="972"/>
                    </a:lnTo>
                    <a:lnTo>
                      <a:pt x="2927" y="968"/>
                    </a:lnTo>
                    <a:lnTo>
                      <a:pt x="2926" y="963"/>
                    </a:lnTo>
                    <a:lnTo>
                      <a:pt x="2924" y="960"/>
                    </a:lnTo>
                    <a:lnTo>
                      <a:pt x="2920" y="956"/>
                    </a:lnTo>
                    <a:lnTo>
                      <a:pt x="2915" y="955"/>
                    </a:lnTo>
                    <a:lnTo>
                      <a:pt x="2903" y="9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278320" y="3037320"/>
                <a:ext cx="271440" cy="1136520"/>
              </a:xfrm>
              <a:custGeom>
                <a:avLst/>
                <a:gdLst/>
                <a:ahLst/>
                <a:rect l="l" t="t" r="r" b="b"/>
                <a:pathLst>
                  <a:path w="855" h="3580">
                    <a:moveTo>
                      <a:pt x="10" y="24"/>
                    </a:moveTo>
                    <a:lnTo>
                      <a:pt x="9" y="24"/>
                    </a:lnTo>
                    <a:lnTo>
                      <a:pt x="39" y="32"/>
                    </a:lnTo>
                    <a:lnTo>
                      <a:pt x="69" y="40"/>
                    </a:lnTo>
                    <a:lnTo>
                      <a:pt x="97" y="49"/>
                    </a:lnTo>
                    <a:lnTo>
                      <a:pt x="124" y="58"/>
                    </a:lnTo>
                    <a:lnTo>
                      <a:pt x="152" y="68"/>
                    </a:lnTo>
                    <a:lnTo>
                      <a:pt x="178" y="79"/>
                    </a:lnTo>
                    <a:lnTo>
                      <a:pt x="204" y="89"/>
                    </a:lnTo>
                    <a:lnTo>
                      <a:pt x="229" y="101"/>
                    </a:lnTo>
                    <a:lnTo>
                      <a:pt x="253" y="113"/>
                    </a:lnTo>
                    <a:lnTo>
                      <a:pt x="277" y="126"/>
                    </a:lnTo>
                    <a:lnTo>
                      <a:pt x="300" y="138"/>
                    </a:lnTo>
                    <a:lnTo>
                      <a:pt x="323" y="152"/>
                    </a:lnTo>
                    <a:lnTo>
                      <a:pt x="344" y="167"/>
                    </a:lnTo>
                    <a:lnTo>
                      <a:pt x="366" y="182"/>
                    </a:lnTo>
                    <a:lnTo>
                      <a:pt x="387" y="196"/>
                    </a:lnTo>
                    <a:lnTo>
                      <a:pt x="406" y="212"/>
                    </a:lnTo>
                    <a:lnTo>
                      <a:pt x="425" y="228"/>
                    </a:lnTo>
                    <a:lnTo>
                      <a:pt x="445" y="245"/>
                    </a:lnTo>
                    <a:lnTo>
                      <a:pt x="463" y="262"/>
                    </a:lnTo>
                    <a:lnTo>
                      <a:pt x="481" y="280"/>
                    </a:lnTo>
                    <a:lnTo>
                      <a:pt x="498" y="298"/>
                    </a:lnTo>
                    <a:lnTo>
                      <a:pt x="514" y="316"/>
                    </a:lnTo>
                    <a:lnTo>
                      <a:pt x="530" y="335"/>
                    </a:lnTo>
                    <a:lnTo>
                      <a:pt x="546" y="355"/>
                    </a:lnTo>
                    <a:lnTo>
                      <a:pt x="561" y="375"/>
                    </a:lnTo>
                    <a:lnTo>
                      <a:pt x="576" y="395"/>
                    </a:lnTo>
                    <a:lnTo>
                      <a:pt x="591" y="416"/>
                    </a:lnTo>
                    <a:lnTo>
                      <a:pt x="603" y="437"/>
                    </a:lnTo>
                    <a:lnTo>
                      <a:pt x="617" y="459"/>
                    </a:lnTo>
                    <a:lnTo>
                      <a:pt x="629" y="481"/>
                    </a:lnTo>
                    <a:lnTo>
                      <a:pt x="642" y="503"/>
                    </a:lnTo>
                    <a:lnTo>
                      <a:pt x="653" y="526"/>
                    </a:lnTo>
                    <a:lnTo>
                      <a:pt x="675" y="573"/>
                    </a:lnTo>
                    <a:lnTo>
                      <a:pt x="695" y="622"/>
                    </a:lnTo>
                    <a:lnTo>
                      <a:pt x="714" y="672"/>
                    </a:lnTo>
                    <a:lnTo>
                      <a:pt x="731" y="723"/>
                    </a:lnTo>
                    <a:lnTo>
                      <a:pt x="746" y="775"/>
                    </a:lnTo>
                    <a:lnTo>
                      <a:pt x="760" y="829"/>
                    </a:lnTo>
                    <a:lnTo>
                      <a:pt x="772" y="885"/>
                    </a:lnTo>
                    <a:lnTo>
                      <a:pt x="783" y="942"/>
                    </a:lnTo>
                    <a:lnTo>
                      <a:pt x="793" y="999"/>
                    </a:lnTo>
                    <a:lnTo>
                      <a:pt x="801" y="1058"/>
                    </a:lnTo>
                    <a:lnTo>
                      <a:pt x="808" y="1117"/>
                    </a:lnTo>
                    <a:lnTo>
                      <a:pt x="815" y="1179"/>
                    </a:lnTo>
                    <a:lnTo>
                      <a:pt x="820" y="1241"/>
                    </a:lnTo>
                    <a:lnTo>
                      <a:pt x="824" y="1303"/>
                    </a:lnTo>
                    <a:lnTo>
                      <a:pt x="826" y="1367"/>
                    </a:lnTo>
                    <a:lnTo>
                      <a:pt x="829" y="1431"/>
                    </a:lnTo>
                    <a:lnTo>
                      <a:pt x="830" y="1496"/>
                    </a:lnTo>
                    <a:lnTo>
                      <a:pt x="831" y="1562"/>
                    </a:lnTo>
                    <a:lnTo>
                      <a:pt x="831" y="1628"/>
                    </a:lnTo>
                    <a:lnTo>
                      <a:pt x="830" y="1695"/>
                    </a:lnTo>
                    <a:lnTo>
                      <a:pt x="828" y="1830"/>
                    </a:lnTo>
                    <a:lnTo>
                      <a:pt x="823" y="1967"/>
                    </a:lnTo>
                    <a:lnTo>
                      <a:pt x="811" y="2244"/>
                    </a:lnTo>
                    <a:lnTo>
                      <a:pt x="798" y="2522"/>
                    </a:lnTo>
                    <a:lnTo>
                      <a:pt x="792" y="2661"/>
                    </a:lnTo>
                    <a:lnTo>
                      <a:pt x="789" y="2799"/>
                    </a:lnTo>
                    <a:lnTo>
                      <a:pt x="788" y="2866"/>
                    </a:lnTo>
                    <a:lnTo>
                      <a:pt x="787" y="2935"/>
                    </a:lnTo>
                    <a:lnTo>
                      <a:pt x="787" y="3002"/>
                    </a:lnTo>
                    <a:lnTo>
                      <a:pt x="787" y="3069"/>
                    </a:lnTo>
                    <a:lnTo>
                      <a:pt x="789" y="3135"/>
                    </a:lnTo>
                    <a:lnTo>
                      <a:pt x="791" y="3201"/>
                    </a:lnTo>
                    <a:lnTo>
                      <a:pt x="793" y="3266"/>
                    </a:lnTo>
                    <a:lnTo>
                      <a:pt x="798" y="3330"/>
                    </a:lnTo>
                    <a:lnTo>
                      <a:pt x="803" y="3394"/>
                    </a:lnTo>
                    <a:lnTo>
                      <a:pt x="808" y="3457"/>
                    </a:lnTo>
                    <a:lnTo>
                      <a:pt x="816" y="3518"/>
                    </a:lnTo>
                    <a:lnTo>
                      <a:pt x="824" y="3580"/>
                    </a:lnTo>
                    <a:lnTo>
                      <a:pt x="848" y="3576"/>
                    </a:lnTo>
                    <a:lnTo>
                      <a:pt x="840" y="3516"/>
                    </a:lnTo>
                    <a:lnTo>
                      <a:pt x="833" y="3454"/>
                    </a:lnTo>
                    <a:lnTo>
                      <a:pt x="826" y="3392"/>
                    </a:lnTo>
                    <a:lnTo>
                      <a:pt x="822" y="3329"/>
                    </a:lnTo>
                    <a:lnTo>
                      <a:pt x="817" y="3265"/>
                    </a:lnTo>
                    <a:lnTo>
                      <a:pt x="815" y="3200"/>
                    </a:lnTo>
                    <a:lnTo>
                      <a:pt x="813" y="3134"/>
                    </a:lnTo>
                    <a:lnTo>
                      <a:pt x="812" y="3069"/>
                    </a:lnTo>
                    <a:lnTo>
                      <a:pt x="811" y="3002"/>
                    </a:lnTo>
                    <a:lnTo>
                      <a:pt x="811" y="2935"/>
                    </a:lnTo>
                    <a:lnTo>
                      <a:pt x="812" y="2867"/>
                    </a:lnTo>
                    <a:lnTo>
                      <a:pt x="813" y="2799"/>
                    </a:lnTo>
                    <a:lnTo>
                      <a:pt x="816" y="2662"/>
                    </a:lnTo>
                    <a:lnTo>
                      <a:pt x="822" y="2523"/>
                    </a:lnTo>
                    <a:lnTo>
                      <a:pt x="834" y="2245"/>
                    </a:lnTo>
                    <a:lnTo>
                      <a:pt x="847" y="1968"/>
                    </a:lnTo>
                    <a:lnTo>
                      <a:pt x="852" y="1831"/>
                    </a:lnTo>
                    <a:lnTo>
                      <a:pt x="855" y="1695"/>
                    </a:lnTo>
                    <a:lnTo>
                      <a:pt x="855" y="1628"/>
                    </a:lnTo>
                    <a:lnTo>
                      <a:pt x="855" y="1562"/>
                    </a:lnTo>
                    <a:lnTo>
                      <a:pt x="855" y="1496"/>
                    </a:lnTo>
                    <a:lnTo>
                      <a:pt x="853" y="1430"/>
                    </a:lnTo>
                    <a:lnTo>
                      <a:pt x="850" y="1366"/>
                    </a:lnTo>
                    <a:lnTo>
                      <a:pt x="848" y="1302"/>
                    </a:lnTo>
                    <a:lnTo>
                      <a:pt x="844" y="1238"/>
                    </a:lnTo>
                    <a:lnTo>
                      <a:pt x="839" y="1177"/>
                    </a:lnTo>
                    <a:lnTo>
                      <a:pt x="832" y="1115"/>
                    </a:lnTo>
                    <a:lnTo>
                      <a:pt x="825" y="1055"/>
                    </a:lnTo>
                    <a:lnTo>
                      <a:pt x="817" y="995"/>
                    </a:lnTo>
                    <a:lnTo>
                      <a:pt x="807" y="937"/>
                    </a:lnTo>
                    <a:lnTo>
                      <a:pt x="796" y="880"/>
                    </a:lnTo>
                    <a:lnTo>
                      <a:pt x="783" y="823"/>
                    </a:lnTo>
                    <a:lnTo>
                      <a:pt x="769" y="769"/>
                    </a:lnTo>
                    <a:lnTo>
                      <a:pt x="754" y="715"/>
                    </a:lnTo>
                    <a:lnTo>
                      <a:pt x="736" y="664"/>
                    </a:lnTo>
                    <a:lnTo>
                      <a:pt x="718" y="612"/>
                    </a:lnTo>
                    <a:lnTo>
                      <a:pt x="698" y="563"/>
                    </a:lnTo>
                    <a:lnTo>
                      <a:pt x="675" y="516"/>
                    </a:lnTo>
                    <a:lnTo>
                      <a:pt x="662" y="492"/>
                    </a:lnTo>
                    <a:lnTo>
                      <a:pt x="651" y="469"/>
                    </a:lnTo>
                    <a:lnTo>
                      <a:pt x="637" y="446"/>
                    </a:lnTo>
                    <a:lnTo>
                      <a:pt x="624" y="424"/>
                    </a:lnTo>
                    <a:lnTo>
                      <a:pt x="610" y="403"/>
                    </a:lnTo>
                    <a:lnTo>
                      <a:pt x="596" y="381"/>
                    </a:lnTo>
                    <a:lnTo>
                      <a:pt x="580" y="360"/>
                    </a:lnTo>
                    <a:lnTo>
                      <a:pt x="565" y="340"/>
                    </a:lnTo>
                    <a:lnTo>
                      <a:pt x="550" y="321"/>
                    </a:lnTo>
                    <a:lnTo>
                      <a:pt x="532" y="300"/>
                    </a:lnTo>
                    <a:lnTo>
                      <a:pt x="515" y="282"/>
                    </a:lnTo>
                    <a:lnTo>
                      <a:pt x="498" y="262"/>
                    </a:lnTo>
                    <a:lnTo>
                      <a:pt x="480" y="244"/>
                    </a:lnTo>
                    <a:lnTo>
                      <a:pt x="461" y="227"/>
                    </a:lnTo>
                    <a:lnTo>
                      <a:pt x="441" y="210"/>
                    </a:lnTo>
                    <a:lnTo>
                      <a:pt x="422" y="193"/>
                    </a:lnTo>
                    <a:lnTo>
                      <a:pt x="401" y="177"/>
                    </a:lnTo>
                    <a:lnTo>
                      <a:pt x="380" y="161"/>
                    </a:lnTo>
                    <a:lnTo>
                      <a:pt x="358" y="146"/>
                    </a:lnTo>
                    <a:lnTo>
                      <a:pt x="335" y="131"/>
                    </a:lnTo>
                    <a:lnTo>
                      <a:pt x="312" y="118"/>
                    </a:lnTo>
                    <a:lnTo>
                      <a:pt x="289" y="104"/>
                    </a:lnTo>
                    <a:lnTo>
                      <a:pt x="265" y="91"/>
                    </a:lnTo>
                    <a:lnTo>
                      <a:pt x="240" y="79"/>
                    </a:lnTo>
                    <a:lnTo>
                      <a:pt x="213" y="68"/>
                    </a:lnTo>
                    <a:lnTo>
                      <a:pt x="187" y="56"/>
                    </a:lnTo>
                    <a:lnTo>
                      <a:pt x="160" y="46"/>
                    </a:lnTo>
                    <a:lnTo>
                      <a:pt x="132" y="36"/>
                    </a:lnTo>
                    <a:lnTo>
                      <a:pt x="104" y="25"/>
                    </a:lnTo>
                    <a:lnTo>
                      <a:pt x="75" y="17"/>
                    </a:lnTo>
                    <a:lnTo>
                      <a:pt x="46" y="8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406760" y="2988000"/>
                <a:ext cx="876600" cy="57240"/>
              </a:xfrm>
              <a:custGeom>
                <a:avLst/>
                <a:gdLst/>
                <a:ahLst/>
                <a:rect l="l" t="t" r="r" b="b"/>
                <a:pathLst>
                  <a:path w="2757" h="182">
                    <a:moveTo>
                      <a:pt x="23" y="114"/>
                    </a:moveTo>
                    <a:lnTo>
                      <a:pt x="14" y="121"/>
                    </a:lnTo>
                    <a:lnTo>
                      <a:pt x="106" y="104"/>
                    </a:lnTo>
                    <a:lnTo>
                      <a:pt x="198" y="89"/>
                    </a:lnTo>
                    <a:lnTo>
                      <a:pt x="289" y="75"/>
                    </a:lnTo>
                    <a:lnTo>
                      <a:pt x="382" y="64"/>
                    </a:lnTo>
                    <a:lnTo>
                      <a:pt x="473" y="53"/>
                    </a:lnTo>
                    <a:lnTo>
                      <a:pt x="564" y="44"/>
                    </a:lnTo>
                    <a:lnTo>
                      <a:pt x="654" y="37"/>
                    </a:lnTo>
                    <a:lnTo>
                      <a:pt x="745" y="32"/>
                    </a:lnTo>
                    <a:lnTo>
                      <a:pt x="835" y="28"/>
                    </a:lnTo>
                    <a:lnTo>
                      <a:pt x="924" y="25"/>
                    </a:lnTo>
                    <a:lnTo>
                      <a:pt x="1014" y="24"/>
                    </a:lnTo>
                    <a:lnTo>
                      <a:pt x="1103" y="24"/>
                    </a:lnTo>
                    <a:lnTo>
                      <a:pt x="1191" y="25"/>
                    </a:lnTo>
                    <a:lnTo>
                      <a:pt x="1279" y="26"/>
                    </a:lnTo>
                    <a:lnTo>
                      <a:pt x="1366" y="29"/>
                    </a:lnTo>
                    <a:lnTo>
                      <a:pt x="1453" y="33"/>
                    </a:lnTo>
                    <a:lnTo>
                      <a:pt x="1540" y="39"/>
                    </a:lnTo>
                    <a:lnTo>
                      <a:pt x="1626" y="44"/>
                    </a:lnTo>
                    <a:lnTo>
                      <a:pt x="1711" y="51"/>
                    </a:lnTo>
                    <a:lnTo>
                      <a:pt x="1796" y="58"/>
                    </a:lnTo>
                    <a:lnTo>
                      <a:pt x="1879" y="66"/>
                    </a:lnTo>
                    <a:lnTo>
                      <a:pt x="1963" y="75"/>
                    </a:lnTo>
                    <a:lnTo>
                      <a:pt x="2046" y="84"/>
                    </a:lnTo>
                    <a:lnTo>
                      <a:pt x="2128" y="93"/>
                    </a:lnTo>
                    <a:lnTo>
                      <a:pt x="2288" y="114"/>
                    </a:lnTo>
                    <a:lnTo>
                      <a:pt x="2447" y="137"/>
                    </a:lnTo>
                    <a:lnTo>
                      <a:pt x="2602" y="159"/>
                    </a:lnTo>
                    <a:lnTo>
                      <a:pt x="2753" y="182"/>
                    </a:lnTo>
                    <a:lnTo>
                      <a:pt x="2757" y="158"/>
                    </a:lnTo>
                    <a:lnTo>
                      <a:pt x="2605" y="135"/>
                    </a:lnTo>
                    <a:lnTo>
                      <a:pt x="2450" y="113"/>
                    </a:lnTo>
                    <a:lnTo>
                      <a:pt x="2292" y="90"/>
                    </a:lnTo>
                    <a:lnTo>
                      <a:pt x="2130" y="69"/>
                    </a:lnTo>
                    <a:lnTo>
                      <a:pt x="2048" y="60"/>
                    </a:lnTo>
                    <a:lnTo>
                      <a:pt x="1966" y="50"/>
                    </a:lnTo>
                    <a:lnTo>
                      <a:pt x="1882" y="42"/>
                    </a:lnTo>
                    <a:lnTo>
                      <a:pt x="1798" y="34"/>
                    </a:lnTo>
                    <a:lnTo>
                      <a:pt x="1713" y="26"/>
                    </a:lnTo>
                    <a:lnTo>
                      <a:pt x="1627" y="20"/>
                    </a:lnTo>
                    <a:lnTo>
                      <a:pt x="1542" y="15"/>
                    </a:lnTo>
                    <a:lnTo>
                      <a:pt x="1455" y="9"/>
                    </a:lnTo>
                    <a:lnTo>
                      <a:pt x="1368" y="5"/>
                    </a:lnTo>
                    <a:lnTo>
                      <a:pt x="1280" y="2"/>
                    </a:lnTo>
                    <a:lnTo>
                      <a:pt x="1192" y="0"/>
                    </a:lnTo>
                    <a:lnTo>
                      <a:pt x="1103" y="0"/>
                    </a:lnTo>
                    <a:lnTo>
                      <a:pt x="1013" y="0"/>
                    </a:lnTo>
                    <a:lnTo>
                      <a:pt x="924" y="1"/>
                    </a:lnTo>
                    <a:lnTo>
                      <a:pt x="834" y="4"/>
                    </a:lnTo>
                    <a:lnTo>
                      <a:pt x="743" y="8"/>
                    </a:lnTo>
                    <a:lnTo>
                      <a:pt x="653" y="13"/>
                    </a:lnTo>
                    <a:lnTo>
                      <a:pt x="562" y="20"/>
                    </a:lnTo>
                    <a:lnTo>
                      <a:pt x="471" y="29"/>
                    </a:lnTo>
                    <a:lnTo>
                      <a:pt x="378" y="39"/>
                    </a:lnTo>
                    <a:lnTo>
                      <a:pt x="287" y="51"/>
                    </a:lnTo>
                    <a:lnTo>
                      <a:pt x="195" y="65"/>
                    </a:lnTo>
                    <a:lnTo>
                      <a:pt x="103" y="80"/>
                    </a:lnTo>
                    <a:lnTo>
                      <a:pt x="9" y="97"/>
                    </a:lnTo>
                    <a:lnTo>
                      <a:pt x="1" y="102"/>
                    </a:lnTo>
                    <a:lnTo>
                      <a:pt x="9" y="97"/>
                    </a:lnTo>
                    <a:lnTo>
                      <a:pt x="5" y="99"/>
                    </a:lnTo>
                    <a:lnTo>
                      <a:pt x="1" y="101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1" y="115"/>
                    </a:lnTo>
                    <a:lnTo>
                      <a:pt x="5" y="118"/>
                    </a:lnTo>
                    <a:lnTo>
                      <a:pt x="9" y="121"/>
                    </a:lnTo>
                    <a:lnTo>
                      <a:pt x="14" y="121"/>
                    </a:lnTo>
                    <a:lnTo>
                      <a:pt x="23" y="1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51080" y="3583080"/>
                <a:ext cx="709560" cy="508320"/>
              </a:xfrm>
              <a:custGeom>
                <a:avLst/>
                <a:gdLst/>
                <a:ahLst/>
                <a:rect l="l" t="t" r="r" b="b"/>
                <a:pathLst>
                  <a:path w="2234" h="1599">
                    <a:moveTo>
                      <a:pt x="2043" y="0"/>
                    </a:moveTo>
                    <a:lnTo>
                      <a:pt x="1901" y="60"/>
                    </a:lnTo>
                    <a:lnTo>
                      <a:pt x="1757" y="122"/>
                    </a:lnTo>
                    <a:lnTo>
                      <a:pt x="1684" y="155"/>
                    </a:lnTo>
                    <a:lnTo>
                      <a:pt x="1612" y="190"/>
                    </a:lnTo>
                    <a:lnTo>
                      <a:pt x="1536" y="227"/>
                    </a:lnTo>
                    <a:lnTo>
                      <a:pt x="1460" y="267"/>
                    </a:lnTo>
                    <a:lnTo>
                      <a:pt x="1381" y="310"/>
                    </a:lnTo>
                    <a:lnTo>
                      <a:pt x="1300" y="358"/>
                    </a:lnTo>
                    <a:lnTo>
                      <a:pt x="1259" y="383"/>
                    </a:lnTo>
                    <a:lnTo>
                      <a:pt x="1217" y="410"/>
                    </a:lnTo>
                    <a:lnTo>
                      <a:pt x="1175" y="437"/>
                    </a:lnTo>
                    <a:lnTo>
                      <a:pt x="1132" y="467"/>
                    </a:lnTo>
                    <a:lnTo>
                      <a:pt x="1087" y="496"/>
                    </a:lnTo>
                    <a:lnTo>
                      <a:pt x="1043" y="528"/>
                    </a:lnTo>
                    <a:lnTo>
                      <a:pt x="997" y="561"/>
                    </a:lnTo>
                    <a:lnTo>
                      <a:pt x="951" y="595"/>
                    </a:lnTo>
                    <a:lnTo>
                      <a:pt x="903" y="632"/>
                    </a:lnTo>
                    <a:lnTo>
                      <a:pt x="855" y="670"/>
                    </a:lnTo>
                    <a:lnTo>
                      <a:pt x="805" y="708"/>
                    </a:lnTo>
                    <a:lnTo>
                      <a:pt x="755" y="750"/>
                    </a:lnTo>
                    <a:lnTo>
                      <a:pt x="739" y="758"/>
                    </a:lnTo>
                    <a:lnTo>
                      <a:pt x="721" y="766"/>
                    </a:lnTo>
                    <a:lnTo>
                      <a:pt x="706" y="772"/>
                    </a:lnTo>
                    <a:lnTo>
                      <a:pt x="688" y="779"/>
                    </a:lnTo>
                    <a:lnTo>
                      <a:pt x="672" y="784"/>
                    </a:lnTo>
                    <a:lnTo>
                      <a:pt x="656" y="788"/>
                    </a:lnTo>
                    <a:lnTo>
                      <a:pt x="639" y="793"/>
                    </a:lnTo>
                    <a:lnTo>
                      <a:pt x="623" y="796"/>
                    </a:lnTo>
                    <a:lnTo>
                      <a:pt x="589" y="802"/>
                    </a:lnTo>
                    <a:lnTo>
                      <a:pt x="555" y="806"/>
                    </a:lnTo>
                    <a:lnTo>
                      <a:pt x="521" y="810"/>
                    </a:lnTo>
                    <a:lnTo>
                      <a:pt x="484" y="813"/>
                    </a:lnTo>
                    <a:lnTo>
                      <a:pt x="448" y="818"/>
                    </a:lnTo>
                    <a:lnTo>
                      <a:pt x="409" y="822"/>
                    </a:lnTo>
                    <a:lnTo>
                      <a:pt x="369" y="828"/>
                    </a:lnTo>
                    <a:lnTo>
                      <a:pt x="327" y="836"/>
                    </a:lnTo>
                    <a:lnTo>
                      <a:pt x="305" y="842"/>
                    </a:lnTo>
                    <a:lnTo>
                      <a:pt x="284" y="847"/>
                    </a:lnTo>
                    <a:lnTo>
                      <a:pt x="261" y="853"/>
                    </a:lnTo>
                    <a:lnTo>
                      <a:pt x="237" y="861"/>
                    </a:lnTo>
                    <a:lnTo>
                      <a:pt x="213" y="869"/>
                    </a:lnTo>
                    <a:lnTo>
                      <a:pt x="189" y="878"/>
                    </a:lnTo>
                    <a:lnTo>
                      <a:pt x="164" y="887"/>
                    </a:lnTo>
                    <a:lnTo>
                      <a:pt x="138" y="899"/>
                    </a:lnTo>
                    <a:lnTo>
                      <a:pt x="91" y="967"/>
                    </a:lnTo>
                    <a:lnTo>
                      <a:pt x="56" y="1020"/>
                    </a:lnTo>
                    <a:lnTo>
                      <a:pt x="42" y="1041"/>
                    </a:lnTo>
                    <a:lnTo>
                      <a:pt x="31" y="1061"/>
                    </a:lnTo>
                    <a:lnTo>
                      <a:pt x="22" y="1079"/>
                    </a:lnTo>
                    <a:lnTo>
                      <a:pt x="14" y="1096"/>
                    </a:lnTo>
                    <a:lnTo>
                      <a:pt x="8" y="1114"/>
                    </a:lnTo>
                    <a:lnTo>
                      <a:pt x="5" y="1132"/>
                    </a:lnTo>
                    <a:lnTo>
                      <a:pt x="1" y="1153"/>
                    </a:lnTo>
                    <a:lnTo>
                      <a:pt x="0" y="1176"/>
                    </a:lnTo>
                    <a:lnTo>
                      <a:pt x="0" y="1201"/>
                    </a:lnTo>
                    <a:lnTo>
                      <a:pt x="0" y="1229"/>
                    </a:lnTo>
                    <a:lnTo>
                      <a:pt x="1" y="1261"/>
                    </a:lnTo>
                    <a:lnTo>
                      <a:pt x="3" y="1299"/>
                    </a:lnTo>
                    <a:lnTo>
                      <a:pt x="104" y="1371"/>
                    </a:lnTo>
                    <a:lnTo>
                      <a:pt x="203" y="1441"/>
                    </a:lnTo>
                    <a:lnTo>
                      <a:pt x="251" y="1473"/>
                    </a:lnTo>
                    <a:lnTo>
                      <a:pt x="299" y="1504"/>
                    </a:lnTo>
                    <a:lnTo>
                      <a:pt x="321" y="1518"/>
                    </a:lnTo>
                    <a:lnTo>
                      <a:pt x="344" y="1531"/>
                    </a:lnTo>
                    <a:lnTo>
                      <a:pt x="367" y="1543"/>
                    </a:lnTo>
                    <a:lnTo>
                      <a:pt x="389" y="1554"/>
                    </a:lnTo>
                    <a:lnTo>
                      <a:pt x="409" y="1564"/>
                    </a:lnTo>
                    <a:lnTo>
                      <a:pt x="430" y="1574"/>
                    </a:lnTo>
                    <a:lnTo>
                      <a:pt x="450" y="1582"/>
                    </a:lnTo>
                    <a:lnTo>
                      <a:pt x="470" y="1587"/>
                    </a:lnTo>
                    <a:lnTo>
                      <a:pt x="488" y="1593"/>
                    </a:lnTo>
                    <a:lnTo>
                      <a:pt x="506" y="1596"/>
                    </a:lnTo>
                    <a:lnTo>
                      <a:pt x="523" y="1599"/>
                    </a:lnTo>
                    <a:lnTo>
                      <a:pt x="539" y="1599"/>
                    </a:lnTo>
                    <a:lnTo>
                      <a:pt x="555" y="1598"/>
                    </a:lnTo>
                    <a:lnTo>
                      <a:pt x="570" y="1594"/>
                    </a:lnTo>
                    <a:lnTo>
                      <a:pt x="584" y="1588"/>
                    </a:lnTo>
                    <a:lnTo>
                      <a:pt x="596" y="1582"/>
                    </a:lnTo>
                    <a:lnTo>
                      <a:pt x="607" y="1572"/>
                    </a:lnTo>
                    <a:lnTo>
                      <a:pt x="619" y="1562"/>
                    </a:lnTo>
                    <a:lnTo>
                      <a:pt x="628" y="1548"/>
                    </a:lnTo>
                    <a:lnTo>
                      <a:pt x="637" y="1533"/>
                    </a:lnTo>
                    <a:lnTo>
                      <a:pt x="629" y="1507"/>
                    </a:lnTo>
                    <a:lnTo>
                      <a:pt x="623" y="1484"/>
                    </a:lnTo>
                    <a:lnTo>
                      <a:pt x="619" y="1460"/>
                    </a:lnTo>
                    <a:lnTo>
                      <a:pt x="615" y="1438"/>
                    </a:lnTo>
                    <a:lnTo>
                      <a:pt x="614" y="1416"/>
                    </a:lnTo>
                    <a:lnTo>
                      <a:pt x="614" y="1395"/>
                    </a:lnTo>
                    <a:lnTo>
                      <a:pt x="615" y="1375"/>
                    </a:lnTo>
                    <a:lnTo>
                      <a:pt x="619" y="1356"/>
                    </a:lnTo>
                    <a:lnTo>
                      <a:pt x="622" y="1336"/>
                    </a:lnTo>
                    <a:lnTo>
                      <a:pt x="628" y="1318"/>
                    </a:lnTo>
                    <a:lnTo>
                      <a:pt x="634" y="1301"/>
                    </a:lnTo>
                    <a:lnTo>
                      <a:pt x="642" y="1284"/>
                    </a:lnTo>
                    <a:lnTo>
                      <a:pt x="650" y="1267"/>
                    </a:lnTo>
                    <a:lnTo>
                      <a:pt x="659" y="1251"/>
                    </a:lnTo>
                    <a:lnTo>
                      <a:pt x="669" y="1235"/>
                    </a:lnTo>
                    <a:lnTo>
                      <a:pt x="679" y="1219"/>
                    </a:lnTo>
                    <a:lnTo>
                      <a:pt x="702" y="1188"/>
                    </a:lnTo>
                    <a:lnTo>
                      <a:pt x="727" y="1159"/>
                    </a:lnTo>
                    <a:lnTo>
                      <a:pt x="753" y="1129"/>
                    </a:lnTo>
                    <a:lnTo>
                      <a:pt x="781" y="1099"/>
                    </a:lnTo>
                    <a:lnTo>
                      <a:pt x="808" y="1070"/>
                    </a:lnTo>
                    <a:lnTo>
                      <a:pt x="835" y="1038"/>
                    </a:lnTo>
                    <a:lnTo>
                      <a:pt x="862" y="1006"/>
                    </a:lnTo>
                    <a:lnTo>
                      <a:pt x="887" y="972"/>
                    </a:lnTo>
                    <a:lnTo>
                      <a:pt x="1051" y="924"/>
                    </a:lnTo>
                    <a:lnTo>
                      <a:pt x="1214" y="877"/>
                    </a:lnTo>
                    <a:lnTo>
                      <a:pt x="1378" y="829"/>
                    </a:lnTo>
                    <a:lnTo>
                      <a:pt x="1541" y="781"/>
                    </a:lnTo>
                    <a:lnTo>
                      <a:pt x="1704" y="733"/>
                    </a:lnTo>
                    <a:lnTo>
                      <a:pt x="1867" y="686"/>
                    </a:lnTo>
                    <a:lnTo>
                      <a:pt x="2029" y="636"/>
                    </a:lnTo>
                    <a:lnTo>
                      <a:pt x="2192" y="589"/>
                    </a:lnTo>
                    <a:lnTo>
                      <a:pt x="2200" y="569"/>
                    </a:lnTo>
                    <a:lnTo>
                      <a:pt x="2206" y="549"/>
                    </a:lnTo>
                    <a:lnTo>
                      <a:pt x="2213" y="529"/>
                    </a:lnTo>
                    <a:lnTo>
                      <a:pt x="2219" y="509"/>
                    </a:lnTo>
                    <a:lnTo>
                      <a:pt x="2224" y="489"/>
                    </a:lnTo>
                    <a:lnTo>
                      <a:pt x="2227" y="470"/>
                    </a:lnTo>
                    <a:lnTo>
                      <a:pt x="2230" y="451"/>
                    </a:lnTo>
                    <a:lnTo>
                      <a:pt x="2233" y="431"/>
                    </a:lnTo>
                    <a:lnTo>
                      <a:pt x="2234" y="412"/>
                    </a:lnTo>
                    <a:lnTo>
                      <a:pt x="2234" y="393"/>
                    </a:lnTo>
                    <a:lnTo>
                      <a:pt x="2234" y="373"/>
                    </a:lnTo>
                    <a:lnTo>
                      <a:pt x="2233" y="355"/>
                    </a:lnTo>
                    <a:lnTo>
                      <a:pt x="2230" y="336"/>
                    </a:lnTo>
                    <a:lnTo>
                      <a:pt x="2228" y="317"/>
                    </a:lnTo>
                    <a:lnTo>
                      <a:pt x="2225" y="299"/>
                    </a:lnTo>
                    <a:lnTo>
                      <a:pt x="2220" y="280"/>
                    </a:lnTo>
                    <a:lnTo>
                      <a:pt x="2216" y="261"/>
                    </a:lnTo>
                    <a:lnTo>
                      <a:pt x="2209" y="243"/>
                    </a:lnTo>
                    <a:lnTo>
                      <a:pt x="2203" y="225"/>
                    </a:lnTo>
                    <a:lnTo>
                      <a:pt x="2195" y="208"/>
                    </a:lnTo>
                    <a:lnTo>
                      <a:pt x="2187" y="190"/>
                    </a:lnTo>
                    <a:lnTo>
                      <a:pt x="2178" y="171"/>
                    </a:lnTo>
                    <a:lnTo>
                      <a:pt x="2168" y="154"/>
                    </a:lnTo>
                    <a:lnTo>
                      <a:pt x="2157" y="136"/>
                    </a:lnTo>
                    <a:lnTo>
                      <a:pt x="2146" y="119"/>
                    </a:lnTo>
                    <a:lnTo>
                      <a:pt x="2134" y="102"/>
                    </a:lnTo>
                    <a:lnTo>
                      <a:pt x="2120" y="85"/>
                    </a:lnTo>
                    <a:lnTo>
                      <a:pt x="2106" y="68"/>
                    </a:lnTo>
                    <a:lnTo>
                      <a:pt x="2091" y="51"/>
                    </a:lnTo>
                    <a:lnTo>
                      <a:pt x="2077" y="33"/>
                    </a:lnTo>
                    <a:lnTo>
                      <a:pt x="2061" y="16"/>
                    </a:lnTo>
                    <a:lnTo>
                      <a:pt x="2043" y="0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386160" y="3580200"/>
                <a:ext cx="414360" cy="245880"/>
              </a:xfrm>
              <a:custGeom>
                <a:avLst/>
                <a:gdLst/>
                <a:ahLst/>
                <a:rect l="l" t="t" r="r" b="b"/>
                <a:pathLst>
                  <a:path w="1306" h="773">
                    <a:moveTo>
                      <a:pt x="18" y="772"/>
                    </a:moveTo>
                    <a:lnTo>
                      <a:pt x="20" y="771"/>
                    </a:lnTo>
                    <a:lnTo>
                      <a:pt x="71" y="730"/>
                    </a:lnTo>
                    <a:lnTo>
                      <a:pt x="120" y="690"/>
                    </a:lnTo>
                    <a:lnTo>
                      <a:pt x="169" y="652"/>
                    </a:lnTo>
                    <a:lnTo>
                      <a:pt x="215" y="617"/>
                    </a:lnTo>
                    <a:lnTo>
                      <a:pt x="262" y="581"/>
                    </a:lnTo>
                    <a:lnTo>
                      <a:pt x="308" y="548"/>
                    </a:lnTo>
                    <a:lnTo>
                      <a:pt x="352" y="518"/>
                    </a:lnTo>
                    <a:lnTo>
                      <a:pt x="397" y="487"/>
                    </a:lnTo>
                    <a:lnTo>
                      <a:pt x="440" y="458"/>
                    </a:lnTo>
                    <a:lnTo>
                      <a:pt x="482" y="431"/>
                    </a:lnTo>
                    <a:lnTo>
                      <a:pt x="524" y="405"/>
                    </a:lnTo>
                    <a:lnTo>
                      <a:pt x="565" y="380"/>
                    </a:lnTo>
                    <a:lnTo>
                      <a:pt x="645" y="332"/>
                    </a:lnTo>
                    <a:lnTo>
                      <a:pt x="724" y="288"/>
                    </a:lnTo>
                    <a:lnTo>
                      <a:pt x="800" y="248"/>
                    </a:lnTo>
                    <a:lnTo>
                      <a:pt x="874" y="212"/>
                    </a:lnTo>
                    <a:lnTo>
                      <a:pt x="948" y="177"/>
                    </a:lnTo>
                    <a:lnTo>
                      <a:pt x="1020" y="144"/>
                    </a:lnTo>
                    <a:lnTo>
                      <a:pt x="1164" y="82"/>
                    </a:lnTo>
                    <a:lnTo>
                      <a:pt x="1306" y="22"/>
                    </a:lnTo>
                    <a:lnTo>
                      <a:pt x="1297" y="0"/>
                    </a:lnTo>
                    <a:lnTo>
                      <a:pt x="1154" y="60"/>
                    </a:lnTo>
                    <a:lnTo>
                      <a:pt x="1011" y="122"/>
                    </a:lnTo>
                    <a:lnTo>
                      <a:pt x="938" y="155"/>
                    </a:lnTo>
                    <a:lnTo>
                      <a:pt x="864" y="190"/>
                    </a:lnTo>
                    <a:lnTo>
                      <a:pt x="789" y="227"/>
                    </a:lnTo>
                    <a:lnTo>
                      <a:pt x="712" y="268"/>
                    </a:lnTo>
                    <a:lnTo>
                      <a:pt x="634" y="311"/>
                    </a:lnTo>
                    <a:lnTo>
                      <a:pt x="553" y="359"/>
                    </a:lnTo>
                    <a:lnTo>
                      <a:pt x="512" y="384"/>
                    </a:lnTo>
                    <a:lnTo>
                      <a:pt x="470" y="410"/>
                    </a:lnTo>
                    <a:lnTo>
                      <a:pt x="426" y="438"/>
                    </a:lnTo>
                    <a:lnTo>
                      <a:pt x="383" y="467"/>
                    </a:lnTo>
                    <a:lnTo>
                      <a:pt x="338" y="497"/>
                    </a:lnTo>
                    <a:lnTo>
                      <a:pt x="294" y="529"/>
                    </a:lnTo>
                    <a:lnTo>
                      <a:pt x="248" y="562"/>
                    </a:lnTo>
                    <a:lnTo>
                      <a:pt x="202" y="597"/>
                    </a:lnTo>
                    <a:lnTo>
                      <a:pt x="154" y="633"/>
                    </a:lnTo>
                    <a:lnTo>
                      <a:pt x="105" y="671"/>
                    </a:lnTo>
                    <a:lnTo>
                      <a:pt x="56" y="710"/>
                    </a:lnTo>
                    <a:lnTo>
                      <a:pt x="5" y="751"/>
                    </a:lnTo>
                    <a:lnTo>
                      <a:pt x="7" y="750"/>
                    </a:lnTo>
                    <a:lnTo>
                      <a:pt x="5" y="751"/>
                    </a:lnTo>
                    <a:lnTo>
                      <a:pt x="1" y="756"/>
                    </a:lnTo>
                    <a:lnTo>
                      <a:pt x="0" y="760"/>
                    </a:lnTo>
                    <a:lnTo>
                      <a:pt x="1" y="765"/>
                    </a:lnTo>
                    <a:lnTo>
                      <a:pt x="3" y="768"/>
                    </a:lnTo>
                    <a:lnTo>
                      <a:pt x="7" y="772"/>
                    </a:lnTo>
                    <a:lnTo>
                      <a:pt x="11" y="773"/>
                    </a:lnTo>
                    <a:lnTo>
                      <a:pt x="16" y="773"/>
                    </a:lnTo>
                    <a:lnTo>
                      <a:pt x="20" y="771"/>
                    </a:lnTo>
                    <a:lnTo>
                      <a:pt x="18" y="7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191040" y="3818160"/>
                <a:ext cx="201600" cy="54000"/>
              </a:xfrm>
              <a:custGeom>
                <a:avLst/>
                <a:gdLst/>
                <a:ahLst/>
                <a:rect l="l" t="t" r="r" b="b"/>
                <a:pathLst>
                  <a:path w="633" h="172">
                    <a:moveTo>
                      <a:pt x="21" y="167"/>
                    </a:moveTo>
                    <a:lnTo>
                      <a:pt x="17" y="171"/>
                    </a:lnTo>
                    <a:lnTo>
                      <a:pt x="42" y="160"/>
                    </a:lnTo>
                    <a:lnTo>
                      <a:pt x="67" y="151"/>
                    </a:lnTo>
                    <a:lnTo>
                      <a:pt x="91" y="141"/>
                    </a:lnTo>
                    <a:lnTo>
                      <a:pt x="115" y="133"/>
                    </a:lnTo>
                    <a:lnTo>
                      <a:pt x="137" y="127"/>
                    </a:lnTo>
                    <a:lnTo>
                      <a:pt x="159" y="120"/>
                    </a:lnTo>
                    <a:lnTo>
                      <a:pt x="182" y="114"/>
                    </a:lnTo>
                    <a:lnTo>
                      <a:pt x="202" y="110"/>
                    </a:lnTo>
                    <a:lnTo>
                      <a:pt x="245" y="102"/>
                    </a:lnTo>
                    <a:lnTo>
                      <a:pt x="283" y="95"/>
                    </a:lnTo>
                    <a:lnTo>
                      <a:pt x="322" y="90"/>
                    </a:lnTo>
                    <a:lnTo>
                      <a:pt x="359" y="87"/>
                    </a:lnTo>
                    <a:lnTo>
                      <a:pt x="395" y="83"/>
                    </a:lnTo>
                    <a:lnTo>
                      <a:pt x="430" y="79"/>
                    </a:lnTo>
                    <a:lnTo>
                      <a:pt x="465" y="74"/>
                    </a:lnTo>
                    <a:lnTo>
                      <a:pt x="499" y="68"/>
                    </a:lnTo>
                    <a:lnTo>
                      <a:pt x="516" y="65"/>
                    </a:lnTo>
                    <a:lnTo>
                      <a:pt x="532" y="62"/>
                    </a:lnTo>
                    <a:lnTo>
                      <a:pt x="549" y="56"/>
                    </a:lnTo>
                    <a:lnTo>
                      <a:pt x="566" y="51"/>
                    </a:lnTo>
                    <a:lnTo>
                      <a:pt x="583" y="45"/>
                    </a:lnTo>
                    <a:lnTo>
                      <a:pt x="599" y="38"/>
                    </a:lnTo>
                    <a:lnTo>
                      <a:pt x="616" y="31"/>
                    </a:lnTo>
                    <a:lnTo>
                      <a:pt x="633" y="22"/>
                    </a:lnTo>
                    <a:lnTo>
                      <a:pt x="622" y="0"/>
                    </a:lnTo>
                    <a:lnTo>
                      <a:pt x="606" y="8"/>
                    </a:lnTo>
                    <a:lnTo>
                      <a:pt x="590" y="16"/>
                    </a:lnTo>
                    <a:lnTo>
                      <a:pt x="574" y="23"/>
                    </a:lnTo>
                    <a:lnTo>
                      <a:pt x="558" y="29"/>
                    </a:lnTo>
                    <a:lnTo>
                      <a:pt x="542" y="33"/>
                    </a:lnTo>
                    <a:lnTo>
                      <a:pt x="526" y="38"/>
                    </a:lnTo>
                    <a:lnTo>
                      <a:pt x="510" y="41"/>
                    </a:lnTo>
                    <a:lnTo>
                      <a:pt x="494" y="45"/>
                    </a:lnTo>
                    <a:lnTo>
                      <a:pt x="461" y="50"/>
                    </a:lnTo>
                    <a:lnTo>
                      <a:pt x="427" y="55"/>
                    </a:lnTo>
                    <a:lnTo>
                      <a:pt x="393" y="59"/>
                    </a:lnTo>
                    <a:lnTo>
                      <a:pt x="356" y="63"/>
                    </a:lnTo>
                    <a:lnTo>
                      <a:pt x="320" y="66"/>
                    </a:lnTo>
                    <a:lnTo>
                      <a:pt x="281" y="71"/>
                    </a:lnTo>
                    <a:lnTo>
                      <a:pt x="240" y="78"/>
                    </a:lnTo>
                    <a:lnTo>
                      <a:pt x="198" y="86"/>
                    </a:lnTo>
                    <a:lnTo>
                      <a:pt x="176" y="90"/>
                    </a:lnTo>
                    <a:lnTo>
                      <a:pt x="153" y="96"/>
                    </a:lnTo>
                    <a:lnTo>
                      <a:pt x="131" y="103"/>
                    </a:lnTo>
                    <a:lnTo>
                      <a:pt x="107" y="111"/>
                    </a:lnTo>
                    <a:lnTo>
                      <a:pt x="83" y="119"/>
                    </a:lnTo>
                    <a:lnTo>
                      <a:pt x="58" y="128"/>
                    </a:lnTo>
                    <a:lnTo>
                      <a:pt x="33" y="138"/>
                    </a:lnTo>
                    <a:lnTo>
                      <a:pt x="6" y="149"/>
                    </a:lnTo>
                    <a:lnTo>
                      <a:pt x="1" y="153"/>
                    </a:lnTo>
                    <a:lnTo>
                      <a:pt x="6" y="149"/>
                    </a:lnTo>
                    <a:lnTo>
                      <a:pt x="2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1" y="165"/>
                    </a:lnTo>
                    <a:lnTo>
                      <a:pt x="3" y="169"/>
                    </a:lnTo>
                    <a:lnTo>
                      <a:pt x="6" y="171"/>
                    </a:lnTo>
                    <a:lnTo>
                      <a:pt x="11" y="172"/>
                    </a:lnTo>
                    <a:lnTo>
                      <a:pt x="17" y="171"/>
                    </a:lnTo>
                    <a:lnTo>
                      <a:pt x="21" y="1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146400" y="3867480"/>
                <a:ext cx="50760" cy="131760"/>
              </a:xfrm>
              <a:custGeom>
                <a:avLst/>
                <a:gdLst/>
                <a:ahLst/>
                <a:rect l="l" t="t" r="r" b="b"/>
                <a:pathLst>
                  <a:path w="160" h="419">
                    <a:moveTo>
                      <a:pt x="22" y="398"/>
                    </a:moveTo>
                    <a:lnTo>
                      <a:pt x="27" y="407"/>
                    </a:lnTo>
                    <a:lnTo>
                      <a:pt x="26" y="369"/>
                    </a:lnTo>
                    <a:lnTo>
                      <a:pt x="25" y="336"/>
                    </a:lnTo>
                    <a:lnTo>
                      <a:pt x="23" y="309"/>
                    </a:lnTo>
                    <a:lnTo>
                      <a:pt x="25" y="284"/>
                    </a:lnTo>
                    <a:lnTo>
                      <a:pt x="26" y="262"/>
                    </a:lnTo>
                    <a:lnTo>
                      <a:pt x="28" y="243"/>
                    </a:lnTo>
                    <a:lnTo>
                      <a:pt x="33" y="226"/>
                    </a:lnTo>
                    <a:lnTo>
                      <a:pt x="37" y="208"/>
                    </a:lnTo>
                    <a:lnTo>
                      <a:pt x="45" y="191"/>
                    </a:lnTo>
                    <a:lnTo>
                      <a:pt x="54" y="174"/>
                    </a:lnTo>
                    <a:lnTo>
                      <a:pt x="64" y="155"/>
                    </a:lnTo>
                    <a:lnTo>
                      <a:pt x="78" y="133"/>
                    </a:lnTo>
                    <a:lnTo>
                      <a:pt x="113" y="82"/>
                    </a:lnTo>
                    <a:lnTo>
                      <a:pt x="160" y="14"/>
                    </a:lnTo>
                    <a:lnTo>
                      <a:pt x="140" y="0"/>
                    </a:lnTo>
                    <a:lnTo>
                      <a:pt x="94" y="68"/>
                    </a:lnTo>
                    <a:lnTo>
                      <a:pt x="59" y="121"/>
                    </a:lnTo>
                    <a:lnTo>
                      <a:pt x="44" y="142"/>
                    </a:lnTo>
                    <a:lnTo>
                      <a:pt x="33" y="163"/>
                    </a:lnTo>
                    <a:lnTo>
                      <a:pt x="22" y="181"/>
                    </a:lnTo>
                    <a:lnTo>
                      <a:pt x="14" y="200"/>
                    </a:lnTo>
                    <a:lnTo>
                      <a:pt x="9" y="219"/>
                    </a:lnTo>
                    <a:lnTo>
                      <a:pt x="4" y="239"/>
                    </a:lnTo>
                    <a:lnTo>
                      <a:pt x="2" y="260"/>
                    </a:lnTo>
                    <a:lnTo>
                      <a:pt x="0" y="283"/>
                    </a:lnTo>
                    <a:lnTo>
                      <a:pt x="0" y="309"/>
                    </a:lnTo>
                    <a:lnTo>
                      <a:pt x="1" y="337"/>
                    </a:lnTo>
                    <a:lnTo>
                      <a:pt x="2" y="370"/>
                    </a:lnTo>
                    <a:lnTo>
                      <a:pt x="3" y="408"/>
                    </a:lnTo>
                    <a:lnTo>
                      <a:pt x="9" y="417"/>
                    </a:lnTo>
                    <a:lnTo>
                      <a:pt x="3" y="408"/>
                    </a:lnTo>
                    <a:lnTo>
                      <a:pt x="4" y="413"/>
                    </a:lnTo>
                    <a:lnTo>
                      <a:pt x="7" y="417"/>
                    </a:lnTo>
                    <a:lnTo>
                      <a:pt x="11" y="418"/>
                    </a:lnTo>
                    <a:lnTo>
                      <a:pt x="15" y="419"/>
                    </a:lnTo>
                    <a:lnTo>
                      <a:pt x="20" y="418"/>
                    </a:lnTo>
                    <a:lnTo>
                      <a:pt x="23" y="416"/>
                    </a:lnTo>
                    <a:lnTo>
                      <a:pt x="27" y="411"/>
                    </a:lnTo>
                    <a:lnTo>
                      <a:pt x="27" y="407"/>
                    </a:lnTo>
                    <a:lnTo>
                      <a:pt x="22" y="3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149640" y="3992760"/>
                <a:ext cx="208080" cy="101520"/>
              </a:xfrm>
              <a:custGeom>
                <a:avLst/>
                <a:gdLst/>
                <a:ahLst/>
                <a:rect l="l" t="t" r="r" b="b"/>
                <a:pathLst>
                  <a:path w="653" h="320">
                    <a:moveTo>
                      <a:pt x="629" y="247"/>
                    </a:moveTo>
                    <a:lnTo>
                      <a:pt x="629" y="238"/>
                    </a:lnTo>
                    <a:lnTo>
                      <a:pt x="621" y="252"/>
                    </a:lnTo>
                    <a:lnTo>
                      <a:pt x="613" y="264"/>
                    </a:lnTo>
                    <a:lnTo>
                      <a:pt x="603" y="274"/>
                    </a:lnTo>
                    <a:lnTo>
                      <a:pt x="592" y="281"/>
                    </a:lnTo>
                    <a:lnTo>
                      <a:pt x="582" y="288"/>
                    </a:lnTo>
                    <a:lnTo>
                      <a:pt x="569" y="293"/>
                    </a:lnTo>
                    <a:lnTo>
                      <a:pt x="557" y="295"/>
                    </a:lnTo>
                    <a:lnTo>
                      <a:pt x="542" y="296"/>
                    </a:lnTo>
                    <a:lnTo>
                      <a:pt x="527" y="296"/>
                    </a:lnTo>
                    <a:lnTo>
                      <a:pt x="511" y="294"/>
                    </a:lnTo>
                    <a:lnTo>
                      <a:pt x="494" y="290"/>
                    </a:lnTo>
                    <a:lnTo>
                      <a:pt x="476" y="286"/>
                    </a:lnTo>
                    <a:lnTo>
                      <a:pt x="457" y="280"/>
                    </a:lnTo>
                    <a:lnTo>
                      <a:pt x="437" y="272"/>
                    </a:lnTo>
                    <a:lnTo>
                      <a:pt x="418" y="263"/>
                    </a:lnTo>
                    <a:lnTo>
                      <a:pt x="396" y="254"/>
                    </a:lnTo>
                    <a:lnTo>
                      <a:pt x="375" y="243"/>
                    </a:lnTo>
                    <a:lnTo>
                      <a:pt x="353" y="230"/>
                    </a:lnTo>
                    <a:lnTo>
                      <a:pt x="331" y="217"/>
                    </a:lnTo>
                    <a:lnTo>
                      <a:pt x="308" y="204"/>
                    </a:lnTo>
                    <a:lnTo>
                      <a:pt x="261" y="174"/>
                    </a:lnTo>
                    <a:lnTo>
                      <a:pt x="213" y="141"/>
                    </a:lnTo>
                    <a:lnTo>
                      <a:pt x="114" y="72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100" y="91"/>
                    </a:lnTo>
                    <a:lnTo>
                      <a:pt x="199" y="162"/>
                    </a:lnTo>
                    <a:lnTo>
                      <a:pt x="248" y="194"/>
                    </a:lnTo>
                    <a:lnTo>
                      <a:pt x="295" y="224"/>
                    </a:lnTo>
                    <a:lnTo>
                      <a:pt x="319" y="238"/>
                    </a:lnTo>
                    <a:lnTo>
                      <a:pt x="342" y="252"/>
                    </a:lnTo>
                    <a:lnTo>
                      <a:pt x="364" y="264"/>
                    </a:lnTo>
                    <a:lnTo>
                      <a:pt x="386" y="276"/>
                    </a:lnTo>
                    <a:lnTo>
                      <a:pt x="408" y="286"/>
                    </a:lnTo>
                    <a:lnTo>
                      <a:pt x="428" y="295"/>
                    </a:lnTo>
                    <a:lnTo>
                      <a:pt x="449" y="303"/>
                    </a:lnTo>
                    <a:lnTo>
                      <a:pt x="469" y="310"/>
                    </a:lnTo>
                    <a:lnTo>
                      <a:pt x="489" y="314"/>
                    </a:lnTo>
                    <a:lnTo>
                      <a:pt x="507" y="318"/>
                    </a:lnTo>
                    <a:lnTo>
                      <a:pt x="525" y="320"/>
                    </a:lnTo>
                    <a:lnTo>
                      <a:pt x="543" y="320"/>
                    </a:lnTo>
                    <a:lnTo>
                      <a:pt x="560" y="319"/>
                    </a:lnTo>
                    <a:lnTo>
                      <a:pt x="576" y="315"/>
                    </a:lnTo>
                    <a:lnTo>
                      <a:pt x="591" y="310"/>
                    </a:lnTo>
                    <a:lnTo>
                      <a:pt x="606" y="302"/>
                    </a:lnTo>
                    <a:lnTo>
                      <a:pt x="620" y="292"/>
                    </a:lnTo>
                    <a:lnTo>
                      <a:pt x="631" y="280"/>
                    </a:lnTo>
                    <a:lnTo>
                      <a:pt x="641" y="265"/>
                    </a:lnTo>
                    <a:lnTo>
                      <a:pt x="650" y="248"/>
                    </a:lnTo>
                    <a:lnTo>
                      <a:pt x="652" y="239"/>
                    </a:lnTo>
                    <a:lnTo>
                      <a:pt x="650" y="248"/>
                    </a:lnTo>
                    <a:lnTo>
                      <a:pt x="653" y="243"/>
                    </a:lnTo>
                    <a:lnTo>
                      <a:pt x="652" y="238"/>
                    </a:lnTo>
                    <a:lnTo>
                      <a:pt x="649" y="235"/>
                    </a:lnTo>
                    <a:lnTo>
                      <a:pt x="645" y="232"/>
                    </a:lnTo>
                    <a:lnTo>
                      <a:pt x="641" y="231"/>
                    </a:lnTo>
                    <a:lnTo>
                      <a:pt x="637" y="231"/>
                    </a:lnTo>
                    <a:lnTo>
                      <a:pt x="632" y="233"/>
                    </a:lnTo>
                    <a:lnTo>
                      <a:pt x="629" y="238"/>
                    </a:lnTo>
                    <a:lnTo>
                      <a:pt x="629" y="2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341520" y="3888000"/>
                <a:ext cx="93960" cy="184320"/>
              </a:xfrm>
              <a:custGeom>
                <a:avLst/>
                <a:gdLst/>
                <a:ahLst/>
                <a:rect l="l" t="t" r="r" b="b"/>
                <a:pathLst>
                  <a:path w="296" h="578">
                    <a:moveTo>
                      <a:pt x="281" y="1"/>
                    </a:moveTo>
                    <a:lnTo>
                      <a:pt x="274" y="6"/>
                    </a:lnTo>
                    <a:lnTo>
                      <a:pt x="251" y="40"/>
                    </a:lnTo>
                    <a:lnTo>
                      <a:pt x="224" y="72"/>
                    </a:lnTo>
                    <a:lnTo>
                      <a:pt x="197" y="103"/>
                    </a:lnTo>
                    <a:lnTo>
                      <a:pt x="170" y="132"/>
                    </a:lnTo>
                    <a:lnTo>
                      <a:pt x="142" y="162"/>
                    </a:lnTo>
                    <a:lnTo>
                      <a:pt x="116" y="192"/>
                    </a:lnTo>
                    <a:lnTo>
                      <a:pt x="91" y="222"/>
                    </a:lnTo>
                    <a:lnTo>
                      <a:pt x="67" y="253"/>
                    </a:lnTo>
                    <a:lnTo>
                      <a:pt x="57" y="269"/>
                    </a:lnTo>
                    <a:lnTo>
                      <a:pt x="47" y="285"/>
                    </a:lnTo>
                    <a:lnTo>
                      <a:pt x="37" y="302"/>
                    </a:lnTo>
                    <a:lnTo>
                      <a:pt x="28" y="319"/>
                    </a:lnTo>
                    <a:lnTo>
                      <a:pt x="20" y="338"/>
                    </a:lnTo>
                    <a:lnTo>
                      <a:pt x="15" y="356"/>
                    </a:lnTo>
                    <a:lnTo>
                      <a:pt x="9" y="375"/>
                    </a:lnTo>
                    <a:lnTo>
                      <a:pt x="4" y="395"/>
                    </a:lnTo>
                    <a:lnTo>
                      <a:pt x="2" y="415"/>
                    </a:lnTo>
                    <a:lnTo>
                      <a:pt x="0" y="436"/>
                    </a:lnTo>
                    <a:lnTo>
                      <a:pt x="0" y="457"/>
                    </a:lnTo>
                    <a:lnTo>
                      <a:pt x="2" y="480"/>
                    </a:lnTo>
                    <a:lnTo>
                      <a:pt x="4" y="503"/>
                    </a:lnTo>
                    <a:lnTo>
                      <a:pt x="9" y="527"/>
                    </a:lnTo>
                    <a:lnTo>
                      <a:pt x="16" y="552"/>
                    </a:lnTo>
                    <a:lnTo>
                      <a:pt x="24" y="578"/>
                    </a:lnTo>
                    <a:lnTo>
                      <a:pt x="47" y="570"/>
                    </a:lnTo>
                    <a:lnTo>
                      <a:pt x="39" y="545"/>
                    </a:lnTo>
                    <a:lnTo>
                      <a:pt x="33" y="522"/>
                    </a:lnTo>
                    <a:lnTo>
                      <a:pt x="28" y="499"/>
                    </a:lnTo>
                    <a:lnTo>
                      <a:pt x="26" y="478"/>
                    </a:lnTo>
                    <a:lnTo>
                      <a:pt x="25" y="456"/>
                    </a:lnTo>
                    <a:lnTo>
                      <a:pt x="25" y="437"/>
                    </a:lnTo>
                    <a:lnTo>
                      <a:pt x="26" y="417"/>
                    </a:lnTo>
                    <a:lnTo>
                      <a:pt x="28" y="398"/>
                    </a:lnTo>
                    <a:lnTo>
                      <a:pt x="33" y="381"/>
                    </a:lnTo>
                    <a:lnTo>
                      <a:pt x="37" y="363"/>
                    </a:lnTo>
                    <a:lnTo>
                      <a:pt x="43" y="347"/>
                    </a:lnTo>
                    <a:lnTo>
                      <a:pt x="50" y="330"/>
                    </a:lnTo>
                    <a:lnTo>
                      <a:pt x="58" y="314"/>
                    </a:lnTo>
                    <a:lnTo>
                      <a:pt x="67" y="298"/>
                    </a:lnTo>
                    <a:lnTo>
                      <a:pt x="76" y="283"/>
                    </a:lnTo>
                    <a:lnTo>
                      <a:pt x="86" y="267"/>
                    </a:lnTo>
                    <a:lnTo>
                      <a:pt x="109" y="237"/>
                    </a:lnTo>
                    <a:lnTo>
                      <a:pt x="134" y="208"/>
                    </a:lnTo>
                    <a:lnTo>
                      <a:pt x="160" y="178"/>
                    </a:lnTo>
                    <a:lnTo>
                      <a:pt x="188" y="148"/>
                    </a:lnTo>
                    <a:lnTo>
                      <a:pt x="215" y="119"/>
                    </a:lnTo>
                    <a:lnTo>
                      <a:pt x="243" y="87"/>
                    </a:lnTo>
                    <a:lnTo>
                      <a:pt x="269" y="54"/>
                    </a:lnTo>
                    <a:lnTo>
                      <a:pt x="294" y="19"/>
                    </a:lnTo>
                    <a:lnTo>
                      <a:pt x="288" y="24"/>
                    </a:lnTo>
                    <a:lnTo>
                      <a:pt x="294" y="19"/>
                    </a:lnTo>
                    <a:lnTo>
                      <a:pt x="296" y="15"/>
                    </a:lnTo>
                    <a:lnTo>
                      <a:pt x="296" y="10"/>
                    </a:lnTo>
                    <a:lnTo>
                      <a:pt x="294" y="6"/>
                    </a:lnTo>
                    <a:lnTo>
                      <a:pt x="292" y="2"/>
                    </a:lnTo>
                    <a:lnTo>
                      <a:pt x="287" y="1"/>
                    </a:lnTo>
                    <a:lnTo>
                      <a:pt x="282" y="0"/>
                    </a:lnTo>
                    <a:lnTo>
                      <a:pt x="278" y="2"/>
                    </a:lnTo>
                    <a:lnTo>
                      <a:pt x="274" y="6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430440" y="3767400"/>
                <a:ext cx="420840" cy="128520"/>
              </a:xfrm>
              <a:custGeom>
                <a:avLst/>
                <a:gdLst/>
                <a:ahLst/>
                <a:rect l="l" t="t" r="r" b="b"/>
                <a:pathLst>
                  <a:path w="1321" h="406">
                    <a:moveTo>
                      <a:pt x="1298" y="7"/>
                    </a:moveTo>
                    <a:lnTo>
                      <a:pt x="1305" y="0"/>
                    </a:lnTo>
                    <a:lnTo>
                      <a:pt x="1142" y="48"/>
                    </a:lnTo>
                    <a:lnTo>
                      <a:pt x="980" y="96"/>
                    </a:lnTo>
                    <a:lnTo>
                      <a:pt x="817" y="144"/>
                    </a:lnTo>
                    <a:lnTo>
                      <a:pt x="654" y="193"/>
                    </a:lnTo>
                    <a:lnTo>
                      <a:pt x="491" y="241"/>
                    </a:lnTo>
                    <a:lnTo>
                      <a:pt x="327" y="287"/>
                    </a:lnTo>
                    <a:lnTo>
                      <a:pt x="164" y="335"/>
                    </a:lnTo>
                    <a:lnTo>
                      <a:pt x="0" y="383"/>
                    </a:lnTo>
                    <a:lnTo>
                      <a:pt x="7" y="406"/>
                    </a:lnTo>
                    <a:lnTo>
                      <a:pt x="171" y="359"/>
                    </a:lnTo>
                    <a:lnTo>
                      <a:pt x="334" y="311"/>
                    </a:lnTo>
                    <a:lnTo>
                      <a:pt x="497" y="264"/>
                    </a:lnTo>
                    <a:lnTo>
                      <a:pt x="661" y="216"/>
                    </a:lnTo>
                    <a:lnTo>
                      <a:pt x="824" y="168"/>
                    </a:lnTo>
                    <a:lnTo>
                      <a:pt x="987" y="120"/>
                    </a:lnTo>
                    <a:lnTo>
                      <a:pt x="1149" y="72"/>
                    </a:lnTo>
                    <a:lnTo>
                      <a:pt x="1312" y="23"/>
                    </a:lnTo>
                    <a:lnTo>
                      <a:pt x="1320" y="16"/>
                    </a:lnTo>
                    <a:lnTo>
                      <a:pt x="1312" y="23"/>
                    </a:lnTo>
                    <a:lnTo>
                      <a:pt x="1318" y="21"/>
                    </a:lnTo>
                    <a:lnTo>
                      <a:pt x="1320" y="17"/>
                    </a:lnTo>
                    <a:lnTo>
                      <a:pt x="1321" y="13"/>
                    </a:lnTo>
                    <a:lnTo>
                      <a:pt x="1321" y="8"/>
                    </a:lnTo>
                    <a:lnTo>
                      <a:pt x="1319" y="5"/>
                    </a:lnTo>
                    <a:lnTo>
                      <a:pt x="1315" y="1"/>
                    </a:lnTo>
                    <a:lnTo>
                      <a:pt x="1311" y="0"/>
                    </a:lnTo>
                    <a:lnTo>
                      <a:pt x="1305" y="0"/>
                    </a:lnTo>
                    <a:lnTo>
                      <a:pt x="1298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795840" y="3580200"/>
                <a:ext cx="68040" cy="191880"/>
              </a:xfrm>
              <a:custGeom>
                <a:avLst/>
                <a:gdLst/>
                <a:ahLst/>
                <a:rect l="l" t="t" r="r" b="b"/>
                <a:pathLst>
                  <a:path w="215" h="605">
                    <a:moveTo>
                      <a:pt x="17" y="23"/>
                    </a:moveTo>
                    <a:lnTo>
                      <a:pt x="3" y="20"/>
                    </a:lnTo>
                    <a:lnTo>
                      <a:pt x="20" y="37"/>
                    </a:lnTo>
                    <a:lnTo>
                      <a:pt x="36" y="53"/>
                    </a:lnTo>
                    <a:lnTo>
                      <a:pt x="51" y="71"/>
                    </a:lnTo>
                    <a:lnTo>
                      <a:pt x="66" y="86"/>
                    </a:lnTo>
                    <a:lnTo>
                      <a:pt x="80" y="104"/>
                    </a:lnTo>
                    <a:lnTo>
                      <a:pt x="92" y="121"/>
                    </a:lnTo>
                    <a:lnTo>
                      <a:pt x="105" y="138"/>
                    </a:lnTo>
                    <a:lnTo>
                      <a:pt x="116" y="155"/>
                    </a:lnTo>
                    <a:lnTo>
                      <a:pt x="126" y="172"/>
                    </a:lnTo>
                    <a:lnTo>
                      <a:pt x="136" y="189"/>
                    </a:lnTo>
                    <a:lnTo>
                      <a:pt x="145" y="206"/>
                    </a:lnTo>
                    <a:lnTo>
                      <a:pt x="153" y="224"/>
                    </a:lnTo>
                    <a:lnTo>
                      <a:pt x="161" y="242"/>
                    </a:lnTo>
                    <a:lnTo>
                      <a:pt x="166" y="260"/>
                    </a:lnTo>
                    <a:lnTo>
                      <a:pt x="172" y="277"/>
                    </a:lnTo>
                    <a:lnTo>
                      <a:pt x="178" y="295"/>
                    </a:lnTo>
                    <a:lnTo>
                      <a:pt x="181" y="313"/>
                    </a:lnTo>
                    <a:lnTo>
                      <a:pt x="185" y="332"/>
                    </a:lnTo>
                    <a:lnTo>
                      <a:pt x="188" y="350"/>
                    </a:lnTo>
                    <a:lnTo>
                      <a:pt x="189" y="368"/>
                    </a:lnTo>
                    <a:lnTo>
                      <a:pt x="190" y="386"/>
                    </a:lnTo>
                    <a:lnTo>
                      <a:pt x="191" y="405"/>
                    </a:lnTo>
                    <a:lnTo>
                      <a:pt x="190" y="423"/>
                    </a:lnTo>
                    <a:lnTo>
                      <a:pt x="189" y="442"/>
                    </a:lnTo>
                    <a:lnTo>
                      <a:pt x="187" y="460"/>
                    </a:lnTo>
                    <a:lnTo>
                      <a:pt x="185" y="480"/>
                    </a:lnTo>
                    <a:lnTo>
                      <a:pt x="180" y="499"/>
                    </a:lnTo>
                    <a:lnTo>
                      <a:pt x="175" y="519"/>
                    </a:lnTo>
                    <a:lnTo>
                      <a:pt x="171" y="538"/>
                    </a:lnTo>
                    <a:lnTo>
                      <a:pt x="164" y="557"/>
                    </a:lnTo>
                    <a:lnTo>
                      <a:pt x="157" y="577"/>
                    </a:lnTo>
                    <a:lnTo>
                      <a:pt x="150" y="596"/>
                    </a:lnTo>
                    <a:lnTo>
                      <a:pt x="172" y="605"/>
                    </a:lnTo>
                    <a:lnTo>
                      <a:pt x="180" y="585"/>
                    </a:lnTo>
                    <a:lnTo>
                      <a:pt x="188" y="564"/>
                    </a:lnTo>
                    <a:lnTo>
                      <a:pt x="194" y="545"/>
                    </a:lnTo>
                    <a:lnTo>
                      <a:pt x="199" y="524"/>
                    </a:lnTo>
                    <a:lnTo>
                      <a:pt x="204" y="504"/>
                    </a:lnTo>
                    <a:lnTo>
                      <a:pt x="207" y="484"/>
                    </a:lnTo>
                    <a:lnTo>
                      <a:pt x="211" y="464"/>
                    </a:lnTo>
                    <a:lnTo>
                      <a:pt x="213" y="444"/>
                    </a:lnTo>
                    <a:lnTo>
                      <a:pt x="214" y="424"/>
                    </a:lnTo>
                    <a:lnTo>
                      <a:pt x="215" y="405"/>
                    </a:lnTo>
                    <a:lnTo>
                      <a:pt x="214" y="385"/>
                    </a:lnTo>
                    <a:lnTo>
                      <a:pt x="214" y="366"/>
                    </a:lnTo>
                    <a:lnTo>
                      <a:pt x="212" y="346"/>
                    </a:lnTo>
                    <a:lnTo>
                      <a:pt x="209" y="327"/>
                    </a:lnTo>
                    <a:lnTo>
                      <a:pt x="205" y="308"/>
                    </a:lnTo>
                    <a:lnTo>
                      <a:pt x="201" y="289"/>
                    </a:lnTo>
                    <a:lnTo>
                      <a:pt x="196" y="270"/>
                    </a:lnTo>
                    <a:lnTo>
                      <a:pt x="189" y="252"/>
                    </a:lnTo>
                    <a:lnTo>
                      <a:pt x="182" y="232"/>
                    </a:lnTo>
                    <a:lnTo>
                      <a:pt x="175" y="214"/>
                    </a:lnTo>
                    <a:lnTo>
                      <a:pt x="166" y="196"/>
                    </a:lnTo>
                    <a:lnTo>
                      <a:pt x="157" y="178"/>
                    </a:lnTo>
                    <a:lnTo>
                      <a:pt x="147" y="159"/>
                    </a:lnTo>
                    <a:lnTo>
                      <a:pt x="137" y="142"/>
                    </a:lnTo>
                    <a:lnTo>
                      <a:pt x="124" y="124"/>
                    </a:lnTo>
                    <a:lnTo>
                      <a:pt x="112" y="106"/>
                    </a:lnTo>
                    <a:lnTo>
                      <a:pt x="99" y="89"/>
                    </a:lnTo>
                    <a:lnTo>
                      <a:pt x="84" y="72"/>
                    </a:lnTo>
                    <a:lnTo>
                      <a:pt x="69" y="55"/>
                    </a:lnTo>
                    <a:lnTo>
                      <a:pt x="55" y="37"/>
                    </a:lnTo>
                    <a:lnTo>
                      <a:pt x="38" y="20"/>
                    </a:lnTo>
                    <a:lnTo>
                      <a:pt x="20" y="3"/>
                    </a:lnTo>
                    <a:lnTo>
                      <a:pt x="8" y="1"/>
                    </a:lnTo>
                    <a:lnTo>
                      <a:pt x="20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775040" y="2999160"/>
                <a:ext cx="252720" cy="557280"/>
              </a:xfrm>
              <a:custGeom>
                <a:avLst/>
                <a:gdLst/>
                <a:ahLst/>
                <a:rect l="l" t="t" r="r" b="b"/>
                <a:pathLst>
                  <a:path w="797" h="1756">
                    <a:moveTo>
                      <a:pt x="0" y="1753"/>
                    </a:moveTo>
                    <a:lnTo>
                      <a:pt x="67" y="1711"/>
                    </a:lnTo>
                    <a:lnTo>
                      <a:pt x="129" y="1669"/>
                    </a:lnTo>
                    <a:lnTo>
                      <a:pt x="186" y="1625"/>
                    </a:lnTo>
                    <a:lnTo>
                      <a:pt x="239" y="1579"/>
                    </a:lnTo>
                    <a:lnTo>
                      <a:pt x="289" y="1532"/>
                    </a:lnTo>
                    <a:lnTo>
                      <a:pt x="335" y="1484"/>
                    </a:lnTo>
                    <a:lnTo>
                      <a:pt x="377" y="1435"/>
                    </a:lnTo>
                    <a:lnTo>
                      <a:pt x="416" y="1385"/>
                    </a:lnTo>
                    <a:lnTo>
                      <a:pt x="450" y="1334"/>
                    </a:lnTo>
                    <a:lnTo>
                      <a:pt x="482" y="1283"/>
                    </a:lnTo>
                    <a:lnTo>
                      <a:pt x="510" y="1230"/>
                    </a:lnTo>
                    <a:lnTo>
                      <a:pt x="536" y="1177"/>
                    </a:lnTo>
                    <a:lnTo>
                      <a:pt x="557" y="1123"/>
                    </a:lnTo>
                    <a:lnTo>
                      <a:pt x="577" y="1068"/>
                    </a:lnTo>
                    <a:lnTo>
                      <a:pt x="593" y="1014"/>
                    </a:lnTo>
                    <a:lnTo>
                      <a:pt x="606" y="958"/>
                    </a:lnTo>
                    <a:lnTo>
                      <a:pt x="618" y="902"/>
                    </a:lnTo>
                    <a:lnTo>
                      <a:pt x="627" y="846"/>
                    </a:lnTo>
                    <a:lnTo>
                      <a:pt x="634" y="789"/>
                    </a:lnTo>
                    <a:lnTo>
                      <a:pt x="638" y="732"/>
                    </a:lnTo>
                    <a:lnTo>
                      <a:pt x="640" y="675"/>
                    </a:lnTo>
                    <a:lnTo>
                      <a:pt x="642" y="618"/>
                    </a:lnTo>
                    <a:lnTo>
                      <a:pt x="640" y="561"/>
                    </a:lnTo>
                    <a:lnTo>
                      <a:pt x="637" y="504"/>
                    </a:lnTo>
                    <a:lnTo>
                      <a:pt x="632" y="447"/>
                    </a:lnTo>
                    <a:lnTo>
                      <a:pt x="627" y="389"/>
                    </a:lnTo>
                    <a:lnTo>
                      <a:pt x="620" y="332"/>
                    </a:lnTo>
                    <a:lnTo>
                      <a:pt x="612" y="276"/>
                    </a:lnTo>
                    <a:lnTo>
                      <a:pt x="603" y="219"/>
                    </a:lnTo>
                    <a:lnTo>
                      <a:pt x="593" y="163"/>
                    </a:lnTo>
                    <a:lnTo>
                      <a:pt x="581" y="107"/>
                    </a:lnTo>
                    <a:lnTo>
                      <a:pt x="570" y="53"/>
                    </a:lnTo>
                    <a:lnTo>
                      <a:pt x="569" y="47"/>
                    </a:lnTo>
                    <a:lnTo>
                      <a:pt x="569" y="42"/>
                    </a:lnTo>
                    <a:lnTo>
                      <a:pt x="569" y="38"/>
                    </a:lnTo>
                    <a:lnTo>
                      <a:pt x="570" y="34"/>
                    </a:lnTo>
                    <a:lnTo>
                      <a:pt x="571" y="31"/>
                    </a:lnTo>
                    <a:lnTo>
                      <a:pt x="573" y="29"/>
                    </a:lnTo>
                    <a:lnTo>
                      <a:pt x="575" y="27"/>
                    </a:lnTo>
                    <a:lnTo>
                      <a:pt x="578" y="26"/>
                    </a:lnTo>
                    <a:lnTo>
                      <a:pt x="583" y="24"/>
                    </a:lnTo>
                    <a:lnTo>
                      <a:pt x="591" y="24"/>
                    </a:lnTo>
                    <a:lnTo>
                      <a:pt x="599" y="24"/>
                    </a:lnTo>
                    <a:lnTo>
                      <a:pt x="607" y="25"/>
                    </a:lnTo>
                    <a:lnTo>
                      <a:pt x="615" y="26"/>
                    </a:lnTo>
                    <a:lnTo>
                      <a:pt x="623" y="26"/>
                    </a:lnTo>
                    <a:lnTo>
                      <a:pt x="630" y="26"/>
                    </a:lnTo>
                    <a:lnTo>
                      <a:pt x="636" y="25"/>
                    </a:lnTo>
                    <a:lnTo>
                      <a:pt x="638" y="24"/>
                    </a:lnTo>
                    <a:lnTo>
                      <a:pt x="640" y="22"/>
                    </a:lnTo>
                    <a:lnTo>
                      <a:pt x="643" y="21"/>
                    </a:lnTo>
                    <a:lnTo>
                      <a:pt x="644" y="17"/>
                    </a:lnTo>
                    <a:lnTo>
                      <a:pt x="644" y="14"/>
                    </a:lnTo>
                    <a:lnTo>
                      <a:pt x="645" y="10"/>
                    </a:lnTo>
                    <a:lnTo>
                      <a:pt x="644" y="6"/>
                    </a:lnTo>
                    <a:lnTo>
                      <a:pt x="643" y="0"/>
                    </a:lnTo>
                    <a:lnTo>
                      <a:pt x="669" y="73"/>
                    </a:lnTo>
                    <a:lnTo>
                      <a:pt x="693" y="144"/>
                    </a:lnTo>
                    <a:lnTo>
                      <a:pt x="714" y="213"/>
                    </a:lnTo>
                    <a:lnTo>
                      <a:pt x="734" y="283"/>
                    </a:lnTo>
                    <a:lnTo>
                      <a:pt x="750" y="350"/>
                    </a:lnTo>
                    <a:lnTo>
                      <a:pt x="764" y="416"/>
                    </a:lnTo>
                    <a:lnTo>
                      <a:pt x="776" y="481"/>
                    </a:lnTo>
                    <a:lnTo>
                      <a:pt x="784" y="545"/>
                    </a:lnTo>
                    <a:lnTo>
                      <a:pt x="791" y="609"/>
                    </a:lnTo>
                    <a:lnTo>
                      <a:pt x="794" y="670"/>
                    </a:lnTo>
                    <a:lnTo>
                      <a:pt x="797" y="730"/>
                    </a:lnTo>
                    <a:lnTo>
                      <a:pt x="795" y="789"/>
                    </a:lnTo>
                    <a:lnTo>
                      <a:pt x="791" y="847"/>
                    </a:lnTo>
                    <a:lnTo>
                      <a:pt x="785" y="904"/>
                    </a:lnTo>
                    <a:lnTo>
                      <a:pt x="776" y="959"/>
                    </a:lnTo>
                    <a:lnTo>
                      <a:pt x="765" y="1014"/>
                    </a:lnTo>
                    <a:lnTo>
                      <a:pt x="750" y="1066"/>
                    </a:lnTo>
                    <a:lnTo>
                      <a:pt x="734" y="1117"/>
                    </a:lnTo>
                    <a:lnTo>
                      <a:pt x="714" y="1167"/>
                    </a:lnTo>
                    <a:lnTo>
                      <a:pt x="692" y="1215"/>
                    </a:lnTo>
                    <a:lnTo>
                      <a:pt x="668" y="1263"/>
                    </a:lnTo>
                    <a:lnTo>
                      <a:pt x="640" y="1309"/>
                    </a:lnTo>
                    <a:lnTo>
                      <a:pt x="610" y="1354"/>
                    </a:lnTo>
                    <a:lnTo>
                      <a:pt x="578" y="1398"/>
                    </a:lnTo>
                    <a:lnTo>
                      <a:pt x="542" y="1439"/>
                    </a:lnTo>
                    <a:lnTo>
                      <a:pt x="504" y="1480"/>
                    </a:lnTo>
                    <a:lnTo>
                      <a:pt x="464" y="1519"/>
                    </a:lnTo>
                    <a:lnTo>
                      <a:pt x="419" y="1556"/>
                    </a:lnTo>
                    <a:lnTo>
                      <a:pt x="374" y="1593"/>
                    </a:lnTo>
                    <a:lnTo>
                      <a:pt x="325" y="1628"/>
                    </a:lnTo>
                    <a:lnTo>
                      <a:pt x="273" y="1661"/>
                    </a:lnTo>
                    <a:lnTo>
                      <a:pt x="219" y="1693"/>
                    </a:lnTo>
                    <a:lnTo>
                      <a:pt x="210" y="1696"/>
                    </a:lnTo>
                    <a:lnTo>
                      <a:pt x="187" y="1704"/>
                    </a:lnTo>
                    <a:lnTo>
                      <a:pt x="154" y="1716"/>
                    </a:lnTo>
                    <a:lnTo>
                      <a:pt x="115" y="1730"/>
                    </a:lnTo>
                    <a:lnTo>
                      <a:pt x="76" y="1741"/>
                    </a:lnTo>
                    <a:lnTo>
                      <a:pt x="41" y="1751"/>
                    </a:lnTo>
                    <a:lnTo>
                      <a:pt x="26" y="1753"/>
                    </a:lnTo>
                    <a:lnTo>
                      <a:pt x="15" y="1756"/>
                    </a:lnTo>
                    <a:lnTo>
                      <a:pt x="9" y="1756"/>
                    </a:lnTo>
                    <a:lnTo>
                      <a:pt x="6" y="1756"/>
                    </a:lnTo>
                    <a:lnTo>
                      <a:pt x="2" y="1755"/>
                    </a:lnTo>
                    <a:lnTo>
                      <a:pt x="0" y="1753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773600" y="3011760"/>
                <a:ext cx="208080" cy="547560"/>
              </a:xfrm>
              <a:custGeom>
                <a:avLst/>
                <a:gdLst/>
                <a:ahLst/>
                <a:rect l="l" t="t" r="r" b="b"/>
                <a:pathLst>
                  <a:path w="659" h="1724">
                    <a:moveTo>
                      <a:pt x="564" y="15"/>
                    </a:moveTo>
                    <a:lnTo>
                      <a:pt x="564" y="15"/>
                    </a:lnTo>
                    <a:lnTo>
                      <a:pt x="576" y="70"/>
                    </a:lnTo>
                    <a:lnTo>
                      <a:pt x="587" y="125"/>
                    </a:lnTo>
                    <a:lnTo>
                      <a:pt x="596" y="181"/>
                    </a:lnTo>
                    <a:lnTo>
                      <a:pt x="605" y="237"/>
                    </a:lnTo>
                    <a:lnTo>
                      <a:pt x="615" y="294"/>
                    </a:lnTo>
                    <a:lnTo>
                      <a:pt x="621" y="351"/>
                    </a:lnTo>
                    <a:lnTo>
                      <a:pt x="627" y="407"/>
                    </a:lnTo>
                    <a:lnTo>
                      <a:pt x="632" y="464"/>
                    </a:lnTo>
                    <a:lnTo>
                      <a:pt x="634" y="521"/>
                    </a:lnTo>
                    <a:lnTo>
                      <a:pt x="635" y="578"/>
                    </a:lnTo>
                    <a:lnTo>
                      <a:pt x="635" y="635"/>
                    </a:lnTo>
                    <a:lnTo>
                      <a:pt x="632" y="692"/>
                    </a:lnTo>
                    <a:lnTo>
                      <a:pt x="627" y="748"/>
                    </a:lnTo>
                    <a:lnTo>
                      <a:pt x="621" y="805"/>
                    </a:lnTo>
                    <a:lnTo>
                      <a:pt x="617" y="832"/>
                    </a:lnTo>
                    <a:lnTo>
                      <a:pt x="612" y="861"/>
                    </a:lnTo>
                    <a:lnTo>
                      <a:pt x="607" y="888"/>
                    </a:lnTo>
                    <a:lnTo>
                      <a:pt x="601" y="915"/>
                    </a:lnTo>
                    <a:lnTo>
                      <a:pt x="594" y="943"/>
                    </a:lnTo>
                    <a:lnTo>
                      <a:pt x="587" y="970"/>
                    </a:lnTo>
                    <a:lnTo>
                      <a:pt x="579" y="998"/>
                    </a:lnTo>
                    <a:lnTo>
                      <a:pt x="571" y="1025"/>
                    </a:lnTo>
                    <a:lnTo>
                      <a:pt x="562" y="1052"/>
                    </a:lnTo>
                    <a:lnTo>
                      <a:pt x="552" y="1078"/>
                    </a:lnTo>
                    <a:lnTo>
                      <a:pt x="542" y="1106"/>
                    </a:lnTo>
                    <a:lnTo>
                      <a:pt x="530" y="1132"/>
                    </a:lnTo>
                    <a:lnTo>
                      <a:pt x="518" y="1158"/>
                    </a:lnTo>
                    <a:lnTo>
                      <a:pt x="505" y="1184"/>
                    </a:lnTo>
                    <a:lnTo>
                      <a:pt x="491" y="1211"/>
                    </a:lnTo>
                    <a:lnTo>
                      <a:pt x="478" y="1237"/>
                    </a:lnTo>
                    <a:lnTo>
                      <a:pt x="462" y="1262"/>
                    </a:lnTo>
                    <a:lnTo>
                      <a:pt x="446" y="1288"/>
                    </a:lnTo>
                    <a:lnTo>
                      <a:pt x="429" y="1313"/>
                    </a:lnTo>
                    <a:lnTo>
                      <a:pt x="412" y="1338"/>
                    </a:lnTo>
                    <a:lnTo>
                      <a:pt x="393" y="1363"/>
                    </a:lnTo>
                    <a:lnTo>
                      <a:pt x="374" y="1387"/>
                    </a:lnTo>
                    <a:lnTo>
                      <a:pt x="354" y="1411"/>
                    </a:lnTo>
                    <a:lnTo>
                      <a:pt x="332" y="1436"/>
                    </a:lnTo>
                    <a:lnTo>
                      <a:pt x="310" y="1459"/>
                    </a:lnTo>
                    <a:lnTo>
                      <a:pt x="287" y="1483"/>
                    </a:lnTo>
                    <a:lnTo>
                      <a:pt x="262" y="1507"/>
                    </a:lnTo>
                    <a:lnTo>
                      <a:pt x="237" y="1530"/>
                    </a:lnTo>
                    <a:lnTo>
                      <a:pt x="212" y="1553"/>
                    </a:lnTo>
                    <a:lnTo>
                      <a:pt x="185" y="1574"/>
                    </a:lnTo>
                    <a:lnTo>
                      <a:pt x="156" y="1597"/>
                    </a:lnTo>
                    <a:lnTo>
                      <a:pt x="128" y="1619"/>
                    </a:lnTo>
                    <a:lnTo>
                      <a:pt x="97" y="1640"/>
                    </a:lnTo>
                    <a:lnTo>
                      <a:pt x="66" y="1662"/>
                    </a:lnTo>
                    <a:lnTo>
                      <a:pt x="33" y="1683"/>
                    </a:lnTo>
                    <a:lnTo>
                      <a:pt x="0" y="1703"/>
                    </a:lnTo>
                    <a:lnTo>
                      <a:pt x="13" y="1724"/>
                    </a:lnTo>
                    <a:lnTo>
                      <a:pt x="47" y="1703"/>
                    </a:lnTo>
                    <a:lnTo>
                      <a:pt x="79" y="1682"/>
                    </a:lnTo>
                    <a:lnTo>
                      <a:pt x="111" y="1660"/>
                    </a:lnTo>
                    <a:lnTo>
                      <a:pt x="142" y="1638"/>
                    </a:lnTo>
                    <a:lnTo>
                      <a:pt x="171" y="1617"/>
                    </a:lnTo>
                    <a:lnTo>
                      <a:pt x="200" y="1594"/>
                    </a:lnTo>
                    <a:lnTo>
                      <a:pt x="227" y="1571"/>
                    </a:lnTo>
                    <a:lnTo>
                      <a:pt x="254" y="1548"/>
                    </a:lnTo>
                    <a:lnTo>
                      <a:pt x="279" y="1524"/>
                    </a:lnTo>
                    <a:lnTo>
                      <a:pt x="303" y="1500"/>
                    </a:lnTo>
                    <a:lnTo>
                      <a:pt x="327" y="1476"/>
                    </a:lnTo>
                    <a:lnTo>
                      <a:pt x="350" y="1452"/>
                    </a:lnTo>
                    <a:lnTo>
                      <a:pt x="372" y="1427"/>
                    </a:lnTo>
                    <a:lnTo>
                      <a:pt x="392" y="1402"/>
                    </a:lnTo>
                    <a:lnTo>
                      <a:pt x="413" y="1377"/>
                    </a:lnTo>
                    <a:lnTo>
                      <a:pt x="431" y="1352"/>
                    </a:lnTo>
                    <a:lnTo>
                      <a:pt x="449" y="1327"/>
                    </a:lnTo>
                    <a:lnTo>
                      <a:pt x="466" y="1301"/>
                    </a:lnTo>
                    <a:lnTo>
                      <a:pt x="482" y="1275"/>
                    </a:lnTo>
                    <a:lnTo>
                      <a:pt x="498" y="1248"/>
                    </a:lnTo>
                    <a:lnTo>
                      <a:pt x="513" y="1222"/>
                    </a:lnTo>
                    <a:lnTo>
                      <a:pt x="527" y="1196"/>
                    </a:lnTo>
                    <a:lnTo>
                      <a:pt x="539" y="1169"/>
                    </a:lnTo>
                    <a:lnTo>
                      <a:pt x="552" y="1142"/>
                    </a:lnTo>
                    <a:lnTo>
                      <a:pt x="563" y="1115"/>
                    </a:lnTo>
                    <a:lnTo>
                      <a:pt x="575" y="1088"/>
                    </a:lnTo>
                    <a:lnTo>
                      <a:pt x="585" y="1060"/>
                    </a:lnTo>
                    <a:lnTo>
                      <a:pt x="594" y="1033"/>
                    </a:lnTo>
                    <a:lnTo>
                      <a:pt x="603" y="1004"/>
                    </a:lnTo>
                    <a:lnTo>
                      <a:pt x="610" y="977"/>
                    </a:lnTo>
                    <a:lnTo>
                      <a:pt x="618" y="949"/>
                    </a:lnTo>
                    <a:lnTo>
                      <a:pt x="625" y="921"/>
                    </a:lnTo>
                    <a:lnTo>
                      <a:pt x="630" y="893"/>
                    </a:lnTo>
                    <a:lnTo>
                      <a:pt x="636" y="864"/>
                    </a:lnTo>
                    <a:lnTo>
                      <a:pt x="641" y="836"/>
                    </a:lnTo>
                    <a:lnTo>
                      <a:pt x="645" y="807"/>
                    </a:lnTo>
                    <a:lnTo>
                      <a:pt x="652" y="750"/>
                    </a:lnTo>
                    <a:lnTo>
                      <a:pt x="657" y="693"/>
                    </a:lnTo>
                    <a:lnTo>
                      <a:pt x="659" y="636"/>
                    </a:lnTo>
                    <a:lnTo>
                      <a:pt x="659" y="578"/>
                    </a:lnTo>
                    <a:lnTo>
                      <a:pt x="658" y="521"/>
                    </a:lnTo>
                    <a:lnTo>
                      <a:pt x="656" y="463"/>
                    </a:lnTo>
                    <a:lnTo>
                      <a:pt x="651" y="406"/>
                    </a:lnTo>
                    <a:lnTo>
                      <a:pt x="645" y="348"/>
                    </a:lnTo>
                    <a:lnTo>
                      <a:pt x="638" y="291"/>
                    </a:lnTo>
                    <a:lnTo>
                      <a:pt x="629" y="234"/>
                    </a:lnTo>
                    <a:lnTo>
                      <a:pt x="620" y="177"/>
                    </a:lnTo>
                    <a:lnTo>
                      <a:pt x="610" y="121"/>
                    </a:lnTo>
                    <a:lnTo>
                      <a:pt x="600" y="65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8" y="10"/>
                    </a:lnTo>
                    <a:lnTo>
                      <a:pt x="586" y="5"/>
                    </a:lnTo>
                    <a:lnTo>
                      <a:pt x="583" y="2"/>
                    </a:lnTo>
                    <a:lnTo>
                      <a:pt x="578" y="0"/>
                    </a:lnTo>
                    <a:lnTo>
                      <a:pt x="573" y="1"/>
                    </a:lnTo>
                    <a:lnTo>
                      <a:pt x="569" y="2"/>
                    </a:lnTo>
                    <a:lnTo>
                      <a:pt x="566" y="6"/>
                    </a:lnTo>
                    <a:lnTo>
                      <a:pt x="564" y="9"/>
                    </a:lnTo>
                    <a:lnTo>
                      <a:pt x="56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951440" y="299592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99" h="66">
                    <a:moveTo>
                      <a:pt x="97" y="8"/>
                    </a:moveTo>
                    <a:lnTo>
                      <a:pt x="74" y="15"/>
                    </a:lnTo>
                    <a:lnTo>
                      <a:pt x="75" y="19"/>
                    </a:lnTo>
                    <a:lnTo>
                      <a:pt x="75" y="21"/>
                    </a:lnTo>
                    <a:lnTo>
                      <a:pt x="75" y="24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5" y="25"/>
                    </a:lnTo>
                    <a:lnTo>
                      <a:pt x="72" y="26"/>
                    </a:lnTo>
                    <a:lnTo>
                      <a:pt x="66" y="26"/>
                    </a:lnTo>
                    <a:lnTo>
                      <a:pt x="59" y="25"/>
                    </a:lnTo>
                    <a:lnTo>
                      <a:pt x="52" y="24"/>
                    </a:lnTo>
                    <a:lnTo>
                      <a:pt x="42" y="24"/>
                    </a:lnTo>
                    <a:lnTo>
                      <a:pt x="34" y="23"/>
                    </a:lnTo>
                    <a:lnTo>
                      <a:pt x="25" y="24"/>
                    </a:lnTo>
                    <a:lnTo>
                      <a:pt x="17" y="26"/>
                    </a:lnTo>
                    <a:lnTo>
                      <a:pt x="12" y="28"/>
                    </a:lnTo>
                    <a:lnTo>
                      <a:pt x="7" y="32"/>
                    </a:lnTo>
                    <a:lnTo>
                      <a:pt x="4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1" y="66"/>
                    </a:lnTo>
                    <a:lnTo>
                      <a:pt x="25" y="61"/>
                    </a:lnTo>
                    <a:lnTo>
                      <a:pt x="24" y="57"/>
                    </a:lnTo>
                    <a:lnTo>
                      <a:pt x="24" y="53"/>
                    </a:lnTo>
                    <a:lnTo>
                      <a:pt x="24" y="51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5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9" y="48"/>
                    </a:lnTo>
                    <a:lnTo>
                      <a:pt x="34" y="46"/>
                    </a:lnTo>
                    <a:lnTo>
                      <a:pt x="41" y="48"/>
                    </a:lnTo>
                    <a:lnTo>
                      <a:pt x="49" y="49"/>
                    </a:lnTo>
                    <a:lnTo>
                      <a:pt x="57" y="49"/>
                    </a:lnTo>
                    <a:lnTo>
                      <a:pt x="65" y="50"/>
                    </a:lnTo>
                    <a:lnTo>
                      <a:pt x="74" y="50"/>
                    </a:lnTo>
                    <a:lnTo>
                      <a:pt x="82" y="48"/>
                    </a:lnTo>
                    <a:lnTo>
                      <a:pt x="88" y="45"/>
                    </a:lnTo>
                    <a:lnTo>
                      <a:pt x="93" y="42"/>
                    </a:lnTo>
                    <a:lnTo>
                      <a:pt x="96" y="37"/>
                    </a:lnTo>
                    <a:lnTo>
                      <a:pt x="98" y="33"/>
                    </a:lnTo>
                    <a:lnTo>
                      <a:pt x="99" y="27"/>
                    </a:lnTo>
                    <a:lnTo>
                      <a:pt x="99" y="21"/>
                    </a:lnTo>
                    <a:lnTo>
                      <a:pt x="99" y="15"/>
                    </a:lnTo>
                    <a:lnTo>
                      <a:pt x="97" y="9"/>
                    </a:lnTo>
                    <a:lnTo>
                      <a:pt x="74" y="16"/>
                    </a:lnTo>
                    <a:lnTo>
                      <a:pt x="97" y="9"/>
                    </a:lnTo>
                    <a:lnTo>
                      <a:pt x="95" y="3"/>
                    </a:lnTo>
                    <a:lnTo>
                      <a:pt x="91" y="1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79" y="2"/>
                    </a:lnTo>
                    <a:lnTo>
                      <a:pt x="75" y="4"/>
                    </a:lnTo>
                    <a:lnTo>
                      <a:pt x="74" y="9"/>
                    </a:lnTo>
                    <a:lnTo>
                      <a:pt x="74" y="15"/>
                    </a:lnTo>
                    <a:lnTo>
                      <a:pt x="97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840200" y="2997360"/>
                <a:ext cx="190440" cy="542880"/>
              </a:xfrm>
              <a:custGeom>
                <a:avLst/>
                <a:gdLst/>
                <a:ahLst/>
                <a:rect l="l" t="t" r="r" b="b"/>
                <a:pathLst>
                  <a:path w="602" h="1709">
                    <a:moveTo>
                      <a:pt x="17" y="1707"/>
                    </a:moveTo>
                    <a:lnTo>
                      <a:pt x="18" y="1706"/>
                    </a:lnTo>
                    <a:lnTo>
                      <a:pt x="46" y="1690"/>
                    </a:lnTo>
                    <a:lnTo>
                      <a:pt x="73" y="1674"/>
                    </a:lnTo>
                    <a:lnTo>
                      <a:pt x="99" y="1657"/>
                    </a:lnTo>
                    <a:lnTo>
                      <a:pt x="126" y="1640"/>
                    </a:lnTo>
                    <a:lnTo>
                      <a:pt x="151" y="1623"/>
                    </a:lnTo>
                    <a:lnTo>
                      <a:pt x="175" y="1606"/>
                    </a:lnTo>
                    <a:lnTo>
                      <a:pt x="199" y="1588"/>
                    </a:lnTo>
                    <a:lnTo>
                      <a:pt x="221" y="1568"/>
                    </a:lnTo>
                    <a:lnTo>
                      <a:pt x="244" y="1550"/>
                    </a:lnTo>
                    <a:lnTo>
                      <a:pt x="266" y="1531"/>
                    </a:lnTo>
                    <a:lnTo>
                      <a:pt x="286" y="1511"/>
                    </a:lnTo>
                    <a:lnTo>
                      <a:pt x="307" y="1491"/>
                    </a:lnTo>
                    <a:lnTo>
                      <a:pt x="326" y="1471"/>
                    </a:lnTo>
                    <a:lnTo>
                      <a:pt x="346" y="1450"/>
                    </a:lnTo>
                    <a:lnTo>
                      <a:pt x="364" y="1429"/>
                    </a:lnTo>
                    <a:lnTo>
                      <a:pt x="381" y="1408"/>
                    </a:lnTo>
                    <a:lnTo>
                      <a:pt x="398" y="1386"/>
                    </a:lnTo>
                    <a:lnTo>
                      <a:pt x="414" y="1364"/>
                    </a:lnTo>
                    <a:lnTo>
                      <a:pt x="430" y="1341"/>
                    </a:lnTo>
                    <a:lnTo>
                      <a:pt x="445" y="1319"/>
                    </a:lnTo>
                    <a:lnTo>
                      <a:pt x="458" y="1296"/>
                    </a:lnTo>
                    <a:lnTo>
                      <a:pt x="472" y="1272"/>
                    </a:lnTo>
                    <a:lnTo>
                      <a:pt x="485" y="1248"/>
                    </a:lnTo>
                    <a:lnTo>
                      <a:pt x="497" y="1224"/>
                    </a:lnTo>
                    <a:lnTo>
                      <a:pt x="508" y="1200"/>
                    </a:lnTo>
                    <a:lnTo>
                      <a:pt x="520" y="1175"/>
                    </a:lnTo>
                    <a:lnTo>
                      <a:pt x="529" y="1150"/>
                    </a:lnTo>
                    <a:lnTo>
                      <a:pt x="539" y="1124"/>
                    </a:lnTo>
                    <a:lnTo>
                      <a:pt x="547" y="1099"/>
                    </a:lnTo>
                    <a:lnTo>
                      <a:pt x="556" y="1072"/>
                    </a:lnTo>
                    <a:lnTo>
                      <a:pt x="563" y="1046"/>
                    </a:lnTo>
                    <a:lnTo>
                      <a:pt x="570" y="1019"/>
                    </a:lnTo>
                    <a:lnTo>
                      <a:pt x="577" y="992"/>
                    </a:lnTo>
                    <a:lnTo>
                      <a:pt x="581" y="964"/>
                    </a:lnTo>
                    <a:lnTo>
                      <a:pt x="587" y="937"/>
                    </a:lnTo>
                    <a:lnTo>
                      <a:pt x="591" y="908"/>
                    </a:lnTo>
                    <a:lnTo>
                      <a:pt x="594" y="880"/>
                    </a:lnTo>
                    <a:lnTo>
                      <a:pt x="597" y="851"/>
                    </a:lnTo>
                    <a:lnTo>
                      <a:pt x="600" y="822"/>
                    </a:lnTo>
                    <a:lnTo>
                      <a:pt x="601" y="793"/>
                    </a:lnTo>
                    <a:lnTo>
                      <a:pt x="602" y="764"/>
                    </a:lnTo>
                    <a:lnTo>
                      <a:pt x="602" y="733"/>
                    </a:lnTo>
                    <a:lnTo>
                      <a:pt x="602" y="703"/>
                    </a:lnTo>
                    <a:lnTo>
                      <a:pt x="601" y="672"/>
                    </a:lnTo>
                    <a:lnTo>
                      <a:pt x="600" y="642"/>
                    </a:lnTo>
                    <a:lnTo>
                      <a:pt x="597" y="611"/>
                    </a:lnTo>
                    <a:lnTo>
                      <a:pt x="594" y="579"/>
                    </a:lnTo>
                    <a:lnTo>
                      <a:pt x="591" y="547"/>
                    </a:lnTo>
                    <a:lnTo>
                      <a:pt x="586" y="515"/>
                    </a:lnTo>
                    <a:lnTo>
                      <a:pt x="581" y="483"/>
                    </a:lnTo>
                    <a:lnTo>
                      <a:pt x="576" y="450"/>
                    </a:lnTo>
                    <a:lnTo>
                      <a:pt x="570" y="417"/>
                    </a:lnTo>
                    <a:lnTo>
                      <a:pt x="556" y="351"/>
                    </a:lnTo>
                    <a:lnTo>
                      <a:pt x="539" y="282"/>
                    </a:lnTo>
                    <a:lnTo>
                      <a:pt x="520" y="213"/>
                    </a:lnTo>
                    <a:lnTo>
                      <a:pt x="498" y="143"/>
                    </a:lnTo>
                    <a:lnTo>
                      <a:pt x="474" y="72"/>
                    </a:lnTo>
                    <a:lnTo>
                      <a:pt x="448" y="0"/>
                    </a:lnTo>
                    <a:lnTo>
                      <a:pt x="425" y="8"/>
                    </a:lnTo>
                    <a:lnTo>
                      <a:pt x="452" y="80"/>
                    </a:lnTo>
                    <a:lnTo>
                      <a:pt x="475" y="150"/>
                    </a:lnTo>
                    <a:lnTo>
                      <a:pt x="497" y="220"/>
                    </a:lnTo>
                    <a:lnTo>
                      <a:pt x="515" y="288"/>
                    </a:lnTo>
                    <a:lnTo>
                      <a:pt x="532" y="355"/>
                    </a:lnTo>
                    <a:lnTo>
                      <a:pt x="546" y="422"/>
                    </a:lnTo>
                    <a:lnTo>
                      <a:pt x="552" y="455"/>
                    </a:lnTo>
                    <a:lnTo>
                      <a:pt x="558" y="486"/>
                    </a:lnTo>
                    <a:lnTo>
                      <a:pt x="562" y="518"/>
                    </a:lnTo>
                    <a:lnTo>
                      <a:pt x="567" y="550"/>
                    </a:lnTo>
                    <a:lnTo>
                      <a:pt x="570" y="581"/>
                    </a:lnTo>
                    <a:lnTo>
                      <a:pt x="572" y="612"/>
                    </a:lnTo>
                    <a:lnTo>
                      <a:pt x="575" y="643"/>
                    </a:lnTo>
                    <a:lnTo>
                      <a:pt x="577" y="673"/>
                    </a:lnTo>
                    <a:lnTo>
                      <a:pt x="578" y="703"/>
                    </a:lnTo>
                    <a:lnTo>
                      <a:pt x="578" y="733"/>
                    </a:lnTo>
                    <a:lnTo>
                      <a:pt x="578" y="762"/>
                    </a:lnTo>
                    <a:lnTo>
                      <a:pt x="577" y="792"/>
                    </a:lnTo>
                    <a:lnTo>
                      <a:pt x="576" y="821"/>
                    </a:lnTo>
                    <a:lnTo>
                      <a:pt x="573" y="849"/>
                    </a:lnTo>
                    <a:lnTo>
                      <a:pt x="570" y="878"/>
                    </a:lnTo>
                    <a:lnTo>
                      <a:pt x="567" y="905"/>
                    </a:lnTo>
                    <a:lnTo>
                      <a:pt x="563" y="932"/>
                    </a:lnTo>
                    <a:lnTo>
                      <a:pt x="559" y="960"/>
                    </a:lnTo>
                    <a:lnTo>
                      <a:pt x="553" y="987"/>
                    </a:lnTo>
                    <a:lnTo>
                      <a:pt x="547" y="1013"/>
                    </a:lnTo>
                    <a:lnTo>
                      <a:pt x="540" y="1039"/>
                    </a:lnTo>
                    <a:lnTo>
                      <a:pt x="532" y="1066"/>
                    </a:lnTo>
                    <a:lnTo>
                      <a:pt x="524" y="1091"/>
                    </a:lnTo>
                    <a:lnTo>
                      <a:pt x="516" y="1116"/>
                    </a:lnTo>
                    <a:lnTo>
                      <a:pt x="507" y="1141"/>
                    </a:lnTo>
                    <a:lnTo>
                      <a:pt x="497" y="1166"/>
                    </a:lnTo>
                    <a:lnTo>
                      <a:pt x="487" y="1190"/>
                    </a:lnTo>
                    <a:lnTo>
                      <a:pt x="475" y="1214"/>
                    </a:lnTo>
                    <a:lnTo>
                      <a:pt x="463" y="1238"/>
                    </a:lnTo>
                    <a:lnTo>
                      <a:pt x="452" y="1261"/>
                    </a:lnTo>
                    <a:lnTo>
                      <a:pt x="438" y="1283"/>
                    </a:lnTo>
                    <a:lnTo>
                      <a:pt x="424" y="1306"/>
                    </a:lnTo>
                    <a:lnTo>
                      <a:pt x="409" y="1328"/>
                    </a:lnTo>
                    <a:lnTo>
                      <a:pt x="395" y="1349"/>
                    </a:lnTo>
                    <a:lnTo>
                      <a:pt x="379" y="1371"/>
                    </a:lnTo>
                    <a:lnTo>
                      <a:pt x="363" y="1393"/>
                    </a:lnTo>
                    <a:lnTo>
                      <a:pt x="346" y="1413"/>
                    </a:lnTo>
                    <a:lnTo>
                      <a:pt x="327" y="1434"/>
                    </a:lnTo>
                    <a:lnTo>
                      <a:pt x="309" y="1454"/>
                    </a:lnTo>
                    <a:lnTo>
                      <a:pt x="290" y="1474"/>
                    </a:lnTo>
                    <a:lnTo>
                      <a:pt x="269" y="1494"/>
                    </a:lnTo>
                    <a:lnTo>
                      <a:pt x="249" y="1512"/>
                    </a:lnTo>
                    <a:lnTo>
                      <a:pt x="228" y="1532"/>
                    </a:lnTo>
                    <a:lnTo>
                      <a:pt x="206" y="1550"/>
                    </a:lnTo>
                    <a:lnTo>
                      <a:pt x="184" y="1568"/>
                    </a:lnTo>
                    <a:lnTo>
                      <a:pt x="161" y="1587"/>
                    </a:lnTo>
                    <a:lnTo>
                      <a:pt x="137" y="1604"/>
                    </a:lnTo>
                    <a:lnTo>
                      <a:pt x="112" y="1621"/>
                    </a:lnTo>
                    <a:lnTo>
                      <a:pt x="87" y="1638"/>
                    </a:lnTo>
                    <a:lnTo>
                      <a:pt x="61" y="1654"/>
                    </a:lnTo>
                    <a:lnTo>
                      <a:pt x="34" y="1670"/>
                    </a:lnTo>
                    <a:lnTo>
                      <a:pt x="7" y="1686"/>
                    </a:lnTo>
                    <a:lnTo>
                      <a:pt x="8" y="1685"/>
                    </a:lnTo>
                    <a:lnTo>
                      <a:pt x="7" y="1686"/>
                    </a:lnTo>
                    <a:lnTo>
                      <a:pt x="2" y="1689"/>
                    </a:lnTo>
                    <a:lnTo>
                      <a:pt x="0" y="1693"/>
                    </a:lnTo>
                    <a:lnTo>
                      <a:pt x="0" y="1697"/>
                    </a:lnTo>
                    <a:lnTo>
                      <a:pt x="2" y="1702"/>
                    </a:lnTo>
                    <a:lnTo>
                      <a:pt x="5" y="1705"/>
                    </a:lnTo>
                    <a:lnTo>
                      <a:pt x="8" y="1707"/>
                    </a:lnTo>
                    <a:lnTo>
                      <a:pt x="13" y="1709"/>
                    </a:lnTo>
                    <a:lnTo>
                      <a:pt x="18" y="1706"/>
                    </a:lnTo>
                    <a:lnTo>
                      <a:pt x="17" y="17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772160" y="3532320"/>
                <a:ext cx="72720" cy="27000"/>
              </a:xfrm>
              <a:custGeom>
                <a:avLst/>
                <a:gdLst/>
                <a:ahLst/>
                <a:rect l="l" t="t" r="r" b="b"/>
                <a:pathLst>
                  <a:path w="234" h="86">
                    <a:moveTo>
                      <a:pt x="5" y="61"/>
                    </a:moveTo>
                    <a:lnTo>
                      <a:pt x="3" y="81"/>
                    </a:lnTo>
                    <a:lnTo>
                      <a:pt x="9" y="84"/>
                    </a:lnTo>
                    <a:lnTo>
                      <a:pt x="14" y="85"/>
                    </a:lnTo>
                    <a:lnTo>
                      <a:pt x="20" y="86"/>
                    </a:lnTo>
                    <a:lnTo>
                      <a:pt x="27" y="85"/>
                    </a:lnTo>
                    <a:lnTo>
                      <a:pt x="39" y="84"/>
                    </a:lnTo>
                    <a:lnTo>
                      <a:pt x="55" y="81"/>
                    </a:lnTo>
                    <a:lnTo>
                      <a:pt x="91" y="70"/>
                    </a:lnTo>
                    <a:lnTo>
                      <a:pt x="129" y="59"/>
                    </a:lnTo>
                    <a:lnTo>
                      <a:pt x="168" y="45"/>
                    </a:lnTo>
                    <a:lnTo>
                      <a:pt x="201" y="34"/>
                    </a:lnTo>
                    <a:lnTo>
                      <a:pt x="225" y="26"/>
                    </a:lnTo>
                    <a:lnTo>
                      <a:pt x="234" y="22"/>
                    </a:lnTo>
                    <a:lnTo>
                      <a:pt x="225" y="0"/>
                    </a:lnTo>
                    <a:lnTo>
                      <a:pt x="217" y="3"/>
                    </a:lnTo>
                    <a:lnTo>
                      <a:pt x="193" y="11"/>
                    </a:lnTo>
                    <a:lnTo>
                      <a:pt x="160" y="22"/>
                    </a:lnTo>
                    <a:lnTo>
                      <a:pt x="123" y="36"/>
                    </a:lnTo>
                    <a:lnTo>
                      <a:pt x="84" y="48"/>
                    </a:lnTo>
                    <a:lnTo>
                      <a:pt x="49" y="57"/>
                    </a:lnTo>
                    <a:lnTo>
                      <a:pt x="35" y="60"/>
                    </a:lnTo>
                    <a:lnTo>
                      <a:pt x="23" y="61"/>
                    </a:lnTo>
                    <a:lnTo>
                      <a:pt x="20" y="61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20" y="63"/>
                    </a:lnTo>
                    <a:lnTo>
                      <a:pt x="18" y="82"/>
                    </a:lnTo>
                    <a:lnTo>
                      <a:pt x="20" y="63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60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3" y="8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3952800" y="2746800"/>
                <a:ext cx="498600" cy="463320"/>
              </a:xfrm>
              <a:custGeom>
                <a:avLst/>
                <a:gdLst/>
                <a:ahLst/>
                <a:rect l="l" t="t" r="r" b="b"/>
                <a:pathLst>
                  <a:path w="1568" h="1459">
                    <a:moveTo>
                      <a:pt x="1542" y="846"/>
                    </a:moveTo>
                    <a:lnTo>
                      <a:pt x="1518" y="839"/>
                    </a:lnTo>
                    <a:lnTo>
                      <a:pt x="1496" y="832"/>
                    </a:lnTo>
                    <a:lnTo>
                      <a:pt x="1473" y="824"/>
                    </a:lnTo>
                    <a:lnTo>
                      <a:pt x="1451" y="815"/>
                    </a:lnTo>
                    <a:lnTo>
                      <a:pt x="1429" y="806"/>
                    </a:lnTo>
                    <a:lnTo>
                      <a:pt x="1407" y="795"/>
                    </a:lnTo>
                    <a:lnTo>
                      <a:pt x="1386" y="784"/>
                    </a:lnTo>
                    <a:lnTo>
                      <a:pt x="1363" y="773"/>
                    </a:lnTo>
                    <a:lnTo>
                      <a:pt x="1320" y="749"/>
                    </a:lnTo>
                    <a:lnTo>
                      <a:pt x="1276" y="722"/>
                    </a:lnTo>
                    <a:lnTo>
                      <a:pt x="1233" y="695"/>
                    </a:lnTo>
                    <a:lnTo>
                      <a:pt x="1189" y="665"/>
                    </a:lnTo>
                    <a:lnTo>
                      <a:pt x="1210" y="651"/>
                    </a:lnTo>
                    <a:lnTo>
                      <a:pt x="1230" y="636"/>
                    </a:lnTo>
                    <a:lnTo>
                      <a:pt x="1247" y="620"/>
                    </a:lnTo>
                    <a:lnTo>
                      <a:pt x="1261" y="603"/>
                    </a:lnTo>
                    <a:lnTo>
                      <a:pt x="1274" y="587"/>
                    </a:lnTo>
                    <a:lnTo>
                      <a:pt x="1284" y="570"/>
                    </a:lnTo>
                    <a:lnTo>
                      <a:pt x="1292" y="551"/>
                    </a:lnTo>
                    <a:lnTo>
                      <a:pt x="1299" y="533"/>
                    </a:lnTo>
                    <a:lnTo>
                      <a:pt x="1304" y="515"/>
                    </a:lnTo>
                    <a:lnTo>
                      <a:pt x="1307" y="496"/>
                    </a:lnTo>
                    <a:lnTo>
                      <a:pt x="1308" y="476"/>
                    </a:lnTo>
                    <a:lnTo>
                      <a:pt x="1307" y="456"/>
                    </a:lnTo>
                    <a:lnTo>
                      <a:pt x="1306" y="436"/>
                    </a:lnTo>
                    <a:lnTo>
                      <a:pt x="1303" y="416"/>
                    </a:lnTo>
                    <a:lnTo>
                      <a:pt x="1298" y="394"/>
                    </a:lnTo>
                    <a:lnTo>
                      <a:pt x="1292" y="372"/>
                    </a:lnTo>
                    <a:lnTo>
                      <a:pt x="1285" y="352"/>
                    </a:lnTo>
                    <a:lnTo>
                      <a:pt x="1277" y="329"/>
                    </a:lnTo>
                    <a:lnTo>
                      <a:pt x="1268" y="307"/>
                    </a:lnTo>
                    <a:lnTo>
                      <a:pt x="1259" y="285"/>
                    </a:lnTo>
                    <a:lnTo>
                      <a:pt x="1238" y="239"/>
                    </a:lnTo>
                    <a:lnTo>
                      <a:pt x="1214" y="192"/>
                    </a:lnTo>
                    <a:lnTo>
                      <a:pt x="1162" y="98"/>
                    </a:lnTo>
                    <a:lnTo>
                      <a:pt x="1110" y="0"/>
                    </a:lnTo>
                    <a:lnTo>
                      <a:pt x="971" y="26"/>
                    </a:lnTo>
                    <a:lnTo>
                      <a:pt x="833" y="52"/>
                    </a:lnTo>
                    <a:lnTo>
                      <a:pt x="694" y="77"/>
                    </a:lnTo>
                    <a:lnTo>
                      <a:pt x="555" y="102"/>
                    </a:lnTo>
                    <a:lnTo>
                      <a:pt x="417" y="129"/>
                    </a:lnTo>
                    <a:lnTo>
                      <a:pt x="278" y="154"/>
                    </a:lnTo>
                    <a:lnTo>
                      <a:pt x="139" y="178"/>
                    </a:lnTo>
                    <a:lnTo>
                      <a:pt x="0" y="203"/>
                    </a:lnTo>
                    <a:lnTo>
                      <a:pt x="7" y="272"/>
                    </a:lnTo>
                    <a:lnTo>
                      <a:pt x="15" y="341"/>
                    </a:lnTo>
                    <a:lnTo>
                      <a:pt x="19" y="374"/>
                    </a:lnTo>
                    <a:lnTo>
                      <a:pt x="26" y="407"/>
                    </a:lnTo>
                    <a:lnTo>
                      <a:pt x="33" y="440"/>
                    </a:lnTo>
                    <a:lnTo>
                      <a:pt x="41" y="472"/>
                    </a:lnTo>
                    <a:lnTo>
                      <a:pt x="50" y="504"/>
                    </a:lnTo>
                    <a:lnTo>
                      <a:pt x="60" y="535"/>
                    </a:lnTo>
                    <a:lnTo>
                      <a:pt x="72" y="566"/>
                    </a:lnTo>
                    <a:lnTo>
                      <a:pt x="85" y="597"/>
                    </a:lnTo>
                    <a:lnTo>
                      <a:pt x="100" y="626"/>
                    </a:lnTo>
                    <a:lnTo>
                      <a:pt x="117" y="655"/>
                    </a:lnTo>
                    <a:lnTo>
                      <a:pt x="137" y="683"/>
                    </a:lnTo>
                    <a:lnTo>
                      <a:pt x="157" y="710"/>
                    </a:lnTo>
                    <a:lnTo>
                      <a:pt x="163" y="722"/>
                    </a:lnTo>
                    <a:lnTo>
                      <a:pt x="166" y="735"/>
                    </a:lnTo>
                    <a:lnTo>
                      <a:pt x="170" y="746"/>
                    </a:lnTo>
                    <a:lnTo>
                      <a:pt x="172" y="759"/>
                    </a:lnTo>
                    <a:lnTo>
                      <a:pt x="175" y="784"/>
                    </a:lnTo>
                    <a:lnTo>
                      <a:pt x="175" y="809"/>
                    </a:lnTo>
                    <a:lnTo>
                      <a:pt x="175" y="834"/>
                    </a:lnTo>
                    <a:lnTo>
                      <a:pt x="173" y="860"/>
                    </a:lnTo>
                    <a:lnTo>
                      <a:pt x="170" y="885"/>
                    </a:lnTo>
                    <a:lnTo>
                      <a:pt x="167" y="911"/>
                    </a:lnTo>
                    <a:lnTo>
                      <a:pt x="164" y="934"/>
                    </a:lnTo>
                    <a:lnTo>
                      <a:pt x="163" y="960"/>
                    </a:lnTo>
                    <a:lnTo>
                      <a:pt x="163" y="984"/>
                    </a:lnTo>
                    <a:lnTo>
                      <a:pt x="164" y="1006"/>
                    </a:lnTo>
                    <a:lnTo>
                      <a:pt x="166" y="1019"/>
                    </a:lnTo>
                    <a:lnTo>
                      <a:pt x="169" y="1029"/>
                    </a:lnTo>
                    <a:lnTo>
                      <a:pt x="172" y="1041"/>
                    </a:lnTo>
                    <a:lnTo>
                      <a:pt x="175" y="1052"/>
                    </a:lnTo>
                    <a:lnTo>
                      <a:pt x="180" y="1062"/>
                    </a:lnTo>
                    <a:lnTo>
                      <a:pt x="187" y="1072"/>
                    </a:lnTo>
                    <a:lnTo>
                      <a:pt x="194" y="1083"/>
                    </a:lnTo>
                    <a:lnTo>
                      <a:pt x="200" y="1093"/>
                    </a:lnTo>
                    <a:lnTo>
                      <a:pt x="222" y="1090"/>
                    </a:lnTo>
                    <a:lnTo>
                      <a:pt x="238" y="1087"/>
                    </a:lnTo>
                    <a:lnTo>
                      <a:pt x="249" y="1084"/>
                    </a:lnTo>
                    <a:lnTo>
                      <a:pt x="260" y="1082"/>
                    </a:lnTo>
                    <a:lnTo>
                      <a:pt x="269" y="1079"/>
                    </a:lnTo>
                    <a:lnTo>
                      <a:pt x="279" y="1076"/>
                    </a:lnTo>
                    <a:lnTo>
                      <a:pt x="294" y="1074"/>
                    </a:lnTo>
                    <a:lnTo>
                      <a:pt x="313" y="1069"/>
                    </a:lnTo>
                    <a:lnTo>
                      <a:pt x="330" y="1096"/>
                    </a:lnTo>
                    <a:lnTo>
                      <a:pt x="350" y="1125"/>
                    </a:lnTo>
                    <a:lnTo>
                      <a:pt x="371" y="1155"/>
                    </a:lnTo>
                    <a:lnTo>
                      <a:pt x="395" y="1185"/>
                    </a:lnTo>
                    <a:lnTo>
                      <a:pt x="422" y="1215"/>
                    </a:lnTo>
                    <a:lnTo>
                      <a:pt x="449" y="1243"/>
                    </a:lnTo>
                    <a:lnTo>
                      <a:pt x="463" y="1256"/>
                    </a:lnTo>
                    <a:lnTo>
                      <a:pt x="477" y="1270"/>
                    </a:lnTo>
                    <a:lnTo>
                      <a:pt x="492" y="1282"/>
                    </a:lnTo>
                    <a:lnTo>
                      <a:pt x="508" y="1294"/>
                    </a:lnTo>
                    <a:lnTo>
                      <a:pt x="523" y="1304"/>
                    </a:lnTo>
                    <a:lnTo>
                      <a:pt x="539" y="1314"/>
                    </a:lnTo>
                    <a:lnTo>
                      <a:pt x="555" y="1322"/>
                    </a:lnTo>
                    <a:lnTo>
                      <a:pt x="572" y="1330"/>
                    </a:lnTo>
                    <a:lnTo>
                      <a:pt x="588" y="1337"/>
                    </a:lnTo>
                    <a:lnTo>
                      <a:pt x="605" y="1341"/>
                    </a:lnTo>
                    <a:lnTo>
                      <a:pt x="622" y="1345"/>
                    </a:lnTo>
                    <a:lnTo>
                      <a:pt x="639" y="1347"/>
                    </a:lnTo>
                    <a:lnTo>
                      <a:pt x="657" y="1347"/>
                    </a:lnTo>
                    <a:lnTo>
                      <a:pt x="675" y="1346"/>
                    </a:lnTo>
                    <a:lnTo>
                      <a:pt x="692" y="1344"/>
                    </a:lnTo>
                    <a:lnTo>
                      <a:pt x="710" y="1339"/>
                    </a:lnTo>
                    <a:lnTo>
                      <a:pt x="727" y="1332"/>
                    </a:lnTo>
                    <a:lnTo>
                      <a:pt x="745" y="1323"/>
                    </a:lnTo>
                    <a:lnTo>
                      <a:pt x="763" y="1313"/>
                    </a:lnTo>
                    <a:lnTo>
                      <a:pt x="781" y="1299"/>
                    </a:lnTo>
                    <a:lnTo>
                      <a:pt x="790" y="1295"/>
                    </a:lnTo>
                    <a:lnTo>
                      <a:pt x="799" y="1290"/>
                    </a:lnTo>
                    <a:lnTo>
                      <a:pt x="806" y="1284"/>
                    </a:lnTo>
                    <a:lnTo>
                      <a:pt x="812" y="1279"/>
                    </a:lnTo>
                    <a:lnTo>
                      <a:pt x="824" y="1265"/>
                    </a:lnTo>
                    <a:lnTo>
                      <a:pt x="835" y="1249"/>
                    </a:lnTo>
                    <a:lnTo>
                      <a:pt x="849" y="1231"/>
                    </a:lnTo>
                    <a:lnTo>
                      <a:pt x="865" y="1209"/>
                    </a:lnTo>
                    <a:lnTo>
                      <a:pt x="874" y="1198"/>
                    </a:lnTo>
                    <a:lnTo>
                      <a:pt x="884" y="1185"/>
                    </a:lnTo>
                    <a:lnTo>
                      <a:pt x="897" y="1172"/>
                    </a:lnTo>
                    <a:lnTo>
                      <a:pt x="910" y="1157"/>
                    </a:lnTo>
                    <a:lnTo>
                      <a:pt x="956" y="1166"/>
                    </a:lnTo>
                    <a:lnTo>
                      <a:pt x="997" y="1175"/>
                    </a:lnTo>
                    <a:lnTo>
                      <a:pt x="1016" y="1180"/>
                    </a:lnTo>
                    <a:lnTo>
                      <a:pt x="1035" y="1185"/>
                    </a:lnTo>
                    <a:lnTo>
                      <a:pt x="1052" y="1191"/>
                    </a:lnTo>
                    <a:lnTo>
                      <a:pt x="1068" y="1198"/>
                    </a:lnTo>
                    <a:lnTo>
                      <a:pt x="1084" y="1204"/>
                    </a:lnTo>
                    <a:lnTo>
                      <a:pt x="1098" y="1210"/>
                    </a:lnTo>
                    <a:lnTo>
                      <a:pt x="1112" y="1218"/>
                    </a:lnTo>
                    <a:lnTo>
                      <a:pt x="1126" y="1225"/>
                    </a:lnTo>
                    <a:lnTo>
                      <a:pt x="1138" y="1233"/>
                    </a:lnTo>
                    <a:lnTo>
                      <a:pt x="1151" y="1241"/>
                    </a:lnTo>
                    <a:lnTo>
                      <a:pt x="1162" y="1250"/>
                    </a:lnTo>
                    <a:lnTo>
                      <a:pt x="1173" y="1259"/>
                    </a:lnTo>
                    <a:lnTo>
                      <a:pt x="1193" y="1279"/>
                    </a:lnTo>
                    <a:lnTo>
                      <a:pt x="1212" y="1299"/>
                    </a:lnTo>
                    <a:lnTo>
                      <a:pt x="1230" y="1322"/>
                    </a:lnTo>
                    <a:lnTo>
                      <a:pt x="1246" y="1346"/>
                    </a:lnTo>
                    <a:lnTo>
                      <a:pt x="1261" y="1371"/>
                    </a:lnTo>
                    <a:lnTo>
                      <a:pt x="1277" y="1398"/>
                    </a:lnTo>
                    <a:lnTo>
                      <a:pt x="1292" y="1428"/>
                    </a:lnTo>
                    <a:lnTo>
                      <a:pt x="1307" y="1459"/>
                    </a:lnTo>
                    <a:lnTo>
                      <a:pt x="1328" y="1446"/>
                    </a:lnTo>
                    <a:lnTo>
                      <a:pt x="1348" y="1434"/>
                    </a:lnTo>
                    <a:lnTo>
                      <a:pt x="1366" y="1420"/>
                    </a:lnTo>
                    <a:lnTo>
                      <a:pt x="1385" y="1405"/>
                    </a:lnTo>
                    <a:lnTo>
                      <a:pt x="1402" y="1392"/>
                    </a:lnTo>
                    <a:lnTo>
                      <a:pt x="1418" y="1376"/>
                    </a:lnTo>
                    <a:lnTo>
                      <a:pt x="1434" y="1360"/>
                    </a:lnTo>
                    <a:lnTo>
                      <a:pt x="1448" y="1344"/>
                    </a:lnTo>
                    <a:lnTo>
                      <a:pt x="1462" y="1327"/>
                    </a:lnTo>
                    <a:lnTo>
                      <a:pt x="1476" y="1310"/>
                    </a:lnTo>
                    <a:lnTo>
                      <a:pt x="1487" y="1292"/>
                    </a:lnTo>
                    <a:lnTo>
                      <a:pt x="1499" y="1274"/>
                    </a:lnTo>
                    <a:lnTo>
                      <a:pt x="1510" y="1256"/>
                    </a:lnTo>
                    <a:lnTo>
                      <a:pt x="1519" y="1237"/>
                    </a:lnTo>
                    <a:lnTo>
                      <a:pt x="1528" y="1217"/>
                    </a:lnTo>
                    <a:lnTo>
                      <a:pt x="1536" y="1198"/>
                    </a:lnTo>
                    <a:lnTo>
                      <a:pt x="1543" y="1177"/>
                    </a:lnTo>
                    <a:lnTo>
                      <a:pt x="1550" y="1157"/>
                    </a:lnTo>
                    <a:lnTo>
                      <a:pt x="1554" y="1136"/>
                    </a:lnTo>
                    <a:lnTo>
                      <a:pt x="1559" y="1116"/>
                    </a:lnTo>
                    <a:lnTo>
                      <a:pt x="1562" y="1094"/>
                    </a:lnTo>
                    <a:lnTo>
                      <a:pt x="1566" y="1072"/>
                    </a:lnTo>
                    <a:lnTo>
                      <a:pt x="1567" y="1051"/>
                    </a:lnTo>
                    <a:lnTo>
                      <a:pt x="1568" y="1028"/>
                    </a:lnTo>
                    <a:lnTo>
                      <a:pt x="1568" y="1006"/>
                    </a:lnTo>
                    <a:lnTo>
                      <a:pt x="1567" y="984"/>
                    </a:lnTo>
                    <a:lnTo>
                      <a:pt x="1565" y="961"/>
                    </a:lnTo>
                    <a:lnTo>
                      <a:pt x="1562" y="938"/>
                    </a:lnTo>
                    <a:lnTo>
                      <a:pt x="1559" y="915"/>
                    </a:lnTo>
                    <a:lnTo>
                      <a:pt x="1553" y="892"/>
                    </a:lnTo>
                    <a:lnTo>
                      <a:pt x="1548" y="868"/>
                    </a:lnTo>
                    <a:lnTo>
                      <a:pt x="1542" y="846"/>
                    </a:lnTo>
                    <a:close/>
                  </a:path>
                </a:pathLst>
              </a:custGeom>
              <a:solidFill>
                <a:srgbClr val="8d5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327560" y="2954520"/>
                <a:ext cx="115920" cy="65160"/>
              </a:xfrm>
              <a:custGeom>
                <a:avLst/>
                <a:gdLst/>
                <a:ahLst/>
                <a:rect l="l" t="t" r="r" b="b"/>
                <a:pathLst>
                  <a:path w="368" h="204">
                    <a:moveTo>
                      <a:pt x="6" y="2"/>
                    </a:moveTo>
                    <a:lnTo>
                      <a:pt x="6" y="23"/>
                    </a:lnTo>
                    <a:lnTo>
                      <a:pt x="50" y="51"/>
                    </a:lnTo>
                    <a:lnTo>
                      <a:pt x="93" y="80"/>
                    </a:lnTo>
                    <a:lnTo>
                      <a:pt x="138" y="106"/>
                    </a:lnTo>
                    <a:lnTo>
                      <a:pt x="181" y="131"/>
                    </a:lnTo>
                    <a:lnTo>
                      <a:pt x="204" y="142"/>
                    </a:lnTo>
                    <a:lnTo>
                      <a:pt x="226" y="153"/>
                    </a:lnTo>
                    <a:lnTo>
                      <a:pt x="248" y="163"/>
                    </a:lnTo>
                    <a:lnTo>
                      <a:pt x="270" y="173"/>
                    </a:lnTo>
                    <a:lnTo>
                      <a:pt x="293" y="182"/>
                    </a:lnTo>
                    <a:lnTo>
                      <a:pt x="316" y="190"/>
                    </a:lnTo>
                    <a:lnTo>
                      <a:pt x="338" y="197"/>
                    </a:lnTo>
                    <a:lnTo>
                      <a:pt x="362" y="204"/>
                    </a:lnTo>
                    <a:lnTo>
                      <a:pt x="368" y="181"/>
                    </a:lnTo>
                    <a:lnTo>
                      <a:pt x="346" y="174"/>
                    </a:lnTo>
                    <a:lnTo>
                      <a:pt x="324" y="167"/>
                    </a:lnTo>
                    <a:lnTo>
                      <a:pt x="302" y="160"/>
                    </a:lnTo>
                    <a:lnTo>
                      <a:pt x="279" y="150"/>
                    </a:lnTo>
                    <a:lnTo>
                      <a:pt x="258" y="141"/>
                    </a:lnTo>
                    <a:lnTo>
                      <a:pt x="236" y="131"/>
                    </a:lnTo>
                    <a:lnTo>
                      <a:pt x="214" y="121"/>
                    </a:lnTo>
                    <a:lnTo>
                      <a:pt x="193" y="109"/>
                    </a:lnTo>
                    <a:lnTo>
                      <a:pt x="150" y="85"/>
                    </a:lnTo>
                    <a:lnTo>
                      <a:pt x="107" y="59"/>
                    </a:lnTo>
                    <a:lnTo>
                      <a:pt x="63" y="32"/>
                    </a:lnTo>
                    <a:lnTo>
                      <a:pt x="18" y="2"/>
                    </a:lnTo>
                    <a:lnTo>
                      <a:pt x="18" y="23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6" y="2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302000" y="2743560"/>
                <a:ext cx="69840" cy="217440"/>
              </a:xfrm>
              <a:custGeom>
                <a:avLst/>
                <a:gdLst/>
                <a:ahLst/>
                <a:rect l="l" t="t" r="r" b="b"/>
                <a:pathLst>
                  <a:path w="223" h="688">
                    <a:moveTo>
                      <a:pt x="15" y="24"/>
                    </a:moveTo>
                    <a:lnTo>
                      <a:pt x="3" y="17"/>
                    </a:lnTo>
                    <a:lnTo>
                      <a:pt x="54" y="115"/>
                    </a:lnTo>
                    <a:lnTo>
                      <a:pt x="105" y="210"/>
                    </a:lnTo>
                    <a:lnTo>
                      <a:pt x="129" y="257"/>
                    </a:lnTo>
                    <a:lnTo>
                      <a:pt x="151" y="302"/>
                    </a:lnTo>
                    <a:lnTo>
                      <a:pt x="160" y="324"/>
                    </a:lnTo>
                    <a:lnTo>
                      <a:pt x="169" y="346"/>
                    </a:lnTo>
                    <a:lnTo>
                      <a:pt x="177" y="367"/>
                    </a:lnTo>
                    <a:lnTo>
                      <a:pt x="184" y="388"/>
                    </a:lnTo>
                    <a:lnTo>
                      <a:pt x="188" y="410"/>
                    </a:lnTo>
                    <a:lnTo>
                      <a:pt x="193" y="429"/>
                    </a:lnTo>
                    <a:lnTo>
                      <a:pt x="196" y="449"/>
                    </a:lnTo>
                    <a:lnTo>
                      <a:pt x="199" y="469"/>
                    </a:lnTo>
                    <a:lnTo>
                      <a:pt x="199" y="488"/>
                    </a:lnTo>
                    <a:lnTo>
                      <a:pt x="198" y="506"/>
                    </a:lnTo>
                    <a:lnTo>
                      <a:pt x="195" y="525"/>
                    </a:lnTo>
                    <a:lnTo>
                      <a:pt x="191" y="542"/>
                    </a:lnTo>
                    <a:lnTo>
                      <a:pt x="185" y="559"/>
                    </a:lnTo>
                    <a:lnTo>
                      <a:pt x="177" y="575"/>
                    </a:lnTo>
                    <a:lnTo>
                      <a:pt x="167" y="592"/>
                    </a:lnTo>
                    <a:lnTo>
                      <a:pt x="155" y="608"/>
                    </a:lnTo>
                    <a:lnTo>
                      <a:pt x="141" y="623"/>
                    </a:lnTo>
                    <a:lnTo>
                      <a:pt x="125" y="638"/>
                    </a:lnTo>
                    <a:lnTo>
                      <a:pt x="106" y="652"/>
                    </a:lnTo>
                    <a:lnTo>
                      <a:pt x="85" y="667"/>
                    </a:lnTo>
                    <a:lnTo>
                      <a:pt x="97" y="688"/>
                    </a:lnTo>
                    <a:lnTo>
                      <a:pt x="120" y="673"/>
                    </a:lnTo>
                    <a:lnTo>
                      <a:pt x="141" y="657"/>
                    </a:lnTo>
                    <a:lnTo>
                      <a:pt x="158" y="640"/>
                    </a:lnTo>
                    <a:lnTo>
                      <a:pt x="174" y="623"/>
                    </a:lnTo>
                    <a:lnTo>
                      <a:pt x="187" y="606"/>
                    </a:lnTo>
                    <a:lnTo>
                      <a:pt x="198" y="587"/>
                    </a:lnTo>
                    <a:lnTo>
                      <a:pt x="207" y="568"/>
                    </a:lnTo>
                    <a:lnTo>
                      <a:pt x="213" y="549"/>
                    </a:lnTo>
                    <a:lnTo>
                      <a:pt x="218" y="529"/>
                    </a:lnTo>
                    <a:lnTo>
                      <a:pt x="221" y="509"/>
                    </a:lnTo>
                    <a:lnTo>
                      <a:pt x="223" y="488"/>
                    </a:lnTo>
                    <a:lnTo>
                      <a:pt x="223" y="468"/>
                    </a:lnTo>
                    <a:lnTo>
                      <a:pt x="220" y="446"/>
                    </a:lnTo>
                    <a:lnTo>
                      <a:pt x="217" y="426"/>
                    </a:lnTo>
                    <a:lnTo>
                      <a:pt x="212" y="404"/>
                    </a:lnTo>
                    <a:lnTo>
                      <a:pt x="207" y="381"/>
                    </a:lnTo>
                    <a:lnTo>
                      <a:pt x="200" y="359"/>
                    </a:lnTo>
                    <a:lnTo>
                      <a:pt x="192" y="338"/>
                    </a:lnTo>
                    <a:lnTo>
                      <a:pt x="183" y="315"/>
                    </a:lnTo>
                    <a:lnTo>
                      <a:pt x="172" y="292"/>
                    </a:lnTo>
                    <a:lnTo>
                      <a:pt x="151" y="247"/>
                    </a:lnTo>
                    <a:lnTo>
                      <a:pt x="127" y="199"/>
                    </a:lnTo>
                    <a:lnTo>
                      <a:pt x="76" y="104"/>
                    </a:lnTo>
                    <a:lnTo>
                      <a:pt x="24" y="7"/>
                    </a:lnTo>
                    <a:lnTo>
                      <a:pt x="11" y="0"/>
                    </a:lnTo>
                    <a:lnTo>
                      <a:pt x="24" y="7"/>
                    </a:lnTo>
                    <a:lnTo>
                      <a:pt x="21" y="3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949560" y="2743560"/>
                <a:ext cx="357480" cy="71280"/>
              </a:xfrm>
              <a:custGeom>
                <a:avLst/>
                <a:gdLst/>
                <a:ahLst/>
                <a:rect l="l" t="t" r="r" b="b"/>
                <a:pathLst>
                  <a:path w="1124" h="227">
                    <a:moveTo>
                      <a:pt x="24" y="213"/>
                    </a:moveTo>
                    <a:lnTo>
                      <a:pt x="14" y="227"/>
                    </a:lnTo>
                    <a:lnTo>
                      <a:pt x="153" y="202"/>
                    </a:lnTo>
                    <a:lnTo>
                      <a:pt x="292" y="177"/>
                    </a:lnTo>
                    <a:lnTo>
                      <a:pt x="430" y="152"/>
                    </a:lnTo>
                    <a:lnTo>
                      <a:pt x="569" y="127"/>
                    </a:lnTo>
                    <a:lnTo>
                      <a:pt x="708" y="102"/>
                    </a:lnTo>
                    <a:lnTo>
                      <a:pt x="846" y="76"/>
                    </a:lnTo>
                    <a:lnTo>
                      <a:pt x="985" y="50"/>
                    </a:lnTo>
                    <a:lnTo>
                      <a:pt x="1124" y="24"/>
                    </a:lnTo>
                    <a:lnTo>
                      <a:pt x="1120" y="0"/>
                    </a:lnTo>
                    <a:lnTo>
                      <a:pt x="981" y="27"/>
                    </a:lnTo>
                    <a:lnTo>
                      <a:pt x="843" y="52"/>
                    </a:lnTo>
                    <a:lnTo>
                      <a:pt x="704" y="78"/>
                    </a:lnTo>
                    <a:lnTo>
                      <a:pt x="565" y="103"/>
                    </a:lnTo>
                    <a:lnTo>
                      <a:pt x="427" y="128"/>
                    </a:lnTo>
                    <a:lnTo>
                      <a:pt x="288" y="153"/>
                    </a:lnTo>
                    <a:lnTo>
                      <a:pt x="149" y="178"/>
                    </a:lnTo>
                    <a:lnTo>
                      <a:pt x="10" y="203"/>
                    </a:lnTo>
                    <a:lnTo>
                      <a:pt x="0" y="216"/>
                    </a:lnTo>
                    <a:lnTo>
                      <a:pt x="10" y="203"/>
                    </a:lnTo>
                    <a:lnTo>
                      <a:pt x="5" y="204"/>
                    </a:lnTo>
                    <a:lnTo>
                      <a:pt x="2" y="208"/>
                    </a:lnTo>
                    <a:lnTo>
                      <a:pt x="0" y="212"/>
                    </a:lnTo>
                    <a:lnTo>
                      <a:pt x="0" y="217"/>
                    </a:lnTo>
                    <a:lnTo>
                      <a:pt x="2" y="221"/>
                    </a:lnTo>
                    <a:lnTo>
                      <a:pt x="5" y="225"/>
                    </a:lnTo>
                    <a:lnTo>
                      <a:pt x="8" y="227"/>
                    </a:lnTo>
                    <a:lnTo>
                      <a:pt x="14" y="227"/>
                    </a:lnTo>
                    <a:lnTo>
                      <a:pt x="24" y="2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949560" y="2810160"/>
                <a:ext cx="57240" cy="166680"/>
              </a:xfrm>
              <a:custGeom>
                <a:avLst/>
                <a:gdLst/>
                <a:ahLst/>
                <a:rect l="l" t="t" r="r" b="b"/>
                <a:pathLst>
                  <a:path w="182" h="521">
                    <a:moveTo>
                      <a:pt x="181" y="504"/>
                    </a:moveTo>
                    <a:lnTo>
                      <a:pt x="179" y="502"/>
                    </a:lnTo>
                    <a:lnTo>
                      <a:pt x="159" y="475"/>
                    </a:lnTo>
                    <a:lnTo>
                      <a:pt x="139" y="447"/>
                    </a:lnTo>
                    <a:lnTo>
                      <a:pt x="124" y="419"/>
                    </a:lnTo>
                    <a:lnTo>
                      <a:pt x="109" y="390"/>
                    </a:lnTo>
                    <a:lnTo>
                      <a:pt x="95" y="361"/>
                    </a:lnTo>
                    <a:lnTo>
                      <a:pt x="84" y="330"/>
                    </a:lnTo>
                    <a:lnTo>
                      <a:pt x="73" y="299"/>
                    </a:lnTo>
                    <a:lnTo>
                      <a:pt x="64" y="268"/>
                    </a:lnTo>
                    <a:lnTo>
                      <a:pt x="56" y="236"/>
                    </a:lnTo>
                    <a:lnTo>
                      <a:pt x="49" y="203"/>
                    </a:lnTo>
                    <a:lnTo>
                      <a:pt x="44" y="170"/>
                    </a:lnTo>
                    <a:lnTo>
                      <a:pt x="39" y="137"/>
                    </a:lnTo>
                    <a:lnTo>
                      <a:pt x="30" y="70"/>
                    </a:lnTo>
                    <a:lnTo>
                      <a:pt x="24" y="0"/>
                    </a:lnTo>
                    <a:lnTo>
                      <a:pt x="0" y="3"/>
                    </a:lnTo>
                    <a:lnTo>
                      <a:pt x="6" y="72"/>
                    </a:lnTo>
                    <a:lnTo>
                      <a:pt x="14" y="141"/>
                    </a:lnTo>
                    <a:lnTo>
                      <a:pt x="20" y="175"/>
                    </a:lnTo>
                    <a:lnTo>
                      <a:pt x="26" y="208"/>
                    </a:lnTo>
                    <a:lnTo>
                      <a:pt x="32" y="241"/>
                    </a:lnTo>
                    <a:lnTo>
                      <a:pt x="40" y="274"/>
                    </a:lnTo>
                    <a:lnTo>
                      <a:pt x="51" y="307"/>
                    </a:lnTo>
                    <a:lnTo>
                      <a:pt x="61" y="339"/>
                    </a:lnTo>
                    <a:lnTo>
                      <a:pt x="73" y="370"/>
                    </a:lnTo>
                    <a:lnTo>
                      <a:pt x="87" y="401"/>
                    </a:lnTo>
                    <a:lnTo>
                      <a:pt x="102" y="431"/>
                    </a:lnTo>
                    <a:lnTo>
                      <a:pt x="119" y="460"/>
                    </a:lnTo>
                    <a:lnTo>
                      <a:pt x="138" y="490"/>
                    </a:lnTo>
                    <a:lnTo>
                      <a:pt x="160" y="517"/>
                    </a:lnTo>
                    <a:lnTo>
                      <a:pt x="159" y="515"/>
                    </a:lnTo>
                    <a:lnTo>
                      <a:pt x="160" y="517"/>
                    </a:lnTo>
                    <a:lnTo>
                      <a:pt x="165" y="520"/>
                    </a:lnTo>
                    <a:lnTo>
                      <a:pt x="169" y="521"/>
                    </a:lnTo>
                    <a:lnTo>
                      <a:pt x="174" y="521"/>
                    </a:lnTo>
                    <a:lnTo>
                      <a:pt x="177" y="519"/>
                    </a:lnTo>
                    <a:lnTo>
                      <a:pt x="181" y="516"/>
                    </a:lnTo>
                    <a:lnTo>
                      <a:pt x="182" y="511"/>
                    </a:lnTo>
                    <a:lnTo>
                      <a:pt x="182" y="507"/>
                    </a:lnTo>
                    <a:lnTo>
                      <a:pt x="179" y="502"/>
                    </a:lnTo>
                    <a:lnTo>
                      <a:pt x="181" y="5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000680" y="2970360"/>
                <a:ext cx="20520" cy="127080"/>
              </a:xfrm>
              <a:custGeom>
                <a:avLst/>
                <a:gdLst/>
                <a:ahLst/>
                <a:rect l="l" t="t" r="r" b="b"/>
                <a:pathLst>
                  <a:path w="66" h="400">
                    <a:moveTo>
                      <a:pt x="52" y="377"/>
                    </a:moveTo>
                    <a:lnTo>
                      <a:pt x="64" y="380"/>
                    </a:lnTo>
                    <a:lnTo>
                      <a:pt x="56" y="371"/>
                    </a:lnTo>
                    <a:lnTo>
                      <a:pt x="50" y="362"/>
                    </a:lnTo>
                    <a:lnTo>
                      <a:pt x="44" y="351"/>
                    </a:lnTo>
                    <a:lnTo>
                      <a:pt x="40" y="342"/>
                    </a:lnTo>
                    <a:lnTo>
                      <a:pt x="36" y="332"/>
                    </a:lnTo>
                    <a:lnTo>
                      <a:pt x="33" y="322"/>
                    </a:lnTo>
                    <a:lnTo>
                      <a:pt x="31" y="312"/>
                    </a:lnTo>
                    <a:lnTo>
                      <a:pt x="29" y="300"/>
                    </a:lnTo>
                    <a:lnTo>
                      <a:pt x="27" y="279"/>
                    </a:lnTo>
                    <a:lnTo>
                      <a:pt x="28" y="255"/>
                    </a:lnTo>
                    <a:lnTo>
                      <a:pt x="29" y="231"/>
                    </a:lnTo>
                    <a:lnTo>
                      <a:pt x="32" y="207"/>
                    </a:lnTo>
                    <a:lnTo>
                      <a:pt x="35" y="182"/>
                    </a:lnTo>
                    <a:lnTo>
                      <a:pt x="37" y="157"/>
                    </a:lnTo>
                    <a:lnTo>
                      <a:pt x="40" y="130"/>
                    </a:lnTo>
                    <a:lnTo>
                      <a:pt x="41" y="104"/>
                    </a:lnTo>
                    <a:lnTo>
                      <a:pt x="40" y="78"/>
                    </a:lnTo>
                    <a:lnTo>
                      <a:pt x="37" y="53"/>
                    </a:lnTo>
                    <a:lnTo>
                      <a:pt x="34" y="39"/>
                    </a:lnTo>
                    <a:lnTo>
                      <a:pt x="31" y="27"/>
                    </a:lnTo>
                    <a:lnTo>
                      <a:pt x="27" y="13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8" y="33"/>
                    </a:lnTo>
                    <a:lnTo>
                      <a:pt x="11" y="45"/>
                    </a:lnTo>
                    <a:lnTo>
                      <a:pt x="14" y="56"/>
                    </a:lnTo>
                    <a:lnTo>
                      <a:pt x="16" y="80"/>
                    </a:lnTo>
                    <a:lnTo>
                      <a:pt x="17" y="104"/>
                    </a:lnTo>
                    <a:lnTo>
                      <a:pt x="16" y="129"/>
                    </a:lnTo>
                    <a:lnTo>
                      <a:pt x="14" y="154"/>
                    </a:lnTo>
                    <a:lnTo>
                      <a:pt x="11" y="179"/>
                    </a:lnTo>
                    <a:lnTo>
                      <a:pt x="8" y="204"/>
                    </a:lnTo>
                    <a:lnTo>
                      <a:pt x="6" y="229"/>
                    </a:lnTo>
                    <a:lnTo>
                      <a:pt x="3" y="255"/>
                    </a:lnTo>
                    <a:lnTo>
                      <a:pt x="3" y="279"/>
                    </a:lnTo>
                    <a:lnTo>
                      <a:pt x="6" y="304"/>
                    </a:lnTo>
                    <a:lnTo>
                      <a:pt x="7" y="315"/>
                    </a:lnTo>
                    <a:lnTo>
                      <a:pt x="10" y="328"/>
                    </a:lnTo>
                    <a:lnTo>
                      <a:pt x="14" y="340"/>
                    </a:lnTo>
                    <a:lnTo>
                      <a:pt x="17" y="351"/>
                    </a:lnTo>
                    <a:lnTo>
                      <a:pt x="23" y="363"/>
                    </a:lnTo>
                    <a:lnTo>
                      <a:pt x="28" y="374"/>
                    </a:lnTo>
                    <a:lnTo>
                      <a:pt x="36" y="386"/>
                    </a:lnTo>
                    <a:lnTo>
                      <a:pt x="44" y="396"/>
                    </a:lnTo>
                    <a:lnTo>
                      <a:pt x="56" y="400"/>
                    </a:lnTo>
                    <a:lnTo>
                      <a:pt x="44" y="396"/>
                    </a:lnTo>
                    <a:lnTo>
                      <a:pt x="49" y="399"/>
                    </a:lnTo>
                    <a:lnTo>
                      <a:pt x="53" y="400"/>
                    </a:lnTo>
                    <a:lnTo>
                      <a:pt x="58" y="399"/>
                    </a:lnTo>
                    <a:lnTo>
                      <a:pt x="61" y="397"/>
                    </a:lnTo>
                    <a:lnTo>
                      <a:pt x="65" y="394"/>
                    </a:lnTo>
                    <a:lnTo>
                      <a:pt x="66" y="390"/>
                    </a:lnTo>
                    <a:lnTo>
                      <a:pt x="66" y="385"/>
                    </a:lnTo>
                    <a:lnTo>
                      <a:pt x="64" y="380"/>
                    </a:lnTo>
                    <a:lnTo>
                      <a:pt x="52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016520" y="308304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5" y="4"/>
                    </a:moveTo>
                    <a:lnTo>
                      <a:pt x="112" y="0"/>
                    </a:lnTo>
                    <a:lnTo>
                      <a:pt x="93" y="3"/>
                    </a:lnTo>
                    <a:lnTo>
                      <a:pt x="78" y="6"/>
                    </a:lnTo>
                    <a:lnTo>
                      <a:pt x="66" y="10"/>
                    </a:lnTo>
                    <a:lnTo>
                      <a:pt x="57" y="12"/>
                    </a:lnTo>
                    <a:lnTo>
                      <a:pt x="48" y="14"/>
                    </a:lnTo>
                    <a:lnTo>
                      <a:pt x="37" y="17"/>
                    </a:lnTo>
                    <a:lnTo>
                      <a:pt x="21" y="20"/>
                    </a:lnTo>
                    <a:lnTo>
                      <a:pt x="0" y="24"/>
                    </a:lnTo>
                    <a:lnTo>
                      <a:pt x="4" y="47"/>
                    </a:lnTo>
                    <a:lnTo>
                      <a:pt x="25" y="44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3" y="35"/>
                    </a:lnTo>
                    <a:lnTo>
                      <a:pt x="72" y="33"/>
                    </a:lnTo>
                    <a:lnTo>
                      <a:pt x="83" y="30"/>
                    </a:lnTo>
                    <a:lnTo>
                      <a:pt x="97" y="27"/>
                    </a:lnTo>
                    <a:lnTo>
                      <a:pt x="117" y="22"/>
                    </a:lnTo>
                    <a:lnTo>
                      <a:pt x="104" y="17"/>
                    </a:lnTo>
                    <a:lnTo>
                      <a:pt x="117" y="22"/>
                    </a:lnTo>
                    <a:lnTo>
                      <a:pt x="122" y="21"/>
                    </a:lnTo>
                    <a:lnTo>
                      <a:pt x="125" y="18"/>
                    </a:lnTo>
                    <a:lnTo>
                      <a:pt x="127" y="13"/>
                    </a:lnTo>
                    <a:lnTo>
                      <a:pt x="127" y="9"/>
                    </a:lnTo>
                    <a:lnTo>
                      <a:pt x="125" y="4"/>
                    </a:lnTo>
                    <a:lnTo>
                      <a:pt x="122" y="1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049640" y="3084840"/>
                <a:ext cx="155520" cy="93600"/>
              </a:xfrm>
              <a:custGeom>
                <a:avLst/>
                <a:gdLst/>
                <a:ahLst/>
                <a:rect l="l" t="t" r="r" b="b"/>
                <a:pathLst>
                  <a:path w="490" h="298">
                    <a:moveTo>
                      <a:pt x="473" y="226"/>
                    </a:moveTo>
                    <a:lnTo>
                      <a:pt x="471" y="228"/>
                    </a:lnTo>
                    <a:lnTo>
                      <a:pt x="454" y="241"/>
                    </a:lnTo>
                    <a:lnTo>
                      <a:pt x="436" y="251"/>
                    </a:lnTo>
                    <a:lnTo>
                      <a:pt x="419" y="259"/>
                    </a:lnTo>
                    <a:lnTo>
                      <a:pt x="403" y="266"/>
                    </a:lnTo>
                    <a:lnTo>
                      <a:pt x="386" y="270"/>
                    </a:lnTo>
                    <a:lnTo>
                      <a:pt x="370" y="273"/>
                    </a:lnTo>
                    <a:lnTo>
                      <a:pt x="353" y="274"/>
                    </a:lnTo>
                    <a:lnTo>
                      <a:pt x="337" y="273"/>
                    </a:lnTo>
                    <a:lnTo>
                      <a:pt x="321" y="271"/>
                    </a:lnTo>
                    <a:lnTo>
                      <a:pt x="305" y="268"/>
                    </a:lnTo>
                    <a:lnTo>
                      <a:pt x="289" y="262"/>
                    </a:lnTo>
                    <a:lnTo>
                      <a:pt x="274" y="257"/>
                    </a:lnTo>
                    <a:lnTo>
                      <a:pt x="258" y="250"/>
                    </a:lnTo>
                    <a:lnTo>
                      <a:pt x="243" y="241"/>
                    </a:lnTo>
                    <a:lnTo>
                      <a:pt x="227" y="232"/>
                    </a:lnTo>
                    <a:lnTo>
                      <a:pt x="212" y="221"/>
                    </a:lnTo>
                    <a:lnTo>
                      <a:pt x="197" y="210"/>
                    </a:lnTo>
                    <a:lnTo>
                      <a:pt x="182" y="199"/>
                    </a:lnTo>
                    <a:lnTo>
                      <a:pt x="168" y="186"/>
                    </a:lnTo>
                    <a:lnTo>
                      <a:pt x="154" y="172"/>
                    </a:lnTo>
                    <a:lnTo>
                      <a:pt x="128" y="144"/>
                    </a:lnTo>
                    <a:lnTo>
                      <a:pt x="101" y="115"/>
                    </a:lnTo>
                    <a:lnTo>
                      <a:pt x="79" y="86"/>
                    </a:lnTo>
                    <a:lnTo>
                      <a:pt x="57" y="56"/>
                    </a:lnTo>
                    <a:lnTo>
                      <a:pt x="38" y="28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7" y="41"/>
                    </a:lnTo>
                    <a:lnTo>
                      <a:pt x="38" y="70"/>
                    </a:lnTo>
                    <a:lnTo>
                      <a:pt x="59" y="100"/>
                    </a:lnTo>
                    <a:lnTo>
                      <a:pt x="83" y="130"/>
                    </a:lnTo>
                    <a:lnTo>
                      <a:pt x="109" y="161"/>
                    </a:lnTo>
                    <a:lnTo>
                      <a:pt x="137" y="189"/>
                    </a:lnTo>
                    <a:lnTo>
                      <a:pt x="152" y="203"/>
                    </a:lnTo>
                    <a:lnTo>
                      <a:pt x="166" y="217"/>
                    </a:lnTo>
                    <a:lnTo>
                      <a:pt x="182" y="229"/>
                    </a:lnTo>
                    <a:lnTo>
                      <a:pt x="197" y="241"/>
                    </a:lnTo>
                    <a:lnTo>
                      <a:pt x="213" y="252"/>
                    </a:lnTo>
                    <a:lnTo>
                      <a:pt x="230" y="262"/>
                    </a:lnTo>
                    <a:lnTo>
                      <a:pt x="247" y="271"/>
                    </a:lnTo>
                    <a:lnTo>
                      <a:pt x="264" y="279"/>
                    </a:lnTo>
                    <a:lnTo>
                      <a:pt x="282" y="286"/>
                    </a:lnTo>
                    <a:lnTo>
                      <a:pt x="300" y="291"/>
                    </a:lnTo>
                    <a:lnTo>
                      <a:pt x="317" y="295"/>
                    </a:lnTo>
                    <a:lnTo>
                      <a:pt x="336" y="298"/>
                    </a:lnTo>
                    <a:lnTo>
                      <a:pt x="354" y="298"/>
                    </a:lnTo>
                    <a:lnTo>
                      <a:pt x="373" y="297"/>
                    </a:lnTo>
                    <a:lnTo>
                      <a:pt x="392" y="293"/>
                    </a:lnTo>
                    <a:lnTo>
                      <a:pt x="410" y="289"/>
                    </a:lnTo>
                    <a:lnTo>
                      <a:pt x="430" y="282"/>
                    </a:lnTo>
                    <a:lnTo>
                      <a:pt x="448" y="271"/>
                    </a:lnTo>
                    <a:lnTo>
                      <a:pt x="467" y="260"/>
                    </a:lnTo>
                    <a:lnTo>
                      <a:pt x="486" y="246"/>
                    </a:lnTo>
                    <a:lnTo>
                      <a:pt x="483" y="249"/>
                    </a:lnTo>
                    <a:lnTo>
                      <a:pt x="486" y="246"/>
                    </a:lnTo>
                    <a:lnTo>
                      <a:pt x="489" y="243"/>
                    </a:lnTo>
                    <a:lnTo>
                      <a:pt x="490" y="238"/>
                    </a:lnTo>
                    <a:lnTo>
                      <a:pt x="490" y="234"/>
                    </a:lnTo>
                    <a:lnTo>
                      <a:pt x="488" y="229"/>
                    </a:lnTo>
                    <a:lnTo>
                      <a:pt x="484" y="227"/>
                    </a:lnTo>
                    <a:lnTo>
                      <a:pt x="480" y="225"/>
                    </a:lnTo>
                    <a:lnTo>
                      <a:pt x="475" y="226"/>
                    </a:lnTo>
                    <a:lnTo>
                      <a:pt x="471" y="228"/>
                    </a:lnTo>
                    <a:lnTo>
                      <a:pt x="473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200480" y="31100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147" h="166">
                    <a:moveTo>
                      <a:pt x="137" y="0"/>
                    </a:moveTo>
                    <a:lnTo>
                      <a:pt x="126" y="4"/>
                    </a:lnTo>
                    <a:lnTo>
                      <a:pt x="112" y="19"/>
                    </a:lnTo>
                    <a:lnTo>
                      <a:pt x="99" y="32"/>
                    </a:lnTo>
                    <a:lnTo>
                      <a:pt x="89" y="45"/>
                    </a:lnTo>
                    <a:lnTo>
                      <a:pt x="79" y="57"/>
                    </a:lnTo>
                    <a:lnTo>
                      <a:pt x="63" y="79"/>
                    </a:lnTo>
                    <a:lnTo>
                      <a:pt x="50" y="97"/>
                    </a:lnTo>
                    <a:lnTo>
                      <a:pt x="39" y="112"/>
                    </a:lnTo>
                    <a:lnTo>
                      <a:pt x="27" y="126"/>
                    </a:lnTo>
                    <a:lnTo>
                      <a:pt x="22" y="130"/>
                    </a:lnTo>
                    <a:lnTo>
                      <a:pt x="16" y="135"/>
                    </a:lnTo>
                    <a:lnTo>
                      <a:pt x="8" y="139"/>
                    </a:lnTo>
                    <a:lnTo>
                      <a:pt x="0" y="143"/>
                    </a:lnTo>
                    <a:lnTo>
                      <a:pt x="10" y="166"/>
                    </a:lnTo>
                    <a:lnTo>
                      <a:pt x="20" y="160"/>
                    </a:lnTo>
                    <a:lnTo>
                      <a:pt x="30" y="155"/>
                    </a:lnTo>
                    <a:lnTo>
                      <a:pt x="38" y="149"/>
                    </a:lnTo>
                    <a:lnTo>
                      <a:pt x="44" y="142"/>
                    </a:lnTo>
                    <a:lnTo>
                      <a:pt x="57" y="128"/>
                    </a:lnTo>
                    <a:lnTo>
                      <a:pt x="69" y="111"/>
                    </a:lnTo>
                    <a:lnTo>
                      <a:pt x="82" y="93"/>
                    </a:lnTo>
                    <a:lnTo>
                      <a:pt x="98" y="71"/>
                    </a:lnTo>
                    <a:lnTo>
                      <a:pt x="107" y="60"/>
                    </a:lnTo>
                    <a:lnTo>
                      <a:pt x="117" y="48"/>
                    </a:lnTo>
                    <a:lnTo>
                      <a:pt x="130" y="35"/>
                    </a:lnTo>
                    <a:lnTo>
                      <a:pt x="144" y="21"/>
                    </a:lnTo>
                    <a:lnTo>
                      <a:pt x="133" y="24"/>
                    </a:lnTo>
                    <a:lnTo>
                      <a:pt x="144" y="21"/>
                    </a:lnTo>
                    <a:lnTo>
                      <a:pt x="147" y="16"/>
                    </a:lnTo>
                    <a:lnTo>
                      <a:pt x="147" y="12"/>
                    </a:lnTo>
                    <a:lnTo>
                      <a:pt x="146" y="7"/>
                    </a:lnTo>
                    <a:lnTo>
                      <a:pt x="144" y="4"/>
                    </a:lnTo>
                    <a:lnTo>
                      <a:pt x="140" y="2"/>
                    </a:lnTo>
                    <a:lnTo>
                      <a:pt x="136" y="0"/>
                    </a:lnTo>
                    <a:lnTo>
                      <a:pt x="131" y="0"/>
                    </a:lnTo>
                    <a:lnTo>
                      <a:pt x="126" y="4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241880" y="3110040"/>
                <a:ext cx="129960" cy="103320"/>
              </a:xfrm>
              <a:custGeom>
                <a:avLst/>
                <a:gdLst/>
                <a:ahLst/>
                <a:rect l="l" t="t" r="r" b="b"/>
                <a:pathLst>
                  <a:path w="411" h="325">
                    <a:moveTo>
                      <a:pt x="392" y="304"/>
                    </a:moveTo>
                    <a:lnTo>
                      <a:pt x="409" y="308"/>
                    </a:lnTo>
                    <a:lnTo>
                      <a:pt x="394" y="277"/>
                    </a:lnTo>
                    <a:lnTo>
                      <a:pt x="379" y="248"/>
                    </a:lnTo>
                    <a:lnTo>
                      <a:pt x="363" y="220"/>
                    </a:lnTo>
                    <a:lnTo>
                      <a:pt x="347" y="194"/>
                    </a:lnTo>
                    <a:lnTo>
                      <a:pt x="331" y="169"/>
                    </a:lnTo>
                    <a:lnTo>
                      <a:pt x="313" y="146"/>
                    </a:lnTo>
                    <a:lnTo>
                      <a:pt x="293" y="125"/>
                    </a:lnTo>
                    <a:lnTo>
                      <a:pt x="272" y="105"/>
                    </a:lnTo>
                    <a:lnTo>
                      <a:pt x="260" y="96"/>
                    </a:lnTo>
                    <a:lnTo>
                      <a:pt x="249" y="87"/>
                    </a:lnTo>
                    <a:lnTo>
                      <a:pt x="236" y="78"/>
                    </a:lnTo>
                    <a:lnTo>
                      <a:pt x="223" y="70"/>
                    </a:lnTo>
                    <a:lnTo>
                      <a:pt x="209" y="62"/>
                    </a:lnTo>
                    <a:lnTo>
                      <a:pt x="194" y="55"/>
                    </a:lnTo>
                    <a:lnTo>
                      <a:pt x="179" y="48"/>
                    </a:lnTo>
                    <a:lnTo>
                      <a:pt x="163" y="41"/>
                    </a:lnTo>
                    <a:lnTo>
                      <a:pt x="146" y="35"/>
                    </a:lnTo>
                    <a:lnTo>
                      <a:pt x="129" y="29"/>
                    </a:lnTo>
                    <a:lnTo>
                      <a:pt x="111" y="23"/>
                    </a:lnTo>
                    <a:lnTo>
                      <a:pt x="91" y="17"/>
                    </a:lnTo>
                    <a:lnTo>
                      <a:pt x="49" y="8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45" y="32"/>
                    </a:lnTo>
                    <a:lnTo>
                      <a:pt x="86" y="41"/>
                    </a:lnTo>
                    <a:lnTo>
                      <a:pt x="104" y="46"/>
                    </a:lnTo>
                    <a:lnTo>
                      <a:pt x="121" y="52"/>
                    </a:lnTo>
                    <a:lnTo>
                      <a:pt x="138" y="57"/>
                    </a:lnTo>
                    <a:lnTo>
                      <a:pt x="154" y="63"/>
                    </a:lnTo>
                    <a:lnTo>
                      <a:pt x="170" y="70"/>
                    </a:lnTo>
                    <a:lnTo>
                      <a:pt x="184" y="77"/>
                    </a:lnTo>
                    <a:lnTo>
                      <a:pt x="197" y="84"/>
                    </a:lnTo>
                    <a:lnTo>
                      <a:pt x="210" y="90"/>
                    </a:lnTo>
                    <a:lnTo>
                      <a:pt x="223" y="98"/>
                    </a:lnTo>
                    <a:lnTo>
                      <a:pt x="234" y="106"/>
                    </a:lnTo>
                    <a:lnTo>
                      <a:pt x="245" y="114"/>
                    </a:lnTo>
                    <a:lnTo>
                      <a:pt x="256" y="124"/>
                    </a:lnTo>
                    <a:lnTo>
                      <a:pt x="276" y="142"/>
                    </a:lnTo>
                    <a:lnTo>
                      <a:pt x="294" y="162"/>
                    </a:lnTo>
                    <a:lnTo>
                      <a:pt x="311" y="184"/>
                    </a:lnTo>
                    <a:lnTo>
                      <a:pt x="327" y="207"/>
                    </a:lnTo>
                    <a:lnTo>
                      <a:pt x="342" y="232"/>
                    </a:lnTo>
                    <a:lnTo>
                      <a:pt x="357" y="259"/>
                    </a:lnTo>
                    <a:lnTo>
                      <a:pt x="372" y="289"/>
                    </a:lnTo>
                    <a:lnTo>
                      <a:pt x="388" y="318"/>
                    </a:lnTo>
                    <a:lnTo>
                      <a:pt x="405" y="324"/>
                    </a:lnTo>
                    <a:lnTo>
                      <a:pt x="388" y="318"/>
                    </a:lnTo>
                    <a:lnTo>
                      <a:pt x="391" y="323"/>
                    </a:lnTo>
                    <a:lnTo>
                      <a:pt x="395" y="325"/>
                    </a:lnTo>
                    <a:lnTo>
                      <a:pt x="399" y="325"/>
                    </a:lnTo>
                    <a:lnTo>
                      <a:pt x="404" y="324"/>
                    </a:lnTo>
                    <a:lnTo>
                      <a:pt x="407" y="322"/>
                    </a:lnTo>
                    <a:lnTo>
                      <a:pt x="409" y="318"/>
                    </a:lnTo>
                    <a:lnTo>
                      <a:pt x="411" y="314"/>
                    </a:lnTo>
                    <a:lnTo>
                      <a:pt x="409" y="308"/>
                    </a:lnTo>
                    <a:lnTo>
                      <a:pt x="392" y="3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367160" y="3011760"/>
                <a:ext cx="88920" cy="201600"/>
              </a:xfrm>
              <a:custGeom>
                <a:avLst/>
                <a:gdLst/>
                <a:ahLst/>
                <a:rect l="l" t="t" r="r" b="b"/>
                <a:pathLst>
                  <a:path w="280" h="636">
                    <a:moveTo>
                      <a:pt x="237" y="24"/>
                    </a:moveTo>
                    <a:lnTo>
                      <a:pt x="228" y="16"/>
                    </a:lnTo>
                    <a:lnTo>
                      <a:pt x="235" y="39"/>
                    </a:lnTo>
                    <a:lnTo>
                      <a:pt x="241" y="62"/>
                    </a:lnTo>
                    <a:lnTo>
                      <a:pt x="245" y="84"/>
                    </a:lnTo>
                    <a:lnTo>
                      <a:pt x="249" y="107"/>
                    </a:lnTo>
                    <a:lnTo>
                      <a:pt x="252" y="129"/>
                    </a:lnTo>
                    <a:lnTo>
                      <a:pt x="255" y="152"/>
                    </a:lnTo>
                    <a:lnTo>
                      <a:pt x="255" y="173"/>
                    </a:lnTo>
                    <a:lnTo>
                      <a:pt x="255" y="195"/>
                    </a:lnTo>
                    <a:lnTo>
                      <a:pt x="255" y="217"/>
                    </a:lnTo>
                    <a:lnTo>
                      <a:pt x="252" y="238"/>
                    </a:lnTo>
                    <a:lnTo>
                      <a:pt x="250" y="259"/>
                    </a:lnTo>
                    <a:lnTo>
                      <a:pt x="247" y="280"/>
                    </a:lnTo>
                    <a:lnTo>
                      <a:pt x="242" y="301"/>
                    </a:lnTo>
                    <a:lnTo>
                      <a:pt x="236" y="320"/>
                    </a:lnTo>
                    <a:lnTo>
                      <a:pt x="231" y="341"/>
                    </a:lnTo>
                    <a:lnTo>
                      <a:pt x="224" y="360"/>
                    </a:lnTo>
                    <a:lnTo>
                      <a:pt x="216" y="380"/>
                    </a:lnTo>
                    <a:lnTo>
                      <a:pt x="208" y="398"/>
                    </a:lnTo>
                    <a:lnTo>
                      <a:pt x="198" y="417"/>
                    </a:lnTo>
                    <a:lnTo>
                      <a:pt x="187" y="434"/>
                    </a:lnTo>
                    <a:lnTo>
                      <a:pt x="177" y="453"/>
                    </a:lnTo>
                    <a:lnTo>
                      <a:pt x="164" y="470"/>
                    </a:lnTo>
                    <a:lnTo>
                      <a:pt x="152" y="487"/>
                    </a:lnTo>
                    <a:lnTo>
                      <a:pt x="138" y="503"/>
                    </a:lnTo>
                    <a:lnTo>
                      <a:pt x="123" y="519"/>
                    </a:lnTo>
                    <a:lnTo>
                      <a:pt x="109" y="535"/>
                    </a:lnTo>
                    <a:lnTo>
                      <a:pt x="93" y="550"/>
                    </a:lnTo>
                    <a:lnTo>
                      <a:pt x="76" y="563"/>
                    </a:lnTo>
                    <a:lnTo>
                      <a:pt x="58" y="577"/>
                    </a:lnTo>
                    <a:lnTo>
                      <a:pt x="39" y="591"/>
                    </a:lnTo>
                    <a:lnTo>
                      <a:pt x="21" y="603"/>
                    </a:lnTo>
                    <a:lnTo>
                      <a:pt x="0" y="616"/>
                    </a:lnTo>
                    <a:lnTo>
                      <a:pt x="13" y="636"/>
                    </a:lnTo>
                    <a:lnTo>
                      <a:pt x="33" y="624"/>
                    </a:lnTo>
                    <a:lnTo>
                      <a:pt x="54" y="610"/>
                    </a:lnTo>
                    <a:lnTo>
                      <a:pt x="72" y="596"/>
                    </a:lnTo>
                    <a:lnTo>
                      <a:pt x="92" y="583"/>
                    </a:lnTo>
                    <a:lnTo>
                      <a:pt x="109" y="568"/>
                    </a:lnTo>
                    <a:lnTo>
                      <a:pt x="126" y="552"/>
                    </a:lnTo>
                    <a:lnTo>
                      <a:pt x="142" y="536"/>
                    </a:lnTo>
                    <a:lnTo>
                      <a:pt x="156" y="519"/>
                    </a:lnTo>
                    <a:lnTo>
                      <a:pt x="170" y="502"/>
                    </a:lnTo>
                    <a:lnTo>
                      <a:pt x="184" y="485"/>
                    </a:lnTo>
                    <a:lnTo>
                      <a:pt x="196" y="466"/>
                    </a:lnTo>
                    <a:lnTo>
                      <a:pt x="209" y="447"/>
                    </a:lnTo>
                    <a:lnTo>
                      <a:pt x="219" y="429"/>
                    </a:lnTo>
                    <a:lnTo>
                      <a:pt x="229" y="409"/>
                    </a:lnTo>
                    <a:lnTo>
                      <a:pt x="239" y="389"/>
                    </a:lnTo>
                    <a:lnTo>
                      <a:pt x="247" y="369"/>
                    </a:lnTo>
                    <a:lnTo>
                      <a:pt x="253" y="349"/>
                    </a:lnTo>
                    <a:lnTo>
                      <a:pt x="260" y="327"/>
                    </a:lnTo>
                    <a:lnTo>
                      <a:pt x="266" y="307"/>
                    </a:lnTo>
                    <a:lnTo>
                      <a:pt x="270" y="285"/>
                    </a:lnTo>
                    <a:lnTo>
                      <a:pt x="274" y="262"/>
                    </a:lnTo>
                    <a:lnTo>
                      <a:pt x="276" y="241"/>
                    </a:lnTo>
                    <a:lnTo>
                      <a:pt x="278" y="218"/>
                    </a:lnTo>
                    <a:lnTo>
                      <a:pt x="280" y="196"/>
                    </a:lnTo>
                    <a:lnTo>
                      <a:pt x="280" y="173"/>
                    </a:lnTo>
                    <a:lnTo>
                      <a:pt x="278" y="151"/>
                    </a:lnTo>
                    <a:lnTo>
                      <a:pt x="276" y="127"/>
                    </a:lnTo>
                    <a:lnTo>
                      <a:pt x="273" y="104"/>
                    </a:lnTo>
                    <a:lnTo>
                      <a:pt x="269" y="80"/>
                    </a:lnTo>
                    <a:lnTo>
                      <a:pt x="265" y="56"/>
                    </a:lnTo>
                    <a:lnTo>
                      <a:pt x="259" y="33"/>
                    </a:lnTo>
                    <a:lnTo>
                      <a:pt x="252" y="9"/>
                    </a:lnTo>
                    <a:lnTo>
                      <a:pt x="243" y="1"/>
                    </a:lnTo>
                    <a:lnTo>
                      <a:pt x="252" y="9"/>
                    </a:lnTo>
                    <a:lnTo>
                      <a:pt x="249" y="5"/>
                    </a:lnTo>
                    <a:lnTo>
                      <a:pt x="245" y="1"/>
                    </a:lnTo>
                    <a:lnTo>
                      <a:pt x="241" y="0"/>
                    </a:lnTo>
                    <a:lnTo>
                      <a:pt x="236" y="1"/>
                    </a:lnTo>
                    <a:lnTo>
                      <a:pt x="233" y="3"/>
                    </a:lnTo>
                    <a:lnTo>
                      <a:pt x="229" y="6"/>
                    </a:lnTo>
                    <a:lnTo>
                      <a:pt x="228" y="10"/>
                    </a:lnTo>
                    <a:lnTo>
                      <a:pt x="228" y="16"/>
                    </a:lnTo>
                    <a:lnTo>
                      <a:pt x="237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238640" y="3113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4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4"/>
                    </a:lnTo>
                    <a:lnTo>
                      <a:pt x="5" y="17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240080" y="3005280"/>
                <a:ext cx="76320" cy="112680"/>
              </a:xfrm>
              <a:custGeom>
                <a:avLst/>
                <a:gdLst/>
                <a:ahLst/>
                <a:rect l="l" t="t" r="r" b="b"/>
                <a:pathLst>
                  <a:path w="237" h="353">
                    <a:moveTo>
                      <a:pt x="214" y="0"/>
                    </a:moveTo>
                    <a:lnTo>
                      <a:pt x="201" y="27"/>
                    </a:lnTo>
                    <a:lnTo>
                      <a:pt x="187" y="57"/>
                    </a:lnTo>
                    <a:lnTo>
                      <a:pt x="171" y="85"/>
                    </a:lnTo>
                    <a:lnTo>
                      <a:pt x="153" y="115"/>
                    </a:lnTo>
                    <a:lnTo>
                      <a:pt x="118" y="172"/>
                    </a:lnTo>
                    <a:lnTo>
                      <a:pt x="83" y="224"/>
                    </a:lnTo>
                    <a:lnTo>
                      <a:pt x="51" y="270"/>
                    </a:lnTo>
                    <a:lnTo>
                      <a:pt x="24" y="306"/>
                    </a:lnTo>
                    <a:lnTo>
                      <a:pt x="5" y="330"/>
                    </a:lnTo>
                    <a:lnTo>
                      <a:pt x="0" y="338"/>
                    </a:lnTo>
                    <a:lnTo>
                      <a:pt x="18" y="353"/>
                    </a:lnTo>
                    <a:lnTo>
                      <a:pt x="25" y="344"/>
                    </a:lnTo>
                    <a:lnTo>
                      <a:pt x="43" y="320"/>
                    </a:lnTo>
                    <a:lnTo>
                      <a:pt x="70" y="284"/>
                    </a:lnTo>
                    <a:lnTo>
                      <a:pt x="103" y="238"/>
                    </a:lnTo>
                    <a:lnTo>
                      <a:pt x="139" y="184"/>
                    </a:lnTo>
                    <a:lnTo>
                      <a:pt x="175" y="127"/>
                    </a:lnTo>
                    <a:lnTo>
                      <a:pt x="192" y="98"/>
                    </a:lnTo>
                    <a:lnTo>
                      <a:pt x="208" y="67"/>
                    </a:lnTo>
                    <a:lnTo>
                      <a:pt x="223" y="39"/>
                    </a:lnTo>
                    <a:lnTo>
                      <a:pt x="237" y="9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08480" y="3003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7"/>
                    </a:moveTo>
                    <a:lnTo>
                      <a:pt x="24" y="12"/>
                    </a:lnTo>
                    <a:lnTo>
                      <a:pt x="23" y="8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052880" y="3080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7" y="0"/>
                    </a:move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7" y="21"/>
                    </a:lnTo>
                    <a:lnTo>
                      <a:pt x="12" y="22"/>
                    </a:lnTo>
                    <a:lnTo>
                      <a:pt x="16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054320" y="303732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49" h="158">
                    <a:moveTo>
                      <a:pt x="54" y="24"/>
                    </a:moveTo>
                    <a:lnTo>
                      <a:pt x="71" y="27"/>
                    </a:lnTo>
                    <a:lnTo>
                      <a:pt x="87" y="31"/>
                    </a:lnTo>
                    <a:lnTo>
                      <a:pt x="98" y="34"/>
                    </a:lnTo>
                    <a:lnTo>
                      <a:pt x="108" y="37"/>
                    </a:lnTo>
                    <a:lnTo>
                      <a:pt x="115" y="42"/>
                    </a:lnTo>
                    <a:lnTo>
                      <a:pt x="121" y="45"/>
                    </a:lnTo>
                    <a:lnTo>
                      <a:pt x="123" y="49"/>
                    </a:lnTo>
                    <a:lnTo>
                      <a:pt x="124" y="51"/>
                    </a:lnTo>
                    <a:lnTo>
                      <a:pt x="124" y="52"/>
                    </a:lnTo>
                    <a:lnTo>
                      <a:pt x="124" y="55"/>
                    </a:lnTo>
                    <a:lnTo>
                      <a:pt x="123" y="58"/>
                    </a:lnTo>
                    <a:lnTo>
                      <a:pt x="121" y="63"/>
                    </a:lnTo>
                    <a:lnTo>
                      <a:pt x="117" y="67"/>
                    </a:lnTo>
                    <a:lnTo>
                      <a:pt x="113" y="72"/>
                    </a:lnTo>
                    <a:lnTo>
                      <a:pt x="107" y="76"/>
                    </a:lnTo>
                    <a:lnTo>
                      <a:pt x="101" y="82"/>
                    </a:lnTo>
                    <a:lnTo>
                      <a:pt x="87" y="92"/>
                    </a:lnTo>
                    <a:lnTo>
                      <a:pt x="69" y="102"/>
                    </a:lnTo>
                    <a:lnTo>
                      <a:pt x="54" y="112"/>
                    </a:lnTo>
                    <a:lnTo>
                      <a:pt x="36" y="120"/>
                    </a:lnTo>
                    <a:lnTo>
                      <a:pt x="10" y="132"/>
                    </a:lnTo>
                    <a:lnTo>
                      <a:pt x="0" y="137"/>
                    </a:lnTo>
                    <a:lnTo>
                      <a:pt x="9" y="158"/>
                    </a:lnTo>
                    <a:lnTo>
                      <a:pt x="20" y="154"/>
                    </a:lnTo>
                    <a:lnTo>
                      <a:pt x="48" y="141"/>
                    </a:lnTo>
                    <a:lnTo>
                      <a:pt x="65" y="133"/>
                    </a:lnTo>
                    <a:lnTo>
                      <a:pt x="82" y="123"/>
                    </a:lnTo>
                    <a:lnTo>
                      <a:pt x="99" y="113"/>
                    </a:lnTo>
                    <a:lnTo>
                      <a:pt x="116" y="101"/>
                    </a:lnTo>
                    <a:lnTo>
                      <a:pt x="123" y="94"/>
                    </a:lnTo>
                    <a:lnTo>
                      <a:pt x="130" y="89"/>
                    </a:lnTo>
                    <a:lnTo>
                      <a:pt x="137" y="82"/>
                    </a:lnTo>
                    <a:lnTo>
                      <a:pt x="141" y="75"/>
                    </a:lnTo>
                    <a:lnTo>
                      <a:pt x="146" y="68"/>
                    </a:lnTo>
                    <a:lnTo>
                      <a:pt x="148" y="60"/>
                    </a:lnTo>
                    <a:lnTo>
                      <a:pt x="149" y="51"/>
                    </a:lnTo>
                    <a:lnTo>
                      <a:pt x="147" y="42"/>
                    </a:lnTo>
                    <a:lnTo>
                      <a:pt x="142" y="34"/>
                    </a:lnTo>
                    <a:lnTo>
                      <a:pt x="137" y="27"/>
                    </a:lnTo>
                    <a:lnTo>
                      <a:pt x="128" y="21"/>
                    </a:lnTo>
                    <a:lnTo>
                      <a:pt x="118" y="16"/>
                    </a:lnTo>
                    <a:lnTo>
                      <a:pt x="106" y="11"/>
                    </a:lnTo>
                    <a:lnTo>
                      <a:pt x="92" y="7"/>
                    </a:lnTo>
                    <a:lnTo>
                      <a:pt x="75" y="3"/>
                    </a:lnTo>
                    <a:lnTo>
                      <a:pt x="57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068720" y="3037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14" y="0"/>
                    </a:moveTo>
                    <a:lnTo>
                      <a:pt x="8" y="1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029120" y="2924280"/>
                <a:ext cx="77760" cy="5112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0" y="147"/>
                    </a:moveTo>
                    <a:lnTo>
                      <a:pt x="7" y="132"/>
                    </a:lnTo>
                    <a:lnTo>
                      <a:pt x="15" y="114"/>
                    </a:lnTo>
                    <a:lnTo>
                      <a:pt x="25" y="100"/>
                    </a:lnTo>
                    <a:lnTo>
                      <a:pt x="36" y="85"/>
                    </a:lnTo>
                    <a:lnTo>
                      <a:pt x="49" y="72"/>
                    </a:lnTo>
                    <a:lnTo>
                      <a:pt x="64" y="60"/>
                    </a:lnTo>
                    <a:lnTo>
                      <a:pt x="78" y="47"/>
                    </a:lnTo>
                    <a:lnTo>
                      <a:pt x="94" y="37"/>
                    </a:lnTo>
                    <a:lnTo>
                      <a:pt x="111" y="28"/>
                    </a:lnTo>
                    <a:lnTo>
                      <a:pt x="130" y="20"/>
                    </a:lnTo>
                    <a:lnTo>
                      <a:pt x="148" y="13"/>
                    </a:lnTo>
                    <a:lnTo>
                      <a:pt x="167" y="8"/>
                    </a:lnTo>
                    <a:lnTo>
                      <a:pt x="187" y="4"/>
                    </a:lnTo>
                    <a:lnTo>
                      <a:pt x="206" y="2"/>
                    </a:lnTo>
                    <a:lnTo>
                      <a:pt x="225" y="0"/>
                    </a:lnTo>
                    <a:lnTo>
                      <a:pt x="246" y="0"/>
                    </a:lnTo>
                    <a:lnTo>
                      <a:pt x="235" y="23"/>
                    </a:lnTo>
                    <a:lnTo>
                      <a:pt x="223" y="45"/>
                    </a:lnTo>
                    <a:lnTo>
                      <a:pt x="212" y="65"/>
                    </a:lnTo>
                    <a:lnTo>
                      <a:pt x="199" y="84"/>
                    </a:lnTo>
                    <a:lnTo>
                      <a:pt x="186" y="101"/>
                    </a:lnTo>
                    <a:lnTo>
                      <a:pt x="172" y="116"/>
                    </a:lnTo>
                    <a:lnTo>
                      <a:pt x="158" y="128"/>
                    </a:lnTo>
                    <a:lnTo>
                      <a:pt x="142" y="140"/>
                    </a:lnTo>
                    <a:lnTo>
                      <a:pt x="127" y="149"/>
                    </a:lnTo>
                    <a:lnTo>
                      <a:pt x="110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1"/>
                    </a:lnTo>
                    <a:lnTo>
                      <a:pt x="76" y="162"/>
                    </a:lnTo>
                    <a:lnTo>
                      <a:pt x="67" y="162"/>
                    </a:lnTo>
                    <a:lnTo>
                      <a:pt x="58" y="162"/>
                    </a:lnTo>
                    <a:lnTo>
                      <a:pt x="49" y="161"/>
                    </a:lnTo>
                    <a:lnTo>
                      <a:pt x="40" y="160"/>
                    </a:lnTo>
                    <a:lnTo>
                      <a:pt x="29" y="158"/>
                    </a:lnTo>
                    <a:lnTo>
                      <a:pt x="19" y="155"/>
                    </a:lnTo>
                    <a:lnTo>
                      <a:pt x="10" y="152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024440" y="2921400"/>
                <a:ext cx="85680" cy="50760"/>
              </a:xfrm>
              <a:custGeom>
                <a:avLst/>
                <a:gdLst/>
                <a:ahLst/>
                <a:rect l="l" t="t" r="r" b="b"/>
                <a:pathLst>
                  <a:path w="269" h="164">
                    <a:moveTo>
                      <a:pt x="268" y="17"/>
                    </a:moveTo>
                    <a:lnTo>
                      <a:pt x="258" y="1"/>
                    </a:lnTo>
                    <a:lnTo>
                      <a:pt x="237" y="0"/>
                    </a:lnTo>
                    <a:lnTo>
                      <a:pt x="217" y="1"/>
                    </a:lnTo>
                    <a:lnTo>
                      <a:pt x="196" y="4"/>
                    </a:lnTo>
                    <a:lnTo>
                      <a:pt x="176" y="8"/>
                    </a:lnTo>
                    <a:lnTo>
                      <a:pt x="157" y="14"/>
                    </a:lnTo>
                    <a:lnTo>
                      <a:pt x="137" y="20"/>
                    </a:lnTo>
                    <a:lnTo>
                      <a:pt x="118" y="30"/>
                    </a:lnTo>
                    <a:lnTo>
                      <a:pt x="101" y="39"/>
                    </a:lnTo>
                    <a:lnTo>
                      <a:pt x="84" y="50"/>
                    </a:lnTo>
                    <a:lnTo>
                      <a:pt x="68" y="61"/>
                    </a:lnTo>
                    <a:lnTo>
                      <a:pt x="53" y="75"/>
                    </a:lnTo>
                    <a:lnTo>
                      <a:pt x="39" y="89"/>
                    </a:lnTo>
                    <a:lnTo>
                      <a:pt x="27" y="105"/>
                    </a:lnTo>
                    <a:lnTo>
                      <a:pt x="16" y="121"/>
                    </a:lnTo>
                    <a:lnTo>
                      <a:pt x="7" y="138"/>
                    </a:lnTo>
                    <a:lnTo>
                      <a:pt x="0" y="156"/>
                    </a:lnTo>
                    <a:lnTo>
                      <a:pt x="23" y="164"/>
                    </a:lnTo>
                    <a:lnTo>
                      <a:pt x="29" y="148"/>
                    </a:lnTo>
                    <a:lnTo>
                      <a:pt x="37" y="133"/>
                    </a:lnTo>
                    <a:lnTo>
                      <a:pt x="47" y="118"/>
                    </a:lnTo>
                    <a:lnTo>
                      <a:pt x="57" y="105"/>
                    </a:lnTo>
                    <a:lnTo>
                      <a:pt x="70" y="92"/>
                    </a:lnTo>
                    <a:lnTo>
                      <a:pt x="82" y="81"/>
                    </a:lnTo>
                    <a:lnTo>
                      <a:pt x="97" y="69"/>
                    </a:lnTo>
                    <a:lnTo>
                      <a:pt x="113" y="59"/>
                    </a:lnTo>
                    <a:lnTo>
                      <a:pt x="129" y="51"/>
                    </a:lnTo>
                    <a:lnTo>
                      <a:pt x="146" y="43"/>
                    </a:lnTo>
                    <a:lnTo>
                      <a:pt x="163" y="36"/>
                    </a:lnTo>
                    <a:lnTo>
                      <a:pt x="182" y="32"/>
                    </a:lnTo>
                    <a:lnTo>
                      <a:pt x="200" y="27"/>
                    </a:lnTo>
                    <a:lnTo>
                      <a:pt x="219" y="25"/>
                    </a:lnTo>
                    <a:lnTo>
                      <a:pt x="237" y="24"/>
                    </a:lnTo>
                    <a:lnTo>
                      <a:pt x="257" y="25"/>
                    </a:lnTo>
                    <a:lnTo>
                      <a:pt x="247" y="8"/>
                    </a:lnTo>
                    <a:lnTo>
                      <a:pt x="257" y="25"/>
                    </a:lnTo>
                    <a:lnTo>
                      <a:pt x="262" y="24"/>
                    </a:lnTo>
                    <a:lnTo>
                      <a:pt x="266" y="22"/>
                    </a:lnTo>
                    <a:lnTo>
                      <a:pt x="268" y="18"/>
                    </a:lnTo>
                    <a:lnTo>
                      <a:pt x="269" y="14"/>
                    </a:lnTo>
                    <a:lnTo>
                      <a:pt x="269" y="9"/>
                    </a:lnTo>
                    <a:lnTo>
                      <a:pt x="267" y="4"/>
                    </a:lnTo>
                    <a:lnTo>
                      <a:pt x="264" y="2"/>
                    </a:lnTo>
                    <a:lnTo>
                      <a:pt x="258" y="1"/>
                    </a:lnTo>
                    <a:lnTo>
                      <a:pt x="268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024440" y="2922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269" h="179">
                    <a:moveTo>
                      <a:pt x="1" y="148"/>
                    </a:moveTo>
                    <a:lnTo>
                      <a:pt x="8" y="163"/>
                    </a:lnTo>
                    <a:lnTo>
                      <a:pt x="18" y="167"/>
                    </a:lnTo>
                    <a:lnTo>
                      <a:pt x="29" y="171"/>
                    </a:lnTo>
                    <a:lnTo>
                      <a:pt x="40" y="174"/>
                    </a:lnTo>
                    <a:lnTo>
                      <a:pt x="50" y="177"/>
                    </a:lnTo>
                    <a:lnTo>
                      <a:pt x="61" y="178"/>
                    </a:lnTo>
                    <a:lnTo>
                      <a:pt x="70" y="179"/>
                    </a:lnTo>
                    <a:lnTo>
                      <a:pt x="80" y="179"/>
                    </a:lnTo>
                    <a:lnTo>
                      <a:pt x="90" y="179"/>
                    </a:lnTo>
                    <a:lnTo>
                      <a:pt x="99" y="178"/>
                    </a:lnTo>
                    <a:lnTo>
                      <a:pt x="110" y="175"/>
                    </a:lnTo>
                    <a:lnTo>
                      <a:pt x="119" y="173"/>
                    </a:lnTo>
                    <a:lnTo>
                      <a:pt x="128" y="171"/>
                    </a:lnTo>
                    <a:lnTo>
                      <a:pt x="145" y="163"/>
                    </a:lnTo>
                    <a:lnTo>
                      <a:pt x="162" y="154"/>
                    </a:lnTo>
                    <a:lnTo>
                      <a:pt x="178" y="141"/>
                    </a:lnTo>
                    <a:lnTo>
                      <a:pt x="194" y="128"/>
                    </a:lnTo>
                    <a:lnTo>
                      <a:pt x="208" y="112"/>
                    </a:lnTo>
                    <a:lnTo>
                      <a:pt x="221" y="94"/>
                    </a:lnTo>
                    <a:lnTo>
                      <a:pt x="235" y="76"/>
                    </a:lnTo>
                    <a:lnTo>
                      <a:pt x="248" y="55"/>
                    </a:lnTo>
                    <a:lnTo>
                      <a:pt x="259" y="33"/>
                    </a:lnTo>
                    <a:lnTo>
                      <a:pt x="269" y="9"/>
                    </a:lnTo>
                    <a:lnTo>
                      <a:pt x="248" y="0"/>
                    </a:lnTo>
                    <a:lnTo>
                      <a:pt x="237" y="23"/>
                    </a:lnTo>
                    <a:lnTo>
                      <a:pt x="226" y="43"/>
                    </a:lnTo>
                    <a:lnTo>
                      <a:pt x="214" y="63"/>
                    </a:lnTo>
                    <a:lnTo>
                      <a:pt x="202" y="81"/>
                    </a:lnTo>
                    <a:lnTo>
                      <a:pt x="189" y="97"/>
                    </a:lnTo>
                    <a:lnTo>
                      <a:pt x="177" y="110"/>
                    </a:lnTo>
                    <a:lnTo>
                      <a:pt x="163" y="123"/>
                    </a:lnTo>
                    <a:lnTo>
                      <a:pt x="150" y="133"/>
                    </a:lnTo>
                    <a:lnTo>
                      <a:pt x="135" y="141"/>
                    </a:lnTo>
                    <a:lnTo>
                      <a:pt x="120" y="148"/>
                    </a:lnTo>
                    <a:lnTo>
                      <a:pt x="112" y="150"/>
                    </a:lnTo>
                    <a:lnTo>
                      <a:pt x="104" y="153"/>
                    </a:lnTo>
                    <a:lnTo>
                      <a:pt x="96" y="154"/>
                    </a:lnTo>
                    <a:lnTo>
                      <a:pt x="88" y="155"/>
                    </a:lnTo>
                    <a:lnTo>
                      <a:pt x="80" y="155"/>
                    </a:lnTo>
                    <a:lnTo>
                      <a:pt x="72" y="155"/>
                    </a:lnTo>
                    <a:lnTo>
                      <a:pt x="63" y="154"/>
                    </a:lnTo>
                    <a:lnTo>
                      <a:pt x="54" y="153"/>
                    </a:lnTo>
                    <a:lnTo>
                      <a:pt x="46" y="150"/>
                    </a:lnTo>
                    <a:lnTo>
                      <a:pt x="37" y="148"/>
                    </a:lnTo>
                    <a:lnTo>
                      <a:pt x="26" y="145"/>
                    </a:lnTo>
                    <a:lnTo>
                      <a:pt x="17" y="141"/>
                    </a:lnTo>
                    <a:lnTo>
                      <a:pt x="24" y="156"/>
                    </a:lnTo>
                    <a:lnTo>
                      <a:pt x="17" y="141"/>
                    </a:lnTo>
                    <a:lnTo>
                      <a:pt x="12" y="140"/>
                    </a:lnTo>
                    <a:lnTo>
                      <a:pt x="7" y="141"/>
                    </a:lnTo>
                    <a:lnTo>
                      <a:pt x="4" y="144"/>
                    </a:lnTo>
                    <a:lnTo>
                      <a:pt x="1" y="147"/>
                    </a:lnTo>
                    <a:lnTo>
                      <a:pt x="0" y="151"/>
                    </a:lnTo>
                    <a:lnTo>
                      <a:pt x="1" y="156"/>
                    </a:lnTo>
                    <a:lnTo>
                      <a:pt x="4" y="159"/>
                    </a:lnTo>
                    <a:lnTo>
                      <a:pt x="8" y="163"/>
                    </a:lnTo>
                    <a:lnTo>
                      <a:pt x="1" y="1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064040" y="3099240"/>
                <a:ext cx="74520" cy="39600"/>
              </a:xfrm>
              <a:custGeom>
                <a:avLst/>
                <a:gdLst/>
                <a:ahLst/>
                <a:rect l="l" t="t" r="r" b="b"/>
                <a:pathLst>
                  <a:path w="234" h="123">
                    <a:moveTo>
                      <a:pt x="6" y="55"/>
                    </a:moveTo>
                    <a:lnTo>
                      <a:pt x="3" y="62"/>
                    </a:lnTo>
                    <a:lnTo>
                      <a:pt x="1" y="67"/>
                    </a:lnTo>
                    <a:lnTo>
                      <a:pt x="0" y="73"/>
                    </a:lnTo>
                    <a:lnTo>
                      <a:pt x="0" y="78"/>
                    </a:lnTo>
                    <a:lnTo>
                      <a:pt x="1" y="82"/>
                    </a:lnTo>
                    <a:lnTo>
                      <a:pt x="2" y="87"/>
                    </a:lnTo>
                    <a:lnTo>
                      <a:pt x="5" y="91"/>
                    </a:lnTo>
                    <a:lnTo>
                      <a:pt x="9" y="95"/>
                    </a:lnTo>
                    <a:lnTo>
                      <a:pt x="18" y="102"/>
                    </a:lnTo>
                    <a:lnTo>
                      <a:pt x="30" y="108"/>
                    </a:lnTo>
                    <a:lnTo>
                      <a:pt x="46" y="115"/>
                    </a:lnTo>
                    <a:lnTo>
                      <a:pt x="65" y="123"/>
                    </a:lnTo>
                    <a:lnTo>
                      <a:pt x="94" y="105"/>
                    </a:lnTo>
                    <a:lnTo>
                      <a:pt x="117" y="88"/>
                    </a:lnTo>
                    <a:lnTo>
                      <a:pt x="134" y="74"/>
                    </a:lnTo>
                    <a:lnTo>
                      <a:pt x="149" y="60"/>
                    </a:lnTo>
                    <a:lnTo>
                      <a:pt x="165" y="48"/>
                    </a:lnTo>
                    <a:lnTo>
                      <a:pt x="182" y="34"/>
                    </a:lnTo>
                    <a:lnTo>
                      <a:pt x="205" y="18"/>
                    </a:lnTo>
                    <a:lnTo>
                      <a:pt x="234" y="0"/>
                    </a:lnTo>
                    <a:lnTo>
                      <a:pt x="214" y="9"/>
                    </a:lnTo>
                    <a:lnTo>
                      <a:pt x="196" y="16"/>
                    </a:lnTo>
                    <a:lnTo>
                      <a:pt x="179" y="21"/>
                    </a:lnTo>
                    <a:lnTo>
                      <a:pt x="163" y="23"/>
                    </a:lnTo>
                    <a:lnTo>
                      <a:pt x="149" y="25"/>
                    </a:lnTo>
                    <a:lnTo>
                      <a:pt x="135" y="25"/>
                    </a:lnTo>
                    <a:lnTo>
                      <a:pt x="123" y="25"/>
                    </a:lnTo>
                    <a:lnTo>
                      <a:pt x="110" y="24"/>
                    </a:lnTo>
                    <a:lnTo>
                      <a:pt x="99" y="24"/>
                    </a:lnTo>
                    <a:lnTo>
                      <a:pt x="87" y="24"/>
                    </a:lnTo>
                    <a:lnTo>
                      <a:pt x="75" y="24"/>
                    </a:lnTo>
                    <a:lnTo>
                      <a:pt x="63" y="26"/>
                    </a:lnTo>
                    <a:lnTo>
                      <a:pt x="50" y="30"/>
                    </a:lnTo>
                    <a:lnTo>
                      <a:pt x="36" y="35"/>
                    </a:lnTo>
                    <a:lnTo>
                      <a:pt x="22" y="43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060800" y="31150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90" h="87">
                    <a:moveTo>
                      <a:pt x="72" y="64"/>
                    </a:moveTo>
                    <a:lnTo>
                      <a:pt x="82" y="63"/>
                    </a:lnTo>
                    <a:lnTo>
                      <a:pt x="64" y="56"/>
                    </a:lnTo>
                    <a:lnTo>
                      <a:pt x="49" y="49"/>
                    </a:lnTo>
                    <a:lnTo>
                      <a:pt x="37" y="42"/>
                    </a:lnTo>
                    <a:lnTo>
                      <a:pt x="29" y="37"/>
                    </a:lnTo>
                    <a:lnTo>
                      <a:pt x="27" y="34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2"/>
                    </a:lnTo>
                    <a:lnTo>
                      <a:pt x="27" y="16"/>
                    </a:lnTo>
                    <a:lnTo>
                      <a:pt x="30" y="10"/>
                    </a:lnTo>
                    <a:lnTo>
                      <a:pt x="8" y="0"/>
                    </a:lnTo>
                    <a:lnTo>
                      <a:pt x="5" y="8"/>
                    </a:lnTo>
                    <a:lnTo>
                      <a:pt x="2" y="15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2" y="37"/>
                    </a:lnTo>
                    <a:lnTo>
                      <a:pt x="5" y="43"/>
                    </a:lnTo>
                    <a:lnTo>
                      <a:pt x="8" y="49"/>
                    </a:lnTo>
                    <a:lnTo>
                      <a:pt x="14" y="55"/>
                    </a:lnTo>
                    <a:lnTo>
                      <a:pt x="24" y="63"/>
                    </a:lnTo>
                    <a:lnTo>
                      <a:pt x="38" y="71"/>
                    </a:lnTo>
                    <a:lnTo>
                      <a:pt x="55" y="78"/>
                    </a:lnTo>
                    <a:lnTo>
                      <a:pt x="73" y="86"/>
                    </a:lnTo>
                    <a:lnTo>
                      <a:pt x="84" y="84"/>
                    </a:lnTo>
                    <a:lnTo>
                      <a:pt x="73" y="86"/>
                    </a:lnTo>
                    <a:lnTo>
                      <a:pt x="79" y="87"/>
                    </a:lnTo>
                    <a:lnTo>
                      <a:pt x="83" y="86"/>
                    </a:lnTo>
                    <a:lnTo>
                      <a:pt x="87" y="83"/>
                    </a:lnTo>
                    <a:lnTo>
                      <a:pt x="89" y="79"/>
                    </a:lnTo>
                    <a:lnTo>
                      <a:pt x="90" y="75"/>
                    </a:lnTo>
                    <a:lnTo>
                      <a:pt x="90" y="71"/>
                    </a:lnTo>
                    <a:lnTo>
                      <a:pt x="87" y="66"/>
                    </a:lnTo>
                    <a:lnTo>
                      <a:pt x="82" y="63"/>
                    </a:lnTo>
                    <a:lnTo>
                      <a:pt x="72" y="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083120" y="30960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88" h="144">
                    <a:moveTo>
                      <a:pt x="181" y="22"/>
                    </a:moveTo>
                    <a:lnTo>
                      <a:pt x="170" y="1"/>
                    </a:lnTo>
                    <a:lnTo>
                      <a:pt x="139" y="19"/>
                    </a:lnTo>
                    <a:lnTo>
                      <a:pt x="116" y="35"/>
                    </a:lnTo>
                    <a:lnTo>
                      <a:pt x="98" y="50"/>
                    </a:lnTo>
                    <a:lnTo>
                      <a:pt x="82" y="62"/>
                    </a:lnTo>
                    <a:lnTo>
                      <a:pt x="67" y="76"/>
                    </a:lnTo>
                    <a:lnTo>
                      <a:pt x="50" y="90"/>
                    </a:lnTo>
                    <a:lnTo>
                      <a:pt x="28" y="106"/>
                    </a:lnTo>
                    <a:lnTo>
                      <a:pt x="0" y="124"/>
                    </a:lnTo>
                    <a:lnTo>
                      <a:pt x="12" y="144"/>
                    </a:lnTo>
                    <a:lnTo>
                      <a:pt x="42" y="125"/>
                    </a:lnTo>
                    <a:lnTo>
                      <a:pt x="65" y="109"/>
                    </a:lnTo>
                    <a:lnTo>
                      <a:pt x="83" y="94"/>
                    </a:lnTo>
                    <a:lnTo>
                      <a:pt x="98" y="81"/>
                    </a:lnTo>
                    <a:lnTo>
                      <a:pt x="113" y="68"/>
                    </a:lnTo>
                    <a:lnTo>
                      <a:pt x="130" y="54"/>
                    </a:lnTo>
                    <a:lnTo>
                      <a:pt x="153" y="40"/>
                    </a:lnTo>
                    <a:lnTo>
                      <a:pt x="181" y="22"/>
                    </a:lnTo>
                    <a:lnTo>
                      <a:pt x="171" y="1"/>
                    </a:lnTo>
                    <a:lnTo>
                      <a:pt x="181" y="22"/>
                    </a:lnTo>
                    <a:lnTo>
                      <a:pt x="186" y="19"/>
                    </a:lnTo>
                    <a:lnTo>
                      <a:pt x="188" y="14"/>
                    </a:lnTo>
                    <a:lnTo>
                      <a:pt x="188" y="10"/>
                    </a:lnTo>
                    <a:lnTo>
                      <a:pt x="186" y="5"/>
                    </a:lnTo>
                    <a:lnTo>
                      <a:pt x="183" y="2"/>
                    </a:lnTo>
                    <a:lnTo>
                      <a:pt x="180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8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062240" y="3096000"/>
                <a:ext cx="78120" cy="23760"/>
              </a:xfrm>
              <a:custGeom>
                <a:avLst/>
                <a:gdLst/>
                <a:ahLst/>
                <a:rect l="l" t="t" r="r" b="b"/>
                <a:pathLst>
                  <a:path w="246" h="76">
                    <a:moveTo>
                      <a:pt x="23" y="69"/>
                    </a:moveTo>
                    <a:lnTo>
                      <a:pt x="19" y="74"/>
                    </a:lnTo>
                    <a:lnTo>
                      <a:pt x="34" y="64"/>
                    </a:lnTo>
                    <a:lnTo>
                      <a:pt x="48" y="57"/>
                    </a:lnTo>
                    <a:lnTo>
                      <a:pt x="60" y="51"/>
                    </a:lnTo>
                    <a:lnTo>
                      <a:pt x="72" y="49"/>
                    </a:lnTo>
                    <a:lnTo>
                      <a:pt x="83" y="47"/>
                    </a:lnTo>
                    <a:lnTo>
                      <a:pt x="93" y="45"/>
                    </a:lnTo>
                    <a:lnTo>
                      <a:pt x="105" y="45"/>
                    </a:lnTo>
                    <a:lnTo>
                      <a:pt x="116" y="47"/>
                    </a:lnTo>
                    <a:lnTo>
                      <a:pt x="129" y="47"/>
                    </a:lnTo>
                    <a:lnTo>
                      <a:pt x="141" y="48"/>
                    </a:lnTo>
                    <a:lnTo>
                      <a:pt x="156" y="47"/>
                    </a:lnTo>
                    <a:lnTo>
                      <a:pt x="171" y="45"/>
                    </a:lnTo>
                    <a:lnTo>
                      <a:pt x="187" y="42"/>
                    </a:lnTo>
                    <a:lnTo>
                      <a:pt x="205" y="37"/>
                    </a:lnTo>
                    <a:lnTo>
                      <a:pt x="224" y="31"/>
                    </a:lnTo>
                    <a:lnTo>
                      <a:pt x="246" y="21"/>
                    </a:lnTo>
                    <a:lnTo>
                      <a:pt x="236" y="0"/>
                    </a:lnTo>
                    <a:lnTo>
                      <a:pt x="215" y="8"/>
                    </a:lnTo>
                    <a:lnTo>
                      <a:pt x="198" y="15"/>
                    </a:lnTo>
                    <a:lnTo>
                      <a:pt x="182" y="19"/>
                    </a:lnTo>
                    <a:lnTo>
                      <a:pt x="167" y="21"/>
                    </a:lnTo>
                    <a:lnTo>
                      <a:pt x="154" y="23"/>
                    </a:lnTo>
                    <a:lnTo>
                      <a:pt x="141" y="23"/>
                    </a:lnTo>
                    <a:lnTo>
                      <a:pt x="129" y="23"/>
                    </a:lnTo>
                    <a:lnTo>
                      <a:pt x="117" y="23"/>
                    </a:lnTo>
                    <a:lnTo>
                      <a:pt x="105" y="21"/>
                    </a:lnTo>
                    <a:lnTo>
                      <a:pt x="92" y="21"/>
                    </a:lnTo>
                    <a:lnTo>
                      <a:pt x="80" y="23"/>
                    </a:lnTo>
                    <a:lnTo>
                      <a:pt x="66" y="25"/>
                    </a:lnTo>
                    <a:lnTo>
                      <a:pt x="52" y="28"/>
                    </a:lnTo>
                    <a:lnTo>
                      <a:pt x="38" y="35"/>
                    </a:lnTo>
                    <a:lnTo>
                      <a:pt x="22" y="43"/>
                    </a:lnTo>
                    <a:lnTo>
                      <a:pt x="4" y="55"/>
                    </a:lnTo>
                    <a:lnTo>
                      <a:pt x="1" y="59"/>
                    </a:lnTo>
                    <a:lnTo>
                      <a:pt x="4" y="55"/>
                    </a:lnTo>
                    <a:lnTo>
                      <a:pt x="1" y="58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2"/>
                    </a:lnTo>
                    <a:lnTo>
                      <a:pt x="6" y="75"/>
                    </a:lnTo>
                    <a:lnTo>
                      <a:pt x="10" y="76"/>
                    </a:lnTo>
                    <a:lnTo>
                      <a:pt x="15" y="76"/>
                    </a:lnTo>
                    <a:lnTo>
                      <a:pt x="19" y="74"/>
                    </a:lnTo>
                    <a:lnTo>
                      <a:pt x="23" y="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083120" y="30992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77" h="186">
                    <a:moveTo>
                      <a:pt x="6" y="133"/>
                    </a:moveTo>
                    <a:lnTo>
                      <a:pt x="3" y="140"/>
                    </a:lnTo>
                    <a:lnTo>
                      <a:pt x="1" y="146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59"/>
                    </a:lnTo>
                    <a:lnTo>
                      <a:pt x="3" y="161"/>
                    </a:lnTo>
                    <a:lnTo>
                      <a:pt x="5" y="163"/>
                    </a:lnTo>
                    <a:lnTo>
                      <a:pt x="10" y="165"/>
                    </a:lnTo>
                    <a:lnTo>
                      <a:pt x="19" y="169"/>
                    </a:lnTo>
                    <a:lnTo>
                      <a:pt x="33" y="173"/>
                    </a:lnTo>
                    <a:lnTo>
                      <a:pt x="50" y="178"/>
                    </a:lnTo>
                    <a:lnTo>
                      <a:pt x="69" y="186"/>
                    </a:lnTo>
                    <a:lnTo>
                      <a:pt x="79" y="181"/>
                    </a:lnTo>
                    <a:lnTo>
                      <a:pt x="88" y="177"/>
                    </a:lnTo>
                    <a:lnTo>
                      <a:pt x="96" y="171"/>
                    </a:lnTo>
                    <a:lnTo>
                      <a:pt x="104" y="166"/>
                    </a:lnTo>
                    <a:lnTo>
                      <a:pt x="110" y="162"/>
                    </a:lnTo>
                    <a:lnTo>
                      <a:pt x="116" y="156"/>
                    </a:lnTo>
                    <a:lnTo>
                      <a:pt x="122" y="151"/>
                    </a:lnTo>
                    <a:lnTo>
                      <a:pt x="125" y="145"/>
                    </a:lnTo>
                    <a:lnTo>
                      <a:pt x="132" y="133"/>
                    </a:lnTo>
                    <a:lnTo>
                      <a:pt x="136" y="122"/>
                    </a:lnTo>
                    <a:lnTo>
                      <a:pt x="140" y="111"/>
                    </a:lnTo>
                    <a:lnTo>
                      <a:pt x="142" y="98"/>
                    </a:lnTo>
                    <a:lnTo>
                      <a:pt x="144" y="74"/>
                    </a:lnTo>
                    <a:lnTo>
                      <a:pt x="149" y="49"/>
                    </a:lnTo>
                    <a:lnTo>
                      <a:pt x="153" y="37"/>
                    </a:lnTo>
                    <a:lnTo>
                      <a:pt x="159" y="24"/>
                    </a:lnTo>
                    <a:lnTo>
                      <a:pt x="163" y="18"/>
                    </a:lnTo>
                    <a:lnTo>
                      <a:pt x="167" y="13"/>
                    </a:lnTo>
                    <a:lnTo>
                      <a:pt x="172" y="7"/>
                    </a:lnTo>
                    <a:lnTo>
                      <a:pt x="177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7" y="27"/>
                    </a:lnTo>
                    <a:lnTo>
                      <a:pt x="115" y="35"/>
                    </a:lnTo>
                    <a:lnTo>
                      <a:pt x="106" y="43"/>
                    </a:lnTo>
                    <a:lnTo>
                      <a:pt x="96" y="50"/>
                    </a:lnTo>
                    <a:lnTo>
                      <a:pt x="88" y="57"/>
                    </a:lnTo>
                    <a:lnTo>
                      <a:pt x="82" y="64"/>
                    </a:lnTo>
                    <a:lnTo>
                      <a:pt x="69" y="79"/>
                    </a:lnTo>
                    <a:lnTo>
                      <a:pt x="54" y="94"/>
                    </a:lnTo>
                    <a:lnTo>
                      <a:pt x="45" y="103"/>
                    </a:lnTo>
                    <a:lnTo>
                      <a:pt x="34" y="112"/>
                    </a:lnTo>
                    <a:lnTo>
                      <a:pt x="21" y="122"/>
                    </a:lnTo>
                    <a:lnTo>
                      <a:pt x="6" y="133"/>
                    </a:lnTo>
                    <a:close/>
                  </a:path>
                </a:pathLst>
              </a:custGeom>
              <a:solidFill>
                <a:srgbClr val="8357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078440" y="31402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92" h="69">
                    <a:moveTo>
                      <a:pt x="75" y="45"/>
                    </a:moveTo>
                    <a:lnTo>
                      <a:pt x="86" y="45"/>
                    </a:lnTo>
                    <a:lnTo>
                      <a:pt x="65" y="37"/>
                    </a:lnTo>
                    <a:lnTo>
                      <a:pt x="48" y="32"/>
                    </a:lnTo>
                    <a:lnTo>
                      <a:pt x="36" y="28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6" y="16"/>
                    </a:lnTo>
                    <a:lnTo>
                      <a:pt x="29" y="1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2" y="44"/>
                    </a:lnTo>
                    <a:lnTo>
                      <a:pt x="17" y="48"/>
                    </a:lnTo>
                    <a:lnTo>
                      <a:pt x="28" y="51"/>
                    </a:lnTo>
                    <a:lnTo>
                      <a:pt x="41" y="56"/>
                    </a:lnTo>
                    <a:lnTo>
                      <a:pt x="57" y="60"/>
                    </a:lnTo>
                    <a:lnTo>
                      <a:pt x="75" y="68"/>
                    </a:lnTo>
                    <a:lnTo>
                      <a:pt x="86" y="68"/>
                    </a:lnTo>
                    <a:lnTo>
                      <a:pt x="75" y="68"/>
                    </a:lnTo>
                    <a:lnTo>
                      <a:pt x="81" y="69"/>
                    </a:lnTo>
                    <a:lnTo>
                      <a:pt x="86" y="68"/>
                    </a:lnTo>
                    <a:lnTo>
                      <a:pt x="89" y="66"/>
                    </a:lnTo>
                    <a:lnTo>
                      <a:pt x="91" y="61"/>
                    </a:lnTo>
                    <a:lnTo>
                      <a:pt x="92" y="57"/>
                    </a:lnTo>
                    <a:lnTo>
                      <a:pt x="92" y="53"/>
                    </a:lnTo>
                    <a:lnTo>
                      <a:pt x="90" y="49"/>
                    </a:lnTo>
                    <a:lnTo>
                      <a:pt x="86" y="45"/>
                    </a:lnTo>
                    <a:lnTo>
                      <a:pt x="75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102200" y="309600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27" h="208">
                    <a:moveTo>
                      <a:pt x="120" y="22"/>
                    </a:moveTo>
                    <a:lnTo>
                      <a:pt x="106" y="3"/>
                    </a:lnTo>
                    <a:lnTo>
                      <a:pt x="100" y="9"/>
                    </a:lnTo>
                    <a:lnTo>
                      <a:pt x="94" y="16"/>
                    </a:lnTo>
                    <a:lnTo>
                      <a:pt x="89" y="22"/>
                    </a:lnTo>
                    <a:lnTo>
                      <a:pt x="85" y="30"/>
                    </a:lnTo>
                    <a:lnTo>
                      <a:pt x="79" y="43"/>
                    </a:lnTo>
                    <a:lnTo>
                      <a:pt x="74" y="58"/>
                    </a:lnTo>
                    <a:lnTo>
                      <a:pt x="70" y="83"/>
                    </a:lnTo>
                    <a:lnTo>
                      <a:pt x="66" y="108"/>
                    </a:lnTo>
                    <a:lnTo>
                      <a:pt x="65" y="119"/>
                    </a:lnTo>
                    <a:lnTo>
                      <a:pt x="62" y="130"/>
                    </a:lnTo>
                    <a:lnTo>
                      <a:pt x="59" y="140"/>
                    </a:lnTo>
                    <a:lnTo>
                      <a:pt x="52" y="150"/>
                    </a:lnTo>
                    <a:lnTo>
                      <a:pt x="48" y="154"/>
                    </a:lnTo>
                    <a:lnTo>
                      <a:pt x="45" y="158"/>
                    </a:lnTo>
                    <a:lnTo>
                      <a:pt x="39" y="163"/>
                    </a:lnTo>
                    <a:lnTo>
                      <a:pt x="33" y="167"/>
                    </a:lnTo>
                    <a:lnTo>
                      <a:pt x="27" y="173"/>
                    </a:lnTo>
                    <a:lnTo>
                      <a:pt x="20" y="176"/>
                    </a:lnTo>
                    <a:lnTo>
                      <a:pt x="11" y="181"/>
                    </a:lnTo>
                    <a:lnTo>
                      <a:pt x="0" y="185"/>
                    </a:lnTo>
                    <a:lnTo>
                      <a:pt x="11" y="208"/>
                    </a:lnTo>
                    <a:lnTo>
                      <a:pt x="21" y="204"/>
                    </a:lnTo>
                    <a:lnTo>
                      <a:pt x="31" y="198"/>
                    </a:lnTo>
                    <a:lnTo>
                      <a:pt x="40" y="192"/>
                    </a:lnTo>
                    <a:lnTo>
                      <a:pt x="48" y="188"/>
                    </a:lnTo>
                    <a:lnTo>
                      <a:pt x="55" y="182"/>
                    </a:lnTo>
                    <a:lnTo>
                      <a:pt x="62" y="175"/>
                    </a:lnTo>
                    <a:lnTo>
                      <a:pt x="68" y="170"/>
                    </a:lnTo>
                    <a:lnTo>
                      <a:pt x="72" y="163"/>
                    </a:lnTo>
                    <a:lnTo>
                      <a:pt x="80" y="150"/>
                    </a:lnTo>
                    <a:lnTo>
                      <a:pt x="85" y="138"/>
                    </a:lnTo>
                    <a:lnTo>
                      <a:pt x="88" y="124"/>
                    </a:lnTo>
                    <a:lnTo>
                      <a:pt x="90" y="111"/>
                    </a:lnTo>
                    <a:lnTo>
                      <a:pt x="94" y="86"/>
                    </a:lnTo>
                    <a:lnTo>
                      <a:pt x="98" y="62"/>
                    </a:lnTo>
                    <a:lnTo>
                      <a:pt x="102" y="52"/>
                    </a:lnTo>
                    <a:lnTo>
                      <a:pt x="106" y="41"/>
                    </a:lnTo>
                    <a:lnTo>
                      <a:pt x="110" y="36"/>
                    </a:lnTo>
                    <a:lnTo>
                      <a:pt x="113" y="30"/>
                    </a:lnTo>
                    <a:lnTo>
                      <a:pt x="118" y="26"/>
                    </a:lnTo>
                    <a:lnTo>
                      <a:pt x="123" y="20"/>
                    </a:lnTo>
                    <a:lnTo>
                      <a:pt x="110" y="1"/>
                    </a:lnTo>
                    <a:lnTo>
                      <a:pt x="123" y="20"/>
                    </a:lnTo>
                    <a:lnTo>
                      <a:pt x="126" y="16"/>
                    </a:lnTo>
                    <a:lnTo>
                      <a:pt x="127" y="11"/>
                    </a:lnTo>
                    <a:lnTo>
                      <a:pt x="126" y="6"/>
                    </a:lnTo>
                    <a:lnTo>
                      <a:pt x="123" y="3"/>
                    </a:lnTo>
                    <a:lnTo>
                      <a:pt x="120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6" y="3"/>
                    </a:lnTo>
                    <a:lnTo>
                      <a:pt x="12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79880" y="3096000"/>
                <a:ext cx="60480" cy="48960"/>
              </a:xfrm>
              <a:custGeom>
                <a:avLst/>
                <a:gdLst/>
                <a:ahLst/>
                <a:rect l="l" t="t" r="r" b="b"/>
                <a:pathLst>
                  <a:path w="189" h="156">
                    <a:moveTo>
                      <a:pt x="23" y="149"/>
                    </a:moveTo>
                    <a:lnTo>
                      <a:pt x="19" y="154"/>
                    </a:lnTo>
                    <a:lnTo>
                      <a:pt x="35" y="142"/>
                    </a:lnTo>
                    <a:lnTo>
                      <a:pt x="48" y="131"/>
                    </a:lnTo>
                    <a:lnTo>
                      <a:pt x="59" y="122"/>
                    </a:lnTo>
                    <a:lnTo>
                      <a:pt x="68" y="113"/>
                    </a:lnTo>
                    <a:lnTo>
                      <a:pt x="84" y="97"/>
                    </a:lnTo>
                    <a:lnTo>
                      <a:pt x="97" y="82"/>
                    </a:lnTo>
                    <a:lnTo>
                      <a:pt x="104" y="76"/>
                    </a:lnTo>
                    <a:lnTo>
                      <a:pt x="110" y="69"/>
                    </a:lnTo>
                    <a:lnTo>
                      <a:pt x="118" y="62"/>
                    </a:lnTo>
                    <a:lnTo>
                      <a:pt x="128" y="56"/>
                    </a:lnTo>
                    <a:lnTo>
                      <a:pt x="139" y="48"/>
                    </a:lnTo>
                    <a:lnTo>
                      <a:pt x="153" y="40"/>
                    </a:lnTo>
                    <a:lnTo>
                      <a:pt x="170" y="32"/>
                    </a:lnTo>
                    <a:lnTo>
                      <a:pt x="189" y="21"/>
                    </a:lnTo>
                    <a:lnTo>
                      <a:pt x="179" y="0"/>
                    </a:lnTo>
                    <a:lnTo>
                      <a:pt x="158" y="10"/>
                    </a:lnTo>
                    <a:lnTo>
                      <a:pt x="141" y="19"/>
                    </a:lnTo>
                    <a:lnTo>
                      <a:pt x="126" y="27"/>
                    </a:lnTo>
                    <a:lnTo>
                      <a:pt x="114" y="36"/>
                    </a:lnTo>
                    <a:lnTo>
                      <a:pt x="104" y="43"/>
                    </a:lnTo>
                    <a:lnTo>
                      <a:pt x="94" y="51"/>
                    </a:lnTo>
                    <a:lnTo>
                      <a:pt x="86" y="58"/>
                    </a:lnTo>
                    <a:lnTo>
                      <a:pt x="80" y="66"/>
                    </a:lnTo>
                    <a:lnTo>
                      <a:pt x="66" y="80"/>
                    </a:lnTo>
                    <a:lnTo>
                      <a:pt x="51" y="96"/>
                    </a:lnTo>
                    <a:lnTo>
                      <a:pt x="43" y="104"/>
                    </a:lnTo>
                    <a:lnTo>
                      <a:pt x="33" y="113"/>
                    </a:lnTo>
                    <a:lnTo>
                      <a:pt x="20" y="123"/>
                    </a:lnTo>
                    <a:lnTo>
                      <a:pt x="6" y="134"/>
                    </a:lnTo>
                    <a:lnTo>
                      <a:pt x="1" y="139"/>
                    </a:lnTo>
                    <a:lnTo>
                      <a:pt x="6" y="134"/>
                    </a:lnTo>
                    <a:lnTo>
                      <a:pt x="1" y="138"/>
                    </a:lnTo>
                    <a:lnTo>
                      <a:pt x="0" y="142"/>
                    </a:lnTo>
                    <a:lnTo>
                      <a:pt x="0" y="147"/>
                    </a:lnTo>
                    <a:lnTo>
                      <a:pt x="2" y="151"/>
                    </a:lnTo>
                    <a:lnTo>
                      <a:pt x="6" y="154"/>
                    </a:lnTo>
                    <a:lnTo>
                      <a:pt x="10" y="156"/>
                    </a:lnTo>
                    <a:lnTo>
                      <a:pt x="15" y="156"/>
                    </a:lnTo>
                    <a:lnTo>
                      <a:pt x="19" y="154"/>
                    </a:lnTo>
                    <a:lnTo>
                      <a:pt x="23" y="1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929040" y="2611800"/>
                <a:ext cx="596880" cy="277560"/>
              </a:xfrm>
              <a:custGeom>
                <a:avLst/>
                <a:gdLst/>
                <a:ahLst/>
                <a:rect l="l" t="t" r="r" b="b"/>
                <a:pathLst>
                  <a:path w="1882" h="873">
                    <a:moveTo>
                      <a:pt x="21" y="873"/>
                    </a:moveTo>
                    <a:lnTo>
                      <a:pt x="37" y="843"/>
                    </a:lnTo>
                    <a:lnTo>
                      <a:pt x="53" y="817"/>
                    </a:lnTo>
                    <a:lnTo>
                      <a:pt x="71" y="792"/>
                    </a:lnTo>
                    <a:lnTo>
                      <a:pt x="89" y="769"/>
                    </a:lnTo>
                    <a:lnTo>
                      <a:pt x="108" y="748"/>
                    </a:lnTo>
                    <a:lnTo>
                      <a:pt x="128" y="731"/>
                    </a:lnTo>
                    <a:lnTo>
                      <a:pt x="139" y="723"/>
                    </a:lnTo>
                    <a:lnTo>
                      <a:pt x="150" y="715"/>
                    </a:lnTo>
                    <a:lnTo>
                      <a:pt x="160" y="708"/>
                    </a:lnTo>
                    <a:lnTo>
                      <a:pt x="171" y="703"/>
                    </a:lnTo>
                    <a:lnTo>
                      <a:pt x="183" y="697"/>
                    </a:lnTo>
                    <a:lnTo>
                      <a:pt x="194" y="691"/>
                    </a:lnTo>
                    <a:lnTo>
                      <a:pt x="205" y="687"/>
                    </a:lnTo>
                    <a:lnTo>
                      <a:pt x="217" y="683"/>
                    </a:lnTo>
                    <a:lnTo>
                      <a:pt x="229" y="680"/>
                    </a:lnTo>
                    <a:lnTo>
                      <a:pt x="242" y="676"/>
                    </a:lnTo>
                    <a:lnTo>
                      <a:pt x="253" y="674"/>
                    </a:lnTo>
                    <a:lnTo>
                      <a:pt x="267" y="672"/>
                    </a:lnTo>
                    <a:lnTo>
                      <a:pt x="292" y="671"/>
                    </a:lnTo>
                    <a:lnTo>
                      <a:pt x="319" y="671"/>
                    </a:lnTo>
                    <a:lnTo>
                      <a:pt x="347" y="673"/>
                    </a:lnTo>
                    <a:lnTo>
                      <a:pt x="375" y="678"/>
                    </a:lnTo>
                    <a:lnTo>
                      <a:pt x="403" y="678"/>
                    </a:lnTo>
                    <a:lnTo>
                      <a:pt x="428" y="680"/>
                    </a:lnTo>
                    <a:lnTo>
                      <a:pt x="452" y="683"/>
                    </a:lnTo>
                    <a:lnTo>
                      <a:pt x="473" y="688"/>
                    </a:lnTo>
                    <a:lnTo>
                      <a:pt x="495" y="692"/>
                    </a:lnTo>
                    <a:lnTo>
                      <a:pt x="514" y="699"/>
                    </a:lnTo>
                    <a:lnTo>
                      <a:pt x="532" y="706"/>
                    </a:lnTo>
                    <a:lnTo>
                      <a:pt x="550" y="713"/>
                    </a:lnTo>
                    <a:lnTo>
                      <a:pt x="565" y="722"/>
                    </a:lnTo>
                    <a:lnTo>
                      <a:pt x="580" y="730"/>
                    </a:lnTo>
                    <a:lnTo>
                      <a:pt x="595" y="739"/>
                    </a:lnTo>
                    <a:lnTo>
                      <a:pt x="610" y="748"/>
                    </a:lnTo>
                    <a:lnTo>
                      <a:pt x="637" y="767"/>
                    </a:lnTo>
                    <a:lnTo>
                      <a:pt x="664" y="785"/>
                    </a:lnTo>
                    <a:lnTo>
                      <a:pt x="677" y="793"/>
                    </a:lnTo>
                    <a:lnTo>
                      <a:pt x="691" y="801"/>
                    </a:lnTo>
                    <a:lnTo>
                      <a:pt x="705" y="809"/>
                    </a:lnTo>
                    <a:lnTo>
                      <a:pt x="719" y="816"/>
                    </a:lnTo>
                    <a:lnTo>
                      <a:pt x="734" y="821"/>
                    </a:lnTo>
                    <a:lnTo>
                      <a:pt x="751" y="827"/>
                    </a:lnTo>
                    <a:lnTo>
                      <a:pt x="767" y="832"/>
                    </a:lnTo>
                    <a:lnTo>
                      <a:pt x="785" y="835"/>
                    </a:lnTo>
                    <a:lnTo>
                      <a:pt x="805" y="836"/>
                    </a:lnTo>
                    <a:lnTo>
                      <a:pt x="825" y="837"/>
                    </a:lnTo>
                    <a:lnTo>
                      <a:pt x="847" y="836"/>
                    </a:lnTo>
                    <a:lnTo>
                      <a:pt x="871" y="834"/>
                    </a:lnTo>
                    <a:lnTo>
                      <a:pt x="896" y="830"/>
                    </a:lnTo>
                    <a:lnTo>
                      <a:pt x="923" y="825"/>
                    </a:lnTo>
                    <a:lnTo>
                      <a:pt x="952" y="817"/>
                    </a:lnTo>
                    <a:lnTo>
                      <a:pt x="983" y="808"/>
                    </a:lnTo>
                    <a:lnTo>
                      <a:pt x="1007" y="773"/>
                    </a:lnTo>
                    <a:lnTo>
                      <a:pt x="1028" y="744"/>
                    </a:lnTo>
                    <a:lnTo>
                      <a:pt x="1040" y="731"/>
                    </a:lnTo>
                    <a:lnTo>
                      <a:pt x="1051" y="719"/>
                    </a:lnTo>
                    <a:lnTo>
                      <a:pt x="1061" y="708"/>
                    </a:lnTo>
                    <a:lnTo>
                      <a:pt x="1072" y="698"/>
                    </a:lnTo>
                    <a:lnTo>
                      <a:pt x="1082" y="690"/>
                    </a:lnTo>
                    <a:lnTo>
                      <a:pt x="1092" y="682"/>
                    </a:lnTo>
                    <a:lnTo>
                      <a:pt x="1102" y="676"/>
                    </a:lnTo>
                    <a:lnTo>
                      <a:pt x="1113" y="672"/>
                    </a:lnTo>
                    <a:lnTo>
                      <a:pt x="1123" y="667"/>
                    </a:lnTo>
                    <a:lnTo>
                      <a:pt x="1133" y="665"/>
                    </a:lnTo>
                    <a:lnTo>
                      <a:pt x="1142" y="664"/>
                    </a:lnTo>
                    <a:lnTo>
                      <a:pt x="1151" y="663"/>
                    </a:lnTo>
                    <a:lnTo>
                      <a:pt x="1162" y="664"/>
                    </a:lnTo>
                    <a:lnTo>
                      <a:pt x="1171" y="666"/>
                    </a:lnTo>
                    <a:lnTo>
                      <a:pt x="1180" y="669"/>
                    </a:lnTo>
                    <a:lnTo>
                      <a:pt x="1189" y="673"/>
                    </a:lnTo>
                    <a:lnTo>
                      <a:pt x="1197" y="679"/>
                    </a:lnTo>
                    <a:lnTo>
                      <a:pt x="1206" y="684"/>
                    </a:lnTo>
                    <a:lnTo>
                      <a:pt x="1215" y="692"/>
                    </a:lnTo>
                    <a:lnTo>
                      <a:pt x="1223" y="702"/>
                    </a:lnTo>
                    <a:lnTo>
                      <a:pt x="1232" y="711"/>
                    </a:lnTo>
                    <a:lnTo>
                      <a:pt x="1240" y="722"/>
                    </a:lnTo>
                    <a:lnTo>
                      <a:pt x="1248" y="735"/>
                    </a:lnTo>
                    <a:lnTo>
                      <a:pt x="1256" y="747"/>
                    </a:lnTo>
                    <a:lnTo>
                      <a:pt x="1264" y="762"/>
                    </a:lnTo>
                    <a:lnTo>
                      <a:pt x="1272" y="778"/>
                    </a:lnTo>
                    <a:lnTo>
                      <a:pt x="1280" y="795"/>
                    </a:lnTo>
                    <a:lnTo>
                      <a:pt x="1288" y="812"/>
                    </a:lnTo>
                    <a:lnTo>
                      <a:pt x="1294" y="785"/>
                    </a:lnTo>
                    <a:lnTo>
                      <a:pt x="1302" y="756"/>
                    </a:lnTo>
                    <a:lnTo>
                      <a:pt x="1310" y="728"/>
                    </a:lnTo>
                    <a:lnTo>
                      <a:pt x="1319" y="699"/>
                    </a:lnTo>
                    <a:lnTo>
                      <a:pt x="1329" y="671"/>
                    </a:lnTo>
                    <a:lnTo>
                      <a:pt x="1340" y="642"/>
                    </a:lnTo>
                    <a:lnTo>
                      <a:pt x="1353" y="614"/>
                    </a:lnTo>
                    <a:lnTo>
                      <a:pt x="1366" y="585"/>
                    </a:lnTo>
                    <a:lnTo>
                      <a:pt x="1380" y="557"/>
                    </a:lnTo>
                    <a:lnTo>
                      <a:pt x="1395" y="529"/>
                    </a:lnTo>
                    <a:lnTo>
                      <a:pt x="1411" y="501"/>
                    </a:lnTo>
                    <a:lnTo>
                      <a:pt x="1427" y="474"/>
                    </a:lnTo>
                    <a:lnTo>
                      <a:pt x="1444" y="447"/>
                    </a:lnTo>
                    <a:lnTo>
                      <a:pt x="1462" y="420"/>
                    </a:lnTo>
                    <a:lnTo>
                      <a:pt x="1481" y="394"/>
                    </a:lnTo>
                    <a:lnTo>
                      <a:pt x="1500" y="369"/>
                    </a:lnTo>
                    <a:lnTo>
                      <a:pt x="1521" y="344"/>
                    </a:lnTo>
                    <a:lnTo>
                      <a:pt x="1541" y="320"/>
                    </a:lnTo>
                    <a:lnTo>
                      <a:pt x="1563" y="296"/>
                    </a:lnTo>
                    <a:lnTo>
                      <a:pt x="1584" y="273"/>
                    </a:lnTo>
                    <a:lnTo>
                      <a:pt x="1607" y="251"/>
                    </a:lnTo>
                    <a:lnTo>
                      <a:pt x="1630" y="230"/>
                    </a:lnTo>
                    <a:lnTo>
                      <a:pt x="1653" y="209"/>
                    </a:lnTo>
                    <a:lnTo>
                      <a:pt x="1677" y="191"/>
                    </a:lnTo>
                    <a:lnTo>
                      <a:pt x="1702" y="173"/>
                    </a:lnTo>
                    <a:lnTo>
                      <a:pt x="1726" y="156"/>
                    </a:lnTo>
                    <a:lnTo>
                      <a:pt x="1751" y="140"/>
                    </a:lnTo>
                    <a:lnTo>
                      <a:pt x="1777" y="125"/>
                    </a:lnTo>
                    <a:lnTo>
                      <a:pt x="1802" y="111"/>
                    </a:lnTo>
                    <a:lnTo>
                      <a:pt x="1828" y="99"/>
                    </a:lnTo>
                    <a:lnTo>
                      <a:pt x="1856" y="87"/>
                    </a:lnTo>
                    <a:lnTo>
                      <a:pt x="1882" y="78"/>
                    </a:lnTo>
                    <a:lnTo>
                      <a:pt x="1853" y="72"/>
                    </a:lnTo>
                    <a:lnTo>
                      <a:pt x="1824" y="68"/>
                    </a:lnTo>
                    <a:lnTo>
                      <a:pt x="1794" y="63"/>
                    </a:lnTo>
                    <a:lnTo>
                      <a:pt x="1764" y="59"/>
                    </a:lnTo>
                    <a:lnTo>
                      <a:pt x="1702" y="53"/>
                    </a:lnTo>
                    <a:lnTo>
                      <a:pt x="1638" y="48"/>
                    </a:lnTo>
                    <a:lnTo>
                      <a:pt x="1573" y="45"/>
                    </a:lnTo>
                    <a:lnTo>
                      <a:pt x="1507" y="43"/>
                    </a:lnTo>
                    <a:lnTo>
                      <a:pt x="1440" y="40"/>
                    </a:lnTo>
                    <a:lnTo>
                      <a:pt x="1372" y="39"/>
                    </a:lnTo>
                    <a:lnTo>
                      <a:pt x="1306" y="38"/>
                    </a:lnTo>
                    <a:lnTo>
                      <a:pt x="1239" y="37"/>
                    </a:lnTo>
                    <a:lnTo>
                      <a:pt x="1173" y="35"/>
                    </a:lnTo>
                    <a:lnTo>
                      <a:pt x="1108" y="31"/>
                    </a:lnTo>
                    <a:lnTo>
                      <a:pt x="1044" y="27"/>
                    </a:lnTo>
                    <a:lnTo>
                      <a:pt x="983" y="20"/>
                    </a:lnTo>
                    <a:lnTo>
                      <a:pt x="952" y="15"/>
                    </a:lnTo>
                    <a:lnTo>
                      <a:pt x="922" y="11"/>
                    </a:lnTo>
                    <a:lnTo>
                      <a:pt x="894" y="6"/>
                    </a:lnTo>
                    <a:lnTo>
                      <a:pt x="865" y="0"/>
                    </a:lnTo>
                    <a:lnTo>
                      <a:pt x="825" y="7"/>
                    </a:lnTo>
                    <a:lnTo>
                      <a:pt x="785" y="18"/>
                    </a:lnTo>
                    <a:lnTo>
                      <a:pt x="744" y="28"/>
                    </a:lnTo>
                    <a:lnTo>
                      <a:pt x="703" y="40"/>
                    </a:lnTo>
                    <a:lnTo>
                      <a:pt x="661" y="54"/>
                    </a:lnTo>
                    <a:lnTo>
                      <a:pt x="619" y="70"/>
                    </a:lnTo>
                    <a:lnTo>
                      <a:pt x="576" y="88"/>
                    </a:lnTo>
                    <a:lnTo>
                      <a:pt x="532" y="108"/>
                    </a:lnTo>
                    <a:lnTo>
                      <a:pt x="489" y="129"/>
                    </a:lnTo>
                    <a:lnTo>
                      <a:pt x="445" y="153"/>
                    </a:lnTo>
                    <a:lnTo>
                      <a:pt x="400" y="179"/>
                    </a:lnTo>
                    <a:lnTo>
                      <a:pt x="355" y="207"/>
                    </a:lnTo>
                    <a:lnTo>
                      <a:pt x="309" y="238"/>
                    </a:lnTo>
                    <a:lnTo>
                      <a:pt x="263" y="271"/>
                    </a:lnTo>
                    <a:lnTo>
                      <a:pt x="217" y="305"/>
                    </a:lnTo>
                    <a:lnTo>
                      <a:pt x="169" y="342"/>
                    </a:lnTo>
                    <a:lnTo>
                      <a:pt x="138" y="382"/>
                    </a:lnTo>
                    <a:lnTo>
                      <a:pt x="112" y="420"/>
                    </a:lnTo>
                    <a:lnTo>
                      <a:pt x="88" y="456"/>
                    </a:lnTo>
                    <a:lnTo>
                      <a:pt x="67" y="493"/>
                    </a:lnTo>
                    <a:lnTo>
                      <a:pt x="58" y="511"/>
                    </a:lnTo>
                    <a:lnTo>
                      <a:pt x="49" y="528"/>
                    </a:lnTo>
                    <a:lnTo>
                      <a:pt x="41" y="545"/>
                    </a:lnTo>
                    <a:lnTo>
                      <a:pt x="34" y="564"/>
                    </a:lnTo>
                    <a:lnTo>
                      <a:pt x="29" y="580"/>
                    </a:lnTo>
                    <a:lnTo>
                      <a:pt x="23" y="597"/>
                    </a:lnTo>
                    <a:lnTo>
                      <a:pt x="17" y="614"/>
                    </a:lnTo>
                    <a:lnTo>
                      <a:pt x="14" y="630"/>
                    </a:lnTo>
                    <a:lnTo>
                      <a:pt x="9" y="647"/>
                    </a:lnTo>
                    <a:lnTo>
                      <a:pt x="7" y="663"/>
                    </a:lnTo>
                    <a:lnTo>
                      <a:pt x="4" y="679"/>
                    </a:lnTo>
                    <a:lnTo>
                      <a:pt x="2" y="695"/>
                    </a:lnTo>
                    <a:lnTo>
                      <a:pt x="0" y="726"/>
                    </a:lnTo>
                    <a:lnTo>
                      <a:pt x="0" y="756"/>
                    </a:lnTo>
                    <a:lnTo>
                      <a:pt x="2" y="786"/>
                    </a:lnTo>
                    <a:lnTo>
                      <a:pt x="7" y="816"/>
                    </a:lnTo>
                    <a:lnTo>
                      <a:pt x="13" y="844"/>
                    </a:lnTo>
                    <a:lnTo>
                      <a:pt x="21" y="873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930480" y="2821320"/>
                <a:ext cx="120960" cy="69840"/>
              </a:xfrm>
              <a:custGeom>
                <a:avLst/>
                <a:gdLst/>
                <a:ahLst/>
                <a:rect l="l" t="t" r="r" b="b"/>
                <a:pathLst>
                  <a:path w="379" h="220">
                    <a:moveTo>
                      <a:pt x="366" y="7"/>
                    </a:moveTo>
                    <a:lnTo>
                      <a:pt x="368" y="7"/>
                    </a:lnTo>
                    <a:lnTo>
                      <a:pt x="339" y="3"/>
                    </a:lnTo>
                    <a:lnTo>
                      <a:pt x="310" y="0"/>
                    </a:lnTo>
                    <a:lnTo>
                      <a:pt x="283" y="0"/>
                    </a:lnTo>
                    <a:lnTo>
                      <a:pt x="257" y="3"/>
                    </a:lnTo>
                    <a:lnTo>
                      <a:pt x="243" y="5"/>
                    </a:lnTo>
                    <a:lnTo>
                      <a:pt x="229" y="7"/>
                    </a:lnTo>
                    <a:lnTo>
                      <a:pt x="217" y="9"/>
                    </a:lnTo>
                    <a:lnTo>
                      <a:pt x="204" y="14"/>
                    </a:lnTo>
                    <a:lnTo>
                      <a:pt x="192" y="17"/>
                    </a:lnTo>
                    <a:lnTo>
                      <a:pt x="180" y="22"/>
                    </a:lnTo>
                    <a:lnTo>
                      <a:pt x="168" y="28"/>
                    </a:lnTo>
                    <a:lnTo>
                      <a:pt x="156" y="33"/>
                    </a:lnTo>
                    <a:lnTo>
                      <a:pt x="145" y="40"/>
                    </a:lnTo>
                    <a:lnTo>
                      <a:pt x="134" y="48"/>
                    </a:lnTo>
                    <a:lnTo>
                      <a:pt x="122" y="55"/>
                    </a:lnTo>
                    <a:lnTo>
                      <a:pt x="112" y="64"/>
                    </a:lnTo>
                    <a:lnTo>
                      <a:pt x="90" y="82"/>
                    </a:lnTo>
                    <a:lnTo>
                      <a:pt x="71" y="103"/>
                    </a:lnTo>
                    <a:lnTo>
                      <a:pt x="52" y="126"/>
                    </a:lnTo>
                    <a:lnTo>
                      <a:pt x="33" y="152"/>
                    </a:lnTo>
                    <a:lnTo>
                      <a:pt x="16" y="179"/>
                    </a:lnTo>
                    <a:lnTo>
                      <a:pt x="0" y="210"/>
                    </a:lnTo>
                    <a:lnTo>
                      <a:pt x="22" y="220"/>
                    </a:lnTo>
                    <a:lnTo>
                      <a:pt x="38" y="192"/>
                    </a:lnTo>
                    <a:lnTo>
                      <a:pt x="54" y="164"/>
                    </a:lnTo>
                    <a:lnTo>
                      <a:pt x="71" y="140"/>
                    </a:lnTo>
                    <a:lnTo>
                      <a:pt x="89" y="119"/>
                    </a:lnTo>
                    <a:lnTo>
                      <a:pt x="107" y="99"/>
                    </a:lnTo>
                    <a:lnTo>
                      <a:pt x="127" y="82"/>
                    </a:lnTo>
                    <a:lnTo>
                      <a:pt x="137" y="74"/>
                    </a:lnTo>
                    <a:lnTo>
                      <a:pt x="147" y="68"/>
                    </a:lnTo>
                    <a:lnTo>
                      <a:pt x="158" y="61"/>
                    </a:lnTo>
                    <a:lnTo>
                      <a:pt x="168" y="55"/>
                    </a:lnTo>
                    <a:lnTo>
                      <a:pt x="178" y="49"/>
                    </a:lnTo>
                    <a:lnTo>
                      <a:pt x="190" y="45"/>
                    </a:lnTo>
                    <a:lnTo>
                      <a:pt x="201" y="40"/>
                    </a:lnTo>
                    <a:lnTo>
                      <a:pt x="211" y="37"/>
                    </a:lnTo>
                    <a:lnTo>
                      <a:pt x="223" y="33"/>
                    </a:lnTo>
                    <a:lnTo>
                      <a:pt x="235" y="30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84" y="24"/>
                    </a:lnTo>
                    <a:lnTo>
                      <a:pt x="309" y="24"/>
                    </a:lnTo>
                    <a:lnTo>
                      <a:pt x="337" y="26"/>
                    </a:lnTo>
                    <a:lnTo>
                      <a:pt x="364" y="31"/>
                    </a:lnTo>
                    <a:lnTo>
                      <a:pt x="366" y="31"/>
                    </a:lnTo>
                    <a:lnTo>
                      <a:pt x="364" y="31"/>
                    </a:lnTo>
                    <a:lnTo>
                      <a:pt x="370" y="31"/>
                    </a:lnTo>
                    <a:lnTo>
                      <a:pt x="373" y="29"/>
                    </a:lnTo>
                    <a:lnTo>
                      <a:pt x="376" y="25"/>
                    </a:lnTo>
                    <a:lnTo>
                      <a:pt x="378" y="22"/>
                    </a:lnTo>
                    <a:lnTo>
                      <a:pt x="379" y="17"/>
                    </a:lnTo>
                    <a:lnTo>
                      <a:pt x="376" y="13"/>
                    </a:lnTo>
                    <a:lnTo>
                      <a:pt x="373" y="9"/>
                    </a:lnTo>
                    <a:lnTo>
                      <a:pt x="368" y="7"/>
                    </a:lnTo>
                    <a:lnTo>
                      <a:pt x="366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048200" y="2822760"/>
                <a:ext cx="196920" cy="58680"/>
              </a:xfrm>
              <a:custGeom>
                <a:avLst/>
                <a:gdLst/>
                <a:ahLst/>
                <a:rect l="l" t="t" r="r" b="b"/>
                <a:pathLst>
                  <a:path w="620" h="184">
                    <a:moveTo>
                      <a:pt x="597" y="136"/>
                    </a:moveTo>
                    <a:lnTo>
                      <a:pt x="604" y="131"/>
                    </a:lnTo>
                    <a:lnTo>
                      <a:pt x="573" y="140"/>
                    </a:lnTo>
                    <a:lnTo>
                      <a:pt x="545" y="147"/>
                    </a:lnTo>
                    <a:lnTo>
                      <a:pt x="519" y="153"/>
                    </a:lnTo>
                    <a:lnTo>
                      <a:pt x="495" y="157"/>
                    </a:lnTo>
                    <a:lnTo>
                      <a:pt x="472" y="160"/>
                    </a:lnTo>
                    <a:lnTo>
                      <a:pt x="450" y="160"/>
                    </a:lnTo>
                    <a:lnTo>
                      <a:pt x="431" y="160"/>
                    </a:lnTo>
                    <a:lnTo>
                      <a:pt x="413" y="157"/>
                    </a:lnTo>
                    <a:lnTo>
                      <a:pt x="396" y="154"/>
                    </a:lnTo>
                    <a:lnTo>
                      <a:pt x="379" y="151"/>
                    </a:lnTo>
                    <a:lnTo>
                      <a:pt x="364" y="145"/>
                    </a:lnTo>
                    <a:lnTo>
                      <a:pt x="349" y="139"/>
                    </a:lnTo>
                    <a:lnTo>
                      <a:pt x="335" y="133"/>
                    </a:lnTo>
                    <a:lnTo>
                      <a:pt x="322" y="125"/>
                    </a:lnTo>
                    <a:lnTo>
                      <a:pt x="308" y="118"/>
                    </a:lnTo>
                    <a:lnTo>
                      <a:pt x="295" y="110"/>
                    </a:lnTo>
                    <a:lnTo>
                      <a:pt x="268" y="91"/>
                    </a:lnTo>
                    <a:lnTo>
                      <a:pt x="241" y="73"/>
                    </a:lnTo>
                    <a:lnTo>
                      <a:pt x="227" y="64"/>
                    </a:lnTo>
                    <a:lnTo>
                      <a:pt x="212" y="55"/>
                    </a:lnTo>
                    <a:lnTo>
                      <a:pt x="196" y="46"/>
                    </a:lnTo>
                    <a:lnTo>
                      <a:pt x="179" y="38"/>
                    </a:lnTo>
                    <a:lnTo>
                      <a:pt x="162" y="30"/>
                    </a:lnTo>
                    <a:lnTo>
                      <a:pt x="143" y="23"/>
                    </a:lnTo>
                    <a:lnTo>
                      <a:pt x="123" y="16"/>
                    </a:lnTo>
                    <a:lnTo>
                      <a:pt x="102" y="10"/>
                    </a:lnTo>
                    <a:lnTo>
                      <a:pt x="79" y="6"/>
                    </a:lnTo>
                    <a:lnTo>
                      <a:pt x="54" y="4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6" y="25"/>
                    </a:lnTo>
                    <a:lnTo>
                      <a:pt x="51" y="27"/>
                    </a:lnTo>
                    <a:lnTo>
                      <a:pt x="74" y="30"/>
                    </a:lnTo>
                    <a:lnTo>
                      <a:pt x="96" y="34"/>
                    </a:lnTo>
                    <a:lnTo>
                      <a:pt x="116" y="40"/>
                    </a:lnTo>
                    <a:lnTo>
                      <a:pt x="135" y="46"/>
                    </a:lnTo>
                    <a:lnTo>
                      <a:pt x="153" y="53"/>
                    </a:lnTo>
                    <a:lnTo>
                      <a:pt x="169" y="59"/>
                    </a:lnTo>
                    <a:lnTo>
                      <a:pt x="185" y="67"/>
                    </a:lnTo>
                    <a:lnTo>
                      <a:pt x="200" y="75"/>
                    </a:lnTo>
                    <a:lnTo>
                      <a:pt x="214" y="84"/>
                    </a:lnTo>
                    <a:lnTo>
                      <a:pt x="228" y="94"/>
                    </a:lnTo>
                    <a:lnTo>
                      <a:pt x="255" y="112"/>
                    </a:lnTo>
                    <a:lnTo>
                      <a:pt x="282" y="130"/>
                    </a:lnTo>
                    <a:lnTo>
                      <a:pt x="295" y="138"/>
                    </a:lnTo>
                    <a:lnTo>
                      <a:pt x="310" y="147"/>
                    </a:lnTo>
                    <a:lnTo>
                      <a:pt x="324" y="154"/>
                    </a:lnTo>
                    <a:lnTo>
                      <a:pt x="340" y="162"/>
                    </a:lnTo>
                    <a:lnTo>
                      <a:pt x="356" y="168"/>
                    </a:lnTo>
                    <a:lnTo>
                      <a:pt x="373" y="173"/>
                    </a:lnTo>
                    <a:lnTo>
                      <a:pt x="390" y="178"/>
                    </a:lnTo>
                    <a:lnTo>
                      <a:pt x="409" y="181"/>
                    </a:lnTo>
                    <a:lnTo>
                      <a:pt x="429" y="184"/>
                    </a:lnTo>
                    <a:lnTo>
                      <a:pt x="450" y="184"/>
                    </a:lnTo>
                    <a:lnTo>
                      <a:pt x="473" y="184"/>
                    </a:lnTo>
                    <a:lnTo>
                      <a:pt x="497" y="181"/>
                    </a:lnTo>
                    <a:lnTo>
                      <a:pt x="523" y="177"/>
                    </a:lnTo>
                    <a:lnTo>
                      <a:pt x="551" y="171"/>
                    </a:lnTo>
                    <a:lnTo>
                      <a:pt x="580" y="163"/>
                    </a:lnTo>
                    <a:lnTo>
                      <a:pt x="612" y="154"/>
                    </a:lnTo>
                    <a:lnTo>
                      <a:pt x="618" y="148"/>
                    </a:lnTo>
                    <a:lnTo>
                      <a:pt x="612" y="154"/>
                    </a:lnTo>
                    <a:lnTo>
                      <a:pt x="617" y="151"/>
                    </a:lnTo>
                    <a:lnTo>
                      <a:pt x="619" y="147"/>
                    </a:lnTo>
                    <a:lnTo>
                      <a:pt x="620" y="143"/>
                    </a:lnTo>
                    <a:lnTo>
                      <a:pt x="619" y="138"/>
                    </a:lnTo>
                    <a:lnTo>
                      <a:pt x="618" y="135"/>
                    </a:lnTo>
                    <a:lnTo>
                      <a:pt x="614" y="131"/>
                    </a:lnTo>
                    <a:lnTo>
                      <a:pt x="610" y="130"/>
                    </a:lnTo>
                    <a:lnTo>
                      <a:pt x="604" y="131"/>
                    </a:lnTo>
                    <a:lnTo>
                      <a:pt x="597" y="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237200" y="28180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329" h="174">
                    <a:moveTo>
                      <a:pt x="304" y="159"/>
                    </a:moveTo>
                    <a:lnTo>
                      <a:pt x="327" y="157"/>
                    </a:lnTo>
                    <a:lnTo>
                      <a:pt x="319" y="138"/>
                    </a:lnTo>
                    <a:lnTo>
                      <a:pt x="311" y="121"/>
                    </a:lnTo>
                    <a:lnTo>
                      <a:pt x="304" y="105"/>
                    </a:lnTo>
                    <a:lnTo>
                      <a:pt x="294" y="90"/>
                    </a:lnTo>
                    <a:lnTo>
                      <a:pt x="286" y="77"/>
                    </a:lnTo>
                    <a:lnTo>
                      <a:pt x="278" y="64"/>
                    </a:lnTo>
                    <a:lnTo>
                      <a:pt x="269" y="53"/>
                    </a:lnTo>
                    <a:lnTo>
                      <a:pt x="260" y="41"/>
                    </a:lnTo>
                    <a:lnTo>
                      <a:pt x="251" y="32"/>
                    </a:lnTo>
                    <a:lnTo>
                      <a:pt x="242" y="24"/>
                    </a:lnTo>
                    <a:lnTo>
                      <a:pt x="232" y="18"/>
                    </a:lnTo>
                    <a:lnTo>
                      <a:pt x="223" y="11"/>
                    </a:lnTo>
                    <a:lnTo>
                      <a:pt x="212" y="6"/>
                    </a:lnTo>
                    <a:lnTo>
                      <a:pt x="201" y="3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9" y="0"/>
                    </a:lnTo>
                    <a:lnTo>
                      <a:pt x="158" y="3"/>
                    </a:lnTo>
                    <a:lnTo>
                      <a:pt x="147" y="5"/>
                    </a:lnTo>
                    <a:lnTo>
                      <a:pt x="136" y="10"/>
                    </a:lnTo>
                    <a:lnTo>
                      <a:pt x="125" y="15"/>
                    </a:lnTo>
                    <a:lnTo>
                      <a:pt x="114" y="22"/>
                    </a:lnTo>
                    <a:lnTo>
                      <a:pt x="103" y="29"/>
                    </a:lnTo>
                    <a:lnTo>
                      <a:pt x="92" y="38"/>
                    </a:lnTo>
                    <a:lnTo>
                      <a:pt x="81" y="48"/>
                    </a:lnTo>
                    <a:lnTo>
                      <a:pt x="70" y="60"/>
                    </a:lnTo>
                    <a:lnTo>
                      <a:pt x="58" y="71"/>
                    </a:lnTo>
                    <a:lnTo>
                      <a:pt x="47" y="85"/>
                    </a:lnTo>
                    <a:lnTo>
                      <a:pt x="24" y="116"/>
                    </a:lnTo>
                    <a:lnTo>
                      <a:pt x="0" y="150"/>
                    </a:lnTo>
                    <a:lnTo>
                      <a:pt x="21" y="162"/>
                    </a:lnTo>
                    <a:lnTo>
                      <a:pt x="44" y="129"/>
                    </a:lnTo>
                    <a:lnTo>
                      <a:pt x="66" y="100"/>
                    </a:lnTo>
                    <a:lnTo>
                      <a:pt x="77" y="88"/>
                    </a:lnTo>
                    <a:lnTo>
                      <a:pt x="87" y="76"/>
                    </a:lnTo>
                    <a:lnTo>
                      <a:pt x="97" y="65"/>
                    </a:lnTo>
                    <a:lnTo>
                      <a:pt x="107" y="56"/>
                    </a:lnTo>
                    <a:lnTo>
                      <a:pt x="118" y="48"/>
                    </a:lnTo>
                    <a:lnTo>
                      <a:pt x="127" y="41"/>
                    </a:lnTo>
                    <a:lnTo>
                      <a:pt x="137" y="36"/>
                    </a:lnTo>
                    <a:lnTo>
                      <a:pt x="146" y="31"/>
                    </a:lnTo>
                    <a:lnTo>
                      <a:pt x="154" y="28"/>
                    </a:lnTo>
                    <a:lnTo>
                      <a:pt x="163" y="25"/>
                    </a:lnTo>
                    <a:lnTo>
                      <a:pt x="171" y="24"/>
                    </a:lnTo>
                    <a:lnTo>
                      <a:pt x="179" y="24"/>
                    </a:lnTo>
                    <a:lnTo>
                      <a:pt x="187" y="24"/>
                    </a:lnTo>
                    <a:lnTo>
                      <a:pt x="195" y="27"/>
                    </a:lnTo>
                    <a:lnTo>
                      <a:pt x="203" y="29"/>
                    </a:lnTo>
                    <a:lnTo>
                      <a:pt x="211" y="32"/>
                    </a:lnTo>
                    <a:lnTo>
                      <a:pt x="219" y="37"/>
                    </a:lnTo>
                    <a:lnTo>
                      <a:pt x="227" y="43"/>
                    </a:lnTo>
                    <a:lnTo>
                      <a:pt x="234" y="51"/>
                    </a:lnTo>
                    <a:lnTo>
                      <a:pt x="242" y="59"/>
                    </a:lnTo>
                    <a:lnTo>
                      <a:pt x="250" y="68"/>
                    </a:lnTo>
                    <a:lnTo>
                      <a:pt x="258" y="78"/>
                    </a:lnTo>
                    <a:lnTo>
                      <a:pt x="266" y="89"/>
                    </a:lnTo>
                    <a:lnTo>
                      <a:pt x="274" y="103"/>
                    </a:lnTo>
                    <a:lnTo>
                      <a:pt x="282" y="117"/>
                    </a:lnTo>
                    <a:lnTo>
                      <a:pt x="290" y="132"/>
                    </a:lnTo>
                    <a:lnTo>
                      <a:pt x="297" y="149"/>
                    </a:lnTo>
                    <a:lnTo>
                      <a:pt x="305" y="166"/>
                    </a:lnTo>
                    <a:lnTo>
                      <a:pt x="327" y="163"/>
                    </a:lnTo>
                    <a:lnTo>
                      <a:pt x="305" y="166"/>
                    </a:lnTo>
                    <a:lnTo>
                      <a:pt x="308" y="170"/>
                    </a:lnTo>
                    <a:lnTo>
                      <a:pt x="311" y="173"/>
                    </a:lnTo>
                    <a:lnTo>
                      <a:pt x="316" y="174"/>
                    </a:lnTo>
                    <a:lnTo>
                      <a:pt x="321" y="173"/>
                    </a:lnTo>
                    <a:lnTo>
                      <a:pt x="324" y="170"/>
                    </a:lnTo>
                    <a:lnTo>
                      <a:pt x="327" y="167"/>
                    </a:lnTo>
                    <a:lnTo>
                      <a:pt x="329" y="162"/>
                    </a:lnTo>
                    <a:lnTo>
                      <a:pt x="327" y="157"/>
                    </a:lnTo>
                    <a:lnTo>
                      <a:pt x="304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34040" y="2632320"/>
                <a:ext cx="195120" cy="238320"/>
              </a:xfrm>
              <a:custGeom>
                <a:avLst/>
                <a:gdLst/>
                <a:ahLst/>
                <a:rect l="l" t="t" r="r" b="b"/>
                <a:pathLst>
                  <a:path w="618" h="749">
                    <a:moveTo>
                      <a:pt x="604" y="24"/>
                    </a:moveTo>
                    <a:lnTo>
                      <a:pt x="602" y="2"/>
                    </a:lnTo>
                    <a:lnTo>
                      <a:pt x="575" y="11"/>
                    </a:lnTo>
                    <a:lnTo>
                      <a:pt x="548" y="22"/>
                    </a:lnTo>
                    <a:lnTo>
                      <a:pt x="521" y="35"/>
                    </a:lnTo>
                    <a:lnTo>
                      <a:pt x="495" y="48"/>
                    </a:lnTo>
                    <a:lnTo>
                      <a:pt x="469" y="63"/>
                    </a:lnTo>
                    <a:lnTo>
                      <a:pt x="443" y="80"/>
                    </a:lnTo>
                    <a:lnTo>
                      <a:pt x="418" y="97"/>
                    </a:lnTo>
                    <a:lnTo>
                      <a:pt x="394" y="116"/>
                    </a:lnTo>
                    <a:lnTo>
                      <a:pt x="370" y="135"/>
                    </a:lnTo>
                    <a:lnTo>
                      <a:pt x="346" y="155"/>
                    </a:lnTo>
                    <a:lnTo>
                      <a:pt x="322" y="177"/>
                    </a:lnTo>
                    <a:lnTo>
                      <a:pt x="299" y="200"/>
                    </a:lnTo>
                    <a:lnTo>
                      <a:pt x="278" y="223"/>
                    </a:lnTo>
                    <a:lnTo>
                      <a:pt x="256" y="247"/>
                    </a:lnTo>
                    <a:lnTo>
                      <a:pt x="235" y="271"/>
                    </a:lnTo>
                    <a:lnTo>
                      <a:pt x="215" y="296"/>
                    </a:lnTo>
                    <a:lnTo>
                      <a:pt x="196" y="322"/>
                    </a:lnTo>
                    <a:lnTo>
                      <a:pt x="176" y="348"/>
                    </a:lnTo>
                    <a:lnTo>
                      <a:pt x="158" y="376"/>
                    </a:lnTo>
                    <a:lnTo>
                      <a:pt x="141" y="403"/>
                    </a:lnTo>
                    <a:lnTo>
                      <a:pt x="124" y="430"/>
                    </a:lnTo>
                    <a:lnTo>
                      <a:pt x="108" y="458"/>
                    </a:lnTo>
                    <a:lnTo>
                      <a:pt x="93" y="486"/>
                    </a:lnTo>
                    <a:lnTo>
                      <a:pt x="79" y="515"/>
                    </a:lnTo>
                    <a:lnTo>
                      <a:pt x="66" y="543"/>
                    </a:lnTo>
                    <a:lnTo>
                      <a:pt x="53" y="573"/>
                    </a:lnTo>
                    <a:lnTo>
                      <a:pt x="42" y="601"/>
                    </a:lnTo>
                    <a:lnTo>
                      <a:pt x="31" y="630"/>
                    </a:lnTo>
                    <a:lnTo>
                      <a:pt x="22" y="659"/>
                    </a:lnTo>
                    <a:lnTo>
                      <a:pt x="13" y="688"/>
                    </a:lnTo>
                    <a:lnTo>
                      <a:pt x="6" y="716"/>
                    </a:lnTo>
                    <a:lnTo>
                      <a:pt x="0" y="745"/>
                    </a:lnTo>
                    <a:lnTo>
                      <a:pt x="23" y="749"/>
                    </a:lnTo>
                    <a:lnTo>
                      <a:pt x="30" y="722"/>
                    </a:lnTo>
                    <a:lnTo>
                      <a:pt x="37" y="695"/>
                    </a:lnTo>
                    <a:lnTo>
                      <a:pt x="45" y="666"/>
                    </a:lnTo>
                    <a:lnTo>
                      <a:pt x="54" y="638"/>
                    </a:lnTo>
                    <a:lnTo>
                      <a:pt x="64" y="610"/>
                    </a:lnTo>
                    <a:lnTo>
                      <a:pt x="76" y="582"/>
                    </a:lnTo>
                    <a:lnTo>
                      <a:pt x="88" y="553"/>
                    </a:lnTo>
                    <a:lnTo>
                      <a:pt x="101" y="525"/>
                    </a:lnTo>
                    <a:lnTo>
                      <a:pt x="115" y="497"/>
                    </a:lnTo>
                    <a:lnTo>
                      <a:pt x="129" y="470"/>
                    </a:lnTo>
                    <a:lnTo>
                      <a:pt x="145" y="443"/>
                    </a:lnTo>
                    <a:lnTo>
                      <a:pt x="161" y="415"/>
                    </a:lnTo>
                    <a:lnTo>
                      <a:pt x="178" y="388"/>
                    </a:lnTo>
                    <a:lnTo>
                      <a:pt x="197" y="362"/>
                    </a:lnTo>
                    <a:lnTo>
                      <a:pt x="215" y="337"/>
                    </a:lnTo>
                    <a:lnTo>
                      <a:pt x="234" y="311"/>
                    </a:lnTo>
                    <a:lnTo>
                      <a:pt x="254" y="287"/>
                    </a:lnTo>
                    <a:lnTo>
                      <a:pt x="274" y="263"/>
                    </a:lnTo>
                    <a:lnTo>
                      <a:pt x="295" y="239"/>
                    </a:lnTo>
                    <a:lnTo>
                      <a:pt x="316" y="216"/>
                    </a:lnTo>
                    <a:lnTo>
                      <a:pt x="339" y="194"/>
                    </a:lnTo>
                    <a:lnTo>
                      <a:pt x="362" y="174"/>
                    </a:lnTo>
                    <a:lnTo>
                      <a:pt x="385" y="154"/>
                    </a:lnTo>
                    <a:lnTo>
                      <a:pt x="409" y="135"/>
                    </a:lnTo>
                    <a:lnTo>
                      <a:pt x="433" y="117"/>
                    </a:lnTo>
                    <a:lnTo>
                      <a:pt x="457" y="100"/>
                    </a:lnTo>
                    <a:lnTo>
                      <a:pt x="482" y="85"/>
                    </a:lnTo>
                    <a:lnTo>
                      <a:pt x="507" y="70"/>
                    </a:lnTo>
                    <a:lnTo>
                      <a:pt x="532" y="56"/>
                    </a:lnTo>
                    <a:lnTo>
                      <a:pt x="558" y="45"/>
                    </a:lnTo>
                    <a:lnTo>
                      <a:pt x="583" y="34"/>
                    </a:lnTo>
                    <a:lnTo>
                      <a:pt x="609" y="24"/>
                    </a:lnTo>
                    <a:lnTo>
                      <a:pt x="608" y="2"/>
                    </a:lnTo>
                    <a:lnTo>
                      <a:pt x="609" y="24"/>
                    </a:lnTo>
                    <a:lnTo>
                      <a:pt x="614" y="22"/>
                    </a:lnTo>
                    <a:lnTo>
                      <a:pt x="617" y="18"/>
                    </a:lnTo>
                    <a:lnTo>
                      <a:pt x="618" y="14"/>
                    </a:lnTo>
                    <a:lnTo>
                      <a:pt x="617" y="10"/>
                    </a:lnTo>
                    <a:lnTo>
                      <a:pt x="615" y="5"/>
                    </a:lnTo>
                    <a:lnTo>
                      <a:pt x="612" y="3"/>
                    </a:lnTo>
                    <a:lnTo>
                      <a:pt x="607" y="0"/>
                    </a:lnTo>
                    <a:lnTo>
                      <a:pt x="602" y="2"/>
                    </a:lnTo>
                    <a:lnTo>
                      <a:pt x="60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199040" y="2608560"/>
                <a:ext cx="326880" cy="31680"/>
              </a:xfrm>
              <a:custGeom>
                <a:avLst/>
                <a:gdLst/>
                <a:ahLst/>
                <a:rect l="l" t="t" r="r" b="b"/>
                <a:pathLst>
                  <a:path w="1031" h="101">
                    <a:moveTo>
                      <a:pt x="15" y="24"/>
                    </a:moveTo>
                    <a:lnTo>
                      <a:pt x="10" y="24"/>
                    </a:lnTo>
                    <a:lnTo>
                      <a:pt x="38" y="30"/>
                    </a:lnTo>
                    <a:lnTo>
                      <a:pt x="68" y="35"/>
                    </a:lnTo>
                    <a:lnTo>
                      <a:pt x="98" y="40"/>
                    </a:lnTo>
                    <a:lnTo>
                      <a:pt x="128" y="43"/>
                    </a:lnTo>
                    <a:lnTo>
                      <a:pt x="190" y="50"/>
                    </a:lnTo>
                    <a:lnTo>
                      <a:pt x="254" y="55"/>
                    </a:lnTo>
                    <a:lnTo>
                      <a:pt x="320" y="58"/>
                    </a:lnTo>
                    <a:lnTo>
                      <a:pt x="386" y="60"/>
                    </a:lnTo>
                    <a:lnTo>
                      <a:pt x="452" y="63"/>
                    </a:lnTo>
                    <a:lnTo>
                      <a:pt x="519" y="64"/>
                    </a:lnTo>
                    <a:lnTo>
                      <a:pt x="587" y="65"/>
                    </a:lnTo>
                    <a:lnTo>
                      <a:pt x="654" y="66"/>
                    </a:lnTo>
                    <a:lnTo>
                      <a:pt x="719" y="68"/>
                    </a:lnTo>
                    <a:lnTo>
                      <a:pt x="784" y="72"/>
                    </a:lnTo>
                    <a:lnTo>
                      <a:pt x="848" y="76"/>
                    </a:lnTo>
                    <a:lnTo>
                      <a:pt x="909" y="83"/>
                    </a:lnTo>
                    <a:lnTo>
                      <a:pt x="940" y="87"/>
                    </a:lnTo>
                    <a:lnTo>
                      <a:pt x="970" y="91"/>
                    </a:lnTo>
                    <a:lnTo>
                      <a:pt x="998" y="96"/>
                    </a:lnTo>
                    <a:lnTo>
                      <a:pt x="1027" y="101"/>
                    </a:lnTo>
                    <a:lnTo>
                      <a:pt x="1031" y="79"/>
                    </a:lnTo>
                    <a:lnTo>
                      <a:pt x="1003" y="73"/>
                    </a:lnTo>
                    <a:lnTo>
                      <a:pt x="973" y="67"/>
                    </a:lnTo>
                    <a:lnTo>
                      <a:pt x="943" y="63"/>
                    </a:lnTo>
                    <a:lnTo>
                      <a:pt x="913" y="59"/>
                    </a:lnTo>
                    <a:lnTo>
                      <a:pt x="850" y="52"/>
                    </a:lnTo>
                    <a:lnTo>
                      <a:pt x="786" y="48"/>
                    </a:lnTo>
                    <a:lnTo>
                      <a:pt x="720" y="44"/>
                    </a:lnTo>
                    <a:lnTo>
                      <a:pt x="654" y="42"/>
                    </a:lnTo>
                    <a:lnTo>
                      <a:pt x="588" y="41"/>
                    </a:lnTo>
                    <a:lnTo>
                      <a:pt x="521" y="40"/>
                    </a:lnTo>
                    <a:lnTo>
                      <a:pt x="453" y="39"/>
                    </a:lnTo>
                    <a:lnTo>
                      <a:pt x="386" y="36"/>
                    </a:lnTo>
                    <a:lnTo>
                      <a:pt x="321" y="34"/>
                    </a:lnTo>
                    <a:lnTo>
                      <a:pt x="256" y="31"/>
                    </a:lnTo>
                    <a:lnTo>
                      <a:pt x="192" y="26"/>
                    </a:lnTo>
                    <a:lnTo>
                      <a:pt x="131" y="19"/>
                    </a:lnTo>
                    <a:lnTo>
                      <a:pt x="101" y="16"/>
                    </a:lnTo>
                    <a:lnTo>
                      <a:pt x="71" y="11"/>
                    </a:lnTo>
                    <a:lnTo>
                      <a:pt x="43" y="6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2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978360" y="2608560"/>
                <a:ext cx="225360" cy="115920"/>
              </a:xfrm>
              <a:custGeom>
                <a:avLst/>
                <a:gdLst/>
                <a:ahLst/>
                <a:rect l="l" t="t" r="r" b="b"/>
                <a:pathLst>
                  <a:path w="712" h="367">
                    <a:moveTo>
                      <a:pt x="22" y="362"/>
                    </a:moveTo>
                    <a:lnTo>
                      <a:pt x="21" y="365"/>
                    </a:lnTo>
                    <a:lnTo>
                      <a:pt x="68" y="327"/>
                    </a:lnTo>
                    <a:lnTo>
                      <a:pt x="114" y="292"/>
                    </a:lnTo>
                    <a:lnTo>
                      <a:pt x="160" y="260"/>
                    </a:lnTo>
                    <a:lnTo>
                      <a:pt x="205" y="229"/>
                    </a:lnTo>
                    <a:lnTo>
                      <a:pt x="250" y="202"/>
                    </a:lnTo>
                    <a:lnTo>
                      <a:pt x="294" y="175"/>
                    </a:lnTo>
                    <a:lnTo>
                      <a:pt x="339" y="153"/>
                    </a:lnTo>
                    <a:lnTo>
                      <a:pt x="382" y="131"/>
                    </a:lnTo>
                    <a:lnTo>
                      <a:pt x="424" y="112"/>
                    </a:lnTo>
                    <a:lnTo>
                      <a:pt x="468" y="93"/>
                    </a:lnTo>
                    <a:lnTo>
                      <a:pt x="509" y="77"/>
                    </a:lnTo>
                    <a:lnTo>
                      <a:pt x="551" y="64"/>
                    </a:lnTo>
                    <a:lnTo>
                      <a:pt x="592" y="51"/>
                    </a:lnTo>
                    <a:lnTo>
                      <a:pt x="632" y="41"/>
                    </a:lnTo>
                    <a:lnTo>
                      <a:pt x="672" y="32"/>
                    </a:lnTo>
                    <a:lnTo>
                      <a:pt x="712" y="24"/>
                    </a:lnTo>
                    <a:lnTo>
                      <a:pt x="707" y="0"/>
                    </a:lnTo>
                    <a:lnTo>
                      <a:pt x="667" y="8"/>
                    </a:lnTo>
                    <a:lnTo>
                      <a:pt x="626" y="17"/>
                    </a:lnTo>
                    <a:lnTo>
                      <a:pt x="585" y="28"/>
                    </a:lnTo>
                    <a:lnTo>
                      <a:pt x="543" y="41"/>
                    </a:lnTo>
                    <a:lnTo>
                      <a:pt x="501" y="55"/>
                    </a:lnTo>
                    <a:lnTo>
                      <a:pt x="458" y="72"/>
                    </a:lnTo>
                    <a:lnTo>
                      <a:pt x="415" y="89"/>
                    </a:lnTo>
                    <a:lnTo>
                      <a:pt x="372" y="109"/>
                    </a:lnTo>
                    <a:lnTo>
                      <a:pt x="327" y="131"/>
                    </a:lnTo>
                    <a:lnTo>
                      <a:pt x="283" y="155"/>
                    </a:lnTo>
                    <a:lnTo>
                      <a:pt x="237" y="181"/>
                    </a:lnTo>
                    <a:lnTo>
                      <a:pt x="192" y="209"/>
                    </a:lnTo>
                    <a:lnTo>
                      <a:pt x="146" y="239"/>
                    </a:lnTo>
                    <a:lnTo>
                      <a:pt x="99" y="272"/>
                    </a:lnTo>
                    <a:lnTo>
                      <a:pt x="53" y="308"/>
                    </a:lnTo>
                    <a:lnTo>
                      <a:pt x="5" y="345"/>
                    </a:lnTo>
                    <a:lnTo>
                      <a:pt x="4" y="348"/>
                    </a:lnTo>
                    <a:lnTo>
                      <a:pt x="5" y="345"/>
                    </a:lnTo>
                    <a:lnTo>
                      <a:pt x="1" y="350"/>
                    </a:lnTo>
                    <a:lnTo>
                      <a:pt x="0" y="354"/>
                    </a:lnTo>
                    <a:lnTo>
                      <a:pt x="1" y="359"/>
                    </a:lnTo>
                    <a:lnTo>
                      <a:pt x="4" y="362"/>
                    </a:lnTo>
                    <a:lnTo>
                      <a:pt x="7" y="366"/>
                    </a:lnTo>
                    <a:lnTo>
                      <a:pt x="12" y="367"/>
                    </a:lnTo>
                    <a:lnTo>
                      <a:pt x="16" y="367"/>
                    </a:lnTo>
                    <a:lnTo>
                      <a:pt x="21" y="365"/>
                    </a:lnTo>
                    <a:lnTo>
                      <a:pt x="22" y="3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924360" y="2718000"/>
                <a:ext cx="60120" cy="174600"/>
              </a:xfrm>
              <a:custGeom>
                <a:avLst/>
                <a:gdLst/>
                <a:ahLst/>
                <a:rect l="l" t="t" r="r" b="b"/>
                <a:pathLst>
                  <a:path w="190" h="549">
                    <a:moveTo>
                      <a:pt x="21" y="532"/>
                    </a:moveTo>
                    <a:lnTo>
                      <a:pt x="44" y="533"/>
                    </a:lnTo>
                    <a:lnTo>
                      <a:pt x="36" y="506"/>
                    </a:lnTo>
                    <a:lnTo>
                      <a:pt x="30" y="477"/>
                    </a:lnTo>
                    <a:lnTo>
                      <a:pt x="27" y="449"/>
                    </a:lnTo>
                    <a:lnTo>
                      <a:pt x="25" y="420"/>
                    </a:lnTo>
                    <a:lnTo>
                      <a:pt x="25" y="390"/>
                    </a:lnTo>
                    <a:lnTo>
                      <a:pt x="26" y="360"/>
                    </a:lnTo>
                    <a:lnTo>
                      <a:pt x="28" y="344"/>
                    </a:lnTo>
                    <a:lnTo>
                      <a:pt x="30" y="329"/>
                    </a:lnTo>
                    <a:lnTo>
                      <a:pt x="34" y="313"/>
                    </a:lnTo>
                    <a:lnTo>
                      <a:pt x="37" y="297"/>
                    </a:lnTo>
                    <a:lnTo>
                      <a:pt x="42" y="281"/>
                    </a:lnTo>
                    <a:lnTo>
                      <a:pt x="46" y="264"/>
                    </a:lnTo>
                    <a:lnTo>
                      <a:pt x="52" y="248"/>
                    </a:lnTo>
                    <a:lnTo>
                      <a:pt x="58" y="231"/>
                    </a:lnTo>
                    <a:lnTo>
                      <a:pt x="65" y="215"/>
                    </a:lnTo>
                    <a:lnTo>
                      <a:pt x="73" y="198"/>
                    </a:lnTo>
                    <a:lnTo>
                      <a:pt x="81" y="180"/>
                    </a:lnTo>
                    <a:lnTo>
                      <a:pt x="90" y="163"/>
                    </a:lnTo>
                    <a:lnTo>
                      <a:pt x="110" y="127"/>
                    </a:lnTo>
                    <a:lnTo>
                      <a:pt x="134" y="91"/>
                    </a:lnTo>
                    <a:lnTo>
                      <a:pt x="160" y="53"/>
                    </a:lnTo>
                    <a:lnTo>
                      <a:pt x="190" y="14"/>
                    </a:lnTo>
                    <a:lnTo>
                      <a:pt x="172" y="0"/>
                    </a:lnTo>
                    <a:lnTo>
                      <a:pt x="141" y="38"/>
                    </a:lnTo>
                    <a:lnTo>
                      <a:pt x="114" y="77"/>
                    </a:lnTo>
                    <a:lnTo>
                      <a:pt x="90" y="115"/>
                    </a:lnTo>
                    <a:lnTo>
                      <a:pt x="68" y="151"/>
                    </a:lnTo>
                    <a:lnTo>
                      <a:pt x="59" y="169"/>
                    </a:lnTo>
                    <a:lnTo>
                      <a:pt x="51" y="188"/>
                    </a:lnTo>
                    <a:lnTo>
                      <a:pt x="43" y="205"/>
                    </a:lnTo>
                    <a:lnTo>
                      <a:pt x="35" y="223"/>
                    </a:lnTo>
                    <a:lnTo>
                      <a:pt x="29" y="240"/>
                    </a:lnTo>
                    <a:lnTo>
                      <a:pt x="24" y="257"/>
                    </a:lnTo>
                    <a:lnTo>
                      <a:pt x="18" y="274"/>
                    </a:lnTo>
                    <a:lnTo>
                      <a:pt x="13" y="291"/>
                    </a:lnTo>
                    <a:lnTo>
                      <a:pt x="10" y="307"/>
                    </a:lnTo>
                    <a:lnTo>
                      <a:pt x="7" y="325"/>
                    </a:lnTo>
                    <a:lnTo>
                      <a:pt x="4" y="340"/>
                    </a:lnTo>
                    <a:lnTo>
                      <a:pt x="2" y="358"/>
                    </a:lnTo>
                    <a:lnTo>
                      <a:pt x="0" y="390"/>
                    </a:lnTo>
                    <a:lnTo>
                      <a:pt x="1" y="420"/>
                    </a:lnTo>
                    <a:lnTo>
                      <a:pt x="2" y="451"/>
                    </a:lnTo>
                    <a:lnTo>
                      <a:pt x="7" y="482"/>
                    </a:lnTo>
                    <a:lnTo>
                      <a:pt x="12" y="511"/>
                    </a:lnTo>
                    <a:lnTo>
                      <a:pt x="20" y="540"/>
                    </a:lnTo>
                    <a:lnTo>
                      <a:pt x="43" y="542"/>
                    </a:lnTo>
                    <a:lnTo>
                      <a:pt x="20" y="540"/>
                    </a:lnTo>
                    <a:lnTo>
                      <a:pt x="24" y="546"/>
                    </a:lnTo>
                    <a:lnTo>
                      <a:pt x="27" y="548"/>
                    </a:lnTo>
                    <a:lnTo>
                      <a:pt x="32" y="549"/>
                    </a:lnTo>
                    <a:lnTo>
                      <a:pt x="36" y="549"/>
                    </a:lnTo>
                    <a:lnTo>
                      <a:pt x="40" y="547"/>
                    </a:lnTo>
                    <a:lnTo>
                      <a:pt x="43" y="543"/>
                    </a:lnTo>
                    <a:lnTo>
                      <a:pt x="44" y="539"/>
                    </a:lnTo>
                    <a:lnTo>
                      <a:pt x="44" y="533"/>
                    </a:lnTo>
                    <a:lnTo>
                      <a:pt x="21" y="5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9732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14"/>
                    </a:moveTo>
                    <a:lnTo>
                      <a:pt x="23" y="8"/>
                    </a:lnTo>
                    <a:lnTo>
                      <a:pt x="21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295880" y="2927520"/>
                <a:ext cx="47520" cy="44640"/>
              </a:xfrm>
              <a:custGeom>
                <a:avLst/>
                <a:gdLst/>
                <a:ahLst/>
                <a:rect l="l" t="t" r="r" b="b"/>
                <a:pathLst>
                  <a:path w="148" h="141">
                    <a:moveTo>
                      <a:pt x="126" y="20"/>
                    </a:moveTo>
                    <a:lnTo>
                      <a:pt x="120" y="37"/>
                    </a:lnTo>
                    <a:lnTo>
                      <a:pt x="113" y="53"/>
                    </a:lnTo>
                    <a:lnTo>
                      <a:pt x="106" y="67"/>
                    </a:lnTo>
                    <a:lnTo>
                      <a:pt x="101" y="79"/>
                    </a:lnTo>
                    <a:lnTo>
                      <a:pt x="95" y="90"/>
                    </a:lnTo>
                    <a:lnTo>
                      <a:pt x="89" y="98"/>
                    </a:lnTo>
                    <a:lnTo>
                      <a:pt x="83" y="104"/>
                    </a:lnTo>
                    <a:lnTo>
                      <a:pt x="79" y="109"/>
                    </a:lnTo>
                    <a:lnTo>
                      <a:pt x="73" y="112"/>
                    </a:lnTo>
                    <a:lnTo>
                      <a:pt x="70" y="115"/>
                    </a:lnTo>
                    <a:lnTo>
                      <a:pt x="66" y="116"/>
                    </a:lnTo>
                    <a:lnTo>
                      <a:pt x="63" y="117"/>
                    </a:lnTo>
                    <a:lnTo>
                      <a:pt x="61" y="116"/>
                    </a:lnTo>
                    <a:lnTo>
                      <a:pt x="58" y="116"/>
                    </a:lnTo>
                    <a:lnTo>
                      <a:pt x="55" y="114"/>
                    </a:lnTo>
                    <a:lnTo>
                      <a:pt x="53" y="111"/>
                    </a:lnTo>
                    <a:lnTo>
                      <a:pt x="49" y="109"/>
                    </a:lnTo>
                    <a:lnTo>
                      <a:pt x="46" y="104"/>
                    </a:lnTo>
                    <a:lnTo>
                      <a:pt x="42" y="100"/>
                    </a:lnTo>
                    <a:lnTo>
                      <a:pt x="40" y="94"/>
                    </a:lnTo>
                    <a:lnTo>
                      <a:pt x="34" y="80"/>
                    </a:lnTo>
                    <a:lnTo>
                      <a:pt x="30" y="67"/>
                    </a:lnTo>
                    <a:lnTo>
                      <a:pt x="26" y="51"/>
                    </a:lnTo>
                    <a:lnTo>
                      <a:pt x="25" y="34"/>
                    </a:lnTo>
                    <a:lnTo>
                      <a:pt x="25" y="18"/>
                    </a:lnTo>
                    <a:lnTo>
                      <a:pt x="26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" y="35"/>
                    </a:lnTo>
                    <a:lnTo>
                      <a:pt x="3" y="54"/>
                    </a:lnTo>
                    <a:lnTo>
                      <a:pt x="6" y="73"/>
                    </a:lnTo>
                    <a:lnTo>
                      <a:pt x="12" y="90"/>
                    </a:lnTo>
                    <a:lnTo>
                      <a:pt x="17" y="104"/>
                    </a:lnTo>
                    <a:lnTo>
                      <a:pt x="22" y="112"/>
                    </a:lnTo>
                    <a:lnTo>
                      <a:pt x="26" y="118"/>
                    </a:lnTo>
                    <a:lnTo>
                      <a:pt x="31" y="125"/>
                    </a:lnTo>
                    <a:lnTo>
                      <a:pt x="37" y="130"/>
                    </a:lnTo>
                    <a:lnTo>
                      <a:pt x="42" y="134"/>
                    </a:lnTo>
                    <a:lnTo>
                      <a:pt x="49" y="137"/>
                    </a:lnTo>
                    <a:lnTo>
                      <a:pt x="56" y="140"/>
                    </a:lnTo>
                    <a:lnTo>
                      <a:pt x="64" y="141"/>
                    </a:lnTo>
                    <a:lnTo>
                      <a:pt x="72" y="140"/>
                    </a:lnTo>
                    <a:lnTo>
                      <a:pt x="80" y="137"/>
                    </a:lnTo>
                    <a:lnTo>
                      <a:pt x="87" y="133"/>
                    </a:lnTo>
                    <a:lnTo>
                      <a:pt x="95" y="127"/>
                    </a:lnTo>
                    <a:lnTo>
                      <a:pt x="102" y="120"/>
                    </a:lnTo>
                    <a:lnTo>
                      <a:pt x="109" y="112"/>
                    </a:lnTo>
                    <a:lnTo>
                      <a:pt x="115" y="102"/>
                    </a:lnTo>
                    <a:lnTo>
                      <a:pt x="122" y="91"/>
                    </a:lnTo>
                    <a:lnTo>
                      <a:pt x="129" y="77"/>
                    </a:lnTo>
                    <a:lnTo>
                      <a:pt x="136" y="62"/>
                    </a:lnTo>
                    <a:lnTo>
                      <a:pt x="142" y="46"/>
                    </a:lnTo>
                    <a:lnTo>
                      <a:pt x="148" y="28"/>
                    </a:lnTo>
                    <a:lnTo>
                      <a:pt x="126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36920" y="2930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17"/>
                    </a:moveTo>
                    <a:lnTo>
                      <a:pt x="24" y="11"/>
                    </a:lnTo>
                    <a:lnTo>
                      <a:pt x="22" y="7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275000" y="28893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8"/>
                    </a:moveTo>
                    <a:lnTo>
                      <a:pt x="4" y="13"/>
                    </a:lnTo>
                    <a:lnTo>
                      <a:pt x="7" y="15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20" y="14"/>
                    </a:lnTo>
                    <a:lnTo>
                      <a:pt x="23" y="10"/>
                    </a:lnTo>
                    <a:lnTo>
                      <a:pt x="24" y="6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273560" y="284976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181" h="239">
                    <a:moveTo>
                      <a:pt x="181" y="234"/>
                    </a:moveTo>
                    <a:lnTo>
                      <a:pt x="177" y="205"/>
                    </a:lnTo>
                    <a:lnTo>
                      <a:pt x="170" y="177"/>
                    </a:lnTo>
                    <a:lnTo>
                      <a:pt x="164" y="152"/>
                    </a:lnTo>
                    <a:lnTo>
                      <a:pt x="157" y="129"/>
                    </a:lnTo>
                    <a:lnTo>
                      <a:pt x="151" y="109"/>
                    </a:lnTo>
                    <a:lnTo>
                      <a:pt x="143" y="91"/>
                    </a:lnTo>
                    <a:lnTo>
                      <a:pt x="136" y="73"/>
                    </a:lnTo>
                    <a:lnTo>
                      <a:pt x="128" y="59"/>
                    </a:lnTo>
                    <a:lnTo>
                      <a:pt x="120" y="46"/>
                    </a:lnTo>
                    <a:lnTo>
                      <a:pt x="112" y="35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6" y="11"/>
                    </a:lnTo>
                    <a:lnTo>
                      <a:pt x="78" y="5"/>
                    </a:lnTo>
                    <a:lnTo>
                      <a:pt x="69" y="3"/>
                    </a:lnTo>
                    <a:lnTo>
                      <a:pt x="59" y="0"/>
                    </a:lnTo>
                    <a:lnTo>
                      <a:pt x="50" y="2"/>
                    </a:lnTo>
                    <a:lnTo>
                      <a:pt x="41" y="4"/>
                    </a:lnTo>
                    <a:lnTo>
                      <a:pt x="33" y="7"/>
                    </a:lnTo>
                    <a:lnTo>
                      <a:pt x="26" y="12"/>
                    </a:lnTo>
                    <a:lnTo>
                      <a:pt x="21" y="19"/>
                    </a:lnTo>
                    <a:lnTo>
                      <a:pt x="15" y="26"/>
                    </a:lnTo>
                    <a:lnTo>
                      <a:pt x="10" y="34"/>
                    </a:lnTo>
                    <a:lnTo>
                      <a:pt x="7" y="43"/>
                    </a:lnTo>
                    <a:lnTo>
                      <a:pt x="4" y="53"/>
                    </a:lnTo>
                    <a:lnTo>
                      <a:pt x="2" y="63"/>
                    </a:lnTo>
                    <a:lnTo>
                      <a:pt x="1" y="73"/>
                    </a:lnTo>
                    <a:lnTo>
                      <a:pt x="0" y="85"/>
                    </a:lnTo>
                    <a:lnTo>
                      <a:pt x="1" y="97"/>
                    </a:lnTo>
                    <a:lnTo>
                      <a:pt x="2" y="109"/>
                    </a:lnTo>
                    <a:lnTo>
                      <a:pt x="6" y="122"/>
                    </a:lnTo>
                    <a:lnTo>
                      <a:pt x="9" y="135"/>
                    </a:lnTo>
                    <a:lnTo>
                      <a:pt x="32" y="127"/>
                    </a:lnTo>
                    <a:lnTo>
                      <a:pt x="29" y="116"/>
                    </a:lnTo>
                    <a:lnTo>
                      <a:pt x="26" y="105"/>
                    </a:lnTo>
                    <a:lnTo>
                      <a:pt x="25" y="95"/>
                    </a:lnTo>
                    <a:lnTo>
                      <a:pt x="25" y="85"/>
                    </a:lnTo>
                    <a:lnTo>
                      <a:pt x="25" y="76"/>
                    </a:lnTo>
                    <a:lnTo>
                      <a:pt x="26" y="67"/>
                    </a:lnTo>
                    <a:lnTo>
                      <a:pt x="28" y="59"/>
                    </a:lnTo>
                    <a:lnTo>
                      <a:pt x="30" y="51"/>
                    </a:lnTo>
                    <a:lnTo>
                      <a:pt x="32" y="45"/>
                    </a:lnTo>
                    <a:lnTo>
                      <a:pt x="36" y="39"/>
                    </a:lnTo>
                    <a:lnTo>
                      <a:pt x="39" y="35"/>
                    </a:lnTo>
                    <a:lnTo>
                      <a:pt x="42" y="31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4" y="26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7" y="28"/>
                    </a:lnTo>
                    <a:lnTo>
                      <a:pt x="73" y="30"/>
                    </a:lnTo>
                    <a:lnTo>
                      <a:pt x="79" y="35"/>
                    </a:lnTo>
                    <a:lnTo>
                      <a:pt x="86" y="41"/>
                    </a:lnTo>
                    <a:lnTo>
                      <a:pt x="92" y="49"/>
                    </a:lnTo>
                    <a:lnTo>
                      <a:pt x="99" y="59"/>
                    </a:lnTo>
                    <a:lnTo>
                      <a:pt x="106" y="70"/>
                    </a:lnTo>
                    <a:lnTo>
                      <a:pt x="114" y="84"/>
                    </a:lnTo>
                    <a:lnTo>
                      <a:pt x="121" y="100"/>
                    </a:lnTo>
                    <a:lnTo>
                      <a:pt x="128" y="117"/>
                    </a:lnTo>
                    <a:lnTo>
                      <a:pt x="135" y="137"/>
                    </a:lnTo>
                    <a:lnTo>
                      <a:pt x="140" y="159"/>
                    </a:lnTo>
                    <a:lnTo>
                      <a:pt x="147" y="183"/>
                    </a:lnTo>
                    <a:lnTo>
                      <a:pt x="153" y="210"/>
                    </a:lnTo>
                    <a:lnTo>
                      <a:pt x="157" y="239"/>
                    </a:lnTo>
                    <a:lnTo>
                      <a:pt x="181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322880" y="29242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5"/>
                    </a:moveTo>
                    <a:lnTo>
                      <a:pt x="3" y="9"/>
                    </a:lnTo>
                    <a:lnTo>
                      <a:pt x="6" y="13"/>
                    </a:lnTo>
                    <a:lnTo>
                      <a:pt x="11" y="15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870360" y="327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lnTo>
                      <a:pt x="5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873600" y="3276720"/>
                <a:ext cx="93600" cy="39960"/>
              </a:xfrm>
              <a:custGeom>
                <a:avLst/>
                <a:gdLst/>
                <a:ahLst/>
                <a:rect l="l" t="t" r="r" b="b"/>
                <a:pathLst>
                  <a:path w="292" h="123">
                    <a:moveTo>
                      <a:pt x="292" y="109"/>
                    </a:moveTo>
                    <a:lnTo>
                      <a:pt x="283" y="96"/>
                    </a:lnTo>
                    <a:lnTo>
                      <a:pt x="273" y="83"/>
                    </a:lnTo>
                    <a:lnTo>
                      <a:pt x="262" y="70"/>
                    </a:lnTo>
                    <a:lnTo>
                      <a:pt x="251" y="60"/>
                    </a:lnTo>
                    <a:lnTo>
                      <a:pt x="239" y="51"/>
                    </a:lnTo>
                    <a:lnTo>
                      <a:pt x="228" y="42"/>
                    </a:lnTo>
                    <a:lnTo>
                      <a:pt x="217" y="34"/>
                    </a:lnTo>
                    <a:lnTo>
                      <a:pt x="204" y="27"/>
                    </a:lnTo>
                    <a:lnTo>
                      <a:pt x="192" y="21"/>
                    </a:lnTo>
                    <a:lnTo>
                      <a:pt x="180" y="17"/>
                    </a:lnTo>
                    <a:lnTo>
                      <a:pt x="168" y="12"/>
                    </a:lnTo>
                    <a:lnTo>
                      <a:pt x="155" y="9"/>
                    </a:lnTo>
                    <a:lnTo>
                      <a:pt x="131" y="3"/>
                    </a:lnTo>
                    <a:lnTo>
                      <a:pt x="108" y="1"/>
                    </a:lnTo>
                    <a:lnTo>
                      <a:pt x="87" y="0"/>
                    </a:lnTo>
                    <a:lnTo>
                      <a:pt x="66" y="0"/>
                    </a:lnTo>
                    <a:lnTo>
                      <a:pt x="48" y="1"/>
                    </a:lnTo>
                    <a:lnTo>
                      <a:pt x="32" y="3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7" y="33"/>
                    </a:lnTo>
                    <a:lnTo>
                      <a:pt x="14" y="31"/>
                    </a:lnTo>
                    <a:lnTo>
                      <a:pt x="35" y="27"/>
                    </a:lnTo>
                    <a:lnTo>
                      <a:pt x="50" y="25"/>
                    </a:lnTo>
                    <a:lnTo>
                      <a:pt x="67" y="24"/>
                    </a:lnTo>
                    <a:lnTo>
                      <a:pt x="86" y="24"/>
                    </a:lnTo>
                    <a:lnTo>
                      <a:pt x="106" y="25"/>
                    </a:lnTo>
                    <a:lnTo>
                      <a:pt x="127" y="27"/>
                    </a:lnTo>
                    <a:lnTo>
                      <a:pt x="149" y="32"/>
                    </a:lnTo>
                    <a:lnTo>
                      <a:pt x="160" y="35"/>
                    </a:lnTo>
                    <a:lnTo>
                      <a:pt x="171" y="40"/>
                    </a:lnTo>
                    <a:lnTo>
                      <a:pt x="182" y="44"/>
                    </a:lnTo>
                    <a:lnTo>
                      <a:pt x="193" y="49"/>
                    </a:lnTo>
                    <a:lnTo>
                      <a:pt x="204" y="56"/>
                    </a:lnTo>
                    <a:lnTo>
                      <a:pt x="214" y="62"/>
                    </a:lnTo>
                    <a:lnTo>
                      <a:pt x="225" y="69"/>
                    </a:lnTo>
                    <a:lnTo>
                      <a:pt x="235" y="78"/>
                    </a:lnTo>
                    <a:lnTo>
                      <a:pt x="245" y="88"/>
                    </a:lnTo>
                    <a:lnTo>
                      <a:pt x="254" y="98"/>
                    </a:lnTo>
                    <a:lnTo>
                      <a:pt x="263" y="110"/>
                    </a:lnTo>
                    <a:lnTo>
                      <a:pt x="273" y="123"/>
                    </a:lnTo>
                    <a:lnTo>
                      <a:pt x="292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960720" y="3311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4"/>
                    </a:moveTo>
                    <a:lnTo>
                      <a:pt x="3" y="17"/>
                    </a:lnTo>
                    <a:lnTo>
                      <a:pt x="7" y="20"/>
                    </a:lnTo>
                    <a:lnTo>
                      <a:pt x="12" y="18"/>
                    </a:lnTo>
                    <a:lnTo>
                      <a:pt x="15" y="17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21" y="6"/>
                    </a:lnTo>
                    <a:lnTo>
                      <a:pt x="1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040360" y="36165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12"/>
                    </a:moveTo>
                    <a:lnTo>
                      <a:pt x="24" y="7"/>
                    </a:lnTo>
                    <a:lnTo>
                      <a:pt x="21" y="2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26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965840" y="3619800"/>
                <a:ext cx="82440" cy="377640"/>
              </a:xfrm>
              <a:custGeom>
                <a:avLst/>
                <a:gdLst/>
                <a:ahLst/>
                <a:rect l="l" t="t" r="r" b="b"/>
                <a:pathLst>
                  <a:path w="259" h="1187">
                    <a:moveTo>
                      <a:pt x="18" y="1187"/>
                    </a:moveTo>
                    <a:lnTo>
                      <a:pt x="29" y="1175"/>
                    </a:lnTo>
                    <a:lnTo>
                      <a:pt x="40" y="1160"/>
                    </a:lnTo>
                    <a:lnTo>
                      <a:pt x="50" y="1145"/>
                    </a:lnTo>
                    <a:lnTo>
                      <a:pt x="60" y="1129"/>
                    </a:lnTo>
                    <a:lnTo>
                      <a:pt x="69" y="1112"/>
                    </a:lnTo>
                    <a:lnTo>
                      <a:pt x="80" y="1095"/>
                    </a:lnTo>
                    <a:lnTo>
                      <a:pt x="89" y="1077"/>
                    </a:lnTo>
                    <a:lnTo>
                      <a:pt x="97" y="1057"/>
                    </a:lnTo>
                    <a:lnTo>
                      <a:pt x="114" y="1019"/>
                    </a:lnTo>
                    <a:lnTo>
                      <a:pt x="129" y="976"/>
                    </a:lnTo>
                    <a:lnTo>
                      <a:pt x="143" y="932"/>
                    </a:lnTo>
                    <a:lnTo>
                      <a:pt x="156" y="886"/>
                    </a:lnTo>
                    <a:lnTo>
                      <a:pt x="168" y="840"/>
                    </a:lnTo>
                    <a:lnTo>
                      <a:pt x="179" y="791"/>
                    </a:lnTo>
                    <a:lnTo>
                      <a:pt x="189" y="742"/>
                    </a:lnTo>
                    <a:lnTo>
                      <a:pt x="198" y="691"/>
                    </a:lnTo>
                    <a:lnTo>
                      <a:pt x="206" y="641"/>
                    </a:lnTo>
                    <a:lnTo>
                      <a:pt x="214" y="591"/>
                    </a:lnTo>
                    <a:lnTo>
                      <a:pt x="221" y="541"/>
                    </a:lnTo>
                    <a:lnTo>
                      <a:pt x="227" y="492"/>
                    </a:lnTo>
                    <a:lnTo>
                      <a:pt x="237" y="395"/>
                    </a:lnTo>
                    <a:lnTo>
                      <a:pt x="245" y="304"/>
                    </a:lnTo>
                    <a:lnTo>
                      <a:pt x="251" y="221"/>
                    </a:lnTo>
                    <a:lnTo>
                      <a:pt x="254" y="148"/>
                    </a:lnTo>
                    <a:lnTo>
                      <a:pt x="257" y="41"/>
                    </a:lnTo>
                    <a:lnTo>
                      <a:pt x="259" y="0"/>
                    </a:lnTo>
                    <a:lnTo>
                      <a:pt x="233" y="0"/>
                    </a:lnTo>
                    <a:lnTo>
                      <a:pt x="233" y="39"/>
                    </a:lnTo>
                    <a:lnTo>
                      <a:pt x="230" y="147"/>
                    </a:lnTo>
                    <a:lnTo>
                      <a:pt x="225" y="220"/>
                    </a:lnTo>
                    <a:lnTo>
                      <a:pt x="221" y="303"/>
                    </a:lnTo>
                    <a:lnTo>
                      <a:pt x="213" y="393"/>
                    </a:lnTo>
                    <a:lnTo>
                      <a:pt x="203" y="490"/>
                    </a:lnTo>
                    <a:lnTo>
                      <a:pt x="197" y="539"/>
                    </a:lnTo>
                    <a:lnTo>
                      <a:pt x="190" y="588"/>
                    </a:lnTo>
                    <a:lnTo>
                      <a:pt x="183" y="638"/>
                    </a:lnTo>
                    <a:lnTo>
                      <a:pt x="174" y="688"/>
                    </a:lnTo>
                    <a:lnTo>
                      <a:pt x="165" y="737"/>
                    </a:lnTo>
                    <a:lnTo>
                      <a:pt x="156" y="786"/>
                    </a:lnTo>
                    <a:lnTo>
                      <a:pt x="145" y="834"/>
                    </a:lnTo>
                    <a:lnTo>
                      <a:pt x="133" y="881"/>
                    </a:lnTo>
                    <a:lnTo>
                      <a:pt x="119" y="925"/>
                    </a:lnTo>
                    <a:lnTo>
                      <a:pt x="106" y="969"/>
                    </a:lnTo>
                    <a:lnTo>
                      <a:pt x="91" y="1010"/>
                    </a:lnTo>
                    <a:lnTo>
                      <a:pt x="75" y="1048"/>
                    </a:lnTo>
                    <a:lnTo>
                      <a:pt x="66" y="1067"/>
                    </a:lnTo>
                    <a:lnTo>
                      <a:pt x="58" y="1084"/>
                    </a:lnTo>
                    <a:lnTo>
                      <a:pt x="49" y="1101"/>
                    </a:lnTo>
                    <a:lnTo>
                      <a:pt x="40" y="1117"/>
                    </a:lnTo>
                    <a:lnTo>
                      <a:pt x="29" y="1132"/>
                    </a:lnTo>
                    <a:lnTo>
                      <a:pt x="20" y="1146"/>
                    </a:lnTo>
                    <a:lnTo>
                      <a:pt x="10" y="1159"/>
                    </a:lnTo>
                    <a:lnTo>
                      <a:pt x="0" y="1171"/>
                    </a:lnTo>
                    <a:lnTo>
                      <a:pt x="18" y="11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65840" y="3992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4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3" y="21"/>
                    </a:lnTo>
                    <a:lnTo>
                      <a:pt x="17" y="20"/>
                    </a:lnTo>
                    <a:lnTo>
                      <a:pt x="22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497560" y="3156120"/>
                <a:ext cx="828720" cy="792360"/>
              </a:xfrm>
              <a:custGeom>
                <a:avLst/>
                <a:gdLst/>
                <a:ahLst/>
                <a:rect l="l" t="t" r="r" b="b"/>
                <a:pathLst>
                  <a:path w="2608" h="2496">
                    <a:moveTo>
                      <a:pt x="2608" y="0"/>
                    </a:moveTo>
                    <a:lnTo>
                      <a:pt x="2589" y="157"/>
                    </a:lnTo>
                    <a:lnTo>
                      <a:pt x="2571" y="309"/>
                    </a:lnTo>
                    <a:lnTo>
                      <a:pt x="2551" y="454"/>
                    </a:lnTo>
                    <a:lnTo>
                      <a:pt x="2530" y="595"/>
                    </a:lnTo>
                    <a:lnTo>
                      <a:pt x="2519" y="664"/>
                    </a:lnTo>
                    <a:lnTo>
                      <a:pt x="2507" y="732"/>
                    </a:lnTo>
                    <a:lnTo>
                      <a:pt x="2495" y="799"/>
                    </a:lnTo>
                    <a:lnTo>
                      <a:pt x="2482" y="867"/>
                    </a:lnTo>
                    <a:lnTo>
                      <a:pt x="2469" y="933"/>
                    </a:lnTo>
                    <a:lnTo>
                      <a:pt x="2454" y="998"/>
                    </a:lnTo>
                    <a:lnTo>
                      <a:pt x="2439" y="1064"/>
                    </a:lnTo>
                    <a:lnTo>
                      <a:pt x="2423" y="1129"/>
                    </a:lnTo>
                    <a:lnTo>
                      <a:pt x="2406" y="1194"/>
                    </a:lnTo>
                    <a:lnTo>
                      <a:pt x="2388" y="1259"/>
                    </a:lnTo>
                    <a:lnTo>
                      <a:pt x="2370" y="1325"/>
                    </a:lnTo>
                    <a:lnTo>
                      <a:pt x="2349" y="1390"/>
                    </a:lnTo>
                    <a:lnTo>
                      <a:pt x="2327" y="1456"/>
                    </a:lnTo>
                    <a:lnTo>
                      <a:pt x="2306" y="1522"/>
                    </a:lnTo>
                    <a:lnTo>
                      <a:pt x="2282" y="1588"/>
                    </a:lnTo>
                    <a:lnTo>
                      <a:pt x="2257" y="1655"/>
                    </a:lnTo>
                    <a:lnTo>
                      <a:pt x="2230" y="1724"/>
                    </a:lnTo>
                    <a:lnTo>
                      <a:pt x="2202" y="1792"/>
                    </a:lnTo>
                    <a:lnTo>
                      <a:pt x="2172" y="1862"/>
                    </a:lnTo>
                    <a:lnTo>
                      <a:pt x="2142" y="1932"/>
                    </a:lnTo>
                    <a:lnTo>
                      <a:pt x="2109" y="2005"/>
                    </a:lnTo>
                    <a:lnTo>
                      <a:pt x="2074" y="2078"/>
                    </a:lnTo>
                    <a:lnTo>
                      <a:pt x="2038" y="2152"/>
                    </a:lnTo>
                    <a:lnTo>
                      <a:pt x="2000" y="2229"/>
                    </a:lnTo>
                    <a:lnTo>
                      <a:pt x="1957" y="2255"/>
                    </a:lnTo>
                    <a:lnTo>
                      <a:pt x="1911" y="2281"/>
                    </a:lnTo>
                    <a:lnTo>
                      <a:pt x="1866" y="2306"/>
                    </a:lnTo>
                    <a:lnTo>
                      <a:pt x="1819" y="2330"/>
                    </a:lnTo>
                    <a:lnTo>
                      <a:pt x="1771" y="2352"/>
                    </a:lnTo>
                    <a:lnTo>
                      <a:pt x="1722" y="2373"/>
                    </a:lnTo>
                    <a:lnTo>
                      <a:pt x="1671" y="2392"/>
                    </a:lnTo>
                    <a:lnTo>
                      <a:pt x="1620" y="2410"/>
                    </a:lnTo>
                    <a:lnTo>
                      <a:pt x="1568" y="2426"/>
                    </a:lnTo>
                    <a:lnTo>
                      <a:pt x="1515" y="2441"/>
                    </a:lnTo>
                    <a:lnTo>
                      <a:pt x="1461" y="2455"/>
                    </a:lnTo>
                    <a:lnTo>
                      <a:pt x="1405" y="2466"/>
                    </a:lnTo>
                    <a:lnTo>
                      <a:pt x="1350" y="2475"/>
                    </a:lnTo>
                    <a:lnTo>
                      <a:pt x="1294" y="2483"/>
                    </a:lnTo>
                    <a:lnTo>
                      <a:pt x="1237" y="2489"/>
                    </a:lnTo>
                    <a:lnTo>
                      <a:pt x="1179" y="2493"/>
                    </a:lnTo>
                    <a:lnTo>
                      <a:pt x="1120" y="2496"/>
                    </a:lnTo>
                    <a:lnTo>
                      <a:pt x="1061" y="2496"/>
                    </a:lnTo>
                    <a:lnTo>
                      <a:pt x="1001" y="2493"/>
                    </a:lnTo>
                    <a:lnTo>
                      <a:pt x="942" y="2490"/>
                    </a:lnTo>
                    <a:lnTo>
                      <a:pt x="880" y="2483"/>
                    </a:lnTo>
                    <a:lnTo>
                      <a:pt x="820" y="2475"/>
                    </a:lnTo>
                    <a:lnTo>
                      <a:pt x="758" y="2464"/>
                    </a:lnTo>
                    <a:lnTo>
                      <a:pt x="696" y="2451"/>
                    </a:lnTo>
                    <a:lnTo>
                      <a:pt x="634" y="2436"/>
                    </a:lnTo>
                    <a:lnTo>
                      <a:pt x="571" y="2418"/>
                    </a:lnTo>
                    <a:lnTo>
                      <a:pt x="508" y="2398"/>
                    </a:lnTo>
                    <a:lnTo>
                      <a:pt x="446" y="2375"/>
                    </a:lnTo>
                    <a:lnTo>
                      <a:pt x="383" y="2350"/>
                    </a:lnTo>
                    <a:lnTo>
                      <a:pt x="320" y="2322"/>
                    </a:lnTo>
                    <a:lnTo>
                      <a:pt x="257" y="2292"/>
                    </a:lnTo>
                    <a:lnTo>
                      <a:pt x="194" y="2257"/>
                    </a:lnTo>
                    <a:lnTo>
                      <a:pt x="177" y="2190"/>
                    </a:lnTo>
                    <a:lnTo>
                      <a:pt x="161" y="2122"/>
                    </a:lnTo>
                    <a:lnTo>
                      <a:pt x="145" y="2054"/>
                    </a:lnTo>
                    <a:lnTo>
                      <a:pt x="131" y="1986"/>
                    </a:lnTo>
                    <a:lnTo>
                      <a:pt x="119" y="1919"/>
                    </a:lnTo>
                    <a:lnTo>
                      <a:pt x="106" y="1852"/>
                    </a:lnTo>
                    <a:lnTo>
                      <a:pt x="95" y="1784"/>
                    </a:lnTo>
                    <a:lnTo>
                      <a:pt x="83" y="1717"/>
                    </a:lnTo>
                    <a:lnTo>
                      <a:pt x="74" y="1650"/>
                    </a:lnTo>
                    <a:lnTo>
                      <a:pt x="65" y="1582"/>
                    </a:lnTo>
                    <a:lnTo>
                      <a:pt x="56" y="1515"/>
                    </a:lnTo>
                    <a:lnTo>
                      <a:pt x="49" y="1448"/>
                    </a:lnTo>
                    <a:lnTo>
                      <a:pt x="42" y="1381"/>
                    </a:lnTo>
                    <a:lnTo>
                      <a:pt x="35" y="1313"/>
                    </a:lnTo>
                    <a:lnTo>
                      <a:pt x="30" y="1246"/>
                    </a:lnTo>
                    <a:lnTo>
                      <a:pt x="25" y="1179"/>
                    </a:lnTo>
                    <a:lnTo>
                      <a:pt x="16" y="1046"/>
                    </a:lnTo>
                    <a:lnTo>
                      <a:pt x="9" y="911"/>
                    </a:lnTo>
                    <a:lnTo>
                      <a:pt x="5" y="778"/>
                    </a:lnTo>
                    <a:lnTo>
                      <a:pt x="2" y="643"/>
                    </a:lnTo>
                    <a:lnTo>
                      <a:pt x="0" y="509"/>
                    </a:lnTo>
                    <a:lnTo>
                      <a:pt x="0" y="374"/>
                    </a:lnTo>
                    <a:lnTo>
                      <a:pt x="0" y="240"/>
                    </a:lnTo>
                    <a:lnTo>
                      <a:pt x="1" y="105"/>
                    </a:lnTo>
                    <a:lnTo>
                      <a:pt x="62" y="142"/>
                    </a:lnTo>
                    <a:lnTo>
                      <a:pt x="124" y="178"/>
                    </a:lnTo>
                    <a:lnTo>
                      <a:pt x="189" y="213"/>
                    </a:lnTo>
                    <a:lnTo>
                      <a:pt x="257" y="246"/>
                    </a:lnTo>
                    <a:lnTo>
                      <a:pt x="325" y="279"/>
                    </a:lnTo>
                    <a:lnTo>
                      <a:pt x="396" y="309"/>
                    </a:lnTo>
                    <a:lnTo>
                      <a:pt x="469" y="338"/>
                    </a:lnTo>
                    <a:lnTo>
                      <a:pt x="543" y="365"/>
                    </a:lnTo>
                    <a:lnTo>
                      <a:pt x="618" y="389"/>
                    </a:lnTo>
                    <a:lnTo>
                      <a:pt x="695" y="412"/>
                    </a:lnTo>
                    <a:lnTo>
                      <a:pt x="775" y="431"/>
                    </a:lnTo>
                    <a:lnTo>
                      <a:pt x="855" y="448"/>
                    </a:lnTo>
                    <a:lnTo>
                      <a:pt x="937" y="462"/>
                    </a:lnTo>
                    <a:lnTo>
                      <a:pt x="1019" y="473"/>
                    </a:lnTo>
                    <a:lnTo>
                      <a:pt x="1103" y="481"/>
                    </a:lnTo>
                    <a:lnTo>
                      <a:pt x="1188" y="487"/>
                    </a:lnTo>
                    <a:lnTo>
                      <a:pt x="1273" y="488"/>
                    </a:lnTo>
                    <a:lnTo>
                      <a:pt x="1360" y="486"/>
                    </a:lnTo>
                    <a:lnTo>
                      <a:pt x="1448" y="480"/>
                    </a:lnTo>
                    <a:lnTo>
                      <a:pt x="1535" y="471"/>
                    </a:lnTo>
                    <a:lnTo>
                      <a:pt x="1623" y="457"/>
                    </a:lnTo>
                    <a:lnTo>
                      <a:pt x="1712" y="440"/>
                    </a:lnTo>
                    <a:lnTo>
                      <a:pt x="1802" y="419"/>
                    </a:lnTo>
                    <a:lnTo>
                      <a:pt x="1891" y="391"/>
                    </a:lnTo>
                    <a:lnTo>
                      <a:pt x="1981" y="360"/>
                    </a:lnTo>
                    <a:lnTo>
                      <a:pt x="2071" y="325"/>
                    </a:lnTo>
                    <a:lnTo>
                      <a:pt x="2161" y="284"/>
                    </a:lnTo>
                    <a:lnTo>
                      <a:pt x="2251" y="238"/>
                    </a:lnTo>
                    <a:lnTo>
                      <a:pt x="2340" y="187"/>
                    </a:lnTo>
                    <a:lnTo>
                      <a:pt x="2430" y="130"/>
                    </a:lnTo>
                    <a:lnTo>
                      <a:pt x="2519" y="69"/>
                    </a:lnTo>
                    <a:lnTo>
                      <a:pt x="2608" y="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2633760" y="2700720"/>
              <a:ext cx="3725640" cy="1703160"/>
              <a:chOff x="2633760" y="2700720"/>
              <a:chExt cx="3725640" cy="1703160"/>
            </a:xfrm>
          </p:grpSpPr>
          <p:sp>
            <p:nvSpPr>
              <p:cNvPr id="2059" name=""/>
              <p:cNvSpPr/>
              <p:nvPr/>
            </p:nvSpPr>
            <p:spPr>
              <a:xfrm>
                <a:off x="6127920" y="3156120"/>
                <a:ext cx="204480" cy="714600"/>
              </a:xfrm>
              <a:custGeom>
                <a:avLst/>
                <a:gdLst/>
                <a:ahLst/>
                <a:rect l="l" t="t" r="r" b="b"/>
                <a:pathLst>
                  <a:path w="645" h="2248">
                    <a:moveTo>
                      <a:pt x="28" y="2245"/>
                    </a:moveTo>
                    <a:lnTo>
                      <a:pt x="35" y="2238"/>
                    </a:lnTo>
                    <a:lnTo>
                      <a:pt x="73" y="2161"/>
                    </a:lnTo>
                    <a:lnTo>
                      <a:pt x="109" y="2087"/>
                    </a:lnTo>
                    <a:lnTo>
                      <a:pt x="143" y="2013"/>
                    </a:lnTo>
                    <a:lnTo>
                      <a:pt x="177" y="1941"/>
                    </a:lnTo>
                    <a:lnTo>
                      <a:pt x="208" y="1871"/>
                    </a:lnTo>
                    <a:lnTo>
                      <a:pt x="238" y="1800"/>
                    </a:lnTo>
                    <a:lnTo>
                      <a:pt x="265" y="1732"/>
                    </a:lnTo>
                    <a:lnTo>
                      <a:pt x="293" y="1663"/>
                    </a:lnTo>
                    <a:lnTo>
                      <a:pt x="318" y="1596"/>
                    </a:lnTo>
                    <a:lnTo>
                      <a:pt x="342" y="1529"/>
                    </a:lnTo>
                    <a:lnTo>
                      <a:pt x="365" y="1463"/>
                    </a:lnTo>
                    <a:lnTo>
                      <a:pt x="385" y="1397"/>
                    </a:lnTo>
                    <a:lnTo>
                      <a:pt x="406" y="1330"/>
                    </a:lnTo>
                    <a:lnTo>
                      <a:pt x="425" y="1265"/>
                    </a:lnTo>
                    <a:lnTo>
                      <a:pt x="443" y="1199"/>
                    </a:lnTo>
                    <a:lnTo>
                      <a:pt x="460" y="1134"/>
                    </a:lnTo>
                    <a:lnTo>
                      <a:pt x="476" y="1068"/>
                    </a:lnTo>
                    <a:lnTo>
                      <a:pt x="491" y="1003"/>
                    </a:lnTo>
                    <a:lnTo>
                      <a:pt x="506" y="937"/>
                    </a:lnTo>
                    <a:lnTo>
                      <a:pt x="520" y="871"/>
                    </a:lnTo>
                    <a:lnTo>
                      <a:pt x="532" y="804"/>
                    </a:lnTo>
                    <a:lnTo>
                      <a:pt x="545" y="736"/>
                    </a:lnTo>
                    <a:lnTo>
                      <a:pt x="556" y="668"/>
                    </a:lnTo>
                    <a:lnTo>
                      <a:pt x="567" y="599"/>
                    </a:lnTo>
                    <a:lnTo>
                      <a:pt x="588" y="457"/>
                    </a:lnTo>
                    <a:lnTo>
                      <a:pt x="607" y="312"/>
                    </a:lnTo>
                    <a:lnTo>
                      <a:pt x="627" y="161"/>
                    </a:lnTo>
                    <a:lnTo>
                      <a:pt x="645" y="3"/>
                    </a:lnTo>
                    <a:lnTo>
                      <a:pt x="608" y="0"/>
                    </a:lnTo>
                    <a:lnTo>
                      <a:pt x="590" y="156"/>
                    </a:lnTo>
                    <a:lnTo>
                      <a:pt x="572" y="308"/>
                    </a:lnTo>
                    <a:lnTo>
                      <a:pt x="553" y="453"/>
                    </a:lnTo>
                    <a:lnTo>
                      <a:pt x="531" y="593"/>
                    </a:lnTo>
                    <a:lnTo>
                      <a:pt x="521" y="661"/>
                    </a:lnTo>
                    <a:lnTo>
                      <a:pt x="508" y="730"/>
                    </a:lnTo>
                    <a:lnTo>
                      <a:pt x="497" y="797"/>
                    </a:lnTo>
                    <a:lnTo>
                      <a:pt x="483" y="863"/>
                    </a:lnTo>
                    <a:lnTo>
                      <a:pt x="469" y="929"/>
                    </a:lnTo>
                    <a:lnTo>
                      <a:pt x="456" y="995"/>
                    </a:lnTo>
                    <a:lnTo>
                      <a:pt x="441" y="1060"/>
                    </a:lnTo>
                    <a:lnTo>
                      <a:pt x="425" y="1125"/>
                    </a:lnTo>
                    <a:lnTo>
                      <a:pt x="408" y="1190"/>
                    </a:lnTo>
                    <a:lnTo>
                      <a:pt x="390" y="1255"/>
                    </a:lnTo>
                    <a:lnTo>
                      <a:pt x="371" y="1320"/>
                    </a:lnTo>
                    <a:lnTo>
                      <a:pt x="351" y="1385"/>
                    </a:lnTo>
                    <a:lnTo>
                      <a:pt x="329" y="1451"/>
                    </a:lnTo>
                    <a:lnTo>
                      <a:pt x="308" y="1517"/>
                    </a:lnTo>
                    <a:lnTo>
                      <a:pt x="284" y="1583"/>
                    </a:lnTo>
                    <a:lnTo>
                      <a:pt x="259" y="1651"/>
                    </a:lnTo>
                    <a:lnTo>
                      <a:pt x="232" y="1718"/>
                    </a:lnTo>
                    <a:lnTo>
                      <a:pt x="204" y="1786"/>
                    </a:lnTo>
                    <a:lnTo>
                      <a:pt x="174" y="1856"/>
                    </a:lnTo>
                    <a:lnTo>
                      <a:pt x="143" y="1927"/>
                    </a:lnTo>
                    <a:lnTo>
                      <a:pt x="112" y="1998"/>
                    </a:lnTo>
                    <a:lnTo>
                      <a:pt x="76" y="2071"/>
                    </a:lnTo>
                    <a:lnTo>
                      <a:pt x="41" y="2146"/>
                    </a:lnTo>
                    <a:lnTo>
                      <a:pt x="2" y="2221"/>
                    </a:lnTo>
                    <a:lnTo>
                      <a:pt x="9" y="2214"/>
                    </a:lnTo>
                    <a:lnTo>
                      <a:pt x="2" y="2221"/>
                    </a:lnTo>
                    <a:lnTo>
                      <a:pt x="1" y="2225"/>
                    </a:lnTo>
                    <a:lnTo>
                      <a:pt x="0" y="2229"/>
                    </a:lnTo>
                    <a:lnTo>
                      <a:pt x="1" y="2232"/>
                    </a:lnTo>
                    <a:lnTo>
                      <a:pt x="1" y="2236"/>
                    </a:lnTo>
                    <a:lnTo>
                      <a:pt x="3" y="2239"/>
                    </a:lnTo>
                    <a:lnTo>
                      <a:pt x="6" y="2241"/>
                    </a:lnTo>
                    <a:lnTo>
                      <a:pt x="8" y="2244"/>
                    </a:lnTo>
                    <a:lnTo>
                      <a:pt x="10" y="2246"/>
                    </a:lnTo>
                    <a:lnTo>
                      <a:pt x="14" y="2247"/>
                    </a:lnTo>
                    <a:lnTo>
                      <a:pt x="17" y="2248"/>
                    </a:lnTo>
                    <a:lnTo>
                      <a:pt x="20" y="2248"/>
                    </a:lnTo>
                    <a:lnTo>
                      <a:pt x="24" y="2247"/>
                    </a:lnTo>
                    <a:lnTo>
                      <a:pt x="27" y="2246"/>
                    </a:lnTo>
                    <a:lnTo>
                      <a:pt x="30" y="2244"/>
                    </a:lnTo>
                    <a:lnTo>
                      <a:pt x="33" y="2241"/>
                    </a:lnTo>
                    <a:lnTo>
                      <a:pt x="35" y="2238"/>
                    </a:lnTo>
                    <a:lnTo>
                      <a:pt x="28" y="22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554800" y="3859560"/>
                <a:ext cx="581040" cy="95040"/>
              </a:xfrm>
              <a:custGeom>
                <a:avLst/>
                <a:gdLst/>
                <a:ahLst/>
                <a:rect l="l" t="t" r="r" b="b"/>
                <a:pathLst>
                  <a:path w="1833" h="301">
                    <a:moveTo>
                      <a:pt x="0" y="49"/>
                    </a:moveTo>
                    <a:lnTo>
                      <a:pt x="9" y="60"/>
                    </a:lnTo>
                    <a:lnTo>
                      <a:pt x="41" y="77"/>
                    </a:lnTo>
                    <a:lnTo>
                      <a:pt x="73" y="95"/>
                    </a:lnTo>
                    <a:lnTo>
                      <a:pt x="104" y="110"/>
                    </a:lnTo>
                    <a:lnTo>
                      <a:pt x="136" y="125"/>
                    </a:lnTo>
                    <a:lnTo>
                      <a:pt x="168" y="140"/>
                    </a:lnTo>
                    <a:lnTo>
                      <a:pt x="200" y="154"/>
                    </a:lnTo>
                    <a:lnTo>
                      <a:pt x="232" y="166"/>
                    </a:lnTo>
                    <a:lnTo>
                      <a:pt x="263" y="179"/>
                    </a:lnTo>
                    <a:lnTo>
                      <a:pt x="295" y="191"/>
                    </a:lnTo>
                    <a:lnTo>
                      <a:pt x="327" y="202"/>
                    </a:lnTo>
                    <a:lnTo>
                      <a:pt x="359" y="213"/>
                    </a:lnTo>
                    <a:lnTo>
                      <a:pt x="391" y="222"/>
                    </a:lnTo>
                    <a:lnTo>
                      <a:pt x="421" y="231"/>
                    </a:lnTo>
                    <a:lnTo>
                      <a:pt x="453" y="240"/>
                    </a:lnTo>
                    <a:lnTo>
                      <a:pt x="484" y="248"/>
                    </a:lnTo>
                    <a:lnTo>
                      <a:pt x="516" y="256"/>
                    </a:lnTo>
                    <a:lnTo>
                      <a:pt x="579" y="269"/>
                    </a:lnTo>
                    <a:lnTo>
                      <a:pt x="640" y="280"/>
                    </a:lnTo>
                    <a:lnTo>
                      <a:pt x="702" y="288"/>
                    </a:lnTo>
                    <a:lnTo>
                      <a:pt x="763" y="295"/>
                    </a:lnTo>
                    <a:lnTo>
                      <a:pt x="825" y="299"/>
                    </a:lnTo>
                    <a:lnTo>
                      <a:pt x="885" y="301"/>
                    </a:lnTo>
                    <a:lnTo>
                      <a:pt x="944" y="301"/>
                    </a:lnTo>
                    <a:lnTo>
                      <a:pt x="1004" y="299"/>
                    </a:lnTo>
                    <a:lnTo>
                      <a:pt x="1062" y="294"/>
                    </a:lnTo>
                    <a:lnTo>
                      <a:pt x="1120" y="288"/>
                    </a:lnTo>
                    <a:lnTo>
                      <a:pt x="1177" y="280"/>
                    </a:lnTo>
                    <a:lnTo>
                      <a:pt x="1233" y="270"/>
                    </a:lnTo>
                    <a:lnTo>
                      <a:pt x="1289" y="259"/>
                    </a:lnTo>
                    <a:lnTo>
                      <a:pt x="1343" y="246"/>
                    </a:lnTo>
                    <a:lnTo>
                      <a:pt x="1397" y="231"/>
                    </a:lnTo>
                    <a:lnTo>
                      <a:pt x="1449" y="214"/>
                    </a:lnTo>
                    <a:lnTo>
                      <a:pt x="1502" y="196"/>
                    </a:lnTo>
                    <a:lnTo>
                      <a:pt x="1553" y="177"/>
                    </a:lnTo>
                    <a:lnTo>
                      <a:pt x="1602" y="156"/>
                    </a:lnTo>
                    <a:lnTo>
                      <a:pt x="1651" y="133"/>
                    </a:lnTo>
                    <a:lnTo>
                      <a:pt x="1699" y="109"/>
                    </a:lnTo>
                    <a:lnTo>
                      <a:pt x="1744" y="84"/>
                    </a:lnTo>
                    <a:lnTo>
                      <a:pt x="1790" y="58"/>
                    </a:lnTo>
                    <a:lnTo>
                      <a:pt x="1833" y="31"/>
                    </a:lnTo>
                    <a:lnTo>
                      <a:pt x="1814" y="0"/>
                    </a:lnTo>
                    <a:lnTo>
                      <a:pt x="1771" y="27"/>
                    </a:lnTo>
                    <a:lnTo>
                      <a:pt x="1727" y="52"/>
                    </a:lnTo>
                    <a:lnTo>
                      <a:pt x="1682" y="77"/>
                    </a:lnTo>
                    <a:lnTo>
                      <a:pt x="1635" y="100"/>
                    </a:lnTo>
                    <a:lnTo>
                      <a:pt x="1587" y="122"/>
                    </a:lnTo>
                    <a:lnTo>
                      <a:pt x="1539" y="144"/>
                    </a:lnTo>
                    <a:lnTo>
                      <a:pt x="1489" y="162"/>
                    </a:lnTo>
                    <a:lnTo>
                      <a:pt x="1439" y="180"/>
                    </a:lnTo>
                    <a:lnTo>
                      <a:pt x="1387" y="196"/>
                    </a:lnTo>
                    <a:lnTo>
                      <a:pt x="1334" y="211"/>
                    </a:lnTo>
                    <a:lnTo>
                      <a:pt x="1281" y="223"/>
                    </a:lnTo>
                    <a:lnTo>
                      <a:pt x="1226" y="235"/>
                    </a:lnTo>
                    <a:lnTo>
                      <a:pt x="1171" y="244"/>
                    </a:lnTo>
                    <a:lnTo>
                      <a:pt x="1115" y="252"/>
                    </a:lnTo>
                    <a:lnTo>
                      <a:pt x="1058" y="258"/>
                    </a:lnTo>
                    <a:lnTo>
                      <a:pt x="1001" y="262"/>
                    </a:lnTo>
                    <a:lnTo>
                      <a:pt x="943" y="264"/>
                    </a:lnTo>
                    <a:lnTo>
                      <a:pt x="885" y="264"/>
                    </a:lnTo>
                    <a:lnTo>
                      <a:pt x="826" y="262"/>
                    </a:lnTo>
                    <a:lnTo>
                      <a:pt x="767" y="259"/>
                    </a:lnTo>
                    <a:lnTo>
                      <a:pt x="706" y="252"/>
                    </a:lnTo>
                    <a:lnTo>
                      <a:pt x="646" y="244"/>
                    </a:lnTo>
                    <a:lnTo>
                      <a:pt x="585" y="234"/>
                    </a:lnTo>
                    <a:lnTo>
                      <a:pt x="524" y="221"/>
                    </a:lnTo>
                    <a:lnTo>
                      <a:pt x="493" y="213"/>
                    </a:lnTo>
                    <a:lnTo>
                      <a:pt x="462" y="205"/>
                    </a:lnTo>
                    <a:lnTo>
                      <a:pt x="432" y="197"/>
                    </a:lnTo>
                    <a:lnTo>
                      <a:pt x="401" y="188"/>
                    </a:lnTo>
                    <a:lnTo>
                      <a:pt x="370" y="178"/>
                    </a:lnTo>
                    <a:lnTo>
                      <a:pt x="338" y="167"/>
                    </a:lnTo>
                    <a:lnTo>
                      <a:pt x="307" y="157"/>
                    </a:lnTo>
                    <a:lnTo>
                      <a:pt x="277" y="145"/>
                    </a:lnTo>
                    <a:lnTo>
                      <a:pt x="245" y="133"/>
                    </a:lnTo>
                    <a:lnTo>
                      <a:pt x="214" y="120"/>
                    </a:lnTo>
                    <a:lnTo>
                      <a:pt x="183" y="107"/>
                    </a:lnTo>
                    <a:lnTo>
                      <a:pt x="151" y="92"/>
                    </a:lnTo>
                    <a:lnTo>
                      <a:pt x="120" y="77"/>
                    </a:lnTo>
                    <a:lnTo>
                      <a:pt x="89" y="61"/>
                    </a:lnTo>
                    <a:lnTo>
                      <a:pt x="58" y="46"/>
                    </a:lnTo>
                    <a:lnTo>
                      <a:pt x="26" y="28"/>
                    </a:lnTo>
                    <a:lnTo>
                      <a:pt x="35" y="40"/>
                    </a:lnTo>
                    <a:lnTo>
                      <a:pt x="26" y="28"/>
                    </a:lnTo>
                    <a:lnTo>
                      <a:pt x="22" y="27"/>
                    </a:lnTo>
                    <a:lnTo>
                      <a:pt x="19" y="26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9" y="28"/>
                    </a:lnTo>
                    <a:lnTo>
                      <a:pt x="5" y="31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2"/>
                    </a:lnTo>
                    <a:lnTo>
                      <a:pt x="3" y="56"/>
                    </a:lnTo>
                    <a:lnTo>
                      <a:pt x="5" y="58"/>
                    </a:lnTo>
                    <a:lnTo>
                      <a:pt x="9" y="6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492880" y="3184920"/>
                <a:ext cx="72720" cy="690480"/>
              </a:xfrm>
              <a:custGeom>
                <a:avLst/>
                <a:gdLst/>
                <a:ahLst/>
                <a:rect l="l" t="t" r="r" b="b"/>
                <a:pathLst>
                  <a:path w="229" h="2175">
                    <a:moveTo>
                      <a:pt x="30" y="2"/>
                    </a:moveTo>
                    <a:lnTo>
                      <a:pt x="1" y="17"/>
                    </a:lnTo>
                    <a:lnTo>
                      <a:pt x="0" y="153"/>
                    </a:lnTo>
                    <a:lnTo>
                      <a:pt x="0" y="287"/>
                    </a:lnTo>
                    <a:lnTo>
                      <a:pt x="0" y="422"/>
                    </a:lnTo>
                    <a:lnTo>
                      <a:pt x="2" y="556"/>
                    </a:lnTo>
                    <a:lnTo>
                      <a:pt x="6" y="691"/>
                    </a:lnTo>
                    <a:lnTo>
                      <a:pt x="10" y="825"/>
                    </a:lnTo>
                    <a:lnTo>
                      <a:pt x="16" y="960"/>
                    </a:lnTo>
                    <a:lnTo>
                      <a:pt x="25" y="1093"/>
                    </a:lnTo>
                    <a:lnTo>
                      <a:pt x="30" y="1160"/>
                    </a:lnTo>
                    <a:lnTo>
                      <a:pt x="35" y="1228"/>
                    </a:lnTo>
                    <a:lnTo>
                      <a:pt x="42" y="1295"/>
                    </a:lnTo>
                    <a:lnTo>
                      <a:pt x="49" y="1362"/>
                    </a:lnTo>
                    <a:lnTo>
                      <a:pt x="57" y="1429"/>
                    </a:lnTo>
                    <a:lnTo>
                      <a:pt x="65" y="1498"/>
                    </a:lnTo>
                    <a:lnTo>
                      <a:pt x="74" y="1565"/>
                    </a:lnTo>
                    <a:lnTo>
                      <a:pt x="84" y="1632"/>
                    </a:lnTo>
                    <a:lnTo>
                      <a:pt x="94" y="1700"/>
                    </a:lnTo>
                    <a:lnTo>
                      <a:pt x="106" y="1768"/>
                    </a:lnTo>
                    <a:lnTo>
                      <a:pt x="118" y="1835"/>
                    </a:lnTo>
                    <a:lnTo>
                      <a:pt x="132" y="1902"/>
                    </a:lnTo>
                    <a:lnTo>
                      <a:pt x="146" y="1971"/>
                    </a:lnTo>
                    <a:lnTo>
                      <a:pt x="161" y="2039"/>
                    </a:lnTo>
                    <a:lnTo>
                      <a:pt x="177" y="2107"/>
                    </a:lnTo>
                    <a:lnTo>
                      <a:pt x="194" y="2175"/>
                    </a:lnTo>
                    <a:lnTo>
                      <a:pt x="229" y="2166"/>
                    </a:lnTo>
                    <a:lnTo>
                      <a:pt x="212" y="2099"/>
                    </a:lnTo>
                    <a:lnTo>
                      <a:pt x="196" y="2031"/>
                    </a:lnTo>
                    <a:lnTo>
                      <a:pt x="181" y="1963"/>
                    </a:lnTo>
                    <a:lnTo>
                      <a:pt x="167" y="1896"/>
                    </a:lnTo>
                    <a:lnTo>
                      <a:pt x="154" y="1828"/>
                    </a:lnTo>
                    <a:lnTo>
                      <a:pt x="141" y="1761"/>
                    </a:lnTo>
                    <a:lnTo>
                      <a:pt x="130" y="1694"/>
                    </a:lnTo>
                    <a:lnTo>
                      <a:pt x="120" y="1627"/>
                    </a:lnTo>
                    <a:lnTo>
                      <a:pt x="109" y="1559"/>
                    </a:lnTo>
                    <a:lnTo>
                      <a:pt x="100" y="1493"/>
                    </a:lnTo>
                    <a:lnTo>
                      <a:pt x="92" y="1426"/>
                    </a:lnTo>
                    <a:lnTo>
                      <a:pt x="84" y="1359"/>
                    </a:lnTo>
                    <a:lnTo>
                      <a:pt x="77" y="1291"/>
                    </a:lnTo>
                    <a:lnTo>
                      <a:pt x="72" y="1225"/>
                    </a:lnTo>
                    <a:lnTo>
                      <a:pt x="66" y="1158"/>
                    </a:lnTo>
                    <a:lnTo>
                      <a:pt x="60" y="1091"/>
                    </a:lnTo>
                    <a:lnTo>
                      <a:pt x="52" y="957"/>
                    </a:lnTo>
                    <a:lnTo>
                      <a:pt x="45" y="824"/>
                    </a:lnTo>
                    <a:lnTo>
                      <a:pt x="41" y="690"/>
                    </a:lnTo>
                    <a:lnTo>
                      <a:pt x="39" y="556"/>
                    </a:lnTo>
                    <a:lnTo>
                      <a:pt x="36" y="422"/>
                    </a:lnTo>
                    <a:lnTo>
                      <a:pt x="36" y="287"/>
                    </a:lnTo>
                    <a:lnTo>
                      <a:pt x="36" y="153"/>
                    </a:lnTo>
                    <a:lnTo>
                      <a:pt x="38" y="18"/>
                    </a:lnTo>
                    <a:lnTo>
                      <a:pt x="10" y="33"/>
                    </a:lnTo>
                    <a:lnTo>
                      <a:pt x="38" y="18"/>
                    </a:lnTo>
                    <a:lnTo>
                      <a:pt x="38" y="13"/>
                    </a:lnTo>
                    <a:lnTo>
                      <a:pt x="36" y="10"/>
                    </a:lnTo>
                    <a:lnTo>
                      <a:pt x="34" y="7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495760" y="3151440"/>
                <a:ext cx="836640" cy="165240"/>
              </a:xfrm>
              <a:custGeom>
                <a:avLst/>
                <a:gdLst/>
                <a:ahLst/>
                <a:rect l="l" t="t" r="r" b="b"/>
                <a:pathLst>
                  <a:path w="2634" h="524">
                    <a:moveTo>
                      <a:pt x="2634" y="20"/>
                    </a:moveTo>
                    <a:lnTo>
                      <a:pt x="2604" y="4"/>
                    </a:lnTo>
                    <a:lnTo>
                      <a:pt x="2560" y="39"/>
                    </a:lnTo>
                    <a:lnTo>
                      <a:pt x="2517" y="72"/>
                    </a:lnTo>
                    <a:lnTo>
                      <a:pt x="2472" y="104"/>
                    </a:lnTo>
                    <a:lnTo>
                      <a:pt x="2428" y="133"/>
                    </a:lnTo>
                    <a:lnTo>
                      <a:pt x="2383" y="162"/>
                    </a:lnTo>
                    <a:lnTo>
                      <a:pt x="2339" y="189"/>
                    </a:lnTo>
                    <a:lnTo>
                      <a:pt x="2294" y="215"/>
                    </a:lnTo>
                    <a:lnTo>
                      <a:pt x="2250" y="240"/>
                    </a:lnTo>
                    <a:lnTo>
                      <a:pt x="2205" y="263"/>
                    </a:lnTo>
                    <a:lnTo>
                      <a:pt x="2161" y="286"/>
                    </a:lnTo>
                    <a:lnTo>
                      <a:pt x="2117" y="307"/>
                    </a:lnTo>
                    <a:lnTo>
                      <a:pt x="2072" y="326"/>
                    </a:lnTo>
                    <a:lnTo>
                      <a:pt x="2028" y="344"/>
                    </a:lnTo>
                    <a:lnTo>
                      <a:pt x="1982" y="361"/>
                    </a:lnTo>
                    <a:lnTo>
                      <a:pt x="1938" y="377"/>
                    </a:lnTo>
                    <a:lnTo>
                      <a:pt x="1893" y="392"/>
                    </a:lnTo>
                    <a:lnTo>
                      <a:pt x="1849" y="406"/>
                    </a:lnTo>
                    <a:lnTo>
                      <a:pt x="1805" y="418"/>
                    </a:lnTo>
                    <a:lnTo>
                      <a:pt x="1761" y="430"/>
                    </a:lnTo>
                    <a:lnTo>
                      <a:pt x="1717" y="440"/>
                    </a:lnTo>
                    <a:lnTo>
                      <a:pt x="1672" y="449"/>
                    </a:lnTo>
                    <a:lnTo>
                      <a:pt x="1629" y="458"/>
                    </a:lnTo>
                    <a:lnTo>
                      <a:pt x="1584" y="465"/>
                    </a:lnTo>
                    <a:lnTo>
                      <a:pt x="1541" y="471"/>
                    </a:lnTo>
                    <a:lnTo>
                      <a:pt x="1497" y="476"/>
                    </a:lnTo>
                    <a:lnTo>
                      <a:pt x="1453" y="481"/>
                    </a:lnTo>
                    <a:lnTo>
                      <a:pt x="1410" y="483"/>
                    </a:lnTo>
                    <a:lnTo>
                      <a:pt x="1367" y="487"/>
                    </a:lnTo>
                    <a:lnTo>
                      <a:pt x="1324" y="488"/>
                    </a:lnTo>
                    <a:lnTo>
                      <a:pt x="1281" y="488"/>
                    </a:lnTo>
                    <a:lnTo>
                      <a:pt x="1239" y="488"/>
                    </a:lnTo>
                    <a:lnTo>
                      <a:pt x="1196" y="487"/>
                    </a:lnTo>
                    <a:lnTo>
                      <a:pt x="1155" y="484"/>
                    </a:lnTo>
                    <a:lnTo>
                      <a:pt x="1112" y="481"/>
                    </a:lnTo>
                    <a:lnTo>
                      <a:pt x="1070" y="478"/>
                    </a:lnTo>
                    <a:lnTo>
                      <a:pt x="1029" y="473"/>
                    </a:lnTo>
                    <a:lnTo>
                      <a:pt x="988" y="468"/>
                    </a:lnTo>
                    <a:lnTo>
                      <a:pt x="947" y="462"/>
                    </a:lnTo>
                    <a:lnTo>
                      <a:pt x="906" y="456"/>
                    </a:lnTo>
                    <a:lnTo>
                      <a:pt x="866" y="448"/>
                    </a:lnTo>
                    <a:lnTo>
                      <a:pt x="826" y="440"/>
                    </a:lnTo>
                    <a:lnTo>
                      <a:pt x="787" y="431"/>
                    </a:lnTo>
                    <a:lnTo>
                      <a:pt x="748" y="422"/>
                    </a:lnTo>
                    <a:lnTo>
                      <a:pt x="709" y="411"/>
                    </a:lnTo>
                    <a:lnTo>
                      <a:pt x="670" y="401"/>
                    </a:lnTo>
                    <a:lnTo>
                      <a:pt x="632" y="390"/>
                    </a:lnTo>
                    <a:lnTo>
                      <a:pt x="594" y="378"/>
                    </a:lnTo>
                    <a:lnTo>
                      <a:pt x="556" y="366"/>
                    </a:lnTo>
                    <a:lnTo>
                      <a:pt x="519" y="352"/>
                    </a:lnTo>
                    <a:lnTo>
                      <a:pt x="482" y="340"/>
                    </a:lnTo>
                    <a:lnTo>
                      <a:pt x="447" y="325"/>
                    </a:lnTo>
                    <a:lnTo>
                      <a:pt x="410" y="311"/>
                    </a:lnTo>
                    <a:lnTo>
                      <a:pt x="375" y="296"/>
                    </a:lnTo>
                    <a:lnTo>
                      <a:pt x="340" y="280"/>
                    </a:lnTo>
                    <a:lnTo>
                      <a:pt x="306" y="264"/>
                    </a:lnTo>
                    <a:lnTo>
                      <a:pt x="273" y="248"/>
                    </a:lnTo>
                    <a:lnTo>
                      <a:pt x="205" y="215"/>
                    </a:lnTo>
                    <a:lnTo>
                      <a:pt x="141" y="180"/>
                    </a:lnTo>
                    <a:lnTo>
                      <a:pt x="79" y="145"/>
                    </a:lnTo>
                    <a:lnTo>
                      <a:pt x="20" y="107"/>
                    </a:lnTo>
                    <a:lnTo>
                      <a:pt x="0" y="138"/>
                    </a:lnTo>
                    <a:lnTo>
                      <a:pt x="61" y="175"/>
                    </a:lnTo>
                    <a:lnTo>
                      <a:pt x="123" y="212"/>
                    </a:lnTo>
                    <a:lnTo>
                      <a:pt x="189" y="247"/>
                    </a:lnTo>
                    <a:lnTo>
                      <a:pt x="257" y="282"/>
                    </a:lnTo>
                    <a:lnTo>
                      <a:pt x="291" y="297"/>
                    </a:lnTo>
                    <a:lnTo>
                      <a:pt x="326" y="313"/>
                    </a:lnTo>
                    <a:lnTo>
                      <a:pt x="361" y="329"/>
                    </a:lnTo>
                    <a:lnTo>
                      <a:pt x="397" y="344"/>
                    </a:lnTo>
                    <a:lnTo>
                      <a:pt x="433" y="359"/>
                    </a:lnTo>
                    <a:lnTo>
                      <a:pt x="470" y="373"/>
                    </a:lnTo>
                    <a:lnTo>
                      <a:pt x="507" y="386"/>
                    </a:lnTo>
                    <a:lnTo>
                      <a:pt x="545" y="400"/>
                    </a:lnTo>
                    <a:lnTo>
                      <a:pt x="583" y="413"/>
                    </a:lnTo>
                    <a:lnTo>
                      <a:pt x="621" y="424"/>
                    </a:lnTo>
                    <a:lnTo>
                      <a:pt x="660" y="435"/>
                    </a:lnTo>
                    <a:lnTo>
                      <a:pt x="699" y="447"/>
                    </a:lnTo>
                    <a:lnTo>
                      <a:pt x="739" y="457"/>
                    </a:lnTo>
                    <a:lnTo>
                      <a:pt x="779" y="466"/>
                    </a:lnTo>
                    <a:lnTo>
                      <a:pt x="818" y="475"/>
                    </a:lnTo>
                    <a:lnTo>
                      <a:pt x="859" y="483"/>
                    </a:lnTo>
                    <a:lnTo>
                      <a:pt x="901" y="491"/>
                    </a:lnTo>
                    <a:lnTo>
                      <a:pt x="942" y="498"/>
                    </a:lnTo>
                    <a:lnTo>
                      <a:pt x="984" y="504"/>
                    </a:lnTo>
                    <a:lnTo>
                      <a:pt x="1025" y="510"/>
                    </a:lnTo>
                    <a:lnTo>
                      <a:pt x="1067" y="514"/>
                    </a:lnTo>
                    <a:lnTo>
                      <a:pt x="1109" y="517"/>
                    </a:lnTo>
                    <a:lnTo>
                      <a:pt x="1152" y="521"/>
                    </a:lnTo>
                    <a:lnTo>
                      <a:pt x="1195" y="523"/>
                    </a:lnTo>
                    <a:lnTo>
                      <a:pt x="1238" y="524"/>
                    </a:lnTo>
                    <a:lnTo>
                      <a:pt x="1281" y="524"/>
                    </a:lnTo>
                    <a:lnTo>
                      <a:pt x="1324" y="524"/>
                    </a:lnTo>
                    <a:lnTo>
                      <a:pt x="1369" y="522"/>
                    </a:lnTo>
                    <a:lnTo>
                      <a:pt x="1412" y="520"/>
                    </a:lnTo>
                    <a:lnTo>
                      <a:pt x="1457" y="516"/>
                    </a:lnTo>
                    <a:lnTo>
                      <a:pt x="1501" y="513"/>
                    </a:lnTo>
                    <a:lnTo>
                      <a:pt x="1546" y="507"/>
                    </a:lnTo>
                    <a:lnTo>
                      <a:pt x="1590" y="500"/>
                    </a:lnTo>
                    <a:lnTo>
                      <a:pt x="1634" y="494"/>
                    </a:lnTo>
                    <a:lnTo>
                      <a:pt x="1679" y="486"/>
                    </a:lnTo>
                    <a:lnTo>
                      <a:pt x="1724" y="475"/>
                    </a:lnTo>
                    <a:lnTo>
                      <a:pt x="1769" y="465"/>
                    </a:lnTo>
                    <a:lnTo>
                      <a:pt x="1815" y="454"/>
                    </a:lnTo>
                    <a:lnTo>
                      <a:pt x="1859" y="441"/>
                    </a:lnTo>
                    <a:lnTo>
                      <a:pt x="1905" y="426"/>
                    </a:lnTo>
                    <a:lnTo>
                      <a:pt x="1950" y="411"/>
                    </a:lnTo>
                    <a:lnTo>
                      <a:pt x="1996" y="396"/>
                    </a:lnTo>
                    <a:lnTo>
                      <a:pt x="2040" y="378"/>
                    </a:lnTo>
                    <a:lnTo>
                      <a:pt x="2086" y="359"/>
                    </a:lnTo>
                    <a:lnTo>
                      <a:pt x="2131" y="340"/>
                    </a:lnTo>
                    <a:lnTo>
                      <a:pt x="2177" y="318"/>
                    </a:lnTo>
                    <a:lnTo>
                      <a:pt x="2221" y="296"/>
                    </a:lnTo>
                    <a:lnTo>
                      <a:pt x="2267" y="272"/>
                    </a:lnTo>
                    <a:lnTo>
                      <a:pt x="2313" y="247"/>
                    </a:lnTo>
                    <a:lnTo>
                      <a:pt x="2358" y="221"/>
                    </a:lnTo>
                    <a:lnTo>
                      <a:pt x="2403" y="193"/>
                    </a:lnTo>
                    <a:lnTo>
                      <a:pt x="2448" y="164"/>
                    </a:lnTo>
                    <a:lnTo>
                      <a:pt x="2493" y="133"/>
                    </a:lnTo>
                    <a:lnTo>
                      <a:pt x="2537" y="101"/>
                    </a:lnTo>
                    <a:lnTo>
                      <a:pt x="2583" y="67"/>
                    </a:lnTo>
                    <a:lnTo>
                      <a:pt x="2627" y="33"/>
                    </a:lnTo>
                    <a:lnTo>
                      <a:pt x="2597" y="17"/>
                    </a:lnTo>
                    <a:lnTo>
                      <a:pt x="2627" y="33"/>
                    </a:lnTo>
                    <a:lnTo>
                      <a:pt x="2631" y="30"/>
                    </a:lnTo>
                    <a:lnTo>
                      <a:pt x="2632" y="27"/>
                    </a:lnTo>
                    <a:lnTo>
                      <a:pt x="2634" y="24"/>
                    </a:lnTo>
                    <a:lnTo>
                      <a:pt x="2634" y="20"/>
                    </a:lnTo>
                    <a:lnTo>
                      <a:pt x="2634" y="17"/>
                    </a:lnTo>
                    <a:lnTo>
                      <a:pt x="2633" y="14"/>
                    </a:lnTo>
                    <a:lnTo>
                      <a:pt x="2632" y="10"/>
                    </a:lnTo>
                    <a:lnTo>
                      <a:pt x="2629" y="8"/>
                    </a:lnTo>
                    <a:lnTo>
                      <a:pt x="2627" y="4"/>
                    </a:lnTo>
                    <a:lnTo>
                      <a:pt x="2625" y="3"/>
                    </a:lnTo>
                    <a:lnTo>
                      <a:pt x="2621" y="1"/>
                    </a:lnTo>
                    <a:lnTo>
                      <a:pt x="2618" y="0"/>
                    </a:lnTo>
                    <a:lnTo>
                      <a:pt x="2615" y="0"/>
                    </a:lnTo>
                    <a:lnTo>
                      <a:pt x="2611" y="1"/>
                    </a:lnTo>
                    <a:lnTo>
                      <a:pt x="2608" y="2"/>
                    </a:lnTo>
                    <a:lnTo>
                      <a:pt x="2604" y="4"/>
                    </a:lnTo>
                    <a:lnTo>
                      <a:pt x="263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89640" y="3249720"/>
                <a:ext cx="819000" cy="660600"/>
              </a:xfrm>
              <a:custGeom>
                <a:avLst/>
                <a:gdLst/>
                <a:ahLst/>
                <a:rect l="l" t="t" r="r" b="b"/>
                <a:pathLst>
                  <a:path w="2578" h="2078">
                    <a:moveTo>
                      <a:pt x="9" y="0"/>
                    </a:moveTo>
                    <a:lnTo>
                      <a:pt x="0" y="43"/>
                    </a:lnTo>
                    <a:lnTo>
                      <a:pt x="3" y="83"/>
                    </a:lnTo>
                    <a:lnTo>
                      <a:pt x="19" y="121"/>
                    </a:lnTo>
                    <a:lnTo>
                      <a:pt x="48" y="159"/>
                    </a:lnTo>
                    <a:lnTo>
                      <a:pt x="86" y="194"/>
                    </a:lnTo>
                    <a:lnTo>
                      <a:pt x="135" y="227"/>
                    </a:lnTo>
                    <a:lnTo>
                      <a:pt x="194" y="259"/>
                    </a:lnTo>
                    <a:lnTo>
                      <a:pt x="262" y="289"/>
                    </a:lnTo>
                    <a:lnTo>
                      <a:pt x="337" y="316"/>
                    </a:lnTo>
                    <a:lnTo>
                      <a:pt x="420" y="342"/>
                    </a:lnTo>
                    <a:lnTo>
                      <a:pt x="509" y="365"/>
                    </a:lnTo>
                    <a:lnTo>
                      <a:pt x="605" y="386"/>
                    </a:lnTo>
                    <a:lnTo>
                      <a:pt x="705" y="404"/>
                    </a:lnTo>
                    <a:lnTo>
                      <a:pt x="809" y="420"/>
                    </a:lnTo>
                    <a:lnTo>
                      <a:pt x="917" y="432"/>
                    </a:lnTo>
                    <a:lnTo>
                      <a:pt x="1029" y="443"/>
                    </a:lnTo>
                    <a:lnTo>
                      <a:pt x="1142" y="451"/>
                    </a:lnTo>
                    <a:lnTo>
                      <a:pt x="1256" y="455"/>
                    </a:lnTo>
                    <a:lnTo>
                      <a:pt x="1371" y="456"/>
                    </a:lnTo>
                    <a:lnTo>
                      <a:pt x="1486" y="455"/>
                    </a:lnTo>
                    <a:lnTo>
                      <a:pt x="1599" y="451"/>
                    </a:lnTo>
                    <a:lnTo>
                      <a:pt x="1712" y="443"/>
                    </a:lnTo>
                    <a:lnTo>
                      <a:pt x="1821" y="431"/>
                    </a:lnTo>
                    <a:lnTo>
                      <a:pt x="1928" y="418"/>
                    </a:lnTo>
                    <a:lnTo>
                      <a:pt x="2031" y="399"/>
                    </a:lnTo>
                    <a:lnTo>
                      <a:pt x="2129" y="378"/>
                    </a:lnTo>
                    <a:lnTo>
                      <a:pt x="2221" y="353"/>
                    </a:lnTo>
                    <a:lnTo>
                      <a:pt x="2308" y="323"/>
                    </a:lnTo>
                    <a:lnTo>
                      <a:pt x="2387" y="291"/>
                    </a:lnTo>
                    <a:lnTo>
                      <a:pt x="2459" y="254"/>
                    </a:lnTo>
                    <a:lnTo>
                      <a:pt x="2523" y="214"/>
                    </a:lnTo>
                    <a:lnTo>
                      <a:pt x="2578" y="168"/>
                    </a:lnTo>
                    <a:lnTo>
                      <a:pt x="2578" y="57"/>
                    </a:lnTo>
                    <a:lnTo>
                      <a:pt x="2526" y="90"/>
                    </a:lnTo>
                    <a:lnTo>
                      <a:pt x="2467" y="121"/>
                    </a:lnTo>
                    <a:lnTo>
                      <a:pt x="2401" y="150"/>
                    </a:lnTo>
                    <a:lnTo>
                      <a:pt x="2328" y="175"/>
                    </a:lnTo>
                    <a:lnTo>
                      <a:pt x="2248" y="199"/>
                    </a:lnTo>
                    <a:lnTo>
                      <a:pt x="2164" y="219"/>
                    </a:lnTo>
                    <a:lnTo>
                      <a:pt x="2075" y="239"/>
                    </a:lnTo>
                    <a:lnTo>
                      <a:pt x="1982" y="255"/>
                    </a:lnTo>
                    <a:lnTo>
                      <a:pt x="1884" y="269"/>
                    </a:lnTo>
                    <a:lnTo>
                      <a:pt x="1783" y="281"/>
                    </a:lnTo>
                    <a:lnTo>
                      <a:pt x="1681" y="291"/>
                    </a:lnTo>
                    <a:lnTo>
                      <a:pt x="1576" y="298"/>
                    </a:lnTo>
                    <a:lnTo>
                      <a:pt x="1470" y="304"/>
                    </a:lnTo>
                    <a:lnTo>
                      <a:pt x="1364" y="306"/>
                    </a:lnTo>
                    <a:lnTo>
                      <a:pt x="1257" y="307"/>
                    </a:lnTo>
                    <a:lnTo>
                      <a:pt x="1151" y="306"/>
                    </a:lnTo>
                    <a:lnTo>
                      <a:pt x="1046" y="301"/>
                    </a:lnTo>
                    <a:lnTo>
                      <a:pt x="943" y="296"/>
                    </a:lnTo>
                    <a:lnTo>
                      <a:pt x="842" y="289"/>
                    </a:lnTo>
                    <a:lnTo>
                      <a:pt x="744" y="279"/>
                    </a:lnTo>
                    <a:lnTo>
                      <a:pt x="649" y="266"/>
                    </a:lnTo>
                    <a:lnTo>
                      <a:pt x="558" y="252"/>
                    </a:lnTo>
                    <a:lnTo>
                      <a:pt x="473" y="236"/>
                    </a:lnTo>
                    <a:lnTo>
                      <a:pt x="392" y="218"/>
                    </a:lnTo>
                    <a:lnTo>
                      <a:pt x="318" y="198"/>
                    </a:lnTo>
                    <a:lnTo>
                      <a:pt x="249" y="175"/>
                    </a:lnTo>
                    <a:lnTo>
                      <a:pt x="188" y="151"/>
                    </a:lnTo>
                    <a:lnTo>
                      <a:pt x="134" y="125"/>
                    </a:lnTo>
                    <a:lnTo>
                      <a:pt x="90" y="96"/>
                    </a:lnTo>
                    <a:lnTo>
                      <a:pt x="53" y="67"/>
                    </a:lnTo>
                    <a:lnTo>
                      <a:pt x="26" y="35"/>
                    </a:lnTo>
                    <a:lnTo>
                      <a:pt x="9" y="0"/>
                    </a:lnTo>
                    <a:close/>
                    <a:moveTo>
                      <a:pt x="61" y="444"/>
                    </a:moveTo>
                    <a:lnTo>
                      <a:pt x="57" y="474"/>
                    </a:lnTo>
                    <a:lnTo>
                      <a:pt x="64" y="502"/>
                    </a:lnTo>
                    <a:lnTo>
                      <a:pt x="80" y="531"/>
                    </a:lnTo>
                    <a:lnTo>
                      <a:pt x="106" y="558"/>
                    </a:lnTo>
                    <a:lnTo>
                      <a:pt x="140" y="585"/>
                    </a:lnTo>
                    <a:lnTo>
                      <a:pt x="183" y="611"/>
                    </a:lnTo>
                    <a:lnTo>
                      <a:pt x="233" y="637"/>
                    </a:lnTo>
                    <a:lnTo>
                      <a:pt x="293" y="660"/>
                    </a:lnTo>
                    <a:lnTo>
                      <a:pt x="358" y="683"/>
                    </a:lnTo>
                    <a:lnTo>
                      <a:pt x="428" y="705"/>
                    </a:lnTo>
                    <a:lnTo>
                      <a:pt x="506" y="724"/>
                    </a:lnTo>
                    <a:lnTo>
                      <a:pt x="588" y="744"/>
                    </a:lnTo>
                    <a:lnTo>
                      <a:pt x="676" y="761"/>
                    </a:lnTo>
                    <a:lnTo>
                      <a:pt x="767" y="776"/>
                    </a:lnTo>
                    <a:lnTo>
                      <a:pt x="861" y="788"/>
                    </a:lnTo>
                    <a:lnTo>
                      <a:pt x="958" y="800"/>
                    </a:lnTo>
                    <a:lnTo>
                      <a:pt x="1059" y="810"/>
                    </a:lnTo>
                    <a:lnTo>
                      <a:pt x="1161" y="817"/>
                    </a:lnTo>
                    <a:lnTo>
                      <a:pt x="1265" y="821"/>
                    </a:lnTo>
                    <a:lnTo>
                      <a:pt x="1370" y="824"/>
                    </a:lnTo>
                    <a:lnTo>
                      <a:pt x="1475" y="824"/>
                    </a:lnTo>
                    <a:lnTo>
                      <a:pt x="1579" y="820"/>
                    </a:lnTo>
                    <a:lnTo>
                      <a:pt x="1684" y="816"/>
                    </a:lnTo>
                    <a:lnTo>
                      <a:pt x="1787" y="806"/>
                    </a:lnTo>
                    <a:lnTo>
                      <a:pt x="1888" y="795"/>
                    </a:lnTo>
                    <a:lnTo>
                      <a:pt x="1987" y="781"/>
                    </a:lnTo>
                    <a:lnTo>
                      <a:pt x="2083" y="763"/>
                    </a:lnTo>
                    <a:lnTo>
                      <a:pt x="2177" y="743"/>
                    </a:lnTo>
                    <a:lnTo>
                      <a:pt x="2265" y="719"/>
                    </a:lnTo>
                    <a:lnTo>
                      <a:pt x="2350" y="690"/>
                    </a:lnTo>
                    <a:lnTo>
                      <a:pt x="2430" y="659"/>
                    </a:lnTo>
                    <a:lnTo>
                      <a:pt x="2503" y="624"/>
                    </a:lnTo>
                    <a:lnTo>
                      <a:pt x="2503" y="524"/>
                    </a:lnTo>
                    <a:lnTo>
                      <a:pt x="2433" y="540"/>
                    </a:lnTo>
                    <a:lnTo>
                      <a:pt x="2362" y="556"/>
                    </a:lnTo>
                    <a:lnTo>
                      <a:pt x="2289" y="570"/>
                    </a:lnTo>
                    <a:lnTo>
                      <a:pt x="2215" y="584"/>
                    </a:lnTo>
                    <a:lnTo>
                      <a:pt x="2140" y="597"/>
                    </a:lnTo>
                    <a:lnTo>
                      <a:pt x="2064" y="608"/>
                    </a:lnTo>
                    <a:lnTo>
                      <a:pt x="1985" y="618"/>
                    </a:lnTo>
                    <a:lnTo>
                      <a:pt x="1908" y="627"/>
                    </a:lnTo>
                    <a:lnTo>
                      <a:pt x="1828" y="635"/>
                    </a:lnTo>
                    <a:lnTo>
                      <a:pt x="1748" y="642"/>
                    </a:lnTo>
                    <a:lnTo>
                      <a:pt x="1667" y="648"/>
                    </a:lnTo>
                    <a:lnTo>
                      <a:pt x="1586" y="653"/>
                    </a:lnTo>
                    <a:lnTo>
                      <a:pt x="1505" y="655"/>
                    </a:lnTo>
                    <a:lnTo>
                      <a:pt x="1424" y="657"/>
                    </a:lnTo>
                    <a:lnTo>
                      <a:pt x="1342" y="657"/>
                    </a:lnTo>
                    <a:lnTo>
                      <a:pt x="1261" y="656"/>
                    </a:lnTo>
                    <a:lnTo>
                      <a:pt x="1180" y="654"/>
                    </a:lnTo>
                    <a:lnTo>
                      <a:pt x="1100" y="650"/>
                    </a:lnTo>
                    <a:lnTo>
                      <a:pt x="1019" y="646"/>
                    </a:lnTo>
                    <a:lnTo>
                      <a:pt x="939" y="639"/>
                    </a:lnTo>
                    <a:lnTo>
                      <a:pt x="859" y="631"/>
                    </a:lnTo>
                    <a:lnTo>
                      <a:pt x="780" y="622"/>
                    </a:lnTo>
                    <a:lnTo>
                      <a:pt x="703" y="610"/>
                    </a:lnTo>
                    <a:lnTo>
                      <a:pt x="625" y="598"/>
                    </a:lnTo>
                    <a:lnTo>
                      <a:pt x="550" y="584"/>
                    </a:lnTo>
                    <a:lnTo>
                      <a:pt x="476" y="569"/>
                    </a:lnTo>
                    <a:lnTo>
                      <a:pt x="402" y="552"/>
                    </a:lnTo>
                    <a:lnTo>
                      <a:pt x="331" y="534"/>
                    </a:lnTo>
                    <a:lnTo>
                      <a:pt x="261" y="513"/>
                    </a:lnTo>
                    <a:lnTo>
                      <a:pt x="192" y="492"/>
                    </a:lnTo>
                    <a:lnTo>
                      <a:pt x="126" y="469"/>
                    </a:lnTo>
                    <a:lnTo>
                      <a:pt x="61" y="444"/>
                    </a:lnTo>
                    <a:close/>
                    <a:moveTo>
                      <a:pt x="54" y="809"/>
                    </a:moveTo>
                    <a:lnTo>
                      <a:pt x="53" y="844"/>
                    </a:lnTo>
                    <a:lnTo>
                      <a:pt x="62" y="878"/>
                    </a:lnTo>
                    <a:lnTo>
                      <a:pt x="81" y="911"/>
                    </a:lnTo>
                    <a:lnTo>
                      <a:pt x="108" y="942"/>
                    </a:lnTo>
                    <a:lnTo>
                      <a:pt x="143" y="972"/>
                    </a:lnTo>
                    <a:lnTo>
                      <a:pt x="188" y="999"/>
                    </a:lnTo>
                    <a:lnTo>
                      <a:pt x="238" y="1025"/>
                    </a:lnTo>
                    <a:lnTo>
                      <a:pt x="296" y="1050"/>
                    </a:lnTo>
                    <a:lnTo>
                      <a:pt x="361" y="1073"/>
                    </a:lnTo>
                    <a:lnTo>
                      <a:pt x="431" y="1094"/>
                    </a:lnTo>
                    <a:lnTo>
                      <a:pt x="507" y="1113"/>
                    </a:lnTo>
                    <a:lnTo>
                      <a:pt x="587" y="1130"/>
                    </a:lnTo>
                    <a:lnTo>
                      <a:pt x="671" y="1145"/>
                    </a:lnTo>
                    <a:lnTo>
                      <a:pt x="760" y="1159"/>
                    </a:lnTo>
                    <a:lnTo>
                      <a:pt x="851" y="1169"/>
                    </a:lnTo>
                    <a:lnTo>
                      <a:pt x="946" y="1178"/>
                    </a:lnTo>
                    <a:lnTo>
                      <a:pt x="1043" y="1185"/>
                    </a:lnTo>
                    <a:lnTo>
                      <a:pt x="1141" y="1189"/>
                    </a:lnTo>
                    <a:lnTo>
                      <a:pt x="1241" y="1192"/>
                    </a:lnTo>
                    <a:lnTo>
                      <a:pt x="1341" y="1192"/>
                    </a:lnTo>
                    <a:lnTo>
                      <a:pt x="1441" y="1188"/>
                    </a:lnTo>
                    <a:lnTo>
                      <a:pt x="1542" y="1184"/>
                    </a:lnTo>
                    <a:lnTo>
                      <a:pt x="1641" y="1176"/>
                    </a:lnTo>
                    <a:lnTo>
                      <a:pt x="1739" y="1166"/>
                    </a:lnTo>
                    <a:lnTo>
                      <a:pt x="1836" y="1153"/>
                    </a:lnTo>
                    <a:lnTo>
                      <a:pt x="1929" y="1137"/>
                    </a:lnTo>
                    <a:lnTo>
                      <a:pt x="2020" y="1120"/>
                    </a:lnTo>
                    <a:lnTo>
                      <a:pt x="2107" y="1098"/>
                    </a:lnTo>
                    <a:lnTo>
                      <a:pt x="2191" y="1074"/>
                    </a:lnTo>
                    <a:lnTo>
                      <a:pt x="2270" y="1048"/>
                    </a:lnTo>
                    <a:lnTo>
                      <a:pt x="2344" y="1018"/>
                    </a:lnTo>
                    <a:lnTo>
                      <a:pt x="2412" y="985"/>
                    </a:lnTo>
                    <a:lnTo>
                      <a:pt x="2425" y="888"/>
                    </a:lnTo>
                    <a:lnTo>
                      <a:pt x="2358" y="903"/>
                    </a:lnTo>
                    <a:lnTo>
                      <a:pt x="2288" y="917"/>
                    </a:lnTo>
                    <a:lnTo>
                      <a:pt x="2218" y="930"/>
                    </a:lnTo>
                    <a:lnTo>
                      <a:pt x="2146" y="942"/>
                    </a:lnTo>
                    <a:lnTo>
                      <a:pt x="2073" y="953"/>
                    </a:lnTo>
                    <a:lnTo>
                      <a:pt x="1999" y="965"/>
                    </a:lnTo>
                    <a:lnTo>
                      <a:pt x="1924" y="975"/>
                    </a:lnTo>
                    <a:lnTo>
                      <a:pt x="1847" y="985"/>
                    </a:lnTo>
                    <a:lnTo>
                      <a:pt x="1771" y="993"/>
                    </a:lnTo>
                    <a:lnTo>
                      <a:pt x="1693" y="1001"/>
                    </a:lnTo>
                    <a:lnTo>
                      <a:pt x="1616" y="1008"/>
                    </a:lnTo>
                    <a:lnTo>
                      <a:pt x="1537" y="1014"/>
                    </a:lnTo>
                    <a:lnTo>
                      <a:pt x="1459" y="1018"/>
                    </a:lnTo>
                    <a:lnTo>
                      <a:pt x="1380" y="1022"/>
                    </a:lnTo>
                    <a:lnTo>
                      <a:pt x="1300" y="1024"/>
                    </a:lnTo>
                    <a:lnTo>
                      <a:pt x="1222" y="1024"/>
                    </a:lnTo>
                    <a:lnTo>
                      <a:pt x="1143" y="1024"/>
                    </a:lnTo>
                    <a:lnTo>
                      <a:pt x="1064" y="1022"/>
                    </a:lnTo>
                    <a:lnTo>
                      <a:pt x="986" y="1018"/>
                    </a:lnTo>
                    <a:lnTo>
                      <a:pt x="908" y="1013"/>
                    </a:lnTo>
                    <a:lnTo>
                      <a:pt x="831" y="1006"/>
                    </a:lnTo>
                    <a:lnTo>
                      <a:pt x="754" y="998"/>
                    </a:lnTo>
                    <a:lnTo>
                      <a:pt x="679" y="988"/>
                    </a:lnTo>
                    <a:lnTo>
                      <a:pt x="605" y="976"/>
                    </a:lnTo>
                    <a:lnTo>
                      <a:pt x="531" y="963"/>
                    </a:lnTo>
                    <a:lnTo>
                      <a:pt x="458" y="947"/>
                    </a:lnTo>
                    <a:lnTo>
                      <a:pt x="387" y="930"/>
                    </a:lnTo>
                    <a:lnTo>
                      <a:pt x="318" y="909"/>
                    </a:lnTo>
                    <a:lnTo>
                      <a:pt x="249" y="887"/>
                    </a:lnTo>
                    <a:lnTo>
                      <a:pt x="182" y="863"/>
                    </a:lnTo>
                    <a:lnTo>
                      <a:pt x="117" y="837"/>
                    </a:lnTo>
                    <a:lnTo>
                      <a:pt x="54" y="809"/>
                    </a:lnTo>
                    <a:close/>
                    <a:moveTo>
                      <a:pt x="84" y="1202"/>
                    </a:moveTo>
                    <a:lnTo>
                      <a:pt x="191" y="1221"/>
                    </a:lnTo>
                    <a:lnTo>
                      <a:pt x="307" y="1241"/>
                    </a:lnTo>
                    <a:lnTo>
                      <a:pt x="369" y="1250"/>
                    </a:lnTo>
                    <a:lnTo>
                      <a:pt x="432" y="1259"/>
                    </a:lnTo>
                    <a:lnTo>
                      <a:pt x="497" y="1267"/>
                    </a:lnTo>
                    <a:lnTo>
                      <a:pt x="563" y="1275"/>
                    </a:lnTo>
                    <a:lnTo>
                      <a:pt x="630" y="1283"/>
                    </a:lnTo>
                    <a:lnTo>
                      <a:pt x="700" y="1290"/>
                    </a:lnTo>
                    <a:lnTo>
                      <a:pt x="769" y="1297"/>
                    </a:lnTo>
                    <a:lnTo>
                      <a:pt x="841" y="1302"/>
                    </a:lnTo>
                    <a:lnTo>
                      <a:pt x="914" y="1307"/>
                    </a:lnTo>
                    <a:lnTo>
                      <a:pt x="987" y="1311"/>
                    </a:lnTo>
                    <a:lnTo>
                      <a:pt x="1061" y="1316"/>
                    </a:lnTo>
                    <a:lnTo>
                      <a:pt x="1136" y="1318"/>
                    </a:lnTo>
                    <a:lnTo>
                      <a:pt x="1211" y="1321"/>
                    </a:lnTo>
                    <a:lnTo>
                      <a:pt x="1286" y="1321"/>
                    </a:lnTo>
                    <a:lnTo>
                      <a:pt x="1363" y="1321"/>
                    </a:lnTo>
                    <a:lnTo>
                      <a:pt x="1439" y="1319"/>
                    </a:lnTo>
                    <a:lnTo>
                      <a:pt x="1516" y="1317"/>
                    </a:lnTo>
                    <a:lnTo>
                      <a:pt x="1592" y="1314"/>
                    </a:lnTo>
                    <a:lnTo>
                      <a:pt x="1668" y="1309"/>
                    </a:lnTo>
                    <a:lnTo>
                      <a:pt x="1745" y="1302"/>
                    </a:lnTo>
                    <a:lnTo>
                      <a:pt x="1820" y="1295"/>
                    </a:lnTo>
                    <a:lnTo>
                      <a:pt x="1895" y="1286"/>
                    </a:lnTo>
                    <a:lnTo>
                      <a:pt x="1969" y="1275"/>
                    </a:lnTo>
                    <a:lnTo>
                      <a:pt x="2043" y="1264"/>
                    </a:lnTo>
                    <a:lnTo>
                      <a:pt x="2116" y="1250"/>
                    </a:lnTo>
                    <a:lnTo>
                      <a:pt x="2188" y="1235"/>
                    </a:lnTo>
                    <a:lnTo>
                      <a:pt x="2259" y="1218"/>
                    </a:lnTo>
                    <a:lnTo>
                      <a:pt x="2328" y="1199"/>
                    </a:lnTo>
                    <a:lnTo>
                      <a:pt x="2304" y="1299"/>
                    </a:lnTo>
                    <a:lnTo>
                      <a:pt x="2235" y="1334"/>
                    </a:lnTo>
                    <a:lnTo>
                      <a:pt x="2161" y="1365"/>
                    </a:lnTo>
                    <a:lnTo>
                      <a:pt x="2082" y="1392"/>
                    </a:lnTo>
                    <a:lnTo>
                      <a:pt x="2000" y="1416"/>
                    </a:lnTo>
                    <a:lnTo>
                      <a:pt x="1916" y="1438"/>
                    </a:lnTo>
                    <a:lnTo>
                      <a:pt x="1828" y="1456"/>
                    </a:lnTo>
                    <a:lnTo>
                      <a:pt x="1738" y="1471"/>
                    </a:lnTo>
                    <a:lnTo>
                      <a:pt x="1647" y="1482"/>
                    </a:lnTo>
                    <a:lnTo>
                      <a:pt x="1553" y="1493"/>
                    </a:lnTo>
                    <a:lnTo>
                      <a:pt x="1460" y="1500"/>
                    </a:lnTo>
                    <a:lnTo>
                      <a:pt x="1365" y="1504"/>
                    </a:lnTo>
                    <a:lnTo>
                      <a:pt x="1272" y="1505"/>
                    </a:lnTo>
                    <a:lnTo>
                      <a:pt x="1177" y="1505"/>
                    </a:lnTo>
                    <a:lnTo>
                      <a:pt x="1085" y="1503"/>
                    </a:lnTo>
                    <a:lnTo>
                      <a:pt x="994" y="1498"/>
                    </a:lnTo>
                    <a:lnTo>
                      <a:pt x="904" y="1492"/>
                    </a:lnTo>
                    <a:lnTo>
                      <a:pt x="816" y="1482"/>
                    </a:lnTo>
                    <a:lnTo>
                      <a:pt x="731" y="1472"/>
                    </a:lnTo>
                    <a:lnTo>
                      <a:pt x="649" y="1461"/>
                    </a:lnTo>
                    <a:lnTo>
                      <a:pt x="572" y="1447"/>
                    </a:lnTo>
                    <a:lnTo>
                      <a:pt x="498" y="1432"/>
                    </a:lnTo>
                    <a:lnTo>
                      <a:pt x="429" y="1415"/>
                    </a:lnTo>
                    <a:lnTo>
                      <a:pt x="364" y="1398"/>
                    </a:lnTo>
                    <a:lnTo>
                      <a:pt x="305" y="1380"/>
                    </a:lnTo>
                    <a:lnTo>
                      <a:pt x="253" y="1359"/>
                    </a:lnTo>
                    <a:lnTo>
                      <a:pt x="206" y="1339"/>
                    </a:lnTo>
                    <a:lnTo>
                      <a:pt x="166" y="1317"/>
                    </a:lnTo>
                    <a:lnTo>
                      <a:pt x="133" y="1295"/>
                    </a:lnTo>
                    <a:lnTo>
                      <a:pt x="108" y="1273"/>
                    </a:lnTo>
                    <a:lnTo>
                      <a:pt x="91" y="1250"/>
                    </a:lnTo>
                    <a:lnTo>
                      <a:pt x="83" y="1226"/>
                    </a:lnTo>
                    <a:lnTo>
                      <a:pt x="84" y="1202"/>
                    </a:lnTo>
                    <a:close/>
                    <a:moveTo>
                      <a:pt x="125" y="1545"/>
                    </a:moveTo>
                    <a:lnTo>
                      <a:pt x="131" y="1566"/>
                    </a:lnTo>
                    <a:lnTo>
                      <a:pt x="145" y="1586"/>
                    </a:lnTo>
                    <a:lnTo>
                      <a:pt x="165" y="1606"/>
                    </a:lnTo>
                    <a:lnTo>
                      <a:pt x="192" y="1625"/>
                    </a:lnTo>
                    <a:lnTo>
                      <a:pt x="225" y="1643"/>
                    </a:lnTo>
                    <a:lnTo>
                      <a:pt x="265" y="1661"/>
                    </a:lnTo>
                    <a:lnTo>
                      <a:pt x="310" y="1680"/>
                    </a:lnTo>
                    <a:lnTo>
                      <a:pt x="360" y="1697"/>
                    </a:lnTo>
                    <a:lnTo>
                      <a:pt x="416" y="1713"/>
                    </a:lnTo>
                    <a:lnTo>
                      <a:pt x="475" y="1728"/>
                    </a:lnTo>
                    <a:lnTo>
                      <a:pt x="539" y="1741"/>
                    </a:lnTo>
                    <a:lnTo>
                      <a:pt x="607" y="1755"/>
                    </a:lnTo>
                    <a:lnTo>
                      <a:pt x="678" y="1766"/>
                    </a:lnTo>
                    <a:lnTo>
                      <a:pt x="752" y="1777"/>
                    </a:lnTo>
                    <a:lnTo>
                      <a:pt x="828" y="1787"/>
                    </a:lnTo>
                    <a:lnTo>
                      <a:pt x="907" y="1794"/>
                    </a:lnTo>
                    <a:lnTo>
                      <a:pt x="987" y="1800"/>
                    </a:lnTo>
                    <a:lnTo>
                      <a:pt x="1069" y="1804"/>
                    </a:lnTo>
                    <a:lnTo>
                      <a:pt x="1152" y="1807"/>
                    </a:lnTo>
                    <a:lnTo>
                      <a:pt x="1236" y="1808"/>
                    </a:lnTo>
                    <a:lnTo>
                      <a:pt x="1321" y="1807"/>
                    </a:lnTo>
                    <a:lnTo>
                      <a:pt x="1404" y="1804"/>
                    </a:lnTo>
                    <a:lnTo>
                      <a:pt x="1488" y="1798"/>
                    </a:lnTo>
                    <a:lnTo>
                      <a:pt x="1571" y="1791"/>
                    </a:lnTo>
                    <a:lnTo>
                      <a:pt x="1653" y="1782"/>
                    </a:lnTo>
                    <a:lnTo>
                      <a:pt x="1733" y="1770"/>
                    </a:lnTo>
                    <a:lnTo>
                      <a:pt x="1812" y="1755"/>
                    </a:lnTo>
                    <a:lnTo>
                      <a:pt x="1888" y="1738"/>
                    </a:lnTo>
                    <a:lnTo>
                      <a:pt x="1961" y="1718"/>
                    </a:lnTo>
                    <a:lnTo>
                      <a:pt x="2032" y="1696"/>
                    </a:lnTo>
                    <a:lnTo>
                      <a:pt x="2099" y="1671"/>
                    </a:lnTo>
                    <a:lnTo>
                      <a:pt x="2162" y="1642"/>
                    </a:lnTo>
                    <a:lnTo>
                      <a:pt x="2186" y="1537"/>
                    </a:lnTo>
                    <a:lnTo>
                      <a:pt x="2123" y="1557"/>
                    </a:lnTo>
                    <a:lnTo>
                      <a:pt x="2059" y="1574"/>
                    </a:lnTo>
                    <a:lnTo>
                      <a:pt x="1994" y="1591"/>
                    </a:lnTo>
                    <a:lnTo>
                      <a:pt x="1929" y="1606"/>
                    </a:lnTo>
                    <a:lnTo>
                      <a:pt x="1864" y="1619"/>
                    </a:lnTo>
                    <a:lnTo>
                      <a:pt x="1798" y="1631"/>
                    </a:lnTo>
                    <a:lnTo>
                      <a:pt x="1733" y="1641"/>
                    </a:lnTo>
                    <a:lnTo>
                      <a:pt x="1667" y="1650"/>
                    </a:lnTo>
                    <a:lnTo>
                      <a:pt x="1601" y="1658"/>
                    </a:lnTo>
                    <a:lnTo>
                      <a:pt x="1534" y="1665"/>
                    </a:lnTo>
                    <a:lnTo>
                      <a:pt x="1468" y="1671"/>
                    </a:lnTo>
                    <a:lnTo>
                      <a:pt x="1402" y="1674"/>
                    </a:lnTo>
                    <a:lnTo>
                      <a:pt x="1334" y="1677"/>
                    </a:lnTo>
                    <a:lnTo>
                      <a:pt x="1268" y="1679"/>
                    </a:lnTo>
                    <a:lnTo>
                      <a:pt x="1201" y="1680"/>
                    </a:lnTo>
                    <a:lnTo>
                      <a:pt x="1135" y="1679"/>
                    </a:lnTo>
                    <a:lnTo>
                      <a:pt x="1069" y="1677"/>
                    </a:lnTo>
                    <a:lnTo>
                      <a:pt x="1003" y="1674"/>
                    </a:lnTo>
                    <a:lnTo>
                      <a:pt x="937" y="1671"/>
                    </a:lnTo>
                    <a:lnTo>
                      <a:pt x="872" y="1666"/>
                    </a:lnTo>
                    <a:lnTo>
                      <a:pt x="807" y="1660"/>
                    </a:lnTo>
                    <a:lnTo>
                      <a:pt x="742" y="1653"/>
                    </a:lnTo>
                    <a:lnTo>
                      <a:pt x="677" y="1647"/>
                    </a:lnTo>
                    <a:lnTo>
                      <a:pt x="613" y="1637"/>
                    </a:lnTo>
                    <a:lnTo>
                      <a:pt x="550" y="1629"/>
                    </a:lnTo>
                    <a:lnTo>
                      <a:pt x="488" y="1619"/>
                    </a:lnTo>
                    <a:lnTo>
                      <a:pt x="425" y="1609"/>
                    </a:lnTo>
                    <a:lnTo>
                      <a:pt x="363" y="1598"/>
                    </a:lnTo>
                    <a:lnTo>
                      <a:pt x="303" y="1585"/>
                    </a:lnTo>
                    <a:lnTo>
                      <a:pt x="243" y="1572"/>
                    </a:lnTo>
                    <a:lnTo>
                      <a:pt x="183" y="1559"/>
                    </a:lnTo>
                    <a:lnTo>
                      <a:pt x="125" y="1545"/>
                    </a:lnTo>
                    <a:close/>
                    <a:moveTo>
                      <a:pt x="162" y="1829"/>
                    </a:moveTo>
                    <a:lnTo>
                      <a:pt x="213" y="1842"/>
                    </a:lnTo>
                    <a:lnTo>
                      <a:pt x="264" y="1854"/>
                    </a:lnTo>
                    <a:lnTo>
                      <a:pt x="318" y="1867"/>
                    </a:lnTo>
                    <a:lnTo>
                      <a:pt x="372" y="1878"/>
                    </a:lnTo>
                    <a:lnTo>
                      <a:pt x="428" y="1888"/>
                    </a:lnTo>
                    <a:lnTo>
                      <a:pt x="484" y="1899"/>
                    </a:lnTo>
                    <a:lnTo>
                      <a:pt x="542" y="1909"/>
                    </a:lnTo>
                    <a:lnTo>
                      <a:pt x="600" y="1918"/>
                    </a:lnTo>
                    <a:lnTo>
                      <a:pt x="660" y="1926"/>
                    </a:lnTo>
                    <a:lnTo>
                      <a:pt x="720" y="1934"/>
                    </a:lnTo>
                    <a:lnTo>
                      <a:pt x="780" y="1941"/>
                    </a:lnTo>
                    <a:lnTo>
                      <a:pt x="841" y="1946"/>
                    </a:lnTo>
                    <a:lnTo>
                      <a:pt x="902" y="1952"/>
                    </a:lnTo>
                    <a:lnTo>
                      <a:pt x="964" y="1957"/>
                    </a:lnTo>
                    <a:lnTo>
                      <a:pt x="1027" y="1960"/>
                    </a:lnTo>
                    <a:lnTo>
                      <a:pt x="1088" y="1962"/>
                    </a:lnTo>
                    <a:lnTo>
                      <a:pt x="1151" y="1964"/>
                    </a:lnTo>
                    <a:lnTo>
                      <a:pt x="1214" y="1965"/>
                    </a:lnTo>
                    <a:lnTo>
                      <a:pt x="1275" y="1965"/>
                    </a:lnTo>
                    <a:lnTo>
                      <a:pt x="1338" y="1962"/>
                    </a:lnTo>
                    <a:lnTo>
                      <a:pt x="1399" y="1960"/>
                    </a:lnTo>
                    <a:lnTo>
                      <a:pt x="1461" y="1956"/>
                    </a:lnTo>
                    <a:lnTo>
                      <a:pt x="1522" y="1951"/>
                    </a:lnTo>
                    <a:lnTo>
                      <a:pt x="1583" y="1944"/>
                    </a:lnTo>
                    <a:lnTo>
                      <a:pt x="1642" y="1937"/>
                    </a:lnTo>
                    <a:lnTo>
                      <a:pt x="1701" y="1928"/>
                    </a:lnTo>
                    <a:lnTo>
                      <a:pt x="1761" y="1917"/>
                    </a:lnTo>
                    <a:lnTo>
                      <a:pt x="1818" y="1905"/>
                    </a:lnTo>
                    <a:lnTo>
                      <a:pt x="1875" y="1892"/>
                    </a:lnTo>
                    <a:lnTo>
                      <a:pt x="1930" y="1878"/>
                    </a:lnTo>
                    <a:lnTo>
                      <a:pt x="1985" y="1861"/>
                    </a:lnTo>
                    <a:lnTo>
                      <a:pt x="2039" y="1844"/>
                    </a:lnTo>
                    <a:lnTo>
                      <a:pt x="2039" y="1938"/>
                    </a:lnTo>
                    <a:lnTo>
                      <a:pt x="1984" y="1962"/>
                    </a:lnTo>
                    <a:lnTo>
                      <a:pt x="1925" y="1984"/>
                    </a:lnTo>
                    <a:lnTo>
                      <a:pt x="1862" y="2002"/>
                    </a:lnTo>
                    <a:lnTo>
                      <a:pt x="1796" y="2019"/>
                    </a:lnTo>
                    <a:lnTo>
                      <a:pt x="1728" y="2034"/>
                    </a:lnTo>
                    <a:lnTo>
                      <a:pt x="1656" y="2046"/>
                    </a:lnTo>
                    <a:lnTo>
                      <a:pt x="1583" y="2056"/>
                    </a:lnTo>
                    <a:lnTo>
                      <a:pt x="1509" y="2064"/>
                    </a:lnTo>
                    <a:lnTo>
                      <a:pt x="1432" y="2071"/>
                    </a:lnTo>
                    <a:lnTo>
                      <a:pt x="1356" y="2075"/>
                    </a:lnTo>
                    <a:lnTo>
                      <a:pt x="1279" y="2078"/>
                    </a:lnTo>
                    <a:lnTo>
                      <a:pt x="1201" y="2078"/>
                    </a:lnTo>
                    <a:lnTo>
                      <a:pt x="1124" y="2078"/>
                    </a:lnTo>
                    <a:lnTo>
                      <a:pt x="1047" y="2074"/>
                    </a:lnTo>
                    <a:lnTo>
                      <a:pt x="971" y="2071"/>
                    </a:lnTo>
                    <a:lnTo>
                      <a:pt x="896" y="2065"/>
                    </a:lnTo>
                    <a:lnTo>
                      <a:pt x="823" y="2058"/>
                    </a:lnTo>
                    <a:lnTo>
                      <a:pt x="751" y="2049"/>
                    </a:lnTo>
                    <a:lnTo>
                      <a:pt x="682" y="2040"/>
                    </a:lnTo>
                    <a:lnTo>
                      <a:pt x="616" y="2028"/>
                    </a:lnTo>
                    <a:lnTo>
                      <a:pt x="553" y="2017"/>
                    </a:lnTo>
                    <a:lnTo>
                      <a:pt x="493" y="2003"/>
                    </a:lnTo>
                    <a:lnTo>
                      <a:pt x="437" y="1990"/>
                    </a:lnTo>
                    <a:lnTo>
                      <a:pt x="385" y="1975"/>
                    </a:lnTo>
                    <a:lnTo>
                      <a:pt x="337" y="1959"/>
                    </a:lnTo>
                    <a:lnTo>
                      <a:pt x="295" y="1942"/>
                    </a:lnTo>
                    <a:lnTo>
                      <a:pt x="257" y="1925"/>
                    </a:lnTo>
                    <a:lnTo>
                      <a:pt x="225" y="1907"/>
                    </a:lnTo>
                    <a:lnTo>
                      <a:pt x="200" y="1888"/>
                    </a:lnTo>
                    <a:lnTo>
                      <a:pt x="181" y="1869"/>
                    </a:lnTo>
                    <a:lnTo>
                      <a:pt x="167" y="1850"/>
                    </a:lnTo>
                    <a:lnTo>
                      <a:pt x="162" y="1829"/>
                    </a:lnTo>
                    <a:close/>
                  </a:path>
                </a:pathLst>
              </a:custGeom>
              <a:solidFill>
                <a:srgbClr val="5a43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83160" y="3248280"/>
                <a:ext cx="830160" cy="152280"/>
              </a:xfrm>
              <a:custGeom>
                <a:avLst/>
                <a:gdLst/>
                <a:ahLst/>
                <a:rect l="l" t="t" r="r" b="b"/>
                <a:pathLst>
                  <a:path w="2614" h="481">
                    <a:moveTo>
                      <a:pt x="2578" y="174"/>
                    </a:moveTo>
                    <a:lnTo>
                      <a:pt x="2583" y="161"/>
                    </a:lnTo>
                    <a:lnTo>
                      <a:pt x="2571" y="172"/>
                    </a:lnTo>
                    <a:lnTo>
                      <a:pt x="2558" y="183"/>
                    </a:lnTo>
                    <a:lnTo>
                      <a:pt x="2544" y="193"/>
                    </a:lnTo>
                    <a:lnTo>
                      <a:pt x="2531" y="204"/>
                    </a:lnTo>
                    <a:lnTo>
                      <a:pt x="2500" y="224"/>
                    </a:lnTo>
                    <a:lnTo>
                      <a:pt x="2468" y="244"/>
                    </a:lnTo>
                    <a:lnTo>
                      <a:pt x="2434" y="263"/>
                    </a:lnTo>
                    <a:lnTo>
                      <a:pt x="2397" y="280"/>
                    </a:lnTo>
                    <a:lnTo>
                      <a:pt x="2360" y="297"/>
                    </a:lnTo>
                    <a:lnTo>
                      <a:pt x="2320" y="312"/>
                    </a:lnTo>
                    <a:lnTo>
                      <a:pt x="2278" y="327"/>
                    </a:lnTo>
                    <a:lnTo>
                      <a:pt x="2234" y="340"/>
                    </a:lnTo>
                    <a:lnTo>
                      <a:pt x="2189" y="354"/>
                    </a:lnTo>
                    <a:lnTo>
                      <a:pt x="2142" y="366"/>
                    </a:lnTo>
                    <a:lnTo>
                      <a:pt x="2094" y="377"/>
                    </a:lnTo>
                    <a:lnTo>
                      <a:pt x="2045" y="387"/>
                    </a:lnTo>
                    <a:lnTo>
                      <a:pt x="1995" y="396"/>
                    </a:lnTo>
                    <a:lnTo>
                      <a:pt x="1943" y="405"/>
                    </a:lnTo>
                    <a:lnTo>
                      <a:pt x="1890" y="413"/>
                    </a:lnTo>
                    <a:lnTo>
                      <a:pt x="1837" y="420"/>
                    </a:lnTo>
                    <a:lnTo>
                      <a:pt x="1783" y="426"/>
                    </a:lnTo>
                    <a:lnTo>
                      <a:pt x="1728" y="431"/>
                    </a:lnTo>
                    <a:lnTo>
                      <a:pt x="1673" y="435"/>
                    </a:lnTo>
                    <a:lnTo>
                      <a:pt x="1617" y="438"/>
                    </a:lnTo>
                    <a:lnTo>
                      <a:pt x="1560" y="441"/>
                    </a:lnTo>
                    <a:lnTo>
                      <a:pt x="1503" y="443"/>
                    </a:lnTo>
                    <a:lnTo>
                      <a:pt x="1446" y="444"/>
                    </a:lnTo>
                    <a:lnTo>
                      <a:pt x="1389" y="444"/>
                    </a:lnTo>
                    <a:lnTo>
                      <a:pt x="1332" y="444"/>
                    </a:lnTo>
                    <a:lnTo>
                      <a:pt x="1275" y="443"/>
                    </a:lnTo>
                    <a:lnTo>
                      <a:pt x="1217" y="441"/>
                    </a:lnTo>
                    <a:lnTo>
                      <a:pt x="1161" y="438"/>
                    </a:lnTo>
                    <a:lnTo>
                      <a:pt x="1104" y="435"/>
                    </a:lnTo>
                    <a:lnTo>
                      <a:pt x="1048" y="431"/>
                    </a:lnTo>
                    <a:lnTo>
                      <a:pt x="992" y="426"/>
                    </a:lnTo>
                    <a:lnTo>
                      <a:pt x="938" y="420"/>
                    </a:lnTo>
                    <a:lnTo>
                      <a:pt x="883" y="415"/>
                    </a:lnTo>
                    <a:lnTo>
                      <a:pt x="829" y="408"/>
                    </a:lnTo>
                    <a:lnTo>
                      <a:pt x="777" y="400"/>
                    </a:lnTo>
                    <a:lnTo>
                      <a:pt x="726" y="392"/>
                    </a:lnTo>
                    <a:lnTo>
                      <a:pt x="675" y="383"/>
                    </a:lnTo>
                    <a:lnTo>
                      <a:pt x="626" y="374"/>
                    </a:lnTo>
                    <a:lnTo>
                      <a:pt x="579" y="363"/>
                    </a:lnTo>
                    <a:lnTo>
                      <a:pt x="532" y="353"/>
                    </a:lnTo>
                    <a:lnTo>
                      <a:pt x="486" y="342"/>
                    </a:lnTo>
                    <a:lnTo>
                      <a:pt x="443" y="330"/>
                    </a:lnTo>
                    <a:lnTo>
                      <a:pt x="401" y="318"/>
                    </a:lnTo>
                    <a:lnTo>
                      <a:pt x="361" y="305"/>
                    </a:lnTo>
                    <a:lnTo>
                      <a:pt x="322" y="293"/>
                    </a:lnTo>
                    <a:lnTo>
                      <a:pt x="287" y="278"/>
                    </a:lnTo>
                    <a:lnTo>
                      <a:pt x="251" y="264"/>
                    </a:lnTo>
                    <a:lnTo>
                      <a:pt x="220" y="249"/>
                    </a:lnTo>
                    <a:lnTo>
                      <a:pt x="190" y="233"/>
                    </a:lnTo>
                    <a:lnTo>
                      <a:pt x="163" y="218"/>
                    </a:lnTo>
                    <a:lnTo>
                      <a:pt x="137" y="203"/>
                    </a:lnTo>
                    <a:lnTo>
                      <a:pt x="116" y="185"/>
                    </a:lnTo>
                    <a:lnTo>
                      <a:pt x="95" y="169"/>
                    </a:lnTo>
                    <a:lnTo>
                      <a:pt x="78" y="152"/>
                    </a:lnTo>
                    <a:lnTo>
                      <a:pt x="71" y="144"/>
                    </a:lnTo>
                    <a:lnTo>
                      <a:pt x="65" y="135"/>
                    </a:lnTo>
                    <a:lnTo>
                      <a:pt x="59" y="127"/>
                    </a:lnTo>
                    <a:lnTo>
                      <a:pt x="53" y="118"/>
                    </a:lnTo>
                    <a:lnTo>
                      <a:pt x="49" y="110"/>
                    </a:lnTo>
                    <a:lnTo>
                      <a:pt x="44" y="101"/>
                    </a:lnTo>
                    <a:lnTo>
                      <a:pt x="42" y="93"/>
                    </a:lnTo>
                    <a:lnTo>
                      <a:pt x="38" y="84"/>
                    </a:lnTo>
                    <a:lnTo>
                      <a:pt x="37" y="76"/>
                    </a:lnTo>
                    <a:lnTo>
                      <a:pt x="36" y="67"/>
                    </a:lnTo>
                    <a:lnTo>
                      <a:pt x="36" y="58"/>
                    </a:lnTo>
                    <a:lnTo>
                      <a:pt x="36" y="50"/>
                    </a:lnTo>
                    <a:lnTo>
                      <a:pt x="37" y="41"/>
                    </a:lnTo>
                    <a:lnTo>
                      <a:pt x="38" y="32"/>
                    </a:lnTo>
                    <a:lnTo>
                      <a:pt x="41" y="22"/>
                    </a:lnTo>
                    <a:lnTo>
                      <a:pt x="44" y="13"/>
                    </a:lnTo>
                    <a:lnTo>
                      <a:pt x="11" y="0"/>
                    </a:lnTo>
                    <a:lnTo>
                      <a:pt x="6" y="11"/>
                    </a:lnTo>
                    <a:lnTo>
                      <a:pt x="3" y="24"/>
                    </a:lnTo>
                    <a:lnTo>
                      <a:pt x="1" y="35"/>
                    </a:lnTo>
                    <a:lnTo>
                      <a:pt x="0" y="46"/>
                    </a:lnTo>
                    <a:lnTo>
                      <a:pt x="0" y="59"/>
                    </a:lnTo>
                    <a:lnTo>
                      <a:pt x="0" y="70"/>
                    </a:lnTo>
                    <a:lnTo>
                      <a:pt x="1" y="82"/>
                    </a:lnTo>
                    <a:lnTo>
                      <a:pt x="4" y="93"/>
                    </a:lnTo>
                    <a:lnTo>
                      <a:pt x="6" y="104"/>
                    </a:lnTo>
                    <a:lnTo>
                      <a:pt x="11" y="115"/>
                    </a:lnTo>
                    <a:lnTo>
                      <a:pt x="16" y="126"/>
                    </a:lnTo>
                    <a:lnTo>
                      <a:pt x="21" y="136"/>
                    </a:lnTo>
                    <a:lnTo>
                      <a:pt x="28" y="147"/>
                    </a:lnTo>
                    <a:lnTo>
                      <a:pt x="35" y="157"/>
                    </a:lnTo>
                    <a:lnTo>
                      <a:pt x="43" y="167"/>
                    </a:lnTo>
                    <a:lnTo>
                      <a:pt x="52" y="177"/>
                    </a:lnTo>
                    <a:lnTo>
                      <a:pt x="71" y="196"/>
                    </a:lnTo>
                    <a:lnTo>
                      <a:pt x="93" y="214"/>
                    </a:lnTo>
                    <a:lnTo>
                      <a:pt x="117" y="232"/>
                    </a:lnTo>
                    <a:lnTo>
                      <a:pt x="144" y="249"/>
                    </a:lnTo>
                    <a:lnTo>
                      <a:pt x="173" y="266"/>
                    </a:lnTo>
                    <a:lnTo>
                      <a:pt x="205" y="282"/>
                    </a:lnTo>
                    <a:lnTo>
                      <a:pt x="238" y="297"/>
                    </a:lnTo>
                    <a:lnTo>
                      <a:pt x="273" y="312"/>
                    </a:lnTo>
                    <a:lnTo>
                      <a:pt x="311" y="326"/>
                    </a:lnTo>
                    <a:lnTo>
                      <a:pt x="349" y="339"/>
                    </a:lnTo>
                    <a:lnTo>
                      <a:pt x="390" y="353"/>
                    </a:lnTo>
                    <a:lnTo>
                      <a:pt x="433" y="366"/>
                    </a:lnTo>
                    <a:lnTo>
                      <a:pt x="477" y="377"/>
                    </a:lnTo>
                    <a:lnTo>
                      <a:pt x="523" y="388"/>
                    </a:lnTo>
                    <a:lnTo>
                      <a:pt x="571" y="400"/>
                    </a:lnTo>
                    <a:lnTo>
                      <a:pt x="620" y="409"/>
                    </a:lnTo>
                    <a:lnTo>
                      <a:pt x="669" y="419"/>
                    </a:lnTo>
                    <a:lnTo>
                      <a:pt x="720" y="428"/>
                    </a:lnTo>
                    <a:lnTo>
                      <a:pt x="772" y="436"/>
                    </a:lnTo>
                    <a:lnTo>
                      <a:pt x="825" y="443"/>
                    </a:lnTo>
                    <a:lnTo>
                      <a:pt x="879" y="450"/>
                    </a:lnTo>
                    <a:lnTo>
                      <a:pt x="934" y="457"/>
                    </a:lnTo>
                    <a:lnTo>
                      <a:pt x="989" y="462"/>
                    </a:lnTo>
                    <a:lnTo>
                      <a:pt x="1045" y="467"/>
                    </a:lnTo>
                    <a:lnTo>
                      <a:pt x="1102" y="472"/>
                    </a:lnTo>
                    <a:lnTo>
                      <a:pt x="1159" y="475"/>
                    </a:lnTo>
                    <a:lnTo>
                      <a:pt x="1216" y="477"/>
                    </a:lnTo>
                    <a:lnTo>
                      <a:pt x="1274" y="480"/>
                    </a:lnTo>
                    <a:lnTo>
                      <a:pt x="1331" y="481"/>
                    </a:lnTo>
                    <a:lnTo>
                      <a:pt x="1389" y="481"/>
                    </a:lnTo>
                    <a:lnTo>
                      <a:pt x="1446" y="481"/>
                    </a:lnTo>
                    <a:lnTo>
                      <a:pt x="1504" y="480"/>
                    </a:lnTo>
                    <a:lnTo>
                      <a:pt x="1561" y="477"/>
                    </a:lnTo>
                    <a:lnTo>
                      <a:pt x="1618" y="475"/>
                    </a:lnTo>
                    <a:lnTo>
                      <a:pt x="1675" y="472"/>
                    </a:lnTo>
                    <a:lnTo>
                      <a:pt x="1731" y="467"/>
                    </a:lnTo>
                    <a:lnTo>
                      <a:pt x="1787" y="461"/>
                    </a:lnTo>
                    <a:lnTo>
                      <a:pt x="1841" y="456"/>
                    </a:lnTo>
                    <a:lnTo>
                      <a:pt x="1895" y="449"/>
                    </a:lnTo>
                    <a:lnTo>
                      <a:pt x="1948" y="441"/>
                    </a:lnTo>
                    <a:lnTo>
                      <a:pt x="2001" y="433"/>
                    </a:lnTo>
                    <a:lnTo>
                      <a:pt x="2052" y="423"/>
                    </a:lnTo>
                    <a:lnTo>
                      <a:pt x="2102" y="412"/>
                    </a:lnTo>
                    <a:lnTo>
                      <a:pt x="2151" y="401"/>
                    </a:lnTo>
                    <a:lnTo>
                      <a:pt x="2198" y="389"/>
                    </a:lnTo>
                    <a:lnTo>
                      <a:pt x="2245" y="376"/>
                    </a:lnTo>
                    <a:lnTo>
                      <a:pt x="2289" y="362"/>
                    </a:lnTo>
                    <a:lnTo>
                      <a:pt x="2332" y="346"/>
                    </a:lnTo>
                    <a:lnTo>
                      <a:pt x="2374" y="330"/>
                    </a:lnTo>
                    <a:lnTo>
                      <a:pt x="2413" y="313"/>
                    </a:lnTo>
                    <a:lnTo>
                      <a:pt x="2451" y="295"/>
                    </a:lnTo>
                    <a:lnTo>
                      <a:pt x="2486" y="275"/>
                    </a:lnTo>
                    <a:lnTo>
                      <a:pt x="2521" y="255"/>
                    </a:lnTo>
                    <a:lnTo>
                      <a:pt x="2551" y="234"/>
                    </a:lnTo>
                    <a:lnTo>
                      <a:pt x="2566" y="223"/>
                    </a:lnTo>
                    <a:lnTo>
                      <a:pt x="2581" y="212"/>
                    </a:lnTo>
                    <a:lnTo>
                      <a:pt x="2595" y="199"/>
                    </a:lnTo>
                    <a:lnTo>
                      <a:pt x="2608" y="188"/>
                    </a:lnTo>
                    <a:lnTo>
                      <a:pt x="2614" y="174"/>
                    </a:lnTo>
                    <a:lnTo>
                      <a:pt x="2608" y="188"/>
                    </a:lnTo>
                    <a:lnTo>
                      <a:pt x="2611" y="184"/>
                    </a:lnTo>
                    <a:lnTo>
                      <a:pt x="2613" y="181"/>
                    </a:lnTo>
                    <a:lnTo>
                      <a:pt x="2614" y="177"/>
                    </a:lnTo>
                    <a:lnTo>
                      <a:pt x="2614" y="174"/>
                    </a:lnTo>
                    <a:lnTo>
                      <a:pt x="2614" y="171"/>
                    </a:lnTo>
                    <a:lnTo>
                      <a:pt x="2613" y="167"/>
                    </a:lnTo>
                    <a:lnTo>
                      <a:pt x="2611" y="165"/>
                    </a:lnTo>
                    <a:lnTo>
                      <a:pt x="2608" y="161"/>
                    </a:lnTo>
                    <a:lnTo>
                      <a:pt x="2606" y="159"/>
                    </a:lnTo>
                    <a:lnTo>
                      <a:pt x="2604" y="158"/>
                    </a:lnTo>
                    <a:lnTo>
                      <a:pt x="2600" y="157"/>
                    </a:lnTo>
                    <a:lnTo>
                      <a:pt x="2597" y="156"/>
                    </a:lnTo>
                    <a:lnTo>
                      <a:pt x="2593" y="156"/>
                    </a:lnTo>
                    <a:lnTo>
                      <a:pt x="2590" y="157"/>
                    </a:lnTo>
                    <a:lnTo>
                      <a:pt x="2587" y="158"/>
                    </a:lnTo>
                    <a:lnTo>
                      <a:pt x="2583" y="161"/>
                    </a:lnTo>
                    <a:lnTo>
                      <a:pt x="2578" y="17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302520" y="326268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36" h="129">
                    <a:moveTo>
                      <a:pt x="6" y="4"/>
                    </a:moveTo>
                    <a:lnTo>
                      <a:pt x="0" y="18"/>
                    </a:lnTo>
                    <a:lnTo>
                      <a:pt x="0" y="129"/>
                    </a:lnTo>
                    <a:lnTo>
                      <a:pt x="36" y="129"/>
                    </a:lnTo>
                    <a:lnTo>
                      <a:pt x="36" y="18"/>
                    </a:lnTo>
                    <a:lnTo>
                      <a:pt x="6" y="4"/>
                    </a:lnTo>
                    <a:lnTo>
                      <a:pt x="36" y="18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86400" y="3245040"/>
                <a:ext cx="825480" cy="108000"/>
              </a:xfrm>
              <a:custGeom>
                <a:avLst/>
                <a:gdLst/>
                <a:ahLst/>
                <a:rect l="l" t="t" r="r" b="b"/>
                <a:pathLst>
                  <a:path w="2597" h="343">
                    <a:moveTo>
                      <a:pt x="35" y="25"/>
                    </a:moveTo>
                    <a:lnTo>
                      <a:pt x="1" y="24"/>
                    </a:lnTo>
                    <a:lnTo>
                      <a:pt x="4" y="33"/>
                    </a:lnTo>
                    <a:lnTo>
                      <a:pt x="9" y="44"/>
                    </a:lnTo>
                    <a:lnTo>
                      <a:pt x="14" y="53"/>
                    </a:lnTo>
                    <a:lnTo>
                      <a:pt x="20" y="63"/>
                    </a:lnTo>
                    <a:lnTo>
                      <a:pt x="34" y="80"/>
                    </a:lnTo>
                    <a:lnTo>
                      <a:pt x="50" y="97"/>
                    </a:lnTo>
                    <a:lnTo>
                      <a:pt x="68" y="113"/>
                    </a:lnTo>
                    <a:lnTo>
                      <a:pt x="89" y="129"/>
                    </a:lnTo>
                    <a:lnTo>
                      <a:pt x="110" y="144"/>
                    </a:lnTo>
                    <a:lnTo>
                      <a:pt x="135" y="159"/>
                    </a:lnTo>
                    <a:lnTo>
                      <a:pt x="162" y="172"/>
                    </a:lnTo>
                    <a:lnTo>
                      <a:pt x="190" y="185"/>
                    </a:lnTo>
                    <a:lnTo>
                      <a:pt x="221" y="199"/>
                    </a:lnTo>
                    <a:lnTo>
                      <a:pt x="253" y="210"/>
                    </a:lnTo>
                    <a:lnTo>
                      <a:pt x="286" y="221"/>
                    </a:lnTo>
                    <a:lnTo>
                      <a:pt x="321" y="233"/>
                    </a:lnTo>
                    <a:lnTo>
                      <a:pt x="359" y="243"/>
                    </a:lnTo>
                    <a:lnTo>
                      <a:pt x="397" y="253"/>
                    </a:lnTo>
                    <a:lnTo>
                      <a:pt x="437" y="262"/>
                    </a:lnTo>
                    <a:lnTo>
                      <a:pt x="478" y="272"/>
                    </a:lnTo>
                    <a:lnTo>
                      <a:pt x="521" y="281"/>
                    </a:lnTo>
                    <a:lnTo>
                      <a:pt x="565" y="287"/>
                    </a:lnTo>
                    <a:lnTo>
                      <a:pt x="609" y="295"/>
                    </a:lnTo>
                    <a:lnTo>
                      <a:pt x="656" y="302"/>
                    </a:lnTo>
                    <a:lnTo>
                      <a:pt x="703" y="308"/>
                    </a:lnTo>
                    <a:lnTo>
                      <a:pt x="751" y="315"/>
                    </a:lnTo>
                    <a:lnTo>
                      <a:pt x="800" y="319"/>
                    </a:lnTo>
                    <a:lnTo>
                      <a:pt x="850" y="324"/>
                    </a:lnTo>
                    <a:lnTo>
                      <a:pt x="900" y="329"/>
                    </a:lnTo>
                    <a:lnTo>
                      <a:pt x="951" y="332"/>
                    </a:lnTo>
                    <a:lnTo>
                      <a:pt x="1054" y="338"/>
                    </a:lnTo>
                    <a:lnTo>
                      <a:pt x="1160" y="341"/>
                    </a:lnTo>
                    <a:lnTo>
                      <a:pt x="1266" y="343"/>
                    </a:lnTo>
                    <a:lnTo>
                      <a:pt x="1373" y="342"/>
                    </a:lnTo>
                    <a:lnTo>
                      <a:pt x="1480" y="340"/>
                    </a:lnTo>
                    <a:lnTo>
                      <a:pt x="1586" y="334"/>
                    </a:lnTo>
                    <a:lnTo>
                      <a:pt x="1639" y="331"/>
                    </a:lnTo>
                    <a:lnTo>
                      <a:pt x="1691" y="327"/>
                    </a:lnTo>
                    <a:lnTo>
                      <a:pt x="1743" y="322"/>
                    </a:lnTo>
                    <a:lnTo>
                      <a:pt x="1795" y="317"/>
                    </a:lnTo>
                    <a:lnTo>
                      <a:pt x="1845" y="311"/>
                    </a:lnTo>
                    <a:lnTo>
                      <a:pt x="1895" y="306"/>
                    </a:lnTo>
                    <a:lnTo>
                      <a:pt x="1944" y="299"/>
                    </a:lnTo>
                    <a:lnTo>
                      <a:pt x="1993" y="291"/>
                    </a:lnTo>
                    <a:lnTo>
                      <a:pt x="2041" y="283"/>
                    </a:lnTo>
                    <a:lnTo>
                      <a:pt x="2088" y="274"/>
                    </a:lnTo>
                    <a:lnTo>
                      <a:pt x="2133" y="265"/>
                    </a:lnTo>
                    <a:lnTo>
                      <a:pt x="2178" y="256"/>
                    </a:lnTo>
                    <a:lnTo>
                      <a:pt x="2221" y="245"/>
                    </a:lnTo>
                    <a:lnTo>
                      <a:pt x="2262" y="234"/>
                    </a:lnTo>
                    <a:lnTo>
                      <a:pt x="2303" y="222"/>
                    </a:lnTo>
                    <a:lnTo>
                      <a:pt x="2342" y="210"/>
                    </a:lnTo>
                    <a:lnTo>
                      <a:pt x="2380" y="197"/>
                    </a:lnTo>
                    <a:lnTo>
                      <a:pt x="2416" y="184"/>
                    </a:lnTo>
                    <a:lnTo>
                      <a:pt x="2451" y="170"/>
                    </a:lnTo>
                    <a:lnTo>
                      <a:pt x="2484" y="155"/>
                    </a:lnTo>
                    <a:lnTo>
                      <a:pt x="2515" y="140"/>
                    </a:lnTo>
                    <a:lnTo>
                      <a:pt x="2545" y="124"/>
                    </a:lnTo>
                    <a:lnTo>
                      <a:pt x="2572" y="107"/>
                    </a:lnTo>
                    <a:lnTo>
                      <a:pt x="2597" y="90"/>
                    </a:lnTo>
                    <a:lnTo>
                      <a:pt x="2575" y="61"/>
                    </a:lnTo>
                    <a:lnTo>
                      <a:pt x="2553" y="77"/>
                    </a:lnTo>
                    <a:lnTo>
                      <a:pt x="2526" y="93"/>
                    </a:lnTo>
                    <a:lnTo>
                      <a:pt x="2498" y="107"/>
                    </a:lnTo>
                    <a:lnTo>
                      <a:pt x="2468" y="122"/>
                    </a:lnTo>
                    <a:lnTo>
                      <a:pt x="2436" y="137"/>
                    </a:lnTo>
                    <a:lnTo>
                      <a:pt x="2403" y="151"/>
                    </a:lnTo>
                    <a:lnTo>
                      <a:pt x="2368" y="163"/>
                    </a:lnTo>
                    <a:lnTo>
                      <a:pt x="2331" y="176"/>
                    </a:lnTo>
                    <a:lnTo>
                      <a:pt x="2293" y="188"/>
                    </a:lnTo>
                    <a:lnTo>
                      <a:pt x="2253" y="199"/>
                    </a:lnTo>
                    <a:lnTo>
                      <a:pt x="2212" y="210"/>
                    </a:lnTo>
                    <a:lnTo>
                      <a:pt x="2168" y="220"/>
                    </a:lnTo>
                    <a:lnTo>
                      <a:pt x="2125" y="229"/>
                    </a:lnTo>
                    <a:lnTo>
                      <a:pt x="2081" y="238"/>
                    </a:lnTo>
                    <a:lnTo>
                      <a:pt x="2034" y="248"/>
                    </a:lnTo>
                    <a:lnTo>
                      <a:pt x="1987" y="256"/>
                    </a:lnTo>
                    <a:lnTo>
                      <a:pt x="1939" y="262"/>
                    </a:lnTo>
                    <a:lnTo>
                      <a:pt x="1890" y="269"/>
                    </a:lnTo>
                    <a:lnTo>
                      <a:pt x="1841" y="275"/>
                    </a:lnTo>
                    <a:lnTo>
                      <a:pt x="1791" y="281"/>
                    </a:lnTo>
                    <a:lnTo>
                      <a:pt x="1740" y="286"/>
                    </a:lnTo>
                    <a:lnTo>
                      <a:pt x="1689" y="291"/>
                    </a:lnTo>
                    <a:lnTo>
                      <a:pt x="1636" y="294"/>
                    </a:lnTo>
                    <a:lnTo>
                      <a:pt x="1585" y="298"/>
                    </a:lnTo>
                    <a:lnTo>
                      <a:pt x="1479" y="303"/>
                    </a:lnTo>
                    <a:lnTo>
                      <a:pt x="1373" y="306"/>
                    </a:lnTo>
                    <a:lnTo>
                      <a:pt x="1266" y="307"/>
                    </a:lnTo>
                    <a:lnTo>
                      <a:pt x="1161" y="306"/>
                    </a:lnTo>
                    <a:lnTo>
                      <a:pt x="1056" y="302"/>
                    </a:lnTo>
                    <a:lnTo>
                      <a:pt x="952" y="297"/>
                    </a:lnTo>
                    <a:lnTo>
                      <a:pt x="902" y="292"/>
                    </a:lnTo>
                    <a:lnTo>
                      <a:pt x="852" y="289"/>
                    </a:lnTo>
                    <a:lnTo>
                      <a:pt x="803" y="284"/>
                    </a:lnTo>
                    <a:lnTo>
                      <a:pt x="755" y="278"/>
                    </a:lnTo>
                    <a:lnTo>
                      <a:pt x="707" y="273"/>
                    </a:lnTo>
                    <a:lnTo>
                      <a:pt x="661" y="266"/>
                    </a:lnTo>
                    <a:lnTo>
                      <a:pt x="615" y="259"/>
                    </a:lnTo>
                    <a:lnTo>
                      <a:pt x="571" y="252"/>
                    </a:lnTo>
                    <a:lnTo>
                      <a:pt x="527" y="244"/>
                    </a:lnTo>
                    <a:lnTo>
                      <a:pt x="485" y="236"/>
                    </a:lnTo>
                    <a:lnTo>
                      <a:pt x="445" y="227"/>
                    </a:lnTo>
                    <a:lnTo>
                      <a:pt x="405" y="218"/>
                    </a:lnTo>
                    <a:lnTo>
                      <a:pt x="368" y="208"/>
                    </a:lnTo>
                    <a:lnTo>
                      <a:pt x="331" y="197"/>
                    </a:lnTo>
                    <a:lnTo>
                      <a:pt x="297" y="187"/>
                    </a:lnTo>
                    <a:lnTo>
                      <a:pt x="264" y="176"/>
                    </a:lnTo>
                    <a:lnTo>
                      <a:pt x="233" y="164"/>
                    </a:lnTo>
                    <a:lnTo>
                      <a:pt x="205" y="152"/>
                    </a:lnTo>
                    <a:lnTo>
                      <a:pt x="177" y="139"/>
                    </a:lnTo>
                    <a:lnTo>
                      <a:pt x="152" y="127"/>
                    </a:lnTo>
                    <a:lnTo>
                      <a:pt x="130" y="113"/>
                    </a:lnTo>
                    <a:lnTo>
                      <a:pt x="109" y="99"/>
                    </a:lnTo>
                    <a:lnTo>
                      <a:pt x="91" y="86"/>
                    </a:lnTo>
                    <a:lnTo>
                      <a:pt x="75" y="71"/>
                    </a:lnTo>
                    <a:lnTo>
                      <a:pt x="61" y="57"/>
                    </a:lnTo>
                    <a:lnTo>
                      <a:pt x="50" y="41"/>
                    </a:lnTo>
                    <a:lnTo>
                      <a:pt x="45" y="34"/>
                    </a:lnTo>
                    <a:lnTo>
                      <a:pt x="42" y="28"/>
                    </a:lnTo>
                    <a:lnTo>
                      <a:pt x="38" y="20"/>
                    </a:lnTo>
                    <a:lnTo>
                      <a:pt x="35" y="13"/>
                    </a:lnTo>
                    <a:lnTo>
                      <a:pt x="2" y="12"/>
                    </a:lnTo>
                    <a:lnTo>
                      <a:pt x="35" y="13"/>
                    </a:lnTo>
                    <a:lnTo>
                      <a:pt x="34" y="8"/>
                    </a:lnTo>
                    <a:lnTo>
                      <a:pt x="32" y="6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3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502240" y="3389400"/>
                <a:ext cx="787320" cy="128880"/>
              </a:xfrm>
              <a:custGeom>
                <a:avLst/>
                <a:gdLst/>
                <a:ahLst/>
                <a:rect l="l" t="t" r="r" b="b"/>
                <a:pathLst>
                  <a:path w="2483" h="404">
                    <a:moveTo>
                      <a:pt x="2446" y="186"/>
                    </a:moveTo>
                    <a:lnTo>
                      <a:pt x="2456" y="170"/>
                    </a:lnTo>
                    <a:lnTo>
                      <a:pt x="2420" y="187"/>
                    </a:lnTo>
                    <a:lnTo>
                      <a:pt x="2383" y="204"/>
                    </a:lnTo>
                    <a:lnTo>
                      <a:pt x="2344" y="220"/>
                    </a:lnTo>
                    <a:lnTo>
                      <a:pt x="2304" y="235"/>
                    </a:lnTo>
                    <a:lnTo>
                      <a:pt x="2263" y="250"/>
                    </a:lnTo>
                    <a:lnTo>
                      <a:pt x="2221" y="262"/>
                    </a:lnTo>
                    <a:lnTo>
                      <a:pt x="2177" y="275"/>
                    </a:lnTo>
                    <a:lnTo>
                      <a:pt x="2133" y="286"/>
                    </a:lnTo>
                    <a:lnTo>
                      <a:pt x="2087" y="298"/>
                    </a:lnTo>
                    <a:lnTo>
                      <a:pt x="2041" y="308"/>
                    </a:lnTo>
                    <a:lnTo>
                      <a:pt x="1993" y="317"/>
                    </a:lnTo>
                    <a:lnTo>
                      <a:pt x="1945" y="325"/>
                    </a:lnTo>
                    <a:lnTo>
                      <a:pt x="1896" y="332"/>
                    </a:lnTo>
                    <a:lnTo>
                      <a:pt x="1847" y="339"/>
                    </a:lnTo>
                    <a:lnTo>
                      <a:pt x="1797" y="346"/>
                    </a:lnTo>
                    <a:lnTo>
                      <a:pt x="1747" y="350"/>
                    </a:lnTo>
                    <a:lnTo>
                      <a:pt x="1695" y="355"/>
                    </a:lnTo>
                    <a:lnTo>
                      <a:pt x="1644" y="359"/>
                    </a:lnTo>
                    <a:lnTo>
                      <a:pt x="1592" y="362"/>
                    </a:lnTo>
                    <a:lnTo>
                      <a:pt x="1540" y="364"/>
                    </a:lnTo>
                    <a:lnTo>
                      <a:pt x="1488" y="366"/>
                    </a:lnTo>
                    <a:lnTo>
                      <a:pt x="1436" y="367"/>
                    </a:lnTo>
                    <a:lnTo>
                      <a:pt x="1383" y="367"/>
                    </a:lnTo>
                    <a:lnTo>
                      <a:pt x="1331" y="367"/>
                    </a:lnTo>
                    <a:lnTo>
                      <a:pt x="1278" y="366"/>
                    </a:lnTo>
                    <a:lnTo>
                      <a:pt x="1227" y="365"/>
                    </a:lnTo>
                    <a:lnTo>
                      <a:pt x="1175" y="363"/>
                    </a:lnTo>
                    <a:lnTo>
                      <a:pt x="1123" y="360"/>
                    </a:lnTo>
                    <a:lnTo>
                      <a:pt x="1072" y="357"/>
                    </a:lnTo>
                    <a:lnTo>
                      <a:pt x="1022" y="354"/>
                    </a:lnTo>
                    <a:lnTo>
                      <a:pt x="972" y="349"/>
                    </a:lnTo>
                    <a:lnTo>
                      <a:pt x="922" y="344"/>
                    </a:lnTo>
                    <a:lnTo>
                      <a:pt x="873" y="339"/>
                    </a:lnTo>
                    <a:lnTo>
                      <a:pt x="825" y="333"/>
                    </a:lnTo>
                    <a:lnTo>
                      <a:pt x="777" y="326"/>
                    </a:lnTo>
                    <a:lnTo>
                      <a:pt x="730" y="319"/>
                    </a:lnTo>
                    <a:lnTo>
                      <a:pt x="684" y="313"/>
                    </a:lnTo>
                    <a:lnTo>
                      <a:pt x="639" y="305"/>
                    </a:lnTo>
                    <a:lnTo>
                      <a:pt x="596" y="297"/>
                    </a:lnTo>
                    <a:lnTo>
                      <a:pt x="553" y="287"/>
                    </a:lnTo>
                    <a:lnTo>
                      <a:pt x="511" y="278"/>
                    </a:lnTo>
                    <a:lnTo>
                      <a:pt x="471" y="269"/>
                    </a:lnTo>
                    <a:lnTo>
                      <a:pt x="433" y="259"/>
                    </a:lnTo>
                    <a:lnTo>
                      <a:pt x="395" y="249"/>
                    </a:lnTo>
                    <a:lnTo>
                      <a:pt x="359" y="238"/>
                    </a:lnTo>
                    <a:lnTo>
                      <a:pt x="324" y="228"/>
                    </a:lnTo>
                    <a:lnTo>
                      <a:pt x="291" y="217"/>
                    </a:lnTo>
                    <a:lnTo>
                      <a:pt x="259" y="205"/>
                    </a:lnTo>
                    <a:lnTo>
                      <a:pt x="230" y="194"/>
                    </a:lnTo>
                    <a:lnTo>
                      <a:pt x="202" y="181"/>
                    </a:lnTo>
                    <a:lnTo>
                      <a:pt x="176" y="170"/>
                    </a:lnTo>
                    <a:lnTo>
                      <a:pt x="152" y="158"/>
                    </a:lnTo>
                    <a:lnTo>
                      <a:pt x="131" y="145"/>
                    </a:lnTo>
                    <a:lnTo>
                      <a:pt x="111" y="132"/>
                    </a:lnTo>
                    <a:lnTo>
                      <a:pt x="94" y="120"/>
                    </a:lnTo>
                    <a:lnTo>
                      <a:pt x="78" y="106"/>
                    </a:lnTo>
                    <a:lnTo>
                      <a:pt x="66" y="94"/>
                    </a:lnTo>
                    <a:lnTo>
                      <a:pt x="55" y="81"/>
                    </a:lnTo>
                    <a:lnTo>
                      <a:pt x="47" y="70"/>
                    </a:lnTo>
                    <a:lnTo>
                      <a:pt x="41" y="57"/>
                    </a:lnTo>
                    <a:lnTo>
                      <a:pt x="39" y="51"/>
                    </a:lnTo>
                    <a:lnTo>
                      <a:pt x="37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6" y="29"/>
                    </a:lnTo>
                    <a:lnTo>
                      <a:pt x="37" y="23"/>
                    </a:lnTo>
                    <a:lnTo>
                      <a:pt x="38" y="17"/>
                    </a:lnTo>
                    <a:lnTo>
                      <a:pt x="39" y="12"/>
                    </a:lnTo>
                    <a:lnTo>
                      <a:pt x="5" y="0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1" y="45"/>
                    </a:lnTo>
                    <a:lnTo>
                      <a:pt x="2" y="54"/>
                    </a:lnTo>
                    <a:lnTo>
                      <a:pt x="4" y="62"/>
                    </a:lnTo>
                    <a:lnTo>
                      <a:pt x="8" y="71"/>
                    </a:lnTo>
                    <a:lnTo>
                      <a:pt x="15" y="87"/>
                    </a:lnTo>
                    <a:lnTo>
                      <a:pt x="26" y="103"/>
                    </a:lnTo>
                    <a:lnTo>
                      <a:pt x="39" y="119"/>
                    </a:lnTo>
                    <a:lnTo>
                      <a:pt x="54" y="134"/>
                    </a:lnTo>
                    <a:lnTo>
                      <a:pt x="71" y="148"/>
                    </a:lnTo>
                    <a:lnTo>
                      <a:pt x="91" y="162"/>
                    </a:lnTo>
                    <a:lnTo>
                      <a:pt x="112" y="176"/>
                    </a:lnTo>
                    <a:lnTo>
                      <a:pt x="135" y="189"/>
                    </a:lnTo>
                    <a:lnTo>
                      <a:pt x="160" y="202"/>
                    </a:lnTo>
                    <a:lnTo>
                      <a:pt x="188" y="215"/>
                    </a:lnTo>
                    <a:lnTo>
                      <a:pt x="216" y="227"/>
                    </a:lnTo>
                    <a:lnTo>
                      <a:pt x="247" y="240"/>
                    </a:lnTo>
                    <a:lnTo>
                      <a:pt x="279" y="251"/>
                    </a:lnTo>
                    <a:lnTo>
                      <a:pt x="313" y="262"/>
                    </a:lnTo>
                    <a:lnTo>
                      <a:pt x="348" y="274"/>
                    </a:lnTo>
                    <a:lnTo>
                      <a:pt x="385" y="284"/>
                    </a:lnTo>
                    <a:lnTo>
                      <a:pt x="423" y="294"/>
                    </a:lnTo>
                    <a:lnTo>
                      <a:pt x="462" y="305"/>
                    </a:lnTo>
                    <a:lnTo>
                      <a:pt x="503" y="314"/>
                    </a:lnTo>
                    <a:lnTo>
                      <a:pt x="545" y="323"/>
                    </a:lnTo>
                    <a:lnTo>
                      <a:pt x="589" y="332"/>
                    </a:lnTo>
                    <a:lnTo>
                      <a:pt x="633" y="340"/>
                    </a:lnTo>
                    <a:lnTo>
                      <a:pt x="679" y="348"/>
                    </a:lnTo>
                    <a:lnTo>
                      <a:pt x="724" y="356"/>
                    </a:lnTo>
                    <a:lnTo>
                      <a:pt x="772" y="363"/>
                    </a:lnTo>
                    <a:lnTo>
                      <a:pt x="820" y="368"/>
                    </a:lnTo>
                    <a:lnTo>
                      <a:pt x="868" y="374"/>
                    </a:lnTo>
                    <a:lnTo>
                      <a:pt x="918" y="380"/>
                    </a:lnTo>
                    <a:lnTo>
                      <a:pt x="968" y="386"/>
                    </a:lnTo>
                    <a:lnTo>
                      <a:pt x="1018" y="389"/>
                    </a:lnTo>
                    <a:lnTo>
                      <a:pt x="1070" y="393"/>
                    </a:lnTo>
                    <a:lnTo>
                      <a:pt x="1121" y="397"/>
                    </a:lnTo>
                    <a:lnTo>
                      <a:pt x="1173" y="399"/>
                    </a:lnTo>
                    <a:lnTo>
                      <a:pt x="1226" y="401"/>
                    </a:lnTo>
                    <a:lnTo>
                      <a:pt x="1278" y="403"/>
                    </a:lnTo>
                    <a:lnTo>
                      <a:pt x="1331" y="404"/>
                    </a:lnTo>
                    <a:lnTo>
                      <a:pt x="1383" y="404"/>
                    </a:lnTo>
                    <a:lnTo>
                      <a:pt x="1436" y="404"/>
                    </a:lnTo>
                    <a:lnTo>
                      <a:pt x="1489" y="403"/>
                    </a:lnTo>
                    <a:lnTo>
                      <a:pt x="1542" y="400"/>
                    </a:lnTo>
                    <a:lnTo>
                      <a:pt x="1594" y="398"/>
                    </a:lnTo>
                    <a:lnTo>
                      <a:pt x="1646" y="395"/>
                    </a:lnTo>
                    <a:lnTo>
                      <a:pt x="1698" y="391"/>
                    </a:lnTo>
                    <a:lnTo>
                      <a:pt x="1750" y="387"/>
                    </a:lnTo>
                    <a:lnTo>
                      <a:pt x="1800" y="381"/>
                    </a:lnTo>
                    <a:lnTo>
                      <a:pt x="1852" y="375"/>
                    </a:lnTo>
                    <a:lnTo>
                      <a:pt x="1902" y="368"/>
                    </a:lnTo>
                    <a:lnTo>
                      <a:pt x="1951" y="360"/>
                    </a:lnTo>
                    <a:lnTo>
                      <a:pt x="2000" y="352"/>
                    </a:lnTo>
                    <a:lnTo>
                      <a:pt x="2048" y="343"/>
                    </a:lnTo>
                    <a:lnTo>
                      <a:pt x="2095" y="333"/>
                    </a:lnTo>
                    <a:lnTo>
                      <a:pt x="2141" y="322"/>
                    </a:lnTo>
                    <a:lnTo>
                      <a:pt x="2187" y="310"/>
                    </a:lnTo>
                    <a:lnTo>
                      <a:pt x="2231" y="298"/>
                    </a:lnTo>
                    <a:lnTo>
                      <a:pt x="2274" y="284"/>
                    </a:lnTo>
                    <a:lnTo>
                      <a:pt x="2317" y="269"/>
                    </a:lnTo>
                    <a:lnTo>
                      <a:pt x="2358" y="254"/>
                    </a:lnTo>
                    <a:lnTo>
                      <a:pt x="2397" y="237"/>
                    </a:lnTo>
                    <a:lnTo>
                      <a:pt x="2435" y="220"/>
                    </a:lnTo>
                    <a:lnTo>
                      <a:pt x="2473" y="202"/>
                    </a:lnTo>
                    <a:lnTo>
                      <a:pt x="2482" y="186"/>
                    </a:lnTo>
                    <a:lnTo>
                      <a:pt x="2473" y="202"/>
                    </a:lnTo>
                    <a:lnTo>
                      <a:pt x="2476" y="200"/>
                    </a:lnTo>
                    <a:lnTo>
                      <a:pt x="2478" y="197"/>
                    </a:lnTo>
                    <a:lnTo>
                      <a:pt x="2481" y="194"/>
                    </a:lnTo>
                    <a:lnTo>
                      <a:pt x="2482" y="191"/>
                    </a:lnTo>
                    <a:lnTo>
                      <a:pt x="2483" y="187"/>
                    </a:lnTo>
                    <a:lnTo>
                      <a:pt x="2482" y="184"/>
                    </a:lnTo>
                    <a:lnTo>
                      <a:pt x="2482" y="180"/>
                    </a:lnTo>
                    <a:lnTo>
                      <a:pt x="2481" y="177"/>
                    </a:lnTo>
                    <a:lnTo>
                      <a:pt x="2478" y="175"/>
                    </a:lnTo>
                    <a:lnTo>
                      <a:pt x="2476" y="172"/>
                    </a:lnTo>
                    <a:lnTo>
                      <a:pt x="2474" y="170"/>
                    </a:lnTo>
                    <a:lnTo>
                      <a:pt x="2470" y="169"/>
                    </a:lnTo>
                    <a:lnTo>
                      <a:pt x="2467" y="168"/>
                    </a:lnTo>
                    <a:lnTo>
                      <a:pt x="2464" y="168"/>
                    </a:lnTo>
                    <a:lnTo>
                      <a:pt x="2460" y="168"/>
                    </a:lnTo>
                    <a:lnTo>
                      <a:pt x="2456" y="170"/>
                    </a:lnTo>
                    <a:lnTo>
                      <a:pt x="2446" y="1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278400" y="341028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36" h="119">
                    <a:moveTo>
                      <a:pt x="14" y="0"/>
                    </a:moveTo>
                    <a:lnTo>
                      <a:pt x="0" y="19"/>
                    </a:lnTo>
                    <a:lnTo>
                      <a:pt x="0" y="119"/>
                    </a:lnTo>
                    <a:lnTo>
                      <a:pt x="36" y="119"/>
                    </a:lnTo>
                    <a:lnTo>
                      <a:pt x="36" y="19"/>
                    </a:lnTo>
                    <a:lnTo>
                      <a:pt x="14" y="0"/>
                    </a:lnTo>
                    <a:lnTo>
                      <a:pt x="36" y="19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8" y="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04040" y="3384720"/>
                <a:ext cx="780840" cy="79560"/>
              </a:xfrm>
              <a:custGeom>
                <a:avLst/>
                <a:gdLst/>
                <a:ahLst/>
                <a:rect l="l" t="t" r="r" b="b"/>
                <a:pathLst>
                  <a:path w="2464" h="249">
                    <a:moveTo>
                      <a:pt x="35" y="24"/>
                    </a:moveTo>
                    <a:lnTo>
                      <a:pt x="11" y="35"/>
                    </a:lnTo>
                    <a:lnTo>
                      <a:pt x="76" y="60"/>
                    </a:lnTo>
                    <a:lnTo>
                      <a:pt x="144" y="83"/>
                    </a:lnTo>
                    <a:lnTo>
                      <a:pt x="213" y="105"/>
                    </a:lnTo>
                    <a:lnTo>
                      <a:pt x="283" y="125"/>
                    </a:lnTo>
                    <a:lnTo>
                      <a:pt x="356" y="143"/>
                    </a:lnTo>
                    <a:lnTo>
                      <a:pt x="429" y="160"/>
                    </a:lnTo>
                    <a:lnTo>
                      <a:pt x="504" y="176"/>
                    </a:lnTo>
                    <a:lnTo>
                      <a:pt x="580" y="190"/>
                    </a:lnTo>
                    <a:lnTo>
                      <a:pt x="657" y="203"/>
                    </a:lnTo>
                    <a:lnTo>
                      <a:pt x="735" y="214"/>
                    </a:lnTo>
                    <a:lnTo>
                      <a:pt x="814" y="223"/>
                    </a:lnTo>
                    <a:lnTo>
                      <a:pt x="894" y="231"/>
                    </a:lnTo>
                    <a:lnTo>
                      <a:pt x="975" y="238"/>
                    </a:lnTo>
                    <a:lnTo>
                      <a:pt x="1055" y="242"/>
                    </a:lnTo>
                    <a:lnTo>
                      <a:pt x="1136" y="246"/>
                    </a:lnTo>
                    <a:lnTo>
                      <a:pt x="1218" y="248"/>
                    </a:lnTo>
                    <a:lnTo>
                      <a:pt x="1299" y="249"/>
                    </a:lnTo>
                    <a:lnTo>
                      <a:pt x="1381" y="249"/>
                    </a:lnTo>
                    <a:lnTo>
                      <a:pt x="1463" y="247"/>
                    </a:lnTo>
                    <a:lnTo>
                      <a:pt x="1544" y="245"/>
                    </a:lnTo>
                    <a:lnTo>
                      <a:pt x="1625" y="240"/>
                    </a:lnTo>
                    <a:lnTo>
                      <a:pt x="1706" y="234"/>
                    </a:lnTo>
                    <a:lnTo>
                      <a:pt x="1787" y="228"/>
                    </a:lnTo>
                    <a:lnTo>
                      <a:pt x="1866" y="220"/>
                    </a:lnTo>
                    <a:lnTo>
                      <a:pt x="1944" y="211"/>
                    </a:lnTo>
                    <a:lnTo>
                      <a:pt x="2023" y="200"/>
                    </a:lnTo>
                    <a:lnTo>
                      <a:pt x="2099" y="189"/>
                    </a:lnTo>
                    <a:lnTo>
                      <a:pt x="2176" y="176"/>
                    </a:lnTo>
                    <a:lnTo>
                      <a:pt x="2250" y="163"/>
                    </a:lnTo>
                    <a:lnTo>
                      <a:pt x="2323" y="148"/>
                    </a:lnTo>
                    <a:lnTo>
                      <a:pt x="2395" y="132"/>
                    </a:lnTo>
                    <a:lnTo>
                      <a:pt x="2464" y="115"/>
                    </a:lnTo>
                    <a:lnTo>
                      <a:pt x="2456" y="79"/>
                    </a:lnTo>
                    <a:lnTo>
                      <a:pt x="2387" y="97"/>
                    </a:lnTo>
                    <a:lnTo>
                      <a:pt x="2315" y="113"/>
                    </a:lnTo>
                    <a:lnTo>
                      <a:pt x="2243" y="127"/>
                    </a:lnTo>
                    <a:lnTo>
                      <a:pt x="2169" y="141"/>
                    </a:lnTo>
                    <a:lnTo>
                      <a:pt x="2094" y="154"/>
                    </a:lnTo>
                    <a:lnTo>
                      <a:pt x="2017" y="165"/>
                    </a:lnTo>
                    <a:lnTo>
                      <a:pt x="1941" y="174"/>
                    </a:lnTo>
                    <a:lnTo>
                      <a:pt x="1862" y="183"/>
                    </a:lnTo>
                    <a:lnTo>
                      <a:pt x="1784" y="191"/>
                    </a:lnTo>
                    <a:lnTo>
                      <a:pt x="1704" y="198"/>
                    </a:lnTo>
                    <a:lnTo>
                      <a:pt x="1623" y="204"/>
                    </a:lnTo>
                    <a:lnTo>
                      <a:pt x="1543" y="208"/>
                    </a:lnTo>
                    <a:lnTo>
                      <a:pt x="1462" y="211"/>
                    </a:lnTo>
                    <a:lnTo>
                      <a:pt x="1381" y="213"/>
                    </a:lnTo>
                    <a:lnTo>
                      <a:pt x="1299" y="213"/>
                    </a:lnTo>
                    <a:lnTo>
                      <a:pt x="1218" y="212"/>
                    </a:lnTo>
                    <a:lnTo>
                      <a:pt x="1137" y="209"/>
                    </a:lnTo>
                    <a:lnTo>
                      <a:pt x="1057" y="206"/>
                    </a:lnTo>
                    <a:lnTo>
                      <a:pt x="977" y="201"/>
                    </a:lnTo>
                    <a:lnTo>
                      <a:pt x="897" y="195"/>
                    </a:lnTo>
                    <a:lnTo>
                      <a:pt x="818" y="187"/>
                    </a:lnTo>
                    <a:lnTo>
                      <a:pt x="740" y="177"/>
                    </a:lnTo>
                    <a:lnTo>
                      <a:pt x="662" y="167"/>
                    </a:lnTo>
                    <a:lnTo>
                      <a:pt x="586" y="155"/>
                    </a:lnTo>
                    <a:lnTo>
                      <a:pt x="511" y="141"/>
                    </a:lnTo>
                    <a:lnTo>
                      <a:pt x="437" y="125"/>
                    </a:lnTo>
                    <a:lnTo>
                      <a:pt x="364" y="109"/>
                    </a:lnTo>
                    <a:lnTo>
                      <a:pt x="293" y="90"/>
                    </a:lnTo>
                    <a:lnTo>
                      <a:pt x="223" y="70"/>
                    </a:lnTo>
                    <a:lnTo>
                      <a:pt x="155" y="49"/>
                    </a:lnTo>
                    <a:lnTo>
                      <a:pt x="89" y="26"/>
                    </a:lnTo>
                    <a:lnTo>
                      <a:pt x="25" y="1"/>
                    </a:lnTo>
                    <a:lnTo>
                      <a:pt x="1" y="1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00800" y="3505320"/>
                <a:ext cx="760320" cy="128880"/>
              </a:xfrm>
              <a:custGeom>
                <a:avLst/>
                <a:gdLst/>
                <a:ahLst/>
                <a:rect l="l" t="t" r="r" b="b"/>
                <a:pathLst>
                  <a:path w="2398" h="404">
                    <a:moveTo>
                      <a:pt x="2361" y="177"/>
                    </a:moveTo>
                    <a:lnTo>
                      <a:pt x="2371" y="163"/>
                    </a:lnTo>
                    <a:lnTo>
                      <a:pt x="2337" y="181"/>
                    </a:lnTo>
                    <a:lnTo>
                      <a:pt x="2303" y="195"/>
                    </a:lnTo>
                    <a:lnTo>
                      <a:pt x="2267" y="211"/>
                    </a:lnTo>
                    <a:lnTo>
                      <a:pt x="2230" y="225"/>
                    </a:lnTo>
                    <a:lnTo>
                      <a:pt x="2192" y="239"/>
                    </a:lnTo>
                    <a:lnTo>
                      <a:pt x="2152" y="251"/>
                    </a:lnTo>
                    <a:lnTo>
                      <a:pt x="2111" y="264"/>
                    </a:lnTo>
                    <a:lnTo>
                      <a:pt x="2068" y="275"/>
                    </a:lnTo>
                    <a:lnTo>
                      <a:pt x="2026" y="285"/>
                    </a:lnTo>
                    <a:lnTo>
                      <a:pt x="1982" y="296"/>
                    </a:lnTo>
                    <a:lnTo>
                      <a:pt x="1937" y="305"/>
                    </a:lnTo>
                    <a:lnTo>
                      <a:pt x="1892" y="314"/>
                    </a:lnTo>
                    <a:lnTo>
                      <a:pt x="1846" y="322"/>
                    </a:lnTo>
                    <a:lnTo>
                      <a:pt x="1798" y="329"/>
                    </a:lnTo>
                    <a:lnTo>
                      <a:pt x="1752" y="336"/>
                    </a:lnTo>
                    <a:lnTo>
                      <a:pt x="1704" y="341"/>
                    </a:lnTo>
                    <a:lnTo>
                      <a:pt x="1655" y="347"/>
                    </a:lnTo>
                    <a:lnTo>
                      <a:pt x="1606" y="352"/>
                    </a:lnTo>
                    <a:lnTo>
                      <a:pt x="1557" y="356"/>
                    </a:lnTo>
                    <a:lnTo>
                      <a:pt x="1507" y="360"/>
                    </a:lnTo>
                    <a:lnTo>
                      <a:pt x="1456" y="362"/>
                    </a:lnTo>
                    <a:lnTo>
                      <a:pt x="1407" y="364"/>
                    </a:lnTo>
                    <a:lnTo>
                      <a:pt x="1357" y="366"/>
                    </a:lnTo>
                    <a:lnTo>
                      <a:pt x="1307" y="367"/>
                    </a:lnTo>
                    <a:lnTo>
                      <a:pt x="1257" y="367"/>
                    </a:lnTo>
                    <a:lnTo>
                      <a:pt x="1207" y="367"/>
                    </a:lnTo>
                    <a:lnTo>
                      <a:pt x="1157" y="366"/>
                    </a:lnTo>
                    <a:lnTo>
                      <a:pt x="1108" y="365"/>
                    </a:lnTo>
                    <a:lnTo>
                      <a:pt x="1059" y="363"/>
                    </a:lnTo>
                    <a:lnTo>
                      <a:pt x="1010" y="361"/>
                    </a:lnTo>
                    <a:lnTo>
                      <a:pt x="961" y="357"/>
                    </a:lnTo>
                    <a:lnTo>
                      <a:pt x="913" y="354"/>
                    </a:lnTo>
                    <a:lnTo>
                      <a:pt x="866" y="350"/>
                    </a:lnTo>
                    <a:lnTo>
                      <a:pt x="819" y="345"/>
                    </a:lnTo>
                    <a:lnTo>
                      <a:pt x="774" y="340"/>
                    </a:lnTo>
                    <a:lnTo>
                      <a:pt x="728" y="334"/>
                    </a:lnTo>
                    <a:lnTo>
                      <a:pt x="684" y="328"/>
                    </a:lnTo>
                    <a:lnTo>
                      <a:pt x="640" y="321"/>
                    </a:lnTo>
                    <a:lnTo>
                      <a:pt x="598" y="314"/>
                    </a:lnTo>
                    <a:lnTo>
                      <a:pt x="556" y="306"/>
                    </a:lnTo>
                    <a:lnTo>
                      <a:pt x="516" y="298"/>
                    </a:lnTo>
                    <a:lnTo>
                      <a:pt x="476" y="289"/>
                    </a:lnTo>
                    <a:lnTo>
                      <a:pt x="439" y="280"/>
                    </a:lnTo>
                    <a:lnTo>
                      <a:pt x="401" y="271"/>
                    </a:lnTo>
                    <a:lnTo>
                      <a:pt x="366" y="260"/>
                    </a:lnTo>
                    <a:lnTo>
                      <a:pt x="333" y="250"/>
                    </a:lnTo>
                    <a:lnTo>
                      <a:pt x="300" y="239"/>
                    </a:lnTo>
                    <a:lnTo>
                      <a:pt x="269" y="227"/>
                    </a:lnTo>
                    <a:lnTo>
                      <a:pt x="239" y="216"/>
                    </a:lnTo>
                    <a:lnTo>
                      <a:pt x="212" y="203"/>
                    </a:lnTo>
                    <a:lnTo>
                      <a:pt x="186" y="191"/>
                    </a:lnTo>
                    <a:lnTo>
                      <a:pt x="163" y="177"/>
                    </a:lnTo>
                    <a:lnTo>
                      <a:pt x="140" y="165"/>
                    </a:lnTo>
                    <a:lnTo>
                      <a:pt x="121" y="151"/>
                    </a:lnTo>
                    <a:lnTo>
                      <a:pt x="103" y="137"/>
                    </a:lnTo>
                    <a:lnTo>
                      <a:pt x="87" y="124"/>
                    </a:lnTo>
                    <a:lnTo>
                      <a:pt x="73" y="109"/>
                    </a:lnTo>
                    <a:lnTo>
                      <a:pt x="62" y="94"/>
                    </a:lnTo>
                    <a:lnTo>
                      <a:pt x="52" y="80"/>
                    </a:lnTo>
                    <a:lnTo>
                      <a:pt x="44" y="65"/>
                    </a:lnTo>
                    <a:lnTo>
                      <a:pt x="42" y="59"/>
                    </a:lnTo>
                    <a:lnTo>
                      <a:pt x="40" y="51"/>
                    </a:lnTo>
                    <a:lnTo>
                      <a:pt x="39" y="44"/>
                    </a:lnTo>
                    <a:lnTo>
                      <a:pt x="38" y="37"/>
                    </a:lnTo>
                    <a:lnTo>
                      <a:pt x="36" y="29"/>
                    </a:lnTo>
                    <a:lnTo>
                      <a:pt x="36" y="21"/>
                    </a:lnTo>
                    <a:lnTo>
                      <a:pt x="38" y="14"/>
                    </a:lnTo>
                    <a:lnTo>
                      <a:pt x="39" y="6"/>
                    </a:lnTo>
                    <a:lnTo>
                      <a:pt x="2" y="0"/>
                    </a:lnTo>
                    <a:lnTo>
                      <a:pt x="1" y="11"/>
                    </a:lnTo>
                    <a:lnTo>
                      <a:pt x="0" y="21"/>
                    </a:lnTo>
                    <a:lnTo>
                      <a:pt x="0" y="30"/>
                    </a:lnTo>
                    <a:lnTo>
                      <a:pt x="1" y="40"/>
                    </a:lnTo>
                    <a:lnTo>
                      <a:pt x="2" y="51"/>
                    </a:lnTo>
                    <a:lnTo>
                      <a:pt x="5" y="61"/>
                    </a:lnTo>
                    <a:lnTo>
                      <a:pt x="8" y="70"/>
                    </a:lnTo>
                    <a:lnTo>
                      <a:pt x="11" y="80"/>
                    </a:lnTo>
                    <a:lnTo>
                      <a:pt x="20" y="97"/>
                    </a:lnTo>
                    <a:lnTo>
                      <a:pt x="32" y="116"/>
                    </a:lnTo>
                    <a:lnTo>
                      <a:pt x="46" y="133"/>
                    </a:lnTo>
                    <a:lnTo>
                      <a:pt x="62" y="149"/>
                    </a:lnTo>
                    <a:lnTo>
                      <a:pt x="80" y="165"/>
                    </a:lnTo>
                    <a:lnTo>
                      <a:pt x="99" y="181"/>
                    </a:lnTo>
                    <a:lnTo>
                      <a:pt x="121" y="195"/>
                    </a:lnTo>
                    <a:lnTo>
                      <a:pt x="145" y="209"/>
                    </a:lnTo>
                    <a:lnTo>
                      <a:pt x="170" y="223"/>
                    </a:lnTo>
                    <a:lnTo>
                      <a:pt x="197" y="236"/>
                    </a:lnTo>
                    <a:lnTo>
                      <a:pt x="226" y="249"/>
                    </a:lnTo>
                    <a:lnTo>
                      <a:pt x="256" y="261"/>
                    </a:lnTo>
                    <a:lnTo>
                      <a:pt x="288" y="273"/>
                    </a:lnTo>
                    <a:lnTo>
                      <a:pt x="321" y="284"/>
                    </a:lnTo>
                    <a:lnTo>
                      <a:pt x="356" y="295"/>
                    </a:lnTo>
                    <a:lnTo>
                      <a:pt x="392" y="305"/>
                    </a:lnTo>
                    <a:lnTo>
                      <a:pt x="430" y="315"/>
                    </a:lnTo>
                    <a:lnTo>
                      <a:pt x="468" y="324"/>
                    </a:lnTo>
                    <a:lnTo>
                      <a:pt x="508" y="333"/>
                    </a:lnTo>
                    <a:lnTo>
                      <a:pt x="549" y="341"/>
                    </a:lnTo>
                    <a:lnTo>
                      <a:pt x="591" y="349"/>
                    </a:lnTo>
                    <a:lnTo>
                      <a:pt x="635" y="357"/>
                    </a:lnTo>
                    <a:lnTo>
                      <a:pt x="678" y="364"/>
                    </a:lnTo>
                    <a:lnTo>
                      <a:pt x="724" y="370"/>
                    </a:lnTo>
                    <a:lnTo>
                      <a:pt x="769" y="375"/>
                    </a:lnTo>
                    <a:lnTo>
                      <a:pt x="816" y="381"/>
                    </a:lnTo>
                    <a:lnTo>
                      <a:pt x="863" y="386"/>
                    </a:lnTo>
                    <a:lnTo>
                      <a:pt x="911" y="390"/>
                    </a:lnTo>
                    <a:lnTo>
                      <a:pt x="958" y="394"/>
                    </a:lnTo>
                    <a:lnTo>
                      <a:pt x="1007" y="397"/>
                    </a:lnTo>
                    <a:lnTo>
                      <a:pt x="1056" y="399"/>
                    </a:lnTo>
                    <a:lnTo>
                      <a:pt x="1107" y="402"/>
                    </a:lnTo>
                    <a:lnTo>
                      <a:pt x="1157" y="403"/>
                    </a:lnTo>
                    <a:lnTo>
                      <a:pt x="1207" y="404"/>
                    </a:lnTo>
                    <a:lnTo>
                      <a:pt x="1257" y="404"/>
                    </a:lnTo>
                    <a:lnTo>
                      <a:pt x="1307" y="403"/>
                    </a:lnTo>
                    <a:lnTo>
                      <a:pt x="1357" y="403"/>
                    </a:lnTo>
                    <a:lnTo>
                      <a:pt x="1409" y="401"/>
                    </a:lnTo>
                    <a:lnTo>
                      <a:pt x="1459" y="398"/>
                    </a:lnTo>
                    <a:lnTo>
                      <a:pt x="1509" y="396"/>
                    </a:lnTo>
                    <a:lnTo>
                      <a:pt x="1559" y="393"/>
                    </a:lnTo>
                    <a:lnTo>
                      <a:pt x="1609" y="388"/>
                    </a:lnTo>
                    <a:lnTo>
                      <a:pt x="1658" y="383"/>
                    </a:lnTo>
                    <a:lnTo>
                      <a:pt x="1707" y="378"/>
                    </a:lnTo>
                    <a:lnTo>
                      <a:pt x="1756" y="372"/>
                    </a:lnTo>
                    <a:lnTo>
                      <a:pt x="1804" y="365"/>
                    </a:lnTo>
                    <a:lnTo>
                      <a:pt x="1852" y="357"/>
                    </a:lnTo>
                    <a:lnTo>
                      <a:pt x="1899" y="349"/>
                    </a:lnTo>
                    <a:lnTo>
                      <a:pt x="1944" y="340"/>
                    </a:lnTo>
                    <a:lnTo>
                      <a:pt x="1990" y="331"/>
                    </a:lnTo>
                    <a:lnTo>
                      <a:pt x="2034" y="321"/>
                    </a:lnTo>
                    <a:lnTo>
                      <a:pt x="2078" y="310"/>
                    </a:lnTo>
                    <a:lnTo>
                      <a:pt x="2121" y="298"/>
                    </a:lnTo>
                    <a:lnTo>
                      <a:pt x="2162" y="287"/>
                    </a:lnTo>
                    <a:lnTo>
                      <a:pt x="2203" y="273"/>
                    </a:lnTo>
                    <a:lnTo>
                      <a:pt x="2243" y="259"/>
                    </a:lnTo>
                    <a:lnTo>
                      <a:pt x="2280" y="244"/>
                    </a:lnTo>
                    <a:lnTo>
                      <a:pt x="2318" y="230"/>
                    </a:lnTo>
                    <a:lnTo>
                      <a:pt x="2353" y="212"/>
                    </a:lnTo>
                    <a:lnTo>
                      <a:pt x="2388" y="196"/>
                    </a:lnTo>
                    <a:lnTo>
                      <a:pt x="2397" y="182"/>
                    </a:lnTo>
                    <a:lnTo>
                      <a:pt x="2388" y="196"/>
                    </a:lnTo>
                    <a:lnTo>
                      <a:pt x="2391" y="194"/>
                    </a:lnTo>
                    <a:lnTo>
                      <a:pt x="2393" y="191"/>
                    </a:lnTo>
                    <a:lnTo>
                      <a:pt x="2396" y="187"/>
                    </a:lnTo>
                    <a:lnTo>
                      <a:pt x="2397" y="185"/>
                    </a:lnTo>
                    <a:lnTo>
                      <a:pt x="2398" y="182"/>
                    </a:lnTo>
                    <a:lnTo>
                      <a:pt x="2397" y="178"/>
                    </a:lnTo>
                    <a:lnTo>
                      <a:pt x="2397" y="175"/>
                    </a:lnTo>
                    <a:lnTo>
                      <a:pt x="2396" y="171"/>
                    </a:lnTo>
                    <a:lnTo>
                      <a:pt x="2393" y="169"/>
                    </a:lnTo>
                    <a:lnTo>
                      <a:pt x="2391" y="166"/>
                    </a:lnTo>
                    <a:lnTo>
                      <a:pt x="2389" y="165"/>
                    </a:lnTo>
                    <a:lnTo>
                      <a:pt x="2385" y="162"/>
                    </a:lnTo>
                    <a:lnTo>
                      <a:pt x="2382" y="161"/>
                    </a:lnTo>
                    <a:lnTo>
                      <a:pt x="2378" y="161"/>
                    </a:lnTo>
                    <a:lnTo>
                      <a:pt x="2375" y="162"/>
                    </a:lnTo>
                    <a:lnTo>
                      <a:pt x="2371" y="163"/>
                    </a:lnTo>
                    <a:lnTo>
                      <a:pt x="2361" y="1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249960" y="35262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48" h="118">
                    <a:moveTo>
                      <a:pt x="27" y="1"/>
                    </a:moveTo>
                    <a:lnTo>
                      <a:pt x="12" y="16"/>
                    </a:lnTo>
                    <a:lnTo>
                      <a:pt x="0" y="113"/>
                    </a:lnTo>
                    <a:lnTo>
                      <a:pt x="36" y="118"/>
                    </a:lnTo>
                    <a:lnTo>
                      <a:pt x="48" y="21"/>
                    </a:lnTo>
                    <a:lnTo>
                      <a:pt x="27" y="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6" y="1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6" y="6"/>
                    </a:lnTo>
                    <a:lnTo>
                      <a:pt x="14" y="9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2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0800" y="3500640"/>
                <a:ext cx="760320" cy="81000"/>
              </a:xfrm>
              <a:custGeom>
                <a:avLst/>
                <a:gdLst/>
                <a:ahLst/>
                <a:rect l="l" t="t" r="r" b="b"/>
                <a:pathLst>
                  <a:path w="2392" h="252">
                    <a:moveTo>
                      <a:pt x="37" y="22"/>
                    </a:moveTo>
                    <a:lnTo>
                      <a:pt x="11" y="36"/>
                    </a:lnTo>
                    <a:lnTo>
                      <a:pt x="42" y="51"/>
                    </a:lnTo>
                    <a:lnTo>
                      <a:pt x="74" y="64"/>
                    </a:lnTo>
                    <a:lnTo>
                      <a:pt x="107" y="78"/>
                    </a:lnTo>
                    <a:lnTo>
                      <a:pt x="140" y="91"/>
                    </a:lnTo>
                    <a:lnTo>
                      <a:pt x="173" y="103"/>
                    </a:lnTo>
                    <a:lnTo>
                      <a:pt x="208" y="114"/>
                    </a:lnTo>
                    <a:lnTo>
                      <a:pt x="242" y="126"/>
                    </a:lnTo>
                    <a:lnTo>
                      <a:pt x="276" y="137"/>
                    </a:lnTo>
                    <a:lnTo>
                      <a:pt x="311" y="146"/>
                    </a:lnTo>
                    <a:lnTo>
                      <a:pt x="347" y="157"/>
                    </a:lnTo>
                    <a:lnTo>
                      <a:pt x="382" y="166"/>
                    </a:lnTo>
                    <a:lnTo>
                      <a:pt x="419" y="175"/>
                    </a:lnTo>
                    <a:lnTo>
                      <a:pt x="491" y="190"/>
                    </a:lnTo>
                    <a:lnTo>
                      <a:pt x="566" y="203"/>
                    </a:lnTo>
                    <a:lnTo>
                      <a:pt x="641" y="216"/>
                    </a:lnTo>
                    <a:lnTo>
                      <a:pt x="717" y="226"/>
                    </a:lnTo>
                    <a:lnTo>
                      <a:pt x="793" y="234"/>
                    </a:lnTo>
                    <a:lnTo>
                      <a:pt x="871" y="241"/>
                    </a:lnTo>
                    <a:lnTo>
                      <a:pt x="948" y="247"/>
                    </a:lnTo>
                    <a:lnTo>
                      <a:pt x="1027" y="250"/>
                    </a:lnTo>
                    <a:lnTo>
                      <a:pt x="1107" y="252"/>
                    </a:lnTo>
                    <a:lnTo>
                      <a:pt x="1186" y="252"/>
                    </a:lnTo>
                    <a:lnTo>
                      <a:pt x="1265" y="251"/>
                    </a:lnTo>
                    <a:lnTo>
                      <a:pt x="1344" y="250"/>
                    </a:lnTo>
                    <a:lnTo>
                      <a:pt x="1424" y="247"/>
                    </a:lnTo>
                    <a:lnTo>
                      <a:pt x="1502" y="242"/>
                    </a:lnTo>
                    <a:lnTo>
                      <a:pt x="1581" y="236"/>
                    </a:lnTo>
                    <a:lnTo>
                      <a:pt x="1660" y="230"/>
                    </a:lnTo>
                    <a:lnTo>
                      <a:pt x="1737" y="222"/>
                    </a:lnTo>
                    <a:lnTo>
                      <a:pt x="1813" y="212"/>
                    </a:lnTo>
                    <a:lnTo>
                      <a:pt x="1890" y="203"/>
                    </a:lnTo>
                    <a:lnTo>
                      <a:pt x="1965" y="193"/>
                    </a:lnTo>
                    <a:lnTo>
                      <a:pt x="2040" y="182"/>
                    </a:lnTo>
                    <a:lnTo>
                      <a:pt x="2113" y="170"/>
                    </a:lnTo>
                    <a:lnTo>
                      <a:pt x="2185" y="158"/>
                    </a:lnTo>
                    <a:lnTo>
                      <a:pt x="2256" y="144"/>
                    </a:lnTo>
                    <a:lnTo>
                      <a:pt x="2325" y="130"/>
                    </a:lnTo>
                    <a:lnTo>
                      <a:pt x="2392" y="117"/>
                    </a:lnTo>
                    <a:lnTo>
                      <a:pt x="2386" y="81"/>
                    </a:lnTo>
                    <a:lnTo>
                      <a:pt x="2318" y="95"/>
                    </a:lnTo>
                    <a:lnTo>
                      <a:pt x="2249" y="109"/>
                    </a:lnTo>
                    <a:lnTo>
                      <a:pt x="2179" y="121"/>
                    </a:lnTo>
                    <a:lnTo>
                      <a:pt x="2108" y="134"/>
                    </a:lnTo>
                    <a:lnTo>
                      <a:pt x="2035" y="146"/>
                    </a:lnTo>
                    <a:lnTo>
                      <a:pt x="1961" y="157"/>
                    </a:lnTo>
                    <a:lnTo>
                      <a:pt x="1885" y="168"/>
                    </a:lnTo>
                    <a:lnTo>
                      <a:pt x="1810" y="177"/>
                    </a:lnTo>
                    <a:lnTo>
                      <a:pt x="1733" y="185"/>
                    </a:lnTo>
                    <a:lnTo>
                      <a:pt x="1656" y="193"/>
                    </a:lnTo>
                    <a:lnTo>
                      <a:pt x="1578" y="200"/>
                    </a:lnTo>
                    <a:lnTo>
                      <a:pt x="1500" y="206"/>
                    </a:lnTo>
                    <a:lnTo>
                      <a:pt x="1421" y="210"/>
                    </a:lnTo>
                    <a:lnTo>
                      <a:pt x="1343" y="214"/>
                    </a:lnTo>
                    <a:lnTo>
                      <a:pt x="1264" y="216"/>
                    </a:lnTo>
                    <a:lnTo>
                      <a:pt x="1186" y="216"/>
                    </a:lnTo>
                    <a:lnTo>
                      <a:pt x="1107" y="216"/>
                    </a:lnTo>
                    <a:lnTo>
                      <a:pt x="1028" y="214"/>
                    </a:lnTo>
                    <a:lnTo>
                      <a:pt x="951" y="210"/>
                    </a:lnTo>
                    <a:lnTo>
                      <a:pt x="873" y="205"/>
                    </a:lnTo>
                    <a:lnTo>
                      <a:pt x="797" y="199"/>
                    </a:lnTo>
                    <a:lnTo>
                      <a:pt x="721" y="190"/>
                    </a:lnTo>
                    <a:lnTo>
                      <a:pt x="645" y="179"/>
                    </a:lnTo>
                    <a:lnTo>
                      <a:pt x="571" y="168"/>
                    </a:lnTo>
                    <a:lnTo>
                      <a:pt x="498" y="154"/>
                    </a:lnTo>
                    <a:lnTo>
                      <a:pt x="426" y="138"/>
                    </a:lnTo>
                    <a:lnTo>
                      <a:pt x="391" y="130"/>
                    </a:lnTo>
                    <a:lnTo>
                      <a:pt x="356" y="121"/>
                    </a:lnTo>
                    <a:lnTo>
                      <a:pt x="321" y="112"/>
                    </a:lnTo>
                    <a:lnTo>
                      <a:pt x="286" y="102"/>
                    </a:lnTo>
                    <a:lnTo>
                      <a:pt x="252" y="92"/>
                    </a:lnTo>
                    <a:lnTo>
                      <a:pt x="219" y="80"/>
                    </a:lnTo>
                    <a:lnTo>
                      <a:pt x="186" y="69"/>
                    </a:lnTo>
                    <a:lnTo>
                      <a:pt x="153" y="56"/>
                    </a:lnTo>
                    <a:lnTo>
                      <a:pt x="120" y="44"/>
                    </a:lnTo>
                    <a:lnTo>
                      <a:pt x="88" y="31"/>
                    </a:lnTo>
                    <a:lnTo>
                      <a:pt x="57" y="18"/>
                    </a:lnTo>
                    <a:lnTo>
                      <a:pt x="26" y="3"/>
                    </a:lnTo>
                    <a:lnTo>
                      <a:pt x="0" y="16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7" y="34"/>
                    </a:lnTo>
                    <a:lnTo>
                      <a:pt x="11" y="36"/>
                    </a:ln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4840" y="3624480"/>
                <a:ext cx="719280" cy="50760"/>
              </a:xfrm>
              <a:custGeom>
                <a:avLst/>
                <a:gdLst/>
                <a:ahLst/>
                <a:rect l="l" t="t" r="r" b="b"/>
                <a:pathLst>
                  <a:path w="2265" h="159">
                    <a:moveTo>
                      <a:pt x="2264" y="23"/>
                    </a:moveTo>
                    <a:lnTo>
                      <a:pt x="2243" y="1"/>
                    </a:lnTo>
                    <a:lnTo>
                      <a:pt x="2173" y="20"/>
                    </a:lnTo>
                    <a:lnTo>
                      <a:pt x="2102" y="37"/>
                    </a:lnTo>
                    <a:lnTo>
                      <a:pt x="2032" y="52"/>
                    </a:lnTo>
                    <a:lnTo>
                      <a:pt x="1959" y="65"/>
                    </a:lnTo>
                    <a:lnTo>
                      <a:pt x="1886" y="78"/>
                    </a:lnTo>
                    <a:lnTo>
                      <a:pt x="1812" y="88"/>
                    </a:lnTo>
                    <a:lnTo>
                      <a:pt x="1737" y="97"/>
                    </a:lnTo>
                    <a:lnTo>
                      <a:pt x="1661" y="104"/>
                    </a:lnTo>
                    <a:lnTo>
                      <a:pt x="1586" y="111"/>
                    </a:lnTo>
                    <a:lnTo>
                      <a:pt x="1510" y="115"/>
                    </a:lnTo>
                    <a:lnTo>
                      <a:pt x="1433" y="119"/>
                    </a:lnTo>
                    <a:lnTo>
                      <a:pt x="1358" y="121"/>
                    </a:lnTo>
                    <a:lnTo>
                      <a:pt x="1282" y="122"/>
                    </a:lnTo>
                    <a:lnTo>
                      <a:pt x="1205" y="122"/>
                    </a:lnTo>
                    <a:lnTo>
                      <a:pt x="1130" y="122"/>
                    </a:lnTo>
                    <a:lnTo>
                      <a:pt x="1055" y="120"/>
                    </a:lnTo>
                    <a:lnTo>
                      <a:pt x="981" y="118"/>
                    </a:lnTo>
                    <a:lnTo>
                      <a:pt x="907" y="113"/>
                    </a:lnTo>
                    <a:lnTo>
                      <a:pt x="834" y="110"/>
                    </a:lnTo>
                    <a:lnTo>
                      <a:pt x="761" y="104"/>
                    </a:lnTo>
                    <a:lnTo>
                      <a:pt x="690" y="98"/>
                    </a:lnTo>
                    <a:lnTo>
                      <a:pt x="620" y="92"/>
                    </a:lnTo>
                    <a:lnTo>
                      <a:pt x="551" y="85"/>
                    </a:lnTo>
                    <a:lnTo>
                      <a:pt x="484" y="77"/>
                    </a:lnTo>
                    <a:lnTo>
                      <a:pt x="418" y="69"/>
                    </a:lnTo>
                    <a:lnTo>
                      <a:pt x="353" y="61"/>
                    </a:lnTo>
                    <a:lnTo>
                      <a:pt x="290" y="52"/>
                    </a:lnTo>
                    <a:lnTo>
                      <a:pt x="230" y="43"/>
                    </a:lnTo>
                    <a:lnTo>
                      <a:pt x="114" y="24"/>
                    </a:lnTo>
                    <a:lnTo>
                      <a:pt x="7" y="5"/>
                    </a:lnTo>
                    <a:lnTo>
                      <a:pt x="0" y="40"/>
                    </a:lnTo>
                    <a:lnTo>
                      <a:pt x="107" y="60"/>
                    </a:lnTo>
                    <a:lnTo>
                      <a:pt x="224" y="79"/>
                    </a:lnTo>
                    <a:lnTo>
                      <a:pt x="285" y="88"/>
                    </a:lnTo>
                    <a:lnTo>
                      <a:pt x="348" y="96"/>
                    </a:lnTo>
                    <a:lnTo>
                      <a:pt x="413" y="105"/>
                    </a:lnTo>
                    <a:lnTo>
                      <a:pt x="480" y="113"/>
                    </a:lnTo>
                    <a:lnTo>
                      <a:pt x="547" y="121"/>
                    </a:lnTo>
                    <a:lnTo>
                      <a:pt x="616" y="128"/>
                    </a:lnTo>
                    <a:lnTo>
                      <a:pt x="687" y="135"/>
                    </a:lnTo>
                    <a:lnTo>
                      <a:pt x="759" y="141"/>
                    </a:lnTo>
                    <a:lnTo>
                      <a:pt x="832" y="145"/>
                    </a:lnTo>
                    <a:lnTo>
                      <a:pt x="905" y="150"/>
                    </a:lnTo>
                    <a:lnTo>
                      <a:pt x="980" y="153"/>
                    </a:lnTo>
                    <a:lnTo>
                      <a:pt x="1054" y="157"/>
                    </a:lnTo>
                    <a:lnTo>
                      <a:pt x="1130" y="158"/>
                    </a:lnTo>
                    <a:lnTo>
                      <a:pt x="1205" y="159"/>
                    </a:lnTo>
                    <a:lnTo>
                      <a:pt x="1282" y="159"/>
                    </a:lnTo>
                    <a:lnTo>
                      <a:pt x="1358" y="158"/>
                    </a:lnTo>
                    <a:lnTo>
                      <a:pt x="1436" y="155"/>
                    </a:lnTo>
                    <a:lnTo>
                      <a:pt x="1512" y="152"/>
                    </a:lnTo>
                    <a:lnTo>
                      <a:pt x="1588" y="146"/>
                    </a:lnTo>
                    <a:lnTo>
                      <a:pt x="1665" y="141"/>
                    </a:lnTo>
                    <a:lnTo>
                      <a:pt x="1741" y="133"/>
                    </a:lnTo>
                    <a:lnTo>
                      <a:pt x="1816" y="123"/>
                    </a:lnTo>
                    <a:lnTo>
                      <a:pt x="1890" y="113"/>
                    </a:lnTo>
                    <a:lnTo>
                      <a:pt x="1965" y="102"/>
                    </a:lnTo>
                    <a:lnTo>
                      <a:pt x="2039" y="88"/>
                    </a:lnTo>
                    <a:lnTo>
                      <a:pt x="2110" y="72"/>
                    </a:lnTo>
                    <a:lnTo>
                      <a:pt x="2182" y="55"/>
                    </a:lnTo>
                    <a:lnTo>
                      <a:pt x="2252" y="37"/>
                    </a:lnTo>
                    <a:lnTo>
                      <a:pt x="2230" y="15"/>
                    </a:lnTo>
                    <a:lnTo>
                      <a:pt x="2252" y="37"/>
                    </a:lnTo>
                    <a:lnTo>
                      <a:pt x="2256" y="35"/>
                    </a:lnTo>
                    <a:lnTo>
                      <a:pt x="2260" y="32"/>
                    </a:lnTo>
                    <a:lnTo>
                      <a:pt x="2262" y="30"/>
                    </a:lnTo>
                    <a:lnTo>
                      <a:pt x="2263" y="28"/>
                    </a:lnTo>
                    <a:lnTo>
                      <a:pt x="2265" y="24"/>
                    </a:lnTo>
                    <a:lnTo>
                      <a:pt x="2265" y="21"/>
                    </a:lnTo>
                    <a:lnTo>
                      <a:pt x="2265" y="17"/>
                    </a:lnTo>
                    <a:lnTo>
                      <a:pt x="2264" y="14"/>
                    </a:lnTo>
                    <a:lnTo>
                      <a:pt x="2263" y="11"/>
                    </a:lnTo>
                    <a:lnTo>
                      <a:pt x="2262" y="8"/>
                    </a:lnTo>
                    <a:lnTo>
                      <a:pt x="2260" y="5"/>
                    </a:lnTo>
                    <a:lnTo>
                      <a:pt x="2257" y="3"/>
                    </a:lnTo>
                    <a:lnTo>
                      <a:pt x="2254" y="1"/>
                    </a:lnTo>
                    <a:lnTo>
                      <a:pt x="2251" y="0"/>
                    </a:lnTo>
                    <a:lnTo>
                      <a:pt x="2246" y="0"/>
                    </a:lnTo>
                    <a:lnTo>
                      <a:pt x="2243" y="1"/>
                    </a:lnTo>
                    <a:lnTo>
                      <a:pt x="2264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215040" y="362916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59" h="122">
                    <a:moveTo>
                      <a:pt x="26" y="120"/>
                    </a:moveTo>
                    <a:lnTo>
                      <a:pt x="35" y="108"/>
                    </a:lnTo>
                    <a:lnTo>
                      <a:pt x="59" y="8"/>
                    </a:lnTo>
                    <a:lnTo>
                      <a:pt x="25" y="0"/>
                    </a:lnTo>
                    <a:lnTo>
                      <a:pt x="0" y="100"/>
                    </a:lnTo>
                    <a:lnTo>
                      <a:pt x="26" y="120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2" y="114"/>
                    </a:lnTo>
                    <a:lnTo>
                      <a:pt x="5" y="118"/>
                    </a:lnTo>
                    <a:lnTo>
                      <a:pt x="8" y="120"/>
                    </a:lnTo>
                    <a:lnTo>
                      <a:pt x="10" y="121"/>
                    </a:lnTo>
                    <a:lnTo>
                      <a:pt x="14" y="122"/>
                    </a:lnTo>
                    <a:lnTo>
                      <a:pt x="17" y="122"/>
                    </a:lnTo>
                    <a:lnTo>
                      <a:pt x="20" y="122"/>
                    </a:lnTo>
                    <a:lnTo>
                      <a:pt x="24" y="122"/>
                    </a:lnTo>
                    <a:lnTo>
                      <a:pt x="27" y="121"/>
                    </a:lnTo>
                    <a:lnTo>
                      <a:pt x="30" y="119"/>
                    </a:lnTo>
                    <a:lnTo>
                      <a:pt x="32" y="116"/>
                    </a:lnTo>
                    <a:lnTo>
                      <a:pt x="34" y="113"/>
                    </a:lnTo>
                    <a:lnTo>
                      <a:pt x="35" y="108"/>
                    </a:lnTo>
                    <a:lnTo>
                      <a:pt x="26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0160" y="3626280"/>
                <a:ext cx="712800" cy="107640"/>
              </a:xfrm>
              <a:custGeom>
                <a:avLst/>
                <a:gdLst/>
                <a:ahLst/>
                <a:rect l="l" t="t" r="r" b="b"/>
                <a:pathLst>
                  <a:path w="2248" h="339">
                    <a:moveTo>
                      <a:pt x="24" y="1"/>
                    </a:moveTo>
                    <a:lnTo>
                      <a:pt x="2" y="15"/>
                    </a:lnTo>
                    <a:lnTo>
                      <a:pt x="1" y="23"/>
                    </a:lnTo>
                    <a:lnTo>
                      <a:pt x="0" y="29"/>
                    </a:lnTo>
                    <a:lnTo>
                      <a:pt x="1" y="37"/>
                    </a:lnTo>
                    <a:lnTo>
                      <a:pt x="1" y="45"/>
                    </a:lnTo>
                    <a:lnTo>
                      <a:pt x="5" y="60"/>
                    </a:lnTo>
                    <a:lnTo>
                      <a:pt x="11" y="74"/>
                    </a:lnTo>
                    <a:lnTo>
                      <a:pt x="20" y="88"/>
                    </a:lnTo>
                    <a:lnTo>
                      <a:pt x="30" y="101"/>
                    </a:lnTo>
                    <a:lnTo>
                      <a:pt x="44" y="114"/>
                    </a:lnTo>
                    <a:lnTo>
                      <a:pt x="58" y="126"/>
                    </a:lnTo>
                    <a:lnTo>
                      <a:pt x="75" y="138"/>
                    </a:lnTo>
                    <a:lnTo>
                      <a:pt x="93" y="149"/>
                    </a:lnTo>
                    <a:lnTo>
                      <a:pt x="112" y="160"/>
                    </a:lnTo>
                    <a:lnTo>
                      <a:pt x="134" y="172"/>
                    </a:lnTo>
                    <a:lnTo>
                      <a:pt x="157" y="182"/>
                    </a:lnTo>
                    <a:lnTo>
                      <a:pt x="182" y="192"/>
                    </a:lnTo>
                    <a:lnTo>
                      <a:pt x="208" y="203"/>
                    </a:lnTo>
                    <a:lnTo>
                      <a:pt x="236" y="213"/>
                    </a:lnTo>
                    <a:lnTo>
                      <a:pt x="265" y="222"/>
                    </a:lnTo>
                    <a:lnTo>
                      <a:pt x="296" y="231"/>
                    </a:lnTo>
                    <a:lnTo>
                      <a:pt x="328" y="240"/>
                    </a:lnTo>
                    <a:lnTo>
                      <a:pt x="361" y="249"/>
                    </a:lnTo>
                    <a:lnTo>
                      <a:pt x="395" y="257"/>
                    </a:lnTo>
                    <a:lnTo>
                      <a:pt x="430" y="265"/>
                    </a:lnTo>
                    <a:lnTo>
                      <a:pt x="467" y="273"/>
                    </a:lnTo>
                    <a:lnTo>
                      <a:pt x="504" y="280"/>
                    </a:lnTo>
                    <a:lnTo>
                      <a:pt x="583" y="294"/>
                    </a:lnTo>
                    <a:lnTo>
                      <a:pt x="665" y="306"/>
                    </a:lnTo>
                    <a:lnTo>
                      <a:pt x="751" y="317"/>
                    </a:lnTo>
                    <a:lnTo>
                      <a:pt x="838" y="326"/>
                    </a:lnTo>
                    <a:lnTo>
                      <a:pt x="928" y="331"/>
                    </a:lnTo>
                    <a:lnTo>
                      <a:pt x="1020" y="337"/>
                    </a:lnTo>
                    <a:lnTo>
                      <a:pt x="1113" y="339"/>
                    </a:lnTo>
                    <a:lnTo>
                      <a:pt x="1208" y="339"/>
                    </a:lnTo>
                    <a:lnTo>
                      <a:pt x="1254" y="339"/>
                    </a:lnTo>
                    <a:lnTo>
                      <a:pt x="1302" y="338"/>
                    </a:lnTo>
                    <a:lnTo>
                      <a:pt x="1349" y="336"/>
                    </a:lnTo>
                    <a:lnTo>
                      <a:pt x="1397" y="334"/>
                    </a:lnTo>
                    <a:lnTo>
                      <a:pt x="1444" y="330"/>
                    </a:lnTo>
                    <a:lnTo>
                      <a:pt x="1491" y="327"/>
                    </a:lnTo>
                    <a:lnTo>
                      <a:pt x="1538" y="322"/>
                    </a:lnTo>
                    <a:lnTo>
                      <a:pt x="1585" y="317"/>
                    </a:lnTo>
                    <a:lnTo>
                      <a:pt x="1630" y="311"/>
                    </a:lnTo>
                    <a:lnTo>
                      <a:pt x="1677" y="305"/>
                    </a:lnTo>
                    <a:lnTo>
                      <a:pt x="1722" y="297"/>
                    </a:lnTo>
                    <a:lnTo>
                      <a:pt x="1767" y="289"/>
                    </a:lnTo>
                    <a:lnTo>
                      <a:pt x="1812" y="281"/>
                    </a:lnTo>
                    <a:lnTo>
                      <a:pt x="1855" y="271"/>
                    </a:lnTo>
                    <a:lnTo>
                      <a:pt x="1898" y="261"/>
                    </a:lnTo>
                    <a:lnTo>
                      <a:pt x="1942" y="251"/>
                    </a:lnTo>
                    <a:lnTo>
                      <a:pt x="1983" y="238"/>
                    </a:lnTo>
                    <a:lnTo>
                      <a:pt x="2024" y="225"/>
                    </a:lnTo>
                    <a:lnTo>
                      <a:pt x="2064" y="212"/>
                    </a:lnTo>
                    <a:lnTo>
                      <a:pt x="2102" y="198"/>
                    </a:lnTo>
                    <a:lnTo>
                      <a:pt x="2141" y="182"/>
                    </a:lnTo>
                    <a:lnTo>
                      <a:pt x="2178" y="166"/>
                    </a:lnTo>
                    <a:lnTo>
                      <a:pt x="2214" y="149"/>
                    </a:lnTo>
                    <a:lnTo>
                      <a:pt x="2248" y="131"/>
                    </a:lnTo>
                    <a:lnTo>
                      <a:pt x="2231" y="99"/>
                    </a:lnTo>
                    <a:lnTo>
                      <a:pt x="2198" y="117"/>
                    </a:lnTo>
                    <a:lnTo>
                      <a:pt x="2163" y="133"/>
                    </a:lnTo>
                    <a:lnTo>
                      <a:pt x="2126" y="149"/>
                    </a:lnTo>
                    <a:lnTo>
                      <a:pt x="2090" y="164"/>
                    </a:lnTo>
                    <a:lnTo>
                      <a:pt x="2051" y="178"/>
                    </a:lnTo>
                    <a:lnTo>
                      <a:pt x="2012" y="191"/>
                    </a:lnTo>
                    <a:lnTo>
                      <a:pt x="1972" y="204"/>
                    </a:lnTo>
                    <a:lnTo>
                      <a:pt x="1931" y="215"/>
                    </a:lnTo>
                    <a:lnTo>
                      <a:pt x="1890" y="225"/>
                    </a:lnTo>
                    <a:lnTo>
                      <a:pt x="1847" y="236"/>
                    </a:lnTo>
                    <a:lnTo>
                      <a:pt x="1805" y="245"/>
                    </a:lnTo>
                    <a:lnTo>
                      <a:pt x="1760" y="254"/>
                    </a:lnTo>
                    <a:lnTo>
                      <a:pt x="1716" y="262"/>
                    </a:lnTo>
                    <a:lnTo>
                      <a:pt x="1672" y="269"/>
                    </a:lnTo>
                    <a:lnTo>
                      <a:pt x="1626" y="276"/>
                    </a:lnTo>
                    <a:lnTo>
                      <a:pt x="1580" y="281"/>
                    </a:lnTo>
                    <a:lnTo>
                      <a:pt x="1535" y="286"/>
                    </a:lnTo>
                    <a:lnTo>
                      <a:pt x="1488" y="290"/>
                    </a:lnTo>
                    <a:lnTo>
                      <a:pt x="1441" y="294"/>
                    </a:lnTo>
                    <a:lnTo>
                      <a:pt x="1395" y="297"/>
                    </a:lnTo>
                    <a:lnTo>
                      <a:pt x="1348" y="300"/>
                    </a:lnTo>
                    <a:lnTo>
                      <a:pt x="1301" y="302"/>
                    </a:lnTo>
                    <a:lnTo>
                      <a:pt x="1254" y="303"/>
                    </a:lnTo>
                    <a:lnTo>
                      <a:pt x="1208" y="303"/>
                    </a:lnTo>
                    <a:lnTo>
                      <a:pt x="1114" y="303"/>
                    </a:lnTo>
                    <a:lnTo>
                      <a:pt x="1022" y="301"/>
                    </a:lnTo>
                    <a:lnTo>
                      <a:pt x="931" y="296"/>
                    </a:lnTo>
                    <a:lnTo>
                      <a:pt x="841" y="289"/>
                    </a:lnTo>
                    <a:lnTo>
                      <a:pt x="754" y="280"/>
                    </a:lnTo>
                    <a:lnTo>
                      <a:pt x="670" y="270"/>
                    </a:lnTo>
                    <a:lnTo>
                      <a:pt x="589" y="259"/>
                    </a:lnTo>
                    <a:lnTo>
                      <a:pt x="511" y="245"/>
                    </a:lnTo>
                    <a:lnTo>
                      <a:pt x="474" y="238"/>
                    </a:lnTo>
                    <a:lnTo>
                      <a:pt x="438" y="230"/>
                    </a:lnTo>
                    <a:lnTo>
                      <a:pt x="403" y="222"/>
                    </a:lnTo>
                    <a:lnTo>
                      <a:pt x="369" y="214"/>
                    </a:lnTo>
                    <a:lnTo>
                      <a:pt x="337" y="205"/>
                    </a:lnTo>
                    <a:lnTo>
                      <a:pt x="306" y="197"/>
                    </a:lnTo>
                    <a:lnTo>
                      <a:pt x="275" y="188"/>
                    </a:lnTo>
                    <a:lnTo>
                      <a:pt x="248" y="178"/>
                    </a:lnTo>
                    <a:lnTo>
                      <a:pt x="221" y="168"/>
                    </a:lnTo>
                    <a:lnTo>
                      <a:pt x="196" y="158"/>
                    </a:lnTo>
                    <a:lnTo>
                      <a:pt x="172" y="149"/>
                    </a:lnTo>
                    <a:lnTo>
                      <a:pt x="150" y="139"/>
                    </a:lnTo>
                    <a:lnTo>
                      <a:pt x="130" y="129"/>
                    </a:lnTo>
                    <a:lnTo>
                      <a:pt x="111" y="118"/>
                    </a:lnTo>
                    <a:lnTo>
                      <a:pt x="95" y="108"/>
                    </a:lnTo>
                    <a:lnTo>
                      <a:pt x="81" y="97"/>
                    </a:lnTo>
                    <a:lnTo>
                      <a:pt x="68" y="86"/>
                    </a:lnTo>
                    <a:lnTo>
                      <a:pt x="58" y="76"/>
                    </a:lnTo>
                    <a:lnTo>
                      <a:pt x="50" y="67"/>
                    </a:lnTo>
                    <a:lnTo>
                      <a:pt x="43" y="57"/>
                    </a:lnTo>
                    <a:lnTo>
                      <a:pt x="39" y="48"/>
                    </a:lnTo>
                    <a:lnTo>
                      <a:pt x="37" y="39"/>
                    </a:lnTo>
                    <a:lnTo>
                      <a:pt x="36" y="35"/>
                    </a:lnTo>
                    <a:lnTo>
                      <a:pt x="36" y="31"/>
                    </a:lnTo>
                    <a:lnTo>
                      <a:pt x="37" y="27"/>
                    </a:lnTo>
                    <a:lnTo>
                      <a:pt x="37" y="23"/>
                    </a:lnTo>
                    <a:lnTo>
                      <a:pt x="17" y="36"/>
                    </a:lnTo>
                    <a:lnTo>
                      <a:pt x="37" y="23"/>
                    </a:lnTo>
                    <a:lnTo>
                      <a:pt x="38" y="18"/>
                    </a:lnTo>
                    <a:lnTo>
                      <a:pt x="37" y="15"/>
                    </a:lnTo>
                    <a:lnTo>
                      <a:pt x="36" y="11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2" y="15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40400"/>
                <a:ext cx="658800" cy="90360"/>
              </a:xfrm>
              <a:custGeom>
                <a:avLst/>
                <a:gdLst/>
                <a:ahLst/>
                <a:rect l="l" t="t" r="r" b="b"/>
                <a:pathLst>
                  <a:path w="2073" h="283">
                    <a:moveTo>
                      <a:pt x="2038" y="95"/>
                    </a:moveTo>
                    <a:lnTo>
                      <a:pt x="2047" y="82"/>
                    </a:lnTo>
                    <a:lnTo>
                      <a:pt x="2016" y="96"/>
                    </a:lnTo>
                    <a:lnTo>
                      <a:pt x="1985" y="109"/>
                    </a:lnTo>
                    <a:lnTo>
                      <a:pt x="1952" y="123"/>
                    </a:lnTo>
                    <a:lnTo>
                      <a:pt x="1919" y="135"/>
                    </a:lnTo>
                    <a:lnTo>
                      <a:pt x="1884" y="146"/>
                    </a:lnTo>
                    <a:lnTo>
                      <a:pt x="1850" y="157"/>
                    </a:lnTo>
                    <a:lnTo>
                      <a:pt x="1813" y="168"/>
                    </a:lnTo>
                    <a:lnTo>
                      <a:pt x="1777" y="177"/>
                    </a:lnTo>
                    <a:lnTo>
                      <a:pt x="1739" y="186"/>
                    </a:lnTo>
                    <a:lnTo>
                      <a:pt x="1701" y="194"/>
                    </a:lnTo>
                    <a:lnTo>
                      <a:pt x="1663" y="201"/>
                    </a:lnTo>
                    <a:lnTo>
                      <a:pt x="1623" y="207"/>
                    </a:lnTo>
                    <a:lnTo>
                      <a:pt x="1584" y="214"/>
                    </a:lnTo>
                    <a:lnTo>
                      <a:pt x="1544" y="220"/>
                    </a:lnTo>
                    <a:lnTo>
                      <a:pt x="1503" y="225"/>
                    </a:lnTo>
                    <a:lnTo>
                      <a:pt x="1462" y="229"/>
                    </a:lnTo>
                    <a:lnTo>
                      <a:pt x="1380" y="237"/>
                    </a:lnTo>
                    <a:lnTo>
                      <a:pt x="1297" y="242"/>
                    </a:lnTo>
                    <a:lnTo>
                      <a:pt x="1213" y="245"/>
                    </a:lnTo>
                    <a:lnTo>
                      <a:pt x="1129" y="246"/>
                    </a:lnTo>
                    <a:lnTo>
                      <a:pt x="1046" y="245"/>
                    </a:lnTo>
                    <a:lnTo>
                      <a:pt x="963" y="243"/>
                    </a:lnTo>
                    <a:lnTo>
                      <a:pt x="881" y="238"/>
                    </a:lnTo>
                    <a:lnTo>
                      <a:pt x="801" y="231"/>
                    </a:lnTo>
                    <a:lnTo>
                      <a:pt x="722" y="225"/>
                    </a:lnTo>
                    <a:lnTo>
                      <a:pt x="647" y="215"/>
                    </a:lnTo>
                    <a:lnTo>
                      <a:pt x="573" y="205"/>
                    </a:lnTo>
                    <a:lnTo>
                      <a:pt x="503" y="193"/>
                    </a:lnTo>
                    <a:lnTo>
                      <a:pt x="435" y="180"/>
                    </a:lnTo>
                    <a:lnTo>
                      <a:pt x="373" y="166"/>
                    </a:lnTo>
                    <a:lnTo>
                      <a:pt x="313" y="150"/>
                    </a:lnTo>
                    <a:lnTo>
                      <a:pt x="259" y="135"/>
                    </a:lnTo>
                    <a:lnTo>
                      <a:pt x="234" y="127"/>
                    </a:lnTo>
                    <a:lnTo>
                      <a:pt x="210" y="119"/>
                    </a:lnTo>
                    <a:lnTo>
                      <a:pt x="187" y="109"/>
                    </a:lnTo>
                    <a:lnTo>
                      <a:pt x="165" y="101"/>
                    </a:lnTo>
                    <a:lnTo>
                      <a:pt x="145" y="92"/>
                    </a:lnTo>
                    <a:lnTo>
                      <a:pt x="126" y="83"/>
                    </a:lnTo>
                    <a:lnTo>
                      <a:pt x="109" y="74"/>
                    </a:lnTo>
                    <a:lnTo>
                      <a:pt x="95" y="65"/>
                    </a:lnTo>
                    <a:lnTo>
                      <a:pt x="81" y="56"/>
                    </a:lnTo>
                    <a:lnTo>
                      <a:pt x="69" y="48"/>
                    </a:lnTo>
                    <a:lnTo>
                      <a:pt x="59" y="39"/>
                    </a:lnTo>
                    <a:lnTo>
                      <a:pt x="51" y="30"/>
                    </a:lnTo>
                    <a:lnTo>
                      <a:pt x="46" y="22"/>
                    </a:lnTo>
                    <a:lnTo>
                      <a:pt x="41" y="14"/>
                    </a:lnTo>
                    <a:lnTo>
                      <a:pt x="38" y="7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3" y="16"/>
                    </a:lnTo>
                    <a:lnTo>
                      <a:pt x="8" y="30"/>
                    </a:lnTo>
                    <a:lnTo>
                      <a:pt x="15" y="42"/>
                    </a:lnTo>
                    <a:lnTo>
                      <a:pt x="24" y="54"/>
                    </a:lnTo>
                    <a:lnTo>
                      <a:pt x="34" y="65"/>
                    </a:lnTo>
                    <a:lnTo>
                      <a:pt x="47" y="75"/>
                    </a:lnTo>
                    <a:lnTo>
                      <a:pt x="60" y="85"/>
                    </a:lnTo>
                    <a:lnTo>
                      <a:pt x="75" y="96"/>
                    </a:lnTo>
                    <a:lnTo>
                      <a:pt x="92" y="106"/>
                    </a:lnTo>
                    <a:lnTo>
                      <a:pt x="110" y="116"/>
                    </a:lnTo>
                    <a:lnTo>
                      <a:pt x="130" y="125"/>
                    </a:lnTo>
                    <a:lnTo>
                      <a:pt x="151" y="135"/>
                    </a:lnTo>
                    <a:lnTo>
                      <a:pt x="173" y="144"/>
                    </a:lnTo>
                    <a:lnTo>
                      <a:pt x="197" y="153"/>
                    </a:lnTo>
                    <a:lnTo>
                      <a:pt x="222" y="161"/>
                    </a:lnTo>
                    <a:lnTo>
                      <a:pt x="248" y="170"/>
                    </a:lnTo>
                    <a:lnTo>
                      <a:pt x="304" y="186"/>
                    </a:lnTo>
                    <a:lnTo>
                      <a:pt x="365" y="202"/>
                    </a:lnTo>
                    <a:lnTo>
                      <a:pt x="428" y="215"/>
                    </a:lnTo>
                    <a:lnTo>
                      <a:pt x="497" y="229"/>
                    </a:lnTo>
                    <a:lnTo>
                      <a:pt x="567" y="241"/>
                    </a:lnTo>
                    <a:lnTo>
                      <a:pt x="642" y="251"/>
                    </a:lnTo>
                    <a:lnTo>
                      <a:pt x="719" y="260"/>
                    </a:lnTo>
                    <a:lnTo>
                      <a:pt x="798" y="268"/>
                    </a:lnTo>
                    <a:lnTo>
                      <a:pt x="879" y="274"/>
                    </a:lnTo>
                    <a:lnTo>
                      <a:pt x="962" y="278"/>
                    </a:lnTo>
                    <a:lnTo>
                      <a:pt x="1045" y="282"/>
                    </a:lnTo>
                    <a:lnTo>
                      <a:pt x="1129" y="283"/>
                    </a:lnTo>
                    <a:lnTo>
                      <a:pt x="1214" y="282"/>
                    </a:lnTo>
                    <a:lnTo>
                      <a:pt x="1298" y="278"/>
                    </a:lnTo>
                    <a:lnTo>
                      <a:pt x="1382" y="272"/>
                    </a:lnTo>
                    <a:lnTo>
                      <a:pt x="1466" y="266"/>
                    </a:lnTo>
                    <a:lnTo>
                      <a:pt x="1508" y="261"/>
                    </a:lnTo>
                    <a:lnTo>
                      <a:pt x="1549" y="255"/>
                    </a:lnTo>
                    <a:lnTo>
                      <a:pt x="1589" y="250"/>
                    </a:lnTo>
                    <a:lnTo>
                      <a:pt x="1630" y="244"/>
                    </a:lnTo>
                    <a:lnTo>
                      <a:pt x="1670" y="237"/>
                    </a:lnTo>
                    <a:lnTo>
                      <a:pt x="1708" y="229"/>
                    </a:lnTo>
                    <a:lnTo>
                      <a:pt x="1747" y="221"/>
                    </a:lnTo>
                    <a:lnTo>
                      <a:pt x="1785" y="212"/>
                    </a:lnTo>
                    <a:lnTo>
                      <a:pt x="1822" y="202"/>
                    </a:lnTo>
                    <a:lnTo>
                      <a:pt x="1859" y="192"/>
                    </a:lnTo>
                    <a:lnTo>
                      <a:pt x="1895" y="181"/>
                    </a:lnTo>
                    <a:lnTo>
                      <a:pt x="1931" y="169"/>
                    </a:lnTo>
                    <a:lnTo>
                      <a:pt x="1965" y="156"/>
                    </a:lnTo>
                    <a:lnTo>
                      <a:pt x="1999" y="144"/>
                    </a:lnTo>
                    <a:lnTo>
                      <a:pt x="2031" y="130"/>
                    </a:lnTo>
                    <a:lnTo>
                      <a:pt x="2063" y="115"/>
                    </a:lnTo>
                    <a:lnTo>
                      <a:pt x="2073" y="103"/>
                    </a:lnTo>
                    <a:lnTo>
                      <a:pt x="2063" y="115"/>
                    </a:lnTo>
                    <a:lnTo>
                      <a:pt x="2066" y="113"/>
                    </a:lnTo>
                    <a:lnTo>
                      <a:pt x="2070" y="109"/>
                    </a:lnTo>
                    <a:lnTo>
                      <a:pt x="2071" y="107"/>
                    </a:lnTo>
                    <a:lnTo>
                      <a:pt x="2073" y="104"/>
                    </a:lnTo>
                    <a:lnTo>
                      <a:pt x="2073" y="100"/>
                    </a:lnTo>
                    <a:lnTo>
                      <a:pt x="2073" y="97"/>
                    </a:lnTo>
                    <a:lnTo>
                      <a:pt x="2073" y="93"/>
                    </a:lnTo>
                    <a:lnTo>
                      <a:pt x="2071" y="90"/>
                    </a:lnTo>
                    <a:lnTo>
                      <a:pt x="2070" y="88"/>
                    </a:lnTo>
                    <a:lnTo>
                      <a:pt x="2067" y="85"/>
                    </a:lnTo>
                    <a:lnTo>
                      <a:pt x="2065" y="83"/>
                    </a:lnTo>
                    <a:lnTo>
                      <a:pt x="2062" y="81"/>
                    </a:lnTo>
                    <a:lnTo>
                      <a:pt x="2058" y="80"/>
                    </a:lnTo>
                    <a:lnTo>
                      <a:pt x="2055" y="80"/>
                    </a:lnTo>
                    <a:lnTo>
                      <a:pt x="2051" y="81"/>
                    </a:lnTo>
                    <a:lnTo>
                      <a:pt x="2047" y="82"/>
                    </a:lnTo>
                    <a:lnTo>
                      <a:pt x="2038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70760" y="373248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59" h="128">
                    <a:moveTo>
                      <a:pt x="36" y="0"/>
                    </a:moveTo>
                    <a:lnTo>
                      <a:pt x="24" y="14"/>
                    </a:lnTo>
                    <a:lnTo>
                      <a:pt x="0" y="120"/>
                    </a:lnTo>
                    <a:lnTo>
                      <a:pt x="35" y="128"/>
                    </a:lnTo>
                    <a:lnTo>
                      <a:pt x="59" y="22"/>
                    </a:lnTo>
                    <a:lnTo>
                      <a:pt x="36" y="0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59" y="14"/>
                    </a:lnTo>
                    <a:lnTo>
                      <a:pt x="58" y="10"/>
                    </a:lnTo>
                    <a:lnTo>
                      <a:pt x="57" y="7"/>
                    </a:lnTo>
                    <a:lnTo>
                      <a:pt x="54" y="4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4" y="1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22760" y="3732480"/>
                <a:ext cx="662040" cy="57240"/>
              </a:xfrm>
              <a:custGeom>
                <a:avLst/>
                <a:gdLst/>
                <a:ahLst/>
                <a:rect l="l" t="t" r="r" b="b"/>
                <a:pathLst>
                  <a:path w="2084" h="179">
                    <a:moveTo>
                      <a:pt x="36" y="25"/>
                    </a:moveTo>
                    <a:lnTo>
                      <a:pt x="14" y="44"/>
                    </a:lnTo>
                    <a:lnTo>
                      <a:pt x="73" y="58"/>
                    </a:lnTo>
                    <a:lnTo>
                      <a:pt x="132" y="72"/>
                    </a:lnTo>
                    <a:lnTo>
                      <a:pt x="193" y="84"/>
                    </a:lnTo>
                    <a:lnTo>
                      <a:pt x="253" y="96"/>
                    </a:lnTo>
                    <a:lnTo>
                      <a:pt x="316" y="107"/>
                    </a:lnTo>
                    <a:lnTo>
                      <a:pt x="377" y="118"/>
                    </a:lnTo>
                    <a:lnTo>
                      <a:pt x="440" y="128"/>
                    </a:lnTo>
                    <a:lnTo>
                      <a:pt x="504" y="137"/>
                    </a:lnTo>
                    <a:lnTo>
                      <a:pt x="567" y="146"/>
                    </a:lnTo>
                    <a:lnTo>
                      <a:pt x="632" y="153"/>
                    </a:lnTo>
                    <a:lnTo>
                      <a:pt x="697" y="160"/>
                    </a:lnTo>
                    <a:lnTo>
                      <a:pt x="763" y="165"/>
                    </a:lnTo>
                    <a:lnTo>
                      <a:pt x="828" y="170"/>
                    </a:lnTo>
                    <a:lnTo>
                      <a:pt x="895" y="173"/>
                    </a:lnTo>
                    <a:lnTo>
                      <a:pt x="961" y="177"/>
                    </a:lnTo>
                    <a:lnTo>
                      <a:pt x="1028" y="178"/>
                    </a:lnTo>
                    <a:lnTo>
                      <a:pt x="1094" y="179"/>
                    </a:lnTo>
                    <a:lnTo>
                      <a:pt x="1161" y="178"/>
                    </a:lnTo>
                    <a:lnTo>
                      <a:pt x="1228" y="177"/>
                    </a:lnTo>
                    <a:lnTo>
                      <a:pt x="1295" y="173"/>
                    </a:lnTo>
                    <a:lnTo>
                      <a:pt x="1362" y="170"/>
                    </a:lnTo>
                    <a:lnTo>
                      <a:pt x="1429" y="164"/>
                    </a:lnTo>
                    <a:lnTo>
                      <a:pt x="1495" y="157"/>
                    </a:lnTo>
                    <a:lnTo>
                      <a:pt x="1562" y="149"/>
                    </a:lnTo>
                    <a:lnTo>
                      <a:pt x="1629" y="140"/>
                    </a:lnTo>
                    <a:lnTo>
                      <a:pt x="1695" y="130"/>
                    </a:lnTo>
                    <a:lnTo>
                      <a:pt x="1761" y="117"/>
                    </a:lnTo>
                    <a:lnTo>
                      <a:pt x="1827" y="104"/>
                    </a:lnTo>
                    <a:lnTo>
                      <a:pt x="1892" y="89"/>
                    </a:lnTo>
                    <a:lnTo>
                      <a:pt x="1957" y="73"/>
                    </a:lnTo>
                    <a:lnTo>
                      <a:pt x="2021" y="55"/>
                    </a:lnTo>
                    <a:lnTo>
                      <a:pt x="2084" y="35"/>
                    </a:lnTo>
                    <a:lnTo>
                      <a:pt x="2074" y="0"/>
                    </a:lnTo>
                    <a:lnTo>
                      <a:pt x="2010" y="19"/>
                    </a:lnTo>
                    <a:lnTo>
                      <a:pt x="1948" y="38"/>
                    </a:lnTo>
                    <a:lnTo>
                      <a:pt x="1883" y="53"/>
                    </a:lnTo>
                    <a:lnTo>
                      <a:pt x="1819" y="68"/>
                    </a:lnTo>
                    <a:lnTo>
                      <a:pt x="1754" y="82"/>
                    </a:lnTo>
                    <a:lnTo>
                      <a:pt x="1689" y="93"/>
                    </a:lnTo>
                    <a:lnTo>
                      <a:pt x="1623" y="105"/>
                    </a:lnTo>
                    <a:lnTo>
                      <a:pt x="1558" y="114"/>
                    </a:lnTo>
                    <a:lnTo>
                      <a:pt x="1492" y="122"/>
                    </a:lnTo>
                    <a:lnTo>
                      <a:pt x="1426" y="128"/>
                    </a:lnTo>
                    <a:lnTo>
                      <a:pt x="1360" y="133"/>
                    </a:lnTo>
                    <a:lnTo>
                      <a:pt x="1293" y="137"/>
                    </a:lnTo>
                    <a:lnTo>
                      <a:pt x="1227" y="140"/>
                    </a:lnTo>
                    <a:lnTo>
                      <a:pt x="1160" y="141"/>
                    </a:lnTo>
                    <a:lnTo>
                      <a:pt x="1094" y="142"/>
                    </a:lnTo>
                    <a:lnTo>
                      <a:pt x="1028" y="141"/>
                    </a:lnTo>
                    <a:lnTo>
                      <a:pt x="962" y="140"/>
                    </a:lnTo>
                    <a:lnTo>
                      <a:pt x="897" y="137"/>
                    </a:lnTo>
                    <a:lnTo>
                      <a:pt x="831" y="133"/>
                    </a:lnTo>
                    <a:lnTo>
                      <a:pt x="766" y="129"/>
                    </a:lnTo>
                    <a:lnTo>
                      <a:pt x="701" y="123"/>
                    </a:lnTo>
                    <a:lnTo>
                      <a:pt x="637" y="116"/>
                    </a:lnTo>
                    <a:lnTo>
                      <a:pt x="572" y="109"/>
                    </a:lnTo>
                    <a:lnTo>
                      <a:pt x="509" y="101"/>
                    </a:lnTo>
                    <a:lnTo>
                      <a:pt x="446" y="92"/>
                    </a:lnTo>
                    <a:lnTo>
                      <a:pt x="383" y="82"/>
                    </a:lnTo>
                    <a:lnTo>
                      <a:pt x="321" y="72"/>
                    </a:lnTo>
                    <a:lnTo>
                      <a:pt x="260" y="60"/>
                    </a:lnTo>
                    <a:lnTo>
                      <a:pt x="199" y="49"/>
                    </a:lnTo>
                    <a:lnTo>
                      <a:pt x="140" y="35"/>
                    </a:lnTo>
                    <a:lnTo>
                      <a:pt x="81" y="23"/>
                    </a:lnTo>
                    <a:lnTo>
                      <a:pt x="23" y="9"/>
                    </a:lnTo>
                    <a:lnTo>
                      <a:pt x="0" y="28"/>
                    </a:lnTo>
                    <a:lnTo>
                      <a:pt x="23" y="9"/>
                    </a:lnTo>
                    <a:lnTo>
                      <a:pt x="18" y="8"/>
                    </a:lnTo>
                    <a:lnTo>
                      <a:pt x="15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1" y="32"/>
                    </a:lnTo>
                    <a:lnTo>
                      <a:pt x="2" y="35"/>
                    </a:lnTo>
                    <a:lnTo>
                      <a:pt x="4" y="39"/>
                    </a:lnTo>
                    <a:lnTo>
                      <a:pt x="7" y="41"/>
                    </a:lnTo>
                    <a:lnTo>
                      <a:pt x="10" y="42"/>
                    </a:lnTo>
                    <a:lnTo>
                      <a:pt x="14" y="44"/>
                    </a:lnTo>
                    <a:lnTo>
                      <a:pt x="36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8960" y="3826080"/>
                <a:ext cx="603000" cy="54000"/>
              </a:xfrm>
              <a:custGeom>
                <a:avLst/>
                <a:gdLst/>
                <a:ahLst/>
                <a:rect l="l" t="t" r="r" b="b"/>
                <a:pathLst>
                  <a:path w="1900" h="171">
                    <a:moveTo>
                      <a:pt x="1900" y="32"/>
                    </a:moveTo>
                    <a:lnTo>
                      <a:pt x="1876" y="15"/>
                    </a:lnTo>
                    <a:lnTo>
                      <a:pt x="1822" y="32"/>
                    </a:lnTo>
                    <a:lnTo>
                      <a:pt x="1769" y="48"/>
                    </a:lnTo>
                    <a:lnTo>
                      <a:pt x="1713" y="63"/>
                    </a:lnTo>
                    <a:lnTo>
                      <a:pt x="1657" y="76"/>
                    </a:lnTo>
                    <a:lnTo>
                      <a:pt x="1600" y="88"/>
                    </a:lnTo>
                    <a:lnTo>
                      <a:pt x="1542" y="98"/>
                    </a:lnTo>
                    <a:lnTo>
                      <a:pt x="1483" y="107"/>
                    </a:lnTo>
                    <a:lnTo>
                      <a:pt x="1424" y="114"/>
                    </a:lnTo>
                    <a:lnTo>
                      <a:pt x="1363" y="121"/>
                    </a:lnTo>
                    <a:lnTo>
                      <a:pt x="1303" y="125"/>
                    </a:lnTo>
                    <a:lnTo>
                      <a:pt x="1241" y="130"/>
                    </a:lnTo>
                    <a:lnTo>
                      <a:pt x="1180" y="132"/>
                    </a:lnTo>
                    <a:lnTo>
                      <a:pt x="1118" y="134"/>
                    </a:lnTo>
                    <a:lnTo>
                      <a:pt x="1057" y="134"/>
                    </a:lnTo>
                    <a:lnTo>
                      <a:pt x="994" y="134"/>
                    </a:lnTo>
                    <a:lnTo>
                      <a:pt x="932" y="132"/>
                    </a:lnTo>
                    <a:lnTo>
                      <a:pt x="871" y="130"/>
                    </a:lnTo>
                    <a:lnTo>
                      <a:pt x="808" y="126"/>
                    </a:lnTo>
                    <a:lnTo>
                      <a:pt x="747" y="122"/>
                    </a:lnTo>
                    <a:lnTo>
                      <a:pt x="686" y="116"/>
                    </a:lnTo>
                    <a:lnTo>
                      <a:pt x="625" y="110"/>
                    </a:lnTo>
                    <a:lnTo>
                      <a:pt x="565" y="104"/>
                    </a:lnTo>
                    <a:lnTo>
                      <a:pt x="505" y="96"/>
                    </a:lnTo>
                    <a:lnTo>
                      <a:pt x="447" y="88"/>
                    </a:lnTo>
                    <a:lnTo>
                      <a:pt x="388" y="79"/>
                    </a:lnTo>
                    <a:lnTo>
                      <a:pt x="331" y="68"/>
                    </a:lnTo>
                    <a:lnTo>
                      <a:pt x="275" y="58"/>
                    </a:lnTo>
                    <a:lnTo>
                      <a:pt x="219" y="48"/>
                    </a:lnTo>
                    <a:lnTo>
                      <a:pt x="164" y="36"/>
                    </a:lnTo>
                    <a:lnTo>
                      <a:pt x="112" y="25"/>
                    </a:lnTo>
                    <a:lnTo>
                      <a:pt x="59" y="12"/>
                    </a:lnTo>
                    <a:lnTo>
                      <a:pt x="9" y="0"/>
                    </a:lnTo>
                    <a:lnTo>
                      <a:pt x="0" y="35"/>
                    </a:lnTo>
                    <a:lnTo>
                      <a:pt x="51" y="48"/>
                    </a:lnTo>
                    <a:lnTo>
                      <a:pt x="104" y="60"/>
                    </a:lnTo>
                    <a:lnTo>
                      <a:pt x="157" y="72"/>
                    </a:lnTo>
                    <a:lnTo>
                      <a:pt x="212" y="83"/>
                    </a:lnTo>
                    <a:lnTo>
                      <a:pt x="268" y="95"/>
                    </a:lnTo>
                    <a:lnTo>
                      <a:pt x="325" y="105"/>
                    </a:lnTo>
                    <a:lnTo>
                      <a:pt x="382" y="114"/>
                    </a:lnTo>
                    <a:lnTo>
                      <a:pt x="441" y="123"/>
                    </a:lnTo>
                    <a:lnTo>
                      <a:pt x="500" y="132"/>
                    </a:lnTo>
                    <a:lnTo>
                      <a:pt x="561" y="139"/>
                    </a:lnTo>
                    <a:lnTo>
                      <a:pt x="621" y="147"/>
                    </a:lnTo>
                    <a:lnTo>
                      <a:pt x="683" y="153"/>
                    </a:lnTo>
                    <a:lnTo>
                      <a:pt x="744" y="158"/>
                    </a:lnTo>
                    <a:lnTo>
                      <a:pt x="806" y="163"/>
                    </a:lnTo>
                    <a:lnTo>
                      <a:pt x="868" y="166"/>
                    </a:lnTo>
                    <a:lnTo>
                      <a:pt x="931" y="169"/>
                    </a:lnTo>
                    <a:lnTo>
                      <a:pt x="994" y="170"/>
                    </a:lnTo>
                    <a:lnTo>
                      <a:pt x="1057" y="171"/>
                    </a:lnTo>
                    <a:lnTo>
                      <a:pt x="1119" y="170"/>
                    </a:lnTo>
                    <a:lnTo>
                      <a:pt x="1181" y="169"/>
                    </a:lnTo>
                    <a:lnTo>
                      <a:pt x="1243" y="166"/>
                    </a:lnTo>
                    <a:lnTo>
                      <a:pt x="1305" y="162"/>
                    </a:lnTo>
                    <a:lnTo>
                      <a:pt x="1367" y="157"/>
                    </a:lnTo>
                    <a:lnTo>
                      <a:pt x="1428" y="150"/>
                    </a:lnTo>
                    <a:lnTo>
                      <a:pt x="1488" y="142"/>
                    </a:lnTo>
                    <a:lnTo>
                      <a:pt x="1548" y="133"/>
                    </a:lnTo>
                    <a:lnTo>
                      <a:pt x="1607" y="123"/>
                    </a:lnTo>
                    <a:lnTo>
                      <a:pt x="1665" y="112"/>
                    </a:lnTo>
                    <a:lnTo>
                      <a:pt x="1722" y="98"/>
                    </a:lnTo>
                    <a:lnTo>
                      <a:pt x="1779" y="83"/>
                    </a:lnTo>
                    <a:lnTo>
                      <a:pt x="1834" y="66"/>
                    </a:lnTo>
                    <a:lnTo>
                      <a:pt x="1889" y="49"/>
                    </a:lnTo>
                    <a:lnTo>
                      <a:pt x="1863" y="32"/>
                    </a:lnTo>
                    <a:lnTo>
                      <a:pt x="1889" y="49"/>
                    </a:lnTo>
                    <a:lnTo>
                      <a:pt x="1892" y="47"/>
                    </a:lnTo>
                    <a:lnTo>
                      <a:pt x="1895" y="44"/>
                    </a:lnTo>
                    <a:lnTo>
                      <a:pt x="1898" y="42"/>
                    </a:lnTo>
                    <a:lnTo>
                      <a:pt x="1899" y="39"/>
                    </a:lnTo>
                    <a:lnTo>
                      <a:pt x="1900" y="35"/>
                    </a:lnTo>
                    <a:lnTo>
                      <a:pt x="1900" y="32"/>
                    </a:lnTo>
                    <a:lnTo>
                      <a:pt x="1900" y="28"/>
                    </a:lnTo>
                    <a:lnTo>
                      <a:pt x="1899" y="25"/>
                    </a:lnTo>
                    <a:lnTo>
                      <a:pt x="1898" y="23"/>
                    </a:lnTo>
                    <a:lnTo>
                      <a:pt x="1895" y="19"/>
                    </a:lnTo>
                    <a:lnTo>
                      <a:pt x="1893" y="17"/>
                    </a:lnTo>
                    <a:lnTo>
                      <a:pt x="1891" y="15"/>
                    </a:lnTo>
                    <a:lnTo>
                      <a:pt x="1887" y="14"/>
                    </a:lnTo>
                    <a:lnTo>
                      <a:pt x="1884" y="14"/>
                    </a:lnTo>
                    <a:lnTo>
                      <a:pt x="1881" y="14"/>
                    </a:lnTo>
                    <a:lnTo>
                      <a:pt x="1876" y="15"/>
                    </a:lnTo>
                    <a:lnTo>
                      <a:pt x="1900" y="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30800" y="3835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27" y="112"/>
                    </a:moveTo>
                    <a:lnTo>
                      <a:pt x="37" y="94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94"/>
                    </a:lnTo>
                    <a:lnTo>
                      <a:pt x="27" y="112"/>
                    </a:lnTo>
                    <a:lnTo>
                      <a:pt x="0" y="94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6"/>
                    </a:lnTo>
                    <a:lnTo>
                      <a:pt x="6" y="108"/>
                    </a:lnTo>
                    <a:lnTo>
                      <a:pt x="10" y="110"/>
                    </a:lnTo>
                    <a:lnTo>
                      <a:pt x="12" y="112"/>
                    </a:lnTo>
                    <a:lnTo>
                      <a:pt x="15" y="113"/>
                    </a:lnTo>
                    <a:lnTo>
                      <a:pt x="19" y="113"/>
                    </a:lnTo>
                    <a:lnTo>
                      <a:pt x="22" y="113"/>
                    </a:lnTo>
                    <a:lnTo>
                      <a:pt x="26" y="112"/>
                    </a:lnTo>
                    <a:lnTo>
                      <a:pt x="29" y="110"/>
                    </a:lnTo>
                    <a:lnTo>
                      <a:pt x="31" y="108"/>
                    </a:lnTo>
                    <a:lnTo>
                      <a:pt x="33" y="106"/>
                    </a:lnTo>
                    <a:lnTo>
                      <a:pt x="36" y="102"/>
                    </a:lnTo>
                    <a:lnTo>
                      <a:pt x="37" y="99"/>
                    </a:lnTo>
                    <a:lnTo>
                      <a:pt x="37" y="94"/>
                    </a:lnTo>
                    <a:lnTo>
                      <a:pt x="27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35720" y="3824640"/>
                <a:ext cx="603000" cy="90360"/>
              </a:xfrm>
              <a:custGeom>
                <a:avLst/>
                <a:gdLst/>
                <a:ahLst/>
                <a:rect l="l" t="t" r="r" b="b"/>
                <a:pathLst>
                  <a:path w="1904" h="285">
                    <a:moveTo>
                      <a:pt x="23" y="1"/>
                    </a:moveTo>
                    <a:lnTo>
                      <a:pt x="0" y="20"/>
                    </a:lnTo>
                    <a:lnTo>
                      <a:pt x="4" y="34"/>
                    </a:lnTo>
                    <a:lnTo>
                      <a:pt x="8" y="46"/>
                    </a:lnTo>
                    <a:lnTo>
                      <a:pt x="15" y="58"/>
                    </a:lnTo>
                    <a:lnTo>
                      <a:pt x="23" y="69"/>
                    </a:lnTo>
                    <a:lnTo>
                      <a:pt x="33" y="81"/>
                    </a:lnTo>
                    <a:lnTo>
                      <a:pt x="46" y="91"/>
                    </a:lnTo>
                    <a:lnTo>
                      <a:pt x="59" y="101"/>
                    </a:lnTo>
                    <a:lnTo>
                      <a:pt x="73" y="111"/>
                    </a:lnTo>
                    <a:lnTo>
                      <a:pt x="89" y="121"/>
                    </a:lnTo>
                    <a:lnTo>
                      <a:pt x="106" y="130"/>
                    </a:lnTo>
                    <a:lnTo>
                      <a:pt x="125" y="139"/>
                    </a:lnTo>
                    <a:lnTo>
                      <a:pt x="145" y="148"/>
                    </a:lnTo>
                    <a:lnTo>
                      <a:pt x="166" y="156"/>
                    </a:lnTo>
                    <a:lnTo>
                      <a:pt x="188" y="165"/>
                    </a:lnTo>
                    <a:lnTo>
                      <a:pt x="212" y="173"/>
                    </a:lnTo>
                    <a:lnTo>
                      <a:pt x="237" y="181"/>
                    </a:lnTo>
                    <a:lnTo>
                      <a:pt x="290" y="196"/>
                    </a:lnTo>
                    <a:lnTo>
                      <a:pt x="346" y="211"/>
                    </a:lnTo>
                    <a:lnTo>
                      <a:pt x="406" y="223"/>
                    </a:lnTo>
                    <a:lnTo>
                      <a:pt x="470" y="236"/>
                    </a:lnTo>
                    <a:lnTo>
                      <a:pt x="537" y="246"/>
                    </a:lnTo>
                    <a:lnTo>
                      <a:pt x="606" y="256"/>
                    </a:lnTo>
                    <a:lnTo>
                      <a:pt x="677" y="264"/>
                    </a:lnTo>
                    <a:lnTo>
                      <a:pt x="751" y="272"/>
                    </a:lnTo>
                    <a:lnTo>
                      <a:pt x="827" y="277"/>
                    </a:lnTo>
                    <a:lnTo>
                      <a:pt x="903" y="281"/>
                    </a:lnTo>
                    <a:lnTo>
                      <a:pt x="981" y="284"/>
                    </a:lnTo>
                    <a:lnTo>
                      <a:pt x="1058" y="285"/>
                    </a:lnTo>
                    <a:lnTo>
                      <a:pt x="1136" y="285"/>
                    </a:lnTo>
                    <a:lnTo>
                      <a:pt x="1214" y="281"/>
                    </a:lnTo>
                    <a:lnTo>
                      <a:pt x="1291" y="278"/>
                    </a:lnTo>
                    <a:lnTo>
                      <a:pt x="1367" y="271"/>
                    </a:lnTo>
                    <a:lnTo>
                      <a:pt x="1442" y="263"/>
                    </a:lnTo>
                    <a:lnTo>
                      <a:pt x="1516" y="253"/>
                    </a:lnTo>
                    <a:lnTo>
                      <a:pt x="1551" y="247"/>
                    </a:lnTo>
                    <a:lnTo>
                      <a:pt x="1588" y="240"/>
                    </a:lnTo>
                    <a:lnTo>
                      <a:pt x="1622" y="233"/>
                    </a:lnTo>
                    <a:lnTo>
                      <a:pt x="1656" y="225"/>
                    </a:lnTo>
                    <a:lnTo>
                      <a:pt x="1691" y="217"/>
                    </a:lnTo>
                    <a:lnTo>
                      <a:pt x="1724" y="210"/>
                    </a:lnTo>
                    <a:lnTo>
                      <a:pt x="1755" y="200"/>
                    </a:lnTo>
                    <a:lnTo>
                      <a:pt x="1787" y="190"/>
                    </a:lnTo>
                    <a:lnTo>
                      <a:pt x="1817" y="180"/>
                    </a:lnTo>
                    <a:lnTo>
                      <a:pt x="1847" y="168"/>
                    </a:lnTo>
                    <a:lnTo>
                      <a:pt x="1876" y="156"/>
                    </a:lnTo>
                    <a:lnTo>
                      <a:pt x="1904" y="145"/>
                    </a:lnTo>
                    <a:lnTo>
                      <a:pt x="1889" y="111"/>
                    </a:lnTo>
                    <a:lnTo>
                      <a:pt x="1861" y="123"/>
                    </a:lnTo>
                    <a:lnTo>
                      <a:pt x="1834" y="134"/>
                    </a:lnTo>
                    <a:lnTo>
                      <a:pt x="1806" y="146"/>
                    </a:lnTo>
                    <a:lnTo>
                      <a:pt x="1776" y="156"/>
                    </a:lnTo>
                    <a:lnTo>
                      <a:pt x="1745" y="165"/>
                    </a:lnTo>
                    <a:lnTo>
                      <a:pt x="1713" y="174"/>
                    </a:lnTo>
                    <a:lnTo>
                      <a:pt x="1681" y="182"/>
                    </a:lnTo>
                    <a:lnTo>
                      <a:pt x="1648" y="190"/>
                    </a:lnTo>
                    <a:lnTo>
                      <a:pt x="1615" y="198"/>
                    </a:lnTo>
                    <a:lnTo>
                      <a:pt x="1581" y="205"/>
                    </a:lnTo>
                    <a:lnTo>
                      <a:pt x="1546" y="211"/>
                    </a:lnTo>
                    <a:lnTo>
                      <a:pt x="1510" y="217"/>
                    </a:lnTo>
                    <a:lnTo>
                      <a:pt x="1438" y="227"/>
                    </a:lnTo>
                    <a:lnTo>
                      <a:pt x="1363" y="236"/>
                    </a:lnTo>
                    <a:lnTo>
                      <a:pt x="1288" y="241"/>
                    </a:lnTo>
                    <a:lnTo>
                      <a:pt x="1212" y="246"/>
                    </a:lnTo>
                    <a:lnTo>
                      <a:pt x="1136" y="248"/>
                    </a:lnTo>
                    <a:lnTo>
                      <a:pt x="1058" y="248"/>
                    </a:lnTo>
                    <a:lnTo>
                      <a:pt x="981" y="248"/>
                    </a:lnTo>
                    <a:lnTo>
                      <a:pt x="904" y="245"/>
                    </a:lnTo>
                    <a:lnTo>
                      <a:pt x="829" y="241"/>
                    </a:lnTo>
                    <a:lnTo>
                      <a:pt x="754" y="236"/>
                    </a:lnTo>
                    <a:lnTo>
                      <a:pt x="682" y="229"/>
                    </a:lnTo>
                    <a:lnTo>
                      <a:pt x="610" y="220"/>
                    </a:lnTo>
                    <a:lnTo>
                      <a:pt x="542" y="211"/>
                    </a:lnTo>
                    <a:lnTo>
                      <a:pt x="477" y="199"/>
                    </a:lnTo>
                    <a:lnTo>
                      <a:pt x="413" y="188"/>
                    </a:lnTo>
                    <a:lnTo>
                      <a:pt x="354" y="175"/>
                    </a:lnTo>
                    <a:lnTo>
                      <a:pt x="299" y="162"/>
                    </a:lnTo>
                    <a:lnTo>
                      <a:pt x="248" y="146"/>
                    </a:lnTo>
                    <a:lnTo>
                      <a:pt x="224" y="139"/>
                    </a:lnTo>
                    <a:lnTo>
                      <a:pt x="201" y="131"/>
                    </a:lnTo>
                    <a:lnTo>
                      <a:pt x="179" y="123"/>
                    </a:lnTo>
                    <a:lnTo>
                      <a:pt x="159" y="115"/>
                    </a:lnTo>
                    <a:lnTo>
                      <a:pt x="141" y="106"/>
                    </a:lnTo>
                    <a:lnTo>
                      <a:pt x="123" y="98"/>
                    </a:lnTo>
                    <a:lnTo>
                      <a:pt x="108" y="89"/>
                    </a:lnTo>
                    <a:lnTo>
                      <a:pt x="93" y="81"/>
                    </a:lnTo>
                    <a:lnTo>
                      <a:pt x="80" y="72"/>
                    </a:lnTo>
                    <a:lnTo>
                      <a:pt x="69" y="64"/>
                    </a:lnTo>
                    <a:lnTo>
                      <a:pt x="60" y="54"/>
                    </a:lnTo>
                    <a:lnTo>
                      <a:pt x="52" y="46"/>
                    </a:lnTo>
                    <a:lnTo>
                      <a:pt x="45" y="39"/>
                    </a:lnTo>
                    <a:lnTo>
                      <a:pt x="41" y="31"/>
                    </a:lnTo>
                    <a:lnTo>
                      <a:pt x="38" y="24"/>
                    </a:lnTo>
                    <a:lnTo>
                      <a:pt x="37" y="17"/>
                    </a:lnTo>
                    <a:lnTo>
                      <a:pt x="14" y="36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5"/>
                    </a:lnTo>
                    <a:lnTo>
                      <a:pt x="30" y="3"/>
                    </a:lnTo>
                    <a:lnTo>
                      <a:pt x="27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54800" y="325476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7"/>
                    </a:moveTo>
                    <a:lnTo>
                      <a:pt x="35" y="13"/>
                    </a:lnTo>
                    <a:lnTo>
                      <a:pt x="34" y="9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554800" y="3260880"/>
                <a:ext cx="75960" cy="649440"/>
              </a:xfrm>
              <a:custGeom>
                <a:avLst/>
                <a:gdLst/>
                <a:ahLst/>
                <a:rect l="l" t="t" r="r" b="b"/>
                <a:pathLst>
                  <a:path w="238" h="2049">
                    <a:moveTo>
                      <a:pt x="238" y="2024"/>
                    </a:moveTo>
                    <a:lnTo>
                      <a:pt x="234" y="2018"/>
                    </a:lnTo>
                    <a:lnTo>
                      <a:pt x="228" y="2009"/>
                    </a:lnTo>
                    <a:lnTo>
                      <a:pt x="222" y="1996"/>
                    </a:lnTo>
                    <a:lnTo>
                      <a:pt x="217" y="1983"/>
                    </a:lnTo>
                    <a:lnTo>
                      <a:pt x="210" y="1966"/>
                    </a:lnTo>
                    <a:lnTo>
                      <a:pt x="204" y="1946"/>
                    </a:lnTo>
                    <a:lnTo>
                      <a:pt x="198" y="1926"/>
                    </a:lnTo>
                    <a:lnTo>
                      <a:pt x="193" y="1902"/>
                    </a:lnTo>
                    <a:lnTo>
                      <a:pt x="181" y="1849"/>
                    </a:lnTo>
                    <a:lnTo>
                      <a:pt x="170" y="1790"/>
                    </a:lnTo>
                    <a:lnTo>
                      <a:pt x="160" y="1724"/>
                    </a:lnTo>
                    <a:lnTo>
                      <a:pt x="149" y="1653"/>
                    </a:lnTo>
                    <a:lnTo>
                      <a:pt x="139" y="1577"/>
                    </a:lnTo>
                    <a:lnTo>
                      <a:pt x="130" y="1496"/>
                    </a:lnTo>
                    <a:lnTo>
                      <a:pt x="122" y="1413"/>
                    </a:lnTo>
                    <a:lnTo>
                      <a:pt x="114" y="1325"/>
                    </a:lnTo>
                    <a:lnTo>
                      <a:pt x="98" y="1145"/>
                    </a:lnTo>
                    <a:lnTo>
                      <a:pt x="84" y="961"/>
                    </a:lnTo>
                    <a:lnTo>
                      <a:pt x="73" y="780"/>
                    </a:lnTo>
                    <a:lnTo>
                      <a:pt x="63" y="605"/>
                    </a:lnTo>
                    <a:lnTo>
                      <a:pt x="55" y="443"/>
                    </a:lnTo>
                    <a:lnTo>
                      <a:pt x="48" y="298"/>
                    </a:lnTo>
                    <a:lnTo>
                      <a:pt x="39" y="81"/>
                    </a:lnTo>
                    <a:lnTo>
                      <a:pt x="37" y="0"/>
                    </a:lnTo>
                    <a:lnTo>
                      <a:pt x="0" y="1"/>
                    </a:lnTo>
                    <a:lnTo>
                      <a:pt x="2" y="84"/>
                    </a:lnTo>
                    <a:lnTo>
                      <a:pt x="11" y="299"/>
                    </a:lnTo>
                    <a:lnTo>
                      <a:pt x="18" y="444"/>
                    </a:lnTo>
                    <a:lnTo>
                      <a:pt x="27" y="607"/>
                    </a:lnTo>
                    <a:lnTo>
                      <a:pt x="37" y="782"/>
                    </a:lnTo>
                    <a:lnTo>
                      <a:pt x="49" y="964"/>
                    </a:lnTo>
                    <a:lnTo>
                      <a:pt x="62" y="1148"/>
                    </a:lnTo>
                    <a:lnTo>
                      <a:pt x="78" y="1328"/>
                    </a:lnTo>
                    <a:lnTo>
                      <a:pt x="86" y="1416"/>
                    </a:lnTo>
                    <a:lnTo>
                      <a:pt x="95" y="1501"/>
                    </a:lnTo>
                    <a:lnTo>
                      <a:pt x="104" y="1582"/>
                    </a:lnTo>
                    <a:lnTo>
                      <a:pt x="113" y="1658"/>
                    </a:lnTo>
                    <a:lnTo>
                      <a:pt x="123" y="1730"/>
                    </a:lnTo>
                    <a:lnTo>
                      <a:pt x="135" y="1796"/>
                    </a:lnTo>
                    <a:lnTo>
                      <a:pt x="145" y="1856"/>
                    </a:lnTo>
                    <a:lnTo>
                      <a:pt x="157" y="1910"/>
                    </a:lnTo>
                    <a:lnTo>
                      <a:pt x="163" y="1935"/>
                    </a:lnTo>
                    <a:lnTo>
                      <a:pt x="169" y="1957"/>
                    </a:lnTo>
                    <a:lnTo>
                      <a:pt x="176" y="1977"/>
                    </a:lnTo>
                    <a:lnTo>
                      <a:pt x="182" y="1995"/>
                    </a:lnTo>
                    <a:lnTo>
                      <a:pt x="189" y="2012"/>
                    </a:lnTo>
                    <a:lnTo>
                      <a:pt x="196" y="2026"/>
                    </a:lnTo>
                    <a:lnTo>
                      <a:pt x="204" y="2039"/>
                    </a:lnTo>
                    <a:lnTo>
                      <a:pt x="213" y="2049"/>
                    </a:lnTo>
                    <a:lnTo>
                      <a:pt x="238" y="20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2840" y="39024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25"/>
                    </a:moveTo>
                    <a:lnTo>
                      <a:pt x="4" y="28"/>
                    </a:lnTo>
                    <a:lnTo>
                      <a:pt x="7" y="29"/>
                    </a:lnTo>
                    <a:lnTo>
                      <a:pt x="10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5" y="25"/>
                    </a:lnTo>
                    <a:lnTo>
                      <a:pt x="28" y="23"/>
                    </a:lnTo>
                    <a:lnTo>
                      <a:pt x="30" y="20"/>
                    </a:lnTo>
                    <a:lnTo>
                      <a:pt x="31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0" y="7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84840" y="33116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5" y="18"/>
                    </a:moveTo>
                    <a:lnTo>
                      <a:pt x="35" y="14"/>
                    </a:lnTo>
                    <a:lnTo>
                      <a:pt x="34" y="10"/>
                    </a:lnTo>
                    <a:lnTo>
                      <a:pt x="32" y="8"/>
                    </a:lnTo>
                    <a:lnTo>
                      <a:pt x="30" y="5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83400" y="3316680"/>
                <a:ext cx="12600" cy="630000"/>
              </a:xfrm>
              <a:custGeom>
                <a:avLst/>
                <a:gdLst/>
                <a:ahLst/>
                <a:rect l="l" t="t" r="r" b="b"/>
                <a:pathLst>
                  <a:path w="44" h="1984">
                    <a:moveTo>
                      <a:pt x="36" y="1984"/>
                    </a:moveTo>
                    <a:lnTo>
                      <a:pt x="44" y="0"/>
                    </a:lnTo>
                    <a:lnTo>
                      <a:pt x="9" y="0"/>
                    </a:lnTo>
                    <a:lnTo>
                      <a:pt x="0" y="1984"/>
                    </a:lnTo>
                    <a:lnTo>
                      <a:pt x="36" y="19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83400" y="39466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3" y="11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5" y="17"/>
                    </a:lnTo>
                    <a:lnTo>
                      <a:pt x="27" y="16"/>
                    </a:lnTo>
                    <a:lnTo>
                      <a:pt x="31" y="14"/>
                    </a:lnTo>
                    <a:lnTo>
                      <a:pt x="33" y="11"/>
                    </a:lnTo>
                    <a:lnTo>
                      <a:pt x="34" y="8"/>
                    </a:lnTo>
                    <a:lnTo>
                      <a:pt x="35" y="4"/>
                    </a:lnTo>
                    <a:lnTo>
                      <a:pt x="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911920" y="332136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6" y="19"/>
                    </a:moveTo>
                    <a:lnTo>
                      <a:pt x="36" y="15"/>
                    </a:lnTo>
                    <a:lnTo>
                      <a:pt x="35" y="11"/>
                    </a:lnTo>
                    <a:lnTo>
                      <a:pt x="33" y="8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36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865840" y="3326040"/>
                <a:ext cx="57240" cy="619200"/>
              </a:xfrm>
              <a:custGeom>
                <a:avLst/>
                <a:gdLst/>
                <a:ahLst/>
                <a:rect l="l" t="t" r="r" b="b"/>
                <a:pathLst>
                  <a:path w="180" h="1950">
                    <a:moveTo>
                      <a:pt x="30" y="1950"/>
                    </a:moveTo>
                    <a:lnTo>
                      <a:pt x="34" y="1941"/>
                    </a:lnTo>
                    <a:lnTo>
                      <a:pt x="38" y="1932"/>
                    </a:lnTo>
                    <a:lnTo>
                      <a:pt x="42" y="1921"/>
                    </a:lnTo>
                    <a:lnTo>
                      <a:pt x="46" y="1907"/>
                    </a:lnTo>
                    <a:lnTo>
                      <a:pt x="51" y="1874"/>
                    </a:lnTo>
                    <a:lnTo>
                      <a:pt x="58" y="1833"/>
                    </a:lnTo>
                    <a:lnTo>
                      <a:pt x="65" y="1784"/>
                    </a:lnTo>
                    <a:lnTo>
                      <a:pt x="72" y="1729"/>
                    </a:lnTo>
                    <a:lnTo>
                      <a:pt x="78" y="1668"/>
                    </a:lnTo>
                    <a:lnTo>
                      <a:pt x="85" y="1600"/>
                    </a:lnTo>
                    <a:lnTo>
                      <a:pt x="97" y="1451"/>
                    </a:lnTo>
                    <a:lnTo>
                      <a:pt x="110" y="1288"/>
                    </a:lnTo>
                    <a:lnTo>
                      <a:pt x="121" y="1115"/>
                    </a:lnTo>
                    <a:lnTo>
                      <a:pt x="131" y="937"/>
                    </a:lnTo>
                    <a:lnTo>
                      <a:pt x="152" y="591"/>
                    </a:lnTo>
                    <a:lnTo>
                      <a:pt x="167" y="292"/>
                    </a:lnTo>
                    <a:lnTo>
                      <a:pt x="177" y="81"/>
                    </a:lnTo>
                    <a:lnTo>
                      <a:pt x="180" y="2"/>
                    </a:lnTo>
                    <a:lnTo>
                      <a:pt x="144" y="0"/>
                    </a:lnTo>
                    <a:lnTo>
                      <a:pt x="140" y="80"/>
                    </a:lnTo>
                    <a:lnTo>
                      <a:pt x="130" y="291"/>
                    </a:lnTo>
                    <a:lnTo>
                      <a:pt x="115" y="589"/>
                    </a:lnTo>
                    <a:lnTo>
                      <a:pt x="96" y="936"/>
                    </a:lnTo>
                    <a:lnTo>
                      <a:pt x="85" y="1112"/>
                    </a:lnTo>
                    <a:lnTo>
                      <a:pt x="73" y="1285"/>
                    </a:lnTo>
                    <a:lnTo>
                      <a:pt x="61" y="1449"/>
                    </a:lnTo>
                    <a:lnTo>
                      <a:pt x="48" y="1597"/>
                    </a:lnTo>
                    <a:lnTo>
                      <a:pt x="42" y="1664"/>
                    </a:lnTo>
                    <a:lnTo>
                      <a:pt x="36" y="1725"/>
                    </a:lnTo>
                    <a:lnTo>
                      <a:pt x="29" y="1779"/>
                    </a:lnTo>
                    <a:lnTo>
                      <a:pt x="23" y="1827"/>
                    </a:lnTo>
                    <a:lnTo>
                      <a:pt x="16" y="1867"/>
                    </a:lnTo>
                    <a:lnTo>
                      <a:pt x="9" y="1899"/>
                    </a:lnTo>
                    <a:lnTo>
                      <a:pt x="7" y="1910"/>
                    </a:lnTo>
                    <a:lnTo>
                      <a:pt x="4" y="1920"/>
                    </a:lnTo>
                    <a:lnTo>
                      <a:pt x="1" y="1926"/>
                    </a:lnTo>
                    <a:lnTo>
                      <a:pt x="0" y="1929"/>
                    </a:lnTo>
                    <a:lnTo>
                      <a:pt x="30" y="1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865840" y="3938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1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9" y="28"/>
                    </a:lnTo>
                    <a:lnTo>
                      <a:pt x="23" y="28"/>
                    </a:lnTo>
                    <a:lnTo>
                      <a:pt x="26" y="27"/>
                    </a:lnTo>
                    <a:lnTo>
                      <a:pt x="29" y="25"/>
                    </a:lnTo>
                    <a:lnTo>
                      <a:pt x="33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040440" y="3311640"/>
                <a:ext cx="12600" cy="50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36" y="14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8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992920" y="3316680"/>
                <a:ext cx="60120" cy="610920"/>
              </a:xfrm>
              <a:custGeom>
                <a:avLst/>
                <a:gdLst/>
                <a:ahLst/>
                <a:rect l="l" t="t" r="r" b="b"/>
                <a:pathLst>
                  <a:path w="187" h="1922">
                    <a:moveTo>
                      <a:pt x="26" y="1922"/>
                    </a:moveTo>
                    <a:lnTo>
                      <a:pt x="34" y="1912"/>
                    </a:lnTo>
                    <a:lnTo>
                      <a:pt x="42" y="1900"/>
                    </a:lnTo>
                    <a:lnTo>
                      <a:pt x="50" y="1885"/>
                    </a:lnTo>
                    <a:lnTo>
                      <a:pt x="57" y="1869"/>
                    </a:lnTo>
                    <a:lnTo>
                      <a:pt x="64" y="1851"/>
                    </a:lnTo>
                    <a:lnTo>
                      <a:pt x="70" y="1831"/>
                    </a:lnTo>
                    <a:lnTo>
                      <a:pt x="75" y="1810"/>
                    </a:lnTo>
                    <a:lnTo>
                      <a:pt x="81" y="1787"/>
                    </a:lnTo>
                    <a:lnTo>
                      <a:pt x="93" y="1735"/>
                    </a:lnTo>
                    <a:lnTo>
                      <a:pt x="103" y="1678"/>
                    </a:lnTo>
                    <a:lnTo>
                      <a:pt x="112" y="1616"/>
                    </a:lnTo>
                    <a:lnTo>
                      <a:pt x="121" y="1547"/>
                    </a:lnTo>
                    <a:lnTo>
                      <a:pt x="128" y="1475"/>
                    </a:lnTo>
                    <a:lnTo>
                      <a:pt x="136" y="1399"/>
                    </a:lnTo>
                    <a:lnTo>
                      <a:pt x="143" y="1320"/>
                    </a:lnTo>
                    <a:lnTo>
                      <a:pt x="148" y="1238"/>
                    </a:lnTo>
                    <a:lnTo>
                      <a:pt x="159" y="1070"/>
                    </a:lnTo>
                    <a:lnTo>
                      <a:pt x="167" y="898"/>
                    </a:lnTo>
                    <a:lnTo>
                      <a:pt x="173" y="728"/>
                    </a:lnTo>
                    <a:lnTo>
                      <a:pt x="178" y="563"/>
                    </a:lnTo>
                    <a:lnTo>
                      <a:pt x="181" y="412"/>
                    </a:lnTo>
                    <a:lnTo>
                      <a:pt x="185" y="277"/>
                    </a:lnTo>
                    <a:lnTo>
                      <a:pt x="187" y="77"/>
                    </a:lnTo>
                    <a:lnTo>
                      <a:pt x="187" y="0"/>
                    </a:lnTo>
                    <a:lnTo>
                      <a:pt x="151" y="0"/>
                    </a:lnTo>
                    <a:lnTo>
                      <a:pt x="151" y="76"/>
                    </a:lnTo>
                    <a:lnTo>
                      <a:pt x="148" y="276"/>
                    </a:lnTo>
                    <a:lnTo>
                      <a:pt x="146" y="412"/>
                    </a:lnTo>
                    <a:lnTo>
                      <a:pt x="143" y="563"/>
                    </a:lnTo>
                    <a:lnTo>
                      <a:pt x="137" y="727"/>
                    </a:lnTo>
                    <a:lnTo>
                      <a:pt x="130" y="895"/>
                    </a:lnTo>
                    <a:lnTo>
                      <a:pt x="122" y="1067"/>
                    </a:lnTo>
                    <a:lnTo>
                      <a:pt x="112" y="1236"/>
                    </a:lnTo>
                    <a:lnTo>
                      <a:pt x="106" y="1317"/>
                    </a:lnTo>
                    <a:lnTo>
                      <a:pt x="99" y="1396"/>
                    </a:lnTo>
                    <a:lnTo>
                      <a:pt x="93" y="1472"/>
                    </a:lnTo>
                    <a:lnTo>
                      <a:pt x="85" y="1544"/>
                    </a:lnTo>
                    <a:lnTo>
                      <a:pt x="75" y="1610"/>
                    </a:lnTo>
                    <a:lnTo>
                      <a:pt x="66" y="1673"/>
                    </a:lnTo>
                    <a:lnTo>
                      <a:pt x="57" y="1729"/>
                    </a:lnTo>
                    <a:lnTo>
                      <a:pt x="46" y="1779"/>
                    </a:lnTo>
                    <a:lnTo>
                      <a:pt x="41" y="1800"/>
                    </a:lnTo>
                    <a:lnTo>
                      <a:pt x="36" y="1821"/>
                    </a:lnTo>
                    <a:lnTo>
                      <a:pt x="29" y="1839"/>
                    </a:lnTo>
                    <a:lnTo>
                      <a:pt x="23" y="1855"/>
                    </a:lnTo>
                    <a:lnTo>
                      <a:pt x="17" y="1870"/>
                    </a:lnTo>
                    <a:lnTo>
                      <a:pt x="12" y="1881"/>
                    </a:lnTo>
                    <a:lnTo>
                      <a:pt x="6" y="1890"/>
                    </a:lnTo>
                    <a:lnTo>
                      <a:pt x="0" y="1896"/>
                    </a:lnTo>
                    <a:lnTo>
                      <a:pt x="26" y="1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991120" y="3919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7"/>
                    </a:lnTo>
                    <a:lnTo>
                      <a:pt x="2" y="21"/>
                    </a:lnTo>
                    <a:lnTo>
                      <a:pt x="3" y="24"/>
                    </a:lnTo>
                    <a:lnTo>
                      <a:pt x="5" y="26"/>
                    </a:lnTo>
                    <a:lnTo>
                      <a:pt x="7" y="29"/>
                    </a:lnTo>
                    <a:lnTo>
                      <a:pt x="11" y="30"/>
                    </a:lnTo>
                    <a:lnTo>
                      <a:pt x="14" y="31"/>
                    </a:lnTo>
                    <a:lnTo>
                      <a:pt x="18" y="32"/>
                    </a:lnTo>
                    <a:lnTo>
                      <a:pt x="21" y="32"/>
                    </a:lnTo>
                    <a:lnTo>
                      <a:pt x="25" y="31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186600" y="3273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5" y="22"/>
                    </a:moveTo>
                    <a:lnTo>
                      <a:pt x="36" y="17"/>
                    </a:lnTo>
                    <a:lnTo>
                      <a:pt x="35" y="14"/>
                    </a:lnTo>
                    <a:lnTo>
                      <a:pt x="34" y="11"/>
                    </a:lnTo>
                    <a:lnTo>
                      <a:pt x="32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060960" y="3278520"/>
                <a:ext cx="136800" cy="625320"/>
              </a:xfrm>
              <a:custGeom>
                <a:avLst/>
                <a:gdLst/>
                <a:ahLst/>
                <a:rect l="l" t="t" r="r" b="b"/>
                <a:pathLst>
                  <a:path w="431" h="1969">
                    <a:moveTo>
                      <a:pt x="27" y="1969"/>
                    </a:moveTo>
                    <a:lnTo>
                      <a:pt x="35" y="1960"/>
                    </a:lnTo>
                    <a:lnTo>
                      <a:pt x="42" y="1950"/>
                    </a:lnTo>
                    <a:lnTo>
                      <a:pt x="48" y="1936"/>
                    </a:lnTo>
                    <a:lnTo>
                      <a:pt x="55" y="1921"/>
                    </a:lnTo>
                    <a:lnTo>
                      <a:pt x="70" y="1886"/>
                    </a:lnTo>
                    <a:lnTo>
                      <a:pt x="84" y="1843"/>
                    </a:lnTo>
                    <a:lnTo>
                      <a:pt x="100" y="1791"/>
                    </a:lnTo>
                    <a:lnTo>
                      <a:pt x="114" y="1734"/>
                    </a:lnTo>
                    <a:lnTo>
                      <a:pt x="130" y="1670"/>
                    </a:lnTo>
                    <a:lnTo>
                      <a:pt x="146" y="1602"/>
                    </a:lnTo>
                    <a:lnTo>
                      <a:pt x="163" y="1529"/>
                    </a:lnTo>
                    <a:lnTo>
                      <a:pt x="179" y="1452"/>
                    </a:lnTo>
                    <a:lnTo>
                      <a:pt x="197" y="1371"/>
                    </a:lnTo>
                    <a:lnTo>
                      <a:pt x="212" y="1286"/>
                    </a:lnTo>
                    <a:lnTo>
                      <a:pt x="247" y="1113"/>
                    </a:lnTo>
                    <a:lnTo>
                      <a:pt x="279" y="936"/>
                    </a:lnTo>
                    <a:lnTo>
                      <a:pt x="309" y="760"/>
                    </a:lnTo>
                    <a:lnTo>
                      <a:pt x="338" y="591"/>
                    </a:lnTo>
                    <a:lnTo>
                      <a:pt x="364" y="434"/>
                    </a:lnTo>
                    <a:lnTo>
                      <a:pt x="387" y="293"/>
                    </a:lnTo>
                    <a:lnTo>
                      <a:pt x="420" y="85"/>
                    </a:lnTo>
                    <a:lnTo>
                      <a:pt x="431" y="6"/>
                    </a:lnTo>
                    <a:lnTo>
                      <a:pt x="396" y="0"/>
                    </a:lnTo>
                    <a:lnTo>
                      <a:pt x="383" y="79"/>
                    </a:lnTo>
                    <a:lnTo>
                      <a:pt x="351" y="288"/>
                    </a:lnTo>
                    <a:lnTo>
                      <a:pt x="329" y="428"/>
                    </a:lnTo>
                    <a:lnTo>
                      <a:pt x="302" y="585"/>
                    </a:lnTo>
                    <a:lnTo>
                      <a:pt x="274" y="754"/>
                    </a:lnTo>
                    <a:lnTo>
                      <a:pt x="243" y="929"/>
                    </a:lnTo>
                    <a:lnTo>
                      <a:pt x="210" y="1106"/>
                    </a:lnTo>
                    <a:lnTo>
                      <a:pt x="177" y="1279"/>
                    </a:lnTo>
                    <a:lnTo>
                      <a:pt x="161" y="1364"/>
                    </a:lnTo>
                    <a:lnTo>
                      <a:pt x="144" y="1444"/>
                    </a:lnTo>
                    <a:lnTo>
                      <a:pt x="127" y="1521"/>
                    </a:lnTo>
                    <a:lnTo>
                      <a:pt x="111" y="1594"/>
                    </a:lnTo>
                    <a:lnTo>
                      <a:pt x="95" y="1662"/>
                    </a:lnTo>
                    <a:lnTo>
                      <a:pt x="79" y="1725"/>
                    </a:lnTo>
                    <a:lnTo>
                      <a:pt x="64" y="1782"/>
                    </a:lnTo>
                    <a:lnTo>
                      <a:pt x="49" y="1831"/>
                    </a:lnTo>
                    <a:lnTo>
                      <a:pt x="36" y="1873"/>
                    </a:lnTo>
                    <a:lnTo>
                      <a:pt x="22" y="1908"/>
                    </a:lnTo>
                    <a:lnTo>
                      <a:pt x="16" y="1920"/>
                    </a:lnTo>
                    <a:lnTo>
                      <a:pt x="11" y="1932"/>
                    </a:lnTo>
                    <a:lnTo>
                      <a:pt x="5" y="1939"/>
                    </a:lnTo>
                    <a:lnTo>
                      <a:pt x="0" y="1944"/>
                    </a:lnTo>
                    <a:lnTo>
                      <a:pt x="27" y="19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059520" y="3895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4" y="0"/>
                    </a:move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4" y="31"/>
                    </a:lnTo>
                    <a:lnTo>
                      <a:pt x="17" y="32"/>
                    </a:lnTo>
                    <a:lnTo>
                      <a:pt x="20" y="31"/>
                    </a:lnTo>
                    <a:lnTo>
                      <a:pt x="24" y="30"/>
                    </a:lnTo>
                    <a:lnTo>
                      <a:pt x="27" y="29"/>
                    </a:lnTo>
                    <a:lnTo>
                      <a:pt x="31" y="2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269040" y="3225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6" y="22"/>
                    </a:moveTo>
                    <a:lnTo>
                      <a:pt x="36" y="17"/>
                    </a:lnTo>
                    <a:lnTo>
                      <a:pt x="36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0" y="5"/>
                    </a:lnTo>
                    <a:lnTo>
                      <a:pt x="27" y="3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18200" y="3231000"/>
                <a:ext cx="162000" cy="642600"/>
              </a:xfrm>
              <a:custGeom>
                <a:avLst/>
                <a:gdLst/>
                <a:ahLst/>
                <a:rect l="l" t="t" r="r" b="b"/>
                <a:pathLst>
                  <a:path w="511" h="2021">
                    <a:moveTo>
                      <a:pt x="25" y="2021"/>
                    </a:moveTo>
                    <a:lnTo>
                      <a:pt x="35" y="2011"/>
                    </a:lnTo>
                    <a:lnTo>
                      <a:pt x="43" y="2000"/>
                    </a:lnTo>
                    <a:lnTo>
                      <a:pt x="51" y="1986"/>
                    </a:lnTo>
                    <a:lnTo>
                      <a:pt x="60" y="1970"/>
                    </a:lnTo>
                    <a:lnTo>
                      <a:pt x="68" y="1952"/>
                    </a:lnTo>
                    <a:lnTo>
                      <a:pt x="77" y="1932"/>
                    </a:lnTo>
                    <a:lnTo>
                      <a:pt x="85" y="1911"/>
                    </a:lnTo>
                    <a:lnTo>
                      <a:pt x="94" y="1887"/>
                    </a:lnTo>
                    <a:lnTo>
                      <a:pt x="112" y="1834"/>
                    </a:lnTo>
                    <a:lnTo>
                      <a:pt x="130" y="1775"/>
                    </a:lnTo>
                    <a:lnTo>
                      <a:pt x="149" y="1710"/>
                    </a:lnTo>
                    <a:lnTo>
                      <a:pt x="169" y="1639"/>
                    </a:lnTo>
                    <a:lnTo>
                      <a:pt x="188" y="1564"/>
                    </a:lnTo>
                    <a:lnTo>
                      <a:pt x="208" y="1484"/>
                    </a:lnTo>
                    <a:lnTo>
                      <a:pt x="228" y="1401"/>
                    </a:lnTo>
                    <a:lnTo>
                      <a:pt x="248" y="1316"/>
                    </a:lnTo>
                    <a:lnTo>
                      <a:pt x="288" y="1138"/>
                    </a:lnTo>
                    <a:lnTo>
                      <a:pt x="326" y="957"/>
                    </a:lnTo>
                    <a:lnTo>
                      <a:pt x="364" y="776"/>
                    </a:lnTo>
                    <a:lnTo>
                      <a:pt x="398" y="604"/>
                    </a:lnTo>
                    <a:lnTo>
                      <a:pt x="429" y="444"/>
                    </a:lnTo>
                    <a:lnTo>
                      <a:pt x="456" y="300"/>
                    </a:lnTo>
                    <a:lnTo>
                      <a:pt x="496" y="87"/>
                    </a:lnTo>
                    <a:lnTo>
                      <a:pt x="511" y="7"/>
                    </a:lnTo>
                    <a:lnTo>
                      <a:pt x="475" y="0"/>
                    </a:lnTo>
                    <a:lnTo>
                      <a:pt x="461" y="81"/>
                    </a:lnTo>
                    <a:lnTo>
                      <a:pt x="421" y="293"/>
                    </a:lnTo>
                    <a:lnTo>
                      <a:pt x="394" y="437"/>
                    </a:lnTo>
                    <a:lnTo>
                      <a:pt x="363" y="598"/>
                    </a:lnTo>
                    <a:lnTo>
                      <a:pt x="329" y="770"/>
                    </a:lnTo>
                    <a:lnTo>
                      <a:pt x="291" y="949"/>
                    </a:lnTo>
                    <a:lnTo>
                      <a:pt x="252" y="1130"/>
                    </a:lnTo>
                    <a:lnTo>
                      <a:pt x="212" y="1308"/>
                    </a:lnTo>
                    <a:lnTo>
                      <a:pt x="193" y="1393"/>
                    </a:lnTo>
                    <a:lnTo>
                      <a:pt x="172" y="1476"/>
                    </a:lnTo>
                    <a:lnTo>
                      <a:pt x="153" y="1555"/>
                    </a:lnTo>
                    <a:lnTo>
                      <a:pt x="134" y="1630"/>
                    </a:lnTo>
                    <a:lnTo>
                      <a:pt x="114" y="1700"/>
                    </a:lnTo>
                    <a:lnTo>
                      <a:pt x="95" y="1765"/>
                    </a:lnTo>
                    <a:lnTo>
                      <a:pt x="77" y="1823"/>
                    </a:lnTo>
                    <a:lnTo>
                      <a:pt x="60" y="1875"/>
                    </a:lnTo>
                    <a:lnTo>
                      <a:pt x="51" y="1898"/>
                    </a:lnTo>
                    <a:lnTo>
                      <a:pt x="43" y="1919"/>
                    </a:lnTo>
                    <a:lnTo>
                      <a:pt x="35" y="1937"/>
                    </a:lnTo>
                    <a:lnTo>
                      <a:pt x="27" y="1954"/>
                    </a:lnTo>
                    <a:lnTo>
                      <a:pt x="20" y="1968"/>
                    </a:lnTo>
                    <a:lnTo>
                      <a:pt x="13" y="1980"/>
                    </a:lnTo>
                    <a:lnTo>
                      <a:pt x="6" y="1988"/>
                    </a:lnTo>
                    <a:lnTo>
                      <a:pt x="0" y="1995"/>
                    </a:lnTo>
                    <a:lnTo>
                      <a:pt x="25" y="20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16760" y="3864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5" y="0"/>
                    </a:moveTo>
                    <a:lnTo>
                      <a:pt x="3" y="4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7" y="29"/>
                    </a:lnTo>
                    <a:lnTo>
                      <a:pt x="30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675400" y="3297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7" h="18">
                    <a:moveTo>
                      <a:pt x="37" y="18"/>
                    </a:moveTo>
                    <a:lnTo>
                      <a:pt x="37" y="13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75400" y="3303720"/>
                <a:ext cx="44280" cy="638280"/>
              </a:xfrm>
              <a:custGeom>
                <a:avLst/>
                <a:gdLst/>
                <a:ahLst/>
                <a:rect l="l" t="t" r="r" b="b"/>
                <a:pathLst>
                  <a:path w="143" h="2011">
                    <a:moveTo>
                      <a:pt x="143" y="1986"/>
                    </a:moveTo>
                    <a:lnTo>
                      <a:pt x="139" y="1981"/>
                    </a:lnTo>
                    <a:lnTo>
                      <a:pt x="135" y="1974"/>
                    </a:lnTo>
                    <a:lnTo>
                      <a:pt x="130" y="1964"/>
                    </a:lnTo>
                    <a:lnTo>
                      <a:pt x="126" y="1952"/>
                    </a:lnTo>
                    <a:lnTo>
                      <a:pt x="121" y="1936"/>
                    </a:lnTo>
                    <a:lnTo>
                      <a:pt x="118" y="1917"/>
                    </a:lnTo>
                    <a:lnTo>
                      <a:pt x="113" y="1898"/>
                    </a:lnTo>
                    <a:lnTo>
                      <a:pt x="109" y="1876"/>
                    </a:lnTo>
                    <a:lnTo>
                      <a:pt x="101" y="1825"/>
                    </a:lnTo>
                    <a:lnTo>
                      <a:pt x="94" y="1768"/>
                    </a:lnTo>
                    <a:lnTo>
                      <a:pt x="87" y="1704"/>
                    </a:lnTo>
                    <a:lnTo>
                      <a:pt x="80" y="1635"/>
                    </a:lnTo>
                    <a:lnTo>
                      <a:pt x="74" y="1561"/>
                    </a:lnTo>
                    <a:lnTo>
                      <a:pt x="70" y="1482"/>
                    </a:lnTo>
                    <a:lnTo>
                      <a:pt x="65" y="1399"/>
                    </a:lnTo>
                    <a:lnTo>
                      <a:pt x="61" y="1313"/>
                    </a:lnTo>
                    <a:lnTo>
                      <a:pt x="54" y="1135"/>
                    </a:lnTo>
                    <a:lnTo>
                      <a:pt x="48" y="954"/>
                    </a:lnTo>
                    <a:lnTo>
                      <a:pt x="44" y="774"/>
                    </a:lnTo>
                    <a:lnTo>
                      <a:pt x="40" y="601"/>
                    </a:lnTo>
                    <a:lnTo>
                      <a:pt x="39" y="439"/>
                    </a:lnTo>
                    <a:lnTo>
                      <a:pt x="38" y="295"/>
                    </a:lnTo>
                    <a:lnTo>
                      <a:pt x="37" y="81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1" y="295"/>
                    </a:lnTo>
                    <a:lnTo>
                      <a:pt x="3" y="440"/>
                    </a:lnTo>
                    <a:lnTo>
                      <a:pt x="5" y="601"/>
                    </a:lnTo>
                    <a:lnTo>
                      <a:pt x="7" y="775"/>
                    </a:lnTo>
                    <a:lnTo>
                      <a:pt x="12" y="955"/>
                    </a:lnTo>
                    <a:lnTo>
                      <a:pt x="17" y="1138"/>
                    </a:lnTo>
                    <a:lnTo>
                      <a:pt x="24" y="1315"/>
                    </a:lnTo>
                    <a:lnTo>
                      <a:pt x="29" y="1401"/>
                    </a:lnTo>
                    <a:lnTo>
                      <a:pt x="33" y="1484"/>
                    </a:lnTo>
                    <a:lnTo>
                      <a:pt x="39" y="1563"/>
                    </a:lnTo>
                    <a:lnTo>
                      <a:pt x="45" y="1638"/>
                    </a:lnTo>
                    <a:lnTo>
                      <a:pt x="50" y="1708"/>
                    </a:lnTo>
                    <a:lnTo>
                      <a:pt x="57" y="1773"/>
                    </a:lnTo>
                    <a:lnTo>
                      <a:pt x="65" y="1831"/>
                    </a:lnTo>
                    <a:lnTo>
                      <a:pt x="73" y="1882"/>
                    </a:lnTo>
                    <a:lnTo>
                      <a:pt x="77" y="1905"/>
                    </a:lnTo>
                    <a:lnTo>
                      <a:pt x="81" y="1926"/>
                    </a:lnTo>
                    <a:lnTo>
                      <a:pt x="87" y="1945"/>
                    </a:lnTo>
                    <a:lnTo>
                      <a:pt x="91" y="1962"/>
                    </a:lnTo>
                    <a:lnTo>
                      <a:pt x="97" y="1978"/>
                    </a:lnTo>
                    <a:lnTo>
                      <a:pt x="103" y="1990"/>
                    </a:lnTo>
                    <a:lnTo>
                      <a:pt x="109" y="2002"/>
                    </a:lnTo>
                    <a:lnTo>
                      <a:pt x="117" y="2011"/>
                    </a:lnTo>
                    <a:lnTo>
                      <a:pt x="143" y="19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11760" y="39340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25"/>
                    </a:moveTo>
                    <a:lnTo>
                      <a:pt x="3" y="28"/>
                    </a:lnTo>
                    <a:lnTo>
                      <a:pt x="6" y="29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7" y="31"/>
                    </a:lnTo>
                    <a:lnTo>
                      <a:pt x="20" y="29"/>
                    </a:lnTo>
                    <a:lnTo>
                      <a:pt x="22" y="27"/>
                    </a:lnTo>
                    <a:lnTo>
                      <a:pt x="26" y="25"/>
                    </a:lnTo>
                    <a:lnTo>
                      <a:pt x="27" y="23"/>
                    </a:lnTo>
                    <a:lnTo>
                      <a:pt x="29" y="20"/>
                    </a:lnTo>
                    <a:lnTo>
                      <a:pt x="30" y="17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28" y="3"/>
                    </a:lnTo>
                    <a:lnTo>
                      <a:pt x="2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751200" y="335952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7" y="3"/>
                    </a:moveTo>
                    <a:lnTo>
                      <a:pt x="23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29"/>
                    </a:lnTo>
                    <a:lnTo>
                      <a:pt x="6" y="31"/>
                    </a:lnTo>
                    <a:lnTo>
                      <a:pt x="9" y="34"/>
                    </a:lnTo>
                    <a:lnTo>
                      <a:pt x="2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754440" y="3360960"/>
                <a:ext cx="131760" cy="165240"/>
              </a:xfrm>
              <a:custGeom>
                <a:avLst/>
                <a:gdLst/>
                <a:ahLst/>
                <a:rect l="l" t="t" r="r" b="b"/>
                <a:pathLst>
                  <a:path w="415" h="523">
                    <a:moveTo>
                      <a:pt x="409" y="523"/>
                    </a:moveTo>
                    <a:lnTo>
                      <a:pt x="411" y="511"/>
                    </a:lnTo>
                    <a:lnTo>
                      <a:pt x="414" y="498"/>
                    </a:lnTo>
                    <a:lnTo>
                      <a:pt x="415" y="484"/>
                    </a:lnTo>
                    <a:lnTo>
                      <a:pt x="415" y="472"/>
                    </a:lnTo>
                    <a:lnTo>
                      <a:pt x="415" y="459"/>
                    </a:lnTo>
                    <a:lnTo>
                      <a:pt x="414" y="447"/>
                    </a:lnTo>
                    <a:lnTo>
                      <a:pt x="411" y="434"/>
                    </a:lnTo>
                    <a:lnTo>
                      <a:pt x="409" y="421"/>
                    </a:lnTo>
                    <a:lnTo>
                      <a:pt x="403" y="397"/>
                    </a:lnTo>
                    <a:lnTo>
                      <a:pt x="395" y="373"/>
                    </a:lnTo>
                    <a:lnTo>
                      <a:pt x="384" y="349"/>
                    </a:lnTo>
                    <a:lnTo>
                      <a:pt x="373" y="325"/>
                    </a:lnTo>
                    <a:lnTo>
                      <a:pt x="359" y="302"/>
                    </a:lnTo>
                    <a:lnTo>
                      <a:pt x="343" y="279"/>
                    </a:lnTo>
                    <a:lnTo>
                      <a:pt x="327" y="258"/>
                    </a:lnTo>
                    <a:lnTo>
                      <a:pt x="310" y="237"/>
                    </a:lnTo>
                    <a:lnTo>
                      <a:pt x="292" y="217"/>
                    </a:lnTo>
                    <a:lnTo>
                      <a:pt x="274" y="196"/>
                    </a:lnTo>
                    <a:lnTo>
                      <a:pt x="254" y="178"/>
                    </a:lnTo>
                    <a:lnTo>
                      <a:pt x="235" y="158"/>
                    </a:lnTo>
                    <a:lnTo>
                      <a:pt x="195" y="124"/>
                    </a:lnTo>
                    <a:lnTo>
                      <a:pt x="156" y="93"/>
                    </a:lnTo>
                    <a:lnTo>
                      <a:pt x="120" y="66"/>
                    </a:lnTo>
                    <a:lnTo>
                      <a:pt x="87" y="4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31"/>
                    </a:lnTo>
                    <a:lnTo>
                      <a:pt x="18" y="42"/>
                    </a:lnTo>
                    <a:lnTo>
                      <a:pt x="67" y="73"/>
                    </a:lnTo>
                    <a:lnTo>
                      <a:pt x="99" y="96"/>
                    </a:lnTo>
                    <a:lnTo>
                      <a:pt x="135" y="122"/>
                    </a:lnTo>
                    <a:lnTo>
                      <a:pt x="172" y="153"/>
                    </a:lnTo>
                    <a:lnTo>
                      <a:pt x="210" y="186"/>
                    </a:lnTo>
                    <a:lnTo>
                      <a:pt x="229" y="204"/>
                    </a:lnTo>
                    <a:lnTo>
                      <a:pt x="247" y="222"/>
                    </a:lnTo>
                    <a:lnTo>
                      <a:pt x="266" y="241"/>
                    </a:lnTo>
                    <a:lnTo>
                      <a:pt x="283" y="260"/>
                    </a:lnTo>
                    <a:lnTo>
                      <a:pt x="299" y="280"/>
                    </a:lnTo>
                    <a:lnTo>
                      <a:pt x="315" y="301"/>
                    </a:lnTo>
                    <a:lnTo>
                      <a:pt x="328" y="321"/>
                    </a:lnTo>
                    <a:lnTo>
                      <a:pt x="341" y="343"/>
                    </a:lnTo>
                    <a:lnTo>
                      <a:pt x="352" y="364"/>
                    </a:lnTo>
                    <a:lnTo>
                      <a:pt x="361" y="385"/>
                    </a:lnTo>
                    <a:lnTo>
                      <a:pt x="368" y="407"/>
                    </a:lnTo>
                    <a:lnTo>
                      <a:pt x="374" y="429"/>
                    </a:lnTo>
                    <a:lnTo>
                      <a:pt x="376" y="440"/>
                    </a:lnTo>
                    <a:lnTo>
                      <a:pt x="377" y="450"/>
                    </a:lnTo>
                    <a:lnTo>
                      <a:pt x="378" y="461"/>
                    </a:lnTo>
                    <a:lnTo>
                      <a:pt x="378" y="472"/>
                    </a:lnTo>
                    <a:lnTo>
                      <a:pt x="378" y="483"/>
                    </a:lnTo>
                    <a:lnTo>
                      <a:pt x="377" y="494"/>
                    </a:lnTo>
                    <a:lnTo>
                      <a:pt x="376" y="504"/>
                    </a:lnTo>
                    <a:lnTo>
                      <a:pt x="374" y="515"/>
                    </a:lnTo>
                    <a:lnTo>
                      <a:pt x="409" y="5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873600" y="352440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0" y="19"/>
                    </a:lnTo>
                    <a:lnTo>
                      <a:pt x="33" y="16"/>
                    </a:lnTo>
                    <a:lnTo>
                      <a:pt x="35" y="13"/>
                    </a:lnTo>
                    <a:lnTo>
                      <a:pt x="36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4322880" y="2703600"/>
                <a:ext cx="182520" cy="254160"/>
              </a:xfrm>
              <a:custGeom>
                <a:avLst/>
                <a:gdLst/>
                <a:ahLst/>
                <a:rect l="l" t="t" r="r" b="b"/>
                <a:pathLst>
                  <a:path w="578" h="796">
                    <a:moveTo>
                      <a:pt x="337" y="0"/>
                    </a:moveTo>
                    <a:lnTo>
                      <a:pt x="363" y="42"/>
                    </a:lnTo>
                    <a:lnTo>
                      <a:pt x="388" y="86"/>
                    </a:lnTo>
                    <a:lnTo>
                      <a:pt x="412" y="128"/>
                    </a:lnTo>
                    <a:lnTo>
                      <a:pt x="435" y="171"/>
                    </a:lnTo>
                    <a:lnTo>
                      <a:pt x="456" y="216"/>
                    </a:lnTo>
                    <a:lnTo>
                      <a:pt x="477" y="260"/>
                    </a:lnTo>
                    <a:lnTo>
                      <a:pt x="495" y="306"/>
                    </a:lnTo>
                    <a:lnTo>
                      <a:pt x="512" y="351"/>
                    </a:lnTo>
                    <a:lnTo>
                      <a:pt x="527" y="397"/>
                    </a:lnTo>
                    <a:lnTo>
                      <a:pt x="541" y="445"/>
                    </a:lnTo>
                    <a:lnTo>
                      <a:pt x="552" y="493"/>
                    </a:lnTo>
                    <a:lnTo>
                      <a:pt x="561" y="542"/>
                    </a:lnTo>
                    <a:lnTo>
                      <a:pt x="569" y="591"/>
                    </a:lnTo>
                    <a:lnTo>
                      <a:pt x="575" y="642"/>
                    </a:lnTo>
                    <a:lnTo>
                      <a:pt x="576" y="667"/>
                    </a:lnTo>
                    <a:lnTo>
                      <a:pt x="578" y="693"/>
                    </a:lnTo>
                    <a:lnTo>
                      <a:pt x="578" y="720"/>
                    </a:lnTo>
                    <a:lnTo>
                      <a:pt x="578" y="746"/>
                    </a:lnTo>
                    <a:lnTo>
                      <a:pt x="545" y="738"/>
                    </a:lnTo>
                    <a:lnTo>
                      <a:pt x="511" y="732"/>
                    </a:lnTo>
                    <a:lnTo>
                      <a:pt x="477" y="729"/>
                    </a:lnTo>
                    <a:lnTo>
                      <a:pt x="444" y="726"/>
                    </a:lnTo>
                    <a:lnTo>
                      <a:pt x="409" y="725"/>
                    </a:lnTo>
                    <a:lnTo>
                      <a:pt x="375" y="726"/>
                    </a:lnTo>
                    <a:lnTo>
                      <a:pt x="342" y="729"/>
                    </a:lnTo>
                    <a:lnTo>
                      <a:pt x="308" y="732"/>
                    </a:lnTo>
                    <a:lnTo>
                      <a:pt x="274" y="737"/>
                    </a:lnTo>
                    <a:lnTo>
                      <a:pt x="241" y="742"/>
                    </a:lnTo>
                    <a:lnTo>
                      <a:pt x="207" y="749"/>
                    </a:lnTo>
                    <a:lnTo>
                      <a:pt x="174" y="757"/>
                    </a:lnTo>
                    <a:lnTo>
                      <a:pt x="139" y="766"/>
                    </a:lnTo>
                    <a:lnTo>
                      <a:pt x="106" y="776"/>
                    </a:lnTo>
                    <a:lnTo>
                      <a:pt x="73" y="786"/>
                    </a:lnTo>
                    <a:lnTo>
                      <a:pt x="40" y="796"/>
                    </a:lnTo>
                    <a:lnTo>
                      <a:pt x="50" y="773"/>
                    </a:lnTo>
                    <a:lnTo>
                      <a:pt x="60" y="750"/>
                    </a:lnTo>
                    <a:lnTo>
                      <a:pt x="66" y="728"/>
                    </a:lnTo>
                    <a:lnTo>
                      <a:pt x="72" y="705"/>
                    </a:lnTo>
                    <a:lnTo>
                      <a:pt x="76" y="682"/>
                    </a:lnTo>
                    <a:lnTo>
                      <a:pt x="78" y="659"/>
                    </a:lnTo>
                    <a:lnTo>
                      <a:pt x="78" y="636"/>
                    </a:lnTo>
                    <a:lnTo>
                      <a:pt x="77" y="614"/>
                    </a:lnTo>
                    <a:lnTo>
                      <a:pt x="73" y="591"/>
                    </a:lnTo>
                    <a:lnTo>
                      <a:pt x="68" y="567"/>
                    </a:lnTo>
                    <a:lnTo>
                      <a:pt x="61" y="544"/>
                    </a:lnTo>
                    <a:lnTo>
                      <a:pt x="53" y="521"/>
                    </a:lnTo>
                    <a:lnTo>
                      <a:pt x="41" y="498"/>
                    </a:lnTo>
                    <a:lnTo>
                      <a:pt x="30" y="475"/>
                    </a:lnTo>
                    <a:lnTo>
                      <a:pt x="16" y="452"/>
                    </a:lnTo>
                    <a:lnTo>
                      <a:pt x="0" y="429"/>
                    </a:lnTo>
                    <a:lnTo>
                      <a:pt x="17" y="390"/>
                    </a:lnTo>
                    <a:lnTo>
                      <a:pt x="36" y="353"/>
                    </a:lnTo>
                    <a:lnTo>
                      <a:pt x="54" y="317"/>
                    </a:lnTo>
                    <a:lnTo>
                      <a:pt x="73" y="284"/>
                    </a:lnTo>
                    <a:lnTo>
                      <a:pt x="93" y="251"/>
                    </a:lnTo>
                    <a:lnTo>
                      <a:pt x="112" y="220"/>
                    </a:lnTo>
                    <a:lnTo>
                      <a:pt x="133" y="192"/>
                    </a:lnTo>
                    <a:lnTo>
                      <a:pt x="154" y="164"/>
                    </a:lnTo>
                    <a:lnTo>
                      <a:pt x="175" y="138"/>
                    </a:lnTo>
                    <a:lnTo>
                      <a:pt x="196" y="113"/>
                    </a:lnTo>
                    <a:lnTo>
                      <a:pt x="219" y="90"/>
                    </a:lnTo>
                    <a:lnTo>
                      <a:pt x="242" y="70"/>
                    </a:lnTo>
                    <a:lnTo>
                      <a:pt x="265" y="50"/>
                    </a:lnTo>
                    <a:lnTo>
                      <a:pt x="288" y="32"/>
                    </a:lnTo>
                    <a:lnTo>
                      <a:pt x="311" y="15"/>
                    </a:lnTo>
                    <a:lnTo>
                      <a:pt x="337" y="0"/>
                    </a:lnTo>
                    <a:close/>
                  </a:path>
                </a:pathLst>
              </a:custGeom>
              <a:solidFill>
                <a:srgbClr val="ac6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4425840" y="2702160"/>
                <a:ext cx="84240" cy="243000"/>
              </a:xfrm>
              <a:custGeom>
                <a:avLst/>
                <a:gdLst/>
                <a:ahLst/>
                <a:rect l="l" t="t" r="r" b="b"/>
                <a:pathLst>
                  <a:path w="265" h="762">
                    <a:moveTo>
                      <a:pt x="250" y="762"/>
                    </a:moveTo>
                    <a:lnTo>
                      <a:pt x="265" y="751"/>
                    </a:lnTo>
                    <a:lnTo>
                      <a:pt x="265" y="725"/>
                    </a:lnTo>
                    <a:lnTo>
                      <a:pt x="264" y="697"/>
                    </a:lnTo>
                    <a:lnTo>
                      <a:pt x="262" y="672"/>
                    </a:lnTo>
                    <a:lnTo>
                      <a:pt x="260" y="646"/>
                    </a:lnTo>
                    <a:lnTo>
                      <a:pt x="256" y="595"/>
                    </a:lnTo>
                    <a:lnTo>
                      <a:pt x="248" y="545"/>
                    </a:lnTo>
                    <a:lnTo>
                      <a:pt x="237" y="496"/>
                    </a:lnTo>
                    <a:lnTo>
                      <a:pt x="226" y="446"/>
                    </a:lnTo>
                    <a:lnTo>
                      <a:pt x="212" y="399"/>
                    </a:lnTo>
                    <a:lnTo>
                      <a:pt x="197" y="352"/>
                    </a:lnTo>
                    <a:lnTo>
                      <a:pt x="180" y="306"/>
                    </a:lnTo>
                    <a:lnTo>
                      <a:pt x="161" y="261"/>
                    </a:lnTo>
                    <a:lnTo>
                      <a:pt x="142" y="215"/>
                    </a:lnTo>
                    <a:lnTo>
                      <a:pt x="120" y="172"/>
                    </a:lnTo>
                    <a:lnTo>
                      <a:pt x="96" y="127"/>
                    </a:lnTo>
                    <a:lnTo>
                      <a:pt x="72" y="84"/>
                    </a:lnTo>
                    <a:lnTo>
                      <a:pt x="47" y="4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26" y="54"/>
                    </a:lnTo>
                    <a:lnTo>
                      <a:pt x="52" y="97"/>
                    </a:lnTo>
                    <a:lnTo>
                      <a:pt x="75" y="139"/>
                    </a:lnTo>
                    <a:lnTo>
                      <a:pt x="98" y="182"/>
                    </a:lnTo>
                    <a:lnTo>
                      <a:pt x="119" y="225"/>
                    </a:lnTo>
                    <a:lnTo>
                      <a:pt x="139" y="270"/>
                    </a:lnTo>
                    <a:lnTo>
                      <a:pt x="158" y="314"/>
                    </a:lnTo>
                    <a:lnTo>
                      <a:pt x="175" y="360"/>
                    </a:lnTo>
                    <a:lnTo>
                      <a:pt x="189" y="407"/>
                    </a:lnTo>
                    <a:lnTo>
                      <a:pt x="203" y="453"/>
                    </a:lnTo>
                    <a:lnTo>
                      <a:pt x="215" y="500"/>
                    </a:lnTo>
                    <a:lnTo>
                      <a:pt x="224" y="549"/>
                    </a:lnTo>
                    <a:lnTo>
                      <a:pt x="232" y="598"/>
                    </a:lnTo>
                    <a:lnTo>
                      <a:pt x="236" y="648"/>
                    </a:lnTo>
                    <a:lnTo>
                      <a:pt x="238" y="673"/>
                    </a:lnTo>
                    <a:lnTo>
                      <a:pt x="240" y="698"/>
                    </a:lnTo>
                    <a:lnTo>
                      <a:pt x="241" y="725"/>
                    </a:lnTo>
                    <a:lnTo>
                      <a:pt x="241" y="751"/>
                    </a:lnTo>
                    <a:lnTo>
                      <a:pt x="256" y="738"/>
                    </a:lnTo>
                    <a:lnTo>
                      <a:pt x="241" y="751"/>
                    </a:lnTo>
                    <a:lnTo>
                      <a:pt x="242" y="755"/>
                    </a:lnTo>
                    <a:lnTo>
                      <a:pt x="244" y="760"/>
                    </a:lnTo>
                    <a:lnTo>
                      <a:pt x="248" y="762"/>
                    </a:lnTo>
                    <a:lnTo>
                      <a:pt x="252" y="762"/>
                    </a:lnTo>
                    <a:lnTo>
                      <a:pt x="257" y="762"/>
                    </a:lnTo>
                    <a:lnTo>
                      <a:pt x="261" y="760"/>
                    </a:lnTo>
                    <a:lnTo>
                      <a:pt x="264" y="755"/>
                    </a:lnTo>
                    <a:lnTo>
                      <a:pt x="265" y="751"/>
                    </a:lnTo>
                    <a:lnTo>
                      <a:pt x="250" y="7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4330800" y="2930760"/>
                <a:ext cx="176040" cy="30240"/>
              </a:xfrm>
              <a:custGeom>
                <a:avLst/>
                <a:gdLst/>
                <a:ahLst/>
                <a:rect l="l" t="t" r="r" b="b"/>
                <a:pathLst>
                  <a:path w="554" h="95">
                    <a:moveTo>
                      <a:pt x="1" y="76"/>
                    </a:moveTo>
                    <a:lnTo>
                      <a:pt x="16" y="93"/>
                    </a:lnTo>
                    <a:lnTo>
                      <a:pt x="49" y="83"/>
                    </a:lnTo>
                    <a:lnTo>
                      <a:pt x="82" y="73"/>
                    </a:lnTo>
                    <a:lnTo>
                      <a:pt x="115" y="64"/>
                    </a:lnTo>
                    <a:lnTo>
                      <a:pt x="148" y="56"/>
                    </a:lnTo>
                    <a:lnTo>
                      <a:pt x="181" y="48"/>
                    </a:lnTo>
                    <a:lnTo>
                      <a:pt x="215" y="41"/>
                    </a:lnTo>
                    <a:lnTo>
                      <a:pt x="248" y="35"/>
                    </a:lnTo>
                    <a:lnTo>
                      <a:pt x="281" y="31"/>
                    </a:lnTo>
                    <a:lnTo>
                      <a:pt x="314" y="27"/>
                    </a:lnTo>
                    <a:lnTo>
                      <a:pt x="348" y="25"/>
                    </a:lnTo>
                    <a:lnTo>
                      <a:pt x="381" y="24"/>
                    </a:lnTo>
                    <a:lnTo>
                      <a:pt x="415" y="25"/>
                    </a:lnTo>
                    <a:lnTo>
                      <a:pt x="448" y="26"/>
                    </a:lnTo>
                    <a:lnTo>
                      <a:pt x="482" y="31"/>
                    </a:lnTo>
                    <a:lnTo>
                      <a:pt x="515" y="36"/>
                    </a:lnTo>
                    <a:lnTo>
                      <a:pt x="548" y="43"/>
                    </a:lnTo>
                    <a:lnTo>
                      <a:pt x="554" y="19"/>
                    </a:lnTo>
                    <a:lnTo>
                      <a:pt x="519" y="12"/>
                    </a:lnTo>
                    <a:lnTo>
                      <a:pt x="484" y="7"/>
                    </a:lnTo>
                    <a:lnTo>
                      <a:pt x="450" y="2"/>
                    </a:lnTo>
                    <a:lnTo>
                      <a:pt x="416" y="0"/>
                    </a:lnTo>
                    <a:lnTo>
                      <a:pt x="381" y="0"/>
                    </a:lnTo>
                    <a:lnTo>
                      <a:pt x="347" y="1"/>
                    </a:lnTo>
                    <a:lnTo>
                      <a:pt x="313" y="3"/>
                    </a:lnTo>
                    <a:lnTo>
                      <a:pt x="279" y="7"/>
                    </a:lnTo>
                    <a:lnTo>
                      <a:pt x="245" y="11"/>
                    </a:lnTo>
                    <a:lnTo>
                      <a:pt x="211" y="17"/>
                    </a:lnTo>
                    <a:lnTo>
                      <a:pt x="176" y="24"/>
                    </a:lnTo>
                    <a:lnTo>
                      <a:pt x="142" y="32"/>
                    </a:lnTo>
                    <a:lnTo>
                      <a:pt x="109" y="41"/>
                    </a:lnTo>
                    <a:lnTo>
                      <a:pt x="75" y="50"/>
                    </a:lnTo>
                    <a:lnTo>
                      <a:pt x="42" y="60"/>
                    </a:lnTo>
                    <a:lnTo>
                      <a:pt x="8" y="71"/>
                    </a:lnTo>
                    <a:lnTo>
                      <a:pt x="22" y="88"/>
                    </a:lnTo>
                    <a:lnTo>
                      <a:pt x="8" y="71"/>
                    </a:lnTo>
                    <a:lnTo>
                      <a:pt x="3" y="73"/>
                    </a:lnTo>
                    <a:lnTo>
                      <a:pt x="1" y="76"/>
                    </a:lnTo>
                    <a:lnTo>
                      <a:pt x="0" y="81"/>
                    </a:lnTo>
                    <a:lnTo>
                      <a:pt x="1" y="85"/>
                    </a:lnTo>
                    <a:lnTo>
                      <a:pt x="2" y="90"/>
                    </a:lnTo>
                    <a:lnTo>
                      <a:pt x="5" y="92"/>
                    </a:lnTo>
                    <a:lnTo>
                      <a:pt x="10" y="95"/>
                    </a:lnTo>
                    <a:lnTo>
                      <a:pt x="16" y="93"/>
                    </a:lnTo>
                    <a:lnTo>
                      <a:pt x="1" y="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317840" y="2837160"/>
                <a:ext cx="33480" cy="122040"/>
              </a:xfrm>
              <a:custGeom>
                <a:avLst/>
                <a:gdLst/>
                <a:ahLst/>
                <a:rect l="l" t="t" r="r" b="b"/>
                <a:pathLst>
                  <a:path w="102" h="386">
                    <a:moveTo>
                      <a:pt x="1" y="7"/>
                    </a:moveTo>
                    <a:lnTo>
                      <a:pt x="2" y="20"/>
                    </a:lnTo>
                    <a:lnTo>
                      <a:pt x="18" y="43"/>
                    </a:lnTo>
                    <a:lnTo>
                      <a:pt x="32" y="64"/>
                    </a:lnTo>
                    <a:lnTo>
                      <a:pt x="43" y="87"/>
                    </a:lnTo>
                    <a:lnTo>
                      <a:pt x="53" y="110"/>
                    </a:lnTo>
                    <a:lnTo>
                      <a:pt x="61" y="133"/>
                    </a:lnTo>
                    <a:lnTo>
                      <a:pt x="68" y="154"/>
                    </a:lnTo>
                    <a:lnTo>
                      <a:pt x="73" y="177"/>
                    </a:lnTo>
                    <a:lnTo>
                      <a:pt x="76" y="199"/>
                    </a:lnTo>
                    <a:lnTo>
                      <a:pt x="78" y="220"/>
                    </a:lnTo>
                    <a:lnTo>
                      <a:pt x="78" y="243"/>
                    </a:lnTo>
                    <a:lnTo>
                      <a:pt x="76" y="265"/>
                    </a:lnTo>
                    <a:lnTo>
                      <a:pt x="73" y="287"/>
                    </a:lnTo>
                    <a:lnTo>
                      <a:pt x="67" y="309"/>
                    </a:lnTo>
                    <a:lnTo>
                      <a:pt x="60" y="331"/>
                    </a:lnTo>
                    <a:lnTo>
                      <a:pt x="51" y="353"/>
                    </a:lnTo>
                    <a:lnTo>
                      <a:pt x="41" y="374"/>
                    </a:lnTo>
                    <a:lnTo>
                      <a:pt x="62" y="386"/>
                    </a:lnTo>
                    <a:lnTo>
                      <a:pt x="74" y="362"/>
                    </a:lnTo>
                    <a:lnTo>
                      <a:pt x="83" y="339"/>
                    </a:lnTo>
                    <a:lnTo>
                      <a:pt x="91" y="315"/>
                    </a:lnTo>
                    <a:lnTo>
                      <a:pt x="97" y="292"/>
                    </a:lnTo>
                    <a:lnTo>
                      <a:pt x="100" y="268"/>
                    </a:lnTo>
                    <a:lnTo>
                      <a:pt x="102" y="244"/>
                    </a:lnTo>
                    <a:lnTo>
                      <a:pt x="102" y="220"/>
                    </a:lnTo>
                    <a:lnTo>
                      <a:pt x="100" y="196"/>
                    </a:lnTo>
                    <a:lnTo>
                      <a:pt x="97" y="173"/>
                    </a:lnTo>
                    <a:lnTo>
                      <a:pt x="92" y="149"/>
                    </a:lnTo>
                    <a:lnTo>
                      <a:pt x="84" y="125"/>
                    </a:lnTo>
                    <a:lnTo>
                      <a:pt x="75" y="101"/>
                    </a:lnTo>
                    <a:lnTo>
                      <a:pt x="65" y="77"/>
                    </a:lnTo>
                    <a:lnTo>
                      <a:pt x="52" y="53"/>
                    </a:lnTo>
                    <a:lnTo>
                      <a:pt x="37" y="29"/>
                    </a:lnTo>
                    <a:lnTo>
                      <a:pt x="21" y="6"/>
                    </a:lnTo>
                    <a:lnTo>
                      <a:pt x="24" y="18"/>
                    </a:lnTo>
                    <a:lnTo>
                      <a:pt x="21" y="6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319640" y="2700720"/>
                <a:ext cx="112680" cy="141120"/>
              </a:xfrm>
              <a:custGeom>
                <a:avLst/>
                <a:gdLst/>
                <a:ahLst/>
                <a:rect l="l" t="t" r="r" b="b"/>
                <a:pathLst>
                  <a:path w="359" h="445">
                    <a:moveTo>
                      <a:pt x="358" y="6"/>
                    </a:moveTo>
                    <a:lnTo>
                      <a:pt x="341" y="1"/>
                    </a:lnTo>
                    <a:lnTo>
                      <a:pt x="317" y="16"/>
                    </a:lnTo>
                    <a:lnTo>
                      <a:pt x="292" y="33"/>
                    </a:lnTo>
                    <a:lnTo>
                      <a:pt x="268" y="51"/>
                    </a:lnTo>
                    <a:lnTo>
                      <a:pt x="245" y="72"/>
                    </a:lnTo>
                    <a:lnTo>
                      <a:pt x="221" y="93"/>
                    </a:lnTo>
                    <a:lnTo>
                      <a:pt x="199" y="116"/>
                    </a:lnTo>
                    <a:lnTo>
                      <a:pt x="177" y="141"/>
                    </a:lnTo>
                    <a:lnTo>
                      <a:pt x="155" y="167"/>
                    </a:lnTo>
                    <a:lnTo>
                      <a:pt x="134" y="196"/>
                    </a:lnTo>
                    <a:lnTo>
                      <a:pt x="114" y="224"/>
                    </a:lnTo>
                    <a:lnTo>
                      <a:pt x="93" y="256"/>
                    </a:lnTo>
                    <a:lnTo>
                      <a:pt x="74" y="288"/>
                    </a:lnTo>
                    <a:lnTo>
                      <a:pt x="55" y="323"/>
                    </a:lnTo>
                    <a:lnTo>
                      <a:pt x="35" y="359"/>
                    </a:lnTo>
                    <a:lnTo>
                      <a:pt x="18" y="395"/>
                    </a:lnTo>
                    <a:lnTo>
                      <a:pt x="0" y="434"/>
                    </a:lnTo>
                    <a:lnTo>
                      <a:pt x="23" y="445"/>
                    </a:lnTo>
                    <a:lnTo>
                      <a:pt x="40" y="406"/>
                    </a:lnTo>
                    <a:lnTo>
                      <a:pt x="57" y="369"/>
                    </a:lnTo>
                    <a:lnTo>
                      <a:pt x="75" y="334"/>
                    </a:lnTo>
                    <a:lnTo>
                      <a:pt x="95" y="301"/>
                    </a:lnTo>
                    <a:lnTo>
                      <a:pt x="114" y="269"/>
                    </a:lnTo>
                    <a:lnTo>
                      <a:pt x="133" y="238"/>
                    </a:lnTo>
                    <a:lnTo>
                      <a:pt x="154" y="210"/>
                    </a:lnTo>
                    <a:lnTo>
                      <a:pt x="174" y="182"/>
                    </a:lnTo>
                    <a:lnTo>
                      <a:pt x="195" y="157"/>
                    </a:lnTo>
                    <a:lnTo>
                      <a:pt x="216" y="133"/>
                    </a:lnTo>
                    <a:lnTo>
                      <a:pt x="238" y="110"/>
                    </a:lnTo>
                    <a:lnTo>
                      <a:pt x="261" y="90"/>
                    </a:lnTo>
                    <a:lnTo>
                      <a:pt x="284" y="71"/>
                    </a:lnTo>
                    <a:lnTo>
                      <a:pt x="306" y="52"/>
                    </a:lnTo>
                    <a:lnTo>
                      <a:pt x="329" y="36"/>
                    </a:lnTo>
                    <a:lnTo>
                      <a:pt x="353" y="23"/>
                    </a:lnTo>
                    <a:lnTo>
                      <a:pt x="337" y="18"/>
                    </a:lnTo>
                    <a:lnTo>
                      <a:pt x="353" y="23"/>
                    </a:lnTo>
                    <a:lnTo>
                      <a:pt x="357" y="19"/>
                    </a:lnTo>
                    <a:lnTo>
                      <a:pt x="359" y="15"/>
                    </a:lnTo>
                    <a:lnTo>
                      <a:pt x="359" y="10"/>
                    </a:lnTo>
                    <a:lnTo>
                      <a:pt x="358" y="6"/>
                    </a:lnTo>
                    <a:lnTo>
                      <a:pt x="354" y="2"/>
                    </a:lnTo>
                    <a:lnTo>
                      <a:pt x="351" y="0"/>
                    </a:lnTo>
                    <a:lnTo>
                      <a:pt x="346" y="0"/>
                    </a:lnTo>
                    <a:lnTo>
                      <a:pt x="341" y="1"/>
                    </a:lnTo>
                    <a:lnTo>
                      <a:pt x="358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97560" y="2954520"/>
                <a:ext cx="846000" cy="368280"/>
              </a:xfrm>
              <a:custGeom>
                <a:avLst/>
                <a:gdLst/>
                <a:ahLst/>
                <a:rect l="l" t="t" r="r" b="b"/>
                <a:pathLst>
                  <a:path w="2666" h="1162">
                    <a:moveTo>
                      <a:pt x="12" y="756"/>
                    </a:moveTo>
                    <a:lnTo>
                      <a:pt x="6" y="724"/>
                    </a:lnTo>
                    <a:lnTo>
                      <a:pt x="1" y="693"/>
                    </a:lnTo>
                    <a:lnTo>
                      <a:pt x="0" y="664"/>
                    </a:lnTo>
                    <a:lnTo>
                      <a:pt x="1" y="634"/>
                    </a:lnTo>
                    <a:lnTo>
                      <a:pt x="4" y="604"/>
                    </a:lnTo>
                    <a:lnTo>
                      <a:pt x="10" y="576"/>
                    </a:lnTo>
                    <a:lnTo>
                      <a:pt x="18" y="548"/>
                    </a:lnTo>
                    <a:lnTo>
                      <a:pt x="28" y="521"/>
                    </a:lnTo>
                    <a:lnTo>
                      <a:pt x="41" y="495"/>
                    </a:lnTo>
                    <a:lnTo>
                      <a:pt x="57" y="469"/>
                    </a:lnTo>
                    <a:lnTo>
                      <a:pt x="74" y="444"/>
                    </a:lnTo>
                    <a:lnTo>
                      <a:pt x="92" y="418"/>
                    </a:lnTo>
                    <a:lnTo>
                      <a:pt x="114" y="394"/>
                    </a:lnTo>
                    <a:lnTo>
                      <a:pt x="138" y="371"/>
                    </a:lnTo>
                    <a:lnTo>
                      <a:pt x="163" y="348"/>
                    </a:lnTo>
                    <a:lnTo>
                      <a:pt x="191" y="325"/>
                    </a:lnTo>
                    <a:lnTo>
                      <a:pt x="220" y="302"/>
                    </a:lnTo>
                    <a:lnTo>
                      <a:pt x="252" y="280"/>
                    </a:lnTo>
                    <a:lnTo>
                      <a:pt x="285" y="260"/>
                    </a:lnTo>
                    <a:lnTo>
                      <a:pt x="320" y="238"/>
                    </a:lnTo>
                    <a:lnTo>
                      <a:pt x="358" y="218"/>
                    </a:lnTo>
                    <a:lnTo>
                      <a:pt x="396" y="197"/>
                    </a:lnTo>
                    <a:lnTo>
                      <a:pt x="437" y="178"/>
                    </a:lnTo>
                    <a:lnTo>
                      <a:pt x="480" y="159"/>
                    </a:lnTo>
                    <a:lnTo>
                      <a:pt x="524" y="139"/>
                    </a:lnTo>
                    <a:lnTo>
                      <a:pt x="570" y="121"/>
                    </a:lnTo>
                    <a:lnTo>
                      <a:pt x="616" y="102"/>
                    </a:lnTo>
                    <a:lnTo>
                      <a:pt x="665" y="83"/>
                    </a:lnTo>
                    <a:lnTo>
                      <a:pt x="716" y="66"/>
                    </a:lnTo>
                    <a:lnTo>
                      <a:pt x="768" y="48"/>
                    </a:lnTo>
                    <a:lnTo>
                      <a:pt x="822" y="31"/>
                    </a:lnTo>
                    <a:lnTo>
                      <a:pt x="876" y="13"/>
                    </a:lnTo>
                    <a:lnTo>
                      <a:pt x="1050" y="6"/>
                    </a:lnTo>
                    <a:lnTo>
                      <a:pt x="1212" y="2"/>
                    </a:lnTo>
                    <a:lnTo>
                      <a:pt x="1290" y="1"/>
                    </a:lnTo>
                    <a:lnTo>
                      <a:pt x="1365" y="0"/>
                    </a:lnTo>
                    <a:lnTo>
                      <a:pt x="1438" y="1"/>
                    </a:lnTo>
                    <a:lnTo>
                      <a:pt x="1509" y="2"/>
                    </a:lnTo>
                    <a:lnTo>
                      <a:pt x="1576" y="5"/>
                    </a:lnTo>
                    <a:lnTo>
                      <a:pt x="1642" y="7"/>
                    </a:lnTo>
                    <a:lnTo>
                      <a:pt x="1706" y="10"/>
                    </a:lnTo>
                    <a:lnTo>
                      <a:pt x="1768" y="16"/>
                    </a:lnTo>
                    <a:lnTo>
                      <a:pt x="1827" y="21"/>
                    </a:lnTo>
                    <a:lnTo>
                      <a:pt x="1884" y="27"/>
                    </a:lnTo>
                    <a:lnTo>
                      <a:pt x="1938" y="35"/>
                    </a:lnTo>
                    <a:lnTo>
                      <a:pt x="1992" y="43"/>
                    </a:lnTo>
                    <a:lnTo>
                      <a:pt x="2043" y="54"/>
                    </a:lnTo>
                    <a:lnTo>
                      <a:pt x="2092" y="64"/>
                    </a:lnTo>
                    <a:lnTo>
                      <a:pt x="2140" y="76"/>
                    </a:lnTo>
                    <a:lnTo>
                      <a:pt x="2186" y="89"/>
                    </a:lnTo>
                    <a:lnTo>
                      <a:pt x="2229" y="103"/>
                    </a:lnTo>
                    <a:lnTo>
                      <a:pt x="2271" y="119"/>
                    </a:lnTo>
                    <a:lnTo>
                      <a:pt x="2312" y="135"/>
                    </a:lnTo>
                    <a:lnTo>
                      <a:pt x="2351" y="153"/>
                    </a:lnTo>
                    <a:lnTo>
                      <a:pt x="2387" y="171"/>
                    </a:lnTo>
                    <a:lnTo>
                      <a:pt x="2424" y="192"/>
                    </a:lnTo>
                    <a:lnTo>
                      <a:pt x="2458" y="213"/>
                    </a:lnTo>
                    <a:lnTo>
                      <a:pt x="2490" y="236"/>
                    </a:lnTo>
                    <a:lnTo>
                      <a:pt x="2522" y="261"/>
                    </a:lnTo>
                    <a:lnTo>
                      <a:pt x="2552" y="286"/>
                    </a:lnTo>
                    <a:lnTo>
                      <a:pt x="2580" y="314"/>
                    </a:lnTo>
                    <a:lnTo>
                      <a:pt x="2607" y="342"/>
                    </a:lnTo>
                    <a:lnTo>
                      <a:pt x="2628" y="379"/>
                    </a:lnTo>
                    <a:lnTo>
                      <a:pt x="2643" y="415"/>
                    </a:lnTo>
                    <a:lnTo>
                      <a:pt x="2654" y="450"/>
                    </a:lnTo>
                    <a:lnTo>
                      <a:pt x="2662" y="486"/>
                    </a:lnTo>
                    <a:lnTo>
                      <a:pt x="2666" y="521"/>
                    </a:lnTo>
                    <a:lnTo>
                      <a:pt x="2666" y="555"/>
                    </a:lnTo>
                    <a:lnTo>
                      <a:pt x="2662" y="588"/>
                    </a:lnTo>
                    <a:lnTo>
                      <a:pt x="2654" y="621"/>
                    </a:lnTo>
                    <a:lnTo>
                      <a:pt x="2644" y="654"/>
                    </a:lnTo>
                    <a:lnTo>
                      <a:pt x="2629" y="685"/>
                    </a:lnTo>
                    <a:lnTo>
                      <a:pt x="2611" y="717"/>
                    </a:lnTo>
                    <a:lnTo>
                      <a:pt x="2590" y="747"/>
                    </a:lnTo>
                    <a:lnTo>
                      <a:pt x="2565" y="778"/>
                    </a:lnTo>
                    <a:lnTo>
                      <a:pt x="2538" y="806"/>
                    </a:lnTo>
                    <a:lnTo>
                      <a:pt x="2507" y="835"/>
                    </a:lnTo>
                    <a:lnTo>
                      <a:pt x="2474" y="861"/>
                    </a:lnTo>
                    <a:lnTo>
                      <a:pt x="2438" y="888"/>
                    </a:lnTo>
                    <a:lnTo>
                      <a:pt x="2398" y="913"/>
                    </a:lnTo>
                    <a:lnTo>
                      <a:pt x="2356" y="938"/>
                    </a:lnTo>
                    <a:lnTo>
                      <a:pt x="2310" y="961"/>
                    </a:lnTo>
                    <a:lnTo>
                      <a:pt x="2263" y="984"/>
                    </a:lnTo>
                    <a:lnTo>
                      <a:pt x="2213" y="1006"/>
                    </a:lnTo>
                    <a:lnTo>
                      <a:pt x="2160" y="1026"/>
                    </a:lnTo>
                    <a:lnTo>
                      <a:pt x="2105" y="1045"/>
                    </a:lnTo>
                    <a:lnTo>
                      <a:pt x="2048" y="1064"/>
                    </a:lnTo>
                    <a:lnTo>
                      <a:pt x="1987" y="1081"/>
                    </a:lnTo>
                    <a:lnTo>
                      <a:pt x="1926" y="1097"/>
                    </a:lnTo>
                    <a:lnTo>
                      <a:pt x="1862" y="1112"/>
                    </a:lnTo>
                    <a:lnTo>
                      <a:pt x="1796" y="1125"/>
                    </a:lnTo>
                    <a:lnTo>
                      <a:pt x="1728" y="1138"/>
                    </a:lnTo>
                    <a:lnTo>
                      <a:pt x="1658" y="1148"/>
                    </a:lnTo>
                    <a:lnTo>
                      <a:pt x="1586" y="1158"/>
                    </a:lnTo>
                    <a:lnTo>
                      <a:pt x="1495" y="1161"/>
                    </a:lnTo>
                    <a:lnTo>
                      <a:pt x="1406" y="1162"/>
                    </a:lnTo>
                    <a:lnTo>
                      <a:pt x="1321" y="1162"/>
                    </a:lnTo>
                    <a:lnTo>
                      <a:pt x="1238" y="1161"/>
                    </a:lnTo>
                    <a:lnTo>
                      <a:pt x="1158" y="1157"/>
                    </a:lnTo>
                    <a:lnTo>
                      <a:pt x="1081" y="1154"/>
                    </a:lnTo>
                    <a:lnTo>
                      <a:pt x="1007" y="1148"/>
                    </a:lnTo>
                    <a:lnTo>
                      <a:pt x="936" y="1141"/>
                    </a:lnTo>
                    <a:lnTo>
                      <a:pt x="867" y="1133"/>
                    </a:lnTo>
                    <a:lnTo>
                      <a:pt x="802" y="1125"/>
                    </a:lnTo>
                    <a:lnTo>
                      <a:pt x="740" y="1115"/>
                    </a:lnTo>
                    <a:lnTo>
                      <a:pt x="679" y="1104"/>
                    </a:lnTo>
                    <a:lnTo>
                      <a:pt x="621" y="1092"/>
                    </a:lnTo>
                    <a:lnTo>
                      <a:pt x="566" y="1080"/>
                    </a:lnTo>
                    <a:lnTo>
                      <a:pt x="515" y="1066"/>
                    </a:lnTo>
                    <a:lnTo>
                      <a:pt x="465" y="1051"/>
                    </a:lnTo>
                    <a:lnTo>
                      <a:pt x="418" y="1036"/>
                    </a:lnTo>
                    <a:lnTo>
                      <a:pt x="374" y="1020"/>
                    </a:lnTo>
                    <a:lnTo>
                      <a:pt x="333" y="1004"/>
                    </a:lnTo>
                    <a:lnTo>
                      <a:pt x="294" y="987"/>
                    </a:lnTo>
                    <a:lnTo>
                      <a:pt x="256" y="969"/>
                    </a:lnTo>
                    <a:lnTo>
                      <a:pt x="222" y="952"/>
                    </a:lnTo>
                    <a:lnTo>
                      <a:pt x="191" y="933"/>
                    </a:lnTo>
                    <a:lnTo>
                      <a:pt x="162" y="914"/>
                    </a:lnTo>
                    <a:lnTo>
                      <a:pt x="134" y="895"/>
                    </a:lnTo>
                    <a:lnTo>
                      <a:pt x="110" y="876"/>
                    </a:lnTo>
                    <a:lnTo>
                      <a:pt x="88" y="856"/>
                    </a:lnTo>
                    <a:lnTo>
                      <a:pt x="68" y="836"/>
                    </a:lnTo>
                    <a:lnTo>
                      <a:pt x="51" y="816"/>
                    </a:lnTo>
                    <a:lnTo>
                      <a:pt x="35" y="796"/>
                    </a:lnTo>
                    <a:lnTo>
                      <a:pt x="23" y="776"/>
                    </a:lnTo>
                    <a:lnTo>
                      <a:pt x="12" y="756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1080" y="2953080"/>
                <a:ext cx="290520" cy="243000"/>
              </a:xfrm>
              <a:custGeom>
                <a:avLst/>
                <a:gdLst/>
                <a:ahLst/>
                <a:rect l="l" t="t" r="r" b="b"/>
                <a:pathLst>
                  <a:path w="913" h="766">
                    <a:moveTo>
                      <a:pt x="893" y="1"/>
                    </a:moveTo>
                    <a:lnTo>
                      <a:pt x="889" y="1"/>
                    </a:lnTo>
                    <a:lnTo>
                      <a:pt x="834" y="19"/>
                    </a:lnTo>
                    <a:lnTo>
                      <a:pt x="780" y="37"/>
                    </a:lnTo>
                    <a:lnTo>
                      <a:pt x="728" y="55"/>
                    </a:lnTo>
                    <a:lnTo>
                      <a:pt x="678" y="72"/>
                    </a:lnTo>
                    <a:lnTo>
                      <a:pt x="629" y="90"/>
                    </a:lnTo>
                    <a:lnTo>
                      <a:pt x="581" y="110"/>
                    </a:lnTo>
                    <a:lnTo>
                      <a:pt x="534" y="128"/>
                    </a:lnTo>
                    <a:lnTo>
                      <a:pt x="490" y="147"/>
                    </a:lnTo>
                    <a:lnTo>
                      <a:pt x="448" y="168"/>
                    </a:lnTo>
                    <a:lnTo>
                      <a:pt x="406" y="187"/>
                    </a:lnTo>
                    <a:lnTo>
                      <a:pt x="367" y="208"/>
                    </a:lnTo>
                    <a:lnTo>
                      <a:pt x="329" y="228"/>
                    </a:lnTo>
                    <a:lnTo>
                      <a:pt x="294" y="250"/>
                    </a:lnTo>
                    <a:lnTo>
                      <a:pt x="259" y="272"/>
                    </a:lnTo>
                    <a:lnTo>
                      <a:pt x="228" y="294"/>
                    </a:lnTo>
                    <a:lnTo>
                      <a:pt x="198" y="316"/>
                    </a:lnTo>
                    <a:lnTo>
                      <a:pt x="169" y="340"/>
                    </a:lnTo>
                    <a:lnTo>
                      <a:pt x="143" y="364"/>
                    </a:lnTo>
                    <a:lnTo>
                      <a:pt x="119" y="388"/>
                    </a:lnTo>
                    <a:lnTo>
                      <a:pt x="96" y="413"/>
                    </a:lnTo>
                    <a:lnTo>
                      <a:pt x="77" y="439"/>
                    </a:lnTo>
                    <a:lnTo>
                      <a:pt x="59" y="465"/>
                    </a:lnTo>
                    <a:lnTo>
                      <a:pt x="43" y="493"/>
                    </a:lnTo>
                    <a:lnTo>
                      <a:pt x="30" y="520"/>
                    </a:lnTo>
                    <a:lnTo>
                      <a:pt x="25" y="534"/>
                    </a:lnTo>
                    <a:lnTo>
                      <a:pt x="19" y="549"/>
                    </a:lnTo>
                    <a:lnTo>
                      <a:pt x="14" y="564"/>
                    </a:lnTo>
                    <a:lnTo>
                      <a:pt x="11" y="577"/>
                    </a:lnTo>
                    <a:lnTo>
                      <a:pt x="8" y="592"/>
                    </a:lnTo>
                    <a:lnTo>
                      <a:pt x="4" y="608"/>
                    </a:lnTo>
                    <a:lnTo>
                      <a:pt x="2" y="623"/>
                    </a:lnTo>
                    <a:lnTo>
                      <a:pt x="1" y="638"/>
                    </a:lnTo>
                    <a:lnTo>
                      <a:pt x="0" y="654"/>
                    </a:lnTo>
                    <a:lnTo>
                      <a:pt x="0" y="670"/>
                    </a:lnTo>
                    <a:lnTo>
                      <a:pt x="1" y="685"/>
                    </a:lnTo>
                    <a:lnTo>
                      <a:pt x="2" y="701"/>
                    </a:lnTo>
                    <a:lnTo>
                      <a:pt x="3" y="717"/>
                    </a:lnTo>
                    <a:lnTo>
                      <a:pt x="5" y="733"/>
                    </a:lnTo>
                    <a:lnTo>
                      <a:pt x="9" y="749"/>
                    </a:lnTo>
                    <a:lnTo>
                      <a:pt x="12" y="766"/>
                    </a:lnTo>
                    <a:lnTo>
                      <a:pt x="47" y="758"/>
                    </a:lnTo>
                    <a:lnTo>
                      <a:pt x="44" y="742"/>
                    </a:lnTo>
                    <a:lnTo>
                      <a:pt x="42" y="728"/>
                    </a:lnTo>
                    <a:lnTo>
                      <a:pt x="40" y="713"/>
                    </a:lnTo>
                    <a:lnTo>
                      <a:pt x="37" y="698"/>
                    </a:lnTo>
                    <a:lnTo>
                      <a:pt x="36" y="683"/>
                    </a:lnTo>
                    <a:lnTo>
                      <a:pt x="36" y="668"/>
                    </a:lnTo>
                    <a:lnTo>
                      <a:pt x="36" y="655"/>
                    </a:lnTo>
                    <a:lnTo>
                      <a:pt x="37" y="641"/>
                    </a:lnTo>
                    <a:lnTo>
                      <a:pt x="38" y="627"/>
                    </a:lnTo>
                    <a:lnTo>
                      <a:pt x="41" y="614"/>
                    </a:lnTo>
                    <a:lnTo>
                      <a:pt x="43" y="600"/>
                    </a:lnTo>
                    <a:lnTo>
                      <a:pt x="45" y="586"/>
                    </a:lnTo>
                    <a:lnTo>
                      <a:pt x="50" y="573"/>
                    </a:lnTo>
                    <a:lnTo>
                      <a:pt x="53" y="560"/>
                    </a:lnTo>
                    <a:lnTo>
                      <a:pt x="58" y="548"/>
                    </a:lnTo>
                    <a:lnTo>
                      <a:pt x="63" y="535"/>
                    </a:lnTo>
                    <a:lnTo>
                      <a:pt x="75" y="509"/>
                    </a:lnTo>
                    <a:lnTo>
                      <a:pt x="90" y="485"/>
                    </a:lnTo>
                    <a:lnTo>
                      <a:pt x="106" y="460"/>
                    </a:lnTo>
                    <a:lnTo>
                      <a:pt x="125" y="436"/>
                    </a:lnTo>
                    <a:lnTo>
                      <a:pt x="146" y="413"/>
                    </a:lnTo>
                    <a:lnTo>
                      <a:pt x="168" y="390"/>
                    </a:lnTo>
                    <a:lnTo>
                      <a:pt x="193" y="367"/>
                    </a:lnTo>
                    <a:lnTo>
                      <a:pt x="220" y="345"/>
                    </a:lnTo>
                    <a:lnTo>
                      <a:pt x="249" y="323"/>
                    </a:lnTo>
                    <a:lnTo>
                      <a:pt x="280" y="302"/>
                    </a:lnTo>
                    <a:lnTo>
                      <a:pt x="313" y="281"/>
                    </a:lnTo>
                    <a:lnTo>
                      <a:pt x="347" y="260"/>
                    </a:lnTo>
                    <a:lnTo>
                      <a:pt x="384" y="240"/>
                    </a:lnTo>
                    <a:lnTo>
                      <a:pt x="422" y="220"/>
                    </a:lnTo>
                    <a:lnTo>
                      <a:pt x="463" y="200"/>
                    </a:lnTo>
                    <a:lnTo>
                      <a:pt x="505" y="180"/>
                    </a:lnTo>
                    <a:lnTo>
                      <a:pt x="549" y="162"/>
                    </a:lnTo>
                    <a:lnTo>
                      <a:pt x="595" y="143"/>
                    </a:lnTo>
                    <a:lnTo>
                      <a:pt x="641" y="125"/>
                    </a:lnTo>
                    <a:lnTo>
                      <a:pt x="690" y="106"/>
                    </a:lnTo>
                    <a:lnTo>
                      <a:pt x="740" y="89"/>
                    </a:lnTo>
                    <a:lnTo>
                      <a:pt x="792" y="71"/>
                    </a:lnTo>
                    <a:lnTo>
                      <a:pt x="845" y="54"/>
                    </a:lnTo>
                    <a:lnTo>
                      <a:pt x="900" y="37"/>
                    </a:lnTo>
                    <a:lnTo>
                      <a:pt x="895" y="37"/>
                    </a:lnTo>
                    <a:lnTo>
                      <a:pt x="900" y="37"/>
                    </a:lnTo>
                    <a:lnTo>
                      <a:pt x="903" y="35"/>
                    </a:lnTo>
                    <a:lnTo>
                      <a:pt x="907" y="32"/>
                    </a:lnTo>
                    <a:lnTo>
                      <a:pt x="909" y="30"/>
                    </a:lnTo>
                    <a:lnTo>
                      <a:pt x="911" y="27"/>
                    </a:lnTo>
                    <a:lnTo>
                      <a:pt x="911" y="24"/>
                    </a:lnTo>
                    <a:lnTo>
                      <a:pt x="913" y="21"/>
                    </a:lnTo>
                    <a:lnTo>
                      <a:pt x="913" y="17"/>
                    </a:lnTo>
                    <a:lnTo>
                      <a:pt x="911" y="14"/>
                    </a:lnTo>
                    <a:lnTo>
                      <a:pt x="910" y="11"/>
                    </a:lnTo>
                    <a:lnTo>
                      <a:pt x="908" y="7"/>
                    </a:lnTo>
                    <a:lnTo>
                      <a:pt x="906" y="5"/>
                    </a:lnTo>
                    <a:lnTo>
                      <a:pt x="903" y="3"/>
                    </a:lnTo>
                    <a:lnTo>
                      <a:pt x="900" y="1"/>
                    </a:lnTo>
                    <a:lnTo>
                      <a:pt x="897" y="0"/>
                    </a:lnTo>
                    <a:lnTo>
                      <a:pt x="893" y="0"/>
                    </a:lnTo>
                    <a:lnTo>
                      <a:pt x="889" y="1"/>
                    </a:lnTo>
                    <a:lnTo>
                      <a:pt x="893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775480" y="2948400"/>
                <a:ext cx="555480" cy="120600"/>
              </a:xfrm>
              <a:custGeom>
                <a:avLst/>
                <a:gdLst/>
                <a:ahLst/>
                <a:rect l="l" t="t" r="r" b="b"/>
                <a:pathLst>
                  <a:path w="1752" h="378">
                    <a:moveTo>
                      <a:pt x="1748" y="351"/>
                    </a:moveTo>
                    <a:lnTo>
                      <a:pt x="1746" y="348"/>
                    </a:lnTo>
                    <a:lnTo>
                      <a:pt x="1719" y="319"/>
                    </a:lnTo>
                    <a:lnTo>
                      <a:pt x="1689" y="291"/>
                    </a:lnTo>
                    <a:lnTo>
                      <a:pt x="1658" y="264"/>
                    </a:lnTo>
                    <a:lnTo>
                      <a:pt x="1626" y="239"/>
                    </a:lnTo>
                    <a:lnTo>
                      <a:pt x="1592" y="216"/>
                    </a:lnTo>
                    <a:lnTo>
                      <a:pt x="1558" y="194"/>
                    </a:lnTo>
                    <a:lnTo>
                      <a:pt x="1522" y="173"/>
                    </a:lnTo>
                    <a:lnTo>
                      <a:pt x="1484" y="154"/>
                    </a:lnTo>
                    <a:lnTo>
                      <a:pt x="1444" y="135"/>
                    </a:lnTo>
                    <a:lnTo>
                      <a:pt x="1403" y="120"/>
                    </a:lnTo>
                    <a:lnTo>
                      <a:pt x="1360" y="104"/>
                    </a:lnTo>
                    <a:lnTo>
                      <a:pt x="1315" y="90"/>
                    </a:lnTo>
                    <a:lnTo>
                      <a:pt x="1270" y="76"/>
                    </a:lnTo>
                    <a:lnTo>
                      <a:pt x="1222" y="65"/>
                    </a:lnTo>
                    <a:lnTo>
                      <a:pt x="1172" y="53"/>
                    </a:lnTo>
                    <a:lnTo>
                      <a:pt x="1120" y="44"/>
                    </a:lnTo>
                    <a:lnTo>
                      <a:pt x="1067" y="35"/>
                    </a:lnTo>
                    <a:lnTo>
                      <a:pt x="1011" y="27"/>
                    </a:lnTo>
                    <a:lnTo>
                      <a:pt x="953" y="21"/>
                    </a:lnTo>
                    <a:lnTo>
                      <a:pt x="894" y="16"/>
                    </a:lnTo>
                    <a:lnTo>
                      <a:pt x="832" y="11"/>
                    </a:lnTo>
                    <a:lnTo>
                      <a:pt x="768" y="7"/>
                    </a:lnTo>
                    <a:lnTo>
                      <a:pt x="702" y="4"/>
                    </a:lnTo>
                    <a:lnTo>
                      <a:pt x="634" y="2"/>
                    </a:lnTo>
                    <a:lnTo>
                      <a:pt x="563" y="1"/>
                    </a:lnTo>
                    <a:lnTo>
                      <a:pt x="490" y="0"/>
                    </a:lnTo>
                    <a:lnTo>
                      <a:pt x="415" y="1"/>
                    </a:lnTo>
                    <a:lnTo>
                      <a:pt x="337" y="2"/>
                    </a:lnTo>
                    <a:lnTo>
                      <a:pt x="173" y="6"/>
                    </a:lnTo>
                    <a:lnTo>
                      <a:pt x="0" y="13"/>
                    </a:lnTo>
                    <a:lnTo>
                      <a:pt x="2" y="49"/>
                    </a:lnTo>
                    <a:lnTo>
                      <a:pt x="175" y="42"/>
                    </a:lnTo>
                    <a:lnTo>
                      <a:pt x="337" y="39"/>
                    </a:lnTo>
                    <a:lnTo>
                      <a:pt x="415" y="37"/>
                    </a:lnTo>
                    <a:lnTo>
                      <a:pt x="490" y="36"/>
                    </a:lnTo>
                    <a:lnTo>
                      <a:pt x="563" y="37"/>
                    </a:lnTo>
                    <a:lnTo>
                      <a:pt x="633" y="39"/>
                    </a:lnTo>
                    <a:lnTo>
                      <a:pt x="701" y="41"/>
                    </a:lnTo>
                    <a:lnTo>
                      <a:pt x="766" y="43"/>
                    </a:lnTo>
                    <a:lnTo>
                      <a:pt x="830" y="47"/>
                    </a:lnTo>
                    <a:lnTo>
                      <a:pt x="891" y="51"/>
                    </a:lnTo>
                    <a:lnTo>
                      <a:pt x="949" y="57"/>
                    </a:lnTo>
                    <a:lnTo>
                      <a:pt x="1006" y="64"/>
                    </a:lnTo>
                    <a:lnTo>
                      <a:pt x="1061" y="72"/>
                    </a:lnTo>
                    <a:lnTo>
                      <a:pt x="1114" y="80"/>
                    </a:lnTo>
                    <a:lnTo>
                      <a:pt x="1165" y="89"/>
                    </a:lnTo>
                    <a:lnTo>
                      <a:pt x="1214" y="100"/>
                    </a:lnTo>
                    <a:lnTo>
                      <a:pt x="1261" y="112"/>
                    </a:lnTo>
                    <a:lnTo>
                      <a:pt x="1305" y="124"/>
                    </a:lnTo>
                    <a:lnTo>
                      <a:pt x="1348" y="138"/>
                    </a:lnTo>
                    <a:lnTo>
                      <a:pt x="1391" y="153"/>
                    </a:lnTo>
                    <a:lnTo>
                      <a:pt x="1429" y="170"/>
                    </a:lnTo>
                    <a:lnTo>
                      <a:pt x="1468" y="187"/>
                    </a:lnTo>
                    <a:lnTo>
                      <a:pt x="1505" y="205"/>
                    </a:lnTo>
                    <a:lnTo>
                      <a:pt x="1540" y="226"/>
                    </a:lnTo>
                    <a:lnTo>
                      <a:pt x="1573" y="246"/>
                    </a:lnTo>
                    <a:lnTo>
                      <a:pt x="1605" y="269"/>
                    </a:lnTo>
                    <a:lnTo>
                      <a:pt x="1636" y="293"/>
                    </a:lnTo>
                    <a:lnTo>
                      <a:pt x="1665" y="318"/>
                    </a:lnTo>
                    <a:lnTo>
                      <a:pt x="1693" y="344"/>
                    </a:lnTo>
                    <a:lnTo>
                      <a:pt x="1720" y="373"/>
                    </a:lnTo>
                    <a:lnTo>
                      <a:pt x="1718" y="369"/>
                    </a:lnTo>
                    <a:lnTo>
                      <a:pt x="1720" y="373"/>
                    </a:lnTo>
                    <a:lnTo>
                      <a:pt x="1722" y="375"/>
                    </a:lnTo>
                    <a:lnTo>
                      <a:pt x="1726" y="377"/>
                    </a:lnTo>
                    <a:lnTo>
                      <a:pt x="1729" y="378"/>
                    </a:lnTo>
                    <a:lnTo>
                      <a:pt x="1732" y="378"/>
                    </a:lnTo>
                    <a:lnTo>
                      <a:pt x="1736" y="378"/>
                    </a:lnTo>
                    <a:lnTo>
                      <a:pt x="1739" y="377"/>
                    </a:lnTo>
                    <a:lnTo>
                      <a:pt x="1743" y="376"/>
                    </a:lnTo>
                    <a:lnTo>
                      <a:pt x="1745" y="374"/>
                    </a:lnTo>
                    <a:lnTo>
                      <a:pt x="1747" y="371"/>
                    </a:lnTo>
                    <a:lnTo>
                      <a:pt x="1750" y="368"/>
                    </a:lnTo>
                    <a:lnTo>
                      <a:pt x="1751" y="366"/>
                    </a:lnTo>
                    <a:lnTo>
                      <a:pt x="1752" y="362"/>
                    </a:lnTo>
                    <a:lnTo>
                      <a:pt x="1752" y="359"/>
                    </a:lnTo>
                    <a:lnTo>
                      <a:pt x="1751" y="354"/>
                    </a:lnTo>
                    <a:lnTo>
                      <a:pt x="1748" y="351"/>
                    </a:lnTo>
                    <a:lnTo>
                      <a:pt x="1746" y="348"/>
                    </a:lnTo>
                    <a:lnTo>
                      <a:pt x="1748" y="3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996160" y="3061080"/>
                <a:ext cx="353880" cy="266760"/>
              </a:xfrm>
              <a:custGeom>
                <a:avLst/>
                <a:gdLst/>
                <a:ahLst/>
                <a:rect l="l" t="t" r="r" b="b"/>
                <a:pathLst>
                  <a:path w="1116" h="844">
                    <a:moveTo>
                      <a:pt x="18" y="844"/>
                    </a:moveTo>
                    <a:lnTo>
                      <a:pt x="21" y="844"/>
                    </a:lnTo>
                    <a:lnTo>
                      <a:pt x="92" y="833"/>
                    </a:lnTo>
                    <a:lnTo>
                      <a:pt x="163" y="823"/>
                    </a:lnTo>
                    <a:lnTo>
                      <a:pt x="231" y="810"/>
                    </a:lnTo>
                    <a:lnTo>
                      <a:pt x="298" y="797"/>
                    </a:lnTo>
                    <a:lnTo>
                      <a:pt x="362" y="782"/>
                    </a:lnTo>
                    <a:lnTo>
                      <a:pt x="424" y="766"/>
                    </a:lnTo>
                    <a:lnTo>
                      <a:pt x="484" y="748"/>
                    </a:lnTo>
                    <a:lnTo>
                      <a:pt x="543" y="730"/>
                    </a:lnTo>
                    <a:lnTo>
                      <a:pt x="598" y="710"/>
                    </a:lnTo>
                    <a:lnTo>
                      <a:pt x="652" y="690"/>
                    </a:lnTo>
                    <a:lnTo>
                      <a:pt x="702" y="668"/>
                    </a:lnTo>
                    <a:lnTo>
                      <a:pt x="750" y="644"/>
                    </a:lnTo>
                    <a:lnTo>
                      <a:pt x="796" y="620"/>
                    </a:lnTo>
                    <a:lnTo>
                      <a:pt x="839" y="596"/>
                    </a:lnTo>
                    <a:lnTo>
                      <a:pt x="859" y="582"/>
                    </a:lnTo>
                    <a:lnTo>
                      <a:pt x="880" y="570"/>
                    </a:lnTo>
                    <a:lnTo>
                      <a:pt x="898" y="556"/>
                    </a:lnTo>
                    <a:lnTo>
                      <a:pt x="916" y="543"/>
                    </a:lnTo>
                    <a:lnTo>
                      <a:pt x="935" y="529"/>
                    </a:lnTo>
                    <a:lnTo>
                      <a:pt x="952" y="515"/>
                    </a:lnTo>
                    <a:lnTo>
                      <a:pt x="968" y="500"/>
                    </a:lnTo>
                    <a:lnTo>
                      <a:pt x="982" y="486"/>
                    </a:lnTo>
                    <a:lnTo>
                      <a:pt x="997" y="471"/>
                    </a:lnTo>
                    <a:lnTo>
                      <a:pt x="1011" y="456"/>
                    </a:lnTo>
                    <a:lnTo>
                      <a:pt x="1025" y="441"/>
                    </a:lnTo>
                    <a:lnTo>
                      <a:pt x="1036" y="425"/>
                    </a:lnTo>
                    <a:lnTo>
                      <a:pt x="1047" y="409"/>
                    </a:lnTo>
                    <a:lnTo>
                      <a:pt x="1059" y="393"/>
                    </a:lnTo>
                    <a:lnTo>
                      <a:pt x="1068" y="377"/>
                    </a:lnTo>
                    <a:lnTo>
                      <a:pt x="1077" y="361"/>
                    </a:lnTo>
                    <a:lnTo>
                      <a:pt x="1085" y="344"/>
                    </a:lnTo>
                    <a:lnTo>
                      <a:pt x="1092" y="327"/>
                    </a:lnTo>
                    <a:lnTo>
                      <a:pt x="1099" y="310"/>
                    </a:lnTo>
                    <a:lnTo>
                      <a:pt x="1103" y="293"/>
                    </a:lnTo>
                    <a:lnTo>
                      <a:pt x="1108" y="276"/>
                    </a:lnTo>
                    <a:lnTo>
                      <a:pt x="1111" y="259"/>
                    </a:lnTo>
                    <a:lnTo>
                      <a:pt x="1114" y="240"/>
                    </a:lnTo>
                    <a:lnTo>
                      <a:pt x="1116" y="222"/>
                    </a:lnTo>
                    <a:lnTo>
                      <a:pt x="1116" y="205"/>
                    </a:lnTo>
                    <a:lnTo>
                      <a:pt x="1116" y="187"/>
                    </a:lnTo>
                    <a:lnTo>
                      <a:pt x="1115" y="169"/>
                    </a:lnTo>
                    <a:lnTo>
                      <a:pt x="1111" y="150"/>
                    </a:lnTo>
                    <a:lnTo>
                      <a:pt x="1108" y="131"/>
                    </a:lnTo>
                    <a:lnTo>
                      <a:pt x="1104" y="113"/>
                    </a:lnTo>
                    <a:lnTo>
                      <a:pt x="1099" y="95"/>
                    </a:lnTo>
                    <a:lnTo>
                      <a:pt x="1092" y="75"/>
                    </a:lnTo>
                    <a:lnTo>
                      <a:pt x="1084" y="57"/>
                    </a:lnTo>
                    <a:lnTo>
                      <a:pt x="1076" y="38"/>
                    </a:lnTo>
                    <a:lnTo>
                      <a:pt x="1066" y="19"/>
                    </a:lnTo>
                    <a:lnTo>
                      <a:pt x="1055" y="0"/>
                    </a:lnTo>
                    <a:lnTo>
                      <a:pt x="1025" y="18"/>
                    </a:lnTo>
                    <a:lnTo>
                      <a:pt x="1034" y="36"/>
                    </a:lnTo>
                    <a:lnTo>
                      <a:pt x="1043" y="54"/>
                    </a:lnTo>
                    <a:lnTo>
                      <a:pt x="1051" y="71"/>
                    </a:lnTo>
                    <a:lnTo>
                      <a:pt x="1058" y="88"/>
                    </a:lnTo>
                    <a:lnTo>
                      <a:pt x="1063" y="105"/>
                    </a:lnTo>
                    <a:lnTo>
                      <a:pt x="1069" y="122"/>
                    </a:lnTo>
                    <a:lnTo>
                      <a:pt x="1072" y="139"/>
                    </a:lnTo>
                    <a:lnTo>
                      <a:pt x="1076" y="156"/>
                    </a:lnTo>
                    <a:lnTo>
                      <a:pt x="1078" y="172"/>
                    </a:lnTo>
                    <a:lnTo>
                      <a:pt x="1079" y="188"/>
                    </a:lnTo>
                    <a:lnTo>
                      <a:pt x="1079" y="205"/>
                    </a:lnTo>
                    <a:lnTo>
                      <a:pt x="1079" y="221"/>
                    </a:lnTo>
                    <a:lnTo>
                      <a:pt x="1078" y="237"/>
                    </a:lnTo>
                    <a:lnTo>
                      <a:pt x="1076" y="252"/>
                    </a:lnTo>
                    <a:lnTo>
                      <a:pt x="1072" y="268"/>
                    </a:lnTo>
                    <a:lnTo>
                      <a:pt x="1069" y="284"/>
                    </a:lnTo>
                    <a:lnTo>
                      <a:pt x="1065" y="299"/>
                    </a:lnTo>
                    <a:lnTo>
                      <a:pt x="1059" y="315"/>
                    </a:lnTo>
                    <a:lnTo>
                      <a:pt x="1052" y="329"/>
                    </a:lnTo>
                    <a:lnTo>
                      <a:pt x="1045" y="344"/>
                    </a:lnTo>
                    <a:lnTo>
                      <a:pt x="1037" y="359"/>
                    </a:lnTo>
                    <a:lnTo>
                      <a:pt x="1028" y="374"/>
                    </a:lnTo>
                    <a:lnTo>
                      <a:pt x="1018" y="389"/>
                    </a:lnTo>
                    <a:lnTo>
                      <a:pt x="1008" y="403"/>
                    </a:lnTo>
                    <a:lnTo>
                      <a:pt x="996" y="417"/>
                    </a:lnTo>
                    <a:lnTo>
                      <a:pt x="984" y="432"/>
                    </a:lnTo>
                    <a:lnTo>
                      <a:pt x="971" y="446"/>
                    </a:lnTo>
                    <a:lnTo>
                      <a:pt x="957" y="460"/>
                    </a:lnTo>
                    <a:lnTo>
                      <a:pt x="943" y="474"/>
                    </a:lnTo>
                    <a:lnTo>
                      <a:pt x="928" y="487"/>
                    </a:lnTo>
                    <a:lnTo>
                      <a:pt x="912" y="500"/>
                    </a:lnTo>
                    <a:lnTo>
                      <a:pt x="895" y="514"/>
                    </a:lnTo>
                    <a:lnTo>
                      <a:pt x="878" y="527"/>
                    </a:lnTo>
                    <a:lnTo>
                      <a:pt x="859" y="539"/>
                    </a:lnTo>
                    <a:lnTo>
                      <a:pt x="840" y="552"/>
                    </a:lnTo>
                    <a:lnTo>
                      <a:pt x="821" y="564"/>
                    </a:lnTo>
                    <a:lnTo>
                      <a:pt x="778" y="589"/>
                    </a:lnTo>
                    <a:lnTo>
                      <a:pt x="734" y="612"/>
                    </a:lnTo>
                    <a:lnTo>
                      <a:pt x="687" y="635"/>
                    </a:lnTo>
                    <a:lnTo>
                      <a:pt x="638" y="655"/>
                    </a:lnTo>
                    <a:lnTo>
                      <a:pt x="586" y="676"/>
                    </a:lnTo>
                    <a:lnTo>
                      <a:pt x="531" y="695"/>
                    </a:lnTo>
                    <a:lnTo>
                      <a:pt x="474" y="714"/>
                    </a:lnTo>
                    <a:lnTo>
                      <a:pt x="415" y="731"/>
                    </a:lnTo>
                    <a:lnTo>
                      <a:pt x="353" y="747"/>
                    </a:lnTo>
                    <a:lnTo>
                      <a:pt x="290" y="761"/>
                    </a:lnTo>
                    <a:lnTo>
                      <a:pt x="225" y="774"/>
                    </a:lnTo>
                    <a:lnTo>
                      <a:pt x="157" y="787"/>
                    </a:lnTo>
                    <a:lnTo>
                      <a:pt x="88" y="798"/>
                    </a:lnTo>
                    <a:lnTo>
                      <a:pt x="16" y="807"/>
                    </a:lnTo>
                    <a:lnTo>
                      <a:pt x="17" y="807"/>
                    </a:lnTo>
                    <a:lnTo>
                      <a:pt x="16" y="807"/>
                    </a:lnTo>
                    <a:lnTo>
                      <a:pt x="11" y="808"/>
                    </a:lnTo>
                    <a:lnTo>
                      <a:pt x="8" y="809"/>
                    </a:lnTo>
                    <a:lnTo>
                      <a:pt x="6" y="812"/>
                    </a:lnTo>
                    <a:lnTo>
                      <a:pt x="3" y="814"/>
                    </a:lnTo>
                    <a:lnTo>
                      <a:pt x="1" y="817"/>
                    </a:lnTo>
                    <a:lnTo>
                      <a:pt x="0" y="821"/>
                    </a:lnTo>
                    <a:lnTo>
                      <a:pt x="0" y="824"/>
                    </a:lnTo>
                    <a:lnTo>
                      <a:pt x="0" y="828"/>
                    </a:lnTo>
                    <a:lnTo>
                      <a:pt x="1" y="831"/>
                    </a:lnTo>
                    <a:lnTo>
                      <a:pt x="2" y="833"/>
                    </a:lnTo>
                    <a:lnTo>
                      <a:pt x="3" y="837"/>
                    </a:lnTo>
                    <a:lnTo>
                      <a:pt x="6" y="839"/>
                    </a:lnTo>
                    <a:lnTo>
                      <a:pt x="9" y="841"/>
                    </a:lnTo>
                    <a:lnTo>
                      <a:pt x="13" y="842"/>
                    </a:lnTo>
                    <a:lnTo>
                      <a:pt x="16" y="844"/>
                    </a:lnTo>
                    <a:lnTo>
                      <a:pt x="21" y="844"/>
                    </a:lnTo>
                    <a:lnTo>
                      <a:pt x="18" y="8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495760" y="3189600"/>
                <a:ext cx="505080" cy="139680"/>
              </a:xfrm>
              <a:custGeom>
                <a:avLst/>
                <a:gdLst/>
                <a:ahLst/>
                <a:rect l="l" t="t" r="r" b="b"/>
                <a:pathLst>
                  <a:path w="1592" h="442">
                    <a:moveTo>
                      <a:pt x="0" y="22"/>
                    </a:moveTo>
                    <a:lnTo>
                      <a:pt x="1" y="26"/>
                    </a:lnTo>
                    <a:lnTo>
                      <a:pt x="13" y="48"/>
                    </a:lnTo>
                    <a:lnTo>
                      <a:pt x="26" y="69"/>
                    </a:lnTo>
                    <a:lnTo>
                      <a:pt x="42" y="90"/>
                    </a:lnTo>
                    <a:lnTo>
                      <a:pt x="61" y="110"/>
                    </a:lnTo>
                    <a:lnTo>
                      <a:pt x="81" y="131"/>
                    </a:lnTo>
                    <a:lnTo>
                      <a:pt x="105" y="151"/>
                    </a:lnTo>
                    <a:lnTo>
                      <a:pt x="130" y="172"/>
                    </a:lnTo>
                    <a:lnTo>
                      <a:pt x="157" y="191"/>
                    </a:lnTo>
                    <a:lnTo>
                      <a:pt x="187" y="211"/>
                    </a:lnTo>
                    <a:lnTo>
                      <a:pt x="220" y="230"/>
                    </a:lnTo>
                    <a:lnTo>
                      <a:pt x="254" y="248"/>
                    </a:lnTo>
                    <a:lnTo>
                      <a:pt x="292" y="265"/>
                    </a:lnTo>
                    <a:lnTo>
                      <a:pt x="332" y="282"/>
                    </a:lnTo>
                    <a:lnTo>
                      <a:pt x="374" y="299"/>
                    </a:lnTo>
                    <a:lnTo>
                      <a:pt x="418" y="315"/>
                    </a:lnTo>
                    <a:lnTo>
                      <a:pt x="466" y="330"/>
                    </a:lnTo>
                    <a:lnTo>
                      <a:pt x="516" y="345"/>
                    </a:lnTo>
                    <a:lnTo>
                      <a:pt x="569" y="359"/>
                    </a:lnTo>
                    <a:lnTo>
                      <a:pt x="624" y="371"/>
                    </a:lnTo>
                    <a:lnTo>
                      <a:pt x="682" y="384"/>
                    </a:lnTo>
                    <a:lnTo>
                      <a:pt x="742" y="395"/>
                    </a:lnTo>
                    <a:lnTo>
                      <a:pt x="805" y="404"/>
                    </a:lnTo>
                    <a:lnTo>
                      <a:pt x="871" y="413"/>
                    </a:lnTo>
                    <a:lnTo>
                      <a:pt x="940" y="421"/>
                    </a:lnTo>
                    <a:lnTo>
                      <a:pt x="1012" y="428"/>
                    </a:lnTo>
                    <a:lnTo>
                      <a:pt x="1086" y="434"/>
                    </a:lnTo>
                    <a:lnTo>
                      <a:pt x="1164" y="437"/>
                    </a:lnTo>
                    <a:lnTo>
                      <a:pt x="1244" y="441"/>
                    </a:lnTo>
                    <a:lnTo>
                      <a:pt x="1327" y="442"/>
                    </a:lnTo>
                    <a:lnTo>
                      <a:pt x="1412" y="442"/>
                    </a:lnTo>
                    <a:lnTo>
                      <a:pt x="1501" y="441"/>
                    </a:lnTo>
                    <a:lnTo>
                      <a:pt x="1592" y="439"/>
                    </a:lnTo>
                    <a:lnTo>
                      <a:pt x="1591" y="402"/>
                    </a:lnTo>
                    <a:lnTo>
                      <a:pt x="1500" y="404"/>
                    </a:lnTo>
                    <a:lnTo>
                      <a:pt x="1412" y="405"/>
                    </a:lnTo>
                    <a:lnTo>
                      <a:pt x="1327" y="405"/>
                    </a:lnTo>
                    <a:lnTo>
                      <a:pt x="1245" y="404"/>
                    </a:lnTo>
                    <a:lnTo>
                      <a:pt x="1165" y="402"/>
                    </a:lnTo>
                    <a:lnTo>
                      <a:pt x="1089" y="397"/>
                    </a:lnTo>
                    <a:lnTo>
                      <a:pt x="1014" y="392"/>
                    </a:lnTo>
                    <a:lnTo>
                      <a:pt x="944" y="385"/>
                    </a:lnTo>
                    <a:lnTo>
                      <a:pt x="875" y="377"/>
                    </a:lnTo>
                    <a:lnTo>
                      <a:pt x="810" y="369"/>
                    </a:lnTo>
                    <a:lnTo>
                      <a:pt x="748" y="359"/>
                    </a:lnTo>
                    <a:lnTo>
                      <a:pt x="689" y="348"/>
                    </a:lnTo>
                    <a:lnTo>
                      <a:pt x="632" y="336"/>
                    </a:lnTo>
                    <a:lnTo>
                      <a:pt x="577" y="323"/>
                    </a:lnTo>
                    <a:lnTo>
                      <a:pt x="526" y="310"/>
                    </a:lnTo>
                    <a:lnTo>
                      <a:pt x="477" y="296"/>
                    </a:lnTo>
                    <a:lnTo>
                      <a:pt x="430" y="281"/>
                    </a:lnTo>
                    <a:lnTo>
                      <a:pt x="387" y="265"/>
                    </a:lnTo>
                    <a:lnTo>
                      <a:pt x="345" y="249"/>
                    </a:lnTo>
                    <a:lnTo>
                      <a:pt x="307" y="232"/>
                    </a:lnTo>
                    <a:lnTo>
                      <a:pt x="270" y="215"/>
                    </a:lnTo>
                    <a:lnTo>
                      <a:pt x="237" y="198"/>
                    </a:lnTo>
                    <a:lnTo>
                      <a:pt x="206" y="180"/>
                    </a:lnTo>
                    <a:lnTo>
                      <a:pt x="178" y="162"/>
                    </a:lnTo>
                    <a:lnTo>
                      <a:pt x="152" y="142"/>
                    </a:lnTo>
                    <a:lnTo>
                      <a:pt x="128" y="124"/>
                    </a:lnTo>
                    <a:lnTo>
                      <a:pt x="106" y="105"/>
                    </a:lnTo>
                    <a:lnTo>
                      <a:pt x="88" y="86"/>
                    </a:lnTo>
                    <a:lnTo>
                      <a:pt x="71" y="67"/>
                    </a:lnTo>
                    <a:lnTo>
                      <a:pt x="56" y="48"/>
                    </a:lnTo>
                    <a:lnTo>
                      <a:pt x="45" y="29"/>
                    </a:lnTo>
                    <a:lnTo>
                      <a:pt x="34" y="10"/>
                    </a:lnTo>
                    <a:lnTo>
                      <a:pt x="35" y="14"/>
                    </a:lnTo>
                    <a:lnTo>
                      <a:pt x="34" y="10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86480" y="3000600"/>
                <a:ext cx="695160" cy="282600"/>
              </a:xfrm>
              <a:custGeom>
                <a:avLst/>
                <a:gdLst/>
                <a:ahLst/>
                <a:rect l="l" t="t" r="r" b="b"/>
                <a:pathLst>
                  <a:path w="2192" h="889">
                    <a:moveTo>
                      <a:pt x="6" y="612"/>
                    </a:moveTo>
                    <a:lnTo>
                      <a:pt x="3" y="579"/>
                    </a:lnTo>
                    <a:lnTo>
                      <a:pt x="1" y="547"/>
                    </a:lnTo>
                    <a:lnTo>
                      <a:pt x="0" y="517"/>
                    </a:lnTo>
                    <a:lnTo>
                      <a:pt x="1" y="489"/>
                    </a:lnTo>
                    <a:lnTo>
                      <a:pt x="2" y="461"/>
                    </a:lnTo>
                    <a:lnTo>
                      <a:pt x="6" y="435"/>
                    </a:lnTo>
                    <a:lnTo>
                      <a:pt x="10" y="411"/>
                    </a:lnTo>
                    <a:lnTo>
                      <a:pt x="16" y="388"/>
                    </a:lnTo>
                    <a:lnTo>
                      <a:pt x="23" y="367"/>
                    </a:lnTo>
                    <a:lnTo>
                      <a:pt x="31" y="346"/>
                    </a:lnTo>
                    <a:lnTo>
                      <a:pt x="41" y="326"/>
                    </a:lnTo>
                    <a:lnTo>
                      <a:pt x="52" y="307"/>
                    </a:lnTo>
                    <a:lnTo>
                      <a:pt x="65" y="290"/>
                    </a:lnTo>
                    <a:lnTo>
                      <a:pt x="80" y="273"/>
                    </a:lnTo>
                    <a:lnTo>
                      <a:pt x="96" y="256"/>
                    </a:lnTo>
                    <a:lnTo>
                      <a:pt x="114" y="241"/>
                    </a:lnTo>
                    <a:lnTo>
                      <a:pt x="133" y="227"/>
                    </a:lnTo>
                    <a:lnTo>
                      <a:pt x="155" y="212"/>
                    </a:lnTo>
                    <a:lnTo>
                      <a:pt x="179" y="198"/>
                    </a:lnTo>
                    <a:lnTo>
                      <a:pt x="204" y="184"/>
                    </a:lnTo>
                    <a:lnTo>
                      <a:pt x="231" y="171"/>
                    </a:lnTo>
                    <a:lnTo>
                      <a:pt x="261" y="157"/>
                    </a:lnTo>
                    <a:lnTo>
                      <a:pt x="292" y="144"/>
                    </a:lnTo>
                    <a:lnTo>
                      <a:pt x="325" y="131"/>
                    </a:lnTo>
                    <a:lnTo>
                      <a:pt x="399" y="105"/>
                    </a:lnTo>
                    <a:lnTo>
                      <a:pt x="481" y="77"/>
                    </a:lnTo>
                    <a:lnTo>
                      <a:pt x="572" y="49"/>
                    </a:lnTo>
                    <a:lnTo>
                      <a:pt x="672" y="18"/>
                    </a:lnTo>
                    <a:lnTo>
                      <a:pt x="843" y="11"/>
                    </a:lnTo>
                    <a:lnTo>
                      <a:pt x="999" y="5"/>
                    </a:lnTo>
                    <a:lnTo>
                      <a:pt x="1142" y="1"/>
                    </a:lnTo>
                    <a:lnTo>
                      <a:pt x="1271" y="0"/>
                    </a:lnTo>
                    <a:lnTo>
                      <a:pt x="1331" y="1"/>
                    </a:lnTo>
                    <a:lnTo>
                      <a:pt x="1388" y="2"/>
                    </a:lnTo>
                    <a:lnTo>
                      <a:pt x="1443" y="3"/>
                    </a:lnTo>
                    <a:lnTo>
                      <a:pt x="1495" y="7"/>
                    </a:lnTo>
                    <a:lnTo>
                      <a:pt x="1545" y="10"/>
                    </a:lnTo>
                    <a:lnTo>
                      <a:pt x="1592" y="15"/>
                    </a:lnTo>
                    <a:lnTo>
                      <a:pt x="1638" y="20"/>
                    </a:lnTo>
                    <a:lnTo>
                      <a:pt x="1680" y="26"/>
                    </a:lnTo>
                    <a:lnTo>
                      <a:pt x="1721" y="34"/>
                    </a:lnTo>
                    <a:lnTo>
                      <a:pt x="1761" y="42"/>
                    </a:lnTo>
                    <a:lnTo>
                      <a:pt x="1798" y="52"/>
                    </a:lnTo>
                    <a:lnTo>
                      <a:pt x="1834" y="64"/>
                    </a:lnTo>
                    <a:lnTo>
                      <a:pt x="1869" y="75"/>
                    </a:lnTo>
                    <a:lnTo>
                      <a:pt x="1902" y="89"/>
                    </a:lnTo>
                    <a:lnTo>
                      <a:pt x="1934" y="103"/>
                    </a:lnTo>
                    <a:lnTo>
                      <a:pt x="1965" y="119"/>
                    </a:lnTo>
                    <a:lnTo>
                      <a:pt x="1994" y="136"/>
                    </a:lnTo>
                    <a:lnTo>
                      <a:pt x="2024" y="156"/>
                    </a:lnTo>
                    <a:lnTo>
                      <a:pt x="2053" y="176"/>
                    </a:lnTo>
                    <a:lnTo>
                      <a:pt x="2080" y="198"/>
                    </a:lnTo>
                    <a:lnTo>
                      <a:pt x="2107" y="222"/>
                    </a:lnTo>
                    <a:lnTo>
                      <a:pt x="2135" y="247"/>
                    </a:lnTo>
                    <a:lnTo>
                      <a:pt x="2161" y="273"/>
                    </a:lnTo>
                    <a:lnTo>
                      <a:pt x="2188" y="302"/>
                    </a:lnTo>
                    <a:lnTo>
                      <a:pt x="2192" y="338"/>
                    </a:lnTo>
                    <a:lnTo>
                      <a:pt x="2192" y="372"/>
                    </a:lnTo>
                    <a:lnTo>
                      <a:pt x="2190" y="406"/>
                    </a:lnTo>
                    <a:lnTo>
                      <a:pt x="2187" y="436"/>
                    </a:lnTo>
                    <a:lnTo>
                      <a:pt x="2180" y="466"/>
                    </a:lnTo>
                    <a:lnTo>
                      <a:pt x="2172" y="493"/>
                    </a:lnTo>
                    <a:lnTo>
                      <a:pt x="2162" y="520"/>
                    </a:lnTo>
                    <a:lnTo>
                      <a:pt x="2149" y="545"/>
                    </a:lnTo>
                    <a:lnTo>
                      <a:pt x="2135" y="569"/>
                    </a:lnTo>
                    <a:lnTo>
                      <a:pt x="2117" y="591"/>
                    </a:lnTo>
                    <a:lnTo>
                      <a:pt x="2099" y="613"/>
                    </a:lnTo>
                    <a:lnTo>
                      <a:pt x="2078" y="632"/>
                    </a:lnTo>
                    <a:lnTo>
                      <a:pt x="2055" y="652"/>
                    </a:lnTo>
                    <a:lnTo>
                      <a:pt x="2030" y="670"/>
                    </a:lnTo>
                    <a:lnTo>
                      <a:pt x="2003" y="687"/>
                    </a:lnTo>
                    <a:lnTo>
                      <a:pt x="1974" y="703"/>
                    </a:lnTo>
                    <a:lnTo>
                      <a:pt x="1943" y="718"/>
                    </a:lnTo>
                    <a:lnTo>
                      <a:pt x="1911" y="733"/>
                    </a:lnTo>
                    <a:lnTo>
                      <a:pt x="1877" y="746"/>
                    </a:lnTo>
                    <a:lnTo>
                      <a:pt x="1841" y="759"/>
                    </a:lnTo>
                    <a:lnTo>
                      <a:pt x="1803" y="771"/>
                    </a:lnTo>
                    <a:lnTo>
                      <a:pt x="1763" y="784"/>
                    </a:lnTo>
                    <a:lnTo>
                      <a:pt x="1722" y="794"/>
                    </a:lnTo>
                    <a:lnTo>
                      <a:pt x="1679" y="806"/>
                    </a:lnTo>
                    <a:lnTo>
                      <a:pt x="1634" y="816"/>
                    </a:lnTo>
                    <a:lnTo>
                      <a:pt x="1588" y="826"/>
                    </a:lnTo>
                    <a:lnTo>
                      <a:pt x="1540" y="835"/>
                    </a:lnTo>
                    <a:lnTo>
                      <a:pt x="1491" y="844"/>
                    </a:lnTo>
                    <a:lnTo>
                      <a:pt x="1388" y="863"/>
                    </a:lnTo>
                    <a:lnTo>
                      <a:pt x="1279" y="881"/>
                    </a:lnTo>
                    <a:lnTo>
                      <a:pt x="1189" y="884"/>
                    </a:lnTo>
                    <a:lnTo>
                      <a:pt x="1102" y="887"/>
                    </a:lnTo>
                    <a:lnTo>
                      <a:pt x="1020" y="888"/>
                    </a:lnTo>
                    <a:lnTo>
                      <a:pt x="944" y="889"/>
                    </a:lnTo>
                    <a:lnTo>
                      <a:pt x="871" y="889"/>
                    </a:lnTo>
                    <a:lnTo>
                      <a:pt x="801" y="889"/>
                    </a:lnTo>
                    <a:lnTo>
                      <a:pt x="736" y="887"/>
                    </a:lnTo>
                    <a:lnTo>
                      <a:pt x="676" y="884"/>
                    </a:lnTo>
                    <a:lnTo>
                      <a:pt x="619" y="882"/>
                    </a:lnTo>
                    <a:lnTo>
                      <a:pt x="564" y="879"/>
                    </a:lnTo>
                    <a:lnTo>
                      <a:pt x="514" y="874"/>
                    </a:lnTo>
                    <a:lnTo>
                      <a:pt x="467" y="868"/>
                    </a:lnTo>
                    <a:lnTo>
                      <a:pt x="423" y="863"/>
                    </a:lnTo>
                    <a:lnTo>
                      <a:pt x="382" y="856"/>
                    </a:lnTo>
                    <a:lnTo>
                      <a:pt x="344" y="849"/>
                    </a:lnTo>
                    <a:lnTo>
                      <a:pt x="309" y="841"/>
                    </a:lnTo>
                    <a:lnTo>
                      <a:pt x="276" y="832"/>
                    </a:lnTo>
                    <a:lnTo>
                      <a:pt x="245" y="823"/>
                    </a:lnTo>
                    <a:lnTo>
                      <a:pt x="218" y="811"/>
                    </a:lnTo>
                    <a:lnTo>
                      <a:pt x="191" y="801"/>
                    </a:lnTo>
                    <a:lnTo>
                      <a:pt x="169" y="789"/>
                    </a:lnTo>
                    <a:lnTo>
                      <a:pt x="147" y="776"/>
                    </a:lnTo>
                    <a:lnTo>
                      <a:pt x="126" y="763"/>
                    </a:lnTo>
                    <a:lnTo>
                      <a:pt x="108" y="750"/>
                    </a:lnTo>
                    <a:lnTo>
                      <a:pt x="91" y="735"/>
                    </a:lnTo>
                    <a:lnTo>
                      <a:pt x="76" y="719"/>
                    </a:lnTo>
                    <a:lnTo>
                      <a:pt x="63" y="703"/>
                    </a:lnTo>
                    <a:lnTo>
                      <a:pt x="49" y="686"/>
                    </a:lnTo>
                    <a:lnTo>
                      <a:pt x="38" y="669"/>
                    </a:lnTo>
                    <a:lnTo>
                      <a:pt x="26" y="651"/>
                    </a:lnTo>
                    <a:lnTo>
                      <a:pt x="16" y="632"/>
                    </a:lnTo>
                    <a:lnTo>
                      <a:pt x="6" y="61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580000" y="3000600"/>
                <a:ext cx="225360" cy="195480"/>
              </a:xfrm>
              <a:custGeom>
                <a:avLst/>
                <a:gdLst/>
                <a:ahLst/>
                <a:rect l="l" t="t" r="r" b="b"/>
                <a:pathLst>
                  <a:path w="708" h="614">
                    <a:moveTo>
                      <a:pt x="689" y="0"/>
                    </a:moveTo>
                    <a:lnTo>
                      <a:pt x="685" y="1"/>
                    </a:lnTo>
                    <a:lnTo>
                      <a:pt x="583" y="32"/>
                    </a:lnTo>
                    <a:lnTo>
                      <a:pt x="492" y="60"/>
                    </a:lnTo>
                    <a:lnTo>
                      <a:pt x="409" y="87"/>
                    </a:lnTo>
                    <a:lnTo>
                      <a:pt x="336" y="114"/>
                    </a:lnTo>
                    <a:lnTo>
                      <a:pt x="302" y="127"/>
                    </a:lnTo>
                    <a:lnTo>
                      <a:pt x="270" y="141"/>
                    </a:lnTo>
                    <a:lnTo>
                      <a:pt x="240" y="154"/>
                    </a:lnTo>
                    <a:lnTo>
                      <a:pt x="213" y="167"/>
                    </a:lnTo>
                    <a:lnTo>
                      <a:pt x="187" y="182"/>
                    </a:lnTo>
                    <a:lnTo>
                      <a:pt x="163" y="196"/>
                    </a:lnTo>
                    <a:lnTo>
                      <a:pt x="140" y="212"/>
                    </a:lnTo>
                    <a:lnTo>
                      <a:pt x="120" y="227"/>
                    </a:lnTo>
                    <a:lnTo>
                      <a:pt x="100" y="244"/>
                    </a:lnTo>
                    <a:lnTo>
                      <a:pt x="83" y="261"/>
                    </a:lnTo>
                    <a:lnTo>
                      <a:pt x="68" y="279"/>
                    </a:lnTo>
                    <a:lnTo>
                      <a:pt x="53" y="297"/>
                    </a:lnTo>
                    <a:lnTo>
                      <a:pt x="42" y="318"/>
                    </a:lnTo>
                    <a:lnTo>
                      <a:pt x="31" y="338"/>
                    </a:lnTo>
                    <a:lnTo>
                      <a:pt x="23" y="360"/>
                    </a:lnTo>
                    <a:lnTo>
                      <a:pt x="15" y="384"/>
                    </a:lnTo>
                    <a:lnTo>
                      <a:pt x="9" y="408"/>
                    </a:lnTo>
                    <a:lnTo>
                      <a:pt x="4" y="433"/>
                    </a:lnTo>
                    <a:lnTo>
                      <a:pt x="1" y="459"/>
                    </a:lnTo>
                    <a:lnTo>
                      <a:pt x="0" y="488"/>
                    </a:lnTo>
                    <a:lnTo>
                      <a:pt x="0" y="517"/>
                    </a:lnTo>
                    <a:lnTo>
                      <a:pt x="0" y="548"/>
                    </a:lnTo>
                    <a:lnTo>
                      <a:pt x="2" y="580"/>
                    </a:lnTo>
                    <a:lnTo>
                      <a:pt x="4" y="614"/>
                    </a:lnTo>
                    <a:lnTo>
                      <a:pt x="41" y="611"/>
                    </a:lnTo>
                    <a:lnTo>
                      <a:pt x="39" y="578"/>
                    </a:lnTo>
                    <a:lnTo>
                      <a:pt x="36" y="546"/>
                    </a:lnTo>
                    <a:lnTo>
                      <a:pt x="35" y="517"/>
                    </a:lnTo>
                    <a:lnTo>
                      <a:pt x="36" y="489"/>
                    </a:lnTo>
                    <a:lnTo>
                      <a:pt x="37" y="463"/>
                    </a:lnTo>
                    <a:lnTo>
                      <a:pt x="41" y="439"/>
                    </a:lnTo>
                    <a:lnTo>
                      <a:pt x="44" y="415"/>
                    </a:lnTo>
                    <a:lnTo>
                      <a:pt x="50" y="393"/>
                    </a:lnTo>
                    <a:lnTo>
                      <a:pt x="57" y="372"/>
                    </a:lnTo>
                    <a:lnTo>
                      <a:pt x="65" y="353"/>
                    </a:lnTo>
                    <a:lnTo>
                      <a:pt x="74" y="335"/>
                    </a:lnTo>
                    <a:lnTo>
                      <a:pt x="84" y="318"/>
                    </a:lnTo>
                    <a:lnTo>
                      <a:pt x="97" y="301"/>
                    </a:lnTo>
                    <a:lnTo>
                      <a:pt x="110" y="285"/>
                    </a:lnTo>
                    <a:lnTo>
                      <a:pt x="125" y="270"/>
                    </a:lnTo>
                    <a:lnTo>
                      <a:pt x="142" y="255"/>
                    </a:lnTo>
                    <a:lnTo>
                      <a:pt x="162" y="241"/>
                    </a:lnTo>
                    <a:lnTo>
                      <a:pt x="182" y="227"/>
                    </a:lnTo>
                    <a:lnTo>
                      <a:pt x="205" y="213"/>
                    </a:lnTo>
                    <a:lnTo>
                      <a:pt x="229" y="200"/>
                    </a:lnTo>
                    <a:lnTo>
                      <a:pt x="256" y="187"/>
                    </a:lnTo>
                    <a:lnTo>
                      <a:pt x="285" y="174"/>
                    </a:lnTo>
                    <a:lnTo>
                      <a:pt x="316" y="160"/>
                    </a:lnTo>
                    <a:lnTo>
                      <a:pt x="349" y="148"/>
                    </a:lnTo>
                    <a:lnTo>
                      <a:pt x="422" y="122"/>
                    </a:lnTo>
                    <a:lnTo>
                      <a:pt x="502" y="94"/>
                    </a:lnTo>
                    <a:lnTo>
                      <a:pt x="594" y="66"/>
                    </a:lnTo>
                    <a:lnTo>
                      <a:pt x="695" y="35"/>
                    </a:lnTo>
                    <a:lnTo>
                      <a:pt x="690" y="36"/>
                    </a:lnTo>
                    <a:lnTo>
                      <a:pt x="695" y="35"/>
                    </a:lnTo>
                    <a:lnTo>
                      <a:pt x="698" y="34"/>
                    </a:lnTo>
                    <a:lnTo>
                      <a:pt x="702" y="32"/>
                    </a:lnTo>
                    <a:lnTo>
                      <a:pt x="704" y="29"/>
                    </a:lnTo>
                    <a:lnTo>
                      <a:pt x="706" y="26"/>
                    </a:lnTo>
                    <a:lnTo>
                      <a:pt x="708" y="22"/>
                    </a:lnTo>
                    <a:lnTo>
                      <a:pt x="708" y="19"/>
                    </a:lnTo>
                    <a:lnTo>
                      <a:pt x="708" y="16"/>
                    </a:lnTo>
                    <a:lnTo>
                      <a:pt x="708" y="13"/>
                    </a:lnTo>
                    <a:lnTo>
                      <a:pt x="705" y="10"/>
                    </a:lnTo>
                    <a:lnTo>
                      <a:pt x="704" y="7"/>
                    </a:lnTo>
                    <a:lnTo>
                      <a:pt x="702" y="4"/>
                    </a:lnTo>
                    <a:lnTo>
                      <a:pt x="700" y="2"/>
                    </a:lnTo>
                    <a:lnTo>
                      <a:pt x="696" y="1"/>
                    </a:lnTo>
                    <a:lnTo>
                      <a:pt x="693" y="0"/>
                    </a:lnTo>
                    <a:lnTo>
                      <a:pt x="688" y="0"/>
                    </a:lnTo>
                    <a:lnTo>
                      <a:pt x="685" y="1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99240" y="2994120"/>
                <a:ext cx="487440" cy="108000"/>
              </a:xfrm>
              <a:custGeom>
                <a:avLst/>
                <a:gdLst/>
                <a:ahLst/>
                <a:rect l="l" t="t" r="r" b="b"/>
                <a:pathLst>
                  <a:path w="1534" h="340">
                    <a:moveTo>
                      <a:pt x="1534" y="319"/>
                    </a:moveTo>
                    <a:lnTo>
                      <a:pt x="1530" y="309"/>
                    </a:lnTo>
                    <a:lnTo>
                      <a:pt x="1502" y="280"/>
                    </a:lnTo>
                    <a:lnTo>
                      <a:pt x="1475" y="252"/>
                    </a:lnTo>
                    <a:lnTo>
                      <a:pt x="1448" y="227"/>
                    </a:lnTo>
                    <a:lnTo>
                      <a:pt x="1419" y="203"/>
                    </a:lnTo>
                    <a:lnTo>
                      <a:pt x="1391" y="181"/>
                    </a:lnTo>
                    <a:lnTo>
                      <a:pt x="1362" y="160"/>
                    </a:lnTo>
                    <a:lnTo>
                      <a:pt x="1331" y="141"/>
                    </a:lnTo>
                    <a:lnTo>
                      <a:pt x="1302" y="122"/>
                    </a:lnTo>
                    <a:lnTo>
                      <a:pt x="1270" y="106"/>
                    </a:lnTo>
                    <a:lnTo>
                      <a:pt x="1237" y="91"/>
                    </a:lnTo>
                    <a:lnTo>
                      <a:pt x="1203" y="77"/>
                    </a:lnTo>
                    <a:lnTo>
                      <a:pt x="1167" y="64"/>
                    </a:lnTo>
                    <a:lnTo>
                      <a:pt x="1131" y="54"/>
                    </a:lnTo>
                    <a:lnTo>
                      <a:pt x="1093" y="44"/>
                    </a:lnTo>
                    <a:lnTo>
                      <a:pt x="1053" y="35"/>
                    </a:lnTo>
                    <a:lnTo>
                      <a:pt x="1011" y="28"/>
                    </a:lnTo>
                    <a:lnTo>
                      <a:pt x="968" y="21"/>
                    </a:lnTo>
                    <a:lnTo>
                      <a:pt x="922" y="15"/>
                    </a:lnTo>
                    <a:lnTo>
                      <a:pt x="874" y="11"/>
                    </a:lnTo>
                    <a:lnTo>
                      <a:pt x="824" y="7"/>
                    </a:lnTo>
                    <a:lnTo>
                      <a:pt x="772" y="4"/>
                    </a:lnTo>
                    <a:lnTo>
                      <a:pt x="717" y="3"/>
                    </a:lnTo>
                    <a:lnTo>
                      <a:pt x="659" y="2"/>
                    </a:lnTo>
                    <a:lnTo>
                      <a:pt x="599" y="0"/>
                    </a:lnTo>
                    <a:lnTo>
                      <a:pt x="470" y="3"/>
                    </a:lnTo>
                    <a:lnTo>
                      <a:pt x="327" y="6"/>
                    </a:lnTo>
                    <a:lnTo>
                      <a:pt x="171" y="12"/>
                    </a:lnTo>
                    <a:lnTo>
                      <a:pt x="0" y="19"/>
                    </a:lnTo>
                    <a:lnTo>
                      <a:pt x="1" y="55"/>
                    </a:lnTo>
                    <a:lnTo>
                      <a:pt x="172" y="48"/>
                    </a:lnTo>
                    <a:lnTo>
                      <a:pt x="329" y="43"/>
                    </a:lnTo>
                    <a:lnTo>
                      <a:pt x="470" y="38"/>
                    </a:lnTo>
                    <a:lnTo>
                      <a:pt x="599" y="37"/>
                    </a:lnTo>
                    <a:lnTo>
                      <a:pt x="659" y="38"/>
                    </a:lnTo>
                    <a:lnTo>
                      <a:pt x="716" y="39"/>
                    </a:lnTo>
                    <a:lnTo>
                      <a:pt x="771" y="40"/>
                    </a:lnTo>
                    <a:lnTo>
                      <a:pt x="822" y="44"/>
                    </a:lnTo>
                    <a:lnTo>
                      <a:pt x="871" y="47"/>
                    </a:lnTo>
                    <a:lnTo>
                      <a:pt x="918" y="52"/>
                    </a:lnTo>
                    <a:lnTo>
                      <a:pt x="963" y="56"/>
                    </a:lnTo>
                    <a:lnTo>
                      <a:pt x="1006" y="63"/>
                    </a:lnTo>
                    <a:lnTo>
                      <a:pt x="1045" y="71"/>
                    </a:lnTo>
                    <a:lnTo>
                      <a:pt x="1084" y="79"/>
                    </a:lnTo>
                    <a:lnTo>
                      <a:pt x="1121" y="88"/>
                    </a:lnTo>
                    <a:lnTo>
                      <a:pt x="1156" y="100"/>
                    </a:lnTo>
                    <a:lnTo>
                      <a:pt x="1190" y="111"/>
                    </a:lnTo>
                    <a:lnTo>
                      <a:pt x="1222" y="125"/>
                    </a:lnTo>
                    <a:lnTo>
                      <a:pt x="1254" y="138"/>
                    </a:lnTo>
                    <a:lnTo>
                      <a:pt x="1284" y="154"/>
                    </a:lnTo>
                    <a:lnTo>
                      <a:pt x="1313" y="171"/>
                    </a:lnTo>
                    <a:lnTo>
                      <a:pt x="1342" y="190"/>
                    </a:lnTo>
                    <a:lnTo>
                      <a:pt x="1369" y="210"/>
                    </a:lnTo>
                    <a:lnTo>
                      <a:pt x="1396" y="231"/>
                    </a:lnTo>
                    <a:lnTo>
                      <a:pt x="1423" y="255"/>
                    </a:lnTo>
                    <a:lnTo>
                      <a:pt x="1450" y="279"/>
                    </a:lnTo>
                    <a:lnTo>
                      <a:pt x="1476" y="305"/>
                    </a:lnTo>
                    <a:lnTo>
                      <a:pt x="1502" y="333"/>
                    </a:lnTo>
                    <a:lnTo>
                      <a:pt x="1498" y="323"/>
                    </a:lnTo>
                    <a:lnTo>
                      <a:pt x="1502" y="333"/>
                    </a:lnTo>
                    <a:lnTo>
                      <a:pt x="1506" y="337"/>
                    </a:lnTo>
                    <a:lnTo>
                      <a:pt x="1509" y="338"/>
                    </a:lnTo>
                    <a:lnTo>
                      <a:pt x="1513" y="339"/>
                    </a:lnTo>
                    <a:lnTo>
                      <a:pt x="1516" y="340"/>
                    </a:lnTo>
                    <a:lnTo>
                      <a:pt x="1520" y="339"/>
                    </a:lnTo>
                    <a:lnTo>
                      <a:pt x="1523" y="338"/>
                    </a:lnTo>
                    <a:lnTo>
                      <a:pt x="1525" y="337"/>
                    </a:lnTo>
                    <a:lnTo>
                      <a:pt x="1529" y="334"/>
                    </a:lnTo>
                    <a:lnTo>
                      <a:pt x="1531" y="332"/>
                    </a:lnTo>
                    <a:lnTo>
                      <a:pt x="1532" y="329"/>
                    </a:lnTo>
                    <a:lnTo>
                      <a:pt x="1533" y="326"/>
                    </a:lnTo>
                    <a:lnTo>
                      <a:pt x="1534" y="323"/>
                    </a:lnTo>
                    <a:lnTo>
                      <a:pt x="1534" y="320"/>
                    </a:lnTo>
                    <a:lnTo>
                      <a:pt x="1533" y="316"/>
                    </a:lnTo>
                    <a:lnTo>
                      <a:pt x="1532" y="313"/>
                    </a:lnTo>
                    <a:lnTo>
                      <a:pt x="1530" y="309"/>
                    </a:lnTo>
                    <a:lnTo>
                      <a:pt x="1534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86440" y="3096000"/>
                <a:ext cx="301680" cy="190440"/>
              </a:xfrm>
              <a:custGeom>
                <a:avLst/>
                <a:gdLst/>
                <a:ahLst/>
                <a:rect l="l" t="t" r="r" b="b"/>
                <a:pathLst>
                  <a:path w="950" h="599">
                    <a:moveTo>
                      <a:pt x="20" y="599"/>
                    </a:moveTo>
                    <a:lnTo>
                      <a:pt x="22" y="599"/>
                    </a:lnTo>
                    <a:lnTo>
                      <a:pt x="130" y="581"/>
                    </a:lnTo>
                    <a:lnTo>
                      <a:pt x="234" y="563"/>
                    </a:lnTo>
                    <a:lnTo>
                      <a:pt x="283" y="554"/>
                    </a:lnTo>
                    <a:lnTo>
                      <a:pt x="332" y="543"/>
                    </a:lnTo>
                    <a:lnTo>
                      <a:pt x="378" y="533"/>
                    </a:lnTo>
                    <a:lnTo>
                      <a:pt x="423" y="523"/>
                    </a:lnTo>
                    <a:lnTo>
                      <a:pt x="467" y="513"/>
                    </a:lnTo>
                    <a:lnTo>
                      <a:pt x="508" y="501"/>
                    </a:lnTo>
                    <a:lnTo>
                      <a:pt x="547" y="489"/>
                    </a:lnTo>
                    <a:lnTo>
                      <a:pt x="586" y="477"/>
                    </a:lnTo>
                    <a:lnTo>
                      <a:pt x="623" y="463"/>
                    </a:lnTo>
                    <a:lnTo>
                      <a:pt x="658" y="450"/>
                    </a:lnTo>
                    <a:lnTo>
                      <a:pt x="691" y="435"/>
                    </a:lnTo>
                    <a:lnTo>
                      <a:pt x="723" y="419"/>
                    </a:lnTo>
                    <a:lnTo>
                      <a:pt x="753" y="403"/>
                    </a:lnTo>
                    <a:lnTo>
                      <a:pt x="780" y="385"/>
                    </a:lnTo>
                    <a:lnTo>
                      <a:pt x="806" y="367"/>
                    </a:lnTo>
                    <a:lnTo>
                      <a:pt x="830" y="346"/>
                    </a:lnTo>
                    <a:lnTo>
                      <a:pt x="852" y="326"/>
                    </a:lnTo>
                    <a:lnTo>
                      <a:pt x="871" y="303"/>
                    </a:lnTo>
                    <a:lnTo>
                      <a:pt x="881" y="291"/>
                    </a:lnTo>
                    <a:lnTo>
                      <a:pt x="889" y="279"/>
                    </a:lnTo>
                    <a:lnTo>
                      <a:pt x="897" y="266"/>
                    </a:lnTo>
                    <a:lnTo>
                      <a:pt x="905" y="254"/>
                    </a:lnTo>
                    <a:lnTo>
                      <a:pt x="912" y="241"/>
                    </a:lnTo>
                    <a:lnTo>
                      <a:pt x="919" y="228"/>
                    </a:lnTo>
                    <a:lnTo>
                      <a:pt x="925" y="214"/>
                    </a:lnTo>
                    <a:lnTo>
                      <a:pt x="929" y="199"/>
                    </a:lnTo>
                    <a:lnTo>
                      <a:pt x="934" y="184"/>
                    </a:lnTo>
                    <a:lnTo>
                      <a:pt x="938" y="169"/>
                    </a:lnTo>
                    <a:lnTo>
                      <a:pt x="942" y="155"/>
                    </a:lnTo>
                    <a:lnTo>
                      <a:pt x="944" y="139"/>
                    </a:lnTo>
                    <a:lnTo>
                      <a:pt x="946" y="123"/>
                    </a:lnTo>
                    <a:lnTo>
                      <a:pt x="949" y="107"/>
                    </a:lnTo>
                    <a:lnTo>
                      <a:pt x="950" y="90"/>
                    </a:lnTo>
                    <a:lnTo>
                      <a:pt x="950" y="72"/>
                    </a:lnTo>
                    <a:lnTo>
                      <a:pt x="950" y="37"/>
                    </a:lnTo>
                    <a:lnTo>
                      <a:pt x="946" y="0"/>
                    </a:lnTo>
                    <a:lnTo>
                      <a:pt x="910" y="4"/>
                    </a:lnTo>
                    <a:lnTo>
                      <a:pt x="913" y="39"/>
                    </a:lnTo>
                    <a:lnTo>
                      <a:pt x="913" y="72"/>
                    </a:lnTo>
                    <a:lnTo>
                      <a:pt x="913" y="88"/>
                    </a:lnTo>
                    <a:lnTo>
                      <a:pt x="912" y="103"/>
                    </a:lnTo>
                    <a:lnTo>
                      <a:pt x="911" y="118"/>
                    </a:lnTo>
                    <a:lnTo>
                      <a:pt x="909" y="133"/>
                    </a:lnTo>
                    <a:lnTo>
                      <a:pt x="906" y="148"/>
                    </a:lnTo>
                    <a:lnTo>
                      <a:pt x="903" y="161"/>
                    </a:lnTo>
                    <a:lnTo>
                      <a:pt x="900" y="174"/>
                    </a:lnTo>
                    <a:lnTo>
                      <a:pt x="895" y="188"/>
                    </a:lnTo>
                    <a:lnTo>
                      <a:pt x="891" y="200"/>
                    </a:lnTo>
                    <a:lnTo>
                      <a:pt x="886" y="213"/>
                    </a:lnTo>
                    <a:lnTo>
                      <a:pt x="880" y="224"/>
                    </a:lnTo>
                    <a:lnTo>
                      <a:pt x="873" y="237"/>
                    </a:lnTo>
                    <a:lnTo>
                      <a:pt x="867" y="248"/>
                    </a:lnTo>
                    <a:lnTo>
                      <a:pt x="860" y="258"/>
                    </a:lnTo>
                    <a:lnTo>
                      <a:pt x="852" y="270"/>
                    </a:lnTo>
                    <a:lnTo>
                      <a:pt x="844" y="280"/>
                    </a:lnTo>
                    <a:lnTo>
                      <a:pt x="826" y="300"/>
                    </a:lnTo>
                    <a:lnTo>
                      <a:pt x="806" y="320"/>
                    </a:lnTo>
                    <a:lnTo>
                      <a:pt x="783" y="338"/>
                    </a:lnTo>
                    <a:lnTo>
                      <a:pt x="759" y="355"/>
                    </a:lnTo>
                    <a:lnTo>
                      <a:pt x="734" y="371"/>
                    </a:lnTo>
                    <a:lnTo>
                      <a:pt x="706" y="387"/>
                    </a:lnTo>
                    <a:lnTo>
                      <a:pt x="676" y="402"/>
                    </a:lnTo>
                    <a:lnTo>
                      <a:pt x="644" y="416"/>
                    </a:lnTo>
                    <a:lnTo>
                      <a:pt x="610" y="429"/>
                    </a:lnTo>
                    <a:lnTo>
                      <a:pt x="575" y="442"/>
                    </a:lnTo>
                    <a:lnTo>
                      <a:pt x="537" y="454"/>
                    </a:lnTo>
                    <a:lnTo>
                      <a:pt x="498" y="466"/>
                    </a:lnTo>
                    <a:lnTo>
                      <a:pt x="457" y="477"/>
                    </a:lnTo>
                    <a:lnTo>
                      <a:pt x="414" y="487"/>
                    </a:lnTo>
                    <a:lnTo>
                      <a:pt x="370" y="498"/>
                    </a:lnTo>
                    <a:lnTo>
                      <a:pt x="324" y="508"/>
                    </a:lnTo>
                    <a:lnTo>
                      <a:pt x="276" y="517"/>
                    </a:lnTo>
                    <a:lnTo>
                      <a:pt x="227" y="527"/>
                    </a:lnTo>
                    <a:lnTo>
                      <a:pt x="125" y="544"/>
                    </a:lnTo>
                    <a:lnTo>
                      <a:pt x="16" y="563"/>
                    </a:lnTo>
                    <a:lnTo>
                      <a:pt x="19" y="563"/>
                    </a:lnTo>
                    <a:lnTo>
                      <a:pt x="16" y="563"/>
                    </a:lnTo>
                    <a:lnTo>
                      <a:pt x="12" y="564"/>
                    </a:lnTo>
                    <a:lnTo>
                      <a:pt x="8" y="566"/>
                    </a:lnTo>
                    <a:lnTo>
                      <a:pt x="5" y="568"/>
                    </a:lnTo>
                    <a:lnTo>
                      <a:pt x="4" y="571"/>
                    </a:lnTo>
                    <a:lnTo>
                      <a:pt x="2" y="574"/>
                    </a:lnTo>
                    <a:lnTo>
                      <a:pt x="0" y="576"/>
                    </a:lnTo>
                    <a:lnTo>
                      <a:pt x="0" y="580"/>
                    </a:lnTo>
                    <a:lnTo>
                      <a:pt x="0" y="583"/>
                    </a:lnTo>
                    <a:lnTo>
                      <a:pt x="2" y="587"/>
                    </a:lnTo>
                    <a:lnTo>
                      <a:pt x="3" y="590"/>
                    </a:lnTo>
                    <a:lnTo>
                      <a:pt x="5" y="592"/>
                    </a:lnTo>
                    <a:lnTo>
                      <a:pt x="7" y="595"/>
                    </a:lnTo>
                    <a:lnTo>
                      <a:pt x="11" y="597"/>
                    </a:lnTo>
                    <a:lnTo>
                      <a:pt x="13" y="598"/>
                    </a:lnTo>
                    <a:lnTo>
                      <a:pt x="18" y="599"/>
                    </a:lnTo>
                    <a:lnTo>
                      <a:pt x="22" y="599"/>
                    </a:lnTo>
                    <a:lnTo>
                      <a:pt x="20" y="5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581800" y="3189600"/>
                <a:ext cx="411120" cy="98280"/>
              </a:xfrm>
              <a:custGeom>
                <a:avLst/>
                <a:gdLst/>
                <a:ahLst/>
                <a:rect l="l" t="t" r="r" b="b"/>
                <a:pathLst>
                  <a:path w="1293" h="313">
                    <a:moveTo>
                      <a:pt x="0" y="20"/>
                    </a:moveTo>
                    <a:lnTo>
                      <a:pt x="3" y="26"/>
                    </a:lnTo>
                    <a:lnTo>
                      <a:pt x="13" y="46"/>
                    </a:lnTo>
                    <a:lnTo>
                      <a:pt x="23" y="66"/>
                    </a:lnTo>
                    <a:lnTo>
                      <a:pt x="35" y="85"/>
                    </a:lnTo>
                    <a:lnTo>
                      <a:pt x="47" y="103"/>
                    </a:lnTo>
                    <a:lnTo>
                      <a:pt x="61" y="120"/>
                    </a:lnTo>
                    <a:lnTo>
                      <a:pt x="76" y="138"/>
                    </a:lnTo>
                    <a:lnTo>
                      <a:pt x="93" y="154"/>
                    </a:lnTo>
                    <a:lnTo>
                      <a:pt x="110" y="169"/>
                    </a:lnTo>
                    <a:lnTo>
                      <a:pt x="129" y="184"/>
                    </a:lnTo>
                    <a:lnTo>
                      <a:pt x="150" y="198"/>
                    </a:lnTo>
                    <a:lnTo>
                      <a:pt x="172" y="211"/>
                    </a:lnTo>
                    <a:lnTo>
                      <a:pt x="198" y="223"/>
                    </a:lnTo>
                    <a:lnTo>
                      <a:pt x="224" y="234"/>
                    </a:lnTo>
                    <a:lnTo>
                      <a:pt x="252" y="246"/>
                    </a:lnTo>
                    <a:lnTo>
                      <a:pt x="284" y="255"/>
                    </a:lnTo>
                    <a:lnTo>
                      <a:pt x="317" y="264"/>
                    </a:lnTo>
                    <a:lnTo>
                      <a:pt x="354" y="272"/>
                    </a:lnTo>
                    <a:lnTo>
                      <a:pt x="391" y="280"/>
                    </a:lnTo>
                    <a:lnTo>
                      <a:pt x="433" y="287"/>
                    </a:lnTo>
                    <a:lnTo>
                      <a:pt x="478" y="293"/>
                    </a:lnTo>
                    <a:lnTo>
                      <a:pt x="526" y="298"/>
                    </a:lnTo>
                    <a:lnTo>
                      <a:pt x="576" y="303"/>
                    </a:lnTo>
                    <a:lnTo>
                      <a:pt x="631" y="306"/>
                    </a:lnTo>
                    <a:lnTo>
                      <a:pt x="688" y="309"/>
                    </a:lnTo>
                    <a:lnTo>
                      <a:pt x="749" y="311"/>
                    </a:lnTo>
                    <a:lnTo>
                      <a:pt x="814" y="312"/>
                    </a:lnTo>
                    <a:lnTo>
                      <a:pt x="884" y="313"/>
                    </a:lnTo>
                    <a:lnTo>
                      <a:pt x="957" y="313"/>
                    </a:lnTo>
                    <a:lnTo>
                      <a:pt x="1034" y="312"/>
                    </a:lnTo>
                    <a:lnTo>
                      <a:pt x="1115" y="311"/>
                    </a:lnTo>
                    <a:lnTo>
                      <a:pt x="1202" y="309"/>
                    </a:lnTo>
                    <a:lnTo>
                      <a:pt x="1293" y="305"/>
                    </a:lnTo>
                    <a:lnTo>
                      <a:pt x="1292" y="269"/>
                    </a:lnTo>
                    <a:lnTo>
                      <a:pt x="1200" y="272"/>
                    </a:lnTo>
                    <a:lnTo>
                      <a:pt x="1115" y="274"/>
                    </a:lnTo>
                    <a:lnTo>
                      <a:pt x="1033" y="276"/>
                    </a:lnTo>
                    <a:lnTo>
                      <a:pt x="957" y="277"/>
                    </a:lnTo>
                    <a:lnTo>
                      <a:pt x="884" y="277"/>
                    </a:lnTo>
                    <a:lnTo>
                      <a:pt x="815" y="277"/>
                    </a:lnTo>
                    <a:lnTo>
                      <a:pt x="750" y="274"/>
                    </a:lnTo>
                    <a:lnTo>
                      <a:pt x="689" y="273"/>
                    </a:lnTo>
                    <a:lnTo>
                      <a:pt x="632" y="270"/>
                    </a:lnTo>
                    <a:lnTo>
                      <a:pt x="578" y="266"/>
                    </a:lnTo>
                    <a:lnTo>
                      <a:pt x="529" y="262"/>
                    </a:lnTo>
                    <a:lnTo>
                      <a:pt x="482" y="256"/>
                    </a:lnTo>
                    <a:lnTo>
                      <a:pt x="438" y="250"/>
                    </a:lnTo>
                    <a:lnTo>
                      <a:pt x="398" y="245"/>
                    </a:lnTo>
                    <a:lnTo>
                      <a:pt x="361" y="237"/>
                    </a:lnTo>
                    <a:lnTo>
                      <a:pt x="326" y="229"/>
                    </a:lnTo>
                    <a:lnTo>
                      <a:pt x="293" y="221"/>
                    </a:lnTo>
                    <a:lnTo>
                      <a:pt x="265" y="211"/>
                    </a:lnTo>
                    <a:lnTo>
                      <a:pt x="237" y="201"/>
                    </a:lnTo>
                    <a:lnTo>
                      <a:pt x="212" y="190"/>
                    </a:lnTo>
                    <a:lnTo>
                      <a:pt x="190" y="179"/>
                    </a:lnTo>
                    <a:lnTo>
                      <a:pt x="169" y="167"/>
                    </a:lnTo>
                    <a:lnTo>
                      <a:pt x="150" y="155"/>
                    </a:lnTo>
                    <a:lnTo>
                      <a:pt x="133" y="141"/>
                    </a:lnTo>
                    <a:lnTo>
                      <a:pt x="117" y="127"/>
                    </a:lnTo>
                    <a:lnTo>
                      <a:pt x="103" y="112"/>
                    </a:lnTo>
                    <a:lnTo>
                      <a:pt x="89" y="98"/>
                    </a:lnTo>
                    <a:lnTo>
                      <a:pt x="77" y="82"/>
                    </a:lnTo>
                    <a:lnTo>
                      <a:pt x="65" y="65"/>
                    </a:lnTo>
                    <a:lnTo>
                      <a:pt x="55" y="48"/>
                    </a:lnTo>
                    <a:lnTo>
                      <a:pt x="45" y="29"/>
                    </a:lnTo>
                    <a:lnTo>
                      <a:pt x="36" y="10"/>
                    </a:lnTo>
                    <a:lnTo>
                      <a:pt x="37" y="17"/>
                    </a:lnTo>
                    <a:lnTo>
                      <a:pt x="36" y="10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753080" y="3135600"/>
                <a:ext cx="1601640" cy="431640"/>
              </a:xfrm>
              <a:custGeom>
                <a:avLst/>
                <a:gdLst/>
                <a:ahLst/>
                <a:rect l="l" t="t" r="r" b="b"/>
                <a:pathLst>
                  <a:path w="5044" h="1361">
                    <a:moveTo>
                      <a:pt x="26" y="1308"/>
                    </a:moveTo>
                    <a:lnTo>
                      <a:pt x="159" y="1282"/>
                    </a:lnTo>
                    <a:lnTo>
                      <a:pt x="297" y="1257"/>
                    </a:lnTo>
                    <a:lnTo>
                      <a:pt x="441" y="1234"/>
                    </a:lnTo>
                    <a:lnTo>
                      <a:pt x="589" y="1212"/>
                    </a:lnTo>
                    <a:lnTo>
                      <a:pt x="742" y="1191"/>
                    </a:lnTo>
                    <a:lnTo>
                      <a:pt x="898" y="1171"/>
                    </a:lnTo>
                    <a:lnTo>
                      <a:pt x="1057" y="1151"/>
                    </a:lnTo>
                    <a:lnTo>
                      <a:pt x="1220" y="1131"/>
                    </a:lnTo>
                    <a:lnTo>
                      <a:pt x="1554" y="1091"/>
                    </a:lnTo>
                    <a:lnTo>
                      <a:pt x="1895" y="1047"/>
                    </a:lnTo>
                    <a:lnTo>
                      <a:pt x="2068" y="1025"/>
                    </a:lnTo>
                    <a:lnTo>
                      <a:pt x="2241" y="1001"/>
                    </a:lnTo>
                    <a:lnTo>
                      <a:pt x="2415" y="974"/>
                    </a:lnTo>
                    <a:lnTo>
                      <a:pt x="2588" y="946"/>
                    </a:lnTo>
                    <a:lnTo>
                      <a:pt x="2761" y="915"/>
                    </a:lnTo>
                    <a:lnTo>
                      <a:pt x="2933" y="882"/>
                    </a:lnTo>
                    <a:lnTo>
                      <a:pt x="3105" y="847"/>
                    </a:lnTo>
                    <a:lnTo>
                      <a:pt x="3274" y="807"/>
                    </a:lnTo>
                    <a:lnTo>
                      <a:pt x="3442" y="765"/>
                    </a:lnTo>
                    <a:lnTo>
                      <a:pt x="3607" y="719"/>
                    </a:lnTo>
                    <a:lnTo>
                      <a:pt x="3769" y="669"/>
                    </a:lnTo>
                    <a:lnTo>
                      <a:pt x="3928" y="615"/>
                    </a:lnTo>
                    <a:lnTo>
                      <a:pt x="4083" y="556"/>
                    </a:lnTo>
                    <a:lnTo>
                      <a:pt x="4235" y="493"/>
                    </a:lnTo>
                    <a:lnTo>
                      <a:pt x="4383" y="425"/>
                    </a:lnTo>
                    <a:lnTo>
                      <a:pt x="4525" y="351"/>
                    </a:lnTo>
                    <a:lnTo>
                      <a:pt x="4662" y="272"/>
                    </a:lnTo>
                    <a:lnTo>
                      <a:pt x="4794" y="188"/>
                    </a:lnTo>
                    <a:lnTo>
                      <a:pt x="4920" y="97"/>
                    </a:lnTo>
                    <a:lnTo>
                      <a:pt x="5039" y="0"/>
                    </a:lnTo>
                    <a:lnTo>
                      <a:pt x="5042" y="5"/>
                    </a:lnTo>
                    <a:lnTo>
                      <a:pt x="5043" y="11"/>
                    </a:lnTo>
                    <a:lnTo>
                      <a:pt x="5044" y="17"/>
                    </a:lnTo>
                    <a:lnTo>
                      <a:pt x="5044" y="24"/>
                    </a:lnTo>
                    <a:lnTo>
                      <a:pt x="5043" y="37"/>
                    </a:lnTo>
                    <a:lnTo>
                      <a:pt x="5039" y="52"/>
                    </a:lnTo>
                    <a:lnTo>
                      <a:pt x="5035" y="67"/>
                    </a:lnTo>
                    <a:lnTo>
                      <a:pt x="5029" y="83"/>
                    </a:lnTo>
                    <a:lnTo>
                      <a:pt x="5022" y="99"/>
                    </a:lnTo>
                    <a:lnTo>
                      <a:pt x="5015" y="115"/>
                    </a:lnTo>
                    <a:lnTo>
                      <a:pt x="5009" y="131"/>
                    </a:lnTo>
                    <a:lnTo>
                      <a:pt x="5002" y="147"/>
                    </a:lnTo>
                    <a:lnTo>
                      <a:pt x="4996" y="163"/>
                    </a:lnTo>
                    <a:lnTo>
                      <a:pt x="4991" y="178"/>
                    </a:lnTo>
                    <a:lnTo>
                      <a:pt x="4989" y="191"/>
                    </a:lnTo>
                    <a:lnTo>
                      <a:pt x="4988" y="205"/>
                    </a:lnTo>
                    <a:lnTo>
                      <a:pt x="4989" y="211"/>
                    </a:lnTo>
                    <a:lnTo>
                      <a:pt x="4990" y="218"/>
                    </a:lnTo>
                    <a:lnTo>
                      <a:pt x="4991" y="223"/>
                    </a:lnTo>
                    <a:lnTo>
                      <a:pt x="4994" y="228"/>
                    </a:lnTo>
                    <a:lnTo>
                      <a:pt x="4864" y="327"/>
                    </a:lnTo>
                    <a:lnTo>
                      <a:pt x="4728" y="417"/>
                    </a:lnTo>
                    <a:lnTo>
                      <a:pt x="4589" y="500"/>
                    </a:lnTo>
                    <a:lnTo>
                      <a:pt x="4446" y="577"/>
                    </a:lnTo>
                    <a:lnTo>
                      <a:pt x="4299" y="646"/>
                    </a:lnTo>
                    <a:lnTo>
                      <a:pt x="4148" y="709"/>
                    </a:lnTo>
                    <a:lnTo>
                      <a:pt x="3995" y="766"/>
                    </a:lnTo>
                    <a:lnTo>
                      <a:pt x="3839" y="817"/>
                    </a:lnTo>
                    <a:lnTo>
                      <a:pt x="3681" y="863"/>
                    </a:lnTo>
                    <a:lnTo>
                      <a:pt x="3520" y="904"/>
                    </a:lnTo>
                    <a:lnTo>
                      <a:pt x="3357" y="940"/>
                    </a:lnTo>
                    <a:lnTo>
                      <a:pt x="3193" y="973"/>
                    </a:lnTo>
                    <a:lnTo>
                      <a:pt x="3028" y="1002"/>
                    </a:lnTo>
                    <a:lnTo>
                      <a:pt x="2861" y="1027"/>
                    </a:lnTo>
                    <a:lnTo>
                      <a:pt x="2694" y="1050"/>
                    </a:lnTo>
                    <a:lnTo>
                      <a:pt x="2525" y="1070"/>
                    </a:lnTo>
                    <a:lnTo>
                      <a:pt x="2358" y="1087"/>
                    </a:lnTo>
                    <a:lnTo>
                      <a:pt x="2189" y="1104"/>
                    </a:lnTo>
                    <a:lnTo>
                      <a:pt x="2021" y="1119"/>
                    </a:lnTo>
                    <a:lnTo>
                      <a:pt x="1854" y="1133"/>
                    </a:lnTo>
                    <a:lnTo>
                      <a:pt x="1523" y="1159"/>
                    </a:lnTo>
                    <a:lnTo>
                      <a:pt x="1197" y="1185"/>
                    </a:lnTo>
                    <a:lnTo>
                      <a:pt x="1038" y="1200"/>
                    </a:lnTo>
                    <a:lnTo>
                      <a:pt x="881" y="1216"/>
                    </a:lnTo>
                    <a:lnTo>
                      <a:pt x="726" y="1233"/>
                    </a:lnTo>
                    <a:lnTo>
                      <a:pt x="573" y="1254"/>
                    </a:lnTo>
                    <a:lnTo>
                      <a:pt x="425" y="1275"/>
                    </a:lnTo>
                    <a:lnTo>
                      <a:pt x="279" y="1301"/>
                    </a:lnTo>
                    <a:lnTo>
                      <a:pt x="138" y="1329"/>
                    </a:lnTo>
                    <a:lnTo>
                      <a:pt x="0" y="1361"/>
                    </a:lnTo>
                    <a:lnTo>
                      <a:pt x="13" y="1337"/>
                    </a:lnTo>
                    <a:lnTo>
                      <a:pt x="18" y="1328"/>
                    </a:lnTo>
                    <a:lnTo>
                      <a:pt x="17" y="1328"/>
                    </a:lnTo>
                    <a:lnTo>
                      <a:pt x="13" y="1334"/>
                    </a:lnTo>
                    <a:lnTo>
                      <a:pt x="10" y="1339"/>
                    </a:lnTo>
                    <a:lnTo>
                      <a:pt x="9" y="1340"/>
                    </a:lnTo>
                    <a:lnTo>
                      <a:pt x="13" y="1331"/>
                    </a:lnTo>
                    <a:lnTo>
                      <a:pt x="26" y="1308"/>
                    </a:lnTo>
                    <a:close/>
                  </a:path>
                </a:pathLst>
              </a:custGeom>
              <a:solidFill>
                <a:srgbClr val="82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761000" y="3130920"/>
                <a:ext cx="1596960" cy="423720"/>
              </a:xfrm>
              <a:custGeom>
                <a:avLst/>
                <a:gdLst/>
                <a:ahLst/>
                <a:rect l="l" t="t" r="r" b="b"/>
                <a:pathLst>
                  <a:path w="5028" h="1334">
                    <a:moveTo>
                      <a:pt x="5027" y="7"/>
                    </a:moveTo>
                    <a:lnTo>
                      <a:pt x="5007" y="4"/>
                    </a:lnTo>
                    <a:lnTo>
                      <a:pt x="4978" y="28"/>
                    </a:lnTo>
                    <a:lnTo>
                      <a:pt x="4949" y="53"/>
                    </a:lnTo>
                    <a:lnTo>
                      <a:pt x="4918" y="77"/>
                    </a:lnTo>
                    <a:lnTo>
                      <a:pt x="4889" y="101"/>
                    </a:lnTo>
                    <a:lnTo>
                      <a:pt x="4826" y="146"/>
                    </a:lnTo>
                    <a:lnTo>
                      <a:pt x="4763" y="191"/>
                    </a:lnTo>
                    <a:lnTo>
                      <a:pt x="4699" y="234"/>
                    </a:lnTo>
                    <a:lnTo>
                      <a:pt x="4631" y="275"/>
                    </a:lnTo>
                    <a:lnTo>
                      <a:pt x="4564" y="315"/>
                    </a:lnTo>
                    <a:lnTo>
                      <a:pt x="4495" y="354"/>
                    </a:lnTo>
                    <a:lnTo>
                      <a:pt x="4425" y="391"/>
                    </a:lnTo>
                    <a:lnTo>
                      <a:pt x="4353" y="427"/>
                    </a:lnTo>
                    <a:lnTo>
                      <a:pt x="4280" y="462"/>
                    </a:lnTo>
                    <a:lnTo>
                      <a:pt x="4206" y="495"/>
                    </a:lnTo>
                    <a:lnTo>
                      <a:pt x="4131" y="527"/>
                    </a:lnTo>
                    <a:lnTo>
                      <a:pt x="4055" y="558"/>
                    </a:lnTo>
                    <a:lnTo>
                      <a:pt x="3978" y="588"/>
                    </a:lnTo>
                    <a:lnTo>
                      <a:pt x="3900" y="617"/>
                    </a:lnTo>
                    <a:lnTo>
                      <a:pt x="3821" y="644"/>
                    </a:lnTo>
                    <a:lnTo>
                      <a:pt x="3741" y="671"/>
                    </a:lnTo>
                    <a:lnTo>
                      <a:pt x="3660" y="696"/>
                    </a:lnTo>
                    <a:lnTo>
                      <a:pt x="3579" y="721"/>
                    </a:lnTo>
                    <a:lnTo>
                      <a:pt x="3497" y="744"/>
                    </a:lnTo>
                    <a:lnTo>
                      <a:pt x="3414" y="766"/>
                    </a:lnTo>
                    <a:lnTo>
                      <a:pt x="3331" y="788"/>
                    </a:lnTo>
                    <a:lnTo>
                      <a:pt x="3248" y="808"/>
                    </a:lnTo>
                    <a:lnTo>
                      <a:pt x="3163" y="829"/>
                    </a:lnTo>
                    <a:lnTo>
                      <a:pt x="3078" y="847"/>
                    </a:lnTo>
                    <a:lnTo>
                      <a:pt x="2994" y="865"/>
                    </a:lnTo>
                    <a:lnTo>
                      <a:pt x="2907" y="884"/>
                    </a:lnTo>
                    <a:lnTo>
                      <a:pt x="2821" y="900"/>
                    </a:lnTo>
                    <a:lnTo>
                      <a:pt x="2735" y="917"/>
                    </a:lnTo>
                    <a:lnTo>
                      <a:pt x="2649" y="932"/>
                    </a:lnTo>
                    <a:lnTo>
                      <a:pt x="2563" y="946"/>
                    </a:lnTo>
                    <a:lnTo>
                      <a:pt x="2390" y="975"/>
                    </a:lnTo>
                    <a:lnTo>
                      <a:pt x="2215" y="1001"/>
                    </a:lnTo>
                    <a:lnTo>
                      <a:pt x="2042" y="1026"/>
                    </a:lnTo>
                    <a:lnTo>
                      <a:pt x="1870" y="1049"/>
                    </a:lnTo>
                    <a:lnTo>
                      <a:pt x="1529" y="1091"/>
                    </a:lnTo>
                    <a:lnTo>
                      <a:pt x="1195" y="1132"/>
                    </a:lnTo>
                    <a:lnTo>
                      <a:pt x="1032" y="1152"/>
                    </a:lnTo>
                    <a:lnTo>
                      <a:pt x="873" y="1172"/>
                    </a:lnTo>
                    <a:lnTo>
                      <a:pt x="716" y="1192"/>
                    </a:lnTo>
                    <a:lnTo>
                      <a:pt x="564" y="1213"/>
                    </a:lnTo>
                    <a:lnTo>
                      <a:pt x="414" y="1235"/>
                    </a:lnTo>
                    <a:lnTo>
                      <a:pt x="271" y="1259"/>
                    </a:lnTo>
                    <a:lnTo>
                      <a:pt x="201" y="1271"/>
                    </a:lnTo>
                    <a:lnTo>
                      <a:pt x="133" y="1284"/>
                    </a:lnTo>
                    <a:lnTo>
                      <a:pt x="66" y="1296"/>
                    </a:lnTo>
                    <a:lnTo>
                      <a:pt x="0" y="1310"/>
                    </a:lnTo>
                    <a:lnTo>
                      <a:pt x="4" y="1334"/>
                    </a:lnTo>
                    <a:lnTo>
                      <a:pt x="70" y="1320"/>
                    </a:lnTo>
                    <a:lnTo>
                      <a:pt x="138" y="1308"/>
                    </a:lnTo>
                    <a:lnTo>
                      <a:pt x="206" y="1294"/>
                    </a:lnTo>
                    <a:lnTo>
                      <a:pt x="275" y="1283"/>
                    </a:lnTo>
                    <a:lnTo>
                      <a:pt x="419" y="1259"/>
                    </a:lnTo>
                    <a:lnTo>
                      <a:pt x="567" y="1237"/>
                    </a:lnTo>
                    <a:lnTo>
                      <a:pt x="719" y="1217"/>
                    </a:lnTo>
                    <a:lnTo>
                      <a:pt x="875" y="1196"/>
                    </a:lnTo>
                    <a:lnTo>
                      <a:pt x="1036" y="1176"/>
                    </a:lnTo>
                    <a:lnTo>
                      <a:pt x="1199" y="1156"/>
                    </a:lnTo>
                    <a:lnTo>
                      <a:pt x="1531" y="1116"/>
                    </a:lnTo>
                    <a:lnTo>
                      <a:pt x="1873" y="1073"/>
                    </a:lnTo>
                    <a:lnTo>
                      <a:pt x="2045" y="1050"/>
                    </a:lnTo>
                    <a:lnTo>
                      <a:pt x="2219" y="1025"/>
                    </a:lnTo>
                    <a:lnTo>
                      <a:pt x="2393" y="999"/>
                    </a:lnTo>
                    <a:lnTo>
                      <a:pt x="2566" y="970"/>
                    </a:lnTo>
                    <a:lnTo>
                      <a:pt x="2653" y="956"/>
                    </a:lnTo>
                    <a:lnTo>
                      <a:pt x="2739" y="941"/>
                    </a:lnTo>
                    <a:lnTo>
                      <a:pt x="2826" y="924"/>
                    </a:lnTo>
                    <a:lnTo>
                      <a:pt x="2913" y="908"/>
                    </a:lnTo>
                    <a:lnTo>
                      <a:pt x="2998" y="889"/>
                    </a:lnTo>
                    <a:lnTo>
                      <a:pt x="3084" y="871"/>
                    </a:lnTo>
                    <a:lnTo>
                      <a:pt x="3168" y="852"/>
                    </a:lnTo>
                    <a:lnTo>
                      <a:pt x="3253" y="832"/>
                    </a:lnTo>
                    <a:lnTo>
                      <a:pt x="3338" y="812"/>
                    </a:lnTo>
                    <a:lnTo>
                      <a:pt x="3421" y="789"/>
                    </a:lnTo>
                    <a:lnTo>
                      <a:pt x="3504" y="767"/>
                    </a:lnTo>
                    <a:lnTo>
                      <a:pt x="3586" y="744"/>
                    </a:lnTo>
                    <a:lnTo>
                      <a:pt x="3668" y="720"/>
                    </a:lnTo>
                    <a:lnTo>
                      <a:pt x="3749" y="693"/>
                    </a:lnTo>
                    <a:lnTo>
                      <a:pt x="3829" y="667"/>
                    </a:lnTo>
                    <a:lnTo>
                      <a:pt x="3909" y="640"/>
                    </a:lnTo>
                    <a:lnTo>
                      <a:pt x="3986" y="610"/>
                    </a:lnTo>
                    <a:lnTo>
                      <a:pt x="4064" y="580"/>
                    </a:lnTo>
                    <a:lnTo>
                      <a:pt x="4140" y="550"/>
                    </a:lnTo>
                    <a:lnTo>
                      <a:pt x="4216" y="518"/>
                    </a:lnTo>
                    <a:lnTo>
                      <a:pt x="4291" y="484"/>
                    </a:lnTo>
                    <a:lnTo>
                      <a:pt x="4363" y="448"/>
                    </a:lnTo>
                    <a:lnTo>
                      <a:pt x="4435" y="413"/>
                    </a:lnTo>
                    <a:lnTo>
                      <a:pt x="4507" y="375"/>
                    </a:lnTo>
                    <a:lnTo>
                      <a:pt x="4577" y="337"/>
                    </a:lnTo>
                    <a:lnTo>
                      <a:pt x="4645" y="295"/>
                    </a:lnTo>
                    <a:lnTo>
                      <a:pt x="4711" y="254"/>
                    </a:lnTo>
                    <a:lnTo>
                      <a:pt x="4777" y="211"/>
                    </a:lnTo>
                    <a:lnTo>
                      <a:pt x="4841" y="166"/>
                    </a:lnTo>
                    <a:lnTo>
                      <a:pt x="4903" y="119"/>
                    </a:lnTo>
                    <a:lnTo>
                      <a:pt x="4933" y="96"/>
                    </a:lnTo>
                    <a:lnTo>
                      <a:pt x="4964" y="71"/>
                    </a:lnTo>
                    <a:lnTo>
                      <a:pt x="4994" y="47"/>
                    </a:lnTo>
                    <a:lnTo>
                      <a:pt x="5023" y="22"/>
                    </a:lnTo>
                    <a:lnTo>
                      <a:pt x="5004" y="17"/>
                    </a:lnTo>
                    <a:lnTo>
                      <a:pt x="5023" y="22"/>
                    </a:lnTo>
                    <a:lnTo>
                      <a:pt x="5027" y="17"/>
                    </a:lnTo>
                    <a:lnTo>
                      <a:pt x="5028" y="13"/>
                    </a:lnTo>
                    <a:lnTo>
                      <a:pt x="5027" y="8"/>
                    </a:lnTo>
                    <a:lnTo>
                      <a:pt x="5024" y="5"/>
                    </a:lnTo>
                    <a:lnTo>
                      <a:pt x="5021" y="1"/>
                    </a:lnTo>
                    <a:lnTo>
                      <a:pt x="5016" y="0"/>
                    </a:lnTo>
                    <a:lnTo>
                      <a:pt x="5012" y="0"/>
                    </a:lnTo>
                    <a:lnTo>
                      <a:pt x="5007" y="4"/>
                    </a:lnTo>
                    <a:lnTo>
                      <a:pt x="5027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334200" y="3132360"/>
                <a:ext cx="25200" cy="79560"/>
              </a:xfrm>
              <a:custGeom>
                <a:avLst/>
                <a:gdLst/>
                <a:ahLst/>
                <a:rect l="l" t="t" r="r" b="b"/>
                <a:pathLst>
                  <a:path w="79" h="246">
                    <a:moveTo>
                      <a:pt x="25" y="244"/>
                    </a:moveTo>
                    <a:lnTo>
                      <a:pt x="28" y="228"/>
                    </a:lnTo>
                    <a:lnTo>
                      <a:pt x="26" y="225"/>
                    </a:lnTo>
                    <a:lnTo>
                      <a:pt x="25" y="220"/>
                    </a:lnTo>
                    <a:lnTo>
                      <a:pt x="24" y="216"/>
                    </a:lnTo>
                    <a:lnTo>
                      <a:pt x="24" y="211"/>
                    </a:lnTo>
                    <a:lnTo>
                      <a:pt x="24" y="198"/>
                    </a:lnTo>
                    <a:lnTo>
                      <a:pt x="27" y="186"/>
                    </a:lnTo>
                    <a:lnTo>
                      <a:pt x="30" y="172"/>
                    </a:lnTo>
                    <a:lnTo>
                      <a:pt x="36" y="157"/>
                    </a:lnTo>
                    <a:lnTo>
                      <a:pt x="43" y="141"/>
                    </a:lnTo>
                    <a:lnTo>
                      <a:pt x="50" y="125"/>
                    </a:lnTo>
                    <a:lnTo>
                      <a:pt x="57" y="110"/>
                    </a:lnTo>
                    <a:lnTo>
                      <a:pt x="63" y="94"/>
                    </a:lnTo>
                    <a:lnTo>
                      <a:pt x="69" y="78"/>
                    </a:lnTo>
                    <a:lnTo>
                      <a:pt x="74" y="62"/>
                    </a:lnTo>
                    <a:lnTo>
                      <a:pt x="77" y="46"/>
                    </a:lnTo>
                    <a:lnTo>
                      <a:pt x="79" y="31"/>
                    </a:lnTo>
                    <a:lnTo>
                      <a:pt x="79" y="23"/>
                    </a:lnTo>
                    <a:lnTo>
                      <a:pt x="78" y="15"/>
                    </a:lnTo>
                    <a:lnTo>
                      <a:pt x="76" y="7"/>
                    </a:lnTo>
                    <a:lnTo>
                      <a:pt x="74" y="0"/>
                    </a:lnTo>
                    <a:lnTo>
                      <a:pt x="51" y="10"/>
                    </a:lnTo>
                    <a:lnTo>
                      <a:pt x="53" y="15"/>
                    </a:lnTo>
                    <a:lnTo>
                      <a:pt x="54" y="19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3" y="42"/>
                    </a:lnTo>
                    <a:lnTo>
                      <a:pt x="51" y="55"/>
                    </a:lnTo>
                    <a:lnTo>
                      <a:pt x="46" y="70"/>
                    </a:lnTo>
                    <a:lnTo>
                      <a:pt x="41" y="84"/>
                    </a:lnTo>
                    <a:lnTo>
                      <a:pt x="34" y="100"/>
                    </a:lnTo>
                    <a:lnTo>
                      <a:pt x="27" y="116"/>
                    </a:lnTo>
                    <a:lnTo>
                      <a:pt x="20" y="132"/>
                    </a:lnTo>
                    <a:lnTo>
                      <a:pt x="13" y="148"/>
                    </a:lnTo>
                    <a:lnTo>
                      <a:pt x="8" y="164"/>
                    </a:lnTo>
                    <a:lnTo>
                      <a:pt x="3" y="180"/>
                    </a:lnTo>
                    <a:lnTo>
                      <a:pt x="0" y="196"/>
                    </a:lnTo>
                    <a:lnTo>
                      <a:pt x="0" y="211"/>
                    </a:lnTo>
                    <a:lnTo>
                      <a:pt x="0" y="219"/>
                    </a:lnTo>
                    <a:lnTo>
                      <a:pt x="1" y="226"/>
                    </a:lnTo>
                    <a:lnTo>
                      <a:pt x="3" y="233"/>
                    </a:lnTo>
                    <a:lnTo>
                      <a:pt x="6" y="239"/>
                    </a:lnTo>
                    <a:lnTo>
                      <a:pt x="10" y="225"/>
                    </a:lnTo>
                    <a:lnTo>
                      <a:pt x="6" y="239"/>
                    </a:lnTo>
                    <a:lnTo>
                      <a:pt x="10" y="244"/>
                    </a:lnTo>
                    <a:lnTo>
                      <a:pt x="14" y="246"/>
                    </a:lnTo>
                    <a:lnTo>
                      <a:pt x="19" y="246"/>
                    </a:lnTo>
                    <a:lnTo>
                      <a:pt x="24" y="245"/>
                    </a:lnTo>
                    <a:lnTo>
                      <a:pt x="27" y="242"/>
                    </a:lnTo>
                    <a:lnTo>
                      <a:pt x="29" y="238"/>
                    </a:lnTo>
                    <a:lnTo>
                      <a:pt x="29" y="234"/>
                    </a:lnTo>
                    <a:lnTo>
                      <a:pt x="28" y="228"/>
                    </a:lnTo>
                    <a:lnTo>
                      <a:pt x="25" y="2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749840" y="3204000"/>
                <a:ext cx="1592280" cy="366480"/>
              </a:xfrm>
              <a:custGeom>
                <a:avLst/>
                <a:gdLst/>
                <a:ahLst/>
                <a:rect l="l" t="t" r="r" b="b"/>
                <a:pathLst>
                  <a:path w="5015" h="1154">
                    <a:moveTo>
                      <a:pt x="2" y="1136"/>
                    </a:moveTo>
                    <a:lnTo>
                      <a:pt x="16" y="1153"/>
                    </a:lnTo>
                    <a:lnTo>
                      <a:pt x="83" y="1137"/>
                    </a:lnTo>
                    <a:lnTo>
                      <a:pt x="153" y="1121"/>
                    </a:lnTo>
                    <a:lnTo>
                      <a:pt x="224" y="1108"/>
                    </a:lnTo>
                    <a:lnTo>
                      <a:pt x="294" y="1094"/>
                    </a:lnTo>
                    <a:lnTo>
                      <a:pt x="366" y="1080"/>
                    </a:lnTo>
                    <a:lnTo>
                      <a:pt x="439" y="1069"/>
                    </a:lnTo>
                    <a:lnTo>
                      <a:pt x="513" y="1058"/>
                    </a:lnTo>
                    <a:lnTo>
                      <a:pt x="588" y="1046"/>
                    </a:lnTo>
                    <a:lnTo>
                      <a:pt x="663" y="1036"/>
                    </a:lnTo>
                    <a:lnTo>
                      <a:pt x="740" y="1027"/>
                    </a:lnTo>
                    <a:lnTo>
                      <a:pt x="817" y="1018"/>
                    </a:lnTo>
                    <a:lnTo>
                      <a:pt x="895" y="1009"/>
                    </a:lnTo>
                    <a:lnTo>
                      <a:pt x="1052" y="993"/>
                    </a:lnTo>
                    <a:lnTo>
                      <a:pt x="1212" y="979"/>
                    </a:lnTo>
                    <a:lnTo>
                      <a:pt x="1536" y="952"/>
                    </a:lnTo>
                    <a:lnTo>
                      <a:pt x="1868" y="925"/>
                    </a:lnTo>
                    <a:lnTo>
                      <a:pt x="2036" y="912"/>
                    </a:lnTo>
                    <a:lnTo>
                      <a:pt x="2203" y="897"/>
                    </a:lnTo>
                    <a:lnTo>
                      <a:pt x="2372" y="881"/>
                    </a:lnTo>
                    <a:lnTo>
                      <a:pt x="2539" y="863"/>
                    </a:lnTo>
                    <a:lnTo>
                      <a:pt x="2624" y="854"/>
                    </a:lnTo>
                    <a:lnTo>
                      <a:pt x="2708" y="843"/>
                    </a:lnTo>
                    <a:lnTo>
                      <a:pt x="2792" y="832"/>
                    </a:lnTo>
                    <a:lnTo>
                      <a:pt x="2876" y="820"/>
                    </a:lnTo>
                    <a:lnTo>
                      <a:pt x="2959" y="808"/>
                    </a:lnTo>
                    <a:lnTo>
                      <a:pt x="3043" y="794"/>
                    </a:lnTo>
                    <a:lnTo>
                      <a:pt x="3125" y="781"/>
                    </a:lnTo>
                    <a:lnTo>
                      <a:pt x="3208" y="766"/>
                    </a:lnTo>
                    <a:lnTo>
                      <a:pt x="3290" y="750"/>
                    </a:lnTo>
                    <a:lnTo>
                      <a:pt x="3372" y="734"/>
                    </a:lnTo>
                    <a:lnTo>
                      <a:pt x="3455" y="716"/>
                    </a:lnTo>
                    <a:lnTo>
                      <a:pt x="3535" y="696"/>
                    </a:lnTo>
                    <a:lnTo>
                      <a:pt x="3616" y="677"/>
                    </a:lnTo>
                    <a:lnTo>
                      <a:pt x="3697" y="655"/>
                    </a:lnTo>
                    <a:lnTo>
                      <a:pt x="3777" y="633"/>
                    </a:lnTo>
                    <a:lnTo>
                      <a:pt x="3856" y="610"/>
                    </a:lnTo>
                    <a:lnTo>
                      <a:pt x="3934" y="584"/>
                    </a:lnTo>
                    <a:lnTo>
                      <a:pt x="4012" y="558"/>
                    </a:lnTo>
                    <a:lnTo>
                      <a:pt x="4089" y="530"/>
                    </a:lnTo>
                    <a:lnTo>
                      <a:pt x="4166" y="501"/>
                    </a:lnTo>
                    <a:lnTo>
                      <a:pt x="4242" y="470"/>
                    </a:lnTo>
                    <a:lnTo>
                      <a:pt x="4316" y="439"/>
                    </a:lnTo>
                    <a:lnTo>
                      <a:pt x="4391" y="404"/>
                    </a:lnTo>
                    <a:lnTo>
                      <a:pt x="4464" y="369"/>
                    </a:lnTo>
                    <a:lnTo>
                      <a:pt x="4536" y="331"/>
                    </a:lnTo>
                    <a:lnTo>
                      <a:pt x="4608" y="293"/>
                    </a:lnTo>
                    <a:lnTo>
                      <a:pt x="4679" y="252"/>
                    </a:lnTo>
                    <a:lnTo>
                      <a:pt x="4748" y="208"/>
                    </a:lnTo>
                    <a:lnTo>
                      <a:pt x="4816" y="164"/>
                    </a:lnTo>
                    <a:lnTo>
                      <a:pt x="4884" y="118"/>
                    </a:lnTo>
                    <a:lnTo>
                      <a:pt x="4917" y="93"/>
                    </a:lnTo>
                    <a:lnTo>
                      <a:pt x="4950" y="69"/>
                    </a:lnTo>
                    <a:lnTo>
                      <a:pt x="4983" y="44"/>
                    </a:lnTo>
                    <a:lnTo>
                      <a:pt x="5015" y="19"/>
                    </a:lnTo>
                    <a:lnTo>
                      <a:pt x="5000" y="0"/>
                    </a:lnTo>
                    <a:lnTo>
                      <a:pt x="4968" y="25"/>
                    </a:lnTo>
                    <a:lnTo>
                      <a:pt x="4935" y="50"/>
                    </a:lnTo>
                    <a:lnTo>
                      <a:pt x="4902" y="74"/>
                    </a:lnTo>
                    <a:lnTo>
                      <a:pt x="4870" y="98"/>
                    </a:lnTo>
                    <a:lnTo>
                      <a:pt x="4803" y="144"/>
                    </a:lnTo>
                    <a:lnTo>
                      <a:pt x="4734" y="188"/>
                    </a:lnTo>
                    <a:lnTo>
                      <a:pt x="4666" y="231"/>
                    </a:lnTo>
                    <a:lnTo>
                      <a:pt x="4596" y="271"/>
                    </a:lnTo>
                    <a:lnTo>
                      <a:pt x="4525" y="310"/>
                    </a:lnTo>
                    <a:lnTo>
                      <a:pt x="4453" y="347"/>
                    </a:lnTo>
                    <a:lnTo>
                      <a:pt x="4380" y="383"/>
                    </a:lnTo>
                    <a:lnTo>
                      <a:pt x="4307" y="416"/>
                    </a:lnTo>
                    <a:lnTo>
                      <a:pt x="4233" y="448"/>
                    </a:lnTo>
                    <a:lnTo>
                      <a:pt x="4158" y="478"/>
                    </a:lnTo>
                    <a:lnTo>
                      <a:pt x="4081" y="508"/>
                    </a:lnTo>
                    <a:lnTo>
                      <a:pt x="4004" y="535"/>
                    </a:lnTo>
                    <a:lnTo>
                      <a:pt x="3926" y="562"/>
                    </a:lnTo>
                    <a:lnTo>
                      <a:pt x="3849" y="587"/>
                    </a:lnTo>
                    <a:lnTo>
                      <a:pt x="3770" y="610"/>
                    </a:lnTo>
                    <a:lnTo>
                      <a:pt x="3690" y="632"/>
                    </a:lnTo>
                    <a:lnTo>
                      <a:pt x="3611" y="653"/>
                    </a:lnTo>
                    <a:lnTo>
                      <a:pt x="3531" y="673"/>
                    </a:lnTo>
                    <a:lnTo>
                      <a:pt x="3449" y="692"/>
                    </a:lnTo>
                    <a:lnTo>
                      <a:pt x="3368" y="710"/>
                    </a:lnTo>
                    <a:lnTo>
                      <a:pt x="3286" y="726"/>
                    </a:lnTo>
                    <a:lnTo>
                      <a:pt x="3204" y="742"/>
                    </a:lnTo>
                    <a:lnTo>
                      <a:pt x="3122" y="757"/>
                    </a:lnTo>
                    <a:lnTo>
                      <a:pt x="3039" y="770"/>
                    </a:lnTo>
                    <a:lnTo>
                      <a:pt x="2955" y="784"/>
                    </a:lnTo>
                    <a:lnTo>
                      <a:pt x="2872" y="797"/>
                    </a:lnTo>
                    <a:lnTo>
                      <a:pt x="2789" y="808"/>
                    </a:lnTo>
                    <a:lnTo>
                      <a:pt x="2705" y="819"/>
                    </a:lnTo>
                    <a:lnTo>
                      <a:pt x="2621" y="830"/>
                    </a:lnTo>
                    <a:lnTo>
                      <a:pt x="2537" y="839"/>
                    </a:lnTo>
                    <a:lnTo>
                      <a:pt x="2370" y="857"/>
                    </a:lnTo>
                    <a:lnTo>
                      <a:pt x="2201" y="873"/>
                    </a:lnTo>
                    <a:lnTo>
                      <a:pt x="2033" y="888"/>
                    </a:lnTo>
                    <a:lnTo>
                      <a:pt x="1867" y="901"/>
                    </a:lnTo>
                    <a:lnTo>
                      <a:pt x="1535" y="928"/>
                    </a:lnTo>
                    <a:lnTo>
                      <a:pt x="1209" y="954"/>
                    </a:lnTo>
                    <a:lnTo>
                      <a:pt x="1050" y="969"/>
                    </a:lnTo>
                    <a:lnTo>
                      <a:pt x="893" y="985"/>
                    </a:lnTo>
                    <a:lnTo>
                      <a:pt x="814" y="994"/>
                    </a:lnTo>
                    <a:lnTo>
                      <a:pt x="738" y="1003"/>
                    </a:lnTo>
                    <a:lnTo>
                      <a:pt x="660" y="1012"/>
                    </a:lnTo>
                    <a:lnTo>
                      <a:pt x="585" y="1022"/>
                    </a:lnTo>
                    <a:lnTo>
                      <a:pt x="510" y="1034"/>
                    </a:lnTo>
                    <a:lnTo>
                      <a:pt x="435" y="1045"/>
                    </a:lnTo>
                    <a:lnTo>
                      <a:pt x="363" y="1056"/>
                    </a:lnTo>
                    <a:lnTo>
                      <a:pt x="290" y="1070"/>
                    </a:lnTo>
                    <a:lnTo>
                      <a:pt x="219" y="1084"/>
                    </a:lnTo>
                    <a:lnTo>
                      <a:pt x="148" y="1099"/>
                    </a:lnTo>
                    <a:lnTo>
                      <a:pt x="79" y="1113"/>
                    </a:lnTo>
                    <a:lnTo>
                      <a:pt x="10" y="1131"/>
                    </a:lnTo>
                    <a:lnTo>
                      <a:pt x="23" y="1148"/>
                    </a:lnTo>
                    <a:lnTo>
                      <a:pt x="10" y="1131"/>
                    </a:lnTo>
                    <a:lnTo>
                      <a:pt x="5" y="1133"/>
                    </a:lnTo>
                    <a:lnTo>
                      <a:pt x="2" y="1136"/>
                    </a:lnTo>
                    <a:lnTo>
                      <a:pt x="0" y="1141"/>
                    </a:lnTo>
                    <a:lnTo>
                      <a:pt x="1" y="1145"/>
                    </a:lnTo>
                    <a:lnTo>
                      <a:pt x="2" y="1149"/>
                    </a:lnTo>
                    <a:lnTo>
                      <a:pt x="6" y="1152"/>
                    </a:lnTo>
                    <a:lnTo>
                      <a:pt x="10" y="1154"/>
                    </a:lnTo>
                    <a:lnTo>
                      <a:pt x="16" y="1153"/>
                    </a:lnTo>
                    <a:lnTo>
                      <a:pt x="2" y="11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749840" y="3546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35" y="0"/>
                    </a:moveTo>
                    <a:lnTo>
                      <a:pt x="27" y="6"/>
                    </a:lnTo>
                    <a:lnTo>
                      <a:pt x="14" y="29"/>
                    </a:lnTo>
                    <a:lnTo>
                      <a:pt x="8" y="38"/>
                    </a:lnTo>
                    <a:lnTo>
                      <a:pt x="30" y="49"/>
                    </a:lnTo>
                    <a:lnTo>
                      <a:pt x="35" y="43"/>
                    </a:lnTo>
                    <a:lnTo>
                      <a:pt x="38" y="39"/>
                    </a:lnTo>
                    <a:lnTo>
                      <a:pt x="18" y="26"/>
                    </a:lnTo>
                    <a:lnTo>
                      <a:pt x="13" y="34"/>
                    </a:lnTo>
                    <a:lnTo>
                      <a:pt x="0" y="58"/>
                    </a:lnTo>
                    <a:lnTo>
                      <a:pt x="21" y="70"/>
                    </a:lnTo>
                    <a:lnTo>
                      <a:pt x="35" y="46"/>
                    </a:lnTo>
                    <a:lnTo>
                      <a:pt x="39" y="37"/>
                    </a:lnTo>
                    <a:lnTo>
                      <a:pt x="19" y="24"/>
                    </a:lnTo>
                    <a:lnTo>
                      <a:pt x="14" y="30"/>
                    </a:lnTo>
                    <a:lnTo>
                      <a:pt x="11" y="35"/>
                    </a:lnTo>
                    <a:lnTo>
                      <a:pt x="31" y="48"/>
                    </a:lnTo>
                    <a:lnTo>
                      <a:pt x="35" y="40"/>
                    </a:lnTo>
                    <a:lnTo>
                      <a:pt x="47" y="18"/>
                    </a:lnTo>
                    <a:lnTo>
                      <a:pt x="39" y="24"/>
                    </a:lnTo>
                    <a:lnTo>
                      <a:pt x="47" y="18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6" y="5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27" y="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37000" y="3886560"/>
                <a:ext cx="237960" cy="174600"/>
              </a:xfrm>
              <a:custGeom>
                <a:avLst/>
                <a:gdLst/>
                <a:ahLst/>
                <a:rect l="l" t="t" r="r" b="b"/>
                <a:pathLst>
                  <a:path w="747" h="551">
                    <a:moveTo>
                      <a:pt x="603" y="190"/>
                    </a:moveTo>
                    <a:lnTo>
                      <a:pt x="584" y="189"/>
                    </a:lnTo>
                    <a:lnTo>
                      <a:pt x="566" y="187"/>
                    </a:lnTo>
                    <a:lnTo>
                      <a:pt x="548" y="183"/>
                    </a:lnTo>
                    <a:lnTo>
                      <a:pt x="530" y="180"/>
                    </a:lnTo>
                    <a:lnTo>
                      <a:pt x="492" y="171"/>
                    </a:lnTo>
                    <a:lnTo>
                      <a:pt x="454" y="160"/>
                    </a:lnTo>
                    <a:lnTo>
                      <a:pt x="417" y="149"/>
                    </a:lnTo>
                    <a:lnTo>
                      <a:pt x="378" y="135"/>
                    </a:lnTo>
                    <a:lnTo>
                      <a:pt x="340" y="120"/>
                    </a:lnTo>
                    <a:lnTo>
                      <a:pt x="302" y="106"/>
                    </a:lnTo>
                    <a:lnTo>
                      <a:pt x="224" y="75"/>
                    </a:lnTo>
                    <a:lnTo>
                      <a:pt x="148" y="45"/>
                    </a:lnTo>
                    <a:lnTo>
                      <a:pt x="110" y="31"/>
                    </a:lnTo>
                    <a:lnTo>
                      <a:pt x="74" y="19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12" y="17"/>
                    </a:lnTo>
                    <a:lnTo>
                      <a:pt x="27" y="36"/>
                    </a:lnTo>
                    <a:lnTo>
                      <a:pt x="44" y="55"/>
                    </a:lnTo>
                    <a:lnTo>
                      <a:pt x="62" y="76"/>
                    </a:lnTo>
                    <a:lnTo>
                      <a:pt x="83" y="96"/>
                    </a:lnTo>
                    <a:lnTo>
                      <a:pt x="103" y="117"/>
                    </a:lnTo>
                    <a:lnTo>
                      <a:pt x="126" y="137"/>
                    </a:lnTo>
                    <a:lnTo>
                      <a:pt x="150" y="157"/>
                    </a:lnTo>
                    <a:lnTo>
                      <a:pt x="175" y="176"/>
                    </a:lnTo>
                    <a:lnTo>
                      <a:pt x="200" y="193"/>
                    </a:lnTo>
                    <a:lnTo>
                      <a:pt x="225" y="209"/>
                    </a:lnTo>
                    <a:lnTo>
                      <a:pt x="252" y="222"/>
                    </a:lnTo>
                    <a:lnTo>
                      <a:pt x="264" y="229"/>
                    </a:lnTo>
                    <a:lnTo>
                      <a:pt x="277" y="233"/>
                    </a:lnTo>
                    <a:lnTo>
                      <a:pt x="290" y="238"/>
                    </a:lnTo>
                    <a:lnTo>
                      <a:pt x="303" y="241"/>
                    </a:lnTo>
                    <a:lnTo>
                      <a:pt x="315" y="245"/>
                    </a:lnTo>
                    <a:lnTo>
                      <a:pt x="328" y="247"/>
                    </a:lnTo>
                    <a:lnTo>
                      <a:pt x="340" y="248"/>
                    </a:lnTo>
                    <a:lnTo>
                      <a:pt x="353" y="249"/>
                    </a:lnTo>
                    <a:lnTo>
                      <a:pt x="334" y="250"/>
                    </a:lnTo>
                    <a:lnTo>
                      <a:pt x="312" y="253"/>
                    </a:lnTo>
                    <a:lnTo>
                      <a:pt x="290" y="257"/>
                    </a:lnTo>
                    <a:lnTo>
                      <a:pt x="269" y="264"/>
                    </a:lnTo>
                    <a:lnTo>
                      <a:pt x="246" y="272"/>
                    </a:lnTo>
                    <a:lnTo>
                      <a:pt x="224" y="282"/>
                    </a:lnTo>
                    <a:lnTo>
                      <a:pt x="203" y="294"/>
                    </a:lnTo>
                    <a:lnTo>
                      <a:pt x="182" y="306"/>
                    </a:lnTo>
                    <a:lnTo>
                      <a:pt x="163" y="320"/>
                    </a:lnTo>
                    <a:lnTo>
                      <a:pt x="144" y="335"/>
                    </a:lnTo>
                    <a:lnTo>
                      <a:pt x="128" y="351"/>
                    </a:lnTo>
                    <a:lnTo>
                      <a:pt x="115" y="368"/>
                    </a:lnTo>
                    <a:lnTo>
                      <a:pt x="109" y="376"/>
                    </a:lnTo>
                    <a:lnTo>
                      <a:pt x="105" y="385"/>
                    </a:lnTo>
                    <a:lnTo>
                      <a:pt x="100" y="394"/>
                    </a:lnTo>
                    <a:lnTo>
                      <a:pt x="95" y="403"/>
                    </a:lnTo>
                    <a:lnTo>
                      <a:pt x="92" y="412"/>
                    </a:lnTo>
                    <a:lnTo>
                      <a:pt x="91" y="421"/>
                    </a:lnTo>
                    <a:lnTo>
                      <a:pt x="89" y="432"/>
                    </a:lnTo>
                    <a:lnTo>
                      <a:pt x="89" y="441"/>
                    </a:lnTo>
                    <a:lnTo>
                      <a:pt x="143" y="441"/>
                    </a:lnTo>
                    <a:lnTo>
                      <a:pt x="197" y="440"/>
                    </a:lnTo>
                    <a:lnTo>
                      <a:pt x="223" y="438"/>
                    </a:lnTo>
                    <a:lnTo>
                      <a:pt x="249" y="436"/>
                    </a:lnTo>
                    <a:lnTo>
                      <a:pt x="274" y="433"/>
                    </a:lnTo>
                    <a:lnTo>
                      <a:pt x="299" y="428"/>
                    </a:lnTo>
                    <a:lnTo>
                      <a:pt x="325" y="422"/>
                    </a:lnTo>
                    <a:lnTo>
                      <a:pt x="348" y="416"/>
                    </a:lnTo>
                    <a:lnTo>
                      <a:pt x="372" y="408"/>
                    </a:lnTo>
                    <a:lnTo>
                      <a:pt x="396" y="397"/>
                    </a:lnTo>
                    <a:lnTo>
                      <a:pt x="419" y="385"/>
                    </a:lnTo>
                    <a:lnTo>
                      <a:pt x="442" y="371"/>
                    </a:lnTo>
                    <a:lnTo>
                      <a:pt x="465" y="355"/>
                    </a:lnTo>
                    <a:lnTo>
                      <a:pt x="486" y="337"/>
                    </a:lnTo>
                    <a:lnTo>
                      <a:pt x="474" y="380"/>
                    </a:lnTo>
                    <a:lnTo>
                      <a:pt x="466" y="418"/>
                    </a:lnTo>
                    <a:lnTo>
                      <a:pt x="462" y="450"/>
                    </a:lnTo>
                    <a:lnTo>
                      <a:pt x="464" y="477"/>
                    </a:lnTo>
                    <a:lnTo>
                      <a:pt x="468" y="500"/>
                    </a:lnTo>
                    <a:lnTo>
                      <a:pt x="475" y="518"/>
                    </a:lnTo>
                    <a:lnTo>
                      <a:pt x="486" y="532"/>
                    </a:lnTo>
                    <a:lnTo>
                      <a:pt x="499" y="542"/>
                    </a:lnTo>
                    <a:lnTo>
                      <a:pt x="514" y="549"/>
                    </a:lnTo>
                    <a:lnTo>
                      <a:pt x="531" y="551"/>
                    </a:lnTo>
                    <a:lnTo>
                      <a:pt x="549" y="551"/>
                    </a:lnTo>
                    <a:lnTo>
                      <a:pt x="568" y="548"/>
                    </a:lnTo>
                    <a:lnTo>
                      <a:pt x="589" y="541"/>
                    </a:lnTo>
                    <a:lnTo>
                      <a:pt x="609" y="532"/>
                    </a:lnTo>
                    <a:lnTo>
                      <a:pt x="630" y="521"/>
                    </a:lnTo>
                    <a:lnTo>
                      <a:pt x="649" y="507"/>
                    </a:lnTo>
                    <a:lnTo>
                      <a:pt x="669" y="492"/>
                    </a:lnTo>
                    <a:lnTo>
                      <a:pt x="686" y="475"/>
                    </a:lnTo>
                    <a:lnTo>
                      <a:pt x="703" y="457"/>
                    </a:lnTo>
                    <a:lnTo>
                      <a:pt x="717" y="436"/>
                    </a:lnTo>
                    <a:lnTo>
                      <a:pt x="729" y="416"/>
                    </a:lnTo>
                    <a:lnTo>
                      <a:pt x="738" y="394"/>
                    </a:lnTo>
                    <a:lnTo>
                      <a:pt x="745" y="372"/>
                    </a:lnTo>
                    <a:lnTo>
                      <a:pt x="747" y="350"/>
                    </a:lnTo>
                    <a:lnTo>
                      <a:pt x="746" y="328"/>
                    </a:lnTo>
                    <a:lnTo>
                      <a:pt x="742" y="306"/>
                    </a:lnTo>
                    <a:lnTo>
                      <a:pt x="733" y="285"/>
                    </a:lnTo>
                    <a:lnTo>
                      <a:pt x="718" y="263"/>
                    </a:lnTo>
                    <a:lnTo>
                      <a:pt x="697" y="242"/>
                    </a:lnTo>
                    <a:lnTo>
                      <a:pt x="672" y="224"/>
                    </a:lnTo>
                    <a:lnTo>
                      <a:pt x="640" y="206"/>
                    </a:lnTo>
                    <a:lnTo>
                      <a:pt x="603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33760" y="38833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6" h="215">
                    <a:moveTo>
                      <a:pt x="22" y="6"/>
                    </a:moveTo>
                    <a:lnTo>
                      <a:pt x="9" y="24"/>
                    </a:lnTo>
                    <a:lnTo>
                      <a:pt x="46" y="33"/>
                    </a:lnTo>
                    <a:lnTo>
                      <a:pt x="81" y="44"/>
                    </a:lnTo>
                    <a:lnTo>
                      <a:pt x="119" y="56"/>
                    </a:lnTo>
                    <a:lnTo>
                      <a:pt x="156" y="70"/>
                    </a:lnTo>
                    <a:lnTo>
                      <a:pt x="232" y="99"/>
                    </a:lnTo>
                    <a:lnTo>
                      <a:pt x="309" y="130"/>
                    </a:lnTo>
                    <a:lnTo>
                      <a:pt x="348" y="145"/>
                    </a:lnTo>
                    <a:lnTo>
                      <a:pt x="387" y="160"/>
                    </a:lnTo>
                    <a:lnTo>
                      <a:pt x="424" y="173"/>
                    </a:lnTo>
                    <a:lnTo>
                      <a:pt x="463" y="185"/>
                    </a:lnTo>
                    <a:lnTo>
                      <a:pt x="502" y="196"/>
                    </a:lnTo>
                    <a:lnTo>
                      <a:pt x="539" y="204"/>
                    </a:lnTo>
                    <a:lnTo>
                      <a:pt x="558" y="207"/>
                    </a:lnTo>
                    <a:lnTo>
                      <a:pt x="577" y="211"/>
                    </a:lnTo>
                    <a:lnTo>
                      <a:pt x="595" y="213"/>
                    </a:lnTo>
                    <a:lnTo>
                      <a:pt x="613" y="215"/>
                    </a:lnTo>
                    <a:lnTo>
                      <a:pt x="616" y="190"/>
                    </a:lnTo>
                    <a:lnTo>
                      <a:pt x="597" y="189"/>
                    </a:lnTo>
                    <a:lnTo>
                      <a:pt x="580" y="187"/>
                    </a:lnTo>
                    <a:lnTo>
                      <a:pt x="562" y="185"/>
                    </a:lnTo>
                    <a:lnTo>
                      <a:pt x="544" y="181"/>
                    </a:lnTo>
                    <a:lnTo>
                      <a:pt x="507" y="172"/>
                    </a:lnTo>
                    <a:lnTo>
                      <a:pt x="470" y="162"/>
                    </a:lnTo>
                    <a:lnTo>
                      <a:pt x="432" y="149"/>
                    </a:lnTo>
                    <a:lnTo>
                      <a:pt x="395" y="137"/>
                    </a:lnTo>
                    <a:lnTo>
                      <a:pt x="356" y="122"/>
                    </a:lnTo>
                    <a:lnTo>
                      <a:pt x="318" y="107"/>
                    </a:lnTo>
                    <a:lnTo>
                      <a:pt x="241" y="76"/>
                    </a:lnTo>
                    <a:lnTo>
                      <a:pt x="164" y="47"/>
                    </a:lnTo>
                    <a:lnTo>
                      <a:pt x="127" y="33"/>
                    </a:lnTo>
                    <a:lnTo>
                      <a:pt x="89" y="21"/>
                    </a:lnTo>
                    <a:lnTo>
                      <a:pt x="52" y="10"/>
                    </a:lnTo>
                    <a:lnTo>
                      <a:pt x="15" y="1"/>
                    </a:lnTo>
                    <a:lnTo>
                      <a:pt x="3" y="19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3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" y="18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33760" y="3884760"/>
                <a:ext cx="118800" cy="84240"/>
              </a:xfrm>
              <a:custGeom>
                <a:avLst/>
                <a:gdLst/>
                <a:ahLst/>
                <a:rect l="l" t="t" r="r" b="b"/>
                <a:pathLst>
                  <a:path w="375" h="268">
                    <a:moveTo>
                      <a:pt x="362" y="268"/>
                    </a:moveTo>
                    <a:lnTo>
                      <a:pt x="362" y="244"/>
                    </a:lnTo>
                    <a:lnTo>
                      <a:pt x="351" y="244"/>
                    </a:lnTo>
                    <a:lnTo>
                      <a:pt x="339" y="243"/>
                    </a:lnTo>
                    <a:lnTo>
                      <a:pt x="327" y="240"/>
                    </a:lnTo>
                    <a:lnTo>
                      <a:pt x="315" y="237"/>
                    </a:lnTo>
                    <a:lnTo>
                      <a:pt x="303" y="233"/>
                    </a:lnTo>
                    <a:lnTo>
                      <a:pt x="290" y="229"/>
                    </a:lnTo>
                    <a:lnTo>
                      <a:pt x="278" y="224"/>
                    </a:lnTo>
                    <a:lnTo>
                      <a:pt x="265" y="219"/>
                    </a:lnTo>
                    <a:lnTo>
                      <a:pt x="240" y="205"/>
                    </a:lnTo>
                    <a:lnTo>
                      <a:pt x="215" y="190"/>
                    </a:lnTo>
                    <a:lnTo>
                      <a:pt x="191" y="173"/>
                    </a:lnTo>
                    <a:lnTo>
                      <a:pt x="167" y="155"/>
                    </a:lnTo>
                    <a:lnTo>
                      <a:pt x="143" y="135"/>
                    </a:lnTo>
                    <a:lnTo>
                      <a:pt x="122" y="115"/>
                    </a:lnTo>
                    <a:lnTo>
                      <a:pt x="100" y="94"/>
                    </a:lnTo>
                    <a:lnTo>
                      <a:pt x="80" y="75"/>
                    </a:lnTo>
                    <a:lnTo>
                      <a:pt x="62" y="54"/>
                    </a:lnTo>
                    <a:lnTo>
                      <a:pt x="45" y="35"/>
                    </a:lnTo>
                    <a:lnTo>
                      <a:pt x="31" y="17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12" y="30"/>
                    </a:lnTo>
                    <a:lnTo>
                      <a:pt x="27" y="50"/>
                    </a:lnTo>
                    <a:lnTo>
                      <a:pt x="44" y="70"/>
                    </a:lnTo>
                    <a:lnTo>
                      <a:pt x="62" y="91"/>
                    </a:lnTo>
                    <a:lnTo>
                      <a:pt x="83" y="111"/>
                    </a:lnTo>
                    <a:lnTo>
                      <a:pt x="104" y="133"/>
                    </a:lnTo>
                    <a:lnTo>
                      <a:pt x="127" y="154"/>
                    </a:lnTo>
                    <a:lnTo>
                      <a:pt x="151" y="174"/>
                    </a:lnTo>
                    <a:lnTo>
                      <a:pt x="176" y="192"/>
                    </a:lnTo>
                    <a:lnTo>
                      <a:pt x="202" y="211"/>
                    </a:lnTo>
                    <a:lnTo>
                      <a:pt x="229" y="227"/>
                    </a:lnTo>
                    <a:lnTo>
                      <a:pt x="255" y="240"/>
                    </a:lnTo>
                    <a:lnTo>
                      <a:pt x="269" y="246"/>
                    </a:lnTo>
                    <a:lnTo>
                      <a:pt x="282" y="252"/>
                    </a:lnTo>
                    <a:lnTo>
                      <a:pt x="296" y="256"/>
                    </a:lnTo>
                    <a:lnTo>
                      <a:pt x="308" y="261"/>
                    </a:lnTo>
                    <a:lnTo>
                      <a:pt x="322" y="264"/>
                    </a:lnTo>
                    <a:lnTo>
                      <a:pt x="336" y="266"/>
                    </a:lnTo>
                    <a:lnTo>
                      <a:pt x="349" y="268"/>
                    </a:lnTo>
                    <a:lnTo>
                      <a:pt x="362" y="268"/>
                    </a:lnTo>
                    <a:lnTo>
                      <a:pt x="362" y="244"/>
                    </a:lnTo>
                    <a:lnTo>
                      <a:pt x="362" y="268"/>
                    </a:lnTo>
                    <a:lnTo>
                      <a:pt x="368" y="266"/>
                    </a:lnTo>
                    <a:lnTo>
                      <a:pt x="371" y="264"/>
                    </a:lnTo>
                    <a:lnTo>
                      <a:pt x="373" y="261"/>
                    </a:lnTo>
                    <a:lnTo>
                      <a:pt x="375" y="256"/>
                    </a:lnTo>
                    <a:lnTo>
                      <a:pt x="373" y="252"/>
                    </a:lnTo>
                    <a:lnTo>
                      <a:pt x="371" y="247"/>
                    </a:lnTo>
                    <a:lnTo>
                      <a:pt x="368" y="245"/>
                    </a:lnTo>
                    <a:lnTo>
                      <a:pt x="362" y="244"/>
                    </a:lnTo>
                    <a:lnTo>
                      <a:pt x="362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60760" y="3962520"/>
                <a:ext cx="88920" cy="68400"/>
              </a:xfrm>
              <a:custGeom>
                <a:avLst/>
                <a:gdLst/>
                <a:ahLst/>
                <a:rect l="l" t="t" r="r" b="b"/>
                <a:pathLst>
                  <a:path w="277" h="216">
                    <a:moveTo>
                      <a:pt x="13" y="192"/>
                    </a:moveTo>
                    <a:lnTo>
                      <a:pt x="25" y="204"/>
                    </a:lnTo>
                    <a:lnTo>
                      <a:pt x="25" y="196"/>
                    </a:lnTo>
                    <a:lnTo>
                      <a:pt x="26" y="187"/>
                    </a:lnTo>
                    <a:lnTo>
                      <a:pt x="29" y="179"/>
                    </a:lnTo>
                    <a:lnTo>
                      <a:pt x="31" y="171"/>
                    </a:lnTo>
                    <a:lnTo>
                      <a:pt x="34" y="162"/>
                    </a:lnTo>
                    <a:lnTo>
                      <a:pt x="39" y="154"/>
                    </a:lnTo>
                    <a:lnTo>
                      <a:pt x="43" y="146"/>
                    </a:lnTo>
                    <a:lnTo>
                      <a:pt x="49" y="138"/>
                    </a:lnTo>
                    <a:lnTo>
                      <a:pt x="62" y="122"/>
                    </a:lnTo>
                    <a:lnTo>
                      <a:pt x="78" y="107"/>
                    </a:lnTo>
                    <a:lnTo>
                      <a:pt x="94" y="92"/>
                    </a:lnTo>
                    <a:lnTo>
                      <a:pt x="113" y="79"/>
                    </a:lnTo>
                    <a:lnTo>
                      <a:pt x="132" y="67"/>
                    </a:lnTo>
                    <a:lnTo>
                      <a:pt x="153" y="57"/>
                    </a:lnTo>
                    <a:lnTo>
                      <a:pt x="174" y="46"/>
                    </a:lnTo>
                    <a:lnTo>
                      <a:pt x="196" y="38"/>
                    </a:lnTo>
                    <a:lnTo>
                      <a:pt x="218" y="33"/>
                    </a:lnTo>
                    <a:lnTo>
                      <a:pt x="238" y="28"/>
                    </a:lnTo>
                    <a:lnTo>
                      <a:pt x="259" y="25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56" y="1"/>
                    </a:lnTo>
                    <a:lnTo>
                      <a:pt x="234" y="4"/>
                    </a:lnTo>
                    <a:lnTo>
                      <a:pt x="211" y="9"/>
                    </a:lnTo>
                    <a:lnTo>
                      <a:pt x="188" y="16"/>
                    </a:lnTo>
                    <a:lnTo>
                      <a:pt x="165" y="25"/>
                    </a:lnTo>
                    <a:lnTo>
                      <a:pt x="143" y="34"/>
                    </a:lnTo>
                    <a:lnTo>
                      <a:pt x="121" y="46"/>
                    </a:lnTo>
                    <a:lnTo>
                      <a:pt x="99" y="59"/>
                    </a:lnTo>
                    <a:lnTo>
                      <a:pt x="80" y="73"/>
                    </a:lnTo>
                    <a:lnTo>
                      <a:pt x="60" y="89"/>
                    </a:lnTo>
                    <a:lnTo>
                      <a:pt x="45" y="106"/>
                    </a:lnTo>
                    <a:lnTo>
                      <a:pt x="30" y="123"/>
                    </a:lnTo>
                    <a:lnTo>
                      <a:pt x="23" y="132"/>
                    </a:lnTo>
                    <a:lnTo>
                      <a:pt x="17" y="142"/>
                    </a:lnTo>
                    <a:lnTo>
                      <a:pt x="13" y="151"/>
                    </a:lnTo>
                    <a:lnTo>
                      <a:pt x="8" y="162"/>
                    </a:lnTo>
                    <a:lnTo>
                      <a:pt x="5" y="172"/>
                    </a:lnTo>
                    <a:lnTo>
                      <a:pt x="2" y="182"/>
                    </a:lnTo>
                    <a:lnTo>
                      <a:pt x="1" y="193"/>
                    </a:lnTo>
                    <a:lnTo>
                      <a:pt x="0" y="204"/>
                    </a:lnTo>
                    <a:lnTo>
                      <a:pt x="13" y="216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5" y="213"/>
                    </a:lnTo>
                    <a:lnTo>
                      <a:pt x="8" y="215"/>
                    </a:lnTo>
                    <a:lnTo>
                      <a:pt x="13" y="216"/>
                    </a:lnTo>
                    <a:lnTo>
                      <a:pt x="17" y="215"/>
                    </a:lnTo>
                    <a:lnTo>
                      <a:pt x="21" y="213"/>
                    </a:lnTo>
                    <a:lnTo>
                      <a:pt x="24" y="209"/>
                    </a:lnTo>
                    <a:lnTo>
                      <a:pt x="25" y="204"/>
                    </a:lnTo>
                    <a:lnTo>
                      <a:pt x="13" y="1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65440" y="3989520"/>
                <a:ext cx="130320" cy="41400"/>
              </a:xfrm>
              <a:custGeom>
                <a:avLst/>
                <a:gdLst/>
                <a:ahLst/>
                <a:rect l="l" t="t" r="r" b="b"/>
                <a:pathLst>
                  <a:path w="410" h="129">
                    <a:moveTo>
                      <a:pt x="409" y="16"/>
                    </a:moveTo>
                    <a:lnTo>
                      <a:pt x="389" y="4"/>
                    </a:lnTo>
                    <a:lnTo>
                      <a:pt x="368" y="22"/>
                    </a:lnTo>
                    <a:lnTo>
                      <a:pt x="346" y="37"/>
                    </a:lnTo>
                    <a:lnTo>
                      <a:pt x="324" y="51"/>
                    </a:lnTo>
                    <a:lnTo>
                      <a:pt x="302" y="62"/>
                    </a:lnTo>
                    <a:lnTo>
                      <a:pt x="279" y="72"/>
                    </a:lnTo>
                    <a:lnTo>
                      <a:pt x="256" y="80"/>
                    </a:lnTo>
                    <a:lnTo>
                      <a:pt x="232" y="87"/>
                    </a:lnTo>
                    <a:lnTo>
                      <a:pt x="208" y="93"/>
                    </a:lnTo>
                    <a:lnTo>
                      <a:pt x="183" y="96"/>
                    </a:lnTo>
                    <a:lnTo>
                      <a:pt x="159" y="100"/>
                    </a:lnTo>
                    <a:lnTo>
                      <a:pt x="133" y="102"/>
                    </a:lnTo>
                    <a:lnTo>
                      <a:pt x="108" y="103"/>
                    </a:lnTo>
                    <a:lnTo>
                      <a:pt x="54" y="105"/>
                    </a:lnTo>
                    <a:lnTo>
                      <a:pt x="0" y="105"/>
                    </a:lnTo>
                    <a:lnTo>
                      <a:pt x="0" y="129"/>
                    </a:lnTo>
                    <a:lnTo>
                      <a:pt x="54" y="129"/>
                    </a:lnTo>
                    <a:lnTo>
                      <a:pt x="108" y="128"/>
                    </a:lnTo>
                    <a:lnTo>
                      <a:pt x="135" y="126"/>
                    </a:lnTo>
                    <a:lnTo>
                      <a:pt x="161" y="124"/>
                    </a:lnTo>
                    <a:lnTo>
                      <a:pt x="186" y="120"/>
                    </a:lnTo>
                    <a:lnTo>
                      <a:pt x="213" y="116"/>
                    </a:lnTo>
                    <a:lnTo>
                      <a:pt x="238" y="110"/>
                    </a:lnTo>
                    <a:lnTo>
                      <a:pt x="263" y="103"/>
                    </a:lnTo>
                    <a:lnTo>
                      <a:pt x="288" y="95"/>
                    </a:lnTo>
                    <a:lnTo>
                      <a:pt x="312" y="84"/>
                    </a:lnTo>
                    <a:lnTo>
                      <a:pt x="336" y="72"/>
                    </a:lnTo>
                    <a:lnTo>
                      <a:pt x="360" y="57"/>
                    </a:lnTo>
                    <a:lnTo>
                      <a:pt x="383" y="41"/>
                    </a:lnTo>
                    <a:lnTo>
                      <a:pt x="405" y="22"/>
                    </a:lnTo>
                    <a:lnTo>
                      <a:pt x="386" y="10"/>
                    </a:lnTo>
                    <a:lnTo>
                      <a:pt x="405" y="22"/>
                    </a:lnTo>
                    <a:lnTo>
                      <a:pt x="409" y="18"/>
                    </a:lnTo>
                    <a:lnTo>
                      <a:pt x="410" y="13"/>
                    </a:lnTo>
                    <a:lnTo>
                      <a:pt x="409" y="10"/>
                    </a:lnTo>
                    <a:lnTo>
                      <a:pt x="406" y="5"/>
                    </a:lnTo>
                    <a:lnTo>
                      <a:pt x="403" y="3"/>
                    </a:lnTo>
                    <a:lnTo>
                      <a:pt x="400" y="0"/>
                    </a:lnTo>
                    <a:lnTo>
                      <a:pt x="394" y="2"/>
                    </a:lnTo>
                    <a:lnTo>
                      <a:pt x="389" y="4"/>
                    </a:lnTo>
                    <a:lnTo>
                      <a:pt x="409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779560" y="3943440"/>
                <a:ext cx="98640" cy="122400"/>
              </a:xfrm>
              <a:custGeom>
                <a:avLst/>
                <a:gdLst/>
                <a:ahLst/>
                <a:rect l="l" t="t" r="r" b="b"/>
                <a:pathLst>
                  <a:path w="309" h="387">
                    <a:moveTo>
                      <a:pt x="150" y="25"/>
                    </a:moveTo>
                    <a:lnTo>
                      <a:pt x="148" y="24"/>
                    </a:lnTo>
                    <a:lnTo>
                      <a:pt x="166" y="32"/>
                    </a:lnTo>
                    <a:lnTo>
                      <a:pt x="185" y="40"/>
                    </a:lnTo>
                    <a:lnTo>
                      <a:pt x="201" y="48"/>
                    </a:lnTo>
                    <a:lnTo>
                      <a:pt x="214" y="57"/>
                    </a:lnTo>
                    <a:lnTo>
                      <a:pt x="228" y="65"/>
                    </a:lnTo>
                    <a:lnTo>
                      <a:pt x="239" y="74"/>
                    </a:lnTo>
                    <a:lnTo>
                      <a:pt x="248" y="85"/>
                    </a:lnTo>
                    <a:lnTo>
                      <a:pt x="258" y="94"/>
                    </a:lnTo>
                    <a:lnTo>
                      <a:pt x="264" y="103"/>
                    </a:lnTo>
                    <a:lnTo>
                      <a:pt x="270" y="113"/>
                    </a:lnTo>
                    <a:lnTo>
                      <a:pt x="276" y="122"/>
                    </a:lnTo>
                    <a:lnTo>
                      <a:pt x="279" y="133"/>
                    </a:lnTo>
                    <a:lnTo>
                      <a:pt x="282" y="143"/>
                    </a:lnTo>
                    <a:lnTo>
                      <a:pt x="284" y="152"/>
                    </a:lnTo>
                    <a:lnTo>
                      <a:pt x="285" y="162"/>
                    </a:lnTo>
                    <a:lnTo>
                      <a:pt x="285" y="173"/>
                    </a:lnTo>
                    <a:lnTo>
                      <a:pt x="284" y="183"/>
                    </a:lnTo>
                    <a:lnTo>
                      <a:pt x="282" y="193"/>
                    </a:lnTo>
                    <a:lnTo>
                      <a:pt x="279" y="203"/>
                    </a:lnTo>
                    <a:lnTo>
                      <a:pt x="276" y="214"/>
                    </a:lnTo>
                    <a:lnTo>
                      <a:pt x="272" y="224"/>
                    </a:lnTo>
                    <a:lnTo>
                      <a:pt x="267" y="233"/>
                    </a:lnTo>
                    <a:lnTo>
                      <a:pt x="262" y="243"/>
                    </a:lnTo>
                    <a:lnTo>
                      <a:pt x="256" y="252"/>
                    </a:lnTo>
                    <a:lnTo>
                      <a:pt x="242" y="272"/>
                    </a:lnTo>
                    <a:lnTo>
                      <a:pt x="227" y="289"/>
                    </a:lnTo>
                    <a:lnTo>
                      <a:pt x="210" y="306"/>
                    </a:lnTo>
                    <a:lnTo>
                      <a:pt x="191" y="321"/>
                    </a:lnTo>
                    <a:lnTo>
                      <a:pt x="172" y="333"/>
                    </a:lnTo>
                    <a:lnTo>
                      <a:pt x="153" y="345"/>
                    </a:lnTo>
                    <a:lnTo>
                      <a:pt x="144" y="349"/>
                    </a:lnTo>
                    <a:lnTo>
                      <a:pt x="133" y="353"/>
                    </a:lnTo>
                    <a:lnTo>
                      <a:pt x="124" y="356"/>
                    </a:lnTo>
                    <a:lnTo>
                      <a:pt x="115" y="358"/>
                    </a:lnTo>
                    <a:lnTo>
                      <a:pt x="106" y="361"/>
                    </a:lnTo>
                    <a:lnTo>
                      <a:pt x="97" y="362"/>
                    </a:lnTo>
                    <a:lnTo>
                      <a:pt x="89" y="363"/>
                    </a:lnTo>
                    <a:lnTo>
                      <a:pt x="81" y="363"/>
                    </a:lnTo>
                    <a:lnTo>
                      <a:pt x="73" y="362"/>
                    </a:lnTo>
                    <a:lnTo>
                      <a:pt x="66" y="361"/>
                    </a:lnTo>
                    <a:lnTo>
                      <a:pt x="59" y="358"/>
                    </a:lnTo>
                    <a:lnTo>
                      <a:pt x="54" y="355"/>
                    </a:lnTo>
                    <a:lnTo>
                      <a:pt x="48" y="352"/>
                    </a:lnTo>
                    <a:lnTo>
                      <a:pt x="43" y="347"/>
                    </a:lnTo>
                    <a:lnTo>
                      <a:pt x="39" y="341"/>
                    </a:lnTo>
                    <a:lnTo>
                      <a:pt x="35" y="336"/>
                    </a:lnTo>
                    <a:lnTo>
                      <a:pt x="32" y="328"/>
                    </a:lnTo>
                    <a:lnTo>
                      <a:pt x="28" y="320"/>
                    </a:lnTo>
                    <a:lnTo>
                      <a:pt x="26" y="310"/>
                    </a:lnTo>
                    <a:lnTo>
                      <a:pt x="25" y="299"/>
                    </a:lnTo>
                    <a:lnTo>
                      <a:pt x="24" y="287"/>
                    </a:lnTo>
                    <a:lnTo>
                      <a:pt x="24" y="273"/>
                    </a:lnTo>
                    <a:lnTo>
                      <a:pt x="25" y="259"/>
                    </a:lnTo>
                    <a:lnTo>
                      <a:pt x="27" y="242"/>
                    </a:lnTo>
                    <a:lnTo>
                      <a:pt x="31" y="225"/>
                    </a:lnTo>
                    <a:lnTo>
                      <a:pt x="35" y="206"/>
                    </a:lnTo>
                    <a:lnTo>
                      <a:pt x="41" y="186"/>
                    </a:lnTo>
                    <a:lnTo>
                      <a:pt x="47" y="163"/>
                    </a:lnTo>
                    <a:lnTo>
                      <a:pt x="24" y="157"/>
                    </a:lnTo>
                    <a:lnTo>
                      <a:pt x="17" y="179"/>
                    </a:lnTo>
                    <a:lnTo>
                      <a:pt x="11" y="200"/>
                    </a:lnTo>
                    <a:lnTo>
                      <a:pt x="7" y="220"/>
                    </a:lnTo>
                    <a:lnTo>
                      <a:pt x="3" y="239"/>
                    </a:lnTo>
                    <a:lnTo>
                      <a:pt x="1" y="256"/>
                    </a:lnTo>
                    <a:lnTo>
                      <a:pt x="0" y="273"/>
                    </a:lnTo>
                    <a:lnTo>
                      <a:pt x="0" y="288"/>
                    </a:lnTo>
                    <a:lnTo>
                      <a:pt x="0" y="301"/>
                    </a:lnTo>
                    <a:lnTo>
                      <a:pt x="2" y="315"/>
                    </a:lnTo>
                    <a:lnTo>
                      <a:pt x="6" y="326"/>
                    </a:lnTo>
                    <a:lnTo>
                      <a:pt x="9" y="338"/>
                    </a:lnTo>
                    <a:lnTo>
                      <a:pt x="14" y="347"/>
                    </a:lnTo>
                    <a:lnTo>
                      <a:pt x="19" y="356"/>
                    </a:lnTo>
                    <a:lnTo>
                      <a:pt x="26" y="364"/>
                    </a:lnTo>
                    <a:lnTo>
                      <a:pt x="34" y="371"/>
                    </a:lnTo>
                    <a:lnTo>
                      <a:pt x="42" y="375"/>
                    </a:lnTo>
                    <a:lnTo>
                      <a:pt x="50" y="380"/>
                    </a:lnTo>
                    <a:lnTo>
                      <a:pt x="59" y="383"/>
                    </a:lnTo>
                    <a:lnTo>
                      <a:pt x="70" y="386"/>
                    </a:lnTo>
                    <a:lnTo>
                      <a:pt x="79" y="387"/>
                    </a:lnTo>
                    <a:lnTo>
                      <a:pt x="89" y="387"/>
                    </a:lnTo>
                    <a:lnTo>
                      <a:pt x="99" y="386"/>
                    </a:lnTo>
                    <a:lnTo>
                      <a:pt x="111" y="385"/>
                    </a:lnTo>
                    <a:lnTo>
                      <a:pt x="121" y="382"/>
                    </a:lnTo>
                    <a:lnTo>
                      <a:pt x="131" y="379"/>
                    </a:lnTo>
                    <a:lnTo>
                      <a:pt x="142" y="375"/>
                    </a:lnTo>
                    <a:lnTo>
                      <a:pt x="153" y="371"/>
                    </a:lnTo>
                    <a:lnTo>
                      <a:pt x="164" y="365"/>
                    </a:lnTo>
                    <a:lnTo>
                      <a:pt x="185" y="354"/>
                    </a:lnTo>
                    <a:lnTo>
                      <a:pt x="205" y="340"/>
                    </a:lnTo>
                    <a:lnTo>
                      <a:pt x="226" y="324"/>
                    </a:lnTo>
                    <a:lnTo>
                      <a:pt x="244" y="306"/>
                    </a:lnTo>
                    <a:lnTo>
                      <a:pt x="261" y="287"/>
                    </a:lnTo>
                    <a:lnTo>
                      <a:pt x="276" y="266"/>
                    </a:lnTo>
                    <a:lnTo>
                      <a:pt x="283" y="256"/>
                    </a:lnTo>
                    <a:lnTo>
                      <a:pt x="288" y="244"/>
                    </a:lnTo>
                    <a:lnTo>
                      <a:pt x="294" y="233"/>
                    </a:lnTo>
                    <a:lnTo>
                      <a:pt x="299" y="222"/>
                    </a:lnTo>
                    <a:lnTo>
                      <a:pt x="302" y="210"/>
                    </a:lnTo>
                    <a:lnTo>
                      <a:pt x="305" y="198"/>
                    </a:lnTo>
                    <a:lnTo>
                      <a:pt x="308" y="186"/>
                    </a:lnTo>
                    <a:lnTo>
                      <a:pt x="309" y="174"/>
                    </a:lnTo>
                    <a:lnTo>
                      <a:pt x="309" y="161"/>
                    </a:lnTo>
                    <a:lnTo>
                      <a:pt x="308" y="150"/>
                    </a:lnTo>
                    <a:lnTo>
                      <a:pt x="305" y="137"/>
                    </a:lnTo>
                    <a:lnTo>
                      <a:pt x="302" y="125"/>
                    </a:lnTo>
                    <a:lnTo>
                      <a:pt x="297" y="113"/>
                    </a:lnTo>
                    <a:lnTo>
                      <a:pt x="292" y="101"/>
                    </a:lnTo>
                    <a:lnTo>
                      <a:pt x="284" y="89"/>
                    </a:lnTo>
                    <a:lnTo>
                      <a:pt x="276" y="78"/>
                    </a:lnTo>
                    <a:lnTo>
                      <a:pt x="266" y="68"/>
                    </a:lnTo>
                    <a:lnTo>
                      <a:pt x="254" y="56"/>
                    </a:lnTo>
                    <a:lnTo>
                      <a:pt x="242" y="46"/>
                    </a:lnTo>
                    <a:lnTo>
                      <a:pt x="228" y="37"/>
                    </a:lnTo>
                    <a:lnTo>
                      <a:pt x="212" y="28"/>
                    </a:lnTo>
                    <a:lnTo>
                      <a:pt x="195" y="19"/>
                    </a:lnTo>
                    <a:lnTo>
                      <a:pt x="177" y="10"/>
                    </a:lnTo>
                    <a:lnTo>
                      <a:pt x="156" y="2"/>
                    </a:lnTo>
                    <a:lnTo>
                      <a:pt x="153" y="0"/>
                    </a:lnTo>
                    <a:lnTo>
                      <a:pt x="156" y="2"/>
                    </a:lnTo>
                    <a:lnTo>
                      <a:pt x="150" y="0"/>
                    </a:lnTo>
                    <a:lnTo>
                      <a:pt x="146" y="2"/>
                    </a:lnTo>
                    <a:lnTo>
                      <a:pt x="142" y="5"/>
                    </a:lnTo>
                    <a:lnTo>
                      <a:pt x="140" y="8"/>
                    </a:lnTo>
                    <a:lnTo>
                      <a:pt x="140" y="13"/>
                    </a:lnTo>
                    <a:lnTo>
                      <a:pt x="140" y="17"/>
                    </a:lnTo>
                    <a:lnTo>
                      <a:pt x="142" y="22"/>
                    </a:lnTo>
                    <a:lnTo>
                      <a:pt x="148" y="24"/>
                    </a:lnTo>
                    <a:lnTo>
                      <a:pt x="15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89360" y="40183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5" h="545">
                    <a:moveTo>
                      <a:pt x="132" y="221"/>
                    </a:moveTo>
                    <a:lnTo>
                      <a:pt x="164" y="202"/>
                    </a:lnTo>
                    <a:lnTo>
                      <a:pt x="194" y="181"/>
                    </a:lnTo>
                    <a:lnTo>
                      <a:pt x="224" y="162"/>
                    </a:lnTo>
                    <a:lnTo>
                      <a:pt x="253" y="143"/>
                    </a:lnTo>
                    <a:lnTo>
                      <a:pt x="280" y="123"/>
                    </a:lnTo>
                    <a:lnTo>
                      <a:pt x="307" y="105"/>
                    </a:lnTo>
                    <a:lnTo>
                      <a:pt x="335" y="87"/>
                    </a:lnTo>
                    <a:lnTo>
                      <a:pt x="363" y="71"/>
                    </a:lnTo>
                    <a:lnTo>
                      <a:pt x="392" y="56"/>
                    </a:lnTo>
                    <a:lnTo>
                      <a:pt x="421" y="42"/>
                    </a:lnTo>
                    <a:lnTo>
                      <a:pt x="437" y="36"/>
                    </a:lnTo>
                    <a:lnTo>
                      <a:pt x="453" y="30"/>
                    </a:lnTo>
                    <a:lnTo>
                      <a:pt x="470" y="24"/>
                    </a:lnTo>
                    <a:lnTo>
                      <a:pt x="487" y="20"/>
                    </a:lnTo>
                    <a:lnTo>
                      <a:pt x="504" y="15"/>
                    </a:lnTo>
                    <a:lnTo>
                      <a:pt x="523" y="12"/>
                    </a:lnTo>
                    <a:lnTo>
                      <a:pt x="542" y="8"/>
                    </a:lnTo>
                    <a:lnTo>
                      <a:pt x="561" y="5"/>
                    </a:lnTo>
                    <a:lnTo>
                      <a:pt x="582" y="3"/>
                    </a:lnTo>
                    <a:lnTo>
                      <a:pt x="602" y="1"/>
                    </a:lnTo>
                    <a:lnTo>
                      <a:pt x="625" y="0"/>
                    </a:lnTo>
                    <a:lnTo>
                      <a:pt x="648" y="0"/>
                    </a:lnTo>
                    <a:lnTo>
                      <a:pt x="655" y="30"/>
                    </a:lnTo>
                    <a:lnTo>
                      <a:pt x="659" y="56"/>
                    </a:lnTo>
                    <a:lnTo>
                      <a:pt x="662" y="78"/>
                    </a:lnTo>
                    <a:lnTo>
                      <a:pt x="662" y="97"/>
                    </a:lnTo>
                    <a:lnTo>
                      <a:pt x="661" y="105"/>
                    </a:lnTo>
                    <a:lnTo>
                      <a:pt x="659" y="112"/>
                    </a:lnTo>
                    <a:lnTo>
                      <a:pt x="658" y="119"/>
                    </a:lnTo>
                    <a:lnTo>
                      <a:pt x="656" y="126"/>
                    </a:lnTo>
                    <a:lnTo>
                      <a:pt x="653" y="131"/>
                    </a:lnTo>
                    <a:lnTo>
                      <a:pt x="649" y="137"/>
                    </a:lnTo>
                    <a:lnTo>
                      <a:pt x="646" y="142"/>
                    </a:lnTo>
                    <a:lnTo>
                      <a:pt x="641" y="146"/>
                    </a:lnTo>
                    <a:lnTo>
                      <a:pt x="631" y="155"/>
                    </a:lnTo>
                    <a:lnTo>
                      <a:pt x="620" y="166"/>
                    </a:lnTo>
                    <a:lnTo>
                      <a:pt x="606" y="175"/>
                    </a:lnTo>
                    <a:lnTo>
                      <a:pt x="591" y="185"/>
                    </a:lnTo>
                    <a:lnTo>
                      <a:pt x="574" y="197"/>
                    </a:lnTo>
                    <a:lnTo>
                      <a:pt x="556" y="212"/>
                    </a:lnTo>
                    <a:lnTo>
                      <a:pt x="535" y="229"/>
                    </a:lnTo>
                    <a:lnTo>
                      <a:pt x="515" y="249"/>
                    </a:lnTo>
                    <a:lnTo>
                      <a:pt x="559" y="250"/>
                    </a:lnTo>
                    <a:lnTo>
                      <a:pt x="599" y="251"/>
                    </a:lnTo>
                    <a:lnTo>
                      <a:pt x="636" y="253"/>
                    </a:lnTo>
                    <a:lnTo>
                      <a:pt x="667" y="258"/>
                    </a:lnTo>
                    <a:lnTo>
                      <a:pt x="682" y="261"/>
                    </a:lnTo>
                    <a:lnTo>
                      <a:pt x="697" y="265"/>
                    </a:lnTo>
                    <a:lnTo>
                      <a:pt x="710" y="268"/>
                    </a:lnTo>
                    <a:lnTo>
                      <a:pt x="722" y="273"/>
                    </a:lnTo>
                    <a:lnTo>
                      <a:pt x="734" y="278"/>
                    </a:lnTo>
                    <a:lnTo>
                      <a:pt x="744" y="284"/>
                    </a:lnTo>
                    <a:lnTo>
                      <a:pt x="754" y="291"/>
                    </a:lnTo>
                    <a:lnTo>
                      <a:pt x="763" y="298"/>
                    </a:lnTo>
                    <a:lnTo>
                      <a:pt x="771" y="306"/>
                    </a:lnTo>
                    <a:lnTo>
                      <a:pt x="779" y="315"/>
                    </a:lnTo>
                    <a:lnTo>
                      <a:pt x="786" y="324"/>
                    </a:lnTo>
                    <a:lnTo>
                      <a:pt x="792" y="335"/>
                    </a:lnTo>
                    <a:lnTo>
                      <a:pt x="797" y="347"/>
                    </a:lnTo>
                    <a:lnTo>
                      <a:pt x="803" y="359"/>
                    </a:lnTo>
                    <a:lnTo>
                      <a:pt x="808" y="373"/>
                    </a:lnTo>
                    <a:lnTo>
                      <a:pt x="811" y="387"/>
                    </a:lnTo>
                    <a:lnTo>
                      <a:pt x="814" y="403"/>
                    </a:lnTo>
                    <a:lnTo>
                      <a:pt x="817" y="420"/>
                    </a:lnTo>
                    <a:lnTo>
                      <a:pt x="819" y="438"/>
                    </a:lnTo>
                    <a:lnTo>
                      <a:pt x="821" y="456"/>
                    </a:lnTo>
                    <a:lnTo>
                      <a:pt x="824" y="498"/>
                    </a:lnTo>
                    <a:lnTo>
                      <a:pt x="825" y="545"/>
                    </a:lnTo>
                    <a:lnTo>
                      <a:pt x="804" y="545"/>
                    </a:lnTo>
                    <a:lnTo>
                      <a:pt x="785" y="543"/>
                    </a:lnTo>
                    <a:lnTo>
                      <a:pt x="765" y="541"/>
                    </a:lnTo>
                    <a:lnTo>
                      <a:pt x="747" y="537"/>
                    </a:lnTo>
                    <a:lnTo>
                      <a:pt x="729" y="533"/>
                    </a:lnTo>
                    <a:lnTo>
                      <a:pt x="713" y="528"/>
                    </a:lnTo>
                    <a:lnTo>
                      <a:pt x="696" y="521"/>
                    </a:lnTo>
                    <a:lnTo>
                      <a:pt x="680" y="516"/>
                    </a:lnTo>
                    <a:lnTo>
                      <a:pt x="665" y="509"/>
                    </a:lnTo>
                    <a:lnTo>
                      <a:pt x="650" y="501"/>
                    </a:lnTo>
                    <a:lnTo>
                      <a:pt x="636" y="493"/>
                    </a:lnTo>
                    <a:lnTo>
                      <a:pt x="622" y="485"/>
                    </a:lnTo>
                    <a:lnTo>
                      <a:pt x="596" y="468"/>
                    </a:lnTo>
                    <a:lnTo>
                      <a:pt x="569" y="449"/>
                    </a:lnTo>
                    <a:lnTo>
                      <a:pt x="545" y="431"/>
                    </a:lnTo>
                    <a:lnTo>
                      <a:pt x="522" y="414"/>
                    </a:lnTo>
                    <a:lnTo>
                      <a:pt x="499" y="398"/>
                    </a:lnTo>
                    <a:lnTo>
                      <a:pt x="476" y="383"/>
                    </a:lnTo>
                    <a:lnTo>
                      <a:pt x="465" y="376"/>
                    </a:lnTo>
                    <a:lnTo>
                      <a:pt x="453" y="371"/>
                    </a:lnTo>
                    <a:lnTo>
                      <a:pt x="442" y="366"/>
                    </a:lnTo>
                    <a:lnTo>
                      <a:pt x="430" y="362"/>
                    </a:lnTo>
                    <a:lnTo>
                      <a:pt x="419" y="358"/>
                    </a:lnTo>
                    <a:lnTo>
                      <a:pt x="406" y="355"/>
                    </a:lnTo>
                    <a:lnTo>
                      <a:pt x="395" y="354"/>
                    </a:lnTo>
                    <a:lnTo>
                      <a:pt x="383" y="352"/>
                    </a:lnTo>
                    <a:lnTo>
                      <a:pt x="376" y="370"/>
                    </a:lnTo>
                    <a:lnTo>
                      <a:pt x="369" y="384"/>
                    </a:lnTo>
                    <a:lnTo>
                      <a:pt x="361" y="398"/>
                    </a:lnTo>
                    <a:lnTo>
                      <a:pt x="353" y="411"/>
                    </a:lnTo>
                    <a:lnTo>
                      <a:pt x="344" y="422"/>
                    </a:lnTo>
                    <a:lnTo>
                      <a:pt x="336" y="433"/>
                    </a:lnTo>
                    <a:lnTo>
                      <a:pt x="327" y="444"/>
                    </a:lnTo>
                    <a:lnTo>
                      <a:pt x="318" y="453"/>
                    </a:lnTo>
                    <a:lnTo>
                      <a:pt x="307" y="461"/>
                    </a:lnTo>
                    <a:lnTo>
                      <a:pt x="297" y="469"/>
                    </a:lnTo>
                    <a:lnTo>
                      <a:pt x="287" y="476"/>
                    </a:lnTo>
                    <a:lnTo>
                      <a:pt x="277" y="481"/>
                    </a:lnTo>
                    <a:lnTo>
                      <a:pt x="265" y="487"/>
                    </a:lnTo>
                    <a:lnTo>
                      <a:pt x="254" y="492"/>
                    </a:lnTo>
                    <a:lnTo>
                      <a:pt x="242" y="496"/>
                    </a:lnTo>
                    <a:lnTo>
                      <a:pt x="230" y="500"/>
                    </a:lnTo>
                    <a:lnTo>
                      <a:pt x="206" y="505"/>
                    </a:lnTo>
                    <a:lnTo>
                      <a:pt x="180" y="510"/>
                    </a:lnTo>
                    <a:lnTo>
                      <a:pt x="152" y="512"/>
                    </a:lnTo>
                    <a:lnTo>
                      <a:pt x="124" y="514"/>
                    </a:lnTo>
                    <a:lnTo>
                      <a:pt x="65" y="514"/>
                    </a:lnTo>
                    <a:lnTo>
                      <a:pt x="0" y="514"/>
                    </a:lnTo>
                    <a:lnTo>
                      <a:pt x="16" y="294"/>
                    </a:lnTo>
                    <a:lnTo>
                      <a:pt x="29" y="293"/>
                    </a:lnTo>
                    <a:lnTo>
                      <a:pt x="41" y="291"/>
                    </a:lnTo>
                    <a:lnTo>
                      <a:pt x="52" y="288"/>
                    </a:lnTo>
                    <a:lnTo>
                      <a:pt x="63" y="283"/>
                    </a:lnTo>
                    <a:lnTo>
                      <a:pt x="84" y="272"/>
                    </a:lnTo>
                    <a:lnTo>
                      <a:pt x="102" y="258"/>
                    </a:lnTo>
                    <a:lnTo>
                      <a:pt x="119" y="244"/>
                    </a:lnTo>
                    <a:lnTo>
                      <a:pt x="137" y="233"/>
                    </a:lnTo>
                    <a:lnTo>
                      <a:pt x="147" y="228"/>
                    </a:lnTo>
                    <a:lnTo>
                      <a:pt x="156" y="225"/>
                    </a:lnTo>
                    <a:lnTo>
                      <a:pt x="166" y="223"/>
                    </a:lnTo>
                    <a:lnTo>
                      <a:pt x="176" y="221"/>
                    </a:lnTo>
                    <a:lnTo>
                      <a:pt x="132" y="22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28960" y="4013640"/>
                <a:ext cx="169920" cy="77760"/>
              </a:xfrm>
              <a:custGeom>
                <a:avLst/>
                <a:gdLst/>
                <a:ahLst/>
                <a:rect l="l" t="t" r="r" b="b"/>
                <a:pathLst>
                  <a:path w="534" h="244">
                    <a:moveTo>
                      <a:pt x="534" y="9"/>
                    </a:moveTo>
                    <a:lnTo>
                      <a:pt x="523" y="0"/>
                    </a:lnTo>
                    <a:lnTo>
                      <a:pt x="499" y="0"/>
                    </a:lnTo>
                    <a:lnTo>
                      <a:pt x="477" y="1"/>
                    </a:lnTo>
                    <a:lnTo>
                      <a:pt x="456" y="3"/>
                    </a:lnTo>
                    <a:lnTo>
                      <a:pt x="434" y="5"/>
                    </a:lnTo>
                    <a:lnTo>
                      <a:pt x="415" y="8"/>
                    </a:lnTo>
                    <a:lnTo>
                      <a:pt x="395" y="11"/>
                    </a:lnTo>
                    <a:lnTo>
                      <a:pt x="377" y="16"/>
                    </a:lnTo>
                    <a:lnTo>
                      <a:pt x="359" y="20"/>
                    </a:lnTo>
                    <a:lnTo>
                      <a:pt x="342" y="25"/>
                    </a:lnTo>
                    <a:lnTo>
                      <a:pt x="325" y="30"/>
                    </a:lnTo>
                    <a:lnTo>
                      <a:pt x="308" y="36"/>
                    </a:lnTo>
                    <a:lnTo>
                      <a:pt x="292" y="43"/>
                    </a:lnTo>
                    <a:lnTo>
                      <a:pt x="261" y="57"/>
                    </a:lnTo>
                    <a:lnTo>
                      <a:pt x="232" y="73"/>
                    </a:lnTo>
                    <a:lnTo>
                      <a:pt x="204" y="89"/>
                    </a:lnTo>
                    <a:lnTo>
                      <a:pt x="175" y="107"/>
                    </a:lnTo>
                    <a:lnTo>
                      <a:pt x="148" y="125"/>
                    </a:lnTo>
                    <a:lnTo>
                      <a:pt x="121" y="144"/>
                    </a:lnTo>
                    <a:lnTo>
                      <a:pt x="92" y="164"/>
                    </a:lnTo>
                    <a:lnTo>
                      <a:pt x="63" y="183"/>
                    </a:lnTo>
                    <a:lnTo>
                      <a:pt x="33" y="204"/>
                    </a:lnTo>
                    <a:lnTo>
                      <a:pt x="0" y="223"/>
                    </a:lnTo>
                    <a:lnTo>
                      <a:pt x="12" y="244"/>
                    </a:lnTo>
                    <a:lnTo>
                      <a:pt x="46" y="224"/>
                    </a:lnTo>
                    <a:lnTo>
                      <a:pt x="76" y="204"/>
                    </a:lnTo>
                    <a:lnTo>
                      <a:pt x="106" y="183"/>
                    </a:lnTo>
                    <a:lnTo>
                      <a:pt x="134" y="164"/>
                    </a:lnTo>
                    <a:lnTo>
                      <a:pt x="162" y="146"/>
                    </a:lnTo>
                    <a:lnTo>
                      <a:pt x="189" y="127"/>
                    </a:lnTo>
                    <a:lnTo>
                      <a:pt x="216" y="109"/>
                    </a:lnTo>
                    <a:lnTo>
                      <a:pt x="244" y="93"/>
                    </a:lnTo>
                    <a:lnTo>
                      <a:pt x="272" y="78"/>
                    </a:lnTo>
                    <a:lnTo>
                      <a:pt x="302" y="65"/>
                    </a:lnTo>
                    <a:lnTo>
                      <a:pt x="317" y="59"/>
                    </a:lnTo>
                    <a:lnTo>
                      <a:pt x="333" y="53"/>
                    </a:lnTo>
                    <a:lnTo>
                      <a:pt x="349" y="48"/>
                    </a:lnTo>
                    <a:lnTo>
                      <a:pt x="365" y="43"/>
                    </a:lnTo>
                    <a:lnTo>
                      <a:pt x="382" y="38"/>
                    </a:lnTo>
                    <a:lnTo>
                      <a:pt x="400" y="35"/>
                    </a:lnTo>
                    <a:lnTo>
                      <a:pt x="418" y="32"/>
                    </a:lnTo>
                    <a:lnTo>
                      <a:pt x="438" y="29"/>
                    </a:lnTo>
                    <a:lnTo>
                      <a:pt x="458" y="27"/>
                    </a:lnTo>
                    <a:lnTo>
                      <a:pt x="479" y="25"/>
                    </a:lnTo>
                    <a:lnTo>
                      <a:pt x="500" y="24"/>
                    </a:lnTo>
                    <a:lnTo>
                      <a:pt x="523" y="24"/>
                    </a:lnTo>
                    <a:lnTo>
                      <a:pt x="511" y="15"/>
                    </a:lnTo>
                    <a:lnTo>
                      <a:pt x="523" y="24"/>
                    </a:lnTo>
                    <a:lnTo>
                      <a:pt x="528" y="22"/>
                    </a:lnTo>
                    <a:lnTo>
                      <a:pt x="532" y="20"/>
                    </a:lnTo>
                    <a:lnTo>
                      <a:pt x="534" y="16"/>
                    </a:lnTo>
                    <a:lnTo>
                      <a:pt x="534" y="12"/>
                    </a:lnTo>
                    <a:lnTo>
                      <a:pt x="534" y="8"/>
                    </a:lnTo>
                    <a:lnTo>
                      <a:pt x="532" y="3"/>
                    </a:lnTo>
                    <a:lnTo>
                      <a:pt x="528" y="1"/>
                    </a:lnTo>
                    <a:lnTo>
                      <a:pt x="523" y="0"/>
                    </a:lnTo>
                    <a:lnTo>
                      <a:pt x="53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949560" y="40165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3" y="240"/>
                    </a:moveTo>
                    <a:lnTo>
                      <a:pt x="21" y="261"/>
                    </a:lnTo>
                    <a:lnTo>
                      <a:pt x="42" y="240"/>
                    </a:lnTo>
                    <a:lnTo>
                      <a:pt x="62" y="224"/>
                    </a:lnTo>
                    <a:lnTo>
                      <a:pt x="79" y="211"/>
                    </a:lnTo>
                    <a:lnTo>
                      <a:pt x="96" y="198"/>
                    </a:lnTo>
                    <a:lnTo>
                      <a:pt x="111" y="188"/>
                    </a:lnTo>
                    <a:lnTo>
                      <a:pt x="124" y="178"/>
                    </a:lnTo>
                    <a:lnTo>
                      <a:pt x="137" y="169"/>
                    </a:lnTo>
                    <a:lnTo>
                      <a:pt x="148" y="158"/>
                    </a:lnTo>
                    <a:lnTo>
                      <a:pt x="153" y="153"/>
                    </a:lnTo>
                    <a:lnTo>
                      <a:pt x="157" y="146"/>
                    </a:lnTo>
                    <a:lnTo>
                      <a:pt x="161" y="140"/>
                    </a:lnTo>
                    <a:lnTo>
                      <a:pt x="164" y="133"/>
                    </a:lnTo>
                    <a:lnTo>
                      <a:pt x="168" y="125"/>
                    </a:lnTo>
                    <a:lnTo>
                      <a:pt x="170" y="117"/>
                    </a:lnTo>
                    <a:lnTo>
                      <a:pt x="171" y="109"/>
                    </a:lnTo>
                    <a:lnTo>
                      <a:pt x="172" y="100"/>
                    </a:lnTo>
                    <a:lnTo>
                      <a:pt x="171" y="81"/>
                    </a:lnTo>
                    <a:lnTo>
                      <a:pt x="169" y="58"/>
                    </a:lnTo>
                    <a:lnTo>
                      <a:pt x="164" y="31"/>
                    </a:lnTo>
                    <a:lnTo>
                      <a:pt x="157" y="0"/>
                    </a:lnTo>
                    <a:lnTo>
                      <a:pt x="134" y="6"/>
                    </a:lnTo>
                    <a:lnTo>
                      <a:pt x="140" y="35"/>
                    </a:lnTo>
                    <a:lnTo>
                      <a:pt x="145" y="61"/>
                    </a:lnTo>
                    <a:lnTo>
                      <a:pt x="147" y="82"/>
                    </a:lnTo>
                    <a:lnTo>
                      <a:pt x="147" y="99"/>
                    </a:lnTo>
                    <a:lnTo>
                      <a:pt x="147" y="106"/>
                    </a:lnTo>
                    <a:lnTo>
                      <a:pt x="146" y="113"/>
                    </a:lnTo>
                    <a:lnTo>
                      <a:pt x="144" y="118"/>
                    </a:lnTo>
                    <a:lnTo>
                      <a:pt x="143" y="123"/>
                    </a:lnTo>
                    <a:lnTo>
                      <a:pt x="140" y="129"/>
                    </a:lnTo>
                    <a:lnTo>
                      <a:pt x="137" y="133"/>
                    </a:lnTo>
                    <a:lnTo>
                      <a:pt x="135" y="137"/>
                    </a:lnTo>
                    <a:lnTo>
                      <a:pt x="131" y="141"/>
                    </a:lnTo>
                    <a:lnTo>
                      <a:pt x="122" y="149"/>
                    </a:lnTo>
                    <a:lnTo>
                      <a:pt x="111" y="158"/>
                    </a:lnTo>
                    <a:lnTo>
                      <a:pt x="97" y="167"/>
                    </a:lnTo>
                    <a:lnTo>
                      <a:pt x="82" y="179"/>
                    </a:lnTo>
                    <a:lnTo>
                      <a:pt x="65" y="191"/>
                    </a:lnTo>
                    <a:lnTo>
                      <a:pt x="46" y="205"/>
                    </a:lnTo>
                    <a:lnTo>
                      <a:pt x="25" y="223"/>
                    </a:lnTo>
                    <a:lnTo>
                      <a:pt x="4" y="244"/>
                    </a:lnTo>
                    <a:lnTo>
                      <a:pt x="13" y="264"/>
                    </a:lnTo>
                    <a:lnTo>
                      <a:pt x="4" y="244"/>
                    </a:lnTo>
                    <a:lnTo>
                      <a:pt x="0" y="248"/>
                    </a:lnTo>
                    <a:lnTo>
                      <a:pt x="0" y="253"/>
                    </a:lnTo>
                    <a:lnTo>
                      <a:pt x="1" y="257"/>
                    </a:lnTo>
                    <a:lnTo>
                      <a:pt x="4" y="261"/>
                    </a:lnTo>
                    <a:lnTo>
                      <a:pt x="7" y="263"/>
                    </a:lnTo>
                    <a:lnTo>
                      <a:pt x="12" y="264"/>
                    </a:lnTo>
                    <a:lnTo>
                      <a:pt x="16" y="263"/>
                    </a:lnTo>
                    <a:lnTo>
                      <a:pt x="21" y="261"/>
                    </a:lnTo>
                    <a:lnTo>
                      <a:pt x="13" y="2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952800" y="409284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321" h="321">
                    <a:moveTo>
                      <a:pt x="310" y="321"/>
                    </a:moveTo>
                    <a:lnTo>
                      <a:pt x="321" y="308"/>
                    </a:lnTo>
                    <a:lnTo>
                      <a:pt x="321" y="261"/>
                    </a:lnTo>
                    <a:lnTo>
                      <a:pt x="319" y="219"/>
                    </a:lnTo>
                    <a:lnTo>
                      <a:pt x="317" y="199"/>
                    </a:lnTo>
                    <a:lnTo>
                      <a:pt x="314" y="180"/>
                    </a:lnTo>
                    <a:lnTo>
                      <a:pt x="311" y="163"/>
                    </a:lnTo>
                    <a:lnTo>
                      <a:pt x="307" y="147"/>
                    </a:lnTo>
                    <a:lnTo>
                      <a:pt x="304" y="133"/>
                    </a:lnTo>
                    <a:lnTo>
                      <a:pt x="299" y="118"/>
                    </a:lnTo>
                    <a:lnTo>
                      <a:pt x="294" y="105"/>
                    </a:lnTo>
                    <a:lnTo>
                      <a:pt x="288" y="93"/>
                    </a:lnTo>
                    <a:lnTo>
                      <a:pt x="281" y="81"/>
                    </a:lnTo>
                    <a:lnTo>
                      <a:pt x="273" y="70"/>
                    </a:lnTo>
                    <a:lnTo>
                      <a:pt x="265" y="61"/>
                    </a:lnTo>
                    <a:lnTo>
                      <a:pt x="256" y="52"/>
                    </a:lnTo>
                    <a:lnTo>
                      <a:pt x="246" y="44"/>
                    </a:lnTo>
                    <a:lnTo>
                      <a:pt x="236" y="37"/>
                    </a:lnTo>
                    <a:lnTo>
                      <a:pt x="224" y="30"/>
                    </a:lnTo>
                    <a:lnTo>
                      <a:pt x="212" y="24"/>
                    </a:lnTo>
                    <a:lnTo>
                      <a:pt x="199" y="20"/>
                    </a:lnTo>
                    <a:lnTo>
                      <a:pt x="184" y="16"/>
                    </a:lnTo>
                    <a:lnTo>
                      <a:pt x="171" y="12"/>
                    </a:lnTo>
                    <a:lnTo>
                      <a:pt x="155" y="9"/>
                    </a:lnTo>
                    <a:lnTo>
                      <a:pt x="122" y="5"/>
                    </a:lnTo>
                    <a:lnTo>
                      <a:pt x="85" y="1"/>
                    </a:ln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84" y="27"/>
                    </a:lnTo>
                    <a:lnTo>
                      <a:pt x="119" y="29"/>
                    </a:lnTo>
                    <a:lnTo>
                      <a:pt x="151" y="33"/>
                    </a:lnTo>
                    <a:lnTo>
                      <a:pt x="165" y="36"/>
                    </a:lnTo>
                    <a:lnTo>
                      <a:pt x="179" y="39"/>
                    </a:lnTo>
                    <a:lnTo>
                      <a:pt x="191" y="43"/>
                    </a:lnTo>
                    <a:lnTo>
                      <a:pt x="203" y="47"/>
                    </a:lnTo>
                    <a:lnTo>
                      <a:pt x="213" y="52"/>
                    </a:lnTo>
                    <a:lnTo>
                      <a:pt x="223" y="57"/>
                    </a:lnTo>
                    <a:lnTo>
                      <a:pt x="231" y="63"/>
                    </a:lnTo>
                    <a:lnTo>
                      <a:pt x="240" y="70"/>
                    </a:lnTo>
                    <a:lnTo>
                      <a:pt x="247" y="77"/>
                    </a:lnTo>
                    <a:lnTo>
                      <a:pt x="254" y="85"/>
                    </a:lnTo>
                    <a:lnTo>
                      <a:pt x="261" y="94"/>
                    </a:lnTo>
                    <a:lnTo>
                      <a:pt x="266" y="104"/>
                    </a:lnTo>
                    <a:lnTo>
                      <a:pt x="271" y="114"/>
                    </a:lnTo>
                    <a:lnTo>
                      <a:pt x="277" y="127"/>
                    </a:lnTo>
                    <a:lnTo>
                      <a:pt x="280" y="139"/>
                    </a:lnTo>
                    <a:lnTo>
                      <a:pt x="285" y="153"/>
                    </a:lnTo>
                    <a:lnTo>
                      <a:pt x="287" y="168"/>
                    </a:lnTo>
                    <a:lnTo>
                      <a:pt x="290" y="184"/>
                    </a:lnTo>
                    <a:lnTo>
                      <a:pt x="293" y="202"/>
                    </a:lnTo>
                    <a:lnTo>
                      <a:pt x="294" y="220"/>
                    </a:lnTo>
                    <a:lnTo>
                      <a:pt x="296" y="261"/>
                    </a:lnTo>
                    <a:lnTo>
                      <a:pt x="297" y="308"/>
                    </a:lnTo>
                    <a:lnTo>
                      <a:pt x="310" y="297"/>
                    </a:lnTo>
                    <a:lnTo>
                      <a:pt x="297" y="308"/>
                    </a:lnTo>
                    <a:lnTo>
                      <a:pt x="298" y="314"/>
                    </a:lnTo>
                    <a:lnTo>
                      <a:pt x="301" y="317"/>
                    </a:lnTo>
                    <a:lnTo>
                      <a:pt x="305" y="320"/>
                    </a:lnTo>
                    <a:lnTo>
                      <a:pt x="310" y="321"/>
                    </a:lnTo>
                    <a:lnTo>
                      <a:pt x="314" y="320"/>
                    </a:lnTo>
                    <a:lnTo>
                      <a:pt x="318" y="317"/>
                    </a:lnTo>
                    <a:lnTo>
                      <a:pt x="320" y="314"/>
                    </a:lnTo>
                    <a:lnTo>
                      <a:pt x="321" y="308"/>
                    </a:lnTo>
                    <a:lnTo>
                      <a:pt x="310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3906720" y="4126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4" h="217">
                    <a:moveTo>
                      <a:pt x="23" y="17"/>
                    </a:moveTo>
                    <a:lnTo>
                      <a:pt x="12" y="24"/>
                    </a:lnTo>
                    <a:lnTo>
                      <a:pt x="23" y="25"/>
                    </a:lnTo>
                    <a:lnTo>
                      <a:pt x="34" y="26"/>
                    </a:lnTo>
                    <a:lnTo>
                      <a:pt x="45" y="29"/>
                    </a:lnTo>
                    <a:lnTo>
                      <a:pt x="56" y="32"/>
                    </a:lnTo>
                    <a:lnTo>
                      <a:pt x="66" y="35"/>
                    </a:lnTo>
                    <a:lnTo>
                      <a:pt x="78" y="41"/>
                    </a:lnTo>
                    <a:lnTo>
                      <a:pt x="88" y="47"/>
                    </a:lnTo>
                    <a:lnTo>
                      <a:pt x="99" y="53"/>
                    </a:lnTo>
                    <a:lnTo>
                      <a:pt x="121" y="66"/>
                    </a:lnTo>
                    <a:lnTo>
                      <a:pt x="144" y="82"/>
                    </a:lnTo>
                    <a:lnTo>
                      <a:pt x="168" y="100"/>
                    </a:lnTo>
                    <a:lnTo>
                      <a:pt x="192" y="118"/>
                    </a:lnTo>
                    <a:lnTo>
                      <a:pt x="218" y="136"/>
                    </a:lnTo>
                    <a:lnTo>
                      <a:pt x="244" y="154"/>
                    </a:lnTo>
                    <a:lnTo>
                      <a:pt x="259" y="162"/>
                    </a:lnTo>
                    <a:lnTo>
                      <a:pt x="274" y="170"/>
                    </a:lnTo>
                    <a:lnTo>
                      <a:pt x="288" y="178"/>
                    </a:lnTo>
                    <a:lnTo>
                      <a:pt x="304" y="186"/>
                    </a:lnTo>
                    <a:lnTo>
                      <a:pt x="320" y="192"/>
                    </a:lnTo>
                    <a:lnTo>
                      <a:pt x="337" y="198"/>
                    </a:lnTo>
                    <a:lnTo>
                      <a:pt x="356" y="203"/>
                    </a:lnTo>
                    <a:lnTo>
                      <a:pt x="374" y="208"/>
                    </a:lnTo>
                    <a:lnTo>
                      <a:pt x="392" y="211"/>
                    </a:lnTo>
                    <a:lnTo>
                      <a:pt x="412" y="214"/>
                    </a:lnTo>
                    <a:lnTo>
                      <a:pt x="432" y="216"/>
                    </a:lnTo>
                    <a:lnTo>
                      <a:pt x="454" y="217"/>
                    </a:lnTo>
                    <a:lnTo>
                      <a:pt x="454" y="193"/>
                    </a:lnTo>
                    <a:lnTo>
                      <a:pt x="433" y="192"/>
                    </a:lnTo>
                    <a:lnTo>
                      <a:pt x="415" y="190"/>
                    </a:lnTo>
                    <a:lnTo>
                      <a:pt x="397" y="188"/>
                    </a:lnTo>
                    <a:lnTo>
                      <a:pt x="378" y="185"/>
                    </a:lnTo>
                    <a:lnTo>
                      <a:pt x="361" y="180"/>
                    </a:lnTo>
                    <a:lnTo>
                      <a:pt x="345" y="175"/>
                    </a:lnTo>
                    <a:lnTo>
                      <a:pt x="329" y="170"/>
                    </a:lnTo>
                    <a:lnTo>
                      <a:pt x="314" y="163"/>
                    </a:lnTo>
                    <a:lnTo>
                      <a:pt x="299" y="156"/>
                    </a:lnTo>
                    <a:lnTo>
                      <a:pt x="285" y="149"/>
                    </a:lnTo>
                    <a:lnTo>
                      <a:pt x="271" y="141"/>
                    </a:lnTo>
                    <a:lnTo>
                      <a:pt x="258" y="133"/>
                    </a:lnTo>
                    <a:lnTo>
                      <a:pt x="231" y="116"/>
                    </a:lnTo>
                    <a:lnTo>
                      <a:pt x="205" y="98"/>
                    </a:lnTo>
                    <a:lnTo>
                      <a:pt x="181" y="81"/>
                    </a:lnTo>
                    <a:lnTo>
                      <a:pt x="157" y="63"/>
                    </a:lnTo>
                    <a:lnTo>
                      <a:pt x="135" y="47"/>
                    </a:lnTo>
                    <a:lnTo>
                      <a:pt x="112" y="32"/>
                    </a:lnTo>
                    <a:lnTo>
                      <a:pt x="99" y="25"/>
                    </a:lnTo>
                    <a:lnTo>
                      <a:pt x="88" y="19"/>
                    </a:lnTo>
                    <a:lnTo>
                      <a:pt x="75" y="14"/>
                    </a:lnTo>
                    <a:lnTo>
                      <a:pt x="63" y="9"/>
                    </a:lnTo>
                    <a:lnTo>
                      <a:pt x="50" y="5"/>
                    </a:lnTo>
                    <a:lnTo>
                      <a:pt x="38" y="2"/>
                    </a:lnTo>
                    <a:lnTo>
                      <a:pt x="25" y="0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86120" y="412776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6" h="179">
                    <a:moveTo>
                      <a:pt x="0" y="165"/>
                    </a:moveTo>
                    <a:lnTo>
                      <a:pt x="12" y="178"/>
                    </a:lnTo>
                    <a:lnTo>
                      <a:pt x="77" y="179"/>
                    </a:lnTo>
                    <a:lnTo>
                      <a:pt x="136" y="178"/>
                    </a:lnTo>
                    <a:lnTo>
                      <a:pt x="165" y="177"/>
                    </a:lnTo>
                    <a:lnTo>
                      <a:pt x="193" y="174"/>
                    </a:lnTo>
                    <a:lnTo>
                      <a:pt x="220" y="170"/>
                    </a:lnTo>
                    <a:lnTo>
                      <a:pt x="245" y="164"/>
                    </a:lnTo>
                    <a:lnTo>
                      <a:pt x="258" y="160"/>
                    </a:lnTo>
                    <a:lnTo>
                      <a:pt x="270" y="155"/>
                    </a:lnTo>
                    <a:lnTo>
                      <a:pt x="283" y="150"/>
                    </a:lnTo>
                    <a:lnTo>
                      <a:pt x="294" y="145"/>
                    </a:lnTo>
                    <a:lnTo>
                      <a:pt x="306" y="138"/>
                    </a:lnTo>
                    <a:lnTo>
                      <a:pt x="316" y="131"/>
                    </a:lnTo>
                    <a:lnTo>
                      <a:pt x="327" y="123"/>
                    </a:lnTo>
                    <a:lnTo>
                      <a:pt x="338" y="114"/>
                    </a:lnTo>
                    <a:lnTo>
                      <a:pt x="347" y="104"/>
                    </a:lnTo>
                    <a:lnTo>
                      <a:pt x="357" y="93"/>
                    </a:lnTo>
                    <a:lnTo>
                      <a:pt x="366" y="82"/>
                    </a:lnTo>
                    <a:lnTo>
                      <a:pt x="375" y="69"/>
                    </a:lnTo>
                    <a:lnTo>
                      <a:pt x="383" y="56"/>
                    </a:lnTo>
                    <a:lnTo>
                      <a:pt x="391" y="42"/>
                    </a:lnTo>
                    <a:lnTo>
                      <a:pt x="399" y="26"/>
                    </a:lnTo>
                    <a:lnTo>
                      <a:pt x="406" y="10"/>
                    </a:lnTo>
                    <a:lnTo>
                      <a:pt x="383" y="0"/>
                    </a:lnTo>
                    <a:lnTo>
                      <a:pt x="376" y="16"/>
                    </a:lnTo>
                    <a:lnTo>
                      <a:pt x="369" y="31"/>
                    </a:lnTo>
                    <a:lnTo>
                      <a:pt x="363" y="43"/>
                    </a:lnTo>
                    <a:lnTo>
                      <a:pt x="355" y="56"/>
                    </a:lnTo>
                    <a:lnTo>
                      <a:pt x="347" y="67"/>
                    </a:lnTo>
                    <a:lnTo>
                      <a:pt x="339" y="77"/>
                    </a:lnTo>
                    <a:lnTo>
                      <a:pt x="330" y="88"/>
                    </a:lnTo>
                    <a:lnTo>
                      <a:pt x="320" y="96"/>
                    </a:lnTo>
                    <a:lnTo>
                      <a:pt x="311" y="104"/>
                    </a:lnTo>
                    <a:lnTo>
                      <a:pt x="302" y="111"/>
                    </a:lnTo>
                    <a:lnTo>
                      <a:pt x="293" y="117"/>
                    </a:lnTo>
                    <a:lnTo>
                      <a:pt x="283" y="123"/>
                    </a:lnTo>
                    <a:lnTo>
                      <a:pt x="273" y="128"/>
                    </a:lnTo>
                    <a:lnTo>
                      <a:pt x="261" y="132"/>
                    </a:lnTo>
                    <a:lnTo>
                      <a:pt x="251" y="137"/>
                    </a:lnTo>
                    <a:lnTo>
                      <a:pt x="240" y="140"/>
                    </a:lnTo>
                    <a:lnTo>
                      <a:pt x="216" y="146"/>
                    </a:lnTo>
                    <a:lnTo>
                      <a:pt x="191" y="149"/>
                    </a:lnTo>
                    <a:lnTo>
                      <a:pt x="163" y="153"/>
                    </a:lnTo>
                    <a:lnTo>
                      <a:pt x="136" y="154"/>
                    </a:lnTo>
                    <a:lnTo>
                      <a:pt x="77" y="154"/>
                    </a:lnTo>
                    <a:lnTo>
                      <a:pt x="12" y="154"/>
                    </a:lnTo>
                    <a:lnTo>
                      <a:pt x="24" y="168"/>
                    </a:lnTo>
                    <a:lnTo>
                      <a:pt x="12" y="154"/>
                    </a:lnTo>
                    <a:lnTo>
                      <a:pt x="7" y="155"/>
                    </a:lnTo>
                    <a:lnTo>
                      <a:pt x="2" y="157"/>
                    </a:lnTo>
                    <a:lnTo>
                      <a:pt x="0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2" y="174"/>
                    </a:lnTo>
                    <a:lnTo>
                      <a:pt x="7" y="178"/>
                    </a:lnTo>
                    <a:lnTo>
                      <a:pt x="12" y="178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786120" y="410724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0"/>
                    </a:moveTo>
                    <a:lnTo>
                      <a:pt x="15" y="11"/>
                    </a:lnTo>
                    <a:lnTo>
                      <a:pt x="0" y="231"/>
                    </a:lnTo>
                    <a:lnTo>
                      <a:pt x="24" y="234"/>
                    </a:lnTo>
                    <a:lnTo>
                      <a:pt x="40" y="13"/>
                    </a:lnTo>
                    <a:lnTo>
                      <a:pt x="28" y="0"/>
                    </a:lnTo>
                    <a:lnTo>
                      <a:pt x="40" y="13"/>
                    </a:lnTo>
                    <a:lnTo>
                      <a:pt x="39" y="8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0" y="2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794040" y="408348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3" h="97">
                    <a:moveTo>
                      <a:pt x="160" y="25"/>
                    </a:moveTo>
                    <a:lnTo>
                      <a:pt x="160" y="0"/>
                    </a:lnTo>
                    <a:lnTo>
                      <a:pt x="149" y="1"/>
                    </a:lnTo>
                    <a:lnTo>
                      <a:pt x="136" y="4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96" y="26"/>
                    </a:lnTo>
                    <a:lnTo>
                      <a:pt x="79" y="39"/>
                    </a:lnTo>
                    <a:lnTo>
                      <a:pt x="61" y="52"/>
                    </a:lnTo>
                    <a:lnTo>
                      <a:pt x="42" y="63"/>
                    </a:lnTo>
                    <a:lnTo>
                      <a:pt x="33" y="67"/>
                    </a:lnTo>
                    <a:lnTo>
                      <a:pt x="22" y="71"/>
                    </a:lnTo>
                    <a:lnTo>
                      <a:pt x="11" y="73"/>
                    </a:lnTo>
                    <a:lnTo>
                      <a:pt x="0" y="73"/>
                    </a:lnTo>
                    <a:lnTo>
                      <a:pt x="0" y="97"/>
                    </a:lnTo>
                    <a:lnTo>
                      <a:pt x="14" y="97"/>
                    </a:lnTo>
                    <a:lnTo>
                      <a:pt x="28" y="93"/>
                    </a:lnTo>
                    <a:lnTo>
                      <a:pt x="41" y="90"/>
                    </a:lnTo>
                    <a:lnTo>
                      <a:pt x="53" y="84"/>
                    </a:lnTo>
                    <a:lnTo>
                      <a:pt x="74" y="73"/>
                    </a:lnTo>
                    <a:lnTo>
                      <a:pt x="93" y="58"/>
                    </a:lnTo>
                    <a:lnTo>
                      <a:pt x="111" y="45"/>
                    </a:lnTo>
                    <a:lnTo>
                      <a:pt x="128" y="34"/>
                    </a:lnTo>
                    <a:lnTo>
                      <a:pt x="135" y="31"/>
                    </a:lnTo>
                    <a:lnTo>
                      <a:pt x="144" y="27"/>
                    </a:lnTo>
                    <a:lnTo>
                      <a:pt x="152" y="25"/>
                    </a:lnTo>
                    <a:lnTo>
                      <a:pt x="160" y="25"/>
                    </a:lnTo>
                    <a:lnTo>
                      <a:pt x="160" y="0"/>
                    </a:lnTo>
                    <a:lnTo>
                      <a:pt x="160" y="25"/>
                    </a:lnTo>
                    <a:lnTo>
                      <a:pt x="166" y="24"/>
                    </a:lnTo>
                    <a:lnTo>
                      <a:pt x="169" y="20"/>
                    </a:lnTo>
                    <a:lnTo>
                      <a:pt x="172" y="17"/>
                    </a:lnTo>
                    <a:lnTo>
                      <a:pt x="173" y="12"/>
                    </a:lnTo>
                    <a:lnTo>
                      <a:pt x="172" y="8"/>
                    </a:lnTo>
                    <a:lnTo>
                      <a:pt x="169" y="4"/>
                    </a:lnTo>
                    <a:lnTo>
                      <a:pt x="166" y="1"/>
                    </a:lnTo>
                    <a:lnTo>
                      <a:pt x="160" y="0"/>
                    </a:lnTo>
                    <a:lnTo>
                      <a:pt x="160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827520" y="40834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5">
                    <a:moveTo>
                      <a:pt x="6" y="2"/>
                    </a:moveTo>
                    <a:lnTo>
                      <a:pt x="13" y="25"/>
                    </a:lnTo>
                    <a:lnTo>
                      <a:pt x="57" y="25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591000" y="3822840"/>
                <a:ext cx="237960" cy="1922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1" y="179"/>
                    </a:moveTo>
                    <a:lnTo>
                      <a:pt x="458" y="155"/>
                    </a:lnTo>
                    <a:lnTo>
                      <a:pt x="434" y="130"/>
                    </a:lnTo>
                    <a:lnTo>
                      <a:pt x="409" y="105"/>
                    </a:lnTo>
                    <a:lnTo>
                      <a:pt x="382" y="81"/>
                    </a:lnTo>
                    <a:lnTo>
                      <a:pt x="368" y="71"/>
                    </a:lnTo>
                    <a:lnTo>
                      <a:pt x="354" y="60"/>
                    </a:lnTo>
                    <a:lnTo>
                      <a:pt x="340" y="52"/>
                    </a:lnTo>
                    <a:lnTo>
                      <a:pt x="325" y="45"/>
                    </a:lnTo>
                    <a:lnTo>
                      <a:pt x="309" y="38"/>
                    </a:lnTo>
                    <a:lnTo>
                      <a:pt x="294" y="33"/>
                    </a:lnTo>
                    <a:lnTo>
                      <a:pt x="278" y="31"/>
                    </a:lnTo>
                    <a:lnTo>
                      <a:pt x="261" y="30"/>
                    </a:lnTo>
                    <a:lnTo>
                      <a:pt x="256" y="64"/>
                    </a:lnTo>
                    <a:lnTo>
                      <a:pt x="254" y="98"/>
                    </a:lnTo>
                    <a:lnTo>
                      <a:pt x="254" y="115"/>
                    </a:lnTo>
                    <a:lnTo>
                      <a:pt x="255" y="131"/>
                    </a:lnTo>
                    <a:lnTo>
                      <a:pt x="258" y="148"/>
                    </a:lnTo>
                    <a:lnTo>
                      <a:pt x="260" y="164"/>
                    </a:lnTo>
                    <a:lnTo>
                      <a:pt x="264" y="180"/>
                    </a:lnTo>
                    <a:lnTo>
                      <a:pt x="269" y="195"/>
                    </a:lnTo>
                    <a:lnTo>
                      <a:pt x="276" y="210"/>
                    </a:lnTo>
                    <a:lnTo>
                      <a:pt x="284" y="223"/>
                    </a:lnTo>
                    <a:lnTo>
                      <a:pt x="294" y="236"/>
                    </a:lnTo>
                    <a:lnTo>
                      <a:pt x="305" y="247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8"/>
                    </a:lnTo>
                    <a:lnTo>
                      <a:pt x="219" y="271"/>
                    </a:lnTo>
                    <a:lnTo>
                      <a:pt x="172" y="276"/>
                    </a:lnTo>
                    <a:lnTo>
                      <a:pt x="131" y="282"/>
                    </a:lnTo>
                    <a:lnTo>
                      <a:pt x="97" y="290"/>
                    </a:lnTo>
                    <a:lnTo>
                      <a:pt x="68" y="298"/>
                    </a:lnTo>
                    <a:lnTo>
                      <a:pt x="44" y="308"/>
                    </a:lnTo>
                    <a:lnTo>
                      <a:pt x="26" y="318"/>
                    </a:lnTo>
                    <a:lnTo>
                      <a:pt x="14" y="330"/>
                    </a:lnTo>
                    <a:lnTo>
                      <a:pt x="5" y="342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3" y="379"/>
                    </a:lnTo>
                    <a:lnTo>
                      <a:pt x="10" y="391"/>
                    </a:lnTo>
                    <a:lnTo>
                      <a:pt x="19" y="402"/>
                    </a:lnTo>
                    <a:lnTo>
                      <a:pt x="32" y="414"/>
                    </a:lnTo>
                    <a:lnTo>
                      <a:pt x="46" y="424"/>
                    </a:lnTo>
                    <a:lnTo>
                      <a:pt x="63" y="434"/>
                    </a:lnTo>
                    <a:lnTo>
                      <a:pt x="81" y="444"/>
                    </a:lnTo>
                    <a:lnTo>
                      <a:pt x="100" y="450"/>
                    </a:lnTo>
                    <a:lnTo>
                      <a:pt x="121" y="457"/>
                    </a:lnTo>
                    <a:lnTo>
                      <a:pt x="142" y="462"/>
                    </a:lnTo>
                    <a:lnTo>
                      <a:pt x="165" y="464"/>
                    </a:lnTo>
                    <a:lnTo>
                      <a:pt x="187" y="465"/>
                    </a:lnTo>
                    <a:lnTo>
                      <a:pt x="210" y="464"/>
                    </a:lnTo>
                    <a:lnTo>
                      <a:pt x="231" y="461"/>
                    </a:lnTo>
                    <a:lnTo>
                      <a:pt x="252" y="455"/>
                    </a:lnTo>
                    <a:lnTo>
                      <a:pt x="272" y="446"/>
                    </a:lnTo>
                    <a:lnTo>
                      <a:pt x="291" y="436"/>
                    </a:lnTo>
                    <a:lnTo>
                      <a:pt x="307" y="421"/>
                    </a:lnTo>
                    <a:lnTo>
                      <a:pt x="321" y="404"/>
                    </a:lnTo>
                    <a:lnTo>
                      <a:pt x="334" y="383"/>
                    </a:lnTo>
                    <a:lnTo>
                      <a:pt x="343" y="408"/>
                    </a:lnTo>
                    <a:lnTo>
                      <a:pt x="353" y="432"/>
                    </a:lnTo>
                    <a:lnTo>
                      <a:pt x="365" y="455"/>
                    </a:lnTo>
                    <a:lnTo>
                      <a:pt x="377" y="477"/>
                    </a:lnTo>
                    <a:lnTo>
                      <a:pt x="391" y="496"/>
                    </a:lnTo>
                    <a:lnTo>
                      <a:pt x="405" y="514"/>
                    </a:lnTo>
                    <a:lnTo>
                      <a:pt x="421" y="530"/>
                    </a:lnTo>
                    <a:lnTo>
                      <a:pt x="437" y="545"/>
                    </a:lnTo>
                    <a:lnTo>
                      <a:pt x="452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1" y="594"/>
                    </a:lnTo>
                    <a:lnTo>
                      <a:pt x="539" y="599"/>
                    </a:lnTo>
                    <a:lnTo>
                      <a:pt x="556" y="602"/>
                    </a:lnTo>
                    <a:lnTo>
                      <a:pt x="574" y="603"/>
                    </a:lnTo>
                    <a:lnTo>
                      <a:pt x="592" y="603"/>
                    </a:lnTo>
                    <a:lnTo>
                      <a:pt x="609" y="601"/>
                    </a:lnTo>
                    <a:lnTo>
                      <a:pt x="625" y="596"/>
                    </a:lnTo>
                    <a:lnTo>
                      <a:pt x="641" y="591"/>
                    </a:lnTo>
                    <a:lnTo>
                      <a:pt x="655" y="583"/>
                    </a:lnTo>
                    <a:lnTo>
                      <a:pt x="670" y="573"/>
                    </a:lnTo>
                    <a:lnTo>
                      <a:pt x="683" y="562"/>
                    </a:lnTo>
                    <a:lnTo>
                      <a:pt x="695" y="548"/>
                    </a:lnTo>
                    <a:lnTo>
                      <a:pt x="707" y="532"/>
                    </a:lnTo>
                    <a:lnTo>
                      <a:pt x="717" y="515"/>
                    </a:lnTo>
                    <a:lnTo>
                      <a:pt x="726" y="497"/>
                    </a:lnTo>
                    <a:lnTo>
                      <a:pt x="734" y="475"/>
                    </a:lnTo>
                    <a:lnTo>
                      <a:pt x="740" y="453"/>
                    </a:lnTo>
                    <a:lnTo>
                      <a:pt x="744" y="428"/>
                    </a:lnTo>
                    <a:lnTo>
                      <a:pt x="747" y="400"/>
                    </a:lnTo>
                    <a:lnTo>
                      <a:pt x="748" y="371"/>
                    </a:lnTo>
                    <a:lnTo>
                      <a:pt x="584" y="356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0" y="294"/>
                    </a:lnTo>
                    <a:lnTo>
                      <a:pt x="595" y="273"/>
                    </a:lnTo>
                    <a:lnTo>
                      <a:pt x="607" y="228"/>
                    </a:lnTo>
                    <a:lnTo>
                      <a:pt x="621" y="182"/>
                    </a:lnTo>
                    <a:lnTo>
                      <a:pt x="636" y="137"/>
                    </a:lnTo>
                    <a:lnTo>
                      <a:pt x="647" y="91"/>
                    </a:lnTo>
                    <a:lnTo>
                      <a:pt x="653" y="67"/>
                    </a:lnTo>
                    <a:lnTo>
                      <a:pt x="656" y="45"/>
                    </a:lnTo>
                    <a:lnTo>
                      <a:pt x="659" y="23"/>
                    </a:lnTo>
                    <a:lnTo>
                      <a:pt x="660" y="0"/>
                    </a:lnTo>
                    <a:lnTo>
                      <a:pt x="647" y="0"/>
                    </a:lnTo>
                    <a:lnTo>
                      <a:pt x="636" y="2"/>
                    </a:lnTo>
                    <a:lnTo>
                      <a:pt x="625" y="3"/>
                    </a:lnTo>
                    <a:lnTo>
                      <a:pt x="613" y="7"/>
                    </a:lnTo>
                    <a:lnTo>
                      <a:pt x="603" y="10"/>
                    </a:lnTo>
                    <a:lnTo>
                      <a:pt x="593" y="14"/>
                    </a:lnTo>
                    <a:lnTo>
                      <a:pt x="582" y="18"/>
                    </a:lnTo>
                    <a:lnTo>
                      <a:pt x="573" y="24"/>
                    </a:lnTo>
                    <a:lnTo>
                      <a:pt x="556" y="35"/>
                    </a:lnTo>
                    <a:lnTo>
                      <a:pt x="540" y="49"/>
                    </a:lnTo>
                    <a:lnTo>
                      <a:pt x="527" y="63"/>
                    </a:lnTo>
                    <a:lnTo>
                      <a:pt x="514" y="79"/>
                    </a:lnTo>
                    <a:lnTo>
                      <a:pt x="504" y="94"/>
                    </a:lnTo>
                    <a:lnTo>
                      <a:pt x="496" y="109"/>
                    </a:lnTo>
                    <a:lnTo>
                      <a:pt x="489" y="124"/>
                    </a:lnTo>
                    <a:lnTo>
                      <a:pt x="483" y="138"/>
                    </a:lnTo>
                    <a:lnTo>
                      <a:pt x="481" y="152"/>
                    </a:lnTo>
                    <a:lnTo>
                      <a:pt x="479" y="162"/>
                    </a:lnTo>
                    <a:lnTo>
                      <a:pt x="479" y="172"/>
                    </a:lnTo>
                    <a:lnTo>
                      <a:pt x="481" y="179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70200" y="382932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70">
                    <a:moveTo>
                      <a:pt x="24" y="15"/>
                    </a:moveTo>
                    <a:lnTo>
                      <a:pt x="11" y="25"/>
                    </a:lnTo>
                    <a:lnTo>
                      <a:pt x="26" y="25"/>
                    </a:lnTo>
                    <a:lnTo>
                      <a:pt x="41" y="29"/>
                    </a:lnTo>
                    <a:lnTo>
                      <a:pt x="55" y="32"/>
                    </a:lnTo>
                    <a:lnTo>
                      <a:pt x="69" y="39"/>
                    </a:lnTo>
                    <a:lnTo>
                      <a:pt x="84" y="46"/>
                    </a:lnTo>
                    <a:lnTo>
                      <a:pt x="98" y="54"/>
                    </a:lnTo>
                    <a:lnTo>
                      <a:pt x="111" y="63"/>
                    </a:lnTo>
                    <a:lnTo>
                      <a:pt x="125" y="73"/>
                    </a:lnTo>
                    <a:lnTo>
                      <a:pt x="151" y="97"/>
                    </a:lnTo>
                    <a:lnTo>
                      <a:pt x="176" y="121"/>
                    </a:lnTo>
                    <a:lnTo>
                      <a:pt x="200" y="146"/>
                    </a:lnTo>
                    <a:lnTo>
                      <a:pt x="223" y="170"/>
                    </a:lnTo>
                    <a:lnTo>
                      <a:pt x="240" y="153"/>
                    </a:lnTo>
                    <a:lnTo>
                      <a:pt x="217" y="129"/>
                    </a:lnTo>
                    <a:lnTo>
                      <a:pt x="193" y="104"/>
                    </a:lnTo>
                    <a:lnTo>
                      <a:pt x="167" y="79"/>
                    </a:lnTo>
                    <a:lnTo>
                      <a:pt x="140" y="55"/>
                    </a:lnTo>
                    <a:lnTo>
                      <a:pt x="126" y="43"/>
                    </a:lnTo>
                    <a:lnTo>
                      <a:pt x="111" y="33"/>
                    </a:lnTo>
                    <a:lnTo>
                      <a:pt x="95" y="24"/>
                    </a:lnTo>
                    <a:lnTo>
                      <a:pt x="79" y="16"/>
                    </a:lnTo>
                    <a:lnTo>
                      <a:pt x="63" y="9"/>
                    </a:lnTo>
                    <a:lnTo>
                      <a:pt x="46" y="5"/>
                    </a:lnTo>
                    <a:lnTo>
                      <a:pt x="29" y="1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668760" y="383256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52"/>
                    </a:moveTo>
                    <a:lnTo>
                      <a:pt x="97" y="230"/>
                    </a:lnTo>
                    <a:lnTo>
                      <a:pt x="83" y="220"/>
                    </a:lnTo>
                    <a:lnTo>
                      <a:pt x="70" y="211"/>
                    </a:lnTo>
                    <a:lnTo>
                      <a:pt x="60" y="201"/>
                    </a:lnTo>
                    <a:lnTo>
                      <a:pt x="51" y="190"/>
                    </a:lnTo>
                    <a:lnTo>
                      <a:pt x="43" y="177"/>
                    </a:lnTo>
                    <a:lnTo>
                      <a:pt x="37" y="163"/>
                    </a:lnTo>
                    <a:lnTo>
                      <a:pt x="33" y="150"/>
                    </a:lnTo>
                    <a:lnTo>
                      <a:pt x="28" y="135"/>
                    </a:lnTo>
                    <a:lnTo>
                      <a:pt x="26" y="120"/>
                    </a:lnTo>
                    <a:lnTo>
                      <a:pt x="25" y="104"/>
                    </a:lnTo>
                    <a:lnTo>
                      <a:pt x="24" y="87"/>
                    </a:lnTo>
                    <a:lnTo>
                      <a:pt x="24" y="71"/>
                    </a:lnTo>
                    <a:lnTo>
                      <a:pt x="26" y="38"/>
                    </a:lnTo>
                    <a:lnTo>
                      <a:pt x="31" y="5"/>
                    </a:lnTo>
                    <a:lnTo>
                      <a:pt x="7" y="0"/>
                    </a:lnTo>
                    <a:lnTo>
                      <a:pt x="2" y="36"/>
                    </a:lnTo>
                    <a:lnTo>
                      <a:pt x="0" y="70"/>
                    </a:lnTo>
                    <a:lnTo>
                      <a:pt x="0" y="88"/>
                    </a:lnTo>
                    <a:lnTo>
                      <a:pt x="0" y="105"/>
                    </a:lnTo>
                    <a:lnTo>
                      <a:pt x="2" y="124"/>
                    </a:lnTo>
                    <a:lnTo>
                      <a:pt x="5" y="139"/>
                    </a:lnTo>
                    <a:lnTo>
                      <a:pt x="9" y="157"/>
                    </a:lnTo>
                    <a:lnTo>
                      <a:pt x="15" y="173"/>
                    </a:lnTo>
                    <a:lnTo>
                      <a:pt x="23" y="189"/>
                    </a:lnTo>
                    <a:lnTo>
                      <a:pt x="32" y="203"/>
                    </a:lnTo>
                    <a:lnTo>
                      <a:pt x="42" y="217"/>
                    </a:lnTo>
                    <a:lnTo>
                      <a:pt x="54" y="230"/>
                    </a:lnTo>
                    <a:lnTo>
                      <a:pt x="69" y="241"/>
                    </a:lnTo>
                    <a:lnTo>
                      <a:pt x="85" y="251"/>
                    </a:lnTo>
                    <a:lnTo>
                      <a:pt x="91" y="227"/>
                    </a:lnTo>
                    <a:lnTo>
                      <a:pt x="85" y="251"/>
                    </a:lnTo>
                    <a:lnTo>
                      <a:pt x="91" y="252"/>
                    </a:lnTo>
                    <a:lnTo>
                      <a:pt x="96" y="251"/>
                    </a:lnTo>
                    <a:lnTo>
                      <a:pt x="99" y="249"/>
                    </a:lnTo>
                    <a:lnTo>
                      <a:pt x="102" y="246"/>
                    </a:lnTo>
                    <a:lnTo>
                      <a:pt x="103" y="241"/>
                    </a:lnTo>
                    <a:lnTo>
                      <a:pt x="103" y="236"/>
                    </a:lnTo>
                    <a:lnTo>
                      <a:pt x="101" y="233"/>
                    </a:lnTo>
                    <a:lnTo>
                      <a:pt x="97" y="230"/>
                    </a:lnTo>
                    <a:lnTo>
                      <a:pt x="91" y="25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587760" y="3903840"/>
                <a:ext cx="1126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6"/>
                    </a:moveTo>
                    <a:lnTo>
                      <a:pt x="337" y="123"/>
                    </a:lnTo>
                    <a:lnTo>
                      <a:pt x="331" y="134"/>
                    </a:lnTo>
                    <a:lnTo>
                      <a:pt x="325" y="143"/>
                    </a:lnTo>
                    <a:lnTo>
                      <a:pt x="318" y="151"/>
                    </a:lnTo>
                    <a:lnTo>
                      <a:pt x="312" y="159"/>
                    </a:lnTo>
                    <a:lnTo>
                      <a:pt x="304" y="166"/>
                    </a:lnTo>
                    <a:lnTo>
                      <a:pt x="297" y="171"/>
                    </a:lnTo>
                    <a:lnTo>
                      <a:pt x="288" y="177"/>
                    </a:lnTo>
                    <a:lnTo>
                      <a:pt x="280" y="182"/>
                    </a:lnTo>
                    <a:lnTo>
                      <a:pt x="271" y="186"/>
                    </a:lnTo>
                    <a:lnTo>
                      <a:pt x="261" y="190"/>
                    </a:lnTo>
                    <a:lnTo>
                      <a:pt x="251" y="192"/>
                    </a:lnTo>
                    <a:lnTo>
                      <a:pt x="242" y="194"/>
                    </a:lnTo>
                    <a:lnTo>
                      <a:pt x="232" y="196"/>
                    </a:lnTo>
                    <a:lnTo>
                      <a:pt x="222" y="197"/>
                    </a:lnTo>
                    <a:lnTo>
                      <a:pt x="211" y="199"/>
                    </a:lnTo>
                    <a:lnTo>
                      <a:pt x="201" y="199"/>
                    </a:lnTo>
                    <a:lnTo>
                      <a:pt x="179" y="197"/>
                    </a:lnTo>
                    <a:lnTo>
                      <a:pt x="158" y="195"/>
                    </a:lnTo>
                    <a:lnTo>
                      <a:pt x="137" y="191"/>
                    </a:lnTo>
                    <a:lnTo>
                      <a:pt x="118" y="185"/>
                    </a:lnTo>
                    <a:lnTo>
                      <a:pt x="99" y="178"/>
                    </a:lnTo>
                    <a:lnTo>
                      <a:pt x="81" y="170"/>
                    </a:lnTo>
                    <a:lnTo>
                      <a:pt x="65" y="161"/>
                    </a:lnTo>
                    <a:lnTo>
                      <a:pt x="52" y="151"/>
                    </a:lnTo>
                    <a:lnTo>
                      <a:pt x="46" y="145"/>
                    </a:lnTo>
                    <a:lnTo>
                      <a:pt x="42" y="140"/>
                    </a:lnTo>
                    <a:lnTo>
                      <a:pt x="37" y="135"/>
                    </a:lnTo>
                    <a:lnTo>
                      <a:pt x="32" y="130"/>
                    </a:lnTo>
                    <a:lnTo>
                      <a:pt x="30" y="125"/>
                    </a:lnTo>
                    <a:lnTo>
                      <a:pt x="28" y="120"/>
                    </a:lnTo>
                    <a:lnTo>
                      <a:pt x="26" y="115"/>
                    </a:lnTo>
                    <a:lnTo>
                      <a:pt x="26" y="111"/>
                    </a:lnTo>
                    <a:lnTo>
                      <a:pt x="24" y="106"/>
                    </a:lnTo>
                    <a:lnTo>
                      <a:pt x="26" y="102"/>
                    </a:lnTo>
                    <a:lnTo>
                      <a:pt x="27" y="98"/>
                    </a:lnTo>
                    <a:lnTo>
                      <a:pt x="29" y="94"/>
                    </a:lnTo>
                    <a:lnTo>
                      <a:pt x="31" y="89"/>
                    </a:lnTo>
                    <a:lnTo>
                      <a:pt x="36" y="83"/>
                    </a:lnTo>
                    <a:lnTo>
                      <a:pt x="40" y="79"/>
                    </a:lnTo>
                    <a:lnTo>
                      <a:pt x="47" y="74"/>
                    </a:lnTo>
                    <a:lnTo>
                      <a:pt x="54" y="70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5" y="55"/>
                    </a:lnTo>
                    <a:lnTo>
                      <a:pt x="99" y="52"/>
                    </a:lnTo>
                    <a:lnTo>
                      <a:pt x="113" y="47"/>
                    </a:lnTo>
                    <a:lnTo>
                      <a:pt x="129" y="44"/>
                    </a:lnTo>
                    <a:lnTo>
                      <a:pt x="146" y="39"/>
                    </a:lnTo>
                    <a:lnTo>
                      <a:pt x="166" y="37"/>
                    </a:lnTo>
                    <a:lnTo>
                      <a:pt x="186" y="33"/>
                    </a:lnTo>
                    <a:lnTo>
                      <a:pt x="209" y="31"/>
                    </a:lnTo>
                    <a:lnTo>
                      <a:pt x="233" y="29"/>
                    </a:lnTo>
                    <a:lnTo>
                      <a:pt x="287" y="26"/>
                    </a:lnTo>
                    <a:lnTo>
                      <a:pt x="347" y="25"/>
                    </a:lnTo>
                    <a:lnTo>
                      <a:pt x="347" y="0"/>
                    </a:lnTo>
                    <a:lnTo>
                      <a:pt x="285" y="1"/>
                    </a:lnTo>
                    <a:lnTo>
                      <a:pt x="232" y="5"/>
                    </a:lnTo>
                    <a:lnTo>
                      <a:pt x="207" y="7"/>
                    </a:lnTo>
                    <a:lnTo>
                      <a:pt x="184" y="9"/>
                    </a:lnTo>
                    <a:lnTo>
                      <a:pt x="162" y="13"/>
                    </a:lnTo>
                    <a:lnTo>
                      <a:pt x="142" y="16"/>
                    </a:lnTo>
                    <a:lnTo>
                      <a:pt x="124" y="20"/>
                    </a:lnTo>
                    <a:lnTo>
                      <a:pt x="106" y="23"/>
                    </a:lnTo>
                    <a:lnTo>
                      <a:pt x="92" y="28"/>
                    </a:lnTo>
                    <a:lnTo>
                      <a:pt x="77" y="32"/>
                    </a:lnTo>
                    <a:lnTo>
                      <a:pt x="64" y="38"/>
                    </a:lnTo>
                    <a:lnTo>
                      <a:pt x="52" y="42"/>
                    </a:lnTo>
                    <a:lnTo>
                      <a:pt x="42" y="48"/>
                    </a:lnTo>
                    <a:lnTo>
                      <a:pt x="32" y="55"/>
                    </a:lnTo>
                    <a:lnTo>
                      <a:pt x="24" y="61"/>
                    </a:lnTo>
                    <a:lnTo>
                      <a:pt x="18" y="68"/>
                    </a:lnTo>
                    <a:lnTo>
                      <a:pt x="12" y="74"/>
                    </a:lnTo>
                    <a:lnTo>
                      <a:pt x="7" y="82"/>
                    </a:lnTo>
                    <a:lnTo>
                      <a:pt x="4" y="89"/>
                    </a:lnTo>
                    <a:lnTo>
                      <a:pt x="2" y="97"/>
                    </a:lnTo>
                    <a:lnTo>
                      <a:pt x="0" y="105"/>
                    </a:lnTo>
                    <a:lnTo>
                      <a:pt x="0" y="113"/>
                    </a:lnTo>
                    <a:lnTo>
                      <a:pt x="3" y="121"/>
                    </a:lnTo>
                    <a:lnTo>
                      <a:pt x="5" y="129"/>
                    </a:lnTo>
                    <a:lnTo>
                      <a:pt x="8" y="136"/>
                    </a:lnTo>
                    <a:lnTo>
                      <a:pt x="13" y="144"/>
                    </a:lnTo>
                    <a:lnTo>
                      <a:pt x="18" y="151"/>
                    </a:lnTo>
                    <a:lnTo>
                      <a:pt x="23" y="156"/>
                    </a:lnTo>
                    <a:lnTo>
                      <a:pt x="30" y="163"/>
                    </a:lnTo>
                    <a:lnTo>
                      <a:pt x="37" y="169"/>
                    </a:lnTo>
                    <a:lnTo>
                      <a:pt x="52" y="180"/>
                    </a:lnTo>
                    <a:lnTo>
                      <a:pt x="70" y="191"/>
                    </a:lnTo>
                    <a:lnTo>
                      <a:pt x="89" y="200"/>
                    </a:lnTo>
                    <a:lnTo>
                      <a:pt x="110" y="208"/>
                    </a:lnTo>
                    <a:lnTo>
                      <a:pt x="132" y="215"/>
                    </a:lnTo>
                    <a:lnTo>
                      <a:pt x="154" y="219"/>
                    </a:lnTo>
                    <a:lnTo>
                      <a:pt x="177" y="223"/>
                    </a:lnTo>
                    <a:lnTo>
                      <a:pt x="200" y="223"/>
                    </a:lnTo>
                    <a:lnTo>
                      <a:pt x="212" y="223"/>
                    </a:lnTo>
                    <a:lnTo>
                      <a:pt x="224" y="221"/>
                    </a:lnTo>
                    <a:lnTo>
                      <a:pt x="235" y="220"/>
                    </a:lnTo>
                    <a:lnTo>
                      <a:pt x="247" y="218"/>
                    </a:lnTo>
                    <a:lnTo>
                      <a:pt x="258" y="216"/>
                    </a:lnTo>
                    <a:lnTo>
                      <a:pt x="269" y="212"/>
                    </a:lnTo>
                    <a:lnTo>
                      <a:pt x="280" y="208"/>
                    </a:lnTo>
                    <a:lnTo>
                      <a:pt x="290" y="203"/>
                    </a:lnTo>
                    <a:lnTo>
                      <a:pt x="300" y="197"/>
                    </a:lnTo>
                    <a:lnTo>
                      <a:pt x="310" y="191"/>
                    </a:lnTo>
                    <a:lnTo>
                      <a:pt x="320" y="184"/>
                    </a:lnTo>
                    <a:lnTo>
                      <a:pt x="329" y="176"/>
                    </a:lnTo>
                    <a:lnTo>
                      <a:pt x="337" y="167"/>
                    </a:lnTo>
                    <a:lnTo>
                      <a:pt x="345" y="156"/>
                    </a:lnTo>
                    <a:lnTo>
                      <a:pt x="352" y="146"/>
                    </a:lnTo>
                    <a:lnTo>
                      <a:pt x="358" y="135"/>
                    </a:lnTo>
                    <a:lnTo>
                      <a:pt x="336" y="133"/>
                    </a:lnTo>
                    <a:lnTo>
                      <a:pt x="358" y="135"/>
                    </a:lnTo>
                    <a:lnTo>
                      <a:pt x="359" y="129"/>
                    </a:lnTo>
                    <a:lnTo>
                      <a:pt x="358" y="125"/>
                    </a:lnTo>
                    <a:lnTo>
                      <a:pt x="356" y="121"/>
                    </a:lnTo>
                    <a:lnTo>
                      <a:pt x="353" y="118"/>
                    </a:lnTo>
                    <a:lnTo>
                      <a:pt x="348" y="117"/>
                    </a:lnTo>
                    <a:lnTo>
                      <a:pt x="344" y="118"/>
                    </a:lnTo>
                    <a:lnTo>
                      <a:pt x="339" y="119"/>
                    </a:lnTo>
                    <a:lnTo>
                      <a:pt x="337" y="123"/>
                    </a:lnTo>
                    <a:lnTo>
                      <a:pt x="358" y="1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693960" y="393732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7" h="257">
                    <a:moveTo>
                      <a:pt x="424" y="24"/>
                    </a:moveTo>
                    <a:lnTo>
                      <a:pt x="413" y="12"/>
                    </a:lnTo>
                    <a:lnTo>
                      <a:pt x="412" y="40"/>
                    </a:lnTo>
                    <a:lnTo>
                      <a:pt x="409" y="66"/>
                    </a:lnTo>
                    <a:lnTo>
                      <a:pt x="405" y="90"/>
                    </a:lnTo>
                    <a:lnTo>
                      <a:pt x="400" y="113"/>
                    </a:lnTo>
                    <a:lnTo>
                      <a:pt x="392" y="134"/>
                    </a:lnTo>
                    <a:lnTo>
                      <a:pt x="384" y="151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39" y="204"/>
                    </a:lnTo>
                    <a:lnTo>
                      <a:pt x="327" y="213"/>
                    </a:lnTo>
                    <a:lnTo>
                      <a:pt x="312" y="220"/>
                    </a:lnTo>
                    <a:lnTo>
                      <a:pt x="298" y="226"/>
                    </a:lnTo>
                    <a:lnTo>
                      <a:pt x="283" y="229"/>
                    </a:lnTo>
                    <a:lnTo>
                      <a:pt x="267" y="232"/>
                    </a:lnTo>
                    <a:lnTo>
                      <a:pt x="251" y="232"/>
                    </a:lnTo>
                    <a:lnTo>
                      <a:pt x="235" y="230"/>
                    </a:lnTo>
                    <a:lnTo>
                      <a:pt x="218" y="228"/>
                    </a:lnTo>
                    <a:lnTo>
                      <a:pt x="202" y="224"/>
                    </a:lnTo>
                    <a:lnTo>
                      <a:pt x="185" y="217"/>
                    </a:lnTo>
                    <a:lnTo>
                      <a:pt x="169" y="210"/>
                    </a:lnTo>
                    <a:lnTo>
                      <a:pt x="152" y="201"/>
                    </a:lnTo>
                    <a:lnTo>
                      <a:pt x="136" y="189"/>
                    </a:lnTo>
                    <a:lnTo>
                      <a:pt x="120" y="177"/>
                    </a:lnTo>
                    <a:lnTo>
                      <a:pt x="106" y="162"/>
                    </a:lnTo>
                    <a:lnTo>
                      <a:pt x="91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0"/>
                    </a:lnTo>
                    <a:lnTo>
                      <a:pt x="42" y="69"/>
                    </a:lnTo>
                    <a:lnTo>
                      <a:pt x="31" y="46"/>
                    </a:lnTo>
                    <a:lnTo>
                      <a:pt x="22" y="21"/>
                    </a:lnTo>
                    <a:lnTo>
                      <a:pt x="0" y="28"/>
                    </a:lnTo>
                    <a:lnTo>
                      <a:pt x="9" y="54"/>
                    </a:lnTo>
                    <a:lnTo>
                      <a:pt x="19" y="79"/>
                    </a:lnTo>
                    <a:lnTo>
                      <a:pt x="31" y="102"/>
                    </a:lnTo>
                    <a:lnTo>
                      <a:pt x="44" y="123"/>
                    </a:lnTo>
                    <a:lnTo>
                      <a:pt x="58" y="144"/>
                    </a:lnTo>
                    <a:lnTo>
                      <a:pt x="72" y="163"/>
                    </a:lnTo>
                    <a:lnTo>
                      <a:pt x="88" y="179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0"/>
                    </a:lnTo>
                    <a:lnTo>
                      <a:pt x="158" y="232"/>
                    </a:lnTo>
                    <a:lnTo>
                      <a:pt x="176" y="240"/>
                    </a:lnTo>
                    <a:lnTo>
                      <a:pt x="194" y="246"/>
                    </a:lnTo>
                    <a:lnTo>
                      <a:pt x="214" y="252"/>
                    </a:lnTo>
                    <a:lnTo>
                      <a:pt x="232" y="254"/>
                    </a:lnTo>
                    <a:lnTo>
                      <a:pt x="251" y="257"/>
                    </a:lnTo>
                    <a:lnTo>
                      <a:pt x="270" y="256"/>
                    </a:lnTo>
                    <a:lnTo>
                      <a:pt x="287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38" y="234"/>
                    </a:lnTo>
                    <a:lnTo>
                      <a:pt x="354" y="224"/>
                    </a:lnTo>
                    <a:lnTo>
                      <a:pt x="369" y="211"/>
                    </a:lnTo>
                    <a:lnTo>
                      <a:pt x="382" y="197"/>
                    </a:lnTo>
                    <a:lnTo>
                      <a:pt x="394" y="180"/>
                    </a:lnTo>
                    <a:lnTo>
                      <a:pt x="405" y="162"/>
                    </a:lnTo>
                    <a:lnTo>
                      <a:pt x="414" y="143"/>
                    </a:lnTo>
                    <a:lnTo>
                      <a:pt x="422" y="120"/>
                    </a:lnTo>
                    <a:lnTo>
                      <a:pt x="428" y="96"/>
                    </a:lnTo>
                    <a:lnTo>
                      <a:pt x="434" y="70"/>
                    </a:lnTo>
                    <a:lnTo>
                      <a:pt x="436" y="42"/>
                    </a:lnTo>
                    <a:lnTo>
                      <a:pt x="437" y="12"/>
                    </a:lnTo>
                    <a:lnTo>
                      <a:pt x="426" y="0"/>
                    </a:lnTo>
                    <a:lnTo>
                      <a:pt x="437" y="12"/>
                    </a:lnTo>
                    <a:lnTo>
                      <a:pt x="436" y="7"/>
                    </a:lnTo>
                    <a:lnTo>
                      <a:pt x="434" y="2"/>
                    </a:lnTo>
                    <a:lnTo>
                      <a:pt x="429" y="0"/>
                    </a:lnTo>
                    <a:lnTo>
                      <a:pt x="425" y="0"/>
                    </a:lnTo>
                    <a:lnTo>
                      <a:pt x="420" y="0"/>
                    </a:lnTo>
                    <a:lnTo>
                      <a:pt x="417" y="2"/>
                    </a:lnTo>
                    <a:lnTo>
                      <a:pt x="414" y="7"/>
                    </a:lnTo>
                    <a:lnTo>
                      <a:pt x="413" y="12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772080" y="3932640"/>
                <a:ext cx="5688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1" y="24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772080" y="3819960"/>
                <a:ext cx="31680" cy="115560"/>
              </a:xfrm>
              <a:custGeom>
                <a:avLst/>
                <a:gdLst/>
                <a:ahLst/>
                <a:rect l="l" t="t" r="r" b="b"/>
                <a:pathLst>
                  <a:path w="100" h="368">
                    <a:moveTo>
                      <a:pt x="89" y="25"/>
                    </a:moveTo>
                    <a:lnTo>
                      <a:pt x="76" y="12"/>
                    </a:lnTo>
                    <a:lnTo>
                      <a:pt x="75" y="34"/>
                    </a:lnTo>
                    <a:lnTo>
                      <a:pt x="73" y="55"/>
                    </a:lnTo>
                    <a:lnTo>
                      <a:pt x="70" y="77"/>
                    </a:lnTo>
                    <a:lnTo>
                      <a:pt x="65" y="100"/>
                    </a:lnTo>
                    <a:lnTo>
                      <a:pt x="52" y="145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4"/>
                    </a:lnTo>
                    <a:lnTo>
                      <a:pt x="3" y="326"/>
                    </a:lnTo>
                    <a:lnTo>
                      <a:pt x="1" y="346"/>
                    </a:lnTo>
                    <a:lnTo>
                      <a:pt x="0" y="368"/>
                    </a:lnTo>
                    <a:lnTo>
                      <a:pt x="25" y="368"/>
                    </a:lnTo>
                    <a:lnTo>
                      <a:pt x="25" y="348"/>
                    </a:lnTo>
                    <a:lnTo>
                      <a:pt x="27" y="329"/>
                    </a:lnTo>
                    <a:lnTo>
                      <a:pt x="31" y="308"/>
                    </a:lnTo>
                    <a:lnTo>
                      <a:pt x="36" y="288"/>
                    </a:lnTo>
                    <a:lnTo>
                      <a:pt x="48" y="243"/>
                    </a:lnTo>
                    <a:lnTo>
                      <a:pt x="62" y="199"/>
                    </a:lnTo>
                    <a:lnTo>
                      <a:pt x="76" y="152"/>
                    </a:lnTo>
                    <a:lnTo>
                      <a:pt x="89" y="106"/>
                    </a:lnTo>
                    <a:lnTo>
                      <a:pt x="93" y="82"/>
                    </a:lnTo>
                    <a:lnTo>
                      <a:pt x="97" y="59"/>
                    </a:lnTo>
                    <a:lnTo>
                      <a:pt x="100" y="35"/>
                    </a:lnTo>
                    <a:lnTo>
                      <a:pt x="100" y="12"/>
                    </a:lnTo>
                    <a:lnTo>
                      <a:pt x="89" y="0"/>
                    </a:lnTo>
                    <a:lnTo>
                      <a:pt x="100" y="12"/>
                    </a:lnTo>
                    <a:lnTo>
                      <a:pt x="99" y="6"/>
                    </a:lnTo>
                    <a:lnTo>
                      <a:pt x="97" y="3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80" y="3"/>
                    </a:lnTo>
                    <a:lnTo>
                      <a:pt x="78" y="6"/>
                    </a:lnTo>
                    <a:lnTo>
                      <a:pt x="76" y="12"/>
                    </a:lnTo>
                    <a:lnTo>
                      <a:pt x="89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740040" y="381996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193" h="202">
                    <a:moveTo>
                      <a:pt x="6" y="199"/>
                    </a:moveTo>
                    <a:lnTo>
                      <a:pt x="25" y="185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6"/>
                    </a:lnTo>
                    <a:lnTo>
                      <a:pt x="29" y="153"/>
                    </a:lnTo>
                    <a:lnTo>
                      <a:pt x="33" y="141"/>
                    </a:lnTo>
                    <a:lnTo>
                      <a:pt x="39" y="127"/>
                    </a:lnTo>
                    <a:lnTo>
                      <a:pt x="47" y="112"/>
                    </a:lnTo>
                    <a:lnTo>
                      <a:pt x="57" y="98"/>
                    </a:lnTo>
                    <a:lnTo>
                      <a:pt x="69" y="83"/>
                    </a:lnTo>
                    <a:lnTo>
                      <a:pt x="81" y="70"/>
                    </a:lnTo>
                    <a:lnTo>
                      <a:pt x="96" y="58"/>
                    </a:lnTo>
                    <a:lnTo>
                      <a:pt x="113" y="46"/>
                    </a:lnTo>
                    <a:lnTo>
                      <a:pt x="121" y="42"/>
                    </a:lnTo>
                    <a:lnTo>
                      <a:pt x="130" y="37"/>
                    </a:lnTo>
                    <a:lnTo>
                      <a:pt x="139" y="34"/>
                    </a:lnTo>
                    <a:lnTo>
                      <a:pt x="150" y="30"/>
                    </a:lnTo>
                    <a:lnTo>
                      <a:pt x="160" y="28"/>
                    </a:lnTo>
                    <a:lnTo>
                      <a:pt x="170" y="26"/>
                    </a:lnTo>
                    <a:lnTo>
                      <a:pt x="182" y="25"/>
                    </a:lnTo>
                    <a:lnTo>
                      <a:pt x="193" y="25"/>
                    </a:lnTo>
                    <a:lnTo>
                      <a:pt x="193" y="0"/>
                    </a:lnTo>
                    <a:lnTo>
                      <a:pt x="179" y="1"/>
                    </a:lnTo>
                    <a:lnTo>
                      <a:pt x="167" y="2"/>
                    </a:lnTo>
                    <a:lnTo>
                      <a:pt x="154" y="4"/>
                    </a:lnTo>
                    <a:lnTo>
                      <a:pt x="143" y="7"/>
                    </a:lnTo>
                    <a:lnTo>
                      <a:pt x="131" y="11"/>
                    </a:lnTo>
                    <a:lnTo>
                      <a:pt x="120" y="15"/>
                    </a:lnTo>
                    <a:lnTo>
                      <a:pt x="110" y="20"/>
                    </a:lnTo>
                    <a:lnTo>
                      <a:pt x="99" y="26"/>
                    </a:lnTo>
                    <a:lnTo>
                      <a:pt x="81" y="38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8" y="83"/>
                    </a:lnTo>
                    <a:lnTo>
                      <a:pt x="27" y="100"/>
                    </a:lnTo>
                    <a:lnTo>
                      <a:pt x="17" y="116"/>
                    </a:lnTo>
                    <a:lnTo>
                      <a:pt x="11" y="132"/>
                    </a:lnTo>
                    <a:lnTo>
                      <a:pt x="5" y="147"/>
                    </a:lnTo>
                    <a:lnTo>
                      <a:pt x="1" y="161"/>
                    </a:lnTo>
                    <a:lnTo>
                      <a:pt x="0" y="174"/>
                    </a:lnTo>
                    <a:lnTo>
                      <a:pt x="0" y="185"/>
                    </a:lnTo>
                    <a:lnTo>
                      <a:pt x="4" y="197"/>
                    </a:lnTo>
                    <a:lnTo>
                      <a:pt x="23" y="182"/>
                    </a:lnTo>
                    <a:lnTo>
                      <a:pt x="4" y="197"/>
                    </a:lnTo>
                    <a:lnTo>
                      <a:pt x="7" y="200"/>
                    </a:lnTo>
                    <a:lnTo>
                      <a:pt x="11" y="202"/>
                    </a:lnTo>
                    <a:lnTo>
                      <a:pt x="15" y="202"/>
                    </a:lnTo>
                    <a:lnTo>
                      <a:pt x="20" y="201"/>
                    </a:lnTo>
                    <a:lnTo>
                      <a:pt x="23" y="199"/>
                    </a:lnTo>
                    <a:lnTo>
                      <a:pt x="25" y="194"/>
                    </a:lnTo>
                    <a:lnTo>
                      <a:pt x="27" y="190"/>
                    </a:lnTo>
                    <a:lnTo>
                      <a:pt x="25" y="185"/>
                    </a:lnTo>
                    <a:lnTo>
                      <a:pt x="6" y="1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736720" y="40183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1" y="178"/>
                    </a:moveTo>
                    <a:lnTo>
                      <a:pt x="459" y="154"/>
                    </a:lnTo>
                    <a:lnTo>
                      <a:pt x="435" y="129"/>
                    </a:lnTo>
                    <a:lnTo>
                      <a:pt x="410" y="104"/>
                    </a:lnTo>
                    <a:lnTo>
                      <a:pt x="383" y="81"/>
                    </a:lnTo>
                    <a:lnTo>
                      <a:pt x="369" y="70"/>
                    </a:lnTo>
                    <a:lnTo>
                      <a:pt x="355" y="61"/>
                    </a:lnTo>
                    <a:lnTo>
                      <a:pt x="340" y="52"/>
                    </a:lnTo>
                    <a:lnTo>
                      <a:pt x="325" y="44"/>
                    </a:lnTo>
                    <a:lnTo>
                      <a:pt x="310" y="38"/>
                    </a:lnTo>
                    <a:lnTo>
                      <a:pt x="294" y="33"/>
                    </a:lnTo>
                    <a:lnTo>
                      <a:pt x="278" y="30"/>
                    </a:lnTo>
                    <a:lnTo>
                      <a:pt x="261" y="29"/>
                    </a:lnTo>
                    <a:lnTo>
                      <a:pt x="258" y="63"/>
                    </a:lnTo>
                    <a:lnTo>
                      <a:pt x="256" y="97"/>
                    </a:lnTo>
                    <a:lnTo>
                      <a:pt x="256" y="114"/>
                    </a:lnTo>
                    <a:lnTo>
                      <a:pt x="256" y="131"/>
                    </a:lnTo>
                    <a:lnTo>
                      <a:pt x="258" y="147"/>
                    </a:lnTo>
                    <a:lnTo>
                      <a:pt x="260" y="164"/>
                    </a:lnTo>
                    <a:lnTo>
                      <a:pt x="265" y="179"/>
                    </a:lnTo>
                    <a:lnTo>
                      <a:pt x="269" y="195"/>
                    </a:lnTo>
                    <a:lnTo>
                      <a:pt x="276" y="209"/>
                    </a:lnTo>
                    <a:lnTo>
                      <a:pt x="284" y="223"/>
                    </a:lnTo>
                    <a:lnTo>
                      <a:pt x="294" y="235"/>
                    </a:lnTo>
                    <a:lnTo>
                      <a:pt x="306" y="246"/>
                    </a:lnTo>
                    <a:lnTo>
                      <a:pt x="319" y="258"/>
                    </a:lnTo>
                    <a:lnTo>
                      <a:pt x="334" y="267"/>
                    </a:lnTo>
                    <a:lnTo>
                      <a:pt x="274" y="267"/>
                    </a:lnTo>
                    <a:lnTo>
                      <a:pt x="219" y="270"/>
                    </a:lnTo>
                    <a:lnTo>
                      <a:pt x="172" y="275"/>
                    </a:lnTo>
                    <a:lnTo>
                      <a:pt x="131" y="281"/>
                    </a:lnTo>
                    <a:lnTo>
                      <a:pt x="97" y="289"/>
                    </a:lnTo>
                    <a:lnTo>
                      <a:pt x="69" y="298"/>
                    </a:lnTo>
                    <a:lnTo>
                      <a:pt x="45" y="307"/>
                    </a:lnTo>
                    <a:lnTo>
                      <a:pt x="28" y="318"/>
                    </a:lnTo>
                    <a:lnTo>
                      <a:pt x="14" y="330"/>
                    </a:lnTo>
                    <a:lnTo>
                      <a:pt x="5" y="341"/>
                    </a:lnTo>
                    <a:lnTo>
                      <a:pt x="2" y="354"/>
                    </a:lnTo>
                    <a:lnTo>
                      <a:pt x="0" y="366"/>
                    </a:lnTo>
                    <a:lnTo>
                      <a:pt x="4" y="378"/>
                    </a:lnTo>
                    <a:lnTo>
                      <a:pt x="11" y="390"/>
                    </a:lnTo>
                    <a:lnTo>
                      <a:pt x="20" y="403"/>
                    </a:lnTo>
                    <a:lnTo>
                      <a:pt x="32" y="413"/>
                    </a:lnTo>
                    <a:lnTo>
                      <a:pt x="46" y="424"/>
                    </a:lnTo>
                    <a:lnTo>
                      <a:pt x="63" y="433"/>
                    </a:lnTo>
                    <a:lnTo>
                      <a:pt x="81" y="443"/>
                    </a:lnTo>
                    <a:lnTo>
                      <a:pt x="101" y="451"/>
                    </a:lnTo>
                    <a:lnTo>
                      <a:pt x="122" y="456"/>
                    </a:lnTo>
                    <a:lnTo>
                      <a:pt x="144" y="461"/>
                    </a:lnTo>
                    <a:lnTo>
                      <a:pt x="166" y="463"/>
                    </a:lnTo>
                    <a:lnTo>
                      <a:pt x="188" y="464"/>
                    </a:lnTo>
                    <a:lnTo>
                      <a:pt x="210" y="463"/>
                    </a:lnTo>
                    <a:lnTo>
                      <a:pt x="232" y="460"/>
                    </a:lnTo>
                    <a:lnTo>
                      <a:pt x="252" y="454"/>
                    </a:lnTo>
                    <a:lnTo>
                      <a:pt x="273" y="446"/>
                    </a:lnTo>
                    <a:lnTo>
                      <a:pt x="291" y="435"/>
                    </a:lnTo>
                    <a:lnTo>
                      <a:pt x="308" y="420"/>
                    </a:lnTo>
                    <a:lnTo>
                      <a:pt x="322" y="403"/>
                    </a:lnTo>
                    <a:lnTo>
                      <a:pt x="334" y="382"/>
                    </a:lnTo>
                    <a:lnTo>
                      <a:pt x="343" y="408"/>
                    </a:lnTo>
                    <a:lnTo>
                      <a:pt x="354" y="432"/>
                    </a:lnTo>
                    <a:lnTo>
                      <a:pt x="365" y="455"/>
                    </a:lnTo>
                    <a:lnTo>
                      <a:pt x="378" y="476"/>
                    </a:lnTo>
                    <a:lnTo>
                      <a:pt x="391" y="495"/>
                    </a:lnTo>
                    <a:lnTo>
                      <a:pt x="406" y="513"/>
                    </a:lnTo>
                    <a:lnTo>
                      <a:pt x="421" y="529"/>
                    </a:lnTo>
                    <a:lnTo>
                      <a:pt x="437" y="544"/>
                    </a:lnTo>
                    <a:lnTo>
                      <a:pt x="453" y="558"/>
                    </a:lnTo>
                    <a:lnTo>
                      <a:pt x="470" y="569"/>
                    </a:lnTo>
                    <a:lnTo>
                      <a:pt x="487" y="579"/>
                    </a:lnTo>
                    <a:lnTo>
                      <a:pt x="504" y="587"/>
                    </a:lnTo>
                    <a:lnTo>
                      <a:pt x="522" y="593"/>
                    </a:lnTo>
                    <a:lnTo>
                      <a:pt x="539" y="599"/>
                    </a:lnTo>
                    <a:lnTo>
                      <a:pt x="558" y="601"/>
                    </a:lnTo>
                    <a:lnTo>
                      <a:pt x="575" y="602"/>
                    </a:lnTo>
                    <a:lnTo>
                      <a:pt x="592" y="602"/>
                    </a:lnTo>
                    <a:lnTo>
                      <a:pt x="609" y="600"/>
                    </a:lnTo>
                    <a:lnTo>
                      <a:pt x="625" y="595"/>
                    </a:lnTo>
                    <a:lnTo>
                      <a:pt x="641" y="590"/>
                    </a:lnTo>
                    <a:lnTo>
                      <a:pt x="656" y="582"/>
                    </a:lnTo>
                    <a:lnTo>
                      <a:pt x="671" y="573"/>
                    </a:lnTo>
                    <a:lnTo>
                      <a:pt x="684" y="561"/>
                    </a:lnTo>
                    <a:lnTo>
                      <a:pt x="697" y="547"/>
                    </a:lnTo>
                    <a:lnTo>
                      <a:pt x="708" y="533"/>
                    </a:lnTo>
                    <a:lnTo>
                      <a:pt x="718" y="516"/>
                    </a:lnTo>
                    <a:lnTo>
                      <a:pt x="726" y="496"/>
                    </a:lnTo>
                    <a:lnTo>
                      <a:pt x="734" y="474"/>
                    </a:lnTo>
                    <a:lnTo>
                      <a:pt x="740" y="452"/>
                    </a:lnTo>
                    <a:lnTo>
                      <a:pt x="745" y="427"/>
                    </a:lnTo>
                    <a:lnTo>
                      <a:pt x="748" y="399"/>
                    </a:lnTo>
                    <a:lnTo>
                      <a:pt x="748" y="371"/>
                    </a:lnTo>
                    <a:lnTo>
                      <a:pt x="584" y="355"/>
                    </a:lnTo>
                    <a:lnTo>
                      <a:pt x="585" y="335"/>
                    </a:lnTo>
                    <a:lnTo>
                      <a:pt x="587" y="315"/>
                    </a:lnTo>
                    <a:lnTo>
                      <a:pt x="591" y="293"/>
                    </a:lnTo>
                    <a:lnTo>
                      <a:pt x="595" y="272"/>
                    </a:lnTo>
                    <a:lnTo>
                      <a:pt x="608" y="228"/>
                    </a:lnTo>
                    <a:lnTo>
                      <a:pt x="622" y="183"/>
                    </a:lnTo>
                    <a:lnTo>
                      <a:pt x="636" y="136"/>
                    </a:lnTo>
                    <a:lnTo>
                      <a:pt x="648" y="90"/>
                    </a:lnTo>
                    <a:lnTo>
                      <a:pt x="653" y="67"/>
                    </a:lnTo>
                    <a:lnTo>
                      <a:pt x="657" y="45"/>
                    </a:lnTo>
                    <a:lnTo>
                      <a:pt x="659" y="22"/>
                    </a:lnTo>
                    <a:lnTo>
                      <a:pt x="660" y="0"/>
                    </a:lnTo>
                    <a:lnTo>
                      <a:pt x="648" y="0"/>
                    </a:lnTo>
                    <a:lnTo>
                      <a:pt x="636" y="1"/>
                    </a:lnTo>
                    <a:lnTo>
                      <a:pt x="625" y="4"/>
                    </a:lnTo>
                    <a:lnTo>
                      <a:pt x="614" y="6"/>
                    </a:lnTo>
                    <a:lnTo>
                      <a:pt x="603" y="9"/>
                    </a:lnTo>
                    <a:lnTo>
                      <a:pt x="593" y="14"/>
                    </a:lnTo>
                    <a:lnTo>
                      <a:pt x="583" y="18"/>
                    </a:lnTo>
                    <a:lnTo>
                      <a:pt x="574" y="23"/>
                    </a:lnTo>
                    <a:lnTo>
                      <a:pt x="557" y="36"/>
                    </a:lnTo>
                    <a:lnTo>
                      <a:pt x="541" y="48"/>
                    </a:lnTo>
                    <a:lnTo>
                      <a:pt x="527" y="63"/>
                    </a:lnTo>
                    <a:lnTo>
                      <a:pt x="516" y="78"/>
                    </a:lnTo>
                    <a:lnTo>
                      <a:pt x="505" y="94"/>
                    </a:lnTo>
                    <a:lnTo>
                      <a:pt x="496" y="109"/>
                    </a:lnTo>
                    <a:lnTo>
                      <a:pt x="489" y="123"/>
                    </a:lnTo>
                    <a:lnTo>
                      <a:pt x="485" y="138"/>
                    </a:lnTo>
                    <a:lnTo>
                      <a:pt x="481" y="151"/>
                    </a:lnTo>
                    <a:lnTo>
                      <a:pt x="479" y="162"/>
                    </a:lnTo>
                    <a:lnTo>
                      <a:pt x="480" y="171"/>
                    </a:lnTo>
                    <a:lnTo>
                      <a:pt x="481" y="17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816280" y="402300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240" h="169">
                    <a:moveTo>
                      <a:pt x="24" y="14"/>
                    </a:moveTo>
                    <a:lnTo>
                      <a:pt x="11" y="24"/>
                    </a:lnTo>
                    <a:lnTo>
                      <a:pt x="27" y="25"/>
                    </a:lnTo>
                    <a:lnTo>
                      <a:pt x="41" y="28"/>
                    </a:lnTo>
                    <a:lnTo>
                      <a:pt x="56" y="32"/>
                    </a:lnTo>
                    <a:lnTo>
                      <a:pt x="71" y="38"/>
                    </a:lnTo>
                    <a:lnTo>
                      <a:pt x="84" y="45"/>
                    </a:lnTo>
                    <a:lnTo>
                      <a:pt x="98" y="54"/>
                    </a:lnTo>
                    <a:lnTo>
                      <a:pt x="112" y="63"/>
                    </a:lnTo>
                    <a:lnTo>
                      <a:pt x="125" y="73"/>
                    </a:lnTo>
                    <a:lnTo>
                      <a:pt x="152" y="96"/>
                    </a:lnTo>
                    <a:lnTo>
                      <a:pt x="177" y="121"/>
                    </a:lnTo>
                    <a:lnTo>
                      <a:pt x="201" y="145"/>
                    </a:lnTo>
                    <a:lnTo>
                      <a:pt x="223" y="169"/>
                    </a:lnTo>
                    <a:lnTo>
                      <a:pt x="240" y="153"/>
                    </a:lnTo>
                    <a:lnTo>
                      <a:pt x="218" y="129"/>
                    </a:lnTo>
                    <a:lnTo>
                      <a:pt x="194" y="104"/>
                    </a:lnTo>
                    <a:lnTo>
                      <a:pt x="168" y="79"/>
                    </a:lnTo>
                    <a:lnTo>
                      <a:pt x="140" y="55"/>
                    </a:lnTo>
                    <a:lnTo>
                      <a:pt x="126" y="44"/>
                    </a:lnTo>
                    <a:lnTo>
                      <a:pt x="112" y="33"/>
                    </a:lnTo>
                    <a:lnTo>
                      <a:pt x="96" y="24"/>
                    </a:lnTo>
                    <a:lnTo>
                      <a:pt x="80" y="16"/>
                    </a:lnTo>
                    <a:lnTo>
                      <a:pt x="64" y="9"/>
                    </a:lnTo>
                    <a:lnTo>
                      <a:pt x="47" y="4"/>
                    </a:lnTo>
                    <a:lnTo>
                      <a:pt x="30" y="1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814480" y="402624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4" h="250">
                    <a:moveTo>
                      <a:pt x="91" y="250"/>
                    </a:moveTo>
                    <a:lnTo>
                      <a:pt x="97" y="228"/>
                    </a:lnTo>
                    <a:lnTo>
                      <a:pt x="83" y="220"/>
                    </a:lnTo>
                    <a:lnTo>
                      <a:pt x="71" y="209"/>
                    </a:lnTo>
                    <a:lnTo>
                      <a:pt x="61" y="199"/>
                    </a:lnTo>
                    <a:lnTo>
                      <a:pt x="51" y="188"/>
                    </a:lnTo>
                    <a:lnTo>
                      <a:pt x="45" y="175"/>
                    </a:lnTo>
                    <a:lnTo>
                      <a:pt x="38" y="163"/>
                    </a:lnTo>
                    <a:lnTo>
                      <a:pt x="33" y="148"/>
                    </a:lnTo>
                    <a:lnTo>
                      <a:pt x="30" y="133"/>
                    </a:lnTo>
                    <a:lnTo>
                      <a:pt x="26" y="118"/>
                    </a:lnTo>
                    <a:lnTo>
                      <a:pt x="25" y="102"/>
                    </a:lnTo>
                    <a:lnTo>
                      <a:pt x="24" y="86"/>
                    </a:lnTo>
                    <a:lnTo>
                      <a:pt x="24" y="69"/>
                    </a:lnTo>
                    <a:lnTo>
                      <a:pt x="26" y="36"/>
                    </a:lnTo>
                    <a:lnTo>
                      <a:pt x="31" y="3"/>
                    </a:lnTo>
                    <a:lnTo>
                      <a:pt x="7" y="0"/>
                    </a:lnTo>
                    <a:lnTo>
                      <a:pt x="2" y="34"/>
                    </a:lnTo>
                    <a:lnTo>
                      <a:pt x="0" y="69"/>
                    </a:lnTo>
                    <a:lnTo>
                      <a:pt x="0" y="86"/>
                    </a:lnTo>
                    <a:lnTo>
                      <a:pt x="1" y="104"/>
                    </a:lnTo>
                    <a:lnTo>
                      <a:pt x="2" y="122"/>
                    </a:lnTo>
                    <a:lnTo>
                      <a:pt x="6" y="139"/>
                    </a:lnTo>
                    <a:lnTo>
                      <a:pt x="10" y="156"/>
                    </a:lnTo>
                    <a:lnTo>
                      <a:pt x="16" y="172"/>
                    </a:lnTo>
                    <a:lnTo>
                      <a:pt x="23" y="187"/>
                    </a:lnTo>
                    <a:lnTo>
                      <a:pt x="32" y="201"/>
                    </a:lnTo>
                    <a:lnTo>
                      <a:pt x="42" y="215"/>
                    </a:lnTo>
                    <a:lnTo>
                      <a:pt x="55" y="228"/>
                    </a:lnTo>
                    <a:lnTo>
                      <a:pt x="70" y="239"/>
                    </a:lnTo>
                    <a:lnTo>
                      <a:pt x="86" y="249"/>
                    </a:lnTo>
                    <a:lnTo>
                      <a:pt x="91" y="226"/>
                    </a:lnTo>
                    <a:lnTo>
                      <a:pt x="86" y="249"/>
                    </a:lnTo>
                    <a:lnTo>
                      <a:pt x="91" y="250"/>
                    </a:lnTo>
                    <a:lnTo>
                      <a:pt x="96" y="250"/>
                    </a:lnTo>
                    <a:lnTo>
                      <a:pt x="99" y="248"/>
                    </a:lnTo>
                    <a:lnTo>
                      <a:pt x="103" y="244"/>
                    </a:lnTo>
                    <a:lnTo>
                      <a:pt x="104" y="240"/>
                    </a:lnTo>
                    <a:lnTo>
                      <a:pt x="104" y="236"/>
                    </a:lnTo>
                    <a:lnTo>
                      <a:pt x="102" y="231"/>
                    </a:lnTo>
                    <a:lnTo>
                      <a:pt x="97" y="228"/>
                    </a:lnTo>
                    <a:lnTo>
                      <a:pt x="91" y="2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33840" y="409752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58" y="125"/>
                    </a:moveTo>
                    <a:lnTo>
                      <a:pt x="336" y="124"/>
                    </a:lnTo>
                    <a:lnTo>
                      <a:pt x="330" y="133"/>
                    </a:lnTo>
                    <a:lnTo>
                      <a:pt x="325" y="142"/>
                    </a:lnTo>
                    <a:lnTo>
                      <a:pt x="318" y="150"/>
                    </a:lnTo>
                    <a:lnTo>
                      <a:pt x="311" y="158"/>
                    </a:lnTo>
                    <a:lnTo>
                      <a:pt x="304" y="165"/>
                    </a:lnTo>
                    <a:lnTo>
                      <a:pt x="296" y="170"/>
                    </a:lnTo>
                    <a:lnTo>
                      <a:pt x="287" y="176"/>
                    </a:lnTo>
                    <a:lnTo>
                      <a:pt x="279" y="181"/>
                    </a:lnTo>
                    <a:lnTo>
                      <a:pt x="270" y="185"/>
                    </a:lnTo>
                    <a:lnTo>
                      <a:pt x="261" y="189"/>
                    </a:lnTo>
                    <a:lnTo>
                      <a:pt x="251" y="192"/>
                    </a:lnTo>
                    <a:lnTo>
                      <a:pt x="241" y="194"/>
                    </a:lnTo>
                    <a:lnTo>
                      <a:pt x="231" y="197"/>
                    </a:lnTo>
                    <a:lnTo>
                      <a:pt x="221" y="198"/>
                    </a:lnTo>
                    <a:lnTo>
                      <a:pt x="211" y="198"/>
                    </a:lnTo>
                    <a:lnTo>
                      <a:pt x="200" y="199"/>
                    </a:lnTo>
                    <a:lnTo>
                      <a:pt x="179" y="198"/>
                    </a:lnTo>
                    <a:lnTo>
                      <a:pt x="157" y="194"/>
                    </a:lnTo>
                    <a:lnTo>
                      <a:pt x="137" y="191"/>
                    </a:lnTo>
                    <a:lnTo>
                      <a:pt x="117" y="185"/>
                    </a:lnTo>
                    <a:lnTo>
                      <a:pt x="98" y="177"/>
                    </a:lnTo>
                    <a:lnTo>
                      <a:pt x="81" y="169"/>
                    </a:lnTo>
                    <a:lnTo>
                      <a:pt x="65" y="160"/>
                    </a:lnTo>
                    <a:lnTo>
                      <a:pt x="51" y="150"/>
                    </a:lnTo>
                    <a:lnTo>
                      <a:pt x="45" y="145"/>
                    </a:lnTo>
                    <a:lnTo>
                      <a:pt x="41" y="140"/>
                    </a:lnTo>
                    <a:lnTo>
                      <a:pt x="36" y="135"/>
                    </a:lnTo>
                    <a:lnTo>
                      <a:pt x="33" y="129"/>
                    </a:lnTo>
                    <a:lnTo>
                      <a:pt x="29" y="125"/>
                    </a:lnTo>
                    <a:lnTo>
                      <a:pt x="27" y="120"/>
                    </a:lnTo>
                    <a:lnTo>
                      <a:pt x="26" y="114"/>
                    </a:lnTo>
                    <a:lnTo>
                      <a:pt x="25" y="110"/>
                    </a:lnTo>
                    <a:lnTo>
                      <a:pt x="25" y="106"/>
                    </a:lnTo>
                    <a:lnTo>
                      <a:pt x="25" y="102"/>
                    </a:lnTo>
                    <a:lnTo>
                      <a:pt x="26" y="97"/>
                    </a:lnTo>
                    <a:lnTo>
                      <a:pt x="28" y="93"/>
                    </a:lnTo>
                    <a:lnTo>
                      <a:pt x="31" y="88"/>
                    </a:lnTo>
                    <a:lnTo>
                      <a:pt x="35" y="84"/>
                    </a:lnTo>
                    <a:lnTo>
                      <a:pt x="40" y="79"/>
                    </a:lnTo>
                    <a:lnTo>
                      <a:pt x="47" y="73"/>
                    </a:lnTo>
                    <a:lnTo>
                      <a:pt x="53" y="69"/>
                    </a:lnTo>
                    <a:lnTo>
                      <a:pt x="63" y="64"/>
                    </a:lnTo>
                    <a:lnTo>
                      <a:pt x="73" y="60"/>
                    </a:lnTo>
                    <a:lnTo>
                      <a:pt x="84" y="55"/>
                    </a:lnTo>
                    <a:lnTo>
                      <a:pt x="98" y="51"/>
                    </a:lnTo>
                    <a:lnTo>
                      <a:pt x="113" y="46"/>
                    </a:lnTo>
                    <a:lnTo>
                      <a:pt x="129" y="43"/>
                    </a:lnTo>
                    <a:lnTo>
                      <a:pt x="146" y="39"/>
                    </a:lnTo>
                    <a:lnTo>
                      <a:pt x="165" y="36"/>
                    </a:lnTo>
                    <a:lnTo>
                      <a:pt x="186" y="34"/>
                    </a:lnTo>
                    <a:lnTo>
                      <a:pt x="208" y="30"/>
                    </a:lnTo>
                    <a:lnTo>
                      <a:pt x="232" y="29"/>
                    </a:lnTo>
                    <a:lnTo>
                      <a:pt x="286" y="26"/>
                    </a:lnTo>
                    <a:lnTo>
                      <a:pt x="346" y="24"/>
                    </a:lnTo>
                    <a:lnTo>
                      <a:pt x="346" y="0"/>
                    </a:lnTo>
                    <a:lnTo>
                      <a:pt x="285" y="2"/>
                    </a:lnTo>
                    <a:lnTo>
                      <a:pt x="231" y="4"/>
                    </a:lnTo>
                    <a:lnTo>
                      <a:pt x="206" y="6"/>
                    </a:lnTo>
                    <a:lnTo>
                      <a:pt x="183" y="8"/>
                    </a:lnTo>
                    <a:lnTo>
                      <a:pt x="162" y="12"/>
                    </a:lnTo>
                    <a:lnTo>
                      <a:pt x="141" y="15"/>
                    </a:lnTo>
                    <a:lnTo>
                      <a:pt x="123" y="19"/>
                    </a:lnTo>
                    <a:lnTo>
                      <a:pt x="106" y="23"/>
                    </a:lnTo>
                    <a:lnTo>
                      <a:pt x="91" y="28"/>
                    </a:lnTo>
                    <a:lnTo>
                      <a:pt x="76" y="32"/>
                    </a:lnTo>
                    <a:lnTo>
                      <a:pt x="64" y="37"/>
                    </a:lnTo>
                    <a:lnTo>
                      <a:pt x="52" y="43"/>
                    </a:lnTo>
                    <a:lnTo>
                      <a:pt x="42" y="48"/>
                    </a:lnTo>
                    <a:lnTo>
                      <a:pt x="32" y="54"/>
                    </a:lnTo>
                    <a:lnTo>
                      <a:pt x="24" y="61"/>
                    </a:lnTo>
                    <a:lnTo>
                      <a:pt x="17" y="67"/>
                    </a:lnTo>
                    <a:lnTo>
                      <a:pt x="11" y="75"/>
                    </a:lnTo>
                    <a:lnTo>
                      <a:pt x="7" y="81"/>
                    </a:lnTo>
                    <a:lnTo>
                      <a:pt x="3" y="89"/>
                    </a:lnTo>
                    <a:lnTo>
                      <a:pt x="1" y="97"/>
                    </a:lnTo>
                    <a:lnTo>
                      <a:pt x="0" y="105"/>
                    </a:lnTo>
                    <a:lnTo>
                      <a:pt x="1" y="113"/>
                    </a:lnTo>
                    <a:lnTo>
                      <a:pt x="2" y="121"/>
                    </a:lnTo>
                    <a:lnTo>
                      <a:pt x="4" y="128"/>
                    </a:lnTo>
                    <a:lnTo>
                      <a:pt x="8" y="136"/>
                    </a:lnTo>
                    <a:lnTo>
                      <a:pt x="12" y="143"/>
                    </a:lnTo>
                    <a:lnTo>
                      <a:pt x="17" y="150"/>
                    </a:lnTo>
                    <a:lnTo>
                      <a:pt x="23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52" y="181"/>
                    </a:lnTo>
                    <a:lnTo>
                      <a:pt x="69" y="191"/>
                    </a:lnTo>
                    <a:lnTo>
                      <a:pt x="89" y="200"/>
                    </a:lnTo>
                    <a:lnTo>
                      <a:pt x="109" y="208"/>
                    </a:lnTo>
                    <a:lnTo>
                      <a:pt x="131" y="214"/>
                    </a:lnTo>
                    <a:lnTo>
                      <a:pt x="154" y="218"/>
                    </a:lnTo>
                    <a:lnTo>
                      <a:pt x="176" y="222"/>
                    </a:lnTo>
                    <a:lnTo>
                      <a:pt x="199" y="223"/>
                    </a:lnTo>
                    <a:lnTo>
                      <a:pt x="212" y="223"/>
                    </a:lnTo>
                    <a:lnTo>
                      <a:pt x="223" y="222"/>
                    </a:lnTo>
                    <a:lnTo>
                      <a:pt x="235" y="219"/>
                    </a:lnTo>
                    <a:lnTo>
                      <a:pt x="246" y="218"/>
                    </a:lnTo>
                    <a:lnTo>
                      <a:pt x="257" y="215"/>
                    </a:lnTo>
                    <a:lnTo>
                      <a:pt x="269" y="211"/>
                    </a:lnTo>
                    <a:lnTo>
                      <a:pt x="279" y="207"/>
                    </a:lnTo>
                    <a:lnTo>
                      <a:pt x="290" y="202"/>
                    </a:lnTo>
                    <a:lnTo>
                      <a:pt x="301" y="197"/>
                    </a:lnTo>
                    <a:lnTo>
                      <a:pt x="310" y="191"/>
                    </a:lnTo>
                    <a:lnTo>
                      <a:pt x="319" y="183"/>
                    </a:lnTo>
                    <a:lnTo>
                      <a:pt x="328" y="175"/>
                    </a:lnTo>
                    <a:lnTo>
                      <a:pt x="336" y="166"/>
                    </a:lnTo>
                    <a:lnTo>
                      <a:pt x="344" y="157"/>
                    </a:lnTo>
                    <a:lnTo>
                      <a:pt x="351" y="145"/>
                    </a:lnTo>
                    <a:lnTo>
                      <a:pt x="358" y="134"/>
                    </a:lnTo>
                    <a:lnTo>
                      <a:pt x="335" y="132"/>
                    </a:lnTo>
                    <a:lnTo>
                      <a:pt x="358" y="134"/>
                    </a:lnTo>
                    <a:lnTo>
                      <a:pt x="359" y="128"/>
                    </a:lnTo>
                    <a:lnTo>
                      <a:pt x="358" y="124"/>
                    </a:lnTo>
                    <a:lnTo>
                      <a:pt x="355" y="120"/>
                    </a:lnTo>
                    <a:lnTo>
                      <a:pt x="352" y="118"/>
                    </a:lnTo>
                    <a:lnTo>
                      <a:pt x="347" y="117"/>
                    </a:lnTo>
                    <a:lnTo>
                      <a:pt x="343" y="117"/>
                    </a:lnTo>
                    <a:lnTo>
                      <a:pt x="339" y="119"/>
                    </a:lnTo>
                    <a:lnTo>
                      <a:pt x="336" y="124"/>
                    </a:lnTo>
                    <a:lnTo>
                      <a:pt x="358" y="1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40040" y="41310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4" y="24"/>
                    </a:moveTo>
                    <a:lnTo>
                      <a:pt x="414" y="13"/>
                    </a:lnTo>
                    <a:lnTo>
                      <a:pt x="412" y="41"/>
                    </a:lnTo>
                    <a:lnTo>
                      <a:pt x="410" y="67"/>
                    </a:lnTo>
                    <a:lnTo>
                      <a:pt x="406" y="91"/>
                    </a:lnTo>
                    <a:lnTo>
                      <a:pt x="400" y="113"/>
                    </a:lnTo>
                    <a:lnTo>
                      <a:pt x="393" y="134"/>
                    </a:lnTo>
                    <a:lnTo>
                      <a:pt x="384" y="152"/>
                    </a:lnTo>
                    <a:lnTo>
                      <a:pt x="375" y="168"/>
                    </a:lnTo>
                    <a:lnTo>
                      <a:pt x="363" y="181"/>
                    </a:lnTo>
                    <a:lnTo>
                      <a:pt x="352" y="194"/>
                    </a:lnTo>
                    <a:lnTo>
                      <a:pt x="340" y="205"/>
                    </a:lnTo>
                    <a:lnTo>
                      <a:pt x="327" y="213"/>
                    </a:lnTo>
                    <a:lnTo>
                      <a:pt x="313" y="220"/>
                    </a:lnTo>
                    <a:lnTo>
                      <a:pt x="299" y="226"/>
                    </a:lnTo>
                    <a:lnTo>
                      <a:pt x="284" y="229"/>
                    </a:lnTo>
                    <a:lnTo>
                      <a:pt x="268" y="232"/>
                    </a:lnTo>
                    <a:lnTo>
                      <a:pt x="252" y="233"/>
                    </a:lnTo>
                    <a:lnTo>
                      <a:pt x="236" y="232"/>
                    </a:lnTo>
                    <a:lnTo>
                      <a:pt x="219" y="228"/>
                    </a:lnTo>
                    <a:lnTo>
                      <a:pt x="203" y="224"/>
                    </a:lnTo>
                    <a:lnTo>
                      <a:pt x="186" y="218"/>
                    </a:lnTo>
                    <a:lnTo>
                      <a:pt x="170" y="210"/>
                    </a:lnTo>
                    <a:lnTo>
                      <a:pt x="153" y="201"/>
                    </a:lnTo>
                    <a:lnTo>
                      <a:pt x="137" y="189"/>
                    </a:lnTo>
                    <a:lnTo>
                      <a:pt x="122" y="177"/>
                    </a:lnTo>
                    <a:lnTo>
                      <a:pt x="106" y="163"/>
                    </a:lnTo>
                    <a:lnTo>
                      <a:pt x="92" y="147"/>
                    </a:lnTo>
                    <a:lnTo>
                      <a:pt x="77" y="130"/>
                    </a:lnTo>
                    <a:lnTo>
                      <a:pt x="65" y="111"/>
                    </a:lnTo>
                    <a:lnTo>
                      <a:pt x="52" y="91"/>
                    </a:lnTo>
                    <a:lnTo>
                      <a:pt x="42" y="69"/>
                    </a:lnTo>
                    <a:lnTo>
                      <a:pt x="32" y="46"/>
                    </a:lnTo>
                    <a:lnTo>
                      <a:pt x="23" y="21"/>
                    </a:lnTo>
                    <a:lnTo>
                      <a:pt x="0" y="28"/>
                    </a:lnTo>
                    <a:lnTo>
                      <a:pt x="9" y="55"/>
                    </a:lnTo>
                    <a:lnTo>
                      <a:pt x="19" y="79"/>
                    </a:lnTo>
                    <a:lnTo>
                      <a:pt x="32" y="103"/>
                    </a:lnTo>
                    <a:lnTo>
                      <a:pt x="44" y="124"/>
                    </a:lnTo>
                    <a:lnTo>
                      <a:pt x="58" y="145"/>
                    </a:lnTo>
                    <a:lnTo>
                      <a:pt x="73" y="163"/>
                    </a:lnTo>
                    <a:lnTo>
                      <a:pt x="89" y="180"/>
                    </a:lnTo>
                    <a:lnTo>
                      <a:pt x="106" y="195"/>
                    </a:lnTo>
                    <a:lnTo>
                      <a:pt x="123" y="209"/>
                    </a:lnTo>
                    <a:lnTo>
                      <a:pt x="140" y="221"/>
                    </a:lnTo>
                    <a:lnTo>
                      <a:pt x="158" y="232"/>
                    </a:lnTo>
                    <a:lnTo>
                      <a:pt x="177" y="240"/>
                    </a:lnTo>
                    <a:lnTo>
                      <a:pt x="195" y="246"/>
                    </a:lnTo>
                    <a:lnTo>
                      <a:pt x="214" y="252"/>
                    </a:lnTo>
                    <a:lnTo>
                      <a:pt x="232" y="256"/>
                    </a:lnTo>
                    <a:lnTo>
                      <a:pt x="252" y="257"/>
                    </a:lnTo>
                    <a:lnTo>
                      <a:pt x="270" y="256"/>
                    </a:lnTo>
                    <a:lnTo>
                      <a:pt x="288" y="253"/>
                    </a:lnTo>
                    <a:lnTo>
                      <a:pt x="305" y="249"/>
                    </a:lnTo>
                    <a:lnTo>
                      <a:pt x="322" y="243"/>
                    </a:lnTo>
                    <a:lnTo>
                      <a:pt x="340" y="235"/>
                    </a:lnTo>
                    <a:lnTo>
                      <a:pt x="354" y="224"/>
                    </a:lnTo>
                    <a:lnTo>
                      <a:pt x="369" y="212"/>
                    </a:lnTo>
                    <a:lnTo>
                      <a:pt x="383" y="197"/>
                    </a:lnTo>
                    <a:lnTo>
                      <a:pt x="394" y="181"/>
                    </a:lnTo>
                    <a:lnTo>
                      <a:pt x="406" y="163"/>
                    </a:lnTo>
                    <a:lnTo>
                      <a:pt x="415" y="143"/>
                    </a:lnTo>
                    <a:lnTo>
                      <a:pt x="423" y="121"/>
                    </a:lnTo>
                    <a:lnTo>
                      <a:pt x="430" y="96"/>
                    </a:lnTo>
                    <a:lnTo>
                      <a:pt x="434" y="71"/>
                    </a:lnTo>
                    <a:lnTo>
                      <a:pt x="436" y="42"/>
                    </a:lnTo>
                    <a:lnTo>
                      <a:pt x="438" y="13"/>
                    </a:lnTo>
                    <a:lnTo>
                      <a:pt x="426" y="0"/>
                    </a:lnTo>
                    <a:lnTo>
                      <a:pt x="438" y="13"/>
                    </a:lnTo>
                    <a:lnTo>
                      <a:pt x="436" y="7"/>
                    </a:lnTo>
                    <a:lnTo>
                      <a:pt x="434" y="4"/>
                    </a:lnTo>
                    <a:lnTo>
                      <a:pt x="430" y="1"/>
                    </a:lnTo>
                    <a:lnTo>
                      <a:pt x="425" y="0"/>
                    </a:lnTo>
                    <a:lnTo>
                      <a:pt x="420" y="1"/>
                    </a:lnTo>
                    <a:lnTo>
                      <a:pt x="417" y="4"/>
                    </a:lnTo>
                    <a:lnTo>
                      <a:pt x="415" y="7"/>
                    </a:lnTo>
                    <a:lnTo>
                      <a:pt x="414" y="13"/>
                    </a:lnTo>
                    <a:lnTo>
                      <a:pt x="42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917800" y="4126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13"/>
                    </a:moveTo>
                    <a:lnTo>
                      <a:pt x="12" y="25"/>
                    </a:lnTo>
                    <a:lnTo>
                      <a:pt x="176" y="40"/>
                    </a:lnTo>
                    <a:lnTo>
                      <a:pt x="178" y="16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917800" y="4013640"/>
                <a:ext cx="33480" cy="117360"/>
              </a:xfrm>
              <a:custGeom>
                <a:avLst/>
                <a:gdLst/>
                <a:ahLst/>
                <a:rect l="l" t="t" r="r" b="b"/>
                <a:pathLst>
                  <a:path w="102" h="367">
                    <a:moveTo>
                      <a:pt x="89" y="24"/>
                    </a:moveTo>
                    <a:lnTo>
                      <a:pt x="77" y="12"/>
                    </a:lnTo>
                    <a:lnTo>
                      <a:pt x="77" y="33"/>
                    </a:lnTo>
                    <a:lnTo>
                      <a:pt x="74" y="54"/>
                    </a:lnTo>
                    <a:lnTo>
                      <a:pt x="70" y="77"/>
                    </a:lnTo>
                    <a:lnTo>
                      <a:pt x="65" y="99"/>
                    </a:lnTo>
                    <a:lnTo>
                      <a:pt x="54" y="146"/>
                    </a:lnTo>
                    <a:lnTo>
                      <a:pt x="39" y="191"/>
                    </a:lnTo>
                    <a:lnTo>
                      <a:pt x="25" y="237"/>
                    </a:lnTo>
                    <a:lnTo>
                      <a:pt x="13" y="281"/>
                    </a:lnTo>
                    <a:lnTo>
                      <a:pt x="8" y="303"/>
                    </a:lnTo>
                    <a:lnTo>
                      <a:pt x="4" y="325"/>
                    </a:lnTo>
                    <a:lnTo>
                      <a:pt x="2" y="346"/>
                    </a:lnTo>
                    <a:lnTo>
                      <a:pt x="0" y="367"/>
                    </a:lnTo>
                    <a:lnTo>
                      <a:pt x="25" y="367"/>
                    </a:lnTo>
                    <a:lnTo>
                      <a:pt x="25" y="347"/>
                    </a:lnTo>
                    <a:lnTo>
                      <a:pt x="28" y="328"/>
                    </a:lnTo>
                    <a:lnTo>
                      <a:pt x="32" y="307"/>
                    </a:lnTo>
                    <a:lnTo>
                      <a:pt x="37" y="287"/>
                    </a:lnTo>
                    <a:lnTo>
                      <a:pt x="48" y="244"/>
                    </a:lnTo>
                    <a:lnTo>
                      <a:pt x="63" y="198"/>
                    </a:lnTo>
                    <a:lnTo>
                      <a:pt x="77" y="151"/>
                    </a:lnTo>
                    <a:lnTo>
                      <a:pt x="89" y="105"/>
                    </a:lnTo>
                    <a:lnTo>
                      <a:pt x="94" y="82"/>
                    </a:lnTo>
                    <a:lnTo>
                      <a:pt x="98" y="58"/>
                    </a:lnTo>
                    <a:lnTo>
                      <a:pt x="101" y="35"/>
                    </a:lnTo>
                    <a:lnTo>
                      <a:pt x="102" y="12"/>
                    </a:lnTo>
                    <a:lnTo>
                      <a:pt x="89" y="0"/>
                    </a:lnTo>
                    <a:lnTo>
                      <a:pt x="102" y="12"/>
                    </a:lnTo>
                    <a:lnTo>
                      <a:pt x="101" y="7"/>
                    </a:lnTo>
                    <a:lnTo>
                      <a:pt x="97" y="3"/>
                    </a:lnTo>
                    <a:lnTo>
                      <a:pt x="94" y="1"/>
                    </a:lnTo>
                    <a:lnTo>
                      <a:pt x="89" y="0"/>
                    </a:lnTo>
                    <a:lnTo>
                      <a:pt x="85" y="1"/>
                    </a:lnTo>
                    <a:lnTo>
                      <a:pt x="81" y="3"/>
                    </a:lnTo>
                    <a:lnTo>
                      <a:pt x="78" y="7"/>
                    </a:lnTo>
                    <a:lnTo>
                      <a:pt x="77" y="12"/>
                    </a:lnTo>
                    <a:lnTo>
                      <a:pt x="89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886120" y="401364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192" h="203">
                    <a:moveTo>
                      <a:pt x="5" y="198"/>
                    </a:moveTo>
                    <a:lnTo>
                      <a:pt x="25" y="184"/>
                    </a:lnTo>
                    <a:lnTo>
                      <a:pt x="24" y="182"/>
                    </a:lnTo>
                    <a:lnTo>
                      <a:pt x="24" y="175"/>
                    </a:lnTo>
                    <a:lnTo>
                      <a:pt x="25" y="165"/>
                    </a:lnTo>
                    <a:lnTo>
                      <a:pt x="28" y="154"/>
                    </a:lnTo>
                    <a:lnTo>
                      <a:pt x="33" y="140"/>
                    </a:lnTo>
                    <a:lnTo>
                      <a:pt x="40" y="126"/>
                    </a:lnTo>
                    <a:lnTo>
                      <a:pt x="48" y="111"/>
                    </a:lnTo>
                    <a:lnTo>
                      <a:pt x="57" y="97"/>
                    </a:lnTo>
                    <a:lnTo>
                      <a:pt x="68" y="83"/>
                    </a:lnTo>
                    <a:lnTo>
                      <a:pt x="82" y="69"/>
                    </a:lnTo>
                    <a:lnTo>
                      <a:pt x="95" y="57"/>
                    </a:lnTo>
                    <a:lnTo>
                      <a:pt x="112" y="45"/>
                    </a:lnTo>
                    <a:lnTo>
                      <a:pt x="120" y="41"/>
                    </a:lnTo>
                    <a:lnTo>
                      <a:pt x="130" y="36"/>
                    </a:lnTo>
                    <a:lnTo>
                      <a:pt x="139" y="33"/>
                    </a:lnTo>
                    <a:lnTo>
                      <a:pt x="149" y="29"/>
                    </a:lnTo>
                    <a:lnTo>
                      <a:pt x="159" y="27"/>
                    </a:lnTo>
                    <a:lnTo>
                      <a:pt x="169" y="25"/>
                    </a:lnTo>
                    <a:lnTo>
                      <a:pt x="181" y="24"/>
                    </a:lnTo>
                    <a:lnTo>
                      <a:pt x="192" y="24"/>
                    </a:lnTo>
                    <a:lnTo>
                      <a:pt x="192" y="0"/>
                    </a:lnTo>
                    <a:lnTo>
                      <a:pt x="179" y="0"/>
                    </a:lnTo>
                    <a:lnTo>
                      <a:pt x="166" y="1"/>
                    </a:lnTo>
                    <a:lnTo>
                      <a:pt x="154" y="3"/>
                    </a:lnTo>
                    <a:lnTo>
                      <a:pt x="142" y="7"/>
                    </a:lnTo>
                    <a:lnTo>
                      <a:pt x="131" y="10"/>
                    </a:lnTo>
                    <a:lnTo>
                      <a:pt x="120" y="15"/>
                    </a:lnTo>
                    <a:lnTo>
                      <a:pt x="109" y="19"/>
                    </a:lnTo>
                    <a:lnTo>
                      <a:pt x="99" y="25"/>
                    </a:lnTo>
                    <a:lnTo>
                      <a:pt x="82" y="37"/>
                    </a:lnTo>
                    <a:lnTo>
                      <a:pt x="65" y="52"/>
                    </a:lnTo>
                    <a:lnTo>
                      <a:pt x="50" y="67"/>
                    </a:lnTo>
                    <a:lnTo>
                      <a:pt x="37" y="83"/>
                    </a:lnTo>
                    <a:lnTo>
                      <a:pt x="27" y="99"/>
                    </a:lnTo>
                    <a:lnTo>
                      <a:pt x="18" y="115"/>
                    </a:lnTo>
                    <a:lnTo>
                      <a:pt x="10" y="131"/>
                    </a:lnTo>
                    <a:lnTo>
                      <a:pt x="4" y="147"/>
                    </a:lnTo>
                    <a:lnTo>
                      <a:pt x="1" y="160"/>
                    </a:lnTo>
                    <a:lnTo>
                      <a:pt x="0" y="173"/>
                    </a:lnTo>
                    <a:lnTo>
                      <a:pt x="0" y="186"/>
                    </a:lnTo>
                    <a:lnTo>
                      <a:pt x="3" y="196"/>
                    </a:lnTo>
                    <a:lnTo>
                      <a:pt x="22" y="182"/>
                    </a:lnTo>
                    <a:lnTo>
                      <a:pt x="3" y="196"/>
                    </a:lnTo>
                    <a:lnTo>
                      <a:pt x="6" y="200"/>
                    </a:lnTo>
                    <a:lnTo>
                      <a:pt x="11" y="201"/>
                    </a:lnTo>
                    <a:lnTo>
                      <a:pt x="16" y="203"/>
                    </a:lnTo>
                    <a:lnTo>
                      <a:pt x="19" y="200"/>
                    </a:lnTo>
                    <a:lnTo>
                      <a:pt x="22" y="198"/>
                    </a:lnTo>
                    <a:lnTo>
                      <a:pt x="26" y="195"/>
                    </a:lnTo>
                    <a:lnTo>
                      <a:pt x="26" y="190"/>
                    </a:lnTo>
                    <a:lnTo>
                      <a:pt x="25" y="184"/>
                    </a:lnTo>
                    <a:lnTo>
                      <a:pt x="5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29000" y="3983400"/>
                <a:ext cx="209520" cy="18864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7" y="298"/>
                    </a:moveTo>
                    <a:lnTo>
                      <a:pt x="427" y="275"/>
                    </a:lnTo>
                    <a:lnTo>
                      <a:pt x="414" y="250"/>
                    </a:lnTo>
                    <a:lnTo>
                      <a:pt x="401" y="226"/>
                    </a:lnTo>
                    <a:lnTo>
                      <a:pt x="386" y="200"/>
                    </a:lnTo>
                    <a:lnTo>
                      <a:pt x="370" y="175"/>
                    </a:lnTo>
                    <a:lnTo>
                      <a:pt x="353" y="151"/>
                    </a:lnTo>
                    <a:lnTo>
                      <a:pt x="335" y="127"/>
                    </a:lnTo>
                    <a:lnTo>
                      <a:pt x="315" y="104"/>
                    </a:lnTo>
                    <a:lnTo>
                      <a:pt x="295" y="82"/>
                    </a:lnTo>
                    <a:lnTo>
                      <a:pt x="273" y="62"/>
                    </a:lnTo>
                    <a:lnTo>
                      <a:pt x="262" y="54"/>
                    </a:lnTo>
                    <a:lnTo>
                      <a:pt x="250" y="45"/>
                    </a:lnTo>
                    <a:lnTo>
                      <a:pt x="238" y="37"/>
                    </a:lnTo>
                    <a:lnTo>
                      <a:pt x="226" y="30"/>
                    </a:lnTo>
                    <a:lnTo>
                      <a:pt x="213" y="23"/>
                    </a:lnTo>
                    <a:lnTo>
                      <a:pt x="200" y="17"/>
                    </a:lnTo>
                    <a:lnTo>
                      <a:pt x="186" y="12"/>
                    </a:lnTo>
                    <a:lnTo>
                      <a:pt x="174" y="8"/>
                    </a:lnTo>
                    <a:lnTo>
                      <a:pt x="159" y="5"/>
                    </a:lnTo>
                    <a:lnTo>
                      <a:pt x="145" y="2"/>
                    </a:lnTo>
                    <a:lnTo>
                      <a:pt x="131" y="0"/>
                    </a:lnTo>
                    <a:lnTo>
                      <a:pt x="116" y="0"/>
                    </a:lnTo>
                    <a:lnTo>
                      <a:pt x="115" y="46"/>
                    </a:lnTo>
                    <a:lnTo>
                      <a:pt x="116" y="93"/>
                    </a:lnTo>
                    <a:lnTo>
                      <a:pt x="116" y="116"/>
                    </a:lnTo>
                    <a:lnTo>
                      <a:pt x="118" y="139"/>
                    </a:lnTo>
                    <a:lnTo>
                      <a:pt x="120" y="162"/>
                    </a:lnTo>
                    <a:lnTo>
                      <a:pt x="125" y="185"/>
                    </a:lnTo>
                    <a:lnTo>
                      <a:pt x="131" y="207"/>
                    </a:lnTo>
                    <a:lnTo>
                      <a:pt x="137" y="227"/>
                    </a:lnTo>
                    <a:lnTo>
                      <a:pt x="142" y="237"/>
                    </a:lnTo>
                    <a:lnTo>
                      <a:pt x="147" y="248"/>
                    </a:lnTo>
                    <a:lnTo>
                      <a:pt x="152" y="257"/>
                    </a:lnTo>
                    <a:lnTo>
                      <a:pt x="159" y="266"/>
                    </a:lnTo>
                    <a:lnTo>
                      <a:pt x="166" y="275"/>
                    </a:lnTo>
                    <a:lnTo>
                      <a:pt x="173" y="283"/>
                    </a:lnTo>
                    <a:lnTo>
                      <a:pt x="181" y="291"/>
                    </a:lnTo>
                    <a:lnTo>
                      <a:pt x="190" y="299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19"/>
                    </a:lnTo>
                    <a:lnTo>
                      <a:pt x="233" y="325"/>
                    </a:lnTo>
                    <a:lnTo>
                      <a:pt x="238" y="329"/>
                    </a:lnTo>
                    <a:lnTo>
                      <a:pt x="242" y="331"/>
                    </a:lnTo>
                    <a:lnTo>
                      <a:pt x="245" y="333"/>
                    </a:lnTo>
                    <a:lnTo>
                      <a:pt x="245" y="335"/>
                    </a:lnTo>
                    <a:lnTo>
                      <a:pt x="245" y="337"/>
                    </a:lnTo>
                    <a:lnTo>
                      <a:pt x="243" y="339"/>
                    </a:lnTo>
                    <a:lnTo>
                      <a:pt x="242" y="340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4"/>
                    </a:lnTo>
                    <a:lnTo>
                      <a:pt x="169" y="357"/>
                    </a:lnTo>
                    <a:lnTo>
                      <a:pt x="151" y="362"/>
                    </a:lnTo>
                    <a:lnTo>
                      <a:pt x="131" y="367"/>
                    </a:lnTo>
                    <a:lnTo>
                      <a:pt x="111" y="374"/>
                    </a:lnTo>
                    <a:lnTo>
                      <a:pt x="93" y="381"/>
                    </a:lnTo>
                    <a:lnTo>
                      <a:pt x="75" y="390"/>
                    </a:lnTo>
                    <a:lnTo>
                      <a:pt x="66" y="396"/>
                    </a:lnTo>
                    <a:lnTo>
                      <a:pt x="58" y="401"/>
                    </a:lnTo>
                    <a:lnTo>
                      <a:pt x="50" y="407"/>
                    </a:lnTo>
                    <a:lnTo>
                      <a:pt x="43" y="414"/>
                    </a:lnTo>
                    <a:lnTo>
                      <a:pt x="35" y="423"/>
                    </a:lnTo>
                    <a:lnTo>
                      <a:pt x="29" y="432"/>
                    </a:lnTo>
                    <a:lnTo>
                      <a:pt x="22" y="443"/>
                    </a:lnTo>
                    <a:lnTo>
                      <a:pt x="18" y="453"/>
                    </a:lnTo>
                    <a:lnTo>
                      <a:pt x="13" y="463"/>
                    </a:lnTo>
                    <a:lnTo>
                      <a:pt x="10" y="474"/>
                    </a:lnTo>
                    <a:lnTo>
                      <a:pt x="8" y="486"/>
                    </a:lnTo>
                    <a:lnTo>
                      <a:pt x="5" y="497"/>
                    </a:lnTo>
                    <a:lnTo>
                      <a:pt x="2" y="521"/>
                    </a:lnTo>
                    <a:lnTo>
                      <a:pt x="1" y="545"/>
                    </a:lnTo>
                    <a:lnTo>
                      <a:pt x="0" y="568"/>
                    </a:lnTo>
                    <a:lnTo>
                      <a:pt x="0" y="591"/>
                    </a:lnTo>
                    <a:lnTo>
                      <a:pt x="50" y="591"/>
                    </a:lnTo>
                    <a:lnTo>
                      <a:pt x="102" y="588"/>
                    </a:lnTo>
                    <a:lnTo>
                      <a:pt x="127" y="586"/>
                    </a:lnTo>
                    <a:lnTo>
                      <a:pt x="153" y="584"/>
                    </a:lnTo>
                    <a:lnTo>
                      <a:pt x="179" y="579"/>
                    </a:lnTo>
                    <a:lnTo>
                      <a:pt x="202" y="575"/>
                    </a:lnTo>
                    <a:lnTo>
                      <a:pt x="226" y="567"/>
                    </a:lnTo>
                    <a:lnTo>
                      <a:pt x="248" y="559"/>
                    </a:lnTo>
                    <a:lnTo>
                      <a:pt x="259" y="553"/>
                    </a:lnTo>
                    <a:lnTo>
                      <a:pt x="270" y="547"/>
                    </a:lnTo>
                    <a:lnTo>
                      <a:pt x="280" y="542"/>
                    </a:lnTo>
                    <a:lnTo>
                      <a:pt x="289" y="535"/>
                    </a:lnTo>
                    <a:lnTo>
                      <a:pt x="298" y="528"/>
                    </a:lnTo>
                    <a:lnTo>
                      <a:pt x="307" y="520"/>
                    </a:lnTo>
                    <a:lnTo>
                      <a:pt x="315" y="512"/>
                    </a:lnTo>
                    <a:lnTo>
                      <a:pt x="323" y="503"/>
                    </a:lnTo>
                    <a:lnTo>
                      <a:pt x="331" y="493"/>
                    </a:lnTo>
                    <a:lnTo>
                      <a:pt x="338" y="482"/>
                    </a:lnTo>
                    <a:lnTo>
                      <a:pt x="344" y="471"/>
                    </a:lnTo>
                    <a:lnTo>
                      <a:pt x="349" y="458"/>
                    </a:lnTo>
                    <a:lnTo>
                      <a:pt x="378" y="473"/>
                    </a:lnTo>
                    <a:lnTo>
                      <a:pt x="405" y="490"/>
                    </a:lnTo>
                    <a:lnTo>
                      <a:pt x="434" y="508"/>
                    </a:lnTo>
                    <a:lnTo>
                      <a:pt x="461" y="523"/>
                    </a:lnTo>
                    <a:lnTo>
                      <a:pt x="487" y="539"/>
                    </a:lnTo>
                    <a:lnTo>
                      <a:pt x="512" y="553"/>
                    </a:lnTo>
                    <a:lnTo>
                      <a:pt x="525" y="560"/>
                    </a:lnTo>
                    <a:lnTo>
                      <a:pt x="538" y="565"/>
                    </a:lnTo>
                    <a:lnTo>
                      <a:pt x="549" y="569"/>
                    </a:lnTo>
                    <a:lnTo>
                      <a:pt x="560" y="572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1" y="575"/>
                    </a:lnTo>
                    <a:lnTo>
                      <a:pt x="600" y="574"/>
                    </a:lnTo>
                    <a:lnTo>
                      <a:pt x="609" y="570"/>
                    </a:lnTo>
                    <a:lnTo>
                      <a:pt x="617" y="565"/>
                    </a:lnTo>
                    <a:lnTo>
                      <a:pt x="625" y="558"/>
                    </a:lnTo>
                    <a:lnTo>
                      <a:pt x="632" y="549"/>
                    </a:lnTo>
                    <a:lnTo>
                      <a:pt x="638" y="538"/>
                    </a:lnTo>
                    <a:lnTo>
                      <a:pt x="644" y="526"/>
                    </a:lnTo>
                    <a:lnTo>
                      <a:pt x="648" y="511"/>
                    </a:lnTo>
                    <a:lnTo>
                      <a:pt x="653" y="493"/>
                    </a:lnTo>
                    <a:lnTo>
                      <a:pt x="655" y="473"/>
                    </a:lnTo>
                    <a:lnTo>
                      <a:pt x="657" y="451"/>
                    </a:lnTo>
                    <a:lnTo>
                      <a:pt x="659" y="427"/>
                    </a:lnTo>
                    <a:lnTo>
                      <a:pt x="659" y="398"/>
                    </a:lnTo>
                    <a:lnTo>
                      <a:pt x="528" y="398"/>
                    </a:lnTo>
                    <a:lnTo>
                      <a:pt x="544" y="362"/>
                    </a:lnTo>
                    <a:lnTo>
                      <a:pt x="561" y="324"/>
                    </a:lnTo>
                    <a:lnTo>
                      <a:pt x="579" y="287"/>
                    </a:lnTo>
                    <a:lnTo>
                      <a:pt x="595" y="249"/>
                    </a:lnTo>
                    <a:lnTo>
                      <a:pt x="601" y="229"/>
                    </a:lnTo>
                    <a:lnTo>
                      <a:pt x="608" y="210"/>
                    </a:lnTo>
                    <a:lnTo>
                      <a:pt x="614" y="189"/>
                    </a:lnTo>
                    <a:lnTo>
                      <a:pt x="618" y="168"/>
                    </a:lnTo>
                    <a:lnTo>
                      <a:pt x="623" y="146"/>
                    </a:lnTo>
                    <a:lnTo>
                      <a:pt x="625" y="123"/>
                    </a:lnTo>
                    <a:lnTo>
                      <a:pt x="628" y="101"/>
                    </a:lnTo>
                    <a:lnTo>
                      <a:pt x="629" y="77"/>
                    </a:lnTo>
                    <a:lnTo>
                      <a:pt x="483" y="77"/>
                    </a:lnTo>
                    <a:lnTo>
                      <a:pt x="475" y="95"/>
                    </a:lnTo>
                    <a:lnTo>
                      <a:pt x="463" y="119"/>
                    </a:lnTo>
                    <a:lnTo>
                      <a:pt x="450" y="145"/>
                    </a:lnTo>
                    <a:lnTo>
                      <a:pt x="438" y="175"/>
                    </a:lnTo>
                    <a:lnTo>
                      <a:pt x="433" y="191"/>
                    </a:lnTo>
                    <a:lnTo>
                      <a:pt x="429" y="205"/>
                    </a:lnTo>
                    <a:lnTo>
                      <a:pt x="426" y="221"/>
                    </a:lnTo>
                    <a:lnTo>
                      <a:pt x="425" y="237"/>
                    </a:lnTo>
                    <a:lnTo>
                      <a:pt x="425" y="253"/>
                    </a:lnTo>
                    <a:lnTo>
                      <a:pt x="427" y="268"/>
                    </a:lnTo>
                    <a:lnTo>
                      <a:pt x="428" y="276"/>
                    </a:lnTo>
                    <a:lnTo>
                      <a:pt x="432" y="283"/>
                    </a:lnTo>
                    <a:lnTo>
                      <a:pt x="434" y="291"/>
                    </a:lnTo>
                    <a:lnTo>
                      <a:pt x="437" y="298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462480" y="398016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5">
                    <a:moveTo>
                      <a:pt x="25" y="12"/>
                    </a:moveTo>
                    <a:lnTo>
                      <a:pt x="13" y="24"/>
                    </a:lnTo>
                    <a:lnTo>
                      <a:pt x="27" y="25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8" y="32"/>
                    </a:lnTo>
                    <a:lnTo>
                      <a:pt x="80" y="35"/>
                    </a:lnTo>
                    <a:lnTo>
                      <a:pt x="93" y="41"/>
                    </a:lnTo>
                    <a:lnTo>
                      <a:pt x="105" y="45"/>
                    </a:lnTo>
                    <a:lnTo>
                      <a:pt x="117" y="52"/>
                    </a:lnTo>
                    <a:lnTo>
                      <a:pt x="129" y="59"/>
                    </a:lnTo>
                    <a:lnTo>
                      <a:pt x="140" y="67"/>
                    </a:lnTo>
                    <a:lnTo>
                      <a:pt x="152" y="75"/>
                    </a:lnTo>
                    <a:lnTo>
                      <a:pt x="162" y="83"/>
                    </a:lnTo>
                    <a:lnTo>
                      <a:pt x="184" y="102"/>
                    </a:lnTo>
                    <a:lnTo>
                      <a:pt x="203" y="124"/>
                    </a:lnTo>
                    <a:lnTo>
                      <a:pt x="223" y="146"/>
                    </a:lnTo>
                    <a:lnTo>
                      <a:pt x="241" y="170"/>
                    </a:lnTo>
                    <a:lnTo>
                      <a:pt x="257" y="193"/>
                    </a:lnTo>
                    <a:lnTo>
                      <a:pt x="273" y="219"/>
                    </a:lnTo>
                    <a:lnTo>
                      <a:pt x="288" y="244"/>
                    </a:lnTo>
                    <a:lnTo>
                      <a:pt x="300" y="268"/>
                    </a:lnTo>
                    <a:lnTo>
                      <a:pt x="313" y="292"/>
                    </a:lnTo>
                    <a:lnTo>
                      <a:pt x="324" y="315"/>
                    </a:lnTo>
                    <a:lnTo>
                      <a:pt x="346" y="305"/>
                    </a:lnTo>
                    <a:lnTo>
                      <a:pt x="334" y="281"/>
                    </a:lnTo>
                    <a:lnTo>
                      <a:pt x="322" y="256"/>
                    </a:lnTo>
                    <a:lnTo>
                      <a:pt x="308" y="231"/>
                    </a:lnTo>
                    <a:lnTo>
                      <a:pt x="293" y="206"/>
                    </a:lnTo>
                    <a:lnTo>
                      <a:pt x="277" y="181"/>
                    </a:lnTo>
                    <a:lnTo>
                      <a:pt x="260" y="156"/>
                    </a:lnTo>
                    <a:lnTo>
                      <a:pt x="242" y="131"/>
                    </a:lnTo>
                    <a:lnTo>
                      <a:pt x="221" y="108"/>
                    </a:lnTo>
                    <a:lnTo>
                      <a:pt x="201" y="85"/>
                    </a:lnTo>
                    <a:lnTo>
                      <a:pt x="178" y="65"/>
                    </a:lnTo>
                    <a:lnTo>
                      <a:pt x="167" y="56"/>
                    </a:lnTo>
                    <a:lnTo>
                      <a:pt x="154" y="46"/>
                    </a:lnTo>
                    <a:lnTo>
                      <a:pt x="142" y="38"/>
                    </a:lnTo>
                    <a:lnTo>
                      <a:pt x="129" y="30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4" y="2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4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62480" y="398340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6" h="337">
                    <a:moveTo>
                      <a:pt x="136" y="315"/>
                    </a:moveTo>
                    <a:lnTo>
                      <a:pt x="136" y="315"/>
                    </a:lnTo>
                    <a:lnTo>
                      <a:pt x="125" y="309"/>
                    </a:lnTo>
                    <a:lnTo>
                      <a:pt x="113" y="303"/>
                    </a:lnTo>
                    <a:lnTo>
                      <a:pt x="104" y="297"/>
                    </a:lnTo>
                    <a:lnTo>
                      <a:pt x="95" y="290"/>
                    </a:lnTo>
                    <a:lnTo>
                      <a:pt x="87" y="283"/>
                    </a:lnTo>
                    <a:lnTo>
                      <a:pt x="79" y="275"/>
                    </a:lnTo>
                    <a:lnTo>
                      <a:pt x="72" y="267"/>
                    </a:lnTo>
                    <a:lnTo>
                      <a:pt x="65" y="259"/>
                    </a:lnTo>
                    <a:lnTo>
                      <a:pt x="60" y="250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6" y="224"/>
                    </a:lnTo>
                    <a:lnTo>
                      <a:pt x="39" y="203"/>
                    </a:lnTo>
                    <a:lnTo>
                      <a:pt x="33" y="183"/>
                    </a:lnTo>
                    <a:lnTo>
                      <a:pt x="30" y="161"/>
                    </a:lnTo>
                    <a:lnTo>
                      <a:pt x="27" y="138"/>
                    </a:lnTo>
                    <a:lnTo>
                      <a:pt x="25" y="115"/>
                    </a:lnTo>
                    <a:lnTo>
                      <a:pt x="24" y="93"/>
                    </a:lnTo>
                    <a:lnTo>
                      <a:pt x="24" y="46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93"/>
                    </a:lnTo>
                    <a:lnTo>
                      <a:pt x="1" y="116"/>
                    </a:lnTo>
                    <a:lnTo>
                      <a:pt x="3" y="140"/>
                    </a:lnTo>
                    <a:lnTo>
                      <a:pt x="6" y="164"/>
                    </a:lnTo>
                    <a:lnTo>
                      <a:pt x="9" y="187"/>
                    </a:lnTo>
                    <a:lnTo>
                      <a:pt x="15" y="210"/>
                    </a:lnTo>
                    <a:lnTo>
                      <a:pt x="23" y="232"/>
                    </a:lnTo>
                    <a:lnTo>
                      <a:pt x="28" y="243"/>
                    </a:lnTo>
                    <a:lnTo>
                      <a:pt x="33" y="253"/>
                    </a:lnTo>
                    <a:lnTo>
                      <a:pt x="39" y="264"/>
                    </a:lnTo>
                    <a:lnTo>
                      <a:pt x="46" y="273"/>
                    </a:lnTo>
                    <a:lnTo>
                      <a:pt x="53" y="283"/>
                    </a:lnTo>
                    <a:lnTo>
                      <a:pt x="61" y="292"/>
                    </a:lnTo>
                    <a:lnTo>
                      <a:pt x="70" y="300"/>
                    </a:lnTo>
                    <a:lnTo>
                      <a:pt x="79" y="308"/>
                    </a:lnTo>
                    <a:lnTo>
                      <a:pt x="89" y="316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6" y="337"/>
                    </a:lnTo>
                    <a:lnTo>
                      <a:pt x="125" y="337"/>
                    </a:lnTo>
                    <a:lnTo>
                      <a:pt x="136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440160" y="408348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3" h="107">
                    <a:moveTo>
                      <a:pt x="18" y="107"/>
                    </a:moveTo>
                    <a:lnTo>
                      <a:pt x="18" y="107"/>
                    </a:lnTo>
                    <a:lnTo>
                      <a:pt x="24" y="101"/>
                    </a:lnTo>
                    <a:lnTo>
                      <a:pt x="31" y="96"/>
                    </a:lnTo>
                    <a:lnTo>
                      <a:pt x="39" y="91"/>
                    </a:lnTo>
                    <a:lnTo>
                      <a:pt x="47" y="86"/>
                    </a:lnTo>
                    <a:lnTo>
                      <a:pt x="64" y="77"/>
                    </a:lnTo>
                    <a:lnTo>
                      <a:pt x="82" y="71"/>
                    </a:lnTo>
                    <a:lnTo>
                      <a:pt x="101" y="64"/>
                    </a:lnTo>
                    <a:lnTo>
                      <a:pt x="119" y="59"/>
                    </a:lnTo>
                    <a:lnTo>
                      <a:pt x="139" y="55"/>
                    </a:lnTo>
                    <a:lnTo>
                      <a:pt x="156" y="50"/>
                    </a:lnTo>
                    <a:lnTo>
                      <a:pt x="187" y="44"/>
                    </a:lnTo>
                    <a:lnTo>
                      <a:pt x="208" y="39"/>
                    </a:lnTo>
                    <a:lnTo>
                      <a:pt x="214" y="35"/>
                    </a:lnTo>
                    <a:lnTo>
                      <a:pt x="219" y="32"/>
                    </a:lnTo>
                    <a:lnTo>
                      <a:pt x="222" y="26"/>
                    </a:lnTo>
                    <a:lnTo>
                      <a:pt x="223" y="17"/>
                    </a:lnTo>
                    <a:lnTo>
                      <a:pt x="220" y="10"/>
                    </a:lnTo>
                    <a:lnTo>
                      <a:pt x="215" y="7"/>
                    </a:lnTo>
                    <a:lnTo>
                      <a:pt x="211" y="3"/>
                    </a:lnTo>
                    <a:lnTo>
                      <a:pt x="205" y="0"/>
                    </a:lnTo>
                    <a:lnTo>
                      <a:pt x="194" y="22"/>
                    </a:lnTo>
                    <a:lnTo>
                      <a:pt x="198" y="24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181" y="20"/>
                    </a:lnTo>
                    <a:lnTo>
                      <a:pt x="151" y="27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53" y="56"/>
                    </a:lnTo>
                    <a:lnTo>
                      <a:pt x="35" y="65"/>
                    </a:lnTo>
                    <a:lnTo>
                      <a:pt x="25" y="71"/>
                    </a:lnTo>
                    <a:lnTo>
                      <a:pt x="17" y="76"/>
                    </a:lnTo>
                    <a:lnTo>
                      <a:pt x="8" y="83"/>
                    </a:lnTo>
                    <a:lnTo>
                      <a:pt x="1" y="90"/>
                    </a:lnTo>
                    <a:lnTo>
                      <a:pt x="0" y="91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425760" y="41133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5" h="197">
                    <a:moveTo>
                      <a:pt x="13" y="172"/>
                    </a:moveTo>
                    <a:lnTo>
                      <a:pt x="25" y="185"/>
                    </a:lnTo>
                    <a:lnTo>
                      <a:pt x="25" y="162"/>
                    </a:lnTo>
                    <a:lnTo>
                      <a:pt x="25" y="139"/>
                    </a:lnTo>
                    <a:lnTo>
                      <a:pt x="27" y="116"/>
                    </a:lnTo>
                    <a:lnTo>
                      <a:pt x="30" y="94"/>
                    </a:lnTo>
                    <a:lnTo>
                      <a:pt x="32" y="82"/>
                    </a:lnTo>
                    <a:lnTo>
                      <a:pt x="35" y="72"/>
                    </a:lnTo>
                    <a:lnTo>
                      <a:pt x="38" y="62"/>
                    </a:lnTo>
                    <a:lnTo>
                      <a:pt x="42" y="51"/>
                    </a:lnTo>
                    <a:lnTo>
                      <a:pt x="47" y="42"/>
                    </a:lnTo>
                    <a:lnTo>
                      <a:pt x="51" y="33"/>
                    </a:lnTo>
                    <a:lnTo>
                      <a:pt x="58" y="24"/>
                    </a:lnTo>
                    <a:lnTo>
                      <a:pt x="65" y="16"/>
                    </a:lnTo>
                    <a:lnTo>
                      <a:pt x="47" y="0"/>
                    </a:lnTo>
                    <a:lnTo>
                      <a:pt x="39" y="9"/>
                    </a:lnTo>
                    <a:lnTo>
                      <a:pt x="32" y="19"/>
                    </a:lnTo>
                    <a:lnTo>
                      <a:pt x="25" y="31"/>
                    </a:lnTo>
                    <a:lnTo>
                      <a:pt x="19" y="41"/>
                    </a:lnTo>
                    <a:lnTo>
                      <a:pt x="15" y="54"/>
                    </a:lnTo>
                    <a:lnTo>
                      <a:pt x="11" y="65"/>
                    </a:lnTo>
                    <a:lnTo>
                      <a:pt x="8" y="76"/>
                    </a:lnTo>
                    <a:lnTo>
                      <a:pt x="6" y="89"/>
                    </a:lnTo>
                    <a:lnTo>
                      <a:pt x="3" y="114"/>
                    </a:lnTo>
                    <a:lnTo>
                      <a:pt x="1" y="138"/>
                    </a:lnTo>
                    <a:lnTo>
                      <a:pt x="0" y="162"/>
                    </a:lnTo>
                    <a:lnTo>
                      <a:pt x="0" y="185"/>
                    </a:lnTo>
                    <a:lnTo>
                      <a:pt x="13" y="197"/>
                    </a:lnTo>
                    <a:lnTo>
                      <a:pt x="0" y="185"/>
                    </a:lnTo>
                    <a:lnTo>
                      <a:pt x="1" y="190"/>
                    </a:lnTo>
                    <a:lnTo>
                      <a:pt x="5" y="194"/>
                    </a:lnTo>
                    <a:lnTo>
                      <a:pt x="8" y="196"/>
                    </a:lnTo>
                    <a:lnTo>
                      <a:pt x="13" y="197"/>
                    </a:lnTo>
                    <a:lnTo>
                      <a:pt x="17" y="196"/>
                    </a:lnTo>
                    <a:lnTo>
                      <a:pt x="21" y="194"/>
                    </a:lnTo>
                    <a:lnTo>
                      <a:pt x="24" y="190"/>
                    </a:lnTo>
                    <a:lnTo>
                      <a:pt x="25" y="185"/>
                    </a:lnTo>
                    <a:lnTo>
                      <a:pt x="13" y="1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429000" y="41263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1"/>
                    </a:moveTo>
                    <a:lnTo>
                      <a:pt x="338" y="7"/>
                    </a:lnTo>
                    <a:lnTo>
                      <a:pt x="334" y="18"/>
                    </a:lnTo>
                    <a:lnTo>
                      <a:pt x="327" y="29"/>
                    </a:lnTo>
                    <a:lnTo>
                      <a:pt x="321" y="39"/>
                    </a:lnTo>
                    <a:lnTo>
                      <a:pt x="314" y="48"/>
                    </a:lnTo>
                    <a:lnTo>
                      <a:pt x="306" y="56"/>
                    </a:lnTo>
                    <a:lnTo>
                      <a:pt x="299" y="64"/>
                    </a:lnTo>
                    <a:lnTo>
                      <a:pt x="290" y="72"/>
                    </a:lnTo>
                    <a:lnTo>
                      <a:pt x="282" y="79"/>
                    </a:lnTo>
                    <a:lnTo>
                      <a:pt x="273" y="84"/>
                    </a:lnTo>
                    <a:lnTo>
                      <a:pt x="264" y="90"/>
                    </a:lnTo>
                    <a:lnTo>
                      <a:pt x="254" y="96"/>
                    </a:lnTo>
                    <a:lnTo>
                      <a:pt x="243" y="100"/>
                    </a:lnTo>
                    <a:lnTo>
                      <a:pt x="222" y="108"/>
                    </a:lnTo>
                    <a:lnTo>
                      <a:pt x="199" y="115"/>
                    </a:lnTo>
                    <a:lnTo>
                      <a:pt x="176" y="121"/>
                    </a:lnTo>
                    <a:lnTo>
                      <a:pt x="151" y="124"/>
                    </a:lnTo>
                    <a:lnTo>
                      <a:pt x="126" y="128"/>
                    </a:lnTo>
                    <a:lnTo>
                      <a:pt x="101" y="130"/>
                    </a:lnTo>
                    <a:lnTo>
                      <a:pt x="50" y="131"/>
                    </a:lnTo>
                    <a:lnTo>
                      <a:pt x="0" y="131"/>
                    </a:lnTo>
                    <a:lnTo>
                      <a:pt x="0" y="156"/>
                    </a:lnTo>
                    <a:lnTo>
                      <a:pt x="51" y="155"/>
                    </a:lnTo>
                    <a:lnTo>
                      <a:pt x="102" y="154"/>
                    </a:lnTo>
                    <a:lnTo>
                      <a:pt x="128" y="152"/>
                    </a:lnTo>
                    <a:lnTo>
                      <a:pt x="155" y="148"/>
                    </a:lnTo>
                    <a:lnTo>
                      <a:pt x="181" y="145"/>
                    </a:lnTo>
                    <a:lnTo>
                      <a:pt x="206" y="139"/>
                    </a:lnTo>
                    <a:lnTo>
                      <a:pt x="230" y="131"/>
                    </a:lnTo>
                    <a:lnTo>
                      <a:pt x="253" y="123"/>
                    </a:lnTo>
                    <a:lnTo>
                      <a:pt x="264" y="118"/>
                    </a:lnTo>
                    <a:lnTo>
                      <a:pt x="275" y="112"/>
                    </a:lnTo>
                    <a:lnTo>
                      <a:pt x="286" y="105"/>
                    </a:lnTo>
                    <a:lnTo>
                      <a:pt x="296" y="98"/>
                    </a:lnTo>
                    <a:lnTo>
                      <a:pt x="306" y="90"/>
                    </a:lnTo>
                    <a:lnTo>
                      <a:pt x="315" y="82"/>
                    </a:lnTo>
                    <a:lnTo>
                      <a:pt x="324" y="73"/>
                    </a:lnTo>
                    <a:lnTo>
                      <a:pt x="332" y="63"/>
                    </a:lnTo>
                    <a:lnTo>
                      <a:pt x="340" y="53"/>
                    </a:lnTo>
                    <a:lnTo>
                      <a:pt x="348" y="41"/>
                    </a:lnTo>
                    <a:lnTo>
                      <a:pt x="354" y="30"/>
                    </a:lnTo>
                    <a:lnTo>
                      <a:pt x="361" y="17"/>
                    </a:lnTo>
                    <a:lnTo>
                      <a:pt x="344" y="23"/>
                    </a:lnTo>
                    <a:lnTo>
                      <a:pt x="361" y="17"/>
                    </a:lnTo>
                    <a:lnTo>
                      <a:pt x="362" y="11"/>
                    </a:lnTo>
                    <a:lnTo>
                      <a:pt x="361" y="7"/>
                    </a:lnTo>
                    <a:lnTo>
                      <a:pt x="357" y="4"/>
                    </a:lnTo>
                    <a:lnTo>
                      <a:pt x="354" y="1"/>
                    </a:lnTo>
                    <a:lnTo>
                      <a:pt x="349" y="0"/>
                    </a:lnTo>
                    <a:lnTo>
                      <a:pt x="345" y="0"/>
                    </a:lnTo>
                    <a:lnTo>
                      <a:pt x="341" y="2"/>
                    </a:lnTo>
                    <a:lnTo>
                      <a:pt x="338" y="7"/>
                    </a:lnTo>
                    <a:lnTo>
                      <a:pt x="35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538440" y="4107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8" h="200">
                    <a:moveTo>
                      <a:pt x="315" y="24"/>
                    </a:moveTo>
                    <a:lnTo>
                      <a:pt x="303" y="11"/>
                    </a:lnTo>
                    <a:lnTo>
                      <a:pt x="303" y="38"/>
                    </a:lnTo>
                    <a:lnTo>
                      <a:pt x="302" y="64"/>
                    </a:lnTo>
                    <a:lnTo>
                      <a:pt x="300" y="85"/>
                    </a:lnTo>
                    <a:lnTo>
                      <a:pt x="296" y="103"/>
                    </a:lnTo>
                    <a:lnTo>
                      <a:pt x="293" y="121"/>
                    </a:lnTo>
                    <a:lnTo>
                      <a:pt x="288" y="134"/>
                    </a:lnTo>
                    <a:lnTo>
                      <a:pt x="284" y="146"/>
                    </a:lnTo>
                    <a:lnTo>
                      <a:pt x="278" y="155"/>
                    </a:lnTo>
                    <a:lnTo>
                      <a:pt x="272" y="163"/>
                    </a:lnTo>
                    <a:lnTo>
                      <a:pt x="266" y="168"/>
                    </a:lnTo>
                    <a:lnTo>
                      <a:pt x="260" y="172"/>
                    </a:lnTo>
                    <a:lnTo>
                      <a:pt x="253" y="174"/>
                    </a:lnTo>
                    <a:lnTo>
                      <a:pt x="246" y="176"/>
                    </a:lnTo>
                    <a:lnTo>
                      <a:pt x="238" y="176"/>
                    </a:lnTo>
                    <a:lnTo>
                      <a:pt x="229" y="175"/>
                    </a:lnTo>
                    <a:lnTo>
                      <a:pt x="219" y="174"/>
                    </a:lnTo>
                    <a:lnTo>
                      <a:pt x="208" y="171"/>
                    </a:lnTo>
                    <a:lnTo>
                      <a:pt x="198" y="166"/>
                    </a:lnTo>
                    <a:lnTo>
                      <a:pt x="187" y="162"/>
                    </a:lnTo>
                    <a:lnTo>
                      <a:pt x="174" y="156"/>
                    </a:lnTo>
                    <a:lnTo>
                      <a:pt x="149" y="142"/>
                    </a:lnTo>
                    <a:lnTo>
                      <a:pt x="123" y="126"/>
                    </a:lnTo>
                    <a:lnTo>
                      <a:pt x="96" y="110"/>
                    </a:lnTo>
                    <a:lnTo>
                      <a:pt x="68" y="93"/>
                    </a:lnTo>
                    <a:lnTo>
                      <a:pt x="40" y="76"/>
                    </a:lnTo>
                    <a:lnTo>
                      <a:pt x="11" y="61"/>
                    </a:lnTo>
                    <a:lnTo>
                      <a:pt x="0" y="83"/>
                    </a:lnTo>
                    <a:lnTo>
                      <a:pt x="27" y="98"/>
                    </a:lnTo>
                    <a:lnTo>
                      <a:pt x="56" y="114"/>
                    </a:lnTo>
                    <a:lnTo>
                      <a:pt x="83" y="131"/>
                    </a:lnTo>
                    <a:lnTo>
                      <a:pt x="110" y="147"/>
                    </a:lnTo>
                    <a:lnTo>
                      <a:pt x="138" y="163"/>
                    </a:lnTo>
                    <a:lnTo>
                      <a:pt x="164" y="178"/>
                    </a:lnTo>
                    <a:lnTo>
                      <a:pt x="176" y="183"/>
                    </a:lnTo>
                    <a:lnTo>
                      <a:pt x="189" y="189"/>
                    </a:lnTo>
                    <a:lnTo>
                      <a:pt x="201" y="193"/>
                    </a:lnTo>
                    <a:lnTo>
                      <a:pt x="214" y="197"/>
                    </a:lnTo>
                    <a:lnTo>
                      <a:pt x="225" y="199"/>
                    </a:lnTo>
                    <a:lnTo>
                      <a:pt x="237" y="200"/>
                    </a:lnTo>
                    <a:lnTo>
                      <a:pt x="248" y="200"/>
                    </a:lnTo>
                    <a:lnTo>
                      <a:pt x="260" y="198"/>
                    </a:lnTo>
                    <a:lnTo>
                      <a:pt x="271" y="193"/>
                    </a:lnTo>
                    <a:lnTo>
                      <a:pt x="281" y="187"/>
                    </a:lnTo>
                    <a:lnTo>
                      <a:pt x="290" y="179"/>
                    </a:lnTo>
                    <a:lnTo>
                      <a:pt x="298" y="168"/>
                    </a:lnTo>
                    <a:lnTo>
                      <a:pt x="305" y="157"/>
                    </a:lnTo>
                    <a:lnTo>
                      <a:pt x="311" y="142"/>
                    </a:lnTo>
                    <a:lnTo>
                      <a:pt x="315" y="126"/>
                    </a:lnTo>
                    <a:lnTo>
                      <a:pt x="320" y="108"/>
                    </a:lnTo>
                    <a:lnTo>
                      <a:pt x="323" y="87"/>
                    </a:lnTo>
                    <a:lnTo>
                      <a:pt x="326" y="65"/>
                    </a:lnTo>
                    <a:lnTo>
                      <a:pt x="327" y="40"/>
                    </a:lnTo>
                    <a:lnTo>
                      <a:pt x="328" y="11"/>
                    </a:lnTo>
                    <a:lnTo>
                      <a:pt x="315" y="0"/>
                    </a:lnTo>
                    <a:lnTo>
                      <a:pt x="328" y="11"/>
                    </a:lnTo>
                    <a:lnTo>
                      <a:pt x="327" y="7"/>
                    </a:lnTo>
                    <a:lnTo>
                      <a:pt x="323" y="2"/>
                    </a:lnTo>
                    <a:lnTo>
                      <a:pt x="320" y="0"/>
                    </a:lnTo>
                    <a:lnTo>
                      <a:pt x="315" y="0"/>
                    </a:lnTo>
                    <a:lnTo>
                      <a:pt x="311" y="0"/>
                    </a:lnTo>
                    <a:lnTo>
                      <a:pt x="307" y="2"/>
                    </a:lnTo>
                    <a:lnTo>
                      <a:pt x="304" y="7"/>
                    </a:lnTo>
                    <a:lnTo>
                      <a:pt x="303" y="11"/>
                    </a:lnTo>
                    <a:lnTo>
                      <a:pt x="31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594240" y="410724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143" h="24">
                    <a:moveTo>
                      <a:pt x="1" y="7"/>
                    </a:moveTo>
                    <a:lnTo>
                      <a:pt x="12" y="24"/>
                    </a:lnTo>
                    <a:lnTo>
                      <a:pt x="143" y="24"/>
                    </a:lnTo>
                    <a:lnTo>
                      <a:pt x="143" y="0"/>
                    </a:lnTo>
                    <a:lnTo>
                      <a:pt x="12" y="0"/>
                    </a:lnTo>
                    <a:lnTo>
                      <a:pt x="1" y="7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594240" y="4003920"/>
                <a:ext cx="37800" cy="108000"/>
              </a:xfrm>
              <a:custGeom>
                <a:avLst/>
                <a:gdLst/>
                <a:ahLst/>
                <a:rect l="l" t="t" r="r" b="b"/>
                <a:pathLst>
                  <a:path w="123" h="340">
                    <a:moveTo>
                      <a:pt x="112" y="24"/>
                    </a:moveTo>
                    <a:lnTo>
                      <a:pt x="99" y="13"/>
                    </a:lnTo>
                    <a:lnTo>
                      <a:pt x="98" y="35"/>
                    </a:lnTo>
                    <a:lnTo>
                      <a:pt x="97" y="58"/>
                    </a:lnTo>
                    <a:lnTo>
                      <a:pt x="93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80" y="143"/>
                    </a:lnTo>
                    <a:lnTo>
                      <a:pt x="73" y="162"/>
                    </a:lnTo>
                    <a:lnTo>
                      <a:pt x="66" y="180"/>
                    </a:lnTo>
                    <a:lnTo>
                      <a:pt x="50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40"/>
                    </a:lnTo>
                    <a:lnTo>
                      <a:pt x="39" y="302"/>
                    </a:lnTo>
                    <a:lnTo>
                      <a:pt x="56" y="266"/>
                    </a:lnTo>
                    <a:lnTo>
                      <a:pt x="73" y="228"/>
                    </a:lnTo>
                    <a:lnTo>
                      <a:pt x="89" y="189"/>
                    </a:lnTo>
                    <a:lnTo>
                      <a:pt x="96" y="170"/>
                    </a:lnTo>
                    <a:lnTo>
                      <a:pt x="103" y="149"/>
                    </a:lnTo>
                    <a:lnTo>
                      <a:pt x="108" y="128"/>
                    </a:lnTo>
                    <a:lnTo>
                      <a:pt x="114" y="106"/>
                    </a:lnTo>
                    <a:lnTo>
                      <a:pt x="117" y="84"/>
                    </a:lnTo>
                    <a:lnTo>
                      <a:pt x="121" y="60"/>
                    </a:lnTo>
                    <a:lnTo>
                      <a:pt x="123" y="37"/>
                    </a:lnTo>
                    <a:lnTo>
                      <a:pt x="123" y="13"/>
                    </a:lnTo>
                    <a:lnTo>
                      <a:pt x="112" y="0"/>
                    </a:lnTo>
                    <a:lnTo>
                      <a:pt x="123" y="13"/>
                    </a:lnTo>
                    <a:lnTo>
                      <a:pt x="122" y="7"/>
                    </a:lnTo>
                    <a:lnTo>
                      <a:pt x="120" y="3"/>
                    </a:lnTo>
                    <a:lnTo>
                      <a:pt x="116" y="1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3" y="3"/>
                    </a:lnTo>
                    <a:lnTo>
                      <a:pt x="100" y="7"/>
                    </a:lnTo>
                    <a:lnTo>
                      <a:pt x="99" y="13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578400" y="40039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159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9" y="24"/>
                    </a:lnTo>
                    <a:lnTo>
                      <a:pt x="159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60760" y="4007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2" h="238">
                    <a:moveTo>
                      <a:pt x="15" y="231"/>
                    </a:moveTo>
                    <a:lnTo>
                      <a:pt x="37" y="220"/>
                    </a:lnTo>
                    <a:lnTo>
                      <a:pt x="33" y="213"/>
                    </a:lnTo>
                    <a:lnTo>
                      <a:pt x="30" y="208"/>
                    </a:lnTo>
                    <a:lnTo>
                      <a:pt x="29" y="201"/>
                    </a:lnTo>
                    <a:lnTo>
                      <a:pt x="26" y="194"/>
                    </a:lnTo>
                    <a:lnTo>
                      <a:pt x="24" y="180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3" y="122"/>
                    </a:lnTo>
                    <a:lnTo>
                      <a:pt x="38" y="107"/>
                    </a:lnTo>
                    <a:lnTo>
                      <a:pt x="49" y="79"/>
                    </a:lnTo>
                    <a:lnTo>
                      <a:pt x="62" y="51"/>
                    </a:lnTo>
                    <a:lnTo>
                      <a:pt x="73" y="29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8"/>
                    </a:lnTo>
                    <a:lnTo>
                      <a:pt x="40" y="41"/>
                    </a:lnTo>
                    <a:lnTo>
                      <a:pt x="28" y="68"/>
                    </a:lnTo>
                    <a:lnTo>
                      <a:pt x="15" y="98"/>
                    </a:lnTo>
                    <a:lnTo>
                      <a:pt x="9" y="115"/>
                    </a:lnTo>
                    <a:lnTo>
                      <a:pt x="5" y="131"/>
                    </a:lnTo>
                    <a:lnTo>
                      <a:pt x="2" y="148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198"/>
                    </a:lnTo>
                    <a:lnTo>
                      <a:pt x="5" y="208"/>
                    </a:lnTo>
                    <a:lnTo>
                      <a:pt x="8" y="215"/>
                    </a:lnTo>
                    <a:lnTo>
                      <a:pt x="12" y="223"/>
                    </a:lnTo>
                    <a:lnTo>
                      <a:pt x="15" y="231"/>
                    </a:lnTo>
                    <a:lnTo>
                      <a:pt x="37" y="221"/>
                    </a:lnTo>
                    <a:lnTo>
                      <a:pt x="15" y="231"/>
                    </a:lnTo>
                    <a:lnTo>
                      <a:pt x="18" y="236"/>
                    </a:lnTo>
                    <a:lnTo>
                      <a:pt x="23" y="238"/>
                    </a:lnTo>
                    <a:lnTo>
                      <a:pt x="28" y="238"/>
                    </a:lnTo>
                    <a:lnTo>
                      <a:pt x="32" y="236"/>
                    </a:lnTo>
                    <a:lnTo>
                      <a:pt x="35" y="234"/>
                    </a:lnTo>
                    <a:lnTo>
                      <a:pt x="38" y="230"/>
                    </a:lnTo>
                    <a:lnTo>
                      <a:pt x="38" y="225"/>
                    </a:lnTo>
                    <a:lnTo>
                      <a:pt x="37" y="220"/>
                    </a:lnTo>
                    <a:lnTo>
                      <a:pt x="1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586400" y="404352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60" h="592">
                    <a:moveTo>
                      <a:pt x="440" y="299"/>
                    </a:moveTo>
                    <a:lnTo>
                      <a:pt x="428" y="275"/>
                    </a:lnTo>
                    <a:lnTo>
                      <a:pt x="415" y="251"/>
                    </a:lnTo>
                    <a:lnTo>
                      <a:pt x="402" y="226"/>
                    </a:lnTo>
                    <a:lnTo>
                      <a:pt x="387" y="201"/>
                    </a:lnTo>
                    <a:lnTo>
                      <a:pt x="371" y="176"/>
                    </a:lnTo>
                    <a:lnTo>
                      <a:pt x="354" y="151"/>
                    </a:lnTo>
                    <a:lnTo>
                      <a:pt x="335" y="127"/>
                    </a:lnTo>
                    <a:lnTo>
                      <a:pt x="316" y="104"/>
                    </a:lnTo>
                    <a:lnTo>
                      <a:pt x="296" y="82"/>
                    </a:lnTo>
                    <a:lnTo>
                      <a:pt x="274" y="63"/>
                    </a:lnTo>
                    <a:lnTo>
                      <a:pt x="263" y="54"/>
                    </a:lnTo>
                    <a:lnTo>
                      <a:pt x="251" y="46"/>
                    </a:lnTo>
                    <a:lnTo>
                      <a:pt x="239" y="38"/>
                    </a:lnTo>
                    <a:lnTo>
                      <a:pt x="226" y="30"/>
                    </a:lnTo>
                    <a:lnTo>
                      <a:pt x="214" y="24"/>
                    </a:lnTo>
                    <a:lnTo>
                      <a:pt x="201" y="17"/>
                    </a:lnTo>
                    <a:lnTo>
                      <a:pt x="187" y="13"/>
                    </a:lnTo>
                    <a:lnTo>
                      <a:pt x="174" y="8"/>
                    </a:lnTo>
                    <a:lnTo>
                      <a:pt x="160" y="5"/>
                    </a:lnTo>
                    <a:lnTo>
                      <a:pt x="145" y="3"/>
                    </a:lnTo>
                    <a:lnTo>
                      <a:pt x="131" y="1"/>
                    </a:lnTo>
                    <a:lnTo>
                      <a:pt x="116" y="0"/>
                    </a:lnTo>
                    <a:lnTo>
                      <a:pt x="116" y="47"/>
                    </a:lnTo>
                    <a:lnTo>
                      <a:pt x="116" y="94"/>
                    </a:lnTo>
                    <a:lnTo>
                      <a:pt x="117" y="117"/>
                    </a:lnTo>
                    <a:lnTo>
                      <a:pt x="118" y="141"/>
                    </a:lnTo>
                    <a:lnTo>
                      <a:pt x="121" y="163"/>
                    </a:lnTo>
                    <a:lnTo>
                      <a:pt x="125" y="186"/>
                    </a:lnTo>
                    <a:lnTo>
                      <a:pt x="130" y="208"/>
                    </a:lnTo>
                    <a:lnTo>
                      <a:pt x="138" y="228"/>
                    </a:lnTo>
                    <a:lnTo>
                      <a:pt x="143" y="239"/>
                    </a:lnTo>
                    <a:lnTo>
                      <a:pt x="147" y="248"/>
                    </a:lnTo>
                    <a:lnTo>
                      <a:pt x="153" y="258"/>
                    </a:lnTo>
                    <a:lnTo>
                      <a:pt x="159" y="267"/>
                    </a:lnTo>
                    <a:lnTo>
                      <a:pt x="166" y="276"/>
                    </a:lnTo>
                    <a:lnTo>
                      <a:pt x="174" y="284"/>
                    </a:lnTo>
                    <a:lnTo>
                      <a:pt x="182" y="292"/>
                    </a:lnTo>
                    <a:lnTo>
                      <a:pt x="191" y="300"/>
                    </a:lnTo>
                    <a:lnTo>
                      <a:pt x="200" y="307"/>
                    </a:lnTo>
                    <a:lnTo>
                      <a:pt x="210" y="314"/>
                    </a:lnTo>
                    <a:lnTo>
                      <a:pt x="222" y="321"/>
                    </a:lnTo>
                    <a:lnTo>
                      <a:pt x="234" y="326"/>
                    </a:lnTo>
                    <a:lnTo>
                      <a:pt x="239" y="329"/>
                    </a:lnTo>
                    <a:lnTo>
                      <a:pt x="242" y="332"/>
                    </a:lnTo>
                    <a:lnTo>
                      <a:pt x="244" y="333"/>
                    </a:lnTo>
                    <a:lnTo>
                      <a:pt x="245" y="335"/>
                    </a:lnTo>
                    <a:lnTo>
                      <a:pt x="245" y="338"/>
                    </a:lnTo>
                    <a:lnTo>
                      <a:pt x="244" y="339"/>
                    </a:lnTo>
                    <a:lnTo>
                      <a:pt x="242" y="341"/>
                    </a:lnTo>
                    <a:lnTo>
                      <a:pt x="239" y="342"/>
                    </a:lnTo>
                    <a:lnTo>
                      <a:pt x="218" y="348"/>
                    </a:lnTo>
                    <a:lnTo>
                      <a:pt x="188" y="355"/>
                    </a:lnTo>
                    <a:lnTo>
                      <a:pt x="170" y="358"/>
                    </a:lnTo>
                    <a:lnTo>
                      <a:pt x="151" y="363"/>
                    </a:lnTo>
                    <a:lnTo>
                      <a:pt x="131" y="369"/>
                    </a:lnTo>
                    <a:lnTo>
                      <a:pt x="112" y="374"/>
                    </a:lnTo>
                    <a:lnTo>
                      <a:pt x="93" y="382"/>
                    </a:lnTo>
                    <a:lnTo>
                      <a:pt x="75" y="391"/>
                    </a:lnTo>
                    <a:lnTo>
                      <a:pt x="67" y="397"/>
                    </a:lnTo>
                    <a:lnTo>
                      <a:pt x="59" y="403"/>
                    </a:lnTo>
                    <a:lnTo>
                      <a:pt x="51" y="408"/>
                    </a:lnTo>
                    <a:lnTo>
                      <a:pt x="44" y="415"/>
                    </a:lnTo>
                    <a:lnTo>
                      <a:pt x="36" y="423"/>
                    </a:lnTo>
                    <a:lnTo>
                      <a:pt x="29" y="432"/>
                    </a:lnTo>
                    <a:lnTo>
                      <a:pt x="23" y="443"/>
                    </a:lnTo>
                    <a:lnTo>
                      <a:pt x="19" y="453"/>
                    </a:lnTo>
                    <a:lnTo>
                      <a:pt x="14" y="464"/>
                    </a:lnTo>
                    <a:lnTo>
                      <a:pt x="11" y="475"/>
                    </a:lnTo>
                    <a:lnTo>
                      <a:pt x="7" y="486"/>
                    </a:lnTo>
                    <a:lnTo>
                      <a:pt x="5" y="498"/>
                    </a:lnTo>
                    <a:lnTo>
                      <a:pt x="3" y="521"/>
                    </a:lnTo>
                    <a:lnTo>
                      <a:pt x="0" y="545"/>
                    </a:lnTo>
                    <a:lnTo>
                      <a:pt x="0" y="569"/>
                    </a:lnTo>
                    <a:lnTo>
                      <a:pt x="0" y="592"/>
                    </a:lnTo>
                    <a:lnTo>
                      <a:pt x="51" y="591"/>
                    </a:lnTo>
                    <a:lnTo>
                      <a:pt x="102" y="590"/>
                    </a:lnTo>
                    <a:lnTo>
                      <a:pt x="128" y="587"/>
                    </a:lnTo>
                    <a:lnTo>
                      <a:pt x="153" y="585"/>
                    </a:lnTo>
                    <a:lnTo>
                      <a:pt x="178" y="581"/>
                    </a:lnTo>
                    <a:lnTo>
                      <a:pt x="203" y="575"/>
                    </a:lnTo>
                    <a:lnTo>
                      <a:pt x="226" y="568"/>
                    </a:lnTo>
                    <a:lnTo>
                      <a:pt x="249" y="559"/>
                    </a:lnTo>
                    <a:lnTo>
                      <a:pt x="259" y="554"/>
                    </a:lnTo>
                    <a:lnTo>
                      <a:pt x="269" y="549"/>
                    </a:lnTo>
                    <a:lnTo>
                      <a:pt x="280" y="543"/>
                    </a:lnTo>
                    <a:lnTo>
                      <a:pt x="290" y="536"/>
                    </a:lnTo>
                    <a:lnTo>
                      <a:pt x="299" y="529"/>
                    </a:lnTo>
                    <a:lnTo>
                      <a:pt x="308" y="521"/>
                    </a:lnTo>
                    <a:lnTo>
                      <a:pt x="316" y="512"/>
                    </a:lnTo>
                    <a:lnTo>
                      <a:pt x="324" y="503"/>
                    </a:lnTo>
                    <a:lnTo>
                      <a:pt x="331" y="494"/>
                    </a:lnTo>
                    <a:lnTo>
                      <a:pt x="338" y="483"/>
                    </a:lnTo>
                    <a:lnTo>
                      <a:pt x="345" y="472"/>
                    </a:lnTo>
                    <a:lnTo>
                      <a:pt x="350" y="460"/>
                    </a:lnTo>
                    <a:lnTo>
                      <a:pt x="378" y="475"/>
                    </a:lnTo>
                    <a:lnTo>
                      <a:pt x="406" y="491"/>
                    </a:lnTo>
                    <a:lnTo>
                      <a:pt x="434" y="508"/>
                    </a:lnTo>
                    <a:lnTo>
                      <a:pt x="461" y="525"/>
                    </a:lnTo>
                    <a:lnTo>
                      <a:pt x="488" y="541"/>
                    </a:lnTo>
                    <a:lnTo>
                      <a:pt x="513" y="554"/>
                    </a:lnTo>
                    <a:lnTo>
                      <a:pt x="526" y="560"/>
                    </a:lnTo>
                    <a:lnTo>
                      <a:pt x="538" y="566"/>
                    </a:lnTo>
                    <a:lnTo>
                      <a:pt x="550" y="570"/>
                    </a:lnTo>
                    <a:lnTo>
                      <a:pt x="561" y="573"/>
                    </a:lnTo>
                    <a:lnTo>
                      <a:pt x="571" y="575"/>
                    </a:lnTo>
                    <a:lnTo>
                      <a:pt x="582" y="576"/>
                    </a:lnTo>
                    <a:lnTo>
                      <a:pt x="592" y="576"/>
                    </a:lnTo>
                    <a:lnTo>
                      <a:pt x="601" y="574"/>
                    </a:lnTo>
                    <a:lnTo>
                      <a:pt x="610" y="570"/>
                    </a:lnTo>
                    <a:lnTo>
                      <a:pt x="618" y="566"/>
                    </a:lnTo>
                    <a:lnTo>
                      <a:pt x="625" y="559"/>
                    </a:lnTo>
                    <a:lnTo>
                      <a:pt x="632" y="550"/>
                    </a:lnTo>
                    <a:lnTo>
                      <a:pt x="639" y="540"/>
                    </a:lnTo>
                    <a:lnTo>
                      <a:pt x="644" y="526"/>
                    </a:lnTo>
                    <a:lnTo>
                      <a:pt x="649" y="511"/>
                    </a:lnTo>
                    <a:lnTo>
                      <a:pt x="652" y="494"/>
                    </a:lnTo>
                    <a:lnTo>
                      <a:pt x="656" y="475"/>
                    </a:lnTo>
                    <a:lnTo>
                      <a:pt x="658" y="452"/>
                    </a:lnTo>
                    <a:lnTo>
                      <a:pt x="659" y="427"/>
                    </a:lnTo>
                    <a:lnTo>
                      <a:pt x="660" y="399"/>
                    </a:lnTo>
                    <a:lnTo>
                      <a:pt x="528" y="399"/>
                    </a:lnTo>
                    <a:lnTo>
                      <a:pt x="545" y="362"/>
                    </a:lnTo>
                    <a:lnTo>
                      <a:pt x="562" y="325"/>
                    </a:lnTo>
                    <a:lnTo>
                      <a:pt x="579" y="288"/>
                    </a:lnTo>
                    <a:lnTo>
                      <a:pt x="594" y="250"/>
                    </a:lnTo>
                    <a:lnTo>
                      <a:pt x="602" y="231"/>
                    </a:lnTo>
                    <a:lnTo>
                      <a:pt x="608" y="210"/>
                    </a:lnTo>
                    <a:lnTo>
                      <a:pt x="614" y="190"/>
                    </a:lnTo>
                    <a:lnTo>
                      <a:pt x="619" y="169"/>
                    </a:lnTo>
                    <a:lnTo>
                      <a:pt x="623" y="147"/>
                    </a:lnTo>
                    <a:lnTo>
                      <a:pt x="626" y="125"/>
                    </a:lnTo>
                    <a:lnTo>
                      <a:pt x="628" y="102"/>
                    </a:lnTo>
                    <a:lnTo>
                      <a:pt x="628" y="77"/>
                    </a:lnTo>
                    <a:lnTo>
                      <a:pt x="484" y="77"/>
                    </a:lnTo>
                    <a:lnTo>
                      <a:pt x="475" y="96"/>
                    </a:lnTo>
                    <a:lnTo>
                      <a:pt x="463" y="119"/>
                    </a:lnTo>
                    <a:lnTo>
                      <a:pt x="451" y="146"/>
                    </a:lnTo>
                    <a:lnTo>
                      <a:pt x="439" y="176"/>
                    </a:lnTo>
                    <a:lnTo>
                      <a:pt x="434" y="191"/>
                    </a:lnTo>
                    <a:lnTo>
                      <a:pt x="430" y="207"/>
                    </a:lnTo>
                    <a:lnTo>
                      <a:pt x="427" y="223"/>
                    </a:lnTo>
                    <a:lnTo>
                      <a:pt x="426" y="239"/>
                    </a:lnTo>
                    <a:lnTo>
                      <a:pt x="426" y="253"/>
                    </a:lnTo>
                    <a:lnTo>
                      <a:pt x="428" y="269"/>
                    </a:lnTo>
                    <a:lnTo>
                      <a:pt x="430" y="276"/>
                    </a:lnTo>
                    <a:lnTo>
                      <a:pt x="432" y="284"/>
                    </a:lnTo>
                    <a:lnTo>
                      <a:pt x="436" y="291"/>
                    </a:lnTo>
                    <a:lnTo>
                      <a:pt x="440" y="299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619520" y="4040280"/>
                <a:ext cx="111240" cy="100080"/>
              </a:xfrm>
              <a:custGeom>
                <a:avLst/>
                <a:gdLst/>
                <a:ahLst/>
                <a:rect l="l" t="t" r="r" b="b"/>
                <a:pathLst>
                  <a:path w="347" h="315">
                    <a:moveTo>
                      <a:pt x="24" y="11"/>
                    </a:moveTo>
                    <a:lnTo>
                      <a:pt x="12" y="24"/>
                    </a:lnTo>
                    <a:lnTo>
                      <a:pt x="26" y="24"/>
                    </a:lnTo>
                    <a:lnTo>
                      <a:pt x="40" y="26"/>
                    </a:lnTo>
                    <a:lnTo>
                      <a:pt x="54" y="28"/>
                    </a:lnTo>
                    <a:lnTo>
                      <a:pt x="66" y="32"/>
                    </a:lnTo>
                    <a:lnTo>
                      <a:pt x="80" y="35"/>
                    </a:lnTo>
                    <a:lnTo>
                      <a:pt x="92" y="40"/>
                    </a:lnTo>
                    <a:lnTo>
                      <a:pt x="105" y="46"/>
                    </a:lnTo>
                    <a:lnTo>
                      <a:pt x="116" y="52"/>
                    </a:lnTo>
                    <a:lnTo>
                      <a:pt x="128" y="59"/>
                    </a:lnTo>
                    <a:lnTo>
                      <a:pt x="140" y="66"/>
                    </a:lnTo>
                    <a:lnTo>
                      <a:pt x="151" y="75"/>
                    </a:lnTo>
                    <a:lnTo>
                      <a:pt x="162" y="83"/>
                    </a:lnTo>
                    <a:lnTo>
                      <a:pt x="184" y="103"/>
                    </a:lnTo>
                    <a:lnTo>
                      <a:pt x="203" y="123"/>
                    </a:lnTo>
                    <a:lnTo>
                      <a:pt x="222" y="146"/>
                    </a:lnTo>
                    <a:lnTo>
                      <a:pt x="241" y="170"/>
                    </a:lnTo>
                    <a:lnTo>
                      <a:pt x="257" y="194"/>
                    </a:lnTo>
                    <a:lnTo>
                      <a:pt x="273" y="219"/>
                    </a:lnTo>
                    <a:lnTo>
                      <a:pt x="287" y="243"/>
                    </a:lnTo>
                    <a:lnTo>
                      <a:pt x="301" y="268"/>
                    </a:lnTo>
                    <a:lnTo>
                      <a:pt x="314" y="292"/>
                    </a:lnTo>
                    <a:lnTo>
                      <a:pt x="325" y="315"/>
                    </a:lnTo>
                    <a:lnTo>
                      <a:pt x="347" y="304"/>
                    </a:lnTo>
                    <a:lnTo>
                      <a:pt x="335" y="281"/>
                    </a:lnTo>
                    <a:lnTo>
                      <a:pt x="323" y="256"/>
                    </a:lnTo>
                    <a:lnTo>
                      <a:pt x="309" y="231"/>
                    </a:lnTo>
                    <a:lnTo>
                      <a:pt x="293" y="206"/>
                    </a:lnTo>
                    <a:lnTo>
                      <a:pt x="277" y="180"/>
                    </a:lnTo>
                    <a:lnTo>
                      <a:pt x="260" y="155"/>
                    </a:lnTo>
                    <a:lnTo>
                      <a:pt x="242" y="131"/>
                    </a:lnTo>
                    <a:lnTo>
                      <a:pt x="221" y="107"/>
                    </a:lnTo>
                    <a:lnTo>
                      <a:pt x="200" y="85"/>
                    </a:lnTo>
                    <a:lnTo>
                      <a:pt x="178" y="65"/>
                    </a:lnTo>
                    <a:lnTo>
                      <a:pt x="165" y="56"/>
                    </a:lnTo>
                    <a:lnTo>
                      <a:pt x="154" y="47"/>
                    </a:lnTo>
                    <a:lnTo>
                      <a:pt x="141" y="39"/>
                    </a:lnTo>
                    <a:lnTo>
                      <a:pt x="128" y="31"/>
                    </a:lnTo>
                    <a:lnTo>
                      <a:pt x="115" y="24"/>
                    </a:lnTo>
                    <a:lnTo>
                      <a:pt x="102" y="18"/>
                    </a:lnTo>
                    <a:lnTo>
                      <a:pt x="88" y="12"/>
                    </a:lnTo>
                    <a:lnTo>
                      <a:pt x="73" y="8"/>
                    </a:lnTo>
                    <a:lnTo>
                      <a:pt x="58" y="4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619520" y="4043520"/>
                <a:ext cx="42840" cy="108000"/>
              </a:xfrm>
              <a:custGeom>
                <a:avLst/>
                <a:gdLst/>
                <a:ahLst/>
                <a:rect l="l" t="t" r="r" b="b"/>
                <a:pathLst>
                  <a:path w="137" h="338">
                    <a:moveTo>
                      <a:pt x="137" y="316"/>
                    </a:moveTo>
                    <a:lnTo>
                      <a:pt x="136" y="315"/>
                    </a:lnTo>
                    <a:lnTo>
                      <a:pt x="124" y="310"/>
                    </a:lnTo>
                    <a:lnTo>
                      <a:pt x="114" y="304"/>
                    </a:lnTo>
                    <a:lnTo>
                      <a:pt x="104" y="298"/>
                    </a:lnTo>
                    <a:lnTo>
                      <a:pt x="95" y="291"/>
                    </a:lnTo>
                    <a:lnTo>
                      <a:pt x="87" y="283"/>
                    </a:lnTo>
                    <a:lnTo>
                      <a:pt x="80" y="276"/>
                    </a:lnTo>
                    <a:lnTo>
                      <a:pt x="72" y="268"/>
                    </a:lnTo>
                    <a:lnTo>
                      <a:pt x="66" y="260"/>
                    </a:lnTo>
                    <a:lnTo>
                      <a:pt x="60" y="251"/>
                    </a:lnTo>
                    <a:lnTo>
                      <a:pt x="55" y="242"/>
                    </a:lnTo>
                    <a:lnTo>
                      <a:pt x="50" y="233"/>
                    </a:lnTo>
                    <a:lnTo>
                      <a:pt x="47" y="224"/>
                    </a:lnTo>
                    <a:lnTo>
                      <a:pt x="39" y="204"/>
                    </a:lnTo>
                    <a:lnTo>
                      <a:pt x="34" y="183"/>
                    </a:lnTo>
                    <a:lnTo>
                      <a:pt x="30" y="161"/>
                    </a:lnTo>
                    <a:lnTo>
                      <a:pt x="27" y="139"/>
                    </a:lnTo>
                    <a:lnTo>
                      <a:pt x="25" y="117"/>
                    </a:lnTo>
                    <a:lnTo>
                      <a:pt x="25" y="94"/>
                    </a:lnTo>
                    <a:lnTo>
                      <a:pt x="25" y="47"/>
                    </a:lnTo>
                    <a:lnTo>
                      <a:pt x="25" y="0"/>
                    </a:lnTo>
                    <a:lnTo>
                      <a:pt x="1" y="0"/>
                    </a:lnTo>
                    <a:lnTo>
                      <a:pt x="0" y="47"/>
                    </a:lnTo>
                    <a:lnTo>
                      <a:pt x="1" y="94"/>
                    </a:lnTo>
                    <a:lnTo>
                      <a:pt x="1" y="118"/>
                    </a:lnTo>
                    <a:lnTo>
                      <a:pt x="3" y="142"/>
                    </a:lnTo>
                    <a:lnTo>
                      <a:pt x="6" y="166"/>
                    </a:lnTo>
                    <a:lnTo>
                      <a:pt x="10" y="188"/>
                    </a:lnTo>
                    <a:lnTo>
                      <a:pt x="16" y="211"/>
                    </a:lnTo>
                    <a:lnTo>
                      <a:pt x="24" y="233"/>
                    </a:lnTo>
                    <a:lnTo>
                      <a:pt x="28" y="243"/>
                    </a:lnTo>
                    <a:lnTo>
                      <a:pt x="34" y="255"/>
                    </a:lnTo>
                    <a:lnTo>
                      <a:pt x="40" y="264"/>
                    </a:lnTo>
                    <a:lnTo>
                      <a:pt x="47" y="274"/>
                    </a:lnTo>
                    <a:lnTo>
                      <a:pt x="54" y="283"/>
                    </a:lnTo>
                    <a:lnTo>
                      <a:pt x="62" y="292"/>
                    </a:lnTo>
                    <a:lnTo>
                      <a:pt x="71" y="301"/>
                    </a:lnTo>
                    <a:lnTo>
                      <a:pt x="80" y="309"/>
                    </a:lnTo>
                    <a:lnTo>
                      <a:pt x="90" y="317"/>
                    </a:lnTo>
                    <a:lnTo>
                      <a:pt x="101" y="324"/>
                    </a:lnTo>
                    <a:lnTo>
                      <a:pt x="113" y="331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37" y="3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97560" y="4143600"/>
                <a:ext cx="71280" cy="3492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17" y="107"/>
                    </a:moveTo>
                    <a:lnTo>
                      <a:pt x="17" y="107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38" y="90"/>
                    </a:lnTo>
                    <a:lnTo>
                      <a:pt x="45" y="86"/>
                    </a:lnTo>
                    <a:lnTo>
                      <a:pt x="63" y="78"/>
                    </a:lnTo>
                    <a:lnTo>
                      <a:pt x="82" y="70"/>
                    </a:lnTo>
                    <a:lnTo>
                      <a:pt x="100" y="64"/>
                    </a:lnTo>
                    <a:lnTo>
                      <a:pt x="119" y="58"/>
                    </a:lnTo>
                    <a:lnTo>
                      <a:pt x="138" y="54"/>
                    </a:lnTo>
                    <a:lnTo>
                      <a:pt x="156" y="50"/>
                    </a:lnTo>
                    <a:lnTo>
                      <a:pt x="187" y="45"/>
                    </a:lnTo>
                    <a:lnTo>
                      <a:pt x="208" y="38"/>
                    </a:lnTo>
                    <a:lnTo>
                      <a:pt x="214" y="35"/>
                    </a:lnTo>
                    <a:lnTo>
                      <a:pt x="218" y="32"/>
                    </a:lnTo>
                    <a:lnTo>
                      <a:pt x="222" y="25"/>
                    </a:lnTo>
                    <a:lnTo>
                      <a:pt x="222" y="17"/>
                    </a:lnTo>
                    <a:lnTo>
                      <a:pt x="218" y="10"/>
                    </a:lnTo>
                    <a:lnTo>
                      <a:pt x="215" y="6"/>
                    </a:lnTo>
                    <a:lnTo>
                      <a:pt x="210" y="2"/>
                    </a:lnTo>
                    <a:lnTo>
                      <a:pt x="205" y="0"/>
                    </a:lnTo>
                    <a:lnTo>
                      <a:pt x="193" y="22"/>
                    </a:lnTo>
                    <a:lnTo>
                      <a:pt x="198" y="23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199" y="23"/>
                    </a:lnTo>
                    <a:lnTo>
                      <a:pt x="199" y="18"/>
                    </a:lnTo>
                    <a:lnTo>
                      <a:pt x="200" y="15"/>
                    </a:lnTo>
                    <a:lnTo>
                      <a:pt x="201" y="15"/>
                    </a:lnTo>
                    <a:lnTo>
                      <a:pt x="200" y="15"/>
                    </a:lnTo>
                    <a:lnTo>
                      <a:pt x="181" y="21"/>
                    </a:lnTo>
                    <a:lnTo>
                      <a:pt x="150" y="26"/>
                    </a:lnTo>
                    <a:lnTo>
                      <a:pt x="133" y="31"/>
                    </a:lnTo>
                    <a:lnTo>
                      <a:pt x="114" y="35"/>
                    </a:lnTo>
                    <a:lnTo>
                      <a:pt x="93" y="40"/>
                    </a:lnTo>
                    <a:lnTo>
                      <a:pt x="73" y="47"/>
                    </a:lnTo>
                    <a:lnTo>
                      <a:pt x="53" y="55"/>
                    </a:lnTo>
                    <a:lnTo>
                      <a:pt x="34" y="65"/>
                    </a:lnTo>
                    <a:lnTo>
                      <a:pt x="25" y="71"/>
                    </a:lnTo>
                    <a:lnTo>
                      <a:pt x="16" y="76"/>
                    </a:lnTo>
                    <a:lnTo>
                      <a:pt x="8" y="83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7" y="1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83160" y="4172040"/>
                <a:ext cx="20520" cy="637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2" y="173"/>
                    </a:moveTo>
                    <a:lnTo>
                      <a:pt x="24" y="186"/>
                    </a:lnTo>
                    <a:lnTo>
                      <a:pt x="24" y="163"/>
                    </a:lnTo>
                    <a:lnTo>
                      <a:pt x="25" y="140"/>
                    </a:lnTo>
                    <a:lnTo>
                      <a:pt x="26" y="116"/>
                    </a:lnTo>
                    <a:lnTo>
                      <a:pt x="30" y="94"/>
                    </a:lnTo>
                    <a:lnTo>
                      <a:pt x="32" y="83"/>
                    </a:lnTo>
                    <a:lnTo>
                      <a:pt x="34" y="72"/>
                    </a:lnTo>
                    <a:lnTo>
                      <a:pt x="37" y="62"/>
                    </a:lnTo>
                    <a:lnTo>
                      <a:pt x="41" y="51"/>
                    </a:lnTo>
                    <a:lnTo>
                      <a:pt x="45" y="42"/>
                    </a:lnTo>
                    <a:lnTo>
                      <a:pt x="51" y="33"/>
                    </a:lnTo>
                    <a:lnTo>
                      <a:pt x="57" y="25"/>
                    </a:lnTo>
                    <a:lnTo>
                      <a:pt x="64" y="17"/>
                    </a:lnTo>
                    <a:lnTo>
                      <a:pt x="47" y="0"/>
                    </a:lnTo>
                    <a:lnTo>
                      <a:pt x="39" y="10"/>
                    </a:lnTo>
                    <a:lnTo>
                      <a:pt x="31" y="21"/>
                    </a:lnTo>
                    <a:lnTo>
                      <a:pt x="25" y="31"/>
                    </a:lnTo>
                    <a:lnTo>
                      <a:pt x="19" y="42"/>
                    </a:lnTo>
                    <a:lnTo>
                      <a:pt x="15" y="54"/>
                    </a:lnTo>
                    <a:lnTo>
                      <a:pt x="11" y="66"/>
                    </a:lnTo>
                    <a:lnTo>
                      <a:pt x="8" y="78"/>
                    </a:lnTo>
                    <a:lnTo>
                      <a:pt x="6" y="90"/>
                    </a:lnTo>
                    <a:lnTo>
                      <a:pt x="2" y="114"/>
                    </a:lnTo>
                    <a:lnTo>
                      <a:pt x="1" y="139"/>
                    </a:lnTo>
                    <a:lnTo>
                      <a:pt x="0" y="163"/>
                    </a:lnTo>
                    <a:lnTo>
                      <a:pt x="0" y="186"/>
                    </a:lnTo>
                    <a:lnTo>
                      <a:pt x="12" y="197"/>
                    </a:lnTo>
                    <a:lnTo>
                      <a:pt x="0" y="186"/>
                    </a:lnTo>
                    <a:lnTo>
                      <a:pt x="1" y="191"/>
                    </a:lnTo>
                    <a:lnTo>
                      <a:pt x="3" y="195"/>
                    </a:lnTo>
                    <a:lnTo>
                      <a:pt x="8" y="197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20" y="195"/>
                    </a:lnTo>
                    <a:lnTo>
                      <a:pt x="23" y="191"/>
                    </a:lnTo>
                    <a:lnTo>
                      <a:pt x="24" y="186"/>
                    </a:lnTo>
                    <a:lnTo>
                      <a:pt x="12" y="1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586400" y="4185000"/>
                <a:ext cx="115920" cy="50760"/>
              </a:xfrm>
              <a:custGeom>
                <a:avLst/>
                <a:gdLst/>
                <a:ahLst/>
                <a:rect l="l" t="t" r="r" b="b"/>
                <a:pathLst>
                  <a:path w="362" h="156">
                    <a:moveTo>
                      <a:pt x="355" y="2"/>
                    </a:moveTo>
                    <a:lnTo>
                      <a:pt x="339" y="8"/>
                    </a:lnTo>
                    <a:lnTo>
                      <a:pt x="333" y="20"/>
                    </a:lnTo>
                    <a:lnTo>
                      <a:pt x="328" y="30"/>
                    </a:lnTo>
                    <a:lnTo>
                      <a:pt x="321" y="40"/>
                    </a:lnTo>
                    <a:lnTo>
                      <a:pt x="314" y="49"/>
                    </a:lnTo>
                    <a:lnTo>
                      <a:pt x="307" y="57"/>
                    </a:lnTo>
                    <a:lnTo>
                      <a:pt x="299" y="65"/>
                    </a:lnTo>
                    <a:lnTo>
                      <a:pt x="291" y="72"/>
                    </a:lnTo>
                    <a:lnTo>
                      <a:pt x="282" y="79"/>
                    </a:lnTo>
                    <a:lnTo>
                      <a:pt x="273" y="86"/>
                    </a:lnTo>
                    <a:lnTo>
                      <a:pt x="264" y="91"/>
                    </a:lnTo>
                    <a:lnTo>
                      <a:pt x="255" y="97"/>
                    </a:lnTo>
                    <a:lnTo>
                      <a:pt x="244" y="102"/>
                    </a:lnTo>
                    <a:lnTo>
                      <a:pt x="223" y="110"/>
                    </a:lnTo>
                    <a:lnTo>
                      <a:pt x="200" y="116"/>
                    </a:lnTo>
                    <a:lnTo>
                      <a:pt x="176" y="122"/>
                    </a:lnTo>
                    <a:lnTo>
                      <a:pt x="152" y="126"/>
                    </a:lnTo>
                    <a:lnTo>
                      <a:pt x="127" y="129"/>
                    </a:lnTo>
                    <a:lnTo>
                      <a:pt x="102" y="130"/>
                    </a:lnTo>
                    <a:lnTo>
                      <a:pt x="51" y="132"/>
                    </a:lnTo>
                    <a:lnTo>
                      <a:pt x="0" y="132"/>
                    </a:lnTo>
                    <a:lnTo>
                      <a:pt x="0" y="156"/>
                    </a:lnTo>
                    <a:lnTo>
                      <a:pt x="51" y="156"/>
                    </a:lnTo>
                    <a:lnTo>
                      <a:pt x="103" y="154"/>
                    </a:lnTo>
                    <a:lnTo>
                      <a:pt x="129" y="153"/>
                    </a:lnTo>
                    <a:lnTo>
                      <a:pt x="155" y="150"/>
                    </a:lnTo>
                    <a:lnTo>
                      <a:pt x="180" y="145"/>
                    </a:lnTo>
                    <a:lnTo>
                      <a:pt x="206" y="139"/>
                    </a:lnTo>
                    <a:lnTo>
                      <a:pt x="231" y="132"/>
                    </a:lnTo>
                    <a:lnTo>
                      <a:pt x="253" y="123"/>
                    </a:lnTo>
                    <a:lnTo>
                      <a:pt x="265" y="118"/>
                    </a:lnTo>
                    <a:lnTo>
                      <a:pt x="276" y="112"/>
                    </a:lnTo>
                    <a:lnTo>
                      <a:pt x="286" y="106"/>
                    </a:lnTo>
                    <a:lnTo>
                      <a:pt x="297" y="98"/>
                    </a:lnTo>
                    <a:lnTo>
                      <a:pt x="307" y="91"/>
                    </a:lnTo>
                    <a:lnTo>
                      <a:pt x="316" y="82"/>
                    </a:lnTo>
                    <a:lnTo>
                      <a:pt x="325" y="73"/>
                    </a:lnTo>
                    <a:lnTo>
                      <a:pt x="333" y="64"/>
                    </a:lnTo>
                    <a:lnTo>
                      <a:pt x="341" y="54"/>
                    </a:lnTo>
                    <a:lnTo>
                      <a:pt x="348" y="42"/>
                    </a:lnTo>
                    <a:lnTo>
                      <a:pt x="355" y="30"/>
                    </a:lnTo>
                    <a:lnTo>
                      <a:pt x="361" y="17"/>
                    </a:lnTo>
                    <a:lnTo>
                      <a:pt x="345" y="24"/>
                    </a:lnTo>
                    <a:lnTo>
                      <a:pt x="361" y="17"/>
                    </a:lnTo>
                    <a:lnTo>
                      <a:pt x="362" y="13"/>
                    </a:lnTo>
                    <a:lnTo>
                      <a:pt x="361" y="8"/>
                    </a:lnTo>
                    <a:lnTo>
                      <a:pt x="358" y="5"/>
                    </a:lnTo>
                    <a:lnTo>
                      <a:pt x="355" y="1"/>
                    </a:lnTo>
                    <a:lnTo>
                      <a:pt x="350" y="0"/>
                    </a:lnTo>
                    <a:lnTo>
                      <a:pt x="346" y="1"/>
                    </a:lnTo>
                    <a:lnTo>
                      <a:pt x="342" y="4"/>
                    </a:lnTo>
                    <a:lnTo>
                      <a:pt x="339" y="8"/>
                    </a:lnTo>
                    <a:lnTo>
                      <a:pt x="35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695840" y="41659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327" h="202">
                    <a:moveTo>
                      <a:pt x="315" y="25"/>
                    </a:moveTo>
                    <a:lnTo>
                      <a:pt x="303" y="12"/>
                    </a:lnTo>
                    <a:lnTo>
                      <a:pt x="303" y="40"/>
                    </a:lnTo>
                    <a:lnTo>
                      <a:pt x="300" y="64"/>
                    </a:lnTo>
                    <a:lnTo>
                      <a:pt x="298" y="85"/>
                    </a:lnTo>
                    <a:lnTo>
                      <a:pt x="296" y="105"/>
                    </a:lnTo>
                    <a:lnTo>
                      <a:pt x="293" y="121"/>
                    </a:lnTo>
                    <a:lnTo>
                      <a:pt x="288" y="135"/>
                    </a:lnTo>
                    <a:lnTo>
                      <a:pt x="282" y="147"/>
                    </a:lnTo>
                    <a:lnTo>
                      <a:pt x="278" y="156"/>
                    </a:lnTo>
                    <a:lnTo>
                      <a:pt x="272" y="163"/>
                    </a:lnTo>
                    <a:lnTo>
                      <a:pt x="265" y="168"/>
                    </a:lnTo>
                    <a:lnTo>
                      <a:pt x="259" y="173"/>
                    </a:lnTo>
                    <a:lnTo>
                      <a:pt x="253" y="175"/>
                    </a:lnTo>
                    <a:lnTo>
                      <a:pt x="246" y="176"/>
                    </a:lnTo>
                    <a:lnTo>
                      <a:pt x="237" y="178"/>
                    </a:lnTo>
                    <a:lnTo>
                      <a:pt x="229" y="176"/>
                    </a:lnTo>
                    <a:lnTo>
                      <a:pt x="218" y="174"/>
                    </a:lnTo>
                    <a:lnTo>
                      <a:pt x="208" y="172"/>
                    </a:lnTo>
                    <a:lnTo>
                      <a:pt x="197" y="167"/>
                    </a:lnTo>
                    <a:lnTo>
                      <a:pt x="185" y="163"/>
                    </a:lnTo>
                    <a:lnTo>
                      <a:pt x="174" y="157"/>
                    </a:lnTo>
                    <a:lnTo>
                      <a:pt x="149" y="143"/>
                    </a:lnTo>
                    <a:lnTo>
                      <a:pt x="123" y="127"/>
                    </a:lnTo>
                    <a:lnTo>
                      <a:pt x="95" y="110"/>
                    </a:lnTo>
                    <a:lnTo>
                      <a:pt x="67" y="93"/>
                    </a:lnTo>
                    <a:lnTo>
                      <a:pt x="38" y="77"/>
                    </a:lnTo>
                    <a:lnTo>
                      <a:pt x="10" y="62"/>
                    </a:lnTo>
                    <a:lnTo>
                      <a:pt x="0" y="84"/>
                    </a:lnTo>
                    <a:lnTo>
                      <a:pt x="27" y="98"/>
                    </a:lnTo>
                    <a:lnTo>
                      <a:pt x="54" y="114"/>
                    </a:lnTo>
                    <a:lnTo>
                      <a:pt x="83" y="131"/>
                    </a:lnTo>
                    <a:lnTo>
                      <a:pt x="110" y="148"/>
                    </a:lnTo>
                    <a:lnTo>
                      <a:pt x="136" y="164"/>
                    </a:lnTo>
                    <a:lnTo>
                      <a:pt x="163" y="178"/>
                    </a:lnTo>
                    <a:lnTo>
                      <a:pt x="176" y="184"/>
                    </a:lnTo>
                    <a:lnTo>
                      <a:pt x="189" y="190"/>
                    </a:lnTo>
                    <a:lnTo>
                      <a:pt x="200" y="195"/>
                    </a:lnTo>
                    <a:lnTo>
                      <a:pt x="213" y="198"/>
                    </a:lnTo>
                    <a:lnTo>
                      <a:pt x="225" y="200"/>
                    </a:lnTo>
                    <a:lnTo>
                      <a:pt x="237" y="202"/>
                    </a:lnTo>
                    <a:lnTo>
                      <a:pt x="248" y="200"/>
                    </a:lnTo>
                    <a:lnTo>
                      <a:pt x="259" y="198"/>
                    </a:lnTo>
                    <a:lnTo>
                      <a:pt x="270" y="195"/>
                    </a:lnTo>
                    <a:lnTo>
                      <a:pt x="280" y="188"/>
                    </a:lnTo>
                    <a:lnTo>
                      <a:pt x="289" y="180"/>
                    </a:lnTo>
                    <a:lnTo>
                      <a:pt x="297" y="170"/>
                    </a:lnTo>
                    <a:lnTo>
                      <a:pt x="304" y="157"/>
                    </a:lnTo>
                    <a:lnTo>
                      <a:pt x="311" y="143"/>
                    </a:lnTo>
                    <a:lnTo>
                      <a:pt x="315" y="127"/>
                    </a:lnTo>
                    <a:lnTo>
                      <a:pt x="320" y="109"/>
                    </a:lnTo>
                    <a:lnTo>
                      <a:pt x="323" y="89"/>
                    </a:lnTo>
                    <a:lnTo>
                      <a:pt x="326" y="66"/>
                    </a:lnTo>
                    <a:lnTo>
                      <a:pt x="327" y="41"/>
                    </a:lnTo>
                    <a:lnTo>
                      <a:pt x="327" y="12"/>
                    </a:lnTo>
                    <a:lnTo>
                      <a:pt x="315" y="0"/>
                    </a:lnTo>
                    <a:lnTo>
                      <a:pt x="327" y="12"/>
                    </a:lnTo>
                    <a:lnTo>
                      <a:pt x="326" y="7"/>
                    </a:lnTo>
                    <a:lnTo>
                      <a:pt x="323" y="3"/>
                    </a:lnTo>
                    <a:lnTo>
                      <a:pt x="320" y="1"/>
                    </a:lnTo>
                    <a:lnTo>
                      <a:pt x="315" y="0"/>
                    </a:lnTo>
                    <a:lnTo>
                      <a:pt x="311" y="1"/>
                    </a:lnTo>
                    <a:lnTo>
                      <a:pt x="306" y="3"/>
                    </a:lnTo>
                    <a:lnTo>
                      <a:pt x="304" y="7"/>
                    </a:lnTo>
                    <a:lnTo>
                      <a:pt x="303" y="12"/>
                    </a:lnTo>
                    <a:lnTo>
                      <a:pt x="31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751280" y="4165920"/>
                <a:ext cx="44640" cy="7920"/>
              </a:xfrm>
              <a:custGeom>
                <a:avLst/>
                <a:gdLst/>
                <a:ahLst/>
                <a:rect l="l" t="t" r="r" b="b"/>
                <a:pathLst>
                  <a:path w="144" h="25">
                    <a:moveTo>
                      <a:pt x="1" y="8"/>
                    </a:moveTo>
                    <a:lnTo>
                      <a:pt x="12" y="25"/>
                    </a:lnTo>
                    <a:lnTo>
                      <a:pt x="144" y="25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1" y="8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6" y="24"/>
                    </a:lnTo>
                    <a:lnTo>
                      <a:pt x="12" y="2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751280" y="4064400"/>
                <a:ext cx="39960" cy="107640"/>
              </a:xfrm>
              <a:custGeom>
                <a:avLst/>
                <a:gdLst/>
                <a:ahLst/>
                <a:rect l="l" t="t" r="r" b="b"/>
                <a:pathLst>
                  <a:path w="124" h="339">
                    <a:moveTo>
                      <a:pt x="111" y="24"/>
                    </a:moveTo>
                    <a:lnTo>
                      <a:pt x="100" y="12"/>
                    </a:lnTo>
                    <a:lnTo>
                      <a:pt x="99" y="36"/>
                    </a:lnTo>
                    <a:lnTo>
                      <a:pt x="97" y="58"/>
                    </a:lnTo>
                    <a:lnTo>
                      <a:pt x="94" y="80"/>
                    </a:lnTo>
                    <a:lnTo>
                      <a:pt x="90" y="102"/>
                    </a:lnTo>
                    <a:lnTo>
                      <a:pt x="85" y="122"/>
                    </a:lnTo>
                    <a:lnTo>
                      <a:pt x="79" y="142"/>
                    </a:lnTo>
                    <a:lnTo>
                      <a:pt x="74" y="161"/>
                    </a:lnTo>
                    <a:lnTo>
                      <a:pt x="67" y="180"/>
                    </a:lnTo>
                    <a:lnTo>
                      <a:pt x="51" y="218"/>
                    </a:lnTo>
                    <a:lnTo>
                      <a:pt x="34" y="255"/>
                    </a:lnTo>
                    <a:lnTo>
                      <a:pt x="17" y="292"/>
                    </a:lnTo>
                    <a:lnTo>
                      <a:pt x="0" y="330"/>
                    </a:lnTo>
                    <a:lnTo>
                      <a:pt x="22" y="339"/>
                    </a:lnTo>
                    <a:lnTo>
                      <a:pt x="38" y="302"/>
                    </a:lnTo>
                    <a:lnTo>
                      <a:pt x="57" y="265"/>
                    </a:lnTo>
                    <a:lnTo>
                      <a:pt x="73" y="227"/>
                    </a:lnTo>
                    <a:lnTo>
                      <a:pt x="89" y="190"/>
                    </a:lnTo>
                    <a:lnTo>
                      <a:pt x="97" y="169"/>
                    </a:lnTo>
                    <a:lnTo>
                      <a:pt x="103" y="148"/>
                    </a:lnTo>
                    <a:lnTo>
                      <a:pt x="109" y="128"/>
                    </a:lnTo>
                    <a:lnTo>
                      <a:pt x="114" y="106"/>
                    </a:lnTo>
                    <a:lnTo>
                      <a:pt x="118" y="84"/>
                    </a:lnTo>
                    <a:lnTo>
                      <a:pt x="122" y="61"/>
                    </a:lnTo>
                    <a:lnTo>
                      <a:pt x="123" y="37"/>
                    </a:lnTo>
                    <a:lnTo>
                      <a:pt x="124" y="12"/>
                    </a:lnTo>
                    <a:lnTo>
                      <a:pt x="111" y="0"/>
                    </a:lnTo>
                    <a:lnTo>
                      <a:pt x="124" y="12"/>
                    </a:lnTo>
                    <a:lnTo>
                      <a:pt x="123" y="7"/>
                    </a:lnTo>
                    <a:lnTo>
                      <a:pt x="121" y="3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3" y="3"/>
                    </a:lnTo>
                    <a:lnTo>
                      <a:pt x="101" y="7"/>
                    </a:lnTo>
                    <a:lnTo>
                      <a:pt x="100" y="12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737240" y="4064400"/>
                <a:ext cx="48960" cy="79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8"/>
                    </a:moveTo>
                    <a:lnTo>
                      <a:pt x="13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3" y="0"/>
                    </a:lnTo>
                    <a:lnTo>
                      <a:pt x="1" y="8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718160" y="4067280"/>
                <a:ext cx="25200" cy="74880"/>
              </a:xfrm>
              <a:custGeom>
                <a:avLst/>
                <a:gdLst/>
                <a:ahLst/>
                <a:rect l="l" t="t" r="r" b="b"/>
                <a:pathLst>
                  <a:path w="82" h="237">
                    <a:moveTo>
                      <a:pt x="16" y="231"/>
                    </a:moveTo>
                    <a:lnTo>
                      <a:pt x="38" y="219"/>
                    </a:lnTo>
                    <a:lnTo>
                      <a:pt x="34" y="213"/>
                    </a:lnTo>
                    <a:lnTo>
                      <a:pt x="31" y="207"/>
                    </a:lnTo>
                    <a:lnTo>
                      <a:pt x="28" y="200"/>
                    </a:lnTo>
                    <a:lnTo>
                      <a:pt x="27" y="194"/>
                    </a:lnTo>
                    <a:lnTo>
                      <a:pt x="25" y="179"/>
                    </a:lnTo>
                    <a:lnTo>
                      <a:pt x="25" y="166"/>
                    </a:lnTo>
                    <a:lnTo>
                      <a:pt x="26" y="151"/>
                    </a:lnTo>
                    <a:lnTo>
                      <a:pt x="28" y="136"/>
                    </a:lnTo>
                    <a:lnTo>
                      <a:pt x="32" y="121"/>
                    </a:lnTo>
                    <a:lnTo>
                      <a:pt x="38" y="106"/>
                    </a:lnTo>
                    <a:lnTo>
                      <a:pt x="49" y="78"/>
                    </a:lnTo>
                    <a:lnTo>
                      <a:pt x="62" y="52"/>
                    </a:lnTo>
                    <a:lnTo>
                      <a:pt x="73" y="28"/>
                    </a:lnTo>
                    <a:lnTo>
                      <a:pt x="82" y="8"/>
                    </a:lnTo>
                    <a:lnTo>
                      <a:pt x="59" y="0"/>
                    </a:lnTo>
                    <a:lnTo>
                      <a:pt x="51" y="17"/>
                    </a:lnTo>
                    <a:lnTo>
                      <a:pt x="40" y="41"/>
                    </a:lnTo>
                    <a:lnTo>
                      <a:pt x="26" y="69"/>
                    </a:lnTo>
                    <a:lnTo>
                      <a:pt x="15" y="98"/>
                    </a:lnTo>
                    <a:lnTo>
                      <a:pt x="9" y="114"/>
                    </a:lnTo>
                    <a:lnTo>
                      <a:pt x="5" y="131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1" y="182"/>
                    </a:lnTo>
                    <a:lnTo>
                      <a:pt x="3" y="199"/>
                    </a:lnTo>
                    <a:lnTo>
                      <a:pt x="6" y="208"/>
                    </a:lnTo>
                    <a:lnTo>
                      <a:pt x="9" y="216"/>
                    </a:lnTo>
                    <a:lnTo>
                      <a:pt x="13" y="224"/>
                    </a:lnTo>
                    <a:lnTo>
                      <a:pt x="17" y="232"/>
                    </a:lnTo>
                    <a:lnTo>
                      <a:pt x="38" y="220"/>
                    </a:lnTo>
                    <a:lnTo>
                      <a:pt x="17" y="232"/>
                    </a:lnTo>
                    <a:lnTo>
                      <a:pt x="21" y="236"/>
                    </a:lnTo>
                    <a:lnTo>
                      <a:pt x="24" y="237"/>
                    </a:lnTo>
                    <a:lnTo>
                      <a:pt x="28" y="237"/>
                    </a:lnTo>
                    <a:lnTo>
                      <a:pt x="33" y="236"/>
                    </a:lnTo>
                    <a:lnTo>
                      <a:pt x="36" y="233"/>
                    </a:lnTo>
                    <a:lnTo>
                      <a:pt x="39" y="229"/>
                    </a:lnTo>
                    <a:lnTo>
                      <a:pt x="39" y="225"/>
                    </a:lnTo>
                    <a:lnTo>
                      <a:pt x="38" y="219"/>
                    </a:lnTo>
                    <a:lnTo>
                      <a:pt x="16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054320" y="4046760"/>
                <a:ext cx="322560" cy="192240"/>
              </a:xfrm>
              <a:custGeom>
                <a:avLst/>
                <a:gdLst/>
                <a:ahLst/>
                <a:rect l="l" t="t" r="r" b="b"/>
                <a:pathLst>
                  <a:path w="1012" h="602">
                    <a:moveTo>
                      <a:pt x="454" y="414"/>
                    </a:moveTo>
                    <a:lnTo>
                      <a:pt x="470" y="393"/>
                    </a:lnTo>
                    <a:lnTo>
                      <a:pt x="486" y="374"/>
                    </a:lnTo>
                    <a:lnTo>
                      <a:pt x="504" y="353"/>
                    </a:lnTo>
                    <a:lnTo>
                      <a:pt x="524" y="334"/>
                    </a:lnTo>
                    <a:lnTo>
                      <a:pt x="546" y="313"/>
                    </a:lnTo>
                    <a:lnTo>
                      <a:pt x="569" y="294"/>
                    </a:lnTo>
                    <a:lnTo>
                      <a:pt x="592" y="276"/>
                    </a:lnTo>
                    <a:lnTo>
                      <a:pt x="617" y="257"/>
                    </a:lnTo>
                    <a:lnTo>
                      <a:pt x="642" y="239"/>
                    </a:lnTo>
                    <a:lnTo>
                      <a:pt x="667" y="223"/>
                    </a:lnTo>
                    <a:lnTo>
                      <a:pt x="693" y="207"/>
                    </a:lnTo>
                    <a:lnTo>
                      <a:pt x="719" y="192"/>
                    </a:lnTo>
                    <a:lnTo>
                      <a:pt x="745" y="179"/>
                    </a:lnTo>
                    <a:lnTo>
                      <a:pt x="771" y="166"/>
                    </a:lnTo>
                    <a:lnTo>
                      <a:pt x="797" y="156"/>
                    </a:lnTo>
                    <a:lnTo>
                      <a:pt x="822" y="147"/>
                    </a:lnTo>
                    <a:lnTo>
                      <a:pt x="821" y="181"/>
                    </a:lnTo>
                    <a:lnTo>
                      <a:pt x="817" y="213"/>
                    </a:lnTo>
                    <a:lnTo>
                      <a:pt x="813" y="241"/>
                    </a:lnTo>
                    <a:lnTo>
                      <a:pt x="807" y="268"/>
                    </a:lnTo>
                    <a:lnTo>
                      <a:pt x="800" y="292"/>
                    </a:lnTo>
                    <a:lnTo>
                      <a:pt x="792" y="313"/>
                    </a:lnTo>
                    <a:lnTo>
                      <a:pt x="784" y="333"/>
                    </a:lnTo>
                    <a:lnTo>
                      <a:pt x="775" y="350"/>
                    </a:lnTo>
                    <a:lnTo>
                      <a:pt x="765" y="365"/>
                    </a:lnTo>
                    <a:lnTo>
                      <a:pt x="756" y="378"/>
                    </a:lnTo>
                    <a:lnTo>
                      <a:pt x="747" y="390"/>
                    </a:lnTo>
                    <a:lnTo>
                      <a:pt x="739" y="399"/>
                    </a:lnTo>
                    <a:lnTo>
                      <a:pt x="723" y="414"/>
                    </a:lnTo>
                    <a:lnTo>
                      <a:pt x="712" y="424"/>
                    </a:lnTo>
                    <a:lnTo>
                      <a:pt x="710" y="426"/>
                    </a:lnTo>
                    <a:lnTo>
                      <a:pt x="709" y="428"/>
                    </a:lnTo>
                    <a:lnTo>
                      <a:pt x="709" y="429"/>
                    </a:lnTo>
                    <a:lnTo>
                      <a:pt x="712" y="429"/>
                    </a:lnTo>
                    <a:lnTo>
                      <a:pt x="726" y="428"/>
                    </a:lnTo>
                    <a:lnTo>
                      <a:pt x="752" y="425"/>
                    </a:lnTo>
                    <a:lnTo>
                      <a:pt x="792" y="422"/>
                    </a:lnTo>
                    <a:lnTo>
                      <a:pt x="848" y="417"/>
                    </a:lnTo>
                    <a:lnTo>
                      <a:pt x="881" y="416"/>
                    </a:lnTo>
                    <a:lnTo>
                      <a:pt x="920" y="415"/>
                    </a:lnTo>
                    <a:lnTo>
                      <a:pt x="963" y="414"/>
                    </a:lnTo>
                    <a:lnTo>
                      <a:pt x="1012" y="414"/>
                    </a:lnTo>
                    <a:lnTo>
                      <a:pt x="1010" y="432"/>
                    </a:lnTo>
                    <a:lnTo>
                      <a:pt x="1006" y="449"/>
                    </a:lnTo>
                    <a:lnTo>
                      <a:pt x="1000" y="465"/>
                    </a:lnTo>
                    <a:lnTo>
                      <a:pt x="990" y="479"/>
                    </a:lnTo>
                    <a:lnTo>
                      <a:pt x="979" y="492"/>
                    </a:lnTo>
                    <a:lnTo>
                      <a:pt x="967" y="505"/>
                    </a:lnTo>
                    <a:lnTo>
                      <a:pt x="951" y="515"/>
                    </a:lnTo>
                    <a:lnTo>
                      <a:pt x="933" y="525"/>
                    </a:lnTo>
                    <a:lnTo>
                      <a:pt x="915" y="534"/>
                    </a:lnTo>
                    <a:lnTo>
                      <a:pt x="895" y="542"/>
                    </a:lnTo>
                    <a:lnTo>
                      <a:pt x="874" y="549"/>
                    </a:lnTo>
                    <a:lnTo>
                      <a:pt x="851" y="556"/>
                    </a:lnTo>
                    <a:lnTo>
                      <a:pt x="828" y="561"/>
                    </a:lnTo>
                    <a:lnTo>
                      <a:pt x="802" y="566"/>
                    </a:lnTo>
                    <a:lnTo>
                      <a:pt x="777" y="570"/>
                    </a:lnTo>
                    <a:lnTo>
                      <a:pt x="751" y="574"/>
                    </a:lnTo>
                    <a:lnTo>
                      <a:pt x="699" y="580"/>
                    </a:lnTo>
                    <a:lnTo>
                      <a:pt x="645" y="585"/>
                    </a:lnTo>
                    <a:lnTo>
                      <a:pt x="593" y="587"/>
                    </a:lnTo>
                    <a:lnTo>
                      <a:pt x="541" y="589"/>
                    </a:lnTo>
                    <a:lnTo>
                      <a:pt x="494" y="591"/>
                    </a:lnTo>
                    <a:lnTo>
                      <a:pt x="449" y="595"/>
                    </a:lnTo>
                    <a:lnTo>
                      <a:pt x="412" y="597"/>
                    </a:lnTo>
                    <a:lnTo>
                      <a:pt x="380" y="602"/>
                    </a:lnTo>
                    <a:lnTo>
                      <a:pt x="374" y="594"/>
                    </a:lnTo>
                    <a:lnTo>
                      <a:pt x="366" y="585"/>
                    </a:lnTo>
                    <a:lnTo>
                      <a:pt x="357" y="574"/>
                    </a:lnTo>
                    <a:lnTo>
                      <a:pt x="347" y="564"/>
                    </a:lnTo>
                    <a:lnTo>
                      <a:pt x="324" y="541"/>
                    </a:lnTo>
                    <a:lnTo>
                      <a:pt x="296" y="517"/>
                    </a:lnTo>
                    <a:lnTo>
                      <a:pt x="235" y="465"/>
                    </a:lnTo>
                    <a:lnTo>
                      <a:pt x="169" y="410"/>
                    </a:lnTo>
                    <a:lnTo>
                      <a:pt x="136" y="383"/>
                    </a:lnTo>
                    <a:lnTo>
                      <a:pt x="105" y="355"/>
                    </a:lnTo>
                    <a:lnTo>
                      <a:pt x="76" y="329"/>
                    </a:lnTo>
                    <a:lnTo>
                      <a:pt x="51" y="304"/>
                    </a:lnTo>
                    <a:lnTo>
                      <a:pt x="40" y="292"/>
                    </a:lnTo>
                    <a:lnTo>
                      <a:pt x="31" y="280"/>
                    </a:lnTo>
                    <a:lnTo>
                      <a:pt x="22" y="269"/>
                    </a:lnTo>
                    <a:lnTo>
                      <a:pt x="15" y="257"/>
                    </a:lnTo>
                    <a:lnTo>
                      <a:pt x="8" y="247"/>
                    </a:lnTo>
                    <a:lnTo>
                      <a:pt x="4" y="237"/>
                    </a:lnTo>
                    <a:lnTo>
                      <a:pt x="1" y="228"/>
                    </a:lnTo>
                    <a:lnTo>
                      <a:pt x="0" y="220"/>
                    </a:lnTo>
                    <a:lnTo>
                      <a:pt x="27" y="215"/>
                    </a:lnTo>
                    <a:lnTo>
                      <a:pt x="54" y="213"/>
                    </a:lnTo>
                    <a:lnTo>
                      <a:pt x="80" y="212"/>
                    </a:lnTo>
                    <a:lnTo>
                      <a:pt x="105" y="214"/>
                    </a:lnTo>
                    <a:lnTo>
                      <a:pt x="129" y="216"/>
                    </a:lnTo>
                    <a:lnTo>
                      <a:pt x="153" y="221"/>
                    </a:lnTo>
                    <a:lnTo>
                      <a:pt x="177" y="227"/>
                    </a:lnTo>
                    <a:lnTo>
                      <a:pt x="201" y="235"/>
                    </a:lnTo>
                    <a:lnTo>
                      <a:pt x="223" y="244"/>
                    </a:lnTo>
                    <a:lnTo>
                      <a:pt x="246" y="254"/>
                    </a:lnTo>
                    <a:lnTo>
                      <a:pt x="269" y="265"/>
                    </a:lnTo>
                    <a:lnTo>
                      <a:pt x="291" y="278"/>
                    </a:lnTo>
                    <a:lnTo>
                      <a:pt x="314" y="290"/>
                    </a:lnTo>
                    <a:lnTo>
                      <a:pt x="335" y="305"/>
                    </a:lnTo>
                    <a:lnTo>
                      <a:pt x="358" y="321"/>
                    </a:lnTo>
                    <a:lnTo>
                      <a:pt x="380" y="337"/>
                    </a:lnTo>
                    <a:lnTo>
                      <a:pt x="378" y="292"/>
                    </a:lnTo>
                    <a:lnTo>
                      <a:pt x="376" y="243"/>
                    </a:lnTo>
                    <a:lnTo>
                      <a:pt x="374" y="194"/>
                    </a:lnTo>
                    <a:lnTo>
                      <a:pt x="373" y="146"/>
                    </a:lnTo>
                    <a:lnTo>
                      <a:pt x="373" y="123"/>
                    </a:lnTo>
                    <a:lnTo>
                      <a:pt x="374" y="101"/>
                    </a:lnTo>
                    <a:lnTo>
                      <a:pt x="377" y="80"/>
                    </a:lnTo>
                    <a:lnTo>
                      <a:pt x="381" y="60"/>
                    </a:lnTo>
                    <a:lnTo>
                      <a:pt x="385" y="42"/>
                    </a:lnTo>
                    <a:lnTo>
                      <a:pt x="392" y="26"/>
                    </a:lnTo>
                    <a:lnTo>
                      <a:pt x="396" y="18"/>
                    </a:lnTo>
                    <a:lnTo>
                      <a:pt x="400" y="11"/>
                    </a:lnTo>
                    <a:lnTo>
                      <a:pt x="406" y="5"/>
                    </a:lnTo>
                    <a:lnTo>
                      <a:pt x="410" y="0"/>
                    </a:lnTo>
                    <a:lnTo>
                      <a:pt x="454" y="0"/>
                    </a:lnTo>
                    <a:lnTo>
                      <a:pt x="466" y="42"/>
                    </a:lnTo>
                    <a:lnTo>
                      <a:pt x="479" y="83"/>
                    </a:lnTo>
                    <a:lnTo>
                      <a:pt x="484" y="105"/>
                    </a:lnTo>
                    <a:lnTo>
                      <a:pt x="490" y="126"/>
                    </a:lnTo>
                    <a:lnTo>
                      <a:pt x="495" y="148"/>
                    </a:lnTo>
                    <a:lnTo>
                      <a:pt x="498" y="171"/>
                    </a:lnTo>
                    <a:lnTo>
                      <a:pt x="499" y="196"/>
                    </a:lnTo>
                    <a:lnTo>
                      <a:pt x="500" y="221"/>
                    </a:lnTo>
                    <a:lnTo>
                      <a:pt x="498" y="248"/>
                    </a:lnTo>
                    <a:lnTo>
                      <a:pt x="495" y="277"/>
                    </a:lnTo>
                    <a:lnTo>
                      <a:pt x="489" y="308"/>
                    </a:lnTo>
                    <a:lnTo>
                      <a:pt x="480" y="341"/>
                    </a:lnTo>
                    <a:lnTo>
                      <a:pt x="469" y="375"/>
                    </a:lnTo>
                    <a:lnTo>
                      <a:pt x="454" y="41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195800" y="4089600"/>
                <a:ext cx="123840" cy="90720"/>
              </a:xfrm>
              <a:custGeom>
                <a:avLst/>
                <a:gdLst/>
                <a:ahLst/>
                <a:rect l="l" t="t" r="r" b="b"/>
                <a:pathLst>
                  <a:path w="388" h="286">
                    <a:moveTo>
                      <a:pt x="388" y="13"/>
                    </a:moveTo>
                    <a:lnTo>
                      <a:pt x="372" y="1"/>
                    </a:lnTo>
                    <a:lnTo>
                      <a:pt x="347" y="10"/>
                    </a:lnTo>
                    <a:lnTo>
                      <a:pt x="321" y="22"/>
                    </a:lnTo>
                    <a:lnTo>
                      <a:pt x="295" y="34"/>
                    </a:lnTo>
                    <a:lnTo>
                      <a:pt x="269" y="48"/>
                    </a:lnTo>
                    <a:lnTo>
                      <a:pt x="241" y="63"/>
                    </a:lnTo>
                    <a:lnTo>
                      <a:pt x="215" y="79"/>
                    </a:lnTo>
                    <a:lnTo>
                      <a:pt x="190" y="96"/>
                    </a:lnTo>
                    <a:lnTo>
                      <a:pt x="164" y="113"/>
                    </a:lnTo>
                    <a:lnTo>
                      <a:pt x="140" y="131"/>
                    </a:lnTo>
                    <a:lnTo>
                      <a:pt x="116" y="151"/>
                    </a:lnTo>
                    <a:lnTo>
                      <a:pt x="93" y="170"/>
                    </a:lnTo>
                    <a:lnTo>
                      <a:pt x="71" y="191"/>
                    </a:lnTo>
                    <a:lnTo>
                      <a:pt x="51" y="211"/>
                    </a:lnTo>
                    <a:lnTo>
                      <a:pt x="31" y="232"/>
                    </a:lnTo>
                    <a:lnTo>
                      <a:pt x="14" y="252"/>
                    </a:lnTo>
                    <a:lnTo>
                      <a:pt x="0" y="273"/>
                    </a:lnTo>
                    <a:lnTo>
                      <a:pt x="19" y="286"/>
                    </a:lnTo>
                    <a:lnTo>
                      <a:pt x="34" y="267"/>
                    </a:lnTo>
                    <a:lnTo>
                      <a:pt x="50" y="248"/>
                    </a:lnTo>
                    <a:lnTo>
                      <a:pt x="68" y="227"/>
                    </a:lnTo>
                    <a:lnTo>
                      <a:pt x="87" y="208"/>
                    </a:lnTo>
                    <a:lnTo>
                      <a:pt x="109" y="188"/>
                    </a:lnTo>
                    <a:lnTo>
                      <a:pt x="131" y="170"/>
                    </a:lnTo>
                    <a:lnTo>
                      <a:pt x="155" y="151"/>
                    </a:lnTo>
                    <a:lnTo>
                      <a:pt x="179" y="132"/>
                    </a:lnTo>
                    <a:lnTo>
                      <a:pt x="204" y="115"/>
                    </a:lnTo>
                    <a:lnTo>
                      <a:pt x="229" y="99"/>
                    </a:lnTo>
                    <a:lnTo>
                      <a:pt x="254" y="83"/>
                    </a:lnTo>
                    <a:lnTo>
                      <a:pt x="280" y="69"/>
                    </a:lnTo>
                    <a:lnTo>
                      <a:pt x="305" y="56"/>
                    </a:lnTo>
                    <a:lnTo>
                      <a:pt x="331" y="44"/>
                    </a:lnTo>
                    <a:lnTo>
                      <a:pt x="356" y="33"/>
                    </a:lnTo>
                    <a:lnTo>
                      <a:pt x="380" y="24"/>
                    </a:lnTo>
                    <a:lnTo>
                      <a:pt x="364" y="13"/>
                    </a:lnTo>
                    <a:lnTo>
                      <a:pt x="380" y="24"/>
                    </a:lnTo>
                    <a:lnTo>
                      <a:pt x="385" y="21"/>
                    </a:lnTo>
                    <a:lnTo>
                      <a:pt x="387" y="17"/>
                    </a:lnTo>
                    <a:lnTo>
                      <a:pt x="388" y="13"/>
                    </a:lnTo>
                    <a:lnTo>
                      <a:pt x="388" y="8"/>
                    </a:lnTo>
                    <a:lnTo>
                      <a:pt x="386" y="5"/>
                    </a:lnTo>
                    <a:lnTo>
                      <a:pt x="383" y="1"/>
                    </a:lnTo>
                    <a:lnTo>
                      <a:pt x="378" y="0"/>
                    </a:lnTo>
                    <a:lnTo>
                      <a:pt x="372" y="1"/>
                    </a:lnTo>
                    <a:lnTo>
                      <a:pt x="38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276800" y="4094280"/>
                <a:ext cx="102960" cy="93960"/>
              </a:xfrm>
              <a:custGeom>
                <a:avLst/>
                <a:gdLst/>
                <a:ahLst/>
                <a:rect l="l" t="t" r="r" b="b"/>
                <a:pathLst>
                  <a:path w="328" h="295">
                    <a:moveTo>
                      <a:pt x="328" y="267"/>
                    </a:moveTo>
                    <a:lnTo>
                      <a:pt x="316" y="254"/>
                    </a:lnTo>
                    <a:lnTo>
                      <a:pt x="267" y="254"/>
                    </a:lnTo>
                    <a:lnTo>
                      <a:pt x="224" y="255"/>
                    </a:lnTo>
                    <a:lnTo>
                      <a:pt x="185" y="256"/>
                    </a:lnTo>
                    <a:lnTo>
                      <a:pt x="151" y="259"/>
                    </a:lnTo>
                    <a:lnTo>
                      <a:pt x="95" y="262"/>
                    </a:lnTo>
                    <a:lnTo>
                      <a:pt x="55" y="267"/>
                    </a:lnTo>
                    <a:lnTo>
                      <a:pt x="29" y="270"/>
                    </a:lnTo>
                    <a:lnTo>
                      <a:pt x="16" y="271"/>
                    </a:lnTo>
                    <a:lnTo>
                      <a:pt x="18" y="271"/>
                    </a:lnTo>
                    <a:lnTo>
                      <a:pt x="24" y="282"/>
                    </a:lnTo>
                    <a:lnTo>
                      <a:pt x="23" y="287"/>
                    </a:lnTo>
                    <a:lnTo>
                      <a:pt x="24" y="285"/>
                    </a:lnTo>
                    <a:lnTo>
                      <a:pt x="36" y="276"/>
                    </a:lnTo>
                    <a:lnTo>
                      <a:pt x="51" y="261"/>
                    </a:lnTo>
                    <a:lnTo>
                      <a:pt x="60" y="251"/>
                    </a:lnTo>
                    <a:lnTo>
                      <a:pt x="70" y="238"/>
                    </a:lnTo>
                    <a:lnTo>
                      <a:pt x="79" y="224"/>
                    </a:lnTo>
                    <a:lnTo>
                      <a:pt x="89" y="208"/>
                    </a:lnTo>
                    <a:lnTo>
                      <a:pt x="98" y="191"/>
                    </a:lnTo>
                    <a:lnTo>
                      <a:pt x="108" y="171"/>
                    </a:lnTo>
                    <a:lnTo>
                      <a:pt x="116" y="148"/>
                    </a:lnTo>
                    <a:lnTo>
                      <a:pt x="122" y="124"/>
                    </a:lnTo>
                    <a:lnTo>
                      <a:pt x="129" y="97"/>
                    </a:lnTo>
                    <a:lnTo>
                      <a:pt x="134" y="67"/>
                    </a:lnTo>
                    <a:lnTo>
                      <a:pt x="136" y="35"/>
                    </a:lnTo>
                    <a:lnTo>
                      <a:pt x="137" y="0"/>
                    </a:lnTo>
                    <a:lnTo>
                      <a:pt x="113" y="0"/>
                    </a:lnTo>
                    <a:lnTo>
                      <a:pt x="112" y="33"/>
                    </a:lnTo>
                    <a:lnTo>
                      <a:pt x="110" y="64"/>
                    </a:lnTo>
                    <a:lnTo>
                      <a:pt x="105" y="92"/>
                    </a:lnTo>
                    <a:lnTo>
                      <a:pt x="100" y="118"/>
                    </a:lnTo>
                    <a:lnTo>
                      <a:pt x="93" y="141"/>
                    </a:lnTo>
                    <a:lnTo>
                      <a:pt x="85" y="162"/>
                    </a:lnTo>
                    <a:lnTo>
                      <a:pt x="77" y="180"/>
                    </a:lnTo>
                    <a:lnTo>
                      <a:pt x="68" y="197"/>
                    </a:lnTo>
                    <a:lnTo>
                      <a:pt x="60" y="211"/>
                    </a:lnTo>
                    <a:lnTo>
                      <a:pt x="51" y="223"/>
                    </a:lnTo>
                    <a:lnTo>
                      <a:pt x="41" y="235"/>
                    </a:lnTo>
                    <a:lnTo>
                      <a:pt x="33" y="244"/>
                    </a:lnTo>
                    <a:lnTo>
                      <a:pt x="19" y="259"/>
                    </a:lnTo>
                    <a:lnTo>
                      <a:pt x="8" y="268"/>
                    </a:lnTo>
                    <a:lnTo>
                      <a:pt x="4" y="272"/>
                    </a:lnTo>
                    <a:lnTo>
                      <a:pt x="0" y="280"/>
                    </a:lnTo>
                    <a:lnTo>
                      <a:pt x="10" y="294"/>
                    </a:lnTo>
                    <a:lnTo>
                      <a:pt x="18" y="295"/>
                    </a:lnTo>
                    <a:lnTo>
                      <a:pt x="32" y="294"/>
                    </a:lnTo>
                    <a:lnTo>
                      <a:pt x="57" y="290"/>
                    </a:lnTo>
                    <a:lnTo>
                      <a:pt x="97" y="287"/>
                    </a:lnTo>
                    <a:lnTo>
                      <a:pt x="152" y="282"/>
                    </a:lnTo>
                    <a:lnTo>
                      <a:pt x="186" y="281"/>
                    </a:lnTo>
                    <a:lnTo>
                      <a:pt x="224" y="279"/>
                    </a:lnTo>
                    <a:lnTo>
                      <a:pt x="267" y="279"/>
                    </a:lnTo>
                    <a:lnTo>
                      <a:pt x="316" y="278"/>
                    </a:lnTo>
                    <a:lnTo>
                      <a:pt x="304" y="267"/>
                    </a:lnTo>
                    <a:lnTo>
                      <a:pt x="316" y="278"/>
                    </a:lnTo>
                    <a:lnTo>
                      <a:pt x="321" y="277"/>
                    </a:lnTo>
                    <a:lnTo>
                      <a:pt x="325" y="275"/>
                    </a:lnTo>
                    <a:lnTo>
                      <a:pt x="328" y="271"/>
                    </a:lnTo>
                    <a:lnTo>
                      <a:pt x="328" y="267"/>
                    </a:lnTo>
                    <a:lnTo>
                      <a:pt x="328" y="262"/>
                    </a:lnTo>
                    <a:lnTo>
                      <a:pt x="325" y="257"/>
                    </a:lnTo>
                    <a:lnTo>
                      <a:pt x="321" y="255"/>
                    </a:lnTo>
                    <a:lnTo>
                      <a:pt x="316" y="254"/>
                    </a:lnTo>
                    <a:lnTo>
                      <a:pt x="328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172040" y="4178520"/>
                <a:ext cx="207720" cy="63720"/>
              </a:xfrm>
              <a:custGeom>
                <a:avLst/>
                <a:gdLst/>
                <a:ahLst/>
                <a:rect l="l" t="t" r="r" b="b"/>
                <a:pathLst>
                  <a:path w="656" h="200">
                    <a:moveTo>
                      <a:pt x="1" y="194"/>
                    </a:moveTo>
                    <a:lnTo>
                      <a:pt x="14" y="200"/>
                    </a:lnTo>
                    <a:lnTo>
                      <a:pt x="45" y="196"/>
                    </a:lnTo>
                    <a:lnTo>
                      <a:pt x="82" y="192"/>
                    </a:lnTo>
                    <a:lnTo>
                      <a:pt x="126" y="190"/>
                    </a:lnTo>
                    <a:lnTo>
                      <a:pt x="173" y="188"/>
                    </a:lnTo>
                    <a:lnTo>
                      <a:pt x="225" y="185"/>
                    </a:lnTo>
                    <a:lnTo>
                      <a:pt x="278" y="182"/>
                    </a:lnTo>
                    <a:lnTo>
                      <a:pt x="332" y="177"/>
                    </a:lnTo>
                    <a:lnTo>
                      <a:pt x="385" y="172"/>
                    </a:lnTo>
                    <a:lnTo>
                      <a:pt x="412" y="168"/>
                    </a:lnTo>
                    <a:lnTo>
                      <a:pt x="437" y="164"/>
                    </a:lnTo>
                    <a:lnTo>
                      <a:pt x="462" y="159"/>
                    </a:lnTo>
                    <a:lnTo>
                      <a:pt x="486" y="153"/>
                    </a:lnTo>
                    <a:lnTo>
                      <a:pt x="510" y="147"/>
                    </a:lnTo>
                    <a:lnTo>
                      <a:pt x="531" y="140"/>
                    </a:lnTo>
                    <a:lnTo>
                      <a:pt x="552" y="131"/>
                    </a:lnTo>
                    <a:lnTo>
                      <a:pt x="571" y="122"/>
                    </a:lnTo>
                    <a:lnTo>
                      <a:pt x="589" y="111"/>
                    </a:lnTo>
                    <a:lnTo>
                      <a:pt x="605" y="100"/>
                    </a:lnTo>
                    <a:lnTo>
                      <a:pt x="613" y="93"/>
                    </a:lnTo>
                    <a:lnTo>
                      <a:pt x="620" y="86"/>
                    </a:lnTo>
                    <a:lnTo>
                      <a:pt x="627" y="79"/>
                    </a:lnTo>
                    <a:lnTo>
                      <a:pt x="633" y="72"/>
                    </a:lnTo>
                    <a:lnTo>
                      <a:pt x="637" y="65"/>
                    </a:lnTo>
                    <a:lnTo>
                      <a:pt x="643" y="57"/>
                    </a:lnTo>
                    <a:lnTo>
                      <a:pt x="646" y="47"/>
                    </a:lnTo>
                    <a:lnTo>
                      <a:pt x="650" y="38"/>
                    </a:lnTo>
                    <a:lnTo>
                      <a:pt x="652" y="29"/>
                    </a:lnTo>
                    <a:lnTo>
                      <a:pt x="654" y="20"/>
                    </a:lnTo>
                    <a:lnTo>
                      <a:pt x="656" y="10"/>
                    </a:lnTo>
                    <a:lnTo>
                      <a:pt x="656" y="0"/>
                    </a:lnTo>
                    <a:lnTo>
                      <a:pt x="632" y="0"/>
                    </a:lnTo>
                    <a:lnTo>
                      <a:pt x="632" y="8"/>
                    </a:lnTo>
                    <a:lnTo>
                      <a:pt x="630" y="15"/>
                    </a:lnTo>
                    <a:lnTo>
                      <a:pt x="629" y="23"/>
                    </a:lnTo>
                    <a:lnTo>
                      <a:pt x="627" y="31"/>
                    </a:lnTo>
                    <a:lnTo>
                      <a:pt x="624" y="38"/>
                    </a:lnTo>
                    <a:lnTo>
                      <a:pt x="621" y="45"/>
                    </a:lnTo>
                    <a:lnTo>
                      <a:pt x="617" y="52"/>
                    </a:lnTo>
                    <a:lnTo>
                      <a:pt x="613" y="58"/>
                    </a:lnTo>
                    <a:lnTo>
                      <a:pt x="608" y="63"/>
                    </a:lnTo>
                    <a:lnTo>
                      <a:pt x="603" y="70"/>
                    </a:lnTo>
                    <a:lnTo>
                      <a:pt x="597" y="76"/>
                    </a:lnTo>
                    <a:lnTo>
                      <a:pt x="591" y="80"/>
                    </a:lnTo>
                    <a:lnTo>
                      <a:pt x="577" y="91"/>
                    </a:lnTo>
                    <a:lnTo>
                      <a:pt x="560" y="100"/>
                    </a:lnTo>
                    <a:lnTo>
                      <a:pt x="543" y="109"/>
                    </a:lnTo>
                    <a:lnTo>
                      <a:pt x="523" y="117"/>
                    </a:lnTo>
                    <a:lnTo>
                      <a:pt x="502" y="124"/>
                    </a:lnTo>
                    <a:lnTo>
                      <a:pt x="480" y="129"/>
                    </a:lnTo>
                    <a:lnTo>
                      <a:pt x="457" y="135"/>
                    </a:lnTo>
                    <a:lnTo>
                      <a:pt x="432" y="140"/>
                    </a:lnTo>
                    <a:lnTo>
                      <a:pt x="407" y="144"/>
                    </a:lnTo>
                    <a:lnTo>
                      <a:pt x="382" y="148"/>
                    </a:lnTo>
                    <a:lnTo>
                      <a:pt x="330" y="153"/>
                    </a:lnTo>
                    <a:lnTo>
                      <a:pt x="276" y="158"/>
                    </a:lnTo>
                    <a:lnTo>
                      <a:pt x="224" y="161"/>
                    </a:lnTo>
                    <a:lnTo>
                      <a:pt x="172" y="164"/>
                    </a:lnTo>
                    <a:lnTo>
                      <a:pt x="124" y="166"/>
                    </a:lnTo>
                    <a:lnTo>
                      <a:pt x="81" y="168"/>
                    </a:lnTo>
                    <a:lnTo>
                      <a:pt x="42" y="172"/>
                    </a:lnTo>
                    <a:lnTo>
                      <a:pt x="9" y="176"/>
                    </a:lnTo>
                    <a:lnTo>
                      <a:pt x="22" y="182"/>
                    </a:lnTo>
                    <a:lnTo>
                      <a:pt x="9" y="176"/>
                    </a:lnTo>
                    <a:lnTo>
                      <a:pt x="5" y="179"/>
                    </a:lnTo>
                    <a:lnTo>
                      <a:pt x="1" y="182"/>
                    </a:lnTo>
                    <a:lnTo>
                      <a:pt x="0" y="185"/>
                    </a:lnTo>
                    <a:lnTo>
                      <a:pt x="0" y="190"/>
                    </a:lnTo>
                    <a:lnTo>
                      <a:pt x="1" y="194"/>
                    </a:lnTo>
                    <a:lnTo>
                      <a:pt x="5" y="198"/>
                    </a:lnTo>
                    <a:lnTo>
                      <a:pt x="8" y="200"/>
                    </a:lnTo>
                    <a:lnTo>
                      <a:pt x="14" y="200"/>
                    </a:lnTo>
                    <a:lnTo>
                      <a:pt x="1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051440" y="411336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9" y="0"/>
                    </a:moveTo>
                    <a:lnTo>
                      <a:pt x="0" y="13"/>
                    </a:lnTo>
                    <a:lnTo>
                      <a:pt x="1" y="23"/>
                    </a:lnTo>
                    <a:lnTo>
                      <a:pt x="4" y="34"/>
                    </a:lnTo>
                    <a:lnTo>
                      <a:pt x="9" y="46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32" y="80"/>
                    </a:lnTo>
                    <a:lnTo>
                      <a:pt x="42" y="93"/>
                    </a:lnTo>
                    <a:lnTo>
                      <a:pt x="54" y="105"/>
                    </a:lnTo>
                    <a:lnTo>
                      <a:pt x="79" y="131"/>
                    </a:lnTo>
                    <a:lnTo>
                      <a:pt x="108" y="158"/>
                    </a:lnTo>
                    <a:lnTo>
                      <a:pt x="139" y="185"/>
                    </a:lnTo>
                    <a:lnTo>
                      <a:pt x="172" y="213"/>
                    </a:lnTo>
                    <a:lnTo>
                      <a:pt x="238" y="268"/>
                    </a:lnTo>
                    <a:lnTo>
                      <a:pt x="299" y="319"/>
                    </a:lnTo>
                    <a:lnTo>
                      <a:pt x="327" y="343"/>
                    </a:lnTo>
                    <a:lnTo>
                      <a:pt x="350" y="365"/>
                    </a:lnTo>
                    <a:lnTo>
                      <a:pt x="360" y="375"/>
                    </a:lnTo>
                    <a:lnTo>
                      <a:pt x="368" y="386"/>
                    </a:lnTo>
                    <a:lnTo>
                      <a:pt x="375" y="393"/>
                    </a:lnTo>
                    <a:lnTo>
                      <a:pt x="380" y="401"/>
                    </a:lnTo>
                    <a:lnTo>
                      <a:pt x="401" y="389"/>
                    </a:lnTo>
                    <a:lnTo>
                      <a:pt x="394" y="379"/>
                    </a:lnTo>
                    <a:lnTo>
                      <a:pt x="386" y="370"/>
                    </a:lnTo>
                    <a:lnTo>
                      <a:pt x="377" y="359"/>
                    </a:lnTo>
                    <a:lnTo>
                      <a:pt x="367" y="348"/>
                    </a:lnTo>
                    <a:lnTo>
                      <a:pt x="343" y="325"/>
                    </a:lnTo>
                    <a:lnTo>
                      <a:pt x="315" y="301"/>
                    </a:lnTo>
                    <a:lnTo>
                      <a:pt x="254" y="249"/>
                    </a:lnTo>
                    <a:lnTo>
                      <a:pt x="188" y="194"/>
                    </a:lnTo>
                    <a:lnTo>
                      <a:pt x="155" y="167"/>
                    </a:lnTo>
                    <a:lnTo>
                      <a:pt x="124" y="140"/>
                    </a:lnTo>
                    <a:lnTo>
                      <a:pt x="97" y="114"/>
                    </a:lnTo>
                    <a:lnTo>
                      <a:pt x="72" y="88"/>
                    </a:lnTo>
                    <a:lnTo>
                      <a:pt x="60" y="77"/>
                    </a:lnTo>
                    <a:lnTo>
                      <a:pt x="51" y="65"/>
                    </a:lnTo>
                    <a:lnTo>
                      <a:pt x="43" y="54"/>
                    </a:lnTo>
                    <a:lnTo>
                      <a:pt x="36" y="44"/>
                    </a:lnTo>
                    <a:lnTo>
                      <a:pt x="30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24" y="13"/>
                    </a:lnTo>
                    <a:lnTo>
                      <a:pt x="13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054320" y="4110480"/>
                <a:ext cx="12564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69" y="137"/>
                    </a:moveTo>
                    <a:lnTo>
                      <a:pt x="388" y="127"/>
                    </a:lnTo>
                    <a:lnTo>
                      <a:pt x="367" y="111"/>
                    </a:lnTo>
                    <a:lnTo>
                      <a:pt x="344" y="95"/>
                    </a:lnTo>
                    <a:lnTo>
                      <a:pt x="322" y="81"/>
                    </a:lnTo>
                    <a:lnTo>
                      <a:pt x="300" y="66"/>
                    </a:lnTo>
                    <a:lnTo>
                      <a:pt x="277" y="54"/>
                    </a:lnTo>
                    <a:lnTo>
                      <a:pt x="254" y="43"/>
                    </a:lnTo>
                    <a:lnTo>
                      <a:pt x="230" y="32"/>
                    </a:lnTo>
                    <a:lnTo>
                      <a:pt x="206" y="23"/>
                    </a:lnTo>
                    <a:lnTo>
                      <a:pt x="182" y="15"/>
                    </a:lnTo>
                    <a:lnTo>
                      <a:pt x="158" y="9"/>
                    </a:lnTo>
                    <a:lnTo>
                      <a:pt x="133" y="5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55" y="0"/>
                    </a:lnTo>
                    <a:lnTo>
                      <a:pt x="28" y="3"/>
                    </a:lnTo>
                    <a:lnTo>
                      <a:pt x="0" y="7"/>
                    </a:lnTo>
                    <a:lnTo>
                      <a:pt x="4" y="31"/>
                    </a:lnTo>
                    <a:lnTo>
                      <a:pt x="31" y="27"/>
                    </a:lnTo>
                    <a:lnTo>
                      <a:pt x="57" y="24"/>
                    </a:lnTo>
                    <a:lnTo>
                      <a:pt x="81" y="24"/>
                    </a:lnTo>
                    <a:lnTo>
                      <a:pt x="106" y="25"/>
                    </a:lnTo>
                    <a:lnTo>
                      <a:pt x="130" y="29"/>
                    </a:lnTo>
                    <a:lnTo>
                      <a:pt x="153" y="32"/>
                    </a:lnTo>
                    <a:lnTo>
                      <a:pt x="175" y="39"/>
                    </a:lnTo>
                    <a:lnTo>
                      <a:pt x="198" y="46"/>
                    </a:lnTo>
                    <a:lnTo>
                      <a:pt x="221" y="55"/>
                    </a:lnTo>
                    <a:lnTo>
                      <a:pt x="243" y="64"/>
                    </a:lnTo>
                    <a:lnTo>
                      <a:pt x="265" y="76"/>
                    </a:lnTo>
                    <a:lnTo>
                      <a:pt x="287" y="88"/>
                    </a:lnTo>
                    <a:lnTo>
                      <a:pt x="309" y="101"/>
                    </a:lnTo>
                    <a:lnTo>
                      <a:pt x="330" y="115"/>
                    </a:lnTo>
                    <a:lnTo>
                      <a:pt x="353" y="130"/>
                    </a:lnTo>
                    <a:lnTo>
                      <a:pt x="375" y="146"/>
                    </a:lnTo>
                    <a:lnTo>
                      <a:pt x="394" y="137"/>
                    </a:lnTo>
                    <a:lnTo>
                      <a:pt x="375" y="146"/>
                    </a:lnTo>
                    <a:lnTo>
                      <a:pt x="379" y="149"/>
                    </a:lnTo>
                    <a:lnTo>
                      <a:pt x="384" y="149"/>
                    </a:lnTo>
                    <a:lnTo>
                      <a:pt x="388" y="147"/>
                    </a:lnTo>
                    <a:lnTo>
                      <a:pt x="392" y="144"/>
                    </a:lnTo>
                    <a:lnTo>
                      <a:pt x="393" y="141"/>
                    </a:lnTo>
                    <a:lnTo>
                      <a:pt x="394" y="136"/>
                    </a:lnTo>
                    <a:lnTo>
                      <a:pt x="393" y="131"/>
                    </a:lnTo>
                    <a:lnTo>
                      <a:pt x="388" y="127"/>
                    </a:lnTo>
                    <a:lnTo>
                      <a:pt x="369" y="1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168800" y="4043520"/>
                <a:ext cx="20520" cy="111240"/>
              </a:xfrm>
              <a:custGeom>
                <a:avLst/>
                <a:gdLst/>
                <a:ahLst/>
                <a:rect l="l" t="t" r="r" b="b"/>
                <a:pathLst>
                  <a:path w="63" h="350">
                    <a:moveTo>
                      <a:pt x="50" y="0"/>
                    </a:moveTo>
                    <a:lnTo>
                      <a:pt x="42" y="4"/>
                    </a:lnTo>
                    <a:lnTo>
                      <a:pt x="37" y="10"/>
                    </a:lnTo>
                    <a:lnTo>
                      <a:pt x="31" y="17"/>
                    </a:lnTo>
                    <a:lnTo>
                      <a:pt x="25" y="25"/>
                    </a:lnTo>
                    <a:lnTo>
                      <a:pt x="21" y="34"/>
                    </a:lnTo>
                    <a:lnTo>
                      <a:pt x="14" y="51"/>
                    </a:lnTo>
                    <a:lnTo>
                      <a:pt x="8" y="71"/>
                    </a:lnTo>
                    <a:lnTo>
                      <a:pt x="5" y="91"/>
                    </a:lnTo>
                    <a:lnTo>
                      <a:pt x="3" y="113"/>
                    </a:lnTo>
                    <a:lnTo>
                      <a:pt x="1" y="136"/>
                    </a:lnTo>
                    <a:lnTo>
                      <a:pt x="0" y="159"/>
                    </a:lnTo>
                    <a:lnTo>
                      <a:pt x="1" y="208"/>
                    </a:lnTo>
                    <a:lnTo>
                      <a:pt x="4" y="257"/>
                    </a:lnTo>
                    <a:lnTo>
                      <a:pt x="6" y="305"/>
                    </a:lnTo>
                    <a:lnTo>
                      <a:pt x="7" y="350"/>
                    </a:lnTo>
                    <a:lnTo>
                      <a:pt x="32" y="350"/>
                    </a:lnTo>
                    <a:lnTo>
                      <a:pt x="31" y="303"/>
                    </a:lnTo>
                    <a:lnTo>
                      <a:pt x="28" y="256"/>
                    </a:lnTo>
                    <a:lnTo>
                      <a:pt x="25" y="207"/>
                    </a:lnTo>
                    <a:lnTo>
                      <a:pt x="24" y="159"/>
                    </a:lnTo>
                    <a:lnTo>
                      <a:pt x="25" y="137"/>
                    </a:lnTo>
                    <a:lnTo>
                      <a:pt x="26" y="115"/>
                    </a:lnTo>
                    <a:lnTo>
                      <a:pt x="29" y="95"/>
                    </a:lnTo>
                    <a:lnTo>
                      <a:pt x="32" y="75"/>
                    </a:lnTo>
                    <a:lnTo>
                      <a:pt x="37" y="59"/>
                    </a:lnTo>
                    <a:lnTo>
                      <a:pt x="44" y="43"/>
                    </a:lnTo>
                    <a:lnTo>
                      <a:pt x="47" y="38"/>
                    </a:lnTo>
                    <a:lnTo>
                      <a:pt x="50" y="31"/>
                    </a:lnTo>
                    <a:lnTo>
                      <a:pt x="55" y="26"/>
                    </a:lnTo>
                    <a:lnTo>
                      <a:pt x="59" y="21"/>
                    </a:lnTo>
                    <a:lnTo>
                      <a:pt x="50" y="24"/>
                    </a:lnTo>
                    <a:lnTo>
                      <a:pt x="59" y="21"/>
                    </a:lnTo>
                    <a:lnTo>
                      <a:pt x="62" y="16"/>
                    </a:lnTo>
                    <a:lnTo>
                      <a:pt x="63" y="12"/>
                    </a:lnTo>
                    <a:lnTo>
                      <a:pt x="62" y="7"/>
                    </a:lnTo>
                    <a:lnTo>
                      <a:pt x="59" y="4"/>
                    </a:lnTo>
                    <a:lnTo>
                      <a:pt x="56" y="1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184640" y="404352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56" y="9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6" y="9"/>
                    </a:lnTo>
                    <a:lnTo>
                      <a:pt x="44" y="24"/>
                    </a:lnTo>
                    <a:lnTo>
                      <a:pt x="49" y="23"/>
                    </a:lnTo>
                    <a:lnTo>
                      <a:pt x="53" y="21"/>
                    </a:lnTo>
                    <a:lnTo>
                      <a:pt x="55" y="16"/>
                    </a:lnTo>
                    <a:lnTo>
                      <a:pt x="56" y="13"/>
                    </a:lnTo>
                    <a:lnTo>
                      <a:pt x="55" y="8"/>
                    </a:lnTo>
                    <a:lnTo>
                      <a:pt x="53" y="4"/>
                    </a:lnTo>
                    <a:lnTo>
                      <a:pt x="49" y="1"/>
                    </a:lnTo>
                    <a:lnTo>
                      <a:pt x="44" y="0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195800" y="404676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70" h="429">
                    <a:moveTo>
                      <a:pt x="3" y="411"/>
                    </a:moveTo>
                    <a:lnTo>
                      <a:pt x="23" y="422"/>
                    </a:lnTo>
                    <a:lnTo>
                      <a:pt x="38" y="383"/>
                    </a:lnTo>
                    <a:lnTo>
                      <a:pt x="49" y="348"/>
                    </a:lnTo>
                    <a:lnTo>
                      <a:pt x="58" y="314"/>
                    </a:lnTo>
                    <a:lnTo>
                      <a:pt x="65" y="282"/>
                    </a:lnTo>
                    <a:lnTo>
                      <a:pt x="69" y="252"/>
                    </a:lnTo>
                    <a:lnTo>
                      <a:pt x="70" y="225"/>
                    </a:lnTo>
                    <a:lnTo>
                      <a:pt x="70" y="199"/>
                    </a:lnTo>
                    <a:lnTo>
                      <a:pt x="68" y="174"/>
                    </a:lnTo>
                    <a:lnTo>
                      <a:pt x="64" y="150"/>
                    </a:lnTo>
                    <a:lnTo>
                      <a:pt x="60" y="127"/>
                    </a:lnTo>
                    <a:lnTo>
                      <a:pt x="54" y="105"/>
                    </a:lnTo>
                    <a:lnTo>
                      <a:pt x="48" y="84"/>
                    </a:lnTo>
                    <a:lnTo>
                      <a:pt x="36" y="42"/>
                    </a:lnTo>
                    <a:lnTo>
                      <a:pt x="24" y="0"/>
                    </a:lnTo>
                    <a:lnTo>
                      <a:pt x="0" y="6"/>
                    </a:lnTo>
                    <a:lnTo>
                      <a:pt x="13" y="49"/>
                    </a:lnTo>
                    <a:lnTo>
                      <a:pt x="25" y="90"/>
                    </a:lnTo>
                    <a:lnTo>
                      <a:pt x="31" y="112"/>
                    </a:lnTo>
                    <a:lnTo>
                      <a:pt x="36" y="133"/>
                    </a:lnTo>
                    <a:lnTo>
                      <a:pt x="40" y="154"/>
                    </a:lnTo>
                    <a:lnTo>
                      <a:pt x="44" y="177"/>
                    </a:lnTo>
                    <a:lnTo>
                      <a:pt x="46" y="200"/>
                    </a:lnTo>
                    <a:lnTo>
                      <a:pt x="46" y="225"/>
                    </a:lnTo>
                    <a:lnTo>
                      <a:pt x="45" y="251"/>
                    </a:lnTo>
                    <a:lnTo>
                      <a:pt x="41" y="278"/>
                    </a:lnTo>
                    <a:lnTo>
                      <a:pt x="34" y="308"/>
                    </a:lnTo>
                    <a:lnTo>
                      <a:pt x="27" y="341"/>
                    </a:lnTo>
                    <a:lnTo>
                      <a:pt x="15" y="375"/>
                    </a:lnTo>
                    <a:lnTo>
                      <a:pt x="1" y="413"/>
                    </a:lnTo>
                    <a:lnTo>
                      <a:pt x="22" y="424"/>
                    </a:lnTo>
                    <a:lnTo>
                      <a:pt x="1" y="413"/>
                    </a:lnTo>
                    <a:lnTo>
                      <a:pt x="0" y="418"/>
                    </a:lnTo>
                    <a:lnTo>
                      <a:pt x="1" y="422"/>
                    </a:lnTo>
                    <a:lnTo>
                      <a:pt x="4" y="426"/>
                    </a:lnTo>
                    <a:lnTo>
                      <a:pt x="7" y="429"/>
                    </a:lnTo>
                    <a:lnTo>
                      <a:pt x="12" y="429"/>
                    </a:lnTo>
                    <a:lnTo>
                      <a:pt x="16" y="429"/>
                    </a:lnTo>
                    <a:lnTo>
                      <a:pt x="21" y="427"/>
                    </a:lnTo>
                    <a:lnTo>
                      <a:pt x="23" y="422"/>
                    </a:lnTo>
                    <a:lnTo>
                      <a:pt x="3" y="4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786120" y="4164120"/>
                <a:ext cx="349200" cy="208080"/>
              </a:xfrm>
              <a:custGeom>
                <a:avLst/>
                <a:gdLst/>
                <a:ahLst/>
                <a:rect l="l" t="t" r="r" b="b"/>
                <a:pathLst>
                  <a:path w="1101" h="655">
                    <a:moveTo>
                      <a:pt x="702" y="425"/>
                    </a:moveTo>
                    <a:lnTo>
                      <a:pt x="1101" y="353"/>
                    </a:lnTo>
                    <a:lnTo>
                      <a:pt x="1101" y="264"/>
                    </a:lnTo>
                    <a:lnTo>
                      <a:pt x="702" y="264"/>
                    </a:lnTo>
                    <a:lnTo>
                      <a:pt x="724" y="253"/>
                    </a:lnTo>
                    <a:lnTo>
                      <a:pt x="746" y="240"/>
                    </a:lnTo>
                    <a:lnTo>
                      <a:pt x="765" y="228"/>
                    </a:lnTo>
                    <a:lnTo>
                      <a:pt x="783" y="214"/>
                    </a:lnTo>
                    <a:lnTo>
                      <a:pt x="802" y="199"/>
                    </a:lnTo>
                    <a:lnTo>
                      <a:pt x="819" y="184"/>
                    </a:lnTo>
                    <a:lnTo>
                      <a:pt x="835" y="169"/>
                    </a:lnTo>
                    <a:lnTo>
                      <a:pt x="850" y="153"/>
                    </a:lnTo>
                    <a:lnTo>
                      <a:pt x="863" y="135"/>
                    </a:lnTo>
                    <a:lnTo>
                      <a:pt x="877" y="118"/>
                    </a:lnTo>
                    <a:lnTo>
                      <a:pt x="889" y="100"/>
                    </a:lnTo>
                    <a:lnTo>
                      <a:pt x="901" y="82"/>
                    </a:lnTo>
                    <a:lnTo>
                      <a:pt x="911" y="61"/>
                    </a:lnTo>
                    <a:lnTo>
                      <a:pt x="921" y="42"/>
                    </a:lnTo>
                    <a:lnTo>
                      <a:pt x="932" y="21"/>
                    </a:lnTo>
                    <a:lnTo>
                      <a:pt x="940" y="0"/>
                    </a:lnTo>
                    <a:lnTo>
                      <a:pt x="922" y="0"/>
                    </a:lnTo>
                    <a:lnTo>
                      <a:pt x="904" y="1"/>
                    </a:lnTo>
                    <a:lnTo>
                      <a:pt x="887" y="3"/>
                    </a:lnTo>
                    <a:lnTo>
                      <a:pt x="871" y="7"/>
                    </a:lnTo>
                    <a:lnTo>
                      <a:pt x="854" y="10"/>
                    </a:lnTo>
                    <a:lnTo>
                      <a:pt x="838" y="16"/>
                    </a:lnTo>
                    <a:lnTo>
                      <a:pt x="822" y="20"/>
                    </a:lnTo>
                    <a:lnTo>
                      <a:pt x="807" y="27"/>
                    </a:lnTo>
                    <a:lnTo>
                      <a:pt x="793" y="34"/>
                    </a:lnTo>
                    <a:lnTo>
                      <a:pt x="778" y="41"/>
                    </a:lnTo>
                    <a:lnTo>
                      <a:pt x="763" y="49"/>
                    </a:lnTo>
                    <a:lnTo>
                      <a:pt x="749" y="58"/>
                    </a:lnTo>
                    <a:lnTo>
                      <a:pt x="722" y="76"/>
                    </a:lnTo>
                    <a:lnTo>
                      <a:pt x="696" y="97"/>
                    </a:lnTo>
                    <a:lnTo>
                      <a:pt x="671" y="118"/>
                    </a:lnTo>
                    <a:lnTo>
                      <a:pt x="647" y="142"/>
                    </a:lnTo>
                    <a:lnTo>
                      <a:pt x="625" y="166"/>
                    </a:lnTo>
                    <a:lnTo>
                      <a:pt x="603" y="191"/>
                    </a:lnTo>
                    <a:lnTo>
                      <a:pt x="583" y="218"/>
                    </a:lnTo>
                    <a:lnTo>
                      <a:pt x="563" y="243"/>
                    </a:lnTo>
                    <a:lnTo>
                      <a:pt x="545" y="269"/>
                    </a:lnTo>
                    <a:lnTo>
                      <a:pt x="528" y="294"/>
                    </a:lnTo>
                    <a:lnTo>
                      <a:pt x="509" y="284"/>
                    </a:lnTo>
                    <a:lnTo>
                      <a:pt x="486" y="269"/>
                    </a:lnTo>
                    <a:lnTo>
                      <a:pt x="461" y="251"/>
                    </a:lnTo>
                    <a:lnTo>
                      <a:pt x="431" y="231"/>
                    </a:lnTo>
                    <a:lnTo>
                      <a:pt x="400" y="210"/>
                    </a:lnTo>
                    <a:lnTo>
                      <a:pt x="367" y="188"/>
                    </a:lnTo>
                    <a:lnTo>
                      <a:pt x="332" y="166"/>
                    </a:lnTo>
                    <a:lnTo>
                      <a:pt x="297" y="146"/>
                    </a:lnTo>
                    <a:lnTo>
                      <a:pt x="279" y="137"/>
                    </a:lnTo>
                    <a:lnTo>
                      <a:pt x="261" y="129"/>
                    </a:lnTo>
                    <a:lnTo>
                      <a:pt x="243" y="121"/>
                    </a:lnTo>
                    <a:lnTo>
                      <a:pt x="225" y="113"/>
                    </a:lnTo>
                    <a:lnTo>
                      <a:pt x="208" y="107"/>
                    </a:lnTo>
                    <a:lnTo>
                      <a:pt x="191" y="101"/>
                    </a:lnTo>
                    <a:lnTo>
                      <a:pt x="174" y="98"/>
                    </a:lnTo>
                    <a:lnTo>
                      <a:pt x="157" y="94"/>
                    </a:lnTo>
                    <a:lnTo>
                      <a:pt x="141" y="93"/>
                    </a:lnTo>
                    <a:lnTo>
                      <a:pt x="125" y="93"/>
                    </a:lnTo>
                    <a:lnTo>
                      <a:pt x="109" y="96"/>
                    </a:lnTo>
                    <a:lnTo>
                      <a:pt x="94" y="99"/>
                    </a:lnTo>
                    <a:lnTo>
                      <a:pt x="80" y="104"/>
                    </a:lnTo>
                    <a:lnTo>
                      <a:pt x="67" y="110"/>
                    </a:lnTo>
                    <a:lnTo>
                      <a:pt x="54" y="119"/>
                    </a:lnTo>
                    <a:lnTo>
                      <a:pt x="43" y="131"/>
                    </a:lnTo>
                    <a:lnTo>
                      <a:pt x="26" y="154"/>
                    </a:lnTo>
                    <a:lnTo>
                      <a:pt x="13" y="175"/>
                    </a:lnTo>
                    <a:lnTo>
                      <a:pt x="5" y="195"/>
                    </a:lnTo>
                    <a:lnTo>
                      <a:pt x="2" y="213"/>
                    </a:lnTo>
                    <a:lnTo>
                      <a:pt x="0" y="230"/>
                    </a:lnTo>
                    <a:lnTo>
                      <a:pt x="3" y="245"/>
                    </a:lnTo>
                    <a:lnTo>
                      <a:pt x="8" y="260"/>
                    </a:lnTo>
                    <a:lnTo>
                      <a:pt x="18" y="272"/>
                    </a:lnTo>
                    <a:lnTo>
                      <a:pt x="28" y="285"/>
                    </a:lnTo>
                    <a:lnTo>
                      <a:pt x="41" y="296"/>
                    </a:lnTo>
                    <a:lnTo>
                      <a:pt x="56" y="305"/>
                    </a:lnTo>
                    <a:lnTo>
                      <a:pt x="72" y="314"/>
                    </a:lnTo>
                    <a:lnTo>
                      <a:pt x="90" y="324"/>
                    </a:lnTo>
                    <a:lnTo>
                      <a:pt x="109" y="330"/>
                    </a:lnTo>
                    <a:lnTo>
                      <a:pt x="128" y="337"/>
                    </a:lnTo>
                    <a:lnTo>
                      <a:pt x="147" y="344"/>
                    </a:lnTo>
                    <a:lnTo>
                      <a:pt x="224" y="363"/>
                    </a:lnTo>
                    <a:lnTo>
                      <a:pt x="281" y="379"/>
                    </a:lnTo>
                    <a:lnTo>
                      <a:pt x="290" y="383"/>
                    </a:lnTo>
                    <a:lnTo>
                      <a:pt x="297" y="386"/>
                    </a:lnTo>
                    <a:lnTo>
                      <a:pt x="300" y="391"/>
                    </a:lnTo>
                    <a:lnTo>
                      <a:pt x="300" y="394"/>
                    </a:lnTo>
                    <a:lnTo>
                      <a:pt x="297" y="399"/>
                    </a:lnTo>
                    <a:lnTo>
                      <a:pt x="290" y="403"/>
                    </a:lnTo>
                    <a:lnTo>
                      <a:pt x="279" y="408"/>
                    </a:lnTo>
                    <a:lnTo>
                      <a:pt x="263" y="414"/>
                    </a:lnTo>
                    <a:lnTo>
                      <a:pt x="238" y="424"/>
                    </a:lnTo>
                    <a:lnTo>
                      <a:pt x="218" y="435"/>
                    </a:lnTo>
                    <a:lnTo>
                      <a:pt x="203" y="447"/>
                    </a:lnTo>
                    <a:lnTo>
                      <a:pt x="193" y="460"/>
                    </a:lnTo>
                    <a:lnTo>
                      <a:pt x="187" y="474"/>
                    </a:lnTo>
                    <a:lnTo>
                      <a:pt x="186" y="488"/>
                    </a:lnTo>
                    <a:lnTo>
                      <a:pt x="189" y="503"/>
                    </a:lnTo>
                    <a:lnTo>
                      <a:pt x="194" y="517"/>
                    </a:lnTo>
                    <a:lnTo>
                      <a:pt x="203" y="532"/>
                    </a:lnTo>
                    <a:lnTo>
                      <a:pt x="216" y="547"/>
                    </a:lnTo>
                    <a:lnTo>
                      <a:pt x="231" y="562"/>
                    </a:lnTo>
                    <a:lnTo>
                      <a:pt x="249" y="575"/>
                    </a:lnTo>
                    <a:lnTo>
                      <a:pt x="268" y="589"/>
                    </a:lnTo>
                    <a:lnTo>
                      <a:pt x="290" y="602"/>
                    </a:lnTo>
                    <a:lnTo>
                      <a:pt x="314" y="613"/>
                    </a:lnTo>
                    <a:lnTo>
                      <a:pt x="339" y="623"/>
                    </a:lnTo>
                    <a:lnTo>
                      <a:pt x="365" y="632"/>
                    </a:lnTo>
                    <a:lnTo>
                      <a:pt x="393" y="640"/>
                    </a:lnTo>
                    <a:lnTo>
                      <a:pt x="421" y="647"/>
                    </a:lnTo>
                    <a:lnTo>
                      <a:pt x="449" y="652"/>
                    </a:lnTo>
                    <a:lnTo>
                      <a:pt x="479" y="654"/>
                    </a:lnTo>
                    <a:lnTo>
                      <a:pt x="508" y="655"/>
                    </a:lnTo>
                    <a:lnTo>
                      <a:pt x="536" y="654"/>
                    </a:lnTo>
                    <a:lnTo>
                      <a:pt x="563" y="650"/>
                    </a:lnTo>
                    <a:lnTo>
                      <a:pt x="591" y="644"/>
                    </a:lnTo>
                    <a:lnTo>
                      <a:pt x="616" y="635"/>
                    </a:lnTo>
                    <a:lnTo>
                      <a:pt x="641" y="622"/>
                    </a:lnTo>
                    <a:lnTo>
                      <a:pt x="664" y="607"/>
                    </a:lnTo>
                    <a:lnTo>
                      <a:pt x="684" y="589"/>
                    </a:lnTo>
                    <a:lnTo>
                      <a:pt x="704" y="568"/>
                    </a:lnTo>
                    <a:lnTo>
                      <a:pt x="720" y="542"/>
                    </a:lnTo>
                    <a:lnTo>
                      <a:pt x="734" y="514"/>
                    </a:lnTo>
                    <a:lnTo>
                      <a:pt x="739" y="496"/>
                    </a:lnTo>
                    <a:lnTo>
                      <a:pt x="742" y="483"/>
                    </a:lnTo>
                    <a:lnTo>
                      <a:pt x="746" y="474"/>
                    </a:lnTo>
                    <a:lnTo>
                      <a:pt x="750" y="467"/>
                    </a:lnTo>
                    <a:lnTo>
                      <a:pt x="755" y="463"/>
                    </a:lnTo>
                    <a:lnTo>
                      <a:pt x="761" y="457"/>
                    </a:lnTo>
                    <a:lnTo>
                      <a:pt x="769" y="450"/>
                    </a:lnTo>
                    <a:lnTo>
                      <a:pt x="779" y="441"/>
                    </a:lnTo>
                    <a:lnTo>
                      <a:pt x="702" y="425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008600" y="4272120"/>
                <a:ext cx="131760" cy="30240"/>
              </a:xfrm>
              <a:custGeom>
                <a:avLst/>
                <a:gdLst/>
                <a:ahLst/>
                <a:rect l="l" t="t" r="r" b="b"/>
                <a:pathLst>
                  <a:path w="413" h="97">
                    <a:moveTo>
                      <a:pt x="413" y="12"/>
                    </a:moveTo>
                    <a:lnTo>
                      <a:pt x="399" y="0"/>
                    </a:lnTo>
                    <a:lnTo>
                      <a:pt x="0" y="73"/>
                    </a:lnTo>
                    <a:lnTo>
                      <a:pt x="5" y="97"/>
                    </a:lnTo>
                    <a:lnTo>
                      <a:pt x="404" y="24"/>
                    </a:lnTo>
                    <a:lnTo>
                      <a:pt x="413" y="12"/>
                    </a:lnTo>
                    <a:lnTo>
                      <a:pt x="404" y="24"/>
                    </a:lnTo>
                    <a:lnTo>
                      <a:pt x="408" y="21"/>
                    </a:lnTo>
                    <a:lnTo>
                      <a:pt x="412" y="18"/>
                    </a:lnTo>
                    <a:lnTo>
                      <a:pt x="413" y="14"/>
                    </a:lnTo>
                    <a:lnTo>
                      <a:pt x="413" y="10"/>
                    </a:lnTo>
                    <a:lnTo>
                      <a:pt x="412" y="5"/>
                    </a:lnTo>
                    <a:lnTo>
                      <a:pt x="408" y="2"/>
                    </a:lnTo>
                    <a:lnTo>
                      <a:pt x="405" y="0"/>
                    </a:lnTo>
                    <a:lnTo>
                      <a:pt x="399" y="0"/>
                    </a:lnTo>
                    <a:lnTo>
                      <a:pt x="413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32440" y="42436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12" y="0"/>
                    </a:moveTo>
                    <a:lnTo>
                      <a:pt x="0" y="11"/>
                    </a:lnTo>
                    <a:lnTo>
                      <a:pt x="0" y="100"/>
                    </a:lnTo>
                    <a:lnTo>
                      <a:pt x="24" y="100"/>
                    </a:lnTo>
                    <a:lnTo>
                      <a:pt x="24" y="11"/>
                    </a:lnTo>
                    <a:lnTo>
                      <a:pt x="12" y="0"/>
                    </a:lnTo>
                    <a:lnTo>
                      <a:pt x="24" y="11"/>
                    </a:lnTo>
                    <a:lnTo>
                      <a:pt x="23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005360" y="4243680"/>
                <a:ext cx="129960" cy="7920"/>
              </a:xfrm>
              <a:custGeom>
                <a:avLst/>
                <a:gdLst/>
                <a:ahLst/>
                <a:rect l="l" t="t" r="r" b="b"/>
                <a:pathLst>
                  <a:path w="410" h="24">
                    <a:moveTo>
                      <a:pt x="6" y="1"/>
                    </a:moveTo>
                    <a:lnTo>
                      <a:pt x="11" y="24"/>
                    </a:lnTo>
                    <a:lnTo>
                      <a:pt x="410" y="24"/>
                    </a:lnTo>
                    <a:lnTo>
                      <a:pt x="410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008600" y="4159440"/>
                <a:ext cx="80640" cy="92160"/>
              </a:xfrm>
              <a:custGeom>
                <a:avLst/>
                <a:gdLst/>
                <a:ahLst/>
                <a:rect l="l" t="t" r="r" b="b"/>
                <a:pathLst>
                  <a:path w="255" h="289">
                    <a:moveTo>
                      <a:pt x="243" y="24"/>
                    </a:moveTo>
                    <a:lnTo>
                      <a:pt x="231" y="8"/>
                    </a:lnTo>
                    <a:lnTo>
                      <a:pt x="223" y="29"/>
                    </a:lnTo>
                    <a:lnTo>
                      <a:pt x="214" y="49"/>
                    </a:lnTo>
                    <a:lnTo>
                      <a:pt x="204" y="69"/>
                    </a:lnTo>
                    <a:lnTo>
                      <a:pt x="194" y="88"/>
                    </a:lnTo>
                    <a:lnTo>
                      <a:pt x="182" y="106"/>
                    </a:lnTo>
                    <a:lnTo>
                      <a:pt x="170" y="125"/>
                    </a:lnTo>
                    <a:lnTo>
                      <a:pt x="157" y="142"/>
                    </a:lnTo>
                    <a:lnTo>
                      <a:pt x="143" y="158"/>
                    </a:lnTo>
                    <a:lnTo>
                      <a:pt x="129" y="174"/>
                    </a:lnTo>
                    <a:lnTo>
                      <a:pt x="113" y="188"/>
                    </a:lnTo>
                    <a:lnTo>
                      <a:pt x="97" y="203"/>
                    </a:lnTo>
                    <a:lnTo>
                      <a:pt x="80" y="217"/>
                    </a:lnTo>
                    <a:lnTo>
                      <a:pt x="61" y="231"/>
                    </a:lnTo>
                    <a:lnTo>
                      <a:pt x="42" y="243"/>
                    </a:lnTo>
                    <a:lnTo>
                      <a:pt x="21" y="256"/>
                    </a:lnTo>
                    <a:lnTo>
                      <a:pt x="0" y="267"/>
                    </a:lnTo>
                    <a:lnTo>
                      <a:pt x="11" y="289"/>
                    </a:lnTo>
                    <a:lnTo>
                      <a:pt x="34" y="276"/>
                    </a:lnTo>
                    <a:lnTo>
                      <a:pt x="55" y="264"/>
                    </a:lnTo>
                    <a:lnTo>
                      <a:pt x="75" y="250"/>
                    </a:lnTo>
                    <a:lnTo>
                      <a:pt x="94" y="236"/>
                    </a:lnTo>
                    <a:lnTo>
                      <a:pt x="113" y="221"/>
                    </a:lnTo>
                    <a:lnTo>
                      <a:pt x="130" y="207"/>
                    </a:lnTo>
                    <a:lnTo>
                      <a:pt x="146" y="191"/>
                    </a:lnTo>
                    <a:lnTo>
                      <a:pt x="162" y="174"/>
                    </a:lnTo>
                    <a:lnTo>
                      <a:pt x="175" y="156"/>
                    </a:lnTo>
                    <a:lnTo>
                      <a:pt x="189" y="138"/>
                    </a:lnTo>
                    <a:lnTo>
                      <a:pt x="203" y="120"/>
                    </a:lnTo>
                    <a:lnTo>
                      <a:pt x="214" y="101"/>
                    </a:lnTo>
                    <a:lnTo>
                      <a:pt x="225" y="80"/>
                    </a:lnTo>
                    <a:lnTo>
                      <a:pt x="236" y="60"/>
                    </a:lnTo>
                    <a:lnTo>
                      <a:pt x="245" y="39"/>
                    </a:lnTo>
                    <a:lnTo>
                      <a:pt x="254" y="17"/>
                    </a:lnTo>
                    <a:lnTo>
                      <a:pt x="243" y="0"/>
                    </a:lnTo>
                    <a:lnTo>
                      <a:pt x="254" y="17"/>
                    </a:lnTo>
                    <a:lnTo>
                      <a:pt x="255" y="12"/>
                    </a:lnTo>
                    <a:lnTo>
                      <a:pt x="254" y="7"/>
                    </a:lnTo>
                    <a:lnTo>
                      <a:pt x="252" y="4"/>
                    </a:lnTo>
                    <a:lnTo>
                      <a:pt x="247" y="1"/>
                    </a:lnTo>
                    <a:lnTo>
                      <a:pt x="243" y="0"/>
                    </a:lnTo>
                    <a:lnTo>
                      <a:pt x="238" y="1"/>
                    </a:lnTo>
                    <a:lnTo>
                      <a:pt x="235" y="4"/>
                    </a:lnTo>
                    <a:lnTo>
                      <a:pt x="231" y="8"/>
                    </a:lnTo>
                    <a:lnTo>
                      <a:pt x="24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49560" y="4159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424" h="319">
                    <a:moveTo>
                      <a:pt x="6" y="317"/>
                    </a:moveTo>
                    <a:lnTo>
                      <a:pt x="22" y="314"/>
                    </a:lnTo>
                    <a:lnTo>
                      <a:pt x="39" y="289"/>
                    </a:lnTo>
                    <a:lnTo>
                      <a:pt x="58" y="264"/>
                    </a:lnTo>
                    <a:lnTo>
                      <a:pt x="76" y="237"/>
                    </a:lnTo>
                    <a:lnTo>
                      <a:pt x="96" y="212"/>
                    </a:lnTo>
                    <a:lnTo>
                      <a:pt x="118" y="187"/>
                    </a:lnTo>
                    <a:lnTo>
                      <a:pt x="140" y="163"/>
                    </a:lnTo>
                    <a:lnTo>
                      <a:pt x="163" y="140"/>
                    </a:lnTo>
                    <a:lnTo>
                      <a:pt x="188" y="119"/>
                    </a:lnTo>
                    <a:lnTo>
                      <a:pt x="213" y="99"/>
                    </a:lnTo>
                    <a:lnTo>
                      <a:pt x="239" y="80"/>
                    </a:lnTo>
                    <a:lnTo>
                      <a:pt x="253" y="72"/>
                    </a:lnTo>
                    <a:lnTo>
                      <a:pt x="267" y="64"/>
                    </a:lnTo>
                    <a:lnTo>
                      <a:pt x="281" y="57"/>
                    </a:lnTo>
                    <a:lnTo>
                      <a:pt x="296" y="50"/>
                    </a:lnTo>
                    <a:lnTo>
                      <a:pt x="311" y="45"/>
                    </a:lnTo>
                    <a:lnTo>
                      <a:pt x="326" y="40"/>
                    </a:lnTo>
                    <a:lnTo>
                      <a:pt x="341" y="36"/>
                    </a:lnTo>
                    <a:lnTo>
                      <a:pt x="357" y="31"/>
                    </a:lnTo>
                    <a:lnTo>
                      <a:pt x="373" y="29"/>
                    </a:lnTo>
                    <a:lnTo>
                      <a:pt x="389" y="26"/>
                    </a:lnTo>
                    <a:lnTo>
                      <a:pt x="406" y="25"/>
                    </a:lnTo>
                    <a:lnTo>
                      <a:pt x="424" y="24"/>
                    </a:lnTo>
                    <a:lnTo>
                      <a:pt x="424" y="0"/>
                    </a:lnTo>
                    <a:lnTo>
                      <a:pt x="405" y="1"/>
                    </a:lnTo>
                    <a:lnTo>
                      <a:pt x="387" y="3"/>
                    </a:lnTo>
                    <a:lnTo>
                      <a:pt x="370" y="5"/>
                    </a:lnTo>
                    <a:lnTo>
                      <a:pt x="352" y="8"/>
                    </a:lnTo>
                    <a:lnTo>
                      <a:pt x="335" y="12"/>
                    </a:lnTo>
                    <a:lnTo>
                      <a:pt x="319" y="16"/>
                    </a:lnTo>
                    <a:lnTo>
                      <a:pt x="303" y="22"/>
                    </a:lnTo>
                    <a:lnTo>
                      <a:pt x="287" y="29"/>
                    </a:lnTo>
                    <a:lnTo>
                      <a:pt x="271" y="36"/>
                    </a:lnTo>
                    <a:lnTo>
                      <a:pt x="256" y="44"/>
                    </a:lnTo>
                    <a:lnTo>
                      <a:pt x="241" y="52"/>
                    </a:lnTo>
                    <a:lnTo>
                      <a:pt x="226" y="61"/>
                    </a:lnTo>
                    <a:lnTo>
                      <a:pt x="198" y="79"/>
                    </a:lnTo>
                    <a:lnTo>
                      <a:pt x="172" y="101"/>
                    </a:lnTo>
                    <a:lnTo>
                      <a:pt x="147" y="123"/>
                    </a:lnTo>
                    <a:lnTo>
                      <a:pt x="123" y="147"/>
                    </a:lnTo>
                    <a:lnTo>
                      <a:pt x="100" y="171"/>
                    </a:lnTo>
                    <a:lnTo>
                      <a:pt x="78" y="197"/>
                    </a:lnTo>
                    <a:lnTo>
                      <a:pt x="58" y="223"/>
                    </a:lnTo>
                    <a:lnTo>
                      <a:pt x="37" y="249"/>
                    </a:lnTo>
                    <a:lnTo>
                      <a:pt x="19" y="275"/>
                    </a:lnTo>
                    <a:lnTo>
                      <a:pt x="2" y="300"/>
                    </a:lnTo>
                    <a:lnTo>
                      <a:pt x="18" y="297"/>
                    </a:lnTo>
                    <a:lnTo>
                      <a:pt x="2" y="300"/>
                    </a:lnTo>
                    <a:lnTo>
                      <a:pt x="0" y="305"/>
                    </a:lnTo>
                    <a:lnTo>
                      <a:pt x="0" y="310"/>
                    </a:lnTo>
                    <a:lnTo>
                      <a:pt x="2" y="314"/>
                    </a:lnTo>
                    <a:lnTo>
                      <a:pt x="5" y="317"/>
                    </a:lnTo>
                    <a:lnTo>
                      <a:pt x="9" y="318"/>
                    </a:lnTo>
                    <a:lnTo>
                      <a:pt x="13" y="319"/>
                    </a:lnTo>
                    <a:lnTo>
                      <a:pt x="18" y="317"/>
                    </a:lnTo>
                    <a:lnTo>
                      <a:pt x="22" y="314"/>
                    </a:lnTo>
                    <a:lnTo>
                      <a:pt x="6" y="3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797280" y="41896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3">
                    <a:moveTo>
                      <a:pt x="18" y="58"/>
                    </a:moveTo>
                    <a:lnTo>
                      <a:pt x="18" y="58"/>
                    </a:lnTo>
                    <a:lnTo>
                      <a:pt x="28" y="48"/>
                    </a:lnTo>
                    <a:lnTo>
                      <a:pt x="39" y="40"/>
                    </a:lnTo>
                    <a:lnTo>
                      <a:pt x="51" y="34"/>
                    </a:lnTo>
                    <a:lnTo>
                      <a:pt x="63" y="29"/>
                    </a:lnTo>
                    <a:lnTo>
                      <a:pt x="77" y="26"/>
                    </a:lnTo>
                    <a:lnTo>
                      <a:pt x="91" y="25"/>
                    </a:lnTo>
                    <a:lnTo>
                      <a:pt x="105" y="25"/>
                    </a:lnTo>
                    <a:lnTo>
                      <a:pt x="121" y="26"/>
                    </a:lnTo>
                    <a:lnTo>
                      <a:pt x="137" y="28"/>
                    </a:lnTo>
                    <a:lnTo>
                      <a:pt x="153" y="32"/>
                    </a:lnTo>
                    <a:lnTo>
                      <a:pt x="170" y="37"/>
                    </a:lnTo>
                    <a:lnTo>
                      <a:pt x="188" y="43"/>
                    </a:lnTo>
                    <a:lnTo>
                      <a:pt x="205" y="50"/>
                    </a:lnTo>
                    <a:lnTo>
                      <a:pt x="222" y="58"/>
                    </a:lnTo>
                    <a:lnTo>
                      <a:pt x="240" y="67"/>
                    </a:lnTo>
                    <a:lnTo>
                      <a:pt x="257" y="76"/>
                    </a:lnTo>
                    <a:lnTo>
                      <a:pt x="292" y="95"/>
                    </a:lnTo>
                    <a:lnTo>
                      <a:pt x="327" y="117"/>
                    </a:lnTo>
                    <a:lnTo>
                      <a:pt x="360" y="139"/>
                    </a:lnTo>
                    <a:lnTo>
                      <a:pt x="390" y="160"/>
                    </a:lnTo>
                    <a:lnTo>
                      <a:pt x="420" y="180"/>
                    </a:lnTo>
                    <a:lnTo>
                      <a:pt x="446" y="198"/>
                    </a:lnTo>
                    <a:lnTo>
                      <a:pt x="469" y="213"/>
                    </a:lnTo>
                    <a:lnTo>
                      <a:pt x="488" y="223"/>
                    </a:lnTo>
                    <a:lnTo>
                      <a:pt x="500" y="203"/>
                    </a:lnTo>
                    <a:lnTo>
                      <a:pt x="482" y="192"/>
                    </a:lnTo>
                    <a:lnTo>
                      <a:pt x="459" y="178"/>
                    </a:lnTo>
                    <a:lnTo>
                      <a:pt x="434" y="160"/>
                    </a:lnTo>
                    <a:lnTo>
                      <a:pt x="404" y="140"/>
                    </a:lnTo>
                    <a:lnTo>
                      <a:pt x="373" y="118"/>
                    </a:lnTo>
                    <a:lnTo>
                      <a:pt x="339" y="97"/>
                    </a:lnTo>
                    <a:lnTo>
                      <a:pt x="305" y="75"/>
                    </a:lnTo>
                    <a:lnTo>
                      <a:pt x="268" y="54"/>
                    </a:lnTo>
                    <a:lnTo>
                      <a:pt x="250" y="45"/>
                    </a:lnTo>
                    <a:lnTo>
                      <a:pt x="232" y="36"/>
                    </a:lnTo>
                    <a:lnTo>
                      <a:pt x="214" y="28"/>
                    </a:lnTo>
                    <a:lnTo>
                      <a:pt x="196" y="20"/>
                    </a:lnTo>
                    <a:lnTo>
                      <a:pt x="177" y="15"/>
                    </a:lnTo>
                    <a:lnTo>
                      <a:pt x="159" y="9"/>
                    </a:lnTo>
                    <a:lnTo>
                      <a:pt x="142" y="4"/>
                    </a:lnTo>
                    <a:lnTo>
                      <a:pt x="124" y="2"/>
                    </a:lnTo>
                    <a:lnTo>
                      <a:pt x="107" y="0"/>
                    </a:lnTo>
                    <a:lnTo>
                      <a:pt x="90" y="1"/>
                    </a:lnTo>
                    <a:lnTo>
                      <a:pt x="74" y="2"/>
                    </a:lnTo>
                    <a:lnTo>
                      <a:pt x="56" y="5"/>
                    </a:lnTo>
                    <a:lnTo>
                      <a:pt x="42" y="11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782880" y="420228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325" h="302">
                    <a:moveTo>
                      <a:pt x="279" y="302"/>
                    </a:moveTo>
                    <a:lnTo>
                      <a:pt x="278" y="302"/>
                    </a:lnTo>
                    <a:lnTo>
                      <a:pt x="295" y="296"/>
                    </a:lnTo>
                    <a:lnTo>
                      <a:pt x="308" y="291"/>
                    </a:lnTo>
                    <a:lnTo>
                      <a:pt x="317" y="285"/>
                    </a:lnTo>
                    <a:lnTo>
                      <a:pt x="322" y="277"/>
                    </a:lnTo>
                    <a:lnTo>
                      <a:pt x="325" y="268"/>
                    </a:lnTo>
                    <a:lnTo>
                      <a:pt x="322" y="262"/>
                    </a:lnTo>
                    <a:lnTo>
                      <a:pt x="319" y="258"/>
                    </a:lnTo>
                    <a:lnTo>
                      <a:pt x="314" y="253"/>
                    </a:lnTo>
                    <a:lnTo>
                      <a:pt x="306" y="248"/>
                    </a:lnTo>
                    <a:lnTo>
                      <a:pt x="296" y="244"/>
                    </a:lnTo>
                    <a:lnTo>
                      <a:pt x="238" y="229"/>
                    </a:lnTo>
                    <a:lnTo>
                      <a:pt x="163" y="209"/>
                    </a:lnTo>
                    <a:lnTo>
                      <a:pt x="144" y="203"/>
                    </a:lnTo>
                    <a:lnTo>
                      <a:pt x="125" y="196"/>
                    </a:lnTo>
                    <a:lnTo>
                      <a:pt x="107" y="189"/>
                    </a:lnTo>
                    <a:lnTo>
                      <a:pt x="90" y="181"/>
                    </a:lnTo>
                    <a:lnTo>
                      <a:pt x="74" y="172"/>
                    </a:lnTo>
                    <a:lnTo>
                      <a:pt x="60" y="163"/>
                    </a:lnTo>
                    <a:lnTo>
                      <a:pt x="49" y="153"/>
                    </a:lnTo>
                    <a:lnTo>
                      <a:pt x="39" y="142"/>
                    </a:lnTo>
                    <a:lnTo>
                      <a:pt x="35" y="137"/>
                    </a:lnTo>
                    <a:lnTo>
                      <a:pt x="32" y="131"/>
                    </a:lnTo>
                    <a:lnTo>
                      <a:pt x="28" y="125"/>
                    </a:lnTo>
                    <a:lnTo>
                      <a:pt x="27" y="118"/>
                    </a:lnTo>
                    <a:lnTo>
                      <a:pt x="25" y="113"/>
                    </a:lnTo>
                    <a:lnTo>
                      <a:pt x="25" y="106"/>
                    </a:lnTo>
                    <a:lnTo>
                      <a:pt x="24" y="99"/>
                    </a:lnTo>
                    <a:lnTo>
                      <a:pt x="25" y="91"/>
                    </a:lnTo>
                    <a:lnTo>
                      <a:pt x="26" y="83"/>
                    </a:lnTo>
                    <a:lnTo>
                      <a:pt x="28" y="75"/>
                    </a:lnTo>
                    <a:lnTo>
                      <a:pt x="32" y="67"/>
                    </a:lnTo>
                    <a:lnTo>
                      <a:pt x="36" y="57"/>
                    </a:lnTo>
                    <a:lnTo>
                      <a:pt x="42" y="48"/>
                    </a:lnTo>
                    <a:lnTo>
                      <a:pt x="48" y="38"/>
                    </a:lnTo>
                    <a:lnTo>
                      <a:pt x="56" y="27"/>
                    </a:lnTo>
                    <a:lnTo>
                      <a:pt x="64" y="16"/>
                    </a:lnTo>
                    <a:lnTo>
                      <a:pt x="46" y="0"/>
                    </a:lnTo>
                    <a:lnTo>
                      <a:pt x="36" y="12"/>
                    </a:lnTo>
                    <a:lnTo>
                      <a:pt x="28" y="24"/>
                    </a:lnTo>
                    <a:lnTo>
                      <a:pt x="20" y="35"/>
                    </a:lnTo>
                    <a:lnTo>
                      <a:pt x="15" y="47"/>
                    </a:lnTo>
                    <a:lnTo>
                      <a:pt x="10" y="57"/>
                    </a:lnTo>
                    <a:lnTo>
                      <a:pt x="6" y="68"/>
                    </a:lnTo>
                    <a:lnTo>
                      <a:pt x="3" y="79"/>
                    </a:lnTo>
                    <a:lnTo>
                      <a:pt x="1" y="88"/>
                    </a:lnTo>
                    <a:lnTo>
                      <a:pt x="0" y="98"/>
                    </a:lnTo>
                    <a:lnTo>
                      <a:pt x="0" y="107"/>
                    </a:lnTo>
                    <a:lnTo>
                      <a:pt x="1" y="116"/>
                    </a:lnTo>
                    <a:lnTo>
                      <a:pt x="3" y="125"/>
                    </a:lnTo>
                    <a:lnTo>
                      <a:pt x="7" y="134"/>
                    </a:lnTo>
                    <a:lnTo>
                      <a:pt x="10" y="142"/>
                    </a:lnTo>
                    <a:lnTo>
                      <a:pt x="15" y="150"/>
                    </a:lnTo>
                    <a:lnTo>
                      <a:pt x="20" y="157"/>
                    </a:lnTo>
                    <a:lnTo>
                      <a:pt x="32" y="171"/>
                    </a:lnTo>
                    <a:lnTo>
                      <a:pt x="46" y="182"/>
                    </a:lnTo>
                    <a:lnTo>
                      <a:pt x="61" y="193"/>
                    </a:lnTo>
                    <a:lnTo>
                      <a:pt x="79" y="203"/>
                    </a:lnTo>
                    <a:lnTo>
                      <a:pt x="98" y="211"/>
                    </a:lnTo>
                    <a:lnTo>
                      <a:pt x="116" y="219"/>
                    </a:lnTo>
                    <a:lnTo>
                      <a:pt x="137" y="226"/>
                    </a:lnTo>
                    <a:lnTo>
                      <a:pt x="156" y="232"/>
                    </a:lnTo>
                    <a:lnTo>
                      <a:pt x="232" y="252"/>
                    </a:lnTo>
                    <a:lnTo>
                      <a:pt x="289" y="268"/>
                    </a:lnTo>
                    <a:lnTo>
                      <a:pt x="296" y="271"/>
                    </a:lnTo>
                    <a:lnTo>
                      <a:pt x="302" y="274"/>
                    </a:lnTo>
                    <a:lnTo>
                      <a:pt x="302" y="274"/>
                    </a:lnTo>
                    <a:lnTo>
                      <a:pt x="301" y="272"/>
                    </a:lnTo>
                    <a:lnTo>
                      <a:pt x="301" y="270"/>
                    </a:lnTo>
                    <a:lnTo>
                      <a:pt x="302" y="266"/>
                    </a:lnTo>
                    <a:lnTo>
                      <a:pt x="301" y="267"/>
                    </a:lnTo>
                    <a:lnTo>
                      <a:pt x="296" y="269"/>
                    </a:lnTo>
                    <a:lnTo>
                      <a:pt x="286" y="274"/>
                    </a:lnTo>
                    <a:lnTo>
                      <a:pt x="271" y="279"/>
                    </a:lnTo>
                    <a:lnTo>
                      <a:pt x="271" y="279"/>
                    </a:lnTo>
                    <a:lnTo>
                      <a:pt x="279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841920" y="4291200"/>
                <a:ext cx="180720" cy="84240"/>
              </a:xfrm>
              <a:custGeom>
                <a:avLst/>
                <a:gdLst/>
                <a:ahLst/>
                <a:rect l="l" t="t" r="r" b="b"/>
                <a:pathLst>
                  <a:path w="572" h="266">
                    <a:moveTo>
                      <a:pt x="548" y="110"/>
                    </a:moveTo>
                    <a:lnTo>
                      <a:pt x="549" y="107"/>
                    </a:lnTo>
                    <a:lnTo>
                      <a:pt x="542" y="121"/>
                    </a:lnTo>
                    <a:lnTo>
                      <a:pt x="535" y="135"/>
                    </a:lnTo>
                    <a:lnTo>
                      <a:pt x="528" y="147"/>
                    </a:lnTo>
                    <a:lnTo>
                      <a:pt x="521" y="159"/>
                    </a:lnTo>
                    <a:lnTo>
                      <a:pt x="511" y="169"/>
                    </a:lnTo>
                    <a:lnTo>
                      <a:pt x="502" y="178"/>
                    </a:lnTo>
                    <a:lnTo>
                      <a:pt x="493" y="187"/>
                    </a:lnTo>
                    <a:lnTo>
                      <a:pt x="483" y="195"/>
                    </a:lnTo>
                    <a:lnTo>
                      <a:pt x="472" y="203"/>
                    </a:lnTo>
                    <a:lnTo>
                      <a:pt x="461" y="210"/>
                    </a:lnTo>
                    <a:lnTo>
                      <a:pt x="450" y="216"/>
                    </a:lnTo>
                    <a:lnTo>
                      <a:pt x="437" y="221"/>
                    </a:lnTo>
                    <a:lnTo>
                      <a:pt x="426" y="226"/>
                    </a:lnTo>
                    <a:lnTo>
                      <a:pt x="413" y="229"/>
                    </a:lnTo>
                    <a:lnTo>
                      <a:pt x="401" y="233"/>
                    </a:lnTo>
                    <a:lnTo>
                      <a:pt x="387" y="236"/>
                    </a:lnTo>
                    <a:lnTo>
                      <a:pt x="375" y="238"/>
                    </a:lnTo>
                    <a:lnTo>
                      <a:pt x="361" y="240"/>
                    </a:lnTo>
                    <a:lnTo>
                      <a:pt x="347" y="241"/>
                    </a:lnTo>
                    <a:lnTo>
                      <a:pt x="334" y="241"/>
                    </a:lnTo>
                    <a:lnTo>
                      <a:pt x="305" y="241"/>
                    </a:lnTo>
                    <a:lnTo>
                      <a:pt x="278" y="237"/>
                    </a:lnTo>
                    <a:lnTo>
                      <a:pt x="249" y="233"/>
                    </a:lnTo>
                    <a:lnTo>
                      <a:pt x="222" y="227"/>
                    </a:lnTo>
                    <a:lnTo>
                      <a:pt x="196" y="219"/>
                    </a:lnTo>
                    <a:lnTo>
                      <a:pt x="169" y="210"/>
                    </a:lnTo>
                    <a:lnTo>
                      <a:pt x="146" y="200"/>
                    </a:lnTo>
                    <a:lnTo>
                      <a:pt x="122" y="188"/>
                    </a:lnTo>
                    <a:lnTo>
                      <a:pt x="101" y="177"/>
                    </a:lnTo>
                    <a:lnTo>
                      <a:pt x="82" y="163"/>
                    </a:lnTo>
                    <a:lnTo>
                      <a:pt x="65" y="151"/>
                    </a:lnTo>
                    <a:lnTo>
                      <a:pt x="51" y="136"/>
                    </a:lnTo>
                    <a:lnTo>
                      <a:pt x="44" y="130"/>
                    </a:lnTo>
                    <a:lnTo>
                      <a:pt x="40" y="123"/>
                    </a:lnTo>
                    <a:lnTo>
                      <a:pt x="35" y="116"/>
                    </a:lnTo>
                    <a:lnTo>
                      <a:pt x="32" y="110"/>
                    </a:lnTo>
                    <a:lnTo>
                      <a:pt x="28" y="104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5" y="86"/>
                    </a:lnTo>
                    <a:lnTo>
                      <a:pt x="25" y="80"/>
                    </a:lnTo>
                    <a:lnTo>
                      <a:pt x="26" y="74"/>
                    </a:lnTo>
                    <a:lnTo>
                      <a:pt x="27" y="70"/>
                    </a:lnTo>
                    <a:lnTo>
                      <a:pt x="30" y="64"/>
                    </a:lnTo>
                    <a:lnTo>
                      <a:pt x="34" y="58"/>
                    </a:lnTo>
                    <a:lnTo>
                      <a:pt x="38" y="54"/>
                    </a:lnTo>
                    <a:lnTo>
                      <a:pt x="44" y="48"/>
                    </a:lnTo>
                    <a:lnTo>
                      <a:pt x="51" y="42"/>
                    </a:lnTo>
                    <a:lnTo>
                      <a:pt x="60" y="38"/>
                    </a:lnTo>
                    <a:lnTo>
                      <a:pt x="69" y="32"/>
                    </a:lnTo>
                    <a:lnTo>
                      <a:pt x="81" y="28"/>
                    </a:lnTo>
                    <a:lnTo>
                      <a:pt x="93" y="23"/>
                    </a:lnTo>
                    <a:lnTo>
                      <a:pt x="85" y="0"/>
                    </a:lnTo>
                    <a:lnTo>
                      <a:pt x="71" y="5"/>
                    </a:lnTo>
                    <a:lnTo>
                      <a:pt x="59" y="10"/>
                    </a:lnTo>
                    <a:lnTo>
                      <a:pt x="48" y="16"/>
                    </a:lnTo>
                    <a:lnTo>
                      <a:pt x="37" y="23"/>
                    </a:lnTo>
                    <a:lnTo>
                      <a:pt x="28" y="30"/>
                    </a:lnTo>
                    <a:lnTo>
                      <a:pt x="21" y="37"/>
                    </a:lnTo>
                    <a:lnTo>
                      <a:pt x="15" y="44"/>
                    </a:lnTo>
                    <a:lnTo>
                      <a:pt x="9" y="52"/>
                    </a:lnTo>
                    <a:lnTo>
                      <a:pt x="5" y="61"/>
                    </a:lnTo>
                    <a:lnTo>
                      <a:pt x="2" y="69"/>
                    </a:lnTo>
                    <a:lnTo>
                      <a:pt x="1" y="78"/>
                    </a:lnTo>
                    <a:lnTo>
                      <a:pt x="0" y="86"/>
                    </a:lnTo>
                    <a:lnTo>
                      <a:pt x="1" y="95"/>
                    </a:lnTo>
                    <a:lnTo>
                      <a:pt x="3" y="104"/>
                    </a:lnTo>
                    <a:lnTo>
                      <a:pt x="5" y="112"/>
                    </a:lnTo>
                    <a:lnTo>
                      <a:pt x="10" y="121"/>
                    </a:lnTo>
                    <a:lnTo>
                      <a:pt x="15" y="129"/>
                    </a:lnTo>
                    <a:lnTo>
                      <a:pt x="20" y="137"/>
                    </a:lnTo>
                    <a:lnTo>
                      <a:pt x="26" y="145"/>
                    </a:lnTo>
                    <a:lnTo>
                      <a:pt x="33" y="153"/>
                    </a:lnTo>
                    <a:lnTo>
                      <a:pt x="49" y="169"/>
                    </a:lnTo>
                    <a:lnTo>
                      <a:pt x="67" y="183"/>
                    </a:lnTo>
                    <a:lnTo>
                      <a:pt x="89" y="197"/>
                    </a:lnTo>
                    <a:lnTo>
                      <a:pt x="110" y="210"/>
                    </a:lnTo>
                    <a:lnTo>
                      <a:pt x="135" y="223"/>
                    </a:lnTo>
                    <a:lnTo>
                      <a:pt x="160" y="233"/>
                    </a:lnTo>
                    <a:lnTo>
                      <a:pt x="188" y="242"/>
                    </a:lnTo>
                    <a:lnTo>
                      <a:pt x="216" y="251"/>
                    </a:lnTo>
                    <a:lnTo>
                      <a:pt x="245" y="257"/>
                    </a:lnTo>
                    <a:lnTo>
                      <a:pt x="274" y="261"/>
                    </a:lnTo>
                    <a:lnTo>
                      <a:pt x="304" y="265"/>
                    </a:lnTo>
                    <a:lnTo>
                      <a:pt x="334" y="266"/>
                    </a:lnTo>
                    <a:lnTo>
                      <a:pt x="348" y="265"/>
                    </a:lnTo>
                    <a:lnTo>
                      <a:pt x="363" y="264"/>
                    </a:lnTo>
                    <a:lnTo>
                      <a:pt x="377" y="262"/>
                    </a:lnTo>
                    <a:lnTo>
                      <a:pt x="392" y="260"/>
                    </a:lnTo>
                    <a:lnTo>
                      <a:pt x="405" y="257"/>
                    </a:lnTo>
                    <a:lnTo>
                      <a:pt x="420" y="253"/>
                    </a:lnTo>
                    <a:lnTo>
                      <a:pt x="434" y="249"/>
                    </a:lnTo>
                    <a:lnTo>
                      <a:pt x="448" y="243"/>
                    </a:lnTo>
                    <a:lnTo>
                      <a:pt x="460" y="237"/>
                    </a:lnTo>
                    <a:lnTo>
                      <a:pt x="473" y="230"/>
                    </a:lnTo>
                    <a:lnTo>
                      <a:pt x="485" y="224"/>
                    </a:lnTo>
                    <a:lnTo>
                      <a:pt x="497" y="215"/>
                    </a:lnTo>
                    <a:lnTo>
                      <a:pt x="508" y="205"/>
                    </a:lnTo>
                    <a:lnTo>
                      <a:pt x="519" y="195"/>
                    </a:lnTo>
                    <a:lnTo>
                      <a:pt x="530" y="185"/>
                    </a:lnTo>
                    <a:lnTo>
                      <a:pt x="539" y="173"/>
                    </a:lnTo>
                    <a:lnTo>
                      <a:pt x="548" y="160"/>
                    </a:lnTo>
                    <a:lnTo>
                      <a:pt x="557" y="146"/>
                    </a:lnTo>
                    <a:lnTo>
                      <a:pt x="564" y="132"/>
                    </a:lnTo>
                    <a:lnTo>
                      <a:pt x="571" y="116"/>
                    </a:lnTo>
                    <a:lnTo>
                      <a:pt x="572" y="114"/>
                    </a:lnTo>
                    <a:lnTo>
                      <a:pt x="548" y="1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016520" y="42991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55" y="26"/>
                    </a:moveTo>
                    <a:lnTo>
                      <a:pt x="49" y="4"/>
                    </a:lnTo>
                    <a:lnTo>
                      <a:pt x="39" y="13"/>
                    </a:lnTo>
                    <a:lnTo>
                      <a:pt x="31" y="20"/>
                    </a:lnTo>
                    <a:lnTo>
                      <a:pt x="24" y="26"/>
                    </a:lnTo>
                    <a:lnTo>
                      <a:pt x="18" y="32"/>
                    </a:lnTo>
                    <a:lnTo>
                      <a:pt x="14" y="40"/>
                    </a:lnTo>
                    <a:lnTo>
                      <a:pt x="9" y="51"/>
                    </a:lnTo>
                    <a:lnTo>
                      <a:pt x="4" y="64"/>
                    </a:lnTo>
                    <a:lnTo>
                      <a:pt x="0" y="84"/>
                    </a:lnTo>
                    <a:lnTo>
                      <a:pt x="24" y="88"/>
                    </a:lnTo>
                    <a:lnTo>
                      <a:pt x="28" y="71"/>
                    </a:lnTo>
                    <a:lnTo>
                      <a:pt x="32" y="59"/>
                    </a:lnTo>
                    <a:lnTo>
                      <a:pt x="35" y="51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7" y="38"/>
                    </a:lnTo>
                    <a:lnTo>
                      <a:pt x="55" y="31"/>
                    </a:lnTo>
                    <a:lnTo>
                      <a:pt x="65" y="22"/>
                    </a:lnTo>
                    <a:lnTo>
                      <a:pt x="59" y="2"/>
                    </a:lnTo>
                    <a:lnTo>
                      <a:pt x="65" y="22"/>
                    </a:lnTo>
                    <a:lnTo>
                      <a:pt x="68" y="18"/>
                    </a:lnTo>
                    <a:lnTo>
                      <a:pt x="69" y="13"/>
                    </a:lnTo>
                    <a:lnTo>
                      <a:pt x="68" y="8"/>
                    </a:lnTo>
                    <a:lnTo>
                      <a:pt x="66" y="5"/>
                    </a:lnTo>
                    <a:lnTo>
                      <a:pt x="63" y="3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55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005360" y="42958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90" h="40">
                    <a:moveTo>
                      <a:pt x="9" y="0"/>
                    </a:moveTo>
                    <a:lnTo>
                      <a:pt x="9" y="24"/>
                    </a:lnTo>
                    <a:lnTo>
                      <a:pt x="86" y="40"/>
                    </a:lnTo>
                    <a:lnTo>
                      <a:pt x="90" y="16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843360" y="3786480"/>
                <a:ext cx="28404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3" y="680"/>
                    </a:moveTo>
                    <a:lnTo>
                      <a:pt x="750" y="920"/>
                    </a:lnTo>
                    <a:lnTo>
                      <a:pt x="814" y="858"/>
                    </a:lnTo>
                    <a:lnTo>
                      <a:pt x="540" y="570"/>
                    </a:lnTo>
                    <a:lnTo>
                      <a:pt x="563" y="578"/>
                    </a:lnTo>
                    <a:lnTo>
                      <a:pt x="586" y="583"/>
                    </a:lnTo>
                    <a:lnTo>
                      <a:pt x="609" y="589"/>
                    </a:lnTo>
                    <a:lnTo>
                      <a:pt x="632" y="594"/>
                    </a:lnTo>
                    <a:lnTo>
                      <a:pt x="654" y="597"/>
                    </a:lnTo>
                    <a:lnTo>
                      <a:pt x="677" y="598"/>
                    </a:lnTo>
                    <a:lnTo>
                      <a:pt x="699" y="599"/>
                    </a:lnTo>
                    <a:lnTo>
                      <a:pt x="721" y="599"/>
                    </a:lnTo>
                    <a:lnTo>
                      <a:pt x="743" y="598"/>
                    </a:lnTo>
                    <a:lnTo>
                      <a:pt x="765" y="596"/>
                    </a:lnTo>
                    <a:lnTo>
                      <a:pt x="787" y="592"/>
                    </a:lnTo>
                    <a:lnTo>
                      <a:pt x="808" y="588"/>
                    </a:lnTo>
                    <a:lnTo>
                      <a:pt x="830" y="582"/>
                    </a:lnTo>
                    <a:lnTo>
                      <a:pt x="852" y="575"/>
                    </a:lnTo>
                    <a:lnTo>
                      <a:pt x="873" y="567"/>
                    </a:lnTo>
                    <a:lnTo>
                      <a:pt x="895" y="559"/>
                    </a:lnTo>
                    <a:lnTo>
                      <a:pt x="882" y="546"/>
                    </a:lnTo>
                    <a:lnTo>
                      <a:pt x="870" y="534"/>
                    </a:lnTo>
                    <a:lnTo>
                      <a:pt x="856" y="524"/>
                    </a:lnTo>
                    <a:lnTo>
                      <a:pt x="842" y="514"/>
                    </a:lnTo>
                    <a:lnTo>
                      <a:pt x="828" y="505"/>
                    </a:lnTo>
                    <a:lnTo>
                      <a:pt x="813" y="496"/>
                    </a:lnTo>
                    <a:lnTo>
                      <a:pt x="798" y="488"/>
                    </a:lnTo>
                    <a:lnTo>
                      <a:pt x="783" y="481"/>
                    </a:lnTo>
                    <a:lnTo>
                      <a:pt x="768" y="475"/>
                    </a:lnTo>
                    <a:lnTo>
                      <a:pt x="752" y="469"/>
                    </a:lnTo>
                    <a:lnTo>
                      <a:pt x="736" y="464"/>
                    </a:lnTo>
                    <a:lnTo>
                      <a:pt x="721" y="460"/>
                    </a:lnTo>
                    <a:lnTo>
                      <a:pt x="689" y="453"/>
                    </a:lnTo>
                    <a:lnTo>
                      <a:pt x="656" y="449"/>
                    </a:lnTo>
                    <a:lnTo>
                      <a:pt x="623" y="445"/>
                    </a:lnTo>
                    <a:lnTo>
                      <a:pt x="589" y="444"/>
                    </a:lnTo>
                    <a:lnTo>
                      <a:pt x="556" y="445"/>
                    </a:lnTo>
                    <a:lnTo>
                      <a:pt x="523" y="448"/>
                    </a:lnTo>
                    <a:lnTo>
                      <a:pt x="491" y="450"/>
                    </a:lnTo>
                    <a:lnTo>
                      <a:pt x="460" y="454"/>
                    </a:lnTo>
                    <a:lnTo>
                      <a:pt x="429" y="459"/>
                    </a:lnTo>
                    <a:lnTo>
                      <a:pt x="398" y="464"/>
                    </a:lnTo>
                    <a:lnTo>
                      <a:pt x="393" y="443"/>
                    </a:lnTo>
                    <a:lnTo>
                      <a:pt x="389" y="416"/>
                    </a:lnTo>
                    <a:lnTo>
                      <a:pt x="383" y="385"/>
                    </a:lnTo>
                    <a:lnTo>
                      <a:pt x="377" y="350"/>
                    </a:lnTo>
                    <a:lnTo>
                      <a:pt x="372" y="313"/>
                    </a:lnTo>
                    <a:lnTo>
                      <a:pt x="365" y="273"/>
                    </a:lnTo>
                    <a:lnTo>
                      <a:pt x="356" y="233"/>
                    </a:lnTo>
                    <a:lnTo>
                      <a:pt x="347" y="193"/>
                    </a:lnTo>
                    <a:lnTo>
                      <a:pt x="341" y="174"/>
                    </a:lnTo>
                    <a:lnTo>
                      <a:pt x="335" y="156"/>
                    </a:lnTo>
                    <a:lnTo>
                      <a:pt x="328" y="136"/>
                    </a:lnTo>
                    <a:lnTo>
                      <a:pt x="322" y="119"/>
                    </a:lnTo>
                    <a:lnTo>
                      <a:pt x="314" y="102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7" y="57"/>
                    </a:lnTo>
                    <a:lnTo>
                      <a:pt x="277" y="44"/>
                    </a:lnTo>
                    <a:lnTo>
                      <a:pt x="266" y="33"/>
                    </a:lnTo>
                    <a:lnTo>
                      <a:pt x="253" y="22"/>
                    </a:lnTo>
                    <a:lnTo>
                      <a:pt x="241" y="14"/>
                    </a:lnTo>
                    <a:lnTo>
                      <a:pt x="228" y="8"/>
                    </a:lnTo>
                    <a:lnTo>
                      <a:pt x="213" y="3"/>
                    </a:lnTo>
                    <a:lnTo>
                      <a:pt x="199" y="0"/>
                    </a:lnTo>
                    <a:lnTo>
                      <a:pt x="181" y="0"/>
                    </a:lnTo>
                    <a:lnTo>
                      <a:pt x="154" y="3"/>
                    </a:lnTo>
                    <a:lnTo>
                      <a:pt x="130" y="8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2" y="36"/>
                    </a:lnTo>
                    <a:lnTo>
                      <a:pt x="72" y="49"/>
                    </a:lnTo>
                    <a:lnTo>
                      <a:pt x="66" y="62"/>
                    </a:lnTo>
                    <a:lnTo>
                      <a:pt x="63" y="78"/>
                    </a:lnTo>
                    <a:lnTo>
                      <a:pt x="62" y="94"/>
                    </a:lnTo>
                    <a:lnTo>
                      <a:pt x="63" y="111"/>
                    </a:lnTo>
                    <a:lnTo>
                      <a:pt x="65" y="128"/>
                    </a:lnTo>
                    <a:lnTo>
                      <a:pt x="71" y="147"/>
                    </a:lnTo>
                    <a:lnTo>
                      <a:pt x="77" y="166"/>
                    </a:lnTo>
                    <a:lnTo>
                      <a:pt x="83" y="184"/>
                    </a:lnTo>
                    <a:lnTo>
                      <a:pt x="93" y="203"/>
                    </a:lnTo>
                    <a:lnTo>
                      <a:pt x="102" y="222"/>
                    </a:lnTo>
                    <a:lnTo>
                      <a:pt x="139" y="290"/>
                    </a:lnTo>
                    <a:lnTo>
                      <a:pt x="167" y="343"/>
                    </a:lnTo>
                    <a:lnTo>
                      <a:pt x="171" y="352"/>
                    </a:lnTo>
                    <a:lnTo>
                      <a:pt x="172" y="359"/>
                    </a:lnTo>
                    <a:lnTo>
                      <a:pt x="172" y="364"/>
                    </a:lnTo>
                    <a:lnTo>
                      <a:pt x="170" y="367"/>
                    </a:lnTo>
                    <a:lnTo>
                      <a:pt x="164" y="368"/>
                    </a:lnTo>
                    <a:lnTo>
                      <a:pt x="156" y="366"/>
                    </a:lnTo>
                    <a:lnTo>
                      <a:pt x="145" y="361"/>
                    </a:lnTo>
                    <a:lnTo>
                      <a:pt x="130" y="353"/>
                    </a:lnTo>
                    <a:lnTo>
                      <a:pt x="105" y="342"/>
                    </a:lnTo>
                    <a:lnTo>
                      <a:pt x="83" y="335"/>
                    </a:lnTo>
                    <a:lnTo>
                      <a:pt x="64" y="333"/>
                    </a:lnTo>
                    <a:lnTo>
                      <a:pt x="48" y="335"/>
                    </a:lnTo>
                    <a:lnTo>
                      <a:pt x="34" y="339"/>
                    </a:lnTo>
                    <a:lnTo>
                      <a:pt x="23" y="348"/>
                    </a:lnTo>
                    <a:lnTo>
                      <a:pt x="14" y="360"/>
                    </a:lnTo>
                    <a:lnTo>
                      <a:pt x="7" y="375"/>
                    </a:lnTo>
                    <a:lnTo>
                      <a:pt x="3" y="391"/>
                    </a:lnTo>
                    <a:lnTo>
                      <a:pt x="0" y="410"/>
                    </a:lnTo>
                    <a:lnTo>
                      <a:pt x="0" y="431"/>
                    </a:lnTo>
                    <a:lnTo>
                      <a:pt x="3" y="453"/>
                    </a:lnTo>
                    <a:lnTo>
                      <a:pt x="6" y="477"/>
                    </a:lnTo>
                    <a:lnTo>
                      <a:pt x="12" y="501"/>
                    </a:lnTo>
                    <a:lnTo>
                      <a:pt x="20" y="526"/>
                    </a:lnTo>
                    <a:lnTo>
                      <a:pt x="30" y="553"/>
                    </a:lnTo>
                    <a:lnTo>
                      <a:pt x="41" y="578"/>
                    </a:lnTo>
                    <a:lnTo>
                      <a:pt x="54" y="603"/>
                    </a:lnTo>
                    <a:lnTo>
                      <a:pt x="69" y="628"/>
                    </a:lnTo>
                    <a:lnTo>
                      <a:pt x="85" y="652"/>
                    </a:lnTo>
                    <a:lnTo>
                      <a:pt x="103" y="675"/>
                    </a:lnTo>
                    <a:lnTo>
                      <a:pt x="122" y="696"/>
                    </a:lnTo>
                    <a:lnTo>
                      <a:pt x="143" y="716"/>
                    </a:lnTo>
                    <a:lnTo>
                      <a:pt x="164" y="733"/>
                    </a:lnTo>
                    <a:lnTo>
                      <a:pt x="188" y="749"/>
                    </a:lnTo>
                    <a:lnTo>
                      <a:pt x="212" y="761"/>
                    </a:lnTo>
                    <a:lnTo>
                      <a:pt x="238" y="770"/>
                    </a:lnTo>
                    <a:lnTo>
                      <a:pt x="265" y="777"/>
                    </a:lnTo>
                    <a:lnTo>
                      <a:pt x="292" y="779"/>
                    </a:lnTo>
                    <a:lnTo>
                      <a:pt x="322" y="778"/>
                    </a:lnTo>
                    <a:lnTo>
                      <a:pt x="350" y="773"/>
                    </a:lnTo>
                    <a:lnTo>
                      <a:pt x="381" y="763"/>
                    </a:lnTo>
                    <a:lnTo>
                      <a:pt x="397" y="754"/>
                    </a:lnTo>
                    <a:lnTo>
                      <a:pt x="409" y="747"/>
                    </a:lnTo>
                    <a:lnTo>
                      <a:pt x="417" y="744"/>
                    </a:lnTo>
                    <a:lnTo>
                      <a:pt x="425" y="742"/>
                    </a:lnTo>
                    <a:lnTo>
                      <a:pt x="432" y="742"/>
                    </a:lnTo>
                    <a:lnTo>
                      <a:pt x="440" y="743"/>
                    </a:lnTo>
                    <a:lnTo>
                      <a:pt x="450" y="744"/>
                    </a:lnTo>
                    <a:lnTo>
                      <a:pt x="464" y="746"/>
                    </a:lnTo>
                    <a:lnTo>
                      <a:pt x="423" y="68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75120" y="399924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7" h="261">
                    <a:moveTo>
                      <a:pt x="343" y="258"/>
                    </a:moveTo>
                    <a:lnTo>
                      <a:pt x="342" y="239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27" y="259"/>
                    </a:lnTo>
                    <a:lnTo>
                      <a:pt x="343" y="258"/>
                    </a:lnTo>
                    <a:lnTo>
                      <a:pt x="327" y="259"/>
                    </a:lnTo>
                    <a:lnTo>
                      <a:pt x="333" y="261"/>
                    </a:lnTo>
                    <a:lnTo>
                      <a:pt x="337" y="261"/>
                    </a:lnTo>
                    <a:lnTo>
                      <a:pt x="341" y="260"/>
                    </a:lnTo>
                    <a:lnTo>
                      <a:pt x="344" y="256"/>
                    </a:lnTo>
                    <a:lnTo>
                      <a:pt x="347" y="252"/>
                    </a:lnTo>
                    <a:lnTo>
                      <a:pt x="347" y="247"/>
                    </a:lnTo>
                    <a:lnTo>
                      <a:pt x="345" y="244"/>
                    </a:lnTo>
                    <a:lnTo>
                      <a:pt x="342" y="239"/>
                    </a:lnTo>
                    <a:lnTo>
                      <a:pt x="343" y="2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078440" y="40546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86" h="81">
                    <a:moveTo>
                      <a:pt x="82" y="3"/>
                    </a:moveTo>
                    <a:lnTo>
                      <a:pt x="65" y="3"/>
                    </a:lnTo>
                    <a:lnTo>
                      <a:pt x="0" y="63"/>
                    </a:lnTo>
                    <a:lnTo>
                      <a:pt x="17" y="81"/>
                    </a:lnTo>
                    <a:lnTo>
                      <a:pt x="81" y="20"/>
                    </a:lnTo>
                    <a:lnTo>
                      <a:pt x="82" y="3"/>
                    </a:lnTo>
                    <a:lnTo>
                      <a:pt x="81" y="20"/>
                    </a:lnTo>
                    <a:lnTo>
                      <a:pt x="84" y="16"/>
                    </a:lnTo>
                    <a:lnTo>
                      <a:pt x="86" y="11"/>
                    </a:lnTo>
                    <a:lnTo>
                      <a:pt x="84" y="6"/>
                    </a:lnTo>
                    <a:lnTo>
                      <a:pt x="82" y="3"/>
                    </a:lnTo>
                    <a:lnTo>
                      <a:pt x="78" y="1"/>
                    </a:lnTo>
                    <a:lnTo>
                      <a:pt x="74" y="0"/>
                    </a:lnTo>
                    <a:lnTo>
                      <a:pt x="70" y="0"/>
                    </a:lnTo>
                    <a:lnTo>
                      <a:pt x="65" y="3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10040" y="396252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1"/>
                    </a:moveTo>
                    <a:lnTo>
                      <a:pt x="3" y="21"/>
                    </a:lnTo>
                    <a:lnTo>
                      <a:pt x="277" y="310"/>
                    </a:lnTo>
                    <a:lnTo>
                      <a:pt x="295" y="293"/>
                    </a:lnTo>
                    <a:lnTo>
                      <a:pt x="22" y="4"/>
                    </a:lnTo>
                    <a:lnTo>
                      <a:pt x="16" y="1"/>
                    </a:lnTo>
                    <a:lnTo>
                      <a:pt x="22" y="4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013280" y="395964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1" h="65">
                    <a:moveTo>
                      <a:pt x="351" y="20"/>
                    </a:moveTo>
                    <a:lnTo>
                      <a:pt x="354" y="1"/>
                    </a:lnTo>
                    <a:lnTo>
                      <a:pt x="334" y="9"/>
                    </a:lnTo>
                    <a:lnTo>
                      <a:pt x="312" y="17"/>
                    </a:lnTo>
                    <a:lnTo>
                      <a:pt x="291" y="23"/>
                    </a:lnTo>
                    <a:lnTo>
                      <a:pt x="270" y="28"/>
                    </a:lnTo>
                    <a:lnTo>
                      <a:pt x="248" y="33"/>
                    </a:lnTo>
                    <a:lnTo>
                      <a:pt x="227" y="36"/>
                    </a:lnTo>
                    <a:lnTo>
                      <a:pt x="206" y="39"/>
                    </a:lnTo>
                    <a:lnTo>
                      <a:pt x="185" y="40"/>
                    </a:lnTo>
                    <a:lnTo>
                      <a:pt x="163" y="41"/>
                    </a:lnTo>
                    <a:lnTo>
                      <a:pt x="141" y="40"/>
                    </a:lnTo>
                    <a:lnTo>
                      <a:pt x="120" y="37"/>
                    </a:lnTo>
                    <a:lnTo>
                      <a:pt x="98" y="34"/>
                    </a:lnTo>
                    <a:lnTo>
                      <a:pt x="76" y="31"/>
                    </a:lnTo>
                    <a:lnTo>
                      <a:pt x="53" y="25"/>
                    </a:lnTo>
                    <a:lnTo>
                      <a:pt x="31" y="18"/>
                    </a:lnTo>
                    <a:lnTo>
                      <a:pt x="8" y="11"/>
                    </a:lnTo>
                    <a:lnTo>
                      <a:pt x="0" y="34"/>
                    </a:lnTo>
                    <a:lnTo>
                      <a:pt x="24" y="42"/>
                    </a:lnTo>
                    <a:lnTo>
                      <a:pt x="48" y="49"/>
                    </a:lnTo>
                    <a:lnTo>
                      <a:pt x="71" y="55"/>
                    </a:lnTo>
                    <a:lnTo>
                      <a:pt x="94" y="58"/>
                    </a:lnTo>
                    <a:lnTo>
                      <a:pt x="117" y="61"/>
                    </a:lnTo>
                    <a:lnTo>
                      <a:pt x="140" y="64"/>
                    </a:lnTo>
                    <a:lnTo>
                      <a:pt x="163" y="65"/>
                    </a:lnTo>
                    <a:lnTo>
                      <a:pt x="186" y="65"/>
                    </a:lnTo>
                    <a:lnTo>
                      <a:pt x="208" y="63"/>
                    </a:lnTo>
                    <a:lnTo>
                      <a:pt x="230" y="60"/>
                    </a:lnTo>
                    <a:lnTo>
                      <a:pt x="253" y="57"/>
                    </a:lnTo>
                    <a:lnTo>
                      <a:pt x="276" y="52"/>
                    </a:lnTo>
                    <a:lnTo>
                      <a:pt x="297" y="47"/>
                    </a:lnTo>
                    <a:lnTo>
                      <a:pt x="320" y="40"/>
                    </a:lnTo>
                    <a:lnTo>
                      <a:pt x="342" y="32"/>
                    </a:lnTo>
                    <a:lnTo>
                      <a:pt x="363" y="23"/>
                    </a:lnTo>
                    <a:lnTo>
                      <a:pt x="368" y="3"/>
                    </a:lnTo>
                    <a:lnTo>
                      <a:pt x="363" y="23"/>
                    </a:lnTo>
                    <a:lnTo>
                      <a:pt x="368" y="20"/>
                    </a:lnTo>
                    <a:lnTo>
                      <a:pt x="370" y="16"/>
                    </a:lnTo>
                    <a:lnTo>
                      <a:pt x="371" y="11"/>
                    </a:lnTo>
                    <a:lnTo>
                      <a:pt x="370" y="8"/>
                    </a:lnTo>
                    <a:lnTo>
                      <a:pt x="368" y="3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4" y="1"/>
                    </a:lnTo>
                    <a:lnTo>
                      <a:pt x="35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965400" y="3922920"/>
                <a:ext cx="165240" cy="4284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0" y="34"/>
                    </a:moveTo>
                    <a:lnTo>
                      <a:pt x="13" y="42"/>
                    </a:lnTo>
                    <a:lnTo>
                      <a:pt x="43" y="37"/>
                    </a:lnTo>
                    <a:lnTo>
                      <a:pt x="74" y="33"/>
                    </a:lnTo>
                    <a:lnTo>
                      <a:pt x="106" y="29"/>
                    </a:lnTo>
                    <a:lnTo>
                      <a:pt x="137" y="26"/>
                    </a:lnTo>
                    <a:lnTo>
                      <a:pt x="169" y="24"/>
                    </a:lnTo>
                    <a:lnTo>
                      <a:pt x="202" y="24"/>
                    </a:lnTo>
                    <a:lnTo>
                      <a:pt x="236" y="25"/>
                    </a:lnTo>
                    <a:lnTo>
                      <a:pt x="267" y="27"/>
                    </a:lnTo>
                    <a:lnTo>
                      <a:pt x="299" y="32"/>
                    </a:lnTo>
                    <a:lnTo>
                      <a:pt x="331" y="39"/>
                    </a:lnTo>
                    <a:lnTo>
                      <a:pt x="346" y="43"/>
                    </a:lnTo>
                    <a:lnTo>
                      <a:pt x="362" y="48"/>
                    </a:lnTo>
                    <a:lnTo>
                      <a:pt x="377" y="53"/>
                    </a:lnTo>
                    <a:lnTo>
                      <a:pt x="392" y="59"/>
                    </a:lnTo>
                    <a:lnTo>
                      <a:pt x="406" y="66"/>
                    </a:lnTo>
                    <a:lnTo>
                      <a:pt x="420" y="73"/>
                    </a:lnTo>
                    <a:lnTo>
                      <a:pt x="435" y="82"/>
                    </a:lnTo>
                    <a:lnTo>
                      <a:pt x="449" y="90"/>
                    </a:lnTo>
                    <a:lnTo>
                      <a:pt x="461" y="100"/>
                    </a:lnTo>
                    <a:lnTo>
                      <a:pt x="475" y="110"/>
                    </a:lnTo>
                    <a:lnTo>
                      <a:pt x="487" y="122"/>
                    </a:lnTo>
                    <a:lnTo>
                      <a:pt x="500" y="134"/>
                    </a:lnTo>
                    <a:lnTo>
                      <a:pt x="517" y="117"/>
                    </a:lnTo>
                    <a:lnTo>
                      <a:pt x="504" y="105"/>
                    </a:lnTo>
                    <a:lnTo>
                      <a:pt x="491" y="92"/>
                    </a:lnTo>
                    <a:lnTo>
                      <a:pt x="476" y="81"/>
                    </a:lnTo>
                    <a:lnTo>
                      <a:pt x="462" y="71"/>
                    </a:lnTo>
                    <a:lnTo>
                      <a:pt x="447" y="61"/>
                    </a:lnTo>
                    <a:lnTo>
                      <a:pt x="433" y="52"/>
                    </a:lnTo>
                    <a:lnTo>
                      <a:pt x="417" y="44"/>
                    </a:lnTo>
                    <a:lnTo>
                      <a:pt x="402" y="36"/>
                    </a:lnTo>
                    <a:lnTo>
                      <a:pt x="386" y="31"/>
                    </a:lnTo>
                    <a:lnTo>
                      <a:pt x="370" y="25"/>
                    </a:lnTo>
                    <a:lnTo>
                      <a:pt x="353" y="19"/>
                    </a:lnTo>
                    <a:lnTo>
                      <a:pt x="337" y="15"/>
                    </a:lnTo>
                    <a:lnTo>
                      <a:pt x="304" y="8"/>
                    </a:lnTo>
                    <a:lnTo>
                      <a:pt x="270" y="3"/>
                    </a:lnTo>
                    <a:lnTo>
                      <a:pt x="237" y="1"/>
                    </a:lnTo>
                    <a:lnTo>
                      <a:pt x="202" y="0"/>
                    </a:lnTo>
                    <a:lnTo>
                      <a:pt x="169" y="0"/>
                    </a:lnTo>
                    <a:lnTo>
                      <a:pt x="135" y="2"/>
                    </a:lnTo>
                    <a:lnTo>
                      <a:pt x="103" y="6"/>
                    </a:lnTo>
                    <a:lnTo>
                      <a:pt x="70" y="9"/>
                    </a:lnTo>
                    <a:lnTo>
                      <a:pt x="39" y="14"/>
                    </a:lnTo>
                    <a:lnTo>
                      <a:pt x="9" y="19"/>
                    </a:lnTo>
                    <a:lnTo>
                      <a:pt x="22" y="27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4" y="41"/>
                    </a:lnTo>
                    <a:lnTo>
                      <a:pt x="8" y="42"/>
                    </a:lnTo>
                    <a:lnTo>
                      <a:pt x="13" y="4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00600" y="3781800"/>
                <a:ext cx="73080" cy="152280"/>
              </a:xfrm>
              <a:custGeom>
                <a:avLst/>
                <a:gdLst/>
                <a:ahLst/>
                <a:rect l="l" t="t" r="r" b="b"/>
                <a:pathLst>
                  <a:path w="228" h="480">
                    <a:moveTo>
                      <a:pt x="2" y="24"/>
                    </a:moveTo>
                    <a:lnTo>
                      <a:pt x="2" y="24"/>
                    </a:lnTo>
                    <a:lnTo>
                      <a:pt x="15" y="25"/>
                    </a:lnTo>
                    <a:lnTo>
                      <a:pt x="29" y="27"/>
                    </a:lnTo>
                    <a:lnTo>
                      <a:pt x="43" y="32"/>
                    </a:lnTo>
                    <a:lnTo>
                      <a:pt x="54" y="38"/>
                    </a:lnTo>
                    <a:lnTo>
                      <a:pt x="65" y="45"/>
                    </a:lnTo>
                    <a:lnTo>
                      <a:pt x="77" y="54"/>
                    </a:lnTo>
                    <a:lnTo>
                      <a:pt x="87" y="65"/>
                    </a:lnTo>
                    <a:lnTo>
                      <a:pt x="96" y="76"/>
                    </a:lnTo>
                    <a:lnTo>
                      <a:pt x="105" y="90"/>
                    </a:lnTo>
                    <a:lnTo>
                      <a:pt x="113" y="104"/>
                    </a:lnTo>
                    <a:lnTo>
                      <a:pt x="121" y="120"/>
                    </a:lnTo>
                    <a:lnTo>
                      <a:pt x="129" y="137"/>
                    </a:lnTo>
                    <a:lnTo>
                      <a:pt x="136" y="154"/>
                    </a:lnTo>
                    <a:lnTo>
                      <a:pt x="143" y="172"/>
                    </a:lnTo>
                    <a:lnTo>
                      <a:pt x="149" y="190"/>
                    </a:lnTo>
                    <a:lnTo>
                      <a:pt x="154" y="210"/>
                    </a:lnTo>
                    <a:lnTo>
                      <a:pt x="163" y="250"/>
                    </a:lnTo>
                    <a:lnTo>
                      <a:pt x="171" y="289"/>
                    </a:lnTo>
                    <a:lnTo>
                      <a:pt x="178" y="327"/>
                    </a:lnTo>
                    <a:lnTo>
                      <a:pt x="185" y="365"/>
                    </a:lnTo>
                    <a:lnTo>
                      <a:pt x="191" y="400"/>
                    </a:lnTo>
                    <a:lnTo>
                      <a:pt x="195" y="431"/>
                    </a:lnTo>
                    <a:lnTo>
                      <a:pt x="200" y="458"/>
                    </a:lnTo>
                    <a:lnTo>
                      <a:pt x="206" y="480"/>
                    </a:lnTo>
                    <a:lnTo>
                      <a:pt x="228" y="473"/>
                    </a:lnTo>
                    <a:lnTo>
                      <a:pt x="224" y="453"/>
                    </a:lnTo>
                    <a:lnTo>
                      <a:pt x="219" y="428"/>
                    </a:lnTo>
                    <a:lnTo>
                      <a:pt x="215" y="396"/>
                    </a:lnTo>
                    <a:lnTo>
                      <a:pt x="209" y="361"/>
                    </a:lnTo>
                    <a:lnTo>
                      <a:pt x="202" y="324"/>
                    </a:lnTo>
                    <a:lnTo>
                      <a:pt x="195" y="284"/>
                    </a:lnTo>
                    <a:lnTo>
                      <a:pt x="187" y="244"/>
                    </a:lnTo>
                    <a:lnTo>
                      <a:pt x="177" y="204"/>
                    </a:lnTo>
                    <a:lnTo>
                      <a:pt x="171" y="184"/>
                    </a:lnTo>
                    <a:lnTo>
                      <a:pt x="166" y="164"/>
                    </a:lnTo>
                    <a:lnTo>
                      <a:pt x="159" y="146"/>
                    </a:lnTo>
                    <a:lnTo>
                      <a:pt x="152" y="127"/>
                    </a:lnTo>
                    <a:lnTo>
                      <a:pt x="144" y="110"/>
                    </a:lnTo>
                    <a:lnTo>
                      <a:pt x="135" y="92"/>
                    </a:lnTo>
                    <a:lnTo>
                      <a:pt x="126" y="76"/>
                    </a:lnTo>
                    <a:lnTo>
                      <a:pt x="116" y="62"/>
                    </a:lnTo>
                    <a:lnTo>
                      <a:pt x="104" y="49"/>
                    </a:lnTo>
                    <a:lnTo>
                      <a:pt x="93" y="37"/>
                    </a:lnTo>
                    <a:lnTo>
                      <a:pt x="80" y="25"/>
                    </a:lnTo>
                    <a:lnTo>
                      <a:pt x="67" y="16"/>
                    </a:lnTo>
                    <a:lnTo>
                      <a:pt x="51" y="9"/>
                    </a:lnTo>
                    <a:lnTo>
                      <a:pt x="35" y="4"/>
                    </a:lnTo>
                    <a:lnTo>
                      <a:pt x="19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59200" y="3781800"/>
                <a:ext cx="42840" cy="125280"/>
              </a:xfrm>
              <a:custGeom>
                <a:avLst/>
                <a:gdLst/>
                <a:ahLst/>
                <a:rect l="l" t="t" r="r" b="b"/>
                <a:pathLst>
                  <a:path w="136" h="392">
                    <a:moveTo>
                      <a:pt x="75" y="376"/>
                    </a:moveTo>
                    <a:lnTo>
                      <a:pt x="75" y="376"/>
                    </a:lnTo>
                    <a:lnTo>
                      <a:pt x="90" y="384"/>
                    </a:lnTo>
                    <a:lnTo>
                      <a:pt x="103" y="390"/>
                    </a:lnTo>
                    <a:lnTo>
                      <a:pt x="114" y="392"/>
                    </a:lnTo>
                    <a:lnTo>
                      <a:pt x="123" y="391"/>
                    </a:lnTo>
                    <a:lnTo>
                      <a:pt x="131" y="387"/>
                    </a:lnTo>
                    <a:lnTo>
                      <a:pt x="135" y="381"/>
                    </a:lnTo>
                    <a:lnTo>
                      <a:pt x="136" y="375"/>
                    </a:lnTo>
                    <a:lnTo>
                      <a:pt x="136" y="369"/>
                    </a:lnTo>
                    <a:lnTo>
                      <a:pt x="134" y="360"/>
                    </a:lnTo>
                    <a:lnTo>
                      <a:pt x="129" y="350"/>
                    </a:lnTo>
                    <a:lnTo>
                      <a:pt x="101" y="298"/>
                    </a:lnTo>
                    <a:lnTo>
                      <a:pt x="63" y="229"/>
                    </a:lnTo>
                    <a:lnTo>
                      <a:pt x="54" y="211"/>
                    </a:lnTo>
                    <a:lnTo>
                      <a:pt x="46" y="193"/>
                    </a:lnTo>
                    <a:lnTo>
                      <a:pt x="39" y="175"/>
                    </a:lnTo>
                    <a:lnTo>
                      <a:pt x="33" y="156"/>
                    </a:lnTo>
                    <a:lnTo>
                      <a:pt x="29" y="139"/>
                    </a:lnTo>
                    <a:lnTo>
                      <a:pt x="25" y="123"/>
                    </a:lnTo>
                    <a:lnTo>
                      <a:pt x="24" y="107"/>
                    </a:lnTo>
                    <a:lnTo>
                      <a:pt x="25" y="92"/>
                    </a:lnTo>
                    <a:lnTo>
                      <a:pt x="26" y="86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4" y="67"/>
                    </a:lnTo>
                    <a:lnTo>
                      <a:pt x="38" y="63"/>
                    </a:lnTo>
                    <a:lnTo>
                      <a:pt x="41" y="57"/>
                    </a:lnTo>
                    <a:lnTo>
                      <a:pt x="47" y="53"/>
                    </a:lnTo>
                    <a:lnTo>
                      <a:pt x="53" y="48"/>
                    </a:lnTo>
                    <a:lnTo>
                      <a:pt x="60" y="43"/>
                    </a:lnTo>
                    <a:lnTo>
                      <a:pt x="66" y="40"/>
                    </a:lnTo>
                    <a:lnTo>
                      <a:pt x="75" y="37"/>
                    </a:lnTo>
                    <a:lnTo>
                      <a:pt x="85" y="33"/>
                    </a:lnTo>
                    <a:lnTo>
                      <a:pt x="95" y="30"/>
                    </a:lnTo>
                    <a:lnTo>
                      <a:pt x="107" y="27"/>
                    </a:lnTo>
                    <a:lnTo>
                      <a:pt x="120" y="26"/>
                    </a:lnTo>
                    <a:lnTo>
                      <a:pt x="134" y="24"/>
                    </a:lnTo>
                    <a:lnTo>
                      <a:pt x="132" y="0"/>
                    </a:lnTo>
                    <a:lnTo>
                      <a:pt x="116" y="1"/>
                    </a:lnTo>
                    <a:lnTo>
                      <a:pt x="103" y="4"/>
                    </a:lnTo>
                    <a:lnTo>
                      <a:pt x="89" y="6"/>
                    </a:lnTo>
                    <a:lnTo>
                      <a:pt x="78" y="9"/>
                    </a:lnTo>
                    <a:lnTo>
                      <a:pt x="66" y="14"/>
                    </a:lnTo>
                    <a:lnTo>
                      <a:pt x="56" y="17"/>
                    </a:lnTo>
                    <a:lnTo>
                      <a:pt x="47" y="23"/>
                    </a:lnTo>
                    <a:lnTo>
                      <a:pt x="38" y="29"/>
                    </a:lnTo>
                    <a:lnTo>
                      <a:pt x="31" y="34"/>
                    </a:lnTo>
                    <a:lnTo>
                      <a:pt x="24" y="41"/>
                    </a:lnTo>
                    <a:lnTo>
                      <a:pt x="18" y="48"/>
                    </a:lnTo>
                    <a:lnTo>
                      <a:pt x="13" y="56"/>
                    </a:lnTo>
                    <a:lnTo>
                      <a:pt x="9" y="64"/>
                    </a:lnTo>
                    <a:lnTo>
                      <a:pt x="6" y="72"/>
                    </a:lnTo>
                    <a:lnTo>
                      <a:pt x="4" y="81"/>
                    </a:lnTo>
                    <a:lnTo>
                      <a:pt x="1" y="90"/>
                    </a:lnTo>
                    <a:lnTo>
                      <a:pt x="0" y="107"/>
                    </a:lnTo>
                    <a:lnTo>
                      <a:pt x="1" y="125"/>
                    </a:lnTo>
                    <a:lnTo>
                      <a:pt x="5" y="145"/>
                    </a:lnTo>
                    <a:lnTo>
                      <a:pt x="9" y="163"/>
                    </a:lnTo>
                    <a:lnTo>
                      <a:pt x="16" y="182"/>
                    </a:lnTo>
                    <a:lnTo>
                      <a:pt x="24" y="202"/>
                    </a:lnTo>
                    <a:lnTo>
                      <a:pt x="32" y="221"/>
                    </a:lnTo>
                    <a:lnTo>
                      <a:pt x="41" y="241"/>
                    </a:lnTo>
                    <a:lnTo>
                      <a:pt x="79" y="309"/>
                    </a:lnTo>
                    <a:lnTo>
                      <a:pt x="107" y="361"/>
                    </a:lnTo>
                    <a:lnTo>
                      <a:pt x="111" y="368"/>
                    </a:lnTo>
                    <a:lnTo>
                      <a:pt x="112" y="374"/>
                    </a:lnTo>
                    <a:lnTo>
                      <a:pt x="112" y="374"/>
                    </a:lnTo>
                    <a:lnTo>
                      <a:pt x="112" y="373"/>
                    </a:lnTo>
                    <a:lnTo>
                      <a:pt x="113" y="371"/>
                    </a:lnTo>
                    <a:lnTo>
                      <a:pt x="118" y="368"/>
                    </a:lnTo>
                    <a:lnTo>
                      <a:pt x="116" y="368"/>
                    </a:lnTo>
                    <a:lnTo>
                      <a:pt x="111" y="367"/>
                    </a:lnTo>
                    <a:lnTo>
                      <a:pt x="101" y="363"/>
                    </a:lnTo>
                    <a:lnTo>
                      <a:pt x="87" y="356"/>
                    </a:lnTo>
                    <a:lnTo>
                      <a:pt x="87" y="355"/>
                    </a:lnTo>
                    <a:lnTo>
                      <a:pt x="75" y="3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3838680" y="3888000"/>
                <a:ext cx="12672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87" y="432"/>
                    </a:moveTo>
                    <a:lnTo>
                      <a:pt x="388" y="431"/>
                    </a:lnTo>
                    <a:lnTo>
                      <a:pt x="374" y="437"/>
                    </a:lnTo>
                    <a:lnTo>
                      <a:pt x="360" y="440"/>
                    </a:lnTo>
                    <a:lnTo>
                      <a:pt x="346" y="444"/>
                    </a:lnTo>
                    <a:lnTo>
                      <a:pt x="331" y="445"/>
                    </a:lnTo>
                    <a:lnTo>
                      <a:pt x="319" y="446"/>
                    </a:lnTo>
                    <a:lnTo>
                      <a:pt x="305" y="446"/>
                    </a:lnTo>
                    <a:lnTo>
                      <a:pt x="291" y="446"/>
                    </a:lnTo>
                    <a:lnTo>
                      <a:pt x="279" y="444"/>
                    </a:lnTo>
                    <a:lnTo>
                      <a:pt x="266" y="441"/>
                    </a:lnTo>
                    <a:lnTo>
                      <a:pt x="254" y="438"/>
                    </a:lnTo>
                    <a:lnTo>
                      <a:pt x="241" y="433"/>
                    </a:lnTo>
                    <a:lnTo>
                      <a:pt x="230" y="429"/>
                    </a:lnTo>
                    <a:lnTo>
                      <a:pt x="217" y="423"/>
                    </a:lnTo>
                    <a:lnTo>
                      <a:pt x="206" y="416"/>
                    </a:lnTo>
                    <a:lnTo>
                      <a:pt x="195" y="409"/>
                    </a:lnTo>
                    <a:lnTo>
                      <a:pt x="184" y="403"/>
                    </a:lnTo>
                    <a:lnTo>
                      <a:pt x="173" y="395"/>
                    </a:lnTo>
                    <a:lnTo>
                      <a:pt x="163" y="385"/>
                    </a:lnTo>
                    <a:lnTo>
                      <a:pt x="152" y="376"/>
                    </a:lnTo>
                    <a:lnTo>
                      <a:pt x="143" y="367"/>
                    </a:lnTo>
                    <a:lnTo>
                      <a:pt x="124" y="346"/>
                    </a:lnTo>
                    <a:lnTo>
                      <a:pt x="107" y="324"/>
                    </a:lnTo>
                    <a:lnTo>
                      <a:pt x="91" y="300"/>
                    </a:lnTo>
                    <a:lnTo>
                      <a:pt x="76" y="276"/>
                    </a:lnTo>
                    <a:lnTo>
                      <a:pt x="64" y="252"/>
                    </a:lnTo>
                    <a:lnTo>
                      <a:pt x="52" y="227"/>
                    </a:lnTo>
                    <a:lnTo>
                      <a:pt x="43" y="202"/>
                    </a:lnTo>
                    <a:lnTo>
                      <a:pt x="35" y="177"/>
                    </a:lnTo>
                    <a:lnTo>
                      <a:pt x="29" y="154"/>
                    </a:lnTo>
                    <a:lnTo>
                      <a:pt x="26" y="131"/>
                    </a:lnTo>
                    <a:lnTo>
                      <a:pt x="24" y="110"/>
                    </a:lnTo>
                    <a:lnTo>
                      <a:pt x="24" y="89"/>
                    </a:lnTo>
                    <a:lnTo>
                      <a:pt x="25" y="81"/>
                    </a:lnTo>
                    <a:lnTo>
                      <a:pt x="26" y="72"/>
                    </a:lnTo>
                    <a:lnTo>
                      <a:pt x="28" y="64"/>
                    </a:lnTo>
                    <a:lnTo>
                      <a:pt x="30" y="57"/>
                    </a:lnTo>
                    <a:lnTo>
                      <a:pt x="33" y="51"/>
                    </a:lnTo>
                    <a:lnTo>
                      <a:pt x="36" y="46"/>
                    </a:lnTo>
                    <a:lnTo>
                      <a:pt x="40" y="40"/>
                    </a:lnTo>
                    <a:lnTo>
                      <a:pt x="43" y="35"/>
                    </a:lnTo>
                    <a:lnTo>
                      <a:pt x="48" y="32"/>
                    </a:lnTo>
                    <a:lnTo>
                      <a:pt x="52" y="30"/>
                    </a:lnTo>
                    <a:lnTo>
                      <a:pt x="57" y="27"/>
                    </a:lnTo>
                    <a:lnTo>
                      <a:pt x="62" y="25"/>
                    </a:lnTo>
                    <a:lnTo>
                      <a:pt x="69" y="24"/>
                    </a:lnTo>
                    <a:lnTo>
                      <a:pt x="76" y="24"/>
                    </a:lnTo>
                    <a:lnTo>
                      <a:pt x="84" y="24"/>
                    </a:lnTo>
                    <a:lnTo>
                      <a:pt x="93" y="26"/>
                    </a:lnTo>
                    <a:lnTo>
                      <a:pt x="102" y="29"/>
                    </a:lnTo>
                    <a:lnTo>
                      <a:pt x="113" y="32"/>
                    </a:lnTo>
                    <a:lnTo>
                      <a:pt x="124" y="37"/>
                    </a:lnTo>
                    <a:lnTo>
                      <a:pt x="136" y="42"/>
                    </a:lnTo>
                    <a:lnTo>
                      <a:pt x="148" y="21"/>
                    </a:lnTo>
                    <a:lnTo>
                      <a:pt x="134" y="15"/>
                    </a:lnTo>
                    <a:lnTo>
                      <a:pt x="122" y="9"/>
                    </a:lnTo>
                    <a:lnTo>
                      <a:pt x="110" y="5"/>
                    </a:lnTo>
                    <a:lnTo>
                      <a:pt x="98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8" y="1"/>
                    </a:lnTo>
                    <a:lnTo>
                      <a:pt x="49" y="5"/>
                    </a:lnTo>
                    <a:lnTo>
                      <a:pt x="41" y="8"/>
                    </a:lnTo>
                    <a:lnTo>
                      <a:pt x="33" y="13"/>
                    </a:lnTo>
                    <a:lnTo>
                      <a:pt x="26" y="18"/>
                    </a:lnTo>
                    <a:lnTo>
                      <a:pt x="20" y="25"/>
                    </a:lnTo>
                    <a:lnTo>
                      <a:pt x="16" y="33"/>
                    </a:lnTo>
                    <a:lnTo>
                      <a:pt x="11" y="41"/>
                    </a:lnTo>
                    <a:lnTo>
                      <a:pt x="8" y="49"/>
                    </a:lnTo>
                    <a:lnTo>
                      <a:pt x="4" y="58"/>
                    </a:lnTo>
                    <a:lnTo>
                      <a:pt x="2" y="67"/>
                    </a:lnTo>
                    <a:lnTo>
                      <a:pt x="1" y="78"/>
                    </a:lnTo>
                    <a:lnTo>
                      <a:pt x="0" y="89"/>
                    </a:lnTo>
                    <a:lnTo>
                      <a:pt x="0" y="111"/>
                    </a:lnTo>
                    <a:lnTo>
                      <a:pt x="2" y="133"/>
                    </a:lnTo>
                    <a:lnTo>
                      <a:pt x="7" y="159"/>
                    </a:lnTo>
                    <a:lnTo>
                      <a:pt x="12" y="184"/>
                    </a:lnTo>
                    <a:lnTo>
                      <a:pt x="20" y="210"/>
                    </a:lnTo>
                    <a:lnTo>
                      <a:pt x="30" y="236"/>
                    </a:lnTo>
                    <a:lnTo>
                      <a:pt x="42" y="262"/>
                    </a:lnTo>
                    <a:lnTo>
                      <a:pt x="56" y="289"/>
                    </a:lnTo>
                    <a:lnTo>
                      <a:pt x="70" y="314"/>
                    </a:lnTo>
                    <a:lnTo>
                      <a:pt x="87" y="338"/>
                    </a:lnTo>
                    <a:lnTo>
                      <a:pt x="106" y="361"/>
                    </a:lnTo>
                    <a:lnTo>
                      <a:pt x="125" y="383"/>
                    </a:lnTo>
                    <a:lnTo>
                      <a:pt x="136" y="393"/>
                    </a:lnTo>
                    <a:lnTo>
                      <a:pt x="147" y="404"/>
                    </a:lnTo>
                    <a:lnTo>
                      <a:pt x="158" y="413"/>
                    </a:lnTo>
                    <a:lnTo>
                      <a:pt x="170" y="422"/>
                    </a:lnTo>
                    <a:lnTo>
                      <a:pt x="182" y="430"/>
                    </a:lnTo>
                    <a:lnTo>
                      <a:pt x="195" y="438"/>
                    </a:lnTo>
                    <a:lnTo>
                      <a:pt x="207" y="445"/>
                    </a:lnTo>
                    <a:lnTo>
                      <a:pt x="220" y="450"/>
                    </a:lnTo>
                    <a:lnTo>
                      <a:pt x="233" y="456"/>
                    </a:lnTo>
                    <a:lnTo>
                      <a:pt x="247" y="461"/>
                    </a:lnTo>
                    <a:lnTo>
                      <a:pt x="261" y="464"/>
                    </a:lnTo>
                    <a:lnTo>
                      <a:pt x="274" y="468"/>
                    </a:lnTo>
                    <a:lnTo>
                      <a:pt x="289" y="470"/>
                    </a:lnTo>
                    <a:lnTo>
                      <a:pt x="304" y="471"/>
                    </a:lnTo>
                    <a:lnTo>
                      <a:pt x="319" y="471"/>
                    </a:lnTo>
                    <a:lnTo>
                      <a:pt x="335" y="470"/>
                    </a:lnTo>
                    <a:lnTo>
                      <a:pt x="350" y="468"/>
                    </a:lnTo>
                    <a:lnTo>
                      <a:pt x="366" y="464"/>
                    </a:lnTo>
                    <a:lnTo>
                      <a:pt x="382" y="460"/>
                    </a:lnTo>
                    <a:lnTo>
                      <a:pt x="397" y="454"/>
                    </a:lnTo>
                    <a:lnTo>
                      <a:pt x="399" y="453"/>
                    </a:lnTo>
                    <a:lnTo>
                      <a:pt x="387" y="4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962520" y="401832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79" y="22"/>
                    </a:moveTo>
                    <a:lnTo>
                      <a:pt x="90" y="4"/>
                    </a:lnTo>
                    <a:lnTo>
                      <a:pt x="77" y="3"/>
                    </a:lnTo>
                    <a:lnTo>
                      <a:pt x="66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29" y="7"/>
                    </a:lnTo>
                    <a:lnTo>
                      <a:pt x="16" y="13"/>
                    </a:lnTo>
                    <a:lnTo>
                      <a:pt x="0" y="23"/>
                    </a:lnTo>
                    <a:lnTo>
                      <a:pt x="12" y="44"/>
                    </a:lnTo>
                    <a:lnTo>
                      <a:pt x="28" y="35"/>
                    </a:lnTo>
                    <a:lnTo>
                      <a:pt x="39" y="29"/>
                    </a:lnTo>
                    <a:lnTo>
                      <a:pt x="47" y="25"/>
                    </a:lnTo>
                    <a:lnTo>
                      <a:pt x="51" y="24"/>
                    </a:lnTo>
                    <a:lnTo>
                      <a:pt x="56" y="24"/>
                    </a:lnTo>
                    <a:lnTo>
                      <a:pt x="63" y="25"/>
                    </a:lnTo>
                    <a:lnTo>
                      <a:pt x="73" y="27"/>
                    </a:lnTo>
                    <a:lnTo>
                      <a:pt x="88" y="28"/>
                    </a:lnTo>
                    <a:lnTo>
                      <a:pt x="99" y="9"/>
                    </a:lnTo>
                    <a:lnTo>
                      <a:pt x="88" y="28"/>
                    </a:lnTo>
                    <a:lnTo>
                      <a:pt x="94" y="28"/>
                    </a:lnTo>
                    <a:lnTo>
                      <a:pt x="97" y="25"/>
                    </a:lnTo>
                    <a:lnTo>
                      <a:pt x="100" y="21"/>
                    </a:lnTo>
                    <a:lnTo>
                      <a:pt x="102" y="17"/>
                    </a:lnTo>
                    <a:lnTo>
                      <a:pt x="100" y="13"/>
                    </a:lnTo>
                    <a:lnTo>
                      <a:pt x="98" y="8"/>
                    </a:lnTo>
                    <a:lnTo>
                      <a:pt x="95" y="5"/>
                    </a:lnTo>
                    <a:lnTo>
                      <a:pt x="90" y="4"/>
                    </a:lnTo>
                    <a:lnTo>
                      <a:pt x="7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3973680" y="39974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3" h="84">
                    <a:moveTo>
                      <a:pt x="19" y="2"/>
                    </a:moveTo>
                    <a:lnTo>
                      <a:pt x="2" y="19"/>
                    </a:lnTo>
                    <a:lnTo>
                      <a:pt x="43" y="84"/>
                    </a:lnTo>
                    <a:lnTo>
                      <a:pt x="63" y="71"/>
                    </a:lnTo>
                    <a:lnTo>
                      <a:pt x="21" y="5"/>
                    </a:lnTo>
                    <a:lnTo>
                      <a:pt x="19" y="2"/>
                    </a:lnTo>
                    <a:lnTo>
                      <a:pt x="21" y="5"/>
                    </a:lnTo>
                    <a:lnTo>
                      <a:pt x="18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174840" y="4051440"/>
                <a:ext cx="219240" cy="338400"/>
              </a:xfrm>
              <a:custGeom>
                <a:avLst/>
                <a:gdLst/>
                <a:ahLst/>
                <a:rect l="l" t="t" r="r" b="b"/>
                <a:pathLst>
                  <a:path w="689" h="1068">
                    <a:moveTo>
                      <a:pt x="226" y="562"/>
                    </a:moveTo>
                    <a:lnTo>
                      <a:pt x="237" y="557"/>
                    </a:lnTo>
                    <a:lnTo>
                      <a:pt x="247" y="551"/>
                    </a:lnTo>
                    <a:lnTo>
                      <a:pt x="258" y="545"/>
                    </a:lnTo>
                    <a:lnTo>
                      <a:pt x="270" y="539"/>
                    </a:lnTo>
                    <a:lnTo>
                      <a:pt x="296" y="530"/>
                    </a:lnTo>
                    <a:lnTo>
                      <a:pt x="323" y="524"/>
                    </a:lnTo>
                    <a:lnTo>
                      <a:pt x="352" y="517"/>
                    </a:lnTo>
                    <a:lnTo>
                      <a:pt x="381" y="513"/>
                    </a:lnTo>
                    <a:lnTo>
                      <a:pt x="411" y="510"/>
                    </a:lnTo>
                    <a:lnTo>
                      <a:pt x="442" y="510"/>
                    </a:lnTo>
                    <a:lnTo>
                      <a:pt x="473" y="510"/>
                    </a:lnTo>
                    <a:lnTo>
                      <a:pt x="503" y="513"/>
                    </a:lnTo>
                    <a:lnTo>
                      <a:pt x="533" y="518"/>
                    </a:lnTo>
                    <a:lnTo>
                      <a:pt x="560" y="525"/>
                    </a:lnTo>
                    <a:lnTo>
                      <a:pt x="574" y="529"/>
                    </a:lnTo>
                    <a:lnTo>
                      <a:pt x="588" y="534"/>
                    </a:lnTo>
                    <a:lnTo>
                      <a:pt x="600" y="539"/>
                    </a:lnTo>
                    <a:lnTo>
                      <a:pt x="613" y="545"/>
                    </a:lnTo>
                    <a:lnTo>
                      <a:pt x="624" y="552"/>
                    </a:lnTo>
                    <a:lnTo>
                      <a:pt x="634" y="559"/>
                    </a:lnTo>
                    <a:lnTo>
                      <a:pt x="645" y="567"/>
                    </a:lnTo>
                    <a:lnTo>
                      <a:pt x="654" y="575"/>
                    </a:lnTo>
                    <a:lnTo>
                      <a:pt x="631" y="599"/>
                    </a:lnTo>
                    <a:lnTo>
                      <a:pt x="609" y="619"/>
                    </a:lnTo>
                    <a:lnTo>
                      <a:pt x="589" y="638"/>
                    </a:lnTo>
                    <a:lnTo>
                      <a:pt x="569" y="653"/>
                    </a:lnTo>
                    <a:lnTo>
                      <a:pt x="551" y="667"/>
                    </a:lnTo>
                    <a:lnTo>
                      <a:pt x="534" y="680"/>
                    </a:lnTo>
                    <a:lnTo>
                      <a:pt x="518" y="689"/>
                    </a:lnTo>
                    <a:lnTo>
                      <a:pt x="503" y="698"/>
                    </a:lnTo>
                    <a:lnTo>
                      <a:pt x="479" y="710"/>
                    </a:lnTo>
                    <a:lnTo>
                      <a:pt x="461" y="718"/>
                    </a:lnTo>
                    <a:lnTo>
                      <a:pt x="454" y="722"/>
                    </a:lnTo>
                    <a:lnTo>
                      <a:pt x="450" y="724"/>
                    </a:lnTo>
                    <a:lnTo>
                      <a:pt x="446" y="728"/>
                    </a:lnTo>
                    <a:lnTo>
                      <a:pt x="444" y="730"/>
                    </a:lnTo>
                    <a:lnTo>
                      <a:pt x="444" y="732"/>
                    </a:lnTo>
                    <a:lnTo>
                      <a:pt x="446" y="736"/>
                    </a:lnTo>
                    <a:lnTo>
                      <a:pt x="450" y="739"/>
                    </a:lnTo>
                    <a:lnTo>
                      <a:pt x="455" y="744"/>
                    </a:lnTo>
                    <a:lnTo>
                      <a:pt x="473" y="755"/>
                    </a:lnTo>
                    <a:lnTo>
                      <a:pt x="499" y="772"/>
                    </a:lnTo>
                    <a:lnTo>
                      <a:pt x="532" y="797"/>
                    </a:lnTo>
                    <a:lnTo>
                      <a:pt x="575" y="830"/>
                    </a:lnTo>
                    <a:lnTo>
                      <a:pt x="600" y="850"/>
                    </a:lnTo>
                    <a:lnTo>
                      <a:pt x="628" y="872"/>
                    </a:lnTo>
                    <a:lnTo>
                      <a:pt x="657" y="899"/>
                    </a:lnTo>
                    <a:lnTo>
                      <a:pt x="689" y="928"/>
                    </a:lnTo>
                    <a:lnTo>
                      <a:pt x="576" y="1026"/>
                    </a:lnTo>
                    <a:lnTo>
                      <a:pt x="536" y="1003"/>
                    </a:lnTo>
                    <a:lnTo>
                      <a:pt x="498" y="980"/>
                    </a:lnTo>
                    <a:lnTo>
                      <a:pt x="458" y="953"/>
                    </a:lnTo>
                    <a:lnTo>
                      <a:pt x="419" y="926"/>
                    </a:lnTo>
                    <a:lnTo>
                      <a:pt x="381" y="899"/>
                    </a:lnTo>
                    <a:lnTo>
                      <a:pt x="345" y="869"/>
                    </a:lnTo>
                    <a:lnTo>
                      <a:pt x="310" y="839"/>
                    </a:lnTo>
                    <a:lnTo>
                      <a:pt x="276" y="810"/>
                    </a:lnTo>
                    <a:lnTo>
                      <a:pt x="290" y="839"/>
                    </a:lnTo>
                    <a:lnTo>
                      <a:pt x="303" y="871"/>
                    </a:lnTo>
                    <a:lnTo>
                      <a:pt x="308" y="888"/>
                    </a:lnTo>
                    <a:lnTo>
                      <a:pt x="314" y="907"/>
                    </a:lnTo>
                    <a:lnTo>
                      <a:pt x="319" y="924"/>
                    </a:lnTo>
                    <a:lnTo>
                      <a:pt x="322" y="942"/>
                    </a:lnTo>
                    <a:lnTo>
                      <a:pt x="324" y="959"/>
                    </a:lnTo>
                    <a:lnTo>
                      <a:pt x="325" y="977"/>
                    </a:lnTo>
                    <a:lnTo>
                      <a:pt x="325" y="994"/>
                    </a:lnTo>
                    <a:lnTo>
                      <a:pt x="323" y="1010"/>
                    </a:lnTo>
                    <a:lnTo>
                      <a:pt x="320" y="1026"/>
                    </a:lnTo>
                    <a:lnTo>
                      <a:pt x="314" y="1041"/>
                    </a:lnTo>
                    <a:lnTo>
                      <a:pt x="310" y="1049"/>
                    </a:lnTo>
                    <a:lnTo>
                      <a:pt x="306" y="1056"/>
                    </a:lnTo>
                    <a:lnTo>
                      <a:pt x="302" y="1062"/>
                    </a:lnTo>
                    <a:lnTo>
                      <a:pt x="296" y="1068"/>
                    </a:lnTo>
                    <a:lnTo>
                      <a:pt x="264" y="1042"/>
                    </a:lnTo>
                    <a:lnTo>
                      <a:pt x="227" y="1014"/>
                    </a:lnTo>
                    <a:lnTo>
                      <a:pt x="186" y="985"/>
                    </a:lnTo>
                    <a:lnTo>
                      <a:pt x="145" y="954"/>
                    </a:lnTo>
                    <a:lnTo>
                      <a:pt x="125" y="938"/>
                    </a:lnTo>
                    <a:lnTo>
                      <a:pt x="106" y="924"/>
                    </a:lnTo>
                    <a:lnTo>
                      <a:pt x="87" y="908"/>
                    </a:lnTo>
                    <a:lnTo>
                      <a:pt x="70" y="892"/>
                    </a:lnTo>
                    <a:lnTo>
                      <a:pt x="54" y="876"/>
                    </a:lnTo>
                    <a:lnTo>
                      <a:pt x="39" y="861"/>
                    </a:lnTo>
                    <a:lnTo>
                      <a:pt x="28" y="845"/>
                    </a:lnTo>
                    <a:lnTo>
                      <a:pt x="19" y="829"/>
                    </a:lnTo>
                    <a:lnTo>
                      <a:pt x="11" y="812"/>
                    </a:lnTo>
                    <a:lnTo>
                      <a:pt x="5" y="795"/>
                    </a:lnTo>
                    <a:lnTo>
                      <a:pt x="2" y="778"/>
                    </a:lnTo>
                    <a:lnTo>
                      <a:pt x="0" y="759"/>
                    </a:lnTo>
                    <a:lnTo>
                      <a:pt x="0" y="742"/>
                    </a:lnTo>
                    <a:lnTo>
                      <a:pt x="0" y="725"/>
                    </a:lnTo>
                    <a:lnTo>
                      <a:pt x="2" y="707"/>
                    </a:lnTo>
                    <a:lnTo>
                      <a:pt x="5" y="690"/>
                    </a:lnTo>
                    <a:lnTo>
                      <a:pt x="10" y="672"/>
                    </a:lnTo>
                    <a:lnTo>
                      <a:pt x="15" y="655"/>
                    </a:lnTo>
                    <a:lnTo>
                      <a:pt x="22" y="638"/>
                    </a:lnTo>
                    <a:lnTo>
                      <a:pt x="29" y="620"/>
                    </a:lnTo>
                    <a:lnTo>
                      <a:pt x="45" y="586"/>
                    </a:lnTo>
                    <a:lnTo>
                      <a:pt x="63" y="552"/>
                    </a:lnTo>
                    <a:lnTo>
                      <a:pt x="100" y="488"/>
                    </a:lnTo>
                    <a:lnTo>
                      <a:pt x="133" y="430"/>
                    </a:lnTo>
                    <a:lnTo>
                      <a:pt x="139" y="416"/>
                    </a:lnTo>
                    <a:lnTo>
                      <a:pt x="144" y="404"/>
                    </a:lnTo>
                    <a:lnTo>
                      <a:pt x="150" y="390"/>
                    </a:lnTo>
                    <a:lnTo>
                      <a:pt x="153" y="379"/>
                    </a:lnTo>
                    <a:lnTo>
                      <a:pt x="156" y="367"/>
                    </a:lnTo>
                    <a:lnTo>
                      <a:pt x="157" y="356"/>
                    </a:lnTo>
                    <a:lnTo>
                      <a:pt x="157" y="346"/>
                    </a:lnTo>
                    <a:lnTo>
                      <a:pt x="156" y="335"/>
                    </a:lnTo>
                    <a:lnTo>
                      <a:pt x="152" y="317"/>
                    </a:lnTo>
                    <a:lnTo>
                      <a:pt x="147" y="299"/>
                    </a:lnTo>
                    <a:lnTo>
                      <a:pt x="139" y="280"/>
                    </a:lnTo>
                    <a:lnTo>
                      <a:pt x="129" y="259"/>
                    </a:lnTo>
                    <a:lnTo>
                      <a:pt x="109" y="218"/>
                    </a:lnTo>
                    <a:lnTo>
                      <a:pt x="86" y="176"/>
                    </a:lnTo>
                    <a:lnTo>
                      <a:pt x="75" y="155"/>
                    </a:lnTo>
                    <a:lnTo>
                      <a:pt x="63" y="134"/>
                    </a:lnTo>
                    <a:lnTo>
                      <a:pt x="53" y="113"/>
                    </a:lnTo>
                    <a:lnTo>
                      <a:pt x="45" y="93"/>
                    </a:lnTo>
                    <a:lnTo>
                      <a:pt x="37" y="73"/>
                    </a:lnTo>
                    <a:lnTo>
                      <a:pt x="33" y="54"/>
                    </a:lnTo>
                    <a:lnTo>
                      <a:pt x="30" y="44"/>
                    </a:lnTo>
                    <a:lnTo>
                      <a:pt x="29" y="34"/>
                    </a:lnTo>
                    <a:lnTo>
                      <a:pt x="29" y="25"/>
                    </a:lnTo>
                    <a:lnTo>
                      <a:pt x="29" y="16"/>
                    </a:lnTo>
                    <a:lnTo>
                      <a:pt x="31" y="9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52" y="0"/>
                    </a:lnTo>
                    <a:lnTo>
                      <a:pt x="62" y="1"/>
                    </a:lnTo>
                    <a:lnTo>
                      <a:pt x="75" y="4"/>
                    </a:lnTo>
                    <a:lnTo>
                      <a:pt x="90" y="9"/>
                    </a:lnTo>
                    <a:lnTo>
                      <a:pt x="104" y="16"/>
                    </a:lnTo>
                    <a:lnTo>
                      <a:pt x="120" y="24"/>
                    </a:lnTo>
                    <a:lnTo>
                      <a:pt x="137" y="34"/>
                    </a:lnTo>
                    <a:lnTo>
                      <a:pt x="155" y="47"/>
                    </a:lnTo>
                    <a:lnTo>
                      <a:pt x="172" y="61"/>
                    </a:lnTo>
                    <a:lnTo>
                      <a:pt x="189" y="75"/>
                    </a:lnTo>
                    <a:lnTo>
                      <a:pt x="206" y="91"/>
                    </a:lnTo>
                    <a:lnTo>
                      <a:pt x="223" y="110"/>
                    </a:lnTo>
                    <a:lnTo>
                      <a:pt x="239" y="129"/>
                    </a:lnTo>
                    <a:lnTo>
                      <a:pt x="255" y="150"/>
                    </a:lnTo>
                    <a:lnTo>
                      <a:pt x="269" y="171"/>
                    </a:lnTo>
                    <a:lnTo>
                      <a:pt x="282" y="194"/>
                    </a:lnTo>
                    <a:lnTo>
                      <a:pt x="294" y="218"/>
                    </a:lnTo>
                    <a:lnTo>
                      <a:pt x="303" y="243"/>
                    </a:lnTo>
                    <a:lnTo>
                      <a:pt x="311" y="268"/>
                    </a:lnTo>
                    <a:lnTo>
                      <a:pt x="316" y="296"/>
                    </a:lnTo>
                    <a:lnTo>
                      <a:pt x="319" y="323"/>
                    </a:lnTo>
                    <a:lnTo>
                      <a:pt x="319" y="350"/>
                    </a:lnTo>
                    <a:lnTo>
                      <a:pt x="316" y="380"/>
                    </a:lnTo>
                    <a:lnTo>
                      <a:pt x="311" y="408"/>
                    </a:lnTo>
                    <a:lnTo>
                      <a:pt x="302" y="439"/>
                    </a:lnTo>
                    <a:lnTo>
                      <a:pt x="289" y="469"/>
                    </a:lnTo>
                    <a:lnTo>
                      <a:pt x="272" y="500"/>
                    </a:lnTo>
                    <a:lnTo>
                      <a:pt x="251" y="531"/>
                    </a:lnTo>
                    <a:lnTo>
                      <a:pt x="226" y="56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3244680" y="4208760"/>
                <a:ext cx="142920" cy="28440"/>
              </a:xfrm>
              <a:custGeom>
                <a:avLst/>
                <a:gdLst/>
                <a:ahLst/>
                <a:rect l="l" t="t" r="r" b="b"/>
                <a:pathLst>
                  <a:path w="447" h="89">
                    <a:moveTo>
                      <a:pt x="444" y="86"/>
                    </a:moveTo>
                    <a:lnTo>
                      <a:pt x="444" y="69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5"/>
                    </a:lnTo>
                    <a:lnTo>
                      <a:pt x="398" y="38"/>
                    </a:lnTo>
                    <a:lnTo>
                      <a:pt x="386" y="31"/>
                    </a:lnTo>
                    <a:lnTo>
                      <a:pt x="373" y="25"/>
                    </a:lnTo>
                    <a:lnTo>
                      <a:pt x="359" y="21"/>
                    </a:lnTo>
                    <a:lnTo>
                      <a:pt x="345" y="16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1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3" y="22"/>
                    </a:lnTo>
                    <a:lnTo>
                      <a:pt x="47" y="31"/>
                    </a:lnTo>
                    <a:lnTo>
                      <a:pt x="35" y="37"/>
                    </a:lnTo>
                    <a:lnTo>
                      <a:pt x="22" y="42"/>
                    </a:lnTo>
                    <a:lnTo>
                      <a:pt x="11" y="48"/>
                    </a:lnTo>
                    <a:lnTo>
                      <a:pt x="0" y="55"/>
                    </a:lnTo>
                    <a:lnTo>
                      <a:pt x="14" y="76"/>
                    </a:lnTo>
                    <a:lnTo>
                      <a:pt x="23" y="70"/>
                    </a:lnTo>
                    <a:lnTo>
                      <a:pt x="34" y="64"/>
                    </a:lnTo>
                    <a:lnTo>
                      <a:pt x="44" y="58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8"/>
                    </a:lnTo>
                    <a:lnTo>
                      <a:pt x="135" y="32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4"/>
                    </a:lnTo>
                    <a:lnTo>
                      <a:pt x="254" y="25"/>
                    </a:lnTo>
                    <a:lnTo>
                      <a:pt x="283" y="28"/>
                    </a:lnTo>
                    <a:lnTo>
                      <a:pt x="312" y="33"/>
                    </a:lnTo>
                    <a:lnTo>
                      <a:pt x="339" y="40"/>
                    </a:lnTo>
                    <a:lnTo>
                      <a:pt x="352" y="44"/>
                    </a:lnTo>
                    <a:lnTo>
                      <a:pt x="364" y="48"/>
                    </a:lnTo>
                    <a:lnTo>
                      <a:pt x="377" y="54"/>
                    </a:lnTo>
                    <a:lnTo>
                      <a:pt x="388" y="60"/>
                    </a:lnTo>
                    <a:lnTo>
                      <a:pt x="398" y="65"/>
                    </a:lnTo>
                    <a:lnTo>
                      <a:pt x="409" y="72"/>
                    </a:lnTo>
                    <a:lnTo>
                      <a:pt x="418" y="79"/>
                    </a:lnTo>
                    <a:lnTo>
                      <a:pt x="427" y="86"/>
                    </a:lnTo>
                    <a:lnTo>
                      <a:pt x="427" y="69"/>
                    </a:lnTo>
                    <a:lnTo>
                      <a:pt x="427" y="86"/>
                    </a:lnTo>
                    <a:lnTo>
                      <a:pt x="431" y="89"/>
                    </a:lnTo>
                    <a:lnTo>
                      <a:pt x="436" y="89"/>
                    </a:lnTo>
                    <a:lnTo>
                      <a:pt x="440" y="88"/>
                    </a:lnTo>
                    <a:lnTo>
                      <a:pt x="444" y="86"/>
                    </a:lnTo>
                    <a:lnTo>
                      <a:pt x="446" y="82"/>
                    </a:lnTo>
                    <a:lnTo>
                      <a:pt x="447" y="78"/>
                    </a:lnTo>
                    <a:lnTo>
                      <a:pt x="446" y="73"/>
                    </a:lnTo>
                    <a:lnTo>
                      <a:pt x="444" y="69"/>
                    </a:lnTo>
                    <a:lnTo>
                      <a:pt x="444" y="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313080" y="4231080"/>
                <a:ext cx="85680" cy="11880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64" y="371"/>
                    </a:moveTo>
                    <a:lnTo>
                      <a:pt x="264" y="353"/>
                    </a:lnTo>
                    <a:lnTo>
                      <a:pt x="232" y="323"/>
                    </a:lnTo>
                    <a:lnTo>
                      <a:pt x="202" y="297"/>
                    </a:lnTo>
                    <a:lnTo>
                      <a:pt x="175" y="274"/>
                    </a:lnTo>
                    <a:lnTo>
                      <a:pt x="150" y="254"/>
                    </a:lnTo>
                    <a:lnTo>
                      <a:pt x="107" y="221"/>
                    </a:lnTo>
                    <a:lnTo>
                      <a:pt x="73" y="197"/>
                    </a:lnTo>
                    <a:lnTo>
                      <a:pt x="46" y="179"/>
                    </a:lnTo>
                    <a:lnTo>
                      <a:pt x="29" y="167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3"/>
                    </a:lnTo>
                    <a:lnTo>
                      <a:pt x="22" y="167"/>
                    </a:lnTo>
                    <a:lnTo>
                      <a:pt x="21" y="170"/>
                    </a:lnTo>
                    <a:lnTo>
                      <a:pt x="22" y="168"/>
                    </a:lnTo>
                    <a:lnTo>
                      <a:pt x="27" y="167"/>
                    </a:lnTo>
                    <a:lnTo>
                      <a:pt x="34" y="164"/>
                    </a:lnTo>
                    <a:lnTo>
                      <a:pt x="52" y="155"/>
                    </a:lnTo>
                    <a:lnTo>
                      <a:pt x="76" y="142"/>
                    </a:lnTo>
                    <a:lnTo>
                      <a:pt x="91" y="133"/>
                    </a:lnTo>
                    <a:lnTo>
                      <a:pt x="108" y="124"/>
                    </a:lnTo>
                    <a:lnTo>
                      <a:pt x="125" y="111"/>
                    </a:lnTo>
                    <a:lnTo>
                      <a:pt x="143" y="98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7"/>
                    </a:lnTo>
                    <a:lnTo>
                      <a:pt x="213" y="0"/>
                    </a:lnTo>
                    <a:lnTo>
                      <a:pt x="190" y="24"/>
                    </a:lnTo>
                    <a:lnTo>
                      <a:pt x="168" y="44"/>
                    </a:lnTo>
                    <a:lnTo>
                      <a:pt x="148" y="62"/>
                    </a:lnTo>
                    <a:lnTo>
                      <a:pt x="128" y="78"/>
                    </a:lnTo>
                    <a:lnTo>
                      <a:pt x="110" y="92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4" y="142"/>
                    </a:lnTo>
                    <a:lnTo>
                      <a:pt x="16" y="146"/>
                    </a:lnTo>
                    <a:lnTo>
                      <a:pt x="10" y="148"/>
                    </a:lnTo>
                    <a:lnTo>
                      <a:pt x="4" y="152"/>
                    </a:lnTo>
                    <a:lnTo>
                      <a:pt x="0" y="160"/>
                    </a:lnTo>
                    <a:lnTo>
                      <a:pt x="0" y="171"/>
                    </a:lnTo>
                    <a:lnTo>
                      <a:pt x="4" y="178"/>
                    </a:lnTo>
                    <a:lnTo>
                      <a:pt x="9" y="182"/>
                    </a:lnTo>
                    <a:lnTo>
                      <a:pt x="16" y="188"/>
                    </a:lnTo>
                    <a:lnTo>
                      <a:pt x="33" y="199"/>
                    </a:lnTo>
                    <a:lnTo>
                      <a:pt x="59" y="216"/>
                    </a:lnTo>
                    <a:lnTo>
                      <a:pt x="92" y="240"/>
                    </a:lnTo>
                    <a:lnTo>
                      <a:pt x="134" y="273"/>
                    </a:lnTo>
                    <a:lnTo>
                      <a:pt x="159" y="294"/>
                    </a:lnTo>
                    <a:lnTo>
                      <a:pt x="187" y="317"/>
                    </a:lnTo>
                    <a:lnTo>
                      <a:pt x="216" y="342"/>
                    </a:lnTo>
                    <a:lnTo>
                      <a:pt x="248" y="370"/>
                    </a:lnTo>
                    <a:lnTo>
                      <a:pt x="248" y="353"/>
                    </a:lnTo>
                    <a:lnTo>
                      <a:pt x="248" y="370"/>
                    </a:lnTo>
                    <a:lnTo>
                      <a:pt x="253" y="374"/>
                    </a:lnTo>
                    <a:lnTo>
                      <a:pt x="257" y="374"/>
                    </a:lnTo>
                    <a:lnTo>
                      <a:pt x="261" y="372"/>
                    </a:lnTo>
                    <a:lnTo>
                      <a:pt x="265" y="370"/>
                    </a:lnTo>
                    <a:lnTo>
                      <a:pt x="267" y="367"/>
                    </a:lnTo>
                    <a:lnTo>
                      <a:pt x="269" y="362"/>
                    </a:lnTo>
                    <a:lnTo>
                      <a:pt x="267" y="358"/>
                    </a:lnTo>
                    <a:lnTo>
                      <a:pt x="264" y="353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354480" y="434376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133" h="120">
                    <a:moveTo>
                      <a:pt x="7" y="119"/>
                    </a:moveTo>
                    <a:lnTo>
                      <a:pt x="20" y="116"/>
                    </a:lnTo>
                    <a:lnTo>
                      <a:pt x="133" y="18"/>
                    </a:lnTo>
                    <a:lnTo>
                      <a:pt x="117" y="0"/>
                    </a:lnTo>
                    <a:lnTo>
                      <a:pt x="4" y="98"/>
                    </a:lnTo>
                    <a:lnTo>
                      <a:pt x="7" y="119"/>
                    </a:lnTo>
                    <a:lnTo>
                      <a:pt x="4" y="98"/>
                    </a:lnTo>
                    <a:lnTo>
                      <a:pt x="1" y="103"/>
                    </a:lnTo>
                    <a:lnTo>
                      <a:pt x="0" y="107"/>
                    </a:lnTo>
                    <a:lnTo>
                      <a:pt x="1" y="112"/>
                    </a:lnTo>
                    <a:lnTo>
                      <a:pt x="3" y="115"/>
                    </a:lnTo>
                    <a:lnTo>
                      <a:pt x="7" y="119"/>
                    </a:lnTo>
                    <a:lnTo>
                      <a:pt x="11" y="120"/>
                    </a:lnTo>
                    <a:lnTo>
                      <a:pt x="16" y="120"/>
                    </a:lnTo>
                    <a:lnTo>
                      <a:pt x="20" y="116"/>
                    </a:lnTo>
                    <a:lnTo>
                      <a:pt x="7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259080" y="430380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5" y="21"/>
                    </a:lnTo>
                    <a:lnTo>
                      <a:pt x="39" y="50"/>
                    </a:lnTo>
                    <a:lnTo>
                      <a:pt x="74" y="80"/>
                    </a:lnTo>
                    <a:lnTo>
                      <a:pt x="110" y="110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6"/>
                    </a:lnTo>
                    <a:lnTo>
                      <a:pt x="307" y="240"/>
                    </a:lnTo>
                    <a:lnTo>
                      <a:pt x="318" y="218"/>
                    </a:lnTo>
                    <a:lnTo>
                      <a:pt x="279" y="195"/>
                    </a:lnTo>
                    <a:lnTo>
                      <a:pt x="239" y="171"/>
                    </a:lnTo>
                    <a:lnTo>
                      <a:pt x="201" y="145"/>
                    </a:lnTo>
                    <a:lnTo>
                      <a:pt x="163" y="119"/>
                    </a:lnTo>
                    <a:lnTo>
                      <a:pt x="125" y="90"/>
                    </a:lnTo>
                    <a:lnTo>
                      <a:pt x="89" y="62"/>
                    </a:lnTo>
                    <a:lnTo>
                      <a:pt x="54" y="32"/>
                    </a:lnTo>
                    <a:lnTo>
                      <a:pt x="20" y="4"/>
                    </a:lnTo>
                    <a:lnTo>
                      <a:pt x="2" y="1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5" y="21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260880" y="4307040"/>
                <a:ext cx="2196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2" y="273"/>
                    </a:moveTo>
                    <a:lnTo>
                      <a:pt x="39" y="271"/>
                    </a:lnTo>
                    <a:lnTo>
                      <a:pt x="45" y="265"/>
                    </a:lnTo>
                    <a:lnTo>
                      <a:pt x="50" y="258"/>
                    </a:lnTo>
                    <a:lnTo>
                      <a:pt x="55" y="250"/>
                    </a:lnTo>
                    <a:lnTo>
                      <a:pt x="58" y="242"/>
                    </a:lnTo>
                    <a:lnTo>
                      <a:pt x="65" y="225"/>
                    </a:lnTo>
                    <a:lnTo>
                      <a:pt x="69" y="208"/>
                    </a:lnTo>
                    <a:lnTo>
                      <a:pt x="71" y="190"/>
                    </a:lnTo>
                    <a:lnTo>
                      <a:pt x="72" y="172"/>
                    </a:lnTo>
                    <a:lnTo>
                      <a:pt x="71" y="153"/>
                    </a:lnTo>
                    <a:lnTo>
                      <a:pt x="67" y="135"/>
                    </a:lnTo>
                    <a:lnTo>
                      <a:pt x="64" y="116"/>
                    </a:lnTo>
                    <a:lnTo>
                      <a:pt x="59" y="98"/>
                    </a:lnTo>
                    <a:lnTo>
                      <a:pt x="54" y="80"/>
                    </a:lnTo>
                    <a:lnTo>
                      <a:pt x="48" y="62"/>
                    </a:lnTo>
                    <a:lnTo>
                      <a:pt x="36" y="3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13" y="39"/>
                    </a:lnTo>
                    <a:lnTo>
                      <a:pt x="25" y="71"/>
                    </a:lnTo>
                    <a:lnTo>
                      <a:pt x="31" y="87"/>
                    </a:lnTo>
                    <a:lnTo>
                      <a:pt x="37" y="104"/>
                    </a:lnTo>
                    <a:lnTo>
                      <a:pt x="40" y="121"/>
                    </a:lnTo>
                    <a:lnTo>
                      <a:pt x="44" y="139"/>
                    </a:lnTo>
                    <a:lnTo>
                      <a:pt x="46" y="155"/>
                    </a:lnTo>
                    <a:lnTo>
                      <a:pt x="47" y="172"/>
                    </a:lnTo>
                    <a:lnTo>
                      <a:pt x="47" y="188"/>
                    </a:lnTo>
                    <a:lnTo>
                      <a:pt x="45" y="204"/>
                    </a:lnTo>
                    <a:lnTo>
                      <a:pt x="42" y="218"/>
                    </a:lnTo>
                    <a:lnTo>
                      <a:pt x="37" y="232"/>
                    </a:lnTo>
                    <a:lnTo>
                      <a:pt x="33" y="237"/>
                    </a:lnTo>
                    <a:lnTo>
                      <a:pt x="30" y="244"/>
                    </a:lnTo>
                    <a:lnTo>
                      <a:pt x="25" y="250"/>
                    </a:lnTo>
                    <a:lnTo>
                      <a:pt x="21" y="254"/>
                    </a:lnTo>
                    <a:lnTo>
                      <a:pt x="38" y="254"/>
                    </a:lnTo>
                    <a:lnTo>
                      <a:pt x="21" y="254"/>
                    </a:lnTo>
                    <a:lnTo>
                      <a:pt x="18" y="259"/>
                    </a:lnTo>
                    <a:lnTo>
                      <a:pt x="17" y="265"/>
                    </a:lnTo>
                    <a:lnTo>
                      <a:pt x="18" y="268"/>
                    </a:lnTo>
                    <a:lnTo>
                      <a:pt x="22" y="271"/>
                    </a:lnTo>
                    <a:lnTo>
                      <a:pt x="25" y="275"/>
                    </a:lnTo>
                    <a:lnTo>
                      <a:pt x="30" y="276"/>
                    </a:lnTo>
                    <a:lnTo>
                      <a:pt x="34" y="275"/>
                    </a:lnTo>
                    <a:lnTo>
                      <a:pt x="39" y="271"/>
                    </a:lnTo>
                    <a:lnTo>
                      <a:pt x="22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178080" y="4312080"/>
                <a:ext cx="93600" cy="80640"/>
              </a:xfrm>
              <a:custGeom>
                <a:avLst/>
                <a:gdLst/>
                <a:ahLst/>
                <a:rect l="l" t="t" r="r" b="b"/>
                <a:pathLst>
                  <a:path w="296" h="255">
                    <a:moveTo>
                      <a:pt x="0" y="12"/>
                    </a:moveTo>
                    <a:lnTo>
                      <a:pt x="0" y="12"/>
                    </a:lnTo>
                    <a:lnTo>
                      <a:pt x="10" y="29"/>
                    </a:lnTo>
                    <a:lnTo>
                      <a:pt x="22" y="45"/>
                    </a:lnTo>
                    <a:lnTo>
                      <a:pt x="37" y="62"/>
                    </a:lnTo>
                    <a:lnTo>
                      <a:pt x="53" y="78"/>
                    </a:lnTo>
                    <a:lnTo>
                      <a:pt x="71" y="94"/>
                    </a:lnTo>
                    <a:lnTo>
                      <a:pt x="90" y="110"/>
                    </a:lnTo>
                    <a:lnTo>
                      <a:pt x="110" y="126"/>
                    </a:lnTo>
                    <a:lnTo>
                      <a:pt x="131" y="142"/>
                    </a:lnTo>
                    <a:lnTo>
                      <a:pt x="172" y="171"/>
                    </a:lnTo>
                    <a:lnTo>
                      <a:pt x="211" y="201"/>
                    </a:lnTo>
                    <a:lnTo>
                      <a:pt x="249" y="228"/>
                    </a:lnTo>
                    <a:lnTo>
                      <a:pt x="280" y="255"/>
                    </a:lnTo>
                    <a:lnTo>
                      <a:pt x="296" y="236"/>
                    </a:lnTo>
                    <a:lnTo>
                      <a:pt x="264" y="209"/>
                    </a:lnTo>
                    <a:lnTo>
                      <a:pt x="226" y="182"/>
                    </a:lnTo>
                    <a:lnTo>
                      <a:pt x="185" y="152"/>
                    </a:lnTo>
                    <a:lnTo>
                      <a:pt x="144" y="122"/>
                    </a:lnTo>
                    <a:lnTo>
                      <a:pt x="125" y="106"/>
                    </a:lnTo>
                    <a:lnTo>
                      <a:pt x="106" y="92"/>
                    </a:lnTo>
                    <a:lnTo>
                      <a:pt x="87" y="76"/>
                    </a:lnTo>
                    <a:lnTo>
                      <a:pt x="70" y="61"/>
                    </a:lnTo>
                    <a:lnTo>
                      <a:pt x="54" y="45"/>
                    </a:lnTo>
                    <a:lnTo>
                      <a:pt x="42" y="30"/>
                    </a:lnTo>
                    <a:lnTo>
                      <a:pt x="30" y="15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171960" y="4156200"/>
                <a:ext cx="56880" cy="16056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56" y="5"/>
                    </a:moveTo>
                    <a:lnTo>
                      <a:pt x="156" y="7"/>
                    </a:lnTo>
                    <a:lnTo>
                      <a:pt x="158" y="15"/>
                    </a:lnTo>
                    <a:lnTo>
                      <a:pt x="158" y="23"/>
                    </a:lnTo>
                    <a:lnTo>
                      <a:pt x="157" y="33"/>
                    </a:lnTo>
                    <a:lnTo>
                      <a:pt x="155" y="43"/>
                    </a:lnTo>
                    <a:lnTo>
                      <a:pt x="152" y="55"/>
                    </a:lnTo>
                    <a:lnTo>
                      <a:pt x="147" y="67"/>
                    </a:lnTo>
                    <a:lnTo>
                      <a:pt x="141" y="80"/>
                    </a:lnTo>
                    <a:lnTo>
                      <a:pt x="134" y="92"/>
                    </a:lnTo>
                    <a:lnTo>
                      <a:pt x="103" y="150"/>
                    </a:lnTo>
                    <a:lnTo>
                      <a:pt x="65" y="214"/>
                    </a:lnTo>
                    <a:lnTo>
                      <a:pt x="48" y="249"/>
                    </a:lnTo>
                    <a:lnTo>
                      <a:pt x="31" y="283"/>
                    </a:lnTo>
                    <a:lnTo>
                      <a:pt x="24" y="301"/>
                    </a:lnTo>
                    <a:lnTo>
                      <a:pt x="17" y="319"/>
                    </a:lnTo>
                    <a:lnTo>
                      <a:pt x="11" y="336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2"/>
                    </a:lnTo>
                    <a:lnTo>
                      <a:pt x="0" y="410"/>
                    </a:lnTo>
                    <a:lnTo>
                      <a:pt x="1" y="429"/>
                    </a:lnTo>
                    <a:lnTo>
                      <a:pt x="3" y="447"/>
                    </a:lnTo>
                    <a:lnTo>
                      <a:pt x="7" y="466"/>
                    </a:lnTo>
                    <a:lnTo>
                      <a:pt x="13" y="484"/>
                    </a:lnTo>
                    <a:lnTo>
                      <a:pt x="21" y="503"/>
                    </a:lnTo>
                    <a:lnTo>
                      <a:pt x="42" y="491"/>
                    </a:lnTo>
                    <a:lnTo>
                      <a:pt x="35" y="475"/>
                    </a:lnTo>
                    <a:lnTo>
                      <a:pt x="31" y="459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0"/>
                    </a:lnTo>
                    <a:lnTo>
                      <a:pt x="25" y="393"/>
                    </a:lnTo>
                    <a:lnTo>
                      <a:pt x="27" y="377"/>
                    </a:lnTo>
                    <a:lnTo>
                      <a:pt x="31" y="360"/>
                    </a:lnTo>
                    <a:lnTo>
                      <a:pt x="35" y="343"/>
                    </a:lnTo>
                    <a:lnTo>
                      <a:pt x="40" y="326"/>
                    </a:lnTo>
                    <a:lnTo>
                      <a:pt x="47" y="310"/>
                    </a:lnTo>
                    <a:lnTo>
                      <a:pt x="54" y="293"/>
                    </a:lnTo>
                    <a:lnTo>
                      <a:pt x="70" y="259"/>
                    </a:lnTo>
                    <a:lnTo>
                      <a:pt x="87" y="227"/>
                    </a:lnTo>
                    <a:lnTo>
                      <a:pt x="123" y="163"/>
                    </a:lnTo>
                    <a:lnTo>
                      <a:pt x="156" y="104"/>
                    </a:lnTo>
                    <a:lnTo>
                      <a:pt x="163" y="90"/>
                    </a:lnTo>
                    <a:lnTo>
                      <a:pt x="169" y="76"/>
                    </a:lnTo>
                    <a:lnTo>
                      <a:pt x="174" y="63"/>
                    </a:lnTo>
                    <a:lnTo>
                      <a:pt x="178" y="50"/>
                    </a:lnTo>
                    <a:lnTo>
                      <a:pt x="181" y="36"/>
                    </a:lnTo>
                    <a:lnTo>
                      <a:pt x="182" y="24"/>
                    </a:lnTo>
                    <a:lnTo>
                      <a:pt x="182" y="13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181320" y="405648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4" y="41"/>
                    </a:lnTo>
                    <a:lnTo>
                      <a:pt x="9" y="62"/>
                    </a:lnTo>
                    <a:lnTo>
                      <a:pt x="17" y="82"/>
                    </a:lnTo>
                    <a:lnTo>
                      <a:pt x="26" y="103"/>
                    </a:lnTo>
                    <a:lnTo>
                      <a:pt x="36" y="124"/>
                    </a:lnTo>
                    <a:lnTo>
                      <a:pt x="46" y="146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50"/>
                    </a:lnTo>
                    <a:lnTo>
                      <a:pt x="110" y="269"/>
                    </a:lnTo>
                    <a:lnTo>
                      <a:pt x="118" y="287"/>
                    </a:lnTo>
                    <a:lnTo>
                      <a:pt x="123" y="306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300"/>
                    </a:lnTo>
                    <a:lnTo>
                      <a:pt x="141" y="279"/>
                    </a:lnTo>
                    <a:lnTo>
                      <a:pt x="133" y="260"/>
                    </a:lnTo>
                    <a:lnTo>
                      <a:pt x="124" y="239"/>
                    </a:lnTo>
                    <a:lnTo>
                      <a:pt x="102" y="197"/>
                    </a:lnTo>
                    <a:lnTo>
                      <a:pt x="79" y="155"/>
                    </a:lnTo>
                    <a:lnTo>
                      <a:pt x="68" y="135"/>
                    </a:lnTo>
                    <a:lnTo>
                      <a:pt x="58" y="114"/>
                    </a:lnTo>
                    <a:lnTo>
                      <a:pt x="47" y="94"/>
                    </a:lnTo>
                    <a:lnTo>
                      <a:pt x="40" y="73"/>
                    </a:lnTo>
                    <a:lnTo>
                      <a:pt x="33" y="54"/>
                    </a:lnTo>
                    <a:lnTo>
                      <a:pt x="27" y="35"/>
                    </a:lnTo>
                    <a:lnTo>
                      <a:pt x="26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181320" y="404676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314" h="587">
                    <a:moveTo>
                      <a:pt x="202" y="564"/>
                    </a:moveTo>
                    <a:lnTo>
                      <a:pt x="218" y="582"/>
                    </a:lnTo>
                    <a:lnTo>
                      <a:pt x="232" y="566"/>
                    </a:lnTo>
                    <a:lnTo>
                      <a:pt x="245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1" y="439"/>
                    </a:lnTo>
                    <a:lnTo>
                      <a:pt x="305" y="424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8"/>
                    </a:lnTo>
                    <a:lnTo>
                      <a:pt x="314" y="363"/>
                    </a:lnTo>
                    <a:lnTo>
                      <a:pt x="314" y="349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5"/>
                    </a:lnTo>
                    <a:lnTo>
                      <a:pt x="308" y="292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8" y="225"/>
                    </a:lnTo>
                    <a:lnTo>
                      <a:pt x="275" y="200"/>
                    </a:lnTo>
                    <a:lnTo>
                      <a:pt x="263" y="176"/>
                    </a:lnTo>
                    <a:lnTo>
                      <a:pt x="248" y="155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5"/>
                    </a:lnTo>
                    <a:lnTo>
                      <a:pt x="180" y="78"/>
                    </a:lnTo>
                    <a:lnTo>
                      <a:pt x="163" y="64"/>
                    </a:lnTo>
                    <a:lnTo>
                      <a:pt x="144" y="49"/>
                    </a:lnTo>
                    <a:lnTo>
                      <a:pt x="126" y="36"/>
                    </a:lnTo>
                    <a:lnTo>
                      <a:pt x="109" y="26"/>
                    </a:lnTo>
                    <a:lnTo>
                      <a:pt x="93" y="17"/>
                    </a:lnTo>
                    <a:lnTo>
                      <a:pt x="77" y="10"/>
                    </a:lnTo>
                    <a:lnTo>
                      <a:pt x="61" y="4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2" y="1"/>
                    </a:lnTo>
                    <a:lnTo>
                      <a:pt x="17" y="3"/>
                    </a:lnTo>
                    <a:lnTo>
                      <a:pt x="12" y="7"/>
                    </a:lnTo>
                    <a:lnTo>
                      <a:pt x="8" y="10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24" y="29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32" y="25"/>
                    </a:lnTo>
                    <a:lnTo>
                      <a:pt x="34" y="24"/>
                    </a:lnTo>
                    <a:lnTo>
                      <a:pt x="44" y="25"/>
                    </a:lnTo>
                    <a:lnTo>
                      <a:pt x="54" y="28"/>
                    </a:lnTo>
                    <a:lnTo>
                      <a:pt x="68" y="33"/>
                    </a:lnTo>
                    <a:lnTo>
                      <a:pt x="82" y="38"/>
                    </a:lnTo>
                    <a:lnTo>
                      <a:pt x="98" y="46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7"/>
                    </a:lnTo>
                    <a:lnTo>
                      <a:pt x="181" y="113"/>
                    </a:lnTo>
                    <a:lnTo>
                      <a:pt x="197" y="130"/>
                    </a:lnTo>
                    <a:lnTo>
                      <a:pt x="213" y="149"/>
                    </a:lnTo>
                    <a:lnTo>
                      <a:pt x="228" y="168"/>
                    </a:lnTo>
                    <a:lnTo>
                      <a:pt x="241" y="189"/>
                    </a:lnTo>
                    <a:lnTo>
                      <a:pt x="254" y="212"/>
                    </a:lnTo>
                    <a:lnTo>
                      <a:pt x="265" y="235"/>
                    </a:lnTo>
                    <a:lnTo>
                      <a:pt x="274" y="258"/>
                    </a:lnTo>
                    <a:lnTo>
                      <a:pt x="282" y="284"/>
                    </a:lnTo>
                    <a:lnTo>
                      <a:pt x="285" y="296"/>
                    </a:lnTo>
                    <a:lnTo>
                      <a:pt x="287" y="309"/>
                    </a:lnTo>
                    <a:lnTo>
                      <a:pt x="289" y="322"/>
                    </a:lnTo>
                    <a:lnTo>
                      <a:pt x="290" y="335"/>
                    </a:lnTo>
                    <a:lnTo>
                      <a:pt x="290" y="349"/>
                    </a:lnTo>
                    <a:lnTo>
                      <a:pt x="290" y="362"/>
                    </a:lnTo>
                    <a:lnTo>
                      <a:pt x="289" y="376"/>
                    </a:lnTo>
                    <a:lnTo>
                      <a:pt x="287" y="390"/>
                    </a:lnTo>
                    <a:lnTo>
                      <a:pt x="285" y="403"/>
                    </a:lnTo>
                    <a:lnTo>
                      <a:pt x="282" y="418"/>
                    </a:lnTo>
                    <a:lnTo>
                      <a:pt x="278" y="432"/>
                    </a:lnTo>
                    <a:lnTo>
                      <a:pt x="273" y="447"/>
                    </a:lnTo>
                    <a:lnTo>
                      <a:pt x="267" y="461"/>
                    </a:lnTo>
                    <a:lnTo>
                      <a:pt x="261" y="476"/>
                    </a:lnTo>
                    <a:lnTo>
                      <a:pt x="253" y="491"/>
                    </a:lnTo>
                    <a:lnTo>
                      <a:pt x="245" y="506"/>
                    </a:lnTo>
                    <a:lnTo>
                      <a:pt x="236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6"/>
                    </a:lnTo>
                    <a:lnTo>
                      <a:pt x="216" y="585"/>
                    </a:lnTo>
                    <a:lnTo>
                      <a:pt x="200" y="566"/>
                    </a:lnTo>
                    <a:lnTo>
                      <a:pt x="198" y="571"/>
                    </a:lnTo>
                    <a:lnTo>
                      <a:pt x="197" y="575"/>
                    </a:lnTo>
                    <a:lnTo>
                      <a:pt x="199" y="580"/>
                    </a:lnTo>
                    <a:lnTo>
                      <a:pt x="201" y="583"/>
                    </a:lnTo>
                    <a:lnTo>
                      <a:pt x="206" y="586"/>
                    </a:lnTo>
                    <a:lnTo>
                      <a:pt x="209" y="587"/>
                    </a:lnTo>
                    <a:lnTo>
                      <a:pt x="214" y="586"/>
                    </a:lnTo>
                    <a:lnTo>
                      <a:pt x="218" y="582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268880" y="4038840"/>
                <a:ext cx="218880" cy="339840"/>
              </a:xfrm>
              <a:custGeom>
                <a:avLst/>
                <a:gdLst/>
                <a:ahLst/>
                <a:rect l="l" t="t" r="r" b="b"/>
                <a:pathLst>
                  <a:path w="691" h="1069">
                    <a:moveTo>
                      <a:pt x="228" y="564"/>
                    </a:moveTo>
                    <a:lnTo>
                      <a:pt x="239" y="557"/>
                    </a:lnTo>
                    <a:lnTo>
                      <a:pt x="249" y="551"/>
                    </a:lnTo>
                    <a:lnTo>
                      <a:pt x="260" y="545"/>
                    </a:lnTo>
                    <a:lnTo>
                      <a:pt x="272" y="541"/>
                    </a:lnTo>
                    <a:lnTo>
                      <a:pt x="298" y="532"/>
                    </a:lnTo>
                    <a:lnTo>
                      <a:pt x="324" y="524"/>
                    </a:lnTo>
                    <a:lnTo>
                      <a:pt x="354" y="518"/>
                    </a:lnTo>
                    <a:lnTo>
                      <a:pt x="383" y="513"/>
                    </a:lnTo>
                    <a:lnTo>
                      <a:pt x="413" y="511"/>
                    </a:lnTo>
                    <a:lnTo>
                      <a:pt x="444" y="510"/>
                    </a:lnTo>
                    <a:lnTo>
                      <a:pt x="474" y="511"/>
                    </a:lnTo>
                    <a:lnTo>
                      <a:pt x="505" y="515"/>
                    </a:lnTo>
                    <a:lnTo>
                      <a:pt x="535" y="519"/>
                    </a:lnTo>
                    <a:lnTo>
                      <a:pt x="562" y="526"/>
                    </a:lnTo>
                    <a:lnTo>
                      <a:pt x="576" y="531"/>
                    </a:lnTo>
                    <a:lnTo>
                      <a:pt x="590" y="535"/>
                    </a:lnTo>
                    <a:lnTo>
                      <a:pt x="602" y="541"/>
                    </a:lnTo>
                    <a:lnTo>
                      <a:pt x="614" y="547"/>
                    </a:lnTo>
                    <a:lnTo>
                      <a:pt x="625" y="552"/>
                    </a:lnTo>
                    <a:lnTo>
                      <a:pt x="636" y="559"/>
                    </a:lnTo>
                    <a:lnTo>
                      <a:pt x="647" y="567"/>
                    </a:lnTo>
                    <a:lnTo>
                      <a:pt x="656" y="575"/>
                    </a:lnTo>
                    <a:lnTo>
                      <a:pt x="633" y="599"/>
                    </a:lnTo>
                    <a:lnTo>
                      <a:pt x="611" y="621"/>
                    </a:lnTo>
                    <a:lnTo>
                      <a:pt x="591" y="639"/>
                    </a:lnTo>
                    <a:lnTo>
                      <a:pt x="571" y="655"/>
                    </a:lnTo>
                    <a:lnTo>
                      <a:pt x="552" y="669"/>
                    </a:lnTo>
                    <a:lnTo>
                      <a:pt x="536" y="680"/>
                    </a:lnTo>
                    <a:lnTo>
                      <a:pt x="520" y="690"/>
                    </a:lnTo>
                    <a:lnTo>
                      <a:pt x="505" y="698"/>
                    </a:lnTo>
                    <a:lnTo>
                      <a:pt x="481" y="711"/>
                    </a:lnTo>
                    <a:lnTo>
                      <a:pt x="463" y="720"/>
                    </a:lnTo>
                    <a:lnTo>
                      <a:pt x="456" y="723"/>
                    </a:lnTo>
                    <a:lnTo>
                      <a:pt x="451" y="726"/>
                    </a:lnTo>
                    <a:lnTo>
                      <a:pt x="447" y="728"/>
                    </a:lnTo>
                    <a:lnTo>
                      <a:pt x="446" y="730"/>
                    </a:lnTo>
                    <a:lnTo>
                      <a:pt x="446" y="734"/>
                    </a:lnTo>
                    <a:lnTo>
                      <a:pt x="448" y="736"/>
                    </a:lnTo>
                    <a:lnTo>
                      <a:pt x="452" y="740"/>
                    </a:lnTo>
                    <a:lnTo>
                      <a:pt x="457" y="744"/>
                    </a:lnTo>
                    <a:lnTo>
                      <a:pt x="474" y="756"/>
                    </a:lnTo>
                    <a:lnTo>
                      <a:pt x="500" y="773"/>
                    </a:lnTo>
                    <a:lnTo>
                      <a:pt x="534" y="797"/>
                    </a:lnTo>
                    <a:lnTo>
                      <a:pt x="577" y="830"/>
                    </a:lnTo>
                    <a:lnTo>
                      <a:pt x="602" y="851"/>
                    </a:lnTo>
                    <a:lnTo>
                      <a:pt x="629" y="874"/>
                    </a:lnTo>
                    <a:lnTo>
                      <a:pt x="659" y="900"/>
                    </a:lnTo>
                    <a:lnTo>
                      <a:pt x="691" y="928"/>
                    </a:lnTo>
                    <a:lnTo>
                      <a:pt x="578" y="1028"/>
                    </a:lnTo>
                    <a:lnTo>
                      <a:pt x="538" y="1005"/>
                    </a:lnTo>
                    <a:lnTo>
                      <a:pt x="498" y="980"/>
                    </a:lnTo>
                    <a:lnTo>
                      <a:pt x="460" y="954"/>
                    </a:lnTo>
                    <a:lnTo>
                      <a:pt x="421" y="927"/>
                    </a:lnTo>
                    <a:lnTo>
                      <a:pt x="383" y="899"/>
                    </a:lnTo>
                    <a:lnTo>
                      <a:pt x="347" y="870"/>
                    </a:lnTo>
                    <a:lnTo>
                      <a:pt x="312" y="841"/>
                    </a:lnTo>
                    <a:lnTo>
                      <a:pt x="278" y="811"/>
                    </a:lnTo>
                    <a:lnTo>
                      <a:pt x="292" y="840"/>
                    </a:lnTo>
                    <a:lnTo>
                      <a:pt x="305" y="873"/>
                    </a:lnTo>
                    <a:lnTo>
                      <a:pt x="310" y="890"/>
                    </a:lnTo>
                    <a:lnTo>
                      <a:pt x="316" y="907"/>
                    </a:lnTo>
                    <a:lnTo>
                      <a:pt x="321" y="925"/>
                    </a:lnTo>
                    <a:lnTo>
                      <a:pt x="324" y="942"/>
                    </a:lnTo>
                    <a:lnTo>
                      <a:pt x="326" y="960"/>
                    </a:lnTo>
                    <a:lnTo>
                      <a:pt x="327" y="977"/>
                    </a:lnTo>
                    <a:lnTo>
                      <a:pt x="327" y="995"/>
                    </a:lnTo>
                    <a:lnTo>
                      <a:pt x="325" y="1012"/>
                    </a:lnTo>
                    <a:lnTo>
                      <a:pt x="322" y="1028"/>
                    </a:lnTo>
                    <a:lnTo>
                      <a:pt x="315" y="1042"/>
                    </a:lnTo>
                    <a:lnTo>
                      <a:pt x="312" y="1049"/>
                    </a:lnTo>
                    <a:lnTo>
                      <a:pt x="308" y="1056"/>
                    </a:lnTo>
                    <a:lnTo>
                      <a:pt x="302" y="1063"/>
                    </a:lnTo>
                    <a:lnTo>
                      <a:pt x="298" y="1069"/>
                    </a:lnTo>
                    <a:lnTo>
                      <a:pt x="266" y="1042"/>
                    </a:lnTo>
                    <a:lnTo>
                      <a:pt x="228" y="1015"/>
                    </a:lnTo>
                    <a:lnTo>
                      <a:pt x="188" y="985"/>
                    </a:lnTo>
                    <a:lnTo>
                      <a:pt x="147" y="956"/>
                    </a:lnTo>
                    <a:lnTo>
                      <a:pt x="127" y="940"/>
                    </a:lnTo>
                    <a:lnTo>
                      <a:pt x="107" y="924"/>
                    </a:lnTo>
                    <a:lnTo>
                      <a:pt x="89" y="909"/>
                    </a:lnTo>
                    <a:lnTo>
                      <a:pt x="71" y="893"/>
                    </a:lnTo>
                    <a:lnTo>
                      <a:pt x="56" y="877"/>
                    </a:lnTo>
                    <a:lnTo>
                      <a:pt x="41" y="861"/>
                    </a:lnTo>
                    <a:lnTo>
                      <a:pt x="30" y="845"/>
                    </a:lnTo>
                    <a:lnTo>
                      <a:pt x="21" y="830"/>
                    </a:lnTo>
                    <a:lnTo>
                      <a:pt x="13" y="813"/>
                    </a:lnTo>
                    <a:lnTo>
                      <a:pt x="7" y="795"/>
                    </a:lnTo>
                    <a:lnTo>
                      <a:pt x="4" y="778"/>
                    </a:lnTo>
                    <a:lnTo>
                      <a:pt x="2" y="761"/>
                    </a:lnTo>
                    <a:lnTo>
                      <a:pt x="0" y="744"/>
                    </a:lnTo>
                    <a:lnTo>
                      <a:pt x="2" y="726"/>
                    </a:lnTo>
                    <a:lnTo>
                      <a:pt x="4" y="708"/>
                    </a:lnTo>
                    <a:lnTo>
                      <a:pt x="7" y="690"/>
                    </a:lnTo>
                    <a:lnTo>
                      <a:pt x="12" y="673"/>
                    </a:lnTo>
                    <a:lnTo>
                      <a:pt x="17" y="656"/>
                    </a:lnTo>
                    <a:lnTo>
                      <a:pt x="24" y="638"/>
                    </a:lnTo>
                    <a:lnTo>
                      <a:pt x="31" y="621"/>
                    </a:lnTo>
                    <a:lnTo>
                      <a:pt x="47" y="586"/>
                    </a:lnTo>
                    <a:lnTo>
                      <a:pt x="65" y="553"/>
                    </a:lnTo>
                    <a:lnTo>
                      <a:pt x="102" y="490"/>
                    </a:lnTo>
                    <a:lnTo>
                      <a:pt x="134" y="431"/>
                    </a:lnTo>
                    <a:lnTo>
                      <a:pt x="141" y="418"/>
                    </a:lnTo>
                    <a:lnTo>
                      <a:pt x="146" y="404"/>
                    </a:lnTo>
                    <a:lnTo>
                      <a:pt x="151" y="392"/>
                    </a:lnTo>
                    <a:lnTo>
                      <a:pt x="155" y="379"/>
                    </a:lnTo>
                    <a:lnTo>
                      <a:pt x="158" y="368"/>
                    </a:lnTo>
                    <a:lnTo>
                      <a:pt x="159" y="356"/>
                    </a:lnTo>
                    <a:lnTo>
                      <a:pt x="159" y="346"/>
                    </a:lnTo>
                    <a:lnTo>
                      <a:pt x="158" y="337"/>
                    </a:lnTo>
                    <a:lnTo>
                      <a:pt x="154" y="319"/>
                    </a:lnTo>
                    <a:lnTo>
                      <a:pt x="149" y="299"/>
                    </a:lnTo>
                    <a:lnTo>
                      <a:pt x="141" y="280"/>
                    </a:lnTo>
                    <a:lnTo>
                      <a:pt x="131" y="260"/>
                    </a:lnTo>
                    <a:lnTo>
                      <a:pt x="111" y="219"/>
                    </a:lnTo>
                    <a:lnTo>
                      <a:pt x="87" y="177"/>
                    </a:lnTo>
                    <a:lnTo>
                      <a:pt x="76" y="156"/>
                    </a:lnTo>
                    <a:lnTo>
                      <a:pt x="65" y="135"/>
                    </a:lnTo>
                    <a:lnTo>
                      <a:pt x="55" y="114"/>
                    </a:lnTo>
                    <a:lnTo>
                      <a:pt x="47" y="94"/>
                    </a:lnTo>
                    <a:lnTo>
                      <a:pt x="39" y="73"/>
                    </a:lnTo>
                    <a:lnTo>
                      <a:pt x="35" y="54"/>
                    </a:lnTo>
                    <a:lnTo>
                      <a:pt x="32" y="45"/>
                    </a:lnTo>
                    <a:lnTo>
                      <a:pt x="31" y="36"/>
                    </a:lnTo>
                    <a:lnTo>
                      <a:pt x="31" y="27"/>
                    </a:lnTo>
                    <a:lnTo>
                      <a:pt x="31" y="18"/>
                    </a:lnTo>
                    <a:lnTo>
                      <a:pt x="33" y="10"/>
                    </a:lnTo>
                    <a:lnTo>
                      <a:pt x="38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77" y="5"/>
                    </a:lnTo>
                    <a:lnTo>
                      <a:pt x="90" y="10"/>
                    </a:lnTo>
                    <a:lnTo>
                      <a:pt x="106" y="16"/>
                    </a:lnTo>
                    <a:lnTo>
                      <a:pt x="122" y="26"/>
                    </a:lnTo>
                    <a:lnTo>
                      <a:pt x="138" y="36"/>
                    </a:lnTo>
                    <a:lnTo>
                      <a:pt x="155" y="47"/>
                    </a:lnTo>
                    <a:lnTo>
                      <a:pt x="174" y="61"/>
                    </a:lnTo>
                    <a:lnTo>
                      <a:pt x="191" y="77"/>
                    </a:lnTo>
                    <a:lnTo>
                      <a:pt x="208" y="93"/>
                    </a:lnTo>
                    <a:lnTo>
                      <a:pt x="225" y="111"/>
                    </a:lnTo>
                    <a:lnTo>
                      <a:pt x="241" y="130"/>
                    </a:lnTo>
                    <a:lnTo>
                      <a:pt x="257" y="151"/>
                    </a:lnTo>
                    <a:lnTo>
                      <a:pt x="270" y="173"/>
                    </a:lnTo>
                    <a:lnTo>
                      <a:pt x="284" y="194"/>
                    </a:lnTo>
                    <a:lnTo>
                      <a:pt x="296" y="218"/>
                    </a:lnTo>
                    <a:lnTo>
                      <a:pt x="305" y="243"/>
                    </a:lnTo>
                    <a:lnTo>
                      <a:pt x="313" y="270"/>
                    </a:lnTo>
                    <a:lnTo>
                      <a:pt x="317" y="296"/>
                    </a:lnTo>
                    <a:lnTo>
                      <a:pt x="321" y="323"/>
                    </a:lnTo>
                    <a:lnTo>
                      <a:pt x="321" y="352"/>
                    </a:lnTo>
                    <a:lnTo>
                      <a:pt x="318" y="380"/>
                    </a:lnTo>
                    <a:lnTo>
                      <a:pt x="313" y="410"/>
                    </a:lnTo>
                    <a:lnTo>
                      <a:pt x="304" y="439"/>
                    </a:lnTo>
                    <a:lnTo>
                      <a:pt x="290" y="470"/>
                    </a:lnTo>
                    <a:lnTo>
                      <a:pt x="274" y="501"/>
                    </a:lnTo>
                    <a:lnTo>
                      <a:pt x="253" y="532"/>
                    </a:lnTo>
                    <a:lnTo>
                      <a:pt x="228" y="56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338720" y="41976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447" h="90">
                    <a:moveTo>
                      <a:pt x="444" y="85"/>
                    </a:moveTo>
                    <a:lnTo>
                      <a:pt x="443" y="68"/>
                    </a:lnTo>
                    <a:lnTo>
                      <a:pt x="434" y="60"/>
                    </a:lnTo>
                    <a:lnTo>
                      <a:pt x="422" y="52"/>
                    </a:lnTo>
                    <a:lnTo>
                      <a:pt x="411" y="44"/>
                    </a:lnTo>
                    <a:lnTo>
                      <a:pt x="398" y="37"/>
                    </a:lnTo>
                    <a:lnTo>
                      <a:pt x="386" y="31"/>
                    </a:lnTo>
                    <a:lnTo>
                      <a:pt x="373" y="26"/>
                    </a:lnTo>
                    <a:lnTo>
                      <a:pt x="359" y="21"/>
                    </a:lnTo>
                    <a:lnTo>
                      <a:pt x="345" y="17"/>
                    </a:lnTo>
                    <a:lnTo>
                      <a:pt x="316" y="9"/>
                    </a:lnTo>
                    <a:lnTo>
                      <a:pt x="285" y="4"/>
                    </a:lnTo>
                    <a:lnTo>
                      <a:pt x="255" y="1"/>
                    </a:lnTo>
                    <a:lnTo>
                      <a:pt x="223" y="0"/>
                    </a:lnTo>
                    <a:lnTo>
                      <a:pt x="192" y="1"/>
                    </a:lnTo>
                    <a:lnTo>
                      <a:pt x="160" y="4"/>
                    </a:lnTo>
                    <a:lnTo>
                      <a:pt x="130" y="8"/>
                    </a:lnTo>
                    <a:lnTo>
                      <a:pt x="101" y="14"/>
                    </a:lnTo>
                    <a:lnTo>
                      <a:pt x="72" y="22"/>
                    </a:lnTo>
                    <a:lnTo>
                      <a:pt x="47" y="31"/>
                    </a:lnTo>
                    <a:lnTo>
                      <a:pt x="34" y="37"/>
                    </a:lnTo>
                    <a:lnTo>
                      <a:pt x="22" y="43"/>
                    </a:lnTo>
                    <a:lnTo>
                      <a:pt x="11" y="49"/>
                    </a:lnTo>
                    <a:lnTo>
                      <a:pt x="0" y="55"/>
                    </a:lnTo>
                    <a:lnTo>
                      <a:pt x="14" y="75"/>
                    </a:lnTo>
                    <a:lnTo>
                      <a:pt x="23" y="69"/>
                    </a:lnTo>
                    <a:lnTo>
                      <a:pt x="34" y="65"/>
                    </a:lnTo>
                    <a:lnTo>
                      <a:pt x="44" y="59"/>
                    </a:lnTo>
                    <a:lnTo>
                      <a:pt x="55" y="54"/>
                    </a:lnTo>
                    <a:lnTo>
                      <a:pt x="80" y="45"/>
                    </a:lnTo>
                    <a:lnTo>
                      <a:pt x="106" y="37"/>
                    </a:lnTo>
                    <a:lnTo>
                      <a:pt x="134" y="31"/>
                    </a:lnTo>
                    <a:lnTo>
                      <a:pt x="163" y="28"/>
                    </a:lnTo>
                    <a:lnTo>
                      <a:pt x="193" y="25"/>
                    </a:lnTo>
                    <a:lnTo>
                      <a:pt x="223" y="25"/>
                    </a:lnTo>
                    <a:lnTo>
                      <a:pt x="253" y="26"/>
                    </a:lnTo>
                    <a:lnTo>
                      <a:pt x="282" y="28"/>
                    </a:lnTo>
                    <a:lnTo>
                      <a:pt x="310" y="33"/>
                    </a:lnTo>
                    <a:lnTo>
                      <a:pt x="339" y="39"/>
                    </a:lnTo>
                    <a:lnTo>
                      <a:pt x="351" y="44"/>
                    </a:lnTo>
                    <a:lnTo>
                      <a:pt x="364" y="49"/>
                    </a:lnTo>
                    <a:lnTo>
                      <a:pt x="375" y="53"/>
                    </a:lnTo>
                    <a:lnTo>
                      <a:pt x="387" y="59"/>
                    </a:lnTo>
                    <a:lnTo>
                      <a:pt x="398" y="65"/>
                    </a:lnTo>
                    <a:lnTo>
                      <a:pt x="408" y="71"/>
                    </a:lnTo>
                    <a:lnTo>
                      <a:pt x="418" y="78"/>
                    </a:lnTo>
                    <a:lnTo>
                      <a:pt x="427" y="86"/>
                    </a:lnTo>
                    <a:lnTo>
                      <a:pt x="426" y="69"/>
                    </a:lnTo>
                    <a:lnTo>
                      <a:pt x="427" y="86"/>
                    </a:lnTo>
                    <a:lnTo>
                      <a:pt x="431" y="90"/>
                    </a:lnTo>
                    <a:lnTo>
                      <a:pt x="436" y="90"/>
                    </a:lnTo>
                    <a:lnTo>
                      <a:pt x="440" y="88"/>
                    </a:lnTo>
                    <a:lnTo>
                      <a:pt x="444" y="85"/>
                    </a:lnTo>
                    <a:lnTo>
                      <a:pt x="446" y="82"/>
                    </a:lnTo>
                    <a:lnTo>
                      <a:pt x="447" y="77"/>
                    </a:lnTo>
                    <a:lnTo>
                      <a:pt x="446" y="72"/>
                    </a:lnTo>
                    <a:lnTo>
                      <a:pt x="443" y="68"/>
                    </a:lnTo>
                    <a:lnTo>
                      <a:pt x="444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406760" y="4218120"/>
                <a:ext cx="84240" cy="119160"/>
              </a:xfrm>
              <a:custGeom>
                <a:avLst/>
                <a:gdLst/>
                <a:ahLst/>
                <a:rect l="l" t="t" r="r" b="b"/>
                <a:pathLst>
                  <a:path w="267" h="374">
                    <a:moveTo>
                      <a:pt x="264" y="371"/>
                    </a:moveTo>
                    <a:lnTo>
                      <a:pt x="264" y="352"/>
                    </a:lnTo>
                    <a:lnTo>
                      <a:pt x="232" y="324"/>
                    </a:lnTo>
                    <a:lnTo>
                      <a:pt x="201" y="298"/>
                    </a:lnTo>
                    <a:lnTo>
                      <a:pt x="174" y="275"/>
                    </a:lnTo>
                    <a:lnTo>
                      <a:pt x="149" y="254"/>
                    </a:lnTo>
                    <a:lnTo>
                      <a:pt x="107" y="221"/>
                    </a:lnTo>
                    <a:lnTo>
                      <a:pt x="73" y="196"/>
                    </a:lnTo>
                    <a:lnTo>
                      <a:pt x="46" y="179"/>
                    </a:lnTo>
                    <a:lnTo>
                      <a:pt x="29" y="168"/>
                    </a:lnTo>
                    <a:lnTo>
                      <a:pt x="25" y="164"/>
                    </a:lnTo>
                    <a:lnTo>
                      <a:pt x="22" y="162"/>
                    </a:lnTo>
                    <a:lnTo>
                      <a:pt x="22" y="162"/>
                    </a:lnTo>
                    <a:lnTo>
                      <a:pt x="22" y="168"/>
                    </a:lnTo>
                    <a:lnTo>
                      <a:pt x="21" y="170"/>
                    </a:lnTo>
                    <a:lnTo>
                      <a:pt x="22" y="169"/>
                    </a:lnTo>
                    <a:lnTo>
                      <a:pt x="27" y="167"/>
                    </a:lnTo>
                    <a:lnTo>
                      <a:pt x="33" y="163"/>
                    </a:lnTo>
                    <a:lnTo>
                      <a:pt x="52" y="155"/>
                    </a:lnTo>
                    <a:lnTo>
                      <a:pt x="76" y="143"/>
                    </a:lnTo>
                    <a:lnTo>
                      <a:pt x="91" y="133"/>
                    </a:lnTo>
                    <a:lnTo>
                      <a:pt x="107" y="123"/>
                    </a:lnTo>
                    <a:lnTo>
                      <a:pt x="125" y="112"/>
                    </a:lnTo>
                    <a:lnTo>
                      <a:pt x="143" y="97"/>
                    </a:lnTo>
                    <a:lnTo>
                      <a:pt x="164" y="81"/>
                    </a:lnTo>
                    <a:lnTo>
                      <a:pt x="184" y="62"/>
                    </a:lnTo>
                    <a:lnTo>
                      <a:pt x="207" y="41"/>
                    </a:lnTo>
                    <a:lnTo>
                      <a:pt x="230" y="16"/>
                    </a:lnTo>
                    <a:lnTo>
                      <a:pt x="212" y="0"/>
                    </a:lnTo>
                    <a:lnTo>
                      <a:pt x="190" y="24"/>
                    </a:lnTo>
                    <a:lnTo>
                      <a:pt x="168" y="45"/>
                    </a:lnTo>
                    <a:lnTo>
                      <a:pt x="148" y="63"/>
                    </a:lnTo>
                    <a:lnTo>
                      <a:pt x="128" y="79"/>
                    </a:lnTo>
                    <a:lnTo>
                      <a:pt x="110" y="91"/>
                    </a:lnTo>
                    <a:lnTo>
                      <a:pt x="94" y="103"/>
                    </a:lnTo>
                    <a:lnTo>
                      <a:pt x="78" y="113"/>
                    </a:lnTo>
                    <a:lnTo>
                      <a:pt x="65" y="121"/>
                    </a:lnTo>
                    <a:lnTo>
                      <a:pt x="41" y="133"/>
                    </a:lnTo>
                    <a:lnTo>
                      <a:pt x="22" y="141"/>
                    </a:lnTo>
                    <a:lnTo>
                      <a:pt x="16" y="145"/>
                    </a:lnTo>
                    <a:lnTo>
                      <a:pt x="10" y="148"/>
                    </a:lnTo>
                    <a:lnTo>
                      <a:pt x="4" y="153"/>
                    </a:lnTo>
                    <a:lnTo>
                      <a:pt x="0" y="160"/>
                    </a:lnTo>
                    <a:lnTo>
                      <a:pt x="0" y="170"/>
                    </a:lnTo>
                    <a:lnTo>
                      <a:pt x="4" y="177"/>
                    </a:lnTo>
                    <a:lnTo>
                      <a:pt x="9" y="182"/>
                    </a:lnTo>
                    <a:lnTo>
                      <a:pt x="16" y="187"/>
                    </a:lnTo>
                    <a:lnTo>
                      <a:pt x="33" y="200"/>
                    </a:lnTo>
                    <a:lnTo>
                      <a:pt x="58" y="217"/>
                    </a:lnTo>
                    <a:lnTo>
                      <a:pt x="92" y="241"/>
                    </a:lnTo>
                    <a:lnTo>
                      <a:pt x="134" y="274"/>
                    </a:lnTo>
                    <a:lnTo>
                      <a:pt x="159" y="293"/>
                    </a:lnTo>
                    <a:lnTo>
                      <a:pt x="186" y="316"/>
                    </a:lnTo>
                    <a:lnTo>
                      <a:pt x="215" y="342"/>
                    </a:lnTo>
                    <a:lnTo>
                      <a:pt x="247" y="371"/>
                    </a:lnTo>
                    <a:lnTo>
                      <a:pt x="248" y="352"/>
                    </a:lnTo>
                    <a:lnTo>
                      <a:pt x="247" y="371"/>
                    </a:lnTo>
                    <a:lnTo>
                      <a:pt x="251" y="374"/>
                    </a:lnTo>
                    <a:lnTo>
                      <a:pt x="257" y="374"/>
                    </a:lnTo>
                    <a:lnTo>
                      <a:pt x="261" y="373"/>
                    </a:lnTo>
                    <a:lnTo>
                      <a:pt x="264" y="369"/>
                    </a:lnTo>
                    <a:lnTo>
                      <a:pt x="267" y="366"/>
                    </a:lnTo>
                    <a:lnTo>
                      <a:pt x="267" y="361"/>
                    </a:lnTo>
                    <a:lnTo>
                      <a:pt x="267" y="357"/>
                    </a:lnTo>
                    <a:lnTo>
                      <a:pt x="264" y="352"/>
                    </a:lnTo>
                    <a:lnTo>
                      <a:pt x="264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448160" y="433080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33" h="121">
                    <a:moveTo>
                      <a:pt x="6" y="119"/>
                    </a:moveTo>
                    <a:lnTo>
                      <a:pt x="20" y="118"/>
                    </a:lnTo>
                    <a:lnTo>
                      <a:pt x="133" y="19"/>
                    </a:lnTo>
                    <a:lnTo>
                      <a:pt x="117" y="0"/>
                    </a:lnTo>
                    <a:lnTo>
                      <a:pt x="4" y="100"/>
                    </a:lnTo>
                    <a:lnTo>
                      <a:pt x="6" y="119"/>
                    </a:lnTo>
                    <a:lnTo>
                      <a:pt x="4" y="100"/>
                    </a:lnTo>
                    <a:lnTo>
                      <a:pt x="1" y="104"/>
                    </a:lnTo>
                    <a:lnTo>
                      <a:pt x="0" y="109"/>
                    </a:lnTo>
                    <a:lnTo>
                      <a:pt x="1" y="112"/>
                    </a:lnTo>
                    <a:lnTo>
                      <a:pt x="3" y="117"/>
                    </a:lnTo>
                    <a:lnTo>
                      <a:pt x="6" y="119"/>
                    </a:lnTo>
                    <a:lnTo>
                      <a:pt x="11" y="121"/>
                    </a:lnTo>
                    <a:lnTo>
                      <a:pt x="16" y="120"/>
                    </a:lnTo>
                    <a:lnTo>
                      <a:pt x="20" y="118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352760" y="429300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40">
                    <a:moveTo>
                      <a:pt x="24" y="7"/>
                    </a:moveTo>
                    <a:lnTo>
                      <a:pt x="4" y="22"/>
                    </a:lnTo>
                    <a:lnTo>
                      <a:pt x="38" y="52"/>
                    </a:lnTo>
                    <a:lnTo>
                      <a:pt x="73" y="81"/>
                    </a:lnTo>
                    <a:lnTo>
                      <a:pt x="110" y="111"/>
                    </a:lnTo>
                    <a:lnTo>
                      <a:pt x="148" y="138"/>
                    </a:lnTo>
                    <a:lnTo>
                      <a:pt x="187" y="166"/>
                    </a:lnTo>
                    <a:lnTo>
                      <a:pt x="227" y="192"/>
                    </a:lnTo>
                    <a:lnTo>
                      <a:pt x="267" y="217"/>
                    </a:lnTo>
                    <a:lnTo>
                      <a:pt x="306" y="240"/>
                    </a:lnTo>
                    <a:lnTo>
                      <a:pt x="318" y="219"/>
                    </a:lnTo>
                    <a:lnTo>
                      <a:pt x="279" y="197"/>
                    </a:lnTo>
                    <a:lnTo>
                      <a:pt x="239" y="171"/>
                    </a:lnTo>
                    <a:lnTo>
                      <a:pt x="200" y="146"/>
                    </a:lnTo>
                    <a:lnTo>
                      <a:pt x="162" y="119"/>
                    </a:lnTo>
                    <a:lnTo>
                      <a:pt x="125" y="92"/>
                    </a:lnTo>
                    <a:lnTo>
                      <a:pt x="89" y="63"/>
                    </a:lnTo>
                    <a:lnTo>
                      <a:pt x="53" y="34"/>
                    </a:lnTo>
                    <a:lnTo>
                      <a:pt x="20" y="4"/>
                    </a:lnTo>
                    <a:lnTo>
                      <a:pt x="1" y="19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52760" y="4294440"/>
                <a:ext cx="22320" cy="87480"/>
              </a:xfrm>
              <a:custGeom>
                <a:avLst/>
                <a:gdLst/>
                <a:ahLst/>
                <a:rect l="l" t="t" r="r" b="b"/>
                <a:pathLst>
                  <a:path w="72" h="276">
                    <a:moveTo>
                      <a:pt x="23" y="273"/>
                    </a:moveTo>
                    <a:lnTo>
                      <a:pt x="39" y="273"/>
                    </a:lnTo>
                    <a:lnTo>
                      <a:pt x="46" y="266"/>
                    </a:lnTo>
                    <a:lnTo>
                      <a:pt x="50" y="258"/>
                    </a:lnTo>
                    <a:lnTo>
                      <a:pt x="56" y="250"/>
                    </a:lnTo>
                    <a:lnTo>
                      <a:pt x="59" y="242"/>
                    </a:lnTo>
                    <a:lnTo>
                      <a:pt x="66" y="226"/>
                    </a:lnTo>
                    <a:lnTo>
                      <a:pt x="70" y="209"/>
                    </a:lnTo>
                    <a:lnTo>
                      <a:pt x="72" y="191"/>
                    </a:lnTo>
                    <a:lnTo>
                      <a:pt x="72" y="172"/>
                    </a:lnTo>
                    <a:lnTo>
                      <a:pt x="71" y="154"/>
                    </a:lnTo>
                    <a:lnTo>
                      <a:pt x="68" y="136"/>
                    </a:lnTo>
                    <a:lnTo>
                      <a:pt x="65" y="117"/>
                    </a:lnTo>
                    <a:lnTo>
                      <a:pt x="60" y="98"/>
                    </a:lnTo>
                    <a:lnTo>
                      <a:pt x="55" y="80"/>
                    </a:lnTo>
                    <a:lnTo>
                      <a:pt x="49" y="63"/>
                    </a:lnTo>
                    <a:lnTo>
                      <a:pt x="35" y="30"/>
                    </a:lnTo>
                    <a:lnTo>
                      <a:pt x="23" y="0"/>
                    </a:lnTo>
                    <a:lnTo>
                      <a:pt x="0" y="12"/>
                    </a:lnTo>
                    <a:lnTo>
                      <a:pt x="14" y="39"/>
                    </a:lnTo>
                    <a:lnTo>
                      <a:pt x="26" y="71"/>
                    </a:lnTo>
                    <a:lnTo>
                      <a:pt x="32" y="88"/>
                    </a:lnTo>
                    <a:lnTo>
                      <a:pt x="37" y="105"/>
                    </a:lnTo>
                    <a:lnTo>
                      <a:pt x="41" y="122"/>
                    </a:lnTo>
                    <a:lnTo>
                      <a:pt x="45" y="139"/>
                    </a:lnTo>
                    <a:lnTo>
                      <a:pt x="47" y="157"/>
                    </a:lnTo>
                    <a:lnTo>
                      <a:pt x="48" y="174"/>
                    </a:lnTo>
                    <a:lnTo>
                      <a:pt x="48" y="190"/>
                    </a:lnTo>
                    <a:lnTo>
                      <a:pt x="46" y="204"/>
                    </a:lnTo>
                    <a:lnTo>
                      <a:pt x="42" y="219"/>
                    </a:lnTo>
                    <a:lnTo>
                      <a:pt x="38" y="233"/>
                    </a:lnTo>
                    <a:lnTo>
                      <a:pt x="34" y="239"/>
                    </a:lnTo>
                    <a:lnTo>
                      <a:pt x="31" y="244"/>
                    </a:lnTo>
                    <a:lnTo>
                      <a:pt x="26" y="250"/>
                    </a:lnTo>
                    <a:lnTo>
                      <a:pt x="22" y="256"/>
                    </a:lnTo>
                    <a:lnTo>
                      <a:pt x="39" y="255"/>
                    </a:lnTo>
                    <a:lnTo>
                      <a:pt x="22" y="256"/>
                    </a:lnTo>
                    <a:lnTo>
                      <a:pt x="18" y="260"/>
                    </a:lnTo>
                    <a:lnTo>
                      <a:pt x="18" y="265"/>
                    </a:lnTo>
                    <a:lnTo>
                      <a:pt x="19" y="269"/>
                    </a:lnTo>
                    <a:lnTo>
                      <a:pt x="22" y="273"/>
                    </a:lnTo>
                    <a:lnTo>
                      <a:pt x="26" y="275"/>
                    </a:lnTo>
                    <a:lnTo>
                      <a:pt x="31" y="276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23" y="2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270320" y="4300920"/>
                <a:ext cx="95400" cy="81000"/>
              </a:xfrm>
              <a:custGeom>
                <a:avLst/>
                <a:gdLst/>
                <a:ahLst/>
                <a:rect l="l" t="t" r="r" b="b"/>
                <a:pathLst>
                  <a:path w="297" h="253">
                    <a:moveTo>
                      <a:pt x="0" y="10"/>
                    </a:moveTo>
                    <a:lnTo>
                      <a:pt x="0" y="11"/>
                    </a:lnTo>
                    <a:lnTo>
                      <a:pt x="11" y="27"/>
                    </a:lnTo>
                    <a:lnTo>
                      <a:pt x="23" y="44"/>
                    </a:lnTo>
                    <a:lnTo>
                      <a:pt x="38" y="60"/>
                    </a:lnTo>
                    <a:lnTo>
                      <a:pt x="54" y="77"/>
                    </a:lnTo>
                    <a:lnTo>
                      <a:pt x="72" y="93"/>
                    </a:lnTo>
                    <a:lnTo>
                      <a:pt x="91" y="109"/>
                    </a:lnTo>
                    <a:lnTo>
                      <a:pt x="111" y="124"/>
                    </a:lnTo>
                    <a:lnTo>
                      <a:pt x="132" y="140"/>
                    </a:lnTo>
                    <a:lnTo>
                      <a:pt x="173" y="171"/>
                    </a:lnTo>
                    <a:lnTo>
                      <a:pt x="212" y="199"/>
                    </a:lnTo>
                    <a:lnTo>
                      <a:pt x="249" y="228"/>
                    </a:lnTo>
                    <a:lnTo>
                      <a:pt x="281" y="253"/>
                    </a:lnTo>
                    <a:lnTo>
                      <a:pt x="297" y="235"/>
                    </a:lnTo>
                    <a:lnTo>
                      <a:pt x="265" y="208"/>
                    </a:lnTo>
                    <a:lnTo>
                      <a:pt x="227" y="180"/>
                    </a:lnTo>
                    <a:lnTo>
                      <a:pt x="186" y="151"/>
                    </a:lnTo>
                    <a:lnTo>
                      <a:pt x="145" y="121"/>
                    </a:lnTo>
                    <a:lnTo>
                      <a:pt x="126" y="106"/>
                    </a:lnTo>
                    <a:lnTo>
                      <a:pt x="106" y="90"/>
                    </a:lnTo>
                    <a:lnTo>
                      <a:pt x="88" y="75"/>
                    </a:lnTo>
                    <a:lnTo>
                      <a:pt x="71" y="59"/>
                    </a:lnTo>
                    <a:lnTo>
                      <a:pt x="55" y="44"/>
                    </a:lnTo>
                    <a:lnTo>
                      <a:pt x="42" y="28"/>
                    </a:lnTo>
                    <a:lnTo>
                      <a:pt x="31" y="13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264200" y="4145400"/>
                <a:ext cx="58680" cy="158400"/>
              </a:xfrm>
              <a:custGeom>
                <a:avLst/>
                <a:gdLst/>
                <a:ahLst/>
                <a:rect l="l" t="t" r="r" b="b"/>
                <a:pathLst>
                  <a:path w="182" h="502">
                    <a:moveTo>
                      <a:pt x="156" y="5"/>
                    </a:moveTo>
                    <a:lnTo>
                      <a:pt x="156" y="6"/>
                    </a:lnTo>
                    <a:lnTo>
                      <a:pt x="157" y="14"/>
                    </a:lnTo>
                    <a:lnTo>
                      <a:pt x="158" y="23"/>
                    </a:lnTo>
                    <a:lnTo>
                      <a:pt x="157" y="32"/>
                    </a:lnTo>
                    <a:lnTo>
                      <a:pt x="154" y="44"/>
                    </a:lnTo>
                    <a:lnTo>
                      <a:pt x="150" y="55"/>
                    </a:lnTo>
                    <a:lnTo>
                      <a:pt x="146" y="66"/>
                    </a:lnTo>
                    <a:lnTo>
                      <a:pt x="141" y="79"/>
                    </a:lnTo>
                    <a:lnTo>
                      <a:pt x="134" y="93"/>
                    </a:lnTo>
                    <a:lnTo>
                      <a:pt x="103" y="151"/>
                    </a:lnTo>
                    <a:lnTo>
                      <a:pt x="65" y="215"/>
                    </a:lnTo>
                    <a:lnTo>
                      <a:pt x="47" y="248"/>
                    </a:lnTo>
                    <a:lnTo>
                      <a:pt x="31" y="283"/>
                    </a:lnTo>
                    <a:lnTo>
                      <a:pt x="24" y="300"/>
                    </a:lnTo>
                    <a:lnTo>
                      <a:pt x="17" y="318"/>
                    </a:lnTo>
                    <a:lnTo>
                      <a:pt x="11" y="337"/>
                    </a:lnTo>
                    <a:lnTo>
                      <a:pt x="7" y="355"/>
                    </a:lnTo>
                    <a:lnTo>
                      <a:pt x="3" y="373"/>
                    </a:lnTo>
                    <a:lnTo>
                      <a:pt x="1" y="391"/>
                    </a:lnTo>
                    <a:lnTo>
                      <a:pt x="0" y="410"/>
                    </a:lnTo>
                    <a:lnTo>
                      <a:pt x="0" y="429"/>
                    </a:lnTo>
                    <a:lnTo>
                      <a:pt x="2" y="447"/>
                    </a:lnTo>
                    <a:lnTo>
                      <a:pt x="7" y="465"/>
                    </a:lnTo>
                    <a:lnTo>
                      <a:pt x="13" y="484"/>
                    </a:lnTo>
                    <a:lnTo>
                      <a:pt x="20" y="502"/>
                    </a:lnTo>
                    <a:lnTo>
                      <a:pt x="42" y="492"/>
                    </a:lnTo>
                    <a:lnTo>
                      <a:pt x="35" y="476"/>
                    </a:lnTo>
                    <a:lnTo>
                      <a:pt x="30" y="460"/>
                    </a:lnTo>
                    <a:lnTo>
                      <a:pt x="26" y="443"/>
                    </a:lnTo>
                    <a:lnTo>
                      <a:pt x="25" y="427"/>
                    </a:lnTo>
                    <a:lnTo>
                      <a:pt x="24" y="411"/>
                    </a:lnTo>
                    <a:lnTo>
                      <a:pt x="25" y="394"/>
                    </a:lnTo>
                    <a:lnTo>
                      <a:pt x="27" y="377"/>
                    </a:lnTo>
                    <a:lnTo>
                      <a:pt x="31" y="361"/>
                    </a:lnTo>
                    <a:lnTo>
                      <a:pt x="34" y="344"/>
                    </a:lnTo>
                    <a:lnTo>
                      <a:pt x="40" y="326"/>
                    </a:lnTo>
                    <a:lnTo>
                      <a:pt x="46" y="309"/>
                    </a:lnTo>
                    <a:lnTo>
                      <a:pt x="54" y="292"/>
                    </a:lnTo>
                    <a:lnTo>
                      <a:pt x="68" y="259"/>
                    </a:lnTo>
                    <a:lnTo>
                      <a:pt x="87" y="226"/>
                    </a:lnTo>
                    <a:lnTo>
                      <a:pt x="123" y="162"/>
                    </a:lnTo>
                    <a:lnTo>
                      <a:pt x="156" y="104"/>
                    </a:lnTo>
                    <a:lnTo>
                      <a:pt x="163" y="89"/>
                    </a:lnTo>
                    <a:lnTo>
                      <a:pt x="169" y="76"/>
                    </a:lnTo>
                    <a:lnTo>
                      <a:pt x="173" y="62"/>
                    </a:lnTo>
                    <a:lnTo>
                      <a:pt x="178" y="49"/>
                    </a:lnTo>
                    <a:lnTo>
                      <a:pt x="180" y="37"/>
                    </a:lnTo>
                    <a:lnTo>
                      <a:pt x="182" y="24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80" y="2"/>
                    </a:lnTo>
                    <a:lnTo>
                      <a:pt x="156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273560" y="4043520"/>
                <a:ext cx="47520" cy="103320"/>
              </a:xfrm>
              <a:custGeom>
                <a:avLst/>
                <a:gdLst/>
                <a:ahLst/>
                <a:rect l="l" t="t" r="r" b="b"/>
                <a:pathLst>
                  <a:path w="150" h="322">
                    <a:moveTo>
                      <a:pt x="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2" y="31"/>
                    </a:lnTo>
                    <a:lnTo>
                      <a:pt x="3" y="41"/>
                    </a:lnTo>
                    <a:lnTo>
                      <a:pt x="9" y="61"/>
                    </a:lnTo>
                    <a:lnTo>
                      <a:pt x="17" y="83"/>
                    </a:lnTo>
                    <a:lnTo>
                      <a:pt x="26" y="103"/>
                    </a:lnTo>
                    <a:lnTo>
                      <a:pt x="35" y="125"/>
                    </a:lnTo>
                    <a:lnTo>
                      <a:pt x="46" y="145"/>
                    </a:lnTo>
                    <a:lnTo>
                      <a:pt x="58" y="167"/>
                    </a:lnTo>
                    <a:lnTo>
                      <a:pt x="81" y="209"/>
                    </a:lnTo>
                    <a:lnTo>
                      <a:pt x="102" y="249"/>
                    </a:lnTo>
                    <a:lnTo>
                      <a:pt x="110" y="268"/>
                    </a:lnTo>
                    <a:lnTo>
                      <a:pt x="118" y="288"/>
                    </a:lnTo>
                    <a:lnTo>
                      <a:pt x="123" y="305"/>
                    </a:lnTo>
                    <a:lnTo>
                      <a:pt x="126" y="322"/>
                    </a:lnTo>
                    <a:lnTo>
                      <a:pt x="150" y="319"/>
                    </a:lnTo>
                    <a:lnTo>
                      <a:pt x="147" y="299"/>
                    </a:lnTo>
                    <a:lnTo>
                      <a:pt x="141" y="280"/>
                    </a:lnTo>
                    <a:lnTo>
                      <a:pt x="133" y="259"/>
                    </a:lnTo>
                    <a:lnTo>
                      <a:pt x="124" y="239"/>
                    </a:lnTo>
                    <a:lnTo>
                      <a:pt x="102" y="198"/>
                    </a:lnTo>
                    <a:lnTo>
                      <a:pt x="79" y="155"/>
                    </a:lnTo>
                    <a:lnTo>
                      <a:pt x="68" y="134"/>
                    </a:lnTo>
                    <a:lnTo>
                      <a:pt x="57" y="113"/>
                    </a:lnTo>
                    <a:lnTo>
                      <a:pt x="47" y="93"/>
                    </a:lnTo>
                    <a:lnTo>
                      <a:pt x="38" y="73"/>
                    </a:lnTo>
                    <a:lnTo>
                      <a:pt x="32" y="54"/>
                    </a:lnTo>
                    <a:lnTo>
                      <a:pt x="27" y="36"/>
                    </a:lnTo>
                    <a:lnTo>
                      <a:pt x="26" y="27"/>
                    </a:lnTo>
                    <a:lnTo>
                      <a:pt x="25" y="19"/>
                    </a:lnTo>
                    <a:lnTo>
                      <a:pt x="24" y="11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273560" y="4035600"/>
                <a:ext cx="100080" cy="185760"/>
              </a:xfrm>
              <a:custGeom>
                <a:avLst/>
                <a:gdLst/>
                <a:ahLst/>
                <a:rect l="l" t="t" r="r" b="b"/>
                <a:pathLst>
                  <a:path w="314" h="586">
                    <a:moveTo>
                      <a:pt x="202" y="564"/>
                    </a:moveTo>
                    <a:lnTo>
                      <a:pt x="218" y="583"/>
                    </a:lnTo>
                    <a:lnTo>
                      <a:pt x="232" y="566"/>
                    </a:lnTo>
                    <a:lnTo>
                      <a:pt x="243" y="550"/>
                    </a:lnTo>
                    <a:lnTo>
                      <a:pt x="255" y="534"/>
                    </a:lnTo>
                    <a:lnTo>
                      <a:pt x="265" y="518"/>
                    </a:lnTo>
                    <a:lnTo>
                      <a:pt x="274" y="502"/>
                    </a:lnTo>
                    <a:lnTo>
                      <a:pt x="282" y="486"/>
                    </a:lnTo>
                    <a:lnTo>
                      <a:pt x="289" y="471"/>
                    </a:lnTo>
                    <a:lnTo>
                      <a:pt x="296" y="455"/>
                    </a:lnTo>
                    <a:lnTo>
                      <a:pt x="300" y="439"/>
                    </a:lnTo>
                    <a:lnTo>
                      <a:pt x="305" y="423"/>
                    </a:lnTo>
                    <a:lnTo>
                      <a:pt x="308" y="408"/>
                    </a:lnTo>
                    <a:lnTo>
                      <a:pt x="311" y="393"/>
                    </a:lnTo>
                    <a:lnTo>
                      <a:pt x="313" y="377"/>
                    </a:lnTo>
                    <a:lnTo>
                      <a:pt x="314" y="363"/>
                    </a:lnTo>
                    <a:lnTo>
                      <a:pt x="314" y="348"/>
                    </a:lnTo>
                    <a:lnTo>
                      <a:pt x="314" y="334"/>
                    </a:lnTo>
                    <a:lnTo>
                      <a:pt x="313" y="319"/>
                    </a:lnTo>
                    <a:lnTo>
                      <a:pt x="311" y="304"/>
                    </a:lnTo>
                    <a:lnTo>
                      <a:pt x="308" y="291"/>
                    </a:lnTo>
                    <a:lnTo>
                      <a:pt x="305" y="277"/>
                    </a:lnTo>
                    <a:lnTo>
                      <a:pt x="297" y="251"/>
                    </a:lnTo>
                    <a:lnTo>
                      <a:pt x="287" y="225"/>
                    </a:lnTo>
                    <a:lnTo>
                      <a:pt x="275" y="201"/>
                    </a:lnTo>
                    <a:lnTo>
                      <a:pt x="262" y="177"/>
                    </a:lnTo>
                    <a:lnTo>
                      <a:pt x="247" y="154"/>
                    </a:lnTo>
                    <a:lnTo>
                      <a:pt x="232" y="133"/>
                    </a:lnTo>
                    <a:lnTo>
                      <a:pt x="215" y="114"/>
                    </a:lnTo>
                    <a:lnTo>
                      <a:pt x="198" y="96"/>
                    </a:lnTo>
                    <a:lnTo>
                      <a:pt x="180" y="79"/>
                    </a:lnTo>
                    <a:lnTo>
                      <a:pt x="161" y="63"/>
                    </a:lnTo>
                    <a:lnTo>
                      <a:pt x="144" y="49"/>
                    </a:lnTo>
                    <a:lnTo>
                      <a:pt x="126" y="37"/>
                    </a:lnTo>
                    <a:lnTo>
                      <a:pt x="109" y="26"/>
                    </a:lnTo>
                    <a:lnTo>
                      <a:pt x="92" y="17"/>
                    </a:lnTo>
                    <a:lnTo>
                      <a:pt x="76" y="9"/>
                    </a:lnTo>
                    <a:lnTo>
                      <a:pt x="61" y="5"/>
                    </a:lnTo>
                    <a:lnTo>
                      <a:pt x="47" y="1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1"/>
                    </a:lnTo>
                    <a:lnTo>
                      <a:pt x="17" y="4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3" y="15"/>
                    </a:lnTo>
                    <a:lnTo>
                      <a:pt x="1" y="22"/>
                    </a:lnTo>
                    <a:lnTo>
                      <a:pt x="0" y="27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6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4" y="24"/>
                    </a:lnTo>
                    <a:lnTo>
                      <a:pt x="43" y="25"/>
                    </a:lnTo>
                    <a:lnTo>
                      <a:pt x="54" y="27"/>
                    </a:lnTo>
                    <a:lnTo>
                      <a:pt x="67" y="32"/>
                    </a:lnTo>
                    <a:lnTo>
                      <a:pt x="82" y="39"/>
                    </a:lnTo>
                    <a:lnTo>
                      <a:pt x="96" y="47"/>
                    </a:lnTo>
                    <a:lnTo>
                      <a:pt x="114" y="57"/>
                    </a:lnTo>
                    <a:lnTo>
                      <a:pt x="130" y="68"/>
                    </a:lnTo>
                    <a:lnTo>
                      <a:pt x="147" y="82"/>
                    </a:lnTo>
                    <a:lnTo>
                      <a:pt x="164" y="96"/>
                    </a:lnTo>
                    <a:lnTo>
                      <a:pt x="181" y="112"/>
                    </a:lnTo>
                    <a:lnTo>
                      <a:pt x="197" y="130"/>
                    </a:lnTo>
                    <a:lnTo>
                      <a:pt x="213" y="148"/>
                    </a:lnTo>
                    <a:lnTo>
                      <a:pt x="228" y="169"/>
                    </a:lnTo>
                    <a:lnTo>
                      <a:pt x="241" y="189"/>
                    </a:lnTo>
                    <a:lnTo>
                      <a:pt x="254" y="211"/>
                    </a:lnTo>
                    <a:lnTo>
                      <a:pt x="265" y="235"/>
                    </a:lnTo>
                    <a:lnTo>
                      <a:pt x="274" y="259"/>
                    </a:lnTo>
                    <a:lnTo>
                      <a:pt x="281" y="284"/>
                    </a:lnTo>
                    <a:lnTo>
                      <a:pt x="285" y="295"/>
                    </a:lnTo>
                    <a:lnTo>
                      <a:pt x="287" y="309"/>
                    </a:lnTo>
                    <a:lnTo>
                      <a:pt x="288" y="322"/>
                    </a:lnTo>
                    <a:lnTo>
                      <a:pt x="289" y="335"/>
                    </a:lnTo>
                    <a:lnTo>
                      <a:pt x="290" y="348"/>
                    </a:lnTo>
                    <a:lnTo>
                      <a:pt x="290" y="361"/>
                    </a:lnTo>
                    <a:lnTo>
                      <a:pt x="289" y="375"/>
                    </a:lnTo>
                    <a:lnTo>
                      <a:pt x="287" y="390"/>
                    </a:lnTo>
                    <a:lnTo>
                      <a:pt x="285" y="404"/>
                    </a:lnTo>
                    <a:lnTo>
                      <a:pt x="281" y="417"/>
                    </a:lnTo>
                    <a:lnTo>
                      <a:pt x="278" y="432"/>
                    </a:lnTo>
                    <a:lnTo>
                      <a:pt x="273" y="446"/>
                    </a:lnTo>
                    <a:lnTo>
                      <a:pt x="267" y="461"/>
                    </a:lnTo>
                    <a:lnTo>
                      <a:pt x="261" y="475"/>
                    </a:lnTo>
                    <a:lnTo>
                      <a:pt x="253" y="490"/>
                    </a:lnTo>
                    <a:lnTo>
                      <a:pt x="245" y="505"/>
                    </a:lnTo>
                    <a:lnTo>
                      <a:pt x="234" y="521"/>
                    </a:lnTo>
                    <a:lnTo>
                      <a:pt x="224" y="536"/>
                    </a:lnTo>
                    <a:lnTo>
                      <a:pt x="213" y="551"/>
                    </a:lnTo>
                    <a:lnTo>
                      <a:pt x="200" y="567"/>
                    </a:lnTo>
                    <a:lnTo>
                      <a:pt x="216" y="584"/>
                    </a:lnTo>
                    <a:lnTo>
                      <a:pt x="200" y="567"/>
                    </a:lnTo>
                    <a:lnTo>
                      <a:pt x="198" y="571"/>
                    </a:lnTo>
                    <a:lnTo>
                      <a:pt x="197" y="576"/>
                    </a:lnTo>
                    <a:lnTo>
                      <a:pt x="198" y="580"/>
                    </a:lnTo>
                    <a:lnTo>
                      <a:pt x="201" y="584"/>
                    </a:lnTo>
                    <a:lnTo>
                      <a:pt x="205" y="586"/>
                    </a:lnTo>
                    <a:lnTo>
                      <a:pt x="209" y="586"/>
                    </a:lnTo>
                    <a:lnTo>
                      <a:pt x="214" y="585"/>
                    </a:lnTo>
                    <a:lnTo>
                      <a:pt x="218" y="583"/>
                    </a:lnTo>
                    <a:lnTo>
                      <a:pt x="202" y="5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71640" y="3934080"/>
                <a:ext cx="352440" cy="216000"/>
              </a:xfrm>
              <a:custGeom>
                <a:avLst/>
                <a:gdLst/>
                <a:ahLst/>
                <a:rect l="l" t="t" r="r" b="b"/>
                <a:pathLst>
                  <a:path w="1107" h="681">
                    <a:moveTo>
                      <a:pt x="518" y="332"/>
                    </a:moveTo>
                    <a:lnTo>
                      <a:pt x="521" y="321"/>
                    </a:lnTo>
                    <a:lnTo>
                      <a:pt x="525" y="310"/>
                    </a:lnTo>
                    <a:lnTo>
                      <a:pt x="530" y="298"/>
                    </a:lnTo>
                    <a:lnTo>
                      <a:pt x="534" y="286"/>
                    </a:lnTo>
                    <a:lnTo>
                      <a:pt x="547" y="263"/>
                    </a:lnTo>
                    <a:lnTo>
                      <a:pt x="562" y="238"/>
                    </a:lnTo>
                    <a:lnTo>
                      <a:pt x="579" y="215"/>
                    </a:lnTo>
                    <a:lnTo>
                      <a:pt x="598" y="191"/>
                    </a:lnTo>
                    <a:lnTo>
                      <a:pt x="619" y="168"/>
                    </a:lnTo>
                    <a:lnTo>
                      <a:pt x="640" y="147"/>
                    </a:lnTo>
                    <a:lnTo>
                      <a:pt x="664" y="126"/>
                    </a:lnTo>
                    <a:lnTo>
                      <a:pt x="688" y="108"/>
                    </a:lnTo>
                    <a:lnTo>
                      <a:pt x="713" y="92"/>
                    </a:lnTo>
                    <a:lnTo>
                      <a:pt x="740" y="77"/>
                    </a:lnTo>
                    <a:lnTo>
                      <a:pt x="752" y="71"/>
                    </a:lnTo>
                    <a:lnTo>
                      <a:pt x="765" y="66"/>
                    </a:lnTo>
                    <a:lnTo>
                      <a:pt x="778" y="61"/>
                    </a:lnTo>
                    <a:lnTo>
                      <a:pt x="791" y="57"/>
                    </a:lnTo>
                    <a:lnTo>
                      <a:pt x="803" y="54"/>
                    </a:lnTo>
                    <a:lnTo>
                      <a:pt x="817" y="52"/>
                    </a:lnTo>
                    <a:lnTo>
                      <a:pt x="830" y="51"/>
                    </a:lnTo>
                    <a:lnTo>
                      <a:pt x="842" y="50"/>
                    </a:lnTo>
                    <a:lnTo>
                      <a:pt x="841" y="83"/>
                    </a:lnTo>
                    <a:lnTo>
                      <a:pt x="840" y="114"/>
                    </a:lnTo>
                    <a:lnTo>
                      <a:pt x="836" y="141"/>
                    </a:lnTo>
                    <a:lnTo>
                      <a:pt x="833" y="166"/>
                    </a:lnTo>
                    <a:lnTo>
                      <a:pt x="830" y="189"/>
                    </a:lnTo>
                    <a:lnTo>
                      <a:pt x="825" y="209"/>
                    </a:lnTo>
                    <a:lnTo>
                      <a:pt x="821" y="228"/>
                    </a:lnTo>
                    <a:lnTo>
                      <a:pt x="815" y="244"/>
                    </a:lnTo>
                    <a:lnTo>
                      <a:pt x="806" y="269"/>
                    </a:lnTo>
                    <a:lnTo>
                      <a:pt x="798" y="288"/>
                    </a:lnTo>
                    <a:lnTo>
                      <a:pt x="795" y="295"/>
                    </a:lnTo>
                    <a:lnTo>
                      <a:pt x="793" y="301"/>
                    </a:lnTo>
                    <a:lnTo>
                      <a:pt x="793" y="305"/>
                    </a:lnTo>
                    <a:lnTo>
                      <a:pt x="793" y="307"/>
                    </a:lnTo>
                    <a:lnTo>
                      <a:pt x="795" y="310"/>
                    </a:lnTo>
                    <a:lnTo>
                      <a:pt x="799" y="311"/>
                    </a:lnTo>
                    <a:lnTo>
                      <a:pt x="803" y="311"/>
                    </a:lnTo>
                    <a:lnTo>
                      <a:pt x="810" y="310"/>
                    </a:lnTo>
                    <a:lnTo>
                      <a:pt x="831" y="306"/>
                    </a:lnTo>
                    <a:lnTo>
                      <a:pt x="862" y="302"/>
                    </a:lnTo>
                    <a:lnTo>
                      <a:pt x="903" y="297"/>
                    </a:lnTo>
                    <a:lnTo>
                      <a:pt x="956" y="293"/>
                    </a:lnTo>
                    <a:lnTo>
                      <a:pt x="989" y="290"/>
                    </a:lnTo>
                    <a:lnTo>
                      <a:pt x="1025" y="288"/>
                    </a:lnTo>
                    <a:lnTo>
                      <a:pt x="1063" y="288"/>
                    </a:lnTo>
                    <a:lnTo>
                      <a:pt x="1107" y="287"/>
                    </a:lnTo>
                    <a:lnTo>
                      <a:pt x="1092" y="436"/>
                    </a:lnTo>
                    <a:lnTo>
                      <a:pt x="1046" y="446"/>
                    </a:lnTo>
                    <a:lnTo>
                      <a:pt x="1001" y="454"/>
                    </a:lnTo>
                    <a:lnTo>
                      <a:pt x="954" y="462"/>
                    </a:lnTo>
                    <a:lnTo>
                      <a:pt x="907" y="468"/>
                    </a:lnTo>
                    <a:lnTo>
                      <a:pt x="860" y="473"/>
                    </a:lnTo>
                    <a:lnTo>
                      <a:pt x="815" y="476"/>
                    </a:lnTo>
                    <a:lnTo>
                      <a:pt x="769" y="478"/>
                    </a:lnTo>
                    <a:lnTo>
                      <a:pt x="724" y="480"/>
                    </a:lnTo>
                    <a:lnTo>
                      <a:pt x="753" y="492"/>
                    </a:lnTo>
                    <a:lnTo>
                      <a:pt x="784" y="507"/>
                    </a:lnTo>
                    <a:lnTo>
                      <a:pt x="800" y="516"/>
                    </a:lnTo>
                    <a:lnTo>
                      <a:pt x="816" y="525"/>
                    </a:lnTo>
                    <a:lnTo>
                      <a:pt x="832" y="535"/>
                    </a:lnTo>
                    <a:lnTo>
                      <a:pt x="847" y="546"/>
                    </a:lnTo>
                    <a:lnTo>
                      <a:pt x="860" y="557"/>
                    </a:lnTo>
                    <a:lnTo>
                      <a:pt x="873" y="570"/>
                    </a:lnTo>
                    <a:lnTo>
                      <a:pt x="885" y="582"/>
                    </a:lnTo>
                    <a:lnTo>
                      <a:pt x="895" y="596"/>
                    </a:lnTo>
                    <a:lnTo>
                      <a:pt x="904" y="610"/>
                    </a:lnTo>
                    <a:lnTo>
                      <a:pt x="909" y="624"/>
                    </a:lnTo>
                    <a:lnTo>
                      <a:pt x="912" y="632"/>
                    </a:lnTo>
                    <a:lnTo>
                      <a:pt x="913" y="640"/>
                    </a:lnTo>
                    <a:lnTo>
                      <a:pt x="914" y="648"/>
                    </a:lnTo>
                    <a:lnTo>
                      <a:pt x="915" y="656"/>
                    </a:lnTo>
                    <a:lnTo>
                      <a:pt x="895" y="656"/>
                    </a:lnTo>
                    <a:lnTo>
                      <a:pt x="873" y="659"/>
                    </a:lnTo>
                    <a:lnTo>
                      <a:pt x="850" y="660"/>
                    </a:lnTo>
                    <a:lnTo>
                      <a:pt x="826" y="663"/>
                    </a:lnTo>
                    <a:lnTo>
                      <a:pt x="777" y="669"/>
                    </a:lnTo>
                    <a:lnTo>
                      <a:pt x="726" y="674"/>
                    </a:lnTo>
                    <a:lnTo>
                      <a:pt x="701" y="677"/>
                    </a:lnTo>
                    <a:lnTo>
                      <a:pt x="676" y="679"/>
                    </a:lnTo>
                    <a:lnTo>
                      <a:pt x="651" y="680"/>
                    </a:lnTo>
                    <a:lnTo>
                      <a:pt x="628" y="681"/>
                    </a:lnTo>
                    <a:lnTo>
                      <a:pt x="605" y="680"/>
                    </a:lnTo>
                    <a:lnTo>
                      <a:pt x="585" y="678"/>
                    </a:lnTo>
                    <a:lnTo>
                      <a:pt x="565" y="674"/>
                    </a:lnTo>
                    <a:lnTo>
                      <a:pt x="547" y="670"/>
                    </a:lnTo>
                    <a:lnTo>
                      <a:pt x="530" y="662"/>
                    </a:lnTo>
                    <a:lnTo>
                      <a:pt x="514" y="654"/>
                    </a:lnTo>
                    <a:lnTo>
                      <a:pt x="500" y="644"/>
                    </a:lnTo>
                    <a:lnTo>
                      <a:pt x="487" y="632"/>
                    </a:lnTo>
                    <a:lnTo>
                      <a:pt x="474" y="620"/>
                    </a:lnTo>
                    <a:lnTo>
                      <a:pt x="463" y="606"/>
                    </a:lnTo>
                    <a:lnTo>
                      <a:pt x="452" y="591"/>
                    </a:lnTo>
                    <a:lnTo>
                      <a:pt x="443" y="576"/>
                    </a:lnTo>
                    <a:lnTo>
                      <a:pt x="434" y="560"/>
                    </a:lnTo>
                    <a:lnTo>
                      <a:pt x="426" y="543"/>
                    </a:lnTo>
                    <a:lnTo>
                      <a:pt x="419" y="526"/>
                    </a:lnTo>
                    <a:lnTo>
                      <a:pt x="412" y="509"/>
                    </a:lnTo>
                    <a:lnTo>
                      <a:pt x="402" y="473"/>
                    </a:lnTo>
                    <a:lnTo>
                      <a:pt x="392" y="436"/>
                    </a:lnTo>
                    <a:lnTo>
                      <a:pt x="376" y="364"/>
                    </a:lnTo>
                    <a:lnTo>
                      <a:pt x="360" y="299"/>
                    </a:lnTo>
                    <a:lnTo>
                      <a:pt x="357" y="285"/>
                    </a:lnTo>
                    <a:lnTo>
                      <a:pt x="352" y="271"/>
                    </a:lnTo>
                    <a:lnTo>
                      <a:pt x="346" y="258"/>
                    </a:lnTo>
                    <a:lnTo>
                      <a:pt x="341" y="247"/>
                    </a:lnTo>
                    <a:lnTo>
                      <a:pt x="335" y="237"/>
                    </a:lnTo>
                    <a:lnTo>
                      <a:pt x="328" y="228"/>
                    </a:lnTo>
                    <a:lnTo>
                      <a:pt x="321" y="221"/>
                    </a:lnTo>
                    <a:lnTo>
                      <a:pt x="313" y="214"/>
                    </a:lnTo>
                    <a:lnTo>
                      <a:pt x="299" y="204"/>
                    </a:lnTo>
                    <a:lnTo>
                      <a:pt x="281" y="193"/>
                    </a:lnTo>
                    <a:lnTo>
                      <a:pt x="263" y="184"/>
                    </a:lnTo>
                    <a:lnTo>
                      <a:pt x="243" y="176"/>
                    </a:lnTo>
                    <a:lnTo>
                      <a:pt x="199" y="160"/>
                    </a:lnTo>
                    <a:lnTo>
                      <a:pt x="154" y="144"/>
                    </a:lnTo>
                    <a:lnTo>
                      <a:pt x="131" y="136"/>
                    </a:lnTo>
                    <a:lnTo>
                      <a:pt x="109" y="128"/>
                    </a:lnTo>
                    <a:lnTo>
                      <a:pt x="88" y="120"/>
                    </a:lnTo>
                    <a:lnTo>
                      <a:pt x="67" y="111"/>
                    </a:lnTo>
                    <a:lnTo>
                      <a:pt x="49" y="101"/>
                    </a:lnTo>
                    <a:lnTo>
                      <a:pt x="32" y="91"/>
                    </a:lnTo>
                    <a:lnTo>
                      <a:pt x="24" y="84"/>
                    </a:lnTo>
                    <a:lnTo>
                      <a:pt x="16" y="78"/>
                    </a:lnTo>
                    <a:lnTo>
                      <a:pt x="10" y="73"/>
                    </a:lnTo>
                    <a:lnTo>
                      <a:pt x="3" y="66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2" y="45"/>
                    </a:lnTo>
                    <a:lnTo>
                      <a:pt x="9" y="38"/>
                    </a:lnTo>
                    <a:lnTo>
                      <a:pt x="17" y="32"/>
                    </a:lnTo>
                    <a:lnTo>
                      <a:pt x="28" y="25"/>
                    </a:lnTo>
                    <a:lnTo>
                      <a:pt x="42" y="19"/>
                    </a:lnTo>
                    <a:lnTo>
                      <a:pt x="58" y="14"/>
                    </a:lnTo>
                    <a:lnTo>
                      <a:pt x="75" y="10"/>
                    </a:lnTo>
                    <a:lnTo>
                      <a:pt x="95" y="5"/>
                    </a:lnTo>
                    <a:lnTo>
                      <a:pt x="115" y="3"/>
                    </a:lnTo>
                    <a:lnTo>
                      <a:pt x="137" y="1"/>
                    </a:lnTo>
                    <a:lnTo>
                      <a:pt x="161" y="0"/>
                    </a:lnTo>
                    <a:lnTo>
                      <a:pt x="185" y="1"/>
                    </a:lnTo>
                    <a:lnTo>
                      <a:pt x="208" y="2"/>
                    </a:lnTo>
                    <a:lnTo>
                      <a:pt x="234" y="5"/>
                    </a:lnTo>
                    <a:lnTo>
                      <a:pt x="259" y="10"/>
                    </a:lnTo>
                    <a:lnTo>
                      <a:pt x="284" y="16"/>
                    </a:lnTo>
                    <a:lnTo>
                      <a:pt x="309" y="24"/>
                    </a:lnTo>
                    <a:lnTo>
                      <a:pt x="334" y="34"/>
                    </a:lnTo>
                    <a:lnTo>
                      <a:pt x="357" y="45"/>
                    </a:lnTo>
                    <a:lnTo>
                      <a:pt x="381" y="59"/>
                    </a:lnTo>
                    <a:lnTo>
                      <a:pt x="402" y="75"/>
                    </a:lnTo>
                    <a:lnTo>
                      <a:pt x="423" y="93"/>
                    </a:lnTo>
                    <a:lnTo>
                      <a:pt x="442" y="114"/>
                    </a:lnTo>
                    <a:lnTo>
                      <a:pt x="460" y="136"/>
                    </a:lnTo>
                    <a:lnTo>
                      <a:pt x="475" y="163"/>
                    </a:lnTo>
                    <a:lnTo>
                      <a:pt x="489" y="190"/>
                    </a:lnTo>
                    <a:lnTo>
                      <a:pt x="500" y="222"/>
                    </a:lnTo>
                    <a:lnTo>
                      <a:pt x="509" y="255"/>
                    </a:lnTo>
                    <a:lnTo>
                      <a:pt x="515" y="293"/>
                    </a:lnTo>
                    <a:lnTo>
                      <a:pt x="518" y="33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33640" y="3945240"/>
                <a:ext cx="109440" cy="95040"/>
              </a:xfrm>
              <a:custGeom>
                <a:avLst/>
                <a:gdLst/>
                <a:ahLst/>
                <a:rect l="l" t="t" r="r" b="b"/>
                <a:pathLst>
                  <a:path w="348" h="298">
                    <a:moveTo>
                      <a:pt x="348" y="13"/>
                    </a:moveTo>
                    <a:lnTo>
                      <a:pt x="336" y="0"/>
                    </a:lnTo>
                    <a:lnTo>
                      <a:pt x="322" y="1"/>
                    </a:lnTo>
                    <a:lnTo>
                      <a:pt x="309" y="3"/>
                    </a:lnTo>
                    <a:lnTo>
                      <a:pt x="295" y="5"/>
                    </a:lnTo>
                    <a:lnTo>
                      <a:pt x="281" y="8"/>
                    </a:lnTo>
                    <a:lnTo>
                      <a:pt x="268" y="13"/>
                    </a:lnTo>
                    <a:lnTo>
                      <a:pt x="254" y="17"/>
                    </a:lnTo>
                    <a:lnTo>
                      <a:pt x="242" y="23"/>
                    </a:lnTo>
                    <a:lnTo>
                      <a:pt x="228" y="30"/>
                    </a:lnTo>
                    <a:lnTo>
                      <a:pt x="202" y="45"/>
                    </a:lnTo>
                    <a:lnTo>
                      <a:pt x="175" y="62"/>
                    </a:lnTo>
                    <a:lnTo>
                      <a:pt x="150" y="80"/>
                    </a:lnTo>
                    <a:lnTo>
                      <a:pt x="126" y="101"/>
                    </a:lnTo>
                    <a:lnTo>
                      <a:pt x="104" y="123"/>
                    </a:lnTo>
                    <a:lnTo>
                      <a:pt x="83" y="146"/>
                    </a:lnTo>
                    <a:lnTo>
                      <a:pt x="64" y="170"/>
                    </a:lnTo>
                    <a:lnTo>
                      <a:pt x="47" y="195"/>
                    </a:lnTo>
                    <a:lnTo>
                      <a:pt x="31" y="219"/>
                    </a:lnTo>
                    <a:lnTo>
                      <a:pt x="18" y="244"/>
                    </a:lnTo>
                    <a:lnTo>
                      <a:pt x="12" y="257"/>
                    </a:lnTo>
                    <a:lnTo>
                      <a:pt x="8" y="268"/>
                    </a:lnTo>
                    <a:lnTo>
                      <a:pt x="3" y="281"/>
                    </a:lnTo>
                    <a:lnTo>
                      <a:pt x="0" y="292"/>
                    </a:lnTo>
                    <a:lnTo>
                      <a:pt x="24" y="298"/>
                    </a:lnTo>
                    <a:lnTo>
                      <a:pt x="26" y="288"/>
                    </a:lnTo>
                    <a:lnTo>
                      <a:pt x="31" y="277"/>
                    </a:lnTo>
                    <a:lnTo>
                      <a:pt x="35" y="266"/>
                    </a:lnTo>
                    <a:lnTo>
                      <a:pt x="40" y="254"/>
                    </a:lnTo>
                    <a:lnTo>
                      <a:pt x="52" y="232"/>
                    </a:lnTo>
                    <a:lnTo>
                      <a:pt x="66" y="208"/>
                    </a:lnTo>
                    <a:lnTo>
                      <a:pt x="83" y="185"/>
                    </a:lnTo>
                    <a:lnTo>
                      <a:pt x="101" y="162"/>
                    </a:lnTo>
                    <a:lnTo>
                      <a:pt x="122" y="139"/>
                    </a:lnTo>
                    <a:lnTo>
                      <a:pt x="144" y="119"/>
                    </a:lnTo>
                    <a:lnTo>
                      <a:pt x="166" y="99"/>
                    </a:lnTo>
                    <a:lnTo>
                      <a:pt x="189" y="81"/>
                    </a:lnTo>
                    <a:lnTo>
                      <a:pt x="214" y="65"/>
                    </a:lnTo>
                    <a:lnTo>
                      <a:pt x="239" y="52"/>
                    </a:lnTo>
                    <a:lnTo>
                      <a:pt x="251" y="46"/>
                    </a:lnTo>
                    <a:lnTo>
                      <a:pt x="263" y="40"/>
                    </a:lnTo>
                    <a:lnTo>
                      <a:pt x="276" y="36"/>
                    </a:lnTo>
                    <a:lnTo>
                      <a:pt x="288" y="32"/>
                    </a:lnTo>
                    <a:lnTo>
                      <a:pt x="300" y="29"/>
                    </a:lnTo>
                    <a:lnTo>
                      <a:pt x="312" y="26"/>
                    </a:lnTo>
                    <a:lnTo>
                      <a:pt x="324" y="25"/>
                    </a:lnTo>
                    <a:lnTo>
                      <a:pt x="336" y="25"/>
                    </a:lnTo>
                    <a:lnTo>
                      <a:pt x="324" y="13"/>
                    </a:lnTo>
                    <a:lnTo>
                      <a:pt x="336" y="25"/>
                    </a:lnTo>
                    <a:lnTo>
                      <a:pt x="341" y="24"/>
                    </a:lnTo>
                    <a:lnTo>
                      <a:pt x="345" y="21"/>
                    </a:lnTo>
                    <a:lnTo>
                      <a:pt x="348" y="17"/>
                    </a:lnTo>
                    <a:lnTo>
                      <a:pt x="348" y="13"/>
                    </a:lnTo>
                    <a:lnTo>
                      <a:pt x="348" y="8"/>
                    </a:lnTo>
                    <a:lnTo>
                      <a:pt x="345" y="5"/>
                    </a:lnTo>
                    <a:lnTo>
                      <a:pt x="341" y="1"/>
                    </a:lnTo>
                    <a:lnTo>
                      <a:pt x="336" y="0"/>
                    </a:lnTo>
                    <a:lnTo>
                      <a:pt x="348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021120" y="3949920"/>
                <a:ext cx="106200" cy="85680"/>
              </a:xfrm>
              <a:custGeom>
                <a:avLst/>
                <a:gdLst/>
                <a:ahLst/>
                <a:rect l="l" t="t" r="r" b="b"/>
                <a:pathLst>
                  <a:path w="338" h="272">
                    <a:moveTo>
                      <a:pt x="338" y="238"/>
                    </a:moveTo>
                    <a:lnTo>
                      <a:pt x="326" y="225"/>
                    </a:lnTo>
                    <a:lnTo>
                      <a:pt x="282" y="225"/>
                    </a:lnTo>
                    <a:lnTo>
                      <a:pt x="242" y="227"/>
                    </a:lnTo>
                    <a:lnTo>
                      <a:pt x="207" y="228"/>
                    </a:lnTo>
                    <a:lnTo>
                      <a:pt x="175" y="230"/>
                    </a:lnTo>
                    <a:lnTo>
                      <a:pt x="120" y="235"/>
                    </a:lnTo>
                    <a:lnTo>
                      <a:pt x="79" y="240"/>
                    </a:lnTo>
                    <a:lnTo>
                      <a:pt x="49" y="245"/>
                    </a:lnTo>
                    <a:lnTo>
                      <a:pt x="28" y="248"/>
                    </a:lnTo>
                    <a:lnTo>
                      <a:pt x="22" y="248"/>
                    </a:lnTo>
                    <a:lnTo>
                      <a:pt x="19" y="248"/>
                    </a:lnTo>
                    <a:lnTo>
                      <a:pt x="20" y="248"/>
                    </a:lnTo>
                    <a:lnTo>
                      <a:pt x="24" y="253"/>
                    </a:lnTo>
                    <a:lnTo>
                      <a:pt x="24" y="255"/>
                    </a:lnTo>
                    <a:lnTo>
                      <a:pt x="25" y="254"/>
                    </a:lnTo>
                    <a:lnTo>
                      <a:pt x="26" y="249"/>
                    </a:lnTo>
                    <a:lnTo>
                      <a:pt x="28" y="243"/>
                    </a:lnTo>
                    <a:lnTo>
                      <a:pt x="36" y="223"/>
                    </a:lnTo>
                    <a:lnTo>
                      <a:pt x="45" y="197"/>
                    </a:lnTo>
                    <a:lnTo>
                      <a:pt x="51" y="181"/>
                    </a:lnTo>
                    <a:lnTo>
                      <a:pt x="55" y="163"/>
                    </a:lnTo>
                    <a:lnTo>
                      <a:pt x="60" y="141"/>
                    </a:lnTo>
                    <a:lnTo>
                      <a:pt x="65" y="118"/>
                    </a:lnTo>
                    <a:lnTo>
                      <a:pt x="68" y="93"/>
                    </a:lnTo>
                    <a:lnTo>
                      <a:pt x="70" y="65"/>
                    </a:lnTo>
                    <a:lnTo>
                      <a:pt x="73" y="34"/>
                    </a:lnTo>
                    <a:lnTo>
                      <a:pt x="73" y="0"/>
                    </a:lnTo>
                    <a:lnTo>
                      <a:pt x="49" y="0"/>
                    </a:lnTo>
                    <a:lnTo>
                      <a:pt x="49" y="33"/>
                    </a:lnTo>
                    <a:lnTo>
                      <a:pt x="46" y="62"/>
                    </a:lnTo>
                    <a:lnTo>
                      <a:pt x="44" y="90"/>
                    </a:lnTo>
                    <a:lnTo>
                      <a:pt x="41" y="115"/>
                    </a:lnTo>
                    <a:lnTo>
                      <a:pt x="36" y="137"/>
                    </a:lnTo>
                    <a:lnTo>
                      <a:pt x="33" y="157"/>
                    </a:lnTo>
                    <a:lnTo>
                      <a:pt x="27" y="174"/>
                    </a:lnTo>
                    <a:lnTo>
                      <a:pt x="22" y="189"/>
                    </a:lnTo>
                    <a:lnTo>
                      <a:pt x="13" y="215"/>
                    </a:lnTo>
                    <a:lnTo>
                      <a:pt x="6" y="233"/>
                    </a:lnTo>
                    <a:lnTo>
                      <a:pt x="3" y="240"/>
                    </a:lnTo>
                    <a:lnTo>
                      <a:pt x="1" y="247"/>
                    </a:lnTo>
                    <a:lnTo>
                      <a:pt x="0" y="254"/>
                    </a:lnTo>
                    <a:lnTo>
                      <a:pt x="1" y="263"/>
                    </a:lnTo>
                    <a:lnTo>
                      <a:pt x="8" y="270"/>
                    </a:lnTo>
                    <a:lnTo>
                      <a:pt x="16" y="272"/>
                    </a:lnTo>
                    <a:lnTo>
                      <a:pt x="24" y="272"/>
                    </a:lnTo>
                    <a:lnTo>
                      <a:pt x="32" y="272"/>
                    </a:lnTo>
                    <a:lnTo>
                      <a:pt x="52" y="269"/>
                    </a:lnTo>
                    <a:lnTo>
                      <a:pt x="82" y="264"/>
                    </a:lnTo>
                    <a:lnTo>
                      <a:pt x="123" y="259"/>
                    </a:lnTo>
                    <a:lnTo>
                      <a:pt x="176" y="254"/>
                    </a:lnTo>
                    <a:lnTo>
                      <a:pt x="208" y="252"/>
                    </a:lnTo>
                    <a:lnTo>
                      <a:pt x="244" y="251"/>
                    </a:lnTo>
                    <a:lnTo>
                      <a:pt x="282" y="249"/>
                    </a:lnTo>
                    <a:lnTo>
                      <a:pt x="326" y="249"/>
                    </a:lnTo>
                    <a:lnTo>
                      <a:pt x="314" y="236"/>
                    </a:lnTo>
                    <a:lnTo>
                      <a:pt x="326" y="249"/>
                    </a:lnTo>
                    <a:lnTo>
                      <a:pt x="331" y="248"/>
                    </a:lnTo>
                    <a:lnTo>
                      <a:pt x="335" y="246"/>
                    </a:lnTo>
                    <a:lnTo>
                      <a:pt x="337" y="241"/>
                    </a:lnTo>
                    <a:lnTo>
                      <a:pt x="338" y="237"/>
                    </a:lnTo>
                    <a:lnTo>
                      <a:pt x="337" y="232"/>
                    </a:lnTo>
                    <a:lnTo>
                      <a:pt x="335" y="229"/>
                    </a:lnTo>
                    <a:lnTo>
                      <a:pt x="331" y="227"/>
                    </a:lnTo>
                    <a:lnTo>
                      <a:pt x="326" y="225"/>
                    </a:lnTo>
                    <a:lnTo>
                      <a:pt x="338" y="2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114720" y="402444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40" h="162">
                    <a:moveTo>
                      <a:pt x="15" y="162"/>
                    </a:moveTo>
                    <a:lnTo>
                      <a:pt x="24" y="151"/>
                    </a:lnTo>
                    <a:lnTo>
                      <a:pt x="40" y="2"/>
                    </a:lnTo>
                    <a:lnTo>
                      <a:pt x="16" y="0"/>
                    </a:lnTo>
                    <a:lnTo>
                      <a:pt x="0" y="149"/>
                    </a:lnTo>
                    <a:lnTo>
                      <a:pt x="15" y="162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7" y="160"/>
                    </a:lnTo>
                    <a:lnTo>
                      <a:pt x="10" y="162"/>
                    </a:lnTo>
                    <a:lnTo>
                      <a:pt x="15" y="162"/>
                    </a:lnTo>
                    <a:lnTo>
                      <a:pt x="20" y="160"/>
                    </a:lnTo>
                    <a:lnTo>
                      <a:pt x="23" y="157"/>
                    </a:lnTo>
                    <a:lnTo>
                      <a:pt x="24" y="151"/>
                    </a:lnTo>
                    <a:lnTo>
                      <a:pt x="15" y="1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998800" y="406908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16" y="43"/>
                    </a:moveTo>
                    <a:lnTo>
                      <a:pt x="12" y="67"/>
                    </a:lnTo>
                    <a:lnTo>
                      <a:pt x="57" y="66"/>
                    </a:lnTo>
                    <a:lnTo>
                      <a:pt x="103" y="64"/>
                    </a:lnTo>
                    <a:lnTo>
                      <a:pt x="150" y="60"/>
                    </a:lnTo>
                    <a:lnTo>
                      <a:pt x="197" y="56"/>
                    </a:lnTo>
                    <a:lnTo>
                      <a:pt x="244" y="49"/>
                    </a:lnTo>
                    <a:lnTo>
                      <a:pt x="291" y="42"/>
                    </a:lnTo>
                    <a:lnTo>
                      <a:pt x="336" y="33"/>
                    </a:lnTo>
                    <a:lnTo>
                      <a:pt x="382" y="23"/>
                    </a:lnTo>
                    <a:lnTo>
                      <a:pt x="376" y="0"/>
                    </a:lnTo>
                    <a:lnTo>
                      <a:pt x="332" y="9"/>
                    </a:lnTo>
                    <a:lnTo>
                      <a:pt x="286" y="18"/>
                    </a:lnTo>
                    <a:lnTo>
                      <a:pt x="241" y="25"/>
                    </a:lnTo>
                    <a:lnTo>
                      <a:pt x="194" y="31"/>
                    </a:lnTo>
                    <a:lnTo>
                      <a:pt x="148" y="36"/>
                    </a:lnTo>
                    <a:lnTo>
                      <a:pt x="102" y="40"/>
                    </a:lnTo>
                    <a:lnTo>
                      <a:pt x="56" y="42"/>
                    </a:lnTo>
                    <a:lnTo>
                      <a:pt x="12" y="42"/>
                    </a:lnTo>
                    <a:lnTo>
                      <a:pt x="7" y="66"/>
                    </a:lnTo>
                    <a:lnTo>
                      <a:pt x="12" y="42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59"/>
                    </a:lnTo>
                    <a:lnTo>
                      <a:pt x="3" y="63"/>
                    </a:lnTo>
                    <a:lnTo>
                      <a:pt x="7" y="66"/>
                    </a:lnTo>
                    <a:lnTo>
                      <a:pt x="12" y="67"/>
                    </a:lnTo>
                    <a:lnTo>
                      <a:pt x="16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000240" y="408168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6" y="201"/>
                    </a:moveTo>
                    <a:lnTo>
                      <a:pt x="207" y="188"/>
                    </a:lnTo>
                    <a:lnTo>
                      <a:pt x="207" y="179"/>
                    </a:lnTo>
                    <a:lnTo>
                      <a:pt x="206" y="170"/>
                    </a:lnTo>
                    <a:lnTo>
                      <a:pt x="204" y="161"/>
                    </a:lnTo>
                    <a:lnTo>
                      <a:pt x="202" y="152"/>
                    </a:lnTo>
                    <a:lnTo>
                      <a:pt x="195" y="136"/>
                    </a:lnTo>
                    <a:lnTo>
                      <a:pt x="186" y="121"/>
                    </a:lnTo>
                    <a:lnTo>
                      <a:pt x="176" y="106"/>
                    </a:lnTo>
                    <a:lnTo>
                      <a:pt x="163" y="92"/>
                    </a:lnTo>
                    <a:lnTo>
                      <a:pt x="149" y="80"/>
                    </a:lnTo>
                    <a:lnTo>
                      <a:pt x="135" y="69"/>
                    </a:lnTo>
                    <a:lnTo>
                      <a:pt x="120" y="57"/>
                    </a:lnTo>
                    <a:lnTo>
                      <a:pt x="104" y="47"/>
                    </a:lnTo>
                    <a:lnTo>
                      <a:pt x="88" y="37"/>
                    </a:lnTo>
                    <a:lnTo>
                      <a:pt x="71" y="29"/>
                    </a:lnTo>
                    <a:lnTo>
                      <a:pt x="39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9" y="34"/>
                    </a:lnTo>
                    <a:lnTo>
                      <a:pt x="60" y="50"/>
                    </a:lnTo>
                    <a:lnTo>
                      <a:pt x="75" y="58"/>
                    </a:lnTo>
                    <a:lnTo>
                      <a:pt x="91" y="67"/>
                    </a:lnTo>
                    <a:lnTo>
                      <a:pt x="106" y="77"/>
                    </a:lnTo>
                    <a:lnTo>
                      <a:pt x="120" y="87"/>
                    </a:lnTo>
                    <a:lnTo>
                      <a:pt x="133" y="98"/>
                    </a:lnTo>
                    <a:lnTo>
                      <a:pt x="146" y="110"/>
                    </a:lnTo>
                    <a:lnTo>
                      <a:pt x="156" y="122"/>
                    </a:lnTo>
                    <a:lnTo>
                      <a:pt x="166" y="134"/>
                    </a:lnTo>
                    <a:lnTo>
                      <a:pt x="173" y="147"/>
                    </a:lnTo>
                    <a:lnTo>
                      <a:pt x="179" y="161"/>
                    </a:lnTo>
                    <a:lnTo>
                      <a:pt x="181" y="167"/>
                    </a:lnTo>
                    <a:lnTo>
                      <a:pt x="182" y="173"/>
                    </a:lnTo>
                    <a:lnTo>
                      <a:pt x="184" y="181"/>
                    </a:lnTo>
                    <a:lnTo>
                      <a:pt x="184" y="188"/>
                    </a:lnTo>
                    <a:lnTo>
                      <a:pt x="196" y="176"/>
                    </a:lnTo>
                    <a:lnTo>
                      <a:pt x="184" y="188"/>
                    </a:lnTo>
                    <a:lnTo>
                      <a:pt x="185" y="194"/>
                    </a:lnTo>
                    <a:lnTo>
                      <a:pt x="187" y="197"/>
                    </a:lnTo>
                    <a:lnTo>
                      <a:pt x="192" y="200"/>
                    </a:lnTo>
                    <a:lnTo>
                      <a:pt x="196" y="201"/>
                    </a:lnTo>
                    <a:lnTo>
                      <a:pt x="200" y="200"/>
                    </a:lnTo>
                    <a:lnTo>
                      <a:pt x="204" y="197"/>
                    </a:lnTo>
                    <a:lnTo>
                      <a:pt x="206" y="194"/>
                    </a:lnTo>
                    <a:lnTo>
                      <a:pt x="207" y="188"/>
                    </a:lnTo>
                    <a:lnTo>
                      <a:pt x="196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944800" y="4137120"/>
                <a:ext cx="117360" cy="16200"/>
              </a:xfrm>
              <a:custGeom>
                <a:avLst/>
                <a:gdLst/>
                <a:ahLst/>
                <a:rect l="l" t="t" r="r" b="b"/>
                <a:pathLst>
                  <a:path w="371" h="49">
                    <a:moveTo>
                      <a:pt x="0" y="37"/>
                    </a:moveTo>
                    <a:lnTo>
                      <a:pt x="0" y="37"/>
                    </a:lnTo>
                    <a:lnTo>
                      <a:pt x="18" y="43"/>
                    </a:lnTo>
                    <a:lnTo>
                      <a:pt x="38" y="46"/>
                    </a:lnTo>
                    <a:lnTo>
                      <a:pt x="61" y="49"/>
                    </a:lnTo>
                    <a:lnTo>
                      <a:pt x="84" y="49"/>
                    </a:lnTo>
                    <a:lnTo>
                      <a:pt x="108" y="49"/>
                    </a:lnTo>
                    <a:lnTo>
                      <a:pt x="132" y="48"/>
                    </a:lnTo>
                    <a:lnTo>
                      <a:pt x="158" y="45"/>
                    </a:lnTo>
                    <a:lnTo>
                      <a:pt x="183" y="43"/>
                    </a:lnTo>
                    <a:lnTo>
                      <a:pt x="234" y="37"/>
                    </a:lnTo>
                    <a:lnTo>
                      <a:pt x="283" y="30"/>
                    </a:lnTo>
                    <a:lnTo>
                      <a:pt x="307" y="28"/>
                    </a:lnTo>
                    <a:lnTo>
                      <a:pt x="330" y="26"/>
                    </a:lnTo>
                    <a:lnTo>
                      <a:pt x="351" y="25"/>
                    </a:lnTo>
                    <a:lnTo>
                      <a:pt x="371" y="25"/>
                    </a:lnTo>
                    <a:lnTo>
                      <a:pt x="371" y="0"/>
                    </a:lnTo>
                    <a:lnTo>
                      <a:pt x="351" y="1"/>
                    </a:lnTo>
                    <a:lnTo>
                      <a:pt x="328" y="2"/>
                    </a:lnTo>
                    <a:lnTo>
                      <a:pt x="305" y="4"/>
                    </a:lnTo>
                    <a:lnTo>
                      <a:pt x="281" y="7"/>
                    </a:lnTo>
                    <a:lnTo>
                      <a:pt x="231" y="12"/>
                    </a:lnTo>
                    <a:lnTo>
                      <a:pt x="181" y="19"/>
                    </a:lnTo>
                    <a:lnTo>
                      <a:pt x="156" y="21"/>
                    </a:lnTo>
                    <a:lnTo>
                      <a:pt x="131" y="24"/>
                    </a:lnTo>
                    <a:lnTo>
                      <a:pt x="107" y="25"/>
                    </a:lnTo>
                    <a:lnTo>
                      <a:pt x="84" y="25"/>
                    </a:lnTo>
                    <a:lnTo>
                      <a:pt x="62" y="25"/>
                    </a:lnTo>
                    <a:lnTo>
                      <a:pt x="42" y="23"/>
                    </a:lnTo>
                    <a:lnTo>
                      <a:pt x="23" y="19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68480" y="399924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247" h="476">
                    <a:moveTo>
                      <a:pt x="0" y="19"/>
                    </a:moveTo>
                    <a:lnTo>
                      <a:pt x="2" y="19"/>
                    </a:lnTo>
                    <a:lnTo>
                      <a:pt x="8" y="25"/>
                    </a:lnTo>
                    <a:lnTo>
                      <a:pt x="14" y="31"/>
                    </a:lnTo>
                    <a:lnTo>
                      <a:pt x="20" y="39"/>
                    </a:lnTo>
                    <a:lnTo>
                      <a:pt x="25" y="48"/>
                    </a:lnTo>
                    <a:lnTo>
                      <a:pt x="31" y="59"/>
                    </a:lnTo>
                    <a:lnTo>
                      <a:pt x="36" y="70"/>
                    </a:lnTo>
                    <a:lnTo>
                      <a:pt x="40" y="84"/>
                    </a:lnTo>
                    <a:lnTo>
                      <a:pt x="44" y="98"/>
                    </a:lnTo>
                    <a:lnTo>
                      <a:pt x="60" y="162"/>
                    </a:lnTo>
                    <a:lnTo>
                      <a:pt x="76" y="235"/>
                    </a:lnTo>
                    <a:lnTo>
                      <a:pt x="85" y="271"/>
                    </a:lnTo>
                    <a:lnTo>
                      <a:pt x="96" y="308"/>
                    </a:lnTo>
                    <a:lnTo>
                      <a:pt x="103" y="326"/>
                    </a:lnTo>
                    <a:lnTo>
                      <a:pt x="111" y="344"/>
                    </a:lnTo>
                    <a:lnTo>
                      <a:pt x="119" y="361"/>
                    </a:lnTo>
                    <a:lnTo>
                      <a:pt x="128" y="377"/>
                    </a:lnTo>
                    <a:lnTo>
                      <a:pt x="137" y="393"/>
                    </a:lnTo>
                    <a:lnTo>
                      <a:pt x="149" y="408"/>
                    </a:lnTo>
                    <a:lnTo>
                      <a:pt x="160" y="423"/>
                    </a:lnTo>
                    <a:lnTo>
                      <a:pt x="174" y="435"/>
                    </a:lnTo>
                    <a:lnTo>
                      <a:pt x="187" y="448"/>
                    </a:lnTo>
                    <a:lnTo>
                      <a:pt x="203" y="459"/>
                    </a:lnTo>
                    <a:lnTo>
                      <a:pt x="220" y="468"/>
                    </a:lnTo>
                    <a:lnTo>
                      <a:pt x="239" y="476"/>
                    </a:lnTo>
                    <a:lnTo>
                      <a:pt x="247" y="454"/>
                    </a:lnTo>
                    <a:lnTo>
                      <a:pt x="231" y="447"/>
                    </a:lnTo>
                    <a:lnTo>
                      <a:pt x="216" y="439"/>
                    </a:lnTo>
                    <a:lnTo>
                      <a:pt x="202" y="428"/>
                    </a:lnTo>
                    <a:lnTo>
                      <a:pt x="190" y="418"/>
                    </a:lnTo>
                    <a:lnTo>
                      <a:pt x="178" y="407"/>
                    </a:lnTo>
                    <a:lnTo>
                      <a:pt x="167" y="393"/>
                    </a:lnTo>
                    <a:lnTo>
                      <a:pt x="158" y="379"/>
                    </a:lnTo>
                    <a:lnTo>
                      <a:pt x="149" y="365"/>
                    </a:lnTo>
                    <a:lnTo>
                      <a:pt x="141" y="350"/>
                    </a:lnTo>
                    <a:lnTo>
                      <a:pt x="133" y="334"/>
                    </a:lnTo>
                    <a:lnTo>
                      <a:pt x="126" y="317"/>
                    </a:lnTo>
                    <a:lnTo>
                      <a:pt x="120" y="300"/>
                    </a:lnTo>
                    <a:lnTo>
                      <a:pt x="109" y="264"/>
                    </a:lnTo>
                    <a:lnTo>
                      <a:pt x="100" y="229"/>
                    </a:lnTo>
                    <a:lnTo>
                      <a:pt x="82" y="157"/>
                    </a:lnTo>
                    <a:lnTo>
                      <a:pt x="68" y="91"/>
                    </a:lnTo>
                    <a:lnTo>
                      <a:pt x="63" y="76"/>
                    </a:lnTo>
                    <a:lnTo>
                      <a:pt x="58" y="63"/>
                    </a:lnTo>
                    <a:lnTo>
                      <a:pt x="53" y="49"/>
                    </a:lnTo>
                    <a:lnTo>
                      <a:pt x="47" y="36"/>
                    </a:lnTo>
                    <a:lnTo>
                      <a:pt x="40" y="26"/>
                    </a:lnTo>
                    <a:lnTo>
                      <a:pt x="33" y="16"/>
                    </a:lnTo>
                    <a:lnTo>
                      <a:pt x="24" y="7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70200" y="395172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0" y="15"/>
                    </a:moveTo>
                    <a:lnTo>
                      <a:pt x="0" y="16"/>
                    </a:lnTo>
                    <a:lnTo>
                      <a:pt x="7" y="23"/>
                    </a:lnTo>
                    <a:lnTo>
                      <a:pt x="14" y="29"/>
                    </a:lnTo>
                    <a:lnTo>
                      <a:pt x="22" y="36"/>
                    </a:lnTo>
                    <a:lnTo>
                      <a:pt x="31" y="42"/>
                    </a:lnTo>
                    <a:lnTo>
                      <a:pt x="48" y="53"/>
                    </a:lnTo>
                    <a:lnTo>
                      <a:pt x="69" y="64"/>
                    </a:lnTo>
                    <a:lnTo>
                      <a:pt x="89" y="73"/>
                    </a:lnTo>
                    <a:lnTo>
                      <a:pt x="111" y="82"/>
                    </a:lnTo>
                    <a:lnTo>
                      <a:pt x="134" y="90"/>
                    </a:lnTo>
                    <a:lnTo>
                      <a:pt x="156" y="98"/>
                    </a:lnTo>
                    <a:lnTo>
                      <a:pt x="202" y="114"/>
                    </a:lnTo>
                    <a:lnTo>
                      <a:pt x="244" y="129"/>
                    </a:lnTo>
                    <a:lnTo>
                      <a:pt x="265" y="138"/>
                    </a:lnTo>
                    <a:lnTo>
                      <a:pt x="282" y="147"/>
                    </a:lnTo>
                    <a:lnTo>
                      <a:pt x="298" y="156"/>
                    </a:lnTo>
                    <a:lnTo>
                      <a:pt x="311" y="166"/>
                    </a:lnTo>
                    <a:lnTo>
                      <a:pt x="327" y="147"/>
                    </a:lnTo>
                    <a:lnTo>
                      <a:pt x="311" y="135"/>
                    </a:lnTo>
                    <a:lnTo>
                      <a:pt x="293" y="125"/>
                    </a:lnTo>
                    <a:lnTo>
                      <a:pt x="274" y="115"/>
                    </a:lnTo>
                    <a:lnTo>
                      <a:pt x="253" y="107"/>
                    </a:lnTo>
                    <a:lnTo>
                      <a:pt x="210" y="91"/>
                    </a:lnTo>
                    <a:lnTo>
                      <a:pt x="164" y="75"/>
                    </a:lnTo>
                    <a:lnTo>
                      <a:pt x="142" y="67"/>
                    </a:lnTo>
                    <a:lnTo>
                      <a:pt x="120" y="59"/>
                    </a:lnTo>
                    <a:lnTo>
                      <a:pt x="98" y="51"/>
                    </a:lnTo>
                    <a:lnTo>
                      <a:pt x="79" y="42"/>
                    </a:lnTo>
                    <a:lnTo>
                      <a:pt x="61" y="33"/>
                    </a:lnTo>
                    <a:lnTo>
                      <a:pt x="44" y="23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4" y="5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768760" y="39294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543" h="356">
                    <a:moveTo>
                      <a:pt x="519" y="341"/>
                    </a:moveTo>
                    <a:lnTo>
                      <a:pt x="543" y="343"/>
                    </a:lnTo>
                    <a:lnTo>
                      <a:pt x="542" y="323"/>
                    </a:lnTo>
                    <a:lnTo>
                      <a:pt x="539" y="302"/>
                    </a:lnTo>
                    <a:lnTo>
                      <a:pt x="537" y="284"/>
                    </a:lnTo>
                    <a:lnTo>
                      <a:pt x="534" y="265"/>
                    </a:lnTo>
                    <a:lnTo>
                      <a:pt x="529" y="248"/>
                    </a:lnTo>
                    <a:lnTo>
                      <a:pt x="525" y="229"/>
                    </a:lnTo>
                    <a:lnTo>
                      <a:pt x="519" y="213"/>
                    </a:lnTo>
                    <a:lnTo>
                      <a:pt x="513" y="197"/>
                    </a:lnTo>
                    <a:lnTo>
                      <a:pt x="506" y="183"/>
                    </a:lnTo>
                    <a:lnTo>
                      <a:pt x="500" y="169"/>
                    </a:lnTo>
                    <a:lnTo>
                      <a:pt x="492" y="155"/>
                    </a:lnTo>
                    <a:lnTo>
                      <a:pt x="482" y="142"/>
                    </a:lnTo>
                    <a:lnTo>
                      <a:pt x="473" y="129"/>
                    </a:lnTo>
                    <a:lnTo>
                      <a:pt x="464" y="118"/>
                    </a:lnTo>
                    <a:lnTo>
                      <a:pt x="455" y="107"/>
                    </a:lnTo>
                    <a:lnTo>
                      <a:pt x="445" y="96"/>
                    </a:lnTo>
                    <a:lnTo>
                      <a:pt x="433" y="87"/>
                    </a:lnTo>
                    <a:lnTo>
                      <a:pt x="423" y="78"/>
                    </a:lnTo>
                    <a:lnTo>
                      <a:pt x="412" y="69"/>
                    </a:lnTo>
                    <a:lnTo>
                      <a:pt x="399" y="61"/>
                    </a:lnTo>
                    <a:lnTo>
                      <a:pt x="376" y="47"/>
                    </a:lnTo>
                    <a:lnTo>
                      <a:pt x="351" y="34"/>
                    </a:lnTo>
                    <a:lnTo>
                      <a:pt x="326" y="24"/>
                    </a:lnTo>
                    <a:lnTo>
                      <a:pt x="300" y="16"/>
                    </a:lnTo>
                    <a:lnTo>
                      <a:pt x="274" y="10"/>
                    </a:lnTo>
                    <a:lnTo>
                      <a:pt x="249" y="5"/>
                    </a:lnTo>
                    <a:lnTo>
                      <a:pt x="223" y="2"/>
                    </a:lnTo>
                    <a:lnTo>
                      <a:pt x="198" y="0"/>
                    </a:lnTo>
                    <a:lnTo>
                      <a:pt x="174" y="0"/>
                    </a:lnTo>
                    <a:lnTo>
                      <a:pt x="150" y="1"/>
                    </a:lnTo>
                    <a:lnTo>
                      <a:pt x="127" y="2"/>
                    </a:lnTo>
                    <a:lnTo>
                      <a:pt x="105" y="6"/>
                    </a:lnTo>
                    <a:lnTo>
                      <a:pt x="86" y="9"/>
                    </a:lnTo>
                    <a:lnTo>
                      <a:pt x="68" y="15"/>
                    </a:lnTo>
                    <a:lnTo>
                      <a:pt x="51" y="20"/>
                    </a:lnTo>
                    <a:lnTo>
                      <a:pt x="36" y="26"/>
                    </a:lnTo>
                    <a:lnTo>
                      <a:pt x="24" y="33"/>
                    </a:lnTo>
                    <a:lnTo>
                      <a:pt x="14" y="40"/>
                    </a:lnTo>
                    <a:lnTo>
                      <a:pt x="10" y="46"/>
                    </a:lnTo>
                    <a:lnTo>
                      <a:pt x="6" y="50"/>
                    </a:lnTo>
                    <a:lnTo>
                      <a:pt x="3" y="55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2" y="74"/>
                    </a:lnTo>
                    <a:lnTo>
                      <a:pt x="4" y="80"/>
                    </a:lnTo>
                    <a:lnTo>
                      <a:pt x="7" y="85"/>
                    </a:lnTo>
                    <a:lnTo>
                      <a:pt x="27" y="70"/>
                    </a:lnTo>
                    <a:lnTo>
                      <a:pt x="25" y="69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3"/>
                    </a:lnTo>
                    <a:lnTo>
                      <a:pt x="28" y="62"/>
                    </a:lnTo>
                    <a:lnTo>
                      <a:pt x="29" y="59"/>
                    </a:lnTo>
                    <a:lnTo>
                      <a:pt x="37" y="54"/>
                    </a:lnTo>
                    <a:lnTo>
                      <a:pt x="47" y="48"/>
                    </a:lnTo>
                    <a:lnTo>
                      <a:pt x="60" y="42"/>
                    </a:lnTo>
                    <a:lnTo>
                      <a:pt x="74" y="38"/>
                    </a:lnTo>
                    <a:lnTo>
                      <a:pt x="90" y="33"/>
                    </a:lnTo>
                    <a:lnTo>
                      <a:pt x="110" y="30"/>
                    </a:lnTo>
                    <a:lnTo>
                      <a:pt x="129" y="26"/>
                    </a:lnTo>
                    <a:lnTo>
                      <a:pt x="151" y="25"/>
                    </a:lnTo>
                    <a:lnTo>
                      <a:pt x="174" y="24"/>
                    </a:lnTo>
                    <a:lnTo>
                      <a:pt x="196" y="24"/>
                    </a:lnTo>
                    <a:lnTo>
                      <a:pt x="220" y="26"/>
                    </a:lnTo>
                    <a:lnTo>
                      <a:pt x="244" y="29"/>
                    </a:lnTo>
                    <a:lnTo>
                      <a:pt x="269" y="33"/>
                    </a:lnTo>
                    <a:lnTo>
                      <a:pt x="293" y="40"/>
                    </a:lnTo>
                    <a:lnTo>
                      <a:pt x="317" y="47"/>
                    </a:lnTo>
                    <a:lnTo>
                      <a:pt x="341" y="57"/>
                    </a:lnTo>
                    <a:lnTo>
                      <a:pt x="364" y="69"/>
                    </a:lnTo>
                    <a:lnTo>
                      <a:pt x="387" y="81"/>
                    </a:lnTo>
                    <a:lnTo>
                      <a:pt x="397" y="89"/>
                    </a:lnTo>
                    <a:lnTo>
                      <a:pt x="407" y="97"/>
                    </a:lnTo>
                    <a:lnTo>
                      <a:pt x="418" y="105"/>
                    </a:lnTo>
                    <a:lnTo>
                      <a:pt x="428" y="114"/>
                    </a:lnTo>
                    <a:lnTo>
                      <a:pt x="437" y="123"/>
                    </a:lnTo>
                    <a:lnTo>
                      <a:pt x="446" y="134"/>
                    </a:lnTo>
                    <a:lnTo>
                      <a:pt x="455" y="144"/>
                    </a:lnTo>
                    <a:lnTo>
                      <a:pt x="463" y="155"/>
                    </a:lnTo>
                    <a:lnTo>
                      <a:pt x="471" y="168"/>
                    </a:lnTo>
                    <a:lnTo>
                      <a:pt x="478" y="180"/>
                    </a:lnTo>
                    <a:lnTo>
                      <a:pt x="485" y="193"/>
                    </a:lnTo>
                    <a:lnTo>
                      <a:pt x="490" y="208"/>
                    </a:lnTo>
                    <a:lnTo>
                      <a:pt x="496" y="221"/>
                    </a:lnTo>
                    <a:lnTo>
                      <a:pt x="502" y="237"/>
                    </a:lnTo>
                    <a:lnTo>
                      <a:pt x="506" y="253"/>
                    </a:lnTo>
                    <a:lnTo>
                      <a:pt x="510" y="269"/>
                    </a:lnTo>
                    <a:lnTo>
                      <a:pt x="513" y="287"/>
                    </a:lnTo>
                    <a:lnTo>
                      <a:pt x="516" y="306"/>
                    </a:lnTo>
                    <a:lnTo>
                      <a:pt x="518" y="325"/>
                    </a:lnTo>
                    <a:lnTo>
                      <a:pt x="519" y="344"/>
                    </a:lnTo>
                    <a:lnTo>
                      <a:pt x="543" y="347"/>
                    </a:lnTo>
                    <a:lnTo>
                      <a:pt x="519" y="344"/>
                    </a:lnTo>
                    <a:lnTo>
                      <a:pt x="520" y="350"/>
                    </a:lnTo>
                    <a:lnTo>
                      <a:pt x="524" y="354"/>
                    </a:lnTo>
                    <a:lnTo>
                      <a:pt x="527" y="356"/>
                    </a:lnTo>
                    <a:lnTo>
                      <a:pt x="531" y="356"/>
                    </a:lnTo>
                    <a:lnTo>
                      <a:pt x="536" y="356"/>
                    </a:lnTo>
                    <a:lnTo>
                      <a:pt x="539" y="352"/>
                    </a:lnTo>
                    <a:lnTo>
                      <a:pt x="542" y="349"/>
                    </a:lnTo>
                    <a:lnTo>
                      <a:pt x="543" y="343"/>
                    </a:lnTo>
                    <a:lnTo>
                      <a:pt x="519" y="3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041640" y="396576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8" h="708">
                    <a:moveTo>
                      <a:pt x="490" y="194"/>
                    </a:moveTo>
                    <a:lnTo>
                      <a:pt x="455" y="179"/>
                    </a:lnTo>
                    <a:lnTo>
                      <a:pt x="422" y="163"/>
                    </a:lnTo>
                    <a:lnTo>
                      <a:pt x="393" y="147"/>
                    </a:lnTo>
                    <a:lnTo>
                      <a:pt x="363" y="131"/>
                    </a:lnTo>
                    <a:lnTo>
                      <a:pt x="308" y="99"/>
                    </a:lnTo>
                    <a:lnTo>
                      <a:pt x="254" y="69"/>
                    </a:lnTo>
                    <a:lnTo>
                      <a:pt x="228" y="54"/>
                    </a:lnTo>
                    <a:lnTo>
                      <a:pt x="200" y="41"/>
                    </a:lnTo>
                    <a:lnTo>
                      <a:pt x="172" y="30"/>
                    </a:lnTo>
                    <a:lnTo>
                      <a:pt x="142" y="20"/>
                    </a:lnTo>
                    <a:lnTo>
                      <a:pt x="127" y="15"/>
                    </a:lnTo>
                    <a:lnTo>
                      <a:pt x="111" y="12"/>
                    </a:lnTo>
                    <a:lnTo>
                      <a:pt x="95" y="8"/>
                    </a:lnTo>
                    <a:lnTo>
                      <a:pt x="78" y="5"/>
                    </a:lnTo>
                    <a:lnTo>
                      <a:pt x="61" y="2"/>
                    </a:lnTo>
                    <a:lnTo>
                      <a:pt x="44" y="1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4"/>
                    </a:lnTo>
                    <a:lnTo>
                      <a:pt x="4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4" y="146"/>
                    </a:lnTo>
                    <a:lnTo>
                      <a:pt x="67" y="155"/>
                    </a:lnTo>
                    <a:lnTo>
                      <a:pt x="80" y="163"/>
                    </a:lnTo>
                    <a:lnTo>
                      <a:pt x="95" y="171"/>
                    </a:lnTo>
                    <a:lnTo>
                      <a:pt x="110" y="179"/>
                    </a:lnTo>
                    <a:lnTo>
                      <a:pt x="126" y="187"/>
                    </a:lnTo>
                    <a:lnTo>
                      <a:pt x="159" y="201"/>
                    </a:lnTo>
                    <a:lnTo>
                      <a:pt x="194" y="213"/>
                    </a:lnTo>
                    <a:lnTo>
                      <a:pt x="230" y="226"/>
                    </a:lnTo>
                    <a:lnTo>
                      <a:pt x="265" y="238"/>
                    </a:lnTo>
                    <a:lnTo>
                      <a:pt x="299" y="251"/>
                    </a:lnTo>
                    <a:lnTo>
                      <a:pt x="332" y="265"/>
                    </a:lnTo>
                    <a:lnTo>
                      <a:pt x="347" y="272"/>
                    </a:lnTo>
                    <a:lnTo>
                      <a:pt x="362" y="278"/>
                    </a:lnTo>
                    <a:lnTo>
                      <a:pt x="376" y="286"/>
                    </a:lnTo>
                    <a:lnTo>
                      <a:pt x="389" y="294"/>
                    </a:lnTo>
                    <a:lnTo>
                      <a:pt x="372" y="295"/>
                    </a:lnTo>
                    <a:lnTo>
                      <a:pt x="356" y="297"/>
                    </a:lnTo>
                    <a:lnTo>
                      <a:pt x="341" y="300"/>
                    </a:lnTo>
                    <a:lnTo>
                      <a:pt x="327" y="305"/>
                    </a:lnTo>
                    <a:lnTo>
                      <a:pt x="313" y="309"/>
                    </a:lnTo>
                    <a:lnTo>
                      <a:pt x="299" y="316"/>
                    </a:lnTo>
                    <a:lnTo>
                      <a:pt x="286" y="323"/>
                    </a:lnTo>
                    <a:lnTo>
                      <a:pt x="273" y="332"/>
                    </a:lnTo>
                    <a:lnTo>
                      <a:pt x="261" y="341"/>
                    </a:lnTo>
                    <a:lnTo>
                      <a:pt x="249" y="350"/>
                    </a:lnTo>
                    <a:lnTo>
                      <a:pt x="238" y="362"/>
                    </a:lnTo>
                    <a:lnTo>
                      <a:pt x="228" y="373"/>
                    </a:lnTo>
                    <a:lnTo>
                      <a:pt x="217" y="384"/>
                    </a:lnTo>
                    <a:lnTo>
                      <a:pt x="208" y="397"/>
                    </a:lnTo>
                    <a:lnTo>
                      <a:pt x="199" y="411"/>
                    </a:lnTo>
                    <a:lnTo>
                      <a:pt x="190" y="424"/>
                    </a:lnTo>
                    <a:lnTo>
                      <a:pt x="182" y="438"/>
                    </a:lnTo>
                    <a:lnTo>
                      <a:pt x="175" y="453"/>
                    </a:lnTo>
                    <a:lnTo>
                      <a:pt x="168" y="468"/>
                    </a:lnTo>
                    <a:lnTo>
                      <a:pt x="161" y="482"/>
                    </a:lnTo>
                    <a:lnTo>
                      <a:pt x="150" y="513"/>
                    </a:lnTo>
                    <a:lnTo>
                      <a:pt x="141" y="544"/>
                    </a:lnTo>
                    <a:lnTo>
                      <a:pt x="133" y="575"/>
                    </a:lnTo>
                    <a:lnTo>
                      <a:pt x="128" y="606"/>
                    </a:lnTo>
                    <a:lnTo>
                      <a:pt x="125" y="635"/>
                    </a:lnTo>
                    <a:lnTo>
                      <a:pt x="124" y="664"/>
                    </a:lnTo>
                    <a:lnTo>
                      <a:pt x="160" y="641"/>
                    </a:lnTo>
                    <a:lnTo>
                      <a:pt x="208" y="609"/>
                    </a:lnTo>
                    <a:lnTo>
                      <a:pt x="264" y="571"/>
                    </a:lnTo>
                    <a:lnTo>
                      <a:pt x="323" y="528"/>
                    </a:lnTo>
                    <a:lnTo>
                      <a:pt x="351" y="506"/>
                    </a:lnTo>
                    <a:lnTo>
                      <a:pt x="378" y="484"/>
                    </a:lnTo>
                    <a:lnTo>
                      <a:pt x="403" y="462"/>
                    </a:lnTo>
                    <a:lnTo>
                      <a:pt x="426" y="441"/>
                    </a:lnTo>
                    <a:lnTo>
                      <a:pt x="445" y="421"/>
                    </a:lnTo>
                    <a:lnTo>
                      <a:pt x="461" y="403"/>
                    </a:lnTo>
                    <a:lnTo>
                      <a:pt x="467" y="394"/>
                    </a:lnTo>
                    <a:lnTo>
                      <a:pt x="471" y="386"/>
                    </a:lnTo>
                    <a:lnTo>
                      <a:pt x="475" y="378"/>
                    </a:lnTo>
                    <a:lnTo>
                      <a:pt x="477" y="371"/>
                    </a:lnTo>
                    <a:lnTo>
                      <a:pt x="478" y="397"/>
                    </a:lnTo>
                    <a:lnTo>
                      <a:pt x="481" y="423"/>
                    </a:lnTo>
                    <a:lnTo>
                      <a:pt x="484" y="447"/>
                    </a:lnTo>
                    <a:lnTo>
                      <a:pt x="490" y="471"/>
                    </a:lnTo>
                    <a:lnTo>
                      <a:pt x="496" y="494"/>
                    </a:lnTo>
                    <a:lnTo>
                      <a:pt x="504" y="515"/>
                    </a:lnTo>
                    <a:lnTo>
                      <a:pt x="512" y="536"/>
                    </a:lnTo>
                    <a:lnTo>
                      <a:pt x="523" y="557"/>
                    </a:lnTo>
                    <a:lnTo>
                      <a:pt x="533" y="576"/>
                    </a:lnTo>
                    <a:lnTo>
                      <a:pt x="544" y="595"/>
                    </a:lnTo>
                    <a:lnTo>
                      <a:pt x="557" y="615"/>
                    </a:lnTo>
                    <a:lnTo>
                      <a:pt x="569" y="633"/>
                    </a:lnTo>
                    <a:lnTo>
                      <a:pt x="596" y="671"/>
                    </a:lnTo>
                    <a:lnTo>
                      <a:pt x="623" y="708"/>
                    </a:lnTo>
                    <a:lnTo>
                      <a:pt x="638" y="205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038400" y="3962520"/>
                <a:ext cx="158760" cy="68400"/>
              </a:xfrm>
              <a:custGeom>
                <a:avLst/>
                <a:gdLst/>
                <a:ahLst/>
                <a:rect l="l" t="t" r="r" b="b"/>
                <a:pathLst>
                  <a:path w="500" h="217">
                    <a:moveTo>
                      <a:pt x="24" y="16"/>
                    </a:moveTo>
                    <a:lnTo>
                      <a:pt x="12" y="24"/>
                    </a:lnTo>
                    <a:lnTo>
                      <a:pt x="31" y="25"/>
                    </a:lnTo>
                    <a:lnTo>
                      <a:pt x="49" y="25"/>
                    </a:lnTo>
                    <a:lnTo>
                      <a:pt x="66" y="27"/>
                    </a:lnTo>
                    <a:lnTo>
                      <a:pt x="83" y="29"/>
                    </a:lnTo>
                    <a:lnTo>
                      <a:pt x="99" y="32"/>
                    </a:lnTo>
                    <a:lnTo>
                      <a:pt x="115" y="35"/>
                    </a:lnTo>
                    <a:lnTo>
                      <a:pt x="130" y="38"/>
                    </a:lnTo>
                    <a:lnTo>
                      <a:pt x="145" y="43"/>
                    </a:lnTo>
                    <a:lnTo>
                      <a:pt x="173" y="53"/>
                    </a:lnTo>
                    <a:lnTo>
                      <a:pt x="200" y="65"/>
                    </a:lnTo>
                    <a:lnTo>
                      <a:pt x="228" y="77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3" y="154"/>
                    </a:lnTo>
                    <a:lnTo>
                      <a:pt x="393" y="171"/>
                    </a:lnTo>
                    <a:lnTo>
                      <a:pt x="424" y="187"/>
                    </a:lnTo>
                    <a:lnTo>
                      <a:pt x="456" y="203"/>
                    </a:lnTo>
                    <a:lnTo>
                      <a:pt x="491" y="217"/>
                    </a:lnTo>
                    <a:lnTo>
                      <a:pt x="500" y="195"/>
                    </a:lnTo>
                    <a:lnTo>
                      <a:pt x="466" y="180"/>
                    </a:lnTo>
                    <a:lnTo>
                      <a:pt x="434" y="165"/>
                    </a:lnTo>
                    <a:lnTo>
                      <a:pt x="404" y="149"/>
                    </a:lnTo>
                    <a:lnTo>
                      <a:pt x="375" y="133"/>
                    </a:lnTo>
                    <a:lnTo>
                      <a:pt x="320" y="100"/>
                    </a:lnTo>
                    <a:lnTo>
                      <a:pt x="267" y="69"/>
                    </a:lnTo>
                    <a:lnTo>
                      <a:pt x="239" y="56"/>
                    </a:lnTo>
                    <a:lnTo>
                      <a:pt x="211" y="42"/>
                    </a:lnTo>
                    <a:lnTo>
                      <a:pt x="182" y="30"/>
                    </a:lnTo>
                    <a:lnTo>
                      <a:pt x="151" y="20"/>
                    </a:lnTo>
                    <a:lnTo>
                      <a:pt x="136" y="16"/>
                    </a:lnTo>
                    <a:lnTo>
                      <a:pt x="120" y="11"/>
                    </a:lnTo>
                    <a:lnTo>
                      <a:pt x="104" y="8"/>
                    </a:lnTo>
                    <a:lnTo>
                      <a:pt x="86" y="5"/>
                    </a:lnTo>
                    <a:lnTo>
                      <a:pt x="68" y="3"/>
                    </a:lnTo>
                    <a:lnTo>
                      <a:pt x="50" y="1"/>
                    </a:lnTo>
                    <a:lnTo>
                      <a:pt x="32" y="0"/>
                    </a:lnTo>
                    <a:lnTo>
                      <a:pt x="12" y="0"/>
                    </a:lnTo>
                    <a:lnTo>
                      <a:pt x="1" y="9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2"/>
                    </a:lnTo>
                    <a:lnTo>
                      <a:pt x="12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036960" y="39643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6" y="279"/>
                    </a:lnTo>
                    <a:lnTo>
                      <a:pt x="381" y="271"/>
                    </a:lnTo>
                    <a:lnTo>
                      <a:pt x="366" y="263"/>
                    </a:lnTo>
                    <a:lnTo>
                      <a:pt x="350" y="256"/>
                    </a:lnTo>
                    <a:lnTo>
                      <a:pt x="317" y="243"/>
                    </a:lnTo>
                    <a:lnTo>
                      <a:pt x="282" y="230"/>
                    </a:lnTo>
                    <a:lnTo>
                      <a:pt x="246" y="218"/>
                    </a:lnTo>
                    <a:lnTo>
                      <a:pt x="211" y="205"/>
                    </a:lnTo>
                    <a:lnTo>
                      <a:pt x="177" y="192"/>
                    </a:lnTo>
                    <a:lnTo>
                      <a:pt x="144" y="179"/>
                    </a:lnTo>
                    <a:lnTo>
                      <a:pt x="129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7" y="148"/>
                    </a:lnTo>
                    <a:lnTo>
                      <a:pt x="75" y="139"/>
                    </a:lnTo>
                    <a:lnTo>
                      <a:pt x="64" y="131"/>
                    </a:lnTo>
                    <a:lnTo>
                      <a:pt x="55" y="121"/>
                    </a:lnTo>
                    <a:lnTo>
                      <a:pt x="46" y="110"/>
                    </a:lnTo>
                    <a:lnTo>
                      <a:pt x="39" y="100"/>
                    </a:lnTo>
                    <a:lnTo>
                      <a:pt x="33" y="90"/>
                    </a:lnTo>
                    <a:lnTo>
                      <a:pt x="29" y="78"/>
                    </a:lnTo>
                    <a:lnTo>
                      <a:pt x="26" y="66"/>
                    </a:lnTo>
                    <a:lnTo>
                      <a:pt x="24" y="52"/>
                    </a:lnTo>
                    <a:lnTo>
                      <a:pt x="25" y="39"/>
                    </a:lnTo>
                    <a:lnTo>
                      <a:pt x="26" y="23"/>
                    </a:lnTo>
                    <a:lnTo>
                      <a:pt x="31" y="7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6" y="85"/>
                    </a:lnTo>
                    <a:lnTo>
                      <a:pt x="10" y="99"/>
                    </a:lnTo>
                    <a:lnTo>
                      <a:pt x="18" y="113"/>
                    </a:lnTo>
                    <a:lnTo>
                      <a:pt x="26" y="125"/>
                    </a:lnTo>
                    <a:lnTo>
                      <a:pt x="37" y="138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3" y="169"/>
                    </a:lnTo>
                    <a:lnTo>
                      <a:pt x="88" y="176"/>
                    </a:lnTo>
                    <a:lnTo>
                      <a:pt x="103" y="186"/>
                    </a:lnTo>
                    <a:lnTo>
                      <a:pt x="119" y="194"/>
                    </a:lnTo>
                    <a:lnTo>
                      <a:pt x="135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8" y="240"/>
                    </a:lnTo>
                    <a:lnTo>
                      <a:pt x="274" y="253"/>
                    </a:lnTo>
                    <a:lnTo>
                      <a:pt x="308" y="265"/>
                    </a:lnTo>
                    <a:lnTo>
                      <a:pt x="340" y="278"/>
                    </a:lnTo>
                    <a:lnTo>
                      <a:pt x="356" y="285"/>
                    </a:lnTo>
                    <a:lnTo>
                      <a:pt x="369" y="293"/>
                    </a:lnTo>
                    <a:lnTo>
                      <a:pt x="383" y="300"/>
                    </a:lnTo>
                    <a:lnTo>
                      <a:pt x="396" y="308"/>
                    </a:lnTo>
                    <a:lnTo>
                      <a:pt x="402" y="285"/>
                    </a:lnTo>
                    <a:lnTo>
                      <a:pt x="396" y="308"/>
                    </a:lnTo>
                    <a:lnTo>
                      <a:pt x="400" y="310"/>
                    </a:lnTo>
                    <a:lnTo>
                      <a:pt x="405" y="309"/>
                    </a:lnTo>
                    <a:lnTo>
                      <a:pt x="409" y="308"/>
                    </a:lnTo>
                    <a:lnTo>
                      <a:pt x="411" y="304"/>
                    </a:lnTo>
                    <a:lnTo>
                      <a:pt x="414" y="300"/>
                    </a:lnTo>
                    <a:lnTo>
                      <a:pt x="414" y="295"/>
                    </a:lnTo>
                    <a:lnTo>
                      <a:pt x="413" y="290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076560" y="4054680"/>
                <a:ext cx="8748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0"/>
                    </a:moveTo>
                    <a:lnTo>
                      <a:pt x="24" y="382"/>
                    </a:lnTo>
                    <a:lnTo>
                      <a:pt x="25" y="354"/>
                    </a:lnTo>
                    <a:lnTo>
                      <a:pt x="28" y="326"/>
                    </a:lnTo>
                    <a:lnTo>
                      <a:pt x="33" y="295"/>
                    </a:lnTo>
                    <a:lnTo>
                      <a:pt x="40" y="265"/>
                    </a:lnTo>
                    <a:lnTo>
                      <a:pt x="49" y="235"/>
                    </a:lnTo>
                    <a:lnTo>
                      <a:pt x="61" y="205"/>
                    </a:lnTo>
                    <a:lnTo>
                      <a:pt x="67" y="190"/>
                    </a:lnTo>
                    <a:lnTo>
                      <a:pt x="73" y="176"/>
                    </a:lnTo>
                    <a:lnTo>
                      <a:pt x="81" y="162"/>
                    </a:lnTo>
                    <a:lnTo>
                      <a:pt x="88" y="148"/>
                    </a:lnTo>
                    <a:lnTo>
                      <a:pt x="97" y="135"/>
                    </a:lnTo>
                    <a:lnTo>
                      <a:pt x="105" y="123"/>
                    </a:lnTo>
                    <a:lnTo>
                      <a:pt x="114" y="110"/>
                    </a:lnTo>
                    <a:lnTo>
                      <a:pt x="125" y="99"/>
                    </a:lnTo>
                    <a:lnTo>
                      <a:pt x="135" y="88"/>
                    </a:lnTo>
                    <a:lnTo>
                      <a:pt x="145" y="77"/>
                    </a:lnTo>
                    <a:lnTo>
                      <a:pt x="157" y="68"/>
                    </a:lnTo>
                    <a:lnTo>
                      <a:pt x="168" y="59"/>
                    </a:lnTo>
                    <a:lnTo>
                      <a:pt x="180" y="51"/>
                    </a:lnTo>
                    <a:lnTo>
                      <a:pt x="192" y="44"/>
                    </a:lnTo>
                    <a:lnTo>
                      <a:pt x="206" y="39"/>
                    </a:lnTo>
                    <a:lnTo>
                      <a:pt x="218" y="34"/>
                    </a:lnTo>
                    <a:lnTo>
                      <a:pt x="233" y="29"/>
                    </a:lnTo>
                    <a:lnTo>
                      <a:pt x="247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7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2" y="23"/>
                    </a:lnTo>
                    <a:lnTo>
                      <a:pt x="168" y="31"/>
                    </a:lnTo>
                    <a:lnTo>
                      <a:pt x="154" y="40"/>
                    </a:lnTo>
                    <a:lnTo>
                      <a:pt x="142" y="49"/>
                    </a:lnTo>
                    <a:lnTo>
                      <a:pt x="129" y="60"/>
                    </a:lnTo>
                    <a:lnTo>
                      <a:pt x="118" y="70"/>
                    </a:lnTo>
                    <a:lnTo>
                      <a:pt x="106" y="83"/>
                    </a:lnTo>
                    <a:lnTo>
                      <a:pt x="96" y="96"/>
                    </a:lnTo>
                    <a:lnTo>
                      <a:pt x="86" y="108"/>
                    </a:lnTo>
                    <a:lnTo>
                      <a:pt x="77" y="122"/>
                    </a:lnTo>
                    <a:lnTo>
                      <a:pt x="68" y="137"/>
                    </a:lnTo>
                    <a:lnTo>
                      <a:pt x="60" y="150"/>
                    </a:lnTo>
                    <a:lnTo>
                      <a:pt x="52" y="165"/>
                    </a:lnTo>
                    <a:lnTo>
                      <a:pt x="45" y="181"/>
                    </a:lnTo>
                    <a:lnTo>
                      <a:pt x="38" y="196"/>
                    </a:lnTo>
                    <a:lnTo>
                      <a:pt x="27" y="228"/>
                    </a:lnTo>
                    <a:lnTo>
                      <a:pt x="16" y="259"/>
                    </a:lnTo>
                    <a:lnTo>
                      <a:pt x="10" y="290"/>
                    </a:lnTo>
                    <a:lnTo>
                      <a:pt x="4" y="322"/>
                    </a:lnTo>
                    <a:lnTo>
                      <a:pt x="0" y="352"/>
                    </a:lnTo>
                    <a:lnTo>
                      <a:pt x="0" y="382"/>
                    </a:lnTo>
                    <a:lnTo>
                      <a:pt x="18" y="392"/>
                    </a:lnTo>
                    <a:lnTo>
                      <a:pt x="0" y="382"/>
                    </a:lnTo>
                    <a:lnTo>
                      <a:pt x="0" y="386"/>
                    </a:lnTo>
                    <a:lnTo>
                      <a:pt x="4" y="391"/>
                    </a:lnTo>
                    <a:lnTo>
                      <a:pt x="7" y="393"/>
                    </a:lnTo>
                    <a:lnTo>
                      <a:pt x="12" y="393"/>
                    </a:lnTo>
                    <a:lnTo>
                      <a:pt x="16" y="393"/>
                    </a:lnTo>
                    <a:lnTo>
                      <a:pt x="20" y="391"/>
                    </a:lnTo>
                    <a:lnTo>
                      <a:pt x="23" y="386"/>
                    </a:lnTo>
                    <a:lnTo>
                      <a:pt x="24" y="382"/>
                    </a:lnTo>
                    <a:lnTo>
                      <a:pt x="6" y="3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78000" y="408024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72" y="13"/>
                    </a:moveTo>
                    <a:lnTo>
                      <a:pt x="348" y="10"/>
                    </a:lnTo>
                    <a:lnTo>
                      <a:pt x="345" y="15"/>
                    </a:lnTo>
                    <a:lnTo>
                      <a:pt x="343" y="22"/>
                    </a:lnTo>
                    <a:lnTo>
                      <a:pt x="339" y="29"/>
                    </a:lnTo>
                    <a:lnTo>
                      <a:pt x="333" y="37"/>
                    </a:lnTo>
                    <a:lnTo>
                      <a:pt x="318" y="55"/>
                    </a:lnTo>
                    <a:lnTo>
                      <a:pt x="300" y="74"/>
                    </a:lnTo>
                    <a:lnTo>
                      <a:pt x="277" y="95"/>
                    </a:lnTo>
                    <a:lnTo>
                      <a:pt x="252" y="116"/>
                    </a:lnTo>
                    <a:lnTo>
                      <a:pt x="226" y="138"/>
                    </a:lnTo>
                    <a:lnTo>
                      <a:pt x="197" y="160"/>
                    </a:lnTo>
                    <a:lnTo>
                      <a:pt x="139" y="203"/>
                    </a:lnTo>
                    <a:lnTo>
                      <a:pt x="83" y="242"/>
                    </a:lnTo>
                    <a:lnTo>
                      <a:pt x="35" y="273"/>
                    </a:lnTo>
                    <a:lnTo>
                      <a:pt x="0" y="294"/>
                    </a:lnTo>
                    <a:lnTo>
                      <a:pt x="12" y="316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1" y="157"/>
                    </a:lnTo>
                    <a:lnTo>
                      <a:pt x="268" y="135"/>
                    </a:lnTo>
                    <a:lnTo>
                      <a:pt x="293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5" y="33"/>
                    </a:lnTo>
                    <a:lnTo>
                      <a:pt x="368" y="24"/>
                    </a:lnTo>
                    <a:lnTo>
                      <a:pt x="372" y="15"/>
                    </a:lnTo>
                    <a:lnTo>
                      <a:pt x="348" y="13"/>
                    </a:lnTo>
                    <a:lnTo>
                      <a:pt x="372" y="15"/>
                    </a:lnTo>
                    <a:lnTo>
                      <a:pt x="372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3" y="2"/>
                    </a:lnTo>
                    <a:lnTo>
                      <a:pt x="350" y="5"/>
                    </a:lnTo>
                    <a:lnTo>
                      <a:pt x="348" y="10"/>
                    </a:lnTo>
                    <a:lnTo>
                      <a:pt x="372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189240" y="4083480"/>
                <a:ext cx="52560" cy="110880"/>
              </a:xfrm>
              <a:custGeom>
                <a:avLst/>
                <a:gdLst/>
                <a:ahLst/>
                <a:rect l="l" t="t" r="r" b="b"/>
                <a:pathLst>
                  <a:path w="168" h="350">
                    <a:moveTo>
                      <a:pt x="144" y="337"/>
                    </a:moveTo>
                    <a:lnTo>
                      <a:pt x="166" y="330"/>
                    </a:lnTo>
                    <a:lnTo>
                      <a:pt x="140" y="293"/>
                    </a:lnTo>
                    <a:lnTo>
                      <a:pt x="114" y="255"/>
                    </a:lnTo>
                    <a:lnTo>
                      <a:pt x="101" y="237"/>
                    </a:lnTo>
                    <a:lnTo>
                      <a:pt x="89" y="219"/>
                    </a:lnTo>
                    <a:lnTo>
                      <a:pt x="78" y="199"/>
                    </a:lnTo>
                    <a:lnTo>
                      <a:pt x="67" y="180"/>
                    </a:lnTo>
                    <a:lnTo>
                      <a:pt x="58" y="160"/>
                    </a:lnTo>
                    <a:lnTo>
                      <a:pt x="50" y="140"/>
                    </a:lnTo>
                    <a:lnTo>
                      <a:pt x="42" y="118"/>
                    </a:lnTo>
                    <a:lnTo>
                      <a:pt x="35" y="97"/>
                    </a:lnTo>
                    <a:lnTo>
                      <a:pt x="30" y="74"/>
                    </a:lnTo>
                    <a:lnTo>
                      <a:pt x="27" y="51"/>
                    </a:lnTo>
                    <a:lnTo>
                      <a:pt x="24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2" y="53"/>
                    </a:lnTo>
                    <a:lnTo>
                      <a:pt x="7" y="78"/>
                    </a:lnTo>
                    <a:lnTo>
                      <a:pt x="12" y="103"/>
                    </a:lnTo>
                    <a:lnTo>
                      <a:pt x="19" y="126"/>
                    </a:lnTo>
                    <a:lnTo>
                      <a:pt x="27" y="149"/>
                    </a:lnTo>
                    <a:lnTo>
                      <a:pt x="36" y="170"/>
                    </a:lnTo>
                    <a:lnTo>
                      <a:pt x="46" y="191"/>
                    </a:lnTo>
                    <a:lnTo>
                      <a:pt x="57" y="211"/>
                    </a:lnTo>
                    <a:lnTo>
                      <a:pt x="68" y="231"/>
                    </a:lnTo>
                    <a:lnTo>
                      <a:pt x="81" y="251"/>
                    </a:lnTo>
                    <a:lnTo>
                      <a:pt x="93" y="269"/>
                    </a:lnTo>
                    <a:lnTo>
                      <a:pt x="119" y="306"/>
                    </a:lnTo>
                    <a:lnTo>
                      <a:pt x="147" y="344"/>
                    </a:lnTo>
                    <a:lnTo>
                      <a:pt x="168" y="337"/>
                    </a:lnTo>
                    <a:lnTo>
                      <a:pt x="147" y="344"/>
                    </a:lnTo>
                    <a:lnTo>
                      <a:pt x="151" y="349"/>
                    </a:lnTo>
                    <a:lnTo>
                      <a:pt x="155" y="350"/>
                    </a:lnTo>
                    <a:lnTo>
                      <a:pt x="159" y="350"/>
                    </a:lnTo>
                    <a:lnTo>
                      <a:pt x="164" y="347"/>
                    </a:lnTo>
                    <a:lnTo>
                      <a:pt x="167" y="344"/>
                    </a:lnTo>
                    <a:lnTo>
                      <a:pt x="168" y="339"/>
                    </a:lnTo>
                    <a:lnTo>
                      <a:pt x="168" y="335"/>
                    </a:lnTo>
                    <a:lnTo>
                      <a:pt x="166" y="330"/>
                    </a:lnTo>
                    <a:lnTo>
                      <a:pt x="144" y="3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235320" y="402768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4" y="514"/>
                    </a:lnTo>
                    <a:lnTo>
                      <a:pt x="40" y="13"/>
                    </a:lnTo>
                    <a:lnTo>
                      <a:pt x="29" y="0"/>
                    </a:lnTo>
                    <a:lnTo>
                      <a:pt x="40" y="13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192480" y="402300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8" y="24"/>
                    </a:moveTo>
                    <a:lnTo>
                      <a:pt x="11" y="24"/>
                    </a:lnTo>
                    <a:lnTo>
                      <a:pt x="161" y="37"/>
                    </a:lnTo>
                    <a:lnTo>
                      <a:pt x="162" y="13"/>
                    </a:lnTo>
                    <a:lnTo>
                      <a:pt x="14" y="0"/>
                    </a:lnTo>
                    <a:lnTo>
                      <a:pt x="8" y="24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537000" y="4119840"/>
                <a:ext cx="203040" cy="225360"/>
              </a:xfrm>
              <a:custGeom>
                <a:avLst/>
                <a:gdLst/>
                <a:ahLst/>
                <a:rect l="l" t="t" r="r" b="b"/>
                <a:pathLst>
                  <a:path w="640" h="709">
                    <a:moveTo>
                      <a:pt x="490" y="194"/>
                    </a:moveTo>
                    <a:lnTo>
                      <a:pt x="456" y="179"/>
                    </a:lnTo>
                    <a:lnTo>
                      <a:pt x="424" y="164"/>
                    </a:lnTo>
                    <a:lnTo>
                      <a:pt x="394" y="148"/>
                    </a:lnTo>
                    <a:lnTo>
                      <a:pt x="365" y="132"/>
                    </a:lnTo>
                    <a:lnTo>
                      <a:pt x="309" y="99"/>
                    </a:lnTo>
                    <a:lnTo>
                      <a:pt x="256" y="68"/>
                    </a:lnTo>
                    <a:lnTo>
                      <a:pt x="229" y="54"/>
                    </a:lnTo>
                    <a:lnTo>
                      <a:pt x="201" y="41"/>
                    </a:lnTo>
                    <a:lnTo>
                      <a:pt x="174" y="29"/>
                    </a:lnTo>
                    <a:lnTo>
                      <a:pt x="144" y="19"/>
                    </a:lnTo>
                    <a:lnTo>
                      <a:pt x="128" y="16"/>
                    </a:lnTo>
                    <a:lnTo>
                      <a:pt x="113" y="11"/>
                    </a:lnTo>
                    <a:lnTo>
                      <a:pt x="96" y="8"/>
                    </a:lnTo>
                    <a:lnTo>
                      <a:pt x="80" y="5"/>
                    </a:lnTo>
                    <a:lnTo>
                      <a:pt x="63" y="3"/>
                    </a:lnTo>
                    <a:lnTo>
                      <a:pt x="45" y="1"/>
                    </a:lnTo>
                    <a:lnTo>
                      <a:pt x="27" y="0"/>
                    </a:lnTo>
                    <a:lnTo>
                      <a:pt x="7" y="0"/>
                    </a:lnTo>
                    <a:lnTo>
                      <a:pt x="4" y="18"/>
                    </a:lnTo>
                    <a:lnTo>
                      <a:pt x="1" y="34"/>
                    </a:lnTo>
                    <a:lnTo>
                      <a:pt x="0" y="50"/>
                    </a:lnTo>
                    <a:lnTo>
                      <a:pt x="3" y="65"/>
                    </a:lnTo>
                    <a:lnTo>
                      <a:pt x="6" y="78"/>
                    </a:lnTo>
                    <a:lnTo>
                      <a:pt x="11" y="92"/>
                    </a:lnTo>
                    <a:lnTo>
                      <a:pt x="16" y="103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5" y="137"/>
                    </a:lnTo>
                    <a:lnTo>
                      <a:pt x="56" y="146"/>
                    </a:lnTo>
                    <a:lnTo>
                      <a:pt x="69" y="155"/>
                    </a:lnTo>
                    <a:lnTo>
                      <a:pt x="82" y="164"/>
                    </a:lnTo>
                    <a:lnTo>
                      <a:pt x="96" y="172"/>
                    </a:lnTo>
                    <a:lnTo>
                      <a:pt x="112" y="180"/>
                    </a:lnTo>
                    <a:lnTo>
                      <a:pt x="128" y="187"/>
                    </a:lnTo>
                    <a:lnTo>
                      <a:pt x="161" y="200"/>
                    </a:lnTo>
                    <a:lnTo>
                      <a:pt x="195" y="214"/>
                    </a:lnTo>
                    <a:lnTo>
                      <a:pt x="231" y="225"/>
                    </a:lnTo>
                    <a:lnTo>
                      <a:pt x="266" y="238"/>
                    </a:lnTo>
                    <a:lnTo>
                      <a:pt x="301" y="251"/>
                    </a:lnTo>
                    <a:lnTo>
                      <a:pt x="333" y="264"/>
                    </a:lnTo>
                    <a:lnTo>
                      <a:pt x="349" y="271"/>
                    </a:lnTo>
                    <a:lnTo>
                      <a:pt x="364" y="279"/>
                    </a:lnTo>
                    <a:lnTo>
                      <a:pt x="378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7"/>
                    </a:lnTo>
                    <a:lnTo>
                      <a:pt x="343" y="300"/>
                    </a:lnTo>
                    <a:lnTo>
                      <a:pt x="329" y="304"/>
                    </a:lnTo>
                    <a:lnTo>
                      <a:pt x="314" y="310"/>
                    </a:lnTo>
                    <a:lnTo>
                      <a:pt x="300" y="315"/>
                    </a:lnTo>
                    <a:lnTo>
                      <a:pt x="288" y="323"/>
                    </a:lnTo>
                    <a:lnTo>
                      <a:pt x="275" y="331"/>
                    </a:lnTo>
                    <a:lnTo>
                      <a:pt x="262" y="341"/>
                    </a:lnTo>
                    <a:lnTo>
                      <a:pt x="251" y="351"/>
                    </a:lnTo>
                    <a:lnTo>
                      <a:pt x="240" y="361"/>
                    </a:lnTo>
                    <a:lnTo>
                      <a:pt x="229" y="372"/>
                    </a:lnTo>
                    <a:lnTo>
                      <a:pt x="219" y="385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9"/>
                    </a:lnTo>
                    <a:lnTo>
                      <a:pt x="176" y="452"/>
                    </a:lnTo>
                    <a:lnTo>
                      <a:pt x="169" y="467"/>
                    </a:lnTo>
                    <a:lnTo>
                      <a:pt x="162" y="483"/>
                    </a:lnTo>
                    <a:lnTo>
                      <a:pt x="152" y="514"/>
                    </a:lnTo>
                    <a:lnTo>
                      <a:pt x="142" y="545"/>
                    </a:lnTo>
                    <a:lnTo>
                      <a:pt x="135" y="575"/>
                    </a:lnTo>
                    <a:lnTo>
                      <a:pt x="129" y="606"/>
                    </a:lnTo>
                    <a:lnTo>
                      <a:pt x="127" y="635"/>
                    </a:lnTo>
                    <a:lnTo>
                      <a:pt x="126" y="663"/>
                    </a:lnTo>
                    <a:lnTo>
                      <a:pt x="161" y="642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3" y="506"/>
                    </a:lnTo>
                    <a:lnTo>
                      <a:pt x="380" y="484"/>
                    </a:lnTo>
                    <a:lnTo>
                      <a:pt x="405" y="463"/>
                    </a:lnTo>
                    <a:lnTo>
                      <a:pt x="428" y="441"/>
                    </a:lnTo>
                    <a:lnTo>
                      <a:pt x="447" y="420"/>
                    </a:lnTo>
                    <a:lnTo>
                      <a:pt x="462" y="402"/>
                    </a:lnTo>
                    <a:lnTo>
                      <a:pt x="469" y="394"/>
                    </a:lnTo>
                    <a:lnTo>
                      <a:pt x="473" y="385"/>
                    </a:lnTo>
                    <a:lnTo>
                      <a:pt x="477" y="378"/>
                    </a:lnTo>
                    <a:lnTo>
                      <a:pt x="479" y="370"/>
                    </a:lnTo>
                    <a:lnTo>
                      <a:pt x="480" y="398"/>
                    </a:lnTo>
                    <a:lnTo>
                      <a:pt x="482" y="423"/>
                    </a:lnTo>
                    <a:lnTo>
                      <a:pt x="486" y="448"/>
                    </a:lnTo>
                    <a:lnTo>
                      <a:pt x="492" y="471"/>
                    </a:lnTo>
                    <a:lnTo>
                      <a:pt x="498" y="493"/>
                    </a:lnTo>
                    <a:lnTo>
                      <a:pt x="505" y="515"/>
                    </a:lnTo>
                    <a:lnTo>
                      <a:pt x="514" y="537"/>
                    </a:lnTo>
                    <a:lnTo>
                      <a:pt x="525" y="556"/>
                    </a:lnTo>
                    <a:lnTo>
                      <a:pt x="535" y="577"/>
                    </a:lnTo>
                    <a:lnTo>
                      <a:pt x="546" y="596"/>
                    </a:lnTo>
                    <a:lnTo>
                      <a:pt x="559" y="614"/>
                    </a:lnTo>
                    <a:lnTo>
                      <a:pt x="571" y="634"/>
                    </a:lnTo>
                    <a:lnTo>
                      <a:pt x="598" y="670"/>
                    </a:lnTo>
                    <a:lnTo>
                      <a:pt x="624" y="709"/>
                    </a:lnTo>
                    <a:lnTo>
                      <a:pt x="640" y="206"/>
                    </a:lnTo>
                    <a:lnTo>
                      <a:pt x="490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537000" y="4115160"/>
                <a:ext cx="156960" cy="69840"/>
              </a:xfrm>
              <a:custGeom>
                <a:avLst/>
                <a:gdLst/>
                <a:ahLst/>
                <a:rect l="l" t="t" r="r" b="b"/>
                <a:pathLst>
                  <a:path w="499" h="218">
                    <a:moveTo>
                      <a:pt x="24" y="16"/>
                    </a:moveTo>
                    <a:lnTo>
                      <a:pt x="11" y="25"/>
                    </a:lnTo>
                    <a:lnTo>
                      <a:pt x="31" y="25"/>
                    </a:lnTo>
                    <a:lnTo>
                      <a:pt x="48" y="26"/>
                    </a:lnTo>
                    <a:lnTo>
                      <a:pt x="66" y="28"/>
                    </a:lnTo>
                    <a:lnTo>
                      <a:pt x="82" y="30"/>
                    </a:lnTo>
                    <a:lnTo>
                      <a:pt x="98" y="33"/>
                    </a:lnTo>
                    <a:lnTo>
                      <a:pt x="114" y="36"/>
                    </a:lnTo>
                    <a:lnTo>
                      <a:pt x="130" y="40"/>
                    </a:lnTo>
                    <a:lnTo>
                      <a:pt x="143" y="43"/>
                    </a:lnTo>
                    <a:lnTo>
                      <a:pt x="173" y="54"/>
                    </a:lnTo>
                    <a:lnTo>
                      <a:pt x="200" y="65"/>
                    </a:lnTo>
                    <a:lnTo>
                      <a:pt x="228" y="78"/>
                    </a:lnTo>
                    <a:lnTo>
                      <a:pt x="254" y="91"/>
                    </a:lnTo>
                    <a:lnTo>
                      <a:pt x="308" y="122"/>
                    </a:lnTo>
                    <a:lnTo>
                      <a:pt x="362" y="155"/>
                    </a:lnTo>
                    <a:lnTo>
                      <a:pt x="392" y="171"/>
                    </a:lnTo>
                    <a:lnTo>
                      <a:pt x="423" y="187"/>
                    </a:lnTo>
                    <a:lnTo>
                      <a:pt x="456" y="203"/>
                    </a:lnTo>
                    <a:lnTo>
                      <a:pt x="490" y="218"/>
                    </a:lnTo>
                    <a:lnTo>
                      <a:pt x="499" y="195"/>
                    </a:lnTo>
                    <a:lnTo>
                      <a:pt x="466" y="181"/>
                    </a:lnTo>
                    <a:lnTo>
                      <a:pt x="434" y="165"/>
                    </a:lnTo>
                    <a:lnTo>
                      <a:pt x="403" y="150"/>
                    </a:lnTo>
                    <a:lnTo>
                      <a:pt x="375" y="134"/>
                    </a:lnTo>
                    <a:lnTo>
                      <a:pt x="319" y="102"/>
                    </a:lnTo>
                    <a:lnTo>
                      <a:pt x="265" y="71"/>
                    </a:lnTo>
                    <a:lnTo>
                      <a:pt x="238" y="56"/>
                    </a:lnTo>
                    <a:lnTo>
                      <a:pt x="211" y="43"/>
                    </a:lnTo>
                    <a:lnTo>
                      <a:pt x="181" y="31"/>
                    </a:lnTo>
                    <a:lnTo>
                      <a:pt x="151" y="21"/>
                    </a:lnTo>
                    <a:lnTo>
                      <a:pt x="135" y="16"/>
                    </a:lnTo>
                    <a:lnTo>
                      <a:pt x="119" y="13"/>
                    </a:lnTo>
                    <a:lnTo>
                      <a:pt x="102" y="9"/>
                    </a:lnTo>
                    <a:lnTo>
                      <a:pt x="85" y="6"/>
                    </a:lnTo>
                    <a:lnTo>
                      <a:pt x="68" y="4"/>
                    </a:lnTo>
                    <a:lnTo>
                      <a:pt x="50" y="2"/>
                    </a:lnTo>
                    <a:lnTo>
                      <a:pt x="32" y="1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533760" y="411840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1" y="310"/>
                    </a:moveTo>
                    <a:lnTo>
                      <a:pt x="408" y="289"/>
                    </a:lnTo>
                    <a:lnTo>
                      <a:pt x="394" y="280"/>
                    </a:lnTo>
                    <a:lnTo>
                      <a:pt x="381" y="272"/>
                    </a:lnTo>
                    <a:lnTo>
                      <a:pt x="365" y="265"/>
                    </a:lnTo>
                    <a:lnTo>
                      <a:pt x="349" y="257"/>
                    </a:lnTo>
                    <a:lnTo>
                      <a:pt x="316" y="244"/>
                    </a:lnTo>
                    <a:lnTo>
                      <a:pt x="281" y="231"/>
                    </a:lnTo>
                    <a:lnTo>
                      <a:pt x="246" y="218"/>
                    </a:lnTo>
                    <a:lnTo>
                      <a:pt x="211" y="207"/>
                    </a:lnTo>
                    <a:lnTo>
                      <a:pt x="177" y="193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3" y="166"/>
                    </a:lnTo>
                    <a:lnTo>
                      <a:pt x="99" y="158"/>
                    </a:lnTo>
                    <a:lnTo>
                      <a:pt x="87" y="148"/>
                    </a:lnTo>
                    <a:lnTo>
                      <a:pt x="74" y="141"/>
                    </a:lnTo>
                    <a:lnTo>
                      <a:pt x="64" y="131"/>
                    </a:lnTo>
                    <a:lnTo>
                      <a:pt x="54" y="122"/>
                    </a:lnTo>
                    <a:lnTo>
                      <a:pt x="46" y="112"/>
                    </a:lnTo>
                    <a:lnTo>
                      <a:pt x="39" y="102"/>
                    </a:lnTo>
                    <a:lnTo>
                      <a:pt x="32" y="90"/>
                    </a:lnTo>
                    <a:lnTo>
                      <a:pt x="28" y="79"/>
                    </a:lnTo>
                    <a:lnTo>
                      <a:pt x="25" y="66"/>
                    </a:lnTo>
                    <a:lnTo>
                      <a:pt x="24" y="54"/>
                    </a:lnTo>
                    <a:lnTo>
                      <a:pt x="24" y="39"/>
                    </a:lnTo>
                    <a:lnTo>
                      <a:pt x="26" y="24"/>
                    </a:lnTo>
                    <a:lnTo>
                      <a:pt x="31" y="7"/>
                    </a:lnTo>
                    <a:lnTo>
                      <a:pt x="7" y="0"/>
                    </a:lnTo>
                    <a:lnTo>
                      <a:pt x="2" y="20"/>
                    </a:lnTo>
                    <a:lnTo>
                      <a:pt x="0" y="37"/>
                    </a:lnTo>
                    <a:lnTo>
                      <a:pt x="0" y="54"/>
                    </a:lnTo>
                    <a:lnTo>
                      <a:pt x="1" y="71"/>
                    </a:lnTo>
                    <a:lnTo>
                      <a:pt x="5" y="86"/>
                    </a:lnTo>
                    <a:lnTo>
                      <a:pt x="10" y="101"/>
                    </a:lnTo>
                    <a:lnTo>
                      <a:pt x="17" y="114"/>
                    </a:lnTo>
                    <a:lnTo>
                      <a:pt x="26" y="127"/>
                    </a:lnTo>
                    <a:lnTo>
                      <a:pt x="36" y="138"/>
                    </a:lnTo>
                    <a:lnTo>
                      <a:pt x="47" y="150"/>
                    </a:lnTo>
                    <a:lnTo>
                      <a:pt x="59" y="160"/>
                    </a:lnTo>
                    <a:lnTo>
                      <a:pt x="73" y="169"/>
                    </a:lnTo>
                    <a:lnTo>
                      <a:pt x="87" y="178"/>
                    </a:lnTo>
                    <a:lnTo>
                      <a:pt x="101" y="186"/>
                    </a:lnTo>
                    <a:lnTo>
                      <a:pt x="117" y="194"/>
                    </a:lnTo>
                    <a:lnTo>
                      <a:pt x="134" y="202"/>
                    </a:lnTo>
                    <a:lnTo>
                      <a:pt x="167" y="216"/>
                    </a:lnTo>
                    <a:lnTo>
                      <a:pt x="203" y="229"/>
                    </a:lnTo>
                    <a:lnTo>
                      <a:pt x="238" y="242"/>
                    </a:lnTo>
                    <a:lnTo>
                      <a:pt x="273" y="253"/>
                    </a:lnTo>
                    <a:lnTo>
                      <a:pt x="308" y="266"/>
                    </a:lnTo>
                    <a:lnTo>
                      <a:pt x="340" y="280"/>
                    </a:lnTo>
                    <a:lnTo>
                      <a:pt x="354" y="286"/>
                    </a:lnTo>
                    <a:lnTo>
                      <a:pt x="369" y="293"/>
                    </a:lnTo>
                    <a:lnTo>
                      <a:pt x="383" y="301"/>
                    </a:lnTo>
                    <a:lnTo>
                      <a:pt x="394" y="308"/>
                    </a:lnTo>
                    <a:lnTo>
                      <a:pt x="401" y="286"/>
                    </a:lnTo>
                    <a:lnTo>
                      <a:pt x="394" y="308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8" y="308"/>
                    </a:lnTo>
                    <a:lnTo>
                      <a:pt x="411" y="305"/>
                    </a:lnTo>
                    <a:lnTo>
                      <a:pt x="414" y="301"/>
                    </a:lnTo>
                    <a:lnTo>
                      <a:pt x="414" y="297"/>
                    </a:lnTo>
                    <a:lnTo>
                      <a:pt x="413" y="292"/>
                    </a:lnTo>
                    <a:lnTo>
                      <a:pt x="408" y="289"/>
                    </a:lnTo>
                    <a:lnTo>
                      <a:pt x="401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573360" y="4208760"/>
                <a:ext cx="87480" cy="125280"/>
              </a:xfrm>
              <a:custGeom>
                <a:avLst/>
                <a:gdLst/>
                <a:ahLst/>
                <a:rect l="l" t="t" r="r" b="b"/>
                <a:pathLst>
                  <a:path w="277" h="394">
                    <a:moveTo>
                      <a:pt x="7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5"/>
                    </a:lnTo>
                    <a:lnTo>
                      <a:pt x="33" y="296"/>
                    </a:lnTo>
                    <a:lnTo>
                      <a:pt x="41" y="265"/>
                    </a:lnTo>
                    <a:lnTo>
                      <a:pt x="50" y="235"/>
                    </a:lnTo>
                    <a:lnTo>
                      <a:pt x="61" y="204"/>
                    </a:lnTo>
                    <a:lnTo>
                      <a:pt x="67" y="191"/>
                    </a:lnTo>
                    <a:lnTo>
                      <a:pt x="74" y="176"/>
                    </a:lnTo>
                    <a:lnTo>
                      <a:pt x="81" y="162"/>
                    </a:lnTo>
                    <a:lnTo>
                      <a:pt x="89" y="149"/>
                    </a:lnTo>
                    <a:lnTo>
                      <a:pt x="97" y="135"/>
                    </a:lnTo>
                    <a:lnTo>
                      <a:pt x="106" y="122"/>
                    </a:lnTo>
                    <a:lnTo>
                      <a:pt x="115" y="110"/>
                    </a:lnTo>
                    <a:lnTo>
                      <a:pt x="126" y="98"/>
                    </a:lnTo>
                    <a:lnTo>
                      <a:pt x="135" y="88"/>
                    </a:lnTo>
                    <a:lnTo>
                      <a:pt x="146" y="78"/>
                    </a:lnTo>
                    <a:lnTo>
                      <a:pt x="157" y="68"/>
                    </a:lnTo>
                    <a:lnTo>
                      <a:pt x="169" y="60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9"/>
                    </a:lnTo>
                    <a:lnTo>
                      <a:pt x="219" y="33"/>
                    </a:lnTo>
                    <a:lnTo>
                      <a:pt x="233" y="30"/>
                    </a:lnTo>
                    <a:lnTo>
                      <a:pt x="247" y="27"/>
                    </a:lnTo>
                    <a:lnTo>
                      <a:pt x="262" y="26"/>
                    </a:lnTo>
                    <a:lnTo>
                      <a:pt x="277" y="24"/>
                    </a:lnTo>
                    <a:lnTo>
                      <a:pt x="277" y="0"/>
                    </a:lnTo>
                    <a:lnTo>
                      <a:pt x="260" y="0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6"/>
                    </a:lnTo>
                    <a:lnTo>
                      <a:pt x="181" y="23"/>
                    </a:lnTo>
                    <a:lnTo>
                      <a:pt x="168" y="31"/>
                    </a:lnTo>
                    <a:lnTo>
                      <a:pt x="155" y="39"/>
                    </a:lnTo>
                    <a:lnTo>
                      <a:pt x="142" y="49"/>
                    </a:lnTo>
                    <a:lnTo>
                      <a:pt x="130" y="60"/>
                    </a:lnTo>
                    <a:lnTo>
                      <a:pt x="118" y="71"/>
                    </a:lnTo>
                    <a:lnTo>
                      <a:pt x="107" y="83"/>
                    </a:lnTo>
                    <a:lnTo>
                      <a:pt x="96" y="95"/>
                    </a:lnTo>
                    <a:lnTo>
                      <a:pt x="87" y="109"/>
                    </a:lnTo>
                    <a:lnTo>
                      <a:pt x="78" y="122"/>
                    </a:lnTo>
                    <a:lnTo>
                      <a:pt x="69" y="136"/>
                    </a:lnTo>
                    <a:lnTo>
                      <a:pt x="61" y="151"/>
                    </a:lnTo>
                    <a:lnTo>
                      <a:pt x="53" y="166"/>
                    </a:lnTo>
                    <a:lnTo>
                      <a:pt x="45" y="181"/>
                    </a:lnTo>
                    <a:lnTo>
                      <a:pt x="39" y="197"/>
                    </a:lnTo>
                    <a:lnTo>
                      <a:pt x="26" y="227"/>
                    </a:lnTo>
                    <a:lnTo>
                      <a:pt x="17" y="259"/>
                    </a:lnTo>
                    <a:lnTo>
                      <a:pt x="10" y="291"/>
                    </a:lnTo>
                    <a:lnTo>
                      <a:pt x="5" y="322"/>
                    </a:lnTo>
                    <a:lnTo>
                      <a:pt x="1" y="353"/>
                    </a:lnTo>
                    <a:lnTo>
                      <a:pt x="0" y="381"/>
                    </a:lnTo>
                    <a:lnTo>
                      <a:pt x="18" y="391"/>
                    </a:lnTo>
                    <a:lnTo>
                      <a:pt x="0" y="381"/>
                    </a:lnTo>
                    <a:lnTo>
                      <a:pt x="1" y="387"/>
                    </a:lnTo>
                    <a:lnTo>
                      <a:pt x="4" y="390"/>
                    </a:lnTo>
                    <a:lnTo>
                      <a:pt x="8" y="393"/>
                    </a:lnTo>
                    <a:lnTo>
                      <a:pt x="13" y="394"/>
                    </a:lnTo>
                    <a:lnTo>
                      <a:pt x="17" y="393"/>
                    </a:lnTo>
                    <a:lnTo>
                      <a:pt x="21" y="390"/>
                    </a:lnTo>
                    <a:lnTo>
                      <a:pt x="24" y="387"/>
                    </a:lnTo>
                    <a:lnTo>
                      <a:pt x="24" y="381"/>
                    </a:lnTo>
                    <a:lnTo>
                      <a:pt x="7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575160" y="423396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370" h="314">
                    <a:moveTo>
                      <a:pt x="370" y="11"/>
                    </a:moveTo>
                    <a:lnTo>
                      <a:pt x="346" y="9"/>
                    </a:lnTo>
                    <a:lnTo>
                      <a:pt x="345" y="15"/>
                    </a:lnTo>
                    <a:lnTo>
                      <a:pt x="342" y="20"/>
                    </a:lnTo>
                    <a:lnTo>
                      <a:pt x="339" y="28"/>
                    </a:lnTo>
                    <a:lnTo>
                      <a:pt x="333" y="36"/>
                    </a:lnTo>
                    <a:lnTo>
                      <a:pt x="318" y="53"/>
                    </a:lnTo>
                    <a:lnTo>
                      <a:pt x="299" y="73"/>
                    </a:lnTo>
                    <a:lnTo>
                      <a:pt x="277" y="94"/>
                    </a:lnTo>
                    <a:lnTo>
                      <a:pt x="252" y="115"/>
                    </a:lnTo>
                    <a:lnTo>
                      <a:pt x="226" y="138"/>
                    </a:lnTo>
                    <a:lnTo>
                      <a:pt x="197" y="159"/>
                    </a:lnTo>
                    <a:lnTo>
                      <a:pt x="139" y="202"/>
                    </a:lnTo>
                    <a:lnTo>
                      <a:pt x="83" y="240"/>
                    </a:lnTo>
                    <a:lnTo>
                      <a:pt x="35" y="272"/>
                    </a:lnTo>
                    <a:lnTo>
                      <a:pt x="0" y="294"/>
                    </a:lnTo>
                    <a:lnTo>
                      <a:pt x="11" y="314"/>
                    </a:lnTo>
                    <a:lnTo>
                      <a:pt x="48" y="293"/>
                    </a:lnTo>
                    <a:lnTo>
                      <a:pt x="97" y="261"/>
                    </a:lnTo>
                    <a:lnTo>
                      <a:pt x="153" y="222"/>
                    </a:lnTo>
                    <a:lnTo>
                      <a:pt x="212" y="179"/>
                    </a:lnTo>
                    <a:lnTo>
                      <a:pt x="240" y="156"/>
                    </a:lnTo>
                    <a:lnTo>
                      <a:pt x="268" y="134"/>
                    </a:lnTo>
                    <a:lnTo>
                      <a:pt x="293" y="112"/>
                    </a:lnTo>
                    <a:lnTo>
                      <a:pt x="316" y="91"/>
                    </a:lnTo>
                    <a:lnTo>
                      <a:pt x="336" y="70"/>
                    </a:lnTo>
                    <a:lnTo>
                      <a:pt x="352" y="51"/>
                    </a:lnTo>
                    <a:lnTo>
                      <a:pt x="358" y="41"/>
                    </a:lnTo>
                    <a:lnTo>
                      <a:pt x="364" y="32"/>
                    </a:lnTo>
                    <a:lnTo>
                      <a:pt x="368" y="23"/>
                    </a:lnTo>
                    <a:lnTo>
                      <a:pt x="370" y="15"/>
                    </a:lnTo>
                    <a:lnTo>
                      <a:pt x="346" y="11"/>
                    </a:lnTo>
                    <a:lnTo>
                      <a:pt x="370" y="15"/>
                    </a:lnTo>
                    <a:lnTo>
                      <a:pt x="370" y="9"/>
                    </a:lnTo>
                    <a:lnTo>
                      <a:pt x="369" y="4"/>
                    </a:lnTo>
                    <a:lnTo>
                      <a:pt x="366" y="1"/>
                    </a:lnTo>
                    <a:lnTo>
                      <a:pt x="361" y="0"/>
                    </a:lnTo>
                    <a:lnTo>
                      <a:pt x="357" y="0"/>
                    </a:lnTo>
                    <a:lnTo>
                      <a:pt x="352" y="1"/>
                    </a:lnTo>
                    <a:lnTo>
                      <a:pt x="349" y="4"/>
                    </a:lnTo>
                    <a:lnTo>
                      <a:pt x="346" y="9"/>
                    </a:lnTo>
                    <a:lnTo>
                      <a:pt x="37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686040" y="42372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6" y="338"/>
                    </a:moveTo>
                    <a:lnTo>
                      <a:pt x="168" y="331"/>
                    </a:lnTo>
                    <a:lnTo>
                      <a:pt x="141" y="293"/>
                    </a:lnTo>
                    <a:lnTo>
                      <a:pt x="114" y="257"/>
                    </a:lnTo>
                    <a:lnTo>
                      <a:pt x="102" y="237"/>
                    </a:lnTo>
                    <a:lnTo>
                      <a:pt x="91" y="219"/>
                    </a:lnTo>
                    <a:lnTo>
                      <a:pt x="79" y="200"/>
                    </a:lnTo>
                    <a:lnTo>
                      <a:pt x="69" y="180"/>
                    </a:lnTo>
                    <a:lnTo>
                      <a:pt x="60" y="161"/>
                    </a:lnTo>
                    <a:lnTo>
                      <a:pt x="51" y="140"/>
                    </a:lnTo>
                    <a:lnTo>
                      <a:pt x="44" y="120"/>
                    </a:lnTo>
                    <a:lnTo>
                      <a:pt x="37" y="98"/>
                    </a:lnTo>
                    <a:lnTo>
                      <a:pt x="32" y="75"/>
                    </a:lnTo>
                    <a:lnTo>
                      <a:pt x="28" y="52"/>
                    </a:lnTo>
                    <a:lnTo>
                      <a:pt x="26" y="26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" y="29"/>
                    </a:lnTo>
                    <a:lnTo>
                      <a:pt x="4" y="55"/>
                    </a:lnTo>
                    <a:lnTo>
                      <a:pt x="8" y="80"/>
                    </a:lnTo>
                    <a:lnTo>
                      <a:pt x="14" y="104"/>
                    </a:lnTo>
                    <a:lnTo>
                      <a:pt x="20" y="128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9" y="212"/>
                    </a:lnTo>
                    <a:lnTo>
                      <a:pt x="70" y="232"/>
                    </a:lnTo>
                    <a:lnTo>
                      <a:pt x="83" y="251"/>
                    </a:lnTo>
                    <a:lnTo>
                      <a:pt x="95" y="270"/>
                    </a:lnTo>
                    <a:lnTo>
                      <a:pt x="121" y="308"/>
                    </a:lnTo>
                    <a:lnTo>
                      <a:pt x="149" y="346"/>
                    </a:lnTo>
                    <a:lnTo>
                      <a:pt x="170" y="339"/>
                    </a:lnTo>
                    <a:lnTo>
                      <a:pt x="149" y="346"/>
                    </a:lnTo>
                    <a:lnTo>
                      <a:pt x="152" y="349"/>
                    </a:lnTo>
                    <a:lnTo>
                      <a:pt x="157" y="350"/>
                    </a:lnTo>
                    <a:lnTo>
                      <a:pt x="161" y="350"/>
                    </a:lnTo>
                    <a:lnTo>
                      <a:pt x="166" y="348"/>
                    </a:lnTo>
                    <a:lnTo>
                      <a:pt x="168" y="344"/>
                    </a:lnTo>
                    <a:lnTo>
                      <a:pt x="170" y="341"/>
                    </a:lnTo>
                    <a:lnTo>
                      <a:pt x="170" y="337"/>
                    </a:lnTo>
                    <a:lnTo>
                      <a:pt x="168" y="331"/>
                    </a:lnTo>
                    <a:lnTo>
                      <a:pt x="146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3732120" y="4181760"/>
                <a:ext cx="1296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29" y="0"/>
                    </a:moveTo>
                    <a:lnTo>
                      <a:pt x="16" y="12"/>
                    </a:lnTo>
                    <a:lnTo>
                      <a:pt x="0" y="514"/>
                    </a:lnTo>
                    <a:lnTo>
                      <a:pt x="24" y="515"/>
                    </a:lnTo>
                    <a:lnTo>
                      <a:pt x="40" y="12"/>
                    </a:lnTo>
                    <a:lnTo>
                      <a:pt x="29" y="0"/>
                    </a:lnTo>
                    <a:lnTo>
                      <a:pt x="40" y="12"/>
                    </a:lnTo>
                    <a:lnTo>
                      <a:pt x="39" y="7"/>
                    </a:lnTo>
                    <a:lnTo>
                      <a:pt x="37" y="3"/>
                    </a:lnTo>
                    <a:lnTo>
                      <a:pt x="32" y="1"/>
                    </a:lnTo>
                    <a:lnTo>
                      <a:pt x="28" y="0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7" y="6"/>
                    </a:lnTo>
                    <a:lnTo>
                      <a:pt x="16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689280" y="4177080"/>
                <a:ext cx="52560" cy="12600"/>
              </a:xfrm>
              <a:custGeom>
                <a:avLst/>
                <a:gdLst/>
                <a:ahLst/>
                <a:rect l="l" t="t" r="r" b="b"/>
                <a:pathLst>
                  <a:path w="162" h="37">
                    <a:moveTo>
                      <a:pt x="7" y="23"/>
                    </a:moveTo>
                    <a:lnTo>
                      <a:pt x="11" y="24"/>
                    </a:lnTo>
                    <a:lnTo>
                      <a:pt x="160" y="37"/>
                    </a:lnTo>
                    <a:lnTo>
                      <a:pt x="162" y="12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6" y="23"/>
                    </a:lnTo>
                    <a:lnTo>
                      <a:pt x="11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695840" y="4180320"/>
                <a:ext cx="203040" cy="223560"/>
              </a:xfrm>
              <a:custGeom>
                <a:avLst/>
                <a:gdLst/>
                <a:ahLst/>
                <a:rect l="l" t="t" r="r" b="b"/>
                <a:pathLst>
                  <a:path w="640" h="708">
                    <a:moveTo>
                      <a:pt x="493" y="194"/>
                    </a:moveTo>
                    <a:lnTo>
                      <a:pt x="457" y="179"/>
                    </a:lnTo>
                    <a:lnTo>
                      <a:pt x="425" y="163"/>
                    </a:lnTo>
                    <a:lnTo>
                      <a:pt x="395" y="147"/>
                    </a:lnTo>
                    <a:lnTo>
                      <a:pt x="365" y="131"/>
                    </a:lnTo>
                    <a:lnTo>
                      <a:pt x="309" y="99"/>
                    </a:lnTo>
                    <a:lnTo>
                      <a:pt x="255" y="68"/>
                    </a:lnTo>
                    <a:lnTo>
                      <a:pt x="228" y="54"/>
                    </a:lnTo>
                    <a:lnTo>
                      <a:pt x="201" y="41"/>
                    </a:lnTo>
                    <a:lnTo>
                      <a:pt x="172" y="30"/>
                    </a:lnTo>
                    <a:lnTo>
                      <a:pt x="143" y="19"/>
                    </a:lnTo>
                    <a:lnTo>
                      <a:pt x="128" y="15"/>
                    </a:lnTo>
                    <a:lnTo>
                      <a:pt x="112" y="11"/>
                    </a:lnTo>
                    <a:lnTo>
                      <a:pt x="96" y="8"/>
                    </a:lnTo>
                    <a:lnTo>
                      <a:pt x="79" y="5"/>
                    </a:lnTo>
                    <a:lnTo>
                      <a:pt x="62" y="2"/>
                    </a:lnTo>
                    <a:lnTo>
                      <a:pt x="45" y="1"/>
                    </a:lnTo>
                    <a:lnTo>
                      <a:pt x="26" y="0"/>
                    </a:lnTo>
                    <a:lnTo>
                      <a:pt x="7" y="0"/>
                    </a:lnTo>
                    <a:lnTo>
                      <a:pt x="2" y="17"/>
                    </a:lnTo>
                    <a:lnTo>
                      <a:pt x="0" y="34"/>
                    </a:lnTo>
                    <a:lnTo>
                      <a:pt x="0" y="50"/>
                    </a:lnTo>
                    <a:lnTo>
                      <a:pt x="1" y="65"/>
                    </a:lnTo>
                    <a:lnTo>
                      <a:pt x="5" y="79"/>
                    </a:lnTo>
                    <a:lnTo>
                      <a:pt x="9" y="91"/>
                    </a:lnTo>
                    <a:lnTo>
                      <a:pt x="16" y="104"/>
                    </a:lnTo>
                    <a:lnTo>
                      <a:pt x="24" y="115"/>
                    </a:lnTo>
                    <a:lnTo>
                      <a:pt x="33" y="126"/>
                    </a:lnTo>
                    <a:lnTo>
                      <a:pt x="43" y="136"/>
                    </a:lnTo>
                    <a:lnTo>
                      <a:pt x="55" y="146"/>
                    </a:lnTo>
                    <a:lnTo>
                      <a:pt x="67" y="155"/>
                    </a:lnTo>
                    <a:lnTo>
                      <a:pt x="81" y="163"/>
                    </a:lnTo>
                    <a:lnTo>
                      <a:pt x="96" y="171"/>
                    </a:lnTo>
                    <a:lnTo>
                      <a:pt x="111" y="179"/>
                    </a:lnTo>
                    <a:lnTo>
                      <a:pt x="127" y="187"/>
                    </a:lnTo>
                    <a:lnTo>
                      <a:pt x="161" y="201"/>
                    </a:lnTo>
                    <a:lnTo>
                      <a:pt x="195" y="213"/>
                    </a:lnTo>
                    <a:lnTo>
                      <a:pt x="230" y="226"/>
                    </a:lnTo>
                    <a:lnTo>
                      <a:pt x="266" y="238"/>
                    </a:lnTo>
                    <a:lnTo>
                      <a:pt x="300" y="251"/>
                    </a:lnTo>
                    <a:lnTo>
                      <a:pt x="333" y="264"/>
                    </a:lnTo>
                    <a:lnTo>
                      <a:pt x="348" y="271"/>
                    </a:lnTo>
                    <a:lnTo>
                      <a:pt x="363" y="278"/>
                    </a:lnTo>
                    <a:lnTo>
                      <a:pt x="377" y="286"/>
                    </a:lnTo>
                    <a:lnTo>
                      <a:pt x="390" y="294"/>
                    </a:lnTo>
                    <a:lnTo>
                      <a:pt x="374" y="295"/>
                    </a:lnTo>
                    <a:lnTo>
                      <a:pt x="358" y="296"/>
                    </a:lnTo>
                    <a:lnTo>
                      <a:pt x="342" y="300"/>
                    </a:lnTo>
                    <a:lnTo>
                      <a:pt x="327" y="304"/>
                    </a:lnTo>
                    <a:lnTo>
                      <a:pt x="314" y="309"/>
                    </a:lnTo>
                    <a:lnTo>
                      <a:pt x="300" y="316"/>
                    </a:lnTo>
                    <a:lnTo>
                      <a:pt x="286" y="323"/>
                    </a:lnTo>
                    <a:lnTo>
                      <a:pt x="274" y="332"/>
                    </a:lnTo>
                    <a:lnTo>
                      <a:pt x="262" y="341"/>
                    </a:lnTo>
                    <a:lnTo>
                      <a:pt x="250" y="350"/>
                    </a:lnTo>
                    <a:lnTo>
                      <a:pt x="240" y="361"/>
                    </a:lnTo>
                    <a:lnTo>
                      <a:pt x="228" y="373"/>
                    </a:lnTo>
                    <a:lnTo>
                      <a:pt x="218" y="384"/>
                    </a:lnTo>
                    <a:lnTo>
                      <a:pt x="209" y="398"/>
                    </a:lnTo>
                    <a:lnTo>
                      <a:pt x="200" y="410"/>
                    </a:lnTo>
                    <a:lnTo>
                      <a:pt x="192" y="424"/>
                    </a:lnTo>
                    <a:lnTo>
                      <a:pt x="184" y="438"/>
                    </a:lnTo>
                    <a:lnTo>
                      <a:pt x="176" y="453"/>
                    </a:lnTo>
                    <a:lnTo>
                      <a:pt x="169" y="467"/>
                    </a:lnTo>
                    <a:lnTo>
                      <a:pt x="162" y="482"/>
                    </a:lnTo>
                    <a:lnTo>
                      <a:pt x="151" y="513"/>
                    </a:lnTo>
                    <a:lnTo>
                      <a:pt x="142" y="544"/>
                    </a:lnTo>
                    <a:lnTo>
                      <a:pt x="135" y="575"/>
                    </a:lnTo>
                    <a:lnTo>
                      <a:pt x="129" y="605"/>
                    </a:lnTo>
                    <a:lnTo>
                      <a:pt x="126" y="635"/>
                    </a:lnTo>
                    <a:lnTo>
                      <a:pt x="124" y="663"/>
                    </a:lnTo>
                    <a:lnTo>
                      <a:pt x="161" y="641"/>
                    </a:lnTo>
                    <a:lnTo>
                      <a:pt x="210" y="610"/>
                    </a:lnTo>
                    <a:lnTo>
                      <a:pt x="266" y="571"/>
                    </a:lnTo>
                    <a:lnTo>
                      <a:pt x="324" y="528"/>
                    </a:lnTo>
                    <a:lnTo>
                      <a:pt x="352" y="506"/>
                    </a:lnTo>
                    <a:lnTo>
                      <a:pt x="380" y="483"/>
                    </a:lnTo>
                    <a:lnTo>
                      <a:pt x="405" y="462"/>
                    </a:lnTo>
                    <a:lnTo>
                      <a:pt x="426" y="441"/>
                    </a:lnTo>
                    <a:lnTo>
                      <a:pt x="446" y="421"/>
                    </a:lnTo>
                    <a:lnTo>
                      <a:pt x="462" y="402"/>
                    </a:lnTo>
                    <a:lnTo>
                      <a:pt x="467" y="393"/>
                    </a:lnTo>
                    <a:lnTo>
                      <a:pt x="472" y="385"/>
                    </a:lnTo>
                    <a:lnTo>
                      <a:pt x="477" y="377"/>
                    </a:lnTo>
                    <a:lnTo>
                      <a:pt x="478" y="370"/>
                    </a:lnTo>
                    <a:lnTo>
                      <a:pt x="479" y="398"/>
                    </a:lnTo>
                    <a:lnTo>
                      <a:pt x="481" y="423"/>
                    </a:lnTo>
                    <a:lnTo>
                      <a:pt x="486" y="448"/>
                    </a:lnTo>
                    <a:lnTo>
                      <a:pt x="490" y="471"/>
                    </a:lnTo>
                    <a:lnTo>
                      <a:pt x="497" y="494"/>
                    </a:lnTo>
                    <a:lnTo>
                      <a:pt x="505" y="515"/>
                    </a:lnTo>
                    <a:lnTo>
                      <a:pt x="514" y="536"/>
                    </a:lnTo>
                    <a:lnTo>
                      <a:pt x="523" y="556"/>
                    </a:lnTo>
                    <a:lnTo>
                      <a:pt x="535" y="576"/>
                    </a:lnTo>
                    <a:lnTo>
                      <a:pt x="546" y="595"/>
                    </a:lnTo>
                    <a:lnTo>
                      <a:pt x="557" y="614"/>
                    </a:lnTo>
                    <a:lnTo>
                      <a:pt x="570" y="633"/>
                    </a:lnTo>
                    <a:lnTo>
                      <a:pt x="596" y="670"/>
                    </a:lnTo>
                    <a:lnTo>
                      <a:pt x="624" y="708"/>
                    </a:lnTo>
                    <a:lnTo>
                      <a:pt x="640" y="206"/>
                    </a:lnTo>
                    <a:lnTo>
                      <a:pt x="493" y="194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692600" y="4175280"/>
                <a:ext cx="160560" cy="69840"/>
              </a:xfrm>
              <a:custGeom>
                <a:avLst/>
                <a:gdLst/>
                <a:ahLst/>
                <a:rect l="l" t="t" r="r" b="b"/>
                <a:pathLst>
                  <a:path w="503" h="218">
                    <a:moveTo>
                      <a:pt x="24" y="16"/>
                    </a:moveTo>
                    <a:lnTo>
                      <a:pt x="13" y="24"/>
                    </a:lnTo>
                    <a:lnTo>
                      <a:pt x="31" y="25"/>
                    </a:lnTo>
                    <a:lnTo>
                      <a:pt x="49" y="27"/>
                    </a:lnTo>
                    <a:lnTo>
                      <a:pt x="67" y="28"/>
                    </a:lnTo>
                    <a:lnTo>
                      <a:pt x="84" y="30"/>
                    </a:lnTo>
                    <a:lnTo>
                      <a:pt x="100" y="32"/>
                    </a:lnTo>
                    <a:lnTo>
                      <a:pt x="116" y="36"/>
                    </a:lnTo>
                    <a:lnTo>
                      <a:pt x="130" y="39"/>
                    </a:lnTo>
                    <a:lnTo>
                      <a:pt x="145" y="44"/>
                    </a:lnTo>
                    <a:lnTo>
                      <a:pt x="175" y="54"/>
                    </a:lnTo>
                    <a:lnTo>
                      <a:pt x="202" y="65"/>
                    </a:lnTo>
                    <a:lnTo>
                      <a:pt x="230" y="78"/>
                    </a:lnTo>
                    <a:lnTo>
                      <a:pt x="256" y="92"/>
                    </a:lnTo>
                    <a:lnTo>
                      <a:pt x="309" y="122"/>
                    </a:lnTo>
                    <a:lnTo>
                      <a:pt x="365" y="154"/>
                    </a:lnTo>
                    <a:lnTo>
                      <a:pt x="395" y="171"/>
                    </a:lnTo>
                    <a:lnTo>
                      <a:pt x="426" y="187"/>
                    </a:lnTo>
                    <a:lnTo>
                      <a:pt x="459" y="203"/>
                    </a:lnTo>
                    <a:lnTo>
                      <a:pt x="494" y="218"/>
                    </a:lnTo>
                    <a:lnTo>
                      <a:pt x="503" y="195"/>
                    </a:lnTo>
                    <a:lnTo>
                      <a:pt x="469" y="181"/>
                    </a:lnTo>
                    <a:lnTo>
                      <a:pt x="436" y="166"/>
                    </a:lnTo>
                    <a:lnTo>
                      <a:pt x="406" y="150"/>
                    </a:lnTo>
                    <a:lnTo>
                      <a:pt x="377" y="134"/>
                    </a:lnTo>
                    <a:lnTo>
                      <a:pt x="321" y="102"/>
                    </a:lnTo>
                    <a:lnTo>
                      <a:pt x="267" y="71"/>
                    </a:lnTo>
                    <a:lnTo>
                      <a:pt x="240" y="56"/>
                    </a:lnTo>
                    <a:lnTo>
                      <a:pt x="211" y="43"/>
                    </a:lnTo>
                    <a:lnTo>
                      <a:pt x="183" y="31"/>
                    </a:lnTo>
                    <a:lnTo>
                      <a:pt x="153" y="21"/>
                    </a:lnTo>
                    <a:lnTo>
                      <a:pt x="137" y="16"/>
                    </a:lnTo>
                    <a:lnTo>
                      <a:pt x="121" y="12"/>
                    </a:lnTo>
                    <a:lnTo>
                      <a:pt x="104" y="8"/>
                    </a:lnTo>
                    <a:lnTo>
                      <a:pt x="87" y="6"/>
                    </a:lnTo>
                    <a:lnTo>
                      <a:pt x="70" y="4"/>
                    </a:lnTo>
                    <a:lnTo>
                      <a:pt x="52" y="2"/>
                    </a:lnTo>
                    <a:lnTo>
                      <a:pt x="32" y="0"/>
                    </a:lnTo>
                    <a:lnTo>
                      <a:pt x="13" y="0"/>
                    </a:lnTo>
                    <a:lnTo>
                      <a:pt x="2" y="10"/>
                    </a:lnTo>
                    <a:lnTo>
                      <a:pt x="13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91160" y="417852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2" y="310"/>
                    </a:moveTo>
                    <a:lnTo>
                      <a:pt x="409" y="287"/>
                    </a:lnTo>
                    <a:lnTo>
                      <a:pt x="395" y="279"/>
                    </a:lnTo>
                    <a:lnTo>
                      <a:pt x="380" y="271"/>
                    </a:lnTo>
                    <a:lnTo>
                      <a:pt x="365" y="263"/>
                    </a:lnTo>
                    <a:lnTo>
                      <a:pt x="350" y="256"/>
                    </a:lnTo>
                    <a:lnTo>
                      <a:pt x="316" y="242"/>
                    </a:lnTo>
                    <a:lnTo>
                      <a:pt x="282" y="230"/>
                    </a:lnTo>
                    <a:lnTo>
                      <a:pt x="247" y="217"/>
                    </a:lnTo>
                    <a:lnTo>
                      <a:pt x="212" y="205"/>
                    </a:lnTo>
                    <a:lnTo>
                      <a:pt x="176" y="192"/>
                    </a:lnTo>
                    <a:lnTo>
                      <a:pt x="144" y="179"/>
                    </a:lnTo>
                    <a:lnTo>
                      <a:pt x="128" y="172"/>
                    </a:lnTo>
                    <a:lnTo>
                      <a:pt x="114" y="164"/>
                    </a:lnTo>
                    <a:lnTo>
                      <a:pt x="100" y="156"/>
                    </a:lnTo>
                    <a:lnTo>
                      <a:pt x="86" y="148"/>
                    </a:lnTo>
                    <a:lnTo>
                      <a:pt x="75" y="140"/>
                    </a:lnTo>
                    <a:lnTo>
                      <a:pt x="63" y="131"/>
                    </a:lnTo>
                    <a:lnTo>
                      <a:pt x="54" y="120"/>
                    </a:lnTo>
                    <a:lnTo>
                      <a:pt x="45" y="111"/>
                    </a:lnTo>
                    <a:lnTo>
                      <a:pt x="38" y="100"/>
                    </a:lnTo>
                    <a:lnTo>
                      <a:pt x="33" y="90"/>
                    </a:lnTo>
                    <a:lnTo>
                      <a:pt x="28" y="78"/>
                    </a:lnTo>
                    <a:lnTo>
                      <a:pt x="26" y="66"/>
                    </a:lnTo>
                    <a:lnTo>
                      <a:pt x="25" y="52"/>
                    </a:lnTo>
                    <a:lnTo>
                      <a:pt x="25" y="38"/>
                    </a:lnTo>
                    <a:lnTo>
                      <a:pt x="27" y="22"/>
                    </a:lnTo>
                    <a:lnTo>
                      <a:pt x="30" y="6"/>
                    </a:lnTo>
                    <a:lnTo>
                      <a:pt x="8" y="0"/>
                    </a:lnTo>
                    <a:lnTo>
                      <a:pt x="3" y="18"/>
                    </a:lnTo>
                    <a:lnTo>
                      <a:pt x="1" y="36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99"/>
                    </a:lnTo>
                    <a:lnTo>
                      <a:pt x="18" y="112"/>
                    </a:lnTo>
                    <a:lnTo>
                      <a:pt x="27" y="125"/>
                    </a:lnTo>
                    <a:lnTo>
                      <a:pt x="36" y="137"/>
                    </a:lnTo>
                    <a:lnTo>
                      <a:pt x="48" y="148"/>
                    </a:lnTo>
                    <a:lnTo>
                      <a:pt x="60" y="158"/>
                    </a:lnTo>
                    <a:lnTo>
                      <a:pt x="74" y="168"/>
                    </a:lnTo>
                    <a:lnTo>
                      <a:pt x="87" y="177"/>
                    </a:lnTo>
                    <a:lnTo>
                      <a:pt x="102" y="185"/>
                    </a:lnTo>
                    <a:lnTo>
                      <a:pt x="118" y="193"/>
                    </a:lnTo>
                    <a:lnTo>
                      <a:pt x="134" y="200"/>
                    </a:lnTo>
                    <a:lnTo>
                      <a:pt x="168" y="215"/>
                    </a:lnTo>
                    <a:lnTo>
                      <a:pt x="203" y="228"/>
                    </a:lnTo>
                    <a:lnTo>
                      <a:pt x="239" y="240"/>
                    </a:lnTo>
                    <a:lnTo>
                      <a:pt x="273" y="253"/>
                    </a:lnTo>
                    <a:lnTo>
                      <a:pt x="307" y="265"/>
                    </a:lnTo>
                    <a:lnTo>
                      <a:pt x="340" y="278"/>
                    </a:lnTo>
                    <a:lnTo>
                      <a:pt x="355" y="285"/>
                    </a:lnTo>
                    <a:lnTo>
                      <a:pt x="369" y="293"/>
                    </a:lnTo>
                    <a:lnTo>
                      <a:pt x="383" y="299"/>
                    </a:lnTo>
                    <a:lnTo>
                      <a:pt x="395" y="307"/>
                    </a:lnTo>
                    <a:lnTo>
                      <a:pt x="402" y="285"/>
                    </a:lnTo>
                    <a:lnTo>
                      <a:pt x="395" y="307"/>
                    </a:lnTo>
                    <a:lnTo>
                      <a:pt x="400" y="310"/>
                    </a:lnTo>
                    <a:lnTo>
                      <a:pt x="405" y="310"/>
                    </a:lnTo>
                    <a:lnTo>
                      <a:pt x="409" y="307"/>
                    </a:lnTo>
                    <a:lnTo>
                      <a:pt x="412" y="304"/>
                    </a:lnTo>
                    <a:lnTo>
                      <a:pt x="413" y="299"/>
                    </a:lnTo>
                    <a:lnTo>
                      <a:pt x="414" y="295"/>
                    </a:lnTo>
                    <a:lnTo>
                      <a:pt x="412" y="291"/>
                    </a:lnTo>
                    <a:lnTo>
                      <a:pt x="409" y="287"/>
                    </a:lnTo>
                    <a:lnTo>
                      <a:pt x="402" y="3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2604960" y="3731040"/>
              <a:ext cx="3929040" cy="677880"/>
              <a:chOff x="2604960" y="3731040"/>
              <a:chExt cx="3929040" cy="677880"/>
            </a:xfrm>
          </p:grpSpPr>
          <p:sp>
            <p:nvSpPr>
              <p:cNvPr id="2260" name=""/>
              <p:cNvSpPr/>
              <p:nvPr/>
            </p:nvSpPr>
            <p:spPr>
              <a:xfrm>
                <a:off x="4730760" y="4268880"/>
                <a:ext cx="88920" cy="1256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6" y="371"/>
                    </a:moveTo>
                    <a:lnTo>
                      <a:pt x="24" y="381"/>
                    </a:lnTo>
                    <a:lnTo>
                      <a:pt x="25" y="354"/>
                    </a:lnTo>
                    <a:lnTo>
                      <a:pt x="29" y="326"/>
                    </a:lnTo>
                    <a:lnTo>
                      <a:pt x="33" y="296"/>
                    </a:lnTo>
                    <a:lnTo>
                      <a:pt x="40" y="265"/>
                    </a:lnTo>
                    <a:lnTo>
                      <a:pt x="49" y="234"/>
                    </a:lnTo>
                    <a:lnTo>
                      <a:pt x="60" y="205"/>
                    </a:lnTo>
                    <a:lnTo>
                      <a:pt x="66" y="190"/>
                    </a:lnTo>
                    <a:lnTo>
                      <a:pt x="73" y="176"/>
                    </a:lnTo>
                    <a:lnTo>
                      <a:pt x="81" y="161"/>
                    </a:lnTo>
                    <a:lnTo>
                      <a:pt x="89" y="148"/>
                    </a:lnTo>
                    <a:lnTo>
                      <a:pt x="97" y="135"/>
                    </a:lnTo>
                    <a:lnTo>
                      <a:pt x="106" y="123"/>
                    </a:lnTo>
                    <a:lnTo>
                      <a:pt x="115" y="110"/>
                    </a:lnTo>
                    <a:lnTo>
                      <a:pt x="124" y="99"/>
                    </a:lnTo>
                    <a:lnTo>
                      <a:pt x="134" y="87"/>
                    </a:lnTo>
                    <a:lnTo>
                      <a:pt x="145" y="77"/>
                    </a:lnTo>
                    <a:lnTo>
                      <a:pt x="156" y="68"/>
                    </a:lnTo>
                    <a:lnTo>
                      <a:pt x="168" y="59"/>
                    </a:lnTo>
                    <a:lnTo>
                      <a:pt x="180" y="52"/>
                    </a:lnTo>
                    <a:lnTo>
                      <a:pt x="193" y="45"/>
                    </a:lnTo>
                    <a:lnTo>
                      <a:pt x="205" y="38"/>
                    </a:lnTo>
                    <a:lnTo>
                      <a:pt x="219" y="34"/>
                    </a:lnTo>
                    <a:lnTo>
                      <a:pt x="233" y="29"/>
                    </a:lnTo>
                    <a:lnTo>
                      <a:pt x="246" y="27"/>
                    </a:lnTo>
                    <a:lnTo>
                      <a:pt x="261" y="25"/>
                    </a:lnTo>
                    <a:lnTo>
                      <a:pt x="277" y="25"/>
                    </a:lnTo>
                    <a:lnTo>
                      <a:pt x="277" y="0"/>
                    </a:lnTo>
                    <a:lnTo>
                      <a:pt x="260" y="1"/>
                    </a:lnTo>
                    <a:lnTo>
                      <a:pt x="243" y="3"/>
                    </a:lnTo>
                    <a:lnTo>
                      <a:pt x="227" y="6"/>
                    </a:lnTo>
                    <a:lnTo>
                      <a:pt x="211" y="11"/>
                    </a:lnTo>
                    <a:lnTo>
                      <a:pt x="196" y="17"/>
                    </a:lnTo>
                    <a:lnTo>
                      <a:pt x="181" y="23"/>
                    </a:lnTo>
                    <a:lnTo>
                      <a:pt x="168" y="30"/>
                    </a:lnTo>
                    <a:lnTo>
                      <a:pt x="154" y="39"/>
                    </a:lnTo>
                    <a:lnTo>
                      <a:pt x="141" y="49"/>
                    </a:lnTo>
                    <a:lnTo>
                      <a:pt x="129" y="60"/>
                    </a:lnTo>
                    <a:lnTo>
                      <a:pt x="117" y="70"/>
                    </a:lnTo>
                    <a:lnTo>
                      <a:pt x="106" y="83"/>
                    </a:lnTo>
                    <a:lnTo>
                      <a:pt x="96" y="95"/>
                    </a:lnTo>
                    <a:lnTo>
                      <a:pt x="85" y="108"/>
                    </a:lnTo>
                    <a:lnTo>
                      <a:pt x="76" y="122"/>
                    </a:lnTo>
                    <a:lnTo>
                      <a:pt x="67" y="136"/>
                    </a:lnTo>
                    <a:lnTo>
                      <a:pt x="59" y="150"/>
                    </a:lnTo>
                    <a:lnTo>
                      <a:pt x="51" y="165"/>
                    </a:lnTo>
                    <a:lnTo>
                      <a:pt x="44" y="181"/>
                    </a:lnTo>
                    <a:lnTo>
                      <a:pt x="38" y="196"/>
                    </a:lnTo>
                    <a:lnTo>
                      <a:pt x="26" y="228"/>
                    </a:lnTo>
                    <a:lnTo>
                      <a:pt x="17" y="259"/>
                    </a:lnTo>
                    <a:lnTo>
                      <a:pt x="9" y="290"/>
                    </a:lnTo>
                    <a:lnTo>
                      <a:pt x="5" y="322"/>
                    </a:lnTo>
                    <a:lnTo>
                      <a:pt x="1" y="352"/>
                    </a:lnTo>
                    <a:lnTo>
                      <a:pt x="0" y="381"/>
                    </a:lnTo>
                    <a:lnTo>
                      <a:pt x="18" y="392"/>
                    </a:lnTo>
                    <a:lnTo>
                      <a:pt x="0" y="381"/>
                    </a:lnTo>
                    <a:lnTo>
                      <a:pt x="1" y="386"/>
                    </a:lnTo>
                    <a:lnTo>
                      <a:pt x="3" y="391"/>
                    </a:lnTo>
                    <a:lnTo>
                      <a:pt x="8" y="393"/>
                    </a:lnTo>
                    <a:lnTo>
                      <a:pt x="11" y="393"/>
                    </a:lnTo>
                    <a:lnTo>
                      <a:pt x="16" y="393"/>
                    </a:lnTo>
                    <a:lnTo>
                      <a:pt x="21" y="391"/>
                    </a:lnTo>
                    <a:lnTo>
                      <a:pt x="23" y="386"/>
                    </a:lnTo>
                    <a:lnTo>
                      <a:pt x="24" y="381"/>
                    </a:lnTo>
                    <a:lnTo>
                      <a:pt x="6" y="3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32200" y="4293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1" h="316">
                    <a:moveTo>
                      <a:pt x="371" y="12"/>
                    </a:moveTo>
                    <a:lnTo>
                      <a:pt x="347" y="10"/>
                    </a:lnTo>
                    <a:lnTo>
                      <a:pt x="346" y="15"/>
                    </a:lnTo>
                    <a:lnTo>
                      <a:pt x="343" y="22"/>
                    </a:lnTo>
                    <a:lnTo>
                      <a:pt x="338" y="28"/>
                    </a:lnTo>
                    <a:lnTo>
                      <a:pt x="333" y="36"/>
                    </a:lnTo>
                    <a:lnTo>
                      <a:pt x="318" y="55"/>
                    </a:lnTo>
                    <a:lnTo>
                      <a:pt x="299" y="74"/>
                    </a:lnTo>
                    <a:lnTo>
                      <a:pt x="278" y="95"/>
                    </a:lnTo>
                    <a:lnTo>
                      <a:pt x="253" y="116"/>
                    </a:lnTo>
                    <a:lnTo>
                      <a:pt x="225" y="138"/>
                    </a:lnTo>
                    <a:lnTo>
                      <a:pt x="197" y="161"/>
                    </a:lnTo>
                    <a:lnTo>
                      <a:pt x="139" y="203"/>
                    </a:lnTo>
                    <a:lnTo>
                      <a:pt x="84" y="242"/>
                    </a:lnTo>
                    <a:lnTo>
                      <a:pt x="35" y="272"/>
                    </a:lnTo>
                    <a:lnTo>
                      <a:pt x="0" y="295"/>
                    </a:lnTo>
                    <a:lnTo>
                      <a:pt x="12" y="316"/>
                    </a:lnTo>
                    <a:lnTo>
                      <a:pt x="49" y="293"/>
                    </a:lnTo>
                    <a:lnTo>
                      <a:pt x="97" y="261"/>
                    </a:lnTo>
                    <a:lnTo>
                      <a:pt x="154" y="222"/>
                    </a:lnTo>
                    <a:lnTo>
                      <a:pt x="212" y="180"/>
                    </a:lnTo>
                    <a:lnTo>
                      <a:pt x="240" y="157"/>
                    </a:lnTo>
                    <a:lnTo>
                      <a:pt x="268" y="134"/>
                    </a:lnTo>
                    <a:lnTo>
                      <a:pt x="294" y="113"/>
                    </a:lnTo>
                    <a:lnTo>
                      <a:pt x="317" y="91"/>
                    </a:lnTo>
                    <a:lnTo>
                      <a:pt x="336" y="71"/>
                    </a:lnTo>
                    <a:lnTo>
                      <a:pt x="352" y="51"/>
                    </a:lnTo>
                    <a:lnTo>
                      <a:pt x="359" y="42"/>
                    </a:lnTo>
                    <a:lnTo>
                      <a:pt x="364" y="33"/>
                    </a:lnTo>
                    <a:lnTo>
                      <a:pt x="368" y="24"/>
                    </a:lnTo>
                    <a:lnTo>
                      <a:pt x="371" y="15"/>
                    </a:lnTo>
                    <a:lnTo>
                      <a:pt x="347" y="12"/>
                    </a:lnTo>
                    <a:lnTo>
                      <a:pt x="371" y="15"/>
                    </a:lnTo>
                    <a:lnTo>
                      <a:pt x="371" y="9"/>
                    </a:lnTo>
                    <a:lnTo>
                      <a:pt x="369" y="6"/>
                    </a:lnTo>
                    <a:lnTo>
                      <a:pt x="366" y="2"/>
                    </a:lnTo>
                    <a:lnTo>
                      <a:pt x="362" y="1"/>
                    </a:lnTo>
                    <a:lnTo>
                      <a:pt x="358" y="0"/>
                    </a:lnTo>
                    <a:lnTo>
                      <a:pt x="353" y="2"/>
                    </a:lnTo>
                    <a:lnTo>
                      <a:pt x="350" y="4"/>
                    </a:lnTo>
                    <a:lnTo>
                      <a:pt x="347" y="10"/>
                    </a:lnTo>
                    <a:lnTo>
                      <a:pt x="3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843440" y="429768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45" y="338"/>
                    </a:moveTo>
                    <a:lnTo>
                      <a:pt x="168" y="331"/>
                    </a:lnTo>
                    <a:lnTo>
                      <a:pt x="140" y="293"/>
                    </a:lnTo>
                    <a:lnTo>
                      <a:pt x="114" y="256"/>
                    </a:lnTo>
                    <a:lnTo>
                      <a:pt x="102" y="238"/>
                    </a:lnTo>
                    <a:lnTo>
                      <a:pt x="90" y="219"/>
                    </a:lnTo>
                    <a:lnTo>
                      <a:pt x="79" y="200"/>
                    </a:lnTo>
                    <a:lnTo>
                      <a:pt x="69" y="181"/>
                    </a:lnTo>
                    <a:lnTo>
                      <a:pt x="58" y="161"/>
                    </a:lnTo>
                    <a:lnTo>
                      <a:pt x="50" y="141"/>
                    </a:lnTo>
                    <a:lnTo>
                      <a:pt x="42" y="120"/>
                    </a:lnTo>
                    <a:lnTo>
                      <a:pt x="37" y="97"/>
                    </a:lnTo>
                    <a:lnTo>
                      <a:pt x="31" y="76"/>
                    </a:lnTo>
                    <a:lnTo>
                      <a:pt x="28" y="52"/>
                    </a:lnTo>
                    <a:lnTo>
                      <a:pt x="25" y="27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8"/>
                    </a:lnTo>
                    <a:lnTo>
                      <a:pt x="4" y="54"/>
                    </a:lnTo>
                    <a:lnTo>
                      <a:pt x="7" y="80"/>
                    </a:lnTo>
                    <a:lnTo>
                      <a:pt x="13" y="104"/>
                    </a:lnTo>
                    <a:lnTo>
                      <a:pt x="20" y="127"/>
                    </a:lnTo>
                    <a:lnTo>
                      <a:pt x="28" y="150"/>
                    </a:lnTo>
                    <a:lnTo>
                      <a:pt x="37" y="171"/>
                    </a:lnTo>
                    <a:lnTo>
                      <a:pt x="47" y="192"/>
                    </a:lnTo>
                    <a:lnTo>
                      <a:pt x="57" y="211"/>
                    </a:lnTo>
                    <a:lnTo>
                      <a:pt x="70" y="232"/>
                    </a:lnTo>
                    <a:lnTo>
                      <a:pt x="81" y="251"/>
                    </a:lnTo>
                    <a:lnTo>
                      <a:pt x="94" y="269"/>
                    </a:lnTo>
                    <a:lnTo>
                      <a:pt x="121" y="307"/>
                    </a:lnTo>
                    <a:lnTo>
                      <a:pt x="147" y="345"/>
                    </a:lnTo>
                    <a:lnTo>
                      <a:pt x="170" y="339"/>
                    </a:lnTo>
                    <a:lnTo>
                      <a:pt x="147" y="345"/>
                    </a:lnTo>
                    <a:lnTo>
                      <a:pt x="152" y="349"/>
                    </a:lnTo>
                    <a:lnTo>
                      <a:pt x="156" y="350"/>
                    </a:lnTo>
                    <a:lnTo>
                      <a:pt x="161" y="350"/>
                    </a:lnTo>
                    <a:lnTo>
                      <a:pt x="164" y="348"/>
                    </a:lnTo>
                    <a:lnTo>
                      <a:pt x="168" y="345"/>
                    </a:lnTo>
                    <a:lnTo>
                      <a:pt x="170" y="341"/>
                    </a:lnTo>
                    <a:lnTo>
                      <a:pt x="170" y="336"/>
                    </a:lnTo>
                    <a:lnTo>
                      <a:pt x="168" y="331"/>
                    </a:lnTo>
                    <a:lnTo>
                      <a:pt x="145" y="3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889520" y="42422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5">
                    <a:moveTo>
                      <a:pt x="30" y="0"/>
                    </a:moveTo>
                    <a:lnTo>
                      <a:pt x="16" y="11"/>
                    </a:lnTo>
                    <a:lnTo>
                      <a:pt x="0" y="514"/>
                    </a:lnTo>
                    <a:lnTo>
                      <a:pt x="25" y="515"/>
                    </a:lnTo>
                    <a:lnTo>
                      <a:pt x="40" y="12"/>
                    </a:lnTo>
                    <a:lnTo>
                      <a:pt x="30" y="0"/>
                    </a:lnTo>
                    <a:lnTo>
                      <a:pt x="40" y="12"/>
                    </a:lnTo>
                    <a:lnTo>
                      <a:pt x="40" y="7"/>
                    </a:lnTo>
                    <a:lnTo>
                      <a:pt x="37" y="3"/>
                    </a:lnTo>
                    <a:lnTo>
                      <a:pt x="33" y="1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7"/>
                    </a:lnTo>
                    <a:lnTo>
                      <a:pt x="16" y="1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848120" y="423720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8" y="24"/>
                    </a:moveTo>
                    <a:lnTo>
                      <a:pt x="11" y="25"/>
                    </a:lnTo>
                    <a:lnTo>
                      <a:pt x="158" y="37"/>
                    </a:lnTo>
                    <a:lnTo>
                      <a:pt x="161" y="13"/>
                    </a:lnTo>
                    <a:lnTo>
                      <a:pt x="13" y="0"/>
                    </a:lnTo>
                    <a:lnTo>
                      <a:pt x="8" y="24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975040" y="3900600"/>
                <a:ext cx="203040" cy="189000"/>
              </a:xfrm>
              <a:custGeom>
                <a:avLst/>
                <a:gdLst/>
                <a:ahLst/>
                <a:rect l="l" t="t" r="r" b="b"/>
                <a:pathLst>
                  <a:path w="643" h="595">
                    <a:moveTo>
                      <a:pt x="83" y="502"/>
                    </a:moveTo>
                    <a:lnTo>
                      <a:pt x="232" y="0"/>
                    </a:lnTo>
                    <a:lnTo>
                      <a:pt x="240" y="33"/>
                    </a:lnTo>
                    <a:lnTo>
                      <a:pt x="246" y="65"/>
                    </a:lnTo>
                    <a:lnTo>
                      <a:pt x="249" y="96"/>
                    </a:lnTo>
                    <a:lnTo>
                      <a:pt x="252" y="125"/>
                    </a:lnTo>
                    <a:lnTo>
                      <a:pt x="252" y="154"/>
                    </a:lnTo>
                    <a:lnTo>
                      <a:pt x="251" y="181"/>
                    </a:lnTo>
                    <a:lnTo>
                      <a:pt x="247" y="206"/>
                    </a:lnTo>
                    <a:lnTo>
                      <a:pt x="243" y="231"/>
                    </a:lnTo>
                    <a:lnTo>
                      <a:pt x="238" y="254"/>
                    </a:lnTo>
                    <a:lnTo>
                      <a:pt x="232" y="276"/>
                    </a:lnTo>
                    <a:lnTo>
                      <a:pt x="226" y="295"/>
                    </a:lnTo>
                    <a:lnTo>
                      <a:pt x="219" y="314"/>
                    </a:lnTo>
                    <a:lnTo>
                      <a:pt x="212" y="329"/>
                    </a:lnTo>
                    <a:lnTo>
                      <a:pt x="205" y="344"/>
                    </a:lnTo>
                    <a:lnTo>
                      <a:pt x="198" y="356"/>
                    </a:lnTo>
                    <a:lnTo>
                      <a:pt x="191" y="367"/>
                    </a:lnTo>
                    <a:lnTo>
                      <a:pt x="186" y="375"/>
                    </a:lnTo>
                    <a:lnTo>
                      <a:pt x="181" y="381"/>
                    </a:lnTo>
                    <a:lnTo>
                      <a:pt x="177" y="384"/>
                    </a:lnTo>
                    <a:lnTo>
                      <a:pt x="174" y="386"/>
                    </a:lnTo>
                    <a:lnTo>
                      <a:pt x="172" y="385"/>
                    </a:lnTo>
                    <a:lnTo>
                      <a:pt x="172" y="382"/>
                    </a:lnTo>
                    <a:lnTo>
                      <a:pt x="174" y="375"/>
                    </a:lnTo>
                    <a:lnTo>
                      <a:pt x="178" y="367"/>
                    </a:lnTo>
                    <a:lnTo>
                      <a:pt x="185" y="355"/>
                    </a:lnTo>
                    <a:lnTo>
                      <a:pt x="192" y="341"/>
                    </a:lnTo>
                    <a:lnTo>
                      <a:pt x="204" y="324"/>
                    </a:lnTo>
                    <a:lnTo>
                      <a:pt x="218" y="303"/>
                    </a:lnTo>
                    <a:lnTo>
                      <a:pt x="235" y="280"/>
                    </a:lnTo>
                    <a:lnTo>
                      <a:pt x="254" y="253"/>
                    </a:lnTo>
                    <a:lnTo>
                      <a:pt x="278" y="223"/>
                    </a:lnTo>
                    <a:lnTo>
                      <a:pt x="304" y="192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8"/>
                    </a:lnTo>
                    <a:lnTo>
                      <a:pt x="343" y="161"/>
                    </a:lnTo>
                    <a:lnTo>
                      <a:pt x="353" y="154"/>
                    </a:lnTo>
                    <a:lnTo>
                      <a:pt x="365" y="148"/>
                    </a:lnTo>
                    <a:lnTo>
                      <a:pt x="376" y="143"/>
                    </a:lnTo>
                    <a:lnTo>
                      <a:pt x="387" y="138"/>
                    </a:lnTo>
                    <a:lnTo>
                      <a:pt x="411" y="129"/>
                    </a:lnTo>
                    <a:lnTo>
                      <a:pt x="435" y="123"/>
                    </a:lnTo>
                    <a:lnTo>
                      <a:pt x="447" y="121"/>
                    </a:lnTo>
                    <a:lnTo>
                      <a:pt x="458" y="120"/>
                    </a:lnTo>
                    <a:lnTo>
                      <a:pt x="469" y="119"/>
                    </a:lnTo>
                    <a:lnTo>
                      <a:pt x="481" y="119"/>
                    </a:lnTo>
                    <a:lnTo>
                      <a:pt x="475" y="141"/>
                    </a:lnTo>
                    <a:lnTo>
                      <a:pt x="465" y="166"/>
                    </a:lnTo>
                    <a:lnTo>
                      <a:pt x="453" y="193"/>
                    </a:lnTo>
                    <a:lnTo>
                      <a:pt x="440" y="221"/>
                    </a:lnTo>
                    <a:lnTo>
                      <a:pt x="424" y="250"/>
                    </a:lnTo>
                    <a:lnTo>
                      <a:pt x="407" y="279"/>
                    </a:lnTo>
                    <a:lnTo>
                      <a:pt x="389" y="309"/>
                    </a:lnTo>
                    <a:lnTo>
                      <a:pt x="368" y="339"/>
                    </a:lnTo>
                    <a:lnTo>
                      <a:pt x="346" y="367"/>
                    </a:lnTo>
                    <a:lnTo>
                      <a:pt x="325" y="394"/>
                    </a:lnTo>
                    <a:lnTo>
                      <a:pt x="302" y="421"/>
                    </a:lnTo>
                    <a:lnTo>
                      <a:pt x="279" y="445"/>
                    </a:lnTo>
                    <a:lnTo>
                      <a:pt x="256" y="467"/>
                    </a:lnTo>
                    <a:lnTo>
                      <a:pt x="234" y="487"/>
                    </a:lnTo>
                    <a:lnTo>
                      <a:pt x="222" y="496"/>
                    </a:lnTo>
                    <a:lnTo>
                      <a:pt x="211" y="504"/>
                    </a:lnTo>
                    <a:lnTo>
                      <a:pt x="199" y="511"/>
                    </a:lnTo>
                    <a:lnTo>
                      <a:pt x="189" y="516"/>
                    </a:lnTo>
                    <a:lnTo>
                      <a:pt x="216" y="516"/>
                    </a:lnTo>
                    <a:lnTo>
                      <a:pt x="244" y="514"/>
                    </a:lnTo>
                    <a:lnTo>
                      <a:pt x="272" y="511"/>
                    </a:lnTo>
                    <a:lnTo>
                      <a:pt x="301" y="507"/>
                    </a:lnTo>
                    <a:lnTo>
                      <a:pt x="358" y="497"/>
                    </a:lnTo>
                    <a:lnTo>
                      <a:pt x="416" y="487"/>
                    </a:lnTo>
                    <a:lnTo>
                      <a:pt x="473" y="475"/>
                    </a:lnTo>
                    <a:lnTo>
                      <a:pt x="531" y="465"/>
                    </a:lnTo>
                    <a:lnTo>
                      <a:pt x="558" y="462"/>
                    </a:lnTo>
                    <a:lnTo>
                      <a:pt x="587" y="458"/>
                    </a:lnTo>
                    <a:lnTo>
                      <a:pt x="615" y="457"/>
                    </a:lnTo>
                    <a:lnTo>
                      <a:pt x="643" y="456"/>
                    </a:lnTo>
                    <a:lnTo>
                      <a:pt x="629" y="464"/>
                    </a:lnTo>
                    <a:lnTo>
                      <a:pt x="613" y="473"/>
                    </a:lnTo>
                    <a:lnTo>
                      <a:pt x="594" y="482"/>
                    </a:lnTo>
                    <a:lnTo>
                      <a:pt x="571" y="491"/>
                    </a:lnTo>
                    <a:lnTo>
                      <a:pt x="546" y="500"/>
                    </a:lnTo>
                    <a:lnTo>
                      <a:pt x="518" y="510"/>
                    </a:lnTo>
                    <a:lnTo>
                      <a:pt x="490" y="519"/>
                    </a:lnTo>
                    <a:lnTo>
                      <a:pt x="459" y="528"/>
                    </a:lnTo>
                    <a:lnTo>
                      <a:pt x="394" y="544"/>
                    </a:lnTo>
                    <a:lnTo>
                      <a:pt x="326" y="560"/>
                    </a:lnTo>
                    <a:lnTo>
                      <a:pt x="259" y="573"/>
                    </a:lnTo>
                    <a:lnTo>
                      <a:pt x="194" y="584"/>
                    </a:lnTo>
                    <a:lnTo>
                      <a:pt x="163" y="588"/>
                    </a:lnTo>
                    <a:lnTo>
                      <a:pt x="134" y="592"/>
                    </a:lnTo>
                    <a:lnTo>
                      <a:pt x="107" y="594"/>
                    </a:lnTo>
                    <a:lnTo>
                      <a:pt x="82" y="595"/>
                    </a:lnTo>
                    <a:lnTo>
                      <a:pt x="60" y="595"/>
                    </a:lnTo>
                    <a:lnTo>
                      <a:pt x="41" y="594"/>
                    </a:lnTo>
                    <a:lnTo>
                      <a:pt x="25" y="592"/>
                    </a:lnTo>
                    <a:lnTo>
                      <a:pt x="12" y="587"/>
                    </a:lnTo>
                    <a:lnTo>
                      <a:pt x="4" y="583"/>
                    </a:lnTo>
                    <a:lnTo>
                      <a:pt x="0" y="576"/>
                    </a:lnTo>
                    <a:lnTo>
                      <a:pt x="1" y="568"/>
                    </a:lnTo>
                    <a:lnTo>
                      <a:pt x="7" y="557"/>
                    </a:lnTo>
                    <a:lnTo>
                      <a:pt x="17" y="546"/>
                    </a:lnTo>
                    <a:lnTo>
                      <a:pt x="33" y="534"/>
                    </a:lnTo>
                    <a:lnTo>
                      <a:pt x="55" y="518"/>
                    </a:lnTo>
                    <a:lnTo>
                      <a:pt x="83" y="502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997360" y="3899160"/>
                <a:ext cx="53640" cy="1620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8" y="0"/>
                    </a:lnTo>
                    <a:lnTo>
                      <a:pt x="0" y="500"/>
                    </a:lnTo>
                    <a:lnTo>
                      <a:pt x="22" y="508"/>
                    </a:lnTo>
                    <a:lnTo>
                      <a:pt x="172" y="6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25800" y="389916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52" h="401">
                    <a:moveTo>
                      <a:pt x="135" y="185"/>
                    </a:moveTo>
                    <a:lnTo>
                      <a:pt x="134" y="187"/>
                    </a:lnTo>
                    <a:lnTo>
                      <a:pt x="107" y="220"/>
                    </a:lnTo>
                    <a:lnTo>
                      <a:pt x="84" y="249"/>
                    </a:lnTo>
                    <a:lnTo>
                      <a:pt x="63" y="275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7"/>
                    </a:lnTo>
                    <a:lnTo>
                      <a:pt x="13" y="352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1"/>
                    </a:lnTo>
                    <a:lnTo>
                      <a:pt x="0" y="392"/>
                    </a:lnTo>
                    <a:lnTo>
                      <a:pt x="14" y="401"/>
                    </a:lnTo>
                    <a:lnTo>
                      <a:pt x="22" y="397"/>
                    </a:lnTo>
                    <a:lnTo>
                      <a:pt x="28" y="392"/>
                    </a:lnTo>
                    <a:lnTo>
                      <a:pt x="34" y="385"/>
                    </a:lnTo>
                    <a:lnTo>
                      <a:pt x="41" y="376"/>
                    </a:lnTo>
                    <a:lnTo>
                      <a:pt x="47" y="366"/>
                    </a:lnTo>
                    <a:lnTo>
                      <a:pt x="54" y="353"/>
                    </a:lnTo>
                    <a:lnTo>
                      <a:pt x="62" y="338"/>
                    </a:lnTo>
                    <a:lnTo>
                      <a:pt x="69" y="321"/>
                    </a:lnTo>
                    <a:lnTo>
                      <a:pt x="76" y="303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7"/>
                    </a:lnTo>
                    <a:lnTo>
                      <a:pt x="99" y="212"/>
                    </a:lnTo>
                    <a:lnTo>
                      <a:pt x="101" y="185"/>
                    </a:lnTo>
                    <a:lnTo>
                      <a:pt x="103" y="157"/>
                    </a:lnTo>
                    <a:lnTo>
                      <a:pt x="103" y="128"/>
                    </a:lnTo>
                    <a:lnTo>
                      <a:pt x="101" y="98"/>
                    </a:lnTo>
                    <a:lnTo>
                      <a:pt x="96" y="66"/>
                    </a:lnTo>
                    <a:lnTo>
                      <a:pt x="91" y="34"/>
                    </a:lnTo>
                    <a:lnTo>
                      <a:pt x="83" y="0"/>
                    </a:lnTo>
                    <a:lnTo>
                      <a:pt x="59" y="6"/>
                    </a:lnTo>
                    <a:lnTo>
                      <a:pt x="67" y="38"/>
                    </a:lnTo>
                    <a:lnTo>
                      <a:pt x="74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5" y="208"/>
                    </a:lnTo>
                    <a:lnTo>
                      <a:pt x="70" y="232"/>
                    </a:lnTo>
                    <a:lnTo>
                      <a:pt x="66" y="254"/>
                    </a:lnTo>
                    <a:lnTo>
                      <a:pt x="60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2"/>
                    </a:lnTo>
                    <a:lnTo>
                      <a:pt x="27" y="353"/>
                    </a:lnTo>
                    <a:lnTo>
                      <a:pt x="20" y="363"/>
                    </a:lnTo>
                    <a:lnTo>
                      <a:pt x="16" y="370"/>
                    </a:lnTo>
                    <a:lnTo>
                      <a:pt x="11" y="376"/>
                    </a:lnTo>
                    <a:lnTo>
                      <a:pt x="9" y="378"/>
                    </a:lnTo>
                    <a:lnTo>
                      <a:pt x="12" y="377"/>
                    </a:lnTo>
                    <a:lnTo>
                      <a:pt x="22" y="385"/>
                    </a:lnTo>
                    <a:lnTo>
                      <a:pt x="24" y="387"/>
                    </a:lnTo>
                    <a:lnTo>
                      <a:pt x="25" y="383"/>
                    </a:lnTo>
                    <a:lnTo>
                      <a:pt x="28" y="375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3" y="334"/>
                    </a:lnTo>
                    <a:lnTo>
                      <a:pt x="67" y="313"/>
                    </a:lnTo>
                    <a:lnTo>
                      <a:pt x="83" y="290"/>
                    </a:lnTo>
                    <a:lnTo>
                      <a:pt x="103" y="264"/>
                    </a:lnTo>
                    <a:lnTo>
                      <a:pt x="126" y="234"/>
                    </a:lnTo>
                    <a:lnTo>
                      <a:pt x="152" y="201"/>
                    </a:lnTo>
                    <a:lnTo>
                      <a:pt x="152" y="203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3068640" y="393408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97" y="15"/>
                    </a:moveTo>
                    <a:lnTo>
                      <a:pt x="185" y="0"/>
                    </a:lnTo>
                    <a:lnTo>
                      <a:pt x="173" y="0"/>
                    </a:lnTo>
                    <a:lnTo>
                      <a:pt x="161" y="1"/>
                    </a:lnTo>
                    <a:lnTo>
                      <a:pt x="149" y="3"/>
                    </a:lnTo>
                    <a:lnTo>
                      <a:pt x="136" y="6"/>
                    </a:lnTo>
                    <a:lnTo>
                      <a:pt x="112" y="11"/>
                    </a:lnTo>
                    <a:lnTo>
                      <a:pt x="88" y="21"/>
                    </a:lnTo>
                    <a:lnTo>
                      <a:pt x="75" y="25"/>
                    </a:lnTo>
                    <a:lnTo>
                      <a:pt x="63" y="31"/>
                    </a:lnTo>
                    <a:lnTo>
                      <a:pt x="51" y="38"/>
                    </a:lnTo>
                    <a:lnTo>
                      <a:pt x="40" y="44"/>
                    </a:lnTo>
                    <a:lnTo>
                      <a:pt x="30" y="51"/>
                    </a:lnTo>
                    <a:lnTo>
                      <a:pt x="20" y="59"/>
                    </a:lnTo>
                    <a:lnTo>
                      <a:pt x="9" y="67"/>
                    </a:lnTo>
                    <a:lnTo>
                      <a:pt x="0" y="76"/>
                    </a:lnTo>
                    <a:lnTo>
                      <a:pt x="17" y="94"/>
                    </a:lnTo>
                    <a:lnTo>
                      <a:pt x="25" y="86"/>
                    </a:lnTo>
                    <a:lnTo>
                      <a:pt x="34" y="79"/>
                    </a:lnTo>
                    <a:lnTo>
                      <a:pt x="44" y="72"/>
                    </a:lnTo>
                    <a:lnTo>
                      <a:pt x="54" y="65"/>
                    </a:lnTo>
                    <a:lnTo>
                      <a:pt x="64" y="58"/>
                    </a:lnTo>
                    <a:lnTo>
                      <a:pt x="74" y="52"/>
                    </a:lnTo>
                    <a:lnTo>
                      <a:pt x="85" y="48"/>
                    </a:lnTo>
                    <a:lnTo>
                      <a:pt x="96" y="43"/>
                    </a:lnTo>
                    <a:lnTo>
                      <a:pt x="119" y="35"/>
                    </a:lnTo>
                    <a:lnTo>
                      <a:pt x="142" y="29"/>
                    </a:lnTo>
                    <a:lnTo>
                      <a:pt x="153" y="27"/>
                    </a:lnTo>
                    <a:lnTo>
                      <a:pt x="164" y="25"/>
                    </a:lnTo>
                    <a:lnTo>
                      <a:pt x="175" y="25"/>
                    </a:lnTo>
                    <a:lnTo>
                      <a:pt x="185" y="24"/>
                    </a:lnTo>
                    <a:lnTo>
                      <a:pt x="173" y="9"/>
                    </a:lnTo>
                    <a:lnTo>
                      <a:pt x="185" y="24"/>
                    </a:lnTo>
                    <a:lnTo>
                      <a:pt x="191" y="23"/>
                    </a:lnTo>
                    <a:lnTo>
                      <a:pt x="194" y="21"/>
                    </a:lnTo>
                    <a:lnTo>
                      <a:pt x="196" y="17"/>
                    </a:lnTo>
                    <a:lnTo>
                      <a:pt x="197" y="13"/>
                    </a:lnTo>
                    <a:lnTo>
                      <a:pt x="196" y="8"/>
                    </a:lnTo>
                    <a:lnTo>
                      <a:pt x="194" y="3"/>
                    </a:lnTo>
                    <a:lnTo>
                      <a:pt x="191" y="1"/>
                    </a:lnTo>
                    <a:lnTo>
                      <a:pt x="185" y="0"/>
                    </a:lnTo>
                    <a:lnTo>
                      <a:pt x="19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030480" y="3937320"/>
                <a:ext cx="100080" cy="131760"/>
              </a:xfrm>
              <a:custGeom>
                <a:avLst/>
                <a:gdLst/>
                <a:ahLst/>
                <a:rect l="l" t="t" r="r" b="b"/>
                <a:pathLst>
                  <a:path w="316" h="414">
                    <a:moveTo>
                      <a:pt x="12" y="390"/>
                    </a:moveTo>
                    <a:lnTo>
                      <a:pt x="17" y="413"/>
                    </a:lnTo>
                    <a:lnTo>
                      <a:pt x="29" y="406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4" y="381"/>
                    </a:lnTo>
                    <a:lnTo>
                      <a:pt x="87" y="362"/>
                    </a:lnTo>
                    <a:lnTo>
                      <a:pt x="111" y="339"/>
                    </a:lnTo>
                    <a:lnTo>
                      <a:pt x="134" y="314"/>
                    </a:lnTo>
                    <a:lnTo>
                      <a:pt x="157" y="287"/>
                    </a:lnTo>
                    <a:lnTo>
                      <a:pt x="180" y="259"/>
                    </a:lnTo>
                    <a:lnTo>
                      <a:pt x="201" y="230"/>
                    </a:lnTo>
                    <a:lnTo>
                      <a:pt x="221" y="201"/>
                    </a:lnTo>
                    <a:lnTo>
                      <a:pt x="240" y="171"/>
                    </a:lnTo>
                    <a:lnTo>
                      <a:pt x="258" y="140"/>
                    </a:lnTo>
                    <a:lnTo>
                      <a:pt x="274" y="112"/>
                    </a:lnTo>
                    <a:lnTo>
                      <a:pt x="288" y="83"/>
                    </a:lnTo>
                    <a:lnTo>
                      <a:pt x="299" y="56"/>
                    </a:lnTo>
                    <a:lnTo>
                      <a:pt x="310" y="30"/>
                    </a:lnTo>
                    <a:lnTo>
                      <a:pt x="316" y="6"/>
                    </a:lnTo>
                    <a:lnTo>
                      <a:pt x="292" y="0"/>
                    </a:lnTo>
                    <a:lnTo>
                      <a:pt x="286" y="23"/>
                    </a:lnTo>
                    <a:lnTo>
                      <a:pt x="278" y="47"/>
                    </a:lnTo>
                    <a:lnTo>
                      <a:pt x="266" y="73"/>
                    </a:lnTo>
                    <a:lnTo>
                      <a:pt x="253" y="100"/>
                    </a:lnTo>
                    <a:lnTo>
                      <a:pt x="237" y="129"/>
                    </a:lnTo>
                    <a:lnTo>
                      <a:pt x="219" y="157"/>
                    </a:lnTo>
                    <a:lnTo>
                      <a:pt x="201" y="187"/>
                    </a:lnTo>
                    <a:lnTo>
                      <a:pt x="181" y="217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8"/>
                    </a:lnTo>
                    <a:lnTo>
                      <a:pt x="94" y="322"/>
                    </a:lnTo>
                    <a:lnTo>
                      <a:pt x="71" y="343"/>
                    </a:lnTo>
                    <a:lnTo>
                      <a:pt x="49" y="363"/>
                    </a:lnTo>
                    <a:lnTo>
                      <a:pt x="38" y="371"/>
                    </a:lnTo>
                    <a:lnTo>
                      <a:pt x="27" y="379"/>
                    </a:lnTo>
                    <a:lnTo>
                      <a:pt x="17" y="385"/>
                    </a:lnTo>
                    <a:lnTo>
                      <a:pt x="6" y="391"/>
                    </a:lnTo>
                    <a:lnTo>
                      <a:pt x="12" y="414"/>
                    </a:lnTo>
                    <a:lnTo>
                      <a:pt x="6" y="391"/>
                    </a:lnTo>
                    <a:lnTo>
                      <a:pt x="2" y="395"/>
                    </a:lnTo>
                    <a:lnTo>
                      <a:pt x="0" y="398"/>
                    </a:lnTo>
                    <a:lnTo>
                      <a:pt x="0" y="403"/>
                    </a:lnTo>
                    <a:lnTo>
                      <a:pt x="1" y="407"/>
                    </a:lnTo>
                    <a:lnTo>
                      <a:pt x="4" y="411"/>
                    </a:lnTo>
                    <a:lnTo>
                      <a:pt x="8" y="413"/>
                    </a:lnTo>
                    <a:lnTo>
                      <a:pt x="12" y="414"/>
                    </a:lnTo>
                    <a:lnTo>
                      <a:pt x="17" y="413"/>
                    </a:lnTo>
                    <a:lnTo>
                      <a:pt x="12" y="3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033720" y="404208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5" h="86">
                    <a:moveTo>
                      <a:pt x="460" y="22"/>
                    </a:moveTo>
                    <a:lnTo>
                      <a:pt x="454" y="0"/>
                    </a:lnTo>
                    <a:lnTo>
                      <a:pt x="425" y="2"/>
                    </a:lnTo>
                    <a:lnTo>
                      <a:pt x="397" y="4"/>
                    </a:lnTo>
                    <a:lnTo>
                      <a:pt x="368" y="6"/>
                    </a:lnTo>
                    <a:lnTo>
                      <a:pt x="340" y="11"/>
                    </a:lnTo>
                    <a:lnTo>
                      <a:pt x="282" y="20"/>
                    </a:lnTo>
                    <a:lnTo>
                      <a:pt x="225" y="31"/>
                    </a:lnTo>
                    <a:lnTo>
                      <a:pt x="166" y="43"/>
                    </a:lnTo>
                    <a:lnTo>
                      <a:pt x="109" y="52"/>
                    </a:lnTo>
                    <a:lnTo>
                      <a:pt x="81" y="56"/>
                    </a:lnTo>
                    <a:lnTo>
                      <a:pt x="54" y="59"/>
                    </a:lnTo>
                    <a:lnTo>
                      <a:pt x="26" y="61"/>
                    </a:lnTo>
                    <a:lnTo>
                      <a:pt x="0" y="62"/>
                    </a:lnTo>
                    <a:lnTo>
                      <a:pt x="0" y="86"/>
                    </a:lnTo>
                    <a:lnTo>
                      <a:pt x="27" y="85"/>
                    </a:lnTo>
                    <a:lnTo>
                      <a:pt x="56" y="83"/>
                    </a:lnTo>
                    <a:lnTo>
                      <a:pt x="84" y="80"/>
                    </a:lnTo>
                    <a:lnTo>
                      <a:pt x="113" y="76"/>
                    </a:lnTo>
                    <a:lnTo>
                      <a:pt x="171" y="67"/>
                    </a:lnTo>
                    <a:lnTo>
                      <a:pt x="229" y="55"/>
                    </a:lnTo>
                    <a:lnTo>
                      <a:pt x="286" y="44"/>
                    </a:lnTo>
                    <a:lnTo>
                      <a:pt x="343" y="35"/>
                    </a:lnTo>
                    <a:lnTo>
                      <a:pt x="372" y="30"/>
                    </a:lnTo>
                    <a:lnTo>
                      <a:pt x="399" y="28"/>
                    </a:lnTo>
                    <a:lnTo>
                      <a:pt x="426" y="26"/>
                    </a:lnTo>
                    <a:lnTo>
                      <a:pt x="454" y="26"/>
                    </a:lnTo>
                    <a:lnTo>
                      <a:pt x="446" y="4"/>
                    </a:lnTo>
                    <a:lnTo>
                      <a:pt x="454" y="26"/>
                    </a:lnTo>
                    <a:lnTo>
                      <a:pt x="458" y="24"/>
                    </a:lnTo>
                    <a:lnTo>
                      <a:pt x="463" y="21"/>
                    </a:lnTo>
                    <a:lnTo>
                      <a:pt x="465" y="18"/>
                    </a:lnTo>
                    <a:lnTo>
                      <a:pt x="465" y="13"/>
                    </a:lnTo>
                    <a:lnTo>
                      <a:pt x="465" y="8"/>
                    </a:lnTo>
                    <a:lnTo>
                      <a:pt x="463" y="5"/>
                    </a:lnTo>
                    <a:lnTo>
                      <a:pt x="458" y="2"/>
                    </a:lnTo>
                    <a:lnTo>
                      <a:pt x="454" y="0"/>
                    </a:lnTo>
                    <a:lnTo>
                      <a:pt x="460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70360" y="404208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59">
                    <a:moveTo>
                      <a:pt x="84" y="50"/>
                    </a:moveTo>
                    <a:lnTo>
                      <a:pt x="89" y="43"/>
                    </a:lnTo>
                    <a:lnTo>
                      <a:pt x="60" y="61"/>
                    </a:lnTo>
                    <a:lnTo>
                      <a:pt x="38" y="76"/>
                    </a:lnTo>
                    <a:lnTo>
                      <a:pt x="28" y="84"/>
                    </a:lnTo>
                    <a:lnTo>
                      <a:pt x="21" y="91"/>
                    </a:lnTo>
                    <a:lnTo>
                      <a:pt x="14" y="97"/>
                    </a:lnTo>
                    <a:lnTo>
                      <a:pt x="8" y="104"/>
                    </a:lnTo>
                    <a:lnTo>
                      <a:pt x="4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0" y="132"/>
                    </a:lnTo>
                    <a:lnTo>
                      <a:pt x="4" y="139"/>
                    </a:lnTo>
                    <a:lnTo>
                      <a:pt x="8" y="145"/>
                    </a:lnTo>
                    <a:lnTo>
                      <a:pt x="14" y="148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2" y="158"/>
                    </a:lnTo>
                    <a:lnTo>
                      <a:pt x="72" y="159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6" y="153"/>
                    </a:lnTo>
                    <a:lnTo>
                      <a:pt x="208" y="149"/>
                    </a:lnTo>
                    <a:lnTo>
                      <a:pt x="273" y="138"/>
                    </a:lnTo>
                    <a:lnTo>
                      <a:pt x="340" y="124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5" y="83"/>
                    </a:lnTo>
                    <a:lnTo>
                      <a:pt x="535" y="74"/>
                    </a:lnTo>
                    <a:lnTo>
                      <a:pt x="562" y="65"/>
                    </a:lnTo>
                    <a:lnTo>
                      <a:pt x="587" y="56"/>
                    </a:lnTo>
                    <a:lnTo>
                      <a:pt x="610" y="47"/>
                    </a:lnTo>
                    <a:lnTo>
                      <a:pt x="631" y="38"/>
                    </a:lnTo>
                    <a:lnTo>
                      <a:pt x="648" y="28"/>
                    </a:lnTo>
                    <a:lnTo>
                      <a:pt x="661" y="18"/>
                    </a:lnTo>
                    <a:lnTo>
                      <a:pt x="647" y="0"/>
                    </a:lnTo>
                    <a:lnTo>
                      <a:pt x="635" y="7"/>
                    </a:lnTo>
                    <a:lnTo>
                      <a:pt x="619" y="16"/>
                    </a:lnTo>
                    <a:lnTo>
                      <a:pt x="601" y="24"/>
                    </a:lnTo>
                    <a:lnTo>
                      <a:pt x="579" y="33"/>
                    </a:lnTo>
                    <a:lnTo>
                      <a:pt x="554" y="42"/>
                    </a:lnTo>
                    <a:lnTo>
                      <a:pt x="527" y="51"/>
                    </a:lnTo>
                    <a:lnTo>
                      <a:pt x="499" y="60"/>
                    </a:lnTo>
                    <a:lnTo>
                      <a:pt x="468" y="68"/>
                    </a:lnTo>
                    <a:lnTo>
                      <a:pt x="403" y="85"/>
                    </a:lnTo>
                    <a:lnTo>
                      <a:pt x="336" y="101"/>
                    </a:lnTo>
                    <a:lnTo>
                      <a:pt x="268" y="114"/>
                    </a:lnTo>
                    <a:lnTo>
                      <a:pt x="203" y="125"/>
                    </a:lnTo>
                    <a:lnTo>
                      <a:pt x="174" y="129"/>
                    </a:lnTo>
                    <a:lnTo>
                      <a:pt x="145" y="132"/>
                    </a:lnTo>
                    <a:lnTo>
                      <a:pt x="118" y="134"/>
                    </a:lnTo>
                    <a:lnTo>
                      <a:pt x="94" y="136"/>
                    </a:lnTo>
                    <a:lnTo>
                      <a:pt x="72" y="136"/>
                    </a:lnTo>
                    <a:lnTo>
                      <a:pt x="54" y="134"/>
                    </a:lnTo>
                    <a:lnTo>
                      <a:pt x="39" y="132"/>
                    </a:lnTo>
                    <a:lnTo>
                      <a:pt x="29" y="129"/>
                    </a:lnTo>
                    <a:lnTo>
                      <a:pt x="27" y="128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4" y="124"/>
                    </a:lnTo>
                    <a:lnTo>
                      <a:pt x="26" y="122"/>
                    </a:lnTo>
                    <a:lnTo>
                      <a:pt x="28" y="118"/>
                    </a:lnTo>
                    <a:lnTo>
                      <a:pt x="31" y="114"/>
                    </a:lnTo>
                    <a:lnTo>
                      <a:pt x="37" y="108"/>
                    </a:lnTo>
                    <a:lnTo>
                      <a:pt x="44" y="102"/>
                    </a:lnTo>
                    <a:lnTo>
                      <a:pt x="52" y="96"/>
                    </a:lnTo>
                    <a:lnTo>
                      <a:pt x="73" y="81"/>
                    </a:lnTo>
                    <a:lnTo>
                      <a:pt x="101" y="65"/>
                    </a:lnTo>
                    <a:lnTo>
                      <a:pt x="106" y="58"/>
                    </a:lnTo>
                    <a:lnTo>
                      <a:pt x="101" y="65"/>
                    </a:lnTo>
                    <a:lnTo>
                      <a:pt x="105" y="61"/>
                    </a:lnTo>
                    <a:lnTo>
                      <a:pt x="106" y="57"/>
                    </a:lnTo>
                    <a:lnTo>
                      <a:pt x="106" y="52"/>
                    </a:lnTo>
                    <a:lnTo>
                      <a:pt x="105" y="48"/>
                    </a:lnTo>
                    <a:lnTo>
                      <a:pt x="102" y="44"/>
                    </a:lnTo>
                    <a:lnTo>
                      <a:pt x="98" y="42"/>
                    </a:lnTo>
                    <a:lnTo>
                      <a:pt x="94" y="42"/>
                    </a:lnTo>
                    <a:lnTo>
                      <a:pt x="89" y="43"/>
                    </a:lnTo>
                    <a:lnTo>
                      <a:pt x="8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402080" y="3894480"/>
                <a:ext cx="203400" cy="189000"/>
              </a:xfrm>
              <a:custGeom>
                <a:avLst/>
                <a:gdLst/>
                <a:ahLst/>
                <a:rect l="l" t="t" r="r" b="b"/>
                <a:pathLst>
                  <a:path w="640" h="594">
                    <a:moveTo>
                      <a:pt x="83" y="500"/>
                    </a:moveTo>
                    <a:lnTo>
                      <a:pt x="231" y="0"/>
                    </a:lnTo>
                    <a:lnTo>
                      <a:pt x="240" y="32"/>
                    </a:lnTo>
                    <a:lnTo>
                      <a:pt x="246" y="64"/>
                    </a:lnTo>
                    <a:lnTo>
                      <a:pt x="249" y="94"/>
                    </a:lnTo>
                    <a:lnTo>
                      <a:pt x="252" y="124"/>
                    </a:lnTo>
                    <a:lnTo>
                      <a:pt x="252" y="153"/>
                    </a:lnTo>
                    <a:lnTo>
                      <a:pt x="249" y="180"/>
                    </a:lnTo>
                    <a:lnTo>
                      <a:pt x="247" y="206"/>
                    </a:lnTo>
                    <a:lnTo>
                      <a:pt x="243" y="230"/>
                    </a:lnTo>
                    <a:lnTo>
                      <a:pt x="238" y="253"/>
                    </a:lnTo>
                    <a:lnTo>
                      <a:pt x="232" y="275"/>
                    </a:lnTo>
                    <a:lnTo>
                      <a:pt x="226" y="294"/>
                    </a:lnTo>
                    <a:lnTo>
                      <a:pt x="219" y="312"/>
                    </a:lnTo>
                    <a:lnTo>
                      <a:pt x="212" y="328"/>
                    </a:lnTo>
                    <a:lnTo>
                      <a:pt x="205" y="343"/>
                    </a:lnTo>
                    <a:lnTo>
                      <a:pt x="198" y="355"/>
                    </a:lnTo>
                    <a:lnTo>
                      <a:pt x="191" y="366"/>
                    </a:lnTo>
                    <a:lnTo>
                      <a:pt x="186" y="374"/>
                    </a:lnTo>
                    <a:lnTo>
                      <a:pt x="180" y="379"/>
                    </a:lnTo>
                    <a:lnTo>
                      <a:pt x="177" y="384"/>
                    </a:lnTo>
                    <a:lnTo>
                      <a:pt x="173" y="385"/>
                    </a:lnTo>
                    <a:lnTo>
                      <a:pt x="172" y="384"/>
                    </a:lnTo>
                    <a:lnTo>
                      <a:pt x="172" y="381"/>
                    </a:lnTo>
                    <a:lnTo>
                      <a:pt x="174" y="375"/>
                    </a:lnTo>
                    <a:lnTo>
                      <a:pt x="178" y="366"/>
                    </a:lnTo>
                    <a:lnTo>
                      <a:pt x="185" y="354"/>
                    </a:lnTo>
                    <a:lnTo>
                      <a:pt x="193" y="339"/>
                    </a:lnTo>
                    <a:lnTo>
                      <a:pt x="204" y="322"/>
                    </a:lnTo>
                    <a:lnTo>
                      <a:pt x="218" y="302"/>
                    </a:lnTo>
                    <a:lnTo>
                      <a:pt x="234" y="279"/>
                    </a:lnTo>
                    <a:lnTo>
                      <a:pt x="254" y="253"/>
                    </a:lnTo>
                    <a:lnTo>
                      <a:pt x="277" y="223"/>
                    </a:lnTo>
                    <a:lnTo>
                      <a:pt x="304" y="190"/>
                    </a:lnTo>
                    <a:lnTo>
                      <a:pt x="313" y="182"/>
                    </a:lnTo>
                    <a:lnTo>
                      <a:pt x="322" y="174"/>
                    </a:lnTo>
                    <a:lnTo>
                      <a:pt x="333" y="166"/>
                    </a:lnTo>
                    <a:lnTo>
                      <a:pt x="343" y="159"/>
                    </a:lnTo>
                    <a:lnTo>
                      <a:pt x="365" y="147"/>
                    </a:lnTo>
                    <a:lnTo>
                      <a:pt x="387" y="137"/>
                    </a:lnTo>
                    <a:lnTo>
                      <a:pt x="410" y="129"/>
                    </a:lnTo>
                    <a:lnTo>
                      <a:pt x="434" y="122"/>
                    </a:lnTo>
                    <a:lnTo>
                      <a:pt x="446" y="121"/>
                    </a:lnTo>
                    <a:lnTo>
                      <a:pt x="457" y="118"/>
                    </a:lnTo>
                    <a:lnTo>
                      <a:pt x="468" y="117"/>
                    </a:lnTo>
                    <a:lnTo>
                      <a:pt x="480" y="117"/>
                    </a:lnTo>
                    <a:lnTo>
                      <a:pt x="473" y="140"/>
                    </a:lnTo>
                    <a:lnTo>
                      <a:pt x="464" y="165"/>
                    </a:lnTo>
                    <a:lnTo>
                      <a:pt x="452" y="191"/>
                    </a:lnTo>
                    <a:lnTo>
                      <a:pt x="439" y="220"/>
                    </a:lnTo>
                    <a:lnTo>
                      <a:pt x="424" y="248"/>
                    </a:lnTo>
                    <a:lnTo>
                      <a:pt x="407" y="278"/>
                    </a:lnTo>
                    <a:lnTo>
                      <a:pt x="387" y="308"/>
                    </a:lnTo>
                    <a:lnTo>
                      <a:pt x="367" y="337"/>
                    </a:lnTo>
                    <a:lnTo>
                      <a:pt x="346" y="366"/>
                    </a:lnTo>
                    <a:lnTo>
                      <a:pt x="325" y="393"/>
                    </a:lnTo>
                    <a:lnTo>
                      <a:pt x="302" y="419"/>
                    </a:lnTo>
                    <a:lnTo>
                      <a:pt x="279" y="444"/>
                    </a:lnTo>
                    <a:lnTo>
                      <a:pt x="256" y="466"/>
                    </a:lnTo>
                    <a:lnTo>
                      <a:pt x="232" y="485"/>
                    </a:lnTo>
                    <a:lnTo>
                      <a:pt x="221" y="495"/>
                    </a:lnTo>
                    <a:lnTo>
                      <a:pt x="211" y="503"/>
                    </a:lnTo>
                    <a:lnTo>
                      <a:pt x="199" y="509"/>
                    </a:lnTo>
                    <a:lnTo>
                      <a:pt x="188" y="515"/>
                    </a:lnTo>
                    <a:lnTo>
                      <a:pt x="215" y="515"/>
                    </a:lnTo>
                    <a:lnTo>
                      <a:pt x="244" y="513"/>
                    </a:lnTo>
                    <a:lnTo>
                      <a:pt x="271" y="510"/>
                    </a:lnTo>
                    <a:lnTo>
                      <a:pt x="300" y="506"/>
                    </a:lnTo>
                    <a:lnTo>
                      <a:pt x="357" y="497"/>
                    </a:lnTo>
                    <a:lnTo>
                      <a:pt x="415" y="485"/>
                    </a:lnTo>
                    <a:lnTo>
                      <a:pt x="472" y="474"/>
                    </a:lnTo>
                    <a:lnTo>
                      <a:pt x="529" y="465"/>
                    </a:lnTo>
                    <a:lnTo>
                      <a:pt x="557" y="460"/>
                    </a:lnTo>
                    <a:lnTo>
                      <a:pt x="585" y="458"/>
                    </a:lnTo>
                    <a:lnTo>
                      <a:pt x="613" y="456"/>
                    </a:lnTo>
                    <a:lnTo>
                      <a:pt x="640" y="455"/>
                    </a:lnTo>
                    <a:lnTo>
                      <a:pt x="628" y="464"/>
                    </a:lnTo>
                    <a:lnTo>
                      <a:pt x="611" y="472"/>
                    </a:lnTo>
                    <a:lnTo>
                      <a:pt x="591" y="481"/>
                    </a:lnTo>
                    <a:lnTo>
                      <a:pt x="570" y="490"/>
                    </a:lnTo>
                    <a:lnTo>
                      <a:pt x="545" y="499"/>
                    </a:lnTo>
                    <a:lnTo>
                      <a:pt x="517" y="508"/>
                    </a:lnTo>
                    <a:lnTo>
                      <a:pt x="488" y="517"/>
                    </a:lnTo>
                    <a:lnTo>
                      <a:pt x="457" y="526"/>
                    </a:lnTo>
                    <a:lnTo>
                      <a:pt x="392" y="544"/>
                    </a:lnTo>
                    <a:lnTo>
                      <a:pt x="325" y="558"/>
                    </a:lnTo>
                    <a:lnTo>
                      <a:pt x="257" y="572"/>
                    </a:lnTo>
                    <a:lnTo>
                      <a:pt x="193" y="582"/>
                    </a:lnTo>
                    <a:lnTo>
                      <a:pt x="162" y="587"/>
                    </a:lnTo>
                    <a:lnTo>
                      <a:pt x="133" y="590"/>
                    </a:lnTo>
                    <a:lnTo>
                      <a:pt x="106" y="593"/>
                    </a:lnTo>
                    <a:lnTo>
                      <a:pt x="82" y="594"/>
                    </a:lnTo>
                    <a:lnTo>
                      <a:pt x="59" y="594"/>
                    </a:lnTo>
                    <a:lnTo>
                      <a:pt x="41" y="593"/>
                    </a:lnTo>
                    <a:lnTo>
                      <a:pt x="25" y="590"/>
                    </a:lnTo>
                    <a:lnTo>
                      <a:pt x="12" y="587"/>
                    </a:lnTo>
                    <a:lnTo>
                      <a:pt x="4" y="581"/>
                    </a:lnTo>
                    <a:lnTo>
                      <a:pt x="0" y="574"/>
                    </a:lnTo>
                    <a:lnTo>
                      <a:pt x="0" y="566"/>
                    </a:lnTo>
                    <a:lnTo>
                      <a:pt x="6" y="557"/>
                    </a:lnTo>
                    <a:lnTo>
                      <a:pt x="16" y="546"/>
                    </a:lnTo>
                    <a:lnTo>
                      <a:pt x="33" y="532"/>
                    </a:lnTo>
                    <a:lnTo>
                      <a:pt x="55" y="517"/>
                    </a:lnTo>
                    <a:lnTo>
                      <a:pt x="83" y="500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424400" y="389448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2" h="508">
                    <a:moveTo>
                      <a:pt x="172" y="0"/>
                    </a:moveTo>
                    <a:lnTo>
                      <a:pt x="149" y="0"/>
                    </a:lnTo>
                    <a:lnTo>
                      <a:pt x="0" y="501"/>
                    </a:lnTo>
                    <a:lnTo>
                      <a:pt x="24" y="508"/>
                    </a:lnTo>
                    <a:lnTo>
                      <a:pt x="172" y="7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452840" y="38944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152" h="400">
                    <a:moveTo>
                      <a:pt x="135" y="185"/>
                    </a:moveTo>
                    <a:lnTo>
                      <a:pt x="134" y="186"/>
                    </a:lnTo>
                    <a:lnTo>
                      <a:pt x="107" y="219"/>
                    </a:lnTo>
                    <a:lnTo>
                      <a:pt x="84" y="249"/>
                    </a:lnTo>
                    <a:lnTo>
                      <a:pt x="63" y="276"/>
                    </a:lnTo>
                    <a:lnTo>
                      <a:pt x="46" y="299"/>
                    </a:lnTo>
                    <a:lnTo>
                      <a:pt x="33" y="320"/>
                    </a:lnTo>
                    <a:lnTo>
                      <a:pt x="21" y="338"/>
                    </a:lnTo>
                    <a:lnTo>
                      <a:pt x="12" y="353"/>
                    </a:lnTo>
                    <a:lnTo>
                      <a:pt x="6" y="364"/>
                    </a:lnTo>
                    <a:lnTo>
                      <a:pt x="2" y="374"/>
                    </a:lnTo>
                    <a:lnTo>
                      <a:pt x="0" y="382"/>
                    </a:lnTo>
                    <a:lnTo>
                      <a:pt x="0" y="391"/>
                    </a:lnTo>
                    <a:lnTo>
                      <a:pt x="13" y="400"/>
                    </a:lnTo>
                    <a:lnTo>
                      <a:pt x="22" y="397"/>
                    </a:lnTo>
                    <a:lnTo>
                      <a:pt x="28" y="393"/>
                    </a:lnTo>
                    <a:lnTo>
                      <a:pt x="34" y="386"/>
                    </a:lnTo>
                    <a:lnTo>
                      <a:pt x="41" y="377"/>
                    </a:lnTo>
                    <a:lnTo>
                      <a:pt x="47" y="365"/>
                    </a:lnTo>
                    <a:lnTo>
                      <a:pt x="54" y="353"/>
                    </a:lnTo>
                    <a:lnTo>
                      <a:pt x="61" y="338"/>
                    </a:lnTo>
                    <a:lnTo>
                      <a:pt x="69" y="321"/>
                    </a:lnTo>
                    <a:lnTo>
                      <a:pt x="76" y="302"/>
                    </a:lnTo>
                    <a:lnTo>
                      <a:pt x="83" y="282"/>
                    </a:lnTo>
                    <a:lnTo>
                      <a:pt x="88" y="260"/>
                    </a:lnTo>
                    <a:lnTo>
                      <a:pt x="94" y="236"/>
                    </a:lnTo>
                    <a:lnTo>
                      <a:pt x="98" y="211"/>
                    </a:lnTo>
                    <a:lnTo>
                      <a:pt x="101" y="185"/>
                    </a:lnTo>
                    <a:lnTo>
                      <a:pt x="102" y="157"/>
                    </a:lnTo>
                    <a:lnTo>
                      <a:pt x="102" y="128"/>
                    </a:lnTo>
                    <a:lnTo>
                      <a:pt x="101" y="97"/>
                    </a:lnTo>
                    <a:lnTo>
                      <a:pt x="96" y="66"/>
                    </a:lnTo>
                    <a:lnTo>
                      <a:pt x="91" y="33"/>
                    </a:lnTo>
                    <a:lnTo>
                      <a:pt x="82" y="0"/>
                    </a:lnTo>
                    <a:lnTo>
                      <a:pt x="59" y="7"/>
                    </a:lnTo>
                    <a:lnTo>
                      <a:pt x="67" y="39"/>
                    </a:lnTo>
                    <a:lnTo>
                      <a:pt x="73" y="70"/>
                    </a:lnTo>
                    <a:lnTo>
                      <a:pt x="77" y="100"/>
                    </a:lnTo>
                    <a:lnTo>
                      <a:pt x="78" y="128"/>
                    </a:lnTo>
                    <a:lnTo>
                      <a:pt x="78" y="157"/>
                    </a:lnTo>
                    <a:lnTo>
                      <a:pt x="77" y="183"/>
                    </a:lnTo>
                    <a:lnTo>
                      <a:pt x="74" y="208"/>
                    </a:lnTo>
                    <a:lnTo>
                      <a:pt x="70" y="232"/>
                    </a:lnTo>
                    <a:lnTo>
                      <a:pt x="65" y="255"/>
                    </a:lnTo>
                    <a:lnTo>
                      <a:pt x="59" y="275"/>
                    </a:lnTo>
                    <a:lnTo>
                      <a:pt x="53" y="294"/>
                    </a:lnTo>
                    <a:lnTo>
                      <a:pt x="46" y="312"/>
                    </a:lnTo>
                    <a:lnTo>
                      <a:pt x="39" y="328"/>
                    </a:lnTo>
                    <a:lnTo>
                      <a:pt x="33" y="341"/>
                    </a:lnTo>
                    <a:lnTo>
                      <a:pt x="26" y="353"/>
                    </a:lnTo>
                    <a:lnTo>
                      <a:pt x="20" y="363"/>
                    </a:lnTo>
                    <a:lnTo>
                      <a:pt x="14" y="371"/>
                    </a:lnTo>
                    <a:lnTo>
                      <a:pt x="11" y="375"/>
                    </a:lnTo>
                    <a:lnTo>
                      <a:pt x="8" y="378"/>
                    </a:lnTo>
                    <a:lnTo>
                      <a:pt x="11" y="377"/>
                    </a:lnTo>
                    <a:lnTo>
                      <a:pt x="22" y="385"/>
                    </a:lnTo>
                    <a:lnTo>
                      <a:pt x="22" y="387"/>
                    </a:lnTo>
                    <a:lnTo>
                      <a:pt x="25" y="382"/>
                    </a:lnTo>
                    <a:lnTo>
                      <a:pt x="28" y="374"/>
                    </a:lnTo>
                    <a:lnTo>
                      <a:pt x="34" y="364"/>
                    </a:lnTo>
                    <a:lnTo>
                      <a:pt x="42" y="350"/>
                    </a:lnTo>
                    <a:lnTo>
                      <a:pt x="52" y="333"/>
                    </a:lnTo>
                    <a:lnTo>
                      <a:pt x="66" y="313"/>
                    </a:lnTo>
                    <a:lnTo>
                      <a:pt x="83" y="290"/>
                    </a:lnTo>
                    <a:lnTo>
                      <a:pt x="102" y="264"/>
                    </a:lnTo>
                    <a:lnTo>
                      <a:pt x="126" y="234"/>
                    </a:lnTo>
                    <a:lnTo>
                      <a:pt x="152" y="202"/>
                    </a:lnTo>
                    <a:lnTo>
                      <a:pt x="152" y="202"/>
                    </a:lnTo>
                    <a:lnTo>
                      <a:pt x="135" y="1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95680" y="3927600"/>
                <a:ext cx="61920" cy="30240"/>
              </a:xfrm>
              <a:custGeom>
                <a:avLst/>
                <a:gdLst/>
                <a:ahLst/>
                <a:rect l="l" t="t" r="r" b="b"/>
                <a:pathLst>
                  <a:path w="195" h="93">
                    <a:moveTo>
                      <a:pt x="195" y="14"/>
                    </a:moveTo>
                    <a:lnTo>
                      <a:pt x="184" y="0"/>
                    </a:lnTo>
                    <a:lnTo>
                      <a:pt x="171" y="1"/>
                    </a:lnTo>
                    <a:lnTo>
                      <a:pt x="160" y="2"/>
                    </a:lnTo>
                    <a:lnTo>
                      <a:pt x="147" y="3"/>
                    </a:lnTo>
                    <a:lnTo>
                      <a:pt x="136" y="5"/>
                    </a:lnTo>
                    <a:lnTo>
                      <a:pt x="111" y="12"/>
                    </a:lnTo>
                    <a:lnTo>
                      <a:pt x="87" y="20"/>
                    </a:lnTo>
                    <a:lnTo>
                      <a:pt x="63" y="32"/>
                    </a:lnTo>
                    <a:lnTo>
                      <a:pt x="40" y="44"/>
                    </a:lnTo>
                    <a:lnTo>
                      <a:pt x="29" y="52"/>
                    </a:lnTo>
                    <a:lnTo>
                      <a:pt x="18" y="59"/>
                    </a:lnTo>
                    <a:lnTo>
                      <a:pt x="9" y="68"/>
                    </a:lnTo>
                    <a:lnTo>
                      <a:pt x="0" y="76"/>
                    </a:lnTo>
                    <a:lnTo>
                      <a:pt x="17" y="93"/>
                    </a:lnTo>
                    <a:lnTo>
                      <a:pt x="25" y="86"/>
                    </a:lnTo>
                    <a:lnTo>
                      <a:pt x="33" y="78"/>
                    </a:lnTo>
                    <a:lnTo>
                      <a:pt x="44" y="71"/>
                    </a:lnTo>
                    <a:lnTo>
                      <a:pt x="53" y="65"/>
                    </a:lnTo>
                    <a:lnTo>
                      <a:pt x="74" y="53"/>
                    </a:lnTo>
                    <a:lnTo>
                      <a:pt x="96" y="43"/>
                    </a:lnTo>
                    <a:lnTo>
                      <a:pt x="118" y="35"/>
                    </a:lnTo>
                    <a:lnTo>
                      <a:pt x="140" y="29"/>
                    </a:lnTo>
                    <a:lnTo>
                      <a:pt x="152" y="27"/>
                    </a:lnTo>
                    <a:lnTo>
                      <a:pt x="162" y="26"/>
                    </a:lnTo>
                    <a:lnTo>
                      <a:pt x="173" y="25"/>
                    </a:lnTo>
                    <a:lnTo>
                      <a:pt x="184" y="25"/>
                    </a:lnTo>
                    <a:lnTo>
                      <a:pt x="171" y="10"/>
                    </a:lnTo>
                    <a:lnTo>
                      <a:pt x="184" y="25"/>
                    </a:lnTo>
                    <a:lnTo>
                      <a:pt x="188" y="24"/>
                    </a:lnTo>
                    <a:lnTo>
                      <a:pt x="192" y="20"/>
                    </a:lnTo>
                    <a:lnTo>
                      <a:pt x="194" y="17"/>
                    </a:lnTo>
                    <a:lnTo>
                      <a:pt x="195" y="12"/>
                    </a:lnTo>
                    <a:lnTo>
                      <a:pt x="194" y="8"/>
                    </a:lnTo>
                    <a:lnTo>
                      <a:pt x="192" y="4"/>
                    </a:lnTo>
                    <a:lnTo>
                      <a:pt x="188" y="1"/>
                    </a:lnTo>
                    <a:lnTo>
                      <a:pt x="184" y="0"/>
                    </a:lnTo>
                    <a:lnTo>
                      <a:pt x="195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457880" y="3930840"/>
                <a:ext cx="99720" cy="131760"/>
              </a:xfrm>
              <a:custGeom>
                <a:avLst/>
                <a:gdLst/>
                <a:ahLst/>
                <a:rect l="l" t="t" r="r" b="b"/>
                <a:pathLst>
                  <a:path w="314" h="413">
                    <a:moveTo>
                      <a:pt x="11" y="389"/>
                    </a:moveTo>
                    <a:lnTo>
                      <a:pt x="17" y="411"/>
                    </a:lnTo>
                    <a:lnTo>
                      <a:pt x="28" y="405"/>
                    </a:lnTo>
                    <a:lnTo>
                      <a:pt x="41" y="398"/>
                    </a:lnTo>
                    <a:lnTo>
                      <a:pt x="52" y="390"/>
                    </a:lnTo>
                    <a:lnTo>
                      <a:pt x="63" y="381"/>
                    </a:lnTo>
                    <a:lnTo>
                      <a:pt x="87" y="360"/>
                    </a:lnTo>
                    <a:lnTo>
                      <a:pt x="110" y="337"/>
                    </a:lnTo>
                    <a:lnTo>
                      <a:pt x="134" y="312"/>
                    </a:lnTo>
                    <a:lnTo>
                      <a:pt x="157" y="286"/>
                    </a:lnTo>
                    <a:lnTo>
                      <a:pt x="178" y="259"/>
                    </a:lnTo>
                    <a:lnTo>
                      <a:pt x="200" y="229"/>
                    </a:lnTo>
                    <a:lnTo>
                      <a:pt x="221" y="199"/>
                    </a:lnTo>
                    <a:lnTo>
                      <a:pt x="240" y="170"/>
                    </a:lnTo>
                    <a:lnTo>
                      <a:pt x="257" y="140"/>
                    </a:lnTo>
                    <a:lnTo>
                      <a:pt x="273" y="110"/>
                    </a:lnTo>
                    <a:lnTo>
                      <a:pt x="287" y="82"/>
                    </a:lnTo>
                    <a:lnTo>
                      <a:pt x="298" y="55"/>
                    </a:lnTo>
                    <a:lnTo>
                      <a:pt x="307" y="28"/>
                    </a:lnTo>
                    <a:lnTo>
                      <a:pt x="314" y="4"/>
                    </a:lnTo>
                    <a:lnTo>
                      <a:pt x="290" y="0"/>
                    </a:lnTo>
                    <a:lnTo>
                      <a:pt x="284" y="22"/>
                    </a:lnTo>
                    <a:lnTo>
                      <a:pt x="275" y="46"/>
                    </a:lnTo>
                    <a:lnTo>
                      <a:pt x="265" y="72"/>
                    </a:lnTo>
                    <a:lnTo>
                      <a:pt x="251" y="99"/>
                    </a:lnTo>
                    <a:lnTo>
                      <a:pt x="235" y="128"/>
                    </a:lnTo>
                    <a:lnTo>
                      <a:pt x="218" y="157"/>
                    </a:lnTo>
                    <a:lnTo>
                      <a:pt x="200" y="186"/>
                    </a:lnTo>
                    <a:lnTo>
                      <a:pt x="181" y="215"/>
                    </a:lnTo>
                    <a:lnTo>
                      <a:pt x="160" y="244"/>
                    </a:lnTo>
                    <a:lnTo>
                      <a:pt x="139" y="271"/>
                    </a:lnTo>
                    <a:lnTo>
                      <a:pt x="116" y="296"/>
                    </a:lnTo>
                    <a:lnTo>
                      <a:pt x="93" y="320"/>
                    </a:lnTo>
                    <a:lnTo>
                      <a:pt x="70" y="342"/>
                    </a:lnTo>
                    <a:lnTo>
                      <a:pt x="49" y="361"/>
                    </a:lnTo>
                    <a:lnTo>
                      <a:pt x="37" y="369"/>
                    </a:lnTo>
                    <a:lnTo>
                      <a:pt x="27" y="377"/>
                    </a:lnTo>
                    <a:lnTo>
                      <a:pt x="16" y="384"/>
                    </a:lnTo>
                    <a:lnTo>
                      <a:pt x="5" y="390"/>
                    </a:lnTo>
                    <a:lnTo>
                      <a:pt x="11" y="413"/>
                    </a:lnTo>
                    <a:lnTo>
                      <a:pt x="5" y="390"/>
                    </a:lnTo>
                    <a:lnTo>
                      <a:pt x="2" y="393"/>
                    </a:lnTo>
                    <a:lnTo>
                      <a:pt x="0" y="398"/>
                    </a:lnTo>
                    <a:lnTo>
                      <a:pt x="0" y="402"/>
                    </a:lnTo>
                    <a:lnTo>
                      <a:pt x="1" y="406"/>
                    </a:lnTo>
                    <a:lnTo>
                      <a:pt x="3" y="410"/>
                    </a:lnTo>
                    <a:lnTo>
                      <a:pt x="8" y="413"/>
                    </a:lnTo>
                    <a:lnTo>
                      <a:pt x="12" y="413"/>
                    </a:lnTo>
                    <a:lnTo>
                      <a:pt x="17" y="411"/>
                    </a:lnTo>
                    <a:lnTo>
                      <a:pt x="11" y="3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460760" y="403560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4" h="85">
                    <a:moveTo>
                      <a:pt x="459" y="22"/>
                    </a:moveTo>
                    <a:lnTo>
                      <a:pt x="452" y="0"/>
                    </a:lnTo>
                    <a:lnTo>
                      <a:pt x="424" y="0"/>
                    </a:lnTo>
                    <a:lnTo>
                      <a:pt x="395" y="3"/>
                    </a:lnTo>
                    <a:lnTo>
                      <a:pt x="367" y="6"/>
                    </a:lnTo>
                    <a:lnTo>
                      <a:pt x="338" y="9"/>
                    </a:lnTo>
                    <a:lnTo>
                      <a:pt x="281" y="20"/>
                    </a:lnTo>
                    <a:lnTo>
                      <a:pt x="224" y="30"/>
                    </a:lnTo>
                    <a:lnTo>
                      <a:pt x="166" y="41"/>
                    </a:lnTo>
                    <a:lnTo>
                      <a:pt x="109" y="52"/>
                    </a:lnTo>
                    <a:lnTo>
                      <a:pt x="82" y="55"/>
                    </a:lnTo>
                    <a:lnTo>
                      <a:pt x="55" y="58"/>
                    </a:lnTo>
                    <a:lnTo>
                      <a:pt x="27" y="60"/>
                    </a:lnTo>
                    <a:lnTo>
                      <a:pt x="0" y="61"/>
                    </a:lnTo>
                    <a:lnTo>
                      <a:pt x="0" y="85"/>
                    </a:lnTo>
                    <a:lnTo>
                      <a:pt x="28" y="83"/>
                    </a:lnTo>
                    <a:lnTo>
                      <a:pt x="57" y="82"/>
                    </a:lnTo>
                    <a:lnTo>
                      <a:pt x="85" y="79"/>
                    </a:lnTo>
                    <a:lnTo>
                      <a:pt x="114" y="75"/>
                    </a:lnTo>
                    <a:lnTo>
                      <a:pt x="171" y="65"/>
                    </a:lnTo>
                    <a:lnTo>
                      <a:pt x="229" y="54"/>
                    </a:lnTo>
                    <a:lnTo>
                      <a:pt x="286" y="44"/>
                    </a:lnTo>
                    <a:lnTo>
                      <a:pt x="343" y="33"/>
                    </a:lnTo>
                    <a:lnTo>
                      <a:pt x="370" y="30"/>
                    </a:lnTo>
                    <a:lnTo>
                      <a:pt x="398" y="26"/>
                    </a:lnTo>
                    <a:lnTo>
                      <a:pt x="425" y="24"/>
                    </a:lnTo>
                    <a:lnTo>
                      <a:pt x="452" y="24"/>
                    </a:lnTo>
                    <a:lnTo>
                      <a:pt x="444" y="3"/>
                    </a:lnTo>
                    <a:lnTo>
                      <a:pt x="452" y="24"/>
                    </a:lnTo>
                    <a:lnTo>
                      <a:pt x="457" y="23"/>
                    </a:lnTo>
                    <a:lnTo>
                      <a:pt x="462" y="21"/>
                    </a:lnTo>
                    <a:lnTo>
                      <a:pt x="464" y="16"/>
                    </a:lnTo>
                    <a:lnTo>
                      <a:pt x="464" y="12"/>
                    </a:lnTo>
                    <a:lnTo>
                      <a:pt x="464" y="7"/>
                    </a:lnTo>
                    <a:lnTo>
                      <a:pt x="462" y="4"/>
                    </a:lnTo>
                    <a:lnTo>
                      <a:pt x="457" y="1"/>
                    </a:lnTo>
                    <a:lnTo>
                      <a:pt x="452" y="0"/>
                    </a:lnTo>
                    <a:lnTo>
                      <a:pt x="459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397400" y="403740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0" h="160">
                    <a:moveTo>
                      <a:pt x="84" y="51"/>
                    </a:moveTo>
                    <a:lnTo>
                      <a:pt x="89" y="44"/>
                    </a:lnTo>
                    <a:lnTo>
                      <a:pt x="61" y="61"/>
                    </a:lnTo>
                    <a:lnTo>
                      <a:pt x="38" y="76"/>
                    </a:lnTo>
                    <a:lnTo>
                      <a:pt x="29" y="84"/>
                    </a:lnTo>
                    <a:lnTo>
                      <a:pt x="21" y="91"/>
                    </a:lnTo>
                    <a:lnTo>
                      <a:pt x="14" y="98"/>
                    </a:lnTo>
                    <a:lnTo>
                      <a:pt x="9" y="103"/>
                    </a:lnTo>
                    <a:lnTo>
                      <a:pt x="5" y="110"/>
                    </a:lnTo>
                    <a:lnTo>
                      <a:pt x="2" y="117"/>
                    </a:lnTo>
                    <a:lnTo>
                      <a:pt x="0" y="124"/>
                    </a:lnTo>
                    <a:lnTo>
                      <a:pt x="2" y="132"/>
                    </a:lnTo>
                    <a:lnTo>
                      <a:pt x="4" y="139"/>
                    </a:lnTo>
                    <a:lnTo>
                      <a:pt x="8" y="144"/>
                    </a:lnTo>
                    <a:lnTo>
                      <a:pt x="14" y="149"/>
                    </a:lnTo>
                    <a:lnTo>
                      <a:pt x="21" y="152"/>
                    </a:lnTo>
                    <a:lnTo>
                      <a:pt x="35" y="156"/>
                    </a:lnTo>
                    <a:lnTo>
                      <a:pt x="53" y="159"/>
                    </a:lnTo>
                    <a:lnTo>
                      <a:pt x="72" y="160"/>
                    </a:lnTo>
                    <a:lnTo>
                      <a:pt x="95" y="159"/>
                    </a:lnTo>
                    <a:lnTo>
                      <a:pt x="120" y="158"/>
                    </a:lnTo>
                    <a:lnTo>
                      <a:pt x="147" y="156"/>
                    </a:lnTo>
                    <a:lnTo>
                      <a:pt x="177" y="153"/>
                    </a:lnTo>
                    <a:lnTo>
                      <a:pt x="208" y="149"/>
                    </a:lnTo>
                    <a:lnTo>
                      <a:pt x="273" y="137"/>
                    </a:lnTo>
                    <a:lnTo>
                      <a:pt x="340" y="125"/>
                    </a:lnTo>
                    <a:lnTo>
                      <a:pt x="408" y="109"/>
                    </a:lnTo>
                    <a:lnTo>
                      <a:pt x="473" y="92"/>
                    </a:lnTo>
                    <a:lnTo>
                      <a:pt x="504" y="83"/>
                    </a:lnTo>
                    <a:lnTo>
                      <a:pt x="534" y="74"/>
                    </a:lnTo>
                    <a:lnTo>
                      <a:pt x="561" y="64"/>
                    </a:lnTo>
                    <a:lnTo>
                      <a:pt x="586" y="55"/>
                    </a:lnTo>
                    <a:lnTo>
                      <a:pt x="609" y="46"/>
                    </a:lnTo>
                    <a:lnTo>
                      <a:pt x="629" y="37"/>
                    </a:lnTo>
                    <a:lnTo>
                      <a:pt x="647" y="28"/>
                    </a:lnTo>
                    <a:lnTo>
                      <a:pt x="660" y="19"/>
                    </a:lnTo>
                    <a:lnTo>
                      <a:pt x="645" y="0"/>
                    </a:lnTo>
                    <a:lnTo>
                      <a:pt x="634" y="7"/>
                    </a:lnTo>
                    <a:lnTo>
                      <a:pt x="619" y="15"/>
                    </a:lnTo>
                    <a:lnTo>
                      <a:pt x="600" y="23"/>
                    </a:lnTo>
                    <a:lnTo>
                      <a:pt x="578" y="33"/>
                    </a:lnTo>
                    <a:lnTo>
                      <a:pt x="553" y="42"/>
                    </a:lnTo>
                    <a:lnTo>
                      <a:pt x="526" y="51"/>
                    </a:lnTo>
                    <a:lnTo>
                      <a:pt x="497" y="60"/>
                    </a:lnTo>
                    <a:lnTo>
                      <a:pt x="467" y="69"/>
                    </a:lnTo>
                    <a:lnTo>
                      <a:pt x="403" y="85"/>
                    </a:lnTo>
                    <a:lnTo>
                      <a:pt x="335" y="101"/>
                    </a:lnTo>
                    <a:lnTo>
                      <a:pt x="268" y="115"/>
                    </a:lnTo>
                    <a:lnTo>
                      <a:pt x="203" y="125"/>
                    </a:lnTo>
                    <a:lnTo>
                      <a:pt x="174" y="128"/>
                    </a:lnTo>
                    <a:lnTo>
                      <a:pt x="145" y="132"/>
                    </a:lnTo>
                    <a:lnTo>
                      <a:pt x="119" y="134"/>
                    </a:lnTo>
                    <a:lnTo>
                      <a:pt x="94" y="135"/>
                    </a:lnTo>
                    <a:lnTo>
                      <a:pt x="73" y="135"/>
                    </a:lnTo>
                    <a:lnTo>
                      <a:pt x="55" y="134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7" y="128"/>
                    </a:lnTo>
                    <a:lnTo>
                      <a:pt x="25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5" y="125"/>
                    </a:lnTo>
                    <a:lnTo>
                      <a:pt x="27" y="121"/>
                    </a:lnTo>
                    <a:lnTo>
                      <a:pt x="29" y="118"/>
                    </a:lnTo>
                    <a:lnTo>
                      <a:pt x="32" y="114"/>
                    </a:lnTo>
                    <a:lnTo>
                      <a:pt x="38" y="108"/>
                    </a:lnTo>
                    <a:lnTo>
                      <a:pt x="45" y="102"/>
                    </a:lnTo>
                    <a:lnTo>
                      <a:pt x="53" y="96"/>
                    </a:lnTo>
                    <a:lnTo>
                      <a:pt x="74" y="82"/>
                    </a:lnTo>
                    <a:lnTo>
                      <a:pt x="102" y="64"/>
                    </a:lnTo>
                    <a:lnTo>
                      <a:pt x="108" y="58"/>
                    </a:lnTo>
                    <a:lnTo>
                      <a:pt x="102" y="64"/>
                    </a:lnTo>
                    <a:lnTo>
                      <a:pt x="105" y="61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6" y="49"/>
                    </a:lnTo>
                    <a:lnTo>
                      <a:pt x="103" y="44"/>
                    </a:lnTo>
                    <a:lnTo>
                      <a:pt x="100" y="43"/>
                    </a:lnTo>
                    <a:lnTo>
                      <a:pt x="95" y="42"/>
                    </a:lnTo>
                    <a:lnTo>
                      <a:pt x="89" y="44"/>
                    </a:lnTo>
                    <a:lnTo>
                      <a:pt x="84" y="5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2854440" y="4140360"/>
                <a:ext cx="264960" cy="135000"/>
              </a:xfrm>
              <a:custGeom>
                <a:avLst/>
                <a:gdLst/>
                <a:ahLst/>
                <a:rect l="l" t="t" r="r" b="b"/>
                <a:pathLst>
                  <a:path w="834" h="426">
                    <a:moveTo>
                      <a:pt x="483" y="0"/>
                    </a:moveTo>
                    <a:lnTo>
                      <a:pt x="443" y="0"/>
                    </a:lnTo>
                    <a:lnTo>
                      <a:pt x="403" y="0"/>
                    </a:lnTo>
                    <a:lnTo>
                      <a:pt x="362" y="1"/>
                    </a:lnTo>
                    <a:lnTo>
                      <a:pt x="321" y="4"/>
                    </a:lnTo>
                    <a:lnTo>
                      <a:pt x="280" y="8"/>
                    </a:lnTo>
                    <a:lnTo>
                      <a:pt x="240" y="14"/>
                    </a:lnTo>
                    <a:lnTo>
                      <a:pt x="220" y="17"/>
                    </a:lnTo>
                    <a:lnTo>
                      <a:pt x="201" y="21"/>
                    </a:lnTo>
                    <a:lnTo>
                      <a:pt x="182" y="27"/>
                    </a:lnTo>
                    <a:lnTo>
                      <a:pt x="164" y="33"/>
                    </a:lnTo>
                    <a:lnTo>
                      <a:pt x="147" y="40"/>
                    </a:lnTo>
                    <a:lnTo>
                      <a:pt x="130" y="47"/>
                    </a:lnTo>
                    <a:lnTo>
                      <a:pt x="114" y="56"/>
                    </a:lnTo>
                    <a:lnTo>
                      <a:pt x="98" y="65"/>
                    </a:lnTo>
                    <a:lnTo>
                      <a:pt x="84" y="75"/>
                    </a:lnTo>
                    <a:lnTo>
                      <a:pt x="70" y="85"/>
                    </a:lnTo>
                    <a:lnTo>
                      <a:pt x="58" y="98"/>
                    </a:lnTo>
                    <a:lnTo>
                      <a:pt x="46" y="112"/>
                    </a:lnTo>
                    <a:lnTo>
                      <a:pt x="35" y="126"/>
                    </a:lnTo>
                    <a:lnTo>
                      <a:pt x="26" y="142"/>
                    </a:lnTo>
                    <a:lnTo>
                      <a:pt x="18" y="159"/>
                    </a:lnTo>
                    <a:lnTo>
                      <a:pt x="11" y="178"/>
                    </a:lnTo>
                    <a:lnTo>
                      <a:pt x="6" y="197"/>
                    </a:lnTo>
                    <a:lnTo>
                      <a:pt x="2" y="218"/>
                    </a:lnTo>
                    <a:lnTo>
                      <a:pt x="0" y="240"/>
                    </a:lnTo>
                    <a:lnTo>
                      <a:pt x="0" y="264"/>
                    </a:lnTo>
                    <a:lnTo>
                      <a:pt x="45" y="234"/>
                    </a:lnTo>
                    <a:lnTo>
                      <a:pt x="94" y="200"/>
                    </a:lnTo>
                    <a:lnTo>
                      <a:pt x="147" y="165"/>
                    </a:lnTo>
                    <a:lnTo>
                      <a:pt x="199" y="132"/>
                    </a:lnTo>
                    <a:lnTo>
                      <a:pt x="226" y="117"/>
                    </a:lnTo>
                    <a:lnTo>
                      <a:pt x="253" y="102"/>
                    </a:lnTo>
                    <a:lnTo>
                      <a:pt x="280" y="90"/>
                    </a:lnTo>
                    <a:lnTo>
                      <a:pt x="306" y="78"/>
                    </a:lnTo>
                    <a:lnTo>
                      <a:pt x="332" y="69"/>
                    </a:lnTo>
                    <a:lnTo>
                      <a:pt x="359" y="63"/>
                    </a:lnTo>
                    <a:lnTo>
                      <a:pt x="372" y="60"/>
                    </a:lnTo>
                    <a:lnTo>
                      <a:pt x="385" y="58"/>
                    </a:lnTo>
                    <a:lnTo>
                      <a:pt x="397" y="57"/>
                    </a:lnTo>
                    <a:lnTo>
                      <a:pt x="410" y="57"/>
                    </a:lnTo>
                    <a:lnTo>
                      <a:pt x="407" y="74"/>
                    </a:lnTo>
                    <a:lnTo>
                      <a:pt x="402" y="91"/>
                    </a:lnTo>
                    <a:lnTo>
                      <a:pt x="397" y="108"/>
                    </a:lnTo>
                    <a:lnTo>
                      <a:pt x="392" y="126"/>
                    </a:lnTo>
                    <a:lnTo>
                      <a:pt x="379" y="162"/>
                    </a:lnTo>
                    <a:lnTo>
                      <a:pt x="367" y="199"/>
                    </a:lnTo>
                    <a:lnTo>
                      <a:pt x="354" y="237"/>
                    </a:lnTo>
                    <a:lnTo>
                      <a:pt x="345" y="276"/>
                    </a:lnTo>
                    <a:lnTo>
                      <a:pt x="340" y="295"/>
                    </a:lnTo>
                    <a:lnTo>
                      <a:pt x="338" y="314"/>
                    </a:lnTo>
                    <a:lnTo>
                      <a:pt x="336" y="334"/>
                    </a:lnTo>
                    <a:lnTo>
                      <a:pt x="335" y="353"/>
                    </a:lnTo>
                    <a:lnTo>
                      <a:pt x="348" y="353"/>
                    </a:lnTo>
                    <a:lnTo>
                      <a:pt x="362" y="352"/>
                    </a:lnTo>
                    <a:lnTo>
                      <a:pt x="373" y="351"/>
                    </a:lnTo>
                    <a:lnTo>
                      <a:pt x="386" y="349"/>
                    </a:lnTo>
                    <a:lnTo>
                      <a:pt x="397" y="345"/>
                    </a:lnTo>
                    <a:lnTo>
                      <a:pt x="408" y="343"/>
                    </a:lnTo>
                    <a:lnTo>
                      <a:pt x="418" y="338"/>
                    </a:lnTo>
                    <a:lnTo>
                      <a:pt x="427" y="335"/>
                    </a:lnTo>
                    <a:lnTo>
                      <a:pt x="436" y="329"/>
                    </a:lnTo>
                    <a:lnTo>
                      <a:pt x="445" y="325"/>
                    </a:lnTo>
                    <a:lnTo>
                      <a:pt x="453" y="319"/>
                    </a:lnTo>
                    <a:lnTo>
                      <a:pt x="461" y="312"/>
                    </a:lnTo>
                    <a:lnTo>
                      <a:pt x="468" y="305"/>
                    </a:lnTo>
                    <a:lnTo>
                      <a:pt x="475" y="299"/>
                    </a:lnTo>
                    <a:lnTo>
                      <a:pt x="481" y="291"/>
                    </a:lnTo>
                    <a:lnTo>
                      <a:pt x="486" y="283"/>
                    </a:lnTo>
                    <a:lnTo>
                      <a:pt x="497" y="265"/>
                    </a:lnTo>
                    <a:lnTo>
                      <a:pt x="506" y="246"/>
                    </a:lnTo>
                    <a:lnTo>
                      <a:pt x="512" y="224"/>
                    </a:lnTo>
                    <a:lnTo>
                      <a:pt x="518" y="203"/>
                    </a:lnTo>
                    <a:lnTo>
                      <a:pt x="523" y="179"/>
                    </a:lnTo>
                    <a:lnTo>
                      <a:pt x="525" y="154"/>
                    </a:lnTo>
                    <a:lnTo>
                      <a:pt x="527" y="128"/>
                    </a:lnTo>
                    <a:lnTo>
                      <a:pt x="527" y="100"/>
                    </a:lnTo>
                    <a:lnTo>
                      <a:pt x="821" y="426"/>
                    </a:lnTo>
                    <a:lnTo>
                      <a:pt x="828" y="392"/>
                    </a:lnTo>
                    <a:lnTo>
                      <a:pt x="833" y="361"/>
                    </a:lnTo>
                    <a:lnTo>
                      <a:pt x="834" y="332"/>
                    </a:lnTo>
                    <a:lnTo>
                      <a:pt x="832" y="303"/>
                    </a:lnTo>
                    <a:lnTo>
                      <a:pt x="828" y="278"/>
                    </a:lnTo>
                    <a:lnTo>
                      <a:pt x="822" y="253"/>
                    </a:lnTo>
                    <a:lnTo>
                      <a:pt x="813" y="230"/>
                    </a:lnTo>
                    <a:lnTo>
                      <a:pt x="804" y="210"/>
                    </a:lnTo>
                    <a:lnTo>
                      <a:pt x="792" y="190"/>
                    </a:lnTo>
                    <a:lnTo>
                      <a:pt x="779" y="172"/>
                    </a:lnTo>
                    <a:lnTo>
                      <a:pt x="764" y="156"/>
                    </a:lnTo>
                    <a:lnTo>
                      <a:pt x="750" y="140"/>
                    </a:lnTo>
                    <a:lnTo>
                      <a:pt x="732" y="126"/>
                    </a:lnTo>
                    <a:lnTo>
                      <a:pt x="715" y="114"/>
                    </a:lnTo>
                    <a:lnTo>
                      <a:pt x="697" y="101"/>
                    </a:lnTo>
                    <a:lnTo>
                      <a:pt x="679" y="91"/>
                    </a:lnTo>
                    <a:lnTo>
                      <a:pt x="661" y="81"/>
                    </a:lnTo>
                    <a:lnTo>
                      <a:pt x="642" y="72"/>
                    </a:lnTo>
                    <a:lnTo>
                      <a:pt x="624" y="64"/>
                    </a:lnTo>
                    <a:lnTo>
                      <a:pt x="606" y="57"/>
                    </a:lnTo>
                    <a:lnTo>
                      <a:pt x="572" y="43"/>
                    </a:lnTo>
                    <a:lnTo>
                      <a:pt x="541" y="33"/>
                    </a:lnTo>
                    <a:lnTo>
                      <a:pt x="516" y="24"/>
                    </a:lnTo>
                    <a:lnTo>
                      <a:pt x="497" y="16"/>
                    </a:lnTo>
                    <a:lnTo>
                      <a:pt x="490" y="11"/>
                    </a:lnTo>
                    <a:lnTo>
                      <a:pt x="485" y="8"/>
                    </a:lnTo>
                    <a:lnTo>
                      <a:pt x="482" y="3"/>
                    </a:lnTo>
                    <a:lnTo>
                      <a:pt x="483" y="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51200" y="4137120"/>
                <a:ext cx="156960" cy="92160"/>
              </a:xfrm>
              <a:custGeom>
                <a:avLst/>
                <a:gdLst/>
                <a:ahLst/>
                <a:rect l="l" t="t" r="r" b="b"/>
                <a:pathLst>
                  <a:path w="496" h="290">
                    <a:moveTo>
                      <a:pt x="6" y="267"/>
                    </a:moveTo>
                    <a:lnTo>
                      <a:pt x="24" y="277"/>
                    </a:lnTo>
                    <a:lnTo>
                      <a:pt x="25" y="255"/>
                    </a:lnTo>
                    <a:lnTo>
                      <a:pt x="27" y="233"/>
                    </a:lnTo>
                    <a:lnTo>
                      <a:pt x="31" y="212"/>
                    </a:lnTo>
                    <a:lnTo>
                      <a:pt x="37" y="194"/>
                    </a:lnTo>
                    <a:lnTo>
                      <a:pt x="42" y="177"/>
                    </a:lnTo>
                    <a:lnTo>
                      <a:pt x="50" y="161"/>
                    </a:lnTo>
                    <a:lnTo>
                      <a:pt x="58" y="146"/>
                    </a:lnTo>
                    <a:lnTo>
                      <a:pt x="68" y="133"/>
                    </a:lnTo>
                    <a:lnTo>
                      <a:pt x="79" y="119"/>
                    </a:lnTo>
                    <a:lnTo>
                      <a:pt x="91" y="107"/>
                    </a:lnTo>
                    <a:lnTo>
                      <a:pt x="104" y="97"/>
                    </a:lnTo>
                    <a:lnTo>
                      <a:pt x="117" y="88"/>
                    </a:lnTo>
                    <a:lnTo>
                      <a:pt x="132" y="79"/>
                    </a:lnTo>
                    <a:lnTo>
                      <a:pt x="148" y="71"/>
                    </a:lnTo>
                    <a:lnTo>
                      <a:pt x="164" y="64"/>
                    </a:lnTo>
                    <a:lnTo>
                      <a:pt x="181" y="57"/>
                    </a:lnTo>
                    <a:lnTo>
                      <a:pt x="198" y="52"/>
                    </a:lnTo>
                    <a:lnTo>
                      <a:pt x="217" y="47"/>
                    </a:lnTo>
                    <a:lnTo>
                      <a:pt x="236" y="42"/>
                    </a:lnTo>
                    <a:lnTo>
                      <a:pt x="254" y="39"/>
                    </a:lnTo>
                    <a:lnTo>
                      <a:pt x="294" y="33"/>
                    </a:lnTo>
                    <a:lnTo>
                      <a:pt x="334" y="29"/>
                    </a:lnTo>
                    <a:lnTo>
                      <a:pt x="375" y="27"/>
                    </a:lnTo>
                    <a:lnTo>
                      <a:pt x="416" y="25"/>
                    </a:lnTo>
                    <a:lnTo>
                      <a:pt x="456" y="25"/>
                    </a:lnTo>
                    <a:lnTo>
                      <a:pt x="496" y="25"/>
                    </a:lnTo>
                    <a:lnTo>
                      <a:pt x="496" y="0"/>
                    </a:lnTo>
                    <a:lnTo>
                      <a:pt x="456" y="0"/>
                    </a:lnTo>
                    <a:lnTo>
                      <a:pt x="416" y="1"/>
                    </a:lnTo>
                    <a:lnTo>
                      <a:pt x="374" y="3"/>
                    </a:lnTo>
                    <a:lnTo>
                      <a:pt x="333" y="5"/>
                    </a:lnTo>
                    <a:lnTo>
                      <a:pt x="292" y="8"/>
                    </a:lnTo>
                    <a:lnTo>
                      <a:pt x="251" y="15"/>
                    </a:lnTo>
                    <a:lnTo>
                      <a:pt x="230" y="19"/>
                    </a:lnTo>
                    <a:lnTo>
                      <a:pt x="211" y="23"/>
                    </a:lnTo>
                    <a:lnTo>
                      <a:pt x="192" y="29"/>
                    </a:lnTo>
                    <a:lnTo>
                      <a:pt x="173" y="34"/>
                    </a:lnTo>
                    <a:lnTo>
                      <a:pt x="155" y="41"/>
                    </a:lnTo>
                    <a:lnTo>
                      <a:pt x="138" y="49"/>
                    </a:lnTo>
                    <a:lnTo>
                      <a:pt x="121" y="57"/>
                    </a:lnTo>
                    <a:lnTo>
                      <a:pt x="105" y="68"/>
                    </a:lnTo>
                    <a:lnTo>
                      <a:pt x="89" y="78"/>
                    </a:lnTo>
                    <a:lnTo>
                      <a:pt x="75" y="90"/>
                    </a:lnTo>
                    <a:lnTo>
                      <a:pt x="62" y="103"/>
                    </a:lnTo>
                    <a:lnTo>
                      <a:pt x="49" y="117"/>
                    </a:lnTo>
                    <a:lnTo>
                      <a:pt x="39" y="133"/>
                    </a:lnTo>
                    <a:lnTo>
                      <a:pt x="29" y="150"/>
                    </a:lnTo>
                    <a:lnTo>
                      <a:pt x="21" y="167"/>
                    </a:lnTo>
                    <a:lnTo>
                      <a:pt x="13" y="186"/>
                    </a:lnTo>
                    <a:lnTo>
                      <a:pt x="7" y="208"/>
                    </a:lnTo>
                    <a:lnTo>
                      <a:pt x="4" y="229"/>
                    </a:lnTo>
                    <a:lnTo>
                      <a:pt x="1" y="253"/>
                    </a:lnTo>
                    <a:lnTo>
                      <a:pt x="0" y="277"/>
                    </a:lnTo>
                    <a:lnTo>
                      <a:pt x="18" y="288"/>
                    </a:lnTo>
                    <a:lnTo>
                      <a:pt x="0" y="277"/>
                    </a:lnTo>
                    <a:lnTo>
                      <a:pt x="1" y="283"/>
                    </a:lnTo>
                    <a:lnTo>
                      <a:pt x="4" y="286"/>
                    </a:lnTo>
                    <a:lnTo>
                      <a:pt x="8" y="289"/>
                    </a:lnTo>
                    <a:lnTo>
                      <a:pt x="13" y="290"/>
                    </a:lnTo>
                    <a:lnTo>
                      <a:pt x="17" y="289"/>
                    </a:lnTo>
                    <a:lnTo>
                      <a:pt x="21" y="286"/>
                    </a:lnTo>
                    <a:lnTo>
                      <a:pt x="23" y="283"/>
                    </a:lnTo>
                    <a:lnTo>
                      <a:pt x="24" y="277"/>
                    </a:lnTo>
                    <a:lnTo>
                      <a:pt x="6" y="2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852640" y="4154760"/>
                <a:ext cx="135000" cy="73080"/>
              </a:xfrm>
              <a:custGeom>
                <a:avLst/>
                <a:gdLst/>
                <a:ahLst/>
                <a:rect l="l" t="t" r="r" b="b"/>
                <a:pathLst>
                  <a:path w="428" h="231">
                    <a:moveTo>
                      <a:pt x="428" y="15"/>
                    </a:moveTo>
                    <a:lnTo>
                      <a:pt x="417" y="0"/>
                    </a:lnTo>
                    <a:lnTo>
                      <a:pt x="403" y="1"/>
                    </a:lnTo>
                    <a:lnTo>
                      <a:pt x="391" y="3"/>
                    </a:lnTo>
                    <a:lnTo>
                      <a:pt x="377" y="4"/>
                    </a:lnTo>
                    <a:lnTo>
                      <a:pt x="363" y="7"/>
                    </a:lnTo>
                    <a:lnTo>
                      <a:pt x="336" y="14"/>
                    </a:lnTo>
                    <a:lnTo>
                      <a:pt x="310" y="23"/>
                    </a:lnTo>
                    <a:lnTo>
                      <a:pt x="282" y="34"/>
                    </a:lnTo>
                    <a:lnTo>
                      <a:pt x="255" y="48"/>
                    </a:lnTo>
                    <a:lnTo>
                      <a:pt x="228" y="62"/>
                    </a:lnTo>
                    <a:lnTo>
                      <a:pt x="200" y="78"/>
                    </a:lnTo>
                    <a:lnTo>
                      <a:pt x="147" y="111"/>
                    </a:lnTo>
                    <a:lnTo>
                      <a:pt x="94" y="146"/>
                    </a:lnTo>
                    <a:lnTo>
                      <a:pt x="45" y="180"/>
                    </a:lnTo>
                    <a:lnTo>
                      <a:pt x="0" y="210"/>
                    </a:lnTo>
                    <a:lnTo>
                      <a:pt x="12" y="231"/>
                    </a:lnTo>
                    <a:lnTo>
                      <a:pt x="59" y="200"/>
                    </a:lnTo>
                    <a:lnTo>
                      <a:pt x="108" y="166"/>
                    </a:lnTo>
                    <a:lnTo>
                      <a:pt x="159" y="131"/>
                    </a:lnTo>
                    <a:lnTo>
                      <a:pt x="213" y="98"/>
                    </a:lnTo>
                    <a:lnTo>
                      <a:pt x="239" y="84"/>
                    </a:lnTo>
                    <a:lnTo>
                      <a:pt x="265" y="70"/>
                    </a:lnTo>
                    <a:lnTo>
                      <a:pt x="292" y="57"/>
                    </a:lnTo>
                    <a:lnTo>
                      <a:pt x="318" y="46"/>
                    </a:lnTo>
                    <a:lnTo>
                      <a:pt x="344" y="37"/>
                    </a:lnTo>
                    <a:lnTo>
                      <a:pt x="369" y="30"/>
                    </a:lnTo>
                    <a:lnTo>
                      <a:pt x="380" y="28"/>
                    </a:lnTo>
                    <a:lnTo>
                      <a:pt x="393" y="27"/>
                    </a:lnTo>
                    <a:lnTo>
                      <a:pt x="404" y="25"/>
                    </a:lnTo>
                    <a:lnTo>
                      <a:pt x="417" y="25"/>
                    </a:lnTo>
                    <a:lnTo>
                      <a:pt x="404" y="11"/>
                    </a:lnTo>
                    <a:lnTo>
                      <a:pt x="417" y="25"/>
                    </a:lnTo>
                    <a:lnTo>
                      <a:pt x="421" y="24"/>
                    </a:lnTo>
                    <a:lnTo>
                      <a:pt x="426" y="21"/>
                    </a:lnTo>
                    <a:lnTo>
                      <a:pt x="428" y="17"/>
                    </a:lnTo>
                    <a:lnTo>
                      <a:pt x="428" y="13"/>
                    </a:lnTo>
                    <a:lnTo>
                      <a:pt x="428" y="8"/>
                    </a:lnTo>
                    <a:lnTo>
                      <a:pt x="426" y="5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2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957400" y="4158000"/>
                <a:ext cx="30240" cy="98280"/>
              </a:xfrm>
              <a:custGeom>
                <a:avLst/>
                <a:gdLst/>
                <a:ahLst/>
                <a:rect l="l" t="t" r="r" b="b"/>
                <a:pathLst>
                  <a:path w="98" h="311">
                    <a:moveTo>
                      <a:pt x="12" y="286"/>
                    </a:moveTo>
                    <a:lnTo>
                      <a:pt x="24" y="298"/>
                    </a:lnTo>
                    <a:lnTo>
                      <a:pt x="25" y="279"/>
                    </a:lnTo>
                    <a:lnTo>
                      <a:pt x="27" y="261"/>
                    </a:lnTo>
                    <a:lnTo>
                      <a:pt x="30" y="242"/>
                    </a:lnTo>
                    <a:lnTo>
                      <a:pt x="33" y="223"/>
                    </a:lnTo>
                    <a:lnTo>
                      <a:pt x="44" y="185"/>
                    </a:lnTo>
                    <a:lnTo>
                      <a:pt x="55" y="148"/>
                    </a:lnTo>
                    <a:lnTo>
                      <a:pt x="68" y="111"/>
                    </a:lnTo>
                    <a:lnTo>
                      <a:pt x="80" y="75"/>
                    </a:lnTo>
                    <a:lnTo>
                      <a:pt x="86" y="57"/>
                    </a:lnTo>
                    <a:lnTo>
                      <a:pt x="90" y="38"/>
                    </a:lnTo>
                    <a:lnTo>
                      <a:pt x="95" y="21"/>
                    </a:lnTo>
                    <a:lnTo>
                      <a:pt x="98" y="4"/>
                    </a:lnTo>
                    <a:lnTo>
                      <a:pt x="74" y="0"/>
                    </a:lnTo>
                    <a:lnTo>
                      <a:pt x="71" y="16"/>
                    </a:lnTo>
                    <a:lnTo>
                      <a:pt x="68" y="33"/>
                    </a:lnTo>
                    <a:lnTo>
                      <a:pt x="62" y="50"/>
                    </a:lnTo>
                    <a:lnTo>
                      <a:pt x="57" y="67"/>
                    </a:lnTo>
                    <a:lnTo>
                      <a:pt x="45" y="103"/>
                    </a:lnTo>
                    <a:lnTo>
                      <a:pt x="32" y="141"/>
                    </a:lnTo>
                    <a:lnTo>
                      <a:pt x="20" y="179"/>
                    </a:lnTo>
                    <a:lnTo>
                      <a:pt x="9" y="217"/>
                    </a:lnTo>
                    <a:lnTo>
                      <a:pt x="6" y="238"/>
                    </a:lnTo>
                    <a:lnTo>
                      <a:pt x="3" y="257"/>
                    </a:lnTo>
                    <a:lnTo>
                      <a:pt x="0" y="278"/>
                    </a:lnTo>
                    <a:lnTo>
                      <a:pt x="0" y="298"/>
                    </a:lnTo>
                    <a:lnTo>
                      <a:pt x="12" y="311"/>
                    </a:lnTo>
                    <a:lnTo>
                      <a:pt x="0" y="298"/>
                    </a:lnTo>
                    <a:lnTo>
                      <a:pt x="1" y="304"/>
                    </a:lnTo>
                    <a:lnTo>
                      <a:pt x="4" y="307"/>
                    </a:lnTo>
                    <a:lnTo>
                      <a:pt x="7" y="310"/>
                    </a:lnTo>
                    <a:lnTo>
                      <a:pt x="12" y="311"/>
                    </a:lnTo>
                    <a:lnTo>
                      <a:pt x="16" y="310"/>
                    </a:lnTo>
                    <a:lnTo>
                      <a:pt x="21" y="307"/>
                    </a:lnTo>
                    <a:lnTo>
                      <a:pt x="23" y="304"/>
                    </a:lnTo>
                    <a:lnTo>
                      <a:pt x="24" y="298"/>
                    </a:lnTo>
                    <a:lnTo>
                      <a:pt x="12" y="28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2960640" y="4169160"/>
                <a:ext cx="65160" cy="87120"/>
              </a:xfrm>
              <a:custGeom>
                <a:avLst/>
                <a:gdLst/>
                <a:ahLst/>
                <a:rect l="l" t="t" r="r" b="b"/>
                <a:pathLst>
                  <a:path w="205" h="278">
                    <a:moveTo>
                      <a:pt x="201" y="4"/>
                    </a:moveTo>
                    <a:lnTo>
                      <a:pt x="180" y="12"/>
                    </a:lnTo>
                    <a:lnTo>
                      <a:pt x="180" y="40"/>
                    </a:lnTo>
                    <a:lnTo>
                      <a:pt x="179" y="65"/>
                    </a:lnTo>
                    <a:lnTo>
                      <a:pt x="175" y="90"/>
                    </a:lnTo>
                    <a:lnTo>
                      <a:pt x="172" y="112"/>
                    </a:lnTo>
                    <a:lnTo>
                      <a:pt x="166" y="133"/>
                    </a:lnTo>
                    <a:lnTo>
                      <a:pt x="159" y="154"/>
                    </a:lnTo>
                    <a:lnTo>
                      <a:pt x="151" y="172"/>
                    </a:lnTo>
                    <a:lnTo>
                      <a:pt x="141" y="188"/>
                    </a:lnTo>
                    <a:lnTo>
                      <a:pt x="136" y="196"/>
                    </a:lnTo>
                    <a:lnTo>
                      <a:pt x="131" y="203"/>
                    </a:lnTo>
                    <a:lnTo>
                      <a:pt x="124" y="209"/>
                    </a:lnTo>
                    <a:lnTo>
                      <a:pt x="118" y="215"/>
                    </a:lnTo>
                    <a:lnTo>
                      <a:pt x="110" y="221"/>
                    </a:lnTo>
                    <a:lnTo>
                      <a:pt x="103" y="226"/>
                    </a:lnTo>
                    <a:lnTo>
                      <a:pt x="95" y="231"/>
                    </a:lnTo>
                    <a:lnTo>
                      <a:pt x="87" y="236"/>
                    </a:lnTo>
                    <a:lnTo>
                      <a:pt x="78" y="239"/>
                    </a:lnTo>
                    <a:lnTo>
                      <a:pt x="69" y="244"/>
                    </a:lnTo>
                    <a:lnTo>
                      <a:pt x="59" y="246"/>
                    </a:lnTo>
                    <a:lnTo>
                      <a:pt x="49" y="248"/>
                    </a:lnTo>
                    <a:lnTo>
                      <a:pt x="37" y="250"/>
                    </a:lnTo>
                    <a:lnTo>
                      <a:pt x="26" y="252"/>
                    </a:lnTo>
                    <a:lnTo>
                      <a:pt x="13" y="253"/>
                    </a:lnTo>
                    <a:lnTo>
                      <a:pt x="0" y="253"/>
                    </a:lnTo>
                    <a:lnTo>
                      <a:pt x="0" y="278"/>
                    </a:lnTo>
                    <a:lnTo>
                      <a:pt x="15" y="277"/>
                    </a:lnTo>
                    <a:lnTo>
                      <a:pt x="28" y="275"/>
                    </a:lnTo>
                    <a:lnTo>
                      <a:pt x="41" y="274"/>
                    </a:lnTo>
                    <a:lnTo>
                      <a:pt x="53" y="272"/>
                    </a:lnTo>
                    <a:lnTo>
                      <a:pt x="65" y="270"/>
                    </a:lnTo>
                    <a:lnTo>
                      <a:pt x="76" y="266"/>
                    </a:lnTo>
                    <a:lnTo>
                      <a:pt x="87" y="262"/>
                    </a:lnTo>
                    <a:lnTo>
                      <a:pt x="98" y="257"/>
                    </a:lnTo>
                    <a:lnTo>
                      <a:pt x="107" y="253"/>
                    </a:lnTo>
                    <a:lnTo>
                      <a:pt x="117" y="247"/>
                    </a:lnTo>
                    <a:lnTo>
                      <a:pt x="125" y="240"/>
                    </a:lnTo>
                    <a:lnTo>
                      <a:pt x="134" y="233"/>
                    </a:lnTo>
                    <a:lnTo>
                      <a:pt x="141" y="226"/>
                    </a:lnTo>
                    <a:lnTo>
                      <a:pt x="149" y="218"/>
                    </a:lnTo>
                    <a:lnTo>
                      <a:pt x="156" y="209"/>
                    </a:lnTo>
                    <a:lnTo>
                      <a:pt x="162" y="201"/>
                    </a:lnTo>
                    <a:lnTo>
                      <a:pt x="173" y="182"/>
                    </a:lnTo>
                    <a:lnTo>
                      <a:pt x="182" y="163"/>
                    </a:lnTo>
                    <a:lnTo>
                      <a:pt x="189" y="140"/>
                    </a:lnTo>
                    <a:lnTo>
                      <a:pt x="195" y="117"/>
                    </a:lnTo>
                    <a:lnTo>
                      <a:pt x="199" y="93"/>
                    </a:lnTo>
                    <a:lnTo>
                      <a:pt x="203" y="67"/>
                    </a:lnTo>
                    <a:lnTo>
                      <a:pt x="204" y="40"/>
                    </a:lnTo>
                    <a:lnTo>
                      <a:pt x="205" y="12"/>
                    </a:lnTo>
                    <a:lnTo>
                      <a:pt x="183" y="20"/>
                    </a:lnTo>
                    <a:lnTo>
                      <a:pt x="205" y="12"/>
                    </a:lnTo>
                    <a:lnTo>
                      <a:pt x="204" y="6"/>
                    </a:lnTo>
                    <a:lnTo>
                      <a:pt x="200" y="3"/>
                    </a:lnTo>
                    <a:lnTo>
                      <a:pt x="197" y="1"/>
                    </a:lnTo>
                    <a:lnTo>
                      <a:pt x="192" y="0"/>
                    </a:lnTo>
                    <a:lnTo>
                      <a:pt x="188" y="1"/>
                    </a:lnTo>
                    <a:lnTo>
                      <a:pt x="184" y="3"/>
                    </a:lnTo>
                    <a:lnTo>
                      <a:pt x="181" y="6"/>
                    </a:lnTo>
                    <a:lnTo>
                      <a:pt x="180" y="12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019320" y="4170600"/>
                <a:ext cx="100080" cy="108000"/>
              </a:xfrm>
              <a:custGeom>
                <a:avLst/>
                <a:gdLst/>
                <a:ahLst/>
                <a:rect l="l" t="t" r="r" b="b"/>
                <a:pathLst>
                  <a:path w="316" h="342">
                    <a:moveTo>
                      <a:pt x="316" y="336"/>
                    </a:moveTo>
                    <a:lnTo>
                      <a:pt x="312" y="326"/>
                    </a:lnTo>
                    <a:lnTo>
                      <a:pt x="18" y="0"/>
                    </a:lnTo>
                    <a:lnTo>
                      <a:pt x="0" y="16"/>
                    </a:lnTo>
                    <a:lnTo>
                      <a:pt x="295" y="342"/>
                    </a:lnTo>
                    <a:lnTo>
                      <a:pt x="316" y="3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003480" y="4137120"/>
                <a:ext cx="119160" cy="140040"/>
              </a:xfrm>
              <a:custGeom>
                <a:avLst/>
                <a:gdLst/>
                <a:ahLst/>
                <a:rect l="l" t="t" r="r" b="b"/>
                <a:pathLst>
                  <a:path w="375" h="441">
                    <a:moveTo>
                      <a:pt x="13" y="25"/>
                    </a:moveTo>
                    <a:lnTo>
                      <a:pt x="1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3" y="34"/>
                    </a:lnTo>
                    <a:lnTo>
                      <a:pt x="21" y="39"/>
                    </a:lnTo>
                    <a:lnTo>
                      <a:pt x="41" y="48"/>
                    </a:lnTo>
                    <a:lnTo>
                      <a:pt x="68" y="57"/>
                    </a:lnTo>
                    <a:lnTo>
                      <a:pt x="98" y="68"/>
                    </a:lnTo>
                    <a:lnTo>
                      <a:pt x="131" y="80"/>
                    </a:lnTo>
                    <a:lnTo>
                      <a:pt x="150" y="88"/>
                    </a:lnTo>
                    <a:lnTo>
                      <a:pt x="168" y="96"/>
                    </a:lnTo>
                    <a:lnTo>
                      <a:pt x="185" y="104"/>
                    </a:lnTo>
                    <a:lnTo>
                      <a:pt x="203" y="114"/>
                    </a:lnTo>
                    <a:lnTo>
                      <a:pt x="221" y="125"/>
                    </a:lnTo>
                    <a:lnTo>
                      <a:pt x="239" y="136"/>
                    </a:lnTo>
                    <a:lnTo>
                      <a:pt x="256" y="148"/>
                    </a:lnTo>
                    <a:lnTo>
                      <a:pt x="270" y="162"/>
                    </a:lnTo>
                    <a:lnTo>
                      <a:pt x="286" y="177"/>
                    </a:lnTo>
                    <a:lnTo>
                      <a:pt x="300" y="193"/>
                    </a:lnTo>
                    <a:lnTo>
                      <a:pt x="313" y="210"/>
                    </a:lnTo>
                    <a:lnTo>
                      <a:pt x="323" y="228"/>
                    </a:lnTo>
                    <a:lnTo>
                      <a:pt x="329" y="239"/>
                    </a:lnTo>
                    <a:lnTo>
                      <a:pt x="333" y="249"/>
                    </a:lnTo>
                    <a:lnTo>
                      <a:pt x="337" y="259"/>
                    </a:lnTo>
                    <a:lnTo>
                      <a:pt x="340" y="269"/>
                    </a:lnTo>
                    <a:lnTo>
                      <a:pt x="343" y="281"/>
                    </a:lnTo>
                    <a:lnTo>
                      <a:pt x="346" y="293"/>
                    </a:lnTo>
                    <a:lnTo>
                      <a:pt x="348" y="305"/>
                    </a:lnTo>
                    <a:lnTo>
                      <a:pt x="350" y="317"/>
                    </a:lnTo>
                    <a:lnTo>
                      <a:pt x="351" y="331"/>
                    </a:lnTo>
                    <a:lnTo>
                      <a:pt x="351" y="345"/>
                    </a:lnTo>
                    <a:lnTo>
                      <a:pt x="351" y="358"/>
                    </a:lnTo>
                    <a:lnTo>
                      <a:pt x="350" y="373"/>
                    </a:lnTo>
                    <a:lnTo>
                      <a:pt x="349" y="388"/>
                    </a:lnTo>
                    <a:lnTo>
                      <a:pt x="347" y="404"/>
                    </a:lnTo>
                    <a:lnTo>
                      <a:pt x="343" y="420"/>
                    </a:lnTo>
                    <a:lnTo>
                      <a:pt x="340" y="436"/>
                    </a:lnTo>
                    <a:lnTo>
                      <a:pt x="364" y="441"/>
                    </a:lnTo>
                    <a:lnTo>
                      <a:pt x="367" y="424"/>
                    </a:lnTo>
                    <a:lnTo>
                      <a:pt x="371" y="407"/>
                    </a:lnTo>
                    <a:lnTo>
                      <a:pt x="373" y="390"/>
                    </a:lnTo>
                    <a:lnTo>
                      <a:pt x="374" y="374"/>
                    </a:lnTo>
                    <a:lnTo>
                      <a:pt x="375" y="359"/>
                    </a:lnTo>
                    <a:lnTo>
                      <a:pt x="375" y="345"/>
                    </a:lnTo>
                    <a:lnTo>
                      <a:pt x="375" y="330"/>
                    </a:lnTo>
                    <a:lnTo>
                      <a:pt x="374" y="315"/>
                    </a:lnTo>
                    <a:lnTo>
                      <a:pt x="372" y="301"/>
                    </a:lnTo>
                    <a:lnTo>
                      <a:pt x="370" y="288"/>
                    </a:lnTo>
                    <a:lnTo>
                      <a:pt x="367" y="275"/>
                    </a:lnTo>
                    <a:lnTo>
                      <a:pt x="364" y="262"/>
                    </a:lnTo>
                    <a:lnTo>
                      <a:pt x="359" y="251"/>
                    </a:lnTo>
                    <a:lnTo>
                      <a:pt x="355" y="239"/>
                    </a:lnTo>
                    <a:lnTo>
                      <a:pt x="350" y="228"/>
                    </a:lnTo>
                    <a:lnTo>
                      <a:pt x="345" y="217"/>
                    </a:lnTo>
                    <a:lnTo>
                      <a:pt x="332" y="196"/>
                    </a:lnTo>
                    <a:lnTo>
                      <a:pt x="318" y="178"/>
                    </a:lnTo>
                    <a:lnTo>
                      <a:pt x="303" y="160"/>
                    </a:lnTo>
                    <a:lnTo>
                      <a:pt x="288" y="144"/>
                    </a:lnTo>
                    <a:lnTo>
                      <a:pt x="270" y="130"/>
                    </a:lnTo>
                    <a:lnTo>
                      <a:pt x="252" y="117"/>
                    </a:lnTo>
                    <a:lnTo>
                      <a:pt x="234" y="104"/>
                    </a:lnTo>
                    <a:lnTo>
                      <a:pt x="216" y="93"/>
                    </a:lnTo>
                    <a:lnTo>
                      <a:pt x="196" y="84"/>
                    </a:lnTo>
                    <a:lnTo>
                      <a:pt x="178" y="74"/>
                    </a:lnTo>
                    <a:lnTo>
                      <a:pt x="159" y="65"/>
                    </a:lnTo>
                    <a:lnTo>
                      <a:pt x="141" y="58"/>
                    </a:lnTo>
                    <a:lnTo>
                      <a:pt x="106" y="45"/>
                    </a:lnTo>
                    <a:lnTo>
                      <a:pt x="76" y="34"/>
                    </a:lnTo>
                    <a:lnTo>
                      <a:pt x="49" y="25"/>
                    </a:lnTo>
                    <a:lnTo>
                      <a:pt x="31" y="17"/>
                    </a:lnTo>
                    <a:lnTo>
                      <a:pt x="27" y="14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4" y="13"/>
                    </a:lnTo>
                    <a:lnTo>
                      <a:pt x="24" y="15"/>
                    </a:lnTo>
                    <a:lnTo>
                      <a:pt x="24" y="16"/>
                    </a:lnTo>
                    <a:lnTo>
                      <a:pt x="13" y="0"/>
                    </a:lnTo>
                    <a:lnTo>
                      <a:pt x="24" y="16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1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13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981600" y="3773880"/>
                <a:ext cx="31248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6" y="407"/>
                    </a:moveTo>
                    <a:lnTo>
                      <a:pt x="671" y="436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7"/>
                    </a:lnTo>
                    <a:lnTo>
                      <a:pt x="673" y="591"/>
                    </a:lnTo>
                    <a:lnTo>
                      <a:pt x="678" y="655"/>
                    </a:lnTo>
                    <a:lnTo>
                      <a:pt x="678" y="688"/>
                    </a:lnTo>
                    <a:lnTo>
                      <a:pt x="678" y="719"/>
                    </a:lnTo>
                    <a:lnTo>
                      <a:pt x="676" y="753"/>
                    </a:lnTo>
                    <a:lnTo>
                      <a:pt x="671" y="784"/>
                    </a:lnTo>
                    <a:lnTo>
                      <a:pt x="669" y="800"/>
                    </a:lnTo>
                    <a:lnTo>
                      <a:pt x="664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3"/>
                    </a:lnTo>
                    <a:lnTo>
                      <a:pt x="642" y="879"/>
                    </a:lnTo>
                    <a:lnTo>
                      <a:pt x="635" y="894"/>
                    </a:lnTo>
                    <a:lnTo>
                      <a:pt x="626" y="910"/>
                    </a:lnTo>
                    <a:lnTo>
                      <a:pt x="613" y="902"/>
                    </a:lnTo>
                    <a:lnTo>
                      <a:pt x="602" y="893"/>
                    </a:lnTo>
                    <a:lnTo>
                      <a:pt x="590" y="883"/>
                    </a:lnTo>
                    <a:lnTo>
                      <a:pt x="579" y="871"/>
                    </a:lnTo>
                    <a:lnTo>
                      <a:pt x="569" y="860"/>
                    </a:lnTo>
                    <a:lnTo>
                      <a:pt x="557" y="847"/>
                    </a:lnTo>
                    <a:lnTo>
                      <a:pt x="547" y="833"/>
                    </a:lnTo>
                    <a:lnTo>
                      <a:pt x="537" y="819"/>
                    </a:lnTo>
                    <a:lnTo>
                      <a:pt x="526" y="804"/>
                    </a:lnTo>
                    <a:lnTo>
                      <a:pt x="517" y="789"/>
                    </a:lnTo>
                    <a:lnTo>
                      <a:pt x="508" y="773"/>
                    </a:lnTo>
                    <a:lnTo>
                      <a:pt x="500" y="756"/>
                    </a:lnTo>
                    <a:lnTo>
                      <a:pt x="492" y="739"/>
                    </a:lnTo>
                    <a:lnTo>
                      <a:pt x="484" y="722"/>
                    </a:lnTo>
                    <a:lnTo>
                      <a:pt x="477" y="705"/>
                    </a:lnTo>
                    <a:lnTo>
                      <a:pt x="472" y="686"/>
                    </a:lnTo>
                    <a:lnTo>
                      <a:pt x="466" y="668"/>
                    </a:lnTo>
                    <a:lnTo>
                      <a:pt x="460" y="650"/>
                    </a:lnTo>
                    <a:lnTo>
                      <a:pt x="457" y="632"/>
                    </a:lnTo>
                    <a:lnTo>
                      <a:pt x="452" y="613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7" y="560"/>
                    </a:lnTo>
                    <a:lnTo>
                      <a:pt x="445" y="543"/>
                    </a:lnTo>
                    <a:lnTo>
                      <a:pt x="447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7" y="461"/>
                    </a:lnTo>
                    <a:lnTo>
                      <a:pt x="463" y="446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5" y="450"/>
                    </a:lnTo>
                    <a:lnTo>
                      <a:pt x="443" y="464"/>
                    </a:lnTo>
                    <a:lnTo>
                      <a:pt x="432" y="477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1" y="521"/>
                    </a:lnTo>
                    <a:lnTo>
                      <a:pt x="367" y="529"/>
                    </a:lnTo>
                    <a:lnTo>
                      <a:pt x="353" y="537"/>
                    </a:lnTo>
                    <a:lnTo>
                      <a:pt x="338" y="545"/>
                    </a:lnTo>
                    <a:lnTo>
                      <a:pt x="324" y="552"/>
                    </a:lnTo>
                    <a:lnTo>
                      <a:pt x="309" y="558"/>
                    </a:lnTo>
                    <a:lnTo>
                      <a:pt x="294" y="562"/>
                    </a:lnTo>
                    <a:lnTo>
                      <a:pt x="278" y="567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4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2"/>
                    </a:lnTo>
                    <a:lnTo>
                      <a:pt x="33" y="579"/>
                    </a:lnTo>
                    <a:lnTo>
                      <a:pt x="0" y="575"/>
                    </a:lnTo>
                    <a:lnTo>
                      <a:pt x="17" y="550"/>
                    </a:lnTo>
                    <a:lnTo>
                      <a:pt x="33" y="525"/>
                    </a:lnTo>
                    <a:lnTo>
                      <a:pt x="48" y="503"/>
                    </a:lnTo>
                    <a:lnTo>
                      <a:pt x="63" y="482"/>
                    </a:lnTo>
                    <a:lnTo>
                      <a:pt x="77" y="463"/>
                    </a:lnTo>
                    <a:lnTo>
                      <a:pt x="91" y="446"/>
                    </a:lnTo>
                    <a:lnTo>
                      <a:pt x="105" y="431"/>
                    </a:lnTo>
                    <a:lnTo>
                      <a:pt x="118" y="416"/>
                    </a:lnTo>
                    <a:lnTo>
                      <a:pt x="132" y="404"/>
                    </a:lnTo>
                    <a:lnTo>
                      <a:pt x="145" y="392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5" y="366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0"/>
                    </a:lnTo>
                    <a:lnTo>
                      <a:pt x="237" y="347"/>
                    </a:lnTo>
                    <a:lnTo>
                      <a:pt x="251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0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6" y="317"/>
                    </a:lnTo>
                    <a:lnTo>
                      <a:pt x="510" y="292"/>
                    </a:lnTo>
                    <a:lnTo>
                      <a:pt x="521" y="233"/>
                    </a:lnTo>
                    <a:lnTo>
                      <a:pt x="532" y="169"/>
                    </a:lnTo>
                    <a:lnTo>
                      <a:pt x="539" y="137"/>
                    </a:lnTo>
                    <a:lnTo>
                      <a:pt x="548" y="106"/>
                    </a:lnTo>
                    <a:lnTo>
                      <a:pt x="553" y="91"/>
                    </a:lnTo>
                    <a:lnTo>
                      <a:pt x="557" y="78"/>
                    </a:lnTo>
                    <a:lnTo>
                      <a:pt x="563" y="65"/>
                    </a:lnTo>
                    <a:lnTo>
                      <a:pt x="569" y="53"/>
                    </a:lnTo>
                    <a:lnTo>
                      <a:pt x="574" y="41"/>
                    </a:lnTo>
                    <a:lnTo>
                      <a:pt x="581" y="31"/>
                    </a:lnTo>
                    <a:lnTo>
                      <a:pt x="588" y="22"/>
                    </a:lnTo>
                    <a:lnTo>
                      <a:pt x="596" y="15"/>
                    </a:lnTo>
                    <a:lnTo>
                      <a:pt x="604" y="8"/>
                    </a:lnTo>
                    <a:lnTo>
                      <a:pt x="612" y="4"/>
                    </a:lnTo>
                    <a:lnTo>
                      <a:pt x="621" y="1"/>
                    </a:lnTo>
                    <a:lnTo>
                      <a:pt x="630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4"/>
                    </a:lnTo>
                    <a:lnTo>
                      <a:pt x="760" y="34"/>
                    </a:lnTo>
                    <a:lnTo>
                      <a:pt x="781" y="46"/>
                    </a:lnTo>
                    <a:lnTo>
                      <a:pt x="801" y="58"/>
                    </a:lnTo>
                    <a:lnTo>
                      <a:pt x="822" y="72"/>
                    </a:lnTo>
                    <a:lnTo>
                      <a:pt x="841" y="87"/>
                    </a:lnTo>
                    <a:lnTo>
                      <a:pt x="859" y="103"/>
                    </a:lnTo>
                    <a:lnTo>
                      <a:pt x="876" y="120"/>
                    </a:lnTo>
                    <a:lnTo>
                      <a:pt x="892" y="137"/>
                    </a:lnTo>
                    <a:lnTo>
                      <a:pt x="908" y="154"/>
                    </a:lnTo>
                    <a:lnTo>
                      <a:pt x="922" y="172"/>
                    </a:lnTo>
                    <a:lnTo>
                      <a:pt x="933" y="191"/>
                    </a:lnTo>
                    <a:lnTo>
                      <a:pt x="945" y="209"/>
                    </a:lnTo>
                    <a:lnTo>
                      <a:pt x="954" y="228"/>
                    </a:lnTo>
                    <a:lnTo>
                      <a:pt x="961" y="246"/>
                    </a:lnTo>
                    <a:lnTo>
                      <a:pt x="965" y="263"/>
                    </a:lnTo>
                    <a:lnTo>
                      <a:pt x="969" y="282"/>
                    </a:lnTo>
                    <a:lnTo>
                      <a:pt x="970" y="299"/>
                    </a:lnTo>
                    <a:lnTo>
                      <a:pt x="967" y="315"/>
                    </a:lnTo>
                    <a:lnTo>
                      <a:pt x="964" y="331"/>
                    </a:lnTo>
                    <a:lnTo>
                      <a:pt x="957" y="346"/>
                    </a:lnTo>
                    <a:lnTo>
                      <a:pt x="948" y="359"/>
                    </a:lnTo>
                    <a:lnTo>
                      <a:pt x="936" y="373"/>
                    </a:lnTo>
                    <a:lnTo>
                      <a:pt x="921" y="384"/>
                    </a:lnTo>
                    <a:lnTo>
                      <a:pt x="903" y="393"/>
                    </a:lnTo>
                    <a:lnTo>
                      <a:pt x="881" y="403"/>
                    </a:lnTo>
                    <a:lnTo>
                      <a:pt x="856" y="409"/>
                    </a:lnTo>
                    <a:lnTo>
                      <a:pt x="828" y="414"/>
                    </a:lnTo>
                    <a:lnTo>
                      <a:pt x="782" y="420"/>
                    </a:lnTo>
                    <a:lnTo>
                      <a:pt x="753" y="424"/>
                    </a:lnTo>
                    <a:lnTo>
                      <a:pt x="745" y="425"/>
                    </a:lnTo>
                    <a:lnTo>
                      <a:pt x="742" y="427"/>
                    </a:lnTo>
                    <a:lnTo>
                      <a:pt x="741" y="428"/>
                    </a:lnTo>
                    <a:lnTo>
                      <a:pt x="744" y="429"/>
                    </a:lnTo>
                    <a:lnTo>
                      <a:pt x="778" y="436"/>
                    </a:lnTo>
                    <a:lnTo>
                      <a:pt x="840" y="448"/>
                    </a:lnTo>
                    <a:lnTo>
                      <a:pt x="856" y="453"/>
                    </a:lnTo>
                    <a:lnTo>
                      <a:pt x="873" y="458"/>
                    </a:lnTo>
                    <a:lnTo>
                      <a:pt x="890" y="464"/>
                    </a:lnTo>
                    <a:lnTo>
                      <a:pt x="906" y="472"/>
                    </a:lnTo>
                    <a:lnTo>
                      <a:pt x="922" y="480"/>
                    </a:lnTo>
                    <a:lnTo>
                      <a:pt x="936" y="489"/>
                    </a:lnTo>
                    <a:lnTo>
                      <a:pt x="949" y="501"/>
                    </a:lnTo>
                    <a:lnTo>
                      <a:pt x="961" y="512"/>
                    </a:lnTo>
                    <a:lnTo>
                      <a:pt x="970" y="526"/>
                    </a:lnTo>
                    <a:lnTo>
                      <a:pt x="977" y="539"/>
                    </a:lnTo>
                    <a:lnTo>
                      <a:pt x="980" y="555"/>
                    </a:lnTo>
                    <a:lnTo>
                      <a:pt x="981" y="574"/>
                    </a:lnTo>
                    <a:lnTo>
                      <a:pt x="979" y="593"/>
                    </a:lnTo>
                    <a:lnTo>
                      <a:pt x="974" y="613"/>
                    </a:lnTo>
                    <a:lnTo>
                      <a:pt x="964" y="637"/>
                    </a:lnTo>
                    <a:lnTo>
                      <a:pt x="950" y="661"/>
                    </a:lnTo>
                    <a:lnTo>
                      <a:pt x="908" y="635"/>
                    </a:lnTo>
                    <a:lnTo>
                      <a:pt x="866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9" y="551"/>
                    </a:lnTo>
                    <a:lnTo>
                      <a:pt x="770" y="535"/>
                    </a:lnTo>
                    <a:lnTo>
                      <a:pt x="753" y="519"/>
                    </a:lnTo>
                    <a:lnTo>
                      <a:pt x="737" y="503"/>
                    </a:lnTo>
                    <a:lnTo>
                      <a:pt x="722" y="485"/>
                    </a:lnTo>
                    <a:lnTo>
                      <a:pt x="709" y="466"/>
                    </a:lnTo>
                    <a:lnTo>
                      <a:pt x="696" y="448"/>
                    </a:lnTo>
                    <a:lnTo>
                      <a:pt x="685" y="428"/>
                    </a:lnTo>
                    <a:lnTo>
                      <a:pt x="676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4176720" y="390240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8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5"/>
                    </a:lnTo>
                    <a:lnTo>
                      <a:pt x="40" y="479"/>
                    </a:lnTo>
                    <a:lnTo>
                      <a:pt x="47" y="463"/>
                    </a:lnTo>
                    <a:lnTo>
                      <a:pt x="54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1" y="382"/>
                    </a:lnTo>
                    <a:lnTo>
                      <a:pt x="75" y="349"/>
                    </a:lnTo>
                    <a:lnTo>
                      <a:pt x="78" y="316"/>
                    </a:lnTo>
                    <a:lnTo>
                      <a:pt x="78" y="283"/>
                    </a:lnTo>
                    <a:lnTo>
                      <a:pt x="76" y="250"/>
                    </a:lnTo>
                    <a:lnTo>
                      <a:pt x="73" y="185"/>
                    </a:lnTo>
                    <a:lnTo>
                      <a:pt x="70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1" y="32"/>
                    </a:lnTo>
                    <a:lnTo>
                      <a:pt x="74" y="4"/>
                    </a:lnTo>
                    <a:lnTo>
                      <a:pt x="50" y="0"/>
                    </a:lnTo>
                    <a:lnTo>
                      <a:pt x="47" y="29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4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4" y="283"/>
                    </a:lnTo>
                    <a:lnTo>
                      <a:pt x="52" y="314"/>
                    </a:lnTo>
                    <a:lnTo>
                      <a:pt x="51" y="346"/>
                    </a:lnTo>
                    <a:lnTo>
                      <a:pt x="47" y="377"/>
                    </a:lnTo>
                    <a:lnTo>
                      <a:pt x="43" y="393"/>
                    </a:lnTo>
                    <a:lnTo>
                      <a:pt x="40" y="408"/>
                    </a:lnTo>
                    <a:lnTo>
                      <a:pt x="35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8" y="495"/>
                    </a:lnTo>
                    <a:lnTo>
                      <a:pt x="2" y="498"/>
                    </a:lnTo>
                    <a:lnTo>
                      <a:pt x="0" y="503"/>
                    </a:lnTo>
                    <a:lnTo>
                      <a:pt x="0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119480" y="3903840"/>
                <a:ext cx="63720" cy="16200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53" y="18"/>
                    </a:moveTo>
                    <a:lnTo>
                      <a:pt x="32" y="6"/>
                    </a:lnTo>
                    <a:lnTo>
                      <a:pt x="24" y="20"/>
                    </a:lnTo>
                    <a:lnTo>
                      <a:pt x="17" y="35"/>
                    </a:lnTo>
                    <a:lnTo>
                      <a:pt x="11" y="50"/>
                    </a:lnTo>
                    <a:lnTo>
                      <a:pt x="7" y="66"/>
                    </a:lnTo>
                    <a:lnTo>
                      <a:pt x="4" y="83"/>
                    </a:lnTo>
                    <a:lnTo>
                      <a:pt x="1" y="100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1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1" y="265"/>
                    </a:lnTo>
                    <a:lnTo>
                      <a:pt x="26" y="283"/>
                    </a:lnTo>
                    <a:lnTo>
                      <a:pt x="32" y="301"/>
                    </a:lnTo>
                    <a:lnTo>
                      <a:pt x="40" y="319"/>
                    </a:lnTo>
                    <a:lnTo>
                      <a:pt x="47" y="338"/>
                    </a:lnTo>
                    <a:lnTo>
                      <a:pt x="55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19"/>
                    </a:lnTo>
                    <a:lnTo>
                      <a:pt x="103" y="433"/>
                    </a:lnTo>
                    <a:lnTo>
                      <a:pt x="114" y="447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0" y="495"/>
                    </a:lnTo>
                    <a:lnTo>
                      <a:pt x="172" y="504"/>
                    </a:lnTo>
                    <a:lnTo>
                      <a:pt x="185" y="513"/>
                    </a:lnTo>
                    <a:lnTo>
                      <a:pt x="197" y="493"/>
                    </a:lnTo>
                    <a:lnTo>
                      <a:pt x="187" y="485"/>
                    </a:lnTo>
                    <a:lnTo>
                      <a:pt x="176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2" y="432"/>
                    </a:lnTo>
                    <a:lnTo>
                      <a:pt x="122" y="420"/>
                    </a:lnTo>
                    <a:lnTo>
                      <a:pt x="113" y="405"/>
                    </a:lnTo>
                    <a:lnTo>
                      <a:pt x="103" y="391"/>
                    </a:lnTo>
                    <a:lnTo>
                      <a:pt x="94" y="375"/>
                    </a:lnTo>
                    <a:lnTo>
                      <a:pt x="86" y="360"/>
                    </a:lnTo>
                    <a:lnTo>
                      <a:pt x="78" y="344"/>
                    </a:lnTo>
                    <a:lnTo>
                      <a:pt x="70" y="327"/>
                    </a:lnTo>
                    <a:lnTo>
                      <a:pt x="62" y="310"/>
                    </a:lnTo>
                    <a:lnTo>
                      <a:pt x="55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7" y="187"/>
                    </a:lnTo>
                    <a:lnTo>
                      <a:pt x="26" y="170"/>
                    </a:lnTo>
                    <a:lnTo>
                      <a:pt x="24" y="153"/>
                    </a:lnTo>
                    <a:lnTo>
                      <a:pt x="24" y="136"/>
                    </a:lnTo>
                    <a:lnTo>
                      <a:pt x="24" y="119"/>
                    </a:lnTo>
                    <a:lnTo>
                      <a:pt x="26" y="103"/>
                    </a:lnTo>
                    <a:lnTo>
                      <a:pt x="27" y="87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3"/>
                    </a:lnTo>
                    <a:lnTo>
                      <a:pt x="46" y="31"/>
                    </a:lnTo>
                    <a:lnTo>
                      <a:pt x="53" y="18"/>
                    </a:lnTo>
                    <a:lnTo>
                      <a:pt x="32" y="6"/>
                    </a:lnTo>
                    <a:lnTo>
                      <a:pt x="53" y="18"/>
                    </a:lnTo>
                    <a:lnTo>
                      <a:pt x="55" y="14"/>
                    </a:lnTo>
                    <a:lnTo>
                      <a:pt x="54" y="9"/>
                    </a:lnTo>
                    <a:lnTo>
                      <a:pt x="53" y="5"/>
                    </a:lnTo>
                    <a:lnTo>
                      <a:pt x="49" y="2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78360" y="390564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" y="156"/>
                    </a:moveTo>
                    <a:lnTo>
                      <a:pt x="11" y="174"/>
                    </a:lnTo>
                    <a:lnTo>
                      <a:pt x="44" y="178"/>
                    </a:lnTo>
                    <a:lnTo>
                      <a:pt x="77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6" y="177"/>
                    </a:lnTo>
                    <a:lnTo>
                      <a:pt x="277" y="170"/>
                    </a:lnTo>
                    <a:lnTo>
                      <a:pt x="293" y="166"/>
                    </a:lnTo>
                    <a:lnTo>
                      <a:pt x="309" y="161"/>
                    </a:lnTo>
                    <a:lnTo>
                      <a:pt x="325" y="156"/>
                    </a:lnTo>
                    <a:lnTo>
                      <a:pt x="340" y="149"/>
                    </a:lnTo>
                    <a:lnTo>
                      <a:pt x="356" y="142"/>
                    </a:lnTo>
                    <a:lnTo>
                      <a:pt x="371" y="135"/>
                    </a:lnTo>
                    <a:lnTo>
                      <a:pt x="385" y="126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39" y="85"/>
                    </a:lnTo>
                    <a:lnTo>
                      <a:pt x="453" y="73"/>
                    </a:lnTo>
                    <a:lnTo>
                      <a:pt x="464" y="59"/>
                    </a:lnTo>
                    <a:lnTo>
                      <a:pt x="477" y="44"/>
                    </a:lnTo>
                    <a:lnTo>
                      <a:pt x="488" y="29"/>
                    </a:lnTo>
                    <a:lnTo>
                      <a:pt x="499" y="12"/>
                    </a:lnTo>
                    <a:lnTo>
                      <a:pt x="478" y="0"/>
                    </a:lnTo>
                    <a:lnTo>
                      <a:pt x="468" y="15"/>
                    </a:lnTo>
                    <a:lnTo>
                      <a:pt x="457" y="29"/>
                    </a:lnTo>
                    <a:lnTo>
                      <a:pt x="446" y="43"/>
                    </a:lnTo>
                    <a:lnTo>
                      <a:pt x="435" y="56"/>
                    </a:lnTo>
                    <a:lnTo>
                      <a:pt x="423" y="67"/>
                    </a:lnTo>
                    <a:lnTo>
                      <a:pt x="411" y="78"/>
                    </a:lnTo>
                    <a:lnTo>
                      <a:pt x="398" y="89"/>
                    </a:lnTo>
                    <a:lnTo>
                      <a:pt x="386" y="98"/>
                    </a:lnTo>
                    <a:lnTo>
                      <a:pt x="372" y="106"/>
                    </a:lnTo>
                    <a:lnTo>
                      <a:pt x="359" y="114"/>
                    </a:lnTo>
                    <a:lnTo>
                      <a:pt x="345" y="121"/>
                    </a:lnTo>
                    <a:lnTo>
                      <a:pt x="331" y="128"/>
                    </a:lnTo>
                    <a:lnTo>
                      <a:pt x="316" y="133"/>
                    </a:lnTo>
                    <a:lnTo>
                      <a:pt x="303" y="138"/>
                    </a:lnTo>
                    <a:lnTo>
                      <a:pt x="288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7" y="159"/>
                    </a:lnTo>
                    <a:lnTo>
                      <a:pt x="145" y="159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2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70"/>
                    </a:lnTo>
                    <a:lnTo>
                      <a:pt x="5" y="172"/>
                    </a:lnTo>
                    <a:lnTo>
                      <a:pt x="11" y="174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78360" y="3878640"/>
                <a:ext cx="164880" cy="810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493" y="27"/>
                    </a:moveTo>
                    <a:lnTo>
                      <a:pt x="506" y="21"/>
                    </a:lnTo>
                    <a:lnTo>
                      <a:pt x="422" y="11"/>
                    </a:lnTo>
                    <a:lnTo>
                      <a:pt x="352" y="2"/>
                    </a:lnTo>
                    <a:lnTo>
                      <a:pt x="319" y="0"/>
                    </a:lnTo>
                    <a:lnTo>
                      <a:pt x="288" y="0"/>
                    </a:lnTo>
                    <a:lnTo>
                      <a:pt x="273" y="1"/>
                    </a:lnTo>
                    <a:lnTo>
                      <a:pt x="258" y="3"/>
                    </a:lnTo>
                    <a:lnTo>
                      <a:pt x="245" y="5"/>
                    </a:lnTo>
                    <a:lnTo>
                      <a:pt x="230" y="9"/>
                    </a:lnTo>
                    <a:lnTo>
                      <a:pt x="216" y="13"/>
                    </a:lnTo>
                    <a:lnTo>
                      <a:pt x="202" y="19"/>
                    </a:lnTo>
                    <a:lnTo>
                      <a:pt x="189" y="26"/>
                    </a:lnTo>
                    <a:lnTo>
                      <a:pt x="175" y="34"/>
                    </a:lnTo>
                    <a:lnTo>
                      <a:pt x="161" y="43"/>
                    </a:lnTo>
                    <a:lnTo>
                      <a:pt x="148" y="53"/>
                    </a:lnTo>
                    <a:lnTo>
                      <a:pt x="134" y="65"/>
                    </a:lnTo>
                    <a:lnTo>
                      <a:pt x="120" y="78"/>
                    </a:lnTo>
                    <a:lnTo>
                      <a:pt x="106" y="93"/>
                    </a:lnTo>
                    <a:lnTo>
                      <a:pt x="92" y="108"/>
                    </a:lnTo>
                    <a:lnTo>
                      <a:pt x="77" y="126"/>
                    </a:lnTo>
                    <a:lnTo>
                      <a:pt x="63" y="146"/>
                    </a:lnTo>
                    <a:lnTo>
                      <a:pt x="47" y="166"/>
                    </a:lnTo>
                    <a:lnTo>
                      <a:pt x="33" y="188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0" y="252"/>
                    </a:lnTo>
                    <a:lnTo>
                      <a:pt x="37" y="225"/>
                    </a:lnTo>
                    <a:lnTo>
                      <a:pt x="52" y="201"/>
                    </a:lnTo>
                    <a:lnTo>
                      <a:pt x="68" y="180"/>
                    </a:lnTo>
                    <a:lnTo>
                      <a:pt x="83" y="159"/>
                    </a:lnTo>
                    <a:lnTo>
                      <a:pt x="96" y="141"/>
                    </a:lnTo>
                    <a:lnTo>
                      <a:pt x="110" y="124"/>
                    </a:lnTo>
                    <a:lnTo>
                      <a:pt x="124" y="109"/>
                    </a:lnTo>
                    <a:lnTo>
                      <a:pt x="138" y="95"/>
                    </a:lnTo>
                    <a:lnTo>
                      <a:pt x="150" y="83"/>
                    </a:lnTo>
                    <a:lnTo>
                      <a:pt x="163" y="73"/>
                    </a:lnTo>
                    <a:lnTo>
                      <a:pt x="175" y="62"/>
                    </a:lnTo>
                    <a:lnTo>
                      <a:pt x="188" y="54"/>
                    </a:lnTo>
                    <a:lnTo>
                      <a:pt x="200" y="47"/>
                    </a:lnTo>
                    <a:lnTo>
                      <a:pt x="212" y="42"/>
                    </a:lnTo>
                    <a:lnTo>
                      <a:pt x="224" y="36"/>
                    </a:lnTo>
                    <a:lnTo>
                      <a:pt x="237" y="33"/>
                    </a:lnTo>
                    <a:lnTo>
                      <a:pt x="249" y="29"/>
                    </a:lnTo>
                    <a:lnTo>
                      <a:pt x="263" y="27"/>
                    </a:lnTo>
                    <a:lnTo>
                      <a:pt x="275" y="25"/>
                    </a:lnTo>
                    <a:lnTo>
                      <a:pt x="289" y="24"/>
                    </a:lnTo>
                    <a:lnTo>
                      <a:pt x="318" y="24"/>
                    </a:lnTo>
                    <a:lnTo>
                      <a:pt x="348" y="26"/>
                    </a:lnTo>
                    <a:lnTo>
                      <a:pt x="419" y="35"/>
                    </a:lnTo>
                    <a:lnTo>
                      <a:pt x="502" y="46"/>
                    </a:lnTo>
                    <a:lnTo>
                      <a:pt x="514" y="41"/>
                    </a:lnTo>
                    <a:lnTo>
                      <a:pt x="502" y="46"/>
                    </a:lnTo>
                    <a:lnTo>
                      <a:pt x="508" y="45"/>
                    </a:lnTo>
                    <a:lnTo>
                      <a:pt x="511" y="43"/>
                    </a:lnTo>
                    <a:lnTo>
                      <a:pt x="515" y="40"/>
                    </a:lnTo>
                    <a:lnTo>
                      <a:pt x="516" y="35"/>
                    </a:lnTo>
                    <a:lnTo>
                      <a:pt x="516" y="30"/>
                    </a:lnTo>
                    <a:lnTo>
                      <a:pt x="514" y="27"/>
                    </a:lnTo>
                    <a:lnTo>
                      <a:pt x="510" y="24"/>
                    </a:lnTo>
                    <a:lnTo>
                      <a:pt x="506" y="21"/>
                    </a:lnTo>
                    <a:lnTo>
                      <a:pt x="493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135320" y="3770640"/>
                <a:ext cx="4608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7" y="0"/>
                    </a:lnTo>
                    <a:lnTo>
                      <a:pt x="136" y="1"/>
                    </a:lnTo>
                    <a:lnTo>
                      <a:pt x="124" y="5"/>
                    </a:lnTo>
                    <a:lnTo>
                      <a:pt x="114" y="10"/>
                    </a:lnTo>
                    <a:lnTo>
                      <a:pt x="105" y="18"/>
                    </a:lnTo>
                    <a:lnTo>
                      <a:pt x="96" y="26"/>
                    </a:lnTo>
                    <a:lnTo>
                      <a:pt x="89" y="36"/>
                    </a:lnTo>
                    <a:lnTo>
                      <a:pt x="81" y="47"/>
                    </a:lnTo>
                    <a:lnTo>
                      <a:pt x="75" y="59"/>
                    </a:lnTo>
                    <a:lnTo>
                      <a:pt x="68" y="71"/>
                    </a:lnTo>
                    <a:lnTo>
                      <a:pt x="63" y="85"/>
                    </a:lnTo>
                    <a:lnTo>
                      <a:pt x="58" y="100"/>
                    </a:lnTo>
                    <a:lnTo>
                      <a:pt x="54" y="115"/>
                    </a:lnTo>
                    <a:lnTo>
                      <a:pt x="45" y="146"/>
                    </a:lnTo>
                    <a:lnTo>
                      <a:pt x="38" y="179"/>
                    </a:lnTo>
                    <a:lnTo>
                      <a:pt x="25" y="244"/>
                    </a:lnTo>
                    <a:lnTo>
                      <a:pt x="16" y="302"/>
                    </a:lnTo>
                    <a:lnTo>
                      <a:pt x="12" y="327"/>
                    </a:lnTo>
                    <a:lnTo>
                      <a:pt x="7" y="347"/>
                    </a:lnTo>
                    <a:lnTo>
                      <a:pt x="4" y="362"/>
                    </a:lnTo>
                    <a:lnTo>
                      <a:pt x="0" y="369"/>
                    </a:lnTo>
                    <a:lnTo>
                      <a:pt x="21" y="383"/>
                    </a:lnTo>
                    <a:lnTo>
                      <a:pt x="26" y="369"/>
                    </a:lnTo>
                    <a:lnTo>
                      <a:pt x="31" y="353"/>
                    </a:lnTo>
                    <a:lnTo>
                      <a:pt x="35" y="331"/>
                    </a:lnTo>
                    <a:lnTo>
                      <a:pt x="40" y="306"/>
                    </a:lnTo>
                    <a:lnTo>
                      <a:pt x="49" y="247"/>
                    </a:lnTo>
                    <a:lnTo>
                      <a:pt x="61" y="183"/>
                    </a:lnTo>
                    <a:lnTo>
                      <a:pt x="68" y="152"/>
                    </a:lnTo>
                    <a:lnTo>
                      <a:pt x="76" y="122"/>
                    </a:lnTo>
                    <a:lnTo>
                      <a:pt x="81" y="108"/>
                    </a:lnTo>
                    <a:lnTo>
                      <a:pt x="86" y="94"/>
                    </a:lnTo>
                    <a:lnTo>
                      <a:pt x="91" y="82"/>
                    </a:lnTo>
                    <a:lnTo>
                      <a:pt x="97" y="70"/>
                    </a:lnTo>
                    <a:lnTo>
                      <a:pt x="103" y="59"/>
                    </a:lnTo>
                    <a:lnTo>
                      <a:pt x="108" y="50"/>
                    </a:lnTo>
                    <a:lnTo>
                      <a:pt x="114" y="42"/>
                    </a:lnTo>
                    <a:lnTo>
                      <a:pt x="121" y="36"/>
                    </a:lnTo>
                    <a:lnTo>
                      <a:pt x="128" y="30"/>
                    </a:lnTo>
                    <a:lnTo>
                      <a:pt x="133" y="27"/>
                    </a:lnTo>
                    <a:lnTo>
                      <a:pt x="140" y="25"/>
                    </a:lnTo>
                    <a:lnTo>
                      <a:pt x="147" y="24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181400" y="377064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200" y="439"/>
                    </a:moveTo>
                    <a:lnTo>
                      <a:pt x="200" y="439"/>
                    </a:lnTo>
                    <a:lnTo>
                      <a:pt x="214" y="436"/>
                    </a:lnTo>
                    <a:lnTo>
                      <a:pt x="229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7" y="421"/>
                    </a:lnTo>
                    <a:lnTo>
                      <a:pt x="277" y="417"/>
                    </a:lnTo>
                    <a:lnTo>
                      <a:pt x="287" y="411"/>
                    </a:lnTo>
                    <a:lnTo>
                      <a:pt x="298" y="405"/>
                    </a:lnTo>
                    <a:lnTo>
                      <a:pt x="306" y="400"/>
                    </a:lnTo>
                    <a:lnTo>
                      <a:pt x="314" y="393"/>
                    </a:lnTo>
                    <a:lnTo>
                      <a:pt x="320" y="386"/>
                    </a:lnTo>
                    <a:lnTo>
                      <a:pt x="327" y="379"/>
                    </a:lnTo>
                    <a:lnTo>
                      <a:pt x="333" y="371"/>
                    </a:lnTo>
                    <a:lnTo>
                      <a:pt x="337" y="363"/>
                    </a:lnTo>
                    <a:lnTo>
                      <a:pt x="342" y="355"/>
                    </a:lnTo>
                    <a:lnTo>
                      <a:pt x="345" y="347"/>
                    </a:lnTo>
                    <a:lnTo>
                      <a:pt x="348" y="338"/>
                    </a:lnTo>
                    <a:lnTo>
                      <a:pt x="350" y="329"/>
                    </a:lnTo>
                    <a:lnTo>
                      <a:pt x="351" y="320"/>
                    </a:lnTo>
                    <a:lnTo>
                      <a:pt x="351" y="311"/>
                    </a:lnTo>
                    <a:lnTo>
                      <a:pt x="351" y="293"/>
                    </a:lnTo>
                    <a:lnTo>
                      <a:pt x="348" y="273"/>
                    </a:lnTo>
                    <a:lnTo>
                      <a:pt x="342" y="254"/>
                    </a:lnTo>
                    <a:lnTo>
                      <a:pt x="334" y="234"/>
                    </a:lnTo>
                    <a:lnTo>
                      <a:pt x="325" y="215"/>
                    </a:lnTo>
                    <a:lnTo>
                      <a:pt x="314" y="197"/>
                    </a:lnTo>
                    <a:lnTo>
                      <a:pt x="301" y="177"/>
                    </a:lnTo>
                    <a:lnTo>
                      <a:pt x="287" y="159"/>
                    </a:lnTo>
                    <a:lnTo>
                      <a:pt x="271" y="141"/>
                    </a:lnTo>
                    <a:lnTo>
                      <a:pt x="255" y="123"/>
                    </a:lnTo>
                    <a:lnTo>
                      <a:pt x="237" y="106"/>
                    </a:lnTo>
                    <a:lnTo>
                      <a:pt x="218" y="90"/>
                    </a:lnTo>
                    <a:lnTo>
                      <a:pt x="198" y="75"/>
                    </a:lnTo>
                    <a:lnTo>
                      <a:pt x="178" y="60"/>
                    </a:lnTo>
                    <a:lnTo>
                      <a:pt x="156" y="47"/>
                    </a:lnTo>
                    <a:lnTo>
                      <a:pt x="136" y="36"/>
                    </a:lnTo>
                    <a:lnTo>
                      <a:pt x="113" y="26"/>
                    </a:lnTo>
                    <a:lnTo>
                      <a:pt x="91" y="17"/>
                    </a:lnTo>
                    <a:lnTo>
                      <a:pt x="69" y="10"/>
                    </a:lnTo>
                    <a:lnTo>
                      <a:pt x="46" y="4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1" y="25"/>
                    </a:lnTo>
                    <a:lnTo>
                      <a:pt x="41" y="28"/>
                    </a:lnTo>
                    <a:lnTo>
                      <a:pt x="62" y="33"/>
                    </a:lnTo>
                    <a:lnTo>
                      <a:pt x="82" y="40"/>
                    </a:lnTo>
                    <a:lnTo>
                      <a:pt x="104" y="47"/>
                    </a:lnTo>
                    <a:lnTo>
                      <a:pt x="124" y="58"/>
                    </a:lnTo>
                    <a:lnTo>
                      <a:pt x="145" y="68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3" y="109"/>
                    </a:lnTo>
                    <a:lnTo>
                      <a:pt x="221" y="124"/>
                    </a:lnTo>
                    <a:lnTo>
                      <a:pt x="238" y="140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2" y="191"/>
                    </a:lnTo>
                    <a:lnTo>
                      <a:pt x="293" y="209"/>
                    </a:lnTo>
                    <a:lnTo>
                      <a:pt x="303" y="226"/>
                    </a:lnTo>
                    <a:lnTo>
                      <a:pt x="312" y="245"/>
                    </a:lnTo>
                    <a:lnTo>
                      <a:pt x="319" y="262"/>
                    </a:lnTo>
                    <a:lnTo>
                      <a:pt x="324" y="279"/>
                    </a:lnTo>
                    <a:lnTo>
                      <a:pt x="326" y="295"/>
                    </a:lnTo>
                    <a:lnTo>
                      <a:pt x="327" y="311"/>
                    </a:lnTo>
                    <a:lnTo>
                      <a:pt x="327" y="318"/>
                    </a:lnTo>
                    <a:lnTo>
                      <a:pt x="326" y="326"/>
                    </a:lnTo>
                    <a:lnTo>
                      <a:pt x="325" y="332"/>
                    </a:lnTo>
                    <a:lnTo>
                      <a:pt x="323" y="339"/>
                    </a:lnTo>
                    <a:lnTo>
                      <a:pt x="320" y="346"/>
                    </a:lnTo>
                    <a:lnTo>
                      <a:pt x="317" y="352"/>
                    </a:lnTo>
                    <a:lnTo>
                      <a:pt x="312" y="359"/>
                    </a:lnTo>
                    <a:lnTo>
                      <a:pt x="309" y="364"/>
                    </a:lnTo>
                    <a:lnTo>
                      <a:pt x="303" y="370"/>
                    </a:lnTo>
                    <a:lnTo>
                      <a:pt x="298" y="376"/>
                    </a:lnTo>
                    <a:lnTo>
                      <a:pt x="291" y="380"/>
                    </a:lnTo>
                    <a:lnTo>
                      <a:pt x="284" y="386"/>
                    </a:lnTo>
                    <a:lnTo>
                      <a:pt x="276" y="391"/>
                    </a:lnTo>
                    <a:lnTo>
                      <a:pt x="267" y="395"/>
                    </a:lnTo>
                    <a:lnTo>
                      <a:pt x="258" y="399"/>
                    </a:lnTo>
                    <a:lnTo>
                      <a:pt x="247" y="403"/>
                    </a:lnTo>
                    <a:lnTo>
                      <a:pt x="236" y="407"/>
                    </a:lnTo>
                    <a:lnTo>
                      <a:pt x="224" y="409"/>
                    </a:lnTo>
                    <a:lnTo>
                      <a:pt x="210" y="412"/>
                    </a:lnTo>
                    <a:lnTo>
                      <a:pt x="196" y="415"/>
                    </a:lnTo>
                    <a:lnTo>
                      <a:pt x="196" y="413"/>
                    </a:lnTo>
                    <a:lnTo>
                      <a:pt x="200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4213080" y="390240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4" h="273">
                    <a:moveTo>
                      <a:pt x="215" y="271"/>
                    </a:moveTo>
                    <a:lnTo>
                      <a:pt x="231" y="267"/>
                    </a:lnTo>
                    <a:lnTo>
                      <a:pt x="239" y="254"/>
                    </a:lnTo>
                    <a:lnTo>
                      <a:pt x="245" y="241"/>
                    </a:lnTo>
                    <a:lnTo>
                      <a:pt x="251" y="228"/>
                    </a:lnTo>
                    <a:lnTo>
                      <a:pt x="256" y="217"/>
                    </a:lnTo>
                    <a:lnTo>
                      <a:pt x="259" y="206"/>
                    </a:lnTo>
                    <a:lnTo>
                      <a:pt x="261" y="194"/>
                    </a:lnTo>
                    <a:lnTo>
                      <a:pt x="263" y="183"/>
                    </a:lnTo>
                    <a:lnTo>
                      <a:pt x="264" y="173"/>
                    </a:lnTo>
                    <a:lnTo>
                      <a:pt x="264" y="162"/>
                    </a:lnTo>
                    <a:lnTo>
                      <a:pt x="263" y="153"/>
                    </a:lnTo>
                    <a:lnTo>
                      <a:pt x="260" y="144"/>
                    </a:lnTo>
                    <a:lnTo>
                      <a:pt x="258" y="135"/>
                    </a:lnTo>
                    <a:lnTo>
                      <a:pt x="253" y="126"/>
                    </a:lnTo>
                    <a:lnTo>
                      <a:pt x="250" y="118"/>
                    </a:lnTo>
                    <a:lnTo>
                      <a:pt x="245" y="111"/>
                    </a:lnTo>
                    <a:lnTo>
                      <a:pt x="240" y="103"/>
                    </a:lnTo>
                    <a:lnTo>
                      <a:pt x="227" y="90"/>
                    </a:lnTo>
                    <a:lnTo>
                      <a:pt x="214" y="79"/>
                    </a:lnTo>
                    <a:lnTo>
                      <a:pt x="198" y="69"/>
                    </a:lnTo>
                    <a:lnTo>
                      <a:pt x="182" y="60"/>
                    </a:lnTo>
                    <a:lnTo>
                      <a:pt x="165" y="53"/>
                    </a:lnTo>
                    <a:lnTo>
                      <a:pt x="147" y="46"/>
                    </a:lnTo>
                    <a:lnTo>
                      <a:pt x="129" y="40"/>
                    </a:lnTo>
                    <a:lnTo>
                      <a:pt x="112" y="36"/>
                    </a:lnTo>
                    <a:lnTo>
                      <a:pt x="51" y="23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1" y="20"/>
                    </a:lnTo>
                    <a:lnTo>
                      <a:pt x="22" y="31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25" y="35"/>
                    </a:lnTo>
                    <a:lnTo>
                      <a:pt x="53" y="31"/>
                    </a:lnTo>
                    <a:lnTo>
                      <a:pt x="100" y="26"/>
                    </a:lnTo>
                    <a:lnTo>
                      <a:pt x="96" y="0"/>
                    </a:lnTo>
                    <a:lnTo>
                      <a:pt x="49" y="7"/>
                    </a:lnTo>
                    <a:lnTo>
                      <a:pt x="22" y="11"/>
                    </a:lnTo>
                    <a:lnTo>
                      <a:pt x="13" y="13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2" y="35"/>
                    </a:lnTo>
                    <a:lnTo>
                      <a:pt x="6" y="38"/>
                    </a:lnTo>
                    <a:lnTo>
                      <a:pt x="12" y="40"/>
                    </a:lnTo>
                    <a:lnTo>
                      <a:pt x="46" y="47"/>
                    </a:lnTo>
                    <a:lnTo>
                      <a:pt x="106" y="59"/>
                    </a:lnTo>
                    <a:lnTo>
                      <a:pt x="122" y="63"/>
                    </a:lnTo>
                    <a:lnTo>
                      <a:pt x="139" y="69"/>
                    </a:lnTo>
                    <a:lnTo>
                      <a:pt x="155" y="75"/>
                    </a:lnTo>
                    <a:lnTo>
                      <a:pt x="171" y="81"/>
                    </a:lnTo>
                    <a:lnTo>
                      <a:pt x="185" y="89"/>
                    </a:lnTo>
                    <a:lnTo>
                      <a:pt x="199" y="98"/>
                    </a:lnTo>
                    <a:lnTo>
                      <a:pt x="211" y="108"/>
                    </a:lnTo>
                    <a:lnTo>
                      <a:pt x="222" y="119"/>
                    </a:lnTo>
                    <a:lnTo>
                      <a:pt x="225" y="125"/>
                    </a:lnTo>
                    <a:lnTo>
                      <a:pt x="228" y="130"/>
                    </a:lnTo>
                    <a:lnTo>
                      <a:pt x="232" y="136"/>
                    </a:lnTo>
                    <a:lnTo>
                      <a:pt x="235" y="143"/>
                    </a:lnTo>
                    <a:lnTo>
                      <a:pt x="236" y="150"/>
                    </a:lnTo>
                    <a:lnTo>
                      <a:pt x="239" y="157"/>
                    </a:lnTo>
                    <a:lnTo>
                      <a:pt x="239" y="165"/>
                    </a:lnTo>
                    <a:lnTo>
                      <a:pt x="240" y="173"/>
                    </a:lnTo>
                    <a:lnTo>
                      <a:pt x="239" y="181"/>
                    </a:lnTo>
                    <a:lnTo>
                      <a:pt x="237" y="190"/>
                    </a:lnTo>
                    <a:lnTo>
                      <a:pt x="235" y="199"/>
                    </a:lnTo>
                    <a:lnTo>
                      <a:pt x="233" y="209"/>
                    </a:lnTo>
                    <a:lnTo>
                      <a:pt x="228" y="219"/>
                    </a:lnTo>
                    <a:lnTo>
                      <a:pt x="224" y="231"/>
                    </a:lnTo>
                    <a:lnTo>
                      <a:pt x="218" y="242"/>
                    </a:lnTo>
                    <a:lnTo>
                      <a:pt x="210" y="255"/>
                    </a:lnTo>
                    <a:lnTo>
                      <a:pt x="227" y="250"/>
                    </a:lnTo>
                    <a:lnTo>
                      <a:pt x="210" y="255"/>
                    </a:lnTo>
                    <a:lnTo>
                      <a:pt x="209" y="259"/>
                    </a:lnTo>
                    <a:lnTo>
                      <a:pt x="209" y="264"/>
                    </a:lnTo>
                    <a:lnTo>
                      <a:pt x="211" y="268"/>
                    </a:lnTo>
                    <a:lnTo>
                      <a:pt x="215" y="271"/>
                    </a:lnTo>
                    <a:lnTo>
                      <a:pt x="219" y="273"/>
                    </a:lnTo>
                    <a:lnTo>
                      <a:pt x="223" y="273"/>
                    </a:lnTo>
                    <a:lnTo>
                      <a:pt x="227" y="271"/>
                    </a:lnTo>
                    <a:lnTo>
                      <a:pt x="231" y="267"/>
                    </a:lnTo>
                    <a:lnTo>
                      <a:pt x="215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192560" y="389916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4"/>
                    </a:moveTo>
                    <a:lnTo>
                      <a:pt x="1" y="17"/>
                    </a:lnTo>
                    <a:lnTo>
                      <a:pt x="12" y="38"/>
                    </a:lnTo>
                    <a:lnTo>
                      <a:pt x="23" y="59"/>
                    </a:lnTo>
                    <a:lnTo>
                      <a:pt x="37" y="79"/>
                    </a:lnTo>
                    <a:lnTo>
                      <a:pt x="50" y="98"/>
                    </a:lnTo>
                    <a:lnTo>
                      <a:pt x="66" y="116"/>
                    </a:lnTo>
                    <a:lnTo>
                      <a:pt x="82" y="133"/>
                    </a:lnTo>
                    <a:lnTo>
                      <a:pt x="99" y="149"/>
                    </a:lnTo>
                    <a:lnTo>
                      <a:pt x="118" y="165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6" y="209"/>
                    </a:lnTo>
                    <a:lnTo>
                      <a:pt x="197" y="223"/>
                    </a:lnTo>
                    <a:lnTo>
                      <a:pt x="238" y="250"/>
                    </a:lnTo>
                    <a:lnTo>
                      <a:pt x="282" y="277"/>
                    </a:lnTo>
                    <a:lnTo>
                      <a:pt x="294" y="256"/>
                    </a:lnTo>
                    <a:lnTo>
                      <a:pt x="252" y="230"/>
                    </a:lnTo>
                    <a:lnTo>
                      <a:pt x="210" y="203"/>
                    </a:lnTo>
                    <a:lnTo>
                      <a:pt x="191" y="189"/>
                    </a:lnTo>
                    <a:lnTo>
                      <a:pt x="170" y="175"/>
                    </a:lnTo>
                    <a:lnTo>
                      <a:pt x="152" y="161"/>
                    </a:lnTo>
                    <a:lnTo>
                      <a:pt x="134" y="147"/>
                    </a:lnTo>
                    <a:lnTo>
                      <a:pt x="115" y="132"/>
                    </a:lnTo>
                    <a:lnTo>
                      <a:pt x="99" y="116"/>
                    </a:lnTo>
                    <a:lnTo>
                      <a:pt x="83" y="100"/>
                    </a:lnTo>
                    <a:lnTo>
                      <a:pt x="70" y="83"/>
                    </a:lnTo>
                    <a:lnTo>
                      <a:pt x="56" y="65"/>
                    </a:lnTo>
                    <a:lnTo>
                      <a:pt x="43" y="46"/>
                    </a:lnTo>
                    <a:lnTo>
                      <a:pt x="33" y="27"/>
                    </a:lnTo>
                    <a:lnTo>
                      <a:pt x="24" y="8"/>
                    </a:lnTo>
                    <a:lnTo>
                      <a:pt x="0" y="10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608200" y="4019760"/>
                <a:ext cx="311040" cy="28908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5" y="407"/>
                    </a:moveTo>
                    <a:lnTo>
                      <a:pt x="671" y="437"/>
                    </a:lnTo>
                    <a:lnTo>
                      <a:pt x="670" y="466"/>
                    </a:lnTo>
                    <a:lnTo>
                      <a:pt x="669" y="496"/>
                    </a:lnTo>
                    <a:lnTo>
                      <a:pt x="670" y="528"/>
                    </a:lnTo>
                    <a:lnTo>
                      <a:pt x="674" y="591"/>
                    </a:lnTo>
                    <a:lnTo>
                      <a:pt x="678" y="656"/>
                    </a:lnTo>
                    <a:lnTo>
                      <a:pt x="679" y="688"/>
                    </a:lnTo>
                    <a:lnTo>
                      <a:pt x="678" y="721"/>
                    </a:lnTo>
                    <a:lnTo>
                      <a:pt x="675" y="753"/>
                    </a:lnTo>
                    <a:lnTo>
                      <a:pt x="672" y="785"/>
                    </a:lnTo>
                    <a:lnTo>
                      <a:pt x="669" y="800"/>
                    </a:lnTo>
                    <a:lnTo>
                      <a:pt x="665" y="816"/>
                    </a:lnTo>
                    <a:lnTo>
                      <a:pt x="661" y="832"/>
                    </a:lnTo>
                    <a:lnTo>
                      <a:pt x="655" y="848"/>
                    </a:lnTo>
                    <a:lnTo>
                      <a:pt x="649" y="864"/>
                    </a:lnTo>
                    <a:lnTo>
                      <a:pt x="642" y="879"/>
                    </a:lnTo>
                    <a:lnTo>
                      <a:pt x="634" y="895"/>
                    </a:lnTo>
                    <a:lnTo>
                      <a:pt x="625" y="910"/>
                    </a:lnTo>
                    <a:lnTo>
                      <a:pt x="614" y="902"/>
                    </a:lnTo>
                    <a:lnTo>
                      <a:pt x="601" y="893"/>
                    </a:lnTo>
                    <a:lnTo>
                      <a:pt x="590" y="883"/>
                    </a:lnTo>
                    <a:lnTo>
                      <a:pt x="579" y="872"/>
                    </a:lnTo>
                    <a:lnTo>
                      <a:pt x="568" y="860"/>
                    </a:lnTo>
                    <a:lnTo>
                      <a:pt x="557" y="847"/>
                    </a:lnTo>
                    <a:lnTo>
                      <a:pt x="547" y="834"/>
                    </a:lnTo>
                    <a:lnTo>
                      <a:pt x="536" y="820"/>
                    </a:lnTo>
                    <a:lnTo>
                      <a:pt x="527" y="805"/>
                    </a:lnTo>
                    <a:lnTo>
                      <a:pt x="517" y="789"/>
                    </a:lnTo>
                    <a:lnTo>
                      <a:pt x="509" y="773"/>
                    </a:lnTo>
                    <a:lnTo>
                      <a:pt x="500" y="756"/>
                    </a:lnTo>
                    <a:lnTo>
                      <a:pt x="492" y="740"/>
                    </a:lnTo>
                    <a:lnTo>
                      <a:pt x="485" y="722"/>
                    </a:lnTo>
                    <a:lnTo>
                      <a:pt x="478" y="705"/>
                    </a:lnTo>
                    <a:lnTo>
                      <a:pt x="471" y="686"/>
                    </a:lnTo>
                    <a:lnTo>
                      <a:pt x="466" y="668"/>
                    </a:lnTo>
                    <a:lnTo>
                      <a:pt x="461" y="651"/>
                    </a:lnTo>
                    <a:lnTo>
                      <a:pt x="457" y="633"/>
                    </a:lnTo>
                    <a:lnTo>
                      <a:pt x="453" y="615"/>
                    </a:lnTo>
                    <a:lnTo>
                      <a:pt x="450" y="596"/>
                    </a:lnTo>
                    <a:lnTo>
                      <a:pt x="448" y="578"/>
                    </a:lnTo>
                    <a:lnTo>
                      <a:pt x="446" y="560"/>
                    </a:lnTo>
                    <a:lnTo>
                      <a:pt x="446" y="543"/>
                    </a:lnTo>
                    <a:lnTo>
                      <a:pt x="446" y="526"/>
                    </a:lnTo>
                    <a:lnTo>
                      <a:pt x="448" y="509"/>
                    </a:lnTo>
                    <a:lnTo>
                      <a:pt x="450" y="493"/>
                    </a:lnTo>
                    <a:lnTo>
                      <a:pt x="453" y="477"/>
                    </a:lnTo>
                    <a:lnTo>
                      <a:pt x="458" y="462"/>
                    </a:lnTo>
                    <a:lnTo>
                      <a:pt x="462" y="447"/>
                    </a:lnTo>
                    <a:lnTo>
                      <a:pt x="469" y="432"/>
                    </a:lnTo>
                    <a:lnTo>
                      <a:pt x="476" y="420"/>
                    </a:lnTo>
                    <a:lnTo>
                      <a:pt x="466" y="436"/>
                    </a:lnTo>
                    <a:lnTo>
                      <a:pt x="454" y="451"/>
                    </a:lnTo>
                    <a:lnTo>
                      <a:pt x="443" y="464"/>
                    </a:lnTo>
                    <a:lnTo>
                      <a:pt x="432" y="478"/>
                    </a:lnTo>
                    <a:lnTo>
                      <a:pt x="419" y="489"/>
                    </a:lnTo>
                    <a:lnTo>
                      <a:pt x="407" y="501"/>
                    </a:lnTo>
                    <a:lnTo>
                      <a:pt x="394" y="511"/>
                    </a:lnTo>
                    <a:lnTo>
                      <a:pt x="380" y="521"/>
                    </a:lnTo>
                    <a:lnTo>
                      <a:pt x="367" y="529"/>
                    </a:lnTo>
                    <a:lnTo>
                      <a:pt x="353" y="538"/>
                    </a:lnTo>
                    <a:lnTo>
                      <a:pt x="338" y="545"/>
                    </a:lnTo>
                    <a:lnTo>
                      <a:pt x="323" y="552"/>
                    </a:lnTo>
                    <a:lnTo>
                      <a:pt x="309" y="558"/>
                    </a:lnTo>
                    <a:lnTo>
                      <a:pt x="294" y="563"/>
                    </a:lnTo>
                    <a:lnTo>
                      <a:pt x="279" y="568"/>
                    </a:lnTo>
                    <a:lnTo>
                      <a:pt x="263" y="571"/>
                    </a:lnTo>
                    <a:lnTo>
                      <a:pt x="231" y="578"/>
                    </a:lnTo>
                    <a:lnTo>
                      <a:pt x="199" y="582"/>
                    </a:lnTo>
                    <a:lnTo>
                      <a:pt x="166" y="585"/>
                    </a:lnTo>
                    <a:lnTo>
                      <a:pt x="133" y="585"/>
                    </a:lnTo>
                    <a:lnTo>
                      <a:pt x="100" y="584"/>
                    </a:lnTo>
                    <a:lnTo>
                      <a:pt x="66" y="583"/>
                    </a:lnTo>
                    <a:lnTo>
                      <a:pt x="33" y="579"/>
                    </a:lnTo>
                    <a:lnTo>
                      <a:pt x="0" y="576"/>
                    </a:lnTo>
                    <a:lnTo>
                      <a:pt x="17" y="550"/>
                    </a:lnTo>
                    <a:lnTo>
                      <a:pt x="33" y="526"/>
                    </a:lnTo>
                    <a:lnTo>
                      <a:pt x="48" y="503"/>
                    </a:lnTo>
                    <a:lnTo>
                      <a:pt x="62" y="482"/>
                    </a:lnTo>
                    <a:lnTo>
                      <a:pt x="77" y="464"/>
                    </a:lnTo>
                    <a:lnTo>
                      <a:pt x="91" y="447"/>
                    </a:lnTo>
                    <a:lnTo>
                      <a:pt x="105" y="431"/>
                    </a:lnTo>
                    <a:lnTo>
                      <a:pt x="118" y="417"/>
                    </a:lnTo>
                    <a:lnTo>
                      <a:pt x="132" y="405"/>
                    </a:lnTo>
                    <a:lnTo>
                      <a:pt x="146" y="394"/>
                    </a:lnTo>
                    <a:lnTo>
                      <a:pt x="158" y="383"/>
                    </a:lnTo>
                    <a:lnTo>
                      <a:pt x="171" y="374"/>
                    </a:lnTo>
                    <a:lnTo>
                      <a:pt x="184" y="367"/>
                    </a:lnTo>
                    <a:lnTo>
                      <a:pt x="197" y="360"/>
                    </a:lnTo>
                    <a:lnTo>
                      <a:pt x="211" y="355"/>
                    </a:lnTo>
                    <a:lnTo>
                      <a:pt x="223" y="351"/>
                    </a:lnTo>
                    <a:lnTo>
                      <a:pt x="237" y="348"/>
                    </a:lnTo>
                    <a:lnTo>
                      <a:pt x="250" y="344"/>
                    </a:lnTo>
                    <a:lnTo>
                      <a:pt x="264" y="343"/>
                    </a:lnTo>
                    <a:lnTo>
                      <a:pt x="279" y="342"/>
                    </a:lnTo>
                    <a:lnTo>
                      <a:pt x="309" y="342"/>
                    </a:lnTo>
                    <a:lnTo>
                      <a:pt x="340" y="344"/>
                    </a:lnTo>
                    <a:lnTo>
                      <a:pt x="411" y="352"/>
                    </a:lnTo>
                    <a:lnTo>
                      <a:pt x="493" y="364"/>
                    </a:lnTo>
                    <a:lnTo>
                      <a:pt x="498" y="354"/>
                    </a:lnTo>
                    <a:lnTo>
                      <a:pt x="502" y="338"/>
                    </a:lnTo>
                    <a:lnTo>
                      <a:pt x="507" y="317"/>
                    </a:lnTo>
                    <a:lnTo>
                      <a:pt x="510" y="292"/>
                    </a:lnTo>
                    <a:lnTo>
                      <a:pt x="520" y="234"/>
                    </a:lnTo>
                    <a:lnTo>
                      <a:pt x="532" y="169"/>
                    </a:lnTo>
                    <a:lnTo>
                      <a:pt x="540" y="137"/>
                    </a:lnTo>
                    <a:lnTo>
                      <a:pt x="548" y="106"/>
                    </a:lnTo>
                    <a:lnTo>
                      <a:pt x="552" y="93"/>
                    </a:lnTo>
                    <a:lnTo>
                      <a:pt x="558" y="78"/>
                    </a:lnTo>
                    <a:lnTo>
                      <a:pt x="563" y="65"/>
                    </a:lnTo>
                    <a:lnTo>
                      <a:pt x="568" y="53"/>
                    </a:lnTo>
                    <a:lnTo>
                      <a:pt x="575" y="41"/>
                    </a:lnTo>
                    <a:lnTo>
                      <a:pt x="581" y="31"/>
                    </a:lnTo>
                    <a:lnTo>
                      <a:pt x="588" y="23"/>
                    </a:lnTo>
                    <a:lnTo>
                      <a:pt x="596" y="15"/>
                    </a:lnTo>
                    <a:lnTo>
                      <a:pt x="604" y="9"/>
                    </a:lnTo>
                    <a:lnTo>
                      <a:pt x="612" y="5"/>
                    </a:lnTo>
                    <a:lnTo>
                      <a:pt x="621" y="1"/>
                    </a:lnTo>
                    <a:lnTo>
                      <a:pt x="631" y="0"/>
                    </a:lnTo>
                    <a:lnTo>
                      <a:pt x="652" y="1"/>
                    </a:lnTo>
                    <a:lnTo>
                      <a:pt x="673" y="5"/>
                    </a:lnTo>
                    <a:lnTo>
                      <a:pt x="695" y="9"/>
                    </a:lnTo>
                    <a:lnTo>
                      <a:pt x="717" y="16"/>
                    </a:lnTo>
                    <a:lnTo>
                      <a:pt x="738" y="25"/>
                    </a:lnTo>
                    <a:lnTo>
                      <a:pt x="760" y="34"/>
                    </a:lnTo>
                    <a:lnTo>
                      <a:pt x="780" y="46"/>
                    </a:lnTo>
                    <a:lnTo>
                      <a:pt x="801" y="59"/>
                    </a:lnTo>
                    <a:lnTo>
                      <a:pt x="821" y="73"/>
                    </a:lnTo>
                    <a:lnTo>
                      <a:pt x="841" y="88"/>
                    </a:lnTo>
                    <a:lnTo>
                      <a:pt x="859" y="104"/>
                    </a:lnTo>
                    <a:lnTo>
                      <a:pt x="876" y="120"/>
                    </a:lnTo>
                    <a:lnTo>
                      <a:pt x="893" y="137"/>
                    </a:lnTo>
                    <a:lnTo>
                      <a:pt x="908" y="155"/>
                    </a:lnTo>
                    <a:lnTo>
                      <a:pt x="922" y="172"/>
                    </a:lnTo>
                    <a:lnTo>
                      <a:pt x="934" y="191"/>
                    </a:lnTo>
                    <a:lnTo>
                      <a:pt x="944" y="210"/>
                    </a:lnTo>
                    <a:lnTo>
                      <a:pt x="954" y="228"/>
                    </a:lnTo>
                    <a:lnTo>
                      <a:pt x="960" y="246"/>
                    </a:lnTo>
                    <a:lnTo>
                      <a:pt x="966" y="265"/>
                    </a:lnTo>
                    <a:lnTo>
                      <a:pt x="968" y="282"/>
                    </a:lnTo>
                    <a:lnTo>
                      <a:pt x="970" y="299"/>
                    </a:lnTo>
                    <a:lnTo>
                      <a:pt x="968" y="316"/>
                    </a:lnTo>
                    <a:lnTo>
                      <a:pt x="964" y="332"/>
                    </a:lnTo>
                    <a:lnTo>
                      <a:pt x="957" y="347"/>
                    </a:lnTo>
                    <a:lnTo>
                      <a:pt x="948" y="360"/>
                    </a:lnTo>
                    <a:lnTo>
                      <a:pt x="935" y="373"/>
                    </a:lnTo>
                    <a:lnTo>
                      <a:pt x="921" y="384"/>
                    </a:lnTo>
                    <a:lnTo>
                      <a:pt x="902" y="395"/>
                    </a:lnTo>
                    <a:lnTo>
                      <a:pt x="881" y="403"/>
                    </a:lnTo>
                    <a:lnTo>
                      <a:pt x="857" y="409"/>
                    </a:lnTo>
                    <a:lnTo>
                      <a:pt x="828" y="414"/>
                    </a:lnTo>
                    <a:lnTo>
                      <a:pt x="781" y="420"/>
                    </a:lnTo>
                    <a:lnTo>
                      <a:pt x="753" y="424"/>
                    </a:lnTo>
                    <a:lnTo>
                      <a:pt x="746" y="425"/>
                    </a:lnTo>
                    <a:lnTo>
                      <a:pt x="742" y="427"/>
                    </a:lnTo>
                    <a:lnTo>
                      <a:pt x="742" y="429"/>
                    </a:lnTo>
                    <a:lnTo>
                      <a:pt x="744" y="430"/>
                    </a:lnTo>
                    <a:lnTo>
                      <a:pt x="779" y="436"/>
                    </a:lnTo>
                    <a:lnTo>
                      <a:pt x="840" y="448"/>
                    </a:lnTo>
                    <a:lnTo>
                      <a:pt x="857" y="453"/>
                    </a:lnTo>
                    <a:lnTo>
                      <a:pt x="874" y="458"/>
                    </a:lnTo>
                    <a:lnTo>
                      <a:pt x="890" y="465"/>
                    </a:lnTo>
                    <a:lnTo>
                      <a:pt x="907" y="472"/>
                    </a:lnTo>
                    <a:lnTo>
                      <a:pt x="922" y="480"/>
                    </a:lnTo>
                    <a:lnTo>
                      <a:pt x="936" y="490"/>
                    </a:lnTo>
                    <a:lnTo>
                      <a:pt x="949" y="501"/>
                    </a:lnTo>
                    <a:lnTo>
                      <a:pt x="960" y="512"/>
                    </a:lnTo>
                    <a:lnTo>
                      <a:pt x="970" y="526"/>
                    </a:lnTo>
                    <a:lnTo>
                      <a:pt x="976" y="541"/>
                    </a:lnTo>
                    <a:lnTo>
                      <a:pt x="980" y="557"/>
                    </a:lnTo>
                    <a:lnTo>
                      <a:pt x="981" y="574"/>
                    </a:lnTo>
                    <a:lnTo>
                      <a:pt x="980" y="593"/>
                    </a:lnTo>
                    <a:lnTo>
                      <a:pt x="974" y="615"/>
                    </a:lnTo>
                    <a:lnTo>
                      <a:pt x="965" y="637"/>
                    </a:lnTo>
                    <a:lnTo>
                      <a:pt x="951" y="663"/>
                    </a:lnTo>
                    <a:lnTo>
                      <a:pt x="908" y="635"/>
                    </a:lnTo>
                    <a:lnTo>
                      <a:pt x="867" y="608"/>
                    </a:lnTo>
                    <a:lnTo>
                      <a:pt x="846" y="594"/>
                    </a:lnTo>
                    <a:lnTo>
                      <a:pt x="826" y="580"/>
                    </a:lnTo>
                    <a:lnTo>
                      <a:pt x="807" y="566"/>
                    </a:lnTo>
                    <a:lnTo>
                      <a:pt x="788" y="551"/>
                    </a:lnTo>
                    <a:lnTo>
                      <a:pt x="771" y="536"/>
                    </a:lnTo>
                    <a:lnTo>
                      <a:pt x="754" y="520"/>
                    </a:lnTo>
                    <a:lnTo>
                      <a:pt x="738" y="503"/>
                    </a:lnTo>
                    <a:lnTo>
                      <a:pt x="723" y="486"/>
                    </a:lnTo>
                    <a:lnTo>
                      <a:pt x="710" y="468"/>
                    </a:lnTo>
                    <a:lnTo>
                      <a:pt x="696" y="448"/>
                    </a:lnTo>
                    <a:lnTo>
                      <a:pt x="686" y="429"/>
                    </a:lnTo>
                    <a:lnTo>
                      <a:pt x="675" y="407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803680" y="4148280"/>
                <a:ext cx="23760" cy="163800"/>
              </a:xfrm>
              <a:custGeom>
                <a:avLst/>
                <a:gdLst/>
                <a:ahLst/>
                <a:rect l="l" t="t" r="r" b="b"/>
                <a:pathLst>
                  <a:path w="77" h="516">
                    <a:moveTo>
                      <a:pt x="6" y="515"/>
                    </a:moveTo>
                    <a:lnTo>
                      <a:pt x="23" y="511"/>
                    </a:lnTo>
                    <a:lnTo>
                      <a:pt x="32" y="496"/>
                    </a:lnTo>
                    <a:lnTo>
                      <a:pt x="40" y="480"/>
                    </a:lnTo>
                    <a:lnTo>
                      <a:pt x="48" y="464"/>
                    </a:lnTo>
                    <a:lnTo>
                      <a:pt x="53" y="447"/>
                    </a:lnTo>
                    <a:lnTo>
                      <a:pt x="59" y="431"/>
                    </a:lnTo>
                    <a:lnTo>
                      <a:pt x="64" y="415"/>
                    </a:lnTo>
                    <a:lnTo>
                      <a:pt x="67" y="398"/>
                    </a:lnTo>
                    <a:lnTo>
                      <a:pt x="70" y="382"/>
                    </a:lnTo>
                    <a:lnTo>
                      <a:pt x="75" y="349"/>
                    </a:lnTo>
                    <a:lnTo>
                      <a:pt x="77" y="316"/>
                    </a:lnTo>
                    <a:lnTo>
                      <a:pt x="77" y="283"/>
                    </a:lnTo>
                    <a:lnTo>
                      <a:pt x="77" y="250"/>
                    </a:lnTo>
                    <a:lnTo>
                      <a:pt x="73" y="186"/>
                    </a:lnTo>
                    <a:lnTo>
                      <a:pt x="69" y="122"/>
                    </a:lnTo>
                    <a:lnTo>
                      <a:pt x="68" y="91"/>
                    </a:lnTo>
                    <a:lnTo>
                      <a:pt x="68" y="61"/>
                    </a:lnTo>
                    <a:lnTo>
                      <a:pt x="70" y="33"/>
                    </a:lnTo>
                    <a:lnTo>
                      <a:pt x="74" y="4"/>
                    </a:lnTo>
                    <a:lnTo>
                      <a:pt x="51" y="0"/>
                    </a:lnTo>
                    <a:lnTo>
                      <a:pt x="47" y="31"/>
                    </a:lnTo>
                    <a:lnTo>
                      <a:pt x="44" y="60"/>
                    </a:lnTo>
                    <a:lnTo>
                      <a:pt x="44" y="91"/>
                    </a:lnTo>
                    <a:lnTo>
                      <a:pt x="45" y="123"/>
                    </a:lnTo>
                    <a:lnTo>
                      <a:pt x="49" y="187"/>
                    </a:lnTo>
                    <a:lnTo>
                      <a:pt x="52" y="251"/>
                    </a:lnTo>
                    <a:lnTo>
                      <a:pt x="53" y="283"/>
                    </a:lnTo>
                    <a:lnTo>
                      <a:pt x="53" y="315"/>
                    </a:lnTo>
                    <a:lnTo>
                      <a:pt x="51" y="346"/>
                    </a:lnTo>
                    <a:lnTo>
                      <a:pt x="47" y="378"/>
                    </a:lnTo>
                    <a:lnTo>
                      <a:pt x="44" y="393"/>
                    </a:lnTo>
                    <a:lnTo>
                      <a:pt x="40" y="409"/>
                    </a:lnTo>
                    <a:lnTo>
                      <a:pt x="36" y="424"/>
                    </a:lnTo>
                    <a:lnTo>
                      <a:pt x="31" y="439"/>
                    </a:lnTo>
                    <a:lnTo>
                      <a:pt x="25" y="454"/>
                    </a:lnTo>
                    <a:lnTo>
                      <a:pt x="18" y="468"/>
                    </a:lnTo>
                    <a:lnTo>
                      <a:pt x="10" y="483"/>
                    </a:lnTo>
                    <a:lnTo>
                      <a:pt x="2" y="498"/>
                    </a:lnTo>
                    <a:lnTo>
                      <a:pt x="19" y="495"/>
                    </a:lnTo>
                    <a:lnTo>
                      <a:pt x="2" y="498"/>
                    </a:lnTo>
                    <a:lnTo>
                      <a:pt x="0" y="504"/>
                    </a:lnTo>
                    <a:lnTo>
                      <a:pt x="1" y="508"/>
                    </a:lnTo>
                    <a:lnTo>
                      <a:pt x="2" y="512"/>
                    </a:lnTo>
                    <a:lnTo>
                      <a:pt x="6" y="515"/>
                    </a:lnTo>
                    <a:lnTo>
                      <a:pt x="10" y="516"/>
                    </a:lnTo>
                    <a:lnTo>
                      <a:pt x="15" y="516"/>
                    </a:lnTo>
                    <a:lnTo>
                      <a:pt x="19" y="515"/>
                    </a:lnTo>
                    <a:lnTo>
                      <a:pt x="23" y="511"/>
                    </a:lnTo>
                    <a:lnTo>
                      <a:pt x="6" y="5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746440" y="4150080"/>
                <a:ext cx="63360" cy="162000"/>
              </a:xfrm>
              <a:custGeom>
                <a:avLst/>
                <a:gdLst/>
                <a:ahLst/>
                <a:rect l="l" t="t" r="r" b="b"/>
                <a:pathLst>
                  <a:path w="198" h="513">
                    <a:moveTo>
                      <a:pt x="52" y="18"/>
                    </a:moveTo>
                    <a:lnTo>
                      <a:pt x="32" y="6"/>
                    </a:lnTo>
                    <a:lnTo>
                      <a:pt x="24" y="21"/>
                    </a:lnTo>
                    <a:lnTo>
                      <a:pt x="17" y="36"/>
                    </a:lnTo>
                    <a:lnTo>
                      <a:pt x="12" y="50"/>
                    </a:lnTo>
                    <a:lnTo>
                      <a:pt x="8" y="67"/>
                    </a:lnTo>
                    <a:lnTo>
                      <a:pt x="4" y="83"/>
                    </a:lnTo>
                    <a:lnTo>
                      <a:pt x="2" y="101"/>
                    </a:lnTo>
                    <a:lnTo>
                      <a:pt x="0" y="118"/>
                    </a:lnTo>
                    <a:lnTo>
                      <a:pt x="0" y="136"/>
                    </a:lnTo>
                    <a:lnTo>
                      <a:pt x="0" y="154"/>
                    </a:lnTo>
                    <a:lnTo>
                      <a:pt x="2" y="172"/>
                    </a:lnTo>
                    <a:lnTo>
                      <a:pt x="4" y="191"/>
                    </a:lnTo>
                    <a:lnTo>
                      <a:pt x="7" y="209"/>
                    </a:lnTo>
                    <a:lnTo>
                      <a:pt x="10" y="228"/>
                    </a:lnTo>
                    <a:lnTo>
                      <a:pt x="15" y="246"/>
                    </a:lnTo>
                    <a:lnTo>
                      <a:pt x="20" y="265"/>
                    </a:lnTo>
                    <a:lnTo>
                      <a:pt x="26" y="284"/>
                    </a:lnTo>
                    <a:lnTo>
                      <a:pt x="33" y="302"/>
                    </a:lnTo>
                    <a:lnTo>
                      <a:pt x="40" y="319"/>
                    </a:lnTo>
                    <a:lnTo>
                      <a:pt x="48" y="338"/>
                    </a:lnTo>
                    <a:lnTo>
                      <a:pt x="56" y="355"/>
                    </a:lnTo>
                    <a:lnTo>
                      <a:pt x="64" y="372"/>
                    </a:lnTo>
                    <a:lnTo>
                      <a:pt x="73" y="388"/>
                    </a:lnTo>
                    <a:lnTo>
                      <a:pt x="83" y="404"/>
                    </a:lnTo>
                    <a:lnTo>
                      <a:pt x="92" y="420"/>
                    </a:lnTo>
                    <a:lnTo>
                      <a:pt x="104" y="435"/>
                    </a:lnTo>
                    <a:lnTo>
                      <a:pt x="114" y="448"/>
                    </a:lnTo>
                    <a:lnTo>
                      <a:pt x="125" y="461"/>
                    </a:lnTo>
                    <a:lnTo>
                      <a:pt x="137" y="473"/>
                    </a:lnTo>
                    <a:lnTo>
                      <a:pt x="148" y="485"/>
                    </a:lnTo>
                    <a:lnTo>
                      <a:pt x="161" y="495"/>
                    </a:lnTo>
                    <a:lnTo>
                      <a:pt x="172" y="505"/>
                    </a:lnTo>
                    <a:lnTo>
                      <a:pt x="185" y="513"/>
                    </a:lnTo>
                    <a:lnTo>
                      <a:pt x="198" y="493"/>
                    </a:lnTo>
                    <a:lnTo>
                      <a:pt x="187" y="485"/>
                    </a:lnTo>
                    <a:lnTo>
                      <a:pt x="175" y="477"/>
                    </a:lnTo>
                    <a:lnTo>
                      <a:pt x="164" y="466"/>
                    </a:lnTo>
                    <a:lnTo>
                      <a:pt x="154" y="456"/>
                    </a:lnTo>
                    <a:lnTo>
                      <a:pt x="143" y="445"/>
                    </a:lnTo>
                    <a:lnTo>
                      <a:pt x="133" y="432"/>
                    </a:lnTo>
                    <a:lnTo>
                      <a:pt x="123" y="420"/>
                    </a:lnTo>
                    <a:lnTo>
                      <a:pt x="113" y="406"/>
                    </a:lnTo>
                    <a:lnTo>
                      <a:pt x="104" y="391"/>
                    </a:lnTo>
                    <a:lnTo>
                      <a:pt x="94" y="376"/>
                    </a:lnTo>
                    <a:lnTo>
                      <a:pt x="85" y="360"/>
                    </a:lnTo>
                    <a:lnTo>
                      <a:pt x="77" y="344"/>
                    </a:lnTo>
                    <a:lnTo>
                      <a:pt x="69" y="327"/>
                    </a:lnTo>
                    <a:lnTo>
                      <a:pt x="61" y="310"/>
                    </a:lnTo>
                    <a:lnTo>
                      <a:pt x="56" y="293"/>
                    </a:lnTo>
                    <a:lnTo>
                      <a:pt x="49" y="276"/>
                    </a:lnTo>
                    <a:lnTo>
                      <a:pt x="43" y="258"/>
                    </a:lnTo>
                    <a:lnTo>
                      <a:pt x="39" y="241"/>
                    </a:lnTo>
                    <a:lnTo>
                      <a:pt x="34" y="222"/>
                    </a:lnTo>
                    <a:lnTo>
                      <a:pt x="31" y="205"/>
                    </a:lnTo>
                    <a:lnTo>
                      <a:pt x="28" y="187"/>
                    </a:lnTo>
                    <a:lnTo>
                      <a:pt x="26" y="170"/>
                    </a:lnTo>
                    <a:lnTo>
                      <a:pt x="25" y="153"/>
                    </a:lnTo>
                    <a:lnTo>
                      <a:pt x="24" y="136"/>
                    </a:lnTo>
                    <a:lnTo>
                      <a:pt x="25" y="119"/>
                    </a:lnTo>
                    <a:lnTo>
                      <a:pt x="26" y="103"/>
                    </a:lnTo>
                    <a:lnTo>
                      <a:pt x="28" y="88"/>
                    </a:lnTo>
                    <a:lnTo>
                      <a:pt x="31" y="72"/>
                    </a:lnTo>
                    <a:lnTo>
                      <a:pt x="35" y="58"/>
                    </a:lnTo>
                    <a:lnTo>
                      <a:pt x="40" y="45"/>
                    </a:lnTo>
                    <a:lnTo>
                      <a:pt x="45" y="31"/>
                    </a:lnTo>
                    <a:lnTo>
                      <a:pt x="52" y="18"/>
                    </a:lnTo>
                    <a:lnTo>
                      <a:pt x="32" y="6"/>
                    </a:lnTo>
                    <a:lnTo>
                      <a:pt x="52" y="18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52" y="5"/>
                    </a:lnTo>
                    <a:lnTo>
                      <a:pt x="49" y="2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5" y="2"/>
                    </a:lnTo>
                    <a:lnTo>
                      <a:pt x="32" y="6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604960" y="4151520"/>
                <a:ext cx="157320" cy="58680"/>
              </a:xfrm>
              <a:custGeom>
                <a:avLst/>
                <a:gdLst/>
                <a:ahLst/>
                <a:rect l="l" t="t" r="r" b="b"/>
                <a:pathLst>
                  <a:path w="498" h="185">
                    <a:moveTo>
                      <a:pt x="1" y="156"/>
                    </a:moveTo>
                    <a:lnTo>
                      <a:pt x="11" y="174"/>
                    </a:lnTo>
                    <a:lnTo>
                      <a:pt x="44" y="179"/>
                    </a:lnTo>
                    <a:lnTo>
                      <a:pt x="78" y="181"/>
                    </a:lnTo>
                    <a:lnTo>
                      <a:pt x="111" y="183"/>
                    </a:lnTo>
                    <a:lnTo>
                      <a:pt x="145" y="185"/>
                    </a:lnTo>
                    <a:lnTo>
                      <a:pt x="178" y="183"/>
                    </a:lnTo>
                    <a:lnTo>
                      <a:pt x="212" y="181"/>
                    </a:lnTo>
                    <a:lnTo>
                      <a:pt x="245" y="177"/>
                    </a:lnTo>
                    <a:lnTo>
                      <a:pt x="277" y="171"/>
                    </a:lnTo>
                    <a:lnTo>
                      <a:pt x="294" y="166"/>
                    </a:lnTo>
                    <a:lnTo>
                      <a:pt x="309" y="162"/>
                    </a:lnTo>
                    <a:lnTo>
                      <a:pt x="325" y="156"/>
                    </a:lnTo>
                    <a:lnTo>
                      <a:pt x="341" y="150"/>
                    </a:lnTo>
                    <a:lnTo>
                      <a:pt x="356" y="144"/>
                    </a:lnTo>
                    <a:lnTo>
                      <a:pt x="371" y="136"/>
                    </a:lnTo>
                    <a:lnTo>
                      <a:pt x="385" y="128"/>
                    </a:lnTo>
                    <a:lnTo>
                      <a:pt x="399" y="117"/>
                    </a:lnTo>
                    <a:lnTo>
                      <a:pt x="413" y="108"/>
                    </a:lnTo>
                    <a:lnTo>
                      <a:pt x="427" y="97"/>
                    </a:lnTo>
                    <a:lnTo>
                      <a:pt x="440" y="85"/>
                    </a:lnTo>
                    <a:lnTo>
                      <a:pt x="453" y="73"/>
                    </a:lnTo>
                    <a:lnTo>
                      <a:pt x="465" y="59"/>
                    </a:lnTo>
                    <a:lnTo>
                      <a:pt x="477" y="44"/>
                    </a:lnTo>
                    <a:lnTo>
                      <a:pt x="488" y="30"/>
                    </a:lnTo>
                    <a:lnTo>
                      <a:pt x="498" y="12"/>
                    </a:lnTo>
                    <a:lnTo>
                      <a:pt x="478" y="0"/>
                    </a:lnTo>
                    <a:lnTo>
                      <a:pt x="468" y="16"/>
                    </a:lnTo>
                    <a:lnTo>
                      <a:pt x="457" y="30"/>
                    </a:lnTo>
                    <a:lnTo>
                      <a:pt x="446" y="43"/>
                    </a:lnTo>
                    <a:lnTo>
                      <a:pt x="434" y="56"/>
                    </a:lnTo>
                    <a:lnTo>
                      <a:pt x="423" y="68"/>
                    </a:lnTo>
                    <a:lnTo>
                      <a:pt x="411" y="79"/>
                    </a:lnTo>
                    <a:lnTo>
                      <a:pt x="398" y="89"/>
                    </a:lnTo>
                    <a:lnTo>
                      <a:pt x="385" y="98"/>
                    </a:lnTo>
                    <a:lnTo>
                      <a:pt x="373" y="106"/>
                    </a:lnTo>
                    <a:lnTo>
                      <a:pt x="359" y="114"/>
                    </a:lnTo>
                    <a:lnTo>
                      <a:pt x="346" y="121"/>
                    </a:lnTo>
                    <a:lnTo>
                      <a:pt x="331" y="128"/>
                    </a:lnTo>
                    <a:lnTo>
                      <a:pt x="317" y="133"/>
                    </a:lnTo>
                    <a:lnTo>
                      <a:pt x="302" y="138"/>
                    </a:lnTo>
                    <a:lnTo>
                      <a:pt x="287" y="142"/>
                    </a:lnTo>
                    <a:lnTo>
                      <a:pt x="273" y="147"/>
                    </a:lnTo>
                    <a:lnTo>
                      <a:pt x="241" y="153"/>
                    </a:lnTo>
                    <a:lnTo>
                      <a:pt x="210" y="157"/>
                    </a:lnTo>
                    <a:lnTo>
                      <a:pt x="178" y="159"/>
                    </a:lnTo>
                    <a:lnTo>
                      <a:pt x="145" y="161"/>
                    </a:lnTo>
                    <a:lnTo>
                      <a:pt x="112" y="159"/>
                    </a:lnTo>
                    <a:lnTo>
                      <a:pt x="79" y="157"/>
                    </a:lnTo>
                    <a:lnTo>
                      <a:pt x="46" y="154"/>
                    </a:lnTo>
                    <a:lnTo>
                      <a:pt x="14" y="150"/>
                    </a:lnTo>
                    <a:lnTo>
                      <a:pt x="22" y="169"/>
                    </a:lnTo>
                    <a:lnTo>
                      <a:pt x="14" y="150"/>
                    </a:lnTo>
                    <a:lnTo>
                      <a:pt x="8" y="150"/>
                    </a:lnTo>
                    <a:lnTo>
                      <a:pt x="4" y="153"/>
                    </a:lnTo>
                    <a:lnTo>
                      <a:pt x="1" y="156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3" y="170"/>
                    </a:lnTo>
                    <a:lnTo>
                      <a:pt x="6" y="173"/>
                    </a:lnTo>
                    <a:lnTo>
                      <a:pt x="11" y="174"/>
                    </a:lnTo>
                    <a:lnTo>
                      <a:pt x="1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604960" y="4124520"/>
                <a:ext cx="163800" cy="81000"/>
              </a:xfrm>
              <a:custGeom>
                <a:avLst/>
                <a:gdLst/>
                <a:ahLst/>
                <a:rect l="l" t="t" r="r" b="b"/>
                <a:pathLst>
                  <a:path w="517" h="252">
                    <a:moveTo>
                      <a:pt x="495" y="27"/>
                    </a:moveTo>
                    <a:lnTo>
                      <a:pt x="506" y="22"/>
                    </a:lnTo>
                    <a:lnTo>
                      <a:pt x="423" y="11"/>
                    </a:lnTo>
                    <a:lnTo>
                      <a:pt x="353" y="2"/>
                    </a:lnTo>
                    <a:lnTo>
                      <a:pt x="320" y="0"/>
                    </a:lnTo>
                    <a:lnTo>
                      <a:pt x="290" y="0"/>
                    </a:lnTo>
                    <a:lnTo>
                      <a:pt x="274" y="1"/>
                    </a:lnTo>
                    <a:lnTo>
                      <a:pt x="260" y="3"/>
                    </a:lnTo>
                    <a:lnTo>
                      <a:pt x="245" y="5"/>
                    </a:lnTo>
                    <a:lnTo>
                      <a:pt x="231" y="9"/>
                    </a:lnTo>
                    <a:lnTo>
                      <a:pt x="217" y="13"/>
                    </a:lnTo>
                    <a:lnTo>
                      <a:pt x="203" y="19"/>
                    </a:lnTo>
                    <a:lnTo>
                      <a:pt x="190" y="26"/>
                    </a:lnTo>
                    <a:lnTo>
                      <a:pt x="176" y="34"/>
                    </a:lnTo>
                    <a:lnTo>
                      <a:pt x="162" y="43"/>
                    </a:lnTo>
                    <a:lnTo>
                      <a:pt x="149" y="53"/>
                    </a:lnTo>
                    <a:lnTo>
                      <a:pt x="135" y="66"/>
                    </a:lnTo>
                    <a:lnTo>
                      <a:pt x="121" y="78"/>
                    </a:lnTo>
                    <a:lnTo>
                      <a:pt x="108" y="93"/>
                    </a:lnTo>
                    <a:lnTo>
                      <a:pt x="93" y="109"/>
                    </a:lnTo>
                    <a:lnTo>
                      <a:pt x="79" y="126"/>
                    </a:lnTo>
                    <a:lnTo>
                      <a:pt x="64" y="146"/>
                    </a:lnTo>
                    <a:lnTo>
                      <a:pt x="49" y="166"/>
                    </a:lnTo>
                    <a:lnTo>
                      <a:pt x="33" y="189"/>
                    </a:lnTo>
                    <a:lnTo>
                      <a:pt x="17" y="213"/>
                    </a:lnTo>
                    <a:lnTo>
                      <a:pt x="0" y="239"/>
                    </a:lnTo>
                    <a:lnTo>
                      <a:pt x="21" y="252"/>
                    </a:lnTo>
                    <a:lnTo>
                      <a:pt x="38" y="227"/>
                    </a:lnTo>
                    <a:lnTo>
                      <a:pt x="54" y="203"/>
                    </a:lnTo>
                    <a:lnTo>
                      <a:pt x="69" y="180"/>
                    </a:lnTo>
                    <a:lnTo>
                      <a:pt x="84" y="160"/>
                    </a:lnTo>
                    <a:lnTo>
                      <a:pt x="97" y="141"/>
                    </a:lnTo>
                    <a:lnTo>
                      <a:pt x="111" y="125"/>
                    </a:lnTo>
                    <a:lnTo>
                      <a:pt x="125" y="109"/>
                    </a:lnTo>
                    <a:lnTo>
                      <a:pt x="138" y="95"/>
                    </a:lnTo>
                    <a:lnTo>
                      <a:pt x="151" y="83"/>
                    </a:lnTo>
                    <a:lnTo>
                      <a:pt x="163" y="73"/>
                    </a:lnTo>
                    <a:lnTo>
                      <a:pt x="176" y="64"/>
                    </a:lnTo>
                    <a:lnTo>
                      <a:pt x="188" y="54"/>
                    </a:lnTo>
                    <a:lnTo>
                      <a:pt x="201" y="48"/>
                    </a:lnTo>
                    <a:lnTo>
                      <a:pt x="214" y="42"/>
                    </a:lnTo>
                    <a:lnTo>
                      <a:pt x="225" y="36"/>
                    </a:lnTo>
                    <a:lnTo>
                      <a:pt x="237" y="33"/>
                    </a:lnTo>
                    <a:lnTo>
                      <a:pt x="250" y="29"/>
                    </a:lnTo>
                    <a:lnTo>
                      <a:pt x="264" y="27"/>
                    </a:lnTo>
                    <a:lnTo>
                      <a:pt x="276" y="25"/>
                    </a:lnTo>
                    <a:lnTo>
                      <a:pt x="290" y="25"/>
                    </a:lnTo>
                    <a:lnTo>
                      <a:pt x="320" y="25"/>
                    </a:lnTo>
                    <a:lnTo>
                      <a:pt x="350" y="26"/>
                    </a:lnTo>
                    <a:lnTo>
                      <a:pt x="420" y="35"/>
                    </a:lnTo>
                    <a:lnTo>
                      <a:pt x="503" y="46"/>
                    </a:lnTo>
                    <a:lnTo>
                      <a:pt x="514" y="41"/>
                    </a:lnTo>
                    <a:lnTo>
                      <a:pt x="503" y="46"/>
                    </a:lnTo>
                    <a:lnTo>
                      <a:pt x="509" y="45"/>
                    </a:lnTo>
                    <a:lnTo>
                      <a:pt x="512" y="43"/>
                    </a:lnTo>
                    <a:lnTo>
                      <a:pt x="516" y="40"/>
                    </a:lnTo>
                    <a:lnTo>
                      <a:pt x="517" y="35"/>
                    </a:lnTo>
                    <a:lnTo>
                      <a:pt x="517" y="32"/>
                    </a:lnTo>
                    <a:lnTo>
                      <a:pt x="514" y="27"/>
                    </a:lnTo>
                    <a:lnTo>
                      <a:pt x="511" y="24"/>
                    </a:lnTo>
                    <a:lnTo>
                      <a:pt x="506" y="22"/>
                    </a:lnTo>
                    <a:lnTo>
                      <a:pt x="495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762280" y="4016520"/>
                <a:ext cx="460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0"/>
                    </a:moveTo>
                    <a:lnTo>
                      <a:pt x="146" y="1"/>
                    </a:lnTo>
                    <a:lnTo>
                      <a:pt x="135" y="2"/>
                    </a:lnTo>
                    <a:lnTo>
                      <a:pt x="123" y="5"/>
                    </a:lnTo>
                    <a:lnTo>
                      <a:pt x="113" y="11"/>
                    </a:lnTo>
                    <a:lnTo>
                      <a:pt x="104" y="18"/>
                    </a:lnTo>
                    <a:lnTo>
                      <a:pt x="96" y="27"/>
                    </a:lnTo>
                    <a:lnTo>
                      <a:pt x="88" y="36"/>
                    </a:lnTo>
                    <a:lnTo>
                      <a:pt x="80" y="48"/>
                    </a:lnTo>
                    <a:lnTo>
                      <a:pt x="74" y="59"/>
                    </a:lnTo>
                    <a:lnTo>
                      <a:pt x="68" y="73"/>
                    </a:lnTo>
                    <a:lnTo>
                      <a:pt x="63" y="86"/>
                    </a:lnTo>
                    <a:lnTo>
                      <a:pt x="57" y="100"/>
                    </a:lnTo>
                    <a:lnTo>
                      <a:pt x="52" y="115"/>
                    </a:lnTo>
                    <a:lnTo>
                      <a:pt x="43" y="147"/>
                    </a:lnTo>
                    <a:lnTo>
                      <a:pt x="36" y="179"/>
                    </a:lnTo>
                    <a:lnTo>
                      <a:pt x="24" y="244"/>
                    </a:lnTo>
                    <a:lnTo>
                      <a:pt x="15" y="302"/>
                    </a:lnTo>
                    <a:lnTo>
                      <a:pt x="10" y="327"/>
                    </a:lnTo>
                    <a:lnTo>
                      <a:pt x="7" y="347"/>
                    </a:lnTo>
                    <a:lnTo>
                      <a:pt x="2" y="362"/>
                    </a:lnTo>
                    <a:lnTo>
                      <a:pt x="0" y="369"/>
                    </a:lnTo>
                    <a:lnTo>
                      <a:pt x="19" y="383"/>
                    </a:lnTo>
                    <a:lnTo>
                      <a:pt x="25" y="370"/>
                    </a:lnTo>
                    <a:lnTo>
                      <a:pt x="30" y="353"/>
                    </a:lnTo>
                    <a:lnTo>
                      <a:pt x="34" y="331"/>
                    </a:lnTo>
                    <a:lnTo>
                      <a:pt x="39" y="306"/>
                    </a:lnTo>
                    <a:lnTo>
                      <a:pt x="48" y="247"/>
                    </a:lnTo>
                    <a:lnTo>
                      <a:pt x="60" y="183"/>
                    </a:lnTo>
                    <a:lnTo>
                      <a:pt x="67" y="152"/>
                    </a:lnTo>
                    <a:lnTo>
                      <a:pt x="75" y="122"/>
                    </a:lnTo>
                    <a:lnTo>
                      <a:pt x="80" y="108"/>
                    </a:lnTo>
                    <a:lnTo>
                      <a:pt x="84" y="94"/>
                    </a:lnTo>
                    <a:lnTo>
                      <a:pt x="90" y="82"/>
                    </a:lnTo>
                    <a:lnTo>
                      <a:pt x="96" y="70"/>
                    </a:lnTo>
                    <a:lnTo>
                      <a:pt x="101" y="60"/>
                    </a:lnTo>
                    <a:lnTo>
                      <a:pt x="107" y="51"/>
                    </a:lnTo>
                    <a:lnTo>
                      <a:pt x="113" y="43"/>
                    </a:lnTo>
                    <a:lnTo>
                      <a:pt x="120" y="36"/>
                    </a:lnTo>
                    <a:lnTo>
                      <a:pt x="127" y="30"/>
                    </a:lnTo>
                    <a:lnTo>
                      <a:pt x="133" y="27"/>
                    </a:lnTo>
                    <a:lnTo>
                      <a:pt x="139" y="25"/>
                    </a:lnTo>
                    <a:lnTo>
                      <a:pt x="147" y="25"/>
                    </a:lnTo>
                    <a:lnTo>
                      <a:pt x="147" y="2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808360" y="4016520"/>
                <a:ext cx="11268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8" y="439"/>
                    </a:moveTo>
                    <a:lnTo>
                      <a:pt x="198" y="439"/>
                    </a:lnTo>
                    <a:lnTo>
                      <a:pt x="213" y="436"/>
                    </a:lnTo>
                    <a:lnTo>
                      <a:pt x="228" y="433"/>
                    </a:lnTo>
                    <a:lnTo>
                      <a:pt x="242" y="429"/>
                    </a:lnTo>
                    <a:lnTo>
                      <a:pt x="254" y="426"/>
                    </a:lnTo>
                    <a:lnTo>
                      <a:pt x="266" y="421"/>
                    </a:lnTo>
                    <a:lnTo>
                      <a:pt x="277" y="417"/>
                    </a:lnTo>
                    <a:lnTo>
                      <a:pt x="287" y="412"/>
                    </a:lnTo>
                    <a:lnTo>
                      <a:pt x="296" y="407"/>
                    </a:lnTo>
                    <a:lnTo>
                      <a:pt x="304" y="400"/>
                    </a:lnTo>
                    <a:lnTo>
                      <a:pt x="312" y="394"/>
                    </a:lnTo>
                    <a:lnTo>
                      <a:pt x="320" y="387"/>
                    </a:lnTo>
                    <a:lnTo>
                      <a:pt x="326" y="379"/>
                    </a:lnTo>
                    <a:lnTo>
                      <a:pt x="332" y="372"/>
                    </a:lnTo>
                    <a:lnTo>
                      <a:pt x="336" y="364"/>
                    </a:lnTo>
                    <a:lnTo>
                      <a:pt x="341" y="355"/>
                    </a:lnTo>
                    <a:lnTo>
                      <a:pt x="344" y="347"/>
                    </a:lnTo>
                    <a:lnTo>
                      <a:pt x="347" y="338"/>
                    </a:lnTo>
                    <a:lnTo>
                      <a:pt x="349" y="329"/>
                    </a:lnTo>
                    <a:lnTo>
                      <a:pt x="350" y="320"/>
                    </a:lnTo>
                    <a:lnTo>
                      <a:pt x="351" y="311"/>
                    </a:lnTo>
                    <a:lnTo>
                      <a:pt x="350" y="293"/>
                    </a:lnTo>
                    <a:lnTo>
                      <a:pt x="347" y="273"/>
                    </a:lnTo>
                    <a:lnTo>
                      <a:pt x="341" y="254"/>
                    </a:lnTo>
                    <a:lnTo>
                      <a:pt x="334" y="236"/>
                    </a:lnTo>
                    <a:lnTo>
                      <a:pt x="324" y="216"/>
                    </a:lnTo>
                    <a:lnTo>
                      <a:pt x="313" y="197"/>
                    </a:lnTo>
                    <a:lnTo>
                      <a:pt x="300" y="178"/>
                    </a:lnTo>
                    <a:lnTo>
                      <a:pt x="286" y="159"/>
                    </a:lnTo>
                    <a:lnTo>
                      <a:pt x="270" y="141"/>
                    </a:lnTo>
                    <a:lnTo>
                      <a:pt x="254" y="123"/>
                    </a:lnTo>
                    <a:lnTo>
                      <a:pt x="236" y="107"/>
                    </a:lnTo>
                    <a:lnTo>
                      <a:pt x="218" y="90"/>
                    </a:lnTo>
                    <a:lnTo>
                      <a:pt x="197" y="75"/>
                    </a:lnTo>
                    <a:lnTo>
                      <a:pt x="177" y="61"/>
                    </a:lnTo>
                    <a:lnTo>
                      <a:pt x="156" y="48"/>
                    </a:lnTo>
                    <a:lnTo>
                      <a:pt x="135" y="36"/>
                    </a:lnTo>
                    <a:lnTo>
                      <a:pt x="112" y="26"/>
                    </a:lnTo>
                    <a:lnTo>
                      <a:pt x="90" y="17"/>
                    </a:lnTo>
                    <a:lnTo>
                      <a:pt x="67" y="10"/>
                    </a:lnTo>
                    <a:lnTo>
                      <a:pt x="44" y="4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26"/>
                    </a:lnTo>
                    <a:lnTo>
                      <a:pt x="40" y="28"/>
                    </a:lnTo>
                    <a:lnTo>
                      <a:pt x="60" y="33"/>
                    </a:lnTo>
                    <a:lnTo>
                      <a:pt x="82" y="40"/>
                    </a:lnTo>
                    <a:lnTo>
                      <a:pt x="103" y="48"/>
                    </a:lnTo>
                    <a:lnTo>
                      <a:pt x="123" y="58"/>
                    </a:lnTo>
                    <a:lnTo>
                      <a:pt x="144" y="69"/>
                    </a:lnTo>
                    <a:lnTo>
                      <a:pt x="164" y="81"/>
                    </a:lnTo>
                    <a:lnTo>
                      <a:pt x="184" y="94"/>
                    </a:lnTo>
                    <a:lnTo>
                      <a:pt x="202" y="109"/>
                    </a:lnTo>
                    <a:lnTo>
                      <a:pt x="220" y="124"/>
                    </a:lnTo>
                    <a:lnTo>
                      <a:pt x="237" y="141"/>
                    </a:lnTo>
                    <a:lnTo>
                      <a:pt x="253" y="157"/>
                    </a:lnTo>
                    <a:lnTo>
                      <a:pt x="268" y="174"/>
                    </a:lnTo>
                    <a:lnTo>
                      <a:pt x="280" y="192"/>
                    </a:lnTo>
                    <a:lnTo>
                      <a:pt x="293" y="209"/>
                    </a:lnTo>
                    <a:lnTo>
                      <a:pt x="303" y="228"/>
                    </a:lnTo>
                    <a:lnTo>
                      <a:pt x="311" y="245"/>
                    </a:lnTo>
                    <a:lnTo>
                      <a:pt x="318" y="262"/>
                    </a:lnTo>
                    <a:lnTo>
                      <a:pt x="323" y="279"/>
                    </a:lnTo>
                    <a:lnTo>
                      <a:pt x="326" y="295"/>
                    </a:lnTo>
                    <a:lnTo>
                      <a:pt x="326" y="311"/>
                    </a:lnTo>
                    <a:lnTo>
                      <a:pt x="326" y="319"/>
                    </a:lnTo>
                    <a:lnTo>
                      <a:pt x="325" y="326"/>
                    </a:lnTo>
                    <a:lnTo>
                      <a:pt x="324" y="333"/>
                    </a:lnTo>
                    <a:lnTo>
                      <a:pt x="321" y="339"/>
                    </a:lnTo>
                    <a:lnTo>
                      <a:pt x="319" y="346"/>
                    </a:lnTo>
                    <a:lnTo>
                      <a:pt x="316" y="352"/>
                    </a:lnTo>
                    <a:lnTo>
                      <a:pt x="312" y="359"/>
                    </a:lnTo>
                    <a:lnTo>
                      <a:pt x="308" y="364"/>
                    </a:lnTo>
                    <a:lnTo>
                      <a:pt x="302" y="370"/>
                    </a:lnTo>
                    <a:lnTo>
                      <a:pt x="296" y="376"/>
                    </a:lnTo>
                    <a:lnTo>
                      <a:pt x="291" y="380"/>
                    </a:lnTo>
                    <a:lnTo>
                      <a:pt x="283" y="386"/>
                    </a:lnTo>
                    <a:lnTo>
                      <a:pt x="275" y="391"/>
                    </a:lnTo>
                    <a:lnTo>
                      <a:pt x="267" y="395"/>
                    </a:lnTo>
                    <a:lnTo>
                      <a:pt x="256" y="400"/>
                    </a:lnTo>
                    <a:lnTo>
                      <a:pt x="246" y="403"/>
                    </a:lnTo>
                    <a:lnTo>
                      <a:pt x="235" y="407"/>
                    </a:lnTo>
                    <a:lnTo>
                      <a:pt x="222" y="410"/>
                    </a:lnTo>
                    <a:lnTo>
                      <a:pt x="210" y="412"/>
                    </a:lnTo>
                    <a:lnTo>
                      <a:pt x="195" y="415"/>
                    </a:lnTo>
                    <a:lnTo>
                      <a:pt x="195" y="415"/>
                    </a:lnTo>
                    <a:lnTo>
                      <a:pt x="198" y="4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840040" y="414828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14" y="270"/>
                    </a:moveTo>
                    <a:lnTo>
                      <a:pt x="232" y="265"/>
                    </a:lnTo>
                    <a:lnTo>
                      <a:pt x="238" y="253"/>
                    </a:lnTo>
                    <a:lnTo>
                      <a:pt x="245" y="239"/>
                    </a:lnTo>
                    <a:lnTo>
                      <a:pt x="251" y="228"/>
                    </a:lnTo>
                    <a:lnTo>
                      <a:pt x="255" y="215"/>
                    </a:lnTo>
                    <a:lnTo>
                      <a:pt x="259" y="204"/>
                    </a:lnTo>
                    <a:lnTo>
                      <a:pt x="261" y="192"/>
                    </a:lnTo>
                    <a:lnTo>
                      <a:pt x="262" y="182"/>
                    </a:lnTo>
                    <a:lnTo>
                      <a:pt x="263" y="171"/>
                    </a:lnTo>
                    <a:lnTo>
                      <a:pt x="263" y="162"/>
                    </a:lnTo>
                    <a:lnTo>
                      <a:pt x="262" y="151"/>
                    </a:lnTo>
                    <a:lnTo>
                      <a:pt x="260" y="142"/>
                    </a:lnTo>
                    <a:lnTo>
                      <a:pt x="258" y="133"/>
                    </a:lnTo>
                    <a:lnTo>
                      <a:pt x="254" y="124"/>
                    </a:lnTo>
                    <a:lnTo>
                      <a:pt x="250" y="116"/>
                    </a:lnTo>
                    <a:lnTo>
                      <a:pt x="245" y="109"/>
                    </a:lnTo>
                    <a:lnTo>
                      <a:pt x="240" y="101"/>
                    </a:lnTo>
                    <a:lnTo>
                      <a:pt x="227" y="89"/>
                    </a:lnTo>
                    <a:lnTo>
                      <a:pt x="213" y="77"/>
                    </a:lnTo>
                    <a:lnTo>
                      <a:pt x="197" y="67"/>
                    </a:lnTo>
                    <a:lnTo>
                      <a:pt x="181" y="59"/>
                    </a:lnTo>
                    <a:lnTo>
                      <a:pt x="164" y="51"/>
                    </a:lnTo>
                    <a:lnTo>
                      <a:pt x="147" y="44"/>
                    </a:lnTo>
                    <a:lnTo>
                      <a:pt x="130" y="38"/>
                    </a:lnTo>
                    <a:lnTo>
                      <a:pt x="112" y="34"/>
                    </a:lnTo>
                    <a:lnTo>
                      <a:pt x="51" y="21"/>
                    </a:lnTo>
                    <a:lnTo>
                      <a:pt x="16" y="14"/>
                    </a:lnTo>
                    <a:lnTo>
                      <a:pt x="17" y="16"/>
                    </a:lnTo>
                    <a:lnTo>
                      <a:pt x="21" y="18"/>
                    </a:lnTo>
                    <a:lnTo>
                      <a:pt x="22" y="30"/>
                    </a:lnTo>
                    <a:lnTo>
                      <a:pt x="16" y="35"/>
                    </a:lnTo>
                    <a:lnTo>
                      <a:pt x="18" y="35"/>
                    </a:lnTo>
                    <a:lnTo>
                      <a:pt x="25" y="33"/>
                    </a:lnTo>
                    <a:lnTo>
                      <a:pt x="53" y="29"/>
                    </a:lnTo>
                    <a:lnTo>
                      <a:pt x="99" y="24"/>
                    </a:lnTo>
                    <a:lnTo>
                      <a:pt x="96" y="0"/>
                    </a:lnTo>
                    <a:lnTo>
                      <a:pt x="50" y="5"/>
                    </a:lnTo>
                    <a:lnTo>
                      <a:pt x="22" y="9"/>
                    </a:lnTo>
                    <a:lnTo>
                      <a:pt x="13" y="11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1" y="33"/>
                    </a:lnTo>
                    <a:lnTo>
                      <a:pt x="7" y="37"/>
                    </a:lnTo>
                    <a:lnTo>
                      <a:pt x="12" y="38"/>
                    </a:lnTo>
                    <a:lnTo>
                      <a:pt x="46" y="45"/>
                    </a:lnTo>
                    <a:lnTo>
                      <a:pt x="107" y="58"/>
                    </a:lnTo>
                    <a:lnTo>
                      <a:pt x="123" y="62"/>
                    </a:lnTo>
                    <a:lnTo>
                      <a:pt x="139" y="67"/>
                    </a:lnTo>
                    <a:lnTo>
                      <a:pt x="155" y="74"/>
                    </a:lnTo>
                    <a:lnTo>
                      <a:pt x="171" y="81"/>
                    </a:lnTo>
                    <a:lnTo>
                      <a:pt x="186" y="87"/>
                    </a:lnTo>
                    <a:lnTo>
                      <a:pt x="198" y="97"/>
                    </a:lnTo>
                    <a:lnTo>
                      <a:pt x="211" y="107"/>
                    </a:lnTo>
                    <a:lnTo>
                      <a:pt x="221" y="117"/>
                    </a:lnTo>
                    <a:lnTo>
                      <a:pt x="225" y="123"/>
                    </a:lnTo>
                    <a:lnTo>
                      <a:pt x="229" y="128"/>
                    </a:lnTo>
                    <a:lnTo>
                      <a:pt x="232" y="134"/>
                    </a:lnTo>
                    <a:lnTo>
                      <a:pt x="235" y="141"/>
                    </a:lnTo>
                    <a:lnTo>
                      <a:pt x="237" y="148"/>
                    </a:lnTo>
                    <a:lnTo>
                      <a:pt x="238" y="155"/>
                    </a:lnTo>
                    <a:lnTo>
                      <a:pt x="240" y="163"/>
                    </a:lnTo>
                    <a:lnTo>
                      <a:pt x="240" y="171"/>
                    </a:lnTo>
                    <a:lnTo>
                      <a:pt x="238" y="179"/>
                    </a:lnTo>
                    <a:lnTo>
                      <a:pt x="237" y="188"/>
                    </a:lnTo>
                    <a:lnTo>
                      <a:pt x="235" y="198"/>
                    </a:lnTo>
                    <a:lnTo>
                      <a:pt x="233" y="207"/>
                    </a:lnTo>
                    <a:lnTo>
                      <a:pt x="228" y="217"/>
                    </a:lnTo>
                    <a:lnTo>
                      <a:pt x="224" y="229"/>
                    </a:lnTo>
                    <a:lnTo>
                      <a:pt x="218" y="240"/>
                    </a:lnTo>
                    <a:lnTo>
                      <a:pt x="211" y="253"/>
                    </a:lnTo>
                    <a:lnTo>
                      <a:pt x="227" y="249"/>
                    </a:lnTo>
                    <a:lnTo>
                      <a:pt x="211" y="253"/>
                    </a:lnTo>
                    <a:lnTo>
                      <a:pt x="209" y="257"/>
                    </a:lnTo>
                    <a:lnTo>
                      <a:pt x="209" y="263"/>
                    </a:lnTo>
                    <a:lnTo>
                      <a:pt x="211" y="266"/>
                    </a:lnTo>
                    <a:lnTo>
                      <a:pt x="214" y="270"/>
                    </a:lnTo>
                    <a:lnTo>
                      <a:pt x="219" y="271"/>
                    </a:lnTo>
                    <a:lnTo>
                      <a:pt x="224" y="271"/>
                    </a:lnTo>
                    <a:lnTo>
                      <a:pt x="227" y="270"/>
                    </a:lnTo>
                    <a:lnTo>
                      <a:pt x="232" y="265"/>
                    </a:lnTo>
                    <a:lnTo>
                      <a:pt x="214" y="27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819520" y="4145400"/>
                <a:ext cx="93600" cy="88560"/>
              </a:xfrm>
              <a:custGeom>
                <a:avLst/>
                <a:gdLst/>
                <a:ahLst/>
                <a:rect l="l" t="t" r="r" b="b"/>
                <a:pathLst>
                  <a:path w="294" h="277">
                    <a:moveTo>
                      <a:pt x="24" y="13"/>
                    </a:moveTo>
                    <a:lnTo>
                      <a:pt x="1" y="16"/>
                    </a:lnTo>
                    <a:lnTo>
                      <a:pt x="11" y="37"/>
                    </a:lnTo>
                    <a:lnTo>
                      <a:pt x="23" y="59"/>
                    </a:lnTo>
                    <a:lnTo>
                      <a:pt x="36" y="78"/>
                    </a:lnTo>
                    <a:lnTo>
                      <a:pt x="50" y="97"/>
                    </a:lnTo>
                    <a:lnTo>
                      <a:pt x="66" y="115"/>
                    </a:lnTo>
                    <a:lnTo>
                      <a:pt x="82" y="132"/>
                    </a:lnTo>
                    <a:lnTo>
                      <a:pt x="99" y="148"/>
                    </a:lnTo>
                    <a:lnTo>
                      <a:pt x="117" y="164"/>
                    </a:lnTo>
                    <a:lnTo>
                      <a:pt x="137" y="180"/>
                    </a:lnTo>
                    <a:lnTo>
                      <a:pt x="156" y="195"/>
                    </a:lnTo>
                    <a:lnTo>
                      <a:pt x="177" y="208"/>
                    </a:lnTo>
                    <a:lnTo>
                      <a:pt x="197" y="222"/>
                    </a:lnTo>
                    <a:lnTo>
                      <a:pt x="238" y="249"/>
                    </a:lnTo>
                    <a:lnTo>
                      <a:pt x="281" y="277"/>
                    </a:lnTo>
                    <a:lnTo>
                      <a:pt x="294" y="256"/>
                    </a:lnTo>
                    <a:lnTo>
                      <a:pt x="252" y="229"/>
                    </a:lnTo>
                    <a:lnTo>
                      <a:pt x="210" y="203"/>
                    </a:lnTo>
                    <a:lnTo>
                      <a:pt x="190" y="189"/>
                    </a:lnTo>
                    <a:lnTo>
                      <a:pt x="171" y="174"/>
                    </a:lnTo>
                    <a:lnTo>
                      <a:pt x="152" y="161"/>
                    </a:lnTo>
                    <a:lnTo>
                      <a:pt x="133" y="146"/>
                    </a:lnTo>
                    <a:lnTo>
                      <a:pt x="116" y="131"/>
                    </a:lnTo>
                    <a:lnTo>
                      <a:pt x="99" y="115"/>
                    </a:lnTo>
                    <a:lnTo>
                      <a:pt x="84" y="99"/>
                    </a:lnTo>
                    <a:lnTo>
                      <a:pt x="69" y="82"/>
                    </a:lnTo>
                    <a:lnTo>
                      <a:pt x="56" y="65"/>
                    </a:lnTo>
                    <a:lnTo>
                      <a:pt x="44" y="47"/>
                    </a:lnTo>
                    <a:lnTo>
                      <a:pt x="33" y="27"/>
                    </a:lnTo>
                    <a:lnTo>
                      <a:pt x="24" y="7"/>
                    </a:lnTo>
                    <a:lnTo>
                      <a:pt x="1" y="9"/>
                    </a:lnTo>
                    <a:lnTo>
                      <a:pt x="24" y="7"/>
                    </a:lnTo>
                    <a:lnTo>
                      <a:pt x="20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230640" y="3972240"/>
                <a:ext cx="252360" cy="290520"/>
              </a:xfrm>
              <a:custGeom>
                <a:avLst/>
                <a:gdLst/>
                <a:ahLst/>
                <a:rect l="l" t="t" r="r" b="b"/>
                <a:pathLst>
                  <a:path w="795" h="914">
                    <a:moveTo>
                      <a:pt x="421" y="351"/>
                    </a:moveTo>
                    <a:lnTo>
                      <a:pt x="437" y="376"/>
                    </a:lnTo>
                    <a:lnTo>
                      <a:pt x="456" y="400"/>
                    </a:lnTo>
                    <a:lnTo>
                      <a:pt x="475" y="424"/>
                    </a:lnTo>
                    <a:lnTo>
                      <a:pt x="495" y="446"/>
                    </a:lnTo>
                    <a:lnTo>
                      <a:pt x="539" y="493"/>
                    </a:lnTo>
                    <a:lnTo>
                      <a:pt x="583" y="540"/>
                    </a:lnTo>
                    <a:lnTo>
                      <a:pt x="605" y="564"/>
                    </a:lnTo>
                    <a:lnTo>
                      <a:pt x="625" y="589"/>
                    </a:lnTo>
                    <a:lnTo>
                      <a:pt x="644" y="615"/>
                    </a:lnTo>
                    <a:lnTo>
                      <a:pt x="661" y="643"/>
                    </a:lnTo>
                    <a:lnTo>
                      <a:pt x="669" y="657"/>
                    </a:lnTo>
                    <a:lnTo>
                      <a:pt x="677" y="671"/>
                    </a:lnTo>
                    <a:lnTo>
                      <a:pt x="683" y="687"/>
                    </a:lnTo>
                    <a:lnTo>
                      <a:pt x="689" y="702"/>
                    </a:lnTo>
                    <a:lnTo>
                      <a:pt x="695" y="718"/>
                    </a:lnTo>
                    <a:lnTo>
                      <a:pt x="699" y="734"/>
                    </a:lnTo>
                    <a:lnTo>
                      <a:pt x="703" y="751"/>
                    </a:lnTo>
                    <a:lnTo>
                      <a:pt x="705" y="768"/>
                    </a:lnTo>
                    <a:lnTo>
                      <a:pt x="691" y="769"/>
                    </a:lnTo>
                    <a:lnTo>
                      <a:pt x="677" y="770"/>
                    </a:lnTo>
                    <a:lnTo>
                      <a:pt x="662" y="770"/>
                    </a:lnTo>
                    <a:lnTo>
                      <a:pt x="646" y="769"/>
                    </a:lnTo>
                    <a:lnTo>
                      <a:pt x="630" y="767"/>
                    </a:lnTo>
                    <a:lnTo>
                      <a:pt x="614" y="765"/>
                    </a:lnTo>
                    <a:lnTo>
                      <a:pt x="597" y="761"/>
                    </a:lnTo>
                    <a:lnTo>
                      <a:pt x="581" y="757"/>
                    </a:lnTo>
                    <a:lnTo>
                      <a:pt x="564" y="751"/>
                    </a:lnTo>
                    <a:lnTo>
                      <a:pt x="547" y="745"/>
                    </a:lnTo>
                    <a:lnTo>
                      <a:pt x="530" y="739"/>
                    </a:lnTo>
                    <a:lnTo>
                      <a:pt x="512" y="731"/>
                    </a:lnTo>
                    <a:lnTo>
                      <a:pt x="495" y="723"/>
                    </a:lnTo>
                    <a:lnTo>
                      <a:pt x="478" y="716"/>
                    </a:lnTo>
                    <a:lnTo>
                      <a:pt x="462" y="706"/>
                    </a:lnTo>
                    <a:lnTo>
                      <a:pt x="445" y="697"/>
                    </a:lnTo>
                    <a:lnTo>
                      <a:pt x="429" y="687"/>
                    </a:lnTo>
                    <a:lnTo>
                      <a:pt x="414" y="676"/>
                    </a:lnTo>
                    <a:lnTo>
                      <a:pt x="400" y="665"/>
                    </a:lnTo>
                    <a:lnTo>
                      <a:pt x="385" y="653"/>
                    </a:lnTo>
                    <a:lnTo>
                      <a:pt x="371" y="641"/>
                    </a:lnTo>
                    <a:lnTo>
                      <a:pt x="357" y="629"/>
                    </a:lnTo>
                    <a:lnTo>
                      <a:pt x="345" y="616"/>
                    </a:lnTo>
                    <a:lnTo>
                      <a:pt x="334" y="603"/>
                    </a:lnTo>
                    <a:lnTo>
                      <a:pt x="323" y="590"/>
                    </a:lnTo>
                    <a:lnTo>
                      <a:pt x="313" y="576"/>
                    </a:lnTo>
                    <a:lnTo>
                      <a:pt x="304" y="562"/>
                    </a:lnTo>
                    <a:lnTo>
                      <a:pt x="297" y="548"/>
                    </a:lnTo>
                    <a:lnTo>
                      <a:pt x="290" y="533"/>
                    </a:lnTo>
                    <a:lnTo>
                      <a:pt x="285" y="518"/>
                    </a:lnTo>
                    <a:lnTo>
                      <a:pt x="281" y="503"/>
                    </a:lnTo>
                    <a:lnTo>
                      <a:pt x="278" y="489"/>
                    </a:lnTo>
                    <a:lnTo>
                      <a:pt x="280" y="508"/>
                    </a:lnTo>
                    <a:lnTo>
                      <a:pt x="281" y="526"/>
                    </a:lnTo>
                    <a:lnTo>
                      <a:pt x="281" y="545"/>
                    </a:lnTo>
                    <a:lnTo>
                      <a:pt x="280" y="562"/>
                    </a:lnTo>
                    <a:lnTo>
                      <a:pt x="279" y="579"/>
                    </a:lnTo>
                    <a:lnTo>
                      <a:pt x="277" y="596"/>
                    </a:lnTo>
                    <a:lnTo>
                      <a:pt x="273" y="612"/>
                    </a:lnTo>
                    <a:lnTo>
                      <a:pt x="269" y="628"/>
                    </a:lnTo>
                    <a:lnTo>
                      <a:pt x="264" y="643"/>
                    </a:lnTo>
                    <a:lnTo>
                      <a:pt x="258" y="659"/>
                    </a:lnTo>
                    <a:lnTo>
                      <a:pt x="253" y="673"/>
                    </a:lnTo>
                    <a:lnTo>
                      <a:pt x="246" y="687"/>
                    </a:lnTo>
                    <a:lnTo>
                      <a:pt x="238" y="702"/>
                    </a:lnTo>
                    <a:lnTo>
                      <a:pt x="230" y="716"/>
                    </a:lnTo>
                    <a:lnTo>
                      <a:pt x="221" y="728"/>
                    </a:lnTo>
                    <a:lnTo>
                      <a:pt x="212" y="742"/>
                    </a:lnTo>
                    <a:lnTo>
                      <a:pt x="191" y="767"/>
                    </a:lnTo>
                    <a:lnTo>
                      <a:pt x="169" y="791"/>
                    </a:lnTo>
                    <a:lnTo>
                      <a:pt x="146" y="814"/>
                    </a:lnTo>
                    <a:lnTo>
                      <a:pt x="120" y="835"/>
                    </a:lnTo>
                    <a:lnTo>
                      <a:pt x="95" y="857"/>
                    </a:lnTo>
                    <a:lnTo>
                      <a:pt x="68" y="876"/>
                    </a:lnTo>
                    <a:lnTo>
                      <a:pt x="41" y="896"/>
                    </a:lnTo>
                    <a:lnTo>
                      <a:pt x="13" y="914"/>
                    </a:lnTo>
                    <a:lnTo>
                      <a:pt x="9" y="883"/>
                    </a:lnTo>
                    <a:lnTo>
                      <a:pt x="5" y="855"/>
                    </a:lnTo>
                    <a:lnTo>
                      <a:pt x="3" y="827"/>
                    </a:lnTo>
                    <a:lnTo>
                      <a:pt x="1" y="802"/>
                    </a:lnTo>
                    <a:lnTo>
                      <a:pt x="0" y="778"/>
                    </a:lnTo>
                    <a:lnTo>
                      <a:pt x="0" y="757"/>
                    </a:lnTo>
                    <a:lnTo>
                      <a:pt x="1" y="736"/>
                    </a:lnTo>
                    <a:lnTo>
                      <a:pt x="2" y="716"/>
                    </a:lnTo>
                    <a:lnTo>
                      <a:pt x="4" y="697"/>
                    </a:lnTo>
                    <a:lnTo>
                      <a:pt x="6" y="680"/>
                    </a:lnTo>
                    <a:lnTo>
                      <a:pt x="10" y="664"/>
                    </a:lnTo>
                    <a:lnTo>
                      <a:pt x="14" y="649"/>
                    </a:lnTo>
                    <a:lnTo>
                      <a:pt x="19" y="636"/>
                    </a:lnTo>
                    <a:lnTo>
                      <a:pt x="26" y="622"/>
                    </a:lnTo>
                    <a:lnTo>
                      <a:pt x="32" y="609"/>
                    </a:lnTo>
                    <a:lnTo>
                      <a:pt x="40" y="598"/>
                    </a:lnTo>
                    <a:lnTo>
                      <a:pt x="47" y="587"/>
                    </a:lnTo>
                    <a:lnTo>
                      <a:pt x="57" y="575"/>
                    </a:lnTo>
                    <a:lnTo>
                      <a:pt x="66" y="565"/>
                    </a:lnTo>
                    <a:lnTo>
                      <a:pt x="76" y="555"/>
                    </a:lnTo>
                    <a:lnTo>
                      <a:pt x="99" y="537"/>
                    </a:lnTo>
                    <a:lnTo>
                      <a:pt x="124" y="517"/>
                    </a:lnTo>
                    <a:lnTo>
                      <a:pt x="184" y="478"/>
                    </a:lnTo>
                    <a:lnTo>
                      <a:pt x="255" y="434"/>
                    </a:lnTo>
                    <a:lnTo>
                      <a:pt x="253" y="424"/>
                    </a:lnTo>
                    <a:lnTo>
                      <a:pt x="245" y="409"/>
                    </a:lnTo>
                    <a:lnTo>
                      <a:pt x="234" y="389"/>
                    </a:lnTo>
                    <a:lnTo>
                      <a:pt x="222" y="368"/>
                    </a:lnTo>
                    <a:lnTo>
                      <a:pt x="191" y="317"/>
                    </a:lnTo>
                    <a:lnTo>
                      <a:pt x="159" y="260"/>
                    </a:lnTo>
                    <a:lnTo>
                      <a:pt x="144" y="231"/>
                    </a:lnTo>
                    <a:lnTo>
                      <a:pt x="132" y="201"/>
                    </a:lnTo>
                    <a:lnTo>
                      <a:pt x="126" y="188"/>
                    </a:lnTo>
                    <a:lnTo>
                      <a:pt x="120" y="174"/>
                    </a:lnTo>
                    <a:lnTo>
                      <a:pt x="116" y="160"/>
                    </a:lnTo>
                    <a:lnTo>
                      <a:pt x="112" y="147"/>
                    </a:lnTo>
                    <a:lnTo>
                      <a:pt x="110" y="134"/>
                    </a:lnTo>
                    <a:lnTo>
                      <a:pt x="109" y="123"/>
                    </a:lnTo>
                    <a:lnTo>
                      <a:pt x="109" y="111"/>
                    </a:lnTo>
                    <a:lnTo>
                      <a:pt x="109" y="100"/>
                    </a:lnTo>
                    <a:lnTo>
                      <a:pt x="111" y="91"/>
                    </a:lnTo>
                    <a:lnTo>
                      <a:pt x="116" y="82"/>
                    </a:lnTo>
                    <a:lnTo>
                      <a:pt x="120" y="74"/>
                    </a:lnTo>
                    <a:lnTo>
                      <a:pt x="127" y="67"/>
                    </a:lnTo>
                    <a:lnTo>
                      <a:pt x="144" y="53"/>
                    </a:lnTo>
                    <a:lnTo>
                      <a:pt x="163" y="42"/>
                    </a:lnTo>
                    <a:lnTo>
                      <a:pt x="183" y="33"/>
                    </a:lnTo>
                    <a:lnTo>
                      <a:pt x="204" y="24"/>
                    </a:lnTo>
                    <a:lnTo>
                      <a:pt x="225" y="17"/>
                    </a:lnTo>
                    <a:lnTo>
                      <a:pt x="248" y="10"/>
                    </a:lnTo>
                    <a:lnTo>
                      <a:pt x="272" y="5"/>
                    </a:lnTo>
                    <a:lnTo>
                      <a:pt x="296" y="2"/>
                    </a:lnTo>
                    <a:lnTo>
                      <a:pt x="320" y="0"/>
                    </a:lnTo>
                    <a:lnTo>
                      <a:pt x="344" y="0"/>
                    </a:lnTo>
                    <a:lnTo>
                      <a:pt x="369" y="0"/>
                    </a:lnTo>
                    <a:lnTo>
                      <a:pt x="393" y="1"/>
                    </a:lnTo>
                    <a:lnTo>
                      <a:pt x="416" y="4"/>
                    </a:lnTo>
                    <a:lnTo>
                      <a:pt x="438" y="8"/>
                    </a:lnTo>
                    <a:lnTo>
                      <a:pt x="461" y="13"/>
                    </a:lnTo>
                    <a:lnTo>
                      <a:pt x="482" y="19"/>
                    </a:lnTo>
                    <a:lnTo>
                      <a:pt x="502" y="27"/>
                    </a:lnTo>
                    <a:lnTo>
                      <a:pt x="520" y="35"/>
                    </a:lnTo>
                    <a:lnTo>
                      <a:pt x="538" y="44"/>
                    </a:lnTo>
                    <a:lnTo>
                      <a:pt x="552" y="55"/>
                    </a:lnTo>
                    <a:lnTo>
                      <a:pt x="566" y="67"/>
                    </a:lnTo>
                    <a:lnTo>
                      <a:pt x="577" y="79"/>
                    </a:lnTo>
                    <a:lnTo>
                      <a:pt x="588" y="93"/>
                    </a:lnTo>
                    <a:lnTo>
                      <a:pt x="595" y="108"/>
                    </a:lnTo>
                    <a:lnTo>
                      <a:pt x="599" y="124"/>
                    </a:lnTo>
                    <a:lnTo>
                      <a:pt x="600" y="140"/>
                    </a:lnTo>
                    <a:lnTo>
                      <a:pt x="599" y="157"/>
                    </a:lnTo>
                    <a:lnTo>
                      <a:pt x="595" y="176"/>
                    </a:lnTo>
                    <a:lnTo>
                      <a:pt x="587" y="196"/>
                    </a:lnTo>
                    <a:lnTo>
                      <a:pt x="576" y="215"/>
                    </a:lnTo>
                    <a:lnTo>
                      <a:pt x="561" y="237"/>
                    </a:lnTo>
                    <a:lnTo>
                      <a:pt x="543" y="258"/>
                    </a:lnTo>
                    <a:lnTo>
                      <a:pt x="511" y="293"/>
                    </a:lnTo>
                    <a:lnTo>
                      <a:pt x="493" y="314"/>
                    </a:lnTo>
                    <a:lnTo>
                      <a:pt x="487" y="320"/>
                    </a:lnTo>
                    <a:lnTo>
                      <a:pt x="485" y="324"/>
                    </a:lnTo>
                    <a:lnTo>
                      <a:pt x="486" y="326"/>
                    </a:lnTo>
                    <a:lnTo>
                      <a:pt x="489" y="324"/>
                    </a:lnTo>
                    <a:lnTo>
                      <a:pt x="520" y="307"/>
                    </a:lnTo>
                    <a:lnTo>
                      <a:pt x="574" y="278"/>
                    </a:lnTo>
                    <a:lnTo>
                      <a:pt x="590" y="271"/>
                    </a:lnTo>
                    <a:lnTo>
                      <a:pt x="607" y="264"/>
                    </a:lnTo>
                    <a:lnTo>
                      <a:pt x="624" y="258"/>
                    </a:lnTo>
                    <a:lnTo>
                      <a:pt x="641" y="253"/>
                    </a:lnTo>
                    <a:lnTo>
                      <a:pt x="658" y="249"/>
                    </a:lnTo>
                    <a:lnTo>
                      <a:pt x="674" y="247"/>
                    </a:lnTo>
                    <a:lnTo>
                      <a:pt x="691" y="247"/>
                    </a:lnTo>
                    <a:lnTo>
                      <a:pt x="707" y="249"/>
                    </a:lnTo>
                    <a:lnTo>
                      <a:pt x="723" y="253"/>
                    </a:lnTo>
                    <a:lnTo>
                      <a:pt x="737" y="260"/>
                    </a:lnTo>
                    <a:lnTo>
                      <a:pt x="751" y="270"/>
                    </a:lnTo>
                    <a:lnTo>
                      <a:pt x="763" y="282"/>
                    </a:lnTo>
                    <a:lnTo>
                      <a:pt x="773" y="298"/>
                    </a:lnTo>
                    <a:lnTo>
                      <a:pt x="783" y="319"/>
                    </a:lnTo>
                    <a:lnTo>
                      <a:pt x="791" y="342"/>
                    </a:lnTo>
                    <a:lnTo>
                      <a:pt x="795" y="370"/>
                    </a:lnTo>
                    <a:lnTo>
                      <a:pt x="746" y="377"/>
                    </a:lnTo>
                    <a:lnTo>
                      <a:pt x="697" y="383"/>
                    </a:lnTo>
                    <a:lnTo>
                      <a:pt x="673" y="385"/>
                    </a:lnTo>
                    <a:lnTo>
                      <a:pt x="648" y="387"/>
                    </a:lnTo>
                    <a:lnTo>
                      <a:pt x="624" y="388"/>
                    </a:lnTo>
                    <a:lnTo>
                      <a:pt x="601" y="388"/>
                    </a:lnTo>
                    <a:lnTo>
                      <a:pt x="577" y="388"/>
                    </a:lnTo>
                    <a:lnTo>
                      <a:pt x="554" y="387"/>
                    </a:lnTo>
                    <a:lnTo>
                      <a:pt x="531" y="384"/>
                    </a:lnTo>
                    <a:lnTo>
                      <a:pt x="508" y="380"/>
                    </a:lnTo>
                    <a:lnTo>
                      <a:pt x="486" y="375"/>
                    </a:lnTo>
                    <a:lnTo>
                      <a:pt x="465" y="369"/>
                    </a:lnTo>
                    <a:lnTo>
                      <a:pt x="443" y="360"/>
                    </a:lnTo>
                    <a:lnTo>
                      <a:pt x="421" y="351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360600" y="4081680"/>
                <a:ext cx="96840" cy="138240"/>
              </a:xfrm>
              <a:custGeom>
                <a:avLst/>
                <a:gdLst/>
                <a:ahLst/>
                <a:rect l="l" t="t" r="r" b="b"/>
                <a:pathLst>
                  <a:path w="307" h="435">
                    <a:moveTo>
                      <a:pt x="296" y="435"/>
                    </a:moveTo>
                    <a:lnTo>
                      <a:pt x="307" y="422"/>
                    </a:lnTo>
                    <a:lnTo>
                      <a:pt x="303" y="404"/>
                    </a:lnTo>
                    <a:lnTo>
                      <a:pt x="300" y="386"/>
                    </a:lnTo>
                    <a:lnTo>
                      <a:pt x="295" y="369"/>
                    </a:lnTo>
                    <a:lnTo>
                      <a:pt x="290" y="352"/>
                    </a:lnTo>
                    <a:lnTo>
                      <a:pt x="283" y="336"/>
                    </a:lnTo>
                    <a:lnTo>
                      <a:pt x="276" y="321"/>
                    </a:lnTo>
                    <a:lnTo>
                      <a:pt x="269" y="307"/>
                    </a:lnTo>
                    <a:lnTo>
                      <a:pt x="261" y="292"/>
                    </a:lnTo>
                    <a:lnTo>
                      <a:pt x="243" y="263"/>
                    </a:lnTo>
                    <a:lnTo>
                      <a:pt x="223" y="237"/>
                    </a:lnTo>
                    <a:lnTo>
                      <a:pt x="203" y="211"/>
                    </a:lnTo>
                    <a:lnTo>
                      <a:pt x="181" y="187"/>
                    </a:lnTo>
                    <a:lnTo>
                      <a:pt x="137" y="139"/>
                    </a:lnTo>
                    <a:lnTo>
                      <a:pt x="94" y="93"/>
                    </a:lnTo>
                    <a:lnTo>
                      <a:pt x="73" y="71"/>
                    </a:lnTo>
                    <a:lnTo>
                      <a:pt x="54" y="47"/>
                    </a:lnTo>
                    <a:lnTo>
                      <a:pt x="37" y="24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16" y="38"/>
                    </a:lnTo>
                    <a:lnTo>
                      <a:pt x="34" y="62"/>
                    </a:lnTo>
                    <a:lnTo>
                      <a:pt x="55" y="86"/>
                    </a:lnTo>
                    <a:lnTo>
                      <a:pt x="75" y="109"/>
                    </a:lnTo>
                    <a:lnTo>
                      <a:pt x="119" y="156"/>
                    </a:lnTo>
                    <a:lnTo>
                      <a:pt x="163" y="203"/>
                    </a:lnTo>
                    <a:lnTo>
                      <a:pt x="185" y="227"/>
                    </a:lnTo>
                    <a:lnTo>
                      <a:pt x="204" y="252"/>
                    </a:lnTo>
                    <a:lnTo>
                      <a:pt x="223" y="277"/>
                    </a:lnTo>
                    <a:lnTo>
                      <a:pt x="239" y="304"/>
                    </a:lnTo>
                    <a:lnTo>
                      <a:pt x="247" y="318"/>
                    </a:lnTo>
                    <a:lnTo>
                      <a:pt x="254" y="332"/>
                    </a:lnTo>
                    <a:lnTo>
                      <a:pt x="261" y="347"/>
                    </a:lnTo>
                    <a:lnTo>
                      <a:pt x="267" y="361"/>
                    </a:lnTo>
                    <a:lnTo>
                      <a:pt x="271" y="376"/>
                    </a:lnTo>
                    <a:lnTo>
                      <a:pt x="276" y="392"/>
                    </a:lnTo>
                    <a:lnTo>
                      <a:pt x="279" y="408"/>
                    </a:lnTo>
                    <a:lnTo>
                      <a:pt x="283" y="425"/>
                    </a:lnTo>
                    <a:lnTo>
                      <a:pt x="293" y="412"/>
                    </a:lnTo>
                    <a:lnTo>
                      <a:pt x="283" y="425"/>
                    </a:lnTo>
                    <a:lnTo>
                      <a:pt x="284" y="430"/>
                    </a:lnTo>
                    <a:lnTo>
                      <a:pt x="287" y="433"/>
                    </a:lnTo>
                    <a:lnTo>
                      <a:pt x="292" y="434"/>
                    </a:lnTo>
                    <a:lnTo>
                      <a:pt x="296" y="435"/>
                    </a:lnTo>
                    <a:lnTo>
                      <a:pt x="301" y="433"/>
                    </a:lnTo>
                    <a:lnTo>
                      <a:pt x="304" y="431"/>
                    </a:lnTo>
                    <a:lnTo>
                      <a:pt x="307" y="426"/>
                    </a:lnTo>
                    <a:lnTo>
                      <a:pt x="307" y="422"/>
                    </a:lnTo>
                    <a:lnTo>
                      <a:pt x="296" y="4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314880" y="4123080"/>
                <a:ext cx="139680" cy="98280"/>
              </a:xfrm>
              <a:custGeom>
                <a:avLst/>
                <a:gdLst/>
                <a:ahLst/>
                <a:rect l="l" t="t" r="r" b="b"/>
                <a:pathLst>
                  <a:path w="441" h="306">
                    <a:moveTo>
                      <a:pt x="24" y="11"/>
                    </a:moveTo>
                    <a:lnTo>
                      <a:pt x="0" y="14"/>
                    </a:lnTo>
                    <a:lnTo>
                      <a:pt x="3" y="30"/>
                    </a:lnTo>
                    <a:lnTo>
                      <a:pt x="7" y="46"/>
                    </a:lnTo>
                    <a:lnTo>
                      <a:pt x="13" y="61"/>
                    </a:lnTo>
                    <a:lnTo>
                      <a:pt x="20" y="77"/>
                    </a:lnTo>
                    <a:lnTo>
                      <a:pt x="28" y="91"/>
                    </a:lnTo>
                    <a:lnTo>
                      <a:pt x="37" y="106"/>
                    </a:lnTo>
                    <a:lnTo>
                      <a:pt x="47" y="120"/>
                    </a:lnTo>
                    <a:lnTo>
                      <a:pt x="58" y="134"/>
                    </a:lnTo>
                    <a:lnTo>
                      <a:pt x="71" y="147"/>
                    </a:lnTo>
                    <a:lnTo>
                      <a:pt x="84" y="161"/>
                    </a:lnTo>
                    <a:lnTo>
                      <a:pt x="97" y="174"/>
                    </a:lnTo>
                    <a:lnTo>
                      <a:pt x="111" y="186"/>
                    </a:lnTo>
                    <a:lnTo>
                      <a:pt x="126" y="197"/>
                    </a:lnTo>
                    <a:lnTo>
                      <a:pt x="142" y="209"/>
                    </a:lnTo>
                    <a:lnTo>
                      <a:pt x="156" y="220"/>
                    </a:lnTo>
                    <a:lnTo>
                      <a:pt x="174" y="231"/>
                    </a:lnTo>
                    <a:lnTo>
                      <a:pt x="190" y="240"/>
                    </a:lnTo>
                    <a:lnTo>
                      <a:pt x="207" y="249"/>
                    </a:lnTo>
                    <a:lnTo>
                      <a:pt x="224" y="258"/>
                    </a:lnTo>
                    <a:lnTo>
                      <a:pt x="242" y="266"/>
                    </a:lnTo>
                    <a:lnTo>
                      <a:pt x="259" y="273"/>
                    </a:lnTo>
                    <a:lnTo>
                      <a:pt x="276" y="280"/>
                    </a:lnTo>
                    <a:lnTo>
                      <a:pt x="294" y="285"/>
                    </a:lnTo>
                    <a:lnTo>
                      <a:pt x="311" y="291"/>
                    </a:lnTo>
                    <a:lnTo>
                      <a:pt x="329" y="296"/>
                    </a:lnTo>
                    <a:lnTo>
                      <a:pt x="346" y="299"/>
                    </a:lnTo>
                    <a:lnTo>
                      <a:pt x="363" y="302"/>
                    </a:lnTo>
                    <a:lnTo>
                      <a:pt x="379" y="305"/>
                    </a:lnTo>
                    <a:lnTo>
                      <a:pt x="396" y="306"/>
                    </a:lnTo>
                    <a:lnTo>
                      <a:pt x="412" y="306"/>
                    </a:lnTo>
                    <a:lnTo>
                      <a:pt x="427" y="305"/>
                    </a:lnTo>
                    <a:lnTo>
                      <a:pt x="441" y="303"/>
                    </a:lnTo>
                    <a:lnTo>
                      <a:pt x="438" y="280"/>
                    </a:lnTo>
                    <a:lnTo>
                      <a:pt x="424" y="281"/>
                    </a:lnTo>
                    <a:lnTo>
                      <a:pt x="411" y="281"/>
                    </a:lnTo>
                    <a:lnTo>
                      <a:pt x="397" y="281"/>
                    </a:lnTo>
                    <a:lnTo>
                      <a:pt x="381" y="280"/>
                    </a:lnTo>
                    <a:lnTo>
                      <a:pt x="366" y="278"/>
                    </a:lnTo>
                    <a:lnTo>
                      <a:pt x="350" y="275"/>
                    </a:lnTo>
                    <a:lnTo>
                      <a:pt x="334" y="272"/>
                    </a:lnTo>
                    <a:lnTo>
                      <a:pt x="318" y="268"/>
                    </a:lnTo>
                    <a:lnTo>
                      <a:pt x="301" y="262"/>
                    </a:lnTo>
                    <a:lnTo>
                      <a:pt x="284" y="257"/>
                    </a:lnTo>
                    <a:lnTo>
                      <a:pt x="268" y="251"/>
                    </a:lnTo>
                    <a:lnTo>
                      <a:pt x="251" y="243"/>
                    </a:lnTo>
                    <a:lnTo>
                      <a:pt x="234" y="236"/>
                    </a:lnTo>
                    <a:lnTo>
                      <a:pt x="218" y="228"/>
                    </a:lnTo>
                    <a:lnTo>
                      <a:pt x="202" y="219"/>
                    </a:lnTo>
                    <a:lnTo>
                      <a:pt x="186" y="210"/>
                    </a:lnTo>
                    <a:lnTo>
                      <a:pt x="170" y="200"/>
                    </a:lnTo>
                    <a:lnTo>
                      <a:pt x="155" y="189"/>
                    </a:lnTo>
                    <a:lnTo>
                      <a:pt x="140" y="178"/>
                    </a:lnTo>
                    <a:lnTo>
                      <a:pt x="127" y="167"/>
                    </a:lnTo>
                    <a:lnTo>
                      <a:pt x="113" y="155"/>
                    </a:lnTo>
                    <a:lnTo>
                      <a:pt x="101" y="144"/>
                    </a:lnTo>
                    <a:lnTo>
                      <a:pt x="88" y="131"/>
                    </a:lnTo>
                    <a:lnTo>
                      <a:pt x="77" y="119"/>
                    </a:lnTo>
                    <a:lnTo>
                      <a:pt x="66" y="105"/>
                    </a:lnTo>
                    <a:lnTo>
                      <a:pt x="57" y="93"/>
                    </a:lnTo>
                    <a:lnTo>
                      <a:pt x="49" y="79"/>
                    </a:lnTo>
                    <a:lnTo>
                      <a:pt x="41" y="65"/>
                    </a:lnTo>
                    <a:lnTo>
                      <a:pt x="36" y="52"/>
                    </a:lnTo>
                    <a:lnTo>
                      <a:pt x="30" y="38"/>
                    </a:lnTo>
                    <a:lnTo>
                      <a:pt x="27" y="24"/>
                    </a:lnTo>
                    <a:lnTo>
                      <a:pt x="24" y="11"/>
                    </a:lnTo>
                    <a:lnTo>
                      <a:pt x="0" y="14"/>
                    </a:lnTo>
                    <a:lnTo>
                      <a:pt x="24" y="11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230640" y="412776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293" h="437">
                    <a:moveTo>
                      <a:pt x="0" y="427"/>
                    </a:moveTo>
                    <a:lnTo>
                      <a:pt x="18" y="436"/>
                    </a:lnTo>
                    <a:lnTo>
                      <a:pt x="46" y="418"/>
                    </a:lnTo>
                    <a:lnTo>
                      <a:pt x="74" y="399"/>
                    </a:lnTo>
                    <a:lnTo>
                      <a:pt x="101" y="378"/>
                    </a:lnTo>
                    <a:lnTo>
                      <a:pt x="127" y="356"/>
                    </a:lnTo>
                    <a:lnTo>
                      <a:pt x="154" y="335"/>
                    </a:lnTo>
                    <a:lnTo>
                      <a:pt x="178" y="311"/>
                    </a:lnTo>
                    <a:lnTo>
                      <a:pt x="199" y="287"/>
                    </a:lnTo>
                    <a:lnTo>
                      <a:pt x="220" y="261"/>
                    </a:lnTo>
                    <a:lnTo>
                      <a:pt x="230" y="247"/>
                    </a:lnTo>
                    <a:lnTo>
                      <a:pt x="239" y="233"/>
                    </a:lnTo>
                    <a:lnTo>
                      <a:pt x="247" y="220"/>
                    </a:lnTo>
                    <a:lnTo>
                      <a:pt x="255" y="205"/>
                    </a:lnTo>
                    <a:lnTo>
                      <a:pt x="262" y="190"/>
                    </a:lnTo>
                    <a:lnTo>
                      <a:pt x="269" y="175"/>
                    </a:lnTo>
                    <a:lnTo>
                      <a:pt x="274" y="159"/>
                    </a:lnTo>
                    <a:lnTo>
                      <a:pt x="280" y="143"/>
                    </a:lnTo>
                    <a:lnTo>
                      <a:pt x="284" y="126"/>
                    </a:lnTo>
                    <a:lnTo>
                      <a:pt x="287" y="109"/>
                    </a:lnTo>
                    <a:lnTo>
                      <a:pt x="290" y="92"/>
                    </a:lnTo>
                    <a:lnTo>
                      <a:pt x="292" y="75"/>
                    </a:lnTo>
                    <a:lnTo>
                      <a:pt x="293" y="57"/>
                    </a:lnTo>
                    <a:lnTo>
                      <a:pt x="293" y="38"/>
                    </a:lnTo>
                    <a:lnTo>
                      <a:pt x="292" y="19"/>
                    </a:lnTo>
                    <a:lnTo>
                      <a:pt x="289" y="0"/>
                    </a:lnTo>
                    <a:lnTo>
                      <a:pt x="265" y="3"/>
                    </a:lnTo>
                    <a:lnTo>
                      <a:pt x="266" y="21"/>
                    </a:lnTo>
                    <a:lnTo>
                      <a:pt x="268" y="38"/>
                    </a:lnTo>
                    <a:lnTo>
                      <a:pt x="268" y="57"/>
                    </a:lnTo>
                    <a:lnTo>
                      <a:pt x="268" y="72"/>
                    </a:lnTo>
                    <a:lnTo>
                      <a:pt x="265" y="90"/>
                    </a:lnTo>
                    <a:lnTo>
                      <a:pt x="263" y="106"/>
                    </a:lnTo>
                    <a:lnTo>
                      <a:pt x="261" y="121"/>
                    </a:lnTo>
                    <a:lnTo>
                      <a:pt x="256" y="136"/>
                    </a:lnTo>
                    <a:lnTo>
                      <a:pt x="252" y="151"/>
                    </a:lnTo>
                    <a:lnTo>
                      <a:pt x="246" y="166"/>
                    </a:lnTo>
                    <a:lnTo>
                      <a:pt x="240" y="180"/>
                    </a:lnTo>
                    <a:lnTo>
                      <a:pt x="233" y="193"/>
                    </a:lnTo>
                    <a:lnTo>
                      <a:pt x="227" y="207"/>
                    </a:lnTo>
                    <a:lnTo>
                      <a:pt x="219" y="221"/>
                    </a:lnTo>
                    <a:lnTo>
                      <a:pt x="209" y="233"/>
                    </a:lnTo>
                    <a:lnTo>
                      <a:pt x="201" y="246"/>
                    </a:lnTo>
                    <a:lnTo>
                      <a:pt x="181" y="271"/>
                    </a:lnTo>
                    <a:lnTo>
                      <a:pt x="159" y="295"/>
                    </a:lnTo>
                    <a:lnTo>
                      <a:pt x="137" y="316"/>
                    </a:lnTo>
                    <a:lnTo>
                      <a:pt x="113" y="338"/>
                    </a:lnTo>
                    <a:lnTo>
                      <a:pt x="86" y="359"/>
                    </a:lnTo>
                    <a:lnTo>
                      <a:pt x="60" y="378"/>
                    </a:lnTo>
                    <a:lnTo>
                      <a:pt x="33" y="397"/>
                    </a:lnTo>
                    <a:lnTo>
                      <a:pt x="5" y="416"/>
                    </a:lnTo>
                    <a:lnTo>
                      <a:pt x="24" y="424"/>
                    </a:lnTo>
                    <a:lnTo>
                      <a:pt x="5" y="416"/>
                    </a:lnTo>
                    <a:lnTo>
                      <a:pt x="2" y="419"/>
                    </a:lnTo>
                    <a:lnTo>
                      <a:pt x="0" y="424"/>
                    </a:lnTo>
                    <a:lnTo>
                      <a:pt x="0" y="428"/>
                    </a:lnTo>
                    <a:lnTo>
                      <a:pt x="2" y="432"/>
                    </a:lnTo>
                    <a:lnTo>
                      <a:pt x="4" y="435"/>
                    </a:lnTo>
                    <a:lnTo>
                      <a:pt x="9" y="437"/>
                    </a:lnTo>
                    <a:lnTo>
                      <a:pt x="13" y="437"/>
                    </a:lnTo>
                    <a:lnTo>
                      <a:pt x="18" y="436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225960" y="4105440"/>
                <a:ext cx="88920" cy="157320"/>
              </a:xfrm>
              <a:custGeom>
                <a:avLst/>
                <a:gdLst/>
                <a:ahLst/>
                <a:rect l="l" t="t" r="r" b="b"/>
                <a:pathLst>
                  <a:path w="280" h="494">
                    <a:moveTo>
                      <a:pt x="257" y="14"/>
                    </a:moveTo>
                    <a:lnTo>
                      <a:pt x="262" y="3"/>
                    </a:lnTo>
                    <a:lnTo>
                      <a:pt x="190" y="47"/>
                    </a:lnTo>
                    <a:lnTo>
                      <a:pt x="131" y="86"/>
                    </a:lnTo>
                    <a:lnTo>
                      <a:pt x="104" y="105"/>
                    </a:lnTo>
                    <a:lnTo>
                      <a:pt x="81" y="125"/>
                    </a:lnTo>
                    <a:lnTo>
                      <a:pt x="70" y="136"/>
                    </a:lnTo>
                    <a:lnTo>
                      <a:pt x="60" y="146"/>
                    </a:lnTo>
                    <a:lnTo>
                      <a:pt x="50" y="158"/>
                    </a:lnTo>
                    <a:lnTo>
                      <a:pt x="42" y="170"/>
                    </a:lnTo>
                    <a:lnTo>
                      <a:pt x="34" y="183"/>
                    </a:lnTo>
                    <a:lnTo>
                      <a:pt x="27" y="195"/>
                    </a:lnTo>
                    <a:lnTo>
                      <a:pt x="22" y="210"/>
                    </a:lnTo>
                    <a:lnTo>
                      <a:pt x="16" y="225"/>
                    </a:lnTo>
                    <a:lnTo>
                      <a:pt x="11" y="241"/>
                    </a:lnTo>
                    <a:lnTo>
                      <a:pt x="8" y="257"/>
                    </a:lnTo>
                    <a:lnTo>
                      <a:pt x="5" y="275"/>
                    </a:lnTo>
                    <a:lnTo>
                      <a:pt x="2" y="295"/>
                    </a:lnTo>
                    <a:lnTo>
                      <a:pt x="1" y="314"/>
                    </a:lnTo>
                    <a:lnTo>
                      <a:pt x="0" y="336"/>
                    </a:lnTo>
                    <a:lnTo>
                      <a:pt x="1" y="358"/>
                    </a:lnTo>
                    <a:lnTo>
                      <a:pt x="2" y="382"/>
                    </a:lnTo>
                    <a:lnTo>
                      <a:pt x="4" y="407"/>
                    </a:lnTo>
                    <a:lnTo>
                      <a:pt x="6" y="435"/>
                    </a:lnTo>
                    <a:lnTo>
                      <a:pt x="9" y="463"/>
                    </a:lnTo>
                    <a:lnTo>
                      <a:pt x="14" y="494"/>
                    </a:lnTo>
                    <a:lnTo>
                      <a:pt x="38" y="491"/>
                    </a:lnTo>
                    <a:lnTo>
                      <a:pt x="33" y="461"/>
                    </a:lnTo>
                    <a:lnTo>
                      <a:pt x="31" y="432"/>
                    </a:lnTo>
                    <a:lnTo>
                      <a:pt x="27" y="405"/>
                    </a:lnTo>
                    <a:lnTo>
                      <a:pt x="26" y="381"/>
                    </a:lnTo>
                    <a:lnTo>
                      <a:pt x="25" y="357"/>
                    </a:lnTo>
                    <a:lnTo>
                      <a:pt x="25" y="336"/>
                    </a:lnTo>
                    <a:lnTo>
                      <a:pt x="25" y="315"/>
                    </a:lnTo>
                    <a:lnTo>
                      <a:pt x="26" y="296"/>
                    </a:lnTo>
                    <a:lnTo>
                      <a:pt x="29" y="279"/>
                    </a:lnTo>
                    <a:lnTo>
                      <a:pt x="31" y="261"/>
                    </a:lnTo>
                    <a:lnTo>
                      <a:pt x="34" y="247"/>
                    </a:lnTo>
                    <a:lnTo>
                      <a:pt x="39" y="232"/>
                    </a:lnTo>
                    <a:lnTo>
                      <a:pt x="43" y="219"/>
                    </a:lnTo>
                    <a:lnTo>
                      <a:pt x="49" y="207"/>
                    </a:lnTo>
                    <a:lnTo>
                      <a:pt x="56" y="194"/>
                    </a:lnTo>
                    <a:lnTo>
                      <a:pt x="63" y="183"/>
                    </a:lnTo>
                    <a:lnTo>
                      <a:pt x="70" y="173"/>
                    </a:lnTo>
                    <a:lnTo>
                      <a:pt x="79" y="162"/>
                    </a:lnTo>
                    <a:lnTo>
                      <a:pt x="88" y="153"/>
                    </a:lnTo>
                    <a:lnTo>
                      <a:pt x="97" y="143"/>
                    </a:lnTo>
                    <a:lnTo>
                      <a:pt x="120" y="125"/>
                    </a:lnTo>
                    <a:lnTo>
                      <a:pt x="144" y="106"/>
                    </a:lnTo>
                    <a:lnTo>
                      <a:pt x="204" y="68"/>
                    </a:lnTo>
                    <a:lnTo>
                      <a:pt x="275" y="23"/>
                    </a:lnTo>
                    <a:lnTo>
                      <a:pt x="280" y="12"/>
                    </a:lnTo>
                    <a:lnTo>
                      <a:pt x="275" y="23"/>
                    </a:lnTo>
                    <a:lnTo>
                      <a:pt x="279" y="19"/>
                    </a:lnTo>
                    <a:lnTo>
                      <a:pt x="280" y="15"/>
                    </a:lnTo>
                    <a:lnTo>
                      <a:pt x="280" y="11"/>
                    </a:lnTo>
                    <a:lnTo>
                      <a:pt x="278" y="6"/>
                    </a:lnTo>
                    <a:lnTo>
                      <a:pt x="276" y="3"/>
                    </a:lnTo>
                    <a:lnTo>
                      <a:pt x="271" y="0"/>
                    </a:lnTo>
                    <a:lnTo>
                      <a:pt x="267" y="0"/>
                    </a:lnTo>
                    <a:lnTo>
                      <a:pt x="262" y="3"/>
                    </a:lnTo>
                    <a:lnTo>
                      <a:pt x="2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3260880" y="3991320"/>
                <a:ext cx="54000" cy="119160"/>
              </a:xfrm>
              <a:custGeom>
                <a:avLst/>
                <a:gdLst/>
                <a:ahLst/>
                <a:rect l="l" t="t" r="r" b="b"/>
                <a:pathLst>
                  <a:path w="170" h="377">
                    <a:moveTo>
                      <a:pt x="22" y="0"/>
                    </a:moveTo>
                    <a:lnTo>
                      <a:pt x="22" y="0"/>
                    </a:lnTo>
                    <a:lnTo>
                      <a:pt x="14" y="8"/>
                    </a:lnTo>
                    <a:lnTo>
                      <a:pt x="7" y="18"/>
                    </a:lnTo>
                    <a:lnTo>
                      <a:pt x="3" y="29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0" y="65"/>
                    </a:lnTo>
                    <a:lnTo>
                      <a:pt x="2" y="78"/>
                    </a:lnTo>
                    <a:lnTo>
                      <a:pt x="4" y="92"/>
                    </a:lnTo>
                    <a:lnTo>
                      <a:pt x="7" y="106"/>
                    </a:lnTo>
                    <a:lnTo>
                      <a:pt x="12" y="119"/>
                    </a:lnTo>
                    <a:lnTo>
                      <a:pt x="18" y="134"/>
                    </a:lnTo>
                    <a:lnTo>
                      <a:pt x="23" y="149"/>
                    </a:lnTo>
                    <a:lnTo>
                      <a:pt x="37" y="178"/>
                    </a:lnTo>
                    <a:lnTo>
                      <a:pt x="52" y="207"/>
                    </a:lnTo>
                    <a:lnTo>
                      <a:pt x="84" y="265"/>
                    </a:lnTo>
                    <a:lnTo>
                      <a:pt x="115" y="316"/>
                    </a:lnTo>
                    <a:lnTo>
                      <a:pt x="127" y="337"/>
                    </a:lnTo>
                    <a:lnTo>
                      <a:pt x="137" y="355"/>
                    </a:lnTo>
                    <a:lnTo>
                      <a:pt x="144" y="370"/>
                    </a:lnTo>
                    <a:lnTo>
                      <a:pt x="147" y="377"/>
                    </a:lnTo>
                    <a:lnTo>
                      <a:pt x="170" y="375"/>
                    </a:lnTo>
                    <a:lnTo>
                      <a:pt x="166" y="361"/>
                    </a:lnTo>
                    <a:lnTo>
                      <a:pt x="159" y="345"/>
                    </a:lnTo>
                    <a:lnTo>
                      <a:pt x="149" y="326"/>
                    </a:lnTo>
                    <a:lnTo>
                      <a:pt x="135" y="304"/>
                    </a:lnTo>
                    <a:lnTo>
                      <a:pt x="105" y="253"/>
                    </a:lnTo>
                    <a:lnTo>
                      <a:pt x="74" y="196"/>
                    </a:lnTo>
                    <a:lnTo>
                      <a:pt x="59" y="167"/>
                    </a:lnTo>
                    <a:lnTo>
                      <a:pt x="45" y="139"/>
                    </a:lnTo>
                    <a:lnTo>
                      <a:pt x="39" y="125"/>
                    </a:lnTo>
                    <a:lnTo>
                      <a:pt x="35" y="111"/>
                    </a:lnTo>
                    <a:lnTo>
                      <a:pt x="31" y="99"/>
                    </a:lnTo>
                    <a:lnTo>
                      <a:pt x="28" y="86"/>
                    </a:lnTo>
                    <a:lnTo>
                      <a:pt x="26" y="75"/>
                    </a:lnTo>
                    <a:lnTo>
                      <a:pt x="25" y="64"/>
                    </a:lnTo>
                    <a:lnTo>
                      <a:pt x="23" y="53"/>
                    </a:lnTo>
                    <a:lnTo>
                      <a:pt x="25" y="44"/>
                    </a:lnTo>
                    <a:lnTo>
                      <a:pt x="27" y="36"/>
                    </a:lnTo>
                    <a:lnTo>
                      <a:pt x="29" y="29"/>
                    </a:lnTo>
                    <a:lnTo>
                      <a:pt x="33" y="23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268800" y="3967560"/>
                <a:ext cx="155520" cy="88920"/>
              </a:xfrm>
              <a:custGeom>
                <a:avLst/>
                <a:gdLst/>
                <a:ahLst/>
                <a:rect l="l" t="t" r="r" b="b"/>
                <a:pathLst>
                  <a:path w="494" h="280">
                    <a:moveTo>
                      <a:pt x="432" y="280"/>
                    </a:moveTo>
                    <a:lnTo>
                      <a:pt x="432" y="279"/>
                    </a:lnTo>
                    <a:lnTo>
                      <a:pt x="442" y="268"/>
                    </a:lnTo>
                    <a:lnTo>
                      <a:pt x="452" y="258"/>
                    </a:lnTo>
                    <a:lnTo>
                      <a:pt x="460" y="246"/>
                    </a:lnTo>
                    <a:lnTo>
                      <a:pt x="468" y="235"/>
                    </a:lnTo>
                    <a:lnTo>
                      <a:pt x="473" y="225"/>
                    </a:lnTo>
                    <a:lnTo>
                      <a:pt x="479" y="213"/>
                    </a:lnTo>
                    <a:lnTo>
                      <a:pt x="484" y="203"/>
                    </a:lnTo>
                    <a:lnTo>
                      <a:pt x="487" y="193"/>
                    </a:lnTo>
                    <a:lnTo>
                      <a:pt x="490" y="182"/>
                    </a:lnTo>
                    <a:lnTo>
                      <a:pt x="491" y="172"/>
                    </a:lnTo>
                    <a:lnTo>
                      <a:pt x="493" y="162"/>
                    </a:lnTo>
                    <a:lnTo>
                      <a:pt x="494" y="153"/>
                    </a:lnTo>
                    <a:lnTo>
                      <a:pt x="493" y="144"/>
                    </a:lnTo>
                    <a:lnTo>
                      <a:pt x="491" y="135"/>
                    </a:lnTo>
                    <a:lnTo>
                      <a:pt x="489" y="125"/>
                    </a:lnTo>
                    <a:lnTo>
                      <a:pt x="487" y="116"/>
                    </a:lnTo>
                    <a:lnTo>
                      <a:pt x="484" y="108"/>
                    </a:lnTo>
                    <a:lnTo>
                      <a:pt x="479" y="100"/>
                    </a:lnTo>
                    <a:lnTo>
                      <a:pt x="474" y="92"/>
                    </a:lnTo>
                    <a:lnTo>
                      <a:pt x="469" y="84"/>
                    </a:lnTo>
                    <a:lnTo>
                      <a:pt x="456" y="71"/>
                    </a:lnTo>
                    <a:lnTo>
                      <a:pt x="441" y="58"/>
                    </a:lnTo>
                    <a:lnTo>
                      <a:pt x="424" y="47"/>
                    </a:lnTo>
                    <a:lnTo>
                      <a:pt x="407" y="37"/>
                    </a:lnTo>
                    <a:lnTo>
                      <a:pt x="388" y="29"/>
                    </a:lnTo>
                    <a:lnTo>
                      <a:pt x="366" y="21"/>
                    </a:lnTo>
                    <a:lnTo>
                      <a:pt x="344" y="14"/>
                    </a:lnTo>
                    <a:lnTo>
                      <a:pt x="322" y="9"/>
                    </a:lnTo>
                    <a:lnTo>
                      <a:pt x="299" y="5"/>
                    </a:lnTo>
                    <a:lnTo>
                      <a:pt x="275" y="2"/>
                    </a:lnTo>
                    <a:lnTo>
                      <a:pt x="250" y="0"/>
                    </a:lnTo>
                    <a:lnTo>
                      <a:pt x="225" y="0"/>
                    </a:lnTo>
                    <a:lnTo>
                      <a:pt x="200" y="1"/>
                    </a:lnTo>
                    <a:lnTo>
                      <a:pt x="176" y="3"/>
                    </a:lnTo>
                    <a:lnTo>
                      <a:pt x="151" y="7"/>
                    </a:lnTo>
                    <a:lnTo>
                      <a:pt x="127" y="11"/>
                    </a:lnTo>
                    <a:lnTo>
                      <a:pt x="103" y="18"/>
                    </a:lnTo>
                    <a:lnTo>
                      <a:pt x="80" y="25"/>
                    </a:lnTo>
                    <a:lnTo>
                      <a:pt x="58" y="34"/>
                    </a:lnTo>
                    <a:lnTo>
                      <a:pt x="38" y="45"/>
                    </a:lnTo>
                    <a:lnTo>
                      <a:pt x="19" y="57"/>
                    </a:lnTo>
                    <a:lnTo>
                      <a:pt x="0" y="71"/>
                    </a:lnTo>
                    <a:lnTo>
                      <a:pt x="16" y="89"/>
                    </a:lnTo>
                    <a:lnTo>
                      <a:pt x="32" y="76"/>
                    </a:lnTo>
                    <a:lnTo>
                      <a:pt x="49" y="66"/>
                    </a:lnTo>
                    <a:lnTo>
                      <a:pt x="69" y="56"/>
                    </a:lnTo>
                    <a:lnTo>
                      <a:pt x="89" y="48"/>
                    </a:lnTo>
                    <a:lnTo>
                      <a:pt x="110" y="41"/>
                    </a:lnTo>
                    <a:lnTo>
                      <a:pt x="132" y="35"/>
                    </a:lnTo>
                    <a:lnTo>
                      <a:pt x="155" y="31"/>
                    </a:lnTo>
                    <a:lnTo>
                      <a:pt x="178" y="27"/>
                    </a:lnTo>
                    <a:lnTo>
                      <a:pt x="202" y="25"/>
                    </a:lnTo>
                    <a:lnTo>
                      <a:pt x="225" y="24"/>
                    </a:lnTo>
                    <a:lnTo>
                      <a:pt x="249" y="25"/>
                    </a:lnTo>
                    <a:lnTo>
                      <a:pt x="273" y="26"/>
                    </a:lnTo>
                    <a:lnTo>
                      <a:pt x="295" y="29"/>
                    </a:lnTo>
                    <a:lnTo>
                      <a:pt x="317" y="33"/>
                    </a:lnTo>
                    <a:lnTo>
                      <a:pt x="339" y="38"/>
                    </a:lnTo>
                    <a:lnTo>
                      <a:pt x="359" y="43"/>
                    </a:lnTo>
                    <a:lnTo>
                      <a:pt x="378" y="50"/>
                    </a:lnTo>
                    <a:lnTo>
                      <a:pt x="396" y="58"/>
                    </a:lnTo>
                    <a:lnTo>
                      <a:pt x="412" y="67"/>
                    </a:lnTo>
                    <a:lnTo>
                      <a:pt x="427" y="78"/>
                    </a:lnTo>
                    <a:lnTo>
                      <a:pt x="439" y="88"/>
                    </a:lnTo>
                    <a:lnTo>
                      <a:pt x="449" y="100"/>
                    </a:lnTo>
                    <a:lnTo>
                      <a:pt x="454" y="106"/>
                    </a:lnTo>
                    <a:lnTo>
                      <a:pt x="457" y="112"/>
                    </a:lnTo>
                    <a:lnTo>
                      <a:pt x="461" y="119"/>
                    </a:lnTo>
                    <a:lnTo>
                      <a:pt x="464" y="125"/>
                    </a:lnTo>
                    <a:lnTo>
                      <a:pt x="466" y="131"/>
                    </a:lnTo>
                    <a:lnTo>
                      <a:pt x="468" y="138"/>
                    </a:lnTo>
                    <a:lnTo>
                      <a:pt x="469" y="146"/>
                    </a:lnTo>
                    <a:lnTo>
                      <a:pt x="469" y="153"/>
                    </a:lnTo>
                    <a:lnTo>
                      <a:pt x="469" y="161"/>
                    </a:lnTo>
                    <a:lnTo>
                      <a:pt x="468" y="169"/>
                    </a:lnTo>
                    <a:lnTo>
                      <a:pt x="466" y="177"/>
                    </a:lnTo>
                    <a:lnTo>
                      <a:pt x="464" y="185"/>
                    </a:lnTo>
                    <a:lnTo>
                      <a:pt x="461" y="194"/>
                    </a:lnTo>
                    <a:lnTo>
                      <a:pt x="457" y="203"/>
                    </a:lnTo>
                    <a:lnTo>
                      <a:pt x="453" y="212"/>
                    </a:lnTo>
                    <a:lnTo>
                      <a:pt x="447" y="222"/>
                    </a:lnTo>
                    <a:lnTo>
                      <a:pt x="440" y="233"/>
                    </a:lnTo>
                    <a:lnTo>
                      <a:pt x="432" y="243"/>
                    </a:lnTo>
                    <a:lnTo>
                      <a:pt x="424" y="253"/>
                    </a:lnTo>
                    <a:lnTo>
                      <a:pt x="415" y="263"/>
                    </a:lnTo>
                    <a:lnTo>
                      <a:pt x="415" y="263"/>
                    </a:lnTo>
                    <a:lnTo>
                      <a:pt x="43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3381480" y="404676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334" h="145">
                    <a:moveTo>
                      <a:pt x="323" y="145"/>
                    </a:moveTo>
                    <a:lnTo>
                      <a:pt x="334" y="132"/>
                    </a:lnTo>
                    <a:lnTo>
                      <a:pt x="331" y="117"/>
                    </a:lnTo>
                    <a:lnTo>
                      <a:pt x="328" y="103"/>
                    </a:lnTo>
                    <a:lnTo>
                      <a:pt x="325" y="90"/>
                    </a:lnTo>
                    <a:lnTo>
                      <a:pt x="320" y="78"/>
                    </a:lnTo>
                    <a:lnTo>
                      <a:pt x="315" y="67"/>
                    </a:lnTo>
                    <a:lnTo>
                      <a:pt x="310" y="57"/>
                    </a:lnTo>
                    <a:lnTo>
                      <a:pt x="304" y="47"/>
                    </a:lnTo>
                    <a:lnTo>
                      <a:pt x="298" y="38"/>
                    </a:lnTo>
                    <a:lnTo>
                      <a:pt x="291" y="31"/>
                    </a:lnTo>
                    <a:lnTo>
                      <a:pt x="285" y="25"/>
                    </a:lnTo>
                    <a:lnTo>
                      <a:pt x="277" y="19"/>
                    </a:lnTo>
                    <a:lnTo>
                      <a:pt x="270" y="13"/>
                    </a:lnTo>
                    <a:lnTo>
                      <a:pt x="261" y="10"/>
                    </a:lnTo>
                    <a:lnTo>
                      <a:pt x="253" y="6"/>
                    </a:lnTo>
                    <a:lnTo>
                      <a:pt x="245" y="3"/>
                    </a:lnTo>
                    <a:lnTo>
                      <a:pt x="236" y="1"/>
                    </a:lnTo>
                    <a:lnTo>
                      <a:pt x="217" y="0"/>
                    </a:lnTo>
                    <a:lnTo>
                      <a:pt x="200" y="0"/>
                    </a:lnTo>
                    <a:lnTo>
                      <a:pt x="182" y="2"/>
                    </a:lnTo>
                    <a:lnTo>
                      <a:pt x="164" y="5"/>
                    </a:lnTo>
                    <a:lnTo>
                      <a:pt x="146" y="10"/>
                    </a:lnTo>
                    <a:lnTo>
                      <a:pt x="129" y="17"/>
                    </a:lnTo>
                    <a:lnTo>
                      <a:pt x="111" y="24"/>
                    </a:lnTo>
                    <a:lnTo>
                      <a:pt x="94" y="31"/>
                    </a:lnTo>
                    <a:lnTo>
                      <a:pt x="40" y="61"/>
                    </a:lnTo>
                    <a:lnTo>
                      <a:pt x="9" y="78"/>
                    </a:lnTo>
                    <a:lnTo>
                      <a:pt x="10" y="77"/>
                    </a:lnTo>
                    <a:lnTo>
                      <a:pt x="15" y="77"/>
                    </a:lnTo>
                    <a:lnTo>
                      <a:pt x="24" y="85"/>
                    </a:lnTo>
                    <a:lnTo>
                      <a:pt x="23" y="93"/>
                    </a:lnTo>
                    <a:lnTo>
                      <a:pt x="24" y="91"/>
                    </a:lnTo>
                    <a:lnTo>
                      <a:pt x="28" y="86"/>
                    </a:lnTo>
                    <a:lnTo>
                      <a:pt x="46" y="66"/>
                    </a:lnTo>
                    <a:lnTo>
                      <a:pt x="77" y="31"/>
                    </a:lnTo>
                    <a:lnTo>
                      <a:pt x="60" y="14"/>
                    </a:lnTo>
                    <a:lnTo>
                      <a:pt x="28" y="49"/>
                    </a:lnTo>
                    <a:lnTo>
                      <a:pt x="9" y="70"/>
                    </a:lnTo>
                    <a:lnTo>
                      <a:pt x="4" y="77"/>
                    </a:lnTo>
                    <a:lnTo>
                      <a:pt x="1" y="83"/>
                    </a:lnTo>
                    <a:lnTo>
                      <a:pt x="0" y="92"/>
                    </a:lnTo>
                    <a:lnTo>
                      <a:pt x="9" y="101"/>
                    </a:lnTo>
                    <a:lnTo>
                      <a:pt x="16" y="101"/>
                    </a:lnTo>
                    <a:lnTo>
                      <a:pt x="20" y="100"/>
                    </a:lnTo>
                    <a:lnTo>
                      <a:pt x="52" y="82"/>
                    </a:lnTo>
                    <a:lnTo>
                      <a:pt x="106" y="52"/>
                    </a:lnTo>
                    <a:lnTo>
                      <a:pt x="121" y="45"/>
                    </a:lnTo>
                    <a:lnTo>
                      <a:pt x="138" y="39"/>
                    </a:lnTo>
                    <a:lnTo>
                      <a:pt x="154" y="34"/>
                    </a:lnTo>
                    <a:lnTo>
                      <a:pt x="170" y="29"/>
                    </a:lnTo>
                    <a:lnTo>
                      <a:pt x="186" y="26"/>
                    </a:lnTo>
                    <a:lnTo>
                      <a:pt x="201" y="24"/>
                    </a:lnTo>
                    <a:lnTo>
                      <a:pt x="216" y="24"/>
                    </a:lnTo>
                    <a:lnTo>
                      <a:pt x="231" y="25"/>
                    </a:lnTo>
                    <a:lnTo>
                      <a:pt x="238" y="27"/>
                    </a:lnTo>
                    <a:lnTo>
                      <a:pt x="245" y="28"/>
                    </a:lnTo>
                    <a:lnTo>
                      <a:pt x="250" y="31"/>
                    </a:lnTo>
                    <a:lnTo>
                      <a:pt x="257" y="35"/>
                    </a:lnTo>
                    <a:lnTo>
                      <a:pt x="263" y="38"/>
                    </a:lnTo>
                    <a:lnTo>
                      <a:pt x="269" y="43"/>
                    </a:lnTo>
                    <a:lnTo>
                      <a:pt x="274" y="49"/>
                    </a:lnTo>
                    <a:lnTo>
                      <a:pt x="279" y="54"/>
                    </a:lnTo>
                    <a:lnTo>
                      <a:pt x="285" y="61"/>
                    </a:lnTo>
                    <a:lnTo>
                      <a:pt x="289" y="68"/>
                    </a:lnTo>
                    <a:lnTo>
                      <a:pt x="294" y="77"/>
                    </a:lnTo>
                    <a:lnTo>
                      <a:pt x="297" y="86"/>
                    </a:lnTo>
                    <a:lnTo>
                      <a:pt x="302" y="98"/>
                    </a:lnTo>
                    <a:lnTo>
                      <a:pt x="304" y="109"/>
                    </a:lnTo>
                    <a:lnTo>
                      <a:pt x="307" y="122"/>
                    </a:lnTo>
                    <a:lnTo>
                      <a:pt x="310" y="135"/>
                    </a:lnTo>
                    <a:lnTo>
                      <a:pt x="320" y="122"/>
                    </a:lnTo>
                    <a:lnTo>
                      <a:pt x="310" y="135"/>
                    </a:lnTo>
                    <a:lnTo>
                      <a:pt x="312" y="141"/>
                    </a:lnTo>
                    <a:lnTo>
                      <a:pt x="314" y="144"/>
                    </a:lnTo>
                    <a:lnTo>
                      <a:pt x="319" y="145"/>
                    </a:lnTo>
                    <a:lnTo>
                      <a:pt x="323" y="145"/>
                    </a:lnTo>
                    <a:lnTo>
                      <a:pt x="328" y="144"/>
                    </a:lnTo>
                    <a:lnTo>
                      <a:pt x="331" y="141"/>
                    </a:lnTo>
                    <a:lnTo>
                      <a:pt x="334" y="138"/>
                    </a:lnTo>
                    <a:lnTo>
                      <a:pt x="334" y="132"/>
                    </a:lnTo>
                    <a:lnTo>
                      <a:pt x="323" y="1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360600" y="4080240"/>
                <a:ext cx="122400" cy="19080"/>
              </a:xfrm>
              <a:custGeom>
                <a:avLst/>
                <a:gdLst/>
                <a:ahLst/>
                <a:rect l="l" t="t" r="r" b="b"/>
                <a:pathLst>
                  <a:path w="387" h="63">
                    <a:moveTo>
                      <a:pt x="22" y="7"/>
                    </a:moveTo>
                    <a:lnTo>
                      <a:pt x="6" y="23"/>
                    </a:lnTo>
                    <a:lnTo>
                      <a:pt x="28" y="33"/>
                    </a:lnTo>
                    <a:lnTo>
                      <a:pt x="50" y="42"/>
                    </a:lnTo>
                    <a:lnTo>
                      <a:pt x="73" y="49"/>
                    </a:lnTo>
                    <a:lnTo>
                      <a:pt x="96" y="54"/>
                    </a:lnTo>
                    <a:lnTo>
                      <a:pt x="120" y="58"/>
                    </a:lnTo>
                    <a:lnTo>
                      <a:pt x="142" y="61"/>
                    </a:lnTo>
                    <a:lnTo>
                      <a:pt x="166" y="62"/>
                    </a:lnTo>
                    <a:lnTo>
                      <a:pt x="191" y="63"/>
                    </a:lnTo>
                    <a:lnTo>
                      <a:pt x="215" y="63"/>
                    </a:lnTo>
                    <a:lnTo>
                      <a:pt x="239" y="61"/>
                    </a:lnTo>
                    <a:lnTo>
                      <a:pt x="264" y="59"/>
                    </a:lnTo>
                    <a:lnTo>
                      <a:pt x="288" y="57"/>
                    </a:lnTo>
                    <a:lnTo>
                      <a:pt x="338" y="50"/>
                    </a:lnTo>
                    <a:lnTo>
                      <a:pt x="387" y="43"/>
                    </a:lnTo>
                    <a:lnTo>
                      <a:pt x="384" y="20"/>
                    </a:lnTo>
                    <a:lnTo>
                      <a:pt x="335" y="26"/>
                    </a:lnTo>
                    <a:lnTo>
                      <a:pt x="286" y="33"/>
                    </a:lnTo>
                    <a:lnTo>
                      <a:pt x="262" y="36"/>
                    </a:lnTo>
                    <a:lnTo>
                      <a:pt x="238" y="37"/>
                    </a:lnTo>
                    <a:lnTo>
                      <a:pt x="214" y="38"/>
                    </a:lnTo>
                    <a:lnTo>
                      <a:pt x="191" y="39"/>
                    </a:lnTo>
                    <a:lnTo>
                      <a:pt x="167" y="38"/>
                    </a:lnTo>
                    <a:lnTo>
                      <a:pt x="145" y="37"/>
                    </a:lnTo>
                    <a:lnTo>
                      <a:pt x="123" y="34"/>
                    </a:lnTo>
                    <a:lnTo>
                      <a:pt x="100" y="31"/>
                    </a:lnTo>
                    <a:lnTo>
                      <a:pt x="79" y="25"/>
                    </a:lnTo>
                    <a:lnTo>
                      <a:pt x="58" y="20"/>
                    </a:lnTo>
                    <a:lnTo>
                      <a:pt x="38" y="12"/>
                    </a:lnTo>
                    <a:lnTo>
                      <a:pt x="17" y="1"/>
                    </a:lnTo>
                    <a:lnTo>
                      <a:pt x="1" y="18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443480" y="4088160"/>
                <a:ext cx="28728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7" y="300"/>
                    </a:moveTo>
                    <a:lnTo>
                      <a:pt x="435" y="305"/>
                    </a:lnTo>
                    <a:lnTo>
                      <a:pt x="465" y="308"/>
                    </a:lnTo>
                    <a:lnTo>
                      <a:pt x="496" y="309"/>
                    </a:lnTo>
                    <a:lnTo>
                      <a:pt x="526" y="310"/>
                    </a:lnTo>
                    <a:lnTo>
                      <a:pt x="590" y="308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19" y="309"/>
                    </a:lnTo>
                    <a:lnTo>
                      <a:pt x="752" y="313"/>
                    </a:lnTo>
                    <a:lnTo>
                      <a:pt x="784" y="318"/>
                    </a:lnTo>
                    <a:lnTo>
                      <a:pt x="800" y="322"/>
                    </a:lnTo>
                    <a:lnTo>
                      <a:pt x="815" y="326"/>
                    </a:lnTo>
                    <a:lnTo>
                      <a:pt x="831" y="332"/>
                    </a:lnTo>
                    <a:lnTo>
                      <a:pt x="847" y="338"/>
                    </a:lnTo>
                    <a:lnTo>
                      <a:pt x="861" y="344"/>
                    </a:lnTo>
                    <a:lnTo>
                      <a:pt x="877" y="352"/>
                    </a:lnTo>
                    <a:lnTo>
                      <a:pt x="892" y="359"/>
                    </a:lnTo>
                    <a:lnTo>
                      <a:pt x="907" y="370"/>
                    </a:lnTo>
                    <a:lnTo>
                      <a:pt x="898" y="381"/>
                    </a:lnTo>
                    <a:lnTo>
                      <a:pt x="889" y="393"/>
                    </a:lnTo>
                    <a:lnTo>
                      <a:pt x="879" y="403"/>
                    </a:lnTo>
                    <a:lnTo>
                      <a:pt x="867" y="414"/>
                    </a:lnTo>
                    <a:lnTo>
                      <a:pt x="855" y="424"/>
                    </a:lnTo>
                    <a:lnTo>
                      <a:pt x="842" y="435"/>
                    </a:lnTo>
                    <a:lnTo>
                      <a:pt x="827" y="445"/>
                    </a:lnTo>
                    <a:lnTo>
                      <a:pt x="814" y="454"/>
                    </a:lnTo>
                    <a:lnTo>
                      <a:pt x="798" y="463"/>
                    </a:lnTo>
                    <a:lnTo>
                      <a:pt x="782" y="472"/>
                    </a:lnTo>
                    <a:lnTo>
                      <a:pt x="766" y="481"/>
                    </a:lnTo>
                    <a:lnTo>
                      <a:pt x="749" y="488"/>
                    </a:lnTo>
                    <a:lnTo>
                      <a:pt x="732" y="496"/>
                    </a:lnTo>
                    <a:lnTo>
                      <a:pt x="714" y="503"/>
                    </a:lnTo>
                    <a:lnTo>
                      <a:pt x="696" y="509"/>
                    </a:lnTo>
                    <a:lnTo>
                      <a:pt x="678" y="515"/>
                    </a:lnTo>
                    <a:lnTo>
                      <a:pt x="660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7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3" y="536"/>
                    </a:lnTo>
                    <a:lnTo>
                      <a:pt x="516" y="535"/>
                    </a:lnTo>
                    <a:lnTo>
                      <a:pt x="499" y="533"/>
                    </a:lnTo>
                    <a:lnTo>
                      <a:pt x="483" y="530"/>
                    </a:lnTo>
                    <a:lnTo>
                      <a:pt x="467" y="526"/>
                    </a:lnTo>
                    <a:lnTo>
                      <a:pt x="452" y="521"/>
                    </a:lnTo>
                    <a:lnTo>
                      <a:pt x="439" y="516"/>
                    </a:lnTo>
                    <a:lnTo>
                      <a:pt x="425" y="509"/>
                    </a:lnTo>
                    <a:lnTo>
                      <a:pt x="411" y="501"/>
                    </a:lnTo>
                    <a:lnTo>
                      <a:pt x="427" y="512"/>
                    </a:lnTo>
                    <a:lnTo>
                      <a:pt x="441" y="524"/>
                    </a:lnTo>
                    <a:lnTo>
                      <a:pt x="455" y="535"/>
                    </a:lnTo>
                    <a:lnTo>
                      <a:pt x="467" y="548"/>
                    </a:lnTo>
                    <a:lnTo>
                      <a:pt x="478" y="560"/>
                    </a:lnTo>
                    <a:lnTo>
                      <a:pt x="490" y="573"/>
                    </a:lnTo>
                    <a:lnTo>
                      <a:pt x="499" y="586"/>
                    </a:lnTo>
                    <a:lnTo>
                      <a:pt x="508" y="600"/>
                    </a:lnTo>
                    <a:lnTo>
                      <a:pt x="517" y="614"/>
                    </a:lnTo>
                    <a:lnTo>
                      <a:pt x="524" y="629"/>
                    </a:lnTo>
                    <a:lnTo>
                      <a:pt x="531" y="642"/>
                    </a:lnTo>
                    <a:lnTo>
                      <a:pt x="537" y="657"/>
                    </a:lnTo>
                    <a:lnTo>
                      <a:pt x="542" y="673"/>
                    </a:lnTo>
                    <a:lnTo>
                      <a:pt x="547" y="688"/>
                    </a:lnTo>
                    <a:lnTo>
                      <a:pt x="551" y="703"/>
                    </a:lnTo>
                    <a:lnTo>
                      <a:pt x="555" y="719"/>
                    </a:lnTo>
                    <a:lnTo>
                      <a:pt x="559" y="751"/>
                    </a:lnTo>
                    <a:lnTo>
                      <a:pt x="563" y="784"/>
                    </a:lnTo>
                    <a:lnTo>
                      <a:pt x="564" y="815"/>
                    </a:lnTo>
                    <a:lnTo>
                      <a:pt x="563" y="849"/>
                    </a:lnTo>
                    <a:lnTo>
                      <a:pt x="562" y="882"/>
                    </a:lnTo>
                    <a:lnTo>
                      <a:pt x="558" y="915"/>
                    </a:lnTo>
                    <a:lnTo>
                      <a:pt x="554" y="948"/>
                    </a:lnTo>
                    <a:lnTo>
                      <a:pt x="548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41" y="900"/>
                    </a:lnTo>
                    <a:lnTo>
                      <a:pt x="424" y="885"/>
                    </a:lnTo>
                    <a:lnTo>
                      <a:pt x="409" y="870"/>
                    </a:lnTo>
                    <a:lnTo>
                      <a:pt x="395" y="857"/>
                    </a:lnTo>
                    <a:lnTo>
                      <a:pt x="384" y="843"/>
                    </a:lnTo>
                    <a:lnTo>
                      <a:pt x="373" y="829"/>
                    </a:lnTo>
                    <a:lnTo>
                      <a:pt x="363" y="815"/>
                    </a:lnTo>
                    <a:lnTo>
                      <a:pt x="355" y="803"/>
                    </a:lnTo>
                    <a:lnTo>
                      <a:pt x="349" y="789"/>
                    </a:lnTo>
                    <a:lnTo>
                      <a:pt x="343" y="776"/>
                    </a:lnTo>
                    <a:lnTo>
                      <a:pt x="338" y="763"/>
                    </a:lnTo>
                    <a:lnTo>
                      <a:pt x="334" y="749"/>
                    </a:lnTo>
                    <a:lnTo>
                      <a:pt x="331" y="736"/>
                    </a:lnTo>
                    <a:lnTo>
                      <a:pt x="329" y="722"/>
                    </a:lnTo>
                    <a:lnTo>
                      <a:pt x="328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7" y="480"/>
                    </a:lnTo>
                    <a:lnTo>
                      <a:pt x="346" y="476"/>
                    </a:lnTo>
                    <a:lnTo>
                      <a:pt x="330" y="470"/>
                    </a:lnTo>
                    <a:lnTo>
                      <a:pt x="310" y="466"/>
                    </a:lnTo>
                    <a:lnTo>
                      <a:pt x="286" y="460"/>
                    </a:lnTo>
                    <a:lnTo>
                      <a:pt x="228" y="448"/>
                    </a:lnTo>
                    <a:lnTo>
                      <a:pt x="164" y="434"/>
                    </a:lnTo>
                    <a:lnTo>
                      <a:pt x="132" y="426"/>
                    </a:lnTo>
                    <a:lnTo>
                      <a:pt x="102" y="416"/>
                    </a:lnTo>
                    <a:lnTo>
                      <a:pt x="88" y="411"/>
                    </a:lnTo>
                    <a:lnTo>
                      <a:pt x="74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9" y="387"/>
                    </a:lnTo>
                    <a:lnTo>
                      <a:pt x="28" y="380"/>
                    </a:lnTo>
                    <a:lnTo>
                      <a:pt x="20" y="372"/>
                    </a:lnTo>
                    <a:lnTo>
                      <a:pt x="12" y="365"/>
                    </a:lnTo>
                    <a:lnTo>
                      <a:pt x="7" y="357"/>
                    </a:lnTo>
                    <a:lnTo>
                      <a:pt x="2" y="348"/>
                    </a:lnTo>
                    <a:lnTo>
                      <a:pt x="0" y="339"/>
                    </a:lnTo>
                    <a:lnTo>
                      <a:pt x="0" y="330"/>
                    </a:lnTo>
                    <a:lnTo>
                      <a:pt x="1" y="308"/>
                    </a:lnTo>
                    <a:lnTo>
                      <a:pt x="6" y="287"/>
                    </a:lnTo>
                    <a:lnTo>
                      <a:pt x="11" y="265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40" y="202"/>
                    </a:lnTo>
                    <a:lnTo>
                      <a:pt x="51" y="182"/>
                    </a:lnTo>
                    <a:lnTo>
                      <a:pt x="65" y="161"/>
                    </a:lnTo>
                    <a:lnTo>
                      <a:pt x="80" y="142"/>
                    </a:lnTo>
                    <a:lnTo>
                      <a:pt x="94" y="124"/>
                    </a:lnTo>
                    <a:lnTo>
                      <a:pt x="112" y="105"/>
                    </a:lnTo>
                    <a:lnTo>
                      <a:pt x="129" y="88"/>
                    </a:lnTo>
                    <a:lnTo>
                      <a:pt x="146" y="73"/>
                    </a:lnTo>
                    <a:lnTo>
                      <a:pt x="164" y="59"/>
                    </a:lnTo>
                    <a:lnTo>
                      <a:pt x="182" y="46"/>
                    </a:lnTo>
                    <a:lnTo>
                      <a:pt x="202" y="33"/>
                    </a:lnTo>
                    <a:lnTo>
                      <a:pt x="220" y="24"/>
                    </a:lnTo>
                    <a:lnTo>
                      <a:pt x="238" y="16"/>
                    </a:lnTo>
                    <a:lnTo>
                      <a:pt x="256" y="10"/>
                    </a:lnTo>
                    <a:lnTo>
                      <a:pt x="274" y="5"/>
                    </a:lnTo>
                    <a:lnTo>
                      <a:pt x="293" y="3"/>
                    </a:lnTo>
                    <a:lnTo>
                      <a:pt x="310" y="3"/>
                    </a:lnTo>
                    <a:lnTo>
                      <a:pt x="326" y="5"/>
                    </a:lnTo>
                    <a:lnTo>
                      <a:pt x="342" y="10"/>
                    </a:lnTo>
                    <a:lnTo>
                      <a:pt x="355" y="16"/>
                    </a:lnTo>
                    <a:lnTo>
                      <a:pt x="369" y="27"/>
                    </a:lnTo>
                    <a:lnTo>
                      <a:pt x="382" y="39"/>
                    </a:lnTo>
                    <a:lnTo>
                      <a:pt x="392" y="54"/>
                    </a:lnTo>
                    <a:lnTo>
                      <a:pt x="401" y="72"/>
                    </a:lnTo>
                    <a:lnTo>
                      <a:pt x="409" y="94"/>
                    </a:lnTo>
                    <a:lnTo>
                      <a:pt x="415" y="119"/>
                    </a:lnTo>
                    <a:lnTo>
                      <a:pt x="418" y="147"/>
                    </a:lnTo>
                    <a:lnTo>
                      <a:pt x="423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29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3" y="137"/>
                    </a:lnTo>
                    <a:lnTo>
                      <a:pt x="459" y="121"/>
                    </a:lnTo>
                    <a:lnTo>
                      <a:pt x="465" y="104"/>
                    </a:lnTo>
                    <a:lnTo>
                      <a:pt x="472" y="87"/>
                    </a:lnTo>
                    <a:lnTo>
                      <a:pt x="480" y="71"/>
                    </a:lnTo>
                    <a:lnTo>
                      <a:pt x="489" y="56"/>
                    </a:lnTo>
                    <a:lnTo>
                      <a:pt x="498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4" y="11"/>
                    </a:lnTo>
                    <a:lnTo>
                      <a:pt x="549" y="5"/>
                    </a:lnTo>
                    <a:lnTo>
                      <a:pt x="565" y="2"/>
                    </a:lnTo>
                    <a:lnTo>
                      <a:pt x="583" y="0"/>
                    </a:lnTo>
                    <a:lnTo>
                      <a:pt x="603" y="4"/>
                    </a:lnTo>
                    <a:lnTo>
                      <a:pt x="623" y="10"/>
                    </a:lnTo>
                    <a:lnTo>
                      <a:pt x="645" y="21"/>
                    </a:lnTo>
                    <a:lnTo>
                      <a:pt x="670" y="35"/>
                    </a:lnTo>
                    <a:lnTo>
                      <a:pt x="643" y="77"/>
                    </a:lnTo>
                    <a:lnTo>
                      <a:pt x="614" y="117"/>
                    </a:lnTo>
                    <a:lnTo>
                      <a:pt x="599" y="136"/>
                    </a:lnTo>
                    <a:lnTo>
                      <a:pt x="584" y="155"/>
                    </a:lnTo>
                    <a:lnTo>
                      <a:pt x="570" y="175"/>
                    </a:lnTo>
                    <a:lnTo>
                      <a:pt x="554" y="192"/>
                    </a:lnTo>
                    <a:lnTo>
                      <a:pt x="538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7" y="268"/>
                    </a:lnTo>
                    <a:lnTo>
                      <a:pt x="448" y="281"/>
                    </a:lnTo>
                    <a:lnTo>
                      <a:pt x="427" y="291"/>
                    </a:lnTo>
                    <a:lnTo>
                      <a:pt x="407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570560" y="417852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3">
                    <a:moveTo>
                      <a:pt x="514" y="89"/>
                    </a:moveTo>
                    <a:lnTo>
                      <a:pt x="511" y="71"/>
                    </a:lnTo>
                    <a:lnTo>
                      <a:pt x="495" y="61"/>
                    </a:lnTo>
                    <a:lnTo>
                      <a:pt x="479" y="53"/>
                    </a:lnTo>
                    <a:lnTo>
                      <a:pt x="464" y="45"/>
                    </a:lnTo>
                    <a:lnTo>
                      <a:pt x="448" y="38"/>
                    </a:lnTo>
                    <a:lnTo>
                      <a:pt x="432" y="33"/>
                    </a:lnTo>
                    <a:lnTo>
                      <a:pt x="415" y="27"/>
                    </a:lnTo>
                    <a:lnTo>
                      <a:pt x="399" y="22"/>
                    </a:lnTo>
                    <a:lnTo>
                      <a:pt x="383" y="19"/>
                    </a:lnTo>
                    <a:lnTo>
                      <a:pt x="350" y="13"/>
                    </a:lnTo>
                    <a:lnTo>
                      <a:pt x="317" y="10"/>
                    </a:lnTo>
                    <a:lnTo>
                      <a:pt x="284" y="8"/>
                    </a:lnTo>
                    <a:lnTo>
                      <a:pt x="251" y="8"/>
                    </a:lnTo>
                    <a:lnTo>
                      <a:pt x="187" y="9"/>
                    </a:lnTo>
                    <a:lnTo>
                      <a:pt x="123" y="10"/>
                    </a:lnTo>
                    <a:lnTo>
                      <a:pt x="93" y="10"/>
                    </a:lnTo>
                    <a:lnTo>
                      <a:pt x="63" y="8"/>
                    </a:lnTo>
                    <a:lnTo>
                      <a:pt x="33" y="5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31" y="29"/>
                    </a:lnTo>
                    <a:lnTo>
                      <a:pt x="61" y="33"/>
                    </a:lnTo>
                    <a:lnTo>
                      <a:pt x="93" y="34"/>
                    </a:lnTo>
                    <a:lnTo>
                      <a:pt x="123" y="34"/>
                    </a:lnTo>
                    <a:lnTo>
                      <a:pt x="187" y="33"/>
                    </a:lnTo>
                    <a:lnTo>
                      <a:pt x="252" y="32"/>
                    </a:lnTo>
                    <a:lnTo>
                      <a:pt x="284" y="32"/>
                    </a:lnTo>
                    <a:lnTo>
                      <a:pt x="315" y="34"/>
                    </a:lnTo>
                    <a:lnTo>
                      <a:pt x="347" y="37"/>
                    </a:lnTo>
                    <a:lnTo>
                      <a:pt x="379" y="43"/>
                    </a:lnTo>
                    <a:lnTo>
                      <a:pt x="393" y="46"/>
                    </a:lnTo>
                    <a:lnTo>
                      <a:pt x="408" y="50"/>
                    </a:lnTo>
                    <a:lnTo>
                      <a:pt x="424" y="56"/>
                    </a:lnTo>
                    <a:lnTo>
                      <a:pt x="439" y="60"/>
                    </a:lnTo>
                    <a:lnTo>
                      <a:pt x="454" y="67"/>
                    </a:lnTo>
                    <a:lnTo>
                      <a:pt x="469" y="74"/>
                    </a:lnTo>
                    <a:lnTo>
                      <a:pt x="482" y="83"/>
                    </a:lnTo>
                    <a:lnTo>
                      <a:pt x="497" y="91"/>
                    </a:lnTo>
                    <a:lnTo>
                      <a:pt x="494" y="75"/>
                    </a:lnTo>
                    <a:lnTo>
                      <a:pt x="497" y="91"/>
                    </a:lnTo>
                    <a:lnTo>
                      <a:pt x="502" y="93"/>
                    </a:lnTo>
                    <a:lnTo>
                      <a:pt x="506" y="93"/>
                    </a:lnTo>
                    <a:lnTo>
                      <a:pt x="511" y="91"/>
                    </a:lnTo>
                    <a:lnTo>
                      <a:pt x="514" y="89"/>
                    </a:lnTo>
                    <a:lnTo>
                      <a:pt x="515" y="84"/>
                    </a:lnTo>
                    <a:lnTo>
                      <a:pt x="515" y="79"/>
                    </a:lnTo>
                    <a:lnTo>
                      <a:pt x="514" y="75"/>
                    </a:lnTo>
                    <a:lnTo>
                      <a:pt x="511" y="71"/>
                    </a:lnTo>
                    <a:lnTo>
                      <a:pt x="514" y="8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570560" y="4202280"/>
                <a:ext cx="163440" cy="58680"/>
              </a:xfrm>
              <a:custGeom>
                <a:avLst/>
                <a:gdLst/>
                <a:ahLst/>
                <a:rect l="l" t="t" r="r" b="b"/>
                <a:pathLst>
                  <a:path w="517" h="185">
                    <a:moveTo>
                      <a:pt x="18" y="128"/>
                    </a:moveTo>
                    <a:lnTo>
                      <a:pt x="4" y="148"/>
                    </a:lnTo>
                    <a:lnTo>
                      <a:pt x="18" y="156"/>
                    </a:lnTo>
                    <a:lnTo>
                      <a:pt x="33" y="164"/>
                    </a:lnTo>
                    <a:lnTo>
                      <a:pt x="49" y="170"/>
                    </a:lnTo>
                    <a:lnTo>
                      <a:pt x="65" y="175"/>
                    </a:lnTo>
                    <a:lnTo>
                      <a:pt x="81" y="179"/>
                    </a:lnTo>
                    <a:lnTo>
                      <a:pt x="98" y="182"/>
                    </a:lnTo>
                    <a:lnTo>
                      <a:pt x="115" y="183"/>
                    </a:lnTo>
                    <a:lnTo>
                      <a:pt x="133" y="185"/>
                    </a:lnTo>
                    <a:lnTo>
                      <a:pt x="151" y="185"/>
                    </a:lnTo>
                    <a:lnTo>
                      <a:pt x="170" y="185"/>
                    </a:lnTo>
                    <a:lnTo>
                      <a:pt x="188" y="182"/>
                    </a:lnTo>
                    <a:lnTo>
                      <a:pt x="206" y="180"/>
                    </a:lnTo>
                    <a:lnTo>
                      <a:pt x="226" y="178"/>
                    </a:lnTo>
                    <a:lnTo>
                      <a:pt x="244" y="173"/>
                    </a:lnTo>
                    <a:lnTo>
                      <a:pt x="263" y="169"/>
                    </a:lnTo>
                    <a:lnTo>
                      <a:pt x="281" y="164"/>
                    </a:lnTo>
                    <a:lnTo>
                      <a:pt x="300" y="158"/>
                    </a:lnTo>
                    <a:lnTo>
                      <a:pt x="318" y="152"/>
                    </a:lnTo>
                    <a:lnTo>
                      <a:pt x="336" y="145"/>
                    </a:lnTo>
                    <a:lnTo>
                      <a:pt x="353" y="137"/>
                    </a:lnTo>
                    <a:lnTo>
                      <a:pt x="371" y="129"/>
                    </a:lnTo>
                    <a:lnTo>
                      <a:pt x="387" y="121"/>
                    </a:lnTo>
                    <a:lnTo>
                      <a:pt x="403" y="112"/>
                    </a:lnTo>
                    <a:lnTo>
                      <a:pt x="419" y="101"/>
                    </a:lnTo>
                    <a:lnTo>
                      <a:pt x="434" y="92"/>
                    </a:lnTo>
                    <a:lnTo>
                      <a:pt x="449" y="82"/>
                    </a:lnTo>
                    <a:lnTo>
                      <a:pt x="463" y="71"/>
                    </a:lnTo>
                    <a:lnTo>
                      <a:pt x="475" y="60"/>
                    </a:lnTo>
                    <a:lnTo>
                      <a:pt x="488" y="49"/>
                    </a:lnTo>
                    <a:lnTo>
                      <a:pt x="498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7" y="0"/>
                    </a:lnTo>
                    <a:lnTo>
                      <a:pt x="489" y="10"/>
                    </a:lnTo>
                    <a:lnTo>
                      <a:pt x="480" y="22"/>
                    </a:lnTo>
                    <a:lnTo>
                      <a:pt x="469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4" y="63"/>
                    </a:lnTo>
                    <a:lnTo>
                      <a:pt x="420" y="72"/>
                    </a:lnTo>
                    <a:lnTo>
                      <a:pt x="407" y="81"/>
                    </a:lnTo>
                    <a:lnTo>
                      <a:pt x="392" y="90"/>
                    </a:lnTo>
                    <a:lnTo>
                      <a:pt x="376" y="99"/>
                    </a:lnTo>
                    <a:lnTo>
                      <a:pt x="360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4"/>
                    </a:lnTo>
                    <a:lnTo>
                      <a:pt x="275" y="140"/>
                    </a:lnTo>
                    <a:lnTo>
                      <a:pt x="256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3" y="156"/>
                    </a:lnTo>
                    <a:lnTo>
                      <a:pt x="186" y="158"/>
                    </a:lnTo>
                    <a:lnTo>
                      <a:pt x="169" y="161"/>
                    </a:lnTo>
                    <a:lnTo>
                      <a:pt x="150" y="161"/>
                    </a:lnTo>
                    <a:lnTo>
                      <a:pt x="134" y="161"/>
                    </a:lnTo>
                    <a:lnTo>
                      <a:pt x="117" y="160"/>
                    </a:lnTo>
                    <a:lnTo>
                      <a:pt x="101" y="158"/>
                    </a:lnTo>
                    <a:lnTo>
                      <a:pt x="85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1"/>
                    </a:lnTo>
                    <a:lnTo>
                      <a:pt x="31" y="136"/>
                    </a:lnTo>
                    <a:lnTo>
                      <a:pt x="18" y="128"/>
                    </a:lnTo>
                    <a:lnTo>
                      <a:pt x="4" y="148"/>
                    </a:lnTo>
                    <a:lnTo>
                      <a:pt x="18" y="128"/>
                    </a:lnTo>
                    <a:lnTo>
                      <a:pt x="14" y="126"/>
                    </a:lnTo>
                    <a:lnTo>
                      <a:pt x="9" y="126"/>
                    </a:lnTo>
                    <a:lnTo>
                      <a:pt x="4" y="128"/>
                    </a:lnTo>
                    <a:lnTo>
                      <a:pt x="1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4" y="148"/>
                    </a:lnTo>
                    <a:lnTo>
                      <a:pt x="18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572000" y="42436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7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1" y="359"/>
                    </a:lnTo>
                    <a:lnTo>
                      <a:pt x="171" y="324"/>
                    </a:lnTo>
                    <a:lnTo>
                      <a:pt x="170" y="291"/>
                    </a:lnTo>
                    <a:lnTo>
                      <a:pt x="168" y="258"/>
                    </a:lnTo>
                    <a:lnTo>
                      <a:pt x="162" y="225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7"/>
                    </a:lnTo>
                    <a:lnTo>
                      <a:pt x="144" y="163"/>
                    </a:lnTo>
                    <a:lnTo>
                      <a:pt x="138" y="147"/>
                    </a:lnTo>
                    <a:lnTo>
                      <a:pt x="131" y="132"/>
                    </a:lnTo>
                    <a:lnTo>
                      <a:pt x="124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4" y="61"/>
                    </a:lnTo>
                    <a:lnTo>
                      <a:pt x="72" y="47"/>
                    </a:lnTo>
                    <a:lnTo>
                      <a:pt x="59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30" y="42"/>
                    </a:lnTo>
                    <a:lnTo>
                      <a:pt x="43" y="53"/>
                    </a:lnTo>
                    <a:lnTo>
                      <a:pt x="55" y="65"/>
                    </a:lnTo>
                    <a:lnTo>
                      <a:pt x="65" y="77"/>
                    </a:lnTo>
                    <a:lnTo>
                      <a:pt x="76" y="90"/>
                    </a:lnTo>
                    <a:lnTo>
                      <a:pt x="86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10" y="142"/>
                    </a:lnTo>
                    <a:lnTo>
                      <a:pt x="116" y="157"/>
                    </a:lnTo>
                    <a:lnTo>
                      <a:pt x="121" y="171"/>
                    </a:lnTo>
                    <a:lnTo>
                      <a:pt x="127" y="185"/>
                    </a:lnTo>
                    <a:lnTo>
                      <a:pt x="131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4" y="261"/>
                    </a:lnTo>
                    <a:lnTo>
                      <a:pt x="146" y="293"/>
                    </a:lnTo>
                    <a:lnTo>
                      <a:pt x="147" y="324"/>
                    </a:lnTo>
                    <a:lnTo>
                      <a:pt x="147" y="358"/>
                    </a:lnTo>
                    <a:lnTo>
                      <a:pt x="145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3" y="488"/>
                    </a:lnTo>
                    <a:lnTo>
                      <a:pt x="151" y="480"/>
                    </a:lnTo>
                    <a:lnTo>
                      <a:pt x="133" y="488"/>
                    </a:lnTo>
                    <a:lnTo>
                      <a:pt x="133" y="493"/>
                    </a:lnTo>
                    <a:lnTo>
                      <a:pt x="135" y="498"/>
                    </a:lnTo>
                    <a:lnTo>
                      <a:pt x="138" y="500"/>
                    </a:lnTo>
                    <a:lnTo>
                      <a:pt x="143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7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543560" y="4235760"/>
                <a:ext cx="75960" cy="166680"/>
              </a:xfrm>
              <a:custGeom>
                <a:avLst/>
                <a:gdLst/>
                <a:ahLst/>
                <a:rect l="l" t="t" r="r" b="b"/>
                <a:pathLst>
                  <a:path w="239" h="523">
                    <a:moveTo>
                      <a:pt x="33" y="21"/>
                    </a:moveTo>
                    <a:lnTo>
                      <a:pt x="28" y="10"/>
                    </a:lnTo>
                    <a:lnTo>
                      <a:pt x="14" y="93"/>
                    </a:lnTo>
                    <a:lnTo>
                      <a:pt x="4" y="163"/>
                    </a:lnTo>
                    <a:lnTo>
                      <a:pt x="1" y="196"/>
                    </a:lnTo>
                    <a:lnTo>
                      <a:pt x="0" y="226"/>
                    </a:lnTo>
                    <a:lnTo>
                      <a:pt x="0" y="241"/>
                    </a:lnTo>
                    <a:lnTo>
                      <a:pt x="1" y="255"/>
                    </a:lnTo>
                    <a:lnTo>
                      <a:pt x="3" y="270"/>
                    </a:lnTo>
                    <a:lnTo>
                      <a:pt x="6" y="285"/>
                    </a:lnTo>
                    <a:lnTo>
                      <a:pt x="10" y="298"/>
                    </a:lnTo>
                    <a:lnTo>
                      <a:pt x="15" y="312"/>
                    </a:lnTo>
                    <a:lnTo>
                      <a:pt x="21" y="327"/>
                    </a:lnTo>
                    <a:lnTo>
                      <a:pt x="29" y="341"/>
                    </a:lnTo>
                    <a:lnTo>
                      <a:pt x="37" y="354"/>
                    </a:lnTo>
                    <a:lnTo>
                      <a:pt x="47" y="368"/>
                    </a:lnTo>
                    <a:lnTo>
                      <a:pt x="58" y="383"/>
                    </a:lnTo>
                    <a:lnTo>
                      <a:pt x="70" y="397"/>
                    </a:lnTo>
                    <a:lnTo>
                      <a:pt x="84" y="411"/>
                    </a:lnTo>
                    <a:lnTo>
                      <a:pt x="100" y="426"/>
                    </a:lnTo>
                    <a:lnTo>
                      <a:pt x="117" y="441"/>
                    </a:lnTo>
                    <a:lnTo>
                      <a:pt x="135" y="456"/>
                    </a:lnTo>
                    <a:lnTo>
                      <a:pt x="155" y="472"/>
                    </a:lnTo>
                    <a:lnTo>
                      <a:pt x="176" y="489"/>
                    </a:lnTo>
                    <a:lnTo>
                      <a:pt x="200" y="506"/>
                    </a:lnTo>
                    <a:lnTo>
                      <a:pt x="225" y="523"/>
                    </a:lnTo>
                    <a:lnTo>
                      <a:pt x="239" y="503"/>
                    </a:lnTo>
                    <a:lnTo>
                      <a:pt x="214" y="485"/>
                    </a:lnTo>
                    <a:lnTo>
                      <a:pt x="191" y="469"/>
                    </a:lnTo>
                    <a:lnTo>
                      <a:pt x="169" y="454"/>
                    </a:lnTo>
                    <a:lnTo>
                      <a:pt x="150" y="438"/>
                    </a:lnTo>
                    <a:lnTo>
                      <a:pt x="132" y="423"/>
                    </a:lnTo>
                    <a:lnTo>
                      <a:pt x="116" y="408"/>
                    </a:lnTo>
                    <a:lnTo>
                      <a:pt x="102" y="394"/>
                    </a:lnTo>
                    <a:lnTo>
                      <a:pt x="88" y="381"/>
                    </a:lnTo>
                    <a:lnTo>
                      <a:pt x="77" y="367"/>
                    </a:lnTo>
                    <a:lnTo>
                      <a:pt x="67" y="354"/>
                    </a:lnTo>
                    <a:lnTo>
                      <a:pt x="58" y="341"/>
                    </a:lnTo>
                    <a:lnTo>
                      <a:pt x="50" y="328"/>
                    </a:lnTo>
                    <a:lnTo>
                      <a:pt x="43" y="316"/>
                    </a:lnTo>
                    <a:lnTo>
                      <a:pt x="38" y="303"/>
                    </a:lnTo>
                    <a:lnTo>
                      <a:pt x="34" y="292"/>
                    </a:lnTo>
                    <a:lnTo>
                      <a:pt x="30" y="278"/>
                    </a:lnTo>
                    <a:lnTo>
                      <a:pt x="27" y="265"/>
                    </a:lnTo>
                    <a:lnTo>
                      <a:pt x="25" y="253"/>
                    </a:lnTo>
                    <a:lnTo>
                      <a:pt x="23" y="239"/>
                    </a:lnTo>
                    <a:lnTo>
                      <a:pt x="23" y="226"/>
                    </a:lnTo>
                    <a:lnTo>
                      <a:pt x="25" y="197"/>
                    </a:lnTo>
                    <a:lnTo>
                      <a:pt x="28" y="166"/>
                    </a:lnTo>
                    <a:lnTo>
                      <a:pt x="38" y="97"/>
                    </a:lnTo>
                    <a:lnTo>
                      <a:pt x="52" y="13"/>
                    </a:lnTo>
                    <a:lnTo>
                      <a:pt x="47" y="2"/>
                    </a:lnTo>
                    <a:lnTo>
                      <a:pt x="52" y="13"/>
                    </a:lnTo>
                    <a:lnTo>
                      <a:pt x="52" y="9"/>
                    </a:lnTo>
                    <a:lnTo>
                      <a:pt x="50" y="4"/>
                    </a:lnTo>
                    <a:lnTo>
                      <a:pt x="46" y="2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2"/>
                    </a:lnTo>
                    <a:lnTo>
                      <a:pt x="30" y="5"/>
                    </a:lnTo>
                    <a:lnTo>
                      <a:pt x="28" y="10"/>
                    </a:lnTo>
                    <a:lnTo>
                      <a:pt x="33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38800" y="4192920"/>
                <a:ext cx="118800" cy="50760"/>
              </a:xfrm>
              <a:custGeom>
                <a:avLst/>
                <a:gdLst/>
                <a:ahLst/>
                <a:rect l="l" t="t" r="r" b="b"/>
                <a:pathLst>
                  <a:path w="376" h="160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9" y="34"/>
                    </a:lnTo>
                    <a:lnTo>
                      <a:pt x="16" y="43"/>
                    </a:lnTo>
                    <a:lnTo>
                      <a:pt x="24" y="52"/>
                    </a:lnTo>
                    <a:lnTo>
                      <a:pt x="34" y="60"/>
                    </a:lnTo>
                    <a:lnTo>
                      <a:pt x="45" y="68"/>
                    </a:lnTo>
                    <a:lnTo>
                      <a:pt x="56" y="75"/>
                    </a:lnTo>
                    <a:lnTo>
                      <a:pt x="69" y="82"/>
                    </a:lnTo>
                    <a:lnTo>
                      <a:pt x="82" y="87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2" y="108"/>
                    </a:lnTo>
                    <a:lnTo>
                      <a:pt x="175" y="117"/>
                    </a:lnTo>
                    <a:lnTo>
                      <a:pt x="238" y="132"/>
                    </a:lnTo>
                    <a:lnTo>
                      <a:pt x="297" y="143"/>
                    </a:lnTo>
                    <a:lnTo>
                      <a:pt x="321" y="148"/>
                    </a:lnTo>
                    <a:lnTo>
                      <a:pt x="341" y="154"/>
                    </a:lnTo>
                    <a:lnTo>
                      <a:pt x="355" y="158"/>
                    </a:lnTo>
                    <a:lnTo>
                      <a:pt x="362" y="160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7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3" y="65"/>
                    </a:lnTo>
                    <a:lnTo>
                      <a:pt x="80" y="60"/>
                    </a:lnTo>
                    <a:lnTo>
                      <a:pt x="69" y="53"/>
                    </a:lnTo>
                    <a:lnTo>
                      <a:pt x="58" y="48"/>
                    </a:lnTo>
                    <a:lnTo>
                      <a:pt x="49" y="41"/>
                    </a:lnTo>
                    <a:lnTo>
                      <a:pt x="41" y="35"/>
                    </a:lnTo>
                    <a:lnTo>
                      <a:pt x="36" y="28"/>
                    </a:lnTo>
                    <a:lnTo>
                      <a:pt x="30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438800" y="4084920"/>
                <a:ext cx="141120" cy="108000"/>
              </a:xfrm>
              <a:custGeom>
                <a:avLst/>
                <a:gdLst/>
                <a:ahLst/>
                <a:rect l="l" t="t" r="r" b="b"/>
                <a:pathLst>
                  <a:path w="444" h="340">
                    <a:moveTo>
                      <a:pt x="444" y="156"/>
                    </a:moveTo>
                    <a:lnTo>
                      <a:pt x="444" y="156"/>
                    </a:lnTo>
                    <a:lnTo>
                      <a:pt x="441" y="141"/>
                    </a:lnTo>
                    <a:lnTo>
                      <a:pt x="439" y="127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8"/>
                    </a:lnTo>
                    <a:lnTo>
                      <a:pt x="421" y="67"/>
                    </a:lnTo>
                    <a:lnTo>
                      <a:pt x="415" y="58"/>
                    </a:lnTo>
                    <a:lnTo>
                      <a:pt x="409" y="49"/>
                    </a:lnTo>
                    <a:lnTo>
                      <a:pt x="404" y="41"/>
                    </a:lnTo>
                    <a:lnTo>
                      <a:pt x="397" y="33"/>
                    </a:lnTo>
                    <a:lnTo>
                      <a:pt x="390" y="27"/>
                    </a:lnTo>
                    <a:lnTo>
                      <a:pt x="382" y="21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8" y="8"/>
                    </a:lnTo>
                    <a:lnTo>
                      <a:pt x="350" y="5"/>
                    </a:lnTo>
                    <a:lnTo>
                      <a:pt x="341" y="2"/>
                    </a:lnTo>
                    <a:lnTo>
                      <a:pt x="332" y="1"/>
                    </a:lnTo>
                    <a:lnTo>
                      <a:pt x="323" y="0"/>
                    </a:lnTo>
                    <a:lnTo>
                      <a:pt x="305" y="0"/>
                    </a:lnTo>
                    <a:lnTo>
                      <a:pt x="285" y="4"/>
                    </a:lnTo>
                    <a:lnTo>
                      <a:pt x="266" y="8"/>
                    </a:lnTo>
                    <a:lnTo>
                      <a:pt x="246" y="15"/>
                    </a:lnTo>
                    <a:lnTo>
                      <a:pt x="227" y="23"/>
                    </a:lnTo>
                    <a:lnTo>
                      <a:pt x="208" y="33"/>
                    </a:lnTo>
                    <a:lnTo>
                      <a:pt x="188" y="46"/>
                    </a:lnTo>
                    <a:lnTo>
                      <a:pt x="170" y="59"/>
                    </a:lnTo>
                    <a:lnTo>
                      <a:pt x="151" y="73"/>
                    </a:lnTo>
                    <a:lnTo>
                      <a:pt x="132" y="90"/>
                    </a:lnTo>
                    <a:lnTo>
                      <a:pt x="115" y="107"/>
                    </a:lnTo>
                    <a:lnTo>
                      <a:pt x="98" y="126"/>
                    </a:lnTo>
                    <a:lnTo>
                      <a:pt x="82" y="144"/>
                    </a:lnTo>
                    <a:lnTo>
                      <a:pt x="68" y="164"/>
                    </a:lnTo>
                    <a:lnTo>
                      <a:pt x="54" y="185"/>
                    </a:lnTo>
                    <a:lnTo>
                      <a:pt x="41" y="205"/>
                    </a:lnTo>
                    <a:lnTo>
                      <a:pt x="30" y="227"/>
                    </a:lnTo>
                    <a:lnTo>
                      <a:pt x="21" y="250"/>
                    </a:lnTo>
                    <a:lnTo>
                      <a:pt x="13" y="271"/>
                    </a:lnTo>
                    <a:lnTo>
                      <a:pt x="7" y="294"/>
                    </a:lnTo>
                    <a:lnTo>
                      <a:pt x="3" y="317"/>
                    </a:lnTo>
                    <a:lnTo>
                      <a:pt x="0" y="339"/>
                    </a:lnTo>
                    <a:lnTo>
                      <a:pt x="24" y="340"/>
                    </a:lnTo>
                    <a:lnTo>
                      <a:pt x="27" y="320"/>
                    </a:lnTo>
                    <a:lnTo>
                      <a:pt x="30" y="300"/>
                    </a:lnTo>
                    <a:lnTo>
                      <a:pt x="36" y="279"/>
                    </a:lnTo>
                    <a:lnTo>
                      <a:pt x="44" y="259"/>
                    </a:lnTo>
                    <a:lnTo>
                      <a:pt x="53" y="238"/>
                    </a:lnTo>
                    <a:lnTo>
                      <a:pt x="63" y="218"/>
                    </a:lnTo>
                    <a:lnTo>
                      <a:pt x="74" y="197"/>
                    </a:lnTo>
                    <a:lnTo>
                      <a:pt x="88" y="178"/>
                    </a:lnTo>
                    <a:lnTo>
                      <a:pt x="102" y="159"/>
                    </a:lnTo>
                    <a:lnTo>
                      <a:pt x="117" y="141"/>
                    </a:lnTo>
                    <a:lnTo>
                      <a:pt x="132" y="123"/>
                    </a:lnTo>
                    <a:lnTo>
                      <a:pt x="150" y="107"/>
                    </a:lnTo>
                    <a:lnTo>
                      <a:pt x="167" y="92"/>
                    </a:lnTo>
                    <a:lnTo>
                      <a:pt x="184" y="78"/>
                    </a:lnTo>
                    <a:lnTo>
                      <a:pt x="202" y="65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7"/>
                    </a:lnTo>
                    <a:lnTo>
                      <a:pt x="273" y="31"/>
                    </a:lnTo>
                    <a:lnTo>
                      <a:pt x="290" y="26"/>
                    </a:lnTo>
                    <a:lnTo>
                      <a:pt x="307" y="25"/>
                    </a:lnTo>
                    <a:lnTo>
                      <a:pt x="322" y="24"/>
                    </a:lnTo>
                    <a:lnTo>
                      <a:pt x="330" y="25"/>
                    </a:lnTo>
                    <a:lnTo>
                      <a:pt x="337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6" y="33"/>
                    </a:lnTo>
                    <a:lnTo>
                      <a:pt x="363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4" y="56"/>
                    </a:lnTo>
                    <a:lnTo>
                      <a:pt x="390" y="63"/>
                    </a:lnTo>
                    <a:lnTo>
                      <a:pt x="395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1" y="107"/>
                    </a:lnTo>
                    <a:lnTo>
                      <a:pt x="413" y="119"/>
                    </a:lnTo>
                    <a:lnTo>
                      <a:pt x="415" y="131"/>
                    </a:lnTo>
                    <a:lnTo>
                      <a:pt x="417" y="145"/>
                    </a:lnTo>
                    <a:lnTo>
                      <a:pt x="420" y="159"/>
                    </a:lnTo>
                    <a:lnTo>
                      <a:pt x="420" y="159"/>
                    </a:lnTo>
                    <a:lnTo>
                      <a:pt x="444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72000" y="4083480"/>
                <a:ext cx="87480" cy="82440"/>
              </a:xfrm>
              <a:custGeom>
                <a:avLst/>
                <a:gdLst/>
                <a:ahLst/>
                <a:rect l="l" t="t" r="r" b="b"/>
                <a:pathLst>
                  <a:path w="274" h="257">
                    <a:moveTo>
                      <a:pt x="273" y="53"/>
                    </a:moveTo>
                    <a:lnTo>
                      <a:pt x="270" y="37"/>
                    </a:lnTo>
                    <a:lnTo>
                      <a:pt x="256" y="28"/>
                    </a:lnTo>
                    <a:lnTo>
                      <a:pt x="244" y="22"/>
                    </a:lnTo>
                    <a:lnTo>
                      <a:pt x="232" y="16"/>
                    </a:lnTo>
                    <a:lnTo>
                      <a:pt x="221" y="11"/>
                    </a:lnTo>
                    <a:lnTo>
                      <a:pt x="209" y="7"/>
                    </a:lnTo>
                    <a:lnTo>
                      <a:pt x="198" y="3"/>
                    </a:lnTo>
                    <a:lnTo>
                      <a:pt x="188" y="2"/>
                    </a:lnTo>
                    <a:lnTo>
                      <a:pt x="177" y="1"/>
                    </a:lnTo>
                    <a:lnTo>
                      <a:pt x="167" y="0"/>
                    </a:lnTo>
                    <a:lnTo>
                      <a:pt x="157" y="1"/>
                    </a:lnTo>
                    <a:lnTo>
                      <a:pt x="148" y="2"/>
                    </a:lnTo>
                    <a:lnTo>
                      <a:pt x="139" y="4"/>
                    </a:lnTo>
                    <a:lnTo>
                      <a:pt x="131" y="8"/>
                    </a:lnTo>
                    <a:lnTo>
                      <a:pt x="122" y="12"/>
                    </a:lnTo>
                    <a:lnTo>
                      <a:pt x="115" y="17"/>
                    </a:lnTo>
                    <a:lnTo>
                      <a:pt x="107" y="22"/>
                    </a:lnTo>
                    <a:lnTo>
                      <a:pt x="93" y="33"/>
                    </a:lnTo>
                    <a:lnTo>
                      <a:pt x="82" y="47"/>
                    </a:lnTo>
                    <a:lnTo>
                      <a:pt x="71" y="61"/>
                    </a:lnTo>
                    <a:lnTo>
                      <a:pt x="62" y="77"/>
                    </a:lnTo>
                    <a:lnTo>
                      <a:pt x="54" y="94"/>
                    </a:lnTo>
                    <a:lnTo>
                      <a:pt x="46" y="112"/>
                    </a:lnTo>
                    <a:lnTo>
                      <a:pt x="41" y="129"/>
                    </a:lnTo>
                    <a:lnTo>
                      <a:pt x="35" y="147"/>
                    </a:lnTo>
                    <a:lnTo>
                      <a:pt x="20" y="207"/>
                    </a:lnTo>
                    <a:lnTo>
                      <a:pt x="12" y="242"/>
                    </a:lnTo>
                    <a:lnTo>
                      <a:pt x="13" y="240"/>
                    </a:lnTo>
                    <a:lnTo>
                      <a:pt x="16" y="237"/>
                    </a:lnTo>
                    <a:lnTo>
                      <a:pt x="27" y="236"/>
                    </a:lnTo>
                    <a:lnTo>
                      <a:pt x="33" y="242"/>
                    </a:lnTo>
                    <a:lnTo>
                      <a:pt x="32" y="239"/>
                    </a:lnTo>
                    <a:lnTo>
                      <a:pt x="30" y="234"/>
                    </a:lnTo>
                    <a:lnTo>
                      <a:pt x="27" y="205"/>
                    </a:lnTo>
                    <a:lnTo>
                      <a:pt x="24" y="158"/>
                    </a:lnTo>
                    <a:lnTo>
                      <a:pt x="0" y="161"/>
                    </a:lnTo>
                    <a:lnTo>
                      <a:pt x="3" y="207"/>
                    </a:lnTo>
                    <a:lnTo>
                      <a:pt x="7" y="236"/>
                    </a:lnTo>
                    <a:lnTo>
                      <a:pt x="8" y="245"/>
                    </a:lnTo>
                    <a:lnTo>
                      <a:pt x="10" y="251"/>
                    </a:lnTo>
                    <a:lnTo>
                      <a:pt x="17" y="257"/>
                    </a:lnTo>
                    <a:lnTo>
                      <a:pt x="29" y="257"/>
                    </a:lnTo>
                    <a:lnTo>
                      <a:pt x="34" y="252"/>
                    </a:lnTo>
                    <a:lnTo>
                      <a:pt x="36" y="247"/>
                    </a:lnTo>
                    <a:lnTo>
                      <a:pt x="44" y="213"/>
                    </a:lnTo>
                    <a:lnTo>
                      <a:pt x="59" y="153"/>
                    </a:lnTo>
                    <a:lnTo>
                      <a:pt x="64" y="137"/>
                    </a:lnTo>
                    <a:lnTo>
                      <a:pt x="69" y="121"/>
                    </a:lnTo>
                    <a:lnTo>
                      <a:pt x="76" y="105"/>
                    </a:lnTo>
                    <a:lnTo>
                      <a:pt x="83" y="89"/>
                    </a:lnTo>
                    <a:lnTo>
                      <a:pt x="92" y="75"/>
                    </a:lnTo>
                    <a:lnTo>
                      <a:pt x="101" y="61"/>
                    </a:lnTo>
                    <a:lnTo>
                      <a:pt x="111" y="50"/>
                    </a:lnTo>
                    <a:lnTo>
                      <a:pt x="122" y="41"/>
                    </a:lnTo>
                    <a:lnTo>
                      <a:pt x="127" y="36"/>
                    </a:lnTo>
                    <a:lnTo>
                      <a:pt x="133" y="33"/>
                    </a:lnTo>
                    <a:lnTo>
                      <a:pt x="140" y="31"/>
                    </a:lnTo>
                    <a:lnTo>
                      <a:pt x="147" y="28"/>
                    </a:lnTo>
                    <a:lnTo>
                      <a:pt x="152" y="26"/>
                    </a:lnTo>
                    <a:lnTo>
                      <a:pt x="160" y="25"/>
                    </a:lnTo>
                    <a:lnTo>
                      <a:pt x="167" y="25"/>
                    </a:lnTo>
                    <a:lnTo>
                      <a:pt x="175" y="25"/>
                    </a:lnTo>
                    <a:lnTo>
                      <a:pt x="184" y="26"/>
                    </a:lnTo>
                    <a:lnTo>
                      <a:pt x="192" y="27"/>
                    </a:lnTo>
                    <a:lnTo>
                      <a:pt x="201" y="29"/>
                    </a:lnTo>
                    <a:lnTo>
                      <a:pt x="212" y="33"/>
                    </a:lnTo>
                    <a:lnTo>
                      <a:pt x="222" y="37"/>
                    </a:lnTo>
                    <a:lnTo>
                      <a:pt x="232" y="43"/>
                    </a:lnTo>
                    <a:lnTo>
                      <a:pt x="244" y="50"/>
                    </a:lnTo>
                    <a:lnTo>
                      <a:pt x="256" y="57"/>
                    </a:lnTo>
                    <a:lnTo>
                      <a:pt x="253" y="41"/>
                    </a:lnTo>
                    <a:lnTo>
                      <a:pt x="256" y="57"/>
                    </a:lnTo>
                    <a:lnTo>
                      <a:pt x="261" y="59"/>
                    </a:lnTo>
                    <a:lnTo>
                      <a:pt x="265" y="59"/>
                    </a:lnTo>
                    <a:lnTo>
                      <a:pt x="270" y="57"/>
                    </a:lnTo>
                    <a:lnTo>
                      <a:pt x="272" y="53"/>
                    </a:lnTo>
                    <a:lnTo>
                      <a:pt x="274" y="50"/>
                    </a:lnTo>
                    <a:lnTo>
                      <a:pt x="274" y="45"/>
                    </a:lnTo>
                    <a:lnTo>
                      <a:pt x="273" y="41"/>
                    </a:lnTo>
                    <a:lnTo>
                      <a:pt x="270" y="37"/>
                    </a:lnTo>
                    <a:lnTo>
                      <a:pt x="273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68760" y="409752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59"/>
                    </a:moveTo>
                    <a:lnTo>
                      <a:pt x="16" y="283"/>
                    </a:lnTo>
                    <a:lnTo>
                      <a:pt x="39" y="272"/>
                    </a:lnTo>
                    <a:lnTo>
                      <a:pt x="59" y="262"/>
                    </a:lnTo>
                    <a:lnTo>
                      <a:pt x="80" y="250"/>
                    </a:lnTo>
                    <a:lnTo>
                      <a:pt x="99" y="236"/>
                    </a:lnTo>
                    <a:lnTo>
                      <a:pt x="118" y="221"/>
                    </a:lnTo>
                    <a:lnTo>
                      <a:pt x="136" y="205"/>
                    </a:lnTo>
                    <a:lnTo>
                      <a:pt x="153" y="189"/>
                    </a:lnTo>
                    <a:lnTo>
                      <a:pt x="169" y="171"/>
                    </a:lnTo>
                    <a:lnTo>
                      <a:pt x="185" y="153"/>
                    </a:lnTo>
                    <a:lnTo>
                      <a:pt x="201" y="134"/>
                    </a:lnTo>
                    <a:lnTo>
                      <a:pt x="216" y="115"/>
                    </a:lnTo>
                    <a:lnTo>
                      <a:pt x="230" y="95"/>
                    </a:lnTo>
                    <a:lnTo>
                      <a:pt x="258" y="55"/>
                    </a:lnTo>
                    <a:lnTo>
                      <a:pt x="286" y="12"/>
                    </a:lnTo>
                    <a:lnTo>
                      <a:pt x="266" y="0"/>
                    </a:lnTo>
                    <a:lnTo>
                      <a:pt x="238" y="41"/>
                    </a:lnTo>
                    <a:lnTo>
                      <a:pt x="210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7" y="138"/>
                    </a:lnTo>
                    <a:lnTo>
                      <a:pt x="152" y="155"/>
                    </a:lnTo>
                    <a:lnTo>
                      <a:pt x="136" y="172"/>
                    </a:lnTo>
                    <a:lnTo>
                      <a:pt x="119" y="188"/>
                    </a:lnTo>
                    <a:lnTo>
                      <a:pt x="103" y="203"/>
                    </a:lnTo>
                    <a:lnTo>
                      <a:pt x="84" y="216"/>
                    </a:lnTo>
                    <a:lnTo>
                      <a:pt x="66" y="229"/>
                    </a:lnTo>
                    <a:lnTo>
                      <a:pt x="48" y="240"/>
                    </a:lnTo>
                    <a:lnTo>
                      <a:pt x="29" y="251"/>
                    </a:lnTo>
                    <a:lnTo>
                      <a:pt x="8" y="260"/>
                    </a:lnTo>
                    <a:lnTo>
                      <a:pt x="9" y="283"/>
                    </a:lnTo>
                    <a:lnTo>
                      <a:pt x="8" y="260"/>
                    </a:lnTo>
                    <a:lnTo>
                      <a:pt x="4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4" y="279"/>
                    </a:lnTo>
                    <a:lnTo>
                      <a:pt x="7" y="283"/>
                    </a:lnTo>
                    <a:lnTo>
                      <a:pt x="12" y="284"/>
                    </a:lnTo>
                    <a:lnTo>
                      <a:pt x="16" y="283"/>
                    </a:lnTo>
                    <a:lnTo>
                      <a:pt x="15" y="2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540320" y="3824640"/>
                <a:ext cx="288720" cy="311040"/>
              </a:xfrm>
              <a:custGeom>
                <a:avLst/>
                <a:gdLst/>
                <a:ahLst/>
                <a:rect l="l" t="t" r="r" b="b"/>
                <a:pathLst>
                  <a:path w="907" h="981">
                    <a:moveTo>
                      <a:pt x="406" y="300"/>
                    </a:moveTo>
                    <a:lnTo>
                      <a:pt x="436" y="305"/>
                    </a:lnTo>
                    <a:lnTo>
                      <a:pt x="466" y="308"/>
                    </a:lnTo>
                    <a:lnTo>
                      <a:pt x="495" y="309"/>
                    </a:lnTo>
                    <a:lnTo>
                      <a:pt x="527" y="311"/>
                    </a:lnTo>
                    <a:lnTo>
                      <a:pt x="590" y="309"/>
                    </a:lnTo>
                    <a:lnTo>
                      <a:pt x="655" y="307"/>
                    </a:lnTo>
                    <a:lnTo>
                      <a:pt x="687" y="308"/>
                    </a:lnTo>
                    <a:lnTo>
                      <a:pt x="720" y="309"/>
                    </a:lnTo>
                    <a:lnTo>
                      <a:pt x="752" y="313"/>
                    </a:lnTo>
                    <a:lnTo>
                      <a:pt x="784" y="319"/>
                    </a:lnTo>
                    <a:lnTo>
                      <a:pt x="800" y="322"/>
                    </a:lnTo>
                    <a:lnTo>
                      <a:pt x="816" y="327"/>
                    </a:lnTo>
                    <a:lnTo>
                      <a:pt x="832" y="332"/>
                    </a:lnTo>
                    <a:lnTo>
                      <a:pt x="846" y="338"/>
                    </a:lnTo>
                    <a:lnTo>
                      <a:pt x="862" y="345"/>
                    </a:lnTo>
                    <a:lnTo>
                      <a:pt x="877" y="352"/>
                    </a:lnTo>
                    <a:lnTo>
                      <a:pt x="892" y="361"/>
                    </a:lnTo>
                    <a:lnTo>
                      <a:pt x="907" y="370"/>
                    </a:lnTo>
                    <a:lnTo>
                      <a:pt x="899" y="381"/>
                    </a:lnTo>
                    <a:lnTo>
                      <a:pt x="890" y="393"/>
                    </a:lnTo>
                    <a:lnTo>
                      <a:pt x="878" y="403"/>
                    </a:lnTo>
                    <a:lnTo>
                      <a:pt x="867" y="414"/>
                    </a:lnTo>
                    <a:lnTo>
                      <a:pt x="855" y="425"/>
                    </a:lnTo>
                    <a:lnTo>
                      <a:pt x="842" y="435"/>
                    </a:lnTo>
                    <a:lnTo>
                      <a:pt x="828" y="445"/>
                    </a:lnTo>
                    <a:lnTo>
                      <a:pt x="813" y="454"/>
                    </a:lnTo>
                    <a:lnTo>
                      <a:pt x="798" y="464"/>
                    </a:lnTo>
                    <a:lnTo>
                      <a:pt x="783" y="472"/>
                    </a:lnTo>
                    <a:lnTo>
                      <a:pt x="765" y="482"/>
                    </a:lnTo>
                    <a:lnTo>
                      <a:pt x="749" y="490"/>
                    </a:lnTo>
                    <a:lnTo>
                      <a:pt x="731" y="496"/>
                    </a:lnTo>
                    <a:lnTo>
                      <a:pt x="714" y="503"/>
                    </a:lnTo>
                    <a:lnTo>
                      <a:pt x="696" y="510"/>
                    </a:lnTo>
                    <a:lnTo>
                      <a:pt x="679" y="516"/>
                    </a:lnTo>
                    <a:lnTo>
                      <a:pt x="661" y="520"/>
                    </a:lnTo>
                    <a:lnTo>
                      <a:pt x="641" y="525"/>
                    </a:lnTo>
                    <a:lnTo>
                      <a:pt x="623" y="528"/>
                    </a:lnTo>
                    <a:lnTo>
                      <a:pt x="605" y="532"/>
                    </a:lnTo>
                    <a:lnTo>
                      <a:pt x="586" y="534"/>
                    </a:lnTo>
                    <a:lnTo>
                      <a:pt x="569" y="535"/>
                    </a:lnTo>
                    <a:lnTo>
                      <a:pt x="551" y="536"/>
                    </a:lnTo>
                    <a:lnTo>
                      <a:pt x="534" y="536"/>
                    </a:lnTo>
                    <a:lnTo>
                      <a:pt x="517" y="535"/>
                    </a:lnTo>
                    <a:lnTo>
                      <a:pt x="500" y="533"/>
                    </a:lnTo>
                    <a:lnTo>
                      <a:pt x="484" y="531"/>
                    </a:lnTo>
                    <a:lnTo>
                      <a:pt x="468" y="526"/>
                    </a:lnTo>
                    <a:lnTo>
                      <a:pt x="453" y="521"/>
                    </a:lnTo>
                    <a:lnTo>
                      <a:pt x="438" y="516"/>
                    </a:lnTo>
                    <a:lnTo>
                      <a:pt x="425" y="509"/>
                    </a:lnTo>
                    <a:lnTo>
                      <a:pt x="412" y="501"/>
                    </a:lnTo>
                    <a:lnTo>
                      <a:pt x="427" y="512"/>
                    </a:lnTo>
                    <a:lnTo>
                      <a:pt x="442" y="524"/>
                    </a:lnTo>
                    <a:lnTo>
                      <a:pt x="455" y="535"/>
                    </a:lnTo>
                    <a:lnTo>
                      <a:pt x="468" y="548"/>
                    </a:lnTo>
                    <a:lnTo>
                      <a:pt x="479" y="560"/>
                    </a:lnTo>
                    <a:lnTo>
                      <a:pt x="490" y="573"/>
                    </a:lnTo>
                    <a:lnTo>
                      <a:pt x="500" y="586"/>
                    </a:lnTo>
                    <a:lnTo>
                      <a:pt x="509" y="600"/>
                    </a:lnTo>
                    <a:lnTo>
                      <a:pt x="517" y="614"/>
                    </a:lnTo>
                    <a:lnTo>
                      <a:pt x="525" y="629"/>
                    </a:lnTo>
                    <a:lnTo>
                      <a:pt x="532" y="643"/>
                    </a:lnTo>
                    <a:lnTo>
                      <a:pt x="537" y="657"/>
                    </a:lnTo>
                    <a:lnTo>
                      <a:pt x="543" y="673"/>
                    </a:lnTo>
                    <a:lnTo>
                      <a:pt x="548" y="688"/>
                    </a:lnTo>
                    <a:lnTo>
                      <a:pt x="551" y="704"/>
                    </a:lnTo>
                    <a:lnTo>
                      <a:pt x="555" y="719"/>
                    </a:lnTo>
                    <a:lnTo>
                      <a:pt x="560" y="751"/>
                    </a:lnTo>
                    <a:lnTo>
                      <a:pt x="563" y="784"/>
                    </a:lnTo>
                    <a:lnTo>
                      <a:pt x="564" y="816"/>
                    </a:lnTo>
                    <a:lnTo>
                      <a:pt x="564" y="849"/>
                    </a:lnTo>
                    <a:lnTo>
                      <a:pt x="561" y="883"/>
                    </a:lnTo>
                    <a:lnTo>
                      <a:pt x="558" y="916"/>
                    </a:lnTo>
                    <a:lnTo>
                      <a:pt x="553" y="949"/>
                    </a:lnTo>
                    <a:lnTo>
                      <a:pt x="549" y="981"/>
                    </a:lnTo>
                    <a:lnTo>
                      <a:pt x="523" y="964"/>
                    </a:lnTo>
                    <a:lnTo>
                      <a:pt x="500" y="947"/>
                    </a:lnTo>
                    <a:lnTo>
                      <a:pt x="478" y="931"/>
                    </a:lnTo>
                    <a:lnTo>
                      <a:pt x="458" y="915"/>
                    </a:lnTo>
                    <a:lnTo>
                      <a:pt x="439" y="900"/>
                    </a:lnTo>
                    <a:lnTo>
                      <a:pt x="424" y="885"/>
                    </a:lnTo>
                    <a:lnTo>
                      <a:pt x="409" y="871"/>
                    </a:lnTo>
                    <a:lnTo>
                      <a:pt x="395" y="857"/>
                    </a:lnTo>
                    <a:lnTo>
                      <a:pt x="382" y="843"/>
                    </a:lnTo>
                    <a:lnTo>
                      <a:pt x="372" y="829"/>
                    </a:lnTo>
                    <a:lnTo>
                      <a:pt x="363" y="816"/>
                    </a:lnTo>
                    <a:lnTo>
                      <a:pt x="354" y="803"/>
                    </a:lnTo>
                    <a:lnTo>
                      <a:pt x="347" y="789"/>
                    </a:lnTo>
                    <a:lnTo>
                      <a:pt x="341" y="777"/>
                    </a:lnTo>
                    <a:lnTo>
                      <a:pt x="337" y="763"/>
                    </a:lnTo>
                    <a:lnTo>
                      <a:pt x="333" y="749"/>
                    </a:lnTo>
                    <a:lnTo>
                      <a:pt x="330" y="736"/>
                    </a:lnTo>
                    <a:lnTo>
                      <a:pt x="328" y="722"/>
                    </a:lnTo>
                    <a:lnTo>
                      <a:pt x="327" y="708"/>
                    </a:lnTo>
                    <a:lnTo>
                      <a:pt x="327" y="694"/>
                    </a:lnTo>
                    <a:lnTo>
                      <a:pt x="328" y="664"/>
                    </a:lnTo>
                    <a:lnTo>
                      <a:pt x="331" y="633"/>
                    </a:lnTo>
                    <a:lnTo>
                      <a:pt x="343" y="562"/>
                    </a:lnTo>
                    <a:lnTo>
                      <a:pt x="356" y="480"/>
                    </a:lnTo>
                    <a:lnTo>
                      <a:pt x="346" y="476"/>
                    </a:lnTo>
                    <a:lnTo>
                      <a:pt x="330" y="471"/>
                    </a:lnTo>
                    <a:lnTo>
                      <a:pt x="310" y="466"/>
                    </a:lnTo>
                    <a:lnTo>
                      <a:pt x="284" y="461"/>
                    </a:lnTo>
                    <a:lnTo>
                      <a:pt x="227" y="448"/>
                    </a:lnTo>
                    <a:lnTo>
                      <a:pt x="164" y="435"/>
                    </a:lnTo>
                    <a:lnTo>
                      <a:pt x="132" y="426"/>
                    </a:lnTo>
                    <a:lnTo>
                      <a:pt x="102" y="417"/>
                    </a:lnTo>
                    <a:lnTo>
                      <a:pt x="87" y="411"/>
                    </a:lnTo>
                    <a:lnTo>
                      <a:pt x="75" y="405"/>
                    </a:lnTo>
                    <a:lnTo>
                      <a:pt x="61" y="399"/>
                    </a:lnTo>
                    <a:lnTo>
                      <a:pt x="50" y="394"/>
                    </a:lnTo>
                    <a:lnTo>
                      <a:pt x="38" y="387"/>
                    </a:lnTo>
                    <a:lnTo>
                      <a:pt x="29" y="380"/>
                    </a:lnTo>
                    <a:lnTo>
                      <a:pt x="20" y="373"/>
                    </a:lnTo>
                    <a:lnTo>
                      <a:pt x="13" y="365"/>
                    </a:lnTo>
                    <a:lnTo>
                      <a:pt x="8" y="357"/>
                    </a:lnTo>
                    <a:lnTo>
                      <a:pt x="3" y="348"/>
                    </a:lnTo>
                    <a:lnTo>
                      <a:pt x="1" y="339"/>
                    </a:lnTo>
                    <a:lnTo>
                      <a:pt x="0" y="330"/>
                    </a:lnTo>
                    <a:lnTo>
                      <a:pt x="2" y="308"/>
                    </a:lnTo>
                    <a:lnTo>
                      <a:pt x="5" y="287"/>
                    </a:lnTo>
                    <a:lnTo>
                      <a:pt x="12" y="266"/>
                    </a:lnTo>
                    <a:lnTo>
                      <a:pt x="19" y="244"/>
                    </a:lnTo>
                    <a:lnTo>
                      <a:pt x="28" y="223"/>
                    </a:lnTo>
                    <a:lnTo>
                      <a:pt x="39" y="202"/>
                    </a:lnTo>
                    <a:lnTo>
                      <a:pt x="52" y="182"/>
                    </a:lnTo>
                    <a:lnTo>
                      <a:pt x="65" y="161"/>
                    </a:lnTo>
                    <a:lnTo>
                      <a:pt x="79" y="142"/>
                    </a:lnTo>
                    <a:lnTo>
                      <a:pt x="95" y="124"/>
                    </a:lnTo>
                    <a:lnTo>
                      <a:pt x="111" y="105"/>
                    </a:lnTo>
                    <a:lnTo>
                      <a:pt x="128" y="88"/>
                    </a:lnTo>
                    <a:lnTo>
                      <a:pt x="147" y="73"/>
                    </a:lnTo>
                    <a:lnTo>
                      <a:pt x="165" y="59"/>
                    </a:lnTo>
                    <a:lnTo>
                      <a:pt x="183" y="46"/>
                    </a:lnTo>
                    <a:lnTo>
                      <a:pt x="201" y="35"/>
                    </a:lnTo>
                    <a:lnTo>
                      <a:pt x="220" y="24"/>
                    </a:lnTo>
                    <a:lnTo>
                      <a:pt x="239" y="16"/>
                    </a:lnTo>
                    <a:lnTo>
                      <a:pt x="257" y="10"/>
                    </a:lnTo>
                    <a:lnTo>
                      <a:pt x="275" y="5"/>
                    </a:lnTo>
                    <a:lnTo>
                      <a:pt x="292" y="3"/>
                    </a:lnTo>
                    <a:lnTo>
                      <a:pt x="310" y="3"/>
                    </a:lnTo>
                    <a:lnTo>
                      <a:pt x="325" y="5"/>
                    </a:lnTo>
                    <a:lnTo>
                      <a:pt x="341" y="10"/>
                    </a:lnTo>
                    <a:lnTo>
                      <a:pt x="356" y="16"/>
                    </a:lnTo>
                    <a:lnTo>
                      <a:pt x="369" y="27"/>
                    </a:lnTo>
                    <a:lnTo>
                      <a:pt x="381" y="39"/>
                    </a:lnTo>
                    <a:lnTo>
                      <a:pt x="392" y="54"/>
                    </a:lnTo>
                    <a:lnTo>
                      <a:pt x="402" y="73"/>
                    </a:lnTo>
                    <a:lnTo>
                      <a:pt x="409" y="95"/>
                    </a:lnTo>
                    <a:lnTo>
                      <a:pt x="414" y="119"/>
                    </a:lnTo>
                    <a:lnTo>
                      <a:pt x="419" y="148"/>
                    </a:lnTo>
                    <a:lnTo>
                      <a:pt x="422" y="194"/>
                    </a:lnTo>
                    <a:lnTo>
                      <a:pt x="426" y="223"/>
                    </a:lnTo>
                    <a:lnTo>
                      <a:pt x="427" y="231"/>
                    </a:lnTo>
                    <a:lnTo>
                      <a:pt x="428" y="234"/>
                    </a:lnTo>
                    <a:lnTo>
                      <a:pt x="430" y="235"/>
                    </a:lnTo>
                    <a:lnTo>
                      <a:pt x="431" y="233"/>
                    </a:lnTo>
                    <a:lnTo>
                      <a:pt x="439" y="198"/>
                    </a:lnTo>
                    <a:lnTo>
                      <a:pt x="454" y="137"/>
                    </a:lnTo>
                    <a:lnTo>
                      <a:pt x="459" y="121"/>
                    </a:lnTo>
                    <a:lnTo>
                      <a:pt x="466" y="104"/>
                    </a:lnTo>
                    <a:lnTo>
                      <a:pt x="473" y="87"/>
                    </a:lnTo>
                    <a:lnTo>
                      <a:pt x="480" y="71"/>
                    </a:lnTo>
                    <a:lnTo>
                      <a:pt x="488" y="56"/>
                    </a:lnTo>
                    <a:lnTo>
                      <a:pt x="499" y="43"/>
                    </a:lnTo>
                    <a:lnTo>
                      <a:pt x="509" y="30"/>
                    </a:lnTo>
                    <a:lnTo>
                      <a:pt x="522" y="20"/>
                    </a:lnTo>
                    <a:lnTo>
                      <a:pt x="535" y="11"/>
                    </a:lnTo>
                    <a:lnTo>
                      <a:pt x="550" y="5"/>
                    </a:lnTo>
                    <a:lnTo>
                      <a:pt x="566" y="2"/>
                    </a:lnTo>
                    <a:lnTo>
                      <a:pt x="583" y="0"/>
                    </a:lnTo>
                    <a:lnTo>
                      <a:pt x="602" y="4"/>
                    </a:lnTo>
                    <a:lnTo>
                      <a:pt x="623" y="11"/>
                    </a:lnTo>
                    <a:lnTo>
                      <a:pt x="646" y="21"/>
                    </a:lnTo>
                    <a:lnTo>
                      <a:pt x="670" y="36"/>
                    </a:lnTo>
                    <a:lnTo>
                      <a:pt x="642" y="77"/>
                    </a:lnTo>
                    <a:lnTo>
                      <a:pt x="614" y="117"/>
                    </a:lnTo>
                    <a:lnTo>
                      <a:pt x="600" y="137"/>
                    </a:lnTo>
                    <a:lnTo>
                      <a:pt x="585" y="156"/>
                    </a:lnTo>
                    <a:lnTo>
                      <a:pt x="571" y="175"/>
                    </a:lnTo>
                    <a:lnTo>
                      <a:pt x="555" y="192"/>
                    </a:lnTo>
                    <a:lnTo>
                      <a:pt x="539" y="209"/>
                    </a:lnTo>
                    <a:lnTo>
                      <a:pt x="522" y="226"/>
                    </a:lnTo>
                    <a:lnTo>
                      <a:pt x="504" y="241"/>
                    </a:lnTo>
                    <a:lnTo>
                      <a:pt x="486" y="256"/>
                    </a:lnTo>
                    <a:lnTo>
                      <a:pt x="468" y="268"/>
                    </a:lnTo>
                    <a:lnTo>
                      <a:pt x="449" y="281"/>
                    </a:lnTo>
                    <a:lnTo>
                      <a:pt x="428" y="291"/>
                    </a:lnTo>
                    <a:lnTo>
                      <a:pt x="406" y="300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668840" y="3916800"/>
                <a:ext cx="163440" cy="28440"/>
              </a:xfrm>
              <a:custGeom>
                <a:avLst/>
                <a:gdLst/>
                <a:ahLst/>
                <a:rect l="l" t="t" r="r" b="b"/>
                <a:pathLst>
                  <a:path w="515" h="92">
                    <a:moveTo>
                      <a:pt x="513" y="88"/>
                    </a:moveTo>
                    <a:lnTo>
                      <a:pt x="510" y="71"/>
                    </a:lnTo>
                    <a:lnTo>
                      <a:pt x="495" y="60"/>
                    </a:lnTo>
                    <a:lnTo>
                      <a:pt x="479" y="52"/>
                    </a:lnTo>
                    <a:lnTo>
                      <a:pt x="463" y="44"/>
                    </a:lnTo>
                    <a:lnTo>
                      <a:pt x="447" y="38"/>
                    </a:lnTo>
                    <a:lnTo>
                      <a:pt x="431" y="32"/>
                    </a:lnTo>
                    <a:lnTo>
                      <a:pt x="415" y="26"/>
                    </a:lnTo>
                    <a:lnTo>
                      <a:pt x="399" y="22"/>
                    </a:lnTo>
                    <a:lnTo>
                      <a:pt x="382" y="18"/>
                    </a:lnTo>
                    <a:lnTo>
                      <a:pt x="350" y="12"/>
                    </a:lnTo>
                    <a:lnTo>
                      <a:pt x="317" y="9"/>
                    </a:lnTo>
                    <a:lnTo>
                      <a:pt x="284" y="7"/>
                    </a:lnTo>
                    <a:lnTo>
                      <a:pt x="251" y="7"/>
                    </a:lnTo>
                    <a:lnTo>
                      <a:pt x="186" y="8"/>
                    </a:lnTo>
                    <a:lnTo>
                      <a:pt x="123" y="9"/>
                    </a:lnTo>
                    <a:lnTo>
                      <a:pt x="92" y="9"/>
                    </a:lnTo>
                    <a:lnTo>
                      <a:pt x="62" y="8"/>
                    </a:lnTo>
                    <a:lnTo>
                      <a:pt x="33" y="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30" y="28"/>
                    </a:lnTo>
                    <a:lnTo>
                      <a:pt x="61" y="32"/>
                    </a:lnTo>
                    <a:lnTo>
                      <a:pt x="91" y="33"/>
                    </a:lnTo>
                    <a:lnTo>
                      <a:pt x="123" y="33"/>
                    </a:lnTo>
                    <a:lnTo>
                      <a:pt x="187" y="32"/>
                    </a:lnTo>
                    <a:lnTo>
                      <a:pt x="251" y="31"/>
                    </a:lnTo>
                    <a:lnTo>
                      <a:pt x="283" y="32"/>
                    </a:lnTo>
                    <a:lnTo>
                      <a:pt x="315" y="33"/>
                    </a:lnTo>
                    <a:lnTo>
                      <a:pt x="347" y="36"/>
                    </a:lnTo>
                    <a:lnTo>
                      <a:pt x="377" y="42"/>
                    </a:lnTo>
                    <a:lnTo>
                      <a:pt x="392" y="45"/>
                    </a:lnTo>
                    <a:lnTo>
                      <a:pt x="408" y="49"/>
                    </a:lnTo>
                    <a:lnTo>
                      <a:pt x="423" y="55"/>
                    </a:lnTo>
                    <a:lnTo>
                      <a:pt x="438" y="60"/>
                    </a:lnTo>
                    <a:lnTo>
                      <a:pt x="453" y="66"/>
                    </a:lnTo>
                    <a:lnTo>
                      <a:pt x="467" y="74"/>
                    </a:lnTo>
                    <a:lnTo>
                      <a:pt x="482" y="82"/>
                    </a:lnTo>
                    <a:lnTo>
                      <a:pt x="496" y="91"/>
                    </a:lnTo>
                    <a:lnTo>
                      <a:pt x="492" y="74"/>
                    </a:lnTo>
                    <a:lnTo>
                      <a:pt x="496" y="91"/>
                    </a:lnTo>
                    <a:lnTo>
                      <a:pt x="502" y="92"/>
                    </a:lnTo>
                    <a:lnTo>
                      <a:pt x="506" y="92"/>
                    </a:lnTo>
                    <a:lnTo>
                      <a:pt x="510" y="91"/>
                    </a:lnTo>
                    <a:lnTo>
                      <a:pt x="513" y="88"/>
                    </a:lnTo>
                    <a:lnTo>
                      <a:pt x="515" y="83"/>
                    </a:lnTo>
                    <a:lnTo>
                      <a:pt x="515" y="79"/>
                    </a:lnTo>
                    <a:lnTo>
                      <a:pt x="514" y="74"/>
                    </a:lnTo>
                    <a:lnTo>
                      <a:pt x="510" y="71"/>
                    </a:lnTo>
                    <a:lnTo>
                      <a:pt x="513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667400" y="3938760"/>
                <a:ext cx="164880" cy="60480"/>
              </a:xfrm>
              <a:custGeom>
                <a:avLst/>
                <a:gdLst/>
                <a:ahLst/>
                <a:rect l="l" t="t" r="r" b="b"/>
                <a:pathLst>
                  <a:path w="517" h="186">
                    <a:moveTo>
                      <a:pt x="19" y="128"/>
                    </a:moveTo>
                    <a:lnTo>
                      <a:pt x="5" y="148"/>
                    </a:lnTo>
                    <a:lnTo>
                      <a:pt x="19" y="157"/>
                    </a:lnTo>
                    <a:lnTo>
                      <a:pt x="34" y="164"/>
                    </a:lnTo>
                    <a:lnTo>
                      <a:pt x="49" y="170"/>
                    </a:lnTo>
                    <a:lnTo>
                      <a:pt x="65" y="176"/>
                    </a:lnTo>
                    <a:lnTo>
                      <a:pt x="82" y="179"/>
                    </a:lnTo>
                    <a:lnTo>
                      <a:pt x="98" y="182"/>
                    </a:lnTo>
                    <a:lnTo>
                      <a:pt x="116" y="184"/>
                    </a:lnTo>
                    <a:lnTo>
                      <a:pt x="133" y="185"/>
                    </a:lnTo>
                    <a:lnTo>
                      <a:pt x="151" y="186"/>
                    </a:lnTo>
                    <a:lnTo>
                      <a:pt x="169" y="185"/>
                    </a:lnTo>
                    <a:lnTo>
                      <a:pt x="188" y="184"/>
                    </a:lnTo>
                    <a:lnTo>
                      <a:pt x="207" y="180"/>
                    </a:lnTo>
                    <a:lnTo>
                      <a:pt x="225" y="178"/>
                    </a:lnTo>
                    <a:lnTo>
                      <a:pt x="245" y="173"/>
                    </a:lnTo>
                    <a:lnTo>
                      <a:pt x="263" y="169"/>
                    </a:lnTo>
                    <a:lnTo>
                      <a:pt x="282" y="164"/>
                    </a:lnTo>
                    <a:lnTo>
                      <a:pt x="300" y="158"/>
                    </a:lnTo>
                    <a:lnTo>
                      <a:pt x="319" y="152"/>
                    </a:lnTo>
                    <a:lnTo>
                      <a:pt x="336" y="145"/>
                    </a:lnTo>
                    <a:lnTo>
                      <a:pt x="354" y="137"/>
                    </a:lnTo>
                    <a:lnTo>
                      <a:pt x="371" y="129"/>
                    </a:lnTo>
                    <a:lnTo>
                      <a:pt x="388" y="121"/>
                    </a:lnTo>
                    <a:lnTo>
                      <a:pt x="404" y="112"/>
                    </a:lnTo>
                    <a:lnTo>
                      <a:pt x="420" y="101"/>
                    </a:lnTo>
                    <a:lnTo>
                      <a:pt x="435" y="92"/>
                    </a:lnTo>
                    <a:lnTo>
                      <a:pt x="449" y="82"/>
                    </a:lnTo>
                    <a:lnTo>
                      <a:pt x="462" y="72"/>
                    </a:lnTo>
                    <a:lnTo>
                      <a:pt x="476" y="60"/>
                    </a:lnTo>
                    <a:lnTo>
                      <a:pt x="487" y="49"/>
                    </a:lnTo>
                    <a:lnTo>
                      <a:pt x="499" y="38"/>
                    </a:lnTo>
                    <a:lnTo>
                      <a:pt x="508" y="25"/>
                    </a:lnTo>
                    <a:lnTo>
                      <a:pt x="517" y="14"/>
                    </a:lnTo>
                    <a:lnTo>
                      <a:pt x="496" y="0"/>
                    </a:lnTo>
                    <a:lnTo>
                      <a:pt x="490" y="10"/>
                    </a:lnTo>
                    <a:lnTo>
                      <a:pt x="481" y="22"/>
                    </a:lnTo>
                    <a:lnTo>
                      <a:pt x="470" y="32"/>
                    </a:lnTo>
                    <a:lnTo>
                      <a:pt x="459" y="42"/>
                    </a:lnTo>
                    <a:lnTo>
                      <a:pt x="447" y="52"/>
                    </a:lnTo>
                    <a:lnTo>
                      <a:pt x="435" y="63"/>
                    </a:lnTo>
                    <a:lnTo>
                      <a:pt x="421" y="72"/>
                    </a:lnTo>
                    <a:lnTo>
                      <a:pt x="406" y="82"/>
                    </a:lnTo>
                    <a:lnTo>
                      <a:pt x="392" y="90"/>
                    </a:lnTo>
                    <a:lnTo>
                      <a:pt x="377" y="99"/>
                    </a:lnTo>
                    <a:lnTo>
                      <a:pt x="361" y="107"/>
                    </a:lnTo>
                    <a:lnTo>
                      <a:pt x="344" y="115"/>
                    </a:lnTo>
                    <a:lnTo>
                      <a:pt x="327" y="122"/>
                    </a:lnTo>
                    <a:lnTo>
                      <a:pt x="310" y="129"/>
                    </a:lnTo>
                    <a:lnTo>
                      <a:pt x="292" y="136"/>
                    </a:lnTo>
                    <a:lnTo>
                      <a:pt x="274" y="140"/>
                    </a:lnTo>
                    <a:lnTo>
                      <a:pt x="257" y="146"/>
                    </a:lnTo>
                    <a:lnTo>
                      <a:pt x="239" y="150"/>
                    </a:lnTo>
                    <a:lnTo>
                      <a:pt x="221" y="154"/>
                    </a:lnTo>
                    <a:lnTo>
                      <a:pt x="204" y="156"/>
                    </a:lnTo>
                    <a:lnTo>
                      <a:pt x="185" y="158"/>
                    </a:lnTo>
                    <a:lnTo>
                      <a:pt x="168" y="161"/>
                    </a:lnTo>
                    <a:lnTo>
                      <a:pt x="151" y="161"/>
                    </a:lnTo>
                    <a:lnTo>
                      <a:pt x="134" y="161"/>
                    </a:lnTo>
                    <a:lnTo>
                      <a:pt x="118" y="160"/>
                    </a:lnTo>
                    <a:lnTo>
                      <a:pt x="101" y="158"/>
                    </a:lnTo>
                    <a:lnTo>
                      <a:pt x="86" y="155"/>
                    </a:lnTo>
                    <a:lnTo>
                      <a:pt x="71" y="152"/>
                    </a:lnTo>
                    <a:lnTo>
                      <a:pt x="57" y="147"/>
                    </a:lnTo>
                    <a:lnTo>
                      <a:pt x="43" y="142"/>
                    </a:lnTo>
                    <a:lnTo>
                      <a:pt x="30" y="136"/>
                    </a:lnTo>
                    <a:lnTo>
                      <a:pt x="19" y="128"/>
                    </a:lnTo>
                    <a:lnTo>
                      <a:pt x="5" y="148"/>
                    </a:lnTo>
                    <a:lnTo>
                      <a:pt x="19" y="128"/>
                    </a:lnTo>
                    <a:lnTo>
                      <a:pt x="13" y="127"/>
                    </a:lnTo>
                    <a:lnTo>
                      <a:pt x="9" y="127"/>
                    </a:lnTo>
                    <a:lnTo>
                      <a:pt x="5" y="129"/>
                    </a:lnTo>
                    <a:lnTo>
                      <a:pt x="2" y="131"/>
                    </a:lnTo>
                    <a:lnTo>
                      <a:pt x="0" y="136"/>
                    </a:lnTo>
                    <a:lnTo>
                      <a:pt x="0" y="140"/>
                    </a:lnTo>
                    <a:lnTo>
                      <a:pt x="1" y="145"/>
                    </a:lnTo>
                    <a:lnTo>
                      <a:pt x="5" y="148"/>
                    </a:lnTo>
                    <a:lnTo>
                      <a:pt x="19" y="1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668840" y="3980160"/>
                <a:ext cx="5544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37" y="500"/>
                    </a:moveTo>
                    <a:lnTo>
                      <a:pt x="155" y="492"/>
                    </a:lnTo>
                    <a:lnTo>
                      <a:pt x="161" y="459"/>
                    </a:lnTo>
                    <a:lnTo>
                      <a:pt x="166" y="426"/>
                    </a:lnTo>
                    <a:lnTo>
                      <a:pt x="169" y="392"/>
                    </a:lnTo>
                    <a:lnTo>
                      <a:pt x="170" y="359"/>
                    </a:lnTo>
                    <a:lnTo>
                      <a:pt x="171" y="325"/>
                    </a:lnTo>
                    <a:lnTo>
                      <a:pt x="170" y="292"/>
                    </a:lnTo>
                    <a:lnTo>
                      <a:pt x="167" y="258"/>
                    </a:lnTo>
                    <a:lnTo>
                      <a:pt x="162" y="227"/>
                    </a:lnTo>
                    <a:lnTo>
                      <a:pt x="159" y="209"/>
                    </a:lnTo>
                    <a:lnTo>
                      <a:pt x="154" y="193"/>
                    </a:lnTo>
                    <a:lnTo>
                      <a:pt x="150" y="178"/>
                    </a:lnTo>
                    <a:lnTo>
                      <a:pt x="144" y="163"/>
                    </a:lnTo>
                    <a:lnTo>
                      <a:pt x="137" y="147"/>
                    </a:lnTo>
                    <a:lnTo>
                      <a:pt x="130" y="132"/>
                    </a:lnTo>
                    <a:lnTo>
                      <a:pt x="122" y="117"/>
                    </a:lnTo>
                    <a:lnTo>
                      <a:pt x="114" y="102"/>
                    </a:lnTo>
                    <a:lnTo>
                      <a:pt x="105" y="89"/>
                    </a:lnTo>
                    <a:lnTo>
                      <a:pt x="95" y="75"/>
                    </a:lnTo>
                    <a:lnTo>
                      <a:pt x="83" y="61"/>
                    </a:lnTo>
                    <a:lnTo>
                      <a:pt x="71" y="49"/>
                    </a:lnTo>
                    <a:lnTo>
                      <a:pt x="58" y="35"/>
                    </a:lnTo>
                    <a:lnTo>
                      <a:pt x="45" y="24"/>
                    </a:lnTo>
                    <a:lnTo>
                      <a:pt x="30" y="11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15" y="30"/>
                    </a:lnTo>
                    <a:lnTo>
                      <a:pt x="29" y="42"/>
                    </a:lnTo>
                    <a:lnTo>
                      <a:pt x="41" y="53"/>
                    </a:lnTo>
                    <a:lnTo>
                      <a:pt x="54" y="65"/>
                    </a:lnTo>
                    <a:lnTo>
                      <a:pt x="65" y="77"/>
                    </a:lnTo>
                    <a:lnTo>
                      <a:pt x="75" y="90"/>
                    </a:lnTo>
                    <a:lnTo>
                      <a:pt x="85" y="102"/>
                    </a:lnTo>
                    <a:lnTo>
                      <a:pt x="94" y="116"/>
                    </a:lnTo>
                    <a:lnTo>
                      <a:pt x="102" y="128"/>
                    </a:lnTo>
                    <a:lnTo>
                      <a:pt x="109" y="142"/>
                    </a:lnTo>
                    <a:lnTo>
                      <a:pt x="115" y="157"/>
                    </a:lnTo>
                    <a:lnTo>
                      <a:pt x="121" y="171"/>
                    </a:lnTo>
                    <a:lnTo>
                      <a:pt x="126" y="185"/>
                    </a:lnTo>
                    <a:lnTo>
                      <a:pt x="130" y="200"/>
                    </a:lnTo>
                    <a:lnTo>
                      <a:pt x="135" y="215"/>
                    </a:lnTo>
                    <a:lnTo>
                      <a:pt x="138" y="230"/>
                    </a:lnTo>
                    <a:lnTo>
                      <a:pt x="143" y="262"/>
                    </a:lnTo>
                    <a:lnTo>
                      <a:pt x="146" y="293"/>
                    </a:lnTo>
                    <a:lnTo>
                      <a:pt x="147" y="326"/>
                    </a:lnTo>
                    <a:lnTo>
                      <a:pt x="146" y="358"/>
                    </a:lnTo>
                    <a:lnTo>
                      <a:pt x="144" y="391"/>
                    </a:lnTo>
                    <a:lnTo>
                      <a:pt x="142" y="423"/>
                    </a:lnTo>
                    <a:lnTo>
                      <a:pt x="137" y="456"/>
                    </a:lnTo>
                    <a:lnTo>
                      <a:pt x="131" y="488"/>
                    </a:lnTo>
                    <a:lnTo>
                      <a:pt x="151" y="480"/>
                    </a:lnTo>
                    <a:lnTo>
                      <a:pt x="131" y="488"/>
                    </a:lnTo>
                    <a:lnTo>
                      <a:pt x="131" y="493"/>
                    </a:lnTo>
                    <a:lnTo>
                      <a:pt x="134" y="498"/>
                    </a:lnTo>
                    <a:lnTo>
                      <a:pt x="137" y="500"/>
                    </a:lnTo>
                    <a:lnTo>
                      <a:pt x="142" y="502"/>
                    </a:lnTo>
                    <a:lnTo>
                      <a:pt x="146" y="502"/>
                    </a:lnTo>
                    <a:lnTo>
                      <a:pt x="151" y="500"/>
                    </a:lnTo>
                    <a:lnTo>
                      <a:pt x="154" y="497"/>
                    </a:lnTo>
                    <a:lnTo>
                      <a:pt x="155" y="492"/>
                    </a:lnTo>
                    <a:lnTo>
                      <a:pt x="137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640400" y="3973680"/>
                <a:ext cx="77760" cy="165240"/>
              </a:xfrm>
              <a:custGeom>
                <a:avLst/>
                <a:gdLst/>
                <a:ahLst/>
                <a:rect l="l" t="t" r="r" b="b"/>
                <a:pathLst>
                  <a:path w="242" h="522">
                    <a:moveTo>
                      <a:pt x="35" y="22"/>
                    </a:moveTo>
                    <a:lnTo>
                      <a:pt x="31" y="9"/>
                    </a:lnTo>
                    <a:lnTo>
                      <a:pt x="16" y="92"/>
                    </a:lnTo>
                    <a:lnTo>
                      <a:pt x="5" y="162"/>
                    </a:lnTo>
                    <a:lnTo>
                      <a:pt x="1" y="195"/>
                    </a:lnTo>
                    <a:lnTo>
                      <a:pt x="0" y="225"/>
                    </a:lnTo>
                    <a:lnTo>
                      <a:pt x="1" y="241"/>
                    </a:lnTo>
                    <a:lnTo>
                      <a:pt x="2" y="254"/>
                    </a:lnTo>
                    <a:lnTo>
                      <a:pt x="5" y="269"/>
                    </a:lnTo>
                    <a:lnTo>
                      <a:pt x="7" y="284"/>
                    </a:lnTo>
                    <a:lnTo>
                      <a:pt x="11" y="298"/>
                    </a:lnTo>
                    <a:lnTo>
                      <a:pt x="16" y="311"/>
                    </a:lnTo>
                    <a:lnTo>
                      <a:pt x="23" y="326"/>
                    </a:lnTo>
                    <a:lnTo>
                      <a:pt x="30" y="340"/>
                    </a:lnTo>
                    <a:lnTo>
                      <a:pt x="39" y="353"/>
                    </a:lnTo>
                    <a:lnTo>
                      <a:pt x="48" y="368"/>
                    </a:lnTo>
                    <a:lnTo>
                      <a:pt x="59" y="382"/>
                    </a:lnTo>
                    <a:lnTo>
                      <a:pt x="72" y="396"/>
                    </a:lnTo>
                    <a:lnTo>
                      <a:pt x="86" y="410"/>
                    </a:lnTo>
                    <a:lnTo>
                      <a:pt x="102" y="425"/>
                    </a:lnTo>
                    <a:lnTo>
                      <a:pt x="119" y="440"/>
                    </a:lnTo>
                    <a:lnTo>
                      <a:pt x="137" y="456"/>
                    </a:lnTo>
                    <a:lnTo>
                      <a:pt x="156" y="472"/>
                    </a:lnTo>
                    <a:lnTo>
                      <a:pt x="179" y="488"/>
                    </a:lnTo>
                    <a:lnTo>
                      <a:pt x="202" y="505"/>
                    </a:lnTo>
                    <a:lnTo>
                      <a:pt x="228" y="522"/>
                    </a:lnTo>
                    <a:lnTo>
                      <a:pt x="242" y="502"/>
                    </a:lnTo>
                    <a:lnTo>
                      <a:pt x="217" y="485"/>
                    </a:lnTo>
                    <a:lnTo>
                      <a:pt x="193" y="469"/>
                    </a:lnTo>
                    <a:lnTo>
                      <a:pt x="171" y="453"/>
                    </a:lnTo>
                    <a:lnTo>
                      <a:pt x="152" y="437"/>
                    </a:lnTo>
                    <a:lnTo>
                      <a:pt x="133" y="422"/>
                    </a:lnTo>
                    <a:lnTo>
                      <a:pt x="117" y="407"/>
                    </a:lnTo>
                    <a:lnTo>
                      <a:pt x="103" y="393"/>
                    </a:lnTo>
                    <a:lnTo>
                      <a:pt x="90" y="380"/>
                    </a:lnTo>
                    <a:lnTo>
                      <a:pt x="78" y="366"/>
                    </a:lnTo>
                    <a:lnTo>
                      <a:pt x="67" y="353"/>
                    </a:lnTo>
                    <a:lnTo>
                      <a:pt x="58" y="341"/>
                    </a:lnTo>
                    <a:lnTo>
                      <a:pt x="51" y="328"/>
                    </a:lnTo>
                    <a:lnTo>
                      <a:pt x="45" y="316"/>
                    </a:lnTo>
                    <a:lnTo>
                      <a:pt x="39" y="303"/>
                    </a:lnTo>
                    <a:lnTo>
                      <a:pt x="34" y="291"/>
                    </a:lnTo>
                    <a:lnTo>
                      <a:pt x="31" y="278"/>
                    </a:lnTo>
                    <a:lnTo>
                      <a:pt x="27" y="264"/>
                    </a:lnTo>
                    <a:lnTo>
                      <a:pt x="26" y="252"/>
                    </a:lnTo>
                    <a:lnTo>
                      <a:pt x="25" y="238"/>
                    </a:lnTo>
                    <a:lnTo>
                      <a:pt x="24" y="226"/>
                    </a:lnTo>
                    <a:lnTo>
                      <a:pt x="25" y="196"/>
                    </a:lnTo>
                    <a:lnTo>
                      <a:pt x="29" y="165"/>
                    </a:lnTo>
                    <a:lnTo>
                      <a:pt x="40" y="96"/>
                    </a:lnTo>
                    <a:lnTo>
                      <a:pt x="55" y="14"/>
                    </a:lnTo>
                    <a:lnTo>
                      <a:pt x="49" y="1"/>
                    </a:lnTo>
                    <a:lnTo>
                      <a:pt x="55" y="14"/>
                    </a:lnTo>
                    <a:lnTo>
                      <a:pt x="54" y="8"/>
                    </a:lnTo>
                    <a:lnTo>
                      <a:pt x="51" y="3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1" y="9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537080" y="392940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6" h="162">
                    <a:moveTo>
                      <a:pt x="0" y="0"/>
                    </a:moveTo>
                    <a:lnTo>
                      <a:pt x="0" y="1"/>
                    </a:lnTo>
                    <a:lnTo>
                      <a:pt x="1" y="12"/>
                    </a:lnTo>
                    <a:lnTo>
                      <a:pt x="5" y="24"/>
                    </a:lnTo>
                    <a:lnTo>
                      <a:pt x="10" y="34"/>
                    </a:lnTo>
                    <a:lnTo>
                      <a:pt x="17" y="44"/>
                    </a:lnTo>
                    <a:lnTo>
                      <a:pt x="25" y="52"/>
                    </a:lnTo>
                    <a:lnTo>
                      <a:pt x="34" y="60"/>
                    </a:lnTo>
                    <a:lnTo>
                      <a:pt x="44" y="68"/>
                    </a:lnTo>
                    <a:lnTo>
                      <a:pt x="57" y="75"/>
                    </a:lnTo>
                    <a:lnTo>
                      <a:pt x="70" y="82"/>
                    </a:lnTo>
                    <a:lnTo>
                      <a:pt x="82" y="88"/>
                    </a:lnTo>
                    <a:lnTo>
                      <a:pt x="97" y="93"/>
                    </a:lnTo>
                    <a:lnTo>
                      <a:pt x="112" y="99"/>
                    </a:lnTo>
                    <a:lnTo>
                      <a:pt x="141" y="108"/>
                    </a:lnTo>
                    <a:lnTo>
                      <a:pt x="174" y="117"/>
                    </a:lnTo>
                    <a:lnTo>
                      <a:pt x="237" y="132"/>
                    </a:lnTo>
                    <a:lnTo>
                      <a:pt x="295" y="143"/>
                    </a:lnTo>
                    <a:lnTo>
                      <a:pt x="320" y="149"/>
                    </a:lnTo>
                    <a:lnTo>
                      <a:pt x="341" y="154"/>
                    </a:lnTo>
                    <a:lnTo>
                      <a:pt x="356" y="158"/>
                    </a:lnTo>
                    <a:lnTo>
                      <a:pt x="362" y="162"/>
                    </a:lnTo>
                    <a:lnTo>
                      <a:pt x="376" y="141"/>
                    </a:lnTo>
                    <a:lnTo>
                      <a:pt x="364" y="135"/>
                    </a:lnTo>
                    <a:lnTo>
                      <a:pt x="346" y="130"/>
                    </a:lnTo>
                    <a:lnTo>
                      <a:pt x="326" y="125"/>
                    </a:lnTo>
                    <a:lnTo>
                      <a:pt x="301" y="119"/>
                    </a:lnTo>
                    <a:lnTo>
                      <a:pt x="243" y="108"/>
                    </a:lnTo>
                    <a:lnTo>
                      <a:pt x="180" y="93"/>
                    </a:lnTo>
                    <a:lnTo>
                      <a:pt x="148" y="85"/>
                    </a:lnTo>
                    <a:lnTo>
                      <a:pt x="119" y="76"/>
                    </a:lnTo>
                    <a:lnTo>
                      <a:pt x="105" y="70"/>
                    </a:lnTo>
                    <a:lnTo>
                      <a:pt x="92" y="66"/>
                    </a:lnTo>
                    <a:lnTo>
                      <a:pt x="80" y="60"/>
                    </a:lnTo>
                    <a:lnTo>
                      <a:pt x="68" y="55"/>
                    </a:lnTo>
                    <a:lnTo>
                      <a:pt x="58" y="48"/>
                    </a:lnTo>
                    <a:lnTo>
                      <a:pt x="49" y="42"/>
                    </a:lnTo>
                    <a:lnTo>
                      <a:pt x="41" y="35"/>
                    </a:lnTo>
                    <a:lnTo>
                      <a:pt x="35" y="28"/>
                    </a:lnTo>
                    <a:lnTo>
                      <a:pt x="31" y="21"/>
                    </a:lnTo>
                    <a:lnTo>
                      <a:pt x="27" y="15"/>
                    </a:lnTo>
                    <a:lnTo>
                      <a:pt x="25" y="8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537080" y="382140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443" h="340">
                    <a:moveTo>
                      <a:pt x="443" y="156"/>
                    </a:moveTo>
                    <a:lnTo>
                      <a:pt x="443" y="156"/>
                    </a:lnTo>
                    <a:lnTo>
                      <a:pt x="442" y="142"/>
                    </a:lnTo>
                    <a:lnTo>
                      <a:pt x="440" y="128"/>
                    </a:lnTo>
                    <a:lnTo>
                      <a:pt x="437" y="114"/>
                    </a:lnTo>
                    <a:lnTo>
                      <a:pt x="433" y="102"/>
                    </a:lnTo>
                    <a:lnTo>
                      <a:pt x="430" y="89"/>
                    </a:lnTo>
                    <a:lnTo>
                      <a:pt x="425" y="79"/>
                    </a:lnTo>
                    <a:lnTo>
                      <a:pt x="421" y="67"/>
                    </a:lnTo>
                    <a:lnTo>
                      <a:pt x="416" y="58"/>
                    </a:lnTo>
                    <a:lnTo>
                      <a:pt x="410" y="49"/>
                    </a:lnTo>
                    <a:lnTo>
                      <a:pt x="403" y="41"/>
                    </a:lnTo>
                    <a:lnTo>
                      <a:pt x="398" y="34"/>
                    </a:lnTo>
                    <a:lnTo>
                      <a:pt x="390" y="28"/>
                    </a:lnTo>
                    <a:lnTo>
                      <a:pt x="383" y="22"/>
                    </a:lnTo>
                    <a:lnTo>
                      <a:pt x="375" y="16"/>
                    </a:lnTo>
                    <a:lnTo>
                      <a:pt x="367" y="12"/>
                    </a:lnTo>
                    <a:lnTo>
                      <a:pt x="359" y="8"/>
                    </a:lnTo>
                    <a:lnTo>
                      <a:pt x="350" y="5"/>
                    </a:lnTo>
                    <a:lnTo>
                      <a:pt x="342" y="2"/>
                    </a:lnTo>
                    <a:lnTo>
                      <a:pt x="333" y="1"/>
                    </a:lnTo>
                    <a:lnTo>
                      <a:pt x="323" y="0"/>
                    </a:lnTo>
                    <a:lnTo>
                      <a:pt x="304" y="1"/>
                    </a:lnTo>
                    <a:lnTo>
                      <a:pt x="286" y="4"/>
                    </a:lnTo>
                    <a:lnTo>
                      <a:pt x="267" y="8"/>
                    </a:lnTo>
                    <a:lnTo>
                      <a:pt x="247" y="15"/>
                    </a:lnTo>
                    <a:lnTo>
                      <a:pt x="228" y="23"/>
                    </a:lnTo>
                    <a:lnTo>
                      <a:pt x="209" y="33"/>
                    </a:lnTo>
                    <a:lnTo>
                      <a:pt x="189" y="46"/>
                    </a:lnTo>
                    <a:lnTo>
                      <a:pt x="170" y="59"/>
                    </a:lnTo>
                    <a:lnTo>
                      <a:pt x="152" y="74"/>
                    </a:lnTo>
                    <a:lnTo>
                      <a:pt x="133" y="90"/>
                    </a:lnTo>
                    <a:lnTo>
                      <a:pt x="116" y="107"/>
                    </a:lnTo>
                    <a:lnTo>
                      <a:pt x="99" y="126"/>
                    </a:lnTo>
                    <a:lnTo>
                      <a:pt x="83" y="144"/>
                    </a:lnTo>
                    <a:lnTo>
                      <a:pt x="68" y="164"/>
                    </a:lnTo>
                    <a:lnTo>
                      <a:pt x="55" y="185"/>
                    </a:lnTo>
                    <a:lnTo>
                      <a:pt x="42" y="207"/>
                    </a:lnTo>
                    <a:lnTo>
                      <a:pt x="31" y="228"/>
                    </a:lnTo>
                    <a:lnTo>
                      <a:pt x="21" y="250"/>
                    </a:lnTo>
                    <a:lnTo>
                      <a:pt x="13" y="272"/>
                    </a:lnTo>
                    <a:lnTo>
                      <a:pt x="7" y="294"/>
                    </a:lnTo>
                    <a:lnTo>
                      <a:pt x="2" y="317"/>
                    </a:lnTo>
                    <a:lnTo>
                      <a:pt x="0" y="339"/>
                    </a:lnTo>
                    <a:lnTo>
                      <a:pt x="25" y="340"/>
                    </a:lnTo>
                    <a:lnTo>
                      <a:pt x="26" y="321"/>
                    </a:lnTo>
                    <a:lnTo>
                      <a:pt x="31" y="300"/>
                    </a:lnTo>
                    <a:lnTo>
                      <a:pt x="36" y="280"/>
                    </a:lnTo>
                    <a:lnTo>
                      <a:pt x="43" y="259"/>
                    </a:lnTo>
                    <a:lnTo>
                      <a:pt x="52" y="238"/>
                    </a:lnTo>
                    <a:lnTo>
                      <a:pt x="63" y="218"/>
                    </a:lnTo>
                    <a:lnTo>
                      <a:pt x="75" y="197"/>
                    </a:lnTo>
                    <a:lnTo>
                      <a:pt x="88" y="178"/>
                    </a:lnTo>
                    <a:lnTo>
                      <a:pt x="103" y="160"/>
                    </a:lnTo>
                    <a:lnTo>
                      <a:pt x="117" y="142"/>
                    </a:lnTo>
                    <a:lnTo>
                      <a:pt x="133" y="124"/>
                    </a:lnTo>
                    <a:lnTo>
                      <a:pt x="149" y="107"/>
                    </a:lnTo>
                    <a:lnTo>
                      <a:pt x="166" y="93"/>
                    </a:lnTo>
                    <a:lnTo>
                      <a:pt x="185" y="79"/>
                    </a:lnTo>
                    <a:lnTo>
                      <a:pt x="203" y="66"/>
                    </a:lnTo>
                    <a:lnTo>
                      <a:pt x="220" y="55"/>
                    </a:lnTo>
                    <a:lnTo>
                      <a:pt x="238" y="45"/>
                    </a:lnTo>
                    <a:lnTo>
                      <a:pt x="256" y="38"/>
                    </a:lnTo>
                    <a:lnTo>
                      <a:pt x="274" y="31"/>
                    </a:lnTo>
                    <a:lnTo>
                      <a:pt x="291" y="28"/>
                    </a:lnTo>
                    <a:lnTo>
                      <a:pt x="307" y="25"/>
                    </a:lnTo>
                    <a:lnTo>
                      <a:pt x="323" y="25"/>
                    </a:lnTo>
                    <a:lnTo>
                      <a:pt x="329" y="25"/>
                    </a:lnTo>
                    <a:lnTo>
                      <a:pt x="336" y="26"/>
                    </a:lnTo>
                    <a:lnTo>
                      <a:pt x="343" y="29"/>
                    </a:lnTo>
                    <a:lnTo>
                      <a:pt x="350" y="31"/>
                    </a:lnTo>
                    <a:lnTo>
                      <a:pt x="357" y="33"/>
                    </a:lnTo>
                    <a:lnTo>
                      <a:pt x="362" y="37"/>
                    </a:lnTo>
                    <a:lnTo>
                      <a:pt x="368" y="41"/>
                    </a:lnTo>
                    <a:lnTo>
                      <a:pt x="374" y="46"/>
                    </a:lnTo>
                    <a:lnTo>
                      <a:pt x="380" y="50"/>
                    </a:lnTo>
                    <a:lnTo>
                      <a:pt x="385" y="56"/>
                    </a:lnTo>
                    <a:lnTo>
                      <a:pt x="390" y="63"/>
                    </a:lnTo>
                    <a:lnTo>
                      <a:pt x="394" y="71"/>
                    </a:lnTo>
                    <a:lnTo>
                      <a:pt x="399" y="79"/>
                    </a:lnTo>
                    <a:lnTo>
                      <a:pt x="403" y="88"/>
                    </a:lnTo>
                    <a:lnTo>
                      <a:pt x="407" y="97"/>
                    </a:lnTo>
                    <a:lnTo>
                      <a:pt x="410" y="109"/>
                    </a:lnTo>
                    <a:lnTo>
                      <a:pt x="414" y="120"/>
                    </a:lnTo>
                    <a:lnTo>
                      <a:pt x="416" y="131"/>
                    </a:lnTo>
                    <a:lnTo>
                      <a:pt x="418" y="145"/>
                    </a:lnTo>
                    <a:lnTo>
                      <a:pt x="419" y="159"/>
                    </a:lnTo>
                    <a:lnTo>
                      <a:pt x="419" y="159"/>
                    </a:lnTo>
                    <a:lnTo>
                      <a:pt x="443" y="1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670280" y="3821400"/>
                <a:ext cx="87480" cy="81000"/>
              </a:xfrm>
              <a:custGeom>
                <a:avLst/>
                <a:gdLst/>
                <a:ahLst/>
                <a:rect l="l" t="t" r="r" b="b"/>
                <a:pathLst>
                  <a:path w="276" h="258">
                    <a:moveTo>
                      <a:pt x="274" y="53"/>
                    </a:moveTo>
                    <a:lnTo>
                      <a:pt x="271" y="37"/>
                    </a:lnTo>
                    <a:lnTo>
                      <a:pt x="258" y="29"/>
                    </a:lnTo>
                    <a:lnTo>
                      <a:pt x="245" y="21"/>
                    </a:lnTo>
                    <a:lnTo>
                      <a:pt x="233" y="15"/>
                    </a:lnTo>
                    <a:lnTo>
                      <a:pt x="222" y="10"/>
                    </a:lnTo>
                    <a:lnTo>
                      <a:pt x="210" y="6"/>
                    </a:lnTo>
                    <a:lnTo>
                      <a:pt x="200" y="3"/>
                    </a:lnTo>
                    <a:lnTo>
                      <a:pt x="188" y="1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9" y="0"/>
                    </a:lnTo>
                    <a:lnTo>
                      <a:pt x="149" y="2"/>
                    </a:lnTo>
                    <a:lnTo>
                      <a:pt x="141" y="5"/>
                    </a:lnTo>
                    <a:lnTo>
                      <a:pt x="131" y="7"/>
                    </a:lnTo>
                    <a:lnTo>
                      <a:pt x="123" y="11"/>
                    </a:lnTo>
                    <a:lnTo>
                      <a:pt x="116" y="16"/>
                    </a:lnTo>
                    <a:lnTo>
                      <a:pt x="108" y="21"/>
                    </a:lnTo>
                    <a:lnTo>
                      <a:pt x="95" y="33"/>
                    </a:lnTo>
                    <a:lnTo>
                      <a:pt x="84" y="46"/>
                    </a:lnTo>
                    <a:lnTo>
                      <a:pt x="72" y="60"/>
                    </a:lnTo>
                    <a:lnTo>
                      <a:pt x="63" y="76"/>
                    </a:lnTo>
                    <a:lnTo>
                      <a:pt x="55" y="94"/>
                    </a:lnTo>
                    <a:lnTo>
                      <a:pt x="48" y="111"/>
                    </a:lnTo>
                    <a:lnTo>
                      <a:pt x="41" y="128"/>
                    </a:lnTo>
                    <a:lnTo>
                      <a:pt x="36" y="146"/>
                    </a:lnTo>
                    <a:lnTo>
                      <a:pt x="21" y="206"/>
                    </a:lnTo>
                    <a:lnTo>
                      <a:pt x="14" y="241"/>
                    </a:lnTo>
                    <a:lnTo>
                      <a:pt x="14" y="239"/>
                    </a:lnTo>
                    <a:lnTo>
                      <a:pt x="18" y="236"/>
                    </a:lnTo>
                    <a:lnTo>
                      <a:pt x="29" y="236"/>
                    </a:lnTo>
                    <a:lnTo>
                      <a:pt x="33" y="241"/>
                    </a:lnTo>
                    <a:lnTo>
                      <a:pt x="33" y="239"/>
                    </a:lnTo>
                    <a:lnTo>
                      <a:pt x="32" y="233"/>
                    </a:lnTo>
                    <a:lnTo>
                      <a:pt x="29" y="204"/>
                    </a:lnTo>
                    <a:lnTo>
                      <a:pt x="24" y="157"/>
                    </a:lnTo>
                    <a:lnTo>
                      <a:pt x="0" y="160"/>
                    </a:lnTo>
                    <a:lnTo>
                      <a:pt x="5" y="206"/>
                    </a:lnTo>
                    <a:lnTo>
                      <a:pt x="8" y="235"/>
                    </a:lnTo>
                    <a:lnTo>
                      <a:pt x="10" y="244"/>
                    </a:lnTo>
                    <a:lnTo>
                      <a:pt x="12" y="250"/>
                    </a:lnTo>
                    <a:lnTo>
                      <a:pt x="18" y="258"/>
                    </a:lnTo>
                    <a:lnTo>
                      <a:pt x="31" y="257"/>
                    </a:lnTo>
                    <a:lnTo>
                      <a:pt x="35" y="252"/>
                    </a:lnTo>
                    <a:lnTo>
                      <a:pt x="37" y="246"/>
                    </a:lnTo>
                    <a:lnTo>
                      <a:pt x="45" y="212"/>
                    </a:lnTo>
                    <a:lnTo>
                      <a:pt x="60" y="152"/>
                    </a:lnTo>
                    <a:lnTo>
                      <a:pt x="64" y="136"/>
                    </a:lnTo>
                    <a:lnTo>
                      <a:pt x="71" y="120"/>
                    </a:lnTo>
                    <a:lnTo>
                      <a:pt x="77" y="104"/>
                    </a:lnTo>
                    <a:lnTo>
                      <a:pt x="85" y="88"/>
                    </a:lnTo>
                    <a:lnTo>
                      <a:pt x="93" y="74"/>
                    </a:lnTo>
                    <a:lnTo>
                      <a:pt x="102" y="62"/>
                    </a:lnTo>
                    <a:lnTo>
                      <a:pt x="112" y="50"/>
                    </a:lnTo>
                    <a:lnTo>
                      <a:pt x="123" y="40"/>
                    </a:lnTo>
                    <a:lnTo>
                      <a:pt x="129" y="37"/>
                    </a:lnTo>
                    <a:lnTo>
                      <a:pt x="135" y="33"/>
                    </a:lnTo>
                    <a:lnTo>
                      <a:pt x="141" y="30"/>
                    </a:lnTo>
                    <a:lnTo>
                      <a:pt x="147" y="27"/>
                    </a:lnTo>
                    <a:lnTo>
                      <a:pt x="154" y="25"/>
                    </a:lnTo>
                    <a:lnTo>
                      <a:pt x="161" y="24"/>
                    </a:lnTo>
                    <a:lnTo>
                      <a:pt x="169" y="24"/>
                    </a:lnTo>
                    <a:lnTo>
                      <a:pt x="177" y="24"/>
                    </a:lnTo>
                    <a:lnTo>
                      <a:pt x="185" y="25"/>
                    </a:lnTo>
                    <a:lnTo>
                      <a:pt x="194" y="26"/>
                    </a:lnTo>
                    <a:lnTo>
                      <a:pt x="203" y="29"/>
                    </a:lnTo>
                    <a:lnTo>
                      <a:pt x="212" y="32"/>
                    </a:lnTo>
                    <a:lnTo>
                      <a:pt x="223" y="37"/>
                    </a:lnTo>
                    <a:lnTo>
                      <a:pt x="234" y="42"/>
                    </a:lnTo>
                    <a:lnTo>
                      <a:pt x="245" y="49"/>
                    </a:lnTo>
                    <a:lnTo>
                      <a:pt x="257" y="56"/>
                    </a:lnTo>
                    <a:lnTo>
                      <a:pt x="253" y="40"/>
                    </a:lnTo>
                    <a:lnTo>
                      <a:pt x="257" y="56"/>
                    </a:lnTo>
                    <a:lnTo>
                      <a:pt x="263" y="58"/>
                    </a:lnTo>
                    <a:lnTo>
                      <a:pt x="267" y="58"/>
                    </a:lnTo>
                    <a:lnTo>
                      <a:pt x="271" y="56"/>
                    </a:lnTo>
                    <a:lnTo>
                      <a:pt x="274" y="53"/>
                    </a:lnTo>
                    <a:lnTo>
                      <a:pt x="276" y="49"/>
                    </a:lnTo>
                    <a:lnTo>
                      <a:pt x="276" y="45"/>
                    </a:lnTo>
                    <a:lnTo>
                      <a:pt x="274" y="40"/>
                    </a:lnTo>
                    <a:lnTo>
                      <a:pt x="271" y="37"/>
                    </a:lnTo>
                    <a:lnTo>
                      <a:pt x="274" y="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665600" y="383400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286" h="284">
                    <a:moveTo>
                      <a:pt x="15" y="260"/>
                    </a:moveTo>
                    <a:lnTo>
                      <a:pt x="17" y="283"/>
                    </a:lnTo>
                    <a:lnTo>
                      <a:pt x="39" y="274"/>
                    </a:lnTo>
                    <a:lnTo>
                      <a:pt x="60" y="262"/>
                    </a:lnTo>
                    <a:lnTo>
                      <a:pt x="81" y="250"/>
                    </a:lnTo>
                    <a:lnTo>
                      <a:pt x="100" y="236"/>
                    </a:lnTo>
                    <a:lnTo>
                      <a:pt x="118" y="221"/>
                    </a:lnTo>
                    <a:lnTo>
                      <a:pt x="135" y="206"/>
                    </a:lnTo>
                    <a:lnTo>
                      <a:pt x="153" y="189"/>
                    </a:lnTo>
                    <a:lnTo>
                      <a:pt x="170" y="172"/>
                    </a:lnTo>
                    <a:lnTo>
                      <a:pt x="186" y="154"/>
                    </a:lnTo>
                    <a:lnTo>
                      <a:pt x="200" y="134"/>
                    </a:lnTo>
                    <a:lnTo>
                      <a:pt x="215" y="115"/>
                    </a:lnTo>
                    <a:lnTo>
                      <a:pt x="230" y="95"/>
                    </a:lnTo>
                    <a:lnTo>
                      <a:pt x="259" y="55"/>
                    </a:lnTo>
                    <a:lnTo>
                      <a:pt x="286" y="13"/>
                    </a:lnTo>
                    <a:lnTo>
                      <a:pt x="265" y="0"/>
                    </a:lnTo>
                    <a:lnTo>
                      <a:pt x="238" y="41"/>
                    </a:lnTo>
                    <a:lnTo>
                      <a:pt x="211" y="81"/>
                    </a:lnTo>
                    <a:lnTo>
                      <a:pt x="196" y="100"/>
                    </a:lnTo>
                    <a:lnTo>
                      <a:pt x="181" y="120"/>
                    </a:lnTo>
                    <a:lnTo>
                      <a:pt x="166" y="138"/>
                    </a:lnTo>
                    <a:lnTo>
                      <a:pt x="151" y="155"/>
                    </a:lnTo>
                    <a:lnTo>
                      <a:pt x="135" y="172"/>
                    </a:lnTo>
                    <a:lnTo>
                      <a:pt x="120" y="188"/>
                    </a:lnTo>
                    <a:lnTo>
                      <a:pt x="102" y="203"/>
                    </a:lnTo>
                    <a:lnTo>
                      <a:pt x="85" y="217"/>
                    </a:lnTo>
                    <a:lnTo>
                      <a:pt x="67" y="229"/>
                    </a:lnTo>
                    <a:lnTo>
                      <a:pt x="48" y="241"/>
                    </a:lnTo>
                    <a:lnTo>
                      <a:pt x="28" y="251"/>
                    </a:lnTo>
                    <a:lnTo>
                      <a:pt x="8" y="260"/>
                    </a:lnTo>
                    <a:lnTo>
                      <a:pt x="10" y="283"/>
                    </a:lnTo>
                    <a:lnTo>
                      <a:pt x="8" y="260"/>
                    </a:lnTo>
                    <a:lnTo>
                      <a:pt x="3" y="263"/>
                    </a:lnTo>
                    <a:lnTo>
                      <a:pt x="1" y="267"/>
                    </a:lnTo>
                    <a:lnTo>
                      <a:pt x="0" y="271"/>
                    </a:lnTo>
                    <a:lnTo>
                      <a:pt x="1" y="276"/>
                    </a:lnTo>
                    <a:lnTo>
                      <a:pt x="3" y="279"/>
                    </a:lnTo>
                    <a:lnTo>
                      <a:pt x="7" y="283"/>
                    </a:lnTo>
                    <a:lnTo>
                      <a:pt x="11" y="284"/>
                    </a:lnTo>
                    <a:lnTo>
                      <a:pt x="17" y="283"/>
                    </a:lnTo>
                    <a:lnTo>
                      <a:pt x="15" y="2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373560" y="3915000"/>
                <a:ext cx="272880" cy="270000"/>
              </a:xfrm>
              <a:custGeom>
                <a:avLst/>
                <a:gdLst/>
                <a:ahLst/>
                <a:rect l="l" t="t" r="r" b="b"/>
                <a:pathLst>
                  <a:path w="861" h="853">
                    <a:moveTo>
                      <a:pt x="361" y="367"/>
                    </a:moveTo>
                    <a:lnTo>
                      <a:pt x="388" y="356"/>
                    </a:lnTo>
                    <a:lnTo>
                      <a:pt x="416" y="341"/>
                    </a:lnTo>
                    <a:lnTo>
                      <a:pt x="442" y="325"/>
                    </a:lnTo>
                    <a:lnTo>
                      <a:pt x="468" y="308"/>
                    </a:lnTo>
                    <a:lnTo>
                      <a:pt x="521" y="272"/>
                    </a:lnTo>
                    <a:lnTo>
                      <a:pt x="573" y="235"/>
                    </a:lnTo>
                    <a:lnTo>
                      <a:pt x="600" y="217"/>
                    </a:lnTo>
                    <a:lnTo>
                      <a:pt x="629" y="201"/>
                    </a:lnTo>
                    <a:lnTo>
                      <a:pt x="657" y="186"/>
                    </a:lnTo>
                    <a:lnTo>
                      <a:pt x="687" y="172"/>
                    </a:lnTo>
                    <a:lnTo>
                      <a:pt x="702" y="167"/>
                    </a:lnTo>
                    <a:lnTo>
                      <a:pt x="717" y="162"/>
                    </a:lnTo>
                    <a:lnTo>
                      <a:pt x="733" y="158"/>
                    </a:lnTo>
                    <a:lnTo>
                      <a:pt x="749" y="153"/>
                    </a:lnTo>
                    <a:lnTo>
                      <a:pt x="766" y="151"/>
                    </a:lnTo>
                    <a:lnTo>
                      <a:pt x="782" y="149"/>
                    </a:lnTo>
                    <a:lnTo>
                      <a:pt x="799" y="146"/>
                    </a:lnTo>
                    <a:lnTo>
                      <a:pt x="817" y="146"/>
                    </a:lnTo>
                    <a:lnTo>
                      <a:pt x="816" y="160"/>
                    </a:lnTo>
                    <a:lnTo>
                      <a:pt x="815" y="175"/>
                    </a:lnTo>
                    <a:lnTo>
                      <a:pt x="812" y="190"/>
                    </a:lnTo>
                    <a:lnTo>
                      <a:pt x="809" y="206"/>
                    </a:lnTo>
                    <a:lnTo>
                      <a:pt x="804" y="220"/>
                    </a:lnTo>
                    <a:lnTo>
                      <a:pt x="800" y="236"/>
                    </a:lnTo>
                    <a:lnTo>
                      <a:pt x="793" y="252"/>
                    </a:lnTo>
                    <a:lnTo>
                      <a:pt x="786" y="268"/>
                    </a:lnTo>
                    <a:lnTo>
                      <a:pt x="779" y="284"/>
                    </a:lnTo>
                    <a:lnTo>
                      <a:pt x="770" y="300"/>
                    </a:lnTo>
                    <a:lnTo>
                      <a:pt x="762" y="317"/>
                    </a:lnTo>
                    <a:lnTo>
                      <a:pt x="752" y="332"/>
                    </a:lnTo>
                    <a:lnTo>
                      <a:pt x="742" y="348"/>
                    </a:lnTo>
                    <a:lnTo>
                      <a:pt x="731" y="364"/>
                    </a:lnTo>
                    <a:lnTo>
                      <a:pt x="720" y="379"/>
                    </a:lnTo>
                    <a:lnTo>
                      <a:pt x="709" y="394"/>
                    </a:lnTo>
                    <a:lnTo>
                      <a:pt x="696" y="408"/>
                    </a:lnTo>
                    <a:lnTo>
                      <a:pt x="684" y="422"/>
                    </a:lnTo>
                    <a:lnTo>
                      <a:pt x="670" y="436"/>
                    </a:lnTo>
                    <a:lnTo>
                      <a:pt x="656" y="448"/>
                    </a:lnTo>
                    <a:lnTo>
                      <a:pt x="643" y="460"/>
                    </a:lnTo>
                    <a:lnTo>
                      <a:pt x="629" y="471"/>
                    </a:lnTo>
                    <a:lnTo>
                      <a:pt x="614" y="481"/>
                    </a:lnTo>
                    <a:lnTo>
                      <a:pt x="599" y="492"/>
                    </a:lnTo>
                    <a:lnTo>
                      <a:pt x="584" y="500"/>
                    </a:lnTo>
                    <a:lnTo>
                      <a:pt x="570" y="508"/>
                    </a:lnTo>
                    <a:lnTo>
                      <a:pt x="555" y="514"/>
                    </a:lnTo>
                    <a:lnTo>
                      <a:pt x="540" y="520"/>
                    </a:lnTo>
                    <a:lnTo>
                      <a:pt x="524" y="525"/>
                    </a:lnTo>
                    <a:lnTo>
                      <a:pt x="509" y="528"/>
                    </a:lnTo>
                    <a:lnTo>
                      <a:pt x="494" y="530"/>
                    </a:lnTo>
                    <a:lnTo>
                      <a:pt x="478" y="530"/>
                    </a:lnTo>
                    <a:lnTo>
                      <a:pt x="498" y="532"/>
                    </a:lnTo>
                    <a:lnTo>
                      <a:pt x="516" y="533"/>
                    </a:lnTo>
                    <a:lnTo>
                      <a:pt x="534" y="535"/>
                    </a:lnTo>
                    <a:lnTo>
                      <a:pt x="551" y="538"/>
                    </a:lnTo>
                    <a:lnTo>
                      <a:pt x="569" y="542"/>
                    </a:lnTo>
                    <a:lnTo>
                      <a:pt x="584" y="546"/>
                    </a:lnTo>
                    <a:lnTo>
                      <a:pt x="600" y="552"/>
                    </a:lnTo>
                    <a:lnTo>
                      <a:pt x="615" y="559"/>
                    </a:lnTo>
                    <a:lnTo>
                      <a:pt x="630" y="566"/>
                    </a:lnTo>
                    <a:lnTo>
                      <a:pt x="645" y="573"/>
                    </a:lnTo>
                    <a:lnTo>
                      <a:pt x="659" y="582"/>
                    </a:lnTo>
                    <a:lnTo>
                      <a:pt x="671" y="590"/>
                    </a:lnTo>
                    <a:lnTo>
                      <a:pt x="685" y="600"/>
                    </a:lnTo>
                    <a:lnTo>
                      <a:pt x="697" y="610"/>
                    </a:lnTo>
                    <a:lnTo>
                      <a:pt x="709" y="620"/>
                    </a:lnTo>
                    <a:lnTo>
                      <a:pt x="720" y="632"/>
                    </a:lnTo>
                    <a:lnTo>
                      <a:pt x="743" y="655"/>
                    </a:lnTo>
                    <a:lnTo>
                      <a:pt x="763" y="680"/>
                    </a:lnTo>
                    <a:lnTo>
                      <a:pt x="783" y="707"/>
                    </a:lnTo>
                    <a:lnTo>
                      <a:pt x="800" y="734"/>
                    </a:lnTo>
                    <a:lnTo>
                      <a:pt x="817" y="763"/>
                    </a:lnTo>
                    <a:lnTo>
                      <a:pt x="833" y="793"/>
                    </a:lnTo>
                    <a:lnTo>
                      <a:pt x="848" y="823"/>
                    </a:lnTo>
                    <a:lnTo>
                      <a:pt x="861" y="853"/>
                    </a:lnTo>
                    <a:lnTo>
                      <a:pt x="831" y="853"/>
                    </a:lnTo>
                    <a:lnTo>
                      <a:pt x="802" y="852"/>
                    </a:lnTo>
                    <a:lnTo>
                      <a:pt x="775" y="851"/>
                    </a:lnTo>
                    <a:lnTo>
                      <a:pt x="750" y="848"/>
                    </a:lnTo>
                    <a:lnTo>
                      <a:pt x="727" y="846"/>
                    </a:lnTo>
                    <a:lnTo>
                      <a:pt x="704" y="844"/>
                    </a:lnTo>
                    <a:lnTo>
                      <a:pt x="684" y="839"/>
                    </a:lnTo>
                    <a:lnTo>
                      <a:pt x="665" y="836"/>
                    </a:lnTo>
                    <a:lnTo>
                      <a:pt x="647" y="831"/>
                    </a:lnTo>
                    <a:lnTo>
                      <a:pt x="631" y="826"/>
                    </a:lnTo>
                    <a:lnTo>
                      <a:pt x="615" y="820"/>
                    </a:lnTo>
                    <a:lnTo>
                      <a:pt x="602" y="813"/>
                    </a:lnTo>
                    <a:lnTo>
                      <a:pt x="588" y="806"/>
                    </a:lnTo>
                    <a:lnTo>
                      <a:pt x="575" y="798"/>
                    </a:lnTo>
                    <a:lnTo>
                      <a:pt x="564" y="790"/>
                    </a:lnTo>
                    <a:lnTo>
                      <a:pt x="554" y="781"/>
                    </a:lnTo>
                    <a:lnTo>
                      <a:pt x="543" y="772"/>
                    </a:lnTo>
                    <a:lnTo>
                      <a:pt x="534" y="762"/>
                    </a:lnTo>
                    <a:lnTo>
                      <a:pt x="525" y="750"/>
                    </a:lnTo>
                    <a:lnTo>
                      <a:pt x="517" y="739"/>
                    </a:lnTo>
                    <a:lnTo>
                      <a:pt x="501" y="714"/>
                    </a:lnTo>
                    <a:lnTo>
                      <a:pt x="486" y="685"/>
                    </a:lnTo>
                    <a:lnTo>
                      <a:pt x="456" y="622"/>
                    </a:lnTo>
                    <a:lnTo>
                      <a:pt x="421" y="544"/>
                    </a:lnTo>
                    <a:lnTo>
                      <a:pt x="411" y="546"/>
                    </a:lnTo>
                    <a:lnTo>
                      <a:pt x="395" y="551"/>
                    </a:lnTo>
                    <a:lnTo>
                      <a:pt x="376" y="559"/>
                    </a:lnTo>
                    <a:lnTo>
                      <a:pt x="352" y="569"/>
                    </a:lnTo>
                    <a:lnTo>
                      <a:pt x="297" y="592"/>
                    </a:lnTo>
                    <a:lnTo>
                      <a:pt x="236" y="615"/>
                    </a:lnTo>
                    <a:lnTo>
                      <a:pt x="205" y="625"/>
                    </a:lnTo>
                    <a:lnTo>
                      <a:pt x="174" y="634"/>
                    </a:lnTo>
                    <a:lnTo>
                      <a:pt x="159" y="638"/>
                    </a:lnTo>
                    <a:lnTo>
                      <a:pt x="145" y="641"/>
                    </a:lnTo>
                    <a:lnTo>
                      <a:pt x="131" y="643"/>
                    </a:lnTo>
                    <a:lnTo>
                      <a:pt x="117" y="644"/>
                    </a:lnTo>
                    <a:lnTo>
                      <a:pt x="104" y="646"/>
                    </a:lnTo>
                    <a:lnTo>
                      <a:pt x="92" y="646"/>
                    </a:lnTo>
                    <a:lnTo>
                      <a:pt x="81" y="643"/>
                    </a:lnTo>
                    <a:lnTo>
                      <a:pt x="70" y="641"/>
                    </a:lnTo>
                    <a:lnTo>
                      <a:pt x="60" y="638"/>
                    </a:lnTo>
                    <a:lnTo>
                      <a:pt x="52" y="633"/>
                    </a:lnTo>
                    <a:lnTo>
                      <a:pt x="45" y="626"/>
                    </a:lnTo>
                    <a:lnTo>
                      <a:pt x="39" y="619"/>
                    </a:lnTo>
                    <a:lnTo>
                      <a:pt x="29" y="600"/>
                    </a:lnTo>
                    <a:lnTo>
                      <a:pt x="20" y="581"/>
                    </a:lnTo>
                    <a:lnTo>
                      <a:pt x="13" y="559"/>
                    </a:lnTo>
                    <a:lnTo>
                      <a:pt x="8" y="537"/>
                    </a:lnTo>
                    <a:lnTo>
                      <a:pt x="4" y="514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1" y="443"/>
                    </a:lnTo>
                    <a:lnTo>
                      <a:pt x="2" y="419"/>
                    </a:lnTo>
                    <a:lnTo>
                      <a:pt x="4" y="395"/>
                    </a:lnTo>
                    <a:lnTo>
                      <a:pt x="8" y="371"/>
                    </a:lnTo>
                    <a:lnTo>
                      <a:pt x="13" y="347"/>
                    </a:lnTo>
                    <a:lnTo>
                      <a:pt x="19" y="324"/>
                    </a:lnTo>
                    <a:lnTo>
                      <a:pt x="26" y="302"/>
                    </a:lnTo>
                    <a:lnTo>
                      <a:pt x="34" y="281"/>
                    </a:lnTo>
                    <a:lnTo>
                      <a:pt x="43" y="261"/>
                    </a:lnTo>
                    <a:lnTo>
                      <a:pt x="53" y="242"/>
                    </a:lnTo>
                    <a:lnTo>
                      <a:pt x="65" y="225"/>
                    </a:lnTo>
                    <a:lnTo>
                      <a:pt x="76" y="210"/>
                    </a:lnTo>
                    <a:lnTo>
                      <a:pt x="89" y="196"/>
                    </a:lnTo>
                    <a:lnTo>
                      <a:pt x="102" y="184"/>
                    </a:lnTo>
                    <a:lnTo>
                      <a:pt x="117" y="175"/>
                    </a:lnTo>
                    <a:lnTo>
                      <a:pt x="132" y="167"/>
                    </a:lnTo>
                    <a:lnTo>
                      <a:pt x="147" y="162"/>
                    </a:lnTo>
                    <a:lnTo>
                      <a:pt x="163" y="160"/>
                    </a:lnTo>
                    <a:lnTo>
                      <a:pt x="180" y="161"/>
                    </a:lnTo>
                    <a:lnTo>
                      <a:pt x="197" y="164"/>
                    </a:lnTo>
                    <a:lnTo>
                      <a:pt x="214" y="171"/>
                    </a:lnTo>
                    <a:lnTo>
                      <a:pt x="232" y="182"/>
                    </a:lnTo>
                    <a:lnTo>
                      <a:pt x="251" y="195"/>
                    </a:lnTo>
                    <a:lnTo>
                      <a:pt x="270" y="214"/>
                    </a:lnTo>
                    <a:lnTo>
                      <a:pt x="288" y="234"/>
                    </a:lnTo>
                    <a:lnTo>
                      <a:pt x="318" y="271"/>
                    </a:lnTo>
                    <a:lnTo>
                      <a:pt x="336" y="292"/>
                    </a:lnTo>
                    <a:lnTo>
                      <a:pt x="342" y="299"/>
                    </a:lnTo>
                    <a:lnTo>
                      <a:pt x="345" y="301"/>
                    </a:lnTo>
                    <a:lnTo>
                      <a:pt x="346" y="301"/>
                    </a:lnTo>
                    <a:lnTo>
                      <a:pt x="346" y="298"/>
                    </a:lnTo>
                    <a:lnTo>
                      <a:pt x="334" y="265"/>
                    </a:lnTo>
                    <a:lnTo>
                      <a:pt x="312" y="207"/>
                    </a:lnTo>
                    <a:lnTo>
                      <a:pt x="308" y="190"/>
                    </a:lnTo>
                    <a:lnTo>
                      <a:pt x="303" y="172"/>
                    </a:lnTo>
                    <a:lnTo>
                      <a:pt x="300" y="155"/>
                    </a:lnTo>
                    <a:lnTo>
                      <a:pt x="297" y="137"/>
                    </a:lnTo>
                    <a:lnTo>
                      <a:pt x="296" y="120"/>
                    </a:lnTo>
                    <a:lnTo>
                      <a:pt x="296" y="103"/>
                    </a:lnTo>
                    <a:lnTo>
                      <a:pt x="298" y="86"/>
                    </a:lnTo>
                    <a:lnTo>
                      <a:pt x="303" y="71"/>
                    </a:lnTo>
                    <a:lnTo>
                      <a:pt x="310" y="56"/>
                    </a:lnTo>
                    <a:lnTo>
                      <a:pt x="318" y="43"/>
                    </a:lnTo>
                    <a:lnTo>
                      <a:pt x="329" y="31"/>
                    </a:lnTo>
                    <a:lnTo>
                      <a:pt x="344" y="21"/>
                    </a:lnTo>
                    <a:lnTo>
                      <a:pt x="362" y="12"/>
                    </a:lnTo>
                    <a:lnTo>
                      <a:pt x="383" y="6"/>
                    </a:lnTo>
                    <a:lnTo>
                      <a:pt x="408" y="3"/>
                    </a:lnTo>
                    <a:lnTo>
                      <a:pt x="435" y="0"/>
                    </a:lnTo>
                    <a:lnTo>
                      <a:pt x="435" y="50"/>
                    </a:lnTo>
                    <a:lnTo>
                      <a:pt x="434" y="100"/>
                    </a:lnTo>
                    <a:lnTo>
                      <a:pt x="433" y="123"/>
                    </a:lnTo>
                    <a:lnTo>
                      <a:pt x="432" y="147"/>
                    </a:lnTo>
                    <a:lnTo>
                      <a:pt x="429" y="171"/>
                    </a:lnTo>
                    <a:lnTo>
                      <a:pt x="426" y="195"/>
                    </a:lnTo>
                    <a:lnTo>
                      <a:pt x="423" y="219"/>
                    </a:lnTo>
                    <a:lnTo>
                      <a:pt x="418" y="242"/>
                    </a:lnTo>
                    <a:lnTo>
                      <a:pt x="411" y="264"/>
                    </a:lnTo>
                    <a:lnTo>
                      <a:pt x="404" y="286"/>
                    </a:lnTo>
                    <a:lnTo>
                      <a:pt x="395" y="307"/>
                    </a:lnTo>
                    <a:lnTo>
                      <a:pt x="386" y="329"/>
                    </a:lnTo>
                    <a:lnTo>
                      <a:pt x="375" y="348"/>
                    </a:lnTo>
                    <a:lnTo>
                      <a:pt x="361" y="36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486240" y="395640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71" h="245">
                    <a:moveTo>
                      <a:pt x="471" y="12"/>
                    </a:moveTo>
                    <a:lnTo>
                      <a:pt x="460" y="0"/>
                    </a:lnTo>
                    <a:lnTo>
                      <a:pt x="442" y="1"/>
                    </a:lnTo>
                    <a:lnTo>
                      <a:pt x="423" y="2"/>
                    </a:lnTo>
                    <a:lnTo>
                      <a:pt x="406" y="4"/>
                    </a:lnTo>
                    <a:lnTo>
                      <a:pt x="389" y="8"/>
                    </a:lnTo>
                    <a:lnTo>
                      <a:pt x="373" y="11"/>
                    </a:lnTo>
                    <a:lnTo>
                      <a:pt x="356" y="16"/>
                    </a:lnTo>
                    <a:lnTo>
                      <a:pt x="340" y="21"/>
                    </a:lnTo>
                    <a:lnTo>
                      <a:pt x="324" y="27"/>
                    </a:lnTo>
                    <a:lnTo>
                      <a:pt x="295" y="41"/>
                    </a:lnTo>
                    <a:lnTo>
                      <a:pt x="265" y="57"/>
                    </a:lnTo>
                    <a:lnTo>
                      <a:pt x="238" y="73"/>
                    </a:lnTo>
                    <a:lnTo>
                      <a:pt x="209" y="91"/>
                    </a:lnTo>
                    <a:lnTo>
                      <a:pt x="157" y="129"/>
                    </a:lnTo>
                    <a:lnTo>
                      <a:pt x="104" y="165"/>
                    </a:lnTo>
                    <a:lnTo>
                      <a:pt x="78" y="181"/>
                    </a:lnTo>
                    <a:lnTo>
                      <a:pt x="52" y="197"/>
                    </a:lnTo>
                    <a:lnTo>
                      <a:pt x="26" y="211"/>
                    </a:lnTo>
                    <a:lnTo>
                      <a:pt x="0" y="223"/>
                    </a:lnTo>
                    <a:lnTo>
                      <a:pt x="9" y="245"/>
                    </a:lnTo>
                    <a:lnTo>
                      <a:pt x="37" y="232"/>
                    </a:lnTo>
                    <a:lnTo>
                      <a:pt x="64" y="219"/>
                    </a:lnTo>
                    <a:lnTo>
                      <a:pt x="91" y="201"/>
                    </a:lnTo>
                    <a:lnTo>
                      <a:pt x="118" y="184"/>
                    </a:lnTo>
                    <a:lnTo>
                      <a:pt x="170" y="148"/>
                    </a:lnTo>
                    <a:lnTo>
                      <a:pt x="223" y="111"/>
                    </a:lnTo>
                    <a:lnTo>
                      <a:pt x="250" y="93"/>
                    </a:lnTo>
                    <a:lnTo>
                      <a:pt x="278" y="77"/>
                    </a:lnTo>
                    <a:lnTo>
                      <a:pt x="305" y="62"/>
                    </a:lnTo>
                    <a:lnTo>
                      <a:pt x="335" y="50"/>
                    </a:lnTo>
                    <a:lnTo>
                      <a:pt x="348" y="44"/>
                    </a:lnTo>
                    <a:lnTo>
                      <a:pt x="364" y="40"/>
                    </a:lnTo>
                    <a:lnTo>
                      <a:pt x="379" y="35"/>
                    </a:lnTo>
                    <a:lnTo>
                      <a:pt x="394" y="32"/>
                    </a:lnTo>
                    <a:lnTo>
                      <a:pt x="410" y="28"/>
                    </a:lnTo>
                    <a:lnTo>
                      <a:pt x="427" y="26"/>
                    </a:lnTo>
                    <a:lnTo>
                      <a:pt x="443" y="25"/>
                    </a:lnTo>
                    <a:lnTo>
                      <a:pt x="460" y="25"/>
                    </a:lnTo>
                    <a:lnTo>
                      <a:pt x="447" y="12"/>
                    </a:lnTo>
                    <a:lnTo>
                      <a:pt x="460" y="25"/>
                    </a:lnTo>
                    <a:lnTo>
                      <a:pt x="465" y="24"/>
                    </a:lnTo>
                    <a:lnTo>
                      <a:pt x="469" y="20"/>
                    </a:lnTo>
                    <a:lnTo>
                      <a:pt x="471" y="17"/>
                    </a:lnTo>
                    <a:lnTo>
                      <a:pt x="471" y="12"/>
                    </a:lnTo>
                    <a:lnTo>
                      <a:pt x="471" y="8"/>
                    </a:lnTo>
                    <a:lnTo>
                      <a:pt x="469" y="4"/>
                    </a:lnTo>
                    <a:lnTo>
                      <a:pt x="465" y="1"/>
                    </a:lnTo>
                    <a:lnTo>
                      <a:pt x="460" y="0"/>
                    </a:lnTo>
                    <a:lnTo>
                      <a:pt x="471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521160" y="396108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373"/>
                    </a:moveTo>
                    <a:lnTo>
                      <a:pt x="11" y="397"/>
                    </a:lnTo>
                    <a:lnTo>
                      <a:pt x="29" y="396"/>
                    </a:lnTo>
                    <a:lnTo>
                      <a:pt x="45" y="394"/>
                    </a:lnTo>
                    <a:lnTo>
                      <a:pt x="60" y="390"/>
                    </a:lnTo>
                    <a:lnTo>
                      <a:pt x="76" y="386"/>
                    </a:lnTo>
                    <a:lnTo>
                      <a:pt x="92" y="380"/>
                    </a:lnTo>
                    <a:lnTo>
                      <a:pt x="108" y="373"/>
                    </a:lnTo>
                    <a:lnTo>
                      <a:pt x="124" y="365"/>
                    </a:lnTo>
                    <a:lnTo>
                      <a:pt x="139" y="356"/>
                    </a:lnTo>
                    <a:lnTo>
                      <a:pt x="154" y="346"/>
                    </a:lnTo>
                    <a:lnTo>
                      <a:pt x="169" y="335"/>
                    </a:lnTo>
                    <a:lnTo>
                      <a:pt x="184" y="323"/>
                    </a:lnTo>
                    <a:lnTo>
                      <a:pt x="197" y="311"/>
                    </a:lnTo>
                    <a:lnTo>
                      <a:pt x="212" y="298"/>
                    </a:lnTo>
                    <a:lnTo>
                      <a:pt x="225" y="284"/>
                    </a:lnTo>
                    <a:lnTo>
                      <a:pt x="238" y="270"/>
                    </a:lnTo>
                    <a:lnTo>
                      <a:pt x="251" y="256"/>
                    </a:lnTo>
                    <a:lnTo>
                      <a:pt x="262" y="241"/>
                    </a:lnTo>
                    <a:lnTo>
                      <a:pt x="274" y="225"/>
                    </a:lnTo>
                    <a:lnTo>
                      <a:pt x="285" y="209"/>
                    </a:lnTo>
                    <a:lnTo>
                      <a:pt x="295" y="193"/>
                    </a:lnTo>
                    <a:lnTo>
                      <a:pt x="306" y="177"/>
                    </a:lnTo>
                    <a:lnTo>
                      <a:pt x="315" y="160"/>
                    </a:lnTo>
                    <a:lnTo>
                      <a:pt x="323" y="144"/>
                    </a:lnTo>
                    <a:lnTo>
                      <a:pt x="331" y="127"/>
                    </a:lnTo>
                    <a:lnTo>
                      <a:pt x="337" y="111"/>
                    </a:lnTo>
                    <a:lnTo>
                      <a:pt x="344" y="95"/>
                    </a:lnTo>
                    <a:lnTo>
                      <a:pt x="349" y="78"/>
                    </a:lnTo>
                    <a:lnTo>
                      <a:pt x="353" y="62"/>
                    </a:lnTo>
                    <a:lnTo>
                      <a:pt x="357" y="46"/>
                    </a:lnTo>
                    <a:lnTo>
                      <a:pt x="360" y="30"/>
                    </a:lnTo>
                    <a:lnTo>
                      <a:pt x="361" y="15"/>
                    </a:lnTo>
                    <a:lnTo>
                      <a:pt x="361" y="0"/>
                    </a:lnTo>
                    <a:lnTo>
                      <a:pt x="337" y="0"/>
                    </a:lnTo>
                    <a:lnTo>
                      <a:pt x="337" y="14"/>
                    </a:lnTo>
                    <a:lnTo>
                      <a:pt x="335" y="28"/>
                    </a:lnTo>
                    <a:lnTo>
                      <a:pt x="333" y="41"/>
                    </a:lnTo>
                    <a:lnTo>
                      <a:pt x="331" y="56"/>
                    </a:lnTo>
                    <a:lnTo>
                      <a:pt x="326" y="71"/>
                    </a:lnTo>
                    <a:lnTo>
                      <a:pt x="321" y="87"/>
                    </a:lnTo>
                    <a:lnTo>
                      <a:pt x="315" y="102"/>
                    </a:lnTo>
                    <a:lnTo>
                      <a:pt x="309" y="118"/>
                    </a:lnTo>
                    <a:lnTo>
                      <a:pt x="301" y="134"/>
                    </a:lnTo>
                    <a:lnTo>
                      <a:pt x="293" y="148"/>
                    </a:lnTo>
                    <a:lnTo>
                      <a:pt x="284" y="164"/>
                    </a:lnTo>
                    <a:lnTo>
                      <a:pt x="275" y="180"/>
                    </a:lnTo>
                    <a:lnTo>
                      <a:pt x="266" y="195"/>
                    </a:lnTo>
                    <a:lnTo>
                      <a:pt x="254" y="211"/>
                    </a:lnTo>
                    <a:lnTo>
                      <a:pt x="244" y="226"/>
                    </a:lnTo>
                    <a:lnTo>
                      <a:pt x="231" y="240"/>
                    </a:lnTo>
                    <a:lnTo>
                      <a:pt x="220" y="254"/>
                    </a:lnTo>
                    <a:lnTo>
                      <a:pt x="207" y="268"/>
                    </a:lnTo>
                    <a:lnTo>
                      <a:pt x="195" y="281"/>
                    </a:lnTo>
                    <a:lnTo>
                      <a:pt x="181" y="293"/>
                    </a:lnTo>
                    <a:lnTo>
                      <a:pt x="168" y="305"/>
                    </a:lnTo>
                    <a:lnTo>
                      <a:pt x="154" y="316"/>
                    </a:lnTo>
                    <a:lnTo>
                      <a:pt x="140" y="326"/>
                    </a:lnTo>
                    <a:lnTo>
                      <a:pt x="127" y="335"/>
                    </a:lnTo>
                    <a:lnTo>
                      <a:pt x="112" y="343"/>
                    </a:lnTo>
                    <a:lnTo>
                      <a:pt x="98" y="351"/>
                    </a:lnTo>
                    <a:lnTo>
                      <a:pt x="83" y="357"/>
                    </a:lnTo>
                    <a:lnTo>
                      <a:pt x="68" y="363"/>
                    </a:lnTo>
                    <a:lnTo>
                      <a:pt x="55" y="367"/>
                    </a:lnTo>
                    <a:lnTo>
                      <a:pt x="40" y="370"/>
                    </a:lnTo>
                    <a:lnTo>
                      <a:pt x="26" y="372"/>
                    </a:lnTo>
                    <a:lnTo>
                      <a:pt x="11" y="373"/>
                    </a:lnTo>
                    <a:lnTo>
                      <a:pt x="11" y="397"/>
                    </a:lnTo>
                    <a:lnTo>
                      <a:pt x="11" y="373"/>
                    </a:lnTo>
                    <a:lnTo>
                      <a:pt x="7" y="374"/>
                    </a:lnTo>
                    <a:lnTo>
                      <a:pt x="2" y="376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9"/>
                    </a:lnTo>
                    <a:lnTo>
                      <a:pt x="2" y="394"/>
                    </a:lnTo>
                    <a:lnTo>
                      <a:pt x="7" y="396"/>
                    </a:lnTo>
                    <a:lnTo>
                      <a:pt x="11" y="397"/>
                    </a:lnTo>
                    <a:lnTo>
                      <a:pt x="11" y="37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524400" y="407844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396" h="347">
                    <a:moveTo>
                      <a:pt x="383" y="347"/>
                    </a:moveTo>
                    <a:lnTo>
                      <a:pt x="395" y="329"/>
                    </a:lnTo>
                    <a:lnTo>
                      <a:pt x="381" y="299"/>
                    </a:lnTo>
                    <a:lnTo>
                      <a:pt x="365" y="268"/>
                    </a:lnTo>
                    <a:lnTo>
                      <a:pt x="349" y="238"/>
                    </a:lnTo>
                    <a:lnTo>
                      <a:pt x="332" y="210"/>
                    </a:lnTo>
                    <a:lnTo>
                      <a:pt x="314" y="181"/>
                    </a:lnTo>
                    <a:lnTo>
                      <a:pt x="295" y="154"/>
                    </a:lnTo>
                    <a:lnTo>
                      <a:pt x="274" y="128"/>
                    </a:lnTo>
                    <a:lnTo>
                      <a:pt x="251" y="104"/>
                    </a:lnTo>
                    <a:lnTo>
                      <a:pt x="239" y="92"/>
                    </a:lnTo>
                    <a:lnTo>
                      <a:pt x="226" y="82"/>
                    </a:lnTo>
                    <a:lnTo>
                      <a:pt x="214" y="71"/>
                    </a:lnTo>
                    <a:lnTo>
                      <a:pt x="200" y="62"/>
                    </a:lnTo>
                    <a:lnTo>
                      <a:pt x="186" y="52"/>
                    </a:lnTo>
                    <a:lnTo>
                      <a:pt x="173" y="43"/>
                    </a:lnTo>
                    <a:lnTo>
                      <a:pt x="158" y="35"/>
                    </a:lnTo>
                    <a:lnTo>
                      <a:pt x="143" y="29"/>
                    </a:lnTo>
                    <a:lnTo>
                      <a:pt x="127" y="22"/>
                    </a:lnTo>
                    <a:lnTo>
                      <a:pt x="110" y="16"/>
                    </a:lnTo>
                    <a:lnTo>
                      <a:pt x="94" y="11"/>
                    </a:lnTo>
                    <a:lnTo>
                      <a:pt x="76" y="7"/>
                    </a:lnTo>
                    <a:lnTo>
                      <a:pt x="59" y="3"/>
                    </a:lnTo>
                    <a:lnTo>
                      <a:pt x="39" y="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0" y="24"/>
                    </a:lnTo>
                    <a:lnTo>
                      <a:pt x="37" y="26"/>
                    </a:lnTo>
                    <a:lnTo>
                      <a:pt x="54" y="27"/>
                    </a:lnTo>
                    <a:lnTo>
                      <a:pt x="71" y="31"/>
                    </a:lnTo>
                    <a:lnTo>
                      <a:pt x="87" y="34"/>
                    </a:lnTo>
                    <a:lnTo>
                      <a:pt x="103" y="39"/>
                    </a:lnTo>
                    <a:lnTo>
                      <a:pt x="118" y="44"/>
                    </a:lnTo>
                    <a:lnTo>
                      <a:pt x="133" y="50"/>
                    </a:lnTo>
                    <a:lnTo>
                      <a:pt x="146" y="57"/>
                    </a:lnTo>
                    <a:lnTo>
                      <a:pt x="160" y="65"/>
                    </a:lnTo>
                    <a:lnTo>
                      <a:pt x="174" y="73"/>
                    </a:lnTo>
                    <a:lnTo>
                      <a:pt x="186" y="81"/>
                    </a:lnTo>
                    <a:lnTo>
                      <a:pt x="199" y="90"/>
                    </a:lnTo>
                    <a:lnTo>
                      <a:pt x="211" y="100"/>
                    </a:lnTo>
                    <a:lnTo>
                      <a:pt x="223" y="111"/>
                    </a:lnTo>
                    <a:lnTo>
                      <a:pt x="234" y="121"/>
                    </a:lnTo>
                    <a:lnTo>
                      <a:pt x="256" y="144"/>
                    </a:lnTo>
                    <a:lnTo>
                      <a:pt x="275" y="169"/>
                    </a:lnTo>
                    <a:lnTo>
                      <a:pt x="295" y="195"/>
                    </a:lnTo>
                    <a:lnTo>
                      <a:pt x="312" y="222"/>
                    </a:lnTo>
                    <a:lnTo>
                      <a:pt x="329" y="251"/>
                    </a:lnTo>
                    <a:lnTo>
                      <a:pt x="344" y="279"/>
                    </a:lnTo>
                    <a:lnTo>
                      <a:pt x="358" y="309"/>
                    </a:lnTo>
                    <a:lnTo>
                      <a:pt x="373" y="339"/>
                    </a:lnTo>
                    <a:lnTo>
                      <a:pt x="383" y="322"/>
                    </a:lnTo>
                    <a:lnTo>
                      <a:pt x="373" y="339"/>
                    </a:lnTo>
                    <a:lnTo>
                      <a:pt x="375" y="343"/>
                    </a:lnTo>
                    <a:lnTo>
                      <a:pt x="380" y="345"/>
                    </a:lnTo>
                    <a:lnTo>
                      <a:pt x="385" y="347"/>
                    </a:lnTo>
                    <a:lnTo>
                      <a:pt x="389" y="345"/>
                    </a:lnTo>
                    <a:lnTo>
                      <a:pt x="393" y="342"/>
                    </a:lnTo>
                    <a:lnTo>
                      <a:pt x="395" y="339"/>
                    </a:lnTo>
                    <a:lnTo>
                      <a:pt x="396" y="334"/>
                    </a:lnTo>
                    <a:lnTo>
                      <a:pt x="395" y="329"/>
                    </a:lnTo>
                    <a:lnTo>
                      <a:pt x="383" y="3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503520" y="4083480"/>
                <a:ext cx="142920" cy="106200"/>
              </a:xfrm>
              <a:custGeom>
                <a:avLst/>
                <a:gdLst/>
                <a:ahLst/>
                <a:rect l="l" t="t" r="r" b="b"/>
                <a:pathLst>
                  <a:path w="451" h="333">
                    <a:moveTo>
                      <a:pt x="11" y="24"/>
                    </a:moveTo>
                    <a:lnTo>
                      <a:pt x="1" y="17"/>
                    </a:lnTo>
                    <a:lnTo>
                      <a:pt x="35" y="93"/>
                    </a:lnTo>
                    <a:lnTo>
                      <a:pt x="65" y="158"/>
                    </a:lnTo>
                    <a:lnTo>
                      <a:pt x="81" y="187"/>
                    </a:lnTo>
                    <a:lnTo>
                      <a:pt x="97" y="213"/>
                    </a:lnTo>
                    <a:lnTo>
                      <a:pt x="106" y="225"/>
                    </a:lnTo>
                    <a:lnTo>
                      <a:pt x="115" y="237"/>
                    </a:lnTo>
                    <a:lnTo>
                      <a:pt x="124" y="247"/>
                    </a:lnTo>
                    <a:lnTo>
                      <a:pt x="136" y="257"/>
                    </a:lnTo>
                    <a:lnTo>
                      <a:pt x="147" y="266"/>
                    </a:lnTo>
                    <a:lnTo>
                      <a:pt x="159" y="276"/>
                    </a:lnTo>
                    <a:lnTo>
                      <a:pt x="172" y="284"/>
                    </a:lnTo>
                    <a:lnTo>
                      <a:pt x="186" y="292"/>
                    </a:lnTo>
                    <a:lnTo>
                      <a:pt x="201" y="298"/>
                    </a:lnTo>
                    <a:lnTo>
                      <a:pt x="217" y="304"/>
                    </a:lnTo>
                    <a:lnTo>
                      <a:pt x="234" y="310"/>
                    </a:lnTo>
                    <a:lnTo>
                      <a:pt x="252" y="314"/>
                    </a:lnTo>
                    <a:lnTo>
                      <a:pt x="271" y="319"/>
                    </a:lnTo>
                    <a:lnTo>
                      <a:pt x="293" y="322"/>
                    </a:lnTo>
                    <a:lnTo>
                      <a:pt x="315" y="326"/>
                    </a:lnTo>
                    <a:lnTo>
                      <a:pt x="339" y="328"/>
                    </a:lnTo>
                    <a:lnTo>
                      <a:pt x="365" y="329"/>
                    </a:lnTo>
                    <a:lnTo>
                      <a:pt x="392" y="331"/>
                    </a:lnTo>
                    <a:lnTo>
                      <a:pt x="421" y="331"/>
                    </a:lnTo>
                    <a:lnTo>
                      <a:pt x="451" y="333"/>
                    </a:lnTo>
                    <a:lnTo>
                      <a:pt x="451" y="308"/>
                    </a:lnTo>
                    <a:lnTo>
                      <a:pt x="422" y="308"/>
                    </a:lnTo>
                    <a:lnTo>
                      <a:pt x="392" y="306"/>
                    </a:lnTo>
                    <a:lnTo>
                      <a:pt x="366" y="305"/>
                    </a:lnTo>
                    <a:lnTo>
                      <a:pt x="341" y="304"/>
                    </a:lnTo>
                    <a:lnTo>
                      <a:pt x="318" y="302"/>
                    </a:lnTo>
                    <a:lnTo>
                      <a:pt x="296" y="298"/>
                    </a:lnTo>
                    <a:lnTo>
                      <a:pt x="276" y="295"/>
                    </a:lnTo>
                    <a:lnTo>
                      <a:pt x="258" y="292"/>
                    </a:lnTo>
                    <a:lnTo>
                      <a:pt x="241" y="287"/>
                    </a:lnTo>
                    <a:lnTo>
                      <a:pt x="225" y="281"/>
                    </a:lnTo>
                    <a:lnTo>
                      <a:pt x="210" y="276"/>
                    </a:lnTo>
                    <a:lnTo>
                      <a:pt x="196" y="270"/>
                    </a:lnTo>
                    <a:lnTo>
                      <a:pt x="184" y="263"/>
                    </a:lnTo>
                    <a:lnTo>
                      <a:pt x="172" y="255"/>
                    </a:lnTo>
                    <a:lnTo>
                      <a:pt x="162" y="248"/>
                    </a:lnTo>
                    <a:lnTo>
                      <a:pt x="152" y="239"/>
                    </a:lnTo>
                    <a:lnTo>
                      <a:pt x="143" y="230"/>
                    </a:lnTo>
                    <a:lnTo>
                      <a:pt x="133" y="221"/>
                    </a:lnTo>
                    <a:lnTo>
                      <a:pt x="124" y="211"/>
                    </a:lnTo>
                    <a:lnTo>
                      <a:pt x="117" y="199"/>
                    </a:lnTo>
                    <a:lnTo>
                      <a:pt x="102" y="174"/>
                    </a:lnTo>
                    <a:lnTo>
                      <a:pt x="87" y="148"/>
                    </a:lnTo>
                    <a:lnTo>
                      <a:pt x="57" y="83"/>
                    </a:lnTo>
                    <a:lnTo>
                      <a:pt x="23" y="7"/>
                    </a:lnTo>
                    <a:lnTo>
                      <a:pt x="11" y="0"/>
                    </a:lnTo>
                    <a:lnTo>
                      <a:pt x="23" y="7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381480" y="408348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5">
                    <a:moveTo>
                      <a:pt x="0" y="92"/>
                    </a:moveTo>
                    <a:lnTo>
                      <a:pt x="1" y="93"/>
                    </a:lnTo>
                    <a:lnTo>
                      <a:pt x="8" y="102"/>
                    </a:lnTo>
                    <a:lnTo>
                      <a:pt x="17" y="110"/>
                    </a:lnTo>
                    <a:lnTo>
                      <a:pt x="28" y="116"/>
                    </a:lnTo>
                    <a:lnTo>
                      <a:pt x="39" y="119"/>
                    </a:lnTo>
                    <a:lnTo>
                      <a:pt x="50" y="123"/>
                    </a:lnTo>
                    <a:lnTo>
                      <a:pt x="63" y="124"/>
                    </a:lnTo>
                    <a:lnTo>
                      <a:pt x="77" y="125"/>
                    </a:lnTo>
                    <a:lnTo>
                      <a:pt x="90" y="124"/>
                    </a:lnTo>
                    <a:lnTo>
                      <a:pt x="104" y="123"/>
                    </a:lnTo>
                    <a:lnTo>
                      <a:pt x="119" y="119"/>
                    </a:lnTo>
                    <a:lnTo>
                      <a:pt x="134" y="117"/>
                    </a:lnTo>
                    <a:lnTo>
                      <a:pt x="150" y="113"/>
                    </a:lnTo>
                    <a:lnTo>
                      <a:pt x="180" y="105"/>
                    </a:lnTo>
                    <a:lnTo>
                      <a:pt x="212" y="93"/>
                    </a:lnTo>
                    <a:lnTo>
                      <a:pt x="273" y="69"/>
                    </a:lnTo>
                    <a:lnTo>
                      <a:pt x="329" y="46"/>
                    </a:lnTo>
                    <a:lnTo>
                      <a:pt x="351" y="37"/>
                    </a:lnTo>
                    <a:lnTo>
                      <a:pt x="372" y="29"/>
                    </a:lnTo>
                    <a:lnTo>
                      <a:pt x="386" y="25"/>
                    </a:lnTo>
                    <a:lnTo>
                      <a:pt x="393" y="24"/>
                    </a:lnTo>
                    <a:lnTo>
                      <a:pt x="393" y="0"/>
                    </a:lnTo>
                    <a:lnTo>
                      <a:pt x="380" y="2"/>
                    </a:lnTo>
                    <a:lnTo>
                      <a:pt x="363" y="7"/>
                    </a:lnTo>
                    <a:lnTo>
                      <a:pt x="343" y="15"/>
                    </a:lnTo>
                    <a:lnTo>
                      <a:pt x="319" y="25"/>
                    </a:lnTo>
                    <a:lnTo>
                      <a:pt x="265" y="48"/>
                    </a:lnTo>
                    <a:lnTo>
                      <a:pt x="203" y="70"/>
                    </a:lnTo>
                    <a:lnTo>
                      <a:pt x="172" y="81"/>
                    </a:lnTo>
                    <a:lnTo>
                      <a:pt x="143" y="90"/>
                    </a:lnTo>
                    <a:lnTo>
                      <a:pt x="128" y="93"/>
                    </a:lnTo>
                    <a:lnTo>
                      <a:pt x="114" y="97"/>
                    </a:lnTo>
                    <a:lnTo>
                      <a:pt x="101" y="99"/>
                    </a:lnTo>
                    <a:lnTo>
                      <a:pt x="88" y="100"/>
                    </a:lnTo>
                    <a:lnTo>
                      <a:pt x="76" y="100"/>
                    </a:lnTo>
                    <a:lnTo>
                      <a:pt x="65" y="100"/>
                    </a:lnTo>
                    <a:lnTo>
                      <a:pt x="55" y="99"/>
                    </a:lnTo>
                    <a:lnTo>
                      <a:pt x="46" y="97"/>
                    </a:lnTo>
                    <a:lnTo>
                      <a:pt x="38" y="94"/>
                    </a:lnTo>
                    <a:lnTo>
                      <a:pt x="31" y="90"/>
                    </a:lnTo>
                    <a:lnTo>
                      <a:pt x="25" y="85"/>
                    </a:lnTo>
                    <a:lnTo>
                      <a:pt x="21" y="80"/>
                    </a:lnTo>
                    <a:lnTo>
                      <a:pt x="22" y="8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368520" y="3961080"/>
                <a:ext cx="98640" cy="152280"/>
              </a:xfrm>
              <a:custGeom>
                <a:avLst/>
                <a:gdLst/>
                <a:ahLst/>
                <a:rect l="l" t="t" r="r" b="b"/>
                <a:pathLst>
                  <a:path w="310" h="476">
                    <a:moveTo>
                      <a:pt x="310" y="78"/>
                    </a:moveTo>
                    <a:lnTo>
                      <a:pt x="310" y="78"/>
                    </a:lnTo>
                    <a:lnTo>
                      <a:pt x="300" y="67"/>
                    </a:lnTo>
                    <a:lnTo>
                      <a:pt x="290" y="55"/>
                    </a:lnTo>
                    <a:lnTo>
                      <a:pt x="281" y="46"/>
                    </a:lnTo>
                    <a:lnTo>
                      <a:pt x="271" y="37"/>
                    </a:lnTo>
                    <a:lnTo>
                      <a:pt x="260" y="29"/>
                    </a:lnTo>
                    <a:lnTo>
                      <a:pt x="251" y="22"/>
                    </a:lnTo>
                    <a:lnTo>
                      <a:pt x="241" y="17"/>
                    </a:lnTo>
                    <a:lnTo>
                      <a:pt x="232" y="12"/>
                    </a:lnTo>
                    <a:lnTo>
                      <a:pt x="222" y="8"/>
                    </a:lnTo>
                    <a:lnTo>
                      <a:pt x="212" y="4"/>
                    </a:lnTo>
                    <a:lnTo>
                      <a:pt x="202" y="2"/>
                    </a:lnTo>
                    <a:lnTo>
                      <a:pt x="193" y="0"/>
                    </a:lnTo>
                    <a:lnTo>
                      <a:pt x="184" y="0"/>
                    </a:lnTo>
                    <a:lnTo>
                      <a:pt x="175" y="0"/>
                    </a:lnTo>
                    <a:lnTo>
                      <a:pt x="166" y="0"/>
                    </a:lnTo>
                    <a:lnTo>
                      <a:pt x="157" y="2"/>
                    </a:lnTo>
                    <a:lnTo>
                      <a:pt x="147" y="4"/>
                    </a:lnTo>
                    <a:lnTo>
                      <a:pt x="139" y="8"/>
                    </a:lnTo>
                    <a:lnTo>
                      <a:pt x="130" y="11"/>
                    </a:lnTo>
                    <a:lnTo>
                      <a:pt x="122" y="15"/>
                    </a:lnTo>
                    <a:lnTo>
                      <a:pt x="108" y="26"/>
                    </a:lnTo>
                    <a:lnTo>
                      <a:pt x="93" y="38"/>
                    </a:lnTo>
                    <a:lnTo>
                      <a:pt x="79" y="53"/>
                    </a:lnTo>
                    <a:lnTo>
                      <a:pt x="67" y="69"/>
                    </a:lnTo>
                    <a:lnTo>
                      <a:pt x="55" y="87"/>
                    </a:lnTo>
                    <a:lnTo>
                      <a:pt x="45" y="107"/>
                    </a:lnTo>
                    <a:lnTo>
                      <a:pt x="36" y="127"/>
                    </a:lnTo>
                    <a:lnTo>
                      <a:pt x="27" y="149"/>
                    </a:lnTo>
                    <a:lnTo>
                      <a:pt x="20" y="172"/>
                    </a:lnTo>
                    <a:lnTo>
                      <a:pt x="13" y="196"/>
                    </a:lnTo>
                    <a:lnTo>
                      <a:pt x="8" y="220"/>
                    </a:lnTo>
                    <a:lnTo>
                      <a:pt x="4" y="243"/>
                    </a:lnTo>
                    <a:lnTo>
                      <a:pt x="2" y="269"/>
                    </a:lnTo>
                    <a:lnTo>
                      <a:pt x="0" y="294"/>
                    </a:lnTo>
                    <a:lnTo>
                      <a:pt x="0" y="319"/>
                    </a:lnTo>
                    <a:lnTo>
                      <a:pt x="2" y="343"/>
                    </a:lnTo>
                    <a:lnTo>
                      <a:pt x="4" y="367"/>
                    </a:lnTo>
                    <a:lnTo>
                      <a:pt x="8" y="391"/>
                    </a:lnTo>
                    <a:lnTo>
                      <a:pt x="14" y="413"/>
                    </a:lnTo>
                    <a:lnTo>
                      <a:pt x="21" y="436"/>
                    </a:lnTo>
                    <a:lnTo>
                      <a:pt x="30" y="457"/>
                    </a:lnTo>
                    <a:lnTo>
                      <a:pt x="40" y="476"/>
                    </a:lnTo>
                    <a:lnTo>
                      <a:pt x="62" y="464"/>
                    </a:lnTo>
                    <a:lnTo>
                      <a:pt x="52" y="446"/>
                    </a:lnTo>
                    <a:lnTo>
                      <a:pt x="44" y="427"/>
                    </a:lnTo>
                    <a:lnTo>
                      <a:pt x="37" y="407"/>
                    </a:lnTo>
                    <a:lnTo>
                      <a:pt x="32" y="386"/>
                    </a:lnTo>
                    <a:lnTo>
                      <a:pt x="28" y="363"/>
                    </a:lnTo>
                    <a:lnTo>
                      <a:pt x="25" y="340"/>
                    </a:lnTo>
                    <a:lnTo>
                      <a:pt x="24" y="318"/>
                    </a:lnTo>
                    <a:lnTo>
                      <a:pt x="24" y="294"/>
                    </a:lnTo>
                    <a:lnTo>
                      <a:pt x="25" y="271"/>
                    </a:lnTo>
                    <a:lnTo>
                      <a:pt x="29" y="247"/>
                    </a:lnTo>
                    <a:lnTo>
                      <a:pt x="32" y="224"/>
                    </a:lnTo>
                    <a:lnTo>
                      <a:pt x="37" y="201"/>
                    </a:lnTo>
                    <a:lnTo>
                      <a:pt x="43" y="179"/>
                    </a:lnTo>
                    <a:lnTo>
                      <a:pt x="49" y="157"/>
                    </a:lnTo>
                    <a:lnTo>
                      <a:pt x="57" y="137"/>
                    </a:lnTo>
                    <a:lnTo>
                      <a:pt x="67" y="118"/>
                    </a:lnTo>
                    <a:lnTo>
                      <a:pt x="76" y="100"/>
                    </a:lnTo>
                    <a:lnTo>
                      <a:pt x="87" y="83"/>
                    </a:lnTo>
                    <a:lnTo>
                      <a:pt x="97" y="68"/>
                    </a:lnTo>
                    <a:lnTo>
                      <a:pt x="110" y="55"/>
                    </a:lnTo>
                    <a:lnTo>
                      <a:pt x="122" y="45"/>
                    </a:lnTo>
                    <a:lnTo>
                      <a:pt x="135" y="36"/>
                    </a:lnTo>
                    <a:lnTo>
                      <a:pt x="142" y="33"/>
                    </a:lnTo>
                    <a:lnTo>
                      <a:pt x="149" y="29"/>
                    </a:lnTo>
                    <a:lnTo>
                      <a:pt x="154" y="27"/>
                    </a:lnTo>
                    <a:lnTo>
                      <a:pt x="161" y="26"/>
                    </a:lnTo>
                    <a:lnTo>
                      <a:pt x="169" y="23"/>
                    </a:lnTo>
                    <a:lnTo>
                      <a:pt x="176" y="23"/>
                    </a:lnTo>
                    <a:lnTo>
                      <a:pt x="183" y="23"/>
                    </a:lnTo>
                    <a:lnTo>
                      <a:pt x="190" y="23"/>
                    </a:lnTo>
                    <a:lnTo>
                      <a:pt x="198" y="26"/>
                    </a:lnTo>
                    <a:lnTo>
                      <a:pt x="206" y="27"/>
                    </a:lnTo>
                    <a:lnTo>
                      <a:pt x="214" y="30"/>
                    </a:lnTo>
                    <a:lnTo>
                      <a:pt x="222" y="34"/>
                    </a:lnTo>
                    <a:lnTo>
                      <a:pt x="229" y="38"/>
                    </a:lnTo>
                    <a:lnTo>
                      <a:pt x="237" y="43"/>
                    </a:lnTo>
                    <a:lnTo>
                      <a:pt x="247" y="49"/>
                    </a:lnTo>
                    <a:lnTo>
                      <a:pt x="255" y="55"/>
                    </a:lnTo>
                    <a:lnTo>
                      <a:pt x="264" y="63"/>
                    </a:lnTo>
                    <a:lnTo>
                      <a:pt x="273" y="72"/>
                    </a:lnTo>
                    <a:lnTo>
                      <a:pt x="282" y="83"/>
                    </a:lnTo>
                    <a:lnTo>
                      <a:pt x="291" y="93"/>
                    </a:lnTo>
                    <a:lnTo>
                      <a:pt x="291" y="93"/>
                    </a:lnTo>
                    <a:lnTo>
                      <a:pt x="310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462480" y="3910320"/>
                <a:ext cx="52200" cy="10332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69" y="11"/>
                    </a:moveTo>
                    <a:lnTo>
                      <a:pt x="156" y="0"/>
                    </a:lnTo>
                    <a:lnTo>
                      <a:pt x="141" y="0"/>
                    </a:lnTo>
                    <a:lnTo>
                      <a:pt x="128" y="1"/>
                    </a:lnTo>
                    <a:lnTo>
                      <a:pt x="114" y="3"/>
                    </a:lnTo>
                    <a:lnTo>
                      <a:pt x="101" y="6"/>
                    </a:lnTo>
                    <a:lnTo>
                      <a:pt x="89" y="8"/>
                    </a:lnTo>
                    <a:lnTo>
                      <a:pt x="79" y="11"/>
                    </a:lnTo>
                    <a:lnTo>
                      <a:pt x="68" y="16"/>
                    </a:lnTo>
                    <a:lnTo>
                      <a:pt x="59" y="22"/>
                    </a:lnTo>
                    <a:lnTo>
                      <a:pt x="50" y="26"/>
                    </a:lnTo>
                    <a:lnTo>
                      <a:pt x="43" y="33"/>
                    </a:lnTo>
                    <a:lnTo>
                      <a:pt x="36" y="39"/>
                    </a:lnTo>
                    <a:lnTo>
                      <a:pt x="30" y="46"/>
                    </a:lnTo>
                    <a:lnTo>
                      <a:pt x="24" y="54"/>
                    </a:lnTo>
                    <a:lnTo>
                      <a:pt x="19" y="61"/>
                    </a:lnTo>
                    <a:lnTo>
                      <a:pt x="16" y="69"/>
                    </a:lnTo>
                    <a:lnTo>
                      <a:pt x="13" y="79"/>
                    </a:lnTo>
                    <a:lnTo>
                      <a:pt x="8" y="95"/>
                    </a:lnTo>
                    <a:lnTo>
                      <a:pt x="6" y="113"/>
                    </a:lnTo>
                    <a:lnTo>
                      <a:pt x="5" y="131"/>
                    </a:lnTo>
                    <a:lnTo>
                      <a:pt x="6" y="149"/>
                    </a:lnTo>
                    <a:lnTo>
                      <a:pt x="8" y="168"/>
                    </a:lnTo>
                    <a:lnTo>
                      <a:pt x="13" y="186"/>
                    </a:lnTo>
                    <a:lnTo>
                      <a:pt x="16" y="204"/>
                    </a:lnTo>
                    <a:lnTo>
                      <a:pt x="22" y="221"/>
                    </a:lnTo>
                    <a:lnTo>
                      <a:pt x="43" y="280"/>
                    </a:lnTo>
                    <a:lnTo>
                      <a:pt x="56" y="313"/>
                    </a:lnTo>
                    <a:lnTo>
                      <a:pt x="56" y="311"/>
                    </a:lnTo>
                    <a:lnTo>
                      <a:pt x="56" y="308"/>
                    </a:lnTo>
                    <a:lnTo>
                      <a:pt x="66" y="301"/>
                    </a:lnTo>
                    <a:lnTo>
                      <a:pt x="73" y="302"/>
                    </a:lnTo>
                    <a:lnTo>
                      <a:pt x="71" y="301"/>
                    </a:lnTo>
                    <a:lnTo>
                      <a:pt x="66" y="296"/>
                    </a:lnTo>
                    <a:lnTo>
                      <a:pt x="48" y="275"/>
                    </a:lnTo>
                    <a:lnTo>
                      <a:pt x="19" y="238"/>
                    </a:lnTo>
                    <a:lnTo>
                      <a:pt x="0" y="253"/>
                    </a:lnTo>
                    <a:lnTo>
                      <a:pt x="30" y="289"/>
                    </a:lnTo>
                    <a:lnTo>
                      <a:pt x="48" y="311"/>
                    </a:lnTo>
                    <a:lnTo>
                      <a:pt x="55" y="318"/>
                    </a:lnTo>
                    <a:lnTo>
                      <a:pt x="59" y="323"/>
                    </a:lnTo>
                    <a:lnTo>
                      <a:pt x="68" y="325"/>
                    </a:lnTo>
                    <a:lnTo>
                      <a:pt x="79" y="317"/>
                    </a:lnTo>
                    <a:lnTo>
                      <a:pt x="80" y="310"/>
                    </a:lnTo>
                    <a:lnTo>
                      <a:pt x="79" y="305"/>
                    </a:lnTo>
                    <a:lnTo>
                      <a:pt x="66" y="271"/>
                    </a:lnTo>
                    <a:lnTo>
                      <a:pt x="44" y="214"/>
                    </a:lnTo>
                    <a:lnTo>
                      <a:pt x="40" y="197"/>
                    </a:lnTo>
                    <a:lnTo>
                      <a:pt x="35" y="181"/>
                    </a:lnTo>
                    <a:lnTo>
                      <a:pt x="32" y="164"/>
                    </a:lnTo>
                    <a:lnTo>
                      <a:pt x="30" y="147"/>
                    </a:lnTo>
                    <a:lnTo>
                      <a:pt x="29" y="131"/>
                    </a:lnTo>
                    <a:lnTo>
                      <a:pt x="30" y="115"/>
                    </a:lnTo>
                    <a:lnTo>
                      <a:pt x="32" y="100"/>
                    </a:lnTo>
                    <a:lnTo>
                      <a:pt x="35" y="85"/>
                    </a:lnTo>
                    <a:lnTo>
                      <a:pt x="38" y="79"/>
                    </a:lnTo>
                    <a:lnTo>
                      <a:pt x="41" y="73"/>
                    </a:lnTo>
                    <a:lnTo>
                      <a:pt x="44" y="67"/>
                    </a:lnTo>
                    <a:lnTo>
                      <a:pt x="49" y="61"/>
                    </a:lnTo>
                    <a:lnTo>
                      <a:pt x="54" y="56"/>
                    </a:lnTo>
                    <a:lnTo>
                      <a:pt x="58" y="51"/>
                    </a:lnTo>
                    <a:lnTo>
                      <a:pt x="65" y="47"/>
                    </a:lnTo>
                    <a:lnTo>
                      <a:pt x="72" y="42"/>
                    </a:lnTo>
                    <a:lnTo>
                      <a:pt x="79" y="38"/>
                    </a:lnTo>
                    <a:lnTo>
                      <a:pt x="87" y="34"/>
                    </a:lnTo>
                    <a:lnTo>
                      <a:pt x="96" y="32"/>
                    </a:lnTo>
                    <a:lnTo>
                      <a:pt x="106" y="28"/>
                    </a:lnTo>
                    <a:lnTo>
                      <a:pt x="117" y="26"/>
                    </a:lnTo>
                    <a:lnTo>
                      <a:pt x="130" y="25"/>
                    </a:lnTo>
                    <a:lnTo>
                      <a:pt x="142" y="24"/>
                    </a:lnTo>
                    <a:lnTo>
                      <a:pt x="156" y="24"/>
                    </a:lnTo>
                    <a:lnTo>
                      <a:pt x="145" y="11"/>
                    </a:lnTo>
                    <a:lnTo>
                      <a:pt x="156" y="24"/>
                    </a:lnTo>
                    <a:lnTo>
                      <a:pt x="162" y="23"/>
                    </a:lnTo>
                    <a:lnTo>
                      <a:pt x="165" y="20"/>
                    </a:lnTo>
                    <a:lnTo>
                      <a:pt x="168" y="16"/>
                    </a:lnTo>
                    <a:lnTo>
                      <a:pt x="169" y="11"/>
                    </a:lnTo>
                    <a:lnTo>
                      <a:pt x="168" y="7"/>
                    </a:lnTo>
                    <a:lnTo>
                      <a:pt x="165" y="3"/>
                    </a:lnTo>
                    <a:lnTo>
                      <a:pt x="162" y="1"/>
                    </a:lnTo>
                    <a:lnTo>
                      <a:pt x="156" y="0"/>
                    </a:lnTo>
                    <a:lnTo>
                      <a:pt x="169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484440" y="3915000"/>
                <a:ext cx="30240" cy="120600"/>
              </a:xfrm>
              <a:custGeom>
                <a:avLst/>
                <a:gdLst/>
                <a:ahLst/>
                <a:rect l="l" t="t" r="r" b="b"/>
                <a:pathLst>
                  <a:path w="98" h="380">
                    <a:moveTo>
                      <a:pt x="7" y="357"/>
                    </a:moveTo>
                    <a:lnTo>
                      <a:pt x="21" y="375"/>
                    </a:lnTo>
                    <a:lnTo>
                      <a:pt x="35" y="355"/>
                    </a:lnTo>
                    <a:lnTo>
                      <a:pt x="46" y="334"/>
                    </a:lnTo>
                    <a:lnTo>
                      <a:pt x="57" y="313"/>
                    </a:lnTo>
                    <a:lnTo>
                      <a:pt x="66" y="290"/>
                    </a:lnTo>
                    <a:lnTo>
                      <a:pt x="73" y="267"/>
                    </a:lnTo>
                    <a:lnTo>
                      <a:pt x="79" y="244"/>
                    </a:lnTo>
                    <a:lnTo>
                      <a:pt x="84" y="221"/>
                    </a:lnTo>
                    <a:lnTo>
                      <a:pt x="89" y="198"/>
                    </a:lnTo>
                    <a:lnTo>
                      <a:pt x="92" y="174"/>
                    </a:lnTo>
                    <a:lnTo>
                      <a:pt x="94" y="149"/>
                    </a:lnTo>
                    <a:lnTo>
                      <a:pt x="95" y="125"/>
                    </a:lnTo>
                    <a:lnTo>
                      <a:pt x="97" y="100"/>
                    </a:lnTo>
                    <a:lnTo>
                      <a:pt x="98" y="50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50"/>
                    </a:lnTo>
                    <a:lnTo>
                      <a:pt x="73" y="100"/>
                    </a:lnTo>
                    <a:lnTo>
                      <a:pt x="71" y="123"/>
                    </a:lnTo>
                    <a:lnTo>
                      <a:pt x="69" y="147"/>
                    </a:lnTo>
                    <a:lnTo>
                      <a:pt x="67" y="170"/>
                    </a:lnTo>
                    <a:lnTo>
                      <a:pt x="65" y="194"/>
                    </a:lnTo>
                    <a:lnTo>
                      <a:pt x="60" y="217"/>
                    </a:lnTo>
                    <a:lnTo>
                      <a:pt x="56" y="239"/>
                    </a:lnTo>
                    <a:lnTo>
                      <a:pt x="50" y="260"/>
                    </a:lnTo>
                    <a:lnTo>
                      <a:pt x="43" y="282"/>
                    </a:lnTo>
                    <a:lnTo>
                      <a:pt x="35" y="302"/>
                    </a:lnTo>
                    <a:lnTo>
                      <a:pt x="25" y="323"/>
                    </a:lnTo>
                    <a:lnTo>
                      <a:pt x="14" y="342"/>
                    </a:lnTo>
                    <a:lnTo>
                      <a:pt x="2" y="361"/>
                    </a:lnTo>
                    <a:lnTo>
                      <a:pt x="16" y="379"/>
                    </a:lnTo>
                    <a:lnTo>
                      <a:pt x="2" y="361"/>
                    </a:lnTo>
                    <a:lnTo>
                      <a:pt x="0" y="366"/>
                    </a:lnTo>
                    <a:lnTo>
                      <a:pt x="0" y="371"/>
                    </a:lnTo>
                    <a:lnTo>
                      <a:pt x="1" y="374"/>
                    </a:lnTo>
                    <a:lnTo>
                      <a:pt x="4" y="378"/>
                    </a:lnTo>
                    <a:lnTo>
                      <a:pt x="8" y="380"/>
                    </a:lnTo>
                    <a:lnTo>
                      <a:pt x="12" y="380"/>
                    </a:lnTo>
                    <a:lnTo>
                      <a:pt x="17" y="379"/>
                    </a:lnTo>
                    <a:lnTo>
                      <a:pt x="21" y="375"/>
                    </a:lnTo>
                    <a:lnTo>
                      <a:pt x="7" y="3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803840" y="4053240"/>
                <a:ext cx="237960" cy="176040"/>
              </a:xfrm>
              <a:custGeom>
                <a:avLst/>
                <a:gdLst/>
                <a:ahLst/>
                <a:rect l="l" t="t" r="r" b="b"/>
                <a:pathLst>
                  <a:path w="748" h="552">
                    <a:moveTo>
                      <a:pt x="604" y="363"/>
                    </a:moveTo>
                    <a:lnTo>
                      <a:pt x="586" y="365"/>
                    </a:lnTo>
                    <a:lnTo>
                      <a:pt x="568" y="367"/>
                    </a:lnTo>
                    <a:lnTo>
                      <a:pt x="550" y="369"/>
                    </a:lnTo>
                    <a:lnTo>
                      <a:pt x="530" y="373"/>
                    </a:lnTo>
                    <a:lnTo>
                      <a:pt x="494" y="381"/>
                    </a:lnTo>
                    <a:lnTo>
                      <a:pt x="455" y="391"/>
                    </a:lnTo>
                    <a:lnTo>
                      <a:pt x="417" y="404"/>
                    </a:lnTo>
                    <a:lnTo>
                      <a:pt x="379" y="416"/>
                    </a:lnTo>
                    <a:lnTo>
                      <a:pt x="340" y="431"/>
                    </a:lnTo>
                    <a:lnTo>
                      <a:pt x="301" y="446"/>
                    </a:lnTo>
                    <a:lnTo>
                      <a:pt x="225" y="477"/>
                    </a:lnTo>
                    <a:lnTo>
                      <a:pt x="148" y="506"/>
                    </a:lnTo>
                    <a:lnTo>
                      <a:pt x="111" y="520"/>
                    </a:lnTo>
                    <a:lnTo>
                      <a:pt x="73" y="531"/>
                    </a:lnTo>
                    <a:lnTo>
                      <a:pt x="37" y="543"/>
                    </a:lnTo>
                    <a:lnTo>
                      <a:pt x="0" y="552"/>
                    </a:lnTo>
                    <a:lnTo>
                      <a:pt x="13" y="535"/>
                    </a:lnTo>
                    <a:lnTo>
                      <a:pt x="28" y="515"/>
                    </a:lnTo>
                    <a:lnTo>
                      <a:pt x="44" y="496"/>
                    </a:lnTo>
                    <a:lnTo>
                      <a:pt x="63" y="475"/>
                    </a:lnTo>
                    <a:lnTo>
                      <a:pt x="82" y="455"/>
                    </a:lnTo>
                    <a:lnTo>
                      <a:pt x="104" y="434"/>
                    </a:lnTo>
                    <a:lnTo>
                      <a:pt x="127" y="414"/>
                    </a:lnTo>
                    <a:lnTo>
                      <a:pt x="151" y="395"/>
                    </a:lnTo>
                    <a:lnTo>
                      <a:pt x="175" y="375"/>
                    </a:lnTo>
                    <a:lnTo>
                      <a:pt x="200" y="358"/>
                    </a:lnTo>
                    <a:lnTo>
                      <a:pt x="226" y="342"/>
                    </a:lnTo>
                    <a:lnTo>
                      <a:pt x="251" y="328"/>
                    </a:lnTo>
                    <a:lnTo>
                      <a:pt x="265" y="323"/>
                    </a:lnTo>
                    <a:lnTo>
                      <a:pt x="277" y="318"/>
                    </a:lnTo>
                    <a:lnTo>
                      <a:pt x="290" y="314"/>
                    </a:lnTo>
                    <a:lnTo>
                      <a:pt x="303" y="309"/>
                    </a:lnTo>
                    <a:lnTo>
                      <a:pt x="316" y="307"/>
                    </a:lnTo>
                    <a:lnTo>
                      <a:pt x="328" y="304"/>
                    </a:lnTo>
                    <a:lnTo>
                      <a:pt x="341" y="303"/>
                    </a:lnTo>
                    <a:lnTo>
                      <a:pt x="354" y="302"/>
                    </a:lnTo>
                    <a:lnTo>
                      <a:pt x="333" y="301"/>
                    </a:lnTo>
                    <a:lnTo>
                      <a:pt x="313" y="299"/>
                    </a:lnTo>
                    <a:lnTo>
                      <a:pt x="291" y="293"/>
                    </a:lnTo>
                    <a:lnTo>
                      <a:pt x="268" y="287"/>
                    </a:lnTo>
                    <a:lnTo>
                      <a:pt x="246" y="278"/>
                    </a:lnTo>
                    <a:lnTo>
                      <a:pt x="224" y="269"/>
                    </a:lnTo>
                    <a:lnTo>
                      <a:pt x="202" y="258"/>
                    </a:lnTo>
                    <a:lnTo>
                      <a:pt x="181" y="245"/>
                    </a:lnTo>
                    <a:lnTo>
                      <a:pt x="162" y="232"/>
                    </a:lnTo>
                    <a:lnTo>
                      <a:pt x="145" y="217"/>
                    </a:lnTo>
                    <a:lnTo>
                      <a:pt x="129" y="201"/>
                    </a:lnTo>
                    <a:lnTo>
                      <a:pt x="115" y="184"/>
                    </a:lnTo>
                    <a:lnTo>
                      <a:pt x="110" y="176"/>
                    </a:lnTo>
                    <a:lnTo>
                      <a:pt x="104" y="167"/>
                    </a:lnTo>
                    <a:lnTo>
                      <a:pt x="99" y="157"/>
                    </a:lnTo>
                    <a:lnTo>
                      <a:pt x="96" y="148"/>
                    </a:lnTo>
                    <a:lnTo>
                      <a:pt x="93" y="139"/>
                    </a:lnTo>
                    <a:lnTo>
                      <a:pt x="90" y="129"/>
                    </a:lnTo>
                    <a:lnTo>
                      <a:pt x="89" y="120"/>
                    </a:lnTo>
                    <a:lnTo>
                      <a:pt x="88" y="111"/>
                    </a:lnTo>
                    <a:lnTo>
                      <a:pt x="144" y="111"/>
                    </a:lnTo>
                    <a:lnTo>
                      <a:pt x="197" y="112"/>
                    </a:lnTo>
                    <a:lnTo>
                      <a:pt x="224" y="113"/>
                    </a:lnTo>
                    <a:lnTo>
                      <a:pt x="249" y="115"/>
                    </a:lnTo>
                    <a:lnTo>
                      <a:pt x="274" y="119"/>
                    </a:lnTo>
                    <a:lnTo>
                      <a:pt x="299" y="123"/>
                    </a:lnTo>
                    <a:lnTo>
                      <a:pt x="324" y="129"/>
                    </a:lnTo>
                    <a:lnTo>
                      <a:pt x="348" y="136"/>
                    </a:lnTo>
                    <a:lnTo>
                      <a:pt x="372" y="144"/>
                    </a:lnTo>
                    <a:lnTo>
                      <a:pt x="396" y="154"/>
                    </a:lnTo>
                    <a:lnTo>
                      <a:pt x="418" y="165"/>
                    </a:lnTo>
                    <a:lnTo>
                      <a:pt x="442" y="180"/>
                    </a:lnTo>
                    <a:lnTo>
                      <a:pt x="464" y="196"/>
                    </a:lnTo>
                    <a:lnTo>
                      <a:pt x="487" y="214"/>
                    </a:lnTo>
                    <a:lnTo>
                      <a:pt x="474" y="171"/>
                    </a:lnTo>
                    <a:lnTo>
                      <a:pt x="466" y="133"/>
                    </a:lnTo>
                    <a:lnTo>
                      <a:pt x="463" y="102"/>
                    </a:lnTo>
                    <a:lnTo>
                      <a:pt x="464" y="74"/>
                    </a:lnTo>
                    <a:lnTo>
                      <a:pt x="468" y="51"/>
                    </a:lnTo>
                    <a:lnTo>
                      <a:pt x="475" y="33"/>
                    </a:lnTo>
                    <a:lnTo>
                      <a:pt x="486" y="19"/>
                    </a:lnTo>
                    <a:lnTo>
                      <a:pt x="498" y="9"/>
                    </a:lnTo>
                    <a:lnTo>
                      <a:pt x="514" y="2"/>
                    </a:lnTo>
                    <a:lnTo>
                      <a:pt x="531" y="0"/>
                    </a:lnTo>
                    <a:lnTo>
                      <a:pt x="550" y="0"/>
                    </a:lnTo>
                    <a:lnTo>
                      <a:pt x="569" y="4"/>
                    </a:lnTo>
                    <a:lnTo>
                      <a:pt x="588" y="10"/>
                    </a:lnTo>
                    <a:lnTo>
                      <a:pt x="609" y="19"/>
                    </a:lnTo>
                    <a:lnTo>
                      <a:pt x="629" y="31"/>
                    </a:lnTo>
                    <a:lnTo>
                      <a:pt x="650" y="45"/>
                    </a:lnTo>
                    <a:lnTo>
                      <a:pt x="668" y="59"/>
                    </a:lnTo>
                    <a:lnTo>
                      <a:pt x="686" y="76"/>
                    </a:lnTo>
                    <a:lnTo>
                      <a:pt x="703" y="96"/>
                    </a:lnTo>
                    <a:lnTo>
                      <a:pt x="717" y="115"/>
                    </a:lnTo>
                    <a:lnTo>
                      <a:pt x="730" y="136"/>
                    </a:lnTo>
                    <a:lnTo>
                      <a:pt x="739" y="157"/>
                    </a:lnTo>
                    <a:lnTo>
                      <a:pt x="746" y="179"/>
                    </a:lnTo>
                    <a:lnTo>
                      <a:pt x="748" y="202"/>
                    </a:lnTo>
                    <a:lnTo>
                      <a:pt x="748" y="225"/>
                    </a:lnTo>
                    <a:lnTo>
                      <a:pt x="742" y="246"/>
                    </a:lnTo>
                    <a:lnTo>
                      <a:pt x="733" y="268"/>
                    </a:lnTo>
                    <a:lnTo>
                      <a:pt x="718" y="290"/>
                    </a:lnTo>
                    <a:lnTo>
                      <a:pt x="699" y="310"/>
                    </a:lnTo>
                    <a:lnTo>
                      <a:pt x="674" y="328"/>
                    </a:lnTo>
                    <a:lnTo>
                      <a:pt x="642" y="347"/>
                    </a:lnTo>
                    <a:lnTo>
                      <a:pt x="604" y="363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800600" y="4164120"/>
                <a:ext cx="195120" cy="68400"/>
              </a:xfrm>
              <a:custGeom>
                <a:avLst/>
                <a:gdLst/>
                <a:ahLst/>
                <a:rect l="l" t="t" r="r" b="b"/>
                <a:pathLst>
                  <a:path w="617" h="212">
                    <a:moveTo>
                      <a:pt x="2" y="194"/>
                    </a:moveTo>
                    <a:lnTo>
                      <a:pt x="15" y="212"/>
                    </a:lnTo>
                    <a:lnTo>
                      <a:pt x="52" y="203"/>
                    </a:lnTo>
                    <a:lnTo>
                      <a:pt x="89" y="193"/>
                    </a:lnTo>
                    <a:lnTo>
                      <a:pt x="126" y="180"/>
                    </a:lnTo>
                    <a:lnTo>
                      <a:pt x="165" y="167"/>
                    </a:lnTo>
                    <a:lnTo>
                      <a:pt x="241" y="137"/>
                    </a:lnTo>
                    <a:lnTo>
                      <a:pt x="318" y="106"/>
                    </a:lnTo>
                    <a:lnTo>
                      <a:pt x="356" y="91"/>
                    </a:lnTo>
                    <a:lnTo>
                      <a:pt x="395" y="77"/>
                    </a:lnTo>
                    <a:lnTo>
                      <a:pt x="433" y="64"/>
                    </a:lnTo>
                    <a:lnTo>
                      <a:pt x="470" y="53"/>
                    </a:lnTo>
                    <a:lnTo>
                      <a:pt x="508" y="42"/>
                    </a:lnTo>
                    <a:lnTo>
                      <a:pt x="546" y="33"/>
                    </a:lnTo>
                    <a:lnTo>
                      <a:pt x="564" y="30"/>
                    </a:lnTo>
                    <a:lnTo>
                      <a:pt x="581" y="28"/>
                    </a:lnTo>
                    <a:lnTo>
                      <a:pt x="599" y="25"/>
                    </a:lnTo>
                    <a:lnTo>
                      <a:pt x="617" y="24"/>
                    </a:lnTo>
                    <a:lnTo>
                      <a:pt x="616" y="0"/>
                    </a:lnTo>
                    <a:lnTo>
                      <a:pt x="597" y="1"/>
                    </a:lnTo>
                    <a:lnTo>
                      <a:pt x="579" y="4"/>
                    </a:lnTo>
                    <a:lnTo>
                      <a:pt x="559" y="7"/>
                    </a:lnTo>
                    <a:lnTo>
                      <a:pt x="540" y="10"/>
                    </a:lnTo>
                    <a:lnTo>
                      <a:pt x="502" y="18"/>
                    </a:lnTo>
                    <a:lnTo>
                      <a:pt x="464" y="29"/>
                    </a:lnTo>
                    <a:lnTo>
                      <a:pt x="425" y="41"/>
                    </a:lnTo>
                    <a:lnTo>
                      <a:pt x="387" y="54"/>
                    </a:lnTo>
                    <a:lnTo>
                      <a:pt x="348" y="69"/>
                    </a:lnTo>
                    <a:lnTo>
                      <a:pt x="310" y="83"/>
                    </a:lnTo>
                    <a:lnTo>
                      <a:pt x="232" y="114"/>
                    </a:lnTo>
                    <a:lnTo>
                      <a:pt x="156" y="144"/>
                    </a:lnTo>
                    <a:lnTo>
                      <a:pt x="118" y="158"/>
                    </a:lnTo>
                    <a:lnTo>
                      <a:pt x="82" y="169"/>
                    </a:lnTo>
                    <a:lnTo>
                      <a:pt x="45" y="180"/>
                    </a:lnTo>
                    <a:lnTo>
                      <a:pt x="10" y="189"/>
                    </a:lnTo>
                    <a:lnTo>
                      <a:pt x="22" y="208"/>
                    </a:lnTo>
                    <a:lnTo>
                      <a:pt x="10" y="189"/>
                    </a:lnTo>
                    <a:lnTo>
                      <a:pt x="4" y="192"/>
                    </a:lnTo>
                    <a:lnTo>
                      <a:pt x="2" y="195"/>
                    </a:lnTo>
                    <a:lnTo>
                      <a:pt x="0" y="199"/>
                    </a:lnTo>
                    <a:lnTo>
                      <a:pt x="1" y="203"/>
                    </a:lnTo>
                    <a:lnTo>
                      <a:pt x="2" y="208"/>
                    </a:lnTo>
                    <a:lnTo>
                      <a:pt x="5" y="211"/>
                    </a:lnTo>
                    <a:lnTo>
                      <a:pt x="9" y="212"/>
                    </a:lnTo>
                    <a:lnTo>
                      <a:pt x="15" y="212"/>
                    </a:lnTo>
                    <a:lnTo>
                      <a:pt x="2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0600" y="4145400"/>
                <a:ext cx="119160" cy="85680"/>
              </a:xfrm>
              <a:custGeom>
                <a:avLst/>
                <a:gdLst/>
                <a:ahLst/>
                <a:rect l="l" t="t" r="r" b="b"/>
                <a:pathLst>
                  <a:path w="376" h="268">
                    <a:moveTo>
                      <a:pt x="364" y="24"/>
                    </a:moveTo>
                    <a:lnTo>
                      <a:pt x="364" y="0"/>
                    </a:lnTo>
                    <a:lnTo>
                      <a:pt x="350" y="0"/>
                    </a:lnTo>
                    <a:lnTo>
                      <a:pt x="336" y="1"/>
                    </a:lnTo>
                    <a:lnTo>
                      <a:pt x="324" y="3"/>
                    </a:lnTo>
                    <a:lnTo>
                      <a:pt x="310" y="7"/>
                    </a:lnTo>
                    <a:lnTo>
                      <a:pt x="296" y="11"/>
                    </a:lnTo>
                    <a:lnTo>
                      <a:pt x="283" y="16"/>
                    </a:lnTo>
                    <a:lnTo>
                      <a:pt x="269" y="21"/>
                    </a:lnTo>
                    <a:lnTo>
                      <a:pt x="255" y="27"/>
                    </a:lnTo>
                    <a:lnTo>
                      <a:pt x="229" y="41"/>
                    </a:lnTo>
                    <a:lnTo>
                      <a:pt x="203" y="57"/>
                    </a:lnTo>
                    <a:lnTo>
                      <a:pt x="178" y="75"/>
                    </a:lnTo>
                    <a:lnTo>
                      <a:pt x="153" y="93"/>
                    </a:lnTo>
                    <a:lnTo>
                      <a:pt x="129" y="114"/>
                    </a:lnTo>
                    <a:lnTo>
                      <a:pt x="106" y="134"/>
                    </a:lnTo>
                    <a:lnTo>
                      <a:pt x="84" y="155"/>
                    </a:lnTo>
                    <a:lnTo>
                      <a:pt x="64" y="176"/>
                    </a:lnTo>
                    <a:lnTo>
                      <a:pt x="44" y="197"/>
                    </a:lnTo>
                    <a:lnTo>
                      <a:pt x="28" y="218"/>
                    </a:lnTo>
                    <a:lnTo>
                      <a:pt x="13" y="236"/>
                    </a:lnTo>
                    <a:lnTo>
                      <a:pt x="0" y="254"/>
                    </a:lnTo>
                    <a:lnTo>
                      <a:pt x="20" y="268"/>
                    </a:lnTo>
                    <a:lnTo>
                      <a:pt x="32" y="251"/>
                    </a:lnTo>
                    <a:lnTo>
                      <a:pt x="47" y="232"/>
                    </a:lnTo>
                    <a:lnTo>
                      <a:pt x="63" y="213"/>
                    </a:lnTo>
                    <a:lnTo>
                      <a:pt x="81" y="192"/>
                    </a:lnTo>
                    <a:lnTo>
                      <a:pt x="101" y="172"/>
                    </a:lnTo>
                    <a:lnTo>
                      <a:pt x="122" y="151"/>
                    </a:lnTo>
                    <a:lnTo>
                      <a:pt x="145" y="132"/>
                    </a:lnTo>
                    <a:lnTo>
                      <a:pt x="168" y="113"/>
                    </a:lnTo>
                    <a:lnTo>
                      <a:pt x="191" y="94"/>
                    </a:lnTo>
                    <a:lnTo>
                      <a:pt x="217" y="77"/>
                    </a:lnTo>
                    <a:lnTo>
                      <a:pt x="242" y="62"/>
                    </a:lnTo>
                    <a:lnTo>
                      <a:pt x="267" y="49"/>
                    </a:lnTo>
                    <a:lnTo>
                      <a:pt x="279" y="43"/>
                    </a:lnTo>
                    <a:lnTo>
                      <a:pt x="292" y="39"/>
                    </a:lnTo>
                    <a:lnTo>
                      <a:pt x="304" y="34"/>
                    </a:lnTo>
                    <a:lnTo>
                      <a:pt x="316" y="31"/>
                    </a:lnTo>
                    <a:lnTo>
                      <a:pt x="328" y="27"/>
                    </a:lnTo>
                    <a:lnTo>
                      <a:pt x="340" y="25"/>
                    </a:lnTo>
                    <a:lnTo>
                      <a:pt x="352" y="24"/>
                    </a:lnTo>
                    <a:lnTo>
                      <a:pt x="364" y="24"/>
                    </a:lnTo>
                    <a:lnTo>
                      <a:pt x="364" y="0"/>
                    </a:lnTo>
                    <a:lnTo>
                      <a:pt x="364" y="24"/>
                    </a:lnTo>
                    <a:lnTo>
                      <a:pt x="369" y="23"/>
                    </a:lnTo>
                    <a:lnTo>
                      <a:pt x="373" y="20"/>
                    </a:lnTo>
                    <a:lnTo>
                      <a:pt x="375" y="16"/>
                    </a:lnTo>
                    <a:lnTo>
                      <a:pt x="376" y="11"/>
                    </a:lnTo>
                    <a:lnTo>
                      <a:pt x="375" y="7"/>
                    </a:lnTo>
                    <a:lnTo>
                      <a:pt x="373" y="3"/>
                    </a:lnTo>
                    <a:lnTo>
                      <a:pt x="369" y="0"/>
                    </a:lnTo>
                    <a:lnTo>
                      <a:pt x="364" y="0"/>
                    </a:lnTo>
                    <a:lnTo>
                      <a:pt x="364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29040" y="4084920"/>
                <a:ext cx="87480" cy="68400"/>
              </a:xfrm>
              <a:custGeom>
                <a:avLst/>
                <a:gdLst/>
                <a:ahLst/>
                <a:rect l="l" t="t" r="r" b="b"/>
                <a:pathLst>
                  <a:path w="277" h="217">
                    <a:moveTo>
                      <a:pt x="11" y="0"/>
                    </a:moveTo>
                    <a:lnTo>
                      <a:pt x="0" y="13"/>
                    </a:lnTo>
                    <a:lnTo>
                      <a:pt x="0" y="23"/>
                    </a:lnTo>
                    <a:lnTo>
                      <a:pt x="2" y="33"/>
                    </a:lnTo>
                    <a:lnTo>
                      <a:pt x="4" y="45"/>
                    </a:lnTo>
                    <a:lnTo>
                      <a:pt x="8" y="55"/>
                    </a:lnTo>
                    <a:lnTo>
                      <a:pt x="11" y="64"/>
                    </a:lnTo>
                    <a:lnTo>
                      <a:pt x="17" y="74"/>
                    </a:lnTo>
                    <a:lnTo>
                      <a:pt x="22" y="83"/>
                    </a:lnTo>
                    <a:lnTo>
                      <a:pt x="29" y="94"/>
                    </a:lnTo>
                    <a:lnTo>
                      <a:pt x="43" y="111"/>
                    </a:lnTo>
                    <a:lnTo>
                      <a:pt x="60" y="128"/>
                    </a:lnTo>
                    <a:lnTo>
                      <a:pt x="78" y="143"/>
                    </a:lnTo>
                    <a:lnTo>
                      <a:pt x="99" y="157"/>
                    </a:lnTo>
                    <a:lnTo>
                      <a:pt x="119" y="170"/>
                    </a:lnTo>
                    <a:lnTo>
                      <a:pt x="142" y="181"/>
                    </a:lnTo>
                    <a:lnTo>
                      <a:pt x="165" y="192"/>
                    </a:lnTo>
                    <a:lnTo>
                      <a:pt x="188" y="201"/>
                    </a:lnTo>
                    <a:lnTo>
                      <a:pt x="210" y="208"/>
                    </a:lnTo>
                    <a:lnTo>
                      <a:pt x="233" y="212"/>
                    </a:lnTo>
                    <a:lnTo>
                      <a:pt x="255" y="216"/>
                    </a:lnTo>
                    <a:lnTo>
                      <a:pt x="277" y="217"/>
                    </a:lnTo>
                    <a:lnTo>
                      <a:pt x="277" y="193"/>
                    </a:lnTo>
                    <a:lnTo>
                      <a:pt x="257" y="192"/>
                    </a:lnTo>
                    <a:lnTo>
                      <a:pt x="238" y="188"/>
                    </a:lnTo>
                    <a:lnTo>
                      <a:pt x="216" y="184"/>
                    </a:lnTo>
                    <a:lnTo>
                      <a:pt x="194" y="178"/>
                    </a:lnTo>
                    <a:lnTo>
                      <a:pt x="174" y="170"/>
                    </a:lnTo>
                    <a:lnTo>
                      <a:pt x="152" y="160"/>
                    </a:lnTo>
                    <a:lnTo>
                      <a:pt x="132" y="149"/>
                    </a:lnTo>
                    <a:lnTo>
                      <a:pt x="111" y="137"/>
                    </a:lnTo>
                    <a:lnTo>
                      <a:pt x="93" y="124"/>
                    </a:lnTo>
                    <a:lnTo>
                      <a:pt x="76" y="110"/>
                    </a:lnTo>
                    <a:lnTo>
                      <a:pt x="61" y="95"/>
                    </a:lnTo>
                    <a:lnTo>
                      <a:pt x="47" y="79"/>
                    </a:lnTo>
                    <a:lnTo>
                      <a:pt x="43" y="71"/>
                    </a:lnTo>
                    <a:lnTo>
                      <a:pt x="37" y="63"/>
                    </a:lnTo>
                    <a:lnTo>
                      <a:pt x="34" y="55"/>
                    </a:lnTo>
                    <a:lnTo>
                      <a:pt x="30" y="46"/>
                    </a:lnTo>
                    <a:lnTo>
                      <a:pt x="27" y="38"/>
                    </a:lnTo>
                    <a:lnTo>
                      <a:pt x="25" y="29"/>
                    </a:lnTo>
                    <a:lnTo>
                      <a:pt x="24" y="21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832280" y="408492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387" y="120"/>
                    </a:moveTo>
                    <a:lnTo>
                      <a:pt x="407" y="107"/>
                    </a:lnTo>
                    <a:lnTo>
                      <a:pt x="384" y="88"/>
                    </a:lnTo>
                    <a:lnTo>
                      <a:pt x="360" y="72"/>
                    </a:lnTo>
                    <a:lnTo>
                      <a:pt x="337" y="57"/>
                    </a:lnTo>
                    <a:lnTo>
                      <a:pt x="313" y="45"/>
                    </a:lnTo>
                    <a:lnTo>
                      <a:pt x="288" y="34"/>
                    </a:lnTo>
                    <a:lnTo>
                      <a:pt x="264" y="26"/>
                    </a:lnTo>
                    <a:lnTo>
                      <a:pt x="239" y="18"/>
                    </a:lnTo>
                    <a:lnTo>
                      <a:pt x="213" y="13"/>
                    </a:lnTo>
                    <a:lnTo>
                      <a:pt x="188" y="9"/>
                    </a:lnTo>
                    <a:lnTo>
                      <a:pt x="162" y="6"/>
                    </a:lnTo>
                    <a:lnTo>
                      <a:pt x="136" y="4"/>
                    </a:lnTo>
                    <a:lnTo>
                      <a:pt x="109" y="1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6" y="24"/>
                    </a:lnTo>
                    <a:lnTo>
                      <a:pt x="108" y="26"/>
                    </a:lnTo>
                    <a:lnTo>
                      <a:pt x="134" y="27"/>
                    </a:lnTo>
                    <a:lnTo>
                      <a:pt x="160" y="30"/>
                    </a:lnTo>
                    <a:lnTo>
                      <a:pt x="185" y="33"/>
                    </a:lnTo>
                    <a:lnTo>
                      <a:pt x="209" y="37"/>
                    </a:lnTo>
                    <a:lnTo>
                      <a:pt x="232" y="42"/>
                    </a:lnTo>
                    <a:lnTo>
                      <a:pt x="256" y="49"/>
                    </a:lnTo>
                    <a:lnTo>
                      <a:pt x="280" y="57"/>
                    </a:lnTo>
                    <a:lnTo>
                      <a:pt x="303" y="67"/>
                    </a:lnTo>
                    <a:lnTo>
                      <a:pt x="325" y="79"/>
                    </a:lnTo>
                    <a:lnTo>
                      <a:pt x="348" y="91"/>
                    </a:lnTo>
                    <a:lnTo>
                      <a:pt x="369" y="107"/>
                    </a:lnTo>
                    <a:lnTo>
                      <a:pt x="391" y="126"/>
                    </a:lnTo>
                    <a:lnTo>
                      <a:pt x="410" y="112"/>
                    </a:lnTo>
                    <a:lnTo>
                      <a:pt x="391" y="126"/>
                    </a:lnTo>
                    <a:lnTo>
                      <a:pt x="395" y="128"/>
                    </a:lnTo>
                    <a:lnTo>
                      <a:pt x="400" y="128"/>
                    </a:lnTo>
                    <a:lnTo>
                      <a:pt x="405" y="127"/>
                    </a:lnTo>
                    <a:lnTo>
                      <a:pt x="408" y="124"/>
                    </a:lnTo>
                    <a:lnTo>
                      <a:pt x="410" y="120"/>
                    </a:lnTo>
                    <a:lnTo>
                      <a:pt x="411" y="116"/>
                    </a:lnTo>
                    <a:lnTo>
                      <a:pt x="410" y="112"/>
                    </a:lnTo>
                    <a:lnTo>
                      <a:pt x="407" y="107"/>
                    </a:lnTo>
                    <a:lnTo>
                      <a:pt x="387" y="1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946760" y="4050000"/>
                <a:ext cx="98280" cy="122040"/>
              </a:xfrm>
              <a:custGeom>
                <a:avLst/>
                <a:gdLst/>
                <a:ahLst/>
                <a:rect l="l" t="t" r="r" b="b"/>
                <a:pathLst>
                  <a:path w="310" h="387">
                    <a:moveTo>
                      <a:pt x="155" y="387"/>
                    </a:moveTo>
                    <a:lnTo>
                      <a:pt x="159" y="386"/>
                    </a:lnTo>
                    <a:lnTo>
                      <a:pt x="179" y="378"/>
                    </a:lnTo>
                    <a:lnTo>
                      <a:pt x="198" y="370"/>
                    </a:lnTo>
                    <a:lnTo>
                      <a:pt x="215" y="361"/>
                    </a:lnTo>
                    <a:lnTo>
                      <a:pt x="231" y="351"/>
                    </a:lnTo>
                    <a:lnTo>
                      <a:pt x="244" y="342"/>
                    </a:lnTo>
                    <a:lnTo>
                      <a:pt x="257" y="331"/>
                    </a:lnTo>
                    <a:lnTo>
                      <a:pt x="268" y="320"/>
                    </a:lnTo>
                    <a:lnTo>
                      <a:pt x="278" y="310"/>
                    </a:lnTo>
                    <a:lnTo>
                      <a:pt x="286" y="298"/>
                    </a:lnTo>
                    <a:lnTo>
                      <a:pt x="293" y="286"/>
                    </a:lnTo>
                    <a:lnTo>
                      <a:pt x="299" y="274"/>
                    </a:lnTo>
                    <a:lnTo>
                      <a:pt x="304" y="262"/>
                    </a:lnTo>
                    <a:lnTo>
                      <a:pt x="307" y="250"/>
                    </a:lnTo>
                    <a:lnTo>
                      <a:pt x="309" y="238"/>
                    </a:lnTo>
                    <a:lnTo>
                      <a:pt x="310" y="225"/>
                    </a:lnTo>
                    <a:lnTo>
                      <a:pt x="310" y="213"/>
                    </a:lnTo>
                    <a:lnTo>
                      <a:pt x="309" y="201"/>
                    </a:lnTo>
                    <a:lnTo>
                      <a:pt x="307" y="189"/>
                    </a:lnTo>
                    <a:lnTo>
                      <a:pt x="304" y="177"/>
                    </a:lnTo>
                    <a:lnTo>
                      <a:pt x="300" y="165"/>
                    </a:lnTo>
                    <a:lnTo>
                      <a:pt x="296" y="153"/>
                    </a:lnTo>
                    <a:lnTo>
                      <a:pt x="290" y="142"/>
                    </a:lnTo>
                    <a:lnTo>
                      <a:pt x="284" y="132"/>
                    </a:lnTo>
                    <a:lnTo>
                      <a:pt x="277" y="120"/>
                    </a:lnTo>
                    <a:lnTo>
                      <a:pt x="263" y="100"/>
                    </a:lnTo>
                    <a:lnTo>
                      <a:pt x="245" y="80"/>
                    </a:lnTo>
                    <a:lnTo>
                      <a:pt x="226" y="62"/>
                    </a:lnTo>
                    <a:lnTo>
                      <a:pt x="207" y="46"/>
                    </a:lnTo>
                    <a:lnTo>
                      <a:pt x="186" y="33"/>
                    </a:lnTo>
                    <a:lnTo>
                      <a:pt x="165" y="21"/>
                    </a:lnTo>
                    <a:lnTo>
                      <a:pt x="154" y="16"/>
                    </a:lnTo>
                    <a:lnTo>
                      <a:pt x="143" y="11"/>
                    </a:lnTo>
                    <a:lnTo>
                      <a:pt x="133" y="8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1"/>
                    </a:lnTo>
                    <a:lnTo>
                      <a:pt x="90" y="0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1" y="3"/>
                    </a:lnTo>
                    <a:lnTo>
                      <a:pt x="52" y="6"/>
                    </a:lnTo>
                    <a:lnTo>
                      <a:pt x="43" y="11"/>
                    </a:lnTo>
                    <a:lnTo>
                      <a:pt x="35" y="16"/>
                    </a:lnTo>
                    <a:lnTo>
                      <a:pt x="27" y="22"/>
                    </a:lnTo>
                    <a:lnTo>
                      <a:pt x="21" y="30"/>
                    </a:lnTo>
                    <a:lnTo>
                      <a:pt x="15" y="39"/>
                    </a:lnTo>
                    <a:lnTo>
                      <a:pt x="10" y="49"/>
                    </a:lnTo>
                    <a:lnTo>
                      <a:pt x="6" y="60"/>
                    </a:lnTo>
                    <a:lnTo>
                      <a:pt x="4" y="71"/>
                    </a:lnTo>
                    <a:lnTo>
                      <a:pt x="2" y="85"/>
                    </a:lnTo>
                    <a:lnTo>
                      <a:pt x="0" y="99"/>
                    </a:lnTo>
                    <a:lnTo>
                      <a:pt x="0" y="114"/>
                    </a:lnTo>
                    <a:lnTo>
                      <a:pt x="2" y="131"/>
                    </a:lnTo>
                    <a:lnTo>
                      <a:pt x="5" y="148"/>
                    </a:lnTo>
                    <a:lnTo>
                      <a:pt x="8" y="166"/>
                    </a:lnTo>
                    <a:lnTo>
                      <a:pt x="13" y="187"/>
                    </a:lnTo>
                    <a:lnTo>
                      <a:pt x="19" y="207"/>
                    </a:lnTo>
                    <a:lnTo>
                      <a:pt x="25" y="230"/>
                    </a:lnTo>
                    <a:lnTo>
                      <a:pt x="48" y="222"/>
                    </a:lnTo>
                    <a:lnTo>
                      <a:pt x="41" y="200"/>
                    </a:lnTo>
                    <a:lnTo>
                      <a:pt x="36" y="181"/>
                    </a:lnTo>
                    <a:lnTo>
                      <a:pt x="31" y="161"/>
                    </a:lnTo>
                    <a:lnTo>
                      <a:pt x="28" y="144"/>
                    </a:lnTo>
                    <a:lnTo>
                      <a:pt x="27" y="127"/>
                    </a:lnTo>
                    <a:lnTo>
                      <a:pt x="25" y="112"/>
                    </a:lnTo>
                    <a:lnTo>
                      <a:pt x="24" y="100"/>
                    </a:lnTo>
                    <a:lnTo>
                      <a:pt x="25" y="87"/>
                    </a:lnTo>
                    <a:lnTo>
                      <a:pt x="27" y="76"/>
                    </a:lnTo>
                    <a:lnTo>
                      <a:pt x="29" y="67"/>
                    </a:lnTo>
                    <a:lnTo>
                      <a:pt x="32" y="58"/>
                    </a:lnTo>
                    <a:lnTo>
                      <a:pt x="36" y="51"/>
                    </a:lnTo>
                    <a:lnTo>
                      <a:pt x="40" y="45"/>
                    </a:lnTo>
                    <a:lnTo>
                      <a:pt x="45" y="39"/>
                    </a:lnTo>
                    <a:lnTo>
                      <a:pt x="49" y="35"/>
                    </a:lnTo>
                    <a:lnTo>
                      <a:pt x="55" y="31"/>
                    </a:lnTo>
                    <a:lnTo>
                      <a:pt x="61" y="28"/>
                    </a:lnTo>
                    <a:lnTo>
                      <a:pt x="68" y="26"/>
                    </a:lnTo>
                    <a:lnTo>
                      <a:pt x="74" y="25"/>
                    </a:lnTo>
                    <a:lnTo>
                      <a:pt x="81" y="23"/>
                    </a:lnTo>
                    <a:lnTo>
                      <a:pt x="89" y="23"/>
                    </a:lnTo>
                    <a:lnTo>
                      <a:pt x="98" y="25"/>
                    </a:lnTo>
                    <a:lnTo>
                      <a:pt x="106" y="26"/>
                    </a:lnTo>
                    <a:lnTo>
                      <a:pt x="116" y="28"/>
                    </a:lnTo>
                    <a:lnTo>
                      <a:pt x="125" y="30"/>
                    </a:lnTo>
                    <a:lnTo>
                      <a:pt x="135" y="34"/>
                    </a:lnTo>
                    <a:lnTo>
                      <a:pt x="144" y="37"/>
                    </a:lnTo>
                    <a:lnTo>
                      <a:pt x="153" y="42"/>
                    </a:lnTo>
                    <a:lnTo>
                      <a:pt x="174" y="53"/>
                    </a:lnTo>
                    <a:lnTo>
                      <a:pt x="192" y="66"/>
                    </a:lnTo>
                    <a:lnTo>
                      <a:pt x="210" y="80"/>
                    </a:lnTo>
                    <a:lnTo>
                      <a:pt x="228" y="98"/>
                    </a:lnTo>
                    <a:lnTo>
                      <a:pt x="243" y="115"/>
                    </a:lnTo>
                    <a:lnTo>
                      <a:pt x="257" y="134"/>
                    </a:lnTo>
                    <a:lnTo>
                      <a:pt x="264" y="143"/>
                    </a:lnTo>
                    <a:lnTo>
                      <a:pt x="268" y="153"/>
                    </a:lnTo>
                    <a:lnTo>
                      <a:pt x="274" y="164"/>
                    </a:lnTo>
                    <a:lnTo>
                      <a:pt x="277" y="174"/>
                    </a:lnTo>
                    <a:lnTo>
                      <a:pt x="281" y="184"/>
                    </a:lnTo>
                    <a:lnTo>
                      <a:pt x="283" y="194"/>
                    </a:lnTo>
                    <a:lnTo>
                      <a:pt x="285" y="205"/>
                    </a:lnTo>
                    <a:lnTo>
                      <a:pt x="286" y="215"/>
                    </a:lnTo>
                    <a:lnTo>
                      <a:pt x="286" y="224"/>
                    </a:lnTo>
                    <a:lnTo>
                      <a:pt x="285" y="234"/>
                    </a:lnTo>
                    <a:lnTo>
                      <a:pt x="284" y="245"/>
                    </a:lnTo>
                    <a:lnTo>
                      <a:pt x="281" y="255"/>
                    </a:lnTo>
                    <a:lnTo>
                      <a:pt x="277" y="265"/>
                    </a:lnTo>
                    <a:lnTo>
                      <a:pt x="273" y="274"/>
                    </a:lnTo>
                    <a:lnTo>
                      <a:pt x="266" y="285"/>
                    </a:lnTo>
                    <a:lnTo>
                      <a:pt x="259" y="294"/>
                    </a:lnTo>
                    <a:lnTo>
                      <a:pt x="251" y="303"/>
                    </a:lnTo>
                    <a:lnTo>
                      <a:pt x="241" y="313"/>
                    </a:lnTo>
                    <a:lnTo>
                      <a:pt x="229" y="322"/>
                    </a:lnTo>
                    <a:lnTo>
                      <a:pt x="217" y="331"/>
                    </a:lnTo>
                    <a:lnTo>
                      <a:pt x="203" y="339"/>
                    </a:lnTo>
                    <a:lnTo>
                      <a:pt x="187" y="348"/>
                    </a:lnTo>
                    <a:lnTo>
                      <a:pt x="169" y="356"/>
                    </a:lnTo>
                    <a:lnTo>
                      <a:pt x="151" y="363"/>
                    </a:lnTo>
                    <a:lnTo>
                      <a:pt x="154" y="363"/>
                    </a:lnTo>
                    <a:lnTo>
                      <a:pt x="151" y="363"/>
                    </a:lnTo>
                    <a:lnTo>
                      <a:pt x="145" y="367"/>
                    </a:lnTo>
                    <a:lnTo>
                      <a:pt x="143" y="370"/>
                    </a:lnTo>
                    <a:lnTo>
                      <a:pt x="143" y="375"/>
                    </a:lnTo>
                    <a:lnTo>
                      <a:pt x="143" y="379"/>
                    </a:lnTo>
                    <a:lnTo>
                      <a:pt x="145" y="383"/>
                    </a:lnTo>
                    <a:lnTo>
                      <a:pt x="149" y="386"/>
                    </a:lnTo>
                    <a:lnTo>
                      <a:pt x="153" y="387"/>
                    </a:lnTo>
                    <a:lnTo>
                      <a:pt x="159" y="386"/>
                    </a:lnTo>
                    <a:lnTo>
                      <a:pt x="155" y="38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6200" y="3924720"/>
                <a:ext cx="26208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9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10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1" y="541"/>
                    </a:lnTo>
                    <a:lnTo>
                      <a:pt x="581" y="543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7" y="545"/>
                    </a:lnTo>
                    <a:lnTo>
                      <a:pt x="654" y="514"/>
                    </a:lnTo>
                    <a:lnTo>
                      <a:pt x="659" y="489"/>
                    </a:lnTo>
                    <a:lnTo>
                      <a:pt x="661" y="467"/>
                    </a:lnTo>
                    <a:lnTo>
                      <a:pt x="661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5" y="404"/>
                    </a:lnTo>
                    <a:lnTo>
                      <a:pt x="642" y="399"/>
                    </a:lnTo>
                    <a:lnTo>
                      <a:pt x="631" y="389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0" y="360"/>
                    </a:lnTo>
                    <a:lnTo>
                      <a:pt x="575" y="348"/>
                    </a:lnTo>
                    <a:lnTo>
                      <a:pt x="555" y="333"/>
                    </a:lnTo>
                    <a:lnTo>
                      <a:pt x="536" y="316"/>
                    </a:lnTo>
                    <a:lnTo>
                      <a:pt x="514" y="297"/>
                    </a:lnTo>
                    <a:lnTo>
                      <a:pt x="559" y="296"/>
                    </a:lnTo>
                    <a:lnTo>
                      <a:pt x="600" y="294"/>
                    </a:lnTo>
                    <a:lnTo>
                      <a:pt x="635" y="291"/>
                    </a:lnTo>
                    <a:lnTo>
                      <a:pt x="668" y="288"/>
                    </a:lnTo>
                    <a:lnTo>
                      <a:pt x="683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3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3" y="248"/>
                    </a:lnTo>
                    <a:lnTo>
                      <a:pt x="771" y="240"/>
                    </a:lnTo>
                    <a:lnTo>
                      <a:pt x="779" y="231"/>
                    </a:lnTo>
                    <a:lnTo>
                      <a:pt x="785" y="220"/>
                    </a:lnTo>
                    <a:lnTo>
                      <a:pt x="792" y="210"/>
                    </a:lnTo>
                    <a:lnTo>
                      <a:pt x="798" y="199"/>
                    </a:lnTo>
                    <a:lnTo>
                      <a:pt x="802" y="186"/>
                    </a:lnTo>
                    <a:lnTo>
                      <a:pt x="807" y="172"/>
                    </a:lnTo>
                    <a:lnTo>
                      <a:pt x="810" y="158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20" y="107"/>
                    </a:lnTo>
                    <a:lnTo>
                      <a:pt x="821" y="89"/>
                    </a:lnTo>
                    <a:lnTo>
                      <a:pt x="823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3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30" y="13"/>
                    </a:lnTo>
                    <a:lnTo>
                      <a:pt x="712" y="17"/>
                    </a:lnTo>
                    <a:lnTo>
                      <a:pt x="696" y="23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1" y="61"/>
                    </a:lnTo>
                    <a:lnTo>
                      <a:pt x="595" y="78"/>
                    </a:lnTo>
                    <a:lnTo>
                      <a:pt x="570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4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7" y="189"/>
                    </a:lnTo>
                    <a:lnTo>
                      <a:pt x="394" y="192"/>
                    </a:lnTo>
                    <a:lnTo>
                      <a:pt x="383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0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7" y="93"/>
                    </a:lnTo>
                    <a:lnTo>
                      <a:pt x="308" y="85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6" y="64"/>
                    </a:lnTo>
                    <a:lnTo>
                      <a:pt x="266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39"/>
                    </a:lnTo>
                    <a:lnTo>
                      <a:pt x="179" y="36"/>
                    </a:lnTo>
                    <a:lnTo>
                      <a:pt x="153" y="33"/>
                    </a:lnTo>
                    <a:lnTo>
                      <a:pt x="124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8"/>
                    </a:lnTo>
                    <a:lnTo>
                      <a:pt x="63" y="262"/>
                    </a:lnTo>
                    <a:lnTo>
                      <a:pt x="73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97600" y="402444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3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8"/>
                    </a:lnTo>
                    <a:lnTo>
                      <a:pt x="476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7" y="211"/>
                    </a:lnTo>
                    <a:lnTo>
                      <a:pt x="399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4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5" y="133"/>
                    </a:lnTo>
                    <a:lnTo>
                      <a:pt x="188" y="116"/>
                    </a:lnTo>
                    <a:lnTo>
                      <a:pt x="160" y="98"/>
                    </a:lnTo>
                    <a:lnTo>
                      <a:pt x="133" y="79"/>
                    </a:lnTo>
                    <a:lnTo>
                      <a:pt x="104" y="59"/>
                    </a:lnTo>
                    <a:lnTo>
                      <a:pt x="76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7" y="117"/>
                    </a:lnTo>
                    <a:lnTo>
                      <a:pt x="174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6" y="222"/>
                    </a:lnTo>
                    <a:lnTo>
                      <a:pt x="375" y="227"/>
                    </a:lnTo>
                    <a:lnTo>
                      <a:pt x="393" y="231"/>
                    </a:lnTo>
                    <a:lnTo>
                      <a:pt x="412" y="235"/>
                    </a:lnTo>
                    <a:lnTo>
                      <a:pt x="433" y="237"/>
                    </a:lnTo>
                    <a:lnTo>
                      <a:pt x="453" y="239"/>
                    </a:lnTo>
                    <a:lnTo>
                      <a:pt x="475" y="242"/>
                    </a:lnTo>
                    <a:lnTo>
                      <a:pt x="498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30" y="239"/>
                    </a:lnTo>
                    <a:lnTo>
                      <a:pt x="532" y="235"/>
                    </a:lnTo>
                    <a:lnTo>
                      <a:pt x="533" y="230"/>
                    </a:lnTo>
                    <a:lnTo>
                      <a:pt x="532" y="226"/>
                    </a:lnTo>
                    <a:lnTo>
                      <a:pt x="530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6116760" y="401508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6" y="41"/>
                    </a:lnTo>
                    <a:lnTo>
                      <a:pt x="46" y="58"/>
                    </a:lnTo>
                    <a:lnTo>
                      <a:pt x="65" y="73"/>
                    </a:lnTo>
                    <a:lnTo>
                      <a:pt x="82" y="86"/>
                    </a:lnTo>
                    <a:lnTo>
                      <a:pt x="98" y="97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40" y="136"/>
                    </a:lnTo>
                    <a:lnTo>
                      <a:pt x="142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7" y="159"/>
                    </a:lnTo>
                    <a:lnTo>
                      <a:pt x="148" y="165"/>
                    </a:lnTo>
                    <a:lnTo>
                      <a:pt x="148" y="183"/>
                    </a:lnTo>
                    <a:lnTo>
                      <a:pt x="145" y="203"/>
                    </a:lnTo>
                    <a:lnTo>
                      <a:pt x="141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5" y="234"/>
                    </a:lnTo>
                    <a:lnTo>
                      <a:pt x="169" y="206"/>
                    </a:lnTo>
                    <a:lnTo>
                      <a:pt x="172" y="184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5" y="131"/>
                    </a:lnTo>
                    <a:lnTo>
                      <a:pt x="161" y="124"/>
                    </a:lnTo>
                    <a:lnTo>
                      <a:pt x="158" y="118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37" y="96"/>
                    </a:lnTo>
                    <a:lnTo>
                      <a:pt x="125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2" y="23"/>
                    </a:lnTo>
                    <a:lnTo>
                      <a:pt x="21" y="4"/>
                    </a:lnTo>
                    <a:lnTo>
                      <a:pt x="12" y="24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119640" y="392148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8" y="59"/>
                    </a:lnTo>
                    <a:lnTo>
                      <a:pt x="295" y="100"/>
                    </a:lnTo>
                    <a:lnTo>
                      <a:pt x="293" y="118"/>
                    </a:lnTo>
                    <a:lnTo>
                      <a:pt x="291" y="135"/>
                    </a:lnTo>
                    <a:lnTo>
                      <a:pt x="288" y="152"/>
                    </a:lnTo>
                    <a:lnTo>
                      <a:pt x="285" y="167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1" y="227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3" y="273"/>
                    </a:lnTo>
                    <a:lnTo>
                      <a:pt x="192" y="278"/>
                    </a:lnTo>
                    <a:lnTo>
                      <a:pt x="179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5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6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8"/>
                    </a:lnTo>
                    <a:lnTo>
                      <a:pt x="186" y="304"/>
                    </a:lnTo>
                    <a:lnTo>
                      <a:pt x="200" y="301"/>
                    </a:lnTo>
                    <a:lnTo>
                      <a:pt x="212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6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49"/>
                    </a:lnTo>
                    <a:lnTo>
                      <a:pt x="282" y="239"/>
                    </a:lnTo>
                    <a:lnTo>
                      <a:pt x="288" y="228"/>
                    </a:lnTo>
                    <a:lnTo>
                      <a:pt x="294" y="215"/>
                    </a:lnTo>
                    <a:lnTo>
                      <a:pt x="300" y="203"/>
                    </a:lnTo>
                    <a:lnTo>
                      <a:pt x="304" y="188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5" y="140"/>
                    </a:lnTo>
                    <a:lnTo>
                      <a:pt x="317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1" y="7"/>
                    </a:lnTo>
                    <a:lnTo>
                      <a:pt x="318" y="3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073920" y="3921480"/>
                <a:ext cx="144360" cy="68040"/>
              </a:xfrm>
              <a:custGeom>
                <a:avLst/>
                <a:gdLst/>
                <a:ahLst/>
                <a:rect l="l" t="t" r="r" b="b"/>
                <a:pathLst>
                  <a:path w="453" h="216">
                    <a:moveTo>
                      <a:pt x="1" y="208"/>
                    </a:moveTo>
                    <a:lnTo>
                      <a:pt x="12" y="216"/>
                    </a:lnTo>
                    <a:lnTo>
                      <a:pt x="25" y="215"/>
                    </a:lnTo>
                    <a:lnTo>
                      <a:pt x="38" y="214"/>
                    </a:lnTo>
                    <a:lnTo>
                      <a:pt x="51" y="211"/>
                    </a:lnTo>
                    <a:lnTo>
                      <a:pt x="63" y="207"/>
                    </a:lnTo>
                    <a:lnTo>
                      <a:pt x="76" y="203"/>
                    </a:lnTo>
                    <a:lnTo>
                      <a:pt x="87" y="197"/>
                    </a:lnTo>
                    <a:lnTo>
                      <a:pt x="100" y="191"/>
                    </a:lnTo>
                    <a:lnTo>
                      <a:pt x="111" y="184"/>
                    </a:lnTo>
                    <a:lnTo>
                      <a:pt x="134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4" y="67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29" y="46"/>
                    </a:lnTo>
                    <a:lnTo>
                      <a:pt x="345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6" y="28"/>
                    </a:lnTo>
                    <a:lnTo>
                      <a:pt x="414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1"/>
                    </a:lnTo>
                    <a:lnTo>
                      <a:pt x="412" y="2"/>
                    </a:lnTo>
                    <a:lnTo>
                      <a:pt x="393" y="4"/>
                    </a:lnTo>
                    <a:lnTo>
                      <a:pt x="373" y="9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3" y="45"/>
                    </a:lnTo>
                    <a:lnTo>
                      <a:pt x="258" y="54"/>
                    </a:lnTo>
                    <a:lnTo>
                      <a:pt x="245" y="62"/>
                    </a:lnTo>
                    <a:lnTo>
                      <a:pt x="217" y="81"/>
                    </a:lnTo>
                    <a:lnTo>
                      <a:pt x="192" y="98"/>
                    </a:lnTo>
                    <a:lnTo>
                      <a:pt x="167" y="116"/>
                    </a:lnTo>
                    <a:lnTo>
                      <a:pt x="144" y="133"/>
                    </a:lnTo>
                    <a:lnTo>
                      <a:pt x="121" y="149"/>
                    </a:lnTo>
                    <a:lnTo>
                      <a:pt x="99" y="164"/>
                    </a:lnTo>
                    <a:lnTo>
                      <a:pt x="88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5" y="184"/>
                    </a:lnTo>
                    <a:lnTo>
                      <a:pt x="45" y="188"/>
                    </a:lnTo>
                    <a:lnTo>
                      <a:pt x="34" y="190"/>
                    </a:lnTo>
                    <a:lnTo>
                      <a:pt x="22" y="191"/>
                    </a:lnTo>
                    <a:lnTo>
                      <a:pt x="12" y="192"/>
                    </a:lnTo>
                    <a:lnTo>
                      <a:pt x="22" y="199"/>
                    </a:lnTo>
                    <a:lnTo>
                      <a:pt x="12" y="192"/>
                    </a:lnTo>
                    <a:lnTo>
                      <a:pt x="6" y="194"/>
                    </a:lnTo>
                    <a:lnTo>
                      <a:pt x="3" y="196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6" y="215"/>
                    </a:lnTo>
                    <a:lnTo>
                      <a:pt x="12" y="216"/>
                    </a:lnTo>
                    <a:lnTo>
                      <a:pt x="1" y="2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952960" y="3930840"/>
                <a:ext cx="128880" cy="5580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2" y="26"/>
                    </a:lnTo>
                    <a:lnTo>
                      <a:pt x="76" y="24"/>
                    </a:lnTo>
                    <a:lnTo>
                      <a:pt x="135" y="26"/>
                    </a:lnTo>
                    <a:lnTo>
                      <a:pt x="164" y="27"/>
                    </a:lnTo>
                    <a:lnTo>
                      <a:pt x="190" y="29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0" y="43"/>
                    </a:lnTo>
                    <a:lnTo>
                      <a:pt x="262" y="46"/>
                    </a:lnTo>
                    <a:lnTo>
                      <a:pt x="272" y="51"/>
                    </a:lnTo>
                    <a:lnTo>
                      <a:pt x="282" y="56"/>
                    </a:lnTo>
                    <a:lnTo>
                      <a:pt x="292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0" y="92"/>
                    </a:lnTo>
                    <a:lnTo>
                      <a:pt x="338" y="102"/>
                    </a:lnTo>
                    <a:lnTo>
                      <a:pt x="346" y="112"/>
                    </a:lnTo>
                    <a:lnTo>
                      <a:pt x="354" y="124"/>
                    </a:lnTo>
                    <a:lnTo>
                      <a:pt x="362" y="135"/>
                    </a:lnTo>
                    <a:lnTo>
                      <a:pt x="370" y="149"/>
                    </a:lnTo>
                    <a:lnTo>
                      <a:pt x="377" y="164"/>
                    </a:lnTo>
                    <a:lnTo>
                      <a:pt x="384" y="178"/>
                    </a:lnTo>
                    <a:lnTo>
                      <a:pt x="405" y="169"/>
                    </a:lnTo>
                    <a:lnTo>
                      <a:pt x="398" y="153"/>
                    </a:lnTo>
                    <a:lnTo>
                      <a:pt x="390" y="137"/>
                    </a:lnTo>
                    <a:lnTo>
                      <a:pt x="383" y="124"/>
                    </a:lnTo>
                    <a:lnTo>
                      <a:pt x="375" y="110"/>
                    </a:lnTo>
                    <a:lnTo>
                      <a:pt x="365" y="97"/>
                    </a:lnTo>
                    <a:lnTo>
                      <a:pt x="356" y="86"/>
                    </a:lnTo>
                    <a:lnTo>
                      <a:pt x="347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6" y="48"/>
                    </a:lnTo>
                    <a:lnTo>
                      <a:pt x="305" y="42"/>
                    </a:lnTo>
                    <a:lnTo>
                      <a:pt x="294" y="35"/>
                    </a:lnTo>
                    <a:lnTo>
                      <a:pt x="282" y="29"/>
                    </a:lnTo>
                    <a:lnTo>
                      <a:pt x="270" y="24"/>
                    </a:lnTo>
                    <a:lnTo>
                      <a:pt x="258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3" y="5"/>
                    </a:lnTo>
                    <a:lnTo>
                      <a:pt x="165" y="3"/>
                    </a:lnTo>
                    <a:lnTo>
                      <a:pt x="136" y="2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12" y="2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952960" y="393408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39" h="234">
                    <a:moveTo>
                      <a:pt x="28" y="234"/>
                    </a:moveTo>
                    <a:lnTo>
                      <a:pt x="39" y="220"/>
                    </a:lnTo>
                    <a:lnTo>
                      <a:pt x="24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8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2"/>
                    </a:lnTo>
                    <a:lnTo>
                      <a:pt x="28" y="234"/>
                    </a:lnTo>
                    <a:lnTo>
                      <a:pt x="33" y="232"/>
                    </a:lnTo>
                    <a:lnTo>
                      <a:pt x="36" y="229"/>
                    </a:lnTo>
                    <a:lnTo>
                      <a:pt x="39" y="226"/>
                    </a:lnTo>
                    <a:lnTo>
                      <a:pt x="39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961240" y="400068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2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1"/>
                    </a:lnTo>
                    <a:lnTo>
                      <a:pt x="136" y="69"/>
                    </a:lnTo>
                    <a:lnTo>
                      <a:pt x="128" y="64"/>
                    </a:lnTo>
                    <a:lnTo>
                      <a:pt x="111" y="53"/>
                    </a:lnTo>
                    <a:lnTo>
                      <a:pt x="94" y="39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2" y="13"/>
                    </a:lnTo>
                    <a:lnTo>
                      <a:pt x="41" y="7"/>
                    </a:lnTo>
                    <a:lnTo>
                      <a:pt x="27" y="4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22" y="27"/>
                    </a:lnTo>
                    <a:lnTo>
                      <a:pt x="32" y="30"/>
                    </a:lnTo>
                    <a:lnTo>
                      <a:pt x="42" y="35"/>
                    </a:lnTo>
                    <a:lnTo>
                      <a:pt x="51" y="39"/>
                    </a:lnTo>
                    <a:lnTo>
                      <a:pt x="60" y="45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2"/>
                    </a:lnTo>
                    <a:lnTo>
                      <a:pt x="115" y="85"/>
                    </a:lnTo>
                    <a:lnTo>
                      <a:pt x="125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5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2" y="86"/>
                    </a:lnTo>
                    <a:lnTo>
                      <a:pt x="172" y="82"/>
                    </a:lnTo>
                    <a:lnTo>
                      <a:pt x="170" y="78"/>
                    </a:lnTo>
                    <a:lnTo>
                      <a:pt x="165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994360" y="40244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6" y="23"/>
                    </a:moveTo>
                    <a:lnTo>
                      <a:pt x="12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6" y="23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3" y="20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45040" y="407520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4" y="325"/>
                    </a:moveTo>
                    <a:lnTo>
                      <a:pt x="166" y="344"/>
                    </a:lnTo>
                    <a:lnTo>
                      <a:pt x="196" y="365"/>
                    </a:lnTo>
                    <a:lnTo>
                      <a:pt x="225" y="384"/>
                    </a:lnTo>
                    <a:lnTo>
                      <a:pt x="253" y="403"/>
                    </a:lnTo>
                    <a:lnTo>
                      <a:pt x="281" y="422"/>
                    </a:lnTo>
                    <a:lnTo>
                      <a:pt x="308" y="440"/>
                    </a:lnTo>
                    <a:lnTo>
                      <a:pt x="335" y="458"/>
                    </a:lnTo>
                    <a:lnTo>
                      <a:pt x="364" y="474"/>
                    </a:lnTo>
                    <a:lnTo>
                      <a:pt x="392" y="489"/>
                    </a:lnTo>
                    <a:lnTo>
                      <a:pt x="422" y="503"/>
                    </a:lnTo>
                    <a:lnTo>
                      <a:pt x="438" y="509"/>
                    </a:lnTo>
                    <a:lnTo>
                      <a:pt x="454" y="515"/>
                    </a:lnTo>
                    <a:lnTo>
                      <a:pt x="470" y="521"/>
                    </a:lnTo>
                    <a:lnTo>
                      <a:pt x="487" y="525"/>
                    </a:lnTo>
                    <a:lnTo>
                      <a:pt x="505" y="530"/>
                    </a:lnTo>
                    <a:lnTo>
                      <a:pt x="524" y="533"/>
                    </a:lnTo>
                    <a:lnTo>
                      <a:pt x="542" y="537"/>
                    </a:lnTo>
                    <a:lnTo>
                      <a:pt x="561" y="540"/>
                    </a:lnTo>
                    <a:lnTo>
                      <a:pt x="582" y="542"/>
                    </a:lnTo>
                    <a:lnTo>
                      <a:pt x="603" y="544"/>
                    </a:lnTo>
                    <a:lnTo>
                      <a:pt x="625" y="545"/>
                    </a:lnTo>
                    <a:lnTo>
                      <a:pt x="648" y="545"/>
                    </a:lnTo>
                    <a:lnTo>
                      <a:pt x="655" y="514"/>
                    </a:lnTo>
                    <a:lnTo>
                      <a:pt x="659" y="489"/>
                    </a:lnTo>
                    <a:lnTo>
                      <a:pt x="661" y="466"/>
                    </a:lnTo>
                    <a:lnTo>
                      <a:pt x="663" y="448"/>
                    </a:lnTo>
                    <a:lnTo>
                      <a:pt x="661" y="440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6" y="419"/>
                    </a:lnTo>
                    <a:lnTo>
                      <a:pt x="653" y="414"/>
                    </a:lnTo>
                    <a:lnTo>
                      <a:pt x="650" y="408"/>
                    </a:lnTo>
                    <a:lnTo>
                      <a:pt x="647" y="403"/>
                    </a:lnTo>
                    <a:lnTo>
                      <a:pt x="642" y="398"/>
                    </a:lnTo>
                    <a:lnTo>
                      <a:pt x="632" y="389"/>
                    </a:lnTo>
                    <a:lnTo>
                      <a:pt x="620" y="379"/>
                    </a:lnTo>
                    <a:lnTo>
                      <a:pt x="607" y="370"/>
                    </a:lnTo>
                    <a:lnTo>
                      <a:pt x="591" y="359"/>
                    </a:lnTo>
                    <a:lnTo>
                      <a:pt x="575" y="347"/>
                    </a:lnTo>
                    <a:lnTo>
                      <a:pt x="557" y="333"/>
                    </a:lnTo>
                    <a:lnTo>
                      <a:pt x="536" y="316"/>
                    </a:lnTo>
                    <a:lnTo>
                      <a:pt x="514" y="295"/>
                    </a:lnTo>
                    <a:lnTo>
                      <a:pt x="559" y="295"/>
                    </a:lnTo>
                    <a:lnTo>
                      <a:pt x="600" y="294"/>
                    </a:lnTo>
                    <a:lnTo>
                      <a:pt x="636" y="290"/>
                    </a:lnTo>
                    <a:lnTo>
                      <a:pt x="668" y="287"/>
                    </a:lnTo>
                    <a:lnTo>
                      <a:pt x="683" y="284"/>
                    </a:lnTo>
                    <a:lnTo>
                      <a:pt x="697" y="280"/>
                    </a:lnTo>
                    <a:lnTo>
                      <a:pt x="710" y="277"/>
                    </a:lnTo>
                    <a:lnTo>
                      <a:pt x="722" y="272"/>
                    </a:lnTo>
                    <a:lnTo>
                      <a:pt x="733" y="267"/>
                    </a:lnTo>
                    <a:lnTo>
                      <a:pt x="745" y="261"/>
                    </a:lnTo>
                    <a:lnTo>
                      <a:pt x="754" y="254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0"/>
                    </a:lnTo>
                    <a:lnTo>
                      <a:pt x="786" y="220"/>
                    </a:lnTo>
                    <a:lnTo>
                      <a:pt x="792" y="210"/>
                    </a:lnTo>
                    <a:lnTo>
                      <a:pt x="798" y="198"/>
                    </a:lnTo>
                    <a:lnTo>
                      <a:pt x="803" y="186"/>
                    </a:lnTo>
                    <a:lnTo>
                      <a:pt x="807" y="172"/>
                    </a:lnTo>
                    <a:lnTo>
                      <a:pt x="812" y="157"/>
                    </a:lnTo>
                    <a:lnTo>
                      <a:pt x="814" y="142"/>
                    </a:lnTo>
                    <a:lnTo>
                      <a:pt x="818" y="125"/>
                    </a:lnTo>
                    <a:lnTo>
                      <a:pt x="820" y="107"/>
                    </a:lnTo>
                    <a:lnTo>
                      <a:pt x="822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6" y="4"/>
                    </a:lnTo>
                    <a:lnTo>
                      <a:pt x="748" y="8"/>
                    </a:lnTo>
                    <a:lnTo>
                      <a:pt x="730" y="12"/>
                    </a:lnTo>
                    <a:lnTo>
                      <a:pt x="713" y="17"/>
                    </a:lnTo>
                    <a:lnTo>
                      <a:pt x="697" y="23"/>
                    </a:lnTo>
                    <a:lnTo>
                      <a:pt x="681" y="29"/>
                    </a:lnTo>
                    <a:lnTo>
                      <a:pt x="665" y="36"/>
                    </a:lnTo>
                    <a:lnTo>
                      <a:pt x="650" y="44"/>
                    </a:lnTo>
                    <a:lnTo>
                      <a:pt x="636" y="52"/>
                    </a:lnTo>
                    <a:lnTo>
                      <a:pt x="623" y="60"/>
                    </a:lnTo>
                    <a:lnTo>
                      <a:pt x="595" y="77"/>
                    </a:lnTo>
                    <a:lnTo>
                      <a:pt x="570" y="96"/>
                    </a:lnTo>
                    <a:lnTo>
                      <a:pt x="546" y="114"/>
                    </a:lnTo>
                    <a:lnTo>
                      <a:pt x="522" y="131"/>
                    </a:lnTo>
                    <a:lnTo>
                      <a:pt x="500" y="147"/>
                    </a:lnTo>
                    <a:lnTo>
                      <a:pt x="477" y="162"/>
                    </a:lnTo>
                    <a:lnTo>
                      <a:pt x="465" y="168"/>
                    </a:lnTo>
                    <a:lnTo>
                      <a:pt x="454" y="174"/>
                    </a:lnTo>
                    <a:lnTo>
                      <a:pt x="443" y="179"/>
                    </a:lnTo>
                    <a:lnTo>
                      <a:pt x="431" y="183"/>
                    </a:lnTo>
                    <a:lnTo>
                      <a:pt x="419" y="187"/>
                    </a:lnTo>
                    <a:lnTo>
                      <a:pt x="407" y="189"/>
                    </a:lnTo>
                    <a:lnTo>
                      <a:pt x="395" y="191"/>
                    </a:lnTo>
                    <a:lnTo>
                      <a:pt x="383" y="191"/>
                    </a:lnTo>
                    <a:lnTo>
                      <a:pt x="376" y="175"/>
                    </a:lnTo>
                    <a:lnTo>
                      <a:pt x="369" y="161"/>
                    </a:lnTo>
                    <a:lnTo>
                      <a:pt x="361" y="147"/>
                    </a:lnTo>
                    <a:lnTo>
                      <a:pt x="353" y="134"/>
                    </a:lnTo>
                    <a:lnTo>
                      <a:pt x="345" y="122"/>
                    </a:lnTo>
                    <a:lnTo>
                      <a:pt x="335" y="111"/>
                    </a:lnTo>
                    <a:lnTo>
                      <a:pt x="326" y="101"/>
                    </a:lnTo>
                    <a:lnTo>
                      <a:pt x="317" y="92"/>
                    </a:lnTo>
                    <a:lnTo>
                      <a:pt x="308" y="83"/>
                    </a:lnTo>
                    <a:lnTo>
                      <a:pt x="298" y="76"/>
                    </a:lnTo>
                    <a:lnTo>
                      <a:pt x="288" y="69"/>
                    </a:lnTo>
                    <a:lnTo>
                      <a:pt x="276" y="62"/>
                    </a:lnTo>
                    <a:lnTo>
                      <a:pt x="266" y="58"/>
                    </a:lnTo>
                    <a:lnTo>
                      <a:pt x="255" y="52"/>
                    </a:lnTo>
                    <a:lnTo>
                      <a:pt x="243" y="49"/>
                    </a:lnTo>
                    <a:lnTo>
                      <a:pt x="231" y="44"/>
                    </a:lnTo>
                    <a:lnTo>
                      <a:pt x="206" y="39"/>
                    </a:lnTo>
                    <a:lnTo>
                      <a:pt x="180" y="35"/>
                    </a:lnTo>
                    <a:lnTo>
                      <a:pt x="153" y="32"/>
                    </a:lnTo>
                    <a:lnTo>
                      <a:pt x="125" y="31"/>
                    </a:lnTo>
                    <a:lnTo>
                      <a:pt x="64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7"/>
                    </a:lnTo>
                    <a:lnTo>
                      <a:pt x="64" y="262"/>
                    </a:lnTo>
                    <a:lnTo>
                      <a:pt x="74" y="268"/>
                    </a:lnTo>
                    <a:lnTo>
                      <a:pt x="84" y="275"/>
                    </a:lnTo>
                    <a:lnTo>
                      <a:pt x="93" y="280"/>
                    </a:lnTo>
                    <a:lnTo>
                      <a:pt x="102" y="288"/>
                    </a:lnTo>
                    <a:lnTo>
                      <a:pt x="120" y="302"/>
                    </a:lnTo>
                    <a:lnTo>
                      <a:pt x="138" y="313"/>
                    </a:lnTo>
                    <a:lnTo>
                      <a:pt x="147" y="318"/>
                    </a:lnTo>
                    <a:lnTo>
                      <a:pt x="157" y="321"/>
                    </a:lnTo>
                    <a:lnTo>
                      <a:pt x="167" y="325"/>
                    </a:lnTo>
                    <a:lnTo>
                      <a:pt x="177" y="325"/>
                    </a:lnTo>
                    <a:lnTo>
                      <a:pt x="134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86440" y="4175280"/>
                <a:ext cx="16812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8" y="228"/>
                    </a:moveTo>
                    <a:lnTo>
                      <a:pt x="520" y="219"/>
                    </a:lnTo>
                    <a:lnTo>
                      <a:pt x="497" y="218"/>
                    </a:lnTo>
                    <a:lnTo>
                      <a:pt x="475" y="217"/>
                    </a:lnTo>
                    <a:lnTo>
                      <a:pt x="455" y="216"/>
                    </a:lnTo>
                    <a:lnTo>
                      <a:pt x="435" y="214"/>
                    </a:lnTo>
                    <a:lnTo>
                      <a:pt x="416" y="211"/>
                    </a:lnTo>
                    <a:lnTo>
                      <a:pt x="398" y="208"/>
                    </a:lnTo>
                    <a:lnTo>
                      <a:pt x="380" y="203"/>
                    </a:lnTo>
                    <a:lnTo>
                      <a:pt x="362" y="200"/>
                    </a:lnTo>
                    <a:lnTo>
                      <a:pt x="345" y="194"/>
                    </a:lnTo>
                    <a:lnTo>
                      <a:pt x="329" y="190"/>
                    </a:lnTo>
                    <a:lnTo>
                      <a:pt x="315" y="184"/>
                    </a:lnTo>
                    <a:lnTo>
                      <a:pt x="299" y="177"/>
                    </a:lnTo>
                    <a:lnTo>
                      <a:pt x="270" y="165"/>
                    </a:lnTo>
                    <a:lnTo>
                      <a:pt x="242" y="150"/>
                    </a:lnTo>
                    <a:lnTo>
                      <a:pt x="214" y="134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60"/>
                    </a:lnTo>
                    <a:lnTo>
                      <a:pt x="75" y="40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32" y="40"/>
                    </a:lnTo>
                    <a:lnTo>
                      <a:pt x="62" y="61"/>
                    </a:lnTo>
                    <a:lnTo>
                      <a:pt x="90" y="80"/>
                    </a:lnTo>
                    <a:lnTo>
                      <a:pt x="119" y="100"/>
                    </a:lnTo>
                    <a:lnTo>
                      <a:pt x="146" y="118"/>
                    </a:lnTo>
                    <a:lnTo>
                      <a:pt x="173" y="136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200"/>
                    </a:lnTo>
                    <a:lnTo>
                      <a:pt x="305" y="207"/>
                    </a:lnTo>
                    <a:lnTo>
                      <a:pt x="321" y="212"/>
                    </a:lnTo>
                    <a:lnTo>
                      <a:pt x="339" y="218"/>
                    </a:lnTo>
                    <a:lnTo>
                      <a:pt x="356" y="223"/>
                    </a:lnTo>
                    <a:lnTo>
                      <a:pt x="374" y="227"/>
                    </a:lnTo>
                    <a:lnTo>
                      <a:pt x="393" y="232"/>
                    </a:lnTo>
                    <a:lnTo>
                      <a:pt x="413" y="235"/>
                    </a:lnTo>
                    <a:lnTo>
                      <a:pt x="432" y="238"/>
                    </a:lnTo>
                    <a:lnTo>
                      <a:pt x="452" y="240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5" y="242"/>
                    </a:lnTo>
                    <a:lnTo>
                      <a:pt x="529" y="240"/>
                    </a:lnTo>
                    <a:lnTo>
                      <a:pt x="531" y="235"/>
                    </a:lnTo>
                    <a:lnTo>
                      <a:pt x="532" y="231"/>
                    </a:lnTo>
                    <a:lnTo>
                      <a:pt x="531" y="226"/>
                    </a:lnTo>
                    <a:lnTo>
                      <a:pt x="529" y="223"/>
                    </a:lnTo>
                    <a:lnTo>
                      <a:pt x="525" y="220"/>
                    </a:lnTo>
                    <a:lnTo>
                      <a:pt x="520" y="219"/>
                    </a:lnTo>
                    <a:lnTo>
                      <a:pt x="508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05240" y="416592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2" h="264">
                    <a:moveTo>
                      <a:pt x="12" y="0"/>
                    </a:moveTo>
                    <a:lnTo>
                      <a:pt x="4" y="20"/>
                    </a:lnTo>
                    <a:lnTo>
                      <a:pt x="26" y="41"/>
                    </a:lnTo>
                    <a:lnTo>
                      <a:pt x="47" y="58"/>
                    </a:lnTo>
                    <a:lnTo>
                      <a:pt x="65" y="73"/>
                    </a:lnTo>
                    <a:lnTo>
                      <a:pt x="82" y="85"/>
                    </a:lnTo>
                    <a:lnTo>
                      <a:pt x="98" y="95"/>
                    </a:lnTo>
                    <a:lnTo>
                      <a:pt x="110" y="106"/>
                    </a:lnTo>
                    <a:lnTo>
                      <a:pt x="122" y="114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8" y="131"/>
                    </a:lnTo>
                    <a:lnTo>
                      <a:pt x="140" y="135"/>
                    </a:lnTo>
                    <a:lnTo>
                      <a:pt x="142" y="140"/>
                    </a:lnTo>
                    <a:lnTo>
                      <a:pt x="145" y="146"/>
                    </a:lnTo>
                    <a:lnTo>
                      <a:pt x="146" y="151"/>
                    </a:lnTo>
                    <a:lnTo>
                      <a:pt x="147" y="157"/>
                    </a:lnTo>
                    <a:lnTo>
                      <a:pt x="148" y="164"/>
                    </a:lnTo>
                    <a:lnTo>
                      <a:pt x="148" y="182"/>
                    </a:lnTo>
                    <a:lnTo>
                      <a:pt x="146" y="203"/>
                    </a:lnTo>
                    <a:lnTo>
                      <a:pt x="141" y="228"/>
                    </a:lnTo>
                    <a:lnTo>
                      <a:pt x="134" y="258"/>
                    </a:lnTo>
                    <a:lnTo>
                      <a:pt x="158" y="264"/>
                    </a:lnTo>
                    <a:lnTo>
                      <a:pt x="165" y="232"/>
                    </a:lnTo>
                    <a:lnTo>
                      <a:pt x="170" y="206"/>
                    </a:lnTo>
                    <a:lnTo>
                      <a:pt x="172" y="183"/>
                    </a:lnTo>
                    <a:lnTo>
                      <a:pt x="172" y="164"/>
                    </a:lnTo>
                    <a:lnTo>
                      <a:pt x="171" y="155"/>
                    </a:lnTo>
                    <a:lnTo>
                      <a:pt x="170" y="146"/>
                    </a:lnTo>
                    <a:lnTo>
                      <a:pt x="167" y="138"/>
                    </a:lnTo>
                    <a:lnTo>
                      <a:pt x="165" y="131"/>
                    </a:lnTo>
                    <a:lnTo>
                      <a:pt x="162" y="124"/>
                    </a:lnTo>
                    <a:lnTo>
                      <a:pt x="158" y="117"/>
                    </a:lnTo>
                    <a:lnTo>
                      <a:pt x="154" y="111"/>
                    </a:lnTo>
                    <a:lnTo>
                      <a:pt x="148" y="106"/>
                    </a:lnTo>
                    <a:lnTo>
                      <a:pt x="138" y="95"/>
                    </a:lnTo>
                    <a:lnTo>
                      <a:pt x="125" y="86"/>
                    </a:lnTo>
                    <a:lnTo>
                      <a:pt x="112" y="76"/>
                    </a:lnTo>
                    <a:lnTo>
                      <a:pt x="97" y="66"/>
                    </a:lnTo>
                    <a:lnTo>
                      <a:pt x="80" y="53"/>
                    </a:lnTo>
                    <a:lnTo>
                      <a:pt x="61" y="40"/>
                    </a:lnTo>
                    <a:lnTo>
                      <a:pt x="42" y="22"/>
                    </a:lnTo>
                    <a:lnTo>
                      <a:pt x="22" y="3"/>
                    </a:lnTo>
                    <a:lnTo>
                      <a:pt x="12" y="24"/>
                    </a:lnTo>
                    <a:lnTo>
                      <a:pt x="22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08480" y="407232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3"/>
                    </a:lnTo>
                    <a:lnTo>
                      <a:pt x="298" y="58"/>
                    </a:lnTo>
                    <a:lnTo>
                      <a:pt x="296" y="101"/>
                    </a:lnTo>
                    <a:lnTo>
                      <a:pt x="293" y="119"/>
                    </a:lnTo>
                    <a:lnTo>
                      <a:pt x="291" y="136"/>
                    </a:lnTo>
                    <a:lnTo>
                      <a:pt x="289" y="153"/>
                    </a:lnTo>
                    <a:lnTo>
                      <a:pt x="285" y="168"/>
                    </a:lnTo>
                    <a:lnTo>
                      <a:pt x="282" y="181"/>
                    </a:lnTo>
                    <a:lnTo>
                      <a:pt x="277" y="194"/>
                    </a:lnTo>
                    <a:lnTo>
                      <a:pt x="273" y="207"/>
                    </a:lnTo>
                    <a:lnTo>
                      <a:pt x="268" y="217"/>
                    </a:lnTo>
                    <a:lnTo>
                      <a:pt x="261" y="227"/>
                    </a:lnTo>
                    <a:lnTo>
                      <a:pt x="256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8"/>
                    </a:lnTo>
                    <a:lnTo>
                      <a:pt x="224" y="264"/>
                    </a:lnTo>
                    <a:lnTo>
                      <a:pt x="215" y="268"/>
                    </a:lnTo>
                    <a:lnTo>
                      <a:pt x="203" y="274"/>
                    </a:lnTo>
                    <a:lnTo>
                      <a:pt x="192" y="277"/>
                    </a:lnTo>
                    <a:lnTo>
                      <a:pt x="180" y="282"/>
                    </a:lnTo>
                    <a:lnTo>
                      <a:pt x="167" y="285"/>
                    </a:lnTo>
                    <a:lnTo>
                      <a:pt x="152" y="288"/>
                    </a:lnTo>
                    <a:lnTo>
                      <a:pt x="121" y="292"/>
                    </a:lnTo>
                    <a:lnTo>
                      <a:pt x="85" y="294"/>
                    </a:lnTo>
                    <a:lnTo>
                      <a:pt x="45" y="295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1"/>
                    </a:lnTo>
                    <a:lnTo>
                      <a:pt x="86" y="318"/>
                    </a:lnTo>
                    <a:lnTo>
                      <a:pt x="123" y="316"/>
                    </a:lnTo>
                    <a:lnTo>
                      <a:pt x="157" y="311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1"/>
                    </a:lnTo>
                    <a:lnTo>
                      <a:pt x="214" y="295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8" y="277"/>
                    </a:lnTo>
                    <a:lnTo>
                      <a:pt x="257" y="269"/>
                    </a:lnTo>
                    <a:lnTo>
                      <a:pt x="266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9" y="228"/>
                    </a:lnTo>
                    <a:lnTo>
                      <a:pt x="296" y="216"/>
                    </a:lnTo>
                    <a:lnTo>
                      <a:pt x="300" y="202"/>
                    </a:lnTo>
                    <a:lnTo>
                      <a:pt x="305" y="188"/>
                    </a:lnTo>
                    <a:lnTo>
                      <a:pt x="309" y="174"/>
                    </a:lnTo>
                    <a:lnTo>
                      <a:pt x="313" y="158"/>
                    </a:lnTo>
                    <a:lnTo>
                      <a:pt x="315" y="139"/>
                    </a:lnTo>
                    <a:lnTo>
                      <a:pt x="317" y="121"/>
                    </a:lnTo>
                    <a:lnTo>
                      <a:pt x="320" y="102"/>
                    </a:lnTo>
                    <a:lnTo>
                      <a:pt x="322" y="60"/>
                    </a:lnTo>
                    <a:lnTo>
                      <a:pt x="323" y="13"/>
                    </a:lnTo>
                    <a:lnTo>
                      <a:pt x="310" y="0"/>
                    </a:lnTo>
                    <a:lnTo>
                      <a:pt x="323" y="13"/>
                    </a:lnTo>
                    <a:lnTo>
                      <a:pt x="322" y="7"/>
                    </a:lnTo>
                    <a:lnTo>
                      <a:pt x="320" y="4"/>
                    </a:lnTo>
                    <a:lnTo>
                      <a:pt x="315" y="1"/>
                    </a:lnTo>
                    <a:lnTo>
                      <a:pt x="310" y="0"/>
                    </a:lnTo>
                    <a:lnTo>
                      <a:pt x="306" y="1"/>
                    </a:lnTo>
                    <a:lnTo>
                      <a:pt x="302" y="4"/>
                    </a:lnTo>
                    <a:lnTo>
                      <a:pt x="300" y="7"/>
                    </a:lnTo>
                    <a:lnTo>
                      <a:pt x="299" y="13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162400" y="4072320"/>
                <a:ext cx="144720" cy="6804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5" y="216"/>
                    </a:lnTo>
                    <a:lnTo>
                      <a:pt x="39" y="215"/>
                    </a:lnTo>
                    <a:lnTo>
                      <a:pt x="51" y="211"/>
                    </a:lnTo>
                    <a:lnTo>
                      <a:pt x="64" y="208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9"/>
                    </a:lnTo>
                    <a:lnTo>
                      <a:pt x="231" y="101"/>
                    </a:lnTo>
                    <a:lnTo>
                      <a:pt x="257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1"/>
                    </a:lnTo>
                    <a:lnTo>
                      <a:pt x="314" y="54"/>
                    </a:lnTo>
                    <a:lnTo>
                      <a:pt x="330" y="47"/>
                    </a:lnTo>
                    <a:lnTo>
                      <a:pt x="345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4" y="8"/>
                    </a:lnTo>
                    <a:lnTo>
                      <a:pt x="355" y="13"/>
                    </a:lnTo>
                    <a:lnTo>
                      <a:pt x="338" y="18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9"/>
                    </a:lnTo>
                    <a:lnTo>
                      <a:pt x="274" y="46"/>
                    </a:lnTo>
                    <a:lnTo>
                      <a:pt x="260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6"/>
                    </a:lnTo>
                    <a:lnTo>
                      <a:pt x="67" y="180"/>
                    </a:lnTo>
                    <a:lnTo>
                      <a:pt x="56" y="185"/>
                    </a:lnTo>
                    <a:lnTo>
                      <a:pt x="45" y="188"/>
                    </a:lnTo>
                    <a:lnTo>
                      <a:pt x="34" y="191"/>
                    </a:lnTo>
                    <a:lnTo>
                      <a:pt x="24" y="192"/>
                    </a:lnTo>
                    <a:lnTo>
                      <a:pt x="12" y="193"/>
                    </a:lnTo>
                    <a:lnTo>
                      <a:pt x="24" y="200"/>
                    </a:lnTo>
                    <a:lnTo>
                      <a:pt x="12" y="193"/>
                    </a:lnTo>
                    <a:lnTo>
                      <a:pt x="7" y="194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3"/>
                    </a:lnTo>
                    <a:lnTo>
                      <a:pt x="7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041800" y="408168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8">
                    <a:moveTo>
                      <a:pt x="25" y="11"/>
                    </a:moveTo>
                    <a:lnTo>
                      <a:pt x="12" y="25"/>
                    </a:lnTo>
                    <a:lnTo>
                      <a:pt x="76" y="24"/>
                    </a:lnTo>
                    <a:lnTo>
                      <a:pt x="137" y="25"/>
                    </a:lnTo>
                    <a:lnTo>
                      <a:pt x="164" y="26"/>
                    </a:lnTo>
                    <a:lnTo>
                      <a:pt x="190" y="29"/>
                    </a:lnTo>
                    <a:lnTo>
                      <a:pt x="215" y="33"/>
                    </a:lnTo>
                    <a:lnTo>
                      <a:pt x="239" y="39"/>
                    </a:lnTo>
                    <a:lnTo>
                      <a:pt x="251" y="42"/>
                    </a:lnTo>
                    <a:lnTo>
                      <a:pt x="262" y="46"/>
                    </a:lnTo>
                    <a:lnTo>
                      <a:pt x="272" y="50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7"/>
                    </a:lnTo>
                    <a:lnTo>
                      <a:pt x="312" y="75"/>
                    </a:lnTo>
                    <a:lnTo>
                      <a:pt x="321" y="83"/>
                    </a:lnTo>
                    <a:lnTo>
                      <a:pt x="330" y="91"/>
                    </a:lnTo>
                    <a:lnTo>
                      <a:pt x="338" y="101"/>
                    </a:lnTo>
                    <a:lnTo>
                      <a:pt x="347" y="112"/>
                    </a:lnTo>
                    <a:lnTo>
                      <a:pt x="355" y="123"/>
                    </a:lnTo>
                    <a:lnTo>
                      <a:pt x="362" y="135"/>
                    </a:lnTo>
                    <a:lnTo>
                      <a:pt x="370" y="148"/>
                    </a:lnTo>
                    <a:lnTo>
                      <a:pt x="377" y="163"/>
                    </a:lnTo>
                    <a:lnTo>
                      <a:pt x="384" y="178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3"/>
                    </a:lnTo>
                    <a:lnTo>
                      <a:pt x="375" y="109"/>
                    </a:lnTo>
                    <a:lnTo>
                      <a:pt x="366" y="97"/>
                    </a:lnTo>
                    <a:lnTo>
                      <a:pt x="357" y="86"/>
                    </a:lnTo>
                    <a:lnTo>
                      <a:pt x="347" y="75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4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19"/>
                    </a:lnTo>
                    <a:lnTo>
                      <a:pt x="246" y="15"/>
                    </a:lnTo>
                    <a:lnTo>
                      <a:pt x="220" y="9"/>
                    </a:lnTo>
                    <a:lnTo>
                      <a:pt x="194" y="5"/>
                    </a:lnTo>
                    <a:lnTo>
                      <a:pt x="165" y="2"/>
                    </a:lnTo>
                    <a:lnTo>
                      <a:pt x="137" y="1"/>
                    </a:lnTo>
                    <a:lnTo>
                      <a:pt x="76" y="0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2" y="25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041800" y="4084920"/>
                <a:ext cx="1296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8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16" y="223"/>
                    </a:lnTo>
                    <a:lnTo>
                      <a:pt x="28" y="234"/>
                    </a:lnTo>
                    <a:lnTo>
                      <a:pt x="16" y="223"/>
                    </a:lnTo>
                    <a:lnTo>
                      <a:pt x="17" y="227"/>
                    </a:lnTo>
                    <a:lnTo>
                      <a:pt x="20" y="231"/>
                    </a:lnTo>
                    <a:lnTo>
                      <a:pt x="24" y="233"/>
                    </a:lnTo>
                    <a:lnTo>
                      <a:pt x="28" y="233"/>
                    </a:lnTo>
                    <a:lnTo>
                      <a:pt x="33" y="233"/>
                    </a:lnTo>
                    <a:lnTo>
                      <a:pt x="36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8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049720" y="4151520"/>
                <a:ext cx="55800" cy="31680"/>
              </a:xfrm>
              <a:custGeom>
                <a:avLst/>
                <a:gdLst/>
                <a:ahLst/>
                <a:rect l="l" t="t" r="r" b="b"/>
                <a:pathLst>
                  <a:path w="174" h="99">
                    <a:moveTo>
                      <a:pt x="161" y="99"/>
                    </a:moveTo>
                    <a:lnTo>
                      <a:pt x="161" y="75"/>
                    </a:lnTo>
                    <a:lnTo>
                      <a:pt x="152" y="74"/>
                    </a:lnTo>
                    <a:lnTo>
                      <a:pt x="144" y="72"/>
                    </a:lnTo>
                    <a:lnTo>
                      <a:pt x="136" y="70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5" y="33"/>
                    </a:lnTo>
                    <a:lnTo>
                      <a:pt x="74" y="26"/>
                    </a:lnTo>
                    <a:lnTo>
                      <a:pt x="64" y="19"/>
                    </a:lnTo>
                    <a:lnTo>
                      <a:pt x="53" y="14"/>
                    </a:lnTo>
                    <a:lnTo>
                      <a:pt x="41" y="8"/>
                    </a:lnTo>
                    <a:lnTo>
                      <a:pt x="29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2" y="25"/>
                    </a:lnTo>
                    <a:lnTo>
                      <a:pt x="22" y="27"/>
                    </a:lnTo>
                    <a:lnTo>
                      <a:pt x="32" y="31"/>
                    </a:lnTo>
                    <a:lnTo>
                      <a:pt x="43" y="35"/>
                    </a:lnTo>
                    <a:lnTo>
                      <a:pt x="52" y="40"/>
                    </a:lnTo>
                    <a:lnTo>
                      <a:pt x="61" y="46"/>
                    </a:lnTo>
                    <a:lnTo>
                      <a:pt x="70" y="52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6" y="91"/>
                    </a:lnTo>
                    <a:lnTo>
                      <a:pt x="137" y="96"/>
                    </a:lnTo>
                    <a:lnTo>
                      <a:pt x="149" y="98"/>
                    </a:lnTo>
                    <a:lnTo>
                      <a:pt x="161" y="99"/>
                    </a:lnTo>
                    <a:lnTo>
                      <a:pt x="161" y="75"/>
                    </a:lnTo>
                    <a:lnTo>
                      <a:pt x="161" y="99"/>
                    </a:lnTo>
                    <a:lnTo>
                      <a:pt x="167" y="98"/>
                    </a:lnTo>
                    <a:lnTo>
                      <a:pt x="170" y="96"/>
                    </a:lnTo>
                    <a:lnTo>
                      <a:pt x="172" y="91"/>
                    </a:lnTo>
                    <a:lnTo>
                      <a:pt x="174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7" y="76"/>
                    </a:lnTo>
                    <a:lnTo>
                      <a:pt x="161" y="75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83200" y="41752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2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782960" y="3745080"/>
                <a:ext cx="262080" cy="173160"/>
              </a:xfrm>
              <a:custGeom>
                <a:avLst/>
                <a:gdLst/>
                <a:ahLst/>
                <a:rect l="l" t="t" r="r" b="b"/>
                <a:pathLst>
                  <a:path w="824" h="546">
                    <a:moveTo>
                      <a:pt x="133" y="326"/>
                    </a:moveTo>
                    <a:lnTo>
                      <a:pt x="165" y="345"/>
                    </a:lnTo>
                    <a:lnTo>
                      <a:pt x="196" y="365"/>
                    </a:lnTo>
                    <a:lnTo>
                      <a:pt x="226" y="385"/>
                    </a:lnTo>
                    <a:lnTo>
                      <a:pt x="253" y="405"/>
                    </a:lnTo>
                    <a:lnTo>
                      <a:pt x="280" y="423"/>
                    </a:lnTo>
                    <a:lnTo>
                      <a:pt x="308" y="441"/>
                    </a:lnTo>
                    <a:lnTo>
                      <a:pt x="335" y="458"/>
                    </a:lnTo>
                    <a:lnTo>
                      <a:pt x="364" y="475"/>
                    </a:lnTo>
                    <a:lnTo>
                      <a:pt x="392" y="490"/>
                    </a:lnTo>
                    <a:lnTo>
                      <a:pt x="422" y="504"/>
                    </a:lnTo>
                    <a:lnTo>
                      <a:pt x="438" y="509"/>
                    </a:lnTo>
                    <a:lnTo>
                      <a:pt x="454" y="516"/>
                    </a:lnTo>
                    <a:lnTo>
                      <a:pt x="470" y="521"/>
                    </a:lnTo>
                    <a:lnTo>
                      <a:pt x="487" y="526"/>
                    </a:lnTo>
                    <a:lnTo>
                      <a:pt x="505" y="531"/>
                    </a:lnTo>
                    <a:lnTo>
                      <a:pt x="523" y="534"/>
                    </a:lnTo>
                    <a:lnTo>
                      <a:pt x="541" y="538"/>
                    </a:lnTo>
                    <a:lnTo>
                      <a:pt x="562" y="540"/>
                    </a:lnTo>
                    <a:lnTo>
                      <a:pt x="581" y="542"/>
                    </a:lnTo>
                    <a:lnTo>
                      <a:pt x="603" y="545"/>
                    </a:lnTo>
                    <a:lnTo>
                      <a:pt x="625" y="546"/>
                    </a:lnTo>
                    <a:lnTo>
                      <a:pt x="647" y="546"/>
                    </a:lnTo>
                    <a:lnTo>
                      <a:pt x="655" y="515"/>
                    </a:lnTo>
                    <a:lnTo>
                      <a:pt x="660" y="489"/>
                    </a:lnTo>
                    <a:lnTo>
                      <a:pt x="662" y="467"/>
                    </a:lnTo>
                    <a:lnTo>
                      <a:pt x="662" y="449"/>
                    </a:lnTo>
                    <a:lnTo>
                      <a:pt x="661" y="441"/>
                    </a:lnTo>
                    <a:lnTo>
                      <a:pt x="660" y="433"/>
                    </a:lnTo>
                    <a:lnTo>
                      <a:pt x="658" y="426"/>
                    </a:lnTo>
                    <a:lnTo>
                      <a:pt x="655" y="420"/>
                    </a:lnTo>
                    <a:lnTo>
                      <a:pt x="653" y="415"/>
                    </a:lnTo>
                    <a:lnTo>
                      <a:pt x="650" y="409"/>
                    </a:lnTo>
                    <a:lnTo>
                      <a:pt x="646" y="405"/>
                    </a:lnTo>
                    <a:lnTo>
                      <a:pt x="642" y="399"/>
                    </a:lnTo>
                    <a:lnTo>
                      <a:pt x="632" y="390"/>
                    </a:lnTo>
                    <a:lnTo>
                      <a:pt x="620" y="381"/>
                    </a:lnTo>
                    <a:lnTo>
                      <a:pt x="606" y="371"/>
                    </a:lnTo>
                    <a:lnTo>
                      <a:pt x="592" y="360"/>
                    </a:lnTo>
                    <a:lnTo>
                      <a:pt x="575" y="348"/>
                    </a:lnTo>
                    <a:lnTo>
                      <a:pt x="556" y="334"/>
                    </a:lnTo>
                    <a:lnTo>
                      <a:pt x="536" y="317"/>
                    </a:lnTo>
                    <a:lnTo>
                      <a:pt x="514" y="296"/>
                    </a:lnTo>
                    <a:lnTo>
                      <a:pt x="560" y="296"/>
                    </a:lnTo>
                    <a:lnTo>
                      <a:pt x="600" y="295"/>
                    </a:lnTo>
                    <a:lnTo>
                      <a:pt x="636" y="292"/>
                    </a:lnTo>
                    <a:lnTo>
                      <a:pt x="668" y="287"/>
                    </a:lnTo>
                    <a:lnTo>
                      <a:pt x="683" y="285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3" y="272"/>
                    </a:lnTo>
                    <a:lnTo>
                      <a:pt x="734" y="268"/>
                    </a:lnTo>
                    <a:lnTo>
                      <a:pt x="744" y="262"/>
                    </a:lnTo>
                    <a:lnTo>
                      <a:pt x="755" y="255"/>
                    </a:lnTo>
                    <a:lnTo>
                      <a:pt x="763" y="247"/>
                    </a:lnTo>
                    <a:lnTo>
                      <a:pt x="772" y="239"/>
                    </a:lnTo>
                    <a:lnTo>
                      <a:pt x="779" y="231"/>
                    </a:lnTo>
                    <a:lnTo>
                      <a:pt x="787" y="221"/>
                    </a:lnTo>
                    <a:lnTo>
                      <a:pt x="792" y="211"/>
                    </a:lnTo>
                    <a:lnTo>
                      <a:pt x="798" y="199"/>
                    </a:lnTo>
                    <a:lnTo>
                      <a:pt x="802" y="187"/>
                    </a:lnTo>
                    <a:lnTo>
                      <a:pt x="807" y="173"/>
                    </a:lnTo>
                    <a:lnTo>
                      <a:pt x="812" y="158"/>
                    </a:lnTo>
                    <a:lnTo>
                      <a:pt x="815" y="142"/>
                    </a:lnTo>
                    <a:lnTo>
                      <a:pt x="817" y="126"/>
                    </a:lnTo>
                    <a:lnTo>
                      <a:pt x="820" y="108"/>
                    </a:lnTo>
                    <a:lnTo>
                      <a:pt x="822" y="89"/>
                    </a:lnTo>
                    <a:lnTo>
                      <a:pt x="824" y="48"/>
                    </a:lnTo>
                    <a:lnTo>
                      <a:pt x="824" y="0"/>
                    </a:lnTo>
                    <a:lnTo>
                      <a:pt x="805" y="1"/>
                    </a:lnTo>
                    <a:lnTo>
                      <a:pt x="784" y="2"/>
                    </a:lnTo>
                    <a:lnTo>
                      <a:pt x="766" y="6"/>
                    </a:lnTo>
                    <a:lnTo>
                      <a:pt x="748" y="9"/>
                    </a:lnTo>
                    <a:lnTo>
                      <a:pt x="730" y="12"/>
                    </a:lnTo>
                    <a:lnTo>
                      <a:pt x="712" y="18"/>
                    </a:lnTo>
                    <a:lnTo>
                      <a:pt x="696" y="24"/>
                    </a:lnTo>
                    <a:lnTo>
                      <a:pt x="681" y="31"/>
                    </a:lnTo>
                    <a:lnTo>
                      <a:pt x="666" y="37"/>
                    </a:lnTo>
                    <a:lnTo>
                      <a:pt x="651" y="44"/>
                    </a:lnTo>
                    <a:lnTo>
                      <a:pt x="636" y="52"/>
                    </a:lnTo>
                    <a:lnTo>
                      <a:pt x="622" y="61"/>
                    </a:lnTo>
                    <a:lnTo>
                      <a:pt x="595" y="78"/>
                    </a:lnTo>
                    <a:lnTo>
                      <a:pt x="570" y="97"/>
                    </a:lnTo>
                    <a:lnTo>
                      <a:pt x="546" y="114"/>
                    </a:lnTo>
                    <a:lnTo>
                      <a:pt x="522" y="132"/>
                    </a:lnTo>
                    <a:lnTo>
                      <a:pt x="499" y="148"/>
                    </a:lnTo>
                    <a:lnTo>
                      <a:pt x="477" y="163"/>
                    </a:lnTo>
                    <a:lnTo>
                      <a:pt x="465" y="169"/>
                    </a:lnTo>
                    <a:lnTo>
                      <a:pt x="454" y="174"/>
                    </a:lnTo>
                    <a:lnTo>
                      <a:pt x="442" y="180"/>
                    </a:lnTo>
                    <a:lnTo>
                      <a:pt x="431" y="184"/>
                    </a:lnTo>
                    <a:lnTo>
                      <a:pt x="420" y="188"/>
                    </a:lnTo>
                    <a:lnTo>
                      <a:pt x="407" y="190"/>
                    </a:lnTo>
                    <a:lnTo>
                      <a:pt x="396" y="192"/>
                    </a:lnTo>
                    <a:lnTo>
                      <a:pt x="383" y="192"/>
                    </a:lnTo>
                    <a:lnTo>
                      <a:pt x="376" y="177"/>
                    </a:lnTo>
                    <a:lnTo>
                      <a:pt x="368" y="162"/>
                    </a:lnTo>
                    <a:lnTo>
                      <a:pt x="361" y="148"/>
                    </a:lnTo>
                    <a:lnTo>
                      <a:pt x="353" y="134"/>
                    </a:lnTo>
                    <a:lnTo>
                      <a:pt x="344" y="123"/>
                    </a:lnTo>
                    <a:lnTo>
                      <a:pt x="336" y="112"/>
                    </a:lnTo>
                    <a:lnTo>
                      <a:pt x="327" y="102"/>
                    </a:lnTo>
                    <a:lnTo>
                      <a:pt x="317" y="93"/>
                    </a:lnTo>
                    <a:lnTo>
                      <a:pt x="308" y="84"/>
                    </a:lnTo>
                    <a:lnTo>
                      <a:pt x="298" y="77"/>
                    </a:lnTo>
                    <a:lnTo>
                      <a:pt x="287" y="70"/>
                    </a:lnTo>
                    <a:lnTo>
                      <a:pt x="277" y="64"/>
                    </a:lnTo>
                    <a:lnTo>
                      <a:pt x="266" y="58"/>
                    </a:lnTo>
                    <a:lnTo>
                      <a:pt x="254" y="53"/>
                    </a:lnTo>
                    <a:lnTo>
                      <a:pt x="243" y="49"/>
                    </a:lnTo>
                    <a:lnTo>
                      <a:pt x="230" y="45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3" y="33"/>
                    </a:lnTo>
                    <a:lnTo>
                      <a:pt x="124" y="32"/>
                    </a:lnTo>
                    <a:lnTo>
                      <a:pt x="64" y="31"/>
                    </a:lnTo>
                    <a:lnTo>
                      <a:pt x="0" y="32"/>
                    </a:lnTo>
                    <a:lnTo>
                      <a:pt x="16" y="252"/>
                    </a:lnTo>
                    <a:lnTo>
                      <a:pt x="29" y="252"/>
                    </a:lnTo>
                    <a:lnTo>
                      <a:pt x="41" y="254"/>
                    </a:lnTo>
                    <a:lnTo>
                      <a:pt x="53" y="259"/>
                    </a:lnTo>
                    <a:lnTo>
                      <a:pt x="64" y="263"/>
                    </a:lnTo>
                    <a:lnTo>
                      <a:pt x="74" y="269"/>
                    </a:lnTo>
                    <a:lnTo>
                      <a:pt x="83" y="275"/>
                    </a:lnTo>
                    <a:lnTo>
                      <a:pt x="94" y="281"/>
                    </a:lnTo>
                    <a:lnTo>
                      <a:pt x="103" y="288"/>
                    </a:lnTo>
                    <a:lnTo>
                      <a:pt x="120" y="302"/>
                    </a:lnTo>
                    <a:lnTo>
                      <a:pt x="138" y="314"/>
                    </a:lnTo>
                    <a:lnTo>
                      <a:pt x="147" y="319"/>
                    </a:lnTo>
                    <a:lnTo>
                      <a:pt x="156" y="322"/>
                    </a:lnTo>
                    <a:lnTo>
                      <a:pt x="167" y="325"/>
                    </a:lnTo>
                    <a:lnTo>
                      <a:pt x="177" y="326"/>
                    </a:lnTo>
                    <a:lnTo>
                      <a:pt x="133" y="326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24360" y="384516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2">
                    <a:moveTo>
                      <a:pt x="508" y="226"/>
                    </a:moveTo>
                    <a:lnTo>
                      <a:pt x="519" y="217"/>
                    </a:lnTo>
                    <a:lnTo>
                      <a:pt x="498" y="217"/>
                    </a:lnTo>
                    <a:lnTo>
                      <a:pt x="476" y="216"/>
                    </a:lnTo>
                    <a:lnTo>
                      <a:pt x="455" y="215"/>
                    </a:lnTo>
                    <a:lnTo>
                      <a:pt x="435" y="213"/>
                    </a:lnTo>
                    <a:lnTo>
                      <a:pt x="416" y="210"/>
                    </a:lnTo>
                    <a:lnTo>
                      <a:pt x="398" y="207"/>
                    </a:lnTo>
                    <a:lnTo>
                      <a:pt x="379" y="203"/>
                    </a:lnTo>
                    <a:lnTo>
                      <a:pt x="362" y="198"/>
                    </a:lnTo>
                    <a:lnTo>
                      <a:pt x="346" y="193"/>
                    </a:lnTo>
                    <a:lnTo>
                      <a:pt x="329" y="189"/>
                    </a:lnTo>
                    <a:lnTo>
                      <a:pt x="314" y="183"/>
                    </a:lnTo>
                    <a:lnTo>
                      <a:pt x="300" y="176"/>
                    </a:lnTo>
                    <a:lnTo>
                      <a:pt x="270" y="163"/>
                    </a:lnTo>
                    <a:lnTo>
                      <a:pt x="241" y="148"/>
                    </a:lnTo>
                    <a:lnTo>
                      <a:pt x="214" y="132"/>
                    </a:lnTo>
                    <a:lnTo>
                      <a:pt x="187" y="115"/>
                    </a:lnTo>
                    <a:lnTo>
                      <a:pt x="159" y="96"/>
                    </a:lnTo>
                    <a:lnTo>
                      <a:pt x="132" y="78"/>
                    </a:lnTo>
                    <a:lnTo>
                      <a:pt x="105" y="59"/>
                    </a:lnTo>
                    <a:lnTo>
                      <a:pt x="75" y="39"/>
                    </a:lnTo>
                    <a:lnTo>
                      <a:pt x="44" y="1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32" y="39"/>
                    </a:lnTo>
                    <a:lnTo>
                      <a:pt x="61" y="59"/>
                    </a:lnTo>
                    <a:lnTo>
                      <a:pt x="91" y="78"/>
                    </a:lnTo>
                    <a:lnTo>
                      <a:pt x="118" y="98"/>
                    </a:lnTo>
                    <a:lnTo>
                      <a:pt x="146" y="117"/>
                    </a:lnTo>
                    <a:lnTo>
                      <a:pt x="174" y="135"/>
                    </a:lnTo>
                    <a:lnTo>
                      <a:pt x="201" y="152"/>
                    </a:lnTo>
                    <a:lnTo>
                      <a:pt x="230" y="169"/>
                    </a:lnTo>
                    <a:lnTo>
                      <a:pt x="258" y="184"/>
                    </a:lnTo>
                    <a:lnTo>
                      <a:pt x="289" y="199"/>
                    </a:lnTo>
                    <a:lnTo>
                      <a:pt x="305" y="205"/>
                    </a:lnTo>
                    <a:lnTo>
                      <a:pt x="322" y="212"/>
                    </a:lnTo>
                    <a:lnTo>
                      <a:pt x="338" y="216"/>
                    </a:lnTo>
                    <a:lnTo>
                      <a:pt x="356" y="222"/>
                    </a:lnTo>
                    <a:lnTo>
                      <a:pt x="374" y="226"/>
                    </a:lnTo>
                    <a:lnTo>
                      <a:pt x="393" y="230"/>
                    </a:lnTo>
                    <a:lnTo>
                      <a:pt x="412" y="233"/>
                    </a:lnTo>
                    <a:lnTo>
                      <a:pt x="432" y="237"/>
                    </a:lnTo>
                    <a:lnTo>
                      <a:pt x="452" y="239"/>
                    </a:lnTo>
                    <a:lnTo>
                      <a:pt x="474" y="240"/>
                    </a:lnTo>
                    <a:lnTo>
                      <a:pt x="497" y="241"/>
                    </a:lnTo>
                    <a:lnTo>
                      <a:pt x="519" y="242"/>
                    </a:lnTo>
                    <a:lnTo>
                      <a:pt x="532" y="232"/>
                    </a:lnTo>
                    <a:lnTo>
                      <a:pt x="519" y="242"/>
                    </a:lnTo>
                    <a:lnTo>
                      <a:pt x="525" y="241"/>
                    </a:lnTo>
                    <a:lnTo>
                      <a:pt x="529" y="238"/>
                    </a:lnTo>
                    <a:lnTo>
                      <a:pt x="531" y="234"/>
                    </a:lnTo>
                    <a:lnTo>
                      <a:pt x="532" y="230"/>
                    </a:lnTo>
                    <a:lnTo>
                      <a:pt x="531" y="225"/>
                    </a:lnTo>
                    <a:lnTo>
                      <a:pt x="529" y="222"/>
                    </a:lnTo>
                    <a:lnTo>
                      <a:pt x="525" y="218"/>
                    </a:lnTo>
                    <a:lnTo>
                      <a:pt x="519" y="217"/>
                    </a:lnTo>
                    <a:lnTo>
                      <a:pt x="50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943520" y="383580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171" h="264">
                    <a:moveTo>
                      <a:pt x="11" y="1"/>
                    </a:moveTo>
                    <a:lnTo>
                      <a:pt x="3" y="21"/>
                    </a:lnTo>
                    <a:lnTo>
                      <a:pt x="25" y="42"/>
                    </a:lnTo>
                    <a:lnTo>
                      <a:pt x="45" y="59"/>
                    </a:lnTo>
                    <a:lnTo>
                      <a:pt x="64" y="74"/>
                    </a:lnTo>
                    <a:lnTo>
                      <a:pt x="82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4"/>
                    </a:lnTo>
                    <a:lnTo>
                      <a:pt x="133" y="127"/>
                    </a:lnTo>
                    <a:lnTo>
                      <a:pt x="136" y="132"/>
                    </a:lnTo>
                    <a:lnTo>
                      <a:pt x="140" y="136"/>
                    </a:lnTo>
                    <a:lnTo>
                      <a:pt x="142" y="141"/>
                    </a:lnTo>
                    <a:lnTo>
                      <a:pt x="143" y="147"/>
                    </a:lnTo>
                    <a:lnTo>
                      <a:pt x="146" y="152"/>
                    </a:lnTo>
                    <a:lnTo>
                      <a:pt x="147" y="158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4" y="204"/>
                    </a:lnTo>
                    <a:lnTo>
                      <a:pt x="140" y="229"/>
                    </a:lnTo>
                    <a:lnTo>
                      <a:pt x="133" y="258"/>
                    </a:lnTo>
                    <a:lnTo>
                      <a:pt x="157" y="264"/>
                    </a:lnTo>
                    <a:lnTo>
                      <a:pt x="164" y="233"/>
                    </a:lnTo>
                    <a:lnTo>
                      <a:pt x="168" y="207"/>
                    </a:lnTo>
                    <a:lnTo>
                      <a:pt x="171" y="184"/>
                    </a:lnTo>
                    <a:lnTo>
                      <a:pt x="171" y="165"/>
                    </a:lnTo>
                    <a:lnTo>
                      <a:pt x="171" y="156"/>
                    </a:lnTo>
                    <a:lnTo>
                      <a:pt x="168" y="147"/>
                    </a:lnTo>
                    <a:lnTo>
                      <a:pt x="167" y="139"/>
                    </a:lnTo>
                    <a:lnTo>
                      <a:pt x="164" y="132"/>
                    </a:lnTo>
                    <a:lnTo>
                      <a:pt x="160" y="125"/>
                    </a:lnTo>
                    <a:lnTo>
                      <a:pt x="157" y="118"/>
                    </a:lnTo>
                    <a:lnTo>
                      <a:pt x="152" y="113"/>
                    </a:lnTo>
                    <a:lnTo>
                      <a:pt x="147" y="107"/>
                    </a:lnTo>
                    <a:lnTo>
                      <a:pt x="136" y="97"/>
                    </a:lnTo>
                    <a:lnTo>
                      <a:pt x="124" y="86"/>
                    </a:lnTo>
                    <a:lnTo>
                      <a:pt x="110" y="77"/>
                    </a:lnTo>
                    <a:lnTo>
                      <a:pt x="95" y="67"/>
                    </a:lnTo>
                    <a:lnTo>
                      <a:pt x="78" y="54"/>
                    </a:lnTo>
                    <a:lnTo>
                      <a:pt x="60" y="41"/>
                    </a:lnTo>
                    <a:lnTo>
                      <a:pt x="41" y="24"/>
                    </a:lnTo>
                    <a:lnTo>
                      <a:pt x="20" y="4"/>
                    </a:lnTo>
                    <a:lnTo>
                      <a:pt x="11" y="25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4946760" y="3741840"/>
                <a:ext cx="101520" cy="101880"/>
              </a:xfrm>
              <a:custGeom>
                <a:avLst/>
                <a:gdLst/>
                <a:ahLst/>
                <a:rect l="l" t="t" r="r" b="b"/>
                <a:pathLst>
                  <a:path w="323" h="321">
                    <a:moveTo>
                      <a:pt x="310" y="24"/>
                    </a:moveTo>
                    <a:lnTo>
                      <a:pt x="299" y="12"/>
                    </a:lnTo>
                    <a:lnTo>
                      <a:pt x="298" y="59"/>
                    </a:lnTo>
                    <a:lnTo>
                      <a:pt x="295" y="101"/>
                    </a:lnTo>
                    <a:lnTo>
                      <a:pt x="294" y="119"/>
                    </a:lnTo>
                    <a:lnTo>
                      <a:pt x="292" y="136"/>
                    </a:lnTo>
                    <a:lnTo>
                      <a:pt x="288" y="152"/>
                    </a:lnTo>
                    <a:lnTo>
                      <a:pt x="285" y="168"/>
                    </a:lnTo>
                    <a:lnTo>
                      <a:pt x="282" y="182"/>
                    </a:lnTo>
                    <a:lnTo>
                      <a:pt x="277" y="194"/>
                    </a:lnTo>
                    <a:lnTo>
                      <a:pt x="273" y="206"/>
                    </a:lnTo>
                    <a:lnTo>
                      <a:pt x="268" y="217"/>
                    </a:lnTo>
                    <a:lnTo>
                      <a:pt x="262" y="226"/>
                    </a:lnTo>
                    <a:lnTo>
                      <a:pt x="255" y="235"/>
                    </a:lnTo>
                    <a:lnTo>
                      <a:pt x="249" y="243"/>
                    </a:lnTo>
                    <a:lnTo>
                      <a:pt x="241" y="251"/>
                    </a:lnTo>
                    <a:lnTo>
                      <a:pt x="233" y="257"/>
                    </a:lnTo>
                    <a:lnTo>
                      <a:pt x="224" y="264"/>
                    </a:lnTo>
                    <a:lnTo>
                      <a:pt x="214" y="268"/>
                    </a:lnTo>
                    <a:lnTo>
                      <a:pt x="204" y="273"/>
                    </a:lnTo>
                    <a:lnTo>
                      <a:pt x="193" y="277"/>
                    </a:lnTo>
                    <a:lnTo>
                      <a:pt x="180" y="281"/>
                    </a:lnTo>
                    <a:lnTo>
                      <a:pt x="167" y="284"/>
                    </a:lnTo>
                    <a:lnTo>
                      <a:pt x="153" y="288"/>
                    </a:lnTo>
                    <a:lnTo>
                      <a:pt x="121" y="292"/>
                    </a:lnTo>
                    <a:lnTo>
                      <a:pt x="84" y="295"/>
                    </a:lnTo>
                    <a:lnTo>
                      <a:pt x="45" y="296"/>
                    </a:lnTo>
                    <a:lnTo>
                      <a:pt x="0" y="297"/>
                    </a:lnTo>
                    <a:lnTo>
                      <a:pt x="0" y="321"/>
                    </a:lnTo>
                    <a:lnTo>
                      <a:pt x="46" y="320"/>
                    </a:lnTo>
                    <a:lnTo>
                      <a:pt x="87" y="318"/>
                    </a:lnTo>
                    <a:lnTo>
                      <a:pt x="123" y="316"/>
                    </a:lnTo>
                    <a:lnTo>
                      <a:pt x="156" y="312"/>
                    </a:lnTo>
                    <a:lnTo>
                      <a:pt x="171" y="308"/>
                    </a:lnTo>
                    <a:lnTo>
                      <a:pt x="186" y="305"/>
                    </a:lnTo>
                    <a:lnTo>
                      <a:pt x="200" y="300"/>
                    </a:lnTo>
                    <a:lnTo>
                      <a:pt x="213" y="296"/>
                    </a:lnTo>
                    <a:lnTo>
                      <a:pt x="225" y="290"/>
                    </a:lnTo>
                    <a:lnTo>
                      <a:pt x="236" y="284"/>
                    </a:lnTo>
                    <a:lnTo>
                      <a:pt x="247" y="276"/>
                    </a:lnTo>
                    <a:lnTo>
                      <a:pt x="258" y="268"/>
                    </a:lnTo>
                    <a:lnTo>
                      <a:pt x="267" y="260"/>
                    </a:lnTo>
                    <a:lnTo>
                      <a:pt x="275" y="250"/>
                    </a:lnTo>
                    <a:lnTo>
                      <a:pt x="282" y="240"/>
                    </a:lnTo>
                    <a:lnTo>
                      <a:pt x="288" y="228"/>
                    </a:lnTo>
                    <a:lnTo>
                      <a:pt x="295" y="216"/>
                    </a:lnTo>
                    <a:lnTo>
                      <a:pt x="300" y="202"/>
                    </a:lnTo>
                    <a:lnTo>
                      <a:pt x="304" y="189"/>
                    </a:lnTo>
                    <a:lnTo>
                      <a:pt x="309" y="173"/>
                    </a:lnTo>
                    <a:lnTo>
                      <a:pt x="312" y="157"/>
                    </a:lnTo>
                    <a:lnTo>
                      <a:pt x="316" y="139"/>
                    </a:lnTo>
                    <a:lnTo>
                      <a:pt x="318" y="121"/>
                    </a:lnTo>
                    <a:lnTo>
                      <a:pt x="319" y="102"/>
                    </a:lnTo>
                    <a:lnTo>
                      <a:pt x="322" y="60"/>
                    </a:lnTo>
                    <a:lnTo>
                      <a:pt x="323" y="12"/>
                    </a:lnTo>
                    <a:lnTo>
                      <a:pt x="310" y="0"/>
                    </a:lnTo>
                    <a:lnTo>
                      <a:pt x="323" y="12"/>
                    </a:lnTo>
                    <a:lnTo>
                      <a:pt x="322" y="7"/>
                    </a:lnTo>
                    <a:lnTo>
                      <a:pt x="319" y="3"/>
                    </a:lnTo>
                    <a:lnTo>
                      <a:pt x="315" y="0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302" y="3"/>
                    </a:lnTo>
                    <a:lnTo>
                      <a:pt x="300" y="7"/>
                    </a:lnTo>
                    <a:lnTo>
                      <a:pt x="299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900680" y="374184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3" h="217">
                    <a:moveTo>
                      <a:pt x="1" y="209"/>
                    </a:moveTo>
                    <a:lnTo>
                      <a:pt x="12" y="217"/>
                    </a:lnTo>
                    <a:lnTo>
                      <a:pt x="26" y="216"/>
                    </a:lnTo>
                    <a:lnTo>
                      <a:pt x="38" y="215"/>
                    </a:lnTo>
                    <a:lnTo>
                      <a:pt x="51" y="211"/>
                    </a:lnTo>
                    <a:lnTo>
                      <a:pt x="63" y="208"/>
                    </a:lnTo>
                    <a:lnTo>
                      <a:pt x="76" y="203"/>
                    </a:lnTo>
                    <a:lnTo>
                      <a:pt x="88" y="198"/>
                    </a:lnTo>
                    <a:lnTo>
                      <a:pt x="100" y="192"/>
                    </a:lnTo>
                    <a:lnTo>
                      <a:pt x="111" y="185"/>
                    </a:lnTo>
                    <a:lnTo>
                      <a:pt x="135" y="170"/>
                    </a:lnTo>
                    <a:lnTo>
                      <a:pt x="158" y="153"/>
                    </a:lnTo>
                    <a:lnTo>
                      <a:pt x="182" y="136"/>
                    </a:lnTo>
                    <a:lnTo>
                      <a:pt x="206" y="118"/>
                    </a:lnTo>
                    <a:lnTo>
                      <a:pt x="231" y="101"/>
                    </a:lnTo>
                    <a:lnTo>
                      <a:pt x="257" y="84"/>
                    </a:lnTo>
                    <a:lnTo>
                      <a:pt x="271" y="76"/>
                    </a:lnTo>
                    <a:lnTo>
                      <a:pt x="286" y="68"/>
                    </a:lnTo>
                    <a:lnTo>
                      <a:pt x="299" y="60"/>
                    </a:lnTo>
                    <a:lnTo>
                      <a:pt x="314" y="53"/>
                    </a:lnTo>
                    <a:lnTo>
                      <a:pt x="330" y="47"/>
                    </a:lnTo>
                    <a:lnTo>
                      <a:pt x="346" y="41"/>
                    </a:lnTo>
                    <a:lnTo>
                      <a:pt x="362" y="37"/>
                    </a:lnTo>
                    <a:lnTo>
                      <a:pt x="379" y="32"/>
                    </a:lnTo>
                    <a:lnTo>
                      <a:pt x="396" y="29"/>
                    </a:lnTo>
                    <a:lnTo>
                      <a:pt x="414" y="27"/>
                    </a:lnTo>
                    <a:lnTo>
                      <a:pt x="434" y="24"/>
                    </a:lnTo>
                    <a:lnTo>
                      <a:pt x="453" y="24"/>
                    </a:lnTo>
                    <a:lnTo>
                      <a:pt x="453" y="0"/>
                    </a:lnTo>
                    <a:lnTo>
                      <a:pt x="433" y="0"/>
                    </a:lnTo>
                    <a:lnTo>
                      <a:pt x="412" y="3"/>
                    </a:lnTo>
                    <a:lnTo>
                      <a:pt x="393" y="5"/>
                    </a:lnTo>
                    <a:lnTo>
                      <a:pt x="373" y="8"/>
                    </a:lnTo>
                    <a:lnTo>
                      <a:pt x="355" y="13"/>
                    </a:lnTo>
                    <a:lnTo>
                      <a:pt x="338" y="19"/>
                    </a:lnTo>
                    <a:lnTo>
                      <a:pt x="321" y="24"/>
                    </a:lnTo>
                    <a:lnTo>
                      <a:pt x="305" y="31"/>
                    </a:lnTo>
                    <a:lnTo>
                      <a:pt x="289" y="38"/>
                    </a:lnTo>
                    <a:lnTo>
                      <a:pt x="274" y="46"/>
                    </a:lnTo>
                    <a:lnTo>
                      <a:pt x="259" y="54"/>
                    </a:lnTo>
                    <a:lnTo>
                      <a:pt x="245" y="63"/>
                    </a:lnTo>
                    <a:lnTo>
                      <a:pt x="217" y="80"/>
                    </a:lnTo>
                    <a:lnTo>
                      <a:pt x="192" y="98"/>
                    </a:lnTo>
                    <a:lnTo>
                      <a:pt x="167" y="117"/>
                    </a:lnTo>
                    <a:lnTo>
                      <a:pt x="144" y="134"/>
                    </a:lnTo>
                    <a:lnTo>
                      <a:pt x="121" y="150"/>
                    </a:lnTo>
                    <a:lnTo>
                      <a:pt x="99" y="165"/>
                    </a:lnTo>
                    <a:lnTo>
                      <a:pt x="88" y="170"/>
                    </a:lnTo>
                    <a:lnTo>
                      <a:pt x="77" y="176"/>
                    </a:lnTo>
                    <a:lnTo>
                      <a:pt x="67" y="181"/>
                    </a:lnTo>
                    <a:lnTo>
                      <a:pt x="55" y="185"/>
                    </a:lnTo>
                    <a:lnTo>
                      <a:pt x="45" y="189"/>
                    </a:lnTo>
                    <a:lnTo>
                      <a:pt x="34" y="191"/>
                    </a:lnTo>
                    <a:lnTo>
                      <a:pt x="23" y="192"/>
                    </a:lnTo>
                    <a:lnTo>
                      <a:pt x="12" y="192"/>
                    </a:lnTo>
                    <a:lnTo>
                      <a:pt x="23" y="200"/>
                    </a:lnTo>
                    <a:lnTo>
                      <a:pt x="12" y="192"/>
                    </a:lnTo>
                    <a:lnTo>
                      <a:pt x="6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9"/>
                    </a:lnTo>
                    <a:lnTo>
                      <a:pt x="3" y="212"/>
                    </a:lnTo>
                    <a:lnTo>
                      <a:pt x="6" y="216"/>
                    </a:lnTo>
                    <a:lnTo>
                      <a:pt x="12" y="217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780080" y="3751560"/>
                <a:ext cx="128520" cy="55440"/>
              </a:xfrm>
              <a:custGeom>
                <a:avLst/>
                <a:gdLst/>
                <a:ahLst/>
                <a:rect l="l" t="t" r="r" b="b"/>
                <a:pathLst>
                  <a:path w="405" h="178">
                    <a:moveTo>
                      <a:pt x="24" y="12"/>
                    </a:moveTo>
                    <a:lnTo>
                      <a:pt x="11" y="24"/>
                    </a:lnTo>
                    <a:lnTo>
                      <a:pt x="75" y="24"/>
                    </a:lnTo>
                    <a:lnTo>
                      <a:pt x="135" y="25"/>
                    </a:lnTo>
                    <a:lnTo>
                      <a:pt x="163" y="26"/>
                    </a:lnTo>
                    <a:lnTo>
                      <a:pt x="189" y="29"/>
                    </a:lnTo>
                    <a:lnTo>
                      <a:pt x="214" y="33"/>
                    </a:lnTo>
                    <a:lnTo>
                      <a:pt x="239" y="38"/>
                    </a:lnTo>
                    <a:lnTo>
                      <a:pt x="249" y="42"/>
                    </a:lnTo>
                    <a:lnTo>
                      <a:pt x="261" y="46"/>
                    </a:lnTo>
                    <a:lnTo>
                      <a:pt x="271" y="50"/>
                    </a:lnTo>
                    <a:lnTo>
                      <a:pt x="282" y="56"/>
                    </a:lnTo>
                    <a:lnTo>
                      <a:pt x="291" y="62"/>
                    </a:lnTo>
                    <a:lnTo>
                      <a:pt x="302" y="67"/>
                    </a:lnTo>
                    <a:lnTo>
                      <a:pt x="311" y="74"/>
                    </a:lnTo>
                    <a:lnTo>
                      <a:pt x="320" y="82"/>
                    </a:lnTo>
                    <a:lnTo>
                      <a:pt x="329" y="91"/>
                    </a:lnTo>
                    <a:lnTo>
                      <a:pt x="337" y="101"/>
                    </a:lnTo>
                    <a:lnTo>
                      <a:pt x="346" y="111"/>
                    </a:lnTo>
                    <a:lnTo>
                      <a:pt x="354" y="122"/>
                    </a:lnTo>
                    <a:lnTo>
                      <a:pt x="361" y="135"/>
                    </a:lnTo>
                    <a:lnTo>
                      <a:pt x="369" y="148"/>
                    </a:lnTo>
                    <a:lnTo>
                      <a:pt x="376" y="162"/>
                    </a:lnTo>
                    <a:lnTo>
                      <a:pt x="383" y="178"/>
                    </a:lnTo>
                    <a:lnTo>
                      <a:pt x="405" y="169"/>
                    </a:lnTo>
                    <a:lnTo>
                      <a:pt x="397" y="153"/>
                    </a:lnTo>
                    <a:lnTo>
                      <a:pt x="391" y="137"/>
                    </a:lnTo>
                    <a:lnTo>
                      <a:pt x="383" y="122"/>
                    </a:lnTo>
                    <a:lnTo>
                      <a:pt x="374" y="110"/>
                    </a:lnTo>
                    <a:lnTo>
                      <a:pt x="366" y="97"/>
                    </a:lnTo>
                    <a:lnTo>
                      <a:pt x="356" y="86"/>
                    </a:lnTo>
                    <a:lnTo>
                      <a:pt x="346" y="74"/>
                    </a:lnTo>
                    <a:lnTo>
                      <a:pt x="337" y="65"/>
                    </a:lnTo>
                    <a:lnTo>
                      <a:pt x="326" y="56"/>
                    </a:lnTo>
                    <a:lnTo>
                      <a:pt x="315" y="48"/>
                    </a:lnTo>
                    <a:lnTo>
                      <a:pt x="304" y="41"/>
                    </a:lnTo>
                    <a:lnTo>
                      <a:pt x="294" y="34"/>
                    </a:lnTo>
                    <a:lnTo>
                      <a:pt x="281" y="29"/>
                    </a:lnTo>
                    <a:lnTo>
                      <a:pt x="270" y="23"/>
                    </a:lnTo>
                    <a:lnTo>
                      <a:pt x="257" y="18"/>
                    </a:lnTo>
                    <a:lnTo>
                      <a:pt x="245" y="15"/>
                    </a:lnTo>
                    <a:lnTo>
                      <a:pt x="219" y="9"/>
                    </a:lnTo>
                    <a:lnTo>
                      <a:pt x="192" y="5"/>
                    </a:lnTo>
                    <a:lnTo>
                      <a:pt x="165" y="2"/>
                    </a:lnTo>
                    <a:lnTo>
                      <a:pt x="135" y="0"/>
                    </a:lnTo>
                    <a:lnTo>
                      <a:pt x="75" y="0"/>
                    </a:lnTo>
                    <a:lnTo>
                      <a:pt x="11" y="0"/>
                    </a:lnTo>
                    <a:lnTo>
                      <a:pt x="0" y="13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5" y="23"/>
                    </a:lnTo>
                    <a:lnTo>
                      <a:pt x="11" y="2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780080" y="3754800"/>
                <a:ext cx="11160" cy="74520"/>
              </a:xfrm>
              <a:custGeom>
                <a:avLst/>
                <a:gdLst/>
                <a:ahLst/>
                <a:rect l="l" t="t" r="r" b="b"/>
                <a:pathLst>
                  <a:path w="38" h="232">
                    <a:moveTo>
                      <a:pt x="27" y="232"/>
                    </a:moveTo>
                    <a:lnTo>
                      <a:pt x="38" y="2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15" y="221"/>
                    </a:lnTo>
                    <a:lnTo>
                      <a:pt x="27" y="232"/>
                    </a:lnTo>
                    <a:lnTo>
                      <a:pt x="15" y="221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4" y="232"/>
                    </a:lnTo>
                    <a:lnTo>
                      <a:pt x="28" y="232"/>
                    </a:lnTo>
                    <a:lnTo>
                      <a:pt x="32" y="231"/>
                    </a:lnTo>
                    <a:lnTo>
                      <a:pt x="36" y="229"/>
                    </a:lnTo>
                    <a:lnTo>
                      <a:pt x="38" y="225"/>
                    </a:lnTo>
                    <a:lnTo>
                      <a:pt x="38" y="220"/>
                    </a:lnTo>
                    <a:lnTo>
                      <a:pt x="2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788000" y="3821400"/>
                <a:ext cx="55440" cy="31680"/>
              </a:xfrm>
              <a:custGeom>
                <a:avLst/>
                <a:gdLst/>
                <a:ahLst/>
                <a:rect l="l" t="t" r="r" b="b"/>
                <a:pathLst>
                  <a:path w="173" h="99">
                    <a:moveTo>
                      <a:pt x="161" y="99"/>
                    </a:moveTo>
                    <a:lnTo>
                      <a:pt x="161" y="74"/>
                    </a:lnTo>
                    <a:lnTo>
                      <a:pt x="153" y="74"/>
                    </a:lnTo>
                    <a:lnTo>
                      <a:pt x="144" y="72"/>
                    </a:lnTo>
                    <a:lnTo>
                      <a:pt x="136" y="69"/>
                    </a:lnTo>
                    <a:lnTo>
                      <a:pt x="128" y="65"/>
                    </a:lnTo>
                    <a:lnTo>
                      <a:pt x="111" y="54"/>
                    </a:lnTo>
                    <a:lnTo>
                      <a:pt x="94" y="40"/>
                    </a:lnTo>
                    <a:lnTo>
                      <a:pt x="84" y="33"/>
                    </a:lnTo>
                    <a:lnTo>
                      <a:pt x="74" y="26"/>
                    </a:lnTo>
                    <a:lnTo>
                      <a:pt x="64" y="20"/>
                    </a:lnTo>
                    <a:lnTo>
                      <a:pt x="53" y="13"/>
                    </a:lnTo>
                    <a:lnTo>
                      <a:pt x="41" y="8"/>
                    </a:lnTo>
                    <a:lnTo>
                      <a:pt x="29" y="4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5"/>
                    </a:lnTo>
                    <a:lnTo>
                      <a:pt x="23" y="28"/>
                    </a:lnTo>
                    <a:lnTo>
                      <a:pt x="33" y="31"/>
                    </a:lnTo>
                    <a:lnTo>
                      <a:pt x="42" y="34"/>
                    </a:lnTo>
                    <a:lnTo>
                      <a:pt x="51" y="40"/>
                    </a:lnTo>
                    <a:lnTo>
                      <a:pt x="60" y="46"/>
                    </a:lnTo>
                    <a:lnTo>
                      <a:pt x="70" y="53"/>
                    </a:lnTo>
                    <a:lnTo>
                      <a:pt x="79" y="59"/>
                    </a:lnTo>
                    <a:lnTo>
                      <a:pt x="97" y="73"/>
                    </a:lnTo>
                    <a:lnTo>
                      <a:pt x="115" y="86"/>
                    </a:lnTo>
                    <a:lnTo>
                      <a:pt x="127" y="91"/>
                    </a:lnTo>
                    <a:lnTo>
                      <a:pt x="137" y="95"/>
                    </a:lnTo>
                    <a:lnTo>
                      <a:pt x="148" y="98"/>
                    </a:lnTo>
                    <a:lnTo>
                      <a:pt x="161" y="99"/>
                    </a:lnTo>
                    <a:lnTo>
                      <a:pt x="161" y="74"/>
                    </a:lnTo>
                    <a:lnTo>
                      <a:pt x="161" y="99"/>
                    </a:lnTo>
                    <a:lnTo>
                      <a:pt x="166" y="98"/>
                    </a:lnTo>
                    <a:lnTo>
                      <a:pt x="170" y="95"/>
                    </a:lnTo>
                    <a:lnTo>
                      <a:pt x="172" y="91"/>
                    </a:lnTo>
                    <a:lnTo>
                      <a:pt x="173" y="87"/>
                    </a:lnTo>
                    <a:lnTo>
                      <a:pt x="172" y="82"/>
                    </a:lnTo>
                    <a:lnTo>
                      <a:pt x="170" y="79"/>
                    </a:lnTo>
                    <a:lnTo>
                      <a:pt x="166" y="75"/>
                    </a:lnTo>
                    <a:lnTo>
                      <a:pt x="161" y="74"/>
                    </a:lnTo>
                    <a:lnTo>
                      <a:pt x="161" y="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21120" y="38451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6" y="23"/>
                    </a:moveTo>
                    <a:lnTo>
                      <a:pt x="11" y="25"/>
                    </a:lnTo>
                    <a:lnTo>
                      <a:pt x="55" y="25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6" y="23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6" y="24"/>
                    </a:lnTo>
                    <a:lnTo>
                      <a:pt x="11" y="2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807160" y="3983400"/>
                <a:ext cx="261720" cy="172800"/>
              </a:xfrm>
              <a:custGeom>
                <a:avLst/>
                <a:gdLst/>
                <a:ahLst/>
                <a:rect l="l" t="t" r="r" b="b"/>
                <a:pathLst>
                  <a:path w="824" h="545">
                    <a:moveTo>
                      <a:pt x="133" y="325"/>
                    </a:moveTo>
                    <a:lnTo>
                      <a:pt x="165" y="346"/>
                    </a:lnTo>
                    <a:lnTo>
                      <a:pt x="196" y="365"/>
                    </a:lnTo>
                    <a:lnTo>
                      <a:pt x="224" y="384"/>
                    </a:lnTo>
                    <a:lnTo>
                      <a:pt x="253" y="404"/>
                    </a:lnTo>
                    <a:lnTo>
                      <a:pt x="280" y="423"/>
                    </a:lnTo>
                    <a:lnTo>
                      <a:pt x="307" y="441"/>
                    </a:lnTo>
                    <a:lnTo>
                      <a:pt x="335" y="458"/>
                    </a:lnTo>
                    <a:lnTo>
                      <a:pt x="363" y="474"/>
                    </a:lnTo>
                    <a:lnTo>
                      <a:pt x="392" y="489"/>
                    </a:lnTo>
                    <a:lnTo>
                      <a:pt x="421" y="503"/>
                    </a:lnTo>
                    <a:lnTo>
                      <a:pt x="437" y="510"/>
                    </a:lnTo>
                    <a:lnTo>
                      <a:pt x="453" y="515"/>
                    </a:lnTo>
                    <a:lnTo>
                      <a:pt x="469" y="521"/>
                    </a:lnTo>
                    <a:lnTo>
                      <a:pt x="486" y="526"/>
                    </a:lnTo>
                    <a:lnTo>
                      <a:pt x="504" y="530"/>
                    </a:lnTo>
                    <a:lnTo>
                      <a:pt x="523" y="534"/>
                    </a:lnTo>
                    <a:lnTo>
                      <a:pt x="541" y="537"/>
                    </a:lnTo>
                    <a:lnTo>
                      <a:pt x="560" y="541"/>
                    </a:lnTo>
                    <a:lnTo>
                      <a:pt x="581" y="543"/>
                    </a:lnTo>
                    <a:lnTo>
                      <a:pt x="602" y="544"/>
                    </a:lnTo>
                    <a:lnTo>
                      <a:pt x="624" y="545"/>
                    </a:lnTo>
                    <a:lnTo>
                      <a:pt x="647" y="545"/>
                    </a:lnTo>
                    <a:lnTo>
                      <a:pt x="654" y="515"/>
                    </a:lnTo>
                    <a:lnTo>
                      <a:pt x="658" y="489"/>
                    </a:lnTo>
                    <a:lnTo>
                      <a:pt x="661" y="468"/>
                    </a:lnTo>
                    <a:lnTo>
                      <a:pt x="662" y="448"/>
                    </a:lnTo>
                    <a:lnTo>
                      <a:pt x="661" y="440"/>
                    </a:lnTo>
                    <a:lnTo>
                      <a:pt x="659" y="433"/>
                    </a:lnTo>
                    <a:lnTo>
                      <a:pt x="657" y="427"/>
                    </a:lnTo>
                    <a:lnTo>
                      <a:pt x="655" y="420"/>
                    </a:lnTo>
                    <a:lnTo>
                      <a:pt x="653" y="414"/>
                    </a:lnTo>
                    <a:lnTo>
                      <a:pt x="649" y="408"/>
                    </a:lnTo>
                    <a:lnTo>
                      <a:pt x="646" y="404"/>
                    </a:lnTo>
                    <a:lnTo>
                      <a:pt x="641" y="399"/>
                    </a:lnTo>
                    <a:lnTo>
                      <a:pt x="631" y="390"/>
                    </a:lnTo>
                    <a:lnTo>
                      <a:pt x="620" y="380"/>
                    </a:lnTo>
                    <a:lnTo>
                      <a:pt x="606" y="371"/>
                    </a:lnTo>
                    <a:lnTo>
                      <a:pt x="591" y="360"/>
                    </a:lnTo>
                    <a:lnTo>
                      <a:pt x="574" y="348"/>
                    </a:lnTo>
                    <a:lnTo>
                      <a:pt x="556" y="333"/>
                    </a:lnTo>
                    <a:lnTo>
                      <a:pt x="535" y="316"/>
                    </a:lnTo>
                    <a:lnTo>
                      <a:pt x="514" y="297"/>
                    </a:lnTo>
                    <a:lnTo>
                      <a:pt x="558" y="295"/>
                    </a:lnTo>
                    <a:lnTo>
                      <a:pt x="599" y="294"/>
                    </a:lnTo>
                    <a:lnTo>
                      <a:pt x="636" y="292"/>
                    </a:lnTo>
                    <a:lnTo>
                      <a:pt x="667" y="287"/>
                    </a:lnTo>
                    <a:lnTo>
                      <a:pt x="682" y="284"/>
                    </a:lnTo>
                    <a:lnTo>
                      <a:pt x="696" y="281"/>
                    </a:lnTo>
                    <a:lnTo>
                      <a:pt x="710" y="277"/>
                    </a:lnTo>
                    <a:lnTo>
                      <a:pt x="722" y="273"/>
                    </a:lnTo>
                    <a:lnTo>
                      <a:pt x="734" y="267"/>
                    </a:lnTo>
                    <a:lnTo>
                      <a:pt x="744" y="261"/>
                    </a:lnTo>
                    <a:lnTo>
                      <a:pt x="753" y="254"/>
                    </a:lnTo>
                    <a:lnTo>
                      <a:pt x="762" y="248"/>
                    </a:lnTo>
                    <a:lnTo>
                      <a:pt x="771" y="240"/>
                    </a:lnTo>
                    <a:lnTo>
                      <a:pt x="778" y="230"/>
                    </a:lnTo>
                    <a:lnTo>
                      <a:pt x="785" y="221"/>
                    </a:lnTo>
                    <a:lnTo>
                      <a:pt x="792" y="210"/>
                    </a:lnTo>
                    <a:lnTo>
                      <a:pt x="797" y="199"/>
                    </a:lnTo>
                    <a:lnTo>
                      <a:pt x="802" y="186"/>
                    </a:lnTo>
                    <a:lnTo>
                      <a:pt x="806" y="172"/>
                    </a:lnTo>
                    <a:lnTo>
                      <a:pt x="811" y="159"/>
                    </a:lnTo>
                    <a:lnTo>
                      <a:pt x="814" y="143"/>
                    </a:lnTo>
                    <a:lnTo>
                      <a:pt x="817" y="126"/>
                    </a:lnTo>
                    <a:lnTo>
                      <a:pt x="819" y="107"/>
                    </a:lnTo>
                    <a:lnTo>
                      <a:pt x="821" y="89"/>
                    </a:lnTo>
                    <a:lnTo>
                      <a:pt x="824" y="47"/>
                    </a:lnTo>
                    <a:lnTo>
                      <a:pt x="824" y="0"/>
                    </a:lnTo>
                    <a:lnTo>
                      <a:pt x="803" y="0"/>
                    </a:lnTo>
                    <a:lnTo>
                      <a:pt x="784" y="2"/>
                    </a:lnTo>
                    <a:lnTo>
                      <a:pt x="765" y="5"/>
                    </a:lnTo>
                    <a:lnTo>
                      <a:pt x="747" y="8"/>
                    </a:lnTo>
                    <a:lnTo>
                      <a:pt x="729" y="13"/>
                    </a:lnTo>
                    <a:lnTo>
                      <a:pt x="712" y="17"/>
                    </a:lnTo>
                    <a:lnTo>
                      <a:pt x="696" y="24"/>
                    </a:lnTo>
                    <a:lnTo>
                      <a:pt x="680" y="30"/>
                    </a:lnTo>
                    <a:lnTo>
                      <a:pt x="665" y="37"/>
                    </a:lnTo>
                    <a:lnTo>
                      <a:pt x="650" y="45"/>
                    </a:lnTo>
                    <a:lnTo>
                      <a:pt x="636" y="53"/>
                    </a:lnTo>
                    <a:lnTo>
                      <a:pt x="622" y="61"/>
                    </a:lnTo>
                    <a:lnTo>
                      <a:pt x="594" y="78"/>
                    </a:lnTo>
                    <a:lnTo>
                      <a:pt x="569" y="96"/>
                    </a:lnTo>
                    <a:lnTo>
                      <a:pt x="545" y="114"/>
                    </a:lnTo>
                    <a:lnTo>
                      <a:pt x="522" y="131"/>
                    </a:lnTo>
                    <a:lnTo>
                      <a:pt x="499" y="147"/>
                    </a:lnTo>
                    <a:lnTo>
                      <a:pt x="476" y="162"/>
                    </a:lnTo>
                    <a:lnTo>
                      <a:pt x="465" y="169"/>
                    </a:lnTo>
                    <a:lnTo>
                      <a:pt x="453" y="175"/>
                    </a:lnTo>
                    <a:lnTo>
                      <a:pt x="442" y="179"/>
                    </a:lnTo>
                    <a:lnTo>
                      <a:pt x="430" y="184"/>
                    </a:lnTo>
                    <a:lnTo>
                      <a:pt x="418" y="187"/>
                    </a:lnTo>
                    <a:lnTo>
                      <a:pt x="406" y="191"/>
                    </a:lnTo>
                    <a:lnTo>
                      <a:pt x="395" y="192"/>
                    </a:lnTo>
                    <a:lnTo>
                      <a:pt x="382" y="192"/>
                    </a:lnTo>
                    <a:lnTo>
                      <a:pt x="376" y="176"/>
                    </a:lnTo>
                    <a:lnTo>
                      <a:pt x="368" y="161"/>
                    </a:lnTo>
                    <a:lnTo>
                      <a:pt x="361" y="147"/>
                    </a:lnTo>
                    <a:lnTo>
                      <a:pt x="352" y="135"/>
                    </a:lnTo>
                    <a:lnTo>
                      <a:pt x="344" y="122"/>
                    </a:lnTo>
                    <a:lnTo>
                      <a:pt x="335" y="112"/>
                    </a:lnTo>
                    <a:lnTo>
                      <a:pt x="326" y="102"/>
                    </a:lnTo>
                    <a:lnTo>
                      <a:pt x="316" y="93"/>
                    </a:lnTo>
                    <a:lnTo>
                      <a:pt x="307" y="85"/>
                    </a:lnTo>
                    <a:lnTo>
                      <a:pt x="297" y="77"/>
                    </a:lnTo>
                    <a:lnTo>
                      <a:pt x="287" y="70"/>
                    </a:lnTo>
                    <a:lnTo>
                      <a:pt x="275" y="64"/>
                    </a:lnTo>
                    <a:lnTo>
                      <a:pt x="265" y="58"/>
                    </a:lnTo>
                    <a:lnTo>
                      <a:pt x="254" y="54"/>
                    </a:lnTo>
                    <a:lnTo>
                      <a:pt x="242" y="49"/>
                    </a:lnTo>
                    <a:lnTo>
                      <a:pt x="230" y="46"/>
                    </a:lnTo>
                    <a:lnTo>
                      <a:pt x="205" y="40"/>
                    </a:lnTo>
                    <a:lnTo>
                      <a:pt x="180" y="36"/>
                    </a:lnTo>
                    <a:lnTo>
                      <a:pt x="152" y="33"/>
                    </a:lnTo>
                    <a:lnTo>
                      <a:pt x="124" y="31"/>
                    </a:lnTo>
                    <a:lnTo>
                      <a:pt x="63" y="31"/>
                    </a:lnTo>
                    <a:lnTo>
                      <a:pt x="0" y="31"/>
                    </a:lnTo>
                    <a:lnTo>
                      <a:pt x="16" y="251"/>
                    </a:lnTo>
                    <a:lnTo>
                      <a:pt x="28" y="252"/>
                    </a:lnTo>
                    <a:lnTo>
                      <a:pt x="41" y="254"/>
                    </a:lnTo>
                    <a:lnTo>
                      <a:pt x="52" y="258"/>
                    </a:lnTo>
                    <a:lnTo>
                      <a:pt x="63" y="262"/>
                    </a:lnTo>
                    <a:lnTo>
                      <a:pt x="74" y="268"/>
                    </a:lnTo>
                    <a:lnTo>
                      <a:pt x="83" y="275"/>
                    </a:lnTo>
                    <a:lnTo>
                      <a:pt x="92" y="282"/>
                    </a:lnTo>
                    <a:lnTo>
                      <a:pt x="102" y="289"/>
                    </a:lnTo>
                    <a:lnTo>
                      <a:pt x="119" y="302"/>
                    </a:lnTo>
                    <a:lnTo>
                      <a:pt x="137" y="314"/>
                    </a:lnTo>
                    <a:lnTo>
                      <a:pt x="147" y="318"/>
                    </a:lnTo>
                    <a:lnTo>
                      <a:pt x="156" y="323"/>
                    </a:lnTo>
                    <a:lnTo>
                      <a:pt x="166" y="325"/>
                    </a:lnTo>
                    <a:lnTo>
                      <a:pt x="176" y="325"/>
                    </a:lnTo>
                    <a:lnTo>
                      <a:pt x="133" y="32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848200" y="4083480"/>
                <a:ext cx="168480" cy="77760"/>
              </a:xfrm>
              <a:custGeom>
                <a:avLst/>
                <a:gdLst/>
                <a:ahLst/>
                <a:rect l="l" t="t" r="r" b="b"/>
                <a:pathLst>
                  <a:path w="532" h="243">
                    <a:moveTo>
                      <a:pt x="509" y="228"/>
                    </a:moveTo>
                    <a:lnTo>
                      <a:pt x="520" y="219"/>
                    </a:lnTo>
                    <a:lnTo>
                      <a:pt x="498" y="219"/>
                    </a:lnTo>
                    <a:lnTo>
                      <a:pt x="477" y="218"/>
                    </a:lnTo>
                    <a:lnTo>
                      <a:pt x="455" y="215"/>
                    </a:lnTo>
                    <a:lnTo>
                      <a:pt x="436" y="213"/>
                    </a:lnTo>
                    <a:lnTo>
                      <a:pt x="416" y="211"/>
                    </a:lnTo>
                    <a:lnTo>
                      <a:pt x="398" y="207"/>
                    </a:lnTo>
                    <a:lnTo>
                      <a:pt x="380" y="204"/>
                    </a:lnTo>
                    <a:lnTo>
                      <a:pt x="363" y="199"/>
                    </a:lnTo>
                    <a:lnTo>
                      <a:pt x="346" y="195"/>
                    </a:lnTo>
                    <a:lnTo>
                      <a:pt x="330" y="189"/>
                    </a:lnTo>
                    <a:lnTo>
                      <a:pt x="315" y="183"/>
                    </a:lnTo>
                    <a:lnTo>
                      <a:pt x="299" y="178"/>
                    </a:lnTo>
                    <a:lnTo>
                      <a:pt x="270" y="164"/>
                    </a:lnTo>
                    <a:lnTo>
                      <a:pt x="242" y="149"/>
                    </a:lnTo>
                    <a:lnTo>
                      <a:pt x="214" y="133"/>
                    </a:lnTo>
                    <a:lnTo>
                      <a:pt x="187" y="116"/>
                    </a:lnTo>
                    <a:lnTo>
                      <a:pt x="160" y="98"/>
                    </a:lnTo>
                    <a:lnTo>
                      <a:pt x="132" y="79"/>
                    </a:lnTo>
                    <a:lnTo>
                      <a:pt x="104" y="59"/>
                    </a:lnTo>
                    <a:lnTo>
                      <a:pt x="75" y="40"/>
                    </a:lnTo>
                    <a:lnTo>
                      <a:pt x="45" y="20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32" y="41"/>
                    </a:lnTo>
                    <a:lnTo>
                      <a:pt x="62" y="60"/>
                    </a:lnTo>
                    <a:lnTo>
                      <a:pt x="91" y="80"/>
                    </a:lnTo>
                    <a:lnTo>
                      <a:pt x="119" y="99"/>
                    </a:lnTo>
                    <a:lnTo>
                      <a:pt x="146" y="117"/>
                    </a:lnTo>
                    <a:lnTo>
                      <a:pt x="173" y="137"/>
                    </a:lnTo>
                    <a:lnTo>
                      <a:pt x="202" y="154"/>
                    </a:lnTo>
                    <a:lnTo>
                      <a:pt x="230" y="170"/>
                    </a:lnTo>
                    <a:lnTo>
                      <a:pt x="259" y="186"/>
                    </a:lnTo>
                    <a:lnTo>
                      <a:pt x="290" y="199"/>
                    </a:lnTo>
                    <a:lnTo>
                      <a:pt x="306" y="206"/>
                    </a:lnTo>
                    <a:lnTo>
                      <a:pt x="322" y="212"/>
                    </a:lnTo>
                    <a:lnTo>
                      <a:pt x="339" y="218"/>
                    </a:lnTo>
                    <a:lnTo>
                      <a:pt x="357" y="222"/>
                    </a:lnTo>
                    <a:lnTo>
                      <a:pt x="374" y="227"/>
                    </a:lnTo>
                    <a:lnTo>
                      <a:pt x="393" y="231"/>
                    </a:lnTo>
                    <a:lnTo>
                      <a:pt x="413" y="235"/>
                    </a:lnTo>
                    <a:lnTo>
                      <a:pt x="432" y="237"/>
                    </a:lnTo>
                    <a:lnTo>
                      <a:pt x="453" y="239"/>
                    </a:lnTo>
                    <a:lnTo>
                      <a:pt x="474" y="242"/>
                    </a:lnTo>
                    <a:lnTo>
                      <a:pt x="497" y="243"/>
                    </a:lnTo>
                    <a:lnTo>
                      <a:pt x="520" y="243"/>
                    </a:lnTo>
                    <a:lnTo>
                      <a:pt x="532" y="234"/>
                    </a:lnTo>
                    <a:lnTo>
                      <a:pt x="520" y="243"/>
                    </a:lnTo>
                    <a:lnTo>
                      <a:pt x="526" y="242"/>
                    </a:lnTo>
                    <a:lnTo>
                      <a:pt x="529" y="239"/>
                    </a:lnTo>
                    <a:lnTo>
                      <a:pt x="531" y="235"/>
                    </a:lnTo>
                    <a:lnTo>
                      <a:pt x="532" y="230"/>
                    </a:lnTo>
                    <a:lnTo>
                      <a:pt x="531" y="227"/>
                    </a:lnTo>
                    <a:lnTo>
                      <a:pt x="529" y="222"/>
                    </a:lnTo>
                    <a:lnTo>
                      <a:pt x="526" y="220"/>
                    </a:lnTo>
                    <a:lnTo>
                      <a:pt x="520" y="219"/>
                    </a:lnTo>
                    <a:lnTo>
                      <a:pt x="509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967360" y="4073760"/>
                <a:ext cx="54000" cy="84240"/>
              </a:xfrm>
              <a:custGeom>
                <a:avLst/>
                <a:gdLst/>
                <a:ahLst/>
                <a:rect l="l" t="t" r="r" b="b"/>
                <a:pathLst>
                  <a:path w="171" h="265">
                    <a:moveTo>
                      <a:pt x="12" y="0"/>
                    </a:moveTo>
                    <a:lnTo>
                      <a:pt x="4" y="21"/>
                    </a:lnTo>
                    <a:lnTo>
                      <a:pt x="25" y="41"/>
                    </a:lnTo>
                    <a:lnTo>
                      <a:pt x="46" y="59"/>
                    </a:lnTo>
                    <a:lnTo>
                      <a:pt x="64" y="73"/>
                    </a:lnTo>
                    <a:lnTo>
                      <a:pt x="81" y="86"/>
                    </a:lnTo>
                    <a:lnTo>
                      <a:pt x="97" y="97"/>
                    </a:lnTo>
                    <a:lnTo>
                      <a:pt x="110" y="106"/>
                    </a:lnTo>
                    <a:lnTo>
                      <a:pt x="121" y="115"/>
                    </a:lnTo>
                    <a:lnTo>
                      <a:pt x="130" y="123"/>
                    </a:lnTo>
                    <a:lnTo>
                      <a:pt x="134" y="128"/>
                    </a:lnTo>
                    <a:lnTo>
                      <a:pt x="137" y="131"/>
                    </a:lnTo>
                    <a:lnTo>
                      <a:pt x="139" y="136"/>
                    </a:lnTo>
                    <a:lnTo>
                      <a:pt x="141" y="140"/>
                    </a:lnTo>
                    <a:lnTo>
                      <a:pt x="144" y="146"/>
                    </a:lnTo>
                    <a:lnTo>
                      <a:pt x="145" y="152"/>
                    </a:lnTo>
                    <a:lnTo>
                      <a:pt x="146" y="159"/>
                    </a:lnTo>
                    <a:lnTo>
                      <a:pt x="147" y="165"/>
                    </a:lnTo>
                    <a:lnTo>
                      <a:pt x="147" y="182"/>
                    </a:lnTo>
                    <a:lnTo>
                      <a:pt x="145" y="203"/>
                    </a:lnTo>
                    <a:lnTo>
                      <a:pt x="140" y="228"/>
                    </a:lnTo>
                    <a:lnTo>
                      <a:pt x="134" y="259"/>
                    </a:lnTo>
                    <a:lnTo>
                      <a:pt x="157" y="265"/>
                    </a:lnTo>
                    <a:lnTo>
                      <a:pt x="164" y="234"/>
                    </a:lnTo>
                    <a:lnTo>
                      <a:pt x="169" y="206"/>
                    </a:lnTo>
                    <a:lnTo>
                      <a:pt x="171" y="184"/>
                    </a:lnTo>
                    <a:lnTo>
                      <a:pt x="171" y="164"/>
                    </a:lnTo>
                    <a:lnTo>
                      <a:pt x="170" y="155"/>
                    </a:lnTo>
                    <a:lnTo>
                      <a:pt x="169" y="147"/>
                    </a:lnTo>
                    <a:lnTo>
                      <a:pt x="167" y="139"/>
                    </a:lnTo>
                    <a:lnTo>
                      <a:pt x="164" y="131"/>
                    </a:lnTo>
                    <a:lnTo>
                      <a:pt x="161" y="124"/>
                    </a:lnTo>
                    <a:lnTo>
                      <a:pt x="157" y="119"/>
                    </a:lnTo>
                    <a:lnTo>
                      <a:pt x="153" y="112"/>
                    </a:lnTo>
                    <a:lnTo>
                      <a:pt x="147" y="106"/>
                    </a:lnTo>
                    <a:lnTo>
                      <a:pt x="137" y="96"/>
                    </a:lnTo>
                    <a:lnTo>
                      <a:pt x="124" y="87"/>
                    </a:lnTo>
                    <a:lnTo>
                      <a:pt x="111" y="76"/>
                    </a:lnTo>
                    <a:lnTo>
                      <a:pt x="96" y="66"/>
                    </a:lnTo>
                    <a:lnTo>
                      <a:pt x="79" y="54"/>
                    </a:lnTo>
                    <a:lnTo>
                      <a:pt x="61" y="40"/>
                    </a:lnTo>
                    <a:lnTo>
                      <a:pt x="41" y="24"/>
                    </a:lnTo>
                    <a:lnTo>
                      <a:pt x="21" y="3"/>
                    </a:lnTo>
                    <a:lnTo>
                      <a:pt x="12" y="24"/>
                    </a:lnTo>
                    <a:lnTo>
                      <a:pt x="21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4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970600" y="398016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322" h="320">
                    <a:moveTo>
                      <a:pt x="310" y="24"/>
                    </a:moveTo>
                    <a:lnTo>
                      <a:pt x="298" y="12"/>
                    </a:lnTo>
                    <a:lnTo>
                      <a:pt x="297" y="59"/>
                    </a:lnTo>
                    <a:lnTo>
                      <a:pt x="295" y="100"/>
                    </a:lnTo>
                    <a:lnTo>
                      <a:pt x="292" y="118"/>
                    </a:lnTo>
                    <a:lnTo>
                      <a:pt x="290" y="136"/>
                    </a:lnTo>
                    <a:lnTo>
                      <a:pt x="288" y="152"/>
                    </a:lnTo>
                    <a:lnTo>
                      <a:pt x="284" y="167"/>
                    </a:lnTo>
                    <a:lnTo>
                      <a:pt x="281" y="181"/>
                    </a:lnTo>
                    <a:lnTo>
                      <a:pt x="277" y="193"/>
                    </a:lnTo>
                    <a:lnTo>
                      <a:pt x="272" y="206"/>
                    </a:lnTo>
                    <a:lnTo>
                      <a:pt x="267" y="216"/>
                    </a:lnTo>
                    <a:lnTo>
                      <a:pt x="262" y="227"/>
                    </a:lnTo>
                    <a:lnTo>
                      <a:pt x="255" y="236"/>
                    </a:lnTo>
                    <a:lnTo>
                      <a:pt x="248" y="244"/>
                    </a:lnTo>
                    <a:lnTo>
                      <a:pt x="240" y="250"/>
                    </a:lnTo>
                    <a:lnTo>
                      <a:pt x="232" y="257"/>
                    </a:lnTo>
                    <a:lnTo>
                      <a:pt x="223" y="263"/>
                    </a:lnTo>
                    <a:lnTo>
                      <a:pt x="214" y="269"/>
                    </a:lnTo>
                    <a:lnTo>
                      <a:pt x="204" y="273"/>
                    </a:lnTo>
                    <a:lnTo>
                      <a:pt x="191" y="278"/>
                    </a:lnTo>
                    <a:lnTo>
                      <a:pt x="180" y="281"/>
                    </a:lnTo>
                    <a:lnTo>
                      <a:pt x="166" y="285"/>
                    </a:lnTo>
                    <a:lnTo>
                      <a:pt x="152" y="287"/>
                    </a:lnTo>
                    <a:lnTo>
                      <a:pt x="120" y="292"/>
                    </a:lnTo>
                    <a:lnTo>
                      <a:pt x="84" y="294"/>
                    </a:lnTo>
                    <a:lnTo>
                      <a:pt x="44" y="296"/>
                    </a:lnTo>
                    <a:lnTo>
                      <a:pt x="0" y="296"/>
                    </a:lnTo>
                    <a:lnTo>
                      <a:pt x="0" y="320"/>
                    </a:lnTo>
                    <a:lnTo>
                      <a:pt x="45" y="320"/>
                    </a:lnTo>
                    <a:lnTo>
                      <a:pt x="85" y="319"/>
                    </a:lnTo>
                    <a:lnTo>
                      <a:pt x="123" y="315"/>
                    </a:lnTo>
                    <a:lnTo>
                      <a:pt x="156" y="311"/>
                    </a:lnTo>
                    <a:lnTo>
                      <a:pt x="171" y="309"/>
                    </a:lnTo>
                    <a:lnTo>
                      <a:pt x="185" y="304"/>
                    </a:lnTo>
                    <a:lnTo>
                      <a:pt x="199" y="301"/>
                    </a:lnTo>
                    <a:lnTo>
                      <a:pt x="213" y="296"/>
                    </a:lnTo>
                    <a:lnTo>
                      <a:pt x="224" y="290"/>
                    </a:lnTo>
                    <a:lnTo>
                      <a:pt x="235" y="284"/>
                    </a:lnTo>
                    <a:lnTo>
                      <a:pt x="247" y="277"/>
                    </a:lnTo>
                    <a:lnTo>
                      <a:pt x="256" y="269"/>
                    </a:lnTo>
                    <a:lnTo>
                      <a:pt x="265" y="260"/>
                    </a:lnTo>
                    <a:lnTo>
                      <a:pt x="274" y="250"/>
                    </a:lnTo>
                    <a:lnTo>
                      <a:pt x="281" y="239"/>
                    </a:lnTo>
                    <a:lnTo>
                      <a:pt x="288" y="228"/>
                    </a:lnTo>
                    <a:lnTo>
                      <a:pt x="295" y="215"/>
                    </a:lnTo>
                    <a:lnTo>
                      <a:pt x="299" y="203"/>
                    </a:lnTo>
                    <a:lnTo>
                      <a:pt x="304" y="188"/>
                    </a:lnTo>
                    <a:lnTo>
                      <a:pt x="308" y="173"/>
                    </a:lnTo>
                    <a:lnTo>
                      <a:pt x="312" y="157"/>
                    </a:lnTo>
                    <a:lnTo>
                      <a:pt x="314" y="140"/>
                    </a:lnTo>
                    <a:lnTo>
                      <a:pt x="318" y="122"/>
                    </a:lnTo>
                    <a:lnTo>
                      <a:pt x="319" y="101"/>
                    </a:lnTo>
                    <a:lnTo>
                      <a:pt x="321" y="59"/>
                    </a:lnTo>
                    <a:lnTo>
                      <a:pt x="322" y="12"/>
                    </a:lnTo>
                    <a:lnTo>
                      <a:pt x="310" y="0"/>
                    </a:lnTo>
                    <a:lnTo>
                      <a:pt x="322" y="12"/>
                    </a:lnTo>
                    <a:lnTo>
                      <a:pt x="321" y="7"/>
                    </a:lnTo>
                    <a:lnTo>
                      <a:pt x="319" y="3"/>
                    </a:lnTo>
                    <a:lnTo>
                      <a:pt x="314" y="1"/>
                    </a:lnTo>
                    <a:lnTo>
                      <a:pt x="310" y="0"/>
                    </a:lnTo>
                    <a:lnTo>
                      <a:pt x="305" y="1"/>
                    </a:lnTo>
                    <a:lnTo>
                      <a:pt x="302" y="3"/>
                    </a:lnTo>
                    <a:lnTo>
                      <a:pt x="299" y="7"/>
                    </a:lnTo>
                    <a:lnTo>
                      <a:pt x="298" y="12"/>
                    </a:lnTo>
                    <a:lnTo>
                      <a:pt x="31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4520" y="3980160"/>
                <a:ext cx="144360" cy="68400"/>
              </a:xfrm>
              <a:custGeom>
                <a:avLst/>
                <a:gdLst/>
                <a:ahLst/>
                <a:rect l="l" t="t" r="r" b="b"/>
                <a:pathLst>
                  <a:path w="454" h="216">
                    <a:moveTo>
                      <a:pt x="1" y="209"/>
                    </a:moveTo>
                    <a:lnTo>
                      <a:pt x="12" y="216"/>
                    </a:lnTo>
                    <a:lnTo>
                      <a:pt x="25" y="216"/>
                    </a:lnTo>
                    <a:lnTo>
                      <a:pt x="39" y="214"/>
                    </a:lnTo>
                    <a:lnTo>
                      <a:pt x="51" y="212"/>
                    </a:lnTo>
                    <a:lnTo>
                      <a:pt x="64" y="207"/>
                    </a:lnTo>
                    <a:lnTo>
                      <a:pt x="76" y="203"/>
                    </a:lnTo>
                    <a:lnTo>
                      <a:pt x="88" y="197"/>
                    </a:lnTo>
                    <a:lnTo>
                      <a:pt x="100" y="191"/>
                    </a:lnTo>
                    <a:lnTo>
                      <a:pt x="112" y="184"/>
                    </a:lnTo>
                    <a:lnTo>
                      <a:pt x="136" y="170"/>
                    </a:lnTo>
                    <a:lnTo>
                      <a:pt x="158" y="154"/>
                    </a:lnTo>
                    <a:lnTo>
                      <a:pt x="182" y="135"/>
                    </a:lnTo>
                    <a:lnTo>
                      <a:pt x="206" y="118"/>
                    </a:lnTo>
                    <a:lnTo>
                      <a:pt x="231" y="100"/>
                    </a:lnTo>
                    <a:lnTo>
                      <a:pt x="258" y="83"/>
                    </a:lnTo>
                    <a:lnTo>
                      <a:pt x="271" y="75"/>
                    </a:lnTo>
                    <a:lnTo>
                      <a:pt x="285" y="67"/>
                    </a:lnTo>
                    <a:lnTo>
                      <a:pt x="300" y="60"/>
                    </a:lnTo>
                    <a:lnTo>
                      <a:pt x="315" y="53"/>
                    </a:lnTo>
                    <a:lnTo>
                      <a:pt x="330" y="46"/>
                    </a:lnTo>
                    <a:lnTo>
                      <a:pt x="346" y="41"/>
                    </a:lnTo>
                    <a:lnTo>
                      <a:pt x="362" y="36"/>
                    </a:lnTo>
                    <a:lnTo>
                      <a:pt x="379" y="32"/>
                    </a:lnTo>
                    <a:lnTo>
                      <a:pt x="397" y="28"/>
                    </a:lnTo>
                    <a:lnTo>
                      <a:pt x="415" y="26"/>
                    </a:lnTo>
                    <a:lnTo>
                      <a:pt x="434" y="25"/>
                    </a:lnTo>
                    <a:lnTo>
                      <a:pt x="454" y="24"/>
                    </a:lnTo>
                    <a:lnTo>
                      <a:pt x="454" y="0"/>
                    </a:lnTo>
                    <a:lnTo>
                      <a:pt x="433" y="1"/>
                    </a:lnTo>
                    <a:lnTo>
                      <a:pt x="413" y="2"/>
                    </a:lnTo>
                    <a:lnTo>
                      <a:pt x="393" y="5"/>
                    </a:lnTo>
                    <a:lnTo>
                      <a:pt x="374" y="9"/>
                    </a:lnTo>
                    <a:lnTo>
                      <a:pt x="356" y="13"/>
                    </a:lnTo>
                    <a:lnTo>
                      <a:pt x="338" y="18"/>
                    </a:lnTo>
                    <a:lnTo>
                      <a:pt x="321" y="25"/>
                    </a:lnTo>
                    <a:lnTo>
                      <a:pt x="305" y="30"/>
                    </a:lnTo>
                    <a:lnTo>
                      <a:pt x="289" y="38"/>
                    </a:lnTo>
                    <a:lnTo>
                      <a:pt x="275" y="46"/>
                    </a:lnTo>
                    <a:lnTo>
                      <a:pt x="260" y="54"/>
                    </a:lnTo>
                    <a:lnTo>
                      <a:pt x="245" y="62"/>
                    </a:lnTo>
                    <a:lnTo>
                      <a:pt x="218" y="81"/>
                    </a:lnTo>
                    <a:lnTo>
                      <a:pt x="193" y="99"/>
                    </a:lnTo>
                    <a:lnTo>
                      <a:pt x="167" y="116"/>
                    </a:lnTo>
                    <a:lnTo>
                      <a:pt x="145" y="134"/>
                    </a:lnTo>
                    <a:lnTo>
                      <a:pt x="122" y="150"/>
                    </a:lnTo>
                    <a:lnTo>
                      <a:pt x="99" y="164"/>
                    </a:lnTo>
                    <a:lnTo>
                      <a:pt x="89" y="170"/>
                    </a:lnTo>
                    <a:lnTo>
                      <a:pt x="77" y="175"/>
                    </a:lnTo>
                    <a:lnTo>
                      <a:pt x="67" y="181"/>
                    </a:lnTo>
                    <a:lnTo>
                      <a:pt x="56" y="184"/>
                    </a:lnTo>
                    <a:lnTo>
                      <a:pt x="46" y="188"/>
                    </a:lnTo>
                    <a:lnTo>
                      <a:pt x="34" y="190"/>
                    </a:lnTo>
                    <a:lnTo>
                      <a:pt x="24" y="191"/>
                    </a:lnTo>
                    <a:lnTo>
                      <a:pt x="12" y="192"/>
                    </a:lnTo>
                    <a:lnTo>
                      <a:pt x="24" y="199"/>
                    </a:lnTo>
                    <a:lnTo>
                      <a:pt x="12" y="192"/>
                    </a:lnTo>
                    <a:lnTo>
                      <a:pt x="7" y="193"/>
                    </a:lnTo>
                    <a:lnTo>
                      <a:pt x="3" y="196"/>
                    </a:lnTo>
                    <a:lnTo>
                      <a:pt x="1" y="200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3" y="213"/>
                    </a:lnTo>
                    <a:lnTo>
                      <a:pt x="7" y="215"/>
                    </a:lnTo>
                    <a:lnTo>
                      <a:pt x="12" y="216"/>
                    </a:lnTo>
                    <a:lnTo>
                      <a:pt x="1" y="2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803920" y="3989520"/>
                <a:ext cx="128520" cy="57240"/>
              </a:xfrm>
              <a:custGeom>
                <a:avLst/>
                <a:gdLst/>
                <a:ahLst/>
                <a:rect l="l" t="t" r="r" b="b"/>
                <a:pathLst>
                  <a:path w="407" h="179">
                    <a:moveTo>
                      <a:pt x="25" y="12"/>
                    </a:moveTo>
                    <a:lnTo>
                      <a:pt x="13" y="26"/>
                    </a:lnTo>
                    <a:lnTo>
                      <a:pt x="76" y="26"/>
                    </a:lnTo>
                    <a:lnTo>
                      <a:pt x="137" y="26"/>
                    </a:lnTo>
                    <a:lnTo>
                      <a:pt x="164" y="27"/>
                    </a:lnTo>
                    <a:lnTo>
                      <a:pt x="190" y="30"/>
                    </a:lnTo>
                    <a:lnTo>
                      <a:pt x="215" y="34"/>
                    </a:lnTo>
                    <a:lnTo>
                      <a:pt x="239" y="39"/>
                    </a:lnTo>
                    <a:lnTo>
                      <a:pt x="251" y="43"/>
                    </a:lnTo>
                    <a:lnTo>
                      <a:pt x="262" y="47"/>
                    </a:lnTo>
                    <a:lnTo>
                      <a:pt x="272" y="52"/>
                    </a:lnTo>
                    <a:lnTo>
                      <a:pt x="283" y="56"/>
                    </a:lnTo>
                    <a:lnTo>
                      <a:pt x="293" y="62"/>
                    </a:lnTo>
                    <a:lnTo>
                      <a:pt x="303" y="69"/>
                    </a:lnTo>
                    <a:lnTo>
                      <a:pt x="312" y="76"/>
                    </a:lnTo>
                    <a:lnTo>
                      <a:pt x="321" y="84"/>
                    </a:lnTo>
                    <a:lnTo>
                      <a:pt x="331" y="92"/>
                    </a:lnTo>
                    <a:lnTo>
                      <a:pt x="339" y="102"/>
                    </a:lnTo>
                    <a:lnTo>
                      <a:pt x="348" y="112"/>
                    </a:lnTo>
                    <a:lnTo>
                      <a:pt x="356" y="124"/>
                    </a:lnTo>
                    <a:lnTo>
                      <a:pt x="362" y="136"/>
                    </a:lnTo>
                    <a:lnTo>
                      <a:pt x="370" y="149"/>
                    </a:lnTo>
                    <a:lnTo>
                      <a:pt x="377" y="163"/>
                    </a:lnTo>
                    <a:lnTo>
                      <a:pt x="384" y="179"/>
                    </a:lnTo>
                    <a:lnTo>
                      <a:pt x="407" y="169"/>
                    </a:lnTo>
                    <a:lnTo>
                      <a:pt x="399" y="153"/>
                    </a:lnTo>
                    <a:lnTo>
                      <a:pt x="392" y="137"/>
                    </a:lnTo>
                    <a:lnTo>
                      <a:pt x="384" y="124"/>
                    </a:lnTo>
                    <a:lnTo>
                      <a:pt x="375" y="110"/>
                    </a:lnTo>
                    <a:lnTo>
                      <a:pt x="367" y="97"/>
                    </a:lnTo>
                    <a:lnTo>
                      <a:pt x="358" y="86"/>
                    </a:lnTo>
                    <a:lnTo>
                      <a:pt x="348" y="76"/>
                    </a:lnTo>
                    <a:lnTo>
                      <a:pt x="337" y="65"/>
                    </a:lnTo>
                    <a:lnTo>
                      <a:pt x="327" y="56"/>
                    </a:lnTo>
                    <a:lnTo>
                      <a:pt x="317" y="48"/>
                    </a:lnTo>
                    <a:lnTo>
                      <a:pt x="305" y="41"/>
                    </a:lnTo>
                    <a:lnTo>
                      <a:pt x="294" y="35"/>
                    </a:lnTo>
                    <a:lnTo>
                      <a:pt x="283" y="29"/>
                    </a:lnTo>
                    <a:lnTo>
                      <a:pt x="271" y="24"/>
                    </a:lnTo>
                    <a:lnTo>
                      <a:pt x="259" y="20"/>
                    </a:lnTo>
                    <a:lnTo>
                      <a:pt x="246" y="15"/>
                    </a:lnTo>
                    <a:lnTo>
                      <a:pt x="220" y="10"/>
                    </a:lnTo>
                    <a:lnTo>
                      <a:pt x="194" y="5"/>
                    </a:lnTo>
                    <a:lnTo>
                      <a:pt x="165" y="3"/>
                    </a:lnTo>
                    <a:lnTo>
                      <a:pt x="137" y="2"/>
                    </a:lnTo>
                    <a:lnTo>
                      <a:pt x="76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21"/>
                    </a:lnTo>
                    <a:lnTo>
                      <a:pt x="7" y="24"/>
                    </a:lnTo>
                    <a:lnTo>
                      <a:pt x="13" y="26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803920" y="3992760"/>
                <a:ext cx="12600" cy="74520"/>
              </a:xfrm>
              <a:custGeom>
                <a:avLst/>
                <a:gdLst/>
                <a:ahLst/>
                <a:rect l="l" t="t" r="r" b="b"/>
                <a:pathLst>
                  <a:path w="40" h="234">
                    <a:moveTo>
                      <a:pt x="29" y="234"/>
                    </a:moveTo>
                    <a:lnTo>
                      <a:pt x="40" y="220"/>
                    </a:lnTo>
                    <a:lnTo>
                      <a:pt x="25" y="0"/>
                    </a:lnTo>
                    <a:lnTo>
                      <a:pt x="0" y="2"/>
                    </a:lnTo>
                    <a:lnTo>
                      <a:pt x="16" y="222"/>
                    </a:lnTo>
                    <a:lnTo>
                      <a:pt x="29" y="234"/>
                    </a:lnTo>
                    <a:lnTo>
                      <a:pt x="16" y="222"/>
                    </a:lnTo>
                    <a:lnTo>
                      <a:pt x="17" y="227"/>
                    </a:lnTo>
                    <a:lnTo>
                      <a:pt x="21" y="231"/>
                    </a:lnTo>
                    <a:lnTo>
                      <a:pt x="25" y="232"/>
                    </a:lnTo>
                    <a:lnTo>
                      <a:pt x="29" y="234"/>
                    </a:lnTo>
                    <a:lnTo>
                      <a:pt x="33" y="232"/>
                    </a:lnTo>
                    <a:lnTo>
                      <a:pt x="38" y="230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29" y="2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813280" y="405936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173" h="98">
                    <a:moveTo>
                      <a:pt x="160" y="98"/>
                    </a:moveTo>
                    <a:lnTo>
                      <a:pt x="160" y="74"/>
                    </a:lnTo>
                    <a:lnTo>
                      <a:pt x="151" y="73"/>
                    </a:lnTo>
                    <a:lnTo>
                      <a:pt x="143" y="71"/>
                    </a:lnTo>
                    <a:lnTo>
                      <a:pt x="135" y="68"/>
                    </a:lnTo>
                    <a:lnTo>
                      <a:pt x="127" y="63"/>
                    </a:lnTo>
                    <a:lnTo>
                      <a:pt x="110" y="52"/>
                    </a:lnTo>
                    <a:lnTo>
                      <a:pt x="93" y="38"/>
                    </a:lnTo>
                    <a:lnTo>
                      <a:pt x="84" y="32"/>
                    </a:lnTo>
                    <a:lnTo>
                      <a:pt x="74" y="25"/>
                    </a:lnTo>
                    <a:lnTo>
                      <a:pt x="63" y="18"/>
                    </a:lnTo>
                    <a:lnTo>
                      <a:pt x="52" y="12"/>
                    </a:lnTo>
                    <a:lnTo>
                      <a:pt x="41" y="6"/>
                    </a:lnTo>
                    <a:lnTo>
                      <a:pt x="28" y="3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21" y="26"/>
                    </a:lnTo>
                    <a:lnTo>
                      <a:pt x="31" y="29"/>
                    </a:lnTo>
                    <a:lnTo>
                      <a:pt x="42" y="34"/>
                    </a:lnTo>
                    <a:lnTo>
                      <a:pt x="51" y="38"/>
                    </a:lnTo>
                    <a:lnTo>
                      <a:pt x="60" y="45"/>
                    </a:lnTo>
                    <a:lnTo>
                      <a:pt x="69" y="51"/>
                    </a:lnTo>
                    <a:lnTo>
                      <a:pt x="78" y="58"/>
                    </a:lnTo>
                    <a:lnTo>
                      <a:pt x="96" y="71"/>
                    </a:lnTo>
                    <a:lnTo>
                      <a:pt x="115" y="84"/>
                    </a:lnTo>
                    <a:lnTo>
                      <a:pt x="125" y="90"/>
                    </a:lnTo>
                    <a:lnTo>
                      <a:pt x="136" y="94"/>
                    </a:lnTo>
                    <a:lnTo>
                      <a:pt x="148" y="97"/>
                    </a:lnTo>
                    <a:lnTo>
                      <a:pt x="160" y="98"/>
                    </a:lnTo>
                    <a:lnTo>
                      <a:pt x="160" y="74"/>
                    </a:lnTo>
                    <a:lnTo>
                      <a:pt x="160" y="98"/>
                    </a:lnTo>
                    <a:lnTo>
                      <a:pt x="166" y="97"/>
                    </a:lnTo>
                    <a:lnTo>
                      <a:pt x="169" y="94"/>
                    </a:lnTo>
                    <a:lnTo>
                      <a:pt x="172" y="90"/>
                    </a:lnTo>
                    <a:lnTo>
                      <a:pt x="173" y="85"/>
                    </a:lnTo>
                    <a:lnTo>
                      <a:pt x="172" y="82"/>
                    </a:lnTo>
                    <a:lnTo>
                      <a:pt x="169" y="77"/>
                    </a:lnTo>
                    <a:lnTo>
                      <a:pt x="166" y="75"/>
                    </a:lnTo>
                    <a:lnTo>
                      <a:pt x="160" y="74"/>
                    </a:lnTo>
                    <a:lnTo>
                      <a:pt x="160" y="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845320" y="4083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6" h="24">
                    <a:moveTo>
                      <a:pt x="7" y="23"/>
                    </a:moveTo>
                    <a:lnTo>
                      <a:pt x="13" y="24"/>
                    </a:lnTo>
                    <a:lnTo>
                      <a:pt x="56" y="24"/>
                    </a:lnTo>
                    <a:lnTo>
                      <a:pt x="56" y="0"/>
                    </a:lnTo>
                    <a:lnTo>
                      <a:pt x="13" y="0"/>
                    </a:lnTo>
                    <a:lnTo>
                      <a:pt x="7" y="23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757840" y="410076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2" y="427"/>
                    </a:moveTo>
                    <a:lnTo>
                      <a:pt x="459" y="449"/>
                    </a:lnTo>
                    <a:lnTo>
                      <a:pt x="434" y="475"/>
                    </a:lnTo>
                    <a:lnTo>
                      <a:pt x="409" y="498"/>
                    </a:lnTo>
                    <a:lnTo>
                      <a:pt x="381" y="522"/>
                    </a:lnTo>
                    <a:lnTo>
                      <a:pt x="368" y="533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8" y="565"/>
                    </a:lnTo>
                    <a:lnTo>
                      <a:pt x="292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40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59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5" y="394"/>
                    </a:lnTo>
                    <a:lnTo>
                      <a:pt x="283" y="380"/>
                    </a:lnTo>
                    <a:lnTo>
                      <a:pt x="292" y="367"/>
                    </a:lnTo>
                    <a:lnTo>
                      <a:pt x="304" y="356"/>
                    </a:lnTo>
                    <a:lnTo>
                      <a:pt x="318" y="346"/>
                    </a:lnTo>
                    <a:lnTo>
                      <a:pt x="333" y="337"/>
                    </a:lnTo>
                    <a:lnTo>
                      <a:pt x="272" y="335"/>
                    </a:lnTo>
                    <a:lnTo>
                      <a:pt x="218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5" y="314"/>
                    </a:lnTo>
                    <a:lnTo>
                      <a:pt x="67" y="306"/>
                    </a:lnTo>
                    <a:lnTo>
                      <a:pt x="44" y="296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0" y="190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79" y="160"/>
                    </a:lnTo>
                    <a:lnTo>
                      <a:pt x="100" y="153"/>
                    </a:lnTo>
                    <a:lnTo>
                      <a:pt x="120" y="146"/>
                    </a:lnTo>
                    <a:lnTo>
                      <a:pt x="142" y="142"/>
                    </a:lnTo>
                    <a:lnTo>
                      <a:pt x="164" y="139"/>
                    </a:lnTo>
                    <a:lnTo>
                      <a:pt x="186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1" y="148"/>
                    </a:lnTo>
                    <a:lnTo>
                      <a:pt x="271" y="158"/>
                    </a:lnTo>
                    <a:lnTo>
                      <a:pt x="289" y="168"/>
                    </a:lnTo>
                    <a:lnTo>
                      <a:pt x="306" y="183"/>
                    </a:lnTo>
                    <a:lnTo>
                      <a:pt x="321" y="200"/>
                    </a:lnTo>
                    <a:lnTo>
                      <a:pt x="333" y="220"/>
                    </a:lnTo>
                    <a:lnTo>
                      <a:pt x="341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5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3" y="16"/>
                    </a:lnTo>
                    <a:lnTo>
                      <a:pt x="520" y="9"/>
                    </a:lnTo>
                    <a:lnTo>
                      <a:pt x="537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70"/>
                    </a:lnTo>
                    <a:lnTo>
                      <a:pt x="716" y="88"/>
                    </a:lnTo>
                    <a:lnTo>
                      <a:pt x="726" y="106"/>
                    </a:lnTo>
                    <a:lnTo>
                      <a:pt x="732" y="128"/>
                    </a:lnTo>
                    <a:lnTo>
                      <a:pt x="739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7" y="233"/>
                    </a:lnTo>
                    <a:lnTo>
                      <a:pt x="582" y="248"/>
                    </a:lnTo>
                    <a:lnTo>
                      <a:pt x="583" y="268"/>
                    </a:lnTo>
                    <a:lnTo>
                      <a:pt x="585" y="289"/>
                    </a:lnTo>
                    <a:lnTo>
                      <a:pt x="590" y="309"/>
                    </a:lnTo>
                    <a:lnTo>
                      <a:pt x="594" y="331"/>
                    </a:lnTo>
                    <a:lnTo>
                      <a:pt x="607" y="375"/>
                    </a:lnTo>
                    <a:lnTo>
                      <a:pt x="621" y="420"/>
                    </a:lnTo>
                    <a:lnTo>
                      <a:pt x="634" y="467"/>
                    </a:lnTo>
                    <a:lnTo>
                      <a:pt x="647" y="512"/>
                    </a:lnTo>
                    <a:lnTo>
                      <a:pt x="651" y="535"/>
                    </a:lnTo>
                    <a:lnTo>
                      <a:pt x="655" y="558"/>
                    </a:lnTo>
                    <a:lnTo>
                      <a:pt x="657" y="581"/>
                    </a:lnTo>
                    <a:lnTo>
                      <a:pt x="658" y="603"/>
                    </a:lnTo>
                    <a:lnTo>
                      <a:pt x="646" y="602"/>
                    </a:lnTo>
                    <a:lnTo>
                      <a:pt x="634" y="601"/>
                    </a:lnTo>
                    <a:lnTo>
                      <a:pt x="623" y="600"/>
                    </a:lnTo>
                    <a:lnTo>
                      <a:pt x="612" y="597"/>
                    </a:lnTo>
                    <a:lnTo>
                      <a:pt x="601" y="593"/>
                    </a:lnTo>
                    <a:lnTo>
                      <a:pt x="591" y="590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1"/>
                    </a:lnTo>
                    <a:lnTo>
                      <a:pt x="514" y="525"/>
                    </a:lnTo>
                    <a:lnTo>
                      <a:pt x="503" y="510"/>
                    </a:lnTo>
                    <a:lnTo>
                      <a:pt x="495" y="494"/>
                    </a:lnTo>
                    <a:lnTo>
                      <a:pt x="488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79" y="441"/>
                    </a:lnTo>
                    <a:lnTo>
                      <a:pt x="479" y="433"/>
                    </a:lnTo>
                    <a:lnTo>
                      <a:pt x="482" y="42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837400" y="42325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0" y="167"/>
                    </a:lnTo>
                    <a:lnTo>
                      <a:pt x="48" y="164"/>
                    </a:lnTo>
                    <a:lnTo>
                      <a:pt x="64" y="158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7"/>
                    </a:lnTo>
                    <a:lnTo>
                      <a:pt x="153" y="71"/>
                    </a:lnTo>
                    <a:lnTo>
                      <a:pt x="125" y="95"/>
                    </a:lnTo>
                    <a:lnTo>
                      <a:pt x="113" y="104"/>
                    </a:lnTo>
                    <a:lnTo>
                      <a:pt x="99" y="115"/>
                    </a:lnTo>
                    <a:lnTo>
                      <a:pt x="84" y="123"/>
                    </a:lnTo>
                    <a:lnTo>
                      <a:pt x="71" y="129"/>
                    </a:lnTo>
                    <a:lnTo>
                      <a:pt x="56" y="135"/>
                    </a:lnTo>
                    <a:lnTo>
                      <a:pt x="42" y="140"/>
                    </a:lnTo>
                    <a:lnTo>
                      <a:pt x="27" y="142"/>
                    </a:lnTo>
                    <a:lnTo>
                      <a:pt x="13" y="143"/>
                    </a:lnTo>
                    <a:lnTo>
                      <a:pt x="24" y="153"/>
                    </a:lnTo>
                    <a:lnTo>
                      <a:pt x="13" y="143"/>
                    </a:lnTo>
                    <a:lnTo>
                      <a:pt x="7" y="144"/>
                    </a:lnTo>
                    <a:lnTo>
                      <a:pt x="3" y="148"/>
                    </a:lnTo>
                    <a:lnTo>
                      <a:pt x="1" y="151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835600" y="420408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2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0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1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7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6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3" y="103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3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3" y="32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754600" y="414036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4" y="91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3" y="67"/>
                    </a:lnTo>
                    <a:lnTo>
                      <a:pt x="336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79" y="16"/>
                    </a:lnTo>
                    <a:lnTo>
                      <a:pt x="268" y="11"/>
                    </a:lnTo>
                    <a:lnTo>
                      <a:pt x="256" y="8"/>
                    </a:lnTo>
                    <a:lnTo>
                      <a:pt x="245" y="5"/>
                    </a:lnTo>
                    <a:lnTo>
                      <a:pt x="222" y="1"/>
                    </a:lnTo>
                    <a:lnTo>
                      <a:pt x="199" y="0"/>
                    </a:lnTo>
                    <a:lnTo>
                      <a:pt x="176" y="1"/>
                    </a:lnTo>
                    <a:lnTo>
                      <a:pt x="153" y="4"/>
                    </a:lnTo>
                    <a:lnTo>
                      <a:pt x="130" y="9"/>
                    </a:lnTo>
                    <a:lnTo>
                      <a:pt x="108" y="16"/>
                    </a:lnTo>
                    <a:lnTo>
                      <a:pt x="88" y="22"/>
                    </a:lnTo>
                    <a:lnTo>
                      <a:pt x="68" y="33"/>
                    </a:lnTo>
                    <a:lnTo>
                      <a:pt x="51" y="43"/>
                    </a:lnTo>
                    <a:lnTo>
                      <a:pt x="36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1" y="79"/>
                    </a:lnTo>
                    <a:lnTo>
                      <a:pt x="7" y="86"/>
                    </a:lnTo>
                    <a:lnTo>
                      <a:pt x="3" y="94"/>
                    </a:lnTo>
                    <a:lnTo>
                      <a:pt x="1" y="102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0" y="126"/>
                    </a:lnTo>
                    <a:lnTo>
                      <a:pt x="2" y="133"/>
                    </a:lnTo>
                    <a:lnTo>
                      <a:pt x="6" y="141"/>
                    </a:lnTo>
                    <a:lnTo>
                      <a:pt x="10" y="149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1" y="180"/>
                    </a:lnTo>
                    <a:lnTo>
                      <a:pt x="63" y="186"/>
                    </a:lnTo>
                    <a:lnTo>
                      <a:pt x="76" y="190"/>
                    </a:lnTo>
                    <a:lnTo>
                      <a:pt x="90" y="196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1" y="207"/>
                    </a:lnTo>
                    <a:lnTo>
                      <a:pt x="161" y="211"/>
                    </a:lnTo>
                    <a:lnTo>
                      <a:pt x="182" y="214"/>
                    </a:lnTo>
                    <a:lnTo>
                      <a:pt x="205" y="216"/>
                    </a:lnTo>
                    <a:lnTo>
                      <a:pt x="230" y="219"/>
                    </a:lnTo>
                    <a:lnTo>
                      <a:pt x="285" y="221"/>
                    </a:lnTo>
                    <a:lnTo>
                      <a:pt x="346" y="222"/>
                    </a:lnTo>
                    <a:lnTo>
                      <a:pt x="346" y="198"/>
                    </a:lnTo>
                    <a:lnTo>
                      <a:pt x="285" y="197"/>
                    </a:lnTo>
                    <a:lnTo>
                      <a:pt x="231" y="195"/>
                    </a:lnTo>
                    <a:lnTo>
                      <a:pt x="207" y="192"/>
                    </a:lnTo>
                    <a:lnTo>
                      <a:pt x="186" y="190"/>
                    </a:lnTo>
                    <a:lnTo>
                      <a:pt x="164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4" y="168"/>
                    </a:lnTo>
                    <a:lnTo>
                      <a:pt x="72" y="164"/>
                    </a:lnTo>
                    <a:lnTo>
                      <a:pt x="62" y="158"/>
                    </a:lnTo>
                    <a:lnTo>
                      <a:pt x="54" y="154"/>
                    </a:lnTo>
                    <a:lnTo>
                      <a:pt x="46" y="149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4"/>
                    </a:lnTo>
                    <a:lnTo>
                      <a:pt x="27" y="130"/>
                    </a:lnTo>
                    <a:lnTo>
                      <a:pt x="25" y="125"/>
                    </a:lnTo>
                    <a:lnTo>
                      <a:pt x="24" y="122"/>
                    </a:lnTo>
                    <a:lnTo>
                      <a:pt x="24" y="117"/>
                    </a:lnTo>
                    <a:lnTo>
                      <a:pt x="24" y="113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5" y="89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0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6" y="38"/>
                    </a:lnTo>
                    <a:lnTo>
                      <a:pt x="137" y="33"/>
                    </a:lnTo>
                    <a:lnTo>
                      <a:pt x="157" y="28"/>
                    </a:lnTo>
                    <a:lnTo>
                      <a:pt x="178" y="25"/>
                    </a:lnTo>
                    <a:lnTo>
                      <a:pt x="199" y="25"/>
                    </a:lnTo>
                    <a:lnTo>
                      <a:pt x="220" y="26"/>
                    </a:lnTo>
                    <a:lnTo>
                      <a:pt x="241" y="28"/>
                    </a:lnTo>
                    <a:lnTo>
                      <a:pt x="251" y="32"/>
                    </a:lnTo>
                    <a:lnTo>
                      <a:pt x="260" y="34"/>
                    </a:lnTo>
                    <a:lnTo>
                      <a:pt x="269" y="37"/>
                    </a:lnTo>
                    <a:lnTo>
                      <a:pt x="278" y="42"/>
                    </a:lnTo>
                    <a:lnTo>
                      <a:pt x="287" y="46"/>
                    </a:lnTo>
                    <a:lnTo>
                      <a:pt x="295" y="52"/>
                    </a:lnTo>
                    <a:lnTo>
                      <a:pt x="303" y="58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29" y="90"/>
                    </a:lnTo>
                    <a:lnTo>
                      <a:pt x="335" y="100"/>
                    </a:lnTo>
                    <a:lnTo>
                      <a:pt x="358" y="98"/>
                    </a:lnTo>
                    <a:lnTo>
                      <a:pt x="335" y="100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6" y="107"/>
                    </a:lnTo>
                    <a:lnTo>
                      <a:pt x="351" y="105"/>
                    </a:lnTo>
                    <a:lnTo>
                      <a:pt x="354" y="102"/>
                    </a:lnTo>
                    <a:lnTo>
                      <a:pt x="358" y="99"/>
                    </a:lnTo>
                    <a:lnTo>
                      <a:pt x="358" y="94"/>
                    </a:lnTo>
                    <a:lnTo>
                      <a:pt x="357" y="89"/>
                    </a:lnTo>
                    <a:lnTo>
                      <a:pt x="334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861160" y="4096080"/>
                <a:ext cx="137880" cy="8244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5"/>
                    </a:lnTo>
                    <a:lnTo>
                      <a:pt x="436" y="214"/>
                    </a:lnTo>
                    <a:lnTo>
                      <a:pt x="434" y="187"/>
                    </a:lnTo>
                    <a:lnTo>
                      <a:pt x="430" y="160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5" y="76"/>
                    </a:lnTo>
                    <a:lnTo>
                      <a:pt x="383" y="59"/>
                    </a:lnTo>
                    <a:lnTo>
                      <a:pt x="369" y="45"/>
                    </a:lnTo>
                    <a:lnTo>
                      <a:pt x="354" y="33"/>
                    </a:lnTo>
                    <a:lnTo>
                      <a:pt x="340" y="23"/>
                    </a:lnTo>
                    <a:lnTo>
                      <a:pt x="324" y="13"/>
                    </a:lnTo>
                    <a:lnTo>
                      <a:pt x="305" y="8"/>
                    </a:lnTo>
                    <a:lnTo>
                      <a:pt x="288" y="3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4" y="2"/>
                    </a:lnTo>
                    <a:lnTo>
                      <a:pt x="214" y="4"/>
                    </a:lnTo>
                    <a:lnTo>
                      <a:pt x="196" y="10"/>
                    </a:lnTo>
                    <a:lnTo>
                      <a:pt x="177" y="17"/>
                    </a:lnTo>
                    <a:lnTo>
                      <a:pt x="158" y="25"/>
                    </a:lnTo>
                    <a:lnTo>
                      <a:pt x="140" y="35"/>
                    </a:lnTo>
                    <a:lnTo>
                      <a:pt x="123" y="48"/>
                    </a:lnTo>
                    <a:lnTo>
                      <a:pt x="106" y="61"/>
                    </a:lnTo>
                    <a:lnTo>
                      <a:pt x="90" y="76"/>
                    </a:lnTo>
                    <a:lnTo>
                      <a:pt x="74" y="93"/>
                    </a:lnTo>
                    <a:lnTo>
                      <a:pt x="59" y="113"/>
                    </a:lnTo>
                    <a:lnTo>
                      <a:pt x="44" y="132"/>
                    </a:lnTo>
                    <a:lnTo>
                      <a:pt x="32" y="154"/>
                    </a:lnTo>
                    <a:lnTo>
                      <a:pt x="20" y="178"/>
                    </a:lnTo>
                    <a:lnTo>
                      <a:pt x="10" y="203"/>
                    </a:lnTo>
                    <a:lnTo>
                      <a:pt x="0" y="229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4" y="166"/>
                    </a:lnTo>
                    <a:lnTo>
                      <a:pt x="65" y="146"/>
                    </a:lnTo>
                    <a:lnTo>
                      <a:pt x="79" y="126"/>
                    </a:lnTo>
                    <a:lnTo>
                      <a:pt x="92" y="109"/>
                    </a:lnTo>
                    <a:lnTo>
                      <a:pt x="107" y="93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4" y="56"/>
                    </a:lnTo>
                    <a:lnTo>
                      <a:pt x="170" y="46"/>
                    </a:lnTo>
                    <a:lnTo>
                      <a:pt x="187" y="39"/>
                    </a:lnTo>
                    <a:lnTo>
                      <a:pt x="203" y="33"/>
                    </a:lnTo>
                    <a:lnTo>
                      <a:pt x="220" y="28"/>
                    </a:lnTo>
                    <a:lnTo>
                      <a:pt x="236" y="26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7"/>
                    </a:lnTo>
                    <a:lnTo>
                      <a:pt x="299" y="31"/>
                    </a:lnTo>
                    <a:lnTo>
                      <a:pt x="313" y="36"/>
                    </a:lnTo>
                    <a:lnTo>
                      <a:pt x="327" y="43"/>
                    </a:lnTo>
                    <a:lnTo>
                      <a:pt x="341" y="52"/>
                    </a:lnTo>
                    <a:lnTo>
                      <a:pt x="353" y="62"/>
                    </a:lnTo>
                    <a:lnTo>
                      <a:pt x="365" y="75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3"/>
                    </a:lnTo>
                    <a:lnTo>
                      <a:pt x="406" y="165"/>
                    </a:lnTo>
                    <a:lnTo>
                      <a:pt x="410" y="190"/>
                    </a:lnTo>
                    <a:lnTo>
                      <a:pt x="413" y="216"/>
                    </a:lnTo>
                    <a:lnTo>
                      <a:pt x="414" y="245"/>
                    </a:lnTo>
                    <a:lnTo>
                      <a:pt x="425" y="232"/>
                    </a:lnTo>
                    <a:lnTo>
                      <a:pt x="414" y="245"/>
                    </a:lnTo>
                    <a:lnTo>
                      <a:pt x="415" y="249"/>
                    </a:lnTo>
                    <a:lnTo>
                      <a:pt x="417" y="254"/>
                    </a:lnTo>
                    <a:lnTo>
                      <a:pt x="422" y="256"/>
                    </a:lnTo>
                    <a:lnTo>
                      <a:pt x="426" y="256"/>
                    </a:lnTo>
                    <a:lnTo>
                      <a:pt x="431" y="256"/>
                    </a:lnTo>
                    <a:lnTo>
                      <a:pt x="434" y="254"/>
                    </a:lnTo>
                    <a:lnTo>
                      <a:pt x="436" y="249"/>
                    </a:lnTo>
                    <a:lnTo>
                      <a:pt x="438" y="245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940360" y="417060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8"/>
                    </a:moveTo>
                    <a:lnTo>
                      <a:pt x="12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10" y="16"/>
                    </a:lnTo>
                    <a:lnTo>
                      <a:pt x="5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940360" y="417852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7" y="367"/>
                    </a:moveTo>
                    <a:lnTo>
                      <a:pt x="100" y="355"/>
                    </a:lnTo>
                    <a:lnTo>
                      <a:pt x="99" y="331"/>
                    </a:lnTo>
                    <a:lnTo>
                      <a:pt x="96" y="309"/>
                    </a:lnTo>
                    <a:lnTo>
                      <a:pt x="92" y="285"/>
                    </a:lnTo>
                    <a:lnTo>
                      <a:pt x="87" y="262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7" y="124"/>
                    </a:lnTo>
                    <a:lnTo>
                      <a:pt x="35" y="79"/>
                    </a:lnTo>
                    <a:lnTo>
                      <a:pt x="30" y="59"/>
                    </a:lnTo>
                    <a:lnTo>
                      <a:pt x="27" y="38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3" y="131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3" y="268"/>
                    </a:lnTo>
                    <a:lnTo>
                      <a:pt x="69" y="289"/>
                    </a:lnTo>
                    <a:lnTo>
                      <a:pt x="72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7" y="343"/>
                    </a:lnTo>
                    <a:lnTo>
                      <a:pt x="76" y="355"/>
                    </a:lnTo>
                    <a:lnTo>
                      <a:pt x="76" y="360"/>
                    </a:lnTo>
                    <a:lnTo>
                      <a:pt x="79" y="364"/>
                    </a:lnTo>
                    <a:lnTo>
                      <a:pt x="83" y="367"/>
                    </a:lnTo>
                    <a:lnTo>
                      <a:pt x="87" y="367"/>
                    </a:lnTo>
                    <a:lnTo>
                      <a:pt x="92" y="367"/>
                    </a:lnTo>
                    <a:lnTo>
                      <a:pt x="96" y="364"/>
                    </a:lnTo>
                    <a:lnTo>
                      <a:pt x="99" y="360"/>
                    </a:lnTo>
                    <a:lnTo>
                      <a:pt x="100" y="355"/>
                    </a:lnTo>
                    <a:lnTo>
                      <a:pt x="87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907240" y="423252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1" h="201">
                    <a:moveTo>
                      <a:pt x="24" y="21"/>
                    </a:moveTo>
                    <a:lnTo>
                      <a:pt x="4" y="6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7" y="119"/>
                    </a:lnTo>
                    <a:lnTo>
                      <a:pt x="50" y="135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6" y="200"/>
                    </a:lnTo>
                    <a:lnTo>
                      <a:pt x="179" y="201"/>
                    </a:lnTo>
                    <a:lnTo>
                      <a:pt x="191" y="201"/>
                    </a:lnTo>
                    <a:lnTo>
                      <a:pt x="191" y="177"/>
                    </a:lnTo>
                    <a:lnTo>
                      <a:pt x="180" y="177"/>
                    </a:lnTo>
                    <a:lnTo>
                      <a:pt x="169" y="176"/>
                    </a:lnTo>
                    <a:lnTo>
                      <a:pt x="158" y="173"/>
                    </a:lnTo>
                    <a:lnTo>
                      <a:pt x="148" y="171"/>
                    </a:lnTo>
                    <a:lnTo>
                      <a:pt x="139" y="168"/>
                    </a:lnTo>
                    <a:lnTo>
                      <a:pt x="129" y="164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8" y="119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2"/>
                    </a:lnTo>
                    <a:lnTo>
                      <a:pt x="28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4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5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92800" y="373572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8" h="603">
                    <a:moveTo>
                      <a:pt x="482" y="426"/>
                    </a:moveTo>
                    <a:lnTo>
                      <a:pt x="459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3" y="543"/>
                    </a:lnTo>
                    <a:lnTo>
                      <a:pt x="338" y="551"/>
                    </a:lnTo>
                    <a:lnTo>
                      <a:pt x="324" y="559"/>
                    </a:lnTo>
                    <a:lnTo>
                      <a:pt x="309" y="564"/>
                    </a:lnTo>
                    <a:lnTo>
                      <a:pt x="293" y="570"/>
                    </a:lnTo>
                    <a:lnTo>
                      <a:pt x="277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5"/>
                    </a:lnTo>
                    <a:lnTo>
                      <a:pt x="260" y="439"/>
                    </a:lnTo>
                    <a:lnTo>
                      <a:pt x="263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3" y="367"/>
                    </a:lnTo>
                    <a:lnTo>
                      <a:pt x="304" y="356"/>
                    </a:lnTo>
                    <a:lnTo>
                      <a:pt x="318" y="345"/>
                    </a:lnTo>
                    <a:lnTo>
                      <a:pt x="334" y="336"/>
                    </a:lnTo>
                    <a:lnTo>
                      <a:pt x="272" y="335"/>
                    </a:lnTo>
                    <a:lnTo>
                      <a:pt x="219" y="332"/>
                    </a:lnTo>
                    <a:lnTo>
                      <a:pt x="171" y="327"/>
                    </a:lnTo>
                    <a:lnTo>
                      <a:pt x="131" y="322"/>
                    </a:lnTo>
                    <a:lnTo>
                      <a:pt x="96" y="314"/>
                    </a:lnTo>
                    <a:lnTo>
                      <a:pt x="67" y="306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2" y="274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2" y="225"/>
                    </a:lnTo>
                    <a:lnTo>
                      <a:pt x="9" y="212"/>
                    </a:lnTo>
                    <a:lnTo>
                      <a:pt x="18" y="201"/>
                    </a:lnTo>
                    <a:lnTo>
                      <a:pt x="31" y="189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9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0" y="143"/>
                    </a:lnTo>
                    <a:lnTo>
                      <a:pt x="252" y="148"/>
                    </a:lnTo>
                    <a:lnTo>
                      <a:pt x="271" y="157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2" y="195"/>
                    </a:lnTo>
                    <a:lnTo>
                      <a:pt x="352" y="170"/>
                    </a:lnTo>
                    <a:lnTo>
                      <a:pt x="363" y="148"/>
                    </a:lnTo>
                    <a:lnTo>
                      <a:pt x="376" y="127"/>
                    </a:lnTo>
                    <a:lnTo>
                      <a:pt x="390" y="107"/>
                    </a:lnTo>
                    <a:lnTo>
                      <a:pt x="404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1" y="46"/>
                    </a:lnTo>
                    <a:lnTo>
                      <a:pt x="468" y="33"/>
                    </a:lnTo>
                    <a:lnTo>
                      <a:pt x="485" y="24"/>
                    </a:lnTo>
                    <a:lnTo>
                      <a:pt x="502" y="16"/>
                    </a:lnTo>
                    <a:lnTo>
                      <a:pt x="521" y="9"/>
                    </a:lnTo>
                    <a:lnTo>
                      <a:pt x="538" y="5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6" y="71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3" y="128"/>
                    </a:lnTo>
                    <a:lnTo>
                      <a:pt x="740" y="151"/>
                    </a:lnTo>
                    <a:lnTo>
                      <a:pt x="743" y="176"/>
                    </a:lnTo>
                    <a:lnTo>
                      <a:pt x="746" y="203"/>
                    </a:lnTo>
                    <a:lnTo>
                      <a:pt x="748" y="233"/>
                    </a:lnTo>
                    <a:lnTo>
                      <a:pt x="582" y="247"/>
                    </a:lnTo>
                    <a:lnTo>
                      <a:pt x="583" y="268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1"/>
                    </a:lnTo>
                    <a:lnTo>
                      <a:pt x="606" y="375"/>
                    </a:lnTo>
                    <a:lnTo>
                      <a:pt x="621" y="420"/>
                    </a:lnTo>
                    <a:lnTo>
                      <a:pt x="635" y="466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9" y="603"/>
                    </a:lnTo>
                    <a:lnTo>
                      <a:pt x="646" y="602"/>
                    </a:lnTo>
                    <a:lnTo>
                      <a:pt x="635" y="601"/>
                    </a:lnTo>
                    <a:lnTo>
                      <a:pt x="623" y="600"/>
                    </a:lnTo>
                    <a:lnTo>
                      <a:pt x="612" y="596"/>
                    </a:lnTo>
                    <a:lnTo>
                      <a:pt x="602" y="593"/>
                    </a:lnTo>
                    <a:lnTo>
                      <a:pt x="591" y="589"/>
                    </a:lnTo>
                    <a:lnTo>
                      <a:pt x="582" y="585"/>
                    </a:lnTo>
                    <a:lnTo>
                      <a:pt x="572" y="579"/>
                    </a:lnTo>
                    <a:lnTo>
                      <a:pt x="555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4" y="524"/>
                    </a:lnTo>
                    <a:lnTo>
                      <a:pt x="504" y="510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3"/>
                    </a:lnTo>
                    <a:lnTo>
                      <a:pt x="482" y="426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6372360" y="386748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9">
                    <a:moveTo>
                      <a:pt x="0" y="159"/>
                    </a:moveTo>
                    <a:lnTo>
                      <a:pt x="13" y="169"/>
                    </a:lnTo>
                    <a:lnTo>
                      <a:pt x="30" y="168"/>
                    </a:lnTo>
                    <a:lnTo>
                      <a:pt x="48" y="164"/>
                    </a:lnTo>
                    <a:lnTo>
                      <a:pt x="64" y="159"/>
                    </a:lnTo>
                    <a:lnTo>
                      <a:pt x="81" y="153"/>
                    </a:lnTo>
                    <a:lnTo>
                      <a:pt x="97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2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19" y="41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2" y="24"/>
                    </a:lnTo>
                    <a:lnTo>
                      <a:pt x="178" y="48"/>
                    </a:lnTo>
                    <a:lnTo>
                      <a:pt x="153" y="73"/>
                    </a:lnTo>
                    <a:lnTo>
                      <a:pt x="126" y="96"/>
                    </a:lnTo>
                    <a:lnTo>
                      <a:pt x="113" y="106"/>
                    </a:lnTo>
                    <a:lnTo>
                      <a:pt x="99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2" y="140"/>
                    </a:lnTo>
                    <a:lnTo>
                      <a:pt x="28" y="144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1"/>
                    </a:lnTo>
                    <a:lnTo>
                      <a:pt x="4" y="164"/>
                    </a:lnTo>
                    <a:lnTo>
                      <a:pt x="7" y="168"/>
                    </a:lnTo>
                    <a:lnTo>
                      <a:pt x="13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69120" y="3838680"/>
                <a:ext cx="33120" cy="7956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3" y="24"/>
                    </a:moveTo>
                    <a:lnTo>
                      <a:pt x="87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4"/>
                    </a:lnTo>
                    <a:lnTo>
                      <a:pt x="16" y="80"/>
                    </a:lnTo>
                    <a:lnTo>
                      <a:pt x="11" y="96"/>
                    </a:lnTo>
                    <a:lnTo>
                      <a:pt x="6" y="112"/>
                    </a:lnTo>
                    <a:lnTo>
                      <a:pt x="4" y="129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5"/>
                    </a:lnTo>
                    <a:lnTo>
                      <a:pt x="26" y="148"/>
                    </a:lnTo>
                    <a:lnTo>
                      <a:pt x="28" y="132"/>
                    </a:lnTo>
                    <a:lnTo>
                      <a:pt x="30" y="117"/>
                    </a:lnTo>
                    <a:lnTo>
                      <a:pt x="34" y="102"/>
                    </a:lnTo>
                    <a:lnTo>
                      <a:pt x="39" y="89"/>
                    </a:lnTo>
                    <a:lnTo>
                      <a:pt x="45" y="75"/>
                    </a:lnTo>
                    <a:lnTo>
                      <a:pt x="53" y="62"/>
                    </a:lnTo>
                    <a:lnTo>
                      <a:pt x="61" y="51"/>
                    </a:lnTo>
                    <a:lnTo>
                      <a:pt x="72" y="41"/>
                    </a:lnTo>
                    <a:lnTo>
                      <a:pt x="84" y="32"/>
                    </a:lnTo>
                    <a:lnTo>
                      <a:pt x="97" y="23"/>
                    </a:lnTo>
                    <a:lnTo>
                      <a:pt x="93" y="0"/>
                    </a:lnTo>
                    <a:lnTo>
                      <a:pt x="97" y="23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7"/>
                    </a:lnTo>
                    <a:lnTo>
                      <a:pt x="101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7" y="1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288120" y="3775320"/>
                <a:ext cx="114120" cy="6984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2"/>
                    </a:moveTo>
                    <a:lnTo>
                      <a:pt x="357" y="89"/>
                    </a:lnTo>
                    <a:lnTo>
                      <a:pt x="350" y="78"/>
                    </a:lnTo>
                    <a:lnTo>
                      <a:pt x="343" y="68"/>
                    </a:lnTo>
                    <a:lnTo>
                      <a:pt x="337" y="57"/>
                    </a:lnTo>
                    <a:lnTo>
                      <a:pt x="327" y="48"/>
                    </a:lnTo>
                    <a:lnTo>
                      <a:pt x="319" y="40"/>
                    </a:lnTo>
                    <a:lnTo>
                      <a:pt x="309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80" y="16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6"/>
                    </a:lnTo>
                    <a:lnTo>
                      <a:pt x="223" y="3"/>
                    </a:lnTo>
                    <a:lnTo>
                      <a:pt x="200" y="0"/>
                    </a:lnTo>
                    <a:lnTo>
                      <a:pt x="176" y="2"/>
                    </a:lnTo>
                    <a:lnTo>
                      <a:pt x="153" y="5"/>
                    </a:lnTo>
                    <a:lnTo>
                      <a:pt x="130" y="10"/>
                    </a:lnTo>
                    <a:lnTo>
                      <a:pt x="109" y="16"/>
                    </a:lnTo>
                    <a:lnTo>
                      <a:pt x="88" y="24"/>
                    </a:lnTo>
                    <a:lnTo>
                      <a:pt x="69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29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3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3" y="134"/>
                    </a:lnTo>
                    <a:lnTo>
                      <a:pt x="6" y="142"/>
                    </a:lnTo>
                    <a:lnTo>
                      <a:pt x="11" y="150"/>
                    </a:lnTo>
                    <a:lnTo>
                      <a:pt x="17" y="157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6"/>
                    </a:lnTo>
                    <a:lnTo>
                      <a:pt x="52" y="181"/>
                    </a:lnTo>
                    <a:lnTo>
                      <a:pt x="63" y="186"/>
                    </a:lnTo>
                    <a:lnTo>
                      <a:pt x="77" y="192"/>
                    </a:lnTo>
                    <a:lnTo>
                      <a:pt x="90" y="197"/>
                    </a:lnTo>
                    <a:lnTo>
                      <a:pt x="106" y="201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5"/>
                    </a:lnTo>
                    <a:lnTo>
                      <a:pt x="205" y="217"/>
                    </a:lnTo>
                    <a:lnTo>
                      <a:pt x="231" y="219"/>
                    </a:lnTo>
                    <a:lnTo>
                      <a:pt x="285" y="222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5" y="198"/>
                    </a:lnTo>
                    <a:lnTo>
                      <a:pt x="232" y="195"/>
                    </a:lnTo>
                    <a:lnTo>
                      <a:pt x="208" y="193"/>
                    </a:lnTo>
                    <a:lnTo>
                      <a:pt x="186" y="191"/>
                    </a:lnTo>
                    <a:lnTo>
                      <a:pt x="164" y="187"/>
                    </a:lnTo>
                    <a:lnTo>
                      <a:pt x="146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9"/>
                    </a:lnTo>
                    <a:lnTo>
                      <a:pt x="72" y="165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5"/>
                    </a:lnTo>
                    <a:lnTo>
                      <a:pt x="35" y="140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2"/>
                    </a:lnTo>
                    <a:lnTo>
                      <a:pt x="24" y="118"/>
                    </a:lnTo>
                    <a:lnTo>
                      <a:pt x="24" y="113"/>
                    </a:lnTo>
                    <a:lnTo>
                      <a:pt x="25" y="109"/>
                    </a:lnTo>
                    <a:lnTo>
                      <a:pt x="27" y="104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9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5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7" y="39"/>
                    </a:lnTo>
                    <a:lnTo>
                      <a:pt x="137" y="33"/>
                    </a:lnTo>
                    <a:lnTo>
                      <a:pt x="158" y="29"/>
                    </a:lnTo>
                    <a:lnTo>
                      <a:pt x="178" y="26"/>
                    </a:lnTo>
                    <a:lnTo>
                      <a:pt x="200" y="26"/>
                    </a:lnTo>
                    <a:lnTo>
                      <a:pt x="220" y="27"/>
                    </a:lnTo>
                    <a:lnTo>
                      <a:pt x="241" y="30"/>
                    </a:lnTo>
                    <a:lnTo>
                      <a:pt x="251" y="32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8" y="47"/>
                    </a:lnTo>
                    <a:lnTo>
                      <a:pt x="296" y="53"/>
                    </a:lnTo>
                    <a:lnTo>
                      <a:pt x="303" y="59"/>
                    </a:lnTo>
                    <a:lnTo>
                      <a:pt x="310" y="65"/>
                    </a:lnTo>
                    <a:lnTo>
                      <a:pt x="317" y="73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101"/>
                    </a:lnTo>
                    <a:lnTo>
                      <a:pt x="358" y="98"/>
                    </a:lnTo>
                    <a:lnTo>
                      <a:pt x="335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7" y="108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8" y="100"/>
                    </a:lnTo>
                    <a:lnTo>
                      <a:pt x="358" y="95"/>
                    </a:lnTo>
                    <a:lnTo>
                      <a:pt x="357" y="89"/>
                    </a:lnTo>
                    <a:lnTo>
                      <a:pt x="334" y="9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394320" y="3731040"/>
                <a:ext cx="13968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8" y="257"/>
                    </a:moveTo>
                    <a:lnTo>
                      <a:pt x="438" y="246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6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4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2"/>
                    </a:lnTo>
                    <a:lnTo>
                      <a:pt x="252" y="0"/>
                    </a:lnTo>
                    <a:lnTo>
                      <a:pt x="234" y="3"/>
                    </a:lnTo>
                    <a:lnTo>
                      <a:pt x="215" y="5"/>
                    </a:lnTo>
                    <a:lnTo>
                      <a:pt x="196" y="11"/>
                    </a:lnTo>
                    <a:lnTo>
                      <a:pt x="177" y="18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90" y="78"/>
                    </a:lnTo>
                    <a:lnTo>
                      <a:pt x="74" y="94"/>
                    </a:lnTo>
                    <a:lnTo>
                      <a:pt x="60" y="113"/>
                    </a:lnTo>
                    <a:lnTo>
                      <a:pt x="45" y="133"/>
                    </a:lnTo>
                    <a:lnTo>
                      <a:pt x="32" y="156"/>
                    </a:lnTo>
                    <a:lnTo>
                      <a:pt x="21" y="178"/>
                    </a:lnTo>
                    <a:lnTo>
                      <a:pt x="11" y="203"/>
                    </a:lnTo>
                    <a:lnTo>
                      <a:pt x="0" y="230"/>
                    </a:lnTo>
                    <a:lnTo>
                      <a:pt x="24" y="236"/>
                    </a:lnTo>
                    <a:lnTo>
                      <a:pt x="32" y="211"/>
                    </a:lnTo>
                    <a:lnTo>
                      <a:pt x="42" y="189"/>
                    </a:lnTo>
                    <a:lnTo>
                      <a:pt x="54" y="167"/>
                    </a:lnTo>
                    <a:lnTo>
                      <a:pt x="65" y="146"/>
                    </a:lnTo>
                    <a:lnTo>
                      <a:pt x="79" y="127"/>
                    </a:lnTo>
                    <a:lnTo>
                      <a:pt x="93" y="110"/>
                    </a:lnTo>
                    <a:lnTo>
                      <a:pt x="107" y="94"/>
                    </a:lnTo>
                    <a:lnTo>
                      <a:pt x="122" y="80"/>
                    </a:lnTo>
                    <a:lnTo>
                      <a:pt x="138" y="68"/>
                    </a:lnTo>
                    <a:lnTo>
                      <a:pt x="154" y="56"/>
                    </a:lnTo>
                    <a:lnTo>
                      <a:pt x="170" y="47"/>
                    </a:lnTo>
                    <a:lnTo>
                      <a:pt x="187" y="39"/>
                    </a:lnTo>
                    <a:lnTo>
                      <a:pt x="203" y="34"/>
                    </a:lnTo>
                    <a:lnTo>
                      <a:pt x="220" y="29"/>
                    </a:lnTo>
                    <a:lnTo>
                      <a:pt x="236" y="27"/>
                    </a:lnTo>
                    <a:lnTo>
                      <a:pt x="252" y="26"/>
                    </a:lnTo>
                    <a:lnTo>
                      <a:pt x="268" y="26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1" y="53"/>
                    </a:lnTo>
                    <a:lnTo>
                      <a:pt x="354" y="63"/>
                    </a:lnTo>
                    <a:lnTo>
                      <a:pt x="365" y="76"/>
                    </a:lnTo>
                    <a:lnTo>
                      <a:pt x="375" y="89"/>
                    </a:lnTo>
                    <a:lnTo>
                      <a:pt x="384" y="107"/>
                    </a:lnTo>
                    <a:lnTo>
                      <a:pt x="393" y="124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6"/>
                    </a:lnTo>
                    <a:lnTo>
                      <a:pt x="425" y="233"/>
                    </a:lnTo>
                    <a:lnTo>
                      <a:pt x="414" y="246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2" y="257"/>
                    </a:lnTo>
                    <a:lnTo>
                      <a:pt x="427" y="257"/>
                    </a:lnTo>
                    <a:lnTo>
                      <a:pt x="431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6"/>
                    </a:lnTo>
                    <a:lnTo>
                      <a:pt x="428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6473880" y="380556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2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0" y="16"/>
                    </a:lnTo>
                    <a:lnTo>
                      <a:pt x="0" y="27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2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6473880" y="381348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6"/>
                    </a:lnTo>
                    <a:lnTo>
                      <a:pt x="99" y="333"/>
                    </a:lnTo>
                    <a:lnTo>
                      <a:pt x="97" y="309"/>
                    </a:lnTo>
                    <a:lnTo>
                      <a:pt x="92" y="287"/>
                    </a:lnTo>
                    <a:lnTo>
                      <a:pt x="88" y="263"/>
                    </a:lnTo>
                    <a:lnTo>
                      <a:pt x="75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5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2"/>
                    </a:lnTo>
                    <a:lnTo>
                      <a:pt x="3" y="43"/>
                    </a:lnTo>
                    <a:lnTo>
                      <a:pt x="7" y="64"/>
                    </a:lnTo>
                    <a:lnTo>
                      <a:pt x="12" y="87"/>
                    </a:lnTo>
                    <a:lnTo>
                      <a:pt x="24" y="132"/>
                    </a:lnTo>
                    <a:lnTo>
                      <a:pt x="39" y="177"/>
                    </a:lnTo>
                    <a:lnTo>
                      <a:pt x="52" y="223"/>
                    </a:lnTo>
                    <a:lnTo>
                      <a:pt x="64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8" y="344"/>
                    </a:lnTo>
                    <a:lnTo>
                      <a:pt x="76" y="356"/>
                    </a:lnTo>
                    <a:lnTo>
                      <a:pt x="76" y="361"/>
                    </a:lnTo>
                    <a:lnTo>
                      <a:pt x="80" y="365"/>
                    </a:lnTo>
                    <a:lnTo>
                      <a:pt x="83" y="367"/>
                    </a:lnTo>
                    <a:lnTo>
                      <a:pt x="88" y="367"/>
                    </a:lnTo>
                    <a:lnTo>
                      <a:pt x="92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6440400" y="38674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5" y="6"/>
                    </a:lnTo>
                    <a:lnTo>
                      <a:pt x="1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5"/>
                    </a:lnTo>
                    <a:lnTo>
                      <a:pt x="10" y="69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4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0" y="190"/>
                    </a:lnTo>
                    <a:lnTo>
                      <a:pt x="141" y="194"/>
                    </a:lnTo>
                    <a:lnTo>
                      <a:pt x="154" y="197"/>
                    </a:lnTo>
                    <a:lnTo>
                      <a:pt x="167" y="199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7"/>
                    </a:lnTo>
                    <a:lnTo>
                      <a:pt x="169" y="175"/>
                    </a:lnTo>
                    <a:lnTo>
                      <a:pt x="159" y="173"/>
                    </a:lnTo>
                    <a:lnTo>
                      <a:pt x="148" y="171"/>
                    </a:lnTo>
                    <a:lnTo>
                      <a:pt x="139" y="167"/>
                    </a:lnTo>
                    <a:lnTo>
                      <a:pt x="129" y="164"/>
                    </a:lnTo>
                    <a:lnTo>
                      <a:pt x="120" y="159"/>
                    </a:lnTo>
                    <a:lnTo>
                      <a:pt x="112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9" y="118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1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7" y="14"/>
                    </a:lnTo>
                    <a:lnTo>
                      <a:pt x="27" y="9"/>
                    </a:lnTo>
                    <a:lnTo>
                      <a:pt x="25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5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584600" y="3921480"/>
                <a:ext cx="238320" cy="190440"/>
              </a:xfrm>
              <a:custGeom>
                <a:avLst/>
                <a:gdLst/>
                <a:ahLst/>
                <a:rect l="l" t="t" r="r" b="b"/>
                <a:pathLst>
                  <a:path w="746" h="602">
                    <a:moveTo>
                      <a:pt x="482" y="425"/>
                    </a:moveTo>
                    <a:lnTo>
                      <a:pt x="458" y="449"/>
                    </a:lnTo>
                    <a:lnTo>
                      <a:pt x="434" y="473"/>
                    </a:lnTo>
                    <a:lnTo>
                      <a:pt x="408" y="498"/>
                    </a:lnTo>
                    <a:lnTo>
                      <a:pt x="380" y="521"/>
                    </a:lnTo>
                    <a:lnTo>
                      <a:pt x="367" y="532"/>
                    </a:lnTo>
                    <a:lnTo>
                      <a:pt x="353" y="541"/>
                    </a:lnTo>
                    <a:lnTo>
                      <a:pt x="338" y="551"/>
                    </a:lnTo>
                    <a:lnTo>
                      <a:pt x="323" y="559"/>
                    </a:lnTo>
                    <a:lnTo>
                      <a:pt x="307" y="564"/>
                    </a:lnTo>
                    <a:lnTo>
                      <a:pt x="291" y="569"/>
                    </a:lnTo>
                    <a:lnTo>
                      <a:pt x="276" y="572"/>
                    </a:lnTo>
                    <a:lnTo>
                      <a:pt x="260" y="573"/>
                    </a:lnTo>
                    <a:lnTo>
                      <a:pt x="255" y="539"/>
                    </a:lnTo>
                    <a:lnTo>
                      <a:pt x="253" y="505"/>
                    </a:lnTo>
                    <a:lnTo>
                      <a:pt x="253" y="488"/>
                    </a:lnTo>
                    <a:lnTo>
                      <a:pt x="254" y="471"/>
                    </a:lnTo>
                    <a:lnTo>
                      <a:pt x="255" y="454"/>
                    </a:lnTo>
                    <a:lnTo>
                      <a:pt x="258" y="438"/>
                    </a:lnTo>
                    <a:lnTo>
                      <a:pt x="262" y="422"/>
                    </a:lnTo>
                    <a:lnTo>
                      <a:pt x="268" y="407"/>
                    </a:lnTo>
                    <a:lnTo>
                      <a:pt x="274" y="393"/>
                    </a:lnTo>
                    <a:lnTo>
                      <a:pt x="282" y="380"/>
                    </a:lnTo>
                    <a:lnTo>
                      <a:pt x="293" y="367"/>
                    </a:lnTo>
                    <a:lnTo>
                      <a:pt x="304" y="355"/>
                    </a:lnTo>
                    <a:lnTo>
                      <a:pt x="317" y="344"/>
                    </a:lnTo>
                    <a:lnTo>
                      <a:pt x="333" y="335"/>
                    </a:lnTo>
                    <a:lnTo>
                      <a:pt x="271" y="334"/>
                    </a:lnTo>
                    <a:lnTo>
                      <a:pt x="217" y="332"/>
                    </a:lnTo>
                    <a:lnTo>
                      <a:pt x="171" y="327"/>
                    </a:lnTo>
                    <a:lnTo>
                      <a:pt x="130" y="320"/>
                    </a:lnTo>
                    <a:lnTo>
                      <a:pt x="95" y="313"/>
                    </a:lnTo>
                    <a:lnTo>
                      <a:pt x="67" y="304"/>
                    </a:lnTo>
                    <a:lnTo>
                      <a:pt x="44" y="295"/>
                    </a:lnTo>
                    <a:lnTo>
                      <a:pt x="26" y="284"/>
                    </a:lnTo>
                    <a:lnTo>
                      <a:pt x="12" y="272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3"/>
                    </a:lnTo>
                    <a:lnTo>
                      <a:pt x="9" y="212"/>
                    </a:lnTo>
                    <a:lnTo>
                      <a:pt x="18" y="199"/>
                    </a:lnTo>
                    <a:lnTo>
                      <a:pt x="30" y="188"/>
                    </a:lnTo>
                    <a:lnTo>
                      <a:pt x="45" y="178"/>
                    </a:lnTo>
                    <a:lnTo>
                      <a:pt x="61" y="169"/>
                    </a:lnTo>
                    <a:lnTo>
                      <a:pt x="80" y="160"/>
                    </a:lnTo>
                    <a:lnTo>
                      <a:pt x="99" y="152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4" y="138"/>
                    </a:lnTo>
                    <a:lnTo>
                      <a:pt x="185" y="138"/>
                    </a:lnTo>
                    <a:lnTo>
                      <a:pt x="208" y="139"/>
                    </a:lnTo>
                    <a:lnTo>
                      <a:pt x="230" y="142"/>
                    </a:lnTo>
                    <a:lnTo>
                      <a:pt x="250" y="148"/>
                    </a:lnTo>
                    <a:lnTo>
                      <a:pt x="270" y="156"/>
                    </a:lnTo>
                    <a:lnTo>
                      <a:pt x="289" y="168"/>
                    </a:lnTo>
                    <a:lnTo>
                      <a:pt x="305" y="181"/>
                    </a:lnTo>
                    <a:lnTo>
                      <a:pt x="320" y="199"/>
                    </a:lnTo>
                    <a:lnTo>
                      <a:pt x="333" y="220"/>
                    </a:lnTo>
                    <a:lnTo>
                      <a:pt x="342" y="194"/>
                    </a:lnTo>
                    <a:lnTo>
                      <a:pt x="352" y="170"/>
                    </a:lnTo>
                    <a:lnTo>
                      <a:pt x="363" y="147"/>
                    </a:lnTo>
                    <a:lnTo>
                      <a:pt x="376" y="127"/>
                    </a:lnTo>
                    <a:lnTo>
                      <a:pt x="389" y="107"/>
                    </a:lnTo>
                    <a:lnTo>
                      <a:pt x="403" y="89"/>
                    </a:lnTo>
                    <a:lnTo>
                      <a:pt x="418" y="73"/>
                    </a:lnTo>
                    <a:lnTo>
                      <a:pt x="434" y="58"/>
                    </a:lnTo>
                    <a:lnTo>
                      <a:pt x="451" y="44"/>
                    </a:lnTo>
                    <a:lnTo>
                      <a:pt x="467" y="33"/>
                    </a:lnTo>
                    <a:lnTo>
                      <a:pt x="485" y="23"/>
                    </a:lnTo>
                    <a:lnTo>
                      <a:pt x="502" y="15"/>
                    </a:lnTo>
                    <a:lnTo>
                      <a:pt x="519" y="9"/>
                    </a:lnTo>
                    <a:lnTo>
                      <a:pt x="538" y="3"/>
                    </a:lnTo>
                    <a:lnTo>
                      <a:pt x="555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6" y="2"/>
                    </a:lnTo>
                    <a:lnTo>
                      <a:pt x="623" y="7"/>
                    </a:lnTo>
                    <a:lnTo>
                      <a:pt x="639" y="13"/>
                    </a:lnTo>
                    <a:lnTo>
                      <a:pt x="654" y="21"/>
                    </a:lnTo>
                    <a:lnTo>
                      <a:pt x="668" y="30"/>
                    </a:lnTo>
                    <a:lnTo>
                      <a:pt x="681" y="41"/>
                    </a:lnTo>
                    <a:lnTo>
                      <a:pt x="694" y="55"/>
                    </a:lnTo>
                    <a:lnTo>
                      <a:pt x="705" y="70"/>
                    </a:lnTo>
                    <a:lnTo>
                      <a:pt x="715" y="87"/>
                    </a:lnTo>
                    <a:lnTo>
                      <a:pt x="725" y="106"/>
                    </a:lnTo>
                    <a:lnTo>
                      <a:pt x="733" y="128"/>
                    </a:lnTo>
                    <a:lnTo>
                      <a:pt x="738" y="150"/>
                    </a:lnTo>
                    <a:lnTo>
                      <a:pt x="743" y="176"/>
                    </a:lnTo>
                    <a:lnTo>
                      <a:pt x="745" y="203"/>
                    </a:lnTo>
                    <a:lnTo>
                      <a:pt x="746" y="231"/>
                    </a:lnTo>
                    <a:lnTo>
                      <a:pt x="582" y="247"/>
                    </a:lnTo>
                    <a:lnTo>
                      <a:pt x="582" y="267"/>
                    </a:lnTo>
                    <a:lnTo>
                      <a:pt x="586" y="287"/>
                    </a:lnTo>
                    <a:lnTo>
                      <a:pt x="589" y="309"/>
                    </a:lnTo>
                    <a:lnTo>
                      <a:pt x="593" y="329"/>
                    </a:lnTo>
                    <a:lnTo>
                      <a:pt x="606" y="374"/>
                    </a:lnTo>
                    <a:lnTo>
                      <a:pt x="620" y="420"/>
                    </a:lnTo>
                    <a:lnTo>
                      <a:pt x="633" y="465"/>
                    </a:lnTo>
                    <a:lnTo>
                      <a:pt x="646" y="512"/>
                    </a:lnTo>
                    <a:lnTo>
                      <a:pt x="650" y="535"/>
                    </a:lnTo>
                    <a:lnTo>
                      <a:pt x="655" y="557"/>
                    </a:lnTo>
                    <a:lnTo>
                      <a:pt x="657" y="580"/>
                    </a:lnTo>
                    <a:lnTo>
                      <a:pt x="658" y="602"/>
                    </a:lnTo>
                    <a:lnTo>
                      <a:pt x="646" y="602"/>
                    </a:lnTo>
                    <a:lnTo>
                      <a:pt x="633" y="601"/>
                    </a:lnTo>
                    <a:lnTo>
                      <a:pt x="622" y="598"/>
                    </a:lnTo>
                    <a:lnTo>
                      <a:pt x="612" y="596"/>
                    </a:lnTo>
                    <a:lnTo>
                      <a:pt x="600" y="593"/>
                    </a:lnTo>
                    <a:lnTo>
                      <a:pt x="590" y="588"/>
                    </a:lnTo>
                    <a:lnTo>
                      <a:pt x="581" y="584"/>
                    </a:lnTo>
                    <a:lnTo>
                      <a:pt x="572" y="579"/>
                    </a:lnTo>
                    <a:lnTo>
                      <a:pt x="563" y="573"/>
                    </a:lnTo>
                    <a:lnTo>
                      <a:pt x="555" y="567"/>
                    </a:lnTo>
                    <a:lnTo>
                      <a:pt x="547" y="561"/>
                    </a:lnTo>
                    <a:lnTo>
                      <a:pt x="539" y="554"/>
                    </a:lnTo>
                    <a:lnTo>
                      <a:pt x="525" y="539"/>
                    </a:lnTo>
                    <a:lnTo>
                      <a:pt x="513" y="524"/>
                    </a:lnTo>
                    <a:lnTo>
                      <a:pt x="502" y="510"/>
                    </a:lnTo>
                    <a:lnTo>
                      <a:pt x="494" y="494"/>
                    </a:lnTo>
                    <a:lnTo>
                      <a:pt x="488" y="479"/>
                    </a:lnTo>
                    <a:lnTo>
                      <a:pt x="483" y="465"/>
                    </a:lnTo>
                    <a:lnTo>
                      <a:pt x="480" y="453"/>
                    </a:lnTo>
                    <a:lnTo>
                      <a:pt x="478" y="441"/>
                    </a:lnTo>
                    <a:lnTo>
                      <a:pt x="478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64160" y="4053240"/>
                <a:ext cx="759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1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3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4"/>
                    </a:lnTo>
                    <a:lnTo>
                      <a:pt x="141" y="114"/>
                    </a:lnTo>
                    <a:lnTo>
                      <a:pt x="169" y="90"/>
                    </a:lnTo>
                    <a:lnTo>
                      <a:pt x="195" y="65"/>
                    </a:lnTo>
                    <a:lnTo>
                      <a:pt x="220" y="40"/>
                    </a:lnTo>
                    <a:lnTo>
                      <a:pt x="243" y="17"/>
                    </a:lnTo>
                    <a:lnTo>
                      <a:pt x="226" y="0"/>
                    </a:lnTo>
                    <a:lnTo>
                      <a:pt x="203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7" y="95"/>
                    </a:lnTo>
                    <a:lnTo>
                      <a:pt x="113" y="105"/>
                    </a:lnTo>
                    <a:lnTo>
                      <a:pt x="99" y="114"/>
                    </a:lnTo>
                    <a:lnTo>
                      <a:pt x="86" y="123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2" y="140"/>
                    </a:lnTo>
                    <a:lnTo>
                      <a:pt x="27" y="143"/>
                    </a:lnTo>
                    <a:lnTo>
                      <a:pt x="13" y="144"/>
                    </a:lnTo>
                    <a:lnTo>
                      <a:pt x="25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3" y="147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1" y="160"/>
                    </a:lnTo>
                    <a:lnTo>
                      <a:pt x="3" y="164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1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662360" y="4024440"/>
                <a:ext cx="32040" cy="7956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3" y="64"/>
                    </a:lnTo>
                    <a:lnTo>
                      <a:pt x="15" y="78"/>
                    </a:lnTo>
                    <a:lnTo>
                      <a:pt x="9" y="94"/>
                    </a:lnTo>
                    <a:lnTo>
                      <a:pt x="6" y="111"/>
                    </a:lnTo>
                    <a:lnTo>
                      <a:pt x="3" y="129"/>
                    </a:lnTo>
                    <a:lnTo>
                      <a:pt x="0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3" y="216"/>
                    </a:lnTo>
                    <a:lnTo>
                      <a:pt x="7" y="251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0"/>
                    </a:lnTo>
                    <a:lnTo>
                      <a:pt x="24" y="164"/>
                    </a:lnTo>
                    <a:lnTo>
                      <a:pt x="24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2" y="31"/>
                    </a:lnTo>
                    <a:lnTo>
                      <a:pt x="97" y="23"/>
                    </a:lnTo>
                    <a:lnTo>
                      <a:pt x="92" y="0"/>
                    </a:lnTo>
                    <a:lnTo>
                      <a:pt x="97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5"/>
                    </a:lnTo>
                    <a:lnTo>
                      <a:pt x="99" y="2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581360" y="3961080"/>
                <a:ext cx="113040" cy="71280"/>
              </a:xfrm>
              <a:custGeom>
                <a:avLst/>
                <a:gdLst/>
                <a:ahLst/>
                <a:rect l="l" t="t" r="r" b="b"/>
                <a:pathLst>
                  <a:path w="358" h="223">
                    <a:moveTo>
                      <a:pt x="334" y="90"/>
                    </a:moveTo>
                    <a:lnTo>
                      <a:pt x="356" y="89"/>
                    </a:lnTo>
                    <a:lnTo>
                      <a:pt x="350" y="78"/>
                    </a:lnTo>
                    <a:lnTo>
                      <a:pt x="343" y="67"/>
                    </a:lnTo>
                    <a:lnTo>
                      <a:pt x="335" y="57"/>
                    </a:lnTo>
                    <a:lnTo>
                      <a:pt x="327" y="48"/>
                    </a:lnTo>
                    <a:lnTo>
                      <a:pt x="318" y="40"/>
                    </a:lnTo>
                    <a:lnTo>
                      <a:pt x="309" y="32"/>
                    </a:lnTo>
                    <a:lnTo>
                      <a:pt x="299" y="27"/>
                    </a:lnTo>
                    <a:lnTo>
                      <a:pt x="289" y="21"/>
                    </a:lnTo>
                    <a:lnTo>
                      <a:pt x="278" y="15"/>
                    </a:lnTo>
                    <a:lnTo>
                      <a:pt x="268" y="12"/>
                    </a:lnTo>
                    <a:lnTo>
                      <a:pt x="257" y="8"/>
                    </a:lnTo>
                    <a:lnTo>
                      <a:pt x="245" y="5"/>
                    </a:lnTo>
                    <a:lnTo>
                      <a:pt x="222" y="2"/>
                    </a:lnTo>
                    <a:lnTo>
                      <a:pt x="198" y="0"/>
                    </a:lnTo>
                    <a:lnTo>
                      <a:pt x="176" y="2"/>
                    </a:lnTo>
                    <a:lnTo>
                      <a:pt x="153" y="4"/>
                    </a:lnTo>
                    <a:lnTo>
                      <a:pt x="130" y="10"/>
                    </a:lnTo>
                    <a:lnTo>
                      <a:pt x="108" y="15"/>
                    </a:lnTo>
                    <a:lnTo>
                      <a:pt x="88" y="23"/>
                    </a:lnTo>
                    <a:lnTo>
                      <a:pt x="69" y="32"/>
                    </a:lnTo>
                    <a:lnTo>
                      <a:pt x="51" y="43"/>
                    </a:lnTo>
                    <a:lnTo>
                      <a:pt x="36" y="54"/>
                    </a:lnTo>
                    <a:lnTo>
                      <a:pt x="29" y="61"/>
                    </a:lnTo>
                    <a:lnTo>
                      <a:pt x="22" y="67"/>
                    </a:lnTo>
                    <a:lnTo>
                      <a:pt x="16" y="73"/>
                    </a:lnTo>
                    <a:lnTo>
                      <a:pt x="12" y="80"/>
                    </a:lnTo>
                    <a:lnTo>
                      <a:pt x="7" y="87"/>
                    </a:lnTo>
                    <a:lnTo>
                      <a:pt x="4" y="95"/>
                    </a:lnTo>
                    <a:lnTo>
                      <a:pt x="1" y="102"/>
                    </a:lnTo>
                    <a:lnTo>
                      <a:pt x="0" y="110"/>
                    </a:lnTo>
                    <a:lnTo>
                      <a:pt x="0" y="118"/>
                    </a:lnTo>
                    <a:lnTo>
                      <a:pt x="0" y="126"/>
                    </a:lnTo>
                    <a:lnTo>
                      <a:pt x="2" y="134"/>
                    </a:lnTo>
                    <a:lnTo>
                      <a:pt x="6" y="142"/>
                    </a:lnTo>
                    <a:lnTo>
                      <a:pt x="10" y="149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1" y="181"/>
                    </a:lnTo>
                    <a:lnTo>
                      <a:pt x="63" y="186"/>
                    </a:lnTo>
                    <a:lnTo>
                      <a:pt x="75" y="191"/>
                    </a:lnTo>
                    <a:lnTo>
                      <a:pt x="90" y="195"/>
                    </a:lnTo>
                    <a:lnTo>
                      <a:pt x="105" y="200"/>
                    </a:lnTo>
                    <a:lnTo>
                      <a:pt x="122" y="204"/>
                    </a:lnTo>
                    <a:lnTo>
                      <a:pt x="142" y="208"/>
                    </a:lnTo>
                    <a:lnTo>
                      <a:pt x="161" y="211"/>
                    </a:lnTo>
                    <a:lnTo>
                      <a:pt x="183" y="214"/>
                    </a:lnTo>
                    <a:lnTo>
                      <a:pt x="205" y="217"/>
                    </a:lnTo>
                    <a:lnTo>
                      <a:pt x="230" y="219"/>
                    </a:lnTo>
                    <a:lnTo>
                      <a:pt x="284" y="222"/>
                    </a:lnTo>
                    <a:lnTo>
                      <a:pt x="346" y="223"/>
                    </a:lnTo>
                    <a:lnTo>
                      <a:pt x="346" y="199"/>
                    </a:lnTo>
                    <a:lnTo>
                      <a:pt x="285" y="198"/>
                    </a:lnTo>
                    <a:lnTo>
                      <a:pt x="232" y="194"/>
                    </a:lnTo>
                    <a:lnTo>
                      <a:pt x="208" y="193"/>
                    </a:lnTo>
                    <a:lnTo>
                      <a:pt x="185" y="190"/>
                    </a:lnTo>
                    <a:lnTo>
                      <a:pt x="164" y="187"/>
                    </a:lnTo>
                    <a:lnTo>
                      <a:pt x="145" y="184"/>
                    </a:lnTo>
                    <a:lnTo>
                      <a:pt x="128" y="181"/>
                    </a:lnTo>
                    <a:lnTo>
                      <a:pt x="112" y="177"/>
                    </a:lnTo>
                    <a:lnTo>
                      <a:pt x="97" y="173"/>
                    </a:lnTo>
                    <a:lnTo>
                      <a:pt x="85" y="168"/>
                    </a:lnTo>
                    <a:lnTo>
                      <a:pt x="72" y="163"/>
                    </a:lnTo>
                    <a:lnTo>
                      <a:pt x="62" y="159"/>
                    </a:lnTo>
                    <a:lnTo>
                      <a:pt x="54" y="154"/>
                    </a:lnTo>
                    <a:lnTo>
                      <a:pt x="46" y="150"/>
                    </a:lnTo>
                    <a:lnTo>
                      <a:pt x="39" y="144"/>
                    </a:lnTo>
                    <a:lnTo>
                      <a:pt x="34" y="139"/>
                    </a:lnTo>
                    <a:lnTo>
                      <a:pt x="31" y="135"/>
                    </a:lnTo>
                    <a:lnTo>
                      <a:pt x="28" y="130"/>
                    </a:lnTo>
                    <a:lnTo>
                      <a:pt x="25" y="126"/>
                    </a:lnTo>
                    <a:lnTo>
                      <a:pt x="24" y="121"/>
                    </a:lnTo>
                    <a:lnTo>
                      <a:pt x="24" y="117"/>
                    </a:lnTo>
                    <a:lnTo>
                      <a:pt x="24" y="112"/>
                    </a:lnTo>
                    <a:lnTo>
                      <a:pt x="25" y="108"/>
                    </a:lnTo>
                    <a:lnTo>
                      <a:pt x="26" y="103"/>
                    </a:lnTo>
                    <a:lnTo>
                      <a:pt x="29" y="98"/>
                    </a:lnTo>
                    <a:lnTo>
                      <a:pt x="32" y="94"/>
                    </a:lnTo>
                    <a:lnTo>
                      <a:pt x="36" y="88"/>
                    </a:lnTo>
                    <a:lnTo>
                      <a:pt x="40" y="84"/>
                    </a:lnTo>
                    <a:lnTo>
                      <a:pt x="46" y="78"/>
                    </a:lnTo>
                    <a:lnTo>
                      <a:pt x="50" y="73"/>
                    </a:lnTo>
                    <a:lnTo>
                      <a:pt x="64" y="63"/>
                    </a:lnTo>
                    <a:lnTo>
                      <a:pt x="80" y="54"/>
                    </a:lnTo>
                    <a:lnTo>
                      <a:pt x="97" y="46"/>
                    </a:lnTo>
                    <a:lnTo>
                      <a:pt x="116" y="38"/>
                    </a:lnTo>
                    <a:lnTo>
                      <a:pt x="136" y="32"/>
                    </a:lnTo>
                    <a:lnTo>
                      <a:pt x="156" y="28"/>
                    </a:lnTo>
                    <a:lnTo>
                      <a:pt x="178" y="25"/>
                    </a:lnTo>
                    <a:lnTo>
                      <a:pt x="198" y="24"/>
                    </a:lnTo>
                    <a:lnTo>
                      <a:pt x="220" y="25"/>
                    </a:lnTo>
                    <a:lnTo>
                      <a:pt x="241" y="29"/>
                    </a:lnTo>
                    <a:lnTo>
                      <a:pt x="250" y="31"/>
                    </a:lnTo>
                    <a:lnTo>
                      <a:pt x="260" y="35"/>
                    </a:lnTo>
                    <a:lnTo>
                      <a:pt x="269" y="38"/>
                    </a:lnTo>
                    <a:lnTo>
                      <a:pt x="278" y="43"/>
                    </a:lnTo>
                    <a:lnTo>
                      <a:pt x="286" y="47"/>
                    </a:lnTo>
                    <a:lnTo>
                      <a:pt x="294" y="53"/>
                    </a:lnTo>
                    <a:lnTo>
                      <a:pt x="302" y="59"/>
                    </a:lnTo>
                    <a:lnTo>
                      <a:pt x="310" y="65"/>
                    </a:lnTo>
                    <a:lnTo>
                      <a:pt x="317" y="72"/>
                    </a:lnTo>
                    <a:lnTo>
                      <a:pt x="323" y="81"/>
                    </a:lnTo>
                    <a:lnTo>
                      <a:pt x="330" y="90"/>
                    </a:lnTo>
                    <a:lnTo>
                      <a:pt x="334" y="100"/>
                    </a:lnTo>
                    <a:lnTo>
                      <a:pt x="357" y="98"/>
                    </a:lnTo>
                    <a:lnTo>
                      <a:pt x="334" y="100"/>
                    </a:lnTo>
                    <a:lnTo>
                      <a:pt x="338" y="104"/>
                    </a:lnTo>
                    <a:lnTo>
                      <a:pt x="342" y="106"/>
                    </a:lnTo>
                    <a:lnTo>
                      <a:pt x="347" y="106"/>
                    </a:lnTo>
                    <a:lnTo>
                      <a:pt x="351" y="105"/>
                    </a:lnTo>
                    <a:lnTo>
                      <a:pt x="355" y="103"/>
                    </a:lnTo>
                    <a:lnTo>
                      <a:pt x="357" y="98"/>
                    </a:lnTo>
                    <a:lnTo>
                      <a:pt x="358" y="94"/>
                    </a:lnTo>
                    <a:lnTo>
                      <a:pt x="356" y="89"/>
                    </a:lnTo>
                    <a:lnTo>
                      <a:pt x="334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87920" y="391680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4"/>
                    </a:lnTo>
                    <a:lnTo>
                      <a:pt x="437" y="215"/>
                    </a:lnTo>
                    <a:lnTo>
                      <a:pt x="433" y="186"/>
                    </a:lnTo>
                    <a:lnTo>
                      <a:pt x="429" y="161"/>
                    </a:lnTo>
                    <a:lnTo>
                      <a:pt x="423" y="136"/>
                    </a:lnTo>
                    <a:lnTo>
                      <a:pt x="415" y="114"/>
                    </a:lnTo>
                    <a:lnTo>
                      <a:pt x="406" y="94"/>
                    </a:lnTo>
                    <a:lnTo>
                      <a:pt x="394" y="76"/>
                    </a:lnTo>
                    <a:lnTo>
                      <a:pt x="382" y="60"/>
                    </a:lnTo>
                    <a:lnTo>
                      <a:pt x="369" y="45"/>
                    </a:lnTo>
                    <a:lnTo>
                      <a:pt x="355" y="32"/>
                    </a:lnTo>
                    <a:lnTo>
                      <a:pt x="339" y="22"/>
                    </a:lnTo>
                    <a:lnTo>
                      <a:pt x="323" y="14"/>
                    </a:lnTo>
                    <a:lnTo>
                      <a:pt x="306" y="7"/>
                    </a:lnTo>
                    <a:lnTo>
                      <a:pt x="287" y="4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2"/>
                    </a:lnTo>
                    <a:lnTo>
                      <a:pt x="213" y="5"/>
                    </a:lnTo>
                    <a:lnTo>
                      <a:pt x="195" y="10"/>
                    </a:lnTo>
                    <a:lnTo>
                      <a:pt x="177" y="16"/>
                    </a:lnTo>
                    <a:lnTo>
                      <a:pt x="159" y="26"/>
                    </a:lnTo>
                    <a:lnTo>
                      <a:pt x="140" y="36"/>
                    </a:lnTo>
                    <a:lnTo>
                      <a:pt x="122" y="48"/>
                    </a:lnTo>
                    <a:lnTo>
                      <a:pt x="105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2"/>
                    </a:lnTo>
                    <a:lnTo>
                      <a:pt x="45" y="133"/>
                    </a:lnTo>
                    <a:lnTo>
                      <a:pt x="31" y="154"/>
                    </a:lnTo>
                    <a:lnTo>
                      <a:pt x="19" y="178"/>
                    </a:lnTo>
                    <a:lnTo>
                      <a:pt x="9" y="202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1" y="187"/>
                    </a:lnTo>
                    <a:lnTo>
                      <a:pt x="53" y="166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69" y="47"/>
                    </a:lnTo>
                    <a:lnTo>
                      <a:pt x="186" y="39"/>
                    </a:lnTo>
                    <a:lnTo>
                      <a:pt x="202" y="34"/>
                    </a:lnTo>
                    <a:lnTo>
                      <a:pt x="219" y="29"/>
                    </a:lnTo>
                    <a:lnTo>
                      <a:pt x="235" y="26"/>
                    </a:lnTo>
                    <a:lnTo>
                      <a:pt x="252" y="24"/>
                    </a:lnTo>
                    <a:lnTo>
                      <a:pt x="268" y="26"/>
                    </a:lnTo>
                    <a:lnTo>
                      <a:pt x="283" y="27"/>
                    </a:lnTo>
                    <a:lnTo>
                      <a:pt x="299" y="31"/>
                    </a:lnTo>
                    <a:lnTo>
                      <a:pt x="312" y="36"/>
                    </a:lnTo>
                    <a:lnTo>
                      <a:pt x="326" y="44"/>
                    </a:lnTo>
                    <a:lnTo>
                      <a:pt x="340" y="52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4" y="89"/>
                    </a:lnTo>
                    <a:lnTo>
                      <a:pt x="384" y="105"/>
                    </a:lnTo>
                    <a:lnTo>
                      <a:pt x="392" y="124"/>
                    </a:lnTo>
                    <a:lnTo>
                      <a:pt x="399" y="144"/>
                    </a:lnTo>
                    <a:lnTo>
                      <a:pt x="406" y="166"/>
                    </a:lnTo>
                    <a:lnTo>
                      <a:pt x="409" y="190"/>
                    </a:lnTo>
                    <a:lnTo>
                      <a:pt x="413" y="216"/>
                    </a:lnTo>
                    <a:lnTo>
                      <a:pt x="413" y="244"/>
                    </a:lnTo>
                    <a:lnTo>
                      <a:pt x="424" y="233"/>
                    </a:lnTo>
                    <a:lnTo>
                      <a:pt x="413" y="244"/>
                    </a:lnTo>
                    <a:lnTo>
                      <a:pt x="414" y="250"/>
                    </a:lnTo>
                    <a:lnTo>
                      <a:pt x="417" y="254"/>
                    </a:lnTo>
                    <a:lnTo>
                      <a:pt x="421" y="256"/>
                    </a:lnTo>
                    <a:lnTo>
                      <a:pt x="425" y="257"/>
                    </a:lnTo>
                    <a:lnTo>
                      <a:pt x="430" y="256"/>
                    </a:lnTo>
                    <a:lnTo>
                      <a:pt x="433" y="254"/>
                    </a:lnTo>
                    <a:lnTo>
                      <a:pt x="437" y="250"/>
                    </a:lnTo>
                    <a:lnTo>
                      <a:pt x="438" y="244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765680" y="39913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39">
                    <a:moveTo>
                      <a:pt x="0" y="27"/>
                    </a:moveTo>
                    <a:lnTo>
                      <a:pt x="13" y="39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7"/>
                    </a:lnTo>
                    <a:lnTo>
                      <a:pt x="11" y="15"/>
                    </a:lnTo>
                    <a:lnTo>
                      <a:pt x="5" y="17"/>
                    </a:lnTo>
                    <a:lnTo>
                      <a:pt x="2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765680" y="39992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5"/>
                    </a:lnTo>
                    <a:lnTo>
                      <a:pt x="99" y="332"/>
                    </a:lnTo>
                    <a:lnTo>
                      <a:pt x="96" y="309"/>
                    </a:lnTo>
                    <a:lnTo>
                      <a:pt x="93" y="285"/>
                    </a:lnTo>
                    <a:lnTo>
                      <a:pt x="87" y="261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7" y="123"/>
                    </a:lnTo>
                    <a:lnTo>
                      <a:pt x="35" y="80"/>
                    </a:lnTo>
                    <a:lnTo>
                      <a:pt x="30" y="60"/>
                    </a:lnTo>
                    <a:lnTo>
                      <a:pt x="27" y="39"/>
                    </a:lnTo>
                    <a:lnTo>
                      <a:pt x="25" y="19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3"/>
                    </a:lnTo>
                    <a:lnTo>
                      <a:pt x="6" y="64"/>
                    </a:lnTo>
                    <a:lnTo>
                      <a:pt x="12" y="86"/>
                    </a:lnTo>
                    <a:lnTo>
                      <a:pt x="25" y="130"/>
                    </a:lnTo>
                    <a:lnTo>
                      <a:pt x="38" y="176"/>
                    </a:lnTo>
                    <a:lnTo>
                      <a:pt x="52" y="222"/>
                    </a:lnTo>
                    <a:lnTo>
                      <a:pt x="65" y="267"/>
                    </a:lnTo>
                    <a:lnTo>
                      <a:pt x="69" y="290"/>
                    </a:lnTo>
                    <a:lnTo>
                      <a:pt x="73" y="312"/>
                    </a:lnTo>
                    <a:lnTo>
                      <a:pt x="75" y="334"/>
                    </a:lnTo>
                    <a:lnTo>
                      <a:pt x="76" y="355"/>
                    </a:lnTo>
                    <a:lnTo>
                      <a:pt x="88" y="344"/>
                    </a:lnTo>
                    <a:lnTo>
                      <a:pt x="76" y="355"/>
                    </a:lnTo>
                    <a:lnTo>
                      <a:pt x="77" y="361"/>
                    </a:lnTo>
                    <a:lnTo>
                      <a:pt x="79" y="364"/>
                    </a:lnTo>
                    <a:lnTo>
                      <a:pt x="84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6" y="364"/>
                    </a:lnTo>
                    <a:lnTo>
                      <a:pt x="99" y="361"/>
                    </a:lnTo>
                    <a:lnTo>
                      <a:pt x="100" y="355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734000" y="405324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192" h="200">
                    <a:moveTo>
                      <a:pt x="24" y="20"/>
                    </a:moveTo>
                    <a:lnTo>
                      <a:pt x="6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69"/>
                    </a:lnTo>
                    <a:lnTo>
                      <a:pt x="18" y="85"/>
                    </a:lnTo>
                    <a:lnTo>
                      <a:pt x="26" y="101"/>
                    </a:lnTo>
                    <a:lnTo>
                      <a:pt x="37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73" y="156"/>
                    </a:lnTo>
                    <a:lnTo>
                      <a:pt x="81" y="163"/>
                    </a:lnTo>
                    <a:lnTo>
                      <a:pt x="90" y="169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8"/>
                    </a:lnTo>
                    <a:lnTo>
                      <a:pt x="179" y="200"/>
                    </a:lnTo>
                    <a:lnTo>
                      <a:pt x="192" y="200"/>
                    </a:lnTo>
                    <a:lnTo>
                      <a:pt x="192" y="177"/>
                    </a:lnTo>
                    <a:lnTo>
                      <a:pt x="180" y="175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3"/>
                    </a:lnTo>
                    <a:lnTo>
                      <a:pt x="121" y="159"/>
                    </a:lnTo>
                    <a:lnTo>
                      <a:pt x="112" y="154"/>
                    </a:lnTo>
                    <a:lnTo>
                      <a:pt x="104" y="149"/>
                    </a:lnTo>
                    <a:lnTo>
                      <a:pt x="96" y="143"/>
                    </a:lnTo>
                    <a:lnTo>
                      <a:pt x="89" y="138"/>
                    </a:lnTo>
                    <a:lnTo>
                      <a:pt x="82" y="131"/>
                    </a:lnTo>
                    <a:lnTo>
                      <a:pt x="68" y="117"/>
                    </a:lnTo>
                    <a:lnTo>
                      <a:pt x="57" y="104"/>
                    </a:lnTo>
                    <a:lnTo>
                      <a:pt x="48" y="89"/>
                    </a:lnTo>
                    <a:lnTo>
                      <a:pt x="40" y="74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6" y="36"/>
                    </a:lnTo>
                    <a:lnTo>
                      <a:pt x="25" y="27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7" y="3"/>
                    </a:lnTo>
                    <a:lnTo>
                      <a:pt x="26" y="18"/>
                    </a:lnTo>
                    <a:lnTo>
                      <a:pt x="27" y="13"/>
                    </a:lnTo>
                    <a:lnTo>
                      <a:pt x="27" y="8"/>
                    </a:lnTo>
                    <a:lnTo>
                      <a:pt x="25" y="4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66552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3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4" y="558"/>
                    </a:lnTo>
                    <a:lnTo>
                      <a:pt x="310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7" y="539"/>
                    </a:lnTo>
                    <a:lnTo>
                      <a:pt x="255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5" y="393"/>
                    </a:lnTo>
                    <a:lnTo>
                      <a:pt x="283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8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7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1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2" y="146"/>
                    </a:lnTo>
                    <a:lnTo>
                      <a:pt x="143" y="141"/>
                    </a:lnTo>
                    <a:lnTo>
                      <a:pt x="165" y="139"/>
                    </a:lnTo>
                    <a:lnTo>
                      <a:pt x="188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7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2" y="9"/>
                    </a:lnTo>
                    <a:lnTo>
                      <a:pt x="539" y="4"/>
                    </a:lnTo>
                    <a:lnTo>
                      <a:pt x="557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3" y="41"/>
                    </a:lnTo>
                    <a:lnTo>
                      <a:pt x="696" y="55"/>
                    </a:lnTo>
                    <a:lnTo>
                      <a:pt x="707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7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5" y="509"/>
                    </a:lnTo>
                    <a:lnTo>
                      <a:pt x="495" y="495"/>
                    </a:lnTo>
                    <a:lnTo>
                      <a:pt x="489" y="480"/>
                    </a:lnTo>
                    <a:lnTo>
                      <a:pt x="484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9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745080" y="412128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7" y="126"/>
                    </a:lnTo>
                    <a:lnTo>
                      <a:pt x="140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1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8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741840" y="4091400"/>
                <a:ext cx="33120" cy="79200"/>
              </a:xfrm>
              <a:custGeom>
                <a:avLst/>
                <a:gdLst/>
                <a:ahLst/>
                <a:rect l="l" t="t" r="r" b="b"/>
                <a:pathLst>
                  <a:path w="104" h="252">
                    <a:moveTo>
                      <a:pt x="92" y="24"/>
                    </a:moveTo>
                    <a:lnTo>
                      <a:pt x="86" y="1"/>
                    </a:lnTo>
                    <a:lnTo>
                      <a:pt x="70" y="11"/>
                    </a:lnTo>
                    <a:lnTo>
                      <a:pt x="55" y="22"/>
                    </a:lnTo>
                    <a:lnTo>
                      <a:pt x="43" y="35"/>
                    </a:lnTo>
                    <a:lnTo>
                      <a:pt x="32" y="49"/>
                    </a:lnTo>
                    <a:lnTo>
                      <a:pt x="23" y="63"/>
                    </a:lnTo>
                    <a:lnTo>
                      <a:pt x="16" y="79"/>
                    </a:lnTo>
                    <a:lnTo>
                      <a:pt x="11" y="95"/>
                    </a:lnTo>
                    <a:lnTo>
                      <a:pt x="6" y="111"/>
                    </a:lnTo>
                    <a:lnTo>
                      <a:pt x="3" y="128"/>
                    </a:lnTo>
                    <a:lnTo>
                      <a:pt x="2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3" y="216"/>
                    </a:lnTo>
                    <a:lnTo>
                      <a:pt x="7" y="252"/>
                    </a:lnTo>
                    <a:lnTo>
                      <a:pt x="31" y="247"/>
                    </a:lnTo>
                    <a:lnTo>
                      <a:pt x="27" y="214"/>
                    </a:lnTo>
                    <a:lnTo>
                      <a:pt x="24" y="181"/>
                    </a:lnTo>
                    <a:lnTo>
                      <a:pt x="24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30" y="117"/>
                    </a:lnTo>
                    <a:lnTo>
                      <a:pt x="33" y="102"/>
                    </a:lnTo>
                    <a:lnTo>
                      <a:pt x="38" y="89"/>
                    </a:lnTo>
                    <a:lnTo>
                      <a:pt x="45" y="75"/>
                    </a:lnTo>
                    <a:lnTo>
                      <a:pt x="52" y="62"/>
                    </a:lnTo>
                    <a:lnTo>
                      <a:pt x="61" y="51"/>
                    </a:lnTo>
                    <a:lnTo>
                      <a:pt x="71" y="41"/>
                    </a:lnTo>
                    <a:lnTo>
                      <a:pt x="84" y="32"/>
                    </a:lnTo>
                    <a:lnTo>
                      <a:pt x="97" y="22"/>
                    </a:lnTo>
                    <a:lnTo>
                      <a:pt x="92" y="0"/>
                    </a:lnTo>
                    <a:lnTo>
                      <a:pt x="97" y="22"/>
                    </a:lnTo>
                    <a:lnTo>
                      <a:pt x="102" y="19"/>
                    </a:lnTo>
                    <a:lnTo>
                      <a:pt x="104" y="16"/>
                    </a:lnTo>
                    <a:lnTo>
                      <a:pt x="104" y="11"/>
                    </a:lnTo>
                    <a:lnTo>
                      <a:pt x="103" y="6"/>
                    </a:lnTo>
                    <a:lnTo>
                      <a:pt x="100" y="3"/>
                    </a:lnTo>
                    <a:lnTo>
                      <a:pt x="96" y="1"/>
                    </a:lnTo>
                    <a:lnTo>
                      <a:pt x="92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660840" y="4027680"/>
                <a:ext cx="11412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1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1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3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6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1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4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5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5" y="118"/>
                    </a:lnTo>
                    <a:lnTo>
                      <a:pt x="25" y="113"/>
                    </a:lnTo>
                    <a:lnTo>
                      <a:pt x="26" y="109"/>
                    </a:lnTo>
                    <a:lnTo>
                      <a:pt x="27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1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1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6" y="53"/>
                    </a:lnTo>
                    <a:lnTo>
                      <a:pt x="304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40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376704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6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69" y="46"/>
                    </a:lnTo>
                    <a:lnTo>
                      <a:pt x="355" y="33"/>
                    </a:lnTo>
                    <a:lnTo>
                      <a:pt x="340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4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3" y="110"/>
                    </a:lnTo>
                    <a:lnTo>
                      <a:pt x="106" y="94"/>
                    </a:lnTo>
                    <a:lnTo>
                      <a:pt x="122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3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0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6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3846600" y="4057920"/>
                <a:ext cx="57240" cy="12600"/>
              </a:xfrm>
              <a:custGeom>
                <a:avLst/>
                <a:gdLst/>
                <a:ahLst/>
                <a:rect l="l" t="t" r="r" b="b"/>
                <a:pathLst>
                  <a:path w="177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7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384660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1" h="367">
                    <a:moveTo>
                      <a:pt x="89" y="367"/>
                    </a:moveTo>
                    <a:lnTo>
                      <a:pt x="101" y="356"/>
                    </a:lnTo>
                    <a:lnTo>
                      <a:pt x="100" y="332"/>
                    </a:lnTo>
                    <a:lnTo>
                      <a:pt x="98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2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2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3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6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1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100" y="361"/>
                    </a:lnTo>
                    <a:lnTo>
                      <a:pt x="101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81312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4" y="54"/>
                    </a:lnTo>
                    <a:lnTo>
                      <a:pt x="10" y="70"/>
                    </a:lnTo>
                    <a:lnTo>
                      <a:pt x="18" y="85"/>
                    </a:lnTo>
                    <a:lnTo>
                      <a:pt x="27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2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1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59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2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8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8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664000" y="3988080"/>
                <a:ext cx="236520" cy="192240"/>
              </a:xfrm>
              <a:custGeom>
                <a:avLst/>
                <a:gdLst/>
                <a:ahLst/>
                <a:rect l="l" t="t" r="r" b="b"/>
                <a:pathLst>
                  <a:path w="747" h="603">
                    <a:moveTo>
                      <a:pt x="481" y="426"/>
                    </a:moveTo>
                    <a:lnTo>
                      <a:pt x="458" y="449"/>
                    </a:lnTo>
                    <a:lnTo>
                      <a:pt x="434" y="474"/>
                    </a:lnTo>
                    <a:lnTo>
                      <a:pt x="409" y="498"/>
                    </a:lnTo>
                    <a:lnTo>
                      <a:pt x="382" y="522"/>
                    </a:lnTo>
                    <a:lnTo>
                      <a:pt x="368" y="532"/>
                    </a:lnTo>
                    <a:lnTo>
                      <a:pt x="354" y="543"/>
                    </a:lnTo>
                    <a:lnTo>
                      <a:pt x="339" y="551"/>
                    </a:lnTo>
                    <a:lnTo>
                      <a:pt x="325" y="558"/>
                    </a:lnTo>
                    <a:lnTo>
                      <a:pt x="309" y="564"/>
                    </a:lnTo>
                    <a:lnTo>
                      <a:pt x="294" y="570"/>
                    </a:lnTo>
                    <a:lnTo>
                      <a:pt x="278" y="572"/>
                    </a:lnTo>
                    <a:lnTo>
                      <a:pt x="261" y="573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7" y="455"/>
                    </a:lnTo>
                    <a:lnTo>
                      <a:pt x="260" y="439"/>
                    </a:lnTo>
                    <a:lnTo>
                      <a:pt x="264" y="423"/>
                    </a:lnTo>
                    <a:lnTo>
                      <a:pt x="269" y="408"/>
                    </a:lnTo>
                    <a:lnTo>
                      <a:pt x="276" y="393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6"/>
                    </a:lnTo>
                    <a:lnTo>
                      <a:pt x="319" y="345"/>
                    </a:lnTo>
                    <a:lnTo>
                      <a:pt x="334" y="336"/>
                    </a:lnTo>
                    <a:lnTo>
                      <a:pt x="273" y="335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7" y="313"/>
                    </a:lnTo>
                    <a:lnTo>
                      <a:pt x="68" y="305"/>
                    </a:lnTo>
                    <a:lnTo>
                      <a:pt x="44" y="295"/>
                    </a:lnTo>
                    <a:lnTo>
                      <a:pt x="26" y="285"/>
                    </a:lnTo>
                    <a:lnTo>
                      <a:pt x="13" y="273"/>
                    </a:lnTo>
                    <a:lnTo>
                      <a:pt x="4" y="261"/>
                    </a:lnTo>
                    <a:lnTo>
                      <a:pt x="0" y="250"/>
                    </a:lnTo>
                    <a:lnTo>
                      <a:pt x="0" y="237"/>
                    </a:lnTo>
                    <a:lnTo>
                      <a:pt x="3" y="224"/>
                    </a:lnTo>
                    <a:lnTo>
                      <a:pt x="10" y="212"/>
                    </a:lnTo>
                    <a:lnTo>
                      <a:pt x="19" y="201"/>
                    </a:lnTo>
                    <a:lnTo>
                      <a:pt x="32" y="189"/>
                    </a:lnTo>
                    <a:lnTo>
                      <a:pt x="45" y="178"/>
                    </a:lnTo>
                    <a:lnTo>
                      <a:pt x="62" y="169"/>
                    </a:lnTo>
                    <a:lnTo>
                      <a:pt x="81" y="159"/>
                    </a:lnTo>
                    <a:lnTo>
                      <a:pt x="100" y="153"/>
                    </a:lnTo>
                    <a:lnTo>
                      <a:pt x="121" y="146"/>
                    </a:lnTo>
                    <a:lnTo>
                      <a:pt x="142" y="141"/>
                    </a:lnTo>
                    <a:lnTo>
                      <a:pt x="165" y="139"/>
                    </a:lnTo>
                    <a:lnTo>
                      <a:pt x="187" y="138"/>
                    </a:lnTo>
                    <a:lnTo>
                      <a:pt x="209" y="139"/>
                    </a:lnTo>
                    <a:lnTo>
                      <a:pt x="231" y="142"/>
                    </a:lnTo>
                    <a:lnTo>
                      <a:pt x="252" y="148"/>
                    </a:lnTo>
                    <a:lnTo>
                      <a:pt x="272" y="157"/>
                    </a:lnTo>
                    <a:lnTo>
                      <a:pt x="290" y="167"/>
                    </a:lnTo>
                    <a:lnTo>
                      <a:pt x="306" y="182"/>
                    </a:lnTo>
                    <a:lnTo>
                      <a:pt x="321" y="199"/>
                    </a:lnTo>
                    <a:lnTo>
                      <a:pt x="334" y="220"/>
                    </a:lnTo>
                    <a:lnTo>
                      <a:pt x="343" y="195"/>
                    </a:lnTo>
                    <a:lnTo>
                      <a:pt x="353" y="170"/>
                    </a:lnTo>
                    <a:lnTo>
                      <a:pt x="364" y="148"/>
                    </a:lnTo>
                    <a:lnTo>
                      <a:pt x="377" y="126"/>
                    </a:lnTo>
                    <a:lnTo>
                      <a:pt x="391" y="107"/>
                    </a:lnTo>
                    <a:lnTo>
                      <a:pt x="404" y="89"/>
                    </a:lnTo>
                    <a:lnTo>
                      <a:pt x="420" y="73"/>
                    </a:lnTo>
                    <a:lnTo>
                      <a:pt x="436" y="58"/>
                    </a:lnTo>
                    <a:lnTo>
                      <a:pt x="452" y="45"/>
                    </a:lnTo>
                    <a:lnTo>
                      <a:pt x="469" y="33"/>
                    </a:lnTo>
                    <a:lnTo>
                      <a:pt x="486" y="24"/>
                    </a:lnTo>
                    <a:lnTo>
                      <a:pt x="503" y="16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4" y="0"/>
                    </a:lnTo>
                    <a:lnTo>
                      <a:pt x="591" y="0"/>
                    </a:lnTo>
                    <a:lnTo>
                      <a:pt x="608" y="2"/>
                    </a:lnTo>
                    <a:lnTo>
                      <a:pt x="624" y="7"/>
                    </a:lnTo>
                    <a:lnTo>
                      <a:pt x="640" y="12"/>
                    </a:lnTo>
                    <a:lnTo>
                      <a:pt x="655" y="20"/>
                    </a:lnTo>
                    <a:lnTo>
                      <a:pt x="670" y="30"/>
                    </a:lnTo>
                    <a:lnTo>
                      <a:pt x="682" y="41"/>
                    </a:lnTo>
                    <a:lnTo>
                      <a:pt x="695" y="55"/>
                    </a:lnTo>
                    <a:lnTo>
                      <a:pt x="706" y="69"/>
                    </a:lnTo>
                    <a:lnTo>
                      <a:pt x="717" y="88"/>
                    </a:lnTo>
                    <a:lnTo>
                      <a:pt x="726" y="106"/>
                    </a:lnTo>
                    <a:lnTo>
                      <a:pt x="734" y="128"/>
                    </a:lnTo>
                    <a:lnTo>
                      <a:pt x="739" y="150"/>
                    </a:lnTo>
                    <a:lnTo>
                      <a:pt x="744" y="175"/>
                    </a:lnTo>
                    <a:lnTo>
                      <a:pt x="746" y="203"/>
                    </a:lnTo>
                    <a:lnTo>
                      <a:pt x="747" y="232"/>
                    </a:lnTo>
                    <a:lnTo>
                      <a:pt x="583" y="247"/>
                    </a:lnTo>
                    <a:lnTo>
                      <a:pt x="584" y="268"/>
                    </a:lnTo>
                    <a:lnTo>
                      <a:pt x="587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5"/>
                    </a:lnTo>
                    <a:lnTo>
                      <a:pt x="621" y="419"/>
                    </a:lnTo>
                    <a:lnTo>
                      <a:pt x="636" y="466"/>
                    </a:lnTo>
                    <a:lnTo>
                      <a:pt x="647" y="512"/>
                    </a:lnTo>
                    <a:lnTo>
                      <a:pt x="653" y="535"/>
                    </a:lnTo>
                    <a:lnTo>
                      <a:pt x="656" y="557"/>
                    </a:lnTo>
                    <a:lnTo>
                      <a:pt x="658" y="580"/>
                    </a:lnTo>
                    <a:lnTo>
                      <a:pt x="660" y="603"/>
                    </a:lnTo>
                    <a:lnTo>
                      <a:pt x="647" y="602"/>
                    </a:lnTo>
                    <a:lnTo>
                      <a:pt x="636" y="601"/>
                    </a:lnTo>
                    <a:lnTo>
                      <a:pt x="624" y="600"/>
                    </a:lnTo>
                    <a:lnTo>
                      <a:pt x="613" y="596"/>
                    </a:lnTo>
                    <a:lnTo>
                      <a:pt x="603" y="593"/>
                    </a:lnTo>
                    <a:lnTo>
                      <a:pt x="592" y="589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8"/>
                    </a:lnTo>
                    <a:lnTo>
                      <a:pt x="540" y="554"/>
                    </a:lnTo>
                    <a:lnTo>
                      <a:pt x="526" y="540"/>
                    </a:lnTo>
                    <a:lnTo>
                      <a:pt x="515" y="524"/>
                    </a:lnTo>
                    <a:lnTo>
                      <a:pt x="503" y="509"/>
                    </a:lnTo>
                    <a:lnTo>
                      <a:pt x="496" y="495"/>
                    </a:lnTo>
                    <a:lnTo>
                      <a:pt x="489" y="480"/>
                    </a:lnTo>
                    <a:lnTo>
                      <a:pt x="483" y="465"/>
                    </a:lnTo>
                    <a:lnTo>
                      <a:pt x="481" y="452"/>
                    </a:lnTo>
                    <a:lnTo>
                      <a:pt x="478" y="441"/>
                    </a:lnTo>
                    <a:lnTo>
                      <a:pt x="478" y="433"/>
                    </a:lnTo>
                    <a:lnTo>
                      <a:pt x="481" y="42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2741760" y="4121280"/>
                <a:ext cx="77760" cy="52560"/>
              </a:xfrm>
              <a:custGeom>
                <a:avLst/>
                <a:gdLst/>
                <a:ahLst/>
                <a:rect l="l" t="t" r="r" b="b"/>
                <a:pathLst>
                  <a:path w="241" h="169">
                    <a:moveTo>
                      <a:pt x="0" y="159"/>
                    </a:moveTo>
                    <a:lnTo>
                      <a:pt x="12" y="169"/>
                    </a:lnTo>
                    <a:lnTo>
                      <a:pt x="30" y="168"/>
                    </a:lnTo>
                    <a:lnTo>
                      <a:pt x="47" y="164"/>
                    </a:lnTo>
                    <a:lnTo>
                      <a:pt x="64" y="159"/>
                    </a:lnTo>
                    <a:lnTo>
                      <a:pt x="80" y="153"/>
                    </a:lnTo>
                    <a:lnTo>
                      <a:pt x="96" y="145"/>
                    </a:lnTo>
                    <a:lnTo>
                      <a:pt x="112" y="136"/>
                    </a:lnTo>
                    <a:lnTo>
                      <a:pt x="126" y="126"/>
                    </a:lnTo>
                    <a:lnTo>
                      <a:pt x="141" y="114"/>
                    </a:lnTo>
                    <a:lnTo>
                      <a:pt x="168" y="90"/>
                    </a:lnTo>
                    <a:lnTo>
                      <a:pt x="194" y="65"/>
                    </a:lnTo>
                    <a:lnTo>
                      <a:pt x="218" y="41"/>
                    </a:lnTo>
                    <a:lnTo>
                      <a:pt x="241" y="17"/>
                    </a:lnTo>
                    <a:lnTo>
                      <a:pt x="224" y="0"/>
                    </a:lnTo>
                    <a:lnTo>
                      <a:pt x="201" y="24"/>
                    </a:lnTo>
                    <a:lnTo>
                      <a:pt x="177" y="48"/>
                    </a:lnTo>
                    <a:lnTo>
                      <a:pt x="152" y="73"/>
                    </a:lnTo>
                    <a:lnTo>
                      <a:pt x="126" y="96"/>
                    </a:lnTo>
                    <a:lnTo>
                      <a:pt x="112" y="106"/>
                    </a:lnTo>
                    <a:lnTo>
                      <a:pt x="98" y="115"/>
                    </a:lnTo>
                    <a:lnTo>
                      <a:pt x="85" y="123"/>
                    </a:lnTo>
                    <a:lnTo>
                      <a:pt x="70" y="130"/>
                    </a:lnTo>
                    <a:lnTo>
                      <a:pt x="56" y="136"/>
                    </a:lnTo>
                    <a:lnTo>
                      <a:pt x="41" y="140"/>
                    </a:lnTo>
                    <a:lnTo>
                      <a:pt x="27" y="144"/>
                    </a:lnTo>
                    <a:lnTo>
                      <a:pt x="12" y="144"/>
                    </a:lnTo>
                    <a:lnTo>
                      <a:pt x="24" y="154"/>
                    </a:lnTo>
                    <a:lnTo>
                      <a:pt x="12" y="144"/>
                    </a:lnTo>
                    <a:lnTo>
                      <a:pt x="7" y="145"/>
                    </a:lnTo>
                    <a:lnTo>
                      <a:pt x="3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0" y="161"/>
                    </a:lnTo>
                    <a:lnTo>
                      <a:pt x="3" y="164"/>
                    </a:lnTo>
                    <a:lnTo>
                      <a:pt x="7" y="168"/>
                    </a:lnTo>
                    <a:lnTo>
                      <a:pt x="12" y="169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2739960" y="4091400"/>
                <a:ext cx="33480" cy="79200"/>
              </a:xfrm>
              <a:custGeom>
                <a:avLst/>
                <a:gdLst/>
                <a:ahLst/>
                <a:rect l="l" t="t" r="r" b="b"/>
                <a:pathLst>
                  <a:path w="103" h="252">
                    <a:moveTo>
                      <a:pt x="91" y="24"/>
                    </a:moveTo>
                    <a:lnTo>
                      <a:pt x="85" y="1"/>
                    </a:lnTo>
                    <a:lnTo>
                      <a:pt x="69" y="11"/>
                    </a:lnTo>
                    <a:lnTo>
                      <a:pt x="54" y="22"/>
                    </a:lnTo>
                    <a:lnTo>
                      <a:pt x="42" y="35"/>
                    </a:lnTo>
                    <a:lnTo>
                      <a:pt x="31" y="49"/>
                    </a:lnTo>
                    <a:lnTo>
                      <a:pt x="22" y="63"/>
                    </a:lnTo>
                    <a:lnTo>
                      <a:pt x="14" y="79"/>
                    </a:lnTo>
                    <a:lnTo>
                      <a:pt x="9" y="95"/>
                    </a:lnTo>
                    <a:lnTo>
                      <a:pt x="5" y="111"/>
                    </a:lnTo>
                    <a:lnTo>
                      <a:pt x="2" y="128"/>
                    </a:lnTo>
                    <a:lnTo>
                      <a:pt x="0" y="147"/>
                    </a:lnTo>
                    <a:lnTo>
                      <a:pt x="0" y="164"/>
                    </a:lnTo>
                    <a:lnTo>
                      <a:pt x="0" y="182"/>
                    </a:lnTo>
                    <a:lnTo>
                      <a:pt x="2" y="216"/>
                    </a:lnTo>
                    <a:lnTo>
                      <a:pt x="6" y="252"/>
                    </a:lnTo>
                    <a:lnTo>
                      <a:pt x="30" y="247"/>
                    </a:lnTo>
                    <a:lnTo>
                      <a:pt x="26" y="214"/>
                    </a:lnTo>
                    <a:lnTo>
                      <a:pt x="23" y="181"/>
                    </a:lnTo>
                    <a:lnTo>
                      <a:pt x="23" y="164"/>
                    </a:lnTo>
                    <a:lnTo>
                      <a:pt x="25" y="148"/>
                    </a:lnTo>
                    <a:lnTo>
                      <a:pt x="26" y="132"/>
                    </a:lnTo>
                    <a:lnTo>
                      <a:pt x="29" y="117"/>
                    </a:lnTo>
                    <a:lnTo>
                      <a:pt x="33" y="102"/>
                    </a:lnTo>
                    <a:lnTo>
                      <a:pt x="37" y="89"/>
                    </a:lnTo>
                    <a:lnTo>
                      <a:pt x="44" y="75"/>
                    </a:lnTo>
                    <a:lnTo>
                      <a:pt x="51" y="62"/>
                    </a:lnTo>
                    <a:lnTo>
                      <a:pt x="60" y="51"/>
                    </a:lnTo>
                    <a:lnTo>
                      <a:pt x="70" y="41"/>
                    </a:lnTo>
                    <a:lnTo>
                      <a:pt x="83" y="32"/>
                    </a:lnTo>
                    <a:lnTo>
                      <a:pt x="96" y="22"/>
                    </a:lnTo>
                    <a:lnTo>
                      <a:pt x="91" y="0"/>
                    </a:lnTo>
                    <a:lnTo>
                      <a:pt x="96" y="22"/>
                    </a:lnTo>
                    <a:lnTo>
                      <a:pt x="101" y="19"/>
                    </a:lnTo>
                    <a:lnTo>
                      <a:pt x="103" y="16"/>
                    </a:lnTo>
                    <a:lnTo>
                      <a:pt x="103" y="11"/>
                    </a:lnTo>
                    <a:lnTo>
                      <a:pt x="102" y="6"/>
                    </a:lnTo>
                    <a:lnTo>
                      <a:pt x="99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9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658960" y="4027680"/>
                <a:ext cx="114480" cy="71640"/>
              </a:xfrm>
              <a:custGeom>
                <a:avLst/>
                <a:gdLst/>
                <a:ahLst/>
                <a:rect l="l" t="t" r="r" b="b"/>
                <a:pathLst>
                  <a:path w="359" h="223">
                    <a:moveTo>
                      <a:pt x="335" y="91"/>
                    </a:moveTo>
                    <a:lnTo>
                      <a:pt x="358" y="89"/>
                    </a:lnTo>
                    <a:lnTo>
                      <a:pt x="351" y="78"/>
                    </a:lnTo>
                    <a:lnTo>
                      <a:pt x="344" y="68"/>
                    </a:lnTo>
                    <a:lnTo>
                      <a:pt x="336" y="57"/>
                    </a:lnTo>
                    <a:lnTo>
                      <a:pt x="328" y="48"/>
                    </a:lnTo>
                    <a:lnTo>
                      <a:pt x="319" y="40"/>
                    </a:lnTo>
                    <a:lnTo>
                      <a:pt x="310" y="33"/>
                    </a:lnTo>
                    <a:lnTo>
                      <a:pt x="300" y="27"/>
                    </a:lnTo>
                    <a:lnTo>
                      <a:pt x="290" y="21"/>
                    </a:lnTo>
                    <a:lnTo>
                      <a:pt x="279" y="16"/>
                    </a:lnTo>
                    <a:lnTo>
                      <a:pt x="269" y="12"/>
                    </a:lnTo>
                    <a:lnTo>
                      <a:pt x="258" y="8"/>
                    </a:lnTo>
                    <a:lnTo>
                      <a:pt x="246" y="6"/>
                    </a:lnTo>
                    <a:lnTo>
                      <a:pt x="224" y="3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4" y="5"/>
                    </a:lnTo>
                    <a:lnTo>
                      <a:pt x="131" y="9"/>
                    </a:lnTo>
                    <a:lnTo>
                      <a:pt x="110" y="16"/>
                    </a:lnTo>
                    <a:lnTo>
                      <a:pt x="89" y="24"/>
                    </a:lnTo>
                    <a:lnTo>
                      <a:pt x="70" y="33"/>
                    </a:lnTo>
                    <a:lnTo>
                      <a:pt x="52" y="44"/>
                    </a:lnTo>
                    <a:lnTo>
                      <a:pt x="37" y="54"/>
                    </a:lnTo>
                    <a:lnTo>
                      <a:pt x="30" y="61"/>
                    </a:lnTo>
                    <a:lnTo>
                      <a:pt x="23" y="68"/>
                    </a:lnTo>
                    <a:lnTo>
                      <a:pt x="17" y="73"/>
                    </a:lnTo>
                    <a:lnTo>
                      <a:pt x="13" y="80"/>
                    </a:lnTo>
                    <a:lnTo>
                      <a:pt x="8" y="87"/>
                    </a:lnTo>
                    <a:lnTo>
                      <a:pt x="5" y="95"/>
                    </a:lnTo>
                    <a:lnTo>
                      <a:pt x="2" y="103"/>
                    </a:lnTo>
                    <a:lnTo>
                      <a:pt x="1" y="110"/>
                    </a:lnTo>
                    <a:lnTo>
                      <a:pt x="0" y="118"/>
                    </a:lnTo>
                    <a:lnTo>
                      <a:pt x="1" y="127"/>
                    </a:lnTo>
                    <a:lnTo>
                      <a:pt x="4" y="134"/>
                    </a:lnTo>
                    <a:lnTo>
                      <a:pt x="7" y="142"/>
                    </a:lnTo>
                    <a:lnTo>
                      <a:pt x="12" y="150"/>
                    </a:lnTo>
                    <a:lnTo>
                      <a:pt x="17" y="156"/>
                    </a:lnTo>
                    <a:lnTo>
                      <a:pt x="24" y="163"/>
                    </a:lnTo>
                    <a:lnTo>
                      <a:pt x="32" y="169"/>
                    </a:lnTo>
                    <a:lnTo>
                      <a:pt x="41" y="175"/>
                    </a:lnTo>
                    <a:lnTo>
                      <a:pt x="53" y="180"/>
                    </a:lnTo>
                    <a:lnTo>
                      <a:pt x="64" y="186"/>
                    </a:lnTo>
                    <a:lnTo>
                      <a:pt x="77" y="192"/>
                    </a:lnTo>
                    <a:lnTo>
                      <a:pt x="91" y="196"/>
                    </a:lnTo>
                    <a:lnTo>
                      <a:pt x="106" y="200"/>
                    </a:lnTo>
                    <a:lnTo>
                      <a:pt x="123" y="204"/>
                    </a:lnTo>
                    <a:lnTo>
                      <a:pt x="142" y="208"/>
                    </a:lnTo>
                    <a:lnTo>
                      <a:pt x="162" y="211"/>
                    </a:lnTo>
                    <a:lnTo>
                      <a:pt x="184" y="215"/>
                    </a:lnTo>
                    <a:lnTo>
                      <a:pt x="206" y="217"/>
                    </a:lnTo>
                    <a:lnTo>
                      <a:pt x="232" y="219"/>
                    </a:lnTo>
                    <a:lnTo>
                      <a:pt x="285" y="221"/>
                    </a:lnTo>
                    <a:lnTo>
                      <a:pt x="347" y="223"/>
                    </a:lnTo>
                    <a:lnTo>
                      <a:pt x="347" y="199"/>
                    </a:lnTo>
                    <a:lnTo>
                      <a:pt x="286" y="198"/>
                    </a:lnTo>
                    <a:lnTo>
                      <a:pt x="233" y="195"/>
                    </a:lnTo>
                    <a:lnTo>
                      <a:pt x="209" y="193"/>
                    </a:lnTo>
                    <a:lnTo>
                      <a:pt x="186" y="191"/>
                    </a:lnTo>
                    <a:lnTo>
                      <a:pt x="165" y="187"/>
                    </a:lnTo>
                    <a:lnTo>
                      <a:pt x="146" y="184"/>
                    </a:lnTo>
                    <a:lnTo>
                      <a:pt x="129" y="180"/>
                    </a:lnTo>
                    <a:lnTo>
                      <a:pt x="113" y="177"/>
                    </a:lnTo>
                    <a:lnTo>
                      <a:pt x="98" y="172"/>
                    </a:lnTo>
                    <a:lnTo>
                      <a:pt x="85" y="169"/>
                    </a:lnTo>
                    <a:lnTo>
                      <a:pt x="73" y="164"/>
                    </a:lnTo>
                    <a:lnTo>
                      <a:pt x="63" y="159"/>
                    </a:lnTo>
                    <a:lnTo>
                      <a:pt x="54" y="154"/>
                    </a:lnTo>
                    <a:lnTo>
                      <a:pt x="47" y="150"/>
                    </a:lnTo>
                    <a:lnTo>
                      <a:pt x="40" y="145"/>
                    </a:lnTo>
                    <a:lnTo>
                      <a:pt x="36" y="139"/>
                    </a:lnTo>
                    <a:lnTo>
                      <a:pt x="31" y="135"/>
                    </a:lnTo>
                    <a:lnTo>
                      <a:pt x="29" y="130"/>
                    </a:lnTo>
                    <a:lnTo>
                      <a:pt x="26" y="126"/>
                    </a:lnTo>
                    <a:lnTo>
                      <a:pt x="25" y="122"/>
                    </a:lnTo>
                    <a:lnTo>
                      <a:pt x="24" y="118"/>
                    </a:lnTo>
                    <a:lnTo>
                      <a:pt x="25" y="113"/>
                    </a:lnTo>
                    <a:lnTo>
                      <a:pt x="25" y="109"/>
                    </a:lnTo>
                    <a:lnTo>
                      <a:pt x="28" y="104"/>
                    </a:lnTo>
                    <a:lnTo>
                      <a:pt x="30" y="98"/>
                    </a:lnTo>
                    <a:lnTo>
                      <a:pt x="32" y="94"/>
                    </a:lnTo>
                    <a:lnTo>
                      <a:pt x="37" y="89"/>
                    </a:lnTo>
                    <a:lnTo>
                      <a:pt x="41" y="84"/>
                    </a:lnTo>
                    <a:lnTo>
                      <a:pt x="46" y="78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81" y="54"/>
                    </a:lnTo>
                    <a:lnTo>
                      <a:pt x="98" y="46"/>
                    </a:lnTo>
                    <a:lnTo>
                      <a:pt x="118" y="39"/>
                    </a:lnTo>
                    <a:lnTo>
                      <a:pt x="137" y="33"/>
                    </a:lnTo>
                    <a:lnTo>
                      <a:pt x="157" y="29"/>
                    </a:lnTo>
                    <a:lnTo>
                      <a:pt x="179" y="25"/>
                    </a:lnTo>
                    <a:lnTo>
                      <a:pt x="200" y="25"/>
                    </a:lnTo>
                    <a:lnTo>
                      <a:pt x="221" y="27"/>
                    </a:lnTo>
                    <a:lnTo>
                      <a:pt x="242" y="29"/>
                    </a:lnTo>
                    <a:lnTo>
                      <a:pt x="251" y="32"/>
                    </a:lnTo>
                    <a:lnTo>
                      <a:pt x="261" y="34"/>
                    </a:lnTo>
                    <a:lnTo>
                      <a:pt x="270" y="38"/>
                    </a:lnTo>
                    <a:lnTo>
                      <a:pt x="279" y="42"/>
                    </a:lnTo>
                    <a:lnTo>
                      <a:pt x="287" y="47"/>
                    </a:lnTo>
                    <a:lnTo>
                      <a:pt x="297" y="53"/>
                    </a:lnTo>
                    <a:lnTo>
                      <a:pt x="303" y="58"/>
                    </a:lnTo>
                    <a:lnTo>
                      <a:pt x="311" y="65"/>
                    </a:lnTo>
                    <a:lnTo>
                      <a:pt x="318" y="73"/>
                    </a:lnTo>
                    <a:lnTo>
                      <a:pt x="325" y="81"/>
                    </a:lnTo>
                    <a:lnTo>
                      <a:pt x="331" y="90"/>
                    </a:lnTo>
                    <a:lnTo>
                      <a:pt x="336" y="101"/>
                    </a:lnTo>
                    <a:lnTo>
                      <a:pt x="358" y="98"/>
                    </a:lnTo>
                    <a:lnTo>
                      <a:pt x="336" y="101"/>
                    </a:lnTo>
                    <a:lnTo>
                      <a:pt x="339" y="104"/>
                    </a:lnTo>
                    <a:lnTo>
                      <a:pt x="343" y="106"/>
                    </a:lnTo>
                    <a:lnTo>
                      <a:pt x="348" y="107"/>
                    </a:lnTo>
                    <a:lnTo>
                      <a:pt x="352" y="105"/>
                    </a:lnTo>
                    <a:lnTo>
                      <a:pt x="356" y="103"/>
                    </a:lnTo>
                    <a:lnTo>
                      <a:pt x="358" y="99"/>
                    </a:lnTo>
                    <a:lnTo>
                      <a:pt x="359" y="95"/>
                    </a:lnTo>
                    <a:lnTo>
                      <a:pt x="358" y="89"/>
                    </a:lnTo>
                    <a:lnTo>
                      <a:pt x="335" y="9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765520" y="398484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438" h="257">
                    <a:moveTo>
                      <a:pt x="427" y="257"/>
                    </a:moveTo>
                    <a:lnTo>
                      <a:pt x="438" y="245"/>
                    </a:lnTo>
                    <a:lnTo>
                      <a:pt x="437" y="215"/>
                    </a:lnTo>
                    <a:lnTo>
                      <a:pt x="434" y="187"/>
                    </a:lnTo>
                    <a:lnTo>
                      <a:pt x="430" y="161"/>
                    </a:lnTo>
                    <a:lnTo>
                      <a:pt x="423" y="137"/>
                    </a:lnTo>
                    <a:lnTo>
                      <a:pt x="415" y="114"/>
                    </a:lnTo>
                    <a:lnTo>
                      <a:pt x="406" y="95"/>
                    </a:lnTo>
                    <a:lnTo>
                      <a:pt x="395" y="77"/>
                    </a:lnTo>
                    <a:lnTo>
                      <a:pt x="383" y="60"/>
                    </a:lnTo>
                    <a:lnTo>
                      <a:pt x="370" y="46"/>
                    </a:lnTo>
                    <a:lnTo>
                      <a:pt x="355" y="33"/>
                    </a:lnTo>
                    <a:lnTo>
                      <a:pt x="339" y="23"/>
                    </a:lnTo>
                    <a:lnTo>
                      <a:pt x="323" y="14"/>
                    </a:lnTo>
                    <a:lnTo>
                      <a:pt x="306" y="8"/>
                    </a:lnTo>
                    <a:lnTo>
                      <a:pt x="289" y="4"/>
                    </a:lnTo>
                    <a:lnTo>
                      <a:pt x="270" y="1"/>
                    </a:lnTo>
                    <a:lnTo>
                      <a:pt x="252" y="0"/>
                    </a:lnTo>
                    <a:lnTo>
                      <a:pt x="233" y="3"/>
                    </a:lnTo>
                    <a:lnTo>
                      <a:pt x="215" y="5"/>
                    </a:lnTo>
                    <a:lnTo>
                      <a:pt x="195" y="11"/>
                    </a:lnTo>
                    <a:lnTo>
                      <a:pt x="177" y="17"/>
                    </a:lnTo>
                    <a:lnTo>
                      <a:pt x="159" y="25"/>
                    </a:lnTo>
                    <a:lnTo>
                      <a:pt x="140" y="36"/>
                    </a:lnTo>
                    <a:lnTo>
                      <a:pt x="123" y="48"/>
                    </a:lnTo>
                    <a:lnTo>
                      <a:pt x="106" y="62"/>
                    </a:lnTo>
                    <a:lnTo>
                      <a:pt x="89" y="77"/>
                    </a:lnTo>
                    <a:lnTo>
                      <a:pt x="73" y="94"/>
                    </a:lnTo>
                    <a:lnTo>
                      <a:pt x="58" y="113"/>
                    </a:lnTo>
                    <a:lnTo>
                      <a:pt x="45" y="133"/>
                    </a:lnTo>
                    <a:lnTo>
                      <a:pt x="32" y="155"/>
                    </a:lnTo>
                    <a:lnTo>
                      <a:pt x="20" y="178"/>
                    </a:lnTo>
                    <a:lnTo>
                      <a:pt x="9" y="203"/>
                    </a:lnTo>
                    <a:lnTo>
                      <a:pt x="0" y="229"/>
                    </a:lnTo>
                    <a:lnTo>
                      <a:pt x="23" y="236"/>
                    </a:lnTo>
                    <a:lnTo>
                      <a:pt x="32" y="211"/>
                    </a:lnTo>
                    <a:lnTo>
                      <a:pt x="42" y="188"/>
                    </a:lnTo>
                    <a:lnTo>
                      <a:pt x="53" y="167"/>
                    </a:lnTo>
                    <a:lnTo>
                      <a:pt x="65" y="146"/>
                    </a:lnTo>
                    <a:lnTo>
                      <a:pt x="78" y="127"/>
                    </a:lnTo>
                    <a:lnTo>
                      <a:pt x="91" y="110"/>
                    </a:lnTo>
                    <a:lnTo>
                      <a:pt x="106" y="94"/>
                    </a:lnTo>
                    <a:lnTo>
                      <a:pt x="121" y="80"/>
                    </a:lnTo>
                    <a:lnTo>
                      <a:pt x="137" y="68"/>
                    </a:lnTo>
                    <a:lnTo>
                      <a:pt x="153" y="56"/>
                    </a:lnTo>
                    <a:lnTo>
                      <a:pt x="170" y="47"/>
                    </a:lnTo>
                    <a:lnTo>
                      <a:pt x="186" y="39"/>
                    </a:lnTo>
                    <a:lnTo>
                      <a:pt x="203" y="33"/>
                    </a:lnTo>
                    <a:lnTo>
                      <a:pt x="219" y="29"/>
                    </a:lnTo>
                    <a:lnTo>
                      <a:pt x="236" y="27"/>
                    </a:lnTo>
                    <a:lnTo>
                      <a:pt x="252" y="25"/>
                    </a:lnTo>
                    <a:lnTo>
                      <a:pt x="268" y="25"/>
                    </a:lnTo>
                    <a:lnTo>
                      <a:pt x="284" y="28"/>
                    </a:lnTo>
                    <a:lnTo>
                      <a:pt x="299" y="31"/>
                    </a:lnTo>
                    <a:lnTo>
                      <a:pt x="314" y="37"/>
                    </a:lnTo>
                    <a:lnTo>
                      <a:pt x="327" y="44"/>
                    </a:lnTo>
                    <a:lnTo>
                      <a:pt x="340" y="53"/>
                    </a:lnTo>
                    <a:lnTo>
                      <a:pt x="352" y="63"/>
                    </a:lnTo>
                    <a:lnTo>
                      <a:pt x="364" y="76"/>
                    </a:lnTo>
                    <a:lnTo>
                      <a:pt x="375" y="89"/>
                    </a:lnTo>
                    <a:lnTo>
                      <a:pt x="384" y="106"/>
                    </a:lnTo>
                    <a:lnTo>
                      <a:pt x="392" y="123"/>
                    </a:lnTo>
                    <a:lnTo>
                      <a:pt x="400" y="144"/>
                    </a:lnTo>
                    <a:lnTo>
                      <a:pt x="406" y="166"/>
                    </a:lnTo>
                    <a:lnTo>
                      <a:pt x="411" y="191"/>
                    </a:lnTo>
                    <a:lnTo>
                      <a:pt x="413" y="217"/>
                    </a:lnTo>
                    <a:lnTo>
                      <a:pt x="414" y="245"/>
                    </a:lnTo>
                    <a:lnTo>
                      <a:pt x="424" y="233"/>
                    </a:lnTo>
                    <a:lnTo>
                      <a:pt x="414" y="245"/>
                    </a:lnTo>
                    <a:lnTo>
                      <a:pt x="415" y="250"/>
                    </a:lnTo>
                    <a:lnTo>
                      <a:pt x="417" y="255"/>
                    </a:lnTo>
                    <a:lnTo>
                      <a:pt x="421" y="257"/>
                    </a:lnTo>
                    <a:lnTo>
                      <a:pt x="425" y="257"/>
                    </a:lnTo>
                    <a:lnTo>
                      <a:pt x="430" y="257"/>
                    </a:lnTo>
                    <a:lnTo>
                      <a:pt x="434" y="255"/>
                    </a:lnTo>
                    <a:lnTo>
                      <a:pt x="437" y="250"/>
                    </a:lnTo>
                    <a:lnTo>
                      <a:pt x="438" y="245"/>
                    </a:lnTo>
                    <a:lnTo>
                      <a:pt x="427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844720" y="4057920"/>
                <a:ext cx="55800" cy="12600"/>
              </a:xfrm>
              <a:custGeom>
                <a:avLst/>
                <a:gdLst/>
                <a:ahLst/>
                <a:rect l="l" t="t" r="r" b="b"/>
                <a:pathLst>
                  <a:path w="178" h="40">
                    <a:moveTo>
                      <a:pt x="0" y="27"/>
                    </a:moveTo>
                    <a:lnTo>
                      <a:pt x="13" y="40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6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1" y="33"/>
                    </a:lnTo>
                    <a:lnTo>
                      <a:pt x="4" y="36"/>
                    </a:lnTo>
                    <a:lnTo>
                      <a:pt x="8" y="39"/>
                    </a:lnTo>
                    <a:lnTo>
                      <a:pt x="13" y="4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844720" y="4067280"/>
                <a:ext cx="31680" cy="11592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9" y="367"/>
                    </a:moveTo>
                    <a:lnTo>
                      <a:pt x="100" y="356"/>
                    </a:lnTo>
                    <a:lnTo>
                      <a:pt x="100" y="332"/>
                    </a:lnTo>
                    <a:lnTo>
                      <a:pt x="97" y="309"/>
                    </a:lnTo>
                    <a:lnTo>
                      <a:pt x="93" y="286"/>
                    </a:lnTo>
                    <a:lnTo>
                      <a:pt x="89" y="262"/>
                    </a:lnTo>
                    <a:lnTo>
                      <a:pt x="76" y="216"/>
                    </a:lnTo>
                    <a:lnTo>
                      <a:pt x="61" y="169"/>
                    </a:lnTo>
                    <a:lnTo>
                      <a:pt x="48" y="125"/>
                    </a:lnTo>
                    <a:lnTo>
                      <a:pt x="36" y="80"/>
                    </a:lnTo>
                    <a:lnTo>
                      <a:pt x="31" y="60"/>
                    </a:lnTo>
                    <a:lnTo>
                      <a:pt x="27" y="39"/>
                    </a:lnTo>
                    <a:lnTo>
                      <a:pt x="25" y="2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" y="21"/>
                    </a:lnTo>
                    <a:lnTo>
                      <a:pt x="3" y="42"/>
                    </a:lnTo>
                    <a:lnTo>
                      <a:pt x="8" y="64"/>
                    </a:lnTo>
                    <a:lnTo>
                      <a:pt x="12" y="87"/>
                    </a:lnTo>
                    <a:lnTo>
                      <a:pt x="25" y="131"/>
                    </a:lnTo>
                    <a:lnTo>
                      <a:pt x="38" y="177"/>
                    </a:lnTo>
                    <a:lnTo>
                      <a:pt x="52" y="223"/>
                    </a:lnTo>
                    <a:lnTo>
                      <a:pt x="65" y="268"/>
                    </a:lnTo>
                    <a:lnTo>
                      <a:pt x="69" y="290"/>
                    </a:lnTo>
                    <a:lnTo>
                      <a:pt x="73" y="313"/>
                    </a:lnTo>
                    <a:lnTo>
                      <a:pt x="75" y="334"/>
                    </a:lnTo>
                    <a:lnTo>
                      <a:pt x="76" y="356"/>
                    </a:lnTo>
                    <a:lnTo>
                      <a:pt x="89" y="343"/>
                    </a:lnTo>
                    <a:lnTo>
                      <a:pt x="76" y="356"/>
                    </a:lnTo>
                    <a:lnTo>
                      <a:pt x="77" y="361"/>
                    </a:lnTo>
                    <a:lnTo>
                      <a:pt x="80" y="365"/>
                    </a:lnTo>
                    <a:lnTo>
                      <a:pt x="84" y="367"/>
                    </a:lnTo>
                    <a:lnTo>
                      <a:pt x="89" y="367"/>
                    </a:lnTo>
                    <a:lnTo>
                      <a:pt x="93" y="367"/>
                    </a:lnTo>
                    <a:lnTo>
                      <a:pt x="97" y="365"/>
                    </a:lnTo>
                    <a:lnTo>
                      <a:pt x="99" y="361"/>
                    </a:lnTo>
                    <a:lnTo>
                      <a:pt x="100" y="356"/>
                    </a:lnTo>
                    <a:lnTo>
                      <a:pt x="89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2811600" y="4119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193" h="200">
                    <a:moveTo>
                      <a:pt x="23" y="20"/>
                    </a:moveTo>
                    <a:lnTo>
                      <a:pt x="3" y="7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1" y="41"/>
                    </a:lnTo>
                    <a:lnTo>
                      <a:pt x="5" y="54"/>
                    </a:lnTo>
                    <a:lnTo>
                      <a:pt x="10" y="70"/>
                    </a:lnTo>
                    <a:lnTo>
                      <a:pt x="17" y="85"/>
                    </a:lnTo>
                    <a:lnTo>
                      <a:pt x="26" y="101"/>
                    </a:lnTo>
                    <a:lnTo>
                      <a:pt x="38" y="118"/>
                    </a:lnTo>
                    <a:lnTo>
                      <a:pt x="50" y="134"/>
                    </a:lnTo>
                    <a:lnTo>
                      <a:pt x="65" y="149"/>
                    </a:lnTo>
                    <a:lnTo>
                      <a:pt x="81" y="163"/>
                    </a:lnTo>
                    <a:lnTo>
                      <a:pt x="99" y="175"/>
                    </a:lnTo>
                    <a:lnTo>
                      <a:pt x="109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2" y="194"/>
                    </a:lnTo>
                    <a:lnTo>
                      <a:pt x="154" y="197"/>
                    </a:lnTo>
                    <a:lnTo>
                      <a:pt x="166" y="199"/>
                    </a:lnTo>
                    <a:lnTo>
                      <a:pt x="179" y="200"/>
                    </a:lnTo>
                    <a:lnTo>
                      <a:pt x="193" y="200"/>
                    </a:lnTo>
                    <a:lnTo>
                      <a:pt x="193" y="176"/>
                    </a:lnTo>
                    <a:lnTo>
                      <a:pt x="181" y="176"/>
                    </a:lnTo>
                    <a:lnTo>
                      <a:pt x="170" y="175"/>
                    </a:lnTo>
                    <a:lnTo>
                      <a:pt x="160" y="173"/>
                    </a:lnTo>
                    <a:lnTo>
                      <a:pt x="149" y="171"/>
                    </a:lnTo>
                    <a:lnTo>
                      <a:pt x="139" y="167"/>
                    </a:lnTo>
                    <a:lnTo>
                      <a:pt x="130" y="164"/>
                    </a:lnTo>
                    <a:lnTo>
                      <a:pt x="121" y="159"/>
                    </a:lnTo>
                    <a:lnTo>
                      <a:pt x="113" y="155"/>
                    </a:lnTo>
                    <a:lnTo>
                      <a:pt x="96" y="143"/>
                    </a:lnTo>
                    <a:lnTo>
                      <a:pt x="81" y="131"/>
                    </a:lnTo>
                    <a:lnTo>
                      <a:pt x="68" y="118"/>
                    </a:lnTo>
                    <a:lnTo>
                      <a:pt x="57" y="103"/>
                    </a:lnTo>
                    <a:lnTo>
                      <a:pt x="47" y="89"/>
                    </a:lnTo>
                    <a:lnTo>
                      <a:pt x="39" y="75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6"/>
                    </a:lnTo>
                    <a:lnTo>
                      <a:pt x="24" y="27"/>
                    </a:lnTo>
                    <a:lnTo>
                      <a:pt x="24" y="20"/>
                    </a:lnTo>
                    <a:lnTo>
                      <a:pt x="25" y="18"/>
                    </a:lnTo>
                    <a:lnTo>
                      <a:pt x="6" y="3"/>
                    </a:lnTo>
                    <a:lnTo>
                      <a:pt x="25" y="18"/>
                    </a:lnTo>
                    <a:lnTo>
                      <a:pt x="26" y="12"/>
                    </a:lnTo>
                    <a:lnTo>
                      <a:pt x="26" y="8"/>
                    </a:lnTo>
                    <a:lnTo>
                      <a:pt x="24" y="4"/>
                    </a:lnTo>
                    <a:lnTo>
                      <a:pt x="19" y="2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7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903920" y="3907080"/>
                <a:ext cx="237960" cy="190440"/>
              </a:xfrm>
              <a:custGeom>
                <a:avLst/>
                <a:gdLst/>
                <a:ahLst/>
                <a:rect l="l" t="t" r="r" b="b"/>
                <a:pathLst>
                  <a:path w="748" h="602">
                    <a:moveTo>
                      <a:pt x="482" y="425"/>
                    </a:moveTo>
                    <a:lnTo>
                      <a:pt x="459" y="449"/>
                    </a:lnTo>
                    <a:lnTo>
                      <a:pt x="434" y="473"/>
                    </a:lnTo>
                    <a:lnTo>
                      <a:pt x="409" y="498"/>
                    </a:lnTo>
                    <a:lnTo>
                      <a:pt x="382" y="521"/>
                    </a:lnTo>
                    <a:lnTo>
                      <a:pt x="368" y="533"/>
                    </a:lnTo>
                    <a:lnTo>
                      <a:pt x="353" y="542"/>
                    </a:lnTo>
                    <a:lnTo>
                      <a:pt x="340" y="551"/>
                    </a:lnTo>
                    <a:lnTo>
                      <a:pt x="324" y="559"/>
                    </a:lnTo>
                    <a:lnTo>
                      <a:pt x="309" y="565"/>
                    </a:lnTo>
                    <a:lnTo>
                      <a:pt x="293" y="569"/>
                    </a:lnTo>
                    <a:lnTo>
                      <a:pt x="277" y="573"/>
                    </a:lnTo>
                    <a:lnTo>
                      <a:pt x="261" y="574"/>
                    </a:lnTo>
                    <a:lnTo>
                      <a:pt x="256" y="539"/>
                    </a:lnTo>
                    <a:lnTo>
                      <a:pt x="254" y="505"/>
                    </a:lnTo>
                    <a:lnTo>
                      <a:pt x="254" y="488"/>
                    </a:lnTo>
                    <a:lnTo>
                      <a:pt x="255" y="471"/>
                    </a:lnTo>
                    <a:lnTo>
                      <a:pt x="256" y="454"/>
                    </a:lnTo>
                    <a:lnTo>
                      <a:pt x="260" y="438"/>
                    </a:lnTo>
                    <a:lnTo>
                      <a:pt x="263" y="422"/>
                    </a:lnTo>
                    <a:lnTo>
                      <a:pt x="269" y="407"/>
                    </a:lnTo>
                    <a:lnTo>
                      <a:pt x="276" y="394"/>
                    </a:lnTo>
                    <a:lnTo>
                      <a:pt x="284" y="380"/>
                    </a:lnTo>
                    <a:lnTo>
                      <a:pt x="294" y="367"/>
                    </a:lnTo>
                    <a:lnTo>
                      <a:pt x="305" y="355"/>
                    </a:lnTo>
                    <a:lnTo>
                      <a:pt x="318" y="345"/>
                    </a:lnTo>
                    <a:lnTo>
                      <a:pt x="334" y="335"/>
                    </a:lnTo>
                    <a:lnTo>
                      <a:pt x="272" y="334"/>
                    </a:lnTo>
                    <a:lnTo>
                      <a:pt x="219" y="332"/>
                    </a:lnTo>
                    <a:lnTo>
                      <a:pt x="172" y="327"/>
                    </a:lnTo>
                    <a:lnTo>
                      <a:pt x="131" y="321"/>
                    </a:lnTo>
                    <a:lnTo>
                      <a:pt x="96" y="314"/>
                    </a:lnTo>
                    <a:lnTo>
                      <a:pt x="67" y="305"/>
                    </a:lnTo>
                    <a:lnTo>
                      <a:pt x="44" y="296"/>
                    </a:lnTo>
                    <a:lnTo>
                      <a:pt x="26" y="284"/>
                    </a:lnTo>
                    <a:lnTo>
                      <a:pt x="12" y="273"/>
                    </a:lnTo>
                    <a:lnTo>
                      <a:pt x="4" y="261"/>
                    </a:lnTo>
                    <a:lnTo>
                      <a:pt x="0" y="249"/>
                    </a:lnTo>
                    <a:lnTo>
                      <a:pt x="0" y="236"/>
                    </a:lnTo>
                    <a:lnTo>
                      <a:pt x="2" y="224"/>
                    </a:lnTo>
                    <a:lnTo>
                      <a:pt x="9" y="212"/>
                    </a:lnTo>
                    <a:lnTo>
                      <a:pt x="19" y="200"/>
                    </a:lnTo>
                    <a:lnTo>
                      <a:pt x="31" y="188"/>
                    </a:lnTo>
                    <a:lnTo>
                      <a:pt x="46" y="178"/>
                    </a:lnTo>
                    <a:lnTo>
                      <a:pt x="61" y="169"/>
                    </a:lnTo>
                    <a:lnTo>
                      <a:pt x="81" y="160"/>
                    </a:lnTo>
                    <a:lnTo>
                      <a:pt x="100" y="152"/>
                    </a:lnTo>
                    <a:lnTo>
                      <a:pt x="121" y="146"/>
                    </a:lnTo>
                    <a:lnTo>
                      <a:pt x="142" y="142"/>
                    </a:lnTo>
                    <a:lnTo>
                      <a:pt x="165" y="138"/>
                    </a:lnTo>
                    <a:lnTo>
                      <a:pt x="187" y="138"/>
                    </a:lnTo>
                    <a:lnTo>
                      <a:pt x="208" y="139"/>
                    </a:lnTo>
                    <a:lnTo>
                      <a:pt x="231" y="143"/>
                    </a:lnTo>
                    <a:lnTo>
                      <a:pt x="252" y="148"/>
                    </a:lnTo>
                    <a:lnTo>
                      <a:pt x="271" y="156"/>
                    </a:lnTo>
                    <a:lnTo>
                      <a:pt x="289" y="168"/>
                    </a:lnTo>
                    <a:lnTo>
                      <a:pt x="306" y="182"/>
                    </a:lnTo>
                    <a:lnTo>
                      <a:pt x="321" y="200"/>
                    </a:lnTo>
                    <a:lnTo>
                      <a:pt x="334" y="220"/>
                    </a:lnTo>
                    <a:lnTo>
                      <a:pt x="343" y="194"/>
                    </a:lnTo>
                    <a:lnTo>
                      <a:pt x="353" y="170"/>
                    </a:lnTo>
                    <a:lnTo>
                      <a:pt x="365" y="147"/>
                    </a:lnTo>
                    <a:lnTo>
                      <a:pt x="377" y="127"/>
                    </a:lnTo>
                    <a:lnTo>
                      <a:pt x="390" y="107"/>
                    </a:lnTo>
                    <a:lnTo>
                      <a:pt x="405" y="89"/>
                    </a:lnTo>
                    <a:lnTo>
                      <a:pt x="419" y="73"/>
                    </a:lnTo>
                    <a:lnTo>
                      <a:pt x="435" y="58"/>
                    </a:lnTo>
                    <a:lnTo>
                      <a:pt x="452" y="45"/>
                    </a:lnTo>
                    <a:lnTo>
                      <a:pt x="468" y="33"/>
                    </a:lnTo>
                    <a:lnTo>
                      <a:pt x="485" y="23"/>
                    </a:lnTo>
                    <a:lnTo>
                      <a:pt x="504" y="15"/>
                    </a:lnTo>
                    <a:lnTo>
                      <a:pt x="521" y="9"/>
                    </a:lnTo>
                    <a:lnTo>
                      <a:pt x="539" y="4"/>
                    </a:lnTo>
                    <a:lnTo>
                      <a:pt x="556" y="1"/>
                    </a:lnTo>
                    <a:lnTo>
                      <a:pt x="573" y="0"/>
                    </a:lnTo>
                    <a:lnTo>
                      <a:pt x="590" y="0"/>
                    </a:lnTo>
                    <a:lnTo>
                      <a:pt x="607" y="3"/>
                    </a:lnTo>
                    <a:lnTo>
                      <a:pt x="624" y="7"/>
                    </a:lnTo>
                    <a:lnTo>
                      <a:pt x="639" y="13"/>
                    </a:lnTo>
                    <a:lnTo>
                      <a:pt x="655" y="21"/>
                    </a:lnTo>
                    <a:lnTo>
                      <a:pt x="669" y="30"/>
                    </a:lnTo>
                    <a:lnTo>
                      <a:pt x="683" y="41"/>
                    </a:lnTo>
                    <a:lnTo>
                      <a:pt x="695" y="55"/>
                    </a:lnTo>
                    <a:lnTo>
                      <a:pt x="707" y="70"/>
                    </a:lnTo>
                    <a:lnTo>
                      <a:pt x="717" y="87"/>
                    </a:lnTo>
                    <a:lnTo>
                      <a:pt x="726" y="106"/>
                    </a:lnTo>
                    <a:lnTo>
                      <a:pt x="733" y="127"/>
                    </a:lnTo>
                    <a:lnTo>
                      <a:pt x="740" y="151"/>
                    </a:lnTo>
                    <a:lnTo>
                      <a:pt x="744" y="176"/>
                    </a:lnTo>
                    <a:lnTo>
                      <a:pt x="746" y="203"/>
                    </a:lnTo>
                    <a:lnTo>
                      <a:pt x="748" y="232"/>
                    </a:lnTo>
                    <a:lnTo>
                      <a:pt x="583" y="248"/>
                    </a:lnTo>
                    <a:lnTo>
                      <a:pt x="583" y="267"/>
                    </a:lnTo>
                    <a:lnTo>
                      <a:pt x="586" y="288"/>
                    </a:lnTo>
                    <a:lnTo>
                      <a:pt x="590" y="309"/>
                    </a:lnTo>
                    <a:lnTo>
                      <a:pt x="595" y="330"/>
                    </a:lnTo>
                    <a:lnTo>
                      <a:pt x="607" y="374"/>
                    </a:lnTo>
                    <a:lnTo>
                      <a:pt x="621" y="420"/>
                    </a:lnTo>
                    <a:lnTo>
                      <a:pt x="635" y="465"/>
                    </a:lnTo>
                    <a:lnTo>
                      <a:pt x="647" y="512"/>
                    </a:lnTo>
                    <a:lnTo>
                      <a:pt x="652" y="535"/>
                    </a:lnTo>
                    <a:lnTo>
                      <a:pt x="656" y="558"/>
                    </a:lnTo>
                    <a:lnTo>
                      <a:pt x="659" y="581"/>
                    </a:lnTo>
                    <a:lnTo>
                      <a:pt x="659" y="602"/>
                    </a:lnTo>
                    <a:lnTo>
                      <a:pt x="647" y="602"/>
                    </a:lnTo>
                    <a:lnTo>
                      <a:pt x="635" y="601"/>
                    </a:lnTo>
                    <a:lnTo>
                      <a:pt x="623" y="599"/>
                    </a:lnTo>
                    <a:lnTo>
                      <a:pt x="613" y="596"/>
                    </a:lnTo>
                    <a:lnTo>
                      <a:pt x="602" y="593"/>
                    </a:lnTo>
                    <a:lnTo>
                      <a:pt x="591" y="588"/>
                    </a:lnTo>
                    <a:lnTo>
                      <a:pt x="582" y="584"/>
                    </a:lnTo>
                    <a:lnTo>
                      <a:pt x="573" y="579"/>
                    </a:lnTo>
                    <a:lnTo>
                      <a:pt x="556" y="567"/>
                    </a:lnTo>
                    <a:lnTo>
                      <a:pt x="540" y="554"/>
                    </a:lnTo>
                    <a:lnTo>
                      <a:pt x="526" y="539"/>
                    </a:lnTo>
                    <a:lnTo>
                      <a:pt x="514" y="525"/>
                    </a:lnTo>
                    <a:lnTo>
                      <a:pt x="504" y="510"/>
                    </a:lnTo>
                    <a:lnTo>
                      <a:pt x="496" y="494"/>
                    </a:lnTo>
                    <a:lnTo>
                      <a:pt x="489" y="479"/>
                    </a:lnTo>
                    <a:lnTo>
                      <a:pt x="484" y="465"/>
                    </a:lnTo>
                    <a:lnTo>
                      <a:pt x="481" y="453"/>
                    </a:lnTo>
                    <a:lnTo>
                      <a:pt x="480" y="441"/>
                    </a:lnTo>
                    <a:lnTo>
                      <a:pt x="480" y="432"/>
                    </a:lnTo>
                    <a:lnTo>
                      <a:pt x="482" y="425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983120" y="4038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243" h="168">
                    <a:moveTo>
                      <a:pt x="0" y="158"/>
                    </a:moveTo>
                    <a:lnTo>
                      <a:pt x="13" y="168"/>
                    </a:lnTo>
                    <a:lnTo>
                      <a:pt x="31" y="167"/>
                    </a:lnTo>
                    <a:lnTo>
                      <a:pt x="48" y="164"/>
                    </a:lnTo>
                    <a:lnTo>
                      <a:pt x="65" y="159"/>
                    </a:lnTo>
                    <a:lnTo>
                      <a:pt x="81" y="152"/>
                    </a:lnTo>
                    <a:lnTo>
                      <a:pt x="97" y="144"/>
                    </a:lnTo>
                    <a:lnTo>
                      <a:pt x="112" y="135"/>
                    </a:lnTo>
                    <a:lnTo>
                      <a:pt x="127" y="125"/>
                    </a:lnTo>
                    <a:lnTo>
                      <a:pt x="142" y="114"/>
                    </a:lnTo>
                    <a:lnTo>
                      <a:pt x="169" y="91"/>
                    </a:lnTo>
                    <a:lnTo>
                      <a:pt x="195" y="65"/>
                    </a:lnTo>
                    <a:lnTo>
                      <a:pt x="219" y="40"/>
                    </a:lnTo>
                    <a:lnTo>
                      <a:pt x="243" y="18"/>
                    </a:lnTo>
                    <a:lnTo>
                      <a:pt x="226" y="0"/>
                    </a:lnTo>
                    <a:lnTo>
                      <a:pt x="202" y="23"/>
                    </a:lnTo>
                    <a:lnTo>
                      <a:pt x="178" y="48"/>
                    </a:lnTo>
                    <a:lnTo>
                      <a:pt x="153" y="72"/>
                    </a:lnTo>
                    <a:lnTo>
                      <a:pt x="126" y="95"/>
                    </a:lnTo>
                    <a:lnTo>
                      <a:pt x="113" y="105"/>
                    </a:lnTo>
                    <a:lnTo>
                      <a:pt x="100" y="114"/>
                    </a:lnTo>
                    <a:lnTo>
                      <a:pt x="86" y="124"/>
                    </a:lnTo>
                    <a:lnTo>
                      <a:pt x="71" y="130"/>
                    </a:lnTo>
                    <a:lnTo>
                      <a:pt x="57" y="136"/>
                    </a:lnTo>
                    <a:lnTo>
                      <a:pt x="43" y="141"/>
                    </a:lnTo>
                    <a:lnTo>
                      <a:pt x="28" y="143"/>
                    </a:lnTo>
                    <a:lnTo>
                      <a:pt x="13" y="144"/>
                    </a:lnTo>
                    <a:lnTo>
                      <a:pt x="24" y="154"/>
                    </a:lnTo>
                    <a:lnTo>
                      <a:pt x="13" y="144"/>
                    </a:lnTo>
                    <a:lnTo>
                      <a:pt x="7" y="145"/>
                    </a:lnTo>
                    <a:lnTo>
                      <a:pt x="4" y="148"/>
                    </a:lnTo>
                    <a:lnTo>
                      <a:pt x="2" y="152"/>
                    </a:lnTo>
                    <a:lnTo>
                      <a:pt x="0" y="157"/>
                    </a:lnTo>
                    <a:lnTo>
                      <a:pt x="2" y="160"/>
                    </a:lnTo>
                    <a:lnTo>
                      <a:pt x="4" y="165"/>
                    </a:lnTo>
                    <a:lnTo>
                      <a:pt x="7" y="167"/>
                    </a:lnTo>
                    <a:lnTo>
                      <a:pt x="13" y="16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981680" y="4008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103" h="251">
                    <a:moveTo>
                      <a:pt x="92" y="24"/>
                    </a:moveTo>
                    <a:lnTo>
                      <a:pt x="86" y="1"/>
                    </a:lnTo>
                    <a:lnTo>
                      <a:pt x="69" y="11"/>
                    </a:lnTo>
                    <a:lnTo>
                      <a:pt x="55" y="23"/>
                    </a:lnTo>
                    <a:lnTo>
                      <a:pt x="43" y="35"/>
                    </a:lnTo>
                    <a:lnTo>
                      <a:pt x="31" y="49"/>
                    </a:lnTo>
                    <a:lnTo>
                      <a:pt x="22" y="64"/>
                    </a:lnTo>
                    <a:lnTo>
                      <a:pt x="15" y="79"/>
                    </a:lnTo>
                    <a:lnTo>
                      <a:pt x="10" y="95"/>
                    </a:lnTo>
                    <a:lnTo>
                      <a:pt x="5" y="112"/>
                    </a:lnTo>
                    <a:lnTo>
                      <a:pt x="3" y="129"/>
                    </a:lnTo>
                    <a:lnTo>
                      <a:pt x="1" y="146"/>
                    </a:lnTo>
                    <a:lnTo>
                      <a:pt x="0" y="164"/>
                    </a:lnTo>
                    <a:lnTo>
                      <a:pt x="0" y="181"/>
                    </a:lnTo>
                    <a:lnTo>
                      <a:pt x="2" y="217"/>
                    </a:lnTo>
                    <a:lnTo>
                      <a:pt x="6" y="251"/>
                    </a:lnTo>
                    <a:lnTo>
                      <a:pt x="30" y="247"/>
                    </a:lnTo>
                    <a:lnTo>
                      <a:pt x="27" y="214"/>
                    </a:lnTo>
                    <a:lnTo>
                      <a:pt x="25" y="180"/>
                    </a:lnTo>
                    <a:lnTo>
                      <a:pt x="25" y="164"/>
                    </a:lnTo>
                    <a:lnTo>
                      <a:pt x="25" y="148"/>
                    </a:lnTo>
                    <a:lnTo>
                      <a:pt x="27" y="132"/>
                    </a:lnTo>
                    <a:lnTo>
                      <a:pt x="29" y="116"/>
                    </a:lnTo>
                    <a:lnTo>
                      <a:pt x="33" y="101"/>
                    </a:lnTo>
                    <a:lnTo>
                      <a:pt x="38" y="88"/>
                    </a:lnTo>
                    <a:lnTo>
                      <a:pt x="44" y="75"/>
                    </a:lnTo>
                    <a:lnTo>
                      <a:pt x="52" y="63"/>
                    </a:lnTo>
                    <a:lnTo>
                      <a:pt x="61" y="51"/>
                    </a:lnTo>
                    <a:lnTo>
                      <a:pt x="71" y="40"/>
                    </a:lnTo>
                    <a:lnTo>
                      <a:pt x="83" y="31"/>
                    </a:lnTo>
                    <a:lnTo>
                      <a:pt x="98" y="23"/>
                    </a:lnTo>
                    <a:lnTo>
                      <a:pt x="92" y="0"/>
                    </a:lnTo>
                    <a:lnTo>
                      <a:pt x="98" y="23"/>
                    </a:lnTo>
                    <a:lnTo>
                      <a:pt x="101" y="19"/>
                    </a:lnTo>
                    <a:lnTo>
                      <a:pt x="103" y="15"/>
                    </a:lnTo>
                    <a:lnTo>
                      <a:pt x="103" y="10"/>
                    </a:lnTo>
                    <a:lnTo>
                      <a:pt x="102" y="6"/>
                    </a:lnTo>
                    <a:lnTo>
                      <a:pt x="100" y="2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6" y="1"/>
                    </a:lnTo>
                    <a:lnTo>
                      <a:pt x="92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900680" y="3946680"/>
                <a:ext cx="112680" cy="69840"/>
              </a:xfrm>
              <a:custGeom>
                <a:avLst/>
                <a:gdLst/>
                <a:ahLst/>
                <a:rect l="l" t="t" r="r" b="b"/>
                <a:pathLst>
                  <a:path w="358" h="222">
                    <a:moveTo>
                      <a:pt x="335" y="90"/>
                    </a:moveTo>
                    <a:lnTo>
                      <a:pt x="357" y="89"/>
                    </a:lnTo>
                    <a:lnTo>
                      <a:pt x="351" y="77"/>
                    </a:lnTo>
                    <a:lnTo>
                      <a:pt x="345" y="66"/>
                    </a:lnTo>
                    <a:lnTo>
                      <a:pt x="337" y="57"/>
                    </a:lnTo>
                    <a:lnTo>
                      <a:pt x="329" y="48"/>
                    </a:lnTo>
                    <a:lnTo>
                      <a:pt x="319" y="40"/>
                    </a:lnTo>
                    <a:lnTo>
                      <a:pt x="310" y="32"/>
                    </a:lnTo>
                    <a:lnTo>
                      <a:pt x="300" y="26"/>
                    </a:lnTo>
                    <a:lnTo>
                      <a:pt x="290" y="20"/>
                    </a:lnTo>
                    <a:lnTo>
                      <a:pt x="280" y="14"/>
                    </a:lnTo>
                    <a:lnTo>
                      <a:pt x="268" y="11"/>
                    </a:lnTo>
                    <a:lnTo>
                      <a:pt x="258" y="8"/>
                    </a:lnTo>
                    <a:lnTo>
                      <a:pt x="245" y="4"/>
                    </a:lnTo>
                    <a:lnTo>
                      <a:pt x="224" y="1"/>
                    </a:lnTo>
                    <a:lnTo>
                      <a:pt x="200" y="0"/>
                    </a:lnTo>
                    <a:lnTo>
                      <a:pt x="177" y="1"/>
                    </a:lnTo>
                    <a:lnTo>
                      <a:pt x="153" y="3"/>
                    </a:lnTo>
                    <a:lnTo>
                      <a:pt x="131" y="9"/>
                    </a:lnTo>
                    <a:lnTo>
                      <a:pt x="109" y="14"/>
                    </a:lnTo>
                    <a:lnTo>
                      <a:pt x="88" y="22"/>
                    </a:lnTo>
                    <a:lnTo>
                      <a:pt x="70" y="32"/>
                    </a:lnTo>
                    <a:lnTo>
                      <a:pt x="52" y="42"/>
                    </a:lnTo>
                    <a:lnTo>
                      <a:pt x="37" y="53"/>
                    </a:lnTo>
                    <a:lnTo>
                      <a:pt x="29" y="60"/>
                    </a:lnTo>
                    <a:lnTo>
                      <a:pt x="23" y="66"/>
                    </a:lnTo>
                    <a:lnTo>
                      <a:pt x="17" y="73"/>
                    </a:lnTo>
                    <a:lnTo>
                      <a:pt x="12" y="79"/>
                    </a:lnTo>
                    <a:lnTo>
                      <a:pt x="8" y="86"/>
                    </a:lnTo>
                    <a:lnTo>
                      <a:pt x="5" y="94"/>
                    </a:lnTo>
                    <a:lnTo>
                      <a:pt x="2" y="101"/>
                    </a:lnTo>
                    <a:lnTo>
                      <a:pt x="0" y="109"/>
                    </a:lnTo>
                    <a:lnTo>
                      <a:pt x="0" y="117"/>
                    </a:lnTo>
                    <a:lnTo>
                      <a:pt x="2" y="125"/>
                    </a:lnTo>
                    <a:lnTo>
                      <a:pt x="4" y="133"/>
                    </a:lnTo>
                    <a:lnTo>
                      <a:pt x="7" y="141"/>
                    </a:lnTo>
                    <a:lnTo>
                      <a:pt x="12" y="148"/>
                    </a:lnTo>
                    <a:lnTo>
                      <a:pt x="17" y="155"/>
                    </a:lnTo>
                    <a:lnTo>
                      <a:pt x="24" y="162"/>
                    </a:lnTo>
                    <a:lnTo>
                      <a:pt x="32" y="168"/>
                    </a:lnTo>
                    <a:lnTo>
                      <a:pt x="41" y="174"/>
                    </a:lnTo>
                    <a:lnTo>
                      <a:pt x="52" y="180"/>
                    </a:lnTo>
                    <a:lnTo>
                      <a:pt x="63" y="185"/>
                    </a:lnTo>
                    <a:lnTo>
                      <a:pt x="77" y="190"/>
                    </a:lnTo>
                    <a:lnTo>
                      <a:pt x="90" y="195"/>
                    </a:lnTo>
                    <a:lnTo>
                      <a:pt x="106" y="199"/>
                    </a:lnTo>
                    <a:lnTo>
                      <a:pt x="123" y="204"/>
                    </a:lnTo>
                    <a:lnTo>
                      <a:pt x="142" y="207"/>
                    </a:lnTo>
                    <a:lnTo>
                      <a:pt x="161" y="211"/>
                    </a:lnTo>
                    <a:lnTo>
                      <a:pt x="183" y="213"/>
                    </a:lnTo>
                    <a:lnTo>
                      <a:pt x="206" y="216"/>
                    </a:lnTo>
                    <a:lnTo>
                      <a:pt x="231" y="219"/>
                    </a:lnTo>
                    <a:lnTo>
                      <a:pt x="285" y="221"/>
                    </a:lnTo>
                    <a:lnTo>
                      <a:pt x="347" y="222"/>
                    </a:lnTo>
                    <a:lnTo>
                      <a:pt x="347" y="198"/>
                    </a:lnTo>
                    <a:lnTo>
                      <a:pt x="286" y="197"/>
                    </a:lnTo>
                    <a:lnTo>
                      <a:pt x="233" y="193"/>
                    </a:lnTo>
                    <a:lnTo>
                      <a:pt x="208" y="192"/>
                    </a:lnTo>
                    <a:lnTo>
                      <a:pt x="186" y="189"/>
                    </a:lnTo>
                    <a:lnTo>
                      <a:pt x="166" y="187"/>
                    </a:lnTo>
                    <a:lnTo>
                      <a:pt x="146" y="183"/>
                    </a:lnTo>
                    <a:lnTo>
                      <a:pt x="128" y="180"/>
                    </a:lnTo>
                    <a:lnTo>
                      <a:pt x="112" y="176"/>
                    </a:lnTo>
                    <a:lnTo>
                      <a:pt x="97" y="172"/>
                    </a:lnTo>
                    <a:lnTo>
                      <a:pt x="85" y="167"/>
                    </a:lnTo>
                    <a:lnTo>
                      <a:pt x="73" y="163"/>
                    </a:lnTo>
                    <a:lnTo>
                      <a:pt x="63" y="158"/>
                    </a:lnTo>
                    <a:lnTo>
                      <a:pt x="54" y="154"/>
                    </a:lnTo>
                    <a:lnTo>
                      <a:pt x="46" y="148"/>
                    </a:lnTo>
                    <a:lnTo>
                      <a:pt x="40" y="143"/>
                    </a:lnTo>
                    <a:lnTo>
                      <a:pt x="35" y="139"/>
                    </a:lnTo>
                    <a:lnTo>
                      <a:pt x="31" y="134"/>
                    </a:lnTo>
                    <a:lnTo>
                      <a:pt x="28" y="130"/>
                    </a:lnTo>
                    <a:lnTo>
                      <a:pt x="27" y="125"/>
                    </a:lnTo>
                    <a:lnTo>
                      <a:pt x="25" y="120"/>
                    </a:lnTo>
                    <a:lnTo>
                      <a:pt x="24" y="116"/>
                    </a:lnTo>
                    <a:lnTo>
                      <a:pt x="24" y="111"/>
                    </a:lnTo>
                    <a:lnTo>
                      <a:pt x="25" y="107"/>
                    </a:lnTo>
                    <a:lnTo>
                      <a:pt x="27" y="102"/>
                    </a:lnTo>
                    <a:lnTo>
                      <a:pt x="29" y="98"/>
                    </a:lnTo>
                    <a:lnTo>
                      <a:pt x="32" y="93"/>
                    </a:lnTo>
                    <a:lnTo>
                      <a:pt x="36" y="87"/>
                    </a:lnTo>
                    <a:lnTo>
                      <a:pt x="40" y="83"/>
                    </a:lnTo>
                    <a:lnTo>
                      <a:pt x="46" y="77"/>
                    </a:lnTo>
                    <a:lnTo>
                      <a:pt x="52" y="73"/>
                    </a:lnTo>
                    <a:lnTo>
                      <a:pt x="65" y="62"/>
                    </a:lnTo>
                    <a:lnTo>
                      <a:pt x="80" y="53"/>
                    </a:lnTo>
                    <a:lnTo>
                      <a:pt x="98" y="45"/>
                    </a:lnTo>
                    <a:lnTo>
                      <a:pt x="117" y="37"/>
                    </a:lnTo>
                    <a:lnTo>
                      <a:pt x="137" y="32"/>
                    </a:lnTo>
                    <a:lnTo>
                      <a:pt x="158" y="27"/>
                    </a:lnTo>
                    <a:lnTo>
                      <a:pt x="178" y="25"/>
                    </a:lnTo>
                    <a:lnTo>
                      <a:pt x="200" y="24"/>
                    </a:lnTo>
                    <a:lnTo>
                      <a:pt x="220" y="25"/>
                    </a:lnTo>
                    <a:lnTo>
                      <a:pt x="242" y="28"/>
                    </a:lnTo>
                    <a:lnTo>
                      <a:pt x="251" y="30"/>
                    </a:lnTo>
                    <a:lnTo>
                      <a:pt x="260" y="34"/>
                    </a:lnTo>
                    <a:lnTo>
                      <a:pt x="270" y="37"/>
                    </a:lnTo>
                    <a:lnTo>
                      <a:pt x="278" y="42"/>
                    </a:lnTo>
                    <a:lnTo>
                      <a:pt x="288" y="46"/>
                    </a:lnTo>
                    <a:lnTo>
                      <a:pt x="296" y="52"/>
                    </a:lnTo>
                    <a:lnTo>
                      <a:pt x="304" y="58"/>
                    </a:lnTo>
                    <a:lnTo>
                      <a:pt x="312" y="65"/>
                    </a:lnTo>
                    <a:lnTo>
                      <a:pt x="318" y="71"/>
                    </a:lnTo>
                    <a:lnTo>
                      <a:pt x="324" y="81"/>
                    </a:lnTo>
                    <a:lnTo>
                      <a:pt x="330" y="90"/>
                    </a:lnTo>
                    <a:lnTo>
                      <a:pt x="335" y="99"/>
                    </a:lnTo>
                    <a:lnTo>
                      <a:pt x="358" y="98"/>
                    </a:lnTo>
                    <a:lnTo>
                      <a:pt x="335" y="99"/>
                    </a:lnTo>
                    <a:lnTo>
                      <a:pt x="339" y="103"/>
                    </a:lnTo>
                    <a:lnTo>
                      <a:pt x="343" y="106"/>
                    </a:lnTo>
                    <a:lnTo>
                      <a:pt x="348" y="106"/>
                    </a:lnTo>
                    <a:lnTo>
                      <a:pt x="351" y="105"/>
                    </a:lnTo>
                    <a:lnTo>
                      <a:pt x="356" y="102"/>
                    </a:lnTo>
                    <a:lnTo>
                      <a:pt x="358" y="98"/>
                    </a:lnTo>
                    <a:lnTo>
                      <a:pt x="358" y="93"/>
                    </a:lnTo>
                    <a:lnTo>
                      <a:pt x="357" y="89"/>
                    </a:lnTo>
                    <a:lnTo>
                      <a:pt x="335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06880" y="3902400"/>
                <a:ext cx="138240" cy="81000"/>
              </a:xfrm>
              <a:custGeom>
                <a:avLst/>
                <a:gdLst/>
                <a:ahLst/>
                <a:rect l="l" t="t" r="r" b="b"/>
                <a:pathLst>
                  <a:path w="438" h="256">
                    <a:moveTo>
                      <a:pt x="427" y="256"/>
                    </a:moveTo>
                    <a:lnTo>
                      <a:pt x="438" y="244"/>
                    </a:lnTo>
                    <a:lnTo>
                      <a:pt x="437" y="214"/>
                    </a:lnTo>
                    <a:lnTo>
                      <a:pt x="434" y="186"/>
                    </a:lnTo>
                    <a:lnTo>
                      <a:pt x="429" y="160"/>
                    </a:lnTo>
                    <a:lnTo>
                      <a:pt x="423" y="135"/>
                    </a:lnTo>
                    <a:lnTo>
                      <a:pt x="415" y="114"/>
                    </a:lnTo>
                    <a:lnTo>
                      <a:pt x="405" y="93"/>
                    </a:lnTo>
                    <a:lnTo>
                      <a:pt x="395" y="75"/>
                    </a:lnTo>
                    <a:lnTo>
                      <a:pt x="382" y="59"/>
                    </a:lnTo>
                    <a:lnTo>
                      <a:pt x="369" y="44"/>
                    </a:lnTo>
                    <a:lnTo>
                      <a:pt x="355" y="32"/>
                    </a:lnTo>
                    <a:lnTo>
                      <a:pt x="339" y="21"/>
                    </a:lnTo>
                    <a:lnTo>
                      <a:pt x="323" y="13"/>
                    </a:lnTo>
                    <a:lnTo>
                      <a:pt x="306" y="7"/>
                    </a:lnTo>
                    <a:lnTo>
                      <a:pt x="288" y="3"/>
                    </a:lnTo>
                    <a:lnTo>
                      <a:pt x="269" y="0"/>
                    </a:lnTo>
                    <a:lnTo>
                      <a:pt x="251" y="0"/>
                    </a:lnTo>
                    <a:lnTo>
                      <a:pt x="233" y="1"/>
                    </a:lnTo>
                    <a:lnTo>
                      <a:pt x="214" y="4"/>
                    </a:lnTo>
                    <a:lnTo>
                      <a:pt x="195" y="9"/>
                    </a:lnTo>
                    <a:lnTo>
                      <a:pt x="177" y="16"/>
                    </a:lnTo>
                    <a:lnTo>
                      <a:pt x="158" y="25"/>
                    </a:lnTo>
                    <a:lnTo>
                      <a:pt x="141" y="35"/>
                    </a:lnTo>
                    <a:lnTo>
                      <a:pt x="122" y="48"/>
                    </a:lnTo>
                    <a:lnTo>
                      <a:pt x="105" y="61"/>
                    </a:lnTo>
                    <a:lnTo>
                      <a:pt x="89" y="76"/>
                    </a:lnTo>
                    <a:lnTo>
                      <a:pt x="73" y="93"/>
                    </a:lnTo>
                    <a:lnTo>
                      <a:pt x="59" y="111"/>
                    </a:lnTo>
                    <a:lnTo>
                      <a:pt x="45" y="132"/>
                    </a:lnTo>
                    <a:lnTo>
                      <a:pt x="31" y="154"/>
                    </a:lnTo>
                    <a:lnTo>
                      <a:pt x="20" y="178"/>
                    </a:lnTo>
                    <a:lnTo>
                      <a:pt x="10" y="201"/>
                    </a:lnTo>
                    <a:lnTo>
                      <a:pt x="0" y="228"/>
                    </a:lnTo>
                    <a:lnTo>
                      <a:pt x="23" y="236"/>
                    </a:lnTo>
                    <a:lnTo>
                      <a:pt x="31" y="211"/>
                    </a:lnTo>
                    <a:lnTo>
                      <a:pt x="41" y="187"/>
                    </a:lnTo>
                    <a:lnTo>
                      <a:pt x="53" y="165"/>
                    </a:lnTo>
                    <a:lnTo>
                      <a:pt x="64" y="144"/>
                    </a:lnTo>
                    <a:lnTo>
                      <a:pt x="78" y="126"/>
                    </a:lnTo>
                    <a:lnTo>
                      <a:pt x="92" y="109"/>
                    </a:lnTo>
                    <a:lnTo>
                      <a:pt x="106" y="93"/>
                    </a:lnTo>
                    <a:lnTo>
                      <a:pt x="121" y="80"/>
                    </a:lnTo>
                    <a:lnTo>
                      <a:pt x="137" y="67"/>
                    </a:lnTo>
                    <a:lnTo>
                      <a:pt x="153" y="56"/>
                    </a:lnTo>
                    <a:lnTo>
                      <a:pt x="169" y="46"/>
                    </a:lnTo>
                    <a:lnTo>
                      <a:pt x="186" y="38"/>
                    </a:lnTo>
                    <a:lnTo>
                      <a:pt x="202" y="33"/>
                    </a:lnTo>
                    <a:lnTo>
                      <a:pt x="219" y="28"/>
                    </a:lnTo>
                    <a:lnTo>
                      <a:pt x="235" y="25"/>
                    </a:lnTo>
                    <a:lnTo>
                      <a:pt x="252" y="24"/>
                    </a:lnTo>
                    <a:lnTo>
                      <a:pt x="268" y="25"/>
                    </a:lnTo>
                    <a:lnTo>
                      <a:pt x="283" y="26"/>
                    </a:lnTo>
                    <a:lnTo>
                      <a:pt x="298" y="30"/>
                    </a:lnTo>
                    <a:lnTo>
                      <a:pt x="313" y="35"/>
                    </a:lnTo>
                    <a:lnTo>
                      <a:pt x="326" y="43"/>
                    </a:lnTo>
                    <a:lnTo>
                      <a:pt x="340" y="51"/>
                    </a:lnTo>
                    <a:lnTo>
                      <a:pt x="353" y="62"/>
                    </a:lnTo>
                    <a:lnTo>
                      <a:pt x="364" y="74"/>
                    </a:lnTo>
                    <a:lnTo>
                      <a:pt x="374" y="89"/>
                    </a:lnTo>
                    <a:lnTo>
                      <a:pt x="385" y="105"/>
                    </a:lnTo>
                    <a:lnTo>
                      <a:pt x="393" y="123"/>
                    </a:lnTo>
                    <a:lnTo>
                      <a:pt x="399" y="143"/>
                    </a:lnTo>
                    <a:lnTo>
                      <a:pt x="405" y="165"/>
                    </a:lnTo>
                    <a:lnTo>
                      <a:pt x="410" y="189"/>
                    </a:lnTo>
                    <a:lnTo>
                      <a:pt x="412" y="215"/>
                    </a:lnTo>
                    <a:lnTo>
                      <a:pt x="413" y="244"/>
                    </a:lnTo>
                    <a:lnTo>
                      <a:pt x="424" y="232"/>
                    </a:lnTo>
                    <a:lnTo>
                      <a:pt x="413" y="244"/>
                    </a:lnTo>
                    <a:lnTo>
                      <a:pt x="414" y="249"/>
                    </a:lnTo>
                    <a:lnTo>
                      <a:pt x="418" y="253"/>
                    </a:lnTo>
                    <a:lnTo>
                      <a:pt x="421" y="255"/>
                    </a:lnTo>
                    <a:lnTo>
                      <a:pt x="426" y="256"/>
                    </a:lnTo>
                    <a:lnTo>
                      <a:pt x="430" y="255"/>
                    </a:lnTo>
                    <a:lnTo>
                      <a:pt x="434" y="253"/>
                    </a:lnTo>
                    <a:lnTo>
                      <a:pt x="437" y="249"/>
                    </a:lnTo>
                    <a:lnTo>
                      <a:pt x="438" y="244"/>
                    </a:lnTo>
                    <a:lnTo>
                      <a:pt x="427" y="25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86440" y="397692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178" h="39">
                    <a:moveTo>
                      <a:pt x="0" y="28"/>
                    </a:moveTo>
                    <a:lnTo>
                      <a:pt x="14" y="39"/>
                    </a:lnTo>
                    <a:lnTo>
                      <a:pt x="178" y="24"/>
                    </a:lnTo>
                    <a:lnTo>
                      <a:pt x="175" y="0"/>
                    </a:lnTo>
                    <a:lnTo>
                      <a:pt x="11" y="15"/>
                    </a:lnTo>
                    <a:lnTo>
                      <a:pt x="0" y="28"/>
                    </a:lnTo>
                    <a:lnTo>
                      <a:pt x="11" y="15"/>
                    </a:lnTo>
                    <a:lnTo>
                      <a:pt x="6" y="17"/>
                    </a:lnTo>
                    <a:lnTo>
                      <a:pt x="2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7"/>
                    </a:lnTo>
                    <a:lnTo>
                      <a:pt x="8" y="39"/>
                    </a:lnTo>
                    <a:lnTo>
                      <a:pt x="14" y="3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86440" y="3984840"/>
                <a:ext cx="31680" cy="117360"/>
              </a:xfrm>
              <a:custGeom>
                <a:avLst/>
                <a:gdLst/>
                <a:ahLst/>
                <a:rect l="l" t="t" r="r" b="b"/>
                <a:pathLst>
                  <a:path w="100" h="367">
                    <a:moveTo>
                      <a:pt x="88" y="367"/>
                    </a:moveTo>
                    <a:lnTo>
                      <a:pt x="100" y="354"/>
                    </a:lnTo>
                    <a:lnTo>
                      <a:pt x="99" y="331"/>
                    </a:lnTo>
                    <a:lnTo>
                      <a:pt x="97" y="309"/>
                    </a:lnTo>
                    <a:lnTo>
                      <a:pt x="93" y="285"/>
                    </a:lnTo>
                    <a:lnTo>
                      <a:pt x="88" y="261"/>
                    </a:lnTo>
                    <a:lnTo>
                      <a:pt x="75" y="215"/>
                    </a:lnTo>
                    <a:lnTo>
                      <a:pt x="61" y="168"/>
                    </a:lnTo>
                    <a:lnTo>
                      <a:pt x="48" y="123"/>
                    </a:lnTo>
                    <a:lnTo>
                      <a:pt x="35" y="79"/>
                    </a:lnTo>
                    <a:lnTo>
                      <a:pt x="31" y="59"/>
                    </a:lnTo>
                    <a:lnTo>
                      <a:pt x="27" y="38"/>
                    </a:lnTo>
                    <a:lnTo>
                      <a:pt x="25" y="18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" y="20"/>
                    </a:lnTo>
                    <a:lnTo>
                      <a:pt x="3" y="42"/>
                    </a:lnTo>
                    <a:lnTo>
                      <a:pt x="7" y="63"/>
                    </a:lnTo>
                    <a:lnTo>
                      <a:pt x="12" y="85"/>
                    </a:lnTo>
                    <a:lnTo>
                      <a:pt x="24" y="130"/>
                    </a:lnTo>
                    <a:lnTo>
                      <a:pt x="39" y="175"/>
                    </a:lnTo>
                    <a:lnTo>
                      <a:pt x="52" y="221"/>
                    </a:lnTo>
                    <a:lnTo>
                      <a:pt x="65" y="266"/>
                    </a:lnTo>
                    <a:lnTo>
                      <a:pt x="69" y="289"/>
                    </a:lnTo>
                    <a:lnTo>
                      <a:pt x="73" y="311"/>
                    </a:lnTo>
                    <a:lnTo>
                      <a:pt x="75" y="334"/>
                    </a:lnTo>
                    <a:lnTo>
                      <a:pt x="76" y="354"/>
                    </a:lnTo>
                    <a:lnTo>
                      <a:pt x="88" y="343"/>
                    </a:lnTo>
                    <a:lnTo>
                      <a:pt x="76" y="354"/>
                    </a:lnTo>
                    <a:lnTo>
                      <a:pt x="77" y="360"/>
                    </a:lnTo>
                    <a:lnTo>
                      <a:pt x="80" y="363"/>
                    </a:lnTo>
                    <a:lnTo>
                      <a:pt x="83" y="366"/>
                    </a:lnTo>
                    <a:lnTo>
                      <a:pt x="88" y="367"/>
                    </a:lnTo>
                    <a:lnTo>
                      <a:pt x="92" y="366"/>
                    </a:lnTo>
                    <a:lnTo>
                      <a:pt x="97" y="363"/>
                    </a:lnTo>
                    <a:lnTo>
                      <a:pt x="99" y="360"/>
                    </a:lnTo>
                    <a:lnTo>
                      <a:pt x="100" y="354"/>
                    </a:lnTo>
                    <a:lnTo>
                      <a:pt x="88" y="36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52960" y="403740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192" h="201">
                    <a:moveTo>
                      <a:pt x="24" y="21"/>
                    </a:moveTo>
                    <a:lnTo>
                      <a:pt x="5" y="6"/>
                    </a:lnTo>
                    <a:lnTo>
                      <a:pt x="1" y="16"/>
                    </a:lnTo>
                    <a:lnTo>
                      <a:pt x="0" y="27"/>
                    </a:lnTo>
                    <a:lnTo>
                      <a:pt x="2" y="41"/>
                    </a:lnTo>
                    <a:lnTo>
                      <a:pt x="6" y="55"/>
                    </a:lnTo>
                    <a:lnTo>
                      <a:pt x="10" y="70"/>
                    </a:lnTo>
                    <a:lnTo>
                      <a:pt x="17" y="86"/>
                    </a:lnTo>
                    <a:lnTo>
                      <a:pt x="26" y="102"/>
                    </a:lnTo>
                    <a:lnTo>
                      <a:pt x="38" y="117"/>
                    </a:lnTo>
                    <a:lnTo>
                      <a:pt x="50" y="133"/>
                    </a:lnTo>
                    <a:lnTo>
                      <a:pt x="65" y="148"/>
                    </a:lnTo>
                    <a:lnTo>
                      <a:pt x="81" y="163"/>
                    </a:lnTo>
                    <a:lnTo>
                      <a:pt x="99" y="176"/>
                    </a:lnTo>
                    <a:lnTo>
                      <a:pt x="110" y="181"/>
                    </a:lnTo>
                    <a:lnTo>
                      <a:pt x="120" y="186"/>
                    </a:lnTo>
                    <a:lnTo>
                      <a:pt x="131" y="190"/>
                    </a:lnTo>
                    <a:lnTo>
                      <a:pt x="143" y="194"/>
                    </a:lnTo>
                    <a:lnTo>
                      <a:pt x="154" y="197"/>
                    </a:lnTo>
                    <a:lnTo>
                      <a:pt x="167" y="198"/>
                    </a:lnTo>
                    <a:lnTo>
                      <a:pt x="179" y="201"/>
                    </a:lnTo>
                    <a:lnTo>
                      <a:pt x="192" y="201"/>
                    </a:lnTo>
                    <a:lnTo>
                      <a:pt x="192" y="177"/>
                    </a:lnTo>
                    <a:lnTo>
                      <a:pt x="180" y="176"/>
                    </a:lnTo>
                    <a:lnTo>
                      <a:pt x="170" y="174"/>
                    </a:lnTo>
                    <a:lnTo>
                      <a:pt x="159" y="173"/>
                    </a:lnTo>
                    <a:lnTo>
                      <a:pt x="148" y="170"/>
                    </a:lnTo>
                    <a:lnTo>
                      <a:pt x="139" y="168"/>
                    </a:lnTo>
                    <a:lnTo>
                      <a:pt x="130" y="163"/>
                    </a:lnTo>
                    <a:lnTo>
                      <a:pt x="121" y="160"/>
                    </a:lnTo>
                    <a:lnTo>
                      <a:pt x="112" y="155"/>
                    </a:lnTo>
                    <a:lnTo>
                      <a:pt x="96" y="144"/>
                    </a:lnTo>
                    <a:lnTo>
                      <a:pt x="81" y="131"/>
                    </a:lnTo>
                    <a:lnTo>
                      <a:pt x="69" y="117"/>
                    </a:lnTo>
                    <a:lnTo>
                      <a:pt x="57" y="104"/>
                    </a:lnTo>
                    <a:lnTo>
                      <a:pt x="47" y="89"/>
                    </a:lnTo>
                    <a:lnTo>
                      <a:pt x="39" y="74"/>
                    </a:lnTo>
                    <a:lnTo>
                      <a:pt x="33" y="60"/>
                    </a:lnTo>
                    <a:lnTo>
                      <a:pt x="29" y="48"/>
                    </a:lnTo>
                    <a:lnTo>
                      <a:pt x="25" y="37"/>
                    </a:lnTo>
                    <a:lnTo>
                      <a:pt x="24" y="27"/>
                    </a:lnTo>
                    <a:lnTo>
                      <a:pt x="25" y="21"/>
                    </a:lnTo>
                    <a:lnTo>
                      <a:pt x="25" y="18"/>
                    </a:lnTo>
                    <a:lnTo>
                      <a:pt x="7" y="3"/>
                    </a:lnTo>
                    <a:lnTo>
                      <a:pt x="25" y="18"/>
                    </a:lnTo>
                    <a:lnTo>
                      <a:pt x="28" y="14"/>
                    </a:lnTo>
                    <a:lnTo>
                      <a:pt x="28" y="8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6"/>
                    </a:lnTo>
                    <a:lnTo>
                      <a:pt x="24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595840" y="3943440"/>
                <a:ext cx="209520" cy="187560"/>
              </a:xfrm>
              <a:custGeom>
                <a:avLst/>
                <a:gdLst/>
                <a:ahLst/>
                <a:rect l="l" t="t" r="r" b="b"/>
                <a:pathLst>
                  <a:path w="659" h="590">
                    <a:moveTo>
                      <a:pt x="440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6" y="391"/>
                    </a:lnTo>
                    <a:lnTo>
                      <a:pt x="371" y="416"/>
                    </a:lnTo>
                    <a:lnTo>
                      <a:pt x="353" y="441"/>
                    </a:lnTo>
                    <a:lnTo>
                      <a:pt x="335" y="464"/>
                    </a:lnTo>
                    <a:lnTo>
                      <a:pt x="316" y="486"/>
                    </a:lnTo>
                    <a:lnTo>
                      <a:pt x="295" y="508"/>
                    </a:lnTo>
                    <a:lnTo>
                      <a:pt x="274" y="527"/>
                    </a:lnTo>
                    <a:lnTo>
                      <a:pt x="262" y="537"/>
                    </a:lnTo>
                    <a:lnTo>
                      <a:pt x="250" y="546"/>
                    </a:lnTo>
                    <a:lnTo>
                      <a:pt x="238" y="554"/>
                    </a:lnTo>
                    <a:lnTo>
                      <a:pt x="226" y="561"/>
                    </a:lnTo>
                    <a:lnTo>
                      <a:pt x="213" y="567"/>
                    </a:lnTo>
                    <a:lnTo>
                      <a:pt x="201" y="573"/>
                    </a:lnTo>
                    <a:lnTo>
                      <a:pt x="187" y="578"/>
                    </a:lnTo>
                    <a:lnTo>
                      <a:pt x="173" y="582"/>
                    </a:lnTo>
                    <a:lnTo>
                      <a:pt x="160" y="586"/>
                    </a:lnTo>
                    <a:lnTo>
                      <a:pt x="145" y="588"/>
                    </a:lnTo>
                    <a:lnTo>
                      <a:pt x="130" y="590"/>
                    </a:lnTo>
                    <a:lnTo>
                      <a:pt x="115" y="590"/>
                    </a:lnTo>
                    <a:lnTo>
                      <a:pt x="115" y="545"/>
                    </a:lnTo>
                    <a:lnTo>
                      <a:pt x="115" y="498"/>
                    </a:lnTo>
                    <a:lnTo>
                      <a:pt x="116" y="474"/>
                    </a:lnTo>
                    <a:lnTo>
                      <a:pt x="118" y="451"/>
                    </a:lnTo>
                    <a:lnTo>
                      <a:pt x="121" y="427"/>
                    </a:lnTo>
                    <a:lnTo>
                      <a:pt x="124" y="406"/>
                    </a:lnTo>
                    <a:lnTo>
                      <a:pt x="130" y="384"/>
                    </a:lnTo>
                    <a:lnTo>
                      <a:pt x="138" y="362"/>
                    </a:lnTo>
                    <a:lnTo>
                      <a:pt x="141" y="353"/>
                    </a:lnTo>
                    <a:lnTo>
                      <a:pt x="147" y="343"/>
                    </a:lnTo>
                    <a:lnTo>
                      <a:pt x="153" y="334"/>
                    </a:lnTo>
                    <a:lnTo>
                      <a:pt x="159" y="325"/>
                    </a:lnTo>
                    <a:lnTo>
                      <a:pt x="165" y="315"/>
                    </a:lnTo>
                    <a:lnTo>
                      <a:pt x="173" y="307"/>
                    </a:lnTo>
                    <a:lnTo>
                      <a:pt x="181" y="298"/>
                    </a:lnTo>
                    <a:lnTo>
                      <a:pt x="190" y="292"/>
                    </a:lnTo>
                    <a:lnTo>
                      <a:pt x="200" y="284"/>
                    </a:lnTo>
                    <a:lnTo>
                      <a:pt x="210" y="277"/>
                    </a:lnTo>
                    <a:lnTo>
                      <a:pt x="221" y="271"/>
                    </a:lnTo>
                    <a:lnTo>
                      <a:pt x="234" y="264"/>
                    </a:lnTo>
                    <a:lnTo>
                      <a:pt x="238" y="262"/>
                    </a:lnTo>
                    <a:lnTo>
                      <a:pt x="242" y="260"/>
                    </a:lnTo>
                    <a:lnTo>
                      <a:pt x="244" y="257"/>
                    </a:lnTo>
                    <a:lnTo>
                      <a:pt x="245" y="255"/>
                    </a:lnTo>
                    <a:lnTo>
                      <a:pt x="245" y="254"/>
                    </a:lnTo>
                    <a:lnTo>
                      <a:pt x="244" y="252"/>
                    </a:lnTo>
                    <a:lnTo>
                      <a:pt x="242" y="250"/>
                    </a:lnTo>
                    <a:lnTo>
                      <a:pt x="238" y="248"/>
                    </a:lnTo>
                    <a:lnTo>
                      <a:pt x="218" y="242"/>
                    </a:lnTo>
                    <a:lnTo>
                      <a:pt x="187" y="237"/>
                    </a:lnTo>
                    <a:lnTo>
                      <a:pt x="170" y="233"/>
                    </a:lnTo>
                    <a:lnTo>
                      <a:pt x="151" y="229"/>
                    </a:lnTo>
                    <a:lnTo>
                      <a:pt x="131" y="223"/>
                    </a:lnTo>
                    <a:lnTo>
                      <a:pt x="112" y="216"/>
                    </a:lnTo>
                    <a:lnTo>
                      <a:pt x="92" y="209"/>
                    </a:lnTo>
                    <a:lnTo>
                      <a:pt x="74" y="199"/>
                    </a:lnTo>
                    <a:lnTo>
                      <a:pt x="66" y="195"/>
                    </a:lnTo>
                    <a:lnTo>
                      <a:pt x="57" y="189"/>
                    </a:lnTo>
                    <a:lnTo>
                      <a:pt x="50" y="183"/>
                    </a:lnTo>
                    <a:lnTo>
                      <a:pt x="43" y="176"/>
                    </a:lnTo>
                    <a:lnTo>
                      <a:pt x="35" y="167"/>
                    </a:lnTo>
                    <a:lnTo>
                      <a:pt x="29" y="158"/>
                    </a:lnTo>
                    <a:lnTo>
                      <a:pt x="23" y="148"/>
                    </a:lnTo>
                    <a:lnTo>
                      <a:pt x="18" y="138"/>
                    </a:lnTo>
                    <a:lnTo>
                      <a:pt x="14" y="127"/>
                    </a:lnTo>
                    <a:lnTo>
                      <a:pt x="10" y="116"/>
                    </a:lnTo>
                    <a:lnTo>
                      <a:pt x="7" y="105"/>
                    </a:lnTo>
                    <a:lnTo>
                      <a:pt x="5" y="93"/>
                    </a:lnTo>
                    <a:lnTo>
                      <a:pt x="2" y="69"/>
                    </a:ln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102" y="2"/>
                    </a:lnTo>
                    <a:lnTo>
                      <a:pt x="128" y="3"/>
                    </a:lnTo>
                    <a:lnTo>
                      <a:pt x="153" y="7"/>
                    </a:lnTo>
                    <a:lnTo>
                      <a:pt x="178" y="11"/>
                    </a:lnTo>
                    <a:lnTo>
                      <a:pt x="203" y="16"/>
                    </a:lnTo>
                    <a:lnTo>
                      <a:pt x="226" y="22"/>
                    </a:lnTo>
                    <a:lnTo>
                      <a:pt x="249" y="32"/>
                    </a:lnTo>
                    <a:lnTo>
                      <a:pt x="259" y="37"/>
                    </a:lnTo>
                    <a:lnTo>
                      <a:pt x="269" y="42"/>
                    </a:lnTo>
                    <a:lnTo>
                      <a:pt x="279" y="49"/>
                    </a:lnTo>
                    <a:lnTo>
                      <a:pt x="290" y="56"/>
                    </a:lnTo>
                    <a:lnTo>
                      <a:pt x="299" y="62"/>
                    </a:lnTo>
                    <a:lnTo>
                      <a:pt x="307" y="70"/>
                    </a:lnTo>
                    <a:lnTo>
                      <a:pt x="316" y="78"/>
                    </a:lnTo>
                    <a:lnTo>
                      <a:pt x="324" y="87"/>
                    </a:lnTo>
                    <a:lnTo>
                      <a:pt x="331" y="98"/>
                    </a:lnTo>
                    <a:lnTo>
                      <a:pt x="337" y="108"/>
                    </a:lnTo>
                    <a:lnTo>
                      <a:pt x="344" y="119"/>
                    </a:lnTo>
                    <a:lnTo>
                      <a:pt x="349" y="131"/>
                    </a:lnTo>
                    <a:lnTo>
                      <a:pt x="377" y="116"/>
                    </a:lnTo>
                    <a:lnTo>
                      <a:pt x="406" y="100"/>
                    </a:lnTo>
                    <a:lnTo>
                      <a:pt x="433" y="83"/>
                    </a:lnTo>
                    <a:lnTo>
                      <a:pt x="461" y="67"/>
                    </a:lnTo>
                    <a:lnTo>
                      <a:pt x="487" y="51"/>
                    </a:lnTo>
                    <a:lnTo>
                      <a:pt x="513" y="36"/>
                    </a:lnTo>
                    <a:lnTo>
                      <a:pt x="526" y="30"/>
                    </a:lnTo>
                    <a:lnTo>
                      <a:pt x="537" y="26"/>
                    </a:lnTo>
                    <a:lnTo>
                      <a:pt x="549" y="21"/>
                    </a:lnTo>
                    <a:lnTo>
                      <a:pt x="560" y="18"/>
                    </a:lnTo>
                    <a:lnTo>
                      <a:pt x="571" y="16"/>
                    </a:lnTo>
                    <a:lnTo>
                      <a:pt x="581" y="14"/>
                    </a:lnTo>
                    <a:lnTo>
                      <a:pt x="592" y="16"/>
                    </a:lnTo>
                    <a:lnTo>
                      <a:pt x="601" y="17"/>
                    </a:lnTo>
                    <a:lnTo>
                      <a:pt x="610" y="20"/>
                    </a:lnTo>
                    <a:lnTo>
                      <a:pt x="618" y="26"/>
                    </a:lnTo>
                    <a:lnTo>
                      <a:pt x="625" y="33"/>
                    </a:lnTo>
                    <a:lnTo>
                      <a:pt x="632" y="42"/>
                    </a:lnTo>
                    <a:lnTo>
                      <a:pt x="638" y="52"/>
                    </a:lnTo>
                    <a:lnTo>
                      <a:pt x="644" y="65"/>
                    </a:lnTo>
                    <a:lnTo>
                      <a:pt x="649" y="79"/>
                    </a:lnTo>
                    <a:lnTo>
                      <a:pt x="652" y="98"/>
                    </a:lnTo>
                    <a:lnTo>
                      <a:pt x="655" y="117"/>
                    </a:lnTo>
                    <a:lnTo>
                      <a:pt x="658" y="139"/>
                    </a:lnTo>
                    <a:lnTo>
                      <a:pt x="659" y="164"/>
                    </a:lnTo>
                    <a:lnTo>
                      <a:pt x="659" y="192"/>
                    </a:lnTo>
                    <a:lnTo>
                      <a:pt x="528" y="192"/>
                    </a:lnTo>
                    <a:lnTo>
                      <a:pt x="545" y="230"/>
                    </a:lnTo>
                    <a:lnTo>
                      <a:pt x="562" y="266"/>
                    </a:lnTo>
                    <a:lnTo>
                      <a:pt x="579" y="304"/>
                    </a:lnTo>
                    <a:lnTo>
                      <a:pt x="594" y="342"/>
                    </a:lnTo>
                    <a:lnTo>
                      <a:pt x="602" y="361"/>
                    </a:lnTo>
                    <a:lnTo>
                      <a:pt x="608" y="382"/>
                    </a:lnTo>
                    <a:lnTo>
                      <a:pt x="613" y="402"/>
                    </a:lnTo>
                    <a:lnTo>
                      <a:pt x="619" y="423"/>
                    </a:lnTo>
                    <a:lnTo>
                      <a:pt x="622" y="444"/>
                    </a:lnTo>
                    <a:lnTo>
                      <a:pt x="626" y="467"/>
                    </a:lnTo>
                    <a:lnTo>
                      <a:pt x="628" y="490"/>
                    </a:lnTo>
                    <a:lnTo>
                      <a:pt x="628" y="514"/>
                    </a:lnTo>
                    <a:lnTo>
                      <a:pt x="482" y="514"/>
                    </a:lnTo>
                    <a:lnTo>
                      <a:pt x="474" y="496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9" y="416"/>
                    </a:lnTo>
                    <a:lnTo>
                      <a:pt x="433" y="401"/>
                    </a:lnTo>
                    <a:lnTo>
                      <a:pt x="430" y="385"/>
                    </a:lnTo>
                    <a:lnTo>
                      <a:pt x="426" y="369"/>
                    </a:lnTo>
                    <a:lnTo>
                      <a:pt x="425" y="354"/>
                    </a:lnTo>
                    <a:lnTo>
                      <a:pt x="425" y="338"/>
                    </a:lnTo>
                    <a:lnTo>
                      <a:pt x="428" y="323"/>
                    </a:lnTo>
                    <a:lnTo>
                      <a:pt x="430" y="315"/>
                    </a:lnTo>
                    <a:lnTo>
                      <a:pt x="432" y="309"/>
                    </a:lnTo>
                    <a:lnTo>
                      <a:pt x="435" y="301"/>
                    </a:lnTo>
                    <a:lnTo>
                      <a:pt x="440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629320" y="403560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0" y="301"/>
                    </a:moveTo>
                    <a:lnTo>
                      <a:pt x="11" y="314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6" y="301"/>
                    </a:lnTo>
                    <a:lnTo>
                      <a:pt x="101" y="295"/>
                    </a:lnTo>
                    <a:lnTo>
                      <a:pt x="115" y="290"/>
                    </a:lnTo>
                    <a:lnTo>
                      <a:pt x="127" y="283"/>
                    </a:lnTo>
                    <a:lnTo>
                      <a:pt x="141" y="275"/>
                    </a:lnTo>
                    <a:lnTo>
                      <a:pt x="153" y="267"/>
                    </a:lnTo>
                    <a:lnTo>
                      <a:pt x="165" y="258"/>
                    </a:lnTo>
                    <a:lnTo>
                      <a:pt x="178" y="249"/>
                    </a:lnTo>
                    <a:lnTo>
                      <a:pt x="199" y="228"/>
                    </a:lnTo>
                    <a:lnTo>
                      <a:pt x="221" y="207"/>
                    </a:lnTo>
                    <a:lnTo>
                      <a:pt x="240" y="183"/>
                    </a:lnTo>
                    <a:lnTo>
                      <a:pt x="260" y="159"/>
                    </a:lnTo>
                    <a:lnTo>
                      <a:pt x="277" y="134"/>
                    </a:lnTo>
                    <a:lnTo>
                      <a:pt x="293" y="109"/>
                    </a:lnTo>
                    <a:lnTo>
                      <a:pt x="308" y="82"/>
                    </a:lnTo>
                    <a:lnTo>
                      <a:pt x="322" y="58"/>
                    </a:lnTo>
                    <a:lnTo>
                      <a:pt x="335" y="33"/>
                    </a:lnTo>
                    <a:lnTo>
                      <a:pt x="346" y="10"/>
                    </a:lnTo>
                    <a:lnTo>
                      <a:pt x="325" y="0"/>
                    </a:lnTo>
                    <a:lnTo>
                      <a:pt x="313" y="23"/>
                    </a:lnTo>
                    <a:lnTo>
                      <a:pt x="301" y="46"/>
                    </a:lnTo>
                    <a:lnTo>
                      <a:pt x="287" y="71"/>
                    </a:lnTo>
                    <a:lnTo>
                      <a:pt x="272" y="95"/>
                    </a:lnTo>
                    <a:lnTo>
                      <a:pt x="256" y="120"/>
                    </a:lnTo>
                    <a:lnTo>
                      <a:pt x="240" y="144"/>
                    </a:lnTo>
                    <a:lnTo>
                      <a:pt x="222" y="168"/>
                    </a:lnTo>
                    <a:lnTo>
                      <a:pt x="203" y="189"/>
                    </a:lnTo>
                    <a:lnTo>
                      <a:pt x="183" y="211"/>
                    </a:lnTo>
                    <a:lnTo>
                      <a:pt x="162" y="229"/>
                    </a:lnTo>
                    <a:lnTo>
                      <a:pt x="150" y="238"/>
                    </a:lnTo>
                    <a:lnTo>
                      <a:pt x="139" y="246"/>
                    </a:lnTo>
                    <a:lnTo>
                      <a:pt x="127" y="254"/>
                    </a:lnTo>
                    <a:lnTo>
                      <a:pt x="116" y="261"/>
                    </a:lnTo>
                    <a:lnTo>
                      <a:pt x="104" y="267"/>
                    </a:lnTo>
                    <a:lnTo>
                      <a:pt x="92" y="273"/>
                    </a:lnTo>
                    <a:lnTo>
                      <a:pt x="80" y="277"/>
                    </a:lnTo>
                    <a:lnTo>
                      <a:pt x="66" y="282"/>
                    </a:lnTo>
                    <a:lnTo>
                      <a:pt x="53" y="285"/>
                    </a:lnTo>
                    <a:lnTo>
                      <a:pt x="40" y="288"/>
                    </a:lnTo>
                    <a:lnTo>
                      <a:pt x="26" y="289"/>
                    </a:lnTo>
                    <a:lnTo>
                      <a:pt x="11" y="289"/>
                    </a:lnTo>
                    <a:lnTo>
                      <a:pt x="24" y="301"/>
                    </a:lnTo>
                    <a:lnTo>
                      <a:pt x="11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1"/>
                    </a:lnTo>
                    <a:lnTo>
                      <a:pt x="0" y="306"/>
                    </a:lnTo>
                    <a:lnTo>
                      <a:pt x="2" y="309"/>
                    </a:lnTo>
                    <a:lnTo>
                      <a:pt x="7" y="313"/>
                    </a:lnTo>
                    <a:lnTo>
                      <a:pt x="11" y="314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629320" y="402444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5" h="336">
                    <a:moveTo>
                      <a:pt x="125" y="0"/>
                    </a:moveTo>
                    <a:lnTo>
                      <a:pt x="125" y="0"/>
                    </a:lnTo>
                    <a:lnTo>
                      <a:pt x="113" y="6"/>
                    </a:lnTo>
                    <a:lnTo>
                      <a:pt x="101" y="12"/>
                    </a:lnTo>
                    <a:lnTo>
                      <a:pt x="90" y="20"/>
                    </a:lnTo>
                    <a:lnTo>
                      <a:pt x="79" y="27"/>
                    </a:lnTo>
                    <a:lnTo>
                      <a:pt x="70" y="36"/>
                    </a:lnTo>
                    <a:lnTo>
                      <a:pt x="61" y="44"/>
                    </a:lnTo>
                    <a:lnTo>
                      <a:pt x="53" y="53"/>
                    </a:lnTo>
                    <a:lnTo>
                      <a:pt x="46" y="64"/>
                    </a:lnTo>
                    <a:lnTo>
                      <a:pt x="40" y="73"/>
                    </a:lnTo>
                    <a:lnTo>
                      <a:pt x="34" y="83"/>
                    </a:lnTo>
                    <a:lnTo>
                      <a:pt x="28" y="93"/>
                    </a:lnTo>
                    <a:lnTo>
                      <a:pt x="24" y="105"/>
                    </a:lnTo>
                    <a:lnTo>
                      <a:pt x="16" y="126"/>
                    </a:lnTo>
                    <a:lnTo>
                      <a:pt x="10" y="149"/>
                    </a:lnTo>
                    <a:lnTo>
                      <a:pt x="5" y="172"/>
                    </a:lnTo>
                    <a:lnTo>
                      <a:pt x="3" y="196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6"/>
                    </a:lnTo>
                    <a:lnTo>
                      <a:pt x="25" y="336"/>
                    </a:lnTo>
                    <a:lnTo>
                      <a:pt x="25" y="291"/>
                    </a:lnTo>
                    <a:lnTo>
                      <a:pt x="25" y="244"/>
                    </a:lnTo>
                    <a:lnTo>
                      <a:pt x="25" y="221"/>
                    </a:lnTo>
                    <a:lnTo>
                      <a:pt x="27" y="198"/>
                    </a:lnTo>
                    <a:lnTo>
                      <a:pt x="29" y="175"/>
                    </a:lnTo>
                    <a:lnTo>
                      <a:pt x="34" y="154"/>
                    </a:lnTo>
                    <a:lnTo>
                      <a:pt x="38" y="133"/>
                    </a:lnTo>
                    <a:lnTo>
                      <a:pt x="45" y="113"/>
                    </a:lnTo>
                    <a:lnTo>
                      <a:pt x="50" y="104"/>
                    </a:lnTo>
                    <a:lnTo>
                      <a:pt x="54" y="95"/>
                    </a:lnTo>
                    <a:lnTo>
                      <a:pt x="60" y="85"/>
                    </a:lnTo>
                    <a:lnTo>
                      <a:pt x="66" y="77"/>
                    </a:lnTo>
                    <a:lnTo>
                      <a:pt x="72" y="69"/>
                    </a:lnTo>
                    <a:lnTo>
                      <a:pt x="78" y="61"/>
                    </a:lnTo>
                    <a:lnTo>
                      <a:pt x="86" y="53"/>
                    </a:lnTo>
                    <a:lnTo>
                      <a:pt x="94" y="47"/>
                    </a:lnTo>
                    <a:lnTo>
                      <a:pt x="103" y="40"/>
                    </a:lnTo>
                    <a:lnTo>
                      <a:pt x="114" y="33"/>
                    </a:lnTo>
                    <a:lnTo>
                      <a:pt x="124" y="27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607000" y="399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223" h="109">
                    <a:moveTo>
                      <a:pt x="0" y="17"/>
                    </a:moveTo>
                    <a:lnTo>
                      <a:pt x="0" y="17"/>
                    </a:lnTo>
                    <a:lnTo>
                      <a:pt x="8" y="25"/>
                    </a:lnTo>
                    <a:lnTo>
                      <a:pt x="16" y="32"/>
                    </a:lnTo>
                    <a:lnTo>
                      <a:pt x="25" y="38"/>
                    </a:lnTo>
                    <a:lnTo>
                      <a:pt x="35" y="44"/>
                    </a:lnTo>
                    <a:lnTo>
                      <a:pt x="54" y="53"/>
                    </a:lnTo>
                    <a:lnTo>
                      <a:pt x="73" y="61"/>
                    </a:lnTo>
                    <a:lnTo>
                      <a:pt x="94" y="68"/>
                    </a:lnTo>
                    <a:lnTo>
                      <a:pt x="113" y="73"/>
                    </a:lnTo>
                    <a:lnTo>
                      <a:pt x="133" y="78"/>
                    </a:lnTo>
                    <a:lnTo>
                      <a:pt x="151" y="81"/>
                    </a:lnTo>
                    <a:lnTo>
                      <a:pt x="182" y="88"/>
                    </a:lnTo>
                    <a:lnTo>
                      <a:pt x="201" y="93"/>
                    </a:lnTo>
                    <a:lnTo>
                      <a:pt x="202" y="94"/>
                    </a:lnTo>
                    <a:lnTo>
                      <a:pt x="201" y="94"/>
                    </a:lnTo>
                    <a:lnTo>
                      <a:pt x="200" y="90"/>
                    </a:lnTo>
                    <a:lnTo>
                      <a:pt x="200" y="86"/>
                    </a:lnTo>
                    <a:lnTo>
                      <a:pt x="201" y="82"/>
                    </a:lnTo>
                    <a:lnTo>
                      <a:pt x="200" y="83"/>
                    </a:lnTo>
                    <a:lnTo>
                      <a:pt x="197" y="85"/>
                    </a:lnTo>
                    <a:lnTo>
                      <a:pt x="194" y="87"/>
                    </a:lnTo>
                    <a:lnTo>
                      <a:pt x="204" y="109"/>
                    </a:lnTo>
                    <a:lnTo>
                      <a:pt x="210" y="105"/>
                    </a:lnTo>
                    <a:lnTo>
                      <a:pt x="216" y="102"/>
                    </a:lnTo>
                    <a:lnTo>
                      <a:pt x="219" y="98"/>
                    </a:lnTo>
                    <a:lnTo>
                      <a:pt x="223" y="91"/>
                    </a:lnTo>
                    <a:lnTo>
                      <a:pt x="223" y="82"/>
                    </a:lnTo>
                    <a:lnTo>
                      <a:pt x="218" y="77"/>
                    </a:lnTo>
                    <a:lnTo>
                      <a:pt x="215" y="73"/>
                    </a:lnTo>
                    <a:lnTo>
                      <a:pt x="208" y="70"/>
                    </a:lnTo>
                    <a:lnTo>
                      <a:pt x="187" y="64"/>
                    </a:lnTo>
                    <a:lnTo>
                      <a:pt x="156" y="57"/>
                    </a:lnTo>
                    <a:lnTo>
                      <a:pt x="138" y="54"/>
                    </a:lnTo>
                    <a:lnTo>
                      <a:pt x="120" y="49"/>
                    </a:lnTo>
                    <a:lnTo>
                      <a:pt x="101" y="45"/>
                    </a:lnTo>
                    <a:lnTo>
                      <a:pt x="81" y="38"/>
                    </a:lnTo>
                    <a:lnTo>
                      <a:pt x="63" y="31"/>
                    </a:lnTo>
                    <a:lnTo>
                      <a:pt x="46" y="22"/>
                    </a:lnTo>
                    <a:lnTo>
                      <a:pt x="38" y="17"/>
                    </a:lnTo>
                    <a:lnTo>
                      <a:pt x="31" y="12"/>
                    </a:lnTo>
                    <a:lnTo>
                      <a:pt x="24" y="7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592600" y="3940560"/>
                <a:ext cx="20880" cy="6192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12" y="0"/>
                    </a:moveTo>
                    <a:lnTo>
                      <a:pt x="0" y="13"/>
                    </a:lnTo>
                    <a:lnTo>
                      <a:pt x="0" y="35"/>
                    </a:lnTo>
                    <a:lnTo>
                      <a:pt x="1" y="59"/>
                    </a:lnTo>
                    <a:lnTo>
                      <a:pt x="2" y="83"/>
                    </a:lnTo>
                    <a:lnTo>
                      <a:pt x="5" y="108"/>
                    </a:lnTo>
                    <a:lnTo>
                      <a:pt x="8" y="120"/>
                    </a:lnTo>
                    <a:lnTo>
                      <a:pt x="11" y="132"/>
                    </a:lnTo>
                    <a:lnTo>
                      <a:pt x="14" y="144"/>
                    </a:lnTo>
                    <a:lnTo>
                      <a:pt x="19" y="155"/>
                    </a:lnTo>
                    <a:lnTo>
                      <a:pt x="25" y="167"/>
                    </a:lnTo>
                    <a:lnTo>
                      <a:pt x="30" y="178"/>
                    </a:lnTo>
                    <a:lnTo>
                      <a:pt x="38" y="188"/>
                    </a:lnTo>
                    <a:lnTo>
                      <a:pt x="46" y="197"/>
                    </a:lnTo>
                    <a:lnTo>
                      <a:pt x="63" y="181"/>
                    </a:lnTo>
                    <a:lnTo>
                      <a:pt x="57" y="173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7" y="136"/>
                    </a:lnTo>
                    <a:lnTo>
                      <a:pt x="34" y="126"/>
                    </a:lnTo>
                    <a:lnTo>
                      <a:pt x="32" y="115"/>
                    </a:lnTo>
                    <a:lnTo>
                      <a:pt x="29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5"/>
                    </a:lnTo>
                    <a:lnTo>
                      <a:pt x="24" y="13"/>
                    </a:lnTo>
                    <a:lnTo>
                      <a:pt x="12" y="25"/>
                    </a:lnTo>
                    <a:lnTo>
                      <a:pt x="24" y="13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595840" y="394056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361" h="156">
                    <a:moveTo>
                      <a:pt x="344" y="134"/>
                    </a:moveTo>
                    <a:lnTo>
                      <a:pt x="360" y="139"/>
                    </a:lnTo>
                    <a:lnTo>
                      <a:pt x="355" y="127"/>
                    </a:lnTo>
                    <a:lnTo>
                      <a:pt x="348" y="115"/>
                    </a:lnTo>
                    <a:lnTo>
                      <a:pt x="341" y="104"/>
                    </a:lnTo>
                    <a:lnTo>
                      <a:pt x="333" y="94"/>
                    </a:lnTo>
                    <a:lnTo>
                      <a:pt x="325" y="83"/>
                    </a:lnTo>
                    <a:lnTo>
                      <a:pt x="316" y="74"/>
                    </a:lnTo>
                    <a:lnTo>
                      <a:pt x="307" y="66"/>
                    </a:lnTo>
                    <a:lnTo>
                      <a:pt x="296" y="58"/>
                    </a:lnTo>
                    <a:lnTo>
                      <a:pt x="286" y="51"/>
                    </a:lnTo>
                    <a:lnTo>
                      <a:pt x="276" y="45"/>
                    </a:lnTo>
                    <a:lnTo>
                      <a:pt x="265" y="39"/>
                    </a:lnTo>
                    <a:lnTo>
                      <a:pt x="253" y="33"/>
                    </a:lnTo>
                    <a:lnTo>
                      <a:pt x="230" y="24"/>
                    </a:lnTo>
                    <a:lnTo>
                      <a:pt x="205" y="17"/>
                    </a:lnTo>
                    <a:lnTo>
                      <a:pt x="180" y="12"/>
                    </a:lnTo>
                    <a:lnTo>
                      <a:pt x="155" y="7"/>
                    </a:lnTo>
                    <a:lnTo>
                      <a:pt x="129" y="5"/>
                    </a:lnTo>
                    <a:lnTo>
                      <a:pt x="103" y="2"/>
                    </a:lnTo>
                    <a:lnTo>
                      <a:pt x="50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0" y="25"/>
                    </a:lnTo>
                    <a:lnTo>
                      <a:pt x="102" y="26"/>
                    </a:lnTo>
                    <a:lnTo>
                      <a:pt x="127" y="29"/>
                    </a:lnTo>
                    <a:lnTo>
                      <a:pt x="152" y="31"/>
                    </a:lnTo>
                    <a:lnTo>
                      <a:pt x="176" y="35"/>
                    </a:lnTo>
                    <a:lnTo>
                      <a:pt x="200" y="41"/>
                    </a:lnTo>
                    <a:lnTo>
                      <a:pt x="222" y="48"/>
                    </a:lnTo>
                    <a:lnTo>
                      <a:pt x="244" y="56"/>
                    </a:lnTo>
                    <a:lnTo>
                      <a:pt x="253" y="61"/>
                    </a:lnTo>
                    <a:lnTo>
                      <a:pt x="263" y="66"/>
                    </a:lnTo>
                    <a:lnTo>
                      <a:pt x="273" y="72"/>
                    </a:lnTo>
                    <a:lnTo>
                      <a:pt x="282" y="78"/>
                    </a:lnTo>
                    <a:lnTo>
                      <a:pt x="291" y="84"/>
                    </a:lnTo>
                    <a:lnTo>
                      <a:pt x="299" y="92"/>
                    </a:lnTo>
                    <a:lnTo>
                      <a:pt x="307" y="99"/>
                    </a:lnTo>
                    <a:lnTo>
                      <a:pt x="314" y="108"/>
                    </a:lnTo>
                    <a:lnTo>
                      <a:pt x="320" y="118"/>
                    </a:lnTo>
                    <a:lnTo>
                      <a:pt x="327" y="127"/>
                    </a:lnTo>
                    <a:lnTo>
                      <a:pt x="333" y="138"/>
                    </a:lnTo>
                    <a:lnTo>
                      <a:pt x="339" y="149"/>
                    </a:lnTo>
                    <a:lnTo>
                      <a:pt x="355" y="155"/>
                    </a:lnTo>
                    <a:lnTo>
                      <a:pt x="339" y="149"/>
                    </a:lnTo>
                    <a:lnTo>
                      <a:pt x="341" y="153"/>
                    </a:lnTo>
                    <a:lnTo>
                      <a:pt x="345" y="156"/>
                    </a:lnTo>
                    <a:lnTo>
                      <a:pt x="350" y="156"/>
                    </a:lnTo>
                    <a:lnTo>
                      <a:pt x="355" y="155"/>
                    </a:lnTo>
                    <a:lnTo>
                      <a:pt x="358" y="153"/>
                    </a:lnTo>
                    <a:lnTo>
                      <a:pt x="360" y="149"/>
                    </a:lnTo>
                    <a:lnTo>
                      <a:pt x="361" y="145"/>
                    </a:lnTo>
                    <a:lnTo>
                      <a:pt x="360" y="139"/>
                    </a:lnTo>
                    <a:lnTo>
                      <a:pt x="344" y="1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705640" y="394524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327" h="201">
                    <a:moveTo>
                      <a:pt x="315" y="201"/>
                    </a:moveTo>
                    <a:lnTo>
                      <a:pt x="327" y="189"/>
                    </a:lnTo>
                    <a:lnTo>
                      <a:pt x="327" y="161"/>
                    </a:lnTo>
                    <a:lnTo>
                      <a:pt x="325" y="136"/>
                    </a:lnTo>
                    <a:lnTo>
                      <a:pt x="323" y="113"/>
                    </a:lnTo>
                    <a:lnTo>
                      <a:pt x="321" y="92"/>
                    </a:lnTo>
                    <a:lnTo>
                      <a:pt x="316" y="74"/>
                    </a:lnTo>
                    <a:lnTo>
                      <a:pt x="311" y="58"/>
                    </a:lnTo>
                    <a:lnTo>
                      <a:pt x="305" y="43"/>
                    </a:lnTo>
                    <a:lnTo>
                      <a:pt x="298" y="32"/>
                    </a:lnTo>
                    <a:lnTo>
                      <a:pt x="290" y="22"/>
                    </a:lnTo>
                    <a:lnTo>
                      <a:pt x="281" y="13"/>
                    </a:lnTo>
                    <a:lnTo>
                      <a:pt x="270" y="7"/>
                    </a:lnTo>
                    <a:lnTo>
                      <a:pt x="260" y="2"/>
                    </a:lnTo>
                    <a:lnTo>
                      <a:pt x="249" y="0"/>
                    </a:lnTo>
                    <a:lnTo>
                      <a:pt x="237" y="0"/>
                    </a:lnTo>
                    <a:lnTo>
                      <a:pt x="225" y="1"/>
                    </a:lnTo>
                    <a:lnTo>
                      <a:pt x="213" y="4"/>
                    </a:lnTo>
                    <a:lnTo>
                      <a:pt x="201" y="7"/>
                    </a:lnTo>
                    <a:lnTo>
                      <a:pt x="188" y="11"/>
                    </a:lnTo>
                    <a:lnTo>
                      <a:pt x="176" y="17"/>
                    </a:lnTo>
                    <a:lnTo>
                      <a:pt x="163" y="23"/>
                    </a:lnTo>
                    <a:lnTo>
                      <a:pt x="137" y="37"/>
                    </a:lnTo>
                    <a:lnTo>
                      <a:pt x="111" y="53"/>
                    </a:lnTo>
                    <a:lnTo>
                      <a:pt x="84" y="70"/>
                    </a:lnTo>
                    <a:lnTo>
                      <a:pt x="55" y="87"/>
                    </a:lnTo>
                    <a:lnTo>
                      <a:pt x="28" y="103"/>
                    </a:lnTo>
                    <a:lnTo>
                      <a:pt x="0" y="118"/>
                    </a:lnTo>
                    <a:lnTo>
                      <a:pt x="11" y="139"/>
                    </a:lnTo>
                    <a:lnTo>
                      <a:pt x="39" y="124"/>
                    </a:lnTo>
                    <a:lnTo>
                      <a:pt x="68" y="107"/>
                    </a:lnTo>
                    <a:lnTo>
                      <a:pt x="96" y="90"/>
                    </a:lnTo>
                    <a:lnTo>
                      <a:pt x="123" y="74"/>
                    </a:lnTo>
                    <a:lnTo>
                      <a:pt x="150" y="58"/>
                    </a:lnTo>
                    <a:lnTo>
                      <a:pt x="175" y="45"/>
                    </a:lnTo>
                    <a:lnTo>
                      <a:pt x="186" y="39"/>
                    </a:lnTo>
                    <a:lnTo>
                      <a:pt x="197" y="34"/>
                    </a:lnTo>
                    <a:lnTo>
                      <a:pt x="209" y="30"/>
                    </a:lnTo>
                    <a:lnTo>
                      <a:pt x="219" y="26"/>
                    </a:lnTo>
                    <a:lnTo>
                      <a:pt x="228" y="25"/>
                    </a:lnTo>
                    <a:lnTo>
                      <a:pt x="237" y="24"/>
                    </a:lnTo>
                    <a:lnTo>
                      <a:pt x="245" y="24"/>
                    </a:lnTo>
                    <a:lnTo>
                      <a:pt x="253" y="26"/>
                    </a:lnTo>
                    <a:lnTo>
                      <a:pt x="260" y="29"/>
                    </a:lnTo>
                    <a:lnTo>
                      <a:pt x="266" y="32"/>
                    </a:lnTo>
                    <a:lnTo>
                      <a:pt x="273" y="38"/>
                    </a:lnTo>
                    <a:lnTo>
                      <a:pt x="278" y="45"/>
                    </a:lnTo>
                    <a:lnTo>
                      <a:pt x="283" y="55"/>
                    </a:lnTo>
                    <a:lnTo>
                      <a:pt x="289" y="66"/>
                    </a:lnTo>
                    <a:lnTo>
                      <a:pt x="292" y="80"/>
                    </a:lnTo>
                    <a:lnTo>
                      <a:pt x="297" y="97"/>
                    </a:lnTo>
                    <a:lnTo>
                      <a:pt x="299" y="115"/>
                    </a:lnTo>
                    <a:lnTo>
                      <a:pt x="301" y="137"/>
                    </a:lnTo>
                    <a:lnTo>
                      <a:pt x="302" y="162"/>
                    </a:lnTo>
                    <a:lnTo>
                      <a:pt x="303" y="189"/>
                    </a:lnTo>
                    <a:lnTo>
                      <a:pt x="315" y="177"/>
                    </a:lnTo>
                    <a:lnTo>
                      <a:pt x="303" y="189"/>
                    </a:lnTo>
                    <a:lnTo>
                      <a:pt x="305" y="194"/>
                    </a:lnTo>
                    <a:lnTo>
                      <a:pt x="307" y="198"/>
                    </a:lnTo>
                    <a:lnTo>
                      <a:pt x="311" y="201"/>
                    </a:lnTo>
                    <a:lnTo>
                      <a:pt x="315" y="201"/>
                    </a:lnTo>
                    <a:lnTo>
                      <a:pt x="319" y="201"/>
                    </a:lnTo>
                    <a:lnTo>
                      <a:pt x="324" y="198"/>
                    </a:lnTo>
                    <a:lnTo>
                      <a:pt x="326" y="194"/>
                    </a:lnTo>
                    <a:lnTo>
                      <a:pt x="327" y="189"/>
                    </a:lnTo>
                    <a:lnTo>
                      <a:pt x="315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759280" y="400068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1" y="17"/>
                    </a:moveTo>
                    <a:lnTo>
                      <a:pt x="13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3" y="0"/>
                    </a:lnTo>
                    <a:lnTo>
                      <a:pt x="1" y="17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4" y="20"/>
                    </a:lnTo>
                    <a:lnTo>
                      <a:pt x="7" y="23"/>
                    </a:lnTo>
                    <a:lnTo>
                      <a:pt x="13" y="24"/>
                    </a:lnTo>
                    <a:lnTo>
                      <a:pt x="1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761080" y="4003920"/>
                <a:ext cx="39600" cy="106560"/>
              </a:xfrm>
              <a:custGeom>
                <a:avLst/>
                <a:gdLst/>
                <a:ahLst/>
                <a:rect l="l" t="t" r="r" b="b"/>
                <a:pathLst>
                  <a:path w="125" h="339">
                    <a:moveTo>
                      <a:pt x="112" y="339"/>
                    </a:moveTo>
                    <a:lnTo>
                      <a:pt x="125" y="327"/>
                    </a:lnTo>
                    <a:lnTo>
                      <a:pt x="123" y="302"/>
                    </a:lnTo>
                    <a:lnTo>
                      <a:pt x="121" y="278"/>
                    </a:lnTo>
                    <a:lnTo>
                      <a:pt x="119" y="255"/>
                    </a:lnTo>
                    <a:lnTo>
                      <a:pt x="114" y="233"/>
                    </a:lnTo>
                    <a:lnTo>
                      <a:pt x="110" y="212"/>
                    </a:lnTo>
                    <a:lnTo>
                      <a:pt x="103" y="191"/>
                    </a:lnTo>
                    <a:lnTo>
                      <a:pt x="97" y="171"/>
                    </a:lnTo>
                    <a:lnTo>
                      <a:pt x="89" y="150"/>
                    </a:lnTo>
                    <a:lnTo>
                      <a:pt x="73" y="112"/>
                    </a:lnTo>
                    <a:lnTo>
                      <a:pt x="56" y="75"/>
                    </a:lnTo>
                    <a:lnTo>
                      <a:pt x="39" y="37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17" y="48"/>
                    </a:lnTo>
                    <a:lnTo>
                      <a:pt x="35" y="85"/>
                    </a:lnTo>
                    <a:lnTo>
                      <a:pt x="52" y="122"/>
                    </a:lnTo>
                    <a:lnTo>
                      <a:pt x="67" y="159"/>
                    </a:lnTo>
                    <a:lnTo>
                      <a:pt x="74" y="179"/>
                    </a:lnTo>
                    <a:lnTo>
                      <a:pt x="80" y="198"/>
                    </a:lnTo>
                    <a:lnTo>
                      <a:pt x="86" y="217"/>
                    </a:lnTo>
                    <a:lnTo>
                      <a:pt x="90" y="238"/>
                    </a:lnTo>
                    <a:lnTo>
                      <a:pt x="95" y="260"/>
                    </a:lnTo>
                    <a:lnTo>
                      <a:pt x="97" y="281"/>
                    </a:lnTo>
                    <a:lnTo>
                      <a:pt x="100" y="304"/>
                    </a:lnTo>
                    <a:lnTo>
                      <a:pt x="100" y="327"/>
                    </a:lnTo>
                    <a:lnTo>
                      <a:pt x="112" y="315"/>
                    </a:lnTo>
                    <a:lnTo>
                      <a:pt x="100" y="327"/>
                    </a:lnTo>
                    <a:lnTo>
                      <a:pt x="101" y="333"/>
                    </a:lnTo>
                    <a:lnTo>
                      <a:pt x="104" y="336"/>
                    </a:lnTo>
                    <a:lnTo>
                      <a:pt x="108" y="338"/>
                    </a:lnTo>
                    <a:lnTo>
                      <a:pt x="112" y="339"/>
                    </a:lnTo>
                    <a:lnTo>
                      <a:pt x="117" y="338"/>
                    </a:lnTo>
                    <a:lnTo>
                      <a:pt x="120" y="336"/>
                    </a:lnTo>
                    <a:lnTo>
                      <a:pt x="123" y="333"/>
                    </a:lnTo>
                    <a:lnTo>
                      <a:pt x="125" y="327"/>
                    </a:lnTo>
                    <a:lnTo>
                      <a:pt x="112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746680" y="410400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1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1" y="0"/>
                    </a:lnTo>
                    <a:lnTo>
                      <a:pt x="1" y="16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727600" y="403416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7" y="17"/>
                    </a:moveTo>
                    <a:lnTo>
                      <a:pt x="16" y="6"/>
                    </a:lnTo>
                    <a:lnTo>
                      <a:pt x="12" y="14"/>
                    </a:lnTo>
                    <a:lnTo>
                      <a:pt x="8" y="22"/>
                    </a:lnTo>
                    <a:lnTo>
                      <a:pt x="5" y="30"/>
                    </a:lnTo>
                    <a:lnTo>
                      <a:pt x="3" y="39"/>
                    </a:lnTo>
                    <a:lnTo>
                      <a:pt x="1" y="55"/>
                    </a:lnTo>
                    <a:lnTo>
                      <a:pt x="0" y="72"/>
                    </a:lnTo>
                    <a:lnTo>
                      <a:pt x="2" y="89"/>
                    </a:lnTo>
                    <a:lnTo>
                      <a:pt x="4" y="105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40" y="195"/>
                    </a:lnTo>
                    <a:lnTo>
                      <a:pt x="51" y="218"/>
                    </a:lnTo>
                    <a:lnTo>
                      <a:pt x="59" y="236"/>
                    </a:lnTo>
                    <a:lnTo>
                      <a:pt x="81" y="228"/>
                    </a:lnTo>
                    <a:lnTo>
                      <a:pt x="73" y="208"/>
                    </a:lnTo>
                    <a:lnTo>
                      <a:pt x="61" y="185"/>
                    </a:lnTo>
                    <a:lnTo>
                      <a:pt x="49" y="158"/>
                    </a:lnTo>
                    <a:lnTo>
                      <a:pt x="36" y="129"/>
                    </a:lnTo>
                    <a:lnTo>
                      <a:pt x="32" y="116"/>
                    </a:lnTo>
                    <a:lnTo>
                      <a:pt x="28" y="101"/>
                    </a:lnTo>
                    <a:lnTo>
                      <a:pt x="26" y="86"/>
                    </a:lnTo>
                    <a:lnTo>
                      <a:pt x="24" y="71"/>
                    </a:lnTo>
                    <a:lnTo>
                      <a:pt x="25" y="57"/>
                    </a:lnTo>
                    <a:lnTo>
                      <a:pt x="27" y="44"/>
                    </a:lnTo>
                    <a:lnTo>
                      <a:pt x="28" y="37"/>
                    </a:lnTo>
                    <a:lnTo>
                      <a:pt x="30" y="31"/>
                    </a:lnTo>
                    <a:lnTo>
                      <a:pt x="34" y="24"/>
                    </a:lnTo>
                    <a:lnTo>
                      <a:pt x="37" y="19"/>
                    </a:lnTo>
                    <a:lnTo>
                      <a:pt x="16" y="7"/>
                    </a:lnTo>
                    <a:lnTo>
                      <a:pt x="37" y="19"/>
                    </a:lnTo>
                    <a:lnTo>
                      <a:pt x="38" y="13"/>
                    </a:lnTo>
                    <a:lnTo>
                      <a:pt x="38" y="8"/>
                    </a:lnTo>
                    <a:lnTo>
                      <a:pt x="36" y="5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6" y="6"/>
                    </a:lnTo>
                    <a:lnTo>
                      <a:pt x="37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422600" y="3764160"/>
                <a:ext cx="209880" cy="187560"/>
              </a:xfrm>
              <a:custGeom>
                <a:avLst/>
                <a:gdLst/>
                <a:ahLst/>
                <a:rect l="l" t="t" r="r" b="b"/>
                <a:pathLst>
                  <a:path w="659" h="591">
                    <a:moveTo>
                      <a:pt x="439" y="294"/>
                    </a:moveTo>
                    <a:lnTo>
                      <a:pt x="428" y="317"/>
                    </a:lnTo>
                    <a:lnTo>
                      <a:pt x="415" y="341"/>
                    </a:lnTo>
                    <a:lnTo>
                      <a:pt x="401" y="366"/>
                    </a:lnTo>
                    <a:lnTo>
                      <a:pt x="387" y="391"/>
                    </a:lnTo>
                    <a:lnTo>
                      <a:pt x="371" y="416"/>
                    </a:lnTo>
                    <a:lnTo>
                      <a:pt x="355" y="440"/>
                    </a:lnTo>
                    <a:lnTo>
                      <a:pt x="336" y="464"/>
                    </a:lnTo>
                    <a:lnTo>
                      <a:pt x="317" y="487"/>
                    </a:lnTo>
                    <a:lnTo>
                      <a:pt x="297" y="509"/>
                    </a:lnTo>
                    <a:lnTo>
                      <a:pt x="274" y="528"/>
                    </a:lnTo>
                    <a:lnTo>
                      <a:pt x="262" y="537"/>
                    </a:lnTo>
                    <a:lnTo>
                      <a:pt x="251" y="546"/>
                    </a:lnTo>
                    <a:lnTo>
                      <a:pt x="240" y="553"/>
                    </a:lnTo>
                    <a:lnTo>
                      <a:pt x="227" y="561"/>
                    </a:lnTo>
                    <a:lnTo>
                      <a:pt x="215" y="568"/>
                    </a:lnTo>
                    <a:lnTo>
                      <a:pt x="201" y="574"/>
                    </a:lnTo>
                    <a:lnTo>
                      <a:pt x="188" y="578"/>
                    </a:lnTo>
                    <a:lnTo>
                      <a:pt x="175" y="583"/>
                    </a:lnTo>
                    <a:lnTo>
                      <a:pt x="161" y="586"/>
                    </a:lnTo>
                    <a:lnTo>
                      <a:pt x="146" y="589"/>
                    </a:lnTo>
                    <a:lnTo>
                      <a:pt x="131" y="590"/>
                    </a:lnTo>
                    <a:lnTo>
                      <a:pt x="117" y="591"/>
                    </a:lnTo>
                    <a:lnTo>
                      <a:pt x="117" y="544"/>
                    </a:lnTo>
                    <a:lnTo>
                      <a:pt x="117" y="497"/>
                    </a:lnTo>
                    <a:lnTo>
                      <a:pt x="118" y="475"/>
                    </a:lnTo>
                    <a:lnTo>
                      <a:pt x="119" y="451"/>
                    </a:lnTo>
                    <a:lnTo>
                      <a:pt x="121" y="428"/>
                    </a:lnTo>
                    <a:lnTo>
                      <a:pt x="126" y="405"/>
                    </a:lnTo>
                    <a:lnTo>
                      <a:pt x="131" y="383"/>
                    </a:lnTo>
                    <a:lnTo>
                      <a:pt x="138" y="363"/>
                    </a:lnTo>
                    <a:lnTo>
                      <a:pt x="143" y="353"/>
                    </a:lnTo>
                    <a:lnTo>
                      <a:pt x="148" y="344"/>
                    </a:lnTo>
                    <a:lnTo>
                      <a:pt x="154" y="333"/>
                    </a:lnTo>
                    <a:lnTo>
                      <a:pt x="160" y="324"/>
                    </a:lnTo>
                    <a:lnTo>
                      <a:pt x="167" y="316"/>
                    </a:lnTo>
                    <a:lnTo>
                      <a:pt x="175" y="307"/>
                    </a:lnTo>
                    <a:lnTo>
                      <a:pt x="183" y="299"/>
                    </a:lnTo>
                    <a:lnTo>
                      <a:pt x="191" y="291"/>
                    </a:lnTo>
                    <a:lnTo>
                      <a:pt x="201" y="284"/>
                    </a:lnTo>
                    <a:lnTo>
                      <a:pt x="211" y="277"/>
                    </a:lnTo>
                    <a:lnTo>
                      <a:pt x="223" y="271"/>
                    </a:lnTo>
                    <a:lnTo>
                      <a:pt x="235" y="265"/>
                    </a:lnTo>
                    <a:lnTo>
                      <a:pt x="240" y="263"/>
                    </a:lnTo>
                    <a:lnTo>
                      <a:pt x="243" y="260"/>
                    </a:lnTo>
                    <a:lnTo>
                      <a:pt x="245" y="258"/>
                    </a:lnTo>
                    <a:lnTo>
                      <a:pt x="246" y="256"/>
                    </a:lnTo>
                    <a:lnTo>
                      <a:pt x="246" y="253"/>
                    </a:lnTo>
                    <a:lnTo>
                      <a:pt x="245" y="252"/>
                    </a:lnTo>
                    <a:lnTo>
                      <a:pt x="243" y="250"/>
                    </a:lnTo>
                    <a:lnTo>
                      <a:pt x="240" y="249"/>
                    </a:lnTo>
                    <a:lnTo>
                      <a:pt x="219" y="243"/>
                    </a:lnTo>
                    <a:lnTo>
                      <a:pt x="188" y="237"/>
                    </a:lnTo>
                    <a:lnTo>
                      <a:pt x="171" y="233"/>
                    </a:lnTo>
                    <a:lnTo>
                      <a:pt x="152" y="228"/>
                    </a:lnTo>
                    <a:lnTo>
                      <a:pt x="132" y="224"/>
                    </a:lnTo>
                    <a:lnTo>
                      <a:pt x="113" y="217"/>
                    </a:lnTo>
                    <a:lnTo>
                      <a:pt x="94" y="209"/>
                    </a:lnTo>
                    <a:lnTo>
                      <a:pt x="76" y="200"/>
                    </a:lnTo>
                    <a:lnTo>
                      <a:pt x="66" y="195"/>
                    </a:lnTo>
                    <a:lnTo>
                      <a:pt x="58" y="190"/>
                    </a:lnTo>
                    <a:lnTo>
                      <a:pt x="52" y="183"/>
                    </a:lnTo>
                    <a:lnTo>
                      <a:pt x="44" y="177"/>
                    </a:lnTo>
                    <a:lnTo>
                      <a:pt x="37" y="168"/>
                    </a:lnTo>
                    <a:lnTo>
                      <a:pt x="30" y="159"/>
                    </a:lnTo>
                    <a:lnTo>
                      <a:pt x="24" y="149"/>
                    </a:lnTo>
                    <a:lnTo>
                      <a:pt x="19" y="138"/>
                    </a:lnTo>
                    <a:lnTo>
                      <a:pt x="15" y="127"/>
                    </a:lnTo>
                    <a:lnTo>
                      <a:pt x="12" y="117"/>
                    </a:lnTo>
                    <a:lnTo>
                      <a:pt x="8" y="105"/>
                    </a:lnTo>
                    <a:lnTo>
                      <a:pt x="6" y="94"/>
                    </a:lnTo>
                    <a:lnTo>
                      <a:pt x="3" y="70"/>
                    </a:lnTo>
                    <a:lnTo>
                      <a:pt x="1" y="46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103" y="2"/>
                    </a:lnTo>
                    <a:lnTo>
                      <a:pt x="129" y="4"/>
                    </a:lnTo>
                    <a:lnTo>
                      <a:pt x="154" y="7"/>
                    </a:lnTo>
                    <a:lnTo>
                      <a:pt x="179" y="11"/>
                    </a:lnTo>
                    <a:lnTo>
                      <a:pt x="203" y="16"/>
                    </a:lnTo>
                    <a:lnTo>
                      <a:pt x="227" y="23"/>
                    </a:lnTo>
                    <a:lnTo>
                      <a:pt x="250" y="32"/>
                    </a:lnTo>
                    <a:lnTo>
                      <a:pt x="260" y="37"/>
                    </a:lnTo>
                    <a:lnTo>
                      <a:pt x="270" y="43"/>
                    </a:lnTo>
                    <a:lnTo>
                      <a:pt x="281" y="48"/>
                    </a:lnTo>
                    <a:lnTo>
                      <a:pt x="290" y="55"/>
                    </a:lnTo>
                    <a:lnTo>
                      <a:pt x="300" y="63"/>
                    </a:lnTo>
                    <a:lnTo>
                      <a:pt x="308" y="70"/>
                    </a:lnTo>
                    <a:lnTo>
                      <a:pt x="317" y="79"/>
                    </a:lnTo>
                    <a:lnTo>
                      <a:pt x="324" y="88"/>
                    </a:lnTo>
                    <a:lnTo>
                      <a:pt x="332" y="97"/>
                    </a:lnTo>
                    <a:lnTo>
                      <a:pt x="339" y="109"/>
                    </a:lnTo>
                    <a:lnTo>
                      <a:pt x="344" y="120"/>
                    </a:lnTo>
                    <a:lnTo>
                      <a:pt x="350" y="131"/>
                    </a:lnTo>
                    <a:lnTo>
                      <a:pt x="379" y="117"/>
                    </a:lnTo>
                    <a:lnTo>
                      <a:pt x="406" y="101"/>
                    </a:lnTo>
                    <a:lnTo>
                      <a:pt x="433" y="84"/>
                    </a:lnTo>
                    <a:lnTo>
                      <a:pt x="461" y="66"/>
                    </a:lnTo>
                    <a:lnTo>
                      <a:pt x="487" y="51"/>
                    </a:lnTo>
                    <a:lnTo>
                      <a:pt x="513" y="37"/>
                    </a:lnTo>
                    <a:lnTo>
                      <a:pt x="525" y="31"/>
                    </a:lnTo>
                    <a:lnTo>
                      <a:pt x="537" y="25"/>
                    </a:lnTo>
                    <a:lnTo>
                      <a:pt x="548" y="22"/>
                    </a:lnTo>
                    <a:lnTo>
                      <a:pt x="560" y="19"/>
                    </a:lnTo>
                    <a:lnTo>
                      <a:pt x="570" y="16"/>
                    </a:lnTo>
                    <a:lnTo>
                      <a:pt x="580" y="15"/>
                    </a:lnTo>
                    <a:lnTo>
                      <a:pt x="591" y="15"/>
                    </a:lnTo>
                    <a:lnTo>
                      <a:pt x="600" y="17"/>
                    </a:lnTo>
                    <a:lnTo>
                      <a:pt x="609" y="21"/>
                    </a:lnTo>
                    <a:lnTo>
                      <a:pt x="617" y="25"/>
                    </a:lnTo>
                    <a:lnTo>
                      <a:pt x="625" y="33"/>
                    </a:lnTo>
                    <a:lnTo>
                      <a:pt x="632" y="41"/>
                    </a:lnTo>
                    <a:lnTo>
                      <a:pt x="637" y="53"/>
                    </a:lnTo>
                    <a:lnTo>
                      <a:pt x="643" y="65"/>
                    </a:lnTo>
                    <a:lnTo>
                      <a:pt x="648" y="80"/>
                    </a:lnTo>
                    <a:lnTo>
                      <a:pt x="651" y="97"/>
                    </a:lnTo>
                    <a:lnTo>
                      <a:pt x="654" y="118"/>
                    </a:lnTo>
                    <a:lnTo>
                      <a:pt x="657" y="139"/>
                    </a:lnTo>
                    <a:lnTo>
                      <a:pt x="658" y="165"/>
                    </a:lnTo>
                    <a:lnTo>
                      <a:pt x="659" y="192"/>
                    </a:lnTo>
                    <a:lnTo>
                      <a:pt x="527" y="192"/>
                    </a:lnTo>
                    <a:lnTo>
                      <a:pt x="544" y="230"/>
                    </a:lnTo>
                    <a:lnTo>
                      <a:pt x="561" y="267"/>
                    </a:lnTo>
                    <a:lnTo>
                      <a:pt x="578" y="305"/>
                    </a:lnTo>
                    <a:lnTo>
                      <a:pt x="594" y="342"/>
                    </a:lnTo>
                    <a:lnTo>
                      <a:pt x="601" y="362"/>
                    </a:lnTo>
                    <a:lnTo>
                      <a:pt x="608" y="381"/>
                    </a:lnTo>
                    <a:lnTo>
                      <a:pt x="613" y="402"/>
                    </a:lnTo>
                    <a:lnTo>
                      <a:pt x="618" y="423"/>
                    </a:lnTo>
                    <a:lnTo>
                      <a:pt x="623" y="445"/>
                    </a:lnTo>
                    <a:lnTo>
                      <a:pt x="625" y="467"/>
                    </a:lnTo>
                    <a:lnTo>
                      <a:pt x="627" y="491"/>
                    </a:lnTo>
                    <a:lnTo>
                      <a:pt x="627" y="515"/>
                    </a:lnTo>
                    <a:lnTo>
                      <a:pt x="482" y="515"/>
                    </a:lnTo>
                    <a:lnTo>
                      <a:pt x="474" y="495"/>
                    </a:lnTo>
                    <a:lnTo>
                      <a:pt x="463" y="472"/>
                    </a:lnTo>
                    <a:lnTo>
                      <a:pt x="450" y="445"/>
                    </a:lnTo>
                    <a:lnTo>
                      <a:pt x="438" y="416"/>
                    </a:lnTo>
                    <a:lnTo>
                      <a:pt x="433" y="401"/>
                    </a:lnTo>
                    <a:lnTo>
                      <a:pt x="430" y="386"/>
                    </a:lnTo>
                    <a:lnTo>
                      <a:pt x="427" y="370"/>
                    </a:lnTo>
                    <a:lnTo>
                      <a:pt x="425" y="354"/>
                    </a:lnTo>
                    <a:lnTo>
                      <a:pt x="425" y="339"/>
                    </a:lnTo>
                    <a:lnTo>
                      <a:pt x="428" y="323"/>
                    </a:lnTo>
                    <a:lnTo>
                      <a:pt x="430" y="316"/>
                    </a:lnTo>
                    <a:lnTo>
                      <a:pt x="432" y="308"/>
                    </a:lnTo>
                    <a:lnTo>
                      <a:pt x="436" y="301"/>
                    </a:lnTo>
                    <a:lnTo>
                      <a:pt x="439" y="294"/>
                    </a:lnTo>
                    <a:close/>
                  </a:path>
                </a:pathLst>
              </a:custGeom>
              <a:solidFill>
                <a:srgbClr val="627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456080" y="3856320"/>
                <a:ext cx="109440" cy="100080"/>
              </a:xfrm>
              <a:custGeom>
                <a:avLst/>
                <a:gdLst/>
                <a:ahLst/>
                <a:rect l="l" t="t" r="r" b="b"/>
                <a:pathLst>
                  <a:path w="344" h="313">
                    <a:moveTo>
                      <a:pt x="0" y="302"/>
                    </a:moveTo>
                    <a:lnTo>
                      <a:pt x="12" y="313"/>
                    </a:lnTo>
                    <a:lnTo>
                      <a:pt x="27" y="313"/>
                    </a:lnTo>
                    <a:lnTo>
                      <a:pt x="43" y="311"/>
                    </a:lnTo>
                    <a:lnTo>
                      <a:pt x="58" y="309"/>
                    </a:lnTo>
                    <a:lnTo>
                      <a:pt x="73" y="305"/>
                    </a:lnTo>
                    <a:lnTo>
                      <a:pt x="87" y="301"/>
                    </a:lnTo>
                    <a:lnTo>
                      <a:pt x="100" y="296"/>
                    </a:lnTo>
                    <a:lnTo>
                      <a:pt x="114" y="289"/>
                    </a:lnTo>
                    <a:lnTo>
                      <a:pt x="128" y="283"/>
                    </a:lnTo>
                    <a:lnTo>
                      <a:pt x="140" y="276"/>
                    </a:lnTo>
                    <a:lnTo>
                      <a:pt x="153" y="267"/>
                    </a:lnTo>
                    <a:lnTo>
                      <a:pt x="165" y="259"/>
                    </a:lnTo>
                    <a:lnTo>
                      <a:pt x="177" y="248"/>
                    </a:lnTo>
                    <a:lnTo>
                      <a:pt x="200" y="228"/>
                    </a:lnTo>
                    <a:lnTo>
                      <a:pt x="221" y="206"/>
                    </a:lnTo>
                    <a:lnTo>
                      <a:pt x="241" y="183"/>
                    </a:lnTo>
                    <a:lnTo>
                      <a:pt x="259" y="158"/>
                    </a:lnTo>
                    <a:lnTo>
                      <a:pt x="276" y="133"/>
                    </a:lnTo>
                    <a:lnTo>
                      <a:pt x="292" y="108"/>
                    </a:lnTo>
                    <a:lnTo>
                      <a:pt x="307" y="83"/>
                    </a:lnTo>
                    <a:lnTo>
                      <a:pt x="320" y="58"/>
                    </a:lnTo>
                    <a:lnTo>
                      <a:pt x="333" y="34"/>
                    </a:lnTo>
                    <a:lnTo>
                      <a:pt x="344" y="10"/>
                    </a:lnTo>
                    <a:lnTo>
                      <a:pt x="323" y="0"/>
                    </a:lnTo>
                    <a:lnTo>
                      <a:pt x="311" y="23"/>
                    </a:lnTo>
                    <a:lnTo>
                      <a:pt x="300" y="47"/>
                    </a:lnTo>
                    <a:lnTo>
                      <a:pt x="286" y="72"/>
                    </a:lnTo>
                    <a:lnTo>
                      <a:pt x="271" y="96"/>
                    </a:lnTo>
                    <a:lnTo>
                      <a:pt x="257" y="121"/>
                    </a:lnTo>
                    <a:lnTo>
                      <a:pt x="239" y="145"/>
                    </a:lnTo>
                    <a:lnTo>
                      <a:pt x="221" y="167"/>
                    </a:lnTo>
                    <a:lnTo>
                      <a:pt x="203" y="190"/>
                    </a:lnTo>
                    <a:lnTo>
                      <a:pt x="182" y="211"/>
                    </a:lnTo>
                    <a:lnTo>
                      <a:pt x="162" y="230"/>
                    </a:lnTo>
                    <a:lnTo>
                      <a:pt x="151" y="239"/>
                    </a:lnTo>
                    <a:lnTo>
                      <a:pt x="139" y="247"/>
                    </a:lnTo>
                    <a:lnTo>
                      <a:pt x="128" y="254"/>
                    </a:lnTo>
                    <a:lnTo>
                      <a:pt x="116" y="262"/>
                    </a:lnTo>
                    <a:lnTo>
                      <a:pt x="104" y="268"/>
                    </a:lnTo>
                    <a:lnTo>
                      <a:pt x="91" y="273"/>
                    </a:lnTo>
                    <a:lnTo>
                      <a:pt x="79" y="278"/>
                    </a:lnTo>
                    <a:lnTo>
                      <a:pt x="66" y="283"/>
                    </a:lnTo>
                    <a:lnTo>
                      <a:pt x="53" y="285"/>
                    </a:lnTo>
                    <a:lnTo>
                      <a:pt x="40" y="287"/>
                    </a:lnTo>
                    <a:lnTo>
                      <a:pt x="26" y="289"/>
                    </a:lnTo>
                    <a:lnTo>
                      <a:pt x="12" y="289"/>
                    </a:lnTo>
                    <a:lnTo>
                      <a:pt x="24" y="302"/>
                    </a:lnTo>
                    <a:lnTo>
                      <a:pt x="12" y="289"/>
                    </a:lnTo>
                    <a:lnTo>
                      <a:pt x="7" y="290"/>
                    </a:lnTo>
                    <a:lnTo>
                      <a:pt x="2" y="293"/>
                    </a:lnTo>
                    <a:lnTo>
                      <a:pt x="0" y="297"/>
                    </a:lnTo>
                    <a:lnTo>
                      <a:pt x="0" y="302"/>
                    </a:lnTo>
                    <a:lnTo>
                      <a:pt x="0" y="306"/>
                    </a:lnTo>
                    <a:lnTo>
                      <a:pt x="2" y="310"/>
                    </a:lnTo>
                    <a:lnTo>
                      <a:pt x="7" y="312"/>
                    </a:lnTo>
                    <a:lnTo>
                      <a:pt x="12" y="313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56080" y="3845160"/>
                <a:ext cx="42840" cy="106560"/>
              </a:xfrm>
              <a:custGeom>
                <a:avLst/>
                <a:gdLst/>
                <a:ahLst/>
                <a:rect l="l" t="t" r="r" b="b"/>
                <a:pathLst>
                  <a:path w="136" h="338">
                    <a:moveTo>
                      <a:pt x="125" y="2"/>
                    </a:moveTo>
                    <a:lnTo>
                      <a:pt x="125" y="0"/>
                    </a:lnTo>
                    <a:lnTo>
                      <a:pt x="113" y="7"/>
                    </a:lnTo>
                    <a:lnTo>
                      <a:pt x="101" y="14"/>
                    </a:lnTo>
                    <a:lnTo>
                      <a:pt x="90" y="21"/>
                    </a:lnTo>
                    <a:lnTo>
                      <a:pt x="80" y="29"/>
                    </a:lnTo>
                    <a:lnTo>
                      <a:pt x="70" y="37"/>
                    </a:lnTo>
                    <a:lnTo>
                      <a:pt x="62" y="46"/>
                    </a:lnTo>
                    <a:lnTo>
                      <a:pt x="54" y="55"/>
                    </a:lnTo>
                    <a:lnTo>
                      <a:pt x="46" y="64"/>
                    </a:lnTo>
                    <a:lnTo>
                      <a:pt x="40" y="75"/>
                    </a:lnTo>
                    <a:lnTo>
                      <a:pt x="33" y="85"/>
                    </a:lnTo>
                    <a:lnTo>
                      <a:pt x="28" y="95"/>
                    </a:lnTo>
                    <a:lnTo>
                      <a:pt x="24" y="105"/>
                    </a:lnTo>
                    <a:lnTo>
                      <a:pt x="16" y="127"/>
                    </a:lnTo>
                    <a:lnTo>
                      <a:pt x="10" y="150"/>
                    </a:lnTo>
                    <a:lnTo>
                      <a:pt x="6" y="174"/>
                    </a:lnTo>
                    <a:lnTo>
                      <a:pt x="2" y="197"/>
                    </a:lnTo>
                    <a:lnTo>
                      <a:pt x="1" y="220"/>
                    </a:lnTo>
                    <a:lnTo>
                      <a:pt x="0" y="244"/>
                    </a:lnTo>
                    <a:lnTo>
                      <a:pt x="0" y="291"/>
                    </a:lnTo>
                    <a:lnTo>
                      <a:pt x="1" y="338"/>
                    </a:lnTo>
                    <a:lnTo>
                      <a:pt x="25" y="338"/>
                    </a:lnTo>
                    <a:lnTo>
                      <a:pt x="24" y="291"/>
                    </a:lnTo>
                    <a:lnTo>
                      <a:pt x="25" y="244"/>
                    </a:lnTo>
                    <a:lnTo>
                      <a:pt x="25" y="222"/>
                    </a:lnTo>
                    <a:lnTo>
                      <a:pt x="27" y="199"/>
                    </a:lnTo>
                    <a:lnTo>
                      <a:pt x="30" y="177"/>
                    </a:lnTo>
                    <a:lnTo>
                      <a:pt x="33" y="155"/>
                    </a:lnTo>
                    <a:lnTo>
                      <a:pt x="39" y="135"/>
                    </a:lnTo>
                    <a:lnTo>
                      <a:pt x="46" y="114"/>
                    </a:lnTo>
                    <a:lnTo>
                      <a:pt x="50" y="105"/>
                    </a:lnTo>
                    <a:lnTo>
                      <a:pt x="55" y="96"/>
                    </a:lnTo>
                    <a:lnTo>
                      <a:pt x="60" y="87"/>
                    </a:lnTo>
                    <a:lnTo>
                      <a:pt x="66" y="79"/>
                    </a:lnTo>
                    <a:lnTo>
                      <a:pt x="72" y="70"/>
                    </a:lnTo>
                    <a:lnTo>
                      <a:pt x="79" y="62"/>
                    </a:lnTo>
                    <a:lnTo>
                      <a:pt x="87" y="55"/>
                    </a:lnTo>
                    <a:lnTo>
                      <a:pt x="95" y="47"/>
                    </a:lnTo>
                    <a:lnTo>
                      <a:pt x="104" y="41"/>
                    </a:lnTo>
                    <a:lnTo>
                      <a:pt x="114" y="35"/>
                    </a:lnTo>
                    <a:lnTo>
                      <a:pt x="124" y="29"/>
                    </a:lnTo>
                    <a:lnTo>
                      <a:pt x="136" y="23"/>
                    </a:lnTo>
                    <a:lnTo>
                      <a:pt x="136" y="22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35560" y="381816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222" h="107">
                    <a:moveTo>
                      <a:pt x="0" y="17"/>
                    </a:moveTo>
                    <a:lnTo>
                      <a:pt x="0" y="17"/>
                    </a:lnTo>
                    <a:lnTo>
                      <a:pt x="8" y="24"/>
                    </a:lnTo>
                    <a:lnTo>
                      <a:pt x="16" y="31"/>
                    </a:lnTo>
                    <a:lnTo>
                      <a:pt x="25" y="36"/>
                    </a:lnTo>
                    <a:lnTo>
                      <a:pt x="34" y="42"/>
                    </a:lnTo>
                    <a:lnTo>
                      <a:pt x="53" y="52"/>
                    </a:lnTo>
                    <a:lnTo>
                      <a:pt x="73" y="60"/>
                    </a:lnTo>
                    <a:lnTo>
                      <a:pt x="93" y="67"/>
                    </a:lnTo>
                    <a:lnTo>
                      <a:pt x="112" y="73"/>
                    </a:lnTo>
                    <a:lnTo>
                      <a:pt x="132" y="77"/>
                    </a:lnTo>
                    <a:lnTo>
                      <a:pt x="150" y="81"/>
                    </a:lnTo>
                    <a:lnTo>
                      <a:pt x="181" y="87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200" y="92"/>
                    </a:lnTo>
                    <a:lnTo>
                      <a:pt x="199" y="90"/>
                    </a:lnTo>
                    <a:lnTo>
                      <a:pt x="199" y="84"/>
                    </a:lnTo>
                    <a:lnTo>
                      <a:pt x="200" y="82"/>
                    </a:lnTo>
                    <a:lnTo>
                      <a:pt x="199" y="82"/>
                    </a:lnTo>
                    <a:lnTo>
                      <a:pt x="197" y="84"/>
                    </a:lnTo>
                    <a:lnTo>
                      <a:pt x="193" y="87"/>
                    </a:lnTo>
                    <a:lnTo>
                      <a:pt x="204" y="107"/>
                    </a:lnTo>
                    <a:lnTo>
                      <a:pt x="209" y="105"/>
                    </a:lnTo>
                    <a:lnTo>
                      <a:pt x="214" y="101"/>
                    </a:lnTo>
                    <a:lnTo>
                      <a:pt x="218" y="97"/>
                    </a:lnTo>
                    <a:lnTo>
                      <a:pt x="222" y="91"/>
                    </a:lnTo>
                    <a:lnTo>
                      <a:pt x="222" y="82"/>
                    </a:lnTo>
                    <a:lnTo>
                      <a:pt x="217" y="75"/>
                    </a:lnTo>
                    <a:lnTo>
                      <a:pt x="213" y="72"/>
                    </a:lnTo>
                    <a:lnTo>
                      <a:pt x="207" y="69"/>
                    </a:lnTo>
                    <a:lnTo>
                      <a:pt x="187" y="64"/>
                    </a:lnTo>
                    <a:lnTo>
                      <a:pt x="155" y="57"/>
                    </a:lnTo>
                    <a:lnTo>
                      <a:pt x="138" y="54"/>
                    </a:lnTo>
                    <a:lnTo>
                      <a:pt x="119" y="49"/>
                    </a:lnTo>
                    <a:lnTo>
                      <a:pt x="100" y="43"/>
                    </a:lnTo>
                    <a:lnTo>
                      <a:pt x="81" y="38"/>
                    </a:lnTo>
                    <a:lnTo>
                      <a:pt x="62" y="30"/>
                    </a:lnTo>
                    <a:lnTo>
                      <a:pt x="45" y="22"/>
                    </a:lnTo>
                    <a:lnTo>
                      <a:pt x="37" y="17"/>
                    </a:lnTo>
                    <a:lnTo>
                      <a:pt x="30" y="11"/>
                    </a:lnTo>
                    <a:lnTo>
                      <a:pt x="22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19720" y="3760920"/>
                <a:ext cx="20520" cy="61920"/>
              </a:xfrm>
              <a:custGeom>
                <a:avLst/>
                <a:gdLst/>
                <a:ahLst/>
                <a:rect l="l" t="t" r="r" b="b"/>
                <a:pathLst>
                  <a:path w="64" h="197">
                    <a:moveTo>
                      <a:pt x="11" y="0"/>
                    </a:moveTo>
                    <a:lnTo>
                      <a:pt x="0" y="12"/>
                    </a:lnTo>
                    <a:lnTo>
                      <a:pt x="0" y="35"/>
                    </a:lnTo>
                    <a:lnTo>
                      <a:pt x="0" y="58"/>
                    </a:lnTo>
                    <a:lnTo>
                      <a:pt x="2" y="83"/>
                    </a:lnTo>
                    <a:lnTo>
                      <a:pt x="6" y="107"/>
                    </a:lnTo>
                    <a:lnTo>
                      <a:pt x="8" y="120"/>
                    </a:lnTo>
                    <a:lnTo>
                      <a:pt x="10" y="132"/>
                    </a:lnTo>
                    <a:lnTo>
                      <a:pt x="15" y="143"/>
                    </a:lnTo>
                    <a:lnTo>
                      <a:pt x="19" y="155"/>
                    </a:lnTo>
                    <a:lnTo>
                      <a:pt x="24" y="166"/>
                    </a:lnTo>
                    <a:lnTo>
                      <a:pt x="31" y="177"/>
                    </a:lnTo>
                    <a:lnTo>
                      <a:pt x="38" y="187"/>
                    </a:lnTo>
                    <a:lnTo>
                      <a:pt x="47" y="197"/>
                    </a:lnTo>
                    <a:lnTo>
                      <a:pt x="64" y="180"/>
                    </a:lnTo>
                    <a:lnTo>
                      <a:pt x="57" y="172"/>
                    </a:lnTo>
                    <a:lnTo>
                      <a:pt x="51" y="164"/>
                    </a:lnTo>
                    <a:lnTo>
                      <a:pt x="45" y="155"/>
                    </a:lnTo>
                    <a:lnTo>
                      <a:pt x="41" y="146"/>
                    </a:lnTo>
                    <a:lnTo>
                      <a:pt x="38" y="135"/>
                    </a:lnTo>
                    <a:lnTo>
                      <a:pt x="34" y="125"/>
                    </a:lnTo>
                    <a:lnTo>
                      <a:pt x="31" y="114"/>
                    </a:lnTo>
                    <a:lnTo>
                      <a:pt x="30" y="104"/>
                    </a:lnTo>
                    <a:lnTo>
                      <a:pt x="26" y="81"/>
                    </a:lnTo>
                    <a:lnTo>
                      <a:pt x="25" y="58"/>
                    </a:lnTo>
                    <a:lnTo>
                      <a:pt x="24" y="34"/>
                    </a:lnTo>
                    <a:lnTo>
                      <a:pt x="24" y="12"/>
                    </a:lnTo>
                    <a:lnTo>
                      <a:pt x="11" y="24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22600" y="3760920"/>
                <a:ext cx="115920" cy="49320"/>
              </a:xfrm>
              <a:custGeom>
                <a:avLst/>
                <a:gdLst/>
                <a:ahLst/>
                <a:rect l="l" t="t" r="r" b="b"/>
                <a:pathLst>
                  <a:path w="363" h="156">
                    <a:moveTo>
                      <a:pt x="346" y="132"/>
                    </a:moveTo>
                    <a:lnTo>
                      <a:pt x="362" y="139"/>
                    </a:lnTo>
                    <a:lnTo>
                      <a:pt x="356" y="126"/>
                    </a:lnTo>
                    <a:lnTo>
                      <a:pt x="349" y="114"/>
                    </a:lnTo>
                    <a:lnTo>
                      <a:pt x="342" y="102"/>
                    </a:lnTo>
                    <a:lnTo>
                      <a:pt x="334" y="92"/>
                    </a:lnTo>
                    <a:lnTo>
                      <a:pt x="325" y="83"/>
                    </a:lnTo>
                    <a:lnTo>
                      <a:pt x="317" y="74"/>
                    </a:lnTo>
                    <a:lnTo>
                      <a:pt x="307" y="65"/>
                    </a:lnTo>
                    <a:lnTo>
                      <a:pt x="298" y="58"/>
                    </a:lnTo>
                    <a:lnTo>
                      <a:pt x="287" y="51"/>
                    </a:lnTo>
                    <a:lnTo>
                      <a:pt x="276" y="44"/>
                    </a:lnTo>
                    <a:lnTo>
                      <a:pt x="266" y="39"/>
                    </a:lnTo>
                    <a:lnTo>
                      <a:pt x="254" y="33"/>
                    </a:lnTo>
                    <a:lnTo>
                      <a:pt x="231" y="24"/>
                    </a:lnTo>
                    <a:lnTo>
                      <a:pt x="207" y="17"/>
                    </a:lnTo>
                    <a:lnTo>
                      <a:pt x="181" y="11"/>
                    </a:lnTo>
                    <a:lnTo>
                      <a:pt x="155" y="7"/>
                    </a:lnTo>
                    <a:lnTo>
                      <a:pt x="130" y="3"/>
                    </a:lnTo>
                    <a:lnTo>
                      <a:pt x="104" y="2"/>
                    </a:lnTo>
                    <a:lnTo>
                      <a:pt x="52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50" y="24"/>
                    </a:lnTo>
                    <a:lnTo>
                      <a:pt x="103" y="26"/>
                    </a:lnTo>
                    <a:lnTo>
                      <a:pt x="128" y="28"/>
                    </a:lnTo>
                    <a:lnTo>
                      <a:pt x="153" y="31"/>
                    </a:lnTo>
                    <a:lnTo>
                      <a:pt x="177" y="35"/>
                    </a:lnTo>
                    <a:lnTo>
                      <a:pt x="201" y="40"/>
                    </a:lnTo>
                    <a:lnTo>
                      <a:pt x="224" y="47"/>
                    </a:lnTo>
                    <a:lnTo>
                      <a:pt x="245" y="56"/>
                    </a:lnTo>
                    <a:lnTo>
                      <a:pt x="254" y="60"/>
                    </a:lnTo>
                    <a:lnTo>
                      <a:pt x="265" y="65"/>
                    </a:lnTo>
                    <a:lnTo>
                      <a:pt x="274" y="71"/>
                    </a:lnTo>
                    <a:lnTo>
                      <a:pt x="283" y="77"/>
                    </a:lnTo>
                    <a:lnTo>
                      <a:pt x="292" y="84"/>
                    </a:lnTo>
                    <a:lnTo>
                      <a:pt x="300" y="91"/>
                    </a:lnTo>
                    <a:lnTo>
                      <a:pt x="308" y="99"/>
                    </a:lnTo>
                    <a:lnTo>
                      <a:pt x="315" y="108"/>
                    </a:lnTo>
                    <a:lnTo>
                      <a:pt x="322" y="117"/>
                    </a:lnTo>
                    <a:lnTo>
                      <a:pt x="329" y="126"/>
                    </a:lnTo>
                    <a:lnTo>
                      <a:pt x="334" y="137"/>
                    </a:lnTo>
                    <a:lnTo>
                      <a:pt x="340" y="148"/>
                    </a:lnTo>
                    <a:lnTo>
                      <a:pt x="356" y="155"/>
                    </a:lnTo>
                    <a:lnTo>
                      <a:pt x="340" y="148"/>
                    </a:lnTo>
                    <a:lnTo>
                      <a:pt x="342" y="153"/>
                    </a:lnTo>
                    <a:lnTo>
                      <a:pt x="347" y="155"/>
                    </a:lnTo>
                    <a:lnTo>
                      <a:pt x="351" y="156"/>
                    </a:lnTo>
                    <a:lnTo>
                      <a:pt x="356" y="155"/>
                    </a:lnTo>
                    <a:lnTo>
                      <a:pt x="359" y="153"/>
                    </a:lnTo>
                    <a:lnTo>
                      <a:pt x="362" y="148"/>
                    </a:lnTo>
                    <a:lnTo>
                      <a:pt x="363" y="143"/>
                    </a:lnTo>
                    <a:lnTo>
                      <a:pt x="362" y="139"/>
                    </a:lnTo>
                    <a:lnTo>
                      <a:pt x="346" y="1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533840" y="376596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4" h="201">
                    <a:moveTo>
                      <a:pt x="313" y="201"/>
                    </a:moveTo>
                    <a:lnTo>
                      <a:pt x="324" y="189"/>
                    </a:lnTo>
                    <a:lnTo>
                      <a:pt x="324" y="162"/>
                    </a:lnTo>
                    <a:lnTo>
                      <a:pt x="323" y="135"/>
                    </a:lnTo>
                    <a:lnTo>
                      <a:pt x="321" y="113"/>
                    </a:lnTo>
                    <a:lnTo>
                      <a:pt x="318" y="92"/>
                    </a:lnTo>
                    <a:lnTo>
                      <a:pt x="313" y="74"/>
                    </a:lnTo>
                    <a:lnTo>
                      <a:pt x="308" y="58"/>
                    </a:lnTo>
                    <a:lnTo>
                      <a:pt x="303" y="44"/>
                    </a:lnTo>
                    <a:lnTo>
                      <a:pt x="296" y="32"/>
                    </a:lnTo>
                    <a:lnTo>
                      <a:pt x="287" y="21"/>
                    </a:lnTo>
                    <a:lnTo>
                      <a:pt x="279" y="13"/>
                    </a:lnTo>
                    <a:lnTo>
                      <a:pt x="269" y="8"/>
                    </a:lnTo>
                    <a:lnTo>
                      <a:pt x="257" y="3"/>
                    </a:lnTo>
                    <a:lnTo>
                      <a:pt x="246" y="1"/>
                    </a:lnTo>
                    <a:lnTo>
                      <a:pt x="234" y="0"/>
                    </a:lnTo>
                    <a:lnTo>
                      <a:pt x="223" y="1"/>
                    </a:lnTo>
                    <a:lnTo>
                      <a:pt x="210" y="3"/>
                    </a:lnTo>
                    <a:lnTo>
                      <a:pt x="199" y="6"/>
                    </a:lnTo>
                    <a:lnTo>
                      <a:pt x="187" y="11"/>
                    </a:lnTo>
                    <a:lnTo>
                      <a:pt x="174" y="17"/>
                    </a:lnTo>
                    <a:lnTo>
                      <a:pt x="161" y="24"/>
                    </a:lnTo>
                    <a:lnTo>
                      <a:pt x="135" y="37"/>
                    </a:lnTo>
                    <a:lnTo>
                      <a:pt x="109" y="53"/>
                    </a:lnTo>
                    <a:lnTo>
                      <a:pt x="82" y="70"/>
                    </a:lnTo>
                    <a:lnTo>
                      <a:pt x="54" y="87"/>
                    </a:lnTo>
                    <a:lnTo>
                      <a:pt x="26" y="103"/>
                    </a:lnTo>
                    <a:lnTo>
                      <a:pt x="0" y="117"/>
                    </a:lnTo>
                    <a:lnTo>
                      <a:pt x="10" y="140"/>
                    </a:lnTo>
                    <a:lnTo>
                      <a:pt x="38" y="124"/>
                    </a:lnTo>
                    <a:lnTo>
                      <a:pt x="66" y="108"/>
                    </a:lnTo>
                    <a:lnTo>
                      <a:pt x="94" y="91"/>
                    </a:lnTo>
                    <a:lnTo>
                      <a:pt x="122" y="74"/>
                    </a:lnTo>
                    <a:lnTo>
                      <a:pt x="148" y="59"/>
                    </a:lnTo>
                    <a:lnTo>
                      <a:pt x="173" y="44"/>
                    </a:lnTo>
                    <a:lnTo>
                      <a:pt x="184" y="38"/>
                    </a:lnTo>
                    <a:lnTo>
                      <a:pt x="196" y="34"/>
                    </a:lnTo>
                    <a:lnTo>
                      <a:pt x="206" y="30"/>
                    </a:lnTo>
                    <a:lnTo>
                      <a:pt x="217" y="27"/>
                    </a:lnTo>
                    <a:lnTo>
                      <a:pt x="226" y="25"/>
                    </a:lnTo>
                    <a:lnTo>
                      <a:pt x="236" y="25"/>
                    </a:lnTo>
                    <a:lnTo>
                      <a:pt x="244" y="25"/>
                    </a:lnTo>
                    <a:lnTo>
                      <a:pt x="250" y="26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0" y="38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6"/>
                    </a:lnTo>
                    <a:lnTo>
                      <a:pt x="290" y="81"/>
                    </a:lnTo>
                    <a:lnTo>
                      <a:pt x="294" y="97"/>
                    </a:lnTo>
                    <a:lnTo>
                      <a:pt x="297" y="116"/>
                    </a:lnTo>
                    <a:lnTo>
                      <a:pt x="299" y="138"/>
                    </a:lnTo>
                    <a:lnTo>
                      <a:pt x="300" y="162"/>
                    </a:lnTo>
                    <a:lnTo>
                      <a:pt x="300" y="189"/>
                    </a:lnTo>
                    <a:lnTo>
                      <a:pt x="313" y="177"/>
                    </a:lnTo>
                    <a:lnTo>
                      <a:pt x="300" y="189"/>
                    </a:lnTo>
                    <a:lnTo>
                      <a:pt x="302" y="195"/>
                    </a:lnTo>
                    <a:lnTo>
                      <a:pt x="304" y="198"/>
                    </a:lnTo>
                    <a:lnTo>
                      <a:pt x="308" y="200"/>
                    </a:lnTo>
                    <a:lnTo>
                      <a:pt x="313" y="201"/>
                    </a:lnTo>
                    <a:lnTo>
                      <a:pt x="318" y="200"/>
                    </a:lnTo>
                    <a:lnTo>
                      <a:pt x="321" y="198"/>
                    </a:lnTo>
                    <a:lnTo>
                      <a:pt x="324" y="195"/>
                    </a:lnTo>
                    <a:lnTo>
                      <a:pt x="324" y="189"/>
                    </a:lnTo>
                    <a:lnTo>
                      <a:pt x="313" y="2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586400" y="3821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144" h="24">
                    <a:moveTo>
                      <a:pt x="2" y="16"/>
                    </a:moveTo>
                    <a:lnTo>
                      <a:pt x="12" y="24"/>
                    </a:lnTo>
                    <a:lnTo>
                      <a:pt x="144" y="24"/>
                    </a:lnTo>
                    <a:lnTo>
                      <a:pt x="144" y="0"/>
                    </a:lnTo>
                    <a:lnTo>
                      <a:pt x="12" y="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3" y="21"/>
                    </a:lnTo>
                    <a:lnTo>
                      <a:pt x="7" y="23"/>
                    </a:lnTo>
                    <a:lnTo>
                      <a:pt x="12" y="24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587840" y="382464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123" h="339">
                    <a:moveTo>
                      <a:pt x="110" y="339"/>
                    </a:moveTo>
                    <a:lnTo>
                      <a:pt x="123" y="328"/>
                    </a:lnTo>
                    <a:lnTo>
                      <a:pt x="122" y="302"/>
                    </a:lnTo>
                    <a:lnTo>
                      <a:pt x="120" y="278"/>
                    </a:lnTo>
                    <a:lnTo>
                      <a:pt x="117" y="256"/>
                    </a:lnTo>
                    <a:lnTo>
                      <a:pt x="112" y="233"/>
                    </a:lnTo>
                    <a:lnTo>
                      <a:pt x="108" y="212"/>
                    </a:lnTo>
                    <a:lnTo>
                      <a:pt x="102" y="191"/>
                    </a:lnTo>
                    <a:lnTo>
                      <a:pt x="95" y="170"/>
                    </a:lnTo>
                    <a:lnTo>
                      <a:pt x="87" y="151"/>
                    </a:lnTo>
                    <a:lnTo>
                      <a:pt x="73" y="112"/>
                    </a:lnTo>
                    <a:lnTo>
                      <a:pt x="55" y="76"/>
                    </a:lnTo>
                    <a:lnTo>
                      <a:pt x="38" y="38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16" y="48"/>
                    </a:lnTo>
                    <a:lnTo>
                      <a:pt x="33" y="85"/>
                    </a:lnTo>
                    <a:lnTo>
                      <a:pt x="50" y="122"/>
                    </a:lnTo>
                    <a:lnTo>
                      <a:pt x="66" y="160"/>
                    </a:lnTo>
                    <a:lnTo>
                      <a:pt x="73" y="178"/>
                    </a:lnTo>
                    <a:lnTo>
                      <a:pt x="78" y="198"/>
                    </a:lnTo>
                    <a:lnTo>
                      <a:pt x="84" y="218"/>
                    </a:lnTo>
                    <a:lnTo>
                      <a:pt x="90" y="239"/>
                    </a:lnTo>
                    <a:lnTo>
                      <a:pt x="93" y="259"/>
                    </a:lnTo>
                    <a:lnTo>
                      <a:pt x="96" y="281"/>
                    </a:lnTo>
                    <a:lnTo>
                      <a:pt x="98" y="304"/>
                    </a:lnTo>
                    <a:lnTo>
                      <a:pt x="99" y="328"/>
                    </a:lnTo>
                    <a:lnTo>
                      <a:pt x="110" y="315"/>
                    </a:lnTo>
                    <a:lnTo>
                      <a:pt x="99" y="328"/>
                    </a:lnTo>
                    <a:lnTo>
                      <a:pt x="100" y="332"/>
                    </a:lnTo>
                    <a:lnTo>
                      <a:pt x="102" y="337"/>
                    </a:lnTo>
                    <a:lnTo>
                      <a:pt x="107" y="339"/>
                    </a:lnTo>
                    <a:lnTo>
                      <a:pt x="110" y="339"/>
                    </a:lnTo>
                    <a:lnTo>
                      <a:pt x="115" y="339"/>
                    </a:lnTo>
                    <a:lnTo>
                      <a:pt x="119" y="337"/>
                    </a:lnTo>
                    <a:lnTo>
                      <a:pt x="122" y="332"/>
                    </a:lnTo>
                    <a:lnTo>
                      <a:pt x="123" y="328"/>
                    </a:lnTo>
                    <a:lnTo>
                      <a:pt x="110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572000" y="392472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1" y="16"/>
                    </a:moveTo>
                    <a:lnTo>
                      <a:pt x="12" y="24"/>
                    </a:lnTo>
                    <a:lnTo>
                      <a:pt x="157" y="24"/>
                    </a:lnTo>
                    <a:lnTo>
                      <a:pt x="157" y="0"/>
                    </a:lnTo>
                    <a:lnTo>
                      <a:pt x="12" y="0"/>
                    </a:lnTo>
                    <a:lnTo>
                      <a:pt x="1" y="16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0"/>
                    </a:lnTo>
                    <a:lnTo>
                      <a:pt x="7" y="24"/>
                    </a:lnTo>
                    <a:lnTo>
                      <a:pt x="12" y="2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554360" y="3854880"/>
                <a:ext cx="25560" cy="74520"/>
              </a:xfrm>
              <a:custGeom>
                <a:avLst/>
                <a:gdLst/>
                <a:ahLst/>
                <a:rect l="l" t="t" r="r" b="b"/>
                <a:pathLst>
                  <a:path w="81" h="236">
                    <a:moveTo>
                      <a:pt x="36" y="17"/>
                    </a:moveTo>
                    <a:lnTo>
                      <a:pt x="16" y="7"/>
                    </a:lnTo>
                    <a:lnTo>
                      <a:pt x="11" y="14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3" y="39"/>
                    </a:lnTo>
                    <a:lnTo>
                      <a:pt x="0" y="56"/>
                    </a:lnTo>
                    <a:lnTo>
                      <a:pt x="0" y="73"/>
                    </a:lnTo>
                    <a:lnTo>
                      <a:pt x="2" y="89"/>
                    </a:lnTo>
                    <a:lnTo>
                      <a:pt x="4" y="106"/>
                    </a:lnTo>
                    <a:lnTo>
                      <a:pt x="9" y="122"/>
                    </a:lnTo>
                    <a:lnTo>
                      <a:pt x="15" y="138"/>
                    </a:lnTo>
                    <a:lnTo>
                      <a:pt x="26" y="168"/>
                    </a:lnTo>
                    <a:lnTo>
                      <a:pt x="39" y="195"/>
                    </a:lnTo>
                    <a:lnTo>
                      <a:pt x="50" y="219"/>
                    </a:lnTo>
                    <a:lnTo>
                      <a:pt x="58" y="236"/>
                    </a:lnTo>
                    <a:lnTo>
                      <a:pt x="81" y="228"/>
                    </a:lnTo>
                    <a:lnTo>
                      <a:pt x="72" y="209"/>
                    </a:lnTo>
                    <a:lnTo>
                      <a:pt x="60" y="185"/>
                    </a:lnTo>
                    <a:lnTo>
                      <a:pt x="48" y="158"/>
                    </a:lnTo>
                    <a:lnTo>
                      <a:pt x="36" y="130"/>
                    </a:lnTo>
                    <a:lnTo>
                      <a:pt x="32" y="115"/>
                    </a:lnTo>
                    <a:lnTo>
                      <a:pt x="28" y="100"/>
                    </a:lnTo>
                    <a:lnTo>
                      <a:pt x="26" y="87"/>
                    </a:lnTo>
                    <a:lnTo>
                      <a:pt x="24" y="72"/>
                    </a:lnTo>
                    <a:lnTo>
                      <a:pt x="25" y="58"/>
                    </a:lnTo>
                    <a:lnTo>
                      <a:pt x="26" y="43"/>
                    </a:lnTo>
                    <a:lnTo>
                      <a:pt x="28" y="38"/>
                    </a:lnTo>
                    <a:lnTo>
                      <a:pt x="31" y="31"/>
                    </a:lnTo>
                    <a:lnTo>
                      <a:pt x="33" y="25"/>
                    </a:lnTo>
                    <a:lnTo>
                      <a:pt x="36" y="18"/>
                    </a:lnTo>
                    <a:lnTo>
                      <a:pt x="15" y="7"/>
                    </a:lnTo>
                    <a:lnTo>
                      <a:pt x="36" y="18"/>
                    </a:lnTo>
                    <a:lnTo>
                      <a:pt x="39" y="14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2" y="2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19" y="2"/>
                    </a:lnTo>
                    <a:lnTo>
                      <a:pt x="16" y="7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2949480" y="3765960"/>
                <a:ext cx="225360" cy="239400"/>
              </a:xfrm>
              <a:custGeom>
                <a:avLst/>
                <a:gdLst/>
                <a:ahLst/>
                <a:rect l="l" t="t" r="r" b="b"/>
                <a:pathLst>
                  <a:path w="714" h="752">
                    <a:moveTo>
                      <a:pt x="423" y="467"/>
                    </a:moveTo>
                    <a:lnTo>
                      <a:pt x="402" y="482"/>
                    </a:lnTo>
                    <a:lnTo>
                      <a:pt x="380" y="498"/>
                    </a:lnTo>
                    <a:lnTo>
                      <a:pt x="357" y="513"/>
                    </a:lnTo>
                    <a:lnTo>
                      <a:pt x="332" y="528"/>
                    </a:lnTo>
                    <a:lnTo>
                      <a:pt x="307" y="543"/>
                    </a:lnTo>
                    <a:lnTo>
                      <a:pt x="280" y="556"/>
                    </a:lnTo>
                    <a:lnTo>
                      <a:pt x="253" y="569"/>
                    </a:lnTo>
                    <a:lnTo>
                      <a:pt x="225" y="579"/>
                    </a:lnTo>
                    <a:lnTo>
                      <a:pt x="197" y="588"/>
                    </a:lnTo>
                    <a:lnTo>
                      <a:pt x="169" y="595"/>
                    </a:lnTo>
                    <a:lnTo>
                      <a:pt x="154" y="597"/>
                    </a:lnTo>
                    <a:lnTo>
                      <a:pt x="140" y="600"/>
                    </a:lnTo>
                    <a:lnTo>
                      <a:pt x="125" y="601"/>
                    </a:lnTo>
                    <a:lnTo>
                      <a:pt x="111" y="602"/>
                    </a:lnTo>
                    <a:lnTo>
                      <a:pt x="97" y="601"/>
                    </a:lnTo>
                    <a:lnTo>
                      <a:pt x="83" y="601"/>
                    </a:lnTo>
                    <a:lnTo>
                      <a:pt x="68" y="598"/>
                    </a:lnTo>
                    <a:lnTo>
                      <a:pt x="55" y="596"/>
                    </a:lnTo>
                    <a:lnTo>
                      <a:pt x="41" y="592"/>
                    </a:lnTo>
                    <a:lnTo>
                      <a:pt x="27" y="587"/>
                    </a:lnTo>
                    <a:lnTo>
                      <a:pt x="14" y="581"/>
                    </a:lnTo>
                    <a:lnTo>
                      <a:pt x="0" y="576"/>
                    </a:lnTo>
                    <a:lnTo>
                      <a:pt x="21" y="535"/>
                    </a:lnTo>
                    <a:lnTo>
                      <a:pt x="43" y="494"/>
                    </a:lnTo>
                    <a:lnTo>
                      <a:pt x="55" y="473"/>
                    </a:lnTo>
                    <a:lnTo>
                      <a:pt x="67" y="454"/>
                    </a:lnTo>
                    <a:lnTo>
                      <a:pt x="80" y="435"/>
                    </a:lnTo>
                    <a:lnTo>
                      <a:pt x="95" y="417"/>
                    </a:lnTo>
                    <a:lnTo>
                      <a:pt x="110" y="400"/>
                    </a:lnTo>
                    <a:lnTo>
                      <a:pt x="125" y="385"/>
                    </a:lnTo>
                    <a:lnTo>
                      <a:pt x="135" y="378"/>
                    </a:lnTo>
                    <a:lnTo>
                      <a:pt x="144" y="373"/>
                    </a:lnTo>
                    <a:lnTo>
                      <a:pt x="153" y="367"/>
                    </a:lnTo>
                    <a:lnTo>
                      <a:pt x="163" y="361"/>
                    </a:lnTo>
                    <a:lnTo>
                      <a:pt x="173" y="357"/>
                    </a:lnTo>
                    <a:lnTo>
                      <a:pt x="184" y="353"/>
                    </a:lnTo>
                    <a:lnTo>
                      <a:pt x="195" y="350"/>
                    </a:lnTo>
                    <a:lnTo>
                      <a:pt x="206" y="348"/>
                    </a:lnTo>
                    <a:lnTo>
                      <a:pt x="218" y="345"/>
                    </a:lnTo>
                    <a:lnTo>
                      <a:pt x="230" y="344"/>
                    </a:lnTo>
                    <a:lnTo>
                      <a:pt x="243" y="344"/>
                    </a:lnTo>
                    <a:lnTo>
                      <a:pt x="257" y="344"/>
                    </a:lnTo>
                    <a:lnTo>
                      <a:pt x="262" y="345"/>
                    </a:lnTo>
                    <a:lnTo>
                      <a:pt x="266" y="344"/>
                    </a:lnTo>
                    <a:lnTo>
                      <a:pt x="269" y="344"/>
                    </a:lnTo>
                    <a:lnTo>
                      <a:pt x="271" y="343"/>
                    </a:lnTo>
                    <a:lnTo>
                      <a:pt x="271" y="341"/>
                    </a:lnTo>
                    <a:lnTo>
                      <a:pt x="271" y="339"/>
                    </a:lnTo>
                    <a:lnTo>
                      <a:pt x="270" y="336"/>
                    </a:lnTo>
                    <a:lnTo>
                      <a:pt x="269" y="334"/>
                    </a:lnTo>
                    <a:lnTo>
                      <a:pt x="253" y="319"/>
                    </a:lnTo>
                    <a:lnTo>
                      <a:pt x="229" y="299"/>
                    </a:lnTo>
                    <a:lnTo>
                      <a:pt x="214" y="287"/>
                    </a:lnTo>
                    <a:lnTo>
                      <a:pt x="201" y="275"/>
                    </a:lnTo>
                    <a:lnTo>
                      <a:pt x="186" y="260"/>
                    </a:lnTo>
                    <a:lnTo>
                      <a:pt x="171" y="245"/>
                    </a:lnTo>
                    <a:lnTo>
                      <a:pt x="159" y="229"/>
                    </a:lnTo>
                    <a:lnTo>
                      <a:pt x="146" y="212"/>
                    </a:lnTo>
                    <a:lnTo>
                      <a:pt x="141" y="204"/>
                    </a:lnTo>
                    <a:lnTo>
                      <a:pt x="137" y="195"/>
                    </a:lnTo>
                    <a:lnTo>
                      <a:pt x="133" y="186"/>
                    </a:lnTo>
                    <a:lnTo>
                      <a:pt x="130" y="177"/>
                    </a:lnTo>
                    <a:lnTo>
                      <a:pt x="128" y="165"/>
                    </a:lnTo>
                    <a:lnTo>
                      <a:pt x="125" y="154"/>
                    </a:lnTo>
                    <a:lnTo>
                      <a:pt x="125" y="144"/>
                    </a:lnTo>
                    <a:lnTo>
                      <a:pt x="125" y="131"/>
                    </a:lnTo>
                    <a:lnTo>
                      <a:pt x="127" y="120"/>
                    </a:lnTo>
                    <a:lnTo>
                      <a:pt x="129" y="108"/>
                    </a:lnTo>
                    <a:lnTo>
                      <a:pt x="132" y="97"/>
                    </a:lnTo>
                    <a:lnTo>
                      <a:pt x="136" y="85"/>
                    </a:lnTo>
                    <a:lnTo>
                      <a:pt x="144" y="64"/>
                    </a:lnTo>
                    <a:lnTo>
                      <a:pt x="154" y="41"/>
                    </a:lnTo>
                    <a:lnTo>
                      <a:pt x="164" y="20"/>
                    </a:lnTo>
                    <a:lnTo>
                      <a:pt x="174" y="0"/>
                    </a:lnTo>
                    <a:lnTo>
                      <a:pt x="220" y="24"/>
                    </a:lnTo>
                    <a:lnTo>
                      <a:pt x="265" y="50"/>
                    </a:lnTo>
                    <a:lnTo>
                      <a:pt x="287" y="64"/>
                    </a:lnTo>
                    <a:lnTo>
                      <a:pt x="308" y="79"/>
                    </a:lnTo>
                    <a:lnTo>
                      <a:pt x="328" y="95"/>
                    </a:lnTo>
                    <a:lnTo>
                      <a:pt x="348" y="111"/>
                    </a:lnTo>
                    <a:lnTo>
                      <a:pt x="365" y="128"/>
                    </a:lnTo>
                    <a:lnTo>
                      <a:pt x="381" y="146"/>
                    </a:lnTo>
                    <a:lnTo>
                      <a:pt x="388" y="156"/>
                    </a:lnTo>
                    <a:lnTo>
                      <a:pt x="393" y="165"/>
                    </a:lnTo>
                    <a:lnTo>
                      <a:pt x="400" y="175"/>
                    </a:lnTo>
                    <a:lnTo>
                      <a:pt x="405" y="187"/>
                    </a:lnTo>
                    <a:lnTo>
                      <a:pt x="409" y="197"/>
                    </a:lnTo>
                    <a:lnTo>
                      <a:pt x="414" y="209"/>
                    </a:lnTo>
                    <a:lnTo>
                      <a:pt x="417" y="220"/>
                    </a:lnTo>
                    <a:lnTo>
                      <a:pt x="420" y="231"/>
                    </a:lnTo>
                    <a:lnTo>
                      <a:pt x="421" y="244"/>
                    </a:lnTo>
                    <a:lnTo>
                      <a:pt x="422" y="256"/>
                    </a:lnTo>
                    <a:lnTo>
                      <a:pt x="422" y="269"/>
                    </a:lnTo>
                    <a:lnTo>
                      <a:pt x="421" y="283"/>
                    </a:lnTo>
                    <a:lnTo>
                      <a:pt x="453" y="283"/>
                    </a:lnTo>
                    <a:lnTo>
                      <a:pt x="486" y="282"/>
                    </a:lnTo>
                    <a:lnTo>
                      <a:pt x="518" y="280"/>
                    </a:lnTo>
                    <a:lnTo>
                      <a:pt x="549" y="278"/>
                    </a:lnTo>
                    <a:lnTo>
                      <a:pt x="581" y="277"/>
                    </a:lnTo>
                    <a:lnTo>
                      <a:pt x="610" y="277"/>
                    </a:lnTo>
                    <a:lnTo>
                      <a:pt x="624" y="277"/>
                    </a:lnTo>
                    <a:lnTo>
                      <a:pt x="637" y="278"/>
                    </a:lnTo>
                    <a:lnTo>
                      <a:pt x="650" y="280"/>
                    </a:lnTo>
                    <a:lnTo>
                      <a:pt x="661" y="283"/>
                    </a:lnTo>
                    <a:lnTo>
                      <a:pt x="671" y="286"/>
                    </a:lnTo>
                    <a:lnTo>
                      <a:pt x="680" y="289"/>
                    </a:lnTo>
                    <a:lnTo>
                      <a:pt x="690" y="295"/>
                    </a:lnTo>
                    <a:lnTo>
                      <a:pt x="696" y="301"/>
                    </a:lnTo>
                    <a:lnTo>
                      <a:pt x="703" y="308"/>
                    </a:lnTo>
                    <a:lnTo>
                      <a:pt x="708" y="317"/>
                    </a:lnTo>
                    <a:lnTo>
                      <a:pt x="711" y="326"/>
                    </a:lnTo>
                    <a:lnTo>
                      <a:pt x="714" y="336"/>
                    </a:lnTo>
                    <a:lnTo>
                      <a:pt x="714" y="349"/>
                    </a:lnTo>
                    <a:lnTo>
                      <a:pt x="712" y="362"/>
                    </a:lnTo>
                    <a:lnTo>
                      <a:pt x="709" y="378"/>
                    </a:lnTo>
                    <a:lnTo>
                      <a:pt x="704" y="396"/>
                    </a:lnTo>
                    <a:lnTo>
                      <a:pt x="699" y="414"/>
                    </a:lnTo>
                    <a:lnTo>
                      <a:pt x="690" y="434"/>
                    </a:lnTo>
                    <a:lnTo>
                      <a:pt x="679" y="457"/>
                    </a:lnTo>
                    <a:lnTo>
                      <a:pt x="667" y="482"/>
                    </a:lnTo>
                    <a:lnTo>
                      <a:pt x="549" y="419"/>
                    </a:lnTo>
                    <a:lnTo>
                      <a:pt x="546" y="460"/>
                    </a:lnTo>
                    <a:lnTo>
                      <a:pt x="545" y="502"/>
                    </a:lnTo>
                    <a:lnTo>
                      <a:pt x="541" y="543"/>
                    </a:lnTo>
                    <a:lnTo>
                      <a:pt x="538" y="582"/>
                    </a:lnTo>
                    <a:lnTo>
                      <a:pt x="535" y="603"/>
                    </a:lnTo>
                    <a:lnTo>
                      <a:pt x="531" y="624"/>
                    </a:lnTo>
                    <a:lnTo>
                      <a:pt x="527" y="645"/>
                    </a:lnTo>
                    <a:lnTo>
                      <a:pt x="522" y="666"/>
                    </a:lnTo>
                    <a:lnTo>
                      <a:pt x="515" y="687"/>
                    </a:lnTo>
                    <a:lnTo>
                      <a:pt x="507" y="708"/>
                    </a:lnTo>
                    <a:lnTo>
                      <a:pt x="498" y="730"/>
                    </a:lnTo>
                    <a:lnTo>
                      <a:pt x="487" y="752"/>
                    </a:lnTo>
                    <a:lnTo>
                      <a:pt x="359" y="683"/>
                    </a:lnTo>
                    <a:lnTo>
                      <a:pt x="360" y="662"/>
                    </a:lnTo>
                    <a:lnTo>
                      <a:pt x="361" y="636"/>
                    </a:lnTo>
                    <a:lnTo>
                      <a:pt x="363" y="606"/>
                    </a:lnTo>
                    <a:lnTo>
                      <a:pt x="365" y="574"/>
                    </a:lnTo>
                    <a:lnTo>
                      <a:pt x="368" y="559"/>
                    </a:lnTo>
                    <a:lnTo>
                      <a:pt x="372" y="544"/>
                    </a:lnTo>
                    <a:lnTo>
                      <a:pt x="376" y="528"/>
                    </a:lnTo>
                    <a:lnTo>
                      <a:pt x="382" y="514"/>
                    </a:lnTo>
                    <a:lnTo>
                      <a:pt x="390" y="500"/>
                    </a:lnTo>
                    <a:lnTo>
                      <a:pt x="399" y="488"/>
                    </a:lnTo>
                    <a:lnTo>
                      <a:pt x="404" y="482"/>
                    </a:lnTo>
                    <a:lnTo>
                      <a:pt x="409" y="478"/>
                    </a:lnTo>
                    <a:lnTo>
                      <a:pt x="416" y="472"/>
                    </a:lnTo>
                    <a:lnTo>
                      <a:pt x="423" y="467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944800" y="3911760"/>
                <a:ext cx="141480" cy="49320"/>
              </a:xfrm>
              <a:custGeom>
                <a:avLst/>
                <a:gdLst/>
                <a:ahLst/>
                <a:rect l="l" t="t" r="r" b="b"/>
                <a:pathLst>
                  <a:path w="442" h="155">
                    <a:moveTo>
                      <a:pt x="2" y="112"/>
                    </a:moveTo>
                    <a:lnTo>
                      <a:pt x="6" y="128"/>
                    </a:lnTo>
                    <a:lnTo>
                      <a:pt x="20" y="135"/>
                    </a:lnTo>
                    <a:lnTo>
                      <a:pt x="35" y="140"/>
                    </a:lnTo>
                    <a:lnTo>
                      <a:pt x="50" y="146"/>
                    </a:lnTo>
                    <a:lnTo>
                      <a:pt x="65" y="150"/>
                    </a:lnTo>
                    <a:lnTo>
                      <a:pt x="78" y="152"/>
                    </a:lnTo>
                    <a:lnTo>
                      <a:pt x="93" y="154"/>
                    </a:lnTo>
                    <a:lnTo>
                      <a:pt x="108" y="155"/>
                    </a:lnTo>
                    <a:lnTo>
                      <a:pt x="124" y="155"/>
                    </a:lnTo>
                    <a:lnTo>
                      <a:pt x="139" y="155"/>
                    </a:lnTo>
                    <a:lnTo>
                      <a:pt x="153" y="154"/>
                    </a:lnTo>
                    <a:lnTo>
                      <a:pt x="168" y="152"/>
                    </a:lnTo>
                    <a:lnTo>
                      <a:pt x="183" y="150"/>
                    </a:lnTo>
                    <a:lnTo>
                      <a:pt x="212" y="142"/>
                    </a:lnTo>
                    <a:lnTo>
                      <a:pt x="241" y="132"/>
                    </a:lnTo>
                    <a:lnTo>
                      <a:pt x="270" y="121"/>
                    </a:lnTo>
                    <a:lnTo>
                      <a:pt x="297" y="109"/>
                    </a:lnTo>
                    <a:lnTo>
                      <a:pt x="324" y="95"/>
                    </a:lnTo>
                    <a:lnTo>
                      <a:pt x="351" y="80"/>
                    </a:lnTo>
                    <a:lnTo>
                      <a:pt x="375" y="65"/>
                    </a:lnTo>
                    <a:lnTo>
                      <a:pt x="398" y="50"/>
                    </a:lnTo>
                    <a:lnTo>
                      <a:pt x="421" y="34"/>
                    </a:lnTo>
                    <a:lnTo>
                      <a:pt x="442" y="20"/>
                    </a:lnTo>
                    <a:lnTo>
                      <a:pt x="427" y="0"/>
                    </a:lnTo>
                    <a:lnTo>
                      <a:pt x="408" y="15"/>
                    </a:lnTo>
                    <a:lnTo>
                      <a:pt x="385" y="30"/>
                    </a:lnTo>
                    <a:lnTo>
                      <a:pt x="362" y="45"/>
                    </a:lnTo>
                    <a:lnTo>
                      <a:pt x="338" y="59"/>
                    </a:lnTo>
                    <a:lnTo>
                      <a:pt x="313" y="74"/>
                    </a:lnTo>
                    <a:lnTo>
                      <a:pt x="287" y="87"/>
                    </a:lnTo>
                    <a:lnTo>
                      <a:pt x="261" y="99"/>
                    </a:lnTo>
                    <a:lnTo>
                      <a:pt x="233" y="110"/>
                    </a:lnTo>
                    <a:lnTo>
                      <a:pt x="206" y="119"/>
                    </a:lnTo>
                    <a:lnTo>
                      <a:pt x="177" y="126"/>
                    </a:lnTo>
                    <a:lnTo>
                      <a:pt x="164" y="128"/>
                    </a:lnTo>
                    <a:lnTo>
                      <a:pt x="150" y="130"/>
                    </a:lnTo>
                    <a:lnTo>
                      <a:pt x="136" y="131"/>
                    </a:lnTo>
                    <a:lnTo>
                      <a:pt x="123" y="131"/>
                    </a:lnTo>
                    <a:lnTo>
                      <a:pt x="109" y="131"/>
                    </a:lnTo>
                    <a:lnTo>
                      <a:pt x="96" y="130"/>
                    </a:lnTo>
                    <a:lnTo>
                      <a:pt x="83" y="128"/>
                    </a:lnTo>
                    <a:lnTo>
                      <a:pt x="69" y="126"/>
                    </a:lnTo>
                    <a:lnTo>
                      <a:pt x="57" y="122"/>
                    </a:lnTo>
                    <a:lnTo>
                      <a:pt x="43" y="118"/>
                    </a:lnTo>
                    <a:lnTo>
                      <a:pt x="30" y="113"/>
                    </a:lnTo>
                    <a:lnTo>
                      <a:pt x="18" y="106"/>
                    </a:lnTo>
                    <a:lnTo>
                      <a:pt x="22" y="123"/>
                    </a:lnTo>
                    <a:lnTo>
                      <a:pt x="18" y="106"/>
                    </a:lnTo>
                    <a:lnTo>
                      <a:pt x="12" y="105"/>
                    </a:lnTo>
                    <a:lnTo>
                      <a:pt x="8" y="105"/>
                    </a:lnTo>
                    <a:lnTo>
                      <a:pt x="4" y="107"/>
                    </a:lnTo>
                    <a:lnTo>
                      <a:pt x="2" y="112"/>
                    </a:lnTo>
                    <a:lnTo>
                      <a:pt x="0" y="115"/>
                    </a:lnTo>
                    <a:lnTo>
                      <a:pt x="1" y="120"/>
                    </a:lnTo>
                    <a:lnTo>
                      <a:pt x="2" y="124"/>
                    </a:lnTo>
                    <a:lnTo>
                      <a:pt x="6" y="128"/>
                    </a:lnTo>
                    <a:lnTo>
                      <a:pt x="2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946240" y="3872160"/>
                <a:ext cx="84240" cy="77760"/>
              </a:xfrm>
              <a:custGeom>
                <a:avLst/>
                <a:gdLst/>
                <a:ahLst/>
                <a:rect l="l" t="t" r="r" b="b"/>
                <a:pathLst>
                  <a:path w="268" h="249">
                    <a:moveTo>
                      <a:pt x="267" y="1"/>
                    </a:moveTo>
                    <a:lnTo>
                      <a:pt x="268" y="1"/>
                    </a:lnTo>
                    <a:lnTo>
                      <a:pt x="253" y="0"/>
                    </a:lnTo>
                    <a:lnTo>
                      <a:pt x="239" y="1"/>
                    </a:lnTo>
                    <a:lnTo>
                      <a:pt x="227" y="2"/>
                    </a:lnTo>
                    <a:lnTo>
                      <a:pt x="214" y="3"/>
                    </a:lnTo>
                    <a:lnTo>
                      <a:pt x="202" y="7"/>
                    </a:lnTo>
                    <a:lnTo>
                      <a:pt x="190" y="10"/>
                    </a:lnTo>
                    <a:lnTo>
                      <a:pt x="179" y="14"/>
                    </a:lnTo>
                    <a:lnTo>
                      <a:pt x="167" y="19"/>
                    </a:lnTo>
                    <a:lnTo>
                      <a:pt x="157" y="25"/>
                    </a:lnTo>
                    <a:lnTo>
                      <a:pt x="147" y="30"/>
                    </a:lnTo>
                    <a:lnTo>
                      <a:pt x="138" y="37"/>
                    </a:lnTo>
                    <a:lnTo>
                      <a:pt x="127" y="44"/>
                    </a:lnTo>
                    <a:lnTo>
                      <a:pt x="112" y="60"/>
                    </a:lnTo>
                    <a:lnTo>
                      <a:pt x="96" y="77"/>
                    </a:lnTo>
                    <a:lnTo>
                      <a:pt x="81" y="95"/>
                    </a:lnTo>
                    <a:lnTo>
                      <a:pt x="67" y="115"/>
                    </a:lnTo>
                    <a:lnTo>
                      <a:pt x="55" y="135"/>
                    </a:lnTo>
                    <a:lnTo>
                      <a:pt x="42" y="156"/>
                    </a:lnTo>
                    <a:lnTo>
                      <a:pt x="20" y="197"/>
                    </a:lnTo>
                    <a:lnTo>
                      <a:pt x="0" y="238"/>
                    </a:lnTo>
                    <a:lnTo>
                      <a:pt x="20" y="249"/>
                    </a:lnTo>
                    <a:lnTo>
                      <a:pt x="42" y="208"/>
                    </a:lnTo>
                    <a:lnTo>
                      <a:pt x="64" y="167"/>
                    </a:lnTo>
                    <a:lnTo>
                      <a:pt x="75" y="148"/>
                    </a:lnTo>
                    <a:lnTo>
                      <a:pt x="88" y="128"/>
                    </a:lnTo>
                    <a:lnTo>
                      <a:pt x="100" y="110"/>
                    </a:lnTo>
                    <a:lnTo>
                      <a:pt x="114" y="93"/>
                    </a:lnTo>
                    <a:lnTo>
                      <a:pt x="129" y="77"/>
                    </a:lnTo>
                    <a:lnTo>
                      <a:pt x="143" y="62"/>
                    </a:lnTo>
                    <a:lnTo>
                      <a:pt x="151" y="57"/>
                    </a:lnTo>
                    <a:lnTo>
                      <a:pt x="161" y="51"/>
                    </a:lnTo>
                    <a:lnTo>
                      <a:pt x="169" y="45"/>
                    </a:lnTo>
                    <a:lnTo>
                      <a:pt x="178" y="41"/>
                    </a:lnTo>
                    <a:lnTo>
                      <a:pt x="188" y="36"/>
                    </a:lnTo>
                    <a:lnTo>
                      <a:pt x="197" y="33"/>
                    </a:lnTo>
                    <a:lnTo>
                      <a:pt x="207" y="29"/>
                    </a:lnTo>
                    <a:lnTo>
                      <a:pt x="219" y="27"/>
                    </a:lnTo>
                    <a:lnTo>
                      <a:pt x="229" y="26"/>
                    </a:lnTo>
                    <a:lnTo>
                      <a:pt x="240" y="25"/>
                    </a:lnTo>
                    <a:lnTo>
                      <a:pt x="253" y="25"/>
                    </a:lnTo>
                    <a:lnTo>
                      <a:pt x="265" y="25"/>
                    </a:lnTo>
                    <a:lnTo>
                      <a:pt x="265" y="25"/>
                    </a:lnTo>
                    <a:lnTo>
                      <a:pt x="26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2986200" y="3821400"/>
                <a:ext cx="52200" cy="5868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0" y="7"/>
                    </a:moveTo>
                    <a:lnTo>
                      <a:pt x="0" y="7"/>
                    </a:lnTo>
                    <a:lnTo>
                      <a:pt x="3" y="17"/>
                    </a:lnTo>
                    <a:lnTo>
                      <a:pt x="6" y="28"/>
                    </a:lnTo>
                    <a:lnTo>
                      <a:pt x="12" y="37"/>
                    </a:lnTo>
                    <a:lnTo>
                      <a:pt x="18" y="46"/>
                    </a:lnTo>
                    <a:lnTo>
                      <a:pt x="29" y="64"/>
                    </a:lnTo>
                    <a:lnTo>
                      <a:pt x="43" y="80"/>
                    </a:lnTo>
                    <a:lnTo>
                      <a:pt x="58" y="96"/>
                    </a:lnTo>
                    <a:lnTo>
                      <a:pt x="73" y="110"/>
                    </a:lnTo>
                    <a:lnTo>
                      <a:pt x="87" y="123"/>
                    </a:lnTo>
                    <a:lnTo>
                      <a:pt x="102" y="136"/>
                    </a:lnTo>
                    <a:lnTo>
                      <a:pt x="126" y="155"/>
                    </a:lnTo>
                    <a:lnTo>
                      <a:pt x="141" y="169"/>
                    </a:lnTo>
                    <a:lnTo>
                      <a:pt x="141" y="170"/>
                    </a:lnTo>
                    <a:lnTo>
                      <a:pt x="141" y="170"/>
                    </a:lnTo>
                    <a:lnTo>
                      <a:pt x="141" y="166"/>
                    </a:lnTo>
                    <a:lnTo>
                      <a:pt x="143" y="161"/>
                    </a:lnTo>
                    <a:lnTo>
                      <a:pt x="146" y="160"/>
                    </a:lnTo>
                    <a:lnTo>
                      <a:pt x="146" y="160"/>
                    </a:lnTo>
                    <a:lnTo>
                      <a:pt x="142" y="160"/>
                    </a:lnTo>
                    <a:lnTo>
                      <a:pt x="138" y="160"/>
                    </a:lnTo>
                    <a:lnTo>
                      <a:pt x="136" y="184"/>
                    </a:lnTo>
                    <a:lnTo>
                      <a:pt x="143" y="184"/>
                    </a:lnTo>
                    <a:lnTo>
                      <a:pt x="149" y="184"/>
                    </a:lnTo>
                    <a:lnTo>
                      <a:pt x="155" y="181"/>
                    </a:lnTo>
                    <a:lnTo>
                      <a:pt x="160" y="178"/>
                    </a:lnTo>
                    <a:lnTo>
                      <a:pt x="165" y="170"/>
                    </a:lnTo>
                    <a:lnTo>
                      <a:pt x="164" y="162"/>
                    </a:lnTo>
                    <a:lnTo>
                      <a:pt x="161" y="158"/>
                    </a:lnTo>
                    <a:lnTo>
                      <a:pt x="158" y="152"/>
                    </a:lnTo>
                    <a:lnTo>
                      <a:pt x="142" y="137"/>
                    </a:lnTo>
                    <a:lnTo>
                      <a:pt x="118" y="116"/>
                    </a:lnTo>
                    <a:lnTo>
                      <a:pt x="103" y="105"/>
                    </a:lnTo>
                    <a:lnTo>
                      <a:pt x="90" y="93"/>
                    </a:lnTo>
                    <a:lnTo>
                      <a:pt x="75" y="79"/>
                    </a:lnTo>
                    <a:lnTo>
                      <a:pt x="61" y="64"/>
                    </a:lnTo>
                    <a:lnTo>
                      <a:pt x="49" y="49"/>
                    </a:lnTo>
                    <a:lnTo>
                      <a:pt x="37" y="33"/>
                    </a:lnTo>
                    <a:lnTo>
                      <a:pt x="33" y="25"/>
                    </a:lnTo>
                    <a:lnTo>
                      <a:pt x="29" y="17"/>
                    </a:lnTo>
                    <a:lnTo>
                      <a:pt x="26" y="8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2984400" y="376272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74" h="193">
                    <a:moveTo>
                      <a:pt x="67" y="3"/>
                    </a:moveTo>
                    <a:lnTo>
                      <a:pt x="51" y="7"/>
                    </a:lnTo>
                    <a:lnTo>
                      <a:pt x="41" y="28"/>
                    </a:lnTo>
                    <a:lnTo>
                      <a:pt x="30" y="49"/>
                    </a:lnTo>
                    <a:lnTo>
                      <a:pt x="19" y="72"/>
                    </a:lnTo>
                    <a:lnTo>
                      <a:pt x="11" y="95"/>
                    </a:lnTo>
                    <a:lnTo>
                      <a:pt x="8" y="106"/>
                    </a:lnTo>
                    <a:lnTo>
                      <a:pt x="4" y="119"/>
                    </a:lnTo>
                    <a:lnTo>
                      <a:pt x="2" y="131"/>
                    </a:lnTo>
                    <a:lnTo>
                      <a:pt x="1" y="144"/>
                    </a:lnTo>
                    <a:lnTo>
                      <a:pt x="0" y="157"/>
                    </a:lnTo>
                    <a:lnTo>
                      <a:pt x="1" y="168"/>
                    </a:lnTo>
                    <a:lnTo>
                      <a:pt x="2" y="181"/>
                    </a:lnTo>
                    <a:lnTo>
                      <a:pt x="6" y="193"/>
                    </a:lnTo>
                    <a:lnTo>
                      <a:pt x="28" y="186"/>
                    </a:lnTo>
                    <a:lnTo>
                      <a:pt x="26" y="176"/>
                    </a:lnTo>
                    <a:lnTo>
                      <a:pt x="25" y="167"/>
                    </a:lnTo>
                    <a:lnTo>
                      <a:pt x="24" y="157"/>
                    </a:lnTo>
                    <a:lnTo>
                      <a:pt x="25" y="145"/>
                    </a:lnTo>
                    <a:lnTo>
                      <a:pt x="26" y="135"/>
                    </a:lnTo>
                    <a:lnTo>
                      <a:pt x="28" y="125"/>
                    </a:lnTo>
                    <a:lnTo>
                      <a:pt x="31" y="113"/>
                    </a:lnTo>
                    <a:lnTo>
                      <a:pt x="34" y="103"/>
                    </a:lnTo>
                    <a:lnTo>
                      <a:pt x="42" y="81"/>
                    </a:lnTo>
                    <a:lnTo>
                      <a:pt x="51" y="60"/>
                    </a:lnTo>
                    <a:lnTo>
                      <a:pt x="63" y="39"/>
                    </a:lnTo>
                    <a:lnTo>
                      <a:pt x="73" y="19"/>
                    </a:lnTo>
                    <a:lnTo>
                      <a:pt x="57" y="23"/>
                    </a:lnTo>
                    <a:lnTo>
                      <a:pt x="73" y="19"/>
                    </a:lnTo>
                    <a:lnTo>
                      <a:pt x="74" y="14"/>
                    </a:lnTo>
                    <a:lnTo>
                      <a:pt x="74" y="8"/>
                    </a:lnTo>
                    <a:lnTo>
                      <a:pt x="72" y="5"/>
                    </a:lnTo>
                    <a:lnTo>
                      <a:pt x="67" y="3"/>
                    </a:lnTo>
                    <a:lnTo>
                      <a:pt x="64" y="0"/>
                    </a:lnTo>
                    <a:lnTo>
                      <a:pt x="59" y="2"/>
                    </a:lnTo>
                    <a:lnTo>
                      <a:pt x="55" y="3"/>
                    </a:lnTo>
                    <a:lnTo>
                      <a:pt x="51" y="7"/>
                    </a:lnTo>
                    <a:lnTo>
                      <a:pt x="67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003480" y="376272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264" h="304">
                    <a:moveTo>
                      <a:pt x="252" y="280"/>
                    </a:moveTo>
                    <a:lnTo>
                      <a:pt x="263" y="294"/>
                    </a:lnTo>
                    <a:lnTo>
                      <a:pt x="264" y="279"/>
                    </a:lnTo>
                    <a:lnTo>
                      <a:pt x="264" y="265"/>
                    </a:lnTo>
                    <a:lnTo>
                      <a:pt x="263" y="253"/>
                    </a:lnTo>
                    <a:lnTo>
                      <a:pt x="261" y="239"/>
                    </a:lnTo>
                    <a:lnTo>
                      <a:pt x="259" y="227"/>
                    </a:lnTo>
                    <a:lnTo>
                      <a:pt x="255" y="215"/>
                    </a:lnTo>
                    <a:lnTo>
                      <a:pt x="251" y="203"/>
                    </a:lnTo>
                    <a:lnTo>
                      <a:pt x="246" y="191"/>
                    </a:lnTo>
                    <a:lnTo>
                      <a:pt x="240" y="180"/>
                    </a:lnTo>
                    <a:lnTo>
                      <a:pt x="234" y="170"/>
                    </a:lnTo>
                    <a:lnTo>
                      <a:pt x="227" y="159"/>
                    </a:lnTo>
                    <a:lnTo>
                      <a:pt x="220" y="149"/>
                    </a:lnTo>
                    <a:lnTo>
                      <a:pt x="204" y="130"/>
                    </a:lnTo>
                    <a:lnTo>
                      <a:pt x="186" y="111"/>
                    </a:lnTo>
                    <a:lnTo>
                      <a:pt x="166" y="95"/>
                    </a:lnTo>
                    <a:lnTo>
                      <a:pt x="146" y="79"/>
                    </a:lnTo>
                    <a:lnTo>
                      <a:pt x="124" y="65"/>
                    </a:lnTo>
                    <a:lnTo>
                      <a:pt x="101" y="50"/>
                    </a:lnTo>
                    <a:lnTo>
                      <a:pt x="56" y="24"/>
                    </a:lnTo>
                    <a:lnTo>
                      <a:pt x="10" y="0"/>
                    </a:lnTo>
                    <a:lnTo>
                      <a:pt x="0" y="20"/>
                    </a:lnTo>
                    <a:lnTo>
                      <a:pt x="44" y="45"/>
                    </a:lnTo>
                    <a:lnTo>
                      <a:pt x="89" y="70"/>
                    </a:lnTo>
                    <a:lnTo>
                      <a:pt x="110" y="84"/>
                    </a:lnTo>
                    <a:lnTo>
                      <a:pt x="131" y="99"/>
                    </a:lnTo>
                    <a:lnTo>
                      <a:pt x="150" y="114"/>
                    </a:lnTo>
                    <a:lnTo>
                      <a:pt x="169" y="130"/>
                    </a:lnTo>
                    <a:lnTo>
                      <a:pt x="186" y="147"/>
                    </a:lnTo>
                    <a:lnTo>
                      <a:pt x="200" y="164"/>
                    </a:lnTo>
                    <a:lnTo>
                      <a:pt x="207" y="173"/>
                    </a:lnTo>
                    <a:lnTo>
                      <a:pt x="213" y="182"/>
                    </a:lnTo>
                    <a:lnTo>
                      <a:pt x="219" y="191"/>
                    </a:lnTo>
                    <a:lnTo>
                      <a:pt x="224" y="201"/>
                    </a:lnTo>
                    <a:lnTo>
                      <a:pt x="228" y="212"/>
                    </a:lnTo>
                    <a:lnTo>
                      <a:pt x="232" y="222"/>
                    </a:lnTo>
                    <a:lnTo>
                      <a:pt x="235" y="232"/>
                    </a:lnTo>
                    <a:lnTo>
                      <a:pt x="237" y="244"/>
                    </a:lnTo>
                    <a:lnTo>
                      <a:pt x="239" y="255"/>
                    </a:lnTo>
                    <a:lnTo>
                      <a:pt x="239" y="266"/>
                    </a:lnTo>
                    <a:lnTo>
                      <a:pt x="239" y="279"/>
                    </a:lnTo>
                    <a:lnTo>
                      <a:pt x="239" y="292"/>
                    </a:lnTo>
                    <a:lnTo>
                      <a:pt x="251" y="304"/>
                    </a:lnTo>
                    <a:lnTo>
                      <a:pt x="239" y="292"/>
                    </a:lnTo>
                    <a:lnTo>
                      <a:pt x="239" y="296"/>
                    </a:lnTo>
                    <a:lnTo>
                      <a:pt x="242" y="301"/>
                    </a:lnTo>
                    <a:lnTo>
                      <a:pt x="245" y="303"/>
                    </a:lnTo>
                    <a:lnTo>
                      <a:pt x="250" y="304"/>
                    </a:lnTo>
                    <a:lnTo>
                      <a:pt x="254" y="304"/>
                    </a:lnTo>
                    <a:lnTo>
                      <a:pt x="259" y="302"/>
                    </a:lnTo>
                    <a:lnTo>
                      <a:pt x="261" y="298"/>
                    </a:lnTo>
                    <a:lnTo>
                      <a:pt x="263" y="294"/>
                    </a:lnTo>
                    <a:lnTo>
                      <a:pt x="252" y="28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083040" y="384984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305" h="230">
                    <a:moveTo>
                      <a:pt x="240" y="228"/>
                    </a:moveTo>
                    <a:lnTo>
                      <a:pt x="256" y="223"/>
                    </a:lnTo>
                    <a:lnTo>
                      <a:pt x="270" y="199"/>
                    </a:lnTo>
                    <a:lnTo>
                      <a:pt x="280" y="176"/>
                    </a:lnTo>
                    <a:lnTo>
                      <a:pt x="289" y="154"/>
                    </a:lnTo>
                    <a:lnTo>
                      <a:pt x="295" y="135"/>
                    </a:lnTo>
                    <a:lnTo>
                      <a:pt x="301" y="117"/>
                    </a:lnTo>
                    <a:lnTo>
                      <a:pt x="303" y="101"/>
                    </a:lnTo>
                    <a:lnTo>
                      <a:pt x="305" y="86"/>
                    </a:lnTo>
                    <a:lnTo>
                      <a:pt x="304" y="71"/>
                    </a:lnTo>
                    <a:lnTo>
                      <a:pt x="302" y="59"/>
                    </a:lnTo>
                    <a:lnTo>
                      <a:pt x="298" y="47"/>
                    </a:lnTo>
                    <a:lnTo>
                      <a:pt x="291" y="37"/>
                    </a:lnTo>
                    <a:lnTo>
                      <a:pt x="285" y="28"/>
                    </a:lnTo>
                    <a:lnTo>
                      <a:pt x="275" y="21"/>
                    </a:lnTo>
                    <a:lnTo>
                      <a:pt x="265" y="15"/>
                    </a:lnTo>
                    <a:lnTo>
                      <a:pt x="255" y="11"/>
                    </a:lnTo>
                    <a:lnTo>
                      <a:pt x="242" y="7"/>
                    </a:lnTo>
                    <a:lnTo>
                      <a:pt x="230" y="4"/>
                    </a:lnTo>
                    <a:lnTo>
                      <a:pt x="217" y="3"/>
                    </a:lnTo>
                    <a:lnTo>
                      <a:pt x="204" y="2"/>
                    </a:lnTo>
                    <a:lnTo>
                      <a:pt x="189" y="0"/>
                    </a:lnTo>
                    <a:lnTo>
                      <a:pt x="159" y="0"/>
                    </a:lnTo>
                    <a:lnTo>
                      <a:pt x="128" y="3"/>
                    </a:lnTo>
                    <a:lnTo>
                      <a:pt x="97" y="4"/>
                    </a:lnTo>
                    <a:lnTo>
                      <a:pt x="63" y="6"/>
                    </a:lnTo>
                    <a:lnTo>
                      <a:pt x="32" y="6"/>
                    </a:lnTo>
                    <a:lnTo>
                      <a:pt x="1" y="6"/>
                    </a:lnTo>
                    <a:lnTo>
                      <a:pt x="0" y="30"/>
                    </a:lnTo>
                    <a:lnTo>
                      <a:pt x="32" y="31"/>
                    </a:lnTo>
                    <a:lnTo>
                      <a:pt x="65" y="30"/>
                    </a:lnTo>
                    <a:lnTo>
                      <a:pt x="98" y="28"/>
                    </a:lnTo>
                    <a:lnTo>
                      <a:pt x="130" y="27"/>
                    </a:lnTo>
                    <a:lnTo>
                      <a:pt x="160" y="25"/>
                    </a:lnTo>
                    <a:lnTo>
                      <a:pt x="189" y="24"/>
                    </a:lnTo>
                    <a:lnTo>
                      <a:pt x="203" y="25"/>
                    </a:lnTo>
                    <a:lnTo>
                      <a:pt x="215" y="27"/>
                    </a:lnTo>
                    <a:lnTo>
                      <a:pt x="226" y="28"/>
                    </a:lnTo>
                    <a:lnTo>
                      <a:pt x="237" y="30"/>
                    </a:lnTo>
                    <a:lnTo>
                      <a:pt x="246" y="33"/>
                    </a:lnTo>
                    <a:lnTo>
                      <a:pt x="255" y="37"/>
                    </a:lnTo>
                    <a:lnTo>
                      <a:pt x="262" y="40"/>
                    </a:lnTo>
                    <a:lnTo>
                      <a:pt x="267" y="46"/>
                    </a:lnTo>
                    <a:lnTo>
                      <a:pt x="272" y="51"/>
                    </a:lnTo>
                    <a:lnTo>
                      <a:pt x="275" y="57"/>
                    </a:lnTo>
                    <a:lnTo>
                      <a:pt x="279" y="65"/>
                    </a:lnTo>
                    <a:lnTo>
                      <a:pt x="280" y="73"/>
                    </a:lnTo>
                    <a:lnTo>
                      <a:pt x="280" y="85"/>
                    </a:lnTo>
                    <a:lnTo>
                      <a:pt x="279" y="97"/>
                    </a:lnTo>
                    <a:lnTo>
                      <a:pt x="277" y="111"/>
                    </a:lnTo>
                    <a:lnTo>
                      <a:pt x="272" y="128"/>
                    </a:lnTo>
                    <a:lnTo>
                      <a:pt x="266" y="145"/>
                    </a:lnTo>
                    <a:lnTo>
                      <a:pt x="257" y="166"/>
                    </a:lnTo>
                    <a:lnTo>
                      <a:pt x="248" y="187"/>
                    </a:lnTo>
                    <a:lnTo>
                      <a:pt x="236" y="212"/>
                    </a:lnTo>
                    <a:lnTo>
                      <a:pt x="252" y="207"/>
                    </a:lnTo>
                    <a:lnTo>
                      <a:pt x="236" y="212"/>
                    </a:lnTo>
                    <a:lnTo>
                      <a:pt x="233" y="217"/>
                    </a:lnTo>
                    <a:lnTo>
                      <a:pt x="234" y="222"/>
                    </a:lnTo>
                    <a:lnTo>
                      <a:pt x="237" y="225"/>
                    </a:lnTo>
                    <a:lnTo>
                      <a:pt x="240" y="228"/>
                    </a:lnTo>
                    <a:lnTo>
                      <a:pt x="245" y="230"/>
                    </a:lnTo>
                    <a:lnTo>
                      <a:pt x="249" y="230"/>
                    </a:lnTo>
                    <a:lnTo>
                      <a:pt x="253" y="227"/>
                    </a:lnTo>
                    <a:lnTo>
                      <a:pt x="256" y="223"/>
                    </a:lnTo>
                    <a:lnTo>
                      <a:pt x="240" y="2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119400" y="389592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0" y="11"/>
                    </a:moveTo>
                    <a:lnTo>
                      <a:pt x="7" y="23"/>
                    </a:lnTo>
                    <a:lnTo>
                      <a:pt x="124" y="85"/>
                    </a:lnTo>
                    <a:lnTo>
                      <a:pt x="136" y="64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2585880" y="1905120"/>
              <a:ext cx="3961080" cy="2592360"/>
              <a:chOff x="2585880" y="1905120"/>
              <a:chExt cx="3961080" cy="2592360"/>
            </a:xfrm>
          </p:grpSpPr>
          <p:sp>
            <p:nvSpPr>
              <p:cNvPr id="2461" name=""/>
              <p:cNvSpPr/>
              <p:nvPr/>
            </p:nvSpPr>
            <p:spPr>
              <a:xfrm>
                <a:off x="3098880" y="389916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87" h="346">
                    <a:moveTo>
                      <a:pt x="7" y="345"/>
                    </a:moveTo>
                    <a:lnTo>
                      <a:pt x="23" y="339"/>
                    </a:lnTo>
                    <a:lnTo>
                      <a:pt x="34" y="317"/>
                    </a:lnTo>
                    <a:lnTo>
                      <a:pt x="45" y="294"/>
                    </a:lnTo>
                    <a:lnTo>
                      <a:pt x="53" y="273"/>
                    </a:lnTo>
                    <a:lnTo>
                      <a:pt x="59" y="251"/>
                    </a:lnTo>
                    <a:lnTo>
                      <a:pt x="65" y="229"/>
                    </a:lnTo>
                    <a:lnTo>
                      <a:pt x="70" y="209"/>
                    </a:lnTo>
                    <a:lnTo>
                      <a:pt x="73" y="187"/>
                    </a:lnTo>
                    <a:lnTo>
                      <a:pt x="77" y="167"/>
                    </a:lnTo>
                    <a:lnTo>
                      <a:pt x="80" y="125"/>
                    </a:lnTo>
                    <a:lnTo>
                      <a:pt x="82" y="84"/>
                    </a:lnTo>
                    <a:lnTo>
                      <a:pt x="85" y="44"/>
                    </a:lnTo>
                    <a:lnTo>
                      <a:pt x="87" y="3"/>
                    </a:lnTo>
                    <a:lnTo>
                      <a:pt x="63" y="0"/>
                    </a:lnTo>
                    <a:lnTo>
                      <a:pt x="61" y="41"/>
                    </a:lnTo>
                    <a:lnTo>
                      <a:pt x="58" y="82"/>
                    </a:lnTo>
                    <a:lnTo>
                      <a:pt x="56" y="123"/>
                    </a:lnTo>
                    <a:lnTo>
                      <a:pt x="51" y="163"/>
                    </a:lnTo>
                    <a:lnTo>
                      <a:pt x="49" y="184"/>
                    </a:lnTo>
                    <a:lnTo>
                      <a:pt x="46" y="203"/>
                    </a:lnTo>
                    <a:lnTo>
                      <a:pt x="41" y="224"/>
                    </a:lnTo>
                    <a:lnTo>
                      <a:pt x="36" y="244"/>
                    </a:lnTo>
                    <a:lnTo>
                      <a:pt x="30" y="265"/>
                    </a:lnTo>
                    <a:lnTo>
                      <a:pt x="22" y="285"/>
                    </a:lnTo>
                    <a:lnTo>
                      <a:pt x="13" y="307"/>
                    </a:lnTo>
                    <a:lnTo>
                      <a:pt x="2" y="329"/>
                    </a:lnTo>
                    <a:lnTo>
                      <a:pt x="18" y="323"/>
                    </a:lnTo>
                    <a:lnTo>
                      <a:pt x="2" y="329"/>
                    </a:lnTo>
                    <a:lnTo>
                      <a:pt x="0" y="333"/>
                    </a:lnTo>
                    <a:lnTo>
                      <a:pt x="1" y="338"/>
                    </a:lnTo>
                    <a:lnTo>
                      <a:pt x="4" y="342"/>
                    </a:lnTo>
                    <a:lnTo>
                      <a:pt x="7" y="345"/>
                    </a:lnTo>
                    <a:lnTo>
                      <a:pt x="12" y="346"/>
                    </a:lnTo>
                    <a:lnTo>
                      <a:pt x="16" y="346"/>
                    </a:lnTo>
                    <a:lnTo>
                      <a:pt x="20" y="343"/>
                    </a:lnTo>
                    <a:lnTo>
                      <a:pt x="23" y="339"/>
                    </a:lnTo>
                    <a:lnTo>
                      <a:pt x="7" y="3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059280" y="3978360"/>
                <a:ext cx="45720" cy="30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0" y="11"/>
                    </a:moveTo>
                    <a:lnTo>
                      <a:pt x="6" y="23"/>
                    </a:lnTo>
                    <a:lnTo>
                      <a:pt x="134" y="93"/>
                    </a:lnTo>
                    <a:lnTo>
                      <a:pt x="145" y="71"/>
                    </a:lnTo>
                    <a:lnTo>
                      <a:pt x="18" y="1"/>
                    </a:lnTo>
                    <a:lnTo>
                      <a:pt x="0" y="11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6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059280" y="391032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87" h="228">
                    <a:moveTo>
                      <a:pt x="83" y="22"/>
                    </a:moveTo>
                    <a:lnTo>
                      <a:pt x="69" y="1"/>
                    </a:lnTo>
                    <a:lnTo>
                      <a:pt x="62" y="7"/>
                    </a:lnTo>
                    <a:lnTo>
                      <a:pt x="55" y="11"/>
                    </a:lnTo>
                    <a:lnTo>
                      <a:pt x="49" y="18"/>
                    </a:lnTo>
                    <a:lnTo>
                      <a:pt x="43" y="25"/>
                    </a:lnTo>
                    <a:lnTo>
                      <a:pt x="33" y="38"/>
                    </a:lnTo>
                    <a:lnTo>
                      <a:pt x="25" y="52"/>
                    </a:lnTo>
                    <a:lnTo>
                      <a:pt x="18" y="68"/>
                    </a:lnTo>
                    <a:lnTo>
                      <a:pt x="13" y="84"/>
                    </a:lnTo>
                    <a:lnTo>
                      <a:pt x="9" y="100"/>
                    </a:lnTo>
                    <a:lnTo>
                      <a:pt x="6" y="117"/>
                    </a:lnTo>
                    <a:lnTo>
                      <a:pt x="3" y="149"/>
                    </a:lnTo>
                    <a:lnTo>
                      <a:pt x="2" y="179"/>
                    </a:lnTo>
                    <a:lnTo>
                      <a:pt x="1" y="205"/>
                    </a:lnTo>
                    <a:lnTo>
                      <a:pt x="0" y="225"/>
                    </a:lnTo>
                    <a:lnTo>
                      <a:pt x="23" y="228"/>
                    </a:lnTo>
                    <a:lnTo>
                      <a:pt x="26" y="206"/>
                    </a:lnTo>
                    <a:lnTo>
                      <a:pt x="26" y="180"/>
                    </a:lnTo>
                    <a:lnTo>
                      <a:pt x="27" y="150"/>
                    </a:lnTo>
                    <a:lnTo>
                      <a:pt x="30" y="120"/>
                    </a:lnTo>
                    <a:lnTo>
                      <a:pt x="33" y="105"/>
                    </a:lnTo>
                    <a:lnTo>
                      <a:pt x="36" y="90"/>
                    </a:lnTo>
                    <a:lnTo>
                      <a:pt x="41" y="76"/>
                    </a:lnTo>
                    <a:lnTo>
                      <a:pt x="46" y="63"/>
                    </a:lnTo>
                    <a:lnTo>
                      <a:pt x="53" y="51"/>
                    </a:lnTo>
                    <a:lnTo>
                      <a:pt x="61" y="40"/>
                    </a:lnTo>
                    <a:lnTo>
                      <a:pt x="66" y="35"/>
                    </a:lnTo>
                    <a:lnTo>
                      <a:pt x="70" y="31"/>
                    </a:lnTo>
                    <a:lnTo>
                      <a:pt x="76" y="26"/>
                    </a:lnTo>
                    <a:lnTo>
                      <a:pt x="82" y="22"/>
                    </a:lnTo>
                    <a:lnTo>
                      <a:pt x="68" y="2"/>
                    </a:lnTo>
                    <a:lnTo>
                      <a:pt x="82" y="22"/>
                    </a:lnTo>
                    <a:lnTo>
                      <a:pt x="86" y="18"/>
                    </a:lnTo>
                    <a:lnTo>
                      <a:pt x="87" y="15"/>
                    </a:lnTo>
                    <a:lnTo>
                      <a:pt x="87" y="10"/>
                    </a:lnTo>
                    <a:lnTo>
                      <a:pt x="86" y="6"/>
                    </a:lnTo>
                    <a:lnTo>
                      <a:pt x="83" y="2"/>
                    </a:lnTo>
                    <a:lnTo>
                      <a:pt x="79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83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222960" y="3876840"/>
                <a:ext cx="320760" cy="190440"/>
              </a:xfrm>
              <a:custGeom>
                <a:avLst/>
                <a:gdLst/>
                <a:ahLst/>
                <a:rect l="l" t="t" r="r" b="b"/>
                <a:pathLst>
                  <a:path w="1011" h="602">
                    <a:moveTo>
                      <a:pt x="454" y="190"/>
                    </a:moveTo>
                    <a:lnTo>
                      <a:pt x="469" y="210"/>
                    </a:lnTo>
                    <a:lnTo>
                      <a:pt x="486" y="229"/>
                    </a:lnTo>
                    <a:lnTo>
                      <a:pt x="505" y="249"/>
                    </a:lnTo>
                    <a:lnTo>
                      <a:pt x="524" y="269"/>
                    </a:lnTo>
                    <a:lnTo>
                      <a:pt x="546" y="288"/>
                    </a:lnTo>
                    <a:lnTo>
                      <a:pt x="567" y="308"/>
                    </a:lnTo>
                    <a:lnTo>
                      <a:pt x="591" y="326"/>
                    </a:lnTo>
                    <a:lnTo>
                      <a:pt x="615" y="344"/>
                    </a:lnTo>
                    <a:lnTo>
                      <a:pt x="640" y="362"/>
                    </a:lnTo>
                    <a:lnTo>
                      <a:pt x="666" y="378"/>
                    </a:lnTo>
                    <a:lnTo>
                      <a:pt x="691" y="394"/>
                    </a:lnTo>
                    <a:lnTo>
                      <a:pt x="718" y="409"/>
                    </a:lnTo>
                    <a:lnTo>
                      <a:pt x="744" y="423"/>
                    </a:lnTo>
                    <a:lnTo>
                      <a:pt x="770" y="435"/>
                    </a:lnTo>
                    <a:lnTo>
                      <a:pt x="795" y="446"/>
                    </a:lnTo>
                    <a:lnTo>
                      <a:pt x="820" y="455"/>
                    </a:lnTo>
                    <a:lnTo>
                      <a:pt x="819" y="420"/>
                    </a:lnTo>
                    <a:lnTo>
                      <a:pt x="817" y="389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799" y="310"/>
                    </a:lnTo>
                    <a:lnTo>
                      <a:pt x="792" y="288"/>
                    </a:lnTo>
                    <a:lnTo>
                      <a:pt x="783" y="269"/>
                    </a:lnTo>
                    <a:lnTo>
                      <a:pt x="773" y="252"/>
                    </a:lnTo>
                    <a:lnTo>
                      <a:pt x="764" y="237"/>
                    </a:lnTo>
                    <a:lnTo>
                      <a:pt x="755" y="223"/>
                    </a:lnTo>
                    <a:lnTo>
                      <a:pt x="746" y="212"/>
                    </a:lnTo>
                    <a:lnTo>
                      <a:pt x="737" y="203"/>
                    </a:lnTo>
                    <a:lnTo>
                      <a:pt x="722" y="188"/>
                    </a:lnTo>
                    <a:lnTo>
                      <a:pt x="712" y="179"/>
                    </a:lnTo>
                    <a:lnTo>
                      <a:pt x="709" y="175"/>
                    </a:lnTo>
                    <a:lnTo>
                      <a:pt x="707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6" y="174"/>
                    </a:lnTo>
                    <a:lnTo>
                      <a:pt x="752" y="178"/>
                    </a:lnTo>
                    <a:lnTo>
                      <a:pt x="792" y="181"/>
                    </a:lnTo>
                    <a:lnTo>
                      <a:pt x="846" y="186"/>
                    </a:lnTo>
                    <a:lnTo>
                      <a:pt x="881" y="187"/>
                    </a:lnTo>
                    <a:lnTo>
                      <a:pt x="919" y="189"/>
                    </a:lnTo>
                    <a:lnTo>
                      <a:pt x="963" y="189"/>
                    </a:lnTo>
                    <a:lnTo>
                      <a:pt x="1011" y="190"/>
                    </a:lnTo>
                    <a:lnTo>
                      <a:pt x="1009" y="171"/>
                    </a:lnTo>
                    <a:lnTo>
                      <a:pt x="1005" y="154"/>
                    </a:lnTo>
                    <a:lnTo>
                      <a:pt x="999" y="138"/>
                    </a:lnTo>
                    <a:lnTo>
                      <a:pt x="990" y="124"/>
                    </a:lnTo>
                    <a:lnTo>
                      <a:pt x="979" y="110"/>
                    </a:lnTo>
                    <a:lnTo>
                      <a:pt x="965" y="98"/>
                    </a:lnTo>
                    <a:lnTo>
                      <a:pt x="950" y="86"/>
                    </a:lnTo>
                    <a:lnTo>
                      <a:pt x="933" y="77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3" y="52"/>
                    </a:lnTo>
                    <a:lnTo>
                      <a:pt x="850" y="47"/>
                    </a:lnTo>
                    <a:lnTo>
                      <a:pt x="826" y="41"/>
                    </a:lnTo>
                    <a:lnTo>
                      <a:pt x="802" y="35"/>
                    </a:lnTo>
                    <a:lnTo>
                      <a:pt x="777" y="32"/>
                    </a:lnTo>
                    <a:lnTo>
                      <a:pt x="751" y="27"/>
                    </a:lnTo>
                    <a:lnTo>
                      <a:pt x="697" y="21"/>
                    </a:lnTo>
                    <a:lnTo>
                      <a:pt x="644" y="17"/>
                    </a:lnTo>
                    <a:lnTo>
                      <a:pt x="591" y="15"/>
                    </a:lnTo>
                    <a:lnTo>
                      <a:pt x="540" y="11"/>
                    </a:lnTo>
                    <a:lnTo>
                      <a:pt x="492" y="9"/>
                    </a:lnTo>
                    <a:lnTo>
                      <a:pt x="449" y="7"/>
                    </a:lnTo>
                    <a:lnTo>
                      <a:pt x="410" y="3"/>
                    </a:lnTo>
                    <a:lnTo>
                      <a:pt x="379" y="0"/>
                    </a:lnTo>
                    <a:lnTo>
                      <a:pt x="372" y="8"/>
                    </a:lnTo>
                    <a:lnTo>
                      <a:pt x="365" y="17"/>
                    </a:lnTo>
                    <a:lnTo>
                      <a:pt x="356" y="27"/>
                    </a:lnTo>
                    <a:lnTo>
                      <a:pt x="346" y="37"/>
                    </a:lnTo>
                    <a:lnTo>
                      <a:pt x="322" y="60"/>
                    </a:lnTo>
                    <a:lnTo>
                      <a:pt x="295" y="84"/>
                    </a:lnTo>
                    <a:lnTo>
                      <a:pt x="233" y="135"/>
                    </a:lnTo>
                    <a:lnTo>
                      <a:pt x="167" y="190"/>
                    </a:lnTo>
                    <a:lnTo>
                      <a:pt x="135" y="219"/>
                    </a:lnTo>
                    <a:lnTo>
                      <a:pt x="104" y="245"/>
                    </a:lnTo>
                    <a:lnTo>
                      <a:pt x="76" y="272"/>
                    </a:lnTo>
                    <a:lnTo>
                      <a:pt x="51" y="297"/>
                    </a:lnTo>
                    <a:lnTo>
                      <a:pt x="40" y="310"/>
                    </a:lnTo>
                    <a:lnTo>
                      <a:pt x="29" y="321"/>
                    </a:lnTo>
                    <a:lnTo>
                      <a:pt x="20" y="333"/>
                    </a:lnTo>
                    <a:lnTo>
                      <a:pt x="13" y="344"/>
                    </a:lnTo>
                    <a:lnTo>
                      <a:pt x="8" y="354"/>
                    </a:lnTo>
                    <a:lnTo>
                      <a:pt x="3" y="365"/>
                    </a:lnTo>
                    <a:lnTo>
                      <a:pt x="1" y="374"/>
                    </a:lnTo>
                    <a:lnTo>
                      <a:pt x="0" y="382"/>
                    </a:lnTo>
                    <a:lnTo>
                      <a:pt x="26" y="386"/>
                    </a:lnTo>
                    <a:lnTo>
                      <a:pt x="52" y="389"/>
                    </a:lnTo>
                    <a:lnTo>
                      <a:pt x="78" y="389"/>
                    </a:lnTo>
                    <a:lnTo>
                      <a:pt x="103" y="387"/>
                    </a:lnTo>
                    <a:lnTo>
                      <a:pt x="128" y="385"/>
                    </a:lnTo>
                    <a:lnTo>
                      <a:pt x="152" y="381"/>
                    </a:lnTo>
                    <a:lnTo>
                      <a:pt x="176" y="374"/>
                    </a:lnTo>
                    <a:lnTo>
                      <a:pt x="199" y="367"/>
                    </a:lnTo>
                    <a:lnTo>
                      <a:pt x="222" y="358"/>
                    </a:lnTo>
                    <a:lnTo>
                      <a:pt x="245" y="347"/>
                    </a:lnTo>
                    <a:lnTo>
                      <a:pt x="267" y="336"/>
                    </a:lnTo>
                    <a:lnTo>
                      <a:pt x="290" y="324"/>
                    </a:lnTo>
                    <a:lnTo>
                      <a:pt x="312" y="310"/>
                    </a:lnTo>
                    <a:lnTo>
                      <a:pt x="335" y="296"/>
                    </a:lnTo>
                    <a:lnTo>
                      <a:pt x="356" y="280"/>
                    </a:lnTo>
                    <a:lnTo>
                      <a:pt x="379" y="264"/>
                    </a:lnTo>
                    <a:lnTo>
                      <a:pt x="378" y="310"/>
                    </a:lnTo>
                    <a:lnTo>
                      <a:pt x="375" y="359"/>
                    </a:lnTo>
                    <a:lnTo>
                      <a:pt x="372" y="408"/>
                    </a:lnTo>
                    <a:lnTo>
                      <a:pt x="371" y="456"/>
                    </a:lnTo>
                    <a:lnTo>
                      <a:pt x="372" y="479"/>
                    </a:lnTo>
                    <a:lnTo>
                      <a:pt x="373" y="500"/>
                    </a:lnTo>
                    <a:lnTo>
                      <a:pt x="376" y="522"/>
                    </a:lnTo>
                    <a:lnTo>
                      <a:pt x="379" y="541"/>
                    </a:lnTo>
                    <a:lnTo>
                      <a:pt x="385" y="560"/>
                    </a:lnTo>
                    <a:lnTo>
                      <a:pt x="391" y="575"/>
                    </a:lnTo>
                    <a:lnTo>
                      <a:pt x="395" y="583"/>
                    </a:lnTo>
                    <a:lnTo>
                      <a:pt x="400" y="590"/>
                    </a:lnTo>
                    <a:lnTo>
                      <a:pt x="404" y="596"/>
                    </a:lnTo>
                    <a:lnTo>
                      <a:pt x="410" y="602"/>
                    </a:lnTo>
                    <a:lnTo>
                      <a:pt x="454" y="602"/>
                    </a:lnTo>
                    <a:lnTo>
                      <a:pt x="466" y="560"/>
                    </a:lnTo>
                    <a:lnTo>
                      <a:pt x="478" y="517"/>
                    </a:lnTo>
                    <a:lnTo>
                      <a:pt x="484" y="497"/>
                    </a:lnTo>
                    <a:lnTo>
                      <a:pt x="490" y="475"/>
                    </a:lnTo>
                    <a:lnTo>
                      <a:pt x="494" y="453"/>
                    </a:lnTo>
                    <a:lnTo>
                      <a:pt x="497" y="431"/>
                    </a:lnTo>
                    <a:lnTo>
                      <a:pt x="499" y="407"/>
                    </a:lnTo>
                    <a:lnTo>
                      <a:pt x="500" y="381"/>
                    </a:lnTo>
                    <a:lnTo>
                      <a:pt x="498" y="354"/>
                    </a:lnTo>
                    <a:lnTo>
                      <a:pt x="494" y="326"/>
                    </a:lnTo>
                    <a:lnTo>
                      <a:pt x="489" y="295"/>
                    </a:lnTo>
                    <a:lnTo>
                      <a:pt x="481" y="262"/>
                    </a:lnTo>
                    <a:lnTo>
                      <a:pt x="469" y="228"/>
                    </a:lnTo>
                    <a:lnTo>
                      <a:pt x="454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364440" y="3935520"/>
                <a:ext cx="122040" cy="88920"/>
              </a:xfrm>
              <a:custGeom>
                <a:avLst/>
                <a:gdLst/>
                <a:ahLst/>
                <a:rect l="l" t="t" r="r" b="b"/>
                <a:pathLst>
                  <a:path w="388" h="284">
                    <a:moveTo>
                      <a:pt x="363" y="272"/>
                    </a:moveTo>
                    <a:lnTo>
                      <a:pt x="379" y="260"/>
                    </a:lnTo>
                    <a:lnTo>
                      <a:pt x="355" y="251"/>
                    </a:lnTo>
                    <a:lnTo>
                      <a:pt x="330" y="241"/>
                    </a:lnTo>
                    <a:lnTo>
                      <a:pt x="305" y="228"/>
                    </a:lnTo>
                    <a:lnTo>
                      <a:pt x="278" y="216"/>
                    </a:lnTo>
                    <a:lnTo>
                      <a:pt x="253" y="201"/>
                    </a:lnTo>
                    <a:lnTo>
                      <a:pt x="227" y="185"/>
                    </a:lnTo>
                    <a:lnTo>
                      <a:pt x="202" y="169"/>
                    </a:lnTo>
                    <a:lnTo>
                      <a:pt x="178" y="152"/>
                    </a:lnTo>
                    <a:lnTo>
                      <a:pt x="153" y="134"/>
                    </a:lnTo>
                    <a:lnTo>
                      <a:pt x="130" y="115"/>
                    </a:lnTo>
                    <a:lnTo>
                      <a:pt x="109" y="96"/>
                    </a:lnTo>
                    <a:lnTo>
                      <a:pt x="88" y="77"/>
                    </a:lnTo>
                    <a:lnTo>
                      <a:pt x="67" y="57"/>
                    </a:lnTo>
                    <a:lnTo>
                      <a:pt x="50" y="38"/>
                    </a:lnTo>
                    <a:lnTo>
                      <a:pt x="34" y="19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15" y="33"/>
                    </a:lnTo>
                    <a:lnTo>
                      <a:pt x="32" y="54"/>
                    </a:lnTo>
                    <a:lnTo>
                      <a:pt x="50" y="74"/>
                    </a:lnTo>
                    <a:lnTo>
                      <a:pt x="71" y="95"/>
                    </a:lnTo>
                    <a:lnTo>
                      <a:pt x="93" y="114"/>
                    </a:lnTo>
                    <a:lnTo>
                      <a:pt x="115" y="134"/>
                    </a:lnTo>
                    <a:lnTo>
                      <a:pt x="139" y="153"/>
                    </a:lnTo>
                    <a:lnTo>
                      <a:pt x="163" y="171"/>
                    </a:lnTo>
                    <a:lnTo>
                      <a:pt x="188" y="188"/>
                    </a:lnTo>
                    <a:lnTo>
                      <a:pt x="215" y="206"/>
                    </a:lnTo>
                    <a:lnTo>
                      <a:pt x="241" y="221"/>
                    </a:lnTo>
                    <a:lnTo>
                      <a:pt x="267" y="236"/>
                    </a:lnTo>
                    <a:lnTo>
                      <a:pt x="293" y="250"/>
                    </a:lnTo>
                    <a:lnTo>
                      <a:pt x="319" y="263"/>
                    </a:lnTo>
                    <a:lnTo>
                      <a:pt x="346" y="274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6" y="284"/>
                    </a:lnTo>
                    <a:lnTo>
                      <a:pt x="381" y="283"/>
                    </a:lnTo>
                    <a:lnTo>
                      <a:pt x="384" y="280"/>
                    </a:lnTo>
                    <a:lnTo>
                      <a:pt x="387" y="276"/>
                    </a:lnTo>
                    <a:lnTo>
                      <a:pt x="388" y="272"/>
                    </a:lnTo>
                    <a:lnTo>
                      <a:pt x="387" y="267"/>
                    </a:lnTo>
                    <a:lnTo>
                      <a:pt x="384" y="263"/>
                    </a:lnTo>
                    <a:lnTo>
                      <a:pt x="379" y="260"/>
                    </a:lnTo>
                    <a:lnTo>
                      <a:pt x="363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443640" y="3927600"/>
                <a:ext cx="103320" cy="93960"/>
              </a:xfrm>
              <a:custGeom>
                <a:avLst/>
                <a:gdLst/>
                <a:ahLst/>
                <a:rect l="l" t="t" r="r" b="b"/>
                <a:pathLst>
                  <a:path w="328" h="294">
                    <a:moveTo>
                      <a:pt x="304" y="29"/>
                    </a:moveTo>
                    <a:lnTo>
                      <a:pt x="316" y="17"/>
                    </a:lnTo>
                    <a:lnTo>
                      <a:pt x="268" y="17"/>
                    </a:lnTo>
                    <a:lnTo>
                      <a:pt x="224" y="15"/>
                    </a:lnTo>
                    <a:lnTo>
                      <a:pt x="186" y="14"/>
                    </a:lnTo>
                    <a:lnTo>
                      <a:pt x="153" y="12"/>
                    </a:lnTo>
                    <a:lnTo>
                      <a:pt x="97" y="9"/>
                    </a:lnTo>
                    <a:lnTo>
                      <a:pt x="58" y="4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10" y="1"/>
                    </a:lnTo>
                    <a:lnTo>
                      <a:pt x="0" y="14"/>
                    </a:lnTo>
                    <a:lnTo>
                      <a:pt x="4" y="22"/>
                    </a:lnTo>
                    <a:lnTo>
                      <a:pt x="9" y="27"/>
                    </a:lnTo>
                    <a:lnTo>
                      <a:pt x="19" y="36"/>
                    </a:lnTo>
                    <a:lnTo>
                      <a:pt x="33" y="50"/>
                    </a:lnTo>
                    <a:lnTo>
                      <a:pt x="42" y="59"/>
                    </a:lnTo>
                    <a:lnTo>
                      <a:pt x="50" y="70"/>
                    </a:lnTo>
                    <a:lnTo>
                      <a:pt x="59" y="83"/>
                    </a:lnTo>
                    <a:lnTo>
                      <a:pt x="68" y="96"/>
                    </a:lnTo>
                    <a:lnTo>
                      <a:pt x="76" y="114"/>
                    </a:lnTo>
                    <a:lnTo>
                      <a:pt x="85" y="132"/>
                    </a:lnTo>
                    <a:lnTo>
                      <a:pt x="92" y="152"/>
                    </a:lnTo>
                    <a:lnTo>
                      <a:pt x="99" y="175"/>
                    </a:lnTo>
                    <a:lnTo>
                      <a:pt x="105" y="201"/>
                    </a:lnTo>
                    <a:lnTo>
                      <a:pt x="109" y="229"/>
                    </a:lnTo>
                    <a:lnTo>
                      <a:pt x="113" y="261"/>
                    </a:lnTo>
                    <a:lnTo>
                      <a:pt x="113" y="294"/>
                    </a:lnTo>
                    <a:lnTo>
                      <a:pt x="138" y="294"/>
                    </a:lnTo>
                    <a:lnTo>
                      <a:pt x="137" y="258"/>
                    </a:lnTo>
                    <a:lnTo>
                      <a:pt x="133" y="226"/>
                    </a:lnTo>
                    <a:lnTo>
                      <a:pt x="129" y="197"/>
                    </a:lnTo>
                    <a:lnTo>
                      <a:pt x="123" y="169"/>
                    </a:lnTo>
                    <a:lnTo>
                      <a:pt x="116" y="145"/>
                    </a:lnTo>
                    <a:lnTo>
                      <a:pt x="107" y="123"/>
                    </a:lnTo>
                    <a:lnTo>
                      <a:pt x="99" y="102"/>
                    </a:lnTo>
                    <a:lnTo>
                      <a:pt x="89" y="85"/>
                    </a:lnTo>
                    <a:lnTo>
                      <a:pt x="80" y="69"/>
                    </a:lnTo>
                    <a:lnTo>
                      <a:pt x="69" y="55"/>
                    </a:lnTo>
                    <a:lnTo>
                      <a:pt x="60" y="44"/>
                    </a:lnTo>
                    <a:lnTo>
                      <a:pt x="51" y="34"/>
                    </a:lnTo>
                    <a:lnTo>
                      <a:pt x="35" y="18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5" y="12"/>
                    </a:lnTo>
                    <a:lnTo>
                      <a:pt x="17" y="23"/>
                    </a:lnTo>
                    <a:lnTo>
                      <a:pt x="16" y="23"/>
                    </a:lnTo>
                    <a:lnTo>
                      <a:pt x="29" y="26"/>
                    </a:lnTo>
                    <a:lnTo>
                      <a:pt x="56" y="28"/>
                    </a:lnTo>
                    <a:lnTo>
                      <a:pt x="96" y="33"/>
                    </a:lnTo>
                    <a:lnTo>
                      <a:pt x="150" y="36"/>
                    </a:lnTo>
                    <a:lnTo>
                      <a:pt x="184" y="38"/>
                    </a:lnTo>
                    <a:lnTo>
                      <a:pt x="223" y="39"/>
                    </a:lnTo>
                    <a:lnTo>
                      <a:pt x="268" y="41"/>
                    </a:lnTo>
                    <a:lnTo>
                      <a:pt x="316" y="41"/>
                    </a:lnTo>
                    <a:lnTo>
                      <a:pt x="328" y="29"/>
                    </a:lnTo>
                    <a:lnTo>
                      <a:pt x="316" y="41"/>
                    </a:lnTo>
                    <a:lnTo>
                      <a:pt x="321" y="39"/>
                    </a:lnTo>
                    <a:lnTo>
                      <a:pt x="325" y="37"/>
                    </a:lnTo>
                    <a:lnTo>
                      <a:pt x="327" y="34"/>
                    </a:lnTo>
                    <a:lnTo>
                      <a:pt x="328" y="29"/>
                    </a:lnTo>
                    <a:lnTo>
                      <a:pt x="327" y="25"/>
                    </a:lnTo>
                    <a:lnTo>
                      <a:pt x="325" y="20"/>
                    </a:lnTo>
                    <a:lnTo>
                      <a:pt x="321" y="18"/>
                    </a:lnTo>
                    <a:lnTo>
                      <a:pt x="316" y="17"/>
                    </a:lnTo>
                    <a:lnTo>
                      <a:pt x="304" y="2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338880" y="3872160"/>
                <a:ext cx="208080" cy="65160"/>
              </a:xfrm>
              <a:custGeom>
                <a:avLst/>
                <a:gdLst/>
                <a:ahLst/>
                <a:rect l="l" t="t" r="r" b="b"/>
                <a:pathLst>
                  <a:path w="656" h="203">
                    <a:moveTo>
                      <a:pt x="21" y="18"/>
                    </a:moveTo>
                    <a:lnTo>
                      <a:pt x="10" y="24"/>
                    </a:lnTo>
                    <a:lnTo>
                      <a:pt x="42" y="29"/>
                    </a:lnTo>
                    <a:lnTo>
                      <a:pt x="81" y="32"/>
                    </a:lnTo>
                    <a:lnTo>
                      <a:pt x="125" y="34"/>
                    </a:lnTo>
                    <a:lnTo>
                      <a:pt x="173" y="37"/>
                    </a:lnTo>
                    <a:lnTo>
                      <a:pt x="224" y="39"/>
                    </a:lnTo>
                    <a:lnTo>
                      <a:pt x="277" y="42"/>
                    </a:lnTo>
                    <a:lnTo>
                      <a:pt x="329" y="47"/>
                    </a:lnTo>
                    <a:lnTo>
                      <a:pt x="383" y="53"/>
                    </a:lnTo>
                    <a:lnTo>
                      <a:pt x="408" y="56"/>
                    </a:lnTo>
                    <a:lnTo>
                      <a:pt x="433" y="61"/>
                    </a:lnTo>
                    <a:lnTo>
                      <a:pt x="457" y="65"/>
                    </a:lnTo>
                    <a:lnTo>
                      <a:pt x="479" y="71"/>
                    </a:lnTo>
                    <a:lnTo>
                      <a:pt x="502" y="77"/>
                    </a:lnTo>
                    <a:lnTo>
                      <a:pt x="523" y="85"/>
                    </a:lnTo>
                    <a:lnTo>
                      <a:pt x="542" y="93"/>
                    </a:lnTo>
                    <a:lnTo>
                      <a:pt x="560" y="101"/>
                    </a:lnTo>
                    <a:lnTo>
                      <a:pt x="576" y="110"/>
                    </a:lnTo>
                    <a:lnTo>
                      <a:pt x="591" y="121"/>
                    </a:lnTo>
                    <a:lnTo>
                      <a:pt x="597" y="126"/>
                    </a:lnTo>
                    <a:lnTo>
                      <a:pt x="603" y="131"/>
                    </a:lnTo>
                    <a:lnTo>
                      <a:pt x="608" y="137"/>
                    </a:lnTo>
                    <a:lnTo>
                      <a:pt x="613" y="144"/>
                    </a:lnTo>
                    <a:lnTo>
                      <a:pt x="617" y="150"/>
                    </a:lnTo>
                    <a:lnTo>
                      <a:pt x="621" y="156"/>
                    </a:lnTo>
                    <a:lnTo>
                      <a:pt x="624" y="163"/>
                    </a:lnTo>
                    <a:lnTo>
                      <a:pt x="626" y="171"/>
                    </a:lnTo>
                    <a:lnTo>
                      <a:pt x="629" y="178"/>
                    </a:lnTo>
                    <a:lnTo>
                      <a:pt x="630" y="186"/>
                    </a:lnTo>
                    <a:lnTo>
                      <a:pt x="631" y="194"/>
                    </a:lnTo>
                    <a:lnTo>
                      <a:pt x="632" y="203"/>
                    </a:lnTo>
                    <a:lnTo>
                      <a:pt x="656" y="203"/>
                    </a:lnTo>
                    <a:lnTo>
                      <a:pt x="655" y="193"/>
                    </a:lnTo>
                    <a:lnTo>
                      <a:pt x="654" y="183"/>
                    </a:lnTo>
                    <a:lnTo>
                      <a:pt x="653" y="172"/>
                    </a:lnTo>
                    <a:lnTo>
                      <a:pt x="649" y="163"/>
                    </a:lnTo>
                    <a:lnTo>
                      <a:pt x="647" y="154"/>
                    </a:lnTo>
                    <a:lnTo>
                      <a:pt x="642" y="145"/>
                    </a:lnTo>
                    <a:lnTo>
                      <a:pt x="638" y="137"/>
                    </a:lnTo>
                    <a:lnTo>
                      <a:pt x="632" y="129"/>
                    </a:lnTo>
                    <a:lnTo>
                      <a:pt x="626" y="122"/>
                    </a:lnTo>
                    <a:lnTo>
                      <a:pt x="620" y="115"/>
                    </a:lnTo>
                    <a:lnTo>
                      <a:pt x="613" y="109"/>
                    </a:lnTo>
                    <a:lnTo>
                      <a:pt x="606" y="102"/>
                    </a:lnTo>
                    <a:lnTo>
                      <a:pt x="590" y="90"/>
                    </a:lnTo>
                    <a:lnTo>
                      <a:pt x="572" y="79"/>
                    </a:lnTo>
                    <a:lnTo>
                      <a:pt x="552" y="70"/>
                    </a:lnTo>
                    <a:lnTo>
                      <a:pt x="531" y="62"/>
                    </a:lnTo>
                    <a:lnTo>
                      <a:pt x="509" y="54"/>
                    </a:lnTo>
                    <a:lnTo>
                      <a:pt x="486" y="47"/>
                    </a:lnTo>
                    <a:lnTo>
                      <a:pt x="462" y="41"/>
                    </a:lnTo>
                    <a:lnTo>
                      <a:pt x="437" y="37"/>
                    </a:lnTo>
                    <a:lnTo>
                      <a:pt x="411" y="32"/>
                    </a:lnTo>
                    <a:lnTo>
                      <a:pt x="385" y="29"/>
                    </a:lnTo>
                    <a:lnTo>
                      <a:pt x="331" y="23"/>
                    </a:lnTo>
                    <a:lnTo>
                      <a:pt x="278" y="18"/>
                    </a:lnTo>
                    <a:lnTo>
                      <a:pt x="225" y="15"/>
                    </a:lnTo>
                    <a:lnTo>
                      <a:pt x="174" y="13"/>
                    </a:lnTo>
                    <a:lnTo>
                      <a:pt x="126" y="10"/>
                    </a:lnTo>
                    <a:lnTo>
                      <a:pt x="83" y="8"/>
                    </a:lnTo>
                    <a:lnTo>
                      <a:pt x="44" y="5"/>
                    </a:lnTo>
                    <a:lnTo>
                      <a:pt x="13" y="0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" y="18"/>
                    </a:lnTo>
                    <a:lnTo>
                      <a:pt x="4" y="22"/>
                    </a:lnTo>
                    <a:lnTo>
                      <a:pt x="10" y="24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218280" y="3875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401" h="401">
                    <a:moveTo>
                      <a:pt x="15" y="377"/>
                    </a:moveTo>
                    <a:lnTo>
                      <a:pt x="24" y="389"/>
                    </a:lnTo>
                    <a:lnTo>
                      <a:pt x="25" y="383"/>
                    </a:lnTo>
                    <a:lnTo>
                      <a:pt x="27" y="375"/>
                    </a:lnTo>
                    <a:lnTo>
                      <a:pt x="31" y="367"/>
                    </a:lnTo>
                    <a:lnTo>
                      <a:pt x="37" y="357"/>
                    </a:lnTo>
                    <a:lnTo>
                      <a:pt x="43" y="346"/>
                    </a:lnTo>
                    <a:lnTo>
                      <a:pt x="51" y="336"/>
                    </a:lnTo>
                    <a:lnTo>
                      <a:pt x="62" y="325"/>
                    </a:lnTo>
                    <a:lnTo>
                      <a:pt x="72" y="312"/>
                    </a:lnTo>
                    <a:lnTo>
                      <a:pt x="97" y="287"/>
                    </a:lnTo>
                    <a:lnTo>
                      <a:pt x="125" y="261"/>
                    </a:lnTo>
                    <a:lnTo>
                      <a:pt x="156" y="235"/>
                    </a:lnTo>
                    <a:lnTo>
                      <a:pt x="188" y="207"/>
                    </a:lnTo>
                    <a:lnTo>
                      <a:pt x="254" y="153"/>
                    </a:lnTo>
                    <a:lnTo>
                      <a:pt x="316" y="100"/>
                    </a:lnTo>
                    <a:lnTo>
                      <a:pt x="343" y="75"/>
                    </a:lnTo>
                    <a:lnTo>
                      <a:pt x="367" y="54"/>
                    </a:lnTo>
                    <a:lnTo>
                      <a:pt x="377" y="42"/>
                    </a:lnTo>
                    <a:lnTo>
                      <a:pt x="388" y="32"/>
                    </a:lnTo>
                    <a:lnTo>
                      <a:pt x="396" y="23"/>
                    </a:lnTo>
                    <a:lnTo>
                      <a:pt x="401" y="12"/>
                    </a:lnTo>
                    <a:lnTo>
                      <a:pt x="382" y="0"/>
                    </a:lnTo>
                    <a:lnTo>
                      <a:pt x="376" y="8"/>
                    </a:lnTo>
                    <a:lnTo>
                      <a:pt x="368" y="16"/>
                    </a:lnTo>
                    <a:lnTo>
                      <a:pt x="360" y="26"/>
                    </a:lnTo>
                    <a:lnTo>
                      <a:pt x="350" y="35"/>
                    </a:lnTo>
                    <a:lnTo>
                      <a:pt x="327" y="58"/>
                    </a:lnTo>
                    <a:lnTo>
                      <a:pt x="300" y="82"/>
                    </a:lnTo>
                    <a:lnTo>
                      <a:pt x="238" y="133"/>
                    </a:lnTo>
                    <a:lnTo>
                      <a:pt x="173" y="188"/>
                    </a:lnTo>
                    <a:lnTo>
                      <a:pt x="140" y="217"/>
                    </a:lnTo>
                    <a:lnTo>
                      <a:pt x="110" y="244"/>
                    </a:lnTo>
                    <a:lnTo>
                      <a:pt x="80" y="270"/>
                    </a:lnTo>
                    <a:lnTo>
                      <a:pt x="55" y="296"/>
                    </a:lnTo>
                    <a:lnTo>
                      <a:pt x="43" y="309"/>
                    </a:lnTo>
                    <a:lnTo>
                      <a:pt x="33" y="321"/>
                    </a:lnTo>
                    <a:lnTo>
                      <a:pt x="24" y="333"/>
                    </a:lnTo>
                    <a:lnTo>
                      <a:pt x="16" y="344"/>
                    </a:lnTo>
                    <a:lnTo>
                      <a:pt x="9" y="356"/>
                    </a:lnTo>
                    <a:lnTo>
                      <a:pt x="5" y="367"/>
                    </a:lnTo>
                    <a:lnTo>
                      <a:pt x="1" y="378"/>
                    </a:lnTo>
                    <a:lnTo>
                      <a:pt x="0" y="389"/>
                    </a:lnTo>
                    <a:lnTo>
                      <a:pt x="10" y="401"/>
                    </a:lnTo>
                    <a:lnTo>
                      <a:pt x="0" y="389"/>
                    </a:lnTo>
                    <a:lnTo>
                      <a:pt x="1" y="394"/>
                    </a:lnTo>
                    <a:lnTo>
                      <a:pt x="4" y="398"/>
                    </a:lnTo>
                    <a:lnTo>
                      <a:pt x="8" y="400"/>
                    </a:lnTo>
                    <a:lnTo>
                      <a:pt x="13" y="401"/>
                    </a:lnTo>
                    <a:lnTo>
                      <a:pt x="17" y="400"/>
                    </a:lnTo>
                    <a:lnTo>
                      <a:pt x="21" y="398"/>
                    </a:lnTo>
                    <a:lnTo>
                      <a:pt x="23" y="394"/>
                    </a:lnTo>
                    <a:lnTo>
                      <a:pt x="24" y="389"/>
                    </a:lnTo>
                    <a:lnTo>
                      <a:pt x="15" y="3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221520" y="395640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4" y="3"/>
                    </a:lnTo>
                    <a:lnTo>
                      <a:pt x="353" y="19"/>
                    </a:lnTo>
                    <a:lnTo>
                      <a:pt x="331" y="34"/>
                    </a:lnTo>
                    <a:lnTo>
                      <a:pt x="309" y="48"/>
                    </a:lnTo>
                    <a:lnTo>
                      <a:pt x="288" y="61"/>
                    </a:lnTo>
                    <a:lnTo>
                      <a:pt x="265" y="74"/>
                    </a:lnTo>
                    <a:lnTo>
                      <a:pt x="243" y="85"/>
                    </a:lnTo>
                    <a:lnTo>
                      <a:pt x="220" y="94"/>
                    </a:lnTo>
                    <a:lnTo>
                      <a:pt x="199" y="103"/>
                    </a:lnTo>
                    <a:lnTo>
                      <a:pt x="176" y="110"/>
                    </a:lnTo>
                    <a:lnTo>
                      <a:pt x="153" y="116"/>
                    </a:lnTo>
                    <a:lnTo>
                      <a:pt x="129" y="121"/>
                    </a:lnTo>
                    <a:lnTo>
                      <a:pt x="105" y="124"/>
                    </a:lnTo>
                    <a:lnTo>
                      <a:pt x="81" y="125"/>
                    </a:lnTo>
                    <a:lnTo>
                      <a:pt x="56" y="124"/>
                    </a:lnTo>
                    <a:lnTo>
                      <a:pt x="31" y="122"/>
                    </a:lnTo>
                    <a:lnTo>
                      <a:pt x="5" y="118"/>
                    </a:lnTo>
                    <a:lnTo>
                      <a:pt x="0" y="142"/>
                    </a:lnTo>
                    <a:lnTo>
                      <a:pt x="28" y="147"/>
                    </a:lnTo>
                    <a:lnTo>
                      <a:pt x="55" y="149"/>
                    </a:lnTo>
                    <a:lnTo>
                      <a:pt x="81" y="149"/>
                    </a:lnTo>
                    <a:lnTo>
                      <a:pt x="107" y="148"/>
                    </a:lnTo>
                    <a:lnTo>
                      <a:pt x="133" y="144"/>
                    </a:lnTo>
                    <a:lnTo>
                      <a:pt x="158" y="140"/>
                    </a:lnTo>
                    <a:lnTo>
                      <a:pt x="183" y="134"/>
                    </a:lnTo>
                    <a:lnTo>
                      <a:pt x="207" y="126"/>
                    </a:lnTo>
                    <a:lnTo>
                      <a:pt x="231" y="117"/>
                    </a:lnTo>
                    <a:lnTo>
                      <a:pt x="253" y="107"/>
                    </a:lnTo>
                    <a:lnTo>
                      <a:pt x="276" y="95"/>
                    </a:lnTo>
                    <a:lnTo>
                      <a:pt x="299" y="82"/>
                    </a:lnTo>
                    <a:lnTo>
                      <a:pt x="322" y="68"/>
                    </a:lnTo>
                    <a:lnTo>
                      <a:pt x="345" y="54"/>
                    </a:lnTo>
                    <a:lnTo>
                      <a:pt x="366" y="38"/>
                    </a:lnTo>
                    <a:lnTo>
                      <a:pt x="389" y="21"/>
                    </a:lnTo>
                    <a:lnTo>
                      <a:pt x="370" y="12"/>
                    </a:lnTo>
                    <a:lnTo>
                      <a:pt x="389" y="21"/>
                    </a:lnTo>
                    <a:lnTo>
                      <a:pt x="392" y="18"/>
                    </a:lnTo>
                    <a:lnTo>
                      <a:pt x="394" y="13"/>
                    </a:lnTo>
                    <a:lnTo>
                      <a:pt x="394" y="9"/>
                    </a:lnTo>
                    <a:lnTo>
                      <a:pt x="391" y="5"/>
                    </a:lnTo>
                    <a:lnTo>
                      <a:pt x="388" y="2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4" y="3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337440" y="3961080"/>
                <a:ext cx="19080" cy="111240"/>
              </a:xfrm>
              <a:custGeom>
                <a:avLst/>
                <a:gdLst/>
                <a:ahLst/>
                <a:rect l="l" t="t" r="r" b="b"/>
                <a:pathLst>
                  <a:path w="62" h="350">
                    <a:moveTo>
                      <a:pt x="50" y="326"/>
                    </a:moveTo>
                    <a:lnTo>
                      <a:pt x="58" y="330"/>
                    </a:lnTo>
                    <a:lnTo>
                      <a:pt x="53" y="324"/>
                    </a:lnTo>
                    <a:lnTo>
                      <a:pt x="49" y="318"/>
                    </a:lnTo>
                    <a:lnTo>
                      <a:pt x="45" y="313"/>
                    </a:lnTo>
                    <a:lnTo>
                      <a:pt x="42" y="307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7" y="256"/>
                    </a:lnTo>
                    <a:lnTo>
                      <a:pt x="25" y="235"/>
                    </a:lnTo>
                    <a:lnTo>
                      <a:pt x="24" y="213"/>
                    </a:lnTo>
                    <a:lnTo>
                      <a:pt x="24" y="192"/>
                    </a:lnTo>
                    <a:lnTo>
                      <a:pt x="25" y="144"/>
                    </a:lnTo>
                    <a:lnTo>
                      <a:pt x="27" y="95"/>
                    </a:lnTo>
                    <a:lnTo>
                      <a:pt x="29" y="47"/>
                    </a:lnTo>
                    <a:lnTo>
                      <a:pt x="31" y="0"/>
                    </a:lnTo>
                    <a:lnTo>
                      <a:pt x="7" y="0"/>
                    </a:lnTo>
                    <a:lnTo>
                      <a:pt x="5" y="46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0" y="215"/>
                    </a:lnTo>
                    <a:lnTo>
                      <a:pt x="1" y="237"/>
                    </a:lnTo>
                    <a:lnTo>
                      <a:pt x="3" y="259"/>
                    </a:lnTo>
                    <a:lnTo>
                      <a:pt x="8" y="280"/>
                    </a:lnTo>
                    <a:lnTo>
                      <a:pt x="13" y="299"/>
                    </a:lnTo>
                    <a:lnTo>
                      <a:pt x="20" y="316"/>
                    </a:lnTo>
                    <a:lnTo>
                      <a:pt x="25" y="325"/>
                    </a:lnTo>
                    <a:lnTo>
                      <a:pt x="29" y="333"/>
                    </a:lnTo>
                    <a:lnTo>
                      <a:pt x="35" y="340"/>
                    </a:lnTo>
                    <a:lnTo>
                      <a:pt x="42" y="347"/>
                    </a:lnTo>
                    <a:lnTo>
                      <a:pt x="50" y="350"/>
                    </a:lnTo>
                    <a:lnTo>
                      <a:pt x="42" y="347"/>
                    </a:lnTo>
                    <a:lnTo>
                      <a:pt x="45" y="349"/>
                    </a:lnTo>
                    <a:lnTo>
                      <a:pt x="51" y="350"/>
                    </a:lnTo>
                    <a:lnTo>
                      <a:pt x="54" y="349"/>
                    </a:lnTo>
                    <a:lnTo>
                      <a:pt x="58" y="347"/>
                    </a:lnTo>
                    <a:lnTo>
                      <a:pt x="61" y="342"/>
                    </a:lnTo>
                    <a:lnTo>
                      <a:pt x="62" y="339"/>
                    </a:lnTo>
                    <a:lnTo>
                      <a:pt x="61" y="334"/>
                    </a:lnTo>
                    <a:lnTo>
                      <a:pt x="58" y="330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353280" y="4064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5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57" y="15"/>
                    </a:lnTo>
                    <a:lnTo>
                      <a:pt x="44" y="24"/>
                    </a:lnTo>
                    <a:lnTo>
                      <a:pt x="50" y="23"/>
                    </a:lnTo>
                    <a:lnTo>
                      <a:pt x="53" y="21"/>
                    </a:lnTo>
                    <a:lnTo>
                      <a:pt x="56" y="16"/>
                    </a:lnTo>
                    <a:lnTo>
                      <a:pt x="57" y="12"/>
                    </a:lnTo>
                    <a:lnTo>
                      <a:pt x="56" y="7"/>
                    </a:lnTo>
                    <a:lnTo>
                      <a:pt x="53" y="4"/>
                    </a:lnTo>
                    <a:lnTo>
                      <a:pt x="50" y="1"/>
                    </a:lnTo>
                    <a:lnTo>
                      <a:pt x="44" y="0"/>
                    </a:lnTo>
                    <a:lnTo>
                      <a:pt x="57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362640" y="3934080"/>
                <a:ext cx="22320" cy="135000"/>
              </a:xfrm>
              <a:custGeom>
                <a:avLst/>
                <a:gdLst/>
                <a:ahLst/>
                <a:rect l="l" t="t" r="r" b="b"/>
                <a:pathLst>
                  <a:path w="68" h="427">
                    <a:moveTo>
                      <a:pt x="22" y="5"/>
                    </a:moveTo>
                    <a:lnTo>
                      <a:pt x="1" y="17"/>
                    </a:lnTo>
                    <a:lnTo>
                      <a:pt x="15" y="53"/>
                    </a:lnTo>
                    <a:lnTo>
                      <a:pt x="26" y="87"/>
                    </a:lnTo>
                    <a:lnTo>
                      <a:pt x="34" y="119"/>
                    </a:lnTo>
                    <a:lnTo>
                      <a:pt x="40" y="149"/>
                    </a:lnTo>
                    <a:lnTo>
                      <a:pt x="43" y="177"/>
                    </a:lnTo>
                    <a:lnTo>
                      <a:pt x="44" y="204"/>
                    </a:lnTo>
                    <a:lnTo>
                      <a:pt x="44" y="228"/>
                    </a:lnTo>
                    <a:lnTo>
                      <a:pt x="42" y="252"/>
                    </a:lnTo>
                    <a:lnTo>
                      <a:pt x="39" y="273"/>
                    </a:lnTo>
                    <a:lnTo>
                      <a:pt x="34" y="295"/>
                    </a:lnTo>
                    <a:lnTo>
                      <a:pt x="30" y="315"/>
                    </a:lnTo>
                    <a:lnTo>
                      <a:pt x="24" y="337"/>
                    </a:lnTo>
                    <a:lnTo>
                      <a:pt x="11" y="378"/>
                    </a:lnTo>
                    <a:lnTo>
                      <a:pt x="0" y="421"/>
                    </a:lnTo>
                    <a:lnTo>
                      <a:pt x="24" y="427"/>
                    </a:lnTo>
                    <a:lnTo>
                      <a:pt x="35" y="385"/>
                    </a:lnTo>
                    <a:lnTo>
                      <a:pt x="47" y="343"/>
                    </a:lnTo>
                    <a:lnTo>
                      <a:pt x="52" y="322"/>
                    </a:lnTo>
                    <a:lnTo>
                      <a:pt x="58" y="299"/>
                    </a:lnTo>
                    <a:lnTo>
                      <a:pt x="63" y="278"/>
                    </a:lnTo>
                    <a:lnTo>
                      <a:pt x="66" y="254"/>
                    </a:lnTo>
                    <a:lnTo>
                      <a:pt x="68" y="229"/>
                    </a:lnTo>
                    <a:lnTo>
                      <a:pt x="68" y="203"/>
                    </a:lnTo>
                    <a:lnTo>
                      <a:pt x="67" y="175"/>
                    </a:lnTo>
                    <a:lnTo>
                      <a:pt x="64" y="146"/>
                    </a:lnTo>
                    <a:lnTo>
                      <a:pt x="57" y="115"/>
                    </a:lnTo>
                    <a:lnTo>
                      <a:pt x="49" y="81"/>
                    </a:lnTo>
                    <a:lnTo>
                      <a:pt x="38" y="45"/>
                    </a:lnTo>
                    <a:lnTo>
                      <a:pt x="23" y="8"/>
                    </a:lnTo>
                    <a:lnTo>
                      <a:pt x="2" y="19"/>
                    </a:lnTo>
                    <a:lnTo>
                      <a:pt x="23" y="8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" y="1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337000" y="4073760"/>
                <a:ext cx="320760" cy="192240"/>
              </a:xfrm>
              <a:custGeom>
                <a:avLst/>
                <a:gdLst/>
                <a:ahLst/>
                <a:rect l="l" t="t" r="r" b="b"/>
                <a:pathLst>
                  <a:path w="1012" h="603">
                    <a:moveTo>
                      <a:pt x="456" y="190"/>
                    </a:moveTo>
                    <a:lnTo>
                      <a:pt x="471" y="210"/>
                    </a:lnTo>
                    <a:lnTo>
                      <a:pt x="486" y="230"/>
                    </a:lnTo>
                    <a:lnTo>
                      <a:pt x="505" y="250"/>
                    </a:lnTo>
                    <a:lnTo>
                      <a:pt x="525" y="269"/>
                    </a:lnTo>
                    <a:lnTo>
                      <a:pt x="546" y="290"/>
                    </a:lnTo>
                    <a:lnTo>
                      <a:pt x="569" y="308"/>
                    </a:lnTo>
                    <a:lnTo>
                      <a:pt x="592" y="327"/>
                    </a:lnTo>
                    <a:lnTo>
                      <a:pt x="616" y="345"/>
                    </a:lnTo>
                    <a:lnTo>
                      <a:pt x="641" y="363"/>
                    </a:lnTo>
                    <a:lnTo>
                      <a:pt x="667" y="380"/>
                    </a:lnTo>
                    <a:lnTo>
                      <a:pt x="693" y="396"/>
                    </a:lnTo>
                    <a:lnTo>
                      <a:pt x="719" y="409"/>
                    </a:lnTo>
                    <a:lnTo>
                      <a:pt x="745" y="423"/>
                    </a:lnTo>
                    <a:lnTo>
                      <a:pt x="770" y="436"/>
                    </a:lnTo>
                    <a:lnTo>
                      <a:pt x="796" y="447"/>
                    </a:lnTo>
                    <a:lnTo>
                      <a:pt x="822" y="456"/>
                    </a:lnTo>
                    <a:lnTo>
                      <a:pt x="820" y="421"/>
                    </a:lnTo>
                    <a:lnTo>
                      <a:pt x="817" y="390"/>
                    </a:lnTo>
                    <a:lnTo>
                      <a:pt x="812" y="360"/>
                    </a:lnTo>
                    <a:lnTo>
                      <a:pt x="807" y="334"/>
                    </a:lnTo>
                    <a:lnTo>
                      <a:pt x="800" y="310"/>
                    </a:lnTo>
                    <a:lnTo>
                      <a:pt x="792" y="290"/>
                    </a:lnTo>
                    <a:lnTo>
                      <a:pt x="784" y="270"/>
                    </a:lnTo>
                    <a:lnTo>
                      <a:pt x="775" y="253"/>
                    </a:lnTo>
                    <a:lnTo>
                      <a:pt x="765" y="237"/>
                    </a:lnTo>
                    <a:lnTo>
                      <a:pt x="755" y="225"/>
                    </a:lnTo>
                    <a:lnTo>
                      <a:pt x="746" y="213"/>
                    </a:lnTo>
                    <a:lnTo>
                      <a:pt x="738" y="204"/>
                    </a:lnTo>
                    <a:lnTo>
                      <a:pt x="722" y="189"/>
                    </a:lnTo>
                    <a:lnTo>
                      <a:pt x="712" y="179"/>
                    </a:lnTo>
                    <a:lnTo>
                      <a:pt x="710" y="177"/>
                    </a:lnTo>
                    <a:lnTo>
                      <a:pt x="709" y="174"/>
                    </a:lnTo>
                    <a:lnTo>
                      <a:pt x="709" y="173"/>
                    </a:lnTo>
                    <a:lnTo>
                      <a:pt x="712" y="173"/>
                    </a:lnTo>
                    <a:lnTo>
                      <a:pt x="727" y="174"/>
                    </a:lnTo>
                    <a:lnTo>
                      <a:pt x="752" y="178"/>
                    </a:lnTo>
                    <a:lnTo>
                      <a:pt x="792" y="182"/>
                    </a:lnTo>
                    <a:lnTo>
                      <a:pt x="848" y="186"/>
                    </a:lnTo>
                    <a:lnTo>
                      <a:pt x="881" y="188"/>
                    </a:lnTo>
                    <a:lnTo>
                      <a:pt x="920" y="189"/>
                    </a:lnTo>
                    <a:lnTo>
                      <a:pt x="963" y="190"/>
                    </a:lnTo>
                    <a:lnTo>
                      <a:pt x="1012" y="190"/>
                    </a:lnTo>
                    <a:lnTo>
                      <a:pt x="1011" y="172"/>
                    </a:lnTo>
                    <a:lnTo>
                      <a:pt x="1006" y="155"/>
                    </a:lnTo>
                    <a:lnTo>
                      <a:pt x="999" y="139"/>
                    </a:lnTo>
                    <a:lnTo>
                      <a:pt x="990" y="124"/>
                    </a:lnTo>
                    <a:lnTo>
                      <a:pt x="979" y="111"/>
                    </a:lnTo>
                    <a:lnTo>
                      <a:pt x="966" y="99"/>
                    </a:lnTo>
                    <a:lnTo>
                      <a:pt x="950" y="88"/>
                    </a:lnTo>
                    <a:lnTo>
                      <a:pt x="933" y="78"/>
                    </a:lnTo>
                    <a:lnTo>
                      <a:pt x="915" y="68"/>
                    </a:lnTo>
                    <a:lnTo>
                      <a:pt x="894" y="60"/>
                    </a:lnTo>
                    <a:lnTo>
                      <a:pt x="874" y="54"/>
                    </a:lnTo>
                    <a:lnTo>
                      <a:pt x="851" y="47"/>
                    </a:lnTo>
                    <a:lnTo>
                      <a:pt x="827" y="41"/>
                    </a:lnTo>
                    <a:lnTo>
                      <a:pt x="802" y="37"/>
                    </a:lnTo>
                    <a:lnTo>
                      <a:pt x="777" y="32"/>
                    </a:lnTo>
                    <a:lnTo>
                      <a:pt x="751" y="29"/>
                    </a:lnTo>
                    <a:lnTo>
                      <a:pt x="698" y="23"/>
                    </a:lnTo>
                    <a:lnTo>
                      <a:pt x="645" y="18"/>
                    </a:lnTo>
                    <a:lnTo>
                      <a:pt x="592" y="15"/>
                    </a:lnTo>
                    <a:lnTo>
                      <a:pt x="541" y="13"/>
                    </a:lnTo>
                    <a:lnTo>
                      <a:pt x="493" y="10"/>
                    </a:lnTo>
                    <a:lnTo>
                      <a:pt x="449" y="8"/>
                    </a:lnTo>
                    <a:lnTo>
                      <a:pt x="411" y="5"/>
                    </a:lnTo>
                    <a:lnTo>
                      <a:pt x="379" y="0"/>
                    </a:lnTo>
                    <a:lnTo>
                      <a:pt x="374" y="9"/>
                    </a:lnTo>
                    <a:lnTo>
                      <a:pt x="366" y="18"/>
                    </a:lnTo>
                    <a:lnTo>
                      <a:pt x="357" y="27"/>
                    </a:lnTo>
                    <a:lnTo>
                      <a:pt x="346" y="39"/>
                    </a:lnTo>
                    <a:lnTo>
                      <a:pt x="324" y="60"/>
                    </a:lnTo>
                    <a:lnTo>
                      <a:pt x="296" y="84"/>
                    </a:lnTo>
                    <a:lnTo>
                      <a:pt x="235" y="137"/>
                    </a:lnTo>
                    <a:lnTo>
                      <a:pt x="169" y="192"/>
                    </a:lnTo>
                    <a:lnTo>
                      <a:pt x="135" y="219"/>
                    </a:lnTo>
                    <a:lnTo>
                      <a:pt x="105" y="246"/>
                    </a:lnTo>
                    <a:lnTo>
                      <a:pt x="76" y="273"/>
                    </a:lnTo>
                    <a:lnTo>
                      <a:pt x="51" y="299"/>
                    </a:lnTo>
                    <a:lnTo>
                      <a:pt x="40" y="310"/>
                    </a:lnTo>
                    <a:lnTo>
                      <a:pt x="31" y="323"/>
                    </a:lnTo>
                    <a:lnTo>
                      <a:pt x="21" y="334"/>
                    </a:lnTo>
                    <a:lnTo>
                      <a:pt x="15" y="344"/>
                    </a:lnTo>
                    <a:lnTo>
                      <a:pt x="8" y="355"/>
                    </a:lnTo>
                    <a:lnTo>
                      <a:pt x="4" y="365"/>
                    </a:lnTo>
                    <a:lnTo>
                      <a:pt x="1" y="374"/>
                    </a:lnTo>
                    <a:lnTo>
                      <a:pt x="0" y="383"/>
                    </a:lnTo>
                    <a:lnTo>
                      <a:pt x="27" y="388"/>
                    </a:lnTo>
                    <a:lnTo>
                      <a:pt x="53" y="390"/>
                    </a:lnTo>
                    <a:lnTo>
                      <a:pt x="80" y="390"/>
                    </a:lnTo>
                    <a:lnTo>
                      <a:pt x="105" y="389"/>
                    </a:lnTo>
                    <a:lnTo>
                      <a:pt x="129" y="385"/>
                    </a:lnTo>
                    <a:lnTo>
                      <a:pt x="153" y="381"/>
                    </a:lnTo>
                    <a:lnTo>
                      <a:pt x="176" y="375"/>
                    </a:lnTo>
                    <a:lnTo>
                      <a:pt x="200" y="367"/>
                    </a:lnTo>
                    <a:lnTo>
                      <a:pt x="223" y="359"/>
                    </a:lnTo>
                    <a:lnTo>
                      <a:pt x="246" y="349"/>
                    </a:lnTo>
                    <a:lnTo>
                      <a:pt x="269" y="338"/>
                    </a:lnTo>
                    <a:lnTo>
                      <a:pt x="290" y="325"/>
                    </a:lnTo>
                    <a:lnTo>
                      <a:pt x="313" y="311"/>
                    </a:lnTo>
                    <a:lnTo>
                      <a:pt x="335" y="296"/>
                    </a:lnTo>
                    <a:lnTo>
                      <a:pt x="358" y="282"/>
                    </a:lnTo>
                    <a:lnTo>
                      <a:pt x="379" y="265"/>
                    </a:lnTo>
                    <a:lnTo>
                      <a:pt x="378" y="311"/>
                    </a:lnTo>
                    <a:lnTo>
                      <a:pt x="376" y="359"/>
                    </a:lnTo>
                    <a:lnTo>
                      <a:pt x="374" y="408"/>
                    </a:lnTo>
                    <a:lnTo>
                      <a:pt x="373" y="456"/>
                    </a:lnTo>
                    <a:lnTo>
                      <a:pt x="373" y="479"/>
                    </a:lnTo>
                    <a:lnTo>
                      <a:pt x="374" y="502"/>
                    </a:lnTo>
                    <a:lnTo>
                      <a:pt x="377" y="522"/>
                    </a:lnTo>
                    <a:lnTo>
                      <a:pt x="380" y="542"/>
                    </a:lnTo>
                    <a:lnTo>
                      <a:pt x="385" y="560"/>
                    </a:lnTo>
                    <a:lnTo>
                      <a:pt x="392" y="576"/>
                    </a:lnTo>
                    <a:lnTo>
                      <a:pt x="395" y="584"/>
                    </a:lnTo>
                    <a:lnTo>
                      <a:pt x="400" y="591"/>
                    </a:lnTo>
                    <a:lnTo>
                      <a:pt x="406" y="597"/>
                    </a:lnTo>
                    <a:lnTo>
                      <a:pt x="410" y="603"/>
                    </a:lnTo>
                    <a:lnTo>
                      <a:pt x="456" y="603"/>
                    </a:lnTo>
                    <a:lnTo>
                      <a:pt x="467" y="561"/>
                    </a:lnTo>
                    <a:lnTo>
                      <a:pt x="480" y="519"/>
                    </a:lnTo>
                    <a:lnTo>
                      <a:pt x="485" y="498"/>
                    </a:lnTo>
                    <a:lnTo>
                      <a:pt x="490" y="477"/>
                    </a:lnTo>
                    <a:lnTo>
                      <a:pt x="494" y="454"/>
                    </a:lnTo>
                    <a:lnTo>
                      <a:pt x="498" y="431"/>
                    </a:lnTo>
                    <a:lnTo>
                      <a:pt x="500" y="407"/>
                    </a:lnTo>
                    <a:lnTo>
                      <a:pt x="500" y="382"/>
                    </a:lnTo>
                    <a:lnTo>
                      <a:pt x="499" y="355"/>
                    </a:lnTo>
                    <a:lnTo>
                      <a:pt x="496" y="326"/>
                    </a:lnTo>
                    <a:lnTo>
                      <a:pt x="490" y="296"/>
                    </a:lnTo>
                    <a:lnTo>
                      <a:pt x="481" y="263"/>
                    </a:lnTo>
                    <a:lnTo>
                      <a:pt x="469" y="228"/>
                    </a:lnTo>
                    <a:lnTo>
                      <a:pt x="456" y="190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478480" y="4132440"/>
                <a:ext cx="122400" cy="90720"/>
              </a:xfrm>
              <a:custGeom>
                <a:avLst/>
                <a:gdLst/>
                <a:ahLst/>
                <a:rect l="l" t="t" r="r" b="b"/>
                <a:pathLst>
                  <a:path w="388" h="283">
                    <a:moveTo>
                      <a:pt x="364" y="272"/>
                    </a:moveTo>
                    <a:lnTo>
                      <a:pt x="380" y="261"/>
                    </a:lnTo>
                    <a:lnTo>
                      <a:pt x="356" y="252"/>
                    </a:lnTo>
                    <a:lnTo>
                      <a:pt x="331" y="240"/>
                    </a:lnTo>
                    <a:lnTo>
                      <a:pt x="305" y="229"/>
                    </a:lnTo>
                    <a:lnTo>
                      <a:pt x="280" y="215"/>
                    </a:lnTo>
                    <a:lnTo>
                      <a:pt x="253" y="200"/>
                    </a:lnTo>
                    <a:lnTo>
                      <a:pt x="228" y="185"/>
                    </a:lnTo>
                    <a:lnTo>
                      <a:pt x="203" y="168"/>
                    </a:lnTo>
                    <a:lnTo>
                      <a:pt x="178" y="151"/>
                    </a:lnTo>
                    <a:lnTo>
                      <a:pt x="154" y="133"/>
                    </a:lnTo>
                    <a:lnTo>
                      <a:pt x="132" y="115"/>
                    </a:lnTo>
                    <a:lnTo>
                      <a:pt x="109" y="97"/>
                    </a:lnTo>
                    <a:lnTo>
                      <a:pt x="88" y="77"/>
                    </a:lnTo>
                    <a:lnTo>
                      <a:pt x="69" y="58"/>
                    </a:lnTo>
                    <a:lnTo>
                      <a:pt x="51" y="38"/>
                    </a:lnTo>
                    <a:lnTo>
                      <a:pt x="35" y="19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15" y="34"/>
                    </a:lnTo>
                    <a:lnTo>
                      <a:pt x="32" y="54"/>
                    </a:lnTo>
                    <a:lnTo>
                      <a:pt x="52" y="74"/>
                    </a:lnTo>
                    <a:lnTo>
                      <a:pt x="71" y="94"/>
                    </a:lnTo>
                    <a:lnTo>
                      <a:pt x="93" y="114"/>
                    </a:lnTo>
                    <a:lnTo>
                      <a:pt x="116" y="134"/>
                    </a:lnTo>
                    <a:lnTo>
                      <a:pt x="139" y="152"/>
                    </a:lnTo>
                    <a:lnTo>
                      <a:pt x="165" y="171"/>
                    </a:lnTo>
                    <a:lnTo>
                      <a:pt x="190" y="189"/>
                    </a:lnTo>
                    <a:lnTo>
                      <a:pt x="216" y="206"/>
                    </a:lnTo>
                    <a:lnTo>
                      <a:pt x="242" y="222"/>
                    </a:lnTo>
                    <a:lnTo>
                      <a:pt x="268" y="237"/>
                    </a:lnTo>
                    <a:lnTo>
                      <a:pt x="294" y="250"/>
                    </a:lnTo>
                    <a:lnTo>
                      <a:pt x="321" y="263"/>
                    </a:lnTo>
                    <a:lnTo>
                      <a:pt x="347" y="273"/>
                    </a:lnTo>
                    <a:lnTo>
                      <a:pt x="372" y="283"/>
                    </a:lnTo>
                    <a:lnTo>
                      <a:pt x="388" y="272"/>
                    </a:lnTo>
                    <a:lnTo>
                      <a:pt x="372" y="283"/>
                    </a:lnTo>
                    <a:lnTo>
                      <a:pt x="378" y="283"/>
                    </a:lnTo>
                    <a:lnTo>
                      <a:pt x="382" y="282"/>
                    </a:lnTo>
                    <a:lnTo>
                      <a:pt x="386" y="280"/>
                    </a:lnTo>
                    <a:lnTo>
                      <a:pt x="388" y="275"/>
                    </a:lnTo>
                    <a:lnTo>
                      <a:pt x="388" y="271"/>
                    </a:lnTo>
                    <a:lnTo>
                      <a:pt x="387" y="266"/>
                    </a:lnTo>
                    <a:lnTo>
                      <a:pt x="385" y="263"/>
                    </a:lnTo>
                    <a:lnTo>
                      <a:pt x="380" y="261"/>
                    </a:lnTo>
                    <a:lnTo>
                      <a:pt x="364" y="27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557680" y="412632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327" h="294">
                    <a:moveTo>
                      <a:pt x="303" y="28"/>
                    </a:moveTo>
                    <a:lnTo>
                      <a:pt x="316" y="17"/>
                    </a:lnTo>
                    <a:lnTo>
                      <a:pt x="267" y="16"/>
                    </a:lnTo>
                    <a:lnTo>
                      <a:pt x="225" y="16"/>
                    </a:lnTo>
                    <a:lnTo>
                      <a:pt x="186" y="14"/>
                    </a:lnTo>
                    <a:lnTo>
                      <a:pt x="152" y="12"/>
                    </a:lnTo>
                    <a:lnTo>
                      <a:pt x="97" y="8"/>
                    </a:lnTo>
                    <a:lnTo>
                      <a:pt x="57" y="5"/>
                    </a:lnTo>
                    <a:lnTo>
                      <a:pt x="32" y="1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8" y="35"/>
                    </a:lnTo>
                    <a:lnTo>
                      <a:pt x="33" y="50"/>
                    </a:lnTo>
                    <a:lnTo>
                      <a:pt x="41" y="59"/>
                    </a:lnTo>
                    <a:lnTo>
                      <a:pt x="50" y="69"/>
                    </a:lnTo>
                    <a:lnTo>
                      <a:pt x="59" y="82"/>
                    </a:lnTo>
                    <a:lnTo>
                      <a:pt x="67" y="97"/>
                    </a:lnTo>
                    <a:lnTo>
                      <a:pt x="77" y="113"/>
                    </a:lnTo>
                    <a:lnTo>
                      <a:pt x="85" y="132"/>
                    </a:lnTo>
                    <a:lnTo>
                      <a:pt x="92" y="153"/>
                    </a:lnTo>
                    <a:lnTo>
                      <a:pt x="99" y="176"/>
                    </a:lnTo>
                    <a:lnTo>
                      <a:pt x="105" y="201"/>
                    </a:lnTo>
                    <a:lnTo>
                      <a:pt x="110" y="229"/>
                    </a:lnTo>
                    <a:lnTo>
                      <a:pt x="112" y="260"/>
                    </a:lnTo>
                    <a:lnTo>
                      <a:pt x="113" y="294"/>
                    </a:lnTo>
                    <a:lnTo>
                      <a:pt x="137" y="294"/>
                    </a:lnTo>
                    <a:lnTo>
                      <a:pt x="136" y="259"/>
                    </a:lnTo>
                    <a:lnTo>
                      <a:pt x="134" y="226"/>
                    </a:lnTo>
                    <a:lnTo>
                      <a:pt x="129" y="196"/>
                    </a:lnTo>
                    <a:lnTo>
                      <a:pt x="122" y="170"/>
                    </a:lnTo>
                    <a:lnTo>
                      <a:pt x="115" y="145"/>
                    </a:lnTo>
                    <a:lnTo>
                      <a:pt x="107" y="123"/>
                    </a:lnTo>
                    <a:lnTo>
                      <a:pt x="98" y="103"/>
                    </a:lnTo>
                    <a:lnTo>
                      <a:pt x="89" y="84"/>
                    </a:lnTo>
                    <a:lnTo>
                      <a:pt x="79" y="69"/>
                    </a:lnTo>
                    <a:lnTo>
                      <a:pt x="70" y="56"/>
                    </a:lnTo>
                    <a:lnTo>
                      <a:pt x="59" y="43"/>
                    </a:lnTo>
                    <a:lnTo>
                      <a:pt x="50" y="33"/>
                    </a:lnTo>
                    <a:lnTo>
                      <a:pt x="36" y="18"/>
                    </a:lnTo>
                    <a:lnTo>
                      <a:pt x="24" y="9"/>
                    </a:lnTo>
                    <a:lnTo>
                      <a:pt x="23" y="7"/>
                    </a:lnTo>
                    <a:lnTo>
                      <a:pt x="24" y="11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29" y="25"/>
                    </a:lnTo>
                    <a:lnTo>
                      <a:pt x="55" y="28"/>
                    </a:lnTo>
                    <a:lnTo>
                      <a:pt x="95" y="32"/>
                    </a:lnTo>
                    <a:lnTo>
                      <a:pt x="151" y="36"/>
                    </a:lnTo>
                    <a:lnTo>
                      <a:pt x="185" y="38"/>
                    </a:lnTo>
                    <a:lnTo>
                      <a:pt x="224" y="40"/>
                    </a:lnTo>
                    <a:lnTo>
                      <a:pt x="267" y="40"/>
                    </a:lnTo>
                    <a:lnTo>
                      <a:pt x="316" y="41"/>
                    </a:lnTo>
                    <a:lnTo>
                      <a:pt x="327" y="28"/>
                    </a:lnTo>
                    <a:lnTo>
                      <a:pt x="316" y="41"/>
                    </a:lnTo>
                    <a:lnTo>
                      <a:pt x="320" y="40"/>
                    </a:lnTo>
                    <a:lnTo>
                      <a:pt x="325" y="36"/>
                    </a:lnTo>
                    <a:lnTo>
                      <a:pt x="327" y="33"/>
                    </a:lnTo>
                    <a:lnTo>
                      <a:pt x="327" y="28"/>
                    </a:lnTo>
                    <a:lnTo>
                      <a:pt x="327" y="24"/>
                    </a:lnTo>
                    <a:lnTo>
                      <a:pt x="325" y="20"/>
                    </a:lnTo>
                    <a:lnTo>
                      <a:pt x="320" y="17"/>
                    </a:lnTo>
                    <a:lnTo>
                      <a:pt x="316" y="17"/>
                    </a:lnTo>
                    <a:lnTo>
                      <a:pt x="303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452920" y="4070520"/>
                <a:ext cx="208080" cy="63720"/>
              </a:xfrm>
              <a:custGeom>
                <a:avLst/>
                <a:gdLst/>
                <a:ahLst/>
                <a:rect l="l" t="t" r="r" b="b"/>
                <a:pathLst>
                  <a:path w="655" h="201">
                    <a:moveTo>
                      <a:pt x="22" y="18"/>
                    </a:moveTo>
                    <a:lnTo>
                      <a:pt x="9" y="22"/>
                    </a:lnTo>
                    <a:lnTo>
                      <a:pt x="42" y="27"/>
                    </a:lnTo>
                    <a:lnTo>
                      <a:pt x="81" y="30"/>
                    </a:lnTo>
                    <a:lnTo>
                      <a:pt x="124" y="34"/>
                    </a:lnTo>
                    <a:lnTo>
                      <a:pt x="172" y="36"/>
                    </a:lnTo>
                    <a:lnTo>
                      <a:pt x="223" y="38"/>
                    </a:lnTo>
                    <a:lnTo>
                      <a:pt x="276" y="42"/>
                    </a:lnTo>
                    <a:lnTo>
                      <a:pt x="329" y="45"/>
                    </a:lnTo>
                    <a:lnTo>
                      <a:pt x="382" y="51"/>
                    </a:lnTo>
                    <a:lnTo>
                      <a:pt x="408" y="56"/>
                    </a:lnTo>
                    <a:lnTo>
                      <a:pt x="432" y="59"/>
                    </a:lnTo>
                    <a:lnTo>
                      <a:pt x="457" y="65"/>
                    </a:lnTo>
                    <a:lnTo>
                      <a:pt x="480" y="69"/>
                    </a:lnTo>
                    <a:lnTo>
                      <a:pt x="501" y="76"/>
                    </a:lnTo>
                    <a:lnTo>
                      <a:pt x="523" y="83"/>
                    </a:lnTo>
                    <a:lnTo>
                      <a:pt x="542" y="91"/>
                    </a:lnTo>
                    <a:lnTo>
                      <a:pt x="560" y="100"/>
                    </a:lnTo>
                    <a:lnTo>
                      <a:pt x="577" y="109"/>
                    </a:lnTo>
                    <a:lnTo>
                      <a:pt x="590" y="119"/>
                    </a:lnTo>
                    <a:lnTo>
                      <a:pt x="597" y="125"/>
                    </a:lnTo>
                    <a:lnTo>
                      <a:pt x="603" y="131"/>
                    </a:lnTo>
                    <a:lnTo>
                      <a:pt x="607" y="136"/>
                    </a:lnTo>
                    <a:lnTo>
                      <a:pt x="613" y="142"/>
                    </a:lnTo>
                    <a:lnTo>
                      <a:pt x="617" y="149"/>
                    </a:lnTo>
                    <a:lnTo>
                      <a:pt x="621" y="156"/>
                    </a:lnTo>
                    <a:lnTo>
                      <a:pt x="623" y="163"/>
                    </a:lnTo>
                    <a:lnTo>
                      <a:pt x="627" y="170"/>
                    </a:lnTo>
                    <a:lnTo>
                      <a:pt x="629" y="178"/>
                    </a:lnTo>
                    <a:lnTo>
                      <a:pt x="630" y="184"/>
                    </a:lnTo>
                    <a:lnTo>
                      <a:pt x="631" y="193"/>
                    </a:lnTo>
                    <a:lnTo>
                      <a:pt x="631" y="201"/>
                    </a:lnTo>
                    <a:lnTo>
                      <a:pt x="655" y="201"/>
                    </a:lnTo>
                    <a:lnTo>
                      <a:pt x="655" y="191"/>
                    </a:lnTo>
                    <a:lnTo>
                      <a:pt x="654" y="181"/>
                    </a:lnTo>
                    <a:lnTo>
                      <a:pt x="652" y="172"/>
                    </a:lnTo>
                    <a:lnTo>
                      <a:pt x="650" y="162"/>
                    </a:lnTo>
                    <a:lnTo>
                      <a:pt x="646" y="154"/>
                    </a:lnTo>
                    <a:lnTo>
                      <a:pt x="643" y="144"/>
                    </a:lnTo>
                    <a:lnTo>
                      <a:pt x="637" y="136"/>
                    </a:lnTo>
                    <a:lnTo>
                      <a:pt x="632" y="128"/>
                    </a:lnTo>
                    <a:lnTo>
                      <a:pt x="627" y="121"/>
                    </a:lnTo>
                    <a:lnTo>
                      <a:pt x="620" y="114"/>
                    </a:lnTo>
                    <a:lnTo>
                      <a:pt x="613" y="107"/>
                    </a:lnTo>
                    <a:lnTo>
                      <a:pt x="605" y="100"/>
                    </a:lnTo>
                    <a:lnTo>
                      <a:pt x="589" y="89"/>
                    </a:lnTo>
                    <a:lnTo>
                      <a:pt x="571" y="78"/>
                    </a:lnTo>
                    <a:lnTo>
                      <a:pt x="552" y="69"/>
                    </a:lnTo>
                    <a:lnTo>
                      <a:pt x="531" y="60"/>
                    </a:lnTo>
                    <a:lnTo>
                      <a:pt x="509" y="53"/>
                    </a:lnTo>
                    <a:lnTo>
                      <a:pt x="485" y="46"/>
                    </a:lnTo>
                    <a:lnTo>
                      <a:pt x="462" y="41"/>
                    </a:lnTo>
                    <a:lnTo>
                      <a:pt x="436" y="36"/>
                    </a:lnTo>
                    <a:lnTo>
                      <a:pt x="411" y="32"/>
                    </a:lnTo>
                    <a:lnTo>
                      <a:pt x="385" y="27"/>
                    </a:lnTo>
                    <a:lnTo>
                      <a:pt x="332" y="21"/>
                    </a:lnTo>
                    <a:lnTo>
                      <a:pt x="278" y="17"/>
                    </a:lnTo>
                    <a:lnTo>
                      <a:pt x="224" y="14"/>
                    </a:lnTo>
                    <a:lnTo>
                      <a:pt x="173" y="11"/>
                    </a:lnTo>
                    <a:lnTo>
                      <a:pt x="125" y="9"/>
                    </a:lnTo>
                    <a:lnTo>
                      <a:pt x="82" y="7"/>
                    </a:lnTo>
                    <a:lnTo>
                      <a:pt x="44" y="3"/>
                    </a:lnTo>
                    <a:lnTo>
                      <a:pt x="14" y="0"/>
                    </a:lnTo>
                    <a:lnTo>
                      <a:pt x="1" y="4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5" y="21"/>
                    </a:lnTo>
                    <a:lnTo>
                      <a:pt x="9" y="22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32320" y="4072320"/>
                <a:ext cx="128520" cy="1267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14" y="378"/>
                    </a:moveTo>
                    <a:lnTo>
                      <a:pt x="24" y="390"/>
                    </a:lnTo>
                    <a:lnTo>
                      <a:pt x="26" y="383"/>
                    </a:lnTo>
                    <a:lnTo>
                      <a:pt x="27" y="376"/>
                    </a:lnTo>
                    <a:lnTo>
                      <a:pt x="31" y="367"/>
                    </a:lnTo>
                    <a:lnTo>
                      <a:pt x="37" y="358"/>
                    </a:lnTo>
                    <a:lnTo>
                      <a:pt x="44" y="348"/>
                    </a:lnTo>
                    <a:lnTo>
                      <a:pt x="52" y="337"/>
                    </a:lnTo>
                    <a:lnTo>
                      <a:pt x="61" y="325"/>
                    </a:lnTo>
                    <a:lnTo>
                      <a:pt x="72" y="314"/>
                    </a:lnTo>
                    <a:lnTo>
                      <a:pt x="97" y="289"/>
                    </a:lnTo>
                    <a:lnTo>
                      <a:pt x="125" y="262"/>
                    </a:lnTo>
                    <a:lnTo>
                      <a:pt x="155" y="235"/>
                    </a:lnTo>
                    <a:lnTo>
                      <a:pt x="188" y="208"/>
                    </a:lnTo>
                    <a:lnTo>
                      <a:pt x="255" y="153"/>
                    </a:lnTo>
                    <a:lnTo>
                      <a:pt x="316" y="101"/>
                    </a:lnTo>
                    <a:lnTo>
                      <a:pt x="343" y="77"/>
                    </a:lnTo>
                    <a:lnTo>
                      <a:pt x="367" y="54"/>
                    </a:lnTo>
                    <a:lnTo>
                      <a:pt x="378" y="44"/>
                    </a:lnTo>
                    <a:lnTo>
                      <a:pt x="387" y="33"/>
                    </a:lnTo>
                    <a:lnTo>
                      <a:pt x="395" y="23"/>
                    </a:lnTo>
                    <a:lnTo>
                      <a:pt x="402" y="14"/>
                    </a:lnTo>
                    <a:lnTo>
                      <a:pt x="381" y="0"/>
                    </a:lnTo>
                    <a:lnTo>
                      <a:pt x="375" y="8"/>
                    </a:lnTo>
                    <a:lnTo>
                      <a:pt x="369" y="17"/>
                    </a:lnTo>
                    <a:lnTo>
                      <a:pt x="361" y="26"/>
                    </a:lnTo>
                    <a:lnTo>
                      <a:pt x="350" y="37"/>
                    </a:lnTo>
                    <a:lnTo>
                      <a:pt x="328" y="58"/>
                    </a:lnTo>
                    <a:lnTo>
                      <a:pt x="300" y="82"/>
                    </a:lnTo>
                    <a:lnTo>
                      <a:pt x="239" y="135"/>
                    </a:lnTo>
                    <a:lnTo>
                      <a:pt x="173" y="189"/>
                    </a:lnTo>
                    <a:lnTo>
                      <a:pt x="141" y="217"/>
                    </a:lnTo>
                    <a:lnTo>
                      <a:pt x="109" y="244"/>
                    </a:lnTo>
                    <a:lnTo>
                      <a:pt x="80" y="272"/>
                    </a:lnTo>
                    <a:lnTo>
                      <a:pt x="55" y="297"/>
                    </a:lnTo>
                    <a:lnTo>
                      <a:pt x="44" y="309"/>
                    </a:lnTo>
                    <a:lnTo>
                      <a:pt x="32" y="322"/>
                    </a:lnTo>
                    <a:lnTo>
                      <a:pt x="23" y="334"/>
                    </a:lnTo>
                    <a:lnTo>
                      <a:pt x="16" y="346"/>
                    </a:lnTo>
                    <a:lnTo>
                      <a:pt x="10" y="357"/>
                    </a:lnTo>
                    <a:lnTo>
                      <a:pt x="5" y="367"/>
                    </a:lnTo>
                    <a:lnTo>
                      <a:pt x="2" y="379"/>
                    </a:lnTo>
                    <a:lnTo>
                      <a:pt x="0" y="390"/>
                    </a:lnTo>
                    <a:lnTo>
                      <a:pt x="10" y="402"/>
                    </a:lnTo>
                    <a:lnTo>
                      <a:pt x="0" y="390"/>
                    </a:lnTo>
                    <a:lnTo>
                      <a:pt x="2" y="395"/>
                    </a:lnTo>
                    <a:lnTo>
                      <a:pt x="4" y="399"/>
                    </a:lnTo>
                    <a:lnTo>
                      <a:pt x="7" y="402"/>
                    </a:lnTo>
                    <a:lnTo>
                      <a:pt x="12" y="402"/>
                    </a:lnTo>
                    <a:lnTo>
                      <a:pt x="16" y="402"/>
                    </a:lnTo>
                    <a:lnTo>
                      <a:pt x="21" y="399"/>
                    </a:lnTo>
                    <a:lnTo>
                      <a:pt x="23" y="395"/>
                    </a:lnTo>
                    <a:lnTo>
                      <a:pt x="24" y="390"/>
                    </a:lnTo>
                    <a:lnTo>
                      <a:pt x="14" y="3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35560" y="4154760"/>
                <a:ext cx="125280" cy="47520"/>
              </a:xfrm>
              <a:custGeom>
                <a:avLst/>
                <a:gdLst/>
                <a:ahLst/>
                <a:rect l="l" t="t" r="r" b="b"/>
                <a:pathLst>
                  <a:path w="394" h="149">
                    <a:moveTo>
                      <a:pt x="394" y="12"/>
                    </a:moveTo>
                    <a:lnTo>
                      <a:pt x="375" y="2"/>
                    </a:lnTo>
                    <a:lnTo>
                      <a:pt x="353" y="18"/>
                    </a:lnTo>
                    <a:lnTo>
                      <a:pt x="330" y="33"/>
                    </a:lnTo>
                    <a:lnTo>
                      <a:pt x="308" y="48"/>
                    </a:lnTo>
                    <a:lnTo>
                      <a:pt x="287" y="62"/>
                    </a:lnTo>
                    <a:lnTo>
                      <a:pt x="265" y="73"/>
                    </a:lnTo>
                    <a:lnTo>
                      <a:pt x="243" y="85"/>
                    </a:lnTo>
                    <a:lnTo>
                      <a:pt x="221" y="95"/>
                    </a:lnTo>
                    <a:lnTo>
                      <a:pt x="198" y="103"/>
                    </a:lnTo>
                    <a:lnTo>
                      <a:pt x="175" y="111"/>
                    </a:lnTo>
                    <a:lnTo>
                      <a:pt x="152" y="116"/>
                    </a:lnTo>
                    <a:lnTo>
                      <a:pt x="129" y="121"/>
                    </a:lnTo>
                    <a:lnTo>
                      <a:pt x="106" y="123"/>
                    </a:lnTo>
                    <a:lnTo>
                      <a:pt x="80" y="124"/>
                    </a:lnTo>
                    <a:lnTo>
                      <a:pt x="57" y="124"/>
                    </a:lnTo>
                    <a:lnTo>
                      <a:pt x="30" y="122"/>
                    </a:lnTo>
                    <a:lnTo>
                      <a:pt x="4" y="118"/>
                    </a:lnTo>
                    <a:lnTo>
                      <a:pt x="0" y="142"/>
                    </a:lnTo>
                    <a:lnTo>
                      <a:pt x="28" y="146"/>
                    </a:lnTo>
                    <a:lnTo>
                      <a:pt x="54" y="148"/>
                    </a:lnTo>
                    <a:lnTo>
                      <a:pt x="82" y="149"/>
                    </a:lnTo>
                    <a:lnTo>
                      <a:pt x="108" y="147"/>
                    </a:lnTo>
                    <a:lnTo>
                      <a:pt x="133" y="145"/>
                    </a:lnTo>
                    <a:lnTo>
                      <a:pt x="158" y="140"/>
                    </a:lnTo>
                    <a:lnTo>
                      <a:pt x="182" y="134"/>
                    </a:lnTo>
                    <a:lnTo>
                      <a:pt x="206" y="126"/>
                    </a:lnTo>
                    <a:lnTo>
                      <a:pt x="230" y="116"/>
                    </a:lnTo>
                    <a:lnTo>
                      <a:pt x="254" y="106"/>
                    </a:lnTo>
                    <a:lnTo>
                      <a:pt x="277" y="95"/>
                    </a:lnTo>
                    <a:lnTo>
                      <a:pt x="299" y="82"/>
                    </a:lnTo>
                    <a:lnTo>
                      <a:pt x="322" y="69"/>
                    </a:lnTo>
                    <a:lnTo>
                      <a:pt x="344" y="54"/>
                    </a:lnTo>
                    <a:lnTo>
                      <a:pt x="367" y="38"/>
                    </a:lnTo>
                    <a:lnTo>
                      <a:pt x="388" y="22"/>
                    </a:lnTo>
                    <a:lnTo>
                      <a:pt x="369" y="12"/>
                    </a:lnTo>
                    <a:lnTo>
                      <a:pt x="388" y="22"/>
                    </a:lnTo>
                    <a:lnTo>
                      <a:pt x="393" y="17"/>
                    </a:lnTo>
                    <a:lnTo>
                      <a:pt x="394" y="14"/>
                    </a:lnTo>
                    <a:lnTo>
                      <a:pt x="393" y="9"/>
                    </a:lnTo>
                    <a:lnTo>
                      <a:pt x="392" y="5"/>
                    </a:lnTo>
                    <a:lnTo>
                      <a:pt x="388" y="1"/>
                    </a:lnTo>
                    <a:lnTo>
                      <a:pt x="384" y="0"/>
                    </a:lnTo>
                    <a:lnTo>
                      <a:pt x="379" y="0"/>
                    </a:lnTo>
                    <a:lnTo>
                      <a:pt x="375" y="2"/>
                    </a:lnTo>
                    <a:lnTo>
                      <a:pt x="394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51480" y="4158000"/>
                <a:ext cx="19080" cy="110880"/>
              </a:xfrm>
              <a:custGeom>
                <a:avLst/>
                <a:gdLst/>
                <a:ahLst/>
                <a:rect l="l" t="t" r="r" b="b"/>
                <a:pathLst>
                  <a:path w="63" h="351">
                    <a:moveTo>
                      <a:pt x="50" y="326"/>
                    </a:moveTo>
                    <a:lnTo>
                      <a:pt x="59" y="329"/>
                    </a:lnTo>
                    <a:lnTo>
                      <a:pt x="55" y="324"/>
                    </a:lnTo>
                    <a:lnTo>
                      <a:pt x="50" y="319"/>
                    </a:lnTo>
                    <a:lnTo>
                      <a:pt x="47" y="313"/>
                    </a:lnTo>
                    <a:lnTo>
                      <a:pt x="43" y="306"/>
                    </a:lnTo>
                    <a:lnTo>
                      <a:pt x="36" y="291"/>
                    </a:lnTo>
                    <a:lnTo>
                      <a:pt x="32" y="274"/>
                    </a:lnTo>
                    <a:lnTo>
                      <a:pt x="28" y="255"/>
                    </a:lnTo>
                    <a:lnTo>
                      <a:pt x="26" y="236"/>
                    </a:lnTo>
                    <a:lnTo>
                      <a:pt x="25" y="214"/>
                    </a:lnTo>
                    <a:lnTo>
                      <a:pt x="24" y="191"/>
                    </a:lnTo>
                    <a:lnTo>
                      <a:pt x="25" y="143"/>
                    </a:lnTo>
                    <a:lnTo>
                      <a:pt x="27" y="95"/>
                    </a:lnTo>
                    <a:lnTo>
                      <a:pt x="31" y="46"/>
                    </a:lnTo>
                    <a:lnTo>
                      <a:pt x="32" y="0"/>
                    </a:lnTo>
                    <a:lnTo>
                      <a:pt x="7" y="0"/>
                    </a:lnTo>
                    <a:lnTo>
                      <a:pt x="6" y="45"/>
                    </a:lnTo>
                    <a:lnTo>
                      <a:pt x="3" y="94"/>
                    </a:lnTo>
                    <a:lnTo>
                      <a:pt x="1" y="143"/>
                    </a:lnTo>
                    <a:lnTo>
                      <a:pt x="0" y="191"/>
                    </a:lnTo>
                    <a:lnTo>
                      <a:pt x="1" y="215"/>
                    </a:lnTo>
                    <a:lnTo>
                      <a:pt x="2" y="238"/>
                    </a:lnTo>
                    <a:lnTo>
                      <a:pt x="5" y="259"/>
                    </a:lnTo>
                    <a:lnTo>
                      <a:pt x="8" y="280"/>
                    </a:lnTo>
                    <a:lnTo>
                      <a:pt x="14" y="299"/>
                    </a:lnTo>
                    <a:lnTo>
                      <a:pt x="20" y="316"/>
                    </a:lnTo>
                    <a:lnTo>
                      <a:pt x="25" y="324"/>
                    </a:lnTo>
                    <a:lnTo>
                      <a:pt x="31" y="332"/>
                    </a:lnTo>
                    <a:lnTo>
                      <a:pt x="36" y="340"/>
                    </a:lnTo>
                    <a:lnTo>
                      <a:pt x="42" y="346"/>
                    </a:lnTo>
                    <a:lnTo>
                      <a:pt x="50" y="350"/>
                    </a:lnTo>
                    <a:lnTo>
                      <a:pt x="42" y="346"/>
                    </a:lnTo>
                    <a:lnTo>
                      <a:pt x="47" y="350"/>
                    </a:lnTo>
                    <a:lnTo>
                      <a:pt x="51" y="351"/>
                    </a:lnTo>
                    <a:lnTo>
                      <a:pt x="56" y="350"/>
                    </a:lnTo>
                    <a:lnTo>
                      <a:pt x="59" y="346"/>
                    </a:lnTo>
                    <a:lnTo>
                      <a:pt x="62" y="343"/>
                    </a:lnTo>
                    <a:lnTo>
                      <a:pt x="63" y="338"/>
                    </a:lnTo>
                    <a:lnTo>
                      <a:pt x="63" y="334"/>
                    </a:lnTo>
                    <a:lnTo>
                      <a:pt x="59" y="329"/>
                    </a:lnTo>
                    <a:lnTo>
                      <a:pt x="50" y="3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467320" y="426096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7" y="14"/>
                    </a:moveTo>
                    <a:lnTo>
                      <a:pt x="46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46" y="24"/>
                    </a:lnTo>
                    <a:lnTo>
                      <a:pt x="57" y="14"/>
                    </a:lnTo>
                    <a:lnTo>
                      <a:pt x="46" y="24"/>
                    </a:lnTo>
                    <a:lnTo>
                      <a:pt x="51" y="24"/>
                    </a:lnTo>
                    <a:lnTo>
                      <a:pt x="55" y="20"/>
                    </a:lnTo>
                    <a:lnTo>
                      <a:pt x="57" y="17"/>
                    </a:lnTo>
                    <a:lnTo>
                      <a:pt x="58" y="12"/>
                    </a:lnTo>
                    <a:lnTo>
                      <a:pt x="57" y="8"/>
                    </a:lnTo>
                    <a:lnTo>
                      <a:pt x="55" y="4"/>
                    </a:lnTo>
                    <a:lnTo>
                      <a:pt x="51" y="1"/>
                    </a:lnTo>
                    <a:lnTo>
                      <a:pt x="46" y="0"/>
                    </a:ln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477040" y="4131000"/>
                <a:ext cx="21960" cy="135000"/>
              </a:xfrm>
              <a:custGeom>
                <a:avLst/>
                <a:gdLst/>
                <a:ahLst/>
                <a:rect l="l" t="t" r="r" b="b"/>
                <a:pathLst>
                  <a:path w="70" h="427">
                    <a:moveTo>
                      <a:pt x="23" y="6"/>
                    </a:moveTo>
                    <a:lnTo>
                      <a:pt x="1" y="17"/>
                    </a:lnTo>
                    <a:lnTo>
                      <a:pt x="15" y="55"/>
                    </a:lnTo>
                    <a:lnTo>
                      <a:pt x="26" y="89"/>
                    </a:lnTo>
                    <a:lnTo>
                      <a:pt x="34" y="121"/>
                    </a:lnTo>
                    <a:lnTo>
                      <a:pt x="40" y="150"/>
                    </a:lnTo>
                    <a:lnTo>
                      <a:pt x="43" y="178"/>
                    </a:lnTo>
                    <a:lnTo>
                      <a:pt x="45" y="204"/>
                    </a:lnTo>
                    <a:lnTo>
                      <a:pt x="45" y="229"/>
                    </a:lnTo>
                    <a:lnTo>
                      <a:pt x="42" y="252"/>
                    </a:lnTo>
                    <a:lnTo>
                      <a:pt x="40" y="275"/>
                    </a:lnTo>
                    <a:lnTo>
                      <a:pt x="36" y="295"/>
                    </a:lnTo>
                    <a:lnTo>
                      <a:pt x="30" y="317"/>
                    </a:lnTo>
                    <a:lnTo>
                      <a:pt x="24" y="337"/>
                    </a:lnTo>
                    <a:lnTo>
                      <a:pt x="13" y="380"/>
                    </a:lnTo>
                    <a:lnTo>
                      <a:pt x="1" y="422"/>
                    </a:lnTo>
                    <a:lnTo>
                      <a:pt x="24" y="427"/>
                    </a:lnTo>
                    <a:lnTo>
                      <a:pt x="36" y="385"/>
                    </a:lnTo>
                    <a:lnTo>
                      <a:pt x="48" y="344"/>
                    </a:lnTo>
                    <a:lnTo>
                      <a:pt x="54" y="323"/>
                    </a:lnTo>
                    <a:lnTo>
                      <a:pt x="59" y="301"/>
                    </a:lnTo>
                    <a:lnTo>
                      <a:pt x="64" y="278"/>
                    </a:lnTo>
                    <a:lnTo>
                      <a:pt x="67" y="254"/>
                    </a:lnTo>
                    <a:lnTo>
                      <a:pt x="69" y="230"/>
                    </a:lnTo>
                    <a:lnTo>
                      <a:pt x="70" y="204"/>
                    </a:lnTo>
                    <a:lnTo>
                      <a:pt x="67" y="175"/>
                    </a:lnTo>
                    <a:lnTo>
                      <a:pt x="64" y="147"/>
                    </a:lnTo>
                    <a:lnTo>
                      <a:pt x="58" y="115"/>
                    </a:lnTo>
                    <a:lnTo>
                      <a:pt x="50" y="82"/>
                    </a:lnTo>
                    <a:lnTo>
                      <a:pt x="39" y="47"/>
                    </a:lnTo>
                    <a:lnTo>
                      <a:pt x="24" y="8"/>
                    </a:lnTo>
                    <a:lnTo>
                      <a:pt x="2" y="19"/>
                    </a:lnTo>
                    <a:lnTo>
                      <a:pt x="24" y="8"/>
                    </a:lnTo>
                    <a:lnTo>
                      <a:pt x="21" y="3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952960" y="3743640"/>
                <a:ext cx="349560" cy="208080"/>
              </a:xfrm>
              <a:custGeom>
                <a:avLst/>
                <a:gdLst/>
                <a:ahLst/>
                <a:rect l="l" t="t" r="r" b="b"/>
                <a:pathLst>
                  <a:path w="1101" h="656">
                    <a:moveTo>
                      <a:pt x="703" y="229"/>
                    </a:moveTo>
                    <a:lnTo>
                      <a:pt x="1101" y="302"/>
                    </a:lnTo>
                    <a:lnTo>
                      <a:pt x="1101" y="391"/>
                    </a:lnTo>
                    <a:lnTo>
                      <a:pt x="703" y="391"/>
                    </a:lnTo>
                    <a:lnTo>
                      <a:pt x="725" y="403"/>
                    </a:lnTo>
                    <a:lnTo>
                      <a:pt x="745" y="415"/>
                    </a:lnTo>
                    <a:lnTo>
                      <a:pt x="765" y="428"/>
                    </a:lnTo>
                    <a:lnTo>
                      <a:pt x="784" y="441"/>
                    </a:lnTo>
                    <a:lnTo>
                      <a:pt x="801" y="456"/>
                    </a:lnTo>
                    <a:lnTo>
                      <a:pt x="818" y="471"/>
                    </a:lnTo>
                    <a:lnTo>
                      <a:pt x="834" y="486"/>
                    </a:lnTo>
                    <a:lnTo>
                      <a:pt x="849" y="503"/>
                    </a:lnTo>
                    <a:lnTo>
                      <a:pt x="864" y="520"/>
                    </a:lnTo>
                    <a:lnTo>
                      <a:pt x="876" y="537"/>
                    </a:lnTo>
                    <a:lnTo>
                      <a:pt x="889" y="555"/>
                    </a:lnTo>
                    <a:lnTo>
                      <a:pt x="900" y="574"/>
                    </a:lnTo>
                    <a:lnTo>
                      <a:pt x="912" y="593"/>
                    </a:lnTo>
                    <a:lnTo>
                      <a:pt x="922" y="613"/>
                    </a:lnTo>
                    <a:lnTo>
                      <a:pt x="931" y="634"/>
                    </a:lnTo>
                    <a:lnTo>
                      <a:pt x="940" y="656"/>
                    </a:lnTo>
                    <a:lnTo>
                      <a:pt x="922" y="656"/>
                    </a:lnTo>
                    <a:lnTo>
                      <a:pt x="905" y="654"/>
                    </a:lnTo>
                    <a:lnTo>
                      <a:pt x="888" y="652"/>
                    </a:lnTo>
                    <a:lnTo>
                      <a:pt x="871" y="649"/>
                    </a:lnTo>
                    <a:lnTo>
                      <a:pt x="855" y="644"/>
                    </a:lnTo>
                    <a:lnTo>
                      <a:pt x="839" y="640"/>
                    </a:lnTo>
                    <a:lnTo>
                      <a:pt x="823" y="635"/>
                    </a:lnTo>
                    <a:lnTo>
                      <a:pt x="807" y="628"/>
                    </a:lnTo>
                    <a:lnTo>
                      <a:pt x="792" y="621"/>
                    </a:lnTo>
                    <a:lnTo>
                      <a:pt x="777" y="615"/>
                    </a:lnTo>
                    <a:lnTo>
                      <a:pt x="763" y="607"/>
                    </a:lnTo>
                    <a:lnTo>
                      <a:pt x="749" y="597"/>
                    </a:lnTo>
                    <a:lnTo>
                      <a:pt x="721" y="579"/>
                    </a:lnTo>
                    <a:lnTo>
                      <a:pt x="696" y="559"/>
                    </a:lnTo>
                    <a:lnTo>
                      <a:pt x="671" y="537"/>
                    </a:lnTo>
                    <a:lnTo>
                      <a:pt x="647" y="513"/>
                    </a:lnTo>
                    <a:lnTo>
                      <a:pt x="626" y="489"/>
                    </a:lnTo>
                    <a:lnTo>
                      <a:pt x="604" y="464"/>
                    </a:lnTo>
                    <a:lnTo>
                      <a:pt x="583" y="439"/>
                    </a:lnTo>
                    <a:lnTo>
                      <a:pt x="564" y="414"/>
                    </a:lnTo>
                    <a:lnTo>
                      <a:pt x="547" y="388"/>
                    </a:lnTo>
                    <a:lnTo>
                      <a:pt x="530" y="363"/>
                    </a:lnTo>
                    <a:lnTo>
                      <a:pt x="510" y="373"/>
                    </a:lnTo>
                    <a:lnTo>
                      <a:pt x="488" y="388"/>
                    </a:lnTo>
                    <a:lnTo>
                      <a:pt x="461" y="405"/>
                    </a:lnTo>
                    <a:lnTo>
                      <a:pt x="432" y="425"/>
                    </a:lnTo>
                    <a:lnTo>
                      <a:pt x="401" y="446"/>
                    </a:lnTo>
                    <a:lnTo>
                      <a:pt x="367" y="468"/>
                    </a:lnTo>
                    <a:lnTo>
                      <a:pt x="333" y="489"/>
                    </a:lnTo>
                    <a:lnTo>
                      <a:pt x="297" y="510"/>
                    </a:lnTo>
                    <a:lnTo>
                      <a:pt x="279" y="519"/>
                    </a:lnTo>
                    <a:lnTo>
                      <a:pt x="261" y="527"/>
                    </a:lnTo>
                    <a:lnTo>
                      <a:pt x="244" y="535"/>
                    </a:lnTo>
                    <a:lnTo>
                      <a:pt x="226" y="543"/>
                    </a:lnTo>
                    <a:lnTo>
                      <a:pt x="208" y="548"/>
                    </a:lnTo>
                    <a:lnTo>
                      <a:pt x="190" y="554"/>
                    </a:lnTo>
                    <a:lnTo>
                      <a:pt x="173" y="558"/>
                    </a:lnTo>
                    <a:lnTo>
                      <a:pt x="157" y="561"/>
                    </a:lnTo>
                    <a:lnTo>
                      <a:pt x="140" y="562"/>
                    </a:lnTo>
                    <a:lnTo>
                      <a:pt x="124" y="562"/>
                    </a:lnTo>
                    <a:lnTo>
                      <a:pt x="109" y="560"/>
                    </a:lnTo>
                    <a:lnTo>
                      <a:pt x="94" y="556"/>
                    </a:lnTo>
                    <a:lnTo>
                      <a:pt x="81" y="552"/>
                    </a:lnTo>
                    <a:lnTo>
                      <a:pt x="67" y="545"/>
                    </a:lnTo>
                    <a:lnTo>
                      <a:pt x="55" y="536"/>
                    </a:lnTo>
                    <a:lnTo>
                      <a:pt x="43" y="525"/>
                    </a:lnTo>
                    <a:lnTo>
                      <a:pt x="26" y="502"/>
                    </a:lnTo>
                    <a:lnTo>
                      <a:pt x="14" y="480"/>
                    </a:lnTo>
                    <a:lnTo>
                      <a:pt x="6" y="461"/>
                    </a:lnTo>
                    <a:lnTo>
                      <a:pt x="1" y="442"/>
                    </a:lnTo>
                    <a:lnTo>
                      <a:pt x="0" y="425"/>
                    </a:lnTo>
                    <a:lnTo>
                      <a:pt x="3" y="411"/>
                    </a:lnTo>
                    <a:lnTo>
                      <a:pt x="9" y="396"/>
                    </a:lnTo>
                    <a:lnTo>
                      <a:pt x="17" y="383"/>
                    </a:lnTo>
                    <a:lnTo>
                      <a:pt x="28" y="371"/>
                    </a:lnTo>
                    <a:lnTo>
                      <a:pt x="41" y="359"/>
                    </a:lnTo>
                    <a:lnTo>
                      <a:pt x="56" y="350"/>
                    </a:lnTo>
                    <a:lnTo>
                      <a:pt x="73" y="341"/>
                    </a:lnTo>
                    <a:lnTo>
                      <a:pt x="90" y="332"/>
                    </a:lnTo>
                    <a:lnTo>
                      <a:pt x="109" y="325"/>
                    </a:lnTo>
                    <a:lnTo>
                      <a:pt x="127" y="318"/>
                    </a:lnTo>
                    <a:lnTo>
                      <a:pt x="148" y="311"/>
                    </a:lnTo>
                    <a:lnTo>
                      <a:pt x="223" y="292"/>
                    </a:lnTo>
                    <a:lnTo>
                      <a:pt x="280" y="276"/>
                    </a:lnTo>
                    <a:lnTo>
                      <a:pt x="289" y="273"/>
                    </a:lnTo>
                    <a:lnTo>
                      <a:pt x="296" y="269"/>
                    </a:lnTo>
                    <a:lnTo>
                      <a:pt x="300" y="265"/>
                    </a:lnTo>
                    <a:lnTo>
                      <a:pt x="300" y="261"/>
                    </a:lnTo>
                    <a:lnTo>
                      <a:pt x="297" y="257"/>
                    </a:lnTo>
                    <a:lnTo>
                      <a:pt x="289" y="252"/>
                    </a:lnTo>
                    <a:lnTo>
                      <a:pt x="278" y="247"/>
                    </a:lnTo>
                    <a:lnTo>
                      <a:pt x="263" y="242"/>
                    </a:lnTo>
                    <a:lnTo>
                      <a:pt x="238" y="232"/>
                    </a:lnTo>
                    <a:lnTo>
                      <a:pt x="219" y="220"/>
                    </a:lnTo>
                    <a:lnTo>
                      <a:pt x="204" y="209"/>
                    </a:lnTo>
                    <a:lnTo>
                      <a:pt x="194" y="195"/>
                    </a:lnTo>
                    <a:lnTo>
                      <a:pt x="188" y="181"/>
                    </a:lnTo>
                    <a:lnTo>
                      <a:pt x="187" y="168"/>
                    </a:lnTo>
                    <a:lnTo>
                      <a:pt x="189" y="153"/>
                    </a:lnTo>
                    <a:lnTo>
                      <a:pt x="195" y="138"/>
                    </a:lnTo>
                    <a:lnTo>
                      <a:pt x="204" y="123"/>
                    </a:lnTo>
                    <a:lnTo>
                      <a:pt x="215" y="108"/>
                    </a:lnTo>
                    <a:lnTo>
                      <a:pt x="231" y="94"/>
                    </a:lnTo>
                    <a:lnTo>
                      <a:pt x="248" y="80"/>
                    </a:lnTo>
                    <a:lnTo>
                      <a:pt x="269" y="66"/>
                    </a:lnTo>
                    <a:lnTo>
                      <a:pt x="290" y="54"/>
                    </a:lnTo>
                    <a:lnTo>
                      <a:pt x="314" y="42"/>
                    </a:lnTo>
                    <a:lnTo>
                      <a:pt x="339" y="32"/>
                    </a:lnTo>
                    <a:lnTo>
                      <a:pt x="366" y="23"/>
                    </a:lnTo>
                    <a:lnTo>
                      <a:pt x="393" y="15"/>
                    </a:lnTo>
                    <a:lnTo>
                      <a:pt x="422" y="8"/>
                    </a:lnTo>
                    <a:lnTo>
                      <a:pt x="450" y="4"/>
                    </a:lnTo>
                    <a:lnTo>
                      <a:pt x="479" y="1"/>
                    </a:lnTo>
                    <a:lnTo>
                      <a:pt x="507" y="0"/>
                    </a:lnTo>
                    <a:lnTo>
                      <a:pt x="536" y="1"/>
                    </a:lnTo>
                    <a:lnTo>
                      <a:pt x="564" y="6"/>
                    </a:lnTo>
                    <a:lnTo>
                      <a:pt x="590" y="12"/>
                    </a:lnTo>
                    <a:lnTo>
                      <a:pt x="616" y="21"/>
                    </a:lnTo>
                    <a:lnTo>
                      <a:pt x="640" y="33"/>
                    </a:lnTo>
                    <a:lnTo>
                      <a:pt x="664" y="48"/>
                    </a:lnTo>
                    <a:lnTo>
                      <a:pt x="685" y="66"/>
                    </a:lnTo>
                    <a:lnTo>
                      <a:pt x="703" y="88"/>
                    </a:lnTo>
                    <a:lnTo>
                      <a:pt x="720" y="113"/>
                    </a:lnTo>
                    <a:lnTo>
                      <a:pt x="734" y="141"/>
                    </a:lnTo>
                    <a:lnTo>
                      <a:pt x="738" y="160"/>
                    </a:lnTo>
                    <a:lnTo>
                      <a:pt x="742" y="172"/>
                    </a:lnTo>
                    <a:lnTo>
                      <a:pt x="746" y="181"/>
                    </a:lnTo>
                    <a:lnTo>
                      <a:pt x="750" y="188"/>
                    </a:lnTo>
                    <a:lnTo>
                      <a:pt x="754" y="193"/>
                    </a:lnTo>
                    <a:lnTo>
                      <a:pt x="760" y="198"/>
                    </a:lnTo>
                    <a:lnTo>
                      <a:pt x="768" y="205"/>
                    </a:lnTo>
                    <a:lnTo>
                      <a:pt x="779" y="214"/>
                    </a:lnTo>
                    <a:lnTo>
                      <a:pt x="703" y="22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75440" y="3811680"/>
                <a:ext cx="131760" cy="32040"/>
              </a:xfrm>
              <a:custGeom>
                <a:avLst/>
                <a:gdLst/>
                <a:ahLst/>
                <a:rect l="l" t="t" r="r" b="b"/>
                <a:pathLst>
                  <a:path w="412" h="97">
                    <a:moveTo>
                      <a:pt x="412" y="84"/>
                    </a:moveTo>
                    <a:lnTo>
                      <a:pt x="402" y="73"/>
                    </a:lnTo>
                    <a:lnTo>
                      <a:pt x="4" y="0"/>
                    </a:lnTo>
                    <a:lnTo>
                      <a:pt x="0" y="24"/>
                    </a:lnTo>
                    <a:lnTo>
                      <a:pt x="398" y="97"/>
                    </a:lnTo>
                    <a:lnTo>
                      <a:pt x="412" y="84"/>
                    </a:lnTo>
                    <a:lnTo>
                      <a:pt x="398" y="97"/>
                    </a:lnTo>
                    <a:lnTo>
                      <a:pt x="403" y="97"/>
                    </a:lnTo>
                    <a:lnTo>
                      <a:pt x="408" y="94"/>
                    </a:lnTo>
                    <a:lnTo>
                      <a:pt x="410" y="91"/>
                    </a:lnTo>
                    <a:lnTo>
                      <a:pt x="412" y="86"/>
                    </a:lnTo>
                    <a:lnTo>
                      <a:pt x="412" y="82"/>
                    </a:lnTo>
                    <a:lnTo>
                      <a:pt x="410" y="77"/>
                    </a:lnTo>
                    <a:lnTo>
                      <a:pt x="407" y="74"/>
                    </a:lnTo>
                    <a:lnTo>
                      <a:pt x="402" y="73"/>
                    </a:lnTo>
                    <a:lnTo>
                      <a:pt x="412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299280" y="3838680"/>
                <a:ext cx="7920" cy="3204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12" y="101"/>
                    </a:moveTo>
                    <a:lnTo>
                      <a:pt x="24" y="8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12" y="101"/>
                    </a:lnTo>
                    <a:lnTo>
                      <a:pt x="0" y="89"/>
                    </a:lnTo>
                    <a:lnTo>
                      <a:pt x="0" y="94"/>
                    </a:lnTo>
                    <a:lnTo>
                      <a:pt x="4" y="98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20" y="98"/>
                    </a:lnTo>
                    <a:lnTo>
                      <a:pt x="23" y="94"/>
                    </a:lnTo>
                    <a:lnTo>
                      <a:pt x="24" y="89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72200" y="3864240"/>
                <a:ext cx="130320" cy="6480"/>
              </a:xfrm>
              <a:custGeom>
                <a:avLst/>
                <a:gdLst/>
                <a:ahLst/>
                <a:rect l="l" t="t" r="r" b="b"/>
                <a:pathLst>
                  <a:path w="411" h="24">
                    <a:moveTo>
                      <a:pt x="7" y="22"/>
                    </a:moveTo>
                    <a:lnTo>
                      <a:pt x="13" y="24"/>
                    </a:lnTo>
                    <a:lnTo>
                      <a:pt x="411" y="24"/>
                    </a:lnTo>
                    <a:lnTo>
                      <a:pt x="411" y="0"/>
                    </a:lnTo>
                    <a:lnTo>
                      <a:pt x="13" y="0"/>
                    </a:lnTo>
                    <a:lnTo>
                      <a:pt x="7" y="22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13" y="24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75440" y="386424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256" h="288">
                    <a:moveTo>
                      <a:pt x="243" y="288"/>
                    </a:moveTo>
                    <a:lnTo>
                      <a:pt x="254" y="271"/>
                    </a:lnTo>
                    <a:lnTo>
                      <a:pt x="245" y="249"/>
                    </a:lnTo>
                    <a:lnTo>
                      <a:pt x="235" y="229"/>
                    </a:lnTo>
                    <a:lnTo>
                      <a:pt x="225" y="207"/>
                    </a:lnTo>
                    <a:lnTo>
                      <a:pt x="215" y="188"/>
                    </a:lnTo>
                    <a:lnTo>
                      <a:pt x="202" y="168"/>
                    </a:lnTo>
                    <a:lnTo>
                      <a:pt x="190" y="150"/>
                    </a:lnTo>
                    <a:lnTo>
                      <a:pt x="176" y="132"/>
                    </a:lnTo>
                    <a:lnTo>
                      <a:pt x="161" y="115"/>
                    </a:lnTo>
                    <a:lnTo>
                      <a:pt x="146" y="98"/>
                    </a:lnTo>
                    <a:lnTo>
                      <a:pt x="129" y="82"/>
                    </a:lnTo>
                    <a:lnTo>
                      <a:pt x="112" y="67"/>
                    </a:lnTo>
                    <a:lnTo>
                      <a:pt x="94" y="52"/>
                    </a:lnTo>
                    <a:lnTo>
                      <a:pt x="74" y="37"/>
                    </a:lnTo>
                    <a:lnTo>
                      <a:pt x="55" y="25"/>
                    </a:lnTo>
                    <a:lnTo>
                      <a:pt x="33" y="12"/>
                    </a:lnTo>
                    <a:lnTo>
                      <a:pt x="11" y="0"/>
                    </a:lnTo>
                    <a:lnTo>
                      <a:pt x="0" y="21"/>
                    </a:lnTo>
                    <a:lnTo>
                      <a:pt x="22" y="33"/>
                    </a:lnTo>
                    <a:lnTo>
                      <a:pt x="41" y="45"/>
                    </a:lnTo>
                    <a:lnTo>
                      <a:pt x="61" y="58"/>
                    </a:lnTo>
                    <a:lnTo>
                      <a:pt x="79" y="72"/>
                    </a:lnTo>
                    <a:lnTo>
                      <a:pt x="97" y="85"/>
                    </a:lnTo>
                    <a:lnTo>
                      <a:pt x="113" y="100"/>
                    </a:lnTo>
                    <a:lnTo>
                      <a:pt x="128" y="115"/>
                    </a:lnTo>
                    <a:lnTo>
                      <a:pt x="143" y="131"/>
                    </a:lnTo>
                    <a:lnTo>
                      <a:pt x="156" y="147"/>
                    </a:lnTo>
                    <a:lnTo>
                      <a:pt x="170" y="164"/>
                    </a:lnTo>
                    <a:lnTo>
                      <a:pt x="182" y="182"/>
                    </a:lnTo>
                    <a:lnTo>
                      <a:pt x="193" y="200"/>
                    </a:lnTo>
                    <a:lnTo>
                      <a:pt x="204" y="219"/>
                    </a:lnTo>
                    <a:lnTo>
                      <a:pt x="213" y="239"/>
                    </a:lnTo>
                    <a:lnTo>
                      <a:pt x="223" y="260"/>
                    </a:lnTo>
                    <a:lnTo>
                      <a:pt x="232" y="280"/>
                    </a:lnTo>
                    <a:lnTo>
                      <a:pt x="243" y="264"/>
                    </a:lnTo>
                    <a:lnTo>
                      <a:pt x="232" y="280"/>
                    </a:lnTo>
                    <a:lnTo>
                      <a:pt x="234" y="285"/>
                    </a:lnTo>
                    <a:lnTo>
                      <a:pt x="239" y="287"/>
                    </a:lnTo>
                    <a:lnTo>
                      <a:pt x="243" y="288"/>
                    </a:lnTo>
                    <a:lnTo>
                      <a:pt x="248" y="287"/>
                    </a:lnTo>
                    <a:lnTo>
                      <a:pt x="251" y="285"/>
                    </a:lnTo>
                    <a:lnTo>
                      <a:pt x="253" y="281"/>
                    </a:lnTo>
                    <a:lnTo>
                      <a:pt x="256" y="277"/>
                    </a:lnTo>
                    <a:lnTo>
                      <a:pt x="254" y="271"/>
                    </a:lnTo>
                    <a:lnTo>
                      <a:pt x="243" y="2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18200" y="385488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423" h="317">
                    <a:moveTo>
                      <a:pt x="17" y="23"/>
                    </a:moveTo>
                    <a:lnTo>
                      <a:pt x="3" y="18"/>
                    </a:lnTo>
                    <a:lnTo>
                      <a:pt x="20" y="44"/>
                    </a:lnTo>
                    <a:lnTo>
                      <a:pt x="38" y="70"/>
                    </a:lnTo>
                    <a:lnTo>
                      <a:pt x="57" y="95"/>
                    </a:lnTo>
                    <a:lnTo>
                      <a:pt x="78" y="121"/>
                    </a:lnTo>
                    <a:lnTo>
                      <a:pt x="99" y="146"/>
                    </a:lnTo>
                    <a:lnTo>
                      <a:pt x="122" y="171"/>
                    </a:lnTo>
                    <a:lnTo>
                      <a:pt x="146" y="195"/>
                    </a:lnTo>
                    <a:lnTo>
                      <a:pt x="171" y="217"/>
                    </a:lnTo>
                    <a:lnTo>
                      <a:pt x="197" y="238"/>
                    </a:lnTo>
                    <a:lnTo>
                      <a:pt x="225" y="257"/>
                    </a:lnTo>
                    <a:lnTo>
                      <a:pt x="240" y="266"/>
                    </a:lnTo>
                    <a:lnTo>
                      <a:pt x="254" y="274"/>
                    </a:lnTo>
                    <a:lnTo>
                      <a:pt x="270" y="282"/>
                    </a:lnTo>
                    <a:lnTo>
                      <a:pt x="285" y="289"/>
                    </a:lnTo>
                    <a:lnTo>
                      <a:pt x="301" y="295"/>
                    </a:lnTo>
                    <a:lnTo>
                      <a:pt x="317" y="301"/>
                    </a:lnTo>
                    <a:lnTo>
                      <a:pt x="334" y="306"/>
                    </a:lnTo>
                    <a:lnTo>
                      <a:pt x="351" y="309"/>
                    </a:lnTo>
                    <a:lnTo>
                      <a:pt x="368" y="313"/>
                    </a:lnTo>
                    <a:lnTo>
                      <a:pt x="387" y="315"/>
                    </a:lnTo>
                    <a:lnTo>
                      <a:pt x="405" y="316"/>
                    </a:lnTo>
                    <a:lnTo>
                      <a:pt x="423" y="317"/>
                    </a:lnTo>
                    <a:lnTo>
                      <a:pt x="423" y="293"/>
                    </a:lnTo>
                    <a:lnTo>
                      <a:pt x="406" y="292"/>
                    </a:lnTo>
                    <a:lnTo>
                      <a:pt x="389" y="291"/>
                    </a:lnTo>
                    <a:lnTo>
                      <a:pt x="372" y="289"/>
                    </a:lnTo>
                    <a:lnTo>
                      <a:pt x="356" y="285"/>
                    </a:lnTo>
                    <a:lnTo>
                      <a:pt x="340" y="282"/>
                    </a:lnTo>
                    <a:lnTo>
                      <a:pt x="325" y="277"/>
                    </a:lnTo>
                    <a:lnTo>
                      <a:pt x="309" y="273"/>
                    </a:lnTo>
                    <a:lnTo>
                      <a:pt x="294" y="267"/>
                    </a:lnTo>
                    <a:lnTo>
                      <a:pt x="281" y="260"/>
                    </a:lnTo>
                    <a:lnTo>
                      <a:pt x="266" y="252"/>
                    </a:lnTo>
                    <a:lnTo>
                      <a:pt x="252" y="245"/>
                    </a:lnTo>
                    <a:lnTo>
                      <a:pt x="238" y="237"/>
                    </a:lnTo>
                    <a:lnTo>
                      <a:pt x="212" y="218"/>
                    </a:lnTo>
                    <a:lnTo>
                      <a:pt x="186" y="199"/>
                    </a:lnTo>
                    <a:lnTo>
                      <a:pt x="162" y="177"/>
                    </a:lnTo>
                    <a:lnTo>
                      <a:pt x="139" y="154"/>
                    </a:lnTo>
                    <a:lnTo>
                      <a:pt x="118" y="130"/>
                    </a:lnTo>
                    <a:lnTo>
                      <a:pt x="96" y="105"/>
                    </a:lnTo>
                    <a:lnTo>
                      <a:pt x="77" y="80"/>
                    </a:lnTo>
                    <a:lnTo>
                      <a:pt x="57" y="55"/>
                    </a:lnTo>
                    <a:lnTo>
                      <a:pt x="39" y="30"/>
                    </a:lnTo>
                    <a:lnTo>
                      <a:pt x="23" y="5"/>
                    </a:lnTo>
                    <a:lnTo>
                      <a:pt x="7" y="1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964120" y="3854880"/>
                <a:ext cx="158760" cy="71280"/>
              </a:xfrm>
              <a:custGeom>
                <a:avLst/>
                <a:gdLst/>
                <a:ahLst/>
                <a:rect l="l" t="t" r="r" b="b"/>
                <a:pathLst>
                  <a:path w="500" h="222">
                    <a:moveTo>
                      <a:pt x="0" y="179"/>
                    </a:moveTo>
                    <a:lnTo>
                      <a:pt x="0" y="180"/>
                    </a:lnTo>
                    <a:lnTo>
                      <a:pt x="13" y="193"/>
                    </a:lnTo>
                    <a:lnTo>
                      <a:pt x="26" y="203"/>
                    </a:lnTo>
                    <a:lnTo>
                      <a:pt x="41" y="210"/>
                    </a:lnTo>
                    <a:lnTo>
                      <a:pt x="57" y="217"/>
                    </a:lnTo>
                    <a:lnTo>
                      <a:pt x="73" y="220"/>
                    </a:lnTo>
                    <a:lnTo>
                      <a:pt x="90" y="222"/>
                    </a:lnTo>
                    <a:lnTo>
                      <a:pt x="107" y="222"/>
                    </a:lnTo>
                    <a:lnTo>
                      <a:pt x="124" y="220"/>
                    </a:lnTo>
                    <a:lnTo>
                      <a:pt x="141" y="218"/>
                    </a:lnTo>
                    <a:lnTo>
                      <a:pt x="160" y="214"/>
                    </a:lnTo>
                    <a:lnTo>
                      <a:pt x="178" y="208"/>
                    </a:lnTo>
                    <a:lnTo>
                      <a:pt x="196" y="202"/>
                    </a:lnTo>
                    <a:lnTo>
                      <a:pt x="214" y="194"/>
                    </a:lnTo>
                    <a:lnTo>
                      <a:pt x="233" y="186"/>
                    </a:lnTo>
                    <a:lnTo>
                      <a:pt x="251" y="177"/>
                    </a:lnTo>
                    <a:lnTo>
                      <a:pt x="269" y="168"/>
                    </a:lnTo>
                    <a:lnTo>
                      <a:pt x="304" y="147"/>
                    </a:lnTo>
                    <a:lnTo>
                      <a:pt x="340" y="126"/>
                    </a:lnTo>
                    <a:lnTo>
                      <a:pt x="374" y="104"/>
                    </a:lnTo>
                    <a:lnTo>
                      <a:pt x="405" y="84"/>
                    </a:lnTo>
                    <a:lnTo>
                      <a:pt x="434" y="63"/>
                    </a:lnTo>
                    <a:lnTo>
                      <a:pt x="460" y="46"/>
                    </a:lnTo>
                    <a:lnTo>
                      <a:pt x="482" y="32"/>
                    </a:lnTo>
                    <a:lnTo>
                      <a:pt x="500" y="22"/>
                    </a:lnTo>
                    <a:lnTo>
                      <a:pt x="490" y="0"/>
                    </a:lnTo>
                    <a:lnTo>
                      <a:pt x="471" y="11"/>
                    </a:lnTo>
                    <a:lnTo>
                      <a:pt x="447" y="25"/>
                    </a:lnTo>
                    <a:lnTo>
                      <a:pt x="421" y="44"/>
                    </a:lnTo>
                    <a:lnTo>
                      <a:pt x="391" y="63"/>
                    </a:lnTo>
                    <a:lnTo>
                      <a:pt x="360" y="84"/>
                    </a:lnTo>
                    <a:lnTo>
                      <a:pt x="327" y="105"/>
                    </a:lnTo>
                    <a:lnTo>
                      <a:pt x="293" y="127"/>
                    </a:lnTo>
                    <a:lnTo>
                      <a:pt x="258" y="146"/>
                    </a:lnTo>
                    <a:lnTo>
                      <a:pt x="239" y="155"/>
                    </a:lnTo>
                    <a:lnTo>
                      <a:pt x="222" y="165"/>
                    </a:lnTo>
                    <a:lnTo>
                      <a:pt x="205" y="173"/>
                    </a:lnTo>
                    <a:lnTo>
                      <a:pt x="187" y="179"/>
                    </a:lnTo>
                    <a:lnTo>
                      <a:pt x="170" y="185"/>
                    </a:lnTo>
                    <a:lnTo>
                      <a:pt x="154" y="190"/>
                    </a:lnTo>
                    <a:lnTo>
                      <a:pt x="137" y="194"/>
                    </a:lnTo>
                    <a:lnTo>
                      <a:pt x="121" y="196"/>
                    </a:lnTo>
                    <a:lnTo>
                      <a:pt x="106" y="198"/>
                    </a:lnTo>
                    <a:lnTo>
                      <a:pt x="91" y="198"/>
                    </a:lnTo>
                    <a:lnTo>
                      <a:pt x="78" y="196"/>
                    </a:lnTo>
                    <a:lnTo>
                      <a:pt x="64" y="193"/>
                    </a:lnTo>
                    <a:lnTo>
                      <a:pt x="51" y="188"/>
                    </a:lnTo>
                    <a:lnTo>
                      <a:pt x="40" y="183"/>
                    </a:lnTo>
                    <a:lnTo>
                      <a:pt x="29" y="174"/>
                    </a:lnTo>
                    <a:lnTo>
                      <a:pt x="18" y="165"/>
                    </a:lnTo>
                    <a:lnTo>
                      <a:pt x="18" y="16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950080" y="3816720"/>
                <a:ext cx="102960" cy="9504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71" y="23"/>
                    </a:moveTo>
                    <a:lnTo>
                      <a:pt x="272" y="23"/>
                    </a:lnTo>
                    <a:lnTo>
                      <a:pt x="287" y="29"/>
                    </a:lnTo>
                    <a:lnTo>
                      <a:pt x="296" y="33"/>
                    </a:lnTo>
                    <a:lnTo>
                      <a:pt x="301" y="36"/>
                    </a:lnTo>
                    <a:lnTo>
                      <a:pt x="301" y="37"/>
                    </a:lnTo>
                    <a:lnTo>
                      <a:pt x="300" y="32"/>
                    </a:lnTo>
                    <a:lnTo>
                      <a:pt x="301" y="30"/>
                    </a:lnTo>
                    <a:lnTo>
                      <a:pt x="301" y="29"/>
                    </a:lnTo>
                    <a:lnTo>
                      <a:pt x="301" y="29"/>
                    </a:lnTo>
                    <a:lnTo>
                      <a:pt x="297" y="31"/>
                    </a:lnTo>
                    <a:lnTo>
                      <a:pt x="289" y="35"/>
                    </a:lnTo>
                    <a:lnTo>
                      <a:pt x="232" y="49"/>
                    </a:lnTo>
                    <a:lnTo>
                      <a:pt x="157" y="70"/>
                    </a:lnTo>
                    <a:lnTo>
                      <a:pt x="136" y="77"/>
                    </a:lnTo>
                    <a:lnTo>
                      <a:pt x="117" y="84"/>
                    </a:lnTo>
                    <a:lnTo>
                      <a:pt x="97" y="92"/>
                    </a:lnTo>
                    <a:lnTo>
                      <a:pt x="79" y="100"/>
                    </a:lnTo>
                    <a:lnTo>
                      <a:pt x="62" y="109"/>
                    </a:lnTo>
                    <a:lnTo>
                      <a:pt x="46" y="120"/>
                    </a:lnTo>
                    <a:lnTo>
                      <a:pt x="31" y="131"/>
                    </a:lnTo>
                    <a:lnTo>
                      <a:pt x="20" y="145"/>
                    </a:lnTo>
                    <a:lnTo>
                      <a:pt x="14" y="152"/>
                    </a:lnTo>
                    <a:lnTo>
                      <a:pt x="10" y="160"/>
                    </a:lnTo>
                    <a:lnTo>
                      <a:pt x="6" y="168"/>
                    </a:lnTo>
                    <a:lnTo>
                      <a:pt x="4" y="177"/>
                    </a:lnTo>
                    <a:lnTo>
                      <a:pt x="2" y="185"/>
                    </a:lnTo>
                    <a:lnTo>
                      <a:pt x="0" y="195"/>
                    </a:lnTo>
                    <a:lnTo>
                      <a:pt x="0" y="204"/>
                    </a:lnTo>
                    <a:lnTo>
                      <a:pt x="0" y="214"/>
                    </a:lnTo>
                    <a:lnTo>
                      <a:pt x="3" y="224"/>
                    </a:lnTo>
                    <a:lnTo>
                      <a:pt x="6" y="234"/>
                    </a:lnTo>
                    <a:lnTo>
                      <a:pt x="10" y="244"/>
                    </a:lnTo>
                    <a:lnTo>
                      <a:pt x="14" y="256"/>
                    </a:lnTo>
                    <a:lnTo>
                      <a:pt x="21" y="267"/>
                    </a:lnTo>
                    <a:lnTo>
                      <a:pt x="28" y="279"/>
                    </a:lnTo>
                    <a:lnTo>
                      <a:pt x="36" y="290"/>
                    </a:lnTo>
                    <a:lnTo>
                      <a:pt x="46" y="301"/>
                    </a:lnTo>
                    <a:lnTo>
                      <a:pt x="64" y="287"/>
                    </a:lnTo>
                    <a:lnTo>
                      <a:pt x="55" y="275"/>
                    </a:lnTo>
                    <a:lnTo>
                      <a:pt x="48" y="265"/>
                    </a:lnTo>
                    <a:lnTo>
                      <a:pt x="41" y="255"/>
                    </a:lnTo>
                    <a:lnTo>
                      <a:pt x="36" y="244"/>
                    </a:lnTo>
                    <a:lnTo>
                      <a:pt x="32" y="235"/>
                    </a:lnTo>
                    <a:lnTo>
                      <a:pt x="29" y="227"/>
                    </a:lnTo>
                    <a:lnTo>
                      <a:pt x="27" y="218"/>
                    </a:lnTo>
                    <a:lnTo>
                      <a:pt x="26" y="211"/>
                    </a:lnTo>
                    <a:lnTo>
                      <a:pt x="24" y="203"/>
                    </a:lnTo>
                    <a:lnTo>
                      <a:pt x="24" y="196"/>
                    </a:lnTo>
                    <a:lnTo>
                      <a:pt x="26" y="190"/>
                    </a:lnTo>
                    <a:lnTo>
                      <a:pt x="27" y="183"/>
                    </a:lnTo>
                    <a:lnTo>
                      <a:pt x="29" y="177"/>
                    </a:lnTo>
                    <a:lnTo>
                      <a:pt x="31" y="171"/>
                    </a:lnTo>
                    <a:lnTo>
                      <a:pt x="35" y="166"/>
                    </a:lnTo>
                    <a:lnTo>
                      <a:pt x="38" y="160"/>
                    </a:lnTo>
                    <a:lnTo>
                      <a:pt x="48" y="150"/>
                    </a:lnTo>
                    <a:lnTo>
                      <a:pt x="61" y="139"/>
                    </a:lnTo>
                    <a:lnTo>
                      <a:pt x="75" y="130"/>
                    </a:lnTo>
                    <a:lnTo>
                      <a:pt x="90" y="121"/>
                    </a:lnTo>
                    <a:lnTo>
                      <a:pt x="106" y="113"/>
                    </a:lnTo>
                    <a:lnTo>
                      <a:pt x="125" y="106"/>
                    </a:lnTo>
                    <a:lnTo>
                      <a:pt x="144" y="100"/>
                    </a:lnTo>
                    <a:lnTo>
                      <a:pt x="162" y="93"/>
                    </a:lnTo>
                    <a:lnTo>
                      <a:pt x="239" y="73"/>
                    </a:lnTo>
                    <a:lnTo>
                      <a:pt x="296" y="57"/>
                    </a:lnTo>
                    <a:lnTo>
                      <a:pt x="307" y="54"/>
                    </a:lnTo>
                    <a:lnTo>
                      <a:pt x="315" y="49"/>
                    </a:lnTo>
                    <a:lnTo>
                      <a:pt x="320" y="45"/>
                    </a:lnTo>
                    <a:lnTo>
                      <a:pt x="323" y="40"/>
                    </a:lnTo>
                    <a:lnTo>
                      <a:pt x="324" y="33"/>
                    </a:lnTo>
                    <a:lnTo>
                      <a:pt x="323" y="25"/>
                    </a:lnTo>
                    <a:lnTo>
                      <a:pt x="316" y="17"/>
                    </a:lnTo>
                    <a:lnTo>
                      <a:pt x="307" y="12"/>
                    </a:lnTo>
                    <a:lnTo>
                      <a:pt x="294" y="6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1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08760" y="3738960"/>
                <a:ext cx="181080" cy="83880"/>
              </a:xfrm>
              <a:custGeom>
                <a:avLst/>
                <a:gdLst/>
                <a:ahLst/>
                <a:rect l="l" t="t" r="r" b="b"/>
                <a:pathLst>
                  <a:path w="571" h="265">
                    <a:moveTo>
                      <a:pt x="571" y="150"/>
                    </a:moveTo>
                    <a:lnTo>
                      <a:pt x="571" y="149"/>
                    </a:lnTo>
                    <a:lnTo>
                      <a:pt x="564" y="133"/>
                    </a:lnTo>
                    <a:lnTo>
                      <a:pt x="556" y="119"/>
                    </a:lnTo>
                    <a:lnTo>
                      <a:pt x="548" y="106"/>
                    </a:lnTo>
                    <a:lnTo>
                      <a:pt x="539" y="92"/>
                    </a:lnTo>
                    <a:lnTo>
                      <a:pt x="529" y="81"/>
                    </a:lnTo>
                    <a:lnTo>
                      <a:pt x="519" y="69"/>
                    </a:lnTo>
                    <a:lnTo>
                      <a:pt x="509" y="60"/>
                    </a:lnTo>
                    <a:lnTo>
                      <a:pt x="497" y="51"/>
                    </a:lnTo>
                    <a:lnTo>
                      <a:pt x="485" y="42"/>
                    </a:lnTo>
                    <a:lnTo>
                      <a:pt x="473" y="35"/>
                    </a:lnTo>
                    <a:lnTo>
                      <a:pt x="461" y="28"/>
                    </a:lnTo>
                    <a:lnTo>
                      <a:pt x="447" y="22"/>
                    </a:lnTo>
                    <a:lnTo>
                      <a:pt x="433" y="17"/>
                    </a:lnTo>
                    <a:lnTo>
                      <a:pt x="420" y="12"/>
                    </a:lnTo>
                    <a:lnTo>
                      <a:pt x="406" y="9"/>
                    </a:lnTo>
                    <a:lnTo>
                      <a:pt x="392" y="5"/>
                    </a:lnTo>
                    <a:lnTo>
                      <a:pt x="377" y="3"/>
                    </a:lnTo>
                    <a:lnTo>
                      <a:pt x="363" y="2"/>
                    </a:lnTo>
                    <a:lnTo>
                      <a:pt x="348" y="1"/>
                    </a:lnTo>
                    <a:lnTo>
                      <a:pt x="333" y="0"/>
                    </a:lnTo>
                    <a:lnTo>
                      <a:pt x="303" y="1"/>
                    </a:lnTo>
                    <a:lnTo>
                      <a:pt x="274" y="3"/>
                    </a:lnTo>
                    <a:lnTo>
                      <a:pt x="245" y="9"/>
                    </a:lnTo>
                    <a:lnTo>
                      <a:pt x="216" y="14"/>
                    </a:lnTo>
                    <a:lnTo>
                      <a:pt x="188" y="22"/>
                    </a:lnTo>
                    <a:lnTo>
                      <a:pt x="161" y="33"/>
                    </a:lnTo>
                    <a:lnTo>
                      <a:pt x="135" y="43"/>
                    </a:lnTo>
                    <a:lnTo>
                      <a:pt x="111" y="55"/>
                    </a:lnTo>
                    <a:lnTo>
                      <a:pt x="88" y="68"/>
                    </a:lnTo>
                    <a:lnTo>
                      <a:pt x="67" y="83"/>
                    </a:lnTo>
                    <a:lnTo>
                      <a:pt x="49" y="96"/>
                    </a:lnTo>
                    <a:lnTo>
                      <a:pt x="33" y="112"/>
                    </a:lnTo>
                    <a:lnTo>
                      <a:pt x="26" y="120"/>
                    </a:lnTo>
                    <a:lnTo>
                      <a:pt x="20" y="128"/>
                    </a:lnTo>
                    <a:lnTo>
                      <a:pt x="14" y="136"/>
                    </a:lnTo>
                    <a:lnTo>
                      <a:pt x="9" y="144"/>
                    </a:lnTo>
                    <a:lnTo>
                      <a:pt x="6" y="152"/>
                    </a:lnTo>
                    <a:lnTo>
                      <a:pt x="3" y="161"/>
                    </a:lnTo>
                    <a:lnTo>
                      <a:pt x="1" y="171"/>
                    </a:lnTo>
                    <a:lnTo>
                      <a:pt x="0" y="179"/>
                    </a:lnTo>
                    <a:lnTo>
                      <a:pt x="0" y="188"/>
                    </a:lnTo>
                    <a:lnTo>
                      <a:pt x="3" y="197"/>
                    </a:lnTo>
                    <a:lnTo>
                      <a:pt x="5" y="205"/>
                    </a:lnTo>
                    <a:lnTo>
                      <a:pt x="9" y="214"/>
                    </a:lnTo>
                    <a:lnTo>
                      <a:pt x="14" y="221"/>
                    </a:lnTo>
                    <a:lnTo>
                      <a:pt x="21" y="229"/>
                    </a:lnTo>
                    <a:lnTo>
                      <a:pt x="29" y="236"/>
                    </a:lnTo>
                    <a:lnTo>
                      <a:pt x="38" y="242"/>
                    </a:lnTo>
                    <a:lnTo>
                      <a:pt x="48" y="249"/>
                    </a:lnTo>
                    <a:lnTo>
                      <a:pt x="58" y="255"/>
                    </a:lnTo>
                    <a:lnTo>
                      <a:pt x="71" y="261"/>
                    </a:lnTo>
                    <a:lnTo>
                      <a:pt x="85" y="265"/>
                    </a:lnTo>
                    <a:lnTo>
                      <a:pt x="93" y="242"/>
                    </a:lnTo>
                    <a:lnTo>
                      <a:pt x="80" y="238"/>
                    </a:lnTo>
                    <a:lnTo>
                      <a:pt x="70" y="233"/>
                    </a:lnTo>
                    <a:lnTo>
                      <a:pt x="59" y="228"/>
                    </a:lnTo>
                    <a:lnTo>
                      <a:pt x="52" y="223"/>
                    </a:lnTo>
                    <a:lnTo>
                      <a:pt x="45" y="217"/>
                    </a:lnTo>
                    <a:lnTo>
                      <a:pt x="38" y="212"/>
                    </a:lnTo>
                    <a:lnTo>
                      <a:pt x="33" y="207"/>
                    </a:lnTo>
                    <a:lnTo>
                      <a:pt x="30" y="201"/>
                    </a:lnTo>
                    <a:lnTo>
                      <a:pt x="28" y="196"/>
                    </a:lnTo>
                    <a:lnTo>
                      <a:pt x="25" y="191"/>
                    </a:lnTo>
                    <a:lnTo>
                      <a:pt x="24" y="185"/>
                    </a:lnTo>
                    <a:lnTo>
                      <a:pt x="24" y="180"/>
                    </a:lnTo>
                    <a:lnTo>
                      <a:pt x="25" y="174"/>
                    </a:lnTo>
                    <a:lnTo>
                      <a:pt x="26" y="168"/>
                    </a:lnTo>
                    <a:lnTo>
                      <a:pt x="29" y="161"/>
                    </a:lnTo>
                    <a:lnTo>
                      <a:pt x="31" y="156"/>
                    </a:lnTo>
                    <a:lnTo>
                      <a:pt x="34" y="149"/>
                    </a:lnTo>
                    <a:lnTo>
                      <a:pt x="39" y="142"/>
                    </a:lnTo>
                    <a:lnTo>
                      <a:pt x="45" y="135"/>
                    </a:lnTo>
                    <a:lnTo>
                      <a:pt x="50" y="128"/>
                    </a:lnTo>
                    <a:lnTo>
                      <a:pt x="65" y="115"/>
                    </a:lnTo>
                    <a:lnTo>
                      <a:pt x="81" y="102"/>
                    </a:lnTo>
                    <a:lnTo>
                      <a:pt x="101" y="88"/>
                    </a:lnTo>
                    <a:lnTo>
                      <a:pt x="122" y="77"/>
                    </a:lnTo>
                    <a:lnTo>
                      <a:pt x="145" y="66"/>
                    </a:lnTo>
                    <a:lnTo>
                      <a:pt x="170" y="55"/>
                    </a:lnTo>
                    <a:lnTo>
                      <a:pt x="195" y="46"/>
                    </a:lnTo>
                    <a:lnTo>
                      <a:pt x="222" y="38"/>
                    </a:lnTo>
                    <a:lnTo>
                      <a:pt x="250" y="31"/>
                    </a:lnTo>
                    <a:lnTo>
                      <a:pt x="277" y="27"/>
                    </a:lnTo>
                    <a:lnTo>
                      <a:pt x="306" y="25"/>
                    </a:lnTo>
                    <a:lnTo>
                      <a:pt x="333" y="25"/>
                    </a:lnTo>
                    <a:lnTo>
                      <a:pt x="347" y="25"/>
                    </a:lnTo>
                    <a:lnTo>
                      <a:pt x="360" y="26"/>
                    </a:lnTo>
                    <a:lnTo>
                      <a:pt x="374" y="27"/>
                    </a:lnTo>
                    <a:lnTo>
                      <a:pt x="388" y="29"/>
                    </a:lnTo>
                    <a:lnTo>
                      <a:pt x="400" y="33"/>
                    </a:lnTo>
                    <a:lnTo>
                      <a:pt x="413" y="36"/>
                    </a:lnTo>
                    <a:lnTo>
                      <a:pt x="425" y="39"/>
                    </a:lnTo>
                    <a:lnTo>
                      <a:pt x="438" y="44"/>
                    </a:lnTo>
                    <a:lnTo>
                      <a:pt x="449" y="50"/>
                    </a:lnTo>
                    <a:lnTo>
                      <a:pt x="461" y="55"/>
                    </a:lnTo>
                    <a:lnTo>
                      <a:pt x="472" y="62"/>
                    </a:lnTo>
                    <a:lnTo>
                      <a:pt x="482" y="69"/>
                    </a:lnTo>
                    <a:lnTo>
                      <a:pt x="493" y="78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0" y="107"/>
                    </a:lnTo>
                    <a:lnTo>
                      <a:pt x="528" y="118"/>
                    </a:lnTo>
                    <a:lnTo>
                      <a:pt x="536" y="131"/>
                    </a:lnTo>
                    <a:lnTo>
                      <a:pt x="543" y="143"/>
                    </a:lnTo>
                    <a:lnTo>
                      <a:pt x="548" y="158"/>
                    </a:lnTo>
                    <a:lnTo>
                      <a:pt x="548" y="156"/>
                    </a:lnTo>
                    <a:lnTo>
                      <a:pt x="571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83360" y="378648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60" y="88"/>
                    </a:moveTo>
                    <a:lnTo>
                      <a:pt x="65" y="67"/>
                    </a:lnTo>
                    <a:lnTo>
                      <a:pt x="54" y="58"/>
                    </a:lnTo>
                    <a:lnTo>
                      <a:pt x="46" y="51"/>
                    </a:lnTo>
                    <a:lnTo>
                      <a:pt x="40" y="47"/>
                    </a:lnTo>
                    <a:lnTo>
                      <a:pt x="38" y="43"/>
                    </a:lnTo>
                    <a:lnTo>
                      <a:pt x="35" y="39"/>
                    </a:lnTo>
                    <a:lnTo>
                      <a:pt x="32" y="31"/>
                    </a:lnTo>
                    <a:lnTo>
                      <a:pt x="28" y="18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5" y="25"/>
                    </a:lnTo>
                    <a:lnTo>
                      <a:pt x="8" y="39"/>
                    </a:lnTo>
                    <a:lnTo>
                      <a:pt x="13" y="49"/>
                    </a:lnTo>
                    <a:lnTo>
                      <a:pt x="19" y="57"/>
                    </a:lnTo>
                    <a:lnTo>
                      <a:pt x="24" y="64"/>
                    </a:lnTo>
                    <a:lnTo>
                      <a:pt x="31" y="70"/>
                    </a:lnTo>
                    <a:lnTo>
                      <a:pt x="39" y="76"/>
                    </a:lnTo>
                    <a:lnTo>
                      <a:pt x="48" y="84"/>
                    </a:lnTo>
                    <a:lnTo>
                      <a:pt x="54" y="64"/>
                    </a:lnTo>
                    <a:lnTo>
                      <a:pt x="48" y="84"/>
                    </a:lnTo>
                    <a:lnTo>
                      <a:pt x="53" y="88"/>
                    </a:lnTo>
                    <a:lnTo>
                      <a:pt x="57" y="88"/>
                    </a:lnTo>
                    <a:lnTo>
                      <a:pt x="62" y="87"/>
                    </a:lnTo>
                    <a:lnTo>
                      <a:pt x="65" y="84"/>
                    </a:lnTo>
                    <a:lnTo>
                      <a:pt x="68" y="81"/>
                    </a:lnTo>
                    <a:lnTo>
                      <a:pt x="69" y="76"/>
                    </a:lnTo>
                    <a:lnTo>
                      <a:pt x="69" y="72"/>
                    </a:lnTo>
                    <a:lnTo>
                      <a:pt x="65" y="67"/>
                    </a:lnTo>
                    <a:lnTo>
                      <a:pt x="60" y="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72200" y="380700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92" h="40">
                    <a:moveTo>
                      <a:pt x="11" y="40"/>
                    </a:moveTo>
                    <a:lnTo>
                      <a:pt x="15" y="40"/>
                    </a:lnTo>
                    <a:lnTo>
                      <a:pt x="92" y="24"/>
                    </a:lnTo>
                    <a:lnTo>
                      <a:pt x="86" y="0"/>
                    </a:lnTo>
                    <a:lnTo>
                      <a:pt x="11" y="16"/>
                    </a:lnTo>
                    <a:lnTo>
                      <a:pt x="11" y="40"/>
                    </a:lnTo>
                    <a:lnTo>
                      <a:pt x="11" y="16"/>
                    </a:lnTo>
                    <a:lnTo>
                      <a:pt x="5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10" y="40"/>
                    </a:lnTo>
                    <a:lnTo>
                      <a:pt x="15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10200" y="4037400"/>
                <a:ext cx="284400" cy="291960"/>
              </a:xfrm>
              <a:custGeom>
                <a:avLst/>
                <a:gdLst/>
                <a:ahLst/>
                <a:rect l="l" t="t" r="r" b="b"/>
                <a:pathLst>
                  <a:path w="895" h="920">
                    <a:moveTo>
                      <a:pt x="422" y="239"/>
                    </a:moveTo>
                    <a:lnTo>
                      <a:pt x="750" y="0"/>
                    </a:lnTo>
                    <a:lnTo>
                      <a:pt x="813" y="60"/>
                    </a:lnTo>
                    <a:lnTo>
                      <a:pt x="540" y="350"/>
                    </a:lnTo>
                    <a:lnTo>
                      <a:pt x="564" y="342"/>
                    </a:lnTo>
                    <a:lnTo>
                      <a:pt x="587" y="335"/>
                    </a:lnTo>
                    <a:lnTo>
                      <a:pt x="609" y="330"/>
                    </a:lnTo>
                    <a:lnTo>
                      <a:pt x="632" y="326"/>
                    </a:lnTo>
                    <a:lnTo>
                      <a:pt x="655" y="322"/>
                    </a:lnTo>
                    <a:lnTo>
                      <a:pt x="677" y="320"/>
                    </a:lnTo>
                    <a:lnTo>
                      <a:pt x="699" y="320"/>
                    </a:lnTo>
                    <a:lnTo>
                      <a:pt x="721" y="320"/>
                    </a:lnTo>
                    <a:lnTo>
                      <a:pt x="743" y="321"/>
                    </a:lnTo>
                    <a:lnTo>
                      <a:pt x="764" y="324"/>
                    </a:lnTo>
                    <a:lnTo>
                      <a:pt x="786" y="327"/>
                    </a:lnTo>
                    <a:lnTo>
                      <a:pt x="809" y="332"/>
                    </a:lnTo>
                    <a:lnTo>
                      <a:pt x="830" y="337"/>
                    </a:lnTo>
                    <a:lnTo>
                      <a:pt x="852" y="344"/>
                    </a:lnTo>
                    <a:lnTo>
                      <a:pt x="874" y="352"/>
                    </a:lnTo>
                    <a:lnTo>
                      <a:pt x="895" y="360"/>
                    </a:lnTo>
                    <a:lnTo>
                      <a:pt x="883" y="373"/>
                    </a:lnTo>
                    <a:lnTo>
                      <a:pt x="869" y="385"/>
                    </a:lnTo>
                    <a:lnTo>
                      <a:pt x="856" y="395"/>
                    </a:lnTo>
                    <a:lnTo>
                      <a:pt x="842" y="406"/>
                    </a:lnTo>
                    <a:lnTo>
                      <a:pt x="828" y="415"/>
                    </a:lnTo>
                    <a:lnTo>
                      <a:pt x="813" y="424"/>
                    </a:lnTo>
                    <a:lnTo>
                      <a:pt x="799" y="432"/>
                    </a:lnTo>
                    <a:lnTo>
                      <a:pt x="784" y="439"/>
                    </a:lnTo>
                    <a:lnTo>
                      <a:pt x="768" y="444"/>
                    </a:lnTo>
                    <a:lnTo>
                      <a:pt x="753" y="450"/>
                    </a:lnTo>
                    <a:lnTo>
                      <a:pt x="737" y="456"/>
                    </a:lnTo>
                    <a:lnTo>
                      <a:pt x="721" y="459"/>
                    </a:lnTo>
                    <a:lnTo>
                      <a:pt x="689" y="466"/>
                    </a:lnTo>
                    <a:lnTo>
                      <a:pt x="656" y="472"/>
                    </a:lnTo>
                    <a:lnTo>
                      <a:pt x="623" y="474"/>
                    </a:lnTo>
                    <a:lnTo>
                      <a:pt x="590" y="475"/>
                    </a:lnTo>
                    <a:lnTo>
                      <a:pt x="557" y="475"/>
                    </a:lnTo>
                    <a:lnTo>
                      <a:pt x="524" y="473"/>
                    </a:lnTo>
                    <a:lnTo>
                      <a:pt x="492" y="471"/>
                    </a:lnTo>
                    <a:lnTo>
                      <a:pt x="460" y="466"/>
                    </a:lnTo>
                    <a:lnTo>
                      <a:pt x="429" y="463"/>
                    </a:lnTo>
                    <a:lnTo>
                      <a:pt x="400" y="457"/>
                    </a:lnTo>
                    <a:lnTo>
                      <a:pt x="395" y="479"/>
                    </a:lnTo>
                    <a:lnTo>
                      <a:pt x="389" y="505"/>
                    </a:lnTo>
                    <a:lnTo>
                      <a:pt x="384" y="536"/>
                    </a:lnTo>
                    <a:lnTo>
                      <a:pt x="378" y="570"/>
                    </a:lnTo>
                    <a:lnTo>
                      <a:pt x="372" y="607"/>
                    </a:lnTo>
                    <a:lnTo>
                      <a:pt x="365" y="646"/>
                    </a:lnTo>
                    <a:lnTo>
                      <a:pt x="356" y="686"/>
                    </a:lnTo>
                    <a:lnTo>
                      <a:pt x="347" y="726"/>
                    </a:lnTo>
                    <a:lnTo>
                      <a:pt x="342" y="745"/>
                    </a:lnTo>
                    <a:lnTo>
                      <a:pt x="335" y="764"/>
                    </a:lnTo>
                    <a:lnTo>
                      <a:pt x="329" y="783"/>
                    </a:lnTo>
                    <a:lnTo>
                      <a:pt x="321" y="800"/>
                    </a:lnTo>
                    <a:lnTo>
                      <a:pt x="314" y="817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7" y="863"/>
                    </a:lnTo>
                    <a:lnTo>
                      <a:pt x="277" y="875"/>
                    </a:lnTo>
                    <a:lnTo>
                      <a:pt x="265" y="887"/>
                    </a:lnTo>
                    <a:lnTo>
                      <a:pt x="254" y="897"/>
                    </a:lnTo>
                    <a:lnTo>
                      <a:pt x="241" y="905"/>
                    </a:lnTo>
                    <a:lnTo>
                      <a:pt x="228" y="912"/>
                    </a:lnTo>
                    <a:lnTo>
                      <a:pt x="213" y="916"/>
                    </a:lnTo>
                    <a:lnTo>
                      <a:pt x="198" y="920"/>
                    </a:lnTo>
                    <a:lnTo>
                      <a:pt x="182" y="920"/>
                    </a:lnTo>
                    <a:lnTo>
                      <a:pt x="154" y="916"/>
                    </a:lnTo>
                    <a:lnTo>
                      <a:pt x="130" y="911"/>
                    </a:lnTo>
                    <a:lnTo>
                      <a:pt x="110" y="904"/>
                    </a:lnTo>
                    <a:lnTo>
                      <a:pt x="94" y="895"/>
                    </a:lnTo>
                    <a:lnTo>
                      <a:pt x="82" y="883"/>
                    </a:lnTo>
                    <a:lnTo>
                      <a:pt x="73" y="871"/>
                    </a:lnTo>
                    <a:lnTo>
                      <a:pt x="66" y="856"/>
                    </a:lnTo>
                    <a:lnTo>
                      <a:pt x="62" y="841"/>
                    </a:lnTo>
                    <a:lnTo>
                      <a:pt x="61" y="825"/>
                    </a:lnTo>
                    <a:lnTo>
                      <a:pt x="62" y="808"/>
                    </a:lnTo>
                    <a:lnTo>
                      <a:pt x="66" y="790"/>
                    </a:lnTo>
                    <a:lnTo>
                      <a:pt x="70" y="772"/>
                    </a:lnTo>
                    <a:lnTo>
                      <a:pt x="76" y="753"/>
                    </a:lnTo>
                    <a:lnTo>
                      <a:pt x="84" y="735"/>
                    </a:lnTo>
                    <a:lnTo>
                      <a:pt x="92" y="716"/>
                    </a:lnTo>
                    <a:lnTo>
                      <a:pt x="101" y="697"/>
                    </a:lnTo>
                    <a:lnTo>
                      <a:pt x="139" y="629"/>
                    </a:lnTo>
                    <a:lnTo>
                      <a:pt x="167" y="577"/>
                    </a:lnTo>
                    <a:lnTo>
                      <a:pt x="171" y="568"/>
                    </a:lnTo>
                    <a:lnTo>
                      <a:pt x="173" y="561"/>
                    </a:lnTo>
                    <a:lnTo>
                      <a:pt x="172" y="555"/>
                    </a:lnTo>
                    <a:lnTo>
                      <a:pt x="169" y="553"/>
                    </a:lnTo>
                    <a:lnTo>
                      <a:pt x="164" y="552"/>
                    </a:lnTo>
                    <a:lnTo>
                      <a:pt x="156" y="554"/>
                    </a:lnTo>
                    <a:lnTo>
                      <a:pt x="144" y="558"/>
                    </a:lnTo>
                    <a:lnTo>
                      <a:pt x="130" y="566"/>
                    </a:lnTo>
                    <a:lnTo>
                      <a:pt x="106" y="578"/>
                    </a:lnTo>
                    <a:lnTo>
                      <a:pt x="84" y="585"/>
                    </a:lnTo>
                    <a:lnTo>
                      <a:pt x="65" y="587"/>
                    </a:lnTo>
                    <a:lnTo>
                      <a:pt x="49" y="585"/>
                    </a:lnTo>
                    <a:lnTo>
                      <a:pt x="34" y="580"/>
                    </a:lnTo>
                    <a:lnTo>
                      <a:pt x="22" y="571"/>
                    </a:lnTo>
                    <a:lnTo>
                      <a:pt x="13" y="560"/>
                    </a:lnTo>
                    <a:lnTo>
                      <a:pt x="6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9"/>
                    </a:lnTo>
                    <a:lnTo>
                      <a:pt x="2" y="466"/>
                    </a:lnTo>
                    <a:lnTo>
                      <a:pt x="5" y="442"/>
                    </a:lnTo>
                    <a:lnTo>
                      <a:pt x="12" y="418"/>
                    </a:lnTo>
                    <a:lnTo>
                      <a:pt x="20" y="393"/>
                    </a:lnTo>
                    <a:lnTo>
                      <a:pt x="29" y="367"/>
                    </a:lnTo>
                    <a:lnTo>
                      <a:pt x="41" y="342"/>
                    </a:lnTo>
                    <a:lnTo>
                      <a:pt x="54" y="316"/>
                    </a:lnTo>
                    <a:lnTo>
                      <a:pt x="69" y="292"/>
                    </a:lnTo>
                    <a:lnTo>
                      <a:pt x="85" y="268"/>
                    </a:lnTo>
                    <a:lnTo>
                      <a:pt x="103" y="245"/>
                    </a:lnTo>
                    <a:lnTo>
                      <a:pt x="122" y="223"/>
                    </a:lnTo>
                    <a:lnTo>
                      <a:pt x="143" y="204"/>
                    </a:lnTo>
                    <a:lnTo>
                      <a:pt x="165" y="187"/>
                    </a:lnTo>
                    <a:lnTo>
                      <a:pt x="188" y="171"/>
                    </a:lnTo>
                    <a:lnTo>
                      <a:pt x="213" y="158"/>
                    </a:lnTo>
                    <a:lnTo>
                      <a:pt x="238" y="149"/>
                    </a:lnTo>
                    <a:lnTo>
                      <a:pt x="265" y="142"/>
                    </a:lnTo>
                    <a:lnTo>
                      <a:pt x="293" y="140"/>
                    </a:lnTo>
                    <a:lnTo>
                      <a:pt x="321" y="141"/>
                    </a:lnTo>
                    <a:lnTo>
                      <a:pt x="351" y="146"/>
                    </a:lnTo>
                    <a:lnTo>
                      <a:pt x="381" y="156"/>
                    </a:lnTo>
                    <a:lnTo>
                      <a:pt x="397" y="165"/>
                    </a:lnTo>
                    <a:lnTo>
                      <a:pt x="409" y="172"/>
                    </a:lnTo>
                    <a:lnTo>
                      <a:pt x="418" y="175"/>
                    </a:lnTo>
                    <a:lnTo>
                      <a:pt x="425" y="176"/>
                    </a:lnTo>
                    <a:lnTo>
                      <a:pt x="432" y="178"/>
                    </a:lnTo>
                    <a:lnTo>
                      <a:pt x="440" y="176"/>
                    </a:lnTo>
                    <a:lnTo>
                      <a:pt x="450" y="174"/>
                    </a:lnTo>
                    <a:lnTo>
                      <a:pt x="463" y="173"/>
                    </a:lnTo>
                    <a:lnTo>
                      <a:pt x="422" y="239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41960" y="4034160"/>
                <a:ext cx="109440" cy="82440"/>
              </a:xfrm>
              <a:custGeom>
                <a:avLst/>
                <a:gdLst/>
                <a:ahLst/>
                <a:rect l="l" t="t" r="r" b="b"/>
                <a:pathLst>
                  <a:path w="346" h="260">
                    <a:moveTo>
                      <a:pt x="342" y="4"/>
                    </a:moveTo>
                    <a:lnTo>
                      <a:pt x="327" y="3"/>
                    </a:lnTo>
                    <a:lnTo>
                      <a:pt x="0" y="241"/>
                    </a:lnTo>
                    <a:lnTo>
                      <a:pt x="13" y="260"/>
                    </a:lnTo>
                    <a:lnTo>
                      <a:pt x="340" y="22"/>
                    </a:lnTo>
                    <a:lnTo>
                      <a:pt x="342" y="4"/>
                    </a:lnTo>
                    <a:lnTo>
                      <a:pt x="340" y="22"/>
                    </a:lnTo>
                    <a:lnTo>
                      <a:pt x="345" y="17"/>
                    </a:lnTo>
                    <a:lnTo>
                      <a:pt x="346" y="13"/>
                    </a:lnTo>
                    <a:lnTo>
                      <a:pt x="345" y="10"/>
                    </a:lnTo>
                    <a:lnTo>
                      <a:pt x="344" y="5"/>
                    </a:lnTo>
                    <a:lnTo>
                      <a:pt x="340" y="2"/>
                    </a:lnTo>
                    <a:lnTo>
                      <a:pt x="336" y="0"/>
                    </a:lnTo>
                    <a:lnTo>
                      <a:pt x="331" y="0"/>
                    </a:lnTo>
                    <a:lnTo>
                      <a:pt x="327" y="3"/>
                    </a:lnTo>
                    <a:lnTo>
                      <a:pt x="34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245280" y="40341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80" y="77"/>
                    </a:moveTo>
                    <a:lnTo>
                      <a:pt x="80" y="60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63" y="77"/>
                    </a:lnTo>
                    <a:lnTo>
                      <a:pt x="80" y="77"/>
                    </a:lnTo>
                    <a:lnTo>
                      <a:pt x="63" y="77"/>
                    </a:lnTo>
                    <a:lnTo>
                      <a:pt x="68" y="81"/>
                    </a:lnTo>
                    <a:lnTo>
                      <a:pt x="73" y="81"/>
                    </a:lnTo>
                    <a:lnTo>
                      <a:pt x="77" y="80"/>
                    </a:lnTo>
                    <a:lnTo>
                      <a:pt x="80" y="77"/>
                    </a:lnTo>
                    <a:lnTo>
                      <a:pt x="83" y="73"/>
                    </a:lnTo>
                    <a:lnTo>
                      <a:pt x="84" y="69"/>
                    </a:lnTo>
                    <a:lnTo>
                      <a:pt x="83" y="65"/>
                    </a:lnTo>
                    <a:lnTo>
                      <a:pt x="80" y="60"/>
                    </a:lnTo>
                    <a:lnTo>
                      <a:pt x="80" y="7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176880" y="4053240"/>
                <a:ext cx="93600" cy="98280"/>
              </a:xfrm>
              <a:custGeom>
                <a:avLst/>
                <a:gdLst/>
                <a:ahLst/>
                <a:rect l="l" t="t" r="r" b="b"/>
                <a:pathLst>
                  <a:path w="294" h="310">
                    <a:moveTo>
                      <a:pt x="16" y="309"/>
                    </a:moveTo>
                    <a:lnTo>
                      <a:pt x="21" y="306"/>
                    </a:lnTo>
                    <a:lnTo>
                      <a:pt x="294" y="17"/>
                    </a:lnTo>
                    <a:lnTo>
                      <a:pt x="277" y="0"/>
                    </a:lnTo>
                    <a:lnTo>
                      <a:pt x="4" y="290"/>
                    </a:lnTo>
                    <a:lnTo>
                      <a:pt x="16" y="309"/>
                    </a:lnTo>
                    <a:lnTo>
                      <a:pt x="4" y="290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3"/>
                    </a:lnTo>
                    <a:lnTo>
                      <a:pt x="4" y="307"/>
                    </a:lnTo>
                    <a:lnTo>
                      <a:pt x="7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6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180120" y="4135680"/>
                <a:ext cx="11736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1" y="33"/>
                    </a:lnTo>
                    <a:lnTo>
                      <a:pt x="320" y="25"/>
                    </a:lnTo>
                    <a:lnTo>
                      <a:pt x="298" y="18"/>
                    </a:lnTo>
                    <a:lnTo>
                      <a:pt x="275" y="12"/>
                    </a:lnTo>
                    <a:lnTo>
                      <a:pt x="252" y="8"/>
                    </a:lnTo>
                    <a:lnTo>
                      <a:pt x="231" y="4"/>
                    </a:lnTo>
                    <a:lnTo>
                      <a:pt x="208" y="2"/>
                    </a:lnTo>
                    <a:lnTo>
                      <a:pt x="185" y="0"/>
                    </a:lnTo>
                    <a:lnTo>
                      <a:pt x="162" y="0"/>
                    </a:lnTo>
                    <a:lnTo>
                      <a:pt x="139" y="1"/>
                    </a:lnTo>
                    <a:lnTo>
                      <a:pt x="117" y="3"/>
                    </a:lnTo>
                    <a:lnTo>
                      <a:pt x="94" y="5"/>
                    </a:lnTo>
                    <a:lnTo>
                      <a:pt x="71" y="10"/>
                    </a:lnTo>
                    <a:lnTo>
                      <a:pt x="47" y="16"/>
                    </a:lnTo>
                    <a:lnTo>
                      <a:pt x="24" y="22"/>
                    </a:lnTo>
                    <a:lnTo>
                      <a:pt x="0" y="30"/>
                    </a:lnTo>
                    <a:lnTo>
                      <a:pt x="8" y="53"/>
                    </a:lnTo>
                    <a:lnTo>
                      <a:pt x="31" y="45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29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5"/>
                    </a:lnTo>
                    <a:lnTo>
                      <a:pt x="206" y="26"/>
                    </a:lnTo>
                    <a:lnTo>
                      <a:pt x="227" y="28"/>
                    </a:lnTo>
                    <a:lnTo>
                      <a:pt x="249" y="32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2" y="47"/>
                    </a:lnTo>
                    <a:lnTo>
                      <a:pt x="333" y="55"/>
                    </a:lnTo>
                    <a:lnTo>
                      <a:pt x="355" y="63"/>
                    </a:lnTo>
                    <a:lnTo>
                      <a:pt x="350" y="44"/>
                    </a:lnTo>
                    <a:lnTo>
                      <a:pt x="355" y="63"/>
                    </a:lnTo>
                    <a:lnTo>
                      <a:pt x="359" y="65"/>
                    </a:lnTo>
                    <a:lnTo>
                      <a:pt x="364" y="63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2"/>
                    </a:lnTo>
                    <a:lnTo>
                      <a:pt x="371" y="49"/>
                    </a:lnTo>
                    <a:lnTo>
                      <a:pt x="369" y="44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132600" y="4148280"/>
                <a:ext cx="164880" cy="44640"/>
              </a:xfrm>
              <a:custGeom>
                <a:avLst/>
                <a:gdLst/>
                <a:ahLst/>
                <a:rect l="l" t="t" r="r" b="b"/>
                <a:pathLst>
                  <a:path w="517" h="136">
                    <a:moveTo>
                      <a:pt x="23" y="109"/>
                    </a:moveTo>
                    <a:lnTo>
                      <a:pt x="11" y="117"/>
                    </a:lnTo>
                    <a:lnTo>
                      <a:pt x="40" y="122"/>
                    </a:lnTo>
                    <a:lnTo>
                      <a:pt x="71" y="127"/>
                    </a:lnTo>
                    <a:lnTo>
                      <a:pt x="103" y="130"/>
                    </a:lnTo>
                    <a:lnTo>
                      <a:pt x="136" y="133"/>
                    </a:lnTo>
                    <a:lnTo>
                      <a:pt x="169" y="135"/>
                    </a:lnTo>
                    <a:lnTo>
                      <a:pt x="202" y="136"/>
                    </a:lnTo>
                    <a:lnTo>
                      <a:pt x="236" y="135"/>
                    </a:lnTo>
                    <a:lnTo>
                      <a:pt x="269" y="131"/>
                    </a:lnTo>
                    <a:lnTo>
                      <a:pt x="303" y="127"/>
                    </a:lnTo>
                    <a:lnTo>
                      <a:pt x="335" y="120"/>
                    </a:lnTo>
                    <a:lnTo>
                      <a:pt x="352" y="115"/>
                    </a:lnTo>
                    <a:lnTo>
                      <a:pt x="368" y="109"/>
                    </a:lnTo>
                    <a:lnTo>
                      <a:pt x="384" y="104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6" y="73"/>
                    </a:lnTo>
                    <a:lnTo>
                      <a:pt x="461" y="64"/>
                    </a:lnTo>
                    <a:lnTo>
                      <a:pt x="476" y="54"/>
                    </a:lnTo>
                    <a:lnTo>
                      <a:pt x="489" y="42"/>
                    </a:lnTo>
                    <a:lnTo>
                      <a:pt x="503" y="30"/>
                    </a:lnTo>
                    <a:lnTo>
                      <a:pt x="517" y="17"/>
                    </a:lnTo>
                    <a:lnTo>
                      <a:pt x="498" y="0"/>
                    </a:lnTo>
                    <a:lnTo>
                      <a:pt x="486" y="13"/>
                    </a:lnTo>
                    <a:lnTo>
                      <a:pt x="473" y="24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5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0" y="87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3"/>
                    </a:lnTo>
                    <a:lnTo>
                      <a:pt x="267" y="107"/>
                    </a:lnTo>
                    <a:lnTo>
                      <a:pt x="234" y="109"/>
                    </a:lnTo>
                    <a:lnTo>
                      <a:pt x="202" y="111"/>
                    </a:lnTo>
                    <a:lnTo>
                      <a:pt x="169" y="111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3"/>
                    </a:lnTo>
                    <a:lnTo>
                      <a:pt x="44" y="98"/>
                    </a:lnTo>
                    <a:lnTo>
                      <a:pt x="14" y="94"/>
                    </a:lnTo>
                    <a:lnTo>
                      <a:pt x="0" y="102"/>
                    </a:lnTo>
                    <a:lnTo>
                      <a:pt x="14" y="94"/>
                    </a:lnTo>
                    <a:lnTo>
                      <a:pt x="8" y="94"/>
                    </a:lnTo>
                    <a:lnTo>
                      <a:pt x="5" y="96"/>
                    </a:lnTo>
                    <a:lnTo>
                      <a:pt x="1" y="99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1" y="112"/>
                    </a:lnTo>
                    <a:lnTo>
                      <a:pt x="5" y="115"/>
                    </a:lnTo>
                    <a:lnTo>
                      <a:pt x="11" y="117"/>
                    </a:lnTo>
                    <a:lnTo>
                      <a:pt x="23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067440" y="418176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0" h="478">
                    <a:moveTo>
                      <a:pt x="0" y="478"/>
                    </a:moveTo>
                    <a:lnTo>
                      <a:pt x="0" y="478"/>
                    </a:lnTo>
                    <a:lnTo>
                      <a:pt x="18" y="477"/>
                    </a:lnTo>
                    <a:lnTo>
                      <a:pt x="35" y="474"/>
                    </a:lnTo>
                    <a:lnTo>
                      <a:pt x="51" y="469"/>
                    </a:lnTo>
                    <a:lnTo>
                      <a:pt x="66" y="462"/>
                    </a:lnTo>
                    <a:lnTo>
                      <a:pt x="80" y="453"/>
                    </a:lnTo>
                    <a:lnTo>
                      <a:pt x="93" y="442"/>
                    </a:lnTo>
                    <a:lnTo>
                      <a:pt x="105" y="429"/>
                    </a:lnTo>
                    <a:lnTo>
                      <a:pt x="116" y="416"/>
                    </a:lnTo>
                    <a:lnTo>
                      <a:pt x="125" y="402"/>
                    </a:lnTo>
                    <a:lnTo>
                      <a:pt x="135" y="386"/>
                    </a:lnTo>
                    <a:lnTo>
                      <a:pt x="143" y="369"/>
                    </a:lnTo>
                    <a:lnTo>
                      <a:pt x="151" y="351"/>
                    </a:lnTo>
                    <a:lnTo>
                      <a:pt x="158" y="332"/>
                    </a:lnTo>
                    <a:lnTo>
                      <a:pt x="165" y="314"/>
                    </a:lnTo>
                    <a:lnTo>
                      <a:pt x="172" y="295"/>
                    </a:lnTo>
                    <a:lnTo>
                      <a:pt x="178" y="274"/>
                    </a:lnTo>
                    <a:lnTo>
                      <a:pt x="188" y="234"/>
                    </a:lnTo>
                    <a:lnTo>
                      <a:pt x="196" y="194"/>
                    </a:lnTo>
                    <a:lnTo>
                      <a:pt x="203" y="156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0" y="52"/>
                    </a:lnTo>
                    <a:lnTo>
                      <a:pt x="226" y="27"/>
                    </a:lnTo>
                    <a:lnTo>
                      <a:pt x="230" y="7"/>
                    </a:lnTo>
                    <a:lnTo>
                      <a:pt x="207" y="0"/>
                    </a:lnTo>
                    <a:lnTo>
                      <a:pt x="202" y="21"/>
                    </a:lnTo>
                    <a:lnTo>
                      <a:pt x="197" y="49"/>
                    </a:lnTo>
                    <a:lnTo>
                      <a:pt x="191" y="79"/>
                    </a:lnTo>
                    <a:lnTo>
                      <a:pt x="186" y="114"/>
                    </a:lnTo>
                    <a:lnTo>
                      <a:pt x="179" y="151"/>
                    </a:lnTo>
                    <a:lnTo>
                      <a:pt x="172" y="190"/>
                    </a:lnTo>
                    <a:lnTo>
                      <a:pt x="164" y="230"/>
                    </a:lnTo>
                    <a:lnTo>
                      <a:pt x="154" y="269"/>
                    </a:lnTo>
                    <a:lnTo>
                      <a:pt x="148" y="288"/>
                    </a:lnTo>
                    <a:lnTo>
                      <a:pt x="142" y="306"/>
                    </a:lnTo>
                    <a:lnTo>
                      <a:pt x="137" y="324"/>
                    </a:lnTo>
                    <a:lnTo>
                      <a:pt x="130" y="342"/>
                    </a:lnTo>
                    <a:lnTo>
                      <a:pt x="122" y="359"/>
                    </a:lnTo>
                    <a:lnTo>
                      <a:pt x="114" y="373"/>
                    </a:lnTo>
                    <a:lnTo>
                      <a:pt x="106" y="388"/>
                    </a:lnTo>
                    <a:lnTo>
                      <a:pt x="97" y="402"/>
                    </a:lnTo>
                    <a:lnTo>
                      <a:pt x="86" y="413"/>
                    </a:lnTo>
                    <a:lnTo>
                      <a:pt x="76" y="425"/>
                    </a:lnTo>
                    <a:lnTo>
                      <a:pt x="66" y="434"/>
                    </a:lnTo>
                    <a:lnTo>
                      <a:pt x="55" y="441"/>
                    </a:lnTo>
                    <a:lnTo>
                      <a:pt x="42" y="446"/>
                    </a:lnTo>
                    <a:lnTo>
                      <a:pt x="29" y="451"/>
                    </a:lnTo>
                    <a:lnTo>
                      <a:pt x="16" y="453"/>
                    </a:lnTo>
                    <a:lnTo>
                      <a:pt x="1" y="453"/>
                    </a:lnTo>
                    <a:lnTo>
                      <a:pt x="1" y="453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26040" y="42087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4" h="392">
                    <a:moveTo>
                      <a:pt x="85" y="37"/>
                    </a:moveTo>
                    <a:lnTo>
                      <a:pt x="85" y="37"/>
                    </a:lnTo>
                    <a:lnTo>
                      <a:pt x="100" y="30"/>
                    </a:lnTo>
                    <a:lnTo>
                      <a:pt x="110" y="25"/>
                    </a:lnTo>
                    <a:lnTo>
                      <a:pt x="116" y="24"/>
                    </a:lnTo>
                    <a:lnTo>
                      <a:pt x="117" y="24"/>
                    </a:lnTo>
                    <a:lnTo>
                      <a:pt x="113" y="22"/>
                    </a:lnTo>
                    <a:lnTo>
                      <a:pt x="110" y="20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09" y="24"/>
                    </a:lnTo>
                    <a:lnTo>
                      <a:pt x="107" y="31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1"/>
                    </a:lnTo>
                    <a:lnTo>
                      <a:pt x="23" y="191"/>
                    </a:lnTo>
                    <a:lnTo>
                      <a:pt x="15" y="210"/>
                    </a:lnTo>
                    <a:lnTo>
                      <a:pt x="9" y="228"/>
                    </a:lnTo>
                    <a:lnTo>
                      <a:pt x="3" y="248"/>
                    </a:lnTo>
                    <a:lnTo>
                      <a:pt x="1" y="267"/>
                    </a:lnTo>
                    <a:lnTo>
                      <a:pt x="0" y="285"/>
                    </a:lnTo>
                    <a:lnTo>
                      <a:pt x="1" y="302"/>
                    </a:lnTo>
                    <a:lnTo>
                      <a:pt x="2" y="311"/>
                    </a:lnTo>
                    <a:lnTo>
                      <a:pt x="4" y="320"/>
                    </a:lnTo>
                    <a:lnTo>
                      <a:pt x="8" y="328"/>
                    </a:lnTo>
                    <a:lnTo>
                      <a:pt x="12" y="336"/>
                    </a:lnTo>
                    <a:lnTo>
                      <a:pt x="17" y="344"/>
                    </a:lnTo>
                    <a:lnTo>
                      <a:pt x="23" y="351"/>
                    </a:lnTo>
                    <a:lnTo>
                      <a:pt x="29" y="358"/>
                    </a:lnTo>
                    <a:lnTo>
                      <a:pt x="37" y="364"/>
                    </a:lnTo>
                    <a:lnTo>
                      <a:pt x="45" y="370"/>
                    </a:lnTo>
                    <a:lnTo>
                      <a:pt x="54" y="374"/>
                    </a:lnTo>
                    <a:lnTo>
                      <a:pt x="66" y="379"/>
                    </a:lnTo>
                    <a:lnTo>
                      <a:pt x="76" y="383"/>
                    </a:lnTo>
                    <a:lnTo>
                      <a:pt x="89" y="385"/>
                    </a:lnTo>
                    <a:lnTo>
                      <a:pt x="101" y="389"/>
                    </a:lnTo>
                    <a:lnTo>
                      <a:pt x="116" y="390"/>
                    </a:lnTo>
                    <a:lnTo>
                      <a:pt x="131" y="392"/>
                    </a:lnTo>
                    <a:lnTo>
                      <a:pt x="132" y="367"/>
                    </a:lnTo>
                    <a:lnTo>
                      <a:pt x="118" y="366"/>
                    </a:lnTo>
                    <a:lnTo>
                      <a:pt x="106" y="365"/>
                    </a:lnTo>
                    <a:lnTo>
                      <a:pt x="94" y="363"/>
                    </a:lnTo>
                    <a:lnTo>
                      <a:pt x="83" y="359"/>
                    </a:lnTo>
                    <a:lnTo>
                      <a:pt x="74" y="356"/>
                    </a:lnTo>
                    <a:lnTo>
                      <a:pt x="66" y="352"/>
                    </a:lnTo>
                    <a:lnTo>
                      <a:pt x="58" y="349"/>
                    </a:lnTo>
                    <a:lnTo>
                      <a:pt x="51" y="344"/>
                    </a:lnTo>
                    <a:lnTo>
                      <a:pt x="45" y="340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4"/>
                    </a:lnTo>
                    <a:lnTo>
                      <a:pt x="29" y="318"/>
                    </a:lnTo>
                    <a:lnTo>
                      <a:pt x="27" y="313"/>
                    </a:lnTo>
                    <a:lnTo>
                      <a:pt x="26" y="307"/>
                    </a:lnTo>
                    <a:lnTo>
                      <a:pt x="25" y="300"/>
                    </a:lnTo>
                    <a:lnTo>
                      <a:pt x="24" y="285"/>
                    </a:lnTo>
                    <a:lnTo>
                      <a:pt x="25" y="269"/>
                    </a:lnTo>
                    <a:lnTo>
                      <a:pt x="27" y="253"/>
                    </a:lnTo>
                    <a:lnTo>
                      <a:pt x="32" y="236"/>
                    </a:lnTo>
                    <a:lnTo>
                      <a:pt x="37" y="218"/>
                    </a:lnTo>
                    <a:lnTo>
                      <a:pt x="45" y="200"/>
                    </a:lnTo>
                    <a:lnTo>
                      <a:pt x="53" y="181"/>
                    </a:lnTo>
                    <a:lnTo>
                      <a:pt x="61" y="163"/>
                    </a:lnTo>
                    <a:lnTo>
                      <a:pt x="100" y="95"/>
                    </a:lnTo>
                    <a:lnTo>
                      <a:pt x="127" y="42"/>
                    </a:lnTo>
                    <a:lnTo>
                      <a:pt x="132" y="32"/>
                    </a:lnTo>
                    <a:lnTo>
                      <a:pt x="134" y="23"/>
                    </a:lnTo>
                    <a:lnTo>
                      <a:pt x="134" y="17"/>
                    </a:lnTo>
                    <a:lnTo>
                      <a:pt x="133" y="12"/>
                    </a:lnTo>
                    <a:lnTo>
                      <a:pt x="130" y="6"/>
                    </a:lnTo>
                    <a:lnTo>
                      <a:pt x="123" y="0"/>
                    </a:lnTo>
                    <a:lnTo>
                      <a:pt x="113" y="0"/>
                    </a:lnTo>
                    <a:lnTo>
                      <a:pt x="102" y="2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005520" y="4077000"/>
                <a:ext cx="127080" cy="15084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9"/>
                    </a:moveTo>
                    <a:lnTo>
                      <a:pt x="397" y="18"/>
                    </a:lnTo>
                    <a:lnTo>
                      <a:pt x="381" y="12"/>
                    </a:lnTo>
                    <a:lnTo>
                      <a:pt x="365" y="7"/>
                    </a:lnTo>
                    <a:lnTo>
                      <a:pt x="350" y="4"/>
                    </a:lnTo>
                    <a:lnTo>
                      <a:pt x="334" y="2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2"/>
                    </a:lnTo>
                    <a:lnTo>
                      <a:pt x="275" y="4"/>
                    </a:lnTo>
                    <a:lnTo>
                      <a:pt x="260" y="6"/>
                    </a:lnTo>
                    <a:lnTo>
                      <a:pt x="246" y="11"/>
                    </a:lnTo>
                    <a:lnTo>
                      <a:pt x="233" y="15"/>
                    </a:lnTo>
                    <a:lnTo>
                      <a:pt x="220" y="21"/>
                    </a:lnTo>
                    <a:lnTo>
                      <a:pt x="207" y="27"/>
                    </a:lnTo>
                    <a:lnTo>
                      <a:pt x="194" y="34"/>
                    </a:lnTo>
                    <a:lnTo>
                      <a:pt x="181" y="42"/>
                    </a:lnTo>
                    <a:lnTo>
                      <a:pt x="170" y="49"/>
                    </a:lnTo>
                    <a:lnTo>
                      <a:pt x="159" y="59"/>
                    </a:lnTo>
                    <a:lnTo>
                      <a:pt x="147" y="68"/>
                    </a:lnTo>
                    <a:lnTo>
                      <a:pt x="136" y="78"/>
                    </a:lnTo>
                    <a:lnTo>
                      <a:pt x="126" y="88"/>
                    </a:lnTo>
                    <a:lnTo>
                      <a:pt x="105" y="110"/>
                    </a:lnTo>
                    <a:lnTo>
                      <a:pt x="87" y="133"/>
                    </a:lnTo>
                    <a:lnTo>
                      <a:pt x="71" y="158"/>
                    </a:lnTo>
                    <a:lnTo>
                      <a:pt x="55" y="183"/>
                    </a:lnTo>
                    <a:lnTo>
                      <a:pt x="42" y="209"/>
                    </a:lnTo>
                    <a:lnTo>
                      <a:pt x="30" y="235"/>
                    </a:lnTo>
                    <a:lnTo>
                      <a:pt x="21" y="262"/>
                    </a:lnTo>
                    <a:lnTo>
                      <a:pt x="12" y="288"/>
                    </a:lnTo>
                    <a:lnTo>
                      <a:pt x="6" y="313"/>
                    </a:lnTo>
                    <a:lnTo>
                      <a:pt x="1" y="338"/>
                    </a:lnTo>
                    <a:lnTo>
                      <a:pt x="0" y="361"/>
                    </a:lnTo>
                    <a:lnTo>
                      <a:pt x="0" y="382"/>
                    </a:lnTo>
                    <a:lnTo>
                      <a:pt x="1" y="394"/>
                    </a:lnTo>
                    <a:lnTo>
                      <a:pt x="3" y="403"/>
                    </a:lnTo>
                    <a:lnTo>
                      <a:pt x="5" y="413"/>
                    </a:lnTo>
                    <a:lnTo>
                      <a:pt x="7" y="422"/>
                    </a:lnTo>
                    <a:lnTo>
                      <a:pt x="11" y="430"/>
                    </a:lnTo>
                    <a:lnTo>
                      <a:pt x="15" y="438"/>
                    </a:lnTo>
                    <a:lnTo>
                      <a:pt x="21" y="446"/>
                    </a:lnTo>
                    <a:lnTo>
                      <a:pt x="26" y="453"/>
                    </a:lnTo>
                    <a:lnTo>
                      <a:pt x="33" y="459"/>
                    </a:lnTo>
                    <a:lnTo>
                      <a:pt x="40" y="463"/>
                    </a:lnTo>
                    <a:lnTo>
                      <a:pt x="48" y="467"/>
                    </a:lnTo>
                    <a:lnTo>
                      <a:pt x="57" y="470"/>
                    </a:lnTo>
                    <a:lnTo>
                      <a:pt x="66" y="471"/>
                    </a:lnTo>
                    <a:lnTo>
                      <a:pt x="77" y="471"/>
                    </a:lnTo>
                    <a:lnTo>
                      <a:pt x="87" y="471"/>
                    </a:lnTo>
                    <a:lnTo>
                      <a:pt x="98" y="469"/>
                    </a:lnTo>
                    <a:lnTo>
                      <a:pt x="110" y="466"/>
                    </a:lnTo>
                    <a:lnTo>
                      <a:pt x="122" y="462"/>
                    </a:lnTo>
                    <a:lnTo>
                      <a:pt x="135" y="456"/>
                    </a:lnTo>
                    <a:lnTo>
                      <a:pt x="147" y="450"/>
                    </a:lnTo>
                    <a:lnTo>
                      <a:pt x="136" y="429"/>
                    </a:lnTo>
                    <a:lnTo>
                      <a:pt x="124" y="435"/>
                    </a:lnTo>
                    <a:lnTo>
                      <a:pt x="113" y="439"/>
                    </a:lnTo>
                    <a:lnTo>
                      <a:pt x="103" y="443"/>
                    </a:lnTo>
                    <a:lnTo>
                      <a:pt x="93" y="445"/>
                    </a:lnTo>
                    <a:lnTo>
                      <a:pt x="85" y="447"/>
                    </a:lnTo>
                    <a:lnTo>
                      <a:pt x="77" y="447"/>
                    </a:lnTo>
                    <a:lnTo>
                      <a:pt x="69" y="447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2" y="442"/>
                    </a:lnTo>
                    <a:lnTo>
                      <a:pt x="47" y="439"/>
                    </a:lnTo>
                    <a:lnTo>
                      <a:pt x="44" y="436"/>
                    </a:lnTo>
                    <a:lnTo>
                      <a:pt x="39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30" y="414"/>
                    </a:lnTo>
                    <a:lnTo>
                      <a:pt x="28" y="406"/>
                    </a:lnTo>
                    <a:lnTo>
                      <a:pt x="26" y="399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5"/>
                    </a:lnTo>
                    <a:lnTo>
                      <a:pt x="44" y="270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5"/>
                    </a:lnTo>
                    <a:lnTo>
                      <a:pt x="90" y="170"/>
                    </a:lnTo>
                    <a:lnTo>
                      <a:pt x="106" y="148"/>
                    </a:lnTo>
                    <a:lnTo>
                      <a:pt x="124" y="126"/>
                    </a:lnTo>
                    <a:lnTo>
                      <a:pt x="143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2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3"/>
                    </a:lnTo>
                    <a:lnTo>
                      <a:pt x="242" y="38"/>
                    </a:lnTo>
                    <a:lnTo>
                      <a:pt x="253" y="34"/>
                    </a:lnTo>
                    <a:lnTo>
                      <a:pt x="266" y="30"/>
                    </a:lnTo>
                    <a:lnTo>
                      <a:pt x="278" y="28"/>
                    </a:lnTo>
                    <a:lnTo>
                      <a:pt x="292" y="26"/>
                    </a:lnTo>
                    <a:lnTo>
                      <a:pt x="305" y="26"/>
                    </a:lnTo>
                    <a:lnTo>
                      <a:pt x="318" y="26"/>
                    </a:lnTo>
                    <a:lnTo>
                      <a:pt x="332" y="26"/>
                    </a:lnTo>
                    <a:lnTo>
                      <a:pt x="346" y="28"/>
                    </a:lnTo>
                    <a:lnTo>
                      <a:pt x="359" y="31"/>
                    </a:lnTo>
                    <a:lnTo>
                      <a:pt x="374" y="35"/>
                    </a:lnTo>
                    <a:lnTo>
                      <a:pt x="389" y="40"/>
                    </a:lnTo>
                    <a:lnTo>
                      <a:pt x="387" y="39"/>
                    </a:lnTo>
                    <a:lnTo>
                      <a:pt x="399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129360" y="40834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99" y="34"/>
                    </a:moveTo>
                    <a:lnTo>
                      <a:pt x="88" y="16"/>
                    </a:lnTo>
                    <a:lnTo>
                      <a:pt x="74" y="17"/>
                    </a:lnTo>
                    <a:lnTo>
                      <a:pt x="63" y="18"/>
                    </a:lnTo>
                    <a:lnTo>
                      <a:pt x="57" y="19"/>
                    </a:lnTo>
                    <a:lnTo>
                      <a:pt x="52" y="19"/>
                    </a:lnTo>
                    <a:lnTo>
                      <a:pt x="46" y="18"/>
                    </a:lnTo>
                    <a:lnTo>
                      <a:pt x="39" y="15"/>
                    </a:lnTo>
                    <a:lnTo>
                      <a:pt x="28" y="9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17" y="29"/>
                    </a:lnTo>
                    <a:lnTo>
                      <a:pt x="29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58" y="43"/>
                    </a:lnTo>
                    <a:lnTo>
                      <a:pt x="67" y="42"/>
                    </a:lnTo>
                    <a:lnTo>
                      <a:pt x="76" y="41"/>
                    </a:lnTo>
                    <a:lnTo>
                      <a:pt x="90" y="40"/>
                    </a:lnTo>
                    <a:lnTo>
                      <a:pt x="78" y="21"/>
                    </a:lnTo>
                    <a:lnTo>
                      <a:pt x="90" y="40"/>
                    </a:lnTo>
                    <a:lnTo>
                      <a:pt x="95" y="37"/>
                    </a:lnTo>
                    <a:lnTo>
                      <a:pt x="99" y="35"/>
                    </a:lnTo>
                    <a:lnTo>
                      <a:pt x="101" y="30"/>
                    </a:lnTo>
                    <a:lnTo>
                      <a:pt x="101" y="26"/>
                    </a:lnTo>
                    <a:lnTo>
                      <a:pt x="100" y="23"/>
                    </a:lnTo>
                    <a:lnTo>
                      <a:pt x="98" y="18"/>
                    </a:lnTo>
                    <a:lnTo>
                      <a:pt x="93" y="16"/>
                    </a:lnTo>
                    <a:lnTo>
                      <a:pt x="88" y="16"/>
                    </a:lnTo>
                    <a:lnTo>
                      <a:pt x="99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140520" y="4089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19" y="81"/>
                    </a:moveTo>
                    <a:lnTo>
                      <a:pt x="23" y="79"/>
                    </a:lnTo>
                    <a:lnTo>
                      <a:pt x="64" y="13"/>
                    </a:lnTo>
                    <a:lnTo>
                      <a:pt x="43" y="0"/>
                    </a:lnTo>
                    <a:lnTo>
                      <a:pt x="2" y="65"/>
                    </a:lnTo>
                    <a:lnTo>
                      <a:pt x="19" y="81"/>
                    </a:lnTo>
                    <a:lnTo>
                      <a:pt x="2" y="65"/>
                    </a:lnTo>
                    <a:lnTo>
                      <a:pt x="0" y="71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6" y="82"/>
                    </a:lnTo>
                    <a:lnTo>
                      <a:pt x="10" y="84"/>
                    </a:lnTo>
                    <a:lnTo>
                      <a:pt x="15" y="85"/>
                    </a:lnTo>
                    <a:lnTo>
                      <a:pt x="19" y="82"/>
                    </a:lnTo>
                    <a:lnTo>
                      <a:pt x="23" y="79"/>
                    </a:lnTo>
                    <a:lnTo>
                      <a:pt x="19" y="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36960" y="3857760"/>
                <a:ext cx="284400" cy="292320"/>
              </a:xfrm>
              <a:custGeom>
                <a:avLst/>
                <a:gdLst/>
                <a:ahLst/>
                <a:rect l="l" t="t" r="r" b="b"/>
                <a:pathLst>
                  <a:path w="894" h="920">
                    <a:moveTo>
                      <a:pt x="421" y="240"/>
                    </a:moveTo>
                    <a:lnTo>
                      <a:pt x="750" y="0"/>
                    </a:lnTo>
                    <a:lnTo>
                      <a:pt x="814" y="61"/>
                    </a:lnTo>
                    <a:lnTo>
                      <a:pt x="540" y="350"/>
                    </a:lnTo>
                    <a:lnTo>
                      <a:pt x="563" y="342"/>
                    </a:lnTo>
                    <a:lnTo>
                      <a:pt x="586" y="336"/>
                    </a:lnTo>
                    <a:lnTo>
                      <a:pt x="608" y="330"/>
                    </a:lnTo>
                    <a:lnTo>
                      <a:pt x="631" y="327"/>
                    </a:lnTo>
                    <a:lnTo>
                      <a:pt x="654" y="323"/>
                    </a:lnTo>
                    <a:lnTo>
                      <a:pt x="676" y="321"/>
                    </a:lnTo>
                    <a:lnTo>
                      <a:pt x="698" y="320"/>
                    </a:lnTo>
                    <a:lnTo>
                      <a:pt x="720" y="321"/>
                    </a:lnTo>
                    <a:lnTo>
                      <a:pt x="742" y="322"/>
                    </a:lnTo>
                    <a:lnTo>
                      <a:pt x="765" y="324"/>
                    </a:lnTo>
                    <a:lnTo>
                      <a:pt x="786" y="328"/>
                    </a:lnTo>
                    <a:lnTo>
                      <a:pt x="808" y="332"/>
                    </a:lnTo>
                    <a:lnTo>
                      <a:pt x="829" y="338"/>
                    </a:lnTo>
                    <a:lnTo>
                      <a:pt x="851" y="345"/>
                    </a:lnTo>
                    <a:lnTo>
                      <a:pt x="873" y="352"/>
                    </a:lnTo>
                    <a:lnTo>
                      <a:pt x="894" y="361"/>
                    </a:lnTo>
                    <a:lnTo>
                      <a:pt x="882" y="373"/>
                    </a:lnTo>
                    <a:lnTo>
                      <a:pt x="868" y="385"/>
                    </a:lnTo>
                    <a:lnTo>
                      <a:pt x="856" y="396"/>
                    </a:lnTo>
                    <a:lnTo>
                      <a:pt x="841" y="406"/>
                    </a:lnTo>
                    <a:lnTo>
                      <a:pt x="827" y="415"/>
                    </a:lnTo>
                    <a:lnTo>
                      <a:pt x="812" y="423"/>
                    </a:lnTo>
                    <a:lnTo>
                      <a:pt x="798" y="431"/>
                    </a:lnTo>
                    <a:lnTo>
                      <a:pt x="783" y="438"/>
                    </a:lnTo>
                    <a:lnTo>
                      <a:pt x="768" y="445"/>
                    </a:lnTo>
                    <a:lnTo>
                      <a:pt x="752" y="451"/>
                    </a:lnTo>
                    <a:lnTo>
                      <a:pt x="736" y="455"/>
                    </a:lnTo>
                    <a:lnTo>
                      <a:pt x="720" y="460"/>
                    </a:lnTo>
                    <a:lnTo>
                      <a:pt x="688" y="467"/>
                    </a:lnTo>
                    <a:lnTo>
                      <a:pt x="655" y="471"/>
                    </a:lnTo>
                    <a:lnTo>
                      <a:pt x="622" y="475"/>
                    </a:lnTo>
                    <a:lnTo>
                      <a:pt x="589" y="476"/>
                    </a:lnTo>
                    <a:lnTo>
                      <a:pt x="556" y="475"/>
                    </a:lnTo>
                    <a:lnTo>
                      <a:pt x="524" y="474"/>
                    </a:lnTo>
                    <a:lnTo>
                      <a:pt x="491" y="470"/>
                    </a:lnTo>
                    <a:lnTo>
                      <a:pt x="460" y="467"/>
                    </a:lnTo>
                    <a:lnTo>
                      <a:pt x="429" y="462"/>
                    </a:lnTo>
                    <a:lnTo>
                      <a:pt x="400" y="458"/>
                    </a:lnTo>
                    <a:lnTo>
                      <a:pt x="394" y="478"/>
                    </a:lnTo>
                    <a:lnTo>
                      <a:pt x="388" y="504"/>
                    </a:lnTo>
                    <a:lnTo>
                      <a:pt x="384" y="535"/>
                    </a:lnTo>
                    <a:lnTo>
                      <a:pt x="378" y="570"/>
                    </a:lnTo>
                    <a:lnTo>
                      <a:pt x="371" y="607"/>
                    </a:lnTo>
                    <a:lnTo>
                      <a:pt x="365" y="647"/>
                    </a:lnTo>
                    <a:lnTo>
                      <a:pt x="355" y="687"/>
                    </a:lnTo>
                    <a:lnTo>
                      <a:pt x="346" y="726"/>
                    </a:lnTo>
                    <a:lnTo>
                      <a:pt x="341" y="745"/>
                    </a:lnTo>
                    <a:lnTo>
                      <a:pt x="335" y="764"/>
                    </a:lnTo>
                    <a:lnTo>
                      <a:pt x="328" y="783"/>
                    </a:lnTo>
                    <a:lnTo>
                      <a:pt x="321" y="801"/>
                    </a:lnTo>
                    <a:lnTo>
                      <a:pt x="313" y="818"/>
                    </a:lnTo>
                    <a:lnTo>
                      <a:pt x="305" y="834"/>
                    </a:lnTo>
                    <a:lnTo>
                      <a:pt x="296" y="849"/>
                    </a:lnTo>
                    <a:lnTo>
                      <a:pt x="286" y="863"/>
                    </a:lnTo>
                    <a:lnTo>
                      <a:pt x="276" y="876"/>
                    </a:lnTo>
                    <a:lnTo>
                      <a:pt x="265" y="887"/>
                    </a:lnTo>
                    <a:lnTo>
                      <a:pt x="253" y="898"/>
                    </a:lnTo>
                    <a:lnTo>
                      <a:pt x="240" y="906"/>
                    </a:lnTo>
                    <a:lnTo>
                      <a:pt x="227" y="912"/>
                    </a:lnTo>
                    <a:lnTo>
                      <a:pt x="213" y="917"/>
                    </a:lnTo>
                    <a:lnTo>
                      <a:pt x="197" y="919"/>
                    </a:lnTo>
                    <a:lnTo>
                      <a:pt x="181" y="920"/>
                    </a:lnTo>
                    <a:lnTo>
                      <a:pt x="154" y="917"/>
                    </a:lnTo>
                    <a:lnTo>
                      <a:pt x="130" y="911"/>
                    </a:lnTo>
                    <a:lnTo>
                      <a:pt x="109" y="903"/>
                    </a:lnTo>
                    <a:lnTo>
                      <a:pt x="93" y="894"/>
                    </a:lnTo>
                    <a:lnTo>
                      <a:pt x="81" y="883"/>
                    </a:lnTo>
                    <a:lnTo>
                      <a:pt x="72" y="870"/>
                    </a:lnTo>
                    <a:lnTo>
                      <a:pt x="66" y="857"/>
                    </a:lnTo>
                    <a:lnTo>
                      <a:pt x="62" y="842"/>
                    </a:lnTo>
                    <a:lnTo>
                      <a:pt x="61" y="826"/>
                    </a:lnTo>
                    <a:lnTo>
                      <a:pt x="61" y="809"/>
                    </a:lnTo>
                    <a:lnTo>
                      <a:pt x="65" y="791"/>
                    </a:lnTo>
                    <a:lnTo>
                      <a:pt x="69" y="772"/>
                    </a:lnTo>
                    <a:lnTo>
                      <a:pt x="76" y="754"/>
                    </a:lnTo>
                    <a:lnTo>
                      <a:pt x="83" y="735"/>
                    </a:lnTo>
                    <a:lnTo>
                      <a:pt x="92" y="716"/>
                    </a:lnTo>
                    <a:lnTo>
                      <a:pt x="100" y="698"/>
                    </a:lnTo>
                    <a:lnTo>
                      <a:pt x="139" y="630"/>
                    </a:lnTo>
                    <a:lnTo>
                      <a:pt x="166" y="577"/>
                    </a:lnTo>
                    <a:lnTo>
                      <a:pt x="170" y="568"/>
                    </a:lnTo>
                    <a:lnTo>
                      <a:pt x="172" y="560"/>
                    </a:lnTo>
                    <a:lnTo>
                      <a:pt x="172" y="556"/>
                    </a:lnTo>
                    <a:lnTo>
                      <a:pt x="168" y="552"/>
                    </a:lnTo>
                    <a:lnTo>
                      <a:pt x="164" y="552"/>
                    </a:lnTo>
                    <a:lnTo>
                      <a:pt x="155" y="555"/>
                    </a:lnTo>
                    <a:lnTo>
                      <a:pt x="143" y="559"/>
                    </a:lnTo>
                    <a:lnTo>
                      <a:pt x="130" y="567"/>
                    </a:lnTo>
                    <a:lnTo>
                      <a:pt x="105" y="577"/>
                    </a:lnTo>
                    <a:lnTo>
                      <a:pt x="83" y="584"/>
                    </a:lnTo>
                    <a:lnTo>
                      <a:pt x="64" y="586"/>
                    </a:lnTo>
                    <a:lnTo>
                      <a:pt x="48" y="585"/>
                    </a:lnTo>
                    <a:lnTo>
                      <a:pt x="34" y="580"/>
                    </a:lnTo>
                    <a:lnTo>
                      <a:pt x="21" y="572"/>
                    </a:lnTo>
                    <a:lnTo>
                      <a:pt x="13" y="559"/>
                    </a:lnTo>
                    <a:lnTo>
                      <a:pt x="7" y="545"/>
                    </a:lnTo>
                    <a:lnTo>
                      <a:pt x="2" y="528"/>
                    </a:lnTo>
                    <a:lnTo>
                      <a:pt x="0" y="509"/>
                    </a:lnTo>
                    <a:lnTo>
                      <a:pt x="0" y="488"/>
                    </a:lnTo>
                    <a:lnTo>
                      <a:pt x="1" y="467"/>
                    </a:lnTo>
                    <a:lnTo>
                      <a:pt x="6" y="443"/>
                    </a:lnTo>
                    <a:lnTo>
                      <a:pt x="11" y="418"/>
                    </a:lnTo>
                    <a:lnTo>
                      <a:pt x="19" y="393"/>
                    </a:lnTo>
                    <a:lnTo>
                      <a:pt x="28" y="368"/>
                    </a:lnTo>
                    <a:lnTo>
                      <a:pt x="40" y="341"/>
                    </a:lnTo>
                    <a:lnTo>
                      <a:pt x="53" y="316"/>
                    </a:lnTo>
                    <a:lnTo>
                      <a:pt x="68" y="291"/>
                    </a:lnTo>
                    <a:lnTo>
                      <a:pt x="84" y="267"/>
                    </a:lnTo>
                    <a:lnTo>
                      <a:pt x="102" y="244"/>
                    </a:lnTo>
                    <a:lnTo>
                      <a:pt x="122" y="224"/>
                    </a:lnTo>
                    <a:lnTo>
                      <a:pt x="142" y="205"/>
                    </a:lnTo>
                    <a:lnTo>
                      <a:pt x="164" y="186"/>
                    </a:lnTo>
                    <a:lnTo>
                      <a:pt x="188" y="171"/>
                    </a:lnTo>
                    <a:lnTo>
                      <a:pt x="212" y="159"/>
                    </a:lnTo>
                    <a:lnTo>
                      <a:pt x="238" y="150"/>
                    </a:lnTo>
                    <a:lnTo>
                      <a:pt x="264" y="143"/>
                    </a:lnTo>
                    <a:lnTo>
                      <a:pt x="292" y="141"/>
                    </a:lnTo>
                    <a:lnTo>
                      <a:pt x="320" y="142"/>
                    </a:lnTo>
                    <a:lnTo>
                      <a:pt x="350" y="146"/>
                    </a:lnTo>
                    <a:lnTo>
                      <a:pt x="380" y="157"/>
                    </a:lnTo>
                    <a:lnTo>
                      <a:pt x="396" y="166"/>
                    </a:lnTo>
                    <a:lnTo>
                      <a:pt x="408" y="171"/>
                    </a:lnTo>
                    <a:lnTo>
                      <a:pt x="417" y="176"/>
                    </a:lnTo>
                    <a:lnTo>
                      <a:pt x="425" y="177"/>
                    </a:lnTo>
                    <a:lnTo>
                      <a:pt x="432" y="177"/>
                    </a:lnTo>
                    <a:lnTo>
                      <a:pt x="440" y="176"/>
                    </a:lnTo>
                    <a:lnTo>
                      <a:pt x="450" y="175"/>
                    </a:lnTo>
                    <a:lnTo>
                      <a:pt x="464" y="174"/>
                    </a:lnTo>
                    <a:lnTo>
                      <a:pt x="421" y="240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968720" y="3854880"/>
                <a:ext cx="109800" cy="82440"/>
              </a:xfrm>
              <a:custGeom>
                <a:avLst/>
                <a:gdLst/>
                <a:ahLst/>
                <a:rect l="l" t="t" r="r" b="b"/>
                <a:pathLst>
                  <a:path w="346" h="261">
                    <a:moveTo>
                      <a:pt x="343" y="3"/>
                    </a:moveTo>
                    <a:lnTo>
                      <a:pt x="327" y="2"/>
                    </a:lnTo>
                    <a:lnTo>
                      <a:pt x="0" y="242"/>
                    </a:lnTo>
                    <a:lnTo>
                      <a:pt x="14" y="261"/>
                    </a:lnTo>
                    <a:lnTo>
                      <a:pt x="342" y="22"/>
                    </a:lnTo>
                    <a:lnTo>
                      <a:pt x="343" y="3"/>
                    </a:lnTo>
                    <a:lnTo>
                      <a:pt x="342" y="22"/>
                    </a:lnTo>
                    <a:lnTo>
                      <a:pt x="345" y="18"/>
                    </a:lnTo>
                    <a:lnTo>
                      <a:pt x="346" y="14"/>
                    </a:lnTo>
                    <a:lnTo>
                      <a:pt x="346" y="9"/>
                    </a:lnTo>
                    <a:lnTo>
                      <a:pt x="344" y="6"/>
                    </a:lnTo>
                    <a:lnTo>
                      <a:pt x="340" y="2"/>
                    </a:lnTo>
                    <a:lnTo>
                      <a:pt x="337" y="0"/>
                    </a:lnTo>
                    <a:lnTo>
                      <a:pt x="332" y="0"/>
                    </a:lnTo>
                    <a:lnTo>
                      <a:pt x="327" y="2"/>
                    </a:lnTo>
                    <a:lnTo>
                      <a:pt x="343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072040" y="385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81" y="78"/>
                    </a:moveTo>
                    <a:lnTo>
                      <a:pt x="81" y="61"/>
                    </a:lnTo>
                    <a:lnTo>
                      <a:pt x="17" y="0"/>
                    </a:lnTo>
                    <a:lnTo>
                      <a:pt x="0" y="19"/>
                    </a:lnTo>
                    <a:lnTo>
                      <a:pt x="63" y="79"/>
                    </a:lnTo>
                    <a:lnTo>
                      <a:pt x="81" y="78"/>
                    </a:lnTo>
                    <a:lnTo>
                      <a:pt x="63" y="79"/>
                    </a:lnTo>
                    <a:lnTo>
                      <a:pt x="68" y="81"/>
                    </a:lnTo>
                    <a:lnTo>
                      <a:pt x="73" y="82"/>
                    </a:lnTo>
                    <a:lnTo>
                      <a:pt x="77" y="81"/>
                    </a:lnTo>
                    <a:lnTo>
                      <a:pt x="81" y="78"/>
                    </a:lnTo>
                    <a:lnTo>
                      <a:pt x="84" y="74"/>
                    </a:lnTo>
                    <a:lnTo>
                      <a:pt x="84" y="70"/>
                    </a:lnTo>
                    <a:lnTo>
                      <a:pt x="84" y="65"/>
                    </a:lnTo>
                    <a:lnTo>
                      <a:pt x="81" y="61"/>
                    </a:lnTo>
                    <a:lnTo>
                      <a:pt x="81" y="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003640" y="3875400"/>
                <a:ext cx="93960" cy="98280"/>
              </a:xfrm>
              <a:custGeom>
                <a:avLst/>
                <a:gdLst/>
                <a:ahLst/>
                <a:rect l="l" t="t" r="r" b="b"/>
                <a:pathLst>
                  <a:path w="295" h="310">
                    <a:moveTo>
                      <a:pt x="16" y="309"/>
                    </a:moveTo>
                    <a:lnTo>
                      <a:pt x="21" y="305"/>
                    </a:lnTo>
                    <a:lnTo>
                      <a:pt x="295" y="16"/>
                    </a:lnTo>
                    <a:lnTo>
                      <a:pt x="277" y="0"/>
                    </a:lnTo>
                    <a:lnTo>
                      <a:pt x="4" y="289"/>
                    </a:lnTo>
                    <a:lnTo>
                      <a:pt x="16" y="309"/>
                    </a:lnTo>
                    <a:lnTo>
                      <a:pt x="4" y="289"/>
                    </a:lnTo>
                    <a:lnTo>
                      <a:pt x="0" y="294"/>
                    </a:lnTo>
                    <a:lnTo>
                      <a:pt x="0" y="299"/>
                    </a:lnTo>
                    <a:lnTo>
                      <a:pt x="2" y="302"/>
                    </a:lnTo>
                    <a:lnTo>
                      <a:pt x="4" y="305"/>
                    </a:lnTo>
                    <a:lnTo>
                      <a:pt x="8" y="309"/>
                    </a:lnTo>
                    <a:lnTo>
                      <a:pt x="12" y="310"/>
                    </a:lnTo>
                    <a:lnTo>
                      <a:pt x="16" y="309"/>
                    </a:lnTo>
                    <a:lnTo>
                      <a:pt x="21" y="305"/>
                    </a:lnTo>
                    <a:lnTo>
                      <a:pt x="16" y="3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006880" y="3956400"/>
                <a:ext cx="117720" cy="20520"/>
              </a:xfrm>
              <a:custGeom>
                <a:avLst/>
                <a:gdLst/>
                <a:ahLst/>
                <a:rect l="l" t="t" r="r" b="b"/>
                <a:pathLst>
                  <a:path w="372" h="65">
                    <a:moveTo>
                      <a:pt x="369" y="61"/>
                    </a:moveTo>
                    <a:lnTo>
                      <a:pt x="364" y="41"/>
                    </a:lnTo>
                    <a:lnTo>
                      <a:pt x="342" y="32"/>
                    </a:lnTo>
                    <a:lnTo>
                      <a:pt x="320" y="25"/>
                    </a:lnTo>
                    <a:lnTo>
                      <a:pt x="298" y="19"/>
                    </a:lnTo>
                    <a:lnTo>
                      <a:pt x="275" y="13"/>
                    </a:lnTo>
                    <a:lnTo>
                      <a:pt x="253" y="8"/>
                    </a:lnTo>
                    <a:lnTo>
                      <a:pt x="231" y="4"/>
                    </a:lnTo>
                    <a:lnTo>
                      <a:pt x="208" y="1"/>
                    </a:lnTo>
                    <a:lnTo>
                      <a:pt x="186" y="0"/>
                    </a:lnTo>
                    <a:lnTo>
                      <a:pt x="163" y="0"/>
                    </a:lnTo>
                    <a:lnTo>
                      <a:pt x="141" y="1"/>
                    </a:lnTo>
                    <a:lnTo>
                      <a:pt x="118" y="3"/>
                    </a:lnTo>
                    <a:lnTo>
                      <a:pt x="94" y="6"/>
                    </a:lnTo>
                    <a:lnTo>
                      <a:pt x="71" y="11"/>
                    </a:lnTo>
                    <a:lnTo>
                      <a:pt x="48" y="16"/>
                    </a:lnTo>
                    <a:lnTo>
                      <a:pt x="24" y="23"/>
                    </a:lnTo>
                    <a:lnTo>
                      <a:pt x="0" y="31"/>
                    </a:lnTo>
                    <a:lnTo>
                      <a:pt x="8" y="54"/>
                    </a:lnTo>
                    <a:lnTo>
                      <a:pt x="31" y="46"/>
                    </a:lnTo>
                    <a:lnTo>
                      <a:pt x="54" y="39"/>
                    </a:lnTo>
                    <a:lnTo>
                      <a:pt x="76" y="34"/>
                    </a:lnTo>
                    <a:lnTo>
                      <a:pt x="98" y="30"/>
                    </a:lnTo>
                    <a:lnTo>
                      <a:pt x="120" y="27"/>
                    </a:lnTo>
                    <a:lnTo>
                      <a:pt x="142" y="25"/>
                    </a:lnTo>
                    <a:lnTo>
                      <a:pt x="163" y="24"/>
                    </a:lnTo>
                    <a:lnTo>
                      <a:pt x="185" y="24"/>
                    </a:lnTo>
                    <a:lnTo>
                      <a:pt x="207" y="25"/>
                    </a:lnTo>
                    <a:lnTo>
                      <a:pt x="227" y="28"/>
                    </a:lnTo>
                    <a:lnTo>
                      <a:pt x="249" y="31"/>
                    </a:lnTo>
                    <a:lnTo>
                      <a:pt x="269" y="36"/>
                    </a:lnTo>
                    <a:lnTo>
                      <a:pt x="291" y="41"/>
                    </a:lnTo>
                    <a:lnTo>
                      <a:pt x="313" y="48"/>
                    </a:lnTo>
                    <a:lnTo>
                      <a:pt x="333" y="55"/>
                    </a:lnTo>
                    <a:lnTo>
                      <a:pt x="355" y="64"/>
                    </a:lnTo>
                    <a:lnTo>
                      <a:pt x="350" y="45"/>
                    </a:lnTo>
                    <a:lnTo>
                      <a:pt x="355" y="64"/>
                    </a:lnTo>
                    <a:lnTo>
                      <a:pt x="361" y="65"/>
                    </a:lnTo>
                    <a:lnTo>
                      <a:pt x="365" y="64"/>
                    </a:lnTo>
                    <a:lnTo>
                      <a:pt x="369" y="61"/>
                    </a:lnTo>
                    <a:lnTo>
                      <a:pt x="371" y="57"/>
                    </a:lnTo>
                    <a:lnTo>
                      <a:pt x="372" y="53"/>
                    </a:lnTo>
                    <a:lnTo>
                      <a:pt x="371" y="48"/>
                    </a:lnTo>
                    <a:lnTo>
                      <a:pt x="369" y="45"/>
                    </a:lnTo>
                    <a:lnTo>
                      <a:pt x="364" y="41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59360" y="3970440"/>
                <a:ext cx="165240" cy="41400"/>
              </a:xfrm>
              <a:custGeom>
                <a:avLst/>
                <a:gdLst/>
                <a:ahLst/>
                <a:rect l="l" t="t" r="r" b="b"/>
                <a:pathLst>
                  <a:path w="517" h="134">
                    <a:moveTo>
                      <a:pt x="24" y="108"/>
                    </a:moveTo>
                    <a:lnTo>
                      <a:pt x="11" y="116"/>
                    </a:lnTo>
                    <a:lnTo>
                      <a:pt x="40" y="122"/>
                    </a:lnTo>
                    <a:lnTo>
                      <a:pt x="71" y="125"/>
                    </a:lnTo>
                    <a:lnTo>
                      <a:pt x="103" y="130"/>
                    </a:lnTo>
                    <a:lnTo>
                      <a:pt x="136" y="132"/>
                    </a:lnTo>
                    <a:lnTo>
                      <a:pt x="169" y="134"/>
                    </a:lnTo>
                    <a:lnTo>
                      <a:pt x="202" y="134"/>
                    </a:lnTo>
                    <a:lnTo>
                      <a:pt x="236" y="133"/>
                    </a:lnTo>
                    <a:lnTo>
                      <a:pt x="269" y="131"/>
                    </a:lnTo>
                    <a:lnTo>
                      <a:pt x="303" y="125"/>
                    </a:lnTo>
                    <a:lnTo>
                      <a:pt x="337" y="118"/>
                    </a:lnTo>
                    <a:lnTo>
                      <a:pt x="352" y="114"/>
                    </a:lnTo>
                    <a:lnTo>
                      <a:pt x="368" y="109"/>
                    </a:lnTo>
                    <a:lnTo>
                      <a:pt x="384" y="103"/>
                    </a:lnTo>
                    <a:lnTo>
                      <a:pt x="400" y="97"/>
                    </a:lnTo>
                    <a:lnTo>
                      <a:pt x="416" y="90"/>
                    </a:lnTo>
                    <a:lnTo>
                      <a:pt x="431" y="82"/>
                    </a:lnTo>
                    <a:lnTo>
                      <a:pt x="447" y="73"/>
                    </a:lnTo>
                    <a:lnTo>
                      <a:pt x="462" y="64"/>
                    </a:lnTo>
                    <a:lnTo>
                      <a:pt x="476" y="52"/>
                    </a:lnTo>
                    <a:lnTo>
                      <a:pt x="489" y="41"/>
                    </a:lnTo>
                    <a:lnTo>
                      <a:pt x="503" y="29"/>
                    </a:lnTo>
                    <a:lnTo>
                      <a:pt x="517" y="16"/>
                    </a:lnTo>
                    <a:lnTo>
                      <a:pt x="498" y="0"/>
                    </a:lnTo>
                    <a:lnTo>
                      <a:pt x="487" y="11"/>
                    </a:lnTo>
                    <a:lnTo>
                      <a:pt x="474" y="23"/>
                    </a:lnTo>
                    <a:lnTo>
                      <a:pt x="461" y="34"/>
                    </a:lnTo>
                    <a:lnTo>
                      <a:pt x="447" y="43"/>
                    </a:lnTo>
                    <a:lnTo>
                      <a:pt x="433" y="52"/>
                    </a:lnTo>
                    <a:lnTo>
                      <a:pt x="420" y="60"/>
                    </a:lnTo>
                    <a:lnTo>
                      <a:pt x="406" y="68"/>
                    </a:lnTo>
                    <a:lnTo>
                      <a:pt x="391" y="75"/>
                    </a:lnTo>
                    <a:lnTo>
                      <a:pt x="376" y="81"/>
                    </a:lnTo>
                    <a:lnTo>
                      <a:pt x="362" y="86"/>
                    </a:lnTo>
                    <a:lnTo>
                      <a:pt x="346" y="91"/>
                    </a:lnTo>
                    <a:lnTo>
                      <a:pt x="331" y="96"/>
                    </a:lnTo>
                    <a:lnTo>
                      <a:pt x="299" y="102"/>
                    </a:lnTo>
                    <a:lnTo>
                      <a:pt x="267" y="107"/>
                    </a:lnTo>
                    <a:lnTo>
                      <a:pt x="235" y="109"/>
                    </a:lnTo>
                    <a:lnTo>
                      <a:pt x="202" y="110"/>
                    </a:lnTo>
                    <a:lnTo>
                      <a:pt x="170" y="110"/>
                    </a:lnTo>
                    <a:lnTo>
                      <a:pt x="137" y="108"/>
                    </a:lnTo>
                    <a:lnTo>
                      <a:pt x="105" y="106"/>
                    </a:lnTo>
                    <a:lnTo>
                      <a:pt x="74" y="101"/>
                    </a:lnTo>
                    <a:lnTo>
                      <a:pt x="44" y="98"/>
                    </a:lnTo>
                    <a:lnTo>
                      <a:pt x="14" y="93"/>
                    </a:lnTo>
                    <a:lnTo>
                      <a:pt x="0" y="101"/>
                    </a:lnTo>
                    <a:lnTo>
                      <a:pt x="14" y="93"/>
                    </a:lnTo>
                    <a:lnTo>
                      <a:pt x="9" y="93"/>
                    </a:lnTo>
                    <a:lnTo>
                      <a:pt x="5" y="94"/>
                    </a:lnTo>
                    <a:lnTo>
                      <a:pt x="1" y="99"/>
                    </a:lnTo>
                    <a:lnTo>
                      <a:pt x="0" y="102"/>
                    </a:lnTo>
                    <a:lnTo>
                      <a:pt x="0" y="107"/>
                    </a:lnTo>
                    <a:lnTo>
                      <a:pt x="3" y="111"/>
                    </a:lnTo>
                    <a:lnTo>
                      <a:pt x="5" y="115"/>
                    </a:lnTo>
                    <a:lnTo>
                      <a:pt x="11" y="116"/>
                    </a:lnTo>
                    <a:lnTo>
                      <a:pt x="24" y="1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894200" y="4002480"/>
                <a:ext cx="73080" cy="150840"/>
              </a:xfrm>
              <a:custGeom>
                <a:avLst/>
                <a:gdLst/>
                <a:ahLst/>
                <a:rect l="l" t="t" r="r" b="b"/>
                <a:pathLst>
                  <a:path w="231" h="478">
                    <a:moveTo>
                      <a:pt x="0" y="478"/>
                    </a:moveTo>
                    <a:lnTo>
                      <a:pt x="1" y="478"/>
                    </a:lnTo>
                    <a:lnTo>
                      <a:pt x="18" y="478"/>
                    </a:lnTo>
                    <a:lnTo>
                      <a:pt x="35" y="474"/>
                    </a:lnTo>
                    <a:lnTo>
                      <a:pt x="51" y="470"/>
                    </a:lnTo>
                    <a:lnTo>
                      <a:pt x="66" y="462"/>
                    </a:lnTo>
                    <a:lnTo>
                      <a:pt x="81" y="453"/>
                    </a:lnTo>
                    <a:lnTo>
                      <a:pt x="93" y="443"/>
                    </a:lnTo>
                    <a:lnTo>
                      <a:pt x="105" y="430"/>
                    </a:lnTo>
                    <a:lnTo>
                      <a:pt x="116" y="416"/>
                    </a:lnTo>
                    <a:lnTo>
                      <a:pt x="126" y="401"/>
                    </a:lnTo>
                    <a:lnTo>
                      <a:pt x="135" y="386"/>
                    </a:lnTo>
                    <a:lnTo>
                      <a:pt x="143" y="370"/>
                    </a:lnTo>
                    <a:lnTo>
                      <a:pt x="151" y="351"/>
                    </a:lnTo>
                    <a:lnTo>
                      <a:pt x="159" y="333"/>
                    </a:lnTo>
                    <a:lnTo>
                      <a:pt x="166" y="314"/>
                    </a:lnTo>
                    <a:lnTo>
                      <a:pt x="172" y="294"/>
                    </a:lnTo>
                    <a:lnTo>
                      <a:pt x="178" y="275"/>
                    </a:lnTo>
                    <a:lnTo>
                      <a:pt x="188" y="235"/>
                    </a:lnTo>
                    <a:lnTo>
                      <a:pt x="196" y="195"/>
                    </a:lnTo>
                    <a:lnTo>
                      <a:pt x="204" y="155"/>
                    </a:lnTo>
                    <a:lnTo>
                      <a:pt x="210" y="118"/>
                    </a:lnTo>
                    <a:lnTo>
                      <a:pt x="215" y="83"/>
                    </a:lnTo>
                    <a:lnTo>
                      <a:pt x="221" y="53"/>
                    </a:lnTo>
                    <a:lnTo>
                      <a:pt x="226" y="26"/>
                    </a:lnTo>
                    <a:lnTo>
                      <a:pt x="231" y="7"/>
                    </a:lnTo>
                    <a:lnTo>
                      <a:pt x="207" y="0"/>
                    </a:lnTo>
                    <a:lnTo>
                      <a:pt x="203" y="22"/>
                    </a:lnTo>
                    <a:lnTo>
                      <a:pt x="197" y="48"/>
                    </a:lnTo>
                    <a:lnTo>
                      <a:pt x="191" y="80"/>
                    </a:lnTo>
                    <a:lnTo>
                      <a:pt x="186" y="114"/>
                    </a:lnTo>
                    <a:lnTo>
                      <a:pt x="180" y="152"/>
                    </a:lnTo>
                    <a:lnTo>
                      <a:pt x="172" y="191"/>
                    </a:lnTo>
                    <a:lnTo>
                      <a:pt x="164" y="229"/>
                    </a:lnTo>
                    <a:lnTo>
                      <a:pt x="155" y="269"/>
                    </a:lnTo>
                    <a:lnTo>
                      <a:pt x="149" y="287"/>
                    </a:lnTo>
                    <a:lnTo>
                      <a:pt x="143" y="307"/>
                    </a:lnTo>
                    <a:lnTo>
                      <a:pt x="137" y="325"/>
                    </a:lnTo>
                    <a:lnTo>
                      <a:pt x="130" y="342"/>
                    </a:lnTo>
                    <a:lnTo>
                      <a:pt x="122" y="358"/>
                    </a:lnTo>
                    <a:lnTo>
                      <a:pt x="114" y="374"/>
                    </a:lnTo>
                    <a:lnTo>
                      <a:pt x="106" y="389"/>
                    </a:lnTo>
                    <a:lnTo>
                      <a:pt x="97" y="401"/>
                    </a:lnTo>
                    <a:lnTo>
                      <a:pt x="86" y="414"/>
                    </a:lnTo>
                    <a:lnTo>
                      <a:pt x="76" y="424"/>
                    </a:lnTo>
                    <a:lnTo>
                      <a:pt x="66" y="433"/>
                    </a:lnTo>
                    <a:lnTo>
                      <a:pt x="55" y="441"/>
                    </a:lnTo>
                    <a:lnTo>
                      <a:pt x="42" y="447"/>
                    </a:lnTo>
                    <a:lnTo>
                      <a:pt x="30" y="452"/>
                    </a:lnTo>
                    <a:lnTo>
                      <a:pt x="16" y="454"/>
                    </a:lnTo>
                    <a:lnTo>
                      <a:pt x="1" y="454"/>
                    </a:lnTo>
                    <a:lnTo>
                      <a:pt x="2" y="454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853160" y="402948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135" h="392">
                    <a:moveTo>
                      <a:pt x="85" y="37"/>
                    </a:moveTo>
                    <a:lnTo>
                      <a:pt x="86" y="37"/>
                    </a:lnTo>
                    <a:lnTo>
                      <a:pt x="100" y="30"/>
                    </a:lnTo>
                    <a:lnTo>
                      <a:pt x="110" y="26"/>
                    </a:lnTo>
                    <a:lnTo>
                      <a:pt x="116" y="24"/>
                    </a:lnTo>
                    <a:lnTo>
                      <a:pt x="117" y="25"/>
                    </a:lnTo>
                    <a:lnTo>
                      <a:pt x="113" y="23"/>
                    </a:lnTo>
                    <a:lnTo>
                      <a:pt x="111" y="20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9" y="25"/>
                    </a:lnTo>
                    <a:lnTo>
                      <a:pt x="107" y="32"/>
                    </a:lnTo>
                    <a:lnTo>
                      <a:pt x="78" y="83"/>
                    </a:lnTo>
                    <a:lnTo>
                      <a:pt x="41" y="152"/>
                    </a:lnTo>
                    <a:lnTo>
                      <a:pt x="32" y="172"/>
                    </a:lnTo>
                    <a:lnTo>
                      <a:pt x="23" y="190"/>
                    </a:lnTo>
                    <a:lnTo>
                      <a:pt x="16" y="209"/>
                    </a:lnTo>
                    <a:lnTo>
                      <a:pt x="9" y="229"/>
                    </a:lnTo>
                    <a:lnTo>
                      <a:pt x="4" y="248"/>
                    </a:lnTo>
                    <a:lnTo>
                      <a:pt x="1" y="266"/>
                    </a:lnTo>
                    <a:lnTo>
                      <a:pt x="0" y="286"/>
                    </a:lnTo>
                    <a:lnTo>
                      <a:pt x="1" y="303"/>
                    </a:lnTo>
                    <a:lnTo>
                      <a:pt x="2" y="312"/>
                    </a:lnTo>
                    <a:lnTo>
                      <a:pt x="6" y="320"/>
                    </a:lnTo>
                    <a:lnTo>
                      <a:pt x="8" y="329"/>
                    </a:lnTo>
                    <a:lnTo>
                      <a:pt x="12" y="337"/>
                    </a:lnTo>
                    <a:lnTo>
                      <a:pt x="17" y="344"/>
                    </a:lnTo>
                    <a:lnTo>
                      <a:pt x="24" y="352"/>
                    </a:lnTo>
                    <a:lnTo>
                      <a:pt x="29" y="358"/>
                    </a:lnTo>
                    <a:lnTo>
                      <a:pt x="37" y="365"/>
                    </a:lnTo>
                    <a:lnTo>
                      <a:pt x="47" y="370"/>
                    </a:lnTo>
                    <a:lnTo>
                      <a:pt x="56" y="375"/>
                    </a:lnTo>
                    <a:lnTo>
                      <a:pt x="66" y="379"/>
                    </a:lnTo>
                    <a:lnTo>
                      <a:pt x="77" y="383"/>
                    </a:lnTo>
                    <a:lnTo>
                      <a:pt x="89" y="386"/>
                    </a:lnTo>
                    <a:lnTo>
                      <a:pt x="102" y="388"/>
                    </a:lnTo>
                    <a:lnTo>
                      <a:pt x="116" y="391"/>
                    </a:lnTo>
                    <a:lnTo>
                      <a:pt x="131" y="392"/>
                    </a:lnTo>
                    <a:lnTo>
                      <a:pt x="133" y="368"/>
                    </a:lnTo>
                    <a:lnTo>
                      <a:pt x="119" y="367"/>
                    </a:lnTo>
                    <a:lnTo>
                      <a:pt x="106" y="365"/>
                    </a:lnTo>
                    <a:lnTo>
                      <a:pt x="94" y="362"/>
                    </a:lnTo>
                    <a:lnTo>
                      <a:pt x="84" y="360"/>
                    </a:lnTo>
                    <a:lnTo>
                      <a:pt x="74" y="357"/>
                    </a:lnTo>
                    <a:lnTo>
                      <a:pt x="66" y="353"/>
                    </a:lnTo>
                    <a:lnTo>
                      <a:pt x="58" y="349"/>
                    </a:lnTo>
                    <a:lnTo>
                      <a:pt x="52" y="345"/>
                    </a:lnTo>
                    <a:lnTo>
                      <a:pt x="47" y="341"/>
                    </a:lnTo>
                    <a:lnTo>
                      <a:pt x="41" y="335"/>
                    </a:lnTo>
                    <a:lnTo>
                      <a:pt x="36" y="330"/>
                    </a:lnTo>
                    <a:lnTo>
                      <a:pt x="33" y="325"/>
                    </a:lnTo>
                    <a:lnTo>
                      <a:pt x="31" y="319"/>
                    </a:lnTo>
                    <a:lnTo>
                      <a:pt x="28" y="313"/>
                    </a:lnTo>
                    <a:lnTo>
                      <a:pt x="26" y="306"/>
                    </a:lnTo>
                    <a:lnTo>
                      <a:pt x="25" y="301"/>
                    </a:lnTo>
                    <a:lnTo>
                      <a:pt x="24" y="286"/>
                    </a:lnTo>
                    <a:lnTo>
                      <a:pt x="25" y="270"/>
                    </a:lnTo>
                    <a:lnTo>
                      <a:pt x="28" y="253"/>
                    </a:lnTo>
                    <a:lnTo>
                      <a:pt x="33" y="236"/>
                    </a:lnTo>
                    <a:lnTo>
                      <a:pt x="39" y="217"/>
                    </a:lnTo>
                    <a:lnTo>
                      <a:pt x="45" y="200"/>
                    </a:lnTo>
                    <a:lnTo>
                      <a:pt x="53" y="182"/>
                    </a:lnTo>
                    <a:lnTo>
                      <a:pt x="62" y="164"/>
                    </a:lnTo>
                    <a:lnTo>
                      <a:pt x="100" y="95"/>
                    </a:lnTo>
                    <a:lnTo>
                      <a:pt x="129" y="43"/>
                    </a:lnTo>
                    <a:lnTo>
                      <a:pt x="133" y="32"/>
                    </a:lnTo>
                    <a:lnTo>
                      <a:pt x="134" y="23"/>
                    </a:lnTo>
                    <a:lnTo>
                      <a:pt x="135" y="17"/>
                    </a:lnTo>
                    <a:lnTo>
                      <a:pt x="134" y="11"/>
                    </a:lnTo>
                    <a:lnTo>
                      <a:pt x="131" y="5"/>
                    </a:lnTo>
                    <a:lnTo>
                      <a:pt x="123" y="1"/>
                    </a:lnTo>
                    <a:lnTo>
                      <a:pt x="114" y="0"/>
                    </a:lnTo>
                    <a:lnTo>
                      <a:pt x="102" y="3"/>
                    </a:lnTo>
                    <a:lnTo>
                      <a:pt x="90" y="8"/>
                    </a:lnTo>
                    <a:lnTo>
                      <a:pt x="74" y="16"/>
                    </a:lnTo>
                    <a:lnTo>
                      <a:pt x="75" y="16"/>
                    </a:lnTo>
                    <a:lnTo>
                      <a:pt x="85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832280" y="3899160"/>
                <a:ext cx="127080" cy="149400"/>
              </a:xfrm>
              <a:custGeom>
                <a:avLst/>
                <a:gdLst/>
                <a:ahLst/>
                <a:rect l="l" t="t" r="r" b="b"/>
                <a:pathLst>
                  <a:path w="399" h="471">
                    <a:moveTo>
                      <a:pt x="399" y="17"/>
                    </a:moveTo>
                    <a:lnTo>
                      <a:pt x="398" y="17"/>
                    </a:lnTo>
                    <a:lnTo>
                      <a:pt x="382" y="12"/>
                    </a:lnTo>
                    <a:lnTo>
                      <a:pt x="366" y="7"/>
                    </a:lnTo>
                    <a:lnTo>
                      <a:pt x="350" y="4"/>
                    </a:lnTo>
                    <a:lnTo>
                      <a:pt x="334" y="1"/>
                    </a:lnTo>
                    <a:lnTo>
                      <a:pt x="319" y="0"/>
                    </a:lnTo>
                    <a:lnTo>
                      <a:pt x="305" y="0"/>
                    </a:lnTo>
                    <a:lnTo>
                      <a:pt x="290" y="1"/>
                    </a:lnTo>
                    <a:lnTo>
                      <a:pt x="275" y="4"/>
                    </a:lnTo>
                    <a:lnTo>
                      <a:pt x="261" y="6"/>
                    </a:lnTo>
                    <a:lnTo>
                      <a:pt x="248" y="9"/>
                    </a:lnTo>
                    <a:lnTo>
                      <a:pt x="234" y="14"/>
                    </a:lnTo>
                    <a:lnTo>
                      <a:pt x="220" y="20"/>
                    </a:lnTo>
                    <a:lnTo>
                      <a:pt x="207" y="26"/>
                    </a:lnTo>
                    <a:lnTo>
                      <a:pt x="194" y="33"/>
                    </a:lnTo>
                    <a:lnTo>
                      <a:pt x="183" y="40"/>
                    </a:lnTo>
                    <a:lnTo>
                      <a:pt x="170" y="49"/>
                    </a:lnTo>
                    <a:lnTo>
                      <a:pt x="159" y="57"/>
                    </a:lnTo>
                    <a:lnTo>
                      <a:pt x="147" y="67"/>
                    </a:lnTo>
                    <a:lnTo>
                      <a:pt x="136" y="77"/>
                    </a:lnTo>
                    <a:lnTo>
                      <a:pt x="126" y="87"/>
                    </a:lnTo>
                    <a:lnTo>
                      <a:pt x="106" y="110"/>
                    </a:lnTo>
                    <a:lnTo>
                      <a:pt x="88" y="132"/>
                    </a:lnTo>
                    <a:lnTo>
                      <a:pt x="71" y="157"/>
                    </a:lnTo>
                    <a:lnTo>
                      <a:pt x="56" y="183"/>
                    </a:lnTo>
                    <a:lnTo>
                      <a:pt x="42" y="209"/>
                    </a:lnTo>
                    <a:lnTo>
                      <a:pt x="31" y="235"/>
                    </a:lnTo>
                    <a:lnTo>
                      <a:pt x="21" y="261"/>
                    </a:lnTo>
                    <a:lnTo>
                      <a:pt x="13" y="286"/>
                    </a:lnTo>
                    <a:lnTo>
                      <a:pt x="6" y="313"/>
                    </a:lnTo>
                    <a:lnTo>
                      <a:pt x="3" y="336"/>
                    </a:lnTo>
                    <a:lnTo>
                      <a:pt x="0" y="360"/>
                    </a:lnTo>
                    <a:lnTo>
                      <a:pt x="0" y="382"/>
                    </a:lnTo>
                    <a:lnTo>
                      <a:pt x="1" y="392"/>
                    </a:lnTo>
                    <a:lnTo>
                      <a:pt x="3" y="403"/>
                    </a:lnTo>
                    <a:lnTo>
                      <a:pt x="5" y="412"/>
                    </a:lnTo>
                    <a:lnTo>
                      <a:pt x="8" y="421"/>
                    </a:lnTo>
                    <a:lnTo>
                      <a:pt x="12" y="430"/>
                    </a:lnTo>
                    <a:lnTo>
                      <a:pt x="15" y="438"/>
                    </a:lnTo>
                    <a:lnTo>
                      <a:pt x="21" y="445"/>
                    </a:lnTo>
                    <a:lnTo>
                      <a:pt x="26" y="452"/>
                    </a:lnTo>
                    <a:lnTo>
                      <a:pt x="33" y="457"/>
                    </a:lnTo>
                    <a:lnTo>
                      <a:pt x="41" y="463"/>
                    </a:lnTo>
                    <a:lnTo>
                      <a:pt x="49" y="466"/>
                    </a:lnTo>
                    <a:lnTo>
                      <a:pt x="57" y="469"/>
                    </a:lnTo>
                    <a:lnTo>
                      <a:pt x="68" y="471"/>
                    </a:lnTo>
                    <a:lnTo>
                      <a:pt x="77" y="471"/>
                    </a:lnTo>
                    <a:lnTo>
                      <a:pt x="88" y="470"/>
                    </a:lnTo>
                    <a:lnTo>
                      <a:pt x="98" y="469"/>
                    </a:lnTo>
                    <a:lnTo>
                      <a:pt x="110" y="465"/>
                    </a:lnTo>
                    <a:lnTo>
                      <a:pt x="122" y="461"/>
                    </a:lnTo>
                    <a:lnTo>
                      <a:pt x="135" y="456"/>
                    </a:lnTo>
                    <a:lnTo>
                      <a:pt x="147" y="449"/>
                    </a:lnTo>
                    <a:lnTo>
                      <a:pt x="137" y="428"/>
                    </a:lnTo>
                    <a:lnTo>
                      <a:pt x="124" y="433"/>
                    </a:lnTo>
                    <a:lnTo>
                      <a:pt x="113" y="439"/>
                    </a:lnTo>
                    <a:lnTo>
                      <a:pt x="103" y="442"/>
                    </a:lnTo>
                    <a:lnTo>
                      <a:pt x="94" y="445"/>
                    </a:lnTo>
                    <a:lnTo>
                      <a:pt x="85" y="446"/>
                    </a:lnTo>
                    <a:lnTo>
                      <a:pt x="77" y="447"/>
                    </a:lnTo>
                    <a:lnTo>
                      <a:pt x="70" y="446"/>
                    </a:lnTo>
                    <a:lnTo>
                      <a:pt x="63" y="446"/>
                    </a:lnTo>
                    <a:lnTo>
                      <a:pt x="57" y="444"/>
                    </a:lnTo>
                    <a:lnTo>
                      <a:pt x="53" y="441"/>
                    </a:lnTo>
                    <a:lnTo>
                      <a:pt x="48" y="438"/>
                    </a:lnTo>
                    <a:lnTo>
                      <a:pt x="44" y="435"/>
                    </a:lnTo>
                    <a:lnTo>
                      <a:pt x="40" y="430"/>
                    </a:lnTo>
                    <a:lnTo>
                      <a:pt x="37" y="425"/>
                    </a:lnTo>
                    <a:lnTo>
                      <a:pt x="33" y="420"/>
                    </a:lnTo>
                    <a:lnTo>
                      <a:pt x="31" y="413"/>
                    </a:lnTo>
                    <a:lnTo>
                      <a:pt x="29" y="406"/>
                    </a:lnTo>
                    <a:lnTo>
                      <a:pt x="26" y="398"/>
                    </a:lnTo>
                    <a:lnTo>
                      <a:pt x="25" y="390"/>
                    </a:lnTo>
                    <a:lnTo>
                      <a:pt x="24" y="381"/>
                    </a:lnTo>
                    <a:lnTo>
                      <a:pt x="24" y="362"/>
                    </a:lnTo>
                    <a:lnTo>
                      <a:pt x="26" y="340"/>
                    </a:lnTo>
                    <a:lnTo>
                      <a:pt x="30" y="317"/>
                    </a:lnTo>
                    <a:lnTo>
                      <a:pt x="36" y="293"/>
                    </a:lnTo>
                    <a:lnTo>
                      <a:pt x="44" y="269"/>
                    </a:lnTo>
                    <a:lnTo>
                      <a:pt x="53" y="244"/>
                    </a:lnTo>
                    <a:lnTo>
                      <a:pt x="64" y="219"/>
                    </a:lnTo>
                    <a:lnTo>
                      <a:pt x="77" y="194"/>
                    </a:lnTo>
                    <a:lnTo>
                      <a:pt x="91" y="170"/>
                    </a:lnTo>
                    <a:lnTo>
                      <a:pt x="107" y="147"/>
                    </a:lnTo>
                    <a:lnTo>
                      <a:pt x="124" y="124"/>
                    </a:lnTo>
                    <a:lnTo>
                      <a:pt x="144" y="104"/>
                    </a:lnTo>
                    <a:lnTo>
                      <a:pt x="153" y="95"/>
                    </a:lnTo>
                    <a:lnTo>
                      <a:pt x="163" y="86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5" y="61"/>
                    </a:lnTo>
                    <a:lnTo>
                      <a:pt x="207" y="54"/>
                    </a:lnTo>
                    <a:lnTo>
                      <a:pt x="218" y="48"/>
                    </a:lnTo>
                    <a:lnTo>
                      <a:pt x="229" y="42"/>
                    </a:lnTo>
                    <a:lnTo>
                      <a:pt x="242" y="37"/>
                    </a:lnTo>
                    <a:lnTo>
                      <a:pt x="254" y="33"/>
                    </a:lnTo>
                    <a:lnTo>
                      <a:pt x="267" y="30"/>
                    </a:lnTo>
                    <a:lnTo>
                      <a:pt x="279" y="26"/>
                    </a:lnTo>
                    <a:lnTo>
                      <a:pt x="292" y="25"/>
                    </a:lnTo>
                    <a:lnTo>
                      <a:pt x="306" y="24"/>
                    </a:lnTo>
                    <a:lnTo>
                      <a:pt x="318" y="24"/>
                    </a:lnTo>
                    <a:lnTo>
                      <a:pt x="332" y="25"/>
                    </a:lnTo>
                    <a:lnTo>
                      <a:pt x="346" y="28"/>
                    </a:lnTo>
                    <a:lnTo>
                      <a:pt x="360" y="30"/>
                    </a:lnTo>
                    <a:lnTo>
                      <a:pt x="374" y="34"/>
                    </a:lnTo>
                    <a:lnTo>
                      <a:pt x="389" y="39"/>
                    </a:lnTo>
                    <a:lnTo>
                      <a:pt x="387" y="39"/>
                    </a:lnTo>
                    <a:lnTo>
                      <a:pt x="399" y="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56120" y="39038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101" h="45">
                    <a:moveTo>
                      <a:pt x="100" y="34"/>
                    </a:moveTo>
                    <a:lnTo>
                      <a:pt x="89" y="16"/>
                    </a:lnTo>
                    <a:lnTo>
                      <a:pt x="74" y="19"/>
                    </a:lnTo>
                    <a:lnTo>
                      <a:pt x="63" y="20"/>
                    </a:lnTo>
                    <a:lnTo>
                      <a:pt x="57" y="21"/>
                    </a:lnTo>
                    <a:lnTo>
                      <a:pt x="52" y="20"/>
                    </a:lnTo>
                    <a:lnTo>
                      <a:pt x="47" y="20"/>
                    </a:lnTo>
                    <a:lnTo>
                      <a:pt x="40" y="16"/>
                    </a:lnTo>
                    <a:lnTo>
                      <a:pt x="28" y="11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17" y="31"/>
                    </a:lnTo>
                    <a:lnTo>
                      <a:pt x="29" y="38"/>
                    </a:lnTo>
                    <a:lnTo>
                      <a:pt x="40" y="42"/>
                    </a:lnTo>
                    <a:lnTo>
                      <a:pt x="49" y="45"/>
                    </a:lnTo>
                    <a:lnTo>
                      <a:pt x="58" y="45"/>
                    </a:lnTo>
                    <a:lnTo>
                      <a:pt x="67" y="44"/>
                    </a:lnTo>
                    <a:lnTo>
                      <a:pt x="77" y="42"/>
                    </a:lnTo>
                    <a:lnTo>
                      <a:pt x="91" y="40"/>
                    </a:lnTo>
                    <a:lnTo>
                      <a:pt x="79" y="22"/>
                    </a:lnTo>
                    <a:lnTo>
                      <a:pt x="91" y="40"/>
                    </a:lnTo>
                    <a:lnTo>
                      <a:pt x="95" y="39"/>
                    </a:lnTo>
                    <a:lnTo>
                      <a:pt x="99" y="36"/>
                    </a:lnTo>
                    <a:lnTo>
                      <a:pt x="101" y="32"/>
                    </a:lnTo>
                    <a:lnTo>
                      <a:pt x="101" y="28"/>
                    </a:lnTo>
                    <a:lnTo>
                      <a:pt x="100" y="23"/>
                    </a:lnTo>
                    <a:lnTo>
                      <a:pt x="98" y="20"/>
                    </a:lnTo>
                    <a:lnTo>
                      <a:pt x="94" y="17"/>
                    </a:lnTo>
                    <a:lnTo>
                      <a:pt x="89" y="16"/>
                    </a:lnTo>
                    <a:lnTo>
                      <a:pt x="100" y="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67280" y="39103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4" h="84">
                    <a:moveTo>
                      <a:pt x="19" y="82"/>
                    </a:moveTo>
                    <a:lnTo>
                      <a:pt x="22" y="79"/>
                    </a:lnTo>
                    <a:lnTo>
                      <a:pt x="64" y="12"/>
                    </a:lnTo>
                    <a:lnTo>
                      <a:pt x="43" y="0"/>
                    </a:lnTo>
                    <a:lnTo>
                      <a:pt x="1" y="66"/>
                    </a:lnTo>
                    <a:lnTo>
                      <a:pt x="19" y="82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2" y="80"/>
                    </a:lnTo>
                    <a:lnTo>
                      <a:pt x="6" y="83"/>
                    </a:lnTo>
                    <a:lnTo>
                      <a:pt x="9" y="84"/>
                    </a:lnTo>
                    <a:lnTo>
                      <a:pt x="14" y="84"/>
                    </a:lnTo>
                    <a:lnTo>
                      <a:pt x="18" y="83"/>
                    </a:lnTo>
                    <a:lnTo>
                      <a:pt x="22" y="79"/>
                    </a:lnTo>
                    <a:lnTo>
                      <a:pt x="19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308560" y="3816720"/>
                <a:ext cx="219240" cy="339480"/>
              </a:xfrm>
              <a:custGeom>
                <a:avLst/>
                <a:gdLst/>
                <a:ahLst/>
                <a:rect l="l" t="t" r="r" b="b"/>
                <a:pathLst>
                  <a:path w="690" h="1068">
                    <a:moveTo>
                      <a:pt x="229" y="508"/>
                    </a:moveTo>
                    <a:lnTo>
                      <a:pt x="238" y="514"/>
                    </a:lnTo>
                    <a:lnTo>
                      <a:pt x="250" y="520"/>
                    </a:lnTo>
                    <a:lnTo>
                      <a:pt x="260" y="525"/>
                    </a:lnTo>
                    <a:lnTo>
                      <a:pt x="273" y="530"/>
                    </a:lnTo>
                    <a:lnTo>
                      <a:pt x="298" y="539"/>
                    </a:lnTo>
                    <a:lnTo>
                      <a:pt x="325" y="546"/>
                    </a:lnTo>
                    <a:lnTo>
                      <a:pt x="354" y="551"/>
                    </a:lnTo>
                    <a:lnTo>
                      <a:pt x="382" y="556"/>
                    </a:lnTo>
                    <a:lnTo>
                      <a:pt x="413" y="558"/>
                    </a:lnTo>
                    <a:lnTo>
                      <a:pt x="444" y="559"/>
                    </a:lnTo>
                    <a:lnTo>
                      <a:pt x="474" y="558"/>
                    </a:lnTo>
                    <a:lnTo>
                      <a:pt x="504" y="555"/>
                    </a:lnTo>
                    <a:lnTo>
                      <a:pt x="534" y="550"/>
                    </a:lnTo>
                    <a:lnTo>
                      <a:pt x="562" y="543"/>
                    </a:lnTo>
                    <a:lnTo>
                      <a:pt x="576" y="539"/>
                    </a:lnTo>
                    <a:lnTo>
                      <a:pt x="588" y="534"/>
                    </a:lnTo>
                    <a:lnTo>
                      <a:pt x="601" y="529"/>
                    </a:lnTo>
                    <a:lnTo>
                      <a:pt x="613" y="523"/>
                    </a:lnTo>
                    <a:lnTo>
                      <a:pt x="625" y="516"/>
                    </a:lnTo>
                    <a:lnTo>
                      <a:pt x="635" y="509"/>
                    </a:lnTo>
                    <a:lnTo>
                      <a:pt x="645" y="502"/>
                    </a:lnTo>
                    <a:lnTo>
                      <a:pt x="656" y="493"/>
                    </a:lnTo>
                    <a:lnTo>
                      <a:pt x="633" y="470"/>
                    </a:lnTo>
                    <a:lnTo>
                      <a:pt x="610" y="449"/>
                    </a:lnTo>
                    <a:lnTo>
                      <a:pt x="589" y="431"/>
                    </a:lnTo>
                    <a:lnTo>
                      <a:pt x="570" y="415"/>
                    </a:lnTo>
                    <a:lnTo>
                      <a:pt x="552" y="401"/>
                    </a:lnTo>
                    <a:lnTo>
                      <a:pt x="535" y="388"/>
                    </a:lnTo>
                    <a:lnTo>
                      <a:pt x="519" y="379"/>
                    </a:lnTo>
                    <a:lnTo>
                      <a:pt x="505" y="370"/>
                    </a:lnTo>
                    <a:lnTo>
                      <a:pt x="480" y="358"/>
                    </a:lnTo>
                    <a:lnTo>
                      <a:pt x="462" y="350"/>
                    </a:lnTo>
                    <a:lnTo>
                      <a:pt x="455" y="346"/>
                    </a:lnTo>
                    <a:lnTo>
                      <a:pt x="450" y="344"/>
                    </a:lnTo>
                    <a:lnTo>
                      <a:pt x="447" y="341"/>
                    </a:lnTo>
                    <a:lnTo>
                      <a:pt x="445" y="338"/>
                    </a:lnTo>
                    <a:lnTo>
                      <a:pt x="446" y="336"/>
                    </a:lnTo>
                    <a:lnTo>
                      <a:pt x="447" y="333"/>
                    </a:lnTo>
                    <a:lnTo>
                      <a:pt x="452" y="329"/>
                    </a:lnTo>
                    <a:lnTo>
                      <a:pt x="457" y="325"/>
                    </a:lnTo>
                    <a:lnTo>
                      <a:pt x="474" y="313"/>
                    </a:lnTo>
                    <a:lnTo>
                      <a:pt x="499" y="296"/>
                    </a:lnTo>
                    <a:lnTo>
                      <a:pt x="534" y="271"/>
                    </a:lnTo>
                    <a:lnTo>
                      <a:pt x="576" y="239"/>
                    </a:lnTo>
                    <a:lnTo>
                      <a:pt x="601" y="219"/>
                    </a:lnTo>
                    <a:lnTo>
                      <a:pt x="628" y="196"/>
                    </a:lnTo>
                    <a:lnTo>
                      <a:pt x="658" y="170"/>
                    </a:lnTo>
                    <a:lnTo>
                      <a:pt x="690" y="140"/>
                    </a:lnTo>
                    <a:lnTo>
                      <a:pt x="577" y="42"/>
                    </a:lnTo>
                    <a:lnTo>
                      <a:pt x="538" y="65"/>
                    </a:lnTo>
                    <a:lnTo>
                      <a:pt x="498" y="90"/>
                    </a:lnTo>
                    <a:lnTo>
                      <a:pt x="458" y="115"/>
                    </a:lnTo>
                    <a:lnTo>
                      <a:pt x="421" y="142"/>
                    </a:lnTo>
                    <a:lnTo>
                      <a:pt x="383" y="171"/>
                    </a:lnTo>
                    <a:lnTo>
                      <a:pt x="347" y="199"/>
                    </a:lnTo>
                    <a:lnTo>
                      <a:pt x="311" y="229"/>
                    </a:lnTo>
                    <a:lnTo>
                      <a:pt x="277" y="258"/>
                    </a:lnTo>
                    <a:lnTo>
                      <a:pt x="291" y="230"/>
                    </a:lnTo>
                    <a:lnTo>
                      <a:pt x="303" y="197"/>
                    </a:lnTo>
                    <a:lnTo>
                      <a:pt x="310" y="180"/>
                    </a:lnTo>
                    <a:lnTo>
                      <a:pt x="315" y="163"/>
                    </a:lnTo>
                    <a:lnTo>
                      <a:pt x="319" y="144"/>
                    </a:lnTo>
                    <a:lnTo>
                      <a:pt x="323" y="126"/>
                    </a:lnTo>
                    <a:lnTo>
                      <a:pt x="325" y="109"/>
                    </a:lnTo>
                    <a:lnTo>
                      <a:pt x="326" y="91"/>
                    </a:lnTo>
                    <a:lnTo>
                      <a:pt x="326" y="74"/>
                    </a:lnTo>
                    <a:lnTo>
                      <a:pt x="324" y="58"/>
                    </a:lnTo>
                    <a:lnTo>
                      <a:pt x="320" y="42"/>
                    </a:lnTo>
                    <a:lnTo>
                      <a:pt x="315" y="27"/>
                    </a:lnTo>
                    <a:lnTo>
                      <a:pt x="311" y="20"/>
                    </a:lnTo>
                    <a:lnTo>
                      <a:pt x="307" y="13"/>
                    </a:lnTo>
                    <a:lnTo>
                      <a:pt x="302" y="7"/>
                    </a:lnTo>
                    <a:lnTo>
                      <a:pt x="297" y="0"/>
                    </a:lnTo>
                    <a:lnTo>
                      <a:pt x="266" y="26"/>
                    </a:lnTo>
                    <a:lnTo>
                      <a:pt x="228" y="54"/>
                    </a:lnTo>
                    <a:lnTo>
                      <a:pt x="188" y="84"/>
                    </a:lnTo>
                    <a:lnTo>
                      <a:pt x="146" y="114"/>
                    </a:lnTo>
                    <a:lnTo>
                      <a:pt x="127" y="130"/>
                    </a:lnTo>
                    <a:lnTo>
                      <a:pt x="106" y="144"/>
                    </a:lnTo>
                    <a:lnTo>
                      <a:pt x="88" y="160"/>
                    </a:lnTo>
                    <a:lnTo>
                      <a:pt x="71" y="176"/>
                    </a:lnTo>
                    <a:lnTo>
                      <a:pt x="55" y="192"/>
                    </a:lnTo>
                    <a:lnTo>
                      <a:pt x="41" y="208"/>
                    </a:lnTo>
                    <a:lnTo>
                      <a:pt x="29" y="223"/>
                    </a:lnTo>
                    <a:lnTo>
                      <a:pt x="20" y="239"/>
                    </a:lnTo>
                    <a:lnTo>
                      <a:pt x="13" y="256"/>
                    </a:lnTo>
                    <a:lnTo>
                      <a:pt x="7" y="273"/>
                    </a:lnTo>
                    <a:lnTo>
                      <a:pt x="3" y="292"/>
                    </a:lnTo>
                    <a:lnTo>
                      <a:pt x="0" y="309"/>
                    </a:lnTo>
                    <a:lnTo>
                      <a:pt x="0" y="326"/>
                    </a:lnTo>
                    <a:lnTo>
                      <a:pt x="1" y="344"/>
                    </a:lnTo>
                    <a:lnTo>
                      <a:pt x="4" y="361"/>
                    </a:lnTo>
                    <a:lnTo>
                      <a:pt x="7" y="378"/>
                    </a:lnTo>
                    <a:lnTo>
                      <a:pt x="12" y="396"/>
                    </a:lnTo>
                    <a:lnTo>
                      <a:pt x="16" y="413"/>
                    </a:lnTo>
                    <a:lnTo>
                      <a:pt x="23" y="431"/>
                    </a:lnTo>
                    <a:lnTo>
                      <a:pt x="30" y="449"/>
                    </a:lnTo>
                    <a:lnTo>
                      <a:pt x="46" y="483"/>
                    </a:lnTo>
                    <a:lnTo>
                      <a:pt x="64" y="516"/>
                    </a:lnTo>
                    <a:lnTo>
                      <a:pt x="101" y="580"/>
                    </a:lnTo>
                    <a:lnTo>
                      <a:pt x="134" y="638"/>
                    </a:lnTo>
                    <a:lnTo>
                      <a:pt x="140" y="652"/>
                    </a:lnTo>
                    <a:lnTo>
                      <a:pt x="146" y="665"/>
                    </a:lnTo>
                    <a:lnTo>
                      <a:pt x="151" y="678"/>
                    </a:lnTo>
                    <a:lnTo>
                      <a:pt x="154" y="689"/>
                    </a:lnTo>
                    <a:lnTo>
                      <a:pt x="156" y="702"/>
                    </a:lnTo>
                    <a:lnTo>
                      <a:pt x="159" y="712"/>
                    </a:lnTo>
                    <a:lnTo>
                      <a:pt x="159" y="722"/>
                    </a:lnTo>
                    <a:lnTo>
                      <a:pt x="156" y="733"/>
                    </a:lnTo>
                    <a:lnTo>
                      <a:pt x="153" y="751"/>
                    </a:lnTo>
                    <a:lnTo>
                      <a:pt x="147" y="769"/>
                    </a:lnTo>
                    <a:lnTo>
                      <a:pt x="140" y="789"/>
                    </a:lnTo>
                    <a:lnTo>
                      <a:pt x="131" y="809"/>
                    </a:lnTo>
                    <a:lnTo>
                      <a:pt x="110" y="850"/>
                    </a:lnTo>
                    <a:lnTo>
                      <a:pt x="87" y="892"/>
                    </a:lnTo>
                    <a:lnTo>
                      <a:pt x="75" y="913"/>
                    </a:lnTo>
                    <a:lnTo>
                      <a:pt x="64" y="934"/>
                    </a:lnTo>
                    <a:lnTo>
                      <a:pt x="55" y="955"/>
                    </a:lnTo>
                    <a:lnTo>
                      <a:pt x="46" y="976"/>
                    </a:lnTo>
                    <a:lnTo>
                      <a:pt x="39" y="996"/>
                    </a:lnTo>
                    <a:lnTo>
                      <a:pt x="33" y="1015"/>
                    </a:lnTo>
                    <a:lnTo>
                      <a:pt x="32" y="1025"/>
                    </a:lnTo>
                    <a:lnTo>
                      <a:pt x="31" y="1034"/>
                    </a:lnTo>
                    <a:lnTo>
                      <a:pt x="30" y="1043"/>
                    </a:lnTo>
                    <a:lnTo>
                      <a:pt x="30" y="1052"/>
                    </a:lnTo>
                    <a:lnTo>
                      <a:pt x="32" y="1059"/>
                    </a:lnTo>
                    <a:lnTo>
                      <a:pt x="37" y="1064"/>
                    </a:lnTo>
                    <a:lnTo>
                      <a:pt x="44" y="1068"/>
                    </a:lnTo>
                    <a:lnTo>
                      <a:pt x="53" y="1068"/>
                    </a:lnTo>
                    <a:lnTo>
                      <a:pt x="64" y="1067"/>
                    </a:lnTo>
                    <a:lnTo>
                      <a:pt x="77" y="1064"/>
                    </a:lnTo>
                    <a:lnTo>
                      <a:pt x="90" y="1059"/>
                    </a:lnTo>
                    <a:lnTo>
                      <a:pt x="105" y="1052"/>
                    </a:lnTo>
                    <a:lnTo>
                      <a:pt x="121" y="1044"/>
                    </a:lnTo>
                    <a:lnTo>
                      <a:pt x="138" y="1034"/>
                    </a:lnTo>
                    <a:lnTo>
                      <a:pt x="155" y="1021"/>
                    </a:lnTo>
                    <a:lnTo>
                      <a:pt x="172" y="1009"/>
                    </a:lnTo>
                    <a:lnTo>
                      <a:pt x="191" y="993"/>
                    </a:lnTo>
                    <a:lnTo>
                      <a:pt x="208" y="977"/>
                    </a:lnTo>
                    <a:lnTo>
                      <a:pt x="225" y="958"/>
                    </a:lnTo>
                    <a:lnTo>
                      <a:pt x="241" y="939"/>
                    </a:lnTo>
                    <a:lnTo>
                      <a:pt x="256" y="919"/>
                    </a:lnTo>
                    <a:lnTo>
                      <a:pt x="270" y="897"/>
                    </a:lnTo>
                    <a:lnTo>
                      <a:pt x="283" y="875"/>
                    </a:lnTo>
                    <a:lnTo>
                      <a:pt x="294" y="851"/>
                    </a:lnTo>
                    <a:lnTo>
                      <a:pt x="305" y="826"/>
                    </a:lnTo>
                    <a:lnTo>
                      <a:pt x="312" y="800"/>
                    </a:lnTo>
                    <a:lnTo>
                      <a:pt x="317" y="774"/>
                    </a:lnTo>
                    <a:lnTo>
                      <a:pt x="320" y="746"/>
                    </a:lnTo>
                    <a:lnTo>
                      <a:pt x="320" y="719"/>
                    </a:lnTo>
                    <a:lnTo>
                      <a:pt x="318" y="689"/>
                    </a:lnTo>
                    <a:lnTo>
                      <a:pt x="312" y="661"/>
                    </a:lnTo>
                    <a:lnTo>
                      <a:pt x="303" y="631"/>
                    </a:lnTo>
                    <a:lnTo>
                      <a:pt x="291" y="600"/>
                    </a:lnTo>
                    <a:lnTo>
                      <a:pt x="275" y="570"/>
                    </a:lnTo>
                    <a:lnTo>
                      <a:pt x="254" y="539"/>
                    </a:lnTo>
                    <a:lnTo>
                      <a:pt x="229" y="508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380200" y="3970440"/>
                <a:ext cx="141120" cy="28800"/>
              </a:xfrm>
              <a:custGeom>
                <a:avLst/>
                <a:gdLst/>
                <a:ahLst/>
                <a:rect l="l" t="t" r="r" b="b"/>
                <a:pathLst>
                  <a:path w="446" h="89">
                    <a:moveTo>
                      <a:pt x="424" y="20"/>
                    </a:moveTo>
                    <a:lnTo>
                      <a:pt x="426" y="3"/>
                    </a:lnTo>
                    <a:lnTo>
                      <a:pt x="416" y="10"/>
                    </a:lnTo>
                    <a:lnTo>
                      <a:pt x="406" y="18"/>
                    </a:lnTo>
                    <a:lnTo>
                      <a:pt x="396" y="24"/>
                    </a:lnTo>
                    <a:lnTo>
                      <a:pt x="386" y="31"/>
                    </a:lnTo>
                    <a:lnTo>
                      <a:pt x="374" y="36"/>
                    </a:lnTo>
                    <a:lnTo>
                      <a:pt x="362" y="41"/>
                    </a:lnTo>
                    <a:lnTo>
                      <a:pt x="349" y="45"/>
                    </a:lnTo>
                    <a:lnTo>
                      <a:pt x="337" y="50"/>
                    </a:lnTo>
                    <a:lnTo>
                      <a:pt x="309" y="57"/>
                    </a:lnTo>
                    <a:lnTo>
                      <a:pt x="281" y="61"/>
                    </a:lnTo>
                    <a:lnTo>
                      <a:pt x="251" y="64"/>
                    </a:lnTo>
                    <a:lnTo>
                      <a:pt x="222" y="65"/>
                    </a:lnTo>
                    <a:lnTo>
                      <a:pt x="192" y="65"/>
                    </a:lnTo>
                    <a:lnTo>
                      <a:pt x="162" y="61"/>
                    </a:lnTo>
                    <a:lnTo>
                      <a:pt x="133" y="58"/>
                    </a:lnTo>
                    <a:lnTo>
                      <a:pt x="105" y="52"/>
                    </a:lnTo>
                    <a:lnTo>
                      <a:pt x="79" y="45"/>
                    </a:lnTo>
                    <a:lnTo>
                      <a:pt x="55" y="36"/>
                    </a:lnTo>
                    <a:lnTo>
                      <a:pt x="44" y="32"/>
                    </a:lnTo>
                    <a:lnTo>
                      <a:pt x="34" y="26"/>
                    </a:lnTo>
                    <a:lnTo>
                      <a:pt x="23" y="22"/>
                    </a:lnTo>
                    <a:lnTo>
                      <a:pt x="14" y="16"/>
                    </a:lnTo>
                    <a:lnTo>
                      <a:pt x="0" y="36"/>
                    </a:lnTo>
                    <a:lnTo>
                      <a:pt x="11" y="42"/>
                    </a:lnTo>
                    <a:lnTo>
                      <a:pt x="22" y="48"/>
                    </a:lnTo>
                    <a:lnTo>
                      <a:pt x="34" y="53"/>
                    </a:lnTo>
                    <a:lnTo>
                      <a:pt x="46" y="59"/>
                    </a:lnTo>
                    <a:lnTo>
                      <a:pt x="72" y="68"/>
                    </a:lnTo>
                    <a:lnTo>
                      <a:pt x="100" y="76"/>
                    </a:lnTo>
                    <a:lnTo>
                      <a:pt x="129" y="82"/>
                    </a:lnTo>
                    <a:lnTo>
                      <a:pt x="159" y="87"/>
                    </a:lnTo>
                    <a:lnTo>
                      <a:pt x="191" y="89"/>
                    </a:lnTo>
                    <a:lnTo>
                      <a:pt x="222" y="89"/>
                    </a:lnTo>
                    <a:lnTo>
                      <a:pt x="253" y="88"/>
                    </a:lnTo>
                    <a:lnTo>
                      <a:pt x="284" y="85"/>
                    </a:lnTo>
                    <a:lnTo>
                      <a:pt x="314" y="80"/>
                    </a:lnTo>
                    <a:lnTo>
                      <a:pt x="344" y="73"/>
                    </a:lnTo>
                    <a:lnTo>
                      <a:pt x="357" y="68"/>
                    </a:lnTo>
                    <a:lnTo>
                      <a:pt x="371" y="64"/>
                    </a:lnTo>
                    <a:lnTo>
                      <a:pt x="385" y="58"/>
                    </a:lnTo>
                    <a:lnTo>
                      <a:pt x="397" y="51"/>
                    </a:lnTo>
                    <a:lnTo>
                      <a:pt x="408" y="45"/>
                    </a:lnTo>
                    <a:lnTo>
                      <a:pt x="420" y="38"/>
                    </a:lnTo>
                    <a:lnTo>
                      <a:pt x="431" y="30"/>
                    </a:lnTo>
                    <a:lnTo>
                      <a:pt x="442" y="20"/>
                    </a:lnTo>
                    <a:lnTo>
                      <a:pt x="443" y="3"/>
                    </a:lnTo>
                    <a:lnTo>
                      <a:pt x="442" y="20"/>
                    </a:lnTo>
                    <a:lnTo>
                      <a:pt x="445" y="16"/>
                    </a:lnTo>
                    <a:lnTo>
                      <a:pt x="446" y="11"/>
                    </a:lnTo>
                    <a:lnTo>
                      <a:pt x="445" y="8"/>
                    </a:lnTo>
                    <a:lnTo>
                      <a:pt x="442" y="3"/>
                    </a:lnTo>
                    <a:lnTo>
                      <a:pt x="438" y="1"/>
                    </a:lnTo>
                    <a:lnTo>
                      <a:pt x="435" y="0"/>
                    </a:lnTo>
                    <a:lnTo>
                      <a:pt x="430" y="0"/>
                    </a:lnTo>
                    <a:lnTo>
                      <a:pt x="426" y="3"/>
                    </a:lnTo>
                    <a:lnTo>
                      <a:pt x="424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446800" y="3857760"/>
                <a:ext cx="85680" cy="119160"/>
              </a:xfrm>
              <a:custGeom>
                <a:avLst/>
                <a:gdLst/>
                <a:ahLst/>
                <a:rect l="l" t="t" r="r" b="b"/>
                <a:pathLst>
                  <a:path w="269" h="374">
                    <a:moveTo>
                      <a:pt x="249" y="21"/>
                    </a:moveTo>
                    <a:lnTo>
                      <a:pt x="249" y="4"/>
                    </a:lnTo>
                    <a:lnTo>
                      <a:pt x="217" y="32"/>
                    </a:lnTo>
                    <a:lnTo>
                      <a:pt x="187" y="59"/>
                    </a:lnTo>
                    <a:lnTo>
                      <a:pt x="160" y="81"/>
                    </a:lnTo>
                    <a:lnTo>
                      <a:pt x="136" y="101"/>
                    </a:lnTo>
                    <a:lnTo>
                      <a:pt x="93" y="134"/>
                    </a:lnTo>
                    <a:lnTo>
                      <a:pt x="60" y="158"/>
                    </a:lnTo>
                    <a:lnTo>
                      <a:pt x="34" y="175"/>
                    </a:lnTo>
                    <a:lnTo>
                      <a:pt x="16" y="187"/>
                    </a:lnTo>
                    <a:lnTo>
                      <a:pt x="11" y="192"/>
                    </a:lnTo>
                    <a:lnTo>
                      <a:pt x="5" y="197"/>
                    </a:lnTo>
                    <a:lnTo>
                      <a:pt x="0" y="203"/>
                    </a:lnTo>
                    <a:lnTo>
                      <a:pt x="0" y="214"/>
                    </a:lnTo>
                    <a:lnTo>
                      <a:pt x="6" y="222"/>
                    </a:lnTo>
                    <a:lnTo>
                      <a:pt x="11" y="226"/>
                    </a:lnTo>
                    <a:lnTo>
                      <a:pt x="17" y="230"/>
                    </a:lnTo>
                    <a:lnTo>
                      <a:pt x="24" y="233"/>
                    </a:lnTo>
                    <a:lnTo>
                      <a:pt x="42" y="241"/>
                    </a:lnTo>
                    <a:lnTo>
                      <a:pt x="66" y="254"/>
                    </a:lnTo>
                    <a:lnTo>
                      <a:pt x="80" y="262"/>
                    </a:lnTo>
                    <a:lnTo>
                      <a:pt x="95" y="271"/>
                    </a:lnTo>
                    <a:lnTo>
                      <a:pt x="112" y="282"/>
                    </a:lnTo>
                    <a:lnTo>
                      <a:pt x="129" y="296"/>
                    </a:lnTo>
                    <a:lnTo>
                      <a:pt x="148" y="312"/>
                    </a:lnTo>
                    <a:lnTo>
                      <a:pt x="169" y="330"/>
                    </a:lnTo>
                    <a:lnTo>
                      <a:pt x="191" y="350"/>
                    </a:lnTo>
                    <a:lnTo>
                      <a:pt x="213" y="374"/>
                    </a:lnTo>
                    <a:lnTo>
                      <a:pt x="232" y="357"/>
                    </a:lnTo>
                    <a:lnTo>
                      <a:pt x="208" y="333"/>
                    </a:lnTo>
                    <a:lnTo>
                      <a:pt x="186" y="312"/>
                    </a:lnTo>
                    <a:lnTo>
                      <a:pt x="164" y="293"/>
                    </a:lnTo>
                    <a:lnTo>
                      <a:pt x="145" y="278"/>
                    </a:lnTo>
                    <a:lnTo>
                      <a:pt x="126" y="263"/>
                    </a:lnTo>
                    <a:lnTo>
                      <a:pt x="109" y="251"/>
                    </a:lnTo>
                    <a:lnTo>
                      <a:pt x="93" y="241"/>
                    </a:lnTo>
                    <a:lnTo>
                      <a:pt x="78" y="232"/>
                    </a:lnTo>
                    <a:lnTo>
                      <a:pt x="53" y="219"/>
                    </a:lnTo>
                    <a:lnTo>
                      <a:pt x="34" y="210"/>
                    </a:lnTo>
                    <a:lnTo>
                      <a:pt x="28" y="208"/>
                    </a:lnTo>
                    <a:lnTo>
                      <a:pt x="24" y="206"/>
                    </a:lnTo>
                    <a:lnTo>
                      <a:pt x="22" y="205"/>
                    </a:lnTo>
                    <a:lnTo>
                      <a:pt x="24" y="207"/>
                    </a:lnTo>
                    <a:lnTo>
                      <a:pt x="24" y="211"/>
                    </a:lnTo>
                    <a:lnTo>
                      <a:pt x="23" y="213"/>
                    </a:lnTo>
                    <a:lnTo>
                      <a:pt x="25" y="210"/>
                    </a:lnTo>
                    <a:lnTo>
                      <a:pt x="31" y="207"/>
                    </a:lnTo>
                    <a:lnTo>
                      <a:pt x="48" y="195"/>
                    </a:lnTo>
                    <a:lnTo>
                      <a:pt x="73" y="177"/>
                    </a:lnTo>
                    <a:lnTo>
                      <a:pt x="107" y="153"/>
                    </a:lnTo>
                    <a:lnTo>
                      <a:pt x="151" y="120"/>
                    </a:lnTo>
                    <a:lnTo>
                      <a:pt x="176" y="100"/>
                    </a:lnTo>
                    <a:lnTo>
                      <a:pt x="203" y="77"/>
                    </a:lnTo>
                    <a:lnTo>
                      <a:pt x="233" y="51"/>
                    </a:lnTo>
                    <a:lnTo>
                      <a:pt x="265" y="21"/>
                    </a:lnTo>
                    <a:lnTo>
                      <a:pt x="265" y="4"/>
                    </a:lnTo>
                    <a:lnTo>
                      <a:pt x="265" y="21"/>
                    </a:lnTo>
                    <a:lnTo>
                      <a:pt x="268" y="16"/>
                    </a:lnTo>
                    <a:lnTo>
                      <a:pt x="269" y="12"/>
                    </a:lnTo>
                    <a:lnTo>
                      <a:pt x="268" y="8"/>
                    </a:lnTo>
                    <a:lnTo>
                      <a:pt x="266" y="4"/>
                    </a:lnTo>
                    <a:lnTo>
                      <a:pt x="262" y="2"/>
                    </a:lnTo>
                    <a:lnTo>
                      <a:pt x="258" y="0"/>
                    </a:lnTo>
                    <a:lnTo>
                      <a:pt x="253" y="0"/>
                    </a:lnTo>
                    <a:lnTo>
                      <a:pt x="249" y="4"/>
                    </a:lnTo>
                    <a:lnTo>
                      <a:pt x="24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89640" y="382608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5" y="3"/>
                    </a:moveTo>
                    <a:lnTo>
                      <a:pt x="3" y="22"/>
                    </a:lnTo>
                    <a:lnTo>
                      <a:pt x="116" y="120"/>
                    </a:lnTo>
                    <a:lnTo>
                      <a:pt x="132" y="103"/>
                    </a:lnTo>
                    <a:lnTo>
                      <a:pt x="19" y="4"/>
                    </a:lnTo>
                    <a:lnTo>
                      <a:pt x="5" y="3"/>
                    </a:lnTo>
                    <a:lnTo>
                      <a:pt x="19" y="4"/>
                    </a:lnTo>
                    <a:lnTo>
                      <a:pt x="14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394240" y="3827880"/>
                <a:ext cx="100080" cy="75960"/>
              </a:xfrm>
              <a:custGeom>
                <a:avLst/>
                <a:gdLst/>
                <a:ahLst/>
                <a:rect l="l" t="t" r="r" b="b"/>
                <a:pathLst>
                  <a:path w="318" h="239">
                    <a:moveTo>
                      <a:pt x="1" y="221"/>
                    </a:moveTo>
                    <a:lnTo>
                      <a:pt x="20" y="236"/>
                    </a:lnTo>
                    <a:lnTo>
                      <a:pt x="53" y="206"/>
                    </a:lnTo>
                    <a:lnTo>
                      <a:pt x="88" y="176"/>
                    </a:lnTo>
                    <a:lnTo>
                      <a:pt x="124" y="148"/>
                    </a:lnTo>
                    <a:lnTo>
                      <a:pt x="162" y="120"/>
                    </a:lnTo>
                    <a:lnTo>
                      <a:pt x="199" y="93"/>
                    </a:lnTo>
                    <a:lnTo>
                      <a:pt x="239" y="67"/>
                    </a:lnTo>
                    <a:lnTo>
                      <a:pt x="278" y="43"/>
                    </a:lnTo>
                    <a:lnTo>
                      <a:pt x="318" y="20"/>
                    </a:lnTo>
                    <a:lnTo>
                      <a:pt x="305" y="0"/>
                    </a:lnTo>
                    <a:lnTo>
                      <a:pt x="265" y="22"/>
                    </a:lnTo>
                    <a:lnTo>
                      <a:pt x="225" y="47"/>
                    </a:lnTo>
                    <a:lnTo>
                      <a:pt x="186" y="73"/>
                    </a:lnTo>
                    <a:lnTo>
                      <a:pt x="147" y="100"/>
                    </a:lnTo>
                    <a:lnTo>
                      <a:pt x="109" y="128"/>
                    </a:lnTo>
                    <a:lnTo>
                      <a:pt x="73" y="158"/>
                    </a:lnTo>
                    <a:lnTo>
                      <a:pt x="37" y="188"/>
                    </a:lnTo>
                    <a:lnTo>
                      <a:pt x="3" y="217"/>
                    </a:lnTo>
                    <a:lnTo>
                      <a:pt x="23" y="231"/>
                    </a:lnTo>
                    <a:lnTo>
                      <a:pt x="3" y="217"/>
                    </a:lnTo>
                    <a:lnTo>
                      <a:pt x="0" y="222"/>
                    </a:lnTo>
                    <a:lnTo>
                      <a:pt x="0" y="226"/>
                    </a:lnTo>
                    <a:lnTo>
                      <a:pt x="0" y="231"/>
                    </a:lnTo>
                    <a:lnTo>
                      <a:pt x="3" y="234"/>
                    </a:lnTo>
                    <a:lnTo>
                      <a:pt x="7" y="237"/>
                    </a:lnTo>
                    <a:lnTo>
                      <a:pt x="11" y="239"/>
                    </a:lnTo>
                    <a:lnTo>
                      <a:pt x="16" y="238"/>
                    </a:lnTo>
                    <a:lnTo>
                      <a:pt x="20" y="236"/>
                    </a:lnTo>
                    <a:lnTo>
                      <a:pt x="1" y="2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394240" y="3813480"/>
                <a:ext cx="22320" cy="87120"/>
              </a:xfrm>
              <a:custGeom>
                <a:avLst/>
                <a:gdLst/>
                <a:ahLst/>
                <a:rect l="l" t="t" r="r" b="b"/>
                <a:pathLst>
                  <a:path w="72" h="275">
                    <a:moveTo>
                      <a:pt x="38" y="21"/>
                    </a:moveTo>
                    <a:lnTo>
                      <a:pt x="20" y="21"/>
                    </a:lnTo>
                    <a:lnTo>
                      <a:pt x="26" y="25"/>
                    </a:lnTo>
                    <a:lnTo>
                      <a:pt x="30" y="31"/>
                    </a:lnTo>
                    <a:lnTo>
                      <a:pt x="34" y="38"/>
                    </a:lnTo>
                    <a:lnTo>
                      <a:pt x="36" y="44"/>
                    </a:lnTo>
                    <a:lnTo>
                      <a:pt x="42" y="57"/>
                    </a:lnTo>
                    <a:lnTo>
                      <a:pt x="45" y="72"/>
                    </a:lnTo>
                    <a:lnTo>
                      <a:pt x="47" y="87"/>
                    </a:lnTo>
                    <a:lnTo>
                      <a:pt x="48" y="103"/>
                    </a:lnTo>
                    <a:lnTo>
                      <a:pt x="47" y="120"/>
                    </a:lnTo>
                    <a:lnTo>
                      <a:pt x="44" y="137"/>
                    </a:lnTo>
                    <a:lnTo>
                      <a:pt x="41" y="154"/>
                    </a:lnTo>
                    <a:lnTo>
                      <a:pt x="36" y="171"/>
                    </a:lnTo>
                    <a:lnTo>
                      <a:pt x="31" y="188"/>
                    </a:lnTo>
                    <a:lnTo>
                      <a:pt x="25" y="204"/>
                    </a:lnTo>
                    <a:lnTo>
                      <a:pt x="12" y="236"/>
                    </a:lnTo>
                    <a:lnTo>
                      <a:pt x="0" y="265"/>
                    </a:lnTo>
                    <a:lnTo>
                      <a:pt x="22" y="275"/>
                    </a:lnTo>
                    <a:lnTo>
                      <a:pt x="35" y="247"/>
                    </a:lnTo>
                    <a:lnTo>
                      <a:pt x="48" y="213"/>
                    </a:lnTo>
                    <a:lnTo>
                      <a:pt x="55" y="195"/>
                    </a:lnTo>
                    <a:lnTo>
                      <a:pt x="59" y="177"/>
                    </a:lnTo>
                    <a:lnTo>
                      <a:pt x="64" y="159"/>
                    </a:lnTo>
                    <a:lnTo>
                      <a:pt x="68" y="140"/>
                    </a:lnTo>
                    <a:lnTo>
                      <a:pt x="71" y="122"/>
                    </a:lnTo>
                    <a:lnTo>
                      <a:pt x="72" y="104"/>
                    </a:lnTo>
                    <a:lnTo>
                      <a:pt x="72" y="86"/>
                    </a:lnTo>
                    <a:lnTo>
                      <a:pt x="69" y="68"/>
                    </a:lnTo>
                    <a:lnTo>
                      <a:pt x="65" y="50"/>
                    </a:lnTo>
                    <a:lnTo>
                      <a:pt x="59" y="34"/>
                    </a:lnTo>
                    <a:lnTo>
                      <a:pt x="55" y="25"/>
                    </a:lnTo>
                    <a:lnTo>
                      <a:pt x="50" y="19"/>
                    </a:lnTo>
                    <a:lnTo>
                      <a:pt x="44" y="11"/>
                    </a:lnTo>
                    <a:lnTo>
                      <a:pt x="39" y="4"/>
                    </a:lnTo>
                    <a:lnTo>
                      <a:pt x="22" y="4"/>
                    </a:lnTo>
                    <a:lnTo>
                      <a:pt x="39" y="4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5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7" y="12"/>
                    </a:lnTo>
                    <a:lnTo>
                      <a:pt x="18" y="16"/>
                    </a:lnTo>
                    <a:lnTo>
                      <a:pt x="20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311800" y="3814920"/>
                <a:ext cx="93600" cy="79560"/>
              </a:xfrm>
              <a:custGeom>
                <a:avLst/>
                <a:gdLst/>
                <a:ahLst/>
                <a:rect l="l" t="t" r="r" b="b"/>
                <a:pathLst>
                  <a:path w="296" h="253">
                    <a:moveTo>
                      <a:pt x="22" y="253"/>
                    </a:moveTo>
                    <a:lnTo>
                      <a:pt x="21" y="253"/>
                    </a:lnTo>
                    <a:lnTo>
                      <a:pt x="30" y="238"/>
                    </a:lnTo>
                    <a:lnTo>
                      <a:pt x="41" y="223"/>
                    </a:lnTo>
                    <a:lnTo>
                      <a:pt x="55" y="208"/>
                    </a:lnTo>
                    <a:lnTo>
                      <a:pt x="70" y="193"/>
                    </a:lnTo>
                    <a:lnTo>
                      <a:pt x="87" y="178"/>
                    </a:lnTo>
                    <a:lnTo>
                      <a:pt x="105" y="163"/>
                    </a:lnTo>
                    <a:lnTo>
                      <a:pt x="125" y="147"/>
                    </a:lnTo>
                    <a:lnTo>
                      <a:pt x="145" y="132"/>
                    </a:lnTo>
                    <a:lnTo>
                      <a:pt x="186" y="101"/>
                    </a:lnTo>
                    <a:lnTo>
                      <a:pt x="226" y="72"/>
                    </a:lnTo>
                    <a:lnTo>
                      <a:pt x="264" y="44"/>
                    </a:lnTo>
                    <a:lnTo>
                      <a:pt x="296" y="17"/>
                    </a:lnTo>
                    <a:lnTo>
                      <a:pt x="280" y="0"/>
                    </a:lnTo>
                    <a:lnTo>
                      <a:pt x="249" y="25"/>
                    </a:lnTo>
                    <a:lnTo>
                      <a:pt x="212" y="52"/>
                    </a:lnTo>
                    <a:lnTo>
                      <a:pt x="171" y="82"/>
                    </a:lnTo>
                    <a:lnTo>
                      <a:pt x="130" y="113"/>
                    </a:lnTo>
                    <a:lnTo>
                      <a:pt x="110" y="127"/>
                    </a:lnTo>
                    <a:lnTo>
                      <a:pt x="90" y="143"/>
                    </a:lnTo>
                    <a:lnTo>
                      <a:pt x="71" y="159"/>
                    </a:lnTo>
                    <a:lnTo>
                      <a:pt x="54" y="175"/>
                    </a:lnTo>
                    <a:lnTo>
                      <a:pt x="37" y="191"/>
                    </a:lnTo>
                    <a:lnTo>
                      <a:pt x="23" y="208"/>
                    </a:lnTo>
                    <a:lnTo>
                      <a:pt x="11" y="224"/>
                    </a:lnTo>
                    <a:lnTo>
                      <a:pt x="0" y="241"/>
                    </a:lnTo>
                    <a:lnTo>
                      <a:pt x="0" y="241"/>
                    </a:lnTo>
                    <a:lnTo>
                      <a:pt x="22" y="25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305320" y="3891240"/>
                <a:ext cx="57240" cy="160200"/>
              </a:xfrm>
              <a:custGeom>
                <a:avLst/>
                <a:gdLst/>
                <a:ahLst/>
                <a:rect l="l" t="t" r="r" b="b"/>
                <a:pathLst>
                  <a:path w="182" h="503">
                    <a:moveTo>
                      <a:pt x="181" y="501"/>
                    </a:moveTo>
                    <a:lnTo>
                      <a:pt x="180" y="503"/>
                    </a:lnTo>
                    <a:lnTo>
                      <a:pt x="182" y="491"/>
                    </a:lnTo>
                    <a:lnTo>
                      <a:pt x="182" y="479"/>
                    </a:lnTo>
                    <a:lnTo>
                      <a:pt x="181" y="467"/>
                    </a:lnTo>
                    <a:lnTo>
                      <a:pt x="177" y="454"/>
                    </a:lnTo>
                    <a:lnTo>
                      <a:pt x="174" y="440"/>
                    </a:lnTo>
                    <a:lnTo>
                      <a:pt x="170" y="428"/>
                    </a:lnTo>
                    <a:lnTo>
                      <a:pt x="163" y="414"/>
                    </a:lnTo>
                    <a:lnTo>
                      <a:pt x="156" y="399"/>
                    </a:lnTo>
                    <a:lnTo>
                      <a:pt x="124" y="341"/>
                    </a:lnTo>
                    <a:lnTo>
                      <a:pt x="86" y="277"/>
                    </a:lnTo>
                    <a:lnTo>
                      <a:pt x="69" y="244"/>
                    </a:lnTo>
                    <a:lnTo>
                      <a:pt x="53" y="210"/>
                    </a:lnTo>
                    <a:lnTo>
                      <a:pt x="46" y="194"/>
                    </a:lnTo>
                    <a:lnTo>
                      <a:pt x="41" y="177"/>
                    </a:lnTo>
                    <a:lnTo>
                      <a:pt x="35" y="160"/>
                    </a:lnTo>
                    <a:lnTo>
                      <a:pt x="30" y="143"/>
                    </a:lnTo>
                    <a:lnTo>
                      <a:pt x="27" y="126"/>
                    </a:lnTo>
                    <a:lnTo>
                      <a:pt x="25" y="110"/>
                    </a:lnTo>
                    <a:lnTo>
                      <a:pt x="25" y="93"/>
                    </a:lnTo>
                    <a:lnTo>
                      <a:pt x="25" y="77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28"/>
                    </a:lnTo>
                    <a:lnTo>
                      <a:pt x="43" y="12"/>
                    </a:lnTo>
                    <a:lnTo>
                      <a:pt x="21" y="0"/>
                    </a:lnTo>
                    <a:lnTo>
                      <a:pt x="13" y="19"/>
                    </a:lnTo>
                    <a:lnTo>
                      <a:pt x="7" y="38"/>
                    </a:lnTo>
                    <a:lnTo>
                      <a:pt x="3" y="56"/>
                    </a:lnTo>
                    <a:lnTo>
                      <a:pt x="1" y="74"/>
                    </a:lnTo>
                    <a:lnTo>
                      <a:pt x="0" y="93"/>
                    </a:lnTo>
                    <a:lnTo>
                      <a:pt x="1" y="112"/>
                    </a:lnTo>
                    <a:lnTo>
                      <a:pt x="3" y="130"/>
                    </a:lnTo>
                    <a:lnTo>
                      <a:pt x="7" y="149"/>
                    </a:lnTo>
                    <a:lnTo>
                      <a:pt x="11" y="167"/>
                    </a:lnTo>
                    <a:lnTo>
                      <a:pt x="17" y="185"/>
                    </a:lnTo>
                    <a:lnTo>
                      <a:pt x="24" y="202"/>
                    </a:lnTo>
                    <a:lnTo>
                      <a:pt x="32" y="220"/>
                    </a:lnTo>
                    <a:lnTo>
                      <a:pt x="48" y="255"/>
                    </a:lnTo>
                    <a:lnTo>
                      <a:pt x="66" y="289"/>
                    </a:lnTo>
                    <a:lnTo>
                      <a:pt x="102" y="353"/>
                    </a:lnTo>
                    <a:lnTo>
                      <a:pt x="135" y="411"/>
                    </a:lnTo>
                    <a:lnTo>
                      <a:pt x="141" y="423"/>
                    </a:lnTo>
                    <a:lnTo>
                      <a:pt x="147" y="437"/>
                    </a:lnTo>
                    <a:lnTo>
                      <a:pt x="151" y="448"/>
                    </a:lnTo>
                    <a:lnTo>
                      <a:pt x="155" y="460"/>
                    </a:lnTo>
                    <a:lnTo>
                      <a:pt x="157" y="470"/>
                    </a:lnTo>
                    <a:lnTo>
                      <a:pt x="158" y="480"/>
                    </a:lnTo>
                    <a:lnTo>
                      <a:pt x="158" y="489"/>
                    </a:lnTo>
                    <a:lnTo>
                      <a:pt x="157" y="497"/>
                    </a:lnTo>
                    <a:lnTo>
                      <a:pt x="157" y="499"/>
                    </a:lnTo>
                    <a:lnTo>
                      <a:pt x="181" y="5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315040" y="4050000"/>
                <a:ext cx="47520" cy="101520"/>
              </a:xfrm>
              <a:custGeom>
                <a:avLst/>
                <a:gdLst/>
                <a:ahLst/>
                <a:rect l="l" t="t" r="r" b="b"/>
                <a:pathLst>
                  <a:path w="152" h="321">
                    <a:moveTo>
                      <a:pt x="25" y="319"/>
                    </a:moveTo>
                    <a:lnTo>
                      <a:pt x="25" y="319"/>
                    </a:lnTo>
                    <a:lnTo>
                      <a:pt x="25" y="311"/>
                    </a:lnTo>
                    <a:lnTo>
                      <a:pt x="25" y="303"/>
                    </a:lnTo>
                    <a:lnTo>
                      <a:pt x="27" y="295"/>
                    </a:lnTo>
                    <a:lnTo>
                      <a:pt x="29" y="286"/>
                    </a:lnTo>
                    <a:lnTo>
                      <a:pt x="33" y="267"/>
                    </a:lnTo>
                    <a:lnTo>
                      <a:pt x="40" y="248"/>
                    </a:lnTo>
                    <a:lnTo>
                      <a:pt x="48" y="228"/>
                    </a:lnTo>
                    <a:lnTo>
                      <a:pt x="58" y="208"/>
                    </a:lnTo>
                    <a:lnTo>
                      <a:pt x="69" y="187"/>
                    </a:lnTo>
                    <a:lnTo>
                      <a:pt x="80" y="166"/>
                    </a:lnTo>
                    <a:lnTo>
                      <a:pt x="104" y="124"/>
                    </a:lnTo>
                    <a:lnTo>
                      <a:pt x="125" y="83"/>
                    </a:lnTo>
                    <a:lnTo>
                      <a:pt x="134" y="61"/>
                    </a:lnTo>
                    <a:lnTo>
                      <a:pt x="142" y="42"/>
                    </a:lnTo>
                    <a:lnTo>
                      <a:pt x="147" y="21"/>
                    </a:lnTo>
                    <a:lnTo>
                      <a:pt x="152" y="2"/>
                    </a:lnTo>
                    <a:lnTo>
                      <a:pt x="128" y="0"/>
                    </a:lnTo>
                    <a:lnTo>
                      <a:pt x="125" y="16"/>
                    </a:lnTo>
                    <a:lnTo>
                      <a:pt x="119" y="34"/>
                    </a:lnTo>
                    <a:lnTo>
                      <a:pt x="112" y="52"/>
                    </a:lnTo>
                    <a:lnTo>
                      <a:pt x="103" y="71"/>
                    </a:lnTo>
                    <a:lnTo>
                      <a:pt x="82" y="112"/>
                    </a:lnTo>
                    <a:lnTo>
                      <a:pt x="60" y="155"/>
                    </a:lnTo>
                    <a:lnTo>
                      <a:pt x="48" y="176"/>
                    </a:lnTo>
                    <a:lnTo>
                      <a:pt x="37" y="197"/>
                    </a:lnTo>
                    <a:lnTo>
                      <a:pt x="27" y="218"/>
                    </a:lnTo>
                    <a:lnTo>
                      <a:pt x="17" y="239"/>
                    </a:lnTo>
                    <a:lnTo>
                      <a:pt x="11" y="259"/>
                    </a:lnTo>
                    <a:lnTo>
                      <a:pt x="5" y="280"/>
                    </a:lnTo>
                    <a:lnTo>
                      <a:pt x="3" y="290"/>
                    </a:lnTo>
                    <a:lnTo>
                      <a:pt x="1" y="301"/>
                    </a:lnTo>
                    <a:lnTo>
                      <a:pt x="0" y="311"/>
                    </a:lnTo>
                    <a:lnTo>
                      <a:pt x="1" y="320"/>
                    </a:lnTo>
                    <a:lnTo>
                      <a:pt x="1" y="321"/>
                    </a:lnTo>
                    <a:lnTo>
                      <a:pt x="25" y="3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315040" y="3975480"/>
                <a:ext cx="100080" cy="183960"/>
              </a:xfrm>
              <a:custGeom>
                <a:avLst/>
                <a:gdLst/>
                <a:ahLst/>
                <a:rect l="l" t="t" r="r" b="b"/>
                <a:pathLst>
                  <a:path w="315" h="584">
                    <a:moveTo>
                      <a:pt x="218" y="2"/>
                    </a:moveTo>
                    <a:lnTo>
                      <a:pt x="202" y="20"/>
                    </a:lnTo>
                    <a:lnTo>
                      <a:pt x="215" y="35"/>
                    </a:lnTo>
                    <a:lnTo>
                      <a:pt x="226" y="50"/>
                    </a:lnTo>
                    <a:lnTo>
                      <a:pt x="236" y="66"/>
                    </a:lnTo>
                    <a:lnTo>
                      <a:pt x="247" y="81"/>
                    </a:lnTo>
                    <a:lnTo>
                      <a:pt x="255" y="95"/>
                    </a:lnTo>
                    <a:lnTo>
                      <a:pt x="261" y="110"/>
                    </a:lnTo>
                    <a:lnTo>
                      <a:pt x="268" y="124"/>
                    </a:lnTo>
                    <a:lnTo>
                      <a:pt x="274" y="139"/>
                    </a:lnTo>
                    <a:lnTo>
                      <a:pt x="279" y="153"/>
                    </a:lnTo>
                    <a:lnTo>
                      <a:pt x="283" y="167"/>
                    </a:lnTo>
                    <a:lnTo>
                      <a:pt x="287" y="182"/>
                    </a:lnTo>
                    <a:lnTo>
                      <a:pt x="289" y="196"/>
                    </a:lnTo>
                    <a:lnTo>
                      <a:pt x="290" y="209"/>
                    </a:lnTo>
                    <a:lnTo>
                      <a:pt x="291" y="223"/>
                    </a:lnTo>
                    <a:lnTo>
                      <a:pt x="291" y="237"/>
                    </a:lnTo>
                    <a:lnTo>
                      <a:pt x="291" y="250"/>
                    </a:lnTo>
                    <a:lnTo>
                      <a:pt x="289" y="263"/>
                    </a:lnTo>
                    <a:lnTo>
                      <a:pt x="288" y="277"/>
                    </a:lnTo>
                    <a:lnTo>
                      <a:pt x="285" y="289"/>
                    </a:lnTo>
                    <a:lnTo>
                      <a:pt x="282" y="302"/>
                    </a:lnTo>
                    <a:lnTo>
                      <a:pt x="275" y="327"/>
                    </a:lnTo>
                    <a:lnTo>
                      <a:pt x="266" y="350"/>
                    </a:lnTo>
                    <a:lnTo>
                      <a:pt x="255" y="373"/>
                    </a:lnTo>
                    <a:lnTo>
                      <a:pt x="242" y="395"/>
                    </a:lnTo>
                    <a:lnTo>
                      <a:pt x="228" y="416"/>
                    </a:lnTo>
                    <a:lnTo>
                      <a:pt x="214" y="436"/>
                    </a:lnTo>
                    <a:lnTo>
                      <a:pt x="198" y="454"/>
                    </a:lnTo>
                    <a:lnTo>
                      <a:pt x="181" y="472"/>
                    </a:lnTo>
                    <a:lnTo>
                      <a:pt x="165" y="487"/>
                    </a:lnTo>
                    <a:lnTo>
                      <a:pt x="147" y="502"/>
                    </a:lnTo>
                    <a:lnTo>
                      <a:pt x="130" y="516"/>
                    </a:lnTo>
                    <a:lnTo>
                      <a:pt x="113" y="527"/>
                    </a:lnTo>
                    <a:lnTo>
                      <a:pt x="97" y="538"/>
                    </a:lnTo>
                    <a:lnTo>
                      <a:pt x="81" y="546"/>
                    </a:lnTo>
                    <a:lnTo>
                      <a:pt x="68" y="552"/>
                    </a:lnTo>
                    <a:lnTo>
                      <a:pt x="55" y="557"/>
                    </a:lnTo>
                    <a:lnTo>
                      <a:pt x="44" y="559"/>
                    </a:lnTo>
                    <a:lnTo>
                      <a:pt x="35" y="560"/>
                    </a:lnTo>
                    <a:lnTo>
                      <a:pt x="31" y="560"/>
                    </a:lnTo>
                    <a:lnTo>
                      <a:pt x="29" y="559"/>
                    </a:lnTo>
                    <a:lnTo>
                      <a:pt x="27" y="559"/>
                    </a:lnTo>
                    <a:lnTo>
                      <a:pt x="26" y="558"/>
                    </a:lnTo>
                    <a:lnTo>
                      <a:pt x="26" y="558"/>
                    </a:lnTo>
                    <a:lnTo>
                      <a:pt x="24" y="557"/>
                    </a:lnTo>
                    <a:lnTo>
                      <a:pt x="24" y="556"/>
                    </a:lnTo>
                    <a:lnTo>
                      <a:pt x="24" y="555"/>
                    </a:lnTo>
                    <a:lnTo>
                      <a:pt x="0" y="557"/>
                    </a:lnTo>
                    <a:lnTo>
                      <a:pt x="2" y="563"/>
                    </a:lnTo>
                    <a:lnTo>
                      <a:pt x="4" y="568"/>
                    </a:lnTo>
                    <a:lnTo>
                      <a:pt x="7" y="574"/>
                    </a:lnTo>
                    <a:lnTo>
                      <a:pt x="12" y="579"/>
                    </a:lnTo>
                    <a:lnTo>
                      <a:pt x="18" y="581"/>
                    </a:lnTo>
                    <a:lnTo>
                      <a:pt x="23" y="583"/>
                    </a:lnTo>
                    <a:lnTo>
                      <a:pt x="29" y="584"/>
                    </a:lnTo>
                    <a:lnTo>
                      <a:pt x="36" y="584"/>
                    </a:lnTo>
                    <a:lnTo>
                      <a:pt x="48" y="583"/>
                    </a:lnTo>
                    <a:lnTo>
                      <a:pt x="62" y="580"/>
                    </a:lnTo>
                    <a:lnTo>
                      <a:pt x="77" y="574"/>
                    </a:lnTo>
                    <a:lnTo>
                      <a:pt x="93" y="567"/>
                    </a:lnTo>
                    <a:lnTo>
                      <a:pt x="109" y="558"/>
                    </a:lnTo>
                    <a:lnTo>
                      <a:pt x="127" y="548"/>
                    </a:lnTo>
                    <a:lnTo>
                      <a:pt x="144" y="535"/>
                    </a:lnTo>
                    <a:lnTo>
                      <a:pt x="162" y="522"/>
                    </a:lnTo>
                    <a:lnTo>
                      <a:pt x="181" y="506"/>
                    </a:lnTo>
                    <a:lnTo>
                      <a:pt x="198" y="489"/>
                    </a:lnTo>
                    <a:lnTo>
                      <a:pt x="216" y="470"/>
                    </a:lnTo>
                    <a:lnTo>
                      <a:pt x="232" y="451"/>
                    </a:lnTo>
                    <a:lnTo>
                      <a:pt x="248" y="430"/>
                    </a:lnTo>
                    <a:lnTo>
                      <a:pt x="263" y="408"/>
                    </a:lnTo>
                    <a:lnTo>
                      <a:pt x="276" y="385"/>
                    </a:lnTo>
                    <a:lnTo>
                      <a:pt x="288" y="360"/>
                    </a:lnTo>
                    <a:lnTo>
                      <a:pt x="298" y="334"/>
                    </a:lnTo>
                    <a:lnTo>
                      <a:pt x="306" y="307"/>
                    </a:lnTo>
                    <a:lnTo>
                      <a:pt x="309" y="294"/>
                    </a:lnTo>
                    <a:lnTo>
                      <a:pt x="312" y="280"/>
                    </a:lnTo>
                    <a:lnTo>
                      <a:pt x="314" y="265"/>
                    </a:lnTo>
                    <a:lnTo>
                      <a:pt x="315" y="252"/>
                    </a:lnTo>
                    <a:lnTo>
                      <a:pt x="315" y="237"/>
                    </a:lnTo>
                    <a:lnTo>
                      <a:pt x="315" y="222"/>
                    </a:lnTo>
                    <a:lnTo>
                      <a:pt x="314" y="207"/>
                    </a:lnTo>
                    <a:lnTo>
                      <a:pt x="313" y="192"/>
                    </a:lnTo>
                    <a:lnTo>
                      <a:pt x="309" y="177"/>
                    </a:lnTo>
                    <a:lnTo>
                      <a:pt x="306" y="161"/>
                    </a:lnTo>
                    <a:lnTo>
                      <a:pt x="302" y="147"/>
                    </a:lnTo>
                    <a:lnTo>
                      <a:pt x="297" y="131"/>
                    </a:lnTo>
                    <a:lnTo>
                      <a:pt x="291" y="115"/>
                    </a:lnTo>
                    <a:lnTo>
                      <a:pt x="284" y="100"/>
                    </a:lnTo>
                    <a:lnTo>
                      <a:pt x="276" y="84"/>
                    </a:lnTo>
                    <a:lnTo>
                      <a:pt x="267" y="68"/>
                    </a:lnTo>
                    <a:lnTo>
                      <a:pt x="257" y="52"/>
                    </a:lnTo>
                    <a:lnTo>
                      <a:pt x="245" y="36"/>
                    </a:lnTo>
                    <a:lnTo>
                      <a:pt x="234" y="20"/>
                    </a:lnTo>
                    <a:lnTo>
                      <a:pt x="220" y="4"/>
                    </a:lnTo>
                    <a:lnTo>
                      <a:pt x="204" y="22"/>
                    </a:lnTo>
                    <a:lnTo>
                      <a:pt x="220" y="4"/>
                    </a:lnTo>
                    <a:lnTo>
                      <a:pt x="216" y="1"/>
                    </a:lnTo>
                    <a:lnTo>
                      <a:pt x="211" y="0"/>
                    </a:lnTo>
                    <a:lnTo>
                      <a:pt x="207" y="1"/>
                    </a:lnTo>
                    <a:lnTo>
                      <a:pt x="203" y="3"/>
                    </a:lnTo>
                    <a:lnTo>
                      <a:pt x="200" y="6"/>
                    </a:lnTo>
                    <a:lnTo>
                      <a:pt x="199" y="10"/>
                    </a:lnTo>
                    <a:lnTo>
                      <a:pt x="200" y="14"/>
                    </a:lnTo>
                    <a:lnTo>
                      <a:pt x="202" y="20"/>
                    </a:lnTo>
                    <a:lnTo>
                      <a:pt x="2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16680" y="4089600"/>
                <a:ext cx="350640" cy="217440"/>
              </a:xfrm>
              <a:custGeom>
                <a:avLst/>
                <a:gdLst/>
                <a:ahLst/>
                <a:rect l="l" t="t" r="r" b="b"/>
                <a:pathLst>
                  <a:path w="1106" h="681">
                    <a:moveTo>
                      <a:pt x="519" y="351"/>
                    </a:moveTo>
                    <a:lnTo>
                      <a:pt x="522" y="362"/>
                    </a:lnTo>
                    <a:lnTo>
                      <a:pt x="526" y="373"/>
                    </a:lnTo>
                    <a:lnTo>
                      <a:pt x="531" y="385"/>
                    </a:lnTo>
                    <a:lnTo>
                      <a:pt x="535" y="396"/>
                    </a:lnTo>
                    <a:lnTo>
                      <a:pt x="548" y="420"/>
                    </a:lnTo>
                    <a:lnTo>
                      <a:pt x="563" y="444"/>
                    </a:lnTo>
                    <a:lnTo>
                      <a:pt x="580" y="468"/>
                    </a:lnTo>
                    <a:lnTo>
                      <a:pt x="598" y="491"/>
                    </a:lnTo>
                    <a:lnTo>
                      <a:pt x="619" y="513"/>
                    </a:lnTo>
                    <a:lnTo>
                      <a:pt x="640" y="535"/>
                    </a:lnTo>
                    <a:lnTo>
                      <a:pt x="664" y="554"/>
                    </a:lnTo>
                    <a:lnTo>
                      <a:pt x="688" y="574"/>
                    </a:lnTo>
                    <a:lnTo>
                      <a:pt x="713" y="590"/>
                    </a:lnTo>
                    <a:lnTo>
                      <a:pt x="738" y="605"/>
                    </a:lnTo>
                    <a:lnTo>
                      <a:pt x="752" y="610"/>
                    </a:lnTo>
                    <a:lnTo>
                      <a:pt x="765" y="616"/>
                    </a:lnTo>
                    <a:lnTo>
                      <a:pt x="777" y="621"/>
                    </a:lnTo>
                    <a:lnTo>
                      <a:pt x="791" y="624"/>
                    </a:lnTo>
                    <a:lnTo>
                      <a:pt x="803" y="627"/>
                    </a:lnTo>
                    <a:lnTo>
                      <a:pt x="816" y="630"/>
                    </a:lnTo>
                    <a:lnTo>
                      <a:pt x="828" y="631"/>
                    </a:lnTo>
                    <a:lnTo>
                      <a:pt x="841" y="632"/>
                    </a:lnTo>
                    <a:lnTo>
                      <a:pt x="841" y="599"/>
                    </a:lnTo>
                    <a:lnTo>
                      <a:pt x="839" y="568"/>
                    </a:lnTo>
                    <a:lnTo>
                      <a:pt x="836" y="540"/>
                    </a:lnTo>
                    <a:lnTo>
                      <a:pt x="833" y="515"/>
                    </a:lnTo>
                    <a:lnTo>
                      <a:pt x="829" y="493"/>
                    </a:lnTo>
                    <a:lnTo>
                      <a:pt x="825" y="472"/>
                    </a:lnTo>
                    <a:lnTo>
                      <a:pt x="819" y="454"/>
                    </a:lnTo>
                    <a:lnTo>
                      <a:pt x="815" y="438"/>
                    </a:lnTo>
                    <a:lnTo>
                      <a:pt x="806" y="412"/>
                    </a:lnTo>
                    <a:lnTo>
                      <a:pt x="798" y="394"/>
                    </a:lnTo>
                    <a:lnTo>
                      <a:pt x="795" y="387"/>
                    </a:lnTo>
                    <a:lnTo>
                      <a:pt x="793" y="381"/>
                    </a:lnTo>
                    <a:lnTo>
                      <a:pt x="792" y="377"/>
                    </a:lnTo>
                    <a:lnTo>
                      <a:pt x="793" y="374"/>
                    </a:lnTo>
                    <a:lnTo>
                      <a:pt x="794" y="372"/>
                    </a:lnTo>
                    <a:lnTo>
                      <a:pt x="798" y="371"/>
                    </a:lnTo>
                    <a:lnTo>
                      <a:pt x="803" y="371"/>
                    </a:lnTo>
                    <a:lnTo>
                      <a:pt x="810" y="372"/>
                    </a:lnTo>
                    <a:lnTo>
                      <a:pt x="831" y="374"/>
                    </a:lnTo>
                    <a:lnTo>
                      <a:pt x="861" y="379"/>
                    </a:lnTo>
                    <a:lnTo>
                      <a:pt x="902" y="385"/>
                    </a:lnTo>
                    <a:lnTo>
                      <a:pt x="956" y="389"/>
                    </a:lnTo>
                    <a:lnTo>
                      <a:pt x="988" y="391"/>
                    </a:lnTo>
                    <a:lnTo>
                      <a:pt x="1023" y="393"/>
                    </a:lnTo>
                    <a:lnTo>
                      <a:pt x="1063" y="394"/>
                    </a:lnTo>
                    <a:lnTo>
                      <a:pt x="1106" y="395"/>
                    </a:lnTo>
                    <a:lnTo>
                      <a:pt x="1090" y="245"/>
                    </a:lnTo>
                    <a:lnTo>
                      <a:pt x="1046" y="235"/>
                    </a:lnTo>
                    <a:lnTo>
                      <a:pt x="1000" y="227"/>
                    </a:lnTo>
                    <a:lnTo>
                      <a:pt x="954" y="219"/>
                    </a:lnTo>
                    <a:lnTo>
                      <a:pt x="907" y="214"/>
                    </a:lnTo>
                    <a:lnTo>
                      <a:pt x="860" y="208"/>
                    </a:lnTo>
                    <a:lnTo>
                      <a:pt x="815" y="204"/>
                    </a:lnTo>
                    <a:lnTo>
                      <a:pt x="768" y="203"/>
                    </a:lnTo>
                    <a:lnTo>
                      <a:pt x="723" y="202"/>
                    </a:lnTo>
                    <a:lnTo>
                      <a:pt x="753" y="190"/>
                    </a:lnTo>
                    <a:lnTo>
                      <a:pt x="784" y="175"/>
                    </a:lnTo>
                    <a:lnTo>
                      <a:pt x="800" y="166"/>
                    </a:lnTo>
                    <a:lnTo>
                      <a:pt x="816" y="157"/>
                    </a:lnTo>
                    <a:lnTo>
                      <a:pt x="832" y="146"/>
                    </a:lnTo>
                    <a:lnTo>
                      <a:pt x="847" y="136"/>
                    </a:lnTo>
                    <a:lnTo>
                      <a:pt x="860" y="125"/>
                    </a:lnTo>
                    <a:lnTo>
                      <a:pt x="873" y="112"/>
                    </a:lnTo>
                    <a:lnTo>
                      <a:pt x="884" y="100"/>
                    </a:lnTo>
                    <a:lnTo>
                      <a:pt x="894" y="86"/>
                    </a:lnTo>
                    <a:lnTo>
                      <a:pt x="902" y="72"/>
                    </a:lnTo>
                    <a:lnTo>
                      <a:pt x="909" y="57"/>
                    </a:lnTo>
                    <a:lnTo>
                      <a:pt x="912" y="49"/>
                    </a:lnTo>
                    <a:lnTo>
                      <a:pt x="913" y="41"/>
                    </a:lnTo>
                    <a:lnTo>
                      <a:pt x="914" y="33"/>
                    </a:lnTo>
                    <a:lnTo>
                      <a:pt x="914" y="25"/>
                    </a:lnTo>
                    <a:lnTo>
                      <a:pt x="894" y="24"/>
                    </a:lnTo>
                    <a:lnTo>
                      <a:pt x="873" y="23"/>
                    </a:lnTo>
                    <a:lnTo>
                      <a:pt x="850" y="21"/>
                    </a:lnTo>
                    <a:lnTo>
                      <a:pt x="826" y="19"/>
                    </a:lnTo>
                    <a:lnTo>
                      <a:pt x="776" y="13"/>
                    </a:lnTo>
                    <a:lnTo>
                      <a:pt x="726" y="7"/>
                    </a:lnTo>
                    <a:lnTo>
                      <a:pt x="700" y="4"/>
                    </a:lnTo>
                    <a:lnTo>
                      <a:pt x="674" y="3"/>
                    </a:lnTo>
                    <a:lnTo>
                      <a:pt x="651" y="0"/>
                    </a:lnTo>
                    <a:lnTo>
                      <a:pt x="628" y="0"/>
                    </a:lnTo>
                    <a:lnTo>
                      <a:pt x="605" y="2"/>
                    </a:lnTo>
                    <a:lnTo>
                      <a:pt x="584" y="3"/>
                    </a:lnTo>
                    <a:lnTo>
                      <a:pt x="565" y="6"/>
                    </a:lnTo>
                    <a:lnTo>
                      <a:pt x="547" y="12"/>
                    </a:lnTo>
                    <a:lnTo>
                      <a:pt x="530" y="19"/>
                    </a:lnTo>
                    <a:lnTo>
                      <a:pt x="514" y="28"/>
                    </a:lnTo>
                    <a:lnTo>
                      <a:pt x="499" y="38"/>
                    </a:lnTo>
                    <a:lnTo>
                      <a:pt x="486" y="49"/>
                    </a:lnTo>
                    <a:lnTo>
                      <a:pt x="474" y="62"/>
                    </a:lnTo>
                    <a:lnTo>
                      <a:pt x="462" y="76"/>
                    </a:lnTo>
                    <a:lnTo>
                      <a:pt x="452" y="90"/>
                    </a:lnTo>
                    <a:lnTo>
                      <a:pt x="442" y="105"/>
                    </a:lnTo>
                    <a:lnTo>
                      <a:pt x="434" y="121"/>
                    </a:lnTo>
                    <a:lnTo>
                      <a:pt x="426" y="138"/>
                    </a:lnTo>
                    <a:lnTo>
                      <a:pt x="419" y="155"/>
                    </a:lnTo>
                    <a:lnTo>
                      <a:pt x="412" y="173"/>
                    </a:lnTo>
                    <a:lnTo>
                      <a:pt x="401" y="209"/>
                    </a:lnTo>
                    <a:lnTo>
                      <a:pt x="392" y="245"/>
                    </a:lnTo>
                    <a:lnTo>
                      <a:pt x="376" y="317"/>
                    </a:lnTo>
                    <a:lnTo>
                      <a:pt x="360" y="382"/>
                    </a:lnTo>
                    <a:lnTo>
                      <a:pt x="355" y="396"/>
                    </a:lnTo>
                    <a:lnTo>
                      <a:pt x="351" y="410"/>
                    </a:lnTo>
                    <a:lnTo>
                      <a:pt x="346" y="422"/>
                    </a:lnTo>
                    <a:lnTo>
                      <a:pt x="341" y="434"/>
                    </a:lnTo>
                    <a:lnTo>
                      <a:pt x="335" y="444"/>
                    </a:lnTo>
                    <a:lnTo>
                      <a:pt x="328" y="453"/>
                    </a:lnTo>
                    <a:lnTo>
                      <a:pt x="321" y="461"/>
                    </a:lnTo>
                    <a:lnTo>
                      <a:pt x="313" y="467"/>
                    </a:lnTo>
                    <a:lnTo>
                      <a:pt x="298" y="478"/>
                    </a:lnTo>
                    <a:lnTo>
                      <a:pt x="281" y="488"/>
                    </a:lnTo>
                    <a:lnTo>
                      <a:pt x="263" y="497"/>
                    </a:lnTo>
                    <a:lnTo>
                      <a:pt x="243" y="505"/>
                    </a:lnTo>
                    <a:lnTo>
                      <a:pt x="199" y="521"/>
                    </a:lnTo>
                    <a:lnTo>
                      <a:pt x="154" y="537"/>
                    </a:lnTo>
                    <a:lnTo>
                      <a:pt x="131" y="545"/>
                    </a:lnTo>
                    <a:lnTo>
                      <a:pt x="109" y="553"/>
                    </a:lnTo>
                    <a:lnTo>
                      <a:pt x="88" y="561"/>
                    </a:lnTo>
                    <a:lnTo>
                      <a:pt x="67" y="570"/>
                    </a:lnTo>
                    <a:lnTo>
                      <a:pt x="48" y="581"/>
                    </a:lnTo>
                    <a:lnTo>
                      <a:pt x="31" y="591"/>
                    </a:lnTo>
                    <a:lnTo>
                      <a:pt x="24" y="597"/>
                    </a:lnTo>
                    <a:lnTo>
                      <a:pt x="16" y="603"/>
                    </a:lnTo>
                    <a:lnTo>
                      <a:pt x="9" y="609"/>
                    </a:lnTo>
                    <a:lnTo>
                      <a:pt x="3" y="616"/>
                    </a:lnTo>
                    <a:lnTo>
                      <a:pt x="0" y="623"/>
                    </a:lnTo>
                    <a:lnTo>
                      <a:pt x="0" y="630"/>
                    </a:lnTo>
                    <a:lnTo>
                      <a:pt x="2" y="636"/>
                    </a:lnTo>
                    <a:lnTo>
                      <a:pt x="8" y="643"/>
                    </a:lnTo>
                    <a:lnTo>
                      <a:pt x="17" y="650"/>
                    </a:lnTo>
                    <a:lnTo>
                      <a:pt x="28" y="656"/>
                    </a:lnTo>
                    <a:lnTo>
                      <a:pt x="42" y="663"/>
                    </a:lnTo>
                    <a:lnTo>
                      <a:pt x="57" y="667"/>
                    </a:lnTo>
                    <a:lnTo>
                      <a:pt x="75" y="672"/>
                    </a:lnTo>
                    <a:lnTo>
                      <a:pt x="94" y="675"/>
                    </a:lnTo>
                    <a:lnTo>
                      <a:pt x="115" y="679"/>
                    </a:lnTo>
                    <a:lnTo>
                      <a:pt x="137" y="681"/>
                    </a:lnTo>
                    <a:lnTo>
                      <a:pt x="159" y="681"/>
                    </a:lnTo>
                    <a:lnTo>
                      <a:pt x="183" y="681"/>
                    </a:lnTo>
                    <a:lnTo>
                      <a:pt x="208" y="680"/>
                    </a:lnTo>
                    <a:lnTo>
                      <a:pt x="233" y="676"/>
                    </a:lnTo>
                    <a:lnTo>
                      <a:pt x="258" y="672"/>
                    </a:lnTo>
                    <a:lnTo>
                      <a:pt x="284" y="666"/>
                    </a:lnTo>
                    <a:lnTo>
                      <a:pt x="309" y="658"/>
                    </a:lnTo>
                    <a:lnTo>
                      <a:pt x="334" y="648"/>
                    </a:lnTo>
                    <a:lnTo>
                      <a:pt x="358" y="636"/>
                    </a:lnTo>
                    <a:lnTo>
                      <a:pt x="380" y="623"/>
                    </a:lnTo>
                    <a:lnTo>
                      <a:pt x="402" y="607"/>
                    </a:lnTo>
                    <a:lnTo>
                      <a:pt x="424" y="589"/>
                    </a:lnTo>
                    <a:lnTo>
                      <a:pt x="443" y="568"/>
                    </a:lnTo>
                    <a:lnTo>
                      <a:pt x="460" y="545"/>
                    </a:lnTo>
                    <a:lnTo>
                      <a:pt x="476" y="520"/>
                    </a:lnTo>
                    <a:lnTo>
                      <a:pt x="490" y="492"/>
                    </a:lnTo>
                    <a:lnTo>
                      <a:pt x="501" y="461"/>
                    </a:lnTo>
                    <a:lnTo>
                      <a:pt x="510" y="428"/>
                    </a:lnTo>
                    <a:lnTo>
                      <a:pt x="516" y="390"/>
                    </a:lnTo>
                    <a:lnTo>
                      <a:pt x="519" y="351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278320" y="4200840"/>
                <a:ext cx="109800" cy="93600"/>
              </a:xfrm>
              <a:custGeom>
                <a:avLst/>
                <a:gdLst/>
                <a:ahLst/>
                <a:rect l="l" t="t" r="r" b="b"/>
                <a:pathLst>
                  <a:path w="345" h="295">
                    <a:moveTo>
                      <a:pt x="321" y="284"/>
                    </a:moveTo>
                    <a:lnTo>
                      <a:pt x="333" y="271"/>
                    </a:lnTo>
                    <a:lnTo>
                      <a:pt x="321" y="271"/>
                    </a:lnTo>
                    <a:lnTo>
                      <a:pt x="310" y="270"/>
                    </a:lnTo>
                    <a:lnTo>
                      <a:pt x="298" y="268"/>
                    </a:lnTo>
                    <a:lnTo>
                      <a:pt x="286" y="265"/>
                    </a:lnTo>
                    <a:lnTo>
                      <a:pt x="274" y="261"/>
                    </a:lnTo>
                    <a:lnTo>
                      <a:pt x="261" y="257"/>
                    </a:lnTo>
                    <a:lnTo>
                      <a:pt x="249" y="251"/>
                    </a:lnTo>
                    <a:lnTo>
                      <a:pt x="236" y="245"/>
                    </a:lnTo>
                    <a:lnTo>
                      <a:pt x="211" y="231"/>
                    </a:lnTo>
                    <a:lnTo>
                      <a:pt x="187" y="216"/>
                    </a:lnTo>
                    <a:lnTo>
                      <a:pt x="163" y="197"/>
                    </a:lnTo>
                    <a:lnTo>
                      <a:pt x="141" y="178"/>
                    </a:lnTo>
                    <a:lnTo>
                      <a:pt x="120" y="157"/>
                    </a:lnTo>
                    <a:lnTo>
                      <a:pt x="99" y="135"/>
                    </a:lnTo>
                    <a:lnTo>
                      <a:pt x="81" y="112"/>
                    </a:lnTo>
                    <a:lnTo>
                      <a:pt x="65" y="89"/>
                    </a:lnTo>
                    <a:lnTo>
                      <a:pt x="50" y="66"/>
                    </a:lnTo>
                    <a:lnTo>
                      <a:pt x="39" y="43"/>
                    </a:lnTo>
                    <a:lnTo>
                      <a:pt x="33" y="32"/>
                    </a:lnTo>
                    <a:lnTo>
                      <a:pt x="30" y="22"/>
                    </a:lnTo>
                    <a:lnTo>
                      <a:pt x="26" y="10"/>
                    </a:lnTo>
                    <a:lnTo>
                      <a:pt x="23" y="0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7" y="54"/>
                    </a:lnTo>
                    <a:lnTo>
                      <a:pt x="30" y="78"/>
                    </a:lnTo>
                    <a:lnTo>
                      <a:pt x="45" y="103"/>
                    </a:lnTo>
                    <a:lnTo>
                      <a:pt x="62" y="127"/>
                    </a:lnTo>
                    <a:lnTo>
                      <a:pt x="81" y="151"/>
                    </a:lnTo>
                    <a:lnTo>
                      <a:pt x="102" y="173"/>
                    </a:lnTo>
                    <a:lnTo>
                      <a:pt x="124" y="196"/>
                    </a:lnTo>
                    <a:lnTo>
                      <a:pt x="148" y="217"/>
                    </a:lnTo>
                    <a:lnTo>
                      <a:pt x="173" y="235"/>
                    </a:lnTo>
                    <a:lnTo>
                      <a:pt x="198" y="252"/>
                    </a:lnTo>
                    <a:lnTo>
                      <a:pt x="225" y="267"/>
                    </a:lnTo>
                    <a:lnTo>
                      <a:pt x="238" y="274"/>
                    </a:lnTo>
                    <a:lnTo>
                      <a:pt x="252" y="279"/>
                    </a:lnTo>
                    <a:lnTo>
                      <a:pt x="266" y="284"/>
                    </a:lnTo>
                    <a:lnTo>
                      <a:pt x="279" y="288"/>
                    </a:lnTo>
                    <a:lnTo>
                      <a:pt x="293" y="291"/>
                    </a:lnTo>
                    <a:lnTo>
                      <a:pt x="307" y="294"/>
                    </a:lnTo>
                    <a:lnTo>
                      <a:pt x="320" y="295"/>
                    </a:lnTo>
                    <a:lnTo>
                      <a:pt x="333" y="295"/>
                    </a:lnTo>
                    <a:lnTo>
                      <a:pt x="345" y="284"/>
                    </a:lnTo>
                    <a:lnTo>
                      <a:pt x="333" y="295"/>
                    </a:lnTo>
                    <a:lnTo>
                      <a:pt x="339" y="294"/>
                    </a:lnTo>
                    <a:lnTo>
                      <a:pt x="342" y="292"/>
                    </a:lnTo>
                    <a:lnTo>
                      <a:pt x="344" y="288"/>
                    </a:lnTo>
                    <a:lnTo>
                      <a:pt x="345" y="284"/>
                    </a:lnTo>
                    <a:lnTo>
                      <a:pt x="344" y="279"/>
                    </a:lnTo>
                    <a:lnTo>
                      <a:pt x="342" y="275"/>
                    </a:lnTo>
                    <a:lnTo>
                      <a:pt x="339" y="273"/>
                    </a:lnTo>
                    <a:lnTo>
                      <a:pt x="333" y="271"/>
                    </a:lnTo>
                    <a:lnTo>
                      <a:pt x="321" y="2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364000" y="4204080"/>
                <a:ext cx="108000" cy="87120"/>
              </a:xfrm>
              <a:custGeom>
                <a:avLst/>
                <a:gdLst/>
                <a:ahLst/>
                <a:rect l="l" t="t" r="r" b="b"/>
                <a:pathLst>
                  <a:path w="339" h="273">
                    <a:moveTo>
                      <a:pt x="314" y="37"/>
                    </a:moveTo>
                    <a:lnTo>
                      <a:pt x="326" y="23"/>
                    </a:lnTo>
                    <a:lnTo>
                      <a:pt x="283" y="23"/>
                    </a:lnTo>
                    <a:lnTo>
                      <a:pt x="244" y="22"/>
                    </a:lnTo>
                    <a:lnTo>
                      <a:pt x="209" y="20"/>
                    </a:lnTo>
                    <a:lnTo>
                      <a:pt x="177" y="19"/>
                    </a:lnTo>
                    <a:lnTo>
                      <a:pt x="124" y="13"/>
                    </a:lnTo>
                    <a:lnTo>
                      <a:pt x="83" y="8"/>
                    </a:lnTo>
                    <a:lnTo>
                      <a:pt x="53" y="4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6" y="39"/>
                    </a:lnTo>
                    <a:lnTo>
                      <a:pt x="14" y="57"/>
                    </a:lnTo>
                    <a:lnTo>
                      <a:pt x="23" y="83"/>
                    </a:lnTo>
                    <a:lnTo>
                      <a:pt x="28" y="99"/>
                    </a:lnTo>
                    <a:lnTo>
                      <a:pt x="32" y="116"/>
                    </a:lnTo>
                    <a:lnTo>
                      <a:pt x="37" y="136"/>
                    </a:lnTo>
                    <a:lnTo>
                      <a:pt x="41" y="158"/>
                    </a:lnTo>
                    <a:lnTo>
                      <a:pt x="45" y="183"/>
                    </a:lnTo>
                    <a:lnTo>
                      <a:pt x="47" y="210"/>
                    </a:lnTo>
                    <a:lnTo>
                      <a:pt x="48" y="240"/>
                    </a:lnTo>
                    <a:lnTo>
                      <a:pt x="49" y="273"/>
                    </a:lnTo>
                    <a:lnTo>
                      <a:pt x="73" y="273"/>
                    </a:lnTo>
                    <a:lnTo>
                      <a:pt x="73" y="239"/>
                    </a:lnTo>
                    <a:lnTo>
                      <a:pt x="71" y="208"/>
                    </a:lnTo>
                    <a:lnTo>
                      <a:pt x="69" y="179"/>
                    </a:lnTo>
                    <a:lnTo>
                      <a:pt x="65" y="154"/>
                    </a:lnTo>
                    <a:lnTo>
                      <a:pt x="61" y="132"/>
                    </a:lnTo>
                    <a:lnTo>
                      <a:pt x="56" y="110"/>
                    </a:lnTo>
                    <a:lnTo>
                      <a:pt x="52" y="92"/>
                    </a:lnTo>
                    <a:lnTo>
                      <a:pt x="46" y="76"/>
                    </a:lnTo>
                    <a:lnTo>
                      <a:pt x="37" y="49"/>
                    </a:lnTo>
                    <a:lnTo>
                      <a:pt x="29" y="30"/>
                    </a:lnTo>
                    <a:lnTo>
                      <a:pt x="27" y="23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9" y="24"/>
                    </a:lnTo>
                    <a:lnTo>
                      <a:pt x="49" y="28"/>
                    </a:lnTo>
                    <a:lnTo>
                      <a:pt x="79" y="32"/>
                    </a:lnTo>
                    <a:lnTo>
                      <a:pt x="121" y="37"/>
                    </a:lnTo>
                    <a:lnTo>
                      <a:pt x="175" y="43"/>
                    </a:lnTo>
                    <a:lnTo>
                      <a:pt x="208" y="45"/>
                    </a:lnTo>
                    <a:lnTo>
                      <a:pt x="243" y="46"/>
                    </a:lnTo>
                    <a:lnTo>
                      <a:pt x="283" y="47"/>
                    </a:lnTo>
                    <a:lnTo>
                      <a:pt x="326" y="47"/>
                    </a:lnTo>
                    <a:lnTo>
                      <a:pt x="339" y="34"/>
                    </a:lnTo>
                    <a:lnTo>
                      <a:pt x="326" y="47"/>
                    </a:lnTo>
                    <a:lnTo>
                      <a:pt x="332" y="46"/>
                    </a:lnTo>
                    <a:lnTo>
                      <a:pt x="336" y="44"/>
                    </a:lnTo>
                    <a:lnTo>
                      <a:pt x="338" y="39"/>
                    </a:lnTo>
                    <a:lnTo>
                      <a:pt x="339" y="36"/>
                    </a:lnTo>
                    <a:lnTo>
                      <a:pt x="338" y="31"/>
                    </a:lnTo>
                    <a:lnTo>
                      <a:pt x="336" y="27"/>
                    </a:lnTo>
                    <a:lnTo>
                      <a:pt x="332" y="24"/>
                    </a:lnTo>
                    <a:lnTo>
                      <a:pt x="326" y="23"/>
                    </a:lnTo>
                    <a:lnTo>
                      <a:pt x="314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459400" y="416412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40" h="163">
                    <a:moveTo>
                      <a:pt x="15" y="1"/>
                    </a:moveTo>
                    <a:lnTo>
                      <a:pt x="0" y="14"/>
                    </a:lnTo>
                    <a:lnTo>
                      <a:pt x="15" y="163"/>
                    </a:lnTo>
                    <a:lnTo>
                      <a:pt x="40" y="160"/>
                    </a:lnTo>
                    <a:lnTo>
                      <a:pt x="24" y="11"/>
                    </a:lnTo>
                    <a:lnTo>
                      <a:pt x="15" y="1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2"/>
                    </a:lnTo>
                    <a:lnTo>
                      <a:pt x="15" y="1"/>
                    </a:lnTo>
                    <a:lnTo>
                      <a:pt x="10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342040" y="4150080"/>
                <a:ext cx="122040" cy="21960"/>
              </a:xfrm>
              <a:custGeom>
                <a:avLst/>
                <a:gdLst/>
                <a:ahLst/>
                <a:rect l="l" t="t" r="r" b="b"/>
                <a:pathLst>
                  <a:path w="382" h="67">
                    <a:moveTo>
                      <a:pt x="7" y="1"/>
                    </a:moveTo>
                    <a:lnTo>
                      <a:pt x="11" y="24"/>
                    </a:lnTo>
                    <a:lnTo>
                      <a:pt x="56" y="25"/>
                    </a:lnTo>
                    <a:lnTo>
                      <a:pt x="102" y="27"/>
                    </a:lnTo>
                    <a:lnTo>
                      <a:pt x="147" y="30"/>
                    </a:lnTo>
                    <a:lnTo>
                      <a:pt x="194" y="35"/>
                    </a:lnTo>
                    <a:lnTo>
                      <a:pt x="241" y="42"/>
                    </a:lnTo>
                    <a:lnTo>
                      <a:pt x="286" y="49"/>
                    </a:lnTo>
                    <a:lnTo>
                      <a:pt x="332" y="58"/>
                    </a:lnTo>
                    <a:lnTo>
                      <a:pt x="376" y="67"/>
                    </a:lnTo>
                    <a:lnTo>
                      <a:pt x="382" y="44"/>
                    </a:lnTo>
                    <a:lnTo>
                      <a:pt x="336" y="34"/>
                    </a:lnTo>
                    <a:lnTo>
                      <a:pt x="291" y="25"/>
                    </a:lnTo>
                    <a:lnTo>
                      <a:pt x="244" y="18"/>
                    </a:lnTo>
                    <a:lnTo>
                      <a:pt x="196" y="11"/>
                    </a:lnTo>
                    <a:lnTo>
                      <a:pt x="149" y="6"/>
                    </a:lnTo>
                    <a:lnTo>
                      <a:pt x="103" y="3"/>
                    </a:lnTo>
                    <a:lnTo>
                      <a:pt x="57" y="1"/>
                    </a:lnTo>
                    <a:lnTo>
                      <a:pt x="11" y="0"/>
                    </a:lnTo>
                    <a:lnTo>
                      <a:pt x="16" y="24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345280" y="4094280"/>
                <a:ext cx="64800" cy="63720"/>
              </a:xfrm>
              <a:custGeom>
                <a:avLst/>
                <a:gdLst/>
                <a:ahLst/>
                <a:rect l="l" t="t" r="r" b="b"/>
                <a:pathLst>
                  <a:path w="207" h="201">
                    <a:moveTo>
                      <a:pt x="195" y="25"/>
                    </a:moveTo>
                    <a:lnTo>
                      <a:pt x="183" y="12"/>
                    </a:lnTo>
                    <a:lnTo>
                      <a:pt x="182" y="19"/>
                    </a:lnTo>
                    <a:lnTo>
                      <a:pt x="182" y="26"/>
                    </a:lnTo>
                    <a:lnTo>
                      <a:pt x="180" y="33"/>
                    </a:lnTo>
                    <a:lnTo>
                      <a:pt x="179" y="40"/>
                    </a:lnTo>
                    <a:lnTo>
                      <a:pt x="173" y="53"/>
                    </a:lnTo>
                    <a:lnTo>
                      <a:pt x="165" y="66"/>
                    </a:lnTo>
                    <a:lnTo>
                      <a:pt x="156" y="79"/>
                    </a:lnTo>
                    <a:lnTo>
                      <a:pt x="146" y="91"/>
                    </a:lnTo>
                    <a:lnTo>
                      <a:pt x="133" y="103"/>
                    </a:lnTo>
                    <a:lnTo>
                      <a:pt x="120" y="113"/>
                    </a:lnTo>
                    <a:lnTo>
                      <a:pt x="106" y="123"/>
                    </a:lnTo>
                    <a:lnTo>
                      <a:pt x="91" y="133"/>
                    </a:lnTo>
                    <a:lnTo>
                      <a:pt x="75" y="142"/>
                    </a:lnTo>
                    <a:lnTo>
                      <a:pt x="59" y="150"/>
                    </a:lnTo>
                    <a:lnTo>
                      <a:pt x="28" y="165"/>
                    </a:lnTo>
                    <a:lnTo>
                      <a:pt x="0" y="178"/>
                    </a:lnTo>
                    <a:lnTo>
                      <a:pt x="9" y="201"/>
                    </a:lnTo>
                    <a:lnTo>
                      <a:pt x="39" y="188"/>
                    </a:lnTo>
                    <a:lnTo>
                      <a:pt x="71" y="172"/>
                    </a:lnTo>
                    <a:lnTo>
                      <a:pt x="87" y="163"/>
                    </a:lnTo>
                    <a:lnTo>
                      <a:pt x="104" y="154"/>
                    </a:lnTo>
                    <a:lnTo>
                      <a:pt x="120" y="144"/>
                    </a:lnTo>
                    <a:lnTo>
                      <a:pt x="134" y="132"/>
                    </a:lnTo>
                    <a:lnTo>
                      <a:pt x="149" y="121"/>
                    </a:lnTo>
                    <a:lnTo>
                      <a:pt x="163" y="108"/>
                    </a:lnTo>
                    <a:lnTo>
                      <a:pt x="175" y="95"/>
                    </a:lnTo>
                    <a:lnTo>
                      <a:pt x="186" y="80"/>
                    </a:lnTo>
                    <a:lnTo>
                      <a:pt x="195" y="64"/>
                    </a:lnTo>
                    <a:lnTo>
                      <a:pt x="202" y="48"/>
                    </a:lnTo>
                    <a:lnTo>
                      <a:pt x="204" y="40"/>
                    </a:lnTo>
                    <a:lnTo>
                      <a:pt x="206" y="31"/>
                    </a:lnTo>
                    <a:lnTo>
                      <a:pt x="207" y="22"/>
                    </a:lnTo>
                    <a:lnTo>
                      <a:pt x="207" y="12"/>
                    </a:lnTo>
                    <a:lnTo>
                      <a:pt x="195" y="0"/>
                    </a:lnTo>
                    <a:lnTo>
                      <a:pt x="207" y="12"/>
                    </a:lnTo>
                    <a:lnTo>
                      <a:pt x="206" y="7"/>
                    </a:lnTo>
                    <a:lnTo>
                      <a:pt x="204" y="3"/>
                    </a:lnTo>
                    <a:lnTo>
                      <a:pt x="199" y="1"/>
                    </a:lnTo>
                    <a:lnTo>
                      <a:pt x="195" y="0"/>
                    </a:lnTo>
                    <a:lnTo>
                      <a:pt x="190" y="1"/>
                    </a:lnTo>
                    <a:lnTo>
                      <a:pt x="187" y="3"/>
                    </a:lnTo>
                    <a:lnTo>
                      <a:pt x="185" y="7"/>
                    </a:lnTo>
                    <a:lnTo>
                      <a:pt x="183" y="12"/>
                    </a:lnTo>
                    <a:lnTo>
                      <a:pt x="195" y="2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88040" y="4086360"/>
                <a:ext cx="119160" cy="15840"/>
              </a:xfrm>
              <a:custGeom>
                <a:avLst/>
                <a:gdLst/>
                <a:ahLst/>
                <a:rect l="l" t="t" r="r" b="b"/>
                <a:pathLst>
                  <a:path w="372" h="50">
                    <a:moveTo>
                      <a:pt x="9" y="35"/>
                    </a:moveTo>
                    <a:lnTo>
                      <a:pt x="9" y="35"/>
                    </a:lnTo>
                    <a:lnTo>
                      <a:pt x="25" y="31"/>
                    </a:lnTo>
                    <a:lnTo>
                      <a:pt x="44" y="27"/>
                    </a:lnTo>
                    <a:lnTo>
                      <a:pt x="64" y="25"/>
                    </a:lnTo>
                    <a:lnTo>
                      <a:pt x="86" y="25"/>
                    </a:lnTo>
                    <a:lnTo>
                      <a:pt x="109" y="25"/>
                    </a:lnTo>
                    <a:lnTo>
                      <a:pt x="132" y="26"/>
                    </a:lnTo>
                    <a:lnTo>
                      <a:pt x="156" y="28"/>
                    </a:lnTo>
                    <a:lnTo>
                      <a:pt x="183" y="31"/>
                    </a:lnTo>
                    <a:lnTo>
                      <a:pt x="233" y="36"/>
                    </a:lnTo>
                    <a:lnTo>
                      <a:pt x="283" y="43"/>
                    </a:lnTo>
                    <a:lnTo>
                      <a:pt x="307" y="45"/>
                    </a:lnTo>
                    <a:lnTo>
                      <a:pt x="330" y="48"/>
                    </a:lnTo>
                    <a:lnTo>
                      <a:pt x="351" y="49"/>
                    </a:lnTo>
                    <a:lnTo>
                      <a:pt x="372" y="50"/>
                    </a:lnTo>
                    <a:lnTo>
                      <a:pt x="372" y="25"/>
                    </a:lnTo>
                    <a:lnTo>
                      <a:pt x="352" y="25"/>
                    </a:lnTo>
                    <a:lnTo>
                      <a:pt x="332" y="24"/>
                    </a:lnTo>
                    <a:lnTo>
                      <a:pt x="309" y="21"/>
                    </a:lnTo>
                    <a:lnTo>
                      <a:pt x="285" y="19"/>
                    </a:lnTo>
                    <a:lnTo>
                      <a:pt x="236" y="12"/>
                    </a:lnTo>
                    <a:lnTo>
                      <a:pt x="185" y="7"/>
                    </a:lnTo>
                    <a:lnTo>
                      <a:pt x="159" y="4"/>
                    </a:lnTo>
                    <a:lnTo>
                      <a:pt x="134" y="2"/>
                    </a:lnTo>
                    <a:lnTo>
                      <a:pt x="110" y="1"/>
                    </a:lnTo>
                    <a:lnTo>
                      <a:pt x="86" y="0"/>
                    </a:lnTo>
                    <a:lnTo>
                      <a:pt x="62" y="1"/>
                    </a:lnTo>
                    <a:lnTo>
                      <a:pt x="40" y="3"/>
                    </a:lnTo>
                    <a:lnTo>
                      <a:pt x="20" y="7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9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13520" y="4089600"/>
                <a:ext cx="77760" cy="152640"/>
              </a:xfrm>
              <a:custGeom>
                <a:avLst/>
                <a:gdLst/>
                <a:ahLst/>
                <a:rect l="l" t="t" r="r" b="b"/>
                <a:pathLst>
                  <a:path w="246" h="477">
                    <a:moveTo>
                      <a:pt x="16" y="476"/>
                    </a:moveTo>
                    <a:lnTo>
                      <a:pt x="15" y="477"/>
                    </a:lnTo>
                    <a:lnTo>
                      <a:pt x="24" y="470"/>
                    </a:lnTo>
                    <a:lnTo>
                      <a:pt x="32" y="461"/>
                    </a:lnTo>
                    <a:lnTo>
                      <a:pt x="40" y="451"/>
                    </a:lnTo>
                    <a:lnTo>
                      <a:pt x="47" y="439"/>
                    </a:lnTo>
                    <a:lnTo>
                      <a:pt x="53" y="428"/>
                    </a:lnTo>
                    <a:lnTo>
                      <a:pt x="57" y="414"/>
                    </a:lnTo>
                    <a:lnTo>
                      <a:pt x="63" y="401"/>
                    </a:lnTo>
                    <a:lnTo>
                      <a:pt x="67" y="385"/>
                    </a:lnTo>
                    <a:lnTo>
                      <a:pt x="82" y="320"/>
                    </a:lnTo>
                    <a:lnTo>
                      <a:pt x="98" y="248"/>
                    </a:lnTo>
                    <a:lnTo>
                      <a:pt x="108" y="211"/>
                    </a:lnTo>
                    <a:lnTo>
                      <a:pt x="119" y="176"/>
                    </a:lnTo>
                    <a:lnTo>
                      <a:pt x="126" y="159"/>
                    </a:lnTo>
                    <a:lnTo>
                      <a:pt x="132" y="143"/>
                    </a:lnTo>
                    <a:lnTo>
                      <a:pt x="139" y="127"/>
                    </a:lnTo>
                    <a:lnTo>
                      <a:pt x="148" y="111"/>
                    </a:lnTo>
                    <a:lnTo>
                      <a:pt x="157" y="97"/>
                    </a:lnTo>
                    <a:lnTo>
                      <a:pt x="167" y="82"/>
                    </a:lnTo>
                    <a:lnTo>
                      <a:pt x="178" y="70"/>
                    </a:lnTo>
                    <a:lnTo>
                      <a:pt x="189" y="59"/>
                    </a:lnTo>
                    <a:lnTo>
                      <a:pt x="202" y="48"/>
                    </a:lnTo>
                    <a:lnTo>
                      <a:pt x="216" y="38"/>
                    </a:lnTo>
                    <a:lnTo>
                      <a:pt x="230" y="30"/>
                    </a:lnTo>
                    <a:lnTo>
                      <a:pt x="246" y="23"/>
                    </a:lnTo>
                    <a:lnTo>
                      <a:pt x="237" y="0"/>
                    </a:lnTo>
                    <a:lnTo>
                      <a:pt x="219" y="8"/>
                    </a:lnTo>
                    <a:lnTo>
                      <a:pt x="203" y="17"/>
                    </a:lnTo>
                    <a:lnTo>
                      <a:pt x="187" y="29"/>
                    </a:lnTo>
                    <a:lnTo>
                      <a:pt x="172" y="40"/>
                    </a:lnTo>
                    <a:lnTo>
                      <a:pt x="160" y="54"/>
                    </a:lnTo>
                    <a:lnTo>
                      <a:pt x="147" y="69"/>
                    </a:lnTo>
                    <a:lnTo>
                      <a:pt x="137" y="84"/>
                    </a:lnTo>
                    <a:lnTo>
                      <a:pt x="127" y="100"/>
                    </a:lnTo>
                    <a:lnTo>
                      <a:pt x="118" y="116"/>
                    </a:lnTo>
                    <a:lnTo>
                      <a:pt x="110" y="133"/>
                    </a:lnTo>
                    <a:lnTo>
                      <a:pt x="103" y="151"/>
                    </a:lnTo>
                    <a:lnTo>
                      <a:pt x="96" y="169"/>
                    </a:lnTo>
                    <a:lnTo>
                      <a:pt x="85" y="206"/>
                    </a:lnTo>
                    <a:lnTo>
                      <a:pt x="75" y="242"/>
                    </a:lnTo>
                    <a:lnTo>
                      <a:pt x="59" y="314"/>
                    </a:lnTo>
                    <a:lnTo>
                      <a:pt x="44" y="379"/>
                    </a:lnTo>
                    <a:lnTo>
                      <a:pt x="39" y="393"/>
                    </a:lnTo>
                    <a:lnTo>
                      <a:pt x="34" y="406"/>
                    </a:lnTo>
                    <a:lnTo>
                      <a:pt x="30" y="418"/>
                    </a:lnTo>
                    <a:lnTo>
                      <a:pt x="25" y="428"/>
                    </a:lnTo>
                    <a:lnTo>
                      <a:pt x="20" y="438"/>
                    </a:lnTo>
                    <a:lnTo>
                      <a:pt x="14" y="446"/>
                    </a:lnTo>
                    <a:lnTo>
                      <a:pt x="8" y="452"/>
                    </a:lnTo>
                    <a:lnTo>
                      <a:pt x="1" y="456"/>
                    </a:lnTo>
                    <a:lnTo>
                      <a:pt x="0" y="458"/>
                    </a:lnTo>
                    <a:lnTo>
                      <a:pt x="16" y="47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14880" y="4235760"/>
                <a:ext cx="103320" cy="52200"/>
              </a:xfrm>
              <a:custGeom>
                <a:avLst/>
                <a:gdLst/>
                <a:ahLst/>
                <a:rect l="l" t="t" r="r" b="b"/>
                <a:pathLst>
                  <a:path w="327" h="166">
                    <a:moveTo>
                      <a:pt x="18" y="166"/>
                    </a:moveTo>
                    <a:lnTo>
                      <a:pt x="18" y="166"/>
                    </a:lnTo>
                    <a:lnTo>
                      <a:pt x="24" y="160"/>
                    </a:lnTo>
                    <a:lnTo>
                      <a:pt x="30" y="155"/>
                    </a:lnTo>
                    <a:lnTo>
                      <a:pt x="37" y="149"/>
                    </a:lnTo>
                    <a:lnTo>
                      <a:pt x="43" y="143"/>
                    </a:lnTo>
                    <a:lnTo>
                      <a:pt x="60" y="133"/>
                    </a:lnTo>
                    <a:lnTo>
                      <a:pt x="79" y="124"/>
                    </a:lnTo>
                    <a:lnTo>
                      <a:pt x="98" y="115"/>
                    </a:lnTo>
                    <a:lnTo>
                      <a:pt x="119" y="107"/>
                    </a:lnTo>
                    <a:lnTo>
                      <a:pt x="141" y="99"/>
                    </a:lnTo>
                    <a:lnTo>
                      <a:pt x="163" y="91"/>
                    </a:lnTo>
                    <a:lnTo>
                      <a:pt x="209" y="75"/>
                    </a:lnTo>
                    <a:lnTo>
                      <a:pt x="253" y="59"/>
                    </a:lnTo>
                    <a:lnTo>
                      <a:pt x="274" y="50"/>
                    </a:lnTo>
                    <a:lnTo>
                      <a:pt x="293" y="41"/>
                    </a:lnTo>
                    <a:lnTo>
                      <a:pt x="311" y="30"/>
                    </a:lnTo>
                    <a:lnTo>
                      <a:pt x="327" y="18"/>
                    </a:lnTo>
                    <a:lnTo>
                      <a:pt x="311" y="0"/>
                    </a:lnTo>
                    <a:lnTo>
                      <a:pt x="298" y="10"/>
                    </a:lnTo>
                    <a:lnTo>
                      <a:pt x="282" y="19"/>
                    </a:lnTo>
                    <a:lnTo>
                      <a:pt x="263" y="28"/>
                    </a:lnTo>
                    <a:lnTo>
                      <a:pt x="244" y="36"/>
                    </a:lnTo>
                    <a:lnTo>
                      <a:pt x="201" y="52"/>
                    </a:lnTo>
                    <a:lnTo>
                      <a:pt x="156" y="68"/>
                    </a:lnTo>
                    <a:lnTo>
                      <a:pt x="133" y="76"/>
                    </a:lnTo>
                    <a:lnTo>
                      <a:pt x="111" y="84"/>
                    </a:lnTo>
                    <a:lnTo>
                      <a:pt x="89" y="92"/>
                    </a:lnTo>
                    <a:lnTo>
                      <a:pt x="67" y="102"/>
                    </a:lnTo>
                    <a:lnTo>
                      <a:pt x="48" y="112"/>
                    </a:lnTo>
                    <a:lnTo>
                      <a:pt x="31" y="123"/>
                    </a:lnTo>
                    <a:lnTo>
                      <a:pt x="22" y="129"/>
                    </a:lnTo>
                    <a:lnTo>
                      <a:pt x="14" y="136"/>
                    </a:lnTo>
                    <a:lnTo>
                      <a:pt x="7" y="143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8" y="1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11640" y="4197600"/>
                <a:ext cx="173160" cy="112680"/>
              </a:xfrm>
              <a:custGeom>
                <a:avLst/>
                <a:gdLst/>
                <a:ahLst/>
                <a:rect l="l" t="t" r="r" b="b"/>
                <a:pathLst>
                  <a:path w="544" h="354">
                    <a:moveTo>
                      <a:pt x="544" y="9"/>
                    </a:moveTo>
                    <a:lnTo>
                      <a:pt x="520" y="11"/>
                    </a:lnTo>
                    <a:lnTo>
                      <a:pt x="519" y="32"/>
                    </a:lnTo>
                    <a:lnTo>
                      <a:pt x="517" y="50"/>
                    </a:lnTo>
                    <a:lnTo>
                      <a:pt x="514" y="68"/>
                    </a:lnTo>
                    <a:lnTo>
                      <a:pt x="511" y="87"/>
                    </a:lnTo>
                    <a:lnTo>
                      <a:pt x="507" y="103"/>
                    </a:lnTo>
                    <a:lnTo>
                      <a:pt x="503" y="119"/>
                    </a:lnTo>
                    <a:lnTo>
                      <a:pt x="497" y="134"/>
                    </a:lnTo>
                    <a:lnTo>
                      <a:pt x="491" y="148"/>
                    </a:lnTo>
                    <a:lnTo>
                      <a:pt x="486" y="162"/>
                    </a:lnTo>
                    <a:lnTo>
                      <a:pt x="479" y="176"/>
                    </a:lnTo>
                    <a:lnTo>
                      <a:pt x="471" y="188"/>
                    </a:lnTo>
                    <a:lnTo>
                      <a:pt x="463" y="199"/>
                    </a:lnTo>
                    <a:lnTo>
                      <a:pt x="455" y="211"/>
                    </a:lnTo>
                    <a:lnTo>
                      <a:pt x="447" y="222"/>
                    </a:lnTo>
                    <a:lnTo>
                      <a:pt x="438" y="231"/>
                    </a:lnTo>
                    <a:lnTo>
                      <a:pt x="428" y="242"/>
                    </a:lnTo>
                    <a:lnTo>
                      <a:pt x="419" y="250"/>
                    </a:lnTo>
                    <a:lnTo>
                      <a:pt x="408" y="259"/>
                    </a:lnTo>
                    <a:lnTo>
                      <a:pt x="398" y="267"/>
                    </a:lnTo>
                    <a:lnTo>
                      <a:pt x="387" y="274"/>
                    </a:lnTo>
                    <a:lnTo>
                      <a:pt x="365" y="287"/>
                    </a:lnTo>
                    <a:lnTo>
                      <a:pt x="341" y="299"/>
                    </a:lnTo>
                    <a:lnTo>
                      <a:pt x="318" y="308"/>
                    </a:lnTo>
                    <a:lnTo>
                      <a:pt x="293" y="315"/>
                    </a:lnTo>
                    <a:lnTo>
                      <a:pt x="269" y="321"/>
                    </a:lnTo>
                    <a:lnTo>
                      <a:pt x="244" y="326"/>
                    </a:lnTo>
                    <a:lnTo>
                      <a:pt x="220" y="328"/>
                    </a:lnTo>
                    <a:lnTo>
                      <a:pt x="196" y="331"/>
                    </a:lnTo>
                    <a:lnTo>
                      <a:pt x="173" y="331"/>
                    </a:lnTo>
                    <a:lnTo>
                      <a:pt x="151" y="329"/>
                    </a:lnTo>
                    <a:lnTo>
                      <a:pt x="129" y="327"/>
                    </a:lnTo>
                    <a:lnTo>
                      <a:pt x="110" y="325"/>
                    </a:lnTo>
                    <a:lnTo>
                      <a:pt x="90" y="321"/>
                    </a:lnTo>
                    <a:lnTo>
                      <a:pt x="73" y="317"/>
                    </a:lnTo>
                    <a:lnTo>
                      <a:pt x="58" y="312"/>
                    </a:lnTo>
                    <a:lnTo>
                      <a:pt x="46" y="307"/>
                    </a:lnTo>
                    <a:lnTo>
                      <a:pt x="37" y="301"/>
                    </a:lnTo>
                    <a:lnTo>
                      <a:pt x="29" y="295"/>
                    </a:lnTo>
                    <a:lnTo>
                      <a:pt x="28" y="293"/>
                    </a:lnTo>
                    <a:lnTo>
                      <a:pt x="25" y="292"/>
                    </a:lnTo>
                    <a:lnTo>
                      <a:pt x="24" y="290"/>
                    </a:lnTo>
                    <a:lnTo>
                      <a:pt x="24" y="288"/>
                    </a:lnTo>
                    <a:lnTo>
                      <a:pt x="24" y="287"/>
                    </a:lnTo>
                    <a:lnTo>
                      <a:pt x="24" y="287"/>
                    </a:lnTo>
                    <a:lnTo>
                      <a:pt x="24" y="286"/>
                    </a:lnTo>
                    <a:lnTo>
                      <a:pt x="25" y="285"/>
                    </a:lnTo>
                    <a:lnTo>
                      <a:pt x="7" y="269"/>
                    </a:lnTo>
                    <a:lnTo>
                      <a:pt x="4" y="275"/>
                    </a:lnTo>
                    <a:lnTo>
                      <a:pt x="1" y="280"/>
                    </a:lnTo>
                    <a:lnTo>
                      <a:pt x="0" y="287"/>
                    </a:lnTo>
                    <a:lnTo>
                      <a:pt x="0" y="293"/>
                    </a:lnTo>
                    <a:lnTo>
                      <a:pt x="3" y="299"/>
                    </a:lnTo>
                    <a:lnTo>
                      <a:pt x="5" y="304"/>
                    </a:lnTo>
                    <a:lnTo>
                      <a:pt x="9" y="309"/>
                    </a:lnTo>
                    <a:lnTo>
                      <a:pt x="14" y="313"/>
                    </a:lnTo>
                    <a:lnTo>
                      <a:pt x="23" y="321"/>
                    </a:lnTo>
                    <a:lnTo>
                      <a:pt x="36" y="328"/>
                    </a:lnTo>
                    <a:lnTo>
                      <a:pt x="50" y="334"/>
                    </a:lnTo>
                    <a:lnTo>
                      <a:pt x="66" y="340"/>
                    </a:lnTo>
                    <a:lnTo>
                      <a:pt x="86" y="344"/>
                    </a:lnTo>
                    <a:lnTo>
                      <a:pt x="105" y="349"/>
                    </a:lnTo>
                    <a:lnTo>
                      <a:pt x="127" y="352"/>
                    </a:lnTo>
                    <a:lnTo>
                      <a:pt x="150" y="353"/>
                    </a:lnTo>
                    <a:lnTo>
                      <a:pt x="172" y="354"/>
                    </a:lnTo>
                    <a:lnTo>
                      <a:pt x="197" y="354"/>
                    </a:lnTo>
                    <a:lnTo>
                      <a:pt x="222" y="352"/>
                    </a:lnTo>
                    <a:lnTo>
                      <a:pt x="249" y="350"/>
                    </a:lnTo>
                    <a:lnTo>
                      <a:pt x="274" y="344"/>
                    </a:lnTo>
                    <a:lnTo>
                      <a:pt x="300" y="339"/>
                    </a:lnTo>
                    <a:lnTo>
                      <a:pt x="326" y="331"/>
                    </a:lnTo>
                    <a:lnTo>
                      <a:pt x="351" y="320"/>
                    </a:lnTo>
                    <a:lnTo>
                      <a:pt x="376" y="308"/>
                    </a:lnTo>
                    <a:lnTo>
                      <a:pt x="400" y="294"/>
                    </a:lnTo>
                    <a:lnTo>
                      <a:pt x="412" y="286"/>
                    </a:lnTo>
                    <a:lnTo>
                      <a:pt x="423" y="278"/>
                    </a:lnTo>
                    <a:lnTo>
                      <a:pt x="434" y="269"/>
                    </a:lnTo>
                    <a:lnTo>
                      <a:pt x="445" y="259"/>
                    </a:lnTo>
                    <a:lnTo>
                      <a:pt x="455" y="248"/>
                    </a:lnTo>
                    <a:lnTo>
                      <a:pt x="465" y="237"/>
                    </a:lnTo>
                    <a:lnTo>
                      <a:pt x="474" y="226"/>
                    </a:lnTo>
                    <a:lnTo>
                      <a:pt x="483" y="213"/>
                    </a:lnTo>
                    <a:lnTo>
                      <a:pt x="491" y="201"/>
                    </a:lnTo>
                    <a:lnTo>
                      <a:pt x="499" y="187"/>
                    </a:lnTo>
                    <a:lnTo>
                      <a:pt x="507" y="173"/>
                    </a:lnTo>
                    <a:lnTo>
                      <a:pt x="514" y="158"/>
                    </a:lnTo>
                    <a:lnTo>
                      <a:pt x="520" y="142"/>
                    </a:lnTo>
                    <a:lnTo>
                      <a:pt x="526" y="125"/>
                    </a:lnTo>
                    <a:lnTo>
                      <a:pt x="530" y="109"/>
                    </a:lnTo>
                    <a:lnTo>
                      <a:pt x="535" y="91"/>
                    </a:lnTo>
                    <a:lnTo>
                      <a:pt x="538" y="73"/>
                    </a:lnTo>
                    <a:lnTo>
                      <a:pt x="542" y="54"/>
                    </a:lnTo>
                    <a:lnTo>
                      <a:pt x="543" y="33"/>
                    </a:lnTo>
                    <a:lnTo>
                      <a:pt x="544" y="12"/>
                    </a:lnTo>
                    <a:lnTo>
                      <a:pt x="521" y="15"/>
                    </a:lnTo>
                    <a:lnTo>
                      <a:pt x="544" y="12"/>
                    </a:lnTo>
                    <a:lnTo>
                      <a:pt x="544" y="7"/>
                    </a:lnTo>
                    <a:lnTo>
                      <a:pt x="540" y="3"/>
                    </a:lnTo>
                    <a:lnTo>
                      <a:pt x="537" y="1"/>
                    </a:lnTo>
                    <a:lnTo>
                      <a:pt x="532" y="0"/>
                    </a:lnTo>
                    <a:lnTo>
                      <a:pt x="528" y="0"/>
                    </a:lnTo>
                    <a:lnTo>
                      <a:pt x="524" y="2"/>
                    </a:lnTo>
                    <a:lnTo>
                      <a:pt x="521" y="7"/>
                    </a:lnTo>
                    <a:lnTo>
                      <a:pt x="520" y="11"/>
                    </a:lnTo>
                    <a:lnTo>
                      <a:pt x="544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56280" y="3905640"/>
                <a:ext cx="201600" cy="223560"/>
              </a:xfrm>
              <a:custGeom>
                <a:avLst/>
                <a:gdLst/>
                <a:ahLst/>
                <a:rect l="l" t="t" r="r" b="b"/>
                <a:pathLst>
                  <a:path w="639" h="707">
                    <a:moveTo>
                      <a:pt x="491" y="516"/>
                    </a:moveTo>
                    <a:lnTo>
                      <a:pt x="457" y="530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09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6"/>
                    </a:lnTo>
                    <a:lnTo>
                      <a:pt x="172" y="679"/>
                    </a:lnTo>
                    <a:lnTo>
                      <a:pt x="142" y="688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0"/>
                    </a:lnTo>
                    <a:lnTo>
                      <a:pt x="78" y="703"/>
                    </a:lnTo>
                    <a:lnTo>
                      <a:pt x="61" y="705"/>
                    </a:lnTo>
                    <a:lnTo>
                      <a:pt x="44" y="706"/>
                    </a:lnTo>
                    <a:lnTo>
                      <a:pt x="26" y="707"/>
                    </a:lnTo>
                    <a:lnTo>
                      <a:pt x="7" y="707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8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3"/>
                    </a:lnTo>
                    <a:lnTo>
                      <a:pt x="33" y="582"/>
                    </a:lnTo>
                    <a:lnTo>
                      <a:pt x="43" y="572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6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4"/>
                    </a:lnTo>
                    <a:lnTo>
                      <a:pt x="230" y="482"/>
                    </a:lnTo>
                    <a:lnTo>
                      <a:pt x="265" y="470"/>
                    </a:lnTo>
                    <a:lnTo>
                      <a:pt x="300" y="457"/>
                    </a:lnTo>
                    <a:lnTo>
                      <a:pt x="333" y="444"/>
                    </a:lnTo>
                    <a:lnTo>
                      <a:pt x="347" y="436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6"/>
                    </a:lnTo>
                    <a:lnTo>
                      <a:pt x="228" y="335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4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7"/>
                    </a:lnTo>
                    <a:lnTo>
                      <a:pt x="324" y="180"/>
                    </a:lnTo>
                    <a:lnTo>
                      <a:pt x="352" y="202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7"/>
                    </a:lnTo>
                    <a:lnTo>
                      <a:pt x="445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2"/>
                    </a:lnTo>
                    <a:lnTo>
                      <a:pt x="475" y="330"/>
                    </a:lnTo>
                    <a:lnTo>
                      <a:pt x="477" y="337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4"/>
                    </a:lnTo>
                    <a:lnTo>
                      <a:pt x="505" y="192"/>
                    </a:lnTo>
                    <a:lnTo>
                      <a:pt x="514" y="172"/>
                    </a:lnTo>
                    <a:lnTo>
                      <a:pt x="523" y="151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3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53040" y="4065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6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2"/>
                    </a:lnTo>
                    <a:lnTo>
                      <a:pt x="87" y="209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6" y="199"/>
                    </a:lnTo>
                    <a:lnTo>
                      <a:pt x="152" y="195"/>
                    </a:lnTo>
                    <a:lnTo>
                      <a:pt x="183" y="184"/>
                    </a:lnTo>
                    <a:lnTo>
                      <a:pt x="211" y="173"/>
                    </a:lnTo>
                    <a:lnTo>
                      <a:pt x="239" y="160"/>
                    </a:lnTo>
                    <a:lnTo>
                      <a:pt x="267" y="145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1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29"/>
                    </a:lnTo>
                    <a:lnTo>
                      <a:pt x="394" y="45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4"/>
                    </a:lnTo>
                    <a:lnTo>
                      <a:pt x="228" y="138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5"/>
                    </a:lnTo>
                    <a:lnTo>
                      <a:pt x="66" y="188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199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2"/>
                    </a:lnTo>
                    <a:lnTo>
                      <a:pt x="1" y="207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51600" y="4032360"/>
                <a:ext cx="131760" cy="98640"/>
              </a:xfrm>
              <a:custGeom>
                <a:avLst/>
                <a:gdLst/>
                <a:ahLst/>
                <a:rect l="l" t="t" r="r" b="b"/>
                <a:pathLst>
                  <a:path w="414" h="309">
                    <a:moveTo>
                      <a:pt x="403" y="24"/>
                    </a:moveTo>
                    <a:lnTo>
                      <a:pt x="396" y="1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3"/>
                    </a:lnTo>
                    <a:lnTo>
                      <a:pt x="274" y="57"/>
                    </a:lnTo>
                    <a:lnTo>
                      <a:pt x="239" y="68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8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2"/>
                    </a:lnTo>
                    <a:lnTo>
                      <a:pt x="73" y="141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4"/>
                    </a:lnTo>
                    <a:lnTo>
                      <a:pt x="19" y="196"/>
                    </a:lnTo>
                    <a:lnTo>
                      <a:pt x="12" y="210"/>
                    </a:lnTo>
                    <a:lnTo>
                      <a:pt x="6" y="225"/>
                    </a:lnTo>
                    <a:lnTo>
                      <a:pt x="3" y="239"/>
                    </a:lnTo>
                    <a:lnTo>
                      <a:pt x="0" y="256"/>
                    </a:lnTo>
                    <a:lnTo>
                      <a:pt x="1" y="272"/>
                    </a:lnTo>
                    <a:lnTo>
                      <a:pt x="4" y="291"/>
                    </a:lnTo>
                    <a:lnTo>
                      <a:pt x="8" y="309"/>
                    </a:lnTo>
                    <a:lnTo>
                      <a:pt x="31" y="302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6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09"/>
                    </a:lnTo>
                    <a:lnTo>
                      <a:pt x="46" y="198"/>
                    </a:lnTo>
                    <a:lnTo>
                      <a:pt x="55" y="189"/>
                    </a:lnTo>
                    <a:lnTo>
                      <a:pt x="64" y="179"/>
                    </a:lnTo>
                    <a:lnTo>
                      <a:pt x="76" y="170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1" y="104"/>
                    </a:lnTo>
                    <a:lnTo>
                      <a:pt x="246" y="91"/>
                    </a:lnTo>
                    <a:lnTo>
                      <a:pt x="283" y="79"/>
                    </a:lnTo>
                    <a:lnTo>
                      <a:pt x="317" y="66"/>
                    </a:lnTo>
                    <a:lnTo>
                      <a:pt x="350" y="52"/>
                    </a:lnTo>
                    <a:lnTo>
                      <a:pt x="366" y="46"/>
                    </a:lnTo>
                    <a:lnTo>
                      <a:pt x="381" y="38"/>
                    </a:lnTo>
                    <a:lnTo>
                      <a:pt x="396" y="30"/>
                    </a:lnTo>
                    <a:lnTo>
                      <a:pt x="409" y="22"/>
                    </a:lnTo>
                    <a:lnTo>
                      <a:pt x="403" y="0"/>
                    </a:lnTo>
                    <a:lnTo>
                      <a:pt x="409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5"/>
                    </a:lnTo>
                    <a:lnTo>
                      <a:pt x="409" y="1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1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91200" y="3915000"/>
                <a:ext cx="88920" cy="12528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1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0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7"/>
                    </a:lnTo>
                    <a:lnTo>
                      <a:pt x="106" y="310"/>
                    </a:lnTo>
                    <a:lnTo>
                      <a:pt x="117" y="322"/>
                    </a:lnTo>
                    <a:lnTo>
                      <a:pt x="128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6" y="387"/>
                    </a:lnTo>
                    <a:lnTo>
                      <a:pt x="242" y="389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6"/>
                    </a:lnTo>
                    <a:lnTo>
                      <a:pt x="232" y="363"/>
                    </a:lnTo>
                    <a:lnTo>
                      <a:pt x="219" y="359"/>
                    </a:lnTo>
                    <a:lnTo>
                      <a:pt x="205" y="354"/>
                    </a:lnTo>
                    <a:lnTo>
                      <a:pt x="192" y="348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5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4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7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6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38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92640" y="3915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372" h="316">
                    <a:moveTo>
                      <a:pt x="348" y="303"/>
                    </a:moveTo>
                    <a:lnTo>
                      <a:pt x="372" y="301"/>
                    </a:lnTo>
                    <a:lnTo>
                      <a:pt x="369" y="292"/>
                    </a:lnTo>
                    <a:lnTo>
                      <a:pt x="365" y="282"/>
                    </a:lnTo>
                    <a:lnTo>
                      <a:pt x="359" y="273"/>
                    </a:lnTo>
                    <a:lnTo>
                      <a:pt x="353" y="264"/>
                    </a:lnTo>
                    <a:lnTo>
                      <a:pt x="337" y="245"/>
                    </a:lnTo>
                    <a:lnTo>
                      <a:pt x="317" y="224"/>
                    </a:lnTo>
                    <a:lnTo>
                      <a:pt x="294" y="203"/>
                    </a:lnTo>
                    <a:lnTo>
                      <a:pt x="268" y="181"/>
                    </a:lnTo>
                    <a:lnTo>
                      <a:pt x="241" y="158"/>
                    </a:lnTo>
                    <a:lnTo>
                      <a:pt x="212" y="137"/>
                    </a:lnTo>
                    <a:lnTo>
                      <a:pt x="154" y="93"/>
                    </a:lnTo>
                    <a:lnTo>
                      <a:pt x="97" y="54"/>
                    </a:lnTo>
                    <a:lnTo>
                      <a:pt x="48" y="23"/>
                    </a:lnTo>
                    <a:lnTo>
                      <a:pt x="13" y="0"/>
                    </a:lnTo>
                    <a:lnTo>
                      <a:pt x="0" y="21"/>
                    </a:lnTo>
                    <a:lnTo>
                      <a:pt x="36" y="43"/>
                    </a:lnTo>
                    <a:lnTo>
                      <a:pt x="84" y="75"/>
                    </a:lnTo>
                    <a:lnTo>
                      <a:pt x="139" y="113"/>
                    </a:lnTo>
                    <a:lnTo>
                      <a:pt x="198" y="156"/>
                    </a:lnTo>
                    <a:lnTo>
                      <a:pt x="226" y="178"/>
                    </a:lnTo>
                    <a:lnTo>
                      <a:pt x="253" y="199"/>
                    </a:lnTo>
                    <a:lnTo>
                      <a:pt x="277" y="221"/>
                    </a:lnTo>
                    <a:lnTo>
                      <a:pt x="300" y="241"/>
                    </a:lnTo>
                    <a:lnTo>
                      <a:pt x="318" y="261"/>
                    </a:lnTo>
                    <a:lnTo>
                      <a:pt x="333" y="279"/>
                    </a:lnTo>
                    <a:lnTo>
                      <a:pt x="339" y="287"/>
                    </a:lnTo>
                    <a:lnTo>
                      <a:pt x="343" y="294"/>
                    </a:lnTo>
                    <a:lnTo>
                      <a:pt x="346" y="301"/>
                    </a:lnTo>
                    <a:lnTo>
                      <a:pt x="348" y="306"/>
                    </a:lnTo>
                    <a:lnTo>
                      <a:pt x="372" y="303"/>
                    </a:lnTo>
                    <a:lnTo>
                      <a:pt x="348" y="306"/>
                    </a:lnTo>
                    <a:lnTo>
                      <a:pt x="350" y="311"/>
                    </a:lnTo>
                    <a:lnTo>
                      <a:pt x="354" y="314"/>
                    </a:lnTo>
                    <a:lnTo>
                      <a:pt x="358" y="316"/>
                    </a:lnTo>
                    <a:lnTo>
                      <a:pt x="362" y="316"/>
                    </a:lnTo>
                    <a:lnTo>
                      <a:pt x="366" y="313"/>
                    </a:lnTo>
                    <a:lnTo>
                      <a:pt x="370" y="311"/>
                    </a:lnTo>
                    <a:lnTo>
                      <a:pt x="372" y="306"/>
                    </a:lnTo>
                    <a:lnTo>
                      <a:pt x="372" y="301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03880" y="39006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69" h="350">
                    <a:moveTo>
                      <a:pt x="169" y="13"/>
                    </a:moveTo>
                    <a:lnTo>
                      <a:pt x="147" y="6"/>
                    </a:lnTo>
                    <a:lnTo>
                      <a:pt x="120" y="43"/>
                    </a:lnTo>
                    <a:lnTo>
                      <a:pt x="93" y="81"/>
                    </a:lnTo>
                    <a:lnTo>
                      <a:pt x="81" y="100"/>
                    </a:lnTo>
                    <a:lnTo>
                      <a:pt x="68" y="120"/>
                    </a:lnTo>
                    <a:lnTo>
                      <a:pt x="57" y="139"/>
                    </a:lnTo>
                    <a:lnTo>
                      <a:pt x="47" y="160"/>
                    </a:lnTo>
                    <a:lnTo>
                      <a:pt x="36" y="180"/>
                    </a:lnTo>
                    <a:lnTo>
                      <a:pt x="27" y="202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1"/>
                    </a:lnTo>
                    <a:lnTo>
                      <a:pt x="3" y="296"/>
                    </a:lnTo>
                    <a:lnTo>
                      <a:pt x="0" y="323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300"/>
                    </a:lnTo>
                    <a:lnTo>
                      <a:pt x="31" y="276"/>
                    </a:lnTo>
                    <a:lnTo>
                      <a:pt x="35" y="253"/>
                    </a:lnTo>
                    <a:lnTo>
                      <a:pt x="42" y="231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70"/>
                    </a:lnTo>
                    <a:lnTo>
                      <a:pt x="79" y="150"/>
                    </a:lnTo>
                    <a:lnTo>
                      <a:pt x="90" y="132"/>
                    </a:lnTo>
                    <a:lnTo>
                      <a:pt x="101" y="113"/>
                    </a:lnTo>
                    <a:lnTo>
                      <a:pt x="114" y="95"/>
                    </a:lnTo>
                    <a:lnTo>
                      <a:pt x="140" y="57"/>
                    </a:lnTo>
                    <a:lnTo>
                      <a:pt x="168" y="19"/>
                    </a:lnTo>
                    <a:lnTo>
                      <a:pt x="145" y="13"/>
                    </a:lnTo>
                    <a:lnTo>
                      <a:pt x="168" y="19"/>
                    </a:lnTo>
                    <a:lnTo>
                      <a:pt x="169" y="15"/>
                    </a:lnTo>
                    <a:lnTo>
                      <a:pt x="169" y="10"/>
                    </a:lnTo>
                    <a:lnTo>
                      <a:pt x="168" y="6"/>
                    </a:lnTo>
                    <a:lnTo>
                      <a:pt x="164" y="2"/>
                    </a:lnTo>
                    <a:lnTo>
                      <a:pt x="160" y="1"/>
                    </a:lnTo>
                    <a:lnTo>
                      <a:pt x="156" y="0"/>
                    </a:lnTo>
                    <a:lnTo>
                      <a:pt x="152" y="2"/>
                    </a:lnTo>
                    <a:lnTo>
                      <a:pt x="147" y="6"/>
                    </a:lnTo>
                    <a:lnTo>
                      <a:pt x="169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49960" y="3905640"/>
                <a:ext cx="12600" cy="1616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1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3"/>
                    </a:lnTo>
                    <a:lnTo>
                      <a:pt x="36" y="510"/>
                    </a:lnTo>
                    <a:lnTo>
                      <a:pt x="38" y="507"/>
                    </a:lnTo>
                    <a:lnTo>
                      <a:pt x="40" y="501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08560" y="4061160"/>
                <a:ext cx="50760" cy="11160"/>
              </a:xfrm>
              <a:custGeom>
                <a:avLst/>
                <a:gdLst/>
                <a:ahLst/>
                <a:rect l="l" t="t" r="r" b="b"/>
                <a:pathLst>
                  <a:path w="160" h="37">
                    <a:moveTo>
                      <a:pt x="8" y="15"/>
                    </a:moveTo>
                    <a:lnTo>
                      <a:pt x="12" y="37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5" y="16"/>
                    </a:lnTo>
                    <a:lnTo>
                      <a:pt x="2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7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705640" y="3770640"/>
                <a:ext cx="201600" cy="225360"/>
              </a:xfrm>
              <a:custGeom>
                <a:avLst/>
                <a:gdLst/>
                <a:ahLst/>
                <a:rect l="l" t="t" r="r" b="b"/>
                <a:pathLst>
                  <a:path w="639" h="709">
                    <a:moveTo>
                      <a:pt x="491" y="516"/>
                    </a:moveTo>
                    <a:lnTo>
                      <a:pt x="457" y="531"/>
                    </a:lnTo>
                    <a:lnTo>
                      <a:pt x="425" y="546"/>
                    </a:lnTo>
                    <a:lnTo>
                      <a:pt x="394" y="562"/>
                    </a:lnTo>
                    <a:lnTo>
                      <a:pt x="365" y="578"/>
                    </a:lnTo>
                    <a:lnTo>
                      <a:pt x="309" y="610"/>
                    </a:lnTo>
                    <a:lnTo>
                      <a:pt x="255" y="640"/>
                    </a:lnTo>
                    <a:lnTo>
                      <a:pt x="228" y="654"/>
                    </a:lnTo>
                    <a:lnTo>
                      <a:pt x="200" y="668"/>
                    </a:lnTo>
                    <a:lnTo>
                      <a:pt x="172" y="679"/>
                    </a:lnTo>
                    <a:lnTo>
                      <a:pt x="142" y="689"/>
                    </a:lnTo>
                    <a:lnTo>
                      <a:pt x="128" y="693"/>
                    </a:lnTo>
                    <a:lnTo>
                      <a:pt x="112" y="697"/>
                    </a:lnTo>
                    <a:lnTo>
                      <a:pt x="96" y="701"/>
                    </a:lnTo>
                    <a:lnTo>
                      <a:pt x="79" y="703"/>
                    </a:lnTo>
                    <a:lnTo>
                      <a:pt x="61" y="705"/>
                    </a:lnTo>
                    <a:lnTo>
                      <a:pt x="44" y="708"/>
                    </a:lnTo>
                    <a:lnTo>
                      <a:pt x="26" y="708"/>
                    </a:lnTo>
                    <a:lnTo>
                      <a:pt x="7" y="709"/>
                    </a:lnTo>
                    <a:lnTo>
                      <a:pt x="2" y="690"/>
                    </a:lnTo>
                    <a:lnTo>
                      <a:pt x="0" y="674"/>
                    </a:lnTo>
                    <a:lnTo>
                      <a:pt x="0" y="659"/>
                    </a:lnTo>
                    <a:lnTo>
                      <a:pt x="1" y="644"/>
                    </a:lnTo>
                    <a:lnTo>
                      <a:pt x="4" y="630"/>
                    </a:lnTo>
                    <a:lnTo>
                      <a:pt x="9" y="617"/>
                    </a:lnTo>
                    <a:lnTo>
                      <a:pt x="16" y="605"/>
                    </a:lnTo>
                    <a:lnTo>
                      <a:pt x="24" y="594"/>
                    </a:lnTo>
                    <a:lnTo>
                      <a:pt x="33" y="583"/>
                    </a:lnTo>
                    <a:lnTo>
                      <a:pt x="43" y="573"/>
                    </a:lnTo>
                    <a:lnTo>
                      <a:pt x="55" y="563"/>
                    </a:lnTo>
                    <a:lnTo>
                      <a:pt x="67" y="554"/>
                    </a:lnTo>
                    <a:lnTo>
                      <a:pt x="81" y="546"/>
                    </a:lnTo>
                    <a:lnTo>
                      <a:pt x="96" y="538"/>
                    </a:lnTo>
                    <a:lnTo>
                      <a:pt x="110" y="530"/>
                    </a:lnTo>
                    <a:lnTo>
                      <a:pt x="126" y="522"/>
                    </a:lnTo>
                    <a:lnTo>
                      <a:pt x="159" y="508"/>
                    </a:lnTo>
                    <a:lnTo>
                      <a:pt x="195" y="496"/>
                    </a:lnTo>
                    <a:lnTo>
                      <a:pt x="230" y="483"/>
                    </a:lnTo>
                    <a:lnTo>
                      <a:pt x="265" y="470"/>
                    </a:lnTo>
                    <a:lnTo>
                      <a:pt x="300" y="458"/>
                    </a:lnTo>
                    <a:lnTo>
                      <a:pt x="333" y="444"/>
                    </a:lnTo>
                    <a:lnTo>
                      <a:pt x="347" y="437"/>
                    </a:lnTo>
                    <a:lnTo>
                      <a:pt x="362" y="429"/>
                    </a:lnTo>
                    <a:lnTo>
                      <a:pt x="376" y="421"/>
                    </a:lnTo>
                    <a:lnTo>
                      <a:pt x="390" y="413"/>
                    </a:lnTo>
                    <a:lnTo>
                      <a:pt x="373" y="413"/>
                    </a:lnTo>
                    <a:lnTo>
                      <a:pt x="358" y="411"/>
                    </a:lnTo>
                    <a:lnTo>
                      <a:pt x="342" y="408"/>
                    </a:lnTo>
                    <a:lnTo>
                      <a:pt x="327" y="404"/>
                    </a:lnTo>
                    <a:lnTo>
                      <a:pt x="313" y="399"/>
                    </a:lnTo>
                    <a:lnTo>
                      <a:pt x="300" y="392"/>
                    </a:lnTo>
                    <a:lnTo>
                      <a:pt x="286" y="385"/>
                    </a:lnTo>
                    <a:lnTo>
                      <a:pt x="273" y="377"/>
                    </a:lnTo>
                    <a:lnTo>
                      <a:pt x="261" y="368"/>
                    </a:lnTo>
                    <a:lnTo>
                      <a:pt x="249" y="358"/>
                    </a:lnTo>
                    <a:lnTo>
                      <a:pt x="238" y="347"/>
                    </a:lnTo>
                    <a:lnTo>
                      <a:pt x="228" y="336"/>
                    </a:lnTo>
                    <a:lnTo>
                      <a:pt x="218" y="323"/>
                    </a:lnTo>
                    <a:lnTo>
                      <a:pt x="208" y="311"/>
                    </a:lnTo>
                    <a:lnTo>
                      <a:pt x="199" y="297"/>
                    </a:lnTo>
                    <a:lnTo>
                      <a:pt x="190" y="283"/>
                    </a:lnTo>
                    <a:lnTo>
                      <a:pt x="182" y="270"/>
                    </a:lnTo>
                    <a:lnTo>
                      <a:pt x="175" y="255"/>
                    </a:lnTo>
                    <a:lnTo>
                      <a:pt x="169" y="240"/>
                    </a:lnTo>
                    <a:lnTo>
                      <a:pt x="162" y="225"/>
                    </a:lnTo>
                    <a:lnTo>
                      <a:pt x="150" y="195"/>
                    </a:lnTo>
                    <a:lnTo>
                      <a:pt x="141" y="164"/>
                    </a:lnTo>
                    <a:lnTo>
                      <a:pt x="133" y="133"/>
                    </a:lnTo>
                    <a:lnTo>
                      <a:pt x="129" y="102"/>
                    </a:lnTo>
                    <a:lnTo>
                      <a:pt x="125" y="73"/>
                    </a:lnTo>
                    <a:lnTo>
                      <a:pt x="124" y="45"/>
                    </a:lnTo>
                    <a:lnTo>
                      <a:pt x="161" y="67"/>
                    </a:lnTo>
                    <a:lnTo>
                      <a:pt x="208" y="99"/>
                    </a:lnTo>
                    <a:lnTo>
                      <a:pt x="264" y="138"/>
                    </a:lnTo>
                    <a:lnTo>
                      <a:pt x="324" y="180"/>
                    </a:lnTo>
                    <a:lnTo>
                      <a:pt x="352" y="203"/>
                    </a:lnTo>
                    <a:lnTo>
                      <a:pt x="378" y="224"/>
                    </a:lnTo>
                    <a:lnTo>
                      <a:pt x="403" y="246"/>
                    </a:lnTo>
                    <a:lnTo>
                      <a:pt x="426" y="268"/>
                    </a:lnTo>
                    <a:lnTo>
                      <a:pt x="446" y="287"/>
                    </a:lnTo>
                    <a:lnTo>
                      <a:pt x="461" y="306"/>
                    </a:lnTo>
                    <a:lnTo>
                      <a:pt x="467" y="314"/>
                    </a:lnTo>
                    <a:lnTo>
                      <a:pt x="472" y="323"/>
                    </a:lnTo>
                    <a:lnTo>
                      <a:pt x="475" y="330"/>
                    </a:lnTo>
                    <a:lnTo>
                      <a:pt x="477" y="338"/>
                    </a:lnTo>
                    <a:lnTo>
                      <a:pt x="479" y="311"/>
                    </a:lnTo>
                    <a:lnTo>
                      <a:pt x="481" y="285"/>
                    </a:lnTo>
                    <a:lnTo>
                      <a:pt x="485" y="261"/>
                    </a:lnTo>
                    <a:lnTo>
                      <a:pt x="490" y="237"/>
                    </a:lnTo>
                    <a:lnTo>
                      <a:pt x="497" y="215"/>
                    </a:lnTo>
                    <a:lnTo>
                      <a:pt x="505" y="193"/>
                    </a:lnTo>
                    <a:lnTo>
                      <a:pt x="514" y="172"/>
                    </a:lnTo>
                    <a:lnTo>
                      <a:pt x="523" y="152"/>
                    </a:lnTo>
                    <a:lnTo>
                      <a:pt x="533" y="132"/>
                    </a:lnTo>
                    <a:lnTo>
                      <a:pt x="545" y="112"/>
                    </a:lnTo>
                    <a:lnTo>
                      <a:pt x="557" y="94"/>
                    </a:lnTo>
                    <a:lnTo>
                      <a:pt x="570" y="75"/>
                    </a:lnTo>
                    <a:lnTo>
                      <a:pt x="596" y="37"/>
                    </a:lnTo>
                    <a:lnTo>
                      <a:pt x="623" y="0"/>
                    </a:lnTo>
                    <a:lnTo>
                      <a:pt x="639" y="502"/>
                    </a:lnTo>
                    <a:lnTo>
                      <a:pt x="491" y="516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702400" y="3930840"/>
                <a:ext cx="160200" cy="68400"/>
              </a:xfrm>
              <a:custGeom>
                <a:avLst/>
                <a:gdLst/>
                <a:ahLst/>
                <a:rect l="l" t="t" r="r" b="b"/>
                <a:pathLst>
                  <a:path w="502" h="215">
                    <a:moveTo>
                      <a:pt x="1" y="207"/>
                    </a:moveTo>
                    <a:lnTo>
                      <a:pt x="13" y="215"/>
                    </a:lnTo>
                    <a:lnTo>
                      <a:pt x="32" y="215"/>
                    </a:lnTo>
                    <a:lnTo>
                      <a:pt x="50" y="214"/>
                    </a:lnTo>
                    <a:lnTo>
                      <a:pt x="69" y="213"/>
                    </a:lnTo>
                    <a:lnTo>
                      <a:pt x="87" y="211"/>
                    </a:lnTo>
                    <a:lnTo>
                      <a:pt x="104" y="207"/>
                    </a:lnTo>
                    <a:lnTo>
                      <a:pt x="120" y="204"/>
                    </a:lnTo>
                    <a:lnTo>
                      <a:pt x="137" y="200"/>
                    </a:lnTo>
                    <a:lnTo>
                      <a:pt x="152" y="196"/>
                    </a:lnTo>
                    <a:lnTo>
                      <a:pt x="183" y="185"/>
                    </a:lnTo>
                    <a:lnTo>
                      <a:pt x="211" y="173"/>
                    </a:lnTo>
                    <a:lnTo>
                      <a:pt x="240" y="160"/>
                    </a:lnTo>
                    <a:lnTo>
                      <a:pt x="267" y="146"/>
                    </a:lnTo>
                    <a:lnTo>
                      <a:pt x="320" y="115"/>
                    </a:lnTo>
                    <a:lnTo>
                      <a:pt x="376" y="83"/>
                    </a:lnTo>
                    <a:lnTo>
                      <a:pt x="406" y="67"/>
                    </a:lnTo>
                    <a:lnTo>
                      <a:pt x="436" y="52"/>
                    </a:lnTo>
                    <a:lnTo>
                      <a:pt x="467" y="36"/>
                    </a:lnTo>
                    <a:lnTo>
                      <a:pt x="502" y="22"/>
                    </a:lnTo>
                    <a:lnTo>
                      <a:pt x="494" y="0"/>
                    </a:lnTo>
                    <a:lnTo>
                      <a:pt x="458" y="14"/>
                    </a:lnTo>
                    <a:lnTo>
                      <a:pt x="425" y="30"/>
                    </a:lnTo>
                    <a:lnTo>
                      <a:pt x="395" y="46"/>
                    </a:lnTo>
                    <a:lnTo>
                      <a:pt x="365" y="62"/>
                    </a:lnTo>
                    <a:lnTo>
                      <a:pt x="309" y="94"/>
                    </a:lnTo>
                    <a:lnTo>
                      <a:pt x="255" y="125"/>
                    </a:lnTo>
                    <a:lnTo>
                      <a:pt x="228" y="139"/>
                    </a:lnTo>
                    <a:lnTo>
                      <a:pt x="202" y="151"/>
                    </a:lnTo>
                    <a:lnTo>
                      <a:pt x="173" y="163"/>
                    </a:lnTo>
                    <a:lnTo>
                      <a:pt x="145" y="172"/>
                    </a:lnTo>
                    <a:lnTo>
                      <a:pt x="130" y="176"/>
                    </a:lnTo>
                    <a:lnTo>
                      <a:pt x="115" y="180"/>
                    </a:lnTo>
                    <a:lnTo>
                      <a:pt x="99" y="183"/>
                    </a:lnTo>
                    <a:lnTo>
                      <a:pt x="83" y="187"/>
                    </a:lnTo>
                    <a:lnTo>
                      <a:pt x="66" y="189"/>
                    </a:lnTo>
                    <a:lnTo>
                      <a:pt x="49" y="190"/>
                    </a:lnTo>
                    <a:lnTo>
                      <a:pt x="31" y="191"/>
                    </a:lnTo>
                    <a:lnTo>
                      <a:pt x="13" y="191"/>
                    </a:lnTo>
                    <a:lnTo>
                      <a:pt x="24" y="200"/>
                    </a:lnTo>
                    <a:lnTo>
                      <a:pt x="13" y="191"/>
                    </a:lnTo>
                    <a:lnTo>
                      <a:pt x="7" y="192"/>
                    </a:lnTo>
                    <a:lnTo>
                      <a:pt x="4" y="195"/>
                    </a:lnTo>
                    <a:lnTo>
                      <a:pt x="1" y="199"/>
                    </a:lnTo>
                    <a:lnTo>
                      <a:pt x="0" y="204"/>
                    </a:lnTo>
                    <a:lnTo>
                      <a:pt x="1" y="208"/>
                    </a:lnTo>
                    <a:lnTo>
                      <a:pt x="4" y="212"/>
                    </a:lnTo>
                    <a:lnTo>
                      <a:pt x="7" y="214"/>
                    </a:lnTo>
                    <a:lnTo>
                      <a:pt x="13" y="215"/>
                    </a:lnTo>
                    <a:lnTo>
                      <a:pt x="1" y="2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00600" y="3897720"/>
                <a:ext cx="131760" cy="98280"/>
              </a:xfrm>
              <a:custGeom>
                <a:avLst/>
                <a:gdLst/>
                <a:ahLst/>
                <a:rect l="l" t="t" r="r" b="b"/>
                <a:pathLst>
                  <a:path w="414" h="310">
                    <a:moveTo>
                      <a:pt x="403" y="24"/>
                    </a:moveTo>
                    <a:lnTo>
                      <a:pt x="396" y="2"/>
                    </a:lnTo>
                    <a:lnTo>
                      <a:pt x="383" y="9"/>
                    </a:lnTo>
                    <a:lnTo>
                      <a:pt x="370" y="17"/>
                    </a:lnTo>
                    <a:lnTo>
                      <a:pt x="356" y="24"/>
                    </a:lnTo>
                    <a:lnTo>
                      <a:pt x="341" y="31"/>
                    </a:lnTo>
                    <a:lnTo>
                      <a:pt x="308" y="44"/>
                    </a:lnTo>
                    <a:lnTo>
                      <a:pt x="274" y="57"/>
                    </a:lnTo>
                    <a:lnTo>
                      <a:pt x="239" y="70"/>
                    </a:lnTo>
                    <a:lnTo>
                      <a:pt x="203" y="82"/>
                    </a:lnTo>
                    <a:lnTo>
                      <a:pt x="168" y="95"/>
                    </a:lnTo>
                    <a:lnTo>
                      <a:pt x="135" y="109"/>
                    </a:lnTo>
                    <a:lnTo>
                      <a:pt x="119" y="116"/>
                    </a:lnTo>
                    <a:lnTo>
                      <a:pt x="103" y="124"/>
                    </a:lnTo>
                    <a:lnTo>
                      <a:pt x="88" y="133"/>
                    </a:lnTo>
                    <a:lnTo>
                      <a:pt x="73" y="143"/>
                    </a:lnTo>
                    <a:lnTo>
                      <a:pt x="61" y="152"/>
                    </a:lnTo>
                    <a:lnTo>
                      <a:pt x="48" y="162"/>
                    </a:lnTo>
                    <a:lnTo>
                      <a:pt x="37" y="172"/>
                    </a:lnTo>
                    <a:lnTo>
                      <a:pt x="27" y="185"/>
                    </a:lnTo>
                    <a:lnTo>
                      <a:pt x="19" y="197"/>
                    </a:lnTo>
                    <a:lnTo>
                      <a:pt x="12" y="211"/>
                    </a:lnTo>
                    <a:lnTo>
                      <a:pt x="6" y="225"/>
                    </a:lnTo>
                    <a:lnTo>
                      <a:pt x="3" y="241"/>
                    </a:lnTo>
                    <a:lnTo>
                      <a:pt x="0" y="257"/>
                    </a:lnTo>
                    <a:lnTo>
                      <a:pt x="1" y="274"/>
                    </a:lnTo>
                    <a:lnTo>
                      <a:pt x="4" y="291"/>
                    </a:lnTo>
                    <a:lnTo>
                      <a:pt x="8" y="310"/>
                    </a:lnTo>
                    <a:lnTo>
                      <a:pt x="31" y="303"/>
                    </a:lnTo>
                    <a:lnTo>
                      <a:pt x="28" y="286"/>
                    </a:lnTo>
                    <a:lnTo>
                      <a:pt x="25" y="271"/>
                    </a:lnTo>
                    <a:lnTo>
                      <a:pt x="24" y="258"/>
                    </a:lnTo>
                    <a:lnTo>
                      <a:pt x="27" y="244"/>
                    </a:lnTo>
                    <a:lnTo>
                      <a:pt x="29" y="231"/>
                    </a:lnTo>
                    <a:lnTo>
                      <a:pt x="33" y="220"/>
                    </a:lnTo>
                    <a:lnTo>
                      <a:pt x="39" y="210"/>
                    </a:lnTo>
                    <a:lnTo>
                      <a:pt x="46" y="200"/>
                    </a:lnTo>
                    <a:lnTo>
                      <a:pt x="55" y="189"/>
                    </a:lnTo>
                    <a:lnTo>
                      <a:pt x="64" y="180"/>
                    </a:lnTo>
                    <a:lnTo>
                      <a:pt x="76" y="171"/>
                    </a:lnTo>
                    <a:lnTo>
                      <a:pt x="87" y="162"/>
                    </a:lnTo>
                    <a:lnTo>
                      <a:pt x="101" y="154"/>
                    </a:lnTo>
                    <a:lnTo>
                      <a:pt x="114" y="146"/>
                    </a:lnTo>
                    <a:lnTo>
                      <a:pt x="129" y="138"/>
                    </a:lnTo>
                    <a:lnTo>
                      <a:pt x="144" y="131"/>
                    </a:lnTo>
                    <a:lnTo>
                      <a:pt x="177" y="117"/>
                    </a:lnTo>
                    <a:lnTo>
                      <a:pt x="212" y="105"/>
                    </a:lnTo>
                    <a:lnTo>
                      <a:pt x="247" y="92"/>
                    </a:lnTo>
                    <a:lnTo>
                      <a:pt x="283" y="80"/>
                    </a:lnTo>
                    <a:lnTo>
                      <a:pt x="317" y="66"/>
                    </a:lnTo>
                    <a:lnTo>
                      <a:pt x="350" y="54"/>
                    </a:lnTo>
                    <a:lnTo>
                      <a:pt x="366" y="46"/>
                    </a:lnTo>
                    <a:lnTo>
                      <a:pt x="381" y="39"/>
                    </a:lnTo>
                    <a:lnTo>
                      <a:pt x="396" y="31"/>
                    </a:lnTo>
                    <a:lnTo>
                      <a:pt x="410" y="22"/>
                    </a:lnTo>
                    <a:lnTo>
                      <a:pt x="403" y="0"/>
                    </a:lnTo>
                    <a:lnTo>
                      <a:pt x="410" y="22"/>
                    </a:lnTo>
                    <a:lnTo>
                      <a:pt x="413" y="18"/>
                    </a:lnTo>
                    <a:lnTo>
                      <a:pt x="414" y="14"/>
                    </a:lnTo>
                    <a:lnTo>
                      <a:pt x="414" y="9"/>
                    </a:lnTo>
                    <a:lnTo>
                      <a:pt x="413" y="6"/>
                    </a:lnTo>
                    <a:lnTo>
                      <a:pt x="410" y="2"/>
                    </a:lnTo>
                    <a:lnTo>
                      <a:pt x="405" y="0"/>
                    </a:lnTo>
                    <a:lnTo>
                      <a:pt x="400" y="0"/>
                    </a:lnTo>
                    <a:lnTo>
                      <a:pt x="396" y="2"/>
                    </a:lnTo>
                    <a:lnTo>
                      <a:pt x="40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740560" y="3781800"/>
                <a:ext cx="88920" cy="123840"/>
              </a:xfrm>
              <a:custGeom>
                <a:avLst/>
                <a:gdLst/>
                <a:ahLst/>
                <a:rect l="l" t="t" r="r" b="b"/>
                <a:pathLst>
                  <a:path w="277" h="393">
                    <a:moveTo>
                      <a:pt x="18" y="2"/>
                    </a:moveTo>
                    <a:lnTo>
                      <a:pt x="0" y="12"/>
                    </a:lnTo>
                    <a:lnTo>
                      <a:pt x="1" y="41"/>
                    </a:lnTo>
                    <a:lnTo>
                      <a:pt x="3" y="71"/>
                    </a:lnTo>
                    <a:lnTo>
                      <a:pt x="9" y="102"/>
                    </a:lnTo>
                    <a:lnTo>
                      <a:pt x="17" y="134"/>
                    </a:lnTo>
                    <a:lnTo>
                      <a:pt x="26" y="166"/>
                    </a:lnTo>
                    <a:lnTo>
                      <a:pt x="37" y="197"/>
                    </a:lnTo>
                    <a:lnTo>
                      <a:pt x="44" y="213"/>
                    </a:lnTo>
                    <a:lnTo>
                      <a:pt x="51" y="228"/>
                    </a:lnTo>
                    <a:lnTo>
                      <a:pt x="59" y="242"/>
                    </a:lnTo>
                    <a:lnTo>
                      <a:pt x="67" y="257"/>
                    </a:lnTo>
                    <a:lnTo>
                      <a:pt x="76" y="271"/>
                    </a:lnTo>
                    <a:lnTo>
                      <a:pt x="85" y="285"/>
                    </a:lnTo>
                    <a:lnTo>
                      <a:pt x="95" y="298"/>
                    </a:lnTo>
                    <a:lnTo>
                      <a:pt x="106" y="311"/>
                    </a:lnTo>
                    <a:lnTo>
                      <a:pt x="117" y="322"/>
                    </a:lnTo>
                    <a:lnTo>
                      <a:pt x="129" y="334"/>
                    </a:lnTo>
                    <a:lnTo>
                      <a:pt x="141" y="344"/>
                    </a:lnTo>
                    <a:lnTo>
                      <a:pt x="154" y="353"/>
                    </a:lnTo>
                    <a:lnTo>
                      <a:pt x="167" y="362"/>
                    </a:lnTo>
                    <a:lnTo>
                      <a:pt x="181" y="370"/>
                    </a:lnTo>
                    <a:lnTo>
                      <a:pt x="196" y="377"/>
                    </a:lnTo>
                    <a:lnTo>
                      <a:pt x="211" y="383"/>
                    </a:lnTo>
                    <a:lnTo>
                      <a:pt x="227" y="387"/>
                    </a:lnTo>
                    <a:lnTo>
                      <a:pt x="242" y="391"/>
                    </a:lnTo>
                    <a:lnTo>
                      <a:pt x="260" y="392"/>
                    </a:lnTo>
                    <a:lnTo>
                      <a:pt x="277" y="393"/>
                    </a:lnTo>
                    <a:lnTo>
                      <a:pt x="277" y="369"/>
                    </a:lnTo>
                    <a:lnTo>
                      <a:pt x="261" y="368"/>
                    </a:lnTo>
                    <a:lnTo>
                      <a:pt x="246" y="367"/>
                    </a:lnTo>
                    <a:lnTo>
                      <a:pt x="232" y="363"/>
                    </a:lnTo>
                    <a:lnTo>
                      <a:pt x="219" y="360"/>
                    </a:lnTo>
                    <a:lnTo>
                      <a:pt x="205" y="354"/>
                    </a:lnTo>
                    <a:lnTo>
                      <a:pt x="192" y="349"/>
                    </a:lnTo>
                    <a:lnTo>
                      <a:pt x="180" y="342"/>
                    </a:lnTo>
                    <a:lnTo>
                      <a:pt x="167" y="334"/>
                    </a:lnTo>
                    <a:lnTo>
                      <a:pt x="156" y="326"/>
                    </a:lnTo>
                    <a:lnTo>
                      <a:pt x="144" y="315"/>
                    </a:lnTo>
                    <a:lnTo>
                      <a:pt x="134" y="305"/>
                    </a:lnTo>
                    <a:lnTo>
                      <a:pt x="124" y="295"/>
                    </a:lnTo>
                    <a:lnTo>
                      <a:pt x="115" y="282"/>
                    </a:lnTo>
                    <a:lnTo>
                      <a:pt x="105" y="271"/>
                    </a:lnTo>
                    <a:lnTo>
                      <a:pt x="97" y="258"/>
                    </a:lnTo>
                    <a:lnTo>
                      <a:pt x="89" y="245"/>
                    </a:lnTo>
                    <a:lnTo>
                      <a:pt x="81" y="231"/>
                    </a:lnTo>
                    <a:lnTo>
                      <a:pt x="73" y="217"/>
                    </a:lnTo>
                    <a:lnTo>
                      <a:pt x="66" y="203"/>
                    </a:lnTo>
                    <a:lnTo>
                      <a:pt x="60" y="188"/>
                    </a:lnTo>
                    <a:lnTo>
                      <a:pt x="49" y="158"/>
                    </a:lnTo>
                    <a:lnTo>
                      <a:pt x="40" y="127"/>
                    </a:lnTo>
                    <a:lnTo>
                      <a:pt x="33" y="98"/>
                    </a:lnTo>
                    <a:lnTo>
                      <a:pt x="27" y="68"/>
                    </a:lnTo>
                    <a:lnTo>
                      <a:pt x="25" y="40"/>
                    </a:lnTo>
                    <a:lnTo>
                      <a:pt x="24" y="12"/>
                    </a:lnTo>
                    <a:lnTo>
                      <a:pt x="5" y="22"/>
                    </a:lnTo>
                    <a:lnTo>
                      <a:pt x="24" y="12"/>
                    </a:lnTo>
                    <a:lnTo>
                      <a:pt x="23" y="7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742000" y="3781800"/>
                <a:ext cx="119160" cy="100080"/>
              </a:xfrm>
              <a:custGeom>
                <a:avLst/>
                <a:gdLst/>
                <a:ahLst/>
                <a:rect l="l" t="t" r="r" b="b"/>
                <a:pathLst>
                  <a:path w="372" h="315">
                    <a:moveTo>
                      <a:pt x="348" y="303"/>
                    </a:moveTo>
                    <a:lnTo>
                      <a:pt x="372" y="300"/>
                    </a:lnTo>
                    <a:lnTo>
                      <a:pt x="369" y="291"/>
                    </a:lnTo>
                    <a:lnTo>
                      <a:pt x="365" y="283"/>
                    </a:lnTo>
                    <a:lnTo>
                      <a:pt x="359" y="274"/>
                    </a:lnTo>
                    <a:lnTo>
                      <a:pt x="353" y="263"/>
                    </a:lnTo>
                    <a:lnTo>
                      <a:pt x="337" y="244"/>
                    </a:lnTo>
                    <a:lnTo>
                      <a:pt x="317" y="223"/>
                    </a:lnTo>
                    <a:lnTo>
                      <a:pt x="294" y="202"/>
                    </a:lnTo>
                    <a:lnTo>
                      <a:pt x="268" y="180"/>
                    </a:lnTo>
                    <a:lnTo>
                      <a:pt x="241" y="158"/>
                    </a:lnTo>
                    <a:lnTo>
                      <a:pt x="212" y="136"/>
                    </a:lnTo>
                    <a:lnTo>
                      <a:pt x="154" y="92"/>
                    </a:lnTo>
                    <a:lnTo>
                      <a:pt x="97" y="54"/>
                    </a:lnTo>
                    <a:lnTo>
                      <a:pt x="49" y="22"/>
                    </a:lnTo>
                    <a:lnTo>
                      <a:pt x="13" y="0"/>
                    </a:lnTo>
                    <a:lnTo>
                      <a:pt x="0" y="20"/>
                    </a:lnTo>
                    <a:lnTo>
                      <a:pt x="36" y="42"/>
                    </a:lnTo>
                    <a:lnTo>
                      <a:pt x="84" y="74"/>
                    </a:lnTo>
                    <a:lnTo>
                      <a:pt x="139" y="113"/>
                    </a:lnTo>
                    <a:lnTo>
                      <a:pt x="198" y="155"/>
                    </a:lnTo>
                    <a:lnTo>
                      <a:pt x="226" y="177"/>
                    </a:lnTo>
                    <a:lnTo>
                      <a:pt x="253" y="198"/>
                    </a:lnTo>
                    <a:lnTo>
                      <a:pt x="277" y="220"/>
                    </a:lnTo>
                    <a:lnTo>
                      <a:pt x="300" y="240"/>
                    </a:lnTo>
                    <a:lnTo>
                      <a:pt x="318" y="261"/>
                    </a:lnTo>
                    <a:lnTo>
                      <a:pt x="333" y="278"/>
                    </a:lnTo>
                    <a:lnTo>
                      <a:pt x="339" y="286"/>
                    </a:lnTo>
                    <a:lnTo>
                      <a:pt x="343" y="294"/>
                    </a:lnTo>
                    <a:lnTo>
                      <a:pt x="346" y="300"/>
                    </a:lnTo>
                    <a:lnTo>
                      <a:pt x="348" y="305"/>
                    </a:lnTo>
                    <a:lnTo>
                      <a:pt x="372" y="303"/>
                    </a:lnTo>
                    <a:lnTo>
                      <a:pt x="348" y="305"/>
                    </a:lnTo>
                    <a:lnTo>
                      <a:pt x="350" y="310"/>
                    </a:lnTo>
                    <a:lnTo>
                      <a:pt x="354" y="313"/>
                    </a:lnTo>
                    <a:lnTo>
                      <a:pt x="358" y="315"/>
                    </a:lnTo>
                    <a:lnTo>
                      <a:pt x="362" y="315"/>
                    </a:lnTo>
                    <a:lnTo>
                      <a:pt x="366" y="312"/>
                    </a:lnTo>
                    <a:lnTo>
                      <a:pt x="370" y="310"/>
                    </a:lnTo>
                    <a:lnTo>
                      <a:pt x="372" y="305"/>
                    </a:lnTo>
                    <a:lnTo>
                      <a:pt x="372" y="300"/>
                    </a:lnTo>
                    <a:lnTo>
                      <a:pt x="348" y="30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853240" y="3767400"/>
                <a:ext cx="54000" cy="111240"/>
              </a:xfrm>
              <a:custGeom>
                <a:avLst/>
                <a:gdLst/>
                <a:ahLst/>
                <a:rect l="l" t="t" r="r" b="b"/>
                <a:pathLst>
                  <a:path w="170" h="350">
                    <a:moveTo>
                      <a:pt x="170" y="12"/>
                    </a:moveTo>
                    <a:lnTo>
                      <a:pt x="147" y="5"/>
                    </a:lnTo>
                    <a:lnTo>
                      <a:pt x="120" y="42"/>
                    </a:lnTo>
                    <a:lnTo>
                      <a:pt x="93" y="80"/>
                    </a:lnTo>
                    <a:lnTo>
                      <a:pt x="81" y="99"/>
                    </a:lnTo>
                    <a:lnTo>
                      <a:pt x="68" y="119"/>
                    </a:lnTo>
                    <a:lnTo>
                      <a:pt x="57" y="138"/>
                    </a:lnTo>
                    <a:lnTo>
                      <a:pt x="47" y="159"/>
                    </a:lnTo>
                    <a:lnTo>
                      <a:pt x="36" y="179"/>
                    </a:lnTo>
                    <a:lnTo>
                      <a:pt x="27" y="201"/>
                    </a:lnTo>
                    <a:lnTo>
                      <a:pt x="19" y="223"/>
                    </a:lnTo>
                    <a:lnTo>
                      <a:pt x="13" y="246"/>
                    </a:lnTo>
                    <a:lnTo>
                      <a:pt x="7" y="270"/>
                    </a:lnTo>
                    <a:lnTo>
                      <a:pt x="3" y="295"/>
                    </a:lnTo>
                    <a:lnTo>
                      <a:pt x="0" y="322"/>
                    </a:lnTo>
                    <a:lnTo>
                      <a:pt x="0" y="350"/>
                    </a:lnTo>
                    <a:lnTo>
                      <a:pt x="24" y="350"/>
                    </a:lnTo>
                    <a:lnTo>
                      <a:pt x="25" y="324"/>
                    </a:lnTo>
                    <a:lnTo>
                      <a:pt x="27" y="299"/>
                    </a:lnTo>
                    <a:lnTo>
                      <a:pt x="31" y="275"/>
                    </a:lnTo>
                    <a:lnTo>
                      <a:pt x="36" y="252"/>
                    </a:lnTo>
                    <a:lnTo>
                      <a:pt x="42" y="230"/>
                    </a:lnTo>
                    <a:lnTo>
                      <a:pt x="50" y="210"/>
                    </a:lnTo>
                    <a:lnTo>
                      <a:pt x="58" y="189"/>
                    </a:lnTo>
                    <a:lnTo>
                      <a:pt x="68" y="169"/>
                    </a:lnTo>
                    <a:lnTo>
                      <a:pt x="79" y="150"/>
                    </a:lnTo>
                    <a:lnTo>
                      <a:pt x="90" y="131"/>
                    </a:lnTo>
                    <a:lnTo>
                      <a:pt x="101" y="112"/>
                    </a:lnTo>
                    <a:lnTo>
                      <a:pt x="114" y="94"/>
                    </a:lnTo>
                    <a:lnTo>
                      <a:pt x="140" y="57"/>
                    </a:lnTo>
                    <a:lnTo>
                      <a:pt x="168" y="18"/>
                    </a:lnTo>
                    <a:lnTo>
                      <a:pt x="145" y="13"/>
                    </a:lnTo>
                    <a:lnTo>
                      <a:pt x="168" y="18"/>
                    </a:lnTo>
                    <a:lnTo>
                      <a:pt x="170" y="14"/>
                    </a:lnTo>
                    <a:lnTo>
                      <a:pt x="169" y="9"/>
                    </a:lnTo>
                    <a:lnTo>
                      <a:pt x="168" y="5"/>
                    </a:lnTo>
                    <a:lnTo>
                      <a:pt x="164" y="2"/>
                    </a:lnTo>
                    <a:lnTo>
                      <a:pt x="161" y="0"/>
                    </a:lnTo>
                    <a:lnTo>
                      <a:pt x="156" y="0"/>
                    </a:lnTo>
                    <a:lnTo>
                      <a:pt x="152" y="1"/>
                    </a:lnTo>
                    <a:lnTo>
                      <a:pt x="147" y="5"/>
                    </a:lnTo>
                    <a:lnTo>
                      <a:pt x="17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899320" y="3770640"/>
                <a:ext cx="12600" cy="163440"/>
              </a:xfrm>
              <a:custGeom>
                <a:avLst/>
                <a:gdLst/>
                <a:ahLst/>
                <a:rect l="l" t="t" r="r" b="b"/>
                <a:pathLst>
                  <a:path w="40" h="514">
                    <a:moveTo>
                      <a:pt x="29" y="514"/>
                    </a:moveTo>
                    <a:lnTo>
                      <a:pt x="40" y="502"/>
                    </a:lnTo>
                    <a:lnTo>
                      <a:pt x="25" y="0"/>
                    </a:lnTo>
                    <a:lnTo>
                      <a:pt x="0" y="1"/>
                    </a:lnTo>
                    <a:lnTo>
                      <a:pt x="16" y="502"/>
                    </a:lnTo>
                    <a:lnTo>
                      <a:pt x="29" y="514"/>
                    </a:lnTo>
                    <a:lnTo>
                      <a:pt x="16" y="502"/>
                    </a:lnTo>
                    <a:lnTo>
                      <a:pt x="17" y="508"/>
                    </a:lnTo>
                    <a:lnTo>
                      <a:pt x="20" y="511"/>
                    </a:lnTo>
                    <a:lnTo>
                      <a:pt x="24" y="514"/>
                    </a:lnTo>
                    <a:lnTo>
                      <a:pt x="28" y="514"/>
                    </a:lnTo>
                    <a:lnTo>
                      <a:pt x="33" y="514"/>
                    </a:lnTo>
                    <a:lnTo>
                      <a:pt x="36" y="511"/>
                    </a:lnTo>
                    <a:lnTo>
                      <a:pt x="39" y="507"/>
                    </a:lnTo>
                    <a:lnTo>
                      <a:pt x="40" y="502"/>
                    </a:lnTo>
                    <a:lnTo>
                      <a:pt x="29" y="5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857920" y="39261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60" h="39">
                    <a:moveTo>
                      <a:pt x="8" y="15"/>
                    </a:moveTo>
                    <a:lnTo>
                      <a:pt x="12" y="39"/>
                    </a:lnTo>
                    <a:lnTo>
                      <a:pt x="160" y="24"/>
                    </a:lnTo>
                    <a:lnTo>
                      <a:pt x="158" y="0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5" y="16"/>
                    </a:lnTo>
                    <a:lnTo>
                      <a:pt x="2" y="19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8" y="37"/>
                    </a:lnTo>
                    <a:lnTo>
                      <a:pt x="12" y="39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410080" y="4091400"/>
                <a:ext cx="203400" cy="188640"/>
              </a:xfrm>
              <a:custGeom>
                <a:avLst/>
                <a:gdLst/>
                <a:ahLst/>
                <a:rect l="l" t="t" r="r" b="b"/>
                <a:pathLst>
                  <a:path w="641" h="594">
                    <a:moveTo>
                      <a:pt x="84" y="95"/>
                    </a:moveTo>
                    <a:lnTo>
                      <a:pt x="231" y="594"/>
                    </a:lnTo>
                    <a:lnTo>
                      <a:pt x="239" y="561"/>
                    </a:lnTo>
                    <a:lnTo>
                      <a:pt x="245" y="529"/>
                    </a:lnTo>
                    <a:lnTo>
                      <a:pt x="249" y="498"/>
                    </a:lnTo>
                    <a:lnTo>
                      <a:pt x="250" y="468"/>
                    </a:lnTo>
                    <a:lnTo>
                      <a:pt x="251" y="440"/>
                    </a:lnTo>
                    <a:lnTo>
                      <a:pt x="249" y="414"/>
                    </a:lnTo>
                    <a:lnTo>
                      <a:pt x="247" y="388"/>
                    </a:lnTo>
                    <a:lnTo>
                      <a:pt x="242" y="362"/>
                    </a:lnTo>
                    <a:lnTo>
                      <a:pt x="237" y="340"/>
                    </a:lnTo>
                    <a:lnTo>
                      <a:pt x="231" y="319"/>
                    </a:lnTo>
                    <a:lnTo>
                      <a:pt x="225" y="299"/>
                    </a:lnTo>
                    <a:lnTo>
                      <a:pt x="218" y="280"/>
                    </a:lnTo>
                    <a:lnTo>
                      <a:pt x="211" y="264"/>
                    </a:lnTo>
                    <a:lnTo>
                      <a:pt x="203" y="251"/>
                    </a:lnTo>
                    <a:lnTo>
                      <a:pt x="196" y="238"/>
                    </a:lnTo>
                    <a:lnTo>
                      <a:pt x="191" y="228"/>
                    </a:lnTo>
                    <a:lnTo>
                      <a:pt x="185" y="219"/>
                    </a:lnTo>
                    <a:lnTo>
                      <a:pt x="179" y="213"/>
                    </a:lnTo>
                    <a:lnTo>
                      <a:pt x="176" y="210"/>
                    </a:lnTo>
                    <a:lnTo>
                      <a:pt x="172" y="209"/>
                    </a:lnTo>
                    <a:lnTo>
                      <a:pt x="171" y="210"/>
                    </a:lnTo>
                    <a:lnTo>
                      <a:pt x="171" y="213"/>
                    </a:lnTo>
                    <a:lnTo>
                      <a:pt x="174" y="219"/>
                    </a:lnTo>
                    <a:lnTo>
                      <a:pt x="177" y="228"/>
                    </a:lnTo>
                    <a:lnTo>
                      <a:pt x="183" y="239"/>
                    </a:lnTo>
                    <a:lnTo>
                      <a:pt x="192" y="253"/>
                    </a:lnTo>
                    <a:lnTo>
                      <a:pt x="202" y="271"/>
                    </a:lnTo>
                    <a:lnTo>
                      <a:pt x="217" y="291"/>
                    </a:lnTo>
                    <a:lnTo>
                      <a:pt x="233" y="315"/>
                    </a:lnTo>
                    <a:lnTo>
                      <a:pt x="253" y="341"/>
                    </a:lnTo>
                    <a:lnTo>
                      <a:pt x="276" y="370"/>
                    </a:lnTo>
                    <a:lnTo>
                      <a:pt x="303" y="403"/>
                    </a:lnTo>
                    <a:lnTo>
                      <a:pt x="313" y="411"/>
                    </a:lnTo>
                    <a:lnTo>
                      <a:pt x="322" y="419"/>
                    </a:lnTo>
                    <a:lnTo>
                      <a:pt x="331" y="426"/>
                    </a:lnTo>
                    <a:lnTo>
                      <a:pt x="341" y="433"/>
                    </a:lnTo>
                    <a:lnTo>
                      <a:pt x="352" y="440"/>
                    </a:lnTo>
                    <a:lnTo>
                      <a:pt x="364" y="446"/>
                    </a:lnTo>
                    <a:lnTo>
                      <a:pt x="375" y="451"/>
                    </a:lnTo>
                    <a:lnTo>
                      <a:pt x="387" y="456"/>
                    </a:lnTo>
                    <a:lnTo>
                      <a:pt x="411" y="465"/>
                    </a:lnTo>
                    <a:lnTo>
                      <a:pt x="433" y="471"/>
                    </a:lnTo>
                    <a:lnTo>
                      <a:pt x="446" y="473"/>
                    </a:lnTo>
                    <a:lnTo>
                      <a:pt x="457" y="474"/>
                    </a:lnTo>
                    <a:lnTo>
                      <a:pt x="469" y="475"/>
                    </a:lnTo>
                    <a:lnTo>
                      <a:pt x="480" y="476"/>
                    </a:lnTo>
                    <a:lnTo>
                      <a:pt x="473" y="453"/>
                    </a:lnTo>
                    <a:lnTo>
                      <a:pt x="464" y="427"/>
                    </a:lnTo>
                    <a:lnTo>
                      <a:pt x="453" y="401"/>
                    </a:lnTo>
                    <a:lnTo>
                      <a:pt x="439" y="373"/>
                    </a:lnTo>
                    <a:lnTo>
                      <a:pt x="423" y="344"/>
                    </a:lnTo>
                    <a:lnTo>
                      <a:pt x="406" y="315"/>
                    </a:lnTo>
                    <a:lnTo>
                      <a:pt x="387" y="285"/>
                    </a:lnTo>
                    <a:lnTo>
                      <a:pt x="367" y="256"/>
                    </a:lnTo>
                    <a:lnTo>
                      <a:pt x="346" y="227"/>
                    </a:lnTo>
                    <a:lnTo>
                      <a:pt x="324" y="199"/>
                    </a:lnTo>
                    <a:lnTo>
                      <a:pt x="301" y="173"/>
                    </a:lnTo>
                    <a:lnTo>
                      <a:pt x="278" y="149"/>
                    </a:lnTo>
                    <a:lnTo>
                      <a:pt x="254" y="126"/>
                    </a:lnTo>
                    <a:lnTo>
                      <a:pt x="232" y="107"/>
                    </a:lnTo>
                    <a:lnTo>
                      <a:pt x="220" y="99"/>
                    </a:lnTo>
                    <a:lnTo>
                      <a:pt x="209" y="91"/>
                    </a:lnTo>
                    <a:lnTo>
                      <a:pt x="199" y="83"/>
                    </a:lnTo>
                    <a:lnTo>
                      <a:pt x="187" y="77"/>
                    </a:lnTo>
                    <a:lnTo>
                      <a:pt x="215" y="79"/>
                    </a:lnTo>
                    <a:lnTo>
                      <a:pt x="243" y="80"/>
                    </a:lnTo>
                    <a:lnTo>
                      <a:pt x="270" y="83"/>
                    </a:lnTo>
                    <a:lnTo>
                      <a:pt x="299" y="87"/>
                    </a:lnTo>
                    <a:lnTo>
                      <a:pt x="356" y="97"/>
                    </a:lnTo>
                    <a:lnTo>
                      <a:pt x="414" y="108"/>
                    </a:lnTo>
                    <a:lnTo>
                      <a:pt x="472" y="118"/>
                    </a:lnTo>
                    <a:lnTo>
                      <a:pt x="529" y="129"/>
                    </a:lnTo>
                    <a:lnTo>
                      <a:pt x="558" y="132"/>
                    </a:lnTo>
                    <a:lnTo>
                      <a:pt x="586" y="136"/>
                    </a:lnTo>
                    <a:lnTo>
                      <a:pt x="613" y="138"/>
                    </a:lnTo>
                    <a:lnTo>
                      <a:pt x="641" y="138"/>
                    </a:lnTo>
                    <a:lnTo>
                      <a:pt x="628" y="130"/>
                    </a:lnTo>
                    <a:lnTo>
                      <a:pt x="612" y="121"/>
                    </a:lnTo>
                    <a:lnTo>
                      <a:pt x="592" y="112"/>
                    </a:lnTo>
                    <a:lnTo>
                      <a:pt x="570" y="103"/>
                    </a:lnTo>
                    <a:lnTo>
                      <a:pt x="545" y="93"/>
                    </a:lnTo>
                    <a:lnTo>
                      <a:pt x="518" y="84"/>
                    </a:lnTo>
                    <a:lnTo>
                      <a:pt x="488" y="75"/>
                    </a:lnTo>
                    <a:lnTo>
                      <a:pt x="457" y="67"/>
                    </a:lnTo>
                    <a:lnTo>
                      <a:pt x="392" y="50"/>
                    </a:lnTo>
                    <a:lnTo>
                      <a:pt x="325" y="34"/>
                    </a:lnTo>
                    <a:lnTo>
                      <a:pt x="258" y="22"/>
                    </a:lnTo>
                    <a:lnTo>
                      <a:pt x="193" y="10"/>
                    </a:lnTo>
                    <a:lnTo>
                      <a:pt x="162" y="7"/>
                    </a:lnTo>
                    <a:lnTo>
                      <a:pt x="134" y="3"/>
                    </a:lnTo>
                    <a:lnTo>
                      <a:pt x="106" y="1"/>
                    </a:lnTo>
                    <a:lnTo>
                      <a:pt x="81" y="0"/>
                    </a:lnTo>
                    <a:lnTo>
                      <a:pt x="60" y="0"/>
                    </a:lnTo>
                    <a:lnTo>
                      <a:pt x="40" y="1"/>
                    </a:lnTo>
                    <a:lnTo>
                      <a:pt x="24" y="3"/>
                    </a:lnTo>
                    <a:lnTo>
                      <a:pt x="13" y="7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0" y="27"/>
                    </a:lnTo>
                    <a:lnTo>
                      <a:pt x="6" y="38"/>
                    </a:lnTo>
                    <a:lnTo>
                      <a:pt x="16" y="49"/>
                    </a:lnTo>
                    <a:lnTo>
                      <a:pt x="33" y="63"/>
                    </a:lnTo>
                    <a:lnTo>
                      <a:pt x="55" y="77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433840" y="412128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70" h="506">
                    <a:moveTo>
                      <a:pt x="170" y="506"/>
                    </a:moveTo>
                    <a:lnTo>
                      <a:pt x="170" y="499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7" y="506"/>
                    </a:lnTo>
                    <a:lnTo>
                      <a:pt x="170" y="50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460840" y="4154760"/>
                <a:ext cx="49320" cy="127080"/>
              </a:xfrm>
              <a:custGeom>
                <a:avLst/>
                <a:gdLst/>
                <a:ahLst/>
                <a:rect l="l" t="t" r="r" b="b"/>
                <a:pathLst>
                  <a:path w="153" h="401">
                    <a:moveTo>
                      <a:pt x="151" y="198"/>
                    </a:moveTo>
                    <a:lnTo>
                      <a:pt x="153" y="200"/>
                    </a:lnTo>
                    <a:lnTo>
                      <a:pt x="126" y="166"/>
                    </a:lnTo>
                    <a:lnTo>
                      <a:pt x="102" y="137"/>
                    </a:lnTo>
                    <a:lnTo>
                      <a:pt x="83" y="111"/>
                    </a:lnTo>
                    <a:lnTo>
                      <a:pt x="66" y="88"/>
                    </a:lnTo>
                    <a:lnTo>
                      <a:pt x="52" y="68"/>
                    </a:lnTo>
                    <a:lnTo>
                      <a:pt x="42" y="51"/>
                    </a:lnTo>
                    <a:lnTo>
                      <a:pt x="34" y="38"/>
                    </a:lnTo>
                    <a:lnTo>
                      <a:pt x="28" y="26"/>
                    </a:lnTo>
                    <a:lnTo>
                      <a:pt x="24" y="18"/>
                    </a:lnTo>
                    <a:lnTo>
                      <a:pt x="23" y="14"/>
                    </a:lnTo>
                    <a:lnTo>
                      <a:pt x="23" y="17"/>
                    </a:lnTo>
                    <a:lnTo>
                      <a:pt x="11" y="24"/>
                    </a:lnTo>
                    <a:lnTo>
                      <a:pt x="8" y="23"/>
                    </a:lnTo>
                    <a:lnTo>
                      <a:pt x="10" y="25"/>
                    </a:lnTo>
                    <a:lnTo>
                      <a:pt x="15" y="31"/>
                    </a:lnTo>
                    <a:lnTo>
                      <a:pt x="20" y="39"/>
                    </a:lnTo>
                    <a:lnTo>
                      <a:pt x="26" y="48"/>
                    </a:lnTo>
                    <a:lnTo>
                      <a:pt x="33" y="59"/>
                    </a:lnTo>
                    <a:lnTo>
                      <a:pt x="40" y="74"/>
                    </a:lnTo>
                    <a:lnTo>
                      <a:pt x="47" y="89"/>
                    </a:lnTo>
                    <a:lnTo>
                      <a:pt x="53" y="107"/>
                    </a:lnTo>
                    <a:lnTo>
                      <a:pt x="59" y="127"/>
                    </a:lnTo>
                    <a:lnTo>
                      <a:pt x="65" y="147"/>
                    </a:lnTo>
                    <a:lnTo>
                      <a:pt x="71" y="169"/>
                    </a:lnTo>
                    <a:lnTo>
                      <a:pt x="74" y="193"/>
                    </a:lnTo>
                    <a:lnTo>
                      <a:pt x="77" y="218"/>
                    </a:lnTo>
                    <a:lnTo>
                      <a:pt x="79" y="245"/>
                    </a:lnTo>
                    <a:lnTo>
                      <a:pt x="79" y="272"/>
                    </a:lnTo>
                    <a:lnTo>
                      <a:pt x="76" y="301"/>
                    </a:lnTo>
                    <a:lnTo>
                      <a:pt x="73" y="332"/>
                    </a:lnTo>
                    <a:lnTo>
                      <a:pt x="67" y="363"/>
                    </a:lnTo>
                    <a:lnTo>
                      <a:pt x="59" y="394"/>
                    </a:lnTo>
                    <a:lnTo>
                      <a:pt x="82" y="401"/>
                    </a:lnTo>
                    <a:lnTo>
                      <a:pt x="91" y="367"/>
                    </a:lnTo>
                    <a:lnTo>
                      <a:pt x="97" y="335"/>
                    </a:lnTo>
                    <a:lnTo>
                      <a:pt x="100" y="303"/>
                    </a:lnTo>
                    <a:lnTo>
                      <a:pt x="102" y="274"/>
                    </a:lnTo>
                    <a:lnTo>
                      <a:pt x="102" y="244"/>
                    </a:lnTo>
                    <a:lnTo>
                      <a:pt x="101" y="217"/>
                    </a:lnTo>
                    <a:lnTo>
                      <a:pt x="98" y="189"/>
                    </a:lnTo>
                    <a:lnTo>
                      <a:pt x="93" y="164"/>
                    </a:lnTo>
                    <a:lnTo>
                      <a:pt x="89" y="141"/>
                    </a:lnTo>
                    <a:lnTo>
                      <a:pt x="83" y="119"/>
                    </a:lnTo>
                    <a:lnTo>
                      <a:pt x="76" y="99"/>
                    </a:lnTo>
                    <a:lnTo>
                      <a:pt x="69" y="80"/>
                    </a:lnTo>
                    <a:lnTo>
                      <a:pt x="61" y="64"/>
                    </a:lnTo>
                    <a:lnTo>
                      <a:pt x="55" y="49"/>
                    </a:lnTo>
                    <a:lnTo>
                      <a:pt x="48" y="35"/>
                    </a:lnTo>
                    <a:lnTo>
                      <a:pt x="41" y="25"/>
                    </a:lnTo>
                    <a:lnTo>
                      <a:pt x="34" y="16"/>
                    </a:lnTo>
                    <a:lnTo>
                      <a:pt x="28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19"/>
                    </a:lnTo>
                    <a:lnTo>
                      <a:pt x="2" y="27"/>
                    </a:lnTo>
                    <a:lnTo>
                      <a:pt x="7" y="36"/>
                    </a:lnTo>
                    <a:lnTo>
                      <a:pt x="12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3" y="152"/>
                    </a:lnTo>
                    <a:lnTo>
                      <a:pt x="107" y="181"/>
                    </a:lnTo>
                    <a:lnTo>
                      <a:pt x="134" y="214"/>
                    </a:lnTo>
                    <a:lnTo>
                      <a:pt x="134" y="215"/>
                    </a:lnTo>
                    <a:lnTo>
                      <a:pt x="151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504040" y="421668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198" h="94">
                    <a:moveTo>
                      <a:pt x="175" y="85"/>
                    </a:moveTo>
                    <a:lnTo>
                      <a:pt x="186" y="70"/>
                    </a:lnTo>
                    <a:lnTo>
                      <a:pt x="176" y="70"/>
                    </a:lnTo>
                    <a:lnTo>
                      <a:pt x="164" y="69"/>
                    </a:lnTo>
                    <a:lnTo>
                      <a:pt x="153" y="68"/>
                    </a:lnTo>
                    <a:lnTo>
                      <a:pt x="143" y="65"/>
                    </a:lnTo>
                    <a:lnTo>
                      <a:pt x="120" y="60"/>
                    </a:lnTo>
                    <a:lnTo>
                      <a:pt x="97" y="51"/>
                    </a:lnTo>
                    <a:lnTo>
                      <a:pt x="86" y="46"/>
                    </a:lnTo>
                    <a:lnTo>
                      <a:pt x="74" y="41"/>
                    </a:lnTo>
                    <a:lnTo>
                      <a:pt x="64" y="36"/>
                    </a:lnTo>
                    <a:lnTo>
                      <a:pt x="54" y="29"/>
                    </a:lnTo>
                    <a:lnTo>
                      <a:pt x="44" y="23"/>
                    </a:lnTo>
                    <a:lnTo>
                      <a:pt x="35" y="15"/>
                    </a:lnTo>
                    <a:lnTo>
                      <a:pt x="27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1" y="27"/>
                    </a:lnTo>
                    <a:lnTo>
                      <a:pt x="20" y="35"/>
                    </a:lnTo>
                    <a:lnTo>
                      <a:pt x="30" y="43"/>
                    </a:lnTo>
                    <a:lnTo>
                      <a:pt x="41" y="49"/>
                    </a:lnTo>
                    <a:lnTo>
                      <a:pt x="53" y="56"/>
                    </a:lnTo>
                    <a:lnTo>
                      <a:pt x="64" y="63"/>
                    </a:lnTo>
                    <a:lnTo>
                      <a:pt x="76" y="69"/>
                    </a:lnTo>
                    <a:lnTo>
                      <a:pt x="88" y="73"/>
                    </a:lnTo>
                    <a:lnTo>
                      <a:pt x="112" y="82"/>
                    </a:lnTo>
                    <a:lnTo>
                      <a:pt x="137" y="88"/>
                    </a:lnTo>
                    <a:lnTo>
                      <a:pt x="150" y="90"/>
                    </a:lnTo>
                    <a:lnTo>
                      <a:pt x="162" y="93"/>
                    </a:lnTo>
                    <a:lnTo>
                      <a:pt x="174" y="94"/>
                    </a:lnTo>
                    <a:lnTo>
                      <a:pt x="186" y="94"/>
                    </a:lnTo>
                    <a:lnTo>
                      <a:pt x="198" y="79"/>
                    </a:lnTo>
                    <a:lnTo>
                      <a:pt x="186" y="94"/>
                    </a:lnTo>
                    <a:lnTo>
                      <a:pt x="191" y="93"/>
                    </a:lnTo>
                    <a:lnTo>
                      <a:pt x="195" y="90"/>
                    </a:lnTo>
                    <a:lnTo>
                      <a:pt x="198" y="86"/>
                    </a:lnTo>
                    <a:lnTo>
                      <a:pt x="198" y="82"/>
                    </a:lnTo>
                    <a:lnTo>
                      <a:pt x="198" y="78"/>
                    </a:lnTo>
                    <a:lnTo>
                      <a:pt x="195" y="73"/>
                    </a:lnTo>
                    <a:lnTo>
                      <a:pt x="191" y="71"/>
                    </a:lnTo>
                    <a:lnTo>
                      <a:pt x="186" y="70"/>
                    </a:lnTo>
                    <a:lnTo>
                      <a:pt x="175" y="8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65880" y="4111920"/>
                <a:ext cx="101520" cy="131760"/>
              </a:xfrm>
              <a:custGeom>
                <a:avLst/>
                <a:gdLst/>
                <a:ahLst/>
                <a:rect l="l" t="t" r="r" b="b"/>
                <a:pathLst>
                  <a:path w="317" h="414">
                    <a:moveTo>
                      <a:pt x="12" y="0"/>
                    </a:moveTo>
                    <a:lnTo>
                      <a:pt x="7" y="23"/>
                    </a:lnTo>
                    <a:lnTo>
                      <a:pt x="17" y="30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50" y="51"/>
                    </a:lnTo>
                    <a:lnTo>
                      <a:pt x="72" y="71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0" y="170"/>
                    </a:lnTo>
                    <a:lnTo>
                      <a:pt x="182" y="198"/>
                    </a:lnTo>
                    <a:lnTo>
                      <a:pt x="201" y="227"/>
                    </a:lnTo>
                    <a:lnTo>
                      <a:pt x="221" y="256"/>
                    </a:lnTo>
                    <a:lnTo>
                      <a:pt x="238" y="285"/>
                    </a:lnTo>
                    <a:lnTo>
                      <a:pt x="253" y="313"/>
                    </a:lnTo>
                    <a:lnTo>
                      <a:pt x="266" y="341"/>
                    </a:lnTo>
                    <a:lnTo>
                      <a:pt x="278" y="367"/>
                    </a:lnTo>
                    <a:lnTo>
                      <a:pt x="287" y="392"/>
                    </a:lnTo>
                    <a:lnTo>
                      <a:pt x="294" y="414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1" y="359"/>
                    </a:lnTo>
                    <a:lnTo>
                      <a:pt x="288" y="332"/>
                    </a:lnTo>
                    <a:lnTo>
                      <a:pt x="274" y="303"/>
                    </a:lnTo>
                    <a:lnTo>
                      <a:pt x="258" y="274"/>
                    </a:lnTo>
                    <a:lnTo>
                      <a:pt x="241" y="244"/>
                    </a:lnTo>
                    <a:lnTo>
                      <a:pt x="222" y="213"/>
                    </a:lnTo>
                    <a:lnTo>
                      <a:pt x="201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1" y="75"/>
                    </a:lnTo>
                    <a:lnTo>
                      <a:pt x="89" y="52"/>
                    </a:lnTo>
                    <a:lnTo>
                      <a:pt x="65" y="33"/>
                    </a:lnTo>
                    <a:lnTo>
                      <a:pt x="53" y="24"/>
                    </a:lnTo>
                    <a:lnTo>
                      <a:pt x="41" y="16"/>
                    </a:lnTo>
                    <a:lnTo>
                      <a:pt x="29" y="8"/>
                    </a:lnTo>
                    <a:lnTo>
                      <a:pt x="18" y="2"/>
                    </a:lnTo>
                    <a:lnTo>
                      <a:pt x="12" y="25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7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470560" y="4111920"/>
                <a:ext cx="147600" cy="27000"/>
              </a:xfrm>
              <a:custGeom>
                <a:avLst/>
                <a:gdLst/>
                <a:ahLst/>
                <a:rect l="l" t="t" r="r" b="b"/>
                <a:pathLst>
                  <a:path w="466" h="85">
                    <a:moveTo>
                      <a:pt x="447" y="83"/>
                    </a:moveTo>
                    <a:lnTo>
                      <a:pt x="454" y="61"/>
                    </a:lnTo>
                    <a:lnTo>
                      <a:pt x="428" y="60"/>
                    </a:lnTo>
                    <a:lnTo>
                      <a:pt x="400" y="58"/>
                    </a:lnTo>
                    <a:lnTo>
                      <a:pt x="372" y="56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1"/>
                    </a:lnTo>
                    <a:lnTo>
                      <a:pt x="171" y="19"/>
                    </a:lnTo>
                    <a:lnTo>
                      <a:pt x="114" y="10"/>
                    </a:lnTo>
                    <a:lnTo>
                      <a:pt x="85" y="6"/>
                    </a:lnTo>
                    <a:lnTo>
                      <a:pt x="56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28" y="25"/>
                    </a:lnTo>
                    <a:lnTo>
                      <a:pt x="55" y="27"/>
                    </a:lnTo>
                    <a:lnTo>
                      <a:pt x="82" y="31"/>
                    </a:lnTo>
                    <a:lnTo>
                      <a:pt x="110" y="34"/>
                    </a:lnTo>
                    <a:lnTo>
                      <a:pt x="168" y="43"/>
                    </a:lnTo>
                    <a:lnTo>
                      <a:pt x="225" y="55"/>
                    </a:lnTo>
                    <a:lnTo>
                      <a:pt x="283" y="66"/>
                    </a:lnTo>
                    <a:lnTo>
                      <a:pt x="340" y="75"/>
                    </a:lnTo>
                    <a:lnTo>
                      <a:pt x="369" y="80"/>
                    </a:lnTo>
                    <a:lnTo>
                      <a:pt x="398" y="83"/>
                    </a:lnTo>
                    <a:lnTo>
                      <a:pt x="426" y="84"/>
                    </a:lnTo>
                    <a:lnTo>
                      <a:pt x="454" y="85"/>
                    </a:lnTo>
                    <a:lnTo>
                      <a:pt x="462" y="64"/>
                    </a:lnTo>
                    <a:lnTo>
                      <a:pt x="454" y="85"/>
                    </a:lnTo>
                    <a:lnTo>
                      <a:pt x="460" y="84"/>
                    </a:lnTo>
                    <a:lnTo>
                      <a:pt x="463" y="82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3" y="65"/>
                    </a:lnTo>
                    <a:lnTo>
                      <a:pt x="460" y="61"/>
                    </a:lnTo>
                    <a:lnTo>
                      <a:pt x="454" y="61"/>
                    </a:lnTo>
                    <a:lnTo>
                      <a:pt x="447" y="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07200" y="4088160"/>
                <a:ext cx="209520" cy="50760"/>
              </a:xfrm>
              <a:custGeom>
                <a:avLst/>
                <a:gdLst/>
                <a:ahLst/>
                <a:rect l="l" t="t" r="r" b="b"/>
                <a:pathLst>
                  <a:path w="661" h="161">
                    <a:moveTo>
                      <a:pt x="107" y="104"/>
                    </a:moveTo>
                    <a:lnTo>
                      <a:pt x="101" y="97"/>
                    </a:lnTo>
                    <a:lnTo>
                      <a:pt x="74" y="80"/>
                    </a:lnTo>
                    <a:lnTo>
                      <a:pt x="52" y="65"/>
                    </a:lnTo>
                    <a:lnTo>
                      <a:pt x="44" y="60"/>
                    </a:lnTo>
                    <a:lnTo>
                      <a:pt x="37" y="53"/>
                    </a:lnTo>
                    <a:lnTo>
                      <a:pt x="32" y="48"/>
                    </a:lnTo>
                    <a:lnTo>
                      <a:pt x="28" y="43"/>
                    </a:lnTo>
                    <a:lnTo>
                      <a:pt x="25" y="39"/>
                    </a:lnTo>
                    <a:lnTo>
                      <a:pt x="24" y="37"/>
                    </a:lnTo>
                    <a:lnTo>
                      <a:pt x="24" y="36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5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40" y="28"/>
                    </a:lnTo>
                    <a:lnTo>
                      <a:pt x="53" y="27"/>
                    </a:lnTo>
                    <a:lnTo>
                      <a:pt x="72" y="25"/>
                    </a:lnTo>
                    <a:lnTo>
                      <a:pt x="93" y="25"/>
                    </a:lnTo>
                    <a:lnTo>
                      <a:pt x="117" y="27"/>
                    </a:lnTo>
                    <a:lnTo>
                      <a:pt x="145" y="29"/>
                    </a:lnTo>
                    <a:lnTo>
                      <a:pt x="173" y="31"/>
                    </a:lnTo>
                    <a:lnTo>
                      <a:pt x="203" y="36"/>
                    </a:lnTo>
                    <a:lnTo>
                      <a:pt x="268" y="46"/>
                    </a:lnTo>
                    <a:lnTo>
                      <a:pt x="335" y="60"/>
                    </a:lnTo>
                    <a:lnTo>
                      <a:pt x="402" y="74"/>
                    </a:lnTo>
                    <a:lnTo>
                      <a:pt x="467" y="92"/>
                    </a:lnTo>
                    <a:lnTo>
                      <a:pt x="497" y="101"/>
                    </a:lnTo>
                    <a:lnTo>
                      <a:pt x="526" y="109"/>
                    </a:lnTo>
                    <a:lnTo>
                      <a:pt x="553" y="118"/>
                    </a:lnTo>
                    <a:lnTo>
                      <a:pt x="578" y="127"/>
                    </a:lnTo>
                    <a:lnTo>
                      <a:pt x="599" y="136"/>
                    </a:lnTo>
                    <a:lnTo>
                      <a:pt x="619" y="145"/>
                    </a:lnTo>
                    <a:lnTo>
                      <a:pt x="635" y="153"/>
                    </a:lnTo>
                    <a:lnTo>
                      <a:pt x="646" y="161"/>
                    </a:lnTo>
                    <a:lnTo>
                      <a:pt x="661" y="142"/>
                    </a:lnTo>
                    <a:lnTo>
                      <a:pt x="646" y="133"/>
                    </a:lnTo>
                    <a:lnTo>
                      <a:pt x="629" y="124"/>
                    </a:lnTo>
                    <a:lnTo>
                      <a:pt x="610" y="114"/>
                    </a:lnTo>
                    <a:lnTo>
                      <a:pt x="587" y="104"/>
                    </a:lnTo>
                    <a:lnTo>
                      <a:pt x="561" y="95"/>
                    </a:lnTo>
                    <a:lnTo>
                      <a:pt x="533" y="86"/>
                    </a:lnTo>
                    <a:lnTo>
                      <a:pt x="504" y="77"/>
                    </a:lnTo>
                    <a:lnTo>
                      <a:pt x="473" y="68"/>
                    </a:lnTo>
                    <a:lnTo>
                      <a:pt x="408" y="51"/>
                    </a:lnTo>
                    <a:lnTo>
                      <a:pt x="339" y="36"/>
                    </a:lnTo>
                    <a:lnTo>
                      <a:pt x="272" y="22"/>
                    </a:lnTo>
                    <a:lnTo>
                      <a:pt x="206" y="12"/>
                    </a:lnTo>
                    <a:lnTo>
                      <a:pt x="175" y="7"/>
                    </a:lnTo>
                    <a:lnTo>
                      <a:pt x="147" y="4"/>
                    </a:lnTo>
                    <a:lnTo>
                      <a:pt x="119" y="2"/>
                    </a:lnTo>
                    <a:lnTo>
                      <a:pt x="94" y="0"/>
                    </a:lnTo>
                    <a:lnTo>
                      <a:pt x="72" y="0"/>
                    </a:lnTo>
                    <a:lnTo>
                      <a:pt x="51" y="2"/>
                    </a:lnTo>
                    <a:lnTo>
                      <a:pt x="34" y="5"/>
                    </a:lnTo>
                    <a:lnTo>
                      <a:pt x="20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3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1" y="44"/>
                    </a:lnTo>
                    <a:lnTo>
                      <a:pt x="4" y="51"/>
                    </a:lnTo>
                    <a:lnTo>
                      <a:pt x="9" y="57"/>
                    </a:lnTo>
                    <a:lnTo>
                      <a:pt x="13" y="64"/>
                    </a:lnTo>
                    <a:lnTo>
                      <a:pt x="20" y="71"/>
                    </a:lnTo>
                    <a:lnTo>
                      <a:pt x="28" y="78"/>
                    </a:lnTo>
                    <a:lnTo>
                      <a:pt x="37" y="85"/>
                    </a:lnTo>
                    <a:lnTo>
                      <a:pt x="60" y="101"/>
                    </a:lnTo>
                    <a:lnTo>
                      <a:pt x="90" y="118"/>
                    </a:lnTo>
                    <a:lnTo>
                      <a:pt x="84" y="111"/>
                    </a:lnTo>
                    <a:lnTo>
                      <a:pt x="90" y="118"/>
                    </a:lnTo>
                    <a:lnTo>
                      <a:pt x="94" y="120"/>
                    </a:lnTo>
                    <a:lnTo>
                      <a:pt x="99" y="120"/>
                    </a:lnTo>
                    <a:lnTo>
                      <a:pt x="104" y="118"/>
                    </a:lnTo>
                    <a:lnTo>
                      <a:pt x="106" y="114"/>
                    </a:lnTo>
                    <a:lnTo>
                      <a:pt x="107" y="110"/>
                    </a:lnTo>
                    <a:lnTo>
                      <a:pt x="107" y="105"/>
                    </a:lnTo>
                    <a:lnTo>
                      <a:pt x="106" y="101"/>
                    </a:lnTo>
                    <a:lnTo>
                      <a:pt x="101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238640" y="3913560"/>
                <a:ext cx="203040" cy="187200"/>
              </a:xfrm>
              <a:custGeom>
                <a:avLst/>
                <a:gdLst/>
                <a:ahLst/>
                <a:rect l="l" t="t" r="r" b="b"/>
                <a:pathLst>
                  <a:path w="642" h="592">
                    <a:moveTo>
                      <a:pt x="83" y="94"/>
                    </a:moveTo>
                    <a:lnTo>
                      <a:pt x="231" y="592"/>
                    </a:lnTo>
                    <a:lnTo>
                      <a:pt x="240" y="561"/>
                    </a:lnTo>
                    <a:lnTo>
                      <a:pt x="246" y="529"/>
                    </a:lnTo>
                    <a:lnTo>
                      <a:pt x="249" y="498"/>
                    </a:lnTo>
                    <a:lnTo>
                      <a:pt x="252" y="468"/>
                    </a:lnTo>
                    <a:lnTo>
                      <a:pt x="252" y="440"/>
                    </a:lnTo>
                    <a:lnTo>
                      <a:pt x="250" y="412"/>
                    </a:lnTo>
                    <a:lnTo>
                      <a:pt x="247" y="387"/>
                    </a:lnTo>
                    <a:lnTo>
                      <a:pt x="242" y="362"/>
                    </a:lnTo>
                    <a:lnTo>
                      <a:pt x="238" y="339"/>
                    </a:lnTo>
                    <a:lnTo>
                      <a:pt x="232" y="318"/>
                    </a:lnTo>
                    <a:lnTo>
                      <a:pt x="225" y="298"/>
                    </a:lnTo>
                    <a:lnTo>
                      <a:pt x="218" y="280"/>
                    </a:lnTo>
                    <a:lnTo>
                      <a:pt x="212" y="264"/>
                    </a:lnTo>
                    <a:lnTo>
                      <a:pt x="205" y="249"/>
                    </a:lnTo>
                    <a:lnTo>
                      <a:pt x="198" y="237"/>
                    </a:lnTo>
                    <a:lnTo>
                      <a:pt x="191" y="226"/>
                    </a:lnTo>
                    <a:lnTo>
                      <a:pt x="185" y="219"/>
                    </a:lnTo>
                    <a:lnTo>
                      <a:pt x="180" y="213"/>
                    </a:lnTo>
                    <a:lnTo>
                      <a:pt x="176" y="208"/>
                    </a:lnTo>
                    <a:lnTo>
                      <a:pt x="173" y="207"/>
                    </a:lnTo>
                    <a:lnTo>
                      <a:pt x="172" y="208"/>
                    </a:lnTo>
                    <a:lnTo>
                      <a:pt x="172" y="212"/>
                    </a:lnTo>
                    <a:lnTo>
                      <a:pt x="174" y="219"/>
                    </a:lnTo>
                    <a:lnTo>
                      <a:pt x="177" y="226"/>
                    </a:lnTo>
                    <a:lnTo>
                      <a:pt x="184" y="238"/>
                    </a:lnTo>
                    <a:lnTo>
                      <a:pt x="192" y="253"/>
                    </a:lnTo>
                    <a:lnTo>
                      <a:pt x="204" y="270"/>
                    </a:lnTo>
                    <a:lnTo>
                      <a:pt x="217" y="290"/>
                    </a:lnTo>
                    <a:lnTo>
                      <a:pt x="234" y="313"/>
                    </a:lnTo>
                    <a:lnTo>
                      <a:pt x="254" y="339"/>
                    </a:lnTo>
                    <a:lnTo>
                      <a:pt x="278" y="369"/>
                    </a:lnTo>
                    <a:lnTo>
                      <a:pt x="304" y="402"/>
                    </a:lnTo>
                    <a:lnTo>
                      <a:pt x="313" y="411"/>
                    </a:lnTo>
                    <a:lnTo>
                      <a:pt x="322" y="418"/>
                    </a:lnTo>
                    <a:lnTo>
                      <a:pt x="332" y="426"/>
                    </a:lnTo>
                    <a:lnTo>
                      <a:pt x="343" y="433"/>
                    </a:lnTo>
                    <a:lnTo>
                      <a:pt x="353" y="440"/>
                    </a:lnTo>
                    <a:lnTo>
                      <a:pt x="364" y="445"/>
                    </a:lnTo>
                    <a:lnTo>
                      <a:pt x="376" y="451"/>
                    </a:lnTo>
                    <a:lnTo>
                      <a:pt x="387" y="456"/>
                    </a:lnTo>
                    <a:lnTo>
                      <a:pt x="411" y="464"/>
                    </a:lnTo>
                    <a:lnTo>
                      <a:pt x="435" y="470"/>
                    </a:lnTo>
                    <a:lnTo>
                      <a:pt x="446" y="473"/>
                    </a:lnTo>
                    <a:lnTo>
                      <a:pt x="458" y="474"/>
                    </a:lnTo>
                    <a:lnTo>
                      <a:pt x="469" y="475"/>
                    </a:lnTo>
                    <a:lnTo>
                      <a:pt x="481" y="475"/>
                    </a:lnTo>
                    <a:lnTo>
                      <a:pt x="474" y="452"/>
                    </a:lnTo>
                    <a:lnTo>
                      <a:pt x="465" y="427"/>
                    </a:lnTo>
                    <a:lnTo>
                      <a:pt x="453" y="401"/>
                    </a:lnTo>
                    <a:lnTo>
                      <a:pt x="440" y="372"/>
                    </a:lnTo>
                    <a:lnTo>
                      <a:pt x="424" y="344"/>
                    </a:lnTo>
                    <a:lnTo>
                      <a:pt x="407" y="314"/>
                    </a:lnTo>
                    <a:lnTo>
                      <a:pt x="388" y="285"/>
                    </a:lnTo>
                    <a:lnTo>
                      <a:pt x="368" y="255"/>
                    </a:lnTo>
                    <a:lnTo>
                      <a:pt x="346" y="226"/>
                    </a:lnTo>
                    <a:lnTo>
                      <a:pt x="324" y="199"/>
                    </a:lnTo>
                    <a:lnTo>
                      <a:pt x="302" y="173"/>
                    </a:lnTo>
                    <a:lnTo>
                      <a:pt x="279" y="148"/>
                    </a:lnTo>
                    <a:lnTo>
                      <a:pt x="256" y="126"/>
                    </a:lnTo>
                    <a:lnTo>
                      <a:pt x="233" y="107"/>
                    </a:lnTo>
                    <a:lnTo>
                      <a:pt x="222" y="98"/>
                    </a:lnTo>
                    <a:lnTo>
                      <a:pt x="210" y="90"/>
                    </a:lnTo>
                    <a:lnTo>
                      <a:pt x="199" y="83"/>
                    </a:lnTo>
                    <a:lnTo>
                      <a:pt x="188" y="77"/>
                    </a:lnTo>
                    <a:lnTo>
                      <a:pt x="216" y="77"/>
                    </a:lnTo>
                    <a:lnTo>
                      <a:pt x="244" y="79"/>
                    </a:lnTo>
                    <a:lnTo>
                      <a:pt x="272" y="83"/>
                    </a:lnTo>
                    <a:lnTo>
                      <a:pt x="299" y="86"/>
                    </a:lnTo>
                    <a:lnTo>
                      <a:pt x="357" y="95"/>
                    </a:lnTo>
                    <a:lnTo>
                      <a:pt x="414" y="107"/>
                    </a:lnTo>
                    <a:lnTo>
                      <a:pt x="473" y="118"/>
                    </a:lnTo>
                    <a:lnTo>
                      <a:pt x="530" y="128"/>
                    </a:lnTo>
                    <a:lnTo>
                      <a:pt x="558" y="132"/>
                    </a:lnTo>
                    <a:lnTo>
                      <a:pt x="587" y="135"/>
                    </a:lnTo>
                    <a:lnTo>
                      <a:pt x="614" y="136"/>
                    </a:lnTo>
                    <a:lnTo>
                      <a:pt x="642" y="138"/>
                    </a:lnTo>
                    <a:lnTo>
                      <a:pt x="629" y="128"/>
                    </a:lnTo>
                    <a:lnTo>
                      <a:pt x="613" y="120"/>
                    </a:lnTo>
                    <a:lnTo>
                      <a:pt x="593" y="111"/>
                    </a:lnTo>
                    <a:lnTo>
                      <a:pt x="571" y="102"/>
                    </a:lnTo>
                    <a:lnTo>
                      <a:pt x="546" y="93"/>
                    </a:lnTo>
                    <a:lnTo>
                      <a:pt x="518" y="84"/>
                    </a:lnTo>
                    <a:lnTo>
                      <a:pt x="490" y="75"/>
                    </a:lnTo>
                    <a:lnTo>
                      <a:pt x="459" y="66"/>
                    </a:lnTo>
                    <a:lnTo>
                      <a:pt x="393" y="49"/>
                    </a:lnTo>
                    <a:lnTo>
                      <a:pt x="326" y="34"/>
                    </a:lnTo>
                    <a:lnTo>
                      <a:pt x="258" y="20"/>
                    </a:lnTo>
                    <a:lnTo>
                      <a:pt x="193" y="10"/>
                    </a:lnTo>
                    <a:lnTo>
                      <a:pt x="163" y="5"/>
                    </a:lnTo>
                    <a:lnTo>
                      <a:pt x="134" y="3"/>
                    </a:lnTo>
                    <a:lnTo>
                      <a:pt x="107" y="1"/>
                    </a:lnTo>
                    <a:lnTo>
                      <a:pt x="82" y="0"/>
                    </a:lnTo>
                    <a:lnTo>
                      <a:pt x="60" y="0"/>
                    </a:lnTo>
                    <a:lnTo>
                      <a:pt x="41" y="1"/>
                    </a:lnTo>
                    <a:lnTo>
                      <a:pt x="25" y="3"/>
                    </a:lnTo>
                    <a:lnTo>
                      <a:pt x="12" y="6"/>
                    </a:lnTo>
                    <a:lnTo>
                      <a:pt x="4" y="12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5" y="36"/>
                    </a:lnTo>
                    <a:lnTo>
                      <a:pt x="17" y="49"/>
                    </a:lnTo>
                    <a:lnTo>
                      <a:pt x="33" y="61"/>
                    </a:lnTo>
                    <a:lnTo>
                      <a:pt x="54" y="77"/>
                    </a:lnTo>
                    <a:lnTo>
                      <a:pt x="83" y="94"/>
                    </a:lnTo>
                    <a:close/>
                  </a:path>
                </a:pathLst>
              </a:custGeom>
              <a:solidFill>
                <a:srgbClr val="a39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260960" y="3942000"/>
                <a:ext cx="54000" cy="160200"/>
              </a:xfrm>
              <a:custGeom>
                <a:avLst/>
                <a:gdLst/>
                <a:ahLst/>
                <a:rect l="l" t="t" r="r" b="b"/>
                <a:pathLst>
                  <a:path w="173" h="506">
                    <a:moveTo>
                      <a:pt x="173" y="505"/>
                    </a:moveTo>
                    <a:lnTo>
                      <a:pt x="173" y="498"/>
                    </a:lnTo>
                    <a:lnTo>
                      <a:pt x="23" y="0"/>
                    </a:lnTo>
                    <a:lnTo>
                      <a:pt x="0" y="7"/>
                    </a:lnTo>
                    <a:lnTo>
                      <a:pt x="149" y="506"/>
                    </a:lnTo>
                    <a:lnTo>
                      <a:pt x="173" y="5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4289400" y="3975480"/>
                <a:ext cx="47520" cy="126720"/>
              </a:xfrm>
              <a:custGeom>
                <a:avLst/>
                <a:gdLst/>
                <a:ahLst/>
                <a:rect l="l" t="t" r="r" b="b"/>
                <a:pathLst>
                  <a:path w="153" h="400">
                    <a:moveTo>
                      <a:pt x="153" y="198"/>
                    </a:moveTo>
                    <a:lnTo>
                      <a:pt x="153" y="199"/>
                    </a:lnTo>
                    <a:lnTo>
                      <a:pt x="127" y="166"/>
                    </a:lnTo>
                    <a:lnTo>
                      <a:pt x="104" y="137"/>
                    </a:lnTo>
                    <a:lnTo>
                      <a:pt x="84" y="110"/>
                    </a:lnTo>
                    <a:lnTo>
                      <a:pt x="68" y="87"/>
                    </a:lnTo>
                    <a:lnTo>
                      <a:pt x="54" y="67"/>
                    </a:lnTo>
                    <a:lnTo>
                      <a:pt x="42" y="50"/>
                    </a:lnTo>
                    <a:lnTo>
                      <a:pt x="35" y="36"/>
                    </a:lnTo>
                    <a:lnTo>
                      <a:pt x="29" y="26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13" y="24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5" y="30"/>
                    </a:lnTo>
                    <a:lnTo>
                      <a:pt x="21" y="37"/>
                    </a:lnTo>
                    <a:lnTo>
                      <a:pt x="28" y="48"/>
                    </a:lnTo>
                    <a:lnTo>
                      <a:pt x="33" y="59"/>
                    </a:lnTo>
                    <a:lnTo>
                      <a:pt x="40" y="73"/>
                    </a:lnTo>
                    <a:lnTo>
                      <a:pt x="47" y="89"/>
                    </a:lnTo>
                    <a:lnTo>
                      <a:pt x="54" y="106"/>
                    </a:lnTo>
                    <a:lnTo>
                      <a:pt x="61" y="125"/>
                    </a:lnTo>
                    <a:lnTo>
                      <a:pt x="66" y="146"/>
                    </a:lnTo>
                    <a:lnTo>
                      <a:pt x="71" y="168"/>
                    </a:lnTo>
                    <a:lnTo>
                      <a:pt x="74" y="192"/>
                    </a:lnTo>
                    <a:lnTo>
                      <a:pt x="78" y="217"/>
                    </a:lnTo>
                    <a:lnTo>
                      <a:pt x="79" y="244"/>
                    </a:lnTo>
                    <a:lnTo>
                      <a:pt x="79" y="272"/>
                    </a:lnTo>
                    <a:lnTo>
                      <a:pt x="78" y="301"/>
                    </a:lnTo>
                    <a:lnTo>
                      <a:pt x="73" y="330"/>
                    </a:lnTo>
                    <a:lnTo>
                      <a:pt x="68" y="362"/>
                    </a:lnTo>
                    <a:lnTo>
                      <a:pt x="60" y="394"/>
                    </a:lnTo>
                    <a:lnTo>
                      <a:pt x="84" y="400"/>
                    </a:lnTo>
                    <a:lnTo>
                      <a:pt x="92" y="367"/>
                    </a:lnTo>
                    <a:lnTo>
                      <a:pt x="97" y="335"/>
                    </a:lnTo>
                    <a:lnTo>
                      <a:pt x="102" y="303"/>
                    </a:lnTo>
                    <a:lnTo>
                      <a:pt x="103" y="272"/>
                    </a:lnTo>
                    <a:lnTo>
                      <a:pt x="103" y="244"/>
                    </a:lnTo>
                    <a:lnTo>
                      <a:pt x="102" y="215"/>
                    </a:lnTo>
                    <a:lnTo>
                      <a:pt x="98" y="189"/>
                    </a:lnTo>
                    <a:lnTo>
                      <a:pt x="95" y="164"/>
                    </a:lnTo>
                    <a:lnTo>
                      <a:pt x="89" y="140"/>
                    </a:lnTo>
                    <a:lnTo>
                      <a:pt x="84" y="118"/>
                    </a:lnTo>
                    <a:lnTo>
                      <a:pt x="77" y="98"/>
                    </a:lnTo>
                    <a:lnTo>
                      <a:pt x="70" y="80"/>
                    </a:lnTo>
                    <a:lnTo>
                      <a:pt x="63" y="62"/>
                    </a:lnTo>
                    <a:lnTo>
                      <a:pt x="55" y="48"/>
                    </a:lnTo>
                    <a:lnTo>
                      <a:pt x="48" y="35"/>
                    </a:lnTo>
                    <a:lnTo>
                      <a:pt x="41" y="24"/>
                    </a:lnTo>
                    <a:lnTo>
                      <a:pt x="35" y="16"/>
                    </a:lnTo>
                    <a:lnTo>
                      <a:pt x="29" y="9"/>
                    </a:lnTo>
                    <a:lnTo>
                      <a:pt x="23" y="3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7" y="36"/>
                    </a:lnTo>
                    <a:lnTo>
                      <a:pt x="13" y="49"/>
                    </a:lnTo>
                    <a:lnTo>
                      <a:pt x="22" y="64"/>
                    </a:lnTo>
                    <a:lnTo>
                      <a:pt x="33" y="81"/>
                    </a:lnTo>
                    <a:lnTo>
                      <a:pt x="47" y="101"/>
                    </a:lnTo>
                    <a:lnTo>
                      <a:pt x="64" y="125"/>
                    </a:lnTo>
                    <a:lnTo>
                      <a:pt x="85" y="151"/>
                    </a:lnTo>
                    <a:lnTo>
                      <a:pt x="107" y="181"/>
                    </a:lnTo>
                    <a:lnTo>
                      <a:pt x="135" y="214"/>
                    </a:lnTo>
                    <a:lnTo>
                      <a:pt x="136" y="215"/>
                    </a:lnTo>
                    <a:lnTo>
                      <a:pt x="153" y="1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332240" y="4037400"/>
                <a:ext cx="61920" cy="29880"/>
              </a:xfrm>
              <a:custGeom>
                <a:avLst/>
                <a:gdLst/>
                <a:ahLst/>
                <a:rect l="l" t="t" r="r" b="b"/>
                <a:pathLst>
                  <a:path w="197" h="94">
                    <a:moveTo>
                      <a:pt x="173" y="84"/>
                    </a:moveTo>
                    <a:lnTo>
                      <a:pt x="185" y="70"/>
                    </a:lnTo>
                    <a:lnTo>
                      <a:pt x="174" y="68"/>
                    </a:lnTo>
                    <a:lnTo>
                      <a:pt x="163" y="67"/>
                    </a:lnTo>
                    <a:lnTo>
                      <a:pt x="153" y="66"/>
                    </a:lnTo>
                    <a:lnTo>
                      <a:pt x="141" y="64"/>
                    </a:lnTo>
                    <a:lnTo>
                      <a:pt x="118" y="58"/>
                    </a:lnTo>
                    <a:lnTo>
                      <a:pt x="96" y="50"/>
                    </a:lnTo>
                    <a:lnTo>
                      <a:pt x="84" y="46"/>
                    </a:lnTo>
                    <a:lnTo>
                      <a:pt x="74" y="40"/>
                    </a:lnTo>
                    <a:lnTo>
                      <a:pt x="63" y="34"/>
                    </a:lnTo>
                    <a:lnTo>
                      <a:pt x="54" y="29"/>
                    </a:lnTo>
                    <a:lnTo>
                      <a:pt x="43" y="22"/>
                    </a:lnTo>
                    <a:lnTo>
                      <a:pt x="34" y="15"/>
                    </a:lnTo>
                    <a:lnTo>
                      <a:pt x="25" y="8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9" y="25"/>
                    </a:lnTo>
                    <a:lnTo>
                      <a:pt x="19" y="34"/>
                    </a:lnTo>
                    <a:lnTo>
                      <a:pt x="30" y="42"/>
                    </a:lnTo>
                    <a:lnTo>
                      <a:pt x="40" y="49"/>
                    </a:lnTo>
                    <a:lnTo>
                      <a:pt x="51" y="56"/>
                    </a:lnTo>
                    <a:lnTo>
                      <a:pt x="63" y="62"/>
                    </a:lnTo>
                    <a:lnTo>
                      <a:pt x="75" y="67"/>
                    </a:lnTo>
                    <a:lnTo>
                      <a:pt x="87" y="73"/>
                    </a:lnTo>
                    <a:lnTo>
                      <a:pt x="112" y="82"/>
                    </a:lnTo>
                    <a:lnTo>
                      <a:pt x="136" y="88"/>
                    </a:lnTo>
                    <a:lnTo>
                      <a:pt x="148" y="90"/>
                    </a:lnTo>
                    <a:lnTo>
                      <a:pt x="161" y="92"/>
                    </a:lnTo>
                    <a:lnTo>
                      <a:pt x="173" y="92"/>
                    </a:lnTo>
                    <a:lnTo>
                      <a:pt x="185" y="94"/>
                    </a:lnTo>
                    <a:lnTo>
                      <a:pt x="197" y="79"/>
                    </a:lnTo>
                    <a:lnTo>
                      <a:pt x="185" y="94"/>
                    </a:lnTo>
                    <a:lnTo>
                      <a:pt x="190" y="92"/>
                    </a:lnTo>
                    <a:lnTo>
                      <a:pt x="194" y="89"/>
                    </a:lnTo>
                    <a:lnTo>
                      <a:pt x="196" y="86"/>
                    </a:lnTo>
                    <a:lnTo>
                      <a:pt x="197" y="81"/>
                    </a:lnTo>
                    <a:lnTo>
                      <a:pt x="196" y="76"/>
                    </a:lnTo>
                    <a:lnTo>
                      <a:pt x="194" y="73"/>
                    </a:lnTo>
                    <a:lnTo>
                      <a:pt x="190" y="70"/>
                    </a:lnTo>
                    <a:lnTo>
                      <a:pt x="185" y="70"/>
                    </a:lnTo>
                    <a:lnTo>
                      <a:pt x="17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94080" y="3934080"/>
                <a:ext cx="100080" cy="130320"/>
              </a:xfrm>
              <a:custGeom>
                <a:avLst/>
                <a:gdLst/>
                <a:ahLst/>
                <a:rect l="l" t="t" r="r" b="b"/>
                <a:pathLst>
                  <a:path w="317" h="413">
                    <a:moveTo>
                      <a:pt x="12" y="0"/>
                    </a:moveTo>
                    <a:lnTo>
                      <a:pt x="7" y="22"/>
                    </a:lnTo>
                    <a:lnTo>
                      <a:pt x="17" y="28"/>
                    </a:lnTo>
                    <a:lnTo>
                      <a:pt x="28" y="35"/>
                    </a:lnTo>
                    <a:lnTo>
                      <a:pt x="38" y="43"/>
                    </a:lnTo>
                    <a:lnTo>
                      <a:pt x="49" y="51"/>
                    </a:lnTo>
                    <a:lnTo>
                      <a:pt x="72" y="70"/>
                    </a:lnTo>
                    <a:lnTo>
                      <a:pt x="94" y="92"/>
                    </a:lnTo>
                    <a:lnTo>
                      <a:pt x="117" y="116"/>
                    </a:lnTo>
                    <a:lnTo>
                      <a:pt x="139" y="142"/>
                    </a:lnTo>
                    <a:lnTo>
                      <a:pt x="161" y="168"/>
                    </a:lnTo>
                    <a:lnTo>
                      <a:pt x="181" y="197"/>
                    </a:lnTo>
                    <a:lnTo>
                      <a:pt x="202" y="226"/>
                    </a:lnTo>
                    <a:lnTo>
                      <a:pt x="220" y="255"/>
                    </a:lnTo>
                    <a:lnTo>
                      <a:pt x="237" y="285"/>
                    </a:lnTo>
                    <a:lnTo>
                      <a:pt x="253" y="313"/>
                    </a:lnTo>
                    <a:lnTo>
                      <a:pt x="267" y="340"/>
                    </a:lnTo>
                    <a:lnTo>
                      <a:pt x="278" y="367"/>
                    </a:lnTo>
                    <a:lnTo>
                      <a:pt x="286" y="391"/>
                    </a:lnTo>
                    <a:lnTo>
                      <a:pt x="293" y="413"/>
                    </a:lnTo>
                    <a:lnTo>
                      <a:pt x="317" y="408"/>
                    </a:lnTo>
                    <a:lnTo>
                      <a:pt x="310" y="384"/>
                    </a:lnTo>
                    <a:lnTo>
                      <a:pt x="300" y="358"/>
                    </a:lnTo>
                    <a:lnTo>
                      <a:pt x="289" y="330"/>
                    </a:lnTo>
                    <a:lnTo>
                      <a:pt x="275" y="302"/>
                    </a:lnTo>
                    <a:lnTo>
                      <a:pt x="259" y="272"/>
                    </a:lnTo>
                    <a:lnTo>
                      <a:pt x="241" y="242"/>
                    </a:lnTo>
                    <a:lnTo>
                      <a:pt x="221" y="213"/>
                    </a:lnTo>
                    <a:lnTo>
                      <a:pt x="202" y="183"/>
                    </a:lnTo>
                    <a:lnTo>
                      <a:pt x="180" y="155"/>
                    </a:lnTo>
                    <a:lnTo>
                      <a:pt x="158" y="126"/>
                    </a:lnTo>
                    <a:lnTo>
                      <a:pt x="135" y="100"/>
                    </a:lnTo>
                    <a:lnTo>
                      <a:pt x="112" y="75"/>
                    </a:lnTo>
                    <a:lnTo>
                      <a:pt x="88" y="52"/>
                    </a:lnTo>
                    <a:lnTo>
                      <a:pt x="64" y="33"/>
                    </a:lnTo>
                    <a:lnTo>
                      <a:pt x="53" y="24"/>
                    </a:lnTo>
                    <a:lnTo>
                      <a:pt x="41" y="14"/>
                    </a:lnTo>
                    <a:lnTo>
                      <a:pt x="29" y="8"/>
                    </a:lnTo>
                    <a:lnTo>
                      <a:pt x="17" y="1"/>
                    </a:lnTo>
                    <a:lnTo>
                      <a:pt x="12" y="2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3" y="19"/>
                    </a:lnTo>
                    <a:lnTo>
                      <a:pt x="7" y="2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297320" y="3934080"/>
                <a:ext cx="147600" cy="25560"/>
              </a:xfrm>
              <a:custGeom>
                <a:avLst/>
                <a:gdLst/>
                <a:ahLst/>
                <a:rect l="l" t="t" r="r" b="b"/>
                <a:pathLst>
                  <a:path w="466" h="84">
                    <a:moveTo>
                      <a:pt x="446" y="82"/>
                    </a:moveTo>
                    <a:lnTo>
                      <a:pt x="454" y="60"/>
                    </a:lnTo>
                    <a:lnTo>
                      <a:pt x="427" y="60"/>
                    </a:lnTo>
                    <a:lnTo>
                      <a:pt x="400" y="58"/>
                    </a:lnTo>
                    <a:lnTo>
                      <a:pt x="372" y="54"/>
                    </a:lnTo>
                    <a:lnTo>
                      <a:pt x="344" y="51"/>
                    </a:lnTo>
                    <a:lnTo>
                      <a:pt x="287" y="42"/>
                    </a:lnTo>
                    <a:lnTo>
                      <a:pt x="229" y="30"/>
                    </a:lnTo>
                    <a:lnTo>
                      <a:pt x="172" y="19"/>
                    </a:lnTo>
                    <a:lnTo>
                      <a:pt x="114" y="10"/>
                    </a:lnTo>
                    <a:lnTo>
                      <a:pt x="85" y="5"/>
                    </a:lnTo>
                    <a:lnTo>
                      <a:pt x="57" y="2"/>
                    </a:lnTo>
                    <a:lnTo>
                      <a:pt x="28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7" y="25"/>
                    </a:lnTo>
                    <a:lnTo>
                      <a:pt x="54" y="27"/>
                    </a:lnTo>
                    <a:lnTo>
                      <a:pt x="82" y="29"/>
                    </a:lnTo>
                    <a:lnTo>
                      <a:pt x="110" y="33"/>
                    </a:lnTo>
                    <a:lnTo>
                      <a:pt x="167" y="43"/>
                    </a:lnTo>
                    <a:lnTo>
                      <a:pt x="224" y="54"/>
                    </a:lnTo>
                    <a:lnTo>
                      <a:pt x="282" y="65"/>
                    </a:lnTo>
                    <a:lnTo>
                      <a:pt x="340" y="75"/>
                    </a:lnTo>
                    <a:lnTo>
                      <a:pt x="369" y="78"/>
                    </a:lnTo>
                    <a:lnTo>
                      <a:pt x="397" y="82"/>
                    </a:lnTo>
                    <a:lnTo>
                      <a:pt x="426" y="84"/>
                    </a:lnTo>
                    <a:lnTo>
                      <a:pt x="454" y="84"/>
                    </a:lnTo>
                    <a:lnTo>
                      <a:pt x="461" y="62"/>
                    </a:lnTo>
                    <a:lnTo>
                      <a:pt x="454" y="84"/>
                    </a:lnTo>
                    <a:lnTo>
                      <a:pt x="459" y="84"/>
                    </a:lnTo>
                    <a:lnTo>
                      <a:pt x="462" y="81"/>
                    </a:lnTo>
                    <a:lnTo>
                      <a:pt x="465" y="77"/>
                    </a:lnTo>
                    <a:lnTo>
                      <a:pt x="466" y="73"/>
                    </a:lnTo>
                    <a:lnTo>
                      <a:pt x="465" y="68"/>
                    </a:lnTo>
                    <a:lnTo>
                      <a:pt x="462" y="65"/>
                    </a:lnTo>
                    <a:lnTo>
                      <a:pt x="459" y="61"/>
                    </a:lnTo>
                    <a:lnTo>
                      <a:pt x="454" y="60"/>
                    </a:lnTo>
                    <a:lnTo>
                      <a:pt x="446" y="8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33960" y="3908520"/>
                <a:ext cx="209520" cy="51120"/>
              </a:xfrm>
              <a:custGeom>
                <a:avLst/>
                <a:gdLst/>
                <a:ahLst/>
                <a:rect l="l" t="t" r="r" b="b"/>
                <a:pathLst>
                  <a:path w="662" h="160">
                    <a:moveTo>
                      <a:pt x="107" y="104"/>
                    </a:moveTo>
                    <a:lnTo>
                      <a:pt x="102" y="97"/>
                    </a:lnTo>
                    <a:lnTo>
                      <a:pt x="74" y="80"/>
                    </a:lnTo>
                    <a:lnTo>
                      <a:pt x="53" y="65"/>
                    </a:lnTo>
                    <a:lnTo>
                      <a:pt x="45" y="58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29" y="42"/>
                    </a:lnTo>
                    <a:lnTo>
                      <a:pt x="26" y="39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5" y="33"/>
                    </a:lnTo>
                    <a:lnTo>
                      <a:pt x="27" y="32"/>
                    </a:lnTo>
                    <a:lnTo>
                      <a:pt x="30" y="31"/>
                    </a:lnTo>
                    <a:lnTo>
                      <a:pt x="40" y="27"/>
                    </a:lnTo>
                    <a:lnTo>
                      <a:pt x="55" y="25"/>
                    </a:lnTo>
                    <a:lnTo>
                      <a:pt x="73" y="24"/>
                    </a:lnTo>
                    <a:lnTo>
                      <a:pt x="95" y="24"/>
                    </a:lnTo>
                    <a:lnTo>
                      <a:pt x="119" y="25"/>
                    </a:lnTo>
                    <a:lnTo>
                      <a:pt x="146" y="27"/>
                    </a:lnTo>
                    <a:lnTo>
                      <a:pt x="174" y="31"/>
                    </a:lnTo>
                    <a:lnTo>
                      <a:pt x="204" y="34"/>
                    </a:lnTo>
                    <a:lnTo>
                      <a:pt x="269" y="46"/>
                    </a:lnTo>
                    <a:lnTo>
                      <a:pt x="336" y="58"/>
                    </a:lnTo>
                    <a:lnTo>
                      <a:pt x="404" y="74"/>
                    </a:lnTo>
                    <a:lnTo>
                      <a:pt x="469" y="91"/>
                    </a:lnTo>
                    <a:lnTo>
                      <a:pt x="499" y="99"/>
                    </a:lnTo>
                    <a:lnTo>
                      <a:pt x="528" y="108"/>
                    </a:lnTo>
                    <a:lnTo>
                      <a:pt x="555" y="118"/>
                    </a:lnTo>
                    <a:lnTo>
                      <a:pt x="579" y="127"/>
                    </a:lnTo>
                    <a:lnTo>
                      <a:pt x="602" y="136"/>
                    </a:lnTo>
                    <a:lnTo>
                      <a:pt x="620" y="144"/>
                    </a:lnTo>
                    <a:lnTo>
                      <a:pt x="636" y="153"/>
                    </a:lnTo>
                    <a:lnTo>
                      <a:pt x="647" y="160"/>
                    </a:lnTo>
                    <a:lnTo>
                      <a:pt x="662" y="140"/>
                    </a:lnTo>
                    <a:lnTo>
                      <a:pt x="649" y="131"/>
                    </a:lnTo>
                    <a:lnTo>
                      <a:pt x="631" y="122"/>
                    </a:lnTo>
                    <a:lnTo>
                      <a:pt x="611" y="113"/>
                    </a:lnTo>
                    <a:lnTo>
                      <a:pt x="588" y="104"/>
                    </a:lnTo>
                    <a:lnTo>
                      <a:pt x="563" y="95"/>
                    </a:lnTo>
                    <a:lnTo>
                      <a:pt x="536" y="86"/>
                    </a:lnTo>
                    <a:lnTo>
                      <a:pt x="506" y="76"/>
                    </a:lnTo>
                    <a:lnTo>
                      <a:pt x="474" y="67"/>
                    </a:lnTo>
                    <a:lnTo>
                      <a:pt x="409" y="50"/>
                    </a:lnTo>
                    <a:lnTo>
                      <a:pt x="341" y="35"/>
                    </a:lnTo>
                    <a:lnTo>
                      <a:pt x="274" y="22"/>
                    </a:lnTo>
                    <a:lnTo>
                      <a:pt x="209" y="10"/>
                    </a:lnTo>
                    <a:lnTo>
                      <a:pt x="177" y="7"/>
                    </a:lnTo>
                    <a:lnTo>
                      <a:pt x="148" y="4"/>
                    </a:lnTo>
                    <a:lnTo>
                      <a:pt x="121" y="1"/>
                    </a:lnTo>
                    <a:lnTo>
                      <a:pt x="96" y="0"/>
                    </a:lnTo>
                    <a:lnTo>
                      <a:pt x="73" y="0"/>
                    </a:lnTo>
                    <a:lnTo>
                      <a:pt x="53" y="1"/>
                    </a:lnTo>
                    <a:lnTo>
                      <a:pt x="35" y="4"/>
                    </a:lnTo>
                    <a:lnTo>
                      <a:pt x="22" y="8"/>
                    </a:lnTo>
                    <a:lnTo>
                      <a:pt x="15" y="11"/>
                    </a:lnTo>
                    <a:lnTo>
                      <a:pt x="9" y="16"/>
                    </a:lnTo>
                    <a:lnTo>
                      <a:pt x="5" y="22"/>
                    </a:lnTo>
                    <a:lnTo>
                      <a:pt x="1" y="29"/>
                    </a:lnTo>
                    <a:lnTo>
                      <a:pt x="0" y="37"/>
                    </a:lnTo>
                    <a:lnTo>
                      <a:pt x="2" y="43"/>
                    </a:lnTo>
                    <a:lnTo>
                      <a:pt x="5" y="50"/>
                    </a:lnTo>
                    <a:lnTo>
                      <a:pt x="9" y="57"/>
                    </a:lnTo>
                    <a:lnTo>
                      <a:pt x="15" y="64"/>
                    </a:lnTo>
                    <a:lnTo>
                      <a:pt x="21" y="70"/>
                    </a:lnTo>
                    <a:lnTo>
                      <a:pt x="29" y="76"/>
                    </a:lnTo>
                    <a:lnTo>
                      <a:pt x="39" y="84"/>
                    </a:lnTo>
                    <a:lnTo>
                      <a:pt x="61" y="100"/>
                    </a:lnTo>
                    <a:lnTo>
                      <a:pt x="89" y="118"/>
                    </a:lnTo>
                    <a:lnTo>
                      <a:pt x="84" y="111"/>
                    </a:lnTo>
                    <a:lnTo>
                      <a:pt x="89" y="118"/>
                    </a:lnTo>
                    <a:lnTo>
                      <a:pt x="95" y="120"/>
                    </a:lnTo>
                    <a:lnTo>
                      <a:pt x="99" y="119"/>
                    </a:lnTo>
                    <a:lnTo>
                      <a:pt x="103" y="116"/>
                    </a:lnTo>
                    <a:lnTo>
                      <a:pt x="106" y="113"/>
                    </a:lnTo>
                    <a:lnTo>
                      <a:pt x="107" y="108"/>
                    </a:lnTo>
                    <a:lnTo>
                      <a:pt x="107" y="105"/>
                    </a:lnTo>
                    <a:lnTo>
                      <a:pt x="106" y="100"/>
                    </a:lnTo>
                    <a:lnTo>
                      <a:pt x="102" y="97"/>
                    </a:lnTo>
                    <a:lnTo>
                      <a:pt x="107" y="1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021280" y="3838680"/>
                <a:ext cx="264960" cy="136800"/>
              </a:xfrm>
              <a:custGeom>
                <a:avLst/>
                <a:gdLst/>
                <a:ahLst/>
                <a:rect l="l" t="t" r="r" b="b"/>
                <a:pathLst>
                  <a:path w="834" h="428">
                    <a:moveTo>
                      <a:pt x="486" y="428"/>
                    </a:moveTo>
                    <a:lnTo>
                      <a:pt x="446" y="428"/>
                    </a:lnTo>
                    <a:lnTo>
                      <a:pt x="405" y="428"/>
                    </a:lnTo>
                    <a:lnTo>
                      <a:pt x="364" y="427"/>
                    </a:lnTo>
                    <a:lnTo>
                      <a:pt x="323" y="424"/>
                    </a:lnTo>
                    <a:lnTo>
                      <a:pt x="282" y="420"/>
                    </a:lnTo>
                    <a:lnTo>
                      <a:pt x="241" y="414"/>
                    </a:lnTo>
                    <a:lnTo>
                      <a:pt x="221" y="411"/>
                    </a:lnTo>
                    <a:lnTo>
                      <a:pt x="202" y="406"/>
                    </a:lnTo>
                    <a:lnTo>
                      <a:pt x="184" y="400"/>
                    </a:lnTo>
                    <a:lnTo>
                      <a:pt x="165" y="395"/>
                    </a:lnTo>
                    <a:lnTo>
                      <a:pt x="148" y="388"/>
                    </a:lnTo>
                    <a:lnTo>
                      <a:pt x="131" y="381"/>
                    </a:lnTo>
                    <a:lnTo>
                      <a:pt x="115" y="373"/>
                    </a:lnTo>
                    <a:lnTo>
                      <a:pt x="99" y="363"/>
                    </a:lnTo>
                    <a:lnTo>
                      <a:pt x="84" y="352"/>
                    </a:lnTo>
                    <a:lnTo>
                      <a:pt x="71" y="341"/>
                    </a:lnTo>
                    <a:lnTo>
                      <a:pt x="58" y="330"/>
                    </a:lnTo>
                    <a:lnTo>
                      <a:pt x="47" y="316"/>
                    </a:lnTo>
                    <a:lnTo>
                      <a:pt x="37" y="301"/>
                    </a:lnTo>
                    <a:lnTo>
                      <a:pt x="27" y="285"/>
                    </a:lnTo>
                    <a:lnTo>
                      <a:pt x="19" y="268"/>
                    </a:lnTo>
                    <a:lnTo>
                      <a:pt x="13" y="250"/>
                    </a:lnTo>
                    <a:lnTo>
                      <a:pt x="7" y="229"/>
                    </a:lnTo>
                    <a:lnTo>
                      <a:pt x="3" y="209"/>
                    </a:lnTo>
                    <a:lnTo>
                      <a:pt x="1" y="186"/>
                    </a:lnTo>
                    <a:lnTo>
                      <a:pt x="0" y="161"/>
                    </a:lnTo>
                    <a:lnTo>
                      <a:pt x="47" y="193"/>
                    </a:lnTo>
                    <a:lnTo>
                      <a:pt x="96" y="226"/>
                    </a:lnTo>
                    <a:lnTo>
                      <a:pt x="147" y="261"/>
                    </a:lnTo>
                    <a:lnTo>
                      <a:pt x="201" y="294"/>
                    </a:lnTo>
                    <a:lnTo>
                      <a:pt x="227" y="309"/>
                    </a:lnTo>
                    <a:lnTo>
                      <a:pt x="254" y="324"/>
                    </a:lnTo>
                    <a:lnTo>
                      <a:pt x="280" y="337"/>
                    </a:lnTo>
                    <a:lnTo>
                      <a:pt x="308" y="348"/>
                    </a:lnTo>
                    <a:lnTo>
                      <a:pt x="334" y="357"/>
                    </a:lnTo>
                    <a:lnTo>
                      <a:pt x="360" y="364"/>
                    </a:lnTo>
                    <a:lnTo>
                      <a:pt x="373" y="366"/>
                    </a:lnTo>
                    <a:lnTo>
                      <a:pt x="385" y="368"/>
                    </a:lnTo>
                    <a:lnTo>
                      <a:pt x="398" y="370"/>
                    </a:lnTo>
                    <a:lnTo>
                      <a:pt x="410" y="370"/>
                    </a:lnTo>
                    <a:lnTo>
                      <a:pt x="407" y="352"/>
                    </a:lnTo>
                    <a:lnTo>
                      <a:pt x="402" y="335"/>
                    </a:lnTo>
                    <a:lnTo>
                      <a:pt x="398" y="318"/>
                    </a:lnTo>
                    <a:lnTo>
                      <a:pt x="392" y="300"/>
                    </a:lnTo>
                    <a:lnTo>
                      <a:pt x="381" y="265"/>
                    </a:lnTo>
                    <a:lnTo>
                      <a:pt x="367" y="227"/>
                    </a:lnTo>
                    <a:lnTo>
                      <a:pt x="356" y="189"/>
                    </a:lnTo>
                    <a:lnTo>
                      <a:pt x="345" y="151"/>
                    </a:lnTo>
                    <a:lnTo>
                      <a:pt x="342" y="131"/>
                    </a:lnTo>
                    <a:lnTo>
                      <a:pt x="339" y="112"/>
                    </a:lnTo>
                    <a:lnTo>
                      <a:pt x="336" y="93"/>
                    </a:lnTo>
                    <a:lnTo>
                      <a:pt x="336" y="73"/>
                    </a:lnTo>
                    <a:lnTo>
                      <a:pt x="350" y="73"/>
                    </a:lnTo>
                    <a:lnTo>
                      <a:pt x="362" y="74"/>
                    </a:lnTo>
                    <a:lnTo>
                      <a:pt x="375" y="75"/>
                    </a:lnTo>
                    <a:lnTo>
                      <a:pt x="388" y="78"/>
                    </a:lnTo>
                    <a:lnTo>
                      <a:pt x="399" y="80"/>
                    </a:lnTo>
                    <a:lnTo>
                      <a:pt x="409" y="83"/>
                    </a:lnTo>
                    <a:lnTo>
                      <a:pt x="419" y="88"/>
                    </a:lnTo>
                    <a:lnTo>
                      <a:pt x="429" y="91"/>
                    </a:lnTo>
                    <a:lnTo>
                      <a:pt x="438" y="97"/>
                    </a:lnTo>
                    <a:lnTo>
                      <a:pt x="447" y="102"/>
                    </a:lnTo>
                    <a:lnTo>
                      <a:pt x="455" y="107"/>
                    </a:lnTo>
                    <a:lnTo>
                      <a:pt x="463" y="114"/>
                    </a:lnTo>
                    <a:lnTo>
                      <a:pt x="470" y="121"/>
                    </a:lnTo>
                    <a:lnTo>
                      <a:pt x="476" y="128"/>
                    </a:lnTo>
                    <a:lnTo>
                      <a:pt x="482" y="136"/>
                    </a:lnTo>
                    <a:lnTo>
                      <a:pt x="488" y="144"/>
                    </a:lnTo>
                    <a:lnTo>
                      <a:pt x="498" y="161"/>
                    </a:lnTo>
                    <a:lnTo>
                      <a:pt x="507" y="180"/>
                    </a:lnTo>
                    <a:lnTo>
                      <a:pt x="514" y="202"/>
                    </a:lnTo>
                    <a:lnTo>
                      <a:pt x="520" y="224"/>
                    </a:lnTo>
                    <a:lnTo>
                      <a:pt x="523" y="248"/>
                    </a:lnTo>
                    <a:lnTo>
                      <a:pt x="527" y="273"/>
                    </a:lnTo>
                    <a:lnTo>
                      <a:pt x="528" y="299"/>
                    </a:lnTo>
                    <a:lnTo>
                      <a:pt x="529" y="326"/>
                    </a:lnTo>
                    <a:lnTo>
                      <a:pt x="823" y="0"/>
                    </a:lnTo>
                    <a:lnTo>
                      <a:pt x="830" y="34"/>
                    </a:lnTo>
                    <a:lnTo>
                      <a:pt x="833" y="65"/>
                    </a:lnTo>
                    <a:lnTo>
                      <a:pt x="834" y="95"/>
                    </a:lnTo>
                    <a:lnTo>
                      <a:pt x="833" y="123"/>
                    </a:lnTo>
                    <a:lnTo>
                      <a:pt x="829" y="148"/>
                    </a:lnTo>
                    <a:lnTo>
                      <a:pt x="823" y="173"/>
                    </a:lnTo>
                    <a:lnTo>
                      <a:pt x="815" y="195"/>
                    </a:lnTo>
                    <a:lnTo>
                      <a:pt x="805" y="217"/>
                    </a:lnTo>
                    <a:lnTo>
                      <a:pt x="793" y="236"/>
                    </a:lnTo>
                    <a:lnTo>
                      <a:pt x="780" y="254"/>
                    </a:lnTo>
                    <a:lnTo>
                      <a:pt x="766" y="270"/>
                    </a:lnTo>
                    <a:lnTo>
                      <a:pt x="750" y="286"/>
                    </a:lnTo>
                    <a:lnTo>
                      <a:pt x="734" y="300"/>
                    </a:lnTo>
                    <a:lnTo>
                      <a:pt x="717" y="314"/>
                    </a:lnTo>
                    <a:lnTo>
                      <a:pt x="699" y="325"/>
                    </a:lnTo>
                    <a:lnTo>
                      <a:pt x="680" y="335"/>
                    </a:lnTo>
                    <a:lnTo>
                      <a:pt x="662" y="346"/>
                    </a:lnTo>
                    <a:lnTo>
                      <a:pt x="644" y="355"/>
                    </a:lnTo>
                    <a:lnTo>
                      <a:pt x="626" y="363"/>
                    </a:lnTo>
                    <a:lnTo>
                      <a:pt x="607" y="371"/>
                    </a:lnTo>
                    <a:lnTo>
                      <a:pt x="573" y="383"/>
                    </a:lnTo>
                    <a:lnTo>
                      <a:pt x="543" y="395"/>
                    </a:lnTo>
                    <a:lnTo>
                      <a:pt x="517" y="404"/>
                    </a:lnTo>
                    <a:lnTo>
                      <a:pt x="498" y="412"/>
                    </a:lnTo>
                    <a:lnTo>
                      <a:pt x="491" y="416"/>
                    </a:lnTo>
                    <a:lnTo>
                      <a:pt x="487" y="420"/>
                    </a:lnTo>
                    <a:lnTo>
                      <a:pt x="484" y="424"/>
                    </a:lnTo>
                    <a:lnTo>
                      <a:pt x="486" y="428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018040" y="3886560"/>
                <a:ext cx="157320" cy="91800"/>
              </a:xfrm>
              <a:custGeom>
                <a:avLst/>
                <a:gdLst/>
                <a:ahLst/>
                <a:rect l="l" t="t" r="r" b="b"/>
                <a:pathLst>
                  <a:path w="498" h="290">
                    <a:moveTo>
                      <a:pt x="19" y="2"/>
                    </a:moveTo>
                    <a:lnTo>
                      <a:pt x="0" y="11"/>
                    </a:lnTo>
                    <a:lnTo>
                      <a:pt x="1" y="36"/>
                    </a:lnTo>
                    <a:lnTo>
                      <a:pt x="3" y="60"/>
                    </a:lnTo>
                    <a:lnTo>
                      <a:pt x="7" y="83"/>
                    </a:lnTo>
                    <a:lnTo>
                      <a:pt x="13" y="103"/>
                    </a:lnTo>
                    <a:lnTo>
                      <a:pt x="20" y="123"/>
                    </a:lnTo>
                    <a:lnTo>
                      <a:pt x="28" y="141"/>
                    </a:lnTo>
                    <a:lnTo>
                      <a:pt x="38" y="158"/>
                    </a:lnTo>
                    <a:lnTo>
                      <a:pt x="50" y="173"/>
                    </a:lnTo>
                    <a:lnTo>
                      <a:pt x="62" y="188"/>
                    </a:lnTo>
                    <a:lnTo>
                      <a:pt x="75" y="200"/>
                    </a:lnTo>
                    <a:lnTo>
                      <a:pt x="90" y="213"/>
                    </a:lnTo>
                    <a:lnTo>
                      <a:pt x="104" y="223"/>
                    </a:lnTo>
                    <a:lnTo>
                      <a:pt x="120" y="233"/>
                    </a:lnTo>
                    <a:lnTo>
                      <a:pt x="137" y="241"/>
                    </a:lnTo>
                    <a:lnTo>
                      <a:pt x="156" y="249"/>
                    </a:lnTo>
                    <a:lnTo>
                      <a:pt x="174" y="256"/>
                    </a:lnTo>
                    <a:lnTo>
                      <a:pt x="192" y="263"/>
                    </a:lnTo>
                    <a:lnTo>
                      <a:pt x="211" y="267"/>
                    </a:lnTo>
                    <a:lnTo>
                      <a:pt x="231" y="272"/>
                    </a:lnTo>
                    <a:lnTo>
                      <a:pt x="251" y="277"/>
                    </a:lnTo>
                    <a:lnTo>
                      <a:pt x="292" y="282"/>
                    </a:lnTo>
                    <a:lnTo>
                      <a:pt x="333" y="286"/>
                    </a:lnTo>
                    <a:lnTo>
                      <a:pt x="376" y="289"/>
                    </a:lnTo>
                    <a:lnTo>
                      <a:pt x="417" y="290"/>
                    </a:lnTo>
                    <a:lnTo>
                      <a:pt x="458" y="290"/>
                    </a:lnTo>
                    <a:lnTo>
                      <a:pt x="498" y="290"/>
                    </a:lnTo>
                    <a:lnTo>
                      <a:pt x="498" y="266"/>
                    </a:lnTo>
                    <a:lnTo>
                      <a:pt x="458" y="266"/>
                    </a:lnTo>
                    <a:lnTo>
                      <a:pt x="418" y="265"/>
                    </a:lnTo>
                    <a:lnTo>
                      <a:pt x="377" y="264"/>
                    </a:lnTo>
                    <a:lnTo>
                      <a:pt x="336" y="262"/>
                    </a:lnTo>
                    <a:lnTo>
                      <a:pt x="295" y="258"/>
                    </a:lnTo>
                    <a:lnTo>
                      <a:pt x="255" y="253"/>
                    </a:lnTo>
                    <a:lnTo>
                      <a:pt x="235" y="248"/>
                    </a:lnTo>
                    <a:lnTo>
                      <a:pt x="217" y="245"/>
                    </a:lnTo>
                    <a:lnTo>
                      <a:pt x="199" y="239"/>
                    </a:lnTo>
                    <a:lnTo>
                      <a:pt x="182" y="233"/>
                    </a:lnTo>
                    <a:lnTo>
                      <a:pt x="165" y="228"/>
                    </a:lnTo>
                    <a:lnTo>
                      <a:pt x="148" y="220"/>
                    </a:lnTo>
                    <a:lnTo>
                      <a:pt x="133" y="212"/>
                    </a:lnTo>
                    <a:lnTo>
                      <a:pt x="118" y="202"/>
                    </a:lnTo>
                    <a:lnTo>
                      <a:pt x="104" y="193"/>
                    </a:lnTo>
                    <a:lnTo>
                      <a:pt x="91" y="183"/>
                    </a:lnTo>
                    <a:lnTo>
                      <a:pt x="79" y="171"/>
                    </a:lnTo>
                    <a:lnTo>
                      <a:pt x="69" y="158"/>
                    </a:lnTo>
                    <a:lnTo>
                      <a:pt x="59" y="144"/>
                    </a:lnTo>
                    <a:lnTo>
                      <a:pt x="50" y="130"/>
                    </a:lnTo>
                    <a:lnTo>
                      <a:pt x="43" y="114"/>
                    </a:lnTo>
                    <a:lnTo>
                      <a:pt x="36" y="96"/>
                    </a:lnTo>
                    <a:lnTo>
                      <a:pt x="31" y="77"/>
                    </a:lnTo>
                    <a:lnTo>
                      <a:pt x="27" y="57"/>
                    </a:lnTo>
                    <a:lnTo>
                      <a:pt x="25" y="35"/>
                    </a:lnTo>
                    <a:lnTo>
                      <a:pt x="25" y="11"/>
                    </a:lnTo>
                    <a:lnTo>
                      <a:pt x="5" y="21"/>
                    </a:lnTo>
                    <a:lnTo>
                      <a:pt x="25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1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019840" y="3888000"/>
                <a:ext cx="136440" cy="71640"/>
              </a:xfrm>
              <a:custGeom>
                <a:avLst/>
                <a:gdLst/>
                <a:ahLst/>
                <a:rect l="l" t="t" r="r" b="b"/>
                <a:pathLst>
                  <a:path w="430" h="229">
                    <a:moveTo>
                      <a:pt x="406" y="220"/>
                    </a:moveTo>
                    <a:lnTo>
                      <a:pt x="417" y="205"/>
                    </a:lnTo>
                    <a:lnTo>
                      <a:pt x="406" y="205"/>
                    </a:lnTo>
                    <a:lnTo>
                      <a:pt x="393" y="204"/>
                    </a:lnTo>
                    <a:lnTo>
                      <a:pt x="382" y="202"/>
                    </a:lnTo>
                    <a:lnTo>
                      <a:pt x="369" y="199"/>
                    </a:lnTo>
                    <a:lnTo>
                      <a:pt x="344" y="194"/>
                    </a:lnTo>
                    <a:lnTo>
                      <a:pt x="319" y="185"/>
                    </a:lnTo>
                    <a:lnTo>
                      <a:pt x="293" y="173"/>
                    </a:lnTo>
                    <a:lnTo>
                      <a:pt x="267" y="161"/>
                    </a:lnTo>
                    <a:lnTo>
                      <a:pt x="240" y="147"/>
                    </a:lnTo>
                    <a:lnTo>
                      <a:pt x="213" y="132"/>
                    </a:lnTo>
                    <a:lnTo>
                      <a:pt x="161" y="99"/>
                    </a:lnTo>
                    <a:lnTo>
                      <a:pt x="110" y="64"/>
                    </a:lnTo>
                    <a:lnTo>
                      <a:pt x="59" y="31"/>
                    </a:lnTo>
                    <a:lnTo>
                      <a:pt x="14" y="0"/>
                    </a:lnTo>
                    <a:lnTo>
                      <a:pt x="0" y="19"/>
                    </a:lnTo>
                    <a:lnTo>
                      <a:pt x="47" y="50"/>
                    </a:lnTo>
                    <a:lnTo>
                      <a:pt x="96" y="84"/>
                    </a:lnTo>
                    <a:lnTo>
                      <a:pt x="147" y="118"/>
                    </a:lnTo>
                    <a:lnTo>
                      <a:pt x="201" y="153"/>
                    </a:lnTo>
                    <a:lnTo>
                      <a:pt x="228" y="169"/>
                    </a:lnTo>
                    <a:lnTo>
                      <a:pt x="255" y="182"/>
                    </a:lnTo>
                    <a:lnTo>
                      <a:pt x="283" y="196"/>
                    </a:lnTo>
                    <a:lnTo>
                      <a:pt x="310" y="207"/>
                    </a:lnTo>
                    <a:lnTo>
                      <a:pt x="338" y="216"/>
                    </a:lnTo>
                    <a:lnTo>
                      <a:pt x="364" y="223"/>
                    </a:lnTo>
                    <a:lnTo>
                      <a:pt x="377" y="226"/>
                    </a:lnTo>
                    <a:lnTo>
                      <a:pt x="391" y="228"/>
                    </a:lnTo>
                    <a:lnTo>
                      <a:pt x="405" y="229"/>
                    </a:lnTo>
                    <a:lnTo>
                      <a:pt x="417" y="229"/>
                    </a:lnTo>
                    <a:lnTo>
                      <a:pt x="430" y="215"/>
                    </a:lnTo>
                    <a:lnTo>
                      <a:pt x="417" y="229"/>
                    </a:lnTo>
                    <a:lnTo>
                      <a:pt x="423" y="229"/>
                    </a:lnTo>
                    <a:lnTo>
                      <a:pt x="426" y="226"/>
                    </a:lnTo>
                    <a:lnTo>
                      <a:pt x="429" y="222"/>
                    </a:lnTo>
                    <a:lnTo>
                      <a:pt x="430" y="218"/>
                    </a:lnTo>
                    <a:lnTo>
                      <a:pt x="429" y="213"/>
                    </a:lnTo>
                    <a:lnTo>
                      <a:pt x="426" y="210"/>
                    </a:lnTo>
                    <a:lnTo>
                      <a:pt x="423" y="206"/>
                    </a:lnTo>
                    <a:lnTo>
                      <a:pt x="417" y="205"/>
                    </a:lnTo>
                    <a:lnTo>
                      <a:pt x="406" y="2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24600" y="385776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12" y="0"/>
                    </a:moveTo>
                    <a:lnTo>
                      <a:pt x="0" y="12"/>
                    </a:lnTo>
                    <a:lnTo>
                      <a:pt x="1" y="33"/>
                    </a:lnTo>
                    <a:lnTo>
                      <a:pt x="3" y="52"/>
                    </a:lnTo>
                    <a:lnTo>
                      <a:pt x="5" y="73"/>
                    </a:lnTo>
                    <a:lnTo>
                      <a:pt x="10" y="93"/>
                    </a:lnTo>
                    <a:lnTo>
                      <a:pt x="20" y="132"/>
                    </a:lnTo>
                    <a:lnTo>
                      <a:pt x="32" y="169"/>
                    </a:lnTo>
                    <a:lnTo>
                      <a:pt x="44" y="207"/>
                    </a:lnTo>
                    <a:lnTo>
                      <a:pt x="57" y="244"/>
                    </a:lnTo>
                    <a:lnTo>
                      <a:pt x="62" y="261"/>
                    </a:lnTo>
                    <a:lnTo>
                      <a:pt x="67" y="278"/>
                    </a:lnTo>
                    <a:lnTo>
                      <a:pt x="72" y="294"/>
                    </a:lnTo>
                    <a:lnTo>
                      <a:pt x="75" y="311"/>
                    </a:lnTo>
                    <a:lnTo>
                      <a:pt x="99" y="306"/>
                    </a:lnTo>
                    <a:lnTo>
                      <a:pt x="95" y="289"/>
                    </a:lnTo>
                    <a:lnTo>
                      <a:pt x="91" y="271"/>
                    </a:lnTo>
                    <a:lnTo>
                      <a:pt x="85" y="254"/>
                    </a:lnTo>
                    <a:lnTo>
                      <a:pt x="79" y="236"/>
                    </a:lnTo>
                    <a:lnTo>
                      <a:pt x="68" y="199"/>
                    </a:lnTo>
                    <a:lnTo>
                      <a:pt x="56" y="163"/>
                    </a:lnTo>
                    <a:lnTo>
                      <a:pt x="43" y="125"/>
                    </a:lnTo>
                    <a:lnTo>
                      <a:pt x="33" y="87"/>
                    </a:lnTo>
                    <a:lnTo>
                      <a:pt x="29" y="68"/>
                    </a:lnTo>
                    <a:lnTo>
                      <a:pt x="27" y="50"/>
                    </a:lnTo>
                    <a:lnTo>
                      <a:pt x="25" y="30"/>
                    </a:lnTo>
                    <a:lnTo>
                      <a:pt x="25" y="12"/>
                    </a:lnTo>
                    <a:lnTo>
                      <a:pt x="12" y="25"/>
                    </a:lnTo>
                    <a:lnTo>
                      <a:pt x="25" y="12"/>
                    </a:lnTo>
                    <a:lnTo>
                      <a:pt x="24" y="6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4" y="3"/>
                    </a:lnTo>
                    <a:lnTo>
                      <a:pt x="1" y="6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27480" y="3857760"/>
                <a:ext cx="65160" cy="88920"/>
              </a:xfrm>
              <a:custGeom>
                <a:avLst/>
                <a:gdLst/>
                <a:ahLst/>
                <a:rect l="l" t="t" r="r" b="b"/>
                <a:pathLst>
                  <a:path w="204" h="277">
                    <a:moveTo>
                      <a:pt x="184" y="257"/>
                    </a:moveTo>
                    <a:lnTo>
                      <a:pt x="204" y="265"/>
                    </a:lnTo>
                    <a:lnTo>
                      <a:pt x="204" y="237"/>
                    </a:lnTo>
                    <a:lnTo>
                      <a:pt x="202" y="211"/>
                    </a:lnTo>
                    <a:lnTo>
                      <a:pt x="200" y="184"/>
                    </a:lnTo>
                    <a:lnTo>
                      <a:pt x="195" y="160"/>
                    </a:lnTo>
                    <a:lnTo>
                      <a:pt x="189" y="138"/>
                    </a:lnTo>
                    <a:lnTo>
                      <a:pt x="183" y="115"/>
                    </a:lnTo>
                    <a:lnTo>
                      <a:pt x="173" y="95"/>
                    </a:lnTo>
                    <a:lnTo>
                      <a:pt x="162" y="76"/>
                    </a:lnTo>
                    <a:lnTo>
                      <a:pt x="156" y="67"/>
                    </a:lnTo>
                    <a:lnTo>
                      <a:pt x="150" y="59"/>
                    </a:lnTo>
                    <a:lnTo>
                      <a:pt x="142" y="51"/>
                    </a:lnTo>
                    <a:lnTo>
                      <a:pt x="135" y="44"/>
                    </a:lnTo>
                    <a:lnTo>
                      <a:pt x="126" y="37"/>
                    </a:lnTo>
                    <a:lnTo>
                      <a:pt x="118" y="30"/>
                    </a:lnTo>
                    <a:lnTo>
                      <a:pt x="109" y="25"/>
                    </a:lnTo>
                    <a:lnTo>
                      <a:pt x="98" y="20"/>
                    </a:lnTo>
                    <a:lnTo>
                      <a:pt x="88" y="16"/>
                    </a:lnTo>
                    <a:lnTo>
                      <a:pt x="77" y="11"/>
                    </a:lnTo>
                    <a:lnTo>
                      <a:pt x="65" y="8"/>
                    </a:lnTo>
                    <a:lnTo>
                      <a:pt x="54" y="5"/>
                    </a:lnTo>
                    <a:lnTo>
                      <a:pt x="41" y="3"/>
                    </a:lnTo>
                    <a:lnTo>
                      <a:pt x="28" y="2"/>
                    </a:lnTo>
                    <a:lnTo>
                      <a:pt x="14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25" y="26"/>
                    </a:lnTo>
                    <a:lnTo>
                      <a:pt x="38" y="27"/>
                    </a:lnTo>
                    <a:lnTo>
                      <a:pt x="49" y="29"/>
                    </a:lnTo>
                    <a:lnTo>
                      <a:pt x="60" y="32"/>
                    </a:lnTo>
                    <a:lnTo>
                      <a:pt x="70" y="34"/>
                    </a:lnTo>
                    <a:lnTo>
                      <a:pt x="79" y="37"/>
                    </a:lnTo>
                    <a:lnTo>
                      <a:pt x="88" y="42"/>
                    </a:lnTo>
                    <a:lnTo>
                      <a:pt x="96" y="46"/>
                    </a:lnTo>
                    <a:lnTo>
                      <a:pt x="104" y="51"/>
                    </a:lnTo>
                    <a:lnTo>
                      <a:pt x="112" y="57"/>
                    </a:lnTo>
                    <a:lnTo>
                      <a:pt x="119" y="62"/>
                    </a:lnTo>
                    <a:lnTo>
                      <a:pt x="124" y="68"/>
                    </a:lnTo>
                    <a:lnTo>
                      <a:pt x="131" y="75"/>
                    </a:lnTo>
                    <a:lnTo>
                      <a:pt x="137" y="82"/>
                    </a:lnTo>
                    <a:lnTo>
                      <a:pt x="142" y="89"/>
                    </a:lnTo>
                    <a:lnTo>
                      <a:pt x="152" y="106"/>
                    </a:lnTo>
                    <a:lnTo>
                      <a:pt x="160" y="124"/>
                    </a:lnTo>
                    <a:lnTo>
                      <a:pt x="167" y="143"/>
                    </a:lnTo>
                    <a:lnTo>
                      <a:pt x="171" y="165"/>
                    </a:lnTo>
                    <a:lnTo>
                      <a:pt x="176" y="188"/>
                    </a:lnTo>
                    <a:lnTo>
                      <a:pt x="178" y="213"/>
                    </a:lnTo>
                    <a:lnTo>
                      <a:pt x="180" y="238"/>
                    </a:lnTo>
                    <a:lnTo>
                      <a:pt x="180" y="265"/>
                    </a:lnTo>
                    <a:lnTo>
                      <a:pt x="201" y="273"/>
                    </a:lnTo>
                    <a:lnTo>
                      <a:pt x="180" y="265"/>
                    </a:lnTo>
                    <a:lnTo>
                      <a:pt x="181" y="271"/>
                    </a:lnTo>
                    <a:lnTo>
                      <a:pt x="184" y="274"/>
                    </a:lnTo>
                    <a:lnTo>
                      <a:pt x="188" y="277"/>
                    </a:lnTo>
                    <a:lnTo>
                      <a:pt x="193" y="277"/>
                    </a:lnTo>
                    <a:lnTo>
                      <a:pt x="196" y="277"/>
                    </a:lnTo>
                    <a:lnTo>
                      <a:pt x="201" y="274"/>
                    </a:lnTo>
                    <a:lnTo>
                      <a:pt x="203" y="271"/>
                    </a:lnTo>
                    <a:lnTo>
                      <a:pt x="204" y="265"/>
                    </a:lnTo>
                    <a:lnTo>
                      <a:pt x="184" y="2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186520" y="3837240"/>
                <a:ext cx="99720" cy="108000"/>
              </a:xfrm>
              <a:custGeom>
                <a:avLst/>
                <a:gdLst/>
                <a:ahLst/>
                <a:rect l="l" t="t" r="r" b="b"/>
                <a:pathLst>
                  <a:path w="314" h="342">
                    <a:moveTo>
                      <a:pt x="314" y="6"/>
                    </a:moveTo>
                    <a:lnTo>
                      <a:pt x="294" y="0"/>
                    </a:lnTo>
                    <a:lnTo>
                      <a:pt x="0" y="326"/>
                    </a:lnTo>
                    <a:lnTo>
                      <a:pt x="17" y="342"/>
                    </a:lnTo>
                    <a:lnTo>
                      <a:pt x="312" y="16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172120" y="383868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374" h="442">
                    <a:moveTo>
                      <a:pt x="13" y="442"/>
                    </a:moveTo>
                    <a:lnTo>
                      <a:pt x="23" y="426"/>
                    </a:lnTo>
                    <a:lnTo>
                      <a:pt x="24" y="427"/>
                    </a:lnTo>
                    <a:lnTo>
                      <a:pt x="24" y="429"/>
                    </a:lnTo>
                    <a:lnTo>
                      <a:pt x="23" y="430"/>
                    </a:lnTo>
                    <a:lnTo>
                      <a:pt x="23" y="431"/>
                    </a:lnTo>
                    <a:lnTo>
                      <a:pt x="25" y="427"/>
                    </a:lnTo>
                    <a:lnTo>
                      <a:pt x="31" y="425"/>
                    </a:lnTo>
                    <a:lnTo>
                      <a:pt x="49" y="417"/>
                    </a:lnTo>
                    <a:lnTo>
                      <a:pt x="74" y="408"/>
                    </a:lnTo>
                    <a:lnTo>
                      <a:pt x="105" y="397"/>
                    </a:lnTo>
                    <a:lnTo>
                      <a:pt x="139" y="384"/>
                    </a:lnTo>
                    <a:lnTo>
                      <a:pt x="157" y="376"/>
                    </a:lnTo>
                    <a:lnTo>
                      <a:pt x="176" y="368"/>
                    </a:lnTo>
                    <a:lnTo>
                      <a:pt x="195" y="359"/>
                    </a:lnTo>
                    <a:lnTo>
                      <a:pt x="213" y="349"/>
                    </a:lnTo>
                    <a:lnTo>
                      <a:pt x="233" y="337"/>
                    </a:lnTo>
                    <a:lnTo>
                      <a:pt x="251" y="325"/>
                    </a:lnTo>
                    <a:lnTo>
                      <a:pt x="268" y="311"/>
                    </a:lnTo>
                    <a:lnTo>
                      <a:pt x="285" y="297"/>
                    </a:lnTo>
                    <a:lnTo>
                      <a:pt x="302" y="282"/>
                    </a:lnTo>
                    <a:lnTo>
                      <a:pt x="317" y="263"/>
                    </a:lnTo>
                    <a:lnTo>
                      <a:pt x="331" y="245"/>
                    </a:lnTo>
                    <a:lnTo>
                      <a:pt x="342" y="225"/>
                    </a:lnTo>
                    <a:lnTo>
                      <a:pt x="348" y="213"/>
                    </a:lnTo>
                    <a:lnTo>
                      <a:pt x="353" y="203"/>
                    </a:lnTo>
                    <a:lnTo>
                      <a:pt x="358" y="190"/>
                    </a:lnTo>
                    <a:lnTo>
                      <a:pt x="361" y="179"/>
                    </a:lnTo>
                    <a:lnTo>
                      <a:pt x="365" y="166"/>
                    </a:lnTo>
                    <a:lnTo>
                      <a:pt x="368" y="153"/>
                    </a:lnTo>
                    <a:lnTo>
                      <a:pt x="370" y="140"/>
                    </a:lnTo>
                    <a:lnTo>
                      <a:pt x="372" y="126"/>
                    </a:lnTo>
                    <a:lnTo>
                      <a:pt x="373" y="112"/>
                    </a:lnTo>
                    <a:lnTo>
                      <a:pt x="374" y="97"/>
                    </a:lnTo>
                    <a:lnTo>
                      <a:pt x="374" y="82"/>
                    </a:lnTo>
                    <a:lnTo>
                      <a:pt x="373" y="66"/>
                    </a:lnTo>
                    <a:lnTo>
                      <a:pt x="370" y="50"/>
                    </a:lnTo>
                    <a:lnTo>
                      <a:pt x="368" y="34"/>
                    </a:lnTo>
                    <a:lnTo>
                      <a:pt x="366" y="17"/>
                    </a:lnTo>
                    <a:lnTo>
                      <a:pt x="361" y="0"/>
                    </a:lnTo>
                    <a:lnTo>
                      <a:pt x="338" y="6"/>
                    </a:lnTo>
                    <a:lnTo>
                      <a:pt x="342" y="22"/>
                    </a:lnTo>
                    <a:lnTo>
                      <a:pt x="344" y="38"/>
                    </a:lnTo>
                    <a:lnTo>
                      <a:pt x="346" y="54"/>
                    </a:lnTo>
                    <a:lnTo>
                      <a:pt x="349" y="68"/>
                    </a:lnTo>
                    <a:lnTo>
                      <a:pt x="349" y="83"/>
                    </a:lnTo>
                    <a:lnTo>
                      <a:pt x="349" y="97"/>
                    </a:lnTo>
                    <a:lnTo>
                      <a:pt x="349" y="111"/>
                    </a:lnTo>
                    <a:lnTo>
                      <a:pt x="348" y="124"/>
                    </a:lnTo>
                    <a:lnTo>
                      <a:pt x="346" y="137"/>
                    </a:lnTo>
                    <a:lnTo>
                      <a:pt x="344" y="148"/>
                    </a:lnTo>
                    <a:lnTo>
                      <a:pt x="342" y="161"/>
                    </a:lnTo>
                    <a:lnTo>
                      <a:pt x="338" y="172"/>
                    </a:lnTo>
                    <a:lnTo>
                      <a:pt x="335" y="182"/>
                    </a:lnTo>
                    <a:lnTo>
                      <a:pt x="331" y="193"/>
                    </a:lnTo>
                    <a:lnTo>
                      <a:pt x="326" y="203"/>
                    </a:lnTo>
                    <a:lnTo>
                      <a:pt x="321" y="213"/>
                    </a:lnTo>
                    <a:lnTo>
                      <a:pt x="310" y="231"/>
                    </a:lnTo>
                    <a:lnTo>
                      <a:pt x="297" y="248"/>
                    </a:lnTo>
                    <a:lnTo>
                      <a:pt x="284" y="264"/>
                    </a:lnTo>
                    <a:lnTo>
                      <a:pt x="269" y="279"/>
                    </a:lnTo>
                    <a:lnTo>
                      <a:pt x="253" y="293"/>
                    </a:lnTo>
                    <a:lnTo>
                      <a:pt x="236" y="305"/>
                    </a:lnTo>
                    <a:lnTo>
                      <a:pt x="219" y="317"/>
                    </a:lnTo>
                    <a:lnTo>
                      <a:pt x="202" y="327"/>
                    </a:lnTo>
                    <a:lnTo>
                      <a:pt x="183" y="337"/>
                    </a:lnTo>
                    <a:lnTo>
                      <a:pt x="165" y="345"/>
                    </a:lnTo>
                    <a:lnTo>
                      <a:pt x="148" y="353"/>
                    </a:lnTo>
                    <a:lnTo>
                      <a:pt x="130" y="361"/>
                    </a:lnTo>
                    <a:lnTo>
                      <a:pt x="97" y="374"/>
                    </a:lnTo>
                    <a:lnTo>
                      <a:pt x="66" y="385"/>
                    </a:lnTo>
                    <a:lnTo>
                      <a:pt x="40" y="394"/>
                    </a:lnTo>
                    <a:lnTo>
                      <a:pt x="21" y="403"/>
                    </a:lnTo>
                    <a:lnTo>
                      <a:pt x="11" y="408"/>
                    </a:lnTo>
                    <a:lnTo>
                      <a:pt x="6" y="414"/>
                    </a:lnTo>
                    <a:lnTo>
                      <a:pt x="2" y="418"/>
                    </a:lnTo>
                    <a:lnTo>
                      <a:pt x="0" y="423"/>
                    </a:lnTo>
                    <a:lnTo>
                      <a:pt x="0" y="429"/>
                    </a:lnTo>
                    <a:lnTo>
                      <a:pt x="1" y="434"/>
                    </a:lnTo>
                    <a:lnTo>
                      <a:pt x="13" y="418"/>
                    </a:lnTo>
                    <a:lnTo>
                      <a:pt x="1" y="434"/>
                    </a:lnTo>
                    <a:lnTo>
                      <a:pt x="3" y="439"/>
                    </a:lnTo>
                    <a:lnTo>
                      <a:pt x="8" y="442"/>
                    </a:lnTo>
                    <a:lnTo>
                      <a:pt x="11" y="442"/>
                    </a:lnTo>
                    <a:lnTo>
                      <a:pt x="16" y="441"/>
                    </a:lnTo>
                    <a:lnTo>
                      <a:pt x="21" y="439"/>
                    </a:lnTo>
                    <a:lnTo>
                      <a:pt x="23" y="435"/>
                    </a:lnTo>
                    <a:lnTo>
                      <a:pt x="24" y="431"/>
                    </a:lnTo>
                    <a:lnTo>
                      <a:pt x="23" y="426"/>
                    </a:lnTo>
                    <a:lnTo>
                      <a:pt x="13" y="4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148440" y="4051440"/>
                <a:ext cx="312840" cy="289080"/>
              </a:xfrm>
              <a:custGeom>
                <a:avLst/>
                <a:gdLst/>
                <a:ahLst/>
                <a:rect l="l" t="t" r="r" b="b"/>
                <a:pathLst>
                  <a:path w="982" h="909">
                    <a:moveTo>
                      <a:pt x="677" y="503"/>
                    </a:moveTo>
                    <a:lnTo>
                      <a:pt x="673" y="475"/>
                    </a:lnTo>
                    <a:lnTo>
                      <a:pt x="671" y="444"/>
                    </a:lnTo>
                    <a:lnTo>
                      <a:pt x="671" y="414"/>
                    </a:lnTo>
                    <a:lnTo>
                      <a:pt x="671" y="383"/>
                    </a:lnTo>
                    <a:lnTo>
                      <a:pt x="674" y="319"/>
                    </a:lnTo>
                    <a:lnTo>
                      <a:pt x="677" y="255"/>
                    </a:lnTo>
                    <a:lnTo>
                      <a:pt x="679" y="222"/>
                    </a:lnTo>
                    <a:lnTo>
                      <a:pt x="679" y="190"/>
                    </a:lnTo>
                    <a:lnTo>
                      <a:pt x="676" y="157"/>
                    </a:lnTo>
                    <a:lnTo>
                      <a:pt x="672" y="125"/>
                    </a:lnTo>
                    <a:lnTo>
                      <a:pt x="668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6"/>
                    </a:lnTo>
                    <a:lnTo>
                      <a:pt x="642" y="30"/>
                    </a:lnTo>
                    <a:lnTo>
                      <a:pt x="634" y="15"/>
                    </a:lnTo>
                    <a:lnTo>
                      <a:pt x="625" y="0"/>
                    </a:lnTo>
                    <a:lnTo>
                      <a:pt x="614" y="8"/>
                    </a:lnTo>
                    <a:lnTo>
                      <a:pt x="602" y="17"/>
                    </a:lnTo>
                    <a:lnTo>
                      <a:pt x="591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8" y="62"/>
                    </a:lnTo>
                    <a:lnTo>
                      <a:pt x="546" y="76"/>
                    </a:lnTo>
                    <a:lnTo>
                      <a:pt x="537" y="90"/>
                    </a:lnTo>
                    <a:lnTo>
                      <a:pt x="527" y="104"/>
                    </a:lnTo>
                    <a:lnTo>
                      <a:pt x="518" y="120"/>
                    </a:lnTo>
                    <a:lnTo>
                      <a:pt x="509" y="136"/>
                    </a:lnTo>
                    <a:lnTo>
                      <a:pt x="500" y="153"/>
                    </a:lnTo>
                    <a:lnTo>
                      <a:pt x="492" y="171"/>
                    </a:lnTo>
                    <a:lnTo>
                      <a:pt x="485" y="188"/>
                    </a:lnTo>
                    <a:lnTo>
                      <a:pt x="478" y="205"/>
                    </a:lnTo>
                    <a:lnTo>
                      <a:pt x="471" y="223"/>
                    </a:lnTo>
                    <a:lnTo>
                      <a:pt x="465" y="241"/>
                    </a:lnTo>
                    <a:lnTo>
                      <a:pt x="461" y="259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49" y="313"/>
                    </a:lnTo>
                    <a:lnTo>
                      <a:pt x="448" y="331"/>
                    </a:lnTo>
                    <a:lnTo>
                      <a:pt x="446" y="350"/>
                    </a:lnTo>
                    <a:lnTo>
                      <a:pt x="446" y="367"/>
                    </a:lnTo>
                    <a:lnTo>
                      <a:pt x="446" y="384"/>
                    </a:lnTo>
                    <a:lnTo>
                      <a:pt x="447" y="401"/>
                    </a:lnTo>
                    <a:lnTo>
                      <a:pt x="449" y="417"/>
                    </a:lnTo>
                    <a:lnTo>
                      <a:pt x="453" y="433"/>
                    </a:lnTo>
                    <a:lnTo>
                      <a:pt x="457" y="449"/>
                    </a:lnTo>
                    <a:lnTo>
                      <a:pt x="463" y="462"/>
                    </a:lnTo>
                    <a:lnTo>
                      <a:pt x="469" y="477"/>
                    </a:lnTo>
                    <a:lnTo>
                      <a:pt x="477" y="490"/>
                    </a:lnTo>
                    <a:lnTo>
                      <a:pt x="465" y="474"/>
                    </a:lnTo>
                    <a:lnTo>
                      <a:pt x="455" y="459"/>
                    </a:lnTo>
                    <a:lnTo>
                      <a:pt x="444" y="445"/>
                    </a:lnTo>
                    <a:lnTo>
                      <a:pt x="431" y="433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4" y="399"/>
                    </a:lnTo>
                    <a:lnTo>
                      <a:pt x="380" y="388"/>
                    </a:lnTo>
                    <a:lnTo>
                      <a:pt x="366" y="380"/>
                    </a:lnTo>
                    <a:lnTo>
                      <a:pt x="353" y="372"/>
                    </a:lnTo>
                    <a:lnTo>
                      <a:pt x="339" y="364"/>
                    </a:lnTo>
                    <a:lnTo>
                      <a:pt x="324" y="357"/>
                    </a:lnTo>
                    <a:lnTo>
                      <a:pt x="309" y="352"/>
                    </a:lnTo>
                    <a:lnTo>
                      <a:pt x="293" y="347"/>
                    </a:lnTo>
                    <a:lnTo>
                      <a:pt x="279" y="342"/>
                    </a:lnTo>
                    <a:lnTo>
                      <a:pt x="263" y="338"/>
                    </a:lnTo>
                    <a:lnTo>
                      <a:pt x="231" y="331"/>
                    </a:lnTo>
                    <a:lnTo>
                      <a:pt x="199" y="328"/>
                    </a:lnTo>
                    <a:lnTo>
                      <a:pt x="166" y="326"/>
                    </a:lnTo>
                    <a:lnTo>
                      <a:pt x="133" y="324"/>
                    </a:lnTo>
                    <a:lnTo>
                      <a:pt x="100" y="326"/>
                    </a:lnTo>
                    <a:lnTo>
                      <a:pt x="67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7" y="407"/>
                    </a:lnTo>
                    <a:lnTo>
                      <a:pt x="63" y="427"/>
                    </a:lnTo>
                    <a:lnTo>
                      <a:pt x="77" y="445"/>
                    </a:lnTo>
                    <a:lnTo>
                      <a:pt x="92" y="462"/>
                    </a:lnTo>
                    <a:lnTo>
                      <a:pt x="105" y="478"/>
                    </a:lnTo>
                    <a:lnTo>
                      <a:pt x="119" y="493"/>
                    </a:lnTo>
                    <a:lnTo>
                      <a:pt x="131" y="506"/>
                    </a:lnTo>
                    <a:lnTo>
                      <a:pt x="145" y="516"/>
                    </a:lnTo>
                    <a:lnTo>
                      <a:pt x="158" y="526"/>
                    </a:lnTo>
                    <a:lnTo>
                      <a:pt x="171" y="535"/>
                    </a:lnTo>
                    <a:lnTo>
                      <a:pt x="184" y="542"/>
                    </a:lnTo>
                    <a:lnTo>
                      <a:pt x="198" y="549"/>
                    </a:lnTo>
                    <a:lnTo>
                      <a:pt x="210" y="555"/>
                    </a:lnTo>
                    <a:lnTo>
                      <a:pt x="224" y="558"/>
                    </a:lnTo>
                    <a:lnTo>
                      <a:pt x="236" y="562"/>
                    </a:lnTo>
                    <a:lnTo>
                      <a:pt x="250" y="565"/>
                    </a:lnTo>
                    <a:lnTo>
                      <a:pt x="265" y="566"/>
                    </a:lnTo>
                    <a:lnTo>
                      <a:pt x="279" y="567"/>
                    </a:lnTo>
                    <a:lnTo>
                      <a:pt x="308" y="567"/>
                    </a:lnTo>
                    <a:lnTo>
                      <a:pt x="340" y="565"/>
                    </a:lnTo>
                    <a:lnTo>
                      <a:pt x="411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2" y="572"/>
                    </a:lnTo>
                    <a:lnTo>
                      <a:pt x="506" y="592"/>
                    </a:lnTo>
                    <a:lnTo>
                      <a:pt x="511" y="617"/>
                    </a:lnTo>
                    <a:lnTo>
                      <a:pt x="520" y="676"/>
                    </a:lnTo>
                    <a:lnTo>
                      <a:pt x="533" y="741"/>
                    </a:lnTo>
                    <a:lnTo>
                      <a:pt x="539" y="772"/>
                    </a:lnTo>
                    <a:lnTo>
                      <a:pt x="547" y="803"/>
                    </a:lnTo>
                    <a:lnTo>
                      <a:pt x="552" y="818"/>
                    </a:lnTo>
                    <a:lnTo>
                      <a:pt x="558" y="832"/>
                    </a:lnTo>
                    <a:lnTo>
                      <a:pt x="563" y="844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2" y="878"/>
                    </a:lnTo>
                    <a:lnTo>
                      <a:pt x="588" y="888"/>
                    </a:lnTo>
                    <a:lnTo>
                      <a:pt x="595" y="894"/>
                    </a:lnTo>
                    <a:lnTo>
                      <a:pt x="603" y="901"/>
                    </a:lnTo>
                    <a:lnTo>
                      <a:pt x="612" y="906"/>
                    </a:lnTo>
                    <a:lnTo>
                      <a:pt x="620" y="908"/>
                    </a:lnTo>
                    <a:lnTo>
                      <a:pt x="631" y="909"/>
                    </a:lnTo>
                    <a:lnTo>
                      <a:pt x="651" y="908"/>
                    </a:lnTo>
                    <a:lnTo>
                      <a:pt x="673" y="905"/>
                    </a:lnTo>
                    <a:lnTo>
                      <a:pt x="694" y="900"/>
                    </a:lnTo>
                    <a:lnTo>
                      <a:pt x="716" y="893"/>
                    </a:lnTo>
                    <a:lnTo>
                      <a:pt x="738" y="885"/>
                    </a:lnTo>
                    <a:lnTo>
                      <a:pt x="759" y="875"/>
                    </a:lnTo>
                    <a:lnTo>
                      <a:pt x="781" y="864"/>
                    </a:lnTo>
                    <a:lnTo>
                      <a:pt x="802" y="851"/>
                    </a:lnTo>
                    <a:lnTo>
                      <a:pt x="821" y="836"/>
                    </a:lnTo>
                    <a:lnTo>
                      <a:pt x="840" y="821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3" y="772"/>
                    </a:lnTo>
                    <a:lnTo>
                      <a:pt x="908" y="755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4" y="699"/>
                    </a:lnTo>
                    <a:lnTo>
                      <a:pt x="953" y="681"/>
                    </a:lnTo>
                    <a:lnTo>
                      <a:pt x="960" y="663"/>
                    </a:lnTo>
                    <a:lnTo>
                      <a:pt x="966" y="645"/>
                    </a:lnTo>
                    <a:lnTo>
                      <a:pt x="968" y="628"/>
                    </a:lnTo>
                    <a:lnTo>
                      <a:pt x="969" y="611"/>
                    </a:lnTo>
                    <a:lnTo>
                      <a:pt x="968" y="593"/>
                    </a:lnTo>
                    <a:lnTo>
                      <a:pt x="963" y="579"/>
                    </a:lnTo>
                    <a:lnTo>
                      <a:pt x="958" y="564"/>
                    </a:lnTo>
                    <a:lnTo>
                      <a:pt x="947" y="549"/>
                    </a:lnTo>
                    <a:lnTo>
                      <a:pt x="936" y="536"/>
                    </a:lnTo>
                    <a:lnTo>
                      <a:pt x="920" y="525"/>
                    </a:lnTo>
                    <a:lnTo>
                      <a:pt x="902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5"/>
                    </a:lnTo>
                    <a:lnTo>
                      <a:pt x="781" y="490"/>
                    </a:lnTo>
                    <a:lnTo>
                      <a:pt x="754" y="485"/>
                    </a:lnTo>
                    <a:lnTo>
                      <a:pt x="746" y="484"/>
                    </a:lnTo>
                    <a:lnTo>
                      <a:pt x="741" y="483"/>
                    </a:lnTo>
                    <a:lnTo>
                      <a:pt x="741" y="482"/>
                    </a:lnTo>
                    <a:lnTo>
                      <a:pt x="743" y="479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1" y="444"/>
                    </a:lnTo>
                    <a:lnTo>
                      <a:pt x="906" y="437"/>
                    </a:lnTo>
                    <a:lnTo>
                      <a:pt x="921" y="429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7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1" y="353"/>
                    </a:lnTo>
                    <a:lnTo>
                      <a:pt x="982" y="336"/>
                    </a:lnTo>
                    <a:lnTo>
                      <a:pt x="979" y="316"/>
                    </a:lnTo>
                    <a:lnTo>
                      <a:pt x="974" y="295"/>
                    </a:lnTo>
                    <a:lnTo>
                      <a:pt x="965" y="272"/>
                    </a:lnTo>
                    <a:lnTo>
                      <a:pt x="951" y="248"/>
                    </a:lnTo>
                    <a:lnTo>
                      <a:pt x="908" y="274"/>
                    </a:lnTo>
                    <a:lnTo>
                      <a:pt x="867" y="302"/>
                    </a:lnTo>
                    <a:lnTo>
                      <a:pt x="846" y="315"/>
                    </a:lnTo>
                    <a:lnTo>
                      <a:pt x="827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4" y="391"/>
                    </a:lnTo>
                    <a:lnTo>
                      <a:pt x="738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2"/>
                    </a:lnTo>
                    <a:lnTo>
                      <a:pt x="687" y="483"/>
                    </a:lnTo>
                    <a:lnTo>
                      <a:pt x="677" y="503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343560" y="4048560"/>
                <a:ext cx="25560" cy="164880"/>
              </a:xfrm>
              <a:custGeom>
                <a:avLst/>
                <a:gdLst/>
                <a:ahLst/>
                <a:rect l="l" t="t" r="r" b="b"/>
                <a:pathLst>
                  <a:path w="77" h="518">
                    <a:moveTo>
                      <a:pt x="18" y="22"/>
                    </a:moveTo>
                    <a:lnTo>
                      <a:pt x="1" y="18"/>
                    </a:lnTo>
                    <a:lnTo>
                      <a:pt x="10" y="33"/>
                    </a:lnTo>
                    <a:lnTo>
                      <a:pt x="17" y="48"/>
                    </a:lnTo>
                    <a:lnTo>
                      <a:pt x="24" y="63"/>
                    </a:lnTo>
                    <a:lnTo>
                      <a:pt x="29" y="78"/>
                    </a:lnTo>
                    <a:lnTo>
                      <a:pt x="35" y="92"/>
                    </a:lnTo>
                    <a:lnTo>
                      <a:pt x="39" y="108"/>
                    </a:lnTo>
                    <a:lnTo>
                      <a:pt x="43" y="123"/>
                    </a:lnTo>
                    <a:lnTo>
                      <a:pt x="45" y="139"/>
                    </a:lnTo>
                    <a:lnTo>
                      <a:pt x="50" y="170"/>
                    </a:lnTo>
                    <a:lnTo>
                      <a:pt x="52" y="202"/>
                    </a:lnTo>
                    <a:lnTo>
                      <a:pt x="52" y="234"/>
                    </a:lnTo>
                    <a:lnTo>
                      <a:pt x="52" y="266"/>
                    </a:lnTo>
                    <a:lnTo>
                      <a:pt x="49" y="331"/>
                    </a:lnTo>
                    <a:lnTo>
                      <a:pt x="45" y="395"/>
                    </a:lnTo>
                    <a:lnTo>
                      <a:pt x="44" y="426"/>
                    </a:lnTo>
                    <a:lnTo>
                      <a:pt x="44" y="457"/>
                    </a:lnTo>
                    <a:lnTo>
                      <a:pt x="46" y="488"/>
                    </a:lnTo>
                    <a:lnTo>
                      <a:pt x="51" y="518"/>
                    </a:lnTo>
                    <a:lnTo>
                      <a:pt x="75" y="513"/>
                    </a:lnTo>
                    <a:lnTo>
                      <a:pt x="71" y="486"/>
                    </a:lnTo>
                    <a:lnTo>
                      <a:pt x="69" y="456"/>
                    </a:lnTo>
                    <a:lnTo>
                      <a:pt x="68" y="426"/>
                    </a:lnTo>
                    <a:lnTo>
                      <a:pt x="69" y="396"/>
                    </a:lnTo>
                    <a:lnTo>
                      <a:pt x="73" y="332"/>
                    </a:lnTo>
                    <a:lnTo>
                      <a:pt x="76" y="267"/>
                    </a:lnTo>
                    <a:lnTo>
                      <a:pt x="77" y="234"/>
                    </a:lnTo>
                    <a:lnTo>
                      <a:pt x="76" y="201"/>
                    </a:lnTo>
                    <a:lnTo>
                      <a:pt x="74" y="168"/>
                    </a:lnTo>
                    <a:lnTo>
                      <a:pt x="69" y="135"/>
                    </a:lnTo>
                    <a:lnTo>
                      <a:pt x="67" y="119"/>
                    </a:lnTo>
                    <a:lnTo>
                      <a:pt x="62" y="102"/>
                    </a:lnTo>
                    <a:lnTo>
                      <a:pt x="58" y="86"/>
                    </a:lnTo>
                    <a:lnTo>
                      <a:pt x="52" y="70"/>
                    </a:lnTo>
                    <a:lnTo>
                      <a:pt x="46" y="53"/>
                    </a:lnTo>
                    <a:lnTo>
                      <a:pt x="39" y="37"/>
                    </a:lnTo>
                    <a:lnTo>
                      <a:pt x="30" y="21"/>
                    </a:lnTo>
                    <a:lnTo>
                      <a:pt x="21" y="6"/>
                    </a:lnTo>
                    <a:lnTo>
                      <a:pt x="5" y="1"/>
                    </a:lnTo>
                    <a:lnTo>
                      <a:pt x="21" y="6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86680" y="4048560"/>
                <a:ext cx="63360" cy="163440"/>
              </a:xfrm>
              <a:custGeom>
                <a:avLst/>
                <a:gdLst/>
                <a:ahLst/>
                <a:rect l="l" t="t" r="r" b="b"/>
                <a:pathLst>
                  <a:path w="199" h="513">
                    <a:moveTo>
                      <a:pt x="34" y="508"/>
                    </a:moveTo>
                    <a:lnTo>
                      <a:pt x="54" y="495"/>
                    </a:lnTo>
                    <a:lnTo>
                      <a:pt x="47" y="482"/>
                    </a:lnTo>
                    <a:lnTo>
                      <a:pt x="40" y="469"/>
                    </a:lnTo>
                    <a:lnTo>
                      <a:pt x="36" y="455"/>
                    </a:lnTo>
                    <a:lnTo>
                      <a:pt x="32" y="441"/>
                    </a:lnTo>
                    <a:lnTo>
                      <a:pt x="29" y="425"/>
                    </a:lnTo>
                    <a:lnTo>
                      <a:pt x="27" y="411"/>
                    </a:lnTo>
                    <a:lnTo>
                      <a:pt x="26" y="395"/>
                    </a:lnTo>
                    <a:lnTo>
                      <a:pt x="26" y="378"/>
                    </a:lnTo>
                    <a:lnTo>
                      <a:pt x="26" y="361"/>
                    </a:lnTo>
                    <a:lnTo>
                      <a:pt x="27" y="343"/>
                    </a:lnTo>
                    <a:lnTo>
                      <a:pt x="29" y="326"/>
                    </a:lnTo>
                    <a:lnTo>
                      <a:pt x="31" y="308"/>
                    </a:lnTo>
                    <a:lnTo>
                      <a:pt x="35" y="291"/>
                    </a:lnTo>
                    <a:lnTo>
                      <a:pt x="39" y="273"/>
                    </a:lnTo>
                    <a:lnTo>
                      <a:pt x="45" y="256"/>
                    </a:lnTo>
                    <a:lnTo>
                      <a:pt x="50" y="237"/>
                    </a:lnTo>
                    <a:lnTo>
                      <a:pt x="56" y="220"/>
                    </a:lnTo>
                    <a:lnTo>
                      <a:pt x="63" y="203"/>
                    </a:lnTo>
                    <a:lnTo>
                      <a:pt x="70" y="186"/>
                    </a:lnTo>
                    <a:lnTo>
                      <a:pt x="78" y="169"/>
                    </a:lnTo>
                    <a:lnTo>
                      <a:pt x="86" y="153"/>
                    </a:lnTo>
                    <a:lnTo>
                      <a:pt x="95" y="137"/>
                    </a:lnTo>
                    <a:lnTo>
                      <a:pt x="104" y="122"/>
                    </a:lnTo>
                    <a:lnTo>
                      <a:pt x="113" y="107"/>
                    </a:lnTo>
                    <a:lnTo>
                      <a:pt x="124" y="94"/>
                    </a:lnTo>
                    <a:lnTo>
                      <a:pt x="134" y="81"/>
                    </a:lnTo>
                    <a:lnTo>
                      <a:pt x="144" y="69"/>
                    </a:lnTo>
                    <a:lnTo>
                      <a:pt x="154" y="57"/>
                    </a:lnTo>
                    <a:lnTo>
                      <a:pt x="166" y="47"/>
                    </a:lnTo>
                    <a:lnTo>
                      <a:pt x="176" y="37"/>
                    </a:lnTo>
                    <a:lnTo>
                      <a:pt x="187" y="29"/>
                    </a:lnTo>
                    <a:lnTo>
                      <a:pt x="199" y="21"/>
                    </a:lnTo>
                    <a:lnTo>
                      <a:pt x="186" y="0"/>
                    </a:lnTo>
                    <a:lnTo>
                      <a:pt x="174" y="9"/>
                    </a:lnTo>
                    <a:lnTo>
                      <a:pt x="161" y="19"/>
                    </a:lnTo>
                    <a:lnTo>
                      <a:pt x="149" y="29"/>
                    </a:lnTo>
                    <a:lnTo>
                      <a:pt x="137" y="40"/>
                    </a:lnTo>
                    <a:lnTo>
                      <a:pt x="126" y="53"/>
                    </a:lnTo>
                    <a:lnTo>
                      <a:pt x="114" y="65"/>
                    </a:lnTo>
                    <a:lnTo>
                      <a:pt x="104" y="80"/>
                    </a:lnTo>
                    <a:lnTo>
                      <a:pt x="94" y="94"/>
                    </a:lnTo>
                    <a:lnTo>
                      <a:pt x="84" y="110"/>
                    </a:lnTo>
                    <a:lnTo>
                      <a:pt x="75" y="126"/>
                    </a:lnTo>
                    <a:lnTo>
                      <a:pt x="65" y="142"/>
                    </a:lnTo>
                    <a:lnTo>
                      <a:pt x="56" y="159"/>
                    </a:lnTo>
                    <a:lnTo>
                      <a:pt x="48" y="176"/>
                    </a:lnTo>
                    <a:lnTo>
                      <a:pt x="40" y="194"/>
                    </a:lnTo>
                    <a:lnTo>
                      <a:pt x="34" y="212"/>
                    </a:lnTo>
                    <a:lnTo>
                      <a:pt x="27" y="231"/>
                    </a:lnTo>
                    <a:lnTo>
                      <a:pt x="21" y="249"/>
                    </a:lnTo>
                    <a:lnTo>
                      <a:pt x="16" y="267"/>
                    </a:lnTo>
                    <a:lnTo>
                      <a:pt x="12" y="285"/>
                    </a:lnTo>
                    <a:lnTo>
                      <a:pt x="7" y="305"/>
                    </a:lnTo>
                    <a:lnTo>
                      <a:pt x="5" y="323"/>
                    </a:lnTo>
                    <a:lnTo>
                      <a:pt x="3" y="341"/>
                    </a:lnTo>
                    <a:lnTo>
                      <a:pt x="2" y="359"/>
                    </a:lnTo>
                    <a:lnTo>
                      <a:pt x="0" y="378"/>
                    </a:lnTo>
                    <a:lnTo>
                      <a:pt x="2" y="396"/>
                    </a:lnTo>
                    <a:lnTo>
                      <a:pt x="3" y="413"/>
                    </a:lnTo>
                    <a:lnTo>
                      <a:pt x="5" y="430"/>
                    </a:lnTo>
                    <a:lnTo>
                      <a:pt x="8" y="447"/>
                    </a:lnTo>
                    <a:lnTo>
                      <a:pt x="13" y="463"/>
                    </a:lnTo>
                    <a:lnTo>
                      <a:pt x="19" y="478"/>
                    </a:lnTo>
                    <a:lnTo>
                      <a:pt x="26" y="493"/>
                    </a:lnTo>
                    <a:lnTo>
                      <a:pt x="34" y="508"/>
                    </a:lnTo>
                    <a:lnTo>
                      <a:pt x="54" y="495"/>
                    </a:lnTo>
                    <a:lnTo>
                      <a:pt x="34" y="508"/>
                    </a:lnTo>
                    <a:lnTo>
                      <a:pt x="37" y="511"/>
                    </a:lnTo>
                    <a:lnTo>
                      <a:pt x="42" y="513"/>
                    </a:lnTo>
                    <a:lnTo>
                      <a:pt x="45" y="513"/>
                    </a:lnTo>
                    <a:lnTo>
                      <a:pt x="50" y="511"/>
                    </a:lnTo>
                    <a:lnTo>
                      <a:pt x="53" y="509"/>
                    </a:lnTo>
                    <a:lnTo>
                      <a:pt x="55" y="504"/>
                    </a:lnTo>
                    <a:lnTo>
                      <a:pt x="55" y="500"/>
                    </a:lnTo>
                    <a:lnTo>
                      <a:pt x="54" y="495"/>
                    </a:lnTo>
                    <a:lnTo>
                      <a:pt x="34" y="50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45200" y="415152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3" y="16"/>
                    </a:moveTo>
                    <a:lnTo>
                      <a:pt x="14" y="34"/>
                    </a:lnTo>
                    <a:lnTo>
                      <a:pt x="47" y="31"/>
                    </a:lnTo>
                    <a:lnTo>
                      <a:pt x="80" y="27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8" y="25"/>
                    </a:lnTo>
                    <a:lnTo>
                      <a:pt x="210" y="27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7" y="51"/>
                    </a:lnTo>
                    <a:lnTo>
                      <a:pt x="332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3" y="79"/>
                    </a:lnTo>
                    <a:lnTo>
                      <a:pt x="385" y="87"/>
                    </a:lnTo>
                    <a:lnTo>
                      <a:pt x="399" y="96"/>
                    </a:lnTo>
                    <a:lnTo>
                      <a:pt x="411" y="106"/>
                    </a:lnTo>
                    <a:lnTo>
                      <a:pt x="423" y="117"/>
                    </a:lnTo>
                    <a:lnTo>
                      <a:pt x="435" y="129"/>
                    </a:lnTo>
                    <a:lnTo>
                      <a:pt x="447" y="141"/>
                    </a:lnTo>
                    <a:lnTo>
                      <a:pt x="457" y="155"/>
                    </a:lnTo>
                    <a:lnTo>
                      <a:pt x="468" y="169"/>
                    </a:lnTo>
                    <a:lnTo>
                      <a:pt x="479" y="185"/>
                    </a:lnTo>
                    <a:lnTo>
                      <a:pt x="499" y="172"/>
                    </a:lnTo>
                    <a:lnTo>
                      <a:pt x="488" y="155"/>
                    </a:lnTo>
                    <a:lnTo>
                      <a:pt x="476" y="140"/>
                    </a:lnTo>
                    <a:lnTo>
                      <a:pt x="465" y="125"/>
                    </a:lnTo>
                    <a:lnTo>
                      <a:pt x="452" y="112"/>
                    </a:lnTo>
                    <a:lnTo>
                      <a:pt x="440" y="99"/>
                    </a:lnTo>
                    <a:lnTo>
                      <a:pt x="426" y="88"/>
                    </a:lnTo>
                    <a:lnTo>
                      <a:pt x="414" y="76"/>
                    </a:lnTo>
                    <a:lnTo>
                      <a:pt x="399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1" y="35"/>
                    </a:lnTo>
                    <a:lnTo>
                      <a:pt x="325" y="28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3"/>
                    </a:lnTo>
                    <a:lnTo>
                      <a:pt x="179" y="1"/>
                    </a:lnTo>
                    <a:lnTo>
                      <a:pt x="145" y="0"/>
                    </a:lnTo>
                    <a:lnTo>
                      <a:pt x="112" y="1"/>
                    </a:lnTo>
                    <a:lnTo>
                      <a:pt x="77" y="3"/>
                    </a:lnTo>
                    <a:lnTo>
                      <a:pt x="44" y="7"/>
                    </a:lnTo>
                    <a:lnTo>
                      <a:pt x="10" y="10"/>
                    </a:lnTo>
                    <a:lnTo>
                      <a:pt x="2" y="28"/>
                    </a:lnTo>
                    <a:lnTo>
                      <a:pt x="10" y="10"/>
                    </a:lnTo>
                    <a:lnTo>
                      <a:pt x="6" y="11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" y="28"/>
                    </a:lnTo>
                    <a:lnTo>
                      <a:pt x="4" y="32"/>
                    </a:lnTo>
                    <a:lnTo>
                      <a:pt x="8" y="34"/>
                    </a:lnTo>
                    <a:lnTo>
                      <a:pt x="14" y="34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45200" y="4156200"/>
                <a:ext cx="163440" cy="79560"/>
              </a:xfrm>
              <a:custGeom>
                <a:avLst/>
                <a:gdLst/>
                <a:ahLst/>
                <a:rect l="l" t="t" r="r" b="b"/>
                <a:pathLst>
                  <a:path w="515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20" y="216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8"/>
                    </a:lnTo>
                    <a:lnTo>
                      <a:pt x="276" y="227"/>
                    </a:lnTo>
                    <a:lnTo>
                      <a:pt x="262" y="224"/>
                    </a:lnTo>
                    <a:lnTo>
                      <a:pt x="250" y="222"/>
                    </a:lnTo>
                    <a:lnTo>
                      <a:pt x="237" y="219"/>
                    </a:lnTo>
                    <a:lnTo>
                      <a:pt x="225" y="215"/>
                    </a:lnTo>
                    <a:lnTo>
                      <a:pt x="212" y="210"/>
                    </a:lnTo>
                    <a:lnTo>
                      <a:pt x="200" y="204"/>
                    </a:lnTo>
                    <a:lnTo>
                      <a:pt x="187" y="197"/>
                    </a:lnTo>
                    <a:lnTo>
                      <a:pt x="176" y="189"/>
                    </a:lnTo>
                    <a:lnTo>
                      <a:pt x="163" y="179"/>
                    </a:lnTo>
                    <a:lnTo>
                      <a:pt x="149" y="169"/>
                    </a:lnTo>
                    <a:lnTo>
                      <a:pt x="137" y="156"/>
                    </a:lnTo>
                    <a:lnTo>
                      <a:pt x="124" y="142"/>
                    </a:lnTo>
                    <a:lnTo>
                      <a:pt x="111" y="128"/>
                    </a:lnTo>
                    <a:lnTo>
                      <a:pt x="97" y="110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3" y="50"/>
                    </a:lnTo>
                    <a:lnTo>
                      <a:pt x="37" y="26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16" y="39"/>
                    </a:lnTo>
                    <a:lnTo>
                      <a:pt x="32" y="63"/>
                    </a:lnTo>
                    <a:lnTo>
                      <a:pt x="48" y="85"/>
                    </a:lnTo>
                    <a:lnTo>
                      <a:pt x="63" y="106"/>
                    </a:lnTo>
                    <a:lnTo>
                      <a:pt x="78" y="125"/>
                    </a:lnTo>
                    <a:lnTo>
                      <a:pt x="92" y="142"/>
                    </a:lnTo>
                    <a:lnTo>
                      <a:pt x="106" y="158"/>
                    </a:lnTo>
                    <a:lnTo>
                      <a:pt x="120" y="173"/>
                    </a:lnTo>
                    <a:lnTo>
                      <a:pt x="134" y="187"/>
                    </a:lnTo>
                    <a:lnTo>
                      <a:pt x="147" y="198"/>
                    </a:lnTo>
                    <a:lnTo>
                      <a:pt x="161" y="208"/>
                    </a:lnTo>
                    <a:lnTo>
                      <a:pt x="175" y="218"/>
                    </a:lnTo>
                    <a:lnTo>
                      <a:pt x="188" y="226"/>
                    </a:lnTo>
                    <a:lnTo>
                      <a:pt x="202" y="232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4" y="246"/>
                    </a:lnTo>
                    <a:lnTo>
                      <a:pt x="259" y="248"/>
                    </a:lnTo>
                    <a:lnTo>
                      <a:pt x="274" y="251"/>
                    </a:lnTo>
                    <a:lnTo>
                      <a:pt x="289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2" y="240"/>
                    </a:lnTo>
                    <a:lnTo>
                      <a:pt x="505" y="229"/>
                    </a:lnTo>
                    <a:lnTo>
                      <a:pt x="494" y="224"/>
                    </a:lnTo>
                    <a:lnTo>
                      <a:pt x="505" y="229"/>
                    </a:lnTo>
                    <a:lnTo>
                      <a:pt x="511" y="228"/>
                    </a:lnTo>
                    <a:lnTo>
                      <a:pt x="514" y="224"/>
                    </a:lnTo>
                    <a:lnTo>
                      <a:pt x="515" y="221"/>
                    </a:lnTo>
                    <a:lnTo>
                      <a:pt x="515" y="216"/>
                    </a:lnTo>
                    <a:lnTo>
                      <a:pt x="514" y="212"/>
                    </a:lnTo>
                    <a:lnTo>
                      <a:pt x="512" y="208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302520" y="4223160"/>
                <a:ext cx="47520" cy="12204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0" y="358"/>
                    </a:lnTo>
                    <a:lnTo>
                      <a:pt x="133" y="355"/>
                    </a:lnTo>
                    <a:lnTo>
                      <a:pt x="126" y="352"/>
                    </a:lnTo>
                    <a:lnTo>
                      <a:pt x="119" y="346"/>
                    </a:lnTo>
                    <a:lnTo>
                      <a:pt x="114" y="341"/>
                    </a:lnTo>
                    <a:lnTo>
                      <a:pt x="107" y="333"/>
                    </a:lnTo>
                    <a:lnTo>
                      <a:pt x="101" y="322"/>
                    </a:lnTo>
                    <a:lnTo>
                      <a:pt x="95" y="312"/>
                    </a:lnTo>
                    <a:lnTo>
                      <a:pt x="90" y="301"/>
                    </a:lnTo>
                    <a:lnTo>
                      <a:pt x="85" y="288"/>
                    </a:lnTo>
                    <a:lnTo>
                      <a:pt x="79" y="274"/>
                    </a:lnTo>
                    <a:lnTo>
                      <a:pt x="76" y="261"/>
                    </a:lnTo>
                    <a:lnTo>
                      <a:pt x="67" y="230"/>
                    </a:lnTo>
                    <a:lnTo>
                      <a:pt x="60" y="199"/>
                    </a:lnTo>
                    <a:lnTo>
                      <a:pt x="48" y="135"/>
                    </a:lnTo>
                    <a:lnTo>
                      <a:pt x="38" y="76"/>
                    </a:lnTo>
                    <a:lnTo>
                      <a:pt x="34" y="51"/>
                    </a:lnTo>
                    <a:lnTo>
                      <a:pt x="30" y="29"/>
                    </a:lnTo>
                    <a:lnTo>
                      <a:pt x="26" y="12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6" y="35"/>
                    </a:lnTo>
                    <a:lnTo>
                      <a:pt x="10" y="56"/>
                    </a:lnTo>
                    <a:lnTo>
                      <a:pt x="14" y="81"/>
                    </a:lnTo>
                    <a:lnTo>
                      <a:pt x="25" y="139"/>
                    </a:lnTo>
                    <a:lnTo>
                      <a:pt x="36" y="204"/>
                    </a:lnTo>
                    <a:lnTo>
                      <a:pt x="44" y="236"/>
                    </a:lnTo>
                    <a:lnTo>
                      <a:pt x="52" y="268"/>
                    </a:lnTo>
                    <a:lnTo>
                      <a:pt x="57" y="282"/>
                    </a:lnTo>
                    <a:lnTo>
                      <a:pt x="62" y="297"/>
                    </a:lnTo>
                    <a:lnTo>
                      <a:pt x="68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7" y="346"/>
                    </a:lnTo>
                    <a:lnTo>
                      <a:pt x="95" y="357"/>
                    </a:lnTo>
                    <a:lnTo>
                      <a:pt x="103" y="365"/>
                    </a:lnTo>
                    <a:lnTo>
                      <a:pt x="112" y="371"/>
                    </a:lnTo>
                    <a:lnTo>
                      <a:pt x="123" y="377"/>
                    </a:lnTo>
                    <a:lnTo>
                      <a:pt x="134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350040" y="4205520"/>
                <a:ext cx="111240" cy="13968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09" y="26"/>
                    </a:lnTo>
                    <a:lnTo>
                      <a:pt x="223" y="30"/>
                    </a:lnTo>
                    <a:lnTo>
                      <a:pt x="234" y="32"/>
                    </a:lnTo>
                    <a:lnTo>
                      <a:pt x="246" y="35"/>
                    </a:lnTo>
                    <a:lnTo>
                      <a:pt x="256" y="40"/>
                    </a:lnTo>
                    <a:lnTo>
                      <a:pt x="266" y="43"/>
                    </a:lnTo>
                    <a:lnTo>
                      <a:pt x="275" y="48"/>
                    </a:lnTo>
                    <a:lnTo>
                      <a:pt x="283" y="52"/>
                    </a:lnTo>
                    <a:lnTo>
                      <a:pt x="290" y="58"/>
                    </a:lnTo>
                    <a:lnTo>
                      <a:pt x="297" y="63"/>
                    </a:lnTo>
                    <a:lnTo>
                      <a:pt x="303" y="68"/>
                    </a:lnTo>
                    <a:lnTo>
                      <a:pt x="307" y="74"/>
                    </a:lnTo>
                    <a:lnTo>
                      <a:pt x="312" y="80"/>
                    </a:lnTo>
                    <a:lnTo>
                      <a:pt x="315" y="87"/>
                    </a:lnTo>
                    <a:lnTo>
                      <a:pt x="319" y="92"/>
                    </a:lnTo>
                    <a:lnTo>
                      <a:pt x="321" y="99"/>
                    </a:lnTo>
                    <a:lnTo>
                      <a:pt x="323" y="106"/>
                    </a:lnTo>
                    <a:lnTo>
                      <a:pt x="324" y="113"/>
                    </a:lnTo>
                    <a:lnTo>
                      <a:pt x="326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2" y="159"/>
                    </a:lnTo>
                    <a:lnTo>
                      <a:pt x="318" y="177"/>
                    </a:lnTo>
                    <a:lnTo>
                      <a:pt x="311" y="194"/>
                    </a:lnTo>
                    <a:lnTo>
                      <a:pt x="303" y="211"/>
                    </a:lnTo>
                    <a:lnTo>
                      <a:pt x="293" y="229"/>
                    </a:lnTo>
                    <a:lnTo>
                      <a:pt x="280" y="247"/>
                    </a:lnTo>
                    <a:lnTo>
                      <a:pt x="267" y="264"/>
                    </a:lnTo>
                    <a:lnTo>
                      <a:pt x="253" y="281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1" y="329"/>
                    </a:lnTo>
                    <a:lnTo>
                      <a:pt x="183" y="344"/>
                    </a:lnTo>
                    <a:lnTo>
                      <a:pt x="164" y="358"/>
                    </a:lnTo>
                    <a:lnTo>
                      <a:pt x="143" y="370"/>
                    </a:lnTo>
                    <a:lnTo>
                      <a:pt x="123" y="381"/>
                    </a:lnTo>
                    <a:lnTo>
                      <a:pt x="102" y="391"/>
                    </a:lnTo>
                    <a:lnTo>
                      <a:pt x="82" y="399"/>
                    </a:lnTo>
                    <a:lnTo>
                      <a:pt x="61" y="406"/>
                    </a:lnTo>
                    <a:lnTo>
                      <a:pt x="40" y="410"/>
                    </a:lnTo>
                    <a:lnTo>
                      <a:pt x="19" y="414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1" y="438"/>
                    </a:lnTo>
                    <a:lnTo>
                      <a:pt x="44" y="434"/>
                    </a:lnTo>
                    <a:lnTo>
                      <a:pt x="67" y="429"/>
                    </a:lnTo>
                    <a:lnTo>
                      <a:pt x="90" y="422"/>
                    </a:lnTo>
                    <a:lnTo>
                      <a:pt x="112" y="413"/>
                    </a:lnTo>
                    <a:lnTo>
                      <a:pt x="134" y="402"/>
                    </a:lnTo>
                    <a:lnTo>
                      <a:pt x="156" y="391"/>
                    </a:lnTo>
                    <a:lnTo>
                      <a:pt x="177" y="377"/>
                    </a:lnTo>
                    <a:lnTo>
                      <a:pt x="197" y="364"/>
                    </a:lnTo>
                    <a:lnTo>
                      <a:pt x="217" y="349"/>
                    </a:lnTo>
                    <a:lnTo>
                      <a:pt x="236" y="332"/>
                    </a:lnTo>
                    <a:lnTo>
                      <a:pt x="254" y="316"/>
                    </a:lnTo>
                    <a:lnTo>
                      <a:pt x="271" y="297"/>
                    </a:lnTo>
                    <a:lnTo>
                      <a:pt x="286" y="279"/>
                    </a:lnTo>
                    <a:lnTo>
                      <a:pt x="301" y="261"/>
                    </a:lnTo>
                    <a:lnTo>
                      <a:pt x="313" y="242"/>
                    </a:lnTo>
                    <a:lnTo>
                      <a:pt x="324" y="222"/>
                    </a:lnTo>
                    <a:lnTo>
                      <a:pt x="334" y="204"/>
                    </a:lnTo>
                    <a:lnTo>
                      <a:pt x="340" y="185"/>
                    </a:lnTo>
                    <a:lnTo>
                      <a:pt x="346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0" y="118"/>
                    </a:lnTo>
                    <a:lnTo>
                      <a:pt x="348" y="109"/>
                    </a:lnTo>
                    <a:lnTo>
                      <a:pt x="347" y="100"/>
                    </a:lnTo>
                    <a:lnTo>
                      <a:pt x="344" y="91"/>
                    </a:lnTo>
                    <a:lnTo>
                      <a:pt x="340" y="83"/>
                    </a:lnTo>
                    <a:lnTo>
                      <a:pt x="337" y="74"/>
                    </a:lnTo>
                    <a:lnTo>
                      <a:pt x="332" y="66"/>
                    </a:lnTo>
                    <a:lnTo>
                      <a:pt x="327" y="59"/>
                    </a:lnTo>
                    <a:lnTo>
                      <a:pt x="320" y="51"/>
                    </a:lnTo>
                    <a:lnTo>
                      <a:pt x="313" y="44"/>
                    </a:lnTo>
                    <a:lnTo>
                      <a:pt x="305" y="39"/>
                    </a:lnTo>
                    <a:lnTo>
                      <a:pt x="296" y="32"/>
                    </a:lnTo>
                    <a:lnTo>
                      <a:pt x="287" y="26"/>
                    </a:lnTo>
                    <a:lnTo>
                      <a:pt x="277" y="22"/>
                    </a:lnTo>
                    <a:lnTo>
                      <a:pt x="265" y="17"/>
                    </a:lnTo>
                    <a:lnTo>
                      <a:pt x="254" y="12"/>
                    </a:lnTo>
                    <a:lnTo>
                      <a:pt x="241" y="9"/>
                    </a:lnTo>
                    <a:lnTo>
                      <a:pt x="228" y="6"/>
                    </a:lnTo>
                    <a:lnTo>
                      <a:pt x="214" y="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380280" y="4127760"/>
                <a:ext cx="8388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8" y="22"/>
                    </a:moveTo>
                    <a:lnTo>
                      <a:pt x="211" y="18"/>
                    </a:lnTo>
                    <a:lnTo>
                      <a:pt x="217" y="30"/>
                    </a:lnTo>
                    <a:lnTo>
                      <a:pt x="223" y="42"/>
                    </a:lnTo>
                    <a:lnTo>
                      <a:pt x="229" y="53"/>
                    </a:lnTo>
                    <a:lnTo>
                      <a:pt x="232" y="63"/>
                    </a:lnTo>
                    <a:lnTo>
                      <a:pt x="236" y="74"/>
                    </a:lnTo>
                    <a:lnTo>
                      <a:pt x="238" y="83"/>
                    </a:lnTo>
                    <a:lnTo>
                      <a:pt x="239" y="92"/>
                    </a:lnTo>
                    <a:lnTo>
                      <a:pt x="239" y="100"/>
                    </a:lnTo>
                    <a:lnTo>
                      <a:pt x="239" y="108"/>
                    </a:lnTo>
                    <a:lnTo>
                      <a:pt x="238" y="116"/>
                    </a:lnTo>
                    <a:lnTo>
                      <a:pt x="237" y="123"/>
                    </a:lnTo>
                    <a:lnTo>
                      <a:pt x="235" y="129"/>
                    </a:lnTo>
                    <a:lnTo>
                      <a:pt x="232" y="136"/>
                    </a:lnTo>
                    <a:lnTo>
                      <a:pt x="229" y="142"/>
                    </a:lnTo>
                    <a:lnTo>
                      <a:pt x="225" y="148"/>
                    </a:lnTo>
                    <a:lnTo>
                      <a:pt x="221" y="153"/>
                    </a:lnTo>
                    <a:lnTo>
                      <a:pt x="211" y="165"/>
                    </a:lnTo>
                    <a:lnTo>
                      <a:pt x="199" y="174"/>
                    </a:lnTo>
                    <a:lnTo>
                      <a:pt x="186" y="183"/>
                    </a:lnTo>
                    <a:lnTo>
                      <a:pt x="171" y="191"/>
                    </a:lnTo>
                    <a:lnTo>
                      <a:pt x="156" y="198"/>
                    </a:lnTo>
                    <a:lnTo>
                      <a:pt x="139" y="204"/>
                    </a:lnTo>
                    <a:lnTo>
                      <a:pt x="123" y="209"/>
                    </a:lnTo>
                    <a:lnTo>
                      <a:pt x="107" y="213"/>
                    </a:lnTo>
                    <a:lnTo>
                      <a:pt x="47" y="225"/>
                    </a:lnTo>
                    <a:lnTo>
                      <a:pt x="11" y="232"/>
                    </a:lnTo>
                    <a:lnTo>
                      <a:pt x="7" y="234"/>
                    </a:lnTo>
                    <a:lnTo>
                      <a:pt x="1" y="238"/>
                    </a:lnTo>
                    <a:lnTo>
                      <a:pt x="0" y="251"/>
                    </a:lnTo>
                    <a:lnTo>
                      <a:pt x="7" y="257"/>
                    </a:lnTo>
                    <a:lnTo>
                      <a:pt x="12" y="259"/>
                    </a:lnTo>
                    <a:lnTo>
                      <a:pt x="21" y="262"/>
                    </a:lnTo>
                    <a:lnTo>
                      <a:pt x="50" y="265"/>
                    </a:lnTo>
                    <a:lnTo>
                      <a:pt x="97" y="271"/>
                    </a:lnTo>
                    <a:lnTo>
                      <a:pt x="99" y="247"/>
                    </a:lnTo>
                    <a:lnTo>
                      <a:pt x="53" y="241"/>
                    </a:lnTo>
                    <a:lnTo>
                      <a:pt x="25" y="238"/>
                    </a:lnTo>
                    <a:lnTo>
                      <a:pt x="19" y="237"/>
                    </a:lnTo>
                    <a:lnTo>
                      <a:pt x="17" y="235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6" y="256"/>
                    </a:lnTo>
                    <a:lnTo>
                      <a:pt x="51" y="249"/>
                    </a:lnTo>
                    <a:lnTo>
                      <a:pt x="112" y="237"/>
                    </a:lnTo>
                    <a:lnTo>
                      <a:pt x="130" y="232"/>
                    </a:lnTo>
                    <a:lnTo>
                      <a:pt x="147" y="226"/>
                    </a:lnTo>
                    <a:lnTo>
                      <a:pt x="165" y="220"/>
                    </a:lnTo>
                    <a:lnTo>
                      <a:pt x="181" y="213"/>
                    </a:lnTo>
                    <a:lnTo>
                      <a:pt x="198" y="204"/>
                    </a:lnTo>
                    <a:lnTo>
                      <a:pt x="213" y="193"/>
                    </a:lnTo>
                    <a:lnTo>
                      <a:pt x="227" y="182"/>
                    </a:lnTo>
                    <a:lnTo>
                      <a:pt x="239" y="169"/>
                    </a:lnTo>
                    <a:lnTo>
                      <a:pt x="245" y="161"/>
                    </a:lnTo>
                    <a:lnTo>
                      <a:pt x="249" y="155"/>
                    </a:lnTo>
                    <a:lnTo>
                      <a:pt x="254" y="147"/>
                    </a:lnTo>
                    <a:lnTo>
                      <a:pt x="257" y="137"/>
                    </a:lnTo>
                    <a:lnTo>
                      <a:pt x="260" y="128"/>
                    </a:lnTo>
                    <a:lnTo>
                      <a:pt x="262" y="119"/>
                    </a:lnTo>
                    <a:lnTo>
                      <a:pt x="263" y="110"/>
                    </a:lnTo>
                    <a:lnTo>
                      <a:pt x="263" y="100"/>
                    </a:lnTo>
                    <a:lnTo>
                      <a:pt x="263" y="90"/>
                    </a:lnTo>
                    <a:lnTo>
                      <a:pt x="261" y="78"/>
                    </a:lnTo>
                    <a:lnTo>
                      <a:pt x="259" y="67"/>
                    </a:lnTo>
                    <a:lnTo>
                      <a:pt x="255" y="55"/>
                    </a:lnTo>
                    <a:lnTo>
                      <a:pt x="251" y="44"/>
                    </a:lnTo>
                    <a:lnTo>
                      <a:pt x="245" y="31"/>
                    </a:lnTo>
                    <a:lnTo>
                      <a:pt x="239" y="19"/>
                    </a:lnTo>
                    <a:lnTo>
                      <a:pt x="231" y="5"/>
                    </a:lnTo>
                    <a:lnTo>
                      <a:pt x="214" y="2"/>
                    </a:lnTo>
                    <a:lnTo>
                      <a:pt x="231" y="5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0"/>
                    </a:lnTo>
                    <a:lnTo>
                      <a:pt x="214" y="1"/>
                    </a:lnTo>
                    <a:lnTo>
                      <a:pt x="211" y="4"/>
                    </a:lnTo>
                    <a:lnTo>
                      <a:pt x="210" y="9"/>
                    </a:lnTo>
                    <a:lnTo>
                      <a:pt x="208" y="13"/>
                    </a:lnTo>
                    <a:lnTo>
                      <a:pt x="211" y="18"/>
                    </a:lnTo>
                    <a:lnTo>
                      <a:pt x="22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359400" y="4127760"/>
                <a:ext cx="93960" cy="88920"/>
              </a:xfrm>
              <a:custGeom>
                <a:avLst/>
                <a:gdLst/>
                <a:ahLst/>
                <a:rect l="l" t="t" r="r" b="b"/>
                <a:pathLst>
                  <a:path w="293" h="278">
                    <a:moveTo>
                      <a:pt x="0" y="268"/>
                    </a:moveTo>
                    <a:lnTo>
                      <a:pt x="24" y="270"/>
                    </a:lnTo>
                    <a:lnTo>
                      <a:pt x="33" y="251"/>
                    </a:lnTo>
                    <a:lnTo>
                      <a:pt x="43" y="230"/>
                    </a:lnTo>
                    <a:lnTo>
                      <a:pt x="55" y="212"/>
                    </a:lnTo>
                    <a:lnTo>
                      <a:pt x="68" y="195"/>
                    </a:lnTo>
                    <a:lnTo>
                      <a:pt x="82" y="178"/>
                    </a:lnTo>
                    <a:lnTo>
                      <a:pt x="98" y="161"/>
                    </a:lnTo>
                    <a:lnTo>
                      <a:pt x="114" y="146"/>
                    </a:lnTo>
                    <a:lnTo>
                      <a:pt x="131" y="130"/>
                    </a:lnTo>
                    <a:lnTo>
                      <a:pt x="149" y="115"/>
                    </a:lnTo>
                    <a:lnTo>
                      <a:pt x="169" y="101"/>
                    </a:lnTo>
                    <a:lnTo>
                      <a:pt x="188" y="86"/>
                    </a:lnTo>
                    <a:lnTo>
                      <a:pt x="208" y="73"/>
                    </a:lnTo>
                    <a:lnTo>
                      <a:pt x="249" y="47"/>
                    </a:lnTo>
                    <a:lnTo>
                      <a:pt x="293" y="20"/>
                    </a:lnTo>
                    <a:lnTo>
                      <a:pt x="279" y="0"/>
                    </a:lnTo>
                    <a:lnTo>
                      <a:pt x="237" y="26"/>
                    </a:lnTo>
                    <a:lnTo>
                      <a:pt x="195" y="53"/>
                    </a:lnTo>
                    <a:lnTo>
                      <a:pt x="174" y="67"/>
                    </a:lnTo>
                    <a:lnTo>
                      <a:pt x="154" y="82"/>
                    </a:lnTo>
                    <a:lnTo>
                      <a:pt x="134" y="97"/>
                    </a:lnTo>
                    <a:lnTo>
                      <a:pt x="116" y="112"/>
                    </a:lnTo>
                    <a:lnTo>
                      <a:pt x="98" y="127"/>
                    </a:lnTo>
                    <a:lnTo>
                      <a:pt x="81" y="143"/>
                    </a:lnTo>
                    <a:lnTo>
                      <a:pt x="65" y="162"/>
                    </a:lnTo>
                    <a:lnTo>
                      <a:pt x="49" y="180"/>
                    </a:lnTo>
                    <a:lnTo>
                      <a:pt x="35" y="198"/>
                    </a:lnTo>
                    <a:lnTo>
                      <a:pt x="23" y="219"/>
                    </a:lnTo>
                    <a:lnTo>
                      <a:pt x="11" y="239"/>
                    </a:lnTo>
                    <a:lnTo>
                      <a:pt x="1" y="261"/>
                    </a:lnTo>
                    <a:lnTo>
                      <a:pt x="24" y="263"/>
                    </a:lnTo>
                    <a:lnTo>
                      <a:pt x="1" y="261"/>
                    </a:lnTo>
                    <a:lnTo>
                      <a:pt x="0" y="267"/>
                    </a:lnTo>
                    <a:lnTo>
                      <a:pt x="1" y="271"/>
                    </a:lnTo>
                    <a:lnTo>
                      <a:pt x="3" y="275"/>
                    </a:lnTo>
                    <a:lnTo>
                      <a:pt x="8" y="277"/>
                    </a:lnTo>
                    <a:lnTo>
                      <a:pt x="12" y="278"/>
                    </a:lnTo>
                    <a:lnTo>
                      <a:pt x="17" y="278"/>
                    </a:lnTo>
                    <a:lnTo>
                      <a:pt x="20" y="275"/>
                    </a:lnTo>
                    <a:lnTo>
                      <a:pt x="24" y="270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835520" y="403740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981" h="910">
                    <a:moveTo>
                      <a:pt x="677" y="504"/>
                    </a:moveTo>
                    <a:lnTo>
                      <a:pt x="673" y="475"/>
                    </a:lnTo>
                    <a:lnTo>
                      <a:pt x="670" y="444"/>
                    </a:lnTo>
                    <a:lnTo>
                      <a:pt x="670" y="414"/>
                    </a:lnTo>
                    <a:lnTo>
                      <a:pt x="670" y="383"/>
                    </a:lnTo>
                    <a:lnTo>
                      <a:pt x="675" y="319"/>
                    </a:lnTo>
                    <a:lnTo>
                      <a:pt x="678" y="255"/>
                    </a:lnTo>
                    <a:lnTo>
                      <a:pt x="678" y="222"/>
                    </a:lnTo>
                    <a:lnTo>
                      <a:pt x="678" y="190"/>
                    </a:lnTo>
                    <a:lnTo>
                      <a:pt x="676" y="157"/>
                    </a:lnTo>
                    <a:lnTo>
                      <a:pt x="671" y="125"/>
                    </a:lnTo>
                    <a:lnTo>
                      <a:pt x="669" y="109"/>
                    </a:lnTo>
                    <a:lnTo>
                      <a:pt x="665" y="93"/>
                    </a:lnTo>
                    <a:lnTo>
                      <a:pt x="660" y="77"/>
                    </a:lnTo>
                    <a:lnTo>
                      <a:pt x="655" y="61"/>
                    </a:lnTo>
                    <a:lnTo>
                      <a:pt x="649" y="47"/>
                    </a:lnTo>
                    <a:lnTo>
                      <a:pt x="642" y="31"/>
                    </a:lnTo>
                    <a:lnTo>
                      <a:pt x="634" y="16"/>
                    </a:lnTo>
                    <a:lnTo>
                      <a:pt x="626" y="0"/>
                    </a:lnTo>
                    <a:lnTo>
                      <a:pt x="613" y="8"/>
                    </a:lnTo>
                    <a:lnTo>
                      <a:pt x="602" y="17"/>
                    </a:lnTo>
                    <a:lnTo>
                      <a:pt x="590" y="27"/>
                    </a:lnTo>
                    <a:lnTo>
                      <a:pt x="579" y="37"/>
                    </a:lnTo>
                    <a:lnTo>
                      <a:pt x="568" y="50"/>
                    </a:lnTo>
                    <a:lnTo>
                      <a:pt x="557" y="62"/>
                    </a:lnTo>
                    <a:lnTo>
                      <a:pt x="547" y="76"/>
                    </a:lnTo>
                    <a:lnTo>
                      <a:pt x="537" y="90"/>
                    </a:lnTo>
                    <a:lnTo>
                      <a:pt x="527" y="105"/>
                    </a:lnTo>
                    <a:lnTo>
                      <a:pt x="518" y="121"/>
                    </a:lnTo>
                    <a:lnTo>
                      <a:pt x="508" y="137"/>
                    </a:lnTo>
                    <a:lnTo>
                      <a:pt x="500" y="154"/>
                    </a:lnTo>
                    <a:lnTo>
                      <a:pt x="492" y="171"/>
                    </a:lnTo>
                    <a:lnTo>
                      <a:pt x="484" y="188"/>
                    </a:lnTo>
                    <a:lnTo>
                      <a:pt x="478" y="205"/>
                    </a:lnTo>
                    <a:lnTo>
                      <a:pt x="472" y="223"/>
                    </a:lnTo>
                    <a:lnTo>
                      <a:pt x="466" y="241"/>
                    </a:lnTo>
                    <a:lnTo>
                      <a:pt x="461" y="260"/>
                    </a:lnTo>
                    <a:lnTo>
                      <a:pt x="456" y="278"/>
                    </a:lnTo>
                    <a:lnTo>
                      <a:pt x="453" y="295"/>
                    </a:lnTo>
                    <a:lnTo>
                      <a:pt x="450" y="313"/>
                    </a:lnTo>
                    <a:lnTo>
                      <a:pt x="448" y="332"/>
                    </a:lnTo>
                    <a:lnTo>
                      <a:pt x="447" y="350"/>
                    </a:lnTo>
                    <a:lnTo>
                      <a:pt x="446" y="367"/>
                    </a:lnTo>
                    <a:lnTo>
                      <a:pt x="447" y="384"/>
                    </a:lnTo>
                    <a:lnTo>
                      <a:pt x="448" y="401"/>
                    </a:lnTo>
                    <a:lnTo>
                      <a:pt x="450" y="417"/>
                    </a:lnTo>
                    <a:lnTo>
                      <a:pt x="454" y="433"/>
                    </a:lnTo>
                    <a:lnTo>
                      <a:pt x="457" y="449"/>
                    </a:lnTo>
                    <a:lnTo>
                      <a:pt x="463" y="463"/>
                    </a:lnTo>
                    <a:lnTo>
                      <a:pt x="469" y="477"/>
                    </a:lnTo>
                    <a:lnTo>
                      <a:pt x="476" y="490"/>
                    </a:lnTo>
                    <a:lnTo>
                      <a:pt x="466" y="474"/>
                    </a:lnTo>
                    <a:lnTo>
                      <a:pt x="455" y="459"/>
                    </a:lnTo>
                    <a:lnTo>
                      <a:pt x="443" y="446"/>
                    </a:lnTo>
                    <a:lnTo>
                      <a:pt x="432" y="432"/>
                    </a:lnTo>
                    <a:lnTo>
                      <a:pt x="420" y="420"/>
                    </a:lnTo>
                    <a:lnTo>
                      <a:pt x="407" y="409"/>
                    </a:lnTo>
                    <a:lnTo>
                      <a:pt x="393" y="399"/>
                    </a:lnTo>
                    <a:lnTo>
                      <a:pt x="381" y="389"/>
                    </a:lnTo>
                    <a:lnTo>
                      <a:pt x="367" y="381"/>
                    </a:lnTo>
                    <a:lnTo>
                      <a:pt x="352" y="373"/>
                    </a:lnTo>
                    <a:lnTo>
                      <a:pt x="339" y="365"/>
                    </a:lnTo>
                    <a:lnTo>
                      <a:pt x="324" y="358"/>
                    </a:lnTo>
                    <a:lnTo>
                      <a:pt x="309" y="352"/>
                    </a:lnTo>
                    <a:lnTo>
                      <a:pt x="294" y="347"/>
                    </a:lnTo>
                    <a:lnTo>
                      <a:pt x="278" y="342"/>
                    </a:lnTo>
                    <a:lnTo>
                      <a:pt x="263" y="338"/>
                    </a:lnTo>
                    <a:lnTo>
                      <a:pt x="231" y="332"/>
                    </a:lnTo>
                    <a:lnTo>
                      <a:pt x="198" y="328"/>
                    </a:lnTo>
                    <a:lnTo>
                      <a:pt x="166" y="326"/>
                    </a:lnTo>
                    <a:lnTo>
                      <a:pt x="133" y="325"/>
                    </a:lnTo>
                    <a:lnTo>
                      <a:pt x="99" y="326"/>
                    </a:lnTo>
                    <a:lnTo>
                      <a:pt x="66" y="327"/>
                    </a:lnTo>
                    <a:lnTo>
                      <a:pt x="33" y="330"/>
                    </a:lnTo>
                    <a:lnTo>
                      <a:pt x="0" y="334"/>
                    </a:lnTo>
                    <a:lnTo>
                      <a:pt x="16" y="360"/>
                    </a:lnTo>
                    <a:lnTo>
                      <a:pt x="32" y="384"/>
                    </a:lnTo>
                    <a:lnTo>
                      <a:pt x="48" y="407"/>
                    </a:lnTo>
                    <a:lnTo>
                      <a:pt x="63" y="427"/>
                    </a:lnTo>
                    <a:lnTo>
                      <a:pt x="78" y="446"/>
                    </a:lnTo>
                    <a:lnTo>
                      <a:pt x="91" y="463"/>
                    </a:lnTo>
                    <a:lnTo>
                      <a:pt x="105" y="479"/>
                    </a:lnTo>
                    <a:lnTo>
                      <a:pt x="119" y="492"/>
                    </a:lnTo>
                    <a:lnTo>
                      <a:pt x="132" y="506"/>
                    </a:lnTo>
                    <a:lnTo>
                      <a:pt x="145" y="516"/>
                    </a:lnTo>
                    <a:lnTo>
                      <a:pt x="159" y="526"/>
                    </a:lnTo>
                    <a:lnTo>
                      <a:pt x="171" y="536"/>
                    </a:lnTo>
                    <a:lnTo>
                      <a:pt x="184" y="542"/>
                    </a:lnTo>
                    <a:lnTo>
                      <a:pt x="197" y="549"/>
                    </a:lnTo>
                    <a:lnTo>
                      <a:pt x="210" y="555"/>
                    </a:lnTo>
                    <a:lnTo>
                      <a:pt x="223" y="558"/>
                    </a:lnTo>
                    <a:lnTo>
                      <a:pt x="237" y="562"/>
                    </a:lnTo>
                    <a:lnTo>
                      <a:pt x="251" y="565"/>
                    </a:lnTo>
                    <a:lnTo>
                      <a:pt x="265" y="566"/>
                    </a:lnTo>
                    <a:lnTo>
                      <a:pt x="278" y="568"/>
                    </a:lnTo>
                    <a:lnTo>
                      <a:pt x="309" y="568"/>
                    </a:lnTo>
                    <a:lnTo>
                      <a:pt x="340" y="565"/>
                    </a:lnTo>
                    <a:lnTo>
                      <a:pt x="410" y="557"/>
                    </a:lnTo>
                    <a:lnTo>
                      <a:pt x="494" y="546"/>
                    </a:lnTo>
                    <a:lnTo>
                      <a:pt x="498" y="556"/>
                    </a:lnTo>
                    <a:lnTo>
                      <a:pt x="503" y="572"/>
                    </a:lnTo>
                    <a:lnTo>
                      <a:pt x="506" y="593"/>
                    </a:lnTo>
                    <a:lnTo>
                      <a:pt x="511" y="618"/>
                    </a:lnTo>
                    <a:lnTo>
                      <a:pt x="520" y="676"/>
                    </a:lnTo>
                    <a:lnTo>
                      <a:pt x="532" y="741"/>
                    </a:lnTo>
                    <a:lnTo>
                      <a:pt x="539" y="773"/>
                    </a:lnTo>
                    <a:lnTo>
                      <a:pt x="548" y="803"/>
                    </a:lnTo>
                    <a:lnTo>
                      <a:pt x="553" y="818"/>
                    </a:lnTo>
                    <a:lnTo>
                      <a:pt x="557" y="832"/>
                    </a:lnTo>
                    <a:lnTo>
                      <a:pt x="563" y="845"/>
                    </a:lnTo>
                    <a:lnTo>
                      <a:pt x="569" y="857"/>
                    </a:lnTo>
                    <a:lnTo>
                      <a:pt x="575" y="868"/>
                    </a:lnTo>
                    <a:lnTo>
                      <a:pt x="581" y="879"/>
                    </a:lnTo>
                    <a:lnTo>
                      <a:pt x="588" y="888"/>
                    </a:lnTo>
                    <a:lnTo>
                      <a:pt x="596" y="895"/>
                    </a:lnTo>
                    <a:lnTo>
                      <a:pt x="604" y="900"/>
                    </a:lnTo>
                    <a:lnTo>
                      <a:pt x="612" y="905"/>
                    </a:lnTo>
                    <a:lnTo>
                      <a:pt x="621" y="908"/>
                    </a:lnTo>
                    <a:lnTo>
                      <a:pt x="630" y="910"/>
                    </a:lnTo>
                    <a:lnTo>
                      <a:pt x="652" y="908"/>
                    </a:lnTo>
                    <a:lnTo>
                      <a:pt x="674" y="905"/>
                    </a:lnTo>
                    <a:lnTo>
                      <a:pt x="695" y="900"/>
                    </a:lnTo>
                    <a:lnTo>
                      <a:pt x="717" y="894"/>
                    </a:lnTo>
                    <a:lnTo>
                      <a:pt x="739" y="884"/>
                    </a:lnTo>
                    <a:lnTo>
                      <a:pt x="760" y="875"/>
                    </a:lnTo>
                    <a:lnTo>
                      <a:pt x="781" y="864"/>
                    </a:lnTo>
                    <a:lnTo>
                      <a:pt x="801" y="851"/>
                    </a:lnTo>
                    <a:lnTo>
                      <a:pt x="822" y="837"/>
                    </a:lnTo>
                    <a:lnTo>
                      <a:pt x="840" y="822"/>
                    </a:lnTo>
                    <a:lnTo>
                      <a:pt x="859" y="807"/>
                    </a:lnTo>
                    <a:lnTo>
                      <a:pt x="877" y="790"/>
                    </a:lnTo>
                    <a:lnTo>
                      <a:pt x="892" y="773"/>
                    </a:lnTo>
                    <a:lnTo>
                      <a:pt x="907" y="756"/>
                    </a:lnTo>
                    <a:lnTo>
                      <a:pt x="921" y="737"/>
                    </a:lnTo>
                    <a:lnTo>
                      <a:pt x="934" y="719"/>
                    </a:lnTo>
                    <a:lnTo>
                      <a:pt x="945" y="700"/>
                    </a:lnTo>
                    <a:lnTo>
                      <a:pt x="953" y="682"/>
                    </a:lnTo>
                    <a:lnTo>
                      <a:pt x="961" y="663"/>
                    </a:lnTo>
                    <a:lnTo>
                      <a:pt x="965" y="645"/>
                    </a:lnTo>
                    <a:lnTo>
                      <a:pt x="969" y="628"/>
                    </a:lnTo>
                    <a:lnTo>
                      <a:pt x="969" y="611"/>
                    </a:lnTo>
                    <a:lnTo>
                      <a:pt x="968" y="594"/>
                    </a:lnTo>
                    <a:lnTo>
                      <a:pt x="964" y="579"/>
                    </a:lnTo>
                    <a:lnTo>
                      <a:pt x="957" y="564"/>
                    </a:lnTo>
                    <a:lnTo>
                      <a:pt x="948" y="549"/>
                    </a:lnTo>
                    <a:lnTo>
                      <a:pt x="936" y="537"/>
                    </a:lnTo>
                    <a:lnTo>
                      <a:pt x="921" y="525"/>
                    </a:lnTo>
                    <a:lnTo>
                      <a:pt x="903" y="516"/>
                    </a:lnTo>
                    <a:lnTo>
                      <a:pt x="881" y="507"/>
                    </a:lnTo>
                    <a:lnTo>
                      <a:pt x="856" y="500"/>
                    </a:lnTo>
                    <a:lnTo>
                      <a:pt x="828" y="496"/>
                    </a:lnTo>
                    <a:lnTo>
                      <a:pt x="782" y="490"/>
                    </a:lnTo>
                    <a:lnTo>
                      <a:pt x="753" y="485"/>
                    </a:lnTo>
                    <a:lnTo>
                      <a:pt x="745" y="484"/>
                    </a:lnTo>
                    <a:lnTo>
                      <a:pt x="742" y="483"/>
                    </a:lnTo>
                    <a:lnTo>
                      <a:pt x="741" y="481"/>
                    </a:lnTo>
                    <a:lnTo>
                      <a:pt x="743" y="480"/>
                    </a:lnTo>
                    <a:lnTo>
                      <a:pt x="779" y="474"/>
                    </a:lnTo>
                    <a:lnTo>
                      <a:pt x="839" y="461"/>
                    </a:lnTo>
                    <a:lnTo>
                      <a:pt x="856" y="457"/>
                    </a:lnTo>
                    <a:lnTo>
                      <a:pt x="873" y="451"/>
                    </a:lnTo>
                    <a:lnTo>
                      <a:pt x="890" y="444"/>
                    </a:lnTo>
                    <a:lnTo>
                      <a:pt x="906" y="438"/>
                    </a:lnTo>
                    <a:lnTo>
                      <a:pt x="922" y="430"/>
                    </a:lnTo>
                    <a:lnTo>
                      <a:pt x="936" y="420"/>
                    </a:lnTo>
                    <a:lnTo>
                      <a:pt x="949" y="409"/>
                    </a:lnTo>
                    <a:lnTo>
                      <a:pt x="960" y="398"/>
                    </a:lnTo>
                    <a:lnTo>
                      <a:pt x="969" y="384"/>
                    </a:lnTo>
                    <a:lnTo>
                      <a:pt x="976" y="370"/>
                    </a:lnTo>
                    <a:lnTo>
                      <a:pt x="980" y="353"/>
                    </a:lnTo>
                    <a:lnTo>
                      <a:pt x="981" y="336"/>
                    </a:lnTo>
                    <a:lnTo>
                      <a:pt x="979" y="317"/>
                    </a:lnTo>
                    <a:lnTo>
                      <a:pt x="973" y="295"/>
                    </a:lnTo>
                    <a:lnTo>
                      <a:pt x="964" y="272"/>
                    </a:lnTo>
                    <a:lnTo>
                      <a:pt x="951" y="247"/>
                    </a:lnTo>
                    <a:lnTo>
                      <a:pt x="908" y="275"/>
                    </a:lnTo>
                    <a:lnTo>
                      <a:pt x="866" y="302"/>
                    </a:lnTo>
                    <a:lnTo>
                      <a:pt x="846" y="316"/>
                    </a:lnTo>
                    <a:lnTo>
                      <a:pt x="826" y="329"/>
                    </a:lnTo>
                    <a:lnTo>
                      <a:pt x="807" y="344"/>
                    </a:lnTo>
                    <a:lnTo>
                      <a:pt x="789" y="359"/>
                    </a:lnTo>
                    <a:lnTo>
                      <a:pt x="771" y="375"/>
                    </a:lnTo>
                    <a:lnTo>
                      <a:pt x="755" y="391"/>
                    </a:lnTo>
                    <a:lnTo>
                      <a:pt x="739" y="408"/>
                    </a:lnTo>
                    <a:lnTo>
                      <a:pt x="724" y="425"/>
                    </a:lnTo>
                    <a:lnTo>
                      <a:pt x="710" y="443"/>
                    </a:lnTo>
                    <a:lnTo>
                      <a:pt x="698" y="463"/>
                    </a:lnTo>
                    <a:lnTo>
                      <a:pt x="686" y="483"/>
                    </a:lnTo>
                    <a:lnTo>
                      <a:pt x="677" y="504"/>
                    </a:lnTo>
                    <a:close/>
                  </a:path>
                </a:pathLst>
              </a:custGeom>
              <a:solidFill>
                <a:srgbClr val="596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029200" y="4034160"/>
                <a:ext cx="25560" cy="163440"/>
              </a:xfrm>
              <a:custGeom>
                <a:avLst/>
                <a:gdLst/>
                <a:ahLst/>
                <a:rect l="l" t="t" r="r" b="b"/>
                <a:pathLst>
                  <a:path w="78" h="518">
                    <a:moveTo>
                      <a:pt x="18" y="22"/>
                    </a:moveTo>
                    <a:lnTo>
                      <a:pt x="3" y="19"/>
                    </a:lnTo>
                    <a:lnTo>
                      <a:pt x="11" y="33"/>
                    </a:lnTo>
                    <a:lnTo>
                      <a:pt x="18" y="48"/>
                    </a:lnTo>
                    <a:lnTo>
                      <a:pt x="25" y="63"/>
                    </a:lnTo>
                    <a:lnTo>
                      <a:pt x="31" y="78"/>
                    </a:lnTo>
                    <a:lnTo>
                      <a:pt x="36" y="93"/>
                    </a:lnTo>
                    <a:lnTo>
                      <a:pt x="40" y="109"/>
                    </a:lnTo>
                    <a:lnTo>
                      <a:pt x="44" y="124"/>
                    </a:lnTo>
                    <a:lnTo>
                      <a:pt x="47" y="138"/>
                    </a:lnTo>
                    <a:lnTo>
                      <a:pt x="50" y="170"/>
                    </a:lnTo>
                    <a:lnTo>
                      <a:pt x="53" y="202"/>
                    </a:lnTo>
                    <a:lnTo>
                      <a:pt x="54" y="234"/>
                    </a:lnTo>
                    <a:lnTo>
                      <a:pt x="53" y="266"/>
                    </a:lnTo>
                    <a:lnTo>
                      <a:pt x="49" y="331"/>
                    </a:lnTo>
                    <a:lnTo>
                      <a:pt x="46" y="395"/>
                    </a:lnTo>
                    <a:lnTo>
                      <a:pt x="45" y="426"/>
                    </a:lnTo>
                    <a:lnTo>
                      <a:pt x="46" y="458"/>
                    </a:lnTo>
                    <a:lnTo>
                      <a:pt x="48" y="488"/>
                    </a:lnTo>
                    <a:lnTo>
                      <a:pt x="53" y="518"/>
                    </a:lnTo>
                    <a:lnTo>
                      <a:pt x="77" y="513"/>
                    </a:lnTo>
                    <a:lnTo>
                      <a:pt x="72" y="486"/>
                    </a:lnTo>
                    <a:lnTo>
                      <a:pt x="70" y="456"/>
                    </a:lnTo>
                    <a:lnTo>
                      <a:pt x="70" y="426"/>
                    </a:lnTo>
                    <a:lnTo>
                      <a:pt x="70" y="396"/>
                    </a:lnTo>
                    <a:lnTo>
                      <a:pt x="73" y="332"/>
                    </a:lnTo>
                    <a:lnTo>
                      <a:pt x="77" y="267"/>
                    </a:lnTo>
                    <a:lnTo>
                      <a:pt x="78" y="234"/>
                    </a:lnTo>
                    <a:lnTo>
                      <a:pt x="77" y="201"/>
                    </a:lnTo>
                    <a:lnTo>
                      <a:pt x="75" y="168"/>
                    </a:lnTo>
                    <a:lnTo>
                      <a:pt x="71" y="135"/>
                    </a:lnTo>
                    <a:lnTo>
                      <a:pt x="67" y="119"/>
                    </a:lnTo>
                    <a:lnTo>
                      <a:pt x="64" y="102"/>
                    </a:lnTo>
                    <a:lnTo>
                      <a:pt x="58" y="86"/>
                    </a:lnTo>
                    <a:lnTo>
                      <a:pt x="54" y="70"/>
                    </a:lnTo>
                    <a:lnTo>
                      <a:pt x="47" y="53"/>
                    </a:lnTo>
                    <a:lnTo>
                      <a:pt x="40" y="37"/>
                    </a:lnTo>
                    <a:lnTo>
                      <a:pt x="32" y="21"/>
                    </a:lnTo>
                    <a:lnTo>
                      <a:pt x="23" y="6"/>
                    </a:lnTo>
                    <a:lnTo>
                      <a:pt x="6" y="2"/>
                    </a:lnTo>
                    <a:lnTo>
                      <a:pt x="23" y="6"/>
                    </a:lnTo>
                    <a:lnTo>
                      <a:pt x="18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3" y="19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971960" y="4034160"/>
                <a:ext cx="63720" cy="163440"/>
              </a:xfrm>
              <a:custGeom>
                <a:avLst/>
                <a:gdLst/>
                <a:ahLst/>
                <a:rect l="l" t="t" r="r" b="b"/>
                <a:pathLst>
                  <a:path w="197" h="513">
                    <a:moveTo>
                      <a:pt x="32" y="507"/>
                    </a:moveTo>
                    <a:lnTo>
                      <a:pt x="53" y="494"/>
                    </a:lnTo>
                    <a:lnTo>
                      <a:pt x="46" y="482"/>
                    </a:lnTo>
                    <a:lnTo>
                      <a:pt x="40" y="468"/>
                    </a:lnTo>
                    <a:lnTo>
                      <a:pt x="35" y="454"/>
                    </a:lnTo>
                    <a:lnTo>
                      <a:pt x="31" y="441"/>
                    </a:lnTo>
                    <a:lnTo>
                      <a:pt x="28" y="425"/>
                    </a:lnTo>
                    <a:lnTo>
                      <a:pt x="25" y="410"/>
                    </a:lnTo>
                    <a:lnTo>
                      <a:pt x="24" y="394"/>
                    </a:lnTo>
                    <a:lnTo>
                      <a:pt x="24" y="377"/>
                    </a:lnTo>
                    <a:lnTo>
                      <a:pt x="24" y="360"/>
                    </a:lnTo>
                    <a:lnTo>
                      <a:pt x="25" y="343"/>
                    </a:lnTo>
                    <a:lnTo>
                      <a:pt x="28" y="326"/>
                    </a:lnTo>
                    <a:lnTo>
                      <a:pt x="31" y="307"/>
                    </a:lnTo>
                    <a:lnTo>
                      <a:pt x="35" y="290"/>
                    </a:lnTo>
                    <a:lnTo>
                      <a:pt x="39" y="272"/>
                    </a:lnTo>
                    <a:lnTo>
                      <a:pt x="44" y="255"/>
                    </a:lnTo>
                    <a:lnTo>
                      <a:pt x="49" y="237"/>
                    </a:lnTo>
                    <a:lnTo>
                      <a:pt x="55" y="220"/>
                    </a:lnTo>
                    <a:lnTo>
                      <a:pt x="62" y="202"/>
                    </a:lnTo>
                    <a:lnTo>
                      <a:pt x="69" y="185"/>
                    </a:lnTo>
                    <a:lnTo>
                      <a:pt x="77" y="168"/>
                    </a:lnTo>
                    <a:lnTo>
                      <a:pt x="86" y="152"/>
                    </a:lnTo>
                    <a:lnTo>
                      <a:pt x="94" y="136"/>
                    </a:lnTo>
                    <a:lnTo>
                      <a:pt x="103" y="122"/>
                    </a:lnTo>
                    <a:lnTo>
                      <a:pt x="113" y="107"/>
                    </a:lnTo>
                    <a:lnTo>
                      <a:pt x="122" y="93"/>
                    </a:lnTo>
                    <a:lnTo>
                      <a:pt x="133" y="80"/>
                    </a:lnTo>
                    <a:lnTo>
                      <a:pt x="143" y="68"/>
                    </a:lnTo>
                    <a:lnTo>
                      <a:pt x="154" y="57"/>
                    </a:lnTo>
                    <a:lnTo>
                      <a:pt x="164" y="46"/>
                    </a:lnTo>
                    <a:lnTo>
                      <a:pt x="176" y="36"/>
                    </a:lnTo>
                    <a:lnTo>
                      <a:pt x="186" y="28"/>
                    </a:lnTo>
                    <a:lnTo>
                      <a:pt x="197" y="20"/>
                    </a:lnTo>
                    <a:lnTo>
                      <a:pt x="185" y="0"/>
                    </a:lnTo>
                    <a:lnTo>
                      <a:pt x="172" y="9"/>
                    </a:lnTo>
                    <a:lnTo>
                      <a:pt x="160" y="18"/>
                    </a:lnTo>
                    <a:lnTo>
                      <a:pt x="148" y="28"/>
                    </a:lnTo>
                    <a:lnTo>
                      <a:pt x="136" y="39"/>
                    </a:lnTo>
                    <a:lnTo>
                      <a:pt x="125" y="52"/>
                    </a:lnTo>
                    <a:lnTo>
                      <a:pt x="114" y="65"/>
                    </a:lnTo>
                    <a:lnTo>
                      <a:pt x="103" y="79"/>
                    </a:lnTo>
                    <a:lnTo>
                      <a:pt x="93" y="93"/>
                    </a:lnTo>
                    <a:lnTo>
                      <a:pt x="82" y="109"/>
                    </a:lnTo>
                    <a:lnTo>
                      <a:pt x="73" y="125"/>
                    </a:lnTo>
                    <a:lnTo>
                      <a:pt x="64" y="141"/>
                    </a:lnTo>
                    <a:lnTo>
                      <a:pt x="55" y="158"/>
                    </a:lnTo>
                    <a:lnTo>
                      <a:pt x="47" y="175"/>
                    </a:lnTo>
                    <a:lnTo>
                      <a:pt x="39" y="193"/>
                    </a:lnTo>
                    <a:lnTo>
                      <a:pt x="32" y="212"/>
                    </a:lnTo>
                    <a:lnTo>
                      <a:pt x="27" y="229"/>
                    </a:lnTo>
                    <a:lnTo>
                      <a:pt x="20" y="248"/>
                    </a:lnTo>
                    <a:lnTo>
                      <a:pt x="15" y="266"/>
                    </a:lnTo>
                    <a:lnTo>
                      <a:pt x="11" y="285"/>
                    </a:lnTo>
                    <a:lnTo>
                      <a:pt x="7" y="304"/>
                    </a:lnTo>
                    <a:lnTo>
                      <a:pt x="4" y="322"/>
                    </a:lnTo>
                    <a:lnTo>
                      <a:pt x="1" y="340"/>
                    </a:lnTo>
                    <a:lnTo>
                      <a:pt x="0" y="359"/>
                    </a:lnTo>
                    <a:lnTo>
                      <a:pt x="0" y="377"/>
                    </a:lnTo>
                    <a:lnTo>
                      <a:pt x="0" y="395"/>
                    </a:lnTo>
                    <a:lnTo>
                      <a:pt x="1" y="412"/>
                    </a:lnTo>
                    <a:lnTo>
                      <a:pt x="4" y="429"/>
                    </a:lnTo>
                    <a:lnTo>
                      <a:pt x="7" y="446"/>
                    </a:lnTo>
                    <a:lnTo>
                      <a:pt x="12" y="462"/>
                    </a:lnTo>
                    <a:lnTo>
                      <a:pt x="17" y="477"/>
                    </a:lnTo>
                    <a:lnTo>
                      <a:pt x="24" y="492"/>
                    </a:lnTo>
                    <a:lnTo>
                      <a:pt x="32" y="507"/>
                    </a:lnTo>
                    <a:lnTo>
                      <a:pt x="53" y="494"/>
                    </a:lnTo>
                    <a:lnTo>
                      <a:pt x="32" y="507"/>
                    </a:lnTo>
                    <a:lnTo>
                      <a:pt x="36" y="510"/>
                    </a:lnTo>
                    <a:lnTo>
                      <a:pt x="40" y="513"/>
                    </a:lnTo>
                    <a:lnTo>
                      <a:pt x="45" y="513"/>
                    </a:lnTo>
                    <a:lnTo>
                      <a:pt x="48" y="510"/>
                    </a:lnTo>
                    <a:lnTo>
                      <a:pt x="52" y="508"/>
                    </a:lnTo>
                    <a:lnTo>
                      <a:pt x="54" y="503"/>
                    </a:lnTo>
                    <a:lnTo>
                      <a:pt x="55" y="499"/>
                    </a:lnTo>
                    <a:lnTo>
                      <a:pt x="53" y="494"/>
                    </a:lnTo>
                    <a:lnTo>
                      <a:pt x="32" y="50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830840" y="4135680"/>
                <a:ext cx="158760" cy="58680"/>
              </a:xfrm>
              <a:custGeom>
                <a:avLst/>
                <a:gdLst/>
                <a:ahLst/>
                <a:rect l="l" t="t" r="r" b="b"/>
                <a:pathLst>
                  <a:path w="499" h="185">
                    <a:moveTo>
                      <a:pt x="22" y="16"/>
                    </a:moveTo>
                    <a:lnTo>
                      <a:pt x="13" y="34"/>
                    </a:lnTo>
                    <a:lnTo>
                      <a:pt x="46" y="31"/>
                    </a:lnTo>
                    <a:lnTo>
                      <a:pt x="79" y="28"/>
                    </a:lnTo>
                    <a:lnTo>
                      <a:pt x="112" y="25"/>
                    </a:lnTo>
                    <a:lnTo>
                      <a:pt x="145" y="25"/>
                    </a:lnTo>
                    <a:lnTo>
                      <a:pt x="177" y="25"/>
                    </a:lnTo>
                    <a:lnTo>
                      <a:pt x="209" y="28"/>
                    </a:lnTo>
                    <a:lnTo>
                      <a:pt x="241" y="32"/>
                    </a:lnTo>
                    <a:lnTo>
                      <a:pt x="272" y="38"/>
                    </a:lnTo>
                    <a:lnTo>
                      <a:pt x="287" y="42"/>
                    </a:lnTo>
                    <a:lnTo>
                      <a:pt x="302" y="47"/>
                    </a:lnTo>
                    <a:lnTo>
                      <a:pt x="316" y="51"/>
                    </a:lnTo>
                    <a:lnTo>
                      <a:pt x="331" y="57"/>
                    </a:lnTo>
                    <a:lnTo>
                      <a:pt x="345" y="64"/>
                    </a:lnTo>
                    <a:lnTo>
                      <a:pt x="359" y="71"/>
                    </a:lnTo>
                    <a:lnTo>
                      <a:pt x="372" y="79"/>
                    </a:lnTo>
                    <a:lnTo>
                      <a:pt x="386" y="87"/>
                    </a:lnTo>
                    <a:lnTo>
                      <a:pt x="398" y="96"/>
                    </a:lnTo>
                    <a:lnTo>
                      <a:pt x="411" y="106"/>
                    </a:lnTo>
                    <a:lnTo>
                      <a:pt x="424" y="118"/>
                    </a:lnTo>
                    <a:lnTo>
                      <a:pt x="435" y="129"/>
                    </a:lnTo>
                    <a:lnTo>
                      <a:pt x="446" y="142"/>
                    </a:lnTo>
                    <a:lnTo>
                      <a:pt x="458" y="155"/>
                    </a:lnTo>
                    <a:lnTo>
                      <a:pt x="468" y="169"/>
                    </a:lnTo>
                    <a:lnTo>
                      <a:pt x="478" y="185"/>
                    </a:lnTo>
                    <a:lnTo>
                      <a:pt x="499" y="172"/>
                    </a:lnTo>
                    <a:lnTo>
                      <a:pt x="487" y="155"/>
                    </a:lnTo>
                    <a:lnTo>
                      <a:pt x="476" y="140"/>
                    </a:lnTo>
                    <a:lnTo>
                      <a:pt x="465" y="126"/>
                    </a:lnTo>
                    <a:lnTo>
                      <a:pt x="452" y="112"/>
                    </a:lnTo>
                    <a:lnTo>
                      <a:pt x="439" y="99"/>
                    </a:lnTo>
                    <a:lnTo>
                      <a:pt x="427" y="88"/>
                    </a:lnTo>
                    <a:lnTo>
                      <a:pt x="413" y="77"/>
                    </a:lnTo>
                    <a:lnTo>
                      <a:pt x="400" y="67"/>
                    </a:lnTo>
                    <a:lnTo>
                      <a:pt x="385" y="58"/>
                    </a:lnTo>
                    <a:lnTo>
                      <a:pt x="370" y="49"/>
                    </a:lnTo>
                    <a:lnTo>
                      <a:pt x="355" y="42"/>
                    </a:lnTo>
                    <a:lnTo>
                      <a:pt x="340" y="35"/>
                    </a:lnTo>
                    <a:lnTo>
                      <a:pt x="326" y="29"/>
                    </a:lnTo>
                    <a:lnTo>
                      <a:pt x="310" y="23"/>
                    </a:lnTo>
                    <a:lnTo>
                      <a:pt x="294" y="18"/>
                    </a:lnTo>
                    <a:lnTo>
                      <a:pt x="278" y="15"/>
                    </a:lnTo>
                    <a:lnTo>
                      <a:pt x="245" y="8"/>
                    </a:lnTo>
                    <a:lnTo>
                      <a:pt x="212" y="4"/>
                    </a:lnTo>
                    <a:lnTo>
                      <a:pt x="178" y="1"/>
                    </a:lnTo>
                    <a:lnTo>
                      <a:pt x="145" y="0"/>
                    </a:lnTo>
                    <a:lnTo>
                      <a:pt x="111" y="1"/>
                    </a:lnTo>
                    <a:lnTo>
                      <a:pt x="77" y="4"/>
                    </a:lnTo>
                    <a:lnTo>
                      <a:pt x="44" y="7"/>
                    </a:lnTo>
                    <a:lnTo>
                      <a:pt x="11" y="10"/>
                    </a:lnTo>
                    <a:lnTo>
                      <a:pt x="2" y="29"/>
                    </a:lnTo>
                    <a:lnTo>
                      <a:pt x="11" y="10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32"/>
                    </a:lnTo>
                    <a:lnTo>
                      <a:pt x="9" y="34"/>
                    </a:lnTo>
                    <a:lnTo>
                      <a:pt x="13" y="34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832280" y="4142160"/>
                <a:ext cx="163440" cy="79200"/>
              </a:xfrm>
              <a:custGeom>
                <a:avLst/>
                <a:gdLst/>
                <a:ahLst/>
                <a:rect l="l" t="t" r="r" b="b"/>
                <a:pathLst>
                  <a:path w="516" h="252">
                    <a:moveTo>
                      <a:pt x="514" y="211"/>
                    </a:moveTo>
                    <a:lnTo>
                      <a:pt x="502" y="205"/>
                    </a:lnTo>
                    <a:lnTo>
                      <a:pt x="419" y="217"/>
                    </a:lnTo>
                    <a:lnTo>
                      <a:pt x="349" y="226"/>
                    </a:lnTo>
                    <a:lnTo>
                      <a:pt x="318" y="228"/>
                    </a:lnTo>
                    <a:lnTo>
                      <a:pt x="289" y="227"/>
                    </a:lnTo>
                    <a:lnTo>
                      <a:pt x="276" y="227"/>
                    </a:lnTo>
                    <a:lnTo>
                      <a:pt x="262" y="225"/>
                    </a:lnTo>
                    <a:lnTo>
                      <a:pt x="249" y="222"/>
                    </a:lnTo>
                    <a:lnTo>
                      <a:pt x="237" y="219"/>
                    </a:lnTo>
                    <a:lnTo>
                      <a:pt x="224" y="216"/>
                    </a:lnTo>
                    <a:lnTo>
                      <a:pt x="212" y="210"/>
                    </a:lnTo>
                    <a:lnTo>
                      <a:pt x="199" y="204"/>
                    </a:lnTo>
                    <a:lnTo>
                      <a:pt x="188" y="197"/>
                    </a:lnTo>
                    <a:lnTo>
                      <a:pt x="175" y="189"/>
                    </a:lnTo>
                    <a:lnTo>
                      <a:pt x="163" y="179"/>
                    </a:lnTo>
                    <a:lnTo>
                      <a:pt x="150" y="169"/>
                    </a:lnTo>
                    <a:lnTo>
                      <a:pt x="137" y="156"/>
                    </a:lnTo>
                    <a:lnTo>
                      <a:pt x="124" y="143"/>
                    </a:lnTo>
                    <a:lnTo>
                      <a:pt x="110" y="128"/>
                    </a:lnTo>
                    <a:lnTo>
                      <a:pt x="97" y="111"/>
                    </a:lnTo>
                    <a:lnTo>
                      <a:pt x="82" y="92"/>
                    </a:lnTo>
                    <a:lnTo>
                      <a:pt x="67" y="72"/>
                    </a:lnTo>
                    <a:lnTo>
                      <a:pt x="52" y="49"/>
                    </a:lnTo>
                    <a:lnTo>
                      <a:pt x="36" y="26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16" y="39"/>
                    </a:lnTo>
                    <a:lnTo>
                      <a:pt x="33" y="63"/>
                    </a:lnTo>
                    <a:lnTo>
                      <a:pt x="48" y="86"/>
                    </a:lnTo>
                    <a:lnTo>
                      <a:pt x="63" y="106"/>
                    </a:lnTo>
                    <a:lnTo>
                      <a:pt x="77" y="126"/>
                    </a:lnTo>
                    <a:lnTo>
                      <a:pt x="92" y="143"/>
                    </a:lnTo>
                    <a:lnTo>
                      <a:pt x="106" y="159"/>
                    </a:lnTo>
                    <a:lnTo>
                      <a:pt x="120" y="173"/>
                    </a:lnTo>
                    <a:lnTo>
                      <a:pt x="134" y="186"/>
                    </a:lnTo>
                    <a:lnTo>
                      <a:pt x="148" y="198"/>
                    </a:lnTo>
                    <a:lnTo>
                      <a:pt x="162" y="209"/>
                    </a:lnTo>
                    <a:lnTo>
                      <a:pt x="174" y="218"/>
                    </a:lnTo>
                    <a:lnTo>
                      <a:pt x="188" y="226"/>
                    </a:lnTo>
                    <a:lnTo>
                      <a:pt x="203" y="233"/>
                    </a:lnTo>
                    <a:lnTo>
                      <a:pt x="216" y="238"/>
                    </a:lnTo>
                    <a:lnTo>
                      <a:pt x="230" y="243"/>
                    </a:lnTo>
                    <a:lnTo>
                      <a:pt x="245" y="246"/>
                    </a:lnTo>
                    <a:lnTo>
                      <a:pt x="259" y="249"/>
                    </a:lnTo>
                    <a:lnTo>
                      <a:pt x="273" y="251"/>
                    </a:lnTo>
                    <a:lnTo>
                      <a:pt x="288" y="252"/>
                    </a:lnTo>
                    <a:lnTo>
                      <a:pt x="319" y="252"/>
                    </a:lnTo>
                    <a:lnTo>
                      <a:pt x="351" y="250"/>
                    </a:lnTo>
                    <a:lnTo>
                      <a:pt x="423" y="241"/>
                    </a:lnTo>
                    <a:lnTo>
                      <a:pt x="505" y="229"/>
                    </a:lnTo>
                    <a:lnTo>
                      <a:pt x="493" y="225"/>
                    </a:lnTo>
                    <a:lnTo>
                      <a:pt x="505" y="229"/>
                    </a:lnTo>
                    <a:lnTo>
                      <a:pt x="510" y="228"/>
                    </a:lnTo>
                    <a:lnTo>
                      <a:pt x="514" y="225"/>
                    </a:lnTo>
                    <a:lnTo>
                      <a:pt x="515" y="221"/>
                    </a:lnTo>
                    <a:lnTo>
                      <a:pt x="516" y="217"/>
                    </a:lnTo>
                    <a:lnTo>
                      <a:pt x="514" y="212"/>
                    </a:lnTo>
                    <a:lnTo>
                      <a:pt x="512" y="209"/>
                    </a:lnTo>
                    <a:lnTo>
                      <a:pt x="507" y="206"/>
                    </a:lnTo>
                    <a:lnTo>
                      <a:pt x="502" y="205"/>
                    </a:lnTo>
                    <a:lnTo>
                      <a:pt x="514" y="2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987800" y="4208760"/>
                <a:ext cx="47880" cy="120600"/>
              </a:xfrm>
              <a:custGeom>
                <a:avLst/>
                <a:gdLst/>
                <a:ahLst/>
                <a:rect l="l" t="t" r="r" b="b"/>
                <a:pathLst>
                  <a:path w="147" h="383">
                    <a:moveTo>
                      <a:pt x="147" y="358"/>
                    </a:moveTo>
                    <a:lnTo>
                      <a:pt x="147" y="358"/>
                    </a:lnTo>
                    <a:lnTo>
                      <a:pt x="141" y="358"/>
                    </a:lnTo>
                    <a:lnTo>
                      <a:pt x="134" y="356"/>
                    </a:lnTo>
                    <a:lnTo>
                      <a:pt x="127" y="352"/>
                    </a:lnTo>
                    <a:lnTo>
                      <a:pt x="121" y="347"/>
                    </a:lnTo>
                    <a:lnTo>
                      <a:pt x="114" y="341"/>
                    </a:lnTo>
                    <a:lnTo>
                      <a:pt x="109" y="333"/>
                    </a:lnTo>
                    <a:lnTo>
                      <a:pt x="102" y="323"/>
                    </a:lnTo>
                    <a:lnTo>
                      <a:pt x="96" y="312"/>
                    </a:lnTo>
                    <a:lnTo>
                      <a:pt x="92" y="301"/>
                    </a:lnTo>
                    <a:lnTo>
                      <a:pt x="86" y="288"/>
                    </a:lnTo>
                    <a:lnTo>
                      <a:pt x="81" y="275"/>
                    </a:lnTo>
                    <a:lnTo>
                      <a:pt x="77" y="261"/>
                    </a:lnTo>
                    <a:lnTo>
                      <a:pt x="69" y="230"/>
                    </a:lnTo>
                    <a:lnTo>
                      <a:pt x="61" y="200"/>
                    </a:lnTo>
                    <a:lnTo>
                      <a:pt x="49" y="136"/>
                    </a:lnTo>
                    <a:lnTo>
                      <a:pt x="39" y="76"/>
                    </a:lnTo>
                    <a:lnTo>
                      <a:pt x="36" y="51"/>
                    </a:lnTo>
                    <a:lnTo>
                      <a:pt x="31" y="30"/>
                    </a:lnTo>
                    <a:lnTo>
                      <a:pt x="27" y="13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4" y="21"/>
                    </a:lnTo>
                    <a:lnTo>
                      <a:pt x="7" y="35"/>
                    </a:lnTo>
                    <a:lnTo>
                      <a:pt x="12" y="56"/>
                    </a:lnTo>
                    <a:lnTo>
                      <a:pt x="15" y="81"/>
                    </a:lnTo>
                    <a:lnTo>
                      <a:pt x="25" y="139"/>
                    </a:lnTo>
                    <a:lnTo>
                      <a:pt x="37" y="204"/>
                    </a:lnTo>
                    <a:lnTo>
                      <a:pt x="45" y="236"/>
                    </a:lnTo>
                    <a:lnTo>
                      <a:pt x="53" y="268"/>
                    </a:lnTo>
                    <a:lnTo>
                      <a:pt x="58" y="283"/>
                    </a:lnTo>
                    <a:lnTo>
                      <a:pt x="63" y="296"/>
                    </a:lnTo>
                    <a:lnTo>
                      <a:pt x="69" y="310"/>
                    </a:lnTo>
                    <a:lnTo>
                      <a:pt x="74" y="324"/>
                    </a:lnTo>
                    <a:lnTo>
                      <a:pt x="81" y="335"/>
                    </a:lnTo>
                    <a:lnTo>
                      <a:pt x="88" y="347"/>
                    </a:lnTo>
                    <a:lnTo>
                      <a:pt x="96" y="356"/>
                    </a:lnTo>
                    <a:lnTo>
                      <a:pt x="105" y="365"/>
                    </a:lnTo>
                    <a:lnTo>
                      <a:pt x="114" y="372"/>
                    </a:lnTo>
                    <a:lnTo>
                      <a:pt x="125" y="377"/>
                    </a:lnTo>
                    <a:lnTo>
                      <a:pt x="136" y="381"/>
                    </a:lnTo>
                    <a:lnTo>
                      <a:pt x="147" y="383"/>
                    </a:lnTo>
                    <a:lnTo>
                      <a:pt x="147" y="383"/>
                    </a:lnTo>
                    <a:lnTo>
                      <a:pt x="147" y="35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035680" y="4191120"/>
                <a:ext cx="110880" cy="138240"/>
              </a:xfrm>
              <a:custGeom>
                <a:avLst/>
                <a:gdLst/>
                <a:ahLst/>
                <a:rect l="l" t="t" r="r" b="b"/>
                <a:pathLst>
                  <a:path w="351" h="439">
                    <a:moveTo>
                      <a:pt x="196" y="24"/>
                    </a:moveTo>
                    <a:lnTo>
                      <a:pt x="196" y="24"/>
                    </a:lnTo>
                    <a:lnTo>
                      <a:pt x="210" y="26"/>
                    </a:lnTo>
                    <a:lnTo>
                      <a:pt x="224" y="30"/>
                    </a:lnTo>
                    <a:lnTo>
                      <a:pt x="236" y="32"/>
                    </a:lnTo>
                    <a:lnTo>
                      <a:pt x="248" y="35"/>
                    </a:lnTo>
                    <a:lnTo>
                      <a:pt x="258" y="40"/>
                    </a:lnTo>
                    <a:lnTo>
                      <a:pt x="267" y="43"/>
                    </a:lnTo>
                    <a:lnTo>
                      <a:pt x="276" y="48"/>
                    </a:lnTo>
                    <a:lnTo>
                      <a:pt x="284" y="53"/>
                    </a:lnTo>
                    <a:lnTo>
                      <a:pt x="291" y="58"/>
                    </a:lnTo>
                    <a:lnTo>
                      <a:pt x="298" y="63"/>
                    </a:lnTo>
                    <a:lnTo>
                      <a:pt x="304" y="69"/>
                    </a:lnTo>
                    <a:lnTo>
                      <a:pt x="308" y="74"/>
                    </a:lnTo>
                    <a:lnTo>
                      <a:pt x="313" y="80"/>
                    </a:lnTo>
                    <a:lnTo>
                      <a:pt x="317" y="87"/>
                    </a:lnTo>
                    <a:lnTo>
                      <a:pt x="319" y="92"/>
                    </a:lnTo>
                    <a:lnTo>
                      <a:pt x="323" y="99"/>
                    </a:lnTo>
                    <a:lnTo>
                      <a:pt x="324" y="106"/>
                    </a:lnTo>
                    <a:lnTo>
                      <a:pt x="326" y="113"/>
                    </a:lnTo>
                    <a:lnTo>
                      <a:pt x="327" y="121"/>
                    </a:lnTo>
                    <a:lnTo>
                      <a:pt x="327" y="128"/>
                    </a:lnTo>
                    <a:lnTo>
                      <a:pt x="326" y="144"/>
                    </a:lnTo>
                    <a:lnTo>
                      <a:pt x="324" y="160"/>
                    </a:lnTo>
                    <a:lnTo>
                      <a:pt x="319" y="177"/>
                    </a:lnTo>
                    <a:lnTo>
                      <a:pt x="313" y="194"/>
                    </a:lnTo>
                    <a:lnTo>
                      <a:pt x="304" y="211"/>
                    </a:lnTo>
                    <a:lnTo>
                      <a:pt x="293" y="229"/>
                    </a:lnTo>
                    <a:lnTo>
                      <a:pt x="282" y="248"/>
                    </a:lnTo>
                    <a:lnTo>
                      <a:pt x="268" y="265"/>
                    </a:lnTo>
                    <a:lnTo>
                      <a:pt x="253" y="282"/>
                    </a:lnTo>
                    <a:lnTo>
                      <a:pt x="237" y="299"/>
                    </a:lnTo>
                    <a:lnTo>
                      <a:pt x="220" y="315"/>
                    </a:lnTo>
                    <a:lnTo>
                      <a:pt x="203" y="330"/>
                    </a:lnTo>
                    <a:lnTo>
                      <a:pt x="184" y="344"/>
                    </a:lnTo>
                    <a:lnTo>
                      <a:pt x="164" y="358"/>
                    </a:lnTo>
                    <a:lnTo>
                      <a:pt x="145" y="371"/>
                    </a:lnTo>
                    <a:lnTo>
                      <a:pt x="125" y="381"/>
                    </a:lnTo>
                    <a:lnTo>
                      <a:pt x="104" y="391"/>
                    </a:lnTo>
                    <a:lnTo>
                      <a:pt x="82" y="399"/>
                    </a:lnTo>
                    <a:lnTo>
                      <a:pt x="62" y="406"/>
                    </a:lnTo>
                    <a:lnTo>
                      <a:pt x="41" y="411"/>
                    </a:lnTo>
                    <a:lnTo>
                      <a:pt x="21" y="413"/>
                    </a:lnTo>
                    <a:lnTo>
                      <a:pt x="0" y="414"/>
                    </a:lnTo>
                    <a:lnTo>
                      <a:pt x="0" y="439"/>
                    </a:lnTo>
                    <a:lnTo>
                      <a:pt x="23" y="438"/>
                    </a:lnTo>
                    <a:lnTo>
                      <a:pt x="46" y="434"/>
                    </a:lnTo>
                    <a:lnTo>
                      <a:pt x="68" y="429"/>
                    </a:lnTo>
                    <a:lnTo>
                      <a:pt x="90" y="422"/>
                    </a:lnTo>
                    <a:lnTo>
                      <a:pt x="113" y="413"/>
                    </a:lnTo>
                    <a:lnTo>
                      <a:pt x="135" y="403"/>
                    </a:lnTo>
                    <a:lnTo>
                      <a:pt x="156" y="391"/>
                    </a:lnTo>
                    <a:lnTo>
                      <a:pt x="178" y="377"/>
                    </a:lnTo>
                    <a:lnTo>
                      <a:pt x="199" y="364"/>
                    </a:lnTo>
                    <a:lnTo>
                      <a:pt x="218" y="349"/>
                    </a:lnTo>
                    <a:lnTo>
                      <a:pt x="237" y="332"/>
                    </a:lnTo>
                    <a:lnTo>
                      <a:pt x="254" y="316"/>
                    </a:lnTo>
                    <a:lnTo>
                      <a:pt x="272" y="298"/>
                    </a:lnTo>
                    <a:lnTo>
                      <a:pt x="288" y="279"/>
                    </a:lnTo>
                    <a:lnTo>
                      <a:pt x="301" y="261"/>
                    </a:lnTo>
                    <a:lnTo>
                      <a:pt x="314" y="242"/>
                    </a:lnTo>
                    <a:lnTo>
                      <a:pt x="325" y="222"/>
                    </a:lnTo>
                    <a:lnTo>
                      <a:pt x="334" y="204"/>
                    </a:lnTo>
                    <a:lnTo>
                      <a:pt x="342" y="185"/>
                    </a:lnTo>
                    <a:lnTo>
                      <a:pt x="347" y="165"/>
                    </a:lnTo>
                    <a:lnTo>
                      <a:pt x="350" y="146"/>
                    </a:lnTo>
                    <a:lnTo>
                      <a:pt x="351" y="128"/>
                    </a:lnTo>
                    <a:lnTo>
                      <a:pt x="351" y="119"/>
                    </a:lnTo>
                    <a:lnTo>
                      <a:pt x="350" y="110"/>
                    </a:lnTo>
                    <a:lnTo>
                      <a:pt x="348" y="100"/>
                    </a:lnTo>
                    <a:lnTo>
                      <a:pt x="346" y="91"/>
                    </a:lnTo>
                    <a:lnTo>
                      <a:pt x="342" y="83"/>
                    </a:lnTo>
                    <a:lnTo>
                      <a:pt x="338" y="74"/>
                    </a:lnTo>
                    <a:lnTo>
                      <a:pt x="333" y="66"/>
                    </a:lnTo>
                    <a:lnTo>
                      <a:pt x="327" y="59"/>
                    </a:lnTo>
                    <a:lnTo>
                      <a:pt x="321" y="51"/>
                    </a:lnTo>
                    <a:lnTo>
                      <a:pt x="314" y="45"/>
                    </a:lnTo>
                    <a:lnTo>
                      <a:pt x="306" y="39"/>
                    </a:lnTo>
                    <a:lnTo>
                      <a:pt x="297" y="32"/>
                    </a:lnTo>
                    <a:lnTo>
                      <a:pt x="288" y="26"/>
                    </a:lnTo>
                    <a:lnTo>
                      <a:pt x="277" y="22"/>
                    </a:lnTo>
                    <a:lnTo>
                      <a:pt x="266" y="17"/>
                    </a:lnTo>
                    <a:lnTo>
                      <a:pt x="254" y="13"/>
                    </a:lnTo>
                    <a:lnTo>
                      <a:pt x="242" y="9"/>
                    </a:lnTo>
                    <a:lnTo>
                      <a:pt x="228" y="6"/>
                    </a:lnTo>
                    <a:lnTo>
                      <a:pt x="215" y="2"/>
                    </a:lnTo>
                    <a:lnTo>
                      <a:pt x="200" y="0"/>
                    </a:lnTo>
                    <a:lnTo>
                      <a:pt x="200" y="0"/>
                    </a:lnTo>
                    <a:lnTo>
                      <a:pt x="196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067360" y="4111920"/>
                <a:ext cx="82440" cy="85680"/>
              </a:xfrm>
              <a:custGeom>
                <a:avLst/>
                <a:gdLst/>
                <a:ahLst/>
                <a:rect l="l" t="t" r="r" b="b"/>
                <a:pathLst>
                  <a:path w="263" h="271">
                    <a:moveTo>
                      <a:pt x="226" y="23"/>
                    </a:moveTo>
                    <a:lnTo>
                      <a:pt x="209" y="18"/>
                    </a:lnTo>
                    <a:lnTo>
                      <a:pt x="216" y="31"/>
                    </a:lnTo>
                    <a:lnTo>
                      <a:pt x="223" y="42"/>
                    </a:lnTo>
                    <a:lnTo>
                      <a:pt x="228" y="53"/>
                    </a:lnTo>
                    <a:lnTo>
                      <a:pt x="231" y="64"/>
                    </a:lnTo>
                    <a:lnTo>
                      <a:pt x="234" y="74"/>
                    </a:lnTo>
                    <a:lnTo>
                      <a:pt x="237" y="83"/>
                    </a:lnTo>
                    <a:lnTo>
                      <a:pt x="238" y="92"/>
                    </a:lnTo>
                    <a:lnTo>
                      <a:pt x="238" y="100"/>
                    </a:lnTo>
                    <a:lnTo>
                      <a:pt x="238" y="108"/>
                    </a:lnTo>
                    <a:lnTo>
                      <a:pt x="238" y="116"/>
                    </a:lnTo>
                    <a:lnTo>
                      <a:pt x="236" y="123"/>
                    </a:lnTo>
                    <a:lnTo>
                      <a:pt x="233" y="130"/>
                    </a:lnTo>
                    <a:lnTo>
                      <a:pt x="231" y="137"/>
                    </a:lnTo>
                    <a:lnTo>
                      <a:pt x="228" y="142"/>
                    </a:lnTo>
                    <a:lnTo>
                      <a:pt x="224" y="148"/>
                    </a:lnTo>
                    <a:lnTo>
                      <a:pt x="220" y="154"/>
                    </a:lnTo>
                    <a:lnTo>
                      <a:pt x="209" y="165"/>
                    </a:lnTo>
                    <a:lnTo>
                      <a:pt x="198" y="174"/>
                    </a:lnTo>
                    <a:lnTo>
                      <a:pt x="184" y="183"/>
                    </a:lnTo>
                    <a:lnTo>
                      <a:pt x="169" y="191"/>
                    </a:lnTo>
                    <a:lnTo>
                      <a:pt x="155" y="198"/>
                    </a:lnTo>
                    <a:lnTo>
                      <a:pt x="139" y="204"/>
                    </a:lnTo>
                    <a:lnTo>
                      <a:pt x="122" y="210"/>
                    </a:lnTo>
                    <a:lnTo>
                      <a:pt x="106" y="213"/>
                    </a:lnTo>
                    <a:lnTo>
                      <a:pt x="45" y="225"/>
                    </a:lnTo>
                    <a:lnTo>
                      <a:pt x="10" y="232"/>
                    </a:lnTo>
                    <a:lnTo>
                      <a:pt x="5" y="233"/>
                    </a:lnTo>
                    <a:lnTo>
                      <a:pt x="1" y="238"/>
                    </a:lnTo>
                    <a:lnTo>
                      <a:pt x="0" y="252"/>
                    </a:lnTo>
                    <a:lnTo>
                      <a:pt x="6" y="257"/>
                    </a:lnTo>
                    <a:lnTo>
                      <a:pt x="12" y="260"/>
                    </a:lnTo>
                    <a:lnTo>
                      <a:pt x="20" y="262"/>
                    </a:lnTo>
                    <a:lnTo>
                      <a:pt x="49" y="265"/>
                    </a:lnTo>
                    <a:lnTo>
                      <a:pt x="95" y="271"/>
                    </a:lnTo>
                    <a:lnTo>
                      <a:pt x="99" y="247"/>
                    </a:lnTo>
                    <a:lnTo>
                      <a:pt x="52" y="241"/>
                    </a:lnTo>
                    <a:lnTo>
                      <a:pt x="25" y="238"/>
                    </a:lnTo>
                    <a:lnTo>
                      <a:pt x="18" y="237"/>
                    </a:lnTo>
                    <a:lnTo>
                      <a:pt x="16" y="236"/>
                    </a:lnTo>
                    <a:lnTo>
                      <a:pt x="21" y="240"/>
                    </a:lnTo>
                    <a:lnTo>
                      <a:pt x="20" y="253"/>
                    </a:lnTo>
                    <a:lnTo>
                      <a:pt x="17" y="255"/>
                    </a:lnTo>
                    <a:lnTo>
                      <a:pt x="14" y="256"/>
                    </a:lnTo>
                    <a:lnTo>
                      <a:pt x="50" y="249"/>
                    </a:lnTo>
                    <a:lnTo>
                      <a:pt x="111" y="237"/>
                    </a:lnTo>
                    <a:lnTo>
                      <a:pt x="128" y="232"/>
                    </a:lnTo>
                    <a:lnTo>
                      <a:pt x="147" y="227"/>
                    </a:lnTo>
                    <a:lnTo>
                      <a:pt x="164" y="220"/>
                    </a:lnTo>
                    <a:lnTo>
                      <a:pt x="181" y="213"/>
                    </a:lnTo>
                    <a:lnTo>
                      <a:pt x="197" y="204"/>
                    </a:lnTo>
                    <a:lnTo>
                      <a:pt x="213" y="194"/>
                    </a:lnTo>
                    <a:lnTo>
                      <a:pt x="226" y="182"/>
                    </a:lnTo>
                    <a:lnTo>
                      <a:pt x="238" y="170"/>
                    </a:lnTo>
                    <a:lnTo>
                      <a:pt x="244" y="162"/>
                    </a:lnTo>
                    <a:lnTo>
                      <a:pt x="249" y="155"/>
                    </a:lnTo>
                    <a:lnTo>
                      <a:pt x="253" y="147"/>
                    </a:lnTo>
                    <a:lnTo>
                      <a:pt x="256" y="138"/>
                    </a:lnTo>
                    <a:lnTo>
                      <a:pt x="259" y="129"/>
                    </a:lnTo>
                    <a:lnTo>
                      <a:pt x="261" y="119"/>
                    </a:lnTo>
                    <a:lnTo>
                      <a:pt x="262" y="110"/>
                    </a:lnTo>
                    <a:lnTo>
                      <a:pt x="263" y="100"/>
                    </a:lnTo>
                    <a:lnTo>
                      <a:pt x="262" y="90"/>
                    </a:lnTo>
                    <a:lnTo>
                      <a:pt x="261" y="78"/>
                    </a:lnTo>
                    <a:lnTo>
                      <a:pt x="257" y="67"/>
                    </a:lnTo>
                    <a:lnTo>
                      <a:pt x="254" y="56"/>
                    </a:lnTo>
                    <a:lnTo>
                      <a:pt x="249" y="44"/>
                    </a:lnTo>
                    <a:lnTo>
                      <a:pt x="245" y="32"/>
                    </a:lnTo>
                    <a:lnTo>
                      <a:pt x="238" y="19"/>
                    </a:lnTo>
                    <a:lnTo>
                      <a:pt x="230" y="5"/>
                    </a:lnTo>
                    <a:lnTo>
                      <a:pt x="214" y="1"/>
                    </a:lnTo>
                    <a:lnTo>
                      <a:pt x="230" y="5"/>
                    </a:lnTo>
                    <a:lnTo>
                      <a:pt x="226" y="1"/>
                    </a:lnTo>
                    <a:lnTo>
                      <a:pt x="222" y="0"/>
                    </a:lnTo>
                    <a:lnTo>
                      <a:pt x="217" y="0"/>
                    </a:lnTo>
                    <a:lnTo>
                      <a:pt x="214" y="1"/>
                    </a:lnTo>
                    <a:lnTo>
                      <a:pt x="210" y="4"/>
                    </a:lnTo>
                    <a:lnTo>
                      <a:pt x="208" y="9"/>
                    </a:lnTo>
                    <a:lnTo>
                      <a:pt x="208" y="13"/>
                    </a:lnTo>
                    <a:lnTo>
                      <a:pt x="209" y="18"/>
                    </a:lnTo>
                    <a:lnTo>
                      <a:pt x="226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046840" y="4111920"/>
                <a:ext cx="91800" cy="88920"/>
              </a:xfrm>
              <a:custGeom>
                <a:avLst/>
                <a:gdLst/>
                <a:ahLst/>
                <a:rect l="l" t="t" r="r" b="b"/>
                <a:pathLst>
                  <a:path w="292" h="279">
                    <a:moveTo>
                      <a:pt x="1" y="269"/>
                    </a:moveTo>
                    <a:lnTo>
                      <a:pt x="23" y="271"/>
                    </a:lnTo>
                    <a:lnTo>
                      <a:pt x="33" y="251"/>
                    </a:lnTo>
                    <a:lnTo>
                      <a:pt x="43" y="231"/>
                    </a:lnTo>
                    <a:lnTo>
                      <a:pt x="55" y="213"/>
                    </a:lnTo>
                    <a:lnTo>
                      <a:pt x="68" y="196"/>
                    </a:lnTo>
                    <a:lnTo>
                      <a:pt x="83" y="179"/>
                    </a:lnTo>
                    <a:lnTo>
                      <a:pt x="98" y="162"/>
                    </a:lnTo>
                    <a:lnTo>
                      <a:pt x="115" y="147"/>
                    </a:lnTo>
                    <a:lnTo>
                      <a:pt x="132" y="131"/>
                    </a:lnTo>
                    <a:lnTo>
                      <a:pt x="150" y="116"/>
                    </a:lnTo>
                    <a:lnTo>
                      <a:pt x="168" y="103"/>
                    </a:lnTo>
                    <a:lnTo>
                      <a:pt x="188" y="88"/>
                    </a:lnTo>
                    <a:lnTo>
                      <a:pt x="208" y="74"/>
                    </a:lnTo>
                    <a:lnTo>
                      <a:pt x="249" y="48"/>
                    </a:lnTo>
                    <a:lnTo>
                      <a:pt x="292" y="22"/>
                    </a:lnTo>
                    <a:lnTo>
                      <a:pt x="280" y="0"/>
                    </a:lnTo>
                    <a:lnTo>
                      <a:pt x="237" y="27"/>
                    </a:lnTo>
                    <a:lnTo>
                      <a:pt x="194" y="55"/>
                    </a:lnTo>
                    <a:lnTo>
                      <a:pt x="174" y="68"/>
                    </a:lnTo>
                    <a:lnTo>
                      <a:pt x="155" y="83"/>
                    </a:lnTo>
                    <a:lnTo>
                      <a:pt x="135" y="98"/>
                    </a:lnTo>
                    <a:lnTo>
                      <a:pt x="116" y="113"/>
                    </a:lnTo>
                    <a:lnTo>
                      <a:pt x="98" y="129"/>
                    </a:lnTo>
                    <a:lnTo>
                      <a:pt x="80" y="145"/>
                    </a:lnTo>
                    <a:lnTo>
                      <a:pt x="65" y="163"/>
                    </a:lnTo>
                    <a:lnTo>
                      <a:pt x="50" y="181"/>
                    </a:lnTo>
                    <a:lnTo>
                      <a:pt x="35" y="199"/>
                    </a:lnTo>
                    <a:lnTo>
                      <a:pt x="22" y="220"/>
                    </a:lnTo>
                    <a:lnTo>
                      <a:pt x="11" y="240"/>
                    </a:lnTo>
                    <a:lnTo>
                      <a:pt x="1" y="262"/>
                    </a:lnTo>
                    <a:lnTo>
                      <a:pt x="25" y="264"/>
                    </a:lnTo>
                    <a:lnTo>
                      <a:pt x="1" y="262"/>
                    </a:lnTo>
                    <a:lnTo>
                      <a:pt x="0" y="268"/>
                    </a:lnTo>
                    <a:lnTo>
                      <a:pt x="1" y="272"/>
                    </a:lnTo>
                    <a:lnTo>
                      <a:pt x="4" y="276"/>
                    </a:lnTo>
                    <a:lnTo>
                      <a:pt x="8" y="278"/>
                    </a:lnTo>
                    <a:lnTo>
                      <a:pt x="12" y="279"/>
                    </a:lnTo>
                    <a:lnTo>
                      <a:pt x="17" y="278"/>
                    </a:lnTo>
                    <a:lnTo>
                      <a:pt x="20" y="276"/>
                    </a:lnTo>
                    <a:lnTo>
                      <a:pt x="23" y="271"/>
                    </a:lnTo>
                    <a:lnTo>
                      <a:pt x="1" y="26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451480" y="3775320"/>
                <a:ext cx="289080" cy="311040"/>
              </a:xfrm>
              <a:custGeom>
                <a:avLst/>
                <a:gdLst/>
                <a:ahLst/>
                <a:rect l="l" t="t" r="r" b="b"/>
                <a:pathLst>
                  <a:path w="910" h="980">
                    <a:moveTo>
                      <a:pt x="409" y="683"/>
                    </a:moveTo>
                    <a:lnTo>
                      <a:pt x="438" y="677"/>
                    </a:lnTo>
                    <a:lnTo>
                      <a:pt x="468" y="675"/>
                    </a:lnTo>
                    <a:lnTo>
                      <a:pt x="498" y="672"/>
                    </a:lnTo>
                    <a:lnTo>
                      <a:pt x="529" y="672"/>
                    </a:lnTo>
                    <a:lnTo>
                      <a:pt x="593" y="673"/>
                    </a:lnTo>
                    <a:lnTo>
                      <a:pt x="657" y="673"/>
                    </a:lnTo>
                    <a:lnTo>
                      <a:pt x="690" y="673"/>
                    </a:lnTo>
                    <a:lnTo>
                      <a:pt x="722" y="671"/>
                    </a:lnTo>
                    <a:lnTo>
                      <a:pt x="754" y="668"/>
                    </a:lnTo>
                    <a:lnTo>
                      <a:pt x="787" y="662"/>
                    </a:lnTo>
                    <a:lnTo>
                      <a:pt x="801" y="659"/>
                    </a:lnTo>
                    <a:lnTo>
                      <a:pt x="817" y="654"/>
                    </a:lnTo>
                    <a:lnTo>
                      <a:pt x="833" y="650"/>
                    </a:lnTo>
                    <a:lnTo>
                      <a:pt x="849" y="644"/>
                    </a:lnTo>
                    <a:lnTo>
                      <a:pt x="864" y="637"/>
                    </a:lnTo>
                    <a:lnTo>
                      <a:pt x="879" y="629"/>
                    </a:lnTo>
                    <a:lnTo>
                      <a:pt x="895" y="621"/>
                    </a:lnTo>
                    <a:lnTo>
                      <a:pt x="910" y="612"/>
                    </a:lnTo>
                    <a:lnTo>
                      <a:pt x="901" y="600"/>
                    </a:lnTo>
                    <a:lnTo>
                      <a:pt x="891" y="589"/>
                    </a:lnTo>
                    <a:lnTo>
                      <a:pt x="881" y="578"/>
                    </a:lnTo>
                    <a:lnTo>
                      <a:pt x="870" y="567"/>
                    </a:lnTo>
                    <a:lnTo>
                      <a:pt x="857" y="556"/>
                    </a:lnTo>
                    <a:lnTo>
                      <a:pt x="844" y="546"/>
                    </a:lnTo>
                    <a:lnTo>
                      <a:pt x="830" y="537"/>
                    </a:lnTo>
                    <a:lnTo>
                      <a:pt x="815" y="526"/>
                    </a:lnTo>
                    <a:lnTo>
                      <a:pt x="800" y="517"/>
                    </a:lnTo>
                    <a:lnTo>
                      <a:pt x="784" y="508"/>
                    </a:lnTo>
                    <a:lnTo>
                      <a:pt x="768" y="500"/>
                    </a:lnTo>
                    <a:lnTo>
                      <a:pt x="751" y="492"/>
                    </a:lnTo>
                    <a:lnTo>
                      <a:pt x="734" y="485"/>
                    </a:lnTo>
                    <a:lnTo>
                      <a:pt x="716" y="479"/>
                    </a:lnTo>
                    <a:lnTo>
                      <a:pt x="699" y="472"/>
                    </a:lnTo>
                    <a:lnTo>
                      <a:pt x="681" y="466"/>
                    </a:lnTo>
                    <a:lnTo>
                      <a:pt x="662" y="461"/>
                    </a:lnTo>
                    <a:lnTo>
                      <a:pt x="644" y="457"/>
                    </a:lnTo>
                    <a:lnTo>
                      <a:pt x="626" y="452"/>
                    </a:lnTo>
                    <a:lnTo>
                      <a:pt x="608" y="450"/>
                    </a:lnTo>
                    <a:lnTo>
                      <a:pt x="589" y="448"/>
                    </a:lnTo>
                    <a:lnTo>
                      <a:pt x="571" y="445"/>
                    </a:lnTo>
                    <a:lnTo>
                      <a:pt x="553" y="445"/>
                    </a:lnTo>
                    <a:lnTo>
                      <a:pt x="536" y="445"/>
                    </a:lnTo>
                    <a:lnTo>
                      <a:pt x="519" y="447"/>
                    </a:lnTo>
                    <a:lnTo>
                      <a:pt x="502" y="448"/>
                    </a:lnTo>
                    <a:lnTo>
                      <a:pt x="486" y="451"/>
                    </a:lnTo>
                    <a:lnTo>
                      <a:pt x="470" y="455"/>
                    </a:lnTo>
                    <a:lnTo>
                      <a:pt x="455" y="459"/>
                    </a:lnTo>
                    <a:lnTo>
                      <a:pt x="440" y="465"/>
                    </a:lnTo>
                    <a:lnTo>
                      <a:pt x="426" y="472"/>
                    </a:lnTo>
                    <a:lnTo>
                      <a:pt x="414" y="480"/>
                    </a:lnTo>
                    <a:lnTo>
                      <a:pt x="430" y="469"/>
                    </a:lnTo>
                    <a:lnTo>
                      <a:pt x="444" y="458"/>
                    </a:lnTo>
                    <a:lnTo>
                      <a:pt x="457" y="445"/>
                    </a:lnTo>
                    <a:lnTo>
                      <a:pt x="470" y="434"/>
                    </a:lnTo>
                    <a:lnTo>
                      <a:pt x="481" y="422"/>
                    </a:lnTo>
                    <a:lnTo>
                      <a:pt x="493" y="408"/>
                    </a:lnTo>
                    <a:lnTo>
                      <a:pt x="502" y="395"/>
                    </a:lnTo>
                    <a:lnTo>
                      <a:pt x="511" y="382"/>
                    </a:lnTo>
                    <a:lnTo>
                      <a:pt x="520" y="367"/>
                    </a:lnTo>
                    <a:lnTo>
                      <a:pt x="527" y="353"/>
                    </a:lnTo>
                    <a:lnTo>
                      <a:pt x="534" y="338"/>
                    </a:lnTo>
                    <a:lnTo>
                      <a:pt x="539" y="323"/>
                    </a:lnTo>
                    <a:lnTo>
                      <a:pt x="545" y="309"/>
                    </a:lnTo>
                    <a:lnTo>
                      <a:pt x="550" y="294"/>
                    </a:lnTo>
                    <a:lnTo>
                      <a:pt x="554" y="278"/>
                    </a:lnTo>
                    <a:lnTo>
                      <a:pt x="558" y="262"/>
                    </a:lnTo>
                    <a:lnTo>
                      <a:pt x="562" y="230"/>
                    </a:lnTo>
                    <a:lnTo>
                      <a:pt x="566" y="198"/>
                    </a:lnTo>
                    <a:lnTo>
                      <a:pt x="567" y="165"/>
                    </a:lnTo>
                    <a:lnTo>
                      <a:pt x="566" y="132"/>
                    </a:lnTo>
                    <a:lnTo>
                      <a:pt x="563" y="99"/>
                    </a:lnTo>
                    <a:lnTo>
                      <a:pt x="560" y="66"/>
                    </a:lnTo>
                    <a:lnTo>
                      <a:pt x="556" y="33"/>
                    </a:lnTo>
                    <a:lnTo>
                      <a:pt x="551" y="0"/>
                    </a:lnTo>
                    <a:lnTo>
                      <a:pt x="526" y="18"/>
                    </a:lnTo>
                    <a:lnTo>
                      <a:pt x="502" y="34"/>
                    </a:lnTo>
                    <a:lnTo>
                      <a:pt x="480" y="51"/>
                    </a:lnTo>
                    <a:lnTo>
                      <a:pt x="461" y="66"/>
                    </a:lnTo>
                    <a:lnTo>
                      <a:pt x="442" y="82"/>
                    </a:lnTo>
                    <a:lnTo>
                      <a:pt x="425" y="97"/>
                    </a:lnTo>
                    <a:lnTo>
                      <a:pt x="411" y="110"/>
                    </a:lnTo>
                    <a:lnTo>
                      <a:pt x="397" y="124"/>
                    </a:lnTo>
                    <a:lnTo>
                      <a:pt x="385" y="139"/>
                    </a:lnTo>
                    <a:lnTo>
                      <a:pt x="374" y="151"/>
                    </a:lnTo>
                    <a:lnTo>
                      <a:pt x="365" y="165"/>
                    </a:lnTo>
                    <a:lnTo>
                      <a:pt x="357" y="179"/>
                    </a:lnTo>
                    <a:lnTo>
                      <a:pt x="350" y="192"/>
                    </a:lnTo>
                    <a:lnTo>
                      <a:pt x="343" y="205"/>
                    </a:lnTo>
                    <a:lnTo>
                      <a:pt x="339" y="219"/>
                    </a:lnTo>
                    <a:lnTo>
                      <a:pt x="335" y="231"/>
                    </a:lnTo>
                    <a:lnTo>
                      <a:pt x="332" y="245"/>
                    </a:lnTo>
                    <a:lnTo>
                      <a:pt x="331" y="258"/>
                    </a:lnTo>
                    <a:lnTo>
                      <a:pt x="330" y="273"/>
                    </a:lnTo>
                    <a:lnTo>
                      <a:pt x="328" y="287"/>
                    </a:lnTo>
                    <a:lnTo>
                      <a:pt x="330" y="317"/>
                    </a:lnTo>
                    <a:lnTo>
                      <a:pt x="333" y="349"/>
                    </a:lnTo>
                    <a:lnTo>
                      <a:pt x="344" y="418"/>
                    </a:lnTo>
                    <a:lnTo>
                      <a:pt x="358" y="501"/>
                    </a:lnTo>
                    <a:lnTo>
                      <a:pt x="349" y="506"/>
                    </a:lnTo>
                    <a:lnTo>
                      <a:pt x="333" y="510"/>
                    </a:lnTo>
                    <a:lnTo>
                      <a:pt x="311" y="515"/>
                    </a:lnTo>
                    <a:lnTo>
                      <a:pt x="287" y="521"/>
                    </a:lnTo>
                    <a:lnTo>
                      <a:pt x="228" y="532"/>
                    </a:lnTo>
                    <a:lnTo>
                      <a:pt x="166" y="547"/>
                    </a:lnTo>
                    <a:lnTo>
                      <a:pt x="134" y="556"/>
                    </a:lnTo>
                    <a:lnTo>
                      <a:pt x="103" y="565"/>
                    </a:lnTo>
                    <a:lnTo>
                      <a:pt x="89" y="570"/>
                    </a:lnTo>
                    <a:lnTo>
                      <a:pt x="75" y="575"/>
                    </a:lnTo>
                    <a:lnTo>
                      <a:pt x="62" y="581"/>
                    </a:lnTo>
                    <a:lnTo>
                      <a:pt x="50" y="588"/>
                    </a:lnTo>
                    <a:lnTo>
                      <a:pt x="39" y="595"/>
                    </a:lnTo>
                    <a:lnTo>
                      <a:pt x="30" y="602"/>
                    </a:lnTo>
                    <a:lnTo>
                      <a:pt x="21" y="608"/>
                    </a:lnTo>
                    <a:lnTo>
                      <a:pt x="14" y="616"/>
                    </a:lnTo>
                    <a:lnTo>
                      <a:pt x="8" y="624"/>
                    </a:lnTo>
                    <a:lnTo>
                      <a:pt x="4" y="634"/>
                    </a:lnTo>
                    <a:lnTo>
                      <a:pt x="1" y="642"/>
                    </a:lnTo>
                    <a:lnTo>
                      <a:pt x="0" y="652"/>
                    </a:lnTo>
                    <a:lnTo>
                      <a:pt x="3" y="672"/>
                    </a:lnTo>
                    <a:lnTo>
                      <a:pt x="6" y="694"/>
                    </a:lnTo>
                    <a:lnTo>
                      <a:pt x="12" y="716"/>
                    </a:lnTo>
                    <a:lnTo>
                      <a:pt x="20" y="737"/>
                    </a:lnTo>
                    <a:lnTo>
                      <a:pt x="29" y="759"/>
                    </a:lnTo>
                    <a:lnTo>
                      <a:pt x="40" y="779"/>
                    </a:lnTo>
                    <a:lnTo>
                      <a:pt x="53" y="800"/>
                    </a:lnTo>
                    <a:lnTo>
                      <a:pt x="66" y="821"/>
                    </a:lnTo>
                    <a:lnTo>
                      <a:pt x="80" y="840"/>
                    </a:lnTo>
                    <a:lnTo>
                      <a:pt x="96" y="858"/>
                    </a:lnTo>
                    <a:lnTo>
                      <a:pt x="112" y="876"/>
                    </a:lnTo>
                    <a:lnTo>
                      <a:pt x="130" y="892"/>
                    </a:lnTo>
                    <a:lnTo>
                      <a:pt x="147" y="908"/>
                    </a:lnTo>
                    <a:lnTo>
                      <a:pt x="166" y="923"/>
                    </a:lnTo>
                    <a:lnTo>
                      <a:pt x="184" y="936"/>
                    </a:lnTo>
                    <a:lnTo>
                      <a:pt x="203" y="947"/>
                    </a:lnTo>
                    <a:lnTo>
                      <a:pt x="221" y="957"/>
                    </a:lnTo>
                    <a:lnTo>
                      <a:pt x="241" y="965"/>
                    </a:lnTo>
                    <a:lnTo>
                      <a:pt x="259" y="972"/>
                    </a:lnTo>
                    <a:lnTo>
                      <a:pt x="277" y="976"/>
                    </a:lnTo>
                    <a:lnTo>
                      <a:pt x="294" y="979"/>
                    </a:lnTo>
                    <a:lnTo>
                      <a:pt x="311" y="979"/>
                    </a:lnTo>
                    <a:lnTo>
                      <a:pt x="328" y="977"/>
                    </a:lnTo>
                    <a:lnTo>
                      <a:pt x="343" y="972"/>
                    </a:lnTo>
                    <a:lnTo>
                      <a:pt x="358" y="965"/>
                    </a:lnTo>
                    <a:lnTo>
                      <a:pt x="372" y="955"/>
                    </a:lnTo>
                    <a:lnTo>
                      <a:pt x="383" y="942"/>
                    </a:lnTo>
                    <a:lnTo>
                      <a:pt x="395" y="927"/>
                    </a:lnTo>
                    <a:lnTo>
                      <a:pt x="404" y="908"/>
                    </a:lnTo>
                    <a:lnTo>
                      <a:pt x="412" y="887"/>
                    </a:lnTo>
                    <a:lnTo>
                      <a:pt x="417" y="862"/>
                    </a:lnTo>
                    <a:lnTo>
                      <a:pt x="421" y="833"/>
                    </a:lnTo>
                    <a:lnTo>
                      <a:pt x="425" y="786"/>
                    </a:lnTo>
                    <a:lnTo>
                      <a:pt x="429" y="759"/>
                    </a:lnTo>
                    <a:lnTo>
                      <a:pt x="430" y="751"/>
                    </a:lnTo>
                    <a:lnTo>
                      <a:pt x="431" y="746"/>
                    </a:lnTo>
                    <a:lnTo>
                      <a:pt x="432" y="746"/>
                    </a:lnTo>
                    <a:lnTo>
                      <a:pt x="433" y="749"/>
                    </a:lnTo>
                    <a:lnTo>
                      <a:pt x="441" y="783"/>
                    </a:lnTo>
                    <a:lnTo>
                      <a:pt x="456" y="843"/>
                    </a:lnTo>
                    <a:lnTo>
                      <a:pt x="462" y="860"/>
                    </a:lnTo>
                    <a:lnTo>
                      <a:pt x="468" y="878"/>
                    </a:lnTo>
                    <a:lnTo>
                      <a:pt x="474" y="893"/>
                    </a:lnTo>
                    <a:lnTo>
                      <a:pt x="482" y="909"/>
                    </a:lnTo>
                    <a:lnTo>
                      <a:pt x="491" y="924"/>
                    </a:lnTo>
                    <a:lnTo>
                      <a:pt x="501" y="939"/>
                    </a:lnTo>
                    <a:lnTo>
                      <a:pt x="512" y="952"/>
                    </a:lnTo>
                    <a:lnTo>
                      <a:pt x="525" y="962"/>
                    </a:lnTo>
                    <a:lnTo>
                      <a:pt x="537" y="970"/>
                    </a:lnTo>
                    <a:lnTo>
                      <a:pt x="552" y="977"/>
                    </a:lnTo>
                    <a:lnTo>
                      <a:pt x="568" y="980"/>
                    </a:lnTo>
                    <a:lnTo>
                      <a:pt x="586" y="980"/>
                    </a:lnTo>
                    <a:lnTo>
                      <a:pt x="605" y="978"/>
                    </a:lnTo>
                    <a:lnTo>
                      <a:pt x="626" y="971"/>
                    </a:lnTo>
                    <a:lnTo>
                      <a:pt x="648" y="961"/>
                    </a:lnTo>
                    <a:lnTo>
                      <a:pt x="672" y="946"/>
                    </a:lnTo>
                    <a:lnTo>
                      <a:pt x="644" y="905"/>
                    </a:lnTo>
                    <a:lnTo>
                      <a:pt x="617" y="864"/>
                    </a:lnTo>
                    <a:lnTo>
                      <a:pt x="602" y="844"/>
                    </a:lnTo>
                    <a:lnTo>
                      <a:pt x="587" y="825"/>
                    </a:lnTo>
                    <a:lnTo>
                      <a:pt x="572" y="807"/>
                    </a:lnTo>
                    <a:lnTo>
                      <a:pt x="556" y="789"/>
                    </a:lnTo>
                    <a:lnTo>
                      <a:pt x="540" y="771"/>
                    </a:lnTo>
                    <a:lnTo>
                      <a:pt x="523" y="756"/>
                    </a:lnTo>
                    <a:lnTo>
                      <a:pt x="506" y="741"/>
                    </a:lnTo>
                    <a:lnTo>
                      <a:pt x="489" y="727"/>
                    </a:lnTo>
                    <a:lnTo>
                      <a:pt x="470" y="713"/>
                    </a:lnTo>
                    <a:lnTo>
                      <a:pt x="450" y="702"/>
                    </a:lnTo>
                    <a:lnTo>
                      <a:pt x="430" y="692"/>
                    </a:lnTo>
                    <a:lnTo>
                      <a:pt x="409" y="68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580000" y="3965760"/>
                <a:ext cx="163440" cy="30240"/>
              </a:xfrm>
              <a:custGeom>
                <a:avLst/>
                <a:gdLst/>
                <a:ahLst/>
                <a:rect l="l" t="t" r="r" b="b"/>
                <a:pathLst>
                  <a:path w="515" h="95">
                    <a:moveTo>
                      <a:pt x="493" y="20"/>
                    </a:moveTo>
                    <a:lnTo>
                      <a:pt x="497" y="3"/>
                    </a:lnTo>
                    <a:lnTo>
                      <a:pt x="482" y="12"/>
                    </a:lnTo>
                    <a:lnTo>
                      <a:pt x="467" y="20"/>
                    </a:lnTo>
                    <a:lnTo>
                      <a:pt x="454" y="27"/>
                    </a:lnTo>
                    <a:lnTo>
                      <a:pt x="439" y="33"/>
                    </a:lnTo>
                    <a:lnTo>
                      <a:pt x="423" y="39"/>
                    </a:lnTo>
                    <a:lnTo>
                      <a:pt x="408" y="44"/>
                    </a:lnTo>
                    <a:lnTo>
                      <a:pt x="393" y="48"/>
                    </a:lnTo>
                    <a:lnTo>
                      <a:pt x="378" y="52"/>
                    </a:lnTo>
                    <a:lnTo>
                      <a:pt x="346" y="57"/>
                    </a:lnTo>
                    <a:lnTo>
                      <a:pt x="315" y="61"/>
                    </a:lnTo>
                    <a:lnTo>
                      <a:pt x="283" y="62"/>
                    </a:lnTo>
                    <a:lnTo>
                      <a:pt x="251" y="63"/>
                    </a:lnTo>
                    <a:lnTo>
                      <a:pt x="187" y="62"/>
                    </a:lnTo>
                    <a:lnTo>
                      <a:pt x="123" y="61"/>
                    </a:lnTo>
                    <a:lnTo>
                      <a:pt x="91" y="61"/>
                    </a:lnTo>
                    <a:lnTo>
                      <a:pt x="60" y="63"/>
                    </a:lnTo>
                    <a:lnTo>
                      <a:pt x="30" y="66"/>
                    </a:lnTo>
                    <a:lnTo>
                      <a:pt x="0" y="72"/>
                    </a:lnTo>
                    <a:lnTo>
                      <a:pt x="6" y="95"/>
                    </a:lnTo>
                    <a:lnTo>
                      <a:pt x="33" y="90"/>
                    </a:lnTo>
                    <a:lnTo>
                      <a:pt x="63" y="87"/>
                    </a:lnTo>
                    <a:lnTo>
                      <a:pt x="92" y="86"/>
                    </a:lnTo>
                    <a:lnTo>
                      <a:pt x="123" y="85"/>
                    </a:lnTo>
                    <a:lnTo>
                      <a:pt x="187" y="86"/>
                    </a:lnTo>
                    <a:lnTo>
                      <a:pt x="251" y="87"/>
                    </a:lnTo>
                    <a:lnTo>
                      <a:pt x="284" y="86"/>
                    </a:lnTo>
                    <a:lnTo>
                      <a:pt x="317" y="85"/>
                    </a:lnTo>
                    <a:lnTo>
                      <a:pt x="350" y="81"/>
                    </a:lnTo>
                    <a:lnTo>
                      <a:pt x="382" y="76"/>
                    </a:lnTo>
                    <a:lnTo>
                      <a:pt x="399" y="72"/>
                    </a:lnTo>
                    <a:lnTo>
                      <a:pt x="415" y="68"/>
                    </a:lnTo>
                    <a:lnTo>
                      <a:pt x="431" y="62"/>
                    </a:lnTo>
                    <a:lnTo>
                      <a:pt x="448" y="56"/>
                    </a:lnTo>
                    <a:lnTo>
                      <a:pt x="463" y="49"/>
                    </a:lnTo>
                    <a:lnTo>
                      <a:pt x="479" y="41"/>
                    </a:lnTo>
                    <a:lnTo>
                      <a:pt x="495" y="32"/>
                    </a:lnTo>
                    <a:lnTo>
                      <a:pt x="511" y="23"/>
                    </a:lnTo>
                    <a:lnTo>
                      <a:pt x="513" y="6"/>
                    </a:lnTo>
                    <a:lnTo>
                      <a:pt x="511" y="23"/>
                    </a:lnTo>
                    <a:lnTo>
                      <a:pt x="514" y="19"/>
                    </a:lnTo>
                    <a:lnTo>
                      <a:pt x="515" y="14"/>
                    </a:lnTo>
                    <a:lnTo>
                      <a:pt x="515" y="11"/>
                    </a:lnTo>
                    <a:lnTo>
                      <a:pt x="513" y="6"/>
                    </a:lnTo>
                    <a:lnTo>
                      <a:pt x="511" y="3"/>
                    </a:lnTo>
                    <a:lnTo>
                      <a:pt x="506" y="0"/>
                    </a:lnTo>
                    <a:lnTo>
                      <a:pt x="501" y="0"/>
                    </a:lnTo>
                    <a:lnTo>
                      <a:pt x="497" y="3"/>
                    </a:lnTo>
                    <a:lnTo>
                      <a:pt x="493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578560" y="3913560"/>
                <a:ext cx="164880" cy="58680"/>
              </a:xfrm>
              <a:custGeom>
                <a:avLst/>
                <a:gdLst/>
                <a:ahLst/>
                <a:rect l="l" t="t" r="r" b="b"/>
                <a:pathLst>
                  <a:path w="518" h="186">
                    <a:moveTo>
                      <a:pt x="6" y="38"/>
                    </a:moveTo>
                    <a:lnTo>
                      <a:pt x="20" y="57"/>
                    </a:lnTo>
                    <a:lnTo>
                      <a:pt x="32" y="50"/>
                    </a:lnTo>
                    <a:lnTo>
                      <a:pt x="45" y="43"/>
                    </a:lnTo>
                    <a:lnTo>
                      <a:pt x="59" y="38"/>
                    </a:lnTo>
                    <a:lnTo>
                      <a:pt x="72" y="33"/>
                    </a:lnTo>
                    <a:lnTo>
                      <a:pt x="87" y="30"/>
                    </a:lnTo>
                    <a:lnTo>
                      <a:pt x="103" y="27"/>
                    </a:lnTo>
                    <a:lnTo>
                      <a:pt x="119" y="25"/>
                    </a:lnTo>
                    <a:lnTo>
                      <a:pt x="135" y="24"/>
                    </a:lnTo>
                    <a:lnTo>
                      <a:pt x="152" y="24"/>
                    </a:lnTo>
                    <a:lnTo>
                      <a:pt x="169" y="25"/>
                    </a:lnTo>
                    <a:lnTo>
                      <a:pt x="187" y="26"/>
                    </a:lnTo>
                    <a:lnTo>
                      <a:pt x="204" y="28"/>
                    </a:lnTo>
                    <a:lnTo>
                      <a:pt x="223" y="32"/>
                    </a:lnTo>
                    <a:lnTo>
                      <a:pt x="241" y="35"/>
                    </a:lnTo>
                    <a:lnTo>
                      <a:pt x="258" y="40"/>
                    </a:lnTo>
                    <a:lnTo>
                      <a:pt x="276" y="44"/>
                    </a:lnTo>
                    <a:lnTo>
                      <a:pt x="293" y="50"/>
                    </a:lnTo>
                    <a:lnTo>
                      <a:pt x="312" y="56"/>
                    </a:lnTo>
                    <a:lnTo>
                      <a:pt x="329" y="63"/>
                    </a:lnTo>
                    <a:lnTo>
                      <a:pt x="346" y="71"/>
                    </a:lnTo>
                    <a:lnTo>
                      <a:pt x="362" y="79"/>
                    </a:lnTo>
                    <a:lnTo>
                      <a:pt x="378" y="87"/>
                    </a:lnTo>
                    <a:lnTo>
                      <a:pt x="394" y="95"/>
                    </a:lnTo>
                    <a:lnTo>
                      <a:pt x="408" y="104"/>
                    </a:lnTo>
                    <a:lnTo>
                      <a:pt x="422" y="113"/>
                    </a:lnTo>
                    <a:lnTo>
                      <a:pt x="436" y="123"/>
                    </a:lnTo>
                    <a:lnTo>
                      <a:pt x="448" y="133"/>
                    </a:lnTo>
                    <a:lnTo>
                      <a:pt x="461" y="144"/>
                    </a:lnTo>
                    <a:lnTo>
                      <a:pt x="471" y="154"/>
                    </a:lnTo>
                    <a:lnTo>
                      <a:pt x="481" y="164"/>
                    </a:lnTo>
                    <a:lnTo>
                      <a:pt x="490" y="174"/>
                    </a:lnTo>
                    <a:lnTo>
                      <a:pt x="498" y="186"/>
                    </a:lnTo>
                    <a:lnTo>
                      <a:pt x="518" y="172"/>
                    </a:lnTo>
                    <a:lnTo>
                      <a:pt x="510" y="160"/>
                    </a:lnTo>
                    <a:lnTo>
                      <a:pt x="500" y="148"/>
                    </a:lnTo>
                    <a:lnTo>
                      <a:pt x="488" y="137"/>
                    </a:lnTo>
                    <a:lnTo>
                      <a:pt x="477" y="125"/>
                    </a:lnTo>
                    <a:lnTo>
                      <a:pt x="464" y="114"/>
                    </a:lnTo>
                    <a:lnTo>
                      <a:pt x="451" y="104"/>
                    </a:lnTo>
                    <a:lnTo>
                      <a:pt x="436" y="93"/>
                    </a:lnTo>
                    <a:lnTo>
                      <a:pt x="421" y="83"/>
                    </a:lnTo>
                    <a:lnTo>
                      <a:pt x="405" y="74"/>
                    </a:lnTo>
                    <a:lnTo>
                      <a:pt x="389" y="65"/>
                    </a:lnTo>
                    <a:lnTo>
                      <a:pt x="372" y="56"/>
                    </a:lnTo>
                    <a:lnTo>
                      <a:pt x="355" y="48"/>
                    </a:lnTo>
                    <a:lnTo>
                      <a:pt x="338" y="41"/>
                    </a:lnTo>
                    <a:lnTo>
                      <a:pt x="320" y="34"/>
                    </a:lnTo>
                    <a:lnTo>
                      <a:pt x="301" y="27"/>
                    </a:lnTo>
                    <a:lnTo>
                      <a:pt x="283" y="22"/>
                    </a:lnTo>
                    <a:lnTo>
                      <a:pt x="265" y="16"/>
                    </a:lnTo>
                    <a:lnTo>
                      <a:pt x="245" y="11"/>
                    </a:lnTo>
                    <a:lnTo>
                      <a:pt x="227" y="8"/>
                    </a:lnTo>
                    <a:lnTo>
                      <a:pt x="208" y="4"/>
                    </a:lnTo>
                    <a:lnTo>
                      <a:pt x="190" y="2"/>
                    </a:lnTo>
                    <a:lnTo>
                      <a:pt x="171" y="1"/>
                    </a:lnTo>
                    <a:lnTo>
                      <a:pt x="153" y="0"/>
                    </a:lnTo>
                    <a:lnTo>
                      <a:pt x="135" y="0"/>
                    </a:lnTo>
                    <a:lnTo>
                      <a:pt x="117" y="1"/>
                    </a:lnTo>
                    <a:lnTo>
                      <a:pt x="100" y="3"/>
                    </a:lnTo>
                    <a:lnTo>
                      <a:pt x="82" y="7"/>
                    </a:lnTo>
                    <a:lnTo>
                      <a:pt x="67" y="10"/>
                    </a:lnTo>
                    <a:lnTo>
                      <a:pt x="51" y="15"/>
                    </a:lnTo>
                    <a:lnTo>
                      <a:pt x="35" y="22"/>
                    </a:lnTo>
                    <a:lnTo>
                      <a:pt x="20" y="28"/>
                    </a:lnTo>
                    <a:lnTo>
                      <a:pt x="6" y="38"/>
                    </a:lnTo>
                    <a:lnTo>
                      <a:pt x="20" y="57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0" y="46"/>
                    </a:lnTo>
                    <a:lnTo>
                      <a:pt x="2" y="50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20" y="57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581800" y="3772080"/>
                <a:ext cx="54000" cy="158760"/>
              </a:xfrm>
              <a:custGeom>
                <a:avLst/>
                <a:gdLst/>
                <a:ahLst/>
                <a:rect l="l" t="t" r="r" b="b"/>
                <a:pathLst>
                  <a:path w="171" h="502">
                    <a:moveTo>
                      <a:pt x="151" y="22"/>
                    </a:moveTo>
                    <a:lnTo>
                      <a:pt x="132" y="14"/>
                    </a:lnTo>
                    <a:lnTo>
                      <a:pt x="137" y="47"/>
                    </a:lnTo>
                    <a:lnTo>
                      <a:pt x="141" y="79"/>
                    </a:lnTo>
                    <a:lnTo>
                      <a:pt x="145" y="112"/>
                    </a:lnTo>
                    <a:lnTo>
                      <a:pt x="147" y="145"/>
                    </a:lnTo>
                    <a:lnTo>
                      <a:pt x="147" y="177"/>
                    </a:lnTo>
                    <a:lnTo>
                      <a:pt x="146" y="209"/>
                    </a:lnTo>
                    <a:lnTo>
                      <a:pt x="144" y="241"/>
                    </a:lnTo>
                    <a:lnTo>
                      <a:pt x="138" y="272"/>
                    </a:lnTo>
                    <a:lnTo>
                      <a:pt x="135" y="288"/>
                    </a:lnTo>
                    <a:lnTo>
                      <a:pt x="131" y="302"/>
                    </a:lnTo>
                    <a:lnTo>
                      <a:pt x="127" y="317"/>
                    </a:lnTo>
                    <a:lnTo>
                      <a:pt x="121" y="331"/>
                    </a:lnTo>
                    <a:lnTo>
                      <a:pt x="115" y="346"/>
                    </a:lnTo>
                    <a:lnTo>
                      <a:pt x="110" y="359"/>
                    </a:lnTo>
                    <a:lnTo>
                      <a:pt x="102" y="373"/>
                    </a:lnTo>
                    <a:lnTo>
                      <a:pt x="94" y="387"/>
                    </a:lnTo>
                    <a:lnTo>
                      <a:pt x="86" y="400"/>
                    </a:lnTo>
                    <a:lnTo>
                      <a:pt x="75" y="413"/>
                    </a:lnTo>
                    <a:lnTo>
                      <a:pt x="65" y="426"/>
                    </a:lnTo>
                    <a:lnTo>
                      <a:pt x="54" y="437"/>
                    </a:lnTo>
                    <a:lnTo>
                      <a:pt x="42" y="449"/>
                    </a:lnTo>
                    <a:lnTo>
                      <a:pt x="29" y="461"/>
                    </a:lnTo>
                    <a:lnTo>
                      <a:pt x="15" y="471"/>
                    </a:lnTo>
                    <a:lnTo>
                      <a:pt x="0" y="483"/>
                    </a:lnTo>
                    <a:lnTo>
                      <a:pt x="14" y="502"/>
                    </a:lnTo>
                    <a:lnTo>
                      <a:pt x="30" y="491"/>
                    </a:lnTo>
                    <a:lnTo>
                      <a:pt x="45" y="479"/>
                    </a:lnTo>
                    <a:lnTo>
                      <a:pt x="58" y="467"/>
                    </a:lnTo>
                    <a:lnTo>
                      <a:pt x="72" y="454"/>
                    </a:lnTo>
                    <a:lnTo>
                      <a:pt x="83" y="441"/>
                    </a:lnTo>
                    <a:lnTo>
                      <a:pt x="95" y="428"/>
                    </a:lnTo>
                    <a:lnTo>
                      <a:pt x="105" y="414"/>
                    </a:lnTo>
                    <a:lnTo>
                      <a:pt x="114" y="399"/>
                    </a:lnTo>
                    <a:lnTo>
                      <a:pt x="123" y="386"/>
                    </a:lnTo>
                    <a:lnTo>
                      <a:pt x="131" y="371"/>
                    </a:lnTo>
                    <a:lnTo>
                      <a:pt x="138" y="355"/>
                    </a:lnTo>
                    <a:lnTo>
                      <a:pt x="144" y="340"/>
                    </a:lnTo>
                    <a:lnTo>
                      <a:pt x="149" y="324"/>
                    </a:lnTo>
                    <a:lnTo>
                      <a:pt x="154" y="308"/>
                    </a:lnTo>
                    <a:lnTo>
                      <a:pt x="159" y="292"/>
                    </a:lnTo>
                    <a:lnTo>
                      <a:pt x="162" y="276"/>
                    </a:lnTo>
                    <a:lnTo>
                      <a:pt x="168" y="244"/>
                    </a:lnTo>
                    <a:lnTo>
                      <a:pt x="170" y="211"/>
                    </a:lnTo>
                    <a:lnTo>
                      <a:pt x="171" y="177"/>
                    </a:lnTo>
                    <a:lnTo>
                      <a:pt x="171" y="144"/>
                    </a:lnTo>
                    <a:lnTo>
                      <a:pt x="169" y="110"/>
                    </a:lnTo>
                    <a:lnTo>
                      <a:pt x="165" y="77"/>
                    </a:lnTo>
                    <a:lnTo>
                      <a:pt x="161" y="44"/>
                    </a:lnTo>
                    <a:lnTo>
                      <a:pt x="156" y="11"/>
                    </a:lnTo>
                    <a:lnTo>
                      <a:pt x="137" y="3"/>
                    </a:lnTo>
                    <a:lnTo>
                      <a:pt x="156" y="11"/>
                    </a:lnTo>
                    <a:lnTo>
                      <a:pt x="154" y="5"/>
                    </a:lnTo>
                    <a:lnTo>
                      <a:pt x="151" y="1"/>
                    </a:lnTo>
                    <a:lnTo>
                      <a:pt x="146" y="0"/>
                    </a:lnTo>
                    <a:lnTo>
                      <a:pt x="141" y="0"/>
                    </a:lnTo>
                    <a:lnTo>
                      <a:pt x="138" y="1"/>
                    </a:lnTo>
                    <a:lnTo>
                      <a:pt x="135" y="5"/>
                    </a:lnTo>
                    <a:lnTo>
                      <a:pt x="132" y="8"/>
                    </a:lnTo>
                    <a:lnTo>
                      <a:pt x="132" y="14"/>
                    </a:lnTo>
                    <a:lnTo>
                      <a:pt x="151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553000" y="3773880"/>
                <a:ext cx="76320" cy="164880"/>
              </a:xfrm>
              <a:custGeom>
                <a:avLst/>
                <a:gdLst/>
                <a:ahLst/>
                <a:rect l="l" t="t" r="r" b="b"/>
                <a:pathLst>
                  <a:path w="241" h="522">
                    <a:moveTo>
                      <a:pt x="49" y="519"/>
                    </a:moveTo>
                    <a:lnTo>
                      <a:pt x="54" y="508"/>
                    </a:lnTo>
                    <a:lnTo>
                      <a:pt x="39" y="426"/>
                    </a:lnTo>
                    <a:lnTo>
                      <a:pt x="29" y="355"/>
                    </a:lnTo>
                    <a:lnTo>
                      <a:pt x="25" y="324"/>
                    </a:lnTo>
                    <a:lnTo>
                      <a:pt x="24" y="296"/>
                    </a:lnTo>
                    <a:lnTo>
                      <a:pt x="24" y="282"/>
                    </a:lnTo>
                    <a:lnTo>
                      <a:pt x="25" y="270"/>
                    </a:lnTo>
                    <a:lnTo>
                      <a:pt x="27" y="256"/>
                    </a:lnTo>
                    <a:lnTo>
                      <a:pt x="30" y="244"/>
                    </a:lnTo>
                    <a:lnTo>
                      <a:pt x="33" y="231"/>
                    </a:lnTo>
                    <a:lnTo>
                      <a:pt x="38" y="218"/>
                    </a:lnTo>
                    <a:lnTo>
                      <a:pt x="43" y="206"/>
                    </a:lnTo>
                    <a:lnTo>
                      <a:pt x="50" y="193"/>
                    </a:lnTo>
                    <a:lnTo>
                      <a:pt x="58" y="181"/>
                    </a:lnTo>
                    <a:lnTo>
                      <a:pt x="67" y="168"/>
                    </a:lnTo>
                    <a:lnTo>
                      <a:pt x="78" y="155"/>
                    </a:lnTo>
                    <a:lnTo>
                      <a:pt x="89" y="142"/>
                    </a:lnTo>
                    <a:lnTo>
                      <a:pt x="103" y="128"/>
                    </a:lnTo>
                    <a:lnTo>
                      <a:pt x="116" y="114"/>
                    </a:lnTo>
                    <a:lnTo>
                      <a:pt x="133" y="100"/>
                    </a:lnTo>
                    <a:lnTo>
                      <a:pt x="151" y="85"/>
                    </a:lnTo>
                    <a:lnTo>
                      <a:pt x="171" y="69"/>
                    </a:lnTo>
                    <a:lnTo>
                      <a:pt x="193" y="53"/>
                    </a:lnTo>
                    <a:lnTo>
                      <a:pt x="215" y="36"/>
                    </a:lnTo>
                    <a:lnTo>
                      <a:pt x="241" y="19"/>
                    </a:lnTo>
                    <a:lnTo>
                      <a:pt x="227" y="0"/>
                    </a:lnTo>
                    <a:lnTo>
                      <a:pt x="202" y="17"/>
                    </a:lnTo>
                    <a:lnTo>
                      <a:pt x="178" y="34"/>
                    </a:lnTo>
                    <a:lnTo>
                      <a:pt x="156" y="50"/>
                    </a:lnTo>
                    <a:lnTo>
                      <a:pt x="136" y="66"/>
                    </a:lnTo>
                    <a:lnTo>
                      <a:pt x="117" y="82"/>
                    </a:lnTo>
                    <a:lnTo>
                      <a:pt x="100" y="96"/>
                    </a:lnTo>
                    <a:lnTo>
                      <a:pt x="86" y="111"/>
                    </a:lnTo>
                    <a:lnTo>
                      <a:pt x="71" y="125"/>
                    </a:lnTo>
                    <a:lnTo>
                      <a:pt x="58" y="140"/>
                    </a:lnTo>
                    <a:lnTo>
                      <a:pt x="48" y="153"/>
                    </a:lnTo>
                    <a:lnTo>
                      <a:pt x="38" y="167"/>
                    </a:lnTo>
                    <a:lnTo>
                      <a:pt x="30" y="182"/>
                    </a:lnTo>
                    <a:lnTo>
                      <a:pt x="22" y="196"/>
                    </a:lnTo>
                    <a:lnTo>
                      <a:pt x="16" y="209"/>
                    </a:lnTo>
                    <a:lnTo>
                      <a:pt x="10" y="224"/>
                    </a:lnTo>
                    <a:lnTo>
                      <a:pt x="7" y="238"/>
                    </a:lnTo>
                    <a:lnTo>
                      <a:pt x="4" y="252"/>
                    </a:lnTo>
                    <a:lnTo>
                      <a:pt x="1" y="266"/>
                    </a:lnTo>
                    <a:lnTo>
                      <a:pt x="0" y="281"/>
                    </a:lnTo>
                    <a:lnTo>
                      <a:pt x="0" y="296"/>
                    </a:lnTo>
                    <a:lnTo>
                      <a:pt x="1" y="327"/>
                    </a:lnTo>
                    <a:lnTo>
                      <a:pt x="5" y="359"/>
                    </a:lnTo>
                    <a:lnTo>
                      <a:pt x="16" y="429"/>
                    </a:lnTo>
                    <a:lnTo>
                      <a:pt x="30" y="511"/>
                    </a:lnTo>
                    <a:lnTo>
                      <a:pt x="34" y="500"/>
                    </a:lnTo>
                    <a:lnTo>
                      <a:pt x="30" y="511"/>
                    </a:lnTo>
                    <a:lnTo>
                      <a:pt x="32" y="517"/>
                    </a:lnTo>
                    <a:lnTo>
                      <a:pt x="34" y="521"/>
                    </a:lnTo>
                    <a:lnTo>
                      <a:pt x="39" y="522"/>
                    </a:lnTo>
                    <a:lnTo>
                      <a:pt x="43" y="522"/>
                    </a:lnTo>
                    <a:lnTo>
                      <a:pt x="48" y="521"/>
                    </a:lnTo>
                    <a:lnTo>
                      <a:pt x="51" y="517"/>
                    </a:lnTo>
                    <a:lnTo>
                      <a:pt x="54" y="514"/>
                    </a:lnTo>
                    <a:lnTo>
                      <a:pt x="54" y="508"/>
                    </a:lnTo>
                    <a:lnTo>
                      <a:pt x="49" y="5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448240" y="3932640"/>
                <a:ext cx="119160" cy="50760"/>
              </a:xfrm>
              <a:custGeom>
                <a:avLst/>
                <a:gdLst/>
                <a:ahLst/>
                <a:rect l="l" t="t" r="r" b="b"/>
                <a:pathLst>
                  <a:path w="378" h="161">
                    <a:moveTo>
                      <a:pt x="24" y="160"/>
                    </a:moveTo>
                    <a:lnTo>
                      <a:pt x="24" y="161"/>
                    </a:lnTo>
                    <a:lnTo>
                      <a:pt x="25" y="153"/>
                    </a:lnTo>
                    <a:lnTo>
                      <a:pt x="27" y="146"/>
                    </a:lnTo>
                    <a:lnTo>
                      <a:pt x="30" y="139"/>
                    </a:lnTo>
                    <a:lnTo>
                      <a:pt x="35" y="133"/>
                    </a:lnTo>
                    <a:lnTo>
                      <a:pt x="41" y="127"/>
                    </a:lnTo>
                    <a:lnTo>
                      <a:pt x="49" y="120"/>
                    </a:lnTo>
                    <a:lnTo>
                      <a:pt x="58" y="114"/>
                    </a:lnTo>
                    <a:lnTo>
                      <a:pt x="68" y="107"/>
                    </a:lnTo>
                    <a:lnTo>
                      <a:pt x="79" y="102"/>
                    </a:lnTo>
                    <a:lnTo>
                      <a:pt x="92" y="96"/>
                    </a:lnTo>
                    <a:lnTo>
                      <a:pt x="106" y="90"/>
                    </a:lnTo>
                    <a:lnTo>
                      <a:pt x="119" y="86"/>
                    </a:lnTo>
                    <a:lnTo>
                      <a:pt x="149" y="76"/>
                    </a:lnTo>
                    <a:lnTo>
                      <a:pt x="180" y="67"/>
                    </a:lnTo>
                    <a:lnTo>
                      <a:pt x="244" y="54"/>
                    </a:lnTo>
                    <a:lnTo>
                      <a:pt x="302" y="41"/>
                    </a:lnTo>
                    <a:lnTo>
                      <a:pt x="327" y="37"/>
                    </a:lnTo>
                    <a:lnTo>
                      <a:pt x="347" y="31"/>
                    </a:lnTo>
                    <a:lnTo>
                      <a:pt x="364" y="26"/>
                    </a:lnTo>
                    <a:lnTo>
                      <a:pt x="378" y="19"/>
                    </a:lnTo>
                    <a:lnTo>
                      <a:pt x="363" y="0"/>
                    </a:lnTo>
                    <a:lnTo>
                      <a:pt x="356" y="3"/>
                    </a:lnTo>
                    <a:lnTo>
                      <a:pt x="342" y="8"/>
                    </a:lnTo>
                    <a:lnTo>
                      <a:pt x="321" y="13"/>
                    </a:lnTo>
                    <a:lnTo>
                      <a:pt x="296" y="18"/>
                    </a:lnTo>
                    <a:lnTo>
                      <a:pt x="238" y="30"/>
                    </a:lnTo>
                    <a:lnTo>
                      <a:pt x="174" y="45"/>
                    </a:lnTo>
                    <a:lnTo>
                      <a:pt x="142" y="52"/>
                    </a:lnTo>
                    <a:lnTo>
                      <a:pt x="111" y="63"/>
                    </a:lnTo>
                    <a:lnTo>
                      <a:pt x="97" y="68"/>
                    </a:lnTo>
                    <a:lnTo>
                      <a:pt x="83" y="74"/>
                    </a:lnTo>
                    <a:lnTo>
                      <a:pt x="69" y="80"/>
                    </a:lnTo>
                    <a:lnTo>
                      <a:pt x="57" y="87"/>
                    </a:lnTo>
                    <a:lnTo>
                      <a:pt x="45" y="94"/>
                    </a:lnTo>
                    <a:lnTo>
                      <a:pt x="34" y="100"/>
                    </a:lnTo>
                    <a:lnTo>
                      <a:pt x="25" y="108"/>
                    </a:lnTo>
                    <a:lnTo>
                      <a:pt x="16" y="117"/>
                    </a:lnTo>
                    <a:lnTo>
                      <a:pt x="9" y="128"/>
                    </a:lnTo>
                    <a:lnTo>
                      <a:pt x="4" y="138"/>
                    </a:lnTo>
                    <a:lnTo>
                      <a:pt x="1" y="14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24" y="16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448240" y="3983400"/>
                <a:ext cx="141480" cy="106200"/>
              </a:xfrm>
              <a:custGeom>
                <a:avLst/>
                <a:gdLst/>
                <a:ahLst/>
                <a:rect l="l" t="t" r="r" b="b"/>
                <a:pathLst>
                  <a:path w="445" h="339">
                    <a:moveTo>
                      <a:pt x="421" y="181"/>
                    </a:moveTo>
                    <a:lnTo>
                      <a:pt x="421" y="181"/>
                    </a:lnTo>
                    <a:lnTo>
                      <a:pt x="419" y="196"/>
                    </a:lnTo>
                    <a:lnTo>
                      <a:pt x="417" y="208"/>
                    </a:lnTo>
                    <a:lnTo>
                      <a:pt x="415" y="221"/>
                    </a:lnTo>
                    <a:lnTo>
                      <a:pt x="411" y="232"/>
                    </a:lnTo>
                    <a:lnTo>
                      <a:pt x="408" y="242"/>
                    </a:lnTo>
                    <a:lnTo>
                      <a:pt x="404" y="253"/>
                    </a:lnTo>
                    <a:lnTo>
                      <a:pt x="401" y="262"/>
                    </a:lnTo>
                    <a:lnTo>
                      <a:pt x="396" y="270"/>
                    </a:lnTo>
                    <a:lnTo>
                      <a:pt x="391" y="277"/>
                    </a:lnTo>
                    <a:lnTo>
                      <a:pt x="386" y="284"/>
                    </a:lnTo>
                    <a:lnTo>
                      <a:pt x="382" y="289"/>
                    </a:lnTo>
                    <a:lnTo>
                      <a:pt x="376" y="295"/>
                    </a:lnTo>
                    <a:lnTo>
                      <a:pt x="370" y="299"/>
                    </a:lnTo>
                    <a:lnTo>
                      <a:pt x="363" y="303"/>
                    </a:lnTo>
                    <a:lnTo>
                      <a:pt x="358" y="306"/>
                    </a:lnTo>
                    <a:lnTo>
                      <a:pt x="351" y="310"/>
                    </a:lnTo>
                    <a:lnTo>
                      <a:pt x="344" y="312"/>
                    </a:lnTo>
                    <a:lnTo>
                      <a:pt x="337" y="313"/>
                    </a:lnTo>
                    <a:lnTo>
                      <a:pt x="330" y="315"/>
                    </a:lnTo>
                    <a:lnTo>
                      <a:pt x="323" y="315"/>
                    </a:lnTo>
                    <a:lnTo>
                      <a:pt x="307" y="315"/>
                    </a:lnTo>
                    <a:lnTo>
                      <a:pt x="291" y="313"/>
                    </a:lnTo>
                    <a:lnTo>
                      <a:pt x="274" y="309"/>
                    </a:lnTo>
                    <a:lnTo>
                      <a:pt x="256" y="303"/>
                    </a:lnTo>
                    <a:lnTo>
                      <a:pt x="239" y="295"/>
                    </a:lnTo>
                    <a:lnTo>
                      <a:pt x="221" y="286"/>
                    </a:lnTo>
                    <a:lnTo>
                      <a:pt x="203" y="274"/>
                    </a:lnTo>
                    <a:lnTo>
                      <a:pt x="184" y="262"/>
                    </a:lnTo>
                    <a:lnTo>
                      <a:pt x="167" y="248"/>
                    </a:lnTo>
                    <a:lnTo>
                      <a:pt x="150" y="232"/>
                    </a:lnTo>
                    <a:lnTo>
                      <a:pt x="133" y="216"/>
                    </a:lnTo>
                    <a:lnTo>
                      <a:pt x="117" y="199"/>
                    </a:lnTo>
                    <a:lnTo>
                      <a:pt x="102" y="181"/>
                    </a:lnTo>
                    <a:lnTo>
                      <a:pt x="87" y="162"/>
                    </a:lnTo>
                    <a:lnTo>
                      <a:pt x="75" y="142"/>
                    </a:lnTo>
                    <a:lnTo>
                      <a:pt x="62" y="123"/>
                    </a:lnTo>
                    <a:lnTo>
                      <a:pt x="52" y="102"/>
                    </a:lnTo>
                    <a:lnTo>
                      <a:pt x="43" y="82"/>
                    </a:lnTo>
                    <a:lnTo>
                      <a:pt x="36" y="61"/>
                    </a:lnTo>
                    <a:lnTo>
                      <a:pt x="30" y="41"/>
                    </a:lnTo>
                    <a:lnTo>
                      <a:pt x="26" y="20"/>
                    </a:lnTo>
                    <a:lnTo>
                      <a:pt x="24" y="0"/>
                    </a:lnTo>
                    <a:lnTo>
                      <a:pt x="0" y="1"/>
                    </a:lnTo>
                    <a:lnTo>
                      <a:pt x="2" y="24"/>
                    </a:lnTo>
                    <a:lnTo>
                      <a:pt x="7" y="46"/>
                    </a:lnTo>
                    <a:lnTo>
                      <a:pt x="12" y="68"/>
                    </a:lnTo>
                    <a:lnTo>
                      <a:pt x="20" y="91"/>
                    </a:lnTo>
                    <a:lnTo>
                      <a:pt x="30" y="113"/>
                    </a:lnTo>
                    <a:lnTo>
                      <a:pt x="42" y="134"/>
                    </a:lnTo>
                    <a:lnTo>
                      <a:pt x="54" y="156"/>
                    </a:lnTo>
                    <a:lnTo>
                      <a:pt x="68" y="176"/>
                    </a:lnTo>
                    <a:lnTo>
                      <a:pt x="83" y="196"/>
                    </a:lnTo>
                    <a:lnTo>
                      <a:pt x="99" y="215"/>
                    </a:lnTo>
                    <a:lnTo>
                      <a:pt x="116" y="233"/>
                    </a:lnTo>
                    <a:lnTo>
                      <a:pt x="133" y="250"/>
                    </a:lnTo>
                    <a:lnTo>
                      <a:pt x="151" y="266"/>
                    </a:lnTo>
                    <a:lnTo>
                      <a:pt x="171" y="281"/>
                    </a:lnTo>
                    <a:lnTo>
                      <a:pt x="189" y="295"/>
                    </a:lnTo>
                    <a:lnTo>
                      <a:pt x="208" y="306"/>
                    </a:lnTo>
                    <a:lnTo>
                      <a:pt x="229" y="317"/>
                    </a:lnTo>
                    <a:lnTo>
                      <a:pt x="248" y="326"/>
                    </a:lnTo>
                    <a:lnTo>
                      <a:pt x="268" y="333"/>
                    </a:lnTo>
                    <a:lnTo>
                      <a:pt x="287" y="337"/>
                    </a:lnTo>
                    <a:lnTo>
                      <a:pt x="305" y="339"/>
                    </a:lnTo>
                    <a:lnTo>
                      <a:pt x="323" y="339"/>
                    </a:lnTo>
                    <a:lnTo>
                      <a:pt x="334" y="339"/>
                    </a:lnTo>
                    <a:lnTo>
                      <a:pt x="343" y="337"/>
                    </a:lnTo>
                    <a:lnTo>
                      <a:pt x="351" y="335"/>
                    </a:lnTo>
                    <a:lnTo>
                      <a:pt x="360" y="333"/>
                    </a:lnTo>
                    <a:lnTo>
                      <a:pt x="368" y="328"/>
                    </a:lnTo>
                    <a:lnTo>
                      <a:pt x="376" y="325"/>
                    </a:lnTo>
                    <a:lnTo>
                      <a:pt x="384" y="319"/>
                    </a:lnTo>
                    <a:lnTo>
                      <a:pt x="392" y="313"/>
                    </a:lnTo>
                    <a:lnTo>
                      <a:pt x="399" y="306"/>
                    </a:lnTo>
                    <a:lnTo>
                      <a:pt x="405" y="299"/>
                    </a:lnTo>
                    <a:lnTo>
                      <a:pt x="411" y="290"/>
                    </a:lnTo>
                    <a:lnTo>
                      <a:pt x="417" y="282"/>
                    </a:lnTo>
                    <a:lnTo>
                      <a:pt x="421" y="272"/>
                    </a:lnTo>
                    <a:lnTo>
                      <a:pt x="427" y="262"/>
                    </a:lnTo>
                    <a:lnTo>
                      <a:pt x="431" y="250"/>
                    </a:lnTo>
                    <a:lnTo>
                      <a:pt x="435" y="239"/>
                    </a:lnTo>
                    <a:lnTo>
                      <a:pt x="438" y="227"/>
                    </a:lnTo>
                    <a:lnTo>
                      <a:pt x="441" y="213"/>
                    </a:lnTo>
                    <a:lnTo>
                      <a:pt x="443" y="199"/>
                    </a:lnTo>
                    <a:lnTo>
                      <a:pt x="445" y="183"/>
                    </a:lnTo>
                    <a:lnTo>
                      <a:pt x="445" y="183"/>
                    </a:lnTo>
                    <a:lnTo>
                      <a:pt x="421" y="18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581800" y="400860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275" h="258">
                    <a:moveTo>
                      <a:pt x="253" y="218"/>
                    </a:moveTo>
                    <a:lnTo>
                      <a:pt x="257" y="201"/>
                    </a:lnTo>
                    <a:lnTo>
                      <a:pt x="244" y="209"/>
                    </a:lnTo>
                    <a:lnTo>
                      <a:pt x="233" y="215"/>
                    </a:lnTo>
                    <a:lnTo>
                      <a:pt x="223" y="220"/>
                    </a:lnTo>
                    <a:lnTo>
                      <a:pt x="212" y="225"/>
                    </a:lnTo>
                    <a:lnTo>
                      <a:pt x="202" y="228"/>
                    </a:lnTo>
                    <a:lnTo>
                      <a:pt x="193" y="230"/>
                    </a:lnTo>
                    <a:lnTo>
                      <a:pt x="184" y="233"/>
                    </a:lnTo>
                    <a:lnTo>
                      <a:pt x="176" y="234"/>
                    </a:lnTo>
                    <a:lnTo>
                      <a:pt x="168" y="234"/>
                    </a:lnTo>
                    <a:lnTo>
                      <a:pt x="161" y="233"/>
                    </a:lnTo>
                    <a:lnTo>
                      <a:pt x="153" y="231"/>
                    </a:lnTo>
                    <a:lnTo>
                      <a:pt x="146" y="230"/>
                    </a:lnTo>
                    <a:lnTo>
                      <a:pt x="141" y="228"/>
                    </a:lnTo>
                    <a:lnTo>
                      <a:pt x="134" y="225"/>
                    </a:lnTo>
                    <a:lnTo>
                      <a:pt x="128" y="221"/>
                    </a:lnTo>
                    <a:lnTo>
                      <a:pt x="122" y="218"/>
                    </a:lnTo>
                    <a:lnTo>
                      <a:pt x="111" y="207"/>
                    </a:lnTo>
                    <a:lnTo>
                      <a:pt x="102" y="196"/>
                    </a:lnTo>
                    <a:lnTo>
                      <a:pt x="93" y="184"/>
                    </a:lnTo>
                    <a:lnTo>
                      <a:pt x="84" y="169"/>
                    </a:lnTo>
                    <a:lnTo>
                      <a:pt x="77" y="154"/>
                    </a:lnTo>
                    <a:lnTo>
                      <a:pt x="70" y="138"/>
                    </a:lnTo>
                    <a:lnTo>
                      <a:pt x="64" y="122"/>
                    </a:lnTo>
                    <a:lnTo>
                      <a:pt x="59" y="106"/>
                    </a:lnTo>
                    <a:lnTo>
                      <a:pt x="45" y="46"/>
                    </a:lnTo>
                    <a:lnTo>
                      <a:pt x="37" y="10"/>
                    </a:lnTo>
                    <a:lnTo>
                      <a:pt x="35" y="6"/>
                    </a:lnTo>
                    <a:lnTo>
                      <a:pt x="30" y="1"/>
                    </a:lnTo>
                    <a:lnTo>
                      <a:pt x="17" y="0"/>
                    </a:lnTo>
                    <a:lnTo>
                      <a:pt x="11" y="7"/>
                    </a:lnTo>
                    <a:lnTo>
                      <a:pt x="8" y="14"/>
                    </a:lnTo>
                    <a:lnTo>
                      <a:pt x="7" y="22"/>
                    </a:lnTo>
                    <a:lnTo>
                      <a:pt x="4" y="50"/>
                    </a:lnTo>
                    <a:lnTo>
                      <a:pt x="0" y="97"/>
                    </a:lnTo>
                    <a:lnTo>
                      <a:pt x="24" y="99"/>
                    </a:lnTo>
                    <a:lnTo>
                      <a:pt x="28" y="52"/>
                    </a:lnTo>
                    <a:lnTo>
                      <a:pt x="31" y="25"/>
                    </a:lnTo>
                    <a:lnTo>
                      <a:pt x="32" y="18"/>
                    </a:lnTo>
                    <a:lnTo>
                      <a:pt x="33" y="16"/>
                    </a:lnTo>
                    <a:lnTo>
                      <a:pt x="28" y="22"/>
                    </a:lnTo>
                    <a:lnTo>
                      <a:pt x="16" y="21"/>
                    </a:lnTo>
                    <a:lnTo>
                      <a:pt x="13" y="18"/>
                    </a:lnTo>
                    <a:lnTo>
                      <a:pt x="13" y="16"/>
                    </a:lnTo>
                    <a:lnTo>
                      <a:pt x="21" y="51"/>
                    </a:lnTo>
                    <a:lnTo>
                      <a:pt x="36" y="112"/>
                    </a:lnTo>
                    <a:lnTo>
                      <a:pt x="41" y="129"/>
                    </a:lnTo>
                    <a:lnTo>
                      <a:pt x="47" y="146"/>
                    </a:lnTo>
                    <a:lnTo>
                      <a:pt x="54" y="164"/>
                    </a:lnTo>
                    <a:lnTo>
                      <a:pt x="63" y="180"/>
                    </a:lnTo>
                    <a:lnTo>
                      <a:pt x="72" y="196"/>
                    </a:lnTo>
                    <a:lnTo>
                      <a:pt x="82" y="211"/>
                    </a:lnTo>
                    <a:lnTo>
                      <a:pt x="94" y="225"/>
                    </a:lnTo>
                    <a:lnTo>
                      <a:pt x="108" y="236"/>
                    </a:lnTo>
                    <a:lnTo>
                      <a:pt x="116" y="242"/>
                    </a:lnTo>
                    <a:lnTo>
                      <a:pt x="122" y="246"/>
                    </a:lnTo>
                    <a:lnTo>
                      <a:pt x="131" y="250"/>
                    </a:lnTo>
                    <a:lnTo>
                      <a:pt x="139" y="253"/>
                    </a:lnTo>
                    <a:lnTo>
                      <a:pt x="149" y="255"/>
                    </a:lnTo>
                    <a:lnTo>
                      <a:pt x="158" y="257"/>
                    </a:lnTo>
                    <a:lnTo>
                      <a:pt x="168" y="258"/>
                    </a:lnTo>
                    <a:lnTo>
                      <a:pt x="177" y="258"/>
                    </a:lnTo>
                    <a:lnTo>
                      <a:pt x="187" y="257"/>
                    </a:lnTo>
                    <a:lnTo>
                      <a:pt x="199" y="254"/>
                    </a:lnTo>
                    <a:lnTo>
                      <a:pt x="210" y="252"/>
                    </a:lnTo>
                    <a:lnTo>
                      <a:pt x="222" y="247"/>
                    </a:lnTo>
                    <a:lnTo>
                      <a:pt x="233" y="243"/>
                    </a:lnTo>
                    <a:lnTo>
                      <a:pt x="244" y="236"/>
                    </a:lnTo>
                    <a:lnTo>
                      <a:pt x="257" y="229"/>
                    </a:lnTo>
                    <a:lnTo>
                      <a:pt x="269" y="221"/>
                    </a:lnTo>
                    <a:lnTo>
                      <a:pt x="273" y="204"/>
                    </a:lnTo>
                    <a:lnTo>
                      <a:pt x="269" y="221"/>
                    </a:lnTo>
                    <a:lnTo>
                      <a:pt x="274" y="218"/>
                    </a:lnTo>
                    <a:lnTo>
                      <a:pt x="275" y="213"/>
                    </a:lnTo>
                    <a:lnTo>
                      <a:pt x="275" y="209"/>
                    </a:lnTo>
                    <a:lnTo>
                      <a:pt x="273" y="204"/>
                    </a:lnTo>
                    <a:lnTo>
                      <a:pt x="271" y="201"/>
                    </a:lnTo>
                    <a:lnTo>
                      <a:pt x="266" y="200"/>
                    </a:lnTo>
                    <a:lnTo>
                      <a:pt x="261" y="198"/>
                    </a:lnTo>
                    <a:lnTo>
                      <a:pt x="257" y="201"/>
                    </a:lnTo>
                    <a:lnTo>
                      <a:pt x="253" y="2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578560" y="39880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5" h="283">
                    <a:moveTo>
                      <a:pt x="9" y="1"/>
                    </a:moveTo>
                    <a:lnTo>
                      <a:pt x="8" y="24"/>
                    </a:lnTo>
                    <a:lnTo>
                      <a:pt x="28" y="33"/>
                    </a:lnTo>
                    <a:lnTo>
                      <a:pt x="48" y="42"/>
                    </a:lnTo>
                    <a:lnTo>
                      <a:pt x="66" y="54"/>
                    </a:lnTo>
                    <a:lnTo>
                      <a:pt x="84" y="66"/>
                    </a:lnTo>
                    <a:lnTo>
                      <a:pt x="102" y="80"/>
                    </a:lnTo>
                    <a:lnTo>
                      <a:pt x="118" y="95"/>
                    </a:lnTo>
                    <a:lnTo>
                      <a:pt x="135" y="111"/>
                    </a:lnTo>
                    <a:lnTo>
                      <a:pt x="150" y="128"/>
                    </a:lnTo>
                    <a:lnTo>
                      <a:pt x="166" y="145"/>
                    </a:lnTo>
                    <a:lnTo>
                      <a:pt x="181" y="163"/>
                    </a:lnTo>
                    <a:lnTo>
                      <a:pt x="196" y="181"/>
                    </a:lnTo>
                    <a:lnTo>
                      <a:pt x="210" y="201"/>
                    </a:lnTo>
                    <a:lnTo>
                      <a:pt x="238" y="242"/>
                    </a:lnTo>
                    <a:lnTo>
                      <a:pt x="265" y="283"/>
                    </a:lnTo>
                    <a:lnTo>
                      <a:pt x="285" y="269"/>
                    </a:lnTo>
                    <a:lnTo>
                      <a:pt x="257" y="228"/>
                    </a:lnTo>
                    <a:lnTo>
                      <a:pt x="229" y="187"/>
                    </a:lnTo>
                    <a:lnTo>
                      <a:pt x="215" y="168"/>
                    </a:lnTo>
                    <a:lnTo>
                      <a:pt x="199" y="148"/>
                    </a:lnTo>
                    <a:lnTo>
                      <a:pt x="184" y="129"/>
                    </a:lnTo>
                    <a:lnTo>
                      <a:pt x="169" y="111"/>
                    </a:lnTo>
                    <a:lnTo>
                      <a:pt x="153" y="94"/>
                    </a:lnTo>
                    <a:lnTo>
                      <a:pt x="135" y="76"/>
                    </a:lnTo>
                    <a:lnTo>
                      <a:pt x="117" y="62"/>
                    </a:lnTo>
                    <a:lnTo>
                      <a:pt x="99" y="47"/>
                    </a:lnTo>
                    <a:lnTo>
                      <a:pt x="80" y="33"/>
                    </a:lnTo>
                    <a:lnTo>
                      <a:pt x="59" y="22"/>
                    </a:lnTo>
                    <a:lnTo>
                      <a:pt x="39" y="10"/>
                    </a:lnTo>
                    <a:lnTo>
                      <a:pt x="16" y="1"/>
                    </a:lnTo>
                    <a:lnTo>
                      <a:pt x="15" y="2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22"/>
                    </a:lnTo>
                    <a:lnTo>
                      <a:pt x="8" y="24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506920" y="4134240"/>
                <a:ext cx="274680" cy="269640"/>
              </a:xfrm>
              <a:custGeom>
                <a:avLst/>
                <a:gdLst/>
                <a:ahLst/>
                <a:rect l="l" t="t" r="r" b="b"/>
                <a:pathLst>
                  <a:path w="861" h="852">
                    <a:moveTo>
                      <a:pt x="362" y="487"/>
                    </a:moveTo>
                    <a:lnTo>
                      <a:pt x="390" y="498"/>
                    </a:lnTo>
                    <a:lnTo>
                      <a:pt x="416" y="512"/>
                    </a:lnTo>
                    <a:lnTo>
                      <a:pt x="442" y="528"/>
                    </a:lnTo>
                    <a:lnTo>
                      <a:pt x="468" y="545"/>
                    </a:lnTo>
                    <a:lnTo>
                      <a:pt x="521" y="582"/>
                    </a:lnTo>
                    <a:lnTo>
                      <a:pt x="573" y="618"/>
                    </a:lnTo>
                    <a:lnTo>
                      <a:pt x="600" y="635"/>
                    </a:lnTo>
                    <a:lnTo>
                      <a:pt x="628" y="652"/>
                    </a:lnTo>
                    <a:lnTo>
                      <a:pt x="657" y="667"/>
                    </a:lnTo>
                    <a:lnTo>
                      <a:pt x="686" y="681"/>
                    </a:lnTo>
                    <a:lnTo>
                      <a:pt x="702" y="687"/>
                    </a:lnTo>
                    <a:lnTo>
                      <a:pt x="717" y="691"/>
                    </a:lnTo>
                    <a:lnTo>
                      <a:pt x="733" y="696"/>
                    </a:lnTo>
                    <a:lnTo>
                      <a:pt x="749" y="699"/>
                    </a:lnTo>
                    <a:lnTo>
                      <a:pt x="766" y="703"/>
                    </a:lnTo>
                    <a:lnTo>
                      <a:pt x="782" y="705"/>
                    </a:lnTo>
                    <a:lnTo>
                      <a:pt x="799" y="706"/>
                    </a:lnTo>
                    <a:lnTo>
                      <a:pt x="817" y="707"/>
                    </a:lnTo>
                    <a:lnTo>
                      <a:pt x="816" y="692"/>
                    </a:lnTo>
                    <a:lnTo>
                      <a:pt x="815" y="679"/>
                    </a:lnTo>
                    <a:lnTo>
                      <a:pt x="812" y="663"/>
                    </a:lnTo>
                    <a:lnTo>
                      <a:pt x="809" y="648"/>
                    </a:lnTo>
                    <a:lnTo>
                      <a:pt x="804" y="632"/>
                    </a:lnTo>
                    <a:lnTo>
                      <a:pt x="799" y="617"/>
                    </a:lnTo>
                    <a:lnTo>
                      <a:pt x="793" y="601"/>
                    </a:lnTo>
                    <a:lnTo>
                      <a:pt x="786" y="584"/>
                    </a:lnTo>
                    <a:lnTo>
                      <a:pt x="779" y="568"/>
                    </a:lnTo>
                    <a:lnTo>
                      <a:pt x="770" y="552"/>
                    </a:lnTo>
                    <a:lnTo>
                      <a:pt x="761" y="536"/>
                    </a:lnTo>
                    <a:lnTo>
                      <a:pt x="752" y="520"/>
                    </a:lnTo>
                    <a:lnTo>
                      <a:pt x="742" y="504"/>
                    </a:lnTo>
                    <a:lnTo>
                      <a:pt x="731" y="489"/>
                    </a:lnTo>
                    <a:lnTo>
                      <a:pt x="720" y="473"/>
                    </a:lnTo>
                    <a:lnTo>
                      <a:pt x="708" y="460"/>
                    </a:lnTo>
                    <a:lnTo>
                      <a:pt x="696" y="445"/>
                    </a:lnTo>
                    <a:lnTo>
                      <a:pt x="682" y="431"/>
                    </a:lnTo>
                    <a:lnTo>
                      <a:pt x="670" y="418"/>
                    </a:lnTo>
                    <a:lnTo>
                      <a:pt x="656" y="405"/>
                    </a:lnTo>
                    <a:lnTo>
                      <a:pt x="643" y="392"/>
                    </a:lnTo>
                    <a:lnTo>
                      <a:pt x="629" y="382"/>
                    </a:lnTo>
                    <a:lnTo>
                      <a:pt x="614" y="371"/>
                    </a:lnTo>
                    <a:lnTo>
                      <a:pt x="599" y="362"/>
                    </a:lnTo>
                    <a:lnTo>
                      <a:pt x="584" y="353"/>
                    </a:lnTo>
                    <a:lnTo>
                      <a:pt x="570" y="345"/>
                    </a:lnTo>
                    <a:lnTo>
                      <a:pt x="555" y="338"/>
                    </a:lnTo>
                    <a:lnTo>
                      <a:pt x="540" y="332"/>
                    </a:lnTo>
                    <a:lnTo>
                      <a:pt x="524" y="329"/>
                    </a:lnTo>
                    <a:lnTo>
                      <a:pt x="509" y="325"/>
                    </a:lnTo>
                    <a:lnTo>
                      <a:pt x="494" y="323"/>
                    </a:lnTo>
                    <a:lnTo>
                      <a:pt x="478" y="322"/>
                    </a:lnTo>
                    <a:lnTo>
                      <a:pt x="498" y="322"/>
                    </a:lnTo>
                    <a:lnTo>
                      <a:pt x="516" y="321"/>
                    </a:lnTo>
                    <a:lnTo>
                      <a:pt x="534" y="318"/>
                    </a:lnTo>
                    <a:lnTo>
                      <a:pt x="551" y="315"/>
                    </a:lnTo>
                    <a:lnTo>
                      <a:pt x="568" y="310"/>
                    </a:lnTo>
                    <a:lnTo>
                      <a:pt x="584" y="306"/>
                    </a:lnTo>
                    <a:lnTo>
                      <a:pt x="600" y="300"/>
                    </a:lnTo>
                    <a:lnTo>
                      <a:pt x="615" y="294"/>
                    </a:lnTo>
                    <a:lnTo>
                      <a:pt x="630" y="288"/>
                    </a:lnTo>
                    <a:lnTo>
                      <a:pt x="644" y="280"/>
                    </a:lnTo>
                    <a:lnTo>
                      <a:pt x="657" y="272"/>
                    </a:lnTo>
                    <a:lnTo>
                      <a:pt x="671" y="263"/>
                    </a:lnTo>
                    <a:lnTo>
                      <a:pt x="684" y="253"/>
                    </a:lnTo>
                    <a:lnTo>
                      <a:pt x="696" y="243"/>
                    </a:lnTo>
                    <a:lnTo>
                      <a:pt x="709" y="233"/>
                    </a:lnTo>
                    <a:lnTo>
                      <a:pt x="720" y="221"/>
                    </a:lnTo>
                    <a:lnTo>
                      <a:pt x="742" y="198"/>
                    </a:lnTo>
                    <a:lnTo>
                      <a:pt x="762" y="172"/>
                    </a:lnTo>
                    <a:lnTo>
                      <a:pt x="782" y="146"/>
                    </a:lnTo>
                    <a:lnTo>
                      <a:pt x="800" y="118"/>
                    </a:lnTo>
                    <a:lnTo>
                      <a:pt x="817" y="89"/>
                    </a:lnTo>
                    <a:lnTo>
                      <a:pt x="833" y="60"/>
                    </a:lnTo>
                    <a:lnTo>
                      <a:pt x="848" y="30"/>
                    </a:lnTo>
                    <a:lnTo>
                      <a:pt x="861" y="0"/>
                    </a:lnTo>
                    <a:lnTo>
                      <a:pt x="831" y="0"/>
                    </a:lnTo>
                    <a:lnTo>
                      <a:pt x="802" y="1"/>
                    </a:lnTo>
                    <a:lnTo>
                      <a:pt x="775" y="3"/>
                    </a:lnTo>
                    <a:lnTo>
                      <a:pt x="750" y="4"/>
                    </a:lnTo>
                    <a:lnTo>
                      <a:pt x="726" y="6"/>
                    </a:lnTo>
                    <a:lnTo>
                      <a:pt x="704" y="9"/>
                    </a:lnTo>
                    <a:lnTo>
                      <a:pt x="684" y="13"/>
                    </a:lnTo>
                    <a:lnTo>
                      <a:pt x="664" y="17"/>
                    </a:lnTo>
                    <a:lnTo>
                      <a:pt x="647" y="22"/>
                    </a:lnTo>
                    <a:lnTo>
                      <a:pt x="630" y="28"/>
                    </a:lnTo>
                    <a:lnTo>
                      <a:pt x="615" y="33"/>
                    </a:lnTo>
                    <a:lnTo>
                      <a:pt x="600" y="39"/>
                    </a:lnTo>
                    <a:lnTo>
                      <a:pt x="588" y="47"/>
                    </a:lnTo>
                    <a:lnTo>
                      <a:pt x="575" y="54"/>
                    </a:lnTo>
                    <a:lnTo>
                      <a:pt x="564" y="63"/>
                    </a:lnTo>
                    <a:lnTo>
                      <a:pt x="554" y="72"/>
                    </a:lnTo>
                    <a:lnTo>
                      <a:pt x="543" y="81"/>
                    </a:lnTo>
                    <a:lnTo>
                      <a:pt x="534" y="92"/>
                    </a:lnTo>
                    <a:lnTo>
                      <a:pt x="525" y="103"/>
                    </a:lnTo>
                    <a:lnTo>
                      <a:pt x="517" y="114"/>
                    </a:lnTo>
                    <a:lnTo>
                      <a:pt x="501" y="139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8"/>
                    </a:lnTo>
                    <a:lnTo>
                      <a:pt x="411" y="307"/>
                    </a:lnTo>
                    <a:lnTo>
                      <a:pt x="395" y="301"/>
                    </a:lnTo>
                    <a:lnTo>
                      <a:pt x="375" y="293"/>
                    </a:lnTo>
                    <a:lnTo>
                      <a:pt x="352" y="284"/>
                    </a:lnTo>
                    <a:lnTo>
                      <a:pt x="296" y="261"/>
                    </a:lnTo>
                    <a:lnTo>
                      <a:pt x="236" y="237"/>
                    </a:lnTo>
                    <a:lnTo>
                      <a:pt x="204" y="227"/>
                    </a:lnTo>
                    <a:lnTo>
                      <a:pt x="174" y="218"/>
                    </a:lnTo>
                    <a:lnTo>
                      <a:pt x="159" y="215"/>
                    </a:lnTo>
                    <a:lnTo>
                      <a:pt x="145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3" y="208"/>
                    </a:lnTo>
                    <a:lnTo>
                      <a:pt x="92" y="208"/>
                    </a:lnTo>
                    <a:lnTo>
                      <a:pt x="81" y="209"/>
                    </a:lnTo>
                    <a:lnTo>
                      <a:pt x="70" y="211"/>
                    </a:lnTo>
                    <a:lnTo>
                      <a:pt x="60" y="216"/>
                    </a:lnTo>
                    <a:lnTo>
                      <a:pt x="52" y="220"/>
                    </a:lnTo>
                    <a:lnTo>
                      <a:pt x="45" y="226"/>
                    </a:lnTo>
                    <a:lnTo>
                      <a:pt x="39" y="234"/>
                    </a:lnTo>
                    <a:lnTo>
                      <a:pt x="28" y="252"/>
                    </a:lnTo>
                    <a:lnTo>
                      <a:pt x="20" y="273"/>
                    </a:lnTo>
                    <a:lnTo>
                      <a:pt x="13" y="293"/>
                    </a:lnTo>
                    <a:lnTo>
                      <a:pt x="8" y="316"/>
                    </a:lnTo>
                    <a:lnTo>
                      <a:pt x="4" y="339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2" y="435"/>
                    </a:lnTo>
                    <a:lnTo>
                      <a:pt x="4" y="459"/>
                    </a:lnTo>
                    <a:lnTo>
                      <a:pt x="8" y="483"/>
                    </a:lnTo>
                    <a:lnTo>
                      <a:pt x="13" y="505"/>
                    </a:lnTo>
                    <a:lnTo>
                      <a:pt x="19" y="528"/>
                    </a:lnTo>
                    <a:lnTo>
                      <a:pt x="26" y="551"/>
                    </a:lnTo>
                    <a:lnTo>
                      <a:pt x="34" y="571"/>
                    </a:lnTo>
                    <a:lnTo>
                      <a:pt x="43" y="592"/>
                    </a:lnTo>
                    <a:lnTo>
                      <a:pt x="53" y="610"/>
                    </a:lnTo>
                    <a:lnTo>
                      <a:pt x="65" y="627"/>
                    </a:lnTo>
                    <a:lnTo>
                      <a:pt x="76" y="643"/>
                    </a:lnTo>
                    <a:lnTo>
                      <a:pt x="89" y="657"/>
                    </a:lnTo>
                    <a:lnTo>
                      <a:pt x="102" y="668"/>
                    </a:lnTo>
                    <a:lnTo>
                      <a:pt x="116" y="679"/>
                    </a:lnTo>
                    <a:lnTo>
                      <a:pt x="131" y="685"/>
                    </a:lnTo>
                    <a:lnTo>
                      <a:pt x="147" y="690"/>
                    </a:lnTo>
                    <a:lnTo>
                      <a:pt x="163" y="692"/>
                    </a:lnTo>
                    <a:lnTo>
                      <a:pt x="180" y="692"/>
                    </a:lnTo>
                    <a:lnTo>
                      <a:pt x="197" y="688"/>
                    </a:lnTo>
                    <a:lnTo>
                      <a:pt x="214" y="681"/>
                    </a:lnTo>
                    <a:lnTo>
                      <a:pt x="232" y="671"/>
                    </a:lnTo>
                    <a:lnTo>
                      <a:pt x="250" y="657"/>
                    </a:lnTo>
                    <a:lnTo>
                      <a:pt x="269" y="640"/>
                    </a:lnTo>
                    <a:lnTo>
                      <a:pt x="288" y="618"/>
                    </a:lnTo>
                    <a:lnTo>
                      <a:pt x="318" y="582"/>
                    </a:lnTo>
                    <a:lnTo>
                      <a:pt x="336" y="560"/>
                    </a:lnTo>
                    <a:lnTo>
                      <a:pt x="342" y="554"/>
                    </a:lnTo>
                    <a:lnTo>
                      <a:pt x="345" y="552"/>
                    </a:lnTo>
                    <a:lnTo>
                      <a:pt x="346" y="552"/>
                    </a:lnTo>
                    <a:lnTo>
                      <a:pt x="346" y="554"/>
                    </a:lnTo>
                    <a:lnTo>
                      <a:pt x="334" y="589"/>
                    </a:lnTo>
                    <a:lnTo>
                      <a:pt x="312" y="647"/>
                    </a:lnTo>
                    <a:lnTo>
                      <a:pt x="307" y="663"/>
                    </a:lnTo>
                    <a:lnTo>
                      <a:pt x="303" y="681"/>
                    </a:lnTo>
                    <a:lnTo>
                      <a:pt x="300" y="698"/>
                    </a:lnTo>
                    <a:lnTo>
                      <a:pt x="297" y="715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6"/>
                    </a:lnTo>
                    <a:lnTo>
                      <a:pt x="303" y="782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29" y="822"/>
                    </a:lnTo>
                    <a:lnTo>
                      <a:pt x="344" y="833"/>
                    </a:lnTo>
                    <a:lnTo>
                      <a:pt x="361" y="840"/>
                    </a:lnTo>
                    <a:lnTo>
                      <a:pt x="383" y="847"/>
                    </a:lnTo>
                    <a:lnTo>
                      <a:pt x="407" y="851"/>
                    </a:lnTo>
                    <a:lnTo>
                      <a:pt x="435" y="852"/>
                    </a:lnTo>
                    <a:lnTo>
                      <a:pt x="435" y="803"/>
                    </a:lnTo>
                    <a:lnTo>
                      <a:pt x="434" y="754"/>
                    </a:lnTo>
                    <a:lnTo>
                      <a:pt x="433" y="729"/>
                    </a:lnTo>
                    <a:lnTo>
                      <a:pt x="432" y="705"/>
                    </a:lnTo>
                    <a:lnTo>
                      <a:pt x="429" y="681"/>
                    </a:lnTo>
                    <a:lnTo>
                      <a:pt x="426" y="658"/>
                    </a:lnTo>
                    <a:lnTo>
                      <a:pt x="423" y="634"/>
                    </a:lnTo>
                    <a:lnTo>
                      <a:pt x="418" y="611"/>
                    </a:lnTo>
                    <a:lnTo>
                      <a:pt x="412" y="590"/>
                    </a:lnTo>
                    <a:lnTo>
                      <a:pt x="404" y="568"/>
                    </a:lnTo>
                    <a:lnTo>
                      <a:pt x="396" y="546"/>
                    </a:lnTo>
                    <a:lnTo>
                      <a:pt x="387" y="526"/>
                    </a:lnTo>
                    <a:lnTo>
                      <a:pt x="376" y="506"/>
                    </a:lnTo>
                    <a:lnTo>
                      <a:pt x="362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21400" y="4285080"/>
                <a:ext cx="149040" cy="77760"/>
              </a:xfrm>
              <a:custGeom>
                <a:avLst/>
                <a:gdLst/>
                <a:ahLst/>
                <a:rect l="l" t="t" r="r" b="b"/>
                <a:pathLst>
                  <a:path w="469" h="243">
                    <a:moveTo>
                      <a:pt x="445" y="231"/>
                    </a:moveTo>
                    <a:lnTo>
                      <a:pt x="458" y="219"/>
                    </a:lnTo>
                    <a:lnTo>
                      <a:pt x="441" y="219"/>
                    </a:lnTo>
                    <a:lnTo>
                      <a:pt x="424" y="216"/>
                    </a:lnTo>
                    <a:lnTo>
                      <a:pt x="408" y="215"/>
                    </a:lnTo>
                    <a:lnTo>
                      <a:pt x="392" y="212"/>
                    </a:lnTo>
                    <a:lnTo>
                      <a:pt x="377" y="208"/>
                    </a:lnTo>
                    <a:lnTo>
                      <a:pt x="361" y="204"/>
                    </a:lnTo>
                    <a:lnTo>
                      <a:pt x="346" y="199"/>
                    </a:lnTo>
                    <a:lnTo>
                      <a:pt x="333" y="193"/>
                    </a:lnTo>
                    <a:lnTo>
                      <a:pt x="303" y="180"/>
                    </a:lnTo>
                    <a:lnTo>
                      <a:pt x="276" y="166"/>
                    </a:lnTo>
                    <a:lnTo>
                      <a:pt x="248" y="149"/>
                    </a:lnTo>
                    <a:lnTo>
                      <a:pt x="221" y="132"/>
                    </a:lnTo>
                    <a:lnTo>
                      <a:pt x="168" y="95"/>
                    </a:lnTo>
                    <a:lnTo>
                      <a:pt x="116" y="59"/>
                    </a:lnTo>
                    <a:lnTo>
                      <a:pt x="90" y="42"/>
                    </a:lnTo>
                    <a:lnTo>
                      <a:pt x="64" y="26"/>
                    </a:lnTo>
                    <a:lnTo>
                      <a:pt x="36" y="12"/>
                    </a:lnTo>
                    <a:lnTo>
                      <a:pt x="8" y="0"/>
                    </a:lnTo>
                    <a:lnTo>
                      <a:pt x="0" y="22"/>
                    </a:lnTo>
                    <a:lnTo>
                      <a:pt x="26" y="34"/>
                    </a:lnTo>
                    <a:lnTo>
                      <a:pt x="51" y="48"/>
                    </a:lnTo>
                    <a:lnTo>
                      <a:pt x="77" y="62"/>
                    </a:lnTo>
                    <a:lnTo>
                      <a:pt x="102" y="79"/>
                    </a:lnTo>
                    <a:lnTo>
                      <a:pt x="155" y="115"/>
                    </a:lnTo>
                    <a:lnTo>
                      <a:pt x="207" y="152"/>
                    </a:lnTo>
                    <a:lnTo>
                      <a:pt x="236" y="170"/>
                    </a:lnTo>
                    <a:lnTo>
                      <a:pt x="263" y="187"/>
                    </a:lnTo>
                    <a:lnTo>
                      <a:pt x="293" y="203"/>
                    </a:lnTo>
                    <a:lnTo>
                      <a:pt x="322" y="215"/>
                    </a:lnTo>
                    <a:lnTo>
                      <a:pt x="338" y="222"/>
                    </a:lnTo>
                    <a:lnTo>
                      <a:pt x="354" y="227"/>
                    </a:lnTo>
                    <a:lnTo>
                      <a:pt x="370" y="231"/>
                    </a:lnTo>
                    <a:lnTo>
                      <a:pt x="387" y="236"/>
                    </a:lnTo>
                    <a:lnTo>
                      <a:pt x="404" y="239"/>
                    </a:lnTo>
                    <a:lnTo>
                      <a:pt x="421" y="241"/>
                    </a:lnTo>
                    <a:lnTo>
                      <a:pt x="440" y="243"/>
                    </a:lnTo>
                    <a:lnTo>
                      <a:pt x="458" y="243"/>
                    </a:lnTo>
                    <a:lnTo>
                      <a:pt x="469" y="231"/>
                    </a:lnTo>
                    <a:lnTo>
                      <a:pt x="458" y="243"/>
                    </a:lnTo>
                    <a:lnTo>
                      <a:pt x="462" y="241"/>
                    </a:lnTo>
                    <a:lnTo>
                      <a:pt x="467" y="239"/>
                    </a:lnTo>
                    <a:lnTo>
                      <a:pt x="469" y="236"/>
                    </a:lnTo>
                    <a:lnTo>
                      <a:pt x="469" y="231"/>
                    </a:lnTo>
                    <a:lnTo>
                      <a:pt x="469" y="227"/>
                    </a:lnTo>
                    <a:lnTo>
                      <a:pt x="467" y="222"/>
                    </a:lnTo>
                    <a:lnTo>
                      <a:pt x="462" y="220"/>
                    </a:lnTo>
                    <a:lnTo>
                      <a:pt x="458" y="219"/>
                    </a:lnTo>
                    <a:lnTo>
                      <a:pt x="445" y="23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656320" y="4232520"/>
                <a:ext cx="11412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1" y="0"/>
                    </a:moveTo>
                    <a:lnTo>
                      <a:pt x="11" y="24"/>
                    </a:lnTo>
                    <a:lnTo>
                      <a:pt x="26" y="24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68" y="35"/>
                    </a:lnTo>
                    <a:lnTo>
                      <a:pt x="83" y="39"/>
                    </a:lnTo>
                    <a:lnTo>
                      <a:pt x="97" y="46"/>
                    </a:lnTo>
                    <a:lnTo>
                      <a:pt x="112" y="53"/>
                    </a:lnTo>
                    <a:lnTo>
                      <a:pt x="127" y="62"/>
                    </a:lnTo>
                    <a:lnTo>
                      <a:pt x="140" y="71"/>
                    </a:lnTo>
                    <a:lnTo>
                      <a:pt x="154" y="81"/>
                    </a:lnTo>
                    <a:lnTo>
                      <a:pt x="168" y="93"/>
                    </a:lnTo>
                    <a:lnTo>
                      <a:pt x="181" y="104"/>
                    </a:lnTo>
                    <a:lnTo>
                      <a:pt x="195" y="117"/>
                    </a:lnTo>
                    <a:lnTo>
                      <a:pt x="207" y="129"/>
                    </a:lnTo>
                    <a:lnTo>
                      <a:pt x="220" y="143"/>
                    </a:lnTo>
                    <a:lnTo>
                      <a:pt x="231" y="157"/>
                    </a:lnTo>
                    <a:lnTo>
                      <a:pt x="243" y="171"/>
                    </a:lnTo>
                    <a:lnTo>
                      <a:pt x="254" y="186"/>
                    </a:lnTo>
                    <a:lnTo>
                      <a:pt x="264" y="201"/>
                    </a:lnTo>
                    <a:lnTo>
                      <a:pt x="275" y="217"/>
                    </a:lnTo>
                    <a:lnTo>
                      <a:pt x="284" y="232"/>
                    </a:lnTo>
                    <a:lnTo>
                      <a:pt x="293" y="248"/>
                    </a:lnTo>
                    <a:lnTo>
                      <a:pt x="301" y="264"/>
                    </a:lnTo>
                    <a:lnTo>
                      <a:pt x="308" y="280"/>
                    </a:lnTo>
                    <a:lnTo>
                      <a:pt x="315" y="295"/>
                    </a:lnTo>
                    <a:lnTo>
                      <a:pt x="320" y="310"/>
                    </a:lnTo>
                    <a:lnTo>
                      <a:pt x="326" y="325"/>
                    </a:lnTo>
                    <a:lnTo>
                      <a:pt x="329" y="341"/>
                    </a:lnTo>
                    <a:lnTo>
                      <a:pt x="333" y="355"/>
                    </a:lnTo>
                    <a:lnTo>
                      <a:pt x="335" y="370"/>
                    </a:lnTo>
                    <a:lnTo>
                      <a:pt x="337" y="383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9" y="366"/>
                    </a:lnTo>
                    <a:lnTo>
                      <a:pt x="357" y="350"/>
                    </a:lnTo>
                    <a:lnTo>
                      <a:pt x="353" y="334"/>
                    </a:lnTo>
                    <a:lnTo>
                      <a:pt x="349" y="318"/>
                    </a:lnTo>
                    <a:lnTo>
                      <a:pt x="343" y="302"/>
                    </a:lnTo>
                    <a:lnTo>
                      <a:pt x="337" y="287"/>
                    </a:lnTo>
                    <a:lnTo>
                      <a:pt x="331" y="269"/>
                    </a:lnTo>
                    <a:lnTo>
                      <a:pt x="323" y="253"/>
                    </a:lnTo>
                    <a:lnTo>
                      <a:pt x="315" y="236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5" y="187"/>
                    </a:lnTo>
                    <a:lnTo>
                      <a:pt x="274" y="173"/>
                    </a:lnTo>
                    <a:lnTo>
                      <a:pt x="262" y="157"/>
                    </a:lnTo>
                    <a:lnTo>
                      <a:pt x="251" y="142"/>
                    </a:lnTo>
                    <a:lnTo>
                      <a:pt x="238" y="127"/>
                    </a:lnTo>
                    <a:lnTo>
                      <a:pt x="225" y="112"/>
                    </a:lnTo>
                    <a:lnTo>
                      <a:pt x="211" y="100"/>
                    </a:lnTo>
                    <a:lnTo>
                      <a:pt x="197" y="86"/>
                    </a:lnTo>
                    <a:lnTo>
                      <a:pt x="184" y="73"/>
                    </a:lnTo>
                    <a:lnTo>
                      <a:pt x="169" y="62"/>
                    </a:lnTo>
                    <a:lnTo>
                      <a:pt x="154" y="52"/>
                    </a:lnTo>
                    <a:lnTo>
                      <a:pt x="139" y="41"/>
                    </a:lnTo>
                    <a:lnTo>
                      <a:pt x="123" y="32"/>
                    </a:lnTo>
                    <a:lnTo>
                      <a:pt x="108" y="24"/>
                    </a:lnTo>
                    <a:lnTo>
                      <a:pt x="92" y="17"/>
                    </a:lnTo>
                    <a:lnTo>
                      <a:pt x="76" y="11"/>
                    </a:lnTo>
                    <a:lnTo>
                      <a:pt x="60" y="6"/>
                    </a:lnTo>
                    <a:lnTo>
                      <a:pt x="44" y="3"/>
                    </a:lnTo>
                    <a:lnTo>
                      <a:pt x="27" y="0"/>
                    </a:lnTo>
                    <a:lnTo>
                      <a:pt x="11" y="0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659560" y="413100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96" h="346">
                    <a:moveTo>
                      <a:pt x="383" y="24"/>
                    </a:moveTo>
                    <a:lnTo>
                      <a:pt x="372" y="7"/>
                    </a:lnTo>
                    <a:lnTo>
                      <a:pt x="358" y="37"/>
                    </a:lnTo>
                    <a:lnTo>
                      <a:pt x="343" y="67"/>
                    </a:lnTo>
                    <a:lnTo>
                      <a:pt x="329" y="96"/>
                    </a:lnTo>
                    <a:lnTo>
                      <a:pt x="312" y="124"/>
                    </a:lnTo>
                    <a:lnTo>
                      <a:pt x="294" y="151"/>
                    </a:lnTo>
                    <a:lnTo>
                      <a:pt x="275" y="178"/>
                    </a:lnTo>
                    <a:lnTo>
                      <a:pt x="255" y="202"/>
                    </a:lnTo>
                    <a:lnTo>
                      <a:pt x="233" y="225"/>
                    </a:lnTo>
                    <a:lnTo>
                      <a:pt x="223" y="236"/>
                    </a:lnTo>
                    <a:lnTo>
                      <a:pt x="210" y="246"/>
                    </a:lnTo>
                    <a:lnTo>
                      <a:pt x="199" y="255"/>
                    </a:lnTo>
                    <a:lnTo>
                      <a:pt x="186" y="264"/>
                    </a:lnTo>
                    <a:lnTo>
                      <a:pt x="174" y="273"/>
                    </a:lnTo>
                    <a:lnTo>
                      <a:pt x="160" y="281"/>
                    </a:lnTo>
                    <a:lnTo>
                      <a:pt x="146" y="288"/>
                    </a:lnTo>
                    <a:lnTo>
                      <a:pt x="133" y="295"/>
                    </a:lnTo>
                    <a:lnTo>
                      <a:pt x="118" y="302"/>
                    </a:lnTo>
                    <a:lnTo>
                      <a:pt x="103" y="306"/>
                    </a:lnTo>
                    <a:lnTo>
                      <a:pt x="87" y="311"/>
                    </a:lnTo>
                    <a:lnTo>
                      <a:pt x="71" y="316"/>
                    </a:lnTo>
                    <a:lnTo>
                      <a:pt x="54" y="318"/>
                    </a:lnTo>
                    <a:lnTo>
                      <a:pt x="37" y="320"/>
                    </a:lnTo>
                    <a:lnTo>
                      <a:pt x="19" y="321"/>
                    </a:lnTo>
                    <a:lnTo>
                      <a:pt x="0" y="322"/>
                    </a:lnTo>
                    <a:lnTo>
                      <a:pt x="0" y="346"/>
                    </a:lnTo>
                    <a:lnTo>
                      <a:pt x="20" y="345"/>
                    </a:lnTo>
                    <a:lnTo>
                      <a:pt x="39" y="344"/>
                    </a:lnTo>
                    <a:lnTo>
                      <a:pt x="57" y="342"/>
                    </a:lnTo>
                    <a:lnTo>
                      <a:pt x="76" y="338"/>
                    </a:lnTo>
                    <a:lnTo>
                      <a:pt x="93" y="335"/>
                    </a:lnTo>
                    <a:lnTo>
                      <a:pt x="110" y="329"/>
                    </a:lnTo>
                    <a:lnTo>
                      <a:pt x="126" y="324"/>
                    </a:lnTo>
                    <a:lnTo>
                      <a:pt x="142" y="318"/>
                    </a:lnTo>
                    <a:lnTo>
                      <a:pt x="158" y="310"/>
                    </a:lnTo>
                    <a:lnTo>
                      <a:pt x="173" y="302"/>
                    </a:lnTo>
                    <a:lnTo>
                      <a:pt x="186" y="294"/>
                    </a:lnTo>
                    <a:lnTo>
                      <a:pt x="200" y="285"/>
                    </a:lnTo>
                    <a:lnTo>
                      <a:pt x="214" y="275"/>
                    </a:lnTo>
                    <a:lnTo>
                      <a:pt x="226" y="264"/>
                    </a:lnTo>
                    <a:lnTo>
                      <a:pt x="239" y="254"/>
                    </a:lnTo>
                    <a:lnTo>
                      <a:pt x="251" y="241"/>
                    </a:lnTo>
                    <a:lnTo>
                      <a:pt x="273" y="218"/>
                    </a:lnTo>
                    <a:lnTo>
                      <a:pt x="294" y="192"/>
                    </a:lnTo>
                    <a:lnTo>
                      <a:pt x="314" y="165"/>
                    </a:lnTo>
                    <a:lnTo>
                      <a:pt x="332" y="137"/>
                    </a:lnTo>
                    <a:lnTo>
                      <a:pt x="349" y="107"/>
                    </a:lnTo>
                    <a:lnTo>
                      <a:pt x="365" y="77"/>
                    </a:lnTo>
                    <a:lnTo>
                      <a:pt x="380" y="48"/>
                    </a:lnTo>
                    <a:lnTo>
                      <a:pt x="395" y="17"/>
                    </a:lnTo>
                    <a:lnTo>
                      <a:pt x="383" y="0"/>
                    </a:lnTo>
                    <a:lnTo>
                      <a:pt x="395" y="17"/>
                    </a:lnTo>
                    <a:lnTo>
                      <a:pt x="396" y="11"/>
                    </a:lnTo>
                    <a:lnTo>
                      <a:pt x="395" y="7"/>
                    </a:lnTo>
                    <a:lnTo>
                      <a:pt x="392" y="3"/>
                    </a:lnTo>
                    <a:lnTo>
                      <a:pt x="388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5" y="2"/>
                    </a:lnTo>
                    <a:lnTo>
                      <a:pt x="372" y="7"/>
                    </a:lnTo>
                    <a:lnTo>
                      <a:pt x="383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637240" y="4131000"/>
                <a:ext cx="144360" cy="104760"/>
              </a:xfrm>
              <a:custGeom>
                <a:avLst/>
                <a:gdLst/>
                <a:ahLst/>
                <a:rect l="l" t="t" r="r" b="b"/>
                <a:pathLst>
                  <a:path w="452" h="333">
                    <a:moveTo>
                      <a:pt x="12" y="333"/>
                    </a:moveTo>
                    <a:lnTo>
                      <a:pt x="24" y="326"/>
                    </a:lnTo>
                    <a:lnTo>
                      <a:pt x="58" y="249"/>
                    </a:lnTo>
                    <a:lnTo>
                      <a:pt x="88" y="184"/>
                    </a:lnTo>
                    <a:lnTo>
                      <a:pt x="102" y="157"/>
                    </a:lnTo>
                    <a:lnTo>
                      <a:pt x="117" y="133"/>
                    </a:lnTo>
                    <a:lnTo>
                      <a:pt x="125" y="122"/>
                    </a:lnTo>
                    <a:lnTo>
                      <a:pt x="134" y="111"/>
                    </a:lnTo>
                    <a:lnTo>
                      <a:pt x="142" y="101"/>
                    </a:lnTo>
                    <a:lnTo>
                      <a:pt x="153" y="92"/>
                    </a:lnTo>
                    <a:lnTo>
                      <a:pt x="162" y="84"/>
                    </a:lnTo>
                    <a:lnTo>
                      <a:pt x="173" y="76"/>
                    </a:lnTo>
                    <a:lnTo>
                      <a:pt x="185" y="69"/>
                    </a:lnTo>
                    <a:lnTo>
                      <a:pt x="197" y="62"/>
                    </a:lnTo>
                    <a:lnTo>
                      <a:pt x="211" y="56"/>
                    </a:lnTo>
                    <a:lnTo>
                      <a:pt x="226" y="51"/>
                    </a:lnTo>
                    <a:lnTo>
                      <a:pt x="242" y="45"/>
                    </a:lnTo>
                    <a:lnTo>
                      <a:pt x="259" y="41"/>
                    </a:lnTo>
                    <a:lnTo>
                      <a:pt x="277" y="37"/>
                    </a:lnTo>
                    <a:lnTo>
                      <a:pt x="297" y="34"/>
                    </a:lnTo>
                    <a:lnTo>
                      <a:pt x="319" y="31"/>
                    </a:lnTo>
                    <a:lnTo>
                      <a:pt x="342" y="28"/>
                    </a:lnTo>
                    <a:lnTo>
                      <a:pt x="367" y="26"/>
                    </a:lnTo>
                    <a:lnTo>
                      <a:pt x="393" y="25"/>
                    </a:lnTo>
                    <a:lnTo>
                      <a:pt x="422" y="24"/>
                    </a:lnTo>
                    <a:lnTo>
                      <a:pt x="452" y="24"/>
                    </a:lnTo>
                    <a:lnTo>
                      <a:pt x="452" y="0"/>
                    </a:lnTo>
                    <a:lnTo>
                      <a:pt x="422" y="0"/>
                    </a:lnTo>
                    <a:lnTo>
                      <a:pt x="393" y="1"/>
                    </a:lnTo>
                    <a:lnTo>
                      <a:pt x="366" y="2"/>
                    </a:lnTo>
                    <a:lnTo>
                      <a:pt x="340" y="4"/>
                    </a:lnTo>
                    <a:lnTo>
                      <a:pt x="316" y="7"/>
                    </a:lnTo>
                    <a:lnTo>
                      <a:pt x="294" y="10"/>
                    </a:lnTo>
                    <a:lnTo>
                      <a:pt x="272" y="13"/>
                    </a:lnTo>
                    <a:lnTo>
                      <a:pt x="253" y="17"/>
                    </a:lnTo>
                    <a:lnTo>
                      <a:pt x="235" y="23"/>
                    </a:lnTo>
                    <a:lnTo>
                      <a:pt x="218" y="28"/>
                    </a:lnTo>
                    <a:lnTo>
                      <a:pt x="202" y="34"/>
                    </a:lnTo>
                    <a:lnTo>
                      <a:pt x="187" y="41"/>
                    </a:lnTo>
                    <a:lnTo>
                      <a:pt x="172" y="48"/>
                    </a:lnTo>
                    <a:lnTo>
                      <a:pt x="159" y="57"/>
                    </a:lnTo>
                    <a:lnTo>
                      <a:pt x="147" y="65"/>
                    </a:lnTo>
                    <a:lnTo>
                      <a:pt x="137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7"/>
                    </a:lnTo>
                    <a:lnTo>
                      <a:pt x="98" y="119"/>
                    </a:lnTo>
                    <a:lnTo>
                      <a:pt x="82" y="146"/>
                    </a:lnTo>
                    <a:lnTo>
                      <a:pt x="66" y="174"/>
                    </a:lnTo>
                    <a:lnTo>
                      <a:pt x="36" y="239"/>
                    </a:lnTo>
                    <a:lnTo>
                      <a:pt x="2" y="316"/>
                    </a:lnTo>
                    <a:lnTo>
                      <a:pt x="12" y="308"/>
                    </a:lnTo>
                    <a:lnTo>
                      <a:pt x="2" y="316"/>
                    </a:lnTo>
                    <a:lnTo>
                      <a:pt x="0" y="320"/>
                    </a:lnTo>
                    <a:lnTo>
                      <a:pt x="1" y="325"/>
                    </a:lnTo>
                    <a:lnTo>
                      <a:pt x="3" y="329"/>
                    </a:lnTo>
                    <a:lnTo>
                      <a:pt x="8" y="332"/>
                    </a:lnTo>
                    <a:lnTo>
                      <a:pt x="12" y="333"/>
                    </a:lnTo>
                    <a:lnTo>
                      <a:pt x="16" y="332"/>
                    </a:lnTo>
                    <a:lnTo>
                      <a:pt x="20" y="329"/>
                    </a:lnTo>
                    <a:lnTo>
                      <a:pt x="24" y="326"/>
                    </a:lnTo>
                    <a:lnTo>
                      <a:pt x="12" y="3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516640" y="4196160"/>
                <a:ext cx="125280" cy="39600"/>
              </a:xfrm>
              <a:custGeom>
                <a:avLst/>
                <a:gdLst/>
                <a:ahLst/>
                <a:rect l="l" t="t" r="r" b="b"/>
                <a:pathLst>
                  <a:path w="393" h="126">
                    <a:moveTo>
                      <a:pt x="21" y="45"/>
                    </a:moveTo>
                    <a:lnTo>
                      <a:pt x="21" y="46"/>
                    </a:lnTo>
                    <a:lnTo>
                      <a:pt x="25" y="40"/>
                    </a:lnTo>
                    <a:lnTo>
                      <a:pt x="31" y="34"/>
                    </a:lnTo>
                    <a:lnTo>
                      <a:pt x="38" y="31"/>
                    </a:lnTo>
                    <a:lnTo>
                      <a:pt x="46" y="28"/>
                    </a:lnTo>
                    <a:lnTo>
                      <a:pt x="55" y="26"/>
                    </a:lnTo>
                    <a:lnTo>
                      <a:pt x="64" y="25"/>
                    </a:lnTo>
                    <a:lnTo>
                      <a:pt x="75" y="24"/>
                    </a:lnTo>
                    <a:lnTo>
                      <a:pt x="88" y="25"/>
                    </a:lnTo>
                    <a:lnTo>
                      <a:pt x="101" y="26"/>
                    </a:lnTo>
                    <a:lnTo>
                      <a:pt x="114" y="29"/>
                    </a:lnTo>
                    <a:lnTo>
                      <a:pt x="128" y="32"/>
                    </a:lnTo>
                    <a:lnTo>
                      <a:pt x="143" y="36"/>
                    </a:lnTo>
                    <a:lnTo>
                      <a:pt x="172" y="44"/>
                    </a:lnTo>
                    <a:lnTo>
                      <a:pt x="203" y="54"/>
                    </a:lnTo>
                    <a:lnTo>
                      <a:pt x="265" y="78"/>
                    </a:lnTo>
                    <a:lnTo>
                      <a:pt x="319" y="101"/>
                    </a:lnTo>
                    <a:lnTo>
                      <a:pt x="342" y="110"/>
                    </a:lnTo>
                    <a:lnTo>
                      <a:pt x="363" y="118"/>
                    </a:lnTo>
                    <a:lnTo>
                      <a:pt x="380" y="123"/>
                    </a:lnTo>
                    <a:lnTo>
                      <a:pt x="393" y="126"/>
                    </a:lnTo>
                    <a:lnTo>
                      <a:pt x="393" y="101"/>
                    </a:lnTo>
                    <a:lnTo>
                      <a:pt x="385" y="99"/>
                    </a:lnTo>
                    <a:lnTo>
                      <a:pt x="371" y="95"/>
                    </a:lnTo>
                    <a:lnTo>
                      <a:pt x="351" y="88"/>
                    </a:lnTo>
                    <a:lnTo>
                      <a:pt x="328" y="78"/>
                    </a:lnTo>
                    <a:lnTo>
                      <a:pt x="273" y="55"/>
                    </a:lnTo>
                    <a:lnTo>
                      <a:pt x="211" y="31"/>
                    </a:lnTo>
                    <a:lnTo>
                      <a:pt x="180" y="21"/>
                    </a:lnTo>
                    <a:lnTo>
                      <a:pt x="148" y="12"/>
                    </a:lnTo>
                    <a:lnTo>
                      <a:pt x="134" y="8"/>
                    </a:lnTo>
                    <a:lnTo>
                      <a:pt x="119" y="5"/>
                    </a:lnTo>
                    <a:lnTo>
                      <a:pt x="104" y="3"/>
                    </a:lnTo>
                    <a:lnTo>
                      <a:pt x="89" y="1"/>
                    </a:lnTo>
                    <a:lnTo>
                      <a:pt x="75" y="0"/>
                    </a:lnTo>
                    <a:lnTo>
                      <a:pt x="63" y="0"/>
                    </a:lnTo>
                    <a:lnTo>
                      <a:pt x="50" y="3"/>
                    </a:lnTo>
                    <a:lnTo>
                      <a:pt x="39" y="5"/>
                    </a:lnTo>
                    <a:lnTo>
                      <a:pt x="28" y="9"/>
                    </a:lnTo>
                    <a:lnTo>
                      <a:pt x="17" y="15"/>
                    </a:lnTo>
                    <a:lnTo>
                      <a:pt x="8" y="2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504040" y="4205520"/>
                <a:ext cx="98280" cy="152280"/>
              </a:xfrm>
              <a:custGeom>
                <a:avLst/>
                <a:gdLst/>
                <a:ahLst/>
                <a:rect l="l" t="t" r="r" b="b"/>
                <a:pathLst>
                  <a:path w="309" h="478">
                    <a:moveTo>
                      <a:pt x="291" y="383"/>
                    </a:moveTo>
                    <a:lnTo>
                      <a:pt x="291" y="383"/>
                    </a:lnTo>
                    <a:lnTo>
                      <a:pt x="282" y="395"/>
                    </a:lnTo>
                    <a:lnTo>
                      <a:pt x="273" y="404"/>
                    </a:lnTo>
                    <a:lnTo>
                      <a:pt x="264" y="413"/>
                    </a:lnTo>
                    <a:lnTo>
                      <a:pt x="255" y="421"/>
                    </a:lnTo>
                    <a:lnTo>
                      <a:pt x="247" y="428"/>
                    </a:lnTo>
                    <a:lnTo>
                      <a:pt x="237" y="435"/>
                    </a:lnTo>
                    <a:lnTo>
                      <a:pt x="229" y="439"/>
                    </a:lnTo>
                    <a:lnTo>
                      <a:pt x="221" y="444"/>
                    </a:lnTo>
                    <a:lnTo>
                      <a:pt x="212" y="447"/>
                    </a:lnTo>
                    <a:lnTo>
                      <a:pt x="206" y="449"/>
                    </a:lnTo>
                    <a:lnTo>
                      <a:pt x="198" y="452"/>
                    </a:lnTo>
                    <a:lnTo>
                      <a:pt x="190" y="453"/>
                    </a:lnTo>
                    <a:lnTo>
                      <a:pt x="183" y="454"/>
                    </a:lnTo>
                    <a:lnTo>
                      <a:pt x="176" y="454"/>
                    </a:lnTo>
                    <a:lnTo>
                      <a:pt x="168" y="453"/>
                    </a:lnTo>
                    <a:lnTo>
                      <a:pt x="161" y="452"/>
                    </a:lnTo>
                    <a:lnTo>
                      <a:pt x="154" y="449"/>
                    </a:lnTo>
                    <a:lnTo>
                      <a:pt x="147" y="447"/>
                    </a:lnTo>
                    <a:lnTo>
                      <a:pt x="142" y="445"/>
                    </a:lnTo>
                    <a:lnTo>
                      <a:pt x="135" y="441"/>
                    </a:lnTo>
                    <a:lnTo>
                      <a:pt x="122" y="432"/>
                    </a:lnTo>
                    <a:lnTo>
                      <a:pt x="110" y="421"/>
                    </a:lnTo>
                    <a:lnTo>
                      <a:pt x="97" y="408"/>
                    </a:lnTo>
                    <a:lnTo>
                      <a:pt x="87" y="393"/>
                    </a:lnTo>
                    <a:lnTo>
                      <a:pt x="76" y="378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3" y="298"/>
                    </a:lnTo>
                    <a:lnTo>
                      <a:pt x="37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7"/>
                    </a:lnTo>
                    <a:lnTo>
                      <a:pt x="24" y="183"/>
                    </a:lnTo>
                    <a:lnTo>
                      <a:pt x="24" y="159"/>
                    </a:lnTo>
                    <a:lnTo>
                      <a:pt x="25" y="136"/>
                    </a:lnTo>
                    <a:lnTo>
                      <a:pt x="28" y="113"/>
                    </a:lnTo>
                    <a:lnTo>
                      <a:pt x="32" y="91"/>
                    </a:lnTo>
                    <a:lnTo>
                      <a:pt x="37" y="70"/>
                    </a:lnTo>
                    <a:lnTo>
                      <a:pt x="44" y="50"/>
                    </a:lnTo>
                    <a:lnTo>
                      <a:pt x="52" y="31"/>
                    </a:lnTo>
                    <a:lnTo>
                      <a:pt x="61" y="13"/>
                    </a:lnTo>
                    <a:lnTo>
                      <a:pt x="40" y="0"/>
                    </a:lnTo>
                    <a:lnTo>
                      <a:pt x="30" y="21"/>
                    </a:lnTo>
                    <a:lnTo>
                      <a:pt x="21" y="41"/>
                    </a:lnTo>
                    <a:lnTo>
                      <a:pt x="14" y="63"/>
                    </a:lnTo>
                    <a:lnTo>
                      <a:pt x="8" y="87"/>
                    </a:lnTo>
                    <a:lnTo>
                      <a:pt x="4" y="110"/>
                    </a:lnTo>
                    <a:lnTo>
                      <a:pt x="2" y="134"/>
                    </a:lnTo>
                    <a:lnTo>
                      <a:pt x="0" y="159"/>
                    </a:lnTo>
                    <a:lnTo>
                      <a:pt x="0" y="184"/>
                    </a:lnTo>
                    <a:lnTo>
                      <a:pt x="2" y="209"/>
                    </a:lnTo>
                    <a:lnTo>
                      <a:pt x="4" y="233"/>
                    </a:lnTo>
                    <a:lnTo>
                      <a:pt x="8" y="258"/>
                    </a:lnTo>
                    <a:lnTo>
                      <a:pt x="13" y="282"/>
                    </a:lnTo>
                    <a:lnTo>
                      <a:pt x="20" y="305"/>
                    </a:lnTo>
                    <a:lnTo>
                      <a:pt x="27" y="327"/>
                    </a:lnTo>
                    <a:lnTo>
                      <a:pt x="36" y="349"/>
                    </a:lnTo>
                    <a:lnTo>
                      <a:pt x="45" y="370"/>
                    </a:lnTo>
                    <a:lnTo>
                      <a:pt x="55" y="390"/>
                    </a:lnTo>
                    <a:lnTo>
                      <a:pt x="66" y="407"/>
                    </a:lnTo>
                    <a:lnTo>
                      <a:pt x="79" y="424"/>
                    </a:lnTo>
                    <a:lnTo>
                      <a:pt x="93" y="439"/>
                    </a:lnTo>
                    <a:lnTo>
                      <a:pt x="108" y="452"/>
                    </a:lnTo>
                    <a:lnTo>
                      <a:pt x="122" y="462"/>
                    </a:lnTo>
                    <a:lnTo>
                      <a:pt x="130" y="466"/>
                    </a:lnTo>
                    <a:lnTo>
                      <a:pt x="138" y="470"/>
                    </a:lnTo>
                    <a:lnTo>
                      <a:pt x="147" y="473"/>
                    </a:lnTo>
                    <a:lnTo>
                      <a:pt x="157" y="476"/>
                    </a:lnTo>
                    <a:lnTo>
                      <a:pt x="166" y="477"/>
                    </a:lnTo>
                    <a:lnTo>
                      <a:pt x="175" y="478"/>
                    </a:lnTo>
                    <a:lnTo>
                      <a:pt x="184" y="478"/>
                    </a:lnTo>
                    <a:lnTo>
                      <a:pt x="193" y="477"/>
                    </a:lnTo>
                    <a:lnTo>
                      <a:pt x="202" y="476"/>
                    </a:lnTo>
                    <a:lnTo>
                      <a:pt x="212" y="473"/>
                    </a:lnTo>
                    <a:lnTo>
                      <a:pt x="221" y="470"/>
                    </a:lnTo>
                    <a:lnTo>
                      <a:pt x="232" y="465"/>
                    </a:lnTo>
                    <a:lnTo>
                      <a:pt x="241" y="460"/>
                    </a:lnTo>
                    <a:lnTo>
                      <a:pt x="251" y="454"/>
                    </a:lnTo>
                    <a:lnTo>
                      <a:pt x="260" y="447"/>
                    </a:lnTo>
                    <a:lnTo>
                      <a:pt x="270" y="439"/>
                    </a:lnTo>
                    <a:lnTo>
                      <a:pt x="280" y="431"/>
                    </a:lnTo>
                    <a:lnTo>
                      <a:pt x="290" y="421"/>
                    </a:lnTo>
                    <a:lnTo>
                      <a:pt x="300" y="411"/>
                    </a:lnTo>
                    <a:lnTo>
                      <a:pt x="309" y="399"/>
                    </a:lnTo>
                    <a:lnTo>
                      <a:pt x="309" y="399"/>
                    </a:lnTo>
                    <a:lnTo>
                      <a:pt x="291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5840" y="4305600"/>
                <a:ext cx="54000" cy="103320"/>
              </a:xfrm>
              <a:custGeom>
                <a:avLst/>
                <a:gdLst/>
                <a:ahLst/>
                <a:rect l="l" t="t" r="r" b="b"/>
                <a:pathLst>
                  <a:path w="169" h="324">
                    <a:moveTo>
                      <a:pt x="145" y="312"/>
                    </a:moveTo>
                    <a:lnTo>
                      <a:pt x="156" y="300"/>
                    </a:lnTo>
                    <a:lnTo>
                      <a:pt x="142" y="299"/>
                    </a:lnTo>
                    <a:lnTo>
                      <a:pt x="129" y="299"/>
                    </a:lnTo>
                    <a:lnTo>
                      <a:pt x="117" y="297"/>
                    </a:lnTo>
                    <a:lnTo>
                      <a:pt x="106" y="295"/>
                    </a:lnTo>
                    <a:lnTo>
                      <a:pt x="96" y="293"/>
                    </a:lnTo>
                    <a:lnTo>
                      <a:pt x="87" y="289"/>
                    </a:lnTo>
                    <a:lnTo>
                      <a:pt x="79" y="286"/>
                    </a:lnTo>
                    <a:lnTo>
                      <a:pt x="71" y="282"/>
                    </a:lnTo>
                    <a:lnTo>
                      <a:pt x="64" y="278"/>
                    </a:lnTo>
                    <a:lnTo>
                      <a:pt x="58" y="273"/>
                    </a:lnTo>
                    <a:lnTo>
                      <a:pt x="54" y="267"/>
                    </a:lnTo>
                    <a:lnTo>
                      <a:pt x="48" y="263"/>
                    </a:lnTo>
                    <a:lnTo>
                      <a:pt x="44" y="257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5" y="239"/>
                    </a:lnTo>
                    <a:lnTo>
                      <a:pt x="31" y="224"/>
                    </a:lnTo>
                    <a:lnTo>
                      <a:pt x="30" y="209"/>
                    </a:lnTo>
                    <a:lnTo>
                      <a:pt x="28" y="193"/>
                    </a:lnTo>
                    <a:lnTo>
                      <a:pt x="30" y="176"/>
                    </a:lnTo>
                    <a:lnTo>
                      <a:pt x="32" y="160"/>
                    </a:lnTo>
                    <a:lnTo>
                      <a:pt x="35" y="143"/>
                    </a:lnTo>
                    <a:lnTo>
                      <a:pt x="40" y="126"/>
                    </a:lnTo>
                    <a:lnTo>
                      <a:pt x="44" y="110"/>
                    </a:lnTo>
                    <a:lnTo>
                      <a:pt x="65" y="52"/>
                    </a:lnTo>
                    <a:lnTo>
                      <a:pt x="79" y="19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8" y="0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12"/>
                    </a:lnTo>
                    <a:lnTo>
                      <a:pt x="30" y="34"/>
                    </a:lnTo>
                    <a:lnTo>
                      <a:pt x="0" y="70"/>
                    </a:lnTo>
                    <a:lnTo>
                      <a:pt x="18" y="86"/>
                    </a:lnTo>
                    <a:lnTo>
                      <a:pt x="48" y="50"/>
                    </a:lnTo>
                    <a:lnTo>
                      <a:pt x="66" y="28"/>
                    </a:lnTo>
                    <a:lnTo>
                      <a:pt x="71" y="23"/>
                    </a:lnTo>
                    <a:lnTo>
                      <a:pt x="73" y="22"/>
                    </a:lnTo>
                    <a:lnTo>
                      <a:pt x="65" y="23"/>
                    </a:lnTo>
                    <a:lnTo>
                      <a:pt x="56" y="17"/>
                    </a:lnTo>
                    <a:lnTo>
                      <a:pt x="55" y="12"/>
                    </a:lnTo>
                    <a:lnTo>
                      <a:pt x="56" y="11"/>
                    </a:lnTo>
                    <a:lnTo>
                      <a:pt x="43" y="44"/>
                    </a:lnTo>
                    <a:lnTo>
                      <a:pt x="22" y="102"/>
                    </a:lnTo>
                    <a:lnTo>
                      <a:pt x="16" y="120"/>
                    </a:lnTo>
                    <a:lnTo>
                      <a:pt x="11" y="137"/>
                    </a:lnTo>
                    <a:lnTo>
                      <a:pt x="8" y="156"/>
                    </a:lnTo>
                    <a:lnTo>
                      <a:pt x="6" y="174"/>
                    </a:lnTo>
                    <a:lnTo>
                      <a:pt x="5" y="193"/>
                    </a:lnTo>
                    <a:lnTo>
                      <a:pt x="5" y="212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5"/>
                    </a:lnTo>
                    <a:lnTo>
                      <a:pt x="19" y="263"/>
                    </a:lnTo>
                    <a:lnTo>
                      <a:pt x="24" y="271"/>
                    </a:lnTo>
                    <a:lnTo>
                      <a:pt x="30" y="278"/>
                    </a:lnTo>
                    <a:lnTo>
                      <a:pt x="35" y="285"/>
                    </a:lnTo>
                    <a:lnTo>
                      <a:pt x="42" y="291"/>
                    </a:lnTo>
                    <a:lnTo>
                      <a:pt x="50" y="297"/>
                    </a:lnTo>
                    <a:lnTo>
                      <a:pt x="59" y="303"/>
                    </a:lnTo>
                    <a:lnTo>
                      <a:pt x="68" y="307"/>
                    </a:lnTo>
                    <a:lnTo>
                      <a:pt x="79" y="312"/>
                    </a:lnTo>
                    <a:lnTo>
                      <a:pt x="89" y="315"/>
                    </a:lnTo>
                    <a:lnTo>
                      <a:pt x="101" y="319"/>
                    </a:lnTo>
                    <a:lnTo>
                      <a:pt x="114" y="321"/>
                    </a:lnTo>
                    <a:lnTo>
                      <a:pt x="126" y="323"/>
                    </a:lnTo>
                    <a:lnTo>
                      <a:pt x="141" y="324"/>
                    </a:lnTo>
                    <a:lnTo>
                      <a:pt x="156" y="324"/>
                    </a:lnTo>
                    <a:lnTo>
                      <a:pt x="169" y="312"/>
                    </a:lnTo>
                    <a:lnTo>
                      <a:pt x="156" y="324"/>
                    </a:lnTo>
                    <a:lnTo>
                      <a:pt x="162" y="323"/>
                    </a:lnTo>
                    <a:lnTo>
                      <a:pt x="165" y="321"/>
                    </a:lnTo>
                    <a:lnTo>
                      <a:pt x="168" y="316"/>
                    </a:lnTo>
                    <a:lnTo>
                      <a:pt x="169" y="312"/>
                    </a:lnTo>
                    <a:lnTo>
                      <a:pt x="168" y="307"/>
                    </a:lnTo>
                    <a:lnTo>
                      <a:pt x="165" y="304"/>
                    </a:lnTo>
                    <a:lnTo>
                      <a:pt x="162" y="302"/>
                    </a:lnTo>
                    <a:lnTo>
                      <a:pt x="156" y="300"/>
                    </a:lnTo>
                    <a:lnTo>
                      <a:pt x="145" y="3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619600" y="4285080"/>
                <a:ext cx="30240" cy="118800"/>
              </a:xfrm>
              <a:custGeom>
                <a:avLst/>
                <a:gdLst/>
                <a:ahLst/>
                <a:rect l="l" t="t" r="r" b="b"/>
                <a:pathLst>
                  <a:path w="97" h="377">
                    <a:moveTo>
                      <a:pt x="16" y="1"/>
                    </a:moveTo>
                    <a:lnTo>
                      <a:pt x="2" y="19"/>
                    </a:lnTo>
                    <a:lnTo>
                      <a:pt x="15" y="37"/>
                    </a:lnTo>
                    <a:lnTo>
                      <a:pt x="25" y="57"/>
                    </a:lnTo>
                    <a:lnTo>
                      <a:pt x="34" y="76"/>
                    </a:lnTo>
                    <a:lnTo>
                      <a:pt x="42" y="96"/>
                    </a:lnTo>
                    <a:lnTo>
                      <a:pt x="49" y="118"/>
                    </a:lnTo>
                    <a:lnTo>
                      <a:pt x="54" y="140"/>
                    </a:lnTo>
                    <a:lnTo>
                      <a:pt x="59" y="161"/>
                    </a:lnTo>
                    <a:lnTo>
                      <a:pt x="64" y="184"/>
                    </a:lnTo>
                    <a:lnTo>
                      <a:pt x="66" y="208"/>
                    </a:lnTo>
                    <a:lnTo>
                      <a:pt x="68" y="231"/>
                    </a:lnTo>
                    <a:lnTo>
                      <a:pt x="70" y="255"/>
                    </a:lnTo>
                    <a:lnTo>
                      <a:pt x="72" y="279"/>
                    </a:lnTo>
                    <a:lnTo>
                      <a:pt x="73" y="328"/>
                    </a:lnTo>
                    <a:lnTo>
                      <a:pt x="73" y="377"/>
                    </a:lnTo>
                    <a:lnTo>
                      <a:pt x="97" y="377"/>
                    </a:lnTo>
                    <a:lnTo>
                      <a:pt x="97" y="328"/>
                    </a:lnTo>
                    <a:lnTo>
                      <a:pt x="96" y="279"/>
                    </a:lnTo>
                    <a:lnTo>
                      <a:pt x="94" y="254"/>
                    </a:lnTo>
                    <a:lnTo>
                      <a:pt x="93" y="229"/>
                    </a:lnTo>
                    <a:lnTo>
                      <a:pt x="90" y="205"/>
                    </a:lnTo>
                    <a:lnTo>
                      <a:pt x="88" y="181"/>
                    </a:lnTo>
                    <a:lnTo>
                      <a:pt x="83" y="157"/>
                    </a:lnTo>
                    <a:lnTo>
                      <a:pt x="78" y="134"/>
                    </a:lnTo>
                    <a:lnTo>
                      <a:pt x="73" y="111"/>
                    </a:lnTo>
                    <a:lnTo>
                      <a:pt x="65" y="88"/>
                    </a:lnTo>
                    <a:lnTo>
                      <a:pt x="57" y="67"/>
                    </a:lnTo>
                    <a:lnTo>
                      <a:pt x="47" y="45"/>
                    </a:lnTo>
                    <a:lnTo>
                      <a:pt x="35" y="25"/>
                    </a:lnTo>
                    <a:lnTo>
                      <a:pt x="21" y="4"/>
                    </a:lnTo>
                    <a:lnTo>
                      <a:pt x="8" y="23"/>
                    </a:lnTo>
                    <a:lnTo>
                      <a:pt x="21" y="4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9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4335480" y="3954600"/>
                <a:ext cx="272880" cy="271440"/>
              </a:xfrm>
              <a:custGeom>
                <a:avLst/>
                <a:gdLst/>
                <a:ahLst/>
                <a:rect l="l" t="t" r="r" b="b"/>
                <a:pathLst>
                  <a:path w="860" h="853">
                    <a:moveTo>
                      <a:pt x="360" y="487"/>
                    </a:moveTo>
                    <a:lnTo>
                      <a:pt x="388" y="499"/>
                    </a:lnTo>
                    <a:lnTo>
                      <a:pt x="415" y="513"/>
                    </a:lnTo>
                    <a:lnTo>
                      <a:pt x="441" y="529"/>
                    </a:lnTo>
                    <a:lnTo>
                      <a:pt x="468" y="546"/>
                    </a:lnTo>
                    <a:lnTo>
                      <a:pt x="520" y="581"/>
                    </a:lnTo>
                    <a:lnTo>
                      <a:pt x="572" y="619"/>
                    </a:lnTo>
                    <a:lnTo>
                      <a:pt x="600" y="636"/>
                    </a:lnTo>
                    <a:lnTo>
                      <a:pt x="627" y="652"/>
                    </a:lnTo>
                    <a:lnTo>
                      <a:pt x="656" y="668"/>
                    </a:lnTo>
                    <a:lnTo>
                      <a:pt x="685" y="680"/>
                    </a:lnTo>
                    <a:lnTo>
                      <a:pt x="700" y="686"/>
                    </a:lnTo>
                    <a:lnTo>
                      <a:pt x="716" y="692"/>
                    </a:lnTo>
                    <a:lnTo>
                      <a:pt x="732" y="696"/>
                    </a:lnTo>
                    <a:lnTo>
                      <a:pt x="747" y="700"/>
                    </a:lnTo>
                    <a:lnTo>
                      <a:pt x="764" y="703"/>
                    </a:lnTo>
                    <a:lnTo>
                      <a:pt x="780" y="706"/>
                    </a:lnTo>
                    <a:lnTo>
                      <a:pt x="797" y="707"/>
                    </a:lnTo>
                    <a:lnTo>
                      <a:pt x="814" y="707"/>
                    </a:lnTo>
                    <a:lnTo>
                      <a:pt x="814" y="693"/>
                    </a:lnTo>
                    <a:lnTo>
                      <a:pt x="813" y="678"/>
                    </a:lnTo>
                    <a:lnTo>
                      <a:pt x="811" y="663"/>
                    </a:lnTo>
                    <a:lnTo>
                      <a:pt x="807" y="649"/>
                    </a:lnTo>
                    <a:lnTo>
                      <a:pt x="803" y="633"/>
                    </a:lnTo>
                    <a:lnTo>
                      <a:pt x="797" y="617"/>
                    </a:lnTo>
                    <a:lnTo>
                      <a:pt x="791" y="601"/>
                    </a:lnTo>
                    <a:lnTo>
                      <a:pt x="784" y="585"/>
                    </a:lnTo>
                    <a:lnTo>
                      <a:pt x="778" y="569"/>
                    </a:lnTo>
                    <a:lnTo>
                      <a:pt x="770" y="553"/>
                    </a:lnTo>
                    <a:lnTo>
                      <a:pt x="761" y="537"/>
                    </a:lnTo>
                    <a:lnTo>
                      <a:pt x="750" y="521"/>
                    </a:lnTo>
                    <a:lnTo>
                      <a:pt x="741" y="505"/>
                    </a:lnTo>
                    <a:lnTo>
                      <a:pt x="730" y="489"/>
                    </a:lnTo>
                    <a:lnTo>
                      <a:pt x="718" y="474"/>
                    </a:lnTo>
                    <a:lnTo>
                      <a:pt x="707" y="459"/>
                    </a:lnTo>
                    <a:lnTo>
                      <a:pt x="694" y="446"/>
                    </a:lnTo>
                    <a:lnTo>
                      <a:pt x="682" y="431"/>
                    </a:lnTo>
                    <a:lnTo>
                      <a:pt x="669" y="418"/>
                    </a:lnTo>
                    <a:lnTo>
                      <a:pt x="656" y="406"/>
                    </a:lnTo>
                    <a:lnTo>
                      <a:pt x="642" y="393"/>
                    </a:lnTo>
                    <a:lnTo>
                      <a:pt x="628" y="382"/>
                    </a:lnTo>
                    <a:lnTo>
                      <a:pt x="613" y="372"/>
                    </a:lnTo>
                    <a:lnTo>
                      <a:pt x="599" y="361"/>
                    </a:lnTo>
                    <a:lnTo>
                      <a:pt x="584" y="353"/>
                    </a:lnTo>
                    <a:lnTo>
                      <a:pt x="569" y="345"/>
                    </a:lnTo>
                    <a:lnTo>
                      <a:pt x="554" y="338"/>
                    </a:lnTo>
                    <a:lnTo>
                      <a:pt x="539" y="333"/>
                    </a:lnTo>
                    <a:lnTo>
                      <a:pt x="525" y="328"/>
                    </a:lnTo>
                    <a:lnTo>
                      <a:pt x="509" y="325"/>
                    </a:lnTo>
                    <a:lnTo>
                      <a:pt x="494" y="324"/>
                    </a:lnTo>
                    <a:lnTo>
                      <a:pt x="479" y="322"/>
                    </a:lnTo>
                    <a:lnTo>
                      <a:pt x="497" y="322"/>
                    </a:lnTo>
                    <a:lnTo>
                      <a:pt x="515" y="320"/>
                    </a:lnTo>
                    <a:lnTo>
                      <a:pt x="534" y="318"/>
                    </a:lnTo>
                    <a:lnTo>
                      <a:pt x="551" y="316"/>
                    </a:lnTo>
                    <a:lnTo>
                      <a:pt x="567" y="311"/>
                    </a:lnTo>
                    <a:lnTo>
                      <a:pt x="584" y="307"/>
                    </a:lnTo>
                    <a:lnTo>
                      <a:pt x="599" y="301"/>
                    </a:lnTo>
                    <a:lnTo>
                      <a:pt x="615" y="295"/>
                    </a:lnTo>
                    <a:lnTo>
                      <a:pt x="628" y="288"/>
                    </a:lnTo>
                    <a:lnTo>
                      <a:pt x="643" y="280"/>
                    </a:lnTo>
                    <a:lnTo>
                      <a:pt x="657" y="272"/>
                    </a:lnTo>
                    <a:lnTo>
                      <a:pt x="669" y="263"/>
                    </a:lnTo>
                    <a:lnTo>
                      <a:pt x="683" y="253"/>
                    </a:lnTo>
                    <a:lnTo>
                      <a:pt x="694" y="244"/>
                    </a:lnTo>
                    <a:lnTo>
                      <a:pt x="707" y="232"/>
                    </a:lnTo>
                    <a:lnTo>
                      <a:pt x="718" y="222"/>
                    </a:lnTo>
                    <a:lnTo>
                      <a:pt x="740" y="198"/>
                    </a:lnTo>
                    <a:lnTo>
                      <a:pt x="761" y="173"/>
                    </a:lnTo>
                    <a:lnTo>
                      <a:pt x="780" y="146"/>
                    </a:lnTo>
                    <a:lnTo>
                      <a:pt x="798" y="118"/>
                    </a:lnTo>
                    <a:lnTo>
                      <a:pt x="815" y="90"/>
                    </a:lnTo>
                    <a:lnTo>
                      <a:pt x="831" y="60"/>
                    </a:lnTo>
                    <a:lnTo>
                      <a:pt x="846" y="31"/>
                    </a:lnTo>
                    <a:lnTo>
                      <a:pt x="860" y="0"/>
                    </a:lnTo>
                    <a:lnTo>
                      <a:pt x="829" y="1"/>
                    </a:lnTo>
                    <a:lnTo>
                      <a:pt x="800" y="1"/>
                    </a:lnTo>
                    <a:lnTo>
                      <a:pt x="773" y="2"/>
                    </a:lnTo>
                    <a:lnTo>
                      <a:pt x="748" y="4"/>
                    </a:lnTo>
                    <a:lnTo>
                      <a:pt x="725" y="7"/>
                    </a:lnTo>
                    <a:lnTo>
                      <a:pt x="704" y="10"/>
                    </a:lnTo>
                    <a:lnTo>
                      <a:pt x="683" y="14"/>
                    </a:lnTo>
                    <a:lnTo>
                      <a:pt x="664" y="17"/>
                    </a:lnTo>
                    <a:lnTo>
                      <a:pt x="647" y="23"/>
                    </a:lnTo>
                    <a:lnTo>
                      <a:pt x="629" y="27"/>
                    </a:lnTo>
                    <a:lnTo>
                      <a:pt x="615" y="33"/>
                    </a:lnTo>
                    <a:lnTo>
                      <a:pt x="600" y="40"/>
                    </a:lnTo>
                    <a:lnTo>
                      <a:pt x="587" y="47"/>
                    </a:lnTo>
                    <a:lnTo>
                      <a:pt x="575" y="55"/>
                    </a:lnTo>
                    <a:lnTo>
                      <a:pt x="563" y="63"/>
                    </a:lnTo>
                    <a:lnTo>
                      <a:pt x="553" y="72"/>
                    </a:lnTo>
                    <a:lnTo>
                      <a:pt x="543" y="82"/>
                    </a:lnTo>
                    <a:lnTo>
                      <a:pt x="534" y="92"/>
                    </a:lnTo>
                    <a:lnTo>
                      <a:pt x="525" y="102"/>
                    </a:lnTo>
                    <a:lnTo>
                      <a:pt x="517" y="114"/>
                    </a:lnTo>
                    <a:lnTo>
                      <a:pt x="501" y="140"/>
                    </a:lnTo>
                    <a:lnTo>
                      <a:pt x="486" y="167"/>
                    </a:lnTo>
                    <a:lnTo>
                      <a:pt x="456" y="232"/>
                    </a:lnTo>
                    <a:lnTo>
                      <a:pt x="421" y="309"/>
                    </a:lnTo>
                    <a:lnTo>
                      <a:pt x="411" y="307"/>
                    </a:lnTo>
                    <a:lnTo>
                      <a:pt x="395" y="302"/>
                    </a:lnTo>
                    <a:lnTo>
                      <a:pt x="375" y="294"/>
                    </a:lnTo>
                    <a:lnTo>
                      <a:pt x="351" y="285"/>
                    </a:lnTo>
                    <a:lnTo>
                      <a:pt x="297" y="262"/>
                    </a:lnTo>
                    <a:lnTo>
                      <a:pt x="235" y="238"/>
                    </a:lnTo>
                    <a:lnTo>
                      <a:pt x="204" y="228"/>
                    </a:lnTo>
                    <a:lnTo>
                      <a:pt x="174" y="219"/>
                    </a:lnTo>
                    <a:lnTo>
                      <a:pt x="159" y="215"/>
                    </a:lnTo>
                    <a:lnTo>
                      <a:pt x="144" y="212"/>
                    </a:lnTo>
                    <a:lnTo>
                      <a:pt x="130" y="210"/>
                    </a:lnTo>
                    <a:lnTo>
                      <a:pt x="117" y="208"/>
                    </a:lnTo>
                    <a:lnTo>
                      <a:pt x="104" y="207"/>
                    </a:lnTo>
                    <a:lnTo>
                      <a:pt x="92" y="208"/>
                    </a:lnTo>
                    <a:lnTo>
                      <a:pt x="80" y="210"/>
                    </a:lnTo>
                    <a:lnTo>
                      <a:pt x="70" y="212"/>
                    </a:lnTo>
                    <a:lnTo>
                      <a:pt x="61" y="215"/>
                    </a:lnTo>
                    <a:lnTo>
                      <a:pt x="52" y="220"/>
                    </a:lnTo>
                    <a:lnTo>
                      <a:pt x="45" y="227"/>
                    </a:lnTo>
                    <a:lnTo>
                      <a:pt x="39" y="234"/>
                    </a:lnTo>
                    <a:lnTo>
                      <a:pt x="29" y="253"/>
                    </a:lnTo>
                    <a:lnTo>
                      <a:pt x="20" y="272"/>
                    </a:lnTo>
                    <a:lnTo>
                      <a:pt x="13" y="294"/>
                    </a:lnTo>
                    <a:lnTo>
                      <a:pt x="7" y="316"/>
                    </a:lnTo>
                    <a:lnTo>
                      <a:pt x="4" y="338"/>
                    </a:lnTo>
                    <a:lnTo>
                      <a:pt x="1" y="362"/>
                    </a:lnTo>
                    <a:lnTo>
                      <a:pt x="0" y="386"/>
                    </a:lnTo>
                    <a:lnTo>
                      <a:pt x="0" y="410"/>
                    </a:lnTo>
                    <a:lnTo>
                      <a:pt x="1" y="434"/>
                    </a:lnTo>
                    <a:lnTo>
                      <a:pt x="4" y="458"/>
                    </a:lnTo>
                    <a:lnTo>
                      <a:pt x="8" y="482"/>
                    </a:lnTo>
                    <a:lnTo>
                      <a:pt x="13" y="506"/>
                    </a:lnTo>
                    <a:lnTo>
                      <a:pt x="19" y="529"/>
                    </a:lnTo>
                    <a:lnTo>
                      <a:pt x="25" y="550"/>
                    </a:lnTo>
                    <a:lnTo>
                      <a:pt x="35" y="572"/>
                    </a:lnTo>
                    <a:lnTo>
                      <a:pt x="44" y="592"/>
                    </a:lnTo>
                    <a:lnTo>
                      <a:pt x="54" y="611"/>
                    </a:lnTo>
                    <a:lnTo>
                      <a:pt x="64" y="628"/>
                    </a:lnTo>
                    <a:lnTo>
                      <a:pt x="77" y="644"/>
                    </a:lnTo>
                    <a:lnTo>
                      <a:pt x="89" y="658"/>
                    </a:lnTo>
                    <a:lnTo>
                      <a:pt x="102" y="669"/>
                    </a:lnTo>
                    <a:lnTo>
                      <a:pt x="117" y="678"/>
                    </a:lnTo>
                    <a:lnTo>
                      <a:pt x="131" y="686"/>
                    </a:lnTo>
                    <a:lnTo>
                      <a:pt x="146" y="691"/>
                    </a:lnTo>
                    <a:lnTo>
                      <a:pt x="162" y="693"/>
                    </a:lnTo>
                    <a:lnTo>
                      <a:pt x="179" y="692"/>
                    </a:lnTo>
                    <a:lnTo>
                      <a:pt x="196" y="688"/>
                    </a:lnTo>
                    <a:lnTo>
                      <a:pt x="213" y="682"/>
                    </a:lnTo>
                    <a:lnTo>
                      <a:pt x="232" y="671"/>
                    </a:lnTo>
                    <a:lnTo>
                      <a:pt x="250" y="658"/>
                    </a:lnTo>
                    <a:lnTo>
                      <a:pt x="269" y="641"/>
                    </a:lnTo>
                    <a:lnTo>
                      <a:pt x="288" y="619"/>
                    </a:lnTo>
                    <a:lnTo>
                      <a:pt x="317" y="582"/>
                    </a:lnTo>
                    <a:lnTo>
                      <a:pt x="335" y="561"/>
                    </a:lnTo>
                    <a:lnTo>
                      <a:pt x="341" y="555"/>
                    </a:lnTo>
                    <a:lnTo>
                      <a:pt x="345" y="552"/>
                    </a:lnTo>
                    <a:lnTo>
                      <a:pt x="346" y="553"/>
                    </a:lnTo>
                    <a:lnTo>
                      <a:pt x="346" y="555"/>
                    </a:lnTo>
                    <a:lnTo>
                      <a:pt x="333" y="588"/>
                    </a:lnTo>
                    <a:lnTo>
                      <a:pt x="311" y="646"/>
                    </a:lnTo>
                    <a:lnTo>
                      <a:pt x="307" y="663"/>
                    </a:lnTo>
                    <a:lnTo>
                      <a:pt x="302" y="680"/>
                    </a:lnTo>
                    <a:lnTo>
                      <a:pt x="299" y="699"/>
                    </a:lnTo>
                    <a:lnTo>
                      <a:pt x="297" y="716"/>
                    </a:lnTo>
                    <a:lnTo>
                      <a:pt x="296" y="733"/>
                    </a:lnTo>
                    <a:lnTo>
                      <a:pt x="296" y="750"/>
                    </a:lnTo>
                    <a:lnTo>
                      <a:pt x="298" y="767"/>
                    </a:lnTo>
                    <a:lnTo>
                      <a:pt x="302" y="783"/>
                    </a:lnTo>
                    <a:lnTo>
                      <a:pt x="309" y="797"/>
                    </a:lnTo>
                    <a:lnTo>
                      <a:pt x="318" y="810"/>
                    </a:lnTo>
                    <a:lnTo>
                      <a:pt x="330" y="823"/>
                    </a:lnTo>
                    <a:lnTo>
                      <a:pt x="343" y="833"/>
                    </a:lnTo>
                    <a:lnTo>
                      <a:pt x="362" y="841"/>
                    </a:lnTo>
                    <a:lnTo>
                      <a:pt x="382" y="847"/>
                    </a:lnTo>
                    <a:lnTo>
                      <a:pt x="407" y="851"/>
                    </a:lnTo>
                    <a:lnTo>
                      <a:pt x="436" y="853"/>
                    </a:lnTo>
                    <a:lnTo>
                      <a:pt x="436" y="804"/>
                    </a:lnTo>
                    <a:lnTo>
                      <a:pt x="435" y="753"/>
                    </a:lnTo>
                    <a:lnTo>
                      <a:pt x="433" y="729"/>
                    </a:lnTo>
                    <a:lnTo>
                      <a:pt x="431" y="706"/>
                    </a:lnTo>
                    <a:lnTo>
                      <a:pt x="429" y="682"/>
                    </a:lnTo>
                    <a:lnTo>
                      <a:pt x="425" y="658"/>
                    </a:lnTo>
                    <a:lnTo>
                      <a:pt x="422" y="635"/>
                    </a:lnTo>
                    <a:lnTo>
                      <a:pt x="417" y="612"/>
                    </a:lnTo>
                    <a:lnTo>
                      <a:pt x="411" y="589"/>
                    </a:lnTo>
                    <a:lnTo>
                      <a:pt x="404" y="568"/>
                    </a:lnTo>
                    <a:lnTo>
                      <a:pt x="396" y="547"/>
                    </a:lnTo>
                    <a:lnTo>
                      <a:pt x="386" y="527"/>
                    </a:lnTo>
                    <a:lnTo>
                      <a:pt x="374" y="506"/>
                    </a:lnTo>
                    <a:lnTo>
                      <a:pt x="360" y="487"/>
                    </a:lnTo>
                    <a:close/>
                  </a:path>
                </a:pathLst>
              </a:custGeom>
              <a:solidFill>
                <a:srgbClr val="718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4448160" y="4105440"/>
                <a:ext cx="149400" cy="77760"/>
              </a:xfrm>
              <a:custGeom>
                <a:avLst/>
                <a:gdLst/>
                <a:ahLst/>
                <a:rect l="l" t="t" r="r" b="b"/>
                <a:pathLst>
                  <a:path w="471" h="244">
                    <a:moveTo>
                      <a:pt x="447" y="232"/>
                    </a:moveTo>
                    <a:lnTo>
                      <a:pt x="458" y="220"/>
                    </a:lnTo>
                    <a:lnTo>
                      <a:pt x="442" y="219"/>
                    </a:lnTo>
                    <a:lnTo>
                      <a:pt x="425" y="218"/>
                    </a:lnTo>
                    <a:lnTo>
                      <a:pt x="409" y="216"/>
                    </a:lnTo>
                    <a:lnTo>
                      <a:pt x="394" y="213"/>
                    </a:lnTo>
                    <a:lnTo>
                      <a:pt x="378" y="209"/>
                    </a:lnTo>
                    <a:lnTo>
                      <a:pt x="363" y="205"/>
                    </a:lnTo>
                    <a:lnTo>
                      <a:pt x="349" y="200"/>
                    </a:lnTo>
                    <a:lnTo>
                      <a:pt x="334" y="194"/>
                    </a:lnTo>
                    <a:lnTo>
                      <a:pt x="305" y="182"/>
                    </a:lnTo>
                    <a:lnTo>
                      <a:pt x="278" y="167"/>
                    </a:lnTo>
                    <a:lnTo>
                      <a:pt x="251" y="151"/>
                    </a:lnTo>
                    <a:lnTo>
                      <a:pt x="223" y="134"/>
                    </a:lnTo>
                    <a:lnTo>
                      <a:pt x="171" y="97"/>
                    </a:lnTo>
                    <a:lnTo>
                      <a:pt x="118" y="61"/>
                    </a:lnTo>
                    <a:lnTo>
                      <a:pt x="92" y="44"/>
                    </a:lnTo>
                    <a:lnTo>
                      <a:pt x="65" y="28"/>
                    </a:lnTo>
                    <a:lnTo>
                      <a:pt x="38" y="13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27" y="34"/>
                    </a:lnTo>
                    <a:lnTo>
                      <a:pt x="53" y="48"/>
                    </a:lnTo>
                    <a:lnTo>
                      <a:pt x="79" y="64"/>
                    </a:lnTo>
                    <a:lnTo>
                      <a:pt x="105" y="80"/>
                    </a:lnTo>
                    <a:lnTo>
                      <a:pt x="157" y="117"/>
                    </a:lnTo>
                    <a:lnTo>
                      <a:pt x="210" y="153"/>
                    </a:lnTo>
                    <a:lnTo>
                      <a:pt x="237" y="171"/>
                    </a:lnTo>
                    <a:lnTo>
                      <a:pt x="265" y="188"/>
                    </a:lnTo>
                    <a:lnTo>
                      <a:pt x="295" y="203"/>
                    </a:lnTo>
                    <a:lnTo>
                      <a:pt x="325" y="217"/>
                    </a:lnTo>
                    <a:lnTo>
                      <a:pt x="341" y="223"/>
                    </a:lnTo>
                    <a:lnTo>
                      <a:pt x="357" y="228"/>
                    </a:lnTo>
                    <a:lnTo>
                      <a:pt x="373" y="233"/>
                    </a:lnTo>
                    <a:lnTo>
                      <a:pt x="389" y="236"/>
                    </a:lnTo>
                    <a:lnTo>
                      <a:pt x="406" y="240"/>
                    </a:lnTo>
                    <a:lnTo>
                      <a:pt x="423" y="242"/>
                    </a:lnTo>
                    <a:lnTo>
                      <a:pt x="441" y="243"/>
                    </a:lnTo>
                    <a:lnTo>
                      <a:pt x="458" y="244"/>
                    </a:lnTo>
                    <a:lnTo>
                      <a:pt x="471" y="232"/>
                    </a:lnTo>
                    <a:lnTo>
                      <a:pt x="458" y="244"/>
                    </a:lnTo>
                    <a:lnTo>
                      <a:pt x="464" y="243"/>
                    </a:lnTo>
                    <a:lnTo>
                      <a:pt x="467" y="241"/>
                    </a:lnTo>
                    <a:lnTo>
                      <a:pt x="469" y="236"/>
                    </a:lnTo>
                    <a:lnTo>
                      <a:pt x="471" y="232"/>
                    </a:lnTo>
                    <a:lnTo>
                      <a:pt x="469" y="227"/>
                    </a:lnTo>
                    <a:lnTo>
                      <a:pt x="467" y="224"/>
                    </a:lnTo>
                    <a:lnTo>
                      <a:pt x="464" y="221"/>
                    </a:lnTo>
                    <a:lnTo>
                      <a:pt x="458" y="220"/>
                    </a:lnTo>
                    <a:lnTo>
                      <a:pt x="447" y="2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483080" y="4053240"/>
                <a:ext cx="114480" cy="125280"/>
              </a:xfrm>
              <a:custGeom>
                <a:avLst/>
                <a:gdLst/>
                <a:ahLst/>
                <a:rect l="l" t="t" r="r" b="b"/>
                <a:pathLst>
                  <a:path w="361" h="397">
                    <a:moveTo>
                      <a:pt x="13" y="0"/>
                    </a:moveTo>
                    <a:lnTo>
                      <a:pt x="13" y="25"/>
                    </a:lnTo>
                    <a:lnTo>
                      <a:pt x="27" y="25"/>
                    </a:lnTo>
                    <a:lnTo>
                      <a:pt x="40" y="27"/>
                    </a:lnTo>
                    <a:lnTo>
                      <a:pt x="55" y="30"/>
                    </a:lnTo>
                    <a:lnTo>
                      <a:pt x="70" y="34"/>
                    </a:lnTo>
                    <a:lnTo>
                      <a:pt x="84" y="40"/>
                    </a:lnTo>
                    <a:lnTo>
                      <a:pt x="98" y="47"/>
                    </a:lnTo>
                    <a:lnTo>
                      <a:pt x="112" y="54"/>
                    </a:lnTo>
                    <a:lnTo>
                      <a:pt x="127" y="62"/>
                    </a:lnTo>
                    <a:lnTo>
                      <a:pt x="141" y="72"/>
                    </a:lnTo>
                    <a:lnTo>
                      <a:pt x="154" y="82"/>
                    </a:lnTo>
                    <a:lnTo>
                      <a:pt x="168" y="92"/>
                    </a:lnTo>
                    <a:lnTo>
                      <a:pt x="182" y="104"/>
                    </a:lnTo>
                    <a:lnTo>
                      <a:pt x="194" y="116"/>
                    </a:lnTo>
                    <a:lnTo>
                      <a:pt x="208" y="130"/>
                    </a:lnTo>
                    <a:lnTo>
                      <a:pt x="219" y="144"/>
                    </a:lnTo>
                    <a:lnTo>
                      <a:pt x="232" y="157"/>
                    </a:lnTo>
                    <a:lnTo>
                      <a:pt x="243" y="172"/>
                    </a:lnTo>
                    <a:lnTo>
                      <a:pt x="255" y="187"/>
                    </a:lnTo>
                    <a:lnTo>
                      <a:pt x="265" y="202"/>
                    </a:lnTo>
                    <a:lnTo>
                      <a:pt x="274" y="217"/>
                    </a:lnTo>
                    <a:lnTo>
                      <a:pt x="284" y="233"/>
                    </a:lnTo>
                    <a:lnTo>
                      <a:pt x="292" y="248"/>
                    </a:lnTo>
                    <a:lnTo>
                      <a:pt x="300" y="264"/>
                    </a:lnTo>
                    <a:lnTo>
                      <a:pt x="308" y="279"/>
                    </a:lnTo>
                    <a:lnTo>
                      <a:pt x="314" y="295"/>
                    </a:lnTo>
                    <a:lnTo>
                      <a:pt x="320" y="311"/>
                    </a:lnTo>
                    <a:lnTo>
                      <a:pt x="325" y="326"/>
                    </a:lnTo>
                    <a:lnTo>
                      <a:pt x="329" y="341"/>
                    </a:lnTo>
                    <a:lnTo>
                      <a:pt x="332" y="356"/>
                    </a:lnTo>
                    <a:lnTo>
                      <a:pt x="334" y="370"/>
                    </a:lnTo>
                    <a:lnTo>
                      <a:pt x="336" y="384"/>
                    </a:lnTo>
                    <a:lnTo>
                      <a:pt x="337" y="397"/>
                    </a:lnTo>
                    <a:lnTo>
                      <a:pt x="361" y="397"/>
                    </a:lnTo>
                    <a:lnTo>
                      <a:pt x="361" y="382"/>
                    </a:lnTo>
                    <a:lnTo>
                      <a:pt x="358" y="367"/>
                    </a:lnTo>
                    <a:lnTo>
                      <a:pt x="356" y="351"/>
                    </a:lnTo>
                    <a:lnTo>
                      <a:pt x="353" y="335"/>
                    </a:lnTo>
                    <a:lnTo>
                      <a:pt x="348" y="319"/>
                    </a:lnTo>
                    <a:lnTo>
                      <a:pt x="342" y="303"/>
                    </a:lnTo>
                    <a:lnTo>
                      <a:pt x="337" y="286"/>
                    </a:lnTo>
                    <a:lnTo>
                      <a:pt x="330" y="270"/>
                    </a:lnTo>
                    <a:lnTo>
                      <a:pt x="322" y="253"/>
                    </a:lnTo>
                    <a:lnTo>
                      <a:pt x="314" y="237"/>
                    </a:lnTo>
                    <a:lnTo>
                      <a:pt x="305" y="220"/>
                    </a:lnTo>
                    <a:lnTo>
                      <a:pt x="295" y="204"/>
                    </a:lnTo>
                    <a:lnTo>
                      <a:pt x="284" y="188"/>
                    </a:lnTo>
                    <a:lnTo>
                      <a:pt x="274" y="172"/>
                    </a:lnTo>
                    <a:lnTo>
                      <a:pt x="263" y="157"/>
                    </a:lnTo>
                    <a:lnTo>
                      <a:pt x="250" y="141"/>
                    </a:lnTo>
                    <a:lnTo>
                      <a:pt x="238" y="128"/>
                    </a:lnTo>
                    <a:lnTo>
                      <a:pt x="225" y="113"/>
                    </a:lnTo>
                    <a:lnTo>
                      <a:pt x="211" y="99"/>
                    </a:lnTo>
                    <a:lnTo>
                      <a:pt x="198" y="87"/>
                    </a:lnTo>
                    <a:lnTo>
                      <a:pt x="184" y="74"/>
                    </a:lnTo>
                    <a:lnTo>
                      <a:pt x="169" y="63"/>
                    </a:lnTo>
                    <a:lnTo>
                      <a:pt x="154" y="51"/>
                    </a:lnTo>
                    <a:lnTo>
                      <a:pt x="140" y="41"/>
                    </a:lnTo>
                    <a:lnTo>
                      <a:pt x="125" y="33"/>
                    </a:lnTo>
                    <a:lnTo>
                      <a:pt x="109" y="24"/>
                    </a:lnTo>
                    <a:lnTo>
                      <a:pt x="93" y="17"/>
                    </a:lnTo>
                    <a:lnTo>
                      <a:pt x="77" y="11"/>
                    </a:lnTo>
                    <a:lnTo>
                      <a:pt x="61" y="7"/>
                    </a:lnTo>
                    <a:lnTo>
                      <a:pt x="45" y="3"/>
                    </a:lnTo>
                    <a:lnTo>
                      <a:pt x="29" y="1"/>
                    </a:lnTo>
                    <a:lnTo>
                      <a:pt x="13" y="0"/>
                    </a:lnTo>
                    <a:lnTo>
                      <a:pt x="13" y="2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2" y="17"/>
                    </a:lnTo>
                    <a:lnTo>
                      <a:pt x="4" y="20"/>
                    </a:lnTo>
                    <a:lnTo>
                      <a:pt x="7" y="24"/>
                    </a:lnTo>
                    <a:lnTo>
                      <a:pt x="13" y="2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4487760" y="3951720"/>
                <a:ext cx="123840" cy="109440"/>
              </a:xfrm>
              <a:custGeom>
                <a:avLst/>
                <a:gdLst/>
                <a:ahLst/>
                <a:rect l="l" t="t" r="r" b="b"/>
                <a:pathLst>
                  <a:path w="393" h="347">
                    <a:moveTo>
                      <a:pt x="381" y="24"/>
                    </a:moveTo>
                    <a:lnTo>
                      <a:pt x="369" y="7"/>
                    </a:lnTo>
                    <a:lnTo>
                      <a:pt x="356" y="37"/>
                    </a:lnTo>
                    <a:lnTo>
                      <a:pt x="341" y="67"/>
                    </a:lnTo>
                    <a:lnTo>
                      <a:pt x="325" y="96"/>
                    </a:lnTo>
                    <a:lnTo>
                      <a:pt x="309" y="124"/>
                    </a:lnTo>
                    <a:lnTo>
                      <a:pt x="291" y="151"/>
                    </a:lnTo>
                    <a:lnTo>
                      <a:pt x="272" y="177"/>
                    </a:lnTo>
                    <a:lnTo>
                      <a:pt x="252" y="202"/>
                    </a:lnTo>
                    <a:lnTo>
                      <a:pt x="230" y="225"/>
                    </a:lnTo>
                    <a:lnTo>
                      <a:pt x="220" y="236"/>
                    </a:lnTo>
                    <a:lnTo>
                      <a:pt x="209" y="247"/>
                    </a:lnTo>
                    <a:lnTo>
                      <a:pt x="196" y="256"/>
                    </a:lnTo>
                    <a:lnTo>
                      <a:pt x="184" y="265"/>
                    </a:lnTo>
                    <a:lnTo>
                      <a:pt x="171" y="274"/>
                    </a:lnTo>
                    <a:lnTo>
                      <a:pt x="157" y="282"/>
                    </a:lnTo>
                    <a:lnTo>
                      <a:pt x="145" y="289"/>
                    </a:lnTo>
                    <a:lnTo>
                      <a:pt x="130" y="296"/>
                    </a:lnTo>
                    <a:lnTo>
                      <a:pt x="116" y="301"/>
                    </a:lnTo>
                    <a:lnTo>
                      <a:pt x="100" y="307"/>
                    </a:lnTo>
                    <a:lnTo>
                      <a:pt x="85" y="312"/>
                    </a:lnTo>
                    <a:lnTo>
                      <a:pt x="70" y="315"/>
                    </a:lnTo>
                    <a:lnTo>
                      <a:pt x="52" y="319"/>
                    </a:lnTo>
                    <a:lnTo>
                      <a:pt x="35" y="321"/>
                    </a:lnTo>
                    <a:lnTo>
                      <a:pt x="18" y="322"/>
                    </a:lnTo>
                    <a:lnTo>
                      <a:pt x="0" y="322"/>
                    </a:lnTo>
                    <a:lnTo>
                      <a:pt x="0" y="347"/>
                    </a:lnTo>
                    <a:lnTo>
                      <a:pt x="19" y="346"/>
                    </a:lnTo>
                    <a:lnTo>
                      <a:pt x="38" y="345"/>
                    </a:lnTo>
                    <a:lnTo>
                      <a:pt x="56" y="342"/>
                    </a:lnTo>
                    <a:lnTo>
                      <a:pt x="74" y="339"/>
                    </a:lnTo>
                    <a:lnTo>
                      <a:pt x="91" y="334"/>
                    </a:lnTo>
                    <a:lnTo>
                      <a:pt x="108" y="330"/>
                    </a:lnTo>
                    <a:lnTo>
                      <a:pt x="124" y="324"/>
                    </a:lnTo>
                    <a:lnTo>
                      <a:pt x="140" y="317"/>
                    </a:lnTo>
                    <a:lnTo>
                      <a:pt x="155" y="311"/>
                    </a:lnTo>
                    <a:lnTo>
                      <a:pt x="170" y="303"/>
                    </a:lnTo>
                    <a:lnTo>
                      <a:pt x="184" y="295"/>
                    </a:lnTo>
                    <a:lnTo>
                      <a:pt x="197" y="284"/>
                    </a:lnTo>
                    <a:lnTo>
                      <a:pt x="211" y="275"/>
                    </a:lnTo>
                    <a:lnTo>
                      <a:pt x="223" y="265"/>
                    </a:lnTo>
                    <a:lnTo>
                      <a:pt x="236" y="254"/>
                    </a:lnTo>
                    <a:lnTo>
                      <a:pt x="248" y="242"/>
                    </a:lnTo>
                    <a:lnTo>
                      <a:pt x="270" y="218"/>
                    </a:lnTo>
                    <a:lnTo>
                      <a:pt x="292" y="192"/>
                    </a:lnTo>
                    <a:lnTo>
                      <a:pt x="311" y="165"/>
                    </a:lnTo>
                    <a:lnTo>
                      <a:pt x="329" y="137"/>
                    </a:lnTo>
                    <a:lnTo>
                      <a:pt x="346" y="108"/>
                    </a:lnTo>
                    <a:lnTo>
                      <a:pt x="362" y="78"/>
                    </a:lnTo>
                    <a:lnTo>
                      <a:pt x="377" y="47"/>
                    </a:lnTo>
                    <a:lnTo>
                      <a:pt x="392" y="18"/>
                    </a:lnTo>
                    <a:lnTo>
                      <a:pt x="381" y="0"/>
                    </a:lnTo>
                    <a:lnTo>
                      <a:pt x="392" y="18"/>
                    </a:lnTo>
                    <a:lnTo>
                      <a:pt x="393" y="12"/>
                    </a:lnTo>
                    <a:lnTo>
                      <a:pt x="392" y="7"/>
                    </a:lnTo>
                    <a:lnTo>
                      <a:pt x="390" y="4"/>
                    </a:lnTo>
                    <a:lnTo>
                      <a:pt x="385" y="2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373" y="3"/>
                    </a:lnTo>
                    <a:lnTo>
                      <a:pt x="369" y="7"/>
                    </a:lnTo>
                    <a:lnTo>
                      <a:pt x="381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4465800" y="395172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451" h="332">
                    <a:moveTo>
                      <a:pt x="12" y="332"/>
                    </a:moveTo>
                    <a:lnTo>
                      <a:pt x="23" y="325"/>
                    </a:lnTo>
                    <a:lnTo>
                      <a:pt x="57" y="249"/>
                    </a:lnTo>
                    <a:lnTo>
                      <a:pt x="87" y="185"/>
                    </a:lnTo>
                    <a:lnTo>
                      <a:pt x="102" y="158"/>
                    </a:lnTo>
                    <a:lnTo>
                      <a:pt x="118" y="133"/>
                    </a:lnTo>
                    <a:lnTo>
                      <a:pt x="126" y="122"/>
                    </a:lnTo>
                    <a:lnTo>
                      <a:pt x="134" y="112"/>
                    </a:lnTo>
                    <a:lnTo>
                      <a:pt x="143" y="102"/>
                    </a:lnTo>
                    <a:lnTo>
                      <a:pt x="152" y="93"/>
                    </a:lnTo>
                    <a:lnTo>
                      <a:pt x="162" y="85"/>
                    </a:lnTo>
                    <a:lnTo>
                      <a:pt x="173" y="77"/>
                    </a:lnTo>
                    <a:lnTo>
                      <a:pt x="184" y="69"/>
                    </a:lnTo>
                    <a:lnTo>
                      <a:pt x="197" y="62"/>
                    </a:lnTo>
                    <a:lnTo>
                      <a:pt x="210" y="56"/>
                    </a:lnTo>
                    <a:lnTo>
                      <a:pt x="225" y="51"/>
                    </a:lnTo>
                    <a:lnTo>
                      <a:pt x="241" y="46"/>
                    </a:lnTo>
                    <a:lnTo>
                      <a:pt x="258" y="42"/>
                    </a:lnTo>
                    <a:lnTo>
                      <a:pt x="276" y="37"/>
                    </a:lnTo>
                    <a:lnTo>
                      <a:pt x="296" y="34"/>
                    </a:lnTo>
                    <a:lnTo>
                      <a:pt x="317" y="31"/>
                    </a:lnTo>
                    <a:lnTo>
                      <a:pt x="340" y="29"/>
                    </a:lnTo>
                    <a:lnTo>
                      <a:pt x="365" y="27"/>
                    </a:lnTo>
                    <a:lnTo>
                      <a:pt x="391" y="26"/>
                    </a:lnTo>
                    <a:lnTo>
                      <a:pt x="420" y="24"/>
                    </a:lnTo>
                    <a:lnTo>
                      <a:pt x="451" y="24"/>
                    </a:lnTo>
                    <a:lnTo>
                      <a:pt x="451" y="0"/>
                    </a:lnTo>
                    <a:lnTo>
                      <a:pt x="420" y="0"/>
                    </a:lnTo>
                    <a:lnTo>
                      <a:pt x="391" y="2"/>
                    </a:lnTo>
                    <a:lnTo>
                      <a:pt x="364" y="3"/>
                    </a:lnTo>
                    <a:lnTo>
                      <a:pt x="339" y="4"/>
                    </a:lnTo>
                    <a:lnTo>
                      <a:pt x="315" y="7"/>
                    </a:lnTo>
                    <a:lnTo>
                      <a:pt x="292" y="10"/>
                    </a:lnTo>
                    <a:lnTo>
                      <a:pt x="272" y="13"/>
                    </a:lnTo>
                    <a:lnTo>
                      <a:pt x="252" y="18"/>
                    </a:lnTo>
                    <a:lnTo>
                      <a:pt x="234" y="22"/>
                    </a:lnTo>
                    <a:lnTo>
                      <a:pt x="217" y="28"/>
                    </a:lnTo>
                    <a:lnTo>
                      <a:pt x="201" y="35"/>
                    </a:lnTo>
                    <a:lnTo>
                      <a:pt x="186" y="40"/>
                    </a:lnTo>
                    <a:lnTo>
                      <a:pt x="173" y="48"/>
                    </a:lnTo>
                    <a:lnTo>
                      <a:pt x="159" y="56"/>
                    </a:lnTo>
                    <a:lnTo>
                      <a:pt x="148" y="65"/>
                    </a:lnTo>
                    <a:lnTo>
                      <a:pt x="136" y="75"/>
                    </a:lnTo>
                    <a:lnTo>
                      <a:pt x="125" y="85"/>
                    </a:lnTo>
                    <a:lnTo>
                      <a:pt x="116" y="96"/>
                    </a:lnTo>
                    <a:lnTo>
                      <a:pt x="106" y="108"/>
                    </a:lnTo>
                    <a:lnTo>
                      <a:pt x="97" y="120"/>
                    </a:lnTo>
                    <a:lnTo>
                      <a:pt x="81" y="145"/>
                    </a:lnTo>
                    <a:lnTo>
                      <a:pt x="65" y="174"/>
                    </a:lnTo>
                    <a:lnTo>
                      <a:pt x="36" y="239"/>
                    </a:lnTo>
                    <a:lnTo>
                      <a:pt x="2" y="315"/>
                    </a:lnTo>
                    <a:lnTo>
                      <a:pt x="12" y="308"/>
                    </a:lnTo>
                    <a:lnTo>
                      <a:pt x="2" y="315"/>
                    </a:lnTo>
                    <a:lnTo>
                      <a:pt x="0" y="321"/>
                    </a:lnTo>
                    <a:lnTo>
                      <a:pt x="2" y="325"/>
                    </a:lnTo>
                    <a:lnTo>
                      <a:pt x="4" y="329"/>
                    </a:lnTo>
                    <a:lnTo>
                      <a:pt x="7" y="331"/>
                    </a:lnTo>
                    <a:lnTo>
                      <a:pt x="12" y="332"/>
                    </a:lnTo>
                    <a:lnTo>
                      <a:pt x="16" y="332"/>
                    </a:lnTo>
                    <a:lnTo>
                      <a:pt x="20" y="330"/>
                    </a:lnTo>
                    <a:lnTo>
                      <a:pt x="23" y="325"/>
                    </a:lnTo>
                    <a:lnTo>
                      <a:pt x="12" y="33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4344840" y="4016520"/>
                <a:ext cx="123840" cy="39960"/>
              </a:xfrm>
              <a:custGeom>
                <a:avLst/>
                <a:gdLst/>
                <a:ahLst/>
                <a:rect l="l" t="t" r="r" b="b"/>
                <a:pathLst>
                  <a:path w="392" h="124">
                    <a:moveTo>
                      <a:pt x="20" y="44"/>
                    </a:moveTo>
                    <a:lnTo>
                      <a:pt x="20" y="44"/>
                    </a:lnTo>
                    <a:lnTo>
                      <a:pt x="25" y="39"/>
                    </a:lnTo>
                    <a:lnTo>
                      <a:pt x="29" y="34"/>
                    </a:lnTo>
                    <a:lnTo>
                      <a:pt x="36" y="31"/>
                    </a:lnTo>
                    <a:lnTo>
                      <a:pt x="44" y="27"/>
                    </a:lnTo>
                    <a:lnTo>
                      <a:pt x="53" y="25"/>
                    </a:lnTo>
                    <a:lnTo>
                      <a:pt x="64" y="24"/>
                    </a:lnTo>
                    <a:lnTo>
                      <a:pt x="75" y="24"/>
                    </a:lnTo>
                    <a:lnTo>
                      <a:pt x="86" y="25"/>
                    </a:lnTo>
                    <a:lnTo>
                      <a:pt x="99" y="26"/>
                    </a:lnTo>
                    <a:lnTo>
                      <a:pt x="113" y="28"/>
                    </a:lnTo>
                    <a:lnTo>
                      <a:pt x="127" y="31"/>
                    </a:lnTo>
                    <a:lnTo>
                      <a:pt x="141" y="34"/>
                    </a:lnTo>
                    <a:lnTo>
                      <a:pt x="172" y="43"/>
                    </a:lnTo>
                    <a:lnTo>
                      <a:pt x="202" y="54"/>
                    </a:lnTo>
                    <a:lnTo>
                      <a:pt x="263" y="77"/>
                    </a:lnTo>
                    <a:lnTo>
                      <a:pt x="318" y="99"/>
                    </a:lnTo>
                    <a:lnTo>
                      <a:pt x="342" y="109"/>
                    </a:lnTo>
                    <a:lnTo>
                      <a:pt x="362" y="117"/>
                    </a:lnTo>
                    <a:lnTo>
                      <a:pt x="378" y="122"/>
                    </a:lnTo>
                    <a:lnTo>
                      <a:pt x="392" y="124"/>
                    </a:lnTo>
                    <a:lnTo>
                      <a:pt x="392" y="100"/>
                    </a:lnTo>
                    <a:lnTo>
                      <a:pt x="385" y="99"/>
                    </a:lnTo>
                    <a:lnTo>
                      <a:pt x="370" y="95"/>
                    </a:lnTo>
                    <a:lnTo>
                      <a:pt x="351" y="87"/>
                    </a:lnTo>
                    <a:lnTo>
                      <a:pt x="327" y="77"/>
                    </a:lnTo>
                    <a:lnTo>
                      <a:pt x="272" y="55"/>
                    </a:lnTo>
                    <a:lnTo>
                      <a:pt x="211" y="31"/>
                    </a:lnTo>
                    <a:lnTo>
                      <a:pt x="179" y="20"/>
                    </a:lnTo>
                    <a:lnTo>
                      <a:pt x="148" y="11"/>
                    </a:lnTo>
                    <a:lnTo>
                      <a:pt x="132" y="8"/>
                    </a:lnTo>
                    <a:lnTo>
                      <a:pt x="117" y="5"/>
                    </a:lnTo>
                    <a:lnTo>
                      <a:pt x="102" y="2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6" y="9"/>
                    </a:lnTo>
                    <a:lnTo>
                      <a:pt x="16" y="15"/>
                    </a:lnTo>
                    <a:lnTo>
                      <a:pt x="7" y="2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0" y="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4332240" y="4027680"/>
                <a:ext cx="98640" cy="150840"/>
              </a:xfrm>
              <a:custGeom>
                <a:avLst/>
                <a:gdLst/>
                <a:ahLst/>
                <a:rect l="l" t="t" r="r" b="b"/>
                <a:pathLst>
                  <a:path w="310" h="478">
                    <a:moveTo>
                      <a:pt x="290" y="383"/>
                    </a:moveTo>
                    <a:lnTo>
                      <a:pt x="290" y="383"/>
                    </a:lnTo>
                    <a:lnTo>
                      <a:pt x="281" y="394"/>
                    </a:lnTo>
                    <a:lnTo>
                      <a:pt x="272" y="403"/>
                    </a:lnTo>
                    <a:lnTo>
                      <a:pt x="263" y="413"/>
                    </a:lnTo>
                    <a:lnTo>
                      <a:pt x="255" y="421"/>
                    </a:lnTo>
                    <a:lnTo>
                      <a:pt x="246" y="427"/>
                    </a:lnTo>
                    <a:lnTo>
                      <a:pt x="237" y="433"/>
                    </a:lnTo>
                    <a:lnTo>
                      <a:pt x="229" y="439"/>
                    </a:lnTo>
                    <a:lnTo>
                      <a:pt x="221" y="442"/>
                    </a:lnTo>
                    <a:lnTo>
                      <a:pt x="213" y="447"/>
                    </a:lnTo>
                    <a:lnTo>
                      <a:pt x="205" y="449"/>
                    </a:lnTo>
                    <a:lnTo>
                      <a:pt x="197" y="451"/>
                    </a:lnTo>
                    <a:lnTo>
                      <a:pt x="190" y="452"/>
                    </a:lnTo>
                    <a:lnTo>
                      <a:pt x="182" y="452"/>
                    </a:lnTo>
                    <a:lnTo>
                      <a:pt x="175" y="452"/>
                    </a:lnTo>
                    <a:lnTo>
                      <a:pt x="168" y="452"/>
                    </a:lnTo>
                    <a:lnTo>
                      <a:pt x="162" y="451"/>
                    </a:lnTo>
                    <a:lnTo>
                      <a:pt x="155" y="449"/>
                    </a:lnTo>
                    <a:lnTo>
                      <a:pt x="148" y="447"/>
                    </a:lnTo>
                    <a:lnTo>
                      <a:pt x="141" y="443"/>
                    </a:lnTo>
                    <a:lnTo>
                      <a:pt x="134" y="440"/>
                    </a:lnTo>
                    <a:lnTo>
                      <a:pt x="122" y="432"/>
                    </a:lnTo>
                    <a:lnTo>
                      <a:pt x="109" y="421"/>
                    </a:lnTo>
                    <a:lnTo>
                      <a:pt x="98" y="408"/>
                    </a:lnTo>
                    <a:lnTo>
                      <a:pt x="86" y="393"/>
                    </a:lnTo>
                    <a:lnTo>
                      <a:pt x="76" y="376"/>
                    </a:lnTo>
                    <a:lnTo>
                      <a:pt x="66" y="359"/>
                    </a:lnTo>
                    <a:lnTo>
                      <a:pt x="57" y="340"/>
                    </a:lnTo>
                    <a:lnTo>
                      <a:pt x="49" y="319"/>
                    </a:lnTo>
                    <a:lnTo>
                      <a:pt x="42" y="297"/>
                    </a:lnTo>
                    <a:lnTo>
                      <a:pt x="36" y="276"/>
                    </a:lnTo>
                    <a:lnTo>
                      <a:pt x="32" y="253"/>
                    </a:lnTo>
                    <a:lnTo>
                      <a:pt x="28" y="229"/>
                    </a:lnTo>
                    <a:lnTo>
                      <a:pt x="25" y="205"/>
                    </a:lnTo>
                    <a:lnTo>
                      <a:pt x="24" y="182"/>
                    </a:lnTo>
                    <a:lnTo>
                      <a:pt x="24" y="158"/>
                    </a:lnTo>
                    <a:lnTo>
                      <a:pt x="25" y="136"/>
                    </a:lnTo>
                    <a:lnTo>
                      <a:pt x="27" y="113"/>
                    </a:lnTo>
                    <a:lnTo>
                      <a:pt x="32" y="90"/>
                    </a:lnTo>
                    <a:lnTo>
                      <a:pt x="36" y="69"/>
                    </a:lnTo>
                    <a:lnTo>
                      <a:pt x="43" y="49"/>
                    </a:lnTo>
                    <a:lnTo>
                      <a:pt x="51" y="30"/>
                    </a:lnTo>
                    <a:lnTo>
                      <a:pt x="61" y="12"/>
                    </a:lnTo>
                    <a:lnTo>
                      <a:pt x="41" y="0"/>
                    </a:lnTo>
                    <a:lnTo>
                      <a:pt x="29" y="19"/>
                    </a:lnTo>
                    <a:lnTo>
                      <a:pt x="20" y="41"/>
                    </a:lnTo>
                    <a:lnTo>
                      <a:pt x="13" y="63"/>
                    </a:lnTo>
                    <a:lnTo>
                      <a:pt x="8" y="85"/>
                    </a:lnTo>
                    <a:lnTo>
                      <a:pt x="3" y="109"/>
                    </a:lnTo>
                    <a:lnTo>
                      <a:pt x="1" y="133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1" y="207"/>
                    </a:lnTo>
                    <a:lnTo>
                      <a:pt x="4" y="232"/>
                    </a:lnTo>
                    <a:lnTo>
                      <a:pt x="8" y="256"/>
                    </a:lnTo>
                    <a:lnTo>
                      <a:pt x="13" y="280"/>
                    </a:lnTo>
                    <a:lnTo>
                      <a:pt x="19" y="304"/>
                    </a:lnTo>
                    <a:lnTo>
                      <a:pt x="26" y="327"/>
                    </a:lnTo>
                    <a:lnTo>
                      <a:pt x="35" y="349"/>
                    </a:lnTo>
                    <a:lnTo>
                      <a:pt x="44" y="369"/>
                    </a:lnTo>
                    <a:lnTo>
                      <a:pt x="55" y="389"/>
                    </a:lnTo>
                    <a:lnTo>
                      <a:pt x="66" y="407"/>
                    </a:lnTo>
                    <a:lnTo>
                      <a:pt x="78" y="423"/>
                    </a:lnTo>
                    <a:lnTo>
                      <a:pt x="92" y="438"/>
                    </a:lnTo>
                    <a:lnTo>
                      <a:pt x="107" y="450"/>
                    </a:lnTo>
                    <a:lnTo>
                      <a:pt x="122" y="460"/>
                    </a:lnTo>
                    <a:lnTo>
                      <a:pt x="131" y="465"/>
                    </a:lnTo>
                    <a:lnTo>
                      <a:pt x="139" y="470"/>
                    </a:lnTo>
                    <a:lnTo>
                      <a:pt x="147" y="472"/>
                    </a:lnTo>
                    <a:lnTo>
                      <a:pt x="156" y="474"/>
                    </a:lnTo>
                    <a:lnTo>
                      <a:pt x="165" y="476"/>
                    </a:lnTo>
                    <a:lnTo>
                      <a:pt x="174" y="478"/>
                    </a:lnTo>
                    <a:lnTo>
                      <a:pt x="183" y="478"/>
                    </a:lnTo>
                    <a:lnTo>
                      <a:pt x="192" y="476"/>
                    </a:lnTo>
                    <a:lnTo>
                      <a:pt x="203" y="474"/>
                    </a:lnTo>
                    <a:lnTo>
                      <a:pt x="212" y="472"/>
                    </a:lnTo>
                    <a:lnTo>
                      <a:pt x="222" y="468"/>
                    </a:lnTo>
                    <a:lnTo>
                      <a:pt x="231" y="465"/>
                    </a:lnTo>
                    <a:lnTo>
                      <a:pt x="241" y="459"/>
                    </a:lnTo>
                    <a:lnTo>
                      <a:pt x="251" y="454"/>
                    </a:lnTo>
                    <a:lnTo>
                      <a:pt x="261" y="447"/>
                    </a:lnTo>
                    <a:lnTo>
                      <a:pt x="270" y="439"/>
                    </a:lnTo>
                    <a:lnTo>
                      <a:pt x="280" y="430"/>
                    </a:lnTo>
                    <a:lnTo>
                      <a:pt x="289" y="421"/>
                    </a:lnTo>
                    <a:lnTo>
                      <a:pt x="300" y="410"/>
                    </a:lnTo>
                    <a:lnTo>
                      <a:pt x="310" y="398"/>
                    </a:lnTo>
                    <a:lnTo>
                      <a:pt x="310" y="398"/>
                    </a:lnTo>
                    <a:lnTo>
                      <a:pt x="290" y="38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4424400" y="4126320"/>
                <a:ext cx="52200" cy="102960"/>
              </a:xfrm>
              <a:custGeom>
                <a:avLst/>
                <a:gdLst/>
                <a:ahLst/>
                <a:rect l="l" t="t" r="r" b="b"/>
                <a:pathLst>
                  <a:path w="169" h="325">
                    <a:moveTo>
                      <a:pt x="145" y="313"/>
                    </a:moveTo>
                    <a:lnTo>
                      <a:pt x="158" y="300"/>
                    </a:lnTo>
                    <a:lnTo>
                      <a:pt x="143" y="300"/>
                    </a:lnTo>
                    <a:lnTo>
                      <a:pt x="130" y="299"/>
                    </a:lnTo>
                    <a:lnTo>
                      <a:pt x="118" y="298"/>
                    </a:lnTo>
                    <a:lnTo>
                      <a:pt x="106" y="295"/>
                    </a:lnTo>
                    <a:lnTo>
                      <a:pt x="97" y="293"/>
                    </a:lnTo>
                    <a:lnTo>
                      <a:pt x="88" y="290"/>
                    </a:lnTo>
                    <a:lnTo>
                      <a:pt x="79" y="286"/>
                    </a:lnTo>
                    <a:lnTo>
                      <a:pt x="72" y="282"/>
                    </a:lnTo>
                    <a:lnTo>
                      <a:pt x="65" y="278"/>
                    </a:lnTo>
                    <a:lnTo>
                      <a:pt x="60" y="274"/>
                    </a:lnTo>
                    <a:lnTo>
                      <a:pt x="54" y="268"/>
                    </a:lnTo>
                    <a:lnTo>
                      <a:pt x="49" y="262"/>
                    </a:lnTo>
                    <a:lnTo>
                      <a:pt x="45" y="258"/>
                    </a:lnTo>
                    <a:lnTo>
                      <a:pt x="41" y="251"/>
                    </a:lnTo>
                    <a:lnTo>
                      <a:pt x="38" y="245"/>
                    </a:lnTo>
                    <a:lnTo>
                      <a:pt x="36" y="238"/>
                    </a:lnTo>
                    <a:lnTo>
                      <a:pt x="32" y="225"/>
                    </a:lnTo>
                    <a:lnTo>
                      <a:pt x="30" y="210"/>
                    </a:lnTo>
                    <a:lnTo>
                      <a:pt x="30" y="194"/>
                    </a:lnTo>
                    <a:lnTo>
                      <a:pt x="31" y="177"/>
                    </a:lnTo>
                    <a:lnTo>
                      <a:pt x="33" y="160"/>
                    </a:lnTo>
                    <a:lnTo>
                      <a:pt x="36" y="144"/>
                    </a:lnTo>
                    <a:lnTo>
                      <a:pt x="40" y="127"/>
                    </a:lnTo>
                    <a:lnTo>
                      <a:pt x="45" y="111"/>
                    </a:lnTo>
                    <a:lnTo>
                      <a:pt x="67" y="53"/>
                    </a:lnTo>
                    <a:lnTo>
                      <a:pt x="79" y="20"/>
                    </a:lnTo>
                    <a:lnTo>
                      <a:pt x="80" y="14"/>
                    </a:lnTo>
                    <a:lnTo>
                      <a:pt x="79" y="8"/>
                    </a:lnTo>
                    <a:lnTo>
                      <a:pt x="69" y="0"/>
                    </a:lnTo>
                    <a:lnTo>
                      <a:pt x="60" y="3"/>
                    </a:lnTo>
                    <a:lnTo>
                      <a:pt x="55" y="6"/>
                    </a:lnTo>
                    <a:lnTo>
                      <a:pt x="48" y="13"/>
                    </a:lnTo>
                    <a:lnTo>
                      <a:pt x="30" y="34"/>
                    </a:lnTo>
                    <a:lnTo>
                      <a:pt x="0" y="71"/>
                    </a:lnTo>
                    <a:lnTo>
                      <a:pt x="20" y="86"/>
                    </a:lnTo>
                    <a:lnTo>
                      <a:pt x="49" y="49"/>
                    </a:lnTo>
                    <a:lnTo>
                      <a:pt x="67" y="29"/>
                    </a:lnTo>
                    <a:lnTo>
                      <a:pt x="72" y="23"/>
                    </a:lnTo>
                    <a:lnTo>
                      <a:pt x="73" y="22"/>
                    </a:lnTo>
                    <a:lnTo>
                      <a:pt x="67" y="24"/>
                    </a:lnTo>
                    <a:lnTo>
                      <a:pt x="57" y="16"/>
                    </a:lnTo>
                    <a:lnTo>
                      <a:pt x="56" y="13"/>
                    </a:lnTo>
                    <a:lnTo>
                      <a:pt x="56" y="10"/>
                    </a:lnTo>
                    <a:lnTo>
                      <a:pt x="44" y="44"/>
                    </a:lnTo>
                    <a:lnTo>
                      <a:pt x="22" y="103"/>
                    </a:lnTo>
                    <a:lnTo>
                      <a:pt x="18" y="120"/>
                    </a:lnTo>
                    <a:lnTo>
                      <a:pt x="13" y="138"/>
                    </a:lnTo>
                    <a:lnTo>
                      <a:pt x="10" y="156"/>
                    </a:lnTo>
                    <a:lnTo>
                      <a:pt x="6" y="175"/>
                    </a:lnTo>
                    <a:lnTo>
                      <a:pt x="5" y="193"/>
                    </a:lnTo>
                    <a:lnTo>
                      <a:pt x="6" y="211"/>
                    </a:lnTo>
                    <a:lnTo>
                      <a:pt x="8" y="229"/>
                    </a:lnTo>
                    <a:lnTo>
                      <a:pt x="13" y="246"/>
                    </a:lnTo>
                    <a:lnTo>
                      <a:pt x="16" y="254"/>
                    </a:lnTo>
                    <a:lnTo>
                      <a:pt x="20" y="262"/>
                    </a:lnTo>
                    <a:lnTo>
                      <a:pt x="24" y="270"/>
                    </a:lnTo>
                    <a:lnTo>
                      <a:pt x="30" y="278"/>
                    </a:lnTo>
                    <a:lnTo>
                      <a:pt x="37" y="285"/>
                    </a:lnTo>
                    <a:lnTo>
                      <a:pt x="44" y="292"/>
                    </a:lnTo>
                    <a:lnTo>
                      <a:pt x="52" y="298"/>
                    </a:lnTo>
                    <a:lnTo>
                      <a:pt x="60" y="303"/>
                    </a:lnTo>
                    <a:lnTo>
                      <a:pt x="69" y="308"/>
                    </a:lnTo>
                    <a:lnTo>
                      <a:pt x="79" y="313"/>
                    </a:lnTo>
                    <a:lnTo>
                      <a:pt x="90" y="316"/>
                    </a:lnTo>
                    <a:lnTo>
                      <a:pt x="102" y="319"/>
                    </a:lnTo>
                    <a:lnTo>
                      <a:pt x="114" y="322"/>
                    </a:lnTo>
                    <a:lnTo>
                      <a:pt x="128" y="323"/>
                    </a:lnTo>
                    <a:lnTo>
                      <a:pt x="142" y="324"/>
                    </a:lnTo>
                    <a:lnTo>
                      <a:pt x="158" y="325"/>
                    </a:lnTo>
                    <a:lnTo>
                      <a:pt x="169" y="313"/>
                    </a:lnTo>
                    <a:lnTo>
                      <a:pt x="158" y="325"/>
                    </a:lnTo>
                    <a:lnTo>
                      <a:pt x="162" y="324"/>
                    </a:lnTo>
                    <a:lnTo>
                      <a:pt x="167" y="321"/>
                    </a:lnTo>
                    <a:lnTo>
                      <a:pt x="169" y="317"/>
                    </a:lnTo>
                    <a:lnTo>
                      <a:pt x="169" y="313"/>
                    </a:lnTo>
                    <a:lnTo>
                      <a:pt x="169" y="308"/>
                    </a:lnTo>
                    <a:lnTo>
                      <a:pt x="167" y="305"/>
                    </a:lnTo>
                    <a:lnTo>
                      <a:pt x="162" y="301"/>
                    </a:lnTo>
                    <a:lnTo>
                      <a:pt x="158" y="300"/>
                    </a:lnTo>
                    <a:lnTo>
                      <a:pt x="145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4446720" y="4105440"/>
                <a:ext cx="29880" cy="120600"/>
              </a:xfrm>
              <a:custGeom>
                <a:avLst/>
                <a:gdLst/>
                <a:ahLst/>
                <a:rect l="l" t="t" r="r" b="b"/>
                <a:pathLst>
                  <a:path w="98" h="378">
                    <a:moveTo>
                      <a:pt x="16" y="0"/>
                    </a:moveTo>
                    <a:lnTo>
                      <a:pt x="2" y="20"/>
                    </a:lnTo>
                    <a:lnTo>
                      <a:pt x="15" y="38"/>
                    </a:lnTo>
                    <a:lnTo>
                      <a:pt x="25" y="57"/>
                    </a:lnTo>
                    <a:lnTo>
                      <a:pt x="35" y="77"/>
                    </a:lnTo>
                    <a:lnTo>
                      <a:pt x="43" y="97"/>
                    </a:lnTo>
                    <a:lnTo>
                      <a:pt x="50" y="118"/>
                    </a:lnTo>
                    <a:lnTo>
                      <a:pt x="56" y="139"/>
                    </a:lnTo>
                    <a:lnTo>
                      <a:pt x="62" y="162"/>
                    </a:lnTo>
                    <a:lnTo>
                      <a:pt x="65" y="185"/>
                    </a:lnTo>
                    <a:lnTo>
                      <a:pt x="68" y="208"/>
                    </a:lnTo>
                    <a:lnTo>
                      <a:pt x="71" y="232"/>
                    </a:lnTo>
                    <a:lnTo>
                      <a:pt x="72" y="256"/>
                    </a:lnTo>
                    <a:lnTo>
                      <a:pt x="73" y="280"/>
                    </a:lnTo>
                    <a:lnTo>
                      <a:pt x="74" y="329"/>
                    </a:lnTo>
                    <a:lnTo>
                      <a:pt x="74" y="378"/>
                    </a:lnTo>
                    <a:lnTo>
                      <a:pt x="98" y="378"/>
                    </a:lnTo>
                    <a:lnTo>
                      <a:pt x="98" y="327"/>
                    </a:lnTo>
                    <a:lnTo>
                      <a:pt x="97" y="278"/>
                    </a:lnTo>
                    <a:lnTo>
                      <a:pt x="96" y="254"/>
                    </a:lnTo>
                    <a:lnTo>
                      <a:pt x="95" y="229"/>
                    </a:lnTo>
                    <a:lnTo>
                      <a:pt x="92" y="205"/>
                    </a:lnTo>
                    <a:lnTo>
                      <a:pt x="89" y="18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4" y="111"/>
                    </a:lnTo>
                    <a:lnTo>
                      <a:pt x="66" y="89"/>
                    </a:lnTo>
                    <a:lnTo>
                      <a:pt x="57" y="66"/>
                    </a:lnTo>
                    <a:lnTo>
                      <a:pt x="47" y="46"/>
                    </a:lnTo>
                    <a:lnTo>
                      <a:pt x="35" y="24"/>
                    </a:lnTo>
                    <a:lnTo>
                      <a:pt x="22" y="5"/>
                    </a:lnTo>
                    <a:lnTo>
                      <a:pt x="7" y="23"/>
                    </a:lnTo>
                    <a:lnTo>
                      <a:pt x="22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3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5120" y="3938760"/>
                <a:ext cx="222120" cy="279360"/>
              </a:xfrm>
              <a:custGeom>
                <a:avLst/>
                <a:gdLst/>
                <a:ahLst/>
                <a:rect l="l" t="t" r="r" b="b"/>
                <a:pathLst>
                  <a:path w="699" h="881">
                    <a:moveTo>
                      <a:pt x="693" y="281"/>
                    </a:moveTo>
                    <a:lnTo>
                      <a:pt x="693" y="299"/>
                    </a:lnTo>
                    <a:lnTo>
                      <a:pt x="693" y="318"/>
                    </a:lnTo>
                    <a:lnTo>
                      <a:pt x="693" y="336"/>
                    </a:lnTo>
                    <a:lnTo>
                      <a:pt x="693" y="354"/>
                    </a:lnTo>
                    <a:lnTo>
                      <a:pt x="692" y="372"/>
                    </a:lnTo>
                    <a:lnTo>
                      <a:pt x="692" y="391"/>
                    </a:lnTo>
                    <a:lnTo>
                      <a:pt x="692" y="409"/>
                    </a:lnTo>
                    <a:lnTo>
                      <a:pt x="692" y="427"/>
                    </a:lnTo>
                    <a:lnTo>
                      <a:pt x="674" y="430"/>
                    </a:lnTo>
                    <a:lnTo>
                      <a:pt x="655" y="433"/>
                    </a:lnTo>
                    <a:lnTo>
                      <a:pt x="636" y="435"/>
                    </a:lnTo>
                    <a:lnTo>
                      <a:pt x="617" y="436"/>
                    </a:lnTo>
                    <a:lnTo>
                      <a:pt x="579" y="436"/>
                    </a:lnTo>
                    <a:lnTo>
                      <a:pt x="542" y="435"/>
                    </a:lnTo>
                    <a:lnTo>
                      <a:pt x="505" y="433"/>
                    </a:lnTo>
                    <a:lnTo>
                      <a:pt x="469" y="428"/>
                    </a:lnTo>
                    <a:lnTo>
                      <a:pt x="433" y="423"/>
                    </a:lnTo>
                    <a:lnTo>
                      <a:pt x="399" y="417"/>
                    </a:lnTo>
                    <a:lnTo>
                      <a:pt x="395" y="437"/>
                    </a:lnTo>
                    <a:lnTo>
                      <a:pt x="389" y="465"/>
                    </a:lnTo>
                    <a:lnTo>
                      <a:pt x="384" y="495"/>
                    </a:lnTo>
                    <a:lnTo>
                      <a:pt x="379" y="530"/>
                    </a:lnTo>
                    <a:lnTo>
                      <a:pt x="373" y="567"/>
                    </a:lnTo>
                    <a:lnTo>
                      <a:pt x="365" y="607"/>
                    </a:lnTo>
                    <a:lnTo>
                      <a:pt x="357" y="647"/>
                    </a:lnTo>
                    <a:lnTo>
                      <a:pt x="347" y="687"/>
                    </a:lnTo>
                    <a:lnTo>
                      <a:pt x="342" y="706"/>
                    </a:lnTo>
                    <a:lnTo>
                      <a:pt x="335" y="725"/>
                    </a:lnTo>
                    <a:lnTo>
                      <a:pt x="329" y="744"/>
                    </a:lnTo>
                    <a:lnTo>
                      <a:pt x="322" y="761"/>
                    </a:lnTo>
                    <a:lnTo>
                      <a:pt x="314" y="778"/>
                    </a:lnTo>
                    <a:lnTo>
                      <a:pt x="306" y="795"/>
                    </a:lnTo>
                    <a:lnTo>
                      <a:pt x="297" y="810"/>
                    </a:lnTo>
                    <a:lnTo>
                      <a:pt x="288" y="824"/>
                    </a:lnTo>
                    <a:lnTo>
                      <a:pt x="277" y="836"/>
                    </a:lnTo>
                    <a:lnTo>
                      <a:pt x="266" y="848"/>
                    </a:lnTo>
                    <a:lnTo>
                      <a:pt x="253" y="858"/>
                    </a:lnTo>
                    <a:lnTo>
                      <a:pt x="241" y="866"/>
                    </a:lnTo>
                    <a:lnTo>
                      <a:pt x="227" y="873"/>
                    </a:lnTo>
                    <a:lnTo>
                      <a:pt x="214" y="877"/>
                    </a:lnTo>
                    <a:lnTo>
                      <a:pt x="198" y="881"/>
                    </a:lnTo>
                    <a:lnTo>
                      <a:pt x="182" y="881"/>
                    </a:lnTo>
                    <a:lnTo>
                      <a:pt x="153" y="877"/>
                    </a:lnTo>
                    <a:lnTo>
                      <a:pt x="129" y="872"/>
                    </a:lnTo>
                    <a:lnTo>
                      <a:pt x="110" y="865"/>
                    </a:lnTo>
                    <a:lnTo>
                      <a:pt x="94" y="856"/>
                    </a:lnTo>
                    <a:lnTo>
                      <a:pt x="81" y="844"/>
                    </a:lnTo>
                    <a:lnTo>
                      <a:pt x="72" y="832"/>
                    </a:lnTo>
                    <a:lnTo>
                      <a:pt x="65" y="818"/>
                    </a:lnTo>
                    <a:lnTo>
                      <a:pt x="62" y="802"/>
                    </a:lnTo>
                    <a:lnTo>
                      <a:pt x="61" y="786"/>
                    </a:lnTo>
                    <a:lnTo>
                      <a:pt x="62" y="769"/>
                    </a:lnTo>
                    <a:lnTo>
                      <a:pt x="65" y="752"/>
                    </a:lnTo>
                    <a:lnTo>
                      <a:pt x="70" y="734"/>
                    </a:lnTo>
                    <a:lnTo>
                      <a:pt x="77" y="714"/>
                    </a:lnTo>
                    <a:lnTo>
                      <a:pt x="84" y="696"/>
                    </a:lnTo>
                    <a:lnTo>
                      <a:pt x="93" y="677"/>
                    </a:lnTo>
                    <a:lnTo>
                      <a:pt x="102" y="658"/>
                    </a:lnTo>
                    <a:lnTo>
                      <a:pt x="139" y="590"/>
                    </a:lnTo>
                    <a:lnTo>
                      <a:pt x="167" y="538"/>
                    </a:lnTo>
                    <a:lnTo>
                      <a:pt x="171" y="529"/>
                    </a:lnTo>
                    <a:lnTo>
                      <a:pt x="172" y="522"/>
                    </a:lnTo>
                    <a:lnTo>
                      <a:pt x="172" y="516"/>
                    </a:lnTo>
                    <a:lnTo>
                      <a:pt x="169" y="514"/>
                    </a:lnTo>
                    <a:lnTo>
                      <a:pt x="165" y="513"/>
                    </a:lnTo>
                    <a:lnTo>
                      <a:pt x="155" y="515"/>
                    </a:lnTo>
                    <a:lnTo>
                      <a:pt x="144" y="519"/>
                    </a:lnTo>
                    <a:lnTo>
                      <a:pt x="129" y="527"/>
                    </a:lnTo>
                    <a:lnTo>
                      <a:pt x="105" y="539"/>
                    </a:lnTo>
                    <a:lnTo>
                      <a:pt x="84" y="546"/>
                    </a:lnTo>
                    <a:lnTo>
                      <a:pt x="64" y="548"/>
                    </a:lnTo>
                    <a:lnTo>
                      <a:pt x="48" y="546"/>
                    </a:lnTo>
                    <a:lnTo>
                      <a:pt x="35" y="541"/>
                    </a:lnTo>
                    <a:lnTo>
                      <a:pt x="23" y="532"/>
                    </a:lnTo>
                    <a:lnTo>
                      <a:pt x="14" y="521"/>
                    </a:lnTo>
                    <a:lnTo>
                      <a:pt x="7" y="506"/>
                    </a:lnTo>
                    <a:lnTo>
                      <a:pt x="3" y="490"/>
                    </a:lnTo>
                    <a:lnTo>
                      <a:pt x="0" y="470"/>
                    </a:lnTo>
                    <a:lnTo>
                      <a:pt x="0" y="450"/>
                    </a:lnTo>
                    <a:lnTo>
                      <a:pt x="3" y="427"/>
                    </a:lnTo>
                    <a:lnTo>
                      <a:pt x="6" y="403"/>
                    </a:lnTo>
                    <a:lnTo>
                      <a:pt x="13" y="379"/>
                    </a:lnTo>
                    <a:lnTo>
                      <a:pt x="21" y="354"/>
                    </a:lnTo>
                    <a:lnTo>
                      <a:pt x="30" y="328"/>
                    </a:lnTo>
                    <a:lnTo>
                      <a:pt x="41" y="303"/>
                    </a:lnTo>
                    <a:lnTo>
                      <a:pt x="55" y="278"/>
                    </a:lnTo>
                    <a:lnTo>
                      <a:pt x="69" y="253"/>
                    </a:lnTo>
                    <a:lnTo>
                      <a:pt x="86" y="229"/>
                    </a:lnTo>
                    <a:lnTo>
                      <a:pt x="103" y="206"/>
                    </a:lnTo>
                    <a:lnTo>
                      <a:pt x="122" y="184"/>
                    </a:lnTo>
                    <a:lnTo>
                      <a:pt x="143" y="165"/>
                    </a:lnTo>
                    <a:lnTo>
                      <a:pt x="166" y="148"/>
                    </a:lnTo>
                    <a:lnTo>
                      <a:pt x="188" y="132"/>
                    </a:lnTo>
                    <a:lnTo>
                      <a:pt x="212" y="119"/>
                    </a:lnTo>
                    <a:lnTo>
                      <a:pt x="239" y="110"/>
                    </a:lnTo>
                    <a:lnTo>
                      <a:pt x="265" y="103"/>
                    </a:lnTo>
                    <a:lnTo>
                      <a:pt x="292" y="101"/>
                    </a:lnTo>
                    <a:lnTo>
                      <a:pt x="321" y="102"/>
                    </a:lnTo>
                    <a:lnTo>
                      <a:pt x="350" y="108"/>
                    </a:lnTo>
                    <a:lnTo>
                      <a:pt x="380" y="117"/>
                    </a:lnTo>
                    <a:lnTo>
                      <a:pt x="397" y="126"/>
                    </a:lnTo>
                    <a:lnTo>
                      <a:pt x="410" y="133"/>
                    </a:lnTo>
                    <a:lnTo>
                      <a:pt x="419" y="136"/>
                    </a:lnTo>
                    <a:lnTo>
                      <a:pt x="425" y="138"/>
                    </a:lnTo>
                    <a:lnTo>
                      <a:pt x="433" y="139"/>
                    </a:lnTo>
                    <a:lnTo>
                      <a:pt x="441" y="138"/>
                    </a:lnTo>
                    <a:lnTo>
                      <a:pt x="452" y="136"/>
                    </a:lnTo>
                    <a:lnTo>
                      <a:pt x="465" y="134"/>
                    </a:lnTo>
                    <a:lnTo>
                      <a:pt x="423" y="200"/>
                    </a:lnTo>
                    <a:lnTo>
                      <a:pt x="699" y="0"/>
                    </a:lnTo>
                    <a:lnTo>
                      <a:pt x="699" y="18"/>
                    </a:lnTo>
                    <a:lnTo>
                      <a:pt x="699" y="36"/>
                    </a:lnTo>
                    <a:lnTo>
                      <a:pt x="698" y="54"/>
                    </a:lnTo>
                    <a:lnTo>
                      <a:pt x="698" y="73"/>
                    </a:lnTo>
                    <a:lnTo>
                      <a:pt x="698" y="92"/>
                    </a:lnTo>
                    <a:lnTo>
                      <a:pt x="698" y="110"/>
                    </a:lnTo>
                    <a:lnTo>
                      <a:pt x="697" y="128"/>
                    </a:lnTo>
                    <a:lnTo>
                      <a:pt x="697" y="147"/>
                    </a:lnTo>
                    <a:lnTo>
                      <a:pt x="539" y="311"/>
                    </a:lnTo>
                    <a:lnTo>
                      <a:pt x="559" y="304"/>
                    </a:lnTo>
                    <a:lnTo>
                      <a:pt x="578" y="298"/>
                    </a:lnTo>
                    <a:lnTo>
                      <a:pt x="598" y="294"/>
                    </a:lnTo>
                    <a:lnTo>
                      <a:pt x="617" y="290"/>
                    </a:lnTo>
                    <a:lnTo>
                      <a:pt x="636" y="287"/>
                    </a:lnTo>
                    <a:lnTo>
                      <a:pt x="656" y="285"/>
                    </a:lnTo>
                    <a:lnTo>
                      <a:pt x="675" y="282"/>
                    </a:lnTo>
                    <a:lnTo>
                      <a:pt x="693" y="281"/>
                    </a:lnTo>
                    <a:close/>
                  </a:path>
                </a:pathLst>
              </a:custGeom>
              <a:solidFill>
                <a:srgbClr val="8d89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529320" y="4027680"/>
                <a:ext cx="11160" cy="52560"/>
              </a:xfrm>
              <a:custGeom>
                <a:avLst/>
                <a:gdLst/>
                <a:ahLst/>
                <a:rect l="l" t="t" r="r" b="b"/>
                <a:pathLst>
                  <a:path w="38" h="164">
                    <a:moveTo>
                      <a:pt x="22" y="164"/>
                    </a:moveTo>
                    <a:lnTo>
                      <a:pt x="36" y="146"/>
                    </a:lnTo>
                    <a:lnTo>
                      <a:pt x="36" y="128"/>
                    </a:lnTo>
                    <a:lnTo>
                      <a:pt x="36" y="110"/>
                    </a:lnTo>
                    <a:lnTo>
                      <a:pt x="36" y="91"/>
                    </a:lnTo>
                    <a:lnTo>
                      <a:pt x="38" y="73"/>
                    </a:lnTo>
                    <a:lnTo>
                      <a:pt x="38" y="55"/>
                    </a:lnTo>
                    <a:lnTo>
                      <a:pt x="38" y="37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1" y="0"/>
                    </a:lnTo>
                    <a:lnTo>
                      <a:pt x="1" y="18"/>
                    </a:lnTo>
                    <a:lnTo>
                      <a:pt x="1" y="37"/>
                    </a:lnTo>
                    <a:lnTo>
                      <a:pt x="1" y="55"/>
                    </a:lnTo>
                    <a:lnTo>
                      <a:pt x="1" y="73"/>
                    </a:lnTo>
                    <a:lnTo>
                      <a:pt x="0" y="91"/>
                    </a:lnTo>
                    <a:lnTo>
                      <a:pt x="0" y="110"/>
                    </a:lnTo>
                    <a:lnTo>
                      <a:pt x="0" y="128"/>
                    </a:lnTo>
                    <a:lnTo>
                      <a:pt x="0" y="146"/>
                    </a:lnTo>
                    <a:lnTo>
                      <a:pt x="15" y="128"/>
                    </a:lnTo>
                    <a:lnTo>
                      <a:pt x="0" y="146"/>
                    </a:lnTo>
                    <a:lnTo>
                      <a:pt x="0" y="151"/>
                    </a:lnTo>
                    <a:lnTo>
                      <a:pt x="1" y="154"/>
                    </a:lnTo>
                    <a:lnTo>
                      <a:pt x="3" y="157"/>
                    </a:lnTo>
                    <a:lnTo>
                      <a:pt x="6" y="160"/>
                    </a:lnTo>
                    <a:lnTo>
                      <a:pt x="8" y="162"/>
                    </a:lnTo>
                    <a:lnTo>
                      <a:pt x="11" y="163"/>
                    </a:lnTo>
                    <a:lnTo>
                      <a:pt x="15" y="164"/>
                    </a:lnTo>
                    <a:lnTo>
                      <a:pt x="18" y="164"/>
                    </a:lnTo>
                    <a:lnTo>
                      <a:pt x="22" y="164"/>
                    </a:lnTo>
                    <a:lnTo>
                      <a:pt x="25" y="163"/>
                    </a:lnTo>
                    <a:lnTo>
                      <a:pt x="27" y="162"/>
                    </a:lnTo>
                    <a:lnTo>
                      <a:pt x="31" y="160"/>
                    </a:lnTo>
                    <a:lnTo>
                      <a:pt x="33" y="157"/>
                    </a:lnTo>
                    <a:lnTo>
                      <a:pt x="34" y="154"/>
                    </a:lnTo>
                    <a:lnTo>
                      <a:pt x="35" y="151"/>
                    </a:lnTo>
                    <a:lnTo>
                      <a:pt x="36" y="146"/>
                    </a:lnTo>
                    <a:lnTo>
                      <a:pt x="22" y="16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435720" y="4065840"/>
                <a:ext cx="100080" cy="17640"/>
              </a:xfrm>
              <a:custGeom>
                <a:avLst/>
                <a:gdLst/>
                <a:ahLst/>
                <a:rect l="l" t="t" r="r" b="b"/>
                <a:pathLst>
                  <a:path w="315" h="55">
                    <a:moveTo>
                      <a:pt x="35" y="22"/>
                    </a:moveTo>
                    <a:lnTo>
                      <a:pt x="15" y="36"/>
                    </a:lnTo>
                    <a:lnTo>
                      <a:pt x="49" y="42"/>
                    </a:lnTo>
                    <a:lnTo>
                      <a:pt x="86" y="47"/>
                    </a:lnTo>
                    <a:lnTo>
                      <a:pt x="122" y="52"/>
                    </a:lnTo>
                    <a:lnTo>
                      <a:pt x="160" y="54"/>
                    </a:lnTo>
                    <a:lnTo>
                      <a:pt x="198" y="55"/>
                    </a:lnTo>
                    <a:lnTo>
                      <a:pt x="237" y="55"/>
                    </a:lnTo>
                    <a:lnTo>
                      <a:pt x="256" y="54"/>
                    </a:lnTo>
                    <a:lnTo>
                      <a:pt x="276" y="52"/>
                    </a:lnTo>
                    <a:lnTo>
                      <a:pt x="295" y="50"/>
                    </a:lnTo>
                    <a:lnTo>
                      <a:pt x="315" y="46"/>
                    </a:lnTo>
                    <a:lnTo>
                      <a:pt x="308" y="10"/>
                    </a:lnTo>
                    <a:lnTo>
                      <a:pt x="290" y="13"/>
                    </a:lnTo>
                    <a:lnTo>
                      <a:pt x="271" y="16"/>
                    </a:lnTo>
                    <a:lnTo>
                      <a:pt x="253" y="18"/>
                    </a:lnTo>
                    <a:lnTo>
                      <a:pt x="236" y="19"/>
                    </a:lnTo>
                    <a:lnTo>
                      <a:pt x="198" y="20"/>
                    </a:lnTo>
                    <a:lnTo>
                      <a:pt x="162" y="19"/>
                    </a:lnTo>
                    <a:lnTo>
                      <a:pt x="125" y="16"/>
                    </a:lnTo>
                    <a:lnTo>
                      <a:pt x="90" y="11"/>
                    </a:lnTo>
                    <a:lnTo>
                      <a:pt x="55" y="6"/>
                    </a:lnTo>
                    <a:lnTo>
                      <a:pt x="22" y="0"/>
                    </a:lnTo>
                    <a:lnTo>
                      <a:pt x="1" y="1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10" y="34"/>
                    </a:lnTo>
                    <a:lnTo>
                      <a:pt x="15" y="36"/>
                    </a:lnTo>
                    <a:lnTo>
                      <a:pt x="35" y="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65880" y="4069080"/>
                <a:ext cx="81000" cy="155520"/>
              </a:xfrm>
              <a:custGeom>
                <a:avLst/>
                <a:gdLst/>
                <a:ahLst/>
                <a:rect l="l" t="t" r="r" b="b"/>
                <a:pathLst>
                  <a:path w="253" h="488">
                    <a:moveTo>
                      <a:pt x="17" y="488"/>
                    </a:moveTo>
                    <a:lnTo>
                      <a:pt x="17" y="488"/>
                    </a:lnTo>
                    <a:lnTo>
                      <a:pt x="37" y="487"/>
                    </a:lnTo>
                    <a:lnTo>
                      <a:pt x="54" y="485"/>
                    </a:lnTo>
                    <a:lnTo>
                      <a:pt x="71" y="479"/>
                    </a:lnTo>
                    <a:lnTo>
                      <a:pt x="87" y="471"/>
                    </a:lnTo>
                    <a:lnTo>
                      <a:pt x="102" y="462"/>
                    </a:lnTo>
                    <a:lnTo>
                      <a:pt x="115" y="450"/>
                    </a:lnTo>
                    <a:lnTo>
                      <a:pt x="128" y="438"/>
                    </a:lnTo>
                    <a:lnTo>
                      <a:pt x="139" y="424"/>
                    </a:lnTo>
                    <a:lnTo>
                      <a:pt x="150" y="408"/>
                    </a:lnTo>
                    <a:lnTo>
                      <a:pt x="159" y="392"/>
                    </a:lnTo>
                    <a:lnTo>
                      <a:pt x="168" y="375"/>
                    </a:lnTo>
                    <a:lnTo>
                      <a:pt x="176" y="358"/>
                    </a:lnTo>
                    <a:lnTo>
                      <a:pt x="183" y="339"/>
                    </a:lnTo>
                    <a:lnTo>
                      <a:pt x="190" y="319"/>
                    </a:lnTo>
                    <a:lnTo>
                      <a:pt x="196" y="300"/>
                    </a:lnTo>
                    <a:lnTo>
                      <a:pt x="202" y="281"/>
                    </a:lnTo>
                    <a:lnTo>
                      <a:pt x="212" y="240"/>
                    </a:lnTo>
                    <a:lnTo>
                      <a:pt x="220" y="200"/>
                    </a:lnTo>
                    <a:lnTo>
                      <a:pt x="227" y="160"/>
                    </a:lnTo>
                    <a:lnTo>
                      <a:pt x="234" y="122"/>
                    </a:lnTo>
                    <a:lnTo>
                      <a:pt x="240" y="87"/>
                    </a:lnTo>
                    <a:lnTo>
                      <a:pt x="244" y="56"/>
                    </a:lnTo>
                    <a:lnTo>
                      <a:pt x="249" y="31"/>
                    </a:lnTo>
                    <a:lnTo>
                      <a:pt x="253" y="10"/>
                    </a:lnTo>
                    <a:lnTo>
                      <a:pt x="219" y="0"/>
                    </a:lnTo>
                    <a:lnTo>
                      <a:pt x="213" y="23"/>
                    </a:lnTo>
                    <a:lnTo>
                      <a:pt x="209" y="50"/>
                    </a:lnTo>
                    <a:lnTo>
                      <a:pt x="203" y="81"/>
                    </a:lnTo>
                    <a:lnTo>
                      <a:pt x="198" y="116"/>
                    </a:lnTo>
                    <a:lnTo>
                      <a:pt x="192" y="154"/>
                    </a:lnTo>
                    <a:lnTo>
                      <a:pt x="185" y="193"/>
                    </a:lnTo>
                    <a:lnTo>
                      <a:pt x="177" y="232"/>
                    </a:lnTo>
                    <a:lnTo>
                      <a:pt x="167" y="271"/>
                    </a:lnTo>
                    <a:lnTo>
                      <a:pt x="161" y="290"/>
                    </a:lnTo>
                    <a:lnTo>
                      <a:pt x="155" y="308"/>
                    </a:lnTo>
                    <a:lnTo>
                      <a:pt x="150" y="326"/>
                    </a:lnTo>
                    <a:lnTo>
                      <a:pt x="143" y="343"/>
                    </a:lnTo>
                    <a:lnTo>
                      <a:pt x="135" y="359"/>
                    </a:lnTo>
                    <a:lnTo>
                      <a:pt x="127" y="375"/>
                    </a:lnTo>
                    <a:lnTo>
                      <a:pt x="119" y="389"/>
                    </a:lnTo>
                    <a:lnTo>
                      <a:pt x="110" y="403"/>
                    </a:lnTo>
                    <a:lnTo>
                      <a:pt x="101" y="414"/>
                    </a:lnTo>
                    <a:lnTo>
                      <a:pt x="90" y="424"/>
                    </a:lnTo>
                    <a:lnTo>
                      <a:pt x="80" y="432"/>
                    </a:lnTo>
                    <a:lnTo>
                      <a:pt x="69" y="439"/>
                    </a:lnTo>
                    <a:lnTo>
                      <a:pt x="57" y="445"/>
                    </a:lnTo>
                    <a:lnTo>
                      <a:pt x="46" y="449"/>
                    </a:lnTo>
                    <a:lnTo>
                      <a:pt x="32" y="452"/>
                    </a:lnTo>
                    <a:lnTo>
                      <a:pt x="19" y="452"/>
                    </a:lnTo>
                    <a:lnTo>
                      <a:pt x="20" y="452"/>
                    </a:lnTo>
                    <a:lnTo>
                      <a:pt x="19" y="452"/>
                    </a:lnTo>
                    <a:lnTo>
                      <a:pt x="14" y="453"/>
                    </a:lnTo>
                    <a:lnTo>
                      <a:pt x="11" y="453"/>
                    </a:lnTo>
                    <a:lnTo>
                      <a:pt x="7" y="455"/>
                    </a:lnTo>
                    <a:lnTo>
                      <a:pt x="5" y="457"/>
                    </a:lnTo>
                    <a:lnTo>
                      <a:pt x="3" y="460"/>
                    </a:lnTo>
                    <a:lnTo>
                      <a:pt x="2" y="463"/>
                    </a:lnTo>
                    <a:lnTo>
                      <a:pt x="0" y="466"/>
                    </a:lnTo>
                    <a:lnTo>
                      <a:pt x="0" y="470"/>
                    </a:lnTo>
                    <a:lnTo>
                      <a:pt x="0" y="473"/>
                    </a:lnTo>
                    <a:lnTo>
                      <a:pt x="2" y="477"/>
                    </a:lnTo>
                    <a:lnTo>
                      <a:pt x="3" y="479"/>
                    </a:lnTo>
                    <a:lnTo>
                      <a:pt x="4" y="482"/>
                    </a:lnTo>
                    <a:lnTo>
                      <a:pt x="7" y="485"/>
                    </a:lnTo>
                    <a:lnTo>
                      <a:pt x="9" y="486"/>
                    </a:lnTo>
                    <a:lnTo>
                      <a:pt x="13" y="488"/>
                    </a:lnTo>
                    <a:lnTo>
                      <a:pt x="17" y="48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327720" y="4096080"/>
                <a:ext cx="47520" cy="128520"/>
              </a:xfrm>
              <a:custGeom>
                <a:avLst/>
                <a:gdLst/>
                <a:ahLst/>
                <a:rect l="l" t="t" r="r" b="b"/>
                <a:pathLst>
                  <a:path w="148" h="404">
                    <a:moveTo>
                      <a:pt x="94" y="48"/>
                    </a:moveTo>
                    <a:lnTo>
                      <a:pt x="95" y="48"/>
                    </a:lnTo>
                    <a:lnTo>
                      <a:pt x="109" y="42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15" y="32"/>
                    </a:lnTo>
                    <a:lnTo>
                      <a:pt x="112" y="28"/>
                    </a:lnTo>
                    <a:lnTo>
                      <a:pt x="111" y="26"/>
                    </a:lnTo>
                    <a:lnTo>
                      <a:pt x="111" y="23"/>
                    </a:lnTo>
                    <a:lnTo>
                      <a:pt x="110" y="28"/>
                    </a:lnTo>
                    <a:lnTo>
                      <a:pt x="108" y="35"/>
                    </a:lnTo>
                    <a:lnTo>
                      <a:pt x="80" y="86"/>
                    </a:lnTo>
                    <a:lnTo>
                      <a:pt x="42" y="156"/>
                    </a:lnTo>
                    <a:lnTo>
                      <a:pt x="33" y="175"/>
                    </a:lnTo>
                    <a:lnTo>
                      <a:pt x="25" y="194"/>
                    </a:lnTo>
                    <a:lnTo>
                      <a:pt x="17" y="214"/>
                    </a:lnTo>
                    <a:lnTo>
                      <a:pt x="10" y="233"/>
                    </a:lnTo>
                    <a:lnTo>
                      <a:pt x="4" y="252"/>
                    </a:lnTo>
                    <a:lnTo>
                      <a:pt x="1" y="272"/>
                    </a:lnTo>
                    <a:lnTo>
                      <a:pt x="0" y="291"/>
                    </a:lnTo>
                    <a:lnTo>
                      <a:pt x="1" y="309"/>
                    </a:lnTo>
                    <a:lnTo>
                      <a:pt x="3" y="320"/>
                    </a:lnTo>
                    <a:lnTo>
                      <a:pt x="5" y="328"/>
                    </a:lnTo>
                    <a:lnTo>
                      <a:pt x="9" y="337"/>
                    </a:lnTo>
                    <a:lnTo>
                      <a:pt x="13" y="346"/>
                    </a:lnTo>
                    <a:lnTo>
                      <a:pt x="19" y="354"/>
                    </a:lnTo>
                    <a:lnTo>
                      <a:pt x="25" y="362"/>
                    </a:lnTo>
                    <a:lnTo>
                      <a:pt x="31" y="369"/>
                    </a:lnTo>
                    <a:lnTo>
                      <a:pt x="41" y="376"/>
                    </a:lnTo>
                    <a:lnTo>
                      <a:pt x="49" y="381"/>
                    </a:lnTo>
                    <a:lnTo>
                      <a:pt x="59" y="386"/>
                    </a:lnTo>
                    <a:lnTo>
                      <a:pt x="69" y="390"/>
                    </a:lnTo>
                    <a:lnTo>
                      <a:pt x="82" y="395"/>
                    </a:lnTo>
                    <a:lnTo>
                      <a:pt x="94" y="398"/>
                    </a:lnTo>
                    <a:lnTo>
                      <a:pt x="107" y="401"/>
                    </a:lnTo>
                    <a:lnTo>
                      <a:pt x="122" y="403"/>
                    </a:lnTo>
                    <a:lnTo>
                      <a:pt x="137" y="404"/>
                    </a:lnTo>
                    <a:lnTo>
                      <a:pt x="140" y="368"/>
                    </a:lnTo>
                    <a:lnTo>
                      <a:pt x="126" y="366"/>
                    </a:lnTo>
                    <a:lnTo>
                      <a:pt x="114" y="365"/>
                    </a:lnTo>
                    <a:lnTo>
                      <a:pt x="102" y="363"/>
                    </a:lnTo>
                    <a:lnTo>
                      <a:pt x="92" y="360"/>
                    </a:lnTo>
                    <a:lnTo>
                      <a:pt x="83" y="356"/>
                    </a:lnTo>
                    <a:lnTo>
                      <a:pt x="75" y="353"/>
                    </a:lnTo>
                    <a:lnTo>
                      <a:pt x="68" y="349"/>
                    </a:lnTo>
                    <a:lnTo>
                      <a:pt x="61" y="346"/>
                    </a:lnTo>
                    <a:lnTo>
                      <a:pt x="57" y="341"/>
                    </a:lnTo>
                    <a:lnTo>
                      <a:pt x="52" y="337"/>
                    </a:lnTo>
                    <a:lnTo>
                      <a:pt x="47" y="332"/>
                    </a:lnTo>
                    <a:lnTo>
                      <a:pt x="45" y="328"/>
                    </a:lnTo>
                    <a:lnTo>
                      <a:pt x="42" y="322"/>
                    </a:lnTo>
                    <a:lnTo>
                      <a:pt x="39" y="317"/>
                    </a:lnTo>
                    <a:lnTo>
                      <a:pt x="38" y="311"/>
                    </a:lnTo>
                    <a:lnTo>
                      <a:pt x="37" y="306"/>
                    </a:lnTo>
                    <a:lnTo>
                      <a:pt x="36" y="291"/>
                    </a:lnTo>
                    <a:lnTo>
                      <a:pt x="37" y="276"/>
                    </a:lnTo>
                    <a:lnTo>
                      <a:pt x="41" y="260"/>
                    </a:lnTo>
                    <a:lnTo>
                      <a:pt x="45" y="243"/>
                    </a:lnTo>
                    <a:lnTo>
                      <a:pt x="51" y="226"/>
                    </a:lnTo>
                    <a:lnTo>
                      <a:pt x="58" y="208"/>
                    </a:lnTo>
                    <a:lnTo>
                      <a:pt x="66" y="190"/>
                    </a:lnTo>
                    <a:lnTo>
                      <a:pt x="75" y="173"/>
                    </a:lnTo>
                    <a:lnTo>
                      <a:pt x="112" y="104"/>
                    </a:lnTo>
                    <a:lnTo>
                      <a:pt x="141" y="52"/>
                    </a:lnTo>
                    <a:lnTo>
                      <a:pt x="145" y="39"/>
                    </a:lnTo>
                    <a:lnTo>
                      <a:pt x="148" y="30"/>
                    </a:lnTo>
                    <a:lnTo>
                      <a:pt x="148" y="22"/>
                    </a:lnTo>
                    <a:lnTo>
                      <a:pt x="147" y="15"/>
                    </a:lnTo>
                    <a:lnTo>
                      <a:pt x="141" y="7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3"/>
                    </a:lnTo>
                    <a:lnTo>
                      <a:pt x="93" y="8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7" y="16"/>
                    </a:lnTo>
                    <a:lnTo>
                      <a:pt x="74" y="19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8" y="28"/>
                    </a:lnTo>
                    <a:lnTo>
                      <a:pt x="68" y="31"/>
                    </a:lnTo>
                    <a:lnTo>
                      <a:pt x="68" y="35"/>
                    </a:lnTo>
                    <a:lnTo>
                      <a:pt x="69" y="38"/>
                    </a:lnTo>
                    <a:lnTo>
                      <a:pt x="70" y="42"/>
                    </a:lnTo>
                    <a:lnTo>
                      <a:pt x="73" y="44"/>
                    </a:lnTo>
                    <a:lnTo>
                      <a:pt x="75" y="46"/>
                    </a:lnTo>
                    <a:lnTo>
                      <a:pt x="77" y="48"/>
                    </a:lnTo>
                    <a:lnTo>
                      <a:pt x="80" y="49"/>
                    </a:lnTo>
                    <a:lnTo>
                      <a:pt x="84" y="51"/>
                    </a:lnTo>
                    <a:lnTo>
                      <a:pt x="87" y="51"/>
                    </a:lnTo>
                    <a:lnTo>
                      <a:pt x="91" y="51"/>
                    </a:lnTo>
                    <a:lnTo>
                      <a:pt x="95" y="48"/>
                    </a:lnTo>
                    <a:lnTo>
                      <a:pt x="94" y="4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308640" y="3964320"/>
                <a:ext cx="131760" cy="154080"/>
              </a:xfrm>
              <a:custGeom>
                <a:avLst/>
                <a:gdLst/>
                <a:ahLst/>
                <a:rect l="l" t="t" r="r" b="b"/>
                <a:pathLst>
                  <a:path w="416" h="483">
                    <a:moveTo>
                      <a:pt x="407" y="18"/>
                    </a:moveTo>
                    <a:lnTo>
                      <a:pt x="405" y="17"/>
                    </a:lnTo>
                    <a:lnTo>
                      <a:pt x="389" y="11"/>
                    </a:lnTo>
                    <a:lnTo>
                      <a:pt x="373" y="7"/>
                    </a:lnTo>
                    <a:lnTo>
                      <a:pt x="357" y="3"/>
                    </a:lnTo>
                    <a:lnTo>
                      <a:pt x="341" y="1"/>
                    </a:lnTo>
                    <a:lnTo>
                      <a:pt x="325" y="0"/>
                    </a:lnTo>
                    <a:lnTo>
                      <a:pt x="310" y="0"/>
                    </a:lnTo>
                    <a:lnTo>
                      <a:pt x="294" y="1"/>
                    </a:lnTo>
                    <a:lnTo>
                      <a:pt x="279" y="3"/>
                    </a:lnTo>
                    <a:lnTo>
                      <a:pt x="266" y="5"/>
                    </a:lnTo>
                    <a:lnTo>
                      <a:pt x="251" y="10"/>
                    </a:lnTo>
                    <a:lnTo>
                      <a:pt x="237" y="15"/>
                    </a:lnTo>
                    <a:lnTo>
                      <a:pt x="224" y="20"/>
                    </a:lnTo>
                    <a:lnTo>
                      <a:pt x="210" y="26"/>
                    </a:lnTo>
                    <a:lnTo>
                      <a:pt x="197" y="34"/>
                    </a:lnTo>
                    <a:lnTo>
                      <a:pt x="185" y="41"/>
                    </a:lnTo>
                    <a:lnTo>
                      <a:pt x="172" y="50"/>
                    </a:lnTo>
                    <a:lnTo>
                      <a:pt x="161" y="59"/>
                    </a:lnTo>
                    <a:lnTo>
                      <a:pt x="149" y="68"/>
                    </a:lnTo>
                    <a:lnTo>
                      <a:pt x="138" y="78"/>
                    </a:lnTo>
                    <a:lnTo>
                      <a:pt x="128" y="89"/>
                    </a:lnTo>
                    <a:lnTo>
                      <a:pt x="107" y="112"/>
                    </a:lnTo>
                    <a:lnTo>
                      <a:pt x="89" y="134"/>
                    </a:lnTo>
                    <a:lnTo>
                      <a:pt x="72" y="159"/>
                    </a:lnTo>
                    <a:lnTo>
                      <a:pt x="57" y="186"/>
                    </a:lnTo>
                    <a:lnTo>
                      <a:pt x="43" y="212"/>
                    </a:lnTo>
                    <a:lnTo>
                      <a:pt x="31" y="238"/>
                    </a:lnTo>
                    <a:lnTo>
                      <a:pt x="22" y="264"/>
                    </a:lnTo>
                    <a:lnTo>
                      <a:pt x="13" y="290"/>
                    </a:lnTo>
                    <a:lnTo>
                      <a:pt x="7" y="317"/>
                    </a:lnTo>
                    <a:lnTo>
                      <a:pt x="2" y="342"/>
                    </a:lnTo>
                    <a:lnTo>
                      <a:pt x="0" y="366"/>
                    </a:lnTo>
                    <a:lnTo>
                      <a:pt x="0" y="387"/>
                    </a:lnTo>
                    <a:lnTo>
                      <a:pt x="1" y="399"/>
                    </a:lnTo>
                    <a:lnTo>
                      <a:pt x="2" y="409"/>
                    </a:lnTo>
                    <a:lnTo>
                      <a:pt x="5" y="419"/>
                    </a:lnTo>
                    <a:lnTo>
                      <a:pt x="8" y="430"/>
                    </a:lnTo>
                    <a:lnTo>
                      <a:pt x="12" y="439"/>
                    </a:lnTo>
                    <a:lnTo>
                      <a:pt x="16" y="447"/>
                    </a:lnTo>
                    <a:lnTo>
                      <a:pt x="22" y="455"/>
                    </a:lnTo>
                    <a:lnTo>
                      <a:pt x="28" y="461"/>
                    </a:lnTo>
                    <a:lnTo>
                      <a:pt x="35" y="468"/>
                    </a:lnTo>
                    <a:lnTo>
                      <a:pt x="43" y="474"/>
                    </a:lnTo>
                    <a:lnTo>
                      <a:pt x="53" y="477"/>
                    </a:lnTo>
                    <a:lnTo>
                      <a:pt x="62" y="481"/>
                    </a:lnTo>
                    <a:lnTo>
                      <a:pt x="72" y="482"/>
                    </a:lnTo>
                    <a:lnTo>
                      <a:pt x="82" y="483"/>
                    </a:lnTo>
                    <a:lnTo>
                      <a:pt x="94" y="482"/>
                    </a:lnTo>
                    <a:lnTo>
                      <a:pt x="105" y="480"/>
                    </a:lnTo>
                    <a:lnTo>
                      <a:pt x="118" y="476"/>
                    </a:lnTo>
                    <a:lnTo>
                      <a:pt x="129" y="473"/>
                    </a:lnTo>
                    <a:lnTo>
                      <a:pt x="143" y="467"/>
                    </a:lnTo>
                    <a:lnTo>
                      <a:pt x="155" y="460"/>
                    </a:lnTo>
                    <a:lnTo>
                      <a:pt x="139" y="428"/>
                    </a:lnTo>
                    <a:lnTo>
                      <a:pt x="127" y="434"/>
                    </a:lnTo>
                    <a:lnTo>
                      <a:pt x="116" y="439"/>
                    </a:lnTo>
                    <a:lnTo>
                      <a:pt x="106" y="442"/>
                    </a:lnTo>
                    <a:lnTo>
                      <a:pt x="97" y="444"/>
                    </a:lnTo>
                    <a:lnTo>
                      <a:pt x="89" y="446"/>
                    </a:lnTo>
                    <a:lnTo>
                      <a:pt x="82" y="447"/>
                    </a:lnTo>
                    <a:lnTo>
                      <a:pt x="75" y="447"/>
                    </a:lnTo>
                    <a:lnTo>
                      <a:pt x="70" y="446"/>
                    </a:lnTo>
                    <a:lnTo>
                      <a:pt x="65" y="443"/>
                    </a:lnTo>
                    <a:lnTo>
                      <a:pt x="61" y="442"/>
                    </a:lnTo>
                    <a:lnTo>
                      <a:pt x="57" y="440"/>
                    </a:lnTo>
                    <a:lnTo>
                      <a:pt x="54" y="436"/>
                    </a:lnTo>
                    <a:lnTo>
                      <a:pt x="50" y="433"/>
                    </a:lnTo>
                    <a:lnTo>
                      <a:pt x="47" y="428"/>
                    </a:lnTo>
                    <a:lnTo>
                      <a:pt x="45" y="423"/>
                    </a:lnTo>
                    <a:lnTo>
                      <a:pt x="42" y="417"/>
                    </a:lnTo>
                    <a:lnTo>
                      <a:pt x="40" y="410"/>
                    </a:lnTo>
                    <a:lnTo>
                      <a:pt x="39" y="403"/>
                    </a:lnTo>
                    <a:lnTo>
                      <a:pt x="38" y="395"/>
                    </a:lnTo>
                    <a:lnTo>
                      <a:pt x="37" y="386"/>
                    </a:lnTo>
                    <a:lnTo>
                      <a:pt x="37" y="367"/>
                    </a:lnTo>
                    <a:lnTo>
                      <a:pt x="39" y="346"/>
                    </a:lnTo>
                    <a:lnTo>
                      <a:pt x="42" y="324"/>
                    </a:lnTo>
                    <a:lnTo>
                      <a:pt x="48" y="301"/>
                    </a:lnTo>
                    <a:lnTo>
                      <a:pt x="56" y="277"/>
                    </a:lnTo>
                    <a:lnTo>
                      <a:pt x="65" y="252"/>
                    </a:lnTo>
                    <a:lnTo>
                      <a:pt x="75" y="228"/>
                    </a:lnTo>
                    <a:lnTo>
                      <a:pt x="88" y="203"/>
                    </a:lnTo>
                    <a:lnTo>
                      <a:pt x="103" y="179"/>
                    </a:lnTo>
                    <a:lnTo>
                      <a:pt x="119" y="156"/>
                    </a:lnTo>
                    <a:lnTo>
                      <a:pt x="136" y="134"/>
                    </a:lnTo>
                    <a:lnTo>
                      <a:pt x="154" y="114"/>
                    </a:lnTo>
                    <a:lnTo>
                      <a:pt x="163" y="105"/>
                    </a:lnTo>
                    <a:lnTo>
                      <a:pt x="173" y="96"/>
                    </a:lnTo>
                    <a:lnTo>
                      <a:pt x="184" y="88"/>
                    </a:lnTo>
                    <a:lnTo>
                      <a:pt x="194" y="78"/>
                    </a:lnTo>
                    <a:lnTo>
                      <a:pt x="204" y="72"/>
                    </a:lnTo>
                    <a:lnTo>
                      <a:pt x="216" y="65"/>
                    </a:lnTo>
                    <a:lnTo>
                      <a:pt x="227" y="59"/>
                    </a:lnTo>
                    <a:lnTo>
                      <a:pt x="238" y="53"/>
                    </a:lnTo>
                    <a:lnTo>
                      <a:pt x="250" y="49"/>
                    </a:lnTo>
                    <a:lnTo>
                      <a:pt x="261" y="44"/>
                    </a:lnTo>
                    <a:lnTo>
                      <a:pt x="274" y="41"/>
                    </a:lnTo>
                    <a:lnTo>
                      <a:pt x="286" y="39"/>
                    </a:lnTo>
                    <a:lnTo>
                      <a:pt x="299" y="37"/>
                    </a:lnTo>
                    <a:lnTo>
                      <a:pt x="311" y="36"/>
                    </a:lnTo>
                    <a:lnTo>
                      <a:pt x="324" y="36"/>
                    </a:lnTo>
                    <a:lnTo>
                      <a:pt x="336" y="37"/>
                    </a:lnTo>
                    <a:lnTo>
                      <a:pt x="350" y="39"/>
                    </a:lnTo>
                    <a:lnTo>
                      <a:pt x="364" y="42"/>
                    </a:lnTo>
                    <a:lnTo>
                      <a:pt x="377" y="45"/>
                    </a:lnTo>
                    <a:lnTo>
                      <a:pt x="392" y="51"/>
                    </a:lnTo>
                    <a:lnTo>
                      <a:pt x="389" y="50"/>
                    </a:lnTo>
                    <a:lnTo>
                      <a:pt x="392" y="51"/>
                    </a:lnTo>
                    <a:lnTo>
                      <a:pt x="396" y="52"/>
                    </a:lnTo>
                    <a:lnTo>
                      <a:pt x="400" y="52"/>
                    </a:lnTo>
                    <a:lnTo>
                      <a:pt x="404" y="52"/>
                    </a:lnTo>
                    <a:lnTo>
                      <a:pt x="406" y="51"/>
                    </a:lnTo>
                    <a:lnTo>
                      <a:pt x="409" y="49"/>
                    </a:lnTo>
                    <a:lnTo>
                      <a:pt x="412" y="47"/>
                    </a:lnTo>
                    <a:lnTo>
                      <a:pt x="414" y="43"/>
                    </a:lnTo>
                    <a:lnTo>
                      <a:pt x="415" y="41"/>
                    </a:lnTo>
                    <a:lnTo>
                      <a:pt x="416" y="37"/>
                    </a:lnTo>
                    <a:lnTo>
                      <a:pt x="416" y="34"/>
                    </a:lnTo>
                    <a:lnTo>
                      <a:pt x="416" y="31"/>
                    </a:lnTo>
                    <a:lnTo>
                      <a:pt x="415" y="27"/>
                    </a:lnTo>
                    <a:lnTo>
                      <a:pt x="414" y="24"/>
                    </a:lnTo>
                    <a:lnTo>
                      <a:pt x="412" y="21"/>
                    </a:lnTo>
                    <a:lnTo>
                      <a:pt x="408" y="19"/>
                    </a:lnTo>
                    <a:lnTo>
                      <a:pt x="405" y="17"/>
                    </a:lnTo>
                    <a:lnTo>
                      <a:pt x="407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32480" y="39704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113" h="55">
                    <a:moveTo>
                      <a:pt x="109" y="43"/>
                    </a:moveTo>
                    <a:lnTo>
                      <a:pt x="93" y="15"/>
                    </a:lnTo>
                    <a:lnTo>
                      <a:pt x="78" y="17"/>
                    </a:lnTo>
                    <a:lnTo>
                      <a:pt x="68" y="18"/>
                    </a:lnTo>
                    <a:lnTo>
                      <a:pt x="61" y="19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7" y="15"/>
                    </a:lnTo>
                    <a:lnTo>
                      <a:pt x="35" y="9"/>
                    </a:lnTo>
                    <a:lnTo>
                      <a:pt x="18" y="0"/>
                    </a:lnTo>
                    <a:lnTo>
                      <a:pt x="0" y="32"/>
                    </a:lnTo>
                    <a:lnTo>
                      <a:pt x="18" y="41"/>
                    </a:lnTo>
                    <a:lnTo>
                      <a:pt x="31" y="48"/>
                    </a:lnTo>
                    <a:lnTo>
                      <a:pt x="42" y="52"/>
                    </a:lnTo>
                    <a:lnTo>
                      <a:pt x="52" y="55"/>
                    </a:lnTo>
                    <a:lnTo>
                      <a:pt x="62" y="55"/>
                    </a:lnTo>
                    <a:lnTo>
                      <a:pt x="73" y="55"/>
                    </a:lnTo>
                    <a:lnTo>
                      <a:pt x="82" y="52"/>
                    </a:lnTo>
                    <a:lnTo>
                      <a:pt x="96" y="51"/>
                    </a:lnTo>
                    <a:lnTo>
                      <a:pt x="78" y="24"/>
                    </a:lnTo>
                    <a:lnTo>
                      <a:pt x="96" y="51"/>
                    </a:lnTo>
                    <a:lnTo>
                      <a:pt x="100" y="50"/>
                    </a:lnTo>
                    <a:lnTo>
                      <a:pt x="103" y="49"/>
                    </a:lnTo>
                    <a:lnTo>
                      <a:pt x="106" y="47"/>
                    </a:lnTo>
                    <a:lnTo>
                      <a:pt x="109" y="44"/>
                    </a:lnTo>
                    <a:lnTo>
                      <a:pt x="110" y="42"/>
                    </a:lnTo>
                    <a:lnTo>
                      <a:pt x="111" y="39"/>
                    </a:lnTo>
                    <a:lnTo>
                      <a:pt x="113" y="35"/>
                    </a:lnTo>
                    <a:lnTo>
                      <a:pt x="113" y="32"/>
                    </a:lnTo>
                    <a:lnTo>
                      <a:pt x="111" y="29"/>
                    </a:lnTo>
                    <a:lnTo>
                      <a:pt x="110" y="25"/>
                    </a:lnTo>
                    <a:lnTo>
                      <a:pt x="109" y="23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101" y="16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443640" y="397836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75" h="93">
                    <a:moveTo>
                      <a:pt x="30" y="90"/>
                    </a:moveTo>
                    <a:lnTo>
                      <a:pt x="34" y="84"/>
                    </a:lnTo>
                    <a:lnTo>
                      <a:pt x="75" y="19"/>
                    </a:lnTo>
                    <a:lnTo>
                      <a:pt x="44" y="0"/>
                    </a:lnTo>
                    <a:lnTo>
                      <a:pt x="3" y="65"/>
                    </a:lnTo>
                    <a:lnTo>
                      <a:pt x="30" y="90"/>
                    </a:lnTo>
                    <a:lnTo>
                      <a:pt x="3" y="65"/>
                    </a:lnTo>
                    <a:lnTo>
                      <a:pt x="1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1" y="80"/>
                    </a:lnTo>
                    <a:lnTo>
                      <a:pt x="2" y="83"/>
                    </a:lnTo>
                    <a:lnTo>
                      <a:pt x="3" y="85"/>
                    </a:lnTo>
                    <a:lnTo>
                      <a:pt x="6" y="89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5" y="93"/>
                    </a:lnTo>
                    <a:lnTo>
                      <a:pt x="18" y="93"/>
                    </a:lnTo>
                    <a:lnTo>
                      <a:pt x="22" y="93"/>
                    </a:lnTo>
                    <a:lnTo>
                      <a:pt x="25" y="92"/>
                    </a:lnTo>
                    <a:lnTo>
                      <a:pt x="28" y="91"/>
                    </a:lnTo>
                    <a:lnTo>
                      <a:pt x="31" y="88"/>
                    </a:lnTo>
                    <a:lnTo>
                      <a:pt x="34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445080" y="393264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304" h="234">
                    <a:moveTo>
                      <a:pt x="304" y="19"/>
                    </a:moveTo>
                    <a:lnTo>
                      <a:pt x="276" y="4"/>
                    </a:lnTo>
                    <a:lnTo>
                      <a:pt x="0" y="204"/>
                    </a:lnTo>
                    <a:lnTo>
                      <a:pt x="22" y="234"/>
                    </a:lnTo>
                    <a:lnTo>
                      <a:pt x="296" y="33"/>
                    </a:lnTo>
                    <a:lnTo>
                      <a:pt x="304" y="19"/>
                    </a:lnTo>
                    <a:lnTo>
                      <a:pt x="296" y="33"/>
                    </a:lnTo>
                    <a:lnTo>
                      <a:pt x="300" y="30"/>
                    </a:lnTo>
                    <a:lnTo>
                      <a:pt x="302" y="27"/>
                    </a:lnTo>
                    <a:lnTo>
                      <a:pt x="303" y="23"/>
                    </a:lnTo>
                    <a:lnTo>
                      <a:pt x="304" y="21"/>
                    </a:lnTo>
                    <a:lnTo>
                      <a:pt x="304" y="17"/>
                    </a:lnTo>
                    <a:lnTo>
                      <a:pt x="303" y="14"/>
                    </a:lnTo>
                    <a:lnTo>
                      <a:pt x="302" y="11"/>
                    </a:lnTo>
                    <a:lnTo>
                      <a:pt x="301" y="7"/>
                    </a:lnTo>
                    <a:lnTo>
                      <a:pt x="299" y="5"/>
                    </a:lnTo>
                    <a:lnTo>
                      <a:pt x="296" y="3"/>
                    </a:lnTo>
                    <a:lnTo>
                      <a:pt x="293" y="1"/>
                    </a:lnTo>
                    <a:lnTo>
                      <a:pt x="289" y="0"/>
                    </a:lnTo>
                    <a:lnTo>
                      <a:pt x="286" y="0"/>
                    </a:lnTo>
                    <a:lnTo>
                      <a:pt x="283" y="0"/>
                    </a:lnTo>
                    <a:lnTo>
                      <a:pt x="279" y="1"/>
                    </a:lnTo>
                    <a:lnTo>
                      <a:pt x="276" y="4"/>
                    </a:lnTo>
                    <a:lnTo>
                      <a:pt x="304" y="1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31120" y="3938760"/>
                <a:ext cx="10800" cy="52560"/>
              </a:xfrm>
              <a:custGeom>
                <a:avLst/>
                <a:gdLst/>
                <a:ahLst/>
                <a:rect l="l" t="t" r="r" b="b"/>
                <a:pathLst>
                  <a:path w="38" h="165">
                    <a:moveTo>
                      <a:pt x="31" y="159"/>
                    </a:moveTo>
                    <a:lnTo>
                      <a:pt x="36" y="147"/>
                    </a:lnTo>
                    <a:lnTo>
                      <a:pt x="36" y="128"/>
                    </a:lnTo>
                    <a:lnTo>
                      <a:pt x="37" y="110"/>
                    </a:lnTo>
                    <a:lnTo>
                      <a:pt x="37" y="92"/>
                    </a:lnTo>
                    <a:lnTo>
                      <a:pt x="37" y="74"/>
                    </a:lnTo>
                    <a:lnTo>
                      <a:pt x="37" y="54"/>
                    </a:lnTo>
                    <a:lnTo>
                      <a:pt x="38" y="36"/>
                    </a:lnTo>
                    <a:lnTo>
                      <a:pt x="38" y="18"/>
                    </a:lnTo>
                    <a:lnTo>
                      <a:pt x="38" y="0"/>
                    </a:lnTo>
                    <a:lnTo>
                      <a:pt x="2" y="0"/>
                    </a:lnTo>
                    <a:lnTo>
                      <a:pt x="2" y="18"/>
                    </a:lnTo>
                    <a:lnTo>
                      <a:pt x="2" y="36"/>
                    </a:lnTo>
                    <a:lnTo>
                      <a:pt x="2" y="54"/>
                    </a:lnTo>
                    <a:lnTo>
                      <a:pt x="1" y="73"/>
                    </a:lnTo>
                    <a:lnTo>
                      <a:pt x="1" y="91"/>
                    </a:lnTo>
                    <a:lnTo>
                      <a:pt x="1" y="110"/>
                    </a:lnTo>
                    <a:lnTo>
                      <a:pt x="1" y="128"/>
                    </a:lnTo>
                    <a:lnTo>
                      <a:pt x="0" y="147"/>
                    </a:lnTo>
                    <a:lnTo>
                      <a:pt x="5" y="134"/>
                    </a:lnTo>
                    <a:lnTo>
                      <a:pt x="0" y="147"/>
                    </a:lnTo>
                    <a:lnTo>
                      <a:pt x="1" y="151"/>
                    </a:lnTo>
                    <a:lnTo>
                      <a:pt x="2" y="155"/>
                    </a:lnTo>
                    <a:lnTo>
                      <a:pt x="3" y="158"/>
                    </a:lnTo>
                    <a:lnTo>
                      <a:pt x="5" y="160"/>
                    </a:lnTo>
                    <a:lnTo>
                      <a:pt x="9" y="163"/>
                    </a:lnTo>
                    <a:lnTo>
                      <a:pt x="12" y="164"/>
                    </a:lnTo>
                    <a:lnTo>
                      <a:pt x="14" y="165"/>
                    </a:lnTo>
                    <a:lnTo>
                      <a:pt x="18" y="165"/>
                    </a:lnTo>
                    <a:lnTo>
                      <a:pt x="21" y="165"/>
                    </a:lnTo>
                    <a:lnTo>
                      <a:pt x="25" y="164"/>
                    </a:lnTo>
                    <a:lnTo>
                      <a:pt x="28" y="163"/>
                    </a:lnTo>
                    <a:lnTo>
                      <a:pt x="30" y="160"/>
                    </a:lnTo>
                    <a:lnTo>
                      <a:pt x="33" y="158"/>
                    </a:lnTo>
                    <a:lnTo>
                      <a:pt x="35" y="155"/>
                    </a:lnTo>
                    <a:lnTo>
                      <a:pt x="36" y="151"/>
                    </a:lnTo>
                    <a:lnTo>
                      <a:pt x="36" y="147"/>
                    </a:lnTo>
                    <a:lnTo>
                      <a:pt x="31" y="15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480000" y="398160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189" h="195">
                    <a:moveTo>
                      <a:pt x="25" y="194"/>
                    </a:moveTo>
                    <a:lnTo>
                      <a:pt x="32" y="189"/>
                    </a:lnTo>
                    <a:lnTo>
                      <a:pt x="189" y="25"/>
                    </a:lnTo>
                    <a:lnTo>
                      <a:pt x="163" y="0"/>
                    </a:lnTo>
                    <a:lnTo>
                      <a:pt x="6" y="164"/>
                    </a:lnTo>
                    <a:lnTo>
                      <a:pt x="25" y="194"/>
                    </a:lnTo>
                    <a:lnTo>
                      <a:pt x="6" y="164"/>
                    </a:lnTo>
                    <a:lnTo>
                      <a:pt x="3" y="168"/>
                    </a:lnTo>
                    <a:lnTo>
                      <a:pt x="1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1"/>
                    </a:lnTo>
                    <a:lnTo>
                      <a:pt x="3" y="185"/>
                    </a:lnTo>
                    <a:lnTo>
                      <a:pt x="4" y="187"/>
                    </a:lnTo>
                    <a:lnTo>
                      <a:pt x="6" y="190"/>
                    </a:lnTo>
                    <a:lnTo>
                      <a:pt x="8" y="193"/>
                    </a:lnTo>
                    <a:lnTo>
                      <a:pt x="12" y="194"/>
                    </a:lnTo>
                    <a:lnTo>
                      <a:pt x="15" y="195"/>
                    </a:lnTo>
                    <a:lnTo>
                      <a:pt x="18" y="195"/>
                    </a:lnTo>
                    <a:lnTo>
                      <a:pt x="22" y="195"/>
                    </a:lnTo>
                    <a:lnTo>
                      <a:pt x="25" y="194"/>
                    </a:lnTo>
                    <a:lnTo>
                      <a:pt x="29" y="193"/>
                    </a:lnTo>
                    <a:lnTo>
                      <a:pt x="32" y="189"/>
                    </a:lnTo>
                    <a:lnTo>
                      <a:pt x="25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85040" y="402156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178" h="65">
                    <a:moveTo>
                      <a:pt x="178" y="18"/>
                    </a:moveTo>
                    <a:lnTo>
                      <a:pt x="159" y="0"/>
                    </a:lnTo>
                    <a:lnTo>
                      <a:pt x="140" y="1"/>
                    </a:lnTo>
                    <a:lnTo>
                      <a:pt x="119" y="3"/>
                    </a:lnTo>
                    <a:lnTo>
                      <a:pt x="100" y="6"/>
                    </a:lnTo>
                    <a:lnTo>
                      <a:pt x="80" y="9"/>
                    </a:lnTo>
                    <a:lnTo>
                      <a:pt x="60" y="14"/>
                    </a:lnTo>
                    <a:lnTo>
                      <a:pt x="40" y="18"/>
                    </a:lnTo>
                    <a:lnTo>
                      <a:pt x="19" y="24"/>
                    </a:lnTo>
                    <a:lnTo>
                      <a:pt x="0" y="31"/>
                    </a:lnTo>
                    <a:lnTo>
                      <a:pt x="12" y="65"/>
                    </a:lnTo>
                    <a:lnTo>
                      <a:pt x="31" y="59"/>
                    </a:lnTo>
                    <a:lnTo>
                      <a:pt x="49" y="53"/>
                    </a:lnTo>
                    <a:lnTo>
                      <a:pt x="68" y="49"/>
                    </a:lnTo>
                    <a:lnTo>
                      <a:pt x="86" y="44"/>
                    </a:lnTo>
                    <a:lnTo>
                      <a:pt x="105" y="42"/>
                    </a:lnTo>
                    <a:lnTo>
                      <a:pt x="124" y="40"/>
                    </a:lnTo>
                    <a:lnTo>
                      <a:pt x="142" y="38"/>
                    </a:lnTo>
                    <a:lnTo>
                      <a:pt x="160" y="36"/>
                    </a:lnTo>
                    <a:lnTo>
                      <a:pt x="141" y="18"/>
                    </a:lnTo>
                    <a:lnTo>
                      <a:pt x="160" y="36"/>
                    </a:lnTo>
                    <a:lnTo>
                      <a:pt x="165" y="36"/>
                    </a:lnTo>
                    <a:lnTo>
                      <a:pt x="168" y="35"/>
                    </a:lnTo>
                    <a:lnTo>
                      <a:pt x="171" y="33"/>
                    </a:lnTo>
                    <a:lnTo>
                      <a:pt x="174" y="31"/>
                    </a:lnTo>
                    <a:lnTo>
                      <a:pt x="175" y="27"/>
                    </a:lnTo>
                    <a:lnTo>
                      <a:pt x="176" y="25"/>
                    </a:lnTo>
                    <a:lnTo>
                      <a:pt x="178" y="22"/>
                    </a:lnTo>
                    <a:lnTo>
                      <a:pt x="178" y="18"/>
                    </a:lnTo>
                    <a:lnTo>
                      <a:pt x="178" y="15"/>
                    </a:lnTo>
                    <a:lnTo>
                      <a:pt x="176" y="11"/>
                    </a:lnTo>
                    <a:lnTo>
                      <a:pt x="175" y="8"/>
                    </a:lnTo>
                    <a:lnTo>
                      <a:pt x="173" y="6"/>
                    </a:lnTo>
                    <a:lnTo>
                      <a:pt x="171" y="3"/>
                    </a:lnTo>
                    <a:lnTo>
                      <a:pt x="167" y="2"/>
                    </a:lnTo>
                    <a:lnTo>
                      <a:pt x="164" y="1"/>
                    </a:lnTo>
                    <a:lnTo>
                      <a:pt x="159" y="0"/>
                    </a:lnTo>
                    <a:lnTo>
                      <a:pt x="178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612880" y="3932640"/>
                <a:ext cx="157320" cy="311040"/>
              </a:xfrm>
              <a:custGeom>
                <a:avLst/>
                <a:gdLst/>
                <a:ahLst/>
                <a:rect l="l" t="t" r="r" b="b"/>
                <a:pathLst>
                  <a:path w="495" h="981">
                    <a:moveTo>
                      <a:pt x="6" y="294"/>
                    </a:moveTo>
                    <a:lnTo>
                      <a:pt x="5" y="270"/>
                    </a:lnTo>
                    <a:lnTo>
                      <a:pt x="4" y="245"/>
                    </a:lnTo>
                    <a:lnTo>
                      <a:pt x="3" y="221"/>
                    </a:lnTo>
                    <a:lnTo>
                      <a:pt x="3" y="197"/>
                    </a:lnTo>
                    <a:lnTo>
                      <a:pt x="2" y="172"/>
                    </a:lnTo>
                    <a:lnTo>
                      <a:pt x="1" y="148"/>
                    </a:lnTo>
                    <a:lnTo>
                      <a:pt x="1" y="124"/>
                    </a:lnTo>
                    <a:lnTo>
                      <a:pt x="0" y="101"/>
                    </a:lnTo>
                    <a:lnTo>
                      <a:pt x="1" y="106"/>
                    </a:lnTo>
                    <a:lnTo>
                      <a:pt x="2" y="112"/>
                    </a:lnTo>
                    <a:lnTo>
                      <a:pt x="3" y="116"/>
                    </a:lnTo>
                    <a:lnTo>
                      <a:pt x="4" y="122"/>
                    </a:lnTo>
                    <a:lnTo>
                      <a:pt x="5" y="129"/>
                    </a:lnTo>
                    <a:lnTo>
                      <a:pt x="6" y="135"/>
                    </a:lnTo>
                    <a:lnTo>
                      <a:pt x="8" y="142"/>
                    </a:lnTo>
                    <a:lnTo>
                      <a:pt x="9" y="147"/>
                    </a:lnTo>
                    <a:lnTo>
                      <a:pt x="12" y="194"/>
                    </a:lnTo>
                    <a:lnTo>
                      <a:pt x="16" y="222"/>
                    </a:lnTo>
                    <a:lnTo>
                      <a:pt x="17" y="230"/>
                    </a:lnTo>
                    <a:lnTo>
                      <a:pt x="18" y="234"/>
                    </a:lnTo>
                    <a:lnTo>
                      <a:pt x="20" y="235"/>
                    </a:lnTo>
                    <a:lnTo>
                      <a:pt x="21" y="233"/>
                    </a:lnTo>
                    <a:lnTo>
                      <a:pt x="29" y="197"/>
                    </a:lnTo>
                    <a:lnTo>
                      <a:pt x="44" y="137"/>
                    </a:lnTo>
                    <a:lnTo>
                      <a:pt x="49" y="121"/>
                    </a:lnTo>
                    <a:lnTo>
                      <a:pt x="55" y="104"/>
                    </a:lnTo>
                    <a:lnTo>
                      <a:pt x="62" y="87"/>
                    </a:lnTo>
                    <a:lnTo>
                      <a:pt x="69" y="71"/>
                    </a:lnTo>
                    <a:lnTo>
                      <a:pt x="78" y="56"/>
                    </a:lnTo>
                    <a:lnTo>
                      <a:pt x="89" y="42"/>
                    </a:lnTo>
                    <a:lnTo>
                      <a:pt x="99" y="30"/>
                    </a:lnTo>
                    <a:lnTo>
                      <a:pt x="111" y="20"/>
                    </a:lnTo>
                    <a:lnTo>
                      <a:pt x="125" y="10"/>
                    </a:lnTo>
                    <a:lnTo>
                      <a:pt x="140" y="5"/>
                    </a:lnTo>
                    <a:lnTo>
                      <a:pt x="156" y="1"/>
                    </a:lnTo>
                    <a:lnTo>
                      <a:pt x="173" y="0"/>
                    </a:lnTo>
                    <a:lnTo>
                      <a:pt x="192" y="4"/>
                    </a:lnTo>
                    <a:lnTo>
                      <a:pt x="213" y="9"/>
                    </a:lnTo>
                    <a:lnTo>
                      <a:pt x="236" y="21"/>
                    </a:lnTo>
                    <a:lnTo>
                      <a:pt x="259" y="34"/>
                    </a:lnTo>
                    <a:lnTo>
                      <a:pt x="232" y="74"/>
                    </a:lnTo>
                    <a:lnTo>
                      <a:pt x="205" y="113"/>
                    </a:lnTo>
                    <a:lnTo>
                      <a:pt x="176" y="151"/>
                    </a:lnTo>
                    <a:lnTo>
                      <a:pt x="148" y="187"/>
                    </a:lnTo>
                    <a:lnTo>
                      <a:pt x="132" y="204"/>
                    </a:lnTo>
                    <a:lnTo>
                      <a:pt x="116" y="220"/>
                    </a:lnTo>
                    <a:lnTo>
                      <a:pt x="100" y="235"/>
                    </a:lnTo>
                    <a:lnTo>
                      <a:pt x="83" y="249"/>
                    </a:lnTo>
                    <a:lnTo>
                      <a:pt x="65" y="262"/>
                    </a:lnTo>
                    <a:lnTo>
                      <a:pt x="46" y="275"/>
                    </a:lnTo>
                    <a:lnTo>
                      <a:pt x="27" y="285"/>
                    </a:lnTo>
                    <a:lnTo>
                      <a:pt x="6" y="294"/>
                    </a:lnTo>
                    <a:close/>
                    <a:moveTo>
                      <a:pt x="16" y="507"/>
                    </a:moveTo>
                    <a:lnTo>
                      <a:pt x="14" y="482"/>
                    </a:lnTo>
                    <a:lnTo>
                      <a:pt x="12" y="456"/>
                    </a:lnTo>
                    <a:lnTo>
                      <a:pt x="11" y="431"/>
                    </a:lnTo>
                    <a:lnTo>
                      <a:pt x="10" y="405"/>
                    </a:lnTo>
                    <a:lnTo>
                      <a:pt x="9" y="380"/>
                    </a:lnTo>
                    <a:lnTo>
                      <a:pt x="9" y="354"/>
                    </a:lnTo>
                    <a:lnTo>
                      <a:pt x="8" y="327"/>
                    </a:lnTo>
                    <a:lnTo>
                      <a:pt x="6" y="301"/>
                    </a:lnTo>
                    <a:lnTo>
                      <a:pt x="35" y="306"/>
                    </a:lnTo>
                    <a:lnTo>
                      <a:pt x="65" y="308"/>
                    </a:lnTo>
                    <a:lnTo>
                      <a:pt x="94" y="309"/>
                    </a:lnTo>
                    <a:lnTo>
                      <a:pt x="125" y="309"/>
                    </a:lnTo>
                    <a:lnTo>
                      <a:pt x="188" y="308"/>
                    </a:lnTo>
                    <a:lnTo>
                      <a:pt x="250" y="308"/>
                    </a:lnTo>
                    <a:lnTo>
                      <a:pt x="282" y="308"/>
                    </a:lnTo>
                    <a:lnTo>
                      <a:pt x="313" y="310"/>
                    </a:lnTo>
                    <a:lnTo>
                      <a:pt x="345" y="314"/>
                    </a:lnTo>
                    <a:lnTo>
                      <a:pt x="376" y="319"/>
                    </a:lnTo>
                    <a:lnTo>
                      <a:pt x="391" y="323"/>
                    </a:lnTo>
                    <a:lnTo>
                      <a:pt x="406" y="327"/>
                    </a:lnTo>
                    <a:lnTo>
                      <a:pt x="421" y="332"/>
                    </a:lnTo>
                    <a:lnTo>
                      <a:pt x="436" y="338"/>
                    </a:lnTo>
                    <a:lnTo>
                      <a:pt x="451" y="344"/>
                    </a:lnTo>
                    <a:lnTo>
                      <a:pt x="466" y="351"/>
                    </a:lnTo>
                    <a:lnTo>
                      <a:pt x="481" y="360"/>
                    </a:lnTo>
                    <a:lnTo>
                      <a:pt x="495" y="370"/>
                    </a:lnTo>
                    <a:lnTo>
                      <a:pt x="487" y="380"/>
                    </a:lnTo>
                    <a:lnTo>
                      <a:pt x="478" y="391"/>
                    </a:lnTo>
                    <a:lnTo>
                      <a:pt x="468" y="401"/>
                    </a:lnTo>
                    <a:lnTo>
                      <a:pt x="457" y="413"/>
                    </a:lnTo>
                    <a:lnTo>
                      <a:pt x="445" y="423"/>
                    </a:lnTo>
                    <a:lnTo>
                      <a:pt x="433" y="433"/>
                    </a:lnTo>
                    <a:lnTo>
                      <a:pt x="419" y="443"/>
                    </a:lnTo>
                    <a:lnTo>
                      <a:pt x="405" y="452"/>
                    </a:lnTo>
                    <a:lnTo>
                      <a:pt x="391" y="461"/>
                    </a:lnTo>
                    <a:lnTo>
                      <a:pt x="376" y="470"/>
                    </a:lnTo>
                    <a:lnTo>
                      <a:pt x="361" y="478"/>
                    </a:lnTo>
                    <a:lnTo>
                      <a:pt x="344" y="486"/>
                    </a:lnTo>
                    <a:lnTo>
                      <a:pt x="328" y="493"/>
                    </a:lnTo>
                    <a:lnTo>
                      <a:pt x="311" y="500"/>
                    </a:lnTo>
                    <a:lnTo>
                      <a:pt x="294" y="506"/>
                    </a:lnTo>
                    <a:lnTo>
                      <a:pt x="277" y="512"/>
                    </a:lnTo>
                    <a:lnTo>
                      <a:pt x="259" y="517"/>
                    </a:lnTo>
                    <a:lnTo>
                      <a:pt x="241" y="521"/>
                    </a:lnTo>
                    <a:lnTo>
                      <a:pt x="224" y="526"/>
                    </a:lnTo>
                    <a:lnTo>
                      <a:pt x="206" y="529"/>
                    </a:lnTo>
                    <a:lnTo>
                      <a:pt x="189" y="531"/>
                    </a:lnTo>
                    <a:lnTo>
                      <a:pt x="171" y="534"/>
                    </a:lnTo>
                    <a:lnTo>
                      <a:pt x="153" y="535"/>
                    </a:lnTo>
                    <a:lnTo>
                      <a:pt x="136" y="535"/>
                    </a:lnTo>
                    <a:lnTo>
                      <a:pt x="120" y="535"/>
                    </a:lnTo>
                    <a:lnTo>
                      <a:pt x="103" y="534"/>
                    </a:lnTo>
                    <a:lnTo>
                      <a:pt x="87" y="531"/>
                    </a:lnTo>
                    <a:lnTo>
                      <a:pt x="71" y="528"/>
                    </a:lnTo>
                    <a:lnTo>
                      <a:pt x="57" y="525"/>
                    </a:lnTo>
                    <a:lnTo>
                      <a:pt x="42" y="520"/>
                    </a:lnTo>
                    <a:lnTo>
                      <a:pt x="28" y="514"/>
                    </a:lnTo>
                    <a:lnTo>
                      <a:pt x="16" y="507"/>
                    </a:lnTo>
                    <a:close/>
                    <a:moveTo>
                      <a:pt x="30" y="903"/>
                    </a:moveTo>
                    <a:lnTo>
                      <a:pt x="29" y="854"/>
                    </a:lnTo>
                    <a:lnTo>
                      <a:pt x="27" y="805"/>
                    </a:lnTo>
                    <a:lnTo>
                      <a:pt x="25" y="756"/>
                    </a:lnTo>
                    <a:lnTo>
                      <a:pt x="24" y="707"/>
                    </a:lnTo>
                    <a:lnTo>
                      <a:pt x="21" y="658"/>
                    </a:lnTo>
                    <a:lnTo>
                      <a:pt x="19" y="608"/>
                    </a:lnTo>
                    <a:lnTo>
                      <a:pt x="17" y="559"/>
                    </a:lnTo>
                    <a:lnTo>
                      <a:pt x="16" y="510"/>
                    </a:lnTo>
                    <a:lnTo>
                      <a:pt x="29" y="520"/>
                    </a:lnTo>
                    <a:lnTo>
                      <a:pt x="43" y="533"/>
                    </a:lnTo>
                    <a:lnTo>
                      <a:pt x="55" y="544"/>
                    </a:lnTo>
                    <a:lnTo>
                      <a:pt x="67" y="557"/>
                    </a:lnTo>
                    <a:lnTo>
                      <a:pt x="77" y="569"/>
                    </a:lnTo>
                    <a:lnTo>
                      <a:pt x="87" y="582"/>
                    </a:lnTo>
                    <a:lnTo>
                      <a:pt x="95" y="595"/>
                    </a:lnTo>
                    <a:lnTo>
                      <a:pt x="104" y="609"/>
                    </a:lnTo>
                    <a:lnTo>
                      <a:pt x="111" y="623"/>
                    </a:lnTo>
                    <a:lnTo>
                      <a:pt x="118" y="636"/>
                    </a:lnTo>
                    <a:lnTo>
                      <a:pt x="125" y="651"/>
                    </a:lnTo>
                    <a:lnTo>
                      <a:pt x="130" y="665"/>
                    </a:lnTo>
                    <a:lnTo>
                      <a:pt x="135" y="680"/>
                    </a:lnTo>
                    <a:lnTo>
                      <a:pt x="139" y="696"/>
                    </a:lnTo>
                    <a:lnTo>
                      <a:pt x="142" y="710"/>
                    </a:lnTo>
                    <a:lnTo>
                      <a:pt x="145" y="725"/>
                    </a:lnTo>
                    <a:lnTo>
                      <a:pt x="150" y="757"/>
                    </a:lnTo>
                    <a:lnTo>
                      <a:pt x="152" y="788"/>
                    </a:lnTo>
                    <a:lnTo>
                      <a:pt x="153" y="820"/>
                    </a:lnTo>
                    <a:lnTo>
                      <a:pt x="152" y="853"/>
                    </a:lnTo>
                    <a:lnTo>
                      <a:pt x="150" y="885"/>
                    </a:lnTo>
                    <a:lnTo>
                      <a:pt x="148" y="917"/>
                    </a:lnTo>
                    <a:lnTo>
                      <a:pt x="143" y="949"/>
                    </a:lnTo>
                    <a:lnTo>
                      <a:pt x="139" y="981"/>
                    </a:lnTo>
                    <a:lnTo>
                      <a:pt x="123" y="970"/>
                    </a:lnTo>
                    <a:lnTo>
                      <a:pt x="108" y="960"/>
                    </a:lnTo>
                    <a:lnTo>
                      <a:pt x="93" y="950"/>
                    </a:lnTo>
                    <a:lnTo>
                      <a:pt x="79" y="941"/>
                    </a:lnTo>
                    <a:lnTo>
                      <a:pt x="67" y="930"/>
                    </a:lnTo>
                    <a:lnTo>
                      <a:pt x="54" y="921"/>
                    </a:lnTo>
                    <a:lnTo>
                      <a:pt x="42" y="912"/>
                    </a:lnTo>
                    <a:lnTo>
                      <a:pt x="30" y="903"/>
                    </a:lnTo>
                    <a:close/>
                  </a:path>
                </a:pathLst>
              </a:custGeom>
              <a:solidFill>
                <a:srgbClr val="575d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608200" y="3957840"/>
                <a:ext cx="12600" cy="68400"/>
              </a:xfrm>
              <a:custGeom>
                <a:avLst/>
                <a:gdLst/>
                <a:ahLst/>
                <a:rect l="l" t="t" r="r" b="b"/>
                <a:pathLst>
                  <a:path w="44" h="213">
                    <a:moveTo>
                      <a:pt x="37" y="14"/>
                    </a:moveTo>
                    <a:lnTo>
                      <a:pt x="0" y="19"/>
                    </a:lnTo>
                    <a:lnTo>
                      <a:pt x="2" y="44"/>
                    </a:lnTo>
                    <a:lnTo>
                      <a:pt x="2" y="68"/>
                    </a:lnTo>
                    <a:lnTo>
                      <a:pt x="3" y="91"/>
                    </a:lnTo>
                    <a:lnTo>
                      <a:pt x="4" y="115"/>
                    </a:lnTo>
                    <a:lnTo>
                      <a:pt x="4" y="139"/>
                    </a:lnTo>
                    <a:lnTo>
                      <a:pt x="5" y="164"/>
                    </a:lnTo>
                    <a:lnTo>
                      <a:pt x="6" y="188"/>
                    </a:lnTo>
                    <a:lnTo>
                      <a:pt x="7" y="213"/>
                    </a:lnTo>
                    <a:lnTo>
                      <a:pt x="44" y="211"/>
                    </a:lnTo>
                    <a:lnTo>
                      <a:pt x="43" y="187"/>
                    </a:lnTo>
                    <a:lnTo>
                      <a:pt x="41" y="163"/>
                    </a:lnTo>
                    <a:lnTo>
                      <a:pt x="40" y="138"/>
                    </a:lnTo>
                    <a:lnTo>
                      <a:pt x="39" y="114"/>
                    </a:lnTo>
                    <a:lnTo>
                      <a:pt x="39" y="90"/>
                    </a:lnTo>
                    <a:lnTo>
                      <a:pt x="38" y="66"/>
                    </a:lnTo>
                    <a:lnTo>
                      <a:pt x="38" y="42"/>
                    </a:lnTo>
                    <a:lnTo>
                      <a:pt x="37" y="19"/>
                    </a:lnTo>
                    <a:lnTo>
                      <a:pt x="2" y="23"/>
                    </a:lnTo>
                    <a:lnTo>
                      <a:pt x="37" y="19"/>
                    </a:lnTo>
                    <a:lnTo>
                      <a:pt x="37" y="14"/>
                    </a:lnTo>
                    <a:lnTo>
                      <a:pt x="35" y="11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7" y="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608200" y="396252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4" h="69">
                    <a:moveTo>
                      <a:pt x="44" y="50"/>
                    </a:moveTo>
                    <a:lnTo>
                      <a:pt x="43" y="50"/>
                    </a:lnTo>
                    <a:lnTo>
                      <a:pt x="43" y="43"/>
                    </a:lnTo>
                    <a:lnTo>
                      <a:pt x="42" y="36"/>
                    </a:lnTo>
                    <a:lnTo>
                      <a:pt x="41" y="30"/>
                    </a:lnTo>
                    <a:lnTo>
                      <a:pt x="39" y="23"/>
                    </a:lnTo>
                    <a:lnTo>
                      <a:pt x="38" y="17"/>
                    </a:lnTo>
                    <a:lnTo>
                      <a:pt x="37" y="11"/>
                    </a:lnTo>
                    <a:lnTo>
                      <a:pt x="36" y="6"/>
                    </a:lnTo>
                    <a:lnTo>
                      <a:pt x="35" y="0"/>
                    </a:lnTo>
                    <a:lnTo>
                      <a:pt x="0" y="9"/>
                    </a:lnTo>
                    <a:lnTo>
                      <a:pt x="1" y="14"/>
                    </a:lnTo>
                    <a:lnTo>
                      <a:pt x="2" y="19"/>
                    </a:lnTo>
                    <a:lnTo>
                      <a:pt x="3" y="25"/>
                    </a:lnTo>
                    <a:lnTo>
                      <a:pt x="4" y="30"/>
                    </a:lnTo>
                    <a:lnTo>
                      <a:pt x="5" y="35"/>
                    </a:lnTo>
                    <a:lnTo>
                      <a:pt x="5" y="41"/>
                    </a:lnTo>
                    <a:lnTo>
                      <a:pt x="6" y="48"/>
                    </a:lnTo>
                    <a:lnTo>
                      <a:pt x="7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9" y="57"/>
                    </a:lnTo>
                    <a:lnTo>
                      <a:pt x="10" y="60"/>
                    </a:lnTo>
                    <a:lnTo>
                      <a:pt x="12" y="64"/>
                    </a:lnTo>
                    <a:lnTo>
                      <a:pt x="14" y="66"/>
                    </a:lnTo>
                    <a:lnTo>
                      <a:pt x="18" y="68"/>
                    </a:lnTo>
                    <a:lnTo>
                      <a:pt x="20" y="69"/>
                    </a:lnTo>
                    <a:lnTo>
                      <a:pt x="23" y="69"/>
                    </a:lnTo>
                    <a:lnTo>
                      <a:pt x="27" y="69"/>
                    </a:lnTo>
                    <a:lnTo>
                      <a:pt x="30" y="68"/>
                    </a:lnTo>
                    <a:lnTo>
                      <a:pt x="34" y="67"/>
                    </a:lnTo>
                    <a:lnTo>
                      <a:pt x="36" y="66"/>
                    </a:lnTo>
                    <a:lnTo>
                      <a:pt x="39" y="64"/>
                    </a:lnTo>
                    <a:lnTo>
                      <a:pt x="42" y="62"/>
                    </a:lnTo>
                    <a:lnTo>
                      <a:pt x="43" y="58"/>
                    </a:lnTo>
                    <a:lnTo>
                      <a:pt x="43" y="54"/>
                    </a:lnTo>
                    <a:lnTo>
                      <a:pt x="43" y="50"/>
                    </a:lnTo>
                    <a:lnTo>
                      <a:pt x="44" y="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610000" y="392616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284" y="63"/>
                    </a:moveTo>
                    <a:lnTo>
                      <a:pt x="280" y="38"/>
                    </a:lnTo>
                    <a:lnTo>
                      <a:pt x="266" y="30"/>
                    </a:lnTo>
                    <a:lnTo>
                      <a:pt x="254" y="22"/>
                    </a:lnTo>
                    <a:lnTo>
                      <a:pt x="242" y="16"/>
                    </a:lnTo>
                    <a:lnTo>
                      <a:pt x="230" y="11"/>
                    </a:lnTo>
                    <a:lnTo>
                      <a:pt x="218" y="7"/>
                    </a:lnTo>
                    <a:lnTo>
                      <a:pt x="207" y="3"/>
                    </a:lnTo>
                    <a:lnTo>
                      <a:pt x="195" y="1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3" y="1"/>
                    </a:lnTo>
                    <a:lnTo>
                      <a:pt x="153" y="2"/>
                    </a:lnTo>
                    <a:lnTo>
                      <a:pt x="144" y="5"/>
                    </a:lnTo>
                    <a:lnTo>
                      <a:pt x="135" y="8"/>
                    </a:lnTo>
                    <a:lnTo>
                      <a:pt x="126" y="12"/>
                    </a:lnTo>
                    <a:lnTo>
                      <a:pt x="118" y="17"/>
                    </a:lnTo>
                    <a:lnTo>
                      <a:pt x="110" y="23"/>
                    </a:lnTo>
                    <a:lnTo>
                      <a:pt x="96" y="35"/>
                    </a:lnTo>
                    <a:lnTo>
                      <a:pt x="84" y="49"/>
                    </a:lnTo>
                    <a:lnTo>
                      <a:pt x="73" y="64"/>
                    </a:lnTo>
                    <a:lnTo>
                      <a:pt x="63" y="81"/>
                    </a:lnTo>
                    <a:lnTo>
                      <a:pt x="55" y="98"/>
                    </a:lnTo>
                    <a:lnTo>
                      <a:pt x="48" y="115"/>
                    </a:lnTo>
                    <a:lnTo>
                      <a:pt x="42" y="132"/>
                    </a:lnTo>
                    <a:lnTo>
                      <a:pt x="36" y="150"/>
                    </a:lnTo>
                    <a:lnTo>
                      <a:pt x="21" y="211"/>
                    </a:lnTo>
                    <a:lnTo>
                      <a:pt x="13" y="246"/>
                    </a:lnTo>
                    <a:lnTo>
                      <a:pt x="14" y="243"/>
                    </a:lnTo>
                    <a:lnTo>
                      <a:pt x="20" y="238"/>
                    </a:lnTo>
                    <a:lnTo>
                      <a:pt x="37" y="237"/>
                    </a:lnTo>
                    <a:lnTo>
                      <a:pt x="45" y="245"/>
                    </a:lnTo>
                    <a:lnTo>
                      <a:pt x="45" y="244"/>
                    </a:lnTo>
                    <a:lnTo>
                      <a:pt x="44" y="238"/>
                    </a:lnTo>
                    <a:lnTo>
                      <a:pt x="40" y="211"/>
                    </a:lnTo>
                    <a:lnTo>
                      <a:pt x="37" y="164"/>
                    </a:lnTo>
                    <a:lnTo>
                      <a:pt x="0" y="166"/>
                    </a:lnTo>
                    <a:lnTo>
                      <a:pt x="4" y="214"/>
                    </a:lnTo>
                    <a:lnTo>
                      <a:pt x="7" y="243"/>
                    </a:lnTo>
                    <a:lnTo>
                      <a:pt x="10" y="252"/>
                    </a:lnTo>
                    <a:lnTo>
                      <a:pt x="12" y="259"/>
                    </a:lnTo>
                    <a:lnTo>
                      <a:pt x="21" y="269"/>
                    </a:lnTo>
                    <a:lnTo>
                      <a:pt x="40" y="268"/>
                    </a:lnTo>
                    <a:lnTo>
                      <a:pt x="46" y="261"/>
                    </a:lnTo>
                    <a:lnTo>
                      <a:pt x="48" y="254"/>
                    </a:lnTo>
                    <a:lnTo>
                      <a:pt x="56" y="220"/>
                    </a:lnTo>
                    <a:lnTo>
                      <a:pt x="71" y="160"/>
                    </a:lnTo>
                    <a:lnTo>
                      <a:pt x="76" y="145"/>
                    </a:lnTo>
                    <a:lnTo>
                      <a:pt x="81" y="129"/>
                    </a:lnTo>
                    <a:lnTo>
                      <a:pt x="88" y="113"/>
                    </a:lnTo>
                    <a:lnTo>
                      <a:pt x="95" y="98"/>
                    </a:lnTo>
                    <a:lnTo>
                      <a:pt x="104" y="84"/>
                    </a:lnTo>
                    <a:lnTo>
                      <a:pt x="112" y="72"/>
                    </a:lnTo>
                    <a:lnTo>
                      <a:pt x="122" y="60"/>
                    </a:lnTo>
                    <a:lnTo>
                      <a:pt x="133" y="51"/>
                    </a:lnTo>
                    <a:lnTo>
                      <a:pt x="137" y="48"/>
                    </a:lnTo>
                    <a:lnTo>
                      <a:pt x="143" y="44"/>
                    </a:lnTo>
                    <a:lnTo>
                      <a:pt x="149" y="42"/>
                    </a:lnTo>
                    <a:lnTo>
                      <a:pt x="155" y="40"/>
                    </a:lnTo>
                    <a:lnTo>
                      <a:pt x="161" y="38"/>
                    </a:lnTo>
                    <a:lnTo>
                      <a:pt x="168" y="36"/>
                    </a:lnTo>
                    <a:lnTo>
                      <a:pt x="175" y="36"/>
                    </a:lnTo>
                    <a:lnTo>
                      <a:pt x="182" y="36"/>
                    </a:lnTo>
                    <a:lnTo>
                      <a:pt x="190" y="38"/>
                    </a:lnTo>
                    <a:lnTo>
                      <a:pt x="198" y="39"/>
                    </a:lnTo>
                    <a:lnTo>
                      <a:pt x="207" y="41"/>
                    </a:lnTo>
                    <a:lnTo>
                      <a:pt x="216" y="44"/>
                    </a:lnTo>
                    <a:lnTo>
                      <a:pt x="226" y="49"/>
                    </a:lnTo>
                    <a:lnTo>
                      <a:pt x="236" y="55"/>
                    </a:lnTo>
                    <a:lnTo>
                      <a:pt x="248" y="60"/>
                    </a:lnTo>
                    <a:lnTo>
                      <a:pt x="259" y="68"/>
                    </a:lnTo>
                    <a:lnTo>
                      <a:pt x="255" y="42"/>
                    </a:lnTo>
                    <a:lnTo>
                      <a:pt x="259" y="68"/>
                    </a:lnTo>
                    <a:lnTo>
                      <a:pt x="263" y="69"/>
                    </a:lnTo>
                    <a:lnTo>
                      <a:pt x="267" y="71"/>
                    </a:lnTo>
                    <a:lnTo>
                      <a:pt x="271" y="72"/>
                    </a:lnTo>
                    <a:lnTo>
                      <a:pt x="274" y="71"/>
                    </a:lnTo>
                    <a:lnTo>
                      <a:pt x="277" y="69"/>
                    </a:lnTo>
                    <a:lnTo>
                      <a:pt x="280" y="68"/>
                    </a:lnTo>
                    <a:lnTo>
                      <a:pt x="282" y="66"/>
                    </a:lnTo>
                    <a:lnTo>
                      <a:pt x="284" y="63"/>
                    </a:lnTo>
                    <a:lnTo>
                      <a:pt x="287" y="60"/>
                    </a:lnTo>
                    <a:lnTo>
                      <a:pt x="288" y="57"/>
                    </a:lnTo>
                    <a:lnTo>
                      <a:pt x="288" y="54"/>
                    </a:lnTo>
                    <a:lnTo>
                      <a:pt x="288" y="50"/>
                    </a:lnTo>
                    <a:lnTo>
                      <a:pt x="287" y="47"/>
                    </a:lnTo>
                    <a:lnTo>
                      <a:pt x="285" y="43"/>
                    </a:lnTo>
                    <a:lnTo>
                      <a:pt x="283" y="41"/>
                    </a:lnTo>
                    <a:lnTo>
                      <a:pt x="280" y="38"/>
                    </a:lnTo>
                    <a:lnTo>
                      <a:pt x="284" y="6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610000" y="39405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286" h="289">
                    <a:moveTo>
                      <a:pt x="0" y="271"/>
                    </a:moveTo>
                    <a:lnTo>
                      <a:pt x="25" y="287"/>
                    </a:lnTo>
                    <a:lnTo>
                      <a:pt x="47" y="277"/>
                    </a:lnTo>
                    <a:lnTo>
                      <a:pt x="67" y="266"/>
                    </a:lnTo>
                    <a:lnTo>
                      <a:pt x="87" y="253"/>
                    </a:lnTo>
                    <a:lnTo>
                      <a:pt x="106" y="240"/>
                    </a:lnTo>
                    <a:lnTo>
                      <a:pt x="123" y="225"/>
                    </a:lnTo>
                    <a:lnTo>
                      <a:pt x="140" y="209"/>
                    </a:lnTo>
                    <a:lnTo>
                      <a:pt x="157" y="192"/>
                    </a:lnTo>
                    <a:lnTo>
                      <a:pt x="173" y="175"/>
                    </a:lnTo>
                    <a:lnTo>
                      <a:pt x="203" y="138"/>
                    </a:lnTo>
                    <a:lnTo>
                      <a:pt x="232" y="100"/>
                    </a:lnTo>
                    <a:lnTo>
                      <a:pt x="259" y="61"/>
                    </a:lnTo>
                    <a:lnTo>
                      <a:pt x="286" y="21"/>
                    </a:lnTo>
                    <a:lnTo>
                      <a:pt x="257" y="0"/>
                    </a:lnTo>
                    <a:lnTo>
                      <a:pt x="229" y="40"/>
                    </a:lnTo>
                    <a:lnTo>
                      <a:pt x="202" y="79"/>
                    </a:lnTo>
                    <a:lnTo>
                      <a:pt x="175" y="116"/>
                    </a:lnTo>
                    <a:lnTo>
                      <a:pt x="146" y="151"/>
                    </a:lnTo>
                    <a:lnTo>
                      <a:pt x="131" y="168"/>
                    </a:lnTo>
                    <a:lnTo>
                      <a:pt x="115" y="183"/>
                    </a:lnTo>
                    <a:lnTo>
                      <a:pt x="99" y="197"/>
                    </a:lnTo>
                    <a:lnTo>
                      <a:pt x="83" y="211"/>
                    </a:lnTo>
                    <a:lnTo>
                      <a:pt x="66" y="224"/>
                    </a:lnTo>
                    <a:lnTo>
                      <a:pt x="49" y="235"/>
                    </a:lnTo>
                    <a:lnTo>
                      <a:pt x="31" y="245"/>
                    </a:lnTo>
                    <a:lnTo>
                      <a:pt x="12" y="254"/>
                    </a:lnTo>
                    <a:lnTo>
                      <a:pt x="37" y="269"/>
                    </a:lnTo>
                    <a:lnTo>
                      <a:pt x="12" y="254"/>
                    </a:lnTo>
                    <a:lnTo>
                      <a:pt x="8" y="255"/>
                    </a:lnTo>
                    <a:lnTo>
                      <a:pt x="5" y="259"/>
                    </a:lnTo>
                    <a:lnTo>
                      <a:pt x="2" y="261"/>
                    </a:lnTo>
                    <a:lnTo>
                      <a:pt x="1" y="265"/>
                    </a:lnTo>
                    <a:lnTo>
                      <a:pt x="0" y="268"/>
                    </a:lnTo>
                    <a:lnTo>
                      <a:pt x="0" y="271"/>
                    </a:lnTo>
                    <a:lnTo>
                      <a:pt x="1" y="275"/>
                    </a:lnTo>
                    <a:lnTo>
                      <a:pt x="1" y="277"/>
                    </a:lnTo>
                    <a:lnTo>
                      <a:pt x="4" y="281"/>
                    </a:lnTo>
                    <a:lnTo>
                      <a:pt x="6" y="283"/>
                    </a:lnTo>
                    <a:lnTo>
                      <a:pt x="8" y="285"/>
                    </a:lnTo>
                    <a:lnTo>
                      <a:pt x="10" y="287"/>
                    </a:lnTo>
                    <a:lnTo>
                      <a:pt x="14" y="289"/>
                    </a:lnTo>
                    <a:lnTo>
                      <a:pt x="17" y="289"/>
                    </a:lnTo>
                    <a:lnTo>
                      <a:pt x="22" y="289"/>
                    </a:lnTo>
                    <a:lnTo>
                      <a:pt x="25" y="287"/>
                    </a:lnTo>
                    <a:lnTo>
                      <a:pt x="0" y="27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610000" y="4021560"/>
                <a:ext cx="14040" cy="72720"/>
              </a:xfrm>
              <a:custGeom>
                <a:avLst/>
                <a:gdLst/>
                <a:ahLst/>
                <a:rect l="l" t="t" r="r" b="b"/>
                <a:pathLst>
                  <a:path w="46" h="226">
                    <a:moveTo>
                      <a:pt x="22" y="1"/>
                    </a:moveTo>
                    <a:lnTo>
                      <a:pt x="0" y="19"/>
                    </a:lnTo>
                    <a:lnTo>
                      <a:pt x="1" y="46"/>
                    </a:lnTo>
                    <a:lnTo>
                      <a:pt x="2" y="72"/>
                    </a:lnTo>
                    <a:lnTo>
                      <a:pt x="4" y="97"/>
                    </a:lnTo>
                    <a:lnTo>
                      <a:pt x="4" y="123"/>
                    </a:lnTo>
                    <a:lnTo>
                      <a:pt x="6" y="149"/>
                    </a:lnTo>
                    <a:lnTo>
                      <a:pt x="7" y="174"/>
                    </a:lnTo>
                    <a:lnTo>
                      <a:pt x="8" y="201"/>
                    </a:lnTo>
                    <a:lnTo>
                      <a:pt x="9" y="226"/>
                    </a:lnTo>
                    <a:lnTo>
                      <a:pt x="46" y="223"/>
                    </a:lnTo>
                    <a:lnTo>
                      <a:pt x="44" y="198"/>
                    </a:lnTo>
                    <a:lnTo>
                      <a:pt x="42" y="173"/>
                    </a:lnTo>
                    <a:lnTo>
                      <a:pt x="41" y="147"/>
                    </a:lnTo>
                    <a:lnTo>
                      <a:pt x="40" y="122"/>
                    </a:lnTo>
                    <a:lnTo>
                      <a:pt x="39" y="96"/>
                    </a:lnTo>
                    <a:lnTo>
                      <a:pt x="38" y="69"/>
                    </a:lnTo>
                    <a:lnTo>
                      <a:pt x="38" y="44"/>
                    </a:lnTo>
                    <a:lnTo>
                      <a:pt x="37" y="18"/>
                    </a:lnTo>
                    <a:lnTo>
                      <a:pt x="15" y="36"/>
                    </a:lnTo>
                    <a:lnTo>
                      <a:pt x="37" y="18"/>
                    </a:lnTo>
                    <a:lnTo>
                      <a:pt x="37" y="14"/>
                    </a:lnTo>
                    <a:lnTo>
                      <a:pt x="36" y="10"/>
                    </a:lnTo>
                    <a:lnTo>
                      <a:pt x="33" y="7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3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614680" y="4023000"/>
                <a:ext cx="162000" cy="31680"/>
              </a:xfrm>
              <a:custGeom>
                <a:avLst/>
                <a:gdLst/>
                <a:ahLst/>
                <a:rect l="l" t="t" r="r" b="b"/>
                <a:pathLst>
                  <a:path w="511" h="104">
                    <a:moveTo>
                      <a:pt x="507" y="95"/>
                    </a:moveTo>
                    <a:lnTo>
                      <a:pt x="503" y="70"/>
                    </a:lnTo>
                    <a:lnTo>
                      <a:pt x="487" y="60"/>
                    </a:lnTo>
                    <a:lnTo>
                      <a:pt x="472" y="51"/>
                    </a:lnTo>
                    <a:lnTo>
                      <a:pt x="456" y="45"/>
                    </a:lnTo>
                    <a:lnTo>
                      <a:pt x="440" y="38"/>
                    </a:lnTo>
                    <a:lnTo>
                      <a:pt x="424" y="31"/>
                    </a:lnTo>
                    <a:lnTo>
                      <a:pt x="408" y="26"/>
                    </a:lnTo>
                    <a:lnTo>
                      <a:pt x="392" y="22"/>
                    </a:lnTo>
                    <a:lnTo>
                      <a:pt x="376" y="17"/>
                    </a:lnTo>
                    <a:lnTo>
                      <a:pt x="344" y="11"/>
                    </a:lnTo>
                    <a:lnTo>
                      <a:pt x="312" y="8"/>
                    </a:lnTo>
                    <a:lnTo>
                      <a:pt x="279" y="6"/>
                    </a:lnTo>
                    <a:lnTo>
                      <a:pt x="247" y="6"/>
                    </a:lnTo>
                    <a:lnTo>
                      <a:pt x="184" y="6"/>
                    </a:lnTo>
                    <a:lnTo>
                      <a:pt x="122" y="7"/>
                    </a:lnTo>
                    <a:lnTo>
                      <a:pt x="92" y="7"/>
                    </a:lnTo>
                    <a:lnTo>
                      <a:pt x="63" y="6"/>
                    </a:lnTo>
                    <a:lnTo>
                      <a:pt x="34" y="3"/>
                    </a:lnTo>
                    <a:lnTo>
                      <a:pt x="7" y="0"/>
                    </a:lnTo>
                    <a:lnTo>
                      <a:pt x="0" y="35"/>
                    </a:lnTo>
                    <a:lnTo>
                      <a:pt x="30" y="40"/>
                    </a:lnTo>
                    <a:lnTo>
                      <a:pt x="60" y="42"/>
                    </a:lnTo>
                    <a:lnTo>
                      <a:pt x="91" y="43"/>
                    </a:lnTo>
                    <a:lnTo>
                      <a:pt x="122" y="43"/>
                    </a:lnTo>
                    <a:lnTo>
                      <a:pt x="185" y="42"/>
                    </a:lnTo>
                    <a:lnTo>
                      <a:pt x="247" y="41"/>
                    </a:lnTo>
                    <a:lnTo>
                      <a:pt x="278" y="42"/>
                    </a:lnTo>
                    <a:lnTo>
                      <a:pt x="309" y="45"/>
                    </a:lnTo>
                    <a:lnTo>
                      <a:pt x="339" y="48"/>
                    </a:lnTo>
                    <a:lnTo>
                      <a:pt x="369" y="54"/>
                    </a:lnTo>
                    <a:lnTo>
                      <a:pt x="383" y="57"/>
                    </a:lnTo>
                    <a:lnTo>
                      <a:pt x="398" y="60"/>
                    </a:lnTo>
                    <a:lnTo>
                      <a:pt x="413" y="65"/>
                    </a:lnTo>
                    <a:lnTo>
                      <a:pt x="426" y="71"/>
                    </a:lnTo>
                    <a:lnTo>
                      <a:pt x="441" y="78"/>
                    </a:lnTo>
                    <a:lnTo>
                      <a:pt x="455" y="84"/>
                    </a:lnTo>
                    <a:lnTo>
                      <a:pt x="468" y="91"/>
                    </a:lnTo>
                    <a:lnTo>
                      <a:pt x="482" y="100"/>
                    </a:lnTo>
                    <a:lnTo>
                      <a:pt x="476" y="75"/>
                    </a:lnTo>
                    <a:lnTo>
                      <a:pt x="482" y="100"/>
                    </a:lnTo>
                    <a:lnTo>
                      <a:pt x="486" y="103"/>
                    </a:lnTo>
                    <a:lnTo>
                      <a:pt x="489" y="104"/>
                    </a:lnTo>
                    <a:lnTo>
                      <a:pt x="492" y="104"/>
                    </a:lnTo>
                    <a:lnTo>
                      <a:pt x="496" y="103"/>
                    </a:lnTo>
                    <a:lnTo>
                      <a:pt x="499" y="102"/>
                    </a:lnTo>
                    <a:lnTo>
                      <a:pt x="503" y="100"/>
                    </a:lnTo>
                    <a:lnTo>
                      <a:pt x="505" y="98"/>
                    </a:lnTo>
                    <a:lnTo>
                      <a:pt x="507" y="95"/>
                    </a:lnTo>
                    <a:lnTo>
                      <a:pt x="508" y="92"/>
                    </a:lnTo>
                    <a:lnTo>
                      <a:pt x="509" y="89"/>
                    </a:lnTo>
                    <a:lnTo>
                      <a:pt x="511" y="86"/>
                    </a:lnTo>
                    <a:lnTo>
                      <a:pt x="511" y="82"/>
                    </a:lnTo>
                    <a:lnTo>
                      <a:pt x="509" y="79"/>
                    </a:lnTo>
                    <a:lnTo>
                      <a:pt x="508" y="75"/>
                    </a:lnTo>
                    <a:lnTo>
                      <a:pt x="505" y="73"/>
                    </a:lnTo>
                    <a:lnTo>
                      <a:pt x="503" y="70"/>
                    </a:lnTo>
                    <a:lnTo>
                      <a:pt x="507" y="9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612880" y="4046760"/>
                <a:ext cx="162000" cy="60480"/>
              </a:xfrm>
              <a:custGeom>
                <a:avLst/>
                <a:gdLst/>
                <a:ahLst/>
                <a:rect l="l" t="t" r="r" b="b"/>
                <a:pathLst>
                  <a:path w="513" h="194">
                    <a:moveTo>
                      <a:pt x="0" y="150"/>
                    </a:moveTo>
                    <a:lnTo>
                      <a:pt x="9" y="164"/>
                    </a:lnTo>
                    <a:lnTo>
                      <a:pt x="24" y="172"/>
                    </a:lnTo>
                    <a:lnTo>
                      <a:pt x="39" y="178"/>
                    </a:lnTo>
                    <a:lnTo>
                      <a:pt x="55" y="183"/>
                    </a:lnTo>
                    <a:lnTo>
                      <a:pt x="71" y="187"/>
                    </a:lnTo>
                    <a:lnTo>
                      <a:pt x="88" y="191"/>
                    </a:lnTo>
                    <a:lnTo>
                      <a:pt x="105" y="193"/>
                    </a:lnTo>
                    <a:lnTo>
                      <a:pt x="122" y="194"/>
                    </a:lnTo>
                    <a:lnTo>
                      <a:pt x="139" y="194"/>
                    </a:lnTo>
                    <a:lnTo>
                      <a:pt x="158" y="194"/>
                    </a:lnTo>
                    <a:lnTo>
                      <a:pt x="176" y="193"/>
                    </a:lnTo>
                    <a:lnTo>
                      <a:pt x="194" y="191"/>
                    </a:lnTo>
                    <a:lnTo>
                      <a:pt x="212" y="187"/>
                    </a:lnTo>
                    <a:lnTo>
                      <a:pt x="231" y="184"/>
                    </a:lnTo>
                    <a:lnTo>
                      <a:pt x="249" y="180"/>
                    </a:lnTo>
                    <a:lnTo>
                      <a:pt x="267" y="176"/>
                    </a:lnTo>
                    <a:lnTo>
                      <a:pt x="285" y="170"/>
                    </a:lnTo>
                    <a:lnTo>
                      <a:pt x="302" y="164"/>
                    </a:lnTo>
                    <a:lnTo>
                      <a:pt x="321" y="158"/>
                    </a:lnTo>
                    <a:lnTo>
                      <a:pt x="338" y="151"/>
                    </a:lnTo>
                    <a:lnTo>
                      <a:pt x="355" y="143"/>
                    </a:lnTo>
                    <a:lnTo>
                      <a:pt x="372" y="135"/>
                    </a:lnTo>
                    <a:lnTo>
                      <a:pt x="388" y="127"/>
                    </a:lnTo>
                    <a:lnTo>
                      <a:pt x="404" y="118"/>
                    </a:lnTo>
                    <a:lnTo>
                      <a:pt x="419" y="109"/>
                    </a:lnTo>
                    <a:lnTo>
                      <a:pt x="433" y="98"/>
                    </a:lnTo>
                    <a:lnTo>
                      <a:pt x="447" y="88"/>
                    </a:lnTo>
                    <a:lnTo>
                      <a:pt x="460" y="78"/>
                    </a:lnTo>
                    <a:lnTo>
                      <a:pt x="472" y="66"/>
                    </a:lnTo>
                    <a:lnTo>
                      <a:pt x="484" y="56"/>
                    </a:lnTo>
                    <a:lnTo>
                      <a:pt x="495" y="44"/>
                    </a:lnTo>
                    <a:lnTo>
                      <a:pt x="504" y="32"/>
                    </a:lnTo>
                    <a:lnTo>
                      <a:pt x="513" y="20"/>
                    </a:lnTo>
                    <a:lnTo>
                      <a:pt x="482" y="0"/>
                    </a:lnTo>
                    <a:lnTo>
                      <a:pt x="476" y="11"/>
                    </a:lnTo>
                    <a:lnTo>
                      <a:pt x="468" y="21"/>
                    </a:lnTo>
                    <a:lnTo>
                      <a:pt x="458" y="30"/>
                    </a:lnTo>
                    <a:lnTo>
                      <a:pt x="448" y="40"/>
                    </a:lnTo>
                    <a:lnTo>
                      <a:pt x="437" y="50"/>
                    </a:lnTo>
                    <a:lnTo>
                      <a:pt x="424" y="60"/>
                    </a:lnTo>
                    <a:lnTo>
                      <a:pt x="412" y="69"/>
                    </a:lnTo>
                    <a:lnTo>
                      <a:pt x="399" y="78"/>
                    </a:lnTo>
                    <a:lnTo>
                      <a:pt x="384" y="86"/>
                    </a:lnTo>
                    <a:lnTo>
                      <a:pt x="371" y="95"/>
                    </a:lnTo>
                    <a:lnTo>
                      <a:pt x="355" y="103"/>
                    </a:lnTo>
                    <a:lnTo>
                      <a:pt x="340" y="110"/>
                    </a:lnTo>
                    <a:lnTo>
                      <a:pt x="324" y="118"/>
                    </a:lnTo>
                    <a:lnTo>
                      <a:pt x="307" y="123"/>
                    </a:lnTo>
                    <a:lnTo>
                      <a:pt x="291" y="130"/>
                    </a:lnTo>
                    <a:lnTo>
                      <a:pt x="274" y="136"/>
                    </a:lnTo>
                    <a:lnTo>
                      <a:pt x="257" y="141"/>
                    </a:lnTo>
                    <a:lnTo>
                      <a:pt x="240" y="145"/>
                    </a:lnTo>
                    <a:lnTo>
                      <a:pt x="224" y="148"/>
                    </a:lnTo>
                    <a:lnTo>
                      <a:pt x="207" y="152"/>
                    </a:lnTo>
                    <a:lnTo>
                      <a:pt x="190" y="154"/>
                    </a:lnTo>
                    <a:lnTo>
                      <a:pt x="172" y="156"/>
                    </a:lnTo>
                    <a:lnTo>
                      <a:pt x="156" y="158"/>
                    </a:lnTo>
                    <a:lnTo>
                      <a:pt x="139" y="158"/>
                    </a:lnTo>
                    <a:lnTo>
                      <a:pt x="123" y="158"/>
                    </a:lnTo>
                    <a:lnTo>
                      <a:pt x="109" y="156"/>
                    </a:lnTo>
                    <a:lnTo>
                      <a:pt x="94" y="154"/>
                    </a:lnTo>
                    <a:lnTo>
                      <a:pt x="79" y="152"/>
                    </a:lnTo>
                    <a:lnTo>
                      <a:pt x="65" y="148"/>
                    </a:lnTo>
                    <a:lnTo>
                      <a:pt x="52" y="144"/>
                    </a:lnTo>
                    <a:lnTo>
                      <a:pt x="39" y="139"/>
                    </a:lnTo>
                    <a:lnTo>
                      <a:pt x="27" y="133"/>
                    </a:lnTo>
                    <a:lnTo>
                      <a:pt x="37" y="147"/>
                    </a:lnTo>
                    <a:lnTo>
                      <a:pt x="27" y="133"/>
                    </a:lnTo>
                    <a:lnTo>
                      <a:pt x="23" y="131"/>
                    </a:lnTo>
                    <a:lnTo>
                      <a:pt x="20" y="130"/>
                    </a:lnTo>
                    <a:lnTo>
                      <a:pt x="16" y="130"/>
                    </a:lnTo>
                    <a:lnTo>
                      <a:pt x="13" y="131"/>
                    </a:lnTo>
                    <a:lnTo>
                      <a:pt x="9" y="133"/>
                    </a:lnTo>
                    <a:lnTo>
                      <a:pt x="7" y="135"/>
                    </a:lnTo>
                    <a:lnTo>
                      <a:pt x="4" y="137"/>
                    </a:lnTo>
                    <a:lnTo>
                      <a:pt x="3" y="139"/>
                    </a:lnTo>
                    <a:lnTo>
                      <a:pt x="1" y="143"/>
                    </a:lnTo>
                    <a:lnTo>
                      <a:pt x="0" y="146"/>
                    </a:lnTo>
                    <a:lnTo>
                      <a:pt x="0" y="150"/>
                    </a:lnTo>
                    <a:lnTo>
                      <a:pt x="0" y="153"/>
                    </a:lnTo>
                    <a:lnTo>
                      <a:pt x="1" y="156"/>
                    </a:lnTo>
                    <a:lnTo>
                      <a:pt x="4" y="160"/>
                    </a:lnTo>
                    <a:lnTo>
                      <a:pt x="6" y="162"/>
                    </a:lnTo>
                    <a:lnTo>
                      <a:pt x="9" y="16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612880" y="4088160"/>
                <a:ext cx="16200" cy="129960"/>
              </a:xfrm>
              <a:custGeom>
                <a:avLst/>
                <a:gdLst/>
                <a:ahLst/>
                <a:rect l="l" t="t" r="r" b="b"/>
                <a:pathLst>
                  <a:path w="52" h="411">
                    <a:moveTo>
                      <a:pt x="29" y="3"/>
                    </a:moveTo>
                    <a:lnTo>
                      <a:pt x="0" y="18"/>
                    </a:lnTo>
                    <a:lnTo>
                      <a:pt x="3" y="68"/>
                    </a:lnTo>
                    <a:lnTo>
                      <a:pt x="4" y="117"/>
                    </a:lnTo>
                    <a:lnTo>
                      <a:pt x="6" y="166"/>
                    </a:lnTo>
                    <a:lnTo>
                      <a:pt x="8" y="215"/>
                    </a:lnTo>
                    <a:lnTo>
                      <a:pt x="9" y="265"/>
                    </a:lnTo>
                    <a:lnTo>
                      <a:pt x="12" y="314"/>
                    </a:lnTo>
                    <a:lnTo>
                      <a:pt x="14" y="362"/>
                    </a:lnTo>
                    <a:lnTo>
                      <a:pt x="16" y="411"/>
                    </a:lnTo>
                    <a:lnTo>
                      <a:pt x="52" y="410"/>
                    </a:lnTo>
                    <a:lnTo>
                      <a:pt x="50" y="361"/>
                    </a:lnTo>
                    <a:lnTo>
                      <a:pt x="48" y="312"/>
                    </a:lnTo>
                    <a:lnTo>
                      <a:pt x="46" y="263"/>
                    </a:lnTo>
                    <a:lnTo>
                      <a:pt x="44" y="214"/>
                    </a:lnTo>
                    <a:lnTo>
                      <a:pt x="43" y="165"/>
                    </a:lnTo>
                    <a:lnTo>
                      <a:pt x="40" y="116"/>
                    </a:lnTo>
                    <a:lnTo>
                      <a:pt x="38" y="66"/>
                    </a:lnTo>
                    <a:lnTo>
                      <a:pt x="37" y="17"/>
                    </a:lnTo>
                    <a:lnTo>
                      <a:pt x="7" y="31"/>
                    </a:lnTo>
                    <a:lnTo>
                      <a:pt x="37" y="17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614680" y="4089600"/>
                <a:ext cx="54000" cy="160560"/>
              </a:xfrm>
              <a:custGeom>
                <a:avLst/>
                <a:gdLst/>
                <a:ahLst/>
                <a:rect l="l" t="t" r="r" b="b"/>
                <a:pathLst>
                  <a:path w="168" h="504">
                    <a:moveTo>
                      <a:pt x="124" y="500"/>
                    </a:moveTo>
                    <a:lnTo>
                      <a:pt x="152" y="489"/>
                    </a:lnTo>
                    <a:lnTo>
                      <a:pt x="157" y="456"/>
                    </a:lnTo>
                    <a:lnTo>
                      <a:pt x="161" y="424"/>
                    </a:lnTo>
                    <a:lnTo>
                      <a:pt x="164" y="391"/>
                    </a:lnTo>
                    <a:lnTo>
                      <a:pt x="167" y="358"/>
                    </a:lnTo>
                    <a:lnTo>
                      <a:pt x="168" y="325"/>
                    </a:lnTo>
                    <a:lnTo>
                      <a:pt x="167" y="293"/>
                    </a:lnTo>
                    <a:lnTo>
                      <a:pt x="164" y="260"/>
                    </a:lnTo>
                    <a:lnTo>
                      <a:pt x="160" y="228"/>
                    </a:lnTo>
                    <a:lnTo>
                      <a:pt x="156" y="211"/>
                    </a:lnTo>
                    <a:lnTo>
                      <a:pt x="153" y="196"/>
                    </a:lnTo>
                    <a:lnTo>
                      <a:pt x="148" y="180"/>
                    </a:lnTo>
                    <a:lnTo>
                      <a:pt x="143" y="164"/>
                    </a:lnTo>
                    <a:lnTo>
                      <a:pt x="137" y="149"/>
                    </a:lnTo>
                    <a:lnTo>
                      <a:pt x="131" y="133"/>
                    </a:lnTo>
                    <a:lnTo>
                      <a:pt x="123" y="119"/>
                    </a:lnTo>
                    <a:lnTo>
                      <a:pt x="115" y="105"/>
                    </a:lnTo>
                    <a:lnTo>
                      <a:pt x="107" y="90"/>
                    </a:lnTo>
                    <a:lnTo>
                      <a:pt x="97" y="76"/>
                    </a:lnTo>
                    <a:lnTo>
                      <a:pt x="87" y="63"/>
                    </a:lnTo>
                    <a:lnTo>
                      <a:pt x="77" y="49"/>
                    </a:lnTo>
                    <a:lnTo>
                      <a:pt x="64" y="36"/>
                    </a:lnTo>
                    <a:lnTo>
                      <a:pt x="50" y="24"/>
                    </a:lnTo>
                    <a:lnTo>
                      <a:pt x="37" y="11"/>
                    </a:lnTo>
                    <a:lnTo>
                      <a:pt x="22" y="0"/>
                    </a:lnTo>
                    <a:lnTo>
                      <a:pt x="0" y="28"/>
                    </a:lnTo>
                    <a:lnTo>
                      <a:pt x="14" y="40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3"/>
                    </a:lnTo>
                    <a:lnTo>
                      <a:pt x="59" y="85"/>
                    </a:lnTo>
                    <a:lnTo>
                      <a:pt x="69" y="97"/>
                    </a:lnTo>
                    <a:lnTo>
                      <a:pt x="77" y="109"/>
                    </a:lnTo>
                    <a:lnTo>
                      <a:pt x="85" y="122"/>
                    </a:lnTo>
                    <a:lnTo>
                      <a:pt x="91" y="136"/>
                    </a:lnTo>
                    <a:lnTo>
                      <a:pt x="98" y="149"/>
                    </a:lnTo>
                    <a:lnTo>
                      <a:pt x="104" y="162"/>
                    </a:lnTo>
                    <a:lnTo>
                      <a:pt x="108" y="177"/>
                    </a:lnTo>
                    <a:lnTo>
                      <a:pt x="113" y="190"/>
                    </a:lnTo>
                    <a:lnTo>
                      <a:pt x="118" y="205"/>
                    </a:lnTo>
                    <a:lnTo>
                      <a:pt x="121" y="219"/>
                    </a:lnTo>
                    <a:lnTo>
                      <a:pt x="123" y="234"/>
                    </a:lnTo>
                    <a:lnTo>
                      <a:pt x="128" y="263"/>
                    </a:lnTo>
                    <a:lnTo>
                      <a:pt x="130" y="294"/>
                    </a:lnTo>
                    <a:lnTo>
                      <a:pt x="131" y="325"/>
                    </a:lnTo>
                    <a:lnTo>
                      <a:pt x="130" y="357"/>
                    </a:lnTo>
                    <a:lnTo>
                      <a:pt x="129" y="389"/>
                    </a:lnTo>
                    <a:lnTo>
                      <a:pt x="126" y="419"/>
                    </a:lnTo>
                    <a:lnTo>
                      <a:pt x="121" y="451"/>
                    </a:lnTo>
                    <a:lnTo>
                      <a:pt x="116" y="482"/>
                    </a:lnTo>
                    <a:lnTo>
                      <a:pt x="144" y="471"/>
                    </a:lnTo>
                    <a:lnTo>
                      <a:pt x="116" y="482"/>
                    </a:lnTo>
                    <a:lnTo>
                      <a:pt x="116" y="487"/>
                    </a:lnTo>
                    <a:lnTo>
                      <a:pt x="116" y="491"/>
                    </a:lnTo>
                    <a:lnTo>
                      <a:pt x="118" y="495"/>
                    </a:lnTo>
                    <a:lnTo>
                      <a:pt x="120" y="497"/>
                    </a:lnTo>
                    <a:lnTo>
                      <a:pt x="122" y="499"/>
                    </a:lnTo>
                    <a:lnTo>
                      <a:pt x="124" y="502"/>
                    </a:lnTo>
                    <a:lnTo>
                      <a:pt x="128" y="503"/>
                    </a:lnTo>
                    <a:lnTo>
                      <a:pt x="131" y="504"/>
                    </a:lnTo>
                    <a:lnTo>
                      <a:pt x="135" y="504"/>
                    </a:lnTo>
                    <a:lnTo>
                      <a:pt x="138" y="504"/>
                    </a:lnTo>
                    <a:lnTo>
                      <a:pt x="141" y="503"/>
                    </a:lnTo>
                    <a:lnTo>
                      <a:pt x="145" y="502"/>
                    </a:lnTo>
                    <a:lnTo>
                      <a:pt x="147" y="499"/>
                    </a:lnTo>
                    <a:lnTo>
                      <a:pt x="149" y="496"/>
                    </a:lnTo>
                    <a:lnTo>
                      <a:pt x="151" y="492"/>
                    </a:lnTo>
                    <a:lnTo>
                      <a:pt x="152" y="489"/>
                    </a:lnTo>
                    <a:lnTo>
                      <a:pt x="124" y="5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617920" y="421344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136" h="110">
                    <a:moveTo>
                      <a:pt x="1" y="18"/>
                    </a:moveTo>
                    <a:lnTo>
                      <a:pt x="7" y="32"/>
                    </a:lnTo>
                    <a:lnTo>
                      <a:pt x="18" y="41"/>
                    </a:lnTo>
                    <a:lnTo>
                      <a:pt x="31" y="50"/>
                    </a:lnTo>
                    <a:lnTo>
                      <a:pt x="43" y="60"/>
                    </a:lnTo>
                    <a:lnTo>
                      <a:pt x="57" y="71"/>
                    </a:lnTo>
                    <a:lnTo>
                      <a:pt x="71" y="80"/>
                    </a:lnTo>
                    <a:lnTo>
                      <a:pt x="86" y="90"/>
                    </a:lnTo>
                    <a:lnTo>
                      <a:pt x="100" y="100"/>
                    </a:lnTo>
                    <a:lnTo>
                      <a:pt x="116" y="110"/>
                    </a:lnTo>
                    <a:lnTo>
                      <a:pt x="136" y="81"/>
                    </a:lnTo>
                    <a:lnTo>
                      <a:pt x="121" y="71"/>
                    </a:lnTo>
                    <a:lnTo>
                      <a:pt x="105" y="60"/>
                    </a:lnTo>
                    <a:lnTo>
                      <a:pt x="91" y="50"/>
                    </a:lnTo>
                    <a:lnTo>
                      <a:pt x="78" y="41"/>
                    </a:lnTo>
                    <a:lnTo>
                      <a:pt x="65" y="32"/>
                    </a:lnTo>
                    <a:lnTo>
                      <a:pt x="53" y="21"/>
                    </a:lnTo>
                    <a:lnTo>
                      <a:pt x="41" y="12"/>
                    </a:lnTo>
                    <a:lnTo>
                      <a:pt x="31" y="3"/>
                    </a:lnTo>
                    <a:lnTo>
                      <a:pt x="37" y="17"/>
                    </a:lnTo>
                    <a:lnTo>
                      <a:pt x="31" y="3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2" y="25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035600" y="29563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100" h="58">
                    <a:moveTo>
                      <a:pt x="3" y="57"/>
                    </a:moveTo>
                    <a:lnTo>
                      <a:pt x="14" y="58"/>
                    </a:lnTo>
                    <a:lnTo>
                      <a:pt x="26" y="58"/>
                    </a:lnTo>
                    <a:lnTo>
                      <a:pt x="37" y="58"/>
                    </a:lnTo>
                    <a:lnTo>
                      <a:pt x="49" y="57"/>
                    </a:lnTo>
                    <a:lnTo>
                      <a:pt x="61" y="54"/>
                    </a:lnTo>
                    <a:lnTo>
                      <a:pt x="72" y="51"/>
                    </a:lnTo>
                    <a:lnTo>
                      <a:pt x="83" y="48"/>
                    </a:lnTo>
                    <a:lnTo>
                      <a:pt x="94" y="43"/>
                    </a:lnTo>
                    <a:lnTo>
                      <a:pt x="96" y="41"/>
                    </a:lnTo>
                    <a:lnTo>
                      <a:pt x="98" y="39"/>
                    </a:lnTo>
                    <a:lnTo>
                      <a:pt x="99" y="35"/>
                    </a:lnTo>
                    <a:lnTo>
                      <a:pt x="100" y="32"/>
                    </a:lnTo>
                    <a:lnTo>
                      <a:pt x="100" y="29"/>
                    </a:lnTo>
                    <a:lnTo>
                      <a:pt x="100" y="26"/>
                    </a:lnTo>
                    <a:lnTo>
                      <a:pt x="100" y="24"/>
                    </a:lnTo>
                    <a:lnTo>
                      <a:pt x="100" y="21"/>
                    </a:lnTo>
                    <a:lnTo>
                      <a:pt x="96" y="15"/>
                    </a:lnTo>
                    <a:lnTo>
                      <a:pt x="92" y="9"/>
                    </a:lnTo>
                    <a:lnTo>
                      <a:pt x="85" y="4"/>
                    </a:lnTo>
                    <a:lnTo>
                      <a:pt x="77" y="2"/>
                    </a:lnTo>
                    <a:lnTo>
                      <a:pt x="69" y="0"/>
                    </a:lnTo>
                    <a:lnTo>
                      <a:pt x="59" y="0"/>
                    </a:lnTo>
                    <a:lnTo>
                      <a:pt x="50" y="1"/>
                    </a:lnTo>
                    <a:lnTo>
                      <a:pt x="41" y="3"/>
                    </a:lnTo>
                    <a:lnTo>
                      <a:pt x="30" y="8"/>
                    </a:lnTo>
                    <a:lnTo>
                      <a:pt x="21" y="12"/>
                    </a:lnTo>
                    <a:lnTo>
                      <a:pt x="13" y="18"/>
                    </a:lnTo>
                    <a:lnTo>
                      <a:pt x="8" y="25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0" y="45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035600" y="296424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11" h="51">
                    <a:moveTo>
                      <a:pt x="78" y="8"/>
                    </a:moveTo>
                    <a:lnTo>
                      <a:pt x="86" y="2"/>
                    </a:lnTo>
                    <a:lnTo>
                      <a:pt x="76" y="6"/>
                    </a:lnTo>
                    <a:lnTo>
                      <a:pt x="66" y="9"/>
                    </a:lnTo>
                    <a:lnTo>
                      <a:pt x="56" y="11"/>
                    </a:lnTo>
                    <a:lnTo>
                      <a:pt x="45" y="14"/>
                    </a:lnTo>
                    <a:lnTo>
                      <a:pt x="35" y="15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3" y="15"/>
                    </a:lnTo>
                    <a:lnTo>
                      <a:pt x="0" y="50"/>
                    </a:lnTo>
                    <a:lnTo>
                      <a:pt x="12" y="51"/>
                    </a:lnTo>
                    <a:lnTo>
                      <a:pt x="25" y="51"/>
                    </a:lnTo>
                    <a:lnTo>
                      <a:pt x="38" y="51"/>
                    </a:lnTo>
                    <a:lnTo>
                      <a:pt x="51" y="49"/>
                    </a:lnTo>
                    <a:lnTo>
                      <a:pt x="64" y="47"/>
                    </a:lnTo>
                    <a:lnTo>
                      <a:pt x="76" y="43"/>
                    </a:lnTo>
                    <a:lnTo>
                      <a:pt x="89" y="40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00" y="35"/>
                    </a:lnTo>
                    <a:lnTo>
                      <a:pt x="105" y="33"/>
                    </a:lnTo>
                    <a:lnTo>
                      <a:pt x="107" y="31"/>
                    </a:lnTo>
                    <a:lnTo>
                      <a:pt x="109" y="28"/>
                    </a:lnTo>
                    <a:lnTo>
                      <a:pt x="110" y="25"/>
                    </a:lnTo>
                    <a:lnTo>
                      <a:pt x="111" y="21"/>
                    </a:lnTo>
                    <a:lnTo>
                      <a:pt x="111" y="18"/>
                    </a:lnTo>
                    <a:lnTo>
                      <a:pt x="111" y="15"/>
                    </a:lnTo>
                    <a:lnTo>
                      <a:pt x="110" y="11"/>
                    </a:lnTo>
                    <a:lnTo>
                      <a:pt x="109" y="9"/>
                    </a:lnTo>
                    <a:lnTo>
                      <a:pt x="107" y="6"/>
                    </a:lnTo>
                    <a:lnTo>
                      <a:pt x="105" y="3"/>
                    </a:lnTo>
                    <a:lnTo>
                      <a:pt x="101" y="2"/>
                    </a:lnTo>
                    <a:lnTo>
                      <a:pt x="98" y="1"/>
                    </a:lnTo>
                    <a:lnTo>
                      <a:pt x="94" y="0"/>
                    </a:lnTo>
                    <a:lnTo>
                      <a:pt x="91" y="1"/>
                    </a:lnTo>
                    <a:lnTo>
                      <a:pt x="86" y="2"/>
                    </a:lnTo>
                    <a:lnTo>
                      <a:pt x="78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60800" y="29577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3" y="23"/>
                    </a:moveTo>
                    <a:lnTo>
                      <a:pt x="3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30" y="51"/>
                    </a:lnTo>
                    <a:lnTo>
                      <a:pt x="32" y="47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38" y="33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3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35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43520" y="2951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4" y="39"/>
                    </a:moveTo>
                    <a:lnTo>
                      <a:pt x="24" y="38"/>
                    </a:lnTo>
                    <a:lnTo>
                      <a:pt x="31" y="37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0" y="37"/>
                    </a:lnTo>
                    <a:lnTo>
                      <a:pt x="55" y="39"/>
                    </a:lnTo>
                    <a:lnTo>
                      <a:pt x="58" y="41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95" y="34"/>
                    </a:lnTo>
                    <a:lnTo>
                      <a:pt x="89" y="22"/>
                    </a:lnTo>
                    <a:lnTo>
                      <a:pt x="81" y="13"/>
                    </a:lnTo>
                    <a:lnTo>
                      <a:pt x="71" y="6"/>
                    </a:lnTo>
                    <a:lnTo>
                      <a:pt x="60" y="3"/>
                    </a:lnTo>
                    <a:lnTo>
                      <a:pt x="48" y="1"/>
                    </a:lnTo>
                    <a:lnTo>
                      <a:pt x="37" y="0"/>
                    </a:lnTo>
                    <a:lnTo>
                      <a:pt x="24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9" y="38"/>
                    </a:lnTo>
                    <a:lnTo>
                      <a:pt x="13" y="39"/>
                    </a:lnTo>
                    <a:lnTo>
                      <a:pt x="16" y="39"/>
                    </a:lnTo>
                    <a:lnTo>
                      <a:pt x="21" y="39"/>
                    </a:lnTo>
                    <a:lnTo>
                      <a:pt x="24" y="38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29120" y="29512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65" h="84">
                    <a:moveTo>
                      <a:pt x="38" y="66"/>
                    </a:moveTo>
                    <a:lnTo>
                      <a:pt x="37" y="60"/>
                    </a:lnTo>
                    <a:lnTo>
                      <a:pt x="37" y="59"/>
                    </a:lnTo>
                    <a:lnTo>
                      <a:pt x="37" y="57"/>
                    </a:lnTo>
                    <a:lnTo>
                      <a:pt x="39" y="54"/>
                    </a:lnTo>
                    <a:lnTo>
                      <a:pt x="41" y="50"/>
                    </a:lnTo>
                    <a:lnTo>
                      <a:pt x="45" y="46"/>
                    </a:lnTo>
                    <a:lnTo>
                      <a:pt x="50" y="41"/>
                    </a:lnTo>
                    <a:lnTo>
                      <a:pt x="56" y="38"/>
                    </a:lnTo>
                    <a:lnTo>
                      <a:pt x="65" y="35"/>
                    </a:lnTo>
                    <a:lnTo>
                      <a:pt x="55" y="0"/>
                    </a:lnTo>
                    <a:lnTo>
                      <a:pt x="41" y="5"/>
                    </a:lnTo>
                    <a:lnTo>
                      <a:pt x="30" y="11"/>
                    </a:lnTo>
                    <a:lnTo>
                      <a:pt x="21" y="18"/>
                    </a:lnTo>
                    <a:lnTo>
                      <a:pt x="13" y="27"/>
                    </a:lnTo>
                    <a:lnTo>
                      <a:pt x="6" y="38"/>
                    </a:lnTo>
                    <a:lnTo>
                      <a:pt x="3" y="48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" y="66"/>
                    </a:lnTo>
                    <a:lnTo>
                      <a:pt x="3" y="71"/>
                    </a:lnTo>
                    <a:lnTo>
                      <a:pt x="4" y="75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12" y="83"/>
                    </a:lnTo>
                    <a:lnTo>
                      <a:pt x="15" y="84"/>
                    </a:lnTo>
                    <a:lnTo>
                      <a:pt x="19" y="84"/>
                    </a:lnTo>
                    <a:lnTo>
                      <a:pt x="22" y="84"/>
                    </a:lnTo>
                    <a:lnTo>
                      <a:pt x="25" y="83"/>
                    </a:lnTo>
                    <a:lnTo>
                      <a:pt x="28" y="82"/>
                    </a:lnTo>
                    <a:lnTo>
                      <a:pt x="31" y="81"/>
                    </a:lnTo>
                    <a:lnTo>
                      <a:pt x="33" y="79"/>
                    </a:lnTo>
                    <a:lnTo>
                      <a:pt x="36" y="75"/>
                    </a:lnTo>
                    <a:lnTo>
                      <a:pt x="37" y="73"/>
                    </a:lnTo>
                    <a:lnTo>
                      <a:pt x="38" y="68"/>
                    </a:lnTo>
                    <a:lnTo>
                      <a:pt x="38" y="65"/>
                    </a:lnTo>
                    <a:lnTo>
                      <a:pt x="37" y="60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030560" y="2968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22" y="0"/>
                    </a:moveTo>
                    <a:lnTo>
                      <a:pt x="34" y="4"/>
                    </a:lnTo>
                    <a:lnTo>
                      <a:pt x="35" y="5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19" y="35"/>
                    </a:lnTo>
                    <a:lnTo>
                      <a:pt x="7" y="30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6"/>
                    </a:lnTo>
                    <a:lnTo>
                      <a:pt x="21" y="36"/>
                    </a:lnTo>
                    <a:lnTo>
                      <a:pt x="24" y="35"/>
                    </a:lnTo>
                    <a:lnTo>
                      <a:pt x="28" y="34"/>
                    </a:lnTo>
                    <a:lnTo>
                      <a:pt x="31" y="33"/>
                    </a:lnTo>
                    <a:lnTo>
                      <a:pt x="34" y="30"/>
                    </a:lnTo>
                    <a:lnTo>
                      <a:pt x="36" y="28"/>
                    </a:lnTo>
                    <a:lnTo>
                      <a:pt x="37" y="25"/>
                    </a:lnTo>
                    <a:lnTo>
                      <a:pt x="38" y="21"/>
                    </a:lnTo>
                    <a:lnTo>
                      <a:pt x="39" y="18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781440" y="3123000"/>
                <a:ext cx="825480" cy="657000"/>
              </a:xfrm>
              <a:custGeom>
                <a:avLst/>
                <a:gdLst/>
                <a:ahLst/>
                <a:rect l="l" t="t" r="r" b="b"/>
                <a:pathLst>
                  <a:path w="2600" h="2068">
                    <a:moveTo>
                      <a:pt x="0" y="1463"/>
                    </a:moveTo>
                    <a:lnTo>
                      <a:pt x="28" y="1481"/>
                    </a:lnTo>
                    <a:lnTo>
                      <a:pt x="54" y="1499"/>
                    </a:lnTo>
                    <a:lnTo>
                      <a:pt x="78" y="1517"/>
                    </a:lnTo>
                    <a:lnTo>
                      <a:pt x="101" y="1537"/>
                    </a:lnTo>
                    <a:lnTo>
                      <a:pt x="121" y="1555"/>
                    </a:lnTo>
                    <a:lnTo>
                      <a:pt x="140" y="1573"/>
                    </a:lnTo>
                    <a:lnTo>
                      <a:pt x="157" y="1592"/>
                    </a:lnTo>
                    <a:lnTo>
                      <a:pt x="173" y="1611"/>
                    </a:lnTo>
                    <a:lnTo>
                      <a:pt x="186" y="1629"/>
                    </a:lnTo>
                    <a:lnTo>
                      <a:pt x="199" y="1649"/>
                    </a:lnTo>
                    <a:lnTo>
                      <a:pt x="209" y="1667"/>
                    </a:lnTo>
                    <a:lnTo>
                      <a:pt x="218" y="1686"/>
                    </a:lnTo>
                    <a:lnTo>
                      <a:pt x="226" y="1704"/>
                    </a:lnTo>
                    <a:lnTo>
                      <a:pt x="233" y="1724"/>
                    </a:lnTo>
                    <a:lnTo>
                      <a:pt x="239" y="1742"/>
                    </a:lnTo>
                    <a:lnTo>
                      <a:pt x="242" y="1761"/>
                    </a:lnTo>
                    <a:lnTo>
                      <a:pt x="246" y="1781"/>
                    </a:lnTo>
                    <a:lnTo>
                      <a:pt x="248" y="1799"/>
                    </a:lnTo>
                    <a:lnTo>
                      <a:pt x="249" y="1818"/>
                    </a:lnTo>
                    <a:lnTo>
                      <a:pt x="249" y="1838"/>
                    </a:lnTo>
                    <a:lnTo>
                      <a:pt x="248" y="1857"/>
                    </a:lnTo>
                    <a:lnTo>
                      <a:pt x="246" y="1875"/>
                    </a:lnTo>
                    <a:lnTo>
                      <a:pt x="243" y="1895"/>
                    </a:lnTo>
                    <a:lnTo>
                      <a:pt x="240" y="1914"/>
                    </a:lnTo>
                    <a:lnTo>
                      <a:pt x="235" y="1934"/>
                    </a:lnTo>
                    <a:lnTo>
                      <a:pt x="231" y="1953"/>
                    </a:lnTo>
                    <a:lnTo>
                      <a:pt x="225" y="1971"/>
                    </a:lnTo>
                    <a:lnTo>
                      <a:pt x="219" y="1991"/>
                    </a:lnTo>
                    <a:lnTo>
                      <a:pt x="206" y="2029"/>
                    </a:lnTo>
                    <a:lnTo>
                      <a:pt x="191" y="2068"/>
                    </a:lnTo>
                    <a:lnTo>
                      <a:pt x="366" y="1975"/>
                    </a:lnTo>
                    <a:lnTo>
                      <a:pt x="536" y="1883"/>
                    </a:lnTo>
                    <a:lnTo>
                      <a:pt x="701" y="1793"/>
                    </a:lnTo>
                    <a:lnTo>
                      <a:pt x="861" y="1707"/>
                    </a:lnTo>
                    <a:lnTo>
                      <a:pt x="1017" y="1620"/>
                    </a:lnTo>
                    <a:lnTo>
                      <a:pt x="1169" y="1535"/>
                    </a:lnTo>
                    <a:lnTo>
                      <a:pt x="1317" y="1450"/>
                    </a:lnTo>
                    <a:lnTo>
                      <a:pt x="1462" y="1365"/>
                    </a:lnTo>
                    <a:lnTo>
                      <a:pt x="1604" y="1279"/>
                    </a:lnTo>
                    <a:lnTo>
                      <a:pt x="1745" y="1194"/>
                    </a:lnTo>
                    <a:lnTo>
                      <a:pt x="1883" y="1107"/>
                    </a:lnTo>
                    <a:lnTo>
                      <a:pt x="2021" y="1018"/>
                    </a:lnTo>
                    <a:lnTo>
                      <a:pt x="2158" y="927"/>
                    </a:lnTo>
                    <a:lnTo>
                      <a:pt x="2295" y="835"/>
                    </a:lnTo>
                    <a:lnTo>
                      <a:pt x="2431" y="739"/>
                    </a:lnTo>
                    <a:lnTo>
                      <a:pt x="2568" y="640"/>
                    </a:lnTo>
                    <a:lnTo>
                      <a:pt x="2582" y="596"/>
                    </a:lnTo>
                    <a:lnTo>
                      <a:pt x="2592" y="554"/>
                    </a:lnTo>
                    <a:lnTo>
                      <a:pt x="2598" y="513"/>
                    </a:lnTo>
                    <a:lnTo>
                      <a:pt x="2600" y="474"/>
                    </a:lnTo>
                    <a:lnTo>
                      <a:pt x="2600" y="436"/>
                    </a:lnTo>
                    <a:lnTo>
                      <a:pt x="2596" y="399"/>
                    </a:lnTo>
                    <a:lnTo>
                      <a:pt x="2589" y="364"/>
                    </a:lnTo>
                    <a:lnTo>
                      <a:pt x="2578" y="331"/>
                    </a:lnTo>
                    <a:lnTo>
                      <a:pt x="2566" y="298"/>
                    </a:lnTo>
                    <a:lnTo>
                      <a:pt x="2551" y="268"/>
                    </a:lnTo>
                    <a:lnTo>
                      <a:pt x="2534" y="238"/>
                    </a:lnTo>
                    <a:lnTo>
                      <a:pt x="2516" y="211"/>
                    </a:lnTo>
                    <a:lnTo>
                      <a:pt x="2494" y="185"/>
                    </a:lnTo>
                    <a:lnTo>
                      <a:pt x="2471" y="160"/>
                    </a:lnTo>
                    <a:lnTo>
                      <a:pt x="2447" y="137"/>
                    </a:lnTo>
                    <a:lnTo>
                      <a:pt x="2422" y="116"/>
                    </a:lnTo>
                    <a:lnTo>
                      <a:pt x="2396" y="97"/>
                    </a:lnTo>
                    <a:lnTo>
                      <a:pt x="2369" y="79"/>
                    </a:lnTo>
                    <a:lnTo>
                      <a:pt x="2341" y="63"/>
                    </a:lnTo>
                    <a:lnTo>
                      <a:pt x="2313" y="49"/>
                    </a:lnTo>
                    <a:lnTo>
                      <a:pt x="2284" y="37"/>
                    </a:lnTo>
                    <a:lnTo>
                      <a:pt x="2256" y="25"/>
                    </a:lnTo>
                    <a:lnTo>
                      <a:pt x="2227" y="17"/>
                    </a:lnTo>
                    <a:lnTo>
                      <a:pt x="2200" y="9"/>
                    </a:lnTo>
                    <a:lnTo>
                      <a:pt x="2173" y="5"/>
                    </a:lnTo>
                    <a:lnTo>
                      <a:pt x="2145" y="1"/>
                    </a:lnTo>
                    <a:lnTo>
                      <a:pt x="2119" y="0"/>
                    </a:lnTo>
                    <a:lnTo>
                      <a:pt x="2095" y="1"/>
                    </a:lnTo>
                    <a:lnTo>
                      <a:pt x="2071" y="4"/>
                    </a:lnTo>
                    <a:lnTo>
                      <a:pt x="2050" y="8"/>
                    </a:lnTo>
                    <a:lnTo>
                      <a:pt x="2029" y="15"/>
                    </a:lnTo>
                    <a:lnTo>
                      <a:pt x="2011" y="24"/>
                    </a:lnTo>
                    <a:lnTo>
                      <a:pt x="1976" y="41"/>
                    </a:lnTo>
                    <a:lnTo>
                      <a:pt x="1943" y="59"/>
                    </a:lnTo>
                    <a:lnTo>
                      <a:pt x="1909" y="81"/>
                    </a:lnTo>
                    <a:lnTo>
                      <a:pt x="1879" y="103"/>
                    </a:lnTo>
                    <a:lnTo>
                      <a:pt x="1849" y="126"/>
                    </a:lnTo>
                    <a:lnTo>
                      <a:pt x="1821" y="151"/>
                    </a:lnTo>
                    <a:lnTo>
                      <a:pt x="1793" y="176"/>
                    </a:lnTo>
                    <a:lnTo>
                      <a:pt x="1766" y="203"/>
                    </a:lnTo>
                    <a:lnTo>
                      <a:pt x="1739" y="230"/>
                    </a:lnTo>
                    <a:lnTo>
                      <a:pt x="1712" y="259"/>
                    </a:lnTo>
                    <a:lnTo>
                      <a:pt x="1686" y="289"/>
                    </a:lnTo>
                    <a:lnTo>
                      <a:pt x="1660" y="319"/>
                    </a:lnTo>
                    <a:lnTo>
                      <a:pt x="1607" y="381"/>
                    </a:lnTo>
                    <a:lnTo>
                      <a:pt x="1553" y="444"/>
                    </a:lnTo>
                    <a:lnTo>
                      <a:pt x="1524" y="477"/>
                    </a:lnTo>
                    <a:lnTo>
                      <a:pt x="1496" y="509"/>
                    </a:lnTo>
                    <a:lnTo>
                      <a:pt x="1465" y="541"/>
                    </a:lnTo>
                    <a:lnTo>
                      <a:pt x="1434" y="572"/>
                    </a:lnTo>
                    <a:lnTo>
                      <a:pt x="1401" y="604"/>
                    </a:lnTo>
                    <a:lnTo>
                      <a:pt x="1367" y="636"/>
                    </a:lnTo>
                    <a:lnTo>
                      <a:pt x="1332" y="668"/>
                    </a:lnTo>
                    <a:lnTo>
                      <a:pt x="1294" y="699"/>
                    </a:lnTo>
                    <a:lnTo>
                      <a:pt x="1254" y="730"/>
                    </a:lnTo>
                    <a:lnTo>
                      <a:pt x="1213" y="759"/>
                    </a:lnTo>
                    <a:lnTo>
                      <a:pt x="1169" y="788"/>
                    </a:lnTo>
                    <a:lnTo>
                      <a:pt x="1123" y="816"/>
                    </a:lnTo>
                    <a:lnTo>
                      <a:pt x="1074" y="844"/>
                    </a:lnTo>
                    <a:lnTo>
                      <a:pt x="1023" y="870"/>
                    </a:lnTo>
                    <a:lnTo>
                      <a:pt x="968" y="895"/>
                    </a:lnTo>
                    <a:lnTo>
                      <a:pt x="911" y="919"/>
                    </a:lnTo>
                    <a:lnTo>
                      <a:pt x="854" y="950"/>
                    </a:lnTo>
                    <a:lnTo>
                      <a:pt x="797" y="982"/>
                    </a:lnTo>
                    <a:lnTo>
                      <a:pt x="740" y="1015"/>
                    </a:lnTo>
                    <a:lnTo>
                      <a:pt x="683" y="1049"/>
                    </a:lnTo>
                    <a:lnTo>
                      <a:pt x="569" y="1118"/>
                    </a:lnTo>
                    <a:lnTo>
                      <a:pt x="455" y="1191"/>
                    </a:lnTo>
                    <a:lnTo>
                      <a:pt x="341" y="1263"/>
                    </a:lnTo>
                    <a:lnTo>
                      <a:pt x="227" y="1334"/>
                    </a:lnTo>
                    <a:lnTo>
                      <a:pt x="170" y="1368"/>
                    </a:lnTo>
                    <a:lnTo>
                      <a:pt x="113" y="1401"/>
                    </a:lnTo>
                    <a:lnTo>
                      <a:pt x="56" y="1433"/>
                    </a:lnTo>
                    <a:lnTo>
                      <a:pt x="0" y="1463"/>
                    </a:lnTo>
                    <a:close/>
                  </a:path>
                </a:pathLst>
              </a:custGeom>
              <a:solidFill>
                <a:srgbClr val="ab6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780000" y="3584880"/>
                <a:ext cx="83880" cy="198360"/>
              </a:xfrm>
              <a:custGeom>
                <a:avLst/>
                <a:gdLst/>
                <a:ahLst/>
                <a:rect l="l" t="t" r="r" b="b"/>
                <a:pathLst>
                  <a:path w="266" h="627">
                    <a:moveTo>
                      <a:pt x="191" y="604"/>
                    </a:moveTo>
                    <a:lnTo>
                      <a:pt x="208" y="620"/>
                    </a:lnTo>
                    <a:lnTo>
                      <a:pt x="223" y="581"/>
                    </a:lnTo>
                    <a:lnTo>
                      <a:pt x="237" y="542"/>
                    </a:lnTo>
                    <a:lnTo>
                      <a:pt x="242" y="522"/>
                    </a:lnTo>
                    <a:lnTo>
                      <a:pt x="248" y="502"/>
                    </a:lnTo>
                    <a:lnTo>
                      <a:pt x="253" y="483"/>
                    </a:lnTo>
                    <a:lnTo>
                      <a:pt x="257" y="463"/>
                    </a:lnTo>
                    <a:lnTo>
                      <a:pt x="261" y="444"/>
                    </a:lnTo>
                    <a:lnTo>
                      <a:pt x="264" y="425"/>
                    </a:lnTo>
                    <a:lnTo>
                      <a:pt x="265" y="404"/>
                    </a:lnTo>
                    <a:lnTo>
                      <a:pt x="266" y="385"/>
                    </a:lnTo>
                    <a:lnTo>
                      <a:pt x="266" y="365"/>
                    </a:lnTo>
                    <a:lnTo>
                      <a:pt x="265" y="346"/>
                    </a:lnTo>
                    <a:lnTo>
                      <a:pt x="264" y="326"/>
                    </a:lnTo>
                    <a:lnTo>
                      <a:pt x="261" y="306"/>
                    </a:lnTo>
                    <a:lnTo>
                      <a:pt x="256" y="287"/>
                    </a:lnTo>
                    <a:lnTo>
                      <a:pt x="250" y="267"/>
                    </a:lnTo>
                    <a:lnTo>
                      <a:pt x="244" y="247"/>
                    </a:lnTo>
                    <a:lnTo>
                      <a:pt x="236" y="228"/>
                    </a:lnTo>
                    <a:lnTo>
                      <a:pt x="225" y="208"/>
                    </a:lnTo>
                    <a:lnTo>
                      <a:pt x="215" y="189"/>
                    </a:lnTo>
                    <a:lnTo>
                      <a:pt x="201" y="169"/>
                    </a:lnTo>
                    <a:lnTo>
                      <a:pt x="188" y="150"/>
                    </a:lnTo>
                    <a:lnTo>
                      <a:pt x="172" y="131"/>
                    </a:lnTo>
                    <a:lnTo>
                      <a:pt x="155" y="112"/>
                    </a:lnTo>
                    <a:lnTo>
                      <a:pt x="135" y="93"/>
                    </a:lnTo>
                    <a:lnTo>
                      <a:pt x="115" y="75"/>
                    </a:lnTo>
                    <a:lnTo>
                      <a:pt x="92" y="55"/>
                    </a:lnTo>
                    <a:lnTo>
                      <a:pt x="67" y="37"/>
                    </a:lnTo>
                    <a:lnTo>
                      <a:pt x="41" y="18"/>
                    </a:lnTo>
                    <a:lnTo>
                      <a:pt x="12" y="0"/>
                    </a:lnTo>
                    <a:lnTo>
                      <a:pt x="0" y="20"/>
                    </a:lnTo>
                    <a:lnTo>
                      <a:pt x="27" y="38"/>
                    </a:lnTo>
                    <a:lnTo>
                      <a:pt x="53" y="57"/>
                    </a:lnTo>
                    <a:lnTo>
                      <a:pt x="77" y="75"/>
                    </a:lnTo>
                    <a:lnTo>
                      <a:pt x="99" y="93"/>
                    </a:lnTo>
                    <a:lnTo>
                      <a:pt x="119" y="110"/>
                    </a:lnTo>
                    <a:lnTo>
                      <a:pt x="138" y="128"/>
                    </a:lnTo>
                    <a:lnTo>
                      <a:pt x="154" y="147"/>
                    </a:lnTo>
                    <a:lnTo>
                      <a:pt x="168" y="165"/>
                    </a:lnTo>
                    <a:lnTo>
                      <a:pt x="182" y="183"/>
                    </a:lnTo>
                    <a:lnTo>
                      <a:pt x="193" y="201"/>
                    </a:lnTo>
                    <a:lnTo>
                      <a:pt x="205" y="220"/>
                    </a:lnTo>
                    <a:lnTo>
                      <a:pt x="214" y="238"/>
                    </a:lnTo>
                    <a:lnTo>
                      <a:pt x="221" y="256"/>
                    </a:lnTo>
                    <a:lnTo>
                      <a:pt x="228" y="274"/>
                    </a:lnTo>
                    <a:lnTo>
                      <a:pt x="232" y="292"/>
                    </a:lnTo>
                    <a:lnTo>
                      <a:pt x="237" y="311"/>
                    </a:lnTo>
                    <a:lnTo>
                      <a:pt x="240" y="329"/>
                    </a:lnTo>
                    <a:lnTo>
                      <a:pt x="241" y="347"/>
                    </a:lnTo>
                    <a:lnTo>
                      <a:pt x="242" y="365"/>
                    </a:lnTo>
                    <a:lnTo>
                      <a:pt x="242" y="385"/>
                    </a:lnTo>
                    <a:lnTo>
                      <a:pt x="241" y="403"/>
                    </a:lnTo>
                    <a:lnTo>
                      <a:pt x="239" y="421"/>
                    </a:lnTo>
                    <a:lnTo>
                      <a:pt x="237" y="441"/>
                    </a:lnTo>
                    <a:lnTo>
                      <a:pt x="233" y="459"/>
                    </a:lnTo>
                    <a:lnTo>
                      <a:pt x="230" y="477"/>
                    </a:lnTo>
                    <a:lnTo>
                      <a:pt x="224" y="497"/>
                    </a:lnTo>
                    <a:lnTo>
                      <a:pt x="220" y="515"/>
                    </a:lnTo>
                    <a:lnTo>
                      <a:pt x="214" y="534"/>
                    </a:lnTo>
                    <a:lnTo>
                      <a:pt x="200" y="572"/>
                    </a:lnTo>
                    <a:lnTo>
                      <a:pt x="185" y="611"/>
                    </a:lnTo>
                    <a:lnTo>
                      <a:pt x="203" y="625"/>
                    </a:lnTo>
                    <a:lnTo>
                      <a:pt x="185" y="611"/>
                    </a:lnTo>
                    <a:lnTo>
                      <a:pt x="184" y="615"/>
                    </a:lnTo>
                    <a:lnTo>
                      <a:pt x="185" y="620"/>
                    </a:lnTo>
                    <a:lnTo>
                      <a:pt x="188" y="623"/>
                    </a:lnTo>
                    <a:lnTo>
                      <a:pt x="192" y="625"/>
                    </a:lnTo>
                    <a:lnTo>
                      <a:pt x="197" y="627"/>
                    </a:lnTo>
                    <a:lnTo>
                      <a:pt x="200" y="627"/>
                    </a:lnTo>
                    <a:lnTo>
                      <a:pt x="205" y="624"/>
                    </a:lnTo>
                    <a:lnTo>
                      <a:pt x="208" y="620"/>
                    </a:lnTo>
                    <a:lnTo>
                      <a:pt x="191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0120" y="3322800"/>
                <a:ext cx="760320" cy="460440"/>
              </a:xfrm>
              <a:custGeom>
                <a:avLst/>
                <a:gdLst/>
                <a:ahLst/>
                <a:rect l="l" t="t" r="r" b="b"/>
                <a:pathLst>
                  <a:path w="2396" h="1450">
                    <a:moveTo>
                      <a:pt x="2372" y="8"/>
                    </a:moveTo>
                    <a:lnTo>
                      <a:pt x="2376" y="3"/>
                    </a:lnTo>
                    <a:lnTo>
                      <a:pt x="2238" y="101"/>
                    </a:lnTo>
                    <a:lnTo>
                      <a:pt x="2103" y="196"/>
                    </a:lnTo>
                    <a:lnTo>
                      <a:pt x="1966" y="290"/>
                    </a:lnTo>
                    <a:lnTo>
                      <a:pt x="1829" y="380"/>
                    </a:lnTo>
                    <a:lnTo>
                      <a:pt x="1693" y="469"/>
                    </a:lnTo>
                    <a:lnTo>
                      <a:pt x="1554" y="555"/>
                    </a:lnTo>
                    <a:lnTo>
                      <a:pt x="1413" y="641"/>
                    </a:lnTo>
                    <a:lnTo>
                      <a:pt x="1271" y="726"/>
                    </a:lnTo>
                    <a:lnTo>
                      <a:pt x="1126" y="811"/>
                    </a:lnTo>
                    <a:lnTo>
                      <a:pt x="978" y="896"/>
                    </a:lnTo>
                    <a:lnTo>
                      <a:pt x="826" y="982"/>
                    </a:lnTo>
                    <a:lnTo>
                      <a:pt x="670" y="1067"/>
                    </a:lnTo>
                    <a:lnTo>
                      <a:pt x="511" y="1155"/>
                    </a:lnTo>
                    <a:lnTo>
                      <a:pt x="345" y="1244"/>
                    </a:lnTo>
                    <a:lnTo>
                      <a:pt x="176" y="1335"/>
                    </a:lnTo>
                    <a:lnTo>
                      <a:pt x="0" y="1429"/>
                    </a:lnTo>
                    <a:lnTo>
                      <a:pt x="12" y="1450"/>
                    </a:lnTo>
                    <a:lnTo>
                      <a:pt x="187" y="1357"/>
                    </a:lnTo>
                    <a:lnTo>
                      <a:pt x="357" y="1266"/>
                    </a:lnTo>
                    <a:lnTo>
                      <a:pt x="522" y="1177"/>
                    </a:lnTo>
                    <a:lnTo>
                      <a:pt x="682" y="1089"/>
                    </a:lnTo>
                    <a:lnTo>
                      <a:pt x="838" y="1002"/>
                    </a:lnTo>
                    <a:lnTo>
                      <a:pt x="989" y="917"/>
                    </a:lnTo>
                    <a:lnTo>
                      <a:pt x="1138" y="832"/>
                    </a:lnTo>
                    <a:lnTo>
                      <a:pt x="1283" y="747"/>
                    </a:lnTo>
                    <a:lnTo>
                      <a:pt x="1426" y="663"/>
                    </a:lnTo>
                    <a:lnTo>
                      <a:pt x="1566" y="576"/>
                    </a:lnTo>
                    <a:lnTo>
                      <a:pt x="1705" y="489"/>
                    </a:lnTo>
                    <a:lnTo>
                      <a:pt x="1843" y="400"/>
                    </a:lnTo>
                    <a:lnTo>
                      <a:pt x="1980" y="309"/>
                    </a:lnTo>
                    <a:lnTo>
                      <a:pt x="2117" y="217"/>
                    </a:lnTo>
                    <a:lnTo>
                      <a:pt x="2253" y="121"/>
                    </a:lnTo>
                    <a:lnTo>
                      <a:pt x="2390" y="22"/>
                    </a:lnTo>
                    <a:lnTo>
                      <a:pt x="2395" y="16"/>
                    </a:lnTo>
                    <a:lnTo>
                      <a:pt x="2390" y="22"/>
                    </a:lnTo>
                    <a:lnTo>
                      <a:pt x="2393" y="19"/>
                    </a:lnTo>
                    <a:lnTo>
                      <a:pt x="2396" y="14"/>
                    </a:lnTo>
                    <a:lnTo>
                      <a:pt x="2395" y="9"/>
                    </a:lnTo>
                    <a:lnTo>
                      <a:pt x="2393" y="5"/>
                    </a:lnTo>
                    <a:lnTo>
                      <a:pt x="2390" y="1"/>
                    </a:lnTo>
                    <a:lnTo>
                      <a:pt x="2385" y="0"/>
                    </a:lnTo>
                    <a:lnTo>
                      <a:pt x="2381" y="0"/>
                    </a:lnTo>
                    <a:lnTo>
                      <a:pt x="2376" y="3"/>
                    </a:lnTo>
                    <a:lnTo>
                      <a:pt x="237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16480" y="3119760"/>
                <a:ext cx="195120" cy="208080"/>
              </a:xfrm>
              <a:custGeom>
                <a:avLst/>
                <a:gdLst/>
                <a:ahLst/>
                <a:rect l="l" t="t" r="r" b="b"/>
                <a:pathLst>
                  <a:path w="615" h="656">
                    <a:moveTo>
                      <a:pt x="17" y="46"/>
                    </a:moveTo>
                    <a:lnTo>
                      <a:pt x="19" y="46"/>
                    </a:lnTo>
                    <a:lnTo>
                      <a:pt x="27" y="42"/>
                    </a:lnTo>
                    <a:lnTo>
                      <a:pt x="36" y="38"/>
                    </a:lnTo>
                    <a:lnTo>
                      <a:pt x="45" y="35"/>
                    </a:lnTo>
                    <a:lnTo>
                      <a:pt x="54" y="32"/>
                    </a:lnTo>
                    <a:lnTo>
                      <a:pt x="76" y="27"/>
                    </a:lnTo>
                    <a:lnTo>
                      <a:pt x="97" y="25"/>
                    </a:lnTo>
                    <a:lnTo>
                      <a:pt x="121" y="25"/>
                    </a:lnTo>
                    <a:lnTo>
                      <a:pt x="146" y="26"/>
                    </a:lnTo>
                    <a:lnTo>
                      <a:pt x="172" y="28"/>
                    </a:lnTo>
                    <a:lnTo>
                      <a:pt x="199" y="34"/>
                    </a:lnTo>
                    <a:lnTo>
                      <a:pt x="226" y="41"/>
                    </a:lnTo>
                    <a:lnTo>
                      <a:pt x="255" y="49"/>
                    </a:lnTo>
                    <a:lnTo>
                      <a:pt x="282" y="60"/>
                    </a:lnTo>
                    <a:lnTo>
                      <a:pt x="310" y="71"/>
                    </a:lnTo>
                    <a:lnTo>
                      <a:pt x="338" y="85"/>
                    </a:lnTo>
                    <a:lnTo>
                      <a:pt x="365" y="101"/>
                    </a:lnTo>
                    <a:lnTo>
                      <a:pt x="391" y="118"/>
                    </a:lnTo>
                    <a:lnTo>
                      <a:pt x="417" y="138"/>
                    </a:lnTo>
                    <a:lnTo>
                      <a:pt x="441" y="158"/>
                    </a:lnTo>
                    <a:lnTo>
                      <a:pt x="465" y="181"/>
                    </a:lnTo>
                    <a:lnTo>
                      <a:pt x="487" y="205"/>
                    </a:lnTo>
                    <a:lnTo>
                      <a:pt x="508" y="230"/>
                    </a:lnTo>
                    <a:lnTo>
                      <a:pt x="517" y="244"/>
                    </a:lnTo>
                    <a:lnTo>
                      <a:pt x="526" y="257"/>
                    </a:lnTo>
                    <a:lnTo>
                      <a:pt x="535" y="271"/>
                    </a:lnTo>
                    <a:lnTo>
                      <a:pt x="543" y="285"/>
                    </a:lnTo>
                    <a:lnTo>
                      <a:pt x="550" y="299"/>
                    </a:lnTo>
                    <a:lnTo>
                      <a:pt x="558" y="315"/>
                    </a:lnTo>
                    <a:lnTo>
                      <a:pt x="563" y="330"/>
                    </a:lnTo>
                    <a:lnTo>
                      <a:pt x="569" y="346"/>
                    </a:lnTo>
                    <a:lnTo>
                      <a:pt x="575" y="362"/>
                    </a:lnTo>
                    <a:lnTo>
                      <a:pt x="579" y="379"/>
                    </a:lnTo>
                    <a:lnTo>
                      <a:pt x="583" y="396"/>
                    </a:lnTo>
                    <a:lnTo>
                      <a:pt x="586" y="413"/>
                    </a:lnTo>
                    <a:lnTo>
                      <a:pt x="588" y="431"/>
                    </a:lnTo>
                    <a:lnTo>
                      <a:pt x="590" y="449"/>
                    </a:lnTo>
                    <a:lnTo>
                      <a:pt x="591" y="467"/>
                    </a:lnTo>
                    <a:lnTo>
                      <a:pt x="591" y="486"/>
                    </a:lnTo>
                    <a:lnTo>
                      <a:pt x="590" y="505"/>
                    </a:lnTo>
                    <a:lnTo>
                      <a:pt x="588" y="524"/>
                    </a:lnTo>
                    <a:lnTo>
                      <a:pt x="585" y="545"/>
                    </a:lnTo>
                    <a:lnTo>
                      <a:pt x="582" y="564"/>
                    </a:lnTo>
                    <a:lnTo>
                      <a:pt x="578" y="584"/>
                    </a:lnTo>
                    <a:lnTo>
                      <a:pt x="572" y="605"/>
                    </a:lnTo>
                    <a:lnTo>
                      <a:pt x="566" y="627"/>
                    </a:lnTo>
                    <a:lnTo>
                      <a:pt x="559" y="648"/>
                    </a:lnTo>
                    <a:lnTo>
                      <a:pt x="582" y="656"/>
                    </a:lnTo>
                    <a:lnTo>
                      <a:pt x="590" y="633"/>
                    </a:lnTo>
                    <a:lnTo>
                      <a:pt x="595" y="612"/>
                    </a:lnTo>
                    <a:lnTo>
                      <a:pt x="601" y="590"/>
                    </a:lnTo>
                    <a:lnTo>
                      <a:pt x="606" y="568"/>
                    </a:lnTo>
                    <a:lnTo>
                      <a:pt x="609" y="548"/>
                    </a:lnTo>
                    <a:lnTo>
                      <a:pt x="612" y="527"/>
                    </a:lnTo>
                    <a:lnTo>
                      <a:pt x="614" y="507"/>
                    </a:lnTo>
                    <a:lnTo>
                      <a:pt x="615" y="486"/>
                    </a:lnTo>
                    <a:lnTo>
                      <a:pt x="615" y="467"/>
                    </a:lnTo>
                    <a:lnTo>
                      <a:pt x="614" y="448"/>
                    </a:lnTo>
                    <a:lnTo>
                      <a:pt x="612" y="428"/>
                    </a:lnTo>
                    <a:lnTo>
                      <a:pt x="610" y="410"/>
                    </a:lnTo>
                    <a:lnTo>
                      <a:pt x="607" y="392"/>
                    </a:lnTo>
                    <a:lnTo>
                      <a:pt x="602" y="374"/>
                    </a:lnTo>
                    <a:lnTo>
                      <a:pt x="598" y="355"/>
                    </a:lnTo>
                    <a:lnTo>
                      <a:pt x="592" y="338"/>
                    </a:lnTo>
                    <a:lnTo>
                      <a:pt x="586" y="322"/>
                    </a:lnTo>
                    <a:lnTo>
                      <a:pt x="579" y="305"/>
                    </a:lnTo>
                    <a:lnTo>
                      <a:pt x="572" y="289"/>
                    </a:lnTo>
                    <a:lnTo>
                      <a:pt x="564" y="274"/>
                    </a:lnTo>
                    <a:lnTo>
                      <a:pt x="555" y="258"/>
                    </a:lnTo>
                    <a:lnTo>
                      <a:pt x="546" y="244"/>
                    </a:lnTo>
                    <a:lnTo>
                      <a:pt x="537" y="230"/>
                    </a:lnTo>
                    <a:lnTo>
                      <a:pt x="527" y="215"/>
                    </a:lnTo>
                    <a:lnTo>
                      <a:pt x="505" y="189"/>
                    </a:lnTo>
                    <a:lnTo>
                      <a:pt x="482" y="164"/>
                    </a:lnTo>
                    <a:lnTo>
                      <a:pt x="457" y="140"/>
                    </a:lnTo>
                    <a:lnTo>
                      <a:pt x="432" y="118"/>
                    </a:lnTo>
                    <a:lnTo>
                      <a:pt x="405" y="99"/>
                    </a:lnTo>
                    <a:lnTo>
                      <a:pt x="378" y="81"/>
                    </a:lnTo>
                    <a:lnTo>
                      <a:pt x="349" y="65"/>
                    </a:lnTo>
                    <a:lnTo>
                      <a:pt x="321" y="50"/>
                    </a:lnTo>
                    <a:lnTo>
                      <a:pt x="291" y="37"/>
                    </a:lnTo>
                    <a:lnTo>
                      <a:pt x="262" y="26"/>
                    </a:lnTo>
                    <a:lnTo>
                      <a:pt x="233" y="17"/>
                    </a:lnTo>
                    <a:lnTo>
                      <a:pt x="204" y="10"/>
                    </a:lnTo>
                    <a:lnTo>
                      <a:pt x="176" y="4"/>
                    </a:lnTo>
                    <a:lnTo>
                      <a:pt x="149" y="2"/>
                    </a:lnTo>
                    <a:lnTo>
                      <a:pt x="121" y="0"/>
                    </a:lnTo>
                    <a:lnTo>
                      <a:pt x="96" y="1"/>
                    </a:lnTo>
                    <a:lnTo>
                      <a:pt x="71" y="3"/>
                    </a:lnTo>
                    <a:lnTo>
                      <a:pt x="48" y="9"/>
                    </a:lnTo>
                    <a:lnTo>
                      <a:pt x="37" y="12"/>
                    </a:lnTo>
                    <a:lnTo>
                      <a:pt x="27" y="16"/>
                    </a:lnTo>
                    <a:lnTo>
                      <a:pt x="16" y="20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3" y="28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5" y="45"/>
                    </a:lnTo>
                    <a:lnTo>
                      <a:pt x="8" y="47"/>
                    </a:lnTo>
                    <a:lnTo>
                      <a:pt x="13" y="47"/>
                    </a:lnTo>
                    <a:lnTo>
                      <a:pt x="1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4067280" y="3127680"/>
                <a:ext cx="353880" cy="290520"/>
              </a:xfrm>
              <a:custGeom>
                <a:avLst/>
                <a:gdLst/>
                <a:ahLst/>
                <a:rect l="l" t="t" r="r" b="b"/>
                <a:pathLst>
                  <a:path w="1116" h="919">
                    <a:moveTo>
                      <a:pt x="18" y="917"/>
                    </a:moveTo>
                    <a:lnTo>
                      <a:pt x="17" y="917"/>
                    </a:lnTo>
                    <a:lnTo>
                      <a:pt x="45" y="906"/>
                    </a:lnTo>
                    <a:lnTo>
                      <a:pt x="74" y="893"/>
                    </a:lnTo>
                    <a:lnTo>
                      <a:pt x="102" y="881"/>
                    </a:lnTo>
                    <a:lnTo>
                      <a:pt x="129" y="867"/>
                    </a:lnTo>
                    <a:lnTo>
                      <a:pt x="181" y="841"/>
                    </a:lnTo>
                    <a:lnTo>
                      <a:pt x="230" y="814"/>
                    </a:lnTo>
                    <a:lnTo>
                      <a:pt x="277" y="785"/>
                    </a:lnTo>
                    <a:lnTo>
                      <a:pt x="321" y="756"/>
                    </a:lnTo>
                    <a:lnTo>
                      <a:pt x="363" y="726"/>
                    </a:lnTo>
                    <a:lnTo>
                      <a:pt x="403" y="695"/>
                    </a:lnTo>
                    <a:lnTo>
                      <a:pt x="441" y="664"/>
                    </a:lnTo>
                    <a:lnTo>
                      <a:pt x="477" y="632"/>
                    </a:lnTo>
                    <a:lnTo>
                      <a:pt x="511" y="600"/>
                    </a:lnTo>
                    <a:lnTo>
                      <a:pt x="543" y="569"/>
                    </a:lnTo>
                    <a:lnTo>
                      <a:pt x="575" y="535"/>
                    </a:lnTo>
                    <a:lnTo>
                      <a:pt x="606" y="504"/>
                    </a:lnTo>
                    <a:lnTo>
                      <a:pt x="634" y="472"/>
                    </a:lnTo>
                    <a:lnTo>
                      <a:pt x="663" y="439"/>
                    </a:lnTo>
                    <a:lnTo>
                      <a:pt x="718" y="376"/>
                    </a:lnTo>
                    <a:lnTo>
                      <a:pt x="770" y="313"/>
                    </a:lnTo>
                    <a:lnTo>
                      <a:pt x="796" y="284"/>
                    </a:lnTo>
                    <a:lnTo>
                      <a:pt x="822" y="254"/>
                    </a:lnTo>
                    <a:lnTo>
                      <a:pt x="849" y="227"/>
                    </a:lnTo>
                    <a:lnTo>
                      <a:pt x="875" y="198"/>
                    </a:lnTo>
                    <a:lnTo>
                      <a:pt x="902" y="172"/>
                    </a:lnTo>
                    <a:lnTo>
                      <a:pt x="930" y="147"/>
                    </a:lnTo>
                    <a:lnTo>
                      <a:pt x="958" y="122"/>
                    </a:lnTo>
                    <a:lnTo>
                      <a:pt x="988" y="99"/>
                    </a:lnTo>
                    <a:lnTo>
                      <a:pt x="1017" y="77"/>
                    </a:lnTo>
                    <a:lnTo>
                      <a:pt x="1049" y="58"/>
                    </a:lnTo>
                    <a:lnTo>
                      <a:pt x="1082" y="38"/>
                    </a:lnTo>
                    <a:lnTo>
                      <a:pt x="1116" y="21"/>
                    </a:lnTo>
                    <a:lnTo>
                      <a:pt x="1106" y="0"/>
                    </a:lnTo>
                    <a:lnTo>
                      <a:pt x="1071" y="17"/>
                    </a:lnTo>
                    <a:lnTo>
                      <a:pt x="1037" y="36"/>
                    </a:lnTo>
                    <a:lnTo>
                      <a:pt x="1005" y="58"/>
                    </a:lnTo>
                    <a:lnTo>
                      <a:pt x="973" y="79"/>
                    </a:lnTo>
                    <a:lnTo>
                      <a:pt x="943" y="103"/>
                    </a:lnTo>
                    <a:lnTo>
                      <a:pt x="914" y="129"/>
                    </a:lnTo>
                    <a:lnTo>
                      <a:pt x="885" y="155"/>
                    </a:lnTo>
                    <a:lnTo>
                      <a:pt x="858" y="181"/>
                    </a:lnTo>
                    <a:lnTo>
                      <a:pt x="832" y="209"/>
                    </a:lnTo>
                    <a:lnTo>
                      <a:pt x="804" y="238"/>
                    </a:lnTo>
                    <a:lnTo>
                      <a:pt x="778" y="268"/>
                    </a:lnTo>
                    <a:lnTo>
                      <a:pt x="752" y="298"/>
                    </a:lnTo>
                    <a:lnTo>
                      <a:pt x="699" y="360"/>
                    </a:lnTo>
                    <a:lnTo>
                      <a:pt x="645" y="423"/>
                    </a:lnTo>
                    <a:lnTo>
                      <a:pt x="616" y="455"/>
                    </a:lnTo>
                    <a:lnTo>
                      <a:pt x="588" y="488"/>
                    </a:lnTo>
                    <a:lnTo>
                      <a:pt x="558" y="520"/>
                    </a:lnTo>
                    <a:lnTo>
                      <a:pt x="526" y="551"/>
                    </a:lnTo>
                    <a:lnTo>
                      <a:pt x="494" y="583"/>
                    </a:lnTo>
                    <a:lnTo>
                      <a:pt x="460" y="614"/>
                    </a:lnTo>
                    <a:lnTo>
                      <a:pt x="425" y="646"/>
                    </a:lnTo>
                    <a:lnTo>
                      <a:pt x="387" y="677"/>
                    </a:lnTo>
                    <a:lnTo>
                      <a:pt x="348" y="706"/>
                    </a:lnTo>
                    <a:lnTo>
                      <a:pt x="307" y="736"/>
                    </a:lnTo>
                    <a:lnTo>
                      <a:pt x="264" y="765"/>
                    </a:lnTo>
                    <a:lnTo>
                      <a:pt x="218" y="793"/>
                    </a:lnTo>
                    <a:lnTo>
                      <a:pt x="169" y="820"/>
                    </a:lnTo>
                    <a:lnTo>
                      <a:pt x="118" y="846"/>
                    </a:lnTo>
                    <a:lnTo>
                      <a:pt x="92" y="858"/>
                    </a:lnTo>
                    <a:lnTo>
                      <a:pt x="65" y="871"/>
                    </a:lnTo>
                    <a:lnTo>
                      <a:pt x="36" y="883"/>
                    </a:lnTo>
                    <a:lnTo>
                      <a:pt x="8" y="895"/>
                    </a:lnTo>
                    <a:lnTo>
                      <a:pt x="6" y="896"/>
                    </a:lnTo>
                    <a:lnTo>
                      <a:pt x="8" y="895"/>
                    </a:lnTo>
                    <a:lnTo>
                      <a:pt x="3" y="898"/>
                    </a:lnTo>
                    <a:lnTo>
                      <a:pt x="1" y="901"/>
                    </a:lnTo>
                    <a:lnTo>
                      <a:pt x="0" y="906"/>
                    </a:lnTo>
                    <a:lnTo>
                      <a:pt x="1" y="911"/>
                    </a:lnTo>
                    <a:lnTo>
                      <a:pt x="3" y="914"/>
                    </a:lnTo>
                    <a:lnTo>
                      <a:pt x="6" y="917"/>
                    </a:lnTo>
                    <a:lnTo>
                      <a:pt x="11" y="919"/>
                    </a:lnTo>
                    <a:lnTo>
                      <a:pt x="17" y="917"/>
                    </a:lnTo>
                    <a:lnTo>
                      <a:pt x="18" y="91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78200" y="3411720"/>
                <a:ext cx="293760" cy="179640"/>
              </a:xfrm>
              <a:custGeom>
                <a:avLst/>
                <a:gdLst/>
                <a:ahLst/>
                <a:rect l="l" t="t" r="r" b="b"/>
                <a:pathLst>
                  <a:path w="929" h="566">
                    <a:moveTo>
                      <a:pt x="18" y="544"/>
                    </a:moveTo>
                    <a:lnTo>
                      <a:pt x="17" y="565"/>
                    </a:lnTo>
                    <a:lnTo>
                      <a:pt x="74" y="534"/>
                    </a:lnTo>
                    <a:lnTo>
                      <a:pt x="132" y="502"/>
                    </a:lnTo>
                    <a:lnTo>
                      <a:pt x="189" y="469"/>
                    </a:lnTo>
                    <a:lnTo>
                      <a:pt x="246" y="435"/>
                    </a:lnTo>
                    <a:lnTo>
                      <a:pt x="359" y="365"/>
                    </a:lnTo>
                    <a:lnTo>
                      <a:pt x="473" y="293"/>
                    </a:lnTo>
                    <a:lnTo>
                      <a:pt x="587" y="220"/>
                    </a:lnTo>
                    <a:lnTo>
                      <a:pt x="701" y="150"/>
                    </a:lnTo>
                    <a:lnTo>
                      <a:pt x="758" y="116"/>
                    </a:lnTo>
                    <a:lnTo>
                      <a:pt x="815" y="83"/>
                    </a:lnTo>
                    <a:lnTo>
                      <a:pt x="872" y="51"/>
                    </a:lnTo>
                    <a:lnTo>
                      <a:pt x="929" y="21"/>
                    </a:lnTo>
                    <a:lnTo>
                      <a:pt x="917" y="0"/>
                    </a:lnTo>
                    <a:lnTo>
                      <a:pt x="860" y="29"/>
                    </a:lnTo>
                    <a:lnTo>
                      <a:pt x="802" y="61"/>
                    </a:lnTo>
                    <a:lnTo>
                      <a:pt x="745" y="95"/>
                    </a:lnTo>
                    <a:lnTo>
                      <a:pt x="688" y="129"/>
                    </a:lnTo>
                    <a:lnTo>
                      <a:pt x="574" y="199"/>
                    </a:lnTo>
                    <a:lnTo>
                      <a:pt x="460" y="272"/>
                    </a:lnTo>
                    <a:lnTo>
                      <a:pt x="346" y="344"/>
                    </a:lnTo>
                    <a:lnTo>
                      <a:pt x="232" y="415"/>
                    </a:lnTo>
                    <a:lnTo>
                      <a:pt x="177" y="449"/>
                    </a:lnTo>
                    <a:lnTo>
                      <a:pt x="120" y="481"/>
                    </a:lnTo>
                    <a:lnTo>
                      <a:pt x="63" y="513"/>
                    </a:lnTo>
                    <a:lnTo>
                      <a:pt x="7" y="544"/>
                    </a:lnTo>
                    <a:lnTo>
                      <a:pt x="6" y="564"/>
                    </a:lnTo>
                    <a:lnTo>
                      <a:pt x="7" y="544"/>
                    </a:lnTo>
                    <a:lnTo>
                      <a:pt x="2" y="547"/>
                    </a:lnTo>
                    <a:lnTo>
                      <a:pt x="0" y="550"/>
                    </a:lnTo>
                    <a:lnTo>
                      <a:pt x="0" y="555"/>
                    </a:lnTo>
                    <a:lnTo>
                      <a:pt x="1" y="559"/>
                    </a:lnTo>
                    <a:lnTo>
                      <a:pt x="5" y="563"/>
                    </a:lnTo>
                    <a:lnTo>
                      <a:pt x="8" y="565"/>
                    </a:lnTo>
                    <a:lnTo>
                      <a:pt x="12" y="566"/>
                    </a:lnTo>
                    <a:lnTo>
                      <a:pt x="17" y="565"/>
                    </a:lnTo>
                    <a:lnTo>
                      <a:pt x="18" y="54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68800" y="33976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0"/>
                    </a:moveTo>
                    <a:lnTo>
                      <a:pt x="9" y="0"/>
                    </a:lnTo>
                    <a:lnTo>
                      <a:pt x="5" y="1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19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4172040" y="3397680"/>
                <a:ext cx="258840" cy="23760"/>
              </a:xfrm>
              <a:custGeom>
                <a:avLst/>
                <a:gdLst/>
                <a:ahLst/>
                <a:rect l="l" t="t" r="r" b="b"/>
                <a:pathLst>
                  <a:path w="814" h="78">
                    <a:moveTo>
                      <a:pt x="809" y="28"/>
                    </a:moveTo>
                    <a:lnTo>
                      <a:pt x="776" y="34"/>
                    </a:lnTo>
                    <a:lnTo>
                      <a:pt x="743" y="39"/>
                    </a:lnTo>
                    <a:lnTo>
                      <a:pt x="709" y="44"/>
                    </a:lnTo>
                    <a:lnTo>
                      <a:pt x="676" y="47"/>
                    </a:lnTo>
                    <a:lnTo>
                      <a:pt x="641" y="50"/>
                    </a:lnTo>
                    <a:lnTo>
                      <a:pt x="607" y="52"/>
                    </a:lnTo>
                    <a:lnTo>
                      <a:pt x="572" y="53"/>
                    </a:lnTo>
                    <a:lnTo>
                      <a:pt x="538" y="54"/>
                    </a:lnTo>
                    <a:lnTo>
                      <a:pt x="470" y="53"/>
                    </a:lnTo>
                    <a:lnTo>
                      <a:pt x="403" y="50"/>
                    </a:lnTo>
                    <a:lnTo>
                      <a:pt x="339" y="46"/>
                    </a:lnTo>
                    <a:lnTo>
                      <a:pt x="277" y="41"/>
                    </a:lnTo>
                    <a:lnTo>
                      <a:pt x="220" y="34"/>
                    </a:lnTo>
                    <a:lnTo>
                      <a:pt x="169" y="28"/>
                    </a:lnTo>
                    <a:lnTo>
                      <a:pt x="122" y="21"/>
                    </a:lnTo>
                    <a:lnTo>
                      <a:pt x="82" y="14"/>
                    </a:lnTo>
                    <a:lnTo>
                      <a:pt x="25" y="4"/>
                    </a:lnTo>
                    <a:lnTo>
                      <a:pt x="6" y="0"/>
                    </a:lnTo>
                    <a:lnTo>
                      <a:pt x="0" y="24"/>
                    </a:lnTo>
                    <a:lnTo>
                      <a:pt x="21" y="28"/>
                    </a:lnTo>
                    <a:lnTo>
                      <a:pt x="78" y="38"/>
                    </a:lnTo>
                    <a:lnTo>
                      <a:pt x="119" y="45"/>
                    </a:lnTo>
                    <a:lnTo>
                      <a:pt x="165" y="52"/>
                    </a:lnTo>
                    <a:lnTo>
                      <a:pt x="218" y="58"/>
                    </a:lnTo>
                    <a:lnTo>
                      <a:pt x="275" y="65"/>
                    </a:lnTo>
                    <a:lnTo>
                      <a:pt x="336" y="71"/>
                    </a:lnTo>
                    <a:lnTo>
                      <a:pt x="401" y="74"/>
                    </a:lnTo>
                    <a:lnTo>
                      <a:pt x="469" y="78"/>
                    </a:lnTo>
                    <a:lnTo>
                      <a:pt x="538" y="78"/>
                    </a:lnTo>
                    <a:lnTo>
                      <a:pt x="572" y="78"/>
                    </a:lnTo>
                    <a:lnTo>
                      <a:pt x="608" y="76"/>
                    </a:lnTo>
                    <a:lnTo>
                      <a:pt x="643" y="74"/>
                    </a:lnTo>
                    <a:lnTo>
                      <a:pt x="677" y="71"/>
                    </a:lnTo>
                    <a:lnTo>
                      <a:pt x="713" y="68"/>
                    </a:lnTo>
                    <a:lnTo>
                      <a:pt x="747" y="63"/>
                    </a:lnTo>
                    <a:lnTo>
                      <a:pt x="781" y="57"/>
                    </a:lnTo>
                    <a:lnTo>
                      <a:pt x="814" y="52"/>
                    </a:lnTo>
                    <a:lnTo>
                      <a:pt x="809" y="2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4429080" y="34056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5" y="24"/>
                    </a:moveTo>
                    <a:lnTo>
                      <a:pt x="11" y="21"/>
                    </a:lnTo>
                    <a:lnTo>
                      <a:pt x="13" y="18"/>
                    </a:lnTo>
                    <a:lnTo>
                      <a:pt x="15" y="13"/>
                    </a:lnTo>
                    <a:lnTo>
                      <a:pt x="14" y="9"/>
                    </a:lnTo>
                    <a:lnTo>
                      <a:pt x="13" y="5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838680" y="35467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1"/>
                    </a:moveTo>
                    <a:lnTo>
                      <a:pt x="2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2" y="27"/>
                    </a:lnTo>
                    <a:lnTo>
                      <a:pt x="4" y="30"/>
                    </a:lnTo>
                    <a:lnTo>
                      <a:pt x="8" y="33"/>
                    </a:lnTo>
                    <a:lnTo>
                      <a:pt x="11" y="35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41920" y="3546720"/>
                <a:ext cx="99720" cy="192240"/>
              </a:xfrm>
              <a:custGeom>
                <a:avLst/>
                <a:gdLst/>
                <a:ahLst/>
                <a:rect l="l" t="t" r="r" b="b"/>
                <a:pathLst>
                  <a:path w="313" h="604">
                    <a:moveTo>
                      <a:pt x="240" y="604"/>
                    </a:moveTo>
                    <a:lnTo>
                      <a:pt x="252" y="586"/>
                    </a:lnTo>
                    <a:lnTo>
                      <a:pt x="262" y="568"/>
                    </a:lnTo>
                    <a:lnTo>
                      <a:pt x="271" y="551"/>
                    </a:lnTo>
                    <a:lnTo>
                      <a:pt x="279" y="534"/>
                    </a:lnTo>
                    <a:lnTo>
                      <a:pt x="286" y="517"/>
                    </a:lnTo>
                    <a:lnTo>
                      <a:pt x="293" y="499"/>
                    </a:lnTo>
                    <a:lnTo>
                      <a:pt x="299" y="483"/>
                    </a:lnTo>
                    <a:lnTo>
                      <a:pt x="303" y="466"/>
                    </a:lnTo>
                    <a:lnTo>
                      <a:pt x="307" y="450"/>
                    </a:lnTo>
                    <a:lnTo>
                      <a:pt x="309" y="434"/>
                    </a:lnTo>
                    <a:lnTo>
                      <a:pt x="311" y="420"/>
                    </a:lnTo>
                    <a:lnTo>
                      <a:pt x="312" y="404"/>
                    </a:lnTo>
                    <a:lnTo>
                      <a:pt x="313" y="389"/>
                    </a:lnTo>
                    <a:lnTo>
                      <a:pt x="313" y="374"/>
                    </a:lnTo>
                    <a:lnTo>
                      <a:pt x="312" y="359"/>
                    </a:lnTo>
                    <a:lnTo>
                      <a:pt x="311" y="344"/>
                    </a:lnTo>
                    <a:lnTo>
                      <a:pt x="309" y="331"/>
                    </a:lnTo>
                    <a:lnTo>
                      <a:pt x="305" y="317"/>
                    </a:lnTo>
                    <a:lnTo>
                      <a:pt x="303" y="303"/>
                    </a:lnTo>
                    <a:lnTo>
                      <a:pt x="299" y="290"/>
                    </a:lnTo>
                    <a:lnTo>
                      <a:pt x="289" y="265"/>
                    </a:lnTo>
                    <a:lnTo>
                      <a:pt x="278" y="239"/>
                    </a:lnTo>
                    <a:lnTo>
                      <a:pt x="266" y="217"/>
                    </a:lnTo>
                    <a:lnTo>
                      <a:pt x="252" y="195"/>
                    </a:lnTo>
                    <a:lnTo>
                      <a:pt x="236" y="173"/>
                    </a:lnTo>
                    <a:lnTo>
                      <a:pt x="220" y="154"/>
                    </a:lnTo>
                    <a:lnTo>
                      <a:pt x="204" y="136"/>
                    </a:lnTo>
                    <a:lnTo>
                      <a:pt x="186" y="119"/>
                    </a:lnTo>
                    <a:lnTo>
                      <a:pt x="169" y="103"/>
                    </a:lnTo>
                    <a:lnTo>
                      <a:pt x="152" y="88"/>
                    </a:lnTo>
                    <a:lnTo>
                      <a:pt x="133" y="74"/>
                    </a:lnTo>
                    <a:lnTo>
                      <a:pt x="117" y="62"/>
                    </a:lnTo>
                    <a:lnTo>
                      <a:pt x="100" y="50"/>
                    </a:lnTo>
                    <a:lnTo>
                      <a:pt x="84" y="39"/>
                    </a:lnTo>
                    <a:lnTo>
                      <a:pt x="35" y="10"/>
                    </a:lnTo>
                    <a:lnTo>
                      <a:pt x="15" y="0"/>
                    </a:lnTo>
                    <a:lnTo>
                      <a:pt x="0" y="34"/>
                    </a:lnTo>
                    <a:lnTo>
                      <a:pt x="17" y="42"/>
                    </a:lnTo>
                    <a:lnTo>
                      <a:pt x="66" y="71"/>
                    </a:lnTo>
                    <a:lnTo>
                      <a:pt x="80" y="80"/>
                    </a:lnTo>
                    <a:lnTo>
                      <a:pt x="96" y="91"/>
                    </a:lnTo>
                    <a:lnTo>
                      <a:pt x="112" y="103"/>
                    </a:lnTo>
                    <a:lnTo>
                      <a:pt x="128" y="115"/>
                    </a:lnTo>
                    <a:lnTo>
                      <a:pt x="145" y="130"/>
                    </a:lnTo>
                    <a:lnTo>
                      <a:pt x="161" y="145"/>
                    </a:lnTo>
                    <a:lnTo>
                      <a:pt x="177" y="161"/>
                    </a:lnTo>
                    <a:lnTo>
                      <a:pt x="193" y="178"/>
                    </a:lnTo>
                    <a:lnTo>
                      <a:pt x="207" y="196"/>
                    </a:lnTo>
                    <a:lnTo>
                      <a:pt x="221" y="214"/>
                    </a:lnTo>
                    <a:lnTo>
                      <a:pt x="235" y="235"/>
                    </a:lnTo>
                    <a:lnTo>
                      <a:pt x="246" y="255"/>
                    </a:lnTo>
                    <a:lnTo>
                      <a:pt x="255" y="278"/>
                    </a:lnTo>
                    <a:lnTo>
                      <a:pt x="264" y="301"/>
                    </a:lnTo>
                    <a:lnTo>
                      <a:pt x="268" y="312"/>
                    </a:lnTo>
                    <a:lnTo>
                      <a:pt x="270" y="324"/>
                    </a:lnTo>
                    <a:lnTo>
                      <a:pt x="272" y="336"/>
                    </a:lnTo>
                    <a:lnTo>
                      <a:pt x="275" y="349"/>
                    </a:lnTo>
                    <a:lnTo>
                      <a:pt x="276" y="361"/>
                    </a:lnTo>
                    <a:lnTo>
                      <a:pt x="277" y="375"/>
                    </a:lnTo>
                    <a:lnTo>
                      <a:pt x="277" y="388"/>
                    </a:lnTo>
                    <a:lnTo>
                      <a:pt x="277" y="401"/>
                    </a:lnTo>
                    <a:lnTo>
                      <a:pt x="276" y="415"/>
                    </a:lnTo>
                    <a:lnTo>
                      <a:pt x="273" y="429"/>
                    </a:lnTo>
                    <a:lnTo>
                      <a:pt x="271" y="444"/>
                    </a:lnTo>
                    <a:lnTo>
                      <a:pt x="268" y="458"/>
                    </a:lnTo>
                    <a:lnTo>
                      <a:pt x="263" y="473"/>
                    </a:lnTo>
                    <a:lnTo>
                      <a:pt x="259" y="488"/>
                    </a:lnTo>
                    <a:lnTo>
                      <a:pt x="253" y="503"/>
                    </a:lnTo>
                    <a:lnTo>
                      <a:pt x="246" y="519"/>
                    </a:lnTo>
                    <a:lnTo>
                      <a:pt x="238" y="535"/>
                    </a:lnTo>
                    <a:lnTo>
                      <a:pt x="230" y="551"/>
                    </a:lnTo>
                    <a:lnTo>
                      <a:pt x="221" y="568"/>
                    </a:lnTo>
                    <a:lnTo>
                      <a:pt x="210" y="584"/>
                    </a:lnTo>
                    <a:lnTo>
                      <a:pt x="240" y="60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08520" y="3732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2" y="18"/>
                    </a:lnTo>
                    <a:lnTo>
                      <a:pt x="4" y="20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2" y="27"/>
                    </a:lnTo>
                    <a:lnTo>
                      <a:pt x="15" y="28"/>
                    </a:lnTo>
                    <a:lnTo>
                      <a:pt x="19" y="28"/>
                    </a:lnTo>
                    <a:lnTo>
                      <a:pt x="21" y="28"/>
                    </a:lnTo>
                    <a:lnTo>
                      <a:pt x="24" y="27"/>
                    </a:lnTo>
                    <a:lnTo>
                      <a:pt x="28" y="26"/>
                    </a:lnTo>
                    <a:lnTo>
                      <a:pt x="31" y="24"/>
                    </a:lnTo>
                    <a:lnTo>
                      <a:pt x="33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2619360" y="1905120"/>
                <a:ext cx="3905280" cy="54000"/>
              </a:xfrm>
              <a:custGeom>
                <a:avLst/>
                <a:gdLst/>
                <a:ahLst/>
                <a:rect l="l" t="t" r="r" b="b"/>
                <a:pathLst>
                  <a:path w="12298" h="171">
                    <a:moveTo>
                      <a:pt x="83" y="130"/>
                    </a:moveTo>
                    <a:lnTo>
                      <a:pt x="43" y="171"/>
                    </a:lnTo>
                    <a:lnTo>
                      <a:pt x="426" y="160"/>
                    </a:lnTo>
                    <a:lnTo>
                      <a:pt x="809" y="149"/>
                    </a:lnTo>
                    <a:lnTo>
                      <a:pt x="1192" y="139"/>
                    </a:lnTo>
                    <a:lnTo>
                      <a:pt x="1575" y="130"/>
                    </a:lnTo>
                    <a:lnTo>
                      <a:pt x="1958" y="122"/>
                    </a:lnTo>
                    <a:lnTo>
                      <a:pt x="2341" y="115"/>
                    </a:lnTo>
                    <a:lnTo>
                      <a:pt x="2724" y="108"/>
                    </a:lnTo>
                    <a:lnTo>
                      <a:pt x="3107" y="104"/>
                    </a:lnTo>
                    <a:lnTo>
                      <a:pt x="3490" y="98"/>
                    </a:lnTo>
                    <a:lnTo>
                      <a:pt x="3873" y="95"/>
                    </a:lnTo>
                    <a:lnTo>
                      <a:pt x="4256" y="91"/>
                    </a:lnTo>
                    <a:lnTo>
                      <a:pt x="4639" y="89"/>
                    </a:lnTo>
                    <a:lnTo>
                      <a:pt x="5022" y="88"/>
                    </a:lnTo>
                    <a:lnTo>
                      <a:pt x="5404" y="87"/>
                    </a:lnTo>
                    <a:lnTo>
                      <a:pt x="5787" y="87"/>
                    </a:lnTo>
                    <a:lnTo>
                      <a:pt x="6170" y="87"/>
                    </a:lnTo>
                    <a:lnTo>
                      <a:pt x="6553" y="88"/>
                    </a:lnTo>
                    <a:lnTo>
                      <a:pt x="6936" y="90"/>
                    </a:lnTo>
                    <a:lnTo>
                      <a:pt x="7319" y="92"/>
                    </a:lnTo>
                    <a:lnTo>
                      <a:pt x="7702" y="96"/>
                    </a:lnTo>
                    <a:lnTo>
                      <a:pt x="8468" y="103"/>
                    </a:lnTo>
                    <a:lnTo>
                      <a:pt x="9234" y="113"/>
                    </a:lnTo>
                    <a:lnTo>
                      <a:pt x="10000" y="125"/>
                    </a:lnTo>
                    <a:lnTo>
                      <a:pt x="10766" y="139"/>
                    </a:lnTo>
                    <a:lnTo>
                      <a:pt x="11531" y="154"/>
                    </a:lnTo>
                    <a:lnTo>
                      <a:pt x="12297" y="171"/>
                    </a:lnTo>
                    <a:lnTo>
                      <a:pt x="12298" y="84"/>
                    </a:lnTo>
                    <a:lnTo>
                      <a:pt x="11533" y="67"/>
                    </a:lnTo>
                    <a:lnTo>
                      <a:pt x="10767" y="51"/>
                    </a:lnTo>
                    <a:lnTo>
                      <a:pt x="10001" y="38"/>
                    </a:lnTo>
                    <a:lnTo>
                      <a:pt x="9235" y="26"/>
                    </a:lnTo>
                    <a:lnTo>
                      <a:pt x="8469" y="16"/>
                    </a:lnTo>
                    <a:lnTo>
                      <a:pt x="7703" y="8"/>
                    </a:lnTo>
                    <a:lnTo>
                      <a:pt x="7319" y="6"/>
                    </a:lnTo>
                    <a:lnTo>
                      <a:pt x="6936" y="3"/>
                    </a:lnTo>
                    <a:lnTo>
                      <a:pt x="6553" y="1"/>
                    </a:lnTo>
                    <a:lnTo>
                      <a:pt x="6170" y="0"/>
                    </a:lnTo>
                    <a:lnTo>
                      <a:pt x="5787" y="0"/>
                    </a:lnTo>
                    <a:lnTo>
                      <a:pt x="5404" y="0"/>
                    </a:lnTo>
                    <a:lnTo>
                      <a:pt x="5022" y="1"/>
                    </a:lnTo>
                    <a:lnTo>
                      <a:pt x="4639" y="2"/>
                    </a:lnTo>
                    <a:lnTo>
                      <a:pt x="4256" y="5"/>
                    </a:lnTo>
                    <a:lnTo>
                      <a:pt x="3873" y="8"/>
                    </a:lnTo>
                    <a:lnTo>
                      <a:pt x="3490" y="11"/>
                    </a:lnTo>
                    <a:lnTo>
                      <a:pt x="3106" y="16"/>
                    </a:lnTo>
                    <a:lnTo>
                      <a:pt x="2723" y="22"/>
                    </a:lnTo>
                    <a:lnTo>
                      <a:pt x="2340" y="29"/>
                    </a:lnTo>
                    <a:lnTo>
                      <a:pt x="1957" y="35"/>
                    </a:lnTo>
                    <a:lnTo>
                      <a:pt x="1574" y="43"/>
                    </a:lnTo>
                    <a:lnTo>
                      <a:pt x="1190" y="52"/>
                    </a:lnTo>
                    <a:lnTo>
                      <a:pt x="807" y="63"/>
                    </a:lnTo>
                    <a:lnTo>
                      <a:pt x="424" y="73"/>
                    </a:lnTo>
                    <a:lnTo>
                      <a:pt x="41" y="84"/>
                    </a:lnTo>
                    <a:lnTo>
                      <a:pt x="0" y="125"/>
                    </a:lnTo>
                    <a:lnTo>
                      <a:pt x="41" y="84"/>
                    </a:lnTo>
                    <a:lnTo>
                      <a:pt x="31" y="86"/>
                    </a:lnTo>
                    <a:lnTo>
                      <a:pt x="23" y="89"/>
                    </a:lnTo>
                    <a:lnTo>
                      <a:pt x="16" y="94"/>
                    </a:lnTo>
                    <a:lnTo>
                      <a:pt x="10" y="99"/>
                    </a:lnTo>
                    <a:lnTo>
                      <a:pt x="6" y="106"/>
                    </a:lnTo>
                    <a:lnTo>
                      <a:pt x="2" y="113"/>
                    </a:lnTo>
                    <a:lnTo>
                      <a:pt x="1" y="121"/>
                    </a:lnTo>
                    <a:lnTo>
                      <a:pt x="0" y="129"/>
                    </a:lnTo>
                    <a:lnTo>
                      <a:pt x="1" y="137"/>
                    </a:lnTo>
                    <a:lnTo>
                      <a:pt x="4" y="145"/>
                    </a:lnTo>
                    <a:lnTo>
                      <a:pt x="7" y="153"/>
                    </a:lnTo>
                    <a:lnTo>
                      <a:pt x="12" y="159"/>
                    </a:lnTo>
                    <a:lnTo>
                      <a:pt x="17" y="164"/>
                    </a:lnTo>
                    <a:lnTo>
                      <a:pt x="25" y="169"/>
                    </a:lnTo>
                    <a:lnTo>
                      <a:pt x="33" y="171"/>
                    </a:lnTo>
                    <a:lnTo>
                      <a:pt x="43" y="171"/>
                    </a:lnTo>
                    <a:lnTo>
                      <a:pt x="83" y="1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585880" y="1945080"/>
                <a:ext cx="60480" cy="2508120"/>
              </a:xfrm>
              <a:custGeom>
                <a:avLst/>
                <a:gdLst/>
                <a:ahLst/>
                <a:rect l="l" t="t" r="r" b="b"/>
                <a:pathLst>
                  <a:path w="190" h="7901">
                    <a:moveTo>
                      <a:pt x="150" y="7814"/>
                    </a:moveTo>
                    <a:lnTo>
                      <a:pt x="190" y="7855"/>
                    </a:lnTo>
                    <a:lnTo>
                      <a:pt x="177" y="7601"/>
                    </a:lnTo>
                    <a:lnTo>
                      <a:pt x="164" y="7348"/>
                    </a:lnTo>
                    <a:lnTo>
                      <a:pt x="153" y="7097"/>
                    </a:lnTo>
                    <a:lnTo>
                      <a:pt x="142" y="6847"/>
                    </a:lnTo>
                    <a:lnTo>
                      <a:pt x="132" y="6599"/>
                    </a:lnTo>
                    <a:lnTo>
                      <a:pt x="123" y="6351"/>
                    </a:lnTo>
                    <a:lnTo>
                      <a:pt x="115" y="6106"/>
                    </a:lnTo>
                    <a:lnTo>
                      <a:pt x="108" y="5861"/>
                    </a:lnTo>
                    <a:lnTo>
                      <a:pt x="103" y="5618"/>
                    </a:lnTo>
                    <a:lnTo>
                      <a:pt x="97" y="5376"/>
                    </a:lnTo>
                    <a:lnTo>
                      <a:pt x="92" y="5133"/>
                    </a:lnTo>
                    <a:lnTo>
                      <a:pt x="89" y="4892"/>
                    </a:lnTo>
                    <a:lnTo>
                      <a:pt x="87" y="4651"/>
                    </a:lnTo>
                    <a:lnTo>
                      <a:pt x="84" y="4410"/>
                    </a:lnTo>
                    <a:lnTo>
                      <a:pt x="84" y="4171"/>
                    </a:lnTo>
                    <a:lnTo>
                      <a:pt x="84" y="3930"/>
                    </a:lnTo>
                    <a:lnTo>
                      <a:pt x="84" y="3689"/>
                    </a:lnTo>
                    <a:lnTo>
                      <a:pt x="85" y="3449"/>
                    </a:lnTo>
                    <a:lnTo>
                      <a:pt x="89" y="3208"/>
                    </a:lnTo>
                    <a:lnTo>
                      <a:pt x="91" y="2968"/>
                    </a:lnTo>
                    <a:lnTo>
                      <a:pt x="96" y="2726"/>
                    </a:lnTo>
                    <a:lnTo>
                      <a:pt x="100" y="2485"/>
                    </a:lnTo>
                    <a:lnTo>
                      <a:pt x="106" y="2242"/>
                    </a:lnTo>
                    <a:lnTo>
                      <a:pt x="113" y="1998"/>
                    </a:lnTo>
                    <a:lnTo>
                      <a:pt x="120" y="1754"/>
                    </a:lnTo>
                    <a:lnTo>
                      <a:pt x="128" y="1508"/>
                    </a:lnTo>
                    <a:lnTo>
                      <a:pt x="137" y="1261"/>
                    </a:lnTo>
                    <a:lnTo>
                      <a:pt x="146" y="1013"/>
                    </a:lnTo>
                    <a:lnTo>
                      <a:pt x="156" y="763"/>
                    </a:lnTo>
                    <a:lnTo>
                      <a:pt x="166" y="512"/>
                    </a:lnTo>
                    <a:lnTo>
                      <a:pt x="179" y="259"/>
                    </a:lnTo>
                    <a:lnTo>
                      <a:pt x="190" y="5"/>
                    </a:lnTo>
                    <a:lnTo>
                      <a:pt x="107" y="0"/>
                    </a:lnTo>
                    <a:lnTo>
                      <a:pt x="95" y="256"/>
                    </a:lnTo>
                    <a:lnTo>
                      <a:pt x="83" y="509"/>
                    </a:lnTo>
                    <a:lnTo>
                      <a:pt x="73" y="760"/>
                    </a:lnTo>
                    <a:lnTo>
                      <a:pt x="63" y="1009"/>
                    </a:lnTo>
                    <a:lnTo>
                      <a:pt x="52" y="1258"/>
                    </a:lnTo>
                    <a:lnTo>
                      <a:pt x="44" y="1505"/>
                    </a:lnTo>
                    <a:lnTo>
                      <a:pt x="36" y="1750"/>
                    </a:lnTo>
                    <a:lnTo>
                      <a:pt x="30" y="1995"/>
                    </a:lnTo>
                    <a:lnTo>
                      <a:pt x="23" y="2239"/>
                    </a:lnTo>
                    <a:lnTo>
                      <a:pt x="17" y="2482"/>
                    </a:lnTo>
                    <a:lnTo>
                      <a:pt x="13" y="2725"/>
                    </a:lnTo>
                    <a:lnTo>
                      <a:pt x="8" y="2967"/>
                    </a:lnTo>
                    <a:lnTo>
                      <a:pt x="5" y="3207"/>
                    </a:lnTo>
                    <a:lnTo>
                      <a:pt x="2" y="3449"/>
                    </a:lnTo>
                    <a:lnTo>
                      <a:pt x="1" y="3689"/>
                    </a:lnTo>
                    <a:lnTo>
                      <a:pt x="0" y="3930"/>
                    </a:lnTo>
                    <a:lnTo>
                      <a:pt x="0" y="4171"/>
                    </a:lnTo>
                    <a:lnTo>
                      <a:pt x="1" y="4411"/>
                    </a:lnTo>
                    <a:lnTo>
                      <a:pt x="2" y="4652"/>
                    </a:lnTo>
                    <a:lnTo>
                      <a:pt x="6" y="4893"/>
                    </a:lnTo>
                    <a:lnTo>
                      <a:pt x="9" y="5135"/>
                    </a:lnTo>
                    <a:lnTo>
                      <a:pt x="14" y="5377"/>
                    </a:lnTo>
                    <a:lnTo>
                      <a:pt x="18" y="5620"/>
                    </a:lnTo>
                    <a:lnTo>
                      <a:pt x="25" y="5863"/>
                    </a:lnTo>
                    <a:lnTo>
                      <a:pt x="32" y="6109"/>
                    </a:lnTo>
                    <a:lnTo>
                      <a:pt x="40" y="6355"/>
                    </a:lnTo>
                    <a:lnTo>
                      <a:pt x="49" y="6602"/>
                    </a:lnTo>
                    <a:lnTo>
                      <a:pt x="58" y="6851"/>
                    </a:lnTo>
                    <a:lnTo>
                      <a:pt x="70" y="7100"/>
                    </a:lnTo>
                    <a:lnTo>
                      <a:pt x="81" y="7352"/>
                    </a:lnTo>
                    <a:lnTo>
                      <a:pt x="93" y="7605"/>
                    </a:lnTo>
                    <a:lnTo>
                      <a:pt x="107" y="7860"/>
                    </a:lnTo>
                    <a:lnTo>
                      <a:pt x="147" y="7901"/>
                    </a:lnTo>
                    <a:lnTo>
                      <a:pt x="107" y="7860"/>
                    </a:lnTo>
                    <a:lnTo>
                      <a:pt x="108" y="7870"/>
                    </a:lnTo>
                    <a:lnTo>
                      <a:pt x="112" y="7879"/>
                    </a:lnTo>
                    <a:lnTo>
                      <a:pt x="116" y="7886"/>
                    </a:lnTo>
                    <a:lnTo>
                      <a:pt x="122" y="7892"/>
                    </a:lnTo>
                    <a:lnTo>
                      <a:pt x="129" y="7896"/>
                    </a:lnTo>
                    <a:lnTo>
                      <a:pt x="136" y="7900"/>
                    </a:lnTo>
                    <a:lnTo>
                      <a:pt x="144" y="7901"/>
                    </a:lnTo>
                    <a:lnTo>
                      <a:pt x="152" y="7901"/>
                    </a:lnTo>
                    <a:lnTo>
                      <a:pt x="160" y="7900"/>
                    </a:lnTo>
                    <a:lnTo>
                      <a:pt x="166" y="7897"/>
                    </a:lnTo>
                    <a:lnTo>
                      <a:pt x="173" y="7894"/>
                    </a:lnTo>
                    <a:lnTo>
                      <a:pt x="179" y="7888"/>
                    </a:lnTo>
                    <a:lnTo>
                      <a:pt x="185" y="7882"/>
                    </a:lnTo>
                    <a:lnTo>
                      <a:pt x="188" y="7874"/>
                    </a:lnTo>
                    <a:lnTo>
                      <a:pt x="190" y="7865"/>
                    </a:lnTo>
                    <a:lnTo>
                      <a:pt x="190" y="7855"/>
                    </a:lnTo>
                    <a:lnTo>
                      <a:pt x="150" y="78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631960" y="4426200"/>
                <a:ext cx="3905280" cy="71280"/>
              </a:xfrm>
              <a:custGeom>
                <a:avLst/>
                <a:gdLst/>
                <a:ahLst/>
                <a:rect l="l" t="t" r="r" b="b"/>
                <a:pathLst>
                  <a:path w="12299" h="226">
                    <a:moveTo>
                      <a:pt x="12216" y="42"/>
                    </a:moveTo>
                    <a:lnTo>
                      <a:pt x="12256" y="0"/>
                    </a:lnTo>
                    <a:lnTo>
                      <a:pt x="11873" y="18"/>
                    </a:lnTo>
                    <a:lnTo>
                      <a:pt x="11490" y="35"/>
                    </a:lnTo>
                    <a:lnTo>
                      <a:pt x="11107" y="51"/>
                    </a:lnTo>
                    <a:lnTo>
                      <a:pt x="10726" y="65"/>
                    </a:lnTo>
                    <a:lnTo>
                      <a:pt x="10343" y="79"/>
                    </a:lnTo>
                    <a:lnTo>
                      <a:pt x="9960" y="90"/>
                    </a:lnTo>
                    <a:lnTo>
                      <a:pt x="9577" y="100"/>
                    </a:lnTo>
                    <a:lnTo>
                      <a:pt x="9194" y="109"/>
                    </a:lnTo>
                    <a:lnTo>
                      <a:pt x="8811" y="117"/>
                    </a:lnTo>
                    <a:lnTo>
                      <a:pt x="8429" y="124"/>
                    </a:lnTo>
                    <a:lnTo>
                      <a:pt x="8045" y="129"/>
                    </a:lnTo>
                    <a:lnTo>
                      <a:pt x="7663" y="133"/>
                    </a:lnTo>
                    <a:lnTo>
                      <a:pt x="7280" y="137"/>
                    </a:lnTo>
                    <a:lnTo>
                      <a:pt x="6897" y="138"/>
                    </a:lnTo>
                    <a:lnTo>
                      <a:pt x="6514" y="139"/>
                    </a:lnTo>
                    <a:lnTo>
                      <a:pt x="6131" y="138"/>
                    </a:lnTo>
                    <a:lnTo>
                      <a:pt x="5749" y="137"/>
                    </a:lnTo>
                    <a:lnTo>
                      <a:pt x="5366" y="135"/>
                    </a:lnTo>
                    <a:lnTo>
                      <a:pt x="4983" y="131"/>
                    </a:lnTo>
                    <a:lnTo>
                      <a:pt x="4600" y="127"/>
                    </a:lnTo>
                    <a:lnTo>
                      <a:pt x="4217" y="121"/>
                    </a:lnTo>
                    <a:lnTo>
                      <a:pt x="3834" y="115"/>
                    </a:lnTo>
                    <a:lnTo>
                      <a:pt x="3451" y="107"/>
                    </a:lnTo>
                    <a:lnTo>
                      <a:pt x="3068" y="99"/>
                    </a:lnTo>
                    <a:lnTo>
                      <a:pt x="2685" y="89"/>
                    </a:lnTo>
                    <a:lnTo>
                      <a:pt x="2302" y="79"/>
                    </a:lnTo>
                    <a:lnTo>
                      <a:pt x="1919" y="68"/>
                    </a:lnTo>
                    <a:lnTo>
                      <a:pt x="1535" y="56"/>
                    </a:lnTo>
                    <a:lnTo>
                      <a:pt x="1152" y="43"/>
                    </a:lnTo>
                    <a:lnTo>
                      <a:pt x="769" y="30"/>
                    </a:lnTo>
                    <a:lnTo>
                      <a:pt x="386" y="15"/>
                    </a:lnTo>
                    <a:lnTo>
                      <a:pt x="3" y="0"/>
                    </a:lnTo>
                    <a:lnTo>
                      <a:pt x="0" y="87"/>
                    </a:lnTo>
                    <a:lnTo>
                      <a:pt x="384" y="103"/>
                    </a:lnTo>
                    <a:lnTo>
                      <a:pt x="767" y="116"/>
                    </a:lnTo>
                    <a:lnTo>
                      <a:pt x="1150" y="130"/>
                    </a:lnTo>
                    <a:lnTo>
                      <a:pt x="1533" y="143"/>
                    </a:lnTo>
                    <a:lnTo>
                      <a:pt x="1917" y="155"/>
                    </a:lnTo>
                    <a:lnTo>
                      <a:pt x="2300" y="166"/>
                    </a:lnTo>
                    <a:lnTo>
                      <a:pt x="2683" y="177"/>
                    </a:lnTo>
                    <a:lnTo>
                      <a:pt x="3066" y="186"/>
                    </a:lnTo>
                    <a:lnTo>
                      <a:pt x="3449" y="194"/>
                    </a:lnTo>
                    <a:lnTo>
                      <a:pt x="3833" y="202"/>
                    </a:lnTo>
                    <a:lnTo>
                      <a:pt x="4216" y="207"/>
                    </a:lnTo>
                    <a:lnTo>
                      <a:pt x="4599" y="213"/>
                    </a:lnTo>
                    <a:lnTo>
                      <a:pt x="4982" y="218"/>
                    </a:lnTo>
                    <a:lnTo>
                      <a:pt x="5364" y="221"/>
                    </a:lnTo>
                    <a:lnTo>
                      <a:pt x="5749" y="225"/>
                    </a:lnTo>
                    <a:lnTo>
                      <a:pt x="6131" y="226"/>
                    </a:lnTo>
                    <a:lnTo>
                      <a:pt x="6514" y="226"/>
                    </a:lnTo>
                    <a:lnTo>
                      <a:pt x="6897" y="226"/>
                    </a:lnTo>
                    <a:lnTo>
                      <a:pt x="7280" y="223"/>
                    </a:lnTo>
                    <a:lnTo>
                      <a:pt x="7663" y="220"/>
                    </a:lnTo>
                    <a:lnTo>
                      <a:pt x="8046" y="215"/>
                    </a:lnTo>
                    <a:lnTo>
                      <a:pt x="8429" y="211"/>
                    </a:lnTo>
                    <a:lnTo>
                      <a:pt x="8812" y="204"/>
                    </a:lnTo>
                    <a:lnTo>
                      <a:pt x="9196" y="196"/>
                    </a:lnTo>
                    <a:lnTo>
                      <a:pt x="9579" y="187"/>
                    </a:lnTo>
                    <a:lnTo>
                      <a:pt x="9962" y="177"/>
                    </a:lnTo>
                    <a:lnTo>
                      <a:pt x="10345" y="165"/>
                    </a:lnTo>
                    <a:lnTo>
                      <a:pt x="10728" y="153"/>
                    </a:lnTo>
                    <a:lnTo>
                      <a:pt x="11111" y="138"/>
                    </a:lnTo>
                    <a:lnTo>
                      <a:pt x="11494" y="122"/>
                    </a:lnTo>
                    <a:lnTo>
                      <a:pt x="11877" y="105"/>
                    </a:lnTo>
                    <a:lnTo>
                      <a:pt x="12260" y="87"/>
                    </a:lnTo>
                    <a:lnTo>
                      <a:pt x="12299" y="44"/>
                    </a:lnTo>
                    <a:lnTo>
                      <a:pt x="12260" y="87"/>
                    </a:lnTo>
                    <a:lnTo>
                      <a:pt x="12270" y="86"/>
                    </a:lnTo>
                    <a:lnTo>
                      <a:pt x="12278" y="82"/>
                    </a:lnTo>
                    <a:lnTo>
                      <a:pt x="12285" y="78"/>
                    </a:lnTo>
                    <a:lnTo>
                      <a:pt x="12290" y="72"/>
                    </a:lnTo>
                    <a:lnTo>
                      <a:pt x="12295" y="65"/>
                    </a:lnTo>
                    <a:lnTo>
                      <a:pt x="12297" y="58"/>
                    </a:lnTo>
                    <a:lnTo>
                      <a:pt x="12299" y="50"/>
                    </a:lnTo>
                    <a:lnTo>
                      <a:pt x="12299" y="41"/>
                    </a:lnTo>
                    <a:lnTo>
                      <a:pt x="12298" y="33"/>
                    </a:lnTo>
                    <a:lnTo>
                      <a:pt x="12296" y="26"/>
                    </a:lnTo>
                    <a:lnTo>
                      <a:pt x="12293" y="18"/>
                    </a:lnTo>
                    <a:lnTo>
                      <a:pt x="12288" y="13"/>
                    </a:lnTo>
                    <a:lnTo>
                      <a:pt x="12281" y="7"/>
                    </a:lnTo>
                    <a:lnTo>
                      <a:pt x="12274" y="3"/>
                    </a:lnTo>
                    <a:lnTo>
                      <a:pt x="12265" y="1"/>
                    </a:lnTo>
                    <a:lnTo>
                      <a:pt x="12256" y="0"/>
                    </a:lnTo>
                    <a:lnTo>
                      <a:pt x="12216" y="4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6512040" y="1932120"/>
              <a:ext cx="42840" cy="2506680"/>
            </a:xfrm>
            <a:custGeom>
              <a:avLst/>
              <a:gdLst/>
              <a:ahLst/>
              <a:rect l="l" t="t" r="r" b="b"/>
              <a:pathLst>
                <a:path w="137" h="7899">
                  <a:moveTo>
                    <a:pt x="41" y="87"/>
                  </a:moveTo>
                  <a:lnTo>
                    <a:pt x="0" y="45"/>
                  </a:lnTo>
                  <a:lnTo>
                    <a:pt x="13" y="538"/>
                  </a:lnTo>
                  <a:lnTo>
                    <a:pt x="24" y="1028"/>
                  </a:lnTo>
                  <a:lnTo>
                    <a:pt x="33" y="1512"/>
                  </a:lnTo>
                  <a:lnTo>
                    <a:pt x="40" y="1994"/>
                  </a:lnTo>
                  <a:lnTo>
                    <a:pt x="46" y="2475"/>
                  </a:lnTo>
                  <a:lnTo>
                    <a:pt x="50" y="2954"/>
                  </a:lnTo>
                  <a:lnTo>
                    <a:pt x="53" y="3434"/>
                  </a:lnTo>
                  <a:lnTo>
                    <a:pt x="53" y="3914"/>
                  </a:lnTo>
                  <a:lnTo>
                    <a:pt x="53" y="4396"/>
                  </a:lnTo>
                  <a:lnTo>
                    <a:pt x="49" y="4881"/>
                  </a:lnTo>
                  <a:lnTo>
                    <a:pt x="46" y="5369"/>
                  </a:lnTo>
                  <a:lnTo>
                    <a:pt x="40" y="5861"/>
                  </a:lnTo>
                  <a:lnTo>
                    <a:pt x="32" y="6360"/>
                  </a:lnTo>
                  <a:lnTo>
                    <a:pt x="23" y="6864"/>
                  </a:lnTo>
                  <a:lnTo>
                    <a:pt x="13" y="7377"/>
                  </a:lnTo>
                  <a:lnTo>
                    <a:pt x="0" y="7897"/>
                  </a:lnTo>
                  <a:lnTo>
                    <a:pt x="83" y="7899"/>
                  </a:lnTo>
                  <a:lnTo>
                    <a:pt x="96" y="7378"/>
                  </a:lnTo>
                  <a:lnTo>
                    <a:pt x="106" y="6867"/>
                  </a:lnTo>
                  <a:lnTo>
                    <a:pt x="115" y="6362"/>
                  </a:lnTo>
                  <a:lnTo>
                    <a:pt x="123" y="5862"/>
                  </a:lnTo>
                  <a:lnTo>
                    <a:pt x="129" y="5370"/>
                  </a:lnTo>
                  <a:lnTo>
                    <a:pt x="134" y="4881"/>
                  </a:lnTo>
                  <a:lnTo>
                    <a:pt x="136" y="4396"/>
                  </a:lnTo>
                  <a:lnTo>
                    <a:pt x="137" y="3914"/>
                  </a:lnTo>
                  <a:lnTo>
                    <a:pt x="136" y="3434"/>
                  </a:lnTo>
                  <a:lnTo>
                    <a:pt x="134" y="2954"/>
                  </a:lnTo>
                  <a:lnTo>
                    <a:pt x="130" y="2474"/>
                  </a:lnTo>
                  <a:lnTo>
                    <a:pt x="124" y="1994"/>
                  </a:lnTo>
                  <a:lnTo>
                    <a:pt x="116" y="1511"/>
                  </a:lnTo>
                  <a:lnTo>
                    <a:pt x="107" y="1025"/>
                  </a:lnTo>
                  <a:lnTo>
                    <a:pt x="96" y="536"/>
                  </a:lnTo>
                  <a:lnTo>
                    <a:pt x="83" y="43"/>
                  </a:lnTo>
                  <a:lnTo>
                    <a:pt x="42" y="0"/>
                  </a:lnTo>
                  <a:lnTo>
                    <a:pt x="83" y="43"/>
                  </a:lnTo>
                  <a:lnTo>
                    <a:pt x="82" y="32"/>
                  </a:lnTo>
                  <a:lnTo>
                    <a:pt x="80" y="24"/>
                  </a:lnTo>
                  <a:lnTo>
                    <a:pt x="75" y="16"/>
                  </a:lnTo>
                  <a:lnTo>
                    <a:pt x="70" y="11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7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663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7" name=""/>
          <p:cNvGrpSpPr/>
          <p:nvPr/>
        </p:nvGrpSpPr>
        <p:grpSpPr>
          <a:xfrm>
            <a:off x="3254400" y="673200"/>
            <a:ext cx="2765160" cy="790200"/>
            <a:chOff x="3254400" y="673200"/>
            <a:chExt cx="2765160" cy="790200"/>
          </a:xfrm>
        </p:grpSpPr>
        <p:sp>
          <p:nvSpPr>
            <p:cNvPr id="2898" name=""/>
            <p:cNvSpPr/>
            <p:nvPr/>
          </p:nvSpPr>
          <p:spPr>
            <a:xfrm>
              <a:off x="3268440" y="1447200"/>
              <a:ext cx="222480" cy="16200"/>
            </a:xfrm>
            <a:custGeom>
              <a:avLst/>
              <a:gdLst/>
              <a:ahLst/>
              <a:rect l="l" t="t" r="r" b="b"/>
              <a:pathLst>
                <a:path w="543" h="39">
                  <a:moveTo>
                    <a:pt x="0" y="0"/>
                  </a:moveTo>
                  <a:lnTo>
                    <a:pt x="543" y="0"/>
                  </a:lnTo>
                  <a:lnTo>
                    <a:pt x="511" y="10"/>
                  </a:lnTo>
                  <a:lnTo>
                    <a:pt x="477" y="17"/>
                  </a:lnTo>
                  <a:lnTo>
                    <a:pt x="442" y="24"/>
                  </a:lnTo>
                  <a:lnTo>
                    <a:pt x="407" y="30"/>
                  </a:lnTo>
                  <a:lnTo>
                    <a:pt x="370" y="34"/>
                  </a:lnTo>
                  <a:lnTo>
                    <a:pt x="331" y="37"/>
                  </a:lnTo>
                  <a:lnTo>
                    <a:pt x="292" y="38"/>
                  </a:lnTo>
                  <a:lnTo>
                    <a:pt x="252" y="39"/>
                  </a:lnTo>
                  <a:lnTo>
                    <a:pt x="235" y="39"/>
                  </a:lnTo>
                  <a:lnTo>
                    <a:pt x="219" y="38"/>
                  </a:lnTo>
                  <a:lnTo>
                    <a:pt x="202" y="37"/>
                  </a:lnTo>
                  <a:lnTo>
                    <a:pt x="186" y="37"/>
                  </a:lnTo>
                  <a:lnTo>
                    <a:pt x="169" y="36"/>
                  </a:lnTo>
                  <a:lnTo>
                    <a:pt x="154" y="35"/>
                  </a:lnTo>
                  <a:lnTo>
                    <a:pt x="138" y="34"/>
                  </a:lnTo>
                  <a:lnTo>
                    <a:pt x="122" y="32"/>
                  </a:lnTo>
                  <a:lnTo>
                    <a:pt x="106" y="31"/>
                  </a:lnTo>
                  <a:lnTo>
                    <a:pt x="91" y="29"/>
                  </a:lnTo>
                  <a:lnTo>
                    <a:pt x="76" y="27"/>
                  </a:lnTo>
                  <a:lnTo>
                    <a:pt x="60" y="24"/>
                  </a:lnTo>
                  <a:lnTo>
                    <a:pt x="45" y="22"/>
                  </a:lnTo>
                  <a:lnTo>
                    <a:pt x="30" y="20"/>
                  </a:lnTo>
                  <a:lnTo>
                    <a:pt x="15" y="18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268440" y="1431000"/>
              <a:ext cx="263160" cy="32400"/>
            </a:xfrm>
            <a:custGeom>
              <a:avLst/>
              <a:gdLst/>
              <a:ahLst/>
              <a:rect l="l" t="t" r="r" b="b"/>
              <a:pathLst>
                <a:path w="644" h="78">
                  <a:moveTo>
                    <a:pt x="0" y="0"/>
                  </a:moveTo>
                  <a:lnTo>
                    <a:pt x="644" y="0"/>
                  </a:lnTo>
                  <a:lnTo>
                    <a:pt x="623" y="10"/>
                  </a:lnTo>
                  <a:lnTo>
                    <a:pt x="602" y="19"/>
                  </a:lnTo>
                  <a:lnTo>
                    <a:pt x="581" y="27"/>
                  </a:lnTo>
                  <a:lnTo>
                    <a:pt x="559" y="35"/>
                  </a:lnTo>
                  <a:lnTo>
                    <a:pt x="537" y="41"/>
                  </a:lnTo>
                  <a:lnTo>
                    <a:pt x="514" y="48"/>
                  </a:lnTo>
                  <a:lnTo>
                    <a:pt x="489" y="54"/>
                  </a:lnTo>
                  <a:lnTo>
                    <a:pt x="465" y="59"/>
                  </a:lnTo>
                  <a:lnTo>
                    <a:pt x="441" y="63"/>
                  </a:lnTo>
                  <a:lnTo>
                    <a:pt x="416" y="68"/>
                  </a:lnTo>
                  <a:lnTo>
                    <a:pt x="390" y="71"/>
                  </a:lnTo>
                  <a:lnTo>
                    <a:pt x="363" y="73"/>
                  </a:lnTo>
                  <a:lnTo>
                    <a:pt x="337" y="75"/>
                  </a:lnTo>
                  <a:lnTo>
                    <a:pt x="310" y="77"/>
                  </a:lnTo>
                  <a:lnTo>
                    <a:pt x="282" y="78"/>
                  </a:lnTo>
                  <a:lnTo>
                    <a:pt x="253" y="78"/>
                  </a:lnTo>
                  <a:lnTo>
                    <a:pt x="236" y="78"/>
                  </a:lnTo>
                  <a:lnTo>
                    <a:pt x="220" y="77"/>
                  </a:lnTo>
                  <a:lnTo>
                    <a:pt x="203" y="76"/>
                  </a:lnTo>
                  <a:lnTo>
                    <a:pt x="187" y="76"/>
                  </a:lnTo>
                  <a:lnTo>
                    <a:pt x="170" y="75"/>
                  </a:lnTo>
                  <a:lnTo>
                    <a:pt x="155" y="74"/>
                  </a:lnTo>
                  <a:lnTo>
                    <a:pt x="139" y="73"/>
                  </a:lnTo>
                  <a:lnTo>
                    <a:pt x="123" y="71"/>
                  </a:lnTo>
                  <a:lnTo>
                    <a:pt x="107" y="70"/>
                  </a:lnTo>
                  <a:lnTo>
                    <a:pt x="92" y="68"/>
                  </a:lnTo>
                  <a:lnTo>
                    <a:pt x="77" y="66"/>
                  </a:lnTo>
                  <a:lnTo>
                    <a:pt x="61" y="63"/>
                  </a:lnTo>
                  <a:lnTo>
                    <a:pt x="46" y="61"/>
                  </a:lnTo>
                  <a:lnTo>
                    <a:pt x="31" y="59"/>
                  </a:lnTo>
                  <a:lnTo>
                    <a:pt x="16" y="57"/>
                  </a:lnTo>
                  <a:lnTo>
                    <a:pt x="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268440" y="1416600"/>
              <a:ext cx="289440" cy="30240"/>
            </a:xfrm>
            <a:custGeom>
              <a:avLst/>
              <a:gdLst/>
              <a:ahLst/>
              <a:rect l="l" t="t" r="r" b="b"/>
              <a:pathLst>
                <a:path w="713" h="77">
                  <a:moveTo>
                    <a:pt x="54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694" y="12"/>
                  </a:lnTo>
                  <a:lnTo>
                    <a:pt x="674" y="24"/>
                  </a:lnTo>
                  <a:lnTo>
                    <a:pt x="654" y="34"/>
                  </a:lnTo>
                  <a:lnTo>
                    <a:pt x="633" y="44"/>
                  </a:lnTo>
                  <a:lnTo>
                    <a:pt x="612" y="53"/>
                  </a:lnTo>
                  <a:lnTo>
                    <a:pt x="590" y="62"/>
                  </a:lnTo>
                  <a:lnTo>
                    <a:pt x="568" y="70"/>
                  </a:lnTo>
                  <a:lnTo>
                    <a:pt x="545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268440" y="1400400"/>
              <a:ext cx="312120" cy="30240"/>
            </a:xfrm>
            <a:custGeom>
              <a:avLst/>
              <a:gdLst/>
              <a:ahLst/>
              <a:rect l="l" t="t" r="r" b="b"/>
              <a:pathLst>
                <a:path w="767" h="76">
                  <a:moveTo>
                    <a:pt x="646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767" y="0"/>
                  </a:lnTo>
                  <a:lnTo>
                    <a:pt x="753" y="10"/>
                  </a:lnTo>
                  <a:lnTo>
                    <a:pt x="738" y="21"/>
                  </a:lnTo>
                  <a:lnTo>
                    <a:pt x="724" y="31"/>
                  </a:lnTo>
                  <a:lnTo>
                    <a:pt x="709" y="42"/>
                  </a:lnTo>
                  <a:lnTo>
                    <a:pt x="693" y="51"/>
                  </a:lnTo>
                  <a:lnTo>
                    <a:pt x="678" y="60"/>
                  </a:lnTo>
                  <a:lnTo>
                    <a:pt x="662" y="68"/>
                  </a:lnTo>
                  <a:lnTo>
                    <a:pt x="646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266640" y="1383840"/>
              <a:ext cx="330120" cy="32760"/>
            </a:xfrm>
            <a:custGeom>
              <a:avLst/>
              <a:gdLst/>
              <a:ahLst/>
              <a:rect l="l" t="t" r="r" b="b"/>
              <a:pathLst>
                <a:path w="810" h="77">
                  <a:moveTo>
                    <a:pt x="715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05" y="4"/>
                  </a:lnTo>
                  <a:lnTo>
                    <a:pt x="801" y="8"/>
                  </a:lnTo>
                  <a:lnTo>
                    <a:pt x="796" y="13"/>
                  </a:lnTo>
                  <a:lnTo>
                    <a:pt x="792" y="17"/>
                  </a:lnTo>
                  <a:lnTo>
                    <a:pt x="788" y="21"/>
                  </a:lnTo>
                  <a:lnTo>
                    <a:pt x="783" y="25"/>
                  </a:lnTo>
                  <a:lnTo>
                    <a:pt x="778" y="29"/>
                  </a:lnTo>
                  <a:lnTo>
                    <a:pt x="774" y="34"/>
                  </a:lnTo>
                  <a:lnTo>
                    <a:pt x="767" y="39"/>
                  </a:lnTo>
                  <a:lnTo>
                    <a:pt x="759" y="45"/>
                  </a:lnTo>
                  <a:lnTo>
                    <a:pt x="753" y="50"/>
                  </a:lnTo>
                  <a:lnTo>
                    <a:pt x="746" y="56"/>
                  </a:lnTo>
                  <a:lnTo>
                    <a:pt x="738" y="62"/>
                  </a:lnTo>
                  <a:lnTo>
                    <a:pt x="730" y="67"/>
                  </a:lnTo>
                  <a:lnTo>
                    <a:pt x="722" y="72"/>
                  </a:lnTo>
                  <a:lnTo>
                    <a:pt x="715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266640" y="1367640"/>
              <a:ext cx="344520" cy="32760"/>
            </a:xfrm>
            <a:custGeom>
              <a:avLst/>
              <a:gdLst/>
              <a:ahLst/>
              <a:rect l="l" t="t" r="r" b="b"/>
              <a:pathLst>
                <a:path w="844" h="78">
                  <a:moveTo>
                    <a:pt x="769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44" y="0"/>
                  </a:lnTo>
                  <a:lnTo>
                    <a:pt x="837" y="10"/>
                  </a:lnTo>
                  <a:lnTo>
                    <a:pt x="828" y="19"/>
                  </a:lnTo>
                  <a:lnTo>
                    <a:pt x="820" y="28"/>
                  </a:lnTo>
                  <a:lnTo>
                    <a:pt x="812" y="37"/>
                  </a:lnTo>
                  <a:lnTo>
                    <a:pt x="802" y="46"/>
                  </a:lnTo>
                  <a:lnTo>
                    <a:pt x="794" y="55"/>
                  </a:lnTo>
                  <a:lnTo>
                    <a:pt x="784" y="64"/>
                  </a:lnTo>
                  <a:lnTo>
                    <a:pt x="775" y="73"/>
                  </a:lnTo>
                  <a:lnTo>
                    <a:pt x="774" y="73"/>
                  </a:lnTo>
                  <a:lnTo>
                    <a:pt x="773" y="74"/>
                  </a:lnTo>
                  <a:lnTo>
                    <a:pt x="773" y="74"/>
                  </a:lnTo>
                  <a:lnTo>
                    <a:pt x="772" y="75"/>
                  </a:lnTo>
                  <a:lnTo>
                    <a:pt x="771" y="76"/>
                  </a:lnTo>
                  <a:lnTo>
                    <a:pt x="770" y="76"/>
                  </a:lnTo>
                  <a:lnTo>
                    <a:pt x="770" y="77"/>
                  </a:lnTo>
                  <a:lnTo>
                    <a:pt x="769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266640" y="1353240"/>
              <a:ext cx="357120" cy="30240"/>
            </a:xfrm>
            <a:custGeom>
              <a:avLst/>
              <a:gdLst/>
              <a:ahLst/>
              <a:rect l="l" t="t" r="r" b="b"/>
              <a:pathLst>
                <a:path w="874" h="78">
                  <a:moveTo>
                    <a:pt x="812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74" y="0"/>
                  </a:lnTo>
                  <a:lnTo>
                    <a:pt x="866" y="11"/>
                  </a:lnTo>
                  <a:lnTo>
                    <a:pt x="859" y="20"/>
                  </a:lnTo>
                  <a:lnTo>
                    <a:pt x="851" y="31"/>
                  </a:lnTo>
                  <a:lnTo>
                    <a:pt x="844" y="40"/>
                  </a:lnTo>
                  <a:lnTo>
                    <a:pt x="837" y="50"/>
                  </a:lnTo>
                  <a:lnTo>
                    <a:pt x="828" y="59"/>
                  </a:lnTo>
                  <a:lnTo>
                    <a:pt x="820" y="68"/>
                  </a:lnTo>
                  <a:lnTo>
                    <a:pt x="812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266640" y="1337040"/>
              <a:ext cx="365040" cy="30240"/>
            </a:xfrm>
            <a:custGeom>
              <a:avLst/>
              <a:gdLst/>
              <a:ahLst/>
              <a:rect l="l" t="t" r="r" b="b"/>
              <a:pathLst>
                <a:path w="897" h="78">
                  <a:moveTo>
                    <a:pt x="8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897" y="0"/>
                  </a:lnTo>
                  <a:lnTo>
                    <a:pt x="891" y="11"/>
                  </a:lnTo>
                  <a:lnTo>
                    <a:pt x="886" y="21"/>
                  </a:lnTo>
                  <a:lnTo>
                    <a:pt x="880" y="31"/>
                  </a:lnTo>
                  <a:lnTo>
                    <a:pt x="873" y="40"/>
                  </a:lnTo>
                  <a:lnTo>
                    <a:pt x="867" y="50"/>
                  </a:lnTo>
                  <a:lnTo>
                    <a:pt x="860" y="59"/>
                  </a:lnTo>
                  <a:lnTo>
                    <a:pt x="854" y="69"/>
                  </a:lnTo>
                  <a:lnTo>
                    <a:pt x="846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66640" y="1320840"/>
              <a:ext cx="373320" cy="32400"/>
            </a:xfrm>
            <a:custGeom>
              <a:avLst/>
              <a:gdLst/>
              <a:ahLst/>
              <a:rect l="l" t="t" r="r" b="b"/>
              <a:pathLst>
                <a:path w="916" h="77">
                  <a:moveTo>
                    <a:pt x="876" y="77"/>
                  </a:moveTo>
                  <a:lnTo>
                    <a:pt x="2" y="77"/>
                  </a:lnTo>
                  <a:lnTo>
                    <a:pt x="0" y="0"/>
                  </a:lnTo>
                  <a:lnTo>
                    <a:pt x="916" y="0"/>
                  </a:lnTo>
                  <a:lnTo>
                    <a:pt x="912" y="10"/>
                  </a:lnTo>
                  <a:lnTo>
                    <a:pt x="907" y="21"/>
                  </a:lnTo>
                  <a:lnTo>
                    <a:pt x="903" y="30"/>
                  </a:lnTo>
                  <a:lnTo>
                    <a:pt x="898" y="39"/>
                  </a:lnTo>
                  <a:lnTo>
                    <a:pt x="892" y="49"/>
                  </a:lnTo>
                  <a:lnTo>
                    <a:pt x="887" y="58"/>
                  </a:lnTo>
                  <a:lnTo>
                    <a:pt x="881" y="68"/>
                  </a:lnTo>
                  <a:lnTo>
                    <a:pt x="876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264480" y="1306440"/>
              <a:ext cx="38160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899" y="76"/>
                  </a:moveTo>
                  <a:lnTo>
                    <a:pt x="2" y="76"/>
                  </a:lnTo>
                  <a:lnTo>
                    <a:pt x="0" y="0"/>
                  </a:lnTo>
                  <a:lnTo>
                    <a:pt x="932" y="0"/>
                  </a:lnTo>
                  <a:lnTo>
                    <a:pt x="929" y="9"/>
                  </a:lnTo>
                  <a:lnTo>
                    <a:pt x="925" y="20"/>
                  </a:lnTo>
                  <a:lnTo>
                    <a:pt x="922" y="29"/>
                  </a:lnTo>
                  <a:lnTo>
                    <a:pt x="917" y="39"/>
                  </a:lnTo>
                  <a:lnTo>
                    <a:pt x="913" y="48"/>
                  </a:lnTo>
                  <a:lnTo>
                    <a:pt x="908" y="59"/>
                  </a:lnTo>
                  <a:lnTo>
                    <a:pt x="904" y="67"/>
                  </a:lnTo>
                  <a:lnTo>
                    <a:pt x="899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264480" y="1289880"/>
              <a:ext cx="385920" cy="30960"/>
            </a:xfrm>
            <a:custGeom>
              <a:avLst/>
              <a:gdLst/>
              <a:ahLst/>
              <a:rect l="l" t="t" r="r" b="b"/>
              <a:pathLst>
                <a:path w="944" h="77">
                  <a:moveTo>
                    <a:pt x="917" y="77"/>
                  </a:moveTo>
                  <a:lnTo>
                    <a:pt x="1" y="77"/>
                  </a:lnTo>
                  <a:lnTo>
                    <a:pt x="0" y="0"/>
                  </a:lnTo>
                  <a:lnTo>
                    <a:pt x="944" y="0"/>
                  </a:lnTo>
                  <a:lnTo>
                    <a:pt x="942" y="9"/>
                  </a:lnTo>
                  <a:lnTo>
                    <a:pt x="938" y="20"/>
                  </a:lnTo>
                  <a:lnTo>
                    <a:pt x="935" y="29"/>
                  </a:lnTo>
                  <a:lnTo>
                    <a:pt x="932" y="39"/>
                  </a:lnTo>
                  <a:lnTo>
                    <a:pt x="929" y="49"/>
                  </a:lnTo>
                  <a:lnTo>
                    <a:pt x="925" y="59"/>
                  </a:lnTo>
                  <a:lnTo>
                    <a:pt x="922" y="68"/>
                  </a:lnTo>
                  <a:lnTo>
                    <a:pt x="917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264480" y="1273680"/>
              <a:ext cx="389880" cy="32760"/>
            </a:xfrm>
            <a:custGeom>
              <a:avLst/>
              <a:gdLst/>
              <a:ahLst/>
              <a:rect l="l" t="t" r="r" b="b"/>
              <a:pathLst>
                <a:path w="953" h="78">
                  <a:moveTo>
                    <a:pt x="933" y="78"/>
                  </a:moveTo>
                  <a:lnTo>
                    <a:pt x="1" y="78"/>
                  </a:lnTo>
                  <a:lnTo>
                    <a:pt x="0" y="0"/>
                  </a:lnTo>
                  <a:lnTo>
                    <a:pt x="953" y="0"/>
                  </a:lnTo>
                  <a:lnTo>
                    <a:pt x="952" y="9"/>
                  </a:lnTo>
                  <a:lnTo>
                    <a:pt x="949" y="20"/>
                  </a:lnTo>
                  <a:lnTo>
                    <a:pt x="947" y="29"/>
                  </a:lnTo>
                  <a:lnTo>
                    <a:pt x="945" y="39"/>
                  </a:lnTo>
                  <a:lnTo>
                    <a:pt x="942" y="49"/>
                  </a:lnTo>
                  <a:lnTo>
                    <a:pt x="939" y="59"/>
                  </a:lnTo>
                  <a:lnTo>
                    <a:pt x="936" y="68"/>
                  </a:lnTo>
                  <a:lnTo>
                    <a:pt x="933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64480" y="1257120"/>
              <a:ext cx="391680" cy="32400"/>
            </a:xfrm>
            <a:custGeom>
              <a:avLst/>
              <a:gdLst/>
              <a:ahLst/>
              <a:rect l="l" t="t" r="r" b="b"/>
              <a:pathLst>
                <a:path w="960" h="78">
                  <a:moveTo>
                    <a:pt x="946" y="78"/>
                  </a:moveTo>
                  <a:lnTo>
                    <a:pt x="2" y="78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26" y="2"/>
                  </a:lnTo>
                  <a:lnTo>
                    <a:pt x="136" y="4"/>
                  </a:lnTo>
                  <a:lnTo>
                    <a:pt x="147" y="6"/>
                  </a:lnTo>
                  <a:lnTo>
                    <a:pt x="157" y="8"/>
                  </a:lnTo>
                  <a:lnTo>
                    <a:pt x="168" y="9"/>
                  </a:lnTo>
                  <a:lnTo>
                    <a:pt x="178" y="10"/>
                  </a:lnTo>
                  <a:lnTo>
                    <a:pt x="189" y="10"/>
                  </a:lnTo>
                  <a:lnTo>
                    <a:pt x="198" y="10"/>
                  </a:lnTo>
                  <a:lnTo>
                    <a:pt x="208" y="10"/>
                  </a:lnTo>
                  <a:lnTo>
                    <a:pt x="217" y="10"/>
                  </a:lnTo>
                  <a:lnTo>
                    <a:pt x="226" y="9"/>
                  </a:lnTo>
                  <a:lnTo>
                    <a:pt x="235" y="8"/>
                  </a:lnTo>
                  <a:lnTo>
                    <a:pt x="244" y="6"/>
                  </a:lnTo>
                  <a:lnTo>
                    <a:pt x="253" y="4"/>
                  </a:lnTo>
                  <a:lnTo>
                    <a:pt x="260" y="2"/>
                  </a:lnTo>
                  <a:lnTo>
                    <a:pt x="268" y="0"/>
                  </a:lnTo>
                  <a:lnTo>
                    <a:pt x="960" y="0"/>
                  </a:lnTo>
                  <a:lnTo>
                    <a:pt x="959" y="11"/>
                  </a:lnTo>
                  <a:lnTo>
                    <a:pt x="958" y="20"/>
                  </a:lnTo>
                  <a:lnTo>
                    <a:pt x="956" y="30"/>
                  </a:lnTo>
                  <a:lnTo>
                    <a:pt x="954" y="40"/>
                  </a:lnTo>
                  <a:lnTo>
                    <a:pt x="952" y="50"/>
                  </a:lnTo>
                  <a:lnTo>
                    <a:pt x="950" y="59"/>
                  </a:lnTo>
                  <a:lnTo>
                    <a:pt x="948" y="68"/>
                  </a:lnTo>
                  <a:lnTo>
                    <a:pt x="946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264480" y="1240920"/>
              <a:ext cx="394200" cy="32400"/>
            </a:xfrm>
            <a:custGeom>
              <a:avLst/>
              <a:gdLst/>
              <a:ahLst/>
              <a:rect l="l" t="t" r="r" b="b"/>
              <a:pathLst>
                <a:path w="966" h="78">
                  <a:moveTo>
                    <a:pt x="955" y="78"/>
                  </a:moveTo>
                  <a:lnTo>
                    <a:pt x="2" y="78"/>
                  </a:lnTo>
                  <a:lnTo>
                    <a:pt x="0" y="1"/>
                  </a:lnTo>
                  <a:lnTo>
                    <a:pt x="13" y="8"/>
                  </a:lnTo>
                  <a:lnTo>
                    <a:pt x="27" y="13"/>
                  </a:lnTo>
                  <a:lnTo>
                    <a:pt x="40" y="17"/>
                  </a:lnTo>
                  <a:lnTo>
                    <a:pt x="53" y="22"/>
                  </a:lnTo>
                  <a:lnTo>
                    <a:pt x="66" y="27"/>
                  </a:lnTo>
                  <a:lnTo>
                    <a:pt x="79" y="30"/>
                  </a:lnTo>
                  <a:lnTo>
                    <a:pt x="92" y="34"/>
                  </a:lnTo>
                  <a:lnTo>
                    <a:pt x="105" y="37"/>
                  </a:lnTo>
                  <a:lnTo>
                    <a:pt x="117" y="39"/>
                  </a:lnTo>
                  <a:lnTo>
                    <a:pt x="129" y="42"/>
                  </a:lnTo>
                  <a:lnTo>
                    <a:pt x="141" y="44"/>
                  </a:lnTo>
                  <a:lnTo>
                    <a:pt x="153" y="45"/>
                  </a:lnTo>
                  <a:lnTo>
                    <a:pt x="164" y="48"/>
                  </a:lnTo>
                  <a:lnTo>
                    <a:pt x="177" y="48"/>
                  </a:lnTo>
                  <a:lnTo>
                    <a:pt x="188" y="49"/>
                  </a:lnTo>
                  <a:lnTo>
                    <a:pt x="199" y="49"/>
                  </a:lnTo>
                  <a:lnTo>
                    <a:pt x="219" y="49"/>
                  </a:lnTo>
                  <a:lnTo>
                    <a:pt x="238" y="47"/>
                  </a:lnTo>
                  <a:lnTo>
                    <a:pt x="256" y="43"/>
                  </a:lnTo>
                  <a:lnTo>
                    <a:pt x="273" y="38"/>
                  </a:lnTo>
                  <a:lnTo>
                    <a:pt x="288" y="32"/>
                  </a:lnTo>
                  <a:lnTo>
                    <a:pt x="304" y="26"/>
                  </a:lnTo>
                  <a:lnTo>
                    <a:pt x="318" y="16"/>
                  </a:lnTo>
                  <a:lnTo>
                    <a:pt x="331" y="7"/>
                  </a:lnTo>
                  <a:lnTo>
                    <a:pt x="332" y="6"/>
                  </a:lnTo>
                  <a:lnTo>
                    <a:pt x="334" y="5"/>
                  </a:lnTo>
                  <a:lnTo>
                    <a:pt x="334" y="5"/>
                  </a:lnTo>
                  <a:lnTo>
                    <a:pt x="335" y="3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1"/>
                  </a:lnTo>
                  <a:lnTo>
                    <a:pt x="338" y="0"/>
                  </a:lnTo>
                  <a:lnTo>
                    <a:pt x="966" y="0"/>
                  </a:lnTo>
                  <a:lnTo>
                    <a:pt x="965" y="11"/>
                  </a:lnTo>
                  <a:lnTo>
                    <a:pt x="964" y="20"/>
                  </a:lnTo>
                  <a:lnTo>
                    <a:pt x="962" y="30"/>
                  </a:lnTo>
                  <a:lnTo>
                    <a:pt x="961" y="40"/>
                  </a:lnTo>
                  <a:lnTo>
                    <a:pt x="960" y="50"/>
                  </a:lnTo>
                  <a:lnTo>
                    <a:pt x="959" y="59"/>
                  </a:lnTo>
                  <a:lnTo>
                    <a:pt x="957" y="69"/>
                  </a:lnTo>
                  <a:lnTo>
                    <a:pt x="955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264480" y="1226880"/>
              <a:ext cx="394200" cy="30240"/>
            </a:xfrm>
            <a:custGeom>
              <a:avLst/>
              <a:gdLst/>
              <a:ahLst/>
              <a:rect l="l" t="t" r="r" b="b"/>
              <a:pathLst>
                <a:path w="968" h="78">
                  <a:moveTo>
                    <a:pt x="961" y="78"/>
                  </a:moveTo>
                  <a:lnTo>
                    <a:pt x="269" y="78"/>
                  </a:lnTo>
                  <a:lnTo>
                    <a:pt x="278" y="75"/>
                  </a:lnTo>
                  <a:lnTo>
                    <a:pt x="286" y="72"/>
                  </a:lnTo>
                  <a:lnTo>
                    <a:pt x="295" y="69"/>
                  </a:lnTo>
                  <a:lnTo>
                    <a:pt x="302" y="65"/>
                  </a:lnTo>
                  <a:lnTo>
                    <a:pt x="310" y="60"/>
                  </a:lnTo>
                  <a:lnTo>
                    <a:pt x="318" y="56"/>
                  </a:lnTo>
                  <a:lnTo>
                    <a:pt x="324" y="51"/>
                  </a:lnTo>
                  <a:lnTo>
                    <a:pt x="331" y="46"/>
                  </a:lnTo>
                  <a:lnTo>
                    <a:pt x="338" y="40"/>
                  </a:lnTo>
                  <a:lnTo>
                    <a:pt x="343" y="35"/>
                  </a:lnTo>
                  <a:lnTo>
                    <a:pt x="348" y="30"/>
                  </a:lnTo>
                  <a:lnTo>
                    <a:pt x="352" y="25"/>
                  </a:lnTo>
                  <a:lnTo>
                    <a:pt x="358" y="18"/>
                  </a:lnTo>
                  <a:lnTo>
                    <a:pt x="361" y="13"/>
                  </a:lnTo>
                  <a:lnTo>
                    <a:pt x="365" y="7"/>
                  </a:lnTo>
                  <a:lnTo>
                    <a:pt x="368" y="0"/>
                  </a:lnTo>
                  <a:lnTo>
                    <a:pt x="968" y="0"/>
                  </a:lnTo>
                  <a:lnTo>
                    <a:pt x="968" y="11"/>
                  </a:lnTo>
                  <a:lnTo>
                    <a:pt x="967" y="20"/>
                  </a:lnTo>
                  <a:lnTo>
                    <a:pt x="967" y="31"/>
                  </a:lnTo>
                  <a:lnTo>
                    <a:pt x="966" y="40"/>
                  </a:lnTo>
                  <a:lnTo>
                    <a:pt x="965" y="50"/>
                  </a:lnTo>
                  <a:lnTo>
                    <a:pt x="964" y="59"/>
                  </a:lnTo>
                  <a:lnTo>
                    <a:pt x="962" y="69"/>
                  </a:lnTo>
                  <a:lnTo>
                    <a:pt x="961" y="78"/>
                  </a:lnTo>
                  <a:close/>
                  <a:moveTo>
                    <a:pt x="115" y="78"/>
                  </a:moveTo>
                  <a:lnTo>
                    <a:pt x="1" y="78"/>
                  </a:lnTo>
                  <a:lnTo>
                    <a:pt x="0" y="40"/>
                  </a:lnTo>
                  <a:lnTo>
                    <a:pt x="13" y="47"/>
                  </a:lnTo>
                  <a:lnTo>
                    <a:pt x="27" y="52"/>
                  </a:lnTo>
                  <a:lnTo>
                    <a:pt x="40" y="56"/>
                  </a:lnTo>
                  <a:lnTo>
                    <a:pt x="53" y="61"/>
                  </a:lnTo>
                  <a:lnTo>
                    <a:pt x="66" y="66"/>
                  </a:lnTo>
                  <a:lnTo>
                    <a:pt x="79" y="69"/>
                  </a:lnTo>
                  <a:lnTo>
                    <a:pt x="92" y="73"/>
                  </a:lnTo>
                  <a:lnTo>
                    <a:pt x="105" y="76"/>
                  </a:lnTo>
                  <a:lnTo>
                    <a:pt x="106" y="76"/>
                  </a:lnTo>
                  <a:lnTo>
                    <a:pt x="107" y="76"/>
                  </a:lnTo>
                  <a:lnTo>
                    <a:pt x="109" y="77"/>
                  </a:lnTo>
                  <a:lnTo>
                    <a:pt x="110" y="77"/>
                  </a:lnTo>
                  <a:lnTo>
                    <a:pt x="111" y="77"/>
                  </a:lnTo>
                  <a:lnTo>
                    <a:pt x="113" y="77"/>
                  </a:lnTo>
                  <a:lnTo>
                    <a:pt x="114" y="78"/>
                  </a:lnTo>
                  <a:lnTo>
                    <a:pt x="115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3401280" y="1209960"/>
              <a:ext cx="257040" cy="30960"/>
            </a:xfrm>
            <a:custGeom>
              <a:avLst/>
              <a:gdLst/>
              <a:ahLst/>
              <a:rect l="l" t="t" r="r" b="b"/>
              <a:pathLst>
                <a:path w="630" h="76">
                  <a:moveTo>
                    <a:pt x="628" y="76"/>
                  </a:moveTo>
                  <a:lnTo>
                    <a:pt x="0" y="76"/>
                  </a:lnTo>
                  <a:lnTo>
                    <a:pt x="8" y="68"/>
                  </a:lnTo>
                  <a:lnTo>
                    <a:pt x="17" y="60"/>
                  </a:lnTo>
                  <a:lnTo>
                    <a:pt x="23" y="50"/>
                  </a:lnTo>
                  <a:lnTo>
                    <a:pt x="29" y="41"/>
                  </a:lnTo>
                  <a:lnTo>
                    <a:pt x="33" y="31"/>
                  </a:lnTo>
                  <a:lnTo>
                    <a:pt x="38" y="21"/>
                  </a:lnTo>
                  <a:lnTo>
                    <a:pt x="41" y="10"/>
                  </a:lnTo>
                  <a:lnTo>
                    <a:pt x="43" y="0"/>
                  </a:lnTo>
                  <a:lnTo>
                    <a:pt x="630" y="0"/>
                  </a:lnTo>
                  <a:lnTo>
                    <a:pt x="630" y="2"/>
                  </a:lnTo>
                  <a:lnTo>
                    <a:pt x="630" y="4"/>
                  </a:lnTo>
                  <a:lnTo>
                    <a:pt x="630" y="6"/>
                  </a:lnTo>
                  <a:lnTo>
                    <a:pt x="630" y="8"/>
                  </a:lnTo>
                  <a:lnTo>
                    <a:pt x="630" y="10"/>
                  </a:lnTo>
                  <a:lnTo>
                    <a:pt x="630" y="12"/>
                  </a:lnTo>
                  <a:lnTo>
                    <a:pt x="630" y="15"/>
                  </a:lnTo>
                  <a:lnTo>
                    <a:pt x="630" y="18"/>
                  </a:lnTo>
                  <a:lnTo>
                    <a:pt x="630" y="25"/>
                  </a:lnTo>
                  <a:lnTo>
                    <a:pt x="630" y="32"/>
                  </a:lnTo>
                  <a:lnTo>
                    <a:pt x="630" y="40"/>
                  </a:lnTo>
                  <a:lnTo>
                    <a:pt x="630" y="47"/>
                  </a:lnTo>
                  <a:lnTo>
                    <a:pt x="629" y="54"/>
                  </a:lnTo>
                  <a:lnTo>
                    <a:pt x="629" y="62"/>
                  </a:lnTo>
                  <a:lnTo>
                    <a:pt x="629" y="69"/>
                  </a:lnTo>
                  <a:lnTo>
                    <a:pt x="628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413520" y="1193760"/>
              <a:ext cx="245160" cy="32760"/>
            </a:xfrm>
            <a:custGeom>
              <a:avLst/>
              <a:gdLst/>
              <a:ahLst/>
              <a:rect l="l" t="t" r="r" b="b"/>
              <a:pathLst>
                <a:path w="600" h="76">
                  <a:moveTo>
                    <a:pt x="600" y="76"/>
                  </a:moveTo>
                  <a:lnTo>
                    <a:pt x="0" y="76"/>
                  </a:lnTo>
                  <a:lnTo>
                    <a:pt x="3" y="70"/>
                  </a:lnTo>
                  <a:lnTo>
                    <a:pt x="6" y="63"/>
                  </a:lnTo>
                  <a:lnTo>
                    <a:pt x="9" y="55"/>
                  </a:lnTo>
                  <a:lnTo>
                    <a:pt x="11" y="48"/>
                  </a:lnTo>
                  <a:lnTo>
                    <a:pt x="13" y="41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598" y="0"/>
                  </a:lnTo>
                  <a:lnTo>
                    <a:pt x="598" y="6"/>
                  </a:lnTo>
                  <a:lnTo>
                    <a:pt x="599" y="13"/>
                  </a:lnTo>
                  <a:lnTo>
                    <a:pt x="599" y="21"/>
                  </a:lnTo>
                  <a:lnTo>
                    <a:pt x="600" y="28"/>
                  </a:lnTo>
                  <a:lnTo>
                    <a:pt x="600" y="34"/>
                  </a:lnTo>
                  <a:lnTo>
                    <a:pt x="600" y="42"/>
                  </a:lnTo>
                  <a:lnTo>
                    <a:pt x="600" y="49"/>
                  </a:lnTo>
                  <a:lnTo>
                    <a:pt x="600" y="57"/>
                  </a:lnTo>
                  <a:lnTo>
                    <a:pt x="600" y="59"/>
                  </a:lnTo>
                  <a:lnTo>
                    <a:pt x="600" y="62"/>
                  </a:lnTo>
                  <a:lnTo>
                    <a:pt x="600" y="64"/>
                  </a:lnTo>
                  <a:lnTo>
                    <a:pt x="600" y="67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0" y="74"/>
                  </a:lnTo>
                  <a:lnTo>
                    <a:pt x="600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415680" y="1179360"/>
              <a:ext cx="242640" cy="30240"/>
            </a:xfrm>
            <a:custGeom>
              <a:avLst/>
              <a:gdLst/>
              <a:ahLst/>
              <a:rect l="l" t="t" r="r" b="b"/>
              <a:pathLst>
                <a:path w="599" h="78">
                  <a:moveTo>
                    <a:pt x="599" y="78"/>
                  </a:moveTo>
                  <a:lnTo>
                    <a:pt x="12" y="78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6"/>
                  </a:lnTo>
                  <a:lnTo>
                    <a:pt x="13" y="64"/>
                  </a:lnTo>
                  <a:lnTo>
                    <a:pt x="14" y="61"/>
                  </a:lnTo>
                  <a:lnTo>
                    <a:pt x="14" y="59"/>
                  </a:lnTo>
                  <a:lnTo>
                    <a:pt x="14" y="56"/>
                  </a:lnTo>
                  <a:lnTo>
                    <a:pt x="13" y="49"/>
                  </a:lnTo>
                  <a:lnTo>
                    <a:pt x="13" y="42"/>
                  </a:lnTo>
                  <a:lnTo>
                    <a:pt x="12" y="36"/>
                  </a:lnTo>
                  <a:lnTo>
                    <a:pt x="10" y="28"/>
                  </a:lnTo>
                  <a:lnTo>
                    <a:pt x="9" y="22"/>
                  </a:lnTo>
                  <a:lnTo>
                    <a:pt x="7" y="15"/>
                  </a:lnTo>
                  <a:lnTo>
                    <a:pt x="3" y="7"/>
                  </a:lnTo>
                  <a:lnTo>
                    <a:pt x="0" y="0"/>
                  </a:lnTo>
                  <a:lnTo>
                    <a:pt x="592" y="0"/>
                  </a:lnTo>
                  <a:lnTo>
                    <a:pt x="593" y="9"/>
                  </a:lnTo>
                  <a:lnTo>
                    <a:pt x="595" y="19"/>
                  </a:lnTo>
                  <a:lnTo>
                    <a:pt x="596" y="28"/>
                  </a:lnTo>
                  <a:lnTo>
                    <a:pt x="597" y="38"/>
                  </a:lnTo>
                  <a:lnTo>
                    <a:pt x="598" y="48"/>
                  </a:lnTo>
                  <a:lnTo>
                    <a:pt x="598" y="58"/>
                  </a:lnTo>
                  <a:lnTo>
                    <a:pt x="599" y="67"/>
                  </a:lnTo>
                  <a:lnTo>
                    <a:pt x="599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405600" y="1163160"/>
              <a:ext cx="253080" cy="30240"/>
            </a:xfrm>
            <a:custGeom>
              <a:avLst/>
              <a:gdLst/>
              <a:ahLst/>
              <a:rect l="l" t="t" r="r" b="b"/>
              <a:pathLst>
                <a:path w="618" h="78">
                  <a:moveTo>
                    <a:pt x="618" y="78"/>
                  </a:moveTo>
                  <a:lnTo>
                    <a:pt x="33" y="78"/>
                  </a:lnTo>
                  <a:lnTo>
                    <a:pt x="32" y="68"/>
                  </a:lnTo>
                  <a:lnTo>
                    <a:pt x="29" y="60"/>
                  </a:lnTo>
                  <a:lnTo>
                    <a:pt x="25" y="51"/>
                  </a:lnTo>
                  <a:lnTo>
                    <a:pt x="22" y="41"/>
                  </a:lnTo>
                  <a:lnTo>
                    <a:pt x="17" y="31"/>
                  </a:lnTo>
                  <a:lnTo>
                    <a:pt x="12" y="21"/>
                  </a:lnTo>
                  <a:lnTo>
                    <a:pt x="7" y="11"/>
                  </a:lnTo>
                  <a:lnTo>
                    <a:pt x="0" y="0"/>
                  </a:lnTo>
                  <a:lnTo>
                    <a:pt x="606" y="0"/>
                  </a:lnTo>
                  <a:lnTo>
                    <a:pt x="608" y="10"/>
                  </a:lnTo>
                  <a:lnTo>
                    <a:pt x="610" y="19"/>
                  </a:lnTo>
                  <a:lnTo>
                    <a:pt x="611" y="28"/>
                  </a:lnTo>
                  <a:lnTo>
                    <a:pt x="613" y="39"/>
                  </a:lnTo>
                  <a:lnTo>
                    <a:pt x="614" y="48"/>
                  </a:lnTo>
                  <a:lnTo>
                    <a:pt x="616" y="58"/>
                  </a:lnTo>
                  <a:lnTo>
                    <a:pt x="617" y="67"/>
                  </a:lnTo>
                  <a:lnTo>
                    <a:pt x="618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95520" y="1146960"/>
              <a:ext cx="260640" cy="32400"/>
            </a:xfrm>
            <a:custGeom>
              <a:avLst/>
              <a:gdLst/>
              <a:ahLst/>
              <a:rect l="l" t="t" r="r" b="b"/>
              <a:pathLst>
                <a:path w="642" h="78">
                  <a:moveTo>
                    <a:pt x="642" y="78"/>
                  </a:moveTo>
                  <a:lnTo>
                    <a:pt x="50" y="78"/>
                  </a:lnTo>
                  <a:lnTo>
                    <a:pt x="46" y="69"/>
                  </a:lnTo>
                  <a:lnTo>
                    <a:pt x="41" y="60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3" y="31"/>
                  </a:lnTo>
                  <a:lnTo>
                    <a:pt x="16" y="21"/>
                  </a:lnTo>
                  <a:lnTo>
                    <a:pt x="8" y="11"/>
                  </a:lnTo>
                  <a:lnTo>
                    <a:pt x="0" y="0"/>
                  </a:lnTo>
                  <a:lnTo>
                    <a:pt x="626" y="0"/>
                  </a:lnTo>
                  <a:lnTo>
                    <a:pt x="628" y="10"/>
                  </a:lnTo>
                  <a:lnTo>
                    <a:pt x="631" y="19"/>
                  </a:lnTo>
                  <a:lnTo>
                    <a:pt x="633" y="29"/>
                  </a:lnTo>
                  <a:lnTo>
                    <a:pt x="635" y="39"/>
                  </a:lnTo>
                  <a:lnTo>
                    <a:pt x="637" y="49"/>
                  </a:lnTo>
                  <a:lnTo>
                    <a:pt x="639" y="58"/>
                  </a:lnTo>
                  <a:lnTo>
                    <a:pt x="640" y="69"/>
                  </a:lnTo>
                  <a:lnTo>
                    <a:pt x="642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81120" y="1130400"/>
              <a:ext cx="273240" cy="32760"/>
            </a:xfrm>
            <a:custGeom>
              <a:avLst/>
              <a:gdLst/>
              <a:ahLst/>
              <a:rect l="l" t="t" r="r" b="b"/>
              <a:pathLst>
                <a:path w="670" h="78">
                  <a:moveTo>
                    <a:pt x="670" y="78"/>
                  </a:moveTo>
                  <a:lnTo>
                    <a:pt x="64" y="78"/>
                  </a:lnTo>
                  <a:lnTo>
                    <a:pt x="58" y="69"/>
                  </a:lnTo>
                  <a:lnTo>
                    <a:pt x="51" y="60"/>
                  </a:lnTo>
                  <a:lnTo>
                    <a:pt x="43" y="51"/>
                  </a:lnTo>
                  <a:lnTo>
                    <a:pt x="36" y="40"/>
                  </a:lnTo>
                  <a:lnTo>
                    <a:pt x="27" y="31"/>
                  </a:lnTo>
                  <a:lnTo>
                    <a:pt x="19" y="21"/>
                  </a:lnTo>
                  <a:lnTo>
                    <a:pt x="10" y="11"/>
                  </a:lnTo>
                  <a:lnTo>
                    <a:pt x="0" y="0"/>
                  </a:lnTo>
                  <a:lnTo>
                    <a:pt x="648" y="0"/>
                  </a:lnTo>
                  <a:lnTo>
                    <a:pt x="651" y="10"/>
                  </a:lnTo>
                  <a:lnTo>
                    <a:pt x="654" y="20"/>
                  </a:lnTo>
                  <a:lnTo>
                    <a:pt x="657" y="30"/>
                  </a:lnTo>
                  <a:lnTo>
                    <a:pt x="661" y="39"/>
                  </a:lnTo>
                  <a:lnTo>
                    <a:pt x="663" y="49"/>
                  </a:lnTo>
                  <a:lnTo>
                    <a:pt x="666" y="58"/>
                  </a:lnTo>
                  <a:lnTo>
                    <a:pt x="668" y="69"/>
                  </a:lnTo>
                  <a:lnTo>
                    <a:pt x="670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364920" y="1116360"/>
              <a:ext cx="285480" cy="30240"/>
            </a:xfrm>
            <a:custGeom>
              <a:avLst/>
              <a:gdLst/>
              <a:ahLst/>
              <a:rect l="l" t="t" r="r" b="b"/>
              <a:pathLst>
                <a:path w="701" h="76">
                  <a:moveTo>
                    <a:pt x="701" y="76"/>
                  </a:moveTo>
                  <a:lnTo>
                    <a:pt x="75" y="76"/>
                  </a:lnTo>
                  <a:lnTo>
                    <a:pt x="67" y="67"/>
                  </a:lnTo>
                  <a:lnTo>
                    <a:pt x="59" y="58"/>
                  </a:lnTo>
                  <a:lnTo>
                    <a:pt x="50" y="49"/>
                  </a:lnTo>
                  <a:lnTo>
                    <a:pt x="41" y="38"/>
                  </a:lnTo>
                  <a:lnTo>
                    <a:pt x="32" y="29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6" y="9"/>
                  </a:lnTo>
                  <a:lnTo>
                    <a:pt x="681" y="19"/>
                  </a:lnTo>
                  <a:lnTo>
                    <a:pt x="684" y="28"/>
                  </a:lnTo>
                  <a:lnTo>
                    <a:pt x="688" y="37"/>
                  </a:lnTo>
                  <a:lnTo>
                    <a:pt x="691" y="47"/>
                  </a:lnTo>
                  <a:lnTo>
                    <a:pt x="694" y="56"/>
                  </a:lnTo>
                  <a:lnTo>
                    <a:pt x="697" y="67"/>
                  </a:lnTo>
                  <a:lnTo>
                    <a:pt x="701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346200" y="1099800"/>
              <a:ext cx="297720" cy="30240"/>
            </a:xfrm>
            <a:custGeom>
              <a:avLst/>
              <a:gdLst/>
              <a:ahLst/>
              <a:rect l="l" t="t" r="r" b="b"/>
              <a:pathLst>
                <a:path w="730" h="76">
                  <a:moveTo>
                    <a:pt x="730" y="76"/>
                  </a:moveTo>
                  <a:lnTo>
                    <a:pt x="82" y="76"/>
                  </a:lnTo>
                  <a:lnTo>
                    <a:pt x="77" y="72"/>
                  </a:lnTo>
                  <a:lnTo>
                    <a:pt x="73" y="67"/>
                  </a:lnTo>
                  <a:lnTo>
                    <a:pt x="67" y="63"/>
                  </a:lnTo>
                  <a:lnTo>
                    <a:pt x="62" y="58"/>
                  </a:lnTo>
                  <a:lnTo>
                    <a:pt x="57" y="52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38"/>
                  </a:lnTo>
                  <a:lnTo>
                    <a:pt x="35" y="32"/>
                  </a:lnTo>
                  <a:lnTo>
                    <a:pt x="30" y="27"/>
                  </a:lnTo>
                  <a:lnTo>
                    <a:pt x="24" y="22"/>
                  </a:lnTo>
                  <a:lnTo>
                    <a:pt x="19" y="18"/>
                  </a:lnTo>
                  <a:lnTo>
                    <a:pt x="14" y="12"/>
                  </a:lnTo>
                  <a:lnTo>
                    <a:pt x="10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3"/>
                  </a:lnTo>
                  <a:lnTo>
                    <a:pt x="700" y="6"/>
                  </a:lnTo>
                  <a:lnTo>
                    <a:pt x="701" y="9"/>
                  </a:lnTo>
                  <a:lnTo>
                    <a:pt x="703" y="12"/>
                  </a:lnTo>
                  <a:lnTo>
                    <a:pt x="705" y="16"/>
                  </a:lnTo>
                  <a:lnTo>
                    <a:pt x="706" y="20"/>
                  </a:lnTo>
                  <a:lnTo>
                    <a:pt x="708" y="23"/>
                  </a:lnTo>
                  <a:lnTo>
                    <a:pt x="709" y="26"/>
                  </a:lnTo>
                  <a:lnTo>
                    <a:pt x="712" y="32"/>
                  </a:lnTo>
                  <a:lnTo>
                    <a:pt x="714" y="39"/>
                  </a:lnTo>
                  <a:lnTo>
                    <a:pt x="717" y="45"/>
                  </a:lnTo>
                  <a:lnTo>
                    <a:pt x="721" y="51"/>
                  </a:lnTo>
                  <a:lnTo>
                    <a:pt x="723" y="58"/>
                  </a:lnTo>
                  <a:lnTo>
                    <a:pt x="725" y="64"/>
                  </a:lnTo>
                  <a:lnTo>
                    <a:pt x="728" y="70"/>
                  </a:lnTo>
                  <a:lnTo>
                    <a:pt x="730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330000" y="1083600"/>
              <a:ext cx="307440" cy="32760"/>
            </a:xfrm>
            <a:custGeom>
              <a:avLst/>
              <a:gdLst/>
              <a:ahLst/>
              <a:rect l="l" t="t" r="r" b="b"/>
              <a:pathLst>
                <a:path w="754" h="78">
                  <a:moveTo>
                    <a:pt x="754" y="78"/>
                  </a:moveTo>
                  <a:lnTo>
                    <a:pt x="82" y="78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0" y="66"/>
                  </a:lnTo>
                  <a:lnTo>
                    <a:pt x="58" y="56"/>
                  </a:lnTo>
                  <a:lnTo>
                    <a:pt x="49" y="46"/>
                  </a:lnTo>
                  <a:lnTo>
                    <a:pt x="39" y="38"/>
                  </a:lnTo>
                  <a:lnTo>
                    <a:pt x="30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714" y="0"/>
                  </a:lnTo>
                  <a:lnTo>
                    <a:pt x="719" y="7"/>
                  </a:lnTo>
                  <a:lnTo>
                    <a:pt x="724" y="16"/>
                  </a:lnTo>
                  <a:lnTo>
                    <a:pt x="728" y="24"/>
                  </a:lnTo>
                  <a:lnTo>
                    <a:pt x="732" y="31"/>
                  </a:lnTo>
                  <a:lnTo>
                    <a:pt x="736" y="40"/>
                  </a:lnTo>
                  <a:lnTo>
                    <a:pt x="741" y="48"/>
                  </a:lnTo>
                  <a:lnTo>
                    <a:pt x="745" y="57"/>
                  </a:lnTo>
                  <a:lnTo>
                    <a:pt x="749" y="65"/>
                  </a:lnTo>
                  <a:lnTo>
                    <a:pt x="750" y="66"/>
                  </a:lnTo>
                  <a:lnTo>
                    <a:pt x="750" y="68"/>
                  </a:lnTo>
                  <a:lnTo>
                    <a:pt x="751" y="69"/>
                  </a:lnTo>
                  <a:lnTo>
                    <a:pt x="752" y="71"/>
                  </a:lnTo>
                  <a:lnTo>
                    <a:pt x="752" y="72"/>
                  </a:lnTo>
                  <a:lnTo>
                    <a:pt x="753" y="74"/>
                  </a:lnTo>
                  <a:lnTo>
                    <a:pt x="754" y="76"/>
                  </a:lnTo>
                  <a:lnTo>
                    <a:pt x="754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15600" y="1067400"/>
              <a:ext cx="313920" cy="32400"/>
            </a:xfrm>
            <a:custGeom>
              <a:avLst/>
              <a:gdLst/>
              <a:ahLst/>
              <a:rect l="l" t="t" r="r" b="b"/>
              <a:pathLst>
                <a:path w="770" h="78">
                  <a:moveTo>
                    <a:pt x="770" y="78"/>
                  </a:moveTo>
                  <a:lnTo>
                    <a:pt x="74" y="78"/>
                  </a:lnTo>
                  <a:lnTo>
                    <a:pt x="69" y="73"/>
                  </a:lnTo>
                  <a:lnTo>
                    <a:pt x="65" y="68"/>
                  </a:lnTo>
                  <a:lnTo>
                    <a:pt x="61" y="64"/>
                  </a:lnTo>
                  <a:lnTo>
                    <a:pt x="56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5" y="49"/>
                  </a:lnTo>
                  <a:lnTo>
                    <a:pt x="42" y="46"/>
                  </a:lnTo>
                  <a:lnTo>
                    <a:pt x="36" y="40"/>
                  </a:lnTo>
                  <a:lnTo>
                    <a:pt x="31" y="35"/>
                  </a:lnTo>
                  <a:lnTo>
                    <a:pt x="25" y="29"/>
                  </a:lnTo>
                  <a:lnTo>
                    <a:pt x="20" y="23"/>
                  </a:lnTo>
                  <a:lnTo>
                    <a:pt x="14" y="18"/>
                  </a:lnTo>
                  <a:lnTo>
                    <a:pt x="9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8" y="10"/>
                  </a:lnTo>
                  <a:lnTo>
                    <a:pt x="735" y="19"/>
                  </a:lnTo>
                  <a:lnTo>
                    <a:pt x="741" y="28"/>
                  </a:lnTo>
                  <a:lnTo>
                    <a:pt x="747" y="38"/>
                  </a:lnTo>
                  <a:lnTo>
                    <a:pt x="754" y="47"/>
                  </a:lnTo>
                  <a:lnTo>
                    <a:pt x="759" y="58"/>
                  </a:lnTo>
                  <a:lnTo>
                    <a:pt x="765" y="67"/>
                  </a:lnTo>
                  <a:lnTo>
                    <a:pt x="770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303360" y="1053000"/>
              <a:ext cx="318240" cy="30240"/>
            </a:xfrm>
            <a:custGeom>
              <a:avLst/>
              <a:gdLst/>
              <a:ahLst/>
              <a:rect l="l" t="t" r="r" b="b"/>
              <a:pathLst>
                <a:path w="780" h="78">
                  <a:moveTo>
                    <a:pt x="780" y="78"/>
                  </a:moveTo>
                  <a:lnTo>
                    <a:pt x="66" y="78"/>
                  </a:lnTo>
                  <a:lnTo>
                    <a:pt x="58" y="68"/>
                  </a:lnTo>
                  <a:lnTo>
                    <a:pt x="49" y="59"/>
                  </a:lnTo>
                  <a:lnTo>
                    <a:pt x="40" y="49"/>
                  </a:lnTo>
                  <a:lnTo>
                    <a:pt x="32" y="39"/>
                  </a:lnTo>
                  <a:lnTo>
                    <a:pt x="23" y="30"/>
                  </a:lnTo>
                  <a:lnTo>
                    <a:pt x="16" y="2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724" y="0"/>
                  </a:lnTo>
                  <a:lnTo>
                    <a:pt x="731" y="10"/>
                  </a:lnTo>
                  <a:lnTo>
                    <a:pt x="739" y="19"/>
                  </a:lnTo>
                  <a:lnTo>
                    <a:pt x="747" y="29"/>
                  </a:lnTo>
                  <a:lnTo>
                    <a:pt x="753" y="38"/>
                  </a:lnTo>
                  <a:lnTo>
                    <a:pt x="760" y="47"/>
                  </a:lnTo>
                  <a:lnTo>
                    <a:pt x="767" y="58"/>
                  </a:lnTo>
                  <a:lnTo>
                    <a:pt x="774" y="67"/>
                  </a:lnTo>
                  <a:lnTo>
                    <a:pt x="780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292920" y="1036800"/>
              <a:ext cx="318240" cy="30240"/>
            </a:xfrm>
            <a:custGeom>
              <a:avLst/>
              <a:gdLst/>
              <a:ahLst/>
              <a:rect l="l" t="t" r="r" b="b"/>
              <a:pathLst>
                <a:path w="781" h="78">
                  <a:moveTo>
                    <a:pt x="781" y="78"/>
                  </a:moveTo>
                  <a:lnTo>
                    <a:pt x="59" y="78"/>
                  </a:lnTo>
                  <a:lnTo>
                    <a:pt x="50" y="69"/>
                  </a:lnTo>
                  <a:lnTo>
                    <a:pt x="43" y="59"/>
                  </a:lnTo>
                  <a:lnTo>
                    <a:pt x="35" y="50"/>
                  </a:lnTo>
                  <a:lnTo>
                    <a:pt x="27" y="39"/>
                  </a:lnTo>
                  <a:lnTo>
                    <a:pt x="20" y="30"/>
                  </a:lnTo>
                  <a:lnTo>
                    <a:pt x="14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24" y="10"/>
                  </a:lnTo>
                  <a:lnTo>
                    <a:pt x="733" y="19"/>
                  </a:lnTo>
                  <a:lnTo>
                    <a:pt x="741" y="29"/>
                  </a:lnTo>
                  <a:lnTo>
                    <a:pt x="750" y="38"/>
                  </a:lnTo>
                  <a:lnTo>
                    <a:pt x="758" y="48"/>
                  </a:lnTo>
                  <a:lnTo>
                    <a:pt x="765" y="58"/>
                  </a:lnTo>
                  <a:lnTo>
                    <a:pt x="774" y="68"/>
                  </a:lnTo>
                  <a:lnTo>
                    <a:pt x="781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282840" y="1020240"/>
              <a:ext cx="316440" cy="32760"/>
            </a:xfrm>
            <a:custGeom>
              <a:avLst/>
              <a:gdLst/>
              <a:ahLst/>
              <a:rect l="l" t="t" r="r" b="b"/>
              <a:pathLst>
                <a:path w="774" h="77">
                  <a:moveTo>
                    <a:pt x="774" y="77"/>
                  </a:moveTo>
                  <a:lnTo>
                    <a:pt x="50" y="77"/>
                  </a:lnTo>
                  <a:lnTo>
                    <a:pt x="43" y="68"/>
                  </a:lnTo>
                  <a:lnTo>
                    <a:pt x="37" y="58"/>
                  </a:lnTo>
                  <a:lnTo>
                    <a:pt x="29" y="49"/>
                  </a:lnTo>
                  <a:lnTo>
                    <a:pt x="23" y="39"/>
                  </a:lnTo>
                  <a:lnTo>
                    <a:pt x="17" y="29"/>
                  </a:lnTo>
                  <a:lnTo>
                    <a:pt x="11" y="19"/>
                  </a:lnTo>
                  <a:lnTo>
                    <a:pt x="5" y="10"/>
                  </a:lnTo>
                  <a:lnTo>
                    <a:pt x="0" y="0"/>
                  </a:lnTo>
                  <a:lnTo>
                    <a:pt x="696" y="0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7" y="1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8" y="2"/>
                  </a:lnTo>
                  <a:lnTo>
                    <a:pt x="699" y="2"/>
                  </a:lnTo>
                  <a:lnTo>
                    <a:pt x="699" y="3"/>
                  </a:lnTo>
                  <a:lnTo>
                    <a:pt x="709" y="11"/>
                  </a:lnTo>
                  <a:lnTo>
                    <a:pt x="719" y="21"/>
                  </a:lnTo>
                  <a:lnTo>
                    <a:pt x="729" y="29"/>
                  </a:lnTo>
                  <a:lnTo>
                    <a:pt x="738" y="38"/>
                  </a:lnTo>
                  <a:lnTo>
                    <a:pt x="747" y="48"/>
                  </a:lnTo>
                  <a:lnTo>
                    <a:pt x="757" y="58"/>
                  </a:lnTo>
                  <a:lnTo>
                    <a:pt x="765" y="68"/>
                  </a:lnTo>
                  <a:lnTo>
                    <a:pt x="774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74920" y="1005840"/>
              <a:ext cx="309960" cy="30960"/>
            </a:xfrm>
            <a:custGeom>
              <a:avLst/>
              <a:gdLst/>
              <a:ahLst/>
              <a:rect l="l" t="t" r="r" b="b"/>
              <a:pathLst>
                <a:path w="758" h="76">
                  <a:moveTo>
                    <a:pt x="758" y="76"/>
                  </a:moveTo>
                  <a:lnTo>
                    <a:pt x="43" y="76"/>
                  </a:lnTo>
                  <a:lnTo>
                    <a:pt x="37" y="67"/>
                  </a:lnTo>
                  <a:lnTo>
                    <a:pt x="31" y="57"/>
                  </a:lnTo>
                  <a:lnTo>
                    <a:pt x="25" y="48"/>
                  </a:lnTo>
                  <a:lnTo>
                    <a:pt x="20" y="39"/>
                  </a:lnTo>
                  <a:lnTo>
                    <a:pt x="15" y="28"/>
                  </a:lnTo>
                  <a:lnTo>
                    <a:pt x="9" y="19"/>
                  </a:lnTo>
                  <a:lnTo>
                    <a:pt x="5" y="9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78" y="5"/>
                  </a:lnTo>
                  <a:lnTo>
                    <a:pt x="684" y="11"/>
                  </a:lnTo>
                  <a:lnTo>
                    <a:pt x="691" y="17"/>
                  </a:lnTo>
                  <a:lnTo>
                    <a:pt x="697" y="22"/>
                  </a:lnTo>
                  <a:lnTo>
                    <a:pt x="703" y="27"/>
                  </a:lnTo>
                  <a:lnTo>
                    <a:pt x="709" y="31"/>
                  </a:lnTo>
                  <a:lnTo>
                    <a:pt x="714" y="35"/>
                  </a:lnTo>
                  <a:lnTo>
                    <a:pt x="719" y="41"/>
                  </a:lnTo>
                  <a:lnTo>
                    <a:pt x="724" y="45"/>
                  </a:lnTo>
                  <a:lnTo>
                    <a:pt x="729" y="49"/>
                  </a:lnTo>
                  <a:lnTo>
                    <a:pt x="734" y="53"/>
                  </a:lnTo>
                  <a:lnTo>
                    <a:pt x="739" y="59"/>
                  </a:lnTo>
                  <a:lnTo>
                    <a:pt x="744" y="63"/>
                  </a:lnTo>
                  <a:lnTo>
                    <a:pt x="749" y="67"/>
                  </a:lnTo>
                  <a:lnTo>
                    <a:pt x="754" y="72"/>
                  </a:lnTo>
                  <a:lnTo>
                    <a:pt x="758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268440" y="989640"/>
              <a:ext cx="297720" cy="30240"/>
            </a:xfrm>
            <a:custGeom>
              <a:avLst/>
              <a:gdLst/>
              <a:ahLst/>
              <a:rect l="l" t="t" r="r" b="b"/>
              <a:pathLst>
                <a:path w="732" h="77">
                  <a:moveTo>
                    <a:pt x="732" y="77"/>
                  </a:moveTo>
                  <a:lnTo>
                    <a:pt x="36" y="77"/>
                  </a:lnTo>
                  <a:lnTo>
                    <a:pt x="33" y="71"/>
                  </a:lnTo>
                  <a:lnTo>
                    <a:pt x="30" y="66"/>
                  </a:lnTo>
                  <a:lnTo>
                    <a:pt x="26" y="61"/>
                  </a:lnTo>
                  <a:lnTo>
                    <a:pt x="24" y="54"/>
                  </a:lnTo>
                  <a:lnTo>
                    <a:pt x="21" y="49"/>
                  </a:lnTo>
                  <a:lnTo>
                    <a:pt x="19" y="44"/>
                  </a:lnTo>
                  <a:lnTo>
                    <a:pt x="16" y="39"/>
                  </a:lnTo>
                  <a:lnTo>
                    <a:pt x="14" y="32"/>
                  </a:lnTo>
                  <a:lnTo>
                    <a:pt x="12" y="28"/>
                  </a:lnTo>
                  <a:lnTo>
                    <a:pt x="10" y="25"/>
                  </a:lnTo>
                  <a:lnTo>
                    <a:pt x="9" y="21"/>
                  </a:lnTo>
                  <a:lnTo>
                    <a:pt x="6" y="17"/>
                  </a:lnTo>
                  <a:lnTo>
                    <a:pt x="4" y="12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1" y="1"/>
                  </a:lnTo>
                  <a:lnTo>
                    <a:pt x="643" y="2"/>
                  </a:lnTo>
                  <a:lnTo>
                    <a:pt x="644" y="3"/>
                  </a:lnTo>
                  <a:lnTo>
                    <a:pt x="646" y="5"/>
                  </a:lnTo>
                  <a:lnTo>
                    <a:pt x="647" y="6"/>
                  </a:lnTo>
                  <a:lnTo>
                    <a:pt x="649" y="7"/>
                  </a:lnTo>
                  <a:lnTo>
                    <a:pt x="650" y="8"/>
                  </a:lnTo>
                  <a:lnTo>
                    <a:pt x="652" y="9"/>
                  </a:lnTo>
                  <a:lnTo>
                    <a:pt x="665" y="20"/>
                  </a:lnTo>
                  <a:lnTo>
                    <a:pt x="676" y="29"/>
                  </a:lnTo>
                  <a:lnTo>
                    <a:pt x="687" y="39"/>
                  </a:lnTo>
                  <a:lnTo>
                    <a:pt x="697" y="47"/>
                  </a:lnTo>
                  <a:lnTo>
                    <a:pt x="708" y="56"/>
                  </a:lnTo>
                  <a:lnTo>
                    <a:pt x="716" y="63"/>
                  </a:lnTo>
                  <a:lnTo>
                    <a:pt x="725" y="70"/>
                  </a:lnTo>
                  <a:lnTo>
                    <a:pt x="732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262680" y="973440"/>
              <a:ext cx="285480" cy="32400"/>
            </a:xfrm>
            <a:custGeom>
              <a:avLst/>
              <a:gdLst/>
              <a:ahLst/>
              <a:rect l="l" t="t" r="r" b="b"/>
              <a:pathLst>
                <a:path w="699" h="78">
                  <a:moveTo>
                    <a:pt x="699" y="78"/>
                  </a:move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5"/>
                  </a:lnTo>
                  <a:lnTo>
                    <a:pt x="27" y="74"/>
                  </a:lnTo>
                  <a:lnTo>
                    <a:pt x="26" y="74"/>
                  </a:lnTo>
                  <a:lnTo>
                    <a:pt x="26" y="72"/>
                  </a:lnTo>
                  <a:lnTo>
                    <a:pt x="26" y="71"/>
                  </a:lnTo>
                  <a:lnTo>
                    <a:pt x="22" y="63"/>
                  </a:lnTo>
                  <a:lnTo>
                    <a:pt x="18" y="55"/>
                  </a:lnTo>
                  <a:lnTo>
                    <a:pt x="14" y="45"/>
                  </a:lnTo>
                  <a:lnTo>
                    <a:pt x="11" y="37"/>
                  </a:lnTo>
                  <a:lnTo>
                    <a:pt x="8" y="27"/>
                  </a:lnTo>
                  <a:lnTo>
                    <a:pt x="5" y="18"/>
                  </a:lnTo>
                  <a:lnTo>
                    <a:pt x="3" y="9"/>
                  </a:lnTo>
                  <a:lnTo>
                    <a:pt x="0" y="0"/>
                  </a:lnTo>
                  <a:lnTo>
                    <a:pt x="607" y="0"/>
                  </a:lnTo>
                  <a:lnTo>
                    <a:pt x="614" y="6"/>
                  </a:lnTo>
                  <a:lnTo>
                    <a:pt x="620" y="12"/>
                  </a:lnTo>
                  <a:lnTo>
                    <a:pt x="627" y="18"/>
                  </a:lnTo>
                  <a:lnTo>
                    <a:pt x="634" y="24"/>
                  </a:lnTo>
                  <a:lnTo>
                    <a:pt x="641" y="30"/>
                  </a:lnTo>
                  <a:lnTo>
                    <a:pt x="648" y="36"/>
                  </a:lnTo>
                  <a:lnTo>
                    <a:pt x="656" y="42"/>
                  </a:lnTo>
                  <a:lnTo>
                    <a:pt x="664" y="48"/>
                  </a:lnTo>
                  <a:lnTo>
                    <a:pt x="668" y="53"/>
                  </a:lnTo>
                  <a:lnTo>
                    <a:pt x="674" y="57"/>
                  </a:lnTo>
                  <a:lnTo>
                    <a:pt x="678" y="60"/>
                  </a:lnTo>
                  <a:lnTo>
                    <a:pt x="682" y="64"/>
                  </a:lnTo>
                  <a:lnTo>
                    <a:pt x="686" y="67"/>
                  </a:lnTo>
                  <a:lnTo>
                    <a:pt x="690" y="70"/>
                  </a:lnTo>
                  <a:lnTo>
                    <a:pt x="695" y="74"/>
                  </a:lnTo>
                  <a:lnTo>
                    <a:pt x="699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258360" y="956880"/>
              <a:ext cx="271440" cy="32400"/>
            </a:xfrm>
            <a:custGeom>
              <a:avLst/>
              <a:gdLst/>
              <a:ahLst/>
              <a:rect l="l" t="t" r="r" b="b"/>
              <a:pathLst>
                <a:path w="662" h="78">
                  <a:moveTo>
                    <a:pt x="662" y="78"/>
                  </a:moveTo>
                  <a:lnTo>
                    <a:pt x="22" y="78"/>
                  </a:lnTo>
                  <a:lnTo>
                    <a:pt x="19" y="68"/>
                  </a:lnTo>
                  <a:lnTo>
                    <a:pt x="16" y="59"/>
                  </a:lnTo>
                  <a:lnTo>
                    <a:pt x="13" y="50"/>
                  </a:lnTo>
                  <a:lnTo>
                    <a:pt x="10" y="39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2" y="11"/>
                  </a:lnTo>
                  <a:lnTo>
                    <a:pt x="0" y="0"/>
                  </a:lnTo>
                  <a:lnTo>
                    <a:pt x="582" y="0"/>
                  </a:lnTo>
                  <a:lnTo>
                    <a:pt x="590" y="10"/>
                  </a:lnTo>
                  <a:lnTo>
                    <a:pt x="599" y="19"/>
                  </a:lnTo>
                  <a:lnTo>
                    <a:pt x="607" y="29"/>
                  </a:lnTo>
                  <a:lnTo>
                    <a:pt x="616" y="38"/>
                  </a:lnTo>
                  <a:lnTo>
                    <a:pt x="627" y="47"/>
                  </a:lnTo>
                  <a:lnTo>
                    <a:pt x="637" y="58"/>
                  </a:lnTo>
                  <a:lnTo>
                    <a:pt x="649" y="67"/>
                  </a:lnTo>
                  <a:lnTo>
                    <a:pt x="662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256560" y="940320"/>
              <a:ext cx="254880" cy="32760"/>
            </a:xfrm>
            <a:custGeom>
              <a:avLst/>
              <a:gdLst/>
              <a:ahLst/>
              <a:rect l="l" t="t" r="r" b="b"/>
              <a:pathLst>
                <a:path w="623" h="78">
                  <a:moveTo>
                    <a:pt x="623" y="78"/>
                  </a:moveTo>
                  <a:lnTo>
                    <a:pt x="16" y="78"/>
                  </a:lnTo>
                  <a:lnTo>
                    <a:pt x="13" y="69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6" y="40"/>
                  </a:lnTo>
                  <a:lnTo>
                    <a:pt x="4" y="30"/>
                  </a:lnTo>
                  <a:lnTo>
                    <a:pt x="3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63" y="0"/>
                  </a:lnTo>
                  <a:lnTo>
                    <a:pt x="568" y="10"/>
                  </a:lnTo>
                  <a:lnTo>
                    <a:pt x="573" y="19"/>
                  </a:lnTo>
                  <a:lnTo>
                    <a:pt x="580" y="29"/>
                  </a:lnTo>
                  <a:lnTo>
                    <a:pt x="588" y="38"/>
                  </a:lnTo>
                  <a:lnTo>
                    <a:pt x="595" y="48"/>
                  </a:lnTo>
                  <a:lnTo>
                    <a:pt x="605" y="58"/>
                  </a:lnTo>
                  <a:lnTo>
                    <a:pt x="614" y="68"/>
                  </a:lnTo>
                  <a:lnTo>
                    <a:pt x="623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254400" y="925920"/>
              <a:ext cx="242640" cy="30960"/>
            </a:xfrm>
            <a:custGeom>
              <a:avLst/>
              <a:gdLst/>
              <a:ahLst/>
              <a:rect l="l" t="t" r="r" b="b"/>
              <a:pathLst>
                <a:path w="592" h="78">
                  <a:moveTo>
                    <a:pt x="592" y="78"/>
                  </a:moveTo>
                  <a:lnTo>
                    <a:pt x="10" y="78"/>
                  </a:lnTo>
                  <a:lnTo>
                    <a:pt x="8" y="69"/>
                  </a:lnTo>
                  <a:lnTo>
                    <a:pt x="7" y="59"/>
                  </a:lnTo>
                  <a:lnTo>
                    <a:pt x="5" y="50"/>
                  </a:lnTo>
                  <a:lnTo>
                    <a:pt x="4" y="40"/>
                  </a:lnTo>
                  <a:lnTo>
                    <a:pt x="3" y="30"/>
                  </a:lnTo>
                  <a:lnTo>
                    <a:pt x="2" y="20"/>
                  </a:lnTo>
                  <a:lnTo>
                    <a:pt x="1" y="11"/>
                  </a:lnTo>
                  <a:lnTo>
                    <a:pt x="0" y="0"/>
                  </a:lnTo>
                  <a:lnTo>
                    <a:pt x="552" y="0"/>
                  </a:lnTo>
                  <a:lnTo>
                    <a:pt x="554" y="10"/>
                  </a:lnTo>
                  <a:lnTo>
                    <a:pt x="557" y="19"/>
                  </a:lnTo>
                  <a:lnTo>
                    <a:pt x="560" y="29"/>
                  </a:lnTo>
                  <a:lnTo>
                    <a:pt x="566" y="38"/>
                  </a:lnTo>
                  <a:lnTo>
                    <a:pt x="571" y="48"/>
                  </a:lnTo>
                  <a:lnTo>
                    <a:pt x="577" y="58"/>
                  </a:lnTo>
                  <a:lnTo>
                    <a:pt x="584" y="68"/>
                  </a:lnTo>
                  <a:lnTo>
                    <a:pt x="592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254400" y="909720"/>
              <a:ext cx="232560" cy="30240"/>
            </a:xfrm>
            <a:custGeom>
              <a:avLst/>
              <a:gdLst/>
              <a:ahLst/>
              <a:rect l="l" t="t" r="r" b="b"/>
              <a:pathLst>
                <a:path w="568" h="76">
                  <a:moveTo>
                    <a:pt x="568" y="76"/>
                  </a:moveTo>
                  <a:lnTo>
                    <a:pt x="5" y="76"/>
                  </a:lnTo>
                  <a:lnTo>
                    <a:pt x="4" y="67"/>
                  </a:lnTo>
                  <a:lnTo>
                    <a:pt x="3" y="57"/>
                  </a:lnTo>
                  <a:lnTo>
                    <a:pt x="2" y="48"/>
                  </a:lnTo>
                  <a:lnTo>
                    <a:pt x="1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1" y="2"/>
                  </a:lnTo>
                  <a:lnTo>
                    <a:pt x="551" y="4"/>
                  </a:lnTo>
                  <a:lnTo>
                    <a:pt x="551" y="6"/>
                  </a:lnTo>
                  <a:lnTo>
                    <a:pt x="551" y="8"/>
                  </a:lnTo>
                  <a:lnTo>
                    <a:pt x="551" y="10"/>
                  </a:lnTo>
                  <a:lnTo>
                    <a:pt x="551" y="12"/>
                  </a:lnTo>
                  <a:lnTo>
                    <a:pt x="550" y="15"/>
                  </a:lnTo>
                  <a:lnTo>
                    <a:pt x="550" y="18"/>
                  </a:lnTo>
                  <a:lnTo>
                    <a:pt x="551" y="24"/>
                  </a:lnTo>
                  <a:lnTo>
                    <a:pt x="551" y="31"/>
                  </a:lnTo>
                  <a:lnTo>
                    <a:pt x="553" y="39"/>
                  </a:lnTo>
                  <a:lnTo>
                    <a:pt x="554" y="46"/>
                  </a:lnTo>
                  <a:lnTo>
                    <a:pt x="557" y="53"/>
                  </a:lnTo>
                  <a:lnTo>
                    <a:pt x="559" y="62"/>
                  </a:lnTo>
                  <a:lnTo>
                    <a:pt x="563" y="69"/>
                  </a:lnTo>
                  <a:lnTo>
                    <a:pt x="568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254400" y="893520"/>
              <a:ext cx="228600" cy="3240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53" y="76"/>
                  </a:moveTo>
                  <a:lnTo>
                    <a:pt x="1" y="76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0"/>
                  </a:lnTo>
                  <a:lnTo>
                    <a:pt x="560" y="0"/>
                  </a:lnTo>
                  <a:lnTo>
                    <a:pt x="558" y="6"/>
                  </a:lnTo>
                  <a:lnTo>
                    <a:pt x="556" y="12"/>
                  </a:lnTo>
                  <a:lnTo>
                    <a:pt x="554" y="20"/>
                  </a:lnTo>
                  <a:lnTo>
                    <a:pt x="553" y="26"/>
                  </a:lnTo>
                  <a:lnTo>
                    <a:pt x="552" y="33"/>
                  </a:lnTo>
                  <a:lnTo>
                    <a:pt x="551" y="41"/>
                  </a:lnTo>
                  <a:lnTo>
                    <a:pt x="551" y="48"/>
                  </a:lnTo>
                  <a:lnTo>
                    <a:pt x="550" y="57"/>
                  </a:lnTo>
                  <a:lnTo>
                    <a:pt x="550" y="59"/>
                  </a:lnTo>
                  <a:lnTo>
                    <a:pt x="551" y="62"/>
                  </a:lnTo>
                  <a:lnTo>
                    <a:pt x="551" y="64"/>
                  </a:lnTo>
                  <a:lnTo>
                    <a:pt x="551" y="66"/>
                  </a:lnTo>
                  <a:lnTo>
                    <a:pt x="551" y="69"/>
                  </a:lnTo>
                  <a:lnTo>
                    <a:pt x="552" y="71"/>
                  </a:lnTo>
                  <a:lnTo>
                    <a:pt x="552" y="74"/>
                  </a:lnTo>
                  <a:lnTo>
                    <a:pt x="553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254400" y="879120"/>
              <a:ext cx="387720" cy="30240"/>
            </a:xfrm>
            <a:custGeom>
              <a:avLst/>
              <a:gdLst/>
              <a:ahLst/>
              <a:rect l="l" t="t" r="r" b="b"/>
              <a:pathLst>
                <a:path w="949" h="78">
                  <a:moveTo>
                    <a:pt x="55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1" y="27"/>
                  </a:lnTo>
                  <a:lnTo>
                    <a:pt x="2" y="18"/>
                  </a:lnTo>
                  <a:lnTo>
                    <a:pt x="3" y="9"/>
                  </a:lnTo>
                  <a:lnTo>
                    <a:pt x="4" y="0"/>
                  </a:lnTo>
                  <a:lnTo>
                    <a:pt x="584" y="0"/>
                  </a:lnTo>
                  <a:lnTo>
                    <a:pt x="578" y="7"/>
                  </a:lnTo>
                  <a:lnTo>
                    <a:pt x="572" y="16"/>
                  </a:lnTo>
                  <a:lnTo>
                    <a:pt x="567" y="25"/>
                  </a:lnTo>
                  <a:lnTo>
                    <a:pt x="561" y="35"/>
                  </a:lnTo>
                  <a:lnTo>
                    <a:pt x="558" y="44"/>
                  </a:lnTo>
                  <a:lnTo>
                    <a:pt x="555" y="55"/>
                  </a:lnTo>
                  <a:lnTo>
                    <a:pt x="553" y="66"/>
                  </a:lnTo>
                  <a:lnTo>
                    <a:pt x="551" y="78"/>
                  </a:lnTo>
                  <a:close/>
                  <a:moveTo>
                    <a:pt x="929" y="0"/>
                  </a:moveTo>
                  <a:lnTo>
                    <a:pt x="949" y="0"/>
                  </a:lnTo>
                  <a:lnTo>
                    <a:pt x="949" y="9"/>
                  </a:lnTo>
                  <a:lnTo>
                    <a:pt x="946" y="8"/>
                  </a:lnTo>
                  <a:lnTo>
                    <a:pt x="943" y="7"/>
                  </a:lnTo>
                  <a:lnTo>
                    <a:pt x="941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2"/>
                  </a:lnTo>
                  <a:lnTo>
                    <a:pt x="931" y="1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254400" y="862920"/>
              <a:ext cx="387720" cy="30240"/>
            </a:xfrm>
            <a:custGeom>
              <a:avLst/>
              <a:gdLst/>
              <a:ahLst/>
              <a:rect l="l" t="t" r="r" b="b"/>
              <a:pathLst>
                <a:path w="948" h="78">
                  <a:moveTo>
                    <a:pt x="559" y="78"/>
                  </a:moveTo>
                  <a:lnTo>
                    <a:pt x="0" y="78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2" y="48"/>
                  </a:lnTo>
                  <a:lnTo>
                    <a:pt x="3" y="38"/>
                  </a:lnTo>
                  <a:lnTo>
                    <a:pt x="4" y="28"/>
                  </a:lnTo>
                  <a:lnTo>
                    <a:pt x="5" y="19"/>
                  </a:lnTo>
                  <a:lnTo>
                    <a:pt x="7" y="10"/>
                  </a:lnTo>
                  <a:lnTo>
                    <a:pt x="8" y="0"/>
                  </a:lnTo>
                  <a:lnTo>
                    <a:pt x="646" y="0"/>
                  </a:lnTo>
                  <a:lnTo>
                    <a:pt x="639" y="2"/>
                  </a:lnTo>
                  <a:lnTo>
                    <a:pt x="633" y="5"/>
                  </a:lnTo>
                  <a:lnTo>
                    <a:pt x="626" y="9"/>
                  </a:lnTo>
                  <a:lnTo>
                    <a:pt x="620" y="11"/>
                  </a:lnTo>
                  <a:lnTo>
                    <a:pt x="615" y="15"/>
                  </a:lnTo>
                  <a:lnTo>
                    <a:pt x="610" y="18"/>
                  </a:lnTo>
                  <a:lnTo>
                    <a:pt x="603" y="21"/>
                  </a:lnTo>
                  <a:lnTo>
                    <a:pt x="599" y="25"/>
                  </a:lnTo>
                  <a:lnTo>
                    <a:pt x="592" y="31"/>
                  </a:lnTo>
                  <a:lnTo>
                    <a:pt x="585" y="37"/>
                  </a:lnTo>
                  <a:lnTo>
                    <a:pt x="580" y="42"/>
                  </a:lnTo>
                  <a:lnTo>
                    <a:pt x="575" y="48"/>
                  </a:lnTo>
                  <a:lnTo>
                    <a:pt x="571" y="56"/>
                  </a:lnTo>
                  <a:lnTo>
                    <a:pt x="567" y="63"/>
                  </a:lnTo>
                  <a:lnTo>
                    <a:pt x="562" y="69"/>
                  </a:lnTo>
                  <a:lnTo>
                    <a:pt x="559" y="78"/>
                  </a:lnTo>
                  <a:close/>
                  <a:moveTo>
                    <a:pt x="827" y="0"/>
                  </a:moveTo>
                  <a:lnTo>
                    <a:pt x="948" y="0"/>
                  </a:lnTo>
                  <a:lnTo>
                    <a:pt x="948" y="48"/>
                  </a:lnTo>
                  <a:lnTo>
                    <a:pt x="932" y="41"/>
                  </a:lnTo>
                  <a:lnTo>
                    <a:pt x="917" y="34"/>
                  </a:lnTo>
                  <a:lnTo>
                    <a:pt x="903" y="27"/>
                  </a:lnTo>
                  <a:lnTo>
                    <a:pt x="889" y="21"/>
                  </a:lnTo>
                  <a:lnTo>
                    <a:pt x="874" y="16"/>
                  </a:lnTo>
                  <a:lnTo>
                    <a:pt x="861" y="11"/>
                  </a:lnTo>
                  <a:lnTo>
                    <a:pt x="847" y="6"/>
                  </a:lnTo>
                  <a:lnTo>
                    <a:pt x="834" y="2"/>
                  </a:lnTo>
                  <a:lnTo>
                    <a:pt x="833" y="2"/>
                  </a:lnTo>
                  <a:lnTo>
                    <a:pt x="832" y="1"/>
                  </a:lnTo>
                  <a:lnTo>
                    <a:pt x="831" y="1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8" y="1"/>
                  </a:lnTo>
                  <a:lnTo>
                    <a:pt x="828" y="0"/>
                  </a:lnTo>
                  <a:lnTo>
                    <a:pt x="82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256560" y="846360"/>
              <a:ext cx="385200" cy="32760"/>
            </a:xfrm>
            <a:custGeom>
              <a:avLst/>
              <a:gdLst/>
              <a:ahLst/>
              <a:rect l="l" t="t" r="r" b="b"/>
              <a:pathLst>
                <a:path w="945" h="78">
                  <a:moveTo>
                    <a:pt x="945" y="78"/>
                  </a:moveTo>
                  <a:lnTo>
                    <a:pt x="925" y="78"/>
                  </a:lnTo>
                  <a:lnTo>
                    <a:pt x="912" y="72"/>
                  </a:lnTo>
                  <a:lnTo>
                    <a:pt x="901" y="66"/>
                  </a:lnTo>
                  <a:lnTo>
                    <a:pt x="888" y="61"/>
                  </a:lnTo>
                  <a:lnTo>
                    <a:pt x="876" y="57"/>
                  </a:lnTo>
                  <a:lnTo>
                    <a:pt x="865" y="53"/>
                  </a:lnTo>
                  <a:lnTo>
                    <a:pt x="853" y="49"/>
                  </a:lnTo>
                  <a:lnTo>
                    <a:pt x="842" y="44"/>
                  </a:lnTo>
                  <a:lnTo>
                    <a:pt x="831" y="41"/>
                  </a:lnTo>
                  <a:lnTo>
                    <a:pt x="818" y="38"/>
                  </a:lnTo>
                  <a:lnTo>
                    <a:pt x="805" y="35"/>
                  </a:lnTo>
                  <a:lnTo>
                    <a:pt x="792" y="32"/>
                  </a:lnTo>
                  <a:lnTo>
                    <a:pt x="781" y="30"/>
                  </a:lnTo>
                  <a:lnTo>
                    <a:pt x="769" y="28"/>
                  </a:lnTo>
                  <a:lnTo>
                    <a:pt x="759" y="27"/>
                  </a:lnTo>
                  <a:lnTo>
                    <a:pt x="747" y="27"/>
                  </a:lnTo>
                  <a:lnTo>
                    <a:pt x="737" y="25"/>
                  </a:lnTo>
                  <a:lnTo>
                    <a:pt x="715" y="27"/>
                  </a:lnTo>
                  <a:lnTo>
                    <a:pt x="694" y="29"/>
                  </a:lnTo>
                  <a:lnTo>
                    <a:pt x="674" y="31"/>
                  </a:lnTo>
                  <a:lnTo>
                    <a:pt x="656" y="35"/>
                  </a:lnTo>
                  <a:lnTo>
                    <a:pt x="638" y="41"/>
                  </a:lnTo>
                  <a:lnTo>
                    <a:pt x="623" y="48"/>
                  </a:lnTo>
                  <a:lnTo>
                    <a:pt x="609" y="55"/>
                  </a:lnTo>
                  <a:lnTo>
                    <a:pt x="596" y="64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70"/>
                  </a:lnTo>
                  <a:lnTo>
                    <a:pt x="588" y="71"/>
                  </a:lnTo>
                  <a:lnTo>
                    <a:pt x="586" y="73"/>
                  </a:lnTo>
                  <a:lnTo>
                    <a:pt x="585" y="75"/>
                  </a:lnTo>
                  <a:lnTo>
                    <a:pt x="582" y="76"/>
                  </a:lnTo>
                  <a:lnTo>
                    <a:pt x="580" y="78"/>
                  </a:lnTo>
                  <a:lnTo>
                    <a:pt x="0" y="78"/>
                  </a:lnTo>
                  <a:lnTo>
                    <a:pt x="1" y="67"/>
                  </a:lnTo>
                  <a:lnTo>
                    <a:pt x="2" y="58"/>
                  </a:lnTo>
                  <a:lnTo>
                    <a:pt x="4" y="49"/>
                  </a:lnTo>
                  <a:lnTo>
                    <a:pt x="5" y="38"/>
                  </a:lnTo>
                  <a:lnTo>
                    <a:pt x="7" y="29"/>
                  </a:lnTo>
                  <a:lnTo>
                    <a:pt x="9" y="19"/>
                  </a:lnTo>
                  <a:lnTo>
                    <a:pt x="11" y="10"/>
                  </a:lnTo>
                  <a:lnTo>
                    <a:pt x="13" y="0"/>
                  </a:lnTo>
                  <a:lnTo>
                    <a:pt x="945" y="0"/>
                  </a:lnTo>
                  <a:lnTo>
                    <a:pt x="945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258360" y="830160"/>
              <a:ext cx="383400" cy="32760"/>
            </a:xfrm>
            <a:custGeom>
              <a:avLst/>
              <a:gdLst/>
              <a:ahLst/>
              <a:rect l="l" t="t" r="r" b="b"/>
              <a:pathLst>
                <a:path w="940" h="78">
                  <a:moveTo>
                    <a:pt x="940" y="78"/>
                  </a:moveTo>
                  <a:lnTo>
                    <a:pt x="819" y="78"/>
                  </a:lnTo>
                  <a:lnTo>
                    <a:pt x="806" y="75"/>
                  </a:lnTo>
                  <a:lnTo>
                    <a:pt x="795" y="73"/>
                  </a:lnTo>
                  <a:lnTo>
                    <a:pt x="783" y="70"/>
                  </a:lnTo>
                  <a:lnTo>
                    <a:pt x="773" y="69"/>
                  </a:lnTo>
                  <a:lnTo>
                    <a:pt x="762" y="67"/>
                  </a:lnTo>
                  <a:lnTo>
                    <a:pt x="752" y="66"/>
                  </a:lnTo>
                  <a:lnTo>
                    <a:pt x="742" y="66"/>
                  </a:lnTo>
                  <a:lnTo>
                    <a:pt x="732" y="64"/>
                  </a:lnTo>
                  <a:lnTo>
                    <a:pt x="719" y="66"/>
                  </a:lnTo>
                  <a:lnTo>
                    <a:pt x="706" y="66"/>
                  </a:lnTo>
                  <a:lnTo>
                    <a:pt x="693" y="67"/>
                  </a:lnTo>
                  <a:lnTo>
                    <a:pt x="681" y="69"/>
                  </a:lnTo>
                  <a:lnTo>
                    <a:pt x="670" y="70"/>
                  </a:lnTo>
                  <a:lnTo>
                    <a:pt x="659" y="73"/>
                  </a:lnTo>
                  <a:lnTo>
                    <a:pt x="649" y="75"/>
                  </a:lnTo>
                  <a:lnTo>
                    <a:pt x="638" y="78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8" y="39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7" y="10"/>
                  </a:lnTo>
                  <a:lnTo>
                    <a:pt x="20" y="0"/>
                  </a:lnTo>
                  <a:lnTo>
                    <a:pt x="940" y="0"/>
                  </a:lnTo>
                  <a:lnTo>
                    <a:pt x="94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262680" y="815760"/>
              <a:ext cx="379440" cy="30240"/>
            </a:xfrm>
            <a:custGeom>
              <a:avLst/>
              <a:gdLst/>
              <a:ahLst/>
              <a:rect l="l" t="t" r="r" b="b"/>
              <a:pathLst>
                <a:path w="932" h="76">
                  <a:moveTo>
                    <a:pt x="932" y="76"/>
                  </a:moveTo>
                  <a:lnTo>
                    <a:pt x="0" y="76"/>
                  </a:lnTo>
                  <a:lnTo>
                    <a:pt x="2" y="67"/>
                  </a:lnTo>
                  <a:lnTo>
                    <a:pt x="6" y="56"/>
                  </a:lnTo>
                  <a:lnTo>
                    <a:pt x="9" y="47"/>
                  </a:lnTo>
                  <a:lnTo>
                    <a:pt x="12" y="37"/>
                  </a:lnTo>
                  <a:lnTo>
                    <a:pt x="15" y="28"/>
                  </a:lnTo>
                  <a:lnTo>
                    <a:pt x="19" y="17"/>
                  </a:lnTo>
                  <a:lnTo>
                    <a:pt x="22" y="8"/>
                  </a:lnTo>
                  <a:lnTo>
                    <a:pt x="27" y="0"/>
                  </a:lnTo>
                  <a:lnTo>
                    <a:pt x="932" y="0"/>
                  </a:lnTo>
                  <a:lnTo>
                    <a:pt x="9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266640" y="799560"/>
              <a:ext cx="375120" cy="30240"/>
            </a:xfrm>
            <a:custGeom>
              <a:avLst/>
              <a:gdLst/>
              <a:ahLst/>
              <a:rect l="l" t="t" r="r" b="b"/>
              <a:pathLst>
                <a:path w="920" h="76">
                  <a:moveTo>
                    <a:pt x="920" y="76"/>
                  </a:moveTo>
                  <a:lnTo>
                    <a:pt x="0" y="76"/>
                  </a:lnTo>
                  <a:lnTo>
                    <a:pt x="3" y="67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5" y="38"/>
                  </a:lnTo>
                  <a:lnTo>
                    <a:pt x="19" y="28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2" y="0"/>
                  </a:lnTo>
                  <a:lnTo>
                    <a:pt x="920" y="0"/>
                  </a:lnTo>
                  <a:lnTo>
                    <a:pt x="920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272760" y="783360"/>
              <a:ext cx="369000" cy="32400"/>
            </a:xfrm>
            <a:custGeom>
              <a:avLst/>
              <a:gdLst/>
              <a:ahLst/>
              <a:rect l="l" t="t" r="r" b="b"/>
              <a:pathLst>
                <a:path w="905" h="78">
                  <a:moveTo>
                    <a:pt x="905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8" y="58"/>
                  </a:lnTo>
                  <a:lnTo>
                    <a:pt x="13" y="47"/>
                  </a:lnTo>
                  <a:lnTo>
                    <a:pt x="19" y="38"/>
                  </a:lnTo>
                  <a:lnTo>
                    <a:pt x="24" y="28"/>
                  </a:lnTo>
                  <a:lnTo>
                    <a:pt x="29" y="19"/>
                  </a:lnTo>
                  <a:lnTo>
                    <a:pt x="34" y="9"/>
                  </a:lnTo>
                  <a:lnTo>
                    <a:pt x="41" y="0"/>
                  </a:lnTo>
                  <a:lnTo>
                    <a:pt x="905" y="0"/>
                  </a:lnTo>
                  <a:lnTo>
                    <a:pt x="90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278880" y="767160"/>
              <a:ext cx="363240" cy="32400"/>
            </a:xfrm>
            <a:custGeom>
              <a:avLst/>
              <a:gdLst/>
              <a:ahLst/>
              <a:rect l="l" t="t" r="r" b="b"/>
              <a:pathLst>
                <a:path w="888" h="78">
                  <a:moveTo>
                    <a:pt x="888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2" y="58"/>
                  </a:lnTo>
                  <a:lnTo>
                    <a:pt x="17" y="47"/>
                  </a:lnTo>
                  <a:lnTo>
                    <a:pt x="24" y="38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4" y="10"/>
                  </a:lnTo>
                  <a:lnTo>
                    <a:pt x="51" y="0"/>
                  </a:lnTo>
                  <a:lnTo>
                    <a:pt x="888" y="0"/>
                  </a:lnTo>
                  <a:lnTo>
                    <a:pt x="888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288960" y="752760"/>
              <a:ext cx="352800" cy="30240"/>
            </a:xfrm>
            <a:custGeom>
              <a:avLst/>
              <a:gdLst/>
              <a:ahLst/>
              <a:rect l="l" t="t" r="r" b="b"/>
              <a:pathLst>
                <a:path w="864" h="78">
                  <a:moveTo>
                    <a:pt x="864" y="78"/>
                  </a:moveTo>
                  <a:lnTo>
                    <a:pt x="0" y="78"/>
                  </a:lnTo>
                  <a:lnTo>
                    <a:pt x="6" y="67"/>
                  </a:lnTo>
                  <a:lnTo>
                    <a:pt x="13" y="58"/>
                  </a:lnTo>
                  <a:lnTo>
                    <a:pt x="21" y="47"/>
                  </a:lnTo>
                  <a:lnTo>
                    <a:pt x="28" y="38"/>
                  </a:lnTo>
                  <a:lnTo>
                    <a:pt x="35" y="29"/>
                  </a:lnTo>
                  <a:lnTo>
                    <a:pt x="44" y="19"/>
                  </a:lnTo>
                  <a:lnTo>
                    <a:pt x="51" y="10"/>
                  </a:lnTo>
                  <a:lnTo>
                    <a:pt x="59" y="0"/>
                  </a:lnTo>
                  <a:lnTo>
                    <a:pt x="864" y="0"/>
                  </a:lnTo>
                  <a:lnTo>
                    <a:pt x="864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301560" y="736200"/>
              <a:ext cx="340560" cy="30960"/>
            </a:xfrm>
            <a:custGeom>
              <a:avLst/>
              <a:gdLst/>
              <a:ahLst/>
              <a:rect l="l" t="t" r="r" b="b"/>
              <a:pathLst>
                <a:path w="837" h="78">
                  <a:moveTo>
                    <a:pt x="837" y="78"/>
                  </a:moveTo>
                  <a:lnTo>
                    <a:pt x="0" y="78"/>
                  </a:lnTo>
                  <a:lnTo>
                    <a:pt x="7" y="69"/>
                  </a:lnTo>
                  <a:lnTo>
                    <a:pt x="15" y="60"/>
                  </a:lnTo>
                  <a:lnTo>
                    <a:pt x="22" y="51"/>
                  </a:lnTo>
                  <a:lnTo>
                    <a:pt x="30" y="42"/>
                  </a:lnTo>
                  <a:lnTo>
                    <a:pt x="38" y="34"/>
                  </a:lnTo>
                  <a:lnTo>
                    <a:pt x="46" y="26"/>
                  </a:lnTo>
                  <a:lnTo>
                    <a:pt x="56" y="17"/>
                  </a:lnTo>
                  <a:lnTo>
                    <a:pt x="64" y="9"/>
                  </a:lnTo>
                  <a:lnTo>
                    <a:pt x="65" y="8"/>
                  </a:lnTo>
                  <a:lnTo>
                    <a:pt x="66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2" y="0"/>
                  </a:lnTo>
                  <a:lnTo>
                    <a:pt x="837" y="0"/>
                  </a:lnTo>
                  <a:lnTo>
                    <a:pt x="83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313440" y="719640"/>
              <a:ext cx="328320" cy="32760"/>
            </a:xfrm>
            <a:custGeom>
              <a:avLst/>
              <a:gdLst/>
              <a:ahLst/>
              <a:rect l="l" t="t" r="r" b="b"/>
              <a:pathLst>
                <a:path w="805" h="76">
                  <a:moveTo>
                    <a:pt x="805" y="76"/>
                  </a:moveTo>
                  <a:lnTo>
                    <a:pt x="0" y="76"/>
                  </a:lnTo>
                  <a:lnTo>
                    <a:pt x="5" y="72"/>
                  </a:lnTo>
                  <a:lnTo>
                    <a:pt x="9" y="69"/>
                  </a:lnTo>
                  <a:lnTo>
                    <a:pt x="12" y="65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9" y="39"/>
                  </a:lnTo>
                  <a:lnTo>
                    <a:pt x="46" y="33"/>
                  </a:lnTo>
                  <a:lnTo>
                    <a:pt x="53" y="27"/>
                  </a:lnTo>
                  <a:lnTo>
                    <a:pt x="60" y="22"/>
                  </a:lnTo>
                  <a:lnTo>
                    <a:pt x="68" y="15"/>
                  </a:lnTo>
                  <a:lnTo>
                    <a:pt x="75" y="10"/>
                  </a:lnTo>
                  <a:lnTo>
                    <a:pt x="82" y="5"/>
                  </a:lnTo>
                  <a:lnTo>
                    <a:pt x="90" y="0"/>
                  </a:lnTo>
                  <a:lnTo>
                    <a:pt x="805" y="0"/>
                  </a:lnTo>
                  <a:lnTo>
                    <a:pt x="805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330000" y="705600"/>
              <a:ext cx="311760" cy="30240"/>
            </a:xfrm>
            <a:custGeom>
              <a:avLst/>
              <a:gdLst/>
              <a:ahLst/>
              <a:rect l="l" t="t" r="r" b="b"/>
              <a:pathLst>
                <a:path w="765" h="76">
                  <a:moveTo>
                    <a:pt x="765" y="76"/>
                  </a:moveTo>
                  <a:lnTo>
                    <a:pt x="0" y="76"/>
                  </a:lnTo>
                  <a:lnTo>
                    <a:pt x="14" y="66"/>
                  </a:lnTo>
                  <a:lnTo>
                    <a:pt x="27" y="55"/>
                  </a:lnTo>
                  <a:lnTo>
                    <a:pt x="40" y="45"/>
                  </a:lnTo>
                  <a:lnTo>
                    <a:pt x="54" y="34"/>
                  </a:lnTo>
                  <a:lnTo>
                    <a:pt x="69" y="25"/>
                  </a:lnTo>
                  <a:lnTo>
                    <a:pt x="82" y="17"/>
                  </a:lnTo>
                  <a:lnTo>
                    <a:pt x="97" y="8"/>
                  </a:lnTo>
                  <a:lnTo>
                    <a:pt x="112" y="0"/>
                  </a:lnTo>
                  <a:lnTo>
                    <a:pt x="765" y="0"/>
                  </a:lnTo>
                  <a:lnTo>
                    <a:pt x="765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350520" y="689400"/>
              <a:ext cx="29124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715" y="78"/>
                  </a:moveTo>
                  <a:lnTo>
                    <a:pt x="0" y="78"/>
                  </a:lnTo>
                  <a:lnTo>
                    <a:pt x="16" y="65"/>
                  </a:lnTo>
                  <a:lnTo>
                    <a:pt x="34" y="53"/>
                  </a:lnTo>
                  <a:lnTo>
                    <a:pt x="53" y="43"/>
                  </a:lnTo>
                  <a:lnTo>
                    <a:pt x="72" y="33"/>
                  </a:lnTo>
                  <a:lnTo>
                    <a:pt x="91" y="24"/>
                  </a:lnTo>
                  <a:lnTo>
                    <a:pt x="110" y="16"/>
                  </a:lnTo>
                  <a:lnTo>
                    <a:pt x="130" y="7"/>
                  </a:lnTo>
                  <a:lnTo>
                    <a:pt x="151" y="0"/>
                  </a:lnTo>
                  <a:lnTo>
                    <a:pt x="687" y="0"/>
                  </a:lnTo>
                  <a:lnTo>
                    <a:pt x="692" y="1"/>
                  </a:lnTo>
                  <a:lnTo>
                    <a:pt x="695" y="2"/>
                  </a:lnTo>
                  <a:lnTo>
                    <a:pt x="698" y="3"/>
                  </a:lnTo>
                  <a:lnTo>
                    <a:pt x="701" y="4"/>
                  </a:lnTo>
                  <a:lnTo>
                    <a:pt x="704" y="5"/>
                  </a:lnTo>
                  <a:lnTo>
                    <a:pt x="707" y="6"/>
                  </a:lnTo>
                  <a:lnTo>
                    <a:pt x="712" y="7"/>
                  </a:lnTo>
                  <a:lnTo>
                    <a:pt x="715" y="8"/>
                  </a:lnTo>
                  <a:lnTo>
                    <a:pt x="715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375000" y="673200"/>
              <a:ext cx="266760" cy="32400"/>
            </a:xfrm>
            <a:custGeom>
              <a:avLst/>
              <a:gdLst/>
              <a:ahLst/>
              <a:rect l="l" t="t" r="r" b="b"/>
              <a:pathLst>
                <a:path w="653" h="78">
                  <a:moveTo>
                    <a:pt x="653" y="78"/>
                  </a:moveTo>
                  <a:lnTo>
                    <a:pt x="0" y="78"/>
                  </a:lnTo>
                  <a:lnTo>
                    <a:pt x="19" y="68"/>
                  </a:lnTo>
                  <a:lnTo>
                    <a:pt x="36" y="59"/>
                  </a:lnTo>
                  <a:lnTo>
                    <a:pt x="55" y="51"/>
                  </a:lnTo>
                  <a:lnTo>
                    <a:pt x="75" y="43"/>
                  </a:lnTo>
                  <a:lnTo>
                    <a:pt x="95" y="37"/>
                  </a:lnTo>
                  <a:lnTo>
                    <a:pt x="115" y="30"/>
                  </a:lnTo>
                  <a:lnTo>
                    <a:pt x="135" y="24"/>
                  </a:lnTo>
                  <a:lnTo>
                    <a:pt x="156" y="19"/>
                  </a:lnTo>
                  <a:lnTo>
                    <a:pt x="178" y="15"/>
                  </a:lnTo>
                  <a:lnTo>
                    <a:pt x="199" y="11"/>
                  </a:lnTo>
                  <a:lnTo>
                    <a:pt x="221" y="7"/>
                  </a:lnTo>
                  <a:lnTo>
                    <a:pt x="244" y="5"/>
                  </a:lnTo>
                  <a:lnTo>
                    <a:pt x="266" y="3"/>
                  </a:lnTo>
                  <a:lnTo>
                    <a:pt x="289" y="1"/>
                  </a:lnTo>
                  <a:lnTo>
                    <a:pt x="314" y="0"/>
                  </a:lnTo>
                  <a:lnTo>
                    <a:pt x="338" y="0"/>
                  </a:lnTo>
                  <a:lnTo>
                    <a:pt x="359" y="0"/>
                  </a:lnTo>
                  <a:lnTo>
                    <a:pt x="381" y="1"/>
                  </a:lnTo>
                  <a:lnTo>
                    <a:pt x="402" y="2"/>
                  </a:lnTo>
                  <a:lnTo>
                    <a:pt x="423" y="3"/>
                  </a:lnTo>
                  <a:lnTo>
                    <a:pt x="444" y="4"/>
                  </a:lnTo>
                  <a:lnTo>
                    <a:pt x="464" y="6"/>
                  </a:lnTo>
                  <a:lnTo>
                    <a:pt x="484" y="8"/>
                  </a:lnTo>
                  <a:lnTo>
                    <a:pt x="504" y="12"/>
                  </a:lnTo>
                  <a:lnTo>
                    <a:pt x="523" y="15"/>
                  </a:lnTo>
                  <a:lnTo>
                    <a:pt x="541" y="18"/>
                  </a:lnTo>
                  <a:lnTo>
                    <a:pt x="560" y="22"/>
                  </a:lnTo>
                  <a:lnTo>
                    <a:pt x="579" y="26"/>
                  </a:lnTo>
                  <a:lnTo>
                    <a:pt x="598" y="30"/>
                  </a:lnTo>
                  <a:lnTo>
                    <a:pt x="616" y="36"/>
                  </a:lnTo>
                  <a:lnTo>
                    <a:pt x="635" y="41"/>
                  </a:lnTo>
                  <a:lnTo>
                    <a:pt x="653" y="47"/>
                  </a:lnTo>
                  <a:lnTo>
                    <a:pt x="653" y="7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411720" y="673200"/>
              <a:ext cx="218160" cy="16200"/>
            </a:xfrm>
            <a:custGeom>
              <a:avLst/>
              <a:gdLst/>
              <a:ahLst/>
              <a:rect l="l" t="t" r="r" b="b"/>
              <a:pathLst>
                <a:path w="536" h="39">
                  <a:moveTo>
                    <a:pt x="536" y="39"/>
                  </a:moveTo>
                  <a:lnTo>
                    <a:pt x="0" y="39"/>
                  </a:lnTo>
                  <a:lnTo>
                    <a:pt x="28" y="29"/>
                  </a:lnTo>
                  <a:lnTo>
                    <a:pt x="58" y="22"/>
                  </a:lnTo>
                  <a:lnTo>
                    <a:pt x="87" y="15"/>
                  </a:lnTo>
                  <a:lnTo>
                    <a:pt x="117" y="9"/>
                  </a:lnTo>
                  <a:lnTo>
                    <a:pt x="149" y="5"/>
                  </a:lnTo>
                  <a:lnTo>
                    <a:pt x="182" y="2"/>
                  </a:lnTo>
                  <a:lnTo>
                    <a:pt x="214" y="1"/>
                  </a:lnTo>
                  <a:lnTo>
                    <a:pt x="249" y="0"/>
                  </a:lnTo>
                  <a:lnTo>
                    <a:pt x="270" y="0"/>
                  </a:lnTo>
                  <a:lnTo>
                    <a:pt x="292" y="1"/>
                  </a:lnTo>
                  <a:lnTo>
                    <a:pt x="313" y="2"/>
                  </a:lnTo>
                  <a:lnTo>
                    <a:pt x="334" y="3"/>
                  </a:lnTo>
                  <a:lnTo>
                    <a:pt x="355" y="4"/>
                  </a:lnTo>
                  <a:lnTo>
                    <a:pt x="375" y="6"/>
                  </a:lnTo>
                  <a:lnTo>
                    <a:pt x="395" y="8"/>
                  </a:lnTo>
                  <a:lnTo>
                    <a:pt x="415" y="12"/>
                  </a:lnTo>
                  <a:lnTo>
                    <a:pt x="430" y="14"/>
                  </a:lnTo>
                  <a:lnTo>
                    <a:pt x="446" y="17"/>
                  </a:lnTo>
                  <a:lnTo>
                    <a:pt x="461" y="20"/>
                  </a:lnTo>
                  <a:lnTo>
                    <a:pt x="477" y="23"/>
                  </a:lnTo>
                  <a:lnTo>
                    <a:pt x="491" y="26"/>
                  </a:lnTo>
                  <a:lnTo>
                    <a:pt x="507" y="30"/>
                  </a:lnTo>
                  <a:lnTo>
                    <a:pt x="522" y="35"/>
                  </a:lnTo>
                  <a:lnTo>
                    <a:pt x="536" y="3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4436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74436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4436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74436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374436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374436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74436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74436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374436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74436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374436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74436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374436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146120" y="1431000"/>
              <a:ext cx="20016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146120" y="1416600"/>
              <a:ext cx="20016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146120" y="1400400"/>
              <a:ext cx="20016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146120" y="1383840"/>
              <a:ext cx="20016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146120" y="1367640"/>
              <a:ext cx="20016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146120" y="1353240"/>
              <a:ext cx="20016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146120" y="1337040"/>
              <a:ext cx="20016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46120" y="1320840"/>
              <a:ext cx="20016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46120" y="1306440"/>
              <a:ext cx="20016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46120" y="1289880"/>
              <a:ext cx="20016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46120" y="1273680"/>
              <a:ext cx="20016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46120" y="1257120"/>
              <a:ext cx="20016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46120" y="1240920"/>
              <a:ext cx="200160" cy="3240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46120" y="1226880"/>
              <a:ext cx="200160" cy="302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46120" y="1209960"/>
              <a:ext cx="200160" cy="309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146120" y="1193760"/>
              <a:ext cx="200160" cy="32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146120" y="1179360"/>
              <a:ext cx="20016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146120" y="1163160"/>
              <a:ext cx="20016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146120" y="1146960"/>
              <a:ext cx="200160" cy="3240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46120" y="1130400"/>
              <a:ext cx="200160" cy="32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146120" y="1116360"/>
              <a:ext cx="20016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146120" y="1099800"/>
              <a:ext cx="20016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146120" y="1083600"/>
              <a:ext cx="200160" cy="327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146120" y="1067400"/>
              <a:ext cx="200160" cy="3240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146120" y="1053000"/>
              <a:ext cx="20016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146120" y="1036800"/>
              <a:ext cx="200160" cy="302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146120" y="1020240"/>
              <a:ext cx="200160" cy="3276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120" y="1005840"/>
              <a:ext cx="200160" cy="309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120" y="989640"/>
              <a:ext cx="200160" cy="3024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146120" y="973440"/>
              <a:ext cx="200160" cy="3240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146120" y="956880"/>
              <a:ext cx="200160" cy="324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146120" y="940320"/>
              <a:ext cx="200160" cy="32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146120" y="925920"/>
              <a:ext cx="200160" cy="309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146120" y="909720"/>
              <a:ext cx="20016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146120" y="893520"/>
              <a:ext cx="200160" cy="3240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990960" y="8791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50" y="0"/>
                  </a:lnTo>
                  <a:lnTo>
                    <a:pt x="1250" y="0"/>
                  </a:lnTo>
                  <a:lnTo>
                    <a:pt x="869" y="0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990960" y="862920"/>
              <a:ext cx="510120" cy="3024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869" y="78"/>
                  </a:moveTo>
                  <a:lnTo>
                    <a:pt x="382" y="78"/>
                  </a:lnTo>
                  <a:lnTo>
                    <a:pt x="382" y="39"/>
                  </a:lnTo>
                  <a:lnTo>
                    <a:pt x="0" y="39"/>
                  </a:lnTo>
                  <a:lnTo>
                    <a:pt x="5" y="0"/>
                  </a:lnTo>
                  <a:lnTo>
                    <a:pt x="1246" y="0"/>
                  </a:lnTo>
                  <a:lnTo>
                    <a:pt x="1250" y="39"/>
                  </a:lnTo>
                  <a:lnTo>
                    <a:pt x="869" y="39"/>
                  </a:lnTo>
                  <a:lnTo>
                    <a:pt x="86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990960" y="846360"/>
              <a:ext cx="510120" cy="32760"/>
            </a:xfrm>
            <a:custGeom>
              <a:avLst/>
              <a:gdLst/>
              <a:ahLst/>
              <a:rect l="l" t="t" r="r" b="b"/>
              <a:pathLst>
                <a:path w="1250" h="78">
                  <a:moveTo>
                    <a:pt x="1250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41" y="0"/>
                  </a:lnTo>
                  <a:lnTo>
                    <a:pt x="1250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993120" y="830160"/>
              <a:ext cx="505440" cy="32760"/>
            </a:xfrm>
            <a:custGeom>
              <a:avLst/>
              <a:gdLst/>
              <a:ahLst/>
              <a:rect l="l" t="t" r="r" b="b"/>
              <a:pathLst>
                <a:path w="1241" h="78">
                  <a:moveTo>
                    <a:pt x="1241" y="78"/>
                  </a:moveTo>
                  <a:lnTo>
                    <a:pt x="0" y="78"/>
                  </a:lnTo>
                  <a:lnTo>
                    <a:pt x="8" y="0"/>
                  </a:lnTo>
                  <a:lnTo>
                    <a:pt x="1231" y="0"/>
                  </a:lnTo>
                  <a:lnTo>
                    <a:pt x="1241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994920" y="815760"/>
              <a:ext cx="501840" cy="30240"/>
            </a:xfrm>
            <a:custGeom>
              <a:avLst/>
              <a:gdLst/>
              <a:ahLst/>
              <a:rect l="l" t="t" r="r" b="b"/>
              <a:pathLst>
                <a:path w="1232" h="76">
                  <a:moveTo>
                    <a:pt x="123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23" y="0"/>
                  </a:lnTo>
                  <a:lnTo>
                    <a:pt x="1232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9949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3" h="76">
                  <a:moveTo>
                    <a:pt x="1223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215" y="0"/>
                  </a:lnTo>
                  <a:lnTo>
                    <a:pt x="1223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97440" y="783360"/>
              <a:ext cx="495360" cy="32400"/>
            </a:xfrm>
            <a:custGeom>
              <a:avLst/>
              <a:gdLst/>
              <a:ahLst/>
              <a:rect l="l" t="t" r="r" b="b"/>
              <a:pathLst>
                <a:path w="1215" h="78">
                  <a:moveTo>
                    <a:pt x="1215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207" y="0"/>
                  </a:lnTo>
                  <a:lnTo>
                    <a:pt x="1215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999240" y="767160"/>
              <a:ext cx="491760" cy="32400"/>
            </a:xfrm>
            <a:custGeom>
              <a:avLst/>
              <a:gdLst/>
              <a:ahLst/>
              <a:rect l="l" t="t" r="r" b="b"/>
              <a:pathLst>
                <a:path w="1207" h="78">
                  <a:moveTo>
                    <a:pt x="1207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99" y="0"/>
                  </a:lnTo>
                  <a:lnTo>
                    <a:pt x="1207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001040" y="752760"/>
              <a:ext cx="489960" cy="3024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9" y="0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003560" y="736200"/>
              <a:ext cx="485280" cy="30960"/>
            </a:xfrm>
            <a:custGeom>
              <a:avLst/>
              <a:gdLst/>
              <a:ahLst/>
              <a:rect l="l" t="t" r="r" b="b"/>
              <a:pathLst>
                <a:path w="1190" h="78">
                  <a:moveTo>
                    <a:pt x="1190" y="78"/>
                  </a:moveTo>
                  <a:lnTo>
                    <a:pt x="0" y="78"/>
                  </a:lnTo>
                  <a:lnTo>
                    <a:pt x="7" y="0"/>
                  </a:lnTo>
                  <a:lnTo>
                    <a:pt x="1181" y="0"/>
                  </a:lnTo>
                  <a:lnTo>
                    <a:pt x="1190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003560" y="719640"/>
              <a:ext cx="483480" cy="32760"/>
            </a:xfrm>
            <a:custGeom>
              <a:avLst/>
              <a:gdLst/>
              <a:ahLst/>
              <a:rect l="l" t="t" r="r" b="b"/>
              <a:pathLst>
                <a:path w="1182" h="76">
                  <a:moveTo>
                    <a:pt x="1182" y="76"/>
                  </a:moveTo>
                  <a:lnTo>
                    <a:pt x="0" y="76"/>
                  </a:lnTo>
                  <a:lnTo>
                    <a:pt x="8" y="0"/>
                  </a:lnTo>
                  <a:lnTo>
                    <a:pt x="1174" y="0"/>
                  </a:lnTo>
                  <a:lnTo>
                    <a:pt x="1182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005360" y="705600"/>
              <a:ext cx="479160" cy="30240"/>
            </a:xfrm>
            <a:custGeom>
              <a:avLst/>
              <a:gdLst/>
              <a:ahLst/>
              <a:rect l="l" t="t" r="r" b="b"/>
              <a:pathLst>
                <a:path w="1174" h="76">
                  <a:moveTo>
                    <a:pt x="1174" y="76"/>
                  </a:moveTo>
                  <a:lnTo>
                    <a:pt x="0" y="76"/>
                  </a:lnTo>
                  <a:lnTo>
                    <a:pt x="9" y="0"/>
                  </a:lnTo>
                  <a:lnTo>
                    <a:pt x="1166" y="0"/>
                  </a:lnTo>
                  <a:lnTo>
                    <a:pt x="1174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007520" y="689400"/>
              <a:ext cx="475200" cy="30240"/>
            </a:xfrm>
            <a:custGeom>
              <a:avLst/>
              <a:gdLst/>
              <a:ahLst/>
              <a:rect l="l" t="t" r="r" b="b"/>
              <a:pathLst>
                <a:path w="1166" h="78">
                  <a:moveTo>
                    <a:pt x="1166" y="78"/>
                  </a:moveTo>
                  <a:lnTo>
                    <a:pt x="0" y="78"/>
                  </a:lnTo>
                  <a:lnTo>
                    <a:pt x="9" y="0"/>
                  </a:lnTo>
                  <a:lnTo>
                    <a:pt x="1158" y="0"/>
                  </a:lnTo>
                  <a:lnTo>
                    <a:pt x="1166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009320" y="685080"/>
              <a:ext cx="471240" cy="20160"/>
            </a:xfrm>
            <a:custGeom>
              <a:avLst/>
              <a:gdLst/>
              <a:ahLst/>
              <a:rect l="l" t="t" r="r" b="b"/>
              <a:pathLst>
                <a:path w="1157" h="49">
                  <a:moveTo>
                    <a:pt x="1157" y="49"/>
                  </a:moveTo>
                  <a:lnTo>
                    <a:pt x="0" y="49"/>
                  </a:lnTo>
                  <a:lnTo>
                    <a:pt x="5" y="0"/>
                  </a:lnTo>
                  <a:lnTo>
                    <a:pt x="1151" y="0"/>
                  </a:lnTo>
                  <a:lnTo>
                    <a:pt x="1157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011120" y="685080"/>
              <a:ext cx="469440" cy="3960"/>
            </a:xfrm>
            <a:custGeom>
              <a:avLst/>
              <a:gdLst/>
              <a:ahLst/>
              <a:rect l="l" t="t" r="r" b="b"/>
              <a:pathLst>
                <a:path w="1149" h="10">
                  <a:moveTo>
                    <a:pt x="1149" y="10"/>
                  </a:moveTo>
                  <a:lnTo>
                    <a:pt x="0" y="10"/>
                  </a:lnTo>
                  <a:lnTo>
                    <a:pt x="1" y="0"/>
                  </a:lnTo>
                  <a:lnTo>
                    <a:pt x="1147" y="0"/>
                  </a:lnTo>
                  <a:lnTo>
                    <a:pt x="1149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64360" y="1431000"/>
              <a:ext cx="18180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64360" y="1416600"/>
              <a:ext cx="1818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464360" y="1400400"/>
              <a:ext cx="1818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64360" y="1383840"/>
              <a:ext cx="18180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64360" y="1367640"/>
              <a:ext cx="18180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64360" y="1353240"/>
              <a:ext cx="18180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64360" y="1337040"/>
              <a:ext cx="18180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64360" y="1320840"/>
              <a:ext cx="18180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64360" y="1306440"/>
              <a:ext cx="1818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64360" y="1289880"/>
              <a:ext cx="18180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64360" y="1273680"/>
              <a:ext cx="18180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64360" y="1257120"/>
              <a:ext cx="18180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64360" y="1251360"/>
              <a:ext cx="18180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772520" y="1431000"/>
              <a:ext cx="291960" cy="20160"/>
            </a:xfrm>
            <a:custGeom>
              <a:avLst/>
              <a:gdLst/>
              <a:ahLst/>
              <a:rect l="l" t="t" r="r" b="b"/>
              <a:pathLst>
                <a:path w="719" h="49">
                  <a:moveTo>
                    <a:pt x="0" y="49"/>
                  </a:moveTo>
                  <a:lnTo>
                    <a:pt x="0" y="0"/>
                  </a:lnTo>
                  <a:lnTo>
                    <a:pt x="719" y="0"/>
                  </a:lnTo>
                  <a:lnTo>
                    <a:pt x="713" y="3"/>
                  </a:lnTo>
                  <a:lnTo>
                    <a:pt x="707" y="4"/>
                  </a:lnTo>
                  <a:lnTo>
                    <a:pt x="701" y="6"/>
                  </a:lnTo>
                  <a:lnTo>
                    <a:pt x="695" y="7"/>
                  </a:lnTo>
                  <a:lnTo>
                    <a:pt x="689" y="9"/>
                  </a:lnTo>
                  <a:lnTo>
                    <a:pt x="683" y="10"/>
                  </a:lnTo>
                  <a:lnTo>
                    <a:pt x="677" y="11"/>
                  </a:lnTo>
                  <a:lnTo>
                    <a:pt x="671" y="12"/>
                  </a:lnTo>
                  <a:lnTo>
                    <a:pt x="630" y="21"/>
                  </a:lnTo>
                  <a:lnTo>
                    <a:pt x="586" y="29"/>
                  </a:lnTo>
                  <a:lnTo>
                    <a:pt x="539" y="35"/>
                  </a:lnTo>
                  <a:lnTo>
                    <a:pt x="492" y="39"/>
                  </a:lnTo>
                  <a:lnTo>
                    <a:pt x="443" y="43"/>
                  </a:lnTo>
                  <a:lnTo>
                    <a:pt x="391" y="47"/>
                  </a:lnTo>
                  <a:lnTo>
                    <a:pt x="338" y="49"/>
                  </a:lnTo>
                  <a:lnTo>
                    <a:pt x="283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72520" y="1416600"/>
              <a:ext cx="338400" cy="30240"/>
            </a:xfrm>
            <a:custGeom>
              <a:avLst/>
              <a:gdLst/>
              <a:ahLst/>
              <a:rect l="l" t="t" r="r" b="b"/>
              <a:pathLst>
                <a:path w="834" h="77">
                  <a:moveTo>
                    <a:pt x="4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834" y="0"/>
                  </a:lnTo>
                  <a:lnTo>
                    <a:pt x="814" y="8"/>
                  </a:lnTo>
                  <a:lnTo>
                    <a:pt x="796" y="15"/>
                  </a:lnTo>
                  <a:lnTo>
                    <a:pt x="776" y="22"/>
                  </a:lnTo>
                  <a:lnTo>
                    <a:pt x="755" y="28"/>
                  </a:lnTo>
                  <a:lnTo>
                    <a:pt x="735" y="34"/>
                  </a:lnTo>
                  <a:lnTo>
                    <a:pt x="714" y="41"/>
                  </a:lnTo>
                  <a:lnTo>
                    <a:pt x="693" y="46"/>
                  </a:lnTo>
                  <a:lnTo>
                    <a:pt x="671" y="50"/>
                  </a:lnTo>
                  <a:lnTo>
                    <a:pt x="651" y="55"/>
                  </a:lnTo>
                  <a:lnTo>
                    <a:pt x="630" y="58"/>
                  </a:lnTo>
                  <a:lnTo>
                    <a:pt x="609" y="63"/>
                  </a:lnTo>
                  <a:lnTo>
                    <a:pt x="587" y="66"/>
                  </a:lnTo>
                  <a:lnTo>
                    <a:pt x="565" y="69"/>
                  </a:lnTo>
                  <a:lnTo>
                    <a:pt x="541" y="72"/>
                  </a:lnTo>
                  <a:lnTo>
                    <a:pt x="518" y="75"/>
                  </a:lnTo>
                  <a:lnTo>
                    <a:pt x="494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72520" y="1400400"/>
              <a:ext cx="373320" cy="30240"/>
            </a:xfrm>
            <a:custGeom>
              <a:avLst/>
              <a:gdLst/>
              <a:ahLst/>
              <a:rect l="l" t="t" r="r" b="b"/>
              <a:pathLst>
                <a:path w="917" h="76">
                  <a:moveTo>
                    <a:pt x="719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17" y="0"/>
                  </a:lnTo>
                  <a:lnTo>
                    <a:pt x="894" y="11"/>
                  </a:lnTo>
                  <a:lnTo>
                    <a:pt x="871" y="22"/>
                  </a:lnTo>
                  <a:lnTo>
                    <a:pt x="847" y="33"/>
                  </a:lnTo>
                  <a:lnTo>
                    <a:pt x="822" y="43"/>
                  </a:lnTo>
                  <a:lnTo>
                    <a:pt x="797" y="52"/>
                  </a:lnTo>
                  <a:lnTo>
                    <a:pt x="771" y="61"/>
                  </a:lnTo>
                  <a:lnTo>
                    <a:pt x="745" y="69"/>
                  </a:lnTo>
                  <a:lnTo>
                    <a:pt x="719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772520" y="1383840"/>
              <a:ext cx="402120" cy="32760"/>
            </a:xfrm>
            <a:custGeom>
              <a:avLst/>
              <a:gdLst/>
              <a:ahLst/>
              <a:rect l="l" t="t" r="r" b="b"/>
              <a:pathLst>
                <a:path w="985" h="77">
                  <a:moveTo>
                    <a:pt x="83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981" y="1"/>
                  </a:lnTo>
                  <a:lnTo>
                    <a:pt x="979" y="3"/>
                  </a:lnTo>
                  <a:lnTo>
                    <a:pt x="977" y="4"/>
                  </a:lnTo>
                  <a:lnTo>
                    <a:pt x="975" y="5"/>
                  </a:lnTo>
                  <a:lnTo>
                    <a:pt x="973" y="7"/>
                  </a:lnTo>
                  <a:lnTo>
                    <a:pt x="971" y="8"/>
                  </a:lnTo>
                  <a:lnTo>
                    <a:pt x="968" y="9"/>
                  </a:lnTo>
                  <a:lnTo>
                    <a:pt x="966" y="11"/>
                  </a:lnTo>
                  <a:lnTo>
                    <a:pt x="950" y="21"/>
                  </a:lnTo>
                  <a:lnTo>
                    <a:pt x="934" y="29"/>
                  </a:lnTo>
                  <a:lnTo>
                    <a:pt x="918" y="38"/>
                  </a:lnTo>
                  <a:lnTo>
                    <a:pt x="902" y="46"/>
                  </a:lnTo>
                  <a:lnTo>
                    <a:pt x="885" y="55"/>
                  </a:lnTo>
                  <a:lnTo>
                    <a:pt x="868" y="62"/>
                  </a:lnTo>
                  <a:lnTo>
                    <a:pt x="851" y="70"/>
                  </a:lnTo>
                  <a:lnTo>
                    <a:pt x="83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772520" y="1367640"/>
              <a:ext cx="424080" cy="32760"/>
            </a:xfrm>
            <a:custGeom>
              <a:avLst/>
              <a:gdLst/>
              <a:ahLst/>
              <a:rect l="l" t="t" r="r" b="b"/>
              <a:pathLst>
                <a:path w="1040" h="78">
                  <a:moveTo>
                    <a:pt x="91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40" y="0"/>
                  </a:lnTo>
                  <a:lnTo>
                    <a:pt x="1032" y="6"/>
                  </a:lnTo>
                  <a:lnTo>
                    <a:pt x="1022" y="13"/>
                  </a:lnTo>
                  <a:lnTo>
                    <a:pt x="1013" y="19"/>
                  </a:lnTo>
                  <a:lnTo>
                    <a:pt x="1004" y="25"/>
                  </a:lnTo>
                  <a:lnTo>
                    <a:pt x="995" y="32"/>
                  </a:lnTo>
                  <a:lnTo>
                    <a:pt x="986" y="38"/>
                  </a:lnTo>
                  <a:lnTo>
                    <a:pt x="975" y="44"/>
                  </a:lnTo>
                  <a:lnTo>
                    <a:pt x="966" y="50"/>
                  </a:lnTo>
                  <a:lnTo>
                    <a:pt x="960" y="54"/>
                  </a:lnTo>
                  <a:lnTo>
                    <a:pt x="954" y="57"/>
                  </a:lnTo>
                  <a:lnTo>
                    <a:pt x="948" y="61"/>
                  </a:lnTo>
                  <a:lnTo>
                    <a:pt x="941" y="64"/>
                  </a:lnTo>
                  <a:lnTo>
                    <a:pt x="936" y="67"/>
                  </a:lnTo>
                  <a:lnTo>
                    <a:pt x="930" y="70"/>
                  </a:lnTo>
                  <a:lnTo>
                    <a:pt x="924" y="75"/>
                  </a:lnTo>
                  <a:lnTo>
                    <a:pt x="917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772520" y="1353240"/>
              <a:ext cx="444960" cy="30240"/>
            </a:xfrm>
            <a:custGeom>
              <a:avLst/>
              <a:gdLst/>
              <a:ahLst/>
              <a:rect l="l" t="t" r="r" b="b"/>
              <a:pathLst>
                <a:path w="1090" h="78">
                  <a:moveTo>
                    <a:pt x="9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90" y="0"/>
                  </a:lnTo>
                  <a:lnTo>
                    <a:pt x="1077" y="11"/>
                  </a:lnTo>
                  <a:lnTo>
                    <a:pt x="1064" y="21"/>
                  </a:lnTo>
                  <a:lnTo>
                    <a:pt x="1052" y="31"/>
                  </a:lnTo>
                  <a:lnTo>
                    <a:pt x="1039" y="40"/>
                  </a:lnTo>
                  <a:lnTo>
                    <a:pt x="1025" y="50"/>
                  </a:lnTo>
                  <a:lnTo>
                    <a:pt x="1012" y="59"/>
                  </a:lnTo>
                  <a:lnTo>
                    <a:pt x="998" y="68"/>
                  </a:lnTo>
                  <a:lnTo>
                    <a:pt x="985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772520" y="1337040"/>
              <a:ext cx="461160" cy="30240"/>
            </a:xfrm>
            <a:custGeom>
              <a:avLst/>
              <a:gdLst/>
              <a:ahLst/>
              <a:rect l="l" t="t" r="r" b="b"/>
              <a:pathLst>
                <a:path w="1133" h="78">
                  <a:moveTo>
                    <a:pt x="104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33" y="0"/>
                  </a:lnTo>
                  <a:lnTo>
                    <a:pt x="1122" y="11"/>
                  </a:lnTo>
                  <a:lnTo>
                    <a:pt x="1111" y="21"/>
                  </a:lnTo>
                  <a:lnTo>
                    <a:pt x="1100" y="31"/>
                  </a:lnTo>
                  <a:lnTo>
                    <a:pt x="1088" y="40"/>
                  </a:lnTo>
                  <a:lnTo>
                    <a:pt x="1077" y="50"/>
                  </a:lnTo>
                  <a:lnTo>
                    <a:pt x="1064" y="59"/>
                  </a:lnTo>
                  <a:lnTo>
                    <a:pt x="1053" y="69"/>
                  </a:lnTo>
                  <a:lnTo>
                    <a:pt x="1040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772520" y="1320840"/>
              <a:ext cx="477360" cy="32400"/>
            </a:xfrm>
            <a:custGeom>
              <a:avLst/>
              <a:gdLst/>
              <a:ahLst/>
              <a:rect l="l" t="t" r="r" b="b"/>
              <a:pathLst>
                <a:path w="1171" h="77">
                  <a:moveTo>
                    <a:pt x="1090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62" y="10"/>
                  </a:lnTo>
                  <a:lnTo>
                    <a:pt x="1151" y="21"/>
                  </a:lnTo>
                  <a:lnTo>
                    <a:pt x="1142" y="30"/>
                  </a:lnTo>
                  <a:lnTo>
                    <a:pt x="1132" y="39"/>
                  </a:lnTo>
                  <a:lnTo>
                    <a:pt x="1121" y="49"/>
                  </a:lnTo>
                  <a:lnTo>
                    <a:pt x="1112" y="58"/>
                  </a:lnTo>
                  <a:lnTo>
                    <a:pt x="1100" y="68"/>
                  </a:lnTo>
                  <a:lnTo>
                    <a:pt x="1090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772520" y="1306440"/>
              <a:ext cx="491760" cy="30240"/>
            </a:xfrm>
            <a:custGeom>
              <a:avLst/>
              <a:gdLst/>
              <a:ahLst/>
              <a:rect l="l" t="t" r="r" b="b"/>
              <a:pathLst>
                <a:path w="1205" h="76">
                  <a:moveTo>
                    <a:pt x="1133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205" y="0"/>
                  </a:lnTo>
                  <a:lnTo>
                    <a:pt x="1197" y="9"/>
                  </a:lnTo>
                  <a:lnTo>
                    <a:pt x="1188" y="20"/>
                  </a:lnTo>
                  <a:lnTo>
                    <a:pt x="1179" y="29"/>
                  </a:lnTo>
                  <a:lnTo>
                    <a:pt x="1170" y="39"/>
                  </a:lnTo>
                  <a:lnTo>
                    <a:pt x="1161" y="49"/>
                  </a:lnTo>
                  <a:lnTo>
                    <a:pt x="1151" y="59"/>
                  </a:lnTo>
                  <a:lnTo>
                    <a:pt x="1142" y="67"/>
                  </a:lnTo>
                  <a:lnTo>
                    <a:pt x="1133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772520" y="1289880"/>
              <a:ext cx="503640" cy="30960"/>
            </a:xfrm>
            <a:custGeom>
              <a:avLst/>
              <a:gdLst/>
              <a:ahLst/>
              <a:rect l="l" t="t" r="r" b="b"/>
              <a:pathLst>
                <a:path w="1235" h="77">
                  <a:moveTo>
                    <a:pt x="1171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1235" y="0"/>
                  </a:lnTo>
                  <a:lnTo>
                    <a:pt x="1227" y="9"/>
                  </a:lnTo>
                  <a:lnTo>
                    <a:pt x="1220" y="20"/>
                  </a:lnTo>
                  <a:lnTo>
                    <a:pt x="1212" y="29"/>
                  </a:lnTo>
                  <a:lnTo>
                    <a:pt x="1204" y="39"/>
                  </a:lnTo>
                  <a:lnTo>
                    <a:pt x="1197" y="49"/>
                  </a:lnTo>
                  <a:lnTo>
                    <a:pt x="1188" y="59"/>
                  </a:lnTo>
                  <a:lnTo>
                    <a:pt x="1180" y="68"/>
                  </a:lnTo>
                  <a:lnTo>
                    <a:pt x="1171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772520" y="1273680"/>
              <a:ext cx="514440" cy="32760"/>
            </a:xfrm>
            <a:custGeom>
              <a:avLst/>
              <a:gdLst/>
              <a:ahLst/>
              <a:rect l="l" t="t" r="r" b="b"/>
              <a:pathLst>
                <a:path w="1262" h="78">
                  <a:moveTo>
                    <a:pt x="120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62" y="0"/>
                  </a:lnTo>
                  <a:lnTo>
                    <a:pt x="1255" y="9"/>
                  </a:lnTo>
                  <a:lnTo>
                    <a:pt x="1248" y="20"/>
                  </a:lnTo>
                  <a:lnTo>
                    <a:pt x="1242" y="29"/>
                  </a:lnTo>
                  <a:lnTo>
                    <a:pt x="1234" y="40"/>
                  </a:lnTo>
                  <a:lnTo>
                    <a:pt x="1227" y="49"/>
                  </a:lnTo>
                  <a:lnTo>
                    <a:pt x="1220" y="59"/>
                  </a:lnTo>
                  <a:lnTo>
                    <a:pt x="1212" y="68"/>
                  </a:lnTo>
                  <a:lnTo>
                    <a:pt x="120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772520" y="1257120"/>
              <a:ext cx="524520" cy="32400"/>
            </a:xfrm>
            <a:custGeom>
              <a:avLst/>
              <a:gdLst/>
              <a:ahLst/>
              <a:rect l="l" t="t" r="r" b="b"/>
              <a:pathLst>
                <a:path w="1286" h="78">
                  <a:moveTo>
                    <a:pt x="123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86" y="0"/>
                  </a:lnTo>
                  <a:lnTo>
                    <a:pt x="1280" y="11"/>
                  </a:lnTo>
                  <a:lnTo>
                    <a:pt x="1274" y="20"/>
                  </a:lnTo>
                  <a:lnTo>
                    <a:pt x="1268" y="30"/>
                  </a:lnTo>
                  <a:lnTo>
                    <a:pt x="1262" y="40"/>
                  </a:lnTo>
                  <a:lnTo>
                    <a:pt x="1255" y="50"/>
                  </a:lnTo>
                  <a:lnTo>
                    <a:pt x="1248" y="59"/>
                  </a:lnTo>
                  <a:lnTo>
                    <a:pt x="1242" y="68"/>
                  </a:lnTo>
                  <a:lnTo>
                    <a:pt x="123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772520" y="1240920"/>
              <a:ext cx="532440" cy="32400"/>
            </a:xfrm>
            <a:custGeom>
              <a:avLst/>
              <a:gdLst/>
              <a:ahLst/>
              <a:rect l="l" t="t" r="r" b="b"/>
              <a:pathLst>
                <a:path w="1308" h="78">
                  <a:moveTo>
                    <a:pt x="1262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12"/>
                  </a:lnTo>
                  <a:lnTo>
                    <a:pt x="494" y="11"/>
                  </a:lnTo>
                  <a:lnTo>
                    <a:pt x="504" y="10"/>
                  </a:lnTo>
                  <a:lnTo>
                    <a:pt x="512" y="9"/>
                  </a:lnTo>
                  <a:lnTo>
                    <a:pt x="520" y="7"/>
                  </a:lnTo>
                  <a:lnTo>
                    <a:pt x="530" y="6"/>
                  </a:lnTo>
                  <a:lnTo>
                    <a:pt x="538" y="5"/>
                  </a:lnTo>
                  <a:lnTo>
                    <a:pt x="547" y="2"/>
                  </a:lnTo>
                  <a:lnTo>
                    <a:pt x="555" y="0"/>
                  </a:lnTo>
                  <a:lnTo>
                    <a:pt x="1308" y="0"/>
                  </a:lnTo>
                  <a:lnTo>
                    <a:pt x="1306" y="5"/>
                  </a:lnTo>
                  <a:lnTo>
                    <a:pt x="1304" y="8"/>
                  </a:lnTo>
                  <a:lnTo>
                    <a:pt x="1302" y="12"/>
                  </a:lnTo>
                  <a:lnTo>
                    <a:pt x="1300" y="16"/>
                  </a:lnTo>
                  <a:lnTo>
                    <a:pt x="1297" y="19"/>
                  </a:lnTo>
                  <a:lnTo>
                    <a:pt x="1295" y="23"/>
                  </a:lnTo>
                  <a:lnTo>
                    <a:pt x="1293" y="27"/>
                  </a:lnTo>
                  <a:lnTo>
                    <a:pt x="1291" y="31"/>
                  </a:lnTo>
                  <a:lnTo>
                    <a:pt x="1288" y="36"/>
                  </a:lnTo>
                  <a:lnTo>
                    <a:pt x="1284" y="42"/>
                  </a:lnTo>
                  <a:lnTo>
                    <a:pt x="1281" y="49"/>
                  </a:lnTo>
                  <a:lnTo>
                    <a:pt x="1276" y="55"/>
                  </a:lnTo>
                  <a:lnTo>
                    <a:pt x="1273" y="60"/>
                  </a:lnTo>
                  <a:lnTo>
                    <a:pt x="1269" y="66"/>
                  </a:lnTo>
                  <a:lnTo>
                    <a:pt x="1266" y="72"/>
                  </a:lnTo>
                  <a:lnTo>
                    <a:pt x="1262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772520" y="1226880"/>
              <a:ext cx="540720" cy="30240"/>
            </a:xfrm>
            <a:custGeom>
              <a:avLst/>
              <a:gdLst/>
              <a:ahLst/>
              <a:rect l="l" t="t" r="r" b="b"/>
              <a:pathLst>
                <a:path w="1327" h="78">
                  <a:moveTo>
                    <a:pt x="128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51"/>
                  </a:lnTo>
                  <a:lnTo>
                    <a:pt x="510" y="48"/>
                  </a:lnTo>
                  <a:lnTo>
                    <a:pt x="534" y="44"/>
                  </a:lnTo>
                  <a:lnTo>
                    <a:pt x="558" y="39"/>
                  </a:lnTo>
                  <a:lnTo>
                    <a:pt x="581" y="33"/>
                  </a:lnTo>
                  <a:lnTo>
                    <a:pt x="603" y="27"/>
                  </a:lnTo>
                  <a:lnTo>
                    <a:pt x="624" y="18"/>
                  </a:lnTo>
                  <a:lnTo>
                    <a:pt x="645" y="10"/>
                  </a:lnTo>
                  <a:lnTo>
                    <a:pt x="665" y="0"/>
                  </a:lnTo>
                  <a:lnTo>
                    <a:pt x="1327" y="0"/>
                  </a:lnTo>
                  <a:lnTo>
                    <a:pt x="1323" y="10"/>
                  </a:lnTo>
                  <a:lnTo>
                    <a:pt x="1318" y="18"/>
                  </a:lnTo>
                  <a:lnTo>
                    <a:pt x="1314" y="27"/>
                  </a:lnTo>
                  <a:lnTo>
                    <a:pt x="1310" y="35"/>
                  </a:lnTo>
                  <a:lnTo>
                    <a:pt x="1305" y="44"/>
                  </a:lnTo>
                  <a:lnTo>
                    <a:pt x="1301" y="53"/>
                  </a:lnTo>
                  <a:lnTo>
                    <a:pt x="1295" y="61"/>
                  </a:lnTo>
                  <a:lnTo>
                    <a:pt x="1291" y="70"/>
                  </a:lnTo>
                  <a:lnTo>
                    <a:pt x="1290" y="71"/>
                  </a:lnTo>
                  <a:lnTo>
                    <a:pt x="1290" y="72"/>
                  </a:lnTo>
                  <a:lnTo>
                    <a:pt x="1289" y="73"/>
                  </a:lnTo>
                  <a:lnTo>
                    <a:pt x="1289" y="74"/>
                  </a:lnTo>
                  <a:lnTo>
                    <a:pt x="1288" y="75"/>
                  </a:lnTo>
                  <a:lnTo>
                    <a:pt x="1287" y="76"/>
                  </a:lnTo>
                  <a:lnTo>
                    <a:pt x="1287" y="77"/>
                  </a:lnTo>
                  <a:lnTo>
                    <a:pt x="1286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772520" y="1209960"/>
              <a:ext cx="546840" cy="30960"/>
            </a:xfrm>
            <a:custGeom>
              <a:avLst/>
              <a:gdLst/>
              <a:ahLst/>
              <a:rect l="l" t="t" r="r" b="b"/>
              <a:pathLst>
                <a:path w="1343" h="76">
                  <a:moveTo>
                    <a:pt x="1308" y="76"/>
                  </a:moveTo>
                  <a:lnTo>
                    <a:pt x="555" y="76"/>
                  </a:lnTo>
                  <a:lnTo>
                    <a:pt x="579" y="70"/>
                  </a:lnTo>
                  <a:lnTo>
                    <a:pt x="603" y="64"/>
                  </a:lnTo>
                  <a:lnTo>
                    <a:pt x="626" y="55"/>
                  </a:lnTo>
                  <a:lnTo>
                    <a:pt x="649" y="46"/>
                  </a:lnTo>
                  <a:lnTo>
                    <a:pt x="670" y="36"/>
                  </a:lnTo>
                  <a:lnTo>
                    <a:pt x="691" y="25"/>
                  </a:lnTo>
                  <a:lnTo>
                    <a:pt x="710" y="12"/>
                  </a:lnTo>
                  <a:lnTo>
                    <a:pt x="729" y="0"/>
                  </a:lnTo>
                  <a:lnTo>
                    <a:pt x="1343" y="0"/>
                  </a:lnTo>
                  <a:lnTo>
                    <a:pt x="1339" y="9"/>
                  </a:lnTo>
                  <a:lnTo>
                    <a:pt x="1335" y="19"/>
                  </a:lnTo>
                  <a:lnTo>
                    <a:pt x="1331" y="28"/>
                  </a:lnTo>
                  <a:lnTo>
                    <a:pt x="1326" y="39"/>
                  </a:lnTo>
                  <a:lnTo>
                    <a:pt x="1322" y="48"/>
                  </a:lnTo>
                  <a:lnTo>
                    <a:pt x="1317" y="57"/>
                  </a:lnTo>
                  <a:lnTo>
                    <a:pt x="1312" y="67"/>
                  </a:lnTo>
                  <a:lnTo>
                    <a:pt x="1308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772520" y="1193760"/>
              <a:ext cx="552960" cy="32760"/>
            </a:xfrm>
            <a:custGeom>
              <a:avLst/>
              <a:gdLst/>
              <a:ahLst/>
              <a:rect l="l" t="t" r="r" b="b"/>
              <a:pathLst>
                <a:path w="1357" h="76">
                  <a:moveTo>
                    <a:pt x="1327" y="76"/>
                  </a:moveTo>
                  <a:lnTo>
                    <a:pt x="665" y="76"/>
                  </a:lnTo>
                  <a:lnTo>
                    <a:pt x="681" y="69"/>
                  </a:lnTo>
                  <a:lnTo>
                    <a:pt x="696" y="61"/>
                  </a:lnTo>
                  <a:lnTo>
                    <a:pt x="709" y="52"/>
                  </a:lnTo>
                  <a:lnTo>
                    <a:pt x="723" y="43"/>
                  </a:lnTo>
                  <a:lnTo>
                    <a:pt x="737" y="32"/>
                  </a:lnTo>
                  <a:lnTo>
                    <a:pt x="749" y="22"/>
                  </a:lnTo>
                  <a:lnTo>
                    <a:pt x="762" y="11"/>
                  </a:lnTo>
                  <a:lnTo>
                    <a:pt x="775" y="0"/>
                  </a:lnTo>
                  <a:lnTo>
                    <a:pt x="1357" y="0"/>
                  </a:lnTo>
                  <a:lnTo>
                    <a:pt x="1354" y="9"/>
                  </a:lnTo>
                  <a:lnTo>
                    <a:pt x="1351" y="19"/>
                  </a:lnTo>
                  <a:lnTo>
                    <a:pt x="1347" y="29"/>
                  </a:lnTo>
                  <a:lnTo>
                    <a:pt x="1343" y="39"/>
                  </a:lnTo>
                  <a:lnTo>
                    <a:pt x="1339" y="48"/>
                  </a:lnTo>
                  <a:lnTo>
                    <a:pt x="1335" y="58"/>
                  </a:lnTo>
                  <a:lnTo>
                    <a:pt x="1331" y="67"/>
                  </a:lnTo>
                  <a:lnTo>
                    <a:pt x="1327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772520" y="1179360"/>
              <a:ext cx="559440" cy="30240"/>
            </a:xfrm>
            <a:custGeom>
              <a:avLst/>
              <a:gdLst/>
              <a:ahLst/>
              <a:rect l="l" t="t" r="r" b="b"/>
              <a:pathLst>
                <a:path w="1370" h="78">
                  <a:moveTo>
                    <a:pt x="1343" y="78"/>
                  </a:moveTo>
                  <a:lnTo>
                    <a:pt x="729" y="78"/>
                  </a:lnTo>
                  <a:lnTo>
                    <a:pt x="737" y="71"/>
                  </a:lnTo>
                  <a:lnTo>
                    <a:pt x="744" y="65"/>
                  </a:lnTo>
                  <a:lnTo>
                    <a:pt x="751" y="60"/>
                  </a:lnTo>
                  <a:lnTo>
                    <a:pt x="759" y="54"/>
                  </a:lnTo>
                  <a:lnTo>
                    <a:pt x="766" y="46"/>
                  </a:lnTo>
                  <a:lnTo>
                    <a:pt x="772" y="40"/>
                  </a:lnTo>
                  <a:lnTo>
                    <a:pt x="780" y="34"/>
                  </a:lnTo>
                  <a:lnTo>
                    <a:pt x="786" y="26"/>
                  </a:lnTo>
                  <a:lnTo>
                    <a:pt x="789" y="23"/>
                  </a:lnTo>
                  <a:lnTo>
                    <a:pt x="792" y="20"/>
                  </a:lnTo>
                  <a:lnTo>
                    <a:pt x="796" y="17"/>
                  </a:lnTo>
                  <a:lnTo>
                    <a:pt x="798" y="14"/>
                  </a:lnTo>
                  <a:lnTo>
                    <a:pt x="801" y="9"/>
                  </a:lnTo>
                  <a:lnTo>
                    <a:pt x="804" y="6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1370" y="0"/>
                  </a:lnTo>
                  <a:lnTo>
                    <a:pt x="1367" y="9"/>
                  </a:lnTo>
                  <a:lnTo>
                    <a:pt x="1364" y="20"/>
                  </a:lnTo>
                  <a:lnTo>
                    <a:pt x="1360" y="29"/>
                  </a:lnTo>
                  <a:lnTo>
                    <a:pt x="1357" y="39"/>
                  </a:lnTo>
                  <a:lnTo>
                    <a:pt x="1354" y="48"/>
                  </a:lnTo>
                  <a:lnTo>
                    <a:pt x="1351" y="58"/>
                  </a:lnTo>
                  <a:lnTo>
                    <a:pt x="1347" y="67"/>
                  </a:lnTo>
                  <a:lnTo>
                    <a:pt x="134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772520" y="1163160"/>
              <a:ext cx="563040" cy="30240"/>
            </a:xfrm>
            <a:custGeom>
              <a:avLst/>
              <a:gdLst/>
              <a:ahLst/>
              <a:rect l="l" t="t" r="r" b="b"/>
              <a:pathLst>
                <a:path w="1380" h="78">
                  <a:moveTo>
                    <a:pt x="1357" y="78"/>
                  </a:moveTo>
                  <a:lnTo>
                    <a:pt x="775" y="78"/>
                  </a:lnTo>
                  <a:lnTo>
                    <a:pt x="776" y="76"/>
                  </a:lnTo>
                  <a:lnTo>
                    <a:pt x="778" y="75"/>
                  </a:lnTo>
                  <a:lnTo>
                    <a:pt x="779" y="73"/>
                  </a:lnTo>
                  <a:lnTo>
                    <a:pt x="781" y="72"/>
                  </a:lnTo>
                  <a:lnTo>
                    <a:pt x="782" y="69"/>
                  </a:lnTo>
                  <a:lnTo>
                    <a:pt x="784" y="68"/>
                  </a:lnTo>
                  <a:lnTo>
                    <a:pt x="785" y="66"/>
                  </a:lnTo>
                  <a:lnTo>
                    <a:pt x="786" y="65"/>
                  </a:lnTo>
                  <a:lnTo>
                    <a:pt x="793" y="58"/>
                  </a:lnTo>
                  <a:lnTo>
                    <a:pt x="801" y="49"/>
                  </a:lnTo>
                  <a:lnTo>
                    <a:pt x="807" y="42"/>
                  </a:lnTo>
                  <a:lnTo>
                    <a:pt x="813" y="34"/>
                  </a:lnTo>
                  <a:lnTo>
                    <a:pt x="820" y="25"/>
                  </a:lnTo>
                  <a:lnTo>
                    <a:pt x="825" y="17"/>
                  </a:lnTo>
                  <a:lnTo>
                    <a:pt x="831" y="9"/>
                  </a:lnTo>
                  <a:lnTo>
                    <a:pt x="836" y="0"/>
                  </a:lnTo>
                  <a:lnTo>
                    <a:pt x="1380" y="0"/>
                  </a:lnTo>
                  <a:lnTo>
                    <a:pt x="1378" y="10"/>
                  </a:lnTo>
                  <a:lnTo>
                    <a:pt x="1375" y="20"/>
                  </a:lnTo>
                  <a:lnTo>
                    <a:pt x="1373" y="30"/>
                  </a:lnTo>
                  <a:lnTo>
                    <a:pt x="1370" y="39"/>
                  </a:lnTo>
                  <a:lnTo>
                    <a:pt x="1367" y="48"/>
                  </a:lnTo>
                  <a:lnTo>
                    <a:pt x="1364" y="59"/>
                  </a:lnTo>
                  <a:lnTo>
                    <a:pt x="1360" y="68"/>
                  </a:lnTo>
                  <a:lnTo>
                    <a:pt x="135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772520" y="1146960"/>
              <a:ext cx="565200" cy="32400"/>
            </a:xfrm>
            <a:custGeom>
              <a:avLst/>
              <a:gdLst/>
              <a:ahLst/>
              <a:rect l="l" t="t" r="r" b="b"/>
              <a:pathLst>
                <a:path w="1389" h="78">
                  <a:moveTo>
                    <a:pt x="1370" y="78"/>
                  </a:moveTo>
                  <a:lnTo>
                    <a:pt x="809" y="78"/>
                  </a:lnTo>
                  <a:lnTo>
                    <a:pt x="817" y="69"/>
                  </a:lnTo>
                  <a:lnTo>
                    <a:pt x="823" y="59"/>
                  </a:lnTo>
                  <a:lnTo>
                    <a:pt x="829" y="50"/>
                  </a:lnTo>
                  <a:lnTo>
                    <a:pt x="835" y="40"/>
                  </a:lnTo>
                  <a:lnTo>
                    <a:pt x="842" y="31"/>
                  </a:lnTo>
                  <a:lnTo>
                    <a:pt x="847" y="20"/>
                  </a:lnTo>
                  <a:lnTo>
                    <a:pt x="852" y="11"/>
                  </a:lnTo>
                  <a:lnTo>
                    <a:pt x="857" y="0"/>
                  </a:lnTo>
                  <a:lnTo>
                    <a:pt x="1389" y="0"/>
                  </a:lnTo>
                  <a:lnTo>
                    <a:pt x="1387" y="11"/>
                  </a:lnTo>
                  <a:lnTo>
                    <a:pt x="1385" y="20"/>
                  </a:lnTo>
                  <a:lnTo>
                    <a:pt x="1382" y="30"/>
                  </a:lnTo>
                  <a:lnTo>
                    <a:pt x="1380" y="39"/>
                  </a:lnTo>
                  <a:lnTo>
                    <a:pt x="1378" y="50"/>
                  </a:lnTo>
                  <a:lnTo>
                    <a:pt x="1375" y="59"/>
                  </a:lnTo>
                  <a:lnTo>
                    <a:pt x="1373" y="69"/>
                  </a:lnTo>
                  <a:lnTo>
                    <a:pt x="137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772520" y="1130400"/>
              <a:ext cx="569520" cy="3276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80" y="78"/>
                  </a:moveTo>
                  <a:lnTo>
                    <a:pt x="836" y="78"/>
                  </a:lnTo>
                  <a:lnTo>
                    <a:pt x="842" y="69"/>
                  </a:lnTo>
                  <a:lnTo>
                    <a:pt x="847" y="59"/>
                  </a:lnTo>
                  <a:lnTo>
                    <a:pt x="852" y="50"/>
                  </a:lnTo>
                  <a:lnTo>
                    <a:pt x="857" y="40"/>
                  </a:lnTo>
                  <a:lnTo>
                    <a:pt x="862" y="31"/>
                  </a:lnTo>
                  <a:lnTo>
                    <a:pt x="866" y="21"/>
                  </a:lnTo>
                  <a:lnTo>
                    <a:pt x="870" y="11"/>
                  </a:lnTo>
                  <a:lnTo>
                    <a:pt x="873" y="0"/>
                  </a:lnTo>
                  <a:lnTo>
                    <a:pt x="1396" y="0"/>
                  </a:lnTo>
                  <a:lnTo>
                    <a:pt x="1394" y="11"/>
                  </a:lnTo>
                  <a:lnTo>
                    <a:pt x="1393" y="20"/>
                  </a:lnTo>
                  <a:lnTo>
                    <a:pt x="1391" y="30"/>
                  </a:lnTo>
                  <a:lnTo>
                    <a:pt x="1389" y="39"/>
                  </a:lnTo>
                  <a:lnTo>
                    <a:pt x="1387" y="50"/>
                  </a:lnTo>
                  <a:lnTo>
                    <a:pt x="1385" y="59"/>
                  </a:lnTo>
                  <a:lnTo>
                    <a:pt x="1382" y="69"/>
                  </a:lnTo>
                  <a:lnTo>
                    <a:pt x="138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772520" y="1116360"/>
              <a:ext cx="571320" cy="30240"/>
            </a:xfrm>
            <a:custGeom>
              <a:avLst/>
              <a:gdLst/>
              <a:ahLst/>
              <a:rect l="l" t="t" r="r" b="b"/>
              <a:pathLst>
                <a:path w="1401" h="76">
                  <a:moveTo>
                    <a:pt x="1389" y="76"/>
                  </a:moveTo>
                  <a:lnTo>
                    <a:pt x="857" y="76"/>
                  </a:lnTo>
                  <a:lnTo>
                    <a:pt x="862" y="67"/>
                  </a:lnTo>
                  <a:lnTo>
                    <a:pt x="866" y="57"/>
                  </a:lnTo>
                  <a:lnTo>
                    <a:pt x="870" y="48"/>
                  </a:lnTo>
                  <a:lnTo>
                    <a:pt x="873" y="38"/>
                  </a:lnTo>
                  <a:lnTo>
                    <a:pt x="876" y="29"/>
                  </a:lnTo>
                  <a:lnTo>
                    <a:pt x="880" y="20"/>
                  </a:lnTo>
                  <a:lnTo>
                    <a:pt x="883" y="9"/>
                  </a:lnTo>
                  <a:lnTo>
                    <a:pt x="885" y="0"/>
                  </a:lnTo>
                  <a:lnTo>
                    <a:pt x="1401" y="0"/>
                  </a:lnTo>
                  <a:lnTo>
                    <a:pt x="1399" y="9"/>
                  </a:lnTo>
                  <a:lnTo>
                    <a:pt x="1398" y="19"/>
                  </a:lnTo>
                  <a:lnTo>
                    <a:pt x="1397" y="28"/>
                  </a:lnTo>
                  <a:lnTo>
                    <a:pt x="1396" y="38"/>
                  </a:lnTo>
                  <a:lnTo>
                    <a:pt x="1394" y="48"/>
                  </a:lnTo>
                  <a:lnTo>
                    <a:pt x="1393" y="57"/>
                  </a:lnTo>
                  <a:lnTo>
                    <a:pt x="1391" y="67"/>
                  </a:lnTo>
                  <a:lnTo>
                    <a:pt x="1389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772520" y="1099800"/>
              <a:ext cx="573120" cy="30240"/>
            </a:xfrm>
            <a:custGeom>
              <a:avLst/>
              <a:gdLst/>
              <a:ahLst/>
              <a:rect l="l" t="t" r="r" b="b"/>
              <a:pathLst>
                <a:path w="1405" h="76">
                  <a:moveTo>
                    <a:pt x="1396" y="76"/>
                  </a:moveTo>
                  <a:lnTo>
                    <a:pt x="873" y="76"/>
                  </a:lnTo>
                  <a:lnTo>
                    <a:pt x="876" y="68"/>
                  </a:lnTo>
                  <a:lnTo>
                    <a:pt x="880" y="59"/>
                  </a:lnTo>
                  <a:lnTo>
                    <a:pt x="883" y="49"/>
                  </a:lnTo>
                  <a:lnTo>
                    <a:pt x="885" y="39"/>
                  </a:lnTo>
                  <a:lnTo>
                    <a:pt x="887" y="29"/>
                  </a:lnTo>
                  <a:lnTo>
                    <a:pt x="889" y="20"/>
                  </a:lnTo>
                  <a:lnTo>
                    <a:pt x="891" y="9"/>
                  </a:lnTo>
                  <a:lnTo>
                    <a:pt x="893" y="0"/>
                  </a:lnTo>
                  <a:lnTo>
                    <a:pt x="1405" y="0"/>
                  </a:lnTo>
                  <a:lnTo>
                    <a:pt x="1403" y="9"/>
                  </a:lnTo>
                  <a:lnTo>
                    <a:pt x="1402" y="19"/>
                  </a:lnTo>
                  <a:lnTo>
                    <a:pt x="1401" y="29"/>
                  </a:lnTo>
                  <a:lnTo>
                    <a:pt x="1401" y="39"/>
                  </a:lnTo>
                  <a:lnTo>
                    <a:pt x="1399" y="48"/>
                  </a:lnTo>
                  <a:lnTo>
                    <a:pt x="1398" y="58"/>
                  </a:lnTo>
                  <a:lnTo>
                    <a:pt x="1397" y="67"/>
                  </a:lnTo>
                  <a:lnTo>
                    <a:pt x="1396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772520" y="1083600"/>
              <a:ext cx="573120" cy="3276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1" y="78"/>
                  </a:moveTo>
                  <a:lnTo>
                    <a:pt x="885" y="78"/>
                  </a:lnTo>
                  <a:lnTo>
                    <a:pt x="888" y="68"/>
                  </a:lnTo>
                  <a:lnTo>
                    <a:pt x="889" y="59"/>
                  </a:lnTo>
                  <a:lnTo>
                    <a:pt x="891" y="49"/>
                  </a:lnTo>
                  <a:lnTo>
                    <a:pt x="893" y="39"/>
                  </a:lnTo>
                  <a:lnTo>
                    <a:pt x="894" y="29"/>
                  </a:lnTo>
                  <a:lnTo>
                    <a:pt x="895" y="20"/>
                  </a:lnTo>
                  <a:lnTo>
                    <a:pt x="896" y="9"/>
                  </a:lnTo>
                  <a:lnTo>
                    <a:pt x="897" y="0"/>
                  </a:lnTo>
                  <a:lnTo>
                    <a:pt x="1407" y="0"/>
                  </a:lnTo>
                  <a:lnTo>
                    <a:pt x="1406" y="9"/>
                  </a:lnTo>
                  <a:lnTo>
                    <a:pt x="1406" y="19"/>
                  </a:lnTo>
                  <a:lnTo>
                    <a:pt x="1405" y="29"/>
                  </a:lnTo>
                  <a:lnTo>
                    <a:pt x="1405" y="39"/>
                  </a:lnTo>
                  <a:lnTo>
                    <a:pt x="1403" y="48"/>
                  </a:lnTo>
                  <a:lnTo>
                    <a:pt x="1402" y="58"/>
                  </a:lnTo>
                  <a:lnTo>
                    <a:pt x="1401" y="67"/>
                  </a:lnTo>
                  <a:lnTo>
                    <a:pt x="1401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772520" y="1067400"/>
              <a:ext cx="573120" cy="3240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5" y="78"/>
                  </a:moveTo>
                  <a:lnTo>
                    <a:pt x="893" y="78"/>
                  </a:lnTo>
                  <a:lnTo>
                    <a:pt x="894" y="68"/>
                  </a:lnTo>
                  <a:lnTo>
                    <a:pt x="895" y="59"/>
                  </a:lnTo>
                  <a:lnTo>
                    <a:pt x="896" y="49"/>
                  </a:lnTo>
                  <a:lnTo>
                    <a:pt x="897" y="40"/>
                  </a:lnTo>
                  <a:lnTo>
                    <a:pt x="898" y="29"/>
                  </a:lnTo>
                  <a:lnTo>
                    <a:pt x="898" y="20"/>
                  </a:lnTo>
                  <a:lnTo>
                    <a:pt x="899" y="11"/>
                  </a:lnTo>
                  <a:lnTo>
                    <a:pt x="899" y="0"/>
                  </a:lnTo>
                  <a:lnTo>
                    <a:pt x="1407" y="0"/>
                  </a:lnTo>
                  <a:lnTo>
                    <a:pt x="1407" y="1"/>
                  </a:lnTo>
                  <a:lnTo>
                    <a:pt x="1407" y="3"/>
                  </a:lnTo>
                  <a:lnTo>
                    <a:pt x="1407" y="4"/>
                  </a:lnTo>
                  <a:lnTo>
                    <a:pt x="1407" y="6"/>
                  </a:lnTo>
                  <a:lnTo>
                    <a:pt x="1407" y="7"/>
                  </a:lnTo>
                  <a:lnTo>
                    <a:pt x="1407" y="8"/>
                  </a:lnTo>
                  <a:lnTo>
                    <a:pt x="1407" y="11"/>
                  </a:lnTo>
                  <a:lnTo>
                    <a:pt x="1407" y="12"/>
                  </a:lnTo>
                  <a:lnTo>
                    <a:pt x="1407" y="20"/>
                  </a:lnTo>
                  <a:lnTo>
                    <a:pt x="1407" y="28"/>
                  </a:lnTo>
                  <a:lnTo>
                    <a:pt x="1407" y="37"/>
                  </a:lnTo>
                  <a:lnTo>
                    <a:pt x="1406" y="45"/>
                  </a:lnTo>
                  <a:lnTo>
                    <a:pt x="1406" y="53"/>
                  </a:lnTo>
                  <a:lnTo>
                    <a:pt x="1406" y="61"/>
                  </a:lnTo>
                  <a:lnTo>
                    <a:pt x="1405" y="69"/>
                  </a:lnTo>
                  <a:lnTo>
                    <a:pt x="1405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772520" y="10530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7" y="78"/>
                  </a:lnTo>
                  <a:lnTo>
                    <a:pt x="898" y="73"/>
                  </a:lnTo>
                  <a:lnTo>
                    <a:pt x="898" y="67"/>
                  </a:lnTo>
                  <a:lnTo>
                    <a:pt x="898" y="62"/>
                  </a:lnTo>
                  <a:lnTo>
                    <a:pt x="898" y="57"/>
                  </a:lnTo>
                  <a:lnTo>
                    <a:pt x="899" y="52"/>
                  </a:lnTo>
                  <a:lnTo>
                    <a:pt x="899" y="45"/>
                  </a:lnTo>
                  <a:lnTo>
                    <a:pt x="899" y="40"/>
                  </a:lnTo>
                  <a:lnTo>
                    <a:pt x="899" y="35"/>
                  </a:lnTo>
                  <a:lnTo>
                    <a:pt x="899" y="31"/>
                  </a:lnTo>
                  <a:lnTo>
                    <a:pt x="899" y="26"/>
                  </a:lnTo>
                  <a:lnTo>
                    <a:pt x="899" y="22"/>
                  </a:lnTo>
                  <a:lnTo>
                    <a:pt x="899" y="17"/>
                  </a:lnTo>
                  <a:lnTo>
                    <a:pt x="898" y="13"/>
                  </a:lnTo>
                  <a:lnTo>
                    <a:pt x="898" y="9"/>
                  </a:lnTo>
                  <a:lnTo>
                    <a:pt x="898" y="4"/>
                  </a:lnTo>
                  <a:lnTo>
                    <a:pt x="898" y="0"/>
                  </a:lnTo>
                  <a:lnTo>
                    <a:pt x="1406" y="0"/>
                  </a:lnTo>
                  <a:lnTo>
                    <a:pt x="1406" y="7"/>
                  </a:lnTo>
                  <a:lnTo>
                    <a:pt x="1406" y="13"/>
                  </a:lnTo>
                  <a:lnTo>
                    <a:pt x="1407" y="19"/>
                  </a:lnTo>
                  <a:lnTo>
                    <a:pt x="1407" y="25"/>
                  </a:lnTo>
                  <a:lnTo>
                    <a:pt x="1407" y="32"/>
                  </a:lnTo>
                  <a:lnTo>
                    <a:pt x="1407" y="38"/>
                  </a:lnTo>
                  <a:lnTo>
                    <a:pt x="1407" y="44"/>
                  </a:lnTo>
                  <a:lnTo>
                    <a:pt x="1407" y="51"/>
                  </a:lnTo>
                  <a:lnTo>
                    <a:pt x="1407" y="54"/>
                  </a:lnTo>
                  <a:lnTo>
                    <a:pt x="1407" y="58"/>
                  </a:lnTo>
                  <a:lnTo>
                    <a:pt x="1407" y="61"/>
                  </a:lnTo>
                  <a:lnTo>
                    <a:pt x="1407" y="64"/>
                  </a:lnTo>
                  <a:lnTo>
                    <a:pt x="1407" y="67"/>
                  </a:lnTo>
                  <a:lnTo>
                    <a:pt x="1407" y="71"/>
                  </a:lnTo>
                  <a:lnTo>
                    <a:pt x="1407" y="75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772520" y="1036800"/>
              <a:ext cx="573120" cy="30240"/>
            </a:xfrm>
            <a:custGeom>
              <a:avLst/>
              <a:gdLst/>
              <a:ahLst/>
              <a:rect l="l" t="t" r="r" b="b"/>
              <a:pathLst>
                <a:path w="1407" h="78">
                  <a:moveTo>
                    <a:pt x="1407" y="78"/>
                  </a:moveTo>
                  <a:lnTo>
                    <a:pt x="899" y="78"/>
                  </a:lnTo>
                  <a:lnTo>
                    <a:pt x="899" y="78"/>
                  </a:lnTo>
                  <a:lnTo>
                    <a:pt x="899" y="77"/>
                  </a:lnTo>
                  <a:lnTo>
                    <a:pt x="899" y="77"/>
                  </a:lnTo>
                  <a:lnTo>
                    <a:pt x="899" y="76"/>
                  </a:lnTo>
                  <a:lnTo>
                    <a:pt x="899" y="76"/>
                  </a:lnTo>
                  <a:lnTo>
                    <a:pt x="899" y="75"/>
                  </a:lnTo>
                  <a:lnTo>
                    <a:pt x="899" y="75"/>
                  </a:lnTo>
                  <a:lnTo>
                    <a:pt x="899" y="74"/>
                  </a:lnTo>
                  <a:lnTo>
                    <a:pt x="899" y="64"/>
                  </a:lnTo>
                  <a:lnTo>
                    <a:pt x="899" y="55"/>
                  </a:lnTo>
                  <a:lnTo>
                    <a:pt x="898" y="46"/>
                  </a:lnTo>
                  <a:lnTo>
                    <a:pt x="898" y="37"/>
                  </a:lnTo>
                  <a:lnTo>
                    <a:pt x="897" y="28"/>
                  </a:lnTo>
                  <a:lnTo>
                    <a:pt x="896" y="18"/>
                  </a:lnTo>
                  <a:lnTo>
                    <a:pt x="896" y="10"/>
                  </a:lnTo>
                  <a:lnTo>
                    <a:pt x="895" y="0"/>
                  </a:lnTo>
                  <a:lnTo>
                    <a:pt x="1403" y="0"/>
                  </a:lnTo>
                  <a:lnTo>
                    <a:pt x="1405" y="10"/>
                  </a:lnTo>
                  <a:lnTo>
                    <a:pt x="1405" y="19"/>
                  </a:lnTo>
                  <a:lnTo>
                    <a:pt x="1406" y="30"/>
                  </a:lnTo>
                  <a:lnTo>
                    <a:pt x="1406" y="39"/>
                  </a:lnTo>
                  <a:lnTo>
                    <a:pt x="1406" y="49"/>
                  </a:lnTo>
                  <a:lnTo>
                    <a:pt x="1407" y="58"/>
                  </a:lnTo>
                  <a:lnTo>
                    <a:pt x="1407" y="69"/>
                  </a:lnTo>
                  <a:lnTo>
                    <a:pt x="1407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772520" y="1020240"/>
              <a:ext cx="573120" cy="32760"/>
            </a:xfrm>
            <a:custGeom>
              <a:avLst/>
              <a:gdLst/>
              <a:ahLst/>
              <a:rect l="l" t="t" r="r" b="b"/>
              <a:pathLst>
                <a:path w="1406" h="77">
                  <a:moveTo>
                    <a:pt x="1406" y="77"/>
                  </a:moveTo>
                  <a:lnTo>
                    <a:pt x="898" y="77"/>
                  </a:lnTo>
                  <a:lnTo>
                    <a:pt x="897" y="68"/>
                  </a:lnTo>
                  <a:lnTo>
                    <a:pt x="897" y="57"/>
                  </a:lnTo>
                  <a:lnTo>
                    <a:pt x="896" y="48"/>
                  </a:lnTo>
                  <a:lnTo>
                    <a:pt x="895" y="38"/>
                  </a:lnTo>
                  <a:lnTo>
                    <a:pt x="893" y="28"/>
                  </a:lnTo>
                  <a:lnTo>
                    <a:pt x="892" y="18"/>
                  </a:lnTo>
                  <a:lnTo>
                    <a:pt x="890" y="9"/>
                  </a:lnTo>
                  <a:lnTo>
                    <a:pt x="889" y="0"/>
                  </a:lnTo>
                  <a:lnTo>
                    <a:pt x="1400" y="0"/>
                  </a:lnTo>
                  <a:lnTo>
                    <a:pt x="1401" y="10"/>
                  </a:lnTo>
                  <a:lnTo>
                    <a:pt x="1402" y="19"/>
                  </a:lnTo>
                  <a:lnTo>
                    <a:pt x="1402" y="29"/>
                  </a:lnTo>
                  <a:lnTo>
                    <a:pt x="1403" y="38"/>
                  </a:lnTo>
                  <a:lnTo>
                    <a:pt x="1405" y="48"/>
                  </a:lnTo>
                  <a:lnTo>
                    <a:pt x="1405" y="57"/>
                  </a:lnTo>
                  <a:lnTo>
                    <a:pt x="1406" y="68"/>
                  </a:lnTo>
                  <a:lnTo>
                    <a:pt x="1406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772520" y="1005840"/>
              <a:ext cx="571320" cy="30960"/>
            </a:xfrm>
            <a:custGeom>
              <a:avLst/>
              <a:gdLst/>
              <a:ahLst/>
              <a:rect l="l" t="t" r="r" b="b"/>
              <a:pathLst>
                <a:path w="1403" h="76">
                  <a:moveTo>
                    <a:pt x="1403" y="76"/>
                  </a:moveTo>
                  <a:lnTo>
                    <a:pt x="895" y="76"/>
                  </a:lnTo>
                  <a:lnTo>
                    <a:pt x="893" y="67"/>
                  </a:lnTo>
                  <a:lnTo>
                    <a:pt x="892" y="56"/>
                  </a:lnTo>
                  <a:lnTo>
                    <a:pt x="890" y="47"/>
                  </a:lnTo>
                  <a:lnTo>
                    <a:pt x="889" y="38"/>
                  </a:lnTo>
                  <a:lnTo>
                    <a:pt x="887" y="27"/>
                  </a:lnTo>
                  <a:lnTo>
                    <a:pt x="885" y="18"/>
                  </a:lnTo>
                  <a:lnTo>
                    <a:pt x="882" y="8"/>
                  </a:lnTo>
                  <a:lnTo>
                    <a:pt x="880" y="0"/>
                  </a:lnTo>
                  <a:lnTo>
                    <a:pt x="1396" y="0"/>
                  </a:lnTo>
                  <a:lnTo>
                    <a:pt x="1397" y="9"/>
                  </a:lnTo>
                  <a:lnTo>
                    <a:pt x="1398" y="19"/>
                  </a:lnTo>
                  <a:lnTo>
                    <a:pt x="1399" y="28"/>
                  </a:lnTo>
                  <a:lnTo>
                    <a:pt x="1400" y="38"/>
                  </a:lnTo>
                  <a:lnTo>
                    <a:pt x="1401" y="47"/>
                  </a:lnTo>
                  <a:lnTo>
                    <a:pt x="1402" y="57"/>
                  </a:lnTo>
                  <a:lnTo>
                    <a:pt x="1402" y="67"/>
                  </a:lnTo>
                  <a:lnTo>
                    <a:pt x="140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772520" y="989640"/>
              <a:ext cx="571320" cy="30240"/>
            </a:xfrm>
            <a:custGeom>
              <a:avLst/>
              <a:gdLst/>
              <a:ahLst/>
              <a:rect l="l" t="t" r="r" b="b"/>
              <a:pathLst>
                <a:path w="1400" h="77">
                  <a:moveTo>
                    <a:pt x="1400" y="77"/>
                  </a:moveTo>
                  <a:lnTo>
                    <a:pt x="889" y="77"/>
                  </a:lnTo>
                  <a:lnTo>
                    <a:pt x="887" y="67"/>
                  </a:lnTo>
                  <a:lnTo>
                    <a:pt x="884" y="57"/>
                  </a:lnTo>
                  <a:lnTo>
                    <a:pt x="882" y="47"/>
                  </a:lnTo>
                  <a:lnTo>
                    <a:pt x="880" y="38"/>
                  </a:lnTo>
                  <a:lnTo>
                    <a:pt x="876" y="28"/>
                  </a:lnTo>
                  <a:lnTo>
                    <a:pt x="873" y="19"/>
                  </a:lnTo>
                  <a:lnTo>
                    <a:pt x="870" y="9"/>
                  </a:lnTo>
                  <a:lnTo>
                    <a:pt x="866" y="0"/>
                  </a:lnTo>
                  <a:lnTo>
                    <a:pt x="1390" y="0"/>
                  </a:lnTo>
                  <a:lnTo>
                    <a:pt x="1391" y="9"/>
                  </a:lnTo>
                  <a:lnTo>
                    <a:pt x="1393" y="19"/>
                  </a:lnTo>
                  <a:lnTo>
                    <a:pt x="1394" y="28"/>
                  </a:lnTo>
                  <a:lnTo>
                    <a:pt x="1395" y="38"/>
                  </a:lnTo>
                  <a:lnTo>
                    <a:pt x="1397" y="48"/>
                  </a:lnTo>
                  <a:lnTo>
                    <a:pt x="1398" y="58"/>
                  </a:lnTo>
                  <a:lnTo>
                    <a:pt x="1399" y="67"/>
                  </a:lnTo>
                  <a:lnTo>
                    <a:pt x="1400" y="77"/>
                  </a:lnTo>
                  <a:close/>
                  <a:moveTo>
                    <a:pt x="485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772520" y="973440"/>
              <a:ext cx="569520" cy="32400"/>
            </a:xfrm>
            <a:custGeom>
              <a:avLst/>
              <a:gdLst/>
              <a:ahLst/>
              <a:rect l="l" t="t" r="r" b="b"/>
              <a:pathLst>
                <a:path w="1396" h="78">
                  <a:moveTo>
                    <a:pt x="1396" y="78"/>
                  </a:moveTo>
                  <a:lnTo>
                    <a:pt x="880" y="78"/>
                  </a:lnTo>
                  <a:lnTo>
                    <a:pt x="876" y="67"/>
                  </a:lnTo>
                  <a:lnTo>
                    <a:pt x="873" y="57"/>
                  </a:lnTo>
                  <a:lnTo>
                    <a:pt x="869" y="47"/>
                  </a:lnTo>
                  <a:lnTo>
                    <a:pt x="866" y="38"/>
                  </a:lnTo>
                  <a:lnTo>
                    <a:pt x="862" y="28"/>
                  </a:lnTo>
                  <a:lnTo>
                    <a:pt x="857" y="19"/>
                  </a:lnTo>
                  <a:lnTo>
                    <a:pt x="853" y="9"/>
                  </a:lnTo>
                  <a:lnTo>
                    <a:pt x="849" y="0"/>
                  </a:lnTo>
                  <a:lnTo>
                    <a:pt x="1382" y="0"/>
                  </a:lnTo>
                  <a:lnTo>
                    <a:pt x="1385" y="9"/>
                  </a:lnTo>
                  <a:lnTo>
                    <a:pt x="1386" y="19"/>
                  </a:lnTo>
                  <a:lnTo>
                    <a:pt x="1388" y="28"/>
                  </a:lnTo>
                  <a:lnTo>
                    <a:pt x="1390" y="38"/>
                  </a:lnTo>
                  <a:lnTo>
                    <a:pt x="1391" y="48"/>
                  </a:lnTo>
                  <a:lnTo>
                    <a:pt x="1393" y="58"/>
                  </a:lnTo>
                  <a:lnTo>
                    <a:pt x="1394" y="67"/>
                  </a:lnTo>
                  <a:lnTo>
                    <a:pt x="1396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772520" y="956880"/>
              <a:ext cx="567000" cy="32400"/>
            </a:xfrm>
            <a:custGeom>
              <a:avLst/>
              <a:gdLst/>
              <a:ahLst/>
              <a:rect l="l" t="t" r="r" b="b"/>
              <a:pathLst>
                <a:path w="1390" h="78">
                  <a:moveTo>
                    <a:pt x="1390" y="78"/>
                  </a:moveTo>
                  <a:lnTo>
                    <a:pt x="866" y="78"/>
                  </a:lnTo>
                  <a:lnTo>
                    <a:pt x="862" y="67"/>
                  </a:lnTo>
                  <a:lnTo>
                    <a:pt x="857" y="58"/>
                  </a:lnTo>
                  <a:lnTo>
                    <a:pt x="853" y="47"/>
                  </a:lnTo>
                  <a:lnTo>
                    <a:pt x="848" y="38"/>
                  </a:lnTo>
                  <a:lnTo>
                    <a:pt x="843" y="29"/>
                  </a:lnTo>
                  <a:lnTo>
                    <a:pt x="838" y="19"/>
                  </a:lnTo>
                  <a:lnTo>
                    <a:pt x="832" y="10"/>
                  </a:lnTo>
                  <a:lnTo>
                    <a:pt x="826" y="0"/>
                  </a:lnTo>
                  <a:lnTo>
                    <a:pt x="1373" y="0"/>
                  </a:lnTo>
                  <a:lnTo>
                    <a:pt x="1376" y="10"/>
                  </a:lnTo>
                  <a:lnTo>
                    <a:pt x="1378" y="19"/>
                  </a:lnTo>
                  <a:lnTo>
                    <a:pt x="1380" y="29"/>
                  </a:lnTo>
                  <a:lnTo>
                    <a:pt x="1382" y="39"/>
                  </a:lnTo>
                  <a:lnTo>
                    <a:pt x="1385" y="48"/>
                  </a:lnTo>
                  <a:lnTo>
                    <a:pt x="1386" y="58"/>
                  </a:lnTo>
                  <a:lnTo>
                    <a:pt x="1388" y="67"/>
                  </a:lnTo>
                  <a:lnTo>
                    <a:pt x="1390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772520" y="940320"/>
              <a:ext cx="563040" cy="32760"/>
            </a:xfrm>
            <a:custGeom>
              <a:avLst/>
              <a:gdLst/>
              <a:ahLst/>
              <a:rect l="l" t="t" r="r" b="b"/>
              <a:pathLst>
                <a:path w="1382" h="78">
                  <a:moveTo>
                    <a:pt x="1382" y="78"/>
                  </a:moveTo>
                  <a:lnTo>
                    <a:pt x="849" y="78"/>
                  </a:lnTo>
                  <a:lnTo>
                    <a:pt x="843" y="68"/>
                  </a:lnTo>
                  <a:lnTo>
                    <a:pt x="838" y="58"/>
                  </a:lnTo>
                  <a:lnTo>
                    <a:pt x="831" y="48"/>
                  </a:lnTo>
                  <a:lnTo>
                    <a:pt x="825" y="38"/>
                  </a:lnTo>
                  <a:lnTo>
                    <a:pt x="819" y="29"/>
                  </a:lnTo>
                  <a:lnTo>
                    <a:pt x="812" y="19"/>
                  </a:lnTo>
                  <a:lnTo>
                    <a:pt x="805" y="10"/>
                  </a:lnTo>
                  <a:lnTo>
                    <a:pt x="798" y="0"/>
                  </a:lnTo>
                  <a:lnTo>
                    <a:pt x="1363" y="0"/>
                  </a:lnTo>
                  <a:lnTo>
                    <a:pt x="1366" y="10"/>
                  </a:lnTo>
                  <a:lnTo>
                    <a:pt x="1368" y="19"/>
                  </a:lnTo>
                  <a:lnTo>
                    <a:pt x="1371" y="30"/>
                  </a:lnTo>
                  <a:lnTo>
                    <a:pt x="1373" y="39"/>
                  </a:lnTo>
                  <a:lnTo>
                    <a:pt x="1375" y="49"/>
                  </a:lnTo>
                  <a:lnTo>
                    <a:pt x="1378" y="58"/>
                  </a:lnTo>
                  <a:lnTo>
                    <a:pt x="1380" y="69"/>
                  </a:lnTo>
                  <a:lnTo>
                    <a:pt x="1382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772520" y="925920"/>
              <a:ext cx="559440" cy="30960"/>
            </a:xfrm>
            <a:custGeom>
              <a:avLst/>
              <a:gdLst/>
              <a:ahLst/>
              <a:rect l="l" t="t" r="r" b="b"/>
              <a:pathLst>
                <a:path w="1373" h="78">
                  <a:moveTo>
                    <a:pt x="1373" y="78"/>
                  </a:moveTo>
                  <a:lnTo>
                    <a:pt x="826" y="78"/>
                  </a:lnTo>
                  <a:lnTo>
                    <a:pt x="822" y="72"/>
                  </a:lnTo>
                  <a:lnTo>
                    <a:pt x="817" y="65"/>
                  </a:lnTo>
                  <a:lnTo>
                    <a:pt x="811" y="58"/>
                  </a:lnTo>
                  <a:lnTo>
                    <a:pt x="807" y="51"/>
                  </a:lnTo>
                  <a:lnTo>
                    <a:pt x="802" y="45"/>
                  </a:lnTo>
                  <a:lnTo>
                    <a:pt x="796" y="38"/>
                  </a:lnTo>
                  <a:lnTo>
                    <a:pt x="790" y="32"/>
                  </a:lnTo>
                  <a:lnTo>
                    <a:pt x="785" y="26"/>
                  </a:lnTo>
                  <a:lnTo>
                    <a:pt x="782" y="23"/>
                  </a:lnTo>
                  <a:lnTo>
                    <a:pt x="779" y="19"/>
                  </a:lnTo>
                  <a:lnTo>
                    <a:pt x="776" y="16"/>
                  </a:lnTo>
                  <a:lnTo>
                    <a:pt x="772" y="13"/>
                  </a:lnTo>
                  <a:lnTo>
                    <a:pt x="769" y="10"/>
                  </a:lnTo>
                  <a:lnTo>
                    <a:pt x="766" y="7"/>
                  </a:lnTo>
                  <a:lnTo>
                    <a:pt x="763" y="4"/>
                  </a:lnTo>
                  <a:lnTo>
                    <a:pt x="760" y="0"/>
                  </a:lnTo>
                  <a:lnTo>
                    <a:pt x="1350" y="0"/>
                  </a:lnTo>
                  <a:lnTo>
                    <a:pt x="1353" y="10"/>
                  </a:lnTo>
                  <a:lnTo>
                    <a:pt x="1356" y="20"/>
                  </a:lnTo>
                  <a:lnTo>
                    <a:pt x="1359" y="30"/>
                  </a:lnTo>
                  <a:lnTo>
                    <a:pt x="1363" y="39"/>
                  </a:lnTo>
                  <a:lnTo>
                    <a:pt x="1366" y="49"/>
                  </a:lnTo>
                  <a:lnTo>
                    <a:pt x="1368" y="58"/>
                  </a:lnTo>
                  <a:lnTo>
                    <a:pt x="1371" y="69"/>
                  </a:lnTo>
                  <a:lnTo>
                    <a:pt x="1373" y="78"/>
                  </a:lnTo>
                  <a:close/>
                  <a:moveTo>
                    <a:pt x="48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772520" y="909720"/>
              <a:ext cx="555120" cy="30240"/>
            </a:xfrm>
            <a:custGeom>
              <a:avLst/>
              <a:gdLst/>
              <a:ahLst/>
              <a:rect l="l" t="t" r="r" b="b"/>
              <a:pathLst>
                <a:path w="1363" h="76">
                  <a:moveTo>
                    <a:pt x="1363" y="76"/>
                  </a:moveTo>
                  <a:lnTo>
                    <a:pt x="798" y="76"/>
                  </a:lnTo>
                  <a:lnTo>
                    <a:pt x="796" y="75"/>
                  </a:lnTo>
                  <a:lnTo>
                    <a:pt x="794" y="73"/>
                  </a:lnTo>
                  <a:lnTo>
                    <a:pt x="792" y="71"/>
                  </a:lnTo>
                  <a:lnTo>
                    <a:pt x="791" y="69"/>
                  </a:lnTo>
                  <a:lnTo>
                    <a:pt x="789" y="68"/>
                  </a:lnTo>
                  <a:lnTo>
                    <a:pt x="788" y="66"/>
                  </a:lnTo>
                  <a:lnTo>
                    <a:pt x="786" y="64"/>
                  </a:lnTo>
                  <a:lnTo>
                    <a:pt x="785" y="63"/>
                  </a:lnTo>
                  <a:lnTo>
                    <a:pt x="777" y="53"/>
                  </a:lnTo>
                  <a:lnTo>
                    <a:pt x="767" y="45"/>
                  </a:lnTo>
                  <a:lnTo>
                    <a:pt x="759" y="36"/>
                  </a:lnTo>
                  <a:lnTo>
                    <a:pt x="749" y="28"/>
                  </a:lnTo>
                  <a:lnTo>
                    <a:pt x="740" y="21"/>
                  </a:lnTo>
                  <a:lnTo>
                    <a:pt x="730" y="13"/>
                  </a:lnTo>
                  <a:lnTo>
                    <a:pt x="721" y="6"/>
                  </a:lnTo>
                  <a:lnTo>
                    <a:pt x="710" y="0"/>
                  </a:lnTo>
                  <a:lnTo>
                    <a:pt x="1336" y="0"/>
                  </a:lnTo>
                  <a:lnTo>
                    <a:pt x="1339" y="9"/>
                  </a:lnTo>
                  <a:lnTo>
                    <a:pt x="1344" y="19"/>
                  </a:lnTo>
                  <a:lnTo>
                    <a:pt x="1347" y="28"/>
                  </a:lnTo>
                  <a:lnTo>
                    <a:pt x="1350" y="37"/>
                  </a:lnTo>
                  <a:lnTo>
                    <a:pt x="1353" y="47"/>
                  </a:lnTo>
                  <a:lnTo>
                    <a:pt x="1356" y="57"/>
                  </a:lnTo>
                  <a:lnTo>
                    <a:pt x="1359" y="67"/>
                  </a:lnTo>
                  <a:lnTo>
                    <a:pt x="1363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772520" y="893520"/>
              <a:ext cx="550800" cy="32400"/>
            </a:xfrm>
            <a:custGeom>
              <a:avLst/>
              <a:gdLst/>
              <a:ahLst/>
              <a:rect l="l" t="t" r="r" b="b"/>
              <a:pathLst>
                <a:path w="1350" h="76">
                  <a:moveTo>
                    <a:pt x="1350" y="76"/>
                  </a:moveTo>
                  <a:lnTo>
                    <a:pt x="760" y="76"/>
                  </a:lnTo>
                  <a:lnTo>
                    <a:pt x="746" y="65"/>
                  </a:lnTo>
                  <a:lnTo>
                    <a:pt x="731" y="53"/>
                  </a:lnTo>
                  <a:lnTo>
                    <a:pt x="717" y="42"/>
                  </a:lnTo>
                  <a:lnTo>
                    <a:pt x="701" y="32"/>
                  </a:lnTo>
                  <a:lnTo>
                    <a:pt x="685" y="23"/>
                  </a:lnTo>
                  <a:lnTo>
                    <a:pt x="668" y="15"/>
                  </a:lnTo>
                  <a:lnTo>
                    <a:pt x="652" y="6"/>
                  </a:lnTo>
                  <a:lnTo>
                    <a:pt x="634" y="0"/>
                  </a:lnTo>
                  <a:lnTo>
                    <a:pt x="1319" y="0"/>
                  </a:lnTo>
                  <a:lnTo>
                    <a:pt x="1324" y="9"/>
                  </a:lnTo>
                  <a:lnTo>
                    <a:pt x="1328" y="19"/>
                  </a:lnTo>
                  <a:lnTo>
                    <a:pt x="1332" y="28"/>
                  </a:lnTo>
                  <a:lnTo>
                    <a:pt x="1335" y="38"/>
                  </a:lnTo>
                  <a:lnTo>
                    <a:pt x="1339" y="47"/>
                  </a:lnTo>
                  <a:lnTo>
                    <a:pt x="1344" y="58"/>
                  </a:lnTo>
                  <a:lnTo>
                    <a:pt x="1347" y="67"/>
                  </a:lnTo>
                  <a:lnTo>
                    <a:pt x="1350" y="76"/>
                  </a:lnTo>
                  <a:close/>
                  <a:moveTo>
                    <a:pt x="48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85" y="76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772520" y="879120"/>
              <a:ext cx="545040" cy="30240"/>
            </a:xfrm>
            <a:custGeom>
              <a:avLst/>
              <a:gdLst/>
              <a:ahLst/>
              <a:rect l="l" t="t" r="r" b="b"/>
              <a:pathLst>
                <a:path w="1336" h="78">
                  <a:moveTo>
                    <a:pt x="1336" y="78"/>
                  </a:moveTo>
                  <a:lnTo>
                    <a:pt x="710" y="78"/>
                  </a:lnTo>
                  <a:lnTo>
                    <a:pt x="699" y="69"/>
                  </a:lnTo>
                  <a:lnTo>
                    <a:pt x="686" y="63"/>
                  </a:lnTo>
                  <a:lnTo>
                    <a:pt x="674" y="56"/>
                  </a:lnTo>
                  <a:lnTo>
                    <a:pt x="661" y="49"/>
                  </a:lnTo>
                  <a:lnTo>
                    <a:pt x="647" y="44"/>
                  </a:lnTo>
                  <a:lnTo>
                    <a:pt x="634" y="39"/>
                  </a:lnTo>
                  <a:lnTo>
                    <a:pt x="620" y="34"/>
                  </a:lnTo>
                  <a:lnTo>
                    <a:pt x="607" y="29"/>
                  </a:lnTo>
                  <a:lnTo>
                    <a:pt x="578" y="22"/>
                  </a:lnTo>
                  <a:lnTo>
                    <a:pt x="548" y="17"/>
                  </a:lnTo>
                  <a:lnTo>
                    <a:pt x="517" y="14"/>
                  </a:lnTo>
                  <a:lnTo>
                    <a:pt x="485" y="12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301" y="0"/>
                  </a:lnTo>
                  <a:lnTo>
                    <a:pt x="1301" y="0"/>
                  </a:lnTo>
                  <a:lnTo>
                    <a:pt x="1302" y="0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1"/>
                  </a:lnTo>
                  <a:lnTo>
                    <a:pt x="1302" y="2"/>
                  </a:lnTo>
                  <a:lnTo>
                    <a:pt x="1302" y="2"/>
                  </a:lnTo>
                  <a:lnTo>
                    <a:pt x="1307" y="12"/>
                  </a:lnTo>
                  <a:lnTo>
                    <a:pt x="1311" y="21"/>
                  </a:lnTo>
                  <a:lnTo>
                    <a:pt x="1315" y="29"/>
                  </a:lnTo>
                  <a:lnTo>
                    <a:pt x="1319" y="39"/>
                  </a:lnTo>
                  <a:lnTo>
                    <a:pt x="1324" y="48"/>
                  </a:lnTo>
                  <a:lnTo>
                    <a:pt x="1328" y="58"/>
                  </a:lnTo>
                  <a:lnTo>
                    <a:pt x="1332" y="67"/>
                  </a:lnTo>
                  <a:lnTo>
                    <a:pt x="1336" y="7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772520" y="862920"/>
              <a:ext cx="536760" cy="30240"/>
            </a:xfrm>
            <a:custGeom>
              <a:avLst/>
              <a:gdLst/>
              <a:ahLst/>
              <a:rect l="l" t="t" r="r" b="b"/>
              <a:pathLst>
                <a:path w="1319" h="78">
                  <a:moveTo>
                    <a:pt x="1319" y="78"/>
                  </a:moveTo>
                  <a:lnTo>
                    <a:pt x="634" y="78"/>
                  </a:lnTo>
                  <a:lnTo>
                    <a:pt x="617" y="72"/>
                  </a:lnTo>
                  <a:lnTo>
                    <a:pt x="599" y="66"/>
                  </a:lnTo>
                  <a:lnTo>
                    <a:pt x="581" y="62"/>
                  </a:lnTo>
                  <a:lnTo>
                    <a:pt x="563" y="58"/>
                  </a:lnTo>
                  <a:lnTo>
                    <a:pt x="545" y="56"/>
                  </a:lnTo>
                  <a:lnTo>
                    <a:pt x="525" y="53"/>
                  </a:lnTo>
                  <a:lnTo>
                    <a:pt x="506" y="52"/>
                  </a:lnTo>
                  <a:lnTo>
                    <a:pt x="485" y="51"/>
                  </a:lnTo>
                  <a:lnTo>
                    <a:pt x="48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3" y="5"/>
                  </a:lnTo>
                  <a:lnTo>
                    <a:pt x="1286" y="11"/>
                  </a:lnTo>
                  <a:lnTo>
                    <a:pt x="1288" y="16"/>
                  </a:lnTo>
                  <a:lnTo>
                    <a:pt x="1291" y="20"/>
                  </a:lnTo>
                  <a:lnTo>
                    <a:pt x="1294" y="25"/>
                  </a:lnTo>
                  <a:lnTo>
                    <a:pt x="1296" y="31"/>
                  </a:lnTo>
                  <a:lnTo>
                    <a:pt x="1300" y="36"/>
                  </a:lnTo>
                  <a:lnTo>
                    <a:pt x="1302" y="41"/>
                  </a:lnTo>
                  <a:lnTo>
                    <a:pt x="1305" y="45"/>
                  </a:lnTo>
                  <a:lnTo>
                    <a:pt x="1307" y="51"/>
                  </a:lnTo>
                  <a:lnTo>
                    <a:pt x="1309" y="55"/>
                  </a:lnTo>
                  <a:lnTo>
                    <a:pt x="1311" y="59"/>
                  </a:lnTo>
                  <a:lnTo>
                    <a:pt x="1313" y="64"/>
                  </a:lnTo>
                  <a:lnTo>
                    <a:pt x="1315" y="68"/>
                  </a:lnTo>
                  <a:lnTo>
                    <a:pt x="1317" y="73"/>
                  </a:lnTo>
                  <a:lnTo>
                    <a:pt x="1319" y="78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772520" y="846360"/>
              <a:ext cx="530640" cy="32760"/>
            </a:xfrm>
            <a:custGeom>
              <a:avLst/>
              <a:gdLst/>
              <a:ahLst/>
              <a:rect l="l" t="t" r="r" b="b"/>
              <a:pathLst>
                <a:path w="1301" h="78">
                  <a:moveTo>
                    <a:pt x="130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55" y="0"/>
                  </a:lnTo>
                  <a:lnTo>
                    <a:pt x="1262" y="10"/>
                  </a:lnTo>
                  <a:lnTo>
                    <a:pt x="1268" y="19"/>
                  </a:lnTo>
                  <a:lnTo>
                    <a:pt x="1273" y="29"/>
                  </a:lnTo>
                  <a:lnTo>
                    <a:pt x="1280" y="38"/>
                  </a:lnTo>
                  <a:lnTo>
                    <a:pt x="1285" y="49"/>
                  </a:lnTo>
                  <a:lnTo>
                    <a:pt x="1290" y="58"/>
                  </a:lnTo>
                  <a:lnTo>
                    <a:pt x="1295" y="67"/>
                  </a:lnTo>
                  <a:lnTo>
                    <a:pt x="1301" y="78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72520" y="830160"/>
              <a:ext cx="522360" cy="32760"/>
            </a:xfrm>
            <a:custGeom>
              <a:avLst/>
              <a:gdLst/>
              <a:ahLst/>
              <a:rect l="l" t="t" r="r" b="b"/>
              <a:pathLst>
                <a:path w="1280" h="78">
                  <a:moveTo>
                    <a:pt x="1280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228" y="0"/>
                  </a:lnTo>
                  <a:lnTo>
                    <a:pt x="1235" y="10"/>
                  </a:lnTo>
                  <a:lnTo>
                    <a:pt x="1242" y="19"/>
                  </a:lnTo>
                  <a:lnTo>
                    <a:pt x="1249" y="29"/>
                  </a:lnTo>
                  <a:lnTo>
                    <a:pt x="1255" y="38"/>
                  </a:lnTo>
                  <a:lnTo>
                    <a:pt x="1262" y="49"/>
                  </a:lnTo>
                  <a:lnTo>
                    <a:pt x="1268" y="58"/>
                  </a:lnTo>
                  <a:lnTo>
                    <a:pt x="1273" y="69"/>
                  </a:lnTo>
                  <a:lnTo>
                    <a:pt x="1280" y="78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772520" y="815760"/>
              <a:ext cx="511920" cy="30240"/>
            </a:xfrm>
            <a:custGeom>
              <a:avLst/>
              <a:gdLst/>
              <a:ahLst/>
              <a:rect l="l" t="t" r="r" b="b"/>
              <a:pathLst>
                <a:path w="1255" h="76">
                  <a:moveTo>
                    <a:pt x="125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98" y="0"/>
                  </a:lnTo>
                  <a:lnTo>
                    <a:pt x="1205" y="8"/>
                  </a:lnTo>
                  <a:lnTo>
                    <a:pt x="1213" y="17"/>
                  </a:lnTo>
                  <a:lnTo>
                    <a:pt x="1221" y="27"/>
                  </a:lnTo>
                  <a:lnTo>
                    <a:pt x="1228" y="37"/>
                  </a:lnTo>
                  <a:lnTo>
                    <a:pt x="1235" y="47"/>
                  </a:lnTo>
                  <a:lnTo>
                    <a:pt x="1242" y="56"/>
                  </a:lnTo>
                  <a:lnTo>
                    <a:pt x="1249" y="67"/>
                  </a:lnTo>
                  <a:lnTo>
                    <a:pt x="1255" y="76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772520" y="799560"/>
              <a:ext cx="500040" cy="30240"/>
            </a:xfrm>
            <a:custGeom>
              <a:avLst/>
              <a:gdLst/>
              <a:ahLst/>
              <a:rect l="l" t="t" r="r" b="b"/>
              <a:pathLst>
                <a:path w="1228" h="76">
                  <a:moveTo>
                    <a:pt x="1228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71" y="9"/>
                  </a:lnTo>
                  <a:lnTo>
                    <a:pt x="1180" y="18"/>
                  </a:lnTo>
                  <a:lnTo>
                    <a:pt x="1188" y="27"/>
                  </a:lnTo>
                  <a:lnTo>
                    <a:pt x="1197" y="38"/>
                  </a:lnTo>
                  <a:lnTo>
                    <a:pt x="1205" y="47"/>
                  </a:lnTo>
                  <a:lnTo>
                    <a:pt x="1213" y="56"/>
                  </a:lnTo>
                  <a:lnTo>
                    <a:pt x="1221" y="67"/>
                  </a:lnTo>
                  <a:lnTo>
                    <a:pt x="1228" y="76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772520" y="783360"/>
              <a:ext cx="487440" cy="32400"/>
            </a:xfrm>
            <a:custGeom>
              <a:avLst/>
              <a:gdLst/>
              <a:ahLst/>
              <a:rect l="l" t="t" r="r" b="b"/>
              <a:pathLst>
                <a:path w="1198" h="78">
                  <a:moveTo>
                    <a:pt x="119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123" y="0"/>
                  </a:lnTo>
                  <a:lnTo>
                    <a:pt x="1133" y="9"/>
                  </a:lnTo>
                  <a:lnTo>
                    <a:pt x="1143" y="19"/>
                  </a:lnTo>
                  <a:lnTo>
                    <a:pt x="1153" y="28"/>
                  </a:lnTo>
                  <a:lnTo>
                    <a:pt x="1162" y="38"/>
                  </a:lnTo>
                  <a:lnTo>
                    <a:pt x="1171" y="47"/>
                  </a:lnTo>
                  <a:lnTo>
                    <a:pt x="1180" y="57"/>
                  </a:lnTo>
                  <a:lnTo>
                    <a:pt x="1189" y="67"/>
                  </a:lnTo>
                  <a:lnTo>
                    <a:pt x="1198" y="78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772520" y="767160"/>
              <a:ext cx="473040" cy="32400"/>
            </a:xfrm>
            <a:custGeom>
              <a:avLst/>
              <a:gdLst/>
              <a:ahLst/>
              <a:rect l="l" t="t" r="r" b="b"/>
              <a:pathLst>
                <a:path w="1163" h="78">
                  <a:moveTo>
                    <a:pt x="116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77" y="0"/>
                  </a:lnTo>
                  <a:lnTo>
                    <a:pt x="1088" y="10"/>
                  </a:lnTo>
                  <a:lnTo>
                    <a:pt x="1100" y="19"/>
                  </a:lnTo>
                  <a:lnTo>
                    <a:pt x="1111" y="28"/>
                  </a:lnTo>
                  <a:lnTo>
                    <a:pt x="1122" y="38"/>
                  </a:lnTo>
                  <a:lnTo>
                    <a:pt x="1133" y="47"/>
                  </a:lnTo>
                  <a:lnTo>
                    <a:pt x="1143" y="57"/>
                  </a:lnTo>
                  <a:lnTo>
                    <a:pt x="1153" y="67"/>
                  </a:lnTo>
                  <a:lnTo>
                    <a:pt x="1163" y="78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772520" y="752760"/>
              <a:ext cx="457200" cy="30240"/>
            </a:xfrm>
            <a:custGeom>
              <a:avLst/>
              <a:gdLst/>
              <a:ahLst/>
              <a:rect l="l" t="t" r="r" b="b"/>
              <a:pathLst>
                <a:path w="1123" h="78">
                  <a:moveTo>
                    <a:pt x="1123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37" y="10"/>
                  </a:lnTo>
                  <a:lnTo>
                    <a:pt x="1051" y="19"/>
                  </a:lnTo>
                  <a:lnTo>
                    <a:pt x="1063" y="29"/>
                  </a:lnTo>
                  <a:lnTo>
                    <a:pt x="1076" y="38"/>
                  </a:lnTo>
                  <a:lnTo>
                    <a:pt x="1087" y="47"/>
                  </a:lnTo>
                  <a:lnTo>
                    <a:pt x="1100" y="57"/>
                  </a:lnTo>
                  <a:lnTo>
                    <a:pt x="1112" y="67"/>
                  </a:lnTo>
                  <a:lnTo>
                    <a:pt x="1123" y="78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72520" y="736200"/>
              <a:ext cx="438480" cy="30960"/>
            </a:xfrm>
            <a:custGeom>
              <a:avLst/>
              <a:gdLst/>
              <a:ahLst/>
              <a:rect l="l" t="t" r="r" b="b"/>
              <a:pathLst>
                <a:path w="1077" h="78">
                  <a:moveTo>
                    <a:pt x="1077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961" y="0"/>
                  </a:lnTo>
                  <a:lnTo>
                    <a:pt x="966" y="4"/>
                  </a:lnTo>
                  <a:lnTo>
                    <a:pt x="970" y="6"/>
                  </a:lnTo>
                  <a:lnTo>
                    <a:pt x="974" y="9"/>
                  </a:lnTo>
                  <a:lnTo>
                    <a:pt x="979" y="11"/>
                  </a:lnTo>
                  <a:lnTo>
                    <a:pt x="983" y="13"/>
                  </a:lnTo>
                  <a:lnTo>
                    <a:pt x="988" y="16"/>
                  </a:lnTo>
                  <a:lnTo>
                    <a:pt x="992" y="18"/>
                  </a:lnTo>
                  <a:lnTo>
                    <a:pt x="996" y="21"/>
                  </a:lnTo>
                  <a:lnTo>
                    <a:pt x="1007" y="28"/>
                  </a:lnTo>
                  <a:lnTo>
                    <a:pt x="1017" y="35"/>
                  </a:lnTo>
                  <a:lnTo>
                    <a:pt x="1028" y="41"/>
                  </a:lnTo>
                  <a:lnTo>
                    <a:pt x="1038" y="49"/>
                  </a:lnTo>
                  <a:lnTo>
                    <a:pt x="1048" y="56"/>
                  </a:lnTo>
                  <a:lnTo>
                    <a:pt x="1058" y="63"/>
                  </a:lnTo>
                  <a:lnTo>
                    <a:pt x="1067" y="71"/>
                  </a:lnTo>
                  <a:lnTo>
                    <a:pt x="1077" y="78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772520" y="719640"/>
              <a:ext cx="416160" cy="32760"/>
            </a:xfrm>
            <a:custGeom>
              <a:avLst/>
              <a:gdLst/>
              <a:ahLst/>
              <a:rect l="l" t="t" r="r" b="b"/>
              <a:pathLst>
                <a:path w="1024" h="76">
                  <a:moveTo>
                    <a:pt x="102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6" y="6"/>
                  </a:lnTo>
                  <a:lnTo>
                    <a:pt x="911" y="12"/>
                  </a:lnTo>
                  <a:lnTo>
                    <a:pt x="926" y="20"/>
                  </a:lnTo>
                  <a:lnTo>
                    <a:pt x="940" y="27"/>
                  </a:lnTo>
                  <a:lnTo>
                    <a:pt x="954" y="34"/>
                  </a:lnTo>
                  <a:lnTo>
                    <a:pt x="969" y="42"/>
                  </a:lnTo>
                  <a:lnTo>
                    <a:pt x="982" y="50"/>
                  </a:lnTo>
                  <a:lnTo>
                    <a:pt x="996" y="58"/>
                  </a:lnTo>
                  <a:lnTo>
                    <a:pt x="1000" y="60"/>
                  </a:lnTo>
                  <a:lnTo>
                    <a:pt x="1003" y="63"/>
                  </a:lnTo>
                  <a:lnTo>
                    <a:pt x="1007" y="65"/>
                  </a:lnTo>
                  <a:lnTo>
                    <a:pt x="1011" y="68"/>
                  </a:lnTo>
                  <a:lnTo>
                    <a:pt x="1014" y="70"/>
                  </a:lnTo>
                  <a:lnTo>
                    <a:pt x="1017" y="72"/>
                  </a:lnTo>
                  <a:lnTo>
                    <a:pt x="1021" y="74"/>
                  </a:lnTo>
                  <a:lnTo>
                    <a:pt x="1024" y="76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772520" y="705600"/>
              <a:ext cx="391680" cy="30240"/>
            </a:xfrm>
            <a:custGeom>
              <a:avLst/>
              <a:gdLst/>
              <a:ahLst/>
              <a:rect l="l" t="t" r="r" b="b"/>
              <a:pathLst>
                <a:path w="961" h="76">
                  <a:moveTo>
                    <a:pt x="961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93" y="7"/>
                  </a:lnTo>
                  <a:lnTo>
                    <a:pt x="819" y="14"/>
                  </a:lnTo>
                  <a:lnTo>
                    <a:pt x="844" y="24"/>
                  </a:lnTo>
                  <a:lnTo>
                    <a:pt x="868" y="33"/>
                  </a:lnTo>
                  <a:lnTo>
                    <a:pt x="892" y="43"/>
                  </a:lnTo>
                  <a:lnTo>
                    <a:pt x="915" y="53"/>
                  </a:lnTo>
                  <a:lnTo>
                    <a:pt x="938" y="65"/>
                  </a:lnTo>
                  <a:lnTo>
                    <a:pt x="961" y="76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772520" y="689400"/>
              <a:ext cx="358920" cy="30240"/>
            </a:xfrm>
            <a:custGeom>
              <a:avLst/>
              <a:gdLst/>
              <a:ahLst/>
              <a:rect l="l" t="t" r="r" b="b"/>
              <a:pathLst>
                <a:path w="881" h="78">
                  <a:moveTo>
                    <a:pt x="881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534" y="0"/>
                  </a:lnTo>
                  <a:lnTo>
                    <a:pt x="558" y="2"/>
                  </a:lnTo>
                  <a:lnTo>
                    <a:pt x="582" y="4"/>
                  </a:lnTo>
                  <a:lnTo>
                    <a:pt x="605" y="7"/>
                  </a:lnTo>
                  <a:lnTo>
                    <a:pt x="628" y="10"/>
                  </a:lnTo>
                  <a:lnTo>
                    <a:pt x="650" y="14"/>
                  </a:lnTo>
                  <a:lnTo>
                    <a:pt x="671" y="17"/>
                  </a:lnTo>
                  <a:lnTo>
                    <a:pt x="691" y="21"/>
                  </a:lnTo>
                  <a:lnTo>
                    <a:pt x="710" y="24"/>
                  </a:lnTo>
                  <a:lnTo>
                    <a:pt x="733" y="29"/>
                  </a:lnTo>
                  <a:lnTo>
                    <a:pt x="755" y="35"/>
                  </a:lnTo>
                  <a:lnTo>
                    <a:pt x="777" y="41"/>
                  </a:lnTo>
                  <a:lnTo>
                    <a:pt x="798" y="47"/>
                  </a:lnTo>
                  <a:lnTo>
                    <a:pt x="820" y="53"/>
                  </a:lnTo>
                  <a:lnTo>
                    <a:pt x="840" y="61"/>
                  </a:lnTo>
                  <a:lnTo>
                    <a:pt x="861" y="69"/>
                  </a:lnTo>
                  <a:lnTo>
                    <a:pt x="881" y="78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772520" y="685080"/>
              <a:ext cx="312120" cy="20160"/>
            </a:xfrm>
            <a:custGeom>
              <a:avLst/>
              <a:gdLst/>
              <a:ahLst/>
              <a:rect l="l" t="t" r="r" b="b"/>
              <a:pathLst>
                <a:path w="768" h="49">
                  <a:moveTo>
                    <a:pt x="768" y="49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18" y="36"/>
                  </a:lnTo>
                  <a:lnTo>
                    <a:pt x="725" y="37"/>
                  </a:lnTo>
                  <a:lnTo>
                    <a:pt x="731" y="39"/>
                  </a:lnTo>
                  <a:lnTo>
                    <a:pt x="739" y="41"/>
                  </a:lnTo>
                  <a:lnTo>
                    <a:pt x="746" y="42"/>
                  </a:lnTo>
                  <a:lnTo>
                    <a:pt x="754" y="45"/>
                  </a:lnTo>
                  <a:lnTo>
                    <a:pt x="761" y="47"/>
                  </a:lnTo>
                  <a:lnTo>
                    <a:pt x="768" y="49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772520" y="685080"/>
              <a:ext cx="216360" cy="3960"/>
            </a:xfrm>
            <a:custGeom>
              <a:avLst/>
              <a:gdLst/>
              <a:ahLst/>
              <a:rect l="l" t="t" r="r" b="b"/>
              <a:pathLst>
                <a:path w="534" h="10">
                  <a:moveTo>
                    <a:pt x="534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283" y="0"/>
                  </a:lnTo>
                  <a:lnTo>
                    <a:pt x="318" y="0"/>
                  </a:lnTo>
                  <a:lnTo>
                    <a:pt x="351" y="0"/>
                  </a:lnTo>
                  <a:lnTo>
                    <a:pt x="384" y="1"/>
                  </a:lnTo>
                  <a:lnTo>
                    <a:pt x="415" y="3"/>
                  </a:lnTo>
                  <a:lnTo>
                    <a:pt x="447" y="4"/>
                  </a:lnTo>
                  <a:lnTo>
                    <a:pt x="476" y="6"/>
                  </a:lnTo>
                  <a:lnTo>
                    <a:pt x="506" y="8"/>
                  </a:lnTo>
                  <a:lnTo>
                    <a:pt x="534" y="1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437800" y="1431000"/>
              <a:ext cx="181080" cy="2016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437800" y="1416600"/>
              <a:ext cx="18108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437800" y="1400400"/>
              <a:ext cx="18108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437800" y="1383840"/>
              <a:ext cx="181080" cy="3276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37800" y="1367640"/>
              <a:ext cx="181080" cy="3276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437800" y="1353240"/>
              <a:ext cx="181080" cy="3024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437800" y="1337040"/>
              <a:ext cx="181080" cy="302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37800" y="1320840"/>
              <a:ext cx="181080" cy="3240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437800" y="1306440"/>
              <a:ext cx="18108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437800" y="1289880"/>
              <a:ext cx="181080" cy="3096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437800" y="1273680"/>
              <a:ext cx="181080" cy="3276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437800" y="1257120"/>
              <a:ext cx="181080" cy="3240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37800" y="1251360"/>
              <a:ext cx="181080" cy="219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723640" y="1431000"/>
              <a:ext cx="216360" cy="24480"/>
            </a:xfrm>
            <a:custGeom>
              <a:avLst/>
              <a:gdLst/>
              <a:ahLst/>
              <a:rect l="l" t="t" r="r" b="b"/>
              <a:pathLst>
                <a:path w="534" h="59">
                  <a:moveTo>
                    <a:pt x="0" y="0"/>
                  </a:moveTo>
                  <a:lnTo>
                    <a:pt x="534" y="0"/>
                  </a:lnTo>
                  <a:lnTo>
                    <a:pt x="520" y="8"/>
                  </a:lnTo>
                  <a:lnTo>
                    <a:pt x="506" y="14"/>
                  </a:lnTo>
                  <a:lnTo>
                    <a:pt x="490" y="20"/>
                  </a:lnTo>
                  <a:lnTo>
                    <a:pt x="475" y="26"/>
                  </a:lnTo>
                  <a:lnTo>
                    <a:pt x="458" y="31"/>
                  </a:lnTo>
                  <a:lnTo>
                    <a:pt x="443" y="36"/>
                  </a:lnTo>
                  <a:lnTo>
                    <a:pt x="426" y="40"/>
                  </a:lnTo>
                  <a:lnTo>
                    <a:pt x="408" y="45"/>
                  </a:lnTo>
                  <a:lnTo>
                    <a:pt x="372" y="51"/>
                  </a:lnTo>
                  <a:lnTo>
                    <a:pt x="335" y="55"/>
                  </a:lnTo>
                  <a:lnTo>
                    <a:pt x="296" y="58"/>
                  </a:lnTo>
                  <a:lnTo>
                    <a:pt x="255" y="59"/>
                  </a:lnTo>
                  <a:lnTo>
                    <a:pt x="243" y="59"/>
                  </a:lnTo>
                  <a:lnTo>
                    <a:pt x="232" y="58"/>
                  </a:lnTo>
                  <a:lnTo>
                    <a:pt x="220" y="58"/>
                  </a:lnTo>
                  <a:lnTo>
                    <a:pt x="209" y="58"/>
                  </a:lnTo>
                  <a:lnTo>
                    <a:pt x="196" y="57"/>
                  </a:lnTo>
                  <a:lnTo>
                    <a:pt x="183" y="56"/>
                  </a:lnTo>
                  <a:lnTo>
                    <a:pt x="170" y="55"/>
                  </a:lnTo>
                  <a:lnTo>
                    <a:pt x="156" y="54"/>
                  </a:lnTo>
                  <a:lnTo>
                    <a:pt x="142" y="53"/>
                  </a:lnTo>
                  <a:lnTo>
                    <a:pt x="127" y="52"/>
                  </a:lnTo>
                  <a:lnTo>
                    <a:pt x="109" y="50"/>
                  </a:lnTo>
                  <a:lnTo>
                    <a:pt x="90" y="48"/>
                  </a:lnTo>
                  <a:lnTo>
                    <a:pt x="70" y="45"/>
                  </a:lnTo>
                  <a:lnTo>
                    <a:pt x="48" y="42"/>
                  </a:lnTo>
                  <a:lnTo>
                    <a:pt x="25" y="39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723640" y="1416600"/>
              <a:ext cx="240840" cy="30240"/>
            </a:xfrm>
            <a:custGeom>
              <a:avLst/>
              <a:gdLst/>
              <a:ahLst/>
              <a:rect l="l" t="t" r="r" b="b"/>
              <a:pathLst>
                <a:path w="594" h="77">
                  <a:moveTo>
                    <a:pt x="430" y="77"/>
                  </a:moveTo>
                  <a:lnTo>
                    <a:pt x="27" y="77"/>
                  </a:lnTo>
                  <a:lnTo>
                    <a:pt x="24" y="77"/>
                  </a:lnTo>
                  <a:lnTo>
                    <a:pt x="20" y="76"/>
                  </a:lnTo>
                  <a:lnTo>
                    <a:pt x="16" y="76"/>
                  </a:lnTo>
                  <a:lnTo>
                    <a:pt x="13" y="75"/>
                  </a:lnTo>
                  <a:lnTo>
                    <a:pt x="10" y="75"/>
                  </a:lnTo>
                  <a:lnTo>
                    <a:pt x="7" y="75"/>
                  </a:lnTo>
                  <a:lnTo>
                    <a:pt x="3" y="7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594" y="0"/>
                  </a:lnTo>
                  <a:lnTo>
                    <a:pt x="577" y="13"/>
                  </a:lnTo>
                  <a:lnTo>
                    <a:pt x="558" y="25"/>
                  </a:lnTo>
                  <a:lnTo>
                    <a:pt x="539" y="36"/>
                  </a:lnTo>
                  <a:lnTo>
                    <a:pt x="519" y="46"/>
                  </a:lnTo>
                  <a:lnTo>
                    <a:pt x="498" y="55"/>
                  </a:lnTo>
                  <a:lnTo>
                    <a:pt x="476" y="64"/>
                  </a:lnTo>
                  <a:lnTo>
                    <a:pt x="453" y="71"/>
                  </a:lnTo>
                  <a:lnTo>
                    <a:pt x="430" y="77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723640" y="1400400"/>
              <a:ext cx="258840" cy="30240"/>
            </a:xfrm>
            <a:custGeom>
              <a:avLst/>
              <a:gdLst/>
              <a:ahLst/>
              <a:rect l="l" t="t" r="r" b="b"/>
              <a:pathLst>
                <a:path w="636" h="76">
                  <a:moveTo>
                    <a:pt x="534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636" y="0"/>
                  </a:lnTo>
                  <a:lnTo>
                    <a:pt x="632" y="4"/>
                  </a:lnTo>
                  <a:lnTo>
                    <a:pt x="628" y="8"/>
                  </a:lnTo>
                  <a:lnTo>
                    <a:pt x="624" y="12"/>
                  </a:lnTo>
                  <a:lnTo>
                    <a:pt x="620" y="16"/>
                  </a:lnTo>
                  <a:lnTo>
                    <a:pt x="616" y="20"/>
                  </a:lnTo>
                  <a:lnTo>
                    <a:pt x="611" y="24"/>
                  </a:lnTo>
                  <a:lnTo>
                    <a:pt x="607" y="28"/>
                  </a:lnTo>
                  <a:lnTo>
                    <a:pt x="602" y="31"/>
                  </a:lnTo>
                  <a:lnTo>
                    <a:pt x="594" y="38"/>
                  </a:lnTo>
                  <a:lnTo>
                    <a:pt x="587" y="44"/>
                  </a:lnTo>
                  <a:lnTo>
                    <a:pt x="578" y="50"/>
                  </a:lnTo>
                  <a:lnTo>
                    <a:pt x="570" y="55"/>
                  </a:lnTo>
                  <a:lnTo>
                    <a:pt x="561" y="62"/>
                  </a:lnTo>
                  <a:lnTo>
                    <a:pt x="552" y="67"/>
                  </a:lnTo>
                  <a:lnTo>
                    <a:pt x="544" y="72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723640" y="1383840"/>
              <a:ext cx="271440" cy="32760"/>
            </a:xfrm>
            <a:custGeom>
              <a:avLst/>
              <a:gdLst/>
              <a:ahLst/>
              <a:rect l="l" t="t" r="r" b="b"/>
              <a:pathLst>
                <a:path w="666" h="77">
                  <a:moveTo>
                    <a:pt x="59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666" y="0"/>
                  </a:lnTo>
                  <a:lnTo>
                    <a:pt x="660" y="9"/>
                  </a:lnTo>
                  <a:lnTo>
                    <a:pt x="653" y="19"/>
                  </a:lnTo>
                  <a:lnTo>
                    <a:pt x="645" y="28"/>
                  </a:lnTo>
                  <a:lnTo>
                    <a:pt x="637" y="37"/>
                  </a:lnTo>
                  <a:lnTo>
                    <a:pt x="629" y="46"/>
                  </a:lnTo>
                  <a:lnTo>
                    <a:pt x="620" y="55"/>
                  </a:lnTo>
                  <a:lnTo>
                    <a:pt x="612" y="63"/>
                  </a:lnTo>
                  <a:lnTo>
                    <a:pt x="602" y="70"/>
                  </a:lnTo>
                  <a:lnTo>
                    <a:pt x="601" y="71"/>
                  </a:lnTo>
                  <a:lnTo>
                    <a:pt x="600" y="72"/>
                  </a:lnTo>
                  <a:lnTo>
                    <a:pt x="599" y="73"/>
                  </a:lnTo>
                  <a:lnTo>
                    <a:pt x="598" y="73"/>
                  </a:lnTo>
                  <a:lnTo>
                    <a:pt x="597" y="74"/>
                  </a:lnTo>
                  <a:lnTo>
                    <a:pt x="596" y="76"/>
                  </a:lnTo>
                  <a:lnTo>
                    <a:pt x="595" y="77"/>
                  </a:lnTo>
                  <a:lnTo>
                    <a:pt x="594" y="77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723640" y="1367640"/>
              <a:ext cx="279360" cy="3276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3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688" y="0"/>
                  </a:lnTo>
                  <a:lnTo>
                    <a:pt x="683" y="11"/>
                  </a:lnTo>
                  <a:lnTo>
                    <a:pt x="678" y="21"/>
                  </a:lnTo>
                  <a:lnTo>
                    <a:pt x="672" y="31"/>
                  </a:lnTo>
                  <a:lnTo>
                    <a:pt x="665" y="41"/>
                  </a:lnTo>
                  <a:lnTo>
                    <a:pt x="658" y="50"/>
                  </a:lnTo>
                  <a:lnTo>
                    <a:pt x="652" y="60"/>
                  </a:lnTo>
                  <a:lnTo>
                    <a:pt x="644" y="68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723640" y="1353240"/>
              <a:ext cx="285840" cy="3024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666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1" y="11"/>
                  </a:lnTo>
                  <a:lnTo>
                    <a:pt x="697" y="21"/>
                  </a:lnTo>
                  <a:lnTo>
                    <a:pt x="693" y="31"/>
                  </a:lnTo>
                  <a:lnTo>
                    <a:pt x="687" y="40"/>
                  </a:lnTo>
                  <a:lnTo>
                    <a:pt x="683" y="51"/>
                  </a:lnTo>
                  <a:lnTo>
                    <a:pt x="678" y="60"/>
                  </a:lnTo>
                  <a:lnTo>
                    <a:pt x="672" y="68"/>
                  </a:lnTo>
                  <a:lnTo>
                    <a:pt x="666" y="78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723640" y="1337040"/>
              <a:ext cx="291960" cy="30240"/>
            </a:xfrm>
            <a:custGeom>
              <a:avLst/>
              <a:gdLst/>
              <a:ahLst/>
              <a:rect l="l" t="t" r="r" b="b"/>
              <a:pathLst>
                <a:path w="715" h="78">
                  <a:moveTo>
                    <a:pt x="688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3" y="11"/>
                  </a:lnTo>
                  <a:lnTo>
                    <a:pt x="709" y="21"/>
                  </a:lnTo>
                  <a:lnTo>
                    <a:pt x="707" y="31"/>
                  </a:lnTo>
                  <a:lnTo>
                    <a:pt x="704" y="40"/>
                  </a:lnTo>
                  <a:lnTo>
                    <a:pt x="700" y="51"/>
                  </a:lnTo>
                  <a:lnTo>
                    <a:pt x="697" y="60"/>
                  </a:lnTo>
                  <a:lnTo>
                    <a:pt x="693" y="69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723640" y="1320840"/>
              <a:ext cx="293760" cy="32400"/>
            </a:xfrm>
            <a:custGeom>
              <a:avLst/>
              <a:gdLst/>
              <a:ahLst/>
              <a:rect l="l" t="t" r="r" b="b"/>
              <a:pathLst>
                <a:path w="722" h="77">
                  <a:moveTo>
                    <a:pt x="704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2" y="0"/>
                  </a:lnTo>
                  <a:lnTo>
                    <a:pt x="720" y="10"/>
                  </a:lnTo>
                  <a:lnTo>
                    <a:pt x="719" y="21"/>
                  </a:lnTo>
                  <a:lnTo>
                    <a:pt x="717" y="30"/>
                  </a:lnTo>
                  <a:lnTo>
                    <a:pt x="715" y="39"/>
                  </a:lnTo>
                  <a:lnTo>
                    <a:pt x="713" y="50"/>
                  </a:lnTo>
                  <a:lnTo>
                    <a:pt x="710" y="59"/>
                  </a:lnTo>
                  <a:lnTo>
                    <a:pt x="707" y="68"/>
                  </a:lnTo>
                  <a:lnTo>
                    <a:pt x="704" y="77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723640" y="130644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6">
                  <a:moveTo>
                    <a:pt x="71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4" y="9"/>
                  </a:lnTo>
                  <a:lnTo>
                    <a:pt x="724" y="20"/>
                  </a:lnTo>
                  <a:lnTo>
                    <a:pt x="723" y="29"/>
                  </a:lnTo>
                  <a:lnTo>
                    <a:pt x="722" y="39"/>
                  </a:lnTo>
                  <a:lnTo>
                    <a:pt x="720" y="49"/>
                  </a:lnTo>
                  <a:lnTo>
                    <a:pt x="719" y="59"/>
                  </a:lnTo>
                  <a:lnTo>
                    <a:pt x="717" y="68"/>
                  </a:lnTo>
                  <a:lnTo>
                    <a:pt x="715" y="76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3640" y="1289880"/>
              <a:ext cx="295920" cy="30960"/>
            </a:xfrm>
            <a:custGeom>
              <a:avLst/>
              <a:gdLst/>
              <a:ahLst/>
              <a:rect l="l" t="t" r="r" b="b"/>
              <a:pathLst>
                <a:path w="726" h="77">
                  <a:moveTo>
                    <a:pt x="722" y="77"/>
                  </a:moveTo>
                  <a:lnTo>
                    <a:pt x="0" y="77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25" y="1"/>
                  </a:lnTo>
                  <a:lnTo>
                    <a:pt x="726" y="3"/>
                  </a:lnTo>
                  <a:lnTo>
                    <a:pt x="726" y="4"/>
                  </a:lnTo>
                  <a:lnTo>
                    <a:pt x="726" y="6"/>
                  </a:lnTo>
                  <a:lnTo>
                    <a:pt x="726" y="8"/>
                  </a:lnTo>
                  <a:lnTo>
                    <a:pt x="726" y="9"/>
                  </a:lnTo>
                  <a:lnTo>
                    <a:pt x="726" y="11"/>
                  </a:lnTo>
                  <a:lnTo>
                    <a:pt x="726" y="12"/>
                  </a:lnTo>
                  <a:lnTo>
                    <a:pt x="726" y="21"/>
                  </a:lnTo>
                  <a:lnTo>
                    <a:pt x="725" y="29"/>
                  </a:lnTo>
                  <a:lnTo>
                    <a:pt x="725" y="38"/>
                  </a:lnTo>
                  <a:lnTo>
                    <a:pt x="725" y="45"/>
                  </a:lnTo>
                  <a:lnTo>
                    <a:pt x="724" y="53"/>
                  </a:lnTo>
                  <a:lnTo>
                    <a:pt x="724" y="62"/>
                  </a:lnTo>
                  <a:lnTo>
                    <a:pt x="723" y="69"/>
                  </a:lnTo>
                  <a:lnTo>
                    <a:pt x="722" y="77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723640" y="1273680"/>
              <a:ext cx="295920" cy="32760"/>
            </a:xfrm>
            <a:custGeom>
              <a:avLst/>
              <a:gdLst/>
              <a:ahLst/>
              <a:rect l="l" t="t" r="r" b="b"/>
              <a:pathLst>
                <a:path w="726" h="78">
                  <a:moveTo>
                    <a:pt x="725" y="78"/>
                  </a:moveTo>
                  <a:lnTo>
                    <a:pt x="0" y="7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0" y="4"/>
                  </a:lnTo>
                  <a:lnTo>
                    <a:pt x="20" y="8"/>
                  </a:lnTo>
                  <a:lnTo>
                    <a:pt x="29" y="12"/>
                  </a:lnTo>
                  <a:lnTo>
                    <a:pt x="38" y="15"/>
                  </a:lnTo>
                  <a:lnTo>
                    <a:pt x="47" y="18"/>
                  </a:lnTo>
                  <a:lnTo>
                    <a:pt x="55" y="21"/>
                  </a:lnTo>
                  <a:lnTo>
                    <a:pt x="63" y="23"/>
                  </a:lnTo>
                  <a:lnTo>
                    <a:pt x="71" y="25"/>
                  </a:lnTo>
                  <a:lnTo>
                    <a:pt x="78" y="27"/>
                  </a:lnTo>
                  <a:lnTo>
                    <a:pt x="87" y="29"/>
                  </a:lnTo>
                  <a:lnTo>
                    <a:pt x="94" y="30"/>
                  </a:lnTo>
                  <a:lnTo>
                    <a:pt x="101" y="32"/>
                  </a:lnTo>
                  <a:lnTo>
                    <a:pt x="109" y="33"/>
                  </a:lnTo>
                  <a:lnTo>
                    <a:pt x="116" y="34"/>
                  </a:lnTo>
                  <a:lnTo>
                    <a:pt x="124" y="34"/>
                  </a:lnTo>
                  <a:lnTo>
                    <a:pt x="130" y="34"/>
                  </a:lnTo>
                  <a:lnTo>
                    <a:pt x="142" y="34"/>
                  </a:lnTo>
                  <a:lnTo>
                    <a:pt x="155" y="33"/>
                  </a:lnTo>
                  <a:lnTo>
                    <a:pt x="166" y="30"/>
                  </a:lnTo>
                  <a:lnTo>
                    <a:pt x="176" y="27"/>
                  </a:lnTo>
                  <a:lnTo>
                    <a:pt x="187" y="24"/>
                  </a:lnTo>
                  <a:lnTo>
                    <a:pt x="196" y="20"/>
                  </a:lnTo>
                  <a:lnTo>
                    <a:pt x="204" y="15"/>
                  </a:lnTo>
                  <a:lnTo>
                    <a:pt x="213" y="8"/>
                  </a:lnTo>
                  <a:lnTo>
                    <a:pt x="214" y="7"/>
                  </a:lnTo>
                  <a:lnTo>
                    <a:pt x="215" y="6"/>
                  </a:lnTo>
                  <a:lnTo>
                    <a:pt x="216" y="5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723" y="0"/>
                  </a:lnTo>
                  <a:lnTo>
                    <a:pt x="724" y="6"/>
                  </a:lnTo>
                  <a:lnTo>
                    <a:pt x="724" y="13"/>
                  </a:lnTo>
                  <a:lnTo>
                    <a:pt x="725" y="19"/>
                  </a:lnTo>
                  <a:lnTo>
                    <a:pt x="725" y="25"/>
                  </a:lnTo>
                  <a:lnTo>
                    <a:pt x="725" y="32"/>
                  </a:lnTo>
                  <a:lnTo>
                    <a:pt x="725" y="39"/>
                  </a:lnTo>
                  <a:lnTo>
                    <a:pt x="726" y="45"/>
                  </a:lnTo>
                  <a:lnTo>
                    <a:pt x="726" y="51"/>
                  </a:lnTo>
                  <a:lnTo>
                    <a:pt x="726" y="55"/>
                  </a:lnTo>
                  <a:lnTo>
                    <a:pt x="726" y="58"/>
                  </a:lnTo>
                  <a:lnTo>
                    <a:pt x="726" y="61"/>
                  </a:lnTo>
                  <a:lnTo>
                    <a:pt x="725" y="65"/>
                  </a:lnTo>
                  <a:lnTo>
                    <a:pt x="725" y="68"/>
                  </a:lnTo>
                  <a:lnTo>
                    <a:pt x="725" y="71"/>
                  </a:lnTo>
                  <a:lnTo>
                    <a:pt x="725" y="75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723640" y="1257120"/>
              <a:ext cx="295920" cy="3240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725" y="78"/>
                  </a:moveTo>
                  <a:lnTo>
                    <a:pt x="0" y="7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9" y="46"/>
                  </a:lnTo>
                  <a:lnTo>
                    <a:pt x="28" y="51"/>
                  </a:lnTo>
                  <a:lnTo>
                    <a:pt x="37" y="54"/>
                  </a:lnTo>
                  <a:lnTo>
                    <a:pt x="46" y="57"/>
                  </a:lnTo>
                  <a:lnTo>
                    <a:pt x="54" y="60"/>
                  </a:lnTo>
                  <a:lnTo>
                    <a:pt x="63" y="62"/>
                  </a:lnTo>
                  <a:lnTo>
                    <a:pt x="71" y="64"/>
                  </a:lnTo>
                  <a:lnTo>
                    <a:pt x="78" y="66"/>
                  </a:lnTo>
                  <a:lnTo>
                    <a:pt x="87" y="68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9" y="72"/>
                  </a:lnTo>
                  <a:lnTo>
                    <a:pt x="116" y="73"/>
                  </a:lnTo>
                  <a:lnTo>
                    <a:pt x="124" y="73"/>
                  </a:lnTo>
                  <a:lnTo>
                    <a:pt x="130" y="73"/>
                  </a:lnTo>
                  <a:lnTo>
                    <a:pt x="142" y="73"/>
                  </a:lnTo>
                  <a:lnTo>
                    <a:pt x="155" y="72"/>
                  </a:lnTo>
                  <a:lnTo>
                    <a:pt x="166" y="69"/>
                  </a:lnTo>
                  <a:lnTo>
                    <a:pt x="176" y="66"/>
                  </a:lnTo>
                  <a:lnTo>
                    <a:pt x="187" y="63"/>
                  </a:lnTo>
                  <a:lnTo>
                    <a:pt x="196" y="59"/>
                  </a:lnTo>
                  <a:lnTo>
                    <a:pt x="204" y="54"/>
                  </a:lnTo>
                  <a:lnTo>
                    <a:pt x="213" y="47"/>
                  </a:lnTo>
                  <a:lnTo>
                    <a:pt x="218" y="43"/>
                  </a:lnTo>
                  <a:lnTo>
                    <a:pt x="223" y="38"/>
                  </a:lnTo>
                  <a:lnTo>
                    <a:pt x="227" y="32"/>
                  </a:lnTo>
                  <a:lnTo>
                    <a:pt x="232" y="26"/>
                  </a:lnTo>
                  <a:lnTo>
                    <a:pt x="235" y="20"/>
                  </a:lnTo>
                  <a:lnTo>
                    <a:pt x="238" y="14"/>
                  </a:lnTo>
                  <a:lnTo>
                    <a:pt x="240" y="8"/>
                  </a:lnTo>
                  <a:lnTo>
                    <a:pt x="241" y="0"/>
                  </a:lnTo>
                  <a:lnTo>
                    <a:pt x="717" y="0"/>
                  </a:lnTo>
                  <a:lnTo>
                    <a:pt x="719" y="10"/>
                  </a:lnTo>
                  <a:lnTo>
                    <a:pt x="721" y="19"/>
                  </a:lnTo>
                  <a:lnTo>
                    <a:pt x="722" y="29"/>
                  </a:lnTo>
                  <a:lnTo>
                    <a:pt x="723" y="38"/>
                  </a:lnTo>
                  <a:lnTo>
                    <a:pt x="724" y="47"/>
                  </a:lnTo>
                  <a:lnTo>
                    <a:pt x="725" y="58"/>
                  </a:lnTo>
                  <a:lnTo>
                    <a:pt x="725" y="67"/>
                  </a:lnTo>
                  <a:lnTo>
                    <a:pt x="725" y="78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723640" y="1240920"/>
              <a:ext cx="293760" cy="32400"/>
            </a:xfrm>
            <a:custGeom>
              <a:avLst/>
              <a:gdLst/>
              <a:ahLst/>
              <a:rect l="l" t="t" r="r" b="b"/>
              <a:pathLst>
                <a:path w="723" h="78">
                  <a:moveTo>
                    <a:pt x="723" y="78"/>
                  </a:moveTo>
                  <a:lnTo>
                    <a:pt x="222" y="78"/>
                  </a:lnTo>
                  <a:lnTo>
                    <a:pt x="227" y="72"/>
                  </a:lnTo>
                  <a:lnTo>
                    <a:pt x="232" y="65"/>
                  </a:lnTo>
                  <a:lnTo>
                    <a:pt x="235" y="59"/>
                  </a:lnTo>
                  <a:lnTo>
                    <a:pt x="238" y="53"/>
                  </a:lnTo>
                  <a:lnTo>
                    <a:pt x="240" y="45"/>
                  </a:lnTo>
                  <a:lnTo>
                    <a:pt x="242" y="38"/>
                  </a:lnTo>
                  <a:lnTo>
                    <a:pt x="243" y="30"/>
                  </a:lnTo>
                  <a:lnTo>
                    <a:pt x="243" y="22"/>
                  </a:lnTo>
                  <a:lnTo>
                    <a:pt x="243" y="19"/>
                  </a:lnTo>
                  <a:lnTo>
                    <a:pt x="243" y="17"/>
                  </a:lnTo>
                  <a:lnTo>
                    <a:pt x="242" y="14"/>
                  </a:lnTo>
                  <a:lnTo>
                    <a:pt x="242" y="12"/>
                  </a:lnTo>
                  <a:lnTo>
                    <a:pt x="241" y="9"/>
                  </a:lnTo>
                  <a:lnTo>
                    <a:pt x="241" y="7"/>
                  </a:lnTo>
                  <a:lnTo>
                    <a:pt x="240" y="3"/>
                  </a:lnTo>
                  <a:lnTo>
                    <a:pt x="239" y="0"/>
                  </a:lnTo>
                  <a:lnTo>
                    <a:pt x="707" y="0"/>
                  </a:lnTo>
                  <a:lnTo>
                    <a:pt x="710" y="10"/>
                  </a:lnTo>
                  <a:lnTo>
                    <a:pt x="713" y="19"/>
                  </a:lnTo>
                  <a:lnTo>
                    <a:pt x="715" y="29"/>
                  </a:lnTo>
                  <a:lnTo>
                    <a:pt x="717" y="38"/>
                  </a:lnTo>
                  <a:lnTo>
                    <a:pt x="719" y="49"/>
                  </a:lnTo>
                  <a:lnTo>
                    <a:pt x="721" y="58"/>
                  </a:lnTo>
                  <a:lnTo>
                    <a:pt x="722" y="68"/>
                  </a:lnTo>
                  <a:lnTo>
                    <a:pt x="723" y="78"/>
                  </a:lnTo>
                  <a:close/>
                  <a:moveTo>
                    <a:pt x="1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811480" y="1226880"/>
              <a:ext cx="203760" cy="30240"/>
            </a:xfrm>
            <a:custGeom>
              <a:avLst/>
              <a:gdLst/>
              <a:ahLst/>
              <a:rect l="l" t="t" r="r" b="b"/>
              <a:pathLst>
                <a:path w="499" h="78">
                  <a:moveTo>
                    <a:pt x="499" y="78"/>
                  </a:moveTo>
                  <a:lnTo>
                    <a:pt x="23" y="78"/>
                  </a:lnTo>
                  <a:lnTo>
                    <a:pt x="24" y="76"/>
                  </a:lnTo>
                  <a:lnTo>
                    <a:pt x="24" y="74"/>
                  </a:lnTo>
                  <a:lnTo>
                    <a:pt x="24" y="72"/>
                  </a:lnTo>
                  <a:lnTo>
                    <a:pt x="25" y="70"/>
                  </a:lnTo>
                  <a:lnTo>
                    <a:pt x="25" y="68"/>
                  </a:lnTo>
                  <a:lnTo>
                    <a:pt x="25" y="66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23" y="48"/>
                  </a:lnTo>
                  <a:lnTo>
                    <a:pt x="22" y="41"/>
                  </a:lnTo>
                  <a:lnTo>
                    <a:pt x="19" y="34"/>
                  </a:lnTo>
                  <a:lnTo>
                    <a:pt x="16" y="26"/>
                  </a:lnTo>
                  <a:lnTo>
                    <a:pt x="12" y="18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76" y="0"/>
                  </a:lnTo>
                  <a:lnTo>
                    <a:pt x="480" y="10"/>
                  </a:lnTo>
                  <a:lnTo>
                    <a:pt x="483" y="19"/>
                  </a:lnTo>
                  <a:lnTo>
                    <a:pt x="486" y="29"/>
                  </a:lnTo>
                  <a:lnTo>
                    <a:pt x="489" y="38"/>
                  </a:lnTo>
                  <a:lnTo>
                    <a:pt x="492" y="49"/>
                  </a:lnTo>
                  <a:lnTo>
                    <a:pt x="495" y="58"/>
                  </a:lnTo>
                  <a:lnTo>
                    <a:pt x="497" y="69"/>
                  </a:lnTo>
                  <a:lnTo>
                    <a:pt x="499" y="78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798880" y="1209960"/>
              <a:ext cx="212400" cy="30960"/>
            </a:xfrm>
            <a:custGeom>
              <a:avLst/>
              <a:gdLst/>
              <a:ahLst/>
              <a:rect l="l" t="t" r="r" b="b"/>
              <a:pathLst>
                <a:path w="519" h="76">
                  <a:moveTo>
                    <a:pt x="519" y="76"/>
                  </a:moveTo>
                  <a:lnTo>
                    <a:pt x="51" y="76"/>
                  </a:lnTo>
                  <a:lnTo>
                    <a:pt x="48" y="68"/>
                  </a:lnTo>
                  <a:lnTo>
                    <a:pt x="44" y="60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6" y="31"/>
                  </a:lnTo>
                  <a:lnTo>
                    <a:pt x="18" y="21"/>
                  </a:lnTo>
                  <a:lnTo>
                    <a:pt x="9" y="10"/>
                  </a:lnTo>
                  <a:lnTo>
                    <a:pt x="0" y="0"/>
                  </a:lnTo>
                  <a:lnTo>
                    <a:pt x="487" y="0"/>
                  </a:lnTo>
                  <a:lnTo>
                    <a:pt x="488" y="2"/>
                  </a:lnTo>
                  <a:lnTo>
                    <a:pt x="490" y="4"/>
                  </a:lnTo>
                  <a:lnTo>
                    <a:pt x="491" y="6"/>
                  </a:lnTo>
                  <a:lnTo>
                    <a:pt x="492" y="8"/>
                  </a:lnTo>
                  <a:lnTo>
                    <a:pt x="493" y="10"/>
                  </a:lnTo>
                  <a:lnTo>
                    <a:pt x="494" y="12"/>
                  </a:lnTo>
                  <a:lnTo>
                    <a:pt x="495" y="14"/>
                  </a:lnTo>
                  <a:lnTo>
                    <a:pt x="496" y="16"/>
                  </a:lnTo>
                  <a:lnTo>
                    <a:pt x="499" y="24"/>
                  </a:lnTo>
                  <a:lnTo>
                    <a:pt x="503" y="31"/>
                  </a:lnTo>
                  <a:lnTo>
                    <a:pt x="506" y="39"/>
                  </a:lnTo>
                  <a:lnTo>
                    <a:pt x="509" y="46"/>
                  </a:lnTo>
                  <a:lnTo>
                    <a:pt x="512" y="53"/>
                  </a:lnTo>
                  <a:lnTo>
                    <a:pt x="515" y="62"/>
                  </a:lnTo>
                  <a:lnTo>
                    <a:pt x="517" y="69"/>
                  </a:lnTo>
                  <a:lnTo>
                    <a:pt x="519" y="76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784480" y="1193760"/>
              <a:ext cx="220680" cy="32760"/>
            </a:xfrm>
            <a:custGeom>
              <a:avLst/>
              <a:gdLst/>
              <a:ahLst/>
              <a:rect l="l" t="t" r="r" b="b"/>
              <a:pathLst>
                <a:path w="544" h="76">
                  <a:moveTo>
                    <a:pt x="544" y="76"/>
                  </a:moveTo>
                  <a:lnTo>
                    <a:pt x="68" y="76"/>
                  </a:lnTo>
                  <a:lnTo>
                    <a:pt x="63" y="68"/>
                  </a:lnTo>
                  <a:lnTo>
                    <a:pt x="55" y="60"/>
                  </a:lnTo>
                  <a:lnTo>
                    <a:pt x="48" y="50"/>
                  </a:lnTo>
                  <a:lnTo>
                    <a:pt x="40" y="41"/>
                  </a:lnTo>
                  <a:lnTo>
                    <a:pt x="31" y="31"/>
                  </a:lnTo>
                  <a:lnTo>
                    <a:pt x="22" y="21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501" y="0"/>
                  </a:lnTo>
                  <a:lnTo>
                    <a:pt x="506" y="7"/>
                  </a:lnTo>
                  <a:lnTo>
                    <a:pt x="510" y="15"/>
                  </a:lnTo>
                  <a:lnTo>
                    <a:pt x="515" y="22"/>
                  </a:lnTo>
                  <a:lnTo>
                    <a:pt x="520" y="28"/>
                  </a:lnTo>
                  <a:lnTo>
                    <a:pt x="524" y="36"/>
                  </a:lnTo>
                  <a:lnTo>
                    <a:pt x="527" y="43"/>
                  </a:lnTo>
                  <a:lnTo>
                    <a:pt x="531" y="49"/>
                  </a:lnTo>
                  <a:lnTo>
                    <a:pt x="534" y="55"/>
                  </a:lnTo>
                  <a:lnTo>
                    <a:pt x="535" y="59"/>
                  </a:lnTo>
                  <a:lnTo>
                    <a:pt x="536" y="61"/>
                  </a:lnTo>
                  <a:lnTo>
                    <a:pt x="538" y="64"/>
                  </a:lnTo>
                  <a:lnTo>
                    <a:pt x="539" y="66"/>
                  </a:lnTo>
                  <a:lnTo>
                    <a:pt x="541" y="69"/>
                  </a:lnTo>
                  <a:lnTo>
                    <a:pt x="542" y="71"/>
                  </a:lnTo>
                  <a:lnTo>
                    <a:pt x="543" y="74"/>
                  </a:lnTo>
                  <a:lnTo>
                    <a:pt x="544" y="76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766480" y="1179360"/>
              <a:ext cx="232200" cy="30240"/>
            </a:xfrm>
            <a:custGeom>
              <a:avLst/>
              <a:gdLst/>
              <a:ahLst/>
              <a:rect l="l" t="t" r="r" b="b"/>
              <a:pathLst>
                <a:path w="567" h="78">
                  <a:moveTo>
                    <a:pt x="567" y="78"/>
                  </a:moveTo>
                  <a:lnTo>
                    <a:pt x="80" y="78"/>
                  </a:lnTo>
                  <a:lnTo>
                    <a:pt x="73" y="70"/>
                  </a:lnTo>
                  <a:lnTo>
                    <a:pt x="67" y="64"/>
                  </a:lnTo>
                  <a:lnTo>
                    <a:pt x="61" y="57"/>
                  </a:lnTo>
                  <a:lnTo>
                    <a:pt x="54" y="50"/>
                  </a:lnTo>
                  <a:lnTo>
                    <a:pt x="47" y="43"/>
                  </a:lnTo>
                  <a:lnTo>
                    <a:pt x="40" y="36"/>
                  </a:lnTo>
                  <a:lnTo>
                    <a:pt x="31" y="28"/>
                  </a:lnTo>
                  <a:lnTo>
                    <a:pt x="24" y="21"/>
                  </a:lnTo>
                  <a:lnTo>
                    <a:pt x="21" y="18"/>
                  </a:lnTo>
                  <a:lnTo>
                    <a:pt x="18" y="16"/>
                  </a:lnTo>
                  <a:lnTo>
                    <a:pt x="14" y="13"/>
                  </a:lnTo>
                  <a:lnTo>
                    <a:pt x="11" y="9"/>
                  </a:lnTo>
                  <a:lnTo>
                    <a:pt x="8" y="7"/>
                  </a:lnTo>
                  <a:lnTo>
                    <a:pt x="6" y="5"/>
                  </a:lnTo>
                  <a:lnTo>
                    <a:pt x="3" y="2"/>
                  </a:lnTo>
                  <a:lnTo>
                    <a:pt x="0" y="0"/>
                  </a:lnTo>
                  <a:lnTo>
                    <a:pt x="513" y="0"/>
                  </a:lnTo>
                  <a:lnTo>
                    <a:pt x="522" y="10"/>
                  </a:lnTo>
                  <a:lnTo>
                    <a:pt x="529" y="20"/>
                  </a:lnTo>
                  <a:lnTo>
                    <a:pt x="536" y="30"/>
                  </a:lnTo>
                  <a:lnTo>
                    <a:pt x="544" y="40"/>
                  </a:lnTo>
                  <a:lnTo>
                    <a:pt x="550" y="49"/>
                  </a:lnTo>
                  <a:lnTo>
                    <a:pt x="556" y="59"/>
                  </a:lnTo>
                  <a:lnTo>
                    <a:pt x="562" y="68"/>
                  </a:lnTo>
                  <a:lnTo>
                    <a:pt x="567" y="78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750280" y="1163160"/>
              <a:ext cx="237960" cy="30240"/>
            </a:xfrm>
            <a:custGeom>
              <a:avLst/>
              <a:gdLst/>
              <a:ahLst/>
              <a:rect l="l" t="t" r="r" b="b"/>
              <a:pathLst>
                <a:path w="583" h="78">
                  <a:moveTo>
                    <a:pt x="583" y="78"/>
                  </a:moveTo>
                  <a:lnTo>
                    <a:pt x="82" y="78"/>
                  </a:lnTo>
                  <a:lnTo>
                    <a:pt x="80" y="76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8"/>
                  </a:lnTo>
                  <a:lnTo>
                    <a:pt x="71" y="66"/>
                  </a:lnTo>
                  <a:lnTo>
                    <a:pt x="68" y="64"/>
                  </a:lnTo>
                  <a:lnTo>
                    <a:pt x="66" y="62"/>
                  </a:lnTo>
                  <a:lnTo>
                    <a:pt x="64" y="60"/>
                  </a:lnTo>
                  <a:lnTo>
                    <a:pt x="57" y="54"/>
                  </a:lnTo>
                  <a:lnTo>
                    <a:pt x="51" y="48"/>
                  </a:lnTo>
                  <a:lnTo>
                    <a:pt x="45" y="43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9" y="28"/>
                  </a:lnTo>
                  <a:lnTo>
                    <a:pt x="24" y="24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5" y="16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2"/>
                  </a:lnTo>
                  <a:lnTo>
                    <a:pt x="0" y="0"/>
                  </a:lnTo>
                  <a:lnTo>
                    <a:pt x="521" y="0"/>
                  </a:lnTo>
                  <a:lnTo>
                    <a:pt x="529" y="11"/>
                  </a:lnTo>
                  <a:lnTo>
                    <a:pt x="539" y="20"/>
                  </a:lnTo>
                  <a:lnTo>
                    <a:pt x="547" y="31"/>
                  </a:lnTo>
                  <a:lnTo>
                    <a:pt x="554" y="40"/>
                  </a:lnTo>
                  <a:lnTo>
                    <a:pt x="562" y="49"/>
                  </a:lnTo>
                  <a:lnTo>
                    <a:pt x="569" y="59"/>
                  </a:lnTo>
                  <a:lnTo>
                    <a:pt x="576" y="68"/>
                  </a:lnTo>
                  <a:lnTo>
                    <a:pt x="583" y="78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37680" y="1146960"/>
              <a:ext cx="238680" cy="32400"/>
            </a:xfrm>
            <a:custGeom>
              <a:avLst/>
              <a:gdLst/>
              <a:ahLst/>
              <a:rect l="l" t="t" r="r" b="b"/>
              <a:pathLst>
                <a:path w="585" h="78">
                  <a:moveTo>
                    <a:pt x="585" y="78"/>
                  </a:moveTo>
                  <a:lnTo>
                    <a:pt x="72" y="78"/>
                  </a:lnTo>
                  <a:lnTo>
                    <a:pt x="70" y="75"/>
                  </a:lnTo>
                  <a:lnTo>
                    <a:pt x="67" y="73"/>
                  </a:lnTo>
                  <a:lnTo>
                    <a:pt x="64" y="71"/>
                  </a:lnTo>
                  <a:lnTo>
                    <a:pt x="61" y="69"/>
                  </a:lnTo>
                  <a:lnTo>
                    <a:pt x="59" y="65"/>
                  </a:lnTo>
                  <a:lnTo>
                    <a:pt x="56" y="63"/>
                  </a:lnTo>
                  <a:lnTo>
                    <a:pt x="54" y="61"/>
                  </a:lnTo>
                  <a:lnTo>
                    <a:pt x="52" y="59"/>
                  </a:lnTo>
                  <a:lnTo>
                    <a:pt x="44" y="53"/>
                  </a:lnTo>
                  <a:lnTo>
                    <a:pt x="37" y="45"/>
                  </a:lnTo>
                  <a:lnTo>
                    <a:pt x="31" y="38"/>
                  </a:lnTo>
                  <a:lnTo>
                    <a:pt x="25" y="31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0" y="0"/>
                  </a:lnTo>
                  <a:lnTo>
                    <a:pt x="517" y="0"/>
                  </a:lnTo>
                  <a:lnTo>
                    <a:pt x="526" y="11"/>
                  </a:lnTo>
                  <a:lnTo>
                    <a:pt x="536" y="20"/>
                  </a:lnTo>
                  <a:lnTo>
                    <a:pt x="545" y="31"/>
                  </a:lnTo>
                  <a:lnTo>
                    <a:pt x="554" y="40"/>
                  </a:lnTo>
                  <a:lnTo>
                    <a:pt x="562" y="50"/>
                  </a:lnTo>
                  <a:lnTo>
                    <a:pt x="571" y="59"/>
                  </a:lnTo>
                  <a:lnTo>
                    <a:pt x="578" y="69"/>
                  </a:lnTo>
                  <a:lnTo>
                    <a:pt x="585" y="78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727600" y="1130400"/>
              <a:ext cx="234360" cy="32760"/>
            </a:xfrm>
            <a:custGeom>
              <a:avLst/>
              <a:gdLst/>
              <a:ahLst/>
              <a:rect l="l" t="t" r="r" b="b"/>
              <a:pathLst>
                <a:path w="578" h="78">
                  <a:moveTo>
                    <a:pt x="578" y="78"/>
                  </a:moveTo>
                  <a:lnTo>
                    <a:pt x="57" y="78"/>
                  </a:lnTo>
                  <a:lnTo>
                    <a:pt x="48" y="69"/>
                  </a:lnTo>
                  <a:lnTo>
                    <a:pt x="41" y="59"/>
                  </a:lnTo>
                  <a:lnTo>
                    <a:pt x="33" y="50"/>
                  </a:lnTo>
                  <a:lnTo>
                    <a:pt x="25" y="40"/>
                  </a:lnTo>
                  <a:lnTo>
                    <a:pt x="19" y="31"/>
                  </a:lnTo>
                  <a:lnTo>
                    <a:pt x="13" y="2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503" y="0"/>
                  </a:lnTo>
                  <a:lnTo>
                    <a:pt x="503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4" y="1"/>
                  </a:lnTo>
                  <a:lnTo>
                    <a:pt x="505" y="3"/>
                  </a:lnTo>
                  <a:lnTo>
                    <a:pt x="505" y="3"/>
                  </a:lnTo>
                  <a:lnTo>
                    <a:pt x="515" y="12"/>
                  </a:lnTo>
                  <a:lnTo>
                    <a:pt x="525" y="22"/>
                  </a:lnTo>
                  <a:lnTo>
                    <a:pt x="535" y="32"/>
                  </a:lnTo>
                  <a:lnTo>
                    <a:pt x="543" y="41"/>
                  </a:lnTo>
                  <a:lnTo>
                    <a:pt x="552" y="51"/>
                  </a:lnTo>
                  <a:lnTo>
                    <a:pt x="561" y="60"/>
                  </a:lnTo>
                  <a:lnTo>
                    <a:pt x="569" y="69"/>
                  </a:lnTo>
                  <a:lnTo>
                    <a:pt x="578" y="78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719320" y="1116360"/>
              <a:ext cx="228600" cy="30240"/>
            </a:xfrm>
            <a:custGeom>
              <a:avLst/>
              <a:gdLst/>
              <a:ahLst/>
              <a:rect l="l" t="t" r="r" b="b"/>
              <a:pathLst>
                <a:path w="560" h="76">
                  <a:moveTo>
                    <a:pt x="560" y="76"/>
                  </a:moveTo>
                  <a:lnTo>
                    <a:pt x="43" y="76"/>
                  </a:lnTo>
                  <a:lnTo>
                    <a:pt x="37" y="69"/>
                  </a:lnTo>
                  <a:lnTo>
                    <a:pt x="32" y="61"/>
                  </a:lnTo>
                  <a:lnTo>
                    <a:pt x="27" y="52"/>
                  </a:lnTo>
                  <a:lnTo>
                    <a:pt x="22" y="44"/>
                  </a:lnTo>
                  <a:lnTo>
                    <a:pt x="17" y="36"/>
                  </a:lnTo>
                  <a:lnTo>
                    <a:pt x="13" y="28"/>
                  </a:lnTo>
                  <a:lnTo>
                    <a:pt x="9" y="20"/>
                  </a:lnTo>
                  <a:lnTo>
                    <a:pt x="5" y="10"/>
                  </a:lnTo>
                  <a:lnTo>
                    <a:pt x="5" y="9"/>
                  </a:lnTo>
                  <a:lnTo>
                    <a:pt x="3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85" y="0"/>
                  </a:lnTo>
                  <a:lnTo>
                    <a:pt x="490" y="4"/>
                  </a:lnTo>
                  <a:lnTo>
                    <a:pt x="494" y="8"/>
                  </a:lnTo>
                  <a:lnTo>
                    <a:pt x="498" y="13"/>
                  </a:lnTo>
                  <a:lnTo>
                    <a:pt x="502" y="17"/>
                  </a:lnTo>
                  <a:lnTo>
                    <a:pt x="507" y="23"/>
                  </a:lnTo>
                  <a:lnTo>
                    <a:pt x="513" y="28"/>
                  </a:lnTo>
                  <a:lnTo>
                    <a:pt x="518" y="34"/>
                  </a:lnTo>
                  <a:lnTo>
                    <a:pt x="523" y="40"/>
                  </a:lnTo>
                  <a:lnTo>
                    <a:pt x="527" y="44"/>
                  </a:lnTo>
                  <a:lnTo>
                    <a:pt x="533" y="49"/>
                  </a:lnTo>
                  <a:lnTo>
                    <a:pt x="537" y="53"/>
                  </a:lnTo>
                  <a:lnTo>
                    <a:pt x="542" y="58"/>
                  </a:lnTo>
                  <a:lnTo>
                    <a:pt x="546" y="63"/>
                  </a:lnTo>
                  <a:lnTo>
                    <a:pt x="551" y="68"/>
                  </a:lnTo>
                  <a:lnTo>
                    <a:pt x="556" y="72"/>
                  </a:lnTo>
                  <a:lnTo>
                    <a:pt x="560" y="76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715720" y="1099800"/>
              <a:ext cx="216000" cy="30240"/>
            </a:xfrm>
            <a:custGeom>
              <a:avLst/>
              <a:gdLst/>
              <a:ahLst/>
              <a:rect l="l" t="t" r="r" b="b"/>
              <a:pathLst>
                <a:path w="534" h="76">
                  <a:moveTo>
                    <a:pt x="534" y="76"/>
                  </a:moveTo>
                  <a:lnTo>
                    <a:pt x="31" y="76"/>
                  </a:lnTo>
                  <a:lnTo>
                    <a:pt x="29" y="73"/>
                  </a:lnTo>
                  <a:lnTo>
                    <a:pt x="28" y="70"/>
                  </a:lnTo>
                  <a:lnTo>
                    <a:pt x="26" y="67"/>
                  </a:lnTo>
                  <a:lnTo>
                    <a:pt x="24" y="63"/>
                  </a:lnTo>
                  <a:lnTo>
                    <a:pt x="23" y="60"/>
                  </a:lnTo>
                  <a:lnTo>
                    <a:pt x="21" y="56"/>
                  </a:lnTo>
                  <a:lnTo>
                    <a:pt x="20" y="53"/>
                  </a:lnTo>
                  <a:lnTo>
                    <a:pt x="18" y="49"/>
                  </a:lnTo>
                  <a:lnTo>
                    <a:pt x="15" y="44"/>
                  </a:lnTo>
                  <a:lnTo>
                    <a:pt x="12" y="38"/>
                  </a:lnTo>
                  <a:lnTo>
                    <a:pt x="10" y="31"/>
                  </a:lnTo>
                  <a:lnTo>
                    <a:pt x="8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71" y="1"/>
                  </a:lnTo>
                  <a:lnTo>
                    <a:pt x="471" y="2"/>
                  </a:lnTo>
                  <a:lnTo>
                    <a:pt x="471" y="2"/>
                  </a:lnTo>
                  <a:lnTo>
                    <a:pt x="472" y="3"/>
                  </a:lnTo>
                  <a:lnTo>
                    <a:pt x="472" y="4"/>
                  </a:lnTo>
                  <a:lnTo>
                    <a:pt x="472" y="4"/>
                  </a:lnTo>
                  <a:lnTo>
                    <a:pt x="473" y="5"/>
                  </a:lnTo>
                  <a:lnTo>
                    <a:pt x="477" y="11"/>
                  </a:lnTo>
                  <a:lnTo>
                    <a:pt x="483" y="19"/>
                  </a:lnTo>
                  <a:lnTo>
                    <a:pt x="489" y="26"/>
                  </a:lnTo>
                  <a:lnTo>
                    <a:pt x="496" y="35"/>
                  </a:lnTo>
                  <a:lnTo>
                    <a:pt x="504" y="45"/>
                  </a:lnTo>
                  <a:lnTo>
                    <a:pt x="513" y="54"/>
                  </a:lnTo>
                  <a:lnTo>
                    <a:pt x="524" y="65"/>
                  </a:lnTo>
                  <a:lnTo>
                    <a:pt x="534" y="76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711400" y="1083600"/>
              <a:ext cx="205920" cy="32760"/>
            </a:xfrm>
            <a:custGeom>
              <a:avLst/>
              <a:gdLst/>
              <a:ahLst/>
              <a:rect l="l" t="t" r="r" b="b"/>
              <a:pathLst>
                <a:path w="507" h="78">
                  <a:moveTo>
                    <a:pt x="507" y="78"/>
                  </a:moveTo>
                  <a:lnTo>
                    <a:pt x="22" y="78"/>
                  </a:lnTo>
                  <a:lnTo>
                    <a:pt x="18" y="68"/>
                  </a:lnTo>
                  <a:lnTo>
                    <a:pt x="15" y="59"/>
                  </a:lnTo>
                  <a:lnTo>
                    <a:pt x="12" y="49"/>
                  </a:lnTo>
                  <a:lnTo>
                    <a:pt x="9" y="39"/>
                  </a:lnTo>
                  <a:lnTo>
                    <a:pt x="7" y="29"/>
                  </a:lnTo>
                  <a:lnTo>
                    <a:pt x="4" y="20"/>
                  </a:lnTo>
                  <a:lnTo>
                    <a:pt x="2" y="9"/>
                  </a:lnTo>
                  <a:lnTo>
                    <a:pt x="0" y="0"/>
                  </a:lnTo>
                  <a:lnTo>
                    <a:pt x="466" y="0"/>
                  </a:lnTo>
                  <a:lnTo>
                    <a:pt x="468" y="5"/>
                  </a:lnTo>
                  <a:lnTo>
                    <a:pt x="469" y="10"/>
                  </a:lnTo>
                  <a:lnTo>
                    <a:pt x="470" y="16"/>
                  </a:lnTo>
                  <a:lnTo>
                    <a:pt x="472" y="21"/>
                  </a:lnTo>
                  <a:lnTo>
                    <a:pt x="474" y="27"/>
                  </a:lnTo>
                  <a:lnTo>
                    <a:pt x="476" y="32"/>
                  </a:lnTo>
                  <a:lnTo>
                    <a:pt x="479" y="38"/>
                  </a:lnTo>
                  <a:lnTo>
                    <a:pt x="482" y="44"/>
                  </a:lnTo>
                  <a:lnTo>
                    <a:pt x="484" y="47"/>
                  </a:lnTo>
                  <a:lnTo>
                    <a:pt x="486" y="51"/>
                  </a:lnTo>
                  <a:lnTo>
                    <a:pt x="490" y="55"/>
                  </a:lnTo>
                  <a:lnTo>
                    <a:pt x="493" y="59"/>
                  </a:lnTo>
                  <a:lnTo>
                    <a:pt x="496" y="63"/>
                  </a:lnTo>
                  <a:lnTo>
                    <a:pt x="499" y="67"/>
                  </a:lnTo>
                  <a:lnTo>
                    <a:pt x="503" y="72"/>
                  </a:lnTo>
                  <a:lnTo>
                    <a:pt x="507" y="78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709240" y="1067400"/>
              <a:ext cx="198000" cy="32400"/>
            </a:xfrm>
            <a:custGeom>
              <a:avLst/>
              <a:gdLst/>
              <a:ahLst/>
              <a:rect l="l" t="t" r="r" b="b"/>
              <a:pathLst>
                <a:path w="482" h="78">
                  <a:moveTo>
                    <a:pt x="482" y="78"/>
                  </a:moveTo>
                  <a:lnTo>
                    <a:pt x="12" y="78"/>
                  </a:lnTo>
                  <a:lnTo>
                    <a:pt x="10" y="68"/>
                  </a:lnTo>
                  <a:lnTo>
                    <a:pt x="7" y="59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2" y="29"/>
                  </a:lnTo>
                  <a:lnTo>
                    <a:pt x="1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78" y="0"/>
                  </a:lnTo>
                  <a:lnTo>
                    <a:pt x="476" y="4"/>
                  </a:lnTo>
                  <a:lnTo>
                    <a:pt x="475" y="7"/>
                  </a:lnTo>
                  <a:lnTo>
                    <a:pt x="473" y="12"/>
                  </a:lnTo>
                  <a:lnTo>
                    <a:pt x="472" y="16"/>
                  </a:lnTo>
                  <a:lnTo>
                    <a:pt x="471" y="21"/>
                  </a:lnTo>
                  <a:lnTo>
                    <a:pt x="471" y="25"/>
                  </a:lnTo>
                  <a:lnTo>
                    <a:pt x="469" y="29"/>
                  </a:lnTo>
                  <a:lnTo>
                    <a:pt x="469" y="35"/>
                  </a:lnTo>
                  <a:lnTo>
                    <a:pt x="469" y="40"/>
                  </a:lnTo>
                  <a:lnTo>
                    <a:pt x="471" y="45"/>
                  </a:lnTo>
                  <a:lnTo>
                    <a:pt x="472" y="50"/>
                  </a:lnTo>
                  <a:lnTo>
                    <a:pt x="473" y="56"/>
                  </a:lnTo>
                  <a:lnTo>
                    <a:pt x="475" y="61"/>
                  </a:lnTo>
                  <a:lnTo>
                    <a:pt x="477" y="66"/>
                  </a:lnTo>
                  <a:lnTo>
                    <a:pt x="479" y="71"/>
                  </a:lnTo>
                  <a:lnTo>
                    <a:pt x="482" y="78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09240" y="10530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69" y="78"/>
                  </a:moveTo>
                  <a:lnTo>
                    <a:pt x="3" y="78"/>
                  </a:lnTo>
                  <a:lnTo>
                    <a:pt x="3" y="72"/>
                  </a:lnTo>
                  <a:lnTo>
                    <a:pt x="2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29" y="1"/>
                  </a:lnTo>
                  <a:lnTo>
                    <a:pt x="524" y="3"/>
                  </a:lnTo>
                  <a:lnTo>
                    <a:pt x="520" y="5"/>
                  </a:lnTo>
                  <a:lnTo>
                    <a:pt x="515" y="7"/>
                  </a:lnTo>
                  <a:lnTo>
                    <a:pt x="510" y="10"/>
                  </a:lnTo>
                  <a:lnTo>
                    <a:pt x="506" y="12"/>
                  </a:lnTo>
                  <a:lnTo>
                    <a:pt x="502" y="14"/>
                  </a:lnTo>
                  <a:lnTo>
                    <a:pt x="499" y="17"/>
                  </a:lnTo>
                  <a:lnTo>
                    <a:pt x="492" y="22"/>
                  </a:lnTo>
                  <a:lnTo>
                    <a:pt x="486" y="29"/>
                  </a:lnTo>
                  <a:lnTo>
                    <a:pt x="481" y="35"/>
                  </a:lnTo>
                  <a:lnTo>
                    <a:pt x="477" y="41"/>
                  </a:lnTo>
                  <a:lnTo>
                    <a:pt x="474" y="49"/>
                  </a:lnTo>
                  <a:lnTo>
                    <a:pt x="472" y="57"/>
                  </a:lnTo>
                  <a:lnTo>
                    <a:pt x="471" y="65"/>
                  </a:lnTo>
                  <a:lnTo>
                    <a:pt x="469" y="74"/>
                  </a:lnTo>
                  <a:lnTo>
                    <a:pt x="469" y="75"/>
                  </a:lnTo>
                  <a:lnTo>
                    <a:pt x="469" y="75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6"/>
                  </a:lnTo>
                  <a:lnTo>
                    <a:pt x="469" y="77"/>
                  </a:lnTo>
                  <a:lnTo>
                    <a:pt x="469" y="77"/>
                  </a:lnTo>
                  <a:lnTo>
                    <a:pt x="469" y="78"/>
                  </a:lnTo>
                  <a:close/>
                  <a:moveTo>
                    <a:pt x="628" y="0"/>
                  </a:moveTo>
                  <a:lnTo>
                    <a:pt x="725" y="0"/>
                  </a:lnTo>
                  <a:lnTo>
                    <a:pt x="725" y="33"/>
                  </a:lnTo>
                  <a:lnTo>
                    <a:pt x="715" y="29"/>
                  </a:lnTo>
                  <a:lnTo>
                    <a:pt x="706" y="23"/>
                  </a:lnTo>
                  <a:lnTo>
                    <a:pt x="696" y="20"/>
                  </a:lnTo>
                  <a:lnTo>
                    <a:pt x="687" y="16"/>
                  </a:lnTo>
                  <a:lnTo>
                    <a:pt x="677" y="13"/>
                  </a:lnTo>
                  <a:lnTo>
                    <a:pt x="668" y="10"/>
                  </a:lnTo>
                  <a:lnTo>
                    <a:pt x="658" y="8"/>
                  </a:lnTo>
                  <a:lnTo>
                    <a:pt x="649" y="4"/>
                  </a:lnTo>
                  <a:lnTo>
                    <a:pt x="646" y="4"/>
                  </a:lnTo>
                  <a:lnTo>
                    <a:pt x="644" y="3"/>
                  </a:lnTo>
                  <a:lnTo>
                    <a:pt x="642" y="3"/>
                  </a:lnTo>
                  <a:lnTo>
                    <a:pt x="639" y="2"/>
                  </a:lnTo>
                  <a:lnTo>
                    <a:pt x="636" y="2"/>
                  </a:lnTo>
                  <a:lnTo>
                    <a:pt x="633" y="1"/>
                  </a:lnTo>
                  <a:lnTo>
                    <a:pt x="631" y="1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09240" y="1036800"/>
              <a:ext cx="295920" cy="30240"/>
            </a:xfrm>
            <a:custGeom>
              <a:avLst/>
              <a:gdLst/>
              <a:ahLst/>
              <a:rect l="l" t="t" r="r" b="b"/>
              <a:pathLst>
                <a:path w="725" h="78">
                  <a:moveTo>
                    <a:pt x="478" y="78"/>
                  </a:moveTo>
                  <a:lnTo>
                    <a:pt x="0" y="78"/>
                  </a:lnTo>
                  <a:lnTo>
                    <a:pt x="0" y="76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3"/>
                  </a:lnTo>
                  <a:lnTo>
                    <a:pt x="2" y="15"/>
                  </a:lnTo>
                  <a:lnTo>
                    <a:pt x="2" y="8"/>
                  </a:lnTo>
                  <a:lnTo>
                    <a:pt x="3" y="0"/>
                  </a:lnTo>
                  <a:lnTo>
                    <a:pt x="725" y="0"/>
                  </a:lnTo>
                  <a:lnTo>
                    <a:pt x="725" y="72"/>
                  </a:lnTo>
                  <a:lnTo>
                    <a:pt x="715" y="68"/>
                  </a:lnTo>
                  <a:lnTo>
                    <a:pt x="706" y="62"/>
                  </a:lnTo>
                  <a:lnTo>
                    <a:pt x="696" y="59"/>
                  </a:lnTo>
                  <a:lnTo>
                    <a:pt x="687" y="55"/>
                  </a:lnTo>
                  <a:lnTo>
                    <a:pt x="677" y="52"/>
                  </a:lnTo>
                  <a:lnTo>
                    <a:pt x="668" y="49"/>
                  </a:lnTo>
                  <a:lnTo>
                    <a:pt x="658" y="47"/>
                  </a:lnTo>
                  <a:lnTo>
                    <a:pt x="649" y="43"/>
                  </a:lnTo>
                  <a:lnTo>
                    <a:pt x="640" y="41"/>
                  </a:lnTo>
                  <a:lnTo>
                    <a:pt x="630" y="39"/>
                  </a:lnTo>
                  <a:lnTo>
                    <a:pt x="622" y="38"/>
                  </a:lnTo>
                  <a:lnTo>
                    <a:pt x="612" y="37"/>
                  </a:lnTo>
                  <a:lnTo>
                    <a:pt x="604" y="36"/>
                  </a:lnTo>
                  <a:lnTo>
                    <a:pt x="594" y="35"/>
                  </a:lnTo>
                  <a:lnTo>
                    <a:pt x="586" y="35"/>
                  </a:lnTo>
                  <a:lnTo>
                    <a:pt x="578" y="35"/>
                  </a:lnTo>
                  <a:lnTo>
                    <a:pt x="565" y="35"/>
                  </a:lnTo>
                  <a:lnTo>
                    <a:pt x="553" y="36"/>
                  </a:lnTo>
                  <a:lnTo>
                    <a:pt x="543" y="37"/>
                  </a:lnTo>
                  <a:lnTo>
                    <a:pt x="532" y="40"/>
                  </a:lnTo>
                  <a:lnTo>
                    <a:pt x="523" y="42"/>
                  </a:lnTo>
                  <a:lnTo>
                    <a:pt x="515" y="47"/>
                  </a:lnTo>
                  <a:lnTo>
                    <a:pt x="506" y="51"/>
                  </a:lnTo>
                  <a:lnTo>
                    <a:pt x="499" y="56"/>
                  </a:lnTo>
                  <a:lnTo>
                    <a:pt x="496" y="58"/>
                  </a:lnTo>
                  <a:lnTo>
                    <a:pt x="493" y="60"/>
                  </a:lnTo>
                  <a:lnTo>
                    <a:pt x="489" y="63"/>
                  </a:lnTo>
                  <a:lnTo>
                    <a:pt x="487" y="67"/>
                  </a:lnTo>
                  <a:lnTo>
                    <a:pt x="484" y="69"/>
                  </a:lnTo>
                  <a:lnTo>
                    <a:pt x="482" y="72"/>
                  </a:lnTo>
                  <a:lnTo>
                    <a:pt x="480" y="75"/>
                  </a:lnTo>
                  <a:lnTo>
                    <a:pt x="478" y="78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09240" y="1020240"/>
              <a:ext cx="295920" cy="32760"/>
            </a:xfrm>
            <a:custGeom>
              <a:avLst/>
              <a:gdLst/>
              <a:ahLst/>
              <a:rect l="l" t="t" r="r" b="b"/>
              <a:pathLst>
                <a:path w="725" h="77">
                  <a:moveTo>
                    <a:pt x="725" y="77"/>
                  </a:moveTo>
                  <a:lnTo>
                    <a:pt x="628" y="77"/>
                  </a:lnTo>
                  <a:lnTo>
                    <a:pt x="622" y="76"/>
                  </a:lnTo>
                  <a:lnTo>
                    <a:pt x="615" y="75"/>
                  </a:lnTo>
                  <a:lnTo>
                    <a:pt x="609" y="74"/>
                  </a:lnTo>
                  <a:lnTo>
                    <a:pt x="603" y="74"/>
                  </a:lnTo>
                  <a:lnTo>
                    <a:pt x="597" y="73"/>
                  </a:lnTo>
                  <a:lnTo>
                    <a:pt x="590" y="73"/>
                  </a:lnTo>
                  <a:lnTo>
                    <a:pt x="584" y="73"/>
                  </a:lnTo>
                  <a:lnTo>
                    <a:pt x="578" y="73"/>
                  </a:lnTo>
                  <a:lnTo>
                    <a:pt x="571" y="73"/>
                  </a:lnTo>
                  <a:lnTo>
                    <a:pt x="566" y="73"/>
                  </a:lnTo>
                  <a:lnTo>
                    <a:pt x="560" y="73"/>
                  </a:lnTo>
                  <a:lnTo>
                    <a:pt x="555" y="74"/>
                  </a:lnTo>
                  <a:lnTo>
                    <a:pt x="549" y="74"/>
                  </a:lnTo>
                  <a:lnTo>
                    <a:pt x="544" y="75"/>
                  </a:lnTo>
                  <a:lnTo>
                    <a:pt x="539" y="76"/>
                  </a:lnTo>
                  <a:lnTo>
                    <a:pt x="535" y="7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1" y="57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8"/>
                  </a:lnTo>
                  <a:lnTo>
                    <a:pt x="6" y="18"/>
                  </a:lnTo>
                  <a:lnTo>
                    <a:pt x="9" y="9"/>
                  </a:lnTo>
                  <a:lnTo>
                    <a:pt x="11" y="0"/>
                  </a:lnTo>
                  <a:lnTo>
                    <a:pt x="725" y="0"/>
                  </a:lnTo>
                  <a:lnTo>
                    <a:pt x="725" y="77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711400" y="1005840"/>
              <a:ext cx="293760" cy="3096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722" y="76"/>
                  </a:move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7"/>
                  </a:lnTo>
                  <a:lnTo>
                    <a:pt x="8" y="36"/>
                  </a:lnTo>
                  <a:lnTo>
                    <a:pt x="10" y="27"/>
                  </a:lnTo>
                  <a:lnTo>
                    <a:pt x="13" y="18"/>
                  </a:lnTo>
                  <a:lnTo>
                    <a:pt x="15" y="8"/>
                  </a:lnTo>
                  <a:lnTo>
                    <a:pt x="18" y="0"/>
                  </a:lnTo>
                  <a:lnTo>
                    <a:pt x="722" y="0"/>
                  </a:lnTo>
                  <a:lnTo>
                    <a:pt x="722" y="76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713200" y="989640"/>
              <a:ext cx="291960" cy="30240"/>
            </a:xfrm>
            <a:custGeom>
              <a:avLst/>
              <a:gdLst/>
              <a:ahLst/>
              <a:rect l="l" t="t" r="r" b="b"/>
              <a:pathLst>
                <a:path w="714" h="77">
                  <a:moveTo>
                    <a:pt x="714" y="77"/>
                  </a:moveTo>
                  <a:lnTo>
                    <a:pt x="0" y="77"/>
                  </a:lnTo>
                  <a:lnTo>
                    <a:pt x="2" y="67"/>
                  </a:lnTo>
                  <a:lnTo>
                    <a:pt x="5" y="57"/>
                  </a:lnTo>
                  <a:lnTo>
                    <a:pt x="7" y="47"/>
                  </a:lnTo>
                  <a:lnTo>
                    <a:pt x="11" y="37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2" y="8"/>
                  </a:lnTo>
                  <a:lnTo>
                    <a:pt x="26" y="0"/>
                  </a:lnTo>
                  <a:lnTo>
                    <a:pt x="714" y="0"/>
                  </a:lnTo>
                  <a:lnTo>
                    <a:pt x="714" y="77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717520" y="973440"/>
              <a:ext cx="287640" cy="32400"/>
            </a:xfrm>
            <a:custGeom>
              <a:avLst/>
              <a:gdLst/>
              <a:ahLst/>
              <a:rect l="l" t="t" r="r" b="b"/>
              <a:pathLst>
                <a:path w="704" h="78">
                  <a:moveTo>
                    <a:pt x="704" y="78"/>
                  </a:moveTo>
                  <a:lnTo>
                    <a:pt x="0" y="78"/>
                  </a:lnTo>
                  <a:lnTo>
                    <a:pt x="4" y="67"/>
                  </a:lnTo>
                  <a:lnTo>
                    <a:pt x="9" y="57"/>
                  </a:lnTo>
                  <a:lnTo>
                    <a:pt x="13" y="47"/>
                  </a:lnTo>
                  <a:lnTo>
                    <a:pt x="17" y="37"/>
                  </a:lnTo>
                  <a:lnTo>
                    <a:pt x="22" y="27"/>
                  </a:lnTo>
                  <a:lnTo>
                    <a:pt x="27" y="18"/>
                  </a:lnTo>
                  <a:lnTo>
                    <a:pt x="33" y="9"/>
                  </a:lnTo>
                  <a:lnTo>
                    <a:pt x="39" y="0"/>
                  </a:lnTo>
                  <a:lnTo>
                    <a:pt x="704" y="0"/>
                  </a:lnTo>
                  <a:lnTo>
                    <a:pt x="704" y="78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25800" y="956880"/>
              <a:ext cx="279360" cy="32400"/>
            </a:xfrm>
            <a:custGeom>
              <a:avLst/>
              <a:gdLst/>
              <a:ahLst/>
              <a:rect l="l" t="t" r="r" b="b"/>
              <a:pathLst>
                <a:path w="688" h="78">
                  <a:moveTo>
                    <a:pt x="688" y="78"/>
                  </a:moveTo>
                  <a:lnTo>
                    <a:pt x="0" y="78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8" y="47"/>
                  </a:lnTo>
                  <a:lnTo>
                    <a:pt x="24" y="37"/>
                  </a:lnTo>
                  <a:lnTo>
                    <a:pt x="30" y="27"/>
                  </a:lnTo>
                  <a:lnTo>
                    <a:pt x="38" y="18"/>
                  </a:lnTo>
                  <a:lnTo>
                    <a:pt x="45" y="10"/>
                  </a:lnTo>
                  <a:lnTo>
                    <a:pt x="52" y="0"/>
                  </a:lnTo>
                  <a:lnTo>
                    <a:pt x="688" y="0"/>
                  </a:lnTo>
                  <a:lnTo>
                    <a:pt x="688" y="78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733720" y="940320"/>
              <a:ext cx="271440" cy="32760"/>
            </a:xfrm>
            <a:custGeom>
              <a:avLst/>
              <a:gdLst/>
              <a:ahLst/>
              <a:rect l="l" t="t" r="r" b="b"/>
              <a:pathLst>
                <a:path w="665" h="78">
                  <a:moveTo>
                    <a:pt x="665" y="78"/>
                  </a:moveTo>
                  <a:lnTo>
                    <a:pt x="0" y="78"/>
                  </a:lnTo>
                  <a:lnTo>
                    <a:pt x="6" y="68"/>
                  </a:lnTo>
                  <a:lnTo>
                    <a:pt x="15" y="57"/>
                  </a:lnTo>
                  <a:lnTo>
                    <a:pt x="23" y="48"/>
                  </a:lnTo>
                  <a:lnTo>
                    <a:pt x="31" y="37"/>
                  </a:lnTo>
                  <a:lnTo>
                    <a:pt x="40" y="28"/>
                  </a:lnTo>
                  <a:lnTo>
                    <a:pt x="49" y="18"/>
                  </a:lnTo>
                  <a:lnTo>
                    <a:pt x="60" y="10"/>
                  </a:lnTo>
                  <a:lnTo>
                    <a:pt x="70" y="0"/>
                  </a:lnTo>
                  <a:lnTo>
                    <a:pt x="665" y="0"/>
                  </a:lnTo>
                  <a:lnTo>
                    <a:pt x="665" y="78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320" y="925920"/>
              <a:ext cx="258840" cy="30960"/>
            </a:xfrm>
            <a:custGeom>
              <a:avLst/>
              <a:gdLst/>
              <a:ahLst/>
              <a:rect l="l" t="t" r="r" b="b"/>
              <a:pathLst>
                <a:path w="636" h="78">
                  <a:moveTo>
                    <a:pt x="636" y="78"/>
                  </a:moveTo>
                  <a:lnTo>
                    <a:pt x="0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7" y="60"/>
                  </a:lnTo>
                  <a:lnTo>
                    <a:pt x="23" y="55"/>
                  </a:lnTo>
                  <a:lnTo>
                    <a:pt x="29" y="50"/>
                  </a:lnTo>
                  <a:lnTo>
                    <a:pt x="35" y="45"/>
                  </a:lnTo>
                  <a:lnTo>
                    <a:pt x="41" y="39"/>
                  </a:lnTo>
                  <a:lnTo>
                    <a:pt x="49" y="34"/>
                  </a:lnTo>
                  <a:lnTo>
                    <a:pt x="54" y="29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6"/>
                  </a:lnTo>
                  <a:lnTo>
                    <a:pt x="78" y="12"/>
                  </a:lnTo>
                  <a:lnTo>
                    <a:pt x="84" y="9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636" y="0"/>
                  </a:lnTo>
                  <a:lnTo>
                    <a:pt x="636" y="78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762520" y="909720"/>
              <a:ext cx="242640" cy="30240"/>
            </a:xfrm>
            <a:custGeom>
              <a:avLst/>
              <a:gdLst/>
              <a:ahLst/>
              <a:rect l="l" t="t" r="r" b="b"/>
              <a:pathLst>
                <a:path w="595" h="76">
                  <a:moveTo>
                    <a:pt x="595" y="76"/>
                  </a:moveTo>
                  <a:lnTo>
                    <a:pt x="0" y="76"/>
                  </a:lnTo>
                  <a:lnTo>
                    <a:pt x="0" y="76"/>
                  </a:lnTo>
                  <a:lnTo>
                    <a:pt x="1" y="75"/>
                  </a:lnTo>
                  <a:lnTo>
                    <a:pt x="2" y="74"/>
                  </a:lnTo>
                  <a:lnTo>
                    <a:pt x="3" y="73"/>
                  </a:lnTo>
                  <a:lnTo>
                    <a:pt x="5" y="73"/>
                  </a:lnTo>
                  <a:lnTo>
                    <a:pt x="6" y="72"/>
                  </a:lnTo>
                  <a:lnTo>
                    <a:pt x="7" y="71"/>
                  </a:lnTo>
                  <a:lnTo>
                    <a:pt x="8" y="71"/>
                  </a:lnTo>
                  <a:lnTo>
                    <a:pt x="22" y="60"/>
                  </a:lnTo>
                  <a:lnTo>
                    <a:pt x="37" y="49"/>
                  </a:lnTo>
                  <a:lnTo>
                    <a:pt x="53" y="40"/>
                  </a:lnTo>
                  <a:lnTo>
                    <a:pt x="70" y="30"/>
                  </a:lnTo>
                  <a:lnTo>
                    <a:pt x="86" y="22"/>
                  </a:lnTo>
                  <a:lnTo>
                    <a:pt x="103" y="13"/>
                  </a:lnTo>
                  <a:lnTo>
                    <a:pt x="122" y="6"/>
                  </a:lnTo>
                  <a:lnTo>
                    <a:pt x="140" y="0"/>
                  </a:lnTo>
                  <a:lnTo>
                    <a:pt x="595" y="0"/>
                  </a:lnTo>
                  <a:lnTo>
                    <a:pt x="595" y="76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84480" y="895320"/>
              <a:ext cx="220680" cy="30240"/>
            </a:xfrm>
            <a:custGeom>
              <a:avLst/>
              <a:gdLst/>
              <a:ahLst/>
              <a:rect l="l" t="t" r="r" b="b"/>
              <a:pathLst>
                <a:path w="539" h="75">
                  <a:moveTo>
                    <a:pt x="539" y="75"/>
                  </a:moveTo>
                  <a:lnTo>
                    <a:pt x="0" y="75"/>
                  </a:lnTo>
                  <a:lnTo>
                    <a:pt x="16" y="67"/>
                  </a:lnTo>
                  <a:lnTo>
                    <a:pt x="34" y="59"/>
                  </a:lnTo>
                  <a:lnTo>
                    <a:pt x="50" y="50"/>
                  </a:lnTo>
                  <a:lnTo>
                    <a:pt x="69" y="43"/>
                  </a:lnTo>
                  <a:lnTo>
                    <a:pt x="88" y="36"/>
                  </a:lnTo>
                  <a:lnTo>
                    <a:pt x="107" y="29"/>
                  </a:lnTo>
                  <a:lnTo>
                    <a:pt x="127" y="24"/>
                  </a:lnTo>
                  <a:lnTo>
                    <a:pt x="148" y="19"/>
                  </a:lnTo>
                  <a:lnTo>
                    <a:pt x="169" y="15"/>
                  </a:lnTo>
                  <a:lnTo>
                    <a:pt x="191" y="10"/>
                  </a:lnTo>
                  <a:lnTo>
                    <a:pt x="213" y="7"/>
                  </a:lnTo>
                  <a:lnTo>
                    <a:pt x="236" y="5"/>
                  </a:lnTo>
                  <a:lnTo>
                    <a:pt x="259" y="3"/>
                  </a:lnTo>
                  <a:lnTo>
                    <a:pt x="283" y="1"/>
                  </a:lnTo>
                  <a:lnTo>
                    <a:pt x="309" y="1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1"/>
                  </a:lnTo>
                  <a:lnTo>
                    <a:pt x="369" y="1"/>
                  </a:lnTo>
                  <a:lnTo>
                    <a:pt x="381" y="1"/>
                  </a:lnTo>
                  <a:lnTo>
                    <a:pt x="393" y="2"/>
                  </a:lnTo>
                  <a:lnTo>
                    <a:pt x="405" y="3"/>
                  </a:lnTo>
                  <a:lnTo>
                    <a:pt x="418" y="4"/>
                  </a:lnTo>
                  <a:lnTo>
                    <a:pt x="430" y="5"/>
                  </a:lnTo>
                  <a:lnTo>
                    <a:pt x="443" y="7"/>
                  </a:lnTo>
                  <a:lnTo>
                    <a:pt x="456" y="8"/>
                  </a:lnTo>
                  <a:lnTo>
                    <a:pt x="469" y="10"/>
                  </a:lnTo>
                  <a:lnTo>
                    <a:pt x="483" y="11"/>
                  </a:lnTo>
                  <a:lnTo>
                    <a:pt x="497" y="14"/>
                  </a:lnTo>
                  <a:lnTo>
                    <a:pt x="510" y="16"/>
                  </a:lnTo>
                  <a:lnTo>
                    <a:pt x="524" y="18"/>
                  </a:lnTo>
                  <a:lnTo>
                    <a:pt x="539" y="21"/>
                  </a:lnTo>
                  <a:lnTo>
                    <a:pt x="539" y="75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819400" y="895320"/>
              <a:ext cx="185760" cy="14040"/>
            </a:xfrm>
            <a:custGeom>
              <a:avLst/>
              <a:gdLst/>
              <a:ahLst/>
              <a:rect l="l" t="t" r="r" b="b"/>
              <a:pathLst>
                <a:path w="455" h="38">
                  <a:moveTo>
                    <a:pt x="455" y="38"/>
                  </a:moveTo>
                  <a:lnTo>
                    <a:pt x="0" y="38"/>
                  </a:lnTo>
                  <a:lnTo>
                    <a:pt x="27" y="28"/>
                  </a:lnTo>
                  <a:lnTo>
                    <a:pt x="56" y="21"/>
                  </a:lnTo>
                  <a:lnTo>
                    <a:pt x="85" y="15"/>
                  </a:lnTo>
                  <a:lnTo>
                    <a:pt x="115" y="9"/>
                  </a:lnTo>
                  <a:lnTo>
                    <a:pt x="147" y="5"/>
                  </a:lnTo>
                  <a:lnTo>
                    <a:pt x="181" y="2"/>
                  </a:lnTo>
                  <a:lnTo>
                    <a:pt x="214" y="1"/>
                  </a:lnTo>
                  <a:lnTo>
                    <a:pt x="250" y="0"/>
                  </a:lnTo>
                  <a:lnTo>
                    <a:pt x="261" y="0"/>
                  </a:lnTo>
                  <a:lnTo>
                    <a:pt x="273" y="1"/>
                  </a:lnTo>
                  <a:lnTo>
                    <a:pt x="285" y="1"/>
                  </a:lnTo>
                  <a:lnTo>
                    <a:pt x="297" y="1"/>
                  </a:lnTo>
                  <a:lnTo>
                    <a:pt x="309" y="2"/>
                  </a:lnTo>
                  <a:lnTo>
                    <a:pt x="321" y="3"/>
                  </a:lnTo>
                  <a:lnTo>
                    <a:pt x="334" y="4"/>
                  </a:lnTo>
                  <a:lnTo>
                    <a:pt x="346" y="5"/>
                  </a:lnTo>
                  <a:lnTo>
                    <a:pt x="359" y="7"/>
                  </a:lnTo>
                  <a:lnTo>
                    <a:pt x="372" y="8"/>
                  </a:lnTo>
                  <a:lnTo>
                    <a:pt x="385" y="10"/>
                  </a:lnTo>
                  <a:lnTo>
                    <a:pt x="399" y="11"/>
                  </a:lnTo>
                  <a:lnTo>
                    <a:pt x="413" y="14"/>
                  </a:lnTo>
                  <a:lnTo>
                    <a:pt x="426" y="16"/>
                  </a:lnTo>
                  <a:lnTo>
                    <a:pt x="440" y="18"/>
                  </a:lnTo>
                  <a:lnTo>
                    <a:pt x="455" y="21"/>
                  </a:lnTo>
                  <a:lnTo>
                    <a:pt x="455" y="38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254400" y="673200"/>
              <a:ext cx="404280" cy="790200"/>
            </a:xfrm>
            <a:custGeom>
              <a:avLst/>
              <a:gdLst/>
              <a:ahLst/>
              <a:rect l="l" t="t" r="r" b="b"/>
              <a:pathLst>
                <a:path w="991" h="1934">
                  <a:moveTo>
                    <a:pt x="35" y="1910"/>
                  </a:moveTo>
                  <a:lnTo>
                    <a:pt x="23" y="1393"/>
                  </a:lnTo>
                  <a:lnTo>
                    <a:pt x="36" y="1400"/>
                  </a:lnTo>
                  <a:lnTo>
                    <a:pt x="50" y="1405"/>
                  </a:lnTo>
                  <a:lnTo>
                    <a:pt x="63" y="1409"/>
                  </a:lnTo>
                  <a:lnTo>
                    <a:pt x="76" y="1414"/>
                  </a:lnTo>
                  <a:lnTo>
                    <a:pt x="89" y="1419"/>
                  </a:lnTo>
                  <a:lnTo>
                    <a:pt x="102" y="1422"/>
                  </a:lnTo>
                  <a:lnTo>
                    <a:pt x="115" y="1426"/>
                  </a:lnTo>
                  <a:lnTo>
                    <a:pt x="128" y="1429"/>
                  </a:lnTo>
                  <a:lnTo>
                    <a:pt x="140" y="1431"/>
                  </a:lnTo>
                  <a:lnTo>
                    <a:pt x="152" y="1434"/>
                  </a:lnTo>
                  <a:lnTo>
                    <a:pt x="164" y="1436"/>
                  </a:lnTo>
                  <a:lnTo>
                    <a:pt x="176" y="1437"/>
                  </a:lnTo>
                  <a:lnTo>
                    <a:pt x="187" y="1440"/>
                  </a:lnTo>
                  <a:lnTo>
                    <a:pt x="200" y="1440"/>
                  </a:lnTo>
                  <a:lnTo>
                    <a:pt x="211" y="1441"/>
                  </a:lnTo>
                  <a:lnTo>
                    <a:pt x="222" y="1441"/>
                  </a:lnTo>
                  <a:lnTo>
                    <a:pt x="242" y="1441"/>
                  </a:lnTo>
                  <a:lnTo>
                    <a:pt x="261" y="1439"/>
                  </a:lnTo>
                  <a:lnTo>
                    <a:pt x="279" y="1435"/>
                  </a:lnTo>
                  <a:lnTo>
                    <a:pt x="296" y="1430"/>
                  </a:lnTo>
                  <a:lnTo>
                    <a:pt x="311" y="1424"/>
                  </a:lnTo>
                  <a:lnTo>
                    <a:pt x="327" y="1418"/>
                  </a:lnTo>
                  <a:lnTo>
                    <a:pt x="341" y="1408"/>
                  </a:lnTo>
                  <a:lnTo>
                    <a:pt x="354" y="1399"/>
                  </a:lnTo>
                  <a:lnTo>
                    <a:pt x="366" y="1388"/>
                  </a:lnTo>
                  <a:lnTo>
                    <a:pt x="376" y="1377"/>
                  </a:lnTo>
                  <a:lnTo>
                    <a:pt x="386" y="1364"/>
                  </a:lnTo>
                  <a:lnTo>
                    <a:pt x="392" y="1351"/>
                  </a:lnTo>
                  <a:lnTo>
                    <a:pt x="399" y="1338"/>
                  </a:lnTo>
                  <a:lnTo>
                    <a:pt x="403" y="1324"/>
                  </a:lnTo>
                  <a:lnTo>
                    <a:pt x="405" y="1309"/>
                  </a:lnTo>
                  <a:lnTo>
                    <a:pt x="406" y="1294"/>
                  </a:lnTo>
                  <a:lnTo>
                    <a:pt x="405" y="1283"/>
                  </a:lnTo>
                  <a:lnTo>
                    <a:pt x="404" y="1272"/>
                  </a:lnTo>
                  <a:lnTo>
                    <a:pt x="401" y="1261"/>
                  </a:lnTo>
                  <a:lnTo>
                    <a:pt x="396" y="1250"/>
                  </a:lnTo>
                  <a:lnTo>
                    <a:pt x="392" y="1237"/>
                  </a:lnTo>
                  <a:lnTo>
                    <a:pt x="386" y="1224"/>
                  </a:lnTo>
                  <a:lnTo>
                    <a:pt x="379" y="1212"/>
                  </a:lnTo>
                  <a:lnTo>
                    <a:pt x="370" y="1199"/>
                  </a:lnTo>
                  <a:lnTo>
                    <a:pt x="362" y="1185"/>
                  </a:lnTo>
                  <a:lnTo>
                    <a:pt x="351" y="1172"/>
                  </a:lnTo>
                  <a:lnTo>
                    <a:pt x="340" y="1158"/>
                  </a:lnTo>
                  <a:lnTo>
                    <a:pt x="327" y="1143"/>
                  </a:lnTo>
                  <a:lnTo>
                    <a:pt x="313" y="1129"/>
                  </a:lnTo>
                  <a:lnTo>
                    <a:pt x="299" y="1114"/>
                  </a:lnTo>
                  <a:lnTo>
                    <a:pt x="283" y="1098"/>
                  </a:lnTo>
                  <a:lnTo>
                    <a:pt x="266" y="1083"/>
                  </a:lnTo>
                  <a:lnTo>
                    <a:pt x="255" y="1072"/>
                  </a:lnTo>
                  <a:lnTo>
                    <a:pt x="243" y="1062"/>
                  </a:lnTo>
                  <a:lnTo>
                    <a:pt x="234" y="1052"/>
                  </a:lnTo>
                  <a:lnTo>
                    <a:pt x="224" y="1044"/>
                  </a:lnTo>
                  <a:lnTo>
                    <a:pt x="215" y="1035"/>
                  </a:lnTo>
                  <a:lnTo>
                    <a:pt x="207" y="1027"/>
                  </a:lnTo>
                  <a:lnTo>
                    <a:pt x="200" y="1020"/>
                  </a:lnTo>
                  <a:lnTo>
                    <a:pt x="193" y="1013"/>
                  </a:lnTo>
                  <a:lnTo>
                    <a:pt x="169" y="988"/>
                  </a:lnTo>
                  <a:lnTo>
                    <a:pt x="147" y="963"/>
                  </a:lnTo>
                  <a:lnTo>
                    <a:pt x="126" y="938"/>
                  </a:lnTo>
                  <a:lnTo>
                    <a:pt x="107" y="911"/>
                  </a:lnTo>
                  <a:lnTo>
                    <a:pt x="90" y="885"/>
                  </a:lnTo>
                  <a:lnTo>
                    <a:pt x="74" y="860"/>
                  </a:lnTo>
                  <a:lnTo>
                    <a:pt x="59" y="834"/>
                  </a:lnTo>
                  <a:lnTo>
                    <a:pt x="47" y="806"/>
                  </a:lnTo>
                  <a:lnTo>
                    <a:pt x="35" y="780"/>
                  </a:lnTo>
                  <a:lnTo>
                    <a:pt x="26" y="753"/>
                  </a:lnTo>
                  <a:lnTo>
                    <a:pt x="17" y="725"/>
                  </a:lnTo>
                  <a:lnTo>
                    <a:pt x="11" y="696"/>
                  </a:lnTo>
                  <a:lnTo>
                    <a:pt x="6" y="668"/>
                  </a:lnTo>
                  <a:lnTo>
                    <a:pt x="3" y="638"/>
                  </a:lnTo>
                  <a:lnTo>
                    <a:pt x="0" y="608"/>
                  </a:lnTo>
                  <a:lnTo>
                    <a:pt x="0" y="578"/>
                  </a:lnTo>
                  <a:lnTo>
                    <a:pt x="0" y="546"/>
                  </a:lnTo>
                  <a:lnTo>
                    <a:pt x="2" y="516"/>
                  </a:lnTo>
                  <a:lnTo>
                    <a:pt x="6" y="486"/>
                  </a:lnTo>
                  <a:lnTo>
                    <a:pt x="10" y="457"/>
                  </a:lnTo>
                  <a:lnTo>
                    <a:pt x="16" y="428"/>
                  </a:lnTo>
                  <a:lnTo>
                    <a:pt x="24" y="401"/>
                  </a:lnTo>
                  <a:lnTo>
                    <a:pt x="33" y="374"/>
                  </a:lnTo>
                  <a:lnTo>
                    <a:pt x="44" y="348"/>
                  </a:lnTo>
                  <a:lnTo>
                    <a:pt x="55" y="322"/>
                  </a:lnTo>
                  <a:lnTo>
                    <a:pt x="69" y="297"/>
                  </a:lnTo>
                  <a:lnTo>
                    <a:pt x="82" y="273"/>
                  </a:lnTo>
                  <a:lnTo>
                    <a:pt x="98" y="250"/>
                  </a:lnTo>
                  <a:lnTo>
                    <a:pt x="116" y="227"/>
                  </a:lnTo>
                  <a:lnTo>
                    <a:pt x="135" y="205"/>
                  </a:lnTo>
                  <a:lnTo>
                    <a:pt x="155" y="184"/>
                  </a:lnTo>
                  <a:lnTo>
                    <a:pt x="176" y="163"/>
                  </a:lnTo>
                  <a:lnTo>
                    <a:pt x="198" y="143"/>
                  </a:lnTo>
                  <a:lnTo>
                    <a:pt x="222" y="125"/>
                  </a:lnTo>
                  <a:lnTo>
                    <a:pt x="246" y="107"/>
                  </a:lnTo>
                  <a:lnTo>
                    <a:pt x="270" y="91"/>
                  </a:lnTo>
                  <a:lnTo>
                    <a:pt x="297" y="77"/>
                  </a:lnTo>
                  <a:lnTo>
                    <a:pt x="323" y="64"/>
                  </a:lnTo>
                  <a:lnTo>
                    <a:pt x="350" y="51"/>
                  </a:lnTo>
                  <a:lnTo>
                    <a:pt x="379" y="41"/>
                  </a:lnTo>
                  <a:lnTo>
                    <a:pt x="408" y="32"/>
                  </a:lnTo>
                  <a:lnTo>
                    <a:pt x="437" y="23"/>
                  </a:lnTo>
                  <a:lnTo>
                    <a:pt x="468" y="16"/>
                  </a:lnTo>
                  <a:lnTo>
                    <a:pt x="499" y="11"/>
                  </a:lnTo>
                  <a:lnTo>
                    <a:pt x="532" y="5"/>
                  </a:lnTo>
                  <a:lnTo>
                    <a:pt x="564" y="2"/>
                  </a:lnTo>
                  <a:lnTo>
                    <a:pt x="599" y="1"/>
                  </a:lnTo>
                  <a:lnTo>
                    <a:pt x="634" y="0"/>
                  </a:lnTo>
                  <a:lnTo>
                    <a:pt x="655" y="0"/>
                  </a:lnTo>
                  <a:lnTo>
                    <a:pt x="677" y="1"/>
                  </a:lnTo>
                  <a:lnTo>
                    <a:pt x="698" y="2"/>
                  </a:lnTo>
                  <a:lnTo>
                    <a:pt x="719" y="3"/>
                  </a:lnTo>
                  <a:lnTo>
                    <a:pt x="740" y="4"/>
                  </a:lnTo>
                  <a:lnTo>
                    <a:pt x="760" y="6"/>
                  </a:lnTo>
                  <a:lnTo>
                    <a:pt x="780" y="8"/>
                  </a:lnTo>
                  <a:lnTo>
                    <a:pt x="800" y="12"/>
                  </a:lnTo>
                  <a:lnTo>
                    <a:pt x="819" y="15"/>
                  </a:lnTo>
                  <a:lnTo>
                    <a:pt x="837" y="18"/>
                  </a:lnTo>
                  <a:lnTo>
                    <a:pt x="856" y="22"/>
                  </a:lnTo>
                  <a:lnTo>
                    <a:pt x="875" y="26"/>
                  </a:lnTo>
                  <a:lnTo>
                    <a:pt x="894" y="30"/>
                  </a:lnTo>
                  <a:lnTo>
                    <a:pt x="912" y="36"/>
                  </a:lnTo>
                  <a:lnTo>
                    <a:pt x="931" y="41"/>
                  </a:lnTo>
                  <a:lnTo>
                    <a:pt x="949" y="47"/>
                  </a:lnTo>
                  <a:lnTo>
                    <a:pt x="949" y="512"/>
                  </a:lnTo>
                  <a:lnTo>
                    <a:pt x="933" y="505"/>
                  </a:lnTo>
                  <a:lnTo>
                    <a:pt x="918" y="498"/>
                  </a:lnTo>
                  <a:lnTo>
                    <a:pt x="904" y="491"/>
                  </a:lnTo>
                  <a:lnTo>
                    <a:pt x="890" y="485"/>
                  </a:lnTo>
                  <a:lnTo>
                    <a:pt x="875" y="480"/>
                  </a:lnTo>
                  <a:lnTo>
                    <a:pt x="862" y="475"/>
                  </a:lnTo>
                  <a:lnTo>
                    <a:pt x="848" y="470"/>
                  </a:lnTo>
                  <a:lnTo>
                    <a:pt x="835" y="466"/>
                  </a:lnTo>
                  <a:lnTo>
                    <a:pt x="822" y="463"/>
                  </a:lnTo>
                  <a:lnTo>
                    <a:pt x="809" y="460"/>
                  </a:lnTo>
                  <a:lnTo>
                    <a:pt x="796" y="457"/>
                  </a:lnTo>
                  <a:lnTo>
                    <a:pt x="785" y="455"/>
                  </a:lnTo>
                  <a:lnTo>
                    <a:pt x="773" y="453"/>
                  </a:lnTo>
                  <a:lnTo>
                    <a:pt x="763" y="452"/>
                  </a:lnTo>
                  <a:lnTo>
                    <a:pt x="751" y="452"/>
                  </a:lnTo>
                  <a:lnTo>
                    <a:pt x="741" y="450"/>
                  </a:lnTo>
                  <a:lnTo>
                    <a:pt x="719" y="452"/>
                  </a:lnTo>
                  <a:lnTo>
                    <a:pt x="698" y="454"/>
                  </a:lnTo>
                  <a:lnTo>
                    <a:pt x="678" y="456"/>
                  </a:lnTo>
                  <a:lnTo>
                    <a:pt x="660" y="460"/>
                  </a:lnTo>
                  <a:lnTo>
                    <a:pt x="642" y="466"/>
                  </a:lnTo>
                  <a:lnTo>
                    <a:pt x="627" y="473"/>
                  </a:lnTo>
                  <a:lnTo>
                    <a:pt x="613" y="480"/>
                  </a:lnTo>
                  <a:lnTo>
                    <a:pt x="600" y="489"/>
                  </a:lnTo>
                  <a:lnTo>
                    <a:pt x="589" y="500"/>
                  </a:lnTo>
                  <a:lnTo>
                    <a:pt x="578" y="510"/>
                  </a:lnTo>
                  <a:lnTo>
                    <a:pt x="570" y="523"/>
                  </a:lnTo>
                  <a:lnTo>
                    <a:pt x="562" y="536"/>
                  </a:lnTo>
                  <a:lnTo>
                    <a:pt x="557" y="550"/>
                  </a:lnTo>
                  <a:lnTo>
                    <a:pt x="553" y="565"/>
                  </a:lnTo>
                  <a:lnTo>
                    <a:pt x="551" y="581"/>
                  </a:lnTo>
                  <a:lnTo>
                    <a:pt x="550" y="599"/>
                  </a:lnTo>
                  <a:lnTo>
                    <a:pt x="551" y="608"/>
                  </a:lnTo>
                  <a:lnTo>
                    <a:pt x="552" y="618"/>
                  </a:lnTo>
                  <a:lnTo>
                    <a:pt x="555" y="629"/>
                  </a:lnTo>
                  <a:lnTo>
                    <a:pt x="558" y="639"/>
                  </a:lnTo>
                  <a:lnTo>
                    <a:pt x="563" y="650"/>
                  </a:lnTo>
                  <a:lnTo>
                    <a:pt x="570" y="662"/>
                  </a:lnTo>
                  <a:lnTo>
                    <a:pt x="576" y="673"/>
                  </a:lnTo>
                  <a:lnTo>
                    <a:pt x="584" y="685"/>
                  </a:lnTo>
                  <a:lnTo>
                    <a:pt x="593" y="696"/>
                  </a:lnTo>
                  <a:lnTo>
                    <a:pt x="603" y="708"/>
                  </a:lnTo>
                  <a:lnTo>
                    <a:pt x="614" y="720"/>
                  </a:lnTo>
                  <a:lnTo>
                    <a:pt x="626" y="732"/>
                  </a:lnTo>
                  <a:lnTo>
                    <a:pt x="639" y="744"/>
                  </a:lnTo>
                  <a:lnTo>
                    <a:pt x="654" y="757"/>
                  </a:lnTo>
                  <a:lnTo>
                    <a:pt x="668" y="771"/>
                  </a:lnTo>
                  <a:lnTo>
                    <a:pt x="685" y="783"/>
                  </a:lnTo>
                  <a:lnTo>
                    <a:pt x="698" y="794"/>
                  </a:lnTo>
                  <a:lnTo>
                    <a:pt x="710" y="804"/>
                  </a:lnTo>
                  <a:lnTo>
                    <a:pt x="722" y="814"/>
                  </a:lnTo>
                  <a:lnTo>
                    <a:pt x="732" y="823"/>
                  </a:lnTo>
                  <a:lnTo>
                    <a:pt x="743" y="832"/>
                  </a:lnTo>
                  <a:lnTo>
                    <a:pt x="751" y="839"/>
                  </a:lnTo>
                  <a:lnTo>
                    <a:pt x="760" y="846"/>
                  </a:lnTo>
                  <a:lnTo>
                    <a:pt x="768" y="854"/>
                  </a:lnTo>
                  <a:lnTo>
                    <a:pt x="794" y="877"/>
                  </a:lnTo>
                  <a:lnTo>
                    <a:pt x="820" y="902"/>
                  </a:lnTo>
                  <a:lnTo>
                    <a:pt x="843" y="928"/>
                  </a:lnTo>
                  <a:lnTo>
                    <a:pt x="864" y="954"/>
                  </a:lnTo>
                  <a:lnTo>
                    <a:pt x="884" y="983"/>
                  </a:lnTo>
                  <a:lnTo>
                    <a:pt x="903" y="1011"/>
                  </a:lnTo>
                  <a:lnTo>
                    <a:pt x="919" y="1041"/>
                  </a:lnTo>
                  <a:lnTo>
                    <a:pt x="934" y="1071"/>
                  </a:lnTo>
                  <a:lnTo>
                    <a:pt x="948" y="1101"/>
                  </a:lnTo>
                  <a:lnTo>
                    <a:pt x="959" y="1133"/>
                  </a:lnTo>
                  <a:lnTo>
                    <a:pt x="969" y="1166"/>
                  </a:lnTo>
                  <a:lnTo>
                    <a:pt x="977" y="1198"/>
                  </a:lnTo>
                  <a:lnTo>
                    <a:pt x="983" y="1231"/>
                  </a:lnTo>
                  <a:lnTo>
                    <a:pt x="988" y="1264"/>
                  </a:lnTo>
                  <a:lnTo>
                    <a:pt x="990" y="1299"/>
                  </a:lnTo>
                  <a:lnTo>
                    <a:pt x="991" y="1334"/>
                  </a:lnTo>
                  <a:lnTo>
                    <a:pt x="991" y="1368"/>
                  </a:lnTo>
                  <a:lnTo>
                    <a:pt x="988" y="1402"/>
                  </a:lnTo>
                  <a:lnTo>
                    <a:pt x="984" y="1434"/>
                  </a:lnTo>
                  <a:lnTo>
                    <a:pt x="979" y="1466"/>
                  </a:lnTo>
                  <a:lnTo>
                    <a:pt x="973" y="1497"/>
                  </a:lnTo>
                  <a:lnTo>
                    <a:pt x="964" y="1527"/>
                  </a:lnTo>
                  <a:lnTo>
                    <a:pt x="955" y="1556"/>
                  </a:lnTo>
                  <a:lnTo>
                    <a:pt x="945" y="1583"/>
                  </a:lnTo>
                  <a:lnTo>
                    <a:pt x="932" y="1611"/>
                  </a:lnTo>
                  <a:lnTo>
                    <a:pt x="918" y="1637"/>
                  </a:lnTo>
                  <a:lnTo>
                    <a:pt x="903" y="1662"/>
                  </a:lnTo>
                  <a:lnTo>
                    <a:pt x="886" y="1686"/>
                  </a:lnTo>
                  <a:lnTo>
                    <a:pt x="868" y="1709"/>
                  </a:lnTo>
                  <a:lnTo>
                    <a:pt x="848" y="1733"/>
                  </a:lnTo>
                  <a:lnTo>
                    <a:pt x="827" y="1754"/>
                  </a:lnTo>
                  <a:lnTo>
                    <a:pt x="805" y="1775"/>
                  </a:lnTo>
                  <a:lnTo>
                    <a:pt x="781" y="1793"/>
                  </a:lnTo>
                  <a:lnTo>
                    <a:pt x="756" y="1811"/>
                  </a:lnTo>
                  <a:lnTo>
                    <a:pt x="729" y="1828"/>
                  </a:lnTo>
                  <a:lnTo>
                    <a:pt x="702" y="1844"/>
                  </a:lnTo>
                  <a:lnTo>
                    <a:pt x="674" y="1859"/>
                  </a:lnTo>
                  <a:lnTo>
                    <a:pt x="644" y="1871"/>
                  </a:lnTo>
                  <a:lnTo>
                    <a:pt x="614" y="1884"/>
                  </a:lnTo>
                  <a:lnTo>
                    <a:pt x="582" y="1894"/>
                  </a:lnTo>
                  <a:lnTo>
                    <a:pt x="549" y="1904"/>
                  </a:lnTo>
                  <a:lnTo>
                    <a:pt x="515" y="1912"/>
                  </a:lnTo>
                  <a:lnTo>
                    <a:pt x="480" y="1918"/>
                  </a:lnTo>
                  <a:lnTo>
                    <a:pt x="444" y="1924"/>
                  </a:lnTo>
                  <a:lnTo>
                    <a:pt x="406" y="1929"/>
                  </a:lnTo>
                  <a:lnTo>
                    <a:pt x="368" y="1932"/>
                  </a:lnTo>
                  <a:lnTo>
                    <a:pt x="328" y="1933"/>
                  </a:lnTo>
                  <a:lnTo>
                    <a:pt x="287" y="1934"/>
                  </a:lnTo>
                  <a:lnTo>
                    <a:pt x="270" y="1934"/>
                  </a:lnTo>
                  <a:lnTo>
                    <a:pt x="254" y="1933"/>
                  </a:lnTo>
                  <a:lnTo>
                    <a:pt x="237" y="1932"/>
                  </a:lnTo>
                  <a:lnTo>
                    <a:pt x="221" y="1932"/>
                  </a:lnTo>
                  <a:lnTo>
                    <a:pt x="204" y="1931"/>
                  </a:lnTo>
                  <a:lnTo>
                    <a:pt x="189" y="1930"/>
                  </a:lnTo>
                  <a:lnTo>
                    <a:pt x="173" y="1929"/>
                  </a:lnTo>
                  <a:lnTo>
                    <a:pt x="157" y="1927"/>
                  </a:lnTo>
                  <a:lnTo>
                    <a:pt x="141" y="1926"/>
                  </a:lnTo>
                  <a:lnTo>
                    <a:pt x="126" y="1924"/>
                  </a:lnTo>
                  <a:lnTo>
                    <a:pt x="111" y="1922"/>
                  </a:lnTo>
                  <a:lnTo>
                    <a:pt x="95" y="1919"/>
                  </a:lnTo>
                  <a:lnTo>
                    <a:pt x="80" y="1917"/>
                  </a:lnTo>
                  <a:lnTo>
                    <a:pt x="65" y="1915"/>
                  </a:lnTo>
                  <a:lnTo>
                    <a:pt x="50" y="1913"/>
                  </a:lnTo>
                  <a:lnTo>
                    <a:pt x="35" y="191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74436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90960" y="685080"/>
              <a:ext cx="510120" cy="766080"/>
            </a:xfrm>
            <a:custGeom>
              <a:avLst/>
              <a:gdLst/>
              <a:ahLst/>
              <a:rect l="l" t="t" r="r" b="b"/>
              <a:pathLst>
                <a:path w="1250" h="1876">
                  <a:moveTo>
                    <a:pt x="869" y="474"/>
                  </a:moveTo>
                  <a:lnTo>
                    <a:pt x="869" y="1876"/>
                  </a:lnTo>
                  <a:lnTo>
                    <a:pt x="382" y="1876"/>
                  </a:lnTo>
                  <a:lnTo>
                    <a:pt x="382" y="474"/>
                  </a:lnTo>
                  <a:lnTo>
                    <a:pt x="0" y="474"/>
                  </a:lnTo>
                  <a:lnTo>
                    <a:pt x="51" y="0"/>
                  </a:lnTo>
                  <a:lnTo>
                    <a:pt x="1197" y="0"/>
                  </a:lnTo>
                  <a:lnTo>
                    <a:pt x="1250" y="474"/>
                  </a:lnTo>
                  <a:lnTo>
                    <a:pt x="869" y="474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464360" y="1251360"/>
              <a:ext cx="18180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970520" y="883440"/>
              <a:ext cx="167400" cy="363600"/>
            </a:xfrm>
            <a:custGeom>
              <a:avLst/>
              <a:gdLst/>
              <a:ahLst/>
              <a:rect l="l" t="t" r="r" b="b"/>
              <a:pathLst>
                <a:path w="414" h="889">
                  <a:moveTo>
                    <a:pt x="0" y="889"/>
                  </a:moveTo>
                  <a:lnTo>
                    <a:pt x="24" y="886"/>
                  </a:lnTo>
                  <a:lnTo>
                    <a:pt x="46" y="883"/>
                  </a:lnTo>
                  <a:lnTo>
                    <a:pt x="68" y="878"/>
                  </a:lnTo>
                  <a:lnTo>
                    <a:pt x="90" y="873"/>
                  </a:lnTo>
                  <a:lnTo>
                    <a:pt x="111" y="867"/>
                  </a:lnTo>
                  <a:lnTo>
                    <a:pt x="131" y="861"/>
                  </a:lnTo>
                  <a:lnTo>
                    <a:pt x="151" y="852"/>
                  </a:lnTo>
                  <a:lnTo>
                    <a:pt x="170" y="844"/>
                  </a:lnTo>
                  <a:lnTo>
                    <a:pt x="189" y="835"/>
                  </a:lnTo>
                  <a:lnTo>
                    <a:pt x="207" y="825"/>
                  </a:lnTo>
                  <a:lnTo>
                    <a:pt x="223" y="814"/>
                  </a:lnTo>
                  <a:lnTo>
                    <a:pt x="240" y="803"/>
                  </a:lnTo>
                  <a:lnTo>
                    <a:pt x="257" y="790"/>
                  </a:lnTo>
                  <a:lnTo>
                    <a:pt x="272" y="778"/>
                  </a:lnTo>
                  <a:lnTo>
                    <a:pt x="287" y="764"/>
                  </a:lnTo>
                  <a:lnTo>
                    <a:pt x="301" y="749"/>
                  </a:lnTo>
                  <a:lnTo>
                    <a:pt x="315" y="733"/>
                  </a:lnTo>
                  <a:lnTo>
                    <a:pt x="328" y="718"/>
                  </a:lnTo>
                  <a:lnTo>
                    <a:pt x="340" y="702"/>
                  </a:lnTo>
                  <a:lnTo>
                    <a:pt x="350" y="685"/>
                  </a:lnTo>
                  <a:lnTo>
                    <a:pt x="361" y="668"/>
                  </a:lnTo>
                  <a:lnTo>
                    <a:pt x="370" y="651"/>
                  </a:lnTo>
                  <a:lnTo>
                    <a:pt x="379" y="633"/>
                  </a:lnTo>
                  <a:lnTo>
                    <a:pt x="386" y="614"/>
                  </a:lnTo>
                  <a:lnTo>
                    <a:pt x="392" y="595"/>
                  </a:lnTo>
                  <a:lnTo>
                    <a:pt x="399" y="575"/>
                  </a:lnTo>
                  <a:lnTo>
                    <a:pt x="403" y="555"/>
                  </a:lnTo>
                  <a:lnTo>
                    <a:pt x="407" y="535"/>
                  </a:lnTo>
                  <a:lnTo>
                    <a:pt x="410" y="514"/>
                  </a:lnTo>
                  <a:lnTo>
                    <a:pt x="412" y="492"/>
                  </a:lnTo>
                  <a:lnTo>
                    <a:pt x="413" y="470"/>
                  </a:lnTo>
                  <a:lnTo>
                    <a:pt x="414" y="448"/>
                  </a:lnTo>
                  <a:lnTo>
                    <a:pt x="413" y="424"/>
                  </a:lnTo>
                  <a:lnTo>
                    <a:pt x="412" y="401"/>
                  </a:lnTo>
                  <a:lnTo>
                    <a:pt x="410" y="378"/>
                  </a:lnTo>
                  <a:lnTo>
                    <a:pt x="407" y="354"/>
                  </a:lnTo>
                  <a:lnTo>
                    <a:pt x="403" y="333"/>
                  </a:lnTo>
                  <a:lnTo>
                    <a:pt x="399" y="311"/>
                  </a:lnTo>
                  <a:lnTo>
                    <a:pt x="392" y="291"/>
                  </a:lnTo>
                  <a:lnTo>
                    <a:pt x="386" y="270"/>
                  </a:lnTo>
                  <a:lnTo>
                    <a:pt x="378" y="252"/>
                  </a:lnTo>
                  <a:lnTo>
                    <a:pt x="369" y="232"/>
                  </a:lnTo>
                  <a:lnTo>
                    <a:pt x="360" y="214"/>
                  </a:lnTo>
                  <a:lnTo>
                    <a:pt x="350" y="195"/>
                  </a:lnTo>
                  <a:lnTo>
                    <a:pt x="339" y="178"/>
                  </a:lnTo>
                  <a:lnTo>
                    <a:pt x="326" y="160"/>
                  </a:lnTo>
                  <a:lnTo>
                    <a:pt x="314" y="144"/>
                  </a:lnTo>
                  <a:lnTo>
                    <a:pt x="300" y="129"/>
                  </a:lnTo>
                  <a:lnTo>
                    <a:pt x="285" y="113"/>
                  </a:lnTo>
                  <a:lnTo>
                    <a:pt x="270" y="99"/>
                  </a:lnTo>
                  <a:lnTo>
                    <a:pt x="254" y="86"/>
                  </a:lnTo>
                  <a:lnTo>
                    <a:pt x="238" y="73"/>
                  </a:lnTo>
                  <a:lnTo>
                    <a:pt x="221" y="63"/>
                  </a:lnTo>
                  <a:lnTo>
                    <a:pt x="203" y="52"/>
                  </a:lnTo>
                  <a:lnTo>
                    <a:pt x="186" y="43"/>
                  </a:lnTo>
                  <a:lnTo>
                    <a:pt x="168" y="34"/>
                  </a:lnTo>
                  <a:lnTo>
                    <a:pt x="149" y="26"/>
                  </a:lnTo>
                  <a:lnTo>
                    <a:pt x="129" y="19"/>
                  </a:lnTo>
                  <a:lnTo>
                    <a:pt x="109" y="14"/>
                  </a:lnTo>
                  <a:lnTo>
                    <a:pt x="88" y="9"/>
                  </a:lnTo>
                  <a:lnTo>
                    <a:pt x="67" y="6"/>
                  </a:lnTo>
                  <a:lnTo>
                    <a:pt x="45" y="3"/>
                  </a:lnTo>
                  <a:lnTo>
                    <a:pt x="23" y="1"/>
                  </a:lnTo>
                  <a:lnTo>
                    <a:pt x="0" y="0"/>
                  </a:lnTo>
                  <a:lnTo>
                    <a:pt x="0" y="88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772520" y="685080"/>
              <a:ext cx="573120" cy="766080"/>
            </a:xfrm>
            <a:custGeom>
              <a:avLst/>
              <a:gdLst/>
              <a:ahLst/>
              <a:rect l="l" t="t" r="r" b="b"/>
              <a:pathLst>
                <a:path w="1407" h="1876">
                  <a:moveTo>
                    <a:pt x="283" y="0"/>
                  </a:moveTo>
                  <a:lnTo>
                    <a:pt x="348" y="0"/>
                  </a:lnTo>
                  <a:lnTo>
                    <a:pt x="410" y="3"/>
                  </a:lnTo>
                  <a:lnTo>
                    <a:pt x="469" y="5"/>
                  </a:lnTo>
                  <a:lnTo>
                    <a:pt x="524" y="9"/>
                  </a:lnTo>
                  <a:lnTo>
                    <a:pt x="575" y="14"/>
                  </a:lnTo>
                  <a:lnTo>
                    <a:pt x="623" y="19"/>
                  </a:lnTo>
                  <a:lnTo>
                    <a:pt x="668" y="27"/>
                  </a:lnTo>
                  <a:lnTo>
                    <a:pt x="710" y="34"/>
                  </a:lnTo>
                  <a:lnTo>
                    <a:pt x="749" y="43"/>
                  </a:lnTo>
                  <a:lnTo>
                    <a:pt x="788" y="54"/>
                  </a:lnTo>
                  <a:lnTo>
                    <a:pt x="825" y="66"/>
                  </a:lnTo>
                  <a:lnTo>
                    <a:pt x="862" y="79"/>
                  </a:lnTo>
                  <a:lnTo>
                    <a:pt x="896" y="94"/>
                  </a:lnTo>
                  <a:lnTo>
                    <a:pt x="931" y="110"/>
                  </a:lnTo>
                  <a:lnTo>
                    <a:pt x="965" y="127"/>
                  </a:lnTo>
                  <a:lnTo>
                    <a:pt x="996" y="146"/>
                  </a:lnTo>
                  <a:lnTo>
                    <a:pt x="1021" y="162"/>
                  </a:lnTo>
                  <a:lnTo>
                    <a:pt x="1045" y="179"/>
                  </a:lnTo>
                  <a:lnTo>
                    <a:pt x="1069" y="196"/>
                  </a:lnTo>
                  <a:lnTo>
                    <a:pt x="1091" y="214"/>
                  </a:lnTo>
                  <a:lnTo>
                    <a:pt x="1113" y="232"/>
                  </a:lnTo>
                  <a:lnTo>
                    <a:pt x="1134" y="251"/>
                  </a:lnTo>
                  <a:lnTo>
                    <a:pt x="1154" y="271"/>
                  </a:lnTo>
                  <a:lnTo>
                    <a:pt x="1174" y="291"/>
                  </a:lnTo>
                  <a:lnTo>
                    <a:pt x="1192" y="312"/>
                  </a:lnTo>
                  <a:lnTo>
                    <a:pt x="1210" y="334"/>
                  </a:lnTo>
                  <a:lnTo>
                    <a:pt x="1227" y="356"/>
                  </a:lnTo>
                  <a:lnTo>
                    <a:pt x="1244" y="379"/>
                  </a:lnTo>
                  <a:lnTo>
                    <a:pt x="1260" y="403"/>
                  </a:lnTo>
                  <a:lnTo>
                    <a:pt x="1274" y="427"/>
                  </a:lnTo>
                  <a:lnTo>
                    <a:pt x="1289" y="451"/>
                  </a:lnTo>
                  <a:lnTo>
                    <a:pt x="1302" y="476"/>
                  </a:lnTo>
                  <a:lnTo>
                    <a:pt x="1314" y="502"/>
                  </a:lnTo>
                  <a:lnTo>
                    <a:pt x="1327" y="529"/>
                  </a:lnTo>
                  <a:lnTo>
                    <a:pt x="1337" y="555"/>
                  </a:lnTo>
                  <a:lnTo>
                    <a:pt x="1348" y="582"/>
                  </a:lnTo>
                  <a:lnTo>
                    <a:pt x="1357" y="610"/>
                  </a:lnTo>
                  <a:lnTo>
                    <a:pt x="1366" y="639"/>
                  </a:lnTo>
                  <a:lnTo>
                    <a:pt x="1373" y="667"/>
                  </a:lnTo>
                  <a:lnTo>
                    <a:pt x="1380" y="697"/>
                  </a:lnTo>
                  <a:lnTo>
                    <a:pt x="1387" y="727"/>
                  </a:lnTo>
                  <a:lnTo>
                    <a:pt x="1392" y="757"/>
                  </a:lnTo>
                  <a:lnTo>
                    <a:pt x="1396" y="788"/>
                  </a:lnTo>
                  <a:lnTo>
                    <a:pt x="1400" y="819"/>
                  </a:lnTo>
                  <a:lnTo>
                    <a:pt x="1402" y="851"/>
                  </a:lnTo>
                  <a:lnTo>
                    <a:pt x="1405" y="883"/>
                  </a:lnTo>
                  <a:lnTo>
                    <a:pt x="1406" y="916"/>
                  </a:lnTo>
                  <a:lnTo>
                    <a:pt x="1407" y="950"/>
                  </a:lnTo>
                  <a:lnTo>
                    <a:pt x="1406" y="980"/>
                  </a:lnTo>
                  <a:lnTo>
                    <a:pt x="1405" y="1009"/>
                  </a:lnTo>
                  <a:lnTo>
                    <a:pt x="1402" y="1039"/>
                  </a:lnTo>
                  <a:lnTo>
                    <a:pt x="1399" y="1068"/>
                  </a:lnTo>
                  <a:lnTo>
                    <a:pt x="1395" y="1097"/>
                  </a:lnTo>
                  <a:lnTo>
                    <a:pt x="1390" y="1125"/>
                  </a:lnTo>
                  <a:lnTo>
                    <a:pt x="1385" y="1153"/>
                  </a:lnTo>
                  <a:lnTo>
                    <a:pt x="1377" y="1182"/>
                  </a:lnTo>
                  <a:lnTo>
                    <a:pt x="1370" y="1209"/>
                  </a:lnTo>
                  <a:lnTo>
                    <a:pt x="1361" y="1236"/>
                  </a:lnTo>
                  <a:lnTo>
                    <a:pt x="1352" y="1264"/>
                  </a:lnTo>
                  <a:lnTo>
                    <a:pt x="1342" y="1290"/>
                  </a:lnTo>
                  <a:lnTo>
                    <a:pt x="1330" y="1316"/>
                  </a:lnTo>
                  <a:lnTo>
                    <a:pt x="1318" y="1342"/>
                  </a:lnTo>
                  <a:lnTo>
                    <a:pt x="1305" y="1369"/>
                  </a:lnTo>
                  <a:lnTo>
                    <a:pt x="1291" y="1394"/>
                  </a:lnTo>
                  <a:lnTo>
                    <a:pt x="1276" y="1418"/>
                  </a:lnTo>
                  <a:lnTo>
                    <a:pt x="1261" y="1443"/>
                  </a:lnTo>
                  <a:lnTo>
                    <a:pt x="1245" y="1466"/>
                  </a:lnTo>
                  <a:lnTo>
                    <a:pt x="1227" y="1489"/>
                  </a:lnTo>
                  <a:lnTo>
                    <a:pt x="1209" y="1512"/>
                  </a:lnTo>
                  <a:lnTo>
                    <a:pt x="1191" y="1534"/>
                  </a:lnTo>
                  <a:lnTo>
                    <a:pt x="1172" y="1555"/>
                  </a:lnTo>
                  <a:lnTo>
                    <a:pt x="1153" y="1576"/>
                  </a:lnTo>
                  <a:lnTo>
                    <a:pt x="1132" y="1597"/>
                  </a:lnTo>
                  <a:lnTo>
                    <a:pt x="1109" y="1617"/>
                  </a:lnTo>
                  <a:lnTo>
                    <a:pt x="1087" y="1636"/>
                  </a:lnTo>
                  <a:lnTo>
                    <a:pt x="1064" y="1654"/>
                  </a:lnTo>
                  <a:lnTo>
                    <a:pt x="1041" y="1673"/>
                  </a:lnTo>
                  <a:lnTo>
                    <a:pt x="1017" y="1690"/>
                  </a:lnTo>
                  <a:lnTo>
                    <a:pt x="992" y="1707"/>
                  </a:lnTo>
                  <a:lnTo>
                    <a:pt x="966" y="1723"/>
                  </a:lnTo>
                  <a:lnTo>
                    <a:pt x="933" y="1742"/>
                  </a:lnTo>
                  <a:lnTo>
                    <a:pt x="898" y="1760"/>
                  </a:lnTo>
                  <a:lnTo>
                    <a:pt x="863" y="1777"/>
                  </a:lnTo>
                  <a:lnTo>
                    <a:pt x="827" y="1792"/>
                  </a:lnTo>
                  <a:lnTo>
                    <a:pt x="789" y="1805"/>
                  </a:lnTo>
                  <a:lnTo>
                    <a:pt x="751" y="1818"/>
                  </a:lnTo>
                  <a:lnTo>
                    <a:pt x="712" y="1830"/>
                  </a:lnTo>
                  <a:lnTo>
                    <a:pt x="671" y="1839"/>
                  </a:lnTo>
                  <a:lnTo>
                    <a:pt x="630" y="1848"/>
                  </a:lnTo>
                  <a:lnTo>
                    <a:pt x="586" y="1856"/>
                  </a:lnTo>
                  <a:lnTo>
                    <a:pt x="539" y="1862"/>
                  </a:lnTo>
                  <a:lnTo>
                    <a:pt x="492" y="1866"/>
                  </a:lnTo>
                  <a:lnTo>
                    <a:pt x="443" y="1870"/>
                  </a:lnTo>
                  <a:lnTo>
                    <a:pt x="391" y="1874"/>
                  </a:lnTo>
                  <a:lnTo>
                    <a:pt x="338" y="1876"/>
                  </a:lnTo>
                  <a:lnTo>
                    <a:pt x="283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283" y="0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437800" y="1251360"/>
              <a:ext cx="181080" cy="2001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709240" y="895320"/>
              <a:ext cx="310320" cy="560160"/>
            </a:xfrm>
            <a:custGeom>
              <a:avLst/>
              <a:gdLst/>
              <a:ahLst/>
              <a:rect l="l" t="t" r="r" b="b"/>
              <a:pathLst>
                <a:path w="758" h="1372">
                  <a:moveTo>
                    <a:pt x="32" y="1349"/>
                  </a:moveTo>
                  <a:lnTo>
                    <a:pt x="32" y="926"/>
                  </a:lnTo>
                  <a:lnTo>
                    <a:pt x="41" y="930"/>
                  </a:lnTo>
                  <a:lnTo>
                    <a:pt x="51" y="934"/>
                  </a:lnTo>
                  <a:lnTo>
                    <a:pt x="60" y="939"/>
                  </a:lnTo>
                  <a:lnTo>
                    <a:pt x="69" y="942"/>
                  </a:lnTo>
                  <a:lnTo>
                    <a:pt x="78" y="945"/>
                  </a:lnTo>
                  <a:lnTo>
                    <a:pt x="86" y="948"/>
                  </a:lnTo>
                  <a:lnTo>
                    <a:pt x="95" y="950"/>
                  </a:lnTo>
                  <a:lnTo>
                    <a:pt x="103" y="952"/>
                  </a:lnTo>
                  <a:lnTo>
                    <a:pt x="110" y="954"/>
                  </a:lnTo>
                  <a:lnTo>
                    <a:pt x="119" y="956"/>
                  </a:lnTo>
                  <a:lnTo>
                    <a:pt x="126" y="957"/>
                  </a:lnTo>
                  <a:lnTo>
                    <a:pt x="133" y="959"/>
                  </a:lnTo>
                  <a:lnTo>
                    <a:pt x="141" y="960"/>
                  </a:lnTo>
                  <a:lnTo>
                    <a:pt x="148" y="961"/>
                  </a:lnTo>
                  <a:lnTo>
                    <a:pt x="156" y="961"/>
                  </a:lnTo>
                  <a:lnTo>
                    <a:pt x="162" y="961"/>
                  </a:lnTo>
                  <a:lnTo>
                    <a:pt x="174" y="961"/>
                  </a:lnTo>
                  <a:lnTo>
                    <a:pt x="187" y="960"/>
                  </a:lnTo>
                  <a:lnTo>
                    <a:pt x="198" y="957"/>
                  </a:lnTo>
                  <a:lnTo>
                    <a:pt x="208" y="954"/>
                  </a:lnTo>
                  <a:lnTo>
                    <a:pt x="219" y="951"/>
                  </a:lnTo>
                  <a:lnTo>
                    <a:pt x="228" y="947"/>
                  </a:lnTo>
                  <a:lnTo>
                    <a:pt x="236" y="942"/>
                  </a:lnTo>
                  <a:lnTo>
                    <a:pt x="245" y="935"/>
                  </a:lnTo>
                  <a:lnTo>
                    <a:pt x="252" y="929"/>
                  </a:lnTo>
                  <a:lnTo>
                    <a:pt x="258" y="923"/>
                  </a:lnTo>
                  <a:lnTo>
                    <a:pt x="264" y="915"/>
                  </a:lnTo>
                  <a:lnTo>
                    <a:pt x="268" y="907"/>
                  </a:lnTo>
                  <a:lnTo>
                    <a:pt x="271" y="899"/>
                  </a:lnTo>
                  <a:lnTo>
                    <a:pt x="273" y="890"/>
                  </a:lnTo>
                  <a:lnTo>
                    <a:pt x="274" y="881"/>
                  </a:lnTo>
                  <a:lnTo>
                    <a:pt x="275" y="871"/>
                  </a:lnTo>
                  <a:lnTo>
                    <a:pt x="274" y="864"/>
                  </a:lnTo>
                  <a:lnTo>
                    <a:pt x="273" y="858"/>
                  </a:lnTo>
                  <a:lnTo>
                    <a:pt x="271" y="849"/>
                  </a:lnTo>
                  <a:lnTo>
                    <a:pt x="268" y="842"/>
                  </a:lnTo>
                  <a:lnTo>
                    <a:pt x="265" y="834"/>
                  </a:lnTo>
                  <a:lnTo>
                    <a:pt x="259" y="825"/>
                  </a:lnTo>
                  <a:lnTo>
                    <a:pt x="254" y="816"/>
                  </a:lnTo>
                  <a:lnTo>
                    <a:pt x="247" y="806"/>
                  </a:lnTo>
                  <a:lnTo>
                    <a:pt x="231" y="786"/>
                  </a:lnTo>
                  <a:lnTo>
                    <a:pt x="212" y="764"/>
                  </a:lnTo>
                  <a:lnTo>
                    <a:pt x="190" y="741"/>
                  </a:lnTo>
                  <a:lnTo>
                    <a:pt x="164" y="716"/>
                  </a:lnTo>
                  <a:lnTo>
                    <a:pt x="157" y="710"/>
                  </a:lnTo>
                  <a:lnTo>
                    <a:pt x="151" y="704"/>
                  </a:lnTo>
                  <a:lnTo>
                    <a:pt x="145" y="699"/>
                  </a:lnTo>
                  <a:lnTo>
                    <a:pt x="140" y="694"/>
                  </a:lnTo>
                  <a:lnTo>
                    <a:pt x="133" y="690"/>
                  </a:lnTo>
                  <a:lnTo>
                    <a:pt x="129" y="684"/>
                  </a:lnTo>
                  <a:lnTo>
                    <a:pt x="124" y="680"/>
                  </a:lnTo>
                  <a:lnTo>
                    <a:pt x="120" y="676"/>
                  </a:lnTo>
                  <a:lnTo>
                    <a:pt x="105" y="662"/>
                  </a:lnTo>
                  <a:lnTo>
                    <a:pt x="91" y="647"/>
                  </a:lnTo>
                  <a:lnTo>
                    <a:pt x="79" y="632"/>
                  </a:lnTo>
                  <a:lnTo>
                    <a:pt x="67" y="616"/>
                  </a:lnTo>
                  <a:lnTo>
                    <a:pt x="57" y="600"/>
                  </a:lnTo>
                  <a:lnTo>
                    <a:pt x="46" y="585"/>
                  </a:lnTo>
                  <a:lnTo>
                    <a:pt x="38" y="568"/>
                  </a:lnTo>
                  <a:lnTo>
                    <a:pt x="30" y="551"/>
                  </a:lnTo>
                  <a:lnTo>
                    <a:pt x="23" y="534"/>
                  </a:lnTo>
                  <a:lnTo>
                    <a:pt x="17" y="518"/>
                  </a:lnTo>
                  <a:lnTo>
                    <a:pt x="12" y="500"/>
                  </a:lnTo>
                  <a:lnTo>
                    <a:pt x="7" y="482"/>
                  </a:lnTo>
                  <a:lnTo>
                    <a:pt x="4" y="464"/>
                  </a:lnTo>
                  <a:lnTo>
                    <a:pt x="1" y="445"/>
                  </a:lnTo>
                  <a:lnTo>
                    <a:pt x="0" y="427"/>
                  </a:lnTo>
                  <a:lnTo>
                    <a:pt x="0" y="407"/>
                  </a:lnTo>
                  <a:lnTo>
                    <a:pt x="0" y="384"/>
                  </a:lnTo>
                  <a:lnTo>
                    <a:pt x="2" y="361"/>
                  </a:lnTo>
                  <a:lnTo>
                    <a:pt x="4" y="339"/>
                  </a:lnTo>
                  <a:lnTo>
                    <a:pt x="9" y="317"/>
                  </a:lnTo>
                  <a:lnTo>
                    <a:pt x="13" y="296"/>
                  </a:lnTo>
                  <a:lnTo>
                    <a:pt x="19" y="276"/>
                  </a:lnTo>
                  <a:lnTo>
                    <a:pt x="26" y="256"/>
                  </a:lnTo>
                  <a:lnTo>
                    <a:pt x="34" y="237"/>
                  </a:lnTo>
                  <a:lnTo>
                    <a:pt x="43" y="219"/>
                  </a:lnTo>
                  <a:lnTo>
                    <a:pt x="54" y="201"/>
                  </a:lnTo>
                  <a:lnTo>
                    <a:pt x="65" y="185"/>
                  </a:lnTo>
                  <a:lnTo>
                    <a:pt x="77" y="168"/>
                  </a:lnTo>
                  <a:lnTo>
                    <a:pt x="90" y="152"/>
                  </a:lnTo>
                  <a:lnTo>
                    <a:pt x="105" y="137"/>
                  </a:lnTo>
                  <a:lnTo>
                    <a:pt x="121" y="123"/>
                  </a:lnTo>
                  <a:lnTo>
                    <a:pt x="138" y="109"/>
                  </a:lnTo>
                  <a:lnTo>
                    <a:pt x="156" y="95"/>
                  </a:lnTo>
                  <a:lnTo>
                    <a:pt x="173" y="83"/>
                  </a:lnTo>
                  <a:lnTo>
                    <a:pt x="192" y="71"/>
                  </a:lnTo>
                  <a:lnTo>
                    <a:pt x="213" y="61"/>
                  </a:lnTo>
                  <a:lnTo>
                    <a:pt x="234" y="51"/>
                  </a:lnTo>
                  <a:lnTo>
                    <a:pt x="255" y="43"/>
                  </a:lnTo>
                  <a:lnTo>
                    <a:pt x="278" y="35"/>
                  </a:lnTo>
                  <a:lnTo>
                    <a:pt x="301" y="27"/>
                  </a:lnTo>
                  <a:lnTo>
                    <a:pt x="326" y="21"/>
                  </a:lnTo>
                  <a:lnTo>
                    <a:pt x="351" y="16"/>
                  </a:lnTo>
                  <a:lnTo>
                    <a:pt x="377" y="10"/>
                  </a:lnTo>
                  <a:lnTo>
                    <a:pt x="404" y="7"/>
                  </a:lnTo>
                  <a:lnTo>
                    <a:pt x="432" y="4"/>
                  </a:lnTo>
                  <a:lnTo>
                    <a:pt x="460" y="2"/>
                  </a:lnTo>
                  <a:lnTo>
                    <a:pt x="489" y="1"/>
                  </a:lnTo>
                  <a:lnTo>
                    <a:pt x="520" y="0"/>
                  </a:lnTo>
                  <a:lnTo>
                    <a:pt x="531" y="0"/>
                  </a:lnTo>
                  <a:lnTo>
                    <a:pt x="543" y="1"/>
                  </a:lnTo>
                  <a:lnTo>
                    <a:pt x="555" y="1"/>
                  </a:lnTo>
                  <a:lnTo>
                    <a:pt x="567" y="1"/>
                  </a:lnTo>
                  <a:lnTo>
                    <a:pt x="579" y="2"/>
                  </a:lnTo>
                  <a:lnTo>
                    <a:pt x="591" y="3"/>
                  </a:lnTo>
                  <a:lnTo>
                    <a:pt x="604" y="4"/>
                  </a:lnTo>
                  <a:lnTo>
                    <a:pt x="616" y="5"/>
                  </a:lnTo>
                  <a:lnTo>
                    <a:pt x="629" y="7"/>
                  </a:lnTo>
                  <a:lnTo>
                    <a:pt x="642" y="8"/>
                  </a:lnTo>
                  <a:lnTo>
                    <a:pt x="655" y="10"/>
                  </a:lnTo>
                  <a:lnTo>
                    <a:pt x="669" y="11"/>
                  </a:lnTo>
                  <a:lnTo>
                    <a:pt x="683" y="14"/>
                  </a:lnTo>
                  <a:lnTo>
                    <a:pt x="696" y="16"/>
                  </a:lnTo>
                  <a:lnTo>
                    <a:pt x="710" y="18"/>
                  </a:lnTo>
                  <a:lnTo>
                    <a:pt x="725" y="21"/>
                  </a:lnTo>
                  <a:lnTo>
                    <a:pt x="725" y="418"/>
                  </a:lnTo>
                  <a:lnTo>
                    <a:pt x="715" y="414"/>
                  </a:lnTo>
                  <a:lnTo>
                    <a:pt x="706" y="408"/>
                  </a:lnTo>
                  <a:lnTo>
                    <a:pt x="696" y="405"/>
                  </a:lnTo>
                  <a:lnTo>
                    <a:pt x="687" y="401"/>
                  </a:lnTo>
                  <a:lnTo>
                    <a:pt x="677" y="398"/>
                  </a:lnTo>
                  <a:lnTo>
                    <a:pt x="668" y="395"/>
                  </a:lnTo>
                  <a:lnTo>
                    <a:pt x="658" y="393"/>
                  </a:lnTo>
                  <a:lnTo>
                    <a:pt x="649" y="389"/>
                  </a:lnTo>
                  <a:lnTo>
                    <a:pt x="640" y="387"/>
                  </a:lnTo>
                  <a:lnTo>
                    <a:pt x="630" y="385"/>
                  </a:lnTo>
                  <a:lnTo>
                    <a:pt x="622" y="384"/>
                  </a:lnTo>
                  <a:lnTo>
                    <a:pt x="612" y="383"/>
                  </a:lnTo>
                  <a:lnTo>
                    <a:pt x="604" y="382"/>
                  </a:lnTo>
                  <a:lnTo>
                    <a:pt x="594" y="381"/>
                  </a:lnTo>
                  <a:lnTo>
                    <a:pt x="586" y="381"/>
                  </a:lnTo>
                  <a:lnTo>
                    <a:pt x="578" y="381"/>
                  </a:lnTo>
                  <a:lnTo>
                    <a:pt x="565" y="381"/>
                  </a:lnTo>
                  <a:lnTo>
                    <a:pt x="553" y="382"/>
                  </a:lnTo>
                  <a:lnTo>
                    <a:pt x="543" y="383"/>
                  </a:lnTo>
                  <a:lnTo>
                    <a:pt x="532" y="386"/>
                  </a:lnTo>
                  <a:lnTo>
                    <a:pt x="523" y="388"/>
                  </a:lnTo>
                  <a:lnTo>
                    <a:pt x="515" y="393"/>
                  </a:lnTo>
                  <a:lnTo>
                    <a:pt x="506" y="397"/>
                  </a:lnTo>
                  <a:lnTo>
                    <a:pt x="499" y="402"/>
                  </a:lnTo>
                  <a:lnTo>
                    <a:pt x="492" y="407"/>
                  </a:lnTo>
                  <a:lnTo>
                    <a:pt x="486" y="414"/>
                  </a:lnTo>
                  <a:lnTo>
                    <a:pt x="481" y="420"/>
                  </a:lnTo>
                  <a:lnTo>
                    <a:pt x="477" y="426"/>
                  </a:lnTo>
                  <a:lnTo>
                    <a:pt x="474" y="434"/>
                  </a:lnTo>
                  <a:lnTo>
                    <a:pt x="472" y="442"/>
                  </a:lnTo>
                  <a:lnTo>
                    <a:pt x="471" y="450"/>
                  </a:lnTo>
                  <a:lnTo>
                    <a:pt x="469" y="459"/>
                  </a:lnTo>
                  <a:lnTo>
                    <a:pt x="469" y="465"/>
                  </a:lnTo>
                  <a:lnTo>
                    <a:pt x="471" y="470"/>
                  </a:lnTo>
                  <a:lnTo>
                    <a:pt x="472" y="477"/>
                  </a:lnTo>
                  <a:lnTo>
                    <a:pt x="474" y="482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1" y="501"/>
                  </a:lnTo>
                  <a:lnTo>
                    <a:pt x="485" y="507"/>
                  </a:lnTo>
                  <a:lnTo>
                    <a:pt x="489" y="513"/>
                  </a:lnTo>
                  <a:lnTo>
                    <a:pt x="495" y="521"/>
                  </a:lnTo>
                  <a:lnTo>
                    <a:pt x="501" y="529"/>
                  </a:lnTo>
                  <a:lnTo>
                    <a:pt x="508" y="537"/>
                  </a:lnTo>
                  <a:lnTo>
                    <a:pt x="517" y="547"/>
                  </a:lnTo>
                  <a:lnTo>
                    <a:pt x="526" y="557"/>
                  </a:lnTo>
                  <a:lnTo>
                    <a:pt x="537" y="569"/>
                  </a:lnTo>
                  <a:lnTo>
                    <a:pt x="548" y="581"/>
                  </a:lnTo>
                  <a:lnTo>
                    <a:pt x="579" y="611"/>
                  </a:lnTo>
                  <a:lnTo>
                    <a:pt x="606" y="640"/>
                  </a:lnTo>
                  <a:lnTo>
                    <a:pt x="631" y="668"/>
                  </a:lnTo>
                  <a:lnTo>
                    <a:pt x="653" y="695"/>
                  </a:lnTo>
                  <a:lnTo>
                    <a:pt x="673" y="720"/>
                  </a:lnTo>
                  <a:lnTo>
                    <a:pt x="690" y="744"/>
                  </a:lnTo>
                  <a:lnTo>
                    <a:pt x="705" y="767"/>
                  </a:lnTo>
                  <a:lnTo>
                    <a:pt x="716" y="789"/>
                  </a:lnTo>
                  <a:lnTo>
                    <a:pt x="726" y="812"/>
                  </a:lnTo>
                  <a:lnTo>
                    <a:pt x="734" y="834"/>
                  </a:lnTo>
                  <a:lnTo>
                    <a:pt x="741" y="857"/>
                  </a:lnTo>
                  <a:lnTo>
                    <a:pt x="748" y="880"/>
                  </a:lnTo>
                  <a:lnTo>
                    <a:pt x="752" y="904"/>
                  </a:lnTo>
                  <a:lnTo>
                    <a:pt x="755" y="928"/>
                  </a:lnTo>
                  <a:lnTo>
                    <a:pt x="757" y="953"/>
                  </a:lnTo>
                  <a:lnTo>
                    <a:pt x="758" y="978"/>
                  </a:lnTo>
                  <a:lnTo>
                    <a:pt x="757" y="1002"/>
                  </a:lnTo>
                  <a:lnTo>
                    <a:pt x="756" y="1025"/>
                  </a:lnTo>
                  <a:lnTo>
                    <a:pt x="754" y="1046"/>
                  </a:lnTo>
                  <a:lnTo>
                    <a:pt x="750" y="1067"/>
                  </a:lnTo>
                  <a:lnTo>
                    <a:pt x="746" y="1088"/>
                  </a:lnTo>
                  <a:lnTo>
                    <a:pt x="740" y="1108"/>
                  </a:lnTo>
                  <a:lnTo>
                    <a:pt x="734" y="1127"/>
                  </a:lnTo>
                  <a:lnTo>
                    <a:pt x="727" y="1144"/>
                  </a:lnTo>
                  <a:lnTo>
                    <a:pt x="718" y="1162"/>
                  </a:lnTo>
                  <a:lnTo>
                    <a:pt x="710" y="1180"/>
                  </a:lnTo>
                  <a:lnTo>
                    <a:pt x="699" y="1196"/>
                  </a:lnTo>
                  <a:lnTo>
                    <a:pt x="688" y="1212"/>
                  </a:lnTo>
                  <a:lnTo>
                    <a:pt x="676" y="1227"/>
                  </a:lnTo>
                  <a:lnTo>
                    <a:pt x="663" y="1242"/>
                  </a:lnTo>
                  <a:lnTo>
                    <a:pt x="649" y="1256"/>
                  </a:lnTo>
                  <a:lnTo>
                    <a:pt x="634" y="1268"/>
                  </a:lnTo>
                  <a:lnTo>
                    <a:pt x="619" y="1281"/>
                  </a:lnTo>
                  <a:lnTo>
                    <a:pt x="602" y="1292"/>
                  </a:lnTo>
                  <a:lnTo>
                    <a:pt x="584" y="1304"/>
                  </a:lnTo>
                  <a:lnTo>
                    <a:pt x="566" y="1313"/>
                  </a:lnTo>
                  <a:lnTo>
                    <a:pt x="547" y="1323"/>
                  </a:lnTo>
                  <a:lnTo>
                    <a:pt x="527" y="1331"/>
                  </a:lnTo>
                  <a:lnTo>
                    <a:pt x="507" y="1339"/>
                  </a:lnTo>
                  <a:lnTo>
                    <a:pt x="485" y="1346"/>
                  </a:lnTo>
                  <a:lnTo>
                    <a:pt x="463" y="1352"/>
                  </a:lnTo>
                  <a:lnTo>
                    <a:pt x="440" y="1358"/>
                  </a:lnTo>
                  <a:lnTo>
                    <a:pt x="417" y="1362"/>
                  </a:lnTo>
                  <a:lnTo>
                    <a:pt x="393" y="1365"/>
                  </a:lnTo>
                  <a:lnTo>
                    <a:pt x="367" y="1368"/>
                  </a:lnTo>
                  <a:lnTo>
                    <a:pt x="341" y="1370"/>
                  </a:lnTo>
                  <a:lnTo>
                    <a:pt x="314" y="1371"/>
                  </a:lnTo>
                  <a:lnTo>
                    <a:pt x="287" y="1372"/>
                  </a:lnTo>
                  <a:lnTo>
                    <a:pt x="275" y="1372"/>
                  </a:lnTo>
                  <a:lnTo>
                    <a:pt x="264" y="1371"/>
                  </a:lnTo>
                  <a:lnTo>
                    <a:pt x="252" y="1371"/>
                  </a:lnTo>
                  <a:lnTo>
                    <a:pt x="241" y="1371"/>
                  </a:lnTo>
                  <a:lnTo>
                    <a:pt x="228" y="1370"/>
                  </a:lnTo>
                  <a:lnTo>
                    <a:pt x="215" y="1369"/>
                  </a:lnTo>
                  <a:lnTo>
                    <a:pt x="202" y="1368"/>
                  </a:lnTo>
                  <a:lnTo>
                    <a:pt x="188" y="1367"/>
                  </a:lnTo>
                  <a:lnTo>
                    <a:pt x="174" y="1366"/>
                  </a:lnTo>
                  <a:lnTo>
                    <a:pt x="159" y="1365"/>
                  </a:lnTo>
                  <a:lnTo>
                    <a:pt x="141" y="1363"/>
                  </a:lnTo>
                  <a:lnTo>
                    <a:pt x="122" y="1361"/>
                  </a:lnTo>
                  <a:lnTo>
                    <a:pt x="102" y="1358"/>
                  </a:lnTo>
                  <a:lnTo>
                    <a:pt x="80" y="1355"/>
                  </a:lnTo>
                  <a:lnTo>
                    <a:pt x="57" y="1352"/>
                  </a:lnTo>
                  <a:lnTo>
                    <a:pt x="32" y="1349"/>
                  </a:lnTo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2" name=""/>
          <p:cNvSpPr/>
          <p:nvPr/>
        </p:nvSpPr>
        <p:spPr>
          <a:xfrm>
            <a:off x="1382040" y="4940280"/>
            <a:ext cx="6456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CAN LESSEN A MAN’S ABI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1a17"/>
                </a:solidFill>
                <a:latin typeface="Geometr231 Hv BT"/>
              </a:rPr>
              <a:t>TO FATHER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2932200" y="1676520"/>
            <a:ext cx="3263760" cy="3133080"/>
            <a:chOff x="2932200" y="1676520"/>
            <a:chExt cx="3263760" cy="3133080"/>
          </a:xfrm>
        </p:grpSpPr>
        <p:sp>
          <p:nvSpPr>
            <p:cNvPr id="3134" name=""/>
            <p:cNvSpPr/>
            <p:nvPr/>
          </p:nvSpPr>
          <p:spPr>
            <a:xfrm>
              <a:off x="2936880" y="1682640"/>
              <a:ext cx="3254400" cy="3120480"/>
            </a:xfrm>
            <a:prstGeom prst="rect">
              <a:avLst/>
            </a:pr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6880" y="1677600"/>
              <a:ext cx="3259080" cy="9360"/>
            </a:xfrm>
            <a:custGeom>
              <a:avLst/>
              <a:gdLst/>
              <a:ahLst/>
              <a:rect l="l" t="t" r="r" b="b"/>
              <a:pathLst>
                <a:path w="10266" h="30">
                  <a:moveTo>
                    <a:pt x="10266" y="15"/>
                  </a:moveTo>
                  <a:lnTo>
                    <a:pt x="1025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0251" y="30"/>
                  </a:lnTo>
                  <a:lnTo>
                    <a:pt x="10266" y="15"/>
                  </a:lnTo>
                  <a:lnTo>
                    <a:pt x="10266" y="15"/>
                  </a:lnTo>
                  <a:lnTo>
                    <a:pt x="10266" y="0"/>
                  </a:lnTo>
                  <a:lnTo>
                    <a:pt x="10251" y="0"/>
                  </a:lnTo>
                  <a:lnTo>
                    <a:pt x="1026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29" h="9846">
                  <a:moveTo>
                    <a:pt x="14" y="9846"/>
                  </a:moveTo>
                  <a:lnTo>
                    <a:pt x="29" y="983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4" y="9846"/>
                  </a:lnTo>
                  <a:lnTo>
                    <a:pt x="14" y="9846"/>
                  </a:lnTo>
                  <a:lnTo>
                    <a:pt x="29" y="9846"/>
                  </a:lnTo>
                  <a:lnTo>
                    <a:pt x="29" y="9830"/>
                  </a:lnTo>
                  <a:lnTo>
                    <a:pt x="14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2200" y="4798800"/>
              <a:ext cx="3259080" cy="9000"/>
            </a:xfrm>
            <a:custGeom>
              <a:avLst/>
              <a:gdLst/>
              <a:ahLst/>
              <a:rect l="l" t="t" r="r" b="b"/>
              <a:pathLst>
                <a:path w="10265" h="30">
                  <a:moveTo>
                    <a:pt x="0" y="14"/>
                  </a:moveTo>
                  <a:lnTo>
                    <a:pt x="14" y="30"/>
                  </a:lnTo>
                  <a:lnTo>
                    <a:pt x="10265" y="30"/>
                  </a:lnTo>
                  <a:lnTo>
                    <a:pt x="10265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2200" y="1677600"/>
              <a:ext cx="936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586400" y="1982520"/>
              <a:ext cx="695160" cy="1271160"/>
            </a:xfrm>
            <a:prstGeom prst="rect">
              <a:avLst/>
            </a:pr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586400" y="1977840"/>
              <a:ext cx="699840" cy="9000"/>
            </a:xfrm>
            <a:custGeom>
              <a:avLst/>
              <a:gdLst/>
              <a:ahLst/>
              <a:rect l="l" t="t" r="r" b="b"/>
              <a:pathLst>
                <a:path w="2201" h="31">
                  <a:moveTo>
                    <a:pt x="2201" y="15"/>
                  </a:moveTo>
                  <a:lnTo>
                    <a:pt x="218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186" y="31"/>
                  </a:lnTo>
                  <a:lnTo>
                    <a:pt x="2201" y="15"/>
                  </a:lnTo>
                  <a:lnTo>
                    <a:pt x="2201" y="15"/>
                  </a:lnTo>
                  <a:lnTo>
                    <a:pt x="2201" y="0"/>
                  </a:lnTo>
                  <a:lnTo>
                    <a:pt x="2186" y="0"/>
                  </a:lnTo>
                  <a:lnTo>
                    <a:pt x="220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275440" y="1982520"/>
              <a:ext cx="10800" cy="1276200"/>
            </a:xfrm>
            <a:custGeom>
              <a:avLst/>
              <a:gdLst/>
              <a:ahLst/>
              <a:rect l="l" t="t" r="r" b="b"/>
              <a:pathLst>
                <a:path w="31" h="4023">
                  <a:moveTo>
                    <a:pt x="16" y="4023"/>
                  </a:moveTo>
                  <a:lnTo>
                    <a:pt x="31" y="400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4008"/>
                  </a:lnTo>
                  <a:lnTo>
                    <a:pt x="16" y="4023"/>
                  </a:lnTo>
                  <a:lnTo>
                    <a:pt x="16" y="4023"/>
                  </a:lnTo>
                  <a:lnTo>
                    <a:pt x="31" y="4023"/>
                  </a:lnTo>
                  <a:lnTo>
                    <a:pt x="31" y="4008"/>
                  </a:lnTo>
                  <a:lnTo>
                    <a:pt x="16" y="40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83160" y="3251160"/>
              <a:ext cx="698400" cy="7560"/>
            </a:xfrm>
            <a:custGeom>
              <a:avLst/>
              <a:gdLst/>
              <a:ahLst/>
              <a:rect l="l" t="t" r="r" b="b"/>
              <a:pathLst>
                <a:path w="2200" h="29">
                  <a:moveTo>
                    <a:pt x="0" y="14"/>
                  </a:moveTo>
                  <a:lnTo>
                    <a:pt x="14" y="29"/>
                  </a:lnTo>
                  <a:lnTo>
                    <a:pt x="2200" y="29"/>
                  </a:lnTo>
                  <a:lnTo>
                    <a:pt x="2200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4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83160" y="1977840"/>
              <a:ext cx="9360" cy="1275840"/>
            </a:xfrm>
            <a:custGeom>
              <a:avLst/>
              <a:gdLst/>
              <a:ahLst/>
              <a:rect l="l" t="t" r="r" b="b"/>
              <a:pathLst>
                <a:path w="30" h="4023">
                  <a:moveTo>
                    <a:pt x="14" y="0"/>
                  </a:moveTo>
                  <a:lnTo>
                    <a:pt x="0" y="15"/>
                  </a:lnTo>
                  <a:lnTo>
                    <a:pt x="0" y="4023"/>
                  </a:lnTo>
                  <a:lnTo>
                    <a:pt x="30" y="4023"/>
                  </a:lnTo>
                  <a:lnTo>
                    <a:pt x="3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862520" y="2282760"/>
              <a:ext cx="453960" cy="815400"/>
            </a:xfrm>
            <a:prstGeom prst="rect">
              <a:avLst/>
            </a:pr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62520" y="2277720"/>
              <a:ext cx="458640" cy="9360"/>
            </a:xfrm>
            <a:custGeom>
              <a:avLst/>
              <a:gdLst/>
              <a:ahLst/>
              <a:rect l="l" t="t" r="r" b="b"/>
              <a:pathLst>
                <a:path w="1446" h="29">
                  <a:moveTo>
                    <a:pt x="1446" y="15"/>
                  </a:moveTo>
                  <a:lnTo>
                    <a:pt x="1431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431" y="29"/>
                  </a:lnTo>
                  <a:lnTo>
                    <a:pt x="1446" y="15"/>
                  </a:lnTo>
                  <a:lnTo>
                    <a:pt x="1446" y="15"/>
                  </a:lnTo>
                  <a:lnTo>
                    <a:pt x="1446" y="0"/>
                  </a:lnTo>
                  <a:lnTo>
                    <a:pt x="1431" y="0"/>
                  </a:lnTo>
                  <a:lnTo>
                    <a:pt x="144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311800" y="2282760"/>
              <a:ext cx="9360" cy="820080"/>
            </a:xfrm>
            <a:custGeom>
              <a:avLst/>
              <a:gdLst/>
              <a:ahLst/>
              <a:rect l="l" t="t" r="r" b="b"/>
              <a:pathLst>
                <a:path w="31" h="2585">
                  <a:moveTo>
                    <a:pt x="16" y="2585"/>
                  </a:moveTo>
                  <a:lnTo>
                    <a:pt x="31" y="257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570"/>
                  </a:lnTo>
                  <a:lnTo>
                    <a:pt x="16" y="2585"/>
                  </a:lnTo>
                  <a:lnTo>
                    <a:pt x="16" y="2585"/>
                  </a:lnTo>
                  <a:lnTo>
                    <a:pt x="31" y="2585"/>
                  </a:lnTo>
                  <a:lnTo>
                    <a:pt x="31" y="2570"/>
                  </a:lnTo>
                  <a:lnTo>
                    <a:pt x="16" y="25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857840" y="3093840"/>
              <a:ext cx="458640" cy="9000"/>
            </a:xfrm>
            <a:custGeom>
              <a:avLst/>
              <a:gdLst/>
              <a:ahLst/>
              <a:rect l="l" t="t" r="r" b="b"/>
              <a:pathLst>
                <a:path w="1447" h="29">
                  <a:moveTo>
                    <a:pt x="0" y="14"/>
                  </a:moveTo>
                  <a:lnTo>
                    <a:pt x="16" y="29"/>
                  </a:lnTo>
                  <a:lnTo>
                    <a:pt x="1447" y="29"/>
                  </a:lnTo>
                  <a:lnTo>
                    <a:pt x="1447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6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857840" y="2277720"/>
              <a:ext cx="9360" cy="820440"/>
            </a:xfrm>
            <a:custGeom>
              <a:avLst/>
              <a:gdLst/>
              <a:ahLst/>
              <a:rect l="l" t="t" r="r" b="b"/>
              <a:pathLst>
                <a:path w="30" h="2585">
                  <a:moveTo>
                    <a:pt x="16" y="0"/>
                  </a:moveTo>
                  <a:lnTo>
                    <a:pt x="0" y="15"/>
                  </a:lnTo>
                  <a:lnTo>
                    <a:pt x="0" y="2585"/>
                  </a:lnTo>
                  <a:lnTo>
                    <a:pt x="30" y="2585"/>
                  </a:lnTo>
                  <a:lnTo>
                    <a:pt x="30" y="1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6880" y="1922400"/>
              <a:ext cx="369720" cy="2879280"/>
            </a:xfrm>
            <a:prstGeom prst="rect">
              <a:avLst/>
            </a:prstGeom>
            <a:solidFill>
              <a:srgbClr val="82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2200" y="4797360"/>
              <a:ext cx="374400" cy="900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0" y="15"/>
                  </a:moveTo>
                  <a:lnTo>
                    <a:pt x="14" y="30"/>
                  </a:lnTo>
                  <a:lnTo>
                    <a:pt x="1182" y="30"/>
                  </a:lnTo>
                  <a:lnTo>
                    <a:pt x="1182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2200" y="1917360"/>
              <a:ext cx="9360" cy="2884320"/>
            </a:xfrm>
            <a:custGeom>
              <a:avLst/>
              <a:gdLst/>
              <a:ahLst/>
              <a:rect l="l" t="t" r="r" b="b"/>
              <a:pathLst>
                <a:path w="29" h="9087">
                  <a:moveTo>
                    <a:pt x="14" y="0"/>
                  </a:moveTo>
                  <a:lnTo>
                    <a:pt x="0" y="14"/>
                  </a:lnTo>
                  <a:lnTo>
                    <a:pt x="0" y="9087"/>
                  </a:lnTo>
                  <a:lnTo>
                    <a:pt x="29" y="9087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6880" y="1917360"/>
              <a:ext cx="374760" cy="9360"/>
            </a:xfrm>
            <a:custGeom>
              <a:avLst/>
              <a:gdLst/>
              <a:ahLst/>
              <a:rect l="l" t="t" r="r" b="b"/>
              <a:pathLst>
                <a:path w="1182" h="30">
                  <a:moveTo>
                    <a:pt x="1182" y="14"/>
                  </a:moveTo>
                  <a:lnTo>
                    <a:pt x="116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68" y="30"/>
                  </a:lnTo>
                  <a:lnTo>
                    <a:pt x="1182" y="14"/>
                  </a:lnTo>
                  <a:lnTo>
                    <a:pt x="1182" y="14"/>
                  </a:lnTo>
                  <a:lnTo>
                    <a:pt x="1182" y="0"/>
                  </a:lnTo>
                  <a:lnTo>
                    <a:pt x="1168" y="0"/>
                  </a:lnTo>
                  <a:lnTo>
                    <a:pt x="1182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301920" y="1922400"/>
              <a:ext cx="9720" cy="2883960"/>
            </a:xfrm>
            <a:custGeom>
              <a:avLst/>
              <a:gdLst/>
              <a:ahLst/>
              <a:rect l="l" t="t" r="r" b="b"/>
              <a:pathLst>
                <a:path w="29" h="9088">
                  <a:moveTo>
                    <a:pt x="15" y="9088"/>
                  </a:moveTo>
                  <a:lnTo>
                    <a:pt x="29" y="907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9073"/>
                  </a:lnTo>
                  <a:lnTo>
                    <a:pt x="15" y="9088"/>
                  </a:lnTo>
                  <a:lnTo>
                    <a:pt x="15" y="9088"/>
                  </a:lnTo>
                  <a:lnTo>
                    <a:pt x="29" y="9088"/>
                  </a:lnTo>
                  <a:lnTo>
                    <a:pt x="29" y="9073"/>
                  </a:lnTo>
                  <a:lnTo>
                    <a:pt x="15" y="90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936880" y="1993680"/>
              <a:ext cx="371520" cy="2750760"/>
            </a:xfrm>
            <a:custGeom>
              <a:avLst/>
              <a:gdLst/>
              <a:ahLst/>
              <a:rect l="l" t="t" r="r" b="b"/>
              <a:pathLst>
                <a:path w="1170" h="8664">
                  <a:moveTo>
                    <a:pt x="1170" y="0"/>
                  </a:moveTo>
                  <a:lnTo>
                    <a:pt x="0" y="0"/>
                  </a:lnTo>
                  <a:lnTo>
                    <a:pt x="1170" y="0"/>
                  </a:lnTo>
                  <a:close/>
                  <a:moveTo>
                    <a:pt x="1170" y="455"/>
                  </a:moveTo>
                  <a:lnTo>
                    <a:pt x="0" y="455"/>
                  </a:lnTo>
                  <a:lnTo>
                    <a:pt x="1170" y="455"/>
                  </a:lnTo>
                  <a:close/>
                  <a:moveTo>
                    <a:pt x="1170" y="911"/>
                  </a:moveTo>
                  <a:lnTo>
                    <a:pt x="0" y="911"/>
                  </a:lnTo>
                  <a:lnTo>
                    <a:pt x="1170" y="911"/>
                  </a:lnTo>
                  <a:close/>
                  <a:moveTo>
                    <a:pt x="1170" y="1367"/>
                  </a:moveTo>
                  <a:lnTo>
                    <a:pt x="0" y="1367"/>
                  </a:lnTo>
                  <a:lnTo>
                    <a:pt x="1170" y="1367"/>
                  </a:lnTo>
                  <a:close/>
                  <a:moveTo>
                    <a:pt x="1170" y="1824"/>
                  </a:moveTo>
                  <a:lnTo>
                    <a:pt x="0" y="1824"/>
                  </a:lnTo>
                  <a:lnTo>
                    <a:pt x="1170" y="1824"/>
                  </a:lnTo>
                  <a:close/>
                  <a:moveTo>
                    <a:pt x="1170" y="2280"/>
                  </a:moveTo>
                  <a:lnTo>
                    <a:pt x="0" y="2280"/>
                  </a:lnTo>
                  <a:lnTo>
                    <a:pt x="1170" y="2280"/>
                  </a:lnTo>
                  <a:close/>
                  <a:moveTo>
                    <a:pt x="1170" y="2736"/>
                  </a:moveTo>
                  <a:lnTo>
                    <a:pt x="0" y="2736"/>
                  </a:lnTo>
                  <a:lnTo>
                    <a:pt x="1170" y="2736"/>
                  </a:lnTo>
                  <a:close/>
                  <a:moveTo>
                    <a:pt x="1170" y="3193"/>
                  </a:moveTo>
                  <a:lnTo>
                    <a:pt x="0" y="3193"/>
                  </a:lnTo>
                  <a:lnTo>
                    <a:pt x="1170" y="3193"/>
                  </a:lnTo>
                  <a:close/>
                  <a:moveTo>
                    <a:pt x="1170" y="3649"/>
                  </a:moveTo>
                  <a:lnTo>
                    <a:pt x="0" y="3649"/>
                  </a:lnTo>
                  <a:lnTo>
                    <a:pt x="1170" y="3649"/>
                  </a:lnTo>
                  <a:close/>
                  <a:moveTo>
                    <a:pt x="1170" y="4104"/>
                  </a:moveTo>
                  <a:lnTo>
                    <a:pt x="0" y="4104"/>
                  </a:lnTo>
                  <a:lnTo>
                    <a:pt x="1170" y="4104"/>
                  </a:lnTo>
                  <a:close/>
                  <a:moveTo>
                    <a:pt x="1170" y="4559"/>
                  </a:moveTo>
                  <a:lnTo>
                    <a:pt x="0" y="4559"/>
                  </a:lnTo>
                  <a:lnTo>
                    <a:pt x="1170" y="4559"/>
                  </a:lnTo>
                  <a:close/>
                  <a:moveTo>
                    <a:pt x="1170" y="5016"/>
                  </a:moveTo>
                  <a:lnTo>
                    <a:pt x="0" y="5016"/>
                  </a:lnTo>
                  <a:lnTo>
                    <a:pt x="1170" y="5016"/>
                  </a:lnTo>
                  <a:close/>
                  <a:moveTo>
                    <a:pt x="1170" y="5472"/>
                  </a:moveTo>
                  <a:lnTo>
                    <a:pt x="0" y="5472"/>
                  </a:lnTo>
                  <a:lnTo>
                    <a:pt x="1170" y="5472"/>
                  </a:lnTo>
                  <a:close/>
                  <a:moveTo>
                    <a:pt x="1170" y="5928"/>
                  </a:moveTo>
                  <a:lnTo>
                    <a:pt x="0" y="5928"/>
                  </a:lnTo>
                  <a:lnTo>
                    <a:pt x="1170" y="5928"/>
                  </a:lnTo>
                  <a:close/>
                  <a:moveTo>
                    <a:pt x="1170" y="6382"/>
                  </a:moveTo>
                  <a:lnTo>
                    <a:pt x="0" y="6382"/>
                  </a:lnTo>
                  <a:lnTo>
                    <a:pt x="1170" y="6382"/>
                  </a:lnTo>
                  <a:close/>
                  <a:moveTo>
                    <a:pt x="1170" y="6838"/>
                  </a:moveTo>
                  <a:lnTo>
                    <a:pt x="0" y="6838"/>
                  </a:lnTo>
                  <a:lnTo>
                    <a:pt x="1170" y="6838"/>
                  </a:lnTo>
                  <a:close/>
                  <a:moveTo>
                    <a:pt x="1170" y="7295"/>
                  </a:moveTo>
                  <a:lnTo>
                    <a:pt x="0" y="7295"/>
                  </a:lnTo>
                  <a:lnTo>
                    <a:pt x="1170" y="7295"/>
                  </a:lnTo>
                  <a:close/>
                  <a:moveTo>
                    <a:pt x="1170" y="7751"/>
                  </a:moveTo>
                  <a:lnTo>
                    <a:pt x="0" y="7751"/>
                  </a:lnTo>
                  <a:lnTo>
                    <a:pt x="1170" y="7751"/>
                  </a:lnTo>
                  <a:close/>
                  <a:moveTo>
                    <a:pt x="1170" y="8207"/>
                  </a:moveTo>
                  <a:lnTo>
                    <a:pt x="0" y="8207"/>
                  </a:lnTo>
                  <a:lnTo>
                    <a:pt x="1170" y="8207"/>
                  </a:lnTo>
                  <a:close/>
                  <a:moveTo>
                    <a:pt x="1170" y="8664"/>
                  </a:moveTo>
                  <a:lnTo>
                    <a:pt x="0" y="8664"/>
                  </a:lnTo>
                  <a:lnTo>
                    <a:pt x="1170" y="866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936880" y="19890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936880" y="21333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6880" y="2277720"/>
              <a:ext cx="371520" cy="108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936880" y="24238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936880" y="256824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936880" y="27129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936880" y="2858760"/>
              <a:ext cx="371520" cy="75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936880" y="30034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936880" y="31478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936880" y="329220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936880" y="343656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936880" y="358128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936880" y="372708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936880" y="38718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6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0" y="31"/>
                  </a:move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936880" y="40161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1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170" y="31"/>
                  </a:lnTo>
                  <a:lnTo>
                    <a:pt x="1170" y="0"/>
                  </a:lnTo>
                  <a:lnTo>
                    <a:pt x="1170" y="31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936880" y="4160520"/>
              <a:ext cx="371520" cy="936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936880" y="430524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936880" y="444960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0" y="29"/>
                  </a:move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936880" y="459576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29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170" y="29"/>
                  </a:lnTo>
                  <a:lnTo>
                    <a:pt x="1170" y="0"/>
                  </a:lnTo>
                  <a:lnTo>
                    <a:pt x="1170" y="29"/>
                  </a:lnTo>
                  <a:lnTo>
                    <a:pt x="1170" y="14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0" y="30"/>
                  </a:move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936880" y="4740120"/>
              <a:ext cx="371520" cy="9000"/>
            </a:xfrm>
            <a:custGeom>
              <a:avLst/>
              <a:gdLst/>
              <a:ahLst/>
              <a:rect l="l" t="t" r="r" b="b"/>
              <a:pathLst>
                <a:path w="1170" h="30">
                  <a:moveTo>
                    <a:pt x="1170" y="0"/>
                  </a:moveTo>
                  <a:lnTo>
                    <a:pt x="117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170" y="30"/>
                  </a:lnTo>
                  <a:lnTo>
                    <a:pt x="1170" y="0"/>
                  </a:lnTo>
                  <a:lnTo>
                    <a:pt x="1170" y="30"/>
                  </a:lnTo>
                  <a:lnTo>
                    <a:pt x="1170" y="15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936880" y="1682640"/>
              <a:ext cx="2225520" cy="371160"/>
            </a:xfrm>
            <a:prstGeom prst="rect">
              <a:avLst/>
            </a:pr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32200" y="1676520"/>
              <a:ext cx="2230200" cy="1080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0" y="16"/>
                  </a:moveTo>
                  <a:lnTo>
                    <a:pt x="15" y="31"/>
                  </a:lnTo>
                  <a:lnTo>
                    <a:pt x="7021" y="31"/>
                  </a:lnTo>
                  <a:lnTo>
                    <a:pt x="7021" y="0"/>
                  </a:lnTo>
                  <a:lnTo>
                    <a:pt x="15" y="0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932200" y="1682640"/>
              <a:ext cx="9360" cy="375840"/>
            </a:xfrm>
            <a:custGeom>
              <a:avLst/>
              <a:gdLst/>
              <a:ahLst/>
              <a:rect l="l" t="t" r="r" b="b"/>
              <a:pathLst>
                <a:path w="30" h="1188">
                  <a:moveTo>
                    <a:pt x="15" y="1188"/>
                  </a:moveTo>
                  <a:lnTo>
                    <a:pt x="30" y="117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173"/>
                  </a:lnTo>
                  <a:lnTo>
                    <a:pt x="15" y="1188"/>
                  </a:lnTo>
                  <a:lnTo>
                    <a:pt x="0" y="1173"/>
                  </a:lnTo>
                  <a:lnTo>
                    <a:pt x="0" y="1188"/>
                  </a:lnTo>
                  <a:lnTo>
                    <a:pt x="1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936880" y="2049120"/>
              <a:ext cx="2230560" cy="9360"/>
            </a:xfrm>
            <a:custGeom>
              <a:avLst/>
              <a:gdLst/>
              <a:ahLst/>
              <a:rect l="l" t="t" r="r" b="b"/>
              <a:pathLst>
                <a:path w="7021" h="31">
                  <a:moveTo>
                    <a:pt x="7021" y="16"/>
                  </a:moveTo>
                  <a:lnTo>
                    <a:pt x="7006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7006" y="31"/>
                  </a:lnTo>
                  <a:lnTo>
                    <a:pt x="7021" y="16"/>
                  </a:lnTo>
                  <a:lnTo>
                    <a:pt x="7006" y="31"/>
                  </a:lnTo>
                  <a:lnTo>
                    <a:pt x="7021" y="31"/>
                  </a:lnTo>
                  <a:lnTo>
                    <a:pt x="7021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57720" y="1676520"/>
              <a:ext cx="9720" cy="377640"/>
            </a:xfrm>
            <a:custGeom>
              <a:avLst/>
              <a:gdLst/>
              <a:ahLst/>
              <a:rect l="l" t="t" r="r" b="b"/>
              <a:pathLst>
                <a:path w="30" h="1189">
                  <a:moveTo>
                    <a:pt x="15" y="0"/>
                  </a:moveTo>
                  <a:lnTo>
                    <a:pt x="0" y="16"/>
                  </a:lnTo>
                  <a:lnTo>
                    <a:pt x="0" y="1189"/>
                  </a:lnTo>
                  <a:lnTo>
                    <a:pt x="30" y="1189"/>
                  </a:lnTo>
                  <a:lnTo>
                    <a:pt x="30" y="16"/>
                  </a:lnTo>
                  <a:lnTo>
                    <a:pt x="15" y="0"/>
                  </a:lnTo>
                  <a:lnTo>
                    <a:pt x="30" y="16"/>
                  </a:lnTo>
                  <a:lnTo>
                    <a:pt x="3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936880" y="1680840"/>
              <a:ext cx="2225520" cy="372960"/>
            </a:xfrm>
            <a:custGeom>
              <a:avLst/>
              <a:gdLst/>
              <a:ahLst/>
              <a:rect l="l" t="t" r="r" b="b"/>
              <a:pathLst>
                <a:path w="7008" h="1174">
                  <a:moveTo>
                    <a:pt x="0" y="554"/>
                  </a:moveTo>
                  <a:lnTo>
                    <a:pt x="328" y="0"/>
                  </a:lnTo>
                  <a:lnTo>
                    <a:pt x="0" y="554"/>
                  </a:lnTo>
                  <a:close/>
                  <a:moveTo>
                    <a:pt x="0" y="1004"/>
                  </a:moveTo>
                  <a:lnTo>
                    <a:pt x="593" y="0"/>
                  </a:lnTo>
                  <a:lnTo>
                    <a:pt x="0" y="1004"/>
                  </a:lnTo>
                  <a:close/>
                  <a:moveTo>
                    <a:pt x="163" y="1174"/>
                  </a:moveTo>
                  <a:lnTo>
                    <a:pt x="855" y="0"/>
                  </a:lnTo>
                  <a:lnTo>
                    <a:pt x="163" y="1174"/>
                  </a:lnTo>
                  <a:close/>
                  <a:moveTo>
                    <a:pt x="428" y="1174"/>
                  </a:moveTo>
                  <a:lnTo>
                    <a:pt x="1119" y="0"/>
                  </a:lnTo>
                  <a:lnTo>
                    <a:pt x="428" y="1174"/>
                  </a:lnTo>
                  <a:close/>
                  <a:moveTo>
                    <a:pt x="691" y="1174"/>
                  </a:moveTo>
                  <a:lnTo>
                    <a:pt x="1382" y="0"/>
                  </a:lnTo>
                  <a:lnTo>
                    <a:pt x="691" y="1174"/>
                  </a:lnTo>
                  <a:close/>
                  <a:moveTo>
                    <a:pt x="955" y="1174"/>
                  </a:moveTo>
                  <a:lnTo>
                    <a:pt x="1647" y="0"/>
                  </a:lnTo>
                  <a:lnTo>
                    <a:pt x="955" y="1174"/>
                  </a:lnTo>
                  <a:close/>
                  <a:moveTo>
                    <a:pt x="1219" y="1174"/>
                  </a:moveTo>
                  <a:lnTo>
                    <a:pt x="1911" y="0"/>
                  </a:lnTo>
                  <a:lnTo>
                    <a:pt x="1219" y="1174"/>
                  </a:lnTo>
                  <a:close/>
                  <a:moveTo>
                    <a:pt x="1483" y="1174"/>
                  </a:moveTo>
                  <a:lnTo>
                    <a:pt x="2174" y="0"/>
                  </a:lnTo>
                  <a:lnTo>
                    <a:pt x="1483" y="1174"/>
                  </a:lnTo>
                  <a:close/>
                  <a:moveTo>
                    <a:pt x="1748" y="1174"/>
                  </a:moveTo>
                  <a:lnTo>
                    <a:pt x="2439" y="0"/>
                  </a:lnTo>
                  <a:lnTo>
                    <a:pt x="1748" y="1174"/>
                  </a:lnTo>
                  <a:close/>
                  <a:moveTo>
                    <a:pt x="2011" y="1174"/>
                  </a:moveTo>
                  <a:lnTo>
                    <a:pt x="2702" y="0"/>
                  </a:lnTo>
                  <a:lnTo>
                    <a:pt x="2011" y="1174"/>
                  </a:lnTo>
                  <a:close/>
                  <a:moveTo>
                    <a:pt x="2275" y="1174"/>
                  </a:moveTo>
                  <a:lnTo>
                    <a:pt x="2967" y="0"/>
                  </a:lnTo>
                  <a:lnTo>
                    <a:pt x="2275" y="1174"/>
                  </a:lnTo>
                  <a:close/>
                  <a:moveTo>
                    <a:pt x="2539" y="1174"/>
                  </a:moveTo>
                  <a:lnTo>
                    <a:pt x="3231" y="0"/>
                  </a:lnTo>
                  <a:lnTo>
                    <a:pt x="2539" y="1174"/>
                  </a:lnTo>
                  <a:close/>
                  <a:moveTo>
                    <a:pt x="2803" y="1174"/>
                  </a:moveTo>
                  <a:lnTo>
                    <a:pt x="3494" y="0"/>
                  </a:lnTo>
                  <a:lnTo>
                    <a:pt x="2803" y="1174"/>
                  </a:lnTo>
                  <a:close/>
                  <a:moveTo>
                    <a:pt x="3067" y="1174"/>
                  </a:moveTo>
                  <a:lnTo>
                    <a:pt x="3759" y="0"/>
                  </a:lnTo>
                  <a:lnTo>
                    <a:pt x="3067" y="1174"/>
                  </a:lnTo>
                  <a:close/>
                  <a:moveTo>
                    <a:pt x="3331" y="1174"/>
                  </a:moveTo>
                  <a:lnTo>
                    <a:pt x="4022" y="0"/>
                  </a:lnTo>
                  <a:lnTo>
                    <a:pt x="3331" y="1174"/>
                  </a:lnTo>
                  <a:close/>
                  <a:moveTo>
                    <a:pt x="3595" y="1174"/>
                  </a:moveTo>
                  <a:lnTo>
                    <a:pt x="4286" y="0"/>
                  </a:lnTo>
                  <a:lnTo>
                    <a:pt x="3595" y="1174"/>
                  </a:lnTo>
                  <a:close/>
                  <a:moveTo>
                    <a:pt x="3858" y="1174"/>
                  </a:moveTo>
                  <a:lnTo>
                    <a:pt x="4551" y="0"/>
                  </a:lnTo>
                  <a:lnTo>
                    <a:pt x="3858" y="1174"/>
                  </a:lnTo>
                  <a:close/>
                  <a:moveTo>
                    <a:pt x="4123" y="1174"/>
                  </a:moveTo>
                  <a:lnTo>
                    <a:pt x="4814" y="0"/>
                  </a:lnTo>
                  <a:lnTo>
                    <a:pt x="4123" y="1174"/>
                  </a:lnTo>
                  <a:close/>
                  <a:moveTo>
                    <a:pt x="4387" y="1174"/>
                  </a:moveTo>
                  <a:lnTo>
                    <a:pt x="5079" y="0"/>
                  </a:lnTo>
                  <a:lnTo>
                    <a:pt x="4387" y="1174"/>
                  </a:lnTo>
                  <a:close/>
                  <a:moveTo>
                    <a:pt x="4650" y="1174"/>
                  </a:moveTo>
                  <a:lnTo>
                    <a:pt x="5340" y="0"/>
                  </a:lnTo>
                  <a:lnTo>
                    <a:pt x="4650" y="1174"/>
                  </a:lnTo>
                  <a:close/>
                  <a:moveTo>
                    <a:pt x="4915" y="1174"/>
                  </a:moveTo>
                  <a:lnTo>
                    <a:pt x="5605" y="0"/>
                  </a:lnTo>
                  <a:lnTo>
                    <a:pt x="4915" y="1174"/>
                  </a:lnTo>
                  <a:close/>
                  <a:moveTo>
                    <a:pt x="5177" y="1174"/>
                  </a:moveTo>
                  <a:lnTo>
                    <a:pt x="5868" y="0"/>
                  </a:lnTo>
                  <a:lnTo>
                    <a:pt x="5177" y="1174"/>
                  </a:lnTo>
                  <a:close/>
                  <a:moveTo>
                    <a:pt x="5441" y="1174"/>
                  </a:moveTo>
                  <a:lnTo>
                    <a:pt x="6133" y="0"/>
                  </a:lnTo>
                  <a:lnTo>
                    <a:pt x="5441" y="1174"/>
                  </a:lnTo>
                  <a:close/>
                  <a:moveTo>
                    <a:pt x="5705" y="1174"/>
                  </a:moveTo>
                  <a:lnTo>
                    <a:pt x="6396" y="0"/>
                  </a:lnTo>
                  <a:lnTo>
                    <a:pt x="5705" y="1174"/>
                  </a:lnTo>
                  <a:close/>
                  <a:moveTo>
                    <a:pt x="5969" y="1174"/>
                  </a:moveTo>
                  <a:lnTo>
                    <a:pt x="6660" y="0"/>
                  </a:lnTo>
                  <a:lnTo>
                    <a:pt x="5969" y="1174"/>
                  </a:lnTo>
                  <a:close/>
                  <a:moveTo>
                    <a:pt x="6233" y="1174"/>
                  </a:moveTo>
                  <a:lnTo>
                    <a:pt x="6925" y="0"/>
                  </a:lnTo>
                  <a:lnTo>
                    <a:pt x="6233" y="1174"/>
                  </a:lnTo>
                  <a:close/>
                  <a:moveTo>
                    <a:pt x="6497" y="1174"/>
                  </a:moveTo>
                  <a:lnTo>
                    <a:pt x="7008" y="300"/>
                  </a:lnTo>
                  <a:lnTo>
                    <a:pt x="6497" y="1174"/>
                  </a:lnTo>
                  <a:close/>
                  <a:moveTo>
                    <a:pt x="6760" y="1174"/>
                  </a:moveTo>
                  <a:lnTo>
                    <a:pt x="7008" y="749"/>
                  </a:lnTo>
                  <a:lnTo>
                    <a:pt x="6760" y="1174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329" y="0"/>
                  </a:move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355" y="15"/>
                  </a:lnTo>
                  <a:lnTo>
                    <a:pt x="341" y="7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933640" y="1677600"/>
              <a:ext cx="112680" cy="180720"/>
            </a:xfrm>
            <a:custGeom>
              <a:avLst/>
              <a:gdLst/>
              <a:ahLst/>
              <a:rect l="l" t="t" r="r" b="b"/>
              <a:pathLst>
                <a:path w="355" h="569">
                  <a:moveTo>
                    <a:pt x="26" y="569"/>
                  </a:moveTo>
                  <a:lnTo>
                    <a:pt x="26" y="569"/>
                  </a:lnTo>
                  <a:lnTo>
                    <a:pt x="355" y="15"/>
                  </a:lnTo>
                  <a:lnTo>
                    <a:pt x="329" y="0"/>
                  </a:lnTo>
                  <a:lnTo>
                    <a:pt x="0" y="553"/>
                  </a:lnTo>
                  <a:lnTo>
                    <a:pt x="26" y="569"/>
                  </a:lnTo>
                  <a:lnTo>
                    <a:pt x="0" y="553"/>
                  </a:lnTo>
                  <a:lnTo>
                    <a:pt x="13" y="561"/>
                  </a:lnTo>
                  <a:lnTo>
                    <a:pt x="26" y="5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592" y="0"/>
                  </a:move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618" y="15"/>
                  </a:lnTo>
                  <a:lnTo>
                    <a:pt x="606" y="7"/>
                  </a:lnTo>
                  <a:lnTo>
                    <a:pt x="5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3640" y="1677600"/>
              <a:ext cx="195480" cy="323640"/>
            </a:xfrm>
            <a:custGeom>
              <a:avLst/>
              <a:gdLst/>
              <a:ahLst/>
              <a:rect l="l" t="t" r="r" b="b"/>
              <a:pathLst>
                <a:path w="618" h="1018">
                  <a:moveTo>
                    <a:pt x="26" y="1018"/>
                  </a:moveTo>
                  <a:lnTo>
                    <a:pt x="26" y="1018"/>
                  </a:lnTo>
                  <a:lnTo>
                    <a:pt x="618" y="15"/>
                  </a:lnTo>
                  <a:lnTo>
                    <a:pt x="592" y="0"/>
                  </a:lnTo>
                  <a:lnTo>
                    <a:pt x="0" y="1002"/>
                  </a:lnTo>
                  <a:lnTo>
                    <a:pt x="26" y="1018"/>
                  </a:lnTo>
                  <a:lnTo>
                    <a:pt x="0" y="1002"/>
                  </a:lnTo>
                  <a:lnTo>
                    <a:pt x="13" y="1011"/>
                  </a:lnTo>
                  <a:lnTo>
                    <a:pt x="26" y="10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986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686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152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2367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5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321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6" y="1188"/>
                  </a:moveTo>
                  <a:lnTo>
                    <a:pt x="26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40524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487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5719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656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740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3822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8" y="1188"/>
                  </a:moveTo>
                  <a:lnTo>
                    <a:pt x="28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8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8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390672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99096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07520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5908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693" y="0"/>
                  </a:move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719" y="15"/>
                  </a:lnTo>
                  <a:lnTo>
                    <a:pt x="705" y="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418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9" h="1188">
                  <a:moveTo>
                    <a:pt x="26" y="1188"/>
                  </a:moveTo>
                  <a:lnTo>
                    <a:pt x="26" y="1188"/>
                  </a:lnTo>
                  <a:lnTo>
                    <a:pt x="719" y="15"/>
                  </a:lnTo>
                  <a:lnTo>
                    <a:pt x="693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32576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2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41000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690" y="0"/>
                  </a:move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716" y="15"/>
                  </a:lnTo>
                  <a:lnTo>
                    <a:pt x="704" y="7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942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6" h="1188">
                  <a:moveTo>
                    <a:pt x="26" y="1188"/>
                  </a:moveTo>
                  <a:lnTo>
                    <a:pt x="26" y="1188"/>
                  </a:lnTo>
                  <a:lnTo>
                    <a:pt x="716" y="15"/>
                  </a:lnTo>
                  <a:lnTo>
                    <a:pt x="690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4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3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57668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5" y="1188"/>
                  </a:moveTo>
                  <a:lnTo>
                    <a:pt x="25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2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6092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717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745160" y="1677600"/>
              <a:ext cx="2268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692" y="0"/>
                  </a:move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718" y="15"/>
                  </a:lnTo>
                  <a:lnTo>
                    <a:pt x="704" y="7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829040" y="1677600"/>
              <a:ext cx="227160" cy="377640"/>
            </a:xfrm>
            <a:custGeom>
              <a:avLst/>
              <a:gdLst/>
              <a:ahLst/>
              <a:rect l="l" t="t" r="r" b="b"/>
              <a:pathLst>
                <a:path w="718" h="1188">
                  <a:moveTo>
                    <a:pt x="25" y="1188"/>
                  </a:moveTo>
                  <a:lnTo>
                    <a:pt x="25" y="1188"/>
                  </a:lnTo>
                  <a:lnTo>
                    <a:pt x="718" y="15"/>
                  </a:lnTo>
                  <a:lnTo>
                    <a:pt x="692" y="0"/>
                  </a:lnTo>
                  <a:lnTo>
                    <a:pt x="0" y="1173"/>
                  </a:lnTo>
                  <a:lnTo>
                    <a:pt x="25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5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691" y="0"/>
                  </a:move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717" y="15"/>
                  </a:lnTo>
                  <a:lnTo>
                    <a:pt x="705" y="7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911840" y="1677600"/>
              <a:ext cx="228600" cy="377640"/>
            </a:xfrm>
            <a:custGeom>
              <a:avLst/>
              <a:gdLst/>
              <a:ahLst/>
              <a:rect l="l" t="t" r="r" b="b"/>
              <a:pathLst>
                <a:path w="717" h="1188">
                  <a:moveTo>
                    <a:pt x="26" y="1188"/>
                  </a:moveTo>
                  <a:lnTo>
                    <a:pt x="26" y="1188"/>
                  </a:lnTo>
                  <a:lnTo>
                    <a:pt x="717" y="15"/>
                  </a:lnTo>
                  <a:lnTo>
                    <a:pt x="691" y="0"/>
                  </a:lnTo>
                  <a:lnTo>
                    <a:pt x="0" y="1173"/>
                  </a:lnTo>
                  <a:lnTo>
                    <a:pt x="26" y="1188"/>
                  </a:lnTo>
                  <a:lnTo>
                    <a:pt x="0" y="1173"/>
                  </a:lnTo>
                  <a:lnTo>
                    <a:pt x="13" y="1181"/>
                  </a:lnTo>
                  <a:lnTo>
                    <a:pt x="26" y="11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512" y="0"/>
                  </a:move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538" y="15"/>
                  </a:lnTo>
                  <a:lnTo>
                    <a:pt x="524" y="7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995720" y="1773000"/>
              <a:ext cx="171720" cy="282240"/>
            </a:xfrm>
            <a:custGeom>
              <a:avLst/>
              <a:gdLst/>
              <a:ahLst/>
              <a:rect l="l" t="t" r="r" b="b"/>
              <a:pathLst>
                <a:path w="538" h="888">
                  <a:moveTo>
                    <a:pt x="26" y="888"/>
                  </a:moveTo>
                  <a:lnTo>
                    <a:pt x="26" y="888"/>
                  </a:lnTo>
                  <a:lnTo>
                    <a:pt x="538" y="15"/>
                  </a:lnTo>
                  <a:lnTo>
                    <a:pt x="512" y="0"/>
                  </a:lnTo>
                  <a:lnTo>
                    <a:pt x="0" y="873"/>
                  </a:lnTo>
                  <a:lnTo>
                    <a:pt x="26" y="888"/>
                  </a:lnTo>
                  <a:lnTo>
                    <a:pt x="0" y="873"/>
                  </a:lnTo>
                  <a:lnTo>
                    <a:pt x="13" y="881"/>
                  </a:lnTo>
                  <a:lnTo>
                    <a:pt x="26" y="8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50" y="0"/>
                  </a:move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276" y="15"/>
                  </a:lnTo>
                  <a:lnTo>
                    <a:pt x="262" y="7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079960" y="1915920"/>
              <a:ext cx="87480" cy="139320"/>
            </a:xfrm>
            <a:custGeom>
              <a:avLst/>
              <a:gdLst/>
              <a:ahLst/>
              <a:rect l="l" t="t" r="r" b="b"/>
              <a:pathLst>
                <a:path w="276" h="439">
                  <a:moveTo>
                    <a:pt x="26" y="439"/>
                  </a:moveTo>
                  <a:lnTo>
                    <a:pt x="26" y="439"/>
                  </a:lnTo>
                  <a:lnTo>
                    <a:pt x="276" y="15"/>
                  </a:lnTo>
                  <a:lnTo>
                    <a:pt x="250" y="0"/>
                  </a:lnTo>
                  <a:lnTo>
                    <a:pt x="0" y="424"/>
                  </a:lnTo>
                  <a:lnTo>
                    <a:pt x="26" y="439"/>
                  </a:lnTo>
                  <a:lnTo>
                    <a:pt x="0" y="424"/>
                  </a:lnTo>
                  <a:lnTo>
                    <a:pt x="14" y="432"/>
                  </a:lnTo>
                  <a:lnTo>
                    <a:pt x="26" y="4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36880" y="2893680"/>
              <a:ext cx="2282760" cy="1909440"/>
            </a:xfrm>
            <a:custGeom>
              <a:avLst/>
              <a:gdLst/>
              <a:ahLst/>
              <a:rect l="l" t="t" r="r" b="b"/>
              <a:pathLst>
                <a:path w="7189" h="6012">
                  <a:moveTo>
                    <a:pt x="7189" y="6012"/>
                  </a:moveTo>
                  <a:lnTo>
                    <a:pt x="0" y="6012"/>
                  </a:lnTo>
                  <a:lnTo>
                    <a:pt x="0" y="3558"/>
                  </a:lnTo>
                  <a:lnTo>
                    <a:pt x="37" y="3443"/>
                  </a:lnTo>
                  <a:lnTo>
                    <a:pt x="7083" y="0"/>
                  </a:lnTo>
                  <a:lnTo>
                    <a:pt x="7189" y="6012"/>
                  </a:lnTo>
                  <a:close/>
                </a:path>
              </a:pathLst>
            </a:custGeom>
            <a:solidFill>
              <a:srgbClr val="bc8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932200" y="4798800"/>
              <a:ext cx="2287440" cy="9000"/>
            </a:xfrm>
            <a:custGeom>
              <a:avLst/>
              <a:gdLst/>
              <a:ahLst/>
              <a:rect l="l" t="t" r="r" b="b"/>
              <a:pathLst>
                <a:path w="7203" h="30">
                  <a:moveTo>
                    <a:pt x="0" y="15"/>
                  </a:moveTo>
                  <a:lnTo>
                    <a:pt x="14" y="30"/>
                  </a:lnTo>
                  <a:lnTo>
                    <a:pt x="7203" y="30"/>
                  </a:lnTo>
                  <a:lnTo>
                    <a:pt x="7203" y="0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932200" y="4022640"/>
              <a:ext cx="9360" cy="780480"/>
            </a:xfrm>
            <a:custGeom>
              <a:avLst/>
              <a:gdLst/>
              <a:ahLst/>
              <a:rect l="l" t="t" r="r" b="b"/>
              <a:pathLst>
                <a:path w="29" h="2459">
                  <a:moveTo>
                    <a:pt x="0" y="0"/>
                  </a:moveTo>
                  <a:lnTo>
                    <a:pt x="0" y="5"/>
                  </a:lnTo>
                  <a:lnTo>
                    <a:pt x="0" y="2459"/>
                  </a:lnTo>
                  <a:lnTo>
                    <a:pt x="29" y="2459"/>
                  </a:lnTo>
                  <a:lnTo>
                    <a:pt x="2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932200" y="3982680"/>
              <a:ext cx="20520" cy="4248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45" y="0"/>
                  </a:moveTo>
                  <a:lnTo>
                    <a:pt x="38" y="10"/>
                  </a:lnTo>
                  <a:lnTo>
                    <a:pt x="0" y="124"/>
                  </a:lnTo>
                  <a:lnTo>
                    <a:pt x="28" y="133"/>
                  </a:lnTo>
                  <a:lnTo>
                    <a:pt x="66" y="1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9" y="4"/>
                  </a:lnTo>
                  <a:lnTo>
                    <a:pt x="38" y="1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946240" y="2885760"/>
              <a:ext cx="2243160" cy="1104480"/>
            </a:xfrm>
            <a:custGeom>
              <a:avLst/>
              <a:gdLst/>
              <a:ahLst/>
              <a:rect l="l" t="t" r="r" b="b"/>
              <a:pathLst>
                <a:path w="7067" h="3480">
                  <a:moveTo>
                    <a:pt x="7067" y="24"/>
                  </a:moveTo>
                  <a:lnTo>
                    <a:pt x="7044" y="10"/>
                  </a:lnTo>
                  <a:lnTo>
                    <a:pt x="0" y="3453"/>
                  </a:lnTo>
                  <a:lnTo>
                    <a:pt x="12" y="3480"/>
                  </a:lnTo>
                  <a:lnTo>
                    <a:pt x="7058" y="37"/>
                  </a:lnTo>
                  <a:lnTo>
                    <a:pt x="7067" y="24"/>
                  </a:lnTo>
                  <a:lnTo>
                    <a:pt x="7067" y="24"/>
                  </a:lnTo>
                  <a:lnTo>
                    <a:pt x="7065" y="0"/>
                  </a:lnTo>
                  <a:lnTo>
                    <a:pt x="7044" y="10"/>
                  </a:lnTo>
                  <a:lnTo>
                    <a:pt x="7067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80040" y="2893680"/>
              <a:ext cx="42840" cy="1914120"/>
            </a:xfrm>
            <a:custGeom>
              <a:avLst/>
              <a:gdLst/>
              <a:ahLst/>
              <a:rect l="l" t="t" r="r" b="b"/>
              <a:pathLst>
                <a:path w="136" h="6027">
                  <a:moveTo>
                    <a:pt x="122" y="6027"/>
                  </a:moveTo>
                  <a:lnTo>
                    <a:pt x="136" y="6012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07" y="6012"/>
                  </a:lnTo>
                  <a:lnTo>
                    <a:pt x="122" y="6027"/>
                  </a:lnTo>
                  <a:lnTo>
                    <a:pt x="122" y="6027"/>
                  </a:lnTo>
                  <a:lnTo>
                    <a:pt x="136" y="6027"/>
                  </a:lnTo>
                  <a:lnTo>
                    <a:pt x="136" y="6012"/>
                  </a:lnTo>
                  <a:lnTo>
                    <a:pt x="122" y="60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68640" y="2935080"/>
              <a:ext cx="2044800" cy="1868040"/>
            </a:xfrm>
            <a:custGeom>
              <a:avLst/>
              <a:gdLst/>
              <a:ahLst/>
              <a:rect l="l" t="t" r="r" b="b"/>
              <a:pathLst>
                <a:path w="6440" h="5885">
                  <a:moveTo>
                    <a:pt x="6440" y="5885"/>
                  </a:moveTo>
                  <a:lnTo>
                    <a:pt x="6404" y="0"/>
                  </a:lnTo>
                  <a:lnTo>
                    <a:pt x="6440" y="5885"/>
                  </a:lnTo>
                  <a:close/>
                  <a:moveTo>
                    <a:pt x="6102" y="5885"/>
                  </a:moveTo>
                  <a:lnTo>
                    <a:pt x="6068" y="163"/>
                  </a:lnTo>
                  <a:lnTo>
                    <a:pt x="6102" y="5885"/>
                  </a:lnTo>
                  <a:close/>
                  <a:moveTo>
                    <a:pt x="5763" y="5885"/>
                  </a:moveTo>
                  <a:lnTo>
                    <a:pt x="5730" y="329"/>
                  </a:lnTo>
                  <a:lnTo>
                    <a:pt x="5763" y="5885"/>
                  </a:lnTo>
                  <a:close/>
                  <a:moveTo>
                    <a:pt x="5424" y="5885"/>
                  </a:moveTo>
                  <a:lnTo>
                    <a:pt x="5394" y="493"/>
                  </a:lnTo>
                  <a:lnTo>
                    <a:pt x="5424" y="5885"/>
                  </a:lnTo>
                  <a:close/>
                  <a:moveTo>
                    <a:pt x="5086" y="5885"/>
                  </a:moveTo>
                  <a:lnTo>
                    <a:pt x="5056" y="658"/>
                  </a:lnTo>
                  <a:lnTo>
                    <a:pt x="5086" y="5885"/>
                  </a:lnTo>
                  <a:close/>
                  <a:moveTo>
                    <a:pt x="4749" y="5885"/>
                  </a:moveTo>
                  <a:lnTo>
                    <a:pt x="4719" y="825"/>
                  </a:lnTo>
                  <a:lnTo>
                    <a:pt x="4749" y="5885"/>
                  </a:lnTo>
                  <a:close/>
                  <a:moveTo>
                    <a:pt x="4412" y="5885"/>
                  </a:moveTo>
                  <a:lnTo>
                    <a:pt x="4383" y="989"/>
                  </a:lnTo>
                  <a:lnTo>
                    <a:pt x="4412" y="5885"/>
                  </a:lnTo>
                  <a:close/>
                  <a:moveTo>
                    <a:pt x="4073" y="5885"/>
                  </a:moveTo>
                  <a:lnTo>
                    <a:pt x="4045" y="1154"/>
                  </a:lnTo>
                  <a:lnTo>
                    <a:pt x="4073" y="5885"/>
                  </a:lnTo>
                  <a:close/>
                  <a:moveTo>
                    <a:pt x="3735" y="5885"/>
                  </a:moveTo>
                  <a:lnTo>
                    <a:pt x="3707" y="1320"/>
                  </a:lnTo>
                  <a:lnTo>
                    <a:pt x="3735" y="5885"/>
                  </a:lnTo>
                  <a:close/>
                  <a:moveTo>
                    <a:pt x="3398" y="5885"/>
                  </a:moveTo>
                  <a:lnTo>
                    <a:pt x="3372" y="1482"/>
                  </a:lnTo>
                  <a:lnTo>
                    <a:pt x="3398" y="5885"/>
                  </a:lnTo>
                  <a:close/>
                  <a:moveTo>
                    <a:pt x="3059" y="5885"/>
                  </a:moveTo>
                  <a:lnTo>
                    <a:pt x="3033" y="1646"/>
                  </a:lnTo>
                  <a:lnTo>
                    <a:pt x="3059" y="5885"/>
                  </a:lnTo>
                  <a:close/>
                  <a:moveTo>
                    <a:pt x="2720" y="5885"/>
                  </a:moveTo>
                  <a:lnTo>
                    <a:pt x="2697" y="1810"/>
                  </a:lnTo>
                  <a:lnTo>
                    <a:pt x="2720" y="5885"/>
                  </a:lnTo>
                  <a:close/>
                  <a:moveTo>
                    <a:pt x="2382" y="5885"/>
                  </a:moveTo>
                  <a:lnTo>
                    <a:pt x="2359" y="1976"/>
                  </a:lnTo>
                  <a:lnTo>
                    <a:pt x="2382" y="5885"/>
                  </a:lnTo>
                  <a:close/>
                  <a:moveTo>
                    <a:pt x="2045" y="5885"/>
                  </a:moveTo>
                  <a:lnTo>
                    <a:pt x="2021" y="2140"/>
                  </a:lnTo>
                  <a:lnTo>
                    <a:pt x="2045" y="5885"/>
                  </a:lnTo>
                  <a:close/>
                  <a:moveTo>
                    <a:pt x="1707" y="5885"/>
                  </a:moveTo>
                  <a:lnTo>
                    <a:pt x="1685" y="2304"/>
                  </a:lnTo>
                  <a:lnTo>
                    <a:pt x="1707" y="5885"/>
                  </a:lnTo>
                  <a:close/>
                  <a:moveTo>
                    <a:pt x="1367" y="5885"/>
                  </a:moveTo>
                  <a:lnTo>
                    <a:pt x="1348" y="2470"/>
                  </a:lnTo>
                  <a:lnTo>
                    <a:pt x="1367" y="5885"/>
                  </a:lnTo>
                  <a:close/>
                  <a:moveTo>
                    <a:pt x="1029" y="5885"/>
                  </a:moveTo>
                  <a:lnTo>
                    <a:pt x="1009" y="2634"/>
                  </a:lnTo>
                  <a:lnTo>
                    <a:pt x="1029" y="5885"/>
                  </a:lnTo>
                  <a:close/>
                  <a:moveTo>
                    <a:pt x="691" y="5885"/>
                  </a:moveTo>
                  <a:lnTo>
                    <a:pt x="674" y="2798"/>
                  </a:lnTo>
                  <a:lnTo>
                    <a:pt x="691" y="5885"/>
                  </a:lnTo>
                  <a:close/>
                  <a:moveTo>
                    <a:pt x="354" y="5885"/>
                  </a:moveTo>
                  <a:lnTo>
                    <a:pt x="335" y="2965"/>
                  </a:lnTo>
                  <a:lnTo>
                    <a:pt x="354" y="5885"/>
                  </a:lnTo>
                  <a:close/>
                  <a:moveTo>
                    <a:pt x="16" y="5885"/>
                  </a:moveTo>
                  <a:lnTo>
                    <a:pt x="0" y="3129"/>
                  </a:lnTo>
                  <a:lnTo>
                    <a:pt x="16" y="5885"/>
                  </a:lnTo>
                  <a:close/>
                </a:path>
              </a:pathLst>
            </a:custGeom>
            <a:solidFill>
              <a:srgbClr val="718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0" y="0"/>
                  </a:move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097600" y="2935080"/>
              <a:ext cx="20520" cy="1868040"/>
            </a:xfrm>
            <a:custGeom>
              <a:avLst/>
              <a:gdLst/>
              <a:ahLst/>
              <a:rect l="l" t="t" r="r" b="b"/>
              <a:pathLst>
                <a:path w="65" h="5885">
                  <a:moveTo>
                    <a:pt x="65" y="5885"/>
                  </a:moveTo>
                  <a:lnTo>
                    <a:pt x="65" y="588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5" y="5885"/>
                  </a:lnTo>
                  <a:lnTo>
                    <a:pt x="65" y="5885"/>
                  </a:lnTo>
                  <a:lnTo>
                    <a:pt x="35" y="5885"/>
                  </a:lnTo>
                  <a:lnTo>
                    <a:pt x="50" y="5885"/>
                  </a:lnTo>
                  <a:lnTo>
                    <a:pt x="65" y="58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0" y="0"/>
                  </a:move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989600" y="2985840"/>
              <a:ext cx="20520" cy="1817280"/>
            </a:xfrm>
            <a:custGeom>
              <a:avLst/>
              <a:gdLst/>
              <a:ahLst/>
              <a:rect l="l" t="t" r="r" b="b"/>
              <a:pathLst>
                <a:path w="62" h="5722">
                  <a:moveTo>
                    <a:pt x="62" y="5722"/>
                  </a:moveTo>
                  <a:lnTo>
                    <a:pt x="62" y="57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33" y="5722"/>
                  </a:lnTo>
                  <a:lnTo>
                    <a:pt x="62" y="5722"/>
                  </a:lnTo>
                  <a:lnTo>
                    <a:pt x="33" y="5722"/>
                  </a:lnTo>
                  <a:lnTo>
                    <a:pt x="48" y="5722"/>
                  </a:lnTo>
                  <a:lnTo>
                    <a:pt x="62" y="57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0" y="0"/>
                  </a:move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83040" y="3039840"/>
              <a:ext cx="19080" cy="1763280"/>
            </a:xfrm>
            <a:custGeom>
              <a:avLst/>
              <a:gdLst/>
              <a:ahLst/>
              <a:rect l="l" t="t" r="r" b="b"/>
              <a:pathLst>
                <a:path w="63" h="5556">
                  <a:moveTo>
                    <a:pt x="63" y="5556"/>
                  </a:moveTo>
                  <a:lnTo>
                    <a:pt x="63" y="55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4" y="5556"/>
                  </a:lnTo>
                  <a:lnTo>
                    <a:pt x="63" y="5556"/>
                  </a:lnTo>
                  <a:lnTo>
                    <a:pt x="34" y="5556"/>
                  </a:lnTo>
                  <a:lnTo>
                    <a:pt x="48" y="5556"/>
                  </a:lnTo>
                  <a:lnTo>
                    <a:pt x="63" y="5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0" y="0"/>
                  </a:move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776840" y="3090600"/>
              <a:ext cx="19080" cy="1712520"/>
            </a:xfrm>
            <a:custGeom>
              <a:avLst/>
              <a:gdLst/>
              <a:ahLst/>
              <a:rect l="l" t="t" r="r" b="b"/>
              <a:pathLst>
                <a:path w="60" h="5392">
                  <a:moveTo>
                    <a:pt x="60" y="5392"/>
                  </a:moveTo>
                  <a:lnTo>
                    <a:pt x="60" y="539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5392"/>
                  </a:lnTo>
                  <a:lnTo>
                    <a:pt x="60" y="5392"/>
                  </a:lnTo>
                  <a:lnTo>
                    <a:pt x="29" y="5392"/>
                  </a:lnTo>
                  <a:lnTo>
                    <a:pt x="44" y="5392"/>
                  </a:lnTo>
                  <a:lnTo>
                    <a:pt x="60" y="53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0" y="0"/>
                  </a:move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668840" y="3143160"/>
              <a:ext cx="19080" cy="1659960"/>
            </a:xfrm>
            <a:custGeom>
              <a:avLst/>
              <a:gdLst/>
              <a:ahLst/>
              <a:rect l="l" t="t" r="r" b="b"/>
              <a:pathLst>
                <a:path w="59" h="5227">
                  <a:moveTo>
                    <a:pt x="59" y="5227"/>
                  </a:moveTo>
                  <a:lnTo>
                    <a:pt x="59" y="5227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5227"/>
                  </a:lnTo>
                  <a:lnTo>
                    <a:pt x="59" y="5227"/>
                  </a:lnTo>
                  <a:lnTo>
                    <a:pt x="30" y="5227"/>
                  </a:lnTo>
                  <a:lnTo>
                    <a:pt x="45" y="5227"/>
                  </a:lnTo>
                  <a:lnTo>
                    <a:pt x="59" y="52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0" y="0"/>
                  </a:move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560840" y="3197160"/>
              <a:ext cx="19080" cy="1605960"/>
            </a:xfrm>
            <a:custGeom>
              <a:avLst/>
              <a:gdLst/>
              <a:ahLst/>
              <a:rect l="l" t="t" r="r" b="b"/>
              <a:pathLst>
                <a:path w="60" h="5060">
                  <a:moveTo>
                    <a:pt x="60" y="5060"/>
                  </a:moveTo>
                  <a:lnTo>
                    <a:pt x="60" y="506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5060"/>
                  </a:lnTo>
                  <a:lnTo>
                    <a:pt x="60" y="5060"/>
                  </a:lnTo>
                  <a:lnTo>
                    <a:pt x="31" y="5060"/>
                  </a:lnTo>
                  <a:lnTo>
                    <a:pt x="46" y="5060"/>
                  </a:lnTo>
                  <a:lnTo>
                    <a:pt x="60" y="50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0" y="0"/>
                  </a:move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454640" y="3249360"/>
              <a:ext cx="19080" cy="1553760"/>
            </a:xfrm>
            <a:custGeom>
              <a:avLst/>
              <a:gdLst/>
              <a:ahLst/>
              <a:rect l="l" t="t" r="r" b="b"/>
              <a:pathLst>
                <a:path w="57" h="4896">
                  <a:moveTo>
                    <a:pt x="57" y="4896"/>
                  </a:moveTo>
                  <a:lnTo>
                    <a:pt x="57" y="4896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8" y="4896"/>
                  </a:lnTo>
                  <a:lnTo>
                    <a:pt x="57" y="4896"/>
                  </a:lnTo>
                  <a:lnTo>
                    <a:pt x="28" y="4896"/>
                  </a:lnTo>
                  <a:lnTo>
                    <a:pt x="43" y="4896"/>
                  </a:lnTo>
                  <a:lnTo>
                    <a:pt x="57" y="48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0" y="0"/>
                  </a:move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346640" y="3301920"/>
              <a:ext cx="19080" cy="1501200"/>
            </a:xfrm>
            <a:custGeom>
              <a:avLst/>
              <a:gdLst/>
              <a:ahLst/>
              <a:rect l="l" t="t" r="r" b="b"/>
              <a:pathLst>
                <a:path w="59" h="4731">
                  <a:moveTo>
                    <a:pt x="59" y="4731"/>
                  </a:moveTo>
                  <a:lnTo>
                    <a:pt x="59" y="4731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0" y="4731"/>
                  </a:lnTo>
                  <a:lnTo>
                    <a:pt x="59" y="4731"/>
                  </a:lnTo>
                  <a:lnTo>
                    <a:pt x="30" y="4731"/>
                  </a:lnTo>
                  <a:lnTo>
                    <a:pt x="44" y="4731"/>
                  </a:lnTo>
                  <a:lnTo>
                    <a:pt x="59" y="47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0" y="0"/>
                  </a:move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240080" y="3354120"/>
              <a:ext cx="19080" cy="1449000"/>
            </a:xfrm>
            <a:custGeom>
              <a:avLst/>
              <a:gdLst/>
              <a:ahLst/>
              <a:rect l="l" t="t" r="r" b="b"/>
              <a:pathLst>
                <a:path w="58" h="4565">
                  <a:moveTo>
                    <a:pt x="58" y="4565"/>
                  </a:moveTo>
                  <a:lnTo>
                    <a:pt x="58" y="456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7" y="4565"/>
                  </a:lnTo>
                  <a:lnTo>
                    <a:pt x="58" y="4565"/>
                  </a:lnTo>
                  <a:lnTo>
                    <a:pt x="27" y="4565"/>
                  </a:lnTo>
                  <a:lnTo>
                    <a:pt x="43" y="4565"/>
                  </a:lnTo>
                  <a:lnTo>
                    <a:pt x="58" y="456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0" y="0"/>
                  </a:move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133880" y="3404880"/>
              <a:ext cx="17280" cy="1398240"/>
            </a:xfrm>
            <a:custGeom>
              <a:avLst/>
              <a:gdLst/>
              <a:ahLst/>
              <a:rect l="l" t="t" r="r" b="b"/>
              <a:pathLst>
                <a:path w="57" h="4403">
                  <a:moveTo>
                    <a:pt x="57" y="4403"/>
                  </a:moveTo>
                  <a:lnTo>
                    <a:pt x="57" y="440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403"/>
                  </a:lnTo>
                  <a:lnTo>
                    <a:pt x="57" y="4403"/>
                  </a:lnTo>
                  <a:lnTo>
                    <a:pt x="26" y="4403"/>
                  </a:lnTo>
                  <a:lnTo>
                    <a:pt x="42" y="4403"/>
                  </a:lnTo>
                  <a:lnTo>
                    <a:pt x="57" y="44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0" y="0"/>
                  </a:move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025880" y="3457440"/>
              <a:ext cx="17640" cy="1345680"/>
            </a:xfrm>
            <a:custGeom>
              <a:avLst/>
              <a:gdLst/>
              <a:ahLst/>
              <a:rect l="l" t="t" r="r" b="b"/>
              <a:pathLst>
                <a:path w="55" h="4239">
                  <a:moveTo>
                    <a:pt x="55" y="4239"/>
                  </a:moveTo>
                  <a:lnTo>
                    <a:pt x="55" y="423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6" y="4239"/>
                  </a:lnTo>
                  <a:lnTo>
                    <a:pt x="55" y="4239"/>
                  </a:lnTo>
                  <a:lnTo>
                    <a:pt x="26" y="4239"/>
                  </a:lnTo>
                  <a:lnTo>
                    <a:pt x="41" y="4239"/>
                  </a:lnTo>
                  <a:lnTo>
                    <a:pt x="55" y="42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0" y="0"/>
                  </a:move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919680" y="3509640"/>
              <a:ext cx="17280" cy="1293480"/>
            </a:xfrm>
            <a:custGeom>
              <a:avLst/>
              <a:gdLst/>
              <a:ahLst/>
              <a:rect l="l" t="t" r="r" b="b"/>
              <a:pathLst>
                <a:path w="53" h="4075">
                  <a:moveTo>
                    <a:pt x="53" y="4075"/>
                  </a:moveTo>
                  <a:lnTo>
                    <a:pt x="53" y="407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4" y="4075"/>
                  </a:lnTo>
                  <a:lnTo>
                    <a:pt x="53" y="4075"/>
                  </a:lnTo>
                  <a:lnTo>
                    <a:pt x="24" y="4075"/>
                  </a:lnTo>
                  <a:lnTo>
                    <a:pt x="38" y="4075"/>
                  </a:lnTo>
                  <a:lnTo>
                    <a:pt x="53" y="40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0" y="0"/>
                  </a:move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11680" y="3562200"/>
              <a:ext cx="17280" cy="1240920"/>
            </a:xfrm>
            <a:custGeom>
              <a:avLst/>
              <a:gdLst/>
              <a:ahLst/>
              <a:rect l="l" t="t" r="r" b="b"/>
              <a:pathLst>
                <a:path w="53" h="3909">
                  <a:moveTo>
                    <a:pt x="53" y="3909"/>
                  </a:moveTo>
                  <a:lnTo>
                    <a:pt x="53" y="390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23" y="3909"/>
                  </a:lnTo>
                  <a:lnTo>
                    <a:pt x="53" y="3909"/>
                  </a:lnTo>
                  <a:lnTo>
                    <a:pt x="23" y="3909"/>
                  </a:lnTo>
                  <a:lnTo>
                    <a:pt x="38" y="3909"/>
                  </a:lnTo>
                  <a:lnTo>
                    <a:pt x="53" y="39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0" y="0"/>
                  </a:move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705120" y="3614400"/>
              <a:ext cx="17640" cy="1188720"/>
            </a:xfrm>
            <a:custGeom>
              <a:avLst/>
              <a:gdLst/>
              <a:ahLst/>
              <a:rect l="l" t="t" r="r" b="b"/>
              <a:pathLst>
                <a:path w="54" h="3745">
                  <a:moveTo>
                    <a:pt x="54" y="3745"/>
                  </a:moveTo>
                  <a:lnTo>
                    <a:pt x="54" y="374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4" y="3745"/>
                  </a:lnTo>
                  <a:lnTo>
                    <a:pt x="54" y="3745"/>
                  </a:lnTo>
                  <a:lnTo>
                    <a:pt x="24" y="3745"/>
                  </a:lnTo>
                  <a:lnTo>
                    <a:pt x="39" y="3745"/>
                  </a:lnTo>
                  <a:lnTo>
                    <a:pt x="54" y="37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0" y="0"/>
                  </a:move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598920" y="3666960"/>
              <a:ext cx="15840" cy="1136160"/>
            </a:xfrm>
            <a:custGeom>
              <a:avLst/>
              <a:gdLst/>
              <a:ahLst/>
              <a:rect l="l" t="t" r="r" b="b"/>
              <a:pathLst>
                <a:path w="52" h="3581">
                  <a:moveTo>
                    <a:pt x="52" y="3581"/>
                  </a:moveTo>
                  <a:lnTo>
                    <a:pt x="52" y="358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1" y="3581"/>
                  </a:lnTo>
                  <a:lnTo>
                    <a:pt x="52" y="3581"/>
                  </a:lnTo>
                  <a:lnTo>
                    <a:pt x="21" y="3581"/>
                  </a:lnTo>
                  <a:lnTo>
                    <a:pt x="37" y="3581"/>
                  </a:lnTo>
                  <a:lnTo>
                    <a:pt x="52" y="35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0" y="0"/>
                  </a:move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490920" y="3719160"/>
              <a:ext cx="15840" cy="1083960"/>
            </a:xfrm>
            <a:custGeom>
              <a:avLst/>
              <a:gdLst/>
              <a:ahLst/>
              <a:rect l="l" t="t" r="r" b="b"/>
              <a:pathLst>
                <a:path w="49" h="3415">
                  <a:moveTo>
                    <a:pt x="49" y="3415"/>
                  </a:moveTo>
                  <a:lnTo>
                    <a:pt x="49" y="3415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0" y="3415"/>
                  </a:lnTo>
                  <a:lnTo>
                    <a:pt x="49" y="3415"/>
                  </a:lnTo>
                  <a:lnTo>
                    <a:pt x="20" y="3415"/>
                  </a:lnTo>
                  <a:lnTo>
                    <a:pt x="34" y="3415"/>
                  </a:lnTo>
                  <a:lnTo>
                    <a:pt x="49" y="34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0" y="2"/>
                  </a:move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29" y="0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84720" y="3771720"/>
              <a:ext cx="14040" cy="1031400"/>
            </a:xfrm>
            <a:custGeom>
              <a:avLst/>
              <a:gdLst/>
              <a:ahLst/>
              <a:rect l="l" t="t" r="r" b="b"/>
              <a:pathLst>
                <a:path w="49" h="3251">
                  <a:moveTo>
                    <a:pt x="49" y="3251"/>
                  </a:moveTo>
                  <a:lnTo>
                    <a:pt x="49" y="3251"/>
                  </a:lnTo>
                  <a:lnTo>
                    <a:pt x="29" y="0"/>
                  </a:lnTo>
                  <a:lnTo>
                    <a:pt x="0" y="2"/>
                  </a:lnTo>
                  <a:lnTo>
                    <a:pt x="19" y="3251"/>
                  </a:lnTo>
                  <a:lnTo>
                    <a:pt x="49" y="3251"/>
                  </a:lnTo>
                  <a:lnTo>
                    <a:pt x="19" y="3251"/>
                  </a:lnTo>
                  <a:lnTo>
                    <a:pt x="34" y="3251"/>
                  </a:lnTo>
                  <a:lnTo>
                    <a:pt x="49" y="325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0" y="0"/>
                  </a:move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276720" y="3822480"/>
              <a:ext cx="15840" cy="980640"/>
            </a:xfrm>
            <a:custGeom>
              <a:avLst/>
              <a:gdLst/>
              <a:ahLst/>
              <a:rect l="l" t="t" r="r" b="b"/>
              <a:pathLst>
                <a:path w="47" h="3087">
                  <a:moveTo>
                    <a:pt x="47" y="3087"/>
                  </a:moveTo>
                  <a:lnTo>
                    <a:pt x="47" y="308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7" y="3087"/>
                  </a:lnTo>
                  <a:lnTo>
                    <a:pt x="47" y="3087"/>
                  </a:lnTo>
                  <a:lnTo>
                    <a:pt x="17" y="3087"/>
                  </a:lnTo>
                  <a:lnTo>
                    <a:pt x="32" y="3087"/>
                  </a:lnTo>
                  <a:lnTo>
                    <a:pt x="47" y="30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0" y="0"/>
                  </a:move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31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68720" y="3876480"/>
              <a:ext cx="15840" cy="926640"/>
            </a:xfrm>
            <a:custGeom>
              <a:avLst/>
              <a:gdLst/>
              <a:ahLst/>
              <a:rect l="l" t="t" r="r" b="b"/>
              <a:pathLst>
                <a:path w="50" h="2920">
                  <a:moveTo>
                    <a:pt x="50" y="2920"/>
                  </a:moveTo>
                  <a:lnTo>
                    <a:pt x="50" y="292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20" y="2920"/>
                  </a:lnTo>
                  <a:lnTo>
                    <a:pt x="50" y="2920"/>
                  </a:lnTo>
                  <a:lnTo>
                    <a:pt x="20" y="2920"/>
                  </a:lnTo>
                  <a:lnTo>
                    <a:pt x="35" y="2920"/>
                  </a:lnTo>
                  <a:lnTo>
                    <a:pt x="50" y="29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0" y="0"/>
                  </a:move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062160" y="3928680"/>
              <a:ext cx="15840" cy="874440"/>
            </a:xfrm>
            <a:custGeom>
              <a:avLst/>
              <a:gdLst/>
              <a:ahLst/>
              <a:rect l="l" t="t" r="r" b="b"/>
              <a:pathLst>
                <a:path w="46" h="2756">
                  <a:moveTo>
                    <a:pt x="46" y="2756"/>
                  </a:moveTo>
                  <a:lnTo>
                    <a:pt x="46" y="2756"/>
                  </a:lnTo>
                  <a:lnTo>
                    <a:pt x="30" y="0"/>
                  </a:lnTo>
                  <a:lnTo>
                    <a:pt x="0" y="0"/>
                  </a:lnTo>
                  <a:lnTo>
                    <a:pt x="16" y="2756"/>
                  </a:lnTo>
                  <a:lnTo>
                    <a:pt x="46" y="2756"/>
                  </a:lnTo>
                  <a:lnTo>
                    <a:pt x="16" y="2756"/>
                  </a:lnTo>
                  <a:lnTo>
                    <a:pt x="32" y="2756"/>
                  </a:lnTo>
                  <a:lnTo>
                    <a:pt x="46" y="27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065560" y="1682640"/>
              <a:ext cx="1125720" cy="3120480"/>
            </a:xfrm>
            <a:prstGeom prst="rect">
              <a:avLst/>
            </a:pr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186600" y="1682640"/>
              <a:ext cx="9360" cy="3125160"/>
            </a:xfrm>
            <a:custGeom>
              <a:avLst/>
              <a:gdLst/>
              <a:ahLst/>
              <a:rect l="l" t="t" r="r" b="b"/>
              <a:pathLst>
                <a:path w="31" h="9846">
                  <a:moveTo>
                    <a:pt x="16" y="9846"/>
                  </a:moveTo>
                  <a:lnTo>
                    <a:pt x="31" y="9830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9830"/>
                  </a:lnTo>
                  <a:lnTo>
                    <a:pt x="16" y="9846"/>
                  </a:lnTo>
                  <a:lnTo>
                    <a:pt x="16" y="9846"/>
                  </a:lnTo>
                  <a:lnTo>
                    <a:pt x="31" y="9846"/>
                  </a:lnTo>
                  <a:lnTo>
                    <a:pt x="31" y="9830"/>
                  </a:lnTo>
                  <a:lnTo>
                    <a:pt x="16" y="98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060880" y="4798800"/>
              <a:ext cx="1130400" cy="9000"/>
            </a:xfrm>
            <a:custGeom>
              <a:avLst/>
              <a:gdLst/>
              <a:ahLst/>
              <a:rect l="l" t="t" r="r" b="b"/>
              <a:pathLst>
                <a:path w="3558" h="30">
                  <a:moveTo>
                    <a:pt x="0" y="14"/>
                  </a:moveTo>
                  <a:lnTo>
                    <a:pt x="14" y="30"/>
                  </a:lnTo>
                  <a:lnTo>
                    <a:pt x="3558" y="30"/>
                  </a:lnTo>
                  <a:lnTo>
                    <a:pt x="3558" y="0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30"/>
                  </a:lnTo>
                  <a:lnTo>
                    <a:pt x="14" y="3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060880" y="1677600"/>
              <a:ext cx="9720" cy="3125520"/>
            </a:xfrm>
            <a:custGeom>
              <a:avLst/>
              <a:gdLst/>
              <a:ahLst/>
              <a:rect l="l" t="t" r="r" b="b"/>
              <a:pathLst>
                <a:path w="29" h="9845">
                  <a:moveTo>
                    <a:pt x="14" y="0"/>
                  </a:moveTo>
                  <a:lnTo>
                    <a:pt x="0" y="15"/>
                  </a:lnTo>
                  <a:lnTo>
                    <a:pt x="0" y="9845"/>
                  </a:lnTo>
                  <a:lnTo>
                    <a:pt x="29" y="9845"/>
                  </a:lnTo>
                  <a:lnTo>
                    <a:pt x="29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065560" y="1677600"/>
              <a:ext cx="1130400" cy="9360"/>
            </a:xfrm>
            <a:custGeom>
              <a:avLst/>
              <a:gdLst/>
              <a:ahLst/>
              <a:rect l="l" t="t" r="r" b="b"/>
              <a:pathLst>
                <a:path w="3559" h="30">
                  <a:moveTo>
                    <a:pt x="3559" y="15"/>
                  </a:moveTo>
                  <a:lnTo>
                    <a:pt x="3544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544" y="30"/>
                  </a:lnTo>
                  <a:lnTo>
                    <a:pt x="3559" y="15"/>
                  </a:lnTo>
                  <a:lnTo>
                    <a:pt x="3559" y="15"/>
                  </a:lnTo>
                  <a:lnTo>
                    <a:pt x="3559" y="0"/>
                  </a:lnTo>
                  <a:lnTo>
                    <a:pt x="3544" y="0"/>
                  </a:lnTo>
                  <a:lnTo>
                    <a:pt x="3559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591160" y="3182760"/>
              <a:ext cx="600120" cy="167760"/>
            </a:xfrm>
            <a:prstGeom prst="rect">
              <a:avLst/>
            </a:prstGeom>
            <a:solidFill>
              <a:srgbClr val="eec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186600" y="3179520"/>
              <a:ext cx="9360" cy="171000"/>
            </a:xfrm>
            <a:custGeom>
              <a:avLst/>
              <a:gdLst/>
              <a:ahLst/>
              <a:rect l="l" t="t" r="r" b="b"/>
              <a:pathLst>
                <a:path w="29" h="542">
                  <a:moveTo>
                    <a:pt x="14" y="0"/>
                  </a:moveTo>
                  <a:lnTo>
                    <a:pt x="0" y="14"/>
                  </a:lnTo>
                  <a:lnTo>
                    <a:pt x="0" y="542"/>
                  </a:lnTo>
                  <a:lnTo>
                    <a:pt x="29" y="542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586480" y="3179520"/>
              <a:ext cx="604800" cy="7560"/>
            </a:xfrm>
            <a:custGeom>
              <a:avLst/>
              <a:gdLst/>
              <a:ahLst/>
              <a:rect l="l" t="t" r="r" b="b"/>
              <a:pathLst>
                <a:path w="1903" h="29">
                  <a:moveTo>
                    <a:pt x="0" y="14"/>
                  </a:moveTo>
                  <a:lnTo>
                    <a:pt x="15" y="29"/>
                  </a:lnTo>
                  <a:lnTo>
                    <a:pt x="1903" y="29"/>
                  </a:lnTo>
                  <a:lnTo>
                    <a:pt x="1903" y="0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586480" y="3182760"/>
              <a:ext cx="9360" cy="172800"/>
            </a:xfrm>
            <a:custGeom>
              <a:avLst/>
              <a:gdLst/>
              <a:ahLst/>
              <a:rect l="l" t="t" r="r" b="b"/>
              <a:pathLst>
                <a:path w="30" h="543">
                  <a:moveTo>
                    <a:pt x="15" y="543"/>
                  </a:moveTo>
                  <a:lnTo>
                    <a:pt x="30" y="528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5" y="543"/>
                  </a:lnTo>
                  <a:lnTo>
                    <a:pt x="0" y="528"/>
                  </a:lnTo>
                  <a:lnTo>
                    <a:pt x="0" y="543"/>
                  </a:lnTo>
                  <a:lnTo>
                    <a:pt x="15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591160" y="3346200"/>
              <a:ext cx="604800" cy="9360"/>
            </a:xfrm>
            <a:custGeom>
              <a:avLst/>
              <a:gdLst/>
              <a:ahLst/>
              <a:rect l="l" t="t" r="r" b="b"/>
              <a:pathLst>
                <a:path w="1903" h="30">
                  <a:moveTo>
                    <a:pt x="1903" y="15"/>
                  </a:moveTo>
                  <a:lnTo>
                    <a:pt x="1888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888" y="30"/>
                  </a:lnTo>
                  <a:lnTo>
                    <a:pt x="1903" y="15"/>
                  </a:lnTo>
                  <a:lnTo>
                    <a:pt x="1888" y="30"/>
                  </a:lnTo>
                  <a:lnTo>
                    <a:pt x="1903" y="30"/>
                  </a:lnTo>
                  <a:lnTo>
                    <a:pt x="190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281560" y="1885680"/>
              <a:ext cx="909720" cy="948960"/>
            </a:xfrm>
            <a:prstGeom prst="rect">
              <a:avLst/>
            </a:pr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186600" y="1882440"/>
              <a:ext cx="9360" cy="952200"/>
            </a:xfrm>
            <a:custGeom>
              <a:avLst/>
              <a:gdLst/>
              <a:ahLst/>
              <a:rect l="l" t="t" r="r" b="b"/>
              <a:pathLst>
                <a:path w="29" h="3003">
                  <a:moveTo>
                    <a:pt x="14" y="0"/>
                  </a:moveTo>
                  <a:lnTo>
                    <a:pt x="0" y="14"/>
                  </a:lnTo>
                  <a:lnTo>
                    <a:pt x="0" y="3003"/>
                  </a:lnTo>
                  <a:lnTo>
                    <a:pt x="29" y="3003"/>
                  </a:lnTo>
                  <a:lnTo>
                    <a:pt x="29" y="14"/>
                  </a:lnTo>
                  <a:lnTo>
                    <a:pt x="14" y="0"/>
                  </a:lnTo>
                  <a:lnTo>
                    <a:pt x="29" y="14"/>
                  </a:lnTo>
                  <a:lnTo>
                    <a:pt x="2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76880" y="1882440"/>
              <a:ext cx="914400" cy="9360"/>
            </a:xfrm>
            <a:custGeom>
              <a:avLst/>
              <a:gdLst/>
              <a:ahLst/>
              <a:rect l="l" t="t" r="r" b="b"/>
              <a:pathLst>
                <a:path w="2882" h="30">
                  <a:moveTo>
                    <a:pt x="0" y="14"/>
                  </a:moveTo>
                  <a:lnTo>
                    <a:pt x="16" y="30"/>
                  </a:lnTo>
                  <a:lnTo>
                    <a:pt x="2882" y="30"/>
                  </a:lnTo>
                  <a:lnTo>
                    <a:pt x="2882" y="0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76880" y="1885680"/>
              <a:ext cx="9360" cy="953640"/>
            </a:xfrm>
            <a:custGeom>
              <a:avLst/>
              <a:gdLst/>
              <a:ahLst/>
              <a:rect l="l" t="t" r="r" b="b"/>
              <a:pathLst>
                <a:path w="31" h="3004">
                  <a:moveTo>
                    <a:pt x="16" y="3004"/>
                  </a:moveTo>
                  <a:lnTo>
                    <a:pt x="31" y="298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989"/>
                  </a:lnTo>
                  <a:lnTo>
                    <a:pt x="16" y="3004"/>
                  </a:lnTo>
                  <a:lnTo>
                    <a:pt x="0" y="2989"/>
                  </a:lnTo>
                  <a:lnTo>
                    <a:pt x="0" y="3004"/>
                  </a:lnTo>
                  <a:lnTo>
                    <a:pt x="16" y="30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81560" y="2830320"/>
              <a:ext cx="914400" cy="9000"/>
            </a:xfrm>
            <a:custGeom>
              <a:avLst/>
              <a:gdLst/>
              <a:ahLst/>
              <a:rect l="l" t="t" r="r" b="b"/>
              <a:pathLst>
                <a:path w="2881" h="29">
                  <a:moveTo>
                    <a:pt x="2881" y="14"/>
                  </a:moveTo>
                  <a:lnTo>
                    <a:pt x="2866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866" y="29"/>
                  </a:lnTo>
                  <a:lnTo>
                    <a:pt x="2881" y="14"/>
                  </a:lnTo>
                  <a:lnTo>
                    <a:pt x="2866" y="29"/>
                  </a:lnTo>
                  <a:lnTo>
                    <a:pt x="2881" y="29"/>
                  </a:lnTo>
                  <a:lnTo>
                    <a:pt x="2881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770440" y="1989000"/>
              <a:ext cx="260640" cy="361440"/>
            </a:xfrm>
            <a:custGeom>
              <a:avLst/>
              <a:gdLst/>
              <a:ahLst/>
              <a:rect l="l" t="t" r="r" b="b"/>
              <a:pathLst>
                <a:path w="818" h="1138">
                  <a:moveTo>
                    <a:pt x="818" y="1121"/>
                  </a:moveTo>
                  <a:lnTo>
                    <a:pt x="780" y="1064"/>
                  </a:lnTo>
                  <a:lnTo>
                    <a:pt x="734" y="996"/>
                  </a:lnTo>
                  <a:lnTo>
                    <a:pt x="680" y="918"/>
                  </a:lnTo>
                  <a:lnTo>
                    <a:pt x="621" y="833"/>
                  </a:lnTo>
                  <a:lnTo>
                    <a:pt x="491" y="648"/>
                  </a:lnTo>
                  <a:lnTo>
                    <a:pt x="355" y="460"/>
                  </a:lnTo>
                  <a:lnTo>
                    <a:pt x="230" y="284"/>
                  </a:lnTo>
                  <a:lnTo>
                    <a:pt x="124" y="138"/>
                  </a:lnTo>
                  <a:lnTo>
                    <a:pt x="51" y="37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27" y="54"/>
                  </a:lnTo>
                  <a:lnTo>
                    <a:pt x="99" y="155"/>
                  </a:lnTo>
                  <a:lnTo>
                    <a:pt x="205" y="302"/>
                  </a:lnTo>
                  <a:lnTo>
                    <a:pt x="331" y="477"/>
                  </a:lnTo>
                  <a:lnTo>
                    <a:pt x="466" y="666"/>
                  </a:lnTo>
                  <a:lnTo>
                    <a:pt x="596" y="850"/>
                  </a:lnTo>
                  <a:lnTo>
                    <a:pt x="655" y="935"/>
                  </a:lnTo>
                  <a:lnTo>
                    <a:pt x="709" y="1012"/>
                  </a:lnTo>
                  <a:lnTo>
                    <a:pt x="755" y="1081"/>
                  </a:lnTo>
                  <a:lnTo>
                    <a:pt x="793" y="1138"/>
                  </a:lnTo>
                  <a:lnTo>
                    <a:pt x="818" y="1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500800" y="2157120"/>
              <a:ext cx="398520" cy="529920"/>
            </a:xfrm>
            <a:custGeom>
              <a:avLst/>
              <a:gdLst/>
              <a:ahLst/>
              <a:rect l="l" t="t" r="r" b="b"/>
              <a:pathLst>
                <a:path w="1255" h="1670">
                  <a:moveTo>
                    <a:pt x="1255" y="1649"/>
                  </a:moveTo>
                  <a:lnTo>
                    <a:pt x="1237" y="1630"/>
                  </a:lnTo>
                  <a:lnTo>
                    <a:pt x="1212" y="1603"/>
                  </a:lnTo>
                  <a:lnTo>
                    <a:pt x="1184" y="1570"/>
                  </a:lnTo>
                  <a:lnTo>
                    <a:pt x="1152" y="1529"/>
                  </a:lnTo>
                  <a:lnTo>
                    <a:pt x="1077" y="1433"/>
                  </a:lnTo>
                  <a:lnTo>
                    <a:pt x="989" y="1319"/>
                  </a:lnTo>
                  <a:lnTo>
                    <a:pt x="891" y="1191"/>
                  </a:lnTo>
                  <a:lnTo>
                    <a:pt x="788" y="1052"/>
                  </a:lnTo>
                  <a:lnTo>
                    <a:pt x="681" y="907"/>
                  </a:lnTo>
                  <a:lnTo>
                    <a:pt x="574" y="760"/>
                  </a:lnTo>
                  <a:lnTo>
                    <a:pt x="367" y="476"/>
                  </a:lnTo>
                  <a:lnTo>
                    <a:pt x="191" y="234"/>
                  </a:lnTo>
                  <a:lnTo>
                    <a:pt x="70" y="64"/>
                  </a:lnTo>
                  <a:lnTo>
                    <a:pt x="24" y="0"/>
                  </a:lnTo>
                  <a:lnTo>
                    <a:pt x="0" y="17"/>
                  </a:lnTo>
                  <a:lnTo>
                    <a:pt x="46" y="81"/>
                  </a:lnTo>
                  <a:lnTo>
                    <a:pt x="168" y="251"/>
                  </a:lnTo>
                  <a:lnTo>
                    <a:pt x="343" y="493"/>
                  </a:lnTo>
                  <a:lnTo>
                    <a:pt x="549" y="777"/>
                  </a:lnTo>
                  <a:lnTo>
                    <a:pt x="658" y="924"/>
                  </a:lnTo>
                  <a:lnTo>
                    <a:pt x="765" y="1069"/>
                  </a:lnTo>
                  <a:lnTo>
                    <a:pt x="868" y="1208"/>
                  </a:lnTo>
                  <a:lnTo>
                    <a:pt x="965" y="1337"/>
                  </a:lnTo>
                  <a:lnTo>
                    <a:pt x="1052" y="1451"/>
                  </a:lnTo>
                  <a:lnTo>
                    <a:pt x="1129" y="1549"/>
                  </a:lnTo>
                  <a:lnTo>
                    <a:pt x="1162" y="1588"/>
                  </a:lnTo>
                  <a:lnTo>
                    <a:pt x="1190" y="1622"/>
                  </a:lnTo>
                  <a:lnTo>
                    <a:pt x="1214" y="1649"/>
                  </a:lnTo>
                  <a:lnTo>
                    <a:pt x="1235" y="1670"/>
                  </a:lnTo>
                  <a:lnTo>
                    <a:pt x="1255" y="16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645160" y="3260520"/>
              <a:ext cx="474480" cy="9000"/>
            </a:xfrm>
            <a:custGeom>
              <a:avLst/>
              <a:gdLst/>
              <a:ahLst/>
              <a:rect l="l" t="t" r="r" b="b"/>
              <a:pathLst>
                <a:path w="1497" h="29">
                  <a:moveTo>
                    <a:pt x="1497" y="0"/>
                  </a:moveTo>
                  <a:lnTo>
                    <a:pt x="1348" y="0"/>
                  </a:lnTo>
                  <a:lnTo>
                    <a:pt x="1138" y="0"/>
                  </a:lnTo>
                  <a:lnTo>
                    <a:pt x="893" y="0"/>
                  </a:lnTo>
                  <a:lnTo>
                    <a:pt x="637" y="0"/>
                  </a:lnTo>
                  <a:lnTo>
                    <a:pt x="396" y="0"/>
                  </a:lnTo>
                  <a:lnTo>
                    <a:pt x="193" y="0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3" y="29"/>
                  </a:lnTo>
                  <a:lnTo>
                    <a:pt x="193" y="29"/>
                  </a:lnTo>
                  <a:lnTo>
                    <a:pt x="396" y="29"/>
                  </a:lnTo>
                  <a:lnTo>
                    <a:pt x="637" y="29"/>
                  </a:lnTo>
                  <a:lnTo>
                    <a:pt x="893" y="29"/>
                  </a:lnTo>
                  <a:lnTo>
                    <a:pt x="1138" y="29"/>
                  </a:lnTo>
                  <a:lnTo>
                    <a:pt x="1348" y="29"/>
                  </a:lnTo>
                  <a:lnTo>
                    <a:pt x="1497" y="29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815080" y="2927160"/>
              <a:ext cx="206280" cy="169560"/>
            </a:xfrm>
            <a:custGeom>
              <a:avLst/>
              <a:gdLst/>
              <a:ahLst/>
              <a:rect l="l" t="t" r="r" b="b"/>
              <a:pathLst>
                <a:path w="653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  <a:close/>
                  <a:moveTo>
                    <a:pt x="594" y="92"/>
                  </a:moveTo>
                  <a:lnTo>
                    <a:pt x="594" y="86"/>
                  </a:lnTo>
                  <a:lnTo>
                    <a:pt x="593" y="81"/>
                  </a:lnTo>
                  <a:lnTo>
                    <a:pt x="593" y="76"/>
                  </a:lnTo>
                  <a:lnTo>
                    <a:pt x="591" y="73"/>
                  </a:lnTo>
                  <a:lnTo>
                    <a:pt x="589" y="68"/>
                  </a:lnTo>
                  <a:lnTo>
                    <a:pt x="588" y="64"/>
                  </a:lnTo>
                  <a:lnTo>
                    <a:pt x="586" y="61"/>
                  </a:lnTo>
                  <a:lnTo>
                    <a:pt x="585" y="59"/>
                  </a:lnTo>
                  <a:lnTo>
                    <a:pt x="582" y="57"/>
                  </a:lnTo>
                  <a:lnTo>
                    <a:pt x="580" y="54"/>
                  </a:lnTo>
                  <a:lnTo>
                    <a:pt x="577" y="52"/>
                  </a:lnTo>
                  <a:lnTo>
                    <a:pt x="575" y="49"/>
                  </a:lnTo>
                  <a:lnTo>
                    <a:pt x="572" y="48"/>
                  </a:lnTo>
                  <a:lnTo>
                    <a:pt x="569" y="47"/>
                  </a:lnTo>
                  <a:lnTo>
                    <a:pt x="565" y="47"/>
                  </a:lnTo>
                  <a:lnTo>
                    <a:pt x="561" y="45"/>
                  </a:lnTo>
                  <a:lnTo>
                    <a:pt x="441" y="45"/>
                  </a:lnTo>
                  <a:lnTo>
                    <a:pt x="437" y="47"/>
                  </a:lnTo>
                  <a:lnTo>
                    <a:pt x="434" y="47"/>
                  </a:lnTo>
                  <a:lnTo>
                    <a:pt x="431" y="48"/>
                  </a:lnTo>
                  <a:lnTo>
                    <a:pt x="428" y="49"/>
                  </a:lnTo>
                  <a:lnTo>
                    <a:pt x="426" y="50"/>
                  </a:lnTo>
                  <a:lnTo>
                    <a:pt x="423" y="52"/>
                  </a:lnTo>
                  <a:lnTo>
                    <a:pt x="423" y="53"/>
                  </a:lnTo>
                  <a:lnTo>
                    <a:pt x="422" y="54"/>
                  </a:lnTo>
                  <a:lnTo>
                    <a:pt x="421" y="59"/>
                  </a:lnTo>
                  <a:lnTo>
                    <a:pt x="419" y="63"/>
                  </a:lnTo>
                  <a:lnTo>
                    <a:pt x="417" y="66"/>
                  </a:lnTo>
                  <a:lnTo>
                    <a:pt x="416" y="71"/>
                  </a:lnTo>
                  <a:lnTo>
                    <a:pt x="415" y="76"/>
                  </a:lnTo>
                  <a:lnTo>
                    <a:pt x="414" y="81"/>
                  </a:lnTo>
                  <a:lnTo>
                    <a:pt x="412" y="86"/>
                  </a:lnTo>
                  <a:lnTo>
                    <a:pt x="412" y="92"/>
                  </a:lnTo>
                  <a:lnTo>
                    <a:pt x="412" y="172"/>
                  </a:lnTo>
                  <a:lnTo>
                    <a:pt x="351" y="172"/>
                  </a:lnTo>
                  <a:lnTo>
                    <a:pt x="351" y="97"/>
                  </a:lnTo>
                  <a:lnTo>
                    <a:pt x="351" y="87"/>
                  </a:lnTo>
                  <a:lnTo>
                    <a:pt x="352" y="77"/>
                  </a:lnTo>
                  <a:lnTo>
                    <a:pt x="355" y="68"/>
                  </a:lnTo>
                  <a:lnTo>
                    <a:pt x="358" y="59"/>
                  </a:lnTo>
                  <a:lnTo>
                    <a:pt x="362" y="50"/>
                  </a:lnTo>
                  <a:lnTo>
                    <a:pt x="366" y="42"/>
                  </a:lnTo>
                  <a:lnTo>
                    <a:pt x="371" y="33"/>
                  </a:lnTo>
                  <a:lnTo>
                    <a:pt x="377" y="26"/>
                  </a:lnTo>
                  <a:lnTo>
                    <a:pt x="384" y="20"/>
                  </a:lnTo>
                  <a:lnTo>
                    <a:pt x="391" y="15"/>
                  </a:lnTo>
                  <a:lnTo>
                    <a:pt x="399" y="10"/>
                  </a:lnTo>
                  <a:lnTo>
                    <a:pt x="407" y="6"/>
                  </a:lnTo>
                  <a:lnTo>
                    <a:pt x="416" y="4"/>
                  </a:lnTo>
                  <a:lnTo>
                    <a:pt x="426" y="1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556" y="0"/>
                  </a:lnTo>
                  <a:lnTo>
                    <a:pt x="566" y="0"/>
                  </a:lnTo>
                  <a:lnTo>
                    <a:pt x="577" y="1"/>
                  </a:lnTo>
                  <a:lnTo>
                    <a:pt x="587" y="4"/>
                  </a:lnTo>
                  <a:lnTo>
                    <a:pt x="597" y="6"/>
                  </a:lnTo>
                  <a:lnTo>
                    <a:pt x="605" y="10"/>
                  </a:lnTo>
                  <a:lnTo>
                    <a:pt x="613" y="15"/>
                  </a:lnTo>
                  <a:lnTo>
                    <a:pt x="619" y="20"/>
                  </a:lnTo>
                  <a:lnTo>
                    <a:pt x="625" y="26"/>
                  </a:lnTo>
                  <a:lnTo>
                    <a:pt x="633" y="33"/>
                  </a:lnTo>
                  <a:lnTo>
                    <a:pt x="639" y="42"/>
                  </a:lnTo>
                  <a:lnTo>
                    <a:pt x="644" y="50"/>
                  </a:lnTo>
                  <a:lnTo>
                    <a:pt x="647" y="59"/>
                  </a:lnTo>
                  <a:lnTo>
                    <a:pt x="650" y="68"/>
                  </a:lnTo>
                  <a:lnTo>
                    <a:pt x="652" y="77"/>
                  </a:lnTo>
                  <a:lnTo>
                    <a:pt x="653" y="87"/>
                  </a:lnTo>
                  <a:lnTo>
                    <a:pt x="653" y="97"/>
                  </a:lnTo>
                  <a:lnTo>
                    <a:pt x="653" y="184"/>
                  </a:lnTo>
                  <a:lnTo>
                    <a:pt x="653" y="191"/>
                  </a:lnTo>
                  <a:lnTo>
                    <a:pt x="653" y="197"/>
                  </a:lnTo>
                  <a:lnTo>
                    <a:pt x="652" y="202"/>
                  </a:lnTo>
                  <a:lnTo>
                    <a:pt x="652" y="207"/>
                  </a:lnTo>
                  <a:lnTo>
                    <a:pt x="651" y="210"/>
                  </a:lnTo>
                  <a:lnTo>
                    <a:pt x="651" y="215"/>
                  </a:lnTo>
                  <a:lnTo>
                    <a:pt x="651" y="219"/>
                  </a:lnTo>
                  <a:lnTo>
                    <a:pt x="651" y="224"/>
                  </a:lnTo>
                  <a:lnTo>
                    <a:pt x="649" y="226"/>
                  </a:lnTo>
                  <a:lnTo>
                    <a:pt x="646" y="230"/>
                  </a:lnTo>
                  <a:lnTo>
                    <a:pt x="644" y="235"/>
                  </a:lnTo>
                  <a:lnTo>
                    <a:pt x="640" y="239"/>
                  </a:lnTo>
                  <a:lnTo>
                    <a:pt x="636" y="242"/>
                  </a:lnTo>
                  <a:lnTo>
                    <a:pt x="633" y="246"/>
                  </a:lnTo>
                  <a:lnTo>
                    <a:pt x="629" y="248"/>
                  </a:lnTo>
                  <a:lnTo>
                    <a:pt x="625" y="251"/>
                  </a:lnTo>
                  <a:lnTo>
                    <a:pt x="441" y="380"/>
                  </a:lnTo>
                  <a:lnTo>
                    <a:pt x="437" y="384"/>
                  </a:lnTo>
                  <a:lnTo>
                    <a:pt x="433" y="387"/>
                  </a:lnTo>
                  <a:lnTo>
                    <a:pt x="430" y="391"/>
                  </a:lnTo>
                  <a:lnTo>
                    <a:pt x="426" y="395"/>
                  </a:lnTo>
                  <a:lnTo>
                    <a:pt x="422" y="397"/>
                  </a:lnTo>
                  <a:lnTo>
                    <a:pt x="421" y="400"/>
                  </a:lnTo>
                  <a:lnTo>
                    <a:pt x="419" y="402"/>
                  </a:lnTo>
                  <a:lnTo>
                    <a:pt x="419" y="403"/>
                  </a:lnTo>
                  <a:lnTo>
                    <a:pt x="419" y="406"/>
                  </a:lnTo>
                  <a:lnTo>
                    <a:pt x="417" y="408"/>
                  </a:lnTo>
                  <a:lnTo>
                    <a:pt x="416" y="412"/>
                  </a:lnTo>
                  <a:lnTo>
                    <a:pt x="415" y="417"/>
                  </a:lnTo>
                  <a:lnTo>
                    <a:pt x="415" y="421"/>
                  </a:lnTo>
                  <a:lnTo>
                    <a:pt x="414" y="426"/>
                  </a:lnTo>
                  <a:lnTo>
                    <a:pt x="412" y="432"/>
                  </a:lnTo>
                  <a:lnTo>
                    <a:pt x="412" y="437"/>
                  </a:lnTo>
                  <a:lnTo>
                    <a:pt x="412" y="492"/>
                  </a:lnTo>
                  <a:lnTo>
                    <a:pt x="594" y="492"/>
                  </a:lnTo>
                  <a:lnTo>
                    <a:pt x="594" y="400"/>
                  </a:lnTo>
                  <a:lnTo>
                    <a:pt x="653" y="400"/>
                  </a:lnTo>
                  <a:lnTo>
                    <a:pt x="653" y="537"/>
                  </a:lnTo>
                  <a:lnTo>
                    <a:pt x="351" y="537"/>
                  </a:lnTo>
                  <a:lnTo>
                    <a:pt x="351" y="423"/>
                  </a:lnTo>
                  <a:lnTo>
                    <a:pt x="351" y="417"/>
                  </a:lnTo>
                  <a:lnTo>
                    <a:pt x="352" y="411"/>
                  </a:lnTo>
                  <a:lnTo>
                    <a:pt x="352" y="406"/>
                  </a:lnTo>
                  <a:lnTo>
                    <a:pt x="353" y="400"/>
                  </a:lnTo>
                  <a:lnTo>
                    <a:pt x="355" y="394"/>
                  </a:lnTo>
                  <a:lnTo>
                    <a:pt x="356" y="389"/>
                  </a:lnTo>
                  <a:lnTo>
                    <a:pt x="356" y="384"/>
                  </a:lnTo>
                  <a:lnTo>
                    <a:pt x="357" y="380"/>
                  </a:lnTo>
                  <a:lnTo>
                    <a:pt x="358" y="375"/>
                  </a:lnTo>
                  <a:lnTo>
                    <a:pt x="362" y="370"/>
                  </a:lnTo>
                  <a:lnTo>
                    <a:pt x="366" y="365"/>
                  </a:lnTo>
                  <a:lnTo>
                    <a:pt x="369" y="360"/>
                  </a:lnTo>
                  <a:lnTo>
                    <a:pt x="373" y="357"/>
                  </a:lnTo>
                  <a:lnTo>
                    <a:pt x="378" y="353"/>
                  </a:lnTo>
                  <a:lnTo>
                    <a:pt x="382" y="350"/>
                  </a:lnTo>
                  <a:lnTo>
                    <a:pt x="385" y="348"/>
                  </a:lnTo>
                  <a:lnTo>
                    <a:pt x="594" y="200"/>
                  </a:lnTo>
                  <a:lnTo>
                    <a:pt x="594" y="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815080" y="2927160"/>
              <a:ext cx="9504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1" y="92"/>
                  </a:moveTo>
                  <a:lnTo>
                    <a:pt x="241" y="86"/>
                  </a:lnTo>
                  <a:lnTo>
                    <a:pt x="240" y="81"/>
                  </a:lnTo>
                  <a:lnTo>
                    <a:pt x="240" y="76"/>
                  </a:lnTo>
                  <a:lnTo>
                    <a:pt x="238" y="73"/>
                  </a:lnTo>
                  <a:lnTo>
                    <a:pt x="236" y="68"/>
                  </a:lnTo>
                  <a:lnTo>
                    <a:pt x="234" y="64"/>
                  </a:lnTo>
                  <a:lnTo>
                    <a:pt x="233" y="61"/>
                  </a:lnTo>
                  <a:lnTo>
                    <a:pt x="230" y="59"/>
                  </a:lnTo>
                  <a:lnTo>
                    <a:pt x="228" y="57"/>
                  </a:lnTo>
                  <a:lnTo>
                    <a:pt x="227" y="54"/>
                  </a:lnTo>
                  <a:lnTo>
                    <a:pt x="224" y="52"/>
                  </a:lnTo>
                  <a:lnTo>
                    <a:pt x="220" y="49"/>
                  </a:lnTo>
                  <a:lnTo>
                    <a:pt x="218" y="48"/>
                  </a:lnTo>
                  <a:lnTo>
                    <a:pt x="214" y="47"/>
                  </a:lnTo>
                  <a:lnTo>
                    <a:pt x="211" y="47"/>
                  </a:lnTo>
                  <a:lnTo>
                    <a:pt x="207" y="45"/>
                  </a:lnTo>
                  <a:lnTo>
                    <a:pt x="86" y="45"/>
                  </a:lnTo>
                  <a:lnTo>
                    <a:pt x="83" y="47"/>
                  </a:lnTo>
                  <a:lnTo>
                    <a:pt x="80" y="47"/>
                  </a:lnTo>
                  <a:lnTo>
                    <a:pt x="77" y="48"/>
                  </a:lnTo>
                  <a:lnTo>
                    <a:pt x="74" y="49"/>
                  </a:lnTo>
                  <a:lnTo>
                    <a:pt x="73" y="50"/>
                  </a:lnTo>
                  <a:lnTo>
                    <a:pt x="70" y="52"/>
                  </a:lnTo>
                  <a:lnTo>
                    <a:pt x="70" y="53"/>
                  </a:lnTo>
                  <a:lnTo>
                    <a:pt x="69" y="54"/>
                  </a:lnTo>
                  <a:lnTo>
                    <a:pt x="68" y="59"/>
                  </a:lnTo>
                  <a:lnTo>
                    <a:pt x="65" y="63"/>
                  </a:lnTo>
                  <a:lnTo>
                    <a:pt x="64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1" y="81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2" y="77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0"/>
                  </a:lnTo>
                  <a:lnTo>
                    <a:pt x="14" y="42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0" y="20"/>
                  </a:lnTo>
                  <a:lnTo>
                    <a:pt x="37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1"/>
                  </a:lnTo>
                  <a:lnTo>
                    <a:pt x="234" y="4"/>
                  </a:lnTo>
                  <a:lnTo>
                    <a:pt x="243" y="6"/>
                  </a:lnTo>
                  <a:lnTo>
                    <a:pt x="252" y="10"/>
                  </a:lnTo>
                  <a:lnTo>
                    <a:pt x="261" y="15"/>
                  </a:lnTo>
                  <a:lnTo>
                    <a:pt x="268" y="20"/>
                  </a:lnTo>
                  <a:lnTo>
                    <a:pt x="275" y="26"/>
                  </a:lnTo>
                  <a:lnTo>
                    <a:pt x="281" y="33"/>
                  </a:lnTo>
                  <a:lnTo>
                    <a:pt x="286" y="42"/>
                  </a:lnTo>
                  <a:lnTo>
                    <a:pt x="291" y="50"/>
                  </a:lnTo>
                  <a:lnTo>
                    <a:pt x="294" y="59"/>
                  </a:lnTo>
                  <a:lnTo>
                    <a:pt x="298" y="68"/>
                  </a:lnTo>
                  <a:lnTo>
                    <a:pt x="300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0" y="202"/>
                  </a:lnTo>
                  <a:lnTo>
                    <a:pt x="300" y="207"/>
                  </a:lnTo>
                  <a:lnTo>
                    <a:pt x="299" y="210"/>
                  </a:lnTo>
                  <a:lnTo>
                    <a:pt x="298" y="215"/>
                  </a:lnTo>
                  <a:lnTo>
                    <a:pt x="298" y="219"/>
                  </a:lnTo>
                  <a:lnTo>
                    <a:pt x="298" y="224"/>
                  </a:lnTo>
                  <a:lnTo>
                    <a:pt x="296" y="226"/>
                  </a:lnTo>
                  <a:lnTo>
                    <a:pt x="293" y="230"/>
                  </a:lnTo>
                  <a:lnTo>
                    <a:pt x="289" y="235"/>
                  </a:lnTo>
                  <a:lnTo>
                    <a:pt x="287" y="239"/>
                  </a:lnTo>
                  <a:lnTo>
                    <a:pt x="283" y="242"/>
                  </a:lnTo>
                  <a:lnTo>
                    <a:pt x="281" y="246"/>
                  </a:lnTo>
                  <a:lnTo>
                    <a:pt x="277" y="248"/>
                  </a:lnTo>
                  <a:lnTo>
                    <a:pt x="275" y="251"/>
                  </a:lnTo>
                  <a:lnTo>
                    <a:pt x="86" y="380"/>
                  </a:lnTo>
                  <a:lnTo>
                    <a:pt x="83" y="384"/>
                  </a:lnTo>
                  <a:lnTo>
                    <a:pt x="79" y="387"/>
                  </a:lnTo>
                  <a:lnTo>
                    <a:pt x="75" y="391"/>
                  </a:lnTo>
                  <a:lnTo>
                    <a:pt x="72" y="395"/>
                  </a:lnTo>
                  <a:lnTo>
                    <a:pt x="68" y="397"/>
                  </a:lnTo>
                  <a:lnTo>
                    <a:pt x="65" y="400"/>
                  </a:lnTo>
                  <a:lnTo>
                    <a:pt x="64" y="402"/>
                  </a:lnTo>
                  <a:lnTo>
                    <a:pt x="64" y="403"/>
                  </a:lnTo>
                  <a:lnTo>
                    <a:pt x="64" y="406"/>
                  </a:lnTo>
                  <a:lnTo>
                    <a:pt x="63" y="408"/>
                  </a:lnTo>
                  <a:lnTo>
                    <a:pt x="63" y="412"/>
                  </a:lnTo>
                  <a:lnTo>
                    <a:pt x="62" y="417"/>
                  </a:lnTo>
                  <a:lnTo>
                    <a:pt x="61" y="421"/>
                  </a:lnTo>
                  <a:lnTo>
                    <a:pt x="61" y="426"/>
                  </a:lnTo>
                  <a:lnTo>
                    <a:pt x="59" y="432"/>
                  </a:lnTo>
                  <a:lnTo>
                    <a:pt x="59" y="437"/>
                  </a:lnTo>
                  <a:lnTo>
                    <a:pt x="59" y="492"/>
                  </a:lnTo>
                  <a:lnTo>
                    <a:pt x="241" y="492"/>
                  </a:lnTo>
                  <a:lnTo>
                    <a:pt x="241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2" y="411"/>
                  </a:lnTo>
                  <a:lnTo>
                    <a:pt x="2" y="406"/>
                  </a:lnTo>
                  <a:lnTo>
                    <a:pt x="2" y="400"/>
                  </a:lnTo>
                  <a:lnTo>
                    <a:pt x="2" y="394"/>
                  </a:lnTo>
                  <a:lnTo>
                    <a:pt x="2" y="389"/>
                  </a:lnTo>
                  <a:lnTo>
                    <a:pt x="2" y="384"/>
                  </a:lnTo>
                  <a:lnTo>
                    <a:pt x="3" y="380"/>
                  </a:lnTo>
                  <a:lnTo>
                    <a:pt x="5" y="375"/>
                  </a:lnTo>
                  <a:lnTo>
                    <a:pt x="8" y="370"/>
                  </a:lnTo>
                  <a:lnTo>
                    <a:pt x="11" y="365"/>
                  </a:lnTo>
                  <a:lnTo>
                    <a:pt x="16" y="360"/>
                  </a:lnTo>
                  <a:lnTo>
                    <a:pt x="20" y="357"/>
                  </a:lnTo>
                  <a:lnTo>
                    <a:pt x="24" y="353"/>
                  </a:lnTo>
                  <a:lnTo>
                    <a:pt x="27" y="350"/>
                  </a:lnTo>
                  <a:lnTo>
                    <a:pt x="31" y="348"/>
                  </a:lnTo>
                  <a:lnTo>
                    <a:pt x="241" y="200"/>
                  </a:lnTo>
                  <a:lnTo>
                    <a:pt x="241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925960" y="2927160"/>
              <a:ext cx="95400" cy="169560"/>
            </a:xfrm>
            <a:custGeom>
              <a:avLst/>
              <a:gdLst/>
              <a:ahLst/>
              <a:rect l="l" t="t" r="r" b="b"/>
              <a:pathLst>
                <a:path w="302" h="537">
                  <a:moveTo>
                    <a:pt x="243" y="92"/>
                  </a:moveTo>
                  <a:lnTo>
                    <a:pt x="243" y="86"/>
                  </a:lnTo>
                  <a:lnTo>
                    <a:pt x="242" y="81"/>
                  </a:lnTo>
                  <a:lnTo>
                    <a:pt x="242" y="76"/>
                  </a:lnTo>
                  <a:lnTo>
                    <a:pt x="240" y="73"/>
                  </a:lnTo>
                  <a:lnTo>
                    <a:pt x="238" y="68"/>
                  </a:lnTo>
                  <a:lnTo>
                    <a:pt x="237" y="64"/>
                  </a:lnTo>
                  <a:lnTo>
                    <a:pt x="235" y="61"/>
                  </a:lnTo>
                  <a:lnTo>
                    <a:pt x="234" y="59"/>
                  </a:lnTo>
                  <a:lnTo>
                    <a:pt x="231" y="57"/>
                  </a:lnTo>
                  <a:lnTo>
                    <a:pt x="229" y="54"/>
                  </a:lnTo>
                  <a:lnTo>
                    <a:pt x="226" y="52"/>
                  </a:lnTo>
                  <a:lnTo>
                    <a:pt x="224" y="49"/>
                  </a:lnTo>
                  <a:lnTo>
                    <a:pt x="221" y="48"/>
                  </a:lnTo>
                  <a:lnTo>
                    <a:pt x="218" y="47"/>
                  </a:lnTo>
                  <a:lnTo>
                    <a:pt x="214" y="47"/>
                  </a:lnTo>
                  <a:lnTo>
                    <a:pt x="210" y="45"/>
                  </a:lnTo>
                  <a:lnTo>
                    <a:pt x="90" y="45"/>
                  </a:lnTo>
                  <a:lnTo>
                    <a:pt x="86" y="47"/>
                  </a:lnTo>
                  <a:lnTo>
                    <a:pt x="83" y="47"/>
                  </a:lnTo>
                  <a:lnTo>
                    <a:pt x="80" y="48"/>
                  </a:lnTo>
                  <a:lnTo>
                    <a:pt x="77" y="49"/>
                  </a:lnTo>
                  <a:lnTo>
                    <a:pt x="75" y="50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1" y="54"/>
                  </a:lnTo>
                  <a:lnTo>
                    <a:pt x="70" y="59"/>
                  </a:lnTo>
                  <a:lnTo>
                    <a:pt x="68" y="63"/>
                  </a:lnTo>
                  <a:lnTo>
                    <a:pt x="66" y="66"/>
                  </a:lnTo>
                  <a:lnTo>
                    <a:pt x="65" y="71"/>
                  </a:lnTo>
                  <a:lnTo>
                    <a:pt x="64" y="76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2"/>
                  </a:lnTo>
                  <a:lnTo>
                    <a:pt x="61" y="172"/>
                  </a:lnTo>
                  <a:lnTo>
                    <a:pt x="0" y="172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0"/>
                  </a:lnTo>
                  <a:lnTo>
                    <a:pt x="15" y="42"/>
                  </a:lnTo>
                  <a:lnTo>
                    <a:pt x="20" y="33"/>
                  </a:lnTo>
                  <a:lnTo>
                    <a:pt x="26" y="26"/>
                  </a:lnTo>
                  <a:lnTo>
                    <a:pt x="33" y="20"/>
                  </a:lnTo>
                  <a:lnTo>
                    <a:pt x="40" y="15"/>
                  </a:lnTo>
                  <a:lnTo>
                    <a:pt x="48" y="10"/>
                  </a:lnTo>
                  <a:lnTo>
                    <a:pt x="56" y="6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4"/>
                  </a:lnTo>
                  <a:lnTo>
                    <a:pt x="246" y="6"/>
                  </a:lnTo>
                  <a:lnTo>
                    <a:pt x="254" y="10"/>
                  </a:lnTo>
                  <a:lnTo>
                    <a:pt x="262" y="15"/>
                  </a:lnTo>
                  <a:lnTo>
                    <a:pt x="268" y="20"/>
                  </a:lnTo>
                  <a:lnTo>
                    <a:pt x="274" y="26"/>
                  </a:lnTo>
                  <a:lnTo>
                    <a:pt x="282" y="33"/>
                  </a:lnTo>
                  <a:lnTo>
                    <a:pt x="288" y="42"/>
                  </a:lnTo>
                  <a:lnTo>
                    <a:pt x="293" y="50"/>
                  </a:lnTo>
                  <a:lnTo>
                    <a:pt x="296" y="59"/>
                  </a:lnTo>
                  <a:lnTo>
                    <a:pt x="299" y="68"/>
                  </a:lnTo>
                  <a:lnTo>
                    <a:pt x="301" y="77"/>
                  </a:lnTo>
                  <a:lnTo>
                    <a:pt x="302" y="87"/>
                  </a:lnTo>
                  <a:lnTo>
                    <a:pt x="302" y="97"/>
                  </a:lnTo>
                  <a:lnTo>
                    <a:pt x="302" y="184"/>
                  </a:lnTo>
                  <a:lnTo>
                    <a:pt x="302" y="191"/>
                  </a:lnTo>
                  <a:lnTo>
                    <a:pt x="302" y="197"/>
                  </a:lnTo>
                  <a:lnTo>
                    <a:pt x="301" y="202"/>
                  </a:lnTo>
                  <a:lnTo>
                    <a:pt x="301" y="207"/>
                  </a:lnTo>
                  <a:lnTo>
                    <a:pt x="300" y="210"/>
                  </a:lnTo>
                  <a:lnTo>
                    <a:pt x="300" y="215"/>
                  </a:lnTo>
                  <a:lnTo>
                    <a:pt x="300" y="219"/>
                  </a:lnTo>
                  <a:lnTo>
                    <a:pt x="300" y="224"/>
                  </a:lnTo>
                  <a:lnTo>
                    <a:pt x="298" y="226"/>
                  </a:lnTo>
                  <a:lnTo>
                    <a:pt x="295" y="230"/>
                  </a:lnTo>
                  <a:lnTo>
                    <a:pt x="293" y="235"/>
                  </a:lnTo>
                  <a:lnTo>
                    <a:pt x="289" y="239"/>
                  </a:lnTo>
                  <a:lnTo>
                    <a:pt x="285" y="242"/>
                  </a:lnTo>
                  <a:lnTo>
                    <a:pt x="282" y="246"/>
                  </a:lnTo>
                  <a:lnTo>
                    <a:pt x="278" y="248"/>
                  </a:lnTo>
                  <a:lnTo>
                    <a:pt x="274" y="251"/>
                  </a:lnTo>
                  <a:lnTo>
                    <a:pt x="90" y="380"/>
                  </a:lnTo>
                  <a:lnTo>
                    <a:pt x="86" y="384"/>
                  </a:lnTo>
                  <a:lnTo>
                    <a:pt x="82" y="387"/>
                  </a:lnTo>
                  <a:lnTo>
                    <a:pt x="79" y="391"/>
                  </a:lnTo>
                  <a:lnTo>
                    <a:pt x="75" y="395"/>
                  </a:lnTo>
                  <a:lnTo>
                    <a:pt x="71" y="397"/>
                  </a:lnTo>
                  <a:lnTo>
                    <a:pt x="70" y="400"/>
                  </a:lnTo>
                  <a:lnTo>
                    <a:pt x="68" y="402"/>
                  </a:lnTo>
                  <a:lnTo>
                    <a:pt x="68" y="403"/>
                  </a:lnTo>
                  <a:lnTo>
                    <a:pt x="68" y="406"/>
                  </a:lnTo>
                  <a:lnTo>
                    <a:pt x="66" y="408"/>
                  </a:lnTo>
                  <a:lnTo>
                    <a:pt x="65" y="412"/>
                  </a:lnTo>
                  <a:lnTo>
                    <a:pt x="64" y="417"/>
                  </a:lnTo>
                  <a:lnTo>
                    <a:pt x="64" y="421"/>
                  </a:lnTo>
                  <a:lnTo>
                    <a:pt x="63" y="426"/>
                  </a:lnTo>
                  <a:lnTo>
                    <a:pt x="61" y="432"/>
                  </a:lnTo>
                  <a:lnTo>
                    <a:pt x="61" y="437"/>
                  </a:lnTo>
                  <a:lnTo>
                    <a:pt x="61" y="492"/>
                  </a:lnTo>
                  <a:lnTo>
                    <a:pt x="243" y="492"/>
                  </a:lnTo>
                  <a:lnTo>
                    <a:pt x="243" y="400"/>
                  </a:lnTo>
                  <a:lnTo>
                    <a:pt x="302" y="400"/>
                  </a:lnTo>
                  <a:lnTo>
                    <a:pt x="302" y="537"/>
                  </a:lnTo>
                  <a:lnTo>
                    <a:pt x="0" y="537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1" y="411"/>
                  </a:lnTo>
                  <a:lnTo>
                    <a:pt x="1" y="406"/>
                  </a:lnTo>
                  <a:lnTo>
                    <a:pt x="2" y="400"/>
                  </a:lnTo>
                  <a:lnTo>
                    <a:pt x="4" y="394"/>
                  </a:lnTo>
                  <a:lnTo>
                    <a:pt x="5" y="389"/>
                  </a:lnTo>
                  <a:lnTo>
                    <a:pt x="5" y="384"/>
                  </a:lnTo>
                  <a:lnTo>
                    <a:pt x="6" y="380"/>
                  </a:lnTo>
                  <a:lnTo>
                    <a:pt x="7" y="375"/>
                  </a:lnTo>
                  <a:lnTo>
                    <a:pt x="11" y="370"/>
                  </a:lnTo>
                  <a:lnTo>
                    <a:pt x="15" y="365"/>
                  </a:lnTo>
                  <a:lnTo>
                    <a:pt x="18" y="360"/>
                  </a:lnTo>
                  <a:lnTo>
                    <a:pt x="22" y="357"/>
                  </a:lnTo>
                  <a:lnTo>
                    <a:pt x="27" y="353"/>
                  </a:lnTo>
                  <a:lnTo>
                    <a:pt x="31" y="350"/>
                  </a:lnTo>
                  <a:lnTo>
                    <a:pt x="34" y="348"/>
                  </a:lnTo>
                  <a:lnTo>
                    <a:pt x="243" y="200"/>
                  </a:lnTo>
                  <a:lnTo>
                    <a:pt x="243" y="92"/>
                  </a:lnTo>
                </a:path>
              </a:pathLst>
            </a:custGeom>
            <a:noFill/>
            <a:ln w="1440">
              <a:solidFill>
                <a:srgbClr val="140d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624120" y="2566800"/>
              <a:ext cx="588960" cy="736200"/>
            </a:xfrm>
            <a:custGeom>
              <a:avLst/>
              <a:gdLst/>
              <a:ahLst/>
              <a:rect l="l" t="t" r="r" b="b"/>
              <a:pathLst>
                <a:path w="1856" h="2321">
                  <a:moveTo>
                    <a:pt x="1395" y="219"/>
                  </a:moveTo>
                  <a:lnTo>
                    <a:pt x="1433" y="240"/>
                  </a:lnTo>
                  <a:lnTo>
                    <a:pt x="1470" y="261"/>
                  </a:lnTo>
                  <a:lnTo>
                    <a:pt x="1503" y="282"/>
                  </a:lnTo>
                  <a:lnTo>
                    <a:pt x="1534" y="302"/>
                  </a:lnTo>
                  <a:lnTo>
                    <a:pt x="1563" y="325"/>
                  </a:lnTo>
                  <a:lnTo>
                    <a:pt x="1591" y="346"/>
                  </a:lnTo>
                  <a:lnTo>
                    <a:pt x="1616" y="366"/>
                  </a:lnTo>
                  <a:lnTo>
                    <a:pt x="1639" y="389"/>
                  </a:lnTo>
                  <a:lnTo>
                    <a:pt x="1659" y="409"/>
                  </a:lnTo>
                  <a:lnTo>
                    <a:pt x="1679" y="432"/>
                  </a:lnTo>
                  <a:lnTo>
                    <a:pt x="1696" y="454"/>
                  </a:lnTo>
                  <a:lnTo>
                    <a:pt x="1711" y="476"/>
                  </a:lnTo>
                  <a:lnTo>
                    <a:pt x="1725" y="498"/>
                  </a:lnTo>
                  <a:lnTo>
                    <a:pt x="1737" y="521"/>
                  </a:lnTo>
                  <a:lnTo>
                    <a:pt x="1747" y="544"/>
                  </a:lnTo>
                  <a:lnTo>
                    <a:pt x="1755" y="567"/>
                  </a:lnTo>
                  <a:lnTo>
                    <a:pt x="1762" y="590"/>
                  </a:lnTo>
                  <a:lnTo>
                    <a:pt x="1766" y="615"/>
                  </a:lnTo>
                  <a:lnTo>
                    <a:pt x="1770" y="639"/>
                  </a:lnTo>
                  <a:lnTo>
                    <a:pt x="1771" y="664"/>
                  </a:lnTo>
                  <a:lnTo>
                    <a:pt x="1771" y="689"/>
                  </a:lnTo>
                  <a:lnTo>
                    <a:pt x="1771" y="715"/>
                  </a:lnTo>
                  <a:lnTo>
                    <a:pt x="1768" y="740"/>
                  </a:lnTo>
                  <a:lnTo>
                    <a:pt x="1764" y="766"/>
                  </a:lnTo>
                  <a:lnTo>
                    <a:pt x="1759" y="793"/>
                  </a:lnTo>
                  <a:lnTo>
                    <a:pt x="1753" y="820"/>
                  </a:lnTo>
                  <a:lnTo>
                    <a:pt x="1744" y="849"/>
                  </a:lnTo>
                  <a:lnTo>
                    <a:pt x="1736" y="877"/>
                  </a:lnTo>
                  <a:lnTo>
                    <a:pt x="1726" y="906"/>
                  </a:lnTo>
                  <a:lnTo>
                    <a:pt x="1714" y="936"/>
                  </a:lnTo>
                  <a:lnTo>
                    <a:pt x="1701" y="965"/>
                  </a:lnTo>
                  <a:lnTo>
                    <a:pt x="1688" y="996"/>
                  </a:lnTo>
                  <a:lnTo>
                    <a:pt x="1690" y="1007"/>
                  </a:lnTo>
                  <a:lnTo>
                    <a:pt x="1693" y="1017"/>
                  </a:lnTo>
                  <a:lnTo>
                    <a:pt x="1698" y="1028"/>
                  </a:lnTo>
                  <a:lnTo>
                    <a:pt x="1701" y="1039"/>
                  </a:lnTo>
                  <a:lnTo>
                    <a:pt x="1714" y="1063"/>
                  </a:lnTo>
                  <a:lnTo>
                    <a:pt x="1727" y="1087"/>
                  </a:lnTo>
                  <a:lnTo>
                    <a:pt x="1759" y="1136"/>
                  </a:lnTo>
                  <a:lnTo>
                    <a:pt x="1793" y="1188"/>
                  </a:lnTo>
                  <a:lnTo>
                    <a:pt x="1809" y="1214"/>
                  </a:lnTo>
                  <a:lnTo>
                    <a:pt x="1824" y="1240"/>
                  </a:lnTo>
                  <a:lnTo>
                    <a:pt x="1837" y="1266"/>
                  </a:lnTo>
                  <a:lnTo>
                    <a:pt x="1846" y="1290"/>
                  </a:lnTo>
                  <a:lnTo>
                    <a:pt x="1850" y="1302"/>
                  </a:lnTo>
                  <a:lnTo>
                    <a:pt x="1854" y="1315"/>
                  </a:lnTo>
                  <a:lnTo>
                    <a:pt x="1855" y="1326"/>
                  </a:lnTo>
                  <a:lnTo>
                    <a:pt x="1856" y="1338"/>
                  </a:lnTo>
                  <a:lnTo>
                    <a:pt x="1856" y="1349"/>
                  </a:lnTo>
                  <a:lnTo>
                    <a:pt x="1854" y="1360"/>
                  </a:lnTo>
                  <a:lnTo>
                    <a:pt x="1851" y="1371"/>
                  </a:lnTo>
                  <a:lnTo>
                    <a:pt x="1848" y="1382"/>
                  </a:lnTo>
                  <a:lnTo>
                    <a:pt x="1839" y="1392"/>
                  </a:lnTo>
                  <a:lnTo>
                    <a:pt x="1830" y="1400"/>
                  </a:lnTo>
                  <a:lnTo>
                    <a:pt x="1821" y="1406"/>
                  </a:lnTo>
                  <a:lnTo>
                    <a:pt x="1808" y="1409"/>
                  </a:lnTo>
                  <a:lnTo>
                    <a:pt x="1797" y="1413"/>
                  </a:lnTo>
                  <a:lnTo>
                    <a:pt x="1784" y="1416"/>
                  </a:lnTo>
                  <a:lnTo>
                    <a:pt x="1771" y="1416"/>
                  </a:lnTo>
                  <a:lnTo>
                    <a:pt x="1758" y="1417"/>
                  </a:lnTo>
                  <a:lnTo>
                    <a:pt x="1730" y="1417"/>
                  </a:lnTo>
                  <a:lnTo>
                    <a:pt x="1702" y="1416"/>
                  </a:lnTo>
                  <a:lnTo>
                    <a:pt x="1689" y="1416"/>
                  </a:lnTo>
                  <a:lnTo>
                    <a:pt x="1675" y="1417"/>
                  </a:lnTo>
                  <a:lnTo>
                    <a:pt x="1664" y="1418"/>
                  </a:lnTo>
                  <a:lnTo>
                    <a:pt x="1652" y="1421"/>
                  </a:lnTo>
                  <a:lnTo>
                    <a:pt x="1652" y="1443"/>
                  </a:lnTo>
                  <a:lnTo>
                    <a:pt x="1652" y="1465"/>
                  </a:lnTo>
                  <a:lnTo>
                    <a:pt x="1655" y="1487"/>
                  </a:lnTo>
                  <a:lnTo>
                    <a:pt x="1658" y="1510"/>
                  </a:lnTo>
                  <a:lnTo>
                    <a:pt x="1662" y="1534"/>
                  </a:lnTo>
                  <a:lnTo>
                    <a:pt x="1666" y="1557"/>
                  </a:lnTo>
                  <a:lnTo>
                    <a:pt x="1668" y="1579"/>
                  </a:lnTo>
                  <a:lnTo>
                    <a:pt x="1670" y="1600"/>
                  </a:lnTo>
                  <a:lnTo>
                    <a:pt x="1625" y="1600"/>
                  </a:lnTo>
                  <a:lnTo>
                    <a:pt x="1579" y="1600"/>
                  </a:lnTo>
                  <a:lnTo>
                    <a:pt x="1533" y="1600"/>
                  </a:lnTo>
                  <a:lnTo>
                    <a:pt x="1487" y="1600"/>
                  </a:lnTo>
                  <a:lnTo>
                    <a:pt x="1442" y="1600"/>
                  </a:lnTo>
                  <a:lnTo>
                    <a:pt x="1397" y="1600"/>
                  </a:lnTo>
                  <a:lnTo>
                    <a:pt x="1352" y="1600"/>
                  </a:lnTo>
                  <a:lnTo>
                    <a:pt x="1306" y="1600"/>
                  </a:lnTo>
                  <a:lnTo>
                    <a:pt x="1325" y="1622"/>
                  </a:lnTo>
                  <a:lnTo>
                    <a:pt x="1343" y="1643"/>
                  </a:lnTo>
                  <a:lnTo>
                    <a:pt x="1361" y="1665"/>
                  </a:lnTo>
                  <a:lnTo>
                    <a:pt x="1380" y="1687"/>
                  </a:lnTo>
                  <a:lnTo>
                    <a:pt x="1401" y="1708"/>
                  </a:lnTo>
                  <a:lnTo>
                    <a:pt x="1427" y="1730"/>
                  </a:lnTo>
                  <a:lnTo>
                    <a:pt x="1442" y="1742"/>
                  </a:lnTo>
                  <a:lnTo>
                    <a:pt x="1458" y="1754"/>
                  </a:lnTo>
                  <a:lnTo>
                    <a:pt x="1474" y="1765"/>
                  </a:lnTo>
                  <a:lnTo>
                    <a:pt x="1493" y="1777"/>
                  </a:lnTo>
                  <a:lnTo>
                    <a:pt x="1470" y="1812"/>
                  </a:lnTo>
                  <a:lnTo>
                    <a:pt x="1448" y="1846"/>
                  </a:lnTo>
                  <a:lnTo>
                    <a:pt x="1424" y="1879"/>
                  </a:lnTo>
                  <a:lnTo>
                    <a:pt x="1400" y="1911"/>
                  </a:lnTo>
                  <a:lnTo>
                    <a:pt x="1386" y="1927"/>
                  </a:lnTo>
                  <a:lnTo>
                    <a:pt x="1372" y="1943"/>
                  </a:lnTo>
                  <a:lnTo>
                    <a:pt x="1356" y="1958"/>
                  </a:lnTo>
                  <a:lnTo>
                    <a:pt x="1340" y="1972"/>
                  </a:lnTo>
                  <a:lnTo>
                    <a:pt x="1321" y="1986"/>
                  </a:lnTo>
                  <a:lnTo>
                    <a:pt x="1301" y="1999"/>
                  </a:lnTo>
                  <a:lnTo>
                    <a:pt x="1281" y="2011"/>
                  </a:lnTo>
                  <a:lnTo>
                    <a:pt x="1257" y="2023"/>
                  </a:lnTo>
                  <a:lnTo>
                    <a:pt x="1222" y="2020"/>
                  </a:lnTo>
                  <a:lnTo>
                    <a:pt x="1187" y="2013"/>
                  </a:lnTo>
                  <a:lnTo>
                    <a:pt x="1153" y="2007"/>
                  </a:lnTo>
                  <a:lnTo>
                    <a:pt x="1121" y="2000"/>
                  </a:lnTo>
                  <a:lnTo>
                    <a:pt x="1089" y="1992"/>
                  </a:lnTo>
                  <a:lnTo>
                    <a:pt x="1058" y="1984"/>
                  </a:lnTo>
                  <a:lnTo>
                    <a:pt x="1027" y="1975"/>
                  </a:lnTo>
                  <a:lnTo>
                    <a:pt x="999" y="1965"/>
                  </a:lnTo>
                  <a:lnTo>
                    <a:pt x="944" y="1947"/>
                  </a:lnTo>
                  <a:lnTo>
                    <a:pt x="892" y="1929"/>
                  </a:lnTo>
                  <a:lnTo>
                    <a:pt x="843" y="1911"/>
                  </a:lnTo>
                  <a:lnTo>
                    <a:pt x="797" y="1895"/>
                  </a:lnTo>
                  <a:lnTo>
                    <a:pt x="778" y="1921"/>
                  </a:lnTo>
                  <a:lnTo>
                    <a:pt x="758" y="1947"/>
                  </a:lnTo>
                  <a:lnTo>
                    <a:pt x="739" y="1973"/>
                  </a:lnTo>
                  <a:lnTo>
                    <a:pt x="722" y="1999"/>
                  </a:lnTo>
                  <a:lnTo>
                    <a:pt x="706" y="2024"/>
                  </a:lnTo>
                  <a:lnTo>
                    <a:pt x="690" y="2050"/>
                  </a:lnTo>
                  <a:lnTo>
                    <a:pt x="675" y="2077"/>
                  </a:lnTo>
                  <a:lnTo>
                    <a:pt x="661" y="2103"/>
                  </a:lnTo>
                  <a:lnTo>
                    <a:pt x="634" y="2157"/>
                  </a:lnTo>
                  <a:lnTo>
                    <a:pt x="608" y="2211"/>
                  </a:lnTo>
                  <a:lnTo>
                    <a:pt x="584" y="2266"/>
                  </a:lnTo>
                  <a:lnTo>
                    <a:pt x="561" y="2321"/>
                  </a:lnTo>
                  <a:lnTo>
                    <a:pt x="516" y="2295"/>
                  </a:lnTo>
                  <a:lnTo>
                    <a:pt x="470" y="2270"/>
                  </a:lnTo>
                  <a:lnTo>
                    <a:pt x="424" y="2246"/>
                  </a:lnTo>
                  <a:lnTo>
                    <a:pt x="380" y="2221"/>
                  </a:lnTo>
                  <a:lnTo>
                    <a:pt x="335" y="2197"/>
                  </a:lnTo>
                  <a:lnTo>
                    <a:pt x="289" y="2172"/>
                  </a:lnTo>
                  <a:lnTo>
                    <a:pt x="244" y="2147"/>
                  </a:lnTo>
                  <a:lnTo>
                    <a:pt x="198" y="2124"/>
                  </a:lnTo>
                  <a:lnTo>
                    <a:pt x="224" y="2096"/>
                  </a:lnTo>
                  <a:lnTo>
                    <a:pt x="249" y="2069"/>
                  </a:lnTo>
                  <a:lnTo>
                    <a:pt x="271" y="2040"/>
                  </a:lnTo>
                  <a:lnTo>
                    <a:pt x="293" y="2012"/>
                  </a:lnTo>
                  <a:lnTo>
                    <a:pt x="313" y="1983"/>
                  </a:lnTo>
                  <a:lnTo>
                    <a:pt x="331" y="1954"/>
                  </a:lnTo>
                  <a:lnTo>
                    <a:pt x="347" y="1925"/>
                  </a:lnTo>
                  <a:lnTo>
                    <a:pt x="362" y="1895"/>
                  </a:lnTo>
                  <a:lnTo>
                    <a:pt x="375" y="1865"/>
                  </a:lnTo>
                  <a:lnTo>
                    <a:pt x="386" y="1835"/>
                  </a:lnTo>
                  <a:lnTo>
                    <a:pt x="397" y="1804"/>
                  </a:lnTo>
                  <a:lnTo>
                    <a:pt x="406" y="1774"/>
                  </a:lnTo>
                  <a:lnTo>
                    <a:pt x="412" y="1743"/>
                  </a:lnTo>
                  <a:lnTo>
                    <a:pt x="417" y="1712"/>
                  </a:lnTo>
                  <a:lnTo>
                    <a:pt x="421" y="1680"/>
                  </a:lnTo>
                  <a:lnTo>
                    <a:pt x="423" y="1649"/>
                  </a:lnTo>
                  <a:lnTo>
                    <a:pt x="385" y="1607"/>
                  </a:lnTo>
                  <a:lnTo>
                    <a:pt x="349" y="1563"/>
                  </a:lnTo>
                  <a:lnTo>
                    <a:pt x="315" y="1519"/>
                  </a:lnTo>
                  <a:lnTo>
                    <a:pt x="282" y="1472"/>
                  </a:lnTo>
                  <a:lnTo>
                    <a:pt x="250" y="1424"/>
                  </a:lnTo>
                  <a:lnTo>
                    <a:pt x="219" y="1375"/>
                  </a:lnTo>
                  <a:lnTo>
                    <a:pt x="191" y="1325"/>
                  </a:lnTo>
                  <a:lnTo>
                    <a:pt x="164" y="1273"/>
                  </a:lnTo>
                  <a:lnTo>
                    <a:pt x="138" y="1219"/>
                  </a:lnTo>
                  <a:lnTo>
                    <a:pt x="115" y="1163"/>
                  </a:lnTo>
                  <a:lnTo>
                    <a:pt x="91" y="1107"/>
                  </a:lnTo>
                  <a:lnTo>
                    <a:pt x="70" y="1049"/>
                  </a:lnTo>
                  <a:lnTo>
                    <a:pt x="51" y="989"/>
                  </a:lnTo>
                  <a:lnTo>
                    <a:pt x="32" y="927"/>
                  </a:lnTo>
                  <a:lnTo>
                    <a:pt x="15" y="866"/>
                  </a:lnTo>
                  <a:lnTo>
                    <a:pt x="0" y="801"/>
                  </a:lnTo>
                  <a:lnTo>
                    <a:pt x="36" y="735"/>
                  </a:lnTo>
                  <a:lnTo>
                    <a:pt x="73" y="671"/>
                  </a:lnTo>
                  <a:lnTo>
                    <a:pt x="110" y="610"/>
                  </a:lnTo>
                  <a:lnTo>
                    <a:pt x="148" y="551"/>
                  </a:lnTo>
                  <a:lnTo>
                    <a:pt x="186" y="494"/>
                  </a:lnTo>
                  <a:lnTo>
                    <a:pt x="224" y="440"/>
                  </a:lnTo>
                  <a:lnTo>
                    <a:pt x="262" y="390"/>
                  </a:lnTo>
                  <a:lnTo>
                    <a:pt x="301" y="341"/>
                  </a:lnTo>
                  <a:lnTo>
                    <a:pt x="341" y="295"/>
                  </a:lnTo>
                  <a:lnTo>
                    <a:pt x="381" y="253"/>
                  </a:lnTo>
                  <a:lnTo>
                    <a:pt x="422" y="214"/>
                  </a:lnTo>
                  <a:lnTo>
                    <a:pt x="463" y="177"/>
                  </a:lnTo>
                  <a:lnTo>
                    <a:pt x="504" y="144"/>
                  </a:lnTo>
                  <a:lnTo>
                    <a:pt x="546" y="113"/>
                  </a:lnTo>
                  <a:lnTo>
                    <a:pt x="588" y="87"/>
                  </a:lnTo>
                  <a:lnTo>
                    <a:pt x="631" y="64"/>
                  </a:lnTo>
                  <a:lnTo>
                    <a:pt x="674" y="44"/>
                  </a:lnTo>
                  <a:lnTo>
                    <a:pt x="718" y="27"/>
                  </a:lnTo>
                  <a:lnTo>
                    <a:pt x="763" y="15"/>
                  </a:lnTo>
                  <a:lnTo>
                    <a:pt x="807" y="6"/>
                  </a:lnTo>
                  <a:lnTo>
                    <a:pt x="854" y="1"/>
                  </a:lnTo>
                  <a:lnTo>
                    <a:pt x="899" y="0"/>
                  </a:lnTo>
                  <a:lnTo>
                    <a:pt x="946" y="2"/>
                  </a:lnTo>
                  <a:lnTo>
                    <a:pt x="994" y="10"/>
                  </a:lnTo>
                  <a:lnTo>
                    <a:pt x="1042" y="20"/>
                  </a:lnTo>
                  <a:lnTo>
                    <a:pt x="1090" y="36"/>
                  </a:lnTo>
                  <a:lnTo>
                    <a:pt x="1139" y="55"/>
                  </a:lnTo>
                  <a:lnTo>
                    <a:pt x="1190" y="79"/>
                  </a:lnTo>
                  <a:lnTo>
                    <a:pt x="1240" y="107"/>
                  </a:lnTo>
                  <a:lnTo>
                    <a:pt x="1290" y="139"/>
                  </a:lnTo>
                  <a:lnTo>
                    <a:pt x="1343" y="177"/>
                  </a:lnTo>
                  <a:lnTo>
                    <a:pt x="1395" y="219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065480" y="2631960"/>
              <a:ext cx="125640" cy="252000"/>
            </a:xfrm>
            <a:custGeom>
              <a:avLst/>
              <a:gdLst/>
              <a:ahLst/>
              <a:rect l="l" t="t" r="r" b="b"/>
              <a:pathLst>
                <a:path w="398" h="797">
                  <a:moveTo>
                    <a:pt x="313" y="789"/>
                  </a:moveTo>
                  <a:lnTo>
                    <a:pt x="313" y="797"/>
                  </a:lnTo>
                  <a:lnTo>
                    <a:pt x="327" y="767"/>
                  </a:lnTo>
                  <a:lnTo>
                    <a:pt x="339" y="736"/>
                  </a:lnTo>
                  <a:lnTo>
                    <a:pt x="350" y="706"/>
                  </a:lnTo>
                  <a:lnTo>
                    <a:pt x="361" y="677"/>
                  </a:lnTo>
                  <a:lnTo>
                    <a:pt x="370" y="647"/>
                  </a:lnTo>
                  <a:lnTo>
                    <a:pt x="377" y="619"/>
                  </a:lnTo>
                  <a:lnTo>
                    <a:pt x="385" y="592"/>
                  </a:lnTo>
                  <a:lnTo>
                    <a:pt x="390" y="564"/>
                  </a:lnTo>
                  <a:lnTo>
                    <a:pt x="395" y="537"/>
                  </a:lnTo>
                  <a:lnTo>
                    <a:pt x="397" y="511"/>
                  </a:lnTo>
                  <a:lnTo>
                    <a:pt x="398" y="484"/>
                  </a:lnTo>
                  <a:lnTo>
                    <a:pt x="397" y="458"/>
                  </a:lnTo>
                  <a:lnTo>
                    <a:pt x="396" y="432"/>
                  </a:lnTo>
                  <a:lnTo>
                    <a:pt x="392" y="407"/>
                  </a:lnTo>
                  <a:lnTo>
                    <a:pt x="387" y="383"/>
                  </a:lnTo>
                  <a:lnTo>
                    <a:pt x="380" y="358"/>
                  </a:lnTo>
                  <a:lnTo>
                    <a:pt x="371" y="334"/>
                  </a:lnTo>
                  <a:lnTo>
                    <a:pt x="361" y="309"/>
                  </a:lnTo>
                  <a:lnTo>
                    <a:pt x="349" y="286"/>
                  </a:lnTo>
                  <a:lnTo>
                    <a:pt x="336" y="262"/>
                  </a:lnTo>
                  <a:lnTo>
                    <a:pt x="320" y="240"/>
                  </a:lnTo>
                  <a:lnTo>
                    <a:pt x="301" y="217"/>
                  </a:lnTo>
                  <a:lnTo>
                    <a:pt x="281" y="195"/>
                  </a:lnTo>
                  <a:lnTo>
                    <a:pt x="261" y="172"/>
                  </a:lnTo>
                  <a:lnTo>
                    <a:pt x="237" y="150"/>
                  </a:lnTo>
                  <a:lnTo>
                    <a:pt x="211" y="128"/>
                  </a:lnTo>
                  <a:lnTo>
                    <a:pt x="183" y="107"/>
                  </a:lnTo>
                  <a:lnTo>
                    <a:pt x="154" y="85"/>
                  </a:lnTo>
                  <a:lnTo>
                    <a:pt x="123" y="64"/>
                  </a:lnTo>
                  <a:lnTo>
                    <a:pt x="88" y="43"/>
                  </a:lnTo>
                  <a:lnTo>
                    <a:pt x="51" y="21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37" y="48"/>
                  </a:lnTo>
                  <a:lnTo>
                    <a:pt x="72" y="69"/>
                  </a:lnTo>
                  <a:lnTo>
                    <a:pt x="106" y="89"/>
                  </a:lnTo>
                  <a:lnTo>
                    <a:pt x="136" y="110"/>
                  </a:lnTo>
                  <a:lnTo>
                    <a:pt x="166" y="131"/>
                  </a:lnTo>
                  <a:lnTo>
                    <a:pt x="193" y="152"/>
                  </a:lnTo>
                  <a:lnTo>
                    <a:pt x="216" y="172"/>
                  </a:lnTo>
                  <a:lnTo>
                    <a:pt x="240" y="193"/>
                  </a:lnTo>
                  <a:lnTo>
                    <a:pt x="259" y="214"/>
                  </a:lnTo>
                  <a:lnTo>
                    <a:pt x="279" y="236"/>
                  </a:lnTo>
                  <a:lnTo>
                    <a:pt x="295" y="257"/>
                  </a:lnTo>
                  <a:lnTo>
                    <a:pt x="310" y="279"/>
                  </a:lnTo>
                  <a:lnTo>
                    <a:pt x="323" y="300"/>
                  </a:lnTo>
                  <a:lnTo>
                    <a:pt x="334" y="323"/>
                  </a:lnTo>
                  <a:lnTo>
                    <a:pt x="344" y="345"/>
                  </a:lnTo>
                  <a:lnTo>
                    <a:pt x="352" y="367"/>
                  </a:lnTo>
                  <a:lnTo>
                    <a:pt x="358" y="389"/>
                  </a:lnTo>
                  <a:lnTo>
                    <a:pt x="363" y="412"/>
                  </a:lnTo>
                  <a:lnTo>
                    <a:pt x="366" y="436"/>
                  </a:lnTo>
                  <a:lnTo>
                    <a:pt x="368" y="459"/>
                  </a:lnTo>
                  <a:lnTo>
                    <a:pt x="368" y="484"/>
                  </a:lnTo>
                  <a:lnTo>
                    <a:pt x="366" y="508"/>
                  </a:lnTo>
                  <a:lnTo>
                    <a:pt x="364" y="533"/>
                  </a:lnTo>
                  <a:lnTo>
                    <a:pt x="360" y="559"/>
                  </a:lnTo>
                  <a:lnTo>
                    <a:pt x="355" y="586"/>
                  </a:lnTo>
                  <a:lnTo>
                    <a:pt x="349" y="612"/>
                  </a:lnTo>
                  <a:lnTo>
                    <a:pt x="342" y="639"/>
                  </a:lnTo>
                  <a:lnTo>
                    <a:pt x="332" y="667"/>
                  </a:lnTo>
                  <a:lnTo>
                    <a:pt x="322" y="695"/>
                  </a:lnTo>
                  <a:lnTo>
                    <a:pt x="311" y="725"/>
                  </a:lnTo>
                  <a:lnTo>
                    <a:pt x="299" y="754"/>
                  </a:lnTo>
                  <a:lnTo>
                    <a:pt x="285" y="785"/>
                  </a:lnTo>
                  <a:lnTo>
                    <a:pt x="284" y="794"/>
                  </a:lnTo>
                  <a:lnTo>
                    <a:pt x="285" y="785"/>
                  </a:lnTo>
                  <a:lnTo>
                    <a:pt x="284" y="789"/>
                  </a:lnTo>
                  <a:lnTo>
                    <a:pt x="284" y="794"/>
                  </a:lnTo>
                  <a:lnTo>
                    <a:pt x="313" y="78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154400" y="2882520"/>
              <a:ext cx="63720" cy="125280"/>
            </a:xfrm>
            <a:custGeom>
              <a:avLst/>
              <a:gdLst/>
              <a:ahLst/>
              <a:rect l="l" t="t" r="r" b="b"/>
              <a:pathLst>
                <a:path w="198" h="397">
                  <a:moveTo>
                    <a:pt x="187" y="397"/>
                  </a:moveTo>
                  <a:lnTo>
                    <a:pt x="188" y="395"/>
                  </a:lnTo>
                  <a:lnTo>
                    <a:pt x="193" y="382"/>
                  </a:lnTo>
                  <a:lnTo>
                    <a:pt x="196" y="370"/>
                  </a:lnTo>
                  <a:lnTo>
                    <a:pt x="198" y="356"/>
                  </a:lnTo>
                  <a:lnTo>
                    <a:pt x="198" y="344"/>
                  </a:lnTo>
                  <a:lnTo>
                    <a:pt x="197" y="331"/>
                  </a:lnTo>
                  <a:lnTo>
                    <a:pt x="196" y="317"/>
                  </a:lnTo>
                  <a:lnTo>
                    <a:pt x="192" y="305"/>
                  </a:lnTo>
                  <a:lnTo>
                    <a:pt x="188" y="291"/>
                  </a:lnTo>
                  <a:lnTo>
                    <a:pt x="177" y="265"/>
                  </a:lnTo>
                  <a:lnTo>
                    <a:pt x="164" y="238"/>
                  </a:lnTo>
                  <a:lnTo>
                    <a:pt x="149" y="213"/>
                  </a:lnTo>
                  <a:lnTo>
                    <a:pt x="133" y="185"/>
                  </a:lnTo>
                  <a:lnTo>
                    <a:pt x="98" y="135"/>
                  </a:lnTo>
                  <a:lnTo>
                    <a:pt x="66" y="85"/>
                  </a:lnTo>
                  <a:lnTo>
                    <a:pt x="53" y="61"/>
                  </a:lnTo>
                  <a:lnTo>
                    <a:pt x="42" y="39"/>
                  </a:lnTo>
                  <a:lnTo>
                    <a:pt x="38" y="29"/>
                  </a:lnTo>
                  <a:lnTo>
                    <a:pt x="34" y="19"/>
                  </a:lnTo>
                  <a:lnTo>
                    <a:pt x="32" y="10"/>
                  </a:lnTo>
                  <a:lnTo>
                    <a:pt x="29" y="0"/>
                  </a:lnTo>
                  <a:lnTo>
                    <a:pt x="0" y="5"/>
                  </a:lnTo>
                  <a:lnTo>
                    <a:pt x="2" y="16"/>
                  </a:lnTo>
                  <a:lnTo>
                    <a:pt x="6" y="28"/>
                  </a:lnTo>
                  <a:lnTo>
                    <a:pt x="10" y="40"/>
                  </a:lnTo>
                  <a:lnTo>
                    <a:pt x="15" y="51"/>
                  </a:lnTo>
                  <a:lnTo>
                    <a:pt x="27" y="76"/>
                  </a:lnTo>
                  <a:lnTo>
                    <a:pt x="42" y="101"/>
                  </a:lnTo>
                  <a:lnTo>
                    <a:pt x="74" y="151"/>
                  </a:lnTo>
                  <a:lnTo>
                    <a:pt x="107" y="203"/>
                  </a:lnTo>
                  <a:lnTo>
                    <a:pt x="123" y="227"/>
                  </a:lnTo>
                  <a:lnTo>
                    <a:pt x="138" y="253"/>
                  </a:lnTo>
                  <a:lnTo>
                    <a:pt x="150" y="278"/>
                  </a:lnTo>
                  <a:lnTo>
                    <a:pt x="160" y="301"/>
                  </a:lnTo>
                  <a:lnTo>
                    <a:pt x="162" y="312"/>
                  </a:lnTo>
                  <a:lnTo>
                    <a:pt x="166" y="323"/>
                  </a:lnTo>
                  <a:lnTo>
                    <a:pt x="167" y="334"/>
                  </a:lnTo>
                  <a:lnTo>
                    <a:pt x="168" y="344"/>
                  </a:lnTo>
                  <a:lnTo>
                    <a:pt x="167" y="354"/>
                  </a:lnTo>
                  <a:lnTo>
                    <a:pt x="166" y="364"/>
                  </a:lnTo>
                  <a:lnTo>
                    <a:pt x="165" y="372"/>
                  </a:lnTo>
                  <a:lnTo>
                    <a:pt x="161" y="382"/>
                  </a:lnTo>
                  <a:lnTo>
                    <a:pt x="162" y="380"/>
                  </a:lnTo>
                  <a:lnTo>
                    <a:pt x="187" y="397"/>
                  </a:lnTo>
                  <a:lnTo>
                    <a:pt x="187" y="396"/>
                  </a:lnTo>
                  <a:lnTo>
                    <a:pt x="188" y="395"/>
                  </a:lnTo>
                  <a:lnTo>
                    <a:pt x="187" y="3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143240" y="3003480"/>
              <a:ext cx="71640" cy="1872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30" y="48"/>
                  </a:moveTo>
                  <a:lnTo>
                    <a:pt x="20" y="61"/>
                  </a:lnTo>
                  <a:lnTo>
                    <a:pt x="30" y="59"/>
                  </a:lnTo>
                  <a:lnTo>
                    <a:pt x="41" y="58"/>
                  </a:lnTo>
                  <a:lnTo>
                    <a:pt x="52" y="56"/>
                  </a:lnTo>
                  <a:lnTo>
                    <a:pt x="65" y="56"/>
                  </a:lnTo>
                  <a:lnTo>
                    <a:pt x="93" y="58"/>
                  </a:lnTo>
                  <a:lnTo>
                    <a:pt x="121" y="58"/>
                  </a:lnTo>
                  <a:lnTo>
                    <a:pt x="134" y="58"/>
                  </a:lnTo>
                  <a:lnTo>
                    <a:pt x="149" y="56"/>
                  </a:lnTo>
                  <a:lnTo>
                    <a:pt x="163" y="54"/>
                  </a:lnTo>
                  <a:lnTo>
                    <a:pt x="176" y="50"/>
                  </a:lnTo>
                  <a:lnTo>
                    <a:pt x="190" y="45"/>
                  </a:lnTo>
                  <a:lnTo>
                    <a:pt x="202" y="38"/>
                  </a:lnTo>
                  <a:lnTo>
                    <a:pt x="213" y="28"/>
                  </a:lnTo>
                  <a:lnTo>
                    <a:pt x="223" y="17"/>
                  </a:lnTo>
                  <a:lnTo>
                    <a:pt x="198" y="0"/>
                  </a:lnTo>
                  <a:lnTo>
                    <a:pt x="192" y="7"/>
                  </a:lnTo>
                  <a:lnTo>
                    <a:pt x="185" y="13"/>
                  </a:lnTo>
                  <a:lnTo>
                    <a:pt x="176" y="18"/>
                  </a:lnTo>
                  <a:lnTo>
                    <a:pt x="168" y="22"/>
                  </a:lnTo>
                  <a:lnTo>
                    <a:pt x="156" y="24"/>
                  </a:lnTo>
                  <a:lnTo>
                    <a:pt x="145" y="26"/>
                  </a:lnTo>
                  <a:lnTo>
                    <a:pt x="133" y="27"/>
                  </a:lnTo>
                  <a:lnTo>
                    <a:pt x="121" y="28"/>
                  </a:lnTo>
                  <a:lnTo>
                    <a:pt x="93" y="27"/>
                  </a:lnTo>
                  <a:lnTo>
                    <a:pt x="65" y="27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29"/>
                  </a:lnTo>
                  <a:lnTo>
                    <a:pt x="11" y="33"/>
                  </a:lnTo>
                  <a:lnTo>
                    <a:pt x="0" y="45"/>
                  </a:lnTo>
                  <a:lnTo>
                    <a:pt x="11" y="33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143240" y="3017520"/>
              <a:ext cx="15840" cy="61560"/>
            </a:xfrm>
            <a:custGeom>
              <a:avLst/>
              <a:gdLst/>
              <a:ahLst/>
              <a:rect l="l" t="t" r="r" b="b"/>
              <a:pathLst>
                <a:path w="52" h="196">
                  <a:moveTo>
                    <a:pt x="34" y="196"/>
                  </a:moveTo>
                  <a:lnTo>
                    <a:pt x="50" y="180"/>
                  </a:lnTo>
                  <a:lnTo>
                    <a:pt x="47" y="158"/>
                  </a:lnTo>
                  <a:lnTo>
                    <a:pt x="44" y="136"/>
                  </a:lnTo>
                  <a:lnTo>
                    <a:pt x="41" y="112"/>
                  </a:lnTo>
                  <a:lnTo>
                    <a:pt x="37" y="89"/>
                  </a:lnTo>
                  <a:lnTo>
                    <a:pt x="33" y="67"/>
                  </a:lnTo>
                  <a:lnTo>
                    <a:pt x="32" y="45"/>
                  </a:lnTo>
                  <a:lnTo>
                    <a:pt x="31" y="24"/>
                  </a:lnTo>
                  <a:lnTo>
                    <a:pt x="31" y="3"/>
                  </a:lnTo>
                  <a:lnTo>
                    <a:pt x="1" y="0"/>
                  </a:lnTo>
                  <a:lnTo>
                    <a:pt x="0" y="24"/>
                  </a:lnTo>
                  <a:lnTo>
                    <a:pt x="1" y="47"/>
                  </a:lnTo>
                  <a:lnTo>
                    <a:pt x="4" y="70"/>
                  </a:lnTo>
                  <a:lnTo>
                    <a:pt x="7" y="94"/>
                  </a:lnTo>
                  <a:lnTo>
                    <a:pt x="11" y="117"/>
                  </a:lnTo>
                  <a:lnTo>
                    <a:pt x="14" y="139"/>
                  </a:lnTo>
                  <a:lnTo>
                    <a:pt x="17" y="161"/>
                  </a:lnTo>
                  <a:lnTo>
                    <a:pt x="20" y="182"/>
                  </a:lnTo>
                  <a:lnTo>
                    <a:pt x="34" y="166"/>
                  </a:lnTo>
                  <a:lnTo>
                    <a:pt x="34" y="196"/>
                  </a:lnTo>
                  <a:lnTo>
                    <a:pt x="52" y="196"/>
                  </a:lnTo>
                  <a:lnTo>
                    <a:pt x="50" y="180"/>
                  </a:lnTo>
                  <a:lnTo>
                    <a:pt x="34" y="1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027320" y="3070080"/>
              <a:ext cx="127080" cy="9000"/>
            </a:xfrm>
            <a:custGeom>
              <a:avLst/>
              <a:gdLst/>
              <a:ahLst/>
              <a:rect l="l" t="t" r="r" b="b"/>
              <a:pathLst>
                <a:path w="397" h="30">
                  <a:moveTo>
                    <a:pt x="44" y="5"/>
                  </a:moveTo>
                  <a:lnTo>
                    <a:pt x="33" y="30"/>
                  </a:lnTo>
                  <a:lnTo>
                    <a:pt x="79" y="30"/>
                  </a:lnTo>
                  <a:lnTo>
                    <a:pt x="124" y="30"/>
                  </a:lnTo>
                  <a:lnTo>
                    <a:pt x="169" y="30"/>
                  </a:lnTo>
                  <a:lnTo>
                    <a:pt x="214" y="30"/>
                  </a:lnTo>
                  <a:lnTo>
                    <a:pt x="260" y="30"/>
                  </a:lnTo>
                  <a:lnTo>
                    <a:pt x="306" y="30"/>
                  </a:lnTo>
                  <a:lnTo>
                    <a:pt x="352" y="30"/>
                  </a:lnTo>
                  <a:lnTo>
                    <a:pt x="397" y="30"/>
                  </a:lnTo>
                  <a:lnTo>
                    <a:pt x="397" y="0"/>
                  </a:lnTo>
                  <a:lnTo>
                    <a:pt x="352" y="0"/>
                  </a:lnTo>
                  <a:lnTo>
                    <a:pt x="306" y="0"/>
                  </a:lnTo>
                  <a:lnTo>
                    <a:pt x="260" y="0"/>
                  </a:lnTo>
                  <a:lnTo>
                    <a:pt x="214" y="0"/>
                  </a:lnTo>
                  <a:lnTo>
                    <a:pt x="169" y="0"/>
                  </a:lnTo>
                  <a:lnTo>
                    <a:pt x="124" y="0"/>
                  </a:lnTo>
                  <a:lnTo>
                    <a:pt x="79" y="0"/>
                  </a:lnTo>
                  <a:lnTo>
                    <a:pt x="33" y="0"/>
                  </a:lnTo>
                  <a:lnTo>
                    <a:pt x="22" y="25"/>
                  </a:lnTo>
                  <a:lnTo>
                    <a:pt x="33" y="0"/>
                  </a:lnTo>
                  <a:lnTo>
                    <a:pt x="0" y="0"/>
                  </a:lnTo>
                  <a:lnTo>
                    <a:pt x="22" y="2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035600" y="3071520"/>
              <a:ext cx="69840" cy="63360"/>
            </a:xfrm>
            <a:custGeom>
              <a:avLst/>
              <a:gdLst/>
              <a:ahLst/>
              <a:rect l="l" t="t" r="r" b="b"/>
              <a:pathLst>
                <a:path w="219" h="200">
                  <a:moveTo>
                    <a:pt x="211" y="195"/>
                  </a:moveTo>
                  <a:lnTo>
                    <a:pt x="206" y="174"/>
                  </a:lnTo>
                  <a:lnTo>
                    <a:pt x="187" y="163"/>
                  </a:lnTo>
                  <a:lnTo>
                    <a:pt x="170" y="152"/>
                  </a:lnTo>
                  <a:lnTo>
                    <a:pt x="155" y="140"/>
                  </a:lnTo>
                  <a:lnTo>
                    <a:pt x="142" y="129"/>
                  </a:lnTo>
                  <a:lnTo>
                    <a:pt x="117" y="107"/>
                  </a:lnTo>
                  <a:lnTo>
                    <a:pt x="96" y="86"/>
                  </a:lnTo>
                  <a:lnTo>
                    <a:pt x="77" y="65"/>
                  </a:lnTo>
                  <a:lnTo>
                    <a:pt x="59" y="45"/>
                  </a:lnTo>
                  <a:lnTo>
                    <a:pt x="42" y="22"/>
                  </a:lnTo>
                  <a:lnTo>
                    <a:pt x="22" y="0"/>
                  </a:lnTo>
                  <a:lnTo>
                    <a:pt x="0" y="20"/>
                  </a:lnTo>
                  <a:lnTo>
                    <a:pt x="19" y="42"/>
                  </a:lnTo>
                  <a:lnTo>
                    <a:pt x="36" y="63"/>
                  </a:lnTo>
                  <a:lnTo>
                    <a:pt x="54" y="85"/>
                  </a:lnTo>
                  <a:lnTo>
                    <a:pt x="74" y="107"/>
                  </a:lnTo>
                  <a:lnTo>
                    <a:pt x="96" y="129"/>
                  </a:lnTo>
                  <a:lnTo>
                    <a:pt x="122" y="153"/>
                  </a:lnTo>
                  <a:lnTo>
                    <a:pt x="137" y="164"/>
                  </a:lnTo>
                  <a:lnTo>
                    <a:pt x="154" y="176"/>
                  </a:lnTo>
                  <a:lnTo>
                    <a:pt x="171" y="187"/>
                  </a:lnTo>
                  <a:lnTo>
                    <a:pt x="190" y="200"/>
                  </a:lnTo>
                  <a:lnTo>
                    <a:pt x="186" y="179"/>
                  </a:lnTo>
                  <a:lnTo>
                    <a:pt x="211" y="195"/>
                  </a:lnTo>
                  <a:lnTo>
                    <a:pt x="219" y="182"/>
                  </a:lnTo>
                  <a:lnTo>
                    <a:pt x="206" y="174"/>
                  </a:lnTo>
                  <a:lnTo>
                    <a:pt x="211" y="1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021200" y="3128760"/>
              <a:ext cx="81000" cy="85320"/>
            </a:xfrm>
            <a:custGeom>
              <a:avLst/>
              <a:gdLst/>
              <a:ahLst/>
              <a:rect l="l" t="t" r="r" b="b"/>
              <a:pathLst>
                <a:path w="255" h="270">
                  <a:moveTo>
                    <a:pt x="5" y="269"/>
                  </a:moveTo>
                  <a:lnTo>
                    <a:pt x="14" y="268"/>
                  </a:lnTo>
                  <a:lnTo>
                    <a:pt x="37" y="255"/>
                  </a:lnTo>
                  <a:lnTo>
                    <a:pt x="59" y="243"/>
                  </a:lnTo>
                  <a:lnTo>
                    <a:pt x="79" y="228"/>
                  </a:lnTo>
                  <a:lnTo>
                    <a:pt x="98" y="215"/>
                  </a:lnTo>
                  <a:lnTo>
                    <a:pt x="116" y="200"/>
                  </a:lnTo>
                  <a:lnTo>
                    <a:pt x="132" y="184"/>
                  </a:lnTo>
                  <a:lnTo>
                    <a:pt x="146" y="168"/>
                  </a:lnTo>
                  <a:lnTo>
                    <a:pt x="160" y="152"/>
                  </a:lnTo>
                  <a:lnTo>
                    <a:pt x="186" y="119"/>
                  </a:lnTo>
                  <a:lnTo>
                    <a:pt x="209" y="86"/>
                  </a:lnTo>
                  <a:lnTo>
                    <a:pt x="231" y="51"/>
                  </a:lnTo>
                  <a:lnTo>
                    <a:pt x="255" y="16"/>
                  </a:lnTo>
                  <a:lnTo>
                    <a:pt x="230" y="0"/>
                  </a:lnTo>
                  <a:lnTo>
                    <a:pt x="207" y="34"/>
                  </a:lnTo>
                  <a:lnTo>
                    <a:pt x="185" y="68"/>
                  </a:lnTo>
                  <a:lnTo>
                    <a:pt x="161" y="102"/>
                  </a:lnTo>
                  <a:lnTo>
                    <a:pt x="137" y="134"/>
                  </a:lnTo>
                  <a:lnTo>
                    <a:pt x="124" y="148"/>
                  </a:lnTo>
                  <a:lnTo>
                    <a:pt x="110" y="163"/>
                  </a:lnTo>
                  <a:lnTo>
                    <a:pt x="95" y="178"/>
                  </a:lnTo>
                  <a:lnTo>
                    <a:pt x="79" y="191"/>
                  </a:lnTo>
                  <a:lnTo>
                    <a:pt x="62" y="205"/>
                  </a:lnTo>
                  <a:lnTo>
                    <a:pt x="43" y="217"/>
                  </a:lnTo>
                  <a:lnTo>
                    <a:pt x="22" y="230"/>
                  </a:lnTo>
                  <a:lnTo>
                    <a:pt x="0" y="241"/>
                  </a:lnTo>
                  <a:lnTo>
                    <a:pt x="9" y="239"/>
                  </a:lnTo>
                  <a:lnTo>
                    <a:pt x="5" y="269"/>
                  </a:lnTo>
                  <a:lnTo>
                    <a:pt x="10" y="270"/>
                  </a:lnTo>
                  <a:lnTo>
                    <a:pt x="14" y="268"/>
                  </a:lnTo>
                  <a:lnTo>
                    <a:pt x="5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873600" y="3162240"/>
              <a:ext cx="150840" cy="50400"/>
            </a:xfrm>
            <a:custGeom>
              <a:avLst/>
              <a:gdLst/>
              <a:ahLst/>
              <a:rect l="l" t="t" r="r" b="b"/>
              <a:pathLst>
                <a:path w="474" h="160">
                  <a:moveTo>
                    <a:pt x="23" y="27"/>
                  </a:moveTo>
                  <a:lnTo>
                    <a:pt x="7" y="32"/>
                  </a:lnTo>
                  <a:lnTo>
                    <a:pt x="52" y="47"/>
                  </a:lnTo>
                  <a:lnTo>
                    <a:pt x="101" y="64"/>
                  </a:lnTo>
                  <a:lnTo>
                    <a:pt x="153" y="82"/>
                  </a:lnTo>
                  <a:lnTo>
                    <a:pt x="208" y="102"/>
                  </a:lnTo>
                  <a:lnTo>
                    <a:pt x="238" y="111"/>
                  </a:lnTo>
                  <a:lnTo>
                    <a:pt x="267" y="121"/>
                  </a:lnTo>
                  <a:lnTo>
                    <a:pt x="299" y="129"/>
                  </a:lnTo>
                  <a:lnTo>
                    <a:pt x="331" y="137"/>
                  </a:lnTo>
                  <a:lnTo>
                    <a:pt x="364" y="144"/>
                  </a:lnTo>
                  <a:lnTo>
                    <a:pt x="399" y="150"/>
                  </a:lnTo>
                  <a:lnTo>
                    <a:pt x="434" y="156"/>
                  </a:lnTo>
                  <a:lnTo>
                    <a:pt x="470" y="160"/>
                  </a:lnTo>
                  <a:lnTo>
                    <a:pt x="474" y="130"/>
                  </a:lnTo>
                  <a:lnTo>
                    <a:pt x="438" y="127"/>
                  </a:lnTo>
                  <a:lnTo>
                    <a:pt x="404" y="121"/>
                  </a:lnTo>
                  <a:lnTo>
                    <a:pt x="370" y="114"/>
                  </a:lnTo>
                  <a:lnTo>
                    <a:pt x="337" y="107"/>
                  </a:lnTo>
                  <a:lnTo>
                    <a:pt x="306" y="100"/>
                  </a:lnTo>
                  <a:lnTo>
                    <a:pt x="276" y="91"/>
                  </a:lnTo>
                  <a:lnTo>
                    <a:pt x="246" y="82"/>
                  </a:lnTo>
                  <a:lnTo>
                    <a:pt x="218" y="73"/>
                  </a:lnTo>
                  <a:lnTo>
                    <a:pt x="162" y="54"/>
                  </a:lnTo>
                  <a:lnTo>
                    <a:pt x="111" y="36"/>
                  </a:lnTo>
                  <a:lnTo>
                    <a:pt x="62" y="19"/>
                  </a:lnTo>
                  <a:lnTo>
                    <a:pt x="16" y="4"/>
                  </a:lnTo>
                  <a:lnTo>
                    <a:pt x="0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9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797280" y="3165120"/>
              <a:ext cx="84240" cy="144360"/>
            </a:xfrm>
            <a:custGeom>
              <a:avLst/>
              <a:gdLst/>
              <a:ahLst/>
              <a:rect l="l" t="t" r="r" b="b"/>
              <a:pathLst>
                <a:path w="263" h="455">
                  <a:moveTo>
                    <a:pt x="8" y="446"/>
                  </a:moveTo>
                  <a:lnTo>
                    <a:pt x="29" y="439"/>
                  </a:lnTo>
                  <a:lnTo>
                    <a:pt x="52" y="385"/>
                  </a:lnTo>
                  <a:lnTo>
                    <a:pt x="75" y="331"/>
                  </a:lnTo>
                  <a:lnTo>
                    <a:pt x="101" y="276"/>
                  </a:lnTo>
                  <a:lnTo>
                    <a:pt x="128" y="224"/>
                  </a:lnTo>
                  <a:lnTo>
                    <a:pt x="142" y="198"/>
                  </a:lnTo>
                  <a:lnTo>
                    <a:pt x="158" y="172"/>
                  </a:lnTo>
                  <a:lnTo>
                    <a:pt x="172" y="145"/>
                  </a:lnTo>
                  <a:lnTo>
                    <a:pt x="188" y="119"/>
                  </a:lnTo>
                  <a:lnTo>
                    <a:pt x="206" y="94"/>
                  </a:lnTo>
                  <a:lnTo>
                    <a:pt x="224" y="69"/>
                  </a:lnTo>
                  <a:lnTo>
                    <a:pt x="243" y="43"/>
                  </a:lnTo>
                  <a:lnTo>
                    <a:pt x="263" y="18"/>
                  </a:lnTo>
                  <a:lnTo>
                    <a:pt x="240" y="0"/>
                  </a:lnTo>
                  <a:lnTo>
                    <a:pt x="219" y="26"/>
                  </a:lnTo>
                  <a:lnTo>
                    <a:pt x="200" y="51"/>
                  </a:lnTo>
                  <a:lnTo>
                    <a:pt x="181" y="77"/>
                  </a:lnTo>
                  <a:lnTo>
                    <a:pt x="164" y="103"/>
                  </a:lnTo>
                  <a:lnTo>
                    <a:pt x="147" y="130"/>
                  </a:lnTo>
                  <a:lnTo>
                    <a:pt x="131" y="156"/>
                  </a:lnTo>
                  <a:lnTo>
                    <a:pt x="116" y="183"/>
                  </a:lnTo>
                  <a:lnTo>
                    <a:pt x="101" y="210"/>
                  </a:lnTo>
                  <a:lnTo>
                    <a:pt x="74" y="264"/>
                  </a:lnTo>
                  <a:lnTo>
                    <a:pt x="48" y="318"/>
                  </a:lnTo>
                  <a:lnTo>
                    <a:pt x="24" y="372"/>
                  </a:lnTo>
                  <a:lnTo>
                    <a:pt x="0" y="428"/>
                  </a:lnTo>
                  <a:lnTo>
                    <a:pt x="22" y="420"/>
                  </a:lnTo>
                  <a:lnTo>
                    <a:pt x="8" y="446"/>
                  </a:lnTo>
                  <a:lnTo>
                    <a:pt x="22" y="455"/>
                  </a:lnTo>
                  <a:lnTo>
                    <a:pt x="29" y="439"/>
                  </a:lnTo>
                  <a:lnTo>
                    <a:pt x="8" y="4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678120" y="3236760"/>
              <a:ext cx="125640" cy="6948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15" y="2"/>
                  </a:moveTo>
                  <a:lnTo>
                    <a:pt x="19" y="27"/>
                  </a:lnTo>
                  <a:lnTo>
                    <a:pt x="64" y="50"/>
                  </a:lnTo>
                  <a:lnTo>
                    <a:pt x="110" y="75"/>
                  </a:lnTo>
                  <a:lnTo>
                    <a:pt x="155" y="99"/>
                  </a:lnTo>
                  <a:lnTo>
                    <a:pt x="201" y="124"/>
                  </a:lnTo>
                  <a:lnTo>
                    <a:pt x="246" y="148"/>
                  </a:lnTo>
                  <a:lnTo>
                    <a:pt x="291" y="173"/>
                  </a:lnTo>
                  <a:lnTo>
                    <a:pt x="336" y="198"/>
                  </a:lnTo>
                  <a:lnTo>
                    <a:pt x="382" y="222"/>
                  </a:lnTo>
                  <a:lnTo>
                    <a:pt x="396" y="196"/>
                  </a:lnTo>
                  <a:lnTo>
                    <a:pt x="351" y="172"/>
                  </a:lnTo>
                  <a:lnTo>
                    <a:pt x="305" y="146"/>
                  </a:lnTo>
                  <a:lnTo>
                    <a:pt x="260" y="121"/>
                  </a:lnTo>
                  <a:lnTo>
                    <a:pt x="214" y="97"/>
                  </a:lnTo>
                  <a:lnTo>
                    <a:pt x="169" y="72"/>
                  </a:lnTo>
                  <a:lnTo>
                    <a:pt x="125" y="48"/>
                  </a:lnTo>
                  <a:lnTo>
                    <a:pt x="78" y="23"/>
                  </a:lnTo>
                  <a:lnTo>
                    <a:pt x="32" y="0"/>
                  </a:lnTo>
                  <a:lnTo>
                    <a:pt x="36" y="23"/>
                  </a:lnTo>
                  <a:lnTo>
                    <a:pt x="15" y="2"/>
                  </a:lnTo>
                  <a:lnTo>
                    <a:pt x="0" y="17"/>
                  </a:lnTo>
                  <a:lnTo>
                    <a:pt x="19" y="27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683160" y="3085920"/>
              <a:ext cx="79200" cy="158400"/>
            </a:xfrm>
            <a:custGeom>
              <a:avLst/>
              <a:gdLst/>
              <a:ahLst/>
              <a:rect l="l" t="t" r="r" b="b"/>
              <a:pathLst>
                <a:path w="251" h="496">
                  <a:moveTo>
                    <a:pt x="225" y="21"/>
                  </a:moveTo>
                  <a:lnTo>
                    <a:pt x="222" y="10"/>
                  </a:lnTo>
                  <a:lnTo>
                    <a:pt x="219" y="41"/>
                  </a:lnTo>
                  <a:lnTo>
                    <a:pt x="215" y="72"/>
                  </a:lnTo>
                  <a:lnTo>
                    <a:pt x="210" y="102"/>
                  </a:lnTo>
                  <a:lnTo>
                    <a:pt x="204" y="132"/>
                  </a:lnTo>
                  <a:lnTo>
                    <a:pt x="196" y="163"/>
                  </a:lnTo>
                  <a:lnTo>
                    <a:pt x="186" y="192"/>
                  </a:lnTo>
                  <a:lnTo>
                    <a:pt x="175" y="222"/>
                  </a:lnTo>
                  <a:lnTo>
                    <a:pt x="161" y="251"/>
                  </a:lnTo>
                  <a:lnTo>
                    <a:pt x="146" y="279"/>
                  </a:lnTo>
                  <a:lnTo>
                    <a:pt x="130" y="308"/>
                  </a:lnTo>
                  <a:lnTo>
                    <a:pt x="113" y="337"/>
                  </a:lnTo>
                  <a:lnTo>
                    <a:pt x="94" y="366"/>
                  </a:lnTo>
                  <a:lnTo>
                    <a:pt x="73" y="393"/>
                  </a:lnTo>
                  <a:lnTo>
                    <a:pt x="49" y="421"/>
                  </a:lnTo>
                  <a:lnTo>
                    <a:pt x="26" y="448"/>
                  </a:lnTo>
                  <a:lnTo>
                    <a:pt x="0" y="475"/>
                  </a:lnTo>
                  <a:lnTo>
                    <a:pt x="21" y="496"/>
                  </a:lnTo>
                  <a:lnTo>
                    <a:pt x="48" y="469"/>
                  </a:lnTo>
                  <a:lnTo>
                    <a:pt x="73" y="441"/>
                  </a:lnTo>
                  <a:lnTo>
                    <a:pt x="96" y="411"/>
                  </a:lnTo>
                  <a:lnTo>
                    <a:pt x="118" y="383"/>
                  </a:lnTo>
                  <a:lnTo>
                    <a:pt x="138" y="353"/>
                  </a:lnTo>
                  <a:lnTo>
                    <a:pt x="156" y="324"/>
                  </a:lnTo>
                  <a:lnTo>
                    <a:pt x="174" y="294"/>
                  </a:lnTo>
                  <a:lnTo>
                    <a:pt x="188" y="263"/>
                  </a:lnTo>
                  <a:lnTo>
                    <a:pt x="202" y="233"/>
                  </a:lnTo>
                  <a:lnTo>
                    <a:pt x="214" y="202"/>
                  </a:lnTo>
                  <a:lnTo>
                    <a:pt x="224" y="171"/>
                  </a:lnTo>
                  <a:lnTo>
                    <a:pt x="233" y="139"/>
                  </a:lnTo>
                  <a:lnTo>
                    <a:pt x="240" y="108"/>
                  </a:lnTo>
                  <a:lnTo>
                    <a:pt x="245" y="76"/>
                  </a:lnTo>
                  <a:lnTo>
                    <a:pt x="249" y="45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51" y="11"/>
                  </a:lnTo>
                  <a:lnTo>
                    <a:pt x="251" y="5"/>
                  </a:lnTo>
                  <a:lnTo>
                    <a:pt x="247" y="0"/>
                  </a:lnTo>
                  <a:lnTo>
                    <a:pt x="225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619440" y="2819160"/>
              <a:ext cx="142920" cy="274320"/>
            </a:xfrm>
            <a:custGeom>
              <a:avLst/>
              <a:gdLst/>
              <a:ahLst/>
              <a:rect l="l" t="t" r="r" b="b"/>
              <a:pathLst>
                <a:path w="450" h="865">
                  <a:moveTo>
                    <a:pt x="3" y="0"/>
                  </a:moveTo>
                  <a:lnTo>
                    <a:pt x="1" y="10"/>
                  </a:lnTo>
                  <a:lnTo>
                    <a:pt x="16" y="75"/>
                  </a:lnTo>
                  <a:lnTo>
                    <a:pt x="33" y="138"/>
                  </a:lnTo>
                  <a:lnTo>
                    <a:pt x="52" y="200"/>
                  </a:lnTo>
                  <a:lnTo>
                    <a:pt x="73" y="260"/>
                  </a:lnTo>
                  <a:lnTo>
                    <a:pt x="94" y="318"/>
                  </a:lnTo>
                  <a:lnTo>
                    <a:pt x="116" y="376"/>
                  </a:lnTo>
                  <a:lnTo>
                    <a:pt x="140" y="431"/>
                  </a:lnTo>
                  <a:lnTo>
                    <a:pt x="166" y="485"/>
                  </a:lnTo>
                  <a:lnTo>
                    <a:pt x="193" y="538"/>
                  </a:lnTo>
                  <a:lnTo>
                    <a:pt x="223" y="590"/>
                  </a:lnTo>
                  <a:lnTo>
                    <a:pt x="254" y="639"/>
                  </a:lnTo>
                  <a:lnTo>
                    <a:pt x="286" y="687"/>
                  </a:lnTo>
                  <a:lnTo>
                    <a:pt x="319" y="734"/>
                  </a:lnTo>
                  <a:lnTo>
                    <a:pt x="353" y="779"/>
                  </a:lnTo>
                  <a:lnTo>
                    <a:pt x="390" y="823"/>
                  </a:lnTo>
                  <a:lnTo>
                    <a:pt x="428" y="865"/>
                  </a:lnTo>
                  <a:lnTo>
                    <a:pt x="450" y="844"/>
                  </a:lnTo>
                  <a:lnTo>
                    <a:pt x="412" y="804"/>
                  </a:lnTo>
                  <a:lnTo>
                    <a:pt x="377" y="761"/>
                  </a:lnTo>
                  <a:lnTo>
                    <a:pt x="342" y="716"/>
                  </a:lnTo>
                  <a:lnTo>
                    <a:pt x="310" y="670"/>
                  </a:lnTo>
                  <a:lnTo>
                    <a:pt x="278" y="623"/>
                  </a:lnTo>
                  <a:lnTo>
                    <a:pt x="249" y="574"/>
                  </a:lnTo>
                  <a:lnTo>
                    <a:pt x="220" y="523"/>
                  </a:lnTo>
                  <a:lnTo>
                    <a:pt x="193" y="472"/>
                  </a:lnTo>
                  <a:lnTo>
                    <a:pt x="167" y="419"/>
                  </a:lnTo>
                  <a:lnTo>
                    <a:pt x="144" y="363"/>
                  </a:lnTo>
                  <a:lnTo>
                    <a:pt x="122" y="308"/>
                  </a:lnTo>
                  <a:lnTo>
                    <a:pt x="101" y="250"/>
                  </a:lnTo>
                  <a:lnTo>
                    <a:pt x="81" y="190"/>
                  </a:lnTo>
                  <a:lnTo>
                    <a:pt x="63" y="130"/>
                  </a:lnTo>
                  <a:lnTo>
                    <a:pt x="46" y="68"/>
                  </a:lnTo>
                  <a:lnTo>
                    <a:pt x="31" y="4"/>
                  </a:lnTo>
                  <a:lnTo>
                    <a:pt x="28" y="14"/>
                  </a:lnTo>
                  <a:lnTo>
                    <a:pt x="3" y="0"/>
                  </a:lnTo>
                  <a:lnTo>
                    <a:pt x="0" y="5"/>
                  </a:lnTo>
                  <a:lnTo>
                    <a:pt x="1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619440" y="2562120"/>
              <a:ext cx="451080" cy="259920"/>
            </a:xfrm>
            <a:custGeom>
              <a:avLst/>
              <a:gdLst/>
              <a:ahLst/>
              <a:rect l="l" t="t" r="r" b="b"/>
              <a:pathLst>
                <a:path w="1418" h="823">
                  <a:moveTo>
                    <a:pt x="1415" y="220"/>
                  </a:moveTo>
                  <a:lnTo>
                    <a:pt x="1418" y="223"/>
                  </a:lnTo>
                  <a:lnTo>
                    <a:pt x="1392" y="201"/>
                  </a:lnTo>
                  <a:lnTo>
                    <a:pt x="1365" y="180"/>
                  </a:lnTo>
                  <a:lnTo>
                    <a:pt x="1339" y="160"/>
                  </a:lnTo>
                  <a:lnTo>
                    <a:pt x="1312" y="142"/>
                  </a:lnTo>
                  <a:lnTo>
                    <a:pt x="1286" y="124"/>
                  </a:lnTo>
                  <a:lnTo>
                    <a:pt x="1260" y="108"/>
                  </a:lnTo>
                  <a:lnTo>
                    <a:pt x="1235" y="94"/>
                  </a:lnTo>
                  <a:lnTo>
                    <a:pt x="1209" y="80"/>
                  </a:lnTo>
                  <a:lnTo>
                    <a:pt x="1184" y="68"/>
                  </a:lnTo>
                  <a:lnTo>
                    <a:pt x="1158" y="55"/>
                  </a:lnTo>
                  <a:lnTo>
                    <a:pt x="1132" y="46"/>
                  </a:lnTo>
                  <a:lnTo>
                    <a:pt x="1108" y="36"/>
                  </a:lnTo>
                  <a:lnTo>
                    <a:pt x="1083" y="28"/>
                  </a:lnTo>
                  <a:lnTo>
                    <a:pt x="1059" y="21"/>
                  </a:lnTo>
                  <a:lnTo>
                    <a:pt x="1034" y="15"/>
                  </a:lnTo>
                  <a:lnTo>
                    <a:pt x="1009" y="10"/>
                  </a:lnTo>
                  <a:lnTo>
                    <a:pt x="985" y="5"/>
                  </a:lnTo>
                  <a:lnTo>
                    <a:pt x="960" y="3"/>
                  </a:lnTo>
                  <a:lnTo>
                    <a:pt x="937" y="0"/>
                  </a:lnTo>
                  <a:lnTo>
                    <a:pt x="912" y="0"/>
                  </a:lnTo>
                  <a:lnTo>
                    <a:pt x="889" y="0"/>
                  </a:lnTo>
                  <a:lnTo>
                    <a:pt x="866" y="1"/>
                  </a:lnTo>
                  <a:lnTo>
                    <a:pt x="842" y="3"/>
                  </a:lnTo>
                  <a:lnTo>
                    <a:pt x="819" y="6"/>
                  </a:lnTo>
                  <a:lnTo>
                    <a:pt x="795" y="10"/>
                  </a:lnTo>
                  <a:lnTo>
                    <a:pt x="772" y="15"/>
                  </a:lnTo>
                  <a:lnTo>
                    <a:pt x="749" y="21"/>
                  </a:lnTo>
                  <a:lnTo>
                    <a:pt x="727" y="28"/>
                  </a:lnTo>
                  <a:lnTo>
                    <a:pt x="704" y="36"/>
                  </a:lnTo>
                  <a:lnTo>
                    <a:pt x="681" y="44"/>
                  </a:lnTo>
                  <a:lnTo>
                    <a:pt x="659" y="54"/>
                  </a:lnTo>
                  <a:lnTo>
                    <a:pt x="637" y="65"/>
                  </a:lnTo>
                  <a:lnTo>
                    <a:pt x="616" y="76"/>
                  </a:lnTo>
                  <a:lnTo>
                    <a:pt x="594" y="89"/>
                  </a:lnTo>
                  <a:lnTo>
                    <a:pt x="572" y="102"/>
                  </a:lnTo>
                  <a:lnTo>
                    <a:pt x="551" y="116"/>
                  </a:lnTo>
                  <a:lnTo>
                    <a:pt x="529" y="130"/>
                  </a:lnTo>
                  <a:lnTo>
                    <a:pt x="508" y="146"/>
                  </a:lnTo>
                  <a:lnTo>
                    <a:pt x="487" y="164"/>
                  </a:lnTo>
                  <a:lnTo>
                    <a:pt x="466" y="181"/>
                  </a:lnTo>
                  <a:lnTo>
                    <a:pt x="445" y="198"/>
                  </a:lnTo>
                  <a:lnTo>
                    <a:pt x="424" y="218"/>
                  </a:lnTo>
                  <a:lnTo>
                    <a:pt x="404" y="238"/>
                  </a:lnTo>
                  <a:lnTo>
                    <a:pt x="383" y="257"/>
                  </a:lnTo>
                  <a:lnTo>
                    <a:pt x="343" y="300"/>
                  </a:lnTo>
                  <a:lnTo>
                    <a:pt x="303" y="347"/>
                  </a:lnTo>
                  <a:lnTo>
                    <a:pt x="264" y="395"/>
                  </a:lnTo>
                  <a:lnTo>
                    <a:pt x="225" y="447"/>
                  </a:lnTo>
                  <a:lnTo>
                    <a:pt x="187" y="501"/>
                  </a:lnTo>
                  <a:lnTo>
                    <a:pt x="148" y="557"/>
                  </a:lnTo>
                  <a:lnTo>
                    <a:pt x="110" y="616"/>
                  </a:lnTo>
                  <a:lnTo>
                    <a:pt x="73" y="679"/>
                  </a:lnTo>
                  <a:lnTo>
                    <a:pt x="37" y="743"/>
                  </a:lnTo>
                  <a:lnTo>
                    <a:pt x="0" y="809"/>
                  </a:lnTo>
                  <a:lnTo>
                    <a:pt x="25" y="823"/>
                  </a:lnTo>
                  <a:lnTo>
                    <a:pt x="62" y="758"/>
                  </a:lnTo>
                  <a:lnTo>
                    <a:pt x="99" y="694"/>
                  </a:lnTo>
                  <a:lnTo>
                    <a:pt x="136" y="632"/>
                  </a:lnTo>
                  <a:lnTo>
                    <a:pt x="173" y="575"/>
                  </a:lnTo>
                  <a:lnTo>
                    <a:pt x="211" y="518"/>
                  </a:lnTo>
                  <a:lnTo>
                    <a:pt x="249" y="464"/>
                  </a:lnTo>
                  <a:lnTo>
                    <a:pt x="287" y="413"/>
                  </a:lnTo>
                  <a:lnTo>
                    <a:pt x="327" y="365"/>
                  </a:lnTo>
                  <a:lnTo>
                    <a:pt x="365" y="321"/>
                  </a:lnTo>
                  <a:lnTo>
                    <a:pt x="406" y="278"/>
                  </a:lnTo>
                  <a:lnTo>
                    <a:pt x="425" y="258"/>
                  </a:lnTo>
                  <a:lnTo>
                    <a:pt x="445" y="239"/>
                  </a:lnTo>
                  <a:lnTo>
                    <a:pt x="465" y="222"/>
                  </a:lnTo>
                  <a:lnTo>
                    <a:pt x="485" y="203"/>
                  </a:lnTo>
                  <a:lnTo>
                    <a:pt x="505" y="187"/>
                  </a:lnTo>
                  <a:lnTo>
                    <a:pt x="526" y="171"/>
                  </a:lnTo>
                  <a:lnTo>
                    <a:pt x="547" y="155"/>
                  </a:lnTo>
                  <a:lnTo>
                    <a:pt x="567" y="142"/>
                  </a:lnTo>
                  <a:lnTo>
                    <a:pt x="588" y="128"/>
                  </a:lnTo>
                  <a:lnTo>
                    <a:pt x="608" y="115"/>
                  </a:lnTo>
                  <a:lnTo>
                    <a:pt x="629" y="103"/>
                  </a:lnTo>
                  <a:lnTo>
                    <a:pt x="650" y="92"/>
                  </a:lnTo>
                  <a:lnTo>
                    <a:pt x="671" y="81"/>
                  </a:lnTo>
                  <a:lnTo>
                    <a:pt x="693" y="73"/>
                  </a:lnTo>
                  <a:lnTo>
                    <a:pt x="714" y="64"/>
                  </a:lnTo>
                  <a:lnTo>
                    <a:pt x="736" y="57"/>
                  </a:lnTo>
                  <a:lnTo>
                    <a:pt x="757" y="51"/>
                  </a:lnTo>
                  <a:lnTo>
                    <a:pt x="779" y="44"/>
                  </a:lnTo>
                  <a:lnTo>
                    <a:pt x="800" y="39"/>
                  </a:lnTo>
                  <a:lnTo>
                    <a:pt x="822" y="36"/>
                  </a:lnTo>
                  <a:lnTo>
                    <a:pt x="845" y="33"/>
                  </a:lnTo>
                  <a:lnTo>
                    <a:pt x="867" y="31"/>
                  </a:lnTo>
                  <a:lnTo>
                    <a:pt x="890" y="30"/>
                  </a:lnTo>
                  <a:lnTo>
                    <a:pt x="912" y="30"/>
                  </a:lnTo>
                  <a:lnTo>
                    <a:pt x="934" y="31"/>
                  </a:lnTo>
                  <a:lnTo>
                    <a:pt x="958" y="32"/>
                  </a:lnTo>
                  <a:lnTo>
                    <a:pt x="981" y="36"/>
                  </a:lnTo>
                  <a:lnTo>
                    <a:pt x="1003" y="39"/>
                  </a:lnTo>
                  <a:lnTo>
                    <a:pt x="1027" y="44"/>
                  </a:lnTo>
                  <a:lnTo>
                    <a:pt x="1050" y="49"/>
                  </a:lnTo>
                  <a:lnTo>
                    <a:pt x="1075" y="57"/>
                  </a:lnTo>
                  <a:lnTo>
                    <a:pt x="1098" y="64"/>
                  </a:lnTo>
                  <a:lnTo>
                    <a:pt x="1123" y="74"/>
                  </a:lnTo>
                  <a:lnTo>
                    <a:pt x="1146" y="84"/>
                  </a:lnTo>
                  <a:lnTo>
                    <a:pt x="1171" y="95"/>
                  </a:lnTo>
                  <a:lnTo>
                    <a:pt x="1195" y="107"/>
                  </a:lnTo>
                  <a:lnTo>
                    <a:pt x="1220" y="121"/>
                  </a:lnTo>
                  <a:lnTo>
                    <a:pt x="1244" y="134"/>
                  </a:lnTo>
                  <a:lnTo>
                    <a:pt x="1270" y="150"/>
                  </a:lnTo>
                  <a:lnTo>
                    <a:pt x="1296" y="167"/>
                  </a:lnTo>
                  <a:lnTo>
                    <a:pt x="1321" y="185"/>
                  </a:lnTo>
                  <a:lnTo>
                    <a:pt x="1346" y="204"/>
                  </a:lnTo>
                  <a:lnTo>
                    <a:pt x="1372" y="224"/>
                  </a:lnTo>
                  <a:lnTo>
                    <a:pt x="1399" y="245"/>
                  </a:lnTo>
                  <a:lnTo>
                    <a:pt x="1402" y="247"/>
                  </a:lnTo>
                  <a:lnTo>
                    <a:pt x="1399" y="245"/>
                  </a:lnTo>
                  <a:lnTo>
                    <a:pt x="1401" y="246"/>
                  </a:lnTo>
                  <a:lnTo>
                    <a:pt x="1402" y="247"/>
                  </a:lnTo>
                  <a:lnTo>
                    <a:pt x="1415" y="2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608280" y="2509560"/>
              <a:ext cx="530280" cy="601200"/>
            </a:xfrm>
            <a:custGeom>
              <a:avLst/>
              <a:gdLst/>
              <a:ahLst/>
              <a:rect l="l" t="t" r="r" b="b"/>
              <a:pathLst>
                <a:path w="1672" h="1895">
                  <a:moveTo>
                    <a:pt x="1672" y="543"/>
                  </a:moveTo>
                  <a:lnTo>
                    <a:pt x="1669" y="529"/>
                  </a:lnTo>
                  <a:lnTo>
                    <a:pt x="1665" y="513"/>
                  </a:lnTo>
                  <a:lnTo>
                    <a:pt x="1660" y="497"/>
                  </a:lnTo>
                  <a:lnTo>
                    <a:pt x="1656" y="481"/>
                  </a:lnTo>
                  <a:lnTo>
                    <a:pt x="1649" y="463"/>
                  </a:lnTo>
                  <a:lnTo>
                    <a:pt x="1642" y="447"/>
                  </a:lnTo>
                  <a:lnTo>
                    <a:pt x="1633" y="430"/>
                  </a:lnTo>
                  <a:lnTo>
                    <a:pt x="1625" y="414"/>
                  </a:lnTo>
                  <a:lnTo>
                    <a:pt x="1615" y="397"/>
                  </a:lnTo>
                  <a:lnTo>
                    <a:pt x="1605" y="381"/>
                  </a:lnTo>
                  <a:lnTo>
                    <a:pt x="1594" y="364"/>
                  </a:lnTo>
                  <a:lnTo>
                    <a:pt x="1582" y="348"/>
                  </a:lnTo>
                  <a:lnTo>
                    <a:pt x="1569" y="331"/>
                  </a:lnTo>
                  <a:lnTo>
                    <a:pt x="1556" y="315"/>
                  </a:lnTo>
                  <a:lnTo>
                    <a:pt x="1541" y="299"/>
                  </a:lnTo>
                  <a:lnTo>
                    <a:pt x="1526" y="283"/>
                  </a:lnTo>
                  <a:lnTo>
                    <a:pt x="1512" y="267"/>
                  </a:lnTo>
                  <a:lnTo>
                    <a:pt x="1496" y="251"/>
                  </a:lnTo>
                  <a:lnTo>
                    <a:pt x="1478" y="236"/>
                  </a:lnTo>
                  <a:lnTo>
                    <a:pt x="1461" y="221"/>
                  </a:lnTo>
                  <a:lnTo>
                    <a:pt x="1443" y="206"/>
                  </a:lnTo>
                  <a:lnTo>
                    <a:pt x="1424" y="192"/>
                  </a:lnTo>
                  <a:lnTo>
                    <a:pt x="1405" y="178"/>
                  </a:lnTo>
                  <a:lnTo>
                    <a:pt x="1385" y="166"/>
                  </a:lnTo>
                  <a:lnTo>
                    <a:pt x="1365" y="152"/>
                  </a:lnTo>
                  <a:lnTo>
                    <a:pt x="1344" y="140"/>
                  </a:lnTo>
                  <a:lnTo>
                    <a:pt x="1323" y="129"/>
                  </a:lnTo>
                  <a:lnTo>
                    <a:pt x="1301" y="118"/>
                  </a:lnTo>
                  <a:lnTo>
                    <a:pt x="1279" y="107"/>
                  </a:lnTo>
                  <a:lnTo>
                    <a:pt x="1256" y="98"/>
                  </a:lnTo>
                  <a:lnTo>
                    <a:pt x="1232" y="88"/>
                  </a:lnTo>
                  <a:lnTo>
                    <a:pt x="1209" y="80"/>
                  </a:lnTo>
                  <a:lnTo>
                    <a:pt x="1145" y="58"/>
                  </a:lnTo>
                  <a:lnTo>
                    <a:pt x="1084" y="39"/>
                  </a:lnTo>
                  <a:lnTo>
                    <a:pt x="1022" y="24"/>
                  </a:lnTo>
                  <a:lnTo>
                    <a:pt x="963" y="13"/>
                  </a:lnTo>
                  <a:lnTo>
                    <a:pt x="905" y="5"/>
                  </a:lnTo>
                  <a:lnTo>
                    <a:pt x="849" y="1"/>
                  </a:lnTo>
                  <a:lnTo>
                    <a:pt x="795" y="0"/>
                  </a:lnTo>
                  <a:lnTo>
                    <a:pt x="742" y="3"/>
                  </a:lnTo>
                  <a:lnTo>
                    <a:pt x="690" y="10"/>
                  </a:lnTo>
                  <a:lnTo>
                    <a:pt x="640" y="19"/>
                  </a:lnTo>
                  <a:lnTo>
                    <a:pt x="592" y="33"/>
                  </a:lnTo>
                  <a:lnTo>
                    <a:pt x="546" y="49"/>
                  </a:lnTo>
                  <a:lnTo>
                    <a:pt x="501" y="70"/>
                  </a:lnTo>
                  <a:lnTo>
                    <a:pt x="458" y="93"/>
                  </a:lnTo>
                  <a:lnTo>
                    <a:pt x="417" y="120"/>
                  </a:lnTo>
                  <a:lnTo>
                    <a:pt x="378" y="150"/>
                  </a:lnTo>
                  <a:lnTo>
                    <a:pt x="339" y="184"/>
                  </a:lnTo>
                  <a:lnTo>
                    <a:pt x="304" y="221"/>
                  </a:lnTo>
                  <a:lnTo>
                    <a:pt x="269" y="261"/>
                  </a:lnTo>
                  <a:lnTo>
                    <a:pt x="237" y="304"/>
                  </a:lnTo>
                  <a:lnTo>
                    <a:pt x="207" y="350"/>
                  </a:lnTo>
                  <a:lnTo>
                    <a:pt x="178" y="401"/>
                  </a:lnTo>
                  <a:lnTo>
                    <a:pt x="151" y="454"/>
                  </a:lnTo>
                  <a:lnTo>
                    <a:pt x="127" y="509"/>
                  </a:lnTo>
                  <a:lnTo>
                    <a:pt x="103" y="568"/>
                  </a:lnTo>
                  <a:lnTo>
                    <a:pt x="82" y="631"/>
                  </a:lnTo>
                  <a:lnTo>
                    <a:pt x="64" y="696"/>
                  </a:lnTo>
                  <a:lnTo>
                    <a:pt x="47" y="764"/>
                  </a:lnTo>
                  <a:lnTo>
                    <a:pt x="32" y="835"/>
                  </a:lnTo>
                  <a:lnTo>
                    <a:pt x="20" y="910"/>
                  </a:lnTo>
                  <a:lnTo>
                    <a:pt x="9" y="987"/>
                  </a:lnTo>
                  <a:lnTo>
                    <a:pt x="0" y="1067"/>
                  </a:lnTo>
                  <a:lnTo>
                    <a:pt x="9" y="1112"/>
                  </a:lnTo>
                  <a:lnTo>
                    <a:pt x="18" y="1153"/>
                  </a:lnTo>
                  <a:lnTo>
                    <a:pt x="29" y="1194"/>
                  </a:lnTo>
                  <a:lnTo>
                    <a:pt x="41" y="1233"/>
                  </a:lnTo>
                  <a:lnTo>
                    <a:pt x="52" y="1270"/>
                  </a:lnTo>
                  <a:lnTo>
                    <a:pt x="64" y="1305"/>
                  </a:lnTo>
                  <a:lnTo>
                    <a:pt x="77" y="1339"/>
                  </a:lnTo>
                  <a:lnTo>
                    <a:pt x="91" y="1371"/>
                  </a:lnTo>
                  <a:lnTo>
                    <a:pt x="104" y="1402"/>
                  </a:lnTo>
                  <a:lnTo>
                    <a:pt x="119" y="1431"/>
                  </a:lnTo>
                  <a:lnTo>
                    <a:pt x="135" y="1460"/>
                  </a:lnTo>
                  <a:lnTo>
                    <a:pt x="151" y="1487"/>
                  </a:lnTo>
                  <a:lnTo>
                    <a:pt x="167" y="1513"/>
                  </a:lnTo>
                  <a:lnTo>
                    <a:pt x="183" y="1537"/>
                  </a:lnTo>
                  <a:lnTo>
                    <a:pt x="200" y="1562"/>
                  </a:lnTo>
                  <a:lnTo>
                    <a:pt x="218" y="1584"/>
                  </a:lnTo>
                  <a:lnTo>
                    <a:pt x="253" y="1628"/>
                  </a:lnTo>
                  <a:lnTo>
                    <a:pt x="289" y="1669"/>
                  </a:lnTo>
                  <a:lnTo>
                    <a:pt x="326" y="1708"/>
                  </a:lnTo>
                  <a:lnTo>
                    <a:pt x="364" y="1746"/>
                  </a:lnTo>
                  <a:lnTo>
                    <a:pt x="439" y="1819"/>
                  </a:lnTo>
                  <a:lnTo>
                    <a:pt x="514" y="1895"/>
                  </a:lnTo>
                  <a:lnTo>
                    <a:pt x="503" y="1864"/>
                  </a:lnTo>
                  <a:lnTo>
                    <a:pt x="493" y="1834"/>
                  </a:lnTo>
                  <a:lnTo>
                    <a:pt x="485" y="1802"/>
                  </a:lnTo>
                  <a:lnTo>
                    <a:pt x="476" y="1770"/>
                  </a:lnTo>
                  <a:lnTo>
                    <a:pt x="470" y="1737"/>
                  </a:lnTo>
                  <a:lnTo>
                    <a:pt x="464" y="1703"/>
                  </a:lnTo>
                  <a:lnTo>
                    <a:pt x="460" y="1670"/>
                  </a:lnTo>
                  <a:lnTo>
                    <a:pt x="456" y="1637"/>
                  </a:lnTo>
                  <a:lnTo>
                    <a:pt x="455" y="1604"/>
                  </a:lnTo>
                  <a:lnTo>
                    <a:pt x="456" y="1570"/>
                  </a:lnTo>
                  <a:lnTo>
                    <a:pt x="459" y="1537"/>
                  </a:lnTo>
                  <a:lnTo>
                    <a:pt x="462" y="1505"/>
                  </a:lnTo>
                  <a:lnTo>
                    <a:pt x="469" y="1473"/>
                  </a:lnTo>
                  <a:lnTo>
                    <a:pt x="477" y="1441"/>
                  </a:lnTo>
                  <a:lnTo>
                    <a:pt x="483" y="1425"/>
                  </a:lnTo>
                  <a:lnTo>
                    <a:pt x="488" y="1411"/>
                  </a:lnTo>
                  <a:lnTo>
                    <a:pt x="494" y="1395"/>
                  </a:lnTo>
                  <a:lnTo>
                    <a:pt x="502" y="1380"/>
                  </a:lnTo>
                  <a:lnTo>
                    <a:pt x="478" y="1387"/>
                  </a:lnTo>
                  <a:lnTo>
                    <a:pt x="458" y="1391"/>
                  </a:lnTo>
                  <a:lnTo>
                    <a:pt x="437" y="1395"/>
                  </a:lnTo>
                  <a:lnTo>
                    <a:pt x="418" y="1395"/>
                  </a:lnTo>
                  <a:lnTo>
                    <a:pt x="401" y="1393"/>
                  </a:lnTo>
                  <a:lnTo>
                    <a:pt x="385" y="1390"/>
                  </a:lnTo>
                  <a:lnTo>
                    <a:pt x="370" y="1386"/>
                  </a:lnTo>
                  <a:lnTo>
                    <a:pt x="357" y="1379"/>
                  </a:lnTo>
                  <a:lnTo>
                    <a:pt x="344" y="1371"/>
                  </a:lnTo>
                  <a:lnTo>
                    <a:pt x="333" y="1361"/>
                  </a:lnTo>
                  <a:lnTo>
                    <a:pt x="323" y="1350"/>
                  </a:lnTo>
                  <a:lnTo>
                    <a:pt x="316" y="1338"/>
                  </a:lnTo>
                  <a:lnTo>
                    <a:pt x="309" y="1324"/>
                  </a:lnTo>
                  <a:lnTo>
                    <a:pt x="303" y="1310"/>
                  </a:lnTo>
                  <a:lnTo>
                    <a:pt x="298" y="1295"/>
                  </a:lnTo>
                  <a:lnTo>
                    <a:pt x="293" y="1278"/>
                  </a:lnTo>
                  <a:lnTo>
                    <a:pt x="290" y="1261"/>
                  </a:lnTo>
                  <a:lnTo>
                    <a:pt x="289" y="1242"/>
                  </a:lnTo>
                  <a:lnTo>
                    <a:pt x="288" y="1222"/>
                  </a:lnTo>
                  <a:lnTo>
                    <a:pt x="288" y="1203"/>
                  </a:lnTo>
                  <a:lnTo>
                    <a:pt x="289" y="1183"/>
                  </a:lnTo>
                  <a:lnTo>
                    <a:pt x="290" y="1162"/>
                  </a:lnTo>
                  <a:lnTo>
                    <a:pt x="294" y="1141"/>
                  </a:lnTo>
                  <a:lnTo>
                    <a:pt x="298" y="1119"/>
                  </a:lnTo>
                  <a:lnTo>
                    <a:pt x="301" y="1098"/>
                  </a:lnTo>
                  <a:lnTo>
                    <a:pt x="307" y="1076"/>
                  </a:lnTo>
                  <a:lnTo>
                    <a:pt x="314" y="1054"/>
                  </a:lnTo>
                  <a:lnTo>
                    <a:pt x="320" y="1032"/>
                  </a:lnTo>
                  <a:lnTo>
                    <a:pt x="327" y="1011"/>
                  </a:lnTo>
                  <a:lnTo>
                    <a:pt x="336" y="989"/>
                  </a:lnTo>
                  <a:lnTo>
                    <a:pt x="344" y="968"/>
                  </a:lnTo>
                  <a:lnTo>
                    <a:pt x="354" y="947"/>
                  </a:lnTo>
                  <a:lnTo>
                    <a:pt x="370" y="938"/>
                  </a:lnTo>
                  <a:lnTo>
                    <a:pt x="386" y="931"/>
                  </a:lnTo>
                  <a:lnTo>
                    <a:pt x="401" y="926"/>
                  </a:lnTo>
                  <a:lnTo>
                    <a:pt x="416" y="921"/>
                  </a:lnTo>
                  <a:lnTo>
                    <a:pt x="429" y="917"/>
                  </a:lnTo>
                  <a:lnTo>
                    <a:pt x="442" y="915"/>
                  </a:lnTo>
                  <a:lnTo>
                    <a:pt x="454" y="914"/>
                  </a:lnTo>
                  <a:lnTo>
                    <a:pt x="466" y="914"/>
                  </a:lnTo>
                  <a:lnTo>
                    <a:pt x="477" y="914"/>
                  </a:lnTo>
                  <a:lnTo>
                    <a:pt x="487" y="916"/>
                  </a:lnTo>
                  <a:lnTo>
                    <a:pt x="497" y="919"/>
                  </a:lnTo>
                  <a:lnTo>
                    <a:pt x="505" y="922"/>
                  </a:lnTo>
                  <a:lnTo>
                    <a:pt x="514" y="927"/>
                  </a:lnTo>
                  <a:lnTo>
                    <a:pt x="521" y="933"/>
                  </a:lnTo>
                  <a:lnTo>
                    <a:pt x="529" y="939"/>
                  </a:lnTo>
                  <a:lnTo>
                    <a:pt x="535" y="947"/>
                  </a:lnTo>
                  <a:lnTo>
                    <a:pt x="541" y="955"/>
                  </a:lnTo>
                  <a:lnTo>
                    <a:pt x="547" y="965"/>
                  </a:lnTo>
                  <a:lnTo>
                    <a:pt x="552" y="975"/>
                  </a:lnTo>
                  <a:lnTo>
                    <a:pt x="556" y="986"/>
                  </a:lnTo>
                  <a:lnTo>
                    <a:pt x="560" y="999"/>
                  </a:lnTo>
                  <a:lnTo>
                    <a:pt x="563" y="1011"/>
                  </a:lnTo>
                  <a:lnTo>
                    <a:pt x="567" y="1024"/>
                  </a:lnTo>
                  <a:lnTo>
                    <a:pt x="569" y="1038"/>
                  </a:lnTo>
                  <a:lnTo>
                    <a:pt x="572" y="1069"/>
                  </a:lnTo>
                  <a:lnTo>
                    <a:pt x="574" y="1102"/>
                  </a:lnTo>
                  <a:lnTo>
                    <a:pt x="574" y="1136"/>
                  </a:lnTo>
                  <a:lnTo>
                    <a:pt x="572" y="1174"/>
                  </a:lnTo>
                  <a:lnTo>
                    <a:pt x="585" y="1182"/>
                  </a:lnTo>
                  <a:lnTo>
                    <a:pt x="599" y="1188"/>
                  </a:lnTo>
                  <a:lnTo>
                    <a:pt x="612" y="1195"/>
                  </a:lnTo>
                  <a:lnTo>
                    <a:pt x="626" y="1203"/>
                  </a:lnTo>
                  <a:lnTo>
                    <a:pt x="640" y="1210"/>
                  </a:lnTo>
                  <a:lnTo>
                    <a:pt x="653" y="1219"/>
                  </a:lnTo>
                  <a:lnTo>
                    <a:pt x="667" y="1226"/>
                  </a:lnTo>
                  <a:lnTo>
                    <a:pt x="680" y="1233"/>
                  </a:lnTo>
                  <a:lnTo>
                    <a:pt x="697" y="1222"/>
                  </a:lnTo>
                  <a:lnTo>
                    <a:pt x="712" y="1213"/>
                  </a:lnTo>
                  <a:lnTo>
                    <a:pt x="726" y="1201"/>
                  </a:lnTo>
                  <a:lnTo>
                    <a:pt x="737" y="1192"/>
                  </a:lnTo>
                  <a:lnTo>
                    <a:pt x="745" y="1182"/>
                  </a:lnTo>
                  <a:lnTo>
                    <a:pt x="751" y="1173"/>
                  </a:lnTo>
                  <a:lnTo>
                    <a:pt x="755" y="1163"/>
                  </a:lnTo>
                  <a:lnTo>
                    <a:pt x="756" y="1155"/>
                  </a:lnTo>
                  <a:lnTo>
                    <a:pt x="740" y="1122"/>
                  </a:lnTo>
                  <a:lnTo>
                    <a:pt x="727" y="1090"/>
                  </a:lnTo>
                  <a:lnTo>
                    <a:pt x="715" y="1060"/>
                  </a:lnTo>
                  <a:lnTo>
                    <a:pt x="704" y="1030"/>
                  </a:lnTo>
                  <a:lnTo>
                    <a:pt x="694" y="1002"/>
                  </a:lnTo>
                  <a:lnTo>
                    <a:pt x="685" y="976"/>
                  </a:lnTo>
                  <a:lnTo>
                    <a:pt x="678" y="951"/>
                  </a:lnTo>
                  <a:lnTo>
                    <a:pt x="672" y="927"/>
                  </a:lnTo>
                  <a:lnTo>
                    <a:pt x="667" y="904"/>
                  </a:lnTo>
                  <a:lnTo>
                    <a:pt x="663" y="883"/>
                  </a:lnTo>
                  <a:lnTo>
                    <a:pt x="660" y="863"/>
                  </a:lnTo>
                  <a:lnTo>
                    <a:pt x="659" y="845"/>
                  </a:lnTo>
                  <a:lnTo>
                    <a:pt x="659" y="828"/>
                  </a:lnTo>
                  <a:lnTo>
                    <a:pt x="660" y="812"/>
                  </a:lnTo>
                  <a:lnTo>
                    <a:pt x="663" y="797"/>
                  </a:lnTo>
                  <a:lnTo>
                    <a:pt x="667" y="783"/>
                  </a:lnTo>
                  <a:lnTo>
                    <a:pt x="672" y="771"/>
                  </a:lnTo>
                  <a:lnTo>
                    <a:pt x="678" y="760"/>
                  </a:lnTo>
                  <a:lnTo>
                    <a:pt x="685" y="750"/>
                  </a:lnTo>
                  <a:lnTo>
                    <a:pt x="695" y="743"/>
                  </a:lnTo>
                  <a:lnTo>
                    <a:pt x="705" y="735"/>
                  </a:lnTo>
                  <a:lnTo>
                    <a:pt x="716" y="730"/>
                  </a:lnTo>
                  <a:lnTo>
                    <a:pt x="728" y="725"/>
                  </a:lnTo>
                  <a:lnTo>
                    <a:pt x="742" y="723"/>
                  </a:lnTo>
                  <a:lnTo>
                    <a:pt x="756" y="722"/>
                  </a:lnTo>
                  <a:lnTo>
                    <a:pt x="772" y="722"/>
                  </a:lnTo>
                  <a:lnTo>
                    <a:pt x="790" y="723"/>
                  </a:lnTo>
                  <a:lnTo>
                    <a:pt x="808" y="725"/>
                  </a:lnTo>
                  <a:lnTo>
                    <a:pt x="829" y="729"/>
                  </a:lnTo>
                  <a:lnTo>
                    <a:pt x="850" y="734"/>
                  </a:lnTo>
                  <a:lnTo>
                    <a:pt x="872" y="740"/>
                  </a:lnTo>
                  <a:lnTo>
                    <a:pt x="895" y="749"/>
                  </a:lnTo>
                  <a:lnTo>
                    <a:pt x="893" y="698"/>
                  </a:lnTo>
                  <a:lnTo>
                    <a:pt x="893" y="653"/>
                  </a:lnTo>
                  <a:lnTo>
                    <a:pt x="895" y="611"/>
                  </a:lnTo>
                  <a:lnTo>
                    <a:pt x="900" y="573"/>
                  </a:lnTo>
                  <a:lnTo>
                    <a:pt x="908" y="537"/>
                  </a:lnTo>
                  <a:lnTo>
                    <a:pt x="918" y="507"/>
                  </a:lnTo>
                  <a:lnTo>
                    <a:pt x="930" y="478"/>
                  </a:lnTo>
                  <a:lnTo>
                    <a:pt x="943" y="452"/>
                  </a:lnTo>
                  <a:lnTo>
                    <a:pt x="959" y="431"/>
                  </a:lnTo>
                  <a:lnTo>
                    <a:pt x="978" y="412"/>
                  </a:lnTo>
                  <a:lnTo>
                    <a:pt x="997" y="396"/>
                  </a:lnTo>
                  <a:lnTo>
                    <a:pt x="1018" y="384"/>
                  </a:lnTo>
                  <a:lnTo>
                    <a:pt x="1042" y="372"/>
                  </a:lnTo>
                  <a:lnTo>
                    <a:pt x="1066" y="365"/>
                  </a:lnTo>
                  <a:lnTo>
                    <a:pt x="1092" y="359"/>
                  </a:lnTo>
                  <a:lnTo>
                    <a:pt x="1119" y="356"/>
                  </a:lnTo>
                  <a:lnTo>
                    <a:pt x="1149" y="355"/>
                  </a:lnTo>
                  <a:lnTo>
                    <a:pt x="1178" y="356"/>
                  </a:lnTo>
                  <a:lnTo>
                    <a:pt x="1209" y="360"/>
                  </a:lnTo>
                  <a:lnTo>
                    <a:pt x="1241" y="365"/>
                  </a:lnTo>
                  <a:lnTo>
                    <a:pt x="1274" y="372"/>
                  </a:lnTo>
                  <a:lnTo>
                    <a:pt x="1307" y="381"/>
                  </a:lnTo>
                  <a:lnTo>
                    <a:pt x="1342" y="392"/>
                  </a:lnTo>
                  <a:lnTo>
                    <a:pt x="1378" y="404"/>
                  </a:lnTo>
                  <a:lnTo>
                    <a:pt x="1413" y="418"/>
                  </a:lnTo>
                  <a:lnTo>
                    <a:pt x="1449" y="433"/>
                  </a:lnTo>
                  <a:lnTo>
                    <a:pt x="1486" y="449"/>
                  </a:lnTo>
                  <a:lnTo>
                    <a:pt x="1523" y="466"/>
                  </a:lnTo>
                  <a:lnTo>
                    <a:pt x="1560" y="484"/>
                  </a:lnTo>
                  <a:lnTo>
                    <a:pt x="1596" y="503"/>
                  </a:lnTo>
                  <a:lnTo>
                    <a:pt x="1635" y="523"/>
                  </a:lnTo>
                  <a:lnTo>
                    <a:pt x="1672" y="54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990960" y="2531880"/>
              <a:ext cx="152280" cy="151920"/>
            </a:xfrm>
            <a:custGeom>
              <a:avLst/>
              <a:gdLst/>
              <a:ahLst/>
              <a:rect l="l" t="t" r="r" b="b"/>
              <a:pathLst>
                <a:path w="482" h="480">
                  <a:moveTo>
                    <a:pt x="0" y="28"/>
                  </a:moveTo>
                  <a:lnTo>
                    <a:pt x="0" y="28"/>
                  </a:lnTo>
                  <a:lnTo>
                    <a:pt x="23" y="37"/>
                  </a:lnTo>
                  <a:lnTo>
                    <a:pt x="47" y="46"/>
                  </a:lnTo>
                  <a:lnTo>
                    <a:pt x="69" y="56"/>
                  </a:lnTo>
                  <a:lnTo>
                    <a:pt x="91" y="65"/>
                  </a:lnTo>
                  <a:lnTo>
                    <a:pt x="112" y="76"/>
                  </a:lnTo>
                  <a:lnTo>
                    <a:pt x="133" y="88"/>
                  </a:lnTo>
                  <a:lnTo>
                    <a:pt x="153" y="100"/>
                  </a:lnTo>
                  <a:lnTo>
                    <a:pt x="174" y="112"/>
                  </a:lnTo>
                  <a:lnTo>
                    <a:pt x="192" y="124"/>
                  </a:lnTo>
                  <a:lnTo>
                    <a:pt x="212" y="138"/>
                  </a:lnTo>
                  <a:lnTo>
                    <a:pt x="230" y="153"/>
                  </a:lnTo>
                  <a:lnTo>
                    <a:pt x="247" y="166"/>
                  </a:lnTo>
                  <a:lnTo>
                    <a:pt x="265" y="181"/>
                  </a:lnTo>
                  <a:lnTo>
                    <a:pt x="281" y="196"/>
                  </a:lnTo>
                  <a:lnTo>
                    <a:pt x="297" y="212"/>
                  </a:lnTo>
                  <a:lnTo>
                    <a:pt x="313" y="226"/>
                  </a:lnTo>
                  <a:lnTo>
                    <a:pt x="326" y="242"/>
                  </a:lnTo>
                  <a:lnTo>
                    <a:pt x="341" y="258"/>
                  </a:lnTo>
                  <a:lnTo>
                    <a:pt x="353" y="274"/>
                  </a:lnTo>
                  <a:lnTo>
                    <a:pt x="365" y="290"/>
                  </a:lnTo>
                  <a:lnTo>
                    <a:pt x="378" y="306"/>
                  </a:lnTo>
                  <a:lnTo>
                    <a:pt x="389" y="322"/>
                  </a:lnTo>
                  <a:lnTo>
                    <a:pt x="399" y="340"/>
                  </a:lnTo>
                  <a:lnTo>
                    <a:pt x="407" y="356"/>
                  </a:lnTo>
                  <a:lnTo>
                    <a:pt x="416" y="372"/>
                  </a:lnTo>
                  <a:lnTo>
                    <a:pt x="424" y="388"/>
                  </a:lnTo>
                  <a:lnTo>
                    <a:pt x="431" y="404"/>
                  </a:lnTo>
                  <a:lnTo>
                    <a:pt x="437" y="420"/>
                  </a:lnTo>
                  <a:lnTo>
                    <a:pt x="442" y="434"/>
                  </a:lnTo>
                  <a:lnTo>
                    <a:pt x="447" y="450"/>
                  </a:lnTo>
                  <a:lnTo>
                    <a:pt x="450" y="465"/>
                  </a:lnTo>
                  <a:lnTo>
                    <a:pt x="453" y="480"/>
                  </a:lnTo>
                  <a:lnTo>
                    <a:pt x="482" y="475"/>
                  </a:lnTo>
                  <a:lnTo>
                    <a:pt x="480" y="459"/>
                  </a:lnTo>
                  <a:lnTo>
                    <a:pt x="476" y="443"/>
                  </a:lnTo>
                  <a:lnTo>
                    <a:pt x="471" y="426"/>
                  </a:lnTo>
                  <a:lnTo>
                    <a:pt x="465" y="409"/>
                  </a:lnTo>
                  <a:lnTo>
                    <a:pt x="459" y="393"/>
                  </a:lnTo>
                  <a:lnTo>
                    <a:pt x="452" y="375"/>
                  </a:lnTo>
                  <a:lnTo>
                    <a:pt x="443" y="358"/>
                  </a:lnTo>
                  <a:lnTo>
                    <a:pt x="434" y="341"/>
                  </a:lnTo>
                  <a:lnTo>
                    <a:pt x="424" y="324"/>
                  </a:lnTo>
                  <a:lnTo>
                    <a:pt x="413" y="306"/>
                  </a:lnTo>
                  <a:lnTo>
                    <a:pt x="402" y="289"/>
                  </a:lnTo>
                  <a:lnTo>
                    <a:pt x="390" y="272"/>
                  </a:lnTo>
                  <a:lnTo>
                    <a:pt x="377" y="256"/>
                  </a:lnTo>
                  <a:lnTo>
                    <a:pt x="363" y="239"/>
                  </a:lnTo>
                  <a:lnTo>
                    <a:pt x="348" y="223"/>
                  </a:lnTo>
                  <a:lnTo>
                    <a:pt x="333" y="206"/>
                  </a:lnTo>
                  <a:lnTo>
                    <a:pt x="317" y="190"/>
                  </a:lnTo>
                  <a:lnTo>
                    <a:pt x="301" y="174"/>
                  </a:lnTo>
                  <a:lnTo>
                    <a:pt x="284" y="159"/>
                  </a:lnTo>
                  <a:lnTo>
                    <a:pt x="267" y="143"/>
                  </a:lnTo>
                  <a:lnTo>
                    <a:pt x="249" y="128"/>
                  </a:lnTo>
                  <a:lnTo>
                    <a:pt x="229" y="115"/>
                  </a:lnTo>
                  <a:lnTo>
                    <a:pt x="209" y="100"/>
                  </a:lnTo>
                  <a:lnTo>
                    <a:pt x="190" y="86"/>
                  </a:lnTo>
                  <a:lnTo>
                    <a:pt x="169" y="74"/>
                  </a:lnTo>
                  <a:lnTo>
                    <a:pt x="148" y="62"/>
                  </a:lnTo>
                  <a:lnTo>
                    <a:pt x="126" y="49"/>
                  </a:lnTo>
                  <a:lnTo>
                    <a:pt x="103" y="38"/>
                  </a:lnTo>
                  <a:lnTo>
                    <a:pt x="81" y="27"/>
                  </a:lnTo>
                  <a:lnTo>
                    <a:pt x="58" y="17"/>
                  </a:lnTo>
                  <a:lnTo>
                    <a:pt x="35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03600" y="2504880"/>
              <a:ext cx="390600" cy="344160"/>
            </a:xfrm>
            <a:custGeom>
              <a:avLst/>
              <a:gdLst/>
              <a:ahLst/>
              <a:rect l="l" t="t" r="r" b="b"/>
              <a:pathLst>
                <a:path w="1229" h="1085">
                  <a:moveTo>
                    <a:pt x="30" y="1080"/>
                  </a:moveTo>
                  <a:lnTo>
                    <a:pt x="30" y="1084"/>
                  </a:lnTo>
                  <a:lnTo>
                    <a:pt x="38" y="1004"/>
                  </a:lnTo>
                  <a:lnTo>
                    <a:pt x="49" y="927"/>
                  </a:lnTo>
                  <a:lnTo>
                    <a:pt x="56" y="889"/>
                  </a:lnTo>
                  <a:lnTo>
                    <a:pt x="62" y="854"/>
                  </a:lnTo>
                  <a:lnTo>
                    <a:pt x="69" y="818"/>
                  </a:lnTo>
                  <a:lnTo>
                    <a:pt x="76" y="782"/>
                  </a:lnTo>
                  <a:lnTo>
                    <a:pt x="85" y="748"/>
                  </a:lnTo>
                  <a:lnTo>
                    <a:pt x="94" y="715"/>
                  </a:lnTo>
                  <a:lnTo>
                    <a:pt x="102" y="681"/>
                  </a:lnTo>
                  <a:lnTo>
                    <a:pt x="112" y="651"/>
                  </a:lnTo>
                  <a:lnTo>
                    <a:pt x="122" y="619"/>
                  </a:lnTo>
                  <a:lnTo>
                    <a:pt x="133" y="588"/>
                  </a:lnTo>
                  <a:lnTo>
                    <a:pt x="144" y="558"/>
                  </a:lnTo>
                  <a:lnTo>
                    <a:pt x="155" y="530"/>
                  </a:lnTo>
                  <a:lnTo>
                    <a:pt x="167" y="502"/>
                  </a:lnTo>
                  <a:lnTo>
                    <a:pt x="180" y="475"/>
                  </a:lnTo>
                  <a:lnTo>
                    <a:pt x="193" y="448"/>
                  </a:lnTo>
                  <a:lnTo>
                    <a:pt x="206" y="423"/>
                  </a:lnTo>
                  <a:lnTo>
                    <a:pt x="220" y="397"/>
                  </a:lnTo>
                  <a:lnTo>
                    <a:pt x="234" y="374"/>
                  </a:lnTo>
                  <a:lnTo>
                    <a:pt x="249" y="351"/>
                  </a:lnTo>
                  <a:lnTo>
                    <a:pt x="265" y="327"/>
                  </a:lnTo>
                  <a:lnTo>
                    <a:pt x="279" y="306"/>
                  </a:lnTo>
                  <a:lnTo>
                    <a:pt x="297" y="285"/>
                  </a:lnTo>
                  <a:lnTo>
                    <a:pt x="313" y="266"/>
                  </a:lnTo>
                  <a:lnTo>
                    <a:pt x="330" y="246"/>
                  </a:lnTo>
                  <a:lnTo>
                    <a:pt x="347" y="228"/>
                  </a:lnTo>
                  <a:lnTo>
                    <a:pt x="364" y="210"/>
                  </a:lnTo>
                  <a:lnTo>
                    <a:pt x="383" y="193"/>
                  </a:lnTo>
                  <a:lnTo>
                    <a:pt x="401" y="177"/>
                  </a:lnTo>
                  <a:lnTo>
                    <a:pt x="421" y="161"/>
                  </a:lnTo>
                  <a:lnTo>
                    <a:pt x="441" y="148"/>
                  </a:lnTo>
                  <a:lnTo>
                    <a:pt x="460" y="134"/>
                  </a:lnTo>
                  <a:lnTo>
                    <a:pt x="481" y="121"/>
                  </a:lnTo>
                  <a:lnTo>
                    <a:pt x="501" y="109"/>
                  </a:lnTo>
                  <a:lnTo>
                    <a:pt x="523" y="98"/>
                  </a:lnTo>
                  <a:lnTo>
                    <a:pt x="544" y="87"/>
                  </a:lnTo>
                  <a:lnTo>
                    <a:pt x="566" y="79"/>
                  </a:lnTo>
                  <a:lnTo>
                    <a:pt x="588" y="70"/>
                  </a:lnTo>
                  <a:lnTo>
                    <a:pt x="611" y="61"/>
                  </a:lnTo>
                  <a:lnTo>
                    <a:pt x="635" y="55"/>
                  </a:lnTo>
                  <a:lnTo>
                    <a:pt x="658" y="49"/>
                  </a:lnTo>
                  <a:lnTo>
                    <a:pt x="683" y="44"/>
                  </a:lnTo>
                  <a:lnTo>
                    <a:pt x="707" y="39"/>
                  </a:lnTo>
                  <a:lnTo>
                    <a:pt x="732" y="36"/>
                  </a:lnTo>
                  <a:lnTo>
                    <a:pt x="758" y="33"/>
                  </a:lnTo>
                  <a:lnTo>
                    <a:pt x="784" y="31"/>
                  </a:lnTo>
                  <a:lnTo>
                    <a:pt x="810" y="31"/>
                  </a:lnTo>
                  <a:lnTo>
                    <a:pt x="837" y="30"/>
                  </a:lnTo>
                  <a:lnTo>
                    <a:pt x="864" y="31"/>
                  </a:lnTo>
                  <a:lnTo>
                    <a:pt x="891" y="32"/>
                  </a:lnTo>
                  <a:lnTo>
                    <a:pt x="919" y="34"/>
                  </a:lnTo>
                  <a:lnTo>
                    <a:pt x="947" y="38"/>
                  </a:lnTo>
                  <a:lnTo>
                    <a:pt x="976" y="43"/>
                  </a:lnTo>
                  <a:lnTo>
                    <a:pt x="1005" y="48"/>
                  </a:lnTo>
                  <a:lnTo>
                    <a:pt x="1035" y="54"/>
                  </a:lnTo>
                  <a:lnTo>
                    <a:pt x="1064" y="60"/>
                  </a:lnTo>
                  <a:lnTo>
                    <a:pt x="1094" y="69"/>
                  </a:lnTo>
                  <a:lnTo>
                    <a:pt x="1124" y="77"/>
                  </a:lnTo>
                  <a:lnTo>
                    <a:pt x="1156" y="87"/>
                  </a:lnTo>
                  <a:lnTo>
                    <a:pt x="1187" y="97"/>
                  </a:lnTo>
                  <a:lnTo>
                    <a:pt x="1219" y="109"/>
                  </a:lnTo>
                  <a:lnTo>
                    <a:pt x="1229" y="81"/>
                  </a:lnTo>
                  <a:lnTo>
                    <a:pt x="1197" y="69"/>
                  </a:lnTo>
                  <a:lnTo>
                    <a:pt x="1165" y="59"/>
                  </a:lnTo>
                  <a:lnTo>
                    <a:pt x="1133" y="49"/>
                  </a:lnTo>
                  <a:lnTo>
                    <a:pt x="1102" y="39"/>
                  </a:lnTo>
                  <a:lnTo>
                    <a:pt x="1072" y="32"/>
                  </a:lnTo>
                  <a:lnTo>
                    <a:pt x="1041" y="25"/>
                  </a:lnTo>
                  <a:lnTo>
                    <a:pt x="1010" y="18"/>
                  </a:lnTo>
                  <a:lnTo>
                    <a:pt x="980" y="14"/>
                  </a:lnTo>
                  <a:lnTo>
                    <a:pt x="951" y="9"/>
                  </a:lnTo>
                  <a:lnTo>
                    <a:pt x="921" y="5"/>
                  </a:lnTo>
                  <a:lnTo>
                    <a:pt x="893" y="2"/>
                  </a:lnTo>
                  <a:lnTo>
                    <a:pt x="865" y="1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2" y="1"/>
                  </a:lnTo>
                  <a:lnTo>
                    <a:pt x="755" y="2"/>
                  </a:lnTo>
                  <a:lnTo>
                    <a:pt x="728" y="6"/>
                  </a:lnTo>
                  <a:lnTo>
                    <a:pt x="703" y="10"/>
                  </a:lnTo>
                  <a:lnTo>
                    <a:pt x="677" y="15"/>
                  </a:lnTo>
                  <a:lnTo>
                    <a:pt x="652" y="20"/>
                  </a:lnTo>
                  <a:lnTo>
                    <a:pt x="626" y="26"/>
                  </a:lnTo>
                  <a:lnTo>
                    <a:pt x="603" y="33"/>
                  </a:lnTo>
                  <a:lnTo>
                    <a:pt x="578" y="42"/>
                  </a:lnTo>
                  <a:lnTo>
                    <a:pt x="555" y="50"/>
                  </a:lnTo>
                  <a:lnTo>
                    <a:pt x="532" y="60"/>
                  </a:lnTo>
                  <a:lnTo>
                    <a:pt x="509" y="71"/>
                  </a:lnTo>
                  <a:lnTo>
                    <a:pt x="487" y="82"/>
                  </a:lnTo>
                  <a:lnTo>
                    <a:pt x="465" y="95"/>
                  </a:lnTo>
                  <a:lnTo>
                    <a:pt x="444" y="108"/>
                  </a:lnTo>
                  <a:lnTo>
                    <a:pt x="423" y="123"/>
                  </a:lnTo>
                  <a:lnTo>
                    <a:pt x="402" y="138"/>
                  </a:lnTo>
                  <a:lnTo>
                    <a:pt x="383" y="154"/>
                  </a:lnTo>
                  <a:lnTo>
                    <a:pt x="363" y="171"/>
                  </a:lnTo>
                  <a:lnTo>
                    <a:pt x="343" y="188"/>
                  </a:lnTo>
                  <a:lnTo>
                    <a:pt x="325" y="207"/>
                  </a:lnTo>
                  <a:lnTo>
                    <a:pt x="308" y="225"/>
                  </a:lnTo>
                  <a:lnTo>
                    <a:pt x="289" y="246"/>
                  </a:lnTo>
                  <a:lnTo>
                    <a:pt x="272" y="267"/>
                  </a:lnTo>
                  <a:lnTo>
                    <a:pt x="256" y="288"/>
                  </a:lnTo>
                  <a:lnTo>
                    <a:pt x="240" y="310"/>
                  </a:lnTo>
                  <a:lnTo>
                    <a:pt x="224" y="333"/>
                  </a:lnTo>
                  <a:lnTo>
                    <a:pt x="209" y="358"/>
                  </a:lnTo>
                  <a:lnTo>
                    <a:pt x="195" y="383"/>
                  </a:lnTo>
                  <a:lnTo>
                    <a:pt x="180" y="408"/>
                  </a:lnTo>
                  <a:lnTo>
                    <a:pt x="166" y="434"/>
                  </a:lnTo>
                  <a:lnTo>
                    <a:pt x="153" y="461"/>
                  </a:lnTo>
                  <a:lnTo>
                    <a:pt x="140" y="490"/>
                  </a:lnTo>
                  <a:lnTo>
                    <a:pt x="128" y="519"/>
                  </a:lnTo>
                  <a:lnTo>
                    <a:pt x="116" y="549"/>
                  </a:lnTo>
                  <a:lnTo>
                    <a:pt x="105" y="578"/>
                  </a:lnTo>
                  <a:lnTo>
                    <a:pt x="94" y="609"/>
                  </a:lnTo>
                  <a:lnTo>
                    <a:pt x="84" y="641"/>
                  </a:lnTo>
                  <a:lnTo>
                    <a:pt x="74" y="674"/>
                  </a:lnTo>
                  <a:lnTo>
                    <a:pt x="64" y="707"/>
                  </a:lnTo>
                  <a:lnTo>
                    <a:pt x="56" y="740"/>
                  </a:lnTo>
                  <a:lnTo>
                    <a:pt x="47" y="776"/>
                  </a:lnTo>
                  <a:lnTo>
                    <a:pt x="40" y="812"/>
                  </a:lnTo>
                  <a:lnTo>
                    <a:pt x="32" y="847"/>
                  </a:lnTo>
                  <a:lnTo>
                    <a:pt x="26" y="884"/>
                  </a:lnTo>
                  <a:lnTo>
                    <a:pt x="20" y="922"/>
                  </a:lnTo>
                  <a:lnTo>
                    <a:pt x="9" y="1000"/>
                  </a:lnTo>
                  <a:lnTo>
                    <a:pt x="0" y="1081"/>
                  </a:lnTo>
                  <a:lnTo>
                    <a:pt x="0" y="1085"/>
                  </a:lnTo>
                  <a:lnTo>
                    <a:pt x="0" y="1081"/>
                  </a:lnTo>
                  <a:lnTo>
                    <a:pt x="0" y="1082"/>
                  </a:lnTo>
                  <a:lnTo>
                    <a:pt x="0" y="1085"/>
                  </a:lnTo>
                  <a:lnTo>
                    <a:pt x="30" y="10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603600" y="2847600"/>
              <a:ext cx="179280" cy="282240"/>
            </a:xfrm>
            <a:custGeom>
              <a:avLst/>
              <a:gdLst/>
              <a:ahLst/>
              <a:rect l="l" t="t" r="r" b="b"/>
              <a:pathLst>
                <a:path w="564" h="888">
                  <a:moveTo>
                    <a:pt x="514" y="835"/>
                  </a:moveTo>
                  <a:lnTo>
                    <a:pt x="539" y="819"/>
                  </a:lnTo>
                  <a:lnTo>
                    <a:pt x="465" y="744"/>
                  </a:lnTo>
                  <a:lnTo>
                    <a:pt x="389" y="670"/>
                  </a:lnTo>
                  <a:lnTo>
                    <a:pt x="352" y="632"/>
                  </a:lnTo>
                  <a:lnTo>
                    <a:pt x="315" y="594"/>
                  </a:lnTo>
                  <a:lnTo>
                    <a:pt x="279" y="553"/>
                  </a:lnTo>
                  <a:lnTo>
                    <a:pt x="244" y="510"/>
                  </a:lnTo>
                  <a:lnTo>
                    <a:pt x="228" y="487"/>
                  </a:lnTo>
                  <a:lnTo>
                    <a:pt x="211" y="464"/>
                  </a:lnTo>
                  <a:lnTo>
                    <a:pt x="195" y="439"/>
                  </a:lnTo>
                  <a:lnTo>
                    <a:pt x="179" y="414"/>
                  </a:lnTo>
                  <a:lnTo>
                    <a:pt x="164" y="387"/>
                  </a:lnTo>
                  <a:lnTo>
                    <a:pt x="148" y="359"/>
                  </a:lnTo>
                  <a:lnTo>
                    <a:pt x="133" y="331"/>
                  </a:lnTo>
                  <a:lnTo>
                    <a:pt x="119" y="300"/>
                  </a:lnTo>
                  <a:lnTo>
                    <a:pt x="106" y="268"/>
                  </a:lnTo>
                  <a:lnTo>
                    <a:pt x="94" y="235"/>
                  </a:lnTo>
                  <a:lnTo>
                    <a:pt x="81" y="200"/>
                  </a:lnTo>
                  <a:lnTo>
                    <a:pt x="69" y="164"/>
                  </a:lnTo>
                  <a:lnTo>
                    <a:pt x="58" y="125"/>
                  </a:lnTo>
                  <a:lnTo>
                    <a:pt x="48" y="85"/>
                  </a:lnTo>
                  <a:lnTo>
                    <a:pt x="38" y="43"/>
                  </a:lnTo>
                  <a:lnTo>
                    <a:pt x="30" y="0"/>
                  </a:lnTo>
                  <a:lnTo>
                    <a:pt x="0" y="5"/>
                  </a:lnTo>
                  <a:lnTo>
                    <a:pt x="9" y="49"/>
                  </a:lnTo>
                  <a:lnTo>
                    <a:pt x="19" y="92"/>
                  </a:lnTo>
                  <a:lnTo>
                    <a:pt x="30" y="133"/>
                  </a:lnTo>
                  <a:lnTo>
                    <a:pt x="41" y="172"/>
                  </a:lnTo>
                  <a:lnTo>
                    <a:pt x="53" y="210"/>
                  </a:lnTo>
                  <a:lnTo>
                    <a:pt x="65" y="246"/>
                  </a:lnTo>
                  <a:lnTo>
                    <a:pt x="79" y="279"/>
                  </a:lnTo>
                  <a:lnTo>
                    <a:pt x="92" y="312"/>
                  </a:lnTo>
                  <a:lnTo>
                    <a:pt x="106" y="343"/>
                  </a:lnTo>
                  <a:lnTo>
                    <a:pt x="122" y="374"/>
                  </a:lnTo>
                  <a:lnTo>
                    <a:pt x="137" y="402"/>
                  </a:lnTo>
                  <a:lnTo>
                    <a:pt x="153" y="429"/>
                  </a:lnTo>
                  <a:lnTo>
                    <a:pt x="169" y="456"/>
                  </a:lnTo>
                  <a:lnTo>
                    <a:pt x="186" y="481"/>
                  </a:lnTo>
                  <a:lnTo>
                    <a:pt x="203" y="505"/>
                  </a:lnTo>
                  <a:lnTo>
                    <a:pt x="220" y="529"/>
                  </a:lnTo>
                  <a:lnTo>
                    <a:pt x="256" y="573"/>
                  </a:lnTo>
                  <a:lnTo>
                    <a:pt x="293" y="614"/>
                  </a:lnTo>
                  <a:lnTo>
                    <a:pt x="330" y="653"/>
                  </a:lnTo>
                  <a:lnTo>
                    <a:pt x="368" y="691"/>
                  </a:lnTo>
                  <a:lnTo>
                    <a:pt x="443" y="765"/>
                  </a:lnTo>
                  <a:lnTo>
                    <a:pt x="518" y="840"/>
                  </a:lnTo>
                  <a:lnTo>
                    <a:pt x="543" y="825"/>
                  </a:lnTo>
                  <a:lnTo>
                    <a:pt x="518" y="840"/>
                  </a:lnTo>
                  <a:lnTo>
                    <a:pt x="564" y="888"/>
                  </a:lnTo>
                  <a:lnTo>
                    <a:pt x="543" y="825"/>
                  </a:lnTo>
                  <a:lnTo>
                    <a:pt x="514" y="8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747960" y="2939760"/>
              <a:ext cx="28800" cy="172800"/>
            </a:xfrm>
            <a:custGeom>
              <a:avLst/>
              <a:gdLst/>
              <a:ahLst/>
              <a:rect l="l" t="t" r="r" b="b"/>
              <a:pathLst>
                <a:path w="91" h="546">
                  <a:moveTo>
                    <a:pt x="67" y="41"/>
                  </a:moveTo>
                  <a:lnTo>
                    <a:pt x="48" y="20"/>
                  </a:lnTo>
                  <a:lnTo>
                    <a:pt x="41" y="34"/>
                  </a:lnTo>
                  <a:lnTo>
                    <a:pt x="35" y="50"/>
                  </a:lnTo>
                  <a:lnTo>
                    <a:pt x="29" y="66"/>
                  </a:lnTo>
                  <a:lnTo>
                    <a:pt x="24" y="82"/>
                  </a:lnTo>
                  <a:lnTo>
                    <a:pt x="14" y="116"/>
                  </a:lnTo>
                  <a:lnTo>
                    <a:pt x="8" y="149"/>
                  </a:lnTo>
                  <a:lnTo>
                    <a:pt x="3" y="182"/>
                  </a:lnTo>
                  <a:lnTo>
                    <a:pt x="0" y="216"/>
                  </a:lnTo>
                  <a:lnTo>
                    <a:pt x="0" y="250"/>
                  </a:lnTo>
                  <a:lnTo>
                    <a:pt x="2" y="284"/>
                  </a:lnTo>
                  <a:lnTo>
                    <a:pt x="5" y="319"/>
                  </a:lnTo>
                  <a:lnTo>
                    <a:pt x="9" y="352"/>
                  </a:lnTo>
                  <a:lnTo>
                    <a:pt x="15" y="386"/>
                  </a:lnTo>
                  <a:lnTo>
                    <a:pt x="21" y="419"/>
                  </a:lnTo>
                  <a:lnTo>
                    <a:pt x="30" y="451"/>
                  </a:lnTo>
                  <a:lnTo>
                    <a:pt x="38" y="483"/>
                  </a:lnTo>
                  <a:lnTo>
                    <a:pt x="48" y="515"/>
                  </a:lnTo>
                  <a:lnTo>
                    <a:pt x="59" y="546"/>
                  </a:lnTo>
                  <a:lnTo>
                    <a:pt x="88" y="536"/>
                  </a:lnTo>
                  <a:lnTo>
                    <a:pt x="78" y="506"/>
                  </a:lnTo>
                  <a:lnTo>
                    <a:pt x="68" y="475"/>
                  </a:lnTo>
                  <a:lnTo>
                    <a:pt x="59" y="444"/>
                  </a:lnTo>
                  <a:lnTo>
                    <a:pt x="51" y="412"/>
                  </a:lnTo>
                  <a:lnTo>
                    <a:pt x="45" y="380"/>
                  </a:lnTo>
                  <a:lnTo>
                    <a:pt x="38" y="348"/>
                  </a:lnTo>
                  <a:lnTo>
                    <a:pt x="35" y="315"/>
                  </a:lnTo>
                  <a:lnTo>
                    <a:pt x="32" y="283"/>
                  </a:lnTo>
                  <a:lnTo>
                    <a:pt x="31" y="250"/>
                  </a:lnTo>
                  <a:lnTo>
                    <a:pt x="31" y="218"/>
                  </a:lnTo>
                  <a:lnTo>
                    <a:pt x="33" y="186"/>
                  </a:lnTo>
                  <a:lnTo>
                    <a:pt x="37" y="154"/>
                  </a:lnTo>
                  <a:lnTo>
                    <a:pt x="43" y="122"/>
                  </a:lnTo>
                  <a:lnTo>
                    <a:pt x="52" y="91"/>
                  </a:lnTo>
                  <a:lnTo>
                    <a:pt x="57" y="76"/>
                  </a:lnTo>
                  <a:lnTo>
                    <a:pt x="63" y="61"/>
                  </a:lnTo>
                  <a:lnTo>
                    <a:pt x="69" y="47"/>
                  </a:lnTo>
                  <a:lnTo>
                    <a:pt x="75" y="32"/>
                  </a:lnTo>
                  <a:lnTo>
                    <a:pt x="57" y="11"/>
                  </a:lnTo>
                  <a:lnTo>
                    <a:pt x="75" y="32"/>
                  </a:lnTo>
                  <a:lnTo>
                    <a:pt x="91" y="0"/>
                  </a:lnTo>
                  <a:lnTo>
                    <a:pt x="57" y="11"/>
                  </a:lnTo>
                  <a:lnTo>
                    <a:pt x="67" y="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695760" y="2806560"/>
              <a:ext cx="73080" cy="150480"/>
            </a:xfrm>
            <a:custGeom>
              <a:avLst/>
              <a:gdLst/>
              <a:ahLst/>
              <a:rect l="l" t="t" r="r" b="b"/>
              <a:pathLst>
                <a:path w="234" h="476">
                  <a:moveTo>
                    <a:pt x="74" y="0"/>
                  </a:moveTo>
                  <a:lnTo>
                    <a:pt x="68" y="8"/>
                  </a:lnTo>
                  <a:lnTo>
                    <a:pt x="58" y="29"/>
                  </a:lnTo>
                  <a:lnTo>
                    <a:pt x="49" y="51"/>
                  </a:lnTo>
                  <a:lnTo>
                    <a:pt x="41" y="73"/>
                  </a:lnTo>
                  <a:lnTo>
                    <a:pt x="33" y="95"/>
                  </a:lnTo>
                  <a:lnTo>
                    <a:pt x="26" y="117"/>
                  </a:lnTo>
                  <a:lnTo>
                    <a:pt x="20" y="139"/>
                  </a:lnTo>
                  <a:lnTo>
                    <a:pt x="15" y="161"/>
                  </a:lnTo>
                  <a:lnTo>
                    <a:pt x="10" y="184"/>
                  </a:lnTo>
                  <a:lnTo>
                    <a:pt x="6" y="206"/>
                  </a:lnTo>
                  <a:lnTo>
                    <a:pt x="2" y="228"/>
                  </a:lnTo>
                  <a:lnTo>
                    <a:pt x="1" y="249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0"/>
                  </a:lnTo>
                  <a:lnTo>
                    <a:pt x="2" y="329"/>
                  </a:lnTo>
                  <a:lnTo>
                    <a:pt x="5" y="347"/>
                  </a:lnTo>
                  <a:lnTo>
                    <a:pt x="10" y="366"/>
                  </a:lnTo>
                  <a:lnTo>
                    <a:pt x="15" y="383"/>
                  </a:lnTo>
                  <a:lnTo>
                    <a:pt x="22" y="399"/>
                  </a:lnTo>
                  <a:lnTo>
                    <a:pt x="30" y="414"/>
                  </a:lnTo>
                  <a:lnTo>
                    <a:pt x="39" y="427"/>
                  </a:lnTo>
                  <a:lnTo>
                    <a:pt x="50" y="439"/>
                  </a:lnTo>
                  <a:lnTo>
                    <a:pt x="63" y="449"/>
                  </a:lnTo>
                  <a:lnTo>
                    <a:pt x="76" y="459"/>
                  </a:lnTo>
                  <a:lnTo>
                    <a:pt x="91" y="466"/>
                  </a:lnTo>
                  <a:lnTo>
                    <a:pt x="108" y="471"/>
                  </a:lnTo>
                  <a:lnTo>
                    <a:pt x="125" y="475"/>
                  </a:lnTo>
                  <a:lnTo>
                    <a:pt x="145" y="476"/>
                  </a:lnTo>
                  <a:lnTo>
                    <a:pt x="165" y="476"/>
                  </a:lnTo>
                  <a:lnTo>
                    <a:pt x="187" y="473"/>
                  </a:lnTo>
                  <a:lnTo>
                    <a:pt x="209" y="468"/>
                  </a:lnTo>
                  <a:lnTo>
                    <a:pt x="234" y="462"/>
                  </a:lnTo>
                  <a:lnTo>
                    <a:pt x="224" y="432"/>
                  </a:lnTo>
                  <a:lnTo>
                    <a:pt x="202" y="439"/>
                  </a:lnTo>
                  <a:lnTo>
                    <a:pt x="182" y="443"/>
                  </a:lnTo>
                  <a:lnTo>
                    <a:pt x="162" y="446"/>
                  </a:lnTo>
                  <a:lnTo>
                    <a:pt x="145" y="447"/>
                  </a:lnTo>
                  <a:lnTo>
                    <a:pt x="129" y="446"/>
                  </a:lnTo>
                  <a:lnTo>
                    <a:pt x="116" y="443"/>
                  </a:lnTo>
                  <a:lnTo>
                    <a:pt x="102" y="438"/>
                  </a:lnTo>
                  <a:lnTo>
                    <a:pt x="91" y="433"/>
                  </a:lnTo>
                  <a:lnTo>
                    <a:pt x="80" y="426"/>
                  </a:lnTo>
                  <a:lnTo>
                    <a:pt x="71" y="417"/>
                  </a:lnTo>
                  <a:lnTo>
                    <a:pt x="63" y="409"/>
                  </a:lnTo>
                  <a:lnTo>
                    <a:pt x="55" y="398"/>
                  </a:lnTo>
                  <a:lnTo>
                    <a:pt x="49" y="385"/>
                  </a:lnTo>
                  <a:lnTo>
                    <a:pt x="43" y="372"/>
                  </a:lnTo>
                  <a:lnTo>
                    <a:pt x="38" y="357"/>
                  </a:lnTo>
                  <a:lnTo>
                    <a:pt x="34" y="342"/>
                  </a:lnTo>
                  <a:lnTo>
                    <a:pt x="32" y="325"/>
                  </a:lnTo>
                  <a:lnTo>
                    <a:pt x="31" y="308"/>
                  </a:lnTo>
                  <a:lnTo>
                    <a:pt x="30" y="289"/>
                  </a:lnTo>
                  <a:lnTo>
                    <a:pt x="30" y="271"/>
                  </a:lnTo>
                  <a:lnTo>
                    <a:pt x="31" y="251"/>
                  </a:lnTo>
                  <a:lnTo>
                    <a:pt x="33" y="230"/>
                  </a:lnTo>
                  <a:lnTo>
                    <a:pt x="36" y="211"/>
                  </a:lnTo>
                  <a:lnTo>
                    <a:pt x="39" y="190"/>
                  </a:lnTo>
                  <a:lnTo>
                    <a:pt x="43" y="168"/>
                  </a:lnTo>
                  <a:lnTo>
                    <a:pt x="49" y="147"/>
                  </a:lnTo>
                  <a:lnTo>
                    <a:pt x="54" y="126"/>
                  </a:lnTo>
                  <a:lnTo>
                    <a:pt x="61" y="104"/>
                  </a:lnTo>
                  <a:lnTo>
                    <a:pt x="69" y="83"/>
                  </a:lnTo>
                  <a:lnTo>
                    <a:pt x="76" y="62"/>
                  </a:lnTo>
                  <a:lnTo>
                    <a:pt x="86" y="41"/>
                  </a:lnTo>
                  <a:lnTo>
                    <a:pt x="95" y="20"/>
                  </a:lnTo>
                  <a:lnTo>
                    <a:pt x="89" y="27"/>
                  </a:lnTo>
                  <a:lnTo>
                    <a:pt x="74" y="0"/>
                  </a:lnTo>
                  <a:lnTo>
                    <a:pt x="70" y="3"/>
                  </a:lnTo>
                  <a:lnTo>
                    <a:pt x="68" y="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718080" y="2795400"/>
              <a:ext cx="77760" cy="91800"/>
            </a:xfrm>
            <a:custGeom>
              <a:avLst/>
              <a:gdLst/>
              <a:ahLst/>
              <a:rect l="l" t="t" r="r" b="b"/>
              <a:pathLst>
                <a:path w="242" h="290">
                  <a:moveTo>
                    <a:pt x="232" y="263"/>
                  </a:moveTo>
                  <a:lnTo>
                    <a:pt x="241" y="278"/>
                  </a:lnTo>
                  <a:lnTo>
                    <a:pt x="242" y="240"/>
                  </a:lnTo>
                  <a:lnTo>
                    <a:pt x="242" y="203"/>
                  </a:lnTo>
                  <a:lnTo>
                    <a:pt x="241" y="169"/>
                  </a:lnTo>
                  <a:lnTo>
                    <a:pt x="237" y="139"/>
                  </a:lnTo>
                  <a:lnTo>
                    <a:pt x="235" y="123"/>
                  </a:lnTo>
                  <a:lnTo>
                    <a:pt x="231" y="109"/>
                  </a:lnTo>
                  <a:lnTo>
                    <a:pt x="227" y="96"/>
                  </a:lnTo>
                  <a:lnTo>
                    <a:pt x="224" y="83"/>
                  </a:lnTo>
                  <a:lnTo>
                    <a:pt x="219" y="71"/>
                  </a:lnTo>
                  <a:lnTo>
                    <a:pt x="213" y="60"/>
                  </a:lnTo>
                  <a:lnTo>
                    <a:pt x="208" y="50"/>
                  </a:lnTo>
                  <a:lnTo>
                    <a:pt x="200" y="40"/>
                  </a:lnTo>
                  <a:lnTo>
                    <a:pt x="193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1"/>
                  </a:lnTo>
                  <a:lnTo>
                    <a:pt x="155" y="7"/>
                  </a:lnTo>
                  <a:lnTo>
                    <a:pt x="144" y="3"/>
                  </a:lnTo>
                  <a:lnTo>
                    <a:pt x="131" y="1"/>
                  </a:lnTo>
                  <a:lnTo>
                    <a:pt x="119" y="0"/>
                  </a:lnTo>
                  <a:lnTo>
                    <a:pt x="107" y="1"/>
                  </a:lnTo>
                  <a:lnTo>
                    <a:pt x="93" y="2"/>
                  </a:lnTo>
                  <a:lnTo>
                    <a:pt x="79" y="5"/>
                  </a:lnTo>
                  <a:lnTo>
                    <a:pt x="64" y="8"/>
                  </a:lnTo>
                  <a:lnTo>
                    <a:pt x="49" y="13"/>
                  </a:lnTo>
                  <a:lnTo>
                    <a:pt x="33" y="19"/>
                  </a:lnTo>
                  <a:lnTo>
                    <a:pt x="17" y="27"/>
                  </a:lnTo>
                  <a:lnTo>
                    <a:pt x="0" y="35"/>
                  </a:lnTo>
                  <a:lnTo>
                    <a:pt x="15" y="62"/>
                  </a:lnTo>
                  <a:lnTo>
                    <a:pt x="31" y="54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2" y="37"/>
                  </a:lnTo>
                  <a:lnTo>
                    <a:pt x="86" y="34"/>
                  </a:lnTo>
                  <a:lnTo>
                    <a:pt x="97" y="32"/>
                  </a:lnTo>
                  <a:lnTo>
                    <a:pt x="108" y="30"/>
                  </a:lnTo>
                  <a:lnTo>
                    <a:pt x="119" y="30"/>
                  </a:lnTo>
                  <a:lnTo>
                    <a:pt x="128" y="30"/>
                  </a:lnTo>
                  <a:lnTo>
                    <a:pt x="136" y="33"/>
                  </a:lnTo>
                  <a:lnTo>
                    <a:pt x="145" y="34"/>
                  </a:lnTo>
                  <a:lnTo>
                    <a:pt x="152" y="38"/>
                  </a:lnTo>
                  <a:lnTo>
                    <a:pt x="158" y="41"/>
                  </a:lnTo>
                  <a:lnTo>
                    <a:pt x="165" y="46"/>
                  </a:lnTo>
                  <a:lnTo>
                    <a:pt x="171" y="53"/>
                  </a:lnTo>
                  <a:lnTo>
                    <a:pt x="177" y="59"/>
                  </a:lnTo>
                  <a:lnTo>
                    <a:pt x="182" y="66"/>
                  </a:lnTo>
                  <a:lnTo>
                    <a:pt x="187" y="73"/>
                  </a:lnTo>
                  <a:lnTo>
                    <a:pt x="192" y="83"/>
                  </a:lnTo>
                  <a:lnTo>
                    <a:pt x="195" y="93"/>
                  </a:lnTo>
                  <a:lnTo>
                    <a:pt x="199" y="104"/>
                  </a:lnTo>
                  <a:lnTo>
                    <a:pt x="202" y="117"/>
                  </a:lnTo>
                  <a:lnTo>
                    <a:pt x="205" y="129"/>
                  </a:lnTo>
                  <a:lnTo>
                    <a:pt x="206" y="142"/>
                  </a:lnTo>
                  <a:lnTo>
                    <a:pt x="210" y="172"/>
                  </a:lnTo>
                  <a:lnTo>
                    <a:pt x="213" y="204"/>
                  </a:lnTo>
                  <a:lnTo>
                    <a:pt x="213" y="238"/>
                  </a:lnTo>
                  <a:lnTo>
                    <a:pt x="210" y="276"/>
                  </a:lnTo>
                  <a:lnTo>
                    <a:pt x="219" y="290"/>
                  </a:lnTo>
                  <a:lnTo>
                    <a:pt x="210" y="276"/>
                  </a:lnTo>
                  <a:lnTo>
                    <a:pt x="210" y="286"/>
                  </a:lnTo>
                  <a:lnTo>
                    <a:pt x="219" y="290"/>
                  </a:lnTo>
                  <a:lnTo>
                    <a:pt x="232" y="2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3787920" y="2879640"/>
              <a:ext cx="39600" cy="28080"/>
            </a:xfrm>
            <a:custGeom>
              <a:avLst/>
              <a:gdLst/>
              <a:ahLst/>
              <a:rect l="l" t="t" r="r" b="b"/>
              <a:pathLst>
                <a:path w="122" h="90">
                  <a:moveTo>
                    <a:pt x="107" y="60"/>
                  </a:moveTo>
                  <a:lnTo>
                    <a:pt x="122" y="59"/>
                  </a:lnTo>
                  <a:lnTo>
                    <a:pt x="108" y="52"/>
                  </a:lnTo>
                  <a:lnTo>
                    <a:pt x="94" y="44"/>
                  </a:lnTo>
                  <a:lnTo>
                    <a:pt x="81" y="37"/>
                  </a:lnTo>
                  <a:lnTo>
                    <a:pt x="67" y="29"/>
                  </a:lnTo>
                  <a:lnTo>
                    <a:pt x="54" y="22"/>
                  </a:lnTo>
                  <a:lnTo>
                    <a:pt x="40" y="15"/>
                  </a:lnTo>
                  <a:lnTo>
                    <a:pt x="27" y="7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13" y="34"/>
                  </a:lnTo>
                  <a:lnTo>
                    <a:pt x="27" y="40"/>
                  </a:lnTo>
                  <a:lnTo>
                    <a:pt x="39" y="48"/>
                  </a:lnTo>
                  <a:lnTo>
                    <a:pt x="53" y="55"/>
                  </a:lnTo>
                  <a:lnTo>
                    <a:pt x="66" y="63"/>
                  </a:lnTo>
                  <a:lnTo>
                    <a:pt x="80" y="70"/>
                  </a:lnTo>
                  <a:lnTo>
                    <a:pt x="93" y="79"/>
                  </a:lnTo>
                  <a:lnTo>
                    <a:pt x="107" y="86"/>
                  </a:lnTo>
                  <a:lnTo>
                    <a:pt x="122" y="86"/>
                  </a:lnTo>
                  <a:lnTo>
                    <a:pt x="107" y="86"/>
                  </a:lnTo>
                  <a:lnTo>
                    <a:pt x="114" y="90"/>
                  </a:lnTo>
                  <a:lnTo>
                    <a:pt x="122" y="86"/>
                  </a:lnTo>
                  <a:lnTo>
                    <a:pt x="107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3822840" y="2874600"/>
              <a:ext cx="29880" cy="316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0" y="12"/>
                  </a:moveTo>
                  <a:lnTo>
                    <a:pt x="67" y="6"/>
                  </a:lnTo>
                  <a:lnTo>
                    <a:pt x="67" y="11"/>
                  </a:lnTo>
                  <a:lnTo>
                    <a:pt x="65" y="17"/>
                  </a:lnTo>
                  <a:lnTo>
                    <a:pt x="60" y="24"/>
                  </a:lnTo>
                  <a:lnTo>
                    <a:pt x="53" y="33"/>
                  </a:lnTo>
                  <a:lnTo>
                    <a:pt x="43" y="41"/>
                  </a:lnTo>
                  <a:lnTo>
                    <a:pt x="31" y="51"/>
                  </a:lnTo>
                  <a:lnTo>
                    <a:pt x="16" y="61"/>
                  </a:lnTo>
                  <a:lnTo>
                    <a:pt x="0" y="72"/>
                  </a:lnTo>
                  <a:lnTo>
                    <a:pt x="15" y="98"/>
                  </a:lnTo>
                  <a:lnTo>
                    <a:pt x="33" y="87"/>
                  </a:lnTo>
                  <a:lnTo>
                    <a:pt x="48" y="76"/>
                  </a:lnTo>
                  <a:lnTo>
                    <a:pt x="62" y="65"/>
                  </a:lnTo>
                  <a:lnTo>
                    <a:pt x="74" y="54"/>
                  </a:lnTo>
                  <a:lnTo>
                    <a:pt x="83" y="43"/>
                  </a:lnTo>
                  <a:lnTo>
                    <a:pt x="91" y="30"/>
                  </a:lnTo>
                  <a:lnTo>
                    <a:pt x="96" y="18"/>
                  </a:lnTo>
                  <a:lnTo>
                    <a:pt x="98" y="6"/>
                  </a:lnTo>
                  <a:lnTo>
                    <a:pt x="97" y="0"/>
                  </a:lnTo>
                  <a:lnTo>
                    <a:pt x="98" y="6"/>
                  </a:lnTo>
                  <a:lnTo>
                    <a:pt x="98" y="2"/>
                  </a:lnTo>
                  <a:lnTo>
                    <a:pt x="97" y="0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13120" y="2734920"/>
              <a:ext cx="84240" cy="144360"/>
            </a:xfrm>
            <a:custGeom>
              <a:avLst/>
              <a:gdLst/>
              <a:ahLst/>
              <a:rect l="l" t="t" r="r" b="b"/>
              <a:pathLst>
                <a:path w="267" h="455">
                  <a:moveTo>
                    <a:pt x="237" y="44"/>
                  </a:moveTo>
                  <a:lnTo>
                    <a:pt x="256" y="28"/>
                  </a:lnTo>
                  <a:lnTo>
                    <a:pt x="232" y="21"/>
                  </a:lnTo>
                  <a:lnTo>
                    <a:pt x="210" y="13"/>
                  </a:lnTo>
                  <a:lnTo>
                    <a:pt x="187" y="8"/>
                  </a:lnTo>
                  <a:lnTo>
                    <a:pt x="167" y="5"/>
                  </a:lnTo>
                  <a:lnTo>
                    <a:pt x="148" y="1"/>
                  </a:lnTo>
                  <a:lnTo>
                    <a:pt x="130" y="0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0" y="5"/>
                  </a:lnTo>
                  <a:lnTo>
                    <a:pt x="66" y="10"/>
                  </a:lnTo>
                  <a:lnTo>
                    <a:pt x="53" y="17"/>
                  </a:lnTo>
                  <a:lnTo>
                    <a:pt x="41" y="24"/>
                  </a:lnTo>
                  <a:lnTo>
                    <a:pt x="30" y="34"/>
                  </a:lnTo>
                  <a:lnTo>
                    <a:pt x="21" y="45"/>
                  </a:lnTo>
                  <a:lnTo>
                    <a:pt x="14" y="58"/>
                  </a:lnTo>
                  <a:lnTo>
                    <a:pt x="9" y="72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20"/>
                  </a:lnTo>
                  <a:lnTo>
                    <a:pt x="0" y="139"/>
                  </a:lnTo>
                  <a:lnTo>
                    <a:pt x="2" y="158"/>
                  </a:lnTo>
                  <a:lnTo>
                    <a:pt x="4" y="179"/>
                  </a:lnTo>
                  <a:lnTo>
                    <a:pt x="8" y="201"/>
                  </a:lnTo>
                  <a:lnTo>
                    <a:pt x="13" y="225"/>
                  </a:lnTo>
                  <a:lnTo>
                    <a:pt x="19" y="249"/>
                  </a:lnTo>
                  <a:lnTo>
                    <a:pt x="26" y="274"/>
                  </a:lnTo>
                  <a:lnTo>
                    <a:pt x="35" y="301"/>
                  </a:lnTo>
                  <a:lnTo>
                    <a:pt x="46" y="329"/>
                  </a:lnTo>
                  <a:lnTo>
                    <a:pt x="57" y="359"/>
                  </a:lnTo>
                  <a:lnTo>
                    <a:pt x="69" y="390"/>
                  </a:lnTo>
                  <a:lnTo>
                    <a:pt x="83" y="422"/>
                  </a:lnTo>
                  <a:lnTo>
                    <a:pt x="99" y="455"/>
                  </a:lnTo>
                  <a:lnTo>
                    <a:pt x="126" y="443"/>
                  </a:lnTo>
                  <a:lnTo>
                    <a:pt x="111" y="409"/>
                  </a:lnTo>
                  <a:lnTo>
                    <a:pt x="98" y="379"/>
                  </a:lnTo>
                  <a:lnTo>
                    <a:pt x="85" y="348"/>
                  </a:lnTo>
                  <a:lnTo>
                    <a:pt x="74" y="320"/>
                  </a:lnTo>
                  <a:lnTo>
                    <a:pt x="64" y="291"/>
                  </a:lnTo>
                  <a:lnTo>
                    <a:pt x="56" y="265"/>
                  </a:lnTo>
                  <a:lnTo>
                    <a:pt x="48" y="241"/>
                  </a:lnTo>
                  <a:lnTo>
                    <a:pt x="42" y="217"/>
                  </a:lnTo>
                  <a:lnTo>
                    <a:pt x="37" y="195"/>
                  </a:lnTo>
                  <a:lnTo>
                    <a:pt x="34" y="174"/>
                  </a:lnTo>
                  <a:lnTo>
                    <a:pt x="31" y="156"/>
                  </a:lnTo>
                  <a:lnTo>
                    <a:pt x="30" y="138"/>
                  </a:lnTo>
                  <a:lnTo>
                    <a:pt x="30" y="122"/>
                  </a:lnTo>
                  <a:lnTo>
                    <a:pt x="31" y="107"/>
                  </a:lnTo>
                  <a:lnTo>
                    <a:pt x="34" y="93"/>
                  </a:lnTo>
                  <a:lnTo>
                    <a:pt x="37" y="82"/>
                  </a:lnTo>
                  <a:lnTo>
                    <a:pt x="41" y="71"/>
                  </a:lnTo>
                  <a:lnTo>
                    <a:pt x="46" y="63"/>
                  </a:lnTo>
                  <a:lnTo>
                    <a:pt x="52" y="55"/>
                  </a:lnTo>
                  <a:lnTo>
                    <a:pt x="60" y="48"/>
                  </a:lnTo>
                  <a:lnTo>
                    <a:pt x="68" y="43"/>
                  </a:lnTo>
                  <a:lnTo>
                    <a:pt x="77" y="38"/>
                  </a:lnTo>
                  <a:lnTo>
                    <a:pt x="88" y="34"/>
                  </a:lnTo>
                  <a:lnTo>
                    <a:pt x="100" y="32"/>
                  </a:lnTo>
                  <a:lnTo>
                    <a:pt x="114" y="31"/>
                  </a:lnTo>
                  <a:lnTo>
                    <a:pt x="128" y="31"/>
                  </a:lnTo>
                  <a:lnTo>
                    <a:pt x="144" y="32"/>
                  </a:lnTo>
                  <a:lnTo>
                    <a:pt x="162" y="34"/>
                  </a:lnTo>
                  <a:lnTo>
                    <a:pt x="181" y="38"/>
                  </a:lnTo>
                  <a:lnTo>
                    <a:pt x="201" y="43"/>
                  </a:lnTo>
                  <a:lnTo>
                    <a:pt x="223" y="49"/>
                  </a:lnTo>
                  <a:lnTo>
                    <a:pt x="246" y="56"/>
                  </a:lnTo>
                  <a:lnTo>
                    <a:pt x="266" y="42"/>
                  </a:lnTo>
                  <a:lnTo>
                    <a:pt x="246" y="56"/>
                  </a:lnTo>
                  <a:lnTo>
                    <a:pt x="267" y="65"/>
                  </a:lnTo>
                  <a:lnTo>
                    <a:pt x="266" y="42"/>
                  </a:lnTo>
                  <a:lnTo>
                    <a:pt x="237" y="4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886200" y="2617560"/>
              <a:ext cx="258840" cy="129960"/>
            </a:xfrm>
            <a:custGeom>
              <a:avLst/>
              <a:gdLst/>
              <a:ahLst/>
              <a:rect l="l" t="t" r="r" b="b"/>
              <a:pathLst>
                <a:path w="813" h="410">
                  <a:moveTo>
                    <a:pt x="780" y="206"/>
                  </a:moveTo>
                  <a:lnTo>
                    <a:pt x="802" y="190"/>
                  </a:lnTo>
                  <a:lnTo>
                    <a:pt x="764" y="170"/>
                  </a:lnTo>
                  <a:lnTo>
                    <a:pt x="727" y="149"/>
                  </a:lnTo>
                  <a:lnTo>
                    <a:pt x="690" y="131"/>
                  </a:lnTo>
                  <a:lnTo>
                    <a:pt x="652" y="112"/>
                  </a:lnTo>
                  <a:lnTo>
                    <a:pt x="615" y="95"/>
                  </a:lnTo>
                  <a:lnTo>
                    <a:pt x="578" y="79"/>
                  </a:lnTo>
                  <a:lnTo>
                    <a:pt x="542" y="64"/>
                  </a:lnTo>
                  <a:lnTo>
                    <a:pt x="505" y="50"/>
                  </a:lnTo>
                  <a:lnTo>
                    <a:pt x="470" y="37"/>
                  </a:lnTo>
                  <a:lnTo>
                    <a:pt x="435" y="28"/>
                  </a:lnTo>
                  <a:lnTo>
                    <a:pt x="401" y="18"/>
                  </a:lnTo>
                  <a:lnTo>
                    <a:pt x="368" y="10"/>
                  </a:lnTo>
                  <a:lnTo>
                    <a:pt x="335" y="5"/>
                  </a:lnTo>
                  <a:lnTo>
                    <a:pt x="303" y="2"/>
                  </a:lnTo>
                  <a:lnTo>
                    <a:pt x="272" y="0"/>
                  </a:lnTo>
                  <a:lnTo>
                    <a:pt x="242" y="2"/>
                  </a:lnTo>
                  <a:lnTo>
                    <a:pt x="227" y="3"/>
                  </a:lnTo>
                  <a:lnTo>
                    <a:pt x="213" y="4"/>
                  </a:lnTo>
                  <a:lnTo>
                    <a:pt x="199" y="7"/>
                  </a:lnTo>
                  <a:lnTo>
                    <a:pt x="186" y="10"/>
                  </a:lnTo>
                  <a:lnTo>
                    <a:pt x="172" y="14"/>
                  </a:lnTo>
                  <a:lnTo>
                    <a:pt x="159" y="19"/>
                  </a:lnTo>
                  <a:lnTo>
                    <a:pt x="146" y="24"/>
                  </a:lnTo>
                  <a:lnTo>
                    <a:pt x="134" y="30"/>
                  </a:lnTo>
                  <a:lnTo>
                    <a:pt x="123" y="36"/>
                  </a:lnTo>
                  <a:lnTo>
                    <a:pt x="111" y="44"/>
                  </a:lnTo>
                  <a:lnTo>
                    <a:pt x="101" y="52"/>
                  </a:lnTo>
                  <a:lnTo>
                    <a:pt x="90" y="61"/>
                  </a:lnTo>
                  <a:lnTo>
                    <a:pt x="80" y="71"/>
                  </a:lnTo>
                  <a:lnTo>
                    <a:pt x="71" y="82"/>
                  </a:lnTo>
                  <a:lnTo>
                    <a:pt x="61" y="93"/>
                  </a:lnTo>
                  <a:lnTo>
                    <a:pt x="54" y="105"/>
                  </a:lnTo>
                  <a:lnTo>
                    <a:pt x="45" y="117"/>
                  </a:lnTo>
                  <a:lnTo>
                    <a:pt x="39" y="131"/>
                  </a:lnTo>
                  <a:lnTo>
                    <a:pt x="32" y="146"/>
                  </a:lnTo>
                  <a:lnTo>
                    <a:pt x="26" y="162"/>
                  </a:lnTo>
                  <a:lnTo>
                    <a:pt x="21" y="178"/>
                  </a:lnTo>
                  <a:lnTo>
                    <a:pt x="16" y="194"/>
                  </a:lnTo>
                  <a:lnTo>
                    <a:pt x="12" y="212"/>
                  </a:lnTo>
                  <a:lnTo>
                    <a:pt x="9" y="230"/>
                  </a:lnTo>
                  <a:lnTo>
                    <a:pt x="6" y="249"/>
                  </a:lnTo>
                  <a:lnTo>
                    <a:pt x="4" y="270"/>
                  </a:lnTo>
                  <a:lnTo>
                    <a:pt x="1" y="291"/>
                  </a:lnTo>
                  <a:lnTo>
                    <a:pt x="1" y="313"/>
                  </a:lnTo>
                  <a:lnTo>
                    <a:pt x="0" y="335"/>
                  </a:lnTo>
                  <a:lnTo>
                    <a:pt x="0" y="360"/>
                  </a:lnTo>
                  <a:lnTo>
                    <a:pt x="1" y="384"/>
                  </a:lnTo>
                  <a:lnTo>
                    <a:pt x="4" y="410"/>
                  </a:lnTo>
                  <a:lnTo>
                    <a:pt x="33" y="408"/>
                  </a:lnTo>
                  <a:lnTo>
                    <a:pt x="32" y="383"/>
                  </a:lnTo>
                  <a:lnTo>
                    <a:pt x="31" y="358"/>
                  </a:lnTo>
                  <a:lnTo>
                    <a:pt x="31" y="335"/>
                  </a:lnTo>
                  <a:lnTo>
                    <a:pt x="31" y="314"/>
                  </a:lnTo>
                  <a:lnTo>
                    <a:pt x="32" y="292"/>
                  </a:lnTo>
                  <a:lnTo>
                    <a:pt x="33" y="272"/>
                  </a:lnTo>
                  <a:lnTo>
                    <a:pt x="36" y="254"/>
                  </a:lnTo>
                  <a:lnTo>
                    <a:pt x="38" y="235"/>
                  </a:lnTo>
                  <a:lnTo>
                    <a:pt x="42" y="218"/>
                  </a:lnTo>
                  <a:lnTo>
                    <a:pt x="45" y="201"/>
                  </a:lnTo>
                  <a:lnTo>
                    <a:pt x="49" y="186"/>
                  </a:lnTo>
                  <a:lnTo>
                    <a:pt x="54" y="171"/>
                  </a:lnTo>
                  <a:lnTo>
                    <a:pt x="60" y="158"/>
                  </a:lnTo>
                  <a:lnTo>
                    <a:pt x="66" y="144"/>
                  </a:lnTo>
                  <a:lnTo>
                    <a:pt x="73" y="132"/>
                  </a:lnTo>
                  <a:lnTo>
                    <a:pt x="79" y="121"/>
                  </a:lnTo>
                  <a:lnTo>
                    <a:pt x="86" y="110"/>
                  </a:lnTo>
                  <a:lnTo>
                    <a:pt x="93" y="100"/>
                  </a:lnTo>
                  <a:lnTo>
                    <a:pt x="102" y="91"/>
                  </a:lnTo>
                  <a:lnTo>
                    <a:pt x="111" y="83"/>
                  </a:lnTo>
                  <a:lnTo>
                    <a:pt x="119" y="75"/>
                  </a:lnTo>
                  <a:lnTo>
                    <a:pt x="129" y="68"/>
                  </a:lnTo>
                  <a:lnTo>
                    <a:pt x="138" y="62"/>
                  </a:lnTo>
                  <a:lnTo>
                    <a:pt x="149" y="56"/>
                  </a:lnTo>
                  <a:lnTo>
                    <a:pt x="159" y="51"/>
                  </a:lnTo>
                  <a:lnTo>
                    <a:pt x="170" y="47"/>
                  </a:lnTo>
                  <a:lnTo>
                    <a:pt x="181" y="42"/>
                  </a:lnTo>
                  <a:lnTo>
                    <a:pt x="193" y="39"/>
                  </a:lnTo>
                  <a:lnTo>
                    <a:pt x="205" y="36"/>
                  </a:lnTo>
                  <a:lnTo>
                    <a:pt x="218" y="34"/>
                  </a:lnTo>
                  <a:lnTo>
                    <a:pt x="230" y="32"/>
                  </a:lnTo>
                  <a:lnTo>
                    <a:pt x="243" y="31"/>
                  </a:lnTo>
                  <a:lnTo>
                    <a:pt x="272" y="30"/>
                  </a:lnTo>
                  <a:lnTo>
                    <a:pt x="300" y="31"/>
                  </a:lnTo>
                  <a:lnTo>
                    <a:pt x="331" y="35"/>
                  </a:lnTo>
                  <a:lnTo>
                    <a:pt x="362" y="40"/>
                  </a:lnTo>
                  <a:lnTo>
                    <a:pt x="394" y="47"/>
                  </a:lnTo>
                  <a:lnTo>
                    <a:pt x="427" y="56"/>
                  </a:lnTo>
                  <a:lnTo>
                    <a:pt x="461" y="67"/>
                  </a:lnTo>
                  <a:lnTo>
                    <a:pt x="496" y="78"/>
                  </a:lnTo>
                  <a:lnTo>
                    <a:pt x="531" y="91"/>
                  </a:lnTo>
                  <a:lnTo>
                    <a:pt x="567" y="106"/>
                  </a:lnTo>
                  <a:lnTo>
                    <a:pt x="603" y="122"/>
                  </a:lnTo>
                  <a:lnTo>
                    <a:pt x="640" y="139"/>
                  </a:lnTo>
                  <a:lnTo>
                    <a:pt x="676" y="158"/>
                  </a:lnTo>
                  <a:lnTo>
                    <a:pt x="713" y="176"/>
                  </a:lnTo>
                  <a:lnTo>
                    <a:pt x="750" y="196"/>
                  </a:lnTo>
                  <a:lnTo>
                    <a:pt x="787" y="217"/>
                  </a:lnTo>
                  <a:lnTo>
                    <a:pt x="809" y="201"/>
                  </a:lnTo>
                  <a:lnTo>
                    <a:pt x="787" y="217"/>
                  </a:lnTo>
                  <a:lnTo>
                    <a:pt x="813" y="232"/>
                  </a:lnTo>
                  <a:lnTo>
                    <a:pt x="809" y="201"/>
                  </a:lnTo>
                  <a:lnTo>
                    <a:pt x="780" y="20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089240" y="2970000"/>
              <a:ext cx="57240" cy="5508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43" y="0"/>
                  </a:moveTo>
                  <a:lnTo>
                    <a:pt x="31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3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1" y="90"/>
                  </a:lnTo>
                  <a:lnTo>
                    <a:pt x="18" y="97"/>
                  </a:lnTo>
                  <a:lnTo>
                    <a:pt x="26" y="105"/>
                  </a:lnTo>
                  <a:lnTo>
                    <a:pt x="40" y="117"/>
                  </a:lnTo>
                  <a:lnTo>
                    <a:pt x="59" y="128"/>
                  </a:lnTo>
                  <a:lnTo>
                    <a:pt x="79" y="138"/>
                  </a:lnTo>
                  <a:lnTo>
                    <a:pt x="98" y="148"/>
                  </a:lnTo>
                  <a:lnTo>
                    <a:pt x="118" y="155"/>
                  </a:lnTo>
                  <a:lnTo>
                    <a:pt x="135" y="163"/>
                  </a:lnTo>
                  <a:lnTo>
                    <a:pt x="163" y="171"/>
                  </a:lnTo>
                  <a:lnTo>
                    <a:pt x="175" y="175"/>
                  </a:lnTo>
                  <a:lnTo>
                    <a:pt x="182" y="147"/>
                  </a:lnTo>
                  <a:lnTo>
                    <a:pt x="172" y="143"/>
                  </a:lnTo>
                  <a:lnTo>
                    <a:pt x="145" y="134"/>
                  </a:lnTo>
                  <a:lnTo>
                    <a:pt x="129" y="128"/>
                  </a:lnTo>
                  <a:lnTo>
                    <a:pt x="111" y="120"/>
                  </a:lnTo>
                  <a:lnTo>
                    <a:pt x="92" y="111"/>
                  </a:lnTo>
                  <a:lnTo>
                    <a:pt x="74" y="102"/>
                  </a:lnTo>
                  <a:lnTo>
                    <a:pt x="58" y="92"/>
                  </a:lnTo>
                  <a:lnTo>
                    <a:pt x="44" y="81"/>
                  </a:lnTo>
                  <a:lnTo>
                    <a:pt x="39" y="76"/>
                  </a:lnTo>
                  <a:lnTo>
                    <a:pt x="36" y="72"/>
                  </a:lnTo>
                  <a:lnTo>
                    <a:pt x="33" y="67"/>
                  </a:lnTo>
                  <a:lnTo>
                    <a:pt x="31" y="63"/>
                  </a:lnTo>
                  <a:lnTo>
                    <a:pt x="29" y="59"/>
                  </a:lnTo>
                  <a:lnTo>
                    <a:pt x="29" y="56"/>
                  </a:lnTo>
                  <a:lnTo>
                    <a:pt x="31" y="52"/>
                  </a:lnTo>
                  <a:lnTo>
                    <a:pt x="33" y="48"/>
                  </a:lnTo>
                  <a:lnTo>
                    <a:pt x="36" y="43"/>
                  </a:lnTo>
                  <a:lnTo>
                    <a:pt x="42" y="38"/>
                  </a:lnTo>
                  <a:lnTo>
                    <a:pt x="49" y="32"/>
                  </a:lnTo>
                  <a:lnTo>
                    <a:pt x="58" y="2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973680" y="2831760"/>
              <a:ext cx="155520" cy="77400"/>
            </a:xfrm>
            <a:custGeom>
              <a:avLst/>
              <a:gdLst/>
              <a:ahLst/>
              <a:rect l="l" t="t" r="r" b="b"/>
              <a:pathLst>
                <a:path w="490" h="245">
                  <a:moveTo>
                    <a:pt x="490" y="173"/>
                  </a:moveTo>
                  <a:lnTo>
                    <a:pt x="459" y="141"/>
                  </a:lnTo>
                  <a:lnTo>
                    <a:pt x="430" y="112"/>
                  </a:lnTo>
                  <a:lnTo>
                    <a:pt x="414" y="98"/>
                  </a:lnTo>
                  <a:lnTo>
                    <a:pt x="399" y="86"/>
                  </a:lnTo>
                  <a:lnTo>
                    <a:pt x="383" y="75"/>
                  </a:lnTo>
                  <a:lnTo>
                    <a:pt x="368" y="64"/>
                  </a:lnTo>
                  <a:lnTo>
                    <a:pt x="352" y="54"/>
                  </a:lnTo>
                  <a:lnTo>
                    <a:pt x="337" y="44"/>
                  </a:lnTo>
                  <a:lnTo>
                    <a:pt x="321" y="37"/>
                  </a:lnTo>
                  <a:lnTo>
                    <a:pt x="307" y="29"/>
                  </a:lnTo>
                  <a:lnTo>
                    <a:pt x="291" y="22"/>
                  </a:lnTo>
                  <a:lnTo>
                    <a:pt x="276" y="17"/>
                  </a:lnTo>
                  <a:lnTo>
                    <a:pt x="260" y="12"/>
                  </a:lnTo>
                  <a:lnTo>
                    <a:pt x="245" y="8"/>
                  </a:lnTo>
                  <a:lnTo>
                    <a:pt x="229" y="5"/>
                  </a:lnTo>
                  <a:lnTo>
                    <a:pt x="214" y="2"/>
                  </a:lnTo>
                  <a:lnTo>
                    <a:pt x="200" y="1"/>
                  </a:lnTo>
                  <a:lnTo>
                    <a:pt x="184" y="0"/>
                  </a:lnTo>
                  <a:lnTo>
                    <a:pt x="169" y="0"/>
                  </a:lnTo>
                  <a:lnTo>
                    <a:pt x="153" y="1"/>
                  </a:lnTo>
                  <a:lnTo>
                    <a:pt x="138" y="4"/>
                  </a:lnTo>
                  <a:lnTo>
                    <a:pt x="122" y="6"/>
                  </a:lnTo>
                  <a:lnTo>
                    <a:pt x="107" y="10"/>
                  </a:lnTo>
                  <a:lnTo>
                    <a:pt x="91" y="13"/>
                  </a:lnTo>
                  <a:lnTo>
                    <a:pt x="77" y="18"/>
                  </a:lnTo>
                  <a:lnTo>
                    <a:pt x="61" y="24"/>
                  </a:lnTo>
                  <a:lnTo>
                    <a:pt x="46" y="31"/>
                  </a:lnTo>
                  <a:lnTo>
                    <a:pt x="30" y="39"/>
                  </a:lnTo>
                  <a:lnTo>
                    <a:pt x="15" y="47"/>
                  </a:lnTo>
                  <a:lnTo>
                    <a:pt x="0" y="56"/>
                  </a:lnTo>
                  <a:lnTo>
                    <a:pt x="15" y="75"/>
                  </a:lnTo>
                  <a:lnTo>
                    <a:pt x="30" y="92"/>
                  </a:lnTo>
                  <a:lnTo>
                    <a:pt x="46" y="109"/>
                  </a:lnTo>
                  <a:lnTo>
                    <a:pt x="61" y="125"/>
                  </a:lnTo>
                  <a:lnTo>
                    <a:pt x="77" y="140"/>
                  </a:lnTo>
                  <a:lnTo>
                    <a:pt x="91" y="154"/>
                  </a:lnTo>
                  <a:lnTo>
                    <a:pt x="107" y="167"/>
                  </a:lnTo>
                  <a:lnTo>
                    <a:pt x="122" y="178"/>
                  </a:lnTo>
                  <a:lnTo>
                    <a:pt x="138" y="189"/>
                  </a:lnTo>
                  <a:lnTo>
                    <a:pt x="153" y="199"/>
                  </a:lnTo>
                  <a:lnTo>
                    <a:pt x="169" y="208"/>
                  </a:lnTo>
                  <a:lnTo>
                    <a:pt x="184" y="216"/>
                  </a:lnTo>
                  <a:lnTo>
                    <a:pt x="200" y="222"/>
                  </a:lnTo>
                  <a:lnTo>
                    <a:pt x="214" y="229"/>
                  </a:lnTo>
                  <a:lnTo>
                    <a:pt x="229" y="234"/>
                  </a:lnTo>
                  <a:lnTo>
                    <a:pt x="245" y="238"/>
                  </a:lnTo>
                  <a:lnTo>
                    <a:pt x="260" y="241"/>
                  </a:lnTo>
                  <a:lnTo>
                    <a:pt x="276" y="243"/>
                  </a:lnTo>
                  <a:lnTo>
                    <a:pt x="291" y="245"/>
                  </a:lnTo>
                  <a:lnTo>
                    <a:pt x="307" y="245"/>
                  </a:lnTo>
                  <a:lnTo>
                    <a:pt x="321" y="245"/>
                  </a:lnTo>
                  <a:lnTo>
                    <a:pt x="337" y="242"/>
                  </a:lnTo>
                  <a:lnTo>
                    <a:pt x="352" y="240"/>
                  </a:lnTo>
                  <a:lnTo>
                    <a:pt x="368" y="236"/>
                  </a:lnTo>
                  <a:lnTo>
                    <a:pt x="383" y="232"/>
                  </a:lnTo>
                  <a:lnTo>
                    <a:pt x="399" y="226"/>
                  </a:lnTo>
                  <a:lnTo>
                    <a:pt x="414" y="220"/>
                  </a:lnTo>
                  <a:lnTo>
                    <a:pt x="430" y="213"/>
                  </a:lnTo>
                  <a:lnTo>
                    <a:pt x="444" y="204"/>
                  </a:lnTo>
                  <a:lnTo>
                    <a:pt x="459" y="195"/>
                  </a:lnTo>
                  <a:lnTo>
                    <a:pt x="475" y="184"/>
                  </a:lnTo>
                  <a:lnTo>
                    <a:pt x="490" y="173"/>
                  </a:lnTo>
                  <a:close/>
                </a:path>
              </a:pathLst>
            </a:custGeom>
            <a:solidFill>
              <a:srgbClr val="ddd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3967200" y="2827080"/>
              <a:ext cx="166680" cy="61560"/>
            </a:xfrm>
            <a:custGeom>
              <a:avLst/>
              <a:gdLst/>
              <a:ahLst/>
              <a:rect l="l" t="t" r="r" b="b"/>
              <a:pathLst>
                <a:path w="525" h="199">
                  <a:moveTo>
                    <a:pt x="35" y="62"/>
                  </a:moveTo>
                  <a:lnTo>
                    <a:pt x="31" y="84"/>
                  </a:lnTo>
                  <a:lnTo>
                    <a:pt x="46" y="75"/>
                  </a:lnTo>
                  <a:lnTo>
                    <a:pt x="60" y="66"/>
                  </a:lnTo>
                  <a:lnTo>
                    <a:pt x="75" y="60"/>
                  </a:lnTo>
                  <a:lnTo>
                    <a:pt x="90" y="53"/>
                  </a:lnTo>
                  <a:lnTo>
                    <a:pt x="105" y="48"/>
                  </a:lnTo>
                  <a:lnTo>
                    <a:pt x="119" y="43"/>
                  </a:lnTo>
                  <a:lnTo>
                    <a:pt x="134" y="38"/>
                  </a:lnTo>
                  <a:lnTo>
                    <a:pt x="149" y="36"/>
                  </a:lnTo>
                  <a:lnTo>
                    <a:pt x="162" y="33"/>
                  </a:lnTo>
                  <a:lnTo>
                    <a:pt x="177" y="31"/>
                  </a:lnTo>
                  <a:lnTo>
                    <a:pt x="192" y="31"/>
                  </a:lnTo>
                  <a:lnTo>
                    <a:pt x="207" y="31"/>
                  </a:lnTo>
                  <a:lnTo>
                    <a:pt x="221" y="31"/>
                  </a:lnTo>
                  <a:lnTo>
                    <a:pt x="236" y="32"/>
                  </a:lnTo>
                  <a:lnTo>
                    <a:pt x="250" y="34"/>
                  </a:lnTo>
                  <a:lnTo>
                    <a:pt x="265" y="37"/>
                  </a:lnTo>
                  <a:lnTo>
                    <a:pt x="279" y="42"/>
                  </a:lnTo>
                  <a:lnTo>
                    <a:pt x="294" y="46"/>
                  </a:lnTo>
                  <a:lnTo>
                    <a:pt x="309" y="52"/>
                  </a:lnTo>
                  <a:lnTo>
                    <a:pt x="324" y="58"/>
                  </a:lnTo>
                  <a:lnTo>
                    <a:pt x="338" y="65"/>
                  </a:lnTo>
                  <a:lnTo>
                    <a:pt x="353" y="73"/>
                  </a:lnTo>
                  <a:lnTo>
                    <a:pt x="368" y="81"/>
                  </a:lnTo>
                  <a:lnTo>
                    <a:pt x="383" y="91"/>
                  </a:lnTo>
                  <a:lnTo>
                    <a:pt x="397" y="101"/>
                  </a:lnTo>
                  <a:lnTo>
                    <a:pt x="412" y="113"/>
                  </a:lnTo>
                  <a:lnTo>
                    <a:pt x="427" y="126"/>
                  </a:lnTo>
                  <a:lnTo>
                    <a:pt x="442" y="138"/>
                  </a:lnTo>
                  <a:lnTo>
                    <a:pt x="472" y="166"/>
                  </a:lnTo>
                  <a:lnTo>
                    <a:pt x="502" y="199"/>
                  </a:lnTo>
                  <a:lnTo>
                    <a:pt x="525" y="178"/>
                  </a:lnTo>
                  <a:lnTo>
                    <a:pt x="493" y="145"/>
                  </a:lnTo>
                  <a:lnTo>
                    <a:pt x="463" y="116"/>
                  </a:lnTo>
                  <a:lnTo>
                    <a:pt x="447" y="102"/>
                  </a:lnTo>
                  <a:lnTo>
                    <a:pt x="431" y="89"/>
                  </a:lnTo>
                  <a:lnTo>
                    <a:pt x="415" y="78"/>
                  </a:lnTo>
                  <a:lnTo>
                    <a:pt x="400" y="66"/>
                  </a:lnTo>
                  <a:lnTo>
                    <a:pt x="384" y="55"/>
                  </a:lnTo>
                  <a:lnTo>
                    <a:pt x="368" y="47"/>
                  </a:lnTo>
                  <a:lnTo>
                    <a:pt x="352" y="38"/>
                  </a:lnTo>
                  <a:lnTo>
                    <a:pt x="336" y="31"/>
                  </a:lnTo>
                  <a:lnTo>
                    <a:pt x="320" y="23"/>
                  </a:lnTo>
                  <a:lnTo>
                    <a:pt x="304" y="17"/>
                  </a:lnTo>
                  <a:lnTo>
                    <a:pt x="288" y="12"/>
                  </a:lnTo>
                  <a:lnTo>
                    <a:pt x="272" y="9"/>
                  </a:lnTo>
                  <a:lnTo>
                    <a:pt x="256" y="5"/>
                  </a:lnTo>
                  <a:lnTo>
                    <a:pt x="240" y="3"/>
                  </a:lnTo>
                  <a:lnTo>
                    <a:pt x="223" y="1"/>
                  </a:lnTo>
                  <a:lnTo>
                    <a:pt x="207" y="0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59" y="4"/>
                  </a:lnTo>
                  <a:lnTo>
                    <a:pt x="143" y="6"/>
                  </a:lnTo>
                  <a:lnTo>
                    <a:pt x="127" y="10"/>
                  </a:lnTo>
                  <a:lnTo>
                    <a:pt x="111" y="14"/>
                  </a:lnTo>
                  <a:lnTo>
                    <a:pt x="95" y="20"/>
                  </a:lnTo>
                  <a:lnTo>
                    <a:pt x="79" y="26"/>
                  </a:lnTo>
                  <a:lnTo>
                    <a:pt x="63" y="32"/>
                  </a:lnTo>
                  <a:lnTo>
                    <a:pt x="47" y="41"/>
                  </a:lnTo>
                  <a:lnTo>
                    <a:pt x="31" y="49"/>
                  </a:lnTo>
                  <a:lnTo>
                    <a:pt x="15" y="58"/>
                  </a:lnTo>
                  <a:lnTo>
                    <a:pt x="11" y="80"/>
                  </a:lnTo>
                  <a:lnTo>
                    <a:pt x="15" y="58"/>
                  </a:lnTo>
                  <a:lnTo>
                    <a:pt x="0" y="68"/>
                  </a:lnTo>
                  <a:lnTo>
                    <a:pt x="11" y="80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3970440" y="2846160"/>
              <a:ext cx="166680" cy="66240"/>
            </a:xfrm>
            <a:custGeom>
              <a:avLst/>
              <a:gdLst/>
              <a:ahLst/>
              <a:rect l="l" t="t" r="r" b="b"/>
              <a:pathLst>
                <a:path w="524" h="212">
                  <a:moveTo>
                    <a:pt x="491" y="137"/>
                  </a:moveTo>
                  <a:lnTo>
                    <a:pt x="493" y="115"/>
                  </a:lnTo>
                  <a:lnTo>
                    <a:pt x="479" y="125"/>
                  </a:lnTo>
                  <a:lnTo>
                    <a:pt x="464" y="135"/>
                  </a:lnTo>
                  <a:lnTo>
                    <a:pt x="449" y="145"/>
                  </a:lnTo>
                  <a:lnTo>
                    <a:pt x="434" y="152"/>
                  </a:lnTo>
                  <a:lnTo>
                    <a:pt x="420" y="159"/>
                  </a:lnTo>
                  <a:lnTo>
                    <a:pt x="405" y="166"/>
                  </a:lnTo>
                  <a:lnTo>
                    <a:pt x="390" y="171"/>
                  </a:lnTo>
                  <a:lnTo>
                    <a:pt x="377" y="174"/>
                  </a:lnTo>
                  <a:lnTo>
                    <a:pt x="362" y="178"/>
                  </a:lnTo>
                  <a:lnTo>
                    <a:pt x="347" y="180"/>
                  </a:lnTo>
                  <a:lnTo>
                    <a:pt x="332" y="182"/>
                  </a:lnTo>
                  <a:lnTo>
                    <a:pt x="319" y="183"/>
                  </a:lnTo>
                  <a:lnTo>
                    <a:pt x="304" y="183"/>
                  </a:lnTo>
                  <a:lnTo>
                    <a:pt x="289" y="182"/>
                  </a:lnTo>
                  <a:lnTo>
                    <a:pt x="274" y="179"/>
                  </a:lnTo>
                  <a:lnTo>
                    <a:pt x="261" y="177"/>
                  </a:lnTo>
                  <a:lnTo>
                    <a:pt x="246" y="173"/>
                  </a:lnTo>
                  <a:lnTo>
                    <a:pt x="231" y="168"/>
                  </a:lnTo>
                  <a:lnTo>
                    <a:pt x="217" y="162"/>
                  </a:lnTo>
                  <a:lnTo>
                    <a:pt x="202" y="156"/>
                  </a:lnTo>
                  <a:lnTo>
                    <a:pt x="188" y="148"/>
                  </a:lnTo>
                  <a:lnTo>
                    <a:pt x="174" y="140"/>
                  </a:lnTo>
                  <a:lnTo>
                    <a:pt x="159" y="130"/>
                  </a:lnTo>
                  <a:lnTo>
                    <a:pt x="144" y="119"/>
                  </a:lnTo>
                  <a:lnTo>
                    <a:pt x="128" y="108"/>
                  </a:lnTo>
                  <a:lnTo>
                    <a:pt x="113" y="95"/>
                  </a:lnTo>
                  <a:lnTo>
                    <a:pt x="99" y="82"/>
                  </a:lnTo>
                  <a:lnTo>
                    <a:pt x="84" y="67"/>
                  </a:lnTo>
                  <a:lnTo>
                    <a:pt x="69" y="52"/>
                  </a:lnTo>
                  <a:lnTo>
                    <a:pt x="54" y="35"/>
                  </a:lnTo>
                  <a:lnTo>
                    <a:pt x="38" y="18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16" y="38"/>
                  </a:lnTo>
                  <a:lnTo>
                    <a:pt x="31" y="56"/>
                  </a:lnTo>
                  <a:lnTo>
                    <a:pt x="47" y="72"/>
                  </a:lnTo>
                  <a:lnTo>
                    <a:pt x="63" y="89"/>
                  </a:lnTo>
                  <a:lnTo>
                    <a:pt x="79" y="104"/>
                  </a:lnTo>
                  <a:lnTo>
                    <a:pt x="94" y="118"/>
                  </a:lnTo>
                  <a:lnTo>
                    <a:pt x="110" y="131"/>
                  </a:lnTo>
                  <a:lnTo>
                    <a:pt x="126" y="143"/>
                  </a:lnTo>
                  <a:lnTo>
                    <a:pt x="142" y="155"/>
                  </a:lnTo>
                  <a:lnTo>
                    <a:pt x="158" y="166"/>
                  </a:lnTo>
                  <a:lnTo>
                    <a:pt x="174" y="174"/>
                  </a:lnTo>
                  <a:lnTo>
                    <a:pt x="190" y="183"/>
                  </a:lnTo>
                  <a:lnTo>
                    <a:pt x="206" y="190"/>
                  </a:lnTo>
                  <a:lnTo>
                    <a:pt x="222" y="196"/>
                  </a:lnTo>
                  <a:lnTo>
                    <a:pt x="238" y="201"/>
                  </a:lnTo>
                  <a:lnTo>
                    <a:pt x="254" y="206"/>
                  </a:lnTo>
                  <a:lnTo>
                    <a:pt x="270" y="209"/>
                  </a:lnTo>
                  <a:lnTo>
                    <a:pt x="287" y="211"/>
                  </a:lnTo>
                  <a:lnTo>
                    <a:pt x="303" y="212"/>
                  </a:lnTo>
                  <a:lnTo>
                    <a:pt x="319" y="212"/>
                  </a:lnTo>
                  <a:lnTo>
                    <a:pt x="335" y="212"/>
                  </a:lnTo>
                  <a:lnTo>
                    <a:pt x="351" y="210"/>
                  </a:lnTo>
                  <a:lnTo>
                    <a:pt x="368" y="207"/>
                  </a:lnTo>
                  <a:lnTo>
                    <a:pt x="384" y="204"/>
                  </a:lnTo>
                  <a:lnTo>
                    <a:pt x="400" y="199"/>
                  </a:lnTo>
                  <a:lnTo>
                    <a:pt x="416" y="194"/>
                  </a:lnTo>
                  <a:lnTo>
                    <a:pt x="432" y="187"/>
                  </a:lnTo>
                  <a:lnTo>
                    <a:pt x="448" y="179"/>
                  </a:lnTo>
                  <a:lnTo>
                    <a:pt x="464" y="171"/>
                  </a:lnTo>
                  <a:lnTo>
                    <a:pt x="480" y="161"/>
                  </a:lnTo>
                  <a:lnTo>
                    <a:pt x="496" y="150"/>
                  </a:lnTo>
                  <a:lnTo>
                    <a:pt x="512" y="139"/>
                  </a:lnTo>
                  <a:lnTo>
                    <a:pt x="514" y="116"/>
                  </a:lnTo>
                  <a:lnTo>
                    <a:pt x="512" y="139"/>
                  </a:lnTo>
                  <a:lnTo>
                    <a:pt x="524" y="129"/>
                  </a:lnTo>
                  <a:lnTo>
                    <a:pt x="514" y="116"/>
                  </a:lnTo>
                  <a:lnTo>
                    <a:pt x="491" y="1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070520" y="2863800"/>
              <a:ext cx="52200" cy="40680"/>
            </a:xfrm>
            <a:custGeom>
              <a:avLst/>
              <a:gdLst/>
              <a:ahLst/>
              <a:rect l="l" t="t" r="r" b="b"/>
              <a:pathLst>
                <a:path w="166" h="129">
                  <a:moveTo>
                    <a:pt x="82" y="0"/>
                  </a:moveTo>
                  <a:lnTo>
                    <a:pt x="74" y="1"/>
                  </a:lnTo>
                  <a:lnTo>
                    <a:pt x="66" y="1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0" y="35"/>
                  </a:lnTo>
                  <a:lnTo>
                    <a:pt x="6" y="41"/>
                  </a:lnTo>
                  <a:lnTo>
                    <a:pt x="4" y="47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8" y="106"/>
                  </a:lnTo>
                  <a:lnTo>
                    <a:pt x="23" y="111"/>
                  </a:lnTo>
                  <a:lnTo>
                    <a:pt x="30" y="115"/>
                  </a:lnTo>
                  <a:lnTo>
                    <a:pt x="36" y="118"/>
                  </a:lnTo>
                  <a:lnTo>
                    <a:pt x="43" y="122"/>
                  </a:lnTo>
                  <a:lnTo>
                    <a:pt x="50" y="124"/>
                  </a:lnTo>
                  <a:lnTo>
                    <a:pt x="58" y="127"/>
                  </a:lnTo>
                  <a:lnTo>
                    <a:pt x="66" y="128"/>
                  </a:lnTo>
                  <a:lnTo>
                    <a:pt x="74" y="129"/>
                  </a:lnTo>
                  <a:lnTo>
                    <a:pt x="82" y="129"/>
                  </a:lnTo>
                  <a:lnTo>
                    <a:pt x="91" y="129"/>
                  </a:lnTo>
                  <a:lnTo>
                    <a:pt x="100" y="128"/>
                  </a:lnTo>
                  <a:lnTo>
                    <a:pt x="107" y="127"/>
                  </a:lnTo>
                  <a:lnTo>
                    <a:pt x="116" y="124"/>
                  </a:lnTo>
                  <a:lnTo>
                    <a:pt x="122" y="122"/>
                  </a:lnTo>
                  <a:lnTo>
                    <a:pt x="129" y="118"/>
                  </a:lnTo>
                  <a:lnTo>
                    <a:pt x="135" y="115"/>
                  </a:lnTo>
                  <a:lnTo>
                    <a:pt x="141" y="111"/>
                  </a:lnTo>
                  <a:lnTo>
                    <a:pt x="146" y="106"/>
                  </a:lnTo>
                  <a:lnTo>
                    <a:pt x="151" y="101"/>
                  </a:lnTo>
                  <a:lnTo>
                    <a:pt x="156" y="96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5" y="78"/>
                  </a:lnTo>
                  <a:lnTo>
                    <a:pt x="166" y="71"/>
                  </a:lnTo>
                  <a:lnTo>
                    <a:pt x="166" y="65"/>
                  </a:lnTo>
                  <a:lnTo>
                    <a:pt x="166" y="59"/>
                  </a:lnTo>
                  <a:lnTo>
                    <a:pt x="165" y="52"/>
                  </a:lnTo>
                  <a:lnTo>
                    <a:pt x="162" y="47"/>
                  </a:lnTo>
                  <a:lnTo>
                    <a:pt x="160" y="41"/>
                  </a:lnTo>
                  <a:lnTo>
                    <a:pt x="156" y="35"/>
                  </a:lnTo>
                  <a:lnTo>
                    <a:pt x="151" y="30"/>
                  </a:lnTo>
                  <a:lnTo>
                    <a:pt x="146" y="25"/>
                  </a:lnTo>
                  <a:lnTo>
                    <a:pt x="141" y="20"/>
                  </a:lnTo>
                  <a:lnTo>
                    <a:pt x="135" y="16"/>
                  </a:lnTo>
                  <a:lnTo>
                    <a:pt x="129" y="12"/>
                  </a:lnTo>
                  <a:lnTo>
                    <a:pt x="122" y="9"/>
                  </a:lnTo>
                  <a:lnTo>
                    <a:pt x="116" y="6"/>
                  </a:lnTo>
                  <a:lnTo>
                    <a:pt x="107" y="4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065480" y="2858760"/>
              <a:ext cx="30240" cy="25200"/>
            </a:xfrm>
            <a:custGeom>
              <a:avLst/>
              <a:gdLst/>
              <a:ahLst/>
              <a:rect l="l" t="t" r="r" b="b"/>
              <a:pathLst>
                <a:path w="98" h="80">
                  <a:moveTo>
                    <a:pt x="31" y="80"/>
                  </a:moveTo>
                  <a:lnTo>
                    <a:pt x="31" y="80"/>
                  </a:lnTo>
                  <a:lnTo>
                    <a:pt x="31" y="75"/>
                  </a:lnTo>
                  <a:lnTo>
                    <a:pt x="32" y="72"/>
                  </a:lnTo>
                  <a:lnTo>
                    <a:pt x="33" y="67"/>
                  </a:lnTo>
                  <a:lnTo>
                    <a:pt x="36" y="63"/>
                  </a:lnTo>
                  <a:lnTo>
                    <a:pt x="38" y="58"/>
                  </a:lnTo>
                  <a:lnTo>
                    <a:pt x="41" y="54"/>
                  </a:lnTo>
                  <a:lnTo>
                    <a:pt x="44" y="51"/>
                  </a:lnTo>
                  <a:lnTo>
                    <a:pt x="49" y="47"/>
                  </a:lnTo>
                  <a:lnTo>
                    <a:pt x="54" y="43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1" y="35"/>
                  </a:lnTo>
                  <a:lnTo>
                    <a:pt x="78" y="34"/>
                  </a:lnTo>
                  <a:lnTo>
                    <a:pt x="85" y="31"/>
                  </a:lnTo>
                  <a:lnTo>
                    <a:pt x="91" y="31"/>
                  </a:lnTo>
                  <a:lnTo>
                    <a:pt x="98" y="31"/>
                  </a:lnTo>
                  <a:lnTo>
                    <a:pt x="98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7"/>
                  </a:lnTo>
                  <a:lnTo>
                    <a:pt x="53" y="10"/>
                  </a:lnTo>
                  <a:lnTo>
                    <a:pt x="46" y="14"/>
                  </a:lnTo>
                  <a:lnTo>
                    <a:pt x="38" y="18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19" y="35"/>
                  </a:lnTo>
                  <a:lnTo>
                    <a:pt x="14" y="41"/>
                  </a:lnTo>
                  <a:lnTo>
                    <a:pt x="9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65480" y="2884320"/>
              <a:ext cx="30240" cy="2484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98" y="50"/>
                  </a:moveTo>
                  <a:lnTo>
                    <a:pt x="98" y="50"/>
                  </a:lnTo>
                  <a:lnTo>
                    <a:pt x="91" y="50"/>
                  </a:lnTo>
                  <a:lnTo>
                    <a:pt x="84" y="48"/>
                  </a:lnTo>
                  <a:lnTo>
                    <a:pt x="78" y="47"/>
                  </a:lnTo>
                  <a:lnTo>
                    <a:pt x="71" y="46"/>
                  </a:lnTo>
                  <a:lnTo>
                    <a:pt x="65" y="43"/>
                  </a:lnTo>
                  <a:lnTo>
                    <a:pt x="59" y="41"/>
                  </a:lnTo>
                  <a:lnTo>
                    <a:pt x="54" y="37"/>
                  </a:lnTo>
                  <a:lnTo>
                    <a:pt x="49" y="34"/>
                  </a:lnTo>
                  <a:lnTo>
                    <a:pt x="44" y="30"/>
                  </a:lnTo>
                  <a:lnTo>
                    <a:pt x="41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3" y="14"/>
                  </a:lnTo>
                  <a:lnTo>
                    <a:pt x="32" y="9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6"/>
                  </a:lnTo>
                  <a:lnTo>
                    <a:pt x="5" y="25"/>
                  </a:lnTo>
                  <a:lnTo>
                    <a:pt x="9" y="32"/>
                  </a:lnTo>
                  <a:lnTo>
                    <a:pt x="14" y="40"/>
                  </a:lnTo>
                  <a:lnTo>
                    <a:pt x="19" y="46"/>
                  </a:lnTo>
                  <a:lnTo>
                    <a:pt x="25" y="52"/>
                  </a:lnTo>
                  <a:lnTo>
                    <a:pt x="31" y="58"/>
                  </a:lnTo>
                  <a:lnTo>
                    <a:pt x="38" y="63"/>
                  </a:lnTo>
                  <a:lnTo>
                    <a:pt x="46" y="67"/>
                  </a:lnTo>
                  <a:lnTo>
                    <a:pt x="53" y="70"/>
                  </a:lnTo>
                  <a:lnTo>
                    <a:pt x="62" y="74"/>
                  </a:lnTo>
                  <a:lnTo>
                    <a:pt x="70" y="77"/>
                  </a:lnTo>
                  <a:lnTo>
                    <a:pt x="80" y="78"/>
                  </a:lnTo>
                  <a:lnTo>
                    <a:pt x="89" y="79"/>
                  </a:lnTo>
                  <a:lnTo>
                    <a:pt x="98" y="79"/>
                  </a:lnTo>
                  <a:lnTo>
                    <a:pt x="98" y="79"/>
                  </a:lnTo>
                  <a:lnTo>
                    <a:pt x="98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095720" y="2884320"/>
              <a:ext cx="31680" cy="2484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69" y="0"/>
                  </a:moveTo>
                  <a:lnTo>
                    <a:pt x="69" y="0"/>
                  </a:lnTo>
                  <a:lnTo>
                    <a:pt x="68" y="5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2" y="22"/>
                  </a:lnTo>
                  <a:lnTo>
                    <a:pt x="58" y="26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50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20" y="78"/>
                  </a:lnTo>
                  <a:lnTo>
                    <a:pt x="29" y="77"/>
                  </a:lnTo>
                  <a:lnTo>
                    <a:pt x="37" y="74"/>
                  </a:lnTo>
                  <a:lnTo>
                    <a:pt x="46" y="70"/>
                  </a:lnTo>
                  <a:lnTo>
                    <a:pt x="55" y="67"/>
                  </a:lnTo>
                  <a:lnTo>
                    <a:pt x="62" y="63"/>
                  </a:lnTo>
                  <a:lnTo>
                    <a:pt x="69" y="58"/>
                  </a:lnTo>
                  <a:lnTo>
                    <a:pt x="75" y="52"/>
                  </a:lnTo>
                  <a:lnTo>
                    <a:pt x="82" y="46"/>
                  </a:lnTo>
                  <a:lnTo>
                    <a:pt x="87" y="40"/>
                  </a:lnTo>
                  <a:lnTo>
                    <a:pt x="90" y="32"/>
                  </a:lnTo>
                  <a:lnTo>
                    <a:pt x="94" y="25"/>
                  </a:lnTo>
                  <a:lnTo>
                    <a:pt x="96" y="16"/>
                  </a:lnTo>
                  <a:lnTo>
                    <a:pt x="99" y="9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095720" y="2858760"/>
              <a:ext cx="31680" cy="25200"/>
            </a:xfrm>
            <a:custGeom>
              <a:avLst/>
              <a:gdLst/>
              <a:ahLst/>
              <a:rect l="l" t="t" r="r" b="b"/>
              <a:pathLst>
                <a:path w="99" h="80">
                  <a:moveTo>
                    <a:pt x="0" y="31"/>
                  </a:moveTo>
                  <a:lnTo>
                    <a:pt x="0" y="31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21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0" y="40"/>
                  </a:lnTo>
                  <a:lnTo>
                    <a:pt x="46" y="43"/>
                  </a:lnTo>
                  <a:lnTo>
                    <a:pt x="51" y="47"/>
                  </a:lnTo>
                  <a:lnTo>
                    <a:pt x="55" y="51"/>
                  </a:lnTo>
                  <a:lnTo>
                    <a:pt x="58" y="54"/>
                  </a:lnTo>
                  <a:lnTo>
                    <a:pt x="62" y="58"/>
                  </a:lnTo>
                  <a:lnTo>
                    <a:pt x="64" y="63"/>
                  </a:lnTo>
                  <a:lnTo>
                    <a:pt x="67" y="67"/>
                  </a:lnTo>
                  <a:lnTo>
                    <a:pt x="68" y="72"/>
                  </a:lnTo>
                  <a:lnTo>
                    <a:pt x="68" y="75"/>
                  </a:lnTo>
                  <a:lnTo>
                    <a:pt x="69" y="80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96" y="63"/>
                  </a:lnTo>
                  <a:lnTo>
                    <a:pt x="94" y="56"/>
                  </a:lnTo>
                  <a:lnTo>
                    <a:pt x="90" y="48"/>
                  </a:lnTo>
                  <a:lnTo>
                    <a:pt x="87" y="41"/>
                  </a:lnTo>
                  <a:lnTo>
                    <a:pt x="82" y="35"/>
                  </a:lnTo>
                  <a:lnTo>
                    <a:pt x="75" y="29"/>
                  </a:lnTo>
                  <a:lnTo>
                    <a:pt x="69" y="23"/>
                  </a:lnTo>
                  <a:lnTo>
                    <a:pt x="62" y="18"/>
                  </a:lnTo>
                  <a:lnTo>
                    <a:pt x="55" y="14"/>
                  </a:lnTo>
                  <a:lnTo>
                    <a:pt x="46" y="10"/>
                  </a:lnTo>
                  <a:lnTo>
                    <a:pt x="37" y="7"/>
                  </a:lnTo>
                  <a:lnTo>
                    <a:pt x="29" y="4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035600" y="3054240"/>
              <a:ext cx="120600" cy="43920"/>
            </a:xfrm>
            <a:custGeom>
              <a:avLst/>
              <a:gdLst/>
              <a:ahLst/>
              <a:rect l="l" t="t" r="r" b="b"/>
              <a:pathLst>
                <a:path w="380" h="142">
                  <a:moveTo>
                    <a:pt x="0" y="22"/>
                  </a:moveTo>
                  <a:lnTo>
                    <a:pt x="21" y="22"/>
                  </a:lnTo>
                  <a:lnTo>
                    <a:pt x="43" y="21"/>
                  </a:lnTo>
                  <a:lnTo>
                    <a:pt x="64" y="19"/>
                  </a:lnTo>
                  <a:lnTo>
                    <a:pt x="86" y="16"/>
                  </a:lnTo>
                  <a:lnTo>
                    <a:pt x="131" y="9"/>
                  </a:lnTo>
                  <a:lnTo>
                    <a:pt x="178" y="3"/>
                  </a:lnTo>
                  <a:lnTo>
                    <a:pt x="202" y="0"/>
                  </a:lnTo>
                  <a:lnTo>
                    <a:pt x="226" y="0"/>
                  </a:lnTo>
                  <a:lnTo>
                    <a:pt x="249" y="0"/>
                  </a:lnTo>
                  <a:lnTo>
                    <a:pt x="274" y="1"/>
                  </a:lnTo>
                  <a:lnTo>
                    <a:pt x="299" y="5"/>
                  </a:lnTo>
                  <a:lnTo>
                    <a:pt x="322" y="11"/>
                  </a:lnTo>
                  <a:lnTo>
                    <a:pt x="334" y="15"/>
                  </a:lnTo>
                  <a:lnTo>
                    <a:pt x="347" y="20"/>
                  </a:lnTo>
                  <a:lnTo>
                    <a:pt x="359" y="25"/>
                  </a:lnTo>
                  <a:lnTo>
                    <a:pt x="371" y="31"/>
                  </a:lnTo>
                  <a:lnTo>
                    <a:pt x="375" y="41"/>
                  </a:lnTo>
                  <a:lnTo>
                    <a:pt x="377" y="49"/>
                  </a:lnTo>
                  <a:lnTo>
                    <a:pt x="379" y="58"/>
                  </a:lnTo>
                  <a:lnTo>
                    <a:pt x="380" y="67"/>
                  </a:lnTo>
                  <a:lnTo>
                    <a:pt x="379" y="74"/>
                  </a:lnTo>
                  <a:lnTo>
                    <a:pt x="377" y="80"/>
                  </a:lnTo>
                  <a:lnTo>
                    <a:pt x="375" y="87"/>
                  </a:lnTo>
                  <a:lnTo>
                    <a:pt x="371" y="94"/>
                  </a:lnTo>
                  <a:lnTo>
                    <a:pt x="368" y="100"/>
                  </a:lnTo>
                  <a:lnTo>
                    <a:pt x="363" y="106"/>
                  </a:lnTo>
                  <a:lnTo>
                    <a:pt x="357" y="112"/>
                  </a:lnTo>
                  <a:lnTo>
                    <a:pt x="349" y="117"/>
                  </a:lnTo>
                  <a:lnTo>
                    <a:pt x="333" y="129"/>
                  </a:lnTo>
                  <a:lnTo>
                    <a:pt x="312" y="142"/>
                  </a:lnTo>
                  <a:lnTo>
                    <a:pt x="293" y="139"/>
                  </a:lnTo>
                  <a:lnTo>
                    <a:pt x="272" y="137"/>
                  </a:lnTo>
                  <a:lnTo>
                    <a:pt x="252" y="133"/>
                  </a:lnTo>
                  <a:lnTo>
                    <a:pt x="232" y="128"/>
                  </a:lnTo>
                  <a:lnTo>
                    <a:pt x="213" y="122"/>
                  </a:lnTo>
                  <a:lnTo>
                    <a:pt x="193" y="116"/>
                  </a:lnTo>
                  <a:lnTo>
                    <a:pt x="173" y="108"/>
                  </a:lnTo>
                  <a:lnTo>
                    <a:pt x="154" y="101"/>
                  </a:lnTo>
                  <a:lnTo>
                    <a:pt x="114" y="84"/>
                  </a:lnTo>
                  <a:lnTo>
                    <a:pt x="76" y="64"/>
                  </a:lnTo>
                  <a:lnTo>
                    <a:pt x="38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035600" y="3049200"/>
              <a:ext cx="123480" cy="1872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386" y="42"/>
                  </a:moveTo>
                  <a:lnTo>
                    <a:pt x="379" y="33"/>
                  </a:lnTo>
                  <a:lnTo>
                    <a:pt x="365" y="27"/>
                  </a:lnTo>
                  <a:lnTo>
                    <a:pt x="353" y="22"/>
                  </a:lnTo>
                  <a:lnTo>
                    <a:pt x="339" y="17"/>
                  </a:lnTo>
                  <a:lnTo>
                    <a:pt x="327" y="14"/>
                  </a:lnTo>
                  <a:lnTo>
                    <a:pt x="301" y="8"/>
                  </a:lnTo>
                  <a:lnTo>
                    <a:pt x="275" y="3"/>
                  </a:lnTo>
                  <a:lnTo>
                    <a:pt x="251" y="1"/>
                  </a:lnTo>
                  <a:lnTo>
                    <a:pt x="226" y="0"/>
                  </a:lnTo>
                  <a:lnTo>
                    <a:pt x="200" y="1"/>
                  </a:lnTo>
                  <a:lnTo>
                    <a:pt x="177" y="4"/>
                  </a:lnTo>
                  <a:lnTo>
                    <a:pt x="130" y="10"/>
                  </a:lnTo>
                  <a:lnTo>
                    <a:pt x="85" y="17"/>
                  </a:lnTo>
                  <a:lnTo>
                    <a:pt x="63" y="20"/>
                  </a:lnTo>
                  <a:lnTo>
                    <a:pt x="40" y="22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44" y="52"/>
                  </a:lnTo>
                  <a:lnTo>
                    <a:pt x="66" y="49"/>
                  </a:lnTo>
                  <a:lnTo>
                    <a:pt x="88" y="47"/>
                  </a:lnTo>
                  <a:lnTo>
                    <a:pt x="134" y="40"/>
                  </a:lnTo>
                  <a:lnTo>
                    <a:pt x="179" y="33"/>
                  </a:lnTo>
                  <a:lnTo>
                    <a:pt x="203" y="32"/>
                  </a:lnTo>
                  <a:lnTo>
                    <a:pt x="226" y="31"/>
                  </a:lnTo>
                  <a:lnTo>
                    <a:pt x="249" y="31"/>
                  </a:lnTo>
                  <a:lnTo>
                    <a:pt x="272" y="33"/>
                  </a:lnTo>
                  <a:lnTo>
                    <a:pt x="295" y="36"/>
                  </a:lnTo>
                  <a:lnTo>
                    <a:pt x="318" y="42"/>
                  </a:lnTo>
                  <a:lnTo>
                    <a:pt x="329" y="46"/>
                  </a:lnTo>
                  <a:lnTo>
                    <a:pt x="342" y="51"/>
                  </a:lnTo>
                  <a:lnTo>
                    <a:pt x="353" y="56"/>
                  </a:lnTo>
                  <a:lnTo>
                    <a:pt x="365" y="60"/>
                  </a:lnTo>
                  <a:lnTo>
                    <a:pt x="358" y="53"/>
                  </a:lnTo>
                  <a:lnTo>
                    <a:pt x="386" y="42"/>
                  </a:lnTo>
                  <a:lnTo>
                    <a:pt x="384" y="37"/>
                  </a:lnTo>
                  <a:lnTo>
                    <a:pt x="379" y="33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132440" y="3062160"/>
              <a:ext cx="28440" cy="4248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6" y="130"/>
                  </a:moveTo>
                  <a:lnTo>
                    <a:pt x="16" y="129"/>
                  </a:lnTo>
                  <a:lnTo>
                    <a:pt x="36" y="116"/>
                  </a:lnTo>
                  <a:lnTo>
                    <a:pt x="53" y="103"/>
                  </a:lnTo>
                  <a:lnTo>
                    <a:pt x="61" y="97"/>
                  </a:lnTo>
                  <a:lnTo>
                    <a:pt x="67" y="90"/>
                  </a:lnTo>
                  <a:lnTo>
                    <a:pt x="74" y="82"/>
                  </a:lnTo>
                  <a:lnTo>
                    <a:pt x="80" y="75"/>
                  </a:lnTo>
                  <a:lnTo>
                    <a:pt x="83" y="68"/>
                  </a:lnTo>
                  <a:lnTo>
                    <a:pt x="87" y="59"/>
                  </a:lnTo>
                  <a:lnTo>
                    <a:pt x="88" y="49"/>
                  </a:lnTo>
                  <a:lnTo>
                    <a:pt x="90" y="41"/>
                  </a:lnTo>
                  <a:lnTo>
                    <a:pt x="88" y="31"/>
                  </a:lnTo>
                  <a:lnTo>
                    <a:pt x="87" y="21"/>
                  </a:lnTo>
                  <a:lnTo>
                    <a:pt x="85" y="10"/>
                  </a:lnTo>
                  <a:lnTo>
                    <a:pt x="81" y="0"/>
                  </a:lnTo>
                  <a:lnTo>
                    <a:pt x="53" y="11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4"/>
                  </a:lnTo>
                  <a:lnTo>
                    <a:pt x="59" y="41"/>
                  </a:lnTo>
                  <a:lnTo>
                    <a:pt x="59" y="45"/>
                  </a:lnTo>
                  <a:lnTo>
                    <a:pt x="58" y="50"/>
                  </a:lnTo>
                  <a:lnTo>
                    <a:pt x="56" y="55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7" y="69"/>
                  </a:lnTo>
                  <a:lnTo>
                    <a:pt x="40" y="74"/>
                  </a:lnTo>
                  <a:lnTo>
                    <a:pt x="36" y="80"/>
                  </a:lnTo>
                  <a:lnTo>
                    <a:pt x="20" y="91"/>
                  </a:lnTo>
                  <a:lnTo>
                    <a:pt x="0" y="103"/>
                  </a:lnTo>
                  <a:lnTo>
                    <a:pt x="8" y="101"/>
                  </a:lnTo>
                  <a:lnTo>
                    <a:pt x="6" y="130"/>
                  </a:lnTo>
                  <a:lnTo>
                    <a:pt x="11" y="132"/>
                  </a:lnTo>
                  <a:lnTo>
                    <a:pt x="16" y="129"/>
                  </a:lnTo>
                  <a:lnTo>
                    <a:pt x="6" y="1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017960" y="3057480"/>
              <a:ext cx="117360" cy="45360"/>
            </a:xfrm>
            <a:custGeom>
              <a:avLst/>
              <a:gdLst/>
              <a:ahLst/>
              <a:rect l="l" t="t" r="r" b="b"/>
              <a:pathLst>
                <a:path w="370" h="148">
                  <a:moveTo>
                    <a:pt x="57" y="0"/>
                  </a:moveTo>
                  <a:lnTo>
                    <a:pt x="49" y="28"/>
                  </a:lnTo>
                  <a:lnTo>
                    <a:pt x="88" y="49"/>
                  </a:lnTo>
                  <a:lnTo>
                    <a:pt x="126" y="70"/>
                  </a:lnTo>
                  <a:lnTo>
                    <a:pt x="165" y="89"/>
                  </a:lnTo>
                  <a:lnTo>
                    <a:pt x="204" y="107"/>
                  </a:lnTo>
                  <a:lnTo>
                    <a:pt x="224" y="114"/>
                  </a:lnTo>
                  <a:lnTo>
                    <a:pt x="245" y="121"/>
                  </a:lnTo>
                  <a:lnTo>
                    <a:pt x="265" y="129"/>
                  </a:lnTo>
                  <a:lnTo>
                    <a:pt x="286" y="134"/>
                  </a:lnTo>
                  <a:lnTo>
                    <a:pt x="305" y="139"/>
                  </a:lnTo>
                  <a:lnTo>
                    <a:pt x="326" y="143"/>
                  </a:lnTo>
                  <a:lnTo>
                    <a:pt x="347" y="146"/>
                  </a:lnTo>
                  <a:lnTo>
                    <a:pt x="368" y="148"/>
                  </a:lnTo>
                  <a:lnTo>
                    <a:pt x="370" y="119"/>
                  </a:lnTo>
                  <a:lnTo>
                    <a:pt x="351" y="116"/>
                  </a:lnTo>
                  <a:lnTo>
                    <a:pt x="331" y="114"/>
                  </a:lnTo>
                  <a:lnTo>
                    <a:pt x="313" y="110"/>
                  </a:lnTo>
                  <a:lnTo>
                    <a:pt x="293" y="105"/>
                  </a:lnTo>
                  <a:lnTo>
                    <a:pt x="273" y="99"/>
                  </a:lnTo>
                  <a:lnTo>
                    <a:pt x="254" y="93"/>
                  </a:lnTo>
                  <a:lnTo>
                    <a:pt x="235" y="86"/>
                  </a:lnTo>
                  <a:lnTo>
                    <a:pt x="215" y="78"/>
                  </a:lnTo>
                  <a:lnTo>
                    <a:pt x="177" y="62"/>
                  </a:lnTo>
                  <a:lnTo>
                    <a:pt x="139" y="43"/>
                  </a:lnTo>
                  <a:lnTo>
                    <a:pt x="102" y="23"/>
                  </a:lnTo>
                  <a:lnTo>
                    <a:pt x="64" y="2"/>
                  </a:lnTo>
                  <a:lnTo>
                    <a:pt x="57" y="29"/>
                  </a:lnTo>
                  <a:lnTo>
                    <a:pt x="57" y="0"/>
                  </a:lnTo>
                  <a:lnTo>
                    <a:pt x="0" y="0"/>
                  </a:lnTo>
                  <a:lnTo>
                    <a:pt x="49" y="2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029120" y="3060360"/>
              <a:ext cx="92160" cy="8856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0" y="0"/>
                  </a:moveTo>
                  <a:lnTo>
                    <a:pt x="12" y="11"/>
                  </a:lnTo>
                  <a:lnTo>
                    <a:pt x="26" y="22"/>
                  </a:lnTo>
                  <a:lnTo>
                    <a:pt x="39" y="32"/>
                  </a:lnTo>
                  <a:lnTo>
                    <a:pt x="54" y="41"/>
                  </a:lnTo>
                  <a:lnTo>
                    <a:pt x="85" y="61"/>
                  </a:lnTo>
                  <a:lnTo>
                    <a:pt x="118" y="81"/>
                  </a:lnTo>
                  <a:lnTo>
                    <a:pt x="155" y="103"/>
                  </a:lnTo>
                  <a:lnTo>
                    <a:pt x="195" y="131"/>
                  </a:lnTo>
                  <a:lnTo>
                    <a:pt x="218" y="148"/>
                  </a:lnTo>
                  <a:lnTo>
                    <a:pt x="240" y="167"/>
                  </a:lnTo>
                  <a:lnTo>
                    <a:pt x="263" y="187"/>
                  </a:lnTo>
                  <a:lnTo>
                    <a:pt x="288" y="210"/>
                  </a:lnTo>
                  <a:lnTo>
                    <a:pt x="284" y="220"/>
                  </a:lnTo>
                  <a:lnTo>
                    <a:pt x="280" y="230"/>
                  </a:lnTo>
                  <a:lnTo>
                    <a:pt x="277" y="237"/>
                  </a:lnTo>
                  <a:lnTo>
                    <a:pt x="270" y="244"/>
                  </a:lnTo>
                  <a:lnTo>
                    <a:pt x="266" y="252"/>
                  </a:lnTo>
                  <a:lnTo>
                    <a:pt x="259" y="258"/>
                  </a:lnTo>
                  <a:lnTo>
                    <a:pt x="252" y="263"/>
                  </a:lnTo>
                  <a:lnTo>
                    <a:pt x="245" y="268"/>
                  </a:lnTo>
                  <a:lnTo>
                    <a:pt x="236" y="271"/>
                  </a:lnTo>
                  <a:lnTo>
                    <a:pt x="227" y="274"/>
                  </a:lnTo>
                  <a:lnTo>
                    <a:pt x="219" y="276"/>
                  </a:lnTo>
                  <a:lnTo>
                    <a:pt x="209" y="279"/>
                  </a:lnTo>
                  <a:lnTo>
                    <a:pt x="198" y="280"/>
                  </a:lnTo>
                  <a:lnTo>
                    <a:pt x="188" y="280"/>
                  </a:lnTo>
                  <a:lnTo>
                    <a:pt x="176" y="280"/>
                  </a:lnTo>
                  <a:lnTo>
                    <a:pt x="165" y="279"/>
                  </a:lnTo>
                  <a:lnTo>
                    <a:pt x="149" y="265"/>
                  </a:lnTo>
                  <a:lnTo>
                    <a:pt x="135" y="252"/>
                  </a:lnTo>
                  <a:lnTo>
                    <a:pt x="122" y="236"/>
                  </a:lnTo>
                  <a:lnTo>
                    <a:pt x="109" y="221"/>
                  </a:lnTo>
                  <a:lnTo>
                    <a:pt x="98" y="204"/>
                  </a:lnTo>
                  <a:lnTo>
                    <a:pt x="88" y="188"/>
                  </a:lnTo>
                  <a:lnTo>
                    <a:pt x="77" y="169"/>
                  </a:lnTo>
                  <a:lnTo>
                    <a:pt x="69" y="152"/>
                  </a:lnTo>
                  <a:lnTo>
                    <a:pt x="50" y="115"/>
                  </a:lnTo>
                  <a:lnTo>
                    <a:pt x="34" y="77"/>
                  </a:lnTo>
                  <a:lnTo>
                    <a:pt x="17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025880" y="3057480"/>
              <a:ext cx="100080" cy="72360"/>
            </a:xfrm>
            <a:custGeom>
              <a:avLst/>
              <a:gdLst/>
              <a:ahLst/>
              <a:rect l="l" t="t" r="r" b="b"/>
              <a:pathLst>
                <a:path w="316" h="232">
                  <a:moveTo>
                    <a:pt x="313" y="226"/>
                  </a:moveTo>
                  <a:lnTo>
                    <a:pt x="310" y="211"/>
                  </a:lnTo>
                  <a:lnTo>
                    <a:pt x="284" y="186"/>
                  </a:lnTo>
                  <a:lnTo>
                    <a:pt x="261" y="166"/>
                  </a:lnTo>
                  <a:lnTo>
                    <a:pt x="237" y="147"/>
                  </a:lnTo>
                  <a:lnTo>
                    <a:pt x="215" y="130"/>
                  </a:lnTo>
                  <a:lnTo>
                    <a:pt x="174" y="102"/>
                  </a:lnTo>
                  <a:lnTo>
                    <a:pt x="138" y="78"/>
                  </a:lnTo>
                  <a:lnTo>
                    <a:pt x="103" y="59"/>
                  </a:lnTo>
                  <a:lnTo>
                    <a:pt x="72" y="40"/>
                  </a:lnTo>
                  <a:lnTo>
                    <a:pt x="59" y="30"/>
                  </a:lnTo>
                  <a:lnTo>
                    <a:pt x="45" y="22"/>
                  </a:lnTo>
                  <a:lnTo>
                    <a:pt x="33" y="11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13" y="34"/>
                  </a:lnTo>
                  <a:lnTo>
                    <a:pt x="27" y="45"/>
                  </a:lnTo>
                  <a:lnTo>
                    <a:pt x="42" y="55"/>
                  </a:lnTo>
                  <a:lnTo>
                    <a:pt x="56" y="66"/>
                  </a:lnTo>
                  <a:lnTo>
                    <a:pt x="88" y="84"/>
                  </a:lnTo>
                  <a:lnTo>
                    <a:pt x="122" y="104"/>
                  </a:lnTo>
                  <a:lnTo>
                    <a:pt x="158" y="127"/>
                  </a:lnTo>
                  <a:lnTo>
                    <a:pt x="198" y="155"/>
                  </a:lnTo>
                  <a:lnTo>
                    <a:pt x="219" y="170"/>
                  </a:lnTo>
                  <a:lnTo>
                    <a:pt x="241" y="189"/>
                  </a:lnTo>
                  <a:lnTo>
                    <a:pt x="264" y="209"/>
                  </a:lnTo>
                  <a:lnTo>
                    <a:pt x="289" y="232"/>
                  </a:lnTo>
                  <a:lnTo>
                    <a:pt x="284" y="217"/>
                  </a:lnTo>
                  <a:lnTo>
                    <a:pt x="313" y="226"/>
                  </a:lnTo>
                  <a:lnTo>
                    <a:pt x="316" y="217"/>
                  </a:lnTo>
                  <a:lnTo>
                    <a:pt x="310" y="211"/>
                  </a:lnTo>
                  <a:lnTo>
                    <a:pt x="313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78440" y="3125520"/>
              <a:ext cx="47520" cy="28440"/>
            </a:xfrm>
            <a:custGeom>
              <a:avLst/>
              <a:gdLst/>
              <a:ahLst/>
              <a:rect l="l" t="t" r="r" b="b"/>
              <a:pathLst>
                <a:path w="147" h="89">
                  <a:moveTo>
                    <a:pt x="0" y="85"/>
                  </a:moveTo>
                  <a:lnTo>
                    <a:pt x="8" y="88"/>
                  </a:lnTo>
                  <a:lnTo>
                    <a:pt x="21" y="89"/>
                  </a:lnTo>
                  <a:lnTo>
                    <a:pt x="33" y="89"/>
                  </a:lnTo>
                  <a:lnTo>
                    <a:pt x="44" y="89"/>
                  </a:lnTo>
                  <a:lnTo>
                    <a:pt x="55" y="88"/>
                  </a:lnTo>
                  <a:lnTo>
                    <a:pt x="66" y="85"/>
                  </a:lnTo>
                  <a:lnTo>
                    <a:pt x="77" y="83"/>
                  </a:lnTo>
                  <a:lnTo>
                    <a:pt x="87" y="79"/>
                  </a:lnTo>
                  <a:lnTo>
                    <a:pt x="97" y="74"/>
                  </a:lnTo>
                  <a:lnTo>
                    <a:pt x="106" y="69"/>
                  </a:lnTo>
                  <a:lnTo>
                    <a:pt x="113" y="63"/>
                  </a:lnTo>
                  <a:lnTo>
                    <a:pt x="122" y="56"/>
                  </a:lnTo>
                  <a:lnTo>
                    <a:pt x="128" y="48"/>
                  </a:lnTo>
                  <a:lnTo>
                    <a:pt x="134" y="40"/>
                  </a:lnTo>
                  <a:lnTo>
                    <a:pt x="139" y="30"/>
                  </a:lnTo>
                  <a:lnTo>
                    <a:pt x="144" y="20"/>
                  </a:lnTo>
                  <a:lnTo>
                    <a:pt x="147" y="9"/>
                  </a:lnTo>
                  <a:lnTo>
                    <a:pt x="118" y="0"/>
                  </a:lnTo>
                  <a:lnTo>
                    <a:pt x="115" y="9"/>
                  </a:lnTo>
                  <a:lnTo>
                    <a:pt x="112" y="16"/>
                  </a:lnTo>
                  <a:lnTo>
                    <a:pt x="108" y="24"/>
                  </a:lnTo>
                  <a:lnTo>
                    <a:pt x="104" y="30"/>
                  </a:lnTo>
                  <a:lnTo>
                    <a:pt x="100" y="35"/>
                  </a:lnTo>
                  <a:lnTo>
                    <a:pt x="95" y="40"/>
                  </a:lnTo>
                  <a:lnTo>
                    <a:pt x="88" y="45"/>
                  </a:lnTo>
                  <a:lnTo>
                    <a:pt x="82" y="48"/>
                  </a:lnTo>
                  <a:lnTo>
                    <a:pt x="76" y="51"/>
                  </a:lnTo>
                  <a:lnTo>
                    <a:pt x="69" y="54"/>
                  </a:lnTo>
                  <a:lnTo>
                    <a:pt x="60" y="56"/>
                  </a:lnTo>
                  <a:lnTo>
                    <a:pt x="52" y="58"/>
                  </a:lnTo>
                  <a:lnTo>
                    <a:pt x="42" y="58"/>
                  </a:lnTo>
                  <a:lnTo>
                    <a:pt x="32" y="59"/>
                  </a:lnTo>
                  <a:lnTo>
                    <a:pt x="22" y="59"/>
                  </a:lnTo>
                  <a:lnTo>
                    <a:pt x="11" y="58"/>
                  </a:lnTo>
                  <a:lnTo>
                    <a:pt x="20" y="62"/>
                  </a:lnTo>
                  <a:lnTo>
                    <a:pt x="0" y="85"/>
                  </a:lnTo>
                  <a:lnTo>
                    <a:pt x="4" y="88"/>
                  </a:lnTo>
                  <a:lnTo>
                    <a:pt x="8" y="8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013280" y="3038400"/>
              <a:ext cx="71280" cy="113760"/>
            </a:xfrm>
            <a:custGeom>
              <a:avLst/>
              <a:gdLst/>
              <a:ahLst/>
              <a:rect l="l" t="t" r="r" b="b"/>
              <a:pathLst>
                <a:path w="224" h="362">
                  <a:moveTo>
                    <a:pt x="59" y="60"/>
                  </a:moveTo>
                  <a:lnTo>
                    <a:pt x="35" y="77"/>
                  </a:lnTo>
                  <a:lnTo>
                    <a:pt x="53" y="116"/>
                  </a:lnTo>
                  <a:lnTo>
                    <a:pt x="69" y="154"/>
                  </a:lnTo>
                  <a:lnTo>
                    <a:pt x="86" y="192"/>
                  </a:lnTo>
                  <a:lnTo>
                    <a:pt x="104" y="229"/>
                  </a:lnTo>
                  <a:lnTo>
                    <a:pt x="114" y="248"/>
                  </a:lnTo>
                  <a:lnTo>
                    <a:pt x="124" y="266"/>
                  </a:lnTo>
                  <a:lnTo>
                    <a:pt x="135" y="283"/>
                  </a:lnTo>
                  <a:lnTo>
                    <a:pt x="147" y="301"/>
                  </a:lnTo>
                  <a:lnTo>
                    <a:pt x="160" y="317"/>
                  </a:lnTo>
                  <a:lnTo>
                    <a:pt x="173" y="333"/>
                  </a:lnTo>
                  <a:lnTo>
                    <a:pt x="188" y="347"/>
                  </a:lnTo>
                  <a:lnTo>
                    <a:pt x="204" y="362"/>
                  </a:lnTo>
                  <a:lnTo>
                    <a:pt x="224" y="339"/>
                  </a:lnTo>
                  <a:lnTo>
                    <a:pt x="209" y="325"/>
                  </a:lnTo>
                  <a:lnTo>
                    <a:pt x="195" y="312"/>
                  </a:lnTo>
                  <a:lnTo>
                    <a:pt x="183" y="298"/>
                  </a:lnTo>
                  <a:lnTo>
                    <a:pt x="171" y="282"/>
                  </a:lnTo>
                  <a:lnTo>
                    <a:pt x="160" y="267"/>
                  </a:lnTo>
                  <a:lnTo>
                    <a:pt x="150" y="250"/>
                  </a:lnTo>
                  <a:lnTo>
                    <a:pt x="140" y="234"/>
                  </a:lnTo>
                  <a:lnTo>
                    <a:pt x="131" y="217"/>
                  </a:lnTo>
                  <a:lnTo>
                    <a:pt x="113" y="180"/>
                  </a:lnTo>
                  <a:lnTo>
                    <a:pt x="97" y="142"/>
                  </a:lnTo>
                  <a:lnTo>
                    <a:pt x="80" y="104"/>
                  </a:lnTo>
                  <a:lnTo>
                    <a:pt x="62" y="64"/>
                  </a:lnTo>
                  <a:lnTo>
                    <a:pt x="38" y="80"/>
                  </a:lnTo>
                  <a:lnTo>
                    <a:pt x="59" y="60"/>
                  </a:lnTo>
                  <a:lnTo>
                    <a:pt x="0" y="0"/>
                  </a:lnTo>
                  <a:lnTo>
                    <a:pt x="35" y="77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825720" y="3130200"/>
              <a:ext cx="49320" cy="424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0" y="6"/>
                  </a:moveTo>
                  <a:lnTo>
                    <a:pt x="2" y="16"/>
                  </a:lnTo>
                  <a:lnTo>
                    <a:pt x="5" y="25"/>
                  </a:lnTo>
                  <a:lnTo>
                    <a:pt x="8" y="35"/>
                  </a:lnTo>
                  <a:lnTo>
                    <a:pt x="13" y="44"/>
                  </a:lnTo>
                  <a:lnTo>
                    <a:pt x="23" y="60"/>
                  </a:lnTo>
                  <a:lnTo>
                    <a:pt x="34" y="73"/>
                  </a:lnTo>
                  <a:lnTo>
                    <a:pt x="46" y="86"/>
                  </a:lnTo>
                  <a:lnTo>
                    <a:pt x="60" y="97"/>
                  </a:lnTo>
                  <a:lnTo>
                    <a:pt x="73" y="107"/>
                  </a:lnTo>
                  <a:lnTo>
                    <a:pt x="87" y="114"/>
                  </a:lnTo>
                  <a:lnTo>
                    <a:pt x="112" y="125"/>
                  </a:lnTo>
                  <a:lnTo>
                    <a:pt x="134" y="132"/>
                  </a:lnTo>
                  <a:lnTo>
                    <a:pt x="148" y="137"/>
                  </a:lnTo>
                  <a:lnTo>
                    <a:pt x="155" y="139"/>
                  </a:lnTo>
                  <a:lnTo>
                    <a:pt x="159" y="108"/>
                  </a:lnTo>
                  <a:lnTo>
                    <a:pt x="156" y="108"/>
                  </a:lnTo>
                  <a:lnTo>
                    <a:pt x="142" y="104"/>
                  </a:lnTo>
                  <a:lnTo>
                    <a:pt x="123" y="98"/>
                  </a:lnTo>
                  <a:lnTo>
                    <a:pt x="100" y="87"/>
                  </a:lnTo>
                  <a:lnTo>
                    <a:pt x="88" y="81"/>
                  </a:lnTo>
                  <a:lnTo>
                    <a:pt x="77" y="73"/>
                  </a:lnTo>
                  <a:lnTo>
                    <a:pt x="66" y="63"/>
                  </a:lnTo>
                  <a:lnTo>
                    <a:pt x="56" y="54"/>
                  </a:lnTo>
                  <a:lnTo>
                    <a:pt x="48" y="43"/>
                  </a:lnTo>
                  <a:lnTo>
                    <a:pt x="39" y="29"/>
                  </a:lnTo>
                  <a:lnTo>
                    <a:pt x="36" y="23"/>
                  </a:lnTo>
                  <a:lnTo>
                    <a:pt x="33" y="16"/>
                  </a:lnTo>
                  <a:lnTo>
                    <a:pt x="30" y="8"/>
                  </a:lnTo>
                  <a:lnTo>
                    <a:pt x="2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3021120" y="3195360"/>
              <a:ext cx="2014560" cy="1601640"/>
            </a:xfrm>
            <a:custGeom>
              <a:avLst/>
              <a:gdLst/>
              <a:ahLst/>
              <a:rect l="l" t="t" r="r" b="b"/>
              <a:pathLst>
                <a:path w="6342" h="5049">
                  <a:moveTo>
                    <a:pt x="2015" y="0"/>
                  </a:moveTo>
                  <a:lnTo>
                    <a:pt x="2003" y="23"/>
                  </a:lnTo>
                  <a:lnTo>
                    <a:pt x="1993" y="47"/>
                  </a:lnTo>
                  <a:lnTo>
                    <a:pt x="1983" y="70"/>
                  </a:lnTo>
                  <a:lnTo>
                    <a:pt x="1976" y="95"/>
                  </a:lnTo>
                  <a:lnTo>
                    <a:pt x="1965" y="144"/>
                  </a:lnTo>
                  <a:lnTo>
                    <a:pt x="1953" y="196"/>
                  </a:lnTo>
                  <a:lnTo>
                    <a:pt x="1944" y="247"/>
                  </a:lnTo>
                  <a:lnTo>
                    <a:pt x="1931" y="300"/>
                  </a:lnTo>
                  <a:lnTo>
                    <a:pt x="1924" y="327"/>
                  </a:lnTo>
                  <a:lnTo>
                    <a:pt x="1914" y="354"/>
                  </a:lnTo>
                  <a:lnTo>
                    <a:pt x="1903" y="380"/>
                  </a:lnTo>
                  <a:lnTo>
                    <a:pt x="1891" y="407"/>
                  </a:lnTo>
                  <a:lnTo>
                    <a:pt x="1854" y="426"/>
                  </a:lnTo>
                  <a:lnTo>
                    <a:pt x="1813" y="451"/>
                  </a:lnTo>
                  <a:lnTo>
                    <a:pt x="1771" y="483"/>
                  </a:lnTo>
                  <a:lnTo>
                    <a:pt x="1727" y="521"/>
                  </a:lnTo>
                  <a:lnTo>
                    <a:pt x="1682" y="566"/>
                  </a:lnTo>
                  <a:lnTo>
                    <a:pt x="1634" y="615"/>
                  </a:lnTo>
                  <a:lnTo>
                    <a:pt x="1584" y="669"/>
                  </a:lnTo>
                  <a:lnTo>
                    <a:pt x="1534" y="729"/>
                  </a:lnTo>
                  <a:lnTo>
                    <a:pt x="1481" y="793"/>
                  </a:lnTo>
                  <a:lnTo>
                    <a:pt x="1428" y="861"/>
                  </a:lnTo>
                  <a:lnTo>
                    <a:pt x="1374" y="934"/>
                  </a:lnTo>
                  <a:lnTo>
                    <a:pt x="1319" y="1009"/>
                  </a:lnTo>
                  <a:lnTo>
                    <a:pt x="1263" y="1088"/>
                  </a:lnTo>
                  <a:lnTo>
                    <a:pt x="1207" y="1170"/>
                  </a:lnTo>
                  <a:lnTo>
                    <a:pt x="1150" y="1255"/>
                  </a:lnTo>
                  <a:lnTo>
                    <a:pt x="1094" y="1342"/>
                  </a:lnTo>
                  <a:lnTo>
                    <a:pt x="1037" y="1430"/>
                  </a:lnTo>
                  <a:lnTo>
                    <a:pt x="981" y="1521"/>
                  </a:lnTo>
                  <a:lnTo>
                    <a:pt x="924" y="1614"/>
                  </a:lnTo>
                  <a:lnTo>
                    <a:pt x="869" y="1707"/>
                  </a:lnTo>
                  <a:lnTo>
                    <a:pt x="813" y="1801"/>
                  </a:lnTo>
                  <a:lnTo>
                    <a:pt x="758" y="1895"/>
                  </a:lnTo>
                  <a:lnTo>
                    <a:pt x="704" y="1990"/>
                  </a:lnTo>
                  <a:lnTo>
                    <a:pt x="652" y="2085"/>
                  </a:lnTo>
                  <a:lnTo>
                    <a:pt x="600" y="2180"/>
                  </a:lnTo>
                  <a:lnTo>
                    <a:pt x="550" y="2273"/>
                  </a:lnTo>
                  <a:lnTo>
                    <a:pt x="501" y="2365"/>
                  </a:lnTo>
                  <a:lnTo>
                    <a:pt x="454" y="2455"/>
                  </a:lnTo>
                  <a:lnTo>
                    <a:pt x="410" y="2545"/>
                  </a:lnTo>
                  <a:lnTo>
                    <a:pt x="367" y="2632"/>
                  </a:lnTo>
                  <a:lnTo>
                    <a:pt x="325" y="2717"/>
                  </a:lnTo>
                  <a:lnTo>
                    <a:pt x="287" y="2798"/>
                  </a:lnTo>
                  <a:lnTo>
                    <a:pt x="267" y="2866"/>
                  </a:lnTo>
                  <a:lnTo>
                    <a:pt x="250" y="2933"/>
                  </a:lnTo>
                  <a:lnTo>
                    <a:pt x="231" y="3002"/>
                  </a:lnTo>
                  <a:lnTo>
                    <a:pt x="215" y="3071"/>
                  </a:lnTo>
                  <a:lnTo>
                    <a:pt x="201" y="3140"/>
                  </a:lnTo>
                  <a:lnTo>
                    <a:pt x="186" y="3210"/>
                  </a:lnTo>
                  <a:lnTo>
                    <a:pt x="172" y="3279"/>
                  </a:lnTo>
                  <a:lnTo>
                    <a:pt x="159" y="3349"/>
                  </a:lnTo>
                  <a:lnTo>
                    <a:pt x="148" y="3421"/>
                  </a:lnTo>
                  <a:lnTo>
                    <a:pt x="136" y="3491"/>
                  </a:lnTo>
                  <a:lnTo>
                    <a:pt x="126" y="3562"/>
                  </a:lnTo>
                  <a:lnTo>
                    <a:pt x="116" y="3633"/>
                  </a:lnTo>
                  <a:lnTo>
                    <a:pt x="97" y="3775"/>
                  </a:lnTo>
                  <a:lnTo>
                    <a:pt x="81" y="3919"/>
                  </a:lnTo>
                  <a:lnTo>
                    <a:pt x="68" y="4061"/>
                  </a:lnTo>
                  <a:lnTo>
                    <a:pt x="56" y="4204"/>
                  </a:lnTo>
                  <a:lnTo>
                    <a:pt x="44" y="4346"/>
                  </a:lnTo>
                  <a:lnTo>
                    <a:pt x="35" y="4487"/>
                  </a:lnTo>
                  <a:lnTo>
                    <a:pt x="16" y="4767"/>
                  </a:lnTo>
                  <a:lnTo>
                    <a:pt x="0" y="5040"/>
                  </a:lnTo>
                  <a:lnTo>
                    <a:pt x="108" y="5034"/>
                  </a:lnTo>
                  <a:lnTo>
                    <a:pt x="218" y="5028"/>
                  </a:lnTo>
                  <a:lnTo>
                    <a:pt x="327" y="5024"/>
                  </a:lnTo>
                  <a:lnTo>
                    <a:pt x="437" y="5021"/>
                  </a:lnTo>
                  <a:lnTo>
                    <a:pt x="546" y="5018"/>
                  </a:lnTo>
                  <a:lnTo>
                    <a:pt x="657" y="5017"/>
                  </a:lnTo>
                  <a:lnTo>
                    <a:pt x="767" y="5016"/>
                  </a:lnTo>
                  <a:lnTo>
                    <a:pt x="877" y="5016"/>
                  </a:lnTo>
                  <a:lnTo>
                    <a:pt x="1097" y="5018"/>
                  </a:lnTo>
                  <a:lnTo>
                    <a:pt x="1319" y="5022"/>
                  </a:lnTo>
                  <a:lnTo>
                    <a:pt x="1540" y="5027"/>
                  </a:lnTo>
                  <a:lnTo>
                    <a:pt x="1762" y="5032"/>
                  </a:lnTo>
                  <a:lnTo>
                    <a:pt x="1984" y="5038"/>
                  </a:lnTo>
                  <a:lnTo>
                    <a:pt x="2206" y="5043"/>
                  </a:lnTo>
                  <a:lnTo>
                    <a:pt x="2427" y="5047"/>
                  </a:lnTo>
                  <a:lnTo>
                    <a:pt x="2647" y="5049"/>
                  </a:lnTo>
                  <a:lnTo>
                    <a:pt x="2758" y="5049"/>
                  </a:lnTo>
                  <a:lnTo>
                    <a:pt x="2867" y="5048"/>
                  </a:lnTo>
                  <a:lnTo>
                    <a:pt x="2978" y="5047"/>
                  </a:lnTo>
                  <a:lnTo>
                    <a:pt x="3088" y="5044"/>
                  </a:lnTo>
                  <a:lnTo>
                    <a:pt x="3197" y="5040"/>
                  </a:lnTo>
                  <a:lnTo>
                    <a:pt x="3307" y="5036"/>
                  </a:lnTo>
                  <a:lnTo>
                    <a:pt x="3416" y="5031"/>
                  </a:lnTo>
                  <a:lnTo>
                    <a:pt x="3524" y="5023"/>
                  </a:lnTo>
                  <a:lnTo>
                    <a:pt x="3540" y="4972"/>
                  </a:lnTo>
                  <a:lnTo>
                    <a:pt x="3555" y="4917"/>
                  </a:lnTo>
                  <a:lnTo>
                    <a:pt x="3567" y="4862"/>
                  </a:lnTo>
                  <a:lnTo>
                    <a:pt x="3578" y="4806"/>
                  </a:lnTo>
                  <a:lnTo>
                    <a:pt x="3587" y="4748"/>
                  </a:lnTo>
                  <a:lnTo>
                    <a:pt x="3594" y="4689"/>
                  </a:lnTo>
                  <a:lnTo>
                    <a:pt x="3600" y="4630"/>
                  </a:lnTo>
                  <a:lnTo>
                    <a:pt x="3605" y="4568"/>
                  </a:lnTo>
                  <a:lnTo>
                    <a:pt x="3608" y="4507"/>
                  </a:lnTo>
                  <a:lnTo>
                    <a:pt x="3610" y="4444"/>
                  </a:lnTo>
                  <a:lnTo>
                    <a:pt x="3612" y="4381"/>
                  </a:lnTo>
                  <a:lnTo>
                    <a:pt x="3610" y="4317"/>
                  </a:lnTo>
                  <a:lnTo>
                    <a:pt x="3609" y="4253"/>
                  </a:lnTo>
                  <a:lnTo>
                    <a:pt x="3608" y="4188"/>
                  </a:lnTo>
                  <a:lnTo>
                    <a:pt x="3604" y="4124"/>
                  </a:lnTo>
                  <a:lnTo>
                    <a:pt x="3600" y="4059"/>
                  </a:lnTo>
                  <a:lnTo>
                    <a:pt x="3592" y="3930"/>
                  </a:lnTo>
                  <a:lnTo>
                    <a:pt x="3582" y="3802"/>
                  </a:lnTo>
                  <a:lnTo>
                    <a:pt x="3570" y="3675"/>
                  </a:lnTo>
                  <a:lnTo>
                    <a:pt x="3559" y="3552"/>
                  </a:lnTo>
                  <a:lnTo>
                    <a:pt x="3548" y="3432"/>
                  </a:lnTo>
                  <a:lnTo>
                    <a:pt x="3538" y="3315"/>
                  </a:lnTo>
                  <a:lnTo>
                    <a:pt x="3529" y="3204"/>
                  </a:lnTo>
                  <a:lnTo>
                    <a:pt x="3524" y="3098"/>
                  </a:lnTo>
                  <a:lnTo>
                    <a:pt x="3549" y="3129"/>
                  </a:lnTo>
                  <a:lnTo>
                    <a:pt x="3576" y="3159"/>
                  </a:lnTo>
                  <a:lnTo>
                    <a:pt x="3605" y="3188"/>
                  </a:lnTo>
                  <a:lnTo>
                    <a:pt x="3636" y="3218"/>
                  </a:lnTo>
                  <a:lnTo>
                    <a:pt x="3669" y="3246"/>
                  </a:lnTo>
                  <a:lnTo>
                    <a:pt x="3705" y="3274"/>
                  </a:lnTo>
                  <a:lnTo>
                    <a:pt x="3742" y="3302"/>
                  </a:lnTo>
                  <a:lnTo>
                    <a:pt x="3783" y="3331"/>
                  </a:lnTo>
                  <a:lnTo>
                    <a:pt x="3824" y="3359"/>
                  </a:lnTo>
                  <a:lnTo>
                    <a:pt x="3869" y="3387"/>
                  </a:lnTo>
                  <a:lnTo>
                    <a:pt x="3914" y="3416"/>
                  </a:lnTo>
                  <a:lnTo>
                    <a:pt x="3963" y="3445"/>
                  </a:lnTo>
                  <a:lnTo>
                    <a:pt x="4068" y="3504"/>
                  </a:lnTo>
                  <a:lnTo>
                    <a:pt x="4181" y="3566"/>
                  </a:lnTo>
                  <a:lnTo>
                    <a:pt x="4479" y="3395"/>
                  </a:lnTo>
                  <a:lnTo>
                    <a:pt x="4778" y="3223"/>
                  </a:lnTo>
                  <a:lnTo>
                    <a:pt x="4925" y="3136"/>
                  </a:lnTo>
                  <a:lnTo>
                    <a:pt x="5073" y="3050"/>
                  </a:lnTo>
                  <a:lnTo>
                    <a:pt x="5218" y="2964"/>
                  </a:lnTo>
                  <a:lnTo>
                    <a:pt x="5361" y="2877"/>
                  </a:lnTo>
                  <a:lnTo>
                    <a:pt x="5500" y="2790"/>
                  </a:lnTo>
                  <a:lnTo>
                    <a:pt x="5635" y="2702"/>
                  </a:lnTo>
                  <a:lnTo>
                    <a:pt x="5701" y="2658"/>
                  </a:lnTo>
                  <a:lnTo>
                    <a:pt x="5767" y="2614"/>
                  </a:lnTo>
                  <a:lnTo>
                    <a:pt x="5830" y="2569"/>
                  </a:lnTo>
                  <a:lnTo>
                    <a:pt x="5893" y="2525"/>
                  </a:lnTo>
                  <a:lnTo>
                    <a:pt x="5955" y="2480"/>
                  </a:lnTo>
                  <a:lnTo>
                    <a:pt x="6015" y="2435"/>
                  </a:lnTo>
                  <a:lnTo>
                    <a:pt x="6074" y="2390"/>
                  </a:lnTo>
                  <a:lnTo>
                    <a:pt x="6131" y="2346"/>
                  </a:lnTo>
                  <a:lnTo>
                    <a:pt x="6186" y="2300"/>
                  </a:lnTo>
                  <a:lnTo>
                    <a:pt x="6240" y="2253"/>
                  </a:lnTo>
                  <a:lnTo>
                    <a:pt x="6292" y="2208"/>
                  </a:lnTo>
                  <a:lnTo>
                    <a:pt x="6342" y="2162"/>
                  </a:lnTo>
                  <a:lnTo>
                    <a:pt x="6318" y="2148"/>
                  </a:lnTo>
                  <a:lnTo>
                    <a:pt x="6293" y="2133"/>
                  </a:lnTo>
                  <a:lnTo>
                    <a:pt x="6271" y="2118"/>
                  </a:lnTo>
                  <a:lnTo>
                    <a:pt x="6249" y="2102"/>
                  </a:lnTo>
                  <a:lnTo>
                    <a:pt x="6228" y="2086"/>
                  </a:lnTo>
                  <a:lnTo>
                    <a:pt x="6208" y="2070"/>
                  </a:lnTo>
                  <a:lnTo>
                    <a:pt x="6188" y="2054"/>
                  </a:lnTo>
                  <a:lnTo>
                    <a:pt x="6170" y="2037"/>
                  </a:lnTo>
                  <a:lnTo>
                    <a:pt x="6153" y="2020"/>
                  </a:lnTo>
                  <a:lnTo>
                    <a:pt x="6137" y="2001"/>
                  </a:lnTo>
                  <a:lnTo>
                    <a:pt x="6121" y="1984"/>
                  </a:lnTo>
                  <a:lnTo>
                    <a:pt x="6106" y="1965"/>
                  </a:lnTo>
                  <a:lnTo>
                    <a:pt x="6092" y="1947"/>
                  </a:lnTo>
                  <a:lnTo>
                    <a:pt x="6079" y="1929"/>
                  </a:lnTo>
                  <a:lnTo>
                    <a:pt x="6065" y="1909"/>
                  </a:lnTo>
                  <a:lnTo>
                    <a:pt x="6054" y="1889"/>
                  </a:lnTo>
                  <a:lnTo>
                    <a:pt x="6031" y="1850"/>
                  </a:lnTo>
                  <a:lnTo>
                    <a:pt x="6011" y="1811"/>
                  </a:lnTo>
                  <a:lnTo>
                    <a:pt x="5994" y="1769"/>
                  </a:lnTo>
                  <a:lnTo>
                    <a:pt x="5978" y="1727"/>
                  </a:lnTo>
                  <a:lnTo>
                    <a:pt x="5963" y="1685"/>
                  </a:lnTo>
                  <a:lnTo>
                    <a:pt x="5950" y="1642"/>
                  </a:lnTo>
                  <a:lnTo>
                    <a:pt x="5939" y="1600"/>
                  </a:lnTo>
                  <a:lnTo>
                    <a:pt x="5928" y="1556"/>
                  </a:lnTo>
                  <a:lnTo>
                    <a:pt x="5866" y="1579"/>
                  </a:lnTo>
                  <a:lnTo>
                    <a:pt x="5806" y="1604"/>
                  </a:lnTo>
                  <a:lnTo>
                    <a:pt x="5747" y="1628"/>
                  </a:lnTo>
                  <a:lnTo>
                    <a:pt x="5689" y="1654"/>
                  </a:lnTo>
                  <a:lnTo>
                    <a:pt x="5632" y="1681"/>
                  </a:lnTo>
                  <a:lnTo>
                    <a:pt x="5577" y="1708"/>
                  </a:lnTo>
                  <a:lnTo>
                    <a:pt x="5523" y="1737"/>
                  </a:lnTo>
                  <a:lnTo>
                    <a:pt x="5470" y="1765"/>
                  </a:lnTo>
                  <a:lnTo>
                    <a:pt x="5417" y="1793"/>
                  </a:lnTo>
                  <a:lnTo>
                    <a:pt x="5366" y="1823"/>
                  </a:lnTo>
                  <a:lnTo>
                    <a:pt x="5315" y="1852"/>
                  </a:lnTo>
                  <a:lnTo>
                    <a:pt x="5266" y="1882"/>
                  </a:lnTo>
                  <a:lnTo>
                    <a:pt x="5168" y="1942"/>
                  </a:lnTo>
                  <a:lnTo>
                    <a:pt x="5073" y="2002"/>
                  </a:lnTo>
                  <a:lnTo>
                    <a:pt x="4887" y="2124"/>
                  </a:lnTo>
                  <a:lnTo>
                    <a:pt x="4706" y="2242"/>
                  </a:lnTo>
                  <a:lnTo>
                    <a:pt x="4615" y="2299"/>
                  </a:lnTo>
                  <a:lnTo>
                    <a:pt x="4524" y="2352"/>
                  </a:lnTo>
                  <a:lnTo>
                    <a:pt x="4479" y="2379"/>
                  </a:lnTo>
                  <a:lnTo>
                    <a:pt x="4432" y="2403"/>
                  </a:lnTo>
                  <a:lnTo>
                    <a:pt x="4386" y="2428"/>
                  </a:lnTo>
                  <a:lnTo>
                    <a:pt x="4340" y="2451"/>
                  </a:lnTo>
                  <a:lnTo>
                    <a:pt x="4271" y="2350"/>
                  </a:lnTo>
                  <a:lnTo>
                    <a:pt x="4201" y="2248"/>
                  </a:lnTo>
                  <a:lnTo>
                    <a:pt x="4128" y="2146"/>
                  </a:lnTo>
                  <a:lnTo>
                    <a:pt x="4054" y="2044"/>
                  </a:lnTo>
                  <a:lnTo>
                    <a:pt x="3978" y="1942"/>
                  </a:lnTo>
                  <a:lnTo>
                    <a:pt x="3902" y="1841"/>
                  </a:lnTo>
                  <a:lnTo>
                    <a:pt x="3824" y="1740"/>
                  </a:lnTo>
                  <a:lnTo>
                    <a:pt x="3746" y="1642"/>
                  </a:lnTo>
                  <a:lnTo>
                    <a:pt x="3667" y="1544"/>
                  </a:lnTo>
                  <a:lnTo>
                    <a:pt x="3588" y="1449"/>
                  </a:lnTo>
                  <a:lnTo>
                    <a:pt x="3511" y="1355"/>
                  </a:lnTo>
                  <a:lnTo>
                    <a:pt x="3432" y="1264"/>
                  </a:lnTo>
                  <a:lnTo>
                    <a:pt x="3356" y="1177"/>
                  </a:lnTo>
                  <a:lnTo>
                    <a:pt x="3279" y="1092"/>
                  </a:lnTo>
                  <a:lnTo>
                    <a:pt x="3206" y="1011"/>
                  </a:lnTo>
                  <a:lnTo>
                    <a:pt x="3133" y="934"/>
                  </a:lnTo>
                  <a:lnTo>
                    <a:pt x="3057" y="874"/>
                  </a:lnTo>
                  <a:lnTo>
                    <a:pt x="2981" y="815"/>
                  </a:lnTo>
                  <a:lnTo>
                    <a:pt x="2906" y="755"/>
                  </a:lnTo>
                  <a:lnTo>
                    <a:pt x="2832" y="695"/>
                  </a:lnTo>
                  <a:lnTo>
                    <a:pt x="2687" y="573"/>
                  </a:lnTo>
                  <a:lnTo>
                    <a:pt x="2545" y="453"/>
                  </a:lnTo>
                  <a:lnTo>
                    <a:pt x="2407" y="335"/>
                  </a:lnTo>
                  <a:lnTo>
                    <a:pt x="2273" y="219"/>
                  </a:lnTo>
                  <a:lnTo>
                    <a:pt x="2143" y="107"/>
                  </a:lnTo>
                  <a:lnTo>
                    <a:pt x="2015" y="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618000" y="3192120"/>
              <a:ext cx="47520" cy="136440"/>
            </a:xfrm>
            <a:custGeom>
              <a:avLst/>
              <a:gdLst/>
              <a:ahLst/>
              <a:rect l="l" t="t" r="r" b="b"/>
              <a:pathLst>
                <a:path w="152" h="428">
                  <a:moveTo>
                    <a:pt x="20" y="428"/>
                  </a:moveTo>
                  <a:lnTo>
                    <a:pt x="27" y="421"/>
                  </a:lnTo>
                  <a:lnTo>
                    <a:pt x="41" y="393"/>
                  </a:lnTo>
                  <a:lnTo>
                    <a:pt x="52" y="366"/>
                  </a:lnTo>
                  <a:lnTo>
                    <a:pt x="60" y="338"/>
                  </a:lnTo>
                  <a:lnTo>
                    <a:pt x="69" y="311"/>
                  </a:lnTo>
                  <a:lnTo>
                    <a:pt x="81" y="258"/>
                  </a:lnTo>
                  <a:lnTo>
                    <a:pt x="91" y="205"/>
                  </a:lnTo>
                  <a:lnTo>
                    <a:pt x="102" y="155"/>
                  </a:lnTo>
                  <a:lnTo>
                    <a:pt x="113" y="105"/>
                  </a:lnTo>
                  <a:lnTo>
                    <a:pt x="121" y="82"/>
                  </a:lnTo>
                  <a:lnTo>
                    <a:pt x="129" y="59"/>
                  </a:lnTo>
                  <a:lnTo>
                    <a:pt x="139" y="36"/>
                  </a:lnTo>
                  <a:lnTo>
                    <a:pt x="152" y="14"/>
                  </a:lnTo>
                  <a:lnTo>
                    <a:pt x="126" y="0"/>
                  </a:lnTo>
                  <a:lnTo>
                    <a:pt x="112" y="23"/>
                  </a:lnTo>
                  <a:lnTo>
                    <a:pt x="101" y="48"/>
                  </a:lnTo>
                  <a:lnTo>
                    <a:pt x="92" y="72"/>
                  </a:lnTo>
                  <a:lnTo>
                    <a:pt x="85" y="98"/>
                  </a:lnTo>
                  <a:lnTo>
                    <a:pt x="73" y="148"/>
                  </a:lnTo>
                  <a:lnTo>
                    <a:pt x="62" y="199"/>
                  </a:lnTo>
                  <a:lnTo>
                    <a:pt x="52" y="250"/>
                  </a:lnTo>
                  <a:lnTo>
                    <a:pt x="40" y="303"/>
                  </a:lnTo>
                  <a:lnTo>
                    <a:pt x="32" y="329"/>
                  </a:lnTo>
                  <a:lnTo>
                    <a:pt x="24" y="355"/>
                  </a:lnTo>
                  <a:lnTo>
                    <a:pt x="13" y="381"/>
                  </a:lnTo>
                  <a:lnTo>
                    <a:pt x="0" y="408"/>
                  </a:lnTo>
                  <a:lnTo>
                    <a:pt x="8" y="401"/>
                  </a:lnTo>
                  <a:lnTo>
                    <a:pt x="20" y="428"/>
                  </a:lnTo>
                  <a:lnTo>
                    <a:pt x="25" y="426"/>
                  </a:lnTo>
                  <a:lnTo>
                    <a:pt x="27" y="421"/>
                  </a:lnTo>
                  <a:lnTo>
                    <a:pt x="20" y="4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108240" y="3319200"/>
              <a:ext cx="515880" cy="766440"/>
            </a:xfrm>
            <a:custGeom>
              <a:avLst/>
              <a:gdLst/>
              <a:ahLst/>
              <a:rect l="l" t="t" r="r" b="b"/>
              <a:pathLst>
                <a:path w="1625" h="2412">
                  <a:moveTo>
                    <a:pt x="30" y="2409"/>
                  </a:moveTo>
                  <a:lnTo>
                    <a:pt x="28" y="2412"/>
                  </a:lnTo>
                  <a:lnTo>
                    <a:pt x="66" y="2329"/>
                  </a:lnTo>
                  <a:lnTo>
                    <a:pt x="108" y="2244"/>
                  </a:lnTo>
                  <a:lnTo>
                    <a:pt x="151" y="2157"/>
                  </a:lnTo>
                  <a:lnTo>
                    <a:pt x="196" y="2068"/>
                  </a:lnTo>
                  <a:lnTo>
                    <a:pt x="242" y="1977"/>
                  </a:lnTo>
                  <a:lnTo>
                    <a:pt x="292" y="1885"/>
                  </a:lnTo>
                  <a:lnTo>
                    <a:pt x="341" y="1792"/>
                  </a:lnTo>
                  <a:lnTo>
                    <a:pt x="392" y="1698"/>
                  </a:lnTo>
                  <a:lnTo>
                    <a:pt x="445" y="1603"/>
                  </a:lnTo>
                  <a:lnTo>
                    <a:pt x="499" y="1509"/>
                  </a:lnTo>
                  <a:lnTo>
                    <a:pt x="554" y="1414"/>
                  </a:lnTo>
                  <a:lnTo>
                    <a:pt x="609" y="1321"/>
                  </a:lnTo>
                  <a:lnTo>
                    <a:pt x="665" y="1227"/>
                  </a:lnTo>
                  <a:lnTo>
                    <a:pt x="721" y="1135"/>
                  </a:lnTo>
                  <a:lnTo>
                    <a:pt x="777" y="1045"/>
                  </a:lnTo>
                  <a:lnTo>
                    <a:pt x="835" y="955"/>
                  </a:lnTo>
                  <a:lnTo>
                    <a:pt x="892" y="869"/>
                  </a:lnTo>
                  <a:lnTo>
                    <a:pt x="948" y="784"/>
                  </a:lnTo>
                  <a:lnTo>
                    <a:pt x="1004" y="703"/>
                  </a:lnTo>
                  <a:lnTo>
                    <a:pt x="1059" y="623"/>
                  </a:lnTo>
                  <a:lnTo>
                    <a:pt x="1114" y="548"/>
                  </a:lnTo>
                  <a:lnTo>
                    <a:pt x="1169" y="477"/>
                  </a:lnTo>
                  <a:lnTo>
                    <a:pt x="1221" y="408"/>
                  </a:lnTo>
                  <a:lnTo>
                    <a:pt x="1273" y="344"/>
                  </a:lnTo>
                  <a:lnTo>
                    <a:pt x="1324" y="285"/>
                  </a:lnTo>
                  <a:lnTo>
                    <a:pt x="1373" y="231"/>
                  </a:lnTo>
                  <a:lnTo>
                    <a:pt x="1397" y="206"/>
                  </a:lnTo>
                  <a:lnTo>
                    <a:pt x="1421" y="183"/>
                  </a:lnTo>
                  <a:lnTo>
                    <a:pt x="1443" y="159"/>
                  </a:lnTo>
                  <a:lnTo>
                    <a:pt x="1466" y="139"/>
                  </a:lnTo>
                  <a:lnTo>
                    <a:pt x="1487" y="119"/>
                  </a:lnTo>
                  <a:lnTo>
                    <a:pt x="1509" y="102"/>
                  </a:lnTo>
                  <a:lnTo>
                    <a:pt x="1530" y="84"/>
                  </a:lnTo>
                  <a:lnTo>
                    <a:pt x="1550" y="70"/>
                  </a:lnTo>
                  <a:lnTo>
                    <a:pt x="1570" y="57"/>
                  </a:lnTo>
                  <a:lnTo>
                    <a:pt x="1589" y="45"/>
                  </a:lnTo>
                  <a:lnTo>
                    <a:pt x="1606" y="35"/>
                  </a:lnTo>
                  <a:lnTo>
                    <a:pt x="1625" y="27"/>
                  </a:lnTo>
                  <a:lnTo>
                    <a:pt x="1613" y="0"/>
                  </a:lnTo>
                  <a:lnTo>
                    <a:pt x="1593" y="8"/>
                  </a:lnTo>
                  <a:lnTo>
                    <a:pt x="1573" y="19"/>
                  </a:lnTo>
                  <a:lnTo>
                    <a:pt x="1554" y="32"/>
                  </a:lnTo>
                  <a:lnTo>
                    <a:pt x="1533" y="45"/>
                  </a:lnTo>
                  <a:lnTo>
                    <a:pt x="1512" y="61"/>
                  </a:lnTo>
                  <a:lnTo>
                    <a:pt x="1490" y="78"/>
                  </a:lnTo>
                  <a:lnTo>
                    <a:pt x="1467" y="97"/>
                  </a:lnTo>
                  <a:lnTo>
                    <a:pt x="1445" y="116"/>
                  </a:lnTo>
                  <a:lnTo>
                    <a:pt x="1422" y="139"/>
                  </a:lnTo>
                  <a:lnTo>
                    <a:pt x="1399" y="161"/>
                  </a:lnTo>
                  <a:lnTo>
                    <a:pt x="1375" y="185"/>
                  </a:lnTo>
                  <a:lnTo>
                    <a:pt x="1351" y="211"/>
                  </a:lnTo>
                  <a:lnTo>
                    <a:pt x="1301" y="265"/>
                  </a:lnTo>
                  <a:lnTo>
                    <a:pt x="1250" y="325"/>
                  </a:lnTo>
                  <a:lnTo>
                    <a:pt x="1198" y="389"/>
                  </a:lnTo>
                  <a:lnTo>
                    <a:pt x="1145" y="458"/>
                  </a:lnTo>
                  <a:lnTo>
                    <a:pt x="1090" y="530"/>
                  </a:lnTo>
                  <a:lnTo>
                    <a:pt x="1034" y="606"/>
                  </a:lnTo>
                  <a:lnTo>
                    <a:pt x="979" y="686"/>
                  </a:lnTo>
                  <a:lnTo>
                    <a:pt x="923" y="767"/>
                  </a:lnTo>
                  <a:lnTo>
                    <a:pt x="866" y="852"/>
                  </a:lnTo>
                  <a:lnTo>
                    <a:pt x="809" y="939"/>
                  </a:lnTo>
                  <a:lnTo>
                    <a:pt x="753" y="1029"/>
                  </a:lnTo>
                  <a:lnTo>
                    <a:pt x="696" y="1120"/>
                  </a:lnTo>
                  <a:lnTo>
                    <a:pt x="640" y="1212"/>
                  </a:lnTo>
                  <a:lnTo>
                    <a:pt x="583" y="1306"/>
                  </a:lnTo>
                  <a:lnTo>
                    <a:pt x="528" y="1399"/>
                  </a:lnTo>
                  <a:lnTo>
                    <a:pt x="472" y="1494"/>
                  </a:lnTo>
                  <a:lnTo>
                    <a:pt x="419" y="1589"/>
                  </a:lnTo>
                  <a:lnTo>
                    <a:pt x="367" y="1683"/>
                  </a:lnTo>
                  <a:lnTo>
                    <a:pt x="315" y="1778"/>
                  </a:lnTo>
                  <a:lnTo>
                    <a:pt x="265" y="1872"/>
                  </a:lnTo>
                  <a:lnTo>
                    <a:pt x="217" y="1964"/>
                  </a:lnTo>
                  <a:lnTo>
                    <a:pt x="169" y="2055"/>
                  </a:lnTo>
                  <a:lnTo>
                    <a:pt x="124" y="2143"/>
                  </a:lnTo>
                  <a:lnTo>
                    <a:pt x="81" y="2231"/>
                  </a:lnTo>
                  <a:lnTo>
                    <a:pt x="39" y="2316"/>
                  </a:lnTo>
                  <a:lnTo>
                    <a:pt x="1" y="2398"/>
                  </a:lnTo>
                  <a:lnTo>
                    <a:pt x="0" y="2401"/>
                  </a:lnTo>
                  <a:lnTo>
                    <a:pt x="1" y="2398"/>
                  </a:lnTo>
                  <a:lnTo>
                    <a:pt x="0" y="2399"/>
                  </a:lnTo>
                  <a:lnTo>
                    <a:pt x="0" y="2401"/>
                  </a:lnTo>
                  <a:lnTo>
                    <a:pt x="30" y="24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016080" y="4082760"/>
              <a:ext cx="101880" cy="717120"/>
            </a:xfrm>
            <a:custGeom>
              <a:avLst/>
              <a:gdLst/>
              <a:ahLst/>
              <a:rect l="l" t="t" r="r" b="b"/>
              <a:pathLst>
                <a:path w="318" h="2261">
                  <a:moveTo>
                    <a:pt x="15" y="2231"/>
                  </a:moveTo>
                  <a:lnTo>
                    <a:pt x="31" y="2247"/>
                  </a:lnTo>
                  <a:lnTo>
                    <a:pt x="48" y="1972"/>
                  </a:lnTo>
                  <a:lnTo>
                    <a:pt x="65" y="1693"/>
                  </a:lnTo>
                  <a:lnTo>
                    <a:pt x="75" y="1552"/>
                  </a:lnTo>
                  <a:lnTo>
                    <a:pt x="86" y="1410"/>
                  </a:lnTo>
                  <a:lnTo>
                    <a:pt x="99" y="1268"/>
                  </a:lnTo>
                  <a:lnTo>
                    <a:pt x="112" y="1125"/>
                  </a:lnTo>
                  <a:lnTo>
                    <a:pt x="128" y="982"/>
                  </a:lnTo>
                  <a:lnTo>
                    <a:pt x="147" y="840"/>
                  </a:lnTo>
                  <a:lnTo>
                    <a:pt x="156" y="769"/>
                  </a:lnTo>
                  <a:lnTo>
                    <a:pt x="166" y="698"/>
                  </a:lnTo>
                  <a:lnTo>
                    <a:pt x="179" y="628"/>
                  </a:lnTo>
                  <a:lnTo>
                    <a:pt x="190" y="558"/>
                  </a:lnTo>
                  <a:lnTo>
                    <a:pt x="203" y="488"/>
                  </a:lnTo>
                  <a:lnTo>
                    <a:pt x="217" y="418"/>
                  </a:lnTo>
                  <a:lnTo>
                    <a:pt x="231" y="349"/>
                  </a:lnTo>
                  <a:lnTo>
                    <a:pt x="246" y="280"/>
                  </a:lnTo>
                  <a:lnTo>
                    <a:pt x="262" y="211"/>
                  </a:lnTo>
                  <a:lnTo>
                    <a:pt x="279" y="142"/>
                  </a:lnTo>
                  <a:lnTo>
                    <a:pt x="298" y="75"/>
                  </a:lnTo>
                  <a:lnTo>
                    <a:pt x="318" y="8"/>
                  </a:lnTo>
                  <a:lnTo>
                    <a:pt x="288" y="0"/>
                  </a:lnTo>
                  <a:lnTo>
                    <a:pt x="270" y="67"/>
                  </a:lnTo>
                  <a:lnTo>
                    <a:pt x="251" y="135"/>
                  </a:lnTo>
                  <a:lnTo>
                    <a:pt x="234" y="204"/>
                  </a:lnTo>
                  <a:lnTo>
                    <a:pt x="217" y="273"/>
                  </a:lnTo>
                  <a:lnTo>
                    <a:pt x="202" y="343"/>
                  </a:lnTo>
                  <a:lnTo>
                    <a:pt x="187" y="412"/>
                  </a:lnTo>
                  <a:lnTo>
                    <a:pt x="174" y="482"/>
                  </a:lnTo>
                  <a:lnTo>
                    <a:pt x="160" y="552"/>
                  </a:lnTo>
                  <a:lnTo>
                    <a:pt x="149" y="623"/>
                  </a:lnTo>
                  <a:lnTo>
                    <a:pt x="137" y="693"/>
                  </a:lnTo>
                  <a:lnTo>
                    <a:pt x="127" y="765"/>
                  </a:lnTo>
                  <a:lnTo>
                    <a:pt x="117" y="836"/>
                  </a:lnTo>
                  <a:lnTo>
                    <a:pt x="99" y="979"/>
                  </a:lnTo>
                  <a:lnTo>
                    <a:pt x="83" y="1121"/>
                  </a:lnTo>
                  <a:lnTo>
                    <a:pt x="69" y="1265"/>
                  </a:lnTo>
                  <a:lnTo>
                    <a:pt x="57" y="1408"/>
                  </a:lnTo>
                  <a:lnTo>
                    <a:pt x="46" y="1549"/>
                  </a:lnTo>
                  <a:lnTo>
                    <a:pt x="36" y="1692"/>
                  </a:lnTo>
                  <a:lnTo>
                    <a:pt x="17" y="1971"/>
                  </a:lnTo>
                  <a:lnTo>
                    <a:pt x="1" y="2245"/>
                  </a:lnTo>
                  <a:lnTo>
                    <a:pt x="17" y="2260"/>
                  </a:lnTo>
                  <a:lnTo>
                    <a:pt x="1" y="2245"/>
                  </a:lnTo>
                  <a:lnTo>
                    <a:pt x="0" y="2261"/>
                  </a:lnTo>
                  <a:lnTo>
                    <a:pt x="17" y="2260"/>
                  </a:lnTo>
                  <a:lnTo>
                    <a:pt x="15" y="22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021120" y="4782960"/>
              <a:ext cx="1123920" cy="18720"/>
            </a:xfrm>
            <a:custGeom>
              <a:avLst/>
              <a:gdLst/>
              <a:ahLst/>
              <a:rect l="l" t="t" r="r" b="b"/>
              <a:pathLst>
                <a:path w="3540" h="63">
                  <a:moveTo>
                    <a:pt x="3512" y="17"/>
                  </a:moveTo>
                  <a:lnTo>
                    <a:pt x="3524" y="8"/>
                  </a:lnTo>
                  <a:lnTo>
                    <a:pt x="3416" y="15"/>
                  </a:lnTo>
                  <a:lnTo>
                    <a:pt x="3306" y="20"/>
                  </a:lnTo>
                  <a:lnTo>
                    <a:pt x="3198" y="25"/>
                  </a:lnTo>
                  <a:lnTo>
                    <a:pt x="3089" y="27"/>
                  </a:lnTo>
                  <a:lnTo>
                    <a:pt x="2978" y="30"/>
                  </a:lnTo>
                  <a:lnTo>
                    <a:pt x="2868" y="32"/>
                  </a:lnTo>
                  <a:lnTo>
                    <a:pt x="2759" y="32"/>
                  </a:lnTo>
                  <a:lnTo>
                    <a:pt x="2648" y="32"/>
                  </a:lnTo>
                  <a:lnTo>
                    <a:pt x="2428" y="31"/>
                  </a:lnTo>
                  <a:lnTo>
                    <a:pt x="2207" y="27"/>
                  </a:lnTo>
                  <a:lnTo>
                    <a:pt x="1985" y="22"/>
                  </a:lnTo>
                  <a:lnTo>
                    <a:pt x="1764" y="16"/>
                  </a:lnTo>
                  <a:lnTo>
                    <a:pt x="1542" y="10"/>
                  </a:lnTo>
                  <a:lnTo>
                    <a:pt x="1320" y="5"/>
                  </a:lnTo>
                  <a:lnTo>
                    <a:pt x="1098" y="1"/>
                  </a:lnTo>
                  <a:lnTo>
                    <a:pt x="878" y="0"/>
                  </a:lnTo>
                  <a:lnTo>
                    <a:pt x="768" y="0"/>
                  </a:lnTo>
                  <a:lnTo>
                    <a:pt x="658" y="0"/>
                  </a:lnTo>
                  <a:lnTo>
                    <a:pt x="547" y="3"/>
                  </a:lnTo>
                  <a:lnTo>
                    <a:pt x="438" y="5"/>
                  </a:lnTo>
                  <a:lnTo>
                    <a:pt x="328" y="8"/>
                  </a:lnTo>
                  <a:lnTo>
                    <a:pt x="218" y="12"/>
                  </a:lnTo>
                  <a:lnTo>
                    <a:pt x="109" y="19"/>
                  </a:lnTo>
                  <a:lnTo>
                    <a:pt x="0" y="25"/>
                  </a:lnTo>
                  <a:lnTo>
                    <a:pt x="2" y="54"/>
                  </a:lnTo>
                  <a:lnTo>
                    <a:pt x="111" y="48"/>
                  </a:lnTo>
                  <a:lnTo>
                    <a:pt x="220" y="42"/>
                  </a:lnTo>
                  <a:lnTo>
                    <a:pt x="328" y="38"/>
                  </a:lnTo>
                  <a:lnTo>
                    <a:pt x="438" y="35"/>
                  </a:lnTo>
                  <a:lnTo>
                    <a:pt x="547" y="32"/>
                  </a:lnTo>
                  <a:lnTo>
                    <a:pt x="658" y="31"/>
                  </a:lnTo>
                  <a:lnTo>
                    <a:pt x="768" y="30"/>
                  </a:lnTo>
                  <a:lnTo>
                    <a:pt x="878" y="30"/>
                  </a:lnTo>
                  <a:lnTo>
                    <a:pt x="1098" y="32"/>
                  </a:lnTo>
                  <a:lnTo>
                    <a:pt x="1320" y="36"/>
                  </a:lnTo>
                  <a:lnTo>
                    <a:pt x="1541" y="41"/>
                  </a:lnTo>
                  <a:lnTo>
                    <a:pt x="1763" y="46"/>
                  </a:lnTo>
                  <a:lnTo>
                    <a:pt x="1984" y="52"/>
                  </a:lnTo>
                  <a:lnTo>
                    <a:pt x="2205" y="57"/>
                  </a:lnTo>
                  <a:lnTo>
                    <a:pt x="2427" y="60"/>
                  </a:lnTo>
                  <a:lnTo>
                    <a:pt x="2648" y="63"/>
                  </a:lnTo>
                  <a:lnTo>
                    <a:pt x="2759" y="63"/>
                  </a:lnTo>
                  <a:lnTo>
                    <a:pt x="2868" y="62"/>
                  </a:lnTo>
                  <a:lnTo>
                    <a:pt x="2979" y="60"/>
                  </a:lnTo>
                  <a:lnTo>
                    <a:pt x="3089" y="58"/>
                  </a:lnTo>
                  <a:lnTo>
                    <a:pt x="3198" y="54"/>
                  </a:lnTo>
                  <a:lnTo>
                    <a:pt x="3308" y="51"/>
                  </a:lnTo>
                  <a:lnTo>
                    <a:pt x="3417" y="44"/>
                  </a:lnTo>
                  <a:lnTo>
                    <a:pt x="3526" y="37"/>
                  </a:lnTo>
                  <a:lnTo>
                    <a:pt x="3540" y="27"/>
                  </a:lnTo>
                  <a:lnTo>
                    <a:pt x="3526" y="37"/>
                  </a:lnTo>
                  <a:lnTo>
                    <a:pt x="3536" y="37"/>
                  </a:lnTo>
                  <a:lnTo>
                    <a:pt x="3540" y="27"/>
                  </a:lnTo>
                  <a:lnTo>
                    <a:pt x="3512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135320" y="4163760"/>
              <a:ext cx="36720" cy="626760"/>
            </a:xfrm>
            <a:custGeom>
              <a:avLst/>
              <a:gdLst/>
              <a:ahLst/>
              <a:rect l="l" t="t" r="r" b="b"/>
              <a:pathLst>
                <a:path w="118" h="1975">
                  <a:moveTo>
                    <a:pt x="29" y="37"/>
                  </a:moveTo>
                  <a:lnTo>
                    <a:pt x="1" y="47"/>
                  </a:lnTo>
                  <a:lnTo>
                    <a:pt x="6" y="151"/>
                  </a:lnTo>
                  <a:lnTo>
                    <a:pt x="15" y="263"/>
                  </a:lnTo>
                  <a:lnTo>
                    <a:pt x="25" y="380"/>
                  </a:lnTo>
                  <a:lnTo>
                    <a:pt x="36" y="500"/>
                  </a:lnTo>
                  <a:lnTo>
                    <a:pt x="47" y="623"/>
                  </a:lnTo>
                  <a:lnTo>
                    <a:pt x="58" y="750"/>
                  </a:lnTo>
                  <a:lnTo>
                    <a:pt x="69" y="878"/>
                  </a:lnTo>
                  <a:lnTo>
                    <a:pt x="78" y="1007"/>
                  </a:lnTo>
                  <a:lnTo>
                    <a:pt x="81" y="1072"/>
                  </a:lnTo>
                  <a:lnTo>
                    <a:pt x="84" y="1136"/>
                  </a:lnTo>
                  <a:lnTo>
                    <a:pt x="86" y="1200"/>
                  </a:lnTo>
                  <a:lnTo>
                    <a:pt x="88" y="1264"/>
                  </a:lnTo>
                  <a:lnTo>
                    <a:pt x="88" y="1328"/>
                  </a:lnTo>
                  <a:lnTo>
                    <a:pt x="88" y="1391"/>
                  </a:lnTo>
                  <a:lnTo>
                    <a:pt x="85" y="1452"/>
                  </a:lnTo>
                  <a:lnTo>
                    <a:pt x="83" y="1514"/>
                  </a:lnTo>
                  <a:lnTo>
                    <a:pt x="78" y="1575"/>
                  </a:lnTo>
                  <a:lnTo>
                    <a:pt x="72" y="1634"/>
                  </a:lnTo>
                  <a:lnTo>
                    <a:pt x="64" y="1694"/>
                  </a:lnTo>
                  <a:lnTo>
                    <a:pt x="56" y="1750"/>
                  </a:lnTo>
                  <a:lnTo>
                    <a:pt x="45" y="1807"/>
                  </a:lnTo>
                  <a:lnTo>
                    <a:pt x="32" y="1861"/>
                  </a:lnTo>
                  <a:lnTo>
                    <a:pt x="19" y="1914"/>
                  </a:lnTo>
                  <a:lnTo>
                    <a:pt x="3" y="1965"/>
                  </a:lnTo>
                  <a:lnTo>
                    <a:pt x="31" y="1975"/>
                  </a:lnTo>
                  <a:lnTo>
                    <a:pt x="47" y="1922"/>
                  </a:lnTo>
                  <a:lnTo>
                    <a:pt x="62" y="1868"/>
                  </a:lnTo>
                  <a:lnTo>
                    <a:pt x="74" y="1813"/>
                  </a:lnTo>
                  <a:lnTo>
                    <a:pt x="85" y="1755"/>
                  </a:lnTo>
                  <a:lnTo>
                    <a:pt x="94" y="1697"/>
                  </a:lnTo>
                  <a:lnTo>
                    <a:pt x="102" y="1638"/>
                  </a:lnTo>
                  <a:lnTo>
                    <a:pt x="107" y="1578"/>
                  </a:lnTo>
                  <a:lnTo>
                    <a:pt x="112" y="1516"/>
                  </a:lnTo>
                  <a:lnTo>
                    <a:pt x="116" y="1454"/>
                  </a:lnTo>
                  <a:lnTo>
                    <a:pt x="117" y="1391"/>
                  </a:lnTo>
                  <a:lnTo>
                    <a:pt x="118" y="1328"/>
                  </a:lnTo>
                  <a:lnTo>
                    <a:pt x="118" y="1264"/>
                  </a:lnTo>
                  <a:lnTo>
                    <a:pt x="116" y="1199"/>
                  </a:lnTo>
                  <a:lnTo>
                    <a:pt x="115" y="1135"/>
                  </a:lnTo>
                  <a:lnTo>
                    <a:pt x="111" y="1070"/>
                  </a:lnTo>
                  <a:lnTo>
                    <a:pt x="108" y="1006"/>
                  </a:lnTo>
                  <a:lnTo>
                    <a:pt x="99" y="877"/>
                  </a:lnTo>
                  <a:lnTo>
                    <a:pt x="89" y="748"/>
                  </a:lnTo>
                  <a:lnTo>
                    <a:pt x="76" y="621"/>
                  </a:lnTo>
                  <a:lnTo>
                    <a:pt x="65" y="497"/>
                  </a:lnTo>
                  <a:lnTo>
                    <a:pt x="54" y="377"/>
                  </a:lnTo>
                  <a:lnTo>
                    <a:pt x="45" y="261"/>
                  </a:lnTo>
                  <a:lnTo>
                    <a:pt x="37" y="150"/>
                  </a:lnTo>
                  <a:lnTo>
                    <a:pt x="31" y="45"/>
                  </a:lnTo>
                  <a:lnTo>
                    <a:pt x="5" y="55"/>
                  </a:lnTo>
                  <a:lnTo>
                    <a:pt x="29" y="37"/>
                  </a:lnTo>
                  <a:lnTo>
                    <a:pt x="0" y="0"/>
                  </a:lnTo>
                  <a:lnTo>
                    <a:pt x="1" y="4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137120" y="4176360"/>
              <a:ext cx="214200" cy="155520"/>
            </a:xfrm>
            <a:custGeom>
              <a:avLst/>
              <a:gdLst/>
              <a:ahLst/>
              <a:rect l="l" t="t" r="r" b="b"/>
              <a:pathLst>
                <a:path w="675" h="493">
                  <a:moveTo>
                    <a:pt x="661" y="463"/>
                  </a:moveTo>
                  <a:lnTo>
                    <a:pt x="675" y="463"/>
                  </a:lnTo>
                  <a:lnTo>
                    <a:pt x="562" y="401"/>
                  </a:lnTo>
                  <a:lnTo>
                    <a:pt x="458" y="342"/>
                  </a:lnTo>
                  <a:lnTo>
                    <a:pt x="410" y="313"/>
                  </a:lnTo>
                  <a:lnTo>
                    <a:pt x="363" y="285"/>
                  </a:lnTo>
                  <a:lnTo>
                    <a:pt x="319" y="257"/>
                  </a:lnTo>
                  <a:lnTo>
                    <a:pt x="277" y="228"/>
                  </a:lnTo>
                  <a:lnTo>
                    <a:pt x="238" y="200"/>
                  </a:lnTo>
                  <a:lnTo>
                    <a:pt x="201" y="172"/>
                  </a:lnTo>
                  <a:lnTo>
                    <a:pt x="166" y="145"/>
                  </a:lnTo>
                  <a:lnTo>
                    <a:pt x="133" y="117"/>
                  </a:lnTo>
                  <a:lnTo>
                    <a:pt x="102" y="88"/>
                  </a:lnTo>
                  <a:lnTo>
                    <a:pt x="74" y="59"/>
                  </a:lnTo>
                  <a:lnTo>
                    <a:pt x="48" y="2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25" y="49"/>
                  </a:lnTo>
                  <a:lnTo>
                    <a:pt x="52" y="80"/>
                  </a:lnTo>
                  <a:lnTo>
                    <a:pt x="81" y="109"/>
                  </a:lnTo>
                  <a:lnTo>
                    <a:pt x="113" y="139"/>
                  </a:lnTo>
                  <a:lnTo>
                    <a:pt x="147" y="167"/>
                  </a:lnTo>
                  <a:lnTo>
                    <a:pt x="182" y="197"/>
                  </a:lnTo>
                  <a:lnTo>
                    <a:pt x="220" y="225"/>
                  </a:lnTo>
                  <a:lnTo>
                    <a:pt x="261" y="253"/>
                  </a:lnTo>
                  <a:lnTo>
                    <a:pt x="303" y="281"/>
                  </a:lnTo>
                  <a:lnTo>
                    <a:pt x="347" y="310"/>
                  </a:lnTo>
                  <a:lnTo>
                    <a:pt x="394" y="339"/>
                  </a:lnTo>
                  <a:lnTo>
                    <a:pt x="443" y="367"/>
                  </a:lnTo>
                  <a:lnTo>
                    <a:pt x="548" y="428"/>
                  </a:lnTo>
                  <a:lnTo>
                    <a:pt x="662" y="489"/>
                  </a:lnTo>
                  <a:lnTo>
                    <a:pt x="675" y="489"/>
                  </a:lnTo>
                  <a:lnTo>
                    <a:pt x="662" y="489"/>
                  </a:lnTo>
                  <a:lnTo>
                    <a:pt x="669" y="493"/>
                  </a:lnTo>
                  <a:lnTo>
                    <a:pt x="675" y="489"/>
                  </a:lnTo>
                  <a:lnTo>
                    <a:pt x="661" y="46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346640" y="3876480"/>
              <a:ext cx="696960" cy="453600"/>
            </a:xfrm>
            <a:custGeom>
              <a:avLst/>
              <a:gdLst/>
              <a:ahLst/>
              <a:rect l="l" t="t" r="r" b="b"/>
              <a:pathLst>
                <a:path w="2193" h="1430">
                  <a:moveTo>
                    <a:pt x="2161" y="26"/>
                  </a:moveTo>
                  <a:lnTo>
                    <a:pt x="2157" y="2"/>
                  </a:lnTo>
                  <a:lnTo>
                    <a:pt x="2108" y="48"/>
                  </a:lnTo>
                  <a:lnTo>
                    <a:pt x="2056" y="93"/>
                  </a:lnTo>
                  <a:lnTo>
                    <a:pt x="2002" y="139"/>
                  </a:lnTo>
                  <a:lnTo>
                    <a:pt x="1947" y="184"/>
                  </a:lnTo>
                  <a:lnTo>
                    <a:pt x="1890" y="230"/>
                  </a:lnTo>
                  <a:lnTo>
                    <a:pt x="1832" y="274"/>
                  </a:lnTo>
                  <a:lnTo>
                    <a:pt x="1772" y="320"/>
                  </a:lnTo>
                  <a:lnTo>
                    <a:pt x="1711" y="364"/>
                  </a:lnTo>
                  <a:lnTo>
                    <a:pt x="1648" y="408"/>
                  </a:lnTo>
                  <a:lnTo>
                    <a:pt x="1584" y="452"/>
                  </a:lnTo>
                  <a:lnTo>
                    <a:pt x="1519" y="497"/>
                  </a:lnTo>
                  <a:lnTo>
                    <a:pt x="1454" y="541"/>
                  </a:lnTo>
                  <a:lnTo>
                    <a:pt x="1317" y="628"/>
                  </a:lnTo>
                  <a:lnTo>
                    <a:pt x="1178" y="716"/>
                  </a:lnTo>
                  <a:lnTo>
                    <a:pt x="1035" y="802"/>
                  </a:lnTo>
                  <a:lnTo>
                    <a:pt x="891" y="888"/>
                  </a:lnTo>
                  <a:lnTo>
                    <a:pt x="744" y="974"/>
                  </a:lnTo>
                  <a:lnTo>
                    <a:pt x="596" y="1060"/>
                  </a:lnTo>
                  <a:lnTo>
                    <a:pt x="297" y="1232"/>
                  </a:lnTo>
                  <a:lnTo>
                    <a:pt x="0" y="1404"/>
                  </a:lnTo>
                  <a:lnTo>
                    <a:pt x="14" y="1430"/>
                  </a:lnTo>
                  <a:lnTo>
                    <a:pt x="312" y="1258"/>
                  </a:lnTo>
                  <a:lnTo>
                    <a:pt x="611" y="1087"/>
                  </a:lnTo>
                  <a:lnTo>
                    <a:pt x="760" y="1001"/>
                  </a:lnTo>
                  <a:lnTo>
                    <a:pt x="906" y="914"/>
                  </a:lnTo>
                  <a:lnTo>
                    <a:pt x="1051" y="828"/>
                  </a:lnTo>
                  <a:lnTo>
                    <a:pt x="1194" y="740"/>
                  </a:lnTo>
                  <a:lnTo>
                    <a:pt x="1333" y="653"/>
                  </a:lnTo>
                  <a:lnTo>
                    <a:pt x="1470" y="566"/>
                  </a:lnTo>
                  <a:lnTo>
                    <a:pt x="1536" y="521"/>
                  </a:lnTo>
                  <a:lnTo>
                    <a:pt x="1601" y="477"/>
                  </a:lnTo>
                  <a:lnTo>
                    <a:pt x="1665" y="433"/>
                  </a:lnTo>
                  <a:lnTo>
                    <a:pt x="1728" y="388"/>
                  </a:lnTo>
                  <a:lnTo>
                    <a:pt x="1789" y="343"/>
                  </a:lnTo>
                  <a:lnTo>
                    <a:pt x="1850" y="299"/>
                  </a:lnTo>
                  <a:lnTo>
                    <a:pt x="1909" y="253"/>
                  </a:lnTo>
                  <a:lnTo>
                    <a:pt x="1966" y="208"/>
                  </a:lnTo>
                  <a:lnTo>
                    <a:pt x="2022" y="162"/>
                  </a:lnTo>
                  <a:lnTo>
                    <a:pt x="2076" y="117"/>
                  </a:lnTo>
                  <a:lnTo>
                    <a:pt x="2128" y="70"/>
                  </a:lnTo>
                  <a:lnTo>
                    <a:pt x="2178" y="23"/>
                  </a:lnTo>
                  <a:lnTo>
                    <a:pt x="2176" y="0"/>
                  </a:lnTo>
                  <a:lnTo>
                    <a:pt x="2178" y="23"/>
                  </a:lnTo>
                  <a:lnTo>
                    <a:pt x="2193" y="10"/>
                  </a:lnTo>
                  <a:lnTo>
                    <a:pt x="2176" y="0"/>
                  </a:lnTo>
                  <a:lnTo>
                    <a:pt x="2161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898880" y="3682800"/>
              <a:ext cx="138240" cy="202680"/>
            </a:xfrm>
            <a:custGeom>
              <a:avLst/>
              <a:gdLst/>
              <a:ahLst/>
              <a:rect l="l" t="t" r="r" b="b"/>
              <a:pathLst>
                <a:path w="437" h="639">
                  <a:moveTo>
                    <a:pt x="20" y="35"/>
                  </a:moveTo>
                  <a:lnTo>
                    <a:pt x="0" y="24"/>
                  </a:lnTo>
                  <a:lnTo>
                    <a:pt x="11" y="68"/>
                  </a:lnTo>
                  <a:lnTo>
                    <a:pt x="22" y="111"/>
                  </a:lnTo>
                  <a:lnTo>
                    <a:pt x="36" y="154"/>
                  </a:lnTo>
                  <a:lnTo>
                    <a:pt x="50" y="197"/>
                  </a:lnTo>
                  <a:lnTo>
                    <a:pt x="66" y="239"/>
                  </a:lnTo>
                  <a:lnTo>
                    <a:pt x="85" y="281"/>
                  </a:lnTo>
                  <a:lnTo>
                    <a:pt x="106" y="321"/>
                  </a:lnTo>
                  <a:lnTo>
                    <a:pt x="128" y="362"/>
                  </a:lnTo>
                  <a:lnTo>
                    <a:pt x="140" y="382"/>
                  </a:lnTo>
                  <a:lnTo>
                    <a:pt x="154" y="401"/>
                  </a:lnTo>
                  <a:lnTo>
                    <a:pt x="167" y="420"/>
                  </a:lnTo>
                  <a:lnTo>
                    <a:pt x="182" y="439"/>
                  </a:lnTo>
                  <a:lnTo>
                    <a:pt x="197" y="458"/>
                  </a:lnTo>
                  <a:lnTo>
                    <a:pt x="213" y="476"/>
                  </a:lnTo>
                  <a:lnTo>
                    <a:pt x="230" y="493"/>
                  </a:lnTo>
                  <a:lnTo>
                    <a:pt x="247" y="512"/>
                  </a:lnTo>
                  <a:lnTo>
                    <a:pt x="266" y="529"/>
                  </a:lnTo>
                  <a:lnTo>
                    <a:pt x="285" y="546"/>
                  </a:lnTo>
                  <a:lnTo>
                    <a:pt x="305" y="562"/>
                  </a:lnTo>
                  <a:lnTo>
                    <a:pt x="327" y="578"/>
                  </a:lnTo>
                  <a:lnTo>
                    <a:pt x="349" y="594"/>
                  </a:lnTo>
                  <a:lnTo>
                    <a:pt x="373" y="609"/>
                  </a:lnTo>
                  <a:lnTo>
                    <a:pt x="396" y="625"/>
                  </a:lnTo>
                  <a:lnTo>
                    <a:pt x="422" y="639"/>
                  </a:lnTo>
                  <a:lnTo>
                    <a:pt x="437" y="613"/>
                  </a:lnTo>
                  <a:lnTo>
                    <a:pt x="412" y="599"/>
                  </a:lnTo>
                  <a:lnTo>
                    <a:pt x="389" y="584"/>
                  </a:lnTo>
                  <a:lnTo>
                    <a:pt x="365" y="570"/>
                  </a:lnTo>
                  <a:lnTo>
                    <a:pt x="344" y="554"/>
                  </a:lnTo>
                  <a:lnTo>
                    <a:pt x="323" y="539"/>
                  </a:lnTo>
                  <a:lnTo>
                    <a:pt x="305" y="523"/>
                  </a:lnTo>
                  <a:lnTo>
                    <a:pt x="285" y="507"/>
                  </a:lnTo>
                  <a:lnTo>
                    <a:pt x="268" y="490"/>
                  </a:lnTo>
                  <a:lnTo>
                    <a:pt x="251" y="473"/>
                  </a:lnTo>
                  <a:lnTo>
                    <a:pt x="235" y="455"/>
                  </a:lnTo>
                  <a:lnTo>
                    <a:pt x="220" y="438"/>
                  </a:lnTo>
                  <a:lnTo>
                    <a:pt x="205" y="420"/>
                  </a:lnTo>
                  <a:lnTo>
                    <a:pt x="192" y="402"/>
                  </a:lnTo>
                  <a:lnTo>
                    <a:pt x="178" y="384"/>
                  </a:lnTo>
                  <a:lnTo>
                    <a:pt x="166" y="366"/>
                  </a:lnTo>
                  <a:lnTo>
                    <a:pt x="154" y="346"/>
                  </a:lnTo>
                  <a:lnTo>
                    <a:pt x="132" y="308"/>
                  </a:lnTo>
                  <a:lnTo>
                    <a:pt x="112" y="268"/>
                  </a:lnTo>
                  <a:lnTo>
                    <a:pt x="95" y="228"/>
                  </a:lnTo>
                  <a:lnTo>
                    <a:pt x="79" y="186"/>
                  </a:lnTo>
                  <a:lnTo>
                    <a:pt x="64" y="144"/>
                  </a:lnTo>
                  <a:lnTo>
                    <a:pt x="52" y="102"/>
                  </a:lnTo>
                  <a:lnTo>
                    <a:pt x="39" y="59"/>
                  </a:lnTo>
                  <a:lnTo>
                    <a:pt x="29" y="17"/>
                  </a:lnTo>
                  <a:lnTo>
                    <a:pt x="9" y="6"/>
                  </a:lnTo>
                  <a:lnTo>
                    <a:pt x="29" y="17"/>
                  </a:lnTo>
                  <a:lnTo>
                    <a:pt x="25" y="0"/>
                  </a:lnTo>
                  <a:lnTo>
                    <a:pt x="9" y="6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394160" y="3684240"/>
              <a:ext cx="511200" cy="295200"/>
            </a:xfrm>
            <a:custGeom>
              <a:avLst/>
              <a:gdLst/>
              <a:ahLst/>
              <a:rect l="l" t="t" r="r" b="b"/>
              <a:pathLst>
                <a:path w="1607" h="929">
                  <a:moveTo>
                    <a:pt x="0" y="918"/>
                  </a:moveTo>
                  <a:lnTo>
                    <a:pt x="20" y="923"/>
                  </a:lnTo>
                  <a:lnTo>
                    <a:pt x="67" y="899"/>
                  </a:lnTo>
                  <a:lnTo>
                    <a:pt x="113" y="875"/>
                  </a:lnTo>
                  <a:lnTo>
                    <a:pt x="160" y="849"/>
                  </a:lnTo>
                  <a:lnTo>
                    <a:pt x="206" y="823"/>
                  </a:lnTo>
                  <a:lnTo>
                    <a:pt x="297" y="769"/>
                  </a:lnTo>
                  <a:lnTo>
                    <a:pt x="388" y="713"/>
                  </a:lnTo>
                  <a:lnTo>
                    <a:pt x="570" y="594"/>
                  </a:lnTo>
                  <a:lnTo>
                    <a:pt x="754" y="474"/>
                  </a:lnTo>
                  <a:lnTo>
                    <a:pt x="850" y="412"/>
                  </a:lnTo>
                  <a:lnTo>
                    <a:pt x="947" y="352"/>
                  </a:lnTo>
                  <a:lnTo>
                    <a:pt x="997" y="323"/>
                  </a:lnTo>
                  <a:lnTo>
                    <a:pt x="1047" y="293"/>
                  </a:lnTo>
                  <a:lnTo>
                    <a:pt x="1099" y="265"/>
                  </a:lnTo>
                  <a:lnTo>
                    <a:pt x="1150" y="235"/>
                  </a:lnTo>
                  <a:lnTo>
                    <a:pt x="1204" y="207"/>
                  </a:lnTo>
                  <a:lnTo>
                    <a:pt x="1257" y="180"/>
                  </a:lnTo>
                  <a:lnTo>
                    <a:pt x="1313" y="153"/>
                  </a:lnTo>
                  <a:lnTo>
                    <a:pt x="1369" y="126"/>
                  </a:lnTo>
                  <a:lnTo>
                    <a:pt x="1427" y="101"/>
                  </a:lnTo>
                  <a:lnTo>
                    <a:pt x="1485" y="75"/>
                  </a:lnTo>
                  <a:lnTo>
                    <a:pt x="1545" y="52"/>
                  </a:lnTo>
                  <a:lnTo>
                    <a:pt x="1607" y="29"/>
                  </a:lnTo>
                  <a:lnTo>
                    <a:pt x="1596" y="0"/>
                  </a:lnTo>
                  <a:lnTo>
                    <a:pt x="1534" y="24"/>
                  </a:lnTo>
                  <a:lnTo>
                    <a:pt x="1474" y="48"/>
                  </a:lnTo>
                  <a:lnTo>
                    <a:pt x="1415" y="73"/>
                  </a:lnTo>
                  <a:lnTo>
                    <a:pt x="1357" y="99"/>
                  </a:lnTo>
                  <a:lnTo>
                    <a:pt x="1300" y="126"/>
                  </a:lnTo>
                  <a:lnTo>
                    <a:pt x="1245" y="153"/>
                  </a:lnTo>
                  <a:lnTo>
                    <a:pt x="1190" y="181"/>
                  </a:lnTo>
                  <a:lnTo>
                    <a:pt x="1137" y="209"/>
                  </a:lnTo>
                  <a:lnTo>
                    <a:pt x="1084" y="238"/>
                  </a:lnTo>
                  <a:lnTo>
                    <a:pt x="1032" y="267"/>
                  </a:lnTo>
                  <a:lnTo>
                    <a:pt x="982" y="297"/>
                  </a:lnTo>
                  <a:lnTo>
                    <a:pt x="931" y="326"/>
                  </a:lnTo>
                  <a:lnTo>
                    <a:pt x="834" y="388"/>
                  </a:lnTo>
                  <a:lnTo>
                    <a:pt x="738" y="448"/>
                  </a:lnTo>
                  <a:lnTo>
                    <a:pt x="552" y="570"/>
                  </a:lnTo>
                  <a:lnTo>
                    <a:pt x="372" y="687"/>
                  </a:lnTo>
                  <a:lnTo>
                    <a:pt x="282" y="743"/>
                  </a:lnTo>
                  <a:lnTo>
                    <a:pt x="191" y="797"/>
                  </a:lnTo>
                  <a:lnTo>
                    <a:pt x="145" y="823"/>
                  </a:lnTo>
                  <a:lnTo>
                    <a:pt x="100" y="848"/>
                  </a:lnTo>
                  <a:lnTo>
                    <a:pt x="53" y="872"/>
                  </a:lnTo>
                  <a:lnTo>
                    <a:pt x="6" y="896"/>
                  </a:lnTo>
                  <a:lnTo>
                    <a:pt x="26" y="901"/>
                  </a:lnTo>
                  <a:lnTo>
                    <a:pt x="0" y="918"/>
                  </a:lnTo>
                  <a:lnTo>
                    <a:pt x="8" y="929"/>
                  </a:lnTo>
                  <a:lnTo>
                    <a:pt x="20" y="923"/>
                  </a:lnTo>
                  <a:lnTo>
                    <a:pt x="0" y="9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013280" y="3487680"/>
              <a:ext cx="390600" cy="488520"/>
            </a:xfrm>
            <a:custGeom>
              <a:avLst/>
              <a:gdLst/>
              <a:ahLst/>
              <a:rect l="l" t="t" r="r" b="b"/>
              <a:pathLst>
                <a:path w="1230" h="1538">
                  <a:moveTo>
                    <a:pt x="1" y="24"/>
                  </a:moveTo>
                  <a:lnTo>
                    <a:pt x="0" y="23"/>
                  </a:lnTo>
                  <a:lnTo>
                    <a:pt x="73" y="99"/>
                  </a:lnTo>
                  <a:lnTo>
                    <a:pt x="146" y="180"/>
                  </a:lnTo>
                  <a:lnTo>
                    <a:pt x="223" y="265"/>
                  </a:lnTo>
                  <a:lnTo>
                    <a:pt x="299" y="352"/>
                  </a:lnTo>
                  <a:lnTo>
                    <a:pt x="376" y="443"/>
                  </a:lnTo>
                  <a:lnTo>
                    <a:pt x="455" y="535"/>
                  </a:lnTo>
                  <a:lnTo>
                    <a:pt x="534" y="631"/>
                  </a:lnTo>
                  <a:lnTo>
                    <a:pt x="613" y="729"/>
                  </a:lnTo>
                  <a:lnTo>
                    <a:pt x="690" y="828"/>
                  </a:lnTo>
                  <a:lnTo>
                    <a:pt x="768" y="928"/>
                  </a:lnTo>
                  <a:lnTo>
                    <a:pt x="845" y="1030"/>
                  </a:lnTo>
                  <a:lnTo>
                    <a:pt x="920" y="1131"/>
                  </a:lnTo>
                  <a:lnTo>
                    <a:pt x="994" y="1233"/>
                  </a:lnTo>
                  <a:lnTo>
                    <a:pt x="1066" y="1335"/>
                  </a:lnTo>
                  <a:lnTo>
                    <a:pt x="1137" y="1437"/>
                  </a:lnTo>
                  <a:lnTo>
                    <a:pt x="1204" y="1538"/>
                  </a:lnTo>
                  <a:lnTo>
                    <a:pt x="1230" y="1521"/>
                  </a:lnTo>
                  <a:lnTo>
                    <a:pt x="1161" y="1420"/>
                  </a:lnTo>
                  <a:lnTo>
                    <a:pt x="1091" y="1318"/>
                  </a:lnTo>
                  <a:lnTo>
                    <a:pt x="1018" y="1216"/>
                  </a:lnTo>
                  <a:lnTo>
                    <a:pt x="945" y="1114"/>
                  </a:lnTo>
                  <a:lnTo>
                    <a:pt x="868" y="1012"/>
                  </a:lnTo>
                  <a:lnTo>
                    <a:pt x="792" y="909"/>
                  </a:lnTo>
                  <a:lnTo>
                    <a:pt x="713" y="810"/>
                  </a:lnTo>
                  <a:lnTo>
                    <a:pt x="636" y="710"/>
                  </a:lnTo>
                  <a:lnTo>
                    <a:pt x="557" y="613"/>
                  </a:lnTo>
                  <a:lnTo>
                    <a:pt x="478" y="517"/>
                  </a:lnTo>
                  <a:lnTo>
                    <a:pt x="400" y="424"/>
                  </a:lnTo>
                  <a:lnTo>
                    <a:pt x="322" y="333"/>
                  </a:lnTo>
                  <a:lnTo>
                    <a:pt x="245" y="244"/>
                  </a:lnTo>
                  <a:lnTo>
                    <a:pt x="169" y="160"/>
                  </a:lnTo>
                  <a:lnTo>
                    <a:pt x="95" y="79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657600" y="3187440"/>
              <a:ext cx="361800" cy="307800"/>
            </a:xfrm>
            <a:custGeom>
              <a:avLst/>
              <a:gdLst/>
              <a:ahLst/>
              <a:rect l="l" t="t" r="r" b="b"/>
              <a:pathLst>
                <a:path w="1139" h="968">
                  <a:moveTo>
                    <a:pt x="26" y="29"/>
                  </a:moveTo>
                  <a:lnTo>
                    <a:pt x="3" y="33"/>
                  </a:lnTo>
                  <a:lnTo>
                    <a:pt x="130" y="140"/>
                  </a:lnTo>
                  <a:lnTo>
                    <a:pt x="260" y="252"/>
                  </a:lnTo>
                  <a:lnTo>
                    <a:pt x="395" y="368"/>
                  </a:lnTo>
                  <a:lnTo>
                    <a:pt x="532" y="487"/>
                  </a:lnTo>
                  <a:lnTo>
                    <a:pt x="675" y="606"/>
                  </a:lnTo>
                  <a:lnTo>
                    <a:pt x="820" y="728"/>
                  </a:lnTo>
                  <a:lnTo>
                    <a:pt x="894" y="788"/>
                  </a:lnTo>
                  <a:lnTo>
                    <a:pt x="969" y="849"/>
                  </a:lnTo>
                  <a:lnTo>
                    <a:pt x="1044" y="909"/>
                  </a:lnTo>
                  <a:lnTo>
                    <a:pt x="1120" y="968"/>
                  </a:lnTo>
                  <a:lnTo>
                    <a:pt x="1139" y="944"/>
                  </a:lnTo>
                  <a:lnTo>
                    <a:pt x="1062" y="884"/>
                  </a:lnTo>
                  <a:lnTo>
                    <a:pt x="987" y="825"/>
                  </a:lnTo>
                  <a:lnTo>
                    <a:pt x="912" y="765"/>
                  </a:lnTo>
                  <a:lnTo>
                    <a:pt x="839" y="705"/>
                  </a:lnTo>
                  <a:lnTo>
                    <a:pt x="693" y="584"/>
                  </a:lnTo>
                  <a:lnTo>
                    <a:pt x="552" y="464"/>
                  </a:lnTo>
                  <a:lnTo>
                    <a:pt x="414" y="345"/>
                  </a:lnTo>
                  <a:lnTo>
                    <a:pt x="280" y="229"/>
                  </a:lnTo>
                  <a:lnTo>
                    <a:pt x="150" y="117"/>
                  </a:lnTo>
                  <a:lnTo>
                    <a:pt x="22" y="11"/>
                  </a:lnTo>
                  <a:lnTo>
                    <a:pt x="0" y="15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906800" y="3636720"/>
              <a:ext cx="162000" cy="234720"/>
            </a:xfrm>
            <a:custGeom>
              <a:avLst/>
              <a:gdLst/>
              <a:ahLst/>
              <a:rect l="l" t="t" r="r" b="b"/>
              <a:pathLst>
                <a:path w="509" h="742">
                  <a:moveTo>
                    <a:pt x="0" y="176"/>
                  </a:moveTo>
                  <a:lnTo>
                    <a:pt x="22" y="145"/>
                  </a:lnTo>
                  <a:lnTo>
                    <a:pt x="40" y="122"/>
                  </a:lnTo>
                  <a:lnTo>
                    <a:pt x="56" y="105"/>
                  </a:lnTo>
                  <a:lnTo>
                    <a:pt x="72" y="89"/>
                  </a:lnTo>
                  <a:lnTo>
                    <a:pt x="86" y="74"/>
                  </a:lnTo>
                  <a:lnTo>
                    <a:pt x="104" y="56"/>
                  </a:lnTo>
                  <a:lnTo>
                    <a:pt x="122" y="32"/>
                  </a:lnTo>
                  <a:lnTo>
                    <a:pt x="144" y="0"/>
                  </a:lnTo>
                  <a:lnTo>
                    <a:pt x="158" y="41"/>
                  </a:lnTo>
                  <a:lnTo>
                    <a:pt x="172" y="80"/>
                  </a:lnTo>
                  <a:lnTo>
                    <a:pt x="187" y="118"/>
                  </a:lnTo>
                  <a:lnTo>
                    <a:pt x="203" y="157"/>
                  </a:lnTo>
                  <a:lnTo>
                    <a:pt x="219" y="193"/>
                  </a:lnTo>
                  <a:lnTo>
                    <a:pt x="238" y="229"/>
                  </a:lnTo>
                  <a:lnTo>
                    <a:pt x="256" y="264"/>
                  </a:lnTo>
                  <a:lnTo>
                    <a:pt x="277" y="298"/>
                  </a:lnTo>
                  <a:lnTo>
                    <a:pt x="299" y="331"/>
                  </a:lnTo>
                  <a:lnTo>
                    <a:pt x="322" y="363"/>
                  </a:lnTo>
                  <a:lnTo>
                    <a:pt x="348" y="394"/>
                  </a:lnTo>
                  <a:lnTo>
                    <a:pt x="377" y="423"/>
                  </a:lnTo>
                  <a:lnTo>
                    <a:pt x="391" y="438"/>
                  </a:lnTo>
                  <a:lnTo>
                    <a:pt x="406" y="452"/>
                  </a:lnTo>
                  <a:lnTo>
                    <a:pt x="422" y="465"/>
                  </a:lnTo>
                  <a:lnTo>
                    <a:pt x="438" y="479"/>
                  </a:lnTo>
                  <a:lnTo>
                    <a:pt x="455" y="492"/>
                  </a:lnTo>
                  <a:lnTo>
                    <a:pt x="473" y="505"/>
                  </a:lnTo>
                  <a:lnTo>
                    <a:pt x="491" y="517"/>
                  </a:lnTo>
                  <a:lnTo>
                    <a:pt x="509" y="529"/>
                  </a:lnTo>
                  <a:lnTo>
                    <a:pt x="486" y="555"/>
                  </a:lnTo>
                  <a:lnTo>
                    <a:pt x="461" y="582"/>
                  </a:lnTo>
                  <a:lnTo>
                    <a:pt x="438" y="609"/>
                  </a:lnTo>
                  <a:lnTo>
                    <a:pt x="415" y="636"/>
                  </a:lnTo>
                  <a:lnTo>
                    <a:pt x="390" y="662"/>
                  </a:lnTo>
                  <a:lnTo>
                    <a:pt x="367" y="689"/>
                  </a:lnTo>
                  <a:lnTo>
                    <a:pt x="343" y="716"/>
                  </a:lnTo>
                  <a:lnTo>
                    <a:pt x="320" y="742"/>
                  </a:lnTo>
                  <a:lnTo>
                    <a:pt x="300" y="731"/>
                  </a:lnTo>
                  <a:lnTo>
                    <a:pt x="281" y="719"/>
                  </a:lnTo>
                  <a:lnTo>
                    <a:pt x="262" y="705"/>
                  </a:lnTo>
                  <a:lnTo>
                    <a:pt x="244" y="692"/>
                  </a:lnTo>
                  <a:lnTo>
                    <a:pt x="227" y="677"/>
                  </a:lnTo>
                  <a:lnTo>
                    <a:pt x="211" y="662"/>
                  </a:lnTo>
                  <a:lnTo>
                    <a:pt x="195" y="646"/>
                  </a:lnTo>
                  <a:lnTo>
                    <a:pt x="180" y="629"/>
                  </a:lnTo>
                  <a:lnTo>
                    <a:pt x="165" y="613"/>
                  </a:lnTo>
                  <a:lnTo>
                    <a:pt x="151" y="596"/>
                  </a:lnTo>
                  <a:lnTo>
                    <a:pt x="139" y="577"/>
                  </a:lnTo>
                  <a:lnTo>
                    <a:pt x="127" y="559"/>
                  </a:lnTo>
                  <a:lnTo>
                    <a:pt x="116" y="540"/>
                  </a:lnTo>
                  <a:lnTo>
                    <a:pt x="105" y="522"/>
                  </a:lnTo>
                  <a:lnTo>
                    <a:pt x="95" y="502"/>
                  </a:lnTo>
                  <a:lnTo>
                    <a:pt x="85" y="482"/>
                  </a:lnTo>
                  <a:lnTo>
                    <a:pt x="68" y="443"/>
                  </a:lnTo>
                  <a:lnTo>
                    <a:pt x="52" y="404"/>
                  </a:lnTo>
                  <a:lnTo>
                    <a:pt x="38" y="364"/>
                  </a:lnTo>
                  <a:lnTo>
                    <a:pt x="27" y="325"/>
                  </a:lnTo>
                  <a:lnTo>
                    <a:pt x="19" y="286"/>
                  </a:lnTo>
                  <a:lnTo>
                    <a:pt x="11" y="248"/>
                  </a:lnTo>
                  <a:lnTo>
                    <a:pt x="5" y="211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903920" y="3625560"/>
              <a:ext cx="54000" cy="6948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71" y="30"/>
                  </a:moveTo>
                  <a:lnTo>
                    <a:pt x="144" y="26"/>
                  </a:lnTo>
                  <a:lnTo>
                    <a:pt x="122" y="57"/>
                  </a:lnTo>
                  <a:lnTo>
                    <a:pt x="103" y="79"/>
                  </a:lnTo>
                  <a:lnTo>
                    <a:pt x="87" y="97"/>
                  </a:lnTo>
                  <a:lnTo>
                    <a:pt x="72" y="112"/>
                  </a:lnTo>
                  <a:lnTo>
                    <a:pt x="58" y="127"/>
                  </a:lnTo>
                  <a:lnTo>
                    <a:pt x="40" y="145"/>
                  </a:lnTo>
                  <a:lnTo>
                    <a:pt x="22" y="170"/>
                  </a:lnTo>
                  <a:lnTo>
                    <a:pt x="0" y="201"/>
                  </a:lnTo>
                  <a:lnTo>
                    <a:pt x="26" y="217"/>
                  </a:lnTo>
                  <a:lnTo>
                    <a:pt x="45" y="187"/>
                  </a:lnTo>
                  <a:lnTo>
                    <a:pt x="64" y="165"/>
                  </a:lnTo>
                  <a:lnTo>
                    <a:pt x="79" y="148"/>
                  </a:lnTo>
                  <a:lnTo>
                    <a:pt x="93" y="133"/>
                  </a:lnTo>
                  <a:lnTo>
                    <a:pt x="109" y="117"/>
                  </a:lnTo>
                  <a:lnTo>
                    <a:pt x="127" y="98"/>
                  </a:lnTo>
                  <a:lnTo>
                    <a:pt x="146" y="74"/>
                  </a:lnTo>
                  <a:lnTo>
                    <a:pt x="168" y="42"/>
                  </a:lnTo>
                  <a:lnTo>
                    <a:pt x="141" y="38"/>
                  </a:lnTo>
                  <a:lnTo>
                    <a:pt x="171" y="30"/>
                  </a:lnTo>
                  <a:lnTo>
                    <a:pt x="161" y="0"/>
                  </a:lnTo>
                  <a:lnTo>
                    <a:pt x="144" y="26"/>
                  </a:lnTo>
                  <a:lnTo>
                    <a:pt x="171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948200" y="3635280"/>
              <a:ext cx="128520" cy="172440"/>
            </a:xfrm>
            <a:custGeom>
              <a:avLst/>
              <a:gdLst/>
              <a:ahLst/>
              <a:rect l="l" t="t" r="r" b="b"/>
              <a:pathLst>
                <a:path w="404" h="545">
                  <a:moveTo>
                    <a:pt x="391" y="542"/>
                  </a:moveTo>
                  <a:lnTo>
                    <a:pt x="389" y="519"/>
                  </a:lnTo>
                  <a:lnTo>
                    <a:pt x="371" y="508"/>
                  </a:lnTo>
                  <a:lnTo>
                    <a:pt x="352" y="495"/>
                  </a:lnTo>
                  <a:lnTo>
                    <a:pt x="335" y="483"/>
                  </a:lnTo>
                  <a:lnTo>
                    <a:pt x="319" y="471"/>
                  </a:lnTo>
                  <a:lnTo>
                    <a:pt x="303" y="457"/>
                  </a:lnTo>
                  <a:lnTo>
                    <a:pt x="287" y="444"/>
                  </a:lnTo>
                  <a:lnTo>
                    <a:pt x="272" y="430"/>
                  </a:lnTo>
                  <a:lnTo>
                    <a:pt x="259" y="417"/>
                  </a:lnTo>
                  <a:lnTo>
                    <a:pt x="230" y="387"/>
                  </a:lnTo>
                  <a:lnTo>
                    <a:pt x="206" y="358"/>
                  </a:lnTo>
                  <a:lnTo>
                    <a:pt x="182" y="326"/>
                  </a:lnTo>
                  <a:lnTo>
                    <a:pt x="160" y="294"/>
                  </a:lnTo>
                  <a:lnTo>
                    <a:pt x="141" y="259"/>
                  </a:lnTo>
                  <a:lnTo>
                    <a:pt x="122" y="225"/>
                  </a:lnTo>
                  <a:lnTo>
                    <a:pt x="104" y="189"/>
                  </a:lnTo>
                  <a:lnTo>
                    <a:pt x="88" y="153"/>
                  </a:lnTo>
                  <a:lnTo>
                    <a:pt x="72" y="115"/>
                  </a:lnTo>
                  <a:lnTo>
                    <a:pt x="57" y="77"/>
                  </a:lnTo>
                  <a:lnTo>
                    <a:pt x="43" y="39"/>
                  </a:lnTo>
                  <a:lnTo>
                    <a:pt x="30" y="0"/>
                  </a:lnTo>
                  <a:lnTo>
                    <a:pt x="0" y="8"/>
                  </a:lnTo>
                  <a:lnTo>
                    <a:pt x="15" y="49"/>
                  </a:lnTo>
                  <a:lnTo>
                    <a:pt x="29" y="88"/>
                  </a:lnTo>
                  <a:lnTo>
                    <a:pt x="43" y="126"/>
                  </a:lnTo>
                  <a:lnTo>
                    <a:pt x="59" y="164"/>
                  </a:lnTo>
                  <a:lnTo>
                    <a:pt x="77" y="203"/>
                  </a:lnTo>
                  <a:lnTo>
                    <a:pt x="95" y="239"/>
                  </a:lnTo>
                  <a:lnTo>
                    <a:pt x="115" y="274"/>
                  </a:lnTo>
                  <a:lnTo>
                    <a:pt x="136" y="310"/>
                  </a:lnTo>
                  <a:lnTo>
                    <a:pt x="158" y="343"/>
                  </a:lnTo>
                  <a:lnTo>
                    <a:pt x="182" y="376"/>
                  </a:lnTo>
                  <a:lnTo>
                    <a:pt x="208" y="407"/>
                  </a:lnTo>
                  <a:lnTo>
                    <a:pt x="237" y="437"/>
                  </a:lnTo>
                  <a:lnTo>
                    <a:pt x="251" y="452"/>
                  </a:lnTo>
                  <a:lnTo>
                    <a:pt x="267" y="466"/>
                  </a:lnTo>
                  <a:lnTo>
                    <a:pt x="283" y="481"/>
                  </a:lnTo>
                  <a:lnTo>
                    <a:pt x="300" y="494"/>
                  </a:lnTo>
                  <a:lnTo>
                    <a:pt x="318" y="508"/>
                  </a:lnTo>
                  <a:lnTo>
                    <a:pt x="335" y="520"/>
                  </a:lnTo>
                  <a:lnTo>
                    <a:pt x="353" y="532"/>
                  </a:lnTo>
                  <a:lnTo>
                    <a:pt x="373" y="545"/>
                  </a:lnTo>
                  <a:lnTo>
                    <a:pt x="369" y="521"/>
                  </a:lnTo>
                  <a:lnTo>
                    <a:pt x="391" y="542"/>
                  </a:lnTo>
                  <a:lnTo>
                    <a:pt x="404" y="529"/>
                  </a:lnTo>
                  <a:lnTo>
                    <a:pt x="389" y="519"/>
                  </a:lnTo>
                  <a:lnTo>
                    <a:pt x="391" y="5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005440" y="3801960"/>
              <a:ext cx="66600" cy="75600"/>
            </a:xfrm>
            <a:custGeom>
              <a:avLst/>
              <a:gdLst/>
              <a:ahLst/>
              <a:rect l="l" t="t" r="r" b="b"/>
              <a:pathLst>
                <a:path w="211" h="244">
                  <a:moveTo>
                    <a:pt x="5" y="238"/>
                  </a:moveTo>
                  <a:lnTo>
                    <a:pt x="23" y="234"/>
                  </a:lnTo>
                  <a:lnTo>
                    <a:pt x="45" y="208"/>
                  </a:lnTo>
                  <a:lnTo>
                    <a:pt x="69" y="181"/>
                  </a:lnTo>
                  <a:lnTo>
                    <a:pt x="93" y="154"/>
                  </a:lnTo>
                  <a:lnTo>
                    <a:pt x="117" y="128"/>
                  </a:lnTo>
                  <a:lnTo>
                    <a:pt x="140" y="101"/>
                  </a:lnTo>
                  <a:lnTo>
                    <a:pt x="164" y="74"/>
                  </a:lnTo>
                  <a:lnTo>
                    <a:pt x="188" y="47"/>
                  </a:lnTo>
                  <a:lnTo>
                    <a:pt x="211" y="21"/>
                  </a:lnTo>
                  <a:lnTo>
                    <a:pt x="189" y="0"/>
                  </a:lnTo>
                  <a:lnTo>
                    <a:pt x="166" y="27"/>
                  </a:lnTo>
                  <a:lnTo>
                    <a:pt x="141" y="54"/>
                  </a:lnTo>
                  <a:lnTo>
                    <a:pt x="118" y="81"/>
                  </a:lnTo>
                  <a:lnTo>
                    <a:pt x="93" y="107"/>
                  </a:lnTo>
                  <a:lnTo>
                    <a:pt x="70" y="134"/>
                  </a:lnTo>
                  <a:lnTo>
                    <a:pt x="47" y="161"/>
                  </a:lnTo>
                  <a:lnTo>
                    <a:pt x="23" y="188"/>
                  </a:lnTo>
                  <a:lnTo>
                    <a:pt x="0" y="214"/>
                  </a:lnTo>
                  <a:lnTo>
                    <a:pt x="18" y="212"/>
                  </a:lnTo>
                  <a:lnTo>
                    <a:pt x="5" y="238"/>
                  </a:lnTo>
                  <a:lnTo>
                    <a:pt x="15" y="244"/>
                  </a:lnTo>
                  <a:lnTo>
                    <a:pt x="23" y="234"/>
                  </a:lnTo>
                  <a:lnTo>
                    <a:pt x="5" y="23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902120" y="3690720"/>
              <a:ext cx="109440" cy="185400"/>
            </a:xfrm>
            <a:custGeom>
              <a:avLst/>
              <a:gdLst/>
              <a:ahLst/>
              <a:rect l="l" t="t" r="r" b="b"/>
              <a:pathLst>
                <a:path w="342" h="588">
                  <a:moveTo>
                    <a:pt x="3" y="0"/>
                  </a:moveTo>
                  <a:lnTo>
                    <a:pt x="0" y="9"/>
                  </a:lnTo>
                  <a:lnTo>
                    <a:pt x="5" y="45"/>
                  </a:lnTo>
                  <a:lnTo>
                    <a:pt x="12" y="82"/>
                  </a:lnTo>
                  <a:lnTo>
                    <a:pt x="19" y="121"/>
                  </a:lnTo>
                  <a:lnTo>
                    <a:pt x="29" y="161"/>
                  </a:lnTo>
                  <a:lnTo>
                    <a:pt x="40" y="200"/>
                  </a:lnTo>
                  <a:lnTo>
                    <a:pt x="53" y="241"/>
                  </a:lnTo>
                  <a:lnTo>
                    <a:pt x="68" y="281"/>
                  </a:lnTo>
                  <a:lnTo>
                    <a:pt x="87" y="321"/>
                  </a:lnTo>
                  <a:lnTo>
                    <a:pt x="96" y="342"/>
                  </a:lnTo>
                  <a:lnTo>
                    <a:pt x="106" y="361"/>
                  </a:lnTo>
                  <a:lnTo>
                    <a:pt x="117" y="380"/>
                  </a:lnTo>
                  <a:lnTo>
                    <a:pt x="130" y="399"/>
                  </a:lnTo>
                  <a:lnTo>
                    <a:pt x="142" y="418"/>
                  </a:lnTo>
                  <a:lnTo>
                    <a:pt x="154" y="436"/>
                  </a:lnTo>
                  <a:lnTo>
                    <a:pt x="169" y="453"/>
                  </a:lnTo>
                  <a:lnTo>
                    <a:pt x="184" y="471"/>
                  </a:lnTo>
                  <a:lnTo>
                    <a:pt x="198" y="488"/>
                  </a:lnTo>
                  <a:lnTo>
                    <a:pt x="214" y="504"/>
                  </a:lnTo>
                  <a:lnTo>
                    <a:pt x="232" y="520"/>
                  </a:lnTo>
                  <a:lnTo>
                    <a:pt x="249" y="535"/>
                  </a:lnTo>
                  <a:lnTo>
                    <a:pt x="267" y="549"/>
                  </a:lnTo>
                  <a:lnTo>
                    <a:pt x="287" y="563"/>
                  </a:lnTo>
                  <a:lnTo>
                    <a:pt x="308" y="575"/>
                  </a:lnTo>
                  <a:lnTo>
                    <a:pt x="329" y="588"/>
                  </a:lnTo>
                  <a:lnTo>
                    <a:pt x="342" y="562"/>
                  </a:lnTo>
                  <a:lnTo>
                    <a:pt x="323" y="551"/>
                  </a:lnTo>
                  <a:lnTo>
                    <a:pt x="304" y="538"/>
                  </a:lnTo>
                  <a:lnTo>
                    <a:pt x="286" y="525"/>
                  </a:lnTo>
                  <a:lnTo>
                    <a:pt x="269" y="511"/>
                  </a:lnTo>
                  <a:lnTo>
                    <a:pt x="251" y="498"/>
                  </a:lnTo>
                  <a:lnTo>
                    <a:pt x="235" y="483"/>
                  </a:lnTo>
                  <a:lnTo>
                    <a:pt x="221" y="467"/>
                  </a:lnTo>
                  <a:lnTo>
                    <a:pt x="206" y="451"/>
                  </a:lnTo>
                  <a:lnTo>
                    <a:pt x="192" y="435"/>
                  </a:lnTo>
                  <a:lnTo>
                    <a:pt x="179" y="418"/>
                  </a:lnTo>
                  <a:lnTo>
                    <a:pt x="166" y="401"/>
                  </a:lnTo>
                  <a:lnTo>
                    <a:pt x="154" y="383"/>
                  </a:lnTo>
                  <a:lnTo>
                    <a:pt x="143" y="365"/>
                  </a:lnTo>
                  <a:lnTo>
                    <a:pt x="133" y="346"/>
                  </a:lnTo>
                  <a:lnTo>
                    <a:pt x="122" y="328"/>
                  </a:lnTo>
                  <a:lnTo>
                    <a:pt x="114" y="308"/>
                  </a:lnTo>
                  <a:lnTo>
                    <a:pt x="96" y="270"/>
                  </a:lnTo>
                  <a:lnTo>
                    <a:pt x="82" y="231"/>
                  </a:lnTo>
                  <a:lnTo>
                    <a:pt x="68" y="191"/>
                  </a:lnTo>
                  <a:lnTo>
                    <a:pt x="57" y="153"/>
                  </a:lnTo>
                  <a:lnTo>
                    <a:pt x="48" y="114"/>
                  </a:lnTo>
                  <a:lnTo>
                    <a:pt x="41" y="77"/>
                  </a:lnTo>
                  <a:lnTo>
                    <a:pt x="35" y="41"/>
                  </a:lnTo>
                  <a:lnTo>
                    <a:pt x="31" y="6"/>
                  </a:lnTo>
                  <a:lnTo>
                    <a:pt x="29" y="16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948200" y="3389040"/>
              <a:ext cx="665280" cy="425160"/>
            </a:xfrm>
            <a:custGeom>
              <a:avLst/>
              <a:gdLst/>
              <a:ahLst/>
              <a:rect l="l" t="t" r="r" b="b"/>
              <a:pathLst>
                <a:path w="2097" h="1340">
                  <a:moveTo>
                    <a:pt x="0" y="831"/>
                  </a:moveTo>
                  <a:lnTo>
                    <a:pt x="5" y="805"/>
                  </a:lnTo>
                  <a:lnTo>
                    <a:pt x="10" y="779"/>
                  </a:lnTo>
                  <a:lnTo>
                    <a:pt x="16" y="753"/>
                  </a:lnTo>
                  <a:lnTo>
                    <a:pt x="22" y="727"/>
                  </a:lnTo>
                  <a:lnTo>
                    <a:pt x="30" y="702"/>
                  </a:lnTo>
                  <a:lnTo>
                    <a:pt x="38" y="676"/>
                  </a:lnTo>
                  <a:lnTo>
                    <a:pt x="47" y="650"/>
                  </a:lnTo>
                  <a:lnTo>
                    <a:pt x="57" y="624"/>
                  </a:lnTo>
                  <a:lnTo>
                    <a:pt x="67" y="598"/>
                  </a:lnTo>
                  <a:lnTo>
                    <a:pt x="78" y="572"/>
                  </a:lnTo>
                  <a:lnTo>
                    <a:pt x="89" y="547"/>
                  </a:lnTo>
                  <a:lnTo>
                    <a:pt x="101" y="521"/>
                  </a:lnTo>
                  <a:lnTo>
                    <a:pt x="128" y="469"/>
                  </a:lnTo>
                  <a:lnTo>
                    <a:pt x="158" y="417"/>
                  </a:lnTo>
                  <a:lnTo>
                    <a:pt x="188" y="366"/>
                  </a:lnTo>
                  <a:lnTo>
                    <a:pt x="223" y="314"/>
                  </a:lnTo>
                  <a:lnTo>
                    <a:pt x="260" y="262"/>
                  </a:lnTo>
                  <a:lnTo>
                    <a:pt x="299" y="210"/>
                  </a:lnTo>
                  <a:lnTo>
                    <a:pt x="340" y="158"/>
                  </a:lnTo>
                  <a:lnTo>
                    <a:pt x="384" y="105"/>
                  </a:lnTo>
                  <a:lnTo>
                    <a:pt x="429" y="53"/>
                  </a:lnTo>
                  <a:lnTo>
                    <a:pt x="476" y="0"/>
                  </a:lnTo>
                  <a:lnTo>
                    <a:pt x="501" y="15"/>
                  </a:lnTo>
                  <a:lnTo>
                    <a:pt x="524" y="29"/>
                  </a:lnTo>
                  <a:lnTo>
                    <a:pt x="549" y="44"/>
                  </a:lnTo>
                  <a:lnTo>
                    <a:pt x="572" y="57"/>
                  </a:lnTo>
                  <a:lnTo>
                    <a:pt x="597" y="72"/>
                  </a:lnTo>
                  <a:lnTo>
                    <a:pt x="620" y="85"/>
                  </a:lnTo>
                  <a:lnTo>
                    <a:pt x="645" y="99"/>
                  </a:lnTo>
                  <a:lnTo>
                    <a:pt x="669" y="112"/>
                  </a:lnTo>
                  <a:lnTo>
                    <a:pt x="664" y="126"/>
                  </a:lnTo>
                  <a:lnTo>
                    <a:pt x="657" y="138"/>
                  </a:lnTo>
                  <a:lnTo>
                    <a:pt x="650" y="152"/>
                  </a:lnTo>
                  <a:lnTo>
                    <a:pt x="642" y="165"/>
                  </a:lnTo>
                  <a:lnTo>
                    <a:pt x="624" y="191"/>
                  </a:lnTo>
                  <a:lnTo>
                    <a:pt x="604" y="217"/>
                  </a:lnTo>
                  <a:lnTo>
                    <a:pt x="584" y="243"/>
                  </a:lnTo>
                  <a:lnTo>
                    <a:pt x="566" y="269"/>
                  </a:lnTo>
                  <a:lnTo>
                    <a:pt x="557" y="282"/>
                  </a:lnTo>
                  <a:lnTo>
                    <a:pt x="550" y="294"/>
                  </a:lnTo>
                  <a:lnTo>
                    <a:pt x="545" y="308"/>
                  </a:lnTo>
                  <a:lnTo>
                    <a:pt x="540" y="320"/>
                  </a:lnTo>
                  <a:lnTo>
                    <a:pt x="634" y="302"/>
                  </a:lnTo>
                  <a:lnTo>
                    <a:pt x="728" y="285"/>
                  </a:lnTo>
                  <a:lnTo>
                    <a:pt x="824" y="270"/>
                  </a:lnTo>
                  <a:lnTo>
                    <a:pt x="921" y="256"/>
                  </a:lnTo>
                  <a:lnTo>
                    <a:pt x="1019" y="245"/>
                  </a:lnTo>
                  <a:lnTo>
                    <a:pt x="1118" y="235"/>
                  </a:lnTo>
                  <a:lnTo>
                    <a:pt x="1217" y="227"/>
                  </a:lnTo>
                  <a:lnTo>
                    <a:pt x="1316" y="219"/>
                  </a:lnTo>
                  <a:lnTo>
                    <a:pt x="1514" y="207"/>
                  </a:lnTo>
                  <a:lnTo>
                    <a:pt x="1712" y="196"/>
                  </a:lnTo>
                  <a:lnTo>
                    <a:pt x="1907" y="187"/>
                  </a:lnTo>
                  <a:lnTo>
                    <a:pt x="2097" y="176"/>
                  </a:lnTo>
                  <a:lnTo>
                    <a:pt x="2068" y="270"/>
                  </a:lnTo>
                  <a:lnTo>
                    <a:pt x="2036" y="362"/>
                  </a:lnTo>
                  <a:lnTo>
                    <a:pt x="2003" y="454"/>
                  </a:lnTo>
                  <a:lnTo>
                    <a:pt x="1967" y="547"/>
                  </a:lnTo>
                  <a:lnTo>
                    <a:pt x="1930" y="638"/>
                  </a:lnTo>
                  <a:lnTo>
                    <a:pt x="1892" y="729"/>
                  </a:lnTo>
                  <a:lnTo>
                    <a:pt x="1853" y="820"/>
                  </a:lnTo>
                  <a:lnTo>
                    <a:pt x="1811" y="909"/>
                  </a:lnTo>
                  <a:lnTo>
                    <a:pt x="1658" y="932"/>
                  </a:lnTo>
                  <a:lnTo>
                    <a:pt x="1506" y="954"/>
                  </a:lnTo>
                  <a:lnTo>
                    <a:pt x="1352" y="976"/>
                  </a:lnTo>
                  <a:lnTo>
                    <a:pt x="1199" y="998"/>
                  </a:lnTo>
                  <a:lnTo>
                    <a:pt x="1047" y="1020"/>
                  </a:lnTo>
                  <a:lnTo>
                    <a:pt x="894" y="1042"/>
                  </a:lnTo>
                  <a:lnTo>
                    <a:pt x="742" y="1064"/>
                  </a:lnTo>
                  <a:lnTo>
                    <a:pt x="588" y="1087"/>
                  </a:lnTo>
                  <a:lnTo>
                    <a:pt x="561" y="1119"/>
                  </a:lnTo>
                  <a:lnTo>
                    <a:pt x="534" y="1149"/>
                  </a:lnTo>
                  <a:lnTo>
                    <a:pt x="506" y="1181"/>
                  </a:lnTo>
                  <a:lnTo>
                    <a:pt x="477" y="1213"/>
                  </a:lnTo>
                  <a:lnTo>
                    <a:pt x="450" y="1245"/>
                  </a:lnTo>
                  <a:lnTo>
                    <a:pt x="422" y="1277"/>
                  </a:lnTo>
                  <a:lnTo>
                    <a:pt x="394" y="1309"/>
                  </a:lnTo>
                  <a:lnTo>
                    <a:pt x="367" y="1340"/>
                  </a:lnTo>
                  <a:lnTo>
                    <a:pt x="332" y="1318"/>
                  </a:lnTo>
                  <a:lnTo>
                    <a:pt x="299" y="1293"/>
                  </a:lnTo>
                  <a:lnTo>
                    <a:pt x="267" y="1269"/>
                  </a:lnTo>
                  <a:lnTo>
                    <a:pt x="238" y="1243"/>
                  </a:lnTo>
                  <a:lnTo>
                    <a:pt x="209" y="1214"/>
                  </a:lnTo>
                  <a:lnTo>
                    <a:pt x="182" y="1186"/>
                  </a:lnTo>
                  <a:lnTo>
                    <a:pt x="158" y="1157"/>
                  </a:lnTo>
                  <a:lnTo>
                    <a:pt x="133" y="1125"/>
                  </a:lnTo>
                  <a:lnTo>
                    <a:pt x="111" y="1093"/>
                  </a:lnTo>
                  <a:lnTo>
                    <a:pt x="90" y="1060"/>
                  </a:lnTo>
                  <a:lnTo>
                    <a:pt x="71" y="1024"/>
                  </a:lnTo>
                  <a:lnTo>
                    <a:pt x="53" y="988"/>
                  </a:lnTo>
                  <a:lnTo>
                    <a:pt x="38" y="950"/>
                  </a:lnTo>
                  <a:lnTo>
                    <a:pt x="23" y="912"/>
                  </a:lnTo>
                  <a:lnTo>
                    <a:pt x="11" y="873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43520" y="3382920"/>
              <a:ext cx="158760" cy="271080"/>
            </a:xfrm>
            <a:custGeom>
              <a:avLst/>
              <a:gdLst/>
              <a:ahLst/>
              <a:rect l="l" t="t" r="r" b="b"/>
              <a:pathLst>
                <a:path w="502" h="852">
                  <a:moveTo>
                    <a:pt x="500" y="7"/>
                  </a:moveTo>
                  <a:lnTo>
                    <a:pt x="480" y="10"/>
                  </a:lnTo>
                  <a:lnTo>
                    <a:pt x="432" y="63"/>
                  </a:lnTo>
                  <a:lnTo>
                    <a:pt x="387" y="115"/>
                  </a:lnTo>
                  <a:lnTo>
                    <a:pt x="344" y="167"/>
                  </a:lnTo>
                  <a:lnTo>
                    <a:pt x="302" y="220"/>
                  </a:lnTo>
                  <a:lnTo>
                    <a:pt x="262" y="273"/>
                  </a:lnTo>
                  <a:lnTo>
                    <a:pt x="225" y="325"/>
                  </a:lnTo>
                  <a:lnTo>
                    <a:pt x="191" y="377"/>
                  </a:lnTo>
                  <a:lnTo>
                    <a:pt x="159" y="429"/>
                  </a:lnTo>
                  <a:lnTo>
                    <a:pt x="130" y="482"/>
                  </a:lnTo>
                  <a:lnTo>
                    <a:pt x="102" y="534"/>
                  </a:lnTo>
                  <a:lnTo>
                    <a:pt x="90" y="559"/>
                  </a:lnTo>
                  <a:lnTo>
                    <a:pt x="79" y="587"/>
                  </a:lnTo>
                  <a:lnTo>
                    <a:pt x="68" y="612"/>
                  </a:lnTo>
                  <a:lnTo>
                    <a:pt x="57" y="638"/>
                  </a:lnTo>
                  <a:lnTo>
                    <a:pt x="47" y="664"/>
                  </a:lnTo>
                  <a:lnTo>
                    <a:pt x="38" y="691"/>
                  </a:lnTo>
                  <a:lnTo>
                    <a:pt x="30" y="717"/>
                  </a:lnTo>
                  <a:lnTo>
                    <a:pt x="23" y="743"/>
                  </a:lnTo>
                  <a:lnTo>
                    <a:pt x="16" y="769"/>
                  </a:lnTo>
                  <a:lnTo>
                    <a:pt x="10" y="796"/>
                  </a:lnTo>
                  <a:lnTo>
                    <a:pt x="5" y="821"/>
                  </a:lnTo>
                  <a:lnTo>
                    <a:pt x="0" y="847"/>
                  </a:lnTo>
                  <a:lnTo>
                    <a:pt x="30" y="852"/>
                  </a:lnTo>
                  <a:lnTo>
                    <a:pt x="35" y="826"/>
                  </a:lnTo>
                  <a:lnTo>
                    <a:pt x="40" y="802"/>
                  </a:lnTo>
                  <a:lnTo>
                    <a:pt x="46" y="776"/>
                  </a:lnTo>
                  <a:lnTo>
                    <a:pt x="52" y="751"/>
                  </a:lnTo>
                  <a:lnTo>
                    <a:pt x="59" y="726"/>
                  </a:lnTo>
                  <a:lnTo>
                    <a:pt x="67" y="700"/>
                  </a:lnTo>
                  <a:lnTo>
                    <a:pt x="75" y="674"/>
                  </a:lnTo>
                  <a:lnTo>
                    <a:pt x="85" y="649"/>
                  </a:lnTo>
                  <a:lnTo>
                    <a:pt x="95" y="623"/>
                  </a:lnTo>
                  <a:lnTo>
                    <a:pt x="106" y="598"/>
                  </a:lnTo>
                  <a:lnTo>
                    <a:pt x="117" y="573"/>
                  </a:lnTo>
                  <a:lnTo>
                    <a:pt x="130" y="547"/>
                  </a:lnTo>
                  <a:lnTo>
                    <a:pt x="157" y="495"/>
                  </a:lnTo>
                  <a:lnTo>
                    <a:pt x="185" y="445"/>
                  </a:lnTo>
                  <a:lnTo>
                    <a:pt x="217" y="393"/>
                  </a:lnTo>
                  <a:lnTo>
                    <a:pt x="250" y="342"/>
                  </a:lnTo>
                  <a:lnTo>
                    <a:pt x="287" y="290"/>
                  </a:lnTo>
                  <a:lnTo>
                    <a:pt x="325" y="238"/>
                  </a:lnTo>
                  <a:lnTo>
                    <a:pt x="367" y="187"/>
                  </a:lnTo>
                  <a:lnTo>
                    <a:pt x="410" y="134"/>
                  </a:lnTo>
                  <a:lnTo>
                    <a:pt x="455" y="82"/>
                  </a:lnTo>
                  <a:lnTo>
                    <a:pt x="502" y="29"/>
                  </a:lnTo>
                  <a:lnTo>
                    <a:pt x="484" y="32"/>
                  </a:lnTo>
                  <a:lnTo>
                    <a:pt x="500" y="7"/>
                  </a:lnTo>
                  <a:lnTo>
                    <a:pt x="489" y="0"/>
                  </a:lnTo>
                  <a:lnTo>
                    <a:pt x="480" y="10"/>
                  </a:lnTo>
                  <a:lnTo>
                    <a:pt x="50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97600" y="3385800"/>
              <a:ext cx="68040" cy="42480"/>
            </a:xfrm>
            <a:custGeom>
              <a:avLst/>
              <a:gdLst/>
              <a:ahLst/>
              <a:rect l="l" t="t" r="r" b="b"/>
              <a:pathLst>
                <a:path w="217" h="138">
                  <a:moveTo>
                    <a:pt x="214" y="129"/>
                  </a:moveTo>
                  <a:lnTo>
                    <a:pt x="208" y="111"/>
                  </a:lnTo>
                  <a:lnTo>
                    <a:pt x="183" y="97"/>
                  </a:lnTo>
                  <a:lnTo>
                    <a:pt x="158" y="84"/>
                  </a:lnTo>
                  <a:lnTo>
                    <a:pt x="135" y="70"/>
                  </a:lnTo>
                  <a:lnTo>
                    <a:pt x="110" y="57"/>
                  </a:lnTo>
                  <a:lnTo>
                    <a:pt x="87" y="42"/>
                  </a:lnTo>
                  <a:lnTo>
                    <a:pt x="62" y="28"/>
                  </a:lnTo>
                  <a:lnTo>
                    <a:pt x="39" y="14"/>
                  </a:lnTo>
                  <a:lnTo>
                    <a:pt x="16" y="0"/>
                  </a:lnTo>
                  <a:lnTo>
                    <a:pt x="0" y="25"/>
                  </a:lnTo>
                  <a:lnTo>
                    <a:pt x="23" y="40"/>
                  </a:lnTo>
                  <a:lnTo>
                    <a:pt x="48" y="54"/>
                  </a:lnTo>
                  <a:lnTo>
                    <a:pt x="71" y="68"/>
                  </a:lnTo>
                  <a:lnTo>
                    <a:pt x="96" y="83"/>
                  </a:lnTo>
                  <a:lnTo>
                    <a:pt x="120" y="96"/>
                  </a:lnTo>
                  <a:lnTo>
                    <a:pt x="144" y="110"/>
                  </a:lnTo>
                  <a:lnTo>
                    <a:pt x="168" y="124"/>
                  </a:lnTo>
                  <a:lnTo>
                    <a:pt x="193" y="138"/>
                  </a:lnTo>
                  <a:lnTo>
                    <a:pt x="185" y="119"/>
                  </a:lnTo>
                  <a:lnTo>
                    <a:pt x="214" y="129"/>
                  </a:lnTo>
                  <a:lnTo>
                    <a:pt x="217" y="117"/>
                  </a:lnTo>
                  <a:lnTo>
                    <a:pt x="208" y="111"/>
                  </a:lnTo>
                  <a:lnTo>
                    <a:pt x="214" y="1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113440" y="3422520"/>
              <a:ext cx="52200" cy="74160"/>
            </a:xfrm>
            <a:custGeom>
              <a:avLst/>
              <a:gdLst/>
              <a:ahLst/>
              <a:rect l="l" t="t" r="r" b="b"/>
              <a:pathLst>
                <a:path w="165" h="233">
                  <a:moveTo>
                    <a:pt x="18" y="199"/>
                  </a:moveTo>
                  <a:lnTo>
                    <a:pt x="36" y="218"/>
                  </a:lnTo>
                  <a:lnTo>
                    <a:pt x="41" y="206"/>
                  </a:lnTo>
                  <a:lnTo>
                    <a:pt x="45" y="195"/>
                  </a:lnTo>
                  <a:lnTo>
                    <a:pt x="53" y="183"/>
                  </a:lnTo>
                  <a:lnTo>
                    <a:pt x="60" y="170"/>
                  </a:lnTo>
                  <a:lnTo>
                    <a:pt x="77" y="144"/>
                  </a:lnTo>
                  <a:lnTo>
                    <a:pt x="97" y="119"/>
                  </a:lnTo>
                  <a:lnTo>
                    <a:pt x="118" y="93"/>
                  </a:lnTo>
                  <a:lnTo>
                    <a:pt x="136" y="67"/>
                  </a:lnTo>
                  <a:lnTo>
                    <a:pt x="145" y="52"/>
                  </a:lnTo>
                  <a:lnTo>
                    <a:pt x="152" y="39"/>
                  </a:lnTo>
                  <a:lnTo>
                    <a:pt x="160" y="24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2" y="13"/>
                  </a:lnTo>
                  <a:lnTo>
                    <a:pt x="127" y="25"/>
                  </a:lnTo>
                  <a:lnTo>
                    <a:pt x="119" y="37"/>
                  </a:lnTo>
                  <a:lnTo>
                    <a:pt x="112" y="50"/>
                  </a:lnTo>
                  <a:lnTo>
                    <a:pt x="93" y="76"/>
                  </a:lnTo>
                  <a:lnTo>
                    <a:pt x="74" y="101"/>
                  </a:lnTo>
                  <a:lnTo>
                    <a:pt x="54" y="127"/>
                  </a:lnTo>
                  <a:lnTo>
                    <a:pt x="36" y="153"/>
                  </a:lnTo>
                  <a:lnTo>
                    <a:pt x="27" y="167"/>
                  </a:lnTo>
                  <a:lnTo>
                    <a:pt x="20" y="181"/>
                  </a:lnTo>
                  <a:lnTo>
                    <a:pt x="12" y="195"/>
                  </a:lnTo>
                  <a:lnTo>
                    <a:pt x="7" y="208"/>
                  </a:lnTo>
                  <a:lnTo>
                    <a:pt x="25" y="228"/>
                  </a:lnTo>
                  <a:lnTo>
                    <a:pt x="7" y="208"/>
                  </a:lnTo>
                  <a:lnTo>
                    <a:pt x="0" y="233"/>
                  </a:lnTo>
                  <a:lnTo>
                    <a:pt x="25" y="228"/>
                  </a:lnTo>
                  <a:lnTo>
                    <a:pt x="18" y="19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118120" y="3439800"/>
              <a:ext cx="503280" cy="55440"/>
            </a:xfrm>
            <a:custGeom>
              <a:avLst/>
              <a:gdLst/>
              <a:ahLst/>
              <a:rect l="l" t="t" r="r" b="b"/>
              <a:pathLst>
                <a:path w="1582" h="175">
                  <a:moveTo>
                    <a:pt x="1576" y="21"/>
                  </a:moveTo>
                  <a:lnTo>
                    <a:pt x="1561" y="2"/>
                  </a:lnTo>
                  <a:lnTo>
                    <a:pt x="1371" y="11"/>
                  </a:lnTo>
                  <a:lnTo>
                    <a:pt x="1175" y="21"/>
                  </a:lnTo>
                  <a:lnTo>
                    <a:pt x="977" y="31"/>
                  </a:lnTo>
                  <a:lnTo>
                    <a:pt x="779" y="45"/>
                  </a:lnTo>
                  <a:lnTo>
                    <a:pt x="679" y="52"/>
                  </a:lnTo>
                  <a:lnTo>
                    <a:pt x="580" y="61"/>
                  </a:lnTo>
                  <a:lnTo>
                    <a:pt x="481" y="70"/>
                  </a:lnTo>
                  <a:lnTo>
                    <a:pt x="383" y="82"/>
                  </a:lnTo>
                  <a:lnTo>
                    <a:pt x="286" y="95"/>
                  </a:lnTo>
                  <a:lnTo>
                    <a:pt x="190" y="110"/>
                  </a:lnTo>
                  <a:lnTo>
                    <a:pt x="94" y="127"/>
                  </a:lnTo>
                  <a:lnTo>
                    <a:pt x="0" y="146"/>
                  </a:lnTo>
                  <a:lnTo>
                    <a:pt x="7" y="175"/>
                  </a:lnTo>
                  <a:lnTo>
                    <a:pt x="100" y="157"/>
                  </a:lnTo>
                  <a:lnTo>
                    <a:pt x="195" y="139"/>
                  </a:lnTo>
                  <a:lnTo>
                    <a:pt x="291" y="125"/>
                  </a:lnTo>
                  <a:lnTo>
                    <a:pt x="387" y="111"/>
                  </a:lnTo>
                  <a:lnTo>
                    <a:pt x="485" y="100"/>
                  </a:lnTo>
                  <a:lnTo>
                    <a:pt x="583" y="90"/>
                  </a:lnTo>
                  <a:lnTo>
                    <a:pt x="682" y="82"/>
                  </a:lnTo>
                  <a:lnTo>
                    <a:pt x="781" y="74"/>
                  </a:lnTo>
                  <a:lnTo>
                    <a:pt x="980" y="62"/>
                  </a:lnTo>
                  <a:lnTo>
                    <a:pt x="1176" y="51"/>
                  </a:lnTo>
                  <a:lnTo>
                    <a:pt x="1372" y="42"/>
                  </a:lnTo>
                  <a:lnTo>
                    <a:pt x="1563" y="32"/>
                  </a:lnTo>
                  <a:lnTo>
                    <a:pt x="1548" y="13"/>
                  </a:lnTo>
                  <a:lnTo>
                    <a:pt x="1576" y="21"/>
                  </a:lnTo>
                  <a:lnTo>
                    <a:pt x="1582" y="0"/>
                  </a:lnTo>
                  <a:lnTo>
                    <a:pt x="1561" y="2"/>
                  </a:lnTo>
                  <a:lnTo>
                    <a:pt x="1576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8080" y="3444480"/>
              <a:ext cx="100080" cy="237960"/>
            </a:xfrm>
            <a:custGeom>
              <a:avLst/>
              <a:gdLst/>
              <a:ahLst/>
              <a:rect l="l" t="t" r="r" b="b"/>
              <a:pathLst>
                <a:path w="315" h="752">
                  <a:moveTo>
                    <a:pt x="16" y="752"/>
                  </a:moveTo>
                  <a:lnTo>
                    <a:pt x="27" y="744"/>
                  </a:lnTo>
                  <a:lnTo>
                    <a:pt x="69" y="653"/>
                  </a:lnTo>
                  <a:lnTo>
                    <a:pt x="108" y="562"/>
                  </a:lnTo>
                  <a:lnTo>
                    <a:pt x="148" y="471"/>
                  </a:lnTo>
                  <a:lnTo>
                    <a:pt x="183" y="379"/>
                  </a:lnTo>
                  <a:lnTo>
                    <a:pt x="219" y="286"/>
                  </a:lnTo>
                  <a:lnTo>
                    <a:pt x="252" y="194"/>
                  </a:lnTo>
                  <a:lnTo>
                    <a:pt x="284" y="102"/>
                  </a:lnTo>
                  <a:lnTo>
                    <a:pt x="315" y="8"/>
                  </a:lnTo>
                  <a:lnTo>
                    <a:pt x="287" y="0"/>
                  </a:lnTo>
                  <a:lnTo>
                    <a:pt x="256" y="92"/>
                  </a:lnTo>
                  <a:lnTo>
                    <a:pt x="224" y="184"/>
                  </a:lnTo>
                  <a:lnTo>
                    <a:pt x="191" y="276"/>
                  </a:lnTo>
                  <a:lnTo>
                    <a:pt x="156" y="367"/>
                  </a:lnTo>
                  <a:lnTo>
                    <a:pt x="119" y="458"/>
                  </a:lnTo>
                  <a:lnTo>
                    <a:pt x="81" y="549"/>
                  </a:lnTo>
                  <a:lnTo>
                    <a:pt x="42" y="641"/>
                  </a:lnTo>
                  <a:lnTo>
                    <a:pt x="0" y="730"/>
                  </a:lnTo>
                  <a:lnTo>
                    <a:pt x="11" y="722"/>
                  </a:lnTo>
                  <a:lnTo>
                    <a:pt x="16" y="752"/>
                  </a:lnTo>
                  <a:lnTo>
                    <a:pt x="24" y="751"/>
                  </a:lnTo>
                  <a:lnTo>
                    <a:pt x="27" y="744"/>
                  </a:lnTo>
                  <a:lnTo>
                    <a:pt x="16" y="7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130720" y="3673080"/>
              <a:ext cx="393840" cy="64800"/>
            </a:xfrm>
            <a:custGeom>
              <a:avLst/>
              <a:gdLst/>
              <a:ahLst/>
              <a:rect l="l" t="t" r="r" b="b"/>
              <a:pathLst>
                <a:path w="1236" h="206">
                  <a:moveTo>
                    <a:pt x="23" y="201"/>
                  </a:moveTo>
                  <a:lnTo>
                    <a:pt x="14" y="206"/>
                  </a:lnTo>
                  <a:lnTo>
                    <a:pt x="166" y="184"/>
                  </a:lnTo>
                  <a:lnTo>
                    <a:pt x="319" y="162"/>
                  </a:lnTo>
                  <a:lnTo>
                    <a:pt x="472" y="140"/>
                  </a:lnTo>
                  <a:lnTo>
                    <a:pt x="625" y="118"/>
                  </a:lnTo>
                  <a:lnTo>
                    <a:pt x="777" y="96"/>
                  </a:lnTo>
                  <a:lnTo>
                    <a:pt x="930" y="73"/>
                  </a:lnTo>
                  <a:lnTo>
                    <a:pt x="1082" y="51"/>
                  </a:lnTo>
                  <a:lnTo>
                    <a:pt x="1236" y="30"/>
                  </a:lnTo>
                  <a:lnTo>
                    <a:pt x="1231" y="0"/>
                  </a:lnTo>
                  <a:lnTo>
                    <a:pt x="1079" y="22"/>
                  </a:lnTo>
                  <a:lnTo>
                    <a:pt x="926" y="44"/>
                  </a:lnTo>
                  <a:lnTo>
                    <a:pt x="774" y="66"/>
                  </a:lnTo>
                  <a:lnTo>
                    <a:pt x="620" y="88"/>
                  </a:lnTo>
                  <a:lnTo>
                    <a:pt x="467" y="110"/>
                  </a:lnTo>
                  <a:lnTo>
                    <a:pt x="315" y="133"/>
                  </a:lnTo>
                  <a:lnTo>
                    <a:pt x="162" y="155"/>
                  </a:lnTo>
                  <a:lnTo>
                    <a:pt x="10" y="177"/>
                  </a:lnTo>
                  <a:lnTo>
                    <a:pt x="0" y="182"/>
                  </a:lnTo>
                  <a:lnTo>
                    <a:pt x="10" y="177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23" y="20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060880" y="3730320"/>
              <a:ext cx="77760" cy="90360"/>
            </a:xfrm>
            <a:custGeom>
              <a:avLst/>
              <a:gdLst/>
              <a:ahLst/>
              <a:rect l="l" t="t" r="r" b="b"/>
              <a:pathLst>
                <a:path w="246" h="283">
                  <a:moveTo>
                    <a:pt x="4" y="276"/>
                  </a:moveTo>
                  <a:lnTo>
                    <a:pt x="24" y="273"/>
                  </a:lnTo>
                  <a:lnTo>
                    <a:pt x="51" y="242"/>
                  </a:lnTo>
                  <a:lnTo>
                    <a:pt x="79" y="210"/>
                  </a:lnTo>
                  <a:lnTo>
                    <a:pt x="107" y="178"/>
                  </a:lnTo>
                  <a:lnTo>
                    <a:pt x="136" y="146"/>
                  </a:lnTo>
                  <a:lnTo>
                    <a:pt x="163" y="114"/>
                  </a:lnTo>
                  <a:lnTo>
                    <a:pt x="191" y="83"/>
                  </a:lnTo>
                  <a:lnTo>
                    <a:pt x="218" y="51"/>
                  </a:lnTo>
                  <a:lnTo>
                    <a:pt x="246" y="19"/>
                  </a:lnTo>
                  <a:lnTo>
                    <a:pt x="223" y="0"/>
                  </a:lnTo>
                  <a:lnTo>
                    <a:pt x="196" y="32"/>
                  </a:lnTo>
                  <a:lnTo>
                    <a:pt x="168" y="62"/>
                  </a:lnTo>
                  <a:lnTo>
                    <a:pt x="141" y="94"/>
                  </a:lnTo>
                  <a:lnTo>
                    <a:pt x="112" y="126"/>
                  </a:lnTo>
                  <a:lnTo>
                    <a:pt x="85" y="158"/>
                  </a:lnTo>
                  <a:lnTo>
                    <a:pt x="57" y="190"/>
                  </a:lnTo>
                  <a:lnTo>
                    <a:pt x="29" y="221"/>
                  </a:lnTo>
                  <a:lnTo>
                    <a:pt x="0" y="253"/>
                  </a:lnTo>
                  <a:lnTo>
                    <a:pt x="20" y="251"/>
                  </a:lnTo>
                  <a:lnTo>
                    <a:pt x="4" y="276"/>
                  </a:lnTo>
                  <a:lnTo>
                    <a:pt x="15" y="283"/>
                  </a:lnTo>
                  <a:lnTo>
                    <a:pt x="24" y="273"/>
                  </a:lnTo>
                  <a:lnTo>
                    <a:pt x="4" y="27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943520" y="3651120"/>
              <a:ext cx="123840" cy="167760"/>
            </a:xfrm>
            <a:custGeom>
              <a:avLst/>
              <a:gdLst/>
              <a:ahLst/>
              <a:rect l="l" t="t" r="r" b="b"/>
              <a:pathLst>
                <a:path w="389" h="526">
                  <a:moveTo>
                    <a:pt x="0" y="1"/>
                  </a:moveTo>
                  <a:lnTo>
                    <a:pt x="0" y="7"/>
                  </a:lnTo>
                  <a:lnTo>
                    <a:pt x="11" y="49"/>
                  </a:lnTo>
                  <a:lnTo>
                    <a:pt x="25" y="90"/>
                  </a:lnTo>
                  <a:lnTo>
                    <a:pt x="38" y="129"/>
                  </a:lnTo>
                  <a:lnTo>
                    <a:pt x="54" y="167"/>
                  </a:lnTo>
                  <a:lnTo>
                    <a:pt x="73" y="204"/>
                  </a:lnTo>
                  <a:lnTo>
                    <a:pt x="93" y="240"/>
                  </a:lnTo>
                  <a:lnTo>
                    <a:pt x="114" y="274"/>
                  </a:lnTo>
                  <a:lnTo>
                    <a:pt x="136" y="306"/>
                  </a:lnTo>
                  <a:lnTo>
                    <a:pt x="160" y="338"/>
                  </a:lnTo>
                  <a:lnTo>
                    <a:pt x="186" y="369"/>
                  </a:lnTo>
                  <a:lnTo>
                    <a:pt x="213" y="399"/>
                  </a:lnTo>
                  <a:lnTo>
                    <a:pt x="243" y="427"/>
                  </a:lnTo>
                  <a:lnTo>
                    <a:pt x="273" y="453"/>
                  </a:lnTo>
                  <a:lnTo>
                    <a:pt x="305" y="479"/>
                  </a:lnTo>
                  <a:lnTo>
                    <a:pt x="339" y="503"/>
                  </a:lnTo>
                  <a:lnTo>
                    <a:pt x="373" y="526"/>
                  </a:lnTo>
                  <a:lnTo>
                    <a:pt x="389" y="501"/>
                  </a:lnTo>
                  <a:lnTo>
                    <a:pt x="356" y="479"/>
                  </a:lnTo>
                  <a:lnTo>
                    <a:pt x="323" y="455"/>
                  </a:lnTo>
                  <a:lnTo>
                    <a:pt x="292" y="431"/>
                  </a:lnTo>
                  <a:lnTo>
                    <a:pt x="262" y="405"/>
                  </a:lnTo>
                  <a:lnTo>
                    <a:pt x="235" y="378"/>
                  </a:lnTo>
                  <a:lnTo>
                    <a:pt x="208" y="349"/>
                  </a:lnTo>
                  <a:lnTo>
                    <a:pt x="184" y="320"/>
                  </a:lnTo>
                  <a:lnTo>
                    <a:pt x="160" y="289"/>
                  </a:lnTo>
                  <a:lnTo>
                    <a:pt x="138" y="257"/>
                  </a:lnTo>
                  <a:lnTo>
                    <a:pt x="118" y="224"/>
                  </a:lnTo>
                  <a:lnTo>
                    <a:pt x="100" y="191"/>
                  </a:lnTo>
                  <a:lnTo>
                    <a:pt x="83" y="155"/>
                  </a:lnTo>
                  <a:lnTo>
                    <a:pt x="67" y="118"/>
                  </a:lnTo>
                  <a:lnTo>
                    <a:pt x="53" y="80"/>
                  </a:lnTo>
                  <a:lnTo>
                    <a:pt x="41" y="41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316480" y="3511440"/>
              <a:ext cx="258840" cy="43920"/>
            </a:xfrm>
            <a:custGeom>
              <a:avLst/>
              <a:gdLst/>
              <a:ahLst/>
              <a:rect l="l" t="t" r="r" b="b"/>
              <a:pathLst>
                <a:path w="814" h="142">
                  <a:moveTo>
                    <a:pt x="3" y="142"/>
                  </a:moveTo>
                  <a:lnTo>
                    <a:pt x="814" y="30"/>
                  </a:lnTo>
                  <a:lnTo>
                    <a:pt x="810" y="0"/>
                  </a:lnTo>
                  <a:lnTo>
                    <a:pt x="0" y="112"/>
                  </a:lnTo>
                  <a:lnTo>
                    <a:pt x="3" y="1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383080" y="3608280"/>
              <a:ext cx="160560" cy="13680"/>
            </a:xfrm>
            <a:custGeom>
              <a:avLst/>
              <a:gdLst/>
              <a:ahLst/>
              <a:rect l="l" t="t" r="r" b="b"/>
              <a:pathLst>
                <a:path w="509" h="48">
                  <a:moveTo>
                    <a:pt x="1" y="48"/>
                  </a:moveTo>
                  <a:lnTo>
                    <a:pt x="509" y="31"/>
                  </a:lnTo>
                  <a:lnTo>
                    <a:pt x="508" y="0"/>
                  </a:lnTo>
                  <a:lnTo>
                    <a:pt x="0" y="17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19560" y="3207960"/>
              <a:ext cx="746280" cy="282240"/>
            </a:xfrm>
            <a:custGeom>
              <a:avLst/>
              <a:gdLst/>
              <a:ahLst/>
              <a:rect l="l" t="t" r="r" b="b"/>
              <a:pathLst>
                <a:path w="2352" h="889">
                  <a:moveTo>
                    <a:pt x="84" y="656"/>
                  </a:moveTo>
                  <a:lnTo>
                    <a:pt x="90" y="660"/>
                  </a:lnTo>
                  <a:lnTo>
                    <a:pt x="96" y="664"/>
                  </a:lnTo>
                  <a:lnTo>
                    <a:pt x="102" y="666"/>
                  </a:lnTo>
                  <a:lnTo>
                    <a:pt x="107" y="670"/>
                  </a:lnTo>
                  <a:lnTo>
                    <a:pt x="113" y="674"/>
                  </a:lnTo>
                  <a:lnTo>
                    <a:pt x="118" y="677"/>
                  </a:lnTo>
                  <a:lnTo>
                    <a:pt x="124" y="681"/>
                  </a:lnTo>
                  <a:lnTo>
                    <a:pt x="129" y="685"/>
                  </a:lnTo>
                  <a:lnTo>
                    <a:pt x="124" y="697"/>
                  </a:lnTo>
                  <a:lnTo>
                    <a:pt x="118" y="709"/>
                  </a:lnTo>
                  <a:lnTo>
                    <a:pt x="111" y="723"/>
                  </a:lnTo>
                  <a:lnTo>
                    <a:pt x="102" y="735"/>
                  </a:lnTo>
                  <a:lnTo>
                    <a:pt x="84" y="761"/>
                  </a:lnTo>
                  <a:lnTo>
                    <a:pt x="64" y="787"/>
                  </a:lnTo>
                  <a:lnTo>
                    <a:pt x="44" y="813"/>
                  </a:lnTo>
                  <a:lnTo>
                    <a:pt x="26" y="838"/>
                  </a:lnTo>
                  <a:lnTo>
                    <a:pt x="17" y="851"/>
                  </a:lnTo>
                  <a:lnTo>
                    <a:pt x="10" y="863"/>
                  </a:lnTo>
                  <a:lnTo>
                    <a:pt x="5" y="877"/>
                  </a:lnTo>
                  <a:lnTo>
                    <a:pt x="0" y="889"/>
                  </a:lnTo>
                  <a:lnTo>
                    <a:pt x="47" y="878"/>
                  </a:lnTo>
                  <a:lnTo>
                    <a:pt x="94" y="869"/>
                  </a:lnTo>
                  <a:lnTo>
                    <a:pt x="142" y="859"/>
                  </a:lnTo>
                  <a:lnTo>
                    <a:pt x="190" y="852"/>
                  </a:lnTo>
                  <a:lnTo>
                    <a:pt x="285" y="836"/>
                  </a:lnTo>
                  <a:lnTo>
                    <a:pt x="383" y="824"/>
                  </a:lnTo>
                  <a:lnTo>
                    <a:pt x="481" y="813"/>
                  </a:lnTo>
                  <a:lnTo>
                    <a:pt x="579" y="803"/>
                  </a:lnTo>
                  <a:lnTo>
                    <a:pt x="678" y="794"/>
                  </a:lnTo>
                  <a:lnTo>
                    <a:pt x="777" y="787"/>
                  </a:lnTo>
                  <a:lnTo>
                    <a:pt x="976" y="774"/>
                  </a:lnTo>
                  <a:lnTo>
                    <a:pt x="1172" y="765"/>
                  </a:lnTo>
                  <a:lnTo>
                    <a:pt x="1367" y="756"/>
                  </a:lnTo>
                  <a:lnTo>
                    <a:pt x="1557" y="745"/>
                  </a:lnTo>
                  <a:lnTo>
                    <a:pt x="1555" y="757"/>
                  </a:lnTo>
                  <a:lnTo>
                    <a:pt x="1551" y="768"/>
                  </a:lnTo>
                  <a:lnTo>
                    <a:pt x="1549" y="781"/>
                  </a:lnTo>
                  <a:lnTo>
                    <a:pt x="1545" y="792"/>
                  </a:lnTo>
                  <a:lnTo>
                    <a:pt x="1541" y="803"/>
                  </a:lnTo>
                  <a:lnTo>
                    <a:pt x="1538" y="815"/>
                  </a:lnTo>
                  <a:lnTo>
                    <a:pt x="1534" y="826"/>
                  </a:lnTo>
                  <a:lnTo>
                    <a:pt x="1530" y="838"/>
                  </a:lnTo>
                  <a:lnTo>
                    <a:pt x="2352" y="447"/>
                  </a:lnTo>
                  <a:lnTo>
                    <a:pt x="1733" y="0"/>
                  </a:lnTo>
                  <a:lnTo>
                    <a:pt x="84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143680" y="3411360"/>
              <a:ext cx="21960" cy="169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67" y="47"/>
                  </a:moveTo>
                  <a:lnTo>
                    <a:pt x="63" y="31"/>
                  </a:lnTo>
                  <a:lnTo>
                    <a:pt x="57" y="26"/>
                  </a:lnTo>
                  <a:lnTo>
                    <a:pt x="51" y="22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7" y="7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0" y="26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29" y="43"/>
                  </a:lnTo>
                  <a:lnTo>
                    <a:pt x="34" y="47"/>
                  </a:lnTo>
                  <a:lnTo>
                    <a:pt x="38" y="49"/>
                  </a:lnTo>
                  <a:lnTo>
                    <a:pt x="42" y="53"/>
                  </a:lnTo>
                  <a:lnTo>
                    <a:pt x="38" y="37"/>
                  </a:lnTo>
                  <a:lnTo>
                    <a:pt x="67" y="47"/>
                  </a:lnTo>
                  <a:lnTo>
                    <a:pt x="70" y="37"/>
                  </a:lnTo>
                  <a:lnTo>
                    <a:pt x="63" y="31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113440" y="3423960"/>
              <a:ext cx="52200" cy="72720"/>
            </a:xfrm>
            <a:custGeom>
              <a:avLst/>
              <a:gdLst/>
              <a:ahLst/>
              <a:rect l="l" t="t" r="r" b="b"/>
              <a:pathLst>
                <a:path w="165" h="229">
                  <a:moveTo>
                    <a:pt x="18" y="194"/>
                  </a:moveTo>
                  <a:lnTo>
                    <a:pt x="36" y="214"/>
                  </a:lnTo>
                  <a:lnTo>
                    <a:pt x="41" y="201"/>
                  </a:lnTo>
                  <a:lnTo>
                    <a:pt x="45" y="190"/>
                  </a:lnTo>
                  <a:lnTo>
                    <a:pt x="53" y="178"/>
                  </a:lnTo>
                  <a:lnTo>
                    <a:pt x="60" y="167"/>
                  </a:lnTo>
                  <a:lnTo>
                    <a:pt x="79" y="141"/>
                  </a:lnTo>
                  <a:lnTo>
                    <a:pt x="98" y="115"/>
                  </a:lnTo>
                  <a:lnTo>
                    <a:pt x="118" y="90"/>
                  </a:lnTo>
                  <a:lnTo>
                    <a:pt x="136" y="64"/>
                  </a:lnTo>
                  <a:lnTo>
                    <a:pt x="145" y="50"/>
                  </a:lnTo>
                  <a:lnTo>
                    <a:pt x="154" y="37"/>
                  </a:lnTo>
                  <a:lnTo>
                    <a:pt x="160" y="23"/>
                  </a:lnTo>
                  <a:lnTo>
                    <a:pt x="165" y="10"/>
                  </a:lnTo>
                  <a:lnTo>
                    <a:pt x="136" y="0"/>
                  </a:lnTo>
                  <a:lnTo>
                    <a:pt x="133" y="11"/>
                  </a:lnTo>
                  <a:lnTo>
                    <a:pt x="127" y="23"/>
                  </a:lnTo>
                  <a:lnTo>
                    <a:pt x="120" y="34"/>
                  </a:lnTo>
                  <a:lnTo>
                    <a:pt x="112" y="46"/>
                  </a:lnTo>
                  <a:lnTo>
                    <a:pt x="95" y="72"/>
                  </a:lnTo>
                  <a:lnTo>
                    <a:pt x="74" y="97"/>
                  </a:lnTo>
                  <a:lnTo>
                    <a:pt x="54" y="124"/>
                  </a:lnTo>
                  <a:lnTo>
                    <a:pt x="36" y="150"/>
                  </a:lnTo>
                  <a:lnTo>
                    <a:pt x="27" y="163"/>
                  </a:lnTo>
                  <a:lnTo>
                    <a:pt x="20" y="177"/>
                  </a:lnTo>
                  <a:lnTo>
                    <a:pt x="12" y="190"/>
                  </a:lnTo>
                  <a:lnTo>
                    <a:pt x="7" y="204"/>
                  </a:lnTo>
                  <a:lnTo>
                    <a:pt x="25" y="224"/>
                  </a:lnTo>
                  <a:lnTo>
                    <a:pt x="7" y="204"/>
                  </a:lnTo>
                  <a:lnTo>
                    <a:pt x="0" y="229"/>
                  </a:lnTo>
                  <a:lnTo>
                    <a:pt x="25" y="224"/>
                  </a:lnTo>
                  <a:lnTo>
                    <a:pt x="18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118120" y="3439800"/>
              <a:ext cx="501480" cy="55440"/>
            </a:xfrm>
            <a:custGeom>
              <a:avLst/>
              <a:gdLst/>
              <a:ahLst/>
              <a:rect l="l" t="t" r="r" b="b"/>
              <a:pathLst>
                <a:path w="1581" h="175">
                  <a:moveTo>
                    <a:pt x="1576" y="20"/>
                  </a:moveTo>
                  <a:lnTo>
                    <a:pt x="1560" y="1"/>
                  </a:lnTo>
                  <a:lnTo>
                    <a:pt x="1371" y="12"/>
                  </a:lnTo>
                  <a:lnTo>
                    <a:pt x="1175" y="21"/>
                  </a:lnTo>
                  <a:lnTo>
                    <a:pt x="978" y="31"/>
                  </a:lnTo>
                  <a:lnTo>
                    <a:pt x="780" y="43"/>
                  </a:lnTo>
                  <a:lnTo>
                    <a:pt x="681" y="50"/>
                  </a:lnTo>
                  <a:lnTo>
                    <a:pt x="582" y="58"/>
                  </a:lnTo>
                  <a:lnTo>
                    <a:pt x="483" y="68"/>
                  </a:lnTo>
                  <a:lnTo>
                    <a:pt x="384" y="80"/>
                  </a:lnTo>
                  <a:lnTo>
                    <a:pt x="287" y="92"/>
                  </a:lnTo>
                  <a:lnTo>
                    <a:pt x="191" y="108"/>
                  </a:lnTo>
                  <a:lnTo>
                    <a:pt x="143" y="116"/>
                  </a:lnTo>
                  <a:lnTo>
                    <a:pt x="95" y="125"/>
                  </a:lnTo>
                  <a:lnTo>
                    <a:pt x="47" y="135"/>
                  </a:lnTo>
                  <a:lnTo>
                    <a:pt x="0" y="145"/>
                  </a:lnTo>
                  <a:lnTo>
                    <a:pt x="7" y="175"/>
                  </a:lnTo>
                  <a:lnTo>
                    <a:pt x="53" y="164"/>
                  </a:lnTo>
                  <a:lnTo>
                    <a:pt x="100" y="155"/>
                  </a:lnTo>
                  <a:lnTo>
                    <a:pt x="148" y="145"/>
                  </a:lnTo>
                  <a:lnTo>
                    <a:pt x="195" y="138"/>
                  </a:lnTo>
                  <a:lnTo>
                    <a:pt x="292" y="123"/>
                  </a:lnTo>
                  <a:lnTo>
                    <a:pt x="388" y="109"/>
                  </a:lnTo>
                  <a:lnTo>
                    <a:pt x="486" y="98"/>
                  </a:lnTo>
                  <a:lnTo>
                    <a:pt x="585" y="88"/>
                  </a:lnTo>
                  <a:lnTo>
                    <a:pt x="683" y="80"/>
                  </a:lnTo>
                  <a:lnTo>
                    <a:pt x="781" y="72"/>
                  </a:lnTo>
                  <a:lnTo>
                    <a:pt x="980" y="61"/>
                  </a:lnTo>
                  <a:lnTo>
                    <a:pt x="1178" y="52"/>
                  </a:lnTo>
                  <a:lnTo>
                    <a:pt x="1372" y="42"/>
                  </a:lnTo>
                  <a:lnTo>
                    <a:pt x="1563" y="31"/>
                  </a:lnTo>
                  <a:lnTo>
                    <a:pt x="1547" y="12"/>
                  </a:lnTo>
                  <a:lnTo>
                    <a:pt x="1576" y="20"/>
                  </a:lnTo>
                  <a:lnTo>
                    <a:pt x="1581" y="0"/>
                  </a:lnTo>
                  <a:lnTo>
                    <a:pt x="1560" y="1"/>
                  </a:lnTo>
                  <a:lnTo>
                    <a:pt x="1576" y="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597640" y="3443040"/>
              <a:ext cx="20520" cy="39240"/>
            </a:xfrm>
            <a:custGeom>
              <a:avLst/>
              <a:gdLst/>
              <a:ahLst/>
              <a:rect l="l" t="t" r="r" b="b"/>
              <a:pathLst>
                <a:path w="66" h="126">
                  <a:moveTo>
                    <a:pt x="18" y="84"/>
                  </a:moveTo>
                  <a:lnTo>
                    <a:pt x="39" y="102"/>
                  </a:lnTo>
                  <a:lnTo>
                    <a:pt x="43" y="90"/>
                  </a:lnTo>
                  <a:lnTo>
                    <a:pt x="46" y="79"/>
                  </a:lnTo>
                  <a:lnTo>
                    <a:pt x="50" y="67"/>
                  </a:lnTo>
                  <a:lnTo>
                    <a:pt x="54" y="56"/>
                  </a:lnTo>
                  <a:lnTo>
                    <a:pt x="57" y="43"/>
                  </a:lnTo>
                  <a:lnTo>
                    <a:pt x="60" y="31"/>
                  </a:lnTo>
                  <a:lnTo>
                    <a:pt x="64" y="20"/>
                  </a:lnTo>
                  <a:lnTo>
                    <a:pt x="66" y="8"/>
                  </a:lnTo>
                  <a:lnTo>
                    <a:pt x="37" y="0"/>
                  </a:lnTo>
                  <a:lnTo>
                    <a:pt x="34" y="13"/>
                  </a:lnTo>
                  <a:lnTo>
                    <a:pt x="32" y="24"/>
                  </a:lnTo>
                  <a:lnTo>
                    <a:pt x="28" y="35"/>
                  </a:lnTo>
                  <a:lnTo>
                    <a:pt x="24" y="46"/>
                  </a:lnTo>
                  <a:lnTo>
                    <a:pt x="21" y="58"/>
                  </a:lnTo>
                  <a:lnTo>
                    <a:pt x="17" y="69"/>
                  </a:lnTo>
                  <a:lnTo>
                    <a:pt x="13" y="81"/>
                  </a:lnTo>
                  <a:lnTo>
                    <a:pt x="9" y="92"/>
                  </a:lnTo>
                  <a:lnTo>
                    <a:pt x="30" y="111"/>
                  </a:lnTo>
                  <a:lnTo>
                    <a:pt x="9" y="92"/>
                  </a:lnTo>
                  <a:lnTo>
                    <a:pt x="0" y="126"/>
                  </a:lnTo>
                  <a:lnTo>
                    <a:pt x="30" y="111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603760" y="3344760"/>
              <a:ext cx="271440" cy="132840"/>
            </a:xfrm>
            <a:custGeom>
              <a:avLst/>
              <a:gdLst/>
              <a:ahLst/>
              <a:rect l="l" t="t" r="r" b="b"/>
              <a:pathLst>
                <a:path w="857" h="420">
                  <a:moveTo>
                    <a:pt x="837" y="3"/>
                  </a:moveTo>
                  <a:lnTo>
                    <a:pt x="822" y="0"/>
                  </a:lnTo>
                  <a:lnTo>
                    <a:pt x="0" y="393"/>
                  </a:lnTo>
                  <a:lnTo>
                    <a:pt x="12" y="420"/>
                  </a:lnTo>
                  <a:lnTo>
                    <a:pt x="835" y="29"/>
                  </a:lnTo>
                  <a:lnTo>
                    <a:pt x="837" y="3"/>
                  </a:lnTo>
                  <a:lnTo>
                    <a:pt x="835" y="29"/>
                  </a:lnTo>
                  <a:lnTo>
                    <a:pt x="857" y="18"/>
                  </a:lnTo>
                  <a:lnTo>
                    <a:pt x="83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667480" y="3201840"/>
              <a:ext cx="201600" cy="150480"/>
            </a:xfrm>
            <a:custGeom>
              <a:avLst/>
              <a:gdLst/>
              <a:ahLst/>
              <a:rect l="l" t="t" r="r" b="b"/>
              <a:pathLst>
                <a:path w="638" h="476">
                  <a:moveTo>
                    <a:pt x="4" y="3"/>
                  </a:moveTo>
                  <a:lnTo>
                    <a:pt x="0" y="30"/>
                  </a:lnTo>
                  <a:lnTo>
                    <a:pt x="620" y="476"/>
                  </a:lnTo>
                  <a:lnTo>
                    <a:pt x="638" y="453"/>
                  </a:lnTo>
                  <a:lnTo>
                    <a:pt x="19" y="5"/>
                  </a:lnTo>
                  <a:lnTo>
                    <a:pt x="4" y="3"/>
                  </a:lnTo>
                  <a:lnTo>
                    <a:pt x="19" y="5"/>
                  </a:lnTo>
                  <a:lnTo>
                    <a:pt x="11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5135400" y="3203280"/>
              <a:ext cx="536760" cy="217080"/>
            </a:xfrm>
            <a:custGeom>
              <a:avLst/>
              <a:gdLst/>
              <a:ahLst/>
              <a:rect l="l" t="t" r="r" b="b"/>
              <a:pathLst>
                <a:path w="1686" h="685">
                  <a:moveTo>
                    <a:pt x="24" y="684"/>
                  </a:moveTo>
                  <a:lnTo>
                    <a:pt x="38" y="685"/>
                  </a:lnTo>
                  <a:lnTo>
                    <a:pt x="1686" y="28"/>
                  </a:lnTo>
                  <a:lnTo>
                    <a:pt x="1675" y="0"/>
                  </a:lnTo>
                  <a:lnTo>
                    <a:pt x="27" y="657"/>
                  </a:lnTo>
                  <a:lnTo>
                    <a:pt x="24" y="684"/>
                  </a:lnTo>
                  <a:lnTo>
                    <a:pt x="27" y="657"/>
                  </a:lnTo>
                  <a:lnTo>
                    <a:pt x="0" y="668"/>
                  </a:lnTo>
                  <a:lnTo>
                    <a:pt x="24" y="6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5375160" y="3319200"/>
              <a:ext cx="150840" cy="85320"/>
            </a:xfrm>
            <a:custGeom>
              <a:avLst/>
              <a:gdLst/>
              <a:ahLst/>
              <a:rect l="l" t="t" r="r" b="b"/>
              <a:pathLst>
                <a:path w="476" h="266">
                  <a:moveTo>
                    <a:pt x="14" y="266"/>
                  </a:moveTo>
                  <a:lnTo>
                    <a:pt x="476" y="27"/>
                  </a:lnTo>
                  <a:lnTo>
                    <a:pt x="463" y="0"/>
                  </a:lnTo>
                  <a:lnTo>
                    <a:pt x="0" y="239"/>
                  </a:lnTo>
                  <a:lnTo>
                    <a:pt x="14" y="2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502240" y="3360600"/>
              <a:ext cx="98640" cy="53640"/>
            </a:xfrm>
            <a:custGeom>
              <a:avLst/>
              <a:gdLst/>
              <a:ahLst/>
              <a:rect l="l" t="t" r="r" b="b"/>
              <a:pathLst>
                <a:path w="313" h="171">
                  <a:moveTo>
                    <a:pt x="13" y="171"/>
                  </a:moveTo>
                  <a:lnTo>
                    <a:pt x="313" y="28"/>
                  </a:lnTo>
                  <a:lnTo>
                    <a:pt x="299" y="0"/>
                  </a:lnTo>
                  <a:lnTo>
                    <a:pt x="0" y="144"/>
                  </a:lnTo>
                  <a:lnTo>
                    <a:pt x="13" y="17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410080" y="3339720"/>
              <a:ext cx="141480" cy="88560"/>
            </a:xfrm>
            <a:custGeom>
              <a:avLst/>
              <a:gdLst/>
              <a:ahLst/>
              <a:rect l="l" t="t" r="r" b="b"/>
              <a:pathLst>
                <a:path w="444" h="281">
                  <a:moveTo>
                    <a:pt x="16" y="281"/>
                  </a:moveTo>
                  <a:lnTo>
                    <a:pt x="444" y="25"/>
                  </a:lnTo>
                  <a:lnTo>
                    <a:pt x="429" y="0"/>
                  </a:lnTo>
                  <a:lnTo>
                    <a:pt x="0" y="255"/>
                  </a:lnTo>
                  <a:lnTo>
                    <a:pt x="16" y="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594400" y="3242880"/>
              <a:ext cx="115920" cy="80640"/>
            </a:xfrm>
            <a:custGeom>
              <a:avLst/>
              <a:gdLst/>
              <a:ahLst/>
              <a:rect l="l" t="t" r="r" b="b"/>
              <a:pathLst>
                <a:path w="365" h="253">
                  <a:moveTo>
                    <a:pt x="207" y="0"/>
                  </a:moveTo>
                  <a:lnTo>
                    <a:pt x="0" y="96"/>
                  </a:lnTo>
                  <a:lnTo>
                    <a:pt x="207" y="253"/>
                  </a:lnTo>
                  <a:lnTo>
                    <a:pt x="365" y="145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b54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84680" y="3240000"/>
              <a:ext cx="77760" cy="37440"/>
            </a:xfrm>
            <a:custGeom>
              <a:avLst/>
              <a:gdLst/>
              <a:ahLst/>
              <a:rect l="l" t="t" r="r" b="b"/>
              <a:pathLst>
                <a:path w="243" h="123">
                  <a:moveTo>
                    <a:pt x="20" y="122"/>
                  </a:moveTo>
                  <a:lnTo>
                    <a:pt x="35" y="123"/>
                  </a:lnTo>
                  <a:lnTo>
                    <a:pt x="243" y="27"/>
                  </a:lnTo>
                  <a:lnTo>
                    <a:pt x="230" y="0"/>
                  </a:lnTo>
                  <a:lnTo>
                    <a:pt x="22" y="96"/>
                  </a:lnTo>
                  <a:lnTo>
                    <a:pt x="20" y="122"/>
                  </a:lnTo>
                  <a:lnTo>
                    <a:pt x="22" y="96"/>
                  </a:lnTo>
                  <a:lnTo>
                    <a:pt x="0" y="106"/>
                  </a:lnTo>
                  <a:lnTo>
                    <a:pt x="20" y="1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591160" y="3269880"/>
              <a:ext cx="71280" cy="60120"/>
            </a:xfrm>
            <a:custGeom>
              <a:avLst/>
              <a:gdLst/>
              <a:ahLst/>
              <a:rect l="l" t="t" r="r" b="b"/>
              <a:pathLst>
                <a:path w="225" h="189">
                  <a:moveTo>
                    <a:pt x="225" y="182"/>
                  </a:moveTo>
                  <a:lnTo>
                    <a:pt x="225" y="158"/>
                  </a:lnTo>
                  <a:lnTo>
                    <a:pt x="17" y="0"/>
                  </a:lnTo>
                  <a:lnTo>
                    <a:pt x="0" y="25"/>
                  </a:lnTo>
                  <a:lnTo>
                    <a:pt x="208" y="182"/>
                  </a:lnTo>
                  <a:lnTo>
                    <a:pt x="225" y="182"/>
                  </a:lnTo>
                  <a:lnTo>
                    <a:pt x="208" y="182"/>
                  </a:lnTo>
                  <a:lnTo>
                    <a:pt x="216" y="189"/>
                  </a:lnTo>
                  <a:lnTo>
                    <a:pt x="225" y="1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657760" y="3286080"/>
              <a:ext cx="60480" cy="4068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77" y="1"/>
                  </a:moveTo>
                  <a:lnTo>
                    <a:pt x="157" y="0"/>
                  </a:lnTo>
                  <a:lnTo>
                    <a:pt x="0" y="108"/>
                  </a:lnTo>
                  <a:lnTo>
                    <a:pt x="17" y="132"/>
                  </a:lnTo>
                  <a:lnTo>
                    <a:pt x="174" y="24"/>
                  </a:lnTo>
                  <a:lnTo>
                    <a:pt x="177" y="1"/>
                  </a:lnTo>
                  <a:lnTo>
                    <a:pt x="174" y="24"/>
                  </a:lnTo>
                  <a:lnTo>
                    <a:pt x="190" y="13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657760" y="3238200"/>
              <a:ext cx="55800" cy="55440"/>
            </a:xfrm>
            <a:custGeom>
              <a:avLst/>
              <a:gdLst/>
              <a:ahLst/>
              <a:rect l="l" t="t" r="r" b="b"/>
              <a:pathLst>
                <a:path w="178" h="175">
                  <a:moveTo>
                    <a:pt x="3" y="5"/>
                  </a:moveTo>
                  <a:lnTo>
                    <a:pt x="0" y="30"/>
                  </a:lnTo>
                  <a:lnTo>
                    <a:pt x="157" y="175"/>
                  </a:lnTo>
                  <a:lnTo>
                    <a:pt x="178" y="153"/>
                  </a:lnTo>
                  <a:lnTo>
                    <a:pt x="19" y="8"/>
                  </a:lnTo>
                  <a:lnTo>
                    <a:pt x="3" y="5"/>
                  </a:lnTo>
                  <a:lnTo>
                    <a:pt x="19" y="8"/>
                  </a:lnTo>
                  <a:lnTo>
                    <a:pt x="12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257720" y="3698640"/>
              <a:ext cx="233280" cy="272880"/>
            </a:xfrm>
            <a:custGeom>
              <a:avLst/>
              <a:gdLst/>
              <a:ahLst/>
              <a:rect l="l" t="t" r="r" b="b"/>
              <a:pathLst>
                <a:path w="733" h="857">
                  <a:moveTo>
                    <a:pt x="733" y="700"/>
                  </a:moveTo>
                  <a:lnTo>
                    <a:pt x="697" y="721"/>
                  </a:lnTo>
                  <a:lnTo>
                    <a:pt x="661" y="742"/>
                  </a:lnTo>
                  <a:lnTo>
                    <a:pt x="627" y="761"/>
                  </a:lnTo>
                  <a:lnTo>
                    <a:pt x="590" y="782"/>
                  </a:lnTo>
                  <a:lnTo>
                    <a:pt x="554" y="801"/>
                  </a:lnTo>
                  <a:lnTo>
                    <a:pt x="519" y="820"/>
                  </a:lnTo>
                  <a:lnTo>
                    <a:pt x="483" y="839"/>
                  </a:lnTo>
                  <a:lnTo>
                    <a:pt x="446" y="857"/>
                  </a:lnTo>
                  <a:lnTo>
                    <a:pt x="397" y="775"/>
                  </a:lnTo>
                  <a:lnTo>
                    <a:pt x="345" y="692"/>
                  </a:lnTo>
                  <a:lnTo>
                    <a:pt x="292" y="609"/>
                  </a:lnTo>
                  <a:lnTo>
                    <a:pt x="237" y="525"/>
                  </a:lnTo>
                  <a:lnTo>
                    <a:pt x="180" y="441"/>
                  </a:lnTo>
                  <a:lnTo>
                    <a:pt x="121" y="358"/>
                  </a:lnTo>
                  <a:lnTo>
                    <a:pt x="61" y="275"/>
                  </a:lnTo>
                  <a:lnTo>
                    <a:pt x="0" y="192"/>
                  </a:lnTo>
                  <a:lnTo>
                    <a:pt x="323" y="0"/>
                  </a:lnTo>
                  <a:lnTo>
                    <a:pt x="733" y="700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395960" y="3917880"/>
              <a:ext cx="96840" cy="59760"/>
            </a:xfrm>
            <a:custGeom>
              <a:avLst/>
              <a:gdLst/>
              <a:ahLst/>
              <a:rect l="l" t="t" r="r" b="b"/>
              <a:pathLst>
                <a:path w="307" h="191">
                  <a:moveTo>
                    <a:pt x="0" y="179"/>
                  </a:moveTo>
                  <a:lnTo>
                    <a:pt x="19" y="184"/>
                  </a:lnTo>
                  <a:lnTo>
                    <a:pt x="56" y="165"/>
                  </a:lnTo>
                  <a:lnTo>
                    <a:pt x="93" y="147"/>
                  </a:lnTo>
                  <a:lnTo>
                    <a:pt x="129" y="127"/>
                  </a:lnTo>
                  <a:lnTo>
                    <a:pt x="164" y="107"/>
                  </a:lnTo>
                  <a:lnTo>
                    <a:pt x="200" y="88"/>
                  </a:lnTo>
                  <a:lnTo>
                    <a:pt x="237" y="67"/>
                  </a:lnTo>
                  <a:lnTo>
                    <a:pt x="271" y="47"/>
                  </a:lnTo>
                  <a:lnTo>
                    <a:pt x="307" y="26"/>
                  </a:lnTo>
                  <a:lnTo>
                    <a:pt x="292" y="0"/>
                  </a:lnTo>
                  <a:lnTo>
                    <a:pt x="257" y="21"/>
                  </a:lnTo>
                  <a:lnTo>
                    <a:pt x="221" y="41"/>
                  </a:lnTo>
                  <a:lnTo>
                    <a:pt x="187" y="62"/>
                  </a:lnTo>
                  <a:lnTo>
                    <a:pt x="151" y="82"/>
                  </a:lnTo>
                  <a:lnTo>
                    <a:pt x="115" y="101"/>
                  </a:lnTo>
                  <a:lnTo>
                    <a:pt x="78" y="120"/>
                  </a:lnTo>
                  <a:lnTo>
                    <a:pt x="43" y="139"/>
                  </a:lnTo>
                  <a:lnTo>
                    <a:pt x="7" y="158"/>
                  </a:lnTo>
                  <a:lnTo>
                    <a:pt x="27" y="163"/>
                  </a:lnTo>
                  <a:lnTo>
                    <a:pt x="0" y="179"/>
                  </a:lnTo>
                  <a:lnTo>
                    <a:pt x="7" y="191"/>
                  </a:lnTo>
                  <a:lnTo>
                    <a:pt x="19" y="184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51240" y="3755880"/>
              <a:ext cx="152640" cy="217080"/>
            </a:xfrm>
            <a:custGeom>
              <a:avLst/>
              <a:gdLst/>
              <a:ahLst/>
              <a:rect l="l" t="t" r="r" b="b"/>
              <a:pathLst>
                <a:path w="482" h="687">
                  <a:moveTo>
                    <a:pt x="14" y="0"/>
                  </a:moveTo>
                  <a:lnTo>
                    <a:pt x="11" y="23"/>
                  </a:lnTo>
                  <a:lnTo>
                    <a:pt x="71" y="105"/>
                  </a:lnTo>
                  <a:lnTo>
                    <a:pt x="131" y="187"/>
                  </a:lnTo>
                  <a:lnTo>
                    <a:pt x="190" y="271"/>
                  </a:lnTo>
                  <a:lnTo>
                    <a:pt x="247" y="355"/>
                  </a:lnTo>
                  <a:lnTo>
                    <a:pt x="302" y="438"/>
                  </a:lnTo>
                  <a:lnTo>
                    <a:pt x="355" y="521"/>
                  </a:lnTo>
                  <a:lnTo>
                    <a:pt x="407" y="604"/>
                  </a:lnTo>
                  <a:lnTo>
                    <a:pt x="455" y="687"/>
                  </a:lnTo>
                  <a:lnTo>
                    <a:pt x="482" y="671"/>
                  </a:lnTo>
                  <a:lnTo>
                    <a:pt x="433" y="588"/>
                  </a:lnTo>
                  <a:lnTo>
                    <a:pt x="381" y="505"/>
                  </a:lnTo>
                  <a:lnTo>
                    <a:pt x="327" y="421"/>
                  </a:lnTo>
                  <a:lnTo>
                    <a:pt x="271" y="337"/>
                  </a:lnTo>
                  <a:lnTo>
                    <a:pt x="215" y="254"/>
                  </a:lnTo>
                  <a:lnTo>
                    <a:pt x="156" y="170"/>
                  </a:lnTo>
                  <a:lnTo>
                    <a:pt x="95" y="87"/>
                  </a:lnTo>
                  <a:lnTo>
                    <a:pt x="34" y="4"/>
                  </a:lnTo>
                  <a:lnTo>
                    <a:pt x="29" y="26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1" y="2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55920" y="3692160"/>
              <a:ext cx="108000" cy="7128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343" y="13"/>
                  </a:moveTo>
                  <a:lnTo>
                    <a:pt x="323" y="9"/>
                  </a:lnTo>
                  <a:lnTo>
                    <a:pt x="0" y="200"/>
                  </a:lnTo>
                  <a:lnTo>
                    <a:pt x="15" y="226"/>
                  </a:lnTo>
                  <a:lnTo>
                    <a:pt x="339" y="34"/>
                  </a:lnTo>
                  <a:lnTo>
                    <a:pt x="343" y="13"/>
                  </a:lnTo>
                  <a:lnTo>
                    <a:pt x="343" y="13"/>
                  </a:lnTo>
                  <a:lnTo>
                    <a:pt x="336" y="0"/>
                  </a:lnTo>
                  <a:lnTo>
                    <a:pt x="323" y="9"/>
                  </a:lnTo>
                  <a:lnTo>
                    <a:pt x="343" y="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356000" y="3697200"/>
              <a:ext cx="141480" cy="228240"/>
            </a:xfrm>
            <a:custGeom>
              <a:avLst/>
              <a:gdLst/>
              <a:ahLst/>
              <a:rect l="l" t="t" r="r" b="b"/>
              <a:pathLst>
                <a:path w="444" h="721">
                  <a:moveTo>
                    <a:pt x="430" y="721"/>
                  </a:moveTo>
                  <a:lnTo>
                    <a:pt x="436" y="700"/>
                  </a:lnTo>
                  <a:lnTo>
                    <a:pt x="25" y="0"/>
                  </a:lnTo>
                  <a:lnTo>
                    <a:pt x="0" y="15"/>
                  </a:lnTo>
                  <a:lnTo>
                    <a:pt x="410" y="715"/>
                  </a:lnTo>
                  <a:lnTo>
                    <a:pt x="430" y="721"/>
                  </a:lnTo>
                  <a:lnTo>
                    <a:pt x="430" y="721"/>
                  </a:lnTo>
                  <a:lnTo>
                    <a:pt x="444" y="714"/>
                  </a:lnTo>
                  <a:lnTo>
                    <a:pt x="436" y="700"/>
                  </a:lnTo>
                  <a:lnTo>
                    <a:pt x="430" y="7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387680" y="3717720"/>
              <a:ext cx="154080" cy="198000"/>
            </a:xfrm>
            <a:custGeom>
              <a:avLst/>
              <a:gdLst/>
              <a:ahLst/>
              <a:rect l="l" t="t" r="r" b="b"/>
              <a:pathLst>
                <a:path w="485" h="623">
                  <a:moveTo>
                    <a:pt x="0" y="50"/>
                  </a:moveTo>
                  <a:lnTo>
                    <a:pt x="84" y="0"/>
                  </a:lnTo>
                  <a:lnTo>
                    <a:pt x="485" y="510"/>
                  </a:lnTo>
                  <a:lnTo>
                    <a:pt x="292" y="623"/>
                  </a:lnTo>
                  <a:lnTo>
                    <a:pt x="282" y="599"/>
                  </a:lnTo>
                  <a:lnTo>
                    <a:pt x="254" y="538"/>
                  </a:lnTo>
                  <a:lnTo>
                    <a:pt x="212" y="451"/>
                  </a:lnTo>
                  <a:lnTo>
                    <a:pt x="164" y="348"/>
                  </a:lnTo>
                  <a:lnTo>
                    <a:pt x="114" y="245"/>
                  </a:lnTo>
                  <a:lnTo>
                    <a:pt x="66" y="153"/>
                  </a:lnTo>
                  <a:lnTo>
                    <a:pt x="45" y="115"/>
                  </a:lnTo>
                  <a:lnTo>
                    <a:pt x="27" y="84"/>
                  </a:lnTo>
                  <a:lnTo>
                    <a:pt x="18" y="72"/>
                  </a:lnTo>
                  <a:lnTo>
                    <a:pt x="12" y="62"/>
                  </a:lnTo>
                  <a:lnTo>
                    <a:pt x="5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46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384800" y="3713040"/>
              <a:ext cx="33120" cy="2484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105" y="11"/>
                  </a:moveTo>
                  <a:lnTo>
                    <a:pt x="85" y="7"/>
                  </a:lnTo>
                  <a:lnTo>
                    <a:pt x="0" y="55"/>
                  </a:lnTo>
                  <a:lnTo>
                    <a:pt x="15" y="81"/>
                  </a:lnTo>
                  <a:lnTo>
                    <a:pt x="100" y="33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96" y="0"/>
                  </a:lnTo>
                  <a:lnTo>
                    <a:pt x="85" y="7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410000" y="3716280"/>
              <a:ext cx="138240" cy="167760"/>
            </a:xfrm>
            <a:custGeom>
              <a:avLst/>
              <a:gdLst/>
              <a:ahLst/>
              <a:rect l="l" t="t" r="r" b="b"/>
              <a:pathLst>
                <a:path w="435" h="531">
                  <a:moveTo>
                    <a:pt x="420" y="531"/>
                  </a:moveTo>
                  <a:lnTo>
                    <a:pt x="424" y="509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400" y="527"/>
                  </a:lnTo>
                  <a:lnTo>
                    <a:pt x="420" y="531"/>
                  </a:lnTo>
                  <a:lnTo>
                    <a:pt x="420" y="531"/>
                  </a:lnTo>
                  <a:lnTo>
                    <a:pt x="435" y="523"/>
                  </a:lnTo>
                  <a:lnTo>
                    <a:pt x="424" y="509"/>
                  </a:lnTo>
                  <a:lnTo>
                    <a:pt x="420" y="5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475160" y="3876480"/>
              <a:ext cx="68400" cy="45720"/>
            </a:xfrm>
            <a:custGeom>
              <a:avLst/>
              <a:gdLst/>
              <a:ahLst/>
              <a:rect l="l" t="t" r="r" b="b"/>
              <a:pathLst>
                <a:path w="214" h="148">
                  <a:moveTo>
                    <a:pt x="0" y="132"/>
                  </a:moveTo>
                  <a:lnTo>
                    <a:pt x="21" y="139"/>
                  </a:lnTo>
                  <a:lnTo>
                    <a:pt x="214" y="26"/>
                  </a:lnTo>
                  <a:lnTo>
                    <a:pt x="198" y="0"/>
                  </a:lnTo>
                  <a:lnTo>
                    <a:pt x="6" y="113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48"/>
                  </a:lnTo>
                  <a:lnTo>
                    <a:pt x="21" y="1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78320" y="3730320"/>
              <a:ext cx="106200" cy="187200"/>
            </a:xfrm>
            <a:custGeom>
              <a:avLst/>
              <a:gdLst/>
              <a:ahLst/>
              <a:rect l="l" t="t" r="r" b="b"/>
              <a:pathLst>
                <a:path w="335" h="593">
                  <a:moveTo>
                    <a:pt x="21" y="0"/>
                  </a:moveTo>
                  <a:lnTo>
                    <a:pt x="20" y="26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2" y="55"/>
                  </a:lnTo>
                  <a:lnTo>
                    <a:pt x="61" y="86"/>
                  </a:lnTo>
                  <a:lnTo>
                    <a:pt x="81" y="124"/>
                  </a:lnTo>
                  <a:lnTo>
                    <a:pt x="129" y="217"/>
                  </a:lnTo>
                  <a:lnTo>
                    <a:pt x="180" y="319"/>
                  </a:lnTo>
                  <a:lnTo>
                    <a:pt x="228" y="421"/>
                  </a:lnTo>
                  <a:lnTo>
                    <a:pt x="270" y="508"/>
                  </a:lnTo>
                  <a:lnTo>
                    <a:pt x="298" y="570"/>
                  </a:lnTo>
                  <a:lnTo>
                    <a:pt x="308" y="593"/>
                  </a:lnTo>
                  <a:lnTo>
                    <a:pt x="335" y="581"/>
                  </a:lnTo>
                  <a:lnTo>
                    <a:pt x="325" y="557"/>
                  </a:lnTo>
                  <a:lnTo>
                    <a:pt x="297" y="496"/>
                  </a:lnTo>
                  <a:lnTo>
                    <a:pt x="255" y="408"/>
                  </a:lnTo>
                  <a:lnTo>
                    <a:pt x="207" y="306"/>
                  </a:lnTo>
                  <a:lnTo>
                    <a:pt x="157" y="203"/>
                  </a:lnTo>
                  <a:lnTo>
                    <a:pt x="109" y="110"/>
                  </a:lnTo>
                  <a:lnTo>
                    <a:pt x="88" y="71"/>
                  </a:lnTo>
                  <a:lnTo>
                    <a:pt x="68" y="39"/>
                  </a:lnTo>
                  <a:lnTo>
                    <a:pt x="59" y="27"/>
                  </a:lnTo>
                  <a:lnTo>
                    <a:pt x="52" y="16"/>
                  </a:lnTo>
                  <a:lnTo>
                    <a:pt x="45" y="7"/>
                  </a:lnTo>
                  <a:lnTo>
                    <a:pt x="37" y="1"/>
                  </a:lnTo>
                  <a:lnTo>
                    <a:pt x="36" y="26"/>
                  </a:lnTo>
                  <a:lnTo>
                    <a:pt x="21" y="0"/>
                  </a:lnTo>
                  <a:lnTo>
                    <a:pt x="0" y="12"/>
                  </a:lnTo>
                  <a:lnTo>
                    <a:pt x="2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419720" y="3539880"/>
              <a:ext cx="506160" cy="345600"/>
            </a:xfrm>
            <a:custGeom>
              <a:avLst/>
              <a:gdLst/>
              <a:ahLst/>
              <a:rect l="l" t="t" r="r" b="b"/>
              <a:pathLst>
                <a:path w="1598" h="1092">
                  <a:moveTo>
                    <a:pt x="400" y="1092"/>
                  </a:moveTo>
                  <a:lnTo>
                    <a:pt x="506" y="1023"/>
                  </a:lnTo>
                  <a:lnTo>
                    <a:pt x="614" y="953"/>
                  </a:lnTo>
                  <a:lnTo>
                    <a:pt x="724" y="883"/>
                  </a:lnTo>
                  <a:lnTo>
                    <a:pt x="836" y="812"/>
                  </a:lnTo>
                  <a:lnTo>
                    <a:pt x="893" y="777"/>
                  </a:lnTo>
                  <a:lnTo>
                    <a:pt x="952" y="743"/>
                  </a:lnTo>
                  <a:lnTo>
                    <a:pt x="1012" y="708"/>
                  </a:lnTo>
                  <a:lnTo>
                    <a:pt x="1073" y="675"/>
                  </a:lnTo>
                  <a:lnTo>
                    <a:pt x="1135" y="643"/>
                  </a:lnTo>
                  <a:lnTo>
                    <a:pt x="1198" y="610"/>
                  </a:lnTo>
                  <a:lnTo>
                    <a:pt x="1264" y="579"/>
                  </a:lnTo>
                  <a:lnTo>
                    <a:pt x="1330" y="548"/>
                  </a:lnTo>
                  <a:lnTo>
                    <a:pt x="1223" y="249"/>
                  </a:lnTo>
                  <a:lnTo>
                    <a:pt x="1598" y="192"/>
                  </a:lnTo>
                  <a:lnTo>
                    <a:pt x="1598" y="0"/>
                  </a:lnTo>
                  <a:lnTo>
                    <a:pt x="564" y="120"/>
                  </a:lnTo>
                  <a:lnTo>
                    <a:pt x="144" y="120"/>
                  </a:lnTo>
                  <a:lnTo>
                    <a:pt x="0" y="358"/>
                  </a:lnTo>
                  <a:lnTo>
                    <a:pt x="32" y="598"/>
                  </a:lnTo>
                  <a:lnTo>
                    <a:pt x="400" y="1092"/>
                  </a:lnTo>
                  <a:close/>
                </a:path>
              </a:pathLst>
            </a:custGeom>
            <a:solidFill>
              <a:srgbClr val="8d5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541760" y="3705120"/>
              <a:ext cx="311400" cy="188280"/>
            </a:xfrm>
            <a:custGeom>
              <a:avLst/>
              <a:gdLst/>
              <a:ahLst/>
              <a:rect l="l" t="t" r="r" b="b"/>
              <a:pathLst>
                <a:path w="980" h="591">
                  <a:moveTo>
                    <a:pt x="919" y="34"/>
                  </a:moveTo>
                  <a:lnTo>
                    <a:pt x="934" y="0"/>
                  </a:lnTo>
                  <a:lnTo>
                    <a:pt x="868" y="31"/>
                  </a:lnTo>
                  <a:lnTo>
                    <a:pt x="801" y="63"/>
                  </a:lnTo>
                  <a:lnTo>
                    <a:pt x="737" y="94"/>
                  </a:lnTo>
                  <a:lnTo>
                    <a:pt x="674" y="128"/>
                  </a:lnTo>
                  <a:lnTo>
                    <a:pt x="613" y="161"/>
                  </a:lnTo>
                  <a:lnTo>
                    <a:pt x="554" y="195"/>
                  </a:lnTo>
                  <a:lnTo>
                    <a:pt x="495" y="230"/>
                  </a:lnTo>
                  <a:lnTo>
                    <a:pt x="437" y="265"/>
                  </a:lnTo>
                  <a:lnTo>
                    <a:pt x="324" y="336"/>
                  </a:lnTo>
                  <a:lnTo>
                    <a:pt x="214" y="407"/>
                  </a:lnTo>
                  <a:lnTo>
                    <a:pt x="106" y="477"/>
                  </a:lnTo>
                  <a:lnTo>
                    <a:pt x="0" y="546"/>
                  </a:lnTo>
                  <a:lnTo>
                    <a:pt x="30" y="591"/>
                  </a:lnTo>
                  <a:lnTo>
                    <a:pt x="137" y="523"/>
                  </a:lnTo>
                  <a:lnTo>
                    <a:pt x="244" y="452"/>
                  </a:lnTo>
                  <a:lnTo>
                    <a:pt x="353" y="381"/>
                  </a:lnTo>
                  <a:lnTo>
                    <a:pt x="465" y="311"/>
                  </a:lnTo>
                  <a:lnTo>
                    <a:pt x="522" y="277"/>
                  </a:lnTo>
                  <a:lnTo>
                    <a:pt x="581" y="242"/>
                  </a:lnTo>
                  <a:lnTo>
                    <a:pt x="640" y="209"/>
                  </a:lnTo>
                  <a:lnTo>
                    <a:pt x="700" y="176"/>
                  </a:lnTo>
                  <a:lnTo>
                    <a:pt x="762" y="142"/>
                  </a:lnTo>
                  <a:lnTo>
                    <a:pt x="826" y="110"/>
                  </a:lnTo>
                  <a:lnTo>
                    <a:pt x="890" y="80"/>
                  </a:lnTo>
                  <a:lnTo>
                    <a:pt x="956" y="50"/>
                  </a:lnTo>
                  <a:lnTo>
                    <a:pt x="971" y="16"/>
                  </a:lnTo>
                  <a:lnTo>
                    <a:pt x="956" y="50"/>
                  </a:lnTo>
                  <a:lnTo>
                    <a:pt x="980" y="39"/>
                  </a:lnTo>
                  <a:lnTo>
                    <a:pt x="971" y="16"/>
                  </a:lnTo>
                  <a:lnTo>
                    <a:pt x="919" y="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795920" y="3609720"/>
              <a:ext cx="54000" cy="106200"/>
            </a:xfrm>
            <a:custGeom>
              <a:avLst/>
              <a:gdLst/>
              <a:ahLst/>
              <a:rect l="l" t="t" r="r" b="b"/>
              <a:pathLst>
                <a:path w="170" h="336">
                  <a:moveTo>
                    <a:pt x="32" y="0"/>
                  </a:moveTo>
                  <a:lnTo>
                    <a:pt x="11" y="36"/>
                  </a:lnTo>
                  <a:lnTo>
                    <a:pt x="118" y="336"/>
                  </a:lnTo>
                  <a:lnTo>
                    <a:pt x="170" y="318"/>
                  </a:lnTo>
                  <a:lnTo>
                    <a:pt x="62" y="1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5"/>
                  </a:lnTo>
                  <a:lnTo>
                    <a:pt x="11" y="3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805280" y="3592440"/>
              <a:ext cx="130320" cy="3456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407" y="27"/>
                  </a:moveTo>
                  <a:lnTo>
                    <a:pt x="377" y="0"/>
                  </a:lnTo>
                  <a:lnTo>
                    <a:pt x="0" y="57"/>
                  </a:lnTo>
                  <a:lnTo>
                    <a:pt x="9" y="112"/>
                  </a:lnTo>
                  <a:lnTo>
                    <a:pt x="384" y="54"/>
                  </a:lnTo>
                  <a:lnTo>
                    <a:pt x="407" y="27"/>
                  </a:lnTo>
                  <a:lnTo>
                    <a:pt x="384" y="54"/>
                  </a:lnTo>
                  <a:lnTo>
                    <a:pt x="407" y="50"/>
                  </a:lnTo>
                  <a:lnTo>
                    <a:pt x="407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917960" y="3528720"/>
              <a:ext cx="17640" cy="71280"/>
            </a:xfrm>
            <a:custGeom>
              <a:avLst/>
              <a:gdLst/>
              <a:ahLst/>
              <a:rect l="l" t="t" r="r" b="b"/>
              <a:pathLst>
                <a:path w="54" h="223">
                  <a:moveTo>
                    <a:pt x="25" y="4"/>
                  </a:moveTo>
                  <a:lnTo>
                    <a:pt x="0" y="31"/>
                  </a:lnTo>
                  <a:lnTo>
                    <a:pt x="0" y="223"/>
                  </a:lnTo>
                  <a:lnTo>
                    <a:pt x="54" y="223"/>
                  </a:lnTo>
                  <a:lnTo>
                    <a:pt x="54" y="31"/>
                  </a:lnTo>
                  <a:lnTo>
                    <a:pt x="25" y="4"/>
                  </a:lnTo>
                  <a:lnTo>
                    <a:pt x="54" y="31"/>
                  </a:lnTo>
                  <a:lnTo>
                    <a:pt x="54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597560" y="3530520"/>
              <a:ext cx="330120" cy="55080"/>
            </a:xfrm>
            <a:custGeom>
              <a:avLst/>
              <a:gdLst/>
              <a:ahLst/>
              <a:rect l="l" t="t" r="r" b="b"/>
              <a:pathLst>
                <a:path w="1041" h="174">
                  <a:moveTo>
                    <a:pt x="3" y="174"/>
                  </a:moveTo>
                  <a:lnTo>
                    <a:pt x="6" y="174"/>
                  </a:lnTo>
                  <a:lnTo>
                    <a:pt x="1041" y="54"/>
                  </a:lnTo>
                  <a:lnTo>
                    <a:pt x="1035" y="0"/>
                  </a:lnTo>
                  <a:lnTo>
                    <a:pt x="0" y="120"/>
                  </a:lnTo>
                  <a:lnTo>
                    <a:pt x="3" y="174"/>
                  </a:lnTo>
                  <a:lnTo>
                    <a:pt x="3" y="174"/>
                  </a:lnTo>
                  <a:lnTo>
                    <a:pt x="5" y="174"/>
                  </a:lnTo>
                  <a:lnTo>
                    <a:pt x="6" y="174"/>
                  </a:lnTo>
                  <a:lnTo>
                    <a:pt x="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457880" y="3568320"/>
              <a:ext cx="139680" cy="17280"/>
            </a:xfrm>
            <a:custGeom>
              <a:avLst/>
              <a:gdLst/>
              <a:ahLst/>
              <a:rect l="l" t="t" r="r" b="b"/>
              <a:pathLst>
                <a:path w="443" h="55">
                  <a:moveTo>
                    <a:pt x="0" y="14"/>
                  </a:moveTo>
                  <a:lnTo>
                    <a:pt x="23" y="55"/>
                  </a:lnTo>
                  <a:lnTo>
                    <a:pt x="443" y="55"/>
                  </a:lnTo>
                  <a:lnTo>
                    <a:pt x="443" y="0"/>
                  </a:lnTo>
                  <a:lnTo>
                    <a:pt x="23" y="0"/>
                  </a:lnTo>
                  <a:lnTo>
                    <a:pt x="0" y="14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410000" y="3573360"/>
              <a:ext cx="61920" cy="83520"/>
            </a:xfrm>
            <a:custGeom>
              <a:avLst/>
              <a:gdLst/>
              <a:ahLst/>
              <a:rect l="l" t="t" r="r" b="b"/>
              <a:pathLst>
                <a:path w="196" h="266">
                  <a:moveTo>
                    <a:pt x="1" y="255"/>
                  </a:moveTo>
                  <a:lnTo>
                    <a:pt x="52" y="266"/>
                  </a:lnTo>
                  <a:lnTo>
                    <a:pt x="196" y="28"/>
                  </a:lnTo>
                  <a:lnTo>
                    <a:pt x="149" y="0"/>
                  </a:lnTo>
                  <a:lnTo>
                    <a:pt x="5" y="238"/>
                  </a:lnTo>
                  <a:lnTo>
                    <a:pt x="1" y="255"/>
                  </a:lnTo>
                  <a:lnTo>
                    <a:pt x="5" y="238"/>
                  </a:lnTo>
                  <a:lnTo>
                    <a:pt x="0" y="247"/>
                  </a:lnTo>
                  <a:lnTo>
                    <a:pt x="1" y="25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410000" y="3651120"/>
              <a:ext cx="27000" cy="82080"/>
            </a:xfrm>
            <a:custGeom>
              <a:avLst/>
              <a:gdLst/>
              <a:ahLst/>
              <a:rect l="l" t="t" r="r" b="b"/>
              <a:pathLst>
                <a:path w="86" h="260">
                  <a:moveTo>
                    <a:pt x="37" y="260"/>
                  </a:moveTo>
                  <a:lnTo>
                    <a:pt x="86" y="240"/>
                  </a:lnTo>
                  <a:lnTo>
                    <a:pt x="55" y="0"/>
                  </a:lnTo>
                  <a:lnTo>
                    <a:pt x="0" y="7"/>
                  </a:lnTo>
                  <a:lnTo>
                    <a:pt x="32" y="247"/>
                  </a:lnTo>
                  <a:lnTo>
                    <a:pt x="37" y="260"/>
                  </a:lnTo>
                  <a:lnTo>
                    <a:pt x="32" y="247"/>
                  </a:lnTo>
                  <a:lnTo>
                    <a:pt x="32" y="255"/>
                  </a:lnTo>
                  <a:lnTo>
                    <a:pt x="37" y="2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422600" y="3724200"/>
              <a:ext cx="130320" cy="172440"/>
            </a:xfrm>
            <a:custGeom>
              <a:avLst/>
              <a:gdLst/>
              <a:ahLst/>
              <a:rect l="l" t="t" r="r" b="b"/>
              <a:pathLst>
                <a:path w="412" h="547">
                  <a:moveTo>
                    <a:pt x="405" y="533"/>
                  </a:moveTo>
                  <a:lnTo>
                    <a:pt x="412" y="494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369" y="527"/>
                  </a:lnTo>
                  <a:lnTo>
                    <a:pt x="405" y="533"/>
                  </a:lnTo>
                  <a:lnTo>
                    <a:pt x="369" y="527"/>
                  </a:lnTo>
                  <a:lnTo>
                    <a:pt x="384" y="547"/>
                  </a:lnTo>
                  <a:lnTo>
                    <a:pt x="405" y="53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700520" y="3668400"/>
              <a:ext cx="123840" cy="50400"/>
            </a:xfrm>
            <a:custGeom>
              <a:avLst/>
              <a:gdLst/>
              <a:ahLst/>
              <a:rect l="l" t="t" r="r" b="b"/>
              <a:pathLst>
                <a:path w="386" h="161">
                  <a:moveTo>
                    <a:pt x="0" y="149"/>
                  </a:moveTo>
                  <a:lnTo>
                    <a:pt x="19" y="156"/>
                  </a:lnTo>
                  <a:lnTo>
                    <a:pt x="386" y="28"/>
                  </a:lnTo>
                  <a:lnTo>
                    <a:pt x="376" y="0"/>
                  </a:lnTo>
                  <a:lnTo>
                    <a:pt x="9" y="128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6" y="161"/>
                  </a:lnTo>
                  <a:lnTo>
                    <a:pt x="19" y="156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680000" y="3665160"/>
              <a:ext cx="30240" cy="5076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" y="0"/>
                  </a:moveTo>
                  <a:lnTo>
                    <a:pt x="5" y="18"/>
                  </a:lnTo>
                  <a:lnTo>
                    <a:pt x="69" y="162"/>
                  </a:lnTo>
                  <a:lnTo>
                    <a:pt x="97" y="150"/>
                  </a:lnTo>
                  <a:lnTo>
                    <a:pt x="32" y="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6"/>
                  </a:lnTo>
                  <a:lnTo>
                    <a:pt x="5" y="1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681440" y="3617640"/>
              <a:ext cx="88920" cy="53640"/>
            </a:xfrm>
            <a:custGeom>
              <a:avLst/>
              <a:gdLst/>
              <a:ahLst/>
              <a:rect l="l" t="t" r="r" b="b"/>
              <a:pathLst>
                <a:path w="278" h="171">
                  <a:moveTo>
                    <a:pt x="234" y="0"/>
                  </a:moveTo>
                  <a:lnTo>
                    <a:pt x="224" y="3"/>
                  </a:lnTo>
                  <a:lnTo>
                    <a:pt x="0" y="147"/>
                  </a:lnTo>
                  <a:lnTo>
                    <a:pt x="18" y="171"/>
                  </a:lnTo>
                  <a:lnTo>
                    <a:pt x="242" y="29"/>
                  </a:lnTo>
                  <a:lnTo>
                    <a:pt x="234" y="0"/>
                  </a:lnTo>
                  <a:lnTo>
                    <a:pt x="242" y="29"/>
                  </a:lnTo>
                  <a:lnTo>
                    <a:pt x="278" y="4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684680" y="3612960"/>
              <a:ext cx="71640" cy="14040"/>
            </a:xfrm>
            <a:custGeom>
              <a:avLst/>
              <a:gdLst/>
              <a:ahLst/>
              <a:rect l="l" t="t" r="r" b="b"/>
              <a:pathLst>
                <a:path w="226" h="46">
                  <a:moveTo>
                    <a:pt x="0" y="31"/>
                  </a:moveTo>
                  <a:lnTo>
                    <a:pt x="224" y="46"/>
                  </a:lnTo>
                  <a:lnTo>
                    <a:pt x="226" y="16"/>
                  </a:lnTo>
                  <a:lnTo>
                    <a:pt x="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570560" y="3587400"/>
              <a:ext cx="9360" cy="6012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13" y="192"/>
                  </a:moveTo>
                  <a:lnTo>
                    <a:pt x="29" y="17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13" y="192"/>
                  </a:lnTo>
                  <a:lnTo>
                    <a:pt x="13" y="192"/>
                  </a:lnTo>
                  <a:lnTo>
                    <a:pt x="29" y="193"/>
                  </a:lnTo>
                  <a:lnTo>
                    <a:pt x="29" y="177"/>
                  </a:lnTo>
                  <a:lnTo>
                    <a:pt x="13" y="19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503600" y="3632040"/>
              <a:ext cx="71640" cy="15480"/>
            </a:xfrm>
            <a:custGeom>
              <a:avLst/>
              <a:gdLst/>
              <a:ahLst/>
              <a:rect l="l" t="t" r="r" b="b"/>
              <a:pathLst>
                <a:path w="225" h="49">
                  <a:moveTo>
                    <a:pt x="0" y="30"/>
                  </a:moveTo>
                  <a:lnTo>
                    <a:pt x="222" y="49"/>
                  </a:lnTo>
                  <a:lnTo>
                    <a:pt x="225" y="18"/>
                  </a:lnTo>
                  <a:lnTo>
                    <a:pt x="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727440" y="3481200"/>
              <a:ext cx="290520" cy="272520"/>
            </a:xfrm>
            <a:custGeom>
              <a:avLst/>
              <a:gdLst/>
              <a:ahLst/>
              <a:rect l="l" t="t" r="r" b="b"/>
              <a:pathLst>
                <a:path w="915" h="860">
                  <a:moveTo>
                    <a:pt x="48" y="852"/>
                  </a:moveTo>
                  <a:lnTo>
                    <a:pt x="41" y="823"/>
                  </a:lnTo>
                  <a:lnTo>
                    <a:pt x="37" y="792"/>
                  </a:lnTo>
                  <a:lnTo>
                    <a:pt x="33" y="764"/>
                  </a:lnTo>
                  <a:lnTo>
                    <a:pt x="30" y="736"/>
                  </a:lnTo>
                  <a:lnTo>
                    <a:pt x="29" y="707"/>
                  </a:lnTo>
                  <a:lnTo>
                    <a:pt x="29" y="680"/>
                  </a:lnTo>
                  <a:lnTo>
                    <a:pt x="32" y="653"/>
                  </a:lnTo>
                  <a:lnTo>
                    <a:pt x="34" y="627"/>
                  </a:lnTo>
                  <a:lnTo>
                    <a:pt x="38" y="601"/>
                  </a:lnTo>
                  <a:lnTo>
                    <a:pt x="43" y="577"/>
                  </a:lnTo>
                  <a:lnTo>
                    <a:pt x="49" y="553"/>
                  </a:lnTo>
                  <a:lnTo>
                    <a:pt x="56" y="529"/>
                  </a:lnTo>
                  <a:lnTo>
                    <a:pt x="65" y="507"/>
                  </a:lnTo>
                  <a:lnTo>
                    <a:pt x="73" y="483"/>
                  </a:lnTo>
                  <a:lnTo>
                    <a:pt x="83" y="462"/>
                  </a:lnTo>
                  <a:lnTo>
                    <a:pt x="94" y="440"/>
                  </a:lnTo>
                  <a:lnTo>
                    <a:pt x="107" y="421"/>
                  </a:lnTo>
                  <a:lnTo>
                    <a:pt x="119" y="400"/>
                  </a:lnTo>
                  <a:lnTo>
                    <a:pt x="132" y="380"/>
                  </a:lnTo>
                  <a:lnTo>
                    <a:pt x="147" y="362"/>
                  </a:lnTo>
                  <a:lnTo>
                    <a:pt x="162" y="343"/>
                  </a:lnTo>
                  <a:lnTo>
                    <a:pt x="177" y="325"/>
                  </a:lnTo>
                  <a:lnTo>
                    <a:pt x="193" y="307"/>
                  </a:lnTo>
                  <a:lnTo>
                    <a:pt x="210" y="290"/>
                  </a:lnTo>
                  <a:lnTo>
                    <a:pt x="227" y="274"/>
                  </a:lnTo>
                  <a:lnTo>
                    <a:pt x="246" y="258"/>
                  </a:lnTo>
                  <a:lnTo>
                    <a:pt x="263" y="244"/>
                  </a:lnTo>
                  <a:lnTo>
                    <a:pt x="283" y="229"/>
                  </a:lnTo>
                  <a:lnTo>
                    <a:pt x="301" y="214"/>
                  </a:lnTo>
                  <a:lnTo>
                    <a:pt x="321" y="200"/>
                  </a:lnTo>
                  <a:lnTo>
                    <a:pt x="340" y="187"/>
                  </a:lnTo>
                  <a:lnTo>
                    <a:pt x="360" y="175"/>
                  </a:lnTo>
                  <a:lnTo>
                    <a:pt x="401" y="151"/>
                  </a:lnTo>
                  <a:lnTo>
                    <a:pt x="442" y="130"/>
                  </a:lnTo>
                  <a:lnTo>
                    <a:pt x="484" y="111"/>
                  </a:lnTo>
                  <a:lnTo>
                    <a:pt x="526" y="93"/>
                  </a:lnTo>
                  <a:lnTo>
                    <a:pt x="567" y="79"/>
                  </a:lnTo>
                  <a:lnTo>
                    <a:pt x="608" y="65"/>
                  </a:lnTo>
                  <a:lnTo>
                    <a:pt x="648" y="54"/>
                  </a:lnTo>
                  <a:lnTo>
                    <a:pt x="686" y="46"/>
                  </a:lnTo>
                  <a:lnTo>
                    <a:pt x="723" y="39"/>
                  </a:lnTo>
                  <a:lnTo>
                    <a:pt x="757" y="34"/>
                  </a:lnTo>
                  <a:lnTo>
                    <a:pt x="789" y="31"/>
                  </a:lnTo>
                  <a:lnTo>
                    <a:pt x="819" y="30"/>
                  </a:lnTo>
                  <a:lnTo>
                    <a:pt x="845" y="31"/>
                  </a:lnTo>
                  <a:lnTo>
                    <a:pt x="868" y="33"/>
                  </a:lnTo>
                  <a:lnTo>
                    <a:pt x="878" y="36"/>
                  </a:lnTo>
                  <a:lnTo>
                    <a:pt x="886" y="38"/>
                  </a:lnTo>
                  <a:lnTo>
                    <a:pt x="895" y="41"/>
                  </a:lnTo>
                  <a:lnTo>
                    <a:pt x="901" y="43"/>
                  </a:lnTo>
                  <a:lnTo>
                    <a:pt x="915" y="16"/>
                  </a:lnTo>
                  <a:lnTo>
                    <a:pt x="905" y="12"/>
                  </a:lnTo>
                  <a:lnTo>
                    <a:pt x="895" y="9"/>
                  </a:lnTo>
                  <a:lnTo>
                    <a:pt x="884" y="6"/>
                  </a:lnTo>
                  <a:lnTo>
                    <a:pt x="873" y="4"/>
                  </a:lnTo>
                  <a:lnTo>
                    <a:pt x="847" y="1"/>
                  </a:lnTo>
                  <a:lnTo>
                    <a:pt x="819" y="0"/>
                  </a:lnTo>
                  <a:lnTo>
                    <a:pt x="787" y="1"/>
                  </a:lnTo>
                  <a:lnTo>
                    <a:pt x="754" y="4"/>
                  </a:lnTo>
                  <a:lnTo>
                    <a:pt x="718" y="9"/>
                  </a:lnTo>
                  <a:lnTo>
                    <a:pt x="680" y="16"/>
                  </a:lnTo>
                  <a:lnTo>
                    <a:pt x="640" y="26"/>
                  </a:lnTo>
                  <a:lnTo>
                    <a:pt x="600" y="37"/>
                  </a:lnTo>
                  <a:lnTo>
                    <a:pt x="558" y="50"/>
                  </a:lnTo>
                  <a:lnTo>
                    <a:pt x="515" y="65"/>
                  </a:lnTo>
                  <a:lnTo>
                    <a:pt x="472" y="84"/>
                  </a:lnTo>
                  <a:lnTo>
                    <a:pt x="429" y="103"/>
                  </a:lnTo>
                  <a:lnTo>
                    <a:pt x="387" y="125"/>
                  </a:lnTo>
                  <a:lnTo>
                    <a:pt x="345" y="149"/>
                  </a:lnTo>
                  <a:lnTo>
                    <a:pt x="324" y="162"/>
                  </a:lnTo>
                  <a:lnTo>
                    <a:pt x="303" y="176"/>
                  </a:lnTo>
                  <a:lnTo>
                    <a:pt x="284" y="189"/>
                  </a:lnTo>
                  <a:lnTo>
                    <a:pt x="264" y="204"/>
                  </a:lnTo>
                  <a:lnTo>
                    <a:pt x="244" y="220"/>
                  </a:lnTo>
                  <a:lnTo>
                    <a:pt x="226" y="235"/>
                  </a:lnTo>
                  <a:lnTo>
                    <a:pt x="208" y="252"/>
                  </a:lnTo>
                  <a:lnTo>
                    <a:pt x="189" y="269"/>
                  </a:lnTo>
                  <a:lnTo>
                    <a:pt x="172" y="287"/>
                  </a:lnTo>
                  <a:lnTo>
                    <a:pt x="155" y="305"/>
                  </a:lnTo>
                  <a:lnTo>
                    <a:pt x="139" y="323"/>
                  </a:lnTo>
                  <a:lnTo>
                    <a:pt x="123" y="343"/>
                  </a:lnTo>
                  <a:lnTo>
                    <a:pt x="108" y="363"/>
                  </a:lnTo>
                  <a:lnTo>
                    <a:pt x="94" y="384"/>
                  </a:lnTo>
                  <a:lnTo>
                    <a:pt x="81" y="405"/>
                  </a:lnTo>
                  <a:lnTo>
                    <a:pt x="69" y="427"/>
                  </a:lnTo>
                  <a:lnTo>
                    <a:pt x="56" y="449"/>
                  </a:lnTo>
                  <a:lnTo>
                    <a:pt x="46" y="472"/>
                  </a:lnTo>
                  <a:lnTo>
                    <a:pt x="37" y="496"/>
                  </a:lnTo>
                  <a:lnTo>
                    <a:pt x="28" y="520"/>
                  </a:lnTo>
                  <a:lnTo>
                    <a:pt x="21" y="545"/>
                  </a:lnTo>
                  <a:lnTo>
                    <a:pt x="13" y="571"/>
                  </a:lnTo>
                  <a:lnTo>
                    <a:pt x="8" y="597"/>
                  </a:lnTo>
                  <a:lnTo>
                    <a:pt x="5" y="624"/>
                  </a:lnTo>
                  <a:lnTo>
                    <a:pt x="1" y="651"/>
                  </a:lnTo>
                  <a:lnTo>
                    <a:pt x="0" y="679"/>
                  </a:lnTo>
                  <a:lnTo>
                    <a:pt x="0" y="707"/>
                  </a:lnTo>
                  <a:lnTo>
                    <a:pt x="1" y="737"/>
                  </a:lnTo>
                  <a:lnTo>
                    <a:pt x="2" y="766"/>
                  </a:lnTo>
                  <a:lnTo>
                    <a:pt x="6" y="797"/>
                  </a:lnTo>
                  <a:lnTo>
                    <a:pt x="12" y="828"/>
                  </a:lnTo>
                  <a:lnTo>
                    <a:pt x="18" y="860"/>
                  </a:lnTo>
                  <a:lnTo>
                    <a:pt x="48" y="85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05240" y="3971880"/>
              <a:ext cx="103320" cy="37440"/>
            </a:xfrm>
            <a:custGeom>
              <a:avLst/>
              <a:gdLst/>
              <a:ahLst/>
              <a:rect l="l" t="t" r="r" b="b"/>
              <a:pathLst>
                <a:path w="328" h="121">
                  <a:moveTo>
                    <a:pt x="21" y="121"/>
                  </a:moveTo>
                  <a:lnTo>
                    <a:pt x="28" y="115"/>
                  </a:lnTo>
                  <a:lnTo>
                    <a:pt x="36" y="109"/>
                  </a:lnTo>
                  <a:lnTo>
                    <a:pt x="44" y="103"/>
                  </a:lnTo>
                  <a:lnTo>
                    <a:pt x="54" y="98"/>
                  </a:lnTo>
                  <a:lnTo>
                    <a:pt x="75" y="87"/>
                  </a:lnTo>
                  <a:lnTo>
                    <a:pt x="98" y="77"/>
                  </a:lnTo>
                  <a:lnTo>
                    <a:pt x="123" y="69"/>
                  </a:lnTo>
                  <a:lnTo>
                    <a:pt x="149" y="60"/>
                  </a:lnTo>
                  <a:lnTo>
                    <a:pt x="176" y="54"/>
                  </a:lnTo>
                  <a:lnTo>
                    <a:pt x="202" y="49"/>
                  </a:lnTo>
                  <a:lnTo>
                    <a:pt x="250" y="39"/>
                  </a:lnTo>
                  <a:lnTo>
                    <a:pt x="290" y="34"/>
                  </a:lnTo>
                  <a:lnTo>
                    <a:pt x="319" y="30"/>
                  </a:lnTo>
                  <a:lnTo>
                    <a:pt x="328" y="30"/>
                  </a:lnTo>
                  <a:lnTo>
                    <a:pt x="326" y="0"/>
                  </a:lnTo>
                  <a:lnTo>
                    <a:pt x="315" y="1"/>
                  </a:lnTo>
                  <a:lnTo>
                    <a:pt x="287" y="5"/>
                  </a:lnTo>
                  <a:lnTo>
                    <a:pt x="246" y="9"/>
                  </a:lnTo>
                  <a:lnTo>
                    <a:pt x="196" y="18"/>
                  </a:lnTo>
                  <a:lnTo>
                    <a:pt x="169" y="24"/>
                  </a:lnTo>
                  <a:lnTo>
                    <a:pt x="142" y="32"/>
                  </a:lnTo>
                  <a:lnTo>
                    <a:pt x="114" y="39"/>
                  </a:lnTo>
                  <a:lnTo>
                    <a:pt x="87" y="49"/>
                  </a:lnTo>
                  <a:lnTo>
                    <a:pt x="63" y="60"/>
                  </a:lnTo>
                  <a:lnTo>
                    <a:pt x="39" y="71"/>
                  </a:lnTo>
                  <a:lnTo>
                    <a:pt x="28" y="78"/>
                  </a:lnTo>
                  <a:lnTo>
                    <a:pt x="19" y="85"/>
                  </a:lnTo>
                  <a:lnTo>
                    <a:pt x="9" y="92"/>
                  </a:lnTo>
                  <a:lnTo>
                    <a:pt x="0" y="101"/>
                  </a:lnTo>
                  <a:lnTo>
                    <a:pt x="21" y="1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051000" y="4170240"/>
              <a:ext cx="1176480" cy="634680"/>
            </a:xfrm>
            <a:custGeom>
              <a:avLst/>
              <a:gdLst/>
              <a:ahLst/>
              <a:rect l="l" t="t" r="r" b="b"/>
              <a:pathLst>
                <a:path w="3702" h="2001">
                  <a:moveTo>
                    <a:pt x="3545" y="303"/>
                  </a:moveTo>
                  <a:lnTo>
                    <a:pt x="3407" y="336"/>
                  </a:lnTo>
                  <a:lnTo>
                    <a:pt x="3273" y="364"/>
                  </a:lnTo>
                  <a:lnTo>
                    <a:pt x="3145" y="389"/>
                  </a:lnTo>
                  <a:lnTo>
                    <a:pt x="3021" y="408"/>
                  </a:lnTo>
                  <a:lnTo>
                    <a:pt x="2900" y="424"/>
                  </a:lnTo>
                  <a:lnTo>
                    <a:pt x="2783" y="437"/>
                  </a:lnTo>
                  <a:lnTo>
                    <a:pt x="2672" y="445"/>
                  </a:lnTo>
                  <a:lnTo>
                    <a:pt x="2562" y="450"/>
                  </a:lnTo>
                  <a:lnTo>
                    <a:pt x="2456" y="451"/>
                  </a:lnTo>
                  <a:lnTo>
                    <a:pt x="2353" y="449"/>
                  </a:lnTo>
                  <a:lnTo>
                    <a:pt x="2253" y="444"/>
                  </a:lnTo>
                  <a:lnTo>
                    <a:pt x="2156" y="437"/>
                  </a:lnTo>
                  <a:lnTo>
                    <a:pt x="2060" y="427"/>
                  </a:lnTo>
                  <a:lnTo>
                    <a:pt x="1968" y="415"/>
                  </a:lnTo>
                  <a:lnTo>
                    <a:pt x="1878" y="400"/>
                  </a:lnTo>
                  <a:lnTo>
                    <a:pt x="1790" y="384"/>
                  </a:lnTo>
                  <a:lnTo>
                    <a:pt x="1704" y="365"/>
                  </a:lnTo>
                  <a:lnTo>
                    <a:pt x="1619" y="346"/>
                  </a:lnTo>
                  <a:lnTo>
                    <a:pt x="1535" y="324"/>
                  </a:lnTo>
                  <a:lnTo>
                    <a:pt x="1453" y="301"/>
                  </a:lnTo>
                  <a:lnTo>
                    <a:pt x="1371" y="277"/>
                  </a:lnTo>
                  <a:lnTo>
                    <a:pt x="1291" y="252"/>
                  </a:lnTo>
                  <a:lnTo>
                    <a:pt x="1211" y="228"/>
                  </a:lnTo>
                  <a:lnTo>
                    <a:pt x="1133" y="202"/>
                  </a:lnTo>
                  <a:lnTo>
                    <a:pt x="975" y="149"/>
                  </a:lnTo>
                  <a:lnTo>
                    <a:pt x="817" y="97"/>
                  </a:lnTo>
                  <a:lnTo>
                    <a:pt x="737" y="71"/>
                  </a:lnTo>
                  <a:lnTo>
                    <a:pt x="657" y="47"/>
                  </a:lnTo>
                  <a:lnTo>
                    <a:pt x="576" y="22"/>
                  </a:lnTo>
                  <a:lnTo>
                    <a:pt x="493" y="0"/>
                  </a:lnTo>
                  <a:lnTo>
                    <a:pt x="451" y="60"/>
                  </a:lnTo>
                  <a:lnTo>
                    <a:pt x="412" y="121"/>
                  </a:lnTo>
                  <a:lnTo>
                    <a:pt x="375" y="182"/>
                  </a:lnTo>
                  <a:lnTo>
                    <a:pt x="341" y="244"/>
                  </a:lnTo>
                  <a:lnTo>
                    <a:pt x="309" y="305"/>
                  </a:lnTo>
                  <a:lnTo>
                    <a:pt x="279" y="367"/>
                  </a:lnTo>
                  <a:lnTo>
                    <a:pt x="252" y="429"/>
                  </a:lnTo>
                  <a:lnTo>
                    <a:pt x="226" y="492"/>
                  </a:lnTo>
                  <a:lnTo>
                    <a:pt x="203" y="555"/>
                  </a:lnTo>
                  <a:lnTo>
                    <a:pt x="181" y="617"/>
                  </a:lnTo>
                  <a:lnTo>
                    <a:pt x="161" y="680"/>
                  </a:lnTo>
                  <a:lnTo>
                    <a:pt x="143" y="744"/>
                  </a:lnTo>
                  <a:lnTo>
                    <a:pt x="127" y="807"/>
                  </a:lnTo>
                  <a:lnTo>
                    <a:pt x="112" y="871"/>
                  </a:lnTo>
                  <a:lnTo>
                    <a:pt x="98" y="935"/>
                  </a:lnTo>
                  <a:lnTo>
                    <a:pt x="86" y="999"/>
                  </a:lnTo>
                  <a:lnTo>
                    <a:pt x="75" y="1062"/>
                  </a:lnTo>
                  <a:lnTo>
                    <a:pt x="65" y="1125"/>
                  </a:lnTo>
                  <a:lnTo>
                    <a:pt x="57" y="1189"/>
                  </a:lnTo>
                  <a:lnTo>
                    <a:pt x="49" y="1253"/>
                  </a:lnTo>
                  <a:lnTo>
                    <a:pt x="42" y="1316"/>
                  </a:lnTo>
                  <a:lnTo>
                    <a:pt x="36" y="1380"/>
                  </a:lnTo>
                  <a:lnTo>
                    <a:pt x="31" y="1443"/>
                  </a:lnTo>
                  <a:lnTo>
                    <a:pt x="26" y="1506"/>
                  </a:lnTo>
                  <a:lnTo>
                    <a:pt x="11" y="1756"/>
                  </a:lnTo>
                  <a:lnTo>
                    <a:pt x="0" y="2001"/>
                  </a:lnTo>
                  <a:lnTo>
                    <a:pt x="3641" y="1988"/>
                  </a:lnTo>
                  <a:lnTo>
                    <a:pt x="3651" y="1983"/>
                  </a:lnTo>
                  <a:lnTo>
                    <a:pt x="3660" y="1969"/>
                  </a:lnTo>
                  <a:lnTo>
                    <a:pt x="3669" y="1947"/>
                  </a:lnTo>
                  <a:lnTo>
                    <a:pt x="3678" y="1918"/>
                  </a:lnTo>
                  <a:lnTo>
                    <a:pt x="3684" y="1879"/>
                  </a:lnTo>
                  <a:lnTo>
                    <a:pt x="3689" y="1836"/>
                  </a:lnTo>
                  <a:lnTo>
                    <a:pt x="3694" y="1786"/>
                  </a:lnTo>
                  <a:lnTo>
                    <a:pt x="3697" y="1731"/>
                  </a:lnTo>
                  <a:lnTo>
                    <a:pt x="3700" y="1670"/>
                  </a:lnTo>
                  <a:lnTo>
                    <a:pt x="3701" y="1605"/>
                  </a:lnTo>
                  <a:lnTo>
                    <a:pt x="3702" y="1536"/>
                  </a:lnTo>
                  <a:lnTo>
                    <a:pt x="3702" y="1465"/>
                  </a:lnTo>
                  <a:lnTo>
                    <a:pt x="3701" y="1391"/>
                  </a:lnTo>
                  <a:lnTo>
                    <a:pt x="3699" y="1315"/>
                  </a:lnTo>
                  <a:lnTo>
                    <a:pt x="3696" y="1239"/>
                  </a:lnTo>
                  <a:lnTo>
                    <a:pt x="3692" y="1160"/>
                  </a:lnTo>
                  <a:lnTo>
                    <a:pt x="3689" y="1082"/>
                  </a:lnTo>
                  <a:lnTo>
                    <a:pt x="3684" y="1005"/>
                  </a:lnTo>
                  <a:lnTo>
                    <a:pt x="3678" y="929"/>
                  </a:lnTo>
                  <a:lnTo>
                    <a:pt x="3672" y="854"/>
                  </a:lnTo>
                  <a:lnTo>
                    <a:pt x="3664" y="781"/>
                  </a:lnTo>
                  <a:lnTo>
                    <a:pt x="3656" y="711"/>
                  </a:lnTo>
                  <a:lnTo>
                    <a:pt x="3647" y="645"/>
                  </a:lnTo>
                  <a:lnTo>
                    <a:pt x="3638" y="583"/>
                  </a:lnTo>
                  <a:lnTo>
                    <a:pt x="3628" y="525"/>
                  </a:lnTo>
                  <a:lnTo>
                    <a:pt x="3617" y="474"/>
                  </a:lnTo>
                  <a:lnTo>
                    <a:pt x="3606" y="427"/>
                  </a:lnTo>
                  <a:lnTo>
                    <a:pt x="3595" y="386"/>
                  </a:lnTo>
                  <a:lnTo>
                    <a:pt x="3583" y="353"/>
                  </a:lnTo>
                  <a:lnTo>
                    <a:pt x="3571" y="328"/>
                  </a:lnTo>
                  <a:lnTo>
                    <a:pt x="3557" y="311"/>
                  </a:lnTo>
                  <a:lnTo>
                    <a:pt x="3545" y="30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203640" y="4163760"/>
              <a:ext cx="974520" cy="153720"/>
            </a:xfrm>
            <a:custGeom>
              <a:avLst/>
              <a:gdLst/>
              <a:ahLst/>
              <a:rect l="l" t="t" r="r" b="b"/>
              <a:pathLst>
                <a:path w="3068" h="483">
                  <a:moveTo>
                    <a:pt x="24" y="26"/>
                  </a:moveTo>
                  <a:lnTo>
                    <a:pt x="8" y="32"/>
                  </a:lnTo>
                  <a:lnTo>
                    <a:pt x="90" y="54"/>
                  </a:lnTo>
                  <a:lnTo>
                    <a:pt x="171" y="79"/>
                  </a:lnTo>
                  <a:lnTo>
                    <a:pt x="251" y="103"/>
                  </a:lnTo>
                  <a:lnTo>
                    <a:pt x="331" y="128"/>
                  </a:lnTo>
                  <a:lnTo>
                    <a:pt x="489" y="181"/>
                  </a:lnTo>
                  <a:lnTo>
                    <a:pt x="647" y="232"/>
                  </a:lnTo>
                  <a:lnTo>
                    <a:pt x="727" y="258"/>
                  </a:lnTo>
                  <a:lnTo>
                    <a:pt x="806" y="284"/>
                  </a:lnTo>
                  <a:lnTo>
                    <a:pt x="887" y="309"/>
                  </a:lnTo>
                  <a:lnTo>
                    <a:pt x="968" y="332"/>
                  </a:lnTo>
                  <a:lnTo>
                    <a:pt x="1050" y="355"/>
                  </a:lnTo>
                  <a:lnTo>
                    <a:pt x="1134" y="376"/>
                  </a:lnTo>
                  <a:lnTo>
                    <a:pt x="1219" y="397"/>
                  </a:lnTo>
                  <a:lnTo>
                    <a:pt x="1306" y="416"/>
                  </a:lnTo>
                  <a:lnTo>
                    <a:pt x="1395" y="432"/>
                  </a:lnTo>
                  <a:lnTo>
                    <a:pt x="1486" y="446"/>
                  </a:lnTo>
                  <a:lnTo>
                    <a:pt x="1531" y="454"/>
                  </a:lnTo>
                  <a:lnTo>
                    <a:pt x="1578" y="459"/>
                  </a:lnTo>
                  <a:lnTo>
                    <a:pt x="1626" y="465"/>
                  </a:lnTo>
                  <a:lnTo>
                    <a:pt x="1673" y="470"/>
                  </a:lnTo>
                  <a:lnTo>
                    <a:pt x="1722" y="473"/>
                  </a:lnTo>
                  <a:lnTo>
                    <a:pt x="1771" y="477"/>
                  </a:lnTo>
                  <a:lnTo>
                    <a:pt x="1820" y="480"/>
                  </a:lnTo>
                  <a:lnTo>
                    <a:pt x="1872" y="481"/>
                  </a:lnTo>
                  <a:lnTo>
                    <a:pt x="1922" y="483"/>
                  </a:lnTo>
                  <a:lnTo>
                    <a:pt x="1975" y="483"/>
                  </a:lnTo>
                  <a:lnTo>
                    <a:pt x="2027" y="483"/>
                  </a:lnTo>
                  <a:lnTo>
                    <a:pt x="2081" y="482"/>
                  </a:lnTo>
                  <a:lnTo>
                    <a:pt x="2135" y="480"/>
                  </a:lnTo>
                  <a:lnTo>
                    <a:pt x="2191" y="477"/>
                  </a:lnTo>
                  <a:lnTo>
                    <a:pt x="2247" y="473"/>
                  </a:lnTo>
                  <a:lnTo>
                    <a:pt x="2304" y="468"/>
                  </a:lnTo>
                  <a:lnTo>
                    <a:pt x="2363" y="464"/>
                  </a:lnTo>
                  <a:lnTo>
                    <a:pt x="2421" y="456"/>
                  </a:lnTo>
                  <a:lnTo>
                    <a:pt x="2481" y="449"/>
                  </a:lnTo>
                  <a:lnTo>
                    <a:pt x="2542" y="440"/>
                  </a:lnTo>
                  <a:lnTo>
                    <a:pt x="2604" y="432"/>
                  </a:lnTo>
                  <a:lnTo>
                    <a:pt x="2667" y="420"/>
                  </a:lnTo>
                  <a:lnTo>
                    <a:pt x="2731" y="409"/>
                  </a:lnTo>
                  <a:lnTo>
                    <a:pt x="2796" y="396"/>
                  </a:lnTo>
                  <a:lnTo>
                    <a:pt x="2862" y="382"/>
                  </a:lnTo>
                  <a:lnTo>
                    <a:pt x="2929" y="368"/>
                  </a:lnTo>
                  <a:lnTo>
                    <a:pt x="2997" y="352"/>
                  </a:lnTo>
                  <a:lnTo>
                    <a:pt x="3068" y="334"/>
                  </a:lnTo>
                  <a:lnTo>
                    <a:pt x="3060" y="305"/>
                  </a:lnTo>
                  <a:lnTo>
                    <a:pt x="2990" y="322"/>
                  </a:lnTo>
                  <a:lnTo>
                    <a:pt x="2922" y="338"/>
                  </a:lnTo>
                  <a:lnTo>
                    <a:pt x="2855" y="353"/>
                  </a:lnTo>
                  <a:lnTo>
                    <a:pt x="2790" y="366"/>
                  </a:lnTo>
                  <a:lnTo>
                    <a:pt x="2724" y="380"/>
                  </a:lnTo>
                  <a:lnTo>
                    <a:pt x="2662" y="391"/>
                  </a:lnTo>
                  <a:lnTo>
                    <a:pt x="2599" y="402"/>
                  </a:lnTo>
                  <a:lnTo>
                    <a:pt x="2537" y="411"/>
                  </a:lnTo>
                  <a:lnTo>
                    <a:pt x="2477" y="419"/>
                  </a:lnTo>
                  <a:lnTo>
                    <a:pt x="2418" y="427"/>
                  </a:lnTo>
                  <a:lnTo>
                    <a:pt x="2359" y="433"/>
                  </a:lnTo>
                  <a:lnTo>
                    <a:pt x="2301" y="439"/>
                  </a:lnTo>
                  <a:lnTo>
                    <a:pt x="2245" y="444"/>
                  </a:lnTo>
                  <a:lnTo>
                    <a:pt x="2189" y="448"/>
                  </a:lnTo>
                  <a:lnTo>
                    <a:pt x="2134" y="450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4" y="452"/>
                  </a:lnTo>
                  <a:lnTo>
                    <a:pt x="1872" y="451"/>
                  </a:lnTo>
                  <a:lnTo>
                    <a:pt x="1822" y="449"/>
                  </a:lnTo>
                  <a:lnTo>
                    <a:pt x="1772" y="446"/>
                  </a:lnTo>
                  <a:lnTo>
                    <a:pt x="1724" y="444"/>
                  </a:lnTo>
                  <a:lnTo>
                    <a:pt x="1676" y="439"/>
                  </a:lnTo>
                  <a:lnTo>
                    <a:pt x="1628" y="434"/>
                  </a:lnTo>
                  <a:lnTo>
                    <a:pt x="1582" y="429"/>
                  </a:lnTo>
                  <a:lnTo>
                    <a:pt x="1535" y="423"/>
                  </a:lnTo>
                  <a:lnTo>
                    <a:pt x="1489" y="417"/>
                  </a:lnTo>
                  <a:lnTo>
                    <a:pt x="1400" y="402"/>
                  </a:lnTo>
                  <a:lnTo>
                    <a:pt x="1312" y="386"/>
                  </a:lnTo>
                  <a:lnTo>
                    <a:pt x="1226" y="368"/>
                  </a:lnTo>
                  <a:lnTo>
                    <a:pt x="1141" y="348"/>
                  </a:lnTo>
                  <a:lnTo>
                    <a:pt x="1058" y="326"/>
                  </a:lnTo>
                  <a:lnTo>
                    <a:pt x="977" y="304"/>
                  </a:lnTo>
                  <a:lnTo>
                    <a:pt x="895" y="280"/>
                  </a:lnTo>
                  <a:lnTo>
                    <a:pt x="815" y="256"/>
                  </a:lnTo>
                  <a:lnTo>
                    <a:pt x="735" y="230"/>
                  </a:lnTo>
                  <a:lnTo>
                    <a:pt x="657" y="204"/>
                  </a:lnTo>
                  <a:lnTo>
                    <a:pt x="498" y="151"/>
                  </a:lnTo>
                  <a:lnTo>
                    <a:pt x="341" y="99"/>
                  </a:lnTo>
                  <a:lnTo>
                    <a:pt x="261" y="74"/>
                  </a:lnTo>
                  <a:lnTo>
                    <a:pt x="179" y="49"/>
                  </a:lnTo>
                  <a:lnTo>
                    <a:pt x="98" y="26"/>
                  </a:lnTo>
                  <a:lnTo>
                    <a:pt x="16" y="2"/>
                  </a:lnTo>
                  <a:lnTo>
                    <a:pt x="0" y="8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8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046320" y="4167000"/>
              <a:ext cx="165240" cy="642600"/>
            </a:xfrm>
            <a:custGeom>
              <a:avLst/>
              <a:gdLst/>
              <a:ahLst/>
              <a:rect l="l" t="t" r="r" b="b"/>
              <a:pathLst>
                <a:path w="521" h="2025">
                  <a:moveTo>
                    <a:pt x="16" y="1995"/>
                  </a:moveTo>
                  <a:lnTo>
                    <a:pt x="31" y="2010"/>
                  </a:lnTo>
                  <a:lnTo>
                    <a:pt x="42" y="1765"/>
                  </a:lnTo>
                  <a:lnTo>
                    <a:pt x="57" y="1516"/>
                  </a:lnTo>
                  <a:lnTo>
                    <a:pt x="61" y="1453"/>
                  </a:lnTo>
                  <a:lnTo>
                    <a:pt x="66" y="1390"/>
                  </a:lnTo>
                  <a:lnTo>
                    <a:pt x="73" y="1326"/>
                  </a:lnTo>
                  <a:lnTo>
                    <a:pt x="80" y="1264"/>
                  </a:lnTo>
                  <a:lnTo>
                    <a:pt x="87" y="1200"/>
                  </a:lnTo>
                  <a:lnTo>
                    <a:pt x="96" y="1137"/>
                  </a:lnTo>
                  <a:lnTo>
                    <a:pt x="106" y="1073"/>
                  </a:lnTo>
                  <a:lnTo>
                    <a:pt x="117" y="1010"/>
                  </a:lnTo>
                  <a:lnTo>
                    <a:pt x="129" y="946"/>
                  </a:lnTo>
                  <a:lnTo>
                    <a:pt x="143" y="884"/>
                  </a:lnTo>
                  <a:lnTo>
                    <a:pt x="157" y="820"/>
                  </a:lnTo>
                  <a:lnTo>
                    <a:pt x="173" y="757"/>
                  </a:lnTo>
                  <a:lnTo>
                    <a:pt x="192" y="694"/>
                  </a:lnTo>
                  <a:lnTo>
                    <a:pt x="212" y="631"/>
                  </a:lnTo>
                  <a:lnTo>
                    <a:pt x="232" y="569"/>
                  </a:lnTo>
                  <a:lnTo>
                    <a:pt x="256" y="506"/>
                  </a:lnTo>
                  <a:lnTo>
                    <a:pt x="282" y="444"/>
                  </a:lnTo>
                  <a:lnTo>
                    <a:pt x="309" y="382"/>
                  </a:lnTo>
                  <a:lnTo>
                    <a:pt x="338" y="320"/>
                  </a:lnTo>
                  <a:lnTo>
                    <a:pt x="370" y="259"/>
                  </a:lnTo>
                  <a:lnTo>
                    <a:pt x="405" y="198"/>
                  </a:lnTo>
                  <a:lnTo>
                    <a:pt x="440" y="138"/>
                  </a:lnTo>
                  <a:lnTo>
                    <a:pt x="480" y="78"/>
                  </a:lnTo>
                  <a:lnTo>
                    <a:pt x="521" y="18"/>
                  </a:lnTo>
                  <a:lnTo>
                    <a:pt x="497" y="0"/>
                  </a:lnTo>
                  <a:lnTo>
                    <a:pt x="455" y="61"/>
                  </a:lnTo>
                  <a:lnTo>
                    <a:pt x="416" y="122"/>
                  </a:lnTo>
                  <a:lnTo>
                    <a:pt x="379" y="184"/>
                  </a:lnTo>
                  <a:lnTo>
                    <a:pt x="344" y="245"/>
                  </a:lnTo>
                  <a:lnTo>
                    <a:pt x="311" y="307"/>
                  </a:lnTo>
                  <a:lnTo>
                    <a:pt x="282" y="369"/>
                  </a:lnTo>
                  <a:lnTo>
                    <a:pt x="255" y="432"/>
                  </a:lnTo>
                  <a:lnTo>
                    <a:pt x="229" y="495"/>
                  </a:lnTo>
                  <a:lnTo>
                    <a:pt x="204" y="559"/>
                  </a:lnTo>
                  <a:lnTo>
                    <a:pt x="183" y="622"/>
                  </a:lnTo>
                  <a:lnTo>
                    <a:pt x="164" y="686"/>
                  </a:lnTo>
                  <a:lnTo>
                    <a:pt x="145" y="749"/>
                  </a:lnTo>
                  <a:lnTo>
                    <a:pt x="128" y="812"/>
                  </a:lnTo>
                  <a:lnTo>
                    <a:pt x="113" y="876"/>
                  </a:lnTo>
                  <a:lnTo>
                    <a:pt x="100" y="940"/>
                  </a:lnTo>
                  <a:lnTo>
                    <a:pt x="87" y="1004"/>
                  </a:lnTo>
                  <a:lnTo>
                    <a:pt x="76" y="1068"/>
                  </a:lnTo>
                  <a:lnTo>
                    <a:pt x="66" y="1132"/>
                  </a:lnTo>
                  <a:lnTo>
                    <a:pt x="58" y="1196"/>
                  </a:lnTo>
                  <a:lnTo>
                    <a:pt x="50" y="1260"/>
                  </a:lnTo>
                  <a:lnTo>
                    <a:pt x="43" y="1324"/>
                  </a:lnTo>
                  <a:lnTo>
                    <a:pt x="37" y="1388"/>
                  </a:lnTo>
                  <a:lnTo>
                    <a:pt x="32" y="1451"/>
                  </a:lnTo>
                  <a:lnTo>
                    <a:pt x="27" y="1515"/>
                  </a:lnTo>
                  <a:lnTo>
                    <a:pt x="12" y="1764"/>
                  </a:lnTo>
                  <a:lnTo>
                    <a:pt x="1" y="2009"/>
                  </a:lnTo>
                  <a:lnTo>
                    <a:pt x="16" y="2025"/>
                  </a:lnTo>
                  <a:lnTo>
                    <a:pt x="1" y="2009"/>
                  </a:lnTo>
                  <a:lnTo>
                    <a:pt x="0" y="2025"/>
                  </a:lnTo>
                  <a:lnTo>
                    <a:pt x="16" y="2025"/>
                  </a:lnTo>
                  <a:lnTo>
                    <a:pt x="16" y="199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3051000" y="4795560"/>
              <a:ext cx="1155960" cy="14040"/>
            </a:xfrm>
            <a:custGeom>
              <a:avLst/>
              <a:gdLst/>
              <a:ahLst/>
              <a:rect l="l" t="t" r="r" b="b"/>
              <a:pathLst>
                <a:path w="3641" h="43">
                  <a:moveTo>
                    <a:pt x="3641" y="31"/>
                  </a:moveTo>
                  <a:lnTo>
                    <a:pt x="3641" y="0"/>
                  </a:lnTo>
                  <a:lnTo>
                    <a:pt x="0" y="13"/>
                  </a:lnTo>
                  <a:lnTo>
                    <a:pt x="0" y="43"/>
                  </a:lnTo>
                  <a:lnTo>
                    <a:pt x="3641" y="29"/>
                  </a:lnTo>
                  <a:lnTo>
                    <a:pt x="3641" y="31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0"/>
                  </a:lnTo>
                  <a:lnTo>
                    <a:pt x="3641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175280" y="4260600"/>
              <a:ext cx="56880" cy="544320"/>
            </a:xfrm>
            <a:custGeom>
              <a:avLst/>
              <a:gdLst/>
              <a:ahLst/>
              <a:rect l="l" t="t" r="r" b="b"/>
              <a:pathLst>
                <a:path w="177" h="1717">
                  <a:moveTo>
                    <a:pt x="9" y="30"/>
                  </a:moveTo>
                  <a:lnTo>
                    <a:pt x="0" y="30"/>
                  </a:lnTo>
                  <a:lnTo>
                    <a:pt x="4" y="32"/>
                  </a:lnTo>
                  <a:lnTo>
                    <a:pt x="7" y="34"/>
                  </a:lnTo>
                  <a:lnTo>
                    <a:pt x="12" y="40"/>
                  </a:lnTo>
                  <a:lnTo>
                    <a:pt x="18" y="49"/>
                  </a:lnTo>
                  <a:lnTo>
                    <a:pt x="23" y="60"/>
                  </a:lnTo>
                  <a:lnTo>
                    <a:pt x="29" y="72"/>
                  </a:lnTo>
                  <a:lnTo>
                    <a:pt x="36" y="87"/>
                  </a:lnTo>
                  <a:lnTo>
                    <a:pt x="41" y="104"/>
                  </a:lnTo>
                  <a:lnTo>
                    <a:pt x="53" y="144"/>
                  </a:lnTo>
                  <a:lnTo>
                    <a:pt x="63" y="189"/>
                  </a:lnTo>
                  <a:lnTo>
                    <a:pt x="74" y="241"/>
                  </a:lnTo>
                  <a:lnTo>
                    <a:pt x="84" y="299"/>
                  </a:lnTo>
                  <a:lnTo>
                    <a:pt x="92" y="360"/>
                  </a:lnTo>
                  <a:lnTo>
                    <a:pt x="101" y="426"/>
                  </a:lnTo>
                  <a:lnTo>
                    <a:pt x="109" y="495"/>
                  </a:lnTo>
                  <a:lnTo>
                    <a:pt x="116" y="568"/>
                  </a:lnTo>
                  <a:lnTo>
                    <a:pt x="123" y="643"/>
                  </a:lnTo>
                  <a:lnTo>
                    <a:pt x="129" y="719"/>
                  </a:lnTo>
                  <a:lnTo>
                    <a:pt x="134" y="797"/>
                  </a:lnTo>
                  <a:lnTo>
                    <a:pt x="138" y="874"/>
                  </a:lnTo>
                  <a:lnTo>
                    <a:pt x="141" y="952"/>
                  </a:lnTo>
                  <a:lnTo>
                    <a:pt x="144" y="1029"/>
                  </a:lnTo>
                  <a:lnTo>
                    <a:pt x="146" y="1104"/>
                  </a:lnTo>
                  <a:lnTo>
                    <a:pt x="148" y="1178"/>
                  </a:lnTo>
                  <a:lnTo>
                    <a:pt x="148" y="1249"/>
                  </a:lnTo>
                  <a:lnTo>
                    <a:pt x="146" y="1318"/>
                  </a:lnTo>
                  <a:lnTo>
                    <a:pt x="145" y="1382"/>
                  </a:lnTo>
                  <a:lnTo>
                    <a:pt x="143" y="1442"/>
                  </a:lnTo>
                  <a:lnTo>
                    <a:pt x="139" y="1498"/>
                  </a:lnTo>
                  <a:lnTo>
                    <a:pt x="134" y="1547"/>
                  </a:lnTo>
                  <a:lnTo>
                    <a:pt x="129" y="1591"/>
                  </a:lnTo>
                  <a:lnTo>
                    <a:pt x="123" y="1627"/>
                  </a:lnTo>
                  <a:lnTo>
                    <a:pt x="119" y="1643"/>
                  </a:lnTo>
                  <a:lnTo>
                    <a:pt x="116" y="1656"/>
                  </a:lnTo>
                  <a:lnTo>
                    <a:pt x="112" y="1667"/>
                  </a:lnTo>
                  <a:lnTo>
                    <a:pt x="108" y="1676"/>
                  </a:lnTo>
                  <a:lnTo>
                    <a:pt x="104" y="1682"/>
                  </a:lnTo>
                  <a:lnTo>
                    <a:pt x="101" y="1685"/>
                  </a:lnTo>
                  <a:lnTo>
                    <a:pt x="100" y="1686"/>
                  </a:lnTo>
                  <a:lnTo>
                    <a:pt x="101" y="1686"/>
                  </a:lnTo>
                  <a:lnTo>
                    <a:pt x="101" y="1717"/>
                  </a:lnTo>
                  <a:lnTo>
                    <a:pt x="112" y="1714"/>
                  </a:lnTo>
                  <a:lnTo>
                    <a:pt x="122" y="1707"/>
                  </a:lnTo>
                  <a:lnTo>
                    <a:pt x="129" y="1699"/>
                  </a:lnTo>
                  <a:lnTo>
                    <a:pt x="134" y="1690"/>
                  </a:lnTo>
                  <a:lnTo>
                    <a:pt x="139" y="1677"/>
                  </a:lnTo>
                  <a:lnTo>
                    <a:pt x="144" y="1665"/>
                  </a:lnTo>
                  <a:lnTo>
                    <a:pt x="149" y="1650"/>
                  </a:lnTo>
                  <a:lnTo>
                    <a:pt x="152" y="1633"/>
                  </a:lnTo>
                  <a:lnTo>
                    <a:pt x="159" y="1595"/>
                  </a:lnTo>
                  <a:lnTo>
                    <a:pt x="165" y="1551"/>
                  </a:lnTo>
                  <a:lnTo>
                    <a:pt x="168" y="1500"/>
                  </a:lnTo>
                  <a:lnTo>
                    <a:pt x="172" y="1444"/>
                  </a:lnTo>
                  <a:lnTo>
                    <a:pt x="175" y="1383"/>
                  </a:lnTo>
                  <a:lnTo>
                    <a:pt x="177" y="1318"/>
                  </a:lnTo>
                  <a:lnTo>
                    <a:pt x="177" y="1249"/>
                  </a:lnTo>
                  <a:lnTo>
                    <a:pt x="177" y="1178"/>
                  </a:lnTo>
                  <a:lnTo>
                    <a:pt x="176" y="1104"/>
                  </a:lnTo>
                  <a:lnTo>
                    <a:pt x="175" y="1028"/>
                  </a:lnTo>
                  <a:lnTo>
                    <a:pt x="171" y="950"/>
                  </a:lnTo>
                  <a:lnTo>
                    <a:pt x="168" y="873"/>
                  </a:lnTo>
                  <a:lnTo>
                    <a:pt x="164" y="794"/>
                  </a:lnTo>
                  <a:lnTo>
                    <a:pt x="159" y="717"/>
                  </a:lnTo>
                  <a:lnTo>
                    <a:pt x="152" y="640"/>
                  </a:lnTo>
                  <a:lnTo>
                    <a:pt x="146" y="565"/>
                  </a:lnTo>
                  <a:lnTo>
                    <a:pt x="139" y="493"/>
                  </a:lnTo>
                  <a:lnTo>
                    <a:pt x="130" y="423"/>
                  </a:lnTo>
                  <a:lnTo>
                    <a:pt x="122" y="356"/>
                  </a:lnTo>
                  <a:lnTo>
                    <a:pt x="113" y="294"/>
                  </a:lnTo>
                  <a:lnTo>
                    <a:pt x="103" y="236"/>
                  </a:lnTo>
                  <a:lnTo>
                    <a:pt x="92" y="183"/>
                  </a:lnTo>
                  <a:lnTo>
                    <a:pt x="81" y="136"/>
                  </a:lnTo>
                  <a:lnTo>
                    <a:pt x="70" y="96"/>
                  </a:lnTo>
                  <a:lnTo>
                    <a:pt x="64" y="77"/>
                  </a:lnTo>
                  <a:lnTo>
                    <a:pt x="58" y="61"/>
                  </a:lnTo>
                  <a:lnTo>
                    <a:pt x="50" y="46"/>
                  </a:lnTo>
                  <a:lnTo>
                    <a:pt x="44" y="33"/>
                  </a:lnTo>
                  <a:lnTo>
                    <a:pt x="37" y="22"/>
                  </a:lnTo>
                  <a:lnTo>
                    <a:pt x="28" y="13"/>
                  </a:lnTo>
                  <a:lnTo>
                    <a:pt x="18" y="6"/>
                  </a:lnTo>
                  <a:lnTo>
                    <a:pt x="9" y="1"/>
                  </a:lnTo>
                  <a:lnTo>
                    <a:pt x="1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3208320" y="4074840"/>
              <a:ext cx="973080" cy="253800"/>
            </a:xfrm>
            <a:custGeom>
              <a:avLst/>
              <a:gdLst/>
              <a:ahLst/>
              <a:rect l="l" t="t" r="r" b="b"/>
              <a:pathLst>
                <a:path w="3067" h="802">
                  <a:moveTo>
                    <a:pt x="0" y="315"/>
                  </a:moveTo>
                  <a:lnTo>
                    <a:pt x="94" y="359"/>
                  </a:lnTo>
                  <a:lnTo>
                    <a:pt x="187" y="404"/>
                  </a:lnTo>
                  <a:lnTo>
                    <a:pt x="282" y="444"/>
                  </a:lnTo>
                  <a:lnTo>
                    <a:pt x="375" y="484"/>
                  </a:lnTo>
                  <a:lnTo>
                    <a:pt x="470" y="520"/>
                  </a:lnTo>
                  <a:lnTo>
                    <a:pt x="565" y="555"/>
                  </a:lnTo>
                  <a:lnTo>
                    <a:pt x="659" y="588"/>
                  </a:lnTo>
                  <a:lnTo>
                    <a:pt x="754" y="619"/>
                  </a:lnTo>
                  <a:lnTo>
                    <a:pt x="849" y="647"/>
                  </a:lnTo>
                  <a:lnTo>
                    <a:pt x="944" y="673"/>
                  </a:lnTo>
                  <a:lnTo>
                    <a:pt x="1038" y="696"/>
                  </a:lnTo>
                  <a:lnTo>
                    <a:pt x="1134" y="718"/>
                  </a:lnTo>
                  <a:lnTo>
                    <a:pt x="1229" y="737"/>
                  </a:lnTo>
                  <a:lnTo>
                    <a:pt x="1325" y="754"/>
                  </a:lnTo>
                  <a:lnTo>
                    <a:pt x="1420" y="768"/>
                  </a:lnTo>
                  <a:lnTo>
                    <a:pt x="1516" y="780"/>
                  </a:lnTo>
                  <a:lnTo>
                    <a:pt x="1611" y="790"/>
                  </a:lnTo>
                  <a:lnTo>
                    <a:pt x="1707" y="796"/>
                  </a:lnTo>
                  <a:lnTo>
                    <a:pt x="1803" y="801"/>
                  </a:lnTo>
                  <a:lnTo>
                    <a:pt x="1901" y="802"/>
                  </a:lnTo>
                  <a:lnTo>
                    <a:pt x="1996" y="802"/>
                  </a:lnTo>
                  <a:lnTo>
                    <a:pt x="2092" y="798"/>
                  </a:lnTo>
                  <a:lnTo>
                    <a:pt x="2190" y="792"/>
                  </a:lnTo>
                  <a:lnTo>
                    <a:pt x="2287" y="784"/>
                  </a:lnTo>
                  <a:lnTo>
                    <a:pt x="2384" y="773"/>
                  </a:lnTo>
                  <a:lnTo>
                    <a:pt x="2481" y="759"/>
                  </a:lnTo>
                  <a:lnTo>
                    <a:pt x="2578" y="742"/>
                  </a:lnTo>
                  <a:lnTo>
                    <a:pt x="2675" y="722"/>
                  </a:lnTo>
                  <a:lnTo>
                    <a:pt x="2773" y="700"/>
                  </a:lnTo>
                  <a:lnTo>
                    <a:pt x="2871" y="675"/>
                  </a:lnTo>
                  <a:lnTo>
                    <a:pt x="2969" y="647"/>
                  </a:lnTo>
                  <a:lnTo>
                    <a:pt x="3067" y="616"/>
                  </a:lnTo>
                  <a:lnTo>
                    <a:pt x="3019" y="538"/>
                  </a:lnTo>
                  <a:lnTo>
                    <a:pt x="2967" y="465"/>
                  </a:lnTo>
                  <a:lnTo>
                    <a:pt x="2910" y="397"/>
                  </a:lnTo>
                  <a:lnTo>
                    <a:pt x="2849" y="337"/>
                  </a:lnTo>
                  <a:lnTo>
                    <a:pt x="2785" y="282"/>
                  </a:lnTo>
                  <a:lnTo>
                    <a:pt x="2717" y="233"/>
                  </a:lnTo>
                  <a:lnTo>
                    <a:pt x="2645" y="188"/>
                  </a:lnTo>
                  <a:lnTo>
                    <a:pt x="2570" y="149"/>
                  </a:lnTo>
                  <a:lnTo>
                    <a:pt x="2491" y="115"/>
                  </a:lnTo>
                  <a:lnTo>
                    <a:pt x="2409" y="85"/>
                  </a:lnTo>
                  <a:lnTo>
                    <a:pt x="2324" y="60"/>
                  </a:lnTo>
                  <a:lnTo>
                    <a:pt x="2235" y="41"/>
                  </a:lnTo>
                  <a:lnTo>
                    <a:pt x="2143" y="25"/>
                  </a:lnTo>
                  <a:lnTo>
                    <a:pt x="2049" y="12"/>
                  </a:lnTo>
                  <a:lnTo>
                    <a:pt x="1952" y="5"/>
                  </a:lnTo>
                  <a:lnTo>
                    <a:pt x="1853" y="1"/>
                  </a:lnTo>
                  <a:lnTo>
                    <a:pt x="1750" y="0"/>
                  </a:lnTo>
                  <a:lnTo>
                    <a:pt x="1646" y="4"/>
                  </a:lnTo>
                  <a:lnTo>
                    <a:pt x="1539" y="10"/>
                  </a:lnTo>
                  <a:lnTo>
                    <a:pt x="1431" y="20"/>
                  </a:lnTo>
                  <a:lnTo>
                    <a:pt x="1320" y="32"/>
                  </a:lnTo>
                  <a:lnTo>
                    <a:pt x="1207" y="47"/>
                  </a:lnTo>
                  <a:lnTo>
                    <a:pt x="1092" y="65"/>
                  </a:lnTo>
                  <a:lnTo>
                    <a:pt x="976" y="85"/>
                  </a:lnTo>
                  <a:lnTo>
                    <a:pt x="859" y="107"/>
                  </a:lnTo>
                  <a:lnTo>
                    <a:pt x="739" y="132"/>
                  </a:lnTo>
                  <a:lnTo>
                    <a:pt x="619" y="159"/>
                  </a:lnTo>
                  <a:lnTo>
                    <a:pt x="497" y="187"/>
                  </a:lnTo>
                  <a:lnTo>
                    <a:pt x="374" y="217"/>
                  </a:lnTo>
                  <a:lnTo>
                    <a:pt x="250" y="249"/>
                  </a:lnTo>
                  <a:lnTo>
                    <a:pt x="126" y="281"/>
                  </a:lnTo>
                  <a:lnTo>
                    <a:pt x="0" y="315"/>
                  </a:lnTo>
                  <a:close/>
                </a:path>
              </a:pathLst>
            </a:custGeom>
            <a:solidFill>
              <a:srgbClr val="835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3205080" y="4170240"/>
              <a:ext cx="984240" cy="163080"/>
            </a:xfrm>
            <a:custGeom>
              <a:avLst/>
              <a:gdLst/>
              <a:ahLst/>
              <a:rect l="l" t="t" r="r" b="b"/>
              <a:pathLst>
                <a:path w="3096" h="517">
                  <a:moveTo>
                    <a:pt x="3061" y="323"/>
                  </a:moveTo>
                  <a:lnTo>
                    <a:pt x="3070" y="301"/>
                  </a:lnTo>
                  <a:lnTo>
                    <a:pt x="3021" y="317"/>
                  </a:lnTo>
                  <a:lnTo>
                    <a:pt x="2972" y="331"/>
                  </a:lnTo>
                  <a:lnTo>
                    <a:pt x="2922" y="346"/>
                  </a:lnTo>
                  <a:lnTo>
                    <a:pt x="2874" y="360"/>
                  </a:lnTo>
                  <a:lnTo>
                    <a:pt x="2825" y="372"/>
                  </a:lnTo>
                  <a:lnTo>
                    <a:pt x="2777" y="384"/>
                  </a:lnTo>
                  <a:lnTo>
                    <a:pt x="2728" y="397"/>
                  </a:lnTo>
                  <a:lnTo>
                    <a:pt x="2680" y="406"/>
                  </a:lnTo>
                  <a:lnTo>
                    <a:pt x="2631" y="416"/>
                  </a:lnTo>
                  <a:lnTo>
                    <a:pt x="2583" y="426"/>
                  </a:lnTo>
                  <a:lnTo>
                    <a:pt x="2534" y="435"/>
                  </a:lnTo>
                  <a:lnTo>
                    <a:pt x="2486" y="443"/>
                  </a:lnTo>
                  <a:lnTo>
                    <a:pt x="2438" y="451"/>
                  </a:lnTo>
                  <a:lnTo>
                    <a:pt x="2388" y="457"/>
                  </a:lnTo>
                  <a:lnTo>
                    <a:pt x="2341" y="463"/>
                  </a:lnTo>
                  <a:lnTo>
                    <a:pt x="2293" y="468"/>
                  </a:lnTo>
                  <a:lnTo>
                    <a:pt x="2243" y="473"/>
                  </a:lnTo>
                  <a:lnTo>
                    <a:pt x="2195" y="476"/>
                  </a:lnTo>
                  <a:lnTo>
                    <a:pt x="2147" y="480"/>
                  </a:lnTo>
                  <a:lnTo>
                    <a:pt x="2099" y="483"/>
                  </a:lnTo>
                  <a:lnTo>
                    <a:pt x="2051" y="485"/>
                  </a:lnTo>
                  <a:lnTo>
                    <a:pt x="2003" y="486"/>
                  </a:lnTo>
                  <a:lnTo>
                    <a:pt x="1956" y="486"/>
                  </a:lnTo>
                  <a:lnTo>
                    <a:pt x="1908" y="486"/>
                  </a:lnTo>
                  <a:lnTo>
                    <a:pt x="1860" y="486"/>
                  </a:lnTo>
                  <a:lnTo>
                    <a:pt x="1812" y="485"/>
                  </a:lnTo>
                  <a:lnTo>
                    <a:pt x="1764" y="483"/>
                  </a:lnTo>
                  <a:lnTo>
                    <a:pt x="1716" y="480"/>
                  </a:lnTo>
                  <a:lnTo>
                    <a:pt x="1668" y="478"/>
                  </a:lnTo>
                  <a:lnTo>
                    <a:pt x="1620" y="473"/>
                  </a:lnTo>
                  <a:lnTo>
                    <a:pt x="1572" y="469"/>
                  </a:lnTo>
                  <a:lnTo>
                    <a:pt x="1525" y="464"/>
                  </a:lnTo>
                  <a:lnTo>
                    <a:pt x="1429" y="452"/>
                  </a:lnTo>
                  <a:lnTo>
                    <a:pt x="1334" y="438"/>
                  </a:lnTo>
                  <a:lnTo>
                    <a:pt x="1238" y="421"/>
                  </a:lnTo>
                  <a:lnTo>
                    <a:pt x="1144" y="403"/>
                  </a:lnTo>
                  <a:lnTo>
                    <a:pt x="1049" y="381"/>
                  </a:lnTo>
                  <a:lnTo>
                    <a:pt x="954" y="357"/>
                  </a:lnTo>
                  <a:lnTo>
                    <a:pt x="860" y="331"/>
                  </a:lnTo>
                  <a:lnTo>
                    <a:pt x="765" y="303"/>
                  </a:lnTo>
                  <a:lnTo>
                    <a:pt x="671" y="272"/>
                  </a:lnTo>
                  <a:lnTo>
                    <a:pt x="577" y="240"/>
                  </a:lnTo>
                  <a:lnTo>
                    <a:pt x="482" y="206"/>
                  </a:lnTo>
                  <a:lnTo>
                    <a:pt x="388" y="169"/>
                  </a:lnTo>
                  <a:lnTo>
                    <a:pt x="295" y="130"/>
                  </a:lnTo>
                  <a:lnTo>
                    <a:pt x="200" y="88"/>
                  </a:lnTo>
                  <a:lnTo>
                    <a:pt x="107" y="45"/>
                  </a:lnTo>
                  <a:lnTo>
                    <a:pt x="13" y="0"/>
                  </a:lnTo>
                  <a:lnTo>
                    <a:pt x="0" y="28"/>
                  </a:lnTo>
                  <a:lnTo>
                    <a:pt x="94" y="73"/>
                  </a:lnTo>
                  <a:lnTo>
                    <a:pt x="189" y="116"/>
                  </a:lnTo>
                  <a:lnTo>
                    <a:pt x="283" y="157"/>
                  </a:lnTo>
                  <a:lnTo>
                    <a:pt x="377" y="196"/>
                  </a:lnTo>
                  <a:lnTo>
                    <a:pt x="472" y="233"/>
                  </a:lnTo>
                  <a:lnTo>
                    <a:pt x="567" y="269"/>
                  </a:lnTo>
                  <a:lnTo>
                    <a:pt x="662" y="301"/>
                  </a:lnTo>
                  <a:lnTo>
                    <a:pt x="756" y="331"/>
                  </a:lnTo>
                  <a:lnTo>
                    <a:pt x="851" y="360"/>
                  </a:lnTo>
                  <a:lnTo>
                    <a:pt x="947" y="387"/>
                  </a:lnTo>
                  <a:lnTo>
                    <a:pt x="1042" y="410"/>
                  </a:lnTo>
                  <a:lnTo>
                    <a:pt x="1138" y="432"/>
                  </a:lnTo>
                  <a:lnTo>
                    <a:pt x="1233" y="451"/>
                  </a:lnTo>
                  <a:lnTo>
                    <a:pt x="1329" y="468"/>
                  </a:lnTo>
                  <a:lnTo>
                    <a:pt x="1425" y="481"/>
                  </a:lnTo>
                  <a:lnTo>
                    <a:pt x="1521" y="494"/>
                  </a:lnTo>
                  <a:lnTo>
                    <a:pt x="1569" y="499"/>
                  </a:lnTo>
                  <a:lnTo>
                    <a:pt x="1617" y="504"/>
                  </a:lnTo>
                  <a:lnTo>
                    <a:pt x="1665" y="507"/>
                  </a:lnTo>
                  <a:lnTo>
                    <a:pt x="1713" y="510"/>
                  </a:lnTo>
                  <a:lnTo>
                    <a:pt x="1762" y="513"/>
                  </a:lnTo>
                  <a:lnTo>
                    <a:pt x="1810" y="515"/>
                  </a:lnTo>
                  <a:lnTo>
                    <a:pt x="1858" y="516"/>
                  </a:lnTo>
                  <a:lnTo>
                    <a:pt x="1908" y="517"/>
                  </a:lnTo>
                  <a:lnTo>
                    <a:pt x="1956" y="517"/>
                  </a:lnTo>
                  <a:lnTo>
                    <a:pt x="2003" y="516"/>
                  </a:lnTo>
                  <a:lnTo>
                    <a:pt x="2053" y="515"/>
                  </a:lnTo>
                  <a:lnTo>
                    <a:pt x="2101" y="512"/>
                  </a:lnTo>
                  <a:lnTo>
                    <a:pt x="2149" y="510"/>
                  </a:lnTo>
                  <a:lnTo>
                    <a:pt x="2198" y="507"/>
                  </a:lnTo>
                  <a:lnTo>
                    <a:pt x="2247" y="502"/>
                  </a:lnTo>
                  <a:lnTo>
                    <a:pt x="2295" y="497"/>
                  </a:lnTo>
                  <a:lnTo>
                    <a:pt x="2344" y="492"/>
                  </a:lnTo>
                  <a:lnTo>
                    <a:pt x="2392" y="486"/>
                  </a:lnTo>
                  <a:lnTo>
                    <a:pt x="2441" y="480"/>
                  </a:lnTo>
                  <a:lnTo>
                    <a:pt x="2491" y="473"/>
                  </a:lnTo>
                  <a:lnTo>
                    <a:pt x="2539" y="464"/>
                  </a:lnTo>
                  <a:lnTo>
                    <a:pt x="2588" y="456"/>
                  </a:lnTo>
                  <a:lnTo>
                    <a:pt x="2637" y="446"/>
                  </a:lnTo>
                  <a:lnTo>
                    <a:pt x="2686" y="436"/>
                  </a:lnTo>
                  <a:lnTo>
                    <a:pt x="2734" y="425"/>
                  </a:lnTo>
                  <a:lnTo>
                    <a:pt x="2783" y="414"/>
                  </a:lnTo>
                  <a:lnTo>
                    <a:pt x="2833" y="401"/>
                  </a:lnTo>
                  <a:lnTo>
                    <a:pt x="2882" y="388"/>
                  </a:lnTo>
                  <a:lnTo>
                    <a:pt x="2931" y="374"/>
                  </a:lnTo>
                  <a:lnTo>
                    <a:pt x="2980" y="360"/>
                  </a:lnTo>
                  <a:lnTo>
                    <a:pt x="3029" y="345"/>
                  </a:lnTo>
                  <a:lnTo>
                    <a:pt x="3079" y="329"/>
                  </a:lnTo>
                  <a:lnTo>
                    <a:pt x="3087" y="308"/>
                  </a:lnTo>
                  <a:lnTo>
                    <a:pt x="3079" y="329"/>
                  </a:lnTo>
                  <a:lnTo>
                    <a:pt x="3096" y="324"/>
                  </a:lnTo>
                  <a:lnTo>
                    <a:pt x="3087" y="308"/>
                  </a:lnTo>
                  <a:lnTo>
                    <a:pt x="3061" y="3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3193920" y="4070160"/>
              <a:ext cx="992160" cy="202680"/>
            </a:xfrm>
            <a:custGeom>
              <a:avLst/>
              <a:gdLst/>
              <a:ahLst/>
              <a:rect l="l" t="t" r="r" b="b"/>
              <a:pathLst>
                <a:path w="3122" h="639">
                  <a:moveTo>
                    <a:pt x="48" y="316"/>
                  </a:moveTo>
                  <a:lnTo>
                    <a:pt x="46" y="344"/>
                  </a:lnTo>
                  <a:lnTo>
                    <a:pt x="171" y="310"/>
                  </a:lnTo>
                  <a:lnTo>
                    <a:pt x="296" y="278"/>
                  </a:lnTo>
                  <a:lnTo>
                    <a:pt x="420" y="246"/>
                  </a:lnTo>
                  <a:lnTo>
                    <a:pt x="543" y="217"/>
                  </a:lnTo>
                  <a:lnTo>
                    <a:pt x="663" y="189"/>
                  </a:lnTo>
                  <a:lnTo>
                    <a:pt x="784" y="162"/>
                  </a:lnTo>
                  <a:lnTo>
                    <a:pt x="903" y="137"/>
                  </a:lnTo>
                  <a:lnTo>
                    <a:pt x="1021" y="115"/>
                  </a:lnTo>
                  <a:lnTo>
                    <a:pt x="1137" y="95"/>
                  </a:lnTo>
                  <a:lnTo>
                    <a:pt x="1251" y="77"/>
                  </a:lnTo>
                  <a:lnTo>
                    <a:pt x="1308" y="69"/>
                  </a:lnTo>
                  <a:lnTo>
                    <a:pt x="1363" y="62"/>
                  </a:lnTo>
                  <a:lnTo>
                    <a:pt x="1419" y="56"/>
                  </a:lnTo>
                  <a:lnTo>
                    <a:pt x="1474" y="50"/>
                  </a:lnTo>
                  <a:lnTo>
                    <a:pt x="1528" y="45"/>
                  </a:lnTo>
                  <a:lnTo>
                    <a:pt x="1582" y="40"/>
                  </a:lnTo>
                  <a:lnTo>
                    <a:pt x="1636" y="36"/>
                  </a:lnTo>
                  <a:lnTo>
                    <a:pt x="1689" y="34"/>
                  </a:lnTo>
                  <a:lnTo>
                    <a:pt x="1741" y="31"/>
                  </a:lnTo>
                  <a:lnTo>
                    <a:pt x="1792" y="31"/>
                  </a:lnTo>
                  <a:lnTo>
                    <a:pt x="1844" y="30"/>
                  </a:lnTo>
                  <a:lnTo>
                    <a:pt x="1895" y="31"/>
                  </a:lnTo>
                  <a:lnTo>
                    <a:pt x="1944" y="32"/>
                  </a:lnTo>
                  <a:lnTo>
                    <a:pt x="1993" y="35"/>
                  </a:lnTo>
                  <a:lnTo>
                    <a:pt x="2042" y="39"/>
                  </a:lnTo>
                  <a:lnTo>
                    <a:pt x="2089" y="42"/>
                  </a:lnTo>
                  <a:lnTo>
                    <a:pt x="2137" y="48"/>
                  </a:lnTo>
                  <a:lnTo>
                    <a:pt x="2184" y="54"/>
                  </a:lnTo>
                  <a:lnTo>
                    <a:pt x="2229" y="62"/>
                  </a:lnTo>
                  <a:lnTo>
                    <a:pt x="2273" y="70"/>
                  </a:lnTo>
                  <a:lnTo>
                    <a:pt x="2318" y="80"/>
                  </a:lnTo>
                  <a:lnTo>
                    <a:pt x="2361" y="90"/>
                  </a:lnTo>
                  <a:lnTo>
                    <a:pt x="2404" y="102"/>
                  </a:lnTo>
                  <a:lnTo>
                    <a:pt x="2446" y="115"/>
                  </a:lnTo>
                  <a:lnTo>
                    <a:pt x="2487" y="128"/>
                  </a:lnTo>
                  <a:lnTo>
                    <a:pt x="2527" y="144"/>
                  </a:lnTo>
                  <a:lnTo>
                    <a:pt x="2566" y="160"/>
                  </a:lnTo>
                  <a:lnTo>
                    <a:pt x="2606" y="177"/>
                  </a:lnTo>
                  <a:lnTo>
                    <a:pt x="2642" y="196"/>
                  </a:lnTo>
                  <a:lnTo>
                    <a:pt x="2679" y="216"/>
                  </a:lnTo>
                  <a:lnTo>
                    <a:pt x="2715" y="238"/>
                  </a:lnTo>
                  <a:lnTo>
                    <a:pt x="2751" y="260"/>
                  </a:lnTo>
                  <a:lnTo>
                    <a:pt x="2784" y="283"/>
                  </a:lnTo>
                  <a:lnTo>
                    <a:pt x="2817" y="309"/>
                  </a:lnTo>
                  <a:lnTo>
                    <a:pt x="2850" y="335"/>
                  </a:lnTo>
                  <a:lnTo>
                    <a:pt x="2881" y="363"/>
                  </a:lnTo>
                  <a:lnTo>
                    <a:pt x="2912" y="393"/>
                  </a:lnTo>
                  <a:lnTo>
                    <a:pt x="2941" y="423"/>
                  </a:lnTo>
                  <a:lnTo>
                    <a:pt x="2970" y="455"/>
                  </a:lnTo>
                  <a:lnTo>
                    <a:pt x="2997" y="489"/>
                  </a:lnTo>
                  <a:lnTo>
                    <a:pt x="3022" y="524"/>
                  </a:lnTo>
                  <a:lnTo>
                    <a:pt x="3048" y="560"/>
                  </a:lnTo>
                  <a:lnTo>
                    <a:pt x="3073" y="598"/>
                  </a:lnTo>
                  <a:lnTo>
                    <a:pt x="3096" y="639"/>
                  </a:lnTo>
                  <a:lnTo>
                    <a:pt x="3122" y="624"/>
                  </a:lnTo>
                  <a:lnTo>
                    <a:pt x="3099" y="583"/>
                  </a:lnTo>
                  <a:lnTo>
                    <a:pt x="3073" y="544"/>
                  </a:lnTo>
                  <a:lnTo>
                    <a:pt x="3047" y="506"/>
                  </a:lnTo>
                  <a:lnTo>
                    <a:pt x="3020" y="470"/>
                  </a:lnTo>
                  <a:lnTo>
                    <a:pt x="2992" y="436"/>
                  </a:lnTo>
                  <a:lnTo>
                    <a:pt x="2963" y="403"/>
                  </a:lnTo>
                  <a:lnTo>
                    <a:pt x="2933" y="371"/>
                  </a:lnTo>
                  <a:lnTo>
                    <a:pt x="2902" y="341"/>
                  </a:lnTo>
                  <a:lnTo>
                    <a:pt x="2870" y="313"/>
                  </a:lnTo>
                  <a:lnTo>
                    <a:pt x="2837" y="286"/>
                  </a:lnTo>
                  <a:lnTo>
                    <a:pt x="2802" y="260"/>
                  </a:lnTo>
                  <a:lnTo>
                    <a:pt x="2767" y="235"/>
                  </a:lnTo>
                  <a:lnTo>
                    <a:pt x="2731" y="212"/>
                  </a:lnTo>
                  <a:lnTo>
                    <a:pt x="2694" y="190"/>
                  </a:lnTo>
                  <a:lnTo>
                    <a:pt x="2656" y="170"/>
                  </a:lnTo>
                  <a:lnTo>
                    <a:pt x="2618" y="150"/>
                  </a:lnTo>
                  <a:lnTo>
                    <a:pt x="2578" y="132"/>
                  </a:lnTo>
                  <a:lnTo>
                    <a:pt x="2538" y="116"/>
                  </a:lnTo>
                  <a:lnTo>
                    <a:pt x="2497" y="100"/>
                  </a:lnTo>
                  <a:lnTo>
                    <a:pt x="2455" y="86"/>
                  </a:lnTo>
                  <a:lnTo>
                    <a:pt x="2412" y="73"/>
                  </a:lnTo>
                  <a:lnTo>
                    <a:pt x="2369" y="61"/>
                  </a:lnTo>
                  <a:lnTo>
                    <a:pt x="2325" y="51"/>
                  </a:lnTo>
                  <a:lnTo>
                    <a:pt x="2280" y="41"/>
                  </a:lnTo>
                  <a:lnTo>
                    <a:pt x="2234" y="32"/>
                  </a:lnTo>
                  <a:lnTo>
                    <a:pt x="2187" y="25"/>
                  </a:lnTo>
                  <a:lnTo>
                    <a:pt x="2141" y="19"/>
                  </a:lnTo>
                  <a:lnTo>
                    <a:pt x="2093" y="13"/>
                  </a:lnTo>
                  <a:lnTo>
                    <a:pt x="2045" y="9"/>
                  </a:lnTo>
                  <a:lnTo>
                    <a:pt x="1995" y="5"/>
                  </a:lnTo>
                  <a:lnTo>
                    <a:pt x="1945" y="3"/>
                  </a:lnTo>
                  <a:lnTo>
                    <a:pt x="1895" y="0"/>
                  </a:lnTo>
                  <a:lnTo>
                    <a:pt x="1844" y="0"/>
                  </a:lnTo>
                  <a:lnTo>
                    <a:pt x="1792" y="0"/>
                  </a:lnTo>
                  <a:lnTo>
                    <a:pt x="1740" y="2"/>
                  </a:lnTo>
                  <a:lnTo>
                    <a:pt x="1688" y="4"/>
                  </a:lnTo>
                  <a:lnTo>
                    <a:pt x="1634" y="7"/>
                  </a:lnTo>
                  <a:lnTo>
                    <a:pt x="1580" y="10"/>
                  </a:lnTo>
                  <a:lnTo>
                    <a:pt x="1526" y="14"/>
                  </a:lnTo>
                  <a:lnTo>
                    <a:pt x="1471" y="20"/>
                  </a:lnTo>
                  <a:lnTo>
                    <a:pt x="1416" y="25"/>
                  </a:lnTo>
                  <a:lnTo>
                    <a:pt x="1360" y="32"/>
                  </a:lnTo>
                  <a:lnTo>
                    <a:pt x="1303" y="40"/>
                  </a:lnTo>
                  <a:lnTo>
                    <a:pt x="1246" y="47"/>
                  </a:lnTo>
                  <a:lnTo>
                    <a:pt x="1132" y="66"/>
                  </a:lnTo>
                  <a:lnTo>
                    <a:pt x="1015" y="85"/>
                  </a:lnTo>
                  <a:lnTo>
                    <a:pt x="897" y="107"/>
                  </a:lnTo>
                  <a:lnTo>
                    <a:pt x="778" y="132"/>
                  </a:lnTo>
                  <a:lnTo>
                    <a:pt x="657" y="159"/>
                  </a:lnTo>
                  <a:lnTo>
                    <a:pt x="535" y="187"/>
                  </a:lnTo>
                  <a:lnTo>
                    <a:pt x="412" y="217"/>
                  </a:lnTo>
                  <a:lnTo>
                    <a:pt x="288" y="249"/>
                  </a:lnTo>
                  <a:lnTo>
                    <a:pt x="164" y="281"/>
                  </a:lnTo>
                  <a:lnTo>
                    <a:pt x="38" y="315"/>
                  </a:lnTo>
                  <a:lnTo>
                    <a:pt x="35" y="344"/>
                  </a:lnTo>
                  <a:lnTo>
                    <a:pt x="38" y="315"/>
                  </a:lnTo>
                  <a:lnTo>
                    <a:pt x="0" y="325"/>
                  </a:lnTo>
                  <a:lnTo>
                    <a:pt x="35" y="344"/>
                  </a:lnTo>
                  <a:lnTo>
                    <a:pt x="48" y="3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3309840" y="3916080"/>
              <a:ext cx="412920" cy="439560"/>
            </a:xfrm>
            <a:custGeom>
              <a:avLst/>
              <a:gdLst/>
              <a:ahLst/>
              <a:rect l="l" t="t" r="r" b="b"/>
              <a:pathLst>
                <a:path w="1304" h="1386">
                  <a:moveTo>
                    <a:pt x="381" y="1276"/>
                  </a:moveTo>
                  <a:lnTo>
                    <a:pt x="0" y="288"/>
                  </a:lnTo>
                  <a:lnTo>
                    <a:pt x="922" y="0"/>
                  </a:lnTo>
                  <a:lnTo>
                    <a:pt x="1304" y="1386"/>
                  </a:lnTo>
                  <a:lnTo>
                    <a:pt x="381" y="1276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3303720" y="4003560"/>
              <a:ext cx="131760" cy="320040"/>
            </a:xfrm>
            <a:custGeom>
              <a:avLst/>
              <a:gdLst/>
              <a:ahLst/>
              <a:rect l="l" t="t" r="r" b="b"/>
              <a:pathLst>
                <a:path w="415" h="1010">
                  <a:moveTo>
                    <a:pt x="15" y="0"/>
                  </a:moveTo>
                  <a:lnTo>
                    <a:pt x="5" y="19"/>
                  </a:lnTo>
                  <a:lnTo>
                    <a:pt x="388" y="1010"/>
                  </a:lnTo>
                  <a:lnTo>
                    <a:pt x="415" y="999"/>
                  </a:lnTo>
                  <a:lnTo>
                    <a:pt x="33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5"/>
                  </a:lnTo>
                  <a:lnTo>
                    <a:pt x="5" y="1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308400" y="3909960"/>
              <a:ext cx="298440" cy="101160"/>
            </a:xfrm>
            <a:custGeom>
              <a:avLst/>
              <a:gdLst/>
              <a:ahLst/>
              <a:rect l="l" t="t" r="r" b="b"/>
              <a:pathLst>
                <a:path w="941" h="320">
                  <a:moveTo>
                    <a:pt x="941" y="15"/>
                  </a:moveTo>
                  <a:lnTo>
                    <a:pt x="922" y="5"/>
                  </a:lnTo>
                  <a:lnTo>
                    <a:pt x="0" y="292"/>
                  </a:lnTo>
                  <a:lnTo>
                    <a:pt x="8" y="320"/>
                  </a:lnTo>
                  <a:lnTo>
                    <a:pt x="931" y="34"/>
                  </a:lnTo>
                  <a:lnTo>
                    <a:pt x="941" y="15"/>
                  </a:lnTo>
                  <a:lnTo>
                    <a:pt x="941" y="15"/>
                  </a:lnTo>
                  <a:lnTo>
                    <a:pt x="937" y="0"/>
                  </a:lnTo>
                  <a:lnTo>
                    <a:pt x="922" y="5"/>
                  </a:lnTo>
                  <a:lnTo>
                    <a:pt x="941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597120" y="3914640"/>
              <a:ext cx="131760" cy="447120"/>
            </a:xfrm>
            <a:custGeom>
              <a:avLst/>
              <a:gdLst/>
              <a:ahLst/>
              <a:rect l="l" t="t" r="r" b="b"/>
              <a:pathLst>
                <a:path w="416" h="1407">
                  <a:moveTo>
                    <a:pt x="394" y="1405"/>
                  </a:moveTo>
                  <a:lnTo>
                    <a:pt x="411" y="1386"/>
                  </a:lnTo>
                  <a:lnTo>
                    <a:pt x="29" y="0"/>
                  </a:lnTo>
                  <a:lnTo>
                    <a:pt x="0" y="9"/>
                  </a:lnTo>
                  <a:lnTo>
                    <a:pt x="382" y="1394"/>
                  </a:lnTo>
                  <a:lnTo>
                    <a:pt x="394" y="1405"/>
                  </a:lnTo>
                  <a:lnTo>
                    <a:pt x="394" y="1405"/>
                  </a:lnTo>
                  <a:lnTo>
                    <a:pt x="416" y="1407"/>
                  </a:lnTo>
                  <a:lnTo>
                    <a:pt x="411" y="1386"/>
                  </a:lnTo>
                  <a:lnTo>
                    <a:pt x="394" y="140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425760" y="4316040"/>
              <a:ext cx="298440" cy="44280"/>
            </a:xfrm>
            <a:custGeom>
              <a:avLst/>
              <a:gdLst/>
              <a:ahLst/>
              <a:rect l="l" t="t" r="r" b="b"/>
              <a:pathLst>
                <a:path w="937" h="139">
                  <a:moveTo>
                    <a:pt x="0" y="21"/>
                  </a:moveTo>
                  <a:lnTo>
                    <a:pt x="12" y="30"/>
                  </a:lnTo>
                  <a:lnTo>
                    <a:pt x="933" y="139"/>
                  </a:lnTo>
                  <a:lnTo>
                    <a:pt x="937" y="109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12" y="3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581280" y="3835080"/>
              <a:ext cx="227160" cy="501480"/>
            </a:xfrm>
            <a:custGeom>
              <a:avLst/>
              <a:gdLst/>
              <a:ahLst/>
              <a:rect l="l" t="t" r="r" b="b"/>
              <a:pathLst>
                <a:path w="716" h="1579">
                  <a:moveTo>
                    <a:pt x="0" y="1341"/>
                  </a:moveTo>
                  <a:lnTo>
                    <a:pt x="0" y="0"/>
                  </a:lnTo>
                  <a:lnTo>
                    <a:pt x="716" y="177"/>
                  </a:lnTo>
                  <a:lnTo>
                    <a:pt x="652" y="1579"/>
                  </a:lnTo>
                  <a:lnTo>
                    <a:pt x="0" y="1341"/>
                  </a:lnTo>
                  <a:close/>
                </a:path>
              </a:pathLst>
            </a:custGeom>
            <a:solidFill>
              <a:srgbClr val="ce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576600" y="3828960"/>
              <a:ext cx="9720" cy="431280"/>
            </a:xfrm>
            <a:custGeom>
              <a:avLst/>
              <a:gdLst/>
              <a:ahLst/>
              <a:rect l="l" t="t" r="r" b="b"/>
              <a:pathLst>
                <a:path w="30" h="1361">
                  <a:moveTo>
                    <a:pt x="19" y="5"/>
                  </a:moveTo>
                  <a:lnTo>
                    <a:pt x="0" y="20"/>
                  </a:lnTo>
                  <a:lnTo>
                    <a:pt x="0" y="1361"/>
                  </a:lnTo>
                  <a:lnTo>
                    <a:pt x="30" y="1361"/>
                  </a:lnTo>
                  <a:lnTo>
                    <a:pt x="30" y="2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579840" y="3830400"/>
              <a:ext cx="233280" cy="64800"/>
            </a:xfrm>
            <a:custGeom>
              <a:avLst/>
              <a:gdLst/>
              <a:ahLst/>
              <a:rect l="l" t="t" r="r" b="b"/>
              <a:pathLst>
                <a:path w="736" h="207">
                  <a:moveTo>
                    <a:pt x="735" y="193"/>
                  </a:moveTo>
                  <a:lnTo>
                    <a:pt x="724" y="177"/>
                  </a:lnTo>
                  <a:lnTo>
                    <a:pt x="8" y="0"/>
                  </a:lnTo>
                  <a:lnTo>
                    <a:pt x="0" y="28"/>
                  </a:lnTo>
                  <a:lnTo>
                    <a:pt x="716" y="207"/>
                  </a:lnTo>
                  <a:lnTo>
                    <a:pt x="735" y="193"/>
                  </a:lnTo>
                  <a:lnTo>
                    <a:pt x="735" y="193"/>
                  </a:lnTo>
                  <a:lnTo>
                    <a:pt x="736" y="181"/>
                  </a:lnTo>
                  <a:lnTo>
                    <a:pt x="724" y="177"/>
                  </a:lnTo>
                  <a:lnTo>
                    <a:pt x="735" y="19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82880" y="3890880"/>
              <a:ext cx="30240" cy="451800"/>
            </a:xfrm>
            <a:custGeom>
              <a:avLst/>
              <a:gdLst/>
              <a:ahLst/>
              <a:rect l="l" t="t" r="r" b="b"/>
              <a:pathLst>
                <a:path w="94" h="1423">
                  <a:moveTo>
                    <a:pt x="10" y="1416"/>
                  </a:moveTo>
                  <a:lnTo>
                    <a:pt x="30" y="1402"/>
                  </a:lnTo>
                  <a:lnTo>
                    <a:pt x="94" y="1"/>
                  </a:lnTo>
                  <a:lnTo>
                    <a:pt x="64" y="0"/>
                  </a:lnTo>
                  <a:lnTo>
                    <a:pt x="0" y="1401"/>
                  </a:lnTo>
                  <a:lnTo>
                    <a:pt x="10" y="1416"/>
                  </a:lnTo>
                  <a:lnTo>
                    <a:pt x="10" y="1416"/>
                  </a:lnTo>
                  <a:lnTo>
                    <a:pt x="29" y="1423"/>
                  </a:lnTo>
                  <a:lnTo>
                    <a:pt x="30" y="1402"/>
                  </a:lnTo>
                  <a:lnTo>
                    <a:pt x="10" y="14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3576600" y="4255920"/>
              <a:ext cx="212760" cy="83880"/>
            </a:xfrm>
            <a:custGeom>
              <a:avLst/>
              <a:gdLst/>
              <a:ahLst/>
              <a:rect l="l" t="t" r="r" b="b"/>
              <a:pathLst>
                <a:path w="672" h="266">
                  <a:moveTo>
                    <a:pt x="0" y="14"/>
                  </a:moveTo>
                  <a:lnTo>
                    <a:pt x="10" y="28"/>
                  </a:lnTo>
                  <a:lnTo>
                    <a:pt x="662" y="266"/>
                  </a:lnTo>
                  <a:lnTo>
                    <a:pt x="672" y="237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0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3889440" y="3835080"/>
              <a:ext cx="222120" cy="348840"/>
            </a:xfrm>
            <a:custGeom>
              <a:avLst/>
              <a:gdLst/>
              <a:ahLst/>
              <a:rect l="l" t="t" r="r" b="b"/>
              <a:pathLst>
                <a:path w="701" h="1101">
                  <a:moveTo>
                    <a:pt x="0" y="0"/>
                  </a:moveTo>
                  <a:lnTo>
                    <a:pt x="701" y="158"/>
                  </a:lnTo>
                  <a:lnTo>
                    <a:pt x="654" y="1101"/>
                  </a:lnTo>
                  <a:lnTo>
                    <a:pt x="35" y="9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3887640" y="3830400"/>
              <a:ext cx="228600" cy="58320"/>
            </a:xfrm>
            <a:custGeom>
              <a:avLst/>
              <a:gdLst/>
              <a:ahLst/>
              <a:rect l="l" t="t" r="r" b="b"/>
              <a:pathLst>
                <a:path w="718" h="187">
                  <a:moveTo>
                    <a:pt x="718" y="174"/>
                  </a:moveTo>
                  <a:lnTo>
                    <a:pt x="706" y="158"/>
                  </a:lnTo>
                  <a:lnTo>
                    <a:pt x="6" y="0"/>
                  </a:lnTo>
                  <a:lnTo>
                    <a:pt x="0" y="30"/>
                  </a:lnTo>
                  <a:lnTo>
                    <a:pt x="700" y="187"/>
                  </a:lnTo>
                  <a:lnTo>
                    <a:pt x="718" y="174"/>
                  </a:lnTo>
                  <a:lnTo>
                    <a:pt x="718" y="174"/>
                  </a:lnTo>
                  <a:lnTo>
                    <a:pt x="718" y="160"/>
                  </a:lnTo>
                  <a:lnTo>
                    <a:pt x="706" y="158"/>
                  </a:lnTo>
                  <a:lnTo>
                    <a:pt x="718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092480" y="3884400"/>
              <a:ext cx="23760" cy="306000"/>
            </a:xfrm>
            <a:custGeom>
              <a:avLst/>
              <a:gdLst/>
              <a:ahLst/>
              <a:rect l="l" t="t" r="r" b="b"/>
              <a:pathLst>
                <a:path w="76" h="963">
                  <a:moveTo>
                    <a:pt x="12" y="960"/>
                  </a:moveTo>
                  <a:lnTo>
                    <a:pt x="29" y="946"/>
                  </a:lnTo>
                  <a:lnTo>
                    <a:pt x="76" y="3"/>
                  </a:lnTo>
                  <a:lnTo>
                    <a:pt x="45" y="0"/>
                  </a:lnTo>
                  <a:lnTo>
                    <a:pt x="0" y="945"/>
                  </a:lnTo>
                  <a:lnTo>
                    <a:pt x="12" y="960"/>
                  </a:lnTo>
                  <a:lnTo>
                    <a:pt x="12" y="960"/>
                  </a:lnTo>
                  <a:lnTo>
                    <a:pt x="29" y="963"/>
                  </a:lnTo>
                  <a:lnTo>
                    <a:pt x="29" y="946"/>
                  </a:lnTo>
                  <a:lnTo>
                    <a:pt x="12" y="96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3895560" y="4140000"/>
              <a:ext cx="201600" cy="48960"/>
            </a:xfrm>
            <a:custGeom>
              <a:avLst/>
              <a:gdLst/>
              <a:ahLst/>
              <a:rect l="l" t="t" r="r" b="b"/>
              <a:pathLst>
                <a:path w="638" h="158">
                  <a:moveTo>
                    <a:pt x="0" y="15"/>
                  </a:moveTo>
                  <a:lnTo>
                    <a:pt x="12" y="29"/>
                  </a:lnTo>
                  <a:lnTo>
                    <a:pt x="632" y="158"/>
                  </a:lnTo>
                  <a:lnTo>
                    <a:pt x="638" y="129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7"/>
                  </a:lnTo>
                  <a:lnTo>
                    <a:pt x="12" y="2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3884760" y="3828960"/>
              <a:ext cx="20520" cy="315360"/>
            </a:xfrm>
            <a:custGeom>
              <a:avLst/>
              <a:gdLst/>
              <a:ahLst/>
              <a:rect l="l" t="t" r="r" b="b"/>
              <a:pathLst>
                <a:path w="66" h="993">
                  <a:moveTo>
                    <a:pt x="19" y="5"/>
                  </a:moveTo>
                  <a:lnTo>
                    <a:pt x="0" y="20"/>
                  </a:lnTo>
                  <a:lnTo>
                    <a:pt x="35" y="993"/>
                  </a:lnTo>
                  <a:lnTo>
                    <a:pt x="66" y="992"/>
                  </a:lnTo>
                  <a:lnTo>
                    <a:pt x="31" y="1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727440" y="4011480"/>
              <a:ext cx="293760" cy="360000"/>
            </a:xfrm>
            <a:custGeom>
              <a:avLst/>
              <a:gdLst/>
              <a:ahLst/>
              <a:rect l="l" t="t" r="r" b="b"/>
              <a:pathLst>
                <a:path w="922" h="1134">
                  <a:moveTo>
                    <a:pt x="0" y="1016"/>
                  </a:moveTo>
                  <a:lnTo>
                    <a:pt x="191" y="0"/>
                  </a:lnTo>
                  <a:lnTo>
                    <a:pt x="922" y="129"/>
                  </a:lnTo>
                  <a:lnTo>
                    <a:pt x="764" y="1134"/>
                  </a:lnTo>
                  <a:lnTo>
                    <a:pt x="0" y="10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3722760" y="4006800"/>
              <a:ext cx="69840" cy="327960"/>
            </a:xfrm>
            <a:custGeom>
              <a:avLst/>
              <a:gdLst/>
              <a:ahLst/>
              <a:rect l="l" t="t" r="r" b="b"/>
              <a:pathLst>
                <a:path w="220" h="1036">
                  <a:moveTo>
                    <a:pt x="207" y="3"/>
                  </a:moveTo>
                  <a:lnTo>
                    <a:pt x="190" y="15"/>
                  </a:lnTo>
                  <a:lnTo>
                    <a:pt x="0" y="1031"/>
                  </a:lnTo>
                  <a:lnTo>
                    <a:pt x="29" y="1036"/>
                  </a:lnTo>
                  <a:lnTo>
                    <a:pt x="220" y="21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193" y="0"/>
                  </a:lnTo>
                  <a:lnTo>
                    <a:pt x="190" y="15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3787920" y="4008240"/>
              <a:ext cx="237960" cy="48960"/>
            </a:xfrm>
            <a:custGeom>
              <a:avLst/>
              <a:gdLst/>
              <a:ahLst/>
              <a:rect l="l" t="t" r="r" b="b"/>
              <a:pathLst>
                <a:path w="750" h="158">
                  <a:moveTo>
                    <a:pt x="749" y="146"/>
                  </a:moveTo>
                  <a:lnTo>
                    <a:pt x="736" y="129"/>
                  </a:lnTo>
                  <a:lnTo>
                    <a:pt x="4" y="0"/>
                  </a:lnTo>
                  <a:lnTo>
                    <a:pt x="0" y="30"/>
                  </a:lnTo>
                  <a:lnTo>
                    <a:pt x="730" y="158"/>
                  </a:lnTo>
                  <a:lnTo>
                    <a:pt x="749" y="146"/>
                  </a:lnTo>
                  <a:lnTo>
                    <a:pt x="749" y="146"/>
                  </a:lnTo>
                  <a:lnTo>
                    <a:pt x="750" y="131"/>
                  </a:lnTo>
                  <a:lnTo>
                    <a:pt x="736" y="129"/>
                  </a:lnTo>
                  <a:lnTo>
                    <a:pt x="749" y="14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3965400" y="4052520"/>
              <a:ext cx="60480" cy="325080"/>
            </a:xfrm>
            <a:custGeom>
              <a:avLst/>
              <a:gdLst/>
              <a:ahLst/>
              <a:rect l="l" t="t" r="r" b="b"/>
              <a:pathLst>
                <a:path w="189" h="1024">
                  <a:moveTo>
                    <a:pt x="13" y="1021"/>
                  </a:moveTo>
                  <a:lnTo>
                    <a:pt x="30" y="1009"/>
                  </a:lnTo>
                  <a:lnTo>
                    <a:pt x="189" y="4"/>
                  </a:lnTo>
                  <a:lnTo>
                    <a:pt x="158" y="0"/>
                  </a:lnTo>
                  <a:lnTo>
                    <a:pt x="0" y="1004"/>
                  </a:lnTo>
                  <a:lnTo>
                    <a:pt x="13" y="1021"/>
                  </a:lnTo>
                  <a:lnTo>
                    <a:pt x="13" y="1021"/>
                  </a:lnTo>
                  <a:lnTo>
                    <a:pt x="27" y="1024"/>
                  </a:lnTo>
                  <a:lnTo>
                    <a:pt x="30" y="1009"/>
                  </a:lnTo>
                  <a:lnTo>
                    <a:pt x="13" y="10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3722760" y="4330440"/>
              <a:ext cx="249120" cy="45720"/>
            </a:xfrm>
            <a:custGeom>
              <a:avLst/>
              <a:gdLst/>
              <a:ahLst/>
              <a:rect l="l" t="t" r="r" b="b"/>
              <a:pathLst>
                <a:path w="785" h="147">
                  <a:moveTo>
                    <a:pt x="4" y="12"/>
                  </a:moveTo>
                  <a:lnTo>
                    <a:pt x="16" y="29"/>
                  </a:lnTo>
                  <a:lnTo>
                    <a:pt x="780" y="147"/>
                  </a:lnTo>
                  <a:lnTo>
                    <a:pt x="785" y="118"/>
                  </a:lnTo>
                  <a:lnTo>
                    <a:pt x="20" y="0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27"/>
                  </a:lnTo>
                  <a:lnTo>
                    <a:pt x="16" y="29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787920" y="3957480"/>
              <a:ext cx="388800" cy="439200"/>
            </a:xfrm>
            <a:custGeom>
              <a:avLst/>
              <a:gdLst/>
              <a:ahLst/>
              <a:rect l="l" t="t" r="r" b="b"/>
              <a:pathLst>
                <a:path w="1225" h="1386">
                  <a:moveTo>
                    <a:pt x="221" y="0"/>
                  </a:moveTo>
                  <a:lnTo>
                    <a:pt x="1225" y="348"/>
                  </a:lnTo>
                  <a:lnTo>
                    <a:pt x="937" y="1386"/>
                  </a:lnTo>
                  <a:lnTo>
                    <a:pt x="0" y="119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e9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3857760" y="3952800"/>
              <a:ext cx="325440" cy="118440"/>
            </a:xfrm>
            <a:custGeom>
              <a:avLst/>
              <a:gdLst/>
              <a:ahLst/>
              <a:rect l="l" t="t" r="r" b="b"/>
              <a:pathLst>
                <a:path w="1024" h="376">
                  <a:moveTo>
                    <a:pt x="1021" y="366"/>
                  </a:moveTo>
                  <a:lnTo>
                    <a:pt x="1012" y="347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002" y="376"/>
                  </a:lnTo>
                  <a:lnTo>
                    <a:pt x="1021" y="366"/>
                  </a:lnTo>
                  <a:lnTo>
                    <a:pt x="1021" y="366"/>
                  </a:lnTo>
                  <a:lnTo>
                    <a:pt x="1024" y="352"/>
                  </a:lnTo>
                  <a:lnTo>
                    <a:pt x="1012" y="347"/>
                  </a:lnTo>
                  <a:lnTo>
                    <a:pt x="1021" y="3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081320" y="4065480"/>
              <a:ext cx="100080" cy="336240"/>
            </a:xfrm>
            <a:custGeom>
              <a:avLst/>
              <a:gdLst/>
              <a:ahLst/>
              <a:rect l="l" t="t" r="r" b="b"/>
              <a:pathLst>
                <a:path w="315" h="1060">
                  <a:moveTo>
                    <a:pt x="11" y="1058"/>
                  </a:moveTo>
                  <a:lnTo>
                    <a:pt x="28" y="1047"/>
                  </a:lnTo>
                  <a:lnTo>
                    <a:pt x="315" y="9"/>
                  </a:lnTo>
                  <a:lnTo>
                    <a:pt x="286" y="0"/>
                  </a:lnTo>
                  <a:lnTo>
                    <a:pt x="0" y="1039"/>
                  </a:lnTo>
                  <a:lnTo>
                    <a:pt x="11" y="1058"/>
                  </a:lnTo>
                  <a:lnTo>
                    <a:pt x="11" y="1058"/>
                  </a:lnTo>
                  <a:lnTo>
                    <a:pt x="24" y="1060"/>
                  </a:lnTo>
                  <a:lnTo>
                    <a:pt x="28" y="1047"/>
                  </a:lnTo>
                  <a:lnTo>
                    <a:pt x="11" y="105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782880" y="4332240"/>
              <a:ext cx="304920" cy="69480"/>
            </a:xfrm>
            <a:custGeom>
              <a:avLst/>
              <a:gdLst/>
              <a:ahLst/>
              <a:rect l="l" t="t" r="r" b="b"/>
              <a:pathLst>
                <a:path w="958" h="222">
                  <a:moveTo>
                    <a:pt x="2" y="12"/>
                  </a:moveTo>
                  <a:lnTo>
                    <a:pt x="13" y="30"/>
                  </a:lnTo>
                  <a:lnTo>
                    <a:pt x="952" y="222"/>
                  </a:lnTo>
                  <a:lnTo>
                    <a:pt x="958" y="192"/>
                  </a:lnTo>
                  <a:lnTo>
                    <a:pt x="19" y="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13" y="3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3782880" y="3951000"/>
              <a:ext cx="81000" cy="385560"/>
            </a:xfrm>
            <a:custGeom>
              <a:avLst/>
              <a:gdLst/>
              <a:ahLst/>
              <a:rect l="l" t="t" r="r" b="b"/>
              <a:pathLst>
                <a:path w="251" h="1217">
                  <a:moveTo>
                    <a:pt x="241" y="6"/>
                  </a:moveTo>
                  <a:lnTo>
                    <a:pt x="222" y="17"/>
                  </a:lnTo>
                  <a:lnTo>
                    <a:pt x="0" y="1211"/>
                  </a:lnTo>
                  <a:lnTo>
                    <a:pt x="30" y="1217"/>
                  </a:lnTo>
                  <a:lnTo>
                    <a:pt x="251" y="24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5" y="0"/>
                  </a:lnTo>
                  <a:lnTo>
                    <a:pt x="222" y="17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3529080" y="3298680"/>
              <a:ext cx="549360" cy="1107720"/>
            </a:xfrm>
            <a:custGeom>
              <a:avLst/>
              <a:gdLst/>
              <a:ahLst/>
              <a:rect l="l" t="t" r="r" b="b"/>
              <a:pathLst>
                <a:path w="1731" h="3492">
                  <a:moveTo>
                    <a:pt x="1731" y="813"/>
                  </a:moveTo>
                  <a:lnTo>
                    <a:pt x="1731" y="784"/>
                  </a:lnTo>
                  <a:lnTo>
                    <a:pt x="1731" y="754"/>
                  </a:lnTo>
                  <a:lnTo>
                    <a:pt x="1731" y="726"/>
                  </a:lnTo>
                  <a:lnTo>
                    <a:pt x="1729" y="696"/>
                  </a:lnTo>
                  <a:lnTo>
                    <a:pt x="1726" y="667"/>
                  </a:lnTo>
                  <a:lnTo>
                    <a:pt x="1724" y="637"/>
                  </a:lnTo>
                  <a:lnTo>
                    <a:pt x="1719" y="609"/>
                  </a:lnTo>
                  <a:lnTo>
                    <a:pt x="1713" y="579"/>
                  </a:lnTo>
                  <a:lnTo>
                    <a:pt x="1707" y="551"/>
                  </a:lnTo>
                  <a:lnTo>
                    <a:pt x="1699" y="523"/>
                  </a:lnTo>
                  <a:lnTo>
                    <a:pt x="1689" y="493"/>
                  </a:lnTo>
                  <a:lnTo>
                    <a:pt x="1678" y="466"/>
                  </a:lnTo>
                  <a:lnTo>
                    <a:pt x="1667" y="438"/>
                  </a:lnTo>
                  <a:lnTo>
                    <a:pt x="1654" y="411"/>
                  </a:lnTo>
                  <a:lnTo>
                    <a:pt x="1638" y="384"/>
                  </a:lnTo>
                  <a:lnTo>
                    <a:pt x="1622" y="357"/>
                  </a:lnTo>
                  <a:lnTo>
                    <a:pt x="1603" y="330"/>
                  </a:lnTo>
                  <a:lnTo>
                    <a:pt x="1582" y="304"/>
                  </a:lnTo>
                  <a:lnTo>
                    <a:pt x="1560" y="279"/>
                  </a:lnTo>
                  <a:lnTo>
                    <a:pt x="1536" y="254"/>
                  </a:lnTo>
                  <a:lnTo>
                    <a:pt x="1510" y="229"/>
                  </a:lnTo>
                  <a:lnTo>
                    <a:pt x="1481" y="206"/>
                  </a:lnTo>
                  <a:lnTo>
                    <a:pt x="1452" y="182"/>
                  </a:lnTo>
                  <a:lnTo>
                    <a:pt x="1419" y="159"/>
                  </a:lnTo>
                  <a:lnTo>
                    <a:pt x="1384" y="137"/>
                  </a:lnTo>
                  <a:lnTo>
                    <a:pt x="1346" y="115"/>
                  </a:lnTo>
                  <a:lnTo>
                    <a:pt x="1307" y="94"/>
                  </a:lnTo>
                  <a:lnTo>
                    <a:pt x="1265" y="74"/>
                  </a:lnTo>
                  <a:lnTo>
                    <a:pt x="1219" y="54"/>
                  </a:lnTo>
                  <a:lnTo>
                    <a:pt x="1173" y="36"/>
                  </a:lnTo>
                  <a:lnTo>
                    <a:pt x="1122" y="17"/>
                  </a:lnTo>
                  <a:lnTo>
                    <a:pt x="1069" y="0"/>
                  </a:lnTo>
                  <a:lnTo>
                    <a:pt x="999" y="14"/>
                  </a:lnTo>
                  <a:lnTo>
                    <a:pt x="930" y="28"/>
                  </a:lnTo>
                  <a:lnTo>
                    <a:pt x="864" y="43"/>
                  </a:lnTo>
                  <a:lnTo>
                    <a:pt x="799" y="59"/>
                  </a:lnTo>
                  <a:lnTo>
                    <a:pt x="735" y="76"/>
                  </a:lnTo>
                  <a:lnTo>
                    <a:pt x="673" y="95"/>
                  </a:lnTo>
                  <a:lnTo>
                    <a:pt x="613" y="115"/>
                  </a:lnTo>
                  <a:lnTo>
                    <a:pt x="556" y="135"/>
                  </a:lnTo>
                  <a:lnTo>
                    <a:pt x="528" y="146"/>
                  </a:lnTo>
                  <a:lnTo>
                    <a:pt x="501" y="158"/>
                  </a:lnTo>
                  <a:lnTo>
                    <a:pt x="475" y="170"/>
                  </a:lnTo>
                  <a:lnTo>
                    <a:pt x="449" y="182"/>
                  </a:lnTo>
                  <a:lnTo>
                    <a:pt x="424" y="194"/>
                  </a:lnTo>
                  <a:lnTo>
                    <a:pt x="399" y="208"/>
                  </a:lnTo>
                  <a:lnTo>
                    <a:pt x="376" y="222"/>
                  </a:lnTo>
                  <a:lnTo>
                    <a:pt x="352" y="235"/>
                  </a:lnTo>
                  <a:lnTo>
                    <a:pt x="330" y="250"/>
                  </a:lnTo>
                  <a:lnTo>
                    <a:pt x="309" y="265"/>
                  </a:lnTo>
                  <a:lnTo>
                    <a:pt x="288" y="281"/>
                  </a:lnTo>
                  <a:lnTo>
                    <a:pt x="267" y="297"/>
                  </a:lnTo>
                  <a:lnTo>
                    <a:pt x="249" y="314"/>
                  </a:lnTo>
                  <a:lnTo>
                    <a:pt x="230" y="331"/>
                  </a:lnTo>
                  <a:lnTo>
                    <a:pt x="212" y="348"/>
                  </a:lnTo>
                  <a:lnTo>
                    <a:pt x="196" y="367"/>
                  </a:lnTo>
                  <a:lnTo>
                    <a:pt x="162" y="453"/>
                  </a:lnTo>
                  <a:lnTo>
                    <a:pt x="131" y="540"/>
                  </a:lnTo>
                  <a:lnTo>
                    <a:pt x="104" y="629"/>
                  </a:lnTo>
                  <a:lnTo>
                    <a:pt x="80" y="721"/>
                  </a:lnTo>
                  <a:lnTo>
                    <a:pt x="60" y="814"/>
                  </a:lnTo>
                  <a:lnTo>
                    <a:pt x="44" y="909"/>
                  </a:lnTo>
                  <a:lnTo>
                    <a:pt x="29" y="1005"/>
                  </a:lnTo>
                  <a:lnTo>
                    <a:pt x="18" y="1103"/>
                  </a:lnTo>
                  <a:lnTo>
                    <a:pt x="10" y="1202"/>
                  </a:lnTo>
                  <a:lnTo>
                    <a:pt x="4" y="1303"/>
                  </a:lnTo>
                  <a:lnTo>
                    <a:pt x="0" y="1404"/>
                  </a:lnTo>
                  <a:lnTo>
                    <a:pt x="0" y="1506"/>
                  </a:lnTo>
                  <a:lnTo>
                    <a:pt x="2" y="1608"/>
                  </a:lnTo>
                  <a:lnTo>
                    <a:pt x="4" y="1711"/>
                  </a:lnTo>
                  <a:lnTo>
                    <a:pt x="9" y="1814"/>
                  </a:lnTo>
                  <a:lnTo>
                    <a:pt x="15" y="1918"/>
                  </a:lnTo>
                  <a:lnTo>
                    <a:pt x="24" y="2021"/>
                  </a:lnTo>
                  <a:lnTo>
                    <a:pt x="32" y="2124"/>
                  </a:lnTo>
                  <a:lnTo>
                    <a:pt x="44" y="2228"/>
                  </a:lnTo>
                  <a:lnTo>
                    <a:pt x="55" y="2330"/>
                  </a:lnTo>
                  <a:lnTo>
                    <a:pt x="79" y="2533"/>
                  </a:lnTo>
                  <a:lnTo>
                    <a:pt x="106" y="2733"/>
                  </a:lnTo>
                  <a:lnTo>
                    <a:pt x="135" y="2928"/>
                  </a:lnTo>
                  <a:lnTo>
                    <a:pt x="162" y="3117"/>
                  </a:lnTo>
                  <a:lnTo>
                    <a:pt x="186" y="3299"/>
                  </a:lnTo>
                  <a:lnTo>
                    <a:pt x="208" y="3472"/>
                  </a:lnTo>
                  <a:lnTo>
                    <a:pt x="277" y="3475"/>
                  </a:lnTo>
                  <a:lnTo>
                    <a:pt x="345" y="3477"/>
                  </a:lnTo>
                  <a:lnTo>
                    <a:pt x="413" y="3479"/>
                  </a:lnTo>
                  <a:lnTo>
                    <a:pt x="480" y="3481"/>
                  </a:lnTo>
                  <a:lnTo>
                    <a:pt x="548" y="3483"/>
                  </a:lnTo>
                  <a:lnTo>
                    <a:pt x="615" y="3486"/>
                  </a:lnTo>
                  <a:lnTo>
                    <a:pt x="682" y="3488"/>
                  </a:lnTo>
                  <a:lnTo>
                    <a:pt x="750" y="3492"/>
                  </a:lnTo>
                  <a:lnTo>
                    <a:pt x="693" y="3166"/>
                  </a:lnTo>
                  <a:lnTo>
                    <a:pt x="633" y="2812"/>
                  </a:lnTo>
                  <a:lnTo>
                    <a:pt x="602" y="2626"/>
                  </a:lnTo>
                  <a:lnTo>
                    <a:pt x="571" y="2438"/>
                  </a:lnTo>
                  <a:lnTo>
                    <a:pt x="543" y="2246"/>
                  </a:lnTo>
                  <a:lnTo>
                    <a:pt x="517" y="2054"/>
                  </a:lnTo>
                  <a:lnTo>
                    <a:pt x="504" y="1958"/>
                  </a:lnTo>
                  <a:lnTo>
                    <a:pt x="492" y="1862"/>
                  </a:lnTo>
                  <a:lnTo>
                    <a:pt x="481" y="1766"/>
                  </a:lnTo>
                  <a:lnTo>
                    <a:pt x="472" y="1672"/>
                  </a:lnTo>
                  <a:lnTo>
                    <a:pt x="463" y="1577"/>
                  </a:lnTo>
                  <a:lnTo>
                    <a:pt x="454" y="1482"/>
                  </a:lnTo>
                  <a:lnTo>
                    <a:pt x="448" y="1390"/>
                  </a:lnTo>
                  <a:lnTo>
                    <a:pt x="442" y="1298"/>
                  </a:lnTo>
                  <a:lnTo>
                    <a:pt x="438" y="1208"/>
                  </a:lnTo>
                  <a:lnTo>
                    <a:pt x="436" y="1118"/>
                  </a:lnTo>
                  <a:lnTo>
                    <a:pt x="433" y="1031"/>
                  </a:lnTo>
                  <a:lnTo>
                    <a:pt x="433" y="945"/>
                  </a:lnTo>
                  <a:lnTo>
                    <a:pt x="436" y="861"/>
                  </a:lnTo>
                  <a:lnTo>
                    <a:pt x="440" y="779"/>
                  </a:lnTo>
                  <a:lnTo>
                    <a:pt x="445" y="699"/>
                  </a:lnTo>
                  <a:lnTo>
                    <a:pt x="451" y="621"/>
                  </a:lnTo>
                  <a:lnTo>
                    <a:pt x="490" y="587"/>
                  </a:lnTo>
                  <a:lnTo>
                    <a:pt x="529" y="555"/>
                  </a:lnTo>
                  <a:lnTo>
                    <a:pt x="569" y="524"/>
                  </a:lnTo>
                  <a:lnTo>
                    <a:pt x="607" y="496"/>
                  </a:lnTo>
                  <a:lnTo>
                    <a:pt x="646" y="470"/>
                  </a:lnTo>
                  <a:lnTo>
                    <a:pt x="686" y="447"/>
                  </a:lnTo>
                  <a:lnTo>
                    <a:pt x="724" y="424"/>
                  </a:lnTo>
                  <a:lnTo>
                    <a:pt x="763" y="405"/>
                  </a:lnTo>
                  <a:lnTo>
                    <a:pt x="802" y="388"/>
                  </a:lnTo>
                  <a:lnTo>
                    <a:pt x="842" y="373"/>
                  </a:lnTo>
                  <a:lnTo>
                    <a:pt x="880" y="362"/>
                  </a:lnTo>
                  <a:lnTo>
                    <a:pt x="919" y="352"/>
                  </a:lnTo>
                  <a:lnTo>
                    <a:pt x="959" y="345"/>
                  </a:lnTo>
                  <a:lnTo>
                    <a:pt x="998" y="341"/>
                  </a:lnTo>
                  <a:lnTo>
                    <a:pt x="1037" y="340"/>
                  </a:lnTo>
                  <a:lnTo>
                    <a:pt x="1078" y="341"/>
                  </a:lnTo>
                  <a:lnTo>
                    <a:pt x="1117" y="346"/>
                  </a:lnTo>
                  <a:lnTo>
                    <a:pt x="1157" y="353"/>
                  </a:lnTo>
                  <a:lnTo>
                    <a:pt x="1197" y="364"/>
                  </a:lnTo>
                  <a:lnTo>
                    <a:pt x="1237" y="378"/>
                  </a:lnTo>
                  <a:lnTo>
                    <a:pt x="1277" y="395"/>
                  </a:lnTo>
                  <a:lnTo>
                    <a:pt x="1318" y="415"/>
                  </a:lnTo>
                  <a:lnTo>
                    <a:pt x="1358" y="438"/>
                  </a:lnTo>
                  <a:lnTo>
                    <a:pt x="1399" y="465"/>
                  </a:lnTo>
                  <a:lnTo>
                    <a:pt x="1440" y="496"/>
                  </a:lnTo>
                  <a:lnTo>
                    <a:pt x="1480" y="530"/>
                  </a:lnTo>
                  <a:lnTo>
                    <a:pt x="1522" y="568"/>
                  </a:lnTo>
                  <a:lnTo>
                    <a:pt x="1563" y="609"/>
                  </a:lnTo>
                  <a:lnTo>
                    <a:pt x="1604" y="654"/>
                  </a:lnTo>
                  <a:lnTo>
                    <a:pt x="1646" y="704"/>
                  </a:lnTo>
                  <a:lnTo>
                    <a:pt x="1688" y="757"/>
                  </a:lnTo>
                  <a:lnTo>
                    <a:pt x="1731" y="813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3867120" y="3294000"/>
              <a:ext cx="217440" cy="263160"/>
            </a:xfrm>
            <a:custGeom>
              <a:avLst/>
              <a:gdLst/>
              <a:ahLst/>
              <a:rect l="l" t="t" r="r" b="b"/>
              <a:pathLst>
                <a:path w="681" h="830">
                  <a:moveTo>
                    <a:pt x="6" y="31"/>
                  </a:moveTo>
                  <a:lnTo>
                    <a:pt x="0" y="31"/>
                  </a:lnTo>
                  <a:lnTo>
                    <a:pt x="51" y="47"/>
                  </a:lnTo>
                  <a:lnTo>
                    <a:pt x="102" y="65"/>
                  </a:lnTo>
                  <a:lnTo>
                    <a:pt x="148" y="84"/>
                  </a:lnTo>
                  <a:lnTo>
                    <a:pt x="193" y="103"/>
                  </a:lnTo>
                  <a:lnTo>
                    <a:pt x="235" y="123"/>
                  </a:lnTo>
                  <a:lnTo>
                    <a:pt x="273" y="144"/>
                  </a:lnTo>
                  <a:lnTo>
                    <a:pt x="310" y="165"/>
                  </a:lnTo>
                  <a:lnTo>
                    <a:pt x="344" y="187"/>
                  </a:lnTo>
                  <a:lnTo>
                    <a:pt x="376" y="209"/>
                  </a:lnTo>
                  <a:lnTo>
                    <a:pt x="407" y="233"/>
                  </a:lnTo>
                  <a:lnTo>
                    <a:pt x="434" y="256"/>
                  </a:lnTo>
                  <a:lnTo>
                    <a:pt x="460" y="281"/>
                  </a:lnTo>
                  <a:lnTo>
                    <a:pt x="483" y="305"/>
                  </a:lnTo>
                  <a:lnTo>
                    <a:pt x="505" y="330"/>
                  </a:lnTo>
                  <a:lnTo>
                    <a:pt x="525" y="356"/>
                  </a:lnTo>
                  <a:lnTo>
                    <a:pt x="543" y="381"/>
                  </a:lnTo>
                  <a:lnTo>
                    <a:pt x="559" y="407"/>
                  </a:lnTo>
                  <a:lnTo>
                    <a:pt x="574" y="433"/>
                  </a:lnTo>
                  <a:lnTo>
                    <a:pt x="588" y="460"/>
                  </a:lnTo>
                  <a:lnTo>
                    <a:pt x="599" y="487"/>
                  </a:lnTo>
                  <a:lnTo>
                    <a:pt x="610" y="516"/>
                  </a:lnTo>
                  <a:lnTo>
                    <a:pt x="618" y="543"/>
                  </a:lnTo>
                  <a:lnTo>
                    <a:pt x="626" y="571"/>
                  </a:lnTo>
                  <a:lnTo>
                    <a:pt x="632" y="599"/>
                  </a:lnTo>
                  <a:lnTo>
                    <a:pt x="638" y="627"/>
                  </a:lnTo>
                  <a:lnTo>
                    <a:pt x="642" y="656"/>
                  </a:lnTo>
                  <a:lnTo>
                    <a:pt x="645" y="684"/>
                  </a:lnTo>
                  <a:lnTo>
                    <a:pt x="648" y="714"/>
                  </a:lnTo>
                  <a:lnTo>
                    <a:pt x="649" y="742"/>
                  </a:lnTo>
                  <a:lnTo>
                    <a:pt x="650" y="771"/>
                  </a:lnTo>
                  <a:lnTo>
                    <a:pt x="650" y="800"/>
                  </a:lnTo>
                  <a:lnTo>
                    <a:pt x="650" y="829"/>
                  </a:lnTo>
                  <a:lnTo>
                    <a:pt x="680" y="830"/>
                  </a:lnTo>
                  <a:lnTo>
                    <a:pt x="681" y="800"/>
                  </a:lnTo>
                  <a:lnTo>
                    <a:pt x="680" y="770"/>
                  </a:lnTo>
                  <a:lnTo>
                    <a:pt x="680" y="741"/>
                  </a:lnTo>
                  <a:lnTo>
                    <a:pt x="679" y="711"/>
                  </a:lnTo>
                  <a:lnTo>
                    <a:pt x="675" y="682"/>
                  </a:lnTo>
                  <a:lnTo>
                    <a:pt x="672" y="652"/>
                  </a:lnTo>
                  <a:lnTo>
                    <a:pt x="668" y="623"/>
                  </a:lnTo>
                  <a:lnTo>
                    <a:pt x="661" y="593"/>
                  </a:lnTo>
                  <a:lnTo>
                    <a:pt x="655" y="563"/>
                  </a:lnTo>
                  <a:lnTo>
                    <a:pt x="647" y="534"/>
                  </a:lnTo>
                  <a:lnTo>
                    <a:pt x="638" y="504"/>
                  </a:lnTo>
                  <a:lnTo>
                    <a:pt x="627" y="476"/>
                  </a:lnTo>
                  <a:lnTo>
                    <a:pt x="615" y="448"/>
                  </a:lnTo>
                  <a:lnTo>
                    <a:pt x="600" y="420"/>
                  </a:lnTo>
                  <a:lnTo>
                    <a:pt x="585" y="391"/>
                  </a:lnTo>
                  <a:lnTo>
                    <a:pt x="568" y="364"/>
                  </a:lnTo>
                  <a:lnTo>
                    <a:pt x="548" y="337"/>
                  </a:lnTo>
                  <a:lnTo>
                    <a:pt x="529" y="311"/>
                  </a:lnTo>
                  <a:lnTo>
                    <a:pt x="505" y="284"/>
                  </a:lnTo>
                  <a:lnTo>
                    <a:pt x="481" y="258"/>
                  </a:lnTo>
                  <a:lnTo>
                    <a:pt x="454" y="234"/>
                  </a:lnTo>
                  <a:lnTo>
                    <a:pt x="425" y="209"/>
                  </a:lnTo>
                  <a:lnTo>
                    <a:pt x="395" y="186"/>
                  </a:lnTo>
                  <a:lnTo>
                    <a:pt x="361" y="162"/>
                  </a:lnTo>
                  <a:lnTo>
                    <a:pt x="326" y="139"/>
                  </a:lnTo>
                  <a:lnTo>
                    <a:pt x="287" y="118"/>
                  </a:lnTo>
                  <a:lnTo>
                    <a:pt x="248" y="96"/>
                  </a:lnTo>
                  <a:lnTo>
                    <a:pt x="205" y="76"/>
                  </a:lnTo>
                  <a:lnTo>
                    <a:pt x="160" y="57"/>
                  </a:lnTo>
                  <a:lnTo>
                    <a:pt x="112" y="37"/>
                  </a:lnTo>
                  <a:lnTo>
                    <a:pt x="61" y="19"/>
                  </a:lnTo>
                  <a:lnTo>
                    <a:pt x="8" y="1"/>
                  </a:lnTo>
                  <a:lnTo>
                    <a:pt x="1" y="1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587760" y="3294000"/>
              <a:ext cx="282600" cy="123480"/>
            </a:xfrm>
            <a:custGeom>
              <a:avLst/>
              <a:gdLst/>
              <a:ahLst/>
              <a:rect l="l" t="t" r="r" b="b"/>
              <a:pathLst>
                <a:path w="889" h="392">
                  <a:moveTo>
                    <a:pt x="27" y="388"/>
                  </a:moveTo>
                  <a:lnTo>
                    <a:pt x="24" y="392"/>
                  </a:lnTo>
                  <a:lnTo>
                    <a:pt x="40" y="374"/>
                  </a:lnTo>
                  <a:lnTo>
                    <a:pt x="57" y="357"/>
                  </a:lnTo>
                  <a:lnTo>
                    <a:pt x="76" y="340"/>
                  </a:lnTo>
                  <a:lnTo>
                    <a:pt x="94" y="324"/>
                  </a:lnTo>
                  <a:lnTo>
                    <a:pt x="114" y="308"/>
                  </a:lnTo>
                  <a:lnTo>
                    <a:pt x="135" y="292"/>
                  </a:lnTo>
                  <a:lnTo>
                    <a:pt x="156" y="277"/>
                  </a:lnTo>
                  <a:lnTo>
                    <a:pt x="178" y="262"/>
                  </a:lnTo>
                  <a:lnTo>
                    <a:pt x="200" y="249"/>
                  </a:lnTo>
                  <a:lnTo>
                    <a:pt x="223" y="235"/>
                  </a:lnTo>
                  <a:lnTo>
                    <a:pt x="248" y="223"/>
                  </a:lnTo>
                  <a:lnTo>
                    <a:pt x="273" y="211"/>
                  </a:lnTo>
                  <a:lnTo>
                    <a:pt x="298" y="198"/>
                  </a:lnTo>
                  <a:lnTo>
                    <a:pt x="324" y="186"/>
                  </a:lnTo>
                  <a:lnTo>
                    <a:pt x="351" y="175"/>
                  </a:lnTo>
                  <a:lnTo>
                    <a:pt x="378" y="164"/>
                  </a:lnTo>
                  <a:lnTo>
                    <a:pt x="435" y="143"/>
                  </a:lnTo>
                  <a:lnTo>
                    <a:pt x="494" y="125"/>
                  </a:lnTo>
                  <a:lnTo>
                    <a:pt x="555" y="106"/>
                  </a:lnTo>
                  <a:lnTo>
                    <a:pt x="619" y="89"/>
                  </a:lnTo>
                  <a:lnTo>
                    <a:pt x="685" y="73"/>
                  </a:lnTo>
                  <a:lnTo>
                    <a:pt x="751" y="58"/>
                  </a:lnTo>
                  <a:lnTo>
                    <a:pt x="820" y="43"/>
                  </a:lnTo>
                  <a:lnTo>
                    <a:pt x="889" y="30"/>
                  </a:lnTo>
                  <a:lnTo>
                    <a:pt x="884" y="0"/>
                  </a:lnTo>
                  <a:lnTo>
                    <a:pt x="814" y="14"/>
                  </a:lnTo>
                  <a:lnTo>
                    <a:pt x="745" y="29"/>
                  </a:lnTo>
                  <a:lnTo>
                    <a:pt x="677" y="43"/>
                  </a:lnTo>
                  <a:lnTo>
                    <a:pt x="612" y="59"/>
                  </a:lnTo>
                  <a:lnTo>
                    <a:pt x="548" y="77"/>
                  </a:lnTo>
                  <a:lnTo>
                    <a:pt x="485" y="95"/>
                  </a:lnTo>
                  <a:lnTo>
                    <a:pt x="425" y="115"/>
                  </a:lnTo>
                  <a:lnTo>
                    <a:pt x="369" y="136"/>
                  </a:lnTo>
                  <a:lnTo>
                    <a:pt x="340" y="148"/>
                  </a:lnTo>
                  <a:lnTo>
                    <a:pt x="312" y="159"/>
                  </a:lnTo>
                  <a:lnTo>
                    <a:pt x="286" y="171"/>
                  </a:lnTo>
                  <a:lnTo>
                    <a:pt x="259" y="184"/>
                  </a:lnTo>
                  <a:lnTo>
                    <a:pt x="234" y="196"/>
                  </a:lnTo>
                  <a:lnTo>
                    <a:pt x="209" y="209"/>
                  </a:lnTo>
                  <a:lnTo>
                    <a:pt x="185" y="223"/>
                  </a:lnTo>
                  <a:lnTo>
                    <a:pt x="162" y="238"/>
                  </a:lnTo>
                  <a:lnTo>
                    <a:pt x="139" y="253"/>
                  </a:lnTo>
                  <a:lnTo>
                    <a:pt x="116" y="267"/>
                  </a:lnTo>
                  <a:lnTo>
                    <a:pt x="95" y="283"/>
                  </a:lnTo>
                  <a:lnTo>
                    <a:pt x="75" y="300"/>
                  </a:lnTo>
                  <a:lnTo>
                    <a:pt x="56" y="318"/>
                  </a:lnTo>
                  <a:lnTo>
                    <a:pt x="36" y="335"/>
                  </a:lnTo>
                  <a:lnTo>
                    <a:pt x="19" y="353"/>
                  </a:lnTo>
                  <a:lnTo>
                    <a:pt x="2" y="372"/>
                  </a:lnTo>
                  <a:lnTo>
                    <a:pt x="0" y="377"/>
                  </a:lnTo>
                  <a:lnTo>
                    <a:pt x="2" y="372"/>
                  </a:lnTo>
                  <a:lnTo>
                    <a:pt x="0" y="374"/>
                  </a:lnTo>
                  <a:lnTo>
                    <a:pt x="0" y="377"/>
                  </a:lnTo>
                  <a:lnTo>
                    <a:pt x="27" y="3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524400" y="3412800"/>
              <a:ext cx="75960" cy="993600"/>
            </a:xfrm>
            <a:custGeom>
              <a:avLst/>
              <a:gdLst/>
              <a:ahLst/>
              <a:rect l="l" t="t" r="r" b="b"/>
              <a:pathLst>
                <a:path w="240" h="3126">
                  <a:moveTo>
                    <a:pt x="226" y="3096"/>
                  </a:moveTo>
                  <a:lnTo>
                    <a:pt x="240" y="3109"/>
                  </a:lnTo>
                  <a:lnTo>
                    <a:pt x="217" y="2936"/>
                  </a:lnTo>
                  <a:lnTo>
                    <a:pt x="192" y="2754"/>
                  </a:lnTo>
                  <a:lnTo>
                    <a:pt x="165" y="2564"/>
                  </a:lnTo>
                  <a:lnTo>
                    <a:pt x="137" y="2369"/>
                  </a:lnTo>
                  <a:lnTo>
                    <a:pt x="110" y="2169"/>
                  </a:lnTo>
                  <a:lnTo>
                    <a:pt x="85" y="1967"/>
                  </a:lnTo>
                  <a:lnTo>
                    <a:pt x="74" y="1863"/>
                  </a:lnTo>
                  <a:lnTo>
                    <a:pt x="63" y="1761"/>
                  </a:lnTo>
                  <a:lnTo>
                    <a:pt x="55" y="1658"/>
                  </a:lnTo>
                  <a:lnTo>
                    <a:pt x="47" y="1554"/>
                  </a:lnTo>
                  <a:lnTo>
                    <a:pt x="40" y="1451"/>
                  </a:lnTo>
                  <a:lnTo>
                    <a:pt x="35" y="1348"/>
                  </a:lnTo>
                  <a:lnTo>
                    <a:pt x="32" y="1246"/>
                  </a:lnTo>
                  <a:lnTo>
                    <a:pt x="31" y="1144"/>
                  </a:lnTo>
                  <a:lnTo>
                    <a:pt x="32" y="1042"/>
                  </a:lnTo>
                  <a:lnTo>
                    <a:pt x="35" y="941"/>
                  </a:lnTo>
                  <a:lnTo>
                    <a:pt x="37" y="891"/>
                  </a:lnTo>
                  <a:lnTo>
                    <a:pt x="41" y="841"/>
                  </a:lnTo>
                  <a:lnTo>
                    <a:pt x="45" y="792"/>
                  </a:lnTo>
                  <a:lnTo>
                    <a:pt x="50" y="743"/>
                  </a:lnTo>
                  <a:lnTo>
                    <a:pt x="55" y="693"/>
                  </a:lnTo>
                  <a:lnTo>
                    <a:pt x="60" y="645"/>
                  </a:lnTo>
                  <a:lnTo>
                    <a:pt x="67" y="598"/>
                  </a:lnTo>
                  <a:lnTo>
                    <a:pt x="74" y="550"/>
                  </a:lnTo>
                  <a:lnTo>
                    <a:pt x="82" y="502"/>
                  </a:lnTo>
                  <a:lnTo>
                    <a:pt x="90" y="455"/>
                  </a:lnTo>
                  <a:lnTo>
                    <a:pt x="100" y="408"/>
                  </a:lnTo>
                  <a:lnTo>
                    <a:pt x="111" y="363"/>
                  </a:lnTo>
                  <a:lnTo>
                    <a:pt x="122" y="316"/>
                  </a:lnTo>
                  <a:lnTo>
                    <a:pt x="135" y="272"/>
                  </a:lnTo>
                  <a:lnTo>
                    <a:pt x="147" y="226"/>
                  </a:lnTo>
                  <a:lnTo>
                    <a:pt x="160" y="182"/>
                  </a:lnTo>
                  <a:lnTo>
                    <a:pt x="175" y="139"/>
                  </a:lnTo>
                  <a:lnTo>
                    <a:pt x="191" y="96"/>
                  </a:lnTo>
                  <a:lnTo>
                    <a:pt x="208" y="53"/>
                  </a:lnTo>
                  <a:lnTo>
                    <a:pt x="226" y="11"/>
                  </a:lnTo>
                  <a:lnTo>
                    <a:pt x="199" y="0"/>
                  </a:lnTo>
                  <a:lnTo>
                    <a:pt x="180" y="42"/>
                  </a:lnTo>
                  <a:lnTo>
                    <a:pt x="163" y="85"/>
                  </a:lnTo>
                  <a:lnTo>
                    <a:pt x="147" y="129"/>
                  </a:lnTo>
                  <a:lnTo>
                    <a:pt x="132" y="173"/>
                  </a:lnTo>
                  <a:lnTo>
                    <a:pt x="119" y="217"/>
                  </a:lnTo>
                  <a:lnTo>
                    <a:pt x="105" y="263"/>
                  </a:lnTo>
                  <a:lnTo>
                    <a:pt x="93" y="308"/>
                  </a:lnTo>
                  <a:lnTo>
                    <a:pt x="82" y="355"/>
                  </a:lnTo>
                  <a:lnTo>
                    <a:pt x="71" y="402"/>
                  </a:lnTo>
                  <a:lnTo>
                    <a:pt x="61" y="449"/>
                  </a:lnTo>
                  <a:lnTo>
                    <a:pt x="52" y="497"/>
                  </a:lnTo>
                  <a:lnTo>
                    <a:pt x="44" y="545"/>
                  </a:lnTo>
                  <a:lnTo>
                    <a:pt x="37" y="593"/>
                  </a:lnTo>
                  <a:lnTo>
                    <a:pt x="30" y="642"/>
                  </a:lnTo>
                  <a:lnTo>
                    <a:pt x="24" y="691"/>
                  </a:lnTo>
                  <a:lnTo>
                    <a:pt x="19" y="740"/>
                  </a:lnTo>
                  <a:lnTo>
                    <a:pt x="15" y="789"/>
                  </a:lnTo>
                  <a:lnTo>
                    <a:pt x="12" y="840"/>
                  </a:lnTo>
                  <a:lnTo>
                    <a:pt x="8" y="889"/>
                  </a:lnTo>
                  <a:lnTo>
                    <a:pt x="5" y="939"/>
                  </a:lnTo>
                  <a:lnTo>
                    <a:pt x="2" y="1042"/>
                  </a:lnTo>
                  <a:lnTo>
                    <a:pt x="0" y="1144"/>
                  </a:lnTo>
                  <a:lnTo>
                    <a:pt x="2" y="1246"/>
                  </a:lnTo>
                  <a:lnTo>
                    <a:pt x="5" y="1349"/>
                  </a:lnTo>
                  <a:lnTo>
                    <a:pt x="10" y="1452"/>
                  </a:lnTo>
                  <a:lnTo>
                    <a:pt x="16" y="1557"/>
                  </a:lnTo>
                  <a:lnTo>
                    <a:pt x="25" y="1660"/>
                  </a:lnTo>
                  <a:lnTo>
                    <a:pt x="34" y="1764"/>
                  </a:lnTo>
                  <a:lnTo>
                    <a:pt x="45" y="1867"/>
                  </a:lnTo>
                  <a:lnTo>
                    <a:pt x="56" y="1969"/>
                  </a:lnTo>
                  <a:lnTo>
                    <a:pt x="80" y="2173"/>
                  </a:lnTo>
                  <a:lnTo>
                    <a:pt x="107" y="2372"/>
                  </a:lnTo>
                  <a:lnTo>
                    <a:pt x="136" y="2568"/>
                  </a:lnTo>
                  <a:lnTo>
                    <a:pt x="163" y="2757"/>
                  </a:lnTo>
                  <a:lnTo>
                    <a:pt x="187" y="2939"/>
                  </a:lnTo>
                  <a:lnTo>
                    <a:pt x="210" y="3113"/>
                  </a:lnTo>
                  <a:lnTo>
                    <a:pt x="224" y="3126"/>
                  </a:lnTo>
                  <a:lnTo>
                    <a:pt x="210" y="3113"/>
                  </a:lnTo>
                  <a:lnTo>
                    <a:pt x="211" y="3125"/>
                  </a:lnTo>
                  <a:lnTo>
                    <a:pt x="224" y="3126"/>
                  </a:lnTo>
                  <a:lnTo>
                    <a:pt x="226" y="309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3595680" y="4397040"/>
              <a:ext cx="177840" cy="14040"/>
            </a:xfrm>
            <a:custGeom>
              <a:avLst/>
              <a:gdLst/>
              <a:ahLst/>
              <a:rect l="l" t="t" r="r" b="b"/>
              <a:pathLst>
                <a:path w="560" h="49">
                  <a:moveTo>
                    <a:pt x="527" y="37"/>
                  </a:moveTo>
                  <a:lnTo>
                    <a:pt x="543" y="18"/>
                  </a:lnTo>
                  <a:lnTo>
                    <a:pt x="475" y="16"/>
                  </a:lnTo>
                  <a:lnTo>
                    <a:pt x="407" y="13"/>
                  </a:lnTo>
                  <a:lnTo>
                    <a:pt x="340" y="11"/>
                  </a:lnTo>
                  <a:lnTo>
                    <a:pt x="272" y="8"/>
                  </a:lnTo>
                  <a:lnTo>
                    <a:pt x="205" y="6"/>
                  </a:lnTo>
                  <a:lnTo>
                    <a:pt x="137" y="5"/>
                  </a:lnTo>
                  <a:lnTo>
                    <a:pt x="69" y="2"/>
                  </a:lnTo>
                  <a:lnTo>
                    <a:pt x="2" y="0"/>
                  </a:lnTo>
                  <a:lnTo>
                    <a:pt x="0" y="30"/>
                  </a:lnTo>
                  <a:lnTo>
                    <a:pt x="68" y="32"/>
                  </a:lnTo>
                  <a:lnTo>
                    <a:pt x="137" y="34"/>
                  </a:lnTo>
                  <a:lnTo>
                    <a:pt x="205" y="37"/>
                  </a:lnTo>
                  <a:lnTo>
                    <a:pt x="272" y="38"/>
                  </a:lnTo>
                  <a:lnTo>
                    <a:pt x="340" y="40"/>
                  </a:lnTo>
                  <a:lnTo>
                    <a:pt x="406" y="43"/>
                  </a:lnTo>
                  <a:lnTo>
                    <a:pt x="474" y="45"/>
                  </a:lnTo>
                  <a:lnTo>
                    <a:pt x="540" y="49"/>
                  </a:lnTo>
                  <a:lnTo>
                    <a:pt x="556" y="32"/>
                  </a:lnTo>
                  <a:lnTo>
                    <a:pt x="540" y="49"/>
                  </a:lnTo>
                  <a:lnTo>
                    <a:pt x="560" y="49"/>
                  </a:lnTo>
                  <a:lnTo>
                    <a:pt x="556" y="32"/>
                  </a:lnTo>
                  <a:lnTo>
                    <a:pt x="527" y="3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3662280" y="3492360"/>
              <a:ext cx="109800" cy="915480"/>
            </a:xfrm>
            <a:custGeom>
              <a:avLst/>
              <a:gdLst/>
              <a:ahLst/>
              <a:rect l="l" t="t" r="r" b="b"/>
              <a:pathLst>
                <a:path w="345" h="2885">
                  <a:moveTo>
                    <a:pt x="22" y="0"/>
                  </a:moveTo>
                  <a:lnTo>
                    <a:pt x="17" y="10"/>
                  </a:lnTo>
                  <a:lnTo>
                    <a:pt x="11" y="88"/>
                  </a:lnTo>
                  <a:lnTo>
                    <a:pt x="5" y="167"/>
                  </a:lnTo>
                  <a:lnTo>
                    <a:pt x="2" y="250"/>
                  </a:lnTo>
                  <a:lnTo>
                    <a:pt x="0" y="335"/>
                  </a:lnTo>
                  <a:lnTo>
                    <a:pt x="0" y="421"/>
                  </a:lnTo>
                  <a:lnTo>
                    <a:pt x="1" y="508"/>
                  </a:lnTo>
                  <a:lnTo>
                    <a:pt x="5" y="598"/>
                  </a:lnTo>
                  <a:lnTo>
                    <a:pt x="8" y="689"/>
                  </a:lnTo>
                  <a:lnTo>
                    <a:pt x="14" y="781"/>
                  </a:lnTo>
                  <a:lnTo>
                    <a:pt x="21" y="874"/>
                  </a:lnTo>
                  <a:lnTo>
                    <a:pt x="29" y="968"/>
                  </a:lnTo>
                  <a:lnTo>
                    <a:pt x="38" y="1063"/>
                  </a:lnTo>
                  <a:lnTo>
                    <a:pt x="48" y="1158"/>
                  </a:lnTo>
                  <a:lnTo>
                    <a:pt x="59" y="1254"/>
                  </a:lnTo>
                  <a:lnTo>
                    <a:pt x="70" y="1350"/>
                  </a:lnTo>
                  <a:lnTo>
                    <a:pt x="82" y="1447"/>
                  </a:lnTo>
                  <a:lnTo>
                    <a:pt x="109" y="1639"/>
                  </a:lnTo>
                  <a:lnTo>
                    <a:pt x="137" y="1830"/>
                  </a:lnTo>
                  <a:lnTo>
                    <a:pt x="168" y="2019"/>
                  </a:lnTo>
                  <a:lnTo>
                    <a:pt x="199" y="2204"/>
                  </a:lnTo>
                  <a:lnTo>
                    <a:pt x="259" y="2559"/>
                  </a:lnTo>
                  <a:lnTo>
                    <a:pt x="316" y="2885"/>
                  </a:lnTo>
                  <a:lnTo>
                    <a:pt x="345" y="2880"/>
                  </a:lnTo>
                  <a:lnTo>
                    <a:pt x="289" y="2554"/>
                  </a:lnTo>
                  <a:lnTo>
                    <a:pt x="228" y="2199"/>
                  </a:lnTo>
                  <a:lnTo>
                    <a:pt x="198" y="2014"/>
                  </a:lnTo>
                  <a:lnTo>
                    <a:pt x="168" y="1826"/>
                  </a:lnTo>
                  <a:lnTo>
                    <a:pt x="139" y="1635"/>
                  </a:lnTo>
                  <a:lnTo>
                    <a:pt x="113" y="1442"/>
                  </a:lnTo>
                  <a:lnTo>
                    <a:pt x="101" y="1346"/>
                  </a:lnTo>
                  <a:lnTo>
                    <a:pt x="88" y="1250"/>
                  </a:lnTo>
                  <a:lnTo>
                    <a:pt x="77" y="1155"/>
                  </a:lnTo>
                  <a:lnTo>
                    <a:pt x="67" y="1059"/>
                  </a:lnTo>
                  <a:lnTo>
                    <a:pt x="59" y="966"/>
                  </a:lnTo>
                  <a:lnTo>
                    <a:pt x="51" y="871"/>
                  </a:lnTo>
                  <a:lnTo>
                    <a:pt x="44" y="779"/>
                  </a:lnTo>
                  <a:lnTo>
                    <a:pt x="39" y="688"/>
                  </a:lnTo>
                  <a:lnTo>
                    <a:pt x="34" y="597"/>
                  </a:lnTo>
                  <a:lnTo>
                    <a:pt x="32" y="508"/>
                  </a:lnTo>
                  <a:lnTo>
                    <a:pt x="30" y="421"/>
                  </a:lnTo>
                  <a:lnTo>
                    <a:pt x="30" y="335"/>
                  </a:lnTo>
                  <a:lnTo>
                    <a:pt x="32" y="251"/>
                  </a:lnTo>
                  <a:lnTo>
                    <a:pt x="35" y="170"/>
                  </a:lnTo>
                  <a:lnTo>
                    <a:pt x="40" y="90"/>
                  </a:lnTo>
                  <a:lnTo>
                    <a:pt x="48" y="13"/>
                  </a:lnTo>
                  <a:lnTo>
                    <a:pt x="43" y="22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7" y="1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668760" y="3401640"/>
              <a:ext cx="414360" cy="168120"/>
            </a:xfrm>
            <a:custGeom>
              <a:avLst/>
              <a:gdLst/>
              <a:ahLst/>
              <a:rect l="l" t="t" r="r" b="b"/>
              <a:pathLst>
                <a:path w="1305" h="531">
                  <a:moveTo>
                    <a:pt x="1275" y="488"/>
                  </a:moveTo>
                  <a:lnTo>
                    <a:pt x="1302" y="480"/>
                  </a:lnTo>
                  <a:lnTo>
                    <a:pt x="1259" y="423"/>
                  </a:lnTo>
                  <a:lnTo>
                    <a:pt x="1218" y="369"/>
                  </a:lnTo>
                  <a:lnTo>
                    <a:pt x="1174" y="320"/>
                  </a:lnTo>
                  <a:lnTo>
                    <a:pt x="1133" y="274"/>
                  </a:lnTo>
                  <a:lnTo>
                    <a:pt x="1112" y="252"/>
                  </a:lnTo>
                  <a:lnTo>
                    <a:pt x="1091" y="232"/>
                  </a:lnTo>
                  <a:lnTo>
                    <a:pt x="1070" y="213"/>
                  </a:lnTo>
                  <a:lnTo>
                    <a:pt x="1049" y="194"/>
                  </a:lnTo>
                  <a:lnTo>
                    <a:pt x="1028" y="176"/>
                  </a:lnTo>
                  <a:lnTo>
                    <a:pt x="1008" y="160"/>
                  </a:lnTo>
                  <a:lnTo>
                    <a:pt x="988" y="144"/>
                  </a:lnTo>
                  <a:lnTo>
                    <a:pt x="967" y="128"/>
                  </a:lnTo>
                  <a:lnTo>
                    <a:pt x="946" y="114"/>
                  </a:lnTo>
                  <a:lnTo>
                    <a:pt x="925" y="101"/>
                  </a:lnTo>
                  <a:lnTo>
                    <a:pt x="904" y="88"/>
                  </a:lnTo>
                  <a:lnTo>
                    <a:pt x="884" y="77"/>
                  </a:lnTo>
                  <a:lnTo>
                    <a:pt x="863" y="66"/>
                  </a:lnTo>
                  <a:lnTo>
                    <a:pt x="842" y="56"/>
                  </a:lnTo>
                  <a:lnTo>
                    <a:pt x="821" y="47"/>
                  </a:lnTo>
                  <a:lnTo>
                    <a:pt x="802" y="39"/>
                  </a:lnTo>
                  <a:lnTo>
                    <a:pt x="781" y="32"/>
                  </a:lnTo>
                  <a:lnTo>
                    <a:pt x="760" y="24"/>
                  </a:lnTo>
                  <a:lnTo>
                    <a:pt x="740" y="18"/>
                  </a:lnTo>
                  <a:lnTo>
                    <a:pt x="719" y="13"/>
                  </a:lnTo>
                  <a:lnTo>
                    <a:pt x="698" y="10"/>
                  </a:lnTo>
                  <a:lnTo>
                    <a:pt x="679" y="6"/>
                  </a:lnTo>
                  <a:lnTo>
                    <a:pt x="658" y="4"/>
                  </a:lnTo>
                  <a:lnTo>
                    <a:pt x="638" y="1"/>
                  </a:lnTo>
                  <a:lnTo>
                    <a:pt x="617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57" y="1"/>
                  </a:lnTo>
                  <a:lnTo>
                    <a:pt x="536" y="2"/>
                  </a:lnTo>
                  <a:lnTo>
                    <a:pt x="516" y="5"/>
                  </a:lnTo>
                  <a:lnTo>
                    <a:pt x="496" y="8"/>
                  </a:lnTo>
                  <a:lnTo>
                    <a:pt x="476" y="12"/>
                  </a:lnTo>
                  <a:lnTo>
                    <a:pt x="456" y="17"/>
                  </a:lnTo>
                  <a:lnTo>
                    <a:pt x="435" y="22"/>
                  </a:lnTo>
                  <a:lnTo>
                    <a:pt x="416" y="28"/>
                  </a:lnTo>
                  <a:lnTo>
                    <a:pt x="396" y="34"/>
                  </a:lnTo>
                  <a:lnTo>
                    <a:pt x="355" y="49"/>
                  </a:lnTo>
                  <a:lnTo>
                    <a:pt x="316" y="66"/>
                  </a:lnTo>
                  <a:lnTo>
                    <a:pt x="277" y="86"/>
                  </a:lnTo>
                  <a:lnTo>
                    <a:pt x="236" y="108"/>
                  </a:lnTo>
                  <a:lnTo>
                    <a:pt x="197" y="133"/>
                  </a:lnTo>
                  <a:lnTo>
                    <a:pt x="157" y="159"/>
                  </a:lnTo>
                  <a:lnTo>
                    <a:pt x="118" y="187"/>
                  </a:lnTo>
                  <a:lnTo>
                    <a:pt x="79" y="218"/>
                  </a:lnTo>
                  <a:lnTo>
                    <a:pt x="39" y="251"/>
                  </a:lnTo>
                  <a:lnTo>
                    <a:pt x="0" y="285"/>
                  </a:lnTo>
                  <a:lnTo>
                    <a:pt x="21" y="307"/>
                  </a:lnTo>
                  <a:lnTo>
                    <a:pt x="59" y="273"/>
                  </a:lnTo>
                  <a:lnTo>
                    <a:pt x="98" y="241"/>
                  </a:lnTo>
                  <a:lnTo>
                    <a:pt x="136" y="211"/>
                  </a:lnTo>
                  <a:lnTo>
                    <a:pt x="174" y="183"/>
                  </a:lnTo>
                  <a:lnTo>
                    <a:pt x="213" y="157"/>
                  </a:lnTo>
                  <a:lnTo>
                    <a:pt x="252" y="134"/>
                  </a:lnTo>
                  <a:lnTo>
                    <a:pt x="290" y="113"/>
                  </a:lnTo>
                  <a:lnTo>
                    <a:pt x="328" y="93"/>
                  </a:lnTo>
                  <a:lnTo>
                    <a:pt x="366" y="77"/>
                  </a:lnTo>
                  <a:lnTo>
                    <a:pt x="406" y="63"/>
                  </a:lnTo>
                  <a:lnTo>
                    <a:pt x="424" y="56"/>
                  </a:lnTo>
                  <a:lnTo>
                    <a:pt x="444" y="50"/>
                  </a:lnTo>
                  <a:lnTo>
                    <a:pt x="462" y="45"/>
                  </a:lnTo>
                  <a:lnTo>
                    <a:pt x="482" y="42"/>
                  </a:lnTo>
                  <a:lnTo>
                    <a:pt x="500" y="38"/>
                  </a:lnTo>
                  <a:lnTo>
                    <a:pt x="520" y="34"/>
                  </a:lnTo>
                  <a:lnTo>
                    <a:pt x="540" y="33"/>
                  </a:lnTo>
                  <a:lnTo>
                    <a:pt x="558" y="31"/>
                  </a:lnTo>
                  <a:lnTo>
                    <a:pt x="578" y="29"/>
                  </a:lnTo>
                  <a:lnTo>
                    <a:pt x="596" y="29"/>
                  </a:lnTo>
                  <a:lnTo>
                    <a:pt x="616" y="31"/>
                  </a:lnTo>
                  <a:lnTo>
                    <a:pt x="636" y="32"/>
                  </a:lnTo>
                  <a:lnTo>
                    <a:pt x="654" y="33"/>
                  </a:lnTo>
                  <a:lnTo>
                    <a:pt x="674" y="36"/>
                  </a:lnTo>
                  <a:lnTo>
                    <a:pt x="694" y="39"/>
                  </a:lnTo>
                  <a:lnTo>
                    <a:pt x="713" y="43"/>
                  </a:lnTo>
                  <a:lnTo>
                    <a:pt x="732" y="48"/>
                  </a:lnTo>
                  <a:lnTo>
                    <a:pt x="751" y="53"/>
                  </a:lnTo>
                  <a:lnTo>
                    <a:pt x="771" y="60"/>
                  </a:lnTo>
                  <a:lnTo>
                    <a:pt x="791" y="66"/>
                  </a:lnTo>
                  <a:lnTo>
                    <a:pt x="810" y="75"/>
                  </a:lnTo>
                  <a:lnTo>
                    <a:pt x="830" y="83"/>
                  </a:lnTo>
                  <a:lnTo>
                    <a:pt x="850" y="93"/>
                  </a:lnTo>
                  <a:lnTo>
                    <a:pt x="869" y="103"/>
                  </a:lnTo>
                  <a:lnTo>
                    <a:pt x="889" y="114"/>
                  </a:lnTo>
                  <a:lnTo>
                    <a:pt x="909" y="127"/>
                  </a:lnTo>
                  <a:lnTo>
                    <a:pt x="928" y="139"/>
                  </a:lnTo>
                  <a:lnTo>
                    <a:pt x="949" y="152"/>
                  </a:lnTo>
                  <a:lnTo>
                    <a:pt x="969" y="167"/>
                  </a:lnTo>
                  <a:lnTo>
                    <a:pt x="989" y="183"/>
                  </a:lnTo>
                  <a:lnTo>
                    <a:pt x="1010" y="199"/>
                  </a:lnTo>
                  <a:lnTo>
                    <a:pt x="1029" y="216"/>
                  </a:lnTo>
                  <a:lnTo>
                    <a:pt x="1050" y="235"/>
                  </a:lnTo>
                  <a:lnTo>
                    <a:pt x="1070" y="253"/>
                  </a:lnTo>
                  <a:lnTo>
                    <a:pt x="1091" y="274"/>
                  </a:lnTo>
                  <a:lnTo>
                    <a:pt x="1112" y="295"/>
                  </a:lnTo>
                  <a:lnTo>
                    <a:pt x="1152" y="339"/>
                  </a:lnTo>
                  <a:lnTo>
                    <a:pt x="1194" y="389"/>
                  </a:lnTo>
                  <a:lnTo>
                    <a:pt x="1236" y="440"/>
                  </a:lnTo>
                  <a:lnTo>
                    <a:pt x="1278" y="497"/>
                  </a:lnTo>
                  <a:lnTo>
                    <a:pt x="1305" y="489"/>
                  </a:lnTo>
                  <a:lnTo>
                    <a:pt x="1278" y="497"/>
                  </a:lnTo>
                  <a:lnTo>
                    <a:pt x="1304" y="531"/>
                  </a:lnTo>
                  <a:lnTo>
                    <a:pt x="1305" y="489"/>
                  </a:lnTo>
                  <a:lnTo>
                    <a:pt x="1275" y="48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3114720" y="4168440"/>
              <a:ext cx="1106280" cy="304560"/>
            </a:xfrm>
            <a:custGeom>
              <a:avLst/>
              <a:gdLst/>
              <a:ahLst/>
              <a:rect l="l" t="t" r="r" b="b"/>
              <a:pathLst>
                <a:path w="3485" h="963">
                  <a:moveTo>
                    <a:pt x="3347" y="304"/>
                  </a:moveTo>
                  <a:lnTo>
                    <a:pt x="3209" y="337"/>
                  </a:lnTo>
                  <a:lnTo>
                    <a:pt x="3076" y="366"/>
                  </a:lnTo>
                  <a:lnTo>
                    <a:pt x="2947" y="389"/>
                  </a:lnTo>
                  <a:lnTo>
                    <a:pt x="2823" y="409"/>
                  </a:lnTo>
                  <a:lnTo>
                    <a:pt x="2704" y="425"/>
                  </a:lnTo>
                  <a:lnTo>
                    <a:pt x="2587" y="437"/>
                  </a:lnTo>
                  <a:lnTo>
                    <a:pt x="2474" y="444"/>
                  </a:lnTo>
                  <a:lnTo>
                    <a:pt x="2364" y="449"/>
                  </a:lnTo>
                  <a:lnTo>
                    <a:pt x="2259" y="451"/>
                  </a:lnTo>
                  <a:lnTo>
                    <a:pt x="2156" y="448"/>
                  </a:lnTo>
                  <a:lnTo>
                    <a:pt x="2056" y="444"/>
                  </a:lnTo>
                  <a:lnTo>
                    <a:pt x="1958" y="436"/>
                  </a:lnTo>
                  <a:lnTo>
                    <a:pt x="1864" y="426"/>
                  </a:lnTo>
                  <a:lnTo>
                    <a:pt x="1771" y="414"/>
                  </a:lnTo>
                  <a:lnTo>
                    <a:pt x="1682" y="399"/>
                  </a:lnTo>
                  <a:lnTo>
                    <a:pt x="1593" y="383"/>
                  </a:lnTo>
                  <a:lnTo>
                    <a:pt x="1507" y="364"/>
                  </a:lnTo>
                  <a:lnTo>
                    <a:pt x="1422" y="344"/>
                  </a:lnTo>
                  <a:lnTo>
                    <a:pt x="1338" y="323"/>
                  </a:lnTo>
                  <a:lnTo>
                    <a:pt x="1256" y="300"/>
                  </a:lnTo>
                  <a:lnTo>
                    <a:pt x="1175" y="276"/>
                  </a:lnTo>
                  <a:lnTo>
                    <a:pt x="1095" y="251"/>
                  </a:lnTo>
                  <a:lnTo>
                    <a:pt x="1015" y="227"/>
                  </a:lnTo>
                  <a:lnTo>
                    <a:pt x="936" y="201"/>
                  </a:lnTo>
                  <a:lnTo>
                    <a:pt x="778" y="149"/>
                  </a:lnTo>
                  <a:lnTo>
                    <a:pt x="620" y="98"/>
                  </a:lnTo>
                  <a:lnTo>
                    <a:pt x="540" y="72"/>
                  </a:lnTo>
                  <a:lnTo>
                    <a:pt x="460" y="47"/>
                  </a:lnTo>
                  <a:lnTo>
                    <a:pt x="379" y="24"/>
                  </a:lnTo>
                  <a:lnTo>
                    <a:pt x="297" y="0"/>
                  </a:lnTo>
                  <a:lnTo>
                    <a:pt x="272" y="36"/>
                  </a:lnTo>
                  <a:lnTo>
                    <a:pt x="249" y="70"/>
                  </a:lnTo>
                  <a:lnTo>
                    <a:pt x="225" y="106"/>
                  </a:lnTo>
                  <a:lnTo>
                    <a:pt x="204" y="141"/>
                  </a:lnTo>
                  <a:lnTo>
                    <a:pt x="182" y="176"/>
                  </a:lnTo>
                  <a:lnTo>
                    <a:pt x="163" y="211"/>
                  </a:lnTo>
                  <a:lnTo>
                    <a:pt x="143" y="246"/>
                  </a:lnTo>
                  <a:lnTo>
                    <a:pt x="124" y="281"/>
                  </a:lnTo>
                  <a:lnTo>
                    <a:pt x="106" y="316"/>
                  </a:lnTo>
                  <a:lnTo>
                    <a:pt x="89" y="352"/>
                  </a:lnTo>
                  <a:lnTo>
                    <a:pt x="73" y="387"/>
                  </a:lnTo>
                  <a:lnTo>
                    <a:pt x="57" y="422"/>
                  </a:lnTo>
                  <a:lnTo>
                    <a:pt x="27" y="492"/>
                  </a:lnTo>
                  <a:lnTo>
                    <a:pt x="0" y="562"/>
                  </a:lnTo>
                  <a:lnTo>
                    <a:pt x="96" y="599"/>
                  </a:lnTo>
                  <a:lnTo>
                    <a:pt x="195" y="634"/>
                  </a:lnTo>
                  <a:lnTo>
                    <a:pt x="293" y="667"/>
                  </a:lnTo>
                  <a:lnTo>
                    <a:pt x="393" y="698"/>
                  </a:lnTo>
                  <a:lnTo>
                    <a:pt x="493" y="727"/>
                  </a:lnTo>
                  <a:lnTo>
                    <a:pt x="594" y="754"/>
                  </a:lnTo>
                  <a:lnTo>
                    <a:pt x="696" y="780"/>
                  </a:lnTo>
                  <a:lnTo>
                    <a:pt x="800" y="804"/>
                  </a:lnTo>
                  <a:lnTo>
                    <a:pt x="903" y="826"/>
                  </a:lnTo>
                  <a:lnTo>
                    <a:pt x="1008" y="845"/>
                  </a:lnTo>
                  <a:lnTo>
                    <a:pt x="1113" y="864"/>
                  </a:lnTo>
                  <a:lnTo>
                    <a:pt x="1219" y="881"/>
                  </a:lnTo>
                  <a:lnTo>
                    <a:pt x="1326" y="896"/>
                  </a:lnTo>
                  <a:lnTo>
                    <a:pt x="1434" y="909"/>
                  </a:lnTo>
                  <a:lnTo>
                    <a:pt x="1543" y="922"/>
                  </a:lnTo>
                  <a:lnTo>
                    <a:pt x="1652" y="931"/>
                  </a:lnTo>
                  <a:lnTo>
                    <a:pt x="1762" y="941"/>
                  </a:lnTo>
                  <a:lnTo>
                    <a:pt x="1872" y="949"/>
                  </a:lnTo>
                  <a:lnTo>
                    <a:pt x="1983" y="954"/>
                  </a:lnTo>
                  <a:lnTo>
                    <a:pt x="2095" y="959"/>
                  </a:lnTo>
                  <a:lnTo>
                    <a:pt x="2208" y="961"/>
                  </a:lnTo>
                  <a:lnTo>
                    <a:pt x="2321" y="963"/>
                  </a:lnTo>
                  <a:lnTo>
                    <a:pt x="2434" y="963"/>
                  </a:lnTo>
                  <a:lnTo>
                    <a:pt x="2549" y="962"/>
                  </a:lnTo>
                  <a:lnTo>
                    <a:pt x="2664" y="960"/>
                  </a:lnTo>
                  <a:lnTo>
                    <a:pt x="2780" y="956"/>
                  </a:lnTo>
                  <a:lnTo>
                    <a:pt x="2896" y="952"/>
                  </a:lnTo>
                  <a:lnTo>
                    <a:pt x="3013" y="946"/>
                  </a:lnTo>
                  <a:lnTo>
                    <a:pt x="3129" y="939"/>
                  </a:lnTo>
                  <a:lnTo>
                    <a:pt x="3247" y="930"/>
                  </a:lnTo>
                  <a:lnTo>
                    <a:pt x="3366" y="920"/>
                  </a:lnTo>
                  <a:lnTo>
                    <a:pt x="3485" y="911"/>
                  </a:lnTo>
                  <a:lnTo>
                    <a:pt x="3479" y="851"/>
                  </a:lnTo>
                  <a:lnTo>
                    <a:pt x="3474" y="794"/>
                  </a:lnTo>
                  <a:lnTo>
                    <a:pt x="3468" y="738"/>
                  </a:lnTo>
                  <a:lnTo>
                    <a:pt x="3461" y="684"/>
                  </a:lnTo>
                  <a:lnTo>
                    <a:pt x="3454" y="633"/>
                  </a:lnTo>
                  <a:lnTo>
                    <a:pt x="3447" y="583"/>
                  </a:lnTo>
                  <a:lnTo>
                    <a:pt x="3438" y="537"/>
                  </a:lnTo>
                  <a:lnTo>
                    <a:pt x="3429" y="494"/>
                  </a:lnTo>
                  <a:lnTo>
                    <a:pt x="3421" y="454"/>
                  </a:lnTo>
                  <a:lnTo>
                    <a:pt x="3411" y="419"/>
                  </a:lnTo>
                  <a:lnTo>
                    <a:pt x="3401" y="387"/>
                  </a:lnTo>
                  <a:lnTo>
                    <a:pt x="3391" y="359"/>
                  </a:lnTo>
                  <a:lnTo>
                    <a:pt x="3386" y="348"/>
                  </a:lnTo>
                  <a:lnTo>
                    <a:pt x="3380" y="337"/>
                  </a:lnTo>
                  <a:lnTo>
                    <a:pt x="3375" y="329"/>
                  </a:lnTo>
                  <a:lnTo>
                    <a:pt x="3369" y="321"/>
                  </a:lnTo>
                  <a:lnTo>
                    <a:pt x="3364" y="314"/>
                  </a:lnTo>
                  <a:lnTo>
                    <a:pt x="3358" y="309"/>
                  </a:lnTo>
                  <a:lnTo>
                    <a:pt x="3352" y="305"/>
                  </a:lnTo>
                  <a:lnTo>
                    <a:pt x="3347" y="304"/>
                  </a:lnTo>
                  <a:close/>
                </a:path>
              </a:pathLst>
            </a:custGeom>
            <a:solidFill>
              <a:srgbClr val="ab6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3205080" y="4163760"/>
              <a:ext cx="973080" cy="151920"/>
            </a:xfrm>
            <a:custGeom>
              <a:avLst/>
              <a:gdLst/>
              <a:ahLst/>
              <a:rect l="l" t="t" r="r" b="b"/>
              <a:pathLst>
                <a:path w="3067" h="481">
                  <a:moveTo>
                    <a:pt x="25" y="26"/>
                  </a:moveTo>
                  <a:lnTo>
                    <a:pt x="9" y="31"/>
                  </a:lnTo>
                  <a:lnTo>
                    <a:pt x="91" y="54"/>
                  </a:lnTo>
                  <a:lnTo>
                    <a:pt x="171" y="78"/>
                  </a:lnTo>
                  <a:lnTo>
                    <a:pt x="252" y="102"/>
                  </a:lnTo>
                  <a:lnTo>
                    <a:pt x="331" y="127"/>
                  </a:lnTo>
                  <a:lnTo>
                    <a:pt x="490" y="179"/>
                  </a:lnTo>
                  <a:lnTo>
                    <a:pt x="647" y="232"/>
                  </a:lnTo>
                  <a:lnTo>
                    <a:pt x="726" y="256"/>
                  </a:lnTo>
                  <a:lnTo>
                    <a:pt x="806" y="282"/>
                  </a:lnTo>
                  <a:lnTo>
                    <a:pt x="887" y="307"/>
                  </a:lnTo>
                  <a:lnTo>
                    <a:pt x="968" y="330"/>
                  </a:lnTo>
                  <a:lnTo>
                    <a:pt x="1051" y="353"/>
                  </a:lnTo>
                  <a:lnTo>
                    <a:pt x="1134" y="374"/>
                  </a:lnTo>
                  <a:lnTo>
                    <a:pt x="1219" y="395"/>
                  </a:lnTo>
                  <a:lnTo>
                    <a:pt x="1307" y="414"/>
                  </a:lnTo>
                  <a:lnTo>
                    <a:pt x="1395" y="430"/>
                  </a:lnTo>
                  <a:lnTo>
                    <a:pt x="1485" y="444"/>
                  </a:lnTo>
                  <a:lnTo>
                    <a:pt x="1532" y="452"/>
                  </a:lnTo>
                  <a:lnTo>
                    <a:pt x="1578" y="457"/>
                  </a:lnTo>
                  <a:lnTo>
                    <a:pt x="1625" y="463"/>
                  </a:lnTo>
                  <a:lnTo>
                    <a:pt x="1673" y="468"/>
                  </a:lnTo>
                  <a:lnTo>
                    <a:pt x="1722" y="471"/>
                  </a:lnTo>
                  <a:lnTo>
                    <a:pt x="1772" y="475"/>
                  </a:lnTo>
                  <a:lnTo>
                    <a:pt x="1821" y="478"/>
                  </a:lnTo>
                  <a:lnTo>
                    <a:pt x="1871" y="480"/>
                  </a:lnTo>
                  <a:lnTo>
                    <a:pt x="1923" y="481"/>
                  </a:lnTo>
                  <a:lnTo>
                    <a:pt x="1975" y="481"/>
                  </a:lnTo>
                  <a:lnTo>
                    <a:pt x="2027" y="481"/>
                  </a:lnTo>
                  <a:lnTo>
                    <a:pt x="2082" y="480"/>
                  </a:lnTo>
                  <a:lnTo>
                    <a:pt x="2136" y="479"/>
                  </a:lnTo>
                  <a:lnTo>
                    <a:pt x="2191" y="475"/>
                  </a:lnTo>
                  <a:lnTo>
                    <a:pt x="2248" y="471"/>
                  </a:lnTo>
                  <a:lnTo>
                    <a:pt x="2304" y="468"/>
                  </a:lnTo>
                  <a:lnTo>
                    <a:pt x="2362" y="462"/>
                  </a:lnTo>
                  <a:lnTo>
                    <a:pt x="2421" y="455"/>
                  </a:lnTo>
                  <a:lnTo>
                    <a:pt x="2481" y="448"/>
                  </a:lnTo>
                  <a:lnTo>
                    <a:pt x="2542" y="439"/>
                  </a:lnTo>
                  <a:lnTo>
                    <a:pt x="2603" y="431"/>
                  </a:lnTo>
                  <a:lnTo>
                    <a:pt x="2666" y="420"/>
                  </a:lnTo>
                  <a:lnTo>
                    <a:pt x="2730" y="409"/>
                  </a:lnTo>
                  <a:lnTo>
                    <a:pt x="2795" y="396"/>
                  </a:lnTo>
                  <a:lnTo>
                    <a:pt x="2861" y="383"/>
                  </a:lnTo>
                  <a:lnTo>
                    <a:pt x="2929" y="367"/>
                  </a:lnTo>
                  <a:lnTo>
                    <a:pt x="2997" y="351"/>
                  </a:lnTo>
                  <a:lnTo>
                    <a:pt x="3067" y="334"/>
                  </a:lnTo>
                  <a:lnTo>
                    <a:pt x="3059" y="305"/>
                  </a:lnTo>
                  <a:lnTo>
                    <a:pt x="2989" y="323"/>
                  </a:lnTo>
                  <a:lnTo>
                    <a:pt x="2922" y="339"/>
                  </a:lnTo>
                  <a:lnTo>
                    <a:pt x="2855" y="353"/>
                  </a:lnTo>
                  <a:lnTo>
                    <a:pt x="2789" y="367"/>
                  </a:lnTo>
                  <a:lnTo>
                    <a:pt x="2725" y="379"/>
                  </a:lnTo>
                  <a:lnTo>
                    <a:pt x="2661" y="390"/>
                  </a:lnTo>
                  <a:lnTo>
                    <a:pt x="2598" y="401"/>
                  </a:lnTo>
                  <a:lnTo>
                    <a:pt x="2538" y="410"/>
                  </a:lnTo>
                  <a:lnTo>
                    <a:pt x="2476" y="419"/>
                  </a:lnTo>
                  <a:lnTo>
                    <a:pt x="2417" y="426"/>
                  </a:lnTo>
                  <a:lnTo>
                    <a:pt x="2359" y="432"/>
                  </a:lnTo>
                  <a:lnTo>
                    <a:pt x="2302" y="437"/>
                  </a:lnTo>
                  <a:lnTo>
                    <a:pt x="2245" y="442"/>
                  </a:lnTo>
                  <a:lnTo>
                    <a:pt x="2190" y="446"/>
                  </a:lnTo>
                  <a:lnTo>
                    <a:pt x="2134" y="448"/>
                  </a:lnTo>
                  <a:lnTo>
                    <a:pt x="2080" y="451"/>
                  </a:lnTo>
                  <a:lnTo>
                    <a:pt x="2027" y="452"/>
                  </a:lnTo>
                  <a:lnTo>
                    <a:pt x="1975" y="452"/>
                  </a:lnTo>
                  <a:lnTo>
                    <a:pt x="1923" y="451"/>
                  </a:lnTo>
                  <a:lnTo>
                    <a:pt x="1872" y="449"/>
                  </a:lnTo>
                  <a:lnTo>
                    <a:pt x="1822" y="448"/>
                  </a:lnTo>
                  <a:lnTo>
                    <a:pt x="1773" y="444"/>
                  </a:lnTo>
                  <a:lnTo>
                    <a:pt x="1724" y="442"/>
                  </a:lnTo>
                  <a:lnTo>
                    <a:pt x="1676" y="437"/>
                  </a:lnTo>
                  <a:lnTo>
                    <a:pt x="1629" y="432"/>
                  </a:lnTo>
                  <a:lnTo>
                    <a:pt x="1582" y="427"/>
                  </a:lnTo>
                  <a:lnTo>
                    <a:pt x="1535" y="421"/>
                  </a:lnTo>
                  <a:lnTo>
                    <a:pt x="1490" y="415"/>
                  </a:lnTo>
                  <a:lnTo>
                    <a:pt x="1400" y="400"/>
                  </a:lnTo>
                  <a:lnTo>
                    <a:pt x="1312" y="384"/>
                  </a:lnTo>
                  <a:lnTo>
                    <a:pt x="1225" y="366"/>
                  </a:lnTo>
                  <a:lnTo>
                    <a:pt x="1142" y="346"/>
                  </a:lnTo>
                  <a:lnTo>
                    <a:pt x="1058" y="324"/>
                  </a:lnTo>
                  <a:lnTo>
                    <a:pt x="976" y="302"/>
                  </a:lnTo>
                  <a:lnTo>
                    <a:pt x="896" y="278"/>
                  </a:lnTo>
                  <a:lnTo>
                    <a:pt x="815" y="254"/>
                  </a:lnTo>
                  <a:lnTo>
                    <a:pt x="736" y="228"/>
                  </a:lnTo>
                  <a:lnTo>
                    <a:pt x="656" y="202"/>
                  </a:lnTo>
                  <a:lnTo>
                    <a:pt x="498" y="150"/>
                  </a:lnTo>
                  <a:lnTo>
                    <a:pt x="341" y="99"/>
                  </a:lnTo>
                  <a:lnTo>
                    <a:pt x="261" y="73"/>
                  </a:lnTo>
                  <a:lnTo>
                    <a:pt x="180" y="48"/>
                  </a:lnTo>
                  <a:lnTo>
                    <a:pt x="99" y="25"/>
                  </a:lnTo>
                  <a:lnTo>
                    <a:pt x="16" y="3"/>
                  </a:lnTo>
                  <a:lnTo>
                    <a:pt x="0" y="8"/>
                  </a:lnTo>
                  <a:lnTo>
                    <a:pt x="16" y="3"/>
                  </a:lnTo>
                  <a:lnTo>
                    <a:pt x="6" y="0"/>
                  </a:lnTo>
                  <a:lnTo>
                    <a:pt x="0" y="8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3108240" y="4165560"/>
              <a:ext cx="104760" cy="185040"/>
            </a:xfrm>
            <a:custGeom>
              <a:avLst/>
              <a:gdLst/>
              <a:ahLst/>
              <a:rect l="l" t="t" r="r" b="b"/>
              <a:pathLst>
                <a:path w="328" h="584">
                  <a:moveTo>
                    <a:pt x="24" y="556"/>
                  </a:moveTo>
                  <a:lnTo>
                    <a:pt x="33" y="575"/>
                  </a:lnTo>
                  <a:lnTo>
                    <a:pt x="60" y="505"/>
                  </a:lnTo>
                  <a:lnTo>
                    <a:pt x="89" y="435"/>
                  </a:lnTo>
                  <a:lnTo>
                    <a:pt x="105" y="401"/>
                  </a:lnTo>
                  <a:lnTo>
                    <a:pt x="121" y="366"/>
                  </a:lnTo>
                  <a:lnTo>
                    <a:pt x="139" y="331"/>
                  </a:lnTo>
                  <a:lnTo>
                    <a:pt x="157" y="296"/>
                  </a:lnTo>
                  <a:lnTo>
                    <a:pt x="175" y="262"/>
                  </a:lnTo>
                  <a:lnTo>
                    <a:pt x="195" y="226"/>
                  </a:lnTo>
                  <a:lnTo>
                    <a:pt x="215" y="192"/>
                  </a:lnTo>
                  <a:lnTo>
                    <a:pt x="236" y="157"/>
                  </a:lnTo>
                  <a:lnTo>
                    <a:pt x="258" y="121"/>
                  </a:lnTo>
                  <a:lnTo>
                    <a:pt x="280" y="87"/>
                  </a:lnTo>
                  <a:lnTo>
                    <a:pt x="303" y="53"/>
                  </a:lnTo>
                  <a:lnTo>
                    <a:pt x="328" y="18"/>
                  </a:lnTo>
                  <a:lnTo>
                    <a:pt x="303" y="0"/>
                  </a:lnTo>
                  <a:lnTo>
                    <a:pt x="279" y="35"/>
                  </a:lnTo>
                  <a:lnTo>
                    <a:pt x="255" y="71"/>
                  </a:lnTo>
                  <a:lnTo>
                    <a:pt x="232" y="106"/>
                  </a:lnTo>
                  <a:lnTo>
                    <a:pt x="210" y="141"/>
                  </a:lnTo>
                  <a:lnTo>
                    <a:pt x="189" y="177"/>
                  </a:lnTo>
                  <a:lnTo>
                    <a:pt x="168" y="211"/>
                  </a:lnTo>
                  <a:lnTo>
                    <a:pt x="148" y="247"/>
                  </a:lnTo>
                  <a:lnTo>
                    <a:pt x="130" y="283"/>
                  </a:lnTo>
                  <a:lnTo>
                    <a:pt x="111" y="318"/>
                  </a:lnTo>
                  <a:lnTo>
                    <a:pt x="94" y="353"/>
                  </a:lnTo>
                  <a:lnTo>
                    <a:pt x="78" y="388"/>
                  </a:lnTo>
                  <a:lnTo>
                    <a:pt x="62" y="424"/>
                  </a:lnTo>
                  <a:lnTo>
                    <a:pt x="31" y="494"/>
                  </a:lnTo>
                  <a:lnTo>
                    <a:pt x="4" y="564"/>
                  </a:lnTo>
                  <a:lnTo>
                    <a:pt x="13" y="584"/>
                  </a:lnTo>
                  <a:lnTo>
                    <a:pt x="4" y="564"/>
                  </a:lnTo>
                  <a:lnTo>
                    <a:pt x="0" y="578"/>
                  </a:lnTo>
                  <a:lnTo>
                    <a:pt x="13" y="584"/>
                  </a:lnTo>
                  <a:lnTo>
                    <a:pt x="24" y="5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3112920" y="4341600"/>
              <a:ext cx="1113120" cy="136080"/>
            </a:xfrm>
            <a:custGeom>
              <a:avLst/>
              <a:gdLst/>
              <a:ahLst/>
              <a:rect l="l" t="t" r="r" b="b"/>
              <a:pathLst>
                <a:path w="3507" h="430">
                  <a:moveTo>
                    <a:pt x="3475" y="364"/>
                  </a:moveTo>
                  <a:lnTo>
                    <a:pt x="3490" y="348"/>
                  </a:lnTo>
                  <a:lnTo>
                    <a:pt x="3370" y="358"/>
                  </a:lnTo>
                  <a:lnTo>
                    <a:pt x="3252" y="367"/>
                  </a:lnTo>
                  <a:lnTo>
                    <a:pt x="3135" y="376"/>
                  </a:lnTo>
                  <a:lnTo>
                    <a:pt x="3017" y="382"/>
                  </a:lnTo>
                  <a:lnTo>
                    <a:pt x="2902" y="388"/>
                  </a:lnTo>
                  <a:lnTo>
                    <a:pt x="2785" y="393"/>
                  </a:lnTo>
                  <a:lnTo>
                    <a:pt x="2670" y="397"/>
                  </a:lnTo>
                  <a:lnTo>
                    <a:pt x="2555" y="399"/>
                  </a:lnTo>
                  <a:lnTo>
                    <a:pt x="2440" y="401"/>
                  </a:lnTo>
                  <a:lnTo>
                    <a:pt x="2327" y="401"/>
                  </a:lnTo>
                  <a:lnTo>
                    <a:pt x="2214" y="398"/>
                  </a:lnTo>
                  <a:lnTo>
                    <a:pt x="2102" y="396"/>
                  </a:lnTo>
                  <a:lnTo>
                    <a:pt x="1990" y="391"/>
                  </a:lnTo>
                  <a:lnTo>
                    <a:pt x="1880" y="385"/>
                  </a:lnTo>
                  <a:lnTo>
                    <a:pt x="1769" y="377"/>
                  </a:lnTo>
                  <a:lnTo>
                    <a:pt x="1659" y="369"/>
                  </a:lnTo>
                  <a:lnTo>
                    <a:pt x="1550" y="359"/>
                  </a:lnTo>
                  <a:lnTo>
                    <a:pt x="1442" y="347"/>
                  </a:lnTo>
                  <a:lnTo>
                    <a:pt x="1335" y="333"/>
                  </a:lnTo>
                  <a:lnTo>
                    <a:pt x="1228" y="318"/>
                  </a:lnTo>
                  <a:lnTo>
                    <a:pt x="1122" y="301"/>
                  </a:lnTo>
                  <a:lnTo>
                    <a:pt x="1016" y="283"/>
                  </a:lnTo>
                  <a:lnTo>
                    <a:pt x="913" y="263"/>
                  </a:lnTo>
                  <a:lnTo>
                    <a:pt x="808" y="241"/>
                  </a:lnTo>
                  <a:lnTo>
                    <a:pt x="706" y="217"/>
                  </a:lnTo>
                  <a:lnTo>
                    <a:pt x="604" y="192"/>
                  </a:lnTo>
                  <a:lnTo>
                    <a:pt x="503" y="165"/>
                  </a:lnTo>
                  <a:lnTo>
                    <a:pt x="402" y="135"/>
                  </a:lnTo>
                  <a:lnTo>
                    <a:pt x="304" y="104"/>
                  </a:lnTo>
                  <a:lnTo>
                    <a:pt x="205" y="71"/>
                  </a:lnTo>
                  <a:lnTo>
                    <a:pt x="108" y="37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97" y="65"/>
                  </a:lnTo>
                  <a:lnTo>
                    <a:pt x="196" y="99"/>
                  </a:lnTo>
                  <a:lnTo>
                    <a:pt x="294" y="133"/>
                  </a:lnTo>
                  <a:lnTo>
                    <a:pt x="395" y="165"/>
                  </a:lnTo>
                  <a:lnTo>
                    <a:pt x="495" y="194"/>
                  </a:lnTo>
                  <a:lnTo>
                    <a:pt x="597" y="221"/>
                  </a:lnTo>
                  <a:lnTo>
                    <a:pt x="699" y="247"/>
                  </a:lnTo>
                  <a:lnTo>
                    <a:pt x="802" y="270"/>
                  </a:lnTo>
                  <a:lnTo>
                    <a:pt x="907" y="292"/>
                  </a:lnTo>
                  <a:lnTo>
                    <a:pt x="1011" y="312"/>
                  </a:lnTo>
                  <a:lnTo>
                    <a:pt x="1117" y="331"/>
                  </a:lnTo>
                  <a:lnTo>
                    <a:pt x="1223" y="348"/>
                  </a:lnTo>
                  <a:lnTo>
                    <a:pt x="1331" y="363"/>
                  </a:lnTo>
                  <a:lnTo>
                    <a:pt x="1438" y="376"/>
                  </a:lnTo>
                  <a:lnTo>
                    <a:pt x="1547" y="388"/>
                  </a:lnTo>
                  <a:lnTo>
                    <a:pt x="1657" y="399"/>
                  </a:lnTo>
                  <a:lnTo>
                    <a:pt x="1766" y="408"/>
                  </a:lnTo>
                  <a:lnTo>
                    <a:pt x="1877" y="415"/>
                  </a:lnTo>
                  <a:lnTo>
                    <a:pt x="1989" y="422"/>
                  </a:lnTo>
                  <a:lnTo>
                    <a:pt x="2101" y="425"/>
                  </a:lnTo>
                  <a:lnTo>
                    <a:pt x="2214" y="429"/>
                  </a:lnTo>
                  <a:lnTo>
                    <a:pt x="2327" y="430"/>
                  </a:lnTo>
                  <a:lnTo>
                    <a:pt x="2440" y="430"/>
                  </a:lnTo>
                  <a:lnTo>
                    <a:pt x="2556" y="429"/>
                  </a:lnTo>
                  <a:lnTo>
                    <a:pt x="2670" y="428"/>
                  </a:lnTo>
                  <a:lnTo>
                    <a:pt x="2786" y="424"/>
                  </a:lnTo>
                  <a:lnTo>
                    <a:pt x="2903" y="419"/>
                  </a:lnTo>
                  <a:lnTo>
                    <a:pt x="3020" y="413"/>
                  </a:lnTo>
                  <a:lnTo>
                    <a:pt x="3137" y="406"/>
                  </a:lnTo>
                  <a:lnTo>
                    <a:pt x="3255" y="397"/>
                  </a:lnTo>
                  <a:lnTo>
                    <a:pt x="3373" y="388"/>
                  </a:lnTo>
                  <a:lnTo>
                    <a:pt x="3492" y="377"/>
                  </a:lnTo>
                  <a:lnTo>
                    <a:pt x="3506" y="361"/>
                  </a:lnTo>
                  <a:lnTo>
                    <a:pt x="3492" y="377"/>
                  </a:lnTo>
                  <a:lnTo>
                    <a:pt x="3507" y="376"/>
                  </a:lnTo>
                  <a:lnTo>
                    <a:pt x="3506" y="361"/>
                  </a:lnTo>
                  <a:lnTo>
                    <a:pt x="3475" y="3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176720" y="4259160"/>
              <a:ext cx="49320" cy="198000"/>
            </a:xfrm>
            <a:custGeom>
              <a:avLst/>
              <a:gdLst/>
              <a:ahLst/>
              <a:rect l="l" t="t" r="r" b="b"/>
              <a:pathLst>
                <a:path w="157" h="624">
                  <a:moveTo>
                    <a:pt x="8" y="30"/>
                  </a:moveTo>
                  <a:lnTo>
                    <a:pt x="0" y="30"/>
                  </a:lnTo>
                  <a:lnTo>
                    <a:pt x="3" y="31"/>
                  </a:lnTo>
                  <a:lnTo>
                    <a:pt x="7" y="33"/>
                  </a:lnTo>
                  <a:lnTo>
                    <a:pt x="10" y="37"/>
                  </a:lnTo>
                  <a:lnTo>
                    <a:pt x="15" y="42"/>
                  </a:lnTo>
                  <a:lnTo>
                    <a:pt x="20" y="49"/>
                  </a:lnTo>
                  <a:lnTo>
                    <a:pt x="25" y="57"/>
                  </a:lnTo>
                  <a:lnTo>
                    <a:pt x="30" y="67"/>
                  </a:lnTo>
                  <a:lnTo>
                    <a:pt x="35" y="78"/>
                  </a:lnTo>
                  <a:lnTo>
                    <a:pt x="45" y="103"/>
                  </a:lnTo>
                  <a:lnTo>
                    <a:pt x="53" y="134"/>
                  </a:lnTo>
                  <a:lnTo>
                    <a:pt x="63" y="170"/>
                  </a:lnTo>
                  <a:lnTo>
                    <a:pt x="72" y="208"/>
                  </a:lnTo>
                  <a:lnTo>
                    <a:pt x="80" y="251"/>
                  </a:lnTo>
                  <a:lnTo>
                    <a:pt x="88" y="298"/>
                  </a:lnTo>
                  <a:lnTo>
                    <a:pt x="96" y="346"/>
                  </a:lnTo>
                  <a:lnTo>
                    <a:pt x="102" y="397"/>
                  </a:lnTo>
                  <a:lnTo>
                    <a:pt x="110" y="452"/>
                  </a:lnTo>
                  <a:lnTo>
                    <a:pt x="116" y="507"/>
                  </a:lnTo>
                  <a:lnTo>
                    <a:pt x="121" y="565"/>
                  </a:lnTo>
                  <a:lnTo>
                    <a:pt x="126" y="624"/>
                  </a:lnTo>
                  <a:lnTo>
                    <a:pt x="157" y="621"/>
                  </a:lnTo>
                  <a:lnTo>
                    <a:pt x="152" y="562"/>
                  </a:lnTo>
                  <a:lnTo>
                    <a:pt x="146" y="504"/>
                  </a:lnTo>
                  <a:lnTo>
                    <a:pt x="139" y="448"/>
                  </a:lnTo>
                  <a:lnTo>
                    <a:pt x="133" y="394"/>
                  </a:lnTo>
                  <a:lnTo>
                    <a:pt x="126" y="342"/>
                  </a:lnTo>
                  <a:lnTo>
                    <a:pt x="118" y="293"/>
                  </a:lnTo>
                  <a:lnTo>
                    <a:pt x="110" y="246"/>
                  </a:lnTo>
                  <a:lnTo>
                    <a:pt x="101" y="202"/>
                  </a:lnTo>
                  <a:lnTo>
                    <a:pt x="93" y="163"/>
                  </a:lnTo>
                  <a:lnTo>
                    <a:pt x="83" y="126"/>
                  </a:lnTo>
                  <a:lnTo>
                    <a:pt x="73" y="94"/>
                  </a:lnTo>
                  <a:lnTo>
                    <a:pt x="62" y="67"/>
                  </a:lnTo>
                  <a:lnTo>
                    <a:pt x="57" y="54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39" y="24"/>
                  </a:lnTo>
                  <a:lnTo>
                    <a:pt x="31" y="16"/>
                  </a:lnTo>
                  <a:lnTo>
                    <a:pt x="24" y="9"/>
                  </a:lnTo>
                  <a:lnTo>
                    <a:pt x="16" y="4"/>
                  </a:lnTo>
                  <a:lnTo>
                    <a:pt x="7" y="1"/>
                  </a:lnTo>
                  <a:lnTo>
                    <a:pt x="0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3514680" y="2377800"/>
              <a:ext cx="841320" cy="623520"/>
            </a:xfrm>
            <a:custGeom>
              <a:avLst/>
              <a:gdLst/>
              <a:ahLst/>
              <a:rect l="l" t="t" r="r" b="b"/>
              <a:pathLst>
                <a:path w="2652" h="1962">
                  <a:moveTo>
                    <a:pt x="1884" y="806"/>
                  </a:moveTo>
                  <a:lnTo>
                    <a:pt x="1933" y="805"/>
                  </a:lnTo>
                  <a:lnTo>
                    <a:pt x="1981" y="805"/>
                  </a:lnTo>
                  <a:lnTo>
                    <a:pt x="2027" y="805"/>
                  </a:lnTo>
                  <a:lnTo>
                    <a:pt x="2072" y="807"/>
                  </a:lnTo>
                  <a:lnTo>
                    <a:pt x="2161" y="812"/>
                  </a:lnTo>
                  <a:lnTo>
                    <a:pt x="2249" y="818"/>
                  </a:lnTo>
                  <a:lnTo>
                    <a:pt x="2340" y="826"/>
                  </a:lnTo>
                  <a:lnTo>
                    <a:pt x="2436" y="832"/>
                  </a:lnTo>
                  <a:lnTo>
                    <a:pt x="2487" y="834"/>
                  </a:lnTo>
                  <a:lnTo>
                    <a:pt x="2540" y="835"/>
                  </a:lnTo>
                  <a:lnTo>
                    <a:pt x="2594" y="835"/>
                  </a:lnTo>
                  <a:lnTo>
                    <a:pt x="2652" y="835"/>
                  </a:lnTo>
                  <a:lnTo>
                    <a:pt x="2633" y="830"/>
                  </a:lnTo>
                  <a:lnTo>
                    <a:pt x="2609" y="822"/>
                  </a:lnTo>
                  <a:lnTo>
                    <a:pt x="2575" y="808"/>
                  </a:lnTo>
                  <a:lnTo>
                    <a:pt x="2537" y="792"/>
                  </a:lnTo>
                  <a:lnTo>
                    <a:pt x="2443" y="751"/>
                  </a:lnTo>
                  <a:lnTo>
                    <a:pt x="2327" y="703"/>
                  </a:lnTo>
                  <a:lnTo>
                    <a:pt x="2264" y="677"/>
                  </a:lnTo>
                  <a:lnTo>
                    <a:pt x="2197" y="651"/>
                  </a:lnTo>
                  <a:lnTo>
                    <a:pt x="2125" y="626"/>
                  </a:lnTo>
                  <a:lnTo>
                    <a:pt x="2053" y="603"/>
                  </a:lnTo>
                  <a:lnTo>
                    <a:pt x="2014" y="592"/>
                  </a:lnTo>
                  <a:lnTo>
                    <a:pt x="1976" y="581"/>
                  </a:lnTo>
                  <a:lnTo>
                    <a:pt x="1938" y="571"/>
                  </a:lnTo>
                  <a:lnTo>
                    <a:pt x="1899" y="562"/>
                  </a:lnTo>
                  <a:lnTo>
                    <a:pt x="1860" y="554"/>
                  </a:lnTo>
                  <a:lnTo>
                    <a:pt x="1820" y="545"/>
                  </a:lnTo>
                  <a:lnTo>
                    <a:pt x="1780" y="539"/>
                  </a:lnTo>
                  <a:lnTo>
                    <a:pt x="1739" y="533"/>
                  </a:lnTo>
                  <a:lnTo>
                    <a:pt x="1700" y="495"/>
                  </a:lnTo>
                  <a:lnTo>
                    <a:pt x="1660" y="459"/>
                  </a:lnTo>
                  <a:lnTo>
                    <a:pt x="1622" y="425"/>
                  </a:lnTo>
                  <a:lnTo>
                    <a:pt x="1584" y="393"/>
                  </a:lnTo>
                  <a:lnTo>
                    <a:pt x="1546" y="362"/>
                  </a:lnTo>
                  <a:lnTo>
                    <a:pt x="1507" y="332"/>
                  </a:lnTo>
                  <a:lnTo>
                    <a:pt x="1466" y="304"/>
                  </a:lnTo>
                  <a:lnTo>
                    <a:pt x="1424" y="275"/>
                  </a:lnTo>
                  <a:lnTo>
                    <a:pt x="1380" y="245"/>
                  </a:lnTo>
                  <a:lnTo>
                    <a:pt x="1332" y="215"/>
                  </a:lnTo>
                  <a:lnTo>
                    <a:pt x="1281" y="185"/>
                  </a:lnTo>
                  <a:lnTo>
                    <a:pt x="1227" y="152"/>
                  </a:lnTo>
                  <a:lnTo>
                    <a:pt x="1106" y="81"/>
                  </a:lnTo>
                  <a:lnTo>
                    <a:pt x="962" y="0"/>
                  </a:lnTo>
                  <a:lnTo>
                    <a:pt x="890" y="35"/>
                  </a:lnTo>
                  <a:lnTo>
                    <a:pt x="819" y="70"/>
                  </a:lnTo>
                  <a:lnTo>
                    <a:pt x="749" y="106"/>
                  </a:lnTo>
                  <a:lnTo>
                    <a:pt x="679" y="144"/>
                  </a:lnTo>
                  <a:lnTo>
                    <a:pt x="610" y="184"/>
                  </a:lnTo>
                  <a:lnTo>
                    <a:pt x="543" y="225"/>
                  </a:lnTo>
                  <a:lnTo>
                    <a:pt x="510" y="246"/>
                  </a:lnTo>
                  <a:lnTo>
                    <a:pt x="477" y="270"/>
                  </a:lnTo>
                  <a:lnTo>
                    <a:pt x="445" y="292"/>
                  </a:lnTo>
                  <a:lnTo>
                    <a:pt x="413" y="315"/>
                  </a:lnTo>
                  <a:lnTo>
                    <a:pt x="382" y="340"/>
                  </a:lnTo>
                  <a:lnTo>
                    <a:pt x="352" y="366"/>
                  </a:lnTo>
                  <a:lnTo>
                    <a:pt x="322" y="391"/>
                  </a:lnTo>
                  <a:lnTo>
                    <a:pt x="292" y="418"/>
                  </a:lnTo>
                  <a:lnTo>
                    <a:pt x="263" y="447"/>
                  </a:lnTo>
                  <a:lnTo>
                    <a:pt x="236" y="475"/>
                  </a:lnTo>
                  <a:lnTo>
                    <a:pt x="208" y="506"/>
                  </a:lnTo>
                  <a:lnTo>
                    <a:pt x="182" y="537"/>
                  </a:lnTo>
                  <a:lnTo>
                    <a:pt x="156" y="569"/>
                  </a:lnTo>
                  <a:lnTo>
                    <a:pt x="130" y="602"/>
                  </a:lnTo>
                  <a:lnTo>
                    <a:pt x="107" y="636"/>
                  </a:lnTo>
                  <a:lnTo>
                    <a:pt x="83" y="672"/>
                  </a:lnTo>
                  <a:lnTo>
                    <a:pt x="61" y="709"/>
                  </a:lnTo>
                  <a:lnTo>
                    <a:pt x="39" y="747"/>
                  </a:lnTo>
                  <a:lnTo>
                    <a:pt x="19" y="787"/>
                  </a:lnTo>
                  <a:lnTo>
                    <a:pt x="0" y="828"/>
                  </a:lnTo>
                  <a:lnTo>
                    <a:pt x="58" y="969"/>
                  </a:lnTo>
                  <a:lnTo>
                    <a:pt x="114" y="1111"/>
                  </a:lnTo>
                  <a:lnTo>
                    <a:pt x="172" y="1252"/>
                  </a:lnTo>
                  <a:lnTo>
                    <a:pt x="230" y="1394"/>
                  </a:lnTo>
                  <a:lnTo>
                    <a:pt x="288" y="1535"/>
                  </a:lnTo>
                  <a:lnTo>
                    <a:pt x="345" y="1678"/>
                  </a:lnTo>
                  <a:lnTo>
                    <a:pt x="402" y="1821"/>
                  </a:lnTo>
                  <a:lnTo>
                    <a:pt x="460" y="1962"/>
                  </a:lnTo>
                  <a:lnTo>
                    <a:pt x="475" y="1874"/>
                  </a:lnTo>
                  <a:lnTo>
                    <a:pt x="493" y="1787"/>
                  </a:lnTo>
                  <a:lnTo>
                    <a:pt x="514" y="1705"/>
                  </a:lnTo>
                  <a:lnTo>
                    <a:pt x="537" y="1626"/>
                  </a:lnTo>
                  <a:lnTo>
                    <a:pt x="564" y="1551"/>
                  </a:lnTo>
                  <a:lnTo>
                    <a:pt x="593" y="1480"/>
                  </a:lnTo>
                  <a:lnTo>
                    <a:pt x="625" y="1414"/>
                  </a:lnTo>
                  <a:lnTo>
                    <a:pt x="659" y="1348"/>
                  </a:lnTo>
                  <a:lnTo>
                    <a:pt x="696" y="1288"/>
                  </a:lnTo>
                  <a:lnTo>
                    <a:pt x="734" y="1231"/>
                  </a:lnTo>
                  <a:lnTo>
                    <a:pt x="775" y="1179"/>
                  </a:lnTo>
                  <a:lnTo>
                    <a:pt x="818" y="1128"/>
                  </a:lnTo>
                  <a:lnTo>
                    <a:pt x="862" y="1081"/>
                  </a:lnTo>
                  <a:lnTo>
                    <a:pt x="907" y="1038"/>
                  </a:lnTo>
                  <a:lnTo>
                    <a:pt x="955" y="999"/>
                  </a:lnTo>
                  <a:lnTo>
                    <a:pt x="1005" y="962"/>
                  </a:lnTo>
                  <a:lnTo>
                    <a:pt x="1055" y="929"/>
                  </a:lnTo>
                  <a:lnTo>
                    <a:pt x="1107" y="899"/>
                  </a:lnTo>
                  <a:lnTo>
                    <a:pt x="1158" y="872"/>
                  </a:lnTo>
                  <a:lnTo>
                    <a:pt x="1213" y="849"/>
                  </a:lnTo>
                  <a:lnTo>
                    <a:pt x="1267" y="829"/>
                  </a:lnTo>
                  <a:lnTo>
                    <a:pt x="1322" y="812"/>
                  </a:lnTo>
                  <a:lnTo>
                    <a:pt x="1377" y="797"/>
                  </a:lnTo>
                  <a:lnTo>
                    <a:pt x="1434" y="786"/>
                  </a:lnTo>
                  <a:lnTo>
                    <a:pt x="1491" y="779"/>
                  </a:lnTo>
                  <a:lnTo>
                    <a:pt x="1547" y="774"/>
                  </a:lnTo>
                  <a:lnTo>
                    <a:pt x="1604" y="773"/>
                  </a:lnTo>
                  <a:lnTo>
                    <a:pt x="1660" y="773"/>
                  </a:lnTo>
                  <a:lnTo>
                    <a:pt x="1717" y="778"/>
                  </a:lnTo>
                  <a:lnTo>
                    <a:pt x="1773" y="784"/>
                  </a:lnTo>
                  <a:lnTo>
                    <a:pt x="1829" y="794"/>
                  </a:lnTo>
                  <a:lnTo>
                    <a:pt x="1884" y="806"/>
                  </a:lnTo>
                  <a:close/>
                </a:path>
              </a:pathLst>
            </a:custGeom>
            <a:solidFill>
              <a:srgbClr val="515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113360" y="2625480"/>
              <a:ext cx="312480" cy="26640"/>
            </a:xfrm>
            <a:custGeom>
              <a:avLst/>
              <a:gdLst/>
              <a:ahLst/>
              <a:rect l="l" t="t" r="r" b="b"/>
              <a:pathLst>
                <a:path w="988" h="86">
                  <a:moveTo>
                    <a:pt x="765" y="84"/>
                  </a:moveTo>
                  <a:lnTo>
                    <a:pt x="769" y="30"/>
                  </a:lnTo>
                  <a:lnTo>
                    <a:pt x="711" y="30"/>
                  </a:lnTo>
                  <a:lnTo>
                    <a:pt x="657" y="30"/>
                  </a:lnTo>
                  <a:lnTo>
                    <a:pt x="605" y="29"/>
                  </a:lnTo>
                  <a:lnTo>
                    <a:pt x="555" y="27"/>
                  </a:lnTo>
                  <a:lnTo>
                    <a:pt x="460" y="21"/>
                  </a:lnTo>
                  <a:lnTo>
                    <a:pt x="369" y="13"/>
                  </a:lnTo>
                  <a:lnTo>
                    <a:pt x="280" y="7"/>
                  </a:lnTo>
                  <a:lnTo>
                    <a:pt x="191" y="1"/>
                  </a:lnTo>
                  <a:lnTo>
                    <a:pt x="145" y="0"/>
                  </a:lnTo>
                  <a:lnTo>
                    <a:pt x="98" y="0"/>
                  </a:lnTo>
                  <a:lnTo>
                    <a:pt x="50" y="0"/>
                  </a:lnTo>
                  <a:lnTo>
                    <a:pt x="0" y="1"/>
                  </a:lnTo>
                  <a:lnTo>
                    <a:pt x="2" y="56"/>
                  </a:lnTo>
                  <a:lnTo>
                    <a:pt x="52" y="54"/>
                  </a:lnTo>
                  <a:lnTo>
                    <a:pt x="98" y="54"/>
                  </a:lnTo>
                  <a:lnTo>
                    <a:pt x="144" y="54"/>
                  </a:lnTo>
                  <a:lnTo>
                    <a:pt x="188" y="56"/>
                  </a:lnTo>
                  <a:lnTo>
                    <a:pt x="277" y="61"/>
                  </a:lnTo>
                  <a:lnTo>
                    <a:pt x="365" y="67"/>
                  </a:lnTo>
                  <a:lnTo>
                    <a:pt x="456" y="75"/>
                  </a:lnTo>
                  <a:lnTo>
                    <a:pt x="552" y="81"/>
                  </a:lnTo>
                  <a:lnTo>
                    <a:pt x="603" y="83"/>
                  </a:lnTo>
                  <a:lnTo>
                    <a:pt x="655" y="84"/>
                  </a:lnTo>
                  <a:lnTo>
                    <a:pt x="711" y="86"/>
                  </a:lnTo>
                  <a:lnTo>
                    <a:pt x="770" y="84"/>
                  </a:lnTo>
                  <a:lnTo>
                    <a:pt x="772" y="30"/>
                  </a:lnTo>
                  <a:lnTo>
                    <a:pt x="770" y="84"/>
                  </a:lnTo>
                  <a:lnTo>
                    <a:pt x="988" y="68"/>
                  </a:lnTo>
                  <a:lnTo>
                    <a:pt x="772" y="30"/>
                  </a:lnTo>
                  <a:lnTo>
                    <a:pt x="765" y="8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060800" y="2539800"/>
              <a:ext cx="297000" cy="112320"/>
            </a:xfrm>
            <a:custGeom>
              <a:avLst/>
              <a:gdLst/>
              <a:ahLst/>
              <a:rect l="l" t="t" r="r" b="b"/>
              <a:pathLst>
                <a:path w="934" h="356">
                  <a:moveTo>
                    <a:pt x="0" y="47"/>
                  </a:moveTo>
                  <a:lnTo>
                    <a:pt x="16" y="54"/>
                  </a:lnTo>
                  <a:lnTo>
                    <a:pt x="55" y="59"/>
                  </a:lnTo>
                  <a:lnTo>
                    <a:pt x="94" y="66"/>
                  </a:lnTo>
                  <a:lnTo>
                    <a:pt x="132" y="74"/>
                  </a:lnTo>
                  <a:lnTo>
                    <a:pt x="172" y="82"/>
                  </a:lnTo>
                  <a:lnTo>
                    <a:pt x="210" y="92"/>
                  </a:lnTo>
                  <a:lnTo>
                    <a:pt x="248" y="102"/>
                  </a:lnTo>
                  <a:lnTo>
                    <a:pt x="286" y="112"/>
                  </a:lnTo>
                  <a:lnTo>
                    <a:pt x="323" y="123"/>
                  </a:lnTo>
                  <a:lnTo>
                    <a:pt x="396" y="146"/>
                  </a:lnTo>
                  <a:lnTo>
                    <a:pt x="466" y="171"/>
                  </a:lnTo>
                  <a:lnTo>
                    <a:pt x="533" y="197"/>
                  </a:lnTo>
                  <a:lnTo>
                    <a:pt x="596" y="221"/>
                  </a:lnTo>
                  <a:lnTo>
                    <a:pt x="710" y="269"/>
                  </a:lnTo>
                  <a:lnTo>
                    <a:pt x="805" y="311"/>
                  </a:lnTo>
                  <a:lnTo>
                    <a:pt x="845" y="328"/>
                  </a:lnTo>
                  <a:lnTo>
                    <a:pt x="878" y="342"/>
                  </a:lnTo>
                  <a:lnTo>
                    <a:pt x="905" y="350"/>
                  </a:lnTo>
                  <a:lnTo>
                    <a:pt x="927" y="356"/>
                  </a:lnTo>
                  <a:lnTo>
                    <a:pt x="934" y="302"/>
                  </a:lnTo>
                  <a:lnTo>
                    <a:pt x="921" y="299"/>
                  </a:lnTo>
                  <a:lnTo>
                    <a:pt x="896" y="290"/>
                  </a:lnTo>
                  <a:lnTo>
                    <a:pt x="865" y="278"/>
                  </a:lnTo>
                  <a:lnTo>
                    <a:pt x="827" y="261"/>
                  </a:lnTo>
                  <a:lnTo>
                    <a:pt x="731" y="220"/>
                  </a:lnTo>
                  <a:lnTo>
                    <a:pt x="617" y="171"/>
                  </a:lnTo>
                  <a:lnTo>
                    <a:pt x="553" y="145"/>
                  </a:lnTo>
                  <a:lnTo>
                    <a:pt x="484" y="120"/>
                  </a:lnTo>
                  <a:lnTo>
                    <a:pt x="413" y="94"/>
                  </a:lnTo>
                  <a:lnTo>
                    <a:pt x="339" y="71"/>
                  </a:lnTo>
                  <a:lnTo>
                    <a:pt x="301" y="60"/>
                  </a:lnTo>
                  <a:lnTo>
                    <a:pt x="263" y="49"/>
                  </a:lnTo>
                  <a:lnTo>
                    <a:pt x="223" y="39"/>
                  </a:lnTo>
                  <a:lnTo>
                    <a:pt x="184" y="29"/>
                  </a:lnTo>
                  <a:lnTo>
                    <a:pt x="143" y="21"/>
                  </a:lnTo>
                  <a:lnTo>
                    <a:pt x="104" y="13"/>
                  </a:lnTo>
                  <a:lnTo>
                    <a:pt x="63" y="6"/>
                  </a:lnTo>
                  <a:lnTo>
                    <a:pt x="22" y="0"/>
                  </a:lnTo>
                  <a:lnTo>
                    <a:pt x="38" y="7"/>
                  </a:lnTo>
                  <a:lnTo>
                    <a:pt x="0" y="47"/>
                  </a:lnTo>
                  <a:lnTo>
                    <a:pt x="6" y="53"/>
                  </a:lnTo>
                  <a:lnTo>
                    <a:pt x="16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3816360" y="2368440"/>
              <a:ext cx="257040" cy="185400"/>
            </a:xfrm>
            <a:custGeom>
              <a:avLst/>
              <a:gdLst/>
              <a:ahLst/>
              <a:rect l="l" t="t" r="r" b="b"/>
              <a:pathLst>
                <a:path w="810" h="584">
                  <a:moveTo>
                    <a:pt x="25" y="56"/>
                  </a:moveTo>
                  <a:lnTo>
                    <a:pt x="0" y="55"/>
                  </a:lnTo>
                  <a:lnTo>
                    <a:pt x="143" y="136"/>
                  </a:lnTo>
                  <a:lnTo>
                    <a:pt x="265" y="206"/>
                  </a:lnTo>
                  <a:lnTo>
                    <a:pt x="319" y="239"/>
                  </a:lnTo>
                  <a:lnTo>
                    <a:pt x="369" y="270"/>
                  </a:lnTo>
                  <a:lnTo>
                    <a:pt x="416" y="299"/>
                  </a:lnTo>
                  <a:lnTo>
                    <a:pt x="460" y="328"/>
                  </a:lnTo>
                  <a:lnTo>
                    <a:pt x="501" y="357"/>
                  </a:lnTo>
                  <a:lnTo>
                    <a:pt x="542" y="385"/>
                  </a:lnTo>
                  <a:lnTo>
                    <a:pt x="580" y="415"/>
                  </a:lnTo>
                  <a:lnTo>
                    <a:pt x="618" y="445"/>
                  </a:lnTo>
                  <a:lnTo>
                    <a:pt x="656" y="477"/>
                  </a:lnTo>
                  <a:lnTo>
                    <a:pt x="693" y="510"/>
                  </a:lnTo>
                  <a:lnTo>
                    <a:pt x="732" y="545"/>
                  </a:lnTo>
                  <a:lnTo>
                    <a:pt x="772" y="584"/>
                  </a:lnTo>
                  <a:lnTo>
                    <a:pt x="810" y="544"/>
                  </a:lnTo>
                  <a:lnTo>
                    <a:pt x="769" y="505"/>
                  </a:lnTo>
                  <a:lnTo>
                    <a:pt x="730" y="469"/>
                  </a:lnTo>
                  <a:lnTo>
                    <a:pt x="690" y="436"/>
                  </a:lnTo>
                  <a:lnTo>
                    <a:pt x="652" y="403"/>
                  </a:lnTo>
                  <a:lnTo>
                    <a:pt x="614" y="372"/>
                  </a:lnTo>
                  <a:lnTo>
                    <a:pt x="573" y="342"/>
                  </a:lnTo>
                  <a:lnTo>
                    <a:pt x="533" y="312"/>
                  </a:lnTo>
                  <a:lnTo>
                    <a:pt x="490" y="283"/>
                  </a:lnTo>
                  <a:lnTo>
                    <a:pt x="446" y="253"/>
                  </a:lnTo>
                  <a:lnTo>
                    <a:pt x="398" y="223"/>
                  </a:lnTo>
                  <a:lnTo>
                    <a:pt x="346" y="192"/>
                  </a:lnTo>
                  <a:lnTo>
                    <a:pt x="292" y="159"/>
                  </a:lnTo>
                  <a:lnTo>
                    <a:pt x="170" y="89"/>
                  </a:lnTo>
                  <a:lnTo>
                    <a:pt x="26" y="8"/>
                  </a:lnTo>
                  <a:lnTo>
                    <a:pt x="2" y="7"/>
                  </a:lnTo>
                  <a:lnTo>
                    <a:pt x="26" y="8"/>
                  </a:lnTo>
                  <a:lnTo>
                    <a:pt x="14" y="0"/>
                  </a:lnTo>
                  <a:lnTo>
                    <a:pt x="2" y="7"/>
                  </a:lnTo>
                  <a:lnTo>
                    <a:pt x="25" y="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505320" y="2371680"/>
              <a:ext cx="318960" cy="272520"/>
            </a:xfrm>
            <a:custGeom>
              <a:avLst/>
              <a:gdLst/>
              <a:ahLst/>
              <a:rect l="l" t="t" r="r" b="b"/>
              <a:pathLst>
                <a:path w="1004" h="863">
                  <a:moveTo>
                    <a:pt x="54" y="842"/>
                  </a:moveTo>
                  <a:lnTo>
                    <a:pt x="54" y="863"/>
                  </a:lnTo>
                  <a:lnTo>
                    <a:pt x="73" y="823"/>
                  </a:lnTo>
                  <a:lnTo>
                    <a:pt x="94" y="784"/>
                  </a:lnTo>
                  <a:lnTo>
                    <a:pt x="115" y="746"/>
                  </a:lnTo>
                  <a:lnTo>
                    <a:pt x="137" y="711"/>
                  </a:lnTo>
                  <a:lnTo>
                    <a:pt x="159" y="675"/>
                  </a:lnTo>
                  <a:lnTo>
                    <a:pt x="182" y="642"/>
                  </a:lnTo>
                  <a:lnTo>
                    <a:pt x="207" y="610"/>
                  </a:lnTo>
                  <a:lnTo>
                    <a:pt x="233" y="578"/>
                  </a:lnTo>
                  <a:lnTo>
                    <a:pt x="259" y="547"/>
                  </a:lnTo>
                  <a:lnTo>
                    <a:pt x="286" y="517"/>
                  </a:lnTo>
                  <a:lnTo>
                    <a:pt x="313" y="489"/>
                  </a:lnTo>
                  <a:lnTo>
                    <a:pt x="341" y="462"/>
                  </a:lnTo>
                  <a:lnTo>
                    <a:pt x="369" y="436"/>
                  </a:lnTo>
                  <a:lnTo>
                    <a:pt x="399" y="410"/>
                  </a:lnTo>
                  <a:lnTo>
                    <a:pt x="429" y="386"/>
                  </a:lnTo>
                  <a:lnTo>
                    <a:pt x="460" y="361"/>
                  </a:lnTo>
                  <a:lnTo>
                    <a:pt x="491" y="338"/>
                  </a:lnTo>
                  <a:lnTo>
                    <a:pt x="523" y="316"/>
                  </a:lnTo>
                  <a:lnTo>
                    <a:pt x="555" y="294"/>
                  </a:lnTo>
                  <a:lnTo>
                    <a:pt x="588" y="273"/>
                  </a:lnTo>
                  <a:lnTo>
                    <a:pt x="655" y="231"/>
                  </a:lnTo>
                  <a:lnTo>
                    <a:pt x="722" y="192"/>
                  </a:lnTo>
                  <a:lnTo>
                    <a:pt x="791" y="155"/>
                  </a:lnTo>
                  <a:lnTo>
                    <a:pt x="861" y="119"/>
                  </a:lnTo>
                  <a:lnTo>
                    <a:pt x="933" y="83"/>
                  </a:lnTo>
                  <a:lnTo>
                    <a:pt x="1004" y="49"/>
                  </a:lnTo>
                  <a:lnTo>
                    <a:pt x="981" y="0"/>
                  </a:lnTo>
                  <a:lnTo>
                    <a:pt x="909" y="34"/>
                  </a:lnTo>
                  <a:lnTo>
                    <a:pt x="837" y="70"/>
                  </a:lnTo>
                  <a:lnTo>
                    <a:pt x="767" y="107"/>
                  </a:lnTo>
                  <a:lnTo>
                    <a:pt x="696" y="145"/>
                  </a:lnTo>
                  <a:lnTo>
                    <a:pt x="626" y="184"/>
                  </a:lnTo>
                  <a:lnTo>
                    <a:pt x="559" y="226"/>
                  </a:lnTo>
                  <a:lnTo>
                    <a:pt x="525" y="248"/>
                  </a:lnTo>
                  <a:lnTo>
                    <a:pt x="492" y="270"/>
                  </a:lnTo>
                  <a:lnTo>
                    <a:pt x="459" y="294"/>
                  </a:lnTo>
                  <a:lnTo>
                    <a:pt x="427" y="318"/>
                  </a:lnTo>
                  <a:lnTo>
                    <a:pt x="395" y="343"/>
                  </a:lnTo>
                  <a:lnTo>
                    <a:pt x="364" y="369"/>
                  </a:lnTo>
                  <a:lnTo>
                    <a:pt x="334" y="396"/>
                  </a:lnTo>
                  <a:lnTo>
                    <a:pt x="304" y="423"/>
                  </a:lnTo>
                  <a:lnTo>
                    <a:pt x="275" y="451"/>
                  </a:lnTo>
                  <a:lnTo>
                    <a:pt x="246" y="481"/>
                  </a:lnTo>
                  <a:lnTo>
                    <a:pt x="218" y="511"/>
                  </a:lnTo>
                  <a:lnTo>
                    <a:pt x="191" y="543"/>
                  </a:lnTo>
                  <a:lnTo>
                    <a:pt x="164" y="575"/>
                  </a:lnTo>
                  <a:lnTo>
                    <a:pt x="139" y="610"/>
                  </a:lnTo>
                  <a:lnTo>
                    <a:pt x="113" y="645"/>
                  </a:lnTo>
                  <a:lnTo>
                    <a:pt x="90" y="681"/>
                  </a:lnTo>
                  <a:lnTo>
                    <a:pt x="68" y="719"/>
                  </a:lnTo>
                  <a:lnTo>
                    <a:pt x="46" y="759"/>
                  </a:lnTo>
                  <a:lnTo>
                    <a:pt x="25" y="799"/>
                  </a:lnTo>
                  <a:lnTo>
                    <a:pt x="5" y="841"/>
                  </a:lnTo>
                  <a:lnTo>
                    <a:pt x="4" y="862"/>
                  </a:lnTo>
                  <a:lnTo>
                    <a:pt x="5" y="841"/>
                  </a:lnTo>
                  <a:lnTo>
                    <a:pt x="0" y="852"/>
                  </a:lnTo>
                  <a:lnTo>
                    <a:pt x="4" y="862"/>
                  </a:lnTo>
                  <a:lnTo>
                    <a:pt x="54" y="84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3506760" y="2638080"/>
              <a:ext cx="162000" cy="394920"/>
            </a:xfrm>
            <a:custGeom>
              <a:avLst/>
              <a:gdLst/>
              <a:ahLst/>
              <a:rect l="l" t="t" r="r" b="b"/>
              <a:pathLst>
                <a:path w="513" h="1246">
                  <a:moveTo>
                    <a:pt x="459" y="1140"/>
                  </a:moveTo>
                  <a:lnTo>
                    <a:pt x="512" y="1134"/>
                  </a:lnTo>
                  <a:lnTo>
                    <a:pt x="454" y="992"/>
                  </a:lnTo>
                  <a:lnTo>
                    <a:pt x="396" y="850"/>
                  </a:lnTo>
                  <a:lnTo>
                    <a:pt x="338" y="707"/>
                  </a:lnTo>
                  <a:lnTo>
                    <a:pt x="280" y="566"/>
                  </a:lnTo>
                  <a:lnTo>
                    <a:pt x="224" y="423"/>
                  </a:lnTo>
                  <a:lnTo>
                    <a:pt x="166" y="282"/>
                  </a:lnTo>
                  <a:lnTo>
                    <a:pt x="108" y="140"/>
                  </a:lnTo>
                  <a:lnTo>
                    <a:pt x="50" y="0"/>
                  </a:lnTo>
                  <a:lnTo>
                    <a:pt x="0" y="20"/>
                  </a:lnTo>
                  <a:lnTo>
                    <a:pt x="58" y="161"/>
                  </a:lnTo>
                  <a:lnTo>
                    <a:pt x="116" y="303"/>
                  </a:lnTo>
                  <a:lnTo>
                    <a:pt x="173" y="444"/>
                  </a:lnTo>
                  <a:lnTo>
                    <a:pt x="230" y="586"/>
                  </a:lnTo>
                  <a:lnTo>
                    <a:pt x="288" y="728"/>
                  </a:lnTo>
                  <a:lnTo>
                    <a:pt x="346" y="870"/>
                  </a:lnTo>
                  <a:lnTo>
                    <a:pt x="403" y="1012"/>
                  </a:lnTo>
                  <a:lnTo>
                    <a:pt x="461" y="1155"/>
                  </a:lnTo>
                  <a:lnTo>
                    <a:pt x="513" y="1149"/>
                  </a:lnTo>
                  <a:lnTo>
                    <a:pt x="461" y="1155"/>
                  </a:lnTo>
                  <a:lnTo>
                    <a:pt x="498" y="1246"/>
                  </a:lnTo>
                  <a:lnTo>
                    <a:pt x="513" y="1149"/>
                  </a:lnTo>
                  <a:lnTo>
                    <a:pt x="459" y="11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3652920" y="2614320"/>
              <a:ext cx="461880" cy="388800"/>
            </a:xfrm>
            <a:custGeom>
              <a:avLst/>
              <a:gdLst/>
              <a:ahLst/>
              <a:rect l="l" t="t" r="r" b="b"/>
              <a:pathLst>
                <a:path w="1458" h="1223">
                  <a:moveTo>
                    <a:pt x="1450" y="35"/>
                  </a:moveTo>
                  <a:lnTo>
                    <a:pt x="1458" y="36"/>
                  </a:lnTo>
                  <a:lnTo>
                    <a:pt x="1430" y="30"/>
                  </a:lnTo>
                  <a:lnTo>
                    <a:pt x="1401" y="24"/>
                  </a:lnTo>
                  <a:lnTo>
                    <a:pt x="1372" y="18"/>
                  </a:lnTo>
                  <a:lnTo>
                    <a:pt x="1344" y="13"/>
                  </a:lnTo>
                  <a:lnTo>
                    <a:pt x="1315" y="9"/>
                  </a:lnTo>
                  <a:lnTo>
                    <a:pt x="1286" y="7"/>
                  </a:lnTo>
                  <a:lnTo>
                    <a:pt x="1257" y="4"/>
                  </a:lnTo>
                  <a:lnTo>
                    <a:pt x="1228" y="2"/>
                  </a:lnTo>
                  <a:lnTo>
                    <a:pt x="1199" y="2"/>
                  </a:lnTo>
                  <a:lnTo>
                    <a:pt x="1171" y="0"/>
                  </a:lnTo>
                  <a:lnTo>
                    <a:pt x="1141" y="2"/>
                  </a:lnTo>
                  <a:lnTo>
                    <a:pt x="1112" y="3"/>
                  </a:lnTo>
                  <a:lnTo>
                    <a:pt x="1083" y="5"/>
                  </a:lnTo>
                  <a:lnTo>
                    <a:pt x="1054" y="8"/>
                  </a:lnTo>
                  <a:lnTo>
                    <a:pt x="1026" y="11"/>
                  </a:lnTo>
                  <a:lnTo>
                    <a:pt x="996" y="16"/>
                  </a:lnTo>
                  <a:lnTo>
                    <a:pt x="968" y="21"/>
                  </a:lnTo>
                  <a:lnTo>
                    <a:pt x="938" y="27"/>
                  </a:lnTo>
                  <a:lnTo>
                    <a:pt x="910" y="34"/>
                  </a:lnTo>
                  <a:lnTo>
                    <a:pt x="882" y="41"/>
                  </a:lnTo>
                  <a:lnTo>
                    <a:pt x="853" y="50"/>
                  </a:lnTo>
                  <a:lnTo>
                    <a:pt x="825" y="59"/>
                  </a:lnTo>
                  <a:lnTo>
                    <a:pt x="797" y="69"/>
                  </a:lnTo>
                  <a:lnTo>
                    <a:pt x="768" y="80"/>
                  </a:lnTo>
                  <a:lnTo>
                    <a:pt x="741" y="91"/>
                  </a:lnTo>
                  <a:lnTo>
                    <a:pt x="714" y="104"/>
                  </a:lnTo>
                  <a:lnTo>
                    <a:pt x="687" y="117"/>
                  </a:lnTo>
                  <a:lnTo>
                    <a:pt x="660" y="131"/>
                  </a:lnTo>
                  <a:lnTo>
                    <a:pt x="633" y="147"/>
                  </a:lnTo>
                  <a:lnTo>
                    <a:pt x="607" y="162"/>
                  </a:lnTo>
                  <a:lnTo>
                    <a:pt x="581" y="179"/>
                  </a:lnTo>
                  <a:lnTo>
                    <a:pt x="556" y="196"/>
                  </a:lnTo>
                  <a:lnTo>
                    <a:pt x="531" y="214"/>
                  </a:lnTo>
                  <a:lnTo>
                    <a:pt x="505" y="233"/>
                  </a:lnTo>
                  <a:lnTo>
                    <a:pt x="481" y="254"/>
                  </a:lnTo>
                  <a:lnTo>
                    <a:pt x="457" y="275"/>
                  </a:lnTo>
                  <a:lnTo>
                    <a:pt x="433" y="296"/>
                  </a:lnTo>
                  <a:lnTo>
                    <a:pt x="409" y="319"/>
                  </a:lnTo>
                  <a:lnTo>
                    <a:pt x="387" y="342"/>
                  </a:lnTo>
                  <a:lnTo>
                    <a:pt x="364" y="366"/>
                  </a:lnTo>
                  <a:lnTo>
                    <a:pt x="342" y="392"/>
                  </a:lnTo>
                  <a:lnTo>
                    <a:pt x="321" y="417"/>
                  </a:lnTo>
                  <a:lnTo>
                    <a:pt x="300" y="444"/>
                  </a:lnTo>
                  <a:lnTo>
                    <a:pt x="279" y="471"/>
                  </a:lnTo>
                  <a:lnTo>
                    <a:pt x="259" y="501"/>
                  </a:lnTo>
                  <a:lnTo>
                    <a:pt x="240" y="531"/>
                  </a:lnTo>
                  <a:lnTo>
                    <a:pt x="221" y="560"/>
                  </a:lnTo>
                  <a:lnTo>
                    <a:pt x="203" y="592"/>
                  </a:lnTo>
                  <a:lnTo>
                    <a:pt x="184" y="624"/>
                  </a:lnTo>
                  <a:lnTo>
                    <a:pt x="168" y="657"/>
                  </a:lnTo>
                  <a:lnTo>
                    <a:pt x="151" y="690"/>
                  </a:lnTo>
                  <a:lnTo>
                    <a:pt x="135" y="726"/>
                  </a:lnTo>
                  <a:lnTo>
                    <a:pt x="120" y="762"/>
                  </a:lnTo>
                  <a:lnTo>
                    <a:pt x="105" y="797"/>
                  </a:lnTo>
                  <a:lnTo>
                    <a:pt x="92" y="836"/>
                  </a:lnTo>
                  <a:lnTo>
                    <a:pt x="78" y="874"/>
                  </a:lnTo>
                  <a:lnTo>
                    <a:pt x="66" y="913"/>
                  </a:lnTo>
                  <a:lnTo>
                    <a:pt x="54" y="954"/>
                  </a:lnTo>
                  <a:lnTo>
                    <a:pt x="43" y="994"/>
                  </a:lnTo>
                  <a:lnTo>
                    <a:pt x="33" y="1037"/>
                  </a:lnTo>
                  <a:lnTo>
                    <a:pt x="23" y="1080"/>
                  </a:lnTo>
                  <a:lnTo>
                    <a:pt x="14" y="1125"/>
                  </a:lnTo>
                  <a:lnTo>
                    <a:pt x="7" y="1169"/>
                  </a:lnTo>
                  <a:lnTo>
                    <a:pt x="0" y="1214"/>
                  </a:lnTo>
                  <a:lnTo>
                    <a:pt x="54" y="1223"/>
                  </a:lnTo>
                  <a:lnTo>
                    <a:pt x="61" y="1178"/>
                  </a:lnTo>
                  <a:lnTo>
                    <a:pt x="69" y="1134"/>
                  </a:lnTo>
                  <a:lnTo>
                    <a:pt x="77" y="1091"/>
                  </a:lnTo>
                  <a:lnTo>
                    <a:pt x="86" y="1050"/>
                  </a:lnTo>
                  <a:lnTo>
                    <a:pt x="96" y="1008"/>
                  </a:lnTo>
                  <a:lnTo>
                    <a:pt x="107" y="968"/>
                  </a:lnTo>
                  <a:lnTo>
                    <a:pt x="118" y="929"/>
                  </a:lnTo>
                  <a:lnTo>
                    <a:pt x="130" y="891"/>
                  </a:lnTo>
                  <a:lnTo>
                    <a:pt x="142" y="854"/>
                  </a:lnTo>
                  <a:lnTo>
                    <a:pt x="156" y="817"/>
                  </a:lnTo>
                  <a:lnTo>
                    <a:pt x="171" y="781"/>
                  </a:lnTo>
                  <a:lnTo>
                    <a:pt x="185" y="747"/>
                  </a:lnTo>
                  <a:lnTo>
                    <a:pt x="200" y="714"/>
                  </a:lnTo>
                  <a:lnTo>
                    <a:pt x="216" y="681"/>
                  </a:lnTo>
                  <a:lnTo>
                    <a:pt x="232" y="650"/>
                  </a:lnTo>
                  <a:lnTo>
                    <a:pt x="249" y="618"/>
                  </a:lnTo>
                  <a:lnTo>
                    <a:pt x="268" y="588"/>
                  </a:lnTo>
                  <a:lnTo>
                    <a:pt x="285" y="559"/>
                  </a:lnTo>
                  <a:lnTo>
                    <a:pt x="304" y="531"/>
                  </a:lnTo>
                  <a:lnTo>
                    <a:pt x="323" y="503"/>
                  </a:lnTo>
                  <a:lnTo>
                    <a:pt x="343" y="476"/>
                  </a:lnTo>
                  <a:lnTo>
                    <a:pt x="363" y="452"/>
                  </a:lnTo>
                  <a:lnTo>
                    <a:pt x="383" y="426"/>
                  </a:lnTo>
                  <a:lnTo>
                    <a:pt x="404" y="403"/>
                  </a:lnTo>
                  <a:lnTo>
                    <a:pt x="427" y="379"/>
                  </a:lnTo>
                  <a:lnTo>
                    <a:pt x="447" y="357"/>
                  </a:lnTo>
                  <a:lnTo>
                    <a:pt x="470" y="335"/>
                  </a:lnTo>
                  <a:lnTo>
                    <a:pt x="493" y="315"/>
                  </a:lnTo>
                  <a:lnTo>
                    <a:pt x="516" y="296"/>
                  </a:lnTo>
                  <a:lnTo>
                    <a:pt x="540" y="276"/>
                  </a:lnTo>
                  <a:lnTo>
                    <a:pt x="563" y="257"/>
                  </a:lnTo>
                  <a:lnTo>
                    <a:pt x="586" y="240"/>
                  </a:lnTo>
                  <a:lnTo>
                    <a:pt x="611" y="224"/>
                  </a:lnTo>
                  <a:lnTo>
                    <a:pt x="636" y="208"/>
                  </a:lnTo>
                  <a:lnTo>
                    <a:pt x="661" y="194"/>
                  </a:lnTo>
                  <a:lnTo>
                    <a:pt x="686" y="179"/>
                  </a:lnTo>
                  <a:lnTo>
                    <a:pt x="712" y="165"/>
                  </a:lnTo>
                  <a:lnTo>
                    <a:pt x="738" y="153"/>
                  </a:lnTo>
                  <a:lnTo>
                    <a:pt x="764" y="142"/>
                  </a:lnTo>
                  <a:lnTo>
                    <a:pt x="789" y="131"/>
                  </a:lnTo>
                  <a:lnTo>
                    <a:pt x="816" y="120"/>
                  </a:lnTo>
                  <a:lnTo>
                    <a:pt x="842" y="111"/>
                  </a:lnTo>
                  <a:lnTo>
                    <a:pt x="869" y="102"/>
                  </a:lnTo>
                  <a:lnTo>
                    <a:pt x="896" y="94"/>
                  </a:lnTo>
                  <a:lnTo>
                    <a:pt x="923" y="86"/>
                  </a:lnTo>
                  <a:lnTo>
                    <a:pt x="950" y="80"/>
                  </a:lnTo>
                  <a:lnTo>
                    <a:pt x="978" y="74"/>
                  </a:lnTo>
                  <a:lnTo>
                    <a:pt x="1005" y="69"/>
                  </a:lnTo>
                  <a:lnTo>
                    <a:pt x="1033" y="66"/>
                  </a:lnTo>
                  <a:lnTo>
                    <a:pt x="1060" y="62"/>
                  </a:lnTo>
                  <a:lnTo>
                    <a:pt x="1087" y="59"/>
                  </a:lnTo>
                  <a:lnTo>
                    <a:pt x="1115" y="57"/>
                  </a:lnTo>
                  <a:lnTo>
                    <a:pt x="1142" y="56"/>
                  </a:lnTo>
                  <a:lnTo>
                    <a:pt x="1171" y="56"/>
                  </a:lnTo>
                  <a:lnTo>
                    <a:pt x="1198" y="56"/>
                  </a:lnTo>
                  <a:lnTo>
                    <a:pt x="1226" y="57"/>
                  </a:lnTo>
                  <a:lnTo>
                    <a:pt x="1253" y="58"/>
                  </a:lnTo>
                  <a:lnTo>
                    <a:pt x="1281" y="61"/>
                  </a:lnTo>
                  <a:lnTo>
                    <a:pt x="1308" y="63"/>
                  </a:lnTo>
                  <a:lnTo>
                    <a:pt x="1335" y="67"/>
                  </a:lnTo>
                  <a:lnTo>
                    <a:pt x="1364" y="72"/>
                  </a:lnTo>
                  <a:lnTo>
                    <a:pt x="1391" y="77"/>
                  </a:lnTo>
                  <a:lnTo>
                    <a:pt x="1418" y="83"/>
                  </a:lnTo>
                  <a:lnTo>
                    <a:pt x="1445" y="89"/>
                  </a:lnTo>
                  <a:lnTo>
                    <a:pt x="1452" y="90"/>
                  </a:lnTo>
                  <a:lnTo>
                    <a:pt x="1445" y="89"/>
                  </a:lnTo>
                  <a:lnTo>
                    <a:pt x="1449" y="90"/>
                  </a:lnTo>
                  <a:lnTo>
                    <a:pt x="1452" y="90"/>
                  </a:lnTo>
                  <a:lnTo>
                    <a:pt x="1450" y="3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889440" y="2481120"/>
              <a:ext cx="196920" cy="90000"/>
            </a:xfrm>
            <a:custGeom>
              <a:avLst/>
              <a:gdLst/>
              <a:ahLst/>
              <a:rect l="l" t="t" r="r" b="b"/>
              <a:pathLst>
                <a:path w="621" h="284">
                  <a:moveTo>
                    <a:pt x="621" y="218"/>
                  </a:moveTo>
                  <a:lnTo>
                    <a:pt x="615" y="217"/>
                  </a:lnTo>
                  <a:lnTo>
                    <a:pt x="608" y="216"/>
                  </a:lnTo>
                  <a:lnTo>
                    <a:pt x="600" y="215"/>
                  </a:lnTo>
                  <a:lnTo>
                    <a:pt x="593" y="214"/>
                  </a:lnTo>
                  <a:lnTo>
                    <a:pt x="586" y="212"/>
                  </a:lnTo>
                  <a:lnTo>
                    <a:pt x="577" y="211"/>
                  </a:lnTo>
                  <a:lnTo>
                    <a:pt x="570" y="210"/>
                  </a:lnTo>
                  <a:lnTo>
                    <a:pt x="561" y="210"/>
                  </a:lnTo>
                  <a:lnTo>
                    <a:pt x="530" y="179"/>
                  </a:lnTo>
                  <a:lnTo>
                    <a:pt x="499" y="151"/>
                  </a:lnTo>
                  <a:lnTo>
                    <a:pt x="470" y="123"/>
                  </a:lnTo>
                  <a:lnTo>
                    <a:pt x="439" y="97"/>
                  </a:lnTo>
                  <a:lnTo>
                    <a:pt x="410" y="72"/>
                  </a:lnTo>
                  <a:lnTo>
                    <a:pt x="380" y="47"/>
                  </a:lnTo>
                  <a:lnTo>
                    <a:pt x="349" y="23"/>
                  </a:lnTo>
                  <a:lnTo>
                    <a:pt x="319" y="0"/>
                  </a:lnTo>
                  <a:lnTo>
                    <a:pt x="271" y="11"/>
                  </a:lnTo>
                  <a:lnTo>
                    <a:pt x="225" y="22"/>
                  </a:lnTo>
                  <a:lnTo>
                    <a:pt x="182" y="34"/>
                  </a:lnTo>
                  <a:lnTo>
                    <a:pt x="143" y="47"/>
                  </a:lnTo>
                  <a:lnTo>
                    <a:pt x="105" y="61"/>
                  </a:lnTo>
                  <a:lnTo>
                    <a:pt x="69" y="76"/>
                  </a:lnTo>
                  <a:lnTo>
                    <a:pt x="35" y="91"/>
                  </a:lnTo>
                  <a:lnTo>
                    <a:pt x="0" y="107"/>
                  </a:lnTo>
                  <a:lnTo>
                    <a:pt x="23" y="129"/>
                  </a:lnTo>
                  <a:lnTo>
                    <a:pt x="47" y="151"/>
                  </a:lnTo>
                  <a:lnTo>
                    <a:pt x="70" y="173"/>
                  </a:lnTo>
                  <a:lnTo>
                    <a:pt x="94" y="195"/>
                  </a:lnTo>
                  <a:lnTo>
                    <a:pt x="116" y="217"/>
                  </a:lnTo>
                  <a:lnTo>
                    <a:pt x="139" y="239"/>
                  </a:lnTo>
                  <a:lnTo>
                    <a:pt x="162" y="261"/>
                  </a:lnTo>
                  <a:lnTo>
                    <a:pt x="186" y="284"/>
                  </a:lnTo>
                  <a:lnTo>
                    <a:pt x="240" y="276"/>
                  </a:lnTo>
                  <a:lnTo>
                    <a:pt x="294" y="268"/>
                  </a:lnTo>
                  <a:lnTo>
                    <a:pt x="349" y="259"/>
                  </a:lnTo>
                  <a:lnTo>
                    <a:pt x="404" y="252"/>
                  </a:lnTo>
                  <a:lnTo>
                    <a:pt x="459" y="243"/>
                  </a:lnTo>
                  <a:lnTo>
                    <a:pt x="513" y="234"/>
                  </a:lnTo>
                  <a:lnTo>
                    <a:pt x="567" y="226"/>
                  </a:lnTo>
                  <a:lnTo>
                    <a:pt x="621" y="218"/>
                  </a:lnTo>
                  <a:close/>
                </a:path>
              </a:pathLst>
            </a:custGeom>
            <a:solidFill>
              <a:srgbClr val="3d7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064040" y="2543040"/>
              <a:ext cx="22320" cy="1224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25"/>
                  </a:moveTo>
                  <a:lnTo>
                    <a:pt x="10" y="30"/>
                  </a:lnTo>
                  <a:lnTo>
                    <a:pt x="17" y="30"/>
                  </a:lnTo>
                  <a:lnTo>
                    <a:pt x="25" y="31"/>
                  </a:lnTo>
                  <a:lnTo>
                    <a:pt x="32" y="32"/>
                  </a:lnTo>
                  <a:lnTo>
                    <a:pt x="39" y="33"/>
                  </a:lnTo>
                  <a:lnTo>
                    <a:pt x="47" y="35"/>
                  </a:lnTo>
                  <a:lnTo>
                    <a:pt x="54" y="36"/>
                  </a:lnTo>
                  <a:lnTo>
                    <a:pt x="62" y="37"/>
                  </a:lnTo>
                  <a:lnTo>
                    <a:pt x="69" y="38"/>
                  </a:lnTo>
                  <a:lnTo>
                    <a:pt x="73" y="9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4" y="4"/>
                  </a:lnTo>
                  <a:lnTo>
                    <a:pt x="36" y="3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0" y="25"/>
                  </a:lnTo>
                  <a:lnTo>
                    <a:pt x="4" y="30"/>
                  </a:lnTo>
                  <a:lnTo>
                    <a:pt x="1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987720" y="2476440"/>
              <a:ext cx="82800" cy="74160"/>
            </a:xfrm>
            <a:custGeom>
              <a:avLst/>
              <a:gdLst/>
              <a:ahLst/>
              <a:rect l="l" t="t" r="r" b="b"/>
              <a:pathLst>
                <a:path w="262" h="236">
                  <a:moveTo>
                    <a:pt x="12" y="30"/>
                  </a:moveTo>
                  <a:lnTo>
                    <a:pt x="0" y="28"/>
                  </a:lnTo>
                  <a:lnTo>
                    <a:pt x="31" y="51"/>
                  </a:lnTo>
                  <a:lnTo>
                    <a:pt x="60" y="75"/>
                  </a:lnTo>
                  <a:lnTo>
                    <a:pt x="90" y="99"/>
                  </a:lnTo>
                  <a:lnTo>
                    <a:pt x="119" y="124"/>
                  </a:lnTo>
                  <a:lnTo>
                    <a:pt x="150" y="150"/>
                  </a:lnTo>
                  <a:lnTo>
                    <a:pt x="180" y="178"/>
                  </a:lnTo>
                  <a:lnTo>
                    <a:pt x="210" y="206"/>
                  </a:lnTo>
                  <a:lnTo>
                    <a:pt x="241" y="236"/>
                  </a:lnTo>
                  <a:lnTo>
                    <a:pt x="262" y="215"/>
                  </a:lnTo>
                  <a:lnTo>
                    <a:pt x="230" y="184"/>
                  </a:lnTo>
                  <a:lnTo>
                    <a:pt x="199" y="156"/>
                  </a:lnTo>
                  <a:lnTo>
                    <a:pt x="170" y="127"/>
                  </a:lnTo>
                  <a:lnTo>
                    <a:pt x="139" y="102"/>
                  </a:lnTo>
                  <a:lnTo>
                    <a:pt x="110" y="76"/>
                  </a:lnTo>
                  <a:lnTo>
                    <a:pt x="80" y="51"/>
                  </a:lnTo>
                  <a:lnTo>
                    <a:pt x="49" y="28"/>
                  </a:lnTo>
                  <a:lnTo>
                    <a:pt x="19" y="4"/>
                  </a:lnTo>
                  <a:lnTo>
                    <a:pt x="6" y="1"/>
                  </a:lnTo>
                  <a:lnTo>
                    <a:pt x="19" y="4"/>
                  </a:lnTo>
                  <a:lnTo>
                    <a:pt x="12" y="0"/>
                  </a:lnTo>
                  <a:lnTo>
                    <a:pt x="6" y="1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879720" y="2476440"/>
              <a:ext cx="111240" cy="42480"/>
            </a:xfrm>
            <a:custGeom>
              <a:avLst/>
              <a:gdLst/>
              <a:ahLst/>
              <a:rect l="l" t="t" r="r" b="b"/>
              <a:pathLst>
                <a:path w="348" h="135">
                  <a:moveTo>
                    <a:pt x="37" y="110"/>
                  </a:moveTo>
                  <a:lnTo>
                    <a:pt x="33" y="135"/>
                  </a:lnTo>
                  <a:lnTo>
                    <a:pt x="67" y="119"/>
                  </a:lnTo>
                  <a:lnTo>
                    <a:pt x="101" y="104"/>
                  </a:lnTo>
                  <a:lnTo>
                    <a:pt x="137" y="91"/>
                  </a:lnTo>
                  <a:lnTo>
                    <a:pt x="174" y="76"/>
                  </a:lnTo>
                  <a:lnTo>
                    <a:pt x="213" y="64"/>
                  </a:lnTo>
                  <a:lnTo>
                    <a:pt x="255" y="51"/>
                  </a:lnTo>
                  <a:lnTo>
                    <a:pt x="299" y="40"/>
                  </a:lnTo>
                  <a:lnTo>
                    <a:pt x="348" y="29"/>
                  </a:lnTo>
                  <a:lnTo>
                    <a:pt x="342" y="0"/>
                  </a:lnTo>
                  <a:lnTo>
                    <a:pt x="293" y="11"/>
                  </a:lnTo>
                  <a:lnTo>
                    <a:pt x="247" y="22"/>
                  </a:lnTo>
                  <a:lnTo>
                    <a:pt x="204" y="34"/>
                  </a:lnTo>
                  <a:lnTo>
                    <a:pt x="164" y="48"/>
                  </a:lnTo>
                  <a:lnTo>
                    <a:pt x="126" y="62"/>
                  </a:lnTo>
                  <a:lnTo>
                    <a:pt x="89" y="77"/>
                  </a:lnTo>
                  <a:lnTo>
                    <a:pt x="54" y="92"/>
                  </a:lnTo>
                  <a:lnTo>
                    <a:pt x="20" y="108"/>
                  </a:lnTo>
                  <a:lnTo>
                    <a:pt x="16" y="133"/>
                  </a:lnTo>
                  <a:lnTo>
                    <a:pt x="20" y="108"/>
                  </a:lnTo>
                  <a:lnTo>
                    <a:pt x="0" y="117"/>
                  </a:lnTo>
                  <a:lnTo>
                    <a:pt x="16" y="133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3886200" y="2511360"/>
              <a:ext cx="65160" cy="64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193" y="174"/>
                  </a:moveTo>
                  <a:lnTo>
                    <a:pt x="206" y="179"/>
                  </a:lnTo>
                  <a:lnTo>
                    <a:pt x="184" y="155"/>
                  </a:lnTo>
                  <a:lnTo>
                    <a:pt x="160" y="133"/>
                  </a:lnTo>
                  <a:lnTo>
                    <a:pt x="137" y="111"/>
                  </a:lnTo>
                  <a:lnTo>
                    <a:pt x="113" y="89"/>
                  </a:lnTo>
                  <a:lnTo>
                    <a:pt x="90" y="67"/>
                  </a:lnTo>
                  <a:lnTo>
                    <a:pt x="67" y="45"/>
                  </a:lnTo>
                  <a:lnTo>
                    <a:pt x="45" y="23"/>
                  </a:lnTo>
                  <a:lnTo>
                    <a:pt x="21" y="0"/>
                  </a:lnTo>
                  <a:lnTo>
                    <a:pt x="0" y="23"/>
                  </a:lnTo>
                  <a:lnTo>
                    <a:pt x="24" y="45"/>
                  </a:lnTo>
                  <a:lnTo>
                    <a:pt x="47" y="66"/>
                  </a:lnTo>
                  <a:lnTo>
                    <a:pt x="69" y="88"/>
                  </a:lnTo>
                  <a:lnTo>
                    <a:pt x="92" y="110"/>
                  </a:lnTo>
                  <a:lnTo>
                    <a:pt x="116" y="132"/>
                  </a:lnTo>
                  <a:lnTo>
                    <a:pt x="139" y="155"/>
                  </a:lnTo>
                  <a:lnTo>
                    <a:pt x="163" y="178"/>
                  </a:lnTo>
                  <a:lnTo>
                    <a:pt x="185" y="200"/>
                  </a:lnTo>
                  <a:lnTo>
                    <a:pt x="198" y="203"/>
                  </a:lnTo>
                  <a:lnTo>
                    <a:pt x="185" y="200"/>
                  </a:lnTo>
                  <a:lnTo>
                    <a:pt x="191" y="205"/>
                  </a:lnTo>
                  <a:lnTo>
                    <a:pt x="198" y="203"/>
                  </a:lnTo>
                  <a:lnTo>
                    <a:pt x="193" y="1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946680" y="2546280"/>
              <a:ext cx="171360" cy="29520"/>
            </a:xfrm>
            <a:custGeom>
              <a:avLst/>
              <a:gdLst/>
              <a:ahLst/>
              <a:rect l="l" t="t" r="r" b="b"/>
              <a:pathLst>
                <a:path w="538" h="94">
                  <a:moveTo>
                    <a:pt x="437" y="29"/>
                  </a:moveTo>
                  <a:lnTo>
                    <a:pt x="437" y="0"/>
                  </a:lnTo>
                  <a:lnTo>
                    <a:pt x="382" y="7"/>
                  </a:lnTo>
                  <a:lnTo>
                    <a:pt x="328" y="16"/>
                  </a:lnTo>
                  <a:lnTo>
                    <a:pt x="273" y="24"/>
                  </a:lnTo>
                  <a:lnTo>
                    <a:pt x="218" y="32"/>
                  </a:lnTo>
                  <a:lnTo>
                    <a:pt x="164" y="40"/>
                  </a:lnTo>
                  <a:lnTo>
                    <a:pt x="110" y="49"/>
                  </a:lnTo>
                  <a:lnTo>
                    <a:pt x="54" y="57"/>
                  </a:lnTo>
                  <a:lnTo>
                    <a:pt x="0" y="65"/>
                  </a:lnTo>
                  <a:lnTo>
                    <a:pt x="5" y="94"/>
                  </a:lnTo>
                  <a:lnTo>
                    <a:pt x="59" y="87"/>
                  </a:lnTo>
                  <a:lnTo>
                    <a:pt x="114" y="78"/>
                  </a:lnTo>
                  <a:lnTo>
                    <a:pt x="169" y="70"/>
                  </a:lnTo>
                  <a:lnTo>
                    <a:pt x="223" y="62"/>
                  </a:lnTo>
                  <a:lnTo>
                    <a:pt x="277" y="54"/>
                  </a:lnTo>
                  <a:lnTo>
                    <a:pt x="332" y="45"/>
                  </a:lnTo>
                  <a:lnTo>
                    <a:pt x="387" y="37"/>
                  </a:lnTo>
                  <a:lnTo>
                    <a:pt x="441" y="29"/>
                  </a:lnTo>
                  <a:lnTo>
                    <a:pt x="441" y="0"/>
                  </a:lnTo>
                  <a:lnTo>
                    <a:pt x="441" y="29"/>
                  </a:lnTo>
                  <a:lnTo>
                    <a:pt x="538" y="14"/>
                  </a:lnTo>
                  <a:lnTo>
                    <a:pt x="441" y="0"/>
                  </a:lnTo>
                  <a:lnTo>
                    <a:pt x="437" y="2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26360" y="2108160"/>
            <a:ext cx="530424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HAVE SE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HENEVER, WHEREVER,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1f1a17"/>
                </a:solidFill>
                <a:latin typeface="Geometr231 Hv BT"/>
              </a:rPr>
              <a:t>WITH ANYTH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495520" y="949320"/>
            <a:ext cx="4204080" cy="1158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e87b14"/>
                </a:solidFill>
                <a:latin typeface="Geometr231 Hv BT"/>
              </a:rPr>
              <a:t>ANIMALS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0" name=""/>
          <p:cNvGrpSpPr/>
          <p:nvPr/>
        </p:nvGrpSpPr>
        <p:grpSpPr>
          <a:xfrm>
            <a:off x="1245960" y="3773520"/>
            <a:ext cx="6640920" cy="1713600"/>
            <a:chOff x="1245960" y="3773520"/>
            <a:chExt cx="6640920" cy="1713600"/>
          </a:xfrm>
        </p:grpSpPr>
        <p:sp>
          <p:nvSpPr>
            <p:cNvPr id="3501" name=""/>
            <p:cNvSpPr/>
            <p:nvPr/>
          </p:nvSpPr>
          <p:spPr>
            <a:xfrm>
              <a:off x="1245960" y="4923000"/>
              <a:ext cx="6640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1f1a17"/>
                  </a:solidFill>
                  <a:latin typeface="Geometr231 Hv BT"/>
                </a:rPr>
                <a:t>CHOOSE AND HAVE CONTROL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44360" y="3773520"/>
              <a:ext cx="3499920" cy="1158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600" spc="-1" strike="noStrike">
                  <a:solidFill>
                    <a:srgbClr val="e87b14"/>
                  </a:solidFill>
                  <a:latin typeface="Geometr231 Hv BT"/>
                </a:rPr>
                <a:t>PEOPLE</a:t>
              </a:r>
              <a:endParaRPr b="0" lang="en-US" sz="7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1634400" y="1082520"/>
            <a:ext cx="5842080" cy="823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177a"/>
                </a:solidFill>
                <a:latin typeface="Geometr231 Hv BT"/>
              </a:rPr>
              <a:t>SEXUAL FREE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4" name=""/>
          <p:cNvGrpSpPr/>
          <p:nvPr/>
        </p:nvGrpSpPr>
        <p:grpSpPr>
          <a:xfrm>
            <a:off x="2438280" y="2438280"/>
            <a:ext cx="4225680" cy="2742480"/>
            <a:chOff x="2438280" y="2438280"/>
            <a:chExt cx="4225680" cy="2742480"/>
          </a:xfrm>
        </p:grpSpPr>
        <p:sp>
          <p:nvSpPr>
            <p:cNvPr id="3505" name=""/>
            <p:cNvSpPr/>
            <p:nvPr/>
          </p:nvSpPr>
          <p:spPr>
            <a:xfrm>
              <a:off x="2695320" y="2438280"/>
              <a:ext cx="15307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RESPECT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670120" y="3219120"/>
              <a:ext cx="252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IS RESPONSIB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667600" y="4001760"/>
              <a:ext cx="2827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HAS BOUNDARI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94160" y="4784400"/>
              <a:ext cx="406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1f1a17"/>
                  </a:solidFill>
                  <a:latin typeface="Geometr231 Hv BT"/>
                </a:rPr>
                <a:t>ENRICHES, DOESN’T HUR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438280" y="256356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0">
                  <a:moveTo>
                    <a:pt x="0" y="640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0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438280" y="330660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438280" y="40906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0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438280" y="4884480"/>
              <a:ext cx="214200" cy="1699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641"/>
                  </a:moveTo>
                  <a:lnTo>
                    <a:pt x="0" y="0"/>
                  </a:lnTo>
                  <a:lnTo>
                    <a:pt x="811" y="321"/>
                  </a:lnTo>
                  <a:lnTo>
                    <a:pt x="0" y="641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2-10T11:34:15Z</dcterms:modified>
  <cp:revision>166</cp:revision>
  <dc:subject/>
  <dc:title>No Slide Title</dc:title>
</cp:coreProperties>
</file>